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10.png" ContentType="image/png"/>
  <Override PartName="/ppt/media/image2.wmf" ContentType="image/x-wmf"/>
  <Override PartName="/ppt/media/image3.wmf" ContentType="image/x-wmf"/>
  <Override PartName="/ppt/media/image6.wmf" ContentType="image/x-wmf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961A8-DEB9-4C44-8F0F-D6F6236D0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85BAB-F6A6-4716-85F0-83E340145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55258-92D5-4776-B9E3-04B8985A0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EB626-B863-4690-8AF4-46E8D0E23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2FD2D-4C25-4FE9-8632-6554C3C79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0C200-087E-4332-82FC-0854399D7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7CA85-66BD-464C-8CDA-0B654A131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06285-55E0-479E-8E80-DB028479D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4E388-3B02-4C9E-A217-B14535755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65DA6-C7A9-4E3B-A86C-95E0180B3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45E46-8FBD-45BE-B484-1626B3828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85989-F488-4ED8-97DD-1C7BE5CD5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0A6EF-F359-40CA-ADB5-D6008BF83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238BD-FAC4-4E6E-8C8C-54992EA55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350CE-4BBB-4055-A0CD-72314C2E0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BA6D0-148F-4342-A27B-AE778A852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9EE51-F196-4C1C-9BF8-DDE50D0EE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6BBDA2-6910-4F05-B517-E8764EB2F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D01B0E-757A-47A1-A47D-9CD073A2C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7FF87D-1022-47E6-AD87-17840A85C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10ECC8-7B96-4D3E-AB78-8F1DF30E8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5A0203-AD3E-4443-9308-8510D5183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27449-F92C-4070-852B-1AEBDE201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7E3802-7081-4681-A034-305BA59FB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B27FAF-015D-40AA-8046-74BCE2958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4A1B09-BC9F-4BD5-91B2-C31D80743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ED92A5-1986-4303-B2A4-560F2893F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9F0A12-31D6-46F6-9BF8-74C2FCB5A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1AB878-A05B-4EFF-A93C-27C4A9ED0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FC792A-01D3-4AD4-AA92-B1DE6629A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E6C65F4-C9B1-4280-810A-78A75FD46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7E9624F-6489-420D-A8E7-639EB22A4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EAFF242-8C0F-4FB6-B128-7B5815311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9C16B-466C-4369-9CD7-56B181835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CD53C45-6B33-4E1D-ADC9-1A738D3D4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114FA7C-626D-46F8-BCEE-810CC92D2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38CB4AC-F812-4D79-A1D0-58E60848B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A6AA999-91BE-40FE-B6C5-1C0C9E7D5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C009D58-2450-4EEF-A6C6-F717BEF6D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E9EBD31-C7D7-4D3F-B53B-56DC03B29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E41AEB2-14A2-4033-8B9E-64F3A4E87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1B5246B-4794-4454-A1E7-40C471135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BB7571E-13C5-4192-92DD-875B7ED23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581D8-8767-4B5C-AA91-A0D620C42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34B65-3D18-4A5D-8BB5-0B7B7CAB7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4A8C4-FCB4-4E79-B4CA-5C008060F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C0100-11F7-4BB8-AF71-917E56254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853D8-EC95-4335-893C-32C9C7F7A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14440" y="442800"/>
            <a:ext cx="438120" cy="474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96760" y="442800"/>
            <a:ext cx="3286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638280" y="86508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008000" y="86508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223920" y="79200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858960" y="33480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539640" y="1125360"/>
            <a:ext cx="8226360" cy="320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56E3A-92E7-4FC2-B26E-667EA7EC429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CFD21-D909-4B15-8258-35BC35765C9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1B63E-B6E6-4B22-BBB5-9BC7C921068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ftr" idx="1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sldNum" idx="1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C3B62-76FC-45CB-AE2F-AE56F9A1A02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dt" idx="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png"/><Relationship Id="rId3" Type="http://schemas.openxmlformats.org/officeDocument/2006/relationships/image" Target="../media/image8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4360" y="907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Tahoma"/>
              </a:rPr>
              <a:t>BARAUNAS – RN</a:t>
            </a:r>
            <a:br>
              <a:rPr sz="4000"/>
            </a:br>
            <a:r>
              <a:rPr b="0" lang="pt-BR" sz="4000" spc="-1" strike="noStrike">
                <a:solidFill>
                  <a:srgbClr val="ffffff"/>
                </a:solidFill>
                <a:latin typeface="Tahoma"/>
              </a:rPr>
              <a:t>O Aquífero Jandaíra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900000" y="2852280"/>
            <a:ext cx="7377120" cy="27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Atualização do Conheciment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SERHID/PróÁgua                     FADE/LABHID/UFP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2" name=""/>
          <p:cNvSpPr/>
          <p:nvPr/>
        </p:nvSpPr>
        <p:spPr>
          <a:xfrm>
            <a:off x="1332000" y="333360"/>
            <a:ext cx="817236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99"/>
                </a:solidFill>
                <a:latin typeface="Tahoma"/>
              </a:rPr>
              <a:t>BARAUNAS – RN</a:t>
            </a:r>
            <a:br>
              <a:rPr sz="2400"/>
            </a:br>
            <a:r>
              <a:rPr b="0" lang="pt-BR" sz="2400" spc="-1" strike="noStrike">
                <a:solidFill>
                  <a:srgbClr val="333399"/>
                </a:solidFill>
                <a:latin typeface="Tahoma"/>
              </a:rPr>
              <a:t>Aquífero Jandaíra – Indice de Carstificação e Vaz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3" name="" descr=""/>
          <p:cNvPicPr/>
          <p:nvPr/>
        </p:nvPicPr>
        <p:blipFill>
          <a:blip r:embed="rId1"/>
          <a:stretch/>
        </p:blipFill>
        <p:spPr>
          <a:xfrm>
            <a:off x="826920" y="1052640"/>
            <a:ext cx="780444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4" name=""/>
          <p:cNvSpPr/>
          <p:nvPr/>
        </p:nvSpPr>
        <p:spPr>
          <a:xfrm>
            <a:off x="1332000" y="333360"/>
            <a:ext cx="817236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99"/>
                </a:solidFill>
                <a:latin typeface="Tahoma"/>
              </a:rPr>
              <a:t>BARAUNAS – RN</a:t>
            </a:r>
            <a:br>
              <a:rPr sz="2400"/>
            </a:br>
            <a:r>
              <a:rPr b="0" lang="pt-BR" sz="2400" spc="-1" strike="noStrike">
                <a:solidFill>
                  <a:srgbClr val="333399"/>
                </a:solidFill>
                <a:latin typeface="Tahoma"/>
              </a:rPr>
              <a:t>Aquífero Jandaíra – Indice de Concentração de Poç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5" name=""/>
          <p:cNvSpPr/>
          <p:nvPr/>
        </p:nvSpPr>
        <p:spPr>
          <a:xfrm>
            <a:off x="3745440" y="1689120"/>
            <a:ext cx="2055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CP = Número de Poços (raio = 1000 metros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6" name=""/>
          <p:cNvSpPr/>
          <p:nvPr/>
        </p:nvSpPr>
        <p:spPr>
          <a:xfrm>
            <a:off x="2484360" y="2624040"/>
            <a:ext cx="4462560" cy="2857680"/>
          </a:xfrm>
          <a:custGeom>
            <a:avLst/>
            <a:gdLst/>
            <a:ahLst/>
            <a:rect l="l" t="t" r="r" b="b"/>
            <a:pathLst>
              <a:path w="2811" h="1800">
                <a:moveTo>
                  <a:pt x="672" y="206"/>
                </a:moveTo>
                <a:lnTo>
                  <a:pt x="672" y="199"/>
                </a:lnTo>
                <a:lnTo>
                  <a:pt x="665" y="199"/>
                </a:lnTo>
                <a:lnTo>
                  <a:pt x="665" y="192"/>
                </a:lnTo>
                <a:lnTo>
                  <a:pt x="665" y="192"/>
                </a:lnTo>
                <a:lnTo>
                  <a:pt x="665" y="192"/>
                </a:lnTo>
                <a:lnTo>
                  <a:pt x="665" y="199"/>
                </a:lnTo>
                <a:lnTo>
                  <a:pt x="665" y="199"/>
                </a:lnTo>
                <a:lnTo>
                  <a:pt x="665" y="199"/>
                </a:lnTo>
                <a:lnTo>
                  <a:pt x="665" y="206"/>
                </a:lnTo>
                <a:lnTo>
                  <a:pt x="665" y="206"/>
                </a:lnTo>
                <a:lnTo>
                  <a:pt x="665" y="212"/>
                </a:lnTo>
                <a:lnTo>
                  <a:pt x="665" y="212"/>
                </a:lnTo>
                <a:lnTo>
                  <a:pt x="665" y="206"/>
                </a:lnTo>
                <a:lnTo>
                  <a:pt x="672" y="206"/>
                </a:lnTo>
                <a:close/>
                <a:moveTo>
                  <a:pt x="898" y="178"/>
                </a:moveTo>
                <a:lnTo>
                  <a:pt x="898" y="171"/>
                </a:lnTo>
                <a:lnTo>
                  <a:pt x="898" y="165"/>
                </a:lnTo>
                <a:lnTo>
                  <a:pt x="905" y="165"/>
                </a:lnTo>
                <a:lnTo>
                  <a:pt x="905" y="158"/>
                </a:lnTo>
                <a:lnTo>
                  <a:pt x="905" y="158"/>
                </a:lnTo>
                <a:lnTo>
                  <a:pt x="905" y="151"/>
                </a:lnTo>
                <a:lnTo>
                  <a:pt x="905" y="151"/>
                </a:lnTo>
                <a:lnTo>
                  <a:pt x="898" y="151"/>
                </a:lnTo>
                <a:lnTo>
                  <a:pt x="898" y="144"/>
                </a:lnTo>
                <a:lnTo>
                  <a:pt x="891" y="151"/>
                </a:lnTo>
                <a:lnTo>
                  <a:pt x="891" y="151"/>
                </a:lnTo>
                <a:lnTo>
                  <a:pt x="884" y="151"/>
                </a:lnTo>
                <a:lnTo>
                  <a:pt x="884" y="158"/>
                </a:lnTo>
                <a:lnTo>
                  <a:pt x="891" y="158"/>
                </a:lnTo>
                <a:lnTo>
                  <a:pt x="891" y="165"/>
                </a:lnTo>
                <a:lnTo>
                  <a:pt x="891" y="165"/>
                </a:lnTo>
                <a:lnTo>
                  <a:pt x="891" y="171"/>
                </a:lnTo>
                <a:lnTo>
                  <a:pt x="898" y="178"/>
                </a:lnTo>
                <a:lnTo>
                  <a:pt x="898" y="178"/>
                </a:lnTo>
                <a:lnTo>
                  <a:pt x="898" y="178"/>
                </a:lnTo>
                <a:close/>
                <a:moveTo>
                  <a:pt x="699" y="144"/>
                </a:moveTo>
                <a:lnTo>
                  <a:pt x="699" y="144"/>
                </a:lnTo>
                <a:lnTo>
                  <a:pt x="699" y="137"/>
                </a:lnTo>
                <a:lnTo>
                  <a:pt x="699" y="137"/>
                </a:lnTo>
                <a:lnTo>
                  <a:pt x="699" y="130"/>
                </a:lnTo>
                <a:lnTo>
                  <a:pt x="699" y="123"/>
                </a:lnTo>
                <a:lnTo>
                  <a:pt x="699" y="123"/>
                </a:lnTo>
                <a:lnTo>
                  <a:pt x="699" y="117"/>
                </a:lnTo>
                <a:lnTo>
                  <a:pt x="692" y="110"/>
                </a:lnTo>
                <a:lnTo>
                  <a:pt x="692" y="117"/>
                </a:lnTo>
                <a:lnTo>
                  <a:pt x="692" y="123"/>
                </a:lnTo>
                <a:lnTo>
                  <a:pt x="686" y="130"/>
                </a:lnTo>
                <a:lnTo>
                  <a:pt x="686" y="130"/>
                </a:lnTo>
                <a:lnTo>
                  <a:pt x="686" y="137"/>
                </a:lnTo>
                <a:lnTo>
                  <a:pt x="686" y="137"/>
                </a:lnTo>
                <a:lnTo>
                  <a:pt x="686" y="144"/>
                </a:lnTo>
                <a:lnTo>
                  <a:pt x="692" y="151"/>
                </a:lnTo>
                <a:lnTo>
                  <a:pt x="692" y="151"/>
                </a:lnTo>
                <a:lnTo>
                  <a:pt x="692" y="158"/>
                </a:lnTo>
                <a:lnTo>
                  <a:pt x="699" y="151"/>
                </a:lnTo>
                <a:lnTo>
                  <a:pt x="699" y="144"/>
                </a:lnTo>
                <a:close/>
                <a:moveTo>
                  <a:pt x="727" y="89"/>
                </a:moveTo>
                <a:lnTo>
                  <a:pt x="727" y="82"/>
                </a:lnTo>
                <a:lnTo>
                  <a:pt x="734" y="76"/>
                </a:lnTo>
                <a:lnTo>
                  <a:pt x="734" y="76"/>
                </a:lnTo>
                <a:lnTo>
                  <a:pt x="734" y="69"/>
                </a:lnTo>
                <a:lnTo>
                  <a:pt x="734" y="62"/>
                </a:lnTo>
                <a:lnTo>
                  <a:pt x="734" y="62"/>
                </a:lnTo>
                <a:lnTo>
                  <a:pt x="727" y="55"/>
                </a:lnTo>
                <a:lnTo>
                  <a:pt x="720" y="55"/>
                </a:lnTo>
                <a:lnTo>
                  <a:pt x="713" y="55"/>
                </a:lnTo>
                <a:lnTo>
                  <a:pt x="706" y="55"/>
                </a:lnTo>
                <a:lnTo>
                  <a:pt x="699" y="55"/>
                </a:lnTo>
                <a:lnTo>
                  <a:pt x="699" y="62"/>
                </a:lnTo>
                <a:lnTo>
                  <a:pt x="699" y="62"/>
                </a:lnTo>
                <a:lnTo>
                  <a:pt x="699" y="69"/>
                </a:lnTo>
                <a:lnTo>
                  <a:pt x="699" y="76"/>
                </a:lnTo>
                <a:lnTo>
                  <a:pt x="706" y="76"/>
                </a:lnTo>
                <a:lnTo>
                  <a:pt x="713" y="82"/>
                </a:lnTo>
                <a:lnTo>
                  <a:pt x="720" y="89"/>
                </a:lnTo>
                <a:lnTo>
                  <a:pt x="727" y="89"/>
                </a:lnTo>
                <a:lnTo>
                  <a:pt x="727" y="89"/>
                </a:lnTo>
                <a:close/>
                <a:moveTo>
                  <a:pt x="699" y="28"/>
                </a:moveTo>
                <a:lnTo>
                  <a:pt x="699" y="21"/>
                </a:lnTo>
                <a:lnTo>
                  <a:pt x="699" y="14"/>
                </a:lnTo>
                <a:lnTo>
                  <a:pt x="692" y="14"/>
                </a:lnTo>
                <a:lnTo>
                  <a:pt x="692" y="21"/>
                </a:lnTo>
                <a:lnTo>
                  <a:pt x="692" y="28"/>
                </a:lnTo>
                <a:lnTo>
                  <a:pt x="686" y="34"/>
                </a:lnTo>
                <a:lnTo>
                  <a:pt x="692" y="41"/>
                </a:lnTo>
                <a:lnTo>
                  <a:pt x="692" y="48"/>
                </a:lnTo>
                <a:lnTo>
                  <a:pt x="692" y="55"/>
                </a:lnTo>
                <a:lnTo>
                  <a:pt x="699" y="55"/>
                </a:lnTo>
                <a:lnTo>
                  <a:pt x="699" y="55"/>
                </a:lnTo>
                <a:lnTo>
                  <a:pt x="699" y="48"/>
                </a:lnTo>
                <a:lnTo>
                  <a:pt x="699" y="41"/>
                </a:lnTo>
                <a:lnTo>
                  <a:pt x="699" y="28"/>
                </a:lnTo>
                <a:close/>
                <a:moveTo>
                  <a:pt x="1282" y="1800"/>
                </a:moveTo>
                <a:lnTo>
                  <a:pt x="1289" y="1800"/>
                </a:lnTo>
                <a:lnTo>
                  <a:pt x="1296" y="1793"/>
                </a:lnTo>
                <a:lnTo>
                  <a:pt x="1296" y="1786"/>
                </a:lnTo>
                <a:lnTo>
                  <a:pt x="1303" y="1779"/>
                </a:lnTo>
                <a:lnTo>
                  <a:pt x="1309" y="1779"/>
                </a:lnTo>
                <a:lnTo>
                  <a:pt x="1309" y="1773"/>
                </a:lnTo>
                <a:lnTo>
                  <a:pt x="1316" y="1766"/>
                </a:lnTo>
                <a:lnTo>
                  <a:pt x="1316" y="1759"/>
                </a:lnTo>
                <a:lnTo>
                  <a:pt x="1323" y="1752"/>
                </a:lnTo>
                <a:lnTo>
                  <a:pt x="1330" y="1752"/>
                </a:lnTo>
                <a:lnTo>
                  <a:pt x="1337" y="1745"/>
                </a:lnTo>
                <a:lnTo>
                  <a:pt x="1344" y="1745"/>
                </a:lnTo>
                <a:lnTo>
                  <a:pt x="1351" y="1745"/>
                </a:lnTo>
                <a:lnTo>
                  <a:pt x="1357" y="1738"/>
                </a:lnTo>
                <a:lnTo>
                  <a:pt x="1357" y="1731"/>
                </a:lnTo>
                <a:lnTo>
                  <a:pt x="1364" y="1725"/>
                </a:lnTo>
                <a:lnTo>
                  <a:pt x="1371" y="1725"/>
                </a:lnTo>
                <a:lnTo>
                  <a:pt x="1378" y="1731"/>
                </a:lnTo>
                <a:lnTo>
                  <a:pt x="1385" y="1738"/>
                </a:lnTo>
                <a:lnTo>
                  <a:pt x="1385" y="1745"/>
                </a:lnTo>
                <a:lnTo>
                  <a:pt x="1378" y="1745"/>
                </a:lnTo>
                <a:lnTo>
                  <a:pt x="1371" y="1752"/>
                </a:lnTo>
                <a:lnTo>
                  <a:pt x="1364" y="1752"/>
                </a:lnTo>
                <a:lnTo>
                  <a:pt x="1357" y="1759"/>
                </a:lnTo>
                <a:lnTo>
                  <a:pt x="1351" y="1759"/>
                </a:lnTo>
                <a:lnTo>
                  <a:pt x="1351" y="1766"/>
                </a:lnTo>
                <a:lnTo>
                  <a:pt x="1351" y="1773"/>
                </a:lnTo>
                <a:lnTo>
                  <a:pt x="1357" y="1779"/>
                </a:lnTo>
                <a:lnTo>
                  <a:pt x="1357" y="1786"/>
                </a:lnTo>
                <a:lnTo>
                  <a:pt x="1357" y="1793"/>
                </a:lnTo>
                <a:lnTo>
                  <a:pt x="1357" y="1800"/>
                </a:lnTo>
                <a:lnTo>
                  <a:pt x="1364" y="1800"/>
                </a:lnTo>
                <a:lnTo>
                  <a:pt x="1392" y="1800"/>
                </a:lnTo>
                <a:lnTo>
                  <a:pt x="1419" y="1800"/>
                </a:lnTo>
                <a:lnTo>
                  <a:pt x="1447" y="1800"/>
                </a:lnTo>
                <a:lnTo>
                  <a:pt x="1474" y="1800"/>
                </a:lnTo>
                <a:lnTo>
                  <a:pt x="1508" y="1800"/>
                </a:lnTo>
                <a:lnTo>
                  <a:pt x="1536" y="1800"/>
                </a:lnTo>
                <a:lnTo>
                  <a:pt x="1563" y="1800"/>
                </a:lnTo>
                <a:lnTo>
                  <a:pt x="1591" y="1800"/>
                </a:lnTo>
                <a:lnTo>
                  <a:pt x="1625" y="1800"/>
                </a:lnTo>
                <a:lnTo>
                  <a:pt x="1652" y="1800"/>
                </a:lnTo>
                <a:lnTo>
                  <a:pt x="1680" y="1800"/>
                </a:lnTo>
                <a:lnTo>
                  <a:pt x="1707" y="1800"/>
                </a:lnTo>
                <a:lnTo>
                  <a:pt x="1735" y="1800"/>
                </a:lnTo>
                <a:lnTo>
                  <a:pt x="1769" y="1800"/>
                </a:lnTo>
                <a:lnTo>
                  <a:pt x="1796" y="1800"/>
                </a:lnTo>
                <a:lnTo>
                  <a:pt x="1824" y="1800"/>
                </a:lnTo>
                <a:lnTo>
                  <a:pt x="1851" y="1800"/>
                </a:lnTo>
                <a:lnTo>
                  <a:pt x="1885" y="1800"/>
                </a:lnTo>
                <a:lnTo>
                  <a:pt x="1913" y="1800"/>
                </a:lnTo>
                <a:lnTo>
                  <a:pt x="1940" y="1800"/>
                </a:lnTo>
                <a:lnTo>
                  <a:pt x="1968" y="1800"/>
                </a:lnTo>
                <a:lnTo>
                  <a:pt x="1995" y="1800"/>
                </a:lnTo>
                <a:lnTo>
                  <a:pt x="2029" y="1800"/>
                </a:lnTo>
                <a:lnTo>
                  <a:pt x="2057" y="1800"/>
                </a:lnTo>
                <a:lnTo>
                  <a:pt x="2084" y="1800"/>
                </a:lnTo>
                <a:lnTo>
                  <a:pt x="2112" y="1800"/>
                </a:lnTo>
                <a:lnTo>
                  <a:pt x="2146" y="1800"/>
                </a:lnTo>
                <a:lnTo>
                  <a:pt x="2173" y="1800"/>
                </a:lnTo>
                <a:lnTo>
                  <a:pt x="2201" y="1800"/>
                </a:lnTo>
                <a:lnTo>
                  <a:pt x="2228" y="1800"/>
                </a:lnTo>
                <a:lnTo>
                  <a:pt x="2256" y="1800"/>
                </a:lnTo>
                <a:lnTo>
                  <a:pt x="2290" y="1800"/>
                </a:lnTo>
                <a:lnTo>
                  <a:pt x="2317" y="1800"/>
                </a:lnTo>
                <a:lnTo>
                  <a:pt x="2345" y="1800"/>
                </a:lnTo>
                <a:lnTo>
                  <a:pt x="2372" y="1800"/>
                </a:lnTo>
                <a:lnTo>
                  <a:pt x="2400" y="1800"/>
                </a:lnTo>
                <a:lnTo>
                  <a:pt x="2434" y="1800"/>
                </a:lnTo>
                <a:lnTo>
                  <a:pt x="2461" y="1773"/>
                </a:lnTo>
                <a:lnTo>
                  <a:pt x="2489" y="1773"/>
                </a:lnTo>
                <a:lnTo>
                  <a:pt x="2516" y="1773"/>
                </a:lnTo>
                <a:lnTo>
                  <a:pt x="2550" y="1773"/>
                </a:lnTo>
                <a:lnTo>
                  <a:pt x="2578" y="1773"/>
                </a:lnTo>
                <a:lnTo>
                  <a:pt x="2605" y="1773"/>
                </a:lnTo>
                <a:lnTo>
                  <a:pt x="2633" y="1773"/>
                </a:lnTo>
                <a:lnTo>
                  <a:pt x="2660" y="1745"/>
                </a:lnTo>
                <a:lnTo>
                  <a:pt x="2660" y="1718"/>
                </a:lnTo>
                <a:lnTo>
                  <a:pt x="2660" y="1684"/>
                </a:lnTo>
                <a:lnTo>
                  <a:pt x="2660" y="1656"/>
                </a:lnTo>
                <a:lnTo>
                  <a:pt x="2694" y="1629"/>
                </a:lnTo>
                <a:lnTo>
                  <a:pt x="2694" y="1601"/>
                </a:lnTo>
                <a:lnTo>
                  <a:pt x="2694" y="1567"/>
                </a:lnTo>
                <a:lnTo>
                  <a:pt x="2694" y="1540"/>
                </a:lnTo>
                <a:lnTo>
                  <a:pt x="2722" y="1513"/>
                </a:lnTo>
                <a:lnTo>
                  <a:pt x="2722" y="1485"/>
                </a:lnTo>
                <a:lnTo>
                  <a:pt x="2722" y="1451"/>
                </a:lnTo>
                <a:lnTo>
                  <a:pt x="2722" y="1424"/>
                </a:lnTo>
                <a:lnTo>
                  <a:pt x="2749" y="1396"/>
                </a:lnTo>
                <a:lnTo>
                  <a:pt x="2749" y="1369"/>
                </a:lnTo>
                <a:lnTo>
                  <a:pt x="2749" y="1335"/>
                </a:lnTo>
                <a:lnTo>
                  <a:pt x="2749" y="1307"/>
                </a:lnTo>
                <a:lnTo>
                  <a:pt x="2777" y="1280"/>
                </a:lnTo>
                <a:lnTo>
                  <a:pt x="2777" y="1252"/>
                </a:lnTo>
                <a:lnTo>
                  <a:pt x="2777" y="1218"/>
                </a:lnTo>
                <a:lnTo>
                  <a:pt x="2777" y="1191"/>
                </a:lnTo>
                <a:lnTo>
                  <a:pt x="2811" y="1164"/>
                </a:lnTo>
                <a:lnTo>
                  <a:pt x="2811" y="1136"/>
                </a:lnTo>
                <a:lnTo>
                  <a:pt x="2811" y="1102"/>
                </a:lnTo>
                <a:lnTo>
                  <a:pt x="2811" y="1075"/>
                </a:lnTo>
                <a:lnTo>
                  <a:pt x="2811" y="1047"/>
                </a:lnTo>
                <a:lnTo>
                  <a:pt x="2811" y="1020"/>
                </a:lnTo>
                <a:lnTo>
                  <a:pt x="2811" y="992"/>
                </a:lnTo>
                <a:lnTo>
                  <a:pt x="2811" y="958"/>
                </a:lnTo>
                <a:lnTo>
                  <a:pt x="2811" y="931"/>
                </a:lnTo>
                <a:lnTo>
                  <a:pt x="2811" y="904"/>
                </a:lnTo>
                <a:lnTo>
                  <a:pt x="2811" y="876"/>
                </a:lnTo>
                <a:lnTo>
                  <a:pt x="2811" y="842"/>
                </a:lnTo>
                <a:lnTo>
                  <a:pt x="2811" y="815"/>
                </a:lnTo>
                <a:lnTo>
                  <a:pt x="2811" y="787"/>
                </a:lnTo>
                <a:lnTo>
                  <a:pt x="2811" y="760"/>
                </a:lnTo>
                <a:lnTo>
                  <a:pt x="2811" y="726"/>
                </a:lnTo>
                <a:lnTo>
                  <a:pt x="2811" y="698"/>
                </a:lnTo>
                <a:lnTo>
                  <a:pt x="2811" y="671"/>
                </a:lnTo>
                <a:lnTo>
                  <a:pt x="2811" y="643"/>
                </a:lnTo>
                <a:lnTo>
                  <a:pt x="2811" y="609"/>
                </a:lnTo>
                <a:lnTo>
                  <a:pt x="2811" y="582"/>
                </a:lnTo>
                <a:lnTo>
                  <a:pt x="2811" y="555"/>
                </a:lnTo>
                <a:lnTo>
                  <a:pt x="2811" y="527"/>
                </a:lnTo>
                <a:lnTo>
                  <a:pt x="2811" y="493"/>
                </a:lnTo>
                <a:lnTo>
                  <a:pt x="2811" y="466"/>
                </a:lnTo>
                <a:lnTo>
                  <a:pt x="2811" y="438"/>
                </a:lnTo>
                <a:lnTo>
                  <a:pt x="2811" y="411"/>
                </a:lnTo>
                <a:lnTo>
                  <a:pt x="2811" y="377"/>
                </a:lnTo>
                <a:lnTo>
                  <a:pt x="2811" y="349"/>
                </a:lnTo>
                <a:lnTo>
                  <a:pt x="2811" y="322"/>
                </a:lnTo>
                <a:lnTo>
                  <a:pt x="2811" y="295"/>
                </a:lnTo>
                <a:lnTo>
                  <a:pt x="2811" y="260"/>
                </a:lnTo>
                <a:lnTo>
                  <a:pt x="2777" y="233"/>
                </a:lnTo>
                <a:lnTo>
                  <a:pt x="2777" y="206"/>
                </a:lnTo>
                <a:lnTo>
                  <a:pt x="2777" y="178"/>
                </a:lnTo>
                <a:lnTo>
                  <a:pt x="2777" y="165"/>
                </a:lnTo>
                <a:lnTo>
                  <a:pt x="2770" y="165"/>
                </a:lnTo>
                <a:lnTo>
                  <a:pt x="2770" y="171"/>
                </a:lnTo>
                <a:lnTo>
                  <a:pt x="2763" y="178"/>
                </a:lnTo>
                <a:lnTo>
                  <a:pt x="2763" y="185"/>
                </a:lnTo>
                <a:lnTo>
                  <a:pt x="2763" y="192"/>
                </a:lnTo>
                <a:lnTo>
                  <a:pt x="2763" y="199"/>
                </a:lnTo>
                <a:lnTo>
                  <a:pt x="2770" y="206"/>
                </a:lnTo>
                <a:lnTo>
                  <a:pt x="2770" y="212"/>
                </a:lnTo>
                <a:lnTo>
                  <a:pt x="2777" y="219"/>
                </a:lnTo>
                <a:lnTo>
                  <a:pt x="2777" y="219"/>
                </a:lnTo>
                <a:lnTo>
                  <a:pt x="2777" y="226"/>
                </a:lnTo>
                <a:lnTo>
                  <a:pt x="2777" y="233"/>
                </a:lnTo>
                <a:lnTo>
                  <a:pt x="2770" y="240"/>
                </a:lnTo>
                <a:lnTo>
                  <a:pt x="2763" y="247"/>
                </a:lnTo>
                <a:lnTo>
                  <a:pt x="2756" y="247"/>
                </a:lnTo>
                <a:lnTo>
                  <a:pt x="2749" y="253"/>
                </a:lnTo>
                <a:lnTo>
                  <a:pt x="2742" y="260"/>
                </a:lnTo>
                <a:lnTo>
                  <a:pt x="2735" y="260"/>
                </a:lnTo>
                <a:lnTo>
                  <a:pt x="2729" y="267"/>
                </a:lnTo>
                <a:lnTo>
                  <a:pt x="2722" y="274"/>
                </a:lnTo>
                <a:lnTo>
                  <a:pt x="2722" y="274"/>
                </a:lnTo>
                <a:lnTo>
                  <a:pt x="2722" y="281"/>
                </a:lnTo>
                <a:lnTo>
                  <a:pt x="2715" y="288"/>
                </a:lnTo>
                <a:lnTo>
                  <a:pt x="2715" y="295"/>
                </a:lnTo>
                <a:lnTo>
                  <a:pt x="2708" y="301"/>
                </a:lnTo>
                <a:lnTo>
                  <a:pt x="2701" y="308"/>
                </a:lnTo>
                <a:lnTo>
                  <a:pt x="2694" y="308"/>
                </a:lnTo>
                <a:lnTo>
                  <a:pt x="2694" y="315"/>
                </a:lnTo>
                <a:lnTo>
                  <a:pt x="2688" y="322"/>
                </a:lnTo>
                <a:lnTo>
                  <a:pt x="2688" y="329"/>
                </a:lnTo>
                <a:lnTo>
                  <a:pt x="2688" y="336"/>
                </a:lnTo>
                <a:lnTo>
                  <a:pt x="2688" y="342"/>
                </a:lnTo>
                <a:lnTo>
                  <a:pt x="2694" y="349"/>
                </a:lnTo>
                <a:lnTo>
                  <a:pt x="2694" y="349"/>
                </a:lnTo>
                <a:lnTo>
                  <a:pt x="2694" y="356"/>
                </a:lnTo>
                <a:lnTo>
                  <a:pt x="2688" y="349"/>
                </a:lnTo>
                <a:lnTo>
                  <a:pt x="2688" y="342"/>
                </a:lnTo>
                <a:lnTo>
                  <a:pt x="2674" y="342"/>
                </a:lnTo>
                <a:lnTo>
                  <a:pt x="2660" y="342"/>
                </a:lnTo>
                <a:lnTo>
                  <a:pt x="2653" y="342"/>
                </a:lnTo>
                <a:lnTo>
                  <a:pt x="2646" y="349"/>
                </a:lnTo>
                <a:lnTo>
                  <a:pt x="2640" y="349"/>
                </a:lnTo>
                <a:lnTo>
                  <a:pt x="2633" y="356"/>
                </a:lnTo>
                <a:lnTo>
                  <a:pt x="2633" y="363"/>
                </a:lnTo>
                <a:lnTo>
                  <a:pt x="2640" y="370"/>
                </a:lnTo>
                <a:lnTo>
                  <a:pt x="2640" y="377"/>
                </a:lnTo>
                <a:lnTo>
                  <a:pt x="2653" y="383"/>
                </a:lnTo>
                <a:lnTo>
                  <a:pt x="2660" y="383"/>
                </a:lnTo>
                <a:lnTo>
                  <a:pt x="2667" y="383"/>
                </a:lnTo>
                <a:lnTo>
                  <a:pt x="2674" y="390"/>
                </a:lnTo>
                <a:lnTo>
                  <a:pt x="2681" y="397"/>
                </a:lnTo>
                <a:lnTo>
                  <a:pt x="2681" y="404"/>
                </a:lnTo>
                <a:lnTo>
                  <a:pt x="2681" y="411"/>
                </a:lnTo>
                <a:lnTo>
                  <a:pt x="2681" y="418"/>
                </a:lnTo>
                <a:lnTo>
                  <a:pt x="2674" y="418"/>
                </a:lnTo>
                <a:lnTo>
                  <a:pt x="2674" y="425"/>
                </a:lnTo>
                <a:lnTo>
                  <a:pt x="2667" y="431"/>
                </a:lnTo>
                <a:lnTo>
                  <a:pt x="2660" y="438"/>
                </a:lnTo>
                <a:lnTo>
                  <a:pt x="2653" y="438"/>
                </a:lnTo>
                <a:lnTo>
                  <a:pt x="2653" y="445"/>
                </a:lnTo>
                <a:lnTo>
                  <a:pt x="2646" y="452"/>
                </a:lnTo>
                <a:lnTo>
                  <a:pt x="2646" y="459"/>
                </a:lnTo>
                <a:lnTo>
                  <a:pt x="2646" y="466"/>
                </a:lnTo>
                <a:lnTo>
                  <a:pt x="2640" y="472"/>
                </a:lnTo>
                <a:lnTo>
                  <a:pt x="2640" y="479"/>
                </a:lnTo>
                <a:lnTo>
                  <a:pt x="2633" y="479"/>
                </a:lnTo>
                <a:lnTo>
                  <a:pt x="2633" y="486"/>
                </a:lnTo>
                <a:lnTo>
                  <a:pt x="2633" y="493"/>
                </a:lnTo>
                <a:lnTo>
                  <a:pt x="2633" y="500"/>
                </a:lnTo>
                <a:lnTo>
                  <a:pt x="2633" y="507"/>
                </a:lnTo>
                <a:lnTo>
                  <a:pt x="2626" y="513"/>
                </a:lnTo>
                <a:lnTo>
                  <a:pt x="2626" y="520"/>
                </a:lnTo>
                <a:lnTo>
                  <a:pt x="2619" y="527"/>
                </a:lnTo>
                <a:lnTo>
                  <a:pt x="2619" y="527"/>
                </a:lnTo>
                <a:lnTo>
                  <a:pt x="2619" y="534"/>
                </a:lnTo>
                <a:lnTo>
                  <a:pt x="2612" y="541"/>
                </a:lnTo>
                <a:lnTo>
                  <a:pt x="2612" y="548"/>
                </a:lnTo>
                <a:lnTo>
                  <a:pt x="2612" y="555"/>
                </a:lnTo>
                <a:lnTo>
                  <a:pt x="2612" y="561"/>
                </a:lnTo>
                <a:lnTo>
                  <a:pt x="2612" y="568"/>
                </a:lnTo>
                <a:lnTo>
                  <a:pt x="2612" y="575"/>
                </a:lnTo>
                <a:lnTo>
                  <a:pt x="2605" y="582"/>
                </a:lnTo>
                <a:lnTo>
                  <a:pt x="2605" y="589"/>
                </a:lnTo>
                <a:lnTo>
                  <a:pt x="2598" y="589"/>
                </a:lnTo>
                <a:lnTo>
                  <a:pt x="2598" y="596"/>
                </a:lnTo>
                <a:lnTo>
                  <a:pt x="2598" y="602"/>
                </a:lnTo>
                <a:lnTo>
                  <a:pt x="2598" y="609"/>
                </a:lnTo>
                <a:lnTo>
                  <a:pt x="2605" y="616"/>
                </a:lnTo>
                <a:lnTo>
                  <a:pt x="2612" y="623"/>
                </a:lnTo>
                <a:lnTo>
                  <a:pt x="2619" y="623"/>
                </a:lnTo>
                <a:lnTo>
                  <a:pt x="2626" y="630"/>
                </a:lnTo>
                <a:lnTo>
                  <a:pt x="2626" y="637"/>
                </a:lnTo>
                <a:lnTo>
                  <a:pt x="2626" y="643"/>
                </a:lnTo>
                <a:lnTo>
                  <a:pt x="2626" y="650"/>
                </a:lnTo>
                <a:lnTo>
                  <a:pt x="2619" y="657"/>
                </a:lnTo>
                <a:lnTo>
                  <a:pt x="2619" y="664"/>
                </a:lnTo>
                <a:lnTo>
                  <a:pt x="2619" y="671"/>
                </a:lnTo>
                <a:lnTo>
                  <a:pt x="2626" y="671"/>
                </a:lnTo>
                <a:lnTo>
                  <a:pt x="2633" y="678"/>
                </a:lnTo>
                <a:lnTo>
                  <a:pt x="2640" y="678"/>
                </a:lnTo>
                <a:lnTo>
                  <a:pt x="2646" y="685"/>
                </a:lnTo>
                <a:lnTo>
                  <a:pt x="2646" y="691"/>
                </a:lnTo>
                <a:lnTo>
                  <a:pt x="2653" y="698"/>
                </a:lnTo>
                <a:lnTo>
                  <a:pt x="2653" y="705"/>
                </a:lnTo>
                <a:lnTo>
                  <a:pt x="2646" y="712"/>
                </a:lnTo>
                <a:lnTo>
                  <a:pt x="2646" y="719"/>
                </a:lnTo>
                <a:lnTo>
                  <a:pt x="2640" y="726"/>
                </a:lnTo>
                <a:lnTo>
                  <a:pt x="2633" y="726"/>
                </a:lnTo>
                <a:lnTo>
                  <a:pt x="2626" y="719"/>
                </a:lnTo>
                <a:lnTo>
                  <a:pt x="2612" y="712"/>
                </a:lnTo>
                <a:lnTo>
                  <a:pt x="2605" y="712"/>
                </a:lnTo>
                <a:lnTo>
                  <a:pt x="2605" y="712"/>
                </a:lnTo>
                <a:lnTo>
                  <a:pt x="2598" y="712"/>
                </a:lnTo>
                <a:lnTo>
                  <a:pt x="2598" y="719"/>
                </a:lnTo>
                <a:lnTo>
                  <a:pt x="2592" y="732"/>
                </a:lnTo>
                <a:lnTo>
                  <a:pt x="2585" y="739"/>
                </a:lnTo>
                <a:lnTo>
                  <a:pt x="2578" y="739"/>
                </a:lnTo>
                <a:lnTo>
                  <a:pt x="2578" y="739"/>
                </a:lnTo>
                <a:lnTo>
                  <a:pt x="2571" y="739"/>
                </a:lnTo>
                <a:lnTo>
                  <a:pt x="2564" y="732"/>
                </a:lnTo>
                <a:lnTo>
                  <a:pt x="2557" y="726"/>
                </a:lnTo>
                <a:lnTo>
                  <a:pt x="2557" y="719"/>
                </a:lnTo>
                <a:lnTo>
                  <a:pt x="2550" y="712"/>
                </a:lnTo>
                <a:lnTo>
                  <a:pt x="2544" y="712"/>
                </a:lnTo>
                <a:lnTo>
                  <a:pt x="2544" y="705"/>
                </a:lnTo>
                <a:lnTo>
                  <a:pt x="2544" y="698"/>
                </a:lnTo>
                <a:lnTo>
                  <a:pt x="2544" y="691"/>
                </a:lnTo>
                <a:lnTo>
                  <a:pt x="2544" y="685"/>
                </a:lnTo>
                <a:lnTo>
                  <a:pt x="2544" y="678"/>
                </a:lnTo>
                <a:lnTo>
                  <a:pt x="2544" y="671"/>
                </a:lnTo>
                <a:lnTo>
                  <a:pt x="2537" y="664"/>
                </a:lnTo>
                <a:lnTo>
                  <a:pt x="2537" y="657"/>
                </a:lnTo>
                <a:lnTo>
                  <a:pt x="2530" y="650"/>
                </a:lnTo>
                <a:lnTo>
                  <a:pt x="2523" y="643"/>
                </a:lnTo>
                <a:lnTo>
                  <a:pt x="2516" y="643"/>
                </a:lnTo>
                <a:lnTo>
                  <a:pt x="2516" y="643"/>
                </a:lnTo>
                <a:lnTo>
                  <a:pt x="2509" y="650"/>
                </a:lnTo>
                <a:lnTo>
                  <a:pt x="2502" y="657"/>
                </a:lnTo>
                <a:lnTo>
                  <a:pt x="2502" y="664"/>
                </a:lnTo>
                <a:lnTo>
                  <a:pt x="2496" y="671"/>
                </a:lnTo>
                <a:lnTo>
                  <a:pt x="2489" y="678"/>
                </a:lnTo>
                <a:lnTo>
                  <a:pt x="2489" y="678"/>
                </a:lnTo>
                <a:lnTo>
                  <a:pt x="2482" y="685"/>
                </a:lnTo>
                <a:lnTo>
                  <a:pt x="2475" y="691"/>
                </a:lnTo>
                <a:lnTo>
                  <a:pt x="2468" y="698"/>
                </a:lnTo>
                <a:lnTo>
                  <a:pt x="2461" y="698"/>
                </a:lnTo>
                <a:lnTo>
                  <a:pt x="2461" y="705"/>
                </a:lnTo>
                <a:lnTo>
                  <a:pt x="2454" y="712"/>
                </a:lnTo>
                <a:lnTo>
                  <a:pt x="2448" y="719"/>
                </a:lnTo>
                <a:lnTo>
                  <a:pt x="2441" y="719"/>
                </a:lnTo>
                <a:lnTo>
                  <a:pt x="2434" y="726"/>
                </a:lnTo>
                <a:lnTo>
                  <a:pt x="2427" y="732"/>
                </a:lnTo>
                <a:lnTo>
                  <a:pt x="2427" y="739"/>
                </a:lnTo>
                <a:lnTo>
                  <a:pt x="2420" y="739"/>
                </a:lnTo>
                <a:lnTo>
                  <a:pt x="2413" y="746"/>
                </a:lnTo>
                <a:lnTo>
                  <a:pt x="2406" y="746"/>
                </a:lnTo>
                <a:lnTo>
                  <a:pt x="2400" y="753"/>
                </a:lnTo>
                <a:lnTo>
                  <a:pt x="2393" y="760"/>
                </a:lnTo>
                <a:lnTo>
                  <a:pt x="2386" y="760"/>
                </a:lnTo>
                <a:lnTo>
                  <a:pt x="2379" y="767"/>
                </a:lnTo>
                <a:lnTo>
                  <a:pt x="2372" y="774"/>
                </a:lnTo>
                <a:lnTo>
                  <a:pt x="2365" y="780"/>
                </a:lnTo>
                <a:lnTo>
                  <a:pt x="2358" y="780"/>
                </a:lnTo>
                <a:lnTo>
                  <a:pt x="2352" y="787"/>
                </a:lnTo>
                <a:lnTo>
                  <a:pt x="2345" y="794"/>
                </a:lnTo>
                <a:lnTo>
                  <a:pt x="2338" y="794"/>
                </a:lnTo>
                <a:lnTo>
                  <a:pt x="2331" y="801"/>
                </a:lnTo>
                <a:lnTo>
                  <a:pt x="2331" y="808"/>
                </a:lnTo>
                <a:lnTo>
                  <a:pt x="2324" y="815"/>
                </a:lnTo>
                <a:lnTo>
                  <a:pt x="2324" y="815"/>
                </a:lnTo>
                <a:lnTo>
                  <a:pt x="2317" y="821"/>
                </a:lnTo>
                <a:lnTo>
                  <a:pt x="2317" y="828"/>
                </a:lnTo>
                <a:lnTo>
                  <a:pt x="2317" y="835"/>
                </a:lnTo>
                <a:lnTo>
                  <a:pt x="2317" y="842"/>
                </a:lnTo>
                <a:lnTo>
                  <a:pt x="2317" y="849"/>
                </a:lnTo>
                <a:lnTo>
                  <a:pt x="2317" y="856"/>
                </a:lnTo>
                <a:lnTo>
                  <a:pt x="2310" y="862"/>
                </a:lnTo>
                <a:lnTo>
                  <a:pt x="2310" y="869"/>
                </a:lnTo>
                <a:lnTo>
                  <a:pt x="2310" y="869"/>
                </a:lnTo>
                <a:lnTo>
                  <a:pt x="2310" y="876"/>
                </a:lnTo>
                <a:lnTo>
                  <a:pt x="2310" y="883"/>
                </a:lnTo>
                <a:lnTo>
                  <a:pt x="2310" y="890"/>
                </a:lnTo>
                <a:lnTo>
                  <a:pt x="2310" y="897"/>
                </a:lnTo>
                <a:lnTo>
                  <a:pt x="2310" y="904"/>
                </a:lnTo>
                <a:lnTo>
                  <a:pt x="2310" y="910"/>
                </a:lnTo>
                <a:lnTo>
                  <a:pt x="2304" y="917"/>
                </a:lnTo>
                <a:lnTo>
                  <a:pt x="2304" y="924"/>
                </a:lnTo>
                <a:lnTo>
                  <a:pt x="2304" y="931"/>
                </a:lnTo>
                <a:lnTo>
                  <a:pt x="2304" y="938"/>
                </a:lnTo>
                <a:lnTo>
                  <a:pt x="2304" y="938"/>
                </a:lnTo>
                <a:lnTo>
                  <a:pt x="2297" y="945"/>
                </a:lnTo>
                <a:lnTo>
                  <a:pt x="2297" y="951"/>
                </a:lnTo>
                <a:lnTo>
                  <a:pt x="2297" y="958"/>
                </a:lnTo>
                <a:lnTo>
                  <a:pt x="2297" y="965"/>
                </a:lnTo>
                <a:lnTo>
                  <a:pt x="2297" y="972"/>
                </a:lnTo>
                <a:lnTo>
                  <a:pt x="2297" y="979"/>
                </a:lnTo>
                <a:lnTo>
                  <a:pt x="2297" y="986"/>
                </a:lnTo>
                <a:lnTo>
                  <a:pt x="2297" y="992"/>
                </a:lnTo>
                <a:lnTo>
                  <a:pt x="2297" y="999"/>
                </a:lnTo>
                <a:lnTo>
                  <a:pt x="2297" y="999"/>
                </a:lnTo>
                <a:lnTo>
                  <a:pt x="2297" y="1006"/>
                </a:lnTo>
                <a:lnTo>
                  <a:pt x="2297" y="1013"/>
                </a:lnTo>
                <a:lnTo>
                  <a:pt x="2297" y="1020"/>
                </a:lnTo>
                <a:lnTo>
                  <a:pt x="2304" y="1027"/>
                </a:lnTo>
                <a:lnTo>
                  <a:pt x="2304" y="1034"/>
                </a:lnTo>
                <a:lnTo>
                  <a:pt x="2310" y="1040"/>
                </a:lnTo>
                <a:lnTo>
                  <a:pt x="2310" y="1047"/>
                </a:lnTo>
                <a:lnTo>
                  <a:pt x="2317" y="1047"/>
                </a:lnTo>
                <a:lnTo>
                  <a:pt x="2317" y="1054"/>
                </a:lnTo>
                <a:lnTo>
                  <a:pt x="2317" y="1061"/>
                </a:lnTo>
                <a:lnTo>
                  <a:pt x="2310" y="1068"/>
                </a:lnTo>
                <a:lnTo>
                  <a:pt x="2304" y="1075"/>
                </a:lnTo>
                <a:lnTo>
                  <a:pt x="2297" y="1081"/>
                </a:lnTo>
                <a:lnTo>
                  <a:pt x="2290" y="1081"/>
                </a:lnTo>
                <a:lnTo>
                  <a:pt x="2283" y="1081"/>
                </a:lnTo>
                <a:lnTo>
                  <a:pt x="2269" y="1081"/>
                </a:lnTo>
                <a:lnTo>
                  <a:pt x="2262" y="1081"/>
                </a:lnTo>
                <a:lnTo>
                  <a:pt x="2249" y="1081"/>
                </a:lnTo>
                <a:lnTo>
                  <a:pt x="2242" y="1081"/>
                </a:lnTo>
                <a:lnTo>
                  <a:pt x="2235" y="1081"/>
                </a:lnTo>
                <a:lnTo>
                  <a:pt x="2221" y="1081"/>
                </a:lnTo>
                <a:lnTo>
                  <a:pt x="2214" y="1081"/>
                </a:lnTo>
                <a:lnTo>
                  <a:pt x="2208" y="1081"/>
                </a:lnTo>
                <a:lnTo>
                  <a:pt x="2194" y="1081"/>
                </a:lnTo>
                <a:lnTo>
                  <a:pt x="2187" y="1081"/>
                </a:lnTo>
                <a:lnTo>
                  <a:pt x="2173" y="1088"/>
                </a:lnTo>
                <a:lnTo>
                  <a:pt x="2166" y="1088"/>
                </a:lnTo>
                <a:lnTo>
                  <a:pt x="2160" y="1095"/>
                </a:lnTo>
                <a:lnTo>
                  <a:pt x="2153" y="1095"/>
                </a:lnTo>
                <a:lnTo>
                  <a:pt x="2146" y="1102"/>
                </a:lnTo>
                <a:lnTo>
                  <a:pt x="2139" y="1109"/>
                </a:lnTo>
                <a:lnTo>
                  <a:pt x="2139" y="1109"/>
                </a:lnTo>
                <a:lnTo>
                  <a:pt x="2132" y="1116"/>
                </a:lnTo>
                <a:lnTo>
                  <a:pt x="2139" y="1122"/>
                </a:lnTo>
                <a:lnTo>
                  <a:pt x="2132" y="1129"/>
                </a:lnTo>
                <a:lnTo>
                  <a:pt x="2132" y="1136"/>
                </a:lnTo>
                <a:lnTo>
                  <a:pt x="2125" y="1143"/>
                </a:lnTo>
                <a:lnTo>
                  <a:pt x="2118" y="1143"/>
                </a:lnTo>
                <a:lnTo>
                  <a:pt x="2112" y="1150"/>
                </a:lnTo>
                <a:lnTo>
                  <a:pt x="2105" y="1150"/>
                </a:lnTo>
                <a:lnTo>
                  <a:pt x="2098" y="1157"/>
                </a:lnTo>
                <a:lnTo>
                  <a:pt x="2084" y="1157"/>
                </a:lnTo>
                <a:lnTo>
                  <a:pt x="2077" y="1157"/>
                </a:lnTo>
                <a:lnTo>
                  <a:pt x="2070" y="1164"/>
                </a:lnTo>
                <a:lnTo>
                  <a:pt x="2064" y="1170"/>
                </a:lnTo>
                <a:lnTo>
                  <a:pt x="2064" y="1170"/>
                </a:lnTo>
                <a:lnTo>
                  <a:pt x="2070" y="1177"/>
                </a:lnTo>
                <a:lnTo>
                  <a:pt x="2070" y="1184"/>
                </a:lnTo>
                <a:lnTo>
                  <a:pt x="2070" y="1191"/>
                </a:lnTo>
                <a:lnTo>
                  <a:pt x="2064" y="1198"/>
                </a:lnTo>
                <a:lnTo>
                  <a:pt x="2050" y="1198"/>
                </a:lnTo>
                <a:lnTo>
                  <a:pt x="2043" y="1205"/>
                </a:lnTo>
                <a:lnTo>
                  <a:pt x="2036" y="1205"/>
                </a:lnTo>
                <a:lnTo>
                  <a:pt x="2029" y="1211"/>
                </a:lnTo>
                <a:lnTo>
                  <a:pt x="2016" y="1211"/>
                </a:lnTo>
                <a:lnTo>
                  <a:pt x="2009" y="1211"/>
                </a:lnTo>
                <a:lnTo>
                  <a:pt x="2002" y="1211"/>
                </a:lnTo>
                <a:lnTo>
                  <a:pt x="1995" y="1218"/>
                </a:lnTo>
                <a:lnTo>
                  <a:pt x="1995" y="1225"/>
                </a:lnTo>
                <a:lnTo>
                  <a:pt x="2002" y="1225"/>
                </a:lnTo>
                <a:lnTo>
                  <a:pt x="2016" y="1232"/>
                </a:lnTo>
                <a:lnTo>
                  <a:pt x="2022" y="1232"/>
                </a:lnTo>
                <a:lnTo>
                  <a:pt x="2029" y="1239"/>
                </a:lnTo>
                <a:lnTo>
                  <a:pt x="2029" y="1246"/>
                </a:lnTo>
                <a:lnTo>
                  <a:pt x="2036" y="1246"/>
                </a:lnTo>
                <a:lnTo>
                  <a:pt x="2043" y="1252"/>
                </a:lnTo>
                <a:lnTo>
                  <a:pt x="2043" y="1259"/>
                </a:lnTo>
                <a:lnTo>
                  <a:pt x="2050" y="1266"/>
                </a:lnTo>
                <a:lnTo>
                  <a:pt x="2050" y="1273"/>
                </a:lnTo>
                <a:lnTo>
                  <a:pt x="2050" y="1280"/>
                </a:lnTo>
                <a:lnTo>
                  <a:pt x="2057" y="1287"/>
                </a:lnTo>
                <a:lnTo>
                  <a:pt x="2057" y="1287"/>
                </a:lnTo>
                <a:lnTo>
                  <a:pt x="2064" y="1294"/>
                </a:lnTo>
                <a:lnTo>
                  <a:pt x="2070" y="1300"/>
                </a:lnTo>
                <a:lnTo>
                  <a:pt x="2070" y="1307"/>
                </a:lnTo>
                <a:lnTo>
                  <a:pt x="2070" y="1314"/>
                </a:lnTo>
                <a:lnTo>
                  <a:pt x="2064" y="1314"/>
                </a:lnTo>
                <a:lnTo>
                  <a:pt x="2057" y="1321"/>
                </a:lnTo>
                <a:lnTo>
                  <a:pt x="2043" y="1314"/>
                </a:lnTo>
                <a:lnTo>
                  <a:pt x="2043" y="1307"/>
                </a:lnTo>
                <a:lnTo>
                  <a:pt x="2036" y="1307"/>
                </a:lnTo>
                <a:lnTo>
                  <a:pt x="2029" y="1300"/>
                </a:lnTo>
                <a:lnTo>
                  <a:pt x="2016" y="1300"/>
                </a:lnTo>
                <a:lnTo>
                  <a:pt x="2009" y="1307"/>
                </a:lnTo>
                <a:lnTo>
                  <a:pt x="2002" y="1307"/>
                </a:lnTo>
                <a:lnTo>
                  <a:pt x="1995" y="1314"/>
                </a:lnTo>
                <a:lnTo>
                  <a:pt x="1988" y="1314"/>
                </a:lnTo>
                <a:lnTo>
                  <a:pt x="1981" y="1321"/>
                </a:lnTo>
                <a:lnTo>
                  <a:pt x="1974" y="1328"/>
                </a:lnTo>
                <a:lnTo>
                  <a:pt x="1968" y="1328"/>
                </a:lnTo>
                <a:lnTo>
                  <a:pt x="1961" y="1335"/>
                </a:lnTo>
                <a:lnTo>
                  <a:pt x="1947" y="1335"/>
                </a:lnTo>
                <a:lnTo>
                  <a:pt x="1940" y="1335"/>
                </a:lnTo>
                <a:lnTo>
                  <a:pt x="1926" y="1328"/>
                </a:lnTo>
                <a:lnTo>
                  <a:pt x="1920" y="1328"/>
                </a:lnTo>
                <a:lnTo>
                  <a:pt x="1913" y="1335"/>
                </a:lnTo>
                <a:lnTo>
                  <a:pt x="1906" y="1341"/>
                </a:lnTo>
                <a:lnTo>
                  <a:pt x="1899" y="1341"/>
                </a:lnTo>
                <a:lnTo>
                  <a:pt x="1892" y="1348"/>
                </a:lnTo>
                <a:lnTo>
                  <a:pt x="1892" y="1355"/>
                </a:lnTo>
                <a:lnTo>
                  <a:pt x="1885" y="1362"/>
                </a:lnTo>
                <a:lnTo>
                  <a:pt x="1879" y="1362"/>
                </a:lnTo>
                <a:lnTo>
                  <a:pt x="1872" y="1369"/>
                </a:lnTo>
                <a:lnTo>
                  <a:pt x="1865" y="1376"/>
                </a:lnTo>
                <a:lnTo>
                  <a:pt x="1858" y="1376"/>
                </a:lnTo>
                <a:lnTo>
                  <a:pt x="1844" y="1376"/>
                </a:lnTo>
                <a:lnTo>
                  <a:pt x="1837" y="1376"/>
                </a:lnTo>
                <a:lnTo>
                  <a:pt x="1831" y="1369"/>
                </a:lnTo>
                <a:lnTo>
                  <a:pt x="1817" y="1369"/>
                </a:lnTo>
                <a:lnTo>
                  <a:pt x="1810" y="1362"/>
                </a:lnTo>
                <a:lnTo>
                  <a:pt x="1803" y="1362"/>
                </a:lnTo>
                <a:lnTo>
                  <a:pt x="1796" y="1355"/>
                </a:lnTo>
                <a:lnTo>
                  <a:pt x="1796" y="1348"/>
                </a:lnTo>
                <a:lnTo>
                  <a:pt x="1789" y="1348"/>
                </a:lnTo>
                <a:lnTo>
                  <a:pt x="1783" y="1341"/>
                </a:lnTo>
                <a:lnTo>
                  <a:pt x="1776" y="1335"/>
                </a:lnTo>
                <a:lnTo>
                  <a:pt x="1769" y="1328"/>
                </a:lnTo>
                <a:lnTo>
                  <a:pt x="1762" y="1328"/>
                </a:lnTo>
                <a:lnTo>
                  <a:pt x="1755" y="1328"/>
                </a:lnTo>
                <a:lnTo>
                  <a:pt x="1741" y="1335"/>
                </a:lnTo>
                <a:lnTo>
                  <a:pt x="1735" y="1335"/>
                </a:lnTo>
                <a:lnTo>
                  <a:pt x="1735" y="1335"/>
                </a:lnTo>
                <a:lnTo>
                  <a:pt x="1728" y="1328"/>
                </a:lnTo>
                <a:lnTo>
                  <a:pt x="1728" y="1321"/>
                </a:lnTo>
                <a:lnTo>
                  <a:pt x="1728" y="1307"/>
                </a:lnTo>
                <a:lnTo>
                  <a:pt x="1721" y="1300"/>
                </a:lnTo>
                <a:lnTo>
                  <a:pt x="1721" y="1300"/>
                </a:lnTo>
                <a:lnTo>
                  <a:pt x="1714" y="1294"/>
                </a:lnTo>
                <a:lnTo>
                  <a:pt x="1700" y="1294"/>
                </a:lnTo>
                <a:lnTo>
                  <a:pt x="1693" y="1287"/>
                </a:lnTo>
                <a:lnTo>
                  <a:pt x="1687" y="1287"/>
                </a:lnTo>
                <a:lnTo>
                  <a:pt x="1673" y="1287"/>
                </a:lnTo>
                <a:lnTo>
                  <a:pt x="1666" y="1294"/>
                </a:lnTo>
                <a:lnTo>
                  <a:pt x="1659" y="1294"/>
                </a:lnTo>
                <a:lnTo>
                  <a:pt x="1659" y="1300"/>
                </a:lnTo>
                <a:lnTo>
                  <a:pt x="1652" y="1307"/>
                </a:lnTo>
                <a:lnTo>
                  <a:pt x="1645" y="1314"/>
                </a:lnTo>
                <a:lnTo>
                  <a:pt x="1639" y="1307"/>
                </a:lnTo>
                <a:lnTo>
                  <a:pt x="1652" y="1307"/>
                </a:lnTo>
                <a:lnTo>
                  <a:pt x="1666" y="1307"/>
                </a:lnTo>
                <a:lnTo>
                  <a:pt x="1673" y="1300"/>
                </a:lnTo>
                <a:lnTo>
                  <a:pt x="1673" y="1294"/>
                </a:lnTo>
                <a:lnTo>
                  <a:pt x="1680" y="1287"/>
                </a:lnTo>
                <a:lnTo>
                  <a:pt x="1673" y="1280"/>
                </a:lnTo>
                <a:lnTo>
                  <a:pt x="1673" y="1273"/>
                </a:lnTo>
                <a:lnTo>
                  <a:pt x="1666" y="1266"/>
                </a:lnTo>
                <a:lnTo>
                  <a:pt x="1666" y="1266"/>
                </a:lnTo>
                <a:lnTo>
                  <a:pt x="1659" y="1259"/>
                </a:lnTo>
                <a:lnTo>
                  <a:pt x="1652" y="1252"/>
                </a:lnTo>
                <a:lnTo>
                  <a:pt x="1645" y="1246"/>
                </a:lnTo>
                <a:lnTo>
                  <a:pt x="1639" y="1246"/>
                </a:lnTo>
                <a:lnTo>
                  <a:pt x="1639" y="1239"/>
                </a:lnTo>
                <a:lnTo>
                  <a:pt x="1639" y="1232"/>
                </a:lnTo>
                <a:lnTo>
                  <a:pt x="1632" y="1225"/>
                </a:lnTo>
                <a:lnTo>
                  <a:pt x="1625" y="1218"/>
                </a:lnTo>
                <a:lnTo>
                  <a:pt x="1625" y="1218"/>
                </a:lnTo>
                <a:lnTo>
                  <a:pt x="1618" y="1211"/>
                </a:lnTo>
                <a:lnTo>
                  <a:pt x="1611" y="1205"/>
                </a:lnTo>
                <a:lnTo>
                  <a:pt x="1611" y="1198"/>
                </a:lnTo>
                <a:lnTo>
                  <a:pt x="1604" y="1191"/>
                </a:lnTo>
                <a:lnTo>
                  <a:pt x="1604" y="1184"/>
                </a:lnTo>
                <a:lnTo>
                  <a:pt x="1604" y="1177"/>
                </a:lnTo>
                <a:lnTo>
                  <a:pt x="1597" y="1170"/>
                </a:lnTo>
                <a:lnTo>
                  <a:pt x="1591" y="1170"/>
                </a:lnTo>
                <a:lnTo>
                  <a:pt x="1584" y="1170"/>
                </a:lnTo>
                <a:lnTo>
                  <a:pt x="1577" y="1177"/>
                </a:lnTo>
                <a:lnTo>
                  <a:pt x="1570" y="1184"/>
                </a:lnTo>
                <a:lnTo>
                  <a:pt x="1570" y="1191"/>
                </a:lnTo>
                <a:lnTo>
                  <a:pt x="1563" y="1198"/>
                </a:lnTo>
                <a:lnTo>
                  <a:pt x="1563" y="1205"/>
                </a:lnTo>
                <a:lnTo>
                  <a:pt x="1570" y="1205"/>
                </a:lnTo>
                <a:lnTo>
                  <a:pt x="1570" y="1211"/>
                </a:lnTo>
                <a:lnTo>
                  <a:pt x="1577" y="1218"/>
                </a:lnTo>
                <a:lnTo>
                  <a:pt x="1577" y="1225"/>
                </a:lnTo>
                <a:lnTo>
                  <a:pt x="1584" y="1232"/>
                </a:lnTo>
                <a:lnTo>
                  <a:pt x="1584" y="1239"/>
                </a:lnTo>
                <a:lnTo>
                  <a:pt x="1584" y="1246"/>
                </a:lnTo>
                <a:lnTo>
                  <a:pt x="1584" y="1252"/>
                </a:lnTo>
                <a:lnTo>
                  <a:pt x="1591" y="1252"/>
                </a:lnTo>
                <a:lnTo>
                  <a:pt x="1597" y="1259"/>
                </a:lnTo>
                <a:lnTo>
                  <a:pt x="1597" y="1266"/>
                </a:lnTo>
                <a:lnTo>
                  <a:pt x="1604" y="1273"/>
                </a:lnTo>
                <a:lnTo>
                  <a:pt x="1604" y="1280"/>
                </a:lnTo>
                <a:lnTo>
                  <a:pt x="1604" y="1287"/>
                </a:lnTo>
                <a:lnTo>
                  <a:pt x="1604" y="1294"/>
                </a:lnTo>
                <a:lnTo>
                  <a:pt x="1597" y="1300"/>
                </a:lnTo>
                <a:lnTo>
                  <a:pt x="1597" y="1300"/>
                </a:lnTo>
                <a:lnTo>
                  <a:pt x="1591" y="1300"/>
                </a:lnTo>
                <a:lnTo>
                  <a:pt x="1584" y="1300"/>
                </a:lnTo>
                <a:lnTo>
                  <a:pt x="1577" y="1294"/>
                </a:lnTo>
                <a:lnTo>
                  <a:pt x="1570" y="1287"/>
                </a:lnTo>
                <a:lnTo>
                  <a:pt x="1563" y="1280"/>
                </a:lnTo>
                <a:lnTo>
                  <a:pt x="1556" y="1280"/>
                </a:lnTo>
                <a:lnTo>
                  <a:pt x="1543" y="1280"/>
                </a:lnTo>
                <a:lnTo>
                  <a:pt x="1536" y="1280"/>
                </a:lnTo>
                <a:lnTo>
                  <a:pt x="1529" y="1280"/>
                </a:lnTo>
                <a:lnTo>
                  <a:pt x="1529" y="1287"/>
                </a:lnTo>
                <a:lnTo>
                  <a:pt x="1529" y="1294"/>
                </a:lnTo>
                <a:lnTo>
                  <a:pt x="1529" y="1300"/>
                </a:lnTo>
                <a:lnTo>
                  <a:pt x="1529" y="1307"/>
                </a:lnTo>
                <a:lnTo>
                  <a:pt x="1529" y="1314"/>
                </a:lnTo>
                <a:lnTo>
                  <a:pt x="1529" y="1321"/>
                </a:lnTo>
                <a:lnTo>
                  <a:pt x="1522" y="1328"/>
                </a:lnTo>
                <a:lnTo>
                  <a:pt x="1522" y="1335"/>
                </a:lnTo>
                <a:lnTo>
                  <a:pt x="1529" y="1341"/>
                </a:lnTo>
                <a:lnTo>
                  <a:pt x="1529" y="1341"/>
                </a:lnTo>
                <a:lnTo>
                  <a:pt x="1536" y="1341"/>
                </a:lnTo>
                <a:lnTo>
                  <a:pt x="1543" y="1335"/>
                </a:lnTo>
                <a:lnTo>
                  <a:pt x="1549" y="1335"/>
                </a:lnTo>
                <a:lnTo>
                  <a:pt x="1563" y="1335"/>
                </a:lnTo>
                <a:lnTo>
                  <a:pt x="1570" y="1328"/>
                </a:lnTo>
                <a:lnTo>
                  <a:pt x="1584" y="1328"/>
                </a:lnTo>
                <a:lnTo>
                  <a:pt x="1591" y="1328"/>
                </a:lnTo>
                <a:lnTo>
                  <a:pt x="1597" y="1335"/>
                </a:lnTo>
                <a:lnTo>
                  <a:pt x="1597" y="1341"/>
                </a:lnTo>
                <a:lnTo>
                  <a:pt x="1604" y="1348"/>
                </a:lnTo>
                <a:lnTo>
                  <a:pt x="1611" y="1355"/>
                </a:lnTo>
                <a:lnTo>
                  <a:pt x="1611" y="1355"/>
                </a:lnTo>
                <a:lnTo>
                  <a:pt x="1618" y="1362"/>
                </a:lnTo>
                <a:lnTo>
                  <a:pt x="1618" y="1369"/>
                </a:lnTo>
                <a:lnTo>
                  <a:pt x="1625" y="1376"/>
                </a:lnTo>
                <a:lnTo>
                  <a:pt x="1632" y="1382"/>
                </a:lnTo>
                <a:lnTo>
                  <a:pt x="1632" y="1382"/>
                </a:lnTo>
                <a:lnTo>
                  <a:pt x="1639" y="1389"/>
                </a:lnTo>
                <a:lnTo>
                  <a:pt x="1639" y="1396"/>
                </a:lnTo>
                <a:lnTo>
                  <a:pt x="1645" y="1403"/>
                </a:lnTo>
                <a:lnTo>
                  <a:pt x="1652" y="1410"/>
                </a:lnTo>
                <a:lnTo>
                  <a:pt x="1652" y="1410"/>
                </a:lnTo>
                <a:lnTo>
                  <a:pt x="1659" y="1417"/>
                </a:lnTo>
                <a:lnTo>
                  <a:pt x="1666" y="1424"/>
                </a:lnTo>
                <a:lnTo>
                  <a:pt x="1666" y="1430"/>
                </a:lnTo>
                <a:lnTo>
                  <a:pt x="1673" y="1437"/>
                </a:lnTo>
                <a:lnTo>
                  <a:pt x="1673" y="1444"/>
                </a:lnTo>
                <a:lnTo>
                  <a:pt x="1680" y="1444"/>
                </a:lnTo>
                <a:lnTo>
                  <a:pt x="1687" y="1451"/>
                </a:lnTo>
                <a:lnTo>
                  <a:pt x="1687" y="1458"/>
                </a:lnTo>
                <a:lnTo>
                  <a:pt x="1693" y="1465"/>
                </a:lnTo>
                <a:lnTo>
                  <a:pt x="1693" y="1471"/>
                </a:lnTo>
                <a:lnTo>
                  <a:pt x="1700" y="1471"/>
                </a:lnTo>
                <a:lnTo>
                  <a:pt x="1707" y="1478"/>
                </a:lnTo>
                <a:lnTo>
                  <a:pt x="1707" y="1485"/>
                </a:lnTo>
                <a:lnTo>
                  <a:pt x="1714" y="1492"/>
                </a:lnTo>
                <a:lnTo>
                  <a:pt x="1721" y="1499"/>
                </a:lnTo>
                <a:lnTo>
                  <a:pt x="1728" y="1506"/>
                </a:lnTo>
                <a:lnTo>
                  <a:pt x="1735" y="1506"/>
                </a:lnTo>
                <a:lnTo>
                  <a:pt x="1735" y="1513"/>
                </a:lnTo>
                <a:lnTo>
                  <a:pt x="1741" y="1506"/>
                </a:lnTo>
                <a:lnTo>
                  <a:pt x="1748" y="1506"/>
                </a:lnTo>
                <a:lnTo>
                  <a:pt x="1755" y="1499"/>
                </a:lnTo>
                <a:lnTo>
                  <a:pt x="1762" y="1492"/>
                </a:lnTo>
                <a:lnTo>
                  <a:pt x="1762" y="1485"/>
                </a:lnTo>
                <a:lnTo>
                  <a:pt x="1762" y="1478"/>
                </a:lnTo>
                <a:lnTo>
                  <a:pt x="1769" y="1471"/>
                </a:lnTo>
                <a:lnTo>
                  <a:pt x="1783" y="1471"/>
                </a:lnTo>
                <a:lnTo>
                  <a:pt x="1789" y="1471"/>
                </a:lnTo>
                <a:lnTo>
                  <a:pt x="1796" y="1471"/>
                </a:lnTo>
                <a:lnTo>
                  <a:pt x="1810" y="1471"/>
                </a:lnTo>
                <a:lnTo>
                  <a:pt x="1817" y="1478"/>
                </a:lnTo>
                <a:lnTo>
                  <a:pt x="1824" y="1485"/>
                </a:lnTo>
                <a:lnTo>
                  <a:pt x="1817" y="1485"/>
                </a:lnTo>
                <a:lnTo>
                  <a:pt x="1810" y="1492"/>
                </a:lnTo>
                <a:lnTo>
                  <a:pt x="1803" y="1492"/>
                </a:lnTo>
                <a:lnTo>
                  <a:pt x="1796" y="1492"/>
                </a:lnTo>
                <a:lnTo>
                  <a:pt x="1783" y="1492"/>
                </a:lnTo>
                <a:lnTo>
                  <a:pt x="1776" y="1492"/>
                </a:lnTo>
                <a:lnTo>
                  <a:pt x="1762" y="1492"/>
                </a:lnTo>
                <a:lnTo>
                  <a:pt x="1755" y="1492"/>
                </a:lnTo>
                <a:lnTo>
                  <a:pt x="1755" y="1499"/>
                </a:lnTo>
                <a:lnTo>
                  <a:pt x="1748" y="1506"/>
                </a:lnTo>
                <a:lnTo>
                  <a:pt x="1741" y="1513"/>
                </a:lnTo>
                <a:lnTo>
                  <a:pt x="1735" y="1519"/>
                </a:lnTo>
                <a:lnTo>
                  <a:pt x="1728" y="1519"/>
                </a:lnTo>
                <a:lnTo>
                  <a:pt x="1721" y="1526"/>
                </a:lnTo>
                <a:lnTo>
                  <a:pt x="1714" y="1526"/>
                </a:lnTo>
                <a:lnTo>
                  <a:pt x="1700" y="1533"/>
                </a:lnTo>
                <a:lnTo>
                  <a:pt x="1693" y="1533"/>
                </a:lnTo>
                <a:lnTo>
                  <a:pt x="1687" y="1540"/>
                </a:lnTo>
                <a:lnTo>
                  <a:pt x="1680" y="1540"/>
                </a:lnTo>
                <a:lnTo>
                  <a:pt x="1673" y="1547"/>
                </a:lnTo>
                <a:lnTo>
                  <a:pt x="1666" y="1547"/>
                </a:lnTo>
                <a:lnTo>
                  <a:pt x="1652" y="1547"/>
                </a:lnTo>
                <a:lnTo>
                  <a:pt x="1645" y="1554"/>
                </a:lnTo>
                <a:lnTo>
                  <a:pt x="1639" y="1560"/>
                </a:lnTo>
                <a:lnTo>
                  <a:pt x="1639" y="1567"/>
                </a:lnTo>
                <a:lnTo>
                  <a:pt x="1632" y="1567"/>
                </a:lnTo>
                <a:lnTo>
                  <a:pt x="1625" y="1574"/>
                </a:lnTo>
                <a:lnTo>
                  <a:pt x="1618" y="1574"/>
                </a:lnTo>
                <a:lnTo>
                  <a:pt x="1604" y="1581"/>
                </a:lnTo>
                <a:lnTo>
                  <a:pt x="1597" y="1581"/>
                </a:lnTo>
                <a:lnTo>
                  <a:pt x="1591" y="1581"/>
                </a:lnTo>
                <a:lnTo>
                  <a:pt x="1577" y="1581"/>
                </a:lnTo>
                <a:lnTo>
                  <a:pt x="1570" y="1581"/>
                </a:lnTo>
                <a:lnTo>
                  <a:pt x="1563" y="1588"/>
                </a:lnTo>
                <a:lnTo>
                  <a:pt x="1556" y="1588"/>
                </a:lnTo>
                <a:lnTo>
                  <a:pt x="1549" y="1595"/>
                </a:lnTo>
                <a:lnTo>
                  <a:pt x="1543" y="1601"/>
                </a:lnTo>
                <a:lnTo>
                  <a:pt x="1536" y="1601"/>
                </a:lnTo>
                <a:lnTo>
                  <a:pt x="1529" y="1608"/>
                </a:lnTo>
                <a:lnTo>
                  <a:pt x="1515" y="1608"/>
                </a:lnTo>
                <a:lnTo>
                  <a:pt x="1508" y="1615"/>
                </a:lnTo>
                <a:lnTo>
                  <a:pt x="1501" y="1615"/>
                </a:lnTo>
                <a:lnTo>
                  <a:pt x="1495" y="1622"/>
                </a:lnTo>
                <a:lnTo>
                  <a:pt x="1488" y="1629"/>
                </a:lnTo>
                <a:lnTo>
                  <a:pt x="1481" y="1629"/>
                </a:lnTo>
                <a:lnTo>
                  <a:pt x="1481" y="1636"/>
                </a:lnTo>
                <a:lnTo>
                  <a:pt x="1474" y="1643"/>
                </a:lnTo>
                <a:lnTo>
                  <a:pt x="1467" y="1649"/>
                </a:lnTo>
                <a:lnTo>
                  <a:pt x="1467" y="1649"/>
                </a:lnTo>
                <a:lnTo>
                  <a:pt x="1460" y="1656"/>
                </a:lnTo>
                <a:lnTo>
                  <a:pt x="1460" y="1663"/>
                </a:lnTo>
                <a:lnTo>
                  <a:pt x="1453" y="1670"/>
                </a:lnTo>
                <a:lnTo>
                  <a:pt x="1453" y="1677"/>
                </a:lnTo>
                <a:lnTo>
                  <a:pt x="1447" y="1684"/>
                </a:lnTo>
                <a:lnTo>
                  <a:pt x="1440" y="1684"/>
                </a:lnTo>
                <a:lnTo>
                  <a:pt x="1433" y="1690"/>
                </a:lnTo>
                <a:lnTo>
                  <a:pt x="1426" y="1690"/>
                </a:lnTo>
                <a:lnTo>
                  <a:pt x="1426" y="1697"/>
                </a:lnTo>
                <a:lnTo>
                  <a:pt x="1426" y="1704"/>
                </a:lnTo>
                <a:lnTo>
                  <a:pt x="1426" y="1711"/>
                </a:lnTo>
                <a:lnTo>
                  <a:pt x="1426" y="1718"/>
                </a:lnTo>
                <a:lnTo>
                  <a:pt x="1419" y="1725"/>
                </a:lnTo>
                <a:lnTo>
                  <a:pt x="1412" y="1718"/>
                </a:lnTo>
                <a:lnTo>
                  <a:pt x="1405" y="1711"/>
                </a:lnTo>
                <a:lnTo>
                  <a:pt x="1399" y="1704"/>
                </a:lnTo>
                <a:lnTo>
                  <a:pt x="1399" y="1697"/>
                </a:lnTo>
                <a:lnTo>
                  <a:pt x="1392" y="1690"/>
                </a:lnTo>
                <a:lnTo>
                  <a:pt x="1392" y="1690"/>
                </a:lnTo>
                <a:lnTo>
                  <a:pt x="1385" y="1690"/>
                </a:lnTo>
                <a:lnTo>
                  <a:pt x="1378" y="1697"/>
                </a:lnTo>
                <a:lnTo>
                  <a:pt x="1364" y="1697"/>
                </a:lnTo>
                <a:lnTo>
                  <a:pt x="1357" y="1704"/>
                </a:lnTo>
                <a:lnTo>
                  <a:pt x="1351" y="1704"/>
                </a:lnTo>
                <a:lnTo>
                  <a:pt x="1337" y="1711"/>
                </a:lnTo>
                <a:lnTo>
                  <a:pt x="1330" y="1711"/>
                </a:lnTo>
                <a:lnTo>
                  <a:pt x="1323" y="1711"/>
                </a:lnTo>
                <a:lnTo>
                  <a:pt x="1316" y="1718"/>
                </a:lnTo>
                <a:lnTo>
                  <a:pt x="1303" y="1718"/>
                </a:lnTo>
                <a:lnTo>
                  <a:pt x="1296" y="1725"/>
                </a:lnTo>
                <a:lnTo>
                  <a:pt x="1289" y="1725"/>
                </a:lnTo>
                <a:lnTo>
                  <a:pt x="1282" y="1725"/>
                </a:lnTo>
                <a:lnTo>
                  <a:pt x="1268" y="1731"/>
                </a:lnTo>
                <a:lnTo>
                  <a:pt x="1261" y="1731"/>
                </a:lnTo>
                <a:lnTo>
                  <a:pt x="1255" y="1738"/>
                </a:lnTo>
                <a:lnTo>
                  <a:pt x="1248" y="1738"/>
                </a:lnTo>
                <a:lnTo>
                  <a:pt x="1248" y="1745"/>
                </a:lnTo>
                <a:lnTo>
                  <a:pt x="1241" y="1752"/>
                </a:lnTo>
                <a:lnTo>
                  <a:pt x="1241" y="1759"/>
                </a:lnTo>
                <a:lnTo>
                  <a:pt x="1241" y="1766"/>
                </a:lnTo>
                <a:lnTo>
                  <a:pt x="1241" y="1773"/>
                </a:lnTo>
                <a:lnTo>
                  <a:pt x="1241" y="1779"/>
                </a:lnTo>
                <a:lnTo>
                  <a:pt x="1241" y="1786"/>
                </a:lnTo>
                <a:lnTo>
                  <a:pt x="1241" y="1793"/>
                </a:lnTo>
                <a:lnTo>
                  <a:pt x="1241" y="1800"/>
                </a:lnTo>
                <a:lnTo>
                  <a:pt x="1241" y="1800"/>
                </a:lnTo>
                <a:lnTo>
                  <a:pt x="1248" y="1800"/>
                </a:lnTo>
                <a:lnTo>
                  <a:pt x="1275" y="1800"/>
                </a:lnTo>
                <a:lnTo>
                  <a:pt x="1282" y="1800"/>
                </a:lnTo>
                <a:close/>
                <a:moveTo>
                  <a:pt x="1357" y="1800"/>
                </a:moveTo>
                <a:lnTo>
                  <a:pt x="1351" y="1800"/>
                </a:lnTo>
                <a:lnTo>
                  <a:pt x="1344" y="1793"/>
                </a:lnTo>
                <a:lnTo>
                  <a:pt x="1344" y="1793"/>
                </a:lnTo>
                <a:lnTo>
                  <a:pt x="1337" y="1793"/>
                </a:lnTo>
                <a:lnTo>
                  <a:pt x="1330" y="1793"/>
                </a:lnTo>
                <a:lnTo>
                  <a:pt x="1330" y="1793"/>
                </a:lnTo>
                <a:lnTo>
                  <a:pt x="1323" y="1800"/>
                </a:lnTo>
                <a:lnTo>
                  <a:pt x="1323" y="1800"/>
                </a:lnTo>
                <a:lnTo>
                  <a:pt x="1330" y="1800"/>
                </a:lnTo>
                <a:lnTo>
                  <a:pt x="1357" y="1800"/>
                </a:lnTo>
                <a:close/>
                <a:moveTo>
                  <a:pt x="1488" y="1684"/>
                </a:moveTo>
                <a:lnTo>
                  <a:pt x="1495" y="1684"/>
                </a:lnTo>
                <a:lnTo>
                  <a:pt x="1501" y="1677"/>
                </a:lnTo>
                <a:lnTo>
                  <a:pt x="1501" y="1677"/>
                </a:lnTo>
                <a:lnTo>
                  <a:pt x="1508" y="1677"/>
                </a:lnTo>
                <a:lnTo>
                  <a:pt x="1508" y="1677"/>
                </a:lnTo>
                <a:lnTo>
                  <a:pt x="1515" y="1684"/>
                </a:lnTo>
                <a:lnTo>
                  <a:pt x="1515" y="1684"/>
                </a:lnTo>
                <a:lnTo>
                  <a:pt x="1515" y="1690"/>
                </a:lnTo>
                <a:lnTo>
                  <a:pt x="1508" y="1690"/>
                </a:lnTo>
                <a:lnTo>
                  <a:pt x="1508" y="1690"/>
                </a:lnTo>
                <a:lnTo>
                  <a:pt x="1501" y="1697"/>
                </a:lnTo>
                <a:lnTo>
                  <a:pt x="1501" y="1690"/>
                </a:lnTo>
                <a:lnTo>
                  <a:pt x="1495" y="1690"/>
                </a:lnTo>
                <a:lnTo>
                  <a:pt x="1488" y="1684"/>
                </a:lnTo>
                <a:close/>
                <a:moveTo>
                  <a:pt x="1666" y="1513"/>
                </a:moveTo>
                <a:lnTo>
                  <a:pt x="1659" y="1506"/>
                </a:lnTo>
                <a:lnTo>
                  <a:pt x="1652" y="1499"/>
                </a:lnTo>
                <a:lnTo>
                  <a:pt x="1652" y="1499"/>
                </a:lnTo>
                <a:lnTo>
                  <a:pt x="1639" y="1499"/>
                </a:lnTo>
                <a:lnTo>
                  <a:pt x="1632" y="1506"/>
                </a:lnTo>
                <a:lnTo>
                  <a:pt x="1625" y="1506"/>
                </a:lnTo>
                <a:lnTo>
                  <a:pt x="1625" y="1513"/>
                </a:lnTo>
                <a:lnTo>
                  <a:pt x="1632" y="1519"/>
                </a:lnTo>
                <a:lnTo>
                  <a:pt x="1639" y="1526"/>
                </a:lnTo>
                <a:lnTo>
                  <a:pt x="1645" y="1526"/>
                </a:lnTo>
                <a:lnTo>
                  <a:pt x="1652" y="1526"/>
                </a:lnTo>
                <a:lnTo>
                  <a:pt x="1659" y="1526"/>
                </a:lnTo>
                <a:lnTo>
                  <a:pt x="1659" y="1519"/>
                </a:lnTo>
                <a:lnTo>
                  <a:pt x="1666" y="1513"/>
                </a:lnTo>
                <a:close/>
                <a:moveTo>
                  <a:pt x="1858" y="1451"/>
                </a:moveTo>
                <a:lnTo>
                  <a:pt x="1865" y="1444"/>
                </a:lnTo>
                <a:lnTo>
                  <a:pt x="1872" y="1437"/>
                </a:lnTo>
                <a:lnTo>
                  <a:pt x="1872" y="1437"/>
                </a:lnTo>
                <a:lnTo>
                  <a:pt x="1879" y="1437"/>
                </a:lnTo>
                <a:lnTo>
                  <a:pt x="1885" y="1437"/>
                </a:lnTo>
                <a:lnTo>
                  <a:pt x="1892" y="1444"/>
                </a:lnTo>
                <a:lnTo>
                  <a:pt x="1899" y="1444"/>
                </a:lnTo>
                <a:lnTo>
                  <a:pt x="1906" y="1451"/>
                </a:lnTo>
                <a:lnTo>
                  <a:pt x="1899" y="1458"/>
                </a:lnTo>
                <a:lnTo>
                  <a:pt x="1892" y="1458"/>
                </a:lnTo>
                <a:lnTo>
                  <a:pt x="1885" y="1465"/>
                </a:lnTo>
                <a:lnTo>
                  <a:pt x="1872" y="1465"/>
                </a:lnTo>
                <a:lnTo>
                  <a:pt x="1865" y="1458"/>
                </a:lnTo>
                <a:lnTo>
                  <a:pt x="1858" y="1451"/>
                </a:lnTo>
                <a:close/>
                <a:moveTo>
                  <a:pt x="2598" y="1252"/>
                </a:moveTo>
                <a:lnTo>
                  <a:pt x="2598" y="1246"/>
                </a:lnTo>
                <a:lnTo>
                  <a:pt x="2605" y="1246"/>
                </a:lnTo>
                <a:lnTo>
                  <a:pt x="2612" y="1246"/>
                </a:lnTo>
                <a:lnTo>
                  <a:pt x="2612" y="1246"/>
                </a:lnTo>
                <a:lnTo>
                  <a:pt x="2612" y="1252"/>
                </a:lnTo>
                <a:lnTo>
                  <a:pt x="2612" y="1259"/>
                </a:lnTo>
                <a:lnTo>
                  <a:pt x="2612" y="1259"/>
                </a:lnTo>
                <a:lnTo>
                  <a:pt x="2612" y="1266"/>
                </a:lnTo>
                <a:lnTo>
                  <a:pt x="2605" y="1266"/>
                </a:lnTo>
                <a:lnTo>
                  <a:pt x="2605" y="1266"/>
                </a:lnTo>
                <a:lnTo>
                  <a:pt x="2605" y="1266"/>
                </a:lnTo>
                <a:lnTo>
                  <a:pt x="2598" y="1259"/>
                </a:lnTo>
                <a:lnTo>
                  <a:pt x="2598" y="1259"/>
                </a:lnTo>
                <a:lnTo>
                  <a:pt x="2598" y="1252"/>
                </a:lnTo>
                <a:close/>
                <a:moveTo>
                  <a:pt x="1707" y="1218"/>
                </a:moveTo>
                <a:lnTo>
                  <a:pt x="1707" y="1218"/>
                </a:lnTo>
                <a:lnTo>
                  <a:pt x="1707" y="1218"/>
                </a:lnTo>
                <a:lnTo>
                  <a:pt x="1707" y="1218"/>
                </a:lnTo>
                <a:lnTo>
                  <a:pt x="1707" y="1218"/>
                </a:lnTo>
                <a:lnTo>
                  <a:pt x="1707" y="1218"/>
                </a:lnTo>
                <a:lnTo>
                  <a:pt x="1707" y="1218"/>
                </a:lnTo>
                <a:lnTo>
                  <a:pt x="1707" y="1218"/>
                </a:lnTo>
                <a:lnTo>
                  <a:pt x="1707" y="1225"/>
                </a:lnTo>
                <a:lnTo>
                  <a:pt x="1707" y="1225"/>
                </a:lnTo>
                <a:lnTo>
                  <a:pt x="1707" y="1225"/>
                </a:lnTo>
                <a:lnTo>
                  <a:pt x="1707" y="1225"/>
                </a:lnTo>
                <a:lnTo>
                  <a:pt x="1707" y="1225"/>
                </a:lnTo>
                <a:lnTo>
                  <a:pt x="1707" y="1225"/>
                </a:lnTo>
                <a:lnTo>
                  <a:pt x="1707" y="1218"/>
                </a:lnTo>
                <a:close/>
                <a:moveTo>
                  <a:pt x="1687" y="1191"/>
                </a:moveTo>
                <a:lnTo>
                  <a:pt x="1687" y="1184"/>
                </a:lnTo>
                <a:lnTo>
                  <a:pt x="1680" y="1184"/>
                </a:lnTo>
                <a:lnTo>
                  <a:pt x="1680" y="1184"/>
                </a:lnTo>
                <a:lnTo>
                  <a:pt x="1673" y="1184"/>
                </a:lnTo>
                <a:lnTo>
                  <a:pt x="1659" y="1184"/>
                </a:lnTo>
                <a:lnTo>
                  <a:pt x="1659" y="1191"/>
                </a:lnTo>
                <a:lnTo>
                  <a:pt x="1652" y="1191"/>
                </a:lnTo>
                <a:lnTo>
                  <a:pt x="1659" y="1198"/>
                </a:lnTo>
                <a:lnTo>
                  <a:pt x="1666" y="1205"/>
                </a:lnTo>
                <a:lnTo>
                  <a:pt x="1673" y="1205"/>
                </a:lnTo>
                <a:lnTo>
                  <a:pt x="1680" y="1205"/>
                </a:lnTo>
                <a:lnTo>
                  <a:pt x="1680" y="1205"/>
                </a:lnTo>
                <a:lnTo>
                  <a:pt x="1687" y="1198"/>
                </a:lnTo>
                <a:lnTo>
                  <a:pt x="1687" y="1191"/>
                </a:lnTo>
                <a:close/>
                <a:moveTo>
                  <a:pt x="1666" y="1164"/>
                </a:moveTo>
                <a:lnTo>
                  <a:pt x="1659" y="1157"/>
                </a:lnTo>
                <a:lnTo>
                  <a:pt x="1659" y="1150"/>
                </a:lnTo>
                <a:lnTo>
                  <a:pt x="1652" y="1143"/>
                </a:lnTo>
                <a:lnTo>
                  <a:pt x="1652" y="1143"/>
                </a:lnTo>
                <a:lnTo>
                  <a:pt x="1645" y="1136"/>
                </a:lnTo>
                <a:lnTo>
                  <a:pt x="1639" y="1129"/>
                </a:lnTo>
                <a:lnTo>
                  <a:pt x="1639" y="1122"/>
                </a:lnTo>
                <a:lnTo>
                  <a:pt x="1632" y="1116"/>
                </a:lnTo>
                <a:lnTo>
                  <a:pt x="1632" y="1109"/>
                </a:lnTo>
                <a:lnTo>
                  <a:pt x="1625" y="1102"/>
                </a:lnTo>
                <a:lnTo>
                  <a:pt x="1625" y="1102"/>
                </a:lnTo>
                <a:lnTo>
                  <a:pt x="1618" y="1095"/>
                </a:lnTo>
                <a:lnTo>
                  <a:pt x="1611" y="1088"/>
                </a:lnTo>
                <a:lnTo>
                  <a:pt x="1611" y="1081"/>
                </a:lnTo>
                <a:lnTo>
                  <a:pt x="1604" y="1075"/>
                </a:lnTo>
                <a:lnTo>
                  <a:pt x="1604" y="1068"/>
                </a:lnTo>
                <a:lnTo>
                  <a:pt x="1597" y="1068"/>
                </a:lnTo>
                <a:lnTo>
                  <a:pt x="1597" y="1061"/>
                </a:lnTo>
                <a:lnTo>
                  <a:pt x="1591" y="1054"/>
                </a:lnTo>
                <a:lnTo>
                  <a:pt x="1584" y="1047"/>
                </a:lnTo>
                <a:lnTo>
                  <a:pt x="1584" y="1040"/>
                </a:lnTo>
                <a:lnTo>
                  <a:pt x="1577" y="1034"/>
                </a:lnTo>
                <a:lnTo>
                  <a:pt x="1577" y="1027"/>
                </a:lnTo>
                <a:lnTo>
                  <a:pt x="1570" y="1027"/>
                </a:lnTo>
                <a:lnTo>
                  <a:pt x="1570" y="1020"/>
                </a:lnTo>
                <a:lnTo>
                  <a:pt x="1563" y="1013"/>
                </a:lnTo>
                <a:lnTo>
                  <a:pt x="1556" y="1006"/>
                </a:lnTo>
                <a:lnTo>
                  <a:pt x="1543" y="1006"/>
                </a:lnTo>
                <a:lnTo>
                  <a:pt x="1536" y="1006"/>
                </a:lnTo>
                <a:lnTo>
                  <a:pt x="1529" y="1013"/>
                </a:lnTo>
                <a:lnTo>
                  <a:pt x="1529" y="1020"/>
                </a:lnTo>
                <a:lnTo>
                  <a:pt x="1522" y="1027"/>
                </a:lnTo>
                <a:lnTo>
                  <a:pt x="1515" y="1034"/>
                </a:lnTo>
                <a:lnTo>
                  <a:pt x="1515" y="1040"/>
                </a:lnTo>
                <a:lnTo>
                  <a:pt x="1508" y="1040"/>
                </a:lnTo>
                <a:lnTo>
                  <a:pt x="1508" y="1047"/>
                </a:lnTo>
                <a:lnTo>
                  <a:pt x="1515" y="1054"/>
                </a:lnTo>
                <a:lnTo>
                  <a:pt x="1522" y="1054"/>
                </a:lnTo>
                <a:lnTo>
                  <a:pt x="1536" y="1061"/>
                </a:lnTo>
                <a:lnTo>
                  <a:pt x="1543" y="1068"/>
                </a:lnTo>
                <a:lnTo>
                  <a:pt x="1543" y="1068"/>
                </a:lnTo>
                <a:lnTo>
                  <a:pt x="1549" y="1075"/>
                </a:lnTo>
                <a:lnTo>
                  <a:pt x="1556" y="1081"/>
                </a:lnTo>
                <a:lnTo>
                  <a:pt x="1563" y="1088"/>
                </a:lnTo>
                <a:lnTo>
                  <a:pt x="1570" y="1088"/>
                </a:lnTo>
                <a:lnTo>
                  <a:pt x="1577" y="1095"/>
                </a:lnTo>
                <a:lnTo>
                  <a:pt x="1577" y="1102"/>
                </a:lnTo>
                <a:lnTo>
                  <a:pt x="1584" y="1109"/>
                </a:lnTo>
                <a:lnTo>
                  <a:pt x="1584" y="1116"/>
                </a:lnTo>
                <a:lnTo>
                  <a:pt x="1591" y="1122"/>
                </a:lnTo>
                <a:lnTo>
                  <a:pt x="1591" y="1122"/>
                </a:lnTo>
                <a:lnTo>
                  <a:pt x="1597" y="1129"/>
                </a:lnTo>
                <a:lnTo>
                  <a:pt x="1604" y="1136"/>
                </a:lnTo>
                <a:lnTo>
                  <a:pt x="1604" y="1143"/>
                </a:lnTo>
                <a:lnTo>
                  <a:pt x="1604" y="1150"/>
                </a:lnTo>
                <a:lnTo>
                  <a:pt x="1604" y="1157"/>
                </a:lnTo>
                <a:lnTo>
                  <a:pt x="1604" y="1164"/>
                </a:lnTo>
                <a:lnTo>
                  <a:pt x="1611" y="1164"/>
                </a:lnTo>
                <a:lnTo>
                  <a:pt x="1618" y="1170"/>
                </a:lnTo>
                <a:lnTo>
                  <a:pt x="1632" y="1170"/>
                </a:lnTo>
                <a:lnTo>
                  <a:pt x="1639" y="1177"/>
                </a:lnTo>
                <a:lnTo>
                  <a:pt x="1645" y="1184"/>
                </a:lnTo>
                <a:lnTo>
                  <a:pt x="1645" y="1191"/>
                </a:lnTo>
                <a:lnTo>
                  <a:pt x="1652" y="1191"/>
                </a:lnTo>
                <a:lnTo>
                  <a:pt x="1659" y="1191"/>
                </a:lnTo>
                <a:lnTo>
                  <a:pt x="1659" y="1184"/>
                </a:lnTo>
                <a:lnTo>
                  <a:pt x="1666" y="1170"/>
                </a:lnTo>
                <a:lnTo>
                  <a:pt x="1666" y="1164"/>
                </a:lnTo>
                <a:close/>
                <a:moveTo>
                  <a:pt x="1577" y="1136"/>
                </a:moveTo>
                <a:lnTo>
                  <a:pt x="1570" y="1129"/>
                </a:lnTo>
                <a:lnTo>
                  <a:pt x="1570" y="1129"/>
                </a:lnTo>
                <a:lnTo>
                  <a:pt x="1563" y="1129"/>
                </a:lnTo>
                <a:lnTo>
                  <a:pt x="1556" y="1129"/>
                </a:lnTo>
                <a:lnTo>
                  <a:pt x="1549" y="1136"/>
                </a:lnTo>
                <a:lnTo>
                  <a:pt x="1549" y="1136"/>
                </a:lnTo>
                <a:lnTo>
                  <a:pt x="1549" y="1143"/>
                </a:lnTo>
                <a:lnTo>
                  <a:pt x="1556" y="1143"/>
                </a:lnTo>
                <a:lnTo>
                  <a:pt x="1563" y="1150"/>
                </a:lnTo>
                <a:lnTo>
                  <a:pt x="1563" y="1150"/>
                </a:lnTo>
                <a:lnTo>
                  <a:pt x="1570" y="1150"/>
                </a:lnTo>
                <a:lnTo>
                  <a:pt x="1570" y="1143"/>
                </a:lnTo>
                <a:lnTo>
                  <a:pt x="1577" y="1143"/>
                </a:lnTo>
                <a:lnTo>
                  <a:pt x="1577" y="1136"/>
                </a:lnTo>
                <a:close/>
                <a:moveTo>
                  <a:pt x="1543" y="1102"/>
                </a:moveTo>
                <a:lnTo>
                  <a:pt x="1543" y="1102"/>
                </a:lnTo>
                <a:lnTo>
                  <a:pt x="1536" y="1095"/>
                </a:lnTo>
                <a:lnTo>
                  <a:pt x="1529" y="1095"/>
                </a:lnTo>
                <a:lnTo>
                  <a:pt x="1522" y="1102"/>
                </a:lnTo>
                <a:lnTo>
                  <a:pt x="1522" y="1102"/>
                </a:lnTo>
                <a:lnTo>
                  <a:pt x="1522" y="1109"/>
                </a:lnTo>
                <a:lnTo>
                  <a:pt x="1522" y="1116"/>
                </a:lnTo>
                <a:lnTo>
                  <a:pt x="1529" y="1122"/>
                </a:lnTo>
                <a:lnTo>
                  <a:pt x="1529" y="1122"/>
                </a:lnTo>
                <a:lnTo>
                  <a:pt x="1536" y="1122"/>
                </a:lnTo>
                <a:lnTo>
                  <a:pt x="1536" y="1122"/>
                </a:lnTo>
                <a:lnTo>
                  <a:pt x="1543" y="1122"/>
                </a:lnTo>
                <a:lnTo>
                  <a:pt x="1543" y="1116"/>
                </a:lnTo>
                <a:lnTo>
                  <a:pt x="1543" y="1102"/>
                </a:lnTo>
                <a:close/>
                <a:moveTo>
                  <a:pt x="2564" y="931"/>
                </a:moveTo>
                <a:lnTo>
                  <a:pt x="2564" y="924"/>
                </a:lnTo>
                <a:lnTo>
                  <a:pt x="2571" y="924"/>
                </a:lnTo>
                <a:lnTo>
                  <a:pt x="2571" y="924"/>
                </a:lnTo>
                <a:lnTo>
                  <a:pt x="2578" y="917"/>
                </a:lnTo>
                <a:lnTo>
                  <a:pt x="2578" y="924"/>
                </a:lnTo>
                <a:lnTo>
                  <a:pt x="2578" y="924"/>
                </a:lnTo>
                <a:lnTo>
                  <a:pt x="2578" y="924"/>
                </a:lnTo>
                <a:lnTo>
                  <a:pt x="2585" y="931"/>
                </a:lnTo>
                <a:lnTo>
                  <a:pt x="2578" y="931"/>
                </a:lnTo>
                <a:lnTo>
                  <a:pt x="2578" y="938"/>
                </a:lnTo>
                <a:lnTo>
                  <a:pt x="2578" y="938"/>
                </a:lnTo>
                <a:lnTo>
                  <a:pt x="2571" y="938"/>
                </a:lnTo>
                <a:lnTo>
                  <a:pt x="2571" y="931"/>
                </a:lnTo>
                <a:lnTo>
                  <a:pt x="2564" y="931"/>
                </a:lnTo>
                <a:close/>
                <a:moveTo>
                  <a:pt x="2393" y="815"/>
                </a:moveTo>
                <a:lnTo>
                  <a:pt x="2393" y="815"/>
                </a:lnTo>
                <a:lnTo>
                  <a:pt x="2400" y="815"/>
                </a:lnTo>
                <a:lnTo>
                  <a:pt x="2400" y="808"/>
                </a:lnTo>
                <a:lnTo>
                  <a:pt x="2400" y="808"/>
                </a:lnTo>
                <a:lnTo>
                  <a:pt x="2406" y="815"/>
                </a:lnTo>
                <a:lnTo>
                  <a:pt x="2406" y="815"/>
                </a:lnTo>
                <a:lnTo>
                  <a:pt x="2406" y="815"/>
                </a:lnTo>
                <a:lnTo>
                  <a:pt x="2406" y="815"/>
                </a:lnTo>
                <a:lnTo>
                  <a:pt x="2406" y="821"/>
                </a:lnTo>
                <a:lnTo>
                  <a:pt x="2400" y="821"/>
                </a:lnTo>
                <a:lnTo>
                  <a:pt x="2400" y="821"/>
                </a:lnTo>
                <a:lnTo>
                  <a:pt x="2400" y="821"/>
                </a:lnTo>
                <a:lnTo>
                  <a:pt x="2393" y="815"/>
                </a:lnTo>
                <a:lnTo>
                  <a:pt x="2393" y="815"/>
                </a:lnTo>
                <a:close/>
                <a:moveTo>
                  <a:pt x="322" y="698"/>
                </a:moveTo>
                <a:lnTo>
                  <a:pt x="322" y="691"/>
                </a:lnTo>
                <a:lnTo>
                  <a:pt x="329" y="685"/>
                </a:lnTo>
                <a:lnTo>
                  <a:pt x="329" y="678"/>
                </a:lnTo>
                <a:lnTo>
                  <a:pt x="336" y="678"/>
                </a:lnTo>
                <a:lnTo>
                  <a:pt x="336" y="671"/>
                </a:lnTo>
                <a:lnTo>
                  <a:pt x="336" y="664"/>
                </a:lnTo>
                <a:lnTo>
                  <a:pt x="343" y="657"/>
                </a:lnTo>
                <a:lnTo>
                  <a:pt x="343" y="650"/>
                </a:lnTo>
                <a:lnTo>
                  <a:pt x="350" y="643"/>
                </a:lnTo>
                <a:lnTo>
                  <a:pt x="356" y="643"/>
                </a:lnTo>
                <a:lnTo>
                  <a:pt x="370" y="643"/>
                </a:lnTo>
                <a:lnTo>
                  <a:pt x="384" y="643"/>
                </a:lnTo>
                <a:lnTo>
                  <a:pt x="391" y="650"/>
                </a:lnTo>
                <a:lnTo>
                  <a:pt x="398" y="650"/>
                </a:lnTo>
                <a:lnTo>
                  <a:pt x="404" y="650"/>
                </a:lnTo>
                <a:lnTo>
                  <a:pt x="418" y="657"/>
                </a:lnTo>
                <a:lnTo>
                  <a:pt x="425" y="664"/>
                </a:lnTo>
                <a:lnTo>
                  <a:pt x="425" y="664"/>
                </a:lnTo>
                <a:lnTo>
                  <a:pt x="432" y="671"/>
                </a:lnTo>
                <a:lnTo>
                  <a:pt x="439" y="678"/>
                </a:lnTo>
                <a:lnTo>
                  <a:pt x="446" y="671"/>
                </a:lnTo>
                <a:lnTo>
                  <a:pt x="452" y="671"/>
                </a:lnTo>
                <a:lnTo>
                  <a:pt x="459" y="664"/>
                </a:lnTo>
                <a:lnTo>
                  <a:pt x="473" y="664"/>
                </a:lnTo>
                <a:lnTo>
                  <a:pt x="480" y="664"/>
                </a:lnTo>
                <a:lnTo>
                  <a:pt x="487" y="657"/>
                </a:lnTo>
                <a:lnTo>
                  <a:pt x="494" y="657"/>
                </a:lnTo>
                <a:lnTo>
                  <a:pt x="500" y="650"/>
                </a:lnTo>
                <a:lnTo>
                  <a:pt x="500" y="643"/>
                </a:lnTo>
                <a:lnTo>
                  <a:pt x="500" y="637"/>
                </a:lnTo>
                <a:lnTo>
                  <a:pt x="500" y="630"/>
                </a:lnTo>
                <a:lnTo>
                  <a:pt x="507" y="623"/>
                </a:lnTo>
                <a:lnTo>
                  <a:pt x="507" y="616"/>
                </a:lnTo>
                <a:lnTo>
                  <a:pt x="507" y="609"/>
                </a:lnTo>
                <a:lnTo>
                  <a:pt x="514" y="602"/>
                </a:lnTo>
                <a:lnTo>
                  <a:pt x="514" y="596"/>
                </a:lnTo>
                <a:lnTo>
                  <a:pt x="514" y="589"/>
                </a:lnTo>
                <a:lnTo>
                  <a:pt x="521" y="589"/>
                </a:lnTo>
                <a:lnTo>
                  <a:pt x="521" y="582"/>
                </a:lnTo>
                <a:lnTo>
                  <a:pt x="528" y="575"/>
                </a:lnTo>
                <a:lnTo>
                  <a:pt x="542" y="575"/>
                </a:lnTo>
                <a:lnTo>
                  <a:pt x="555" y="575"/>
                </a:lnTo>
                <a:lnTo>
                  <a:pt x="562" y="575"/>
                </a:lnTo>
                <a:lnTo>
                  <a:pt x="569" y="568"/>
                </a:lnTo>
                <a:lnTo>
                  <a:pt x="576" y="561"/>
                </a:lnTo>
                <a:lnTo>
                  <a:pt x="583" y="561"/>
                </a:lnTo>
                <a:lnTo>
                  <a:pt x="583" y="555"/>
                </a:lnTo>
                <a:lnTo>
                  <a:pt x="590" y="548"/>
                </a:lnTo>
                <a:lnTo>
                  <a:pt x="590" y="541"/>
                </a:lnTo>
                <a:lnTo>
                  <a:pt x="596" y="534"/>
                </a:lnTo>
                <a:lnTo>
                  <a:pt x="596" y="527"/>
                </a:lnTo>
                <a:lnTo>
                  <a:pt x="596" y="520"/>
                </a:lnTo>
                <a:lnTo>
                  <a:pt x="596" y="513"/>
                </a:lnTo>
                <a:lnTo>
                  <a:pt x="596" y="507"/>
                </a:lnTo>
                <a:lnTo>
                  <a:pt x="596" y="500"/>
                </a:lnTo>
                <a:lnTo>
                  <a:pt x="603" y="500"/>
                </a:lnTo>
                <a:lnTo>
                  <a:pt x="603" y="493"/>
                </a:lnTo>
                <a:lnTo>
                  <a:pt x="603" y="486"/>
                </a:lnTo>
                <a:lnTo>
                  <a:pt x="610" y="479"/>
                </a:lnTo>
                <a:lnTo>
                  <a:pt x="610" y="472"/>
                </a:lnTo>
                <a:lnTo>
                  <a:pt x="610" y="466"/>
                </a:lnTo>
                <a:lnTo>
                  <a:pt x="617" y="459"/>
                </a:lnTo>
                <a:lnTo>
                  <a:pt x="617" y="452"/>
                </a:lnTo>
                <a:lnTo>
                  <a:pt x="617" y="445"/>
                </a:lnTo>
                <a:lnTo>
                  <a:pt x="624" y="438"/>
                </a:lnTo>
                <a:lnTo>
                  <a:pt x="624" y="438"/>
                </a:lnTo>
                <a:lnTo>
                  <a:pt x="631" y="431"/>
                </a:lnTo>
                <a:lnTo>
                  <a:pt x="631" y="425"/>
                </a:lnTo>
                <a:lnTo>
                  <a:pt x="638" y="418"/>
                </a:lnTo>
                <a:lnTo>
                  <a:pt x="638" y="411"/>
                </a:lnTo>
                <a:lnTo>
                  <a:pt x="638" y="404"/>
                </a:lnTo>
                <a:lnTo>
                  <a:pt x="644" y="397"/>
                </a:lnTo>
                <a:lnTo>
                  <a:pt x="644" y="390"/>
                </a:lnTo>
                <a:lnTo>
                  <a:pt x="644" y="383"/>
                </a:lnTo>
                <a:lnTo>
                  <a:pt x="644" y="383"/>
                </a:lnTo>
                <a:lnTo>
                  <a:pt x="651" y="377"/>
                </a:lnTo>
                <a:lnTo>
                  <a:pt x="651" y="370"/>
                </a:lnTo>
                <a:lnTo>
                  <a:pt x="658" y="363"/>
                </a:lnTo>
                <a:lnTo>
                  <a:pt x="658" y="356"/>
                </a:lnTo>
                <a:lnTo>
                  <a:pt x="658" y="349"/>
                </a:lnTo>
                <a:lnTo>
                  <a:pt x="665" y="342"/>
                </a:lnTo>
                <a:lnTo>
                  <a:pt x="665" y="336"/>
                </a:lnTo>
                <a:lnTo>
                  <a:pt x="672" y="329"/>
                </a:lnTo>
                <a:lnTo>
                  <a:pt x="672" y="329"/>
                </a:lnTo>
                <a:lnTo>
                  <a:pt x="679" y="322"/>
                </a:lnTo>
                <a:lnTo>
                  <a:pt x="679" y="315"/>
                </a:lnTo>
                <a:lnTo>
                  <a:pt x="679" y="308"/>
                </a:lnTo>
                <a:lnTo>
                  <a:pt x="686" y="301"/>
                </a:lnTo>
                <a:lnTo>
                  <a:pt x="686" y="295"/>
                </a:lnTo>
                <a:lnTo>
                  <a:pt x="686" y="288"/>
                </a:lnTo>
                <a:lnTo>
                  <a:pt x="686" y="281"/>
                </a:lnTo>
                <a:lnTo>
                  <a:pt x="692" y="274"/>
                </a:lnTo>
                <a:lnTo>
                  <a:pt x="692" y="267"/>
                </a:lnTo>
                <a:lnTo>
                  <a:pt x="699" y="267"/>
                </a:lnTo>
                <a:lnTo>
                  <a:pt x="706" y="260"/>
                </a:lnTo>
                <a:lnTo>
                  <a:pt x="713" y="253"/>
                </a:lnTo>
                <a:lnTo>
                  <a:pt x="713" y="247"/>
                </a:lnTo>
                <a:lnTo>
                  <a:pt x="720" y="240"/>
                </a:lnTo>
                <a:lnTo>
                  <a:pt x="720" y="233"/>
                </a:lnTo>
                <a:lnTo>
                  <a:pt x="720" y="226"/>
                </a:lnTo>
                <a:lnTo>
                  <a:pt x="720" y="219"/>
                </a:lnTo>
                <a:lnTo>
                  <a:pt x="727" y="219"/>
                </a:lnTo>
                <a:lnTo>
                  <a:pt x="727" y="212"/>
                </a:lnTo>
                <a:lnTo>
                  <a:pt x="734" y="206"/>
                </a:lnTo>
                <a:lnTo>
                  <a:pt x="740" y="206"/>
                </a:lnTo>
                <a:lnTo>
                  <a:pt x="747" y="199"/>
                </a:lnTo>
                <a:lnTo>
                  <a:pt x="754" y="192"/>
                </a:lnTo>
                <a:lnTo>
                  <a:pt x="761" y="185"/>
                </a:lnTo>
                <a:lnTo>
                  <a:pt x="768" y="185"/>
                </a:lnTo>
                <a:lnTo>
                  <a:pt x="775" y="178"/>
                </a:lnTo>
                <a:lnTo>
                  <a:pt x="782" y="171"/>
                </a:lnTo>
                <a:lnTo>
                  <a:pt x="788" y="171"/>
                </a:lnTo>
                <a:lnTo>
                  <a:pt x="802" y="165"/>
                </a:lnTo>
                <a:lnTo>
                  <a:pt x="809" y="165"/>
                </a:lnTo>
                <a:lnTo>
                  <a:pt x="816" y="171"/>
                </a:lnTo>
                <a:lnTo>
                  <a:pt x="816" y="178"/>
                </a:lnTo>
                <a:lnTo>
                  <a:pt x="823" y="185"/>
                </a:lnTo>
                <a:lnTo>
                  <a:pt x="830" y="185"/>
                </a:lnTo>
                <a:lnTo>
                  <a:pt x="836" y="192"/>
                </a:lnTo>
                <a:lnTo>
                  <a:pt x="843" y="199"/>
                </a:lnTo>
                <a:lnTo>
                  <a:pt x="850" y="199"/>
                </a:lnTo>
                <a:lnTo>
                  <a:pt x="857" y="206"/>
                </a:lnTo>
                <a:lnTo>
                  <a:pt x="864" y="212"/>
                </a:lnTo>
                <a:lnTo>
                  <a:pt x="864" y="219"/>
                </a:lnTo>
                <a:lnTo>
                  <a:pt x="871" y="219"/>
                </a:lnTo>
                <a:lnTo>
                  <a:pt x="878" y="226"/>
                </a:lnTo>
                <a:lnTo>
                  <a:pt x="884" y="233"/>
                </a:lnTo>
                <a:lnTo>
                  <a:pt x="884" y="240"/>
                </a:lnTo>
                <a:lnTo>
                  <a:pt x="891" y="247"/>
                </a:lnTo>
                <a:lnTo>
                  <a:pt x="891" y="253"/>
                </a:lnTo>
                <a:lnTo>
                  <a:pt x="898" y="253"/>
                </a:lnTo>
                <a:lnTo>
                  <a:pt x="905" y="253"/>
                </a:lnTo>
                <a:lnTo>
                  <a:pt x="912" y="247"/>
                </a:lnTo>
                <a:lnTo>
                  <a:pt x="919" y="240"/>
                </a:lnTo>
                <a:lnTo>
                  <a:pt x="932" y="240"/>
                </a:lnTo>
                <a:lnTo>
                  <a:pt x="939" y="233"/>
                </a:lnTo>
                <a:lnTo>
                  <a:pt x="946" y="233"/>
                </a:lnTo>
                <a:lnTo>
                  <a:pt x="946" y="226"/>
                </a:lnTo>
                <a:lnTo>
                  <a:pt x="953" y="219"/>
                </a:lnTo>
                <a:lnTo>
                  <a:pt x="960" y="212"/>
                </a:lnTo>
                <a:lnTo>
                  <a:pt x="974" y="212"/>
                </a:lnTo>
                <a:lnTo>
                  <a:pt x="980" y="212"/>
                </a:lnTo>
                <a:lnTo>
                  <a:pt x="987" y="206"/>
                </a:lnTo>
                <a:lnTo>
                  <a:pt x="994" y="199"/>
                </a:lnTo>
                <a:lnTo>
                  <a:pt x="994" y="192"/>
                </a:lnTo>
                <a:lnTo>
                  <a:pt x="994" y="185"/>
                </a:lnTo>
                <a:lnTo>
                  <a:pt x="994" y="178"/>
                </a:lnTo>
                <a:lnTo>
                  <a:pt x="987" y="178"/>
                </a:lnTo>
                <a:lnTo>
                  <a:pt x="980" y="171"/>
                </a:lnTo>
                <a:lnTo>
                  <a:pt x="967" y="171"/>
                </a:lnTo>
                <a:lnTo>
                  <a:pt x="960" y="171"/>
                </a:lnTo>
                <a:lnTo>
                  <a:pt x="953" y="165"/>
                </a:lnTo>
                <a:lnTo>
                  <a:pt x="953" y="158"/>
                </a:lnTo>
                <a:lnTo>
                  <a:pt x="946" y="151"/>
                </a:lnTo>
                <a:lnTo>
                  <a:pt x="946" y="144"/>
                </a:lnTo>
                <a:lnTo>
                  <a:pt x="939" y="137"/>
                </a:lnTo>
                <a:lnTo>
                  <a:pt x="939" y="130"/>
                </a:lnTo>
                <a:lnTo>
                  <a:pt x="932" y="123"/>
                </a:lnTo>
                <a:lnTo>
                  <a:pt x="932" y="123"/>
                </a:lnTo>
                <a:lnTo>
                  <a:pt x="932" y="117"/>
                </a:lnTo>
                <a:lnTo>
                  <a:pt x="939" y="110"/>
                </a:lnTo>
                <a:lnTo>
                  <a:pt x="946" y="103"/>
                </a:lnTo>
                <a:lnTo>
                  <a:pt x="953" y="103"/>
                </a:lnTo>
                <a:lnTo>
                  <a:pt x="960" y="96"/>
                </a:lnTo>
                <a:lnTo>
                  <a:pt x="967" y="96"/>
                </a:lnTo>
                <a:lnTo>
                  <a:pt x="974" y="89"/>
                </a:lnTo>
                <a:lnTo>
                  <a:pt x="980" y="82"/>
                </a:lnTo>
                <a:lnTo>
                  <a:pt x="974" y="76"/>
                </a:lnTo>
                <a:lnTo>
                  <a:pt x="974" y="69"/>
                </a:lnTo>
                <a:lnTo>
                  <a:pt x="967" y="62"/>
                </a:lnTo>
                <a:lnTo>
                  <a:pt x="967" y="55"/>
                </a:lnTo>
                <a:lnTo>
                  <a:pt x="960" y="55"/>
                </a:lnTo>
                <a:lnTo>
                  <a:pt x="953" y="48"/>
                </a:lnTo>
                <a:lnTo>
                  <a:pt x="946" y="41"/>
                </a:lnTo>
                <a:lnTo>
                  <a:pt x="939" y="34"/>
                </a:lnTo>
                <a:lnTo>
                  <a:pt x="932" y="34"/>
                </a:lnTo>
                <a:lnTo>
                  <a:pt x="932" y="28"/>
                </a:lnTo>
                <a:lnTo>
                  <a:pt x="926" y="21"/>
                </a:lnTo>
                <a:lnTo>
                  <a:pt x="919" y="14"/>
                </a:lnTo>
                <a:lnTo>
                  <a:pt x="912" y="14"/>
                </a:lnTo>
                <a:lnTo>
                  <a:pt x="905" y="7"/>
                </a:lnTo>
                <a:lnTo>
                  <a:pt x="898" y="0"/>
                </a:lnTo>
                <a:lnTo>
                  <a:pt x="898" y="0"/>
                </a:lnTo>
                <a:lnTo>
                  <a:pt x="871" y="0"/>
                </a:lnTo>
                <a:lnTo>
                  <a:pt x="843" y="0"/>
                </a:lnTo>
                <a:lnTo>
                  <a:pt x="809" y="0"/>
                </a:lnTo>
                <a:lnTo>
                  <a:pt x="782" y="0"/>
                </a:lnTo>
                <a:lnTo>
                  <a:pt x="754" y="0"/>
                </a:lnTo>
                <a:lnTo>
                  <a:pt x="727" y="0"/>
                </a:lnTo>
                <a:lnTo>
                  <a:pt x="692" y="0"/>
                </a:lnTo>
                <a:lnTo>
                  <a:pt x="665" y="0"/>
                </a:lnTo>
                <a:lnTo>
                  <a:pt x="638" y="28"/>
                </a:lnTo>
                <a:lnTo>
                  <a:pt x="610" y="62"/>
                </a:lnTo>
                <a:lnTo>
                  <a:pt x="583" y="89"/>
                </a:lnTo>
                <a:lnTo>
                  <a:pt x="548" y="117"/>
                </a:lnTo>
                <a:lnTo>
                  <a:pt x="535" y="130"/>
                </a:lnTo>
                <a:lnTo>
                  <a:pt x="535" y="137"/>
                </a:lnTo>
                <a:lnTo>
                  <a:pt x="528" y="144"/>
                </a:lnTo>
                <a:lnTo>
                  <a:pt x="528" y="151"/>
                </a:lnTo>
                <a:lnTo>
                  <a:pt x="521" y="158"/>
                </a:lnTo>
                <a:lnTo>
                  <a:pt x="521" y="165"/>
                </a:lnTo>
                <a:lnTo>
                  <a:pt x="514" y="171"/>
                </a:lnTo>
                <a:lnTo>
                  <a:pt x="514" y="178"/>
                </a:lnTo>
                <a:lnTo>
                  <a:pt x="507" y="185"/>
                </a:lnTo>
                <a:lnTo>
                  <a:pt x="500" y="185"/>
                </a:lnTo>
                <a:lnTo>
                  <a:pt x="500" y="192"/>
                </a:lnTo>
                <a:lnTo>
                  <a:pt x="494" y="199"/>
                </a:lnTo>
                <a:lnTo>
                  <a:pt x="487" y="206"/>
                </a:lnTo>
                <a:lnTo>
                  <a:pt x="480" y="212"/>
                </a:lnTo>
                <a:lnTo>
                  <a:pt x="473" y="219"/>
                </a:lnTo>
                <a:lnTo>
                  <a:pt x="473" y="226"/>
                </a:lnTo>
                <a:lnTo>
                  <a:pt x="466" y="233"/>
                </a:lnTo>
                <a:lnTo>
                  <a:pt x="466" y="240"/>
                </a:lnTo>
                <a:lnTo>
                  <a:pt x="473" y="247"/>
                </a:lnTo>
                <a:lnTo>
                  <a:pt x="480" y="253"/>
                </a:lnTo>
                <a:lnTo>
                  <a:pt x="487" y="260"/>
                </a:lnTo>
                <a:lnTo>
                  <a:pt x="494" y="260"/>
                </a:lnTo>
                <a:lnTo>
                  <a:pt x="500" y="253"/>
                </a:lnTo>
                <a:lnTo>
                  <a:pt x="507" y="247"/>
                </a:lnTo>
                <a:lnTo>
                  <a:pt x="514" y="240"/>
                </a:lnTo>
                <a:lnTo>
                  <a:pt x="514" y="233"/>
                </a:lnTo>
                <a:lnTo>
                  <a:pt x="521" y="226"/>
                </a:lnTo>
                <a:lnTo>
                  <a:pt x="528" y="226"/>
                </a:lnTo>
                <a:lnTo>
                  <a:pt x="528" y="233"/>
                </a:lnTo>
                <a:lnTo>
                  <a:pt x="528" y="240"/>
                </a:lnTo>
                <a:lnTo>
                  <a:pt x="521" y="247"/>
                </a:lnTo>
                <a:lnTo>
                  <a:pt x="507" y="253"/>
                </a:lnTo>
                <a:lnTo>
                  <a:pt x="507" y="260"/>
                </a:lnTo>
                <a:lnTo>
                  <a:pt x="500" y="267"/>
                </a:lnTo>
                <a:lnTo>
                  <a:pt x="500" y="267"/>
                </a:lnTo>
                <a:lnTo>
                  <a:pt x="500" y="274"/>
                </a:lnTo>
                <a:lnTo>
                  <a:pt x="500" y="288"/>
                </a:lnTo>
                <a:lnTo>
                  <a:pt x="494" y="288"/>
                </a:lnTo>
                <a:lnTo>
                  <a:pt x="494" y="295"/>
                </a:lnTo>
                <a:lnTo>
                  <a:pt x="487" y="301"/>
                </a:lnTo>
                <a:lnTo>
                  <a:pt x="487" y="308"/>
                </a:lnTo>
                <a:lnTo>
                  <a:pt x="487" y="315"/>
                </a:lnTo>
                <a:lnTo>
                  <a:pt x="480" y="322"/>
                </a:lnTo>
                <a:lnTo>
                  <a:pt x="480" y="329"/>
                </a:lnTo>
                <a:lnTo>
                  <a:pt x="473" y="336"/>
                </a:lnTo>
                <a:lnTo>
                  <a:pt x="473" y="342"/>
                </a:lnTo>
                <a:lnTo>
                  <a:pt x="466" y="349"/>
                </a:lnTo>
                <a:lnTo>
                  <a:pt x="459" y="356"/>
                </a:lnTo>
                <a:lnTo>
                  <a:pt x="459" y="363"/>
                </a:lnTo>
                <a:lnTo>
                  <a:pt x="459" y="370"/>
                </a:lnTo>
                <a:lnTo>
                  <a:pt x="459" y="377"/>
                </a:lnTo>
                <a:lnTo>
                  <a:pt x="452" y="383"/>
                </a:lnTo>
                <a:lnTo>
                  <a:pt x="446" y="390"/>
                </a:lnTo>
                <a:lnTo>
                  <a:pt x="446" y="397"/>
                </a:lnTo>
                <a:lnTo>
                  <a:pt x="439" y="404"/>
                </a:lnTo>
                <a:lnTo>
                  <a:pt x="439" y="411"/>
                </a:lnTo>
                <a:lnTo>
                  <a:pt x="439" y="418"/>
                </a:lnTo>
                <a:lnTo>
                  <a:pt x="446" y="425"/>
                </a:lnTo>
                <a:lnTo>
                  <a:pt x="452" y="431"/>
                </a:lnTo>
                <a:lnTo>
                  <a:pt x="459" y="438"/>
                </a:lnTo>
                <a:lnTo>
                  <a:pt x="466" y="431"/>
                </a:lnTo>
                <a:lnTo>
                  <a:pt x="473" y="431"/>
                </a:lnTo>
                <a:lnTo>
                  <a:pt x="480" y="425"/>
                </a:lnTo>
                <a:lnTo>
                  <a:pt x="487" y="418"/>
                </a:lnTo>
                <a:lnTo>
                  <a:pt x="494" y="411"/>
                </a:lnTo>
                <a:lnTo>
                  <a:pt x="494" y="411"/>
                </a:lnTo>
                <a:lnTo>
                  <a:pt x="494" y="418"/>
                </a:lnTo>
                <a:lnTo>
                  <a:pt x="500" y="431"/>
                </a:lnTo>
                <a:lnTo>
                  <a:pt x="494" y="438"/>
                </a:lnTo>
                <a:lnTo>
                  <a:pt x="494" y="445"/>
                </a:lnTo>
                <a:lnTo>
                  <a:pt x="494" y="452"/>
                </a:lnTo>
                <a:lnTo>
                  <a:pt x="494" y="459"/>
                </a:lnTo>
                <a:lnTo>
                  <a:pt x="487" y="466"/>
                </a:lnTo>
                <a:lnTo>
                  <a:pt x="480" y="472"/>
                </a:lnTo>
                <a:lnTo>
                  <a:pt x="480" y="479"/>
                </a:lnTo>
                <a:lnTo>
                  <a:pt x="473" y="479"/>
                </a:lnTo>
                <a:lnTo>
                  <a:pt x="473" y="486"/>
                </a:lnTo>
                <a:lnTo>
                  <a:pt x="473" y="500"/>
                </a:lnTo>
                <a:lnTo>
                  <a:pt x="466" y="507"/>
                </a:lnTo>
                <a:lnTo>
                  <a:pt x="466" y="513"/>
                </a:lnTo>
                <a:lnTo>
                  <a:pt x="459" y="513"/>
                </a:lnTo>
                <a:lnTo>
                  <a:pt x="452" y="507"/>
                </a:lnTo>
                <a:lnTo>
                  <a:pt x="446" y="500"/>
                </a:lnTo>
                <a:lnTo>
                  <a:pt x="439" y="493"/>
                </a:lnTo>
                <a:lnTo>
                  <a:pt x="432" y="486"/>
                </a:lnTo>
                <a:lnTo>
                  <a:pt x="432" y="479"/>
                </a:lnTo>
                <a:lnTo>
                  <a:pt x="439" y="472"/>
                </a:lnTo>
                <a:lnTo>
                  <a:pt x="446" y="466"/>
                </a:lnTo>
                <a:lnTo>
                  <a:pt x="446" y="459"/>
                </a:lnTo>
                <a:lnTo>
                  <a:pt x="452" y="459"/>
                </a:lnTo>
                <a:lnTo>
                  <a:pt x="459" y="452"/>
                </a:lnTo>
                <a:lnTo>
                  <a:pt x="459" y="445"/>
                </a:lnTo>
                <a:lnTo>
                  <a:pt x="459" y="438"/>
                </a:lnTo>
                <a:lnTo>
                  <a:pt x="459" y="425"/>
                </a:lnTo>
                <a:lnTo>
                  <a:pt x="452" y="418"/>
                </a:lnTo>
                <a:lnTo>
                  <a:pt x="446" y="411"/>
                </a:lnTo>
                <a:lnTo>
                  <a:pt x="439" y="411"/>
                </a:lnTo>
                <a:lnTo>
                  <a:pt x="432" y="411"/>
                </a:lnTo>
                <a:lnTo>
                  <a:pt x="432" y="418"/>
                </a:lnTo>
                <a:lnTo>
                  <a:pt x="425" y="425"/>
                </a:lnTo>
                <a:lnTo>
                  <a:pt x="425" y="431"/>
                </a:lnTo>
                <a:lnTo>
                  <a:pt x="425" y="445"/>
                </a:lnTo>
                <a:lnTo>
                  <a:pt x="425" y="452"/>
                </a:lnTo>
                <a:lnTo>
                  <a:pt x="418" y="459"/>
                </a:lnTo>
                <a:lnTo>
                  <a:pt x="418" y="466"/>
                </a:lnTo>
                <a:lnTo>
                  <a:pt x="411" y="466"/>
                </a:lnTo>
                <a:lnTo>
                  <a:pt x="398" y="472"/>
                </a:lnTo>
                <a:lnTo>
                  <a:pt x="398" y="479"/>
                </a:lnTo>
                <a:lnTo>
                  <a:pt x="398" y="486"/>
                </a:lnTo>
                <a:lnTo>
                  <a:pt x="391" y="493"/>
                </a:lnTo>
                <a:lnTo>
                  <a:pt x="391" y="500"/>
                </a:lnTo>
                <a:lnTo>
                  <a:pt x="384" y="507"/>
                </a:lnTo>
                <a:lnTo>
                  <a:pt x="384" y="513"/>
                </a:lnTo>
                <a:lnTo>
                  <a:pt x="377" y="513"/>
                </a:lnTo>
                <a:lnTo>
                  <a:pt x="370" y="520"/>
                </a:lnTo>
                <a:lnTo>
                  <a:pt x="356" y="527"/>
                </a:lnTo>
                <a:lnTo>
                  <a:pt x="350" y="527"/>
                </a:lnTo>
                <a:lnTo>
                  <a:pt x="343" y="534"/>
                </a:lnTo>
                <a:lnTo>
                  <a:pt x="336" y="541"/>
                </a:lnTo>
                <a:lnTo>
                  <a:pt x="329" y="548"/>
                </a:lnTo>
                <a:lnTo>
                  <a:pt x="322" y="555"/>
                </a:lnTo>
                <a:lnTo>
                  <a:pt x="315" y="555"/>
                </a:lnTo>
                <a:lnTo>
                  <a:pt x="308" y="548"/>
                </a:lnTo>
                <a:lnTo>
                  <a:pt x="302" y="541"/>
                </a:lnTo>
                <a:lnTo>
                  <a:pt x="295" y="534"/>
                </a:lnTo>
                <a:lnTo>
                  <a:pt x="288" y="527"/>
                </a:lnTo>
                <a:lnTo>
                  <a:pt x="281" y="527"/>
                </a:lnTo>
                <a:lnTo>
                  <a:pt x="267" y="534"/>
                </a:lnTo>
                <a:lnTo>
                  <a:pt x="261" y="541"/>
                </a:lnTo>
                <a:lnTo>
                  <a:pt x="254" y="541"/>
                </a:lnTo>
                <a:lnTo>
                  <a:pt x="254" y="548"/>
                </a:lnTo>
                <a:lnTo>
                  <a:pt x="247" y="555"/>
                </a:lnTo>
                <a:lnTo>
                  <a:pt x="240" y="561"/>
                </a:lnTo>
                <a:lnTo>
                  <a:pt x="233" y="568"/>
                </a:lnTo>
                <a:lnTo>
                  <a:pt x="219" y="568"/>
                </a:lnTo>
                <a:lnTo>
                  <a:pt x="213" y="575"/>
                </a:lnTo>
                <a:lnTo>
                  <a:pt x="206" y="575"/>
                </a:lnTo>
                <a:lnTo>
                  <a:pt x="199" y="582"/>
                </a:lnTo>
                <a:lnTo>
                  <a:pt x="199" y="589"/>
                </a:lnTo>
                <a:lnTo>
                  <a:pt x="192" y="596"/>
                </a:lnTo>
                <a:lnTo>
                  <a:pt x="185" y="602"/>
                </a:lnTo>
                <a:lnTo>
                  <a:pt x="171" y="602"/>
                </a:lnTo>
                <a:lnTo>
                  <a:pt x="165" y="602"/>
                </a:lnTo>
                <a:lnTo>
                  <a:pt x="151" y="596"/>
                </a:lnTo>
                <a:lnTo>
                  <a:pt x="144" y="589"/>
                </a:lnTo>
                <a:lnTo>
                  <a:pt x="144" y="582"/>
                </a:lnTo>
                <a:lnTo>
                  <a:pt x="137" y="582"/>
                </a:lnTo>
                <a:lnTo>
                  <a:pt x="130" y="575"/>
                </a:lnTo>
                <a:lnTo>
                  <a:pt x="117" y="575"/>
                </a:lnTo>
                <a:lnTo>
                  <a:pt x="110" y="575"/>
                </a:lnTo>
                <a:lnTo>
                  <a:pt x="96" y="575"/>
                </a:lnTo>
                <a:lnTo>
                  <a:pt x="89" y="575"/>
                </a:lnTo>
                <a:lnTo>
                  <a:pt x="75" y="568"/>
                </a:lnTo>
                <a:lnTo>
                  <a:pt x="69" y="561"/>
                </a:lnTo>
                <a:lnTo>
                  <a:pt x="69" y="555"/>
                </a:lnTo>
                <a:lnTo>
                  <a:pt x="62" y="548"/>
                </a:lnTo>
                <a:lnTo>
                  <a:pt x="62" y="555"/>
                </a:lnTo>
                <a:lnTo>
                  <a:pt x="55" y="555"/>
                </a:lnTo>
                <a:lnTo>
                  <a:pt x="48" y="555"/>
                </a:lnTo>
                <a:lnTo>
                  <a:pt x="41" y="561"/>
                </a:lnTo>
                <a:lnTo>
                  <a:pt x="34" y="561"/>
                </a:lnTo>
                <a:lnTo>
                  <a:pt x="34" y="568"/>
                </a:lnTo>
                <a:lnTo>
                  <a:pt x="27" y="575"/>
                </a:lnTo>
                <a:lnTo>
                  <a:pt x="21" y="575"/>
                </a:lnTo>
                <a:lnTo>
                  <a:pt x="21" y="582"/>
                </a:lnTo>
                <a:lnTo>
                  <a:pt x="21" y="589"/>
                </a:lnTo>
                <a:lnTo>
                  <a:pt x="21" y="596"/>
                </a:lnTo>
                <a:lnTo>
                  <a:pt x="27" y="596"/>
                </a:lnTo>
                <a:lnTo>
                  <a:pt x="34" y="602"/>
                </a:lnTo>
                <a:lnTo>
                  <a:pt x="41" y="602"/>
                </a:lnTo>
                <a:lnTo>
                  <a:pt x="48" y="609"/>
                </a:lnTo>
                <a:lnTo>
                  <a:pt x="55" y="609"/>
                </a:lnTo>
                <a:lnTo>
                  <a:pt x="62" y="609"/>
                </a:lnTo>
                <a:lnTo>
                  <a:pt x="69" y="616"/>
                </a:lnTo>
                <a:lnTo>
                  <a:pt x="75" y="616"/>
                </a:lnTo>
                <a:lnTo>
                  <a:pt x="82" y="616"/>
                </a:lnTo>
                <a:lnTo>
                  <a:pt x="96" y="616"/>
                </a:lnTo>
                <a:lnTo>
                  <a:pt x="103" y="623"/>
                </a:lnTo>
                <a:lnTo>
                  <a:pt x="110" y="623"/>
                </a:lnTo>
                <a:lnTo>
                  <a:pt x="117" y="623"/>
                </a:lnTo>
                <a:lnTo>
                  <a:pt x="123" y="623"/>
                </a:lnTo>
                <a:lnTo>
                  <a:pt x="130" y="623"/>
                </a:lnTo>
                <a:lnTo>
                  <a:pt x="137" y="630"/>
                </a:lnTo>
                <a:lnTo>
                  <a:pt x="144" y="630"/>
                </a:lnTo>
                <a:lnTo>
                  <a:pt x="151" y="637"/>
                </a:lnTo>
                <a:lnTo>
                  <a:pt x="158" y="637"/>
                </a:lnTo>
                <a:lnTo>
                  <a:pt x="165" y="643"/>
                </a:lnTo>
                <a:lnTo>
                  <a:pt x="171" y="643"/>
                </a:lnTo>
                <a:lnTo>
                  <a:pt x="178" y="643"/>
                </a:lnTo>
                <a:lnTo>
                  <a:pt x="185" y="643"/>
                </a:lnTo>
                <a:lnTo>
                  <a:pt x="192" y="643"/>
                </a:lnTo>
                <a:lnTo>
                  <a:pt x="199" y="643"/>
                </a:lnTo>
                <a:lnTo>
                  <a:pt x="213" y="650"/>
                </a:lnTo>
                <a:lnTo>
                  <a:pt x="219" y="650"/>
                </a:lnTo>
                <a:lnTo>
                  <a:pt x="226" y="650"/>
                </a:lnTo>
                <a:lnTo>
                  <a:pt x="233" y="650"/>
                </a:lnTo>
                <a:lnTo>
                  <a:pt x="240" y="650"/>
                </a:lnTo>
                <a:lnTo>
                  <a:pt x="254" y="643"/>
                </a:lnTo>
                <a:lnTo>
                  <a:pt x="261" y="643"/>
                </a:lnTo>
                <a:lnTo>
                  <a:pt x="267" y="643"/>
                </a:lnTo>
                <a:lnTo>
                  <a:pt x="274" y="650"/>
                </a:lnTo>
                <a:lnTo>
                  <a:pt x="274" y="650"/>
                </a:lnTo>
                <a:lnTo>
                  <a:pt x="281" y="657"/>
                </a:lnTo>
                <a:lnTo>
                  <a:pt x="288" y="664"/>
                </a:lnTo>
                <a:lnTo>
                  <a:pt x="288" y="671"/>
                </a:lnTo>
                <a:lnTo>
                  <a:pt x="288" y="678"/>
                </a:lnTo>
                <a:lnTo>
                  <a:pt x="288" y="678"/>
                </a:lnTo>
                <a:lnTo>
                  <a:pt x="288" y="685"/>
                </a:lnTo>
                <a:lnTo>
                  <a:pt x="288" y="691"/>
                </a:lnTo>
                <a:lnTo>
                  <a:pt x="295" y="691"/>
                </a:lnTo>
                <a:lnTo>
                  <a:pt x="302" y="698"/>
                </a:lnTo>
                <a:lnTo>
                  <a:pt x="308" y="698"/>
                </a:lnTo>
                <a:lnTo>
                  <a:pt x="315" y="698"/>
                </a:lnTo>
                <a:lnTo>
                  <a:pt x="322" y="698"/>
                </a:lnTo>
                <a:close/>
                <a:moveTo>
                  <a:pt x="466" y="698"/>
                </a:moveTo>
                <a:lnTo>
                  <a:pt x="466" y="698"/>
                </a:lnTo>
                <a:lnTo>
                  <a:pt x="466" y="698"/>
                </a:lnTo>
                <a:lnTo>
                  <a:pt x="466" y="691"/>
                </a:lnTo>
                <a:lnTo>
                  <a:pt x="466" y="691"/>
                </a:lnTo>
                <a:lnTo>
                  <a:pt x="466" y="691"/>
                </a:lnTo>
                <a:lnTo>
                  <a:pt x="466" y="691"/>
                </a:lnTo>
                <a:lnTo>
                  <a:pt x="466" y="691"/>
                </a:lnTo>
                <a:lnTo>
                  <a:pt x="459" y="691"/>
                </a:lnTo>
                <a:lnTo>
                  <a:pt x="459" y="698"/>
                </a:lnTo>
                <a:lnTo>
                  <a:pt x="459" y="698"/>
                </a:lnTo>
                <a:lnTo>
                  <a:pt x="459" y="698"/>
                </a:lnTo>
                <a:lnTo>
                  <a:pt x="459" y="698"/>
                </a:lnTo>
                <a:lnTo>
                  <a:pt x="466" y="698"/>
                </a:lnTo>
                <a:lnTo>
                  <a:pt x="466" y="698"/>
                </a:lnTo>
                <a:close/>
                <a:moveTo>
                  <a:pt x="2029" y="671"/>
                </a:moveTo>
                <a:lnTo>
                  <a:pt x="2036" y="664"/>
                </a:lnTo>
                <a:lnTo>
                  <a:pt x="2036" y="657"/>
                </a:lnTo>
                <a:lnTo>
                  <a:pt x="2043" y="650"/>
                </a:lnTo>
                <a:lnTo>
                  <a:pt x="2043" y="650"/>
                </a:lnTo>
                <a:lnTo>
                  <a:pt x="2043" y="643"/>
                </a:lnTo>
                <a:lnTo>
                  <a:pt x="2036" y="637"/>
                </a:lnTo>
                <a:lnTo>
                  <a:pt x="2036" y="630"/>
                </a:lnTo>
                <a:lnTo>
                  <a:pt x="2029" y="623"/>
                </a:lnTo>
                <a:lnTo>
                  <a:pt x="2022" y="623"/>
                </a:lnTo>
                <a:lnTo>
                  <a:pt x="2022" y="630"/>
                </a:lnTo>
                <a:lnTo>
                  <a:pt x="2022" y="637"/>
                </a:lnTo>
                <a:lnTo>
                  <a:pt x="2022" y="643"/>
                </a:lnTo>
                <a:lnTo>
                  <a:pt x="2022" y="650"/>
                </a:lnTo>
                <a:lnTo>
                  <a:pt x="2022" y="650"/>
                </a:lnTo>
                <a:lnTo>
                  <a:pt x="2022" y="657"/>
                </a:lnTo>
                <a:lnTo>
                  <a:pt x="2022" y="664"/>
                </a:lnTo>
                <a:lnTo>
                  <a:pt x="2022" y="671"/>
                </a:lnTo>
                <a:lnTo>
                  <a:pt x="2029" y="678"/>
                </a:lnTo>
                <a:lnTo>
                  <a:pt x="2029" y="678"/>
                </a:lnTo>
                <a:lnTo>
                  <a:pt x="2029" y="671"/>
                </a:lnTo>
                <a:close/>
                <a:moveTo>
                  <a:pt x="21" y="609"/>
                </a:moveTo>
                <a:lnTo>
                  <a:pt x="0" y="602"/>
                </a:lnTo>
                <a:lnTo>
                  <a:pt x="0" y="609"/>
                </a:lnTo>
                <a:lnTo>
                  <a:pt x="0" y="630"/>
                </a:lnTo>
                <a:lnTo>
                  <a:pt x="21" y="609"/>
                </a:lnTo>
                <a:close/>
                <a:moveTo>
                  <a:pt x="1186" y="582"/>
                </a:moveTo>
                <a:lnTo>
                  <a:pt x="1186" y="582"/>
                </a:lnTo>
                <a:lnTo>
                  <a:pt x="1186" y="582"/>
                </a:lnTo>
                <a:lnTo>
                  <a:pt x="1186" y="582"/>
                </a:lnTo>
                <a:lnTo>
                  <a:pt x="1186" y="582"/>
                </a:lnTo>
                <a:lnTo>
                  <a:pt x="1186" y="582"/>
                </a:lnTo>
                <a:lnTo>
                  <a:pt x="1186" y="582"/>
                </a:lnTo>
                <a:lnTo>
                  <a:pt x="1186" y="582"/>
                </a:lnTo>
                <a:lnTo>
                  <a:pt x="1186" y="582"/>
                </a:lnTo>
                <a:lnTo>
                  <a:pt x="1186" y="582"/>
                </a:lnTo>
                <a:lnTo>
                  <a:pt x="1186" y="582"/>
                </a:lnTo>
                <a:lnTo>
                  <a:pt x="1186" y="582"/>
                </a:lnTo>
                <a:lnTo>
                  <a:pt x="1186" y="582"/>
                </a:lnTo>
                <a:lnTo>
                  <a:pt x="1186" y="582"/>
                </a:lnTo>
                <a:lnTo>
                  <a:pt x="1186" y="582"/>
                </a:lnTo>
                <a:close/>
                <a:moveTo>
                  <a:pt x="2070" y="582"/>
                </a:moveTo>
                <a:lnTo>
                  <a:pt x="2077" y="575"/>
                </a:lnTo>
                <a:lnTo>
                  <a:pt x="2084" y="568"/>
                </a:lnTo>
                <a:lnTo>
                  <a:pt x="2084" y="561"/>
                </a:lnTo>
                <a:lnTo>
                  <a:pt x="2077" y="555"/>
                </a:lnTo>
                <a:lnTo>
                  <a:pt x="2070" y="541"/>
                </a:lnTo>
                <a:lnTo>
                  <a:pt x="2064" y="534"/>
                </a:lnTo>
                <a:lnTo>
                  <a:pt x="2057" y="534"/>
                </a:lnTo>
                <a:lnTo>
                  <a:pt x="2050" y="541"/>
                </a:lnTo>
                <a:lnTo>
                  <a:pt x="2050" y="555"/>
                </a:lnTo>
                <a:lnTo>
                  <a:pt x="2050" y="561"/>
                </a:lnTo>
                <a:lnTo>
                  <a:pt x="2050" y="568"/>
                </a:lnTo>
                <a:lnTo>
                  <a:pt x="2050" y="575"/>
                </a:lnTo>
                <a:lnTo>
                  <a:pt x="2050" y="582"/>
                </a:lnTo>
                <a:lnTo>
                  <a:pt x="2050" y="596"/>
                </a:lnTo>
                <a:lnTo>
                  <a:pt x="2050" y="602"/>
                </a:lnTo>
                <a:lnTo>
                  <a:pt x="2057" y="609"/>
                </a:lnTo>
                <a:lnTo>
                  <a:pt x="2057" y="609"/>
                </a:lnTo>
                <a:lnTo>
                  <a:pt x="2064" y="602"/>
                </a:lnTo>
                <a:lnTo>
                  <a:pt x="2064" y="596"/>
                </a:lnTo>
                <a:lnTo>
                  <a:pt x="2070" y="582"/>
                </a:lnTo>
                <a:close/>
                <a:moveTo>
                  <a:pt x="2091" y="527"/>
                </a:moveTo>
                <a:lnTo>
                  <a:pt x="2091" y="520"/>
                </a:lnTo>
                <a:lnTo>
                  <a:pt x="2091" y="513"/>
                </a:lnTo>
                <a:lnTo>
                  <a:pt x="2091" y="507"/>
                </a:lnTo>
                <a:lnTo>
                  <a:pt x="2091" y="500"/>
                </a:lnTo>
                <a:lnTo>
                  <a:pt x="2091" y="500"/>
                </a:lnTo>
                <a:lnTo>
                  <a:pt x="2091" y="493"/>
                </a:lnTo>
                <a:lnTo>
                  <a:pt x="2084" y="493"/>
                </a:lnTo>
                <a:lnTo>
                  <a:pt x="2077" y="493"/>
                </a:lnTo>
                <a:lnTo>
                  <a:pt x="2070" y="500"/>
                </a:lnTo>
                <a:lnTo>
                  <a:pt x="2070" y="507"/>
                </a:lnTo>
                <a:lnTo>
                  <a:pt x="2070" y="513"/>
                </a:lnTo>
                <a:lnTo>
                  <a:pt x="2070" y="520"/>
                </a:lnTo>
                <a:lnTo>
                  <a:pt x="2077" y="520"/>
                </a:lnTo>
                <a:lnTo>
                  <a:pt x="2077" y="527"/>
                </a:lnTo>
                <a:lnTo>
                  <a:pt x="2077" y="534"/>
                </a:lnTo>
                <a:lnTo>
                  <a:pt x="2084" y="541"/>
                </a:lnTo>
                <a:lnTo>
                  <a:pt x="2084" y="541"/>
                </a:lnTo>
                <a:lnTo>
                  <a:pt x="2091" y="541"/>
                </a:lnTo>
                <a:lnTo>
                  <a:pt x="2091" y="534"/>
                </a:lnTo>
                <a:lnTo>
                  <a:pt x="2091" y="527"/>
                </a:lnTo>
                <a:close/>
                <a:moveTo>
                  <a:pt x="336" y="466"/>
                </a:moveTo>
                <a:lnTo>
                  <a:pt x="336" y="452"/>
                </a:lnTo>
                <a:lnTo>
                  <a:pt x="329" y="445"/>
                </a:lnTo>
                <a:lnTo>
                  <a:pt x="322" y="438"/>
                </a:lnTo>
                <a:lnTo>
                  <a:pt x="315" y="438"/>
                </a:lnTo>
                <a:lnTo>
                  <a:pt x="308" y="445"/>
                </a:lnTo>
                <a:lnTo>
                  <a:pt x="302" y="452"/>
                </a:lnTo>
                <a:lnTo>
                  <a:pt x="302" y="459"/>
                </a:lnTo>
                <a:lnTo>
                  <a:pt x="302" y="466"/>
                </a:lnTo>
                <a:lnTo>
                  <a:pt x="302" y="479"/>
                </a:lnTo>
                <a:lnTo>
                  <a:pt x="315" y="486"/>
                </a:lnTo>
                <a:lnTo>
                  <a:pt x="322" y="486"/>
                </a:lnTo>
                <a:lnTo>
                  <a:pt x="329" y="486"/>
                </a:lnTo>
                <a:lnTo>
                  <a:pt x="329" y="479"/>
                </a:lnTo>
                <a:lnTo>
                  <a:pt x="336" y="466"/>
                </a:lnTo>
                <a:close/>
                <a:moveTo>
                  <a:pt x="363" y="438"/>
                </a:moveTo>
                <a:lnTo>
                  <a:pt x="363" y="431"/>
                </a:lnTo>
                <a:lnTo>
                  <a:pt x="370" y="425"/>
                </a:lnTo>
                <a:lnTo>
                  <a:pt x="370" y="418"/>
                </a:lnTo>
                <a:lnTo>
                  <a:pt x="377" y="411"/>
                </a:lnTo>
                <a:lnTo>
                  <a:pt x="384" y="411"/>
                </a:lnTo>
                <a:lnTo>
                  <a:pt x="384" y="404"/>
                </a:lnTo>
                <a:lnTo>
                  <a:pt x="391" y="397"/>
                </a:lnTo>
                <a:lnTo>
                  <a:pt x="398" y="390"/>
                </a:lnTo>
                <a:lnTo>
                  <a:pt x="404" y="383"/>
                </a:lnTo>
                <a:lnTo>
                  <a:pt x="398" y="377"/>
                </a:lnTo>
                <a:lnTo>
                  <a:pt x="398" y="370"/>
                </a:lnTo>
                <a:lnTo>
                  <a:pt x="384" y="370"/>
                </a:lnTo>
                <a:lnTo>
                  <a:pt x="377" y="363"/>
                </a:lnTo>
                <a:lnTo>
                  <a:pt x="370" y="370"/>
                </a:lnTo>
                <a:lnTo>
                  <a:pt x="370" y="377"/>
                </a:lnTo>
                <a:lnTo>
                  <a:pt x="363" y="383"/>
                </a:lnTo>
                <a:lnTo>
                  <a:pt x="363" y="390"/>
                </a:lnTo>
                <a:lnTo>
                  <a:pt x="356" y="390"/>
                </a:lnTo>
                <a:lnTo>
                  <a:pt x="350" y="397"/>
                </a:lnTo>
                <a:lnTo>
                  <a:pt x="350" y="404"/>
                </a:lnTo>
                <a:lnTo>
                  <a:pt x="343" y="411"/>
                </a:lnTo>
                <a:lnTo>
                  <a:pt x="336" y="418"/>
                </a:lnTo>
                <a:lnTo>
                  <a:pt x="329" y="418"/>
                </a:lnTo>
                <a:lnTo>
                  <a:pt x="322" y="425"/>
                </a:lnTo>
                <a:lnTo>
                  <a:pt x="322" y="431"/>
                </a:lnTo>
                <a:lnTo>
                  <a:pt x="322" y="438"/>
                </a:lnTo>
                <a:lnTo>
                  <a:pt x="329" y="445"/>
                </a:lnTo>
                <a:lnTo>
                  <a:pt x="336" y="452"/>
                </a:lnTo>
                <a:lnTo>
                  <a:pt x="350" y="452"/>
                </a:lnTo>
                <a:lnTo>
                  <a:pt x="350" y="452"/>
                </a:lnTo>
                <a:lnTo>
                  <a:pt x="356" y="445"/>
                </a:lnTo>
                <a:lnTo>
                  <a:pt x="363" y="438"/>
                </a:lnTo>
                <a:close/>
                <a:moveTo>
                  <a:pt x="2640" y="411"/>
                </a:moveTo>
                <a:lnTo>
                  <a:pt x="2640" y="397"/>
                </a:lnTo>
                <a:lnTo>
                  <a:pt x="2640" y="390"/>
                </a:lnTo>
                <a:lnTo>
                  <a:pt x="2640" y="390"/>
                </a:lnTo>
                <a:lnTo>
                  <a:pt x="2633" y="383"/>
                </a:lnTo>
                <a:lnTo>
                  <a:pt x="2633" y="383"/>
                </a:lnTo>
                <a:lnTo>
                  <a:pt x="2633" y="383"/>
                </a:lnTo>
                <a:lnTo>
                  <a:pt x="2633" y="390"/>
                </a:lnTo>
                <a:lnTo>
                  <a:pt x="2633" y="397"/>
                </a:lnTo>
                <a:lnTo>
                  <a:pt x="2633" y="404"/>
                </a:lnTo>
                <a:lnTo>
                  <a:pt x="2633" y="411"/>
                </a:lnTo>
                <a:lnTo>
                  <a:pt x="2633" y="418"/>
                </a:lnTo>
                <a:lnTo>
                  <a:pt x="2633" y="418"/>
                </a:lnTo>
                <a:lnTo>
                  <a:pt x="2640" y="418"/>
                </a:lnTo>
                <a:lnTo>
                  <a:pt x="2640" y="411"/>
                </a:lnTo>
                <a:close/>
                <a:moveTo>
                  <a:pt x="425" y="349"/>
                </a:moveTo>
                <a:lnTo>
                  <a:pt x="418" y="336"/>
                </a:lnTo>
                <a:lnTo>
                  <a:pt x="418" y="329"/>
                </a:lnTo>
                <a:lnTo>
                  <a:pt x="411" y="322"/>
                </a:lnTo>
                <a:lnTo>
                  <a:pt x="404" y="322"/>
                </a:lnTo>
                <a:lnTo>
                  <a:pt x="398" y="329"/>
                </a:lnTo>
                <a:lnTo>
                  <a:pt x="391" y="336"/>
                </a:lnTo>
                <a:lnTo>
                  <a:pt x="391" y="342"/>
                </a:lnTo>
                <a:lnTo>
                  <a:pt x="391" y="356"/>
                </a:lnTo>
                <a:lnTo>
                  <a:pt x="398" y="363"/>
                </a:lnTo>
                <a:lnTo>
                  <a:pt x="404" y="370"/>
                </a:lnTo>
                <a:lnTo>
                  <a:pt x="411" y="377"/>
                </a:lnTo>
                <a:lnTo>
                  <a:pt x="411" y="370"/>
                </a:lnTo>
                <a:lnTo>
                  <a:pt x="418" y="363"/>
                </a:lnTo>
                <a:lnTo>
                  <a:pt x="425" y="349"/>
                </a:lnTo>
                <a:close/>
                <a:moveTo>
                  <a:pt x="446" y="322"/>
                </a:moveTo>
                <a:lnTo>
                  <a:pt x="452" y="315"/>
                </a:lnTo>
                <a:lnTo>
                  <a:pt x="452" y="308"/>
                </a:lnTo>
                <a:lnTo>
                  <a:pt x="459" y="301"/>
                </a:lnTo>
                <a:lnTo>
                  <a:pt x="473" y="295"/>
                </a:lnTo>
                <a:lnTo>
                  <a:pt x="480" y="295"/>
                </a:lnTo>
                <a:lnTo>
                  <a:pt x="494" y="295"/>
                </a:lnTo>
                <a:lnTo>
                  <a:pt x="494" y="288"/>
                </a:lnTo>
                <a:lnTo>
                  <a:pt x="494" y="281"/>
                </a:lnTo>
                <a:lnTo>
                  <a:pt x="494" y="274"/>
                </a:lnTo>
                <a:lnTo>
                  <a:pt x="487" y="260"/>
                </a:lnTo>
                <a:lnTo>
                  <a:pt x="480" y="253"/>
                </a:lnTo>
                <a:lnTo>
                  <a:pt x="473" y="247"/>
                </a:lnTo>
                <a:lnTo>
                  <a:pt x="466" y="240"/>
                </a:lnTo>
                <a:lnTo>
                  <a:pt x="466" y="240"/>
                </a:lnTo>
                <a:lnTo>
                  <a:pt x="459" y="240"/>
                </a:lnTo>
                <a:lnTo>
                  <a:pt x="452" y="247"/>
                </a:lnTo>
                <a:lnTo>
                  <a:pt x="452" y="260"/>
                </a:lnTo>
                <a:lnTo>
                  <a:pt x="446" y="267"/>
                </a:lnTo>
                <a:lnTo>
                  <a:pt x="439" y="274"/>
                </a:lnTo>
                <a:lnTo>
                  <a:pt x="439" y="281"/>
                </a:lnTo>
                <a:lnTo>
                  <a:pt x="432" y="288"/>
                </a:lnTo>
                <a:lnTo>
                  <a:pt x="425" y="295"/>
                </a:lnTo>
                <a:lnTo>
                  <a:pt x="418" y="301"/>
                </a:lnTo>
                <a:lnTo>
                  <a:pt x="411" y="301"/>
                </a:lnTo>
                <a:lnTo>
                  <a:pt x="411" y="308"/>
                </a:lnTo>
                <a:lnTo>
                  <a:pt x="404" y="315"/>
                </a:lnTo>
                <a:lnTo>
                  <a:pt x="411" y="322"/>
                </a:lnTo>
                <a:lnTo>
                  <a:pt x="418" y="329"/>
                </a:lnTo>
                <a:lnTo>
                  <a:pt x="432" y="336"/>
                </a:lnTo>
                <a:lnTo>
                  <a:pt x="439" y="336"/>
                </a:lnTo>
                <a:lnTo>
                  <a:pt x="446" y="329"/>
                </a:lnTo>
                <a:lnTo>
                  <a:pt x="446" y="322"/>
                </a:lnTo>
                <a:close/>
                <a:moveTo>
                  <a:pt x="350" y="295"/>
                </a:moveTo>
                <a:lnTo>
                  <a:pt x="350" y="295"/>
                </a:lnTo>
                <a:lnTo>
                  <a:pt x="336" y="308"/>
                </a:lnTo>
                <a:lnTo>
                  <a:pt x="336" y="301"/>
                </a:lnTo>
                <a:lnTo>
                  <a:pt x="336" y="301"/>
                </a:lnTo>
                <a:lnTo>
                  <a:pt x="343" y="301"/>
                </a:lnTo>
                <a:lnTo>
                  <a:pt x="343" y="301"/>
                </a:lnTo>
                <a:lnTo>
                  <a:pt x="350" y="295"/>
                </a:lnTo>
                <a:lnTo>
                  <a:pt x="350" y="295"/>
                </a:lnTo>
                <a:lnTo>
                  <a:pt x="350" y="295"/>
                </a:lnTo>
                <a:lnTo>
                  <a:pt x="350" y="295"/>
                </a:lnTo>
                <a:close/>
                <a:moveTo>
                  <a:pt x="384" y="260"/>
                </a:moveTo>
                <a:lnTo>
                  <a:pt x="377" y="260"/>
                </a:lnTo>
                <a:lnTo>
                  <a:pt x="377" y="267"/>
                </a:lnTo>
                <a:lnTo>
                  <a:pt x="384" y="260"/>
                </a:lnTo>
                <a:close/>
                <a:moveTo>
                  <a:pt x="404" y="233"/>
                </a:moveTo>
                <a:lnTo>
                  <a:pt x="418" y="226"/>
                </a:lnTo>
                <a:lnTo>
                  <a:pt x="404" y="233"/>
                </a:lnTo>
                <a:lnTo>
                  <a:pt x="404" y="233"/>
                </a:lnTo>
                <a:lnTo>
                  <a:pt x="404" y="233"/>
                </a:lnTo>
                <a:close/>
                <a:moveTo>
                  <a:pt x="466" y="178"/>
                </a:moveTo>
                <a:lnTo>
                  <a:pt x="466" y="178"/>
                </a:lnTo>
                <a:lnTo>
                  <a:pt x="452" y="192"/>
                </a:lnTo>
                <a:lnTo>
                  <a:pt x="452" y="185"/>
                </a:lnTo>
                <a:lnTo>
                  <a:pt x="452" y="185"/>
                </a:lnTo>
                <a:lnTo>
                  <a:pt x="459" y="185"/>
                </a:lnTo>
                <a:lnTo>
                  <a:pt x="459" y="185"/>
                </a:lnTo>
                <a:lnTo>
                  <a:pt x="459" y="178"/>
                </a:lnTo>
                <a:lnTo>
                  <a:pt x="466" y="178"/>
                </a:lnTo>
                <a:lnTo>
                  <a:pt x="466" y="178"/>
                </a:lnTo>
                <a:lnTo>
                  <a:pt x="466" y="178"/>
                </a:lnTo>
                <a:close/>
                <a:moveTo>
                  <a:pt x="1022" y="178"/>
                </a:moveTo>
                <a:lnTo>
                  <a:pt x="1022" y="171"/>
                </a:lnTo>
                <a:lnTo>
                  <a:pt x="1015" y="165"/>
                </a:lnTo>
                <a:lnTo>
                  <a:pt x="1015" y="165"/>
                </a:lnTo>
                <a:lnTo>
                  <a:pt x="1008" y="165"/>
                </a:lnTo>
                <a:lnTo>
                  <a:pt x="994" y="165"/>
                </a:lnTo>
                <a:lnTo>
                  <a:pt x="987" y="171"/>
                </a:lnTo>
                <a:lnTo>
                  <a:pt x="987" y="171"/>
                </a:lnTo>
                <a:lnTo>
                  <a:pt x="987" y="178"/>
                </a:lnTo>
                <a:lnTo>
                  <a:pt x="994" y="185"/>
                </a:lnTo>
                <a:lnTo>
                  <a:pt x="1001" y="185"/>
                </a:lnTo>
                <a:lnTo>
                  <a:pt x="1008" y="185"/>
                </a:lnTo>
                <a:lnTo>
                  <a:pt x="1015" y="185"/>
                </a:lnTo>
                <a:lnTo>
                  <a:pt x="1022" y="178"/>
                </a:lnTo>
                <a:lnTo>
                  <a:pt x="1022" y="178"/>
                </a:lnTo>
                <a:close/>
                <a:moveTo>
                  <a:pt x="514" y="144"/>
                </a:moveTo>
                <a:lnTo>
                  <a:pt x="494" y="144"/>
                </a:lnTo>
                <a:lnTo>
                  <a:pt x="494" y="165"/>
                </a:lnTo>
                <a:lnTo>
                  <a:pt x="514" y="144"/>
                </a:lnTo>
                <a:close/>
                <a:moveTo>
                  <a:pt x="2777" y="117"/>
                </a:moveTo>
                <a:lnTo>
                  <a:pt x="2763" y="117"/>
                </a:lnTo>
                <a:lnTo>
                  <a:pt x="2777" y="137"/>
                </a:lnTo>
                <a:lnTo>
                  <a:pt x="2777" y="117"/>
                </a:lnTo>
                <a:close/>
                <a:moveTo>
                  <a:pt x="795" y="89"/>
                </a:moveTo>
                <a:lnTo>
                  <a:pt x="802" y="82"/>
                </a:lnTo>
                <a:lnTo>
                  <a:pt x="802" y="82"/>
                </a:lnTo>
                <a:lnTo>
                  <a:pt x="809" y="76"/>
                </a:lnTo>
                <a:lnTo>
                  <a:pt x="809" y="76"/>
                </a:lnTo>
                <a:lnTo>
                  <a:pt x="816" y="82"/>
                </a:lnTo>
                <a:lnTo>
                  <a:pt x="823" y="82"/>
                </a:lnTo>
                <a:lnTo>
                  <a:pt x="823" y="89"/>
                </a:lnTo>
                <a:lnTo>
                  <a:pt x="823" y="89"/>
                </a:lnTo>
                <a:lnTo>
                  <a:pt x="816" y="96"/>
                </a:lnTo>
                <a:lnTo>
                  <a:pt x="816" y="96"/>
                </a:lnTo>
                <a:lnTo>
                  <a:pt x="809" y="96"/>
                </a:lnTo>
                <a:lnTo>
                  <a:pt x="809" y="96"/>
                </a:lnTo>
                <a:lnTo>
                  <a:pt x="802" y="96"/>
                </a:lnTo>
                <a:lnTo>
                  <a:pt x="795" y="89"/>
                </a:lnTo>
                <a:close/>
                <a:moveTo>
                  <a:pt x="2749" y="89"/>
                </a:moveTo>
                <a:lnTo>
                  <a:pt x="2722" y="89"/>
                </a:lnTo>
                <a:lnTo>
                  <a:pt x="2715" y="89"/>
                </a:lnTo>
                <a:lnTo>
                  <a:pt x="2722" y="89"/>
                </a:lnTo>
                <a:lnTo>
                  <a:pt x="2722" y="96"/>
                </a:lnTo>
                <a:lnTo>
                  <a:pt x="2729" y="96"/>
                </a:lnTo>
                <a:lnTo>
                  <a:pt x="2729" y="96"/>
                </a:lnTo>
                <a:lnTo>
                  <a:pt x="2735" y="103"/>
                </a:lnTo>
                <a:lnTo>
                  <a:pt x="2742" y="103"/>
                </a:lnTo>
                <a:lnTo>
                  <a:pt x="2742" y="103"/>
                </a:lnTo>
                <a:lnTo>
                  <a:pt x="2749" y="103"/>
                </a:lnTo>
                <a:lnTo>
                  <a:pt x="2749" y="89"/>
                </a:lnTo>
                <a:close/>
                <a:moveTo>
                  <a:pt x="2578" y="28"/>
                </a:moveTo>
                <a:lnTo>
                  <a:pt x="2578" y="28"/>
                </a:lnTo>
                <a:lnTo>
                  <a:pt x="2578" y="28"/>
                </a:lnTo>
                <a:lnTo>
                  <a:pt x="2578" y="28"/>
                </a:lnTo>
                <a:lnTo>
                  <a:pt x="2578" y="28"/>
                </a:lnTo>
                <a:lnTo>
                  <a:pt x="2578" y="28"/>
                </a:lnTo>
                <a:lnTo>
                  <a:pt x="2578" y="28"/>
                </a:lnTo>
                <a:lnTo>
                  <a:pt x="2578" y="28"/>
                </a:lnTo>
                <a:lnTo>
                  <a:pt x="2578" y="28"/>
                </a:lnTo>
                <a:lnTo>
                  <a:pt x="2578" y="28"/>
                </a:lnTo>
                <a:lnTo>
                  <a:pt x="2578" y="28"/>
                </a:lnTo>
                <a:close/>
                <a:moveTo>
                  <a:pt x="2427" y="0"/>
                </a:moveTo>
                <a:lnTo>
                  <a:pt x="2400" y="0"/>
                </a:lnTo>
                <a:lnTo>
                  <a:pt x="2372" y="0"/>
                </a:lnTo>
                <a:lnTo>
                  <a:pt x="2372" y="0"/>
                </a:lnTo>
                <a:lnTo>
                  <a:pt x="2379" y="0"/>
                </a:lnTo>
                <a:lnTo>
                  <a:pt x="2379" y="0"/>
                </a:lnTo>
                <a:lnTo>
                  <a:pt x="2386" y="0"/>
                </a:lnTo>
                <a:lnTo>
                  <a:pt x="2393" y="7"/>
                </a:lnTo>
                <a:lnTo>
                  <a:pt x="2400" y="7"/>
                </a:lnTo>
                <a:lnTo>
                  <a:pt x="2400" y="7"/>
                </a:lnTo>
                <a:lnTo>
                  <a:pt x="2406" y="7"/>
                </a:lnTo>
                <a:lnTo>
                  <a:pt x="2413" y="7"/>
                </a:lnTo>
                <a:lnTo>
                  <a:pt x="2420" y="7"/>
                </a:lnTo>
                <a:lnTo>
                  <a:pt x="2420" y="0"/>
                </a:lnTo>
                <a:lnTo>
                  <a:pt x="2427" y="0"/>
                </a:lnTo>
                <a:close/>
              </a:path>
            </a:pathLst>
          </a:custGeom>
          <a:solidFill>
            <a:srgbClr val="e0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7" name=""/>
          <p:cNvSpPr/>
          <p:nvPr/>
        </p:nvSpPr>
        <p:spPr>
          <a:xfrm>
            <a:off x="2484360" y="2624040"/>
            <a:ext cx="4462560" cy="2857680"/>
          </a:xfrm>
          <a:custGeom>
            <a:avLst/>
            <a:gdLst/>
            <a:ahLst/>
            <a:rect l="l" t="t" r="r" b="b"/>
            <a:pathLst>
              <a:path w="2811" h="1800">
                <a:moveTo>
                  <a:pt x="1282" y="1800"/>
                </a:moveTo>
                <a:lnTo>
                  <a:pt x="1289" y="1800"/>
                </a:lnTo>
                <a:lnTo>
                  <a:pt x="1296" y="1793"/>
                </a:lnTo>
                <a:lnTo>
                  <a:pt x="1296" y="1786"/>
                </a:lnTo>
                <a:lnTo>
                  <a:pt x="1303" y="1779"/>
                </a:lnTo>
                <a:lnTo>
                  <a:pt x="1309" y="1779"/>
                </a:lnTo>
                <a:lnTo>
                  <a:pt x="1309" y="1773"/>
                </a:lnTo>
                <a:lnTo>
                  <a:pt x="1316" y="1766"/>
                </a:lnTo>
                <a:lnTo>
                  <a:pt x="1316" y="1759"/>
                </a:lnTo>
                <a:lnTo>
                  <a:pt x="1323" y="1752"/>
                </a:lnTo>
                <a:lnTo>
                  <a:pt x="1330" y="1752"/>
                </a:lnTo>
                <a:lnTo>
                  <a:pt x="1337" y="1745"/>
                </a:lnTo>
                <a:lnTo>
                  <a:pt x="1344" y="1745"/>
                </a:lnTo>
                <a:lnTo>
                  <a:pt x="1351" y="1745"/>
                </a:lnTo>
                <a:lnTo>
                  <a:pt x="1357" y="1738"/>
                </a:lnTo>
                <a:lnTo>
                  <a:pt x="1357" y="1731"/>
                </a:lnTo>
                <a:lnTo>
                  <a:pt x="1364" y="1725"/>
                </a:lnTo>
                <a:lnTo>
                  <a:pt x="1371" y="1725"/>
                </a:lnTo>
                <a:lnTo>
                  <a:pt x="1378" y="1731"/>
                </a:lnTo>
                <a:lnTo>
                  <a:pt x="1385" y="1738"/>
                </a:lnTo>
                <a:lnTo>
                  <a:pt x="1385" y="1745"/>
                </a:lnTo>
                <a:lnTo>
                  <a:pt x="1378" y="1745"/>
                </a:lnTo>
                <a:lnTo>
                  <a:pt x="1371" y="1752"/>
                </a:lnTo>
                <a:lnTo>
                  <a:pt x="1364" y="1752"/>
                </a:lnTo>
                <a:lnTo>
                  <a:pt x="1357" y="1759"/>
                </a:lnTo>
                <a:lnTo>
                  <a:pt x="1351" y="1759"/>
                </a:lnTo>
                <a:lnTo>
                  <a:pt x="1351" y="1766"/>
                </a:lnTo>
                <a:lnTo>
                  <a:pt x="1351" y="1773"/>
                </a:lnTo>
                <a:lnTo>
                  <a:pt x="1357" y="1779"/>
                </a:lnTo>
                <a:lnTo>
                  <a:pt x="1357" y="1786"/>
                </a:lnTo>
                <a:lnTo>
                  <a:pt x="1357" y="1793"/>
                </a:lnTo>
                <a:lnTo>
                  <a:pt x="1357" y="1800"/>
                </a:lnTo>
                <a:lnTo>
                  <a:pt x="1364" y="1800"/>
                </a:lnTo>
                <a:lnTo>
                  <a:pt x="1392" y="1800"/>
                </a:lnTo>
                <a:lnTo>
                  <a:pt x="1419" y="1800"/>
                </a:lnTo>
                <a:lnTo>
                  <a:pt x="1447" y="1800"/>
                </a:lnTo>
                <a:lnTo>
                  <a:pt x="1474" y="1800"/>
                </a:lnTo>
                <a:lnTo>
                  <a:pt x="1508" y="1800"/>
                </a:lnTo>
                <a:lnTo>
                  <a:pt x="1536" y="1800"/>
                </a:lnTo>
                <a:lnTo>
                  <a:pt x="1563" y="1800"/>
                </a:lnTo>
                <a:lnTo>
                  <a:pt x="1591" y="1800"/>
                </a:lnTo>
                <a:lnTo>
                  <a:pt x="1625" y="1800"/>
                </a:lnTo>
                <a:lnTo>
                  <a:pt x="1652" y="1800"/>
                </a:lnTo>
                <a:lnTo>
                  <a:pt x="1680" y="1800"/>
                </a:lnTo>
                <a:lnTo>
                  <a:pt x="1707" y="1800"/>
                </a:lnTo>
                <a:lnTo>
                  <a:pt x="1735" y="1800"/>
                </a:lnTo>
                <a:lnTo>
                  <a:pt x="1769" y="1800"/>
                </a:lnTo>
                <a:lnTo>
                  <a:pt x="1796" y="1800"/>
                </a:lnTo>
                <a:lnTo>
                  <a:pt x="1824" y="1800"/>
                </a:lnTo>
                <a:lnTo>
                  <a:pt x="1851" y="1800"/>
                </a:lnTo>
                <a:lnTo>
                  <a:pt x="1885" y="1800"/>
                </a:lnTo>
                <a:lnTo>
                  <a:pt x="1913" y="1800"/>
                </a:lnTo>
                <a:lnTo>
                  <a:pt x="1940" y="1800"/>
                </a:lnTo>
                <a:lnTo>
                  <a:pt x="1968" y="1800"/>
                </a:lnTo>
                <a:lnTo>
                  <a:pt x="1995" y="1800"/>
                </a:lnTo>
                <a:lnTo>
                  <a:pt x="2029" y="1800"/>
                </a:lnTo>
                <a:lnTo>
                  <a:pt x="2057" y="1800"/>
                </a:lnTo>
                <a:lnTo>
                  <a:pt x="2084" y="1800"/>
                </a:lnTo>
                <a:lnTo>
                  <a:pt x="2112" y="1800"/>
                </a:lnTo>
                <a:lnTo>
                  <a:pt x="2146" y="1800"/>
                </a:lnTo>
                <a:lnTo>
                  <a:pt x="2173" y="1800"/>
                </a:lnTo>
                <a:lnTo>
                  <a:pt x="2201" y="1800"/>
                </a:lnTo>
                <a:lnTo>
                  <a:pt x="2228" y="1800"/>
                </a:lnTo>
                <a:lnTo>
                  <a:pt x="2256" y="1800"/>
                </a:lnTo>
                <a:lnTo>
                  <a:pt x="2290" y="1800"/>
                </a:lnTo>
                <a:lnTo>
                  <a:pt x="2317" y="1800"/>
                </a:lnTo>
                <a:lnTo>
                  <a:pt x="2345" y="1800"/>
                </a:lnTo>
                <a:lnTo>
                  <a:pt x="2372" y="1800"/>
                </a:lnTo>
                <a:lnTo>
                  <a:pt x="2400" y="1800"/>
                </a:lnTo>
                <a:lnTo>
                  <a:pt x="2434" y="1800"/>
                </a:lnTo>
                <a:lnTo>
                  <a:pt x="2461" y="1773"/>
                </a:lnTo>
                <a:lnTo>
                  <a:pt x="2489" y="1773"/>
                </a:lnTo>
                <a:lnTo>
                  <a:pt x="2516" y="1773"/>
                </a:lnTo>
                <a:lnTo>
                  <a:pt x="2550" y="1773"/>
                </a:lnTo>
                <a:lnTo>
                  <a:pt x="2578" y="1773"/>
                </a:lnTo>
                <a:lnTo>
                  <a:pt x="2605" y="1773"/>
                </a:lnTo>
                <a:lnTo>
                  <a:pt x="2633" y="1773"/>
                </a:lnTo>
                <a:lnTo>
                  <a:pt x="2660" y="1745"/>
                </a:lnTo>
                <a:lnTo>
                  <a:pt x="2660" y="1718"/>
                </a:lnTo>
                <a:lnTo>
                  <a:pt x="2660" y="1684"/>
                </a:lnTo>
                <a:lnTo>
                  <a:pt x="2660" y="1656"/>
                </a:lnTo>
                <a:lnTo>
                  <a:pt x="2694" y="1629"/>
                </a:lnTo>
                <a:lnTo>
                  <a:pt x="2694" y="1601"/>
                </a:lnTo>
                <a:lnTo>
                  <a:pt x="2694" y="1567"/>
                </a:lnTo>
                <a:lnTo>
                  <a:pt x="2694" y="1540"/>
                </a:lnTo>
                <a:lnTo>
                  <a:pt x="2722" y="1513"/>
                </a:lnTo>
                <a:lnTo>
                  <a:pt x="2722" y="1485"/>
                </a:lnTo>
                <a:lnTo>
                  <a:pt x="2722" y="1451"/>
                </a:lnTo>
                <a:lnTo>
                  <a:pt x="2722" y="1424"/>
                </a:lnTo>
                <a:lnTo>
                  <a:pt x="2749" y="1396"/>
                </a:lnTo>
                <a:lnTo>
                  <a:pt x="2749" y="1369"/>
                </a:lnTo>
                <a:lnTo>
                  <a:pt x="2749" y="1335"/>
                </a:lnTo>
                <a:lnTo>
                  <a:pt x="2749" y="1307"/>
                </a:lnTo>
                <a:lnTo>
                  <a:pt x="2777" y="1280"/>
                </a:lnTo>
                <a:lnTo>
                  <a:pt x="2777" y="1252"/>
                </a:lnTo>
                <a:lnTo>
                  <a:pt x="2777" y="1218"/>
                </a:lnTo>
                <a:lnTo>
                  <a:pt x="2777" y="1191"/>
                </a:lnTo>
                <a:lnTo>
                  <a:pt x="2811" y="1164"/>
                </a:lnTo>
                <a:lnTo>
                  <a:pt x="2811" y="1136"/>
                </a:lnTo>
                <a:lnTo>
                  <a:pt x="2811" y="1102"/>
                </a:lnTo>
                <a:lnTo>
                  <a:pt x="2811" y="1075"/>
                </a:lnTo>
                <a:lnTo>
                  <a:pt x="2811" y="1047"/>
                </a:lnTo>
                <a:lnTo>
                  <a:pt x="2811" y="1020"/>
                </a:lnTo>
                <a:lnTo>
                  <a:pt x="2811" y="992"/>
                </a:lnTo>
                <a:lnTo>
                  <a:pt x="2811" y="958"/>
                </a:lnTo>
                <a:lnTo>
                  <a:pt x="2811" y="931"/>
                </a:lnTo>
                <a:lnTo>
                  <a:pt x="2811" y="904"/>
                </a:lnTo>
                <a:lnTo>
                  <a:pt x="2811" y="876"/>
                </a:lnTo>
                <a:lnTo>
                  <a:pt x="2811" y="842"/>
                </a:lnTo>
                <a:lnTo>
                  <a:pt x="2811" y="815"/>
                </a:lnTo>
                <a:lnTo>
                  <a:pt x="2811" y="787"/>
                </a:lnTo>
                <a:lnTo>
                  <a:pt x="2811" y="760"/>
                </a:lnTo>
                <a:lnTo>
                  <a:pt x="2811" y="726"/>
                </a:lnTo>
                <a:lnTo>
                  <a:pt x="2811" y="698"/>
                </a:lnTo>
                <a:lnTo>
                  <a:pt x="2811" y="671"/>
                </a:lnTo>
                <a:lnTo>
                  <a:pt x="2811" y="643"/>
                </a:lnTo>
                <a:lnTo>
                  <a:pt x="2811" y="609"/>
                </a:lnTo>
                <a:lnTo>
                  <a:pt x="2811" y="582"/>
                </a:lnTo>
                <a:lnTo>
                  <a:pt x="2811" y="555"/>
                </a:lnTo>
                <a:lnTo>
                  <a:pt x="2811" y="527"/>
                </a:lnTo>
                <a:lnTo>
                  <a:pt x="2811" y="493"/>
                </a:lnTo>
                <a:lnTo>
                  <a:pt x="2811" y="466"/>
                </a:lnTo>
                <a:lnTo>
                  <a:pt x="2811" y="438"/>
                </a:lnTo>
                <a:lnTo>
                  <a:pt x="2811" y="411"/>
                </a:lnTo>
                <a:lnTo>
                  <a:pt x="2811" y="377"/>
                </a:lnTo>
                <a:lnTo>
                  <a:pt x="2811" y="349"/>
                </a:lnTo>
                <a:lnTo>
                  <a:pt x="2811" y="322"/>
                </a:lnTo>
                <a:lnTo>
                  <a:pt x="2811" y="295"/>
                </a:lnTo>
                <a:lnTo>
                  <a:pt x="2811" y="260"/>
                </a:lnTo>
                <a:lnTo>
                  <a:pt x="2777" y="233"/>
                </a:lnTo>
                <a:lnTo>
                  <a:pt x="2777" y="206"/>
                </a:lnTo>
                <a:lnTo>
                  <a:pt x="2777" y="178"/>
                </a:lnTo>
                <a:lnTo>
                  <a:pt x="2777" y="165"/>
                </a:lnTo>
                <a:lnTo>
                  <a:pt x="2770" y="165"/>
                </a:lnTo>
                <a:lnTo>
                  <a:pt x="2770" y="171"/>
                </a:lnTo>
                <a:lnTo>
                  <a:pt x="2763" y="178"/>
                </a:lnTo>
                <a:lnTo>
                  <a:pt x="2763" y="185"/>
                </a:lnTo>
                <a:lnTo>
                  <a:pt x="2763" y="192"/>
                </a:lnTo>
                <a:lnTo>
                  <a:pt x="2763" y="199"/>
                </a:lnTo>
                <a:lnTo>
                  <a:pt x="2770" y="206"/>
                </a:lnTo>
                <a:lnTo>
                  <a:pt x="2770" y="212"/>
                </a:lnTo>
                <a:lnTo>
                  <a:pt x="2777" y="219"/>
                </a:lnTo>
                <a:lnTo>
                  <a:pt x="2777" y="219"/>
                </a:lnTo>
                <a:lnTo>
                  <a:pt x="2777" y="226"/>
                </a:lnTo>
                <a:lnTo>
                  <a:pt x="2777" y="233"/>
                </a:lnTo>
                <a:lnTo>
                  <a:pt x="2770" y="240"/>
                </a:lnTo>
                <a:lnTo>
                  <a:pt x="2763" y="247"/>
                </a:lnTo>
                <a:lnTo>
                  <a:pt x="2756" y="247"/>
                </a:lnTo>
                <a:lnTo>
                  <a:pt x="2749" y="253"/>
                </a:lnTo>
                <a:lnTo>
                  <a:pt x="2742" y="260"/>
                </a:lnTo>
                <a:lnTo>
                  <a:pt x="2735" y="260"/>
                </a:lnTo>
                <a:lnTo>
                  <a:pt x="2729" y="267"/>
                </a:lnTo>
                <a:lnTo>
                  <a:pt x="2722" y="274"/>
                </a:lnTo>
                <a:lnTo>
                  <a:pt x="2722" y="274"/>
                </a:lnTo>
                <a:lnTo>
                  <a:pt x="2722" y="281"/>
                </a:lnTo>
                <a:lnTo>
                  <a:pt x="2715" y="288"/>
                </a:lnTo>
                <a:lnTo>
                  <a:pt x="2715" y="295"/>
                </a:lnTo>
                <a:lnTo>
                  <a:pt x="2708" y="301"/>
                </a:lnTo>
                <a:lnTo>
                  <a:pt x="2701" y="308"/>
                </a:lnTo>
                <a:lnTo>
                  <a:pt x="2694" y="308"/>
                </a:lnTo>
                <a:lnTo>
                  <a:pt x="2694" y="315"/>
                </a:lnTo>
                <a:lnTo>
                  <a:pt x="2688" y="322"/>
                </a:lnTo>
                <a:lnTo>
                  <a:pt x="2688" y="329"/>
                </a:lnTo>
                <a:lnTo>
                  <a:pt x="2688" y="336"/>
                </a:lnTo>
                <a:lnTo>
                  <a:pt x="2688" y="342"/>
                </a:lnTo>
                <a:lnTo>
                  <a:pt x="2694" y="349"/>
                </a:lnTo>
                <a:lnTo>
                  <a:pt x="2694" y="349"/>
                </a:lnTo>
                <a:lnTo>
                  <a:pt x="2694" y="356"/>
                </a:lnTo>
                <a:lnTo>
                  <a:pt x="2688" y="349"/>
                </a:lnTo>
                <a:lnTo>
                  <a:pt x="2688" y="342"/>
                </a:lnTo>
                <a:lnTo>
                  <a:pt x="2674" y="342"/>
                </a:lnTo>
                <a:lnTo>
                  <a:pt x="2660" y="342"/>
                </a:lnTo>
                <a:lnTo>
                  <a:pt x="2653" y="342"/>
                </a:lnTo>
                <a:lnTo>
                  <a:pt x="2646" y="349"/>
                </a:lnTo>
                <a:lnTo>
                  <a:pt x="2640" y="349"/>
                </a:lnTo>
                <a:lnTo>
                  <a:pt x="2633" y="356"/>
                </a:lnTo>
                <a:lnTo>
                  <a:pt x="2633" y="363"/>
                </a:lnTo>
                <a:lnTo>
                  <a:pt x="2640" y="370"/>
                </a:lnTo>
                <a:lnTo>
                  <a:pt x="2640" y="377"/>
                </a:lnTo>
                <a:lnTo>
                  <a:pt x="2653" y="383"/>
                </a:lnTo>
                <a:lnTo>
                  <a:pt x="2660" y="383"/>
                </a:lnTo>
                <a:lnTo>
                  <a:pt x="2667" y="383"/>
                </a:lnTo>
                <a:lnTo>
                  <a:pt x="2674" y="390"/>
                </a:lnTo>
                <a:lnTo>
                  <a:pt x="2681" y="397"/>
                </a:lnTo>
                <a:lnTo>
                  <a:pt x="2681" y="404"/>
                </a:lnTo>
                <a:lnTo>
                  <a:pt x="2681" y="411"/>
                </a:lnTo>
                <a:lnTo>
                  <a:pt x="2681" y="418"/>
                </a:lnTo>
                <a:lnTo>
                  <a:pt x="2674" y="418"/>
                </a:lnTo>
                <a:lnTo>
                  <a:pt x="2674" y="425"/>
                </a:lnTo>
                <a:lnTo>
                  <a:pt x="2667" y="431"/>
                </a:lnTo>
                <a:lnTo>
                  <a:pt x="2660" y="438"/>
                </a:lnTo>
                <a:lnTo>
                  <a:pt x="2653" y="438"/>
                </a:lnTo>
                <a:lnTo>
                  <a:pt x="2653" y="445"/>
                </a:lnTo>
                <a:lnTo>
                  <a:pt x="2646" y="452"/>
                </a:lnTo>
                <a:lnTo>
                  <a:pt x="2646" y="459"/>
                </a:lnTo>
                <a:lnTo>
                  <a:pt x="2646" y="466"/>
                </a:lnTo>
                <a:lnTo>
                  <a:pt x="2640" y="472"/>
                </a:lnTo>
                <a:lnTo>
                  <a:pt x="2640" y="479"/>
                </a:lnTo>
                <a:lnTo>
                  <a:pt x="2633" y="479"/>
                </a:lnTo>
                <a:lnTo>
                  <a:pt x="2633" y="486"/>
                </a:lnTo>
                <a:lnTo>
                  <a:pt x="2633" y="493"/>
                </a:lnTo>
                <a:lnTo>
                  <a:pt x="2633" y="500"/>
                </a:lnTo>
                <a:lnTo>
                  <a:pt x="2633" y="507"/>
                </a:lnTo>
                <a:lnTo>
                  <a:pt x="2626" y="513"/>
                </a:lnTo>
                <a:lnTo>
                  <a:pt x="2626" y="520"/>
                </a:lnTo>
                <a:lnTo>
                  <a:pt x="2619" y="527"/>
                </a:lnTo>
                <a:lnTo>
                  <a:pt x="2619" y="527"/>
                </a:lnTo>
                <a:lnTo>
                  <a:pt x="2619" y="534"/>
                </a:lnTo>
                <a:lnTo>
                  <a:pt x="2612" y="541"/>
                </a:lnTo>
                <a:lnTo>
                  <a:pt x="2612" y="548"/>
                </a:lnTo>
                <a:lnTo>
                  <a:pt x="2612" y="555"/>
                </a:lnTo>
                <a:lnTo>
                  <a:pt x="2612" y="561"/>
                </a:lnTo>
                <a:lnTo>
                  <a:pt x="2612" y="568"/>
                </a:lnTo>
                <a:lnTo>
                  <a:pt x="2612" y="575"/>
                </a:lnTo>
                <a:lnTo>
                  <a:pt x="2605" y="582"/>
                </a:lnTo>
                <a:lnTo>
                  <a:pt x="2605" y="589"/>
                </a:lnTo>
                <a:lnTo>
                  <a:pt x="2598" y="589"/>
                </a:lnTo>
                <a:lnTo>
                  <a:pt x="2598" y="596"/>
                </a:lnTo>
                <a:lnTo>
                  <a:pt x="2598" y="602"/>
                </a:lnTo>
                <a:lnTo>
                  <a:pt x="2598" y="609"/>
                </a:lnTo>
                <a:lnTo>
                  <a:pt x="2605" y="616"/>
                </a:lnTo>
                <a:lnTo>
                  <a:pt x="2612" y="623"/>
                </a:lnTo>
                <a:lnTo>
                  <a:pt x="2619" y="623"/>
                </a:lnTo>
                <a:lnTo>
                  <a:pt x="2626" y="630"/>
                </a:lnTo>
                <a:lnTo>
                  <a:pt x="2626" y="637"/>
                </a:lnTo>
                <a:lnTo>
                  <a:pt x="2626" y="643"/>
                </a:lnTo>
                <a:lnTo>
                  <a:pt x="2626" y="650"/>
                </a:lnTo>
                <a:lnTo>
                  <a:pt x="2619" y="657"/>
                </a:lnTo>
                <a:lnTo>
                  <a:pt x="2619" y="664"/>
                </a:lnTo>
                <a:lnTo>
                  <a:pt x="2619" y="671"/>
                </a:lnTo>
                <a:lnTo>
                  <a:pt x="2626" y="671"/>
                </a:lnTo>
                <a:lnTo>
                  <a:pt x="2633" y="678"/>
                </a:lnTo>
                <a:lnTo>
                  <a:pt x="2640" y="678"/>
                </a:lnTo>
                <a:lnTo>
                  <a:pt x="2646" y="685"/>
                </a:lnTo>
                <a:lnTo>
                  <a:pt x="2646" y="691"/>
                </a:lnTo>
                <a:lnTo>
                  <a:pt x="2653" y="698"/>
                </a:lnTo>
                <a:lnTo>
                  <a:pt x="2653" y="705"/>
                </a:lnTo>
                <a:lnTo>
                  <a:pt x="2646" y="712"/>
                </a:lnTo>
                <a:lnTo>
                  <a:pt x="2646" y="719"/>
                </a:lnTo>
                <a:lnTo>
                  <a:pt x="2640" y="726"/>
                </a:lnTo>
                <a:lnTo>
                  <a:pt x="2633" y="726"/>
                </a:lnTo>
                <a:lnTo>
                  <a:pt x="2626" y="719"/>
                </a:lnTo>
                <a:lnTo>
                  <a:pt x="2612" y="712"/>
                </a:lnTo>
                <a:lnTo>
                  <a:pt x="2605" y="712"/>
                </a:lnTo>
                <a:lnTo>
                  <a:pt x="2605" y="712"/>
                </a:lnTo>
                <a:lnTo>
                  <a:pt x="2598" y="712"/>
                </a:lnTo>
                <a:lnTo>
                  <a:pt x="2598" y="719"/>
                </a:lnTo>
                <a:lnTo>
                  <a:pt x="2592" y="732"/>
                </a:lnTo>
                <a:lnTo>
                  <a:pt x="2585" y="739"/>
                </a:lnTo>
                <a:lnTo>
                  <a:pt x="2578" y="739"/>
                </a:lnTo>
                <a:lnTo>
                  <a:pt x="2578" y="739"/>
                </a:lnTo>
                <a:lnTo>
                  <a:pt x="2571" y="739"/>
                </a:lnTo>
                <a:lnTo>
                  <a:pt x="2564" y="732"/>
                </a:lnTo>
                <a:lnTo>
                  <a:pt x="2557" y="726"/>
                </a:lnTo>
                <a:lnTo>
                  <a:pt x="2557" y="719"/>
                </a:lnTo>
                <a:lnTo>
                  <a:pt x="2550" y="712"/>
                </a:lnTo>
                <a:lnTo>
                  <a:pt x="2544" y="712"/>
                </a:lnTo>
                <a:lnTo>
                  <a:pt x="2544" y="705"/>
                </a:lnTo>
                <a:lnTo>
                  <a:pt x="2544" y="698"/>
                </a:lnTo>
                <a:lnTo>
                  <a:pt x="2544" y="691"/>
                </a:lnTo>
                <a:lnTo>
                  <a:pt x="2544" y="685"/>
                </a:lnTo>
                <a:lnTo>
                  <a:pt x="2544" y="678"/>
                </a:lnTo>
                <a:lnTo>
                  <a:pt x="2544" y="671"/>
                </a:lnTo>
                <a:lnTo>
                  <a:pt x="2537" y="664"/>
                </a:lnTo>
                <a:lnTo>
                  <a:pt x="2537" y="657"/>
                </a:lnTo>
                <a:lnTo>
                  <a:pt x="2530" y="650"/>
                </a:lnTo>
                <a:lnTo>
                  <a:pt x="2523" y="643"/>
                </a:lnTo>
                <a:lnTo>
                  <a:pt x="2516" y="643"/>
                </a:lnTo>
                <a:lnTo>
                  <a:pt x="2516" y="643"/>
                </a:lnTo>
                <a:lnTo>
                  <a:pt x="2509" y="650"/>
                </a:lnTo>
                <a:lnTo>
                  <a:pt x="2502" y="657"/>
                </a:lnTo>
                <a:lnTo>
                  <a:pt x="2502" y="664"/>
                </a:lnTo>
                <a:lnTo>
                  <a:pt x="2496" y="671"/>
                </a:lnTo>
                <a:lnTo>
                  <a:pt x="2489" y="678"/>
                </a:lnTo>
                <a:lnTo>
                  <a:pt x="2489" y="678"/>
                </a:lnTo>
                <a:lnTo>
                  <a:pt x="2482" y="685"/>
                </a:lnTo>
                <a:lnTo>
                  <a:pt x="2475" y="691"/>
                </a:lnTo>
                <a:lnTo>
                  <a:pt x="2468" y="698"/>
                </a:lnTo>
                <a:lnTo>
                  <a:pt x="2461" y="698"/>
                </a:lnTo>
                <a:lnTo>
                  <a:pt x="2461" y="705"/>
                </a:lnTo>
                <a:lnTo>
                  <a:pt x="2454" y="712"/>
                </a:lnTo>
                <a:lnTo>
                  <a:pt x="2448" y="719"/>
                </a:lnTo>
                <a:lnTo>
                  <a:pt x="2441" y="719"/>
                </a:lnTo>
                <a:lnTo>
                  <a:pt x="2434" y="726"/>
                </a:lnTo>
                <a:lnTo>
                  <a:pt x="2427" y="732"/>
                </a:lnTo>
                <a:lnTo>
                  <a:pt x="2427" y="739"/>
                </a:lnTo>
                <a:lnTo>
                  <a:pt x="2420" y="739"/>
                </a:lnTo>
                <a:lnTo>
                  <a:pt x="2413" y="746"/>
                </a:lnTo>
                <a:lnTo>
                  <a:pt x="2406" y="746"/>
                </a:lnTo>
                <a:lnTo>
                  <a:pt x="2400" y="753"/>
                </a:lnTo>
                <a:lnTo>
                  <a:pt x="2393" y="760"/>
                </a:lnTo>
                <a:lnTo>
                  <a:pt x="2386" y="760"/>
                </a:lnTo>
                <a:lnTo>
                  <a:pt x="2379" y="767"/>
                </a:lnTo>
                <a:lnTo>
                  <a:pt x="2372" y="774"/>
                </a:lnTo>
                <a:lnTo>
                  <a:pt x="2365" y="780"/>
                </a:lnTo>
                <a:lnTo>
                  <a:pt x="2358" y="780"/>
                </a:lnTo>
                <a:lnTo>
                  <a:pt x="2352" y="787"/>
                </a:lnTo>
                <a:lnTo>
                  <a:pt x="2345" y="794"/>
                </a:lnTo>
                <a:lnTo>
                  <a:pt x="2338" y="794"/>
                </a:lnTo>
                <a:lnTo>
                  <a:pt x="2331" y="801"/>
                </a:lnTo>
                <a:lnTo>
                  <a:pt x="2331" y="808"/>
                </a:lnTo>
                <a:lnTo>
                  <a:pt x="2324" y="815"/>
                </a:lnTo>
                <a:lnTo>
                  <a:pt x="2324" y="815"/>
                </a:lnTo>
                <a:lnTo>
                  <a:pt x="2317" y="821"/>
                </a:lnTo>
                <a:lnTo>
                  <a:pt x="2317" y="828"/>
                </a:lnTo>
                <a:lnTo>
                  <a:pt x="2317" y="835"/>
                </a:lnTo>
                <a:lnTo>
                  <a:pt x="2317" y="842"/>
                </a:lnTo>
                <a:lnTo>
                  <a:pt x="2317" y="849"/>
                </a:lnTo>
                <a:lnTo>
                  <a:pt x="2317" y="856"/>
                </a:lnTo>
                <a:lnTo>
                  <a:pt x="2310" y="862"/>
                </a:lnTo>
                <a:lnTo>
                  <a:pt x="2310" y="869"/>
                </a:lnTo>
                <a:lnTo>
                  <a:pt x="2310" y="869"/>
                </a:lnTo>
                <a:lnTo>
                  <a:pt x="2310" y="876"/>
                </a:lnTo>
                <a:lnTo>
                  <a:pt x="2310" y="883"/>
                </a:lnTo>
                <a:lnTo>
                  <a:pt x="2310" y="890"/>
                </a:lnTo>
                <a:lnTo>
                  <a:pt x="2310" y="897"/>
                </a:lnTo>
                <a:lnTo>
                  <a:pt x="2310" y="904"/>
                </a:lnTo>
                <a:lnTo>
                  <a:pt x="2310" y="910"/>
                </a:lnTo>
                <a:lnTo>
                  <a:pt x="2304" y="917"/>
                </a:lnTo>
                <a:lnTo>
                  <a:pt x="2304" y="924"/>
                </a:lnTo>
                <a:lnTo>
                  <a:pt x="2304" y="931"/>
                </a:lnTo>
                <a:lnTo>
                  <a:pt x="2304" y="938"/>
                </a:lnTo>
                <a:lnTo>
                  <a:pt x="2304" y="938"/>
                </a:lnTo>
                <a:lnTo>
                  <a:pt x="2297" y="945"/>
                </a:lnTo>
                <a:lnTo>
                  <a:pt x="2297" y="951"/>
                </a:lnTo>
                <a:lnTo>
                  <a:pt x="2297" y="958"/>
                </a:lnTo>
                <a:lnTo>
                  <a:pt x="2297" y="965"/>
                </a:lnTo>
                <a:lnTo>
                  <a:pt x="2297" y="972"/>
                </a:lnTo>
                <a:lnTo>
                  <a:pt x="2297" y="979"/>
                </a:lnTo>
                <a:lnTo>
                  <a:pt x="2297" y="986"/>
                </a:lnTo>
                <a:lnTo>
                  <a:pt x="2297" y="992"/>
                </a:lnTo>
                <a:lnTo>
                  <a:pt x="2297" y="999"/>
                </a:lnTo>
                <a:lnTo>
                  <a:pt x="2297" y="999"/>
                </a:lnTo>
                <a:lnTo>
                  <a:pt x="2297" y="1006"/>
                </a:lnTo>
                <a:lnTo>
                  <a:pt x="2297" y="1013"/>
                </a:lnTo>
                <a:lnTo>
                  <a:pt x="2297" y="1020"/>
                </a:lnTo>
                <a:lnTo>
                  <a:pt x="2304" y="1027"/>
                </a:lnTo>
                <a:lnTo>
                  <a:pt x="2304" y="1034"/>
                </a:lnTo>
                <a:lnTo>
                  <a:pt x="2310" y="1040"/>
                </a:lnTo>
                <a:lnTo>
                  <a:pt x="2310" y="1047"/>
                </a:lnTo>
                <a:lnTo>
                  <a:pt x="2317" y="1047"/>
                </a:lnTo>
                <a:lnTo>
                  <a:pt x="2317" y="1054"/>
                </a:lnTo>
                <a:lnTo>
                  <a:pt x="2317" y="1061"/>
                </a:lnTo>
                <a:lnTo>
                  <a:pt x="2310" y="1068"/>
                </a:lnTo>
                <a:lnTo>
                  <a:pt x="2304" y="1075"/>
                </a:lnTo>
                <a:lnTo>
                  <a:pt x="2297" y="1081"/>
                </a:lnTo>
                <a:lnTo>
                  <a:pt x="2290" y="1081"/>
                </a:lnTo>
                <a:lnTo>
                  <a:pt x="2283" y="1081"/>
                </a:lnTo>
                <a:lnTo>
                  <a:pt x="2269" y="1081"/>
                </a:lnTo>
                <a:lnTo>
                  <a:pt x="2262" y="1081"/>
                </a:lnTo>
                <a:lnTo>
                  <a:pt x="2249" y="1081"/>
                </a:lnTo>
                <a:lnTo>
                  <a:pt x="2242" y="1081"/>
                </a:lnTo>
                <a:lnTo>
                  <a:pt x="2235" y="1081"/>
                </a:lnTo>
                <a:lnTo>
                  <a:pt x="2221" y="1081"/>
                </a:lnTo>
                <a:lnTo>
                  <a:pt x="2214" y="1081"/>
                </a:lnTo>
                <a:lnTo>
                  <a:pt x="2208" y="1081"/>
                </a:lnTo>
                <a:lnTo>
                  <a:pt x="2194" y="1081"/>
                </a:lnTo>
                <a:lnTo>
                  <a:pt x="2187" y="1081"/>
                </a:lnTo>
                <a:lnTo>
                  <a:pt x="2173" y="1088"/>
                </a:lnTo>
                <a:lnTo>
                  <a:pt x="2166" y="1088"/>
                </a:lnTo>
                <a:lnTo>
                  <a:pt x="2160" y="1095"/>
                </a:lnTo>
                <a:lnTo>
                  <a:pt x="2153" y="1095"/>
                </a:lnTo>
                <a:lnTo>
                  <a:pt x="2146" y="1102"/>
                </a:lnTo>
                <a:lnTo>
                  <a:pt x="2139" y="1109"/>
                </a:lnTo>
                <a:lnTo>
                  <a:pt x="2139" y="1109"/>
                </a:lnTo>
                <a:lnTo>
                  <a:pt x="2132" y="1116"/>
                </a:lnTo>
                <a:lnTo>
                  <a:pt x="2139" y="1122"/>
                </a:lnTo>
                <a:lnTo>
                  <a:pt x="2132" y="1129"/>
                </a:lnTo>
                <a:lnTo>
                  <a:pt x="2132" y="1136"/>
                </a:lnTo>
                <a:lnTo>
                  <a:pt x="2125" y="1143"/>
                </a:lnTo>
                <a:lnTo>
                  <a:pt x="2118" y="1143"/>
                </a:lnTo>
                <a:lnTo>
                  <a:pt x="2112" y="1150"/>
                </a:lnTo>
                <a:lnTo>
                  <a:pt x="2105" y="1150"/>
                </a:lnTo>
                <a:lnTo>
                  <a:pt x="2098" y="1157"/>
                </a:lnTo>
                <a:lnTo>
                  <a:pt x="2084" y="1157"/>
                </a:lnTo>
                <a:lnTo>
                  <a:pt x="2077" y="1157"/>
                </a:lnTo>
                <a:lnTo>
                  <a:pt x="2070" y="1164"/>
                </a:lnTo>
                <a:lnTo>
                  <a:pt x="2064" y="1170"/>
                </a:lnTo>
                <a:lnTo>
                  <a:pt x="2064" y="1170"/>
                </a:lnTo>
                <a:lnTo>
                  <a:pt x="2070" y="1177"/>
                </a:lnTo>
                <a:lnTo>
                  <a:pt x="2070" y="1184"/>
                </a:lnTo>
                <a:lnTo>
                  <a:pt x="2070" y="1191"/>
                </a:lnTo>
                <a:lnTo>
                  <a:pt x="2064" y="1198"/>
                </a:lnTo>
                <a:lnTo>
                  <a:pt x="2050" y="1198"/>
                </a:lnTo>
                <a:lnTo>
                  <a:pt x="2043" y="1205"/>
                </a:lnTo>
                <a:lnTo>
                  <a:pt x="2036" y="1205"/>
                </a:lnTo>
                <a:lnTo>
                  <a:pt x="2029" y="1211"/>
                </a:lnTo>
                <a:lnTo>
                  <a:pt x="2016" y="1211"/>
                </a:lnTo>
                <a:lnTo>
                  <a:pt x="2009" y="1211"/>
                </a:lnTo>
                <a:lnTo>
                  <a:pt x="2002" y="1211"/>
                </a:lnTo>
                <a:lnTo>
                  <a:pt x="1995" y="1218"/>
                </a:lnTo>
                <a:lnTo>
                  <a:pt x="1995" y="1225"/>
                </a:lnTo>
                <a:lnTo>
                  <a:pt x="2002" y="1225"/>
                </a:lnTo>
                <a:lnTo>
                  <a:pt x="2016" y="1232"/>
                </a:lnTo>
                <a:lnTo>
                  <a:pt x="2022" y="1232"/>
                </a:lnTo>
                <a:lnTo>
                  <a:pt x="2029" y="1239"/>
                </a:lnTo>
                <a:lnTo>
                  <a:pt x="2029" y="1246"/>
                </a:lnTo>
                <a:lnTo>
                  <a:pt x="2036" y="1246"/>
                </a:lnTo>
                <a:lnTo>
                  <a:pt x="2043" y="1252"/>
                </a:lnTo>
                <a:lnTo>
                  <a:pt x="2043" y="1259"/>
                </a:lnTo>
                <a:lnTo>
                  <a:pt x="2050" y="1266"/>
                </a:lnTo>
                <a:lnTo>
                  <a:pt x="2050" y="1273"/>
                </a:lnTo>
                <a:lnTo>
                  <a:pt x="2050" y="1280"/>
                </a:lnTo>
                <a:lnTo>
                  <a:pt x="2057" y="1287"/>
                </a:lnTo>
                <a:lnTo>
                  <a:pt x="2057" y="1287"/>
                </a:lnTo>
                <a:lnTo>
                  <a:pt x="2064" y="1294"/>
                </a:lnTo>
                <a:lnTo>
                  <a:pt x="2070" y="1300"/>
                </a:lnTo>
                <a:lnTo>
                  <a:pt x="2070" y="1307"/>
                </a:lnTo>
                <a:lnTo>
                  <a:pt x="2070" y="1314"/>
                </a:lnTo>
                <a:lnTo>
                  <a:pt x="2064" y="1314"/>
                </a:lnTo>
                <a:lnTo>
                  <a:pt x="2057" y="1321"/>
                </a:lnTo>
                <a:lnTo>
                  <a:pt x="2043" y="1314"/>
                </a:lnTo>
                <a:lnTo>
                  <a:pt x="2043" y="1307"/>
                </a:lnTo>
                <a:lnTo>
                  <a:pt x="2036" y="1307"/>
                </a:lnTo>
                <a:lnTo>
                  <a:pt x="2029" y="1300"/>
                </a:lnTo>
                <a:lnTo>
                  <a:pt x="2016" y="1300"/>
                </a:lnTo>
                <a:lnTo>
                  <a:pt x="2009" y="1307"/>
                </a:lnTo>
                <a:lnTo>
                  <a:pt x="2002" y="1307"/>
                </a:lnTo>
                <a:lnTo>
                  <a:pt x="1995" y="1314"/>
                </a:lnTo>
                <a:lnTo>
                  <a:pt x="1988" y="1314"/>
                </a:lnTo>
                <a:lnTo>
                  <a:pt x="1981" y="1321"/>
                </a:lnTo>
                <a:lnTo>
                  <a:pt x="1974" y="1328"/>
                </a:lnTo>
                <a:lnTo>
                  <a:pt x="1968" y="1328"/>
                </a:lnTo>
                <a:lnTo>
                  <a:pt x="1961" y="1335"/>
                </a:lnTo>
                <a:lnTo>
                  <a:pt x="1947" y="1335"/>
                </a:lnTo>
                <a:lnTo>
                  <a:pt x="1940" y="1335"/>
                </a:lnTo>
                <a:lnTo>
                  <a:pt x="1926" y="1328"/>
                </a:lnTo>
                <a:lnTo>
                  <a:pt x="1920" y="1328"/>
                </a:lnTo>
                <a:lnTo>
                  <a:pt x="1913" y="1335"/>
                </a:lnTo>
                <a:lnTo>
                  <a:pt x="1906" y="1341"/>
                </a:lnTo>
                <a:lnTo>
                  <a:pt x="1899" y="1341"/>
                </a:lnTo>
                <a:lnTo>
                  <a:pt x="1892" y="1348"/>
                </a:lnTo>
                <a:lnTo>
                  <a:pt x="1892" y="1355"/>
                </a:lnTo>
                <a:lnTo>
                  <a:pt x="1885" y="1362"/>
                </a:lnTo>
                <a:lnTo>
                  <a:pt x="1879" y="1362"/>
                </a:lnTo>
                <a:lnTo>
                  <a:pt x="1872" y="1369"/>
                </a:lnTo>
                <a:lnTo>
                  <a:pt x="1865" y="1376"/>
                </a:lnTo>
                <a:lnTo>
                  <a:pt x="1858" y="1376"/>
                </a:lnTo>
                <a:lnTo>
                  <a:pt x="1844" y="1376"/>
                </a:lnTo>
                <a:lnTo>
                  <a:pt x="1837" y="1376"/>
                </a:lnTo>
                <a:lnTo>
                  <a:pt x="1831" y="1369"/>
                </a:lnTo>
                <a:lnTo>
                  <a:pt x="1817" y="1369"/>
                </a:lnTo>
                <a:lnTo>
                  <a:pt x="1810" y="1362"/>
                </a:lnTo>
                <a:lnTo>
                  <a:pt x="1803" y="1362"/>
                </a:lnTo>
                <a:lnTo>
                  <a:pt x="1796" y="1355"/>
                </a:lnTo>
                <a:lnTo>
                  <a:pt x="1796" y="1348"/>
                </a:lnTo>
                <a:lnTo>
                  <a:pt x="1789" y="1348"/>
                </a:lnTo>
                <a:lnTo>
                  <a:pt x="1783" y="1341"/>
                </a:lnTo>
                <a:lnTo>
                  <a:pt x="1776" y="1335"/>
                </a:lnTo>
                <a:lnTo>
                  <a:pt x="1769" y="1328"/>
                </a:lnTo>
                <a:lnTo>
                  <a:pt x="1762" y="1328"/>
                </a:lnTo>
                <a:lnTo>
                  <a:pt x="1755" y="1328"/>
                </a:lnTo>
                <a:lnTo>
                  <a:pt x="1741" y="1335"/>
                </a:lnTo>
                <a:lnTo>
                  <a:pt x="1735" y="1335"/>
                </a:lnTo>
                <a:lnTo>
                  <a:pt x="1735" y="1335"/>
                </a:lnTo>
                <a:lnTo>
                  <a:pt x="1728" y="1328"/>
                </a:lnTo>
                <a:lnTo>
                  <a:pt x="1728" y="1321"/>
                </a:lnTo>
                <a:lnTo>
                  <a:pt x="1728" y="1307"/>
                </a:lnTo>
                <a:lnTo>
                  <a:pt x="1721" y="1300"/>
                </a:lnTo>
                <a:lnTo>
                  <a:pt x="1721" y="1300"/>
                </a:lnTo>
                <a:lnTo>
                  <a:pt x="1714" y="1294"/>
                </a:lnTo>
                <a:lnTo>
                  <a:pt x="1700" y="1294"/>
                </a:lnTo>
                <a:lnTo>
                  <a:pt x="1693" y="1287"/>
                </a:lnTo>
                <a:lnTo>
                  <a:pt x="1687" y="1287"/>
                </a:lnTo>
                <a:lnTo>
                  <a:pt x="1673" y="1287"/>
                </a:lnTo>
                <a:lnTo>
                  <a:pt x="1666" y="1294"/>
                </a:lnTo>
                <a:lnTo>
                  <a:pt x="1659" y="1294"/>
                </a:lnTo>
                <a:lnTo>
                  <a:pt x="1659" y="1300"/>
                </a:lnTo>
                <a:lnTo>
                  <a:pt x="1652" y="1307"/>
                </a:lnTo>
                <a:lnTo>
                  <a:pt x="1645" y="1314"/>
                </a:lnTo>
                <a:lnTo>
                  <a:pt x="1639" y="1307"/>
                </a:lnTo>
                <a:lnTo>
                  <a:pt x="1652" y="1307"/>
                </a:lnTo>
                <a:lnTo>
                  <a:pt x="1666" y="1307"/>
                </a:lnTo>
                <a:lnTo>
                  <a:pt x="1673" y="1300"/>
                </a:lnTo>
                <a:lnTo>
                  <a:pt x="1673" y="1294"/>
                </a:lnTo>
                <a:lnTo>
                  <a:pt x="1680" y="1287"/>
                </a:lnTo>
                <a:lnTo>
                  <a:pt x="1673" y="1280"/>
                </a:lnTo>
                <a:lnTo>
                  <a:pt x="1673" y="1273"/>
                </a:lnTo>
                <a:lnTo>
                  <a:pt x="1666" y="1266"/>
                </a:lnTo>
                <a:lnTo>
                  <a:pt x="1666" y="1266"/>
                </a:lnTo>
                <a:lnTo>
                  <a:pt x="1659" y="1259"/>
                </a:lnTo>
                <a:lnTo>
                  <a:pt x="1652" y="1252"/>
                </a:lnTo>
                <a:lnTo>
                  <a:pt x="1645" y="1246"/>
                </a:lnTo>
                <a:lnTo>
                  <a:pt x="1639" y="1246"/>
                </a:lnTo>
                <a:lnTo>
                  <a:pt x="1639" y="1239"/>
                </a:lnTo>
                <a:lnTo>
                  <a:pt x="1639" y="1232"/>
                </a:lnTo>
                <a:lnTo>
                  <a:pt x="1632" y="1225"/>
                </a:lnTo>
                <a:lnTo>
                  <a:pt x="1625" y="1218"/>
                </a:lnTo>
                <a:lnTo>
                  <a:pt x="1625" y="1218"/>
                </a:lnTo>
                <a:lnTo>
                  <a:pt x="1618" y="1211"/>
                </a:lnTo>
                <a:lnTo>
                  <a:pt x="1611" y="1205"/>
                </a:lnTo>
                <a:lnTo>
                  <a:pt x="1611" y="1198"/>
                </a:lnTo>
                <a:lnTo>
                  <a:pt x="1604" y="1191"/>
                </a:lnTo>
                <a:lnTo>
                  <a:pt x="1604" y="1184"/>
                </a:lnTo>
                <a:lnTo>
                  <a:pt x="1604" y="1177"/>
                </a:lnTo>
                <a:lnTo>
                  <a:pt x="1597" y="1170"/>
                </a:lnTo>
                <a:lnTo>
                  <a:pt x="1591" y="1170"/>
                </a:lnTo>
                <a:lnTo>
                  <a:pt x="1584" y="1170"/>
                </a:lnTo>
                <a:lnTo>
                  <a:pt x="1577" y="1177"/>
                </a:lnTo>
                <a:lnTo>
                  <a:pt x="1570" y="1184"/>
                </a:lnTo>
                <a:lnTo>
                  <a:pt x="1570" y="1191"/>
                </a:lnTo>
                <a:lnTo>
                  <a:pt x="1563" y="1198"/>
                </a:lnTo>
                <a:lnTo>
                  <a:pt x="1563" y="1205"/>
                </a:lnTo>
                <a:lnTo>
                  <a:pt x="1570" y="1205"/>
                </a:lnTo>
                <a:lnTo>
                  <a:pt x="1570" y="1211"/>
                </a:lnTo>
                <a:lnTo>
                  <a:pt x="1577" y="1218"/>
                </a:lnTo>
                <a:lnTo>
                  <a:pt x="1577" y="1225"/>
                </a:lnTo>
                <a:lnTo>
                  <a:pt x="1584" y="1232"/>
                </a:lnTo>
                <a:lnTo>
                  <a:pt x="1584" y="1239"/>
                </a:lnTo>
                <a:lnTo>
                  <a:pt x="1584" y="1246"/>
                </a:lnTo>
                <a:lnTo>
                  <a:pt x="1584" y="1252"/>
                </a:lnTo>
                <a:lnTo>
                  <a:pt x="1591" y="1252"/>
                </a:lnTo>
                <a:lnTo>
                  <a:pt x="1597" y="1259"/>
                </a:lnTo>
                <a:lnTo>
                  <a:pt x="1597" y="1266"/>
                </a:lnTo>
                <a:lnTo>
                  <a:pt x="1604" y="1273"/>
                </a:lnTo>
                <a:lnTo>
                  <a:pt x="1604" y="1280"/>
                </a:lnTo>
                <a:lnTo>
                  <a:pt x="1604" y="1287"/>
                </a:lnTo>
                <a:lnTo>
                  <a:pt x="1604" y="1294"/>
                </a:lnTo>
                <a:lnTo>
                  <a:pt x="1597" y="1300"/>
                </a:lnTo>
                <a:lnTo>
                  <a:pt x="1597" y="1300"/>
                </a:lnTo>
                <a:lnTo>
                  <a:pt x="1591" y="1300"/>
                </a:lnTo>
                <a:lnTo>
                  <a:pt x="1584" y="1300"/>
                </a:lnTo>
                <a:lnTo>
                  <a:pt x="1577" y="1294"/>
                </a:lnTo>
                <a:lnTo>
                  <a:pt x="1570" y="1287"/>
                </a:lnTo>
                <a:lnTo>
                  <a:pt x="1563" y="1280"/>
                </a:lnTo>
                <a:lnTo>
                  <a:pt x="1556" y="1280"/>
                </a:lnTo>
                <a:lnTo>
                  <a:pt x="1543" y="1280"/>
                </a:lnTo>
                <a:lnTo>
                  <a:pt x="1536" y="1280"/>
                </a:lnTo>
                <a:lnTo>
                  <a:pt x="1529" y="1280"/>
                </a:lnTo>
                <a:lnTo>
                  <a:pt x="1529" y="1287"/>
                </a:lnTo>
                <a:lnTo>
                  <a:pt x="1529" y="1294"/>
                </a:lnTo>
                <a:lnTo>
                  <a:pt x="1529" y="1300"/>
                </a:lnTo>
                <a:lnTo>
                  <a:pt x="1529" y="1307"/>
                </a:lnTo>
                <a:lnTo>
                  <a:pt x="1529" y="1314"/>
                </a:lnTo>
                <a:lnTo>
                  <a:pt x="1529" y="1321"/>
                </a:lnTo>
                <a:lnTo>
                  <a:pt x="1522" y="1328"/>
                </a:lnTo>
                <a:lnTo>
                  <a:pt x="1522" y="1335"/>
                </a:lnTo>
                <a:lnTo>
                  <a:pt x="1529" y="1341"/>
                </a:lnTo>
                <a:lnTo>
                  <a:pt x="1529" y="1341"/>
                </a:lnTo>
                <a:lnTo>
                  <a:pt x="1536" y="1341"/>
                </a:lnTo>
                <a:lnTo>
                  <a:pt x="1543" y="1335"/>
                </a:lnTo>
                <a:lnTo>
                  <a:pt x="1549" y="1335"/>
                </a:lnTo>
                <a:lnTo>
                  <a:pt x="1563" y="1335"/>
                </a:lnTo>
                <a:lnTo>
                  <a:pt x="1570" y="1328"/>
                </a:lnTo>
                <a:lnTo>
                  <a:pt x="1584" y="1328"/>
                </a:lnTo>
                <a:lnTo>
                  <a:pt x="1591" y="1328"/>
                </a:lnTo>
                <a:lnTo>
                  <a:pt x="1597" y="1335"/>
                </a:lnTo>
                <a:lnTo>
                  <a:pt x="1597" y="1341"/>
                </a:lnTo>
                <a:lnTo>
                  <a:pt x="1604" y="1348"/>
                </a:lnTo>
                <a:lnTo>
                  <a:pt x="1611" y="1355"/>
                </a:lnTo>
                <a:lnTo>
                  <a:pt x="1611" y="1355"/>
                </a:lnTo>
                <a:lnTo>
                  <a:pt x="1618" y="1362"/>
                </a:lnTo>
                <a:lnTo>
                  <a:pt x="1618" y="1369"/>
                </a:lnTo>
                <a:lnTo>
                  <a:pt x="1625" y="1376"/>
                </a:lnTo>
                <a:lnTo>
                  <a:pt x="1632" y="1382"/>
                </a:lnTo>
                <a:lnTo>
                  <a:pt x="1632" y="1382"/>
                </a:lnTo>
                <a:lnTo>
                  <a:pt x="1639" y="1389"/>
                </a:lnTo>
                <a:lnTo>
                  <a:pt x="1639" y="1396"/>
                </a:lnTo>
                <a:lnTo>
                  <a:pt x="1645" y="1403"/>
                </a:lnTo>
                <a:lnTo>
                  <a:pt x="1652" y="1410"/>
                </a:lnTo>
                <a:lnTo>
                  <a:pt x="1652" y="1410"/>
                </a:lnTo>
                <a:lnTo>
                  <a:pt x="1659" y="1417"/>
                </a:lnTo>
                <a:lnTo>
                  <a:pt x="1666" y="1424"/>
                </a:lnTo>
                <a:lnTo>
                  <a:pt x="1666" y="1430"/>
                </a:lnTo>
                <a:lnTo>
                  <a:pt x="1673" y="1437"/>
                </a:lnTo>
                <a:lnTo>
                  <a:pt x="1673" y="1444"/>
                </a:lnTo>
                <a:lnTo>
                  <a:pt x="1680" y="1444"/>
                </a:lnTo>
                <a:lnTo>
                  <a:pt x="1687" y="1451"/>
                </a:lnTo>
                <a:lnTo>
                  <a:pt x="1687" y="1458"/>
                </a:lnTo>
                <a:lnTo>
                  <a:pt x="1693" y="1465"/>
                </a:lnTo>
                <a:lnTo>
                  <a:pt x="1693" y="1471"/>
                </a:lnTo>
                <a:lnTo>
                  <a:pt x="1700" y="1471"/>
                </a:lnTo>
                <a:lnTo>
                  <a:pt x="1707" y="1478"/>
                </a:lnTo>
                <a:lnTo>
                  <a:pt x="1707" y="1485"/>
                </a:lnTo>
                <a:lnTo>
                  <a:pt x="1714" y="1492"/>
                </a:lnTo>
                <a:lnTo>
                  <a:pt x="1721" y="1499"/>
                </a:lnTo>
                <a:lnTo>
                  <a:pt x="1728" y="1506"/>
                </a:lnTo>
                <a:lnTo>
                  <a:pt x="1735" y="1506"/>
                </a:lnTo>
                <a:lnTo>
                  <a:pt x="1735" y="1513"/>
                </a:lnTo>
                <a:lnTo>
                  <a:pt x="1741" y="1506"/>
                </a:lnTo>
                <a:lnTo>
                  <a:pt x="1748" y="1506"/>
                </a:lnTo>
                <a:lnTo>
                  <a:pt x="1755" y="1499"/>
                </a:lnTo>
                <a:lnTo>
                  <a:pt x="1762" y="1492"/>
                </a:lnTo>
                <a:lnTo>
                  <a:pt x="1762" y="1485"/>
                </a:lnTo>
                <a:lnTo>
                  <a:pt x="1762" y="1478"/>
                </a:lnTo>
                <a:lnTo>
                  <a:pt x="1769" y="1471"/>
                </a:lnTo>
                <a:lnTo>
                  <a:pt x="1783" y="1471"/>
                </a:lnTo>
                <a:lnTo>
                  <a:pt x="1789" y="1471"/>
                </a:lnTo>
                <a:lnTo>
                  <a:pt x="1796" y="1471"/>
                </a:lnTo>
                <a:lnTo>
                  <a:pt x="1810" y="1471"/>
                </a:lnTo>
                <a:lnTo>
                  <a:pt x="1817" y="1478"/>
                </a:lnTo>
                <a:lnTo>
                  <a:pt x="1824" y="1485"/>
                </a:lnTo>
                <a:lnTo>
                  <a:pt x="1817" y="1485"/>
                </a:lnTo>
                <a:lnTo>
                  <a:pt x="1810" y="1492"/>
                </a:lnTo>
                <a:lnTo>
                  <a:pt x="1803" y="1492"/>
                </a:lnTo>
                <a:lnTo>
                  <a:pt x="1796" y="1492"/>
                </a:lnTo>
                <a:lnTo>
                  <a:pt x="1783" y="1492"/>
                </a:lnTo>
                <a:lnTo>
                  <a:pt x="1776" y="1492"/>
                </a:lnTo>
                <a:lnTo>
                  <a:pt x="1762" y="1492"/>
                </a:lnTo>
                <a:lnTo>
                  <a:pt x="1755" y="1492"/>
                </a:lnTo>
                <a:lnTo>
                  <a:pt x="1755" y="1499"/>
                </a:lnTo>
                <a:lnTo>
                  <a:pt x="1748" y="1506"/>
                </a:lnTo>
                <a:lnTo>
                  <a:pt x="1741" y="1513"/>
                </a:lnTo>
                <a:lnTo>
                  <a:pt x="1735" y="1519"/>
                </a:lnTo>
                <a:lnTo>
                  <a:pt x="1728" y="1519"/>
                </a:lnTo>
                <a:lnTo>
                  <a:pt x="1721" y="1526"/>
                </a:lnTo>
                <a:lnTo>
                  <a:pt x="1714" y="1526"/>
                </a:lnTo>
                <a:lnTo>
                  <a:pt x="1700" y="1533"/>
                </a:lnTo>
                <a:lnTo>
                  <a:pt x="1693" y="1533"/>
                </a:lnTo>
                <a:lnTo>
                  <a:pt x="1687" y="1540"/>
                </a:lnTo>
                <a:lnTo>
                  <a:pt x="1680" y="1540"/>
                </a:lnTo>
                <a:lnTo>
                  <a:pt x="1673" y="1547"/>
                </a:lnTo>
                <a:lnTo>
                  <a:pt x="1666" y="1547"/>
                </a:lnTo>
                <a:lnTo>
                  <a:pt x="1652" y="1547"/>
                </a:lnTo>
                <a:lnTo>
                  <a:pt x="1645" y="1554"/>
                </a:lnTo>
                <a:lnTo>
                  <a:pt x="1639" y="1560"/>
                </a:lnTo>
                <a:lnTo>
                  <a:pt x="1639" y="1567"/>
                </a:lnTo>
                <a:lnTo>
                  <a:pt x="1632" y="1567"/>
                </a:lnTo>
                <a:lnTo>
                  <a:pt x="1625" y="1574"/>
                </a:lnTo>
                <a:lnTo>
                  <a:pt x="1618" y="1574"/>
                </a:lnTo>
                <a:lnTo>
                  <a:pt x="1604" y="1581"/>
                </a:lnTo>
                <a:lnTo>
                  <a:pt x="1597" y="1581"/>
                </a:lnTo>
                <a:lnTo>
                  <a:pt x="1591" y="1581"/>
                </a:lnTo>
                <a:lnTo>
                  <a:pt x="1577" y="1581"/>
                </a:lnTo>
                <a:lnTo>
                  <a:pt x="1570" y="1581"/>
                </a:lnTo>
                <a:lnTo>
                  <a:pt x="1563" y="1588"/>
                </a:lnTo>
                <a:lnTo>
                  <a:pt x="1556" y="1588"/>
                </a:lnTo>
                <a:lnTo>
                  <a:pt x="1549" y="1595"/>
                </a:lnTo>
                <a:lnTo>
                  <a:pt x="1543" y="1601"/>
                </a:lnTo>
                <a:lnTo>
                  <a:pt x="1536" y="1601"/>
                </a:lnTo>
                <a:lnTo>
                  <a:pt x="1529" y="1608"/>
                </a:lnTo>
                <a:lnTo>
                  <a:pt x="1515" y="1608"/>
                </a:lnTo>
                <a:lnTo>
                  <a:pt x="1508" y="1615"/>
                </a:lnTo>
                <a:lnTo>
                  <a:pt x="1501" y="1615"/>
                </a:lnTo>
                <a:lnTo>
                  <a:pt x="1495" y="1622"/>
                </a:lnTo>
                <a:lnTo>
                  <a:pt x="1488" y="1629"/>
                </a:lnTo>
                <a:lnTo>
                  <a:pt x="1481" y="1629"/>
                </a:lnTo>
                <a:lnTo>
                  <a:pt x="1481" y="1636"/>
                </a:lnTo>
                <a:lnTo>
                  <a:pt x="1474" y="1643"/>
                </a:lnTo>
                <a:lnTo>
                  <a:pt x="1467" y="1649"/>
                </a:lnTo>
                <a:lnTo>
                  <a:pt x="1467" y="1649"/>
                </a:lnTo>
                <a:lnTo>
                  <a:pt x="1460" y="1656"/>
                </a:lnTo>
                <a:lnTo>
                  <a:pt x="1460" y="1663"/>
                </a:lnTo>
                <a:lnTo>
                  <a:pt x="1453" y="1670"/>
                </a:lnTo>
                <a:lnTo>
                  <a:pt x="1453" y="1677"/>
                </a:lnTo>
                <a:lnTo>
                  <a:pt x="1447" y="1684"/>
                </a:lnTo>
                <a:lnTo>
                  <a:pt x="1440" y="1684"/>
                </a:lnTo>
                <a:lnTo>
                  <a:pt x="1433" y="1690"/>
                </a:lnTo>
                <a:lnTo>
                  <a:pt x="1426" y="1690"/>
                </a:lnTo>
                <a:lnTo>
                  <a:pt x="1426" y="1697"/>
                </a:lnTo>
                <a:lnTo>
                  <a:pt x="1426" y="1704"/>
                </a:lnTo>
                <a:lnTo>
                  <a:pt x="1426" y="1711"/>
                </a:lnTo>
                <a:lnTo>
                  <a:pt x="1426" y="1718"/>
                </a:lnTo>
                <a:lnTo>
                  <a:pt x="1419" y="1725"/>
                </a:lnTo>
                <a:lnTo>
                  <a:pt x="1412" y="1718"/>
                </a:lnTo>
                <a:lnTo>
                  <a:pt x="1405" y="1711"/>
                </a:lnTo>
                <a:lnTo>
                  <a:pt x="1399" y="1704"/>
                </a:lnTo>
                <a:lnTo>
                  <a:pt x="1399" y="1697"/>
                </a:lnTo>
                <a:lnTo>
                  <a:pt x="1392" y="1690"/>
                </a:lnTo>
                <a:lnTo>
                  <a:pt x="1392" y="1690"/>
                </a:lnTo>
                <a:lnTo>
                  <a:pt x="1385" y="1690"/>
                </a:lnTo>
                <a:lnTo>
                  <a:pt x="1378" y="1697"/>
                </a:lnTo>
                <a:lnTo>
                  <a:pt x="1364" y="1697"/>
                </a:lnTo>
                <a:lnTo>
                  <a:pt x="1357" y="1704"/>
                </a:lnTo>
                <a:lnTo>
                  <a:pt x="1351" y="1704"/>
                </a:lnTo>
                <a:lnTo>
                  <a:pt x="1337" y="1711"/>
                </a:lnTo>
                <a:lnTo>
                  <a:pt x="1330" y="1711"/>
                </a:lnTo>
                <a:lnTo>
                  <a:pt x="1323" y="1711"/>
                </a:lnTo>
                <a:lnTo>
                  <a:pt x="1316" y="1718"/>
                </a:lnTo>
                <a:lnTo>
                  <a:pt x="1303" y="1718"/>
                </a:lnTo>
                <a:lnTo>
                  <a:pt x="1296" y="1725"/>
                </a:lnTo>
                <a:lnTo>
                  <a:pt x="1289" y="1725"/>
                </a:lnTo>
                <a:lnTo>
                  <a:pt x="1282" y="1725"/>
                </a:lnTo>
                <a:lnTo>
                  <a:pt x="1268" y="1731"/>
                </a:lnTo>
                <a:lnTo>
                  <a:pt x="1261" y="1731"/>
                </a:lnTo>
                <a:lnTo>
                  <a:pt x="1255" y="1738"/>
                </a:lnTo>
                <a:lnTo>
                  <a:pt x="1248" y="1738"/>
                </a:lnTo>
                <a:lnTo>
                  <a:pt x="1248" y="1745"/>
                </a:lnTo>
                <a:lnTo>
                  <a:pt x="1241" y="1752"/>
                </a:lnTo>
                <a:lnTo>
                  <a:pt x="1241" y="1759"/>
                </a:lnTo>
                <a:lnTo>
                  <a:pt x="1241" y="1766"/>
                </a:lnTo>
                <a:lnTo>
                  <a:pt x="1241" y="1773"/>
                </a:lnTo>
                <a:lnTo>
                  <a:pt x="1241" y="1779"/>
                </a:lnTo>
                <a:lnTo>
                  <a:pt x="1241" y="1786"/>
                </a:lnTo>
                <a:lnTo>
                  <a:pt x="1241" y="1793"/>
                </a:lnTo>
                <a:lnTo>
                  <a:pt x="1241" y="1800"/>
                </a:lnTo>
                <a:lnTo>
                  <a:pt x="1241" y="1800"/>
                </a:lnTo>
                <a:lnTo>
                  <a:pt x="1248" y="1800"/>
                </a:lnTo>
                <a:lnTo>
                  <a:pt x="1275" y="1800"/>
                </a:lnTo>
                <a:lnTo>
                  <a:pt x="1282" y="1800"/>
                </a:lnTo>
                <a:close/>
                <a:moveTo>
                  <a:pt x="1357" y="1800"/>
                </a:moveTo>
                <a:lnTo>
                  <a:pt x="1351" y="1800"/>
                </a:lnTo>
                <a:lnTo>
                  <a:pt x="1344" y="1793"/>
                </a:lnTo>
                <a:lnTo>
                  <a:pt x="1344" y="1793"/>
                </a:lnTo>
                <a:lnTo>
                  <a:pt x="1337" y="1793"/>
                </a:lnTo>
                <a:lnTo>
                  <a:pt x="1330" y="1793"/>
                </a:lnTo>
                <a:lnTo>
                  <a:pt x="1330" y="1793"/>
                </a:lnTo>
                <a:lnTo>
                  <a:pt x="1323" y="1800"/>
                </a:lnTo>
                <a:lnTo>
                  <a:pt x="1323" y="1800"/>
                </a:lnTo>
                <a:lnTo>
                  <a:pt x="1330" y="1800"/>
                </a:lnTo>
                <a:lnTo>
                  <a:pt x="1357" y="1800"/>
                </a:lnTo>
                <a:close/>
                <a:moveTo>
                  <a:pt x="1488" y="1684"/>
                </a:moveTo>
                <a:lnTo>
                  <a:pt x="1495" y="1684"/>
                </a:lnTo>
                <a:lnTo>
                  <a:pt x="1501" y="1677"/>
                </a:lnTo>
                <a:lnTo>
                  <a:pt x="1501" y="1677"/>
                </a:lnTo>
                <a:lnTo>
                  <a:pt x="1508" y="1677"/>
                </a:lnTo>
                <a:lnTo>
                  <a:pt x="1508" y="1677"/>
                </a:lnTo>
                <a:lnTo>
                  <a:pt x="1515" y="1684"/>
                </a:lnTo>
                <a:lnTo>
                  <a:pt x="1515" y="1684"/>
                </a:lnTo>
                <a:lnTo>
                  <a:pt x="1515" y="1690"/>
                </a:lnTo>
                <a:lnTo>
                  <a:pt x="1508" y="1690"/>
                </a:lnTo>
                <a:lnTo>
                  <a:pt x="1508" y="1690"/>
                </a:lnTo>
                <a:lnTo>
                  <a:pt x="1501" y="1697"/>
                </a:lnTo>
                <a:lnTo>
                  <a:pt x="1501" y="1690"/>
                </a:lnTo>
                <a:lnTo>
                  <a:pt x="1495" y="1690"/>
                </a:lnTo>
                <a:lnTo>
                  <a:pt x="1488" y="1684"/>
                </a:lnTo>
                <a:close/>
                <a:moveTo>
                  <a:pt x="1666" y="1513"/>
                </a:moveTo>
                <a:lnTo>
                  <a:pt x="1659" y="1506"/>
                </a:lnTo>
                <a:lnTo>
                  <a:pt x="1652" y="1499"/>
                </a:lnTo>
                <a:lnTo>
                  <a:pt x="1652" y="1499"/>
                </a:lnTo>
                <a:lnTo>
                  <a:pt x="1639" y="1499"/>
                </a:lnTo>
                <a:lnTo>
                  <a:pt x="1632" y="1506"/>
                </a:lnTo>
                <a:lnTo>
                  <a:pt x="1625" y="1506"/>
                </a:lnTo>
                <a:lnTo>
                  <a:pt x="1625" y="1513"/>
                </a:lnTo>
                <a:lnTo>
                  <a:pt x="1632" y="1519"/>
                </a:lnTo>
                <a:lnTo>
                  <a:pt x="1639" y="1526"/>
                </a:lnTo>
                <a:lnTo>
                  <a:pt x="1645" y="1526"/>
                </a:lnTo>
                <a:lnTo>
                  <a:pt x="1652" y="1526"/>
                </a:lnTo>
                <a:lnTo>
                  <a:pt x="1659" y="1526"/>
                </a:lnTo>
                <a:lnTo>
                  <a:pt x="1659" y="1519"/>
                </a:lnTo>
                <a:lnTo>
                  <a:pt x="1666" y="1513"/>
                </a:lnTo>
                <a:close/>
                <a:moveTo>
                  <a:pt x="1858" y="1451"/>
                </a:moveTo>
                <a:lnTo>
                  <a:pt x="1865" y="1444"/>
                </a:lnTo>
                <a:lnTo>
                  <a:pt x="1872" y="1437"/>
                </a:lnTo>
                <a:lnTo>
                  <a:pt x="1872" y="1437"/>
                </a:lnTo>
                <a:lnTo>
                  <a:pt x="1879" y="1437"/>
                </a:lnTo>
                <a:lnTo>
                  <a:pt x="1885" y="1437"/>
                </a:lnTo>
                <a:lnTo>
                  <a:pt x="1892" y="1444"/>
                </a:lnTo>
                <a:lnTo>
                  <a:pt x="1899" y="1444"/>
                </a:lnTo>
                <a:lnTo>
                  <a:pt x="1906" y="1451"/>
                </a:lnTo>
                <a:lnTo>
                  <a:pt x="1899" y="1458"/>
                </a:lnTo>
                <a:lnTo>
                  <a:pt x="1892" y="1458"/>
                </a:lnTo>
                <a:lnTo>
                  <a:pt x="1885" y="1465"/>
                </a:lnTo>
                <a:lnTo>
                  <a:pt x="1872" y="1465"/>
                </a:lnTo>
                <a:lnTo>
                  <a:pt x="1865" y="1458"/>
                </a:lnTo>
                <a:lnTo>
                  <a:pt x="1858" y="1451"/>
                </a:lnTo>
                <a:close/>
                <a:moveTo>
                  <a:pt x="2598" y="1252"/>
                </a:moveTo>
                <a:lnTo>
                  <a:pt x="2598" y="1246"/>
                </a:lnTo>
                <a:lnTo>
                  <a:pt x="2605" y="1246"/>
                </a:lnTo>
                <a:lnTo>
                  <a:pt x="2612" y="1246"/>
                </a:lnTo>
                <a:lnTo>
                  <a:pt x="2612" y="1246"/>
                </a:lnTo>
                <a:lnTo>
                  <a:pt x="2612" y="1252"/>
                </a:lnTo>
                <a:lnTo>
                  <a:pt x="2612" y="1259"/>
                </a:lnTo>
                <a:lnTo>
                  <a:pt x="2612" y="1259"/>
                </a:lnTo>
                <a:lnTo>
                  <a:pt x="2612" y="1266"/>
                </a:lnTo>
                <a:lnTo>
                  <a:pt x="2605" y="1266"/>
                </a:lnTo>
                <a:lnTo>
                  <a:pt x="2605" y="1266"/>
                </a:lnTo>
                <a:lnTo>
                  <a:pt x="2605" y="1266"/>
                </a:lnTo>
                <a:lnTo>
                  <a:pt x="2598" y="1259"/>
                </a:lnTo>
                <a:lnTo>
                  <a:pt x="2598" y="1259"/>
                </a:lnTo>
                <a:lnTo>
                  <a:pt x="2598" y="1252"/>
                </a:lnTo>
                <a:close/>
                <a:moveTo>
                  <a:pt x="1707" y="1218"/>
                </a:moveTo>
                <a:lnTo>
                  <a:pt x="1707" y="1218"/>
                </a:lnTo>
                <a:lnTo>
                  <a:pt x="1707" y="1218"/>
                </a:lnTo>
                <a:lnTo>
                  <a:pt x="1707" y="1218"/>
                </a:lnTo>
                <a:lnTo>
                  <a:pt x="1707" y="1218"/>
                </a:lnTo>
                <a:lnTo>
                  <a:pt x="1707" y="1218"/>
                </a:lnTo>
                <a:lnTo>
                  <a:pt x="1707" y="1218"/>
                </a:lnTo>
                <a:lnTo>
                  <a:pt x="1707" y="1218"/>
                </a:lnTo>
                <a:lnTo>
                  <a:pt x="1707" y="1225"/>
                </a:lnTo>
                <a:lnTo>
                  <a:pt x="1707" y="1225"/>
                </a:lnTo>
                <a:lnTo>
                  <a:pt x="1707" y="1225"/>
                </a:lnTo>
                <a:lnTo>
                  <a:pt x="1707" y="1225"/>
                </a:lnTo>
                <a:lnTo>
                  <a:pt x="1707" y="1225"/>
                </a:lnTo>
                <a:lnTo>
                  <a:pt x="1707" y="1225"/>
                </a:lnTo>
                <a:lnTo>
                  <a:pt x="1707" y="1218"/>
                </a:lnTo>
                <a:close/>
                <a:moveTo>
                  <a:pt x="1687" y="1191"/>
                </a:moveTo>
                <a:lnTo>
                  <a:pt x="1687" y="1184"/>
                </a:lnTo>
                <a:lnTo>
                  <a:pt x="1680" y="1184"/>
                </a:lnTo>
                <a:lnTo>
                  <a:pt x="1680" y="1184"/>
                </a:lnTo>
                <a:lnTo>
                  <a:pt x="1673" y="1184"/>
                </a:lnTo>
                <a:lnTo>
                  <a:pt x="1659" y="1184"/>
                </a:lnTo>
                <a:lnTo>
                  <a:pt x="1659" y="1191"/>
                </a:lnTo>
                <a:lnTo>
                  <a:pt x="1652" y="1191"/>
                </a:lnTo>
                <a:lnTo>
                  <a:pt x="1659" y="1198"/>
                </a:lnTo>
                <a:lnTo>
                  <a:pt x="1666" y="1205"/>
                </a:lnTo>
                <a:lnTo>
                  <a:pt x="1673" y="1205"/>
                </a:lnTo>
                <a:lnTo>
                  <a:pt x="1680" y="1205"/>
                </a:lnTo>
                <a:lnTo>
                  <a:pt x="1680" y="1205"/>
                </a:lnTo>
                <a:lnTo>
                  <a:pt x="1687" y="1198"/>
                </a:lnTo>
                <a:lnTo>
                  <a:pt x="1687" y="1191"/>
                </a:lnTo>
                <a:close/>
                <a:moveTo>
                  <a:pt x="1666" y="1164"/>
                </a:moveTo>
                <a:lnTo>
                  <a:pt x="1659" y="1157"/>
                </a:lnTo>
                <a:lnTo>
                  <a:pt x="1659" y="1150"/>
                </a:lnTo>
                <a:lnTo>
                  <a:pt x="1652" y="1143"/>
                </a:lnTo>
                <a:lnTo>
                  <a:pt x="1652" y="1143"/>
                </a:lnTo>
                <a:lnTo>
                  <a:pt x="1645" y="1136"/>
                </a:lnTo>
                <a:lnTo>
                  <a:pt x="1639" y="1129"/>
                </a:lnTo>
                <a:lnTo>
                  <a:pt x="1639" y="1122"/>
                </a:lnTo>
                <a:lnTo>
                  <a:pt x="1632" y="1116"/>
                </a:lnTo>
                <a:lnTo>
                  <a:pt x="1632" y="1109"/>
                </a:lnTo>
                <a:lnTo>
                  <a:pt x="1625" y="1102"/>
                </a:lnTo>
                <a:lnTo>
                  <a:pt x="1625" y="1102"/>
                </a:lnTo>
                <a:lnTo>
                  <a:pt x="1618" y="1095"/>
                </a:lnTo>
                <a:lnTo>
                  <a:pt x="1611" y="1088"/>
                </a:lnTo>
                <a:lnTo>
                  <a:pt x="1611" y="1081"/>
                </a:lnTo>
                <a:lnTo>
                  <a:pt x="1604" y="1075"/>
                </a:lnTo>
                <a:lnTo>
                  <a:pt x="1604" y="1068"/>
                </a:lnTo>
                <a:lnTo>
                  <a:pt x="1597" y="1068"/>
                </a:lnTo>
                <a:lnTo>
                  <a:pt x="1597" y="1061"/>
                </a:lnTo>
                <a:lnTo>
                  <a:pt x="1591" y="1054"/>
                </a:lnTo>
                <a:lnTo>
                  <a:pt x="1584" y="1047"/>
                </a:lnTo>
                <a:lnTo>
                  <a:pt x="1584" y="1040"/>
                </a:lnTo>
                <a:lnTo>
                  <a:pt x="1577" y="1034"/>
                </a:lnTo>
                <a:lnTo>
                  <a:pt x="1577" y="1027"/>
                </a:lnTo>
                <a:lnTo>
                  <a:pt x="1570" y="1027"/>
                </a:lnTo>
                <a:lnTo>
                  <a:pt x="1570" y="1020"/>
                </a:lnTo>
                <a:lnTo>
                  <a:pt x="1563" y="1013"/>
                </a:lnTo>
                <a:lnTo>
                  <a:pt x="1556" y="1006"/>
                </a:lnTo>
                <a:lnTo>
                  <a:pt x="1543" y="1006"/>
                </a:lnTo>
                <a:lnTo>
                  <a:pt x="1536" y="1006"/>
                </a:lnTo>
                <a:lnTo>
                  <a:pt x="1529" y="1013"/>
                </a:lnTo>
                <a:lnTo>
                  <a:pt x="1529" y="1020"/>
                </a:lnTo>
                <a:lnTo>
                  <a:pt x="1522" y="1027"/>
                </a:lnTo>
                <a:lnTo>
                  <a:pt x="1515" y="1034"/>
                </a:lnTo>
                <a:lnTo>
                  <a:pt x="1515" y="1040"/>
                </a:lnTo>
                <a:lnTo>
                  <a:pt x="1508" y="1040"/>
                </a:lnTo>
                <a:lnTo>
                  <a:pt x="1508" y="1047"/>
                </a:lnTo>
                <a:lnTo>
                  <a:pt x="1515" y="1054"/>
                </a:lnTo>
                <a:lnTo>
                  <a:pt x="1522" y="1054"/>
                </a:lnTo>
                <a:lnTo>
                  <a:pt x="1536" y="1061"/>
                </a:lnTo>
                <a:lnTo>
                  <a:pt x="1543" y="1068"/>
                </a:lnTo>
                <a:lnTo>
                  <a:pt x="1543" y="1068"/>
                </a:lnTo>
                <a:lnTo>
                  <a:pt x="1549" y="1075"/>
                </a:lnTo>
                <a:lnTo>
                  <a:pt x="1556" y="1081"/>
                </a:lnTo>
                <a:lnTo>
                  <a:pt x="1563" y="1088"/>
                </a:lnTo>
                <a:lnTo>
                  <a:pt x="1570" y="1088"/>
                </a:lnTo>
                <a:lnTo>
                  <a:pt x="1577" y="1095"/>
                </a:lnTo>
                <a:lnTo>
                  <a:pt x="1577" y="1102"/>
                </a:lnTo>
                <a:lnTo>
                  <a:pt x="1584" y="1109"/>
                </a:lnTo>
                <a:lnTo>
                  <a:pt x="1584" y="1116"/>
                </a:lnTo>
                <a:lnTo>
                  <a:pt x="1591" y="1122"/>
                </a:lnTo>
                <a:lnTo>
                  <a:pt x="1591" y="1122"/>
                </a:lnTo>
                <a:lnTo>
                  <a:pt x="1597" y="1129"/>
                </a:lnTo>
                <a:lnTo>
                  <a:pt x="1604" y="1136"/>
                </a:lnTo>
                <a:lnTo>
                  <a:pt x="1604" y="1143"/>
                </a:lnTo>
                <a:lnTo>
                  <a:pt x="1604" y="1150"/>
                </a:lnTo>
                <a:lnTo>
                  <a:pt x="1604" y="1157"/>
                </a:lnTo>
                <a:lnTo>
                  <a:pt x="1604" y="1164"/>
                </a:lnTo>
                <a:lnTo>
                  <a:pt x="1611" y="1164"/>
                </a:lnTo>
                <a:lnTo>
                  <a:pt x="1618" y="1170"/>
                </a:lnTo>
                <a:lnTo>
                  <a:pt x="1632" y="1170"/>
                </a:lnTo>
                <a:lnTo>
                  <a:pt x="1639" y="1177"/>
                </a:lnTo>
                <a:lnTo>
                  <a:pt x="1645" y="1184"/>
                </a:lnTo>
                <a:lnTo>
                  <a:pt x="1645" y="1191"/>
                </a:lnTo>
                <a:lnTo>
                  <a:pt x="1652" y="1191"/>
                </a:lnTo>
                <a:lnTo>
                  <a:pt x="1659" y="1191"/>
                </a:lnTo>
                <a:lnTo>
                  <a:pt x="1659" y="1184"/>
                </a:lnTo>
                <a:lnTo>
                  <a:pt x="1666" y="1170"/>
                </a:lnTo>
                <a:lnTo>
                  <a:pt x="1666" y="1164"/>
                </a:lnTo>
                <a:close/>
                <a:moveTo>
                  <a:pt x="1577" y="1136"/>
                </a:moveTo>
                <a:lnTo>
                  <a:pt x="1570" y="1129"/>
                </a:lnTo>
                <a:lnTo>
                  <a:pt x="1570" y="1129"/>
                </a:lnTo>
                <a:lnTo>
                  <a:pt x="1563" y="1129"/>
                </a:lnTo>
                <a:lnTo>
                  <a:pt x="1556" y="1129"/>
                </a:lnTo>
                <a:lnTo>
                  <a:pt x="1549" y="1136"/>
                </a:lnTo>
                <a:lnTo>
                  <a:pt x="1549" y="1136"/>
                </a:lnTo>
                <a:lnTo>
                  <a:pt x="1549" y="1143"/>
                </a:lnTo>
                <a:lnTo>
                  <a:pt x="1556" y="1143"/>
                </a:lnTo>
                <a:lnTo>
                  <a:pt x="1563" y="1150"/>
                </a:lnTo>
                <a:lnTo>
                  <a:pt x="1563" y="1150"/>
                </a:lnTo>
                <a:lnTo>
                  <a:pt x="1570" y="1150"/>
                </a:lnTo>
                <a:lnTo>
                  <a:pt x="1570" y="1143"/>
                </a:lnTo>
                <a:lnTo>
                  <a:pt x="1577" y="1143"/>
                </a:lnTo>
                <a:lnTo>
                  <a:pt x="1577" y="1136"/>
                </a:lnTo>
                <a:close/>
                <a:moveTo>
                  <a:pt x="1543" y="1102"/>
                </a:moveTo>
                <a:lnTo>
                  <a:pt x="1543" y="1102"/>
                </a:lnTo>
                <a:lnTo>
                  <a:pt x="1536" y="1095"/>
                </a:lnTo>
                <a:lnTo>
                  <a:pt x="1529" y="1095"/>
                </a:lnTo>
                <a:lnTo>
                  <a:pt x="1522" y="1102"/>
                </a:lnTo>
                <a:lnTo>
                  <a:pt x="1522" y="1102"/>
                </a:lnTo>
                <a:lnTo>
                  <a:pt x="1522" y="1109"/>
                </a:lnTo>
                <a:lnTo>
                  <a:pt x="1522" y="1116"/>
                </a:lnTo>
                <a:lnTo>
                  <a:pt x="1529" y="1122"/>
                </a:lnTo>
                <a:lnTo>
                  <a:pt x="1529" y="1122"/>
                </a:lnTo>
                <a:lnTo>
                  <a:pt x="1536" y="1122"/>
                </a:lnTo>
                <a:lnTo>
                  <a:pt x="1536" y="1122"/>
                </a:lnTo>
                <a:lnTo>
                  <a:pt x="1543" y="1122"/>
                </a:lnTo>
                <a:lnTo>
                  <a:pt x="1543" y="1116"/>
                </a:lnTo>
                <a:lnTo>
                  <a:pt x="1543" y="1102"/>
                </a:lnTo>
                <a:close/>
                <a:moveTo>
                  <a:pt x="2564" y="931"/>
                </a:moveTo>
                <a:lnTo>
                  <a:pt x="2564" y="924"/>
                </a:lnTo>
                <a:lnTo>
                  <a:pt x="2571" y="924"/>
                </a:lnTo>
                <a:lnTo>
                  <a:pt x="2571" y="924"/>
                </a:lnTo>
                <a:lnTo>
                  <a:pt x="2578" y="917"/>
                </a:lnTo>
                <a:lnTo>
                  <a:pt x="2578" y="924"/>
                </a:lnTo>
                <a:lnTo>
                  <a:pt x="2578" y="924"/>
                </a:lnTo>
                <a:lnTo>
                  <a:pt x="2578" y="924"/>
                </a:lnTo>
                <a:lnTo>
                  <a:pt x="2585" y="931"/>
                </a:lnTo>
                <a:lnTo>
                  <a:pt x="2578" y="931"/>
                </a:lnTo>
                <a:lnTo>
                  <a:pt x="2578" y="938"/>
                </a:lnTo>
                <a:lnTo>
                  <a:pt x="2578" y="938"/>
                </a:lnTo>
                <a:lnTo>
                  <a:pt x="2571" y="938"/>
                </a:lnTo>
                <a:lnTo>
                  <a:pt x="2571" y="931"/>
                </a:lnTo>
                <a:lnTo>
                  <a:pt x="2564" y="931"/>
                </a:lnTo>
                <a:close/>
                <a:moveTo>
                  <a:pt x="2393" y="815"/>
                </a:moveTo>
                <a:lnTo>
                  <a:pt x="2393" y="815"/>
                </a:lnTo>
                <a:lnTo>
                  <a:pt x="2400" y="815"/>
                </a:lnTo>
                <a:lnTo>
                  <a:pt x="2400" y="808"/>
                </a:lnTo>
                <a:lnTo>
                  <a:pt x="2400" y="808"/>
                </a:lnTo>
                <a:lnTo>
                  <a:pt x="2406" y="815"/>
                </a:lnTo>
                <a:lnTo>
                  <a:pt x="2406" y="815"/>
                </a:lnTo>
                <a:lnTo>
                  <a:pt x="2406" y="815"/>
                </a:lnTo>
                <a:lnTo>
                  <a:pt x="2406" y="815"/>
                </a:lnTo>
                <a:lnTo>
                  <a:pt x="2406" y="821"/>
                </a:lnTo>
                <a:lnTo>
                  <a:pt x="2400" y="821"/>
                </a:lnTo>
                <a:lnTo>
                  <a:pt x="2400" y="821"/>
                </a:lnTo>
                <a:lnTo>
                  <a:pt x="2400" y="821"/>
                </a:lnTo>
                <a:lnTo>
                  <a:pt x="2393" y="815"/>
                </a:lnTo>
                <a:lnTo>
                  <a:pt x="2393" y="815"/>
                </a:lnTo>
                <a:close/>
                <a:moveTo>
                  <a:pt x="322" y="698"/>
                </a:moveTo>
                <a:lnTo>
                  <a:pt x="322" y="691"/>
                </a:lnTo>
                <a:lnTo>
                  <a:pt x="329" y="685"/>
                </a:lnTo>
                <a:lnTo>
                  <a:pt x="329" y="678"/>
                </a:lnTo>
                <a:lnTo>
                  <a:pt x="336" y="678"/>
                </a:lnTo>
                <a:lnTo>
                  <a:pt x="336" y="671"/>
                </a:lnTo>
                <a:lnTo>
                  <a:pt x="336" y="664"/>
                </a:lnTo>
                <a:lnTo>
                  <a:pt x="343" y="657"/>
                </a:lnTo>
                <a:lnTo>
                  <a:pt x="343" y="650"/>
                </a:lnTo>
                <a:lnTo>
                  <a:pt x="350" y="643"/>
                </a:lnTo>
                <a:lnTo>
                  <a:pt x="356" y="643"/>
                </a:lnTo>
                <a:lnTo>
                  <a:pt x="370" y="643"/>
                </a:lnTo>
                <a:lnTo>
                  <a:pt x="384" y="643"/>
                </a:lnTo>
                <a:lnTo>
                  <a:pt x="391" y="650"/>
                </a:lnTo>
                <a:lnTo>
                  <a:pt x="398" y="650"/>
                </a:lnTo>
                <a:lnTo>
                  <a:pt x="404" y="650"/>
                </a:lnTo>
                <a:lnTo>
                  <a:pt x="418" y="657"/>
                </a:lnTo>
                <a:lnTo>
                  <a:pt x="425" y="664"/>
                </a:lnTo>
                <a:lnTo>
                  <a:pt x="425" y="664"/>
                </a:lnTo>
                <a:lnTo>
                  <a:pt x="432" y="671"/>
                </a:lnTo>
                <a:lnTo>
                  <a:pt x="439" y="678"/>
                </a:lnTo>
                <a:lnTo>
                  <a:pt x="446" y="671"/>
                </a:lnTo>
                <a:lnTo>
                  <a:pt x="452" y="671"/>
                </a:lnTo>
                <a:lnTo>
                  <a:pt x="459" y="664"/>
                </a:lnTo>
                <a:lnTo>
                  <a:pt x="473" y="664"/>
                </a:lnTo>
                <a:lnTo>
                  <a:pt x="480" y="664"/>
                </a:lnTo>
                <a:lnTo>
                  <a:pt x="487" y="657"/>
                </a:lnTo>
                <a:lnTo>
                  <a:pt x="494" y="657"/>
                </a:lnTo>
                <a:lnTo>
                  <a:pt x="500" y="650"/>
                </a:lnTo>
                <a:lnTo>
                  <a:pt x="500" y="643"/>
                </a:lnTo>
                <a:lnTo>
                  <a:pt x="500" y="637"/>
                </a:lnTo>
                <a:lnTo>
                  <a:pt x="500" y="630"/>
                </a:lnTo>
                <a:lnTo>
                  <a:pt x="507" y="623"/>
                </a:lnTo>
                <a:lnTo>
                  <a:pt x="507" y="616"/>
                </a:lnTo>
                <a:lnTo>
                  <a:pt x="507" y="609"/>
                </a:lnTo>
                <a:lnTo>
                  <a:pt x="514" y="602"/>
                </a:lnTo>
                <a:lnTo>
                  <a:pt x="514" y="596"/>
                </a:lnTo>
                <a:lnTo>
                  <a:pt x="514" y="589"/>
                </a:lnTo>
                <a:lnTo>
                  <a:pt x="521" y="589"/>
                </a:lnTo>
                <a:lnTo>
                  <a:pt x="521" y="582"/>
                </a:lnTo>
                <a:lnTo>
                  <a:pt x="528" y="575"/>
                </a:lnTo>
                <a:lnTo>
                  <a:pt x="542" y="575"/>
                </a:lnTo>
                <a:lnTo>
                  <a:pt x="555" y="575"/>
                </a:lnTo>
                <a:lnTo>
                  <a:pt x="562" y="575"/>
                </a:lnTo>
                <a:lnTo>
                  <a:pt x="569" y="568"/>
                </a:lnTo>
                <a:lnTo>
                  <a:pt x="576" y="561"/>
                </a:lnTo>
                <a:lnTo>
                  <a:pt x="583" y="561"/>
                </a:lnTo>
                <a:lnTo>
                  <a:pt x="583" y="555"/>
                </a:lnTo>
                <a:lnTo>
                  <a:pt x="590" y="548"/>
                </a:lnTo>
                <a:lnTo>
                  <a:pt x="590" y="541"/>
                </a:lnTo>
                <a:lnTo>
                  <a:pt x="596" y="534"/>
                </a:lnTo>
                <a:lnTo>
                  <a:pt x="596" y="527"/>
                </a:lnTo>
                <a:lnTo>
                  <a:pt x="596" y="520"/>
                </a:lnTo>
                <a:lnTo>
                  <a:pt x="596" y="513"/>
                </a:lnTo>
                <a:lnTo>
                  <a:pt x="596" y="507"/>
                </a:lnTo>
                <a:lnTo>
                  <a:pt x="596" y="500"/>
                </a:lnTo>
                <a:lnTo>
                  <a:pt x="603" y="500"/>
                </a:lnTo>
                <a:lnTo>
                  <a:pt x="603" y="493"/>
                </a:lnTo>
                <a:lnTo>
                  <a:pt x="603" y="486"/>
                </a:lnTo>
                <a:lnTo>
                  <a:pt x="610" y="479"/>
                </a:lnTo>
                <a:lnTo>
                  <a:pt x="610" y="472"/>
                </a:lnTo>
                <a:lnTo>
                  <a:pt x="610" y="466"/>
                </a:lnTo>
                <a:lnTo>
                  <a:pt x="617" y="459"/>
                </a:lnTo>
                <a:lnTo>
                  <a:pt x="617" y="452"/>
                </a:lnTo>
                <a:lnTo>
                  <a:pt x="617" y="445"/>
                </a:lnTo>
                <a:lnTo>
                  <a:pt x="624" y="438"/>
                </a:lnTo>
                <a:lnTo>
                  <a:pt x="624" y="438"/>
                </a:lnTo>
                <a:lnTo>
                  <a:pt x="631" y="431"/>
                </a:lnTo>
                <a:lnTo>
                  <a:pt x="631" y="425"/>
                </a:lnTo>
                <a:lnTo>
                  <a:pt x="638" y="418"/>
                </a:lnTo>
                <a:lnTo>
                  <a:pt x="638" y="411"/>
                </a:lnTo>
                <a:lnTo>
                  <a:pt x="638" y="404"/>
                </a:lnTo>
                <a:lnTo>
                  <a:pt x="644" y="397"/>
                </a:lnTo>
                <a:lnTo>
                  <a:pt x="644" y="390"/>
                </a:lnTo>
                <a:lnTo>
                  <a:pt x="644" y="383"/>
                </a:lnTo>
                <a:lnTo>
                  <a:pt x="644" y="383"/>
                </a:lnTo>
                <a:lnTo>
                  <a:pt x="651" y="377"/>
                </a:lnTo>
                <a:lnTo>
                  <a:pt x="651" y="370"/>
                </a:lnTo>
                <a:lnTo>
                  <a:pt x="658" y="363"/>
                </a:lnTo>
                <a:lnTo>
                  <a:pt x="658" y="356"/>
                </a:lnTo>
                <a:lnTo>
                  <a:pt x="658" y="349"/>
                </a:lnTo>
                <a:lnTo>
                  <a:pt x="665" y="342"/>
                </a:lnTo>
                <a:lnTo>
                  <a:pt x="665" y="336"/>
                </a:lnTo>
                <a:lnTo>
                  <a:pt x="672" y="329"/>
                </a:lnTo>
                <a:lnTo>
                  <a:pt x="672" y="329"/>
                </a:lnTo>
                <a:lnTo>
                  <a:pt x="679" y="322"/>
                </a:lnTo>
                <a:lnTo>
                  <a:pt x="679" y="315"/>
                </a:lnTo>
                <a:lnTo>
                  <a:pt x="679" y="308"/>
                </a:lnTo>
                <a:lnTo>
                  <a:pt x="686" y="301"/>
                </a:lnTo>
                <a:lnTo>
                  <a:pt x="686" y="295"/>
                </a:lnTo>
                <a:lnTo>
                  <a:pt x="686" y="288"/>
                </a:lnTo>
                <a:lnTo>
                  <a:pt x="686" y="281"/>
                </a:lnTo>
                <a:lnTo>
                  <a:pt x="692" y="274"/>
                </a:lnTo>
                <a:lnTo>
                  <a:pt x="692" y="267"/>
                </a:lnTo>
                <a:lnTo>
                  <a:pt x="699" y="267"/>
                </a:lnTo>
                <a:lnTo>
                  <a:pt x="706" y="260"/>
                </a:lnTo>
                <a:lnTo>
                  <a:pt x="713" y="253"/>
                </a:lnTo>
                <a:lnTo>
                  <a:pt x="713" y="247"/>
                </a:lnTo>
                <a:lnTo>
                  <a:pt x="720" y="240"/>
                </a:lnTo>
                <a:lnTo>
                  <a:pt x="720" y="233"/>
                </a:lnTo>
                <a:lnTo>
                  <a:pt x="720" y="226"/>
                </a:lnTo>
                <a:lnTo>
                  <a:pt x="720" y="219"/>
                </a:lnTo>
                <a:lnTo>
                  <a:pt x="727" y="219"/>
                </a:lnTo>
                <a:lnTo>
                  <a:pt x="727" y="212"/>
                </a:lnTo>
                <a:lnTo>
                  <a:pt x="734" y="206"/>
                </a:lnTo>
                <a:lnTo>
                  <a:pt x="740" y="206"/>
                </a:lnTo>
                <a:lnTo>
                  <a:pt x="747" y="199"/>
                </a:lnTo>
                <a:lnTo>
                  <a:pt x="754" y="192"/>
                </a:lnTo>
                <a:lnTo>
                  <a:pt x="761" y="185"/>
                </a:lnTo>
                <a:lnTo>
                  <a:pt x="768" y="185"/>
                </a:lnTo>
                <a:lnTo>
                  <a:pt x="775" y="178"/>
                </a:lnTo>
                <a:lnTo>
                  <a:pt x="782" y="171"/>
                </a:lnTo>
                <a:lnTo>
                  <a:pt x="788" y="171"/>
                </a:lnTo>
                <a:lnTo>
                  <a:pt x="802" y="165"/>
                </a:lnTo>
                <a:lnTo>
                  <a:pt x="809" y="165"/>
                </a:lnTo>
                <a:lnTo>
                  <a:pt x="816" y="171"/>
                </a:lnTo>
                <a:lnTo>
                  <a:pt x="816" y="178"/>
                </a:lnTo>
                <a:lnTo>
                  <a:pt x="823" y="185"/>
                </a:lnTo>
                <a:lnTo>
                  <a:pt x="830" y="185"/>
                </a:lnTo>
                <a:lnTo>
                  <a:pt x="836" y="192"/>
                </a:lnTo>
                <a:lnTo>
                  <a:pt x="843" y="199"/>
                </a:lnTo>
                <a:lnTo>
                  <a:pt x="850" y="199"/>
                </a:lnTo>
                <a:lnTo>
                  <a:pt x="857" y="206"/>
                </a:lnTo>
                <a:lnTo>
                  <a:pt x="864" y="212"/>
                </a:lnTo>
                <a:lnTo>
                  <a:pt x="864" y="219"/>
                </a:lnTo>
                <a:lnTo>
                  <a:pt x="871" y="219"/>
                </a:lnTo>
                <a:lnTo>
                  <a:pt x="878" y="226"/>
                </a:lnTo>
                <a:lnTo>
                  <a:pt x="884" y="233"/>
                </a:lnTo>
                <a:lnTo>
                  <a:pt x="884" y="240"/>
                </a:lnTo>
                <a:lnTo>
                  <a:pt x="891" y="247"/>
                </a:lnTo>
                <a:lnTo>
                  <a:pt x="891" y="253"/>
                </a:lnTo>
                <a:lnTo>
                  <a:pt x="898" y="253"/>
                </a:lnTo>
                <a:lnTo>
                  <a:pt x="905" y="253"/>
                </a:lnTo>
                <a:lnTo>
                  <a:pt x="912" y="247"/>
                </a:lnTo>
                <a:lnTo>
                  <a:pt x="919" y="240"/>
                </a:lnTo>
                <a:lnTo>
                  <a:pt x="932" y="240"/>
                </a:lnTo>
                <a:lnTo>
                  <a:pt x="939" y="233"/>
                </a:lnTo>
                <a:lnTo>
                  <a:pt x="946" y="233"/>
                </a:lnTo>
                <a:lnTo>
                  <a:pt x="946" y="226"/>
                </a:lnTo>
                <a:lnTo>
                  <a:pt x="953" y="219"/>
                </a:lnTo>
                <a:lnTo>
                  <a:pt x="960" y="212"/>
                </a:lnTo>
                <a:lnTo>
                  <a:pt x="974" y="212"/>
                </a:lnTo>
                <a:lnTo>
                  <a:pt x="980" y="212"/>
                </a:lnTo>
                <a:lnTo>
                  <a:pt x="987" y="206"/>
                </a:lnTo>
                <a:lnTo>
                  <a:pt x="994" y="199"/>
                </a:lnTo>
                <a:lnTo>
                  <a:pt x="994" y="192"/>
                </a:lnTo>
                <a:lnTo>
                  <a:pt x="994" y="185"/>
                </a:lnTo>
                <a:lnTo>
                  <a:pt x="994" y="178"/>
                </a:lnTo>
                <a:lnTo>
                  <a:pt x="987" y="178"/>
                </a:lnTo>
                <a:lnTo>
                  <a:pt x="980" y="171"/>
                </a:lnTo>
                <a:lnTo>
                  <a:pt x="967" y="171"/>
                </a:lnTo>
                <a:lnTo>
                  <a:pt x="960" y="171"/>
                </a:lnTo>
                <a:lnTo>
                  <a:pt x="953" y="165"/>
                </a:lnTo>
                <a:lnTo>
                  <a:pt x="953" y="158"/>
                </a:lnTo>
                <a:lnTo>
                  <a:pt x="946" y="151"/>
                </a:lnTo>
                <a:lnTo>
                  <a:pt x="946" y="144"/>
                </a:lnTo>
                <a:lnTo>
                  <a:pt x="939" y="137"/>
                </a:lnTo>
                <a:lnTo>
                  <a:pt x="939" y="130"/>
                </a:lnTo>
                <a:lnTo>
                  <a:pt x="932" y="123"/>
                </a:lnTo>
                <a:lnTo>
                  <a:pt x="932" y="123"/>
                </a:lnTo>
                <a:lnTo>
                  <a:pt x="932" y="117"/>
                </a:lnTo>
                <a:lnTo>
                  <a:pt x="939" y="110"/>
                </a:lnTo>
                <a:lnTo>
                  <a:pt x="946" y="103"/>
                </a:lnTo>
                <a:lnTo>
                  <a:pt x="953" y="103"/>
                </a:lnTo>
                <a:lnTo>
                  <a:pt x="960" y="96"/>
                </a:lnTo>
                <a:lnTo>
                  <a:pt x="967" y="96"/>
                </a:lnTo>
                <a:lnTo>
                  <a:pt x="974" y="89"/>
                </a:lnTo>
                <a:lnTo>
                  <a:pt x="980" y="82"/>
                </a:lnTo>
                <a:lnTo>
                  <a:pt x="974" y="76"/>
                </a:lnTo>
                <a:lnTo>
                  <a:pt x="974" y="69"/>
                </a:lnTo>
                <a:lnTo>
                  <a:pt x="967" y="62"/>
                </a:lnTo>
                <a:lnTo>
                  <a:pt x="967" y="55"/>
                </a:lnTo>
                <a:lnTo>
                  <a:pt x="960" y="55"/>
                </a:lnTo>
                <a:lnTo>
                  <a:pt x="953" y="48"/>
                </a:lnTo>
                <a:lnTo>
                  <a:pt x="946" y="41"/>
                </a:lnTo>
                <a:lnTo>
                  <a:pt x="939" y="34"/>
                </a:lnTo>
                <a:lnTo>
                  <a:pt x="932" y="34"/>
                </a:lnTo>
                <a:lnTo>
                  <a:pt x="932" y="28"/>
                </a:lnTo>
                <a:lnTo>
                  <a:pt x="926" y="21"/>
                </a:lnTo>
                <a:lnTo>
                  <a:pt x="919" y="14"/>
                </a:lnTo>
                <a:lnTo>
                  <a:pt x="912" y="14"/>
                </a:lnTo>
                <a:lnTo>
                  <a:pt x="905" y="7"/>
                </a:lnTo>
                <a:lnTo>
                  <a:pt x="898" y="0"/>
                </a:lnTo>
                <a:lnTo>
                  <a:pt x="898" y="0"/>
                </a:lnTo>
                <a:lnTo>
                  <a:pt x="871" y="0"/>
                </a:lnTo>
                <a:lnTo>
                  <a:pt x="843" y="0"/>
                </a:lnTo>
                <a:lnTo>
                  <a:pt x="809" y="0"/>
                </a:lnTo>
                <a:lnTo>
                  <a:pt x="782" y="0"/>
                </a:lnTo>
                <a:lnTo>
                  <a:pt x="754" y="0"/>
                </a:lnTo>
                <a:lnTo>
                  <a:pt x="727" y="0"/>
                </a:lnTo>
                <a:lnTo>
                  <a:pt x="692" y="0"/>
                </a:lnTo>
                <a:lnTo>
                  <a:pt x="665" y="0"/>
                </a:lnTo>
                <a:lnTo>
                  <a:pt x="638" y="28"/>
                </a:lnTo>
                <a:lnTo>
                  <a:pt x="610" y="62"/>
                </a:lnTo>
                <a:lnTo>
                  <a:pt x="583" y="89"/>
                </a:lnTo>
                <a:lnTo>
                  <a:pt x="548" y="117"/>
                </a:lnTo>
                <a:lnTo>
                  <a:pt x="535" y="130"/>
                </a:lnTo>
                <a:lnTo>
                  <a:pt x="535" y="137"/>
                </a:lnTo>
                <a:lnTo>
                  <a:pt x="528" y="144"/>
                </a:lnTo>
                <a:lnTo>
                  <a:pt x="528" y="151"/>
                </a:lnTo>
                <a:lnTo>
                  <a:pt x="521" y="158"/>
                </a:lnTo>
                <a:lnTo>
                  <a:pt x="521" y="165"/>
                </a:lnTo>
                <a:lnTo>
                  <a:pt x="514" y="171"/>
                </a:lnTo>
                <a:lnTo>
                  <a:pt x="514" y="178"/>
                </a:lnTo>
                <a:lnTo>
                  <a:pt x="507" y="185"/>
                </a:lnTo>
                <a:lnTo>
                  <a:pt x="500" y="185"/>
                </a:lnTo>
                <a:lnTo>
                  <a:pt x="500" y="192"/>
                </a:lnTo>
                <a:lnTo>
                  <a:pt x="494" y="199"/>
                </a:lnTo>
                <a:lnTo>
                  <a:pt x="487" y="206"/>
                </a:lnTo>
                <a:lnTo>
                  <a:pt x="480" y="212"/>
                </a:lnTo>
                <a:lnTo>
                  <a:pt x="473" y="219"/>
                </a:lnTo>
                <a:lnTo>
                  <a:pt x="473" y="226"/>
                </a:lnTo>
                <a:lnTo>
                  <a:pt x="466" y="233"/>
                </a:lnTo>
                <a:lnTo>
                  <a:pt x="466" y="240"/>
                </a:lnTo>
                <a:lnTo>
                  <a:pt x="473" y="247"/>
                </a:lnTo>
                <a:lnTo>
                  <a:pt x="480" y="253"/>
                </a:lnTo>
                <a:lnTo>
                  <a:pt x="487" y="260"/>
                </a:lnTo>
                <a:lnTo>
                  <a:pt x="494" y="260"/>
                </a:lnTo>
                <a:lnTo>
                  <a:pt x="500" y="253"/>
                </a:lnTo>
                <a:lnTo>
                  <a:pt x="507" y="247"/>
                </a:lnTo>
                <a:lnTo>
                  <a:pt x="514" y="240"/>
                </a:lnTo>
                <a:lnTo>
                  <a:pt x="514" y="233"/>
                </a:lnTo>
                <a:lnTo>
                  <a:pt x="521" y="226"/>
                </a:lnTo>
                <a:lnTo>
                  <a:pt x="528" y="226"/>
                </a:lnTo>
                <a:lnTo>
                  <a:pt x="528" y="233"/>
                </a:lnTo>
                <a:lnTo>
                  <a:pt x="528" y="240"/>
                </a:lnTo>
                <a:lnTo>
                  <a:pt x="521" y="247"/>
                </a:lnTo>
                <a:lnTo>
                  <a:pt x="507" y="253"/>
                </a:lnTo>
                <a:lnTo>
                  <a:pt x="507" y="260"/>
                </a:lnTo>
                <a:lnTo>
                  <a:pt x="500" y="267"/>
                </a:lnTo>
                <a:lnTo>
                  <a:pt x="500" y="267"/>
                </a:lnTo>
                <a:lnTo>
                  <a:pt x="500" y="274"/>
                </a:lnTo>
                <a:lnTo>
                  <a:pt x="500" y="288"/>
                </a:lnTo>
                <a:lnTo>
                  <a:pt x="494" y="288"/>
                </a:lnTo>
                <a:lnTo>
                  <a:pt x="494" y="295"/>
                </a:lnTo>
                <a:lnTo>
                  <a:pt x="487" y="301"/>
                </a:lnTo>
                <a:lnTo>
                  <a:pt x="487" y="308"/>
                </a:lnTo>
                <a:lnTo>
                  <a:pt x="487" y="315"/>
                </a:lnTo>
                <a:lnTo>
                  <a:pt x="480" y="322"/>
                </a:lnTo>
                <a:lnTo>
                  <a:pt x="480" y="329"/>
                </a:lnTo>
                <a:lnTo>
                  <a:pt x="473" y="336"/>
                </a:lnTo>
                <a:lnTo>
                  <a:pt x="473" y="342"/>
                </a:lnTo>
                <a:lnTo>
                  <a:pt x="466" y="349"/>
                </a:lnTo>
                <a:lnTo>
                  <a:pt x="459" y="356"/>
                </a:lnTo>
                <a:lnTo>
                  <a:pt x="459" y="363"/>
                </a:lnTo>
                <a:lnTo>
                  <a:pt x="459" y="370"/>
                </a:lnTo>
                <a:lnTo>
                  <a:pt x="459" y="377"/>
                </a:lnTo>
                <a:lnTo>
                  <a:pt x="452" y="383"/>
                </a:lnTo>
                <a:lnTo>
                  <a:pt x="446" y="390"/>
                </a:lnTo>
                <a:lnTo>
                  <a:pt x="446" y="397"/>
                </a:lnTo>
                <a:lnTo>
                  <a:pt x="439" y="404"/>
                </a:lnTo>
                <a:lnTo>
                  <a:pt x="439" y="411"/>
                </a:lnTo>
                <a:lnTo>
                  <a:pt x="439" y="418"/>
                </a:lnTo>
                <a:lnTo>
                  <a:pt x="446" y="425"/>
                </a:lnTo>
                <a:lnTo>
                  <a:pt x="452" y="431"/>
                </a:lnTo>
                <a:lnTo>
                  <a:pt x="459" y="438"/>
                </a:lnTo>
                <a:lnTo>
                  <a:pt x="466" y="431"/>
                </a:lnTo>
                <a:lnTo>
                  <a:pt x="473" y="431"/>
                </a:lnTo>
                <a:lnTo>
                  <a:pt x="480" y="425"/>
                </a:lnTo>
                <a:lnTo>
                  <a:pt x="487" y="418"/>
                </a:lnTo>
                <a:lnTo>
                  <a:pt x="494" y="411"/>
                </a:lnTo>
                <a:lnTo>
                  <a:pt x="494" y="411"/>
                </a:lnTo>
                <a:lnTo>
                  <a:pt x="494" y="418"/>
                </a:lnTo>
                <a:lnTo>
                  <a:pt x="500" y="431"/>
                </a:lnTo>
                <a:lnTo>
                  <a:pt x="494" y="438"/>
                </a:lnTo>
                <a:lnTo>
                  <a:pt x="494" y="445"/>
                </a:lnTo>
                <a:lnTo>
                  <a:pt x="494" y="452"/>
                </a:lnTo>
                <a:lnTo>
                  <a:pt x="494" y="459"/>
                </a:lnTo>
                <a:lnTo>
                  <a:pt x="487" y="466"/>
                </a:lnTo>
                <a:lnTo>
                  <a:pt x="480" y="472"/>
                </a:lnTo>
                <a:lnTo>
                  <a:pt x="480" y="479"/>
                </a:lnTo>
                <a:lnTo>
                  <a:pt x="473" y="479"/>
                </a:lnTo>
                <a:lnTo>
                  <a:pt x="473" y="486"/>
                </a:lnTo>
                <a:lnTo>
                  <a:pt x="473" y="500"/>
                </a:lnTo>
                <a:lnTo>
                  <a:pt x="466" y="507"/>
                </a:lnTo>
                <a:lnTo>
                  <a:pt x="466" y="513"/>
                </a:lnTo>
                <a:lnTo>
                  <a:pt x="459" y="513"/>
                </a:lnTo>
                <a:lnTo>
                  <a:pt x="452" y="507"/>
                </a:lnTo>
                <a:lnTo>
                  <a:pt x="446" y="500"/>
                </a:lnTo>
                <a:lnTo>
                  <a:pt x="439" y="493"/>
                </a:lnTo>
                <a:lnTo>
                  <a:pt x="432" y="486"/>
                </a:lnTo>
                <a:lnTo>
                  <a:pt x="432" y="479"/>
                </a:lnTo>
                <a:lnTo>
                  <a:pt x="439" y="472"/>
                </a:lnTo>
                <a:lnTo>
                  <a:pt x="446" y="466"/>
                </a:lnTo>
                <a:lnTo>
                  <a:pt x="446" y="459"/>
                </a:lnTo>
                <a:lnTo>
                  <a:pt x="452" y="459"/>
                </a:lnTo>
                <a:lnTo>
                  <a:pt x="459" y="452"/>
                </a:lnTo>
                <a:lnTo>
                  <a:pt x="459" y="445"/>
                </a:lnTo>
                <a:lnTo>
                  <a:pt x="459" y="438"/>
                </a:lnTo>
                <a:lnTo>
                  <a:pt x="459" y="425"/>
                </a:lnTo>
                <a:lnTo>
                  <a:pt x="452" y="418"/>
                </a:lnTo>
                <a:lnTo>
                  <a:pt x="446" y="411"/>
                </a:lnTo>
                <a:lnTo>
                  <a:pt x="439" y="411"/>
                </a:lnTo>
                <a:lnTo>
                  <a:pt x="432" y="411"/>
                </a:lnTo>
                <a:lnTo>
                  <a:pt x="432" y="418"/>
                </a:lnTo>
                <a:lnTo>
                  <a:pt x="425" y="425"/>
                </a:lnTo>
                <a:lnTo>
                  <a:pt x="425" y="431"/>
                </a:lnTo>
                <a:lnTo>
                  <a:pt x="425" y="445"/>
                </a:lnTo>
                <a:lnTo>
                  <a:pt x="425" y="452"/>
                </a:lnTo>
                <a:lnTo>
                  <a:pt x="418" y="459"/>
                </a:lnTo>
                <a:lnTo>
                  <a:pt x="418" y="466"/>
                </a:lnTo>
                <a:lnTo>
                  <a:pt x="411" y="466"/>
                </a:lnTo>
                <a:lnTo>
                  <a:pt x="398" y="472"/>
                </a:lnTo>
                <a:lnTo>
                  <a:pt x="398" y="479"/>
                </a:lnTo>
                <a:lnTo>
                  <a:pt x="398" y="486"/>
                </a:lnTo>
                <a:lnTo>
                  <a:pt x="391" y="493"/>
                </a:lnTo>
                <a:lnTo>
                  <a:pt x="391" y="500"/>
                </a:lnTo>
                <a:lnTo>
                  <a:pt x="384" y="507"/>
                </a:lnTo>
                <a:lnTo>
                  <a:pt x="384" y="513"/>
                </a:lnTo>
                <a:lnTo>
                  <a:pt x="377" y="513"/>
                </a:lnTo>
                <a:lnTo>
                  <a:pt x="370" y="520"/>
                </a:lnTo>
                <a:lnTo>
                  <a:pt x="356" y="527"/>
                </a:lnTo>
                <a:lnTo>
                  <a:pt x="350" y="527"/>
                </a:lnTo>
                <a:lnTo>
                  <a:pt x="343" y="534"/>
                </a:lnTo>
                <a:lnTo>
                  <a:pt x="336" y="541"/>
                </a:lnTo>
                <a:lnTo>
                  <a:pt x="329" y="548"/>
                </a:lnTo>
                <a:lnTo>
                  <a:pt x="322" y="555"/>
                </a:lnTo>
                <a:lnTo>
                  <a:pt x="315" y="555"/>
                </a:lnTo>
                <a:lnTo>
                  <a:pt x="308" y="548"/>
                </a:lnTo>
                <a:lnTo>
                  <a:pt x="302" y="541"/>
                </a:lnTo>
                <a:lnTo>
                  <a:pt x="295" y="534"/>
                </a:lnTo>
                <a:lnTo>
                  <a:pt x="288" y="527"/>
                </a:lnTo>
                <a:lnTo>
                  <a:pt x="281" y="527"/>
                </a:lnTo>
                <a:lnTo>
                  <a:pt x="267" y="534"/>
                </a:lnTo>
                <a:lnTo>
                  <a:pt x="261" y="541"/>
                </a:lnTo>
                <a:lnTo>
                  <a:pt x="254" y="541"/>
                </a:lnTo>
                <a:lnTo>
                  <a:pt x="254" y="548"/>
                </a:lnTo>
                <a:lnTo>
                  <a:pt x="247" y="555"/>
                </a:lnTo>
                <a:lnTo>
                  <a:pt x="240" y="561"/>
                </a:lnTo>
                <a:lnTo>
                  <a:pt x="233" y="568"/>
                </a:lnTo>
                <a:lnTo>
                  <a:pt x="219" y="568"/>
                </a:lnTo>
                <a:lnTo>
                  <a:pt x="213" y="575"/>
                </a:lnTo>
                <a:lnTo>
                  <a:pt x="206" y="575"/>
                </a:lnTo>
                <a:lnTo>
                  <a:pt x="199" y="582"/>
                </a:lnTo>
                <a:lnTo>
                  <a:pt x="199" y="589"/>
                </a:lnTo>
                <a:lnTo>
                  <a:pt x="192" y="596"/>
                </a:lnTo>
                <a:lnTo>
                  <a:pt x="185" y="602"/>
                </a:lnTo>
                <a:lnTo>
                  <a:pt x="171" y="602"/>
                </a:lnTo>
                <a:lnTo>
                  <a:pt x="165" y="602"/>
                </a:lnTo>
                <a:lnTo>
                  <a:pt x="151" y="596"/>
                </a:lnTo>
                <a:lnTo>
                  <a:pt x="144" y="589"/>
                </a:lnTo>
                <a:lnTo>
                  <a:pt x="144" y="582"/>
                </a:lnTo>
                <a:lnTo>
                  <a:pt x="137" y="582"/>
                </a:lnTo>
                <a:lnTo>
                  <a:pt x="130" y="575"/>
                </a:lnTo>
                <a:lnTo>
                  <a:pt x="117" y="575"/>
                </a:lnTo>
                <a:lnTo>
                  <a:pt x="110" y="575"/>
                </a:lnTo>
                <a:lnTo>
                  <a:pt x="96" y="575"/>
                </a:lnTo>
                <a:lnTo>
                  <a:pt x="89" y="575"/>
                </a:lnTo>
                <a:lnTo>
                  <a:pt x="75" y="568"/>
                </a:lnTo>
                <a:lnTo>
                  <a:pt x="69" y="561"/>
                </a:lnTo>
                <a:lnTo>
                  <a:pt x="69" y="555"/>
                </a:lnTo>
                <a:lnTo>
                  <a:pt x="62" y="548"/>
                </a:lnTo>
                <a:lnTo>
                  <a:pt x="62" y="555"/>
                </a:lnTo>
                <a:lnTo>
                  <a:pt x="55" y="555"/>
                </a:lnTo>
                <a:lnTo>
                  <a:pt x="48" y="555"/>
                </a:lnTo>
                <a:lnTo>
                  <a:pt x="41" y="561"/>
                </a:lnTo>
                <a:lnTo>
                  <a:pt x="34" y="561"/>
                </a:lnTo>
                <a:lnTo>
                  <a:pt x="34" y="568"/>
                </a:lnTo>
                <a:lnTo>
                  <a:pt x="27" y="575"/>
                </a:lnTo>
                <a:lnTo>
                  <a:pt x="21" y="575"/>
                </a:lnTo>
                <a:lnTo>
                  <a:pt x="21" y="582"/>
                </a:lnTo>
                <a:lnTo>
                  <a:pt x="21" y="589"/>
                </a:lnTo>
                <a:lnTo>
                  <a:pt x="21" y="596"/>
                </a:lnTo>
                <a:lnTo>
                  <a:pt x="27" y="596"/>
                </a:lnTo>
                <a:lnTo>
                  <a:pt x="34" y="602"/>
                </a:lnTo>
                <a:lnTo>
                  <a:pt x="41" y="602"/>
                </a:lnTo>
                <a:lnTo>
                  <a:pt x="48" y="609"/>
                </a:lnTo>
                <a:lnTo>
                  <a:pt x="55" y="609"/>
                </a:lnTo>
                <a:lnTo>
                  <a:pt x="62" y="609"/>
                </a:lnTo>
                <a:lnTo>
                  <a:pt x="69" y="616"/>
                </a:lnTo>
                <a:lnTo>
                  <a:pt x="75" y="616"/>
                </a:lnTo>
                <a:lnTo>
                  <a:pt x="82" y="616"/>
                </a:lnTo>
                <a:lnTo>
                  <a:pt x="96" y="616"/>
                </a:lnTo>
                <a:lnTo>
                  <a:pt x="103" y="623"/>
                </a:lnTo>
                <a:lnTo>
                  <a:pt x="110" y="623"/>
                </a:lnTo>
                <a:lnTo>
                  <a:pt x="117" y="623"/>
                </a:lnTo>
                <a:lnTo>
                  <a:pt x="123" y="623"/>
                </a:lnTo>
                <a:lnTo>
                  <a:pt x="130" y="623"/>
                </a:lnTo>
                <a:lnTo>
                  <a:pt x="137" y="630"/>
                </a:lnTo>
                <a:lnTo>
                  <a:pt x="144" y="630"/>
                </a:lnTo>
                <a:lnTo>
                  <a:pt x="151" y="637"/>
                </a:lnTo>
                <a:lnTo>
                  <a:pt x="158" y="637"/>
                </a:lnTo>
                <a:lnTo>
                  <a:pt x="165" y="643"/>
                </a:lnTo>
                <a:lnTo>
                  <a:pt x="171" y="643"/>
                </a:lnTo>
                <a:lnTo>
                  <a:pt x="178" y="643"/>
                </a:lnTo>
                <a:lnTo>
                  <a:pt x="185" y="643"/>
                </a:lnTo>
                <a:lnTo>
                  <a:pt x="192" y="643"/>
                </a:lnTo>
                <a:lnTo>
                  <a:pt x="199" y="643"/>
                </a:lnTo>
                <a:lnTo>
                  <a:pt x="213" y="650"/>
                </a:lnTo>
                <a:lnTo>
                  <a:pt x="219" y="650"/>
                </a:lnTo>
                <a:lnTo>
                  <a:pt x="226" y="650"/>
                </a:lnTo>
                <a:lnTo>
                  <a:pt x="233" y="650"/>
                </a:lnTo>
                <a:lnTo>
                  <a:pt x="240" y="650"/>
                </a:lnTo>
                <a:lnTo>
                  <a:pt x="254" y="643"/>
                </a:lnTo>
                <a:lnTo>
                  <a:pt x="261" y="643"/>
                </a:lnTo>
                <a:lnTo>
                  <a:pt x="267" y="643"/>
                </a:lnTo>
                <a:lnTo>
                  <a:pt x="274" y="650"/>
                </a:lnTo>
                <a:lnTo>
                  <a:pt x="274" y="650"/>
                </a:lnTo>
                <a:lnTo>
                  <a:pt x="281" y="657"/>
                </a:lnTo>
                <a:lnTo>
                  <a:pt x="288" y="664"/>
                </a:lnTo>
                <a:lnTo>
                  <a:pt x="288" y="671"/>
                </a:lnTo>
                <a:lnTo>
                  <a:pt x="288" y="678"/>
                </a:lnTo>
                <a:lnTo>
                  <a:pt x="288" y="678"/>
                </a:lnTo>
                <a:lnTo>
                  <a:pt x="288" y="685"/>
                </a:lnTo>
                <a:lnTo>
                  <a:pt x="288" y="691"/>
                </a:lnTo>
                <a:lnTo>
                  <a:pt x="295" y="691"/>
                </a:lnTo>
                <a:lnTo>
                  <a:pt x="302" y="698"/>
                </a:lnTo>
                <a:lnTo>
                  <a:pt x="308" y="698"/>
                </a:lnTo>
                <a:lnTo>
                  <a:pt x="315" y="698"/>
                </a:lnTo>
                <a:lnTo>
                  <a:pt x="322" y="698"/>
                </a:lnTo>
                <a:close/>
                <a:moveTo>
                  <a:pt x="466" y="698"/>
                </a:moveTo>
                <a:lnTo>
                  <a:pt x="466" y="698"/>
                </a:lnTo>
                <a:lnTo>
                  <a:pt x="466" y="698"/>
                </a:lnTo>
                <a:lnTo>
                  <a:pt x="466" y="691"/>
                </a:lnTo>
                <a:lnTo>
                  <a:pt x="466" y="691"/>
                </a:lnTo>
                <a:lnTo>
                  <a:pt x="466" y="691"/>
                </a:lnTo>
                <a:lnTo>
                  <a:pt x="466" y="691"/>
                </a:lnTo>
                <a:lnTo>
                  <a:pt x="466" y="691"/>
                </a:lnTo>
                <a:lnTo>
                  <a:pt x="459" y="691"/>
                </a:lnTo>
                <a:lnTo>
                  <a:pt x="459" y="698"/>
                </a:lnTo>
                <a:lnTo>
                  <a:pt x="459" y="698"/>
                </a:lnTo>
                <a:lnTo>
                  <a:pt x="459" y="698"/>
                </a:lnTo>
                <a:lnTo>
                  <a:pt x="459" y="698"/>
                </a:lnTo>
                <a:lnTo>
                  <a:pt x="466" y="698"/>
                </a:lnTo>
                <a:lnTo>
                  <a:pt x="466" y="698"/>
                </a:lnTo>
                <a:close/>
                <a:moveTo>
                  <a:pt x="2029" y="671"/>
                </a:moveTo>
                <a:lnTo>
                  <a:pt x="2036" y="664"/>
                </a:lnTo>
                <a:lnTo>
                  <a:pt x="2036" y="657"/>
                </a:lnTo>
                <a:lnTo>
                  <a:pt x="2043" y="650"/>
                </a:lnTo>
                <a:lnTo>
                  <a:pt x="2043" y="650"/>
                </a:lnTo>
                <a:lnTo>
                  <a:pt x="2043" y="643"/>
                </a:lnTo>
                <a:lnTo>
                  <a:pt x="2036" y="637"/>
                </a:lnTo>
                <a:lnTo>
                  <a:pt x="2036" y="630"/>
                </a:lnTo>
                <a:lnTo>
                  <a:pt x="2029" y="623"/>
                </a:lnTo>
                <a:lnTo>
                  <a:pt x="2022" y="623"/>
                </a:lnTo>
                <a:lnTo>
                  <a:pt x="2022" y="630"/>
                </a:lnTo>
                <a:lnTo>
                  <a:pt x="2022" y="637"/>
                </a:lnTo>
                <a:lnTo>
                  <a:pt x="2022" y="643"/>
                </a:lnTo>
                <a:lnTo>
                  <a:pt x="2022" y="650"/>
                </a:lnTo>
                <a:lnTo>
                  <a:pt x="2022" y="650"/>
                </a:lnTo>
                <a:lnTo>
                  <a:pt x="2022" y="657"/>
                </a:lnTo>
                <a:lnTo>
                  <a:pt x="2022" y="664"/>
                </a:lnTo>
                <a:lnTo>
                  <a:pt x="2022" y="671"/>
                </a:lnTo>
                <a:lnTo>
                  <a:pt x="2029" y="678"/>
                </a:lnTo>
                <a:lnTo>
                  <a:pt x="2029" y="678"/>
                </a:lnTo>
                <a:lnTo>
                  <a:pt x="2029" y="671"/>
                </a:lnTo>
                <a:close/>
                <a:moveTo>
                  <a:pt x="21" y="609"/>
                </a:moveTo>
                <a:lnTo>
                  <a:pt x="0" y="602"/>
                </a:lnTo>
                <a:lnTo>
                  <a:pt x="0" y="609"/>
                </a:lnTo>
                <a:lnTo>
                  <a:pt x="0" y="630"/>
                </a:lnTo>
                <a:lnTo>
                  <a:pt x="21" y="609"/>
                </a:lnTo>
                <a:close/>
                <a:moveTo>
                  <a:pt x="1186" y="582"/>
                </a:moveTo>
                <a:lnTo>
                  <a:pt x="1186" y="582"/>
                </a:lnTo>
                <a:lnTo>
                  <a:pt x="1186" y="582"/>
                </a:lnTo>
                <a:lnTo>
                  <a:pt x="1186" y="582"/>
                </a:lnTo>
                <a:lnTo>
                  <a:pt x="1186" y="582"/>
                </a:lnTo>
                <a:lnTo>
                  <a:pt x="1186" y="582"/>
                </a:lnTo>
                <a:lnTo>
                  <a:pt x="1186" y="582"/>
                </a:lnTo>
                <a:lnTo>
                  <a:pt x="1186" y="582"/>
                </a:lnTo>
                <a:lnTo>
                  <a:pt x="1186" y="582"/>
                </a:lnTo>
                <a:lnTo>
                  <a:pt x="1186" y="582"/>
                </a:lnTo>
                <a:lnTo>
                  <a:pt x="1186" y="582"/>
                </a:lnTo>
                <a:lnTo>
                  <a:pt x="1186" y="582"/>
                </a:lnTo>
                <a:lnTo>
                  <a:pt x="1186" y="582"/>
                </a:lnTo>
                <a:lnTo>
                  <a:pt x="1186" y="582"/>
                </a:lnTo>
                <a:lnTo>
                  <a:pt x="1186" y="582"/>
                </a:lnTo>
                <a:close/>
                <a:moveTo>
                  <a:pt x="2070" y="582"/>
                </a:moveTo>
                <a:lnTo>
                  <a:pt x="2077" y="575"/>
                </a:lnTo>
                <a:lnTo>
                  <a:pt x="2084" y="568"/>
                </a:lnTo>
                <a:lnTo>
                  <a:pt x="2084" y="561"/>
                </a:lnTo>
                <a:lnTo>
                  <a:pt x="2077" y="555"/>
                </a:lnTo>
                <a:lnTo>
                  <a:pt x="2070" y="541"/>
                </a:lnTo>
                <a:lnTo>
                  <a:pt x="2064" y="534"/>
                </a:lnTo>
                <a:lnTo>
                  <a:pt x="2057" y="534"/>
                </a:lnTo>
                <a:lnTo>
                  <a:pt x="2050" y="541"/>
                </a:lnTo>
                <a:lnTo>
                  <a:pt x="2050" y="555"/>
                </a:lnTo>
                <a:lnTo>
                  <a:pt x="2050" y="561"/>
                </a:lnTo>
                <a:lnTo>
                  <a:pt x="2050" y="568"/>
                </a:lnTo>
                <a:lnTo>
                  <a:pt x="2050" y="575"/>
                </a:lnTo>
                <a:lnTo>
                  <a:pt x="2050" y="582"/>
                </a:lnTo>
                <a:lnTo>
                  <a:pt x="2050" y="596"/>
                </a:lnTo>
                <a:lnTo>
                  <a:pt x="2050" y="602"/>
                </a:lnTo>
                <a:lnTo>
                  <a:pt x="2057" y="609"/>
                </a:lnTo>
                <a:lnTo>
                  <a:pt x="2057" y="609"/>
                </a:lnTo>
                <a:lnTo>
                  <a:pt x="2064" y="602"/>
                </a:lnTo>
                <a:lnTo>
                  <a:pt x="2064" y="596"/>
                </a:lnTo>
                <a:lnTo>
                  <a:pt x="2070" y="582"/>
                </a:lnTo>
                <a:close/>
                <a:moveTo>
                  <a:pt x="2091" y="527"/>
                </a:moveTo>
                <a:lnTo>
                  <a:pt x="2091" y="520"/>
                </a:lnTo>
                <a:lnTo>
                  <a:pt x="2091" y="513"/>
                </a:lnTo>
                <a:lnTo>
                  <a:pt x="2091" y="507"/>
                </a:lnTo>
                <a:lnTo>
                  <a:pt x="2091" y="500"/>
                </a:lnTo>
                <a:lnTo>
                  <a:pt x="2091" y="500"/>
                </a:lnTo>
                <a:lnTo>
                  <a:pt x="2091" y="493"/>
                </a:lnTo>
                <a:lnTo>
                  <a:pt x="2084" y="493"/>
                </a:lnTo>
                <a:lnTo>
                  <a:pt x="2077" y="493"/>
                </a:lnTo>
                <a:lnTo>
                  <a:pt x="2070" y="500"/>
                </a:lnTo>
                <a:lnTo>
                  <a:pt x="2070" y="507"/>
                </a:lnTo>
                <a:lnTo>
                  <a:pt x="2070" y="513"/>
                </a:lnTo>
                <a:lnTo>
                  <a:pt x="2070" y="520"/>
                </a:lnTo>
                <a:lnTo>
                  <a:pt x="2077" y="520"/>
                </a:lnTo>
                <a:lnTo>
                  <a:pt x="2077" y="527"/>
                </a:lnTo>
                <a:lnTo>
                  <a:pt x="2077" y="534"/>
                </a:lnTo>
                <a:lnTo>
                  <a:pt x="2084" y="541"/>
                </a:lnTo>
                <a:lnTo>
                  <a:pt x="2084" y="541"/>
                </a:lnTo>
                <a:lnTo>
                  <a:pt x="2091" y="541"/>
                </a:lnTo>
                <a:lnTo>
                  <a:pt x="2091" y="534"/>
                </a:lnTo>
                <a:lnTo>
                  <a:pt x="2091" y="527"/>
                </a:lnTo>
                <a:close/>
                <a:moveTo>
                  <a:pt x="336" y="466"/>
                </a:moveTo>
                <a:lnTo>
                  <a:pt x="336" y="452"/>
                </a:lnTo>
                <a:lnTo>
                  <a:pt x="329" y="445"/>
                </a:lnTo>
                <a:lnTo>
                  <a:pt x="322" y="438"/>
                </a:lnTo>
                <a:lnTo>
                  <a:pt x="315" y="438"/>
                </a:lnTo>
                <a:lnTo>
                  <a:pt x="308" y="445"/>
                </a:lnTo>
                <a:lnTo>
                  <a:pt x="302" y="452"/>
                </a:lnTo>
                <a:lnTo>
                  <a:pt x="302" y="459"/>
                </a:lnTo>
                <a:lnTo>
                  <a:pt x="302" y="466"/>
                </a:lnTo>
                <a:lnTo>
                  <a:pt x="302" y="479"/>
                </a:lnTo>
                <a:lnTo>
                  <a:pt x="315" y="486"/>
                </a:lnTo>
                <a:lnTo>
                  <a:pt x="322" y="486"/>
                </a:lnTo>
                <a:lnTo>
                  <a:pt x="329" y="486"/>
                </a:lnTo>
                <a:lnTo>
                  <a:pt x="329" y="479"/>
                </a:lnTo>
                <a:lnTo>
                  <a:pt x="336" y="466"/>
                </a:lnTo>
                <a:close/>
                <a:moveTo>
                  <a:pt x="363" y="438"/>
                </a:moveTo>
                <a:lnTo>
                  <a:pt x="363" y="431"/>
                </a:lnTo>
                <a:lnTo>
                  <a:pt x="370" y="425"/>
                </a:lnTo>
                <a:lnTo>
                  <a:pt x="370" y="418"/>
                </a:lnTo>
                <a:lnTo>
                  <a:pt x="377" y="411"/>
                </a:lnTo>
                <a:lnTo>
                  <a:pt x="384" y="411"/>
                </a:lnTo>
                <a:lnTo>
                  <a:pt x="384" y="404"/>
                </a:lnTo>
                <a:lnTo>
                  <a:pt x="391" y="397"/>
                </a:lnTo>
                <a:lnTo>
                  <a:pt x="398" y="390"/>
                </a:lnTo>
                <a:lnTo>
                  <a:pt x="404" y="383"/>
                </a:lnTo>
                <a:lnTo>
                  <a:pt x="398" y="377"/>
                </a:lnTo>
                <a:lnTo>
                  <a:pt x="398" y="370"/>
                </a:lnTo>
                <a:lnTo>
                  <a:pt x="384" y="370"/>
                </a:lnTo>
                <a:lnTo>
                  <a:pt x="377" y="363"/>
                </a:lnTo>
                <a:lnTo>
                  <a:pt x="370" y="370"/>
                </a:lnTo>
                <a:lnTo>
                  <a:pt x="370" y="377"/>
                </a:lnTo>
                <a:lnTo>
                  <a:pt x="363" y="383"/>
                </a:lnTo>
                <a:lnTo>
                  <a:pt x="363" y="390"/>
                </a:lnTo>
                <a:lnTo>
                  <a:pt x="356" y="390"/>
                </a:lnTo>
                <a:lnTo>
                  <a:pt x="350" y="397"/>
                </a:lnTo>
                <a:lnTo>
                  <a:pt x="350" y="404"/>
                </a:lnTo>
                <a:lnTo>
                  <a:pt x="343" y="411"/>
                </a:lnTo>
                <a:lnTo>
                  <a:pt x="336" y="418"/>
                </a:lnTo>
                <a:lnTo>
                  <a:pt x="329" y="418"/>
                </a:lnTo>
                <a:lnTo>
                  <a:pt x="322" y="425"/>
                </a:lnTo>
                <a:lnTo>
                  <a:pt x="322" y="431"/>
                </a:lnTo>
                <a:lnTo>
                  <a:pt x="322" y="438"/>
                </a:lnTo>
                <a:lnTo>
                  <a:pt x="329" y="445"/>
                </a:lnTo>
                <a:lnTo>
                  <a:pt x="336" y="452"/>
                </a:lnTo>
                <a:lnTo>
                  <a:pt x="350" y="452"/>
                </a:lnTo>
                <a:lnTo>
                  <a:pt x="350" y="452"/>
                </a:lnTo>
                <a:lnTo>
                  <a:pt x="356" y="445"/>
                </a:lnTo>
                <a:lnTo>
                  <a:pt x="363" y="438"/>
                </a:lnTo>
                <a:close/>
                <a:moveTo>
                  <a:pt x="2640" y="411"/>
                </a:moveTo>
                <a:lnTo>
                  <a:pt x="2640" y="397"/>
                </a:lnTo>
                <a:lnTo>
                  <a:pt x="2640" y="390"/>
                </a:lnTo>
                <a:lnTo>
                  <a:pt x="2640" y="390"/>
                </a:lnTo>
                <a:lnTo>
                  <a:pt x="2633" y="383"/>
                </a:lnTo>
                <a:lnTo>
                  <a:pt x="2633" y="383"/>
                </a:lnTo>
                <a:lnTo>
                  <a:pt x="2633" y="383"/>
                </a:lnTo>
                <a:lnTo>
                  <a:pt x="2633" y="390"/>
                </a:lnTo>
                <a:lnTo>
                  <a:pt x="2633" y="397"/>
                </a:lnTo>
                <a:lnTo>
                  <a:pt x="2633" y="404"/>
                </a:lnTo>
                <a:lnTo>
                  <a:pt x="2633" y="411"/>
                </a:lnTo>
                <a:lnTo>
                  <a:pt x="2633" y="418"/>
                </a:lnTo>
                <a:lnTo>
                  <a:pt x="2633" y="418"/>
                </a:lnTo>
                <a:lnTo>
                  <a:pt x="2640" y="418"/>
                </a:lnTo>
                <a:lnTo>
                  <a:pt x="2640" y="411"/>
                </a:lnTo>
                <a:close/>
                <a:moveTo>
                  <a:pt x="425" y="349"/>
                </a:moveTo>
                <a:lnTo>
                  <a:pt x="418" y="336"/>
                </a:lnTo>
                <a:lnTo>
                  <a:pt x="418" y="329"/>
                </a:lnTo>
                <a:lnTo>
                  <a:pt x="411" y="322"/>
                </a:lnTo>
                <a:lnTo>
                  <a:pt x="404" y="322"/>
                </a:lnTo>
                <a:lnTo>
                  <a:pt x="398" y="329"/>
                </a:lnTo>
                <a:lnTo>
                  <a:pt x="391" y="336"/>
                </a:lnTo>
                <a:lnTo>
                  <a:pt x="391" y="342"/>
                </a:lnTo>
                <a:lnTo>
                  <a:pt x="391" y="356"/>
                </a:lnTo>
                <a:lnTo>
                  <a:pt x="398" y="363"/>
                </a:lnTo>
                <a:lnTo>
                  <a:pt x="404" y="370"/>
                </a:lnTo>
                <a:lnTo>
                  <a:pt x="411" y="377"/>
                </a:lnTo>
                <a:lnTo>
                  <a:pt x="411" y="370"/>
                </a:lnTo>
                <a:lnTo>
                  <a:pt x="418" y="363"/>
                </a:lnTo>
                <a:lnTo>
                  <a:pt x="425" y="349"/>
                </a:lnTo>
                <a:close/>
                <a:moveTo>
                  <a:pt x="446" y="322"/>
                </a:moveTo>
                <a:lnTo>
                  <a:pt x="452" y="315"/>
                </a:lnTo>
                <a:lnTo>
                  <a:pt x="452" y="308"/>
                </a:lnTo>
                <a:lnTo>
                  <a:pt x="459" y="301"/>
                </a:lnTo>
                <a:lnTo>
                  <a:pt x="473" y="295"/>
                </a:lnTo>
                <a:lnTo>
                  <a:pt x="480" y="295"/>
                </a:lnTo>
                <a:lnTo>
                  <a:pt x="494" y="295"/>
                </a:lnTo>
                <a:lnTo>
                  <a:pt x="494" y="288"/>
                </a:lnTo>
                <a:lnTo>
                  <a:pt x="494" y="281"/>
                </a:lnTo>
                <a:lnTo>
                  <a:pt x="494" y="274"/>
                </a:lnTo>
                <a:lnTo>
                  <a:pt x="487" y="260"/>
                </a:lnTo>
                <a:lnTo>
                  <a:pt x="480" y="253"/>
                </a:lnTo>
                <a:lnTo>
                  <a:pt x="473" y="247"/>
                </a:lnTo>
                <a:lnTo>
                  <a:pt x="466" y="240"/>
                </a:lnTo>
                <a:lnTo>
                  <a:pt x="466" y="240"/>
                </a:lnTo>
                <a:lnTo>
                  <a:pt x="459" y="240"/>
                </a:lnTo>
                <a:lnTo>
                  <a:pt x="452" y="247"/>
                </a:lnTo>
                <a:lnTo>
                  <a:pt x="452" y="260"/>
                </a:lnTo>
                <a:lnTo>
                  <a:pt x="446" y="267"/>
                </a:lnTo>
                <a:lnTo>
                  <a:pt x="439" y="274"/>
                </a:lnTo>
                <a:lnTo>
                  <a:pt x="439" y="281"/>
                </a:lnTo>
                <a:lnTo>
                  <a:pt x="432" y="288"/>
                </a:lnTo>
                <a:lnTo>
                  <a:pt x="425" y="295"/>
                </a:lnTo>
                <a:lnTo>
                  <a:pt x="418" y="301"/>
                </a:lnTo>
                <a:lnTo>
                  <a:pt x="411" y="301"/>
                </a:lnTo>
                <a:lnTo>
                  <a:pt x="411" y="308"/>
                </a:lnTo>
                <a:lnTo>
                  <a:pt x="404" y="315"/>
                </a:lnTo>
                <a:lnTo>
                  <a:pt x="411" y="322"/>
                </a:lnTo>
                <a:lnTo>
                  <a:pt x="418" y="329"/>
                </a:lnTo>
                <a:lnTo>
                  <a:pt x="432" y="336"/>
                </a:lnTo>
                <a:lnTo>
                  <a:pt x="439" y="336"/>
                </a:lnTo>
                <a:lnTo>
                  <a:pt x="446" y="329"/>
                </a:lnTo>
                <a:lnTo>
                  <a:pt x="446" y="322"/>
                </a:lnTo>
                <a:close/>
                <a:moveTo>
                  <a:pt x="350" y="295"/>
                </a:moveTo>
                <a:lnTo>
                  <a:pt x="350" y="295"/>
                </a:lnTo>
                <a:lnTo>
                  <a:pt x="336" y="308"/>
                </a:lnTo>
                <a:lnTo>
                  <a:pt x="336" y="301"/>
                </a:lnTo>
                <a:lnTo>
                  <a:pt x="336" y="301"/>
                </a:lnTo>
                <a:lnTo>
                  <a:pt x="343" y="301"/>
                </a:lnTo>
                <a:lnTo>
                  <a:pt x="343" y="301"/>
                </a:lnTo>
                <a:lnTo>
                  <a:pt x="350" y="295"/>
                </a:lnTo>
                <a:lnTo>
                  <a:pt x="350" y="295"/>
                </a:lnTo>
                <a:lnTo>
                  <a:pt x="350" y="295"/>
                </a:lnTo>
                <a:lnTo>
                  <a:pt x="350" y="295"/>
                </a:lnTo>
                <a:close/>
                <a:moveTo>
                  <a:pt x="384" y="260"/>
                </a:moveTo>
                <a:lnTo>
                  <a:pt x="377" y="260"/>
                </a:lnTo>
                <a:lnTo>
                  <a:pt x="377" y="267"/>
                </a:lnTo>
                <a:lnTo>
                  <a:pt x="384" y="260"/>
                </a:lnTo>
                <a:close/>
                <a:moveTo>
                  <a:pt x="404" y="233"/>
                </a:moveTo>
                <a:lnTo>
                  <a:pt x="418" y="226"/>
                </a:lnTo>
                <a:lnTo>
                  <a:pt x="404" y="233"/>
                </a:lnTo>
                <a:lnTo>
                  <a:pt x="404" y="233"/>
                </a:lnTo>
                <a:lnTo>
                  <a:pt x="404" y="233"/>
                </a:lnTo>
                <a:close/>
                <a:moveTo>
                  <a:pt x="466" y="178"/>
                </a:moveTo>
                <a:lnTo>
                  <a:pt x="466" y="178"/>
                </a:lnTo>
                <a:lnTo>
                  <a:pt x="452" y="192"/>
                </a:lnTo>
                <a:lnTo>
                  <a:pt x="452" y="185"/>
                </a:lnTo>
                <a:lnTo>
                  <a:pt x="452" y="185"/>
                </a:lnTo>
                <a:lnTo>
                  <a:pt x="459" y="185"/>
                </a:lnTo>
                <a:lnTo>
                  <a:pt x="459" y="185"/>
                </a:lnTo>
                <a:lnTo>
                  <a:pt x="459" y="178"/>
                </a:lnTo>
                <a:lnTo>
                  <a:pt x="466" y="178"/>
                </a:lnTo>
                <a:lnTo>
                  <a:pt x="466" y="178"/>
                </a:lnTo>
                <a:lnTo>
                  <a:pt x="466" y="178"/>
                </a:lnTo>
                <a:close/>
                <a:moveTo>
                  <a:pt x="1022" y="178"/>
                </a:moveTo>
                <a:lnTo>
                  <a:pt x="1022" y="171"/>
                </a:lnTo>
                <a:lnTo>
                  <a:pt x="1015" y="165"/>
                </a:lnTo>
                <a:lnTo>
                  <a:pt x="1015" y="165"/>
                </a:lnTo>
                <a:lnTo>
                  <a:pt x="1008" y="165"/>
                </a:lnTo>
                <a:lnTo>
                  <a:pt x="994" y="165"/>
                </a:lnTo>
                <a:lnTo>
                  <a:pt x="987" y="171"/>
                </a:lnTo>
                <a:lnTo>
                  <a:pt x="987" y="171"/>
                </a:lnTo>
                <a:lnTo>
                  <a:pt x="987" y="178"/>
                </a:lnTo>
                <a:lnTo>
                  <a:pt x="994" y="185"/>
                </a:lnTo>
                <a:lnTo>
                  <a:pt x="1001" y="185"/>
                </a:lnTo>
                <a:lnTo>
                  <a:pt x="1008" y="185"/>
                </a:lnTo>
                <a:lnTo>
                  <a:pt x="1015" y="185"/>
                </a:lnTo>
                <a:lnTo>
                  <a:pt x="1022" y="178"/>
                </a:lnTo>
                <a:lnTo>
                  <a:pt x="1022" y="178"/>
                </a:lnTo>
                <a:close/>
                <a:moveTo>
                  <a:pt x="514" y="144"/>
                </a:moveTo>
                <a:lnTo>
                  <a:pt x="494" y="144"/>
                </a:lnTo>
                <a:lnTo>
                  <a:pt x="494" y="165"/>
                </a:lnTo>
                <a:lnTo>
                  <a:pt x="514" y="144"/>
                </a:lnTo>
                <a:close/>
                <a:moveTo>
                  <a:pt x="2777" y="117"/>
                </a:moveTo>
                <a:lnTo>
                  <a:pt x="2763" y="117"/>
                </a:lnTo>
                <a:lnTo>
                  <a:pt x="2777" y="137"/>
                </a:lnTo>
                <a:lnTo>
                  <a:pt x="2777" y="117"/>
                </a:lnTo>
                <a:close/>
                <a:moveTo>
                  <a:pt x="795" y="89"/>
                </a:moveTo>
                <a:lnTo>
                  <a:pt x="802" y="82"/>
                </a:lnTo>
                <a:lnTo>
                  <a:pt x="802" y="82"/>
                </a:lnTo>
                <a:lnTo>
                  <a:pt x="809" y="76"/>
                </a:lnTo>
                <a:lnTo>
                  <a:pt x="809" y="76"/>
                </a:lnTo>
                <a:lnTo>
                  <a:pt x="816" y="82"/>
                </a:lnTo>
                <a:lnTo>
                  <a:pt x="823" y="82"/>
                </a:lnTo>
                <a:lnTo>
                  <a:pt x="823" y="89"/>
                </a:lnTo>
                <a:lnTo>
                  <a:pt x="823" y="89"/>
                </a:lnTo>
                <a:lnTo>
                  <a:pt x="816" y="96"/>
                </a:lnTo>
                <a:lnTo>
                  <a:pt x="816" y="96"/>
                </a:lnTo>
                <a:lnTo>
                  <a:pt x="809" y="96"/>
                </a:lnTo>
                <a:lnTo>
                  <a:pt x="809" y="96"/>
                </a:lnTo>
                <a:lnTo>
                  <a:pt x="802" y="96"/>
                </a:lnTo>
                <a:lnTo>
                  <a:pt x="795" y="89"/>
                </a:lnTo>
                <a:close/>
                <a:moveTo>
                  <a:pt x="2749" y="89"/>
                </a:moveTo>
                <a:lnTo>
                  <a:pt x="2722" y="89"/>
                </a:lnTo>
                <a:lnTo>
                  <a:pt x="2715" y="89"/>
                </a:lnTo>
                <a:lnTo>
                  <a:pt x="2722" y="89"/>
                </a:lnTo>
                <a:lnTo>
                  <a:pt x="2722" y="96"/>
                </a:lnTo>
                <a:lnTo>
                  <a:pt x="2729" y="96"/>
                </a:lnTo>
                <a:lnTo>
                  <a:pt x="2729" y="96"/>
                </a:lnTo>
                <a:lnTo>
                  <a:pt x="2735" y="103"/>
                </a:lnTo>
                <a:lnTo>
                  <a:pt x="2742" y="103"/>
                </a:lnTo>
                <a:lnTo>
                  <a:pt x="2742" y="103"/>
                </a:lnTo>
                <a:lnTo>
                  <a:pt x="2749" y="103"/>
                </a:lnTo>
                <a:lnTo>
                  <a:pt x="2749" y="89"/>
                </a:lnTo>
                <a:close/>
                <a:moveTo>
                  <a:pt x="2578" y="28"/>
                </a:moveTo>
                <a:lnTo>
                  <a:pt x="2578" y="28"/>
                </a:lnTo>
                <a:lnTo>
                  <a:pt x="2578" y="28"/>
                </a:lnTo>
                <a:lnTo>
                  <a:pt x="2578" y="28"/>
                </a:lnTo>
                <a:lnTo>
                  <a:pt x="2578" y="28"/>
                </a:lnTo>
                <a:lnTo>
                  <a:pt x="2578" y="28"/>
                </a:lnTo>
                <a:lnTo>
                  <a:pt x="2578" y="28"/>
                </a:lnTo>
                <a:lnTo>
                  <a:pt x="2578" y="28"/>
                </a:lnTo>
                <a:lnTo>
                  <a:pt x="2578" y="28"/>
                </a:lnTo>
                <a:lnTo>
                  <a:pt x="2578" y="28"/>
                </a:lnTo>
                <a:lnTo>
                  <a:pt x="2578" y="28"/>
                </a:lnTo>
                <a:close/>
                <a:moveTo>
                  <a:pt x="2427" y="0"/>
                </a:moveTo>
                <a:lnTo>
                  <a:pt x="2400" y="0"/>
                </a:lnTo>
                <a:lnTo>
                  <a:pt x="2372" y="0"/>
                </a:lnTo>
                <a:lnTo>
                  <a:pt x="2372" y="0"/>
                </a:lnTo>
                <a:lnTo>
                  <a:pt x="2379" y="0"/>
                </a:lnTo>
                <a:lnTo>
                  <a:pt x="2379" y="0"/>
                </a:lnTo>
                <a:lnTo>
                  <a:pt x="2386" y="0"/>
                </a:lnTo>
                <a:lnTo>
                  <a:pt x="2393" y="7"/>
                </a:lnTo>
                <a:lnTo>
                  <a:pt x="2400" y="7"/>
                </a:lnTo>
                <a:lnTo>
                  <a:pt x="2400" y="7"/>
                </a:lnTo>
                <a:lnTo>
                  <a:pt x="2406" y="7"/>
                </a:lnTo>
                <a:lnTo>
                  <a:pt x="2413" y="7"/>
                </a:lnTo>
                <a:lnTo>
                  <a:pt x="2420" y="7"/>
                </a:lnTo>
                <a:lnTo>
                  <a:pt x="2420" y="0"/>
                </a:lnTo>
                <a:lnTo>
                  <a:pt x="2427" y="0"/>
                </a:lnTo>
                <a:close/>
                <a:moveTo>
                  <a:pt x="2434" y="1800"/>
                </a:moveTo>
                <a:lnTo>
                  <a:pt x="2461" y="1773"/>
                </a:lnTo>
                <a:lnTo>
                  <a:pt x="2489" y="1773"/>
                </a:lnTo>
                <a:lnTo>
                  <a:pt x="2516" y="1773"/>
                </a:lnTo>
                <a:lnTo>
                  <a:pt x="2550" y="1773"/>
                </a:lnTo>
                <a:lnTo>
                  <a:pt x="2578" y="1773"/>
                </a:lnTo>
                <a:lnTo>
                  <a:pt x="2605" y="1773"/>
                </a:lnTo>
                <a:lnTo>
                  <a:pt x="2633" y="1773"/>
                </a:lnTo>
                <a:lnTo>
                  <a:pt x="2660" y="1745"/>
                </a:lnTo>
                <a:lnTo>
                  <a:pt x="2660" y="1718"/>
                </a:lnTo>
                <a:lnTo>
                  <a:pt x="2660" y="1684"/>
                </a:lnTo>
                <a:lnTo>
                  <a:pt x="2660" y="1656"/>
                </a:lnTo>
                <a:lnTo>
                  <a:pt x="2694" y="1629"/>
                </a:lnTo>
                <a:lnTo>
                  <a:pt x="2694" y="1601"/>
                </a:lnTo>
                <a:lnTo>
                  <a:pt x="2694" y="1567"/>
                </a:lnTo>
                <a:lnTo>
                  <a:pt x="2694" y="1540"/>
                </a:lnTo>
                <a:lnTo>
                  <a:pt x="2722" y="1513"/>
                </a:lnTo>
                <a:lnTo>
                  <a:pt x="2722" y="1485"/>
                </a:lnTo>
                <a:lnTo>
                  <a:pt x="2722" y="1451"/>
                </a:lnTo>
                <a:lnTo>
                  <a:pt x="2722" y="1424"/>
                </a:lnTo>
                <a:lnTo>
                  <a:pt x="2749" y="1396"/>
                </a:lnTo>
                <a:lnTo>
                  <a:pt x="2749" y="1369"/>
                </a:lnTo>
                <a:lnTo>
                  <a:pt x="2749" y="1335"/>
                </a:lnTo>
                <a:lnTo>
                  <a:pt x="2749" y="1307"/>
                </a:lnTo>
                <a:lnTo>
                  <a:pt x="2777" y="1280"/>
                </a:lnTo>
                <a:lnTo>
                  <a:pt x="2777" y="1252"/>
                </a:lnTo>
                <a:lnTo>
                  <a:pt x="2777" y="1218"/>
                </a:lnTo>
                <a:lnTo>
                  <a:pt x="2777" y="1191"/>
                </a:lnTo>
                <a:lnTo>
                  <a:pt x="2811" y="1164"/>
                </a:lnTo>
                <a:lnTo>
                  <a:pt x="2811" y="1136"/>
                </a:lnTo>
                <a:lnTo>
                  <a:pt x="2811" y="1102"/>
                </a:lnTo>
                <a:lnTo>
                  <a:pt x="2811" y="1075"/>
                </a:lnTo>
                <a:lnTo>
                  <a:pt x="2811" y="1047"/>
                </a:lnTo>
                <a:lnTo>
                  <a:pt x="2811" y="1020"/>
                </a:lnTo>
                <a:lnTo>
                  <a:pt x="2811" y="992"/>
                </a:lnTo>
                <a:lnTo>
                  <a:pt x="2811" y="958"/>
                </a:lnTo>
                <a:lnTo>
                  <a:pt x="2811" y="931"/>
                </a:lnTo>
                <a:lnTo>
                  <a:pt x="2811" y="904"/>
                </a:lnTo>
                <a:lnTo>
                  <a:pt x="2811" y="876"/>
                </a:lnTo>
                <a:lnTo>
                  <a:pt x="2811" y="842"/>
                </a:lnTo>
                <a:lnTo>
                  <a:pt x="2811" y="815"/>
                </a:lnTo>
                <a:lnTo>
                  <a:pt x="2811" y="787"/>
                </a:lnTo>
                <a:lnTo>
                  <a:pt x="2811" y="760"/>
                </a:lnTo>
                <a:lnTo>
                  <a:pt x="2811" y="726"/>
                </a:lnTo>
                <a:lnTo>
                  <a:pt x="2811" y="698"/>
                </a:lnTo>
                <a:lnTo>
                  <a:pt x="2811" y="671"/>
                </a:lnTo>
                <a:lnTo>
                  <a:pt x="2811" y="643"/>
                </a:lnTo>
                <a:lnTo>
                  <a:pt x="2811" y="609"/>
                </a:lnTo>
                <a:lnTo>
                  <a:pt x="2811" y="582"/>
                </a:lnTo>
                <a:lnTo>
                  <a:pt x="2811" y="555"/>
                </a:lnTo>
                <a:lnTo>
                  <a:pt x="2811" y="527"/>
                </a:lnTo>
                <a:lnTo>
                  <a:pt x="2811" y="493"/>
                </a:lnTo>
                <a:lnTo>
                  <a:pt x="2811" y="466"/>
                </a:lnTo>
                <a:lnTo>
                  <a:pt x="2811" y="438"/>
                </a:lnTo>
                <a:lnTo>
                  <a:pt x="2811" y="411"/>
                </a:lnTo>
                <a:lnTo>
                  <a:pt x="2811" y="377"/>
                </a:lnTo>
                <a:lnTo>
                  <a:pt x="2811" y="349"/>
                </a:lnTo>
                <a:lnTo>
                  <a:pt x="2811" y="322"/>
                </a:lnTo>
                <a:lnTo>
                  <a:pt x="2811" y="295"/>
                </a:lnTo>
                <a:lnTo>
                  <a:pt x="2811" y="260"/>
                </a:lnTo>
                <a:lnTo>
                  <a:pt x="2777" y="233"/>
                </a:lnTo>
                <a:lnTo>
                  <a:pt x="2777" y="206"/>
                </a:lnTo>
                <a:lnTo>
                  <a:pt x="2777" y="178"/>
                </a:lnTo>
                <a:lnTo>
                  <a:pt x="2777" y="144"/>
                </a:lnTo>
                <a:lnTo>
                  <a:pt x="2777" y="117"/>
                </a:lnTo>
                <a:lnTo>
                  <a:pt x="2749" y="89"/>
                </a:lnTo>
                <a:lnTo>
                  <a:pt x="2722" y="89"/>
                </a:lnTo>
                <a:lnTo>
                  <a:pt x="2694" y="89"/>
                </a:lnTo>
                <a:lnTo>
                  <a:pt x="2660" y="62"/>
                </a:lnTo>
                <a:lnTo>
                  <a:pt x="2633" y="62"/>
                </a:lnTo>
                <a:lnTo>
                  <a:pt x="2605" y="62"/>
                </a:lnTo>
                <a:lnTo>
                  <a:pt x="2578" y="28"/>
                </a:lnTo>
                <a:lnTo>
                  <a:pt x="2550" y="28"/>
                </a:lnTo>
                <a:lnTo>
                  <a:pt x="2516" y="28"/>
                </a:lnTo>
                <a:lnTo>
                  <a:pt x="2489" y="0"/>
                </a:lnTo>
                <a:lnTo>
                  <a:pt x="2461" y="0"/>
                </a:lnTo>
                <a:lnTo>
                  <a:pt x="2434" y="0"/>
                </a:lnTo>
                <a:lnTo>
                  <a:pt x="2400" y="0"/>
                </a:lnTo>
                <a:lnTo>
                  <a:pt x="2372" y="0"/>
                </a:lnTo>
                <a:lnTo>
                  <a:pt x="2345" y="0"/>
                </a:lnTo>
                <a:lnTo>
                  <a:pt x="2317" y="0"/>
                </a:lnTo>
                <a:lnTo>
                  <a:pt x="2290" y="0"/>
                </a:lnTo>
                <a:lnTo>
                  <a:pt x="2256" y="0"/>
                </a:lnTo>
                <a:lnTo>
                  <a:pt x="2228" y="0"/>
                </a:lnTo>
                <a:lnTo>
                  <a:pt x="2201" y="0"/>
                </a:lnTo>
                <a:lnTo>
                  <a:pt x="2173" y="0"/>
                </a:lnTo>
                <a:lnTo>
                  <a:pt x="2146" y="0"/>
                </a:lnTo>
                <a:lnTo>
                  <a:pt x="2153" y="0"/>
                </a:lnTo>
                <a:lnTo>
                  <a:pt x="2166" y="7"/>
                </a:lnTo>
                <a:lnTo>
                  <a:pt x="2173" y="7"/>
                </a:lnTo>
                <a:lnTo>
                  <a:pt x="2180" y="7"/>
                </a:lnTo>
                <a:lnTo>
                  <a:pt x="2187" y="14"/>
                </a:lnTo>
                <a:lnTo>
                  <a:pt x="2201" y="14"/>
                </a:lnTo>
                <a:lnTo>
                  <a:pt x="2208" y="14"/>
                </a:lnTo>
                <a:lnTo>
                  <a:pt x="2214" y="14"/>
                </a:lnTo>
                <a:lnTo>
                  <a:pt x="2228" y="14"/>
                </a:lnTo>
                <a:lnTo>
                  <a:pt x="2235" y="14"/>
                </a:lnTo>
                <a:lnTo>
                  <a:pt x="2242" y="21"/>
                </a:lnTo>
                <a:lnTo>
                  <a:pt x="2249" y="21"/>
                </a:lnTo>
                <a:lnTo>
                  <a:pt x="2262" y="21"/>
                </a:lnTo>
                <a:lnTo>
                  <a:pt x="2269" y="21"/>
                </a:lnTo>
                <a:lnTo>
                  <a:pt x="2276" y="21"/>
                </a:lnTo>
                <a:lnTo>
                  <a:pt x="2290" y="28"/>
                </a:lnTo>
                <a:lnTo>
                  <a:pt x="2297" y="28"/>
                </a:lnTo>
                <a:lnTo>
                  <a:pt x="2304" y="28"/>
                </a:lnTo>
                <a:lnTo>
                  <a:pt x="2310" y="28"/>
                </a:lnTo>
                <a:lnTo>
                  <a:pt x="2324" y="28"/>
                </a:lnTo>
                <a:lnTo>
                  <a:pt x="2324" y="34"/>
                </a:lnTo>
                <a:lnTo>
                  <a:pt x="2331" y="41"/>
                </a:lnTo>
                <a:lnTo>
                  <a:pt x="2331" y="48"/>
                </a:lnTo>
                <a:lnTo>
                  <a:pt x="2331" y="55"/>
                </a:lnTo>
                <a:lnTo>
                  <a:pt x="2338" y="62"/>
                </a:lnTo>
                <a:lnTo>
                  <a:pt x="2345" y="62"/>
                </a:lnTo>
                <a:lnTo>
                  <a:pt x="2352" y="62"/>
                </a:lnTo>
                <a:lnTo>
                  <a:pt x="2358" y="62"/>
                </a:lnTo>
                <a:lnTo>
                  <a:pt x="2372" y="69"/>
                </a:lnTo>
                <a:lnTo>
                  <a:pt x="2379" y="69"/>
                </a:lnTo>
                <a:lnTo>
                  <a:pt x="2393" y="69"/>
                </a:lnTo>
                <a:lnTo>
                  <a:pt x="2400" y="69"/>
                </a:lnTo>
                <a:lnTo>
                  <a:pt x="2406" y="69"/>
                </a:lnTo>
                <a:lnTo>
                  <a:pt x="2406" y="76"/>
                </a:lnTo>
                <a:lnTo>
                  <a:pt x="2413" y="82"/>
                </a:lnTo>
                <a:lnTo>
                  <a:pt x="2420" y="89"/>
                </a:lnTo>
                <a:lnTo>
                  <a:pt x="2420" y="96"/>
                </a:lnTo>
                <a:lnTo>
                  <a:pt x="2427" y="96"/>
                </a:lnTo>
                <a:lnTo>
                  <a:pt x="2434" y="96"/>
                </a:lnTo>
                <a:lnTo>
                  <a:pt x="2448" y="96"/>
                </a:lnTo>
                <a:lnTo>
                  <a:pt x="2454" y="89"/>
                </a:lnTo>
                <a:lnTo>
                  <a:pt x="2454" y="89"/>
                </a:lnTo>
                <a:lnTo>
                  <a:pt x="2454" y="82"/>
                </a:lnTo>
                <a:lnTo>
                  <a:pt x="2454" y="76"/>
                </a:lnTo>
                <a:lnTo>
                  <a:pt x="2454" y="69"/>
                </a:lnTo>
                <a:lnTo>
                  <a:pt x="2454" y="62"/>
                </a:lnTo>
                <a:lnTo>
                  <a:pt x="2461" y="55"/>
                </a:lnTo>
                <a:lnTo>
                  <a:pt x="2468" y="62"/>
                </a:lnTo>
                <a:lnTo>
                  <a:pt x="2468" y="69"/>
                </a:lnTo>
                <a:lnTo>
                  <a:pt x="2475" y="76"/>
                </a:lnTo>
                <a:lnTo>
                  <a:pt x="2475" y="82"/>
                </a:lnTo>
                <a:lnTo>
                  <a:pt x="2482" y="82"/>
                </a:lnTo>
                <a:lnTo>
                  <a:pt x="2489" y="89"/>
                </a:lnTo>
                <a:lnTo>
                  <a:pt x="2496" y="89"/>
                </a:lnTo>
                <a:lnTo>
                  <a:pt x="2502" y="96"/>
                </a:lnTo>
                <a:lnTo>
                  <a:pt x="2502" y="103"/>
                </a:lnTo>
                <a:lnTo>
                  <a:pt x="2502" y="110"/>
                </a:lnTo>
                <a:lnTo>
                  <a:pt x="2502" y="117"/>
                </a:lnTo>
                <a:lnTo>
                  <a:pt x="2502" y="123"/>
                </a:lnTo>
                <a:lnTo>
                  <a:pt x="2502" y="130"/>
                </a:lnTo>
                <a:lnTo>
                  <a:pt x="2502" y="130"/>
                </a:lnTo>
                <a:lnTo>
                  <a:pt x="2509" y="137"/>
                </a:lnTo>
                <a:lnTo>
                  <a:pt x="2509" y="144"/>
                </a:lnTo>
                <a:lnTo>
                  <a:pt x="2509" y="151"/>
                </a:lnTo>
                <a:lnTo>
                  <a:pt x="2509" y="158"/>
                </a:lnTo>
                <a:lnTo>
                  <a:pt x="2509" y="165"/>
                </a:lnTo>
                <a:lnTo>
                  <a:pt x="2509" y="171"/>
                </a:lnTo>
                <a:lnTo>
                  <a:pt x="2516" y="171"/>
                </a:lnTo>
                <a:lnTo>
                  <a:pt x="2523" y="178"/>
                </a:lnTo>
                <a:lnTo>
                  <a:pt x="2530" y="178"/>
                </a:lnTo>
                <a:lnTo>
                  <a:pt x="2537" y="185"/>
                </a:lnTo>
                <a:lnTo>
                  <a:pt x="2537" y="192"/>
                </a:lnTo>
                <a:lnTo>
                  <a:pt x="2544" y="199"/>
                </a:lnTo>
                <a:lnTo>
                  <a:pt x="2550" y="206"/>
                </a:lnTo>
                <a:lnTo>
                  <a:pt x="2550" y="206"/>
                </a:lnTo>
                <a:lnTo>
                  <a:pt x="2557" y="212"/>
                </a:lnTo>
                <a:lnTo>
                  <a:pt x="2571" y="212"/>
                </a:lnTo>
                <a:lnTo>
                  <a:pt x="2578" y="212"/>
                </a:lnTo>
                <a:lnTo>
                  <a:pt x="2585" y="219"/>
                </a:lnTo>
                <a:lnTo>
                  <a:pt x="2592" y="219"/>
                </a:lnTo>
                <a:lnTo>
                  <a:pt x="2592" y="226"/>
                </a:lnTo>
                <a:lnTo>
                  <a:pt x="2598" y="233"/>
                </a:lnTo>
                <a:lnTo>
                  <a:pt x="2598" y="240"/>
                </a:lnTo>
                <a:lnTo>
                  <a:pt x="2612" y="240"/>
                </a:lnTo>
                <a:lnTo>
                  <a:pt x="2619" y="247"/>
                </a:lnTo>
                <a:lnTo>
                  <a:pt x="2626" y="247"/>
                </a:lnTo>
                <a:lnTo>
                  <a:pt x="2633" y="247"/>
                </a:lnTo>
                <a:lnTo>
                  <a:pt x="2640" y="253"/>
                </a:lnTo>
                <a:lnTo>
                  <a:pt x="2646" y="260"/>
                </a:lnTo>
                <a:lnTo>
                  <a:pt x="2646" y="267"/>
                </a:lnTo>
                <a:lnTo>
                  <a:pt x="2653" y="267"/>
                </a:lnTo>
                <a:lnTo>
                  <a:pt x="2660" y="274"/>
                </a:lnTo>
                <a:lnTo>
                  <a:pt x="2667" y="274"/>
                </a:lnTo>
                <a:lnTo>
                  <a:pt x="2674" y="281"/>
                </a:lnTo>
                <a:lnTo>
                  <a:pt x="2681" y="281"/>
                </a:lnTo>
                <a:lnTo>
                  <a:pt x="2688" y="288"/>
                </a:lnTo>
                <a:lnTo>
                  <a:pt x="2694" y="295"/>
                </a:lnTo>
                <a:lnTo>
                  <a:pt x="2688" y="295"/>
                </a:lnTo>
                <a:lnTo>
                  <a:pt x="2681" y="301"/>
                </a:lnTo>
                <a:lnTo>
                  <a:pt x="2681" y="308"/>
                </a:lnTo>
                <a:lnTo>
                  <a:pt x="2674" y="315"/>
                </a:lnTo>
                <a:lnTo>
                  <a:pt x="2674" y="322"/>
                </a:lnTo>
                <a:lnTo>
                  <a:pt x="2667" y="322"/>
                </a:lnTo>
                <a:lnTo>
                  <a:pt x="2660" y="329"/>
                </a:lnTo>
                <a:lnTo>
                  <a:pt x="2653" y="329"/>
                </a:lnTo>
                <a:lnTo>
                  <a:pt x="2646" y="329"/>
                </a:lnTo>
                <a:lnTo>
                  <a:pt x="2633" y="329"/>
                </a:lnTo>
                <a:lnTo>
                  <a:pt x="2626" y="322"/>
                </a:lnTo>
                <a:lnTo>
                  <a:pt x="2619" y="322"/>
                </a:lnTo>
                <a:lnTo>
                  <a:pt x="2605" y="322"/>
                </a:lnTo>
                <a:lnTo>
                  <a:pt x="2598" y="322"/>
                </a:lnTo>
                <a:lnTo>
                  <a:pt x="2592" y="322"/>
                </a:lnTo>
                <a:lnTo>
                  <a:pt x="2585" y="329"/>
                </a:lnTo>
                <a:lnTo>
                  <a:pt x="2571" y="329"/>
                </a:lnTo>
                <a:lnTo>
                  <a:pt x="2564" y="329"/>
                </a:lnTo>
                <a:lnTo>
                  <a:pt x="2557" y="329"/>
                </a:lnTo>
                <a:lnTo>
                  <a:pt x="2550" y="322"/>
                </a:lnTo>
                <a:lnTo>
                  <a:pt x="2544" y="315"/>
                </a:lnTo>
                <a:lnTo>
                  <a:pt x="2537" y="315"/>
                </a:lnTo>
                <a:lnTo>
                  <a:pt x="2523" y="315"/>
                </a:lnTo>
                <a:lnTo>
                  <a:pt x="2516" y="308"/>
                </a:lnTo>
                <a:lnTo>
                  <a:pt x="2509" y="308"/>
                </a:lnTo>
                <a:lnTo>
                  <a:pt x="2496" y="315"/>
                </a:lnTo>
                <a:lnTo>
                  <a:pt x="2489" y="315"/>
                </a:lnTo>
                <a:lnTo>
                  <a:pt x="2482" y="315"/>
                </a:lnTo>
                <a:lnTo>
                  <a:pt x="2468" y="315"/>
                </a:lnTo>
                <a:lnTo>
                  <a:pt x="2461" y="315"/>
                </a:lnTo>
                <a:lnTo>
                  <a:pt x="2454" y="308"/>
                </a:lnTo>
                <a:lnTo>
                  <a:pt x="2448" y="301"/>
                </a:lnTo>
                <a:lnTo>
                  <a:pt x="2448" y="301"/>
                </a:lnTo>
                <a:lnTo>
                  <a:pt x="2441" y="295"/>
                </a:lnTo>
                <a:lnTo>
                  <a:pt x="2434" y="288"/>
                </a:lnTo>
                <a:lnTo>
                  <a:pt x="2427" y="288"/>
                </a:lnTo>
                <a:lnTo>
                  <a:pt x="2420" y="288"/>
                </a:lnTo>
                <a:lnTo>
                  <a:pt x="2406" y="288"/>
                </a:lnTo>
                <a:lnTo>
                  <a:pt x="2400" y="295"/>
                </a:lnTo>
                <a:lnTo>
                  <a:pt x="2406" y="295"/>
                </a:lnTo>
                <a:lnTo>
                  <a:pt x="2413" y="301"/>
                </a:lnTo>
                <a:lnTo>
                  <a:pt x="2420" y="308"/>
                </a:lnTo>
                <a:lnTo>
                  <a:pt x="2420" y="315"/>
                </a:lnTo>
                <a:lnTo>
                  <a:pt x="2427" y="315"/>
                </a:lnTo>
                <a:lnTo>
                  <a:pt x="2427" y="322"/>
                </a:lnTo>
                <a:lnTo>
                  <a:pt x="2434" y="329"/>
                </a:lnTo>
                <a:lnTo>
                  <a:pt x="2441" y="329"/>
                </a:lnTo>
                <a:lnTo>
                  <a:pt x="2448" y="336"/>
                </a:lnTo>
                <a:lnTo>
                  <a:pt x="2454" y="336"/>
                </a:lnTo>
                <a:lnTo>
                  <a:pt x="2461" y="342"/>
                </a:lnTo>
                <a:lnTo>
                  <a:pt x="2468" y="342"/>
                </a:lnTo>
                <a:lnTo>
                  <a:pt x="2475" y="349"/>
                </a:lnTo>
                <a:lnTo>
                  <a:pt x="2475" y="356"/>
                </a:lnTo>
                <a:lnTo>
                  <a:pt x="2482" y="363"/>
                </a:lnTo>
                <a:lnTo>
                  <a:pt x="2489" y="363"/>
                </a:lnTo>
                <a:lnTo>
                  <a:pt x="2489" y="370"/>
                </a:lnTo>
                <a:lnTo>
                  <a:pt x="2496" y="377"/>
                </a:lnTo>
                <a:lnTo>
                  <a:pt x="2502" y="383"/>
                </a:lnTo>
                <a:lnTo>
                  <a:pt x="2502" y="383"/>
                </a:lnTo>
                <a:lnTo>
                  <a:pt x="2509" y="390"/>
                </a:lnTo>
                <a:lnTo>
                  <a:pt x="2509" y="397"/>
                </a:lnTo>
                <a:lnTo>
                  <a:pt x="2516" y="404"/>
                </a:lnTo>
                <a:lnTo>
                  <a:pt x="2523" y="404"/>
                </a:lnTo>
                <a:lnTo>
                  <a:pt x="2523" y="411"/>
                </a:lnTo>
                <a:lnTo>
                  <a:pt x="2523" y="418"/>
                </a:lnTo>
                <a:lnTo>
                  <a:pt x="2516" y="425"/>
                </a:lnTo>
                <a:lnTo>
                  <a:pt x="2509" y="425"/>
                </a:lnTo>
                <a:lnTo>
                  <a:pt x="2496" y="425"/>
                </a:lnTo>
                <a:lnTo>
                  <a:pt x="2489" y="431"/>
                </a:lnTo>
                <a:lnTo>
                  <a:pt x="2482" y="431"/>
                </a:lnTo>
                <a:lnTo>
                  <a:pt x="2482" y="438"/>
                </a:lnTo>
                <a:lnTo>
                  <a:pt x="2475" y="445"/>
                </a:lnTo>
                <a:lnTo>
                  <a:pt x="2475" y="452"/>
                </a:lnTo>
                <a:lnTo>
                  <a:pt x="2468" y="452"/>
                </a:lnTo>
                <a:lnTo>
                  <a:pt x="2468" y="459"/>
                </a:lnTo>
                <a:lnTo>
                  <a:pt x="2468" y="466"/>
                </a:lnTo>
                <a:lnTo>
                  <a:pt x="2468" y="472"/>
                </a:lnTo>
                <a:lnTo>
                  <a:pt x="2468" y="479"/>
                </a:lnTo>
                <a:lnTo>
                  <a:pt x="2461" y="486"/>
                </a:lnTo>
                <a:lnTo>
                  <a:pt x="2461" y="486"/>
                </a:lnTo>
                <a:lnTo>
                  <a:pt x="2454" y="493"/>
                </a:lnTo>
                <a:lnTo>
                  <a:pt x="2448" y="500"/>
                </a:lnTo>
                <a:lnTo>
                  <a:pt x="2448" y="507"/>
                </a:lnTo>
                <a:lnTo>
                  <a:pt x="2441" y="507"/>
                </a:lnTo>
                <a:lnTo>
                  <a:pt x="2434" y="513"/>
                </a:lnTo>
                <a:lnTo>
                  <a:pt x="2427" y="513"/>
                </a:lnTo>
                <a:lnTo>
                  <a:pt x="2420" y="520"/>
                </a:lnTo>
                <a:lnTo>
                  <a:pt x="2406" y="520"/>
                </a:lnTo>
                <a:lnTo>
                  <a:pt x="2400" y="527"/>
                </a:lnTo>
                <a:lnTo>
                  <a:pt x="2393" y="527"/>
                </a:lnTo>
                <a:lnTo>
                  <a:pt x="2386" y="527"/>
                </a:lnTo>
                <a:lnTo>
                  <a:pt x="2372" y="527"/>
                </a:lnTo>
                <a:lnTo>
                  <a:pt x="2365" y="527"/>
                </a:lnTo>
                <a:lnTo>
                  <a:pt x="2358" y="527"/>
                </a:lnTo>
                <a:lnTo>
                  <a:pt x="2352" y="520"/>
                </a:lnTo>
                <a:lnTo>
                  <a:pt x="2345" y="520"/>
                </a:lnTo>
                <a:lnTo>
                  <a:pt x="2338" y="513"/>
                </a:lnTo>
                <a:lnTo>
                  <a:pt x="2331" y="513"/>
                </a:lnTo>
                <a:lnTo>
                  <a:pt x="2324" y="507"/>
                </a:lnTo>
                <a:lnTo>
                  <a:pt x="2310" y="507"/>
                </a:lnTo>
                <a:lnTo>
                  <a:pt x="2304" y="500"/>
                </a:lnTo>
                <a:lnTo>
                  <a:pt x="2297" y="500"/>
                </a:lnTo>
                <a:lnTo>
                  <a:pt x="2290" y="493"/>
                </a:lnTo>
                <a:lnTo>
                  <a:pt x="2283" y="493"/>
                </a:lnTo>
                <a:lnTo>
                  <a:pt x="2276" y="493"/>
                </a:lnTo>
                <a:lnTo>
                  <a:pt x="2269" y="486"/>
                </a:lnTo>
                <a:lnTo>
                  <a:pt x="2262" y="486"/>
                </a:lnTo>
                <a:lnTo>
                  <a:pt x="2249" y="479"/>
                </a:lnTo>
                <a:lnTo>
                  <a:pt x="2242" y="479"/>
                </a:lnTo>
                <a:lnTo>
                  <a:pt x="2235" y="472"/>
                </a:lnTo>
                <a:lnTo>
                  <a:pt x="2228" y="472"/>
                </a:lnTo>
                <a:lnTo>
                  <a:pt x="2221" y="466"/>
                </a:lnTo>
                <a:lnTo>
                  <a:pt x="2221" y="459"/>
                </a:lnTo>
                <a:lnTo>
                  <a:pt x="2214" y="452"/>
                </a:lnTo>
                <a:lnTo>
                  <a:pt x="2208" y="452"/>
                </a:lnTo>
                <a:lnTo>
                  <a:pt x="2201" y="445"/>
                </a:lnTo>
                <a:lnTo>
                  <a:pt x="2194" y="445"/>
                </a:lnTo>
                <a:lnTo>
                  <a:pt x="2187" y="452"/>
                </a:lnTo>
                <a:lnTo>
                  <a:pt x="2173" y="452"/>
                </a:lnTo>
                <a:lnTo>
                  <a:pt x="2166" y="452"/>
                </a:lnTo>
                <a:lnTo>
                  <a:pt x="2160" y="459"/>
                </a:lnTo>
                <a:lnTo>
                  <a:pt x="2153" y="459"/>
                </a:lnTo>
                <a:lnTo>
                  <a:pt x="2139" y="459"/>
                </a:lnTo>
                <a:lnTo>
                  <a:pt x="2132" y="459"/>
                </a:lnTo>
                <a:lnTo>
                  <a:pt x="2125" y="459"/>
                </a:lnTo>
                <a:lnTo>
                  <a:pt x="2112" y="459"/>
                </a:lnTo>
                <a:lnTo>
                  <a:pt x="2105" y="459"/>
                </a:lnTo>
                <a:lnTo>
                  <a:pt x="2098" y="466"/>
                </a:lnTo>
                <a:lnTo>
                  <a:pt x="2091" y="466"/>
                </a:lnTo>
                <a:lnTo>
                  <a:pt x="2077" y="466"/>
                </a:lnTo>
                <a:lnTo>
                  <a:pt x="2070" y="472"/>
                </a:lnTo>
                <a:lnTo>
                  <a:pt x="2064" y="479"/>
                </a:lnTo>
                <a:lnTo>
                  <a:pt x="2064" y="479"/>
                </a:lnTo>
                <a:lnTo>
                  <a:pt x="2057" y="486"/>
                </a:lnTo>
                <a:lnTo>
                  <a:pt x="2050" y="486"/>
                </a:lnTo>
                <a:lnTo>
                  <a:pt x="2043" y="493"/>
                </a:lnTo>
                <a:lnTo>
                  <a:pt x="2036" y="500"/>
                </a:lnTo>
                <a:lnTo>
                  <a:pt x="2029" y="507"/>
                </a:lnTo>
                <a:lnTo>
                  <a:pt x="2029" y="513"/>
                </a:lnTo>
                <a:lnTo>
                  <a:pt x="2029" y="513"/>
                </a:lnTo>
                <a:lnTo>
                  <a:pt x="2022" y="513"/>
                </a:lnTo>
                <a:lnTo>
                  <a:pt x="2016" y="507"/>
                </a:lnTo>
                <a:lnTo>
                  <a:pt x="2016" y="500"/>
                </a:lnTo>
                <a:lnTo>
                  <a:pt x="2016" y="493"/>
                </a:lnTo>
                <a:lnTo>
                  <a:pt x="2016" y="486"/>
                </a:lnTo>
                <a:lnTo>
                  <a:pt x="2022" y="479"/>
                </a:lnTo>
                <a:lnTo>
                  <a:pt x="2022" y="472"/>
                </a:lnTo>
                <a:lnTo>
                  <a:pt x="2029" y="472"/>
                </a:lnTo>
                <a:lnTo>
                  <a:pt x="2029" y="466"/>
                </a:lnTo>
                <a:lnTo>
                  <a:pt x="2022" y="459"/>
                </a:lnTo>
                <a:lnTo>
                  <a:pt x="2009" y="459"/>
                </a:lnTo>
                <a:lnTo>
                  <a:pt x="2002" y="466"/>
                </a:lnTo>
                <a:lnTo>
                  <a:pt x="1995" y="466"/>
                </a:lnTo>
                <a:lnTo>
                  <a:pt x="1988" y="472"/>
                </a:lnTo>
                <a:lnTo>
                  <a:pt x="1988" y="479"/>
                </a:lnTo>
                <a:lnTo>
                  <a:pt x="1988" y="486"/>
                </a:lnTo>
                <a:lnTo>
                  <a:pt x="1988" y="493"/>
                </a:lnTo>
                <a:lnTo>
                  <a:pt x="1988" y="493"/>
                </a:lnTo>
                <a:lnTo>
                  <a:pt x="1981" y="500"/>
                </a:lnTo>
                <a:lnTo>
                  <a:pt x="1981" y="507"/>
                </a:lnTo>
                <a:lnTo>
                  <a:pt x="1981" y="513"/>
                </a:lnTo>
                <a:lnTo>
                  <a:pt x="1981" y="520"/>
                </a:lnTo>
                <a:lnTo>
                  <a:pt x="1981" y="527"/>
                </a:lnTo>
                <a:lnTo>
                  <a:pt x="1974" y="534"/>
                </a:lnTo>
                <a:lnTo>
                  <a:pt x="1974" y="534"/>
                </a:lnTo>
                <a:lnTo>
                  <a:pt x="1974" y="541"/>
                </a:lnTo>
                <a:lnTo>
                  <a:pt x="1974" y="548"/>
                </a:lnTo>
                <a:lnTo>
                  <a:pt x="1968" y="555"/>
                </a:lnTo>
                <a:lnTo>
                  <a:pt x="1968" y="561"/>
                </a:lnTo>
                <a:lnTo>
                  <a:pt x="1968" y="568"/>
                </a:lnTo>
                <a:lnTo>
                  <a:pt x="1961" y="575"/>
                </a:lnTo>
                <a:lnTo>
                  <a:pt x="1961" y="575"/>
                </a:lnTo>
                <a:lnTo>
                  <a:pt x="1961" y="582"/>
                </a:lnTo>
                <a:lnTo>
                  <a:pt x="1961" y="589"/>
                </a:lnTo>
                <a:lnTo>
                  <a:pt x="1954" y="596"/>
                </a:lnTo>
                <a:lnTo>
                  <a:pt x="1954" y="602"/>
                </a:lnTo>
                <a:lnTo>
                  <a:pt x="1954" y="609"/>
                </a:lnTo>
                <a:lnTo>
                  <a:pt x="1947" y="609"/>
                </a:lnTo>
                <a:lnTo>
                  <a:pt x="1947" y="616"/>
                </a:lnTo>
                <a:lnTo>
                  <a:pt x="1947" y="623"/>
                </a:lnTo>
                <a:lnTo>
                  <a:pt x="1947" y="630"/>
                </a:lnTo>
                <a:lnTo>
                  <a:pt x="1940" y="637"/>
                </a:lnTo>
                <a:lnTo>
                  <a:pt x="1940" y="643"/>
                </a:lnTo>
                <a:lnTo>
                  <a:pt x="1940" y="643"/>
                </a:lnTo>
                <a:lnTo>
                  <a:pt x="1933" y="650"/>
                </a:lnTo>
                <a:lnTo>
                  <a:pt x="1926" y="657"/>
                </a:lnTo>
                <a:lnTo>
                  <a:pt x="1926" y="664"/>
                </a:lnTo>
                <a:lnTo>
                  <a:pt x="1920" y="671"/>
                </a:lnTo>
                <a:lnTo>
                  <a:pt x="1920" y="671"/>
                </a:lnTo>
                <a:lnTo>
                  <a:pt x="1920" y="678"/>
                </a:lnTo>
                <a:lnTo>
                  <a:pt x="1926" y="685"/>
                </a:lnTo>
                <a:lnTo>
                  <a:pt x="1926" y="691"/>
                </a:lnTo>
                <a:lnTo>
                  <a:pt x="1926" y="698"/>
                </a:lnTo>
                <a:lnTo>
                  <a:pt x="1926" y="705"/>
                </a:lnTo>
                <a:lnTo>
                  <a:pt x="1920" y="705"/>
                </a:lnTo>
                <a:lnTo>
                  <a:pt x="1913" y="712"/>
                </a:lnTo>
                <a:lnTo>
                  <a:pt x="1899" y="712"/>
                </a:lnTo>
                <a:lnTo>
                  <a:pt x="1892" y="719"/>
                </a:lnTo>
                <a:lnTo>
                  <a:pt x="1885" y="719"/>
                </a:lnTo>
                <a:lnTo>
                  <a:pt x="1879" y="719"/>
                </a:lnTo>
                <a:lnTo>
                  <a:pt x="1865" y="719"/>
                </a:lnTo>
                <a:lnTo>
                  <a:pt x="1858" y="712"/>
                </a:lnTo>
                <a:lnTo>
                  <a:pt x="1851" y="712"/>
                </a:lnTo>
                <a:lnTo>
                  <a:pt x="1837" y="712"/>
                </a:lnTo>
                <a:lnTo>
                  <a:pt x="1831" y="712"/>
                </a:lnTo>
                <a:lnTo>
                  <a:pt x="1824" y="712"/>
                </a:lnTo>
                <a:lnTo>
                  <a:pt x="1810" y="712"/>
                </a:lnTo>
                <a:lnTo>
                  <a:pt x="1803" y="712"/>
                </a:lnTo>
                <a:lnTo>
                  <a:pt x="1796" y="712"/>
                </a:lnTo>
                <a:lnTo>
                  <a:pt x="1783" y="719"/>
                </a:lnTo>
                <a:lnTo>
                  <a:pt x="1776" y="719"/>
                </a:lnTo>
                <a:lnTo>
                  <a:pt x="1769" y="719"/>
                </a:lnTo>
                <a:lnTo>
                  <a:pt x="1762" y="726"/>
                </a:lnTo>
                <a:lnTo>
                  <a:pt x="1762" y="732"/>
                </a:lnTo>
                <a:lnTo>
                  <a:pt x="1755" y="739"/>
                </a:lnTo>
                <a:lnTo>
                  <a:pt x="1748" y="739"/>
                </a:lnTo>
                <a:lnTo>
                  <a:pt x="1748" y="746"/>
                </a:lnTo>
                <a:lnTo>
                  <a:pt x="1741" y="753"/>
                </a:lnTo>
                <a:lnTo>
                  <a:pt x="1741" y="760"/>
                </a:lnTo>
                <a:lnTo>
                  <a:pt x="1735" y="767"/>
                </a:lnTo>
                <a:lnTo>
                  <a:pt x="1735" y="767"/>
                </a:lnTo>
                <a:lnTo>
                  <a:pt x="1728" y="774"/>
                </a:lnTo>
                <a:lnTo>
                  <a:pt x="1728" y="780"/>
                </a:lnTo>
                <a:lnTo>
                  <a:pt x="1721" y="787"/>
                </a:lnTo>
                <a:lnTo>
                  <a:pt x="1721" y="787"/>
                </a:lnTo>
                <a:lnTo>
                  <a:pt x="1714" y="794"/>
                </a:lnTo>
                <a:lnTo>
                  <a:pt x="1707" y="801"/>
                </a:lnTo>
                <a:lnTo>
                  <a:pt x="1707" y="808"/>
                </a:lnTo>
                <a:lnTo>
                  <a:pt x="1700" y="815"/>
                </a:lnTo>
                <a:lnTo>
                  <a:pt x="1700" y="815"/>
                </a:lnTo>
                <a:lnTo>
                  <a:pt x="1693" y="821"/>
                </a:lnTo>
                <a:lnTo>
                  <a:pt x="1693" y="828"/>
                </a:lnTo>
                <a:lnTo>
                  <a:pt x="1687" y="835"/>
                </a:lnTo>
                <a:lnTo>
                  <a:pt x="1687" y="842"/>
                </a:lnTo>
                <a:lnTo>
                  <a:pt x="1680" y="842"/>
                </a:lnTo>
                <a:lnTo>
                  <a:pt x="1680" y="849"/>
                </a:lnTo>
                <a:lnTo>
                  <a:pt x="1673" y="856"/>
                </a:lnTo>
                <a:lnTo>
                  <a:pt x="1673" y="862"/>
                </a:lnTo>
                <a:lnTo>
                  <a:pt x="1673" y="869"/>
                </a:lnTo>
                <a:lnTo>
                  <a:pt x="1673" y="876"/>
                </a:lnTo>
                <a:lnTo>
                  <a:pt x="1673" y="876"/>
                </a:lnTo>
                <a:lnTo>
                  <a:pt x="1673" y="883"/>
                </a:lnTo>
                <a:lnTo>
                  <a:pt x="1666" y="890"/>
                </a:lnTo>
                <a:lnTo>
                  <a:pt x="1666" y="897"/>
                </a:lnTo>
                <a:lnTo>
                  <a:pt x="1659" y="904"/>
                </a:lnTo>
                <a:lnTo>
                  <a:pt x="1652" y="910"/>
                </a:lnTo>
                <a:lnTo>
                  <a:pt x="1652" y="910"/>
                </a:lnTo>
                <a:lnTo>
                  <a:pt x="1645" y="904"/>
                </a:lnTo>
                <a:lnTo>
                  <a:pt x="1639" y="897"/>
                </a:lnTo>
                <a:lnTo>
                  <a:pt x="1632" y="897"/>
                </a:lnTo>
                <a:lnTo>
                  <a:pt x="1632" y="890"/>
                </a:lnTo>
                <a:lnTo>
                  <a:pt x="1632" y="883"/>
                </a:lnTo>
                <a:lnTo>
                  <a:pt x="1632" y="876"/>
                </a:lnTo>
                <a:lnTo>
                  <a:pt x="1632" y="869"/>
                </a:lnTo>
                <a:lnTo>
                  <a:pt x="1632" y="869"/>
                </a:lnTo>
                <a:lnTo>
                  <a:pt x="1625" y="862"/>
                </a:lnTo>
                <a:lnTo>
                  <a:pt x="1625" y="856"/>
                </a:lnTo>
                <a:lnTo>
                  <a:pt x="1625" y="849"/>
                </a:lnTo>
                <a:lnTo>
                  <a:pt x="1625" y="842"/>
                </a:lnTo>
                <a:lnTo>
                  <a:pt x="1625" y="835"/>
                </a:lnTo>
                <a:lnTo>
                  <a:pt x="1618" y="835"/>
                </a:lnTo>
                <a:lnTo>
                  <a:pt x="1618" y="842"/>
                </a:lnTo>
                <a:lnTo>
                  <a:pt x="1618" y="849"/>
                </a:lnTo>
                <a:lnTo>
                  <a:pt x="1618" y="856"/>
                </a:lnTo>
                <a:lnTo>
                  <a:pt x="1618" y="862"/>
                </a:lnTo>
                <a:lnTo>
                  <a:pt x="1618" y="869"/>
                </a:lnTo>
                <a:lnTo>
                  <a:pt x="1618" y="869"/>
                </a:lnTo>
                <a:lnTo>
                  <a:pt x="1618" y="876"/>
                </a:lnTo>
                <a:lnTo>
                  <a:pt x="1618" y="883"/>
                </a:lnTo>
                <a:lnTo>
                  <a:pt x="1618" y="890"/>
                </a:lnTo>
                <a:lnTo>
                  <a:pt x="1618" y="897"/>
                </a:lnTo>
                <a:lnTo>
                  <a:pt x="1618" y="904"/>
                </a:lnTo>
                <a:lnTo>
                  <a:pt x="1618" y="910"/>
                </a:lnTo>
                <a:lnTo>
                  <a:pt x="1618" y="917"/>
                </a:lnTo>
                <a:lnTo>
                  <a:pt x="1618" y="917"/>
                </a:lnTo>
                <a:lnTo>
                  <a:pt x="1618" y="924"/>
                </a:lnTo>
                <a:lnTo>
                  <a:pt x="1618" y="931"/>
                </a:lnTo>
                <a:lnTo>
                  <a:pt x="1611" y="931"/>
                </a:lnTo>
                <a:lnTo>
                  <a:pt x="1597" y="938"/>
                </a:lnTo>
                <a:lnTo>
                  <a:pt x="1591" y="938"/>
                </a:lnTo>
                <a:lnTo>
                  <a:pt x="1584" y="938"/>
                </a:lnTo>
                <a:lnTo>
                  <a:pt x="1570" y="931"/>
                </a:lnTo>
                <a:lnTo>
                  <a:pt x="1563" y="931"/>
                </a:lnTo>
                <a:lnTo>
                  <a:pt x="1556" y="931"/>
                </a:lnTo>
                <a:lnTo>
                  <a:pt x="1549" y="938"/>
                </a:lnTo>
                <a:lnTo>
                  <a:pt x="1536" y="938"/>
                </a:lnTo>
                <a:lnTo>
                  <a:pt x="1529" y="938"/>
                </a:lnTo>
                <a:lnTo>
                  <a:pt x="1522" y="945"/>
                </a:lnTo>
                <a:lnTo>
                  <a:pt x="1515" y="945"/>
                </a:lnTo>
                <a:lnTo>
                  <a:pt x="1508" y="951"/>
                </a:lnTo>
                <a:lnTo>
                  <a:pt x="1501" y="951"/>
                </a:lnTo>
                <a:lnTo>
                  <a:pt x="1495" y="958"/>
                </a:lnTo>
                <a:lnTo>
                  <a:pt x="1488" y="965"/>
                </a:lnTo>
                <a:lnTo>
                  <a:pt x="1488" y="972"/>
                </a:lnTo>
                <a:lnTo>
                  <a:pt x="1481" y="972"/>
                </a:lnTo>
                <a:lnTo>
                  <a:pt x="1481" y="979"/>
                </a:lnTo>
                <a:lnTo>
                  <a:pt x="1481" y="986"/>
                </a:lnTo>
                <a:lnTo>
                  <a:pt x="1474" y="992"/>
                </a:lnTo>
                <a:lnTo>
                  <a:pt x="1474" y="992"/>
                </a:lnTo>
                <a:lnTo>
                  <a:pt x="1460" y="999"/>
                </a:lnTo>
                <a:lnTo>
                  <a:pt x="1453" y="992"/>
                </a:lnTo>
                <a:lnTo>
                  <a:pt x="1440" y="992"/>
                </a:lnTo>
                <a:lnTo>
                  <a:pt x="1433" y="992"/>
                </a:lnTo>
                <a:lnTo>
                  <a:pt x="1426" y="992"/>
                </a:lnTo>
                <a:lnTo>
                  <a:pt x="1419" y="986"/>
                </a:lnTo>
                <a:lnTo>
                  <a:pt x="1412" y="979"/>
                </a:lnTo>
                <a:lnTo>
                  <a:pt x="1405" y="979"/>
                </a:lnTo>
                <a:lnTo>
                  <a:pt x="1405" y="972"/>
                </a:lnTo>
                <a:lnTo>
                  <a:pt x="1399" y="965"/>
                </a:lnTo>
                <a:lnTo>
                  <a:pt x="1392" y="965"/>
                </a:lnTo>
                <a:lnTo>
                  <a:pt x="1385" y="958"/>
                </a:lnTo>
                <a:lnTo>
                  <a:pt x="1378" y="951"/>
                </a:lnTo>
                <a:lnTo>
                  <a:pt x="1371" y="951"/>
                </a:lnTo>
                <a:lnTo>
                  <a:pt x="1371" y="945"/>
                </a:lnTo>
                <a:lnTo>
                  <a:pt x="1364" y="938"/>
                </a:lnTo>
                <a:lnTo>
                  <a:pt x="1357" y="938"/>
                </a:lnTo>
                <a:lnTo>
                  <a:pt x="1351" y="931"/>
                </a:lnTo>
                <a:lnTo>
                  <a:pt x="1344" y="924"/>
                </a:lnTo>
                <a:lnTo>
                  <a:pt x="1337" y="917"/>
                </a:lnTo>
                <a:lnTo>
                  <a:pt x="1330" y="917"/>
                </a:lnTo>
                <a:lnTo>
                  <a:pt x="1330" y="917"/>
                </a:lnTo>
                <a:lnTo>
                  <a:pt x="1330" y="931"/>
                </a:lnTo>
                <a:lnTo>
                  <a:pt x="1330" y="938"/>
                </a:lnTo>
                <a:lnTo>
                  <a:pt x="1323" y="945"/>
                </a:lnTo>
                <a:lnTo>
                  <a:pt x="1323" y="945"/>
                </a:lnTo>
                <a:lnTo>
                  <a:pt x="1330" y="951"/>
                </a:lnTo>
                <a:lnTo>
                  <a:pt x="1330" y="958"/>
                </a:lnTo>
                <a:lnTo>
                  <a:pt x="1337" y="965"/>
                </a:lnTo>
                <a:lnTo>
                  <a:pt x="1337" y="965"/>
                </a:lnTo>
                <a:lnTo>
                  <a:pt x="1344" y="972"/>
                </a:lnTo>
                <a:lnTo>
                  <a:pt x="1344" y="979"/>
                </a:lnTo>
                <a:lnTo>
                  <a:pt x="1351" y="986"/>
                </a:lnTo>
                <a:lnTo>
                  <a:pt x="1351" y="992"/>
                </a:lnTo>
                <a:lnTo>
                  <a:pt x="1357" y="992"/>
                </a:lnTo>
                <a:lnTo>
                  <a:pt x="1357" y="999"/>
                </a:lnTo>
                <a:lnTo>
                  <a:pt x="1364" y="1006"/>
                </a:lnTo>
                <a:lnTo>
                  <a:pt x="1371" y="1013"/>
                </a:lnTo>
                <a:lnTo>
                  <a:pt x="1371" y="1013"/>
                </a:lnTo>
                <a:lnTo>
                  <a:pt x="1378" y="1020"/>
                </a:lnTo>
                <a:lnTo>
                  <a:pt x="1378" y="1027"/>
                </a:lnTo>
                <a:lnTo>
                  <a:pt x="1378" y="1034"/>
                </a:lnTo>
                <a:lnTo>
                  <a:pt x="1378" y="1040"/>
                </a:lnTo>
                <a:lnTo>
                  <a:pt x="1385" y="1047"/>
                </a:lnTo>
                <a:lnTo>
                  <a:pt x="1385" y="1047"/>
                </a:lnTo>
                <a:lnTo>
                  <a:pt x="1392" y="1054"/>
                </a:lnTo>
                <a:lnTo>
                  <a:pt x="1392" y="1061"/>
                </a:lnTo>
                <a:lnTo>
                  <a:pt x="1399" y="1068"/>
                </a:lnTo>
                <a:lnTo>
                  <a:pt x="1399" y="1075"/>
                </a:lnTo>
                <a:lnTo>
                  <a:pt x="1405" y="1075"/>
                </a:lnTo>
                <a:lnTo>
                  <a:pt x="1405" y="1081"/>
                </a:lnTo>
                <a:lnTo>
                  <a:pt x="1412" y="1088"/>
                </a:lnTo>
                <a:lnTo>
                  <a:pt x="1419" y="1095"/>
                </a:lnTo>
                <a:lnTo>
                  <a:pt x="1419" y="1102"/>
                </a:lnTo>
                <a:lnTo>
                  <a:pt x="1426" y="1102"/>
                </a:lnTo>
                <a:lnTo>
                  <a:pt x="1426" y="1109"/>
                </a:lnTo>
                <a:lnTo>
                  <a:pt x="1426" y="1116"/>
                </a:lnTo>
                <a:lnTo>
                  <a:pt x="1426" y="1122"/>
                </a:lnTo>
                <a:lnTo>
                  <a:pt x="1419" y="1129"/>
                </a:lnTo>
                <a:lnTo>
                  <a:pt x="1419" y="1129"/>
                </a:lnTo>
                <a:lnTo>
                  <a:pt x="1412" y="1136"/>
                </a:lnTo>
                <a:lnTo>
                  <a:pt x="1405" y="1143"/>
                </a:lnTo>
                <a:lnTo>
                  <a:pt x="1399" y="1143"/>
                </a:lnTo>
                <a:lnTo>
                  <a:pt x="1392" y="1150"/>
                </a:lnTo>
                <a:lnTo>
                  <a:pt x="1385" y="1157"/>
                </a:lnTo>
                <a:lnTo>
                  <a:pt x="1378" y="1157"/>
                </a:lnTo>
                <a:lnTo>
                  <a:pt x="1371" y="1164"/>
                </a:lnTo>
                <a:lnTo>
                  <a:pt x="1364" y="1164"/>
                </a:lnTo>
                <a:lnTo>
                  <a:pt x="1357" y="1170"/>
                </a:lnTo>
                <a:lnTo>
                  <a:pt x="1351" y="1170"/>
                </a:lnTo>
                <a:lnTo>
                  <a:pt x="1344" y="1170"/>
                </a:lnTo>
                <a:lnTo>
                  <a:pt x="1330" y="1177"/>
                </a:lnTo>
                <a:lnTo>
                  <a:pt x="1323" y="1177"/>
                </a:lnTo>
                <a:lnTo>
                  <a:pt x="1316" y="1177"/>
                </a:lnTo>
                <a:lnTo>
                  <a:pt x="1309" y="1177"/>
                </a:lnTo>
                <a:lnTo>
                  <a:pt x="1296" y="1177"/>
                </a:lnTo>
                <a:lnTo>
                  <a:pt x="1289" y="1177"/>
                </a:lnTo>
                <a:lnTo>
                  <a:pt x="1282" y="1177"/>
                </a:lnTo>
                <a:lnTo>
                  <a:pt x="1268" y="1177"/>
                </a:lnTo>
                <a:lnTo>
                  <a:pt x="1261" y="1177"/>
                </a:lnTo>
                <a:lnTo>
                  <a:pt x="1255" y="1184"/>
                </a:lnTo>
                <a:lnTo>
                  <a:pt x="1248" y="1184"/>
                </a:lnTo>
                <a:lnTo>
                  <a:pt x="1241" y="1191"/>
                </a:lnTo>
                <a:lnTo>
                  <a:pt x="1241" y="1198"/>
                </a:lnTo>
                <a:lnTo>
                  <a:pt x="1241" y="1205"/>
                </a:lnTo>
                <a:lnTo>
                  <a:pt x="1234" y="1205"/>
                </a:lnTo>
                <a:lnTo>
                  <a:pt x="1234" y="1211"/>
                </a:lnTo>
                <a:lnTo>
                  <a:pt x="1234" y="1218"/>
                </a:lnTo>
                <a:lnTo>
                  <a:pt x="1234" y="1225"/>
                </a:lnTo>
                <a:lnTo>
                  <a:pt x="1234" y="1232"/>
                </a:lnTo>
                <a:lnTo>
                  <a:pt x="1227" y="1239"/>
                </a:lnTo>
                <a:lnTo>
                  <a:pt x="1227" y="1239"/>
                </a:lnTo>
                <a:lnTo>
                  <a:pt x="1227" y="1246"/>
                </a:lnTo>
                <a:lnTo>
                  <a:pt x="1220" y="1252"/>
                </a:lnTo>
                <a:lnTo>
                  <a:pt x="1220" y="1259"/>
                </a:lnTo>
                <a:lnTo>
                  <a:pt x="1220" y="1266"/>
                </a:lnTo>
                <a:lnTo>
                  <a:pt x="1213" y="1266"/>
                </a:lnTo>
                <a:lnTo>
                  <a:pt x="1207" y="1259"/>
                </a:lnTo>
                <a:lnTo>
                  <a:pt x="1193" y="1259"/>
                </a:lnTo>
                <a:lnTo>
                  <a:pt x="1186" y="1252"/>
                </a:lnTo>
                <a:lnTo>
                  <a:pt x="1172" y="1252"/>
                </a:lnTo>
                <a:lnTo>
                  <a:pt x="1165" y="1252"/>
                </a:lnTo>
                <a:lnTo>
                  <a:pt x="1159" y="1252"/>
                </a:lnTo>
                <a:lnTo>
                  <a:pt x="1152" y="1259"/>
                </a:lnTo>
                <a:lnTo>
                  <a:pt x="1138" y="1259"/>
                </a:lnTo>
                <a:lnTo>
                  <a:pt x="1131" y="1259"/>
                </a:lnTo>
                <a:lnTo>
                  <a:pt x="1124" y="1259"/>
                </a:lnTo>
                <a:lnTo>
                  <a:pt x="1111" y="1259"/>
                </a:lnTo>
                <a:lnTo>
                  <a:pt x="1104" y="1266"/>
                </a:lnTo>
                <a:lnTo>
                  <a:pt x="1097" y="1266"/>
                </a:lnTo>
                <a:lnTo>
                  <a:pt x="1097" y="1273"/>
                </a:lnTo>
                <a:lnTo>
                  <a:pt x="1097" y="1280"/>
                </a:lnTo>
                <a:lnTo>
                  <a:pt x="1097" y="1287"/>
                </a:lnTo>
                <a:lnTo>
                  <a:pt x="1104" y="1294"/>
                </a:lnTo>
                <a:lnTo>
                  <a:pt x="1104" y="1294"/>
                </a:lnTo>
                <a:lnTo>
                  <a:pt x="1111" y="1300"/>
                </a:lnTo>
                <a:lnTo>
                  <a:pt x="1111" y="1307"/>
                </a:lnTo>
                <a:lnTo>
                  <a:pt x="1111" y="1314"/>
                </a:lnTo>
                <a:lnTo>
                  <a:pt x="1117" y="1321"/>
                </a:lnTo>
                <a:lnTo>
                  <a:pt x="1117" y="1321"/>
                </a:lnTo>
                <a:lnTo>
                  <a:pt x="1124" y="1328"/>
                </a:lnTo>
                <a:lnTo>
                  <a:pt x="1131" y="1335"/>
                </a:lnTo>
                <a:lnTo>
                  <a:pt x="1131" y="1341"/>
                </a:lnTo>
                <a:lnTo>
                  <a:pt x="1124" y="1341"/>
                </a:lnTo>
                <a:lnTo>
                  <a:pt x="1117" y="1335"/>
                </a:lnTo>
                <a:lnTo>
                  <a:pt x="1111" y="1328"/>
                </a:lnTo>
                <a:lnTo>
                  <a:pt x="1111" y="1321"/>
                </a:lnTo>
                <a:lnTo>
                  <a:pt x="1104" y="1321"/>
                </a:lnTo>
                <a:lnTo>
                  <a:pt x="1097" y="1314"/>
                </a:lnTo>
                <a:lnTo>
                  <a:pt x="1090" y="1314"/>
                </a:lnTo>
                <a:lnTo>
                  <a:pt x="1083" y="1307"/>
                </a:lnTo>
                <a:lnTo>
                  <a:pt x="1076" y="1307"/>
                </a:lnTo>
                <a:lnTo>
                  <a:pt x="1070" y="1300"/>
                </a:lnTo>
                <a:lnTo>
                  <a:pt x="1063" y="1294"/>
                </a:lnTo>
                <a:lnTo>
                  <a:pt x="1056" y="1294"/>
                </a:lnTo>
                <a:lnTo>
                  <a:pt x="1049" y="1287"/>
                </a:lnTo>
                <a:lnTo>
                  <a:pt x="1042" y="1287"/>
                </a:lnTo>
                <a:lnTo>
                  <a:pt x="1035" y="1287"/>
                </a:lnTo>
                <a:lnTo>
                  <a:pt x="1022" y="1280"/>
                </a:lnTo>
                <a:lnTo>
                  <a:pt x="1015" y="1280"/>
                </a:lnTo>
                <a:lnTo>
                  <a:pt x="1008" y="1280"/>
                </a:lnTo>
                <a:lnTo>
                  <a:pt x="1001" y="1273"/>
                </a:lnTo>
                <a:lnTo>
                  <a:pt x="987" y="1273"/>
                </a:lnTo>
                <a:lnTo>
                  <a:pt x="980" y="1273"/>
                </a:lnTo>
                <a:lnTo>
                  <a:pt x="974" y="1266"/>
                </a:lnTo>
                <a:lnTo>
                  <a:pt x="967" y="1266"/>
                </a:lnTo>
                <a:lnTo>
                  <a:pt x="953" y="1266"/>
                </a:lnTo>
                <a:lnTo>
                  <a:pt x="946" y="1259"/>
                </a:lnTo>
                <a:lnTo>
                  <a:pt x="939" y="1259"/>
                </a:lnTo>
                <a:lnTo>
                  <a:pt x="932" y="1259"/>
                </a:lnTo>
                <a:lnTo>
                  <a:pt x="919" y="1252"/>
                </a:lnTo>
                <a:lnTo>
                  <a:pt x="912" y="1252"/>
                </a:lnTo>
                <a:lnTo>
                  <a:pt x="905" y="1252"/>
                </a:lnTo>
                <a:lnTo>
                  <a:pt x="898" y="1246"/>
                </a:lnTo>
                <a:lnTo>
                  <a:pt x="891" y="1246"/>
                </a:lnTo>
                <a:lnTo>
                  <a:pt x="878" y="1246"/>
                </a:lnTo>
                <a:lnTo>
                  <a:pt x="871" y="1239"/>
                </a:lnTo>
                <a:lnTo>
                  <a:pt x="864" y="1239"/>
                </a:lnTo>
                <a:lnTo>
                  <a:pt x="857" y="1239"/>
                </a:lnTo>
                <a:lnTo>
                  <a:pt x="843" y="1239"/>
                </a:lnTo>
                <a:lnTo>
                  <a:pt x="836" y="1239"/>
                </a:lnTo>
                <a:lnTo>
                  <a:pt x="830" y="1232"/>
                </a:lnTo>
                <a:lnTo>
                  <a:pt x="816" y="1232"/>
                </a:lnTo>
                <a:lnTo>
                  <a:pt x="809" y="1232"/>
                </a:lnTo>
                <a:lnTo>
                  <a:pt x="802" y="1232"/>
                </a:lnTo>
                <a:lnTo>
                  <a:pt x="788" y="1239"/>
                </a:lnTo>
                <a:lnTo>
                  <a:pt x="782" y="1239"/>
                </a:lnTo>
                <a:lnTo>
                  <a:pt x="782" y="1246"/>
                </a:lnTo>
                <a:lnTo>
                  <a:pt x="775" y="1252"/>
                </a:lnTo>
                <a:lnTo>
                  <a:pt x="768" y="1252"/>
                </a:lnTo>
                <a:lnTo>
                  <a:pt x="768" y="1259"/>
                </a:lnTo>
                <a:lnTo>
                  <a:pt x="761" y="1266"/>
                </a:lnTo>
                <a:lnTo>
                  <a:pt x="761" y="1273"/>
                </a:lnTo>
                <a:lnTo>
                  <a:pt x="754" y="1273"/>
                </a:lnTo>
                <a:lnTo>
                  <a:pt x="754" y="1280"/>
                </a:lnTo>
                <a:lnTo>
                  <a:pt x="754" y="1287"/>
                </a:lnTo>
                <a:lnTo>
                  <a:pt x="754" y="1294"/>
                </a:lnTo>
                <a:lnTo>
                  <a:pt x="747" y="1300"/>
                </a:lnTo>
                <a:lnTo>
                  <a:pt x="747" y="1307"/>
                </a:lnTo>
                <a:lnTo>
                  <a:pt x="747" y="1314"/>
                </a:lnTo>
                <a:lnTo>
                  <a:pt x="747" y="1314"/>
                </a:lnTo>
                <a:lnTo>
                  <a:pt x="747" y="1321"/>
                </a:lnTo>
                <a:lnTo>
                  <a:pt x="747" y="1328"/>
                </a:lnTo>
                <a:lnTo>
                  <a:pt x="747" y="1335"/>
                </a:lnTo>
                <a:lnTo>
                  <a:pt x="747" y="1341"/>
                </a:lnTo>
                <a:lnTo>
                  <a:pt x="740" y="1348"/>
                </a:lnTo>
                <a:lnTo>
                  <a:pt x="740" y="1355"/>
                </a:lnTo>
                <a:lnTo>
                  <a:pt x="740" y="1355"/>
                </a:lnTo>
                <a:lnTo>
                  <a:pt x="740" y="1362"/>
                </a:lnTo>
                <a:lnTo>
                  <a:pt x="740" y="1369"/>
                </a:lnTo>
                <a:lnTo>
                  <a:pt x="740" y="1376"/>
                </a:lnTo>
                <a:lnTo>
                  <a:pt x="740" y="1382"/>
                </a:lnTo>
                <a:lnTo>
                  <a:pt x="740" y="1389"/>
                </a:lnTo>
                <a:lnTo>
                  <a:pt x="734" y="1396"/>
                </a:lnTo>
                <a:lnTo>
                  <a:pt x="734" y="1396"/>
                </a:lnTo>
                <a:lnTo>
                  <a:pt x="734" y="1403"/>
                </a:lnTo>
                <a:lnTo>
                  <a:pt x="734" y="1410"/>
                </a:lnTo>
                <a:lnTo>
                  <a:pt x="734" y="1417"/>
                </a:lnTo>
                <a:lnTo>
                  <a:pt x="734" y="1424"/>
                </a:lnTo>
                <a:lnTo>
                  <a:pt x="734" y="1430"/>
                </a:lnTo>
                <a:lnTo>
                  <a:pt x="734" y="1437"/>
                </a:lnTo>
                <a:lnTo>
                  <a:pt x="727" y="1437"/>
                </a:lnTo>
                <a:lnTo>
                  <a:pt x="727" y="1444"/>
                </a:lnTo>
                <a:lnTo>
                  <a:pt x="727" y="1451"/>
                </a:lnTo>
                <a:lnTo>
                  <a:pt x="727" y="1458"/>
                </a:lnTo>
                <a:lnTo>
                  <a:pt x="727" y="1465"/>
                </a:lnTo>
                <a:lnTo>
                  <a:pt x="727" y="1471"/>
                </a:lnTo>
                <a:lnTo>
                  <a:pt x="727" y="1478"/>
                </a:lnTo>
                <a:lnTo>
                  <a:pt x="727" y="1478"/>
                </a:lnTo>
                <a:lnTo>
                  <a:pt x="727" y="1485"/>
                </a:lnTo>
                <a:lnTo>
                  <a:pt x="754" y="1513"/>
                </a:lnTo>
                <a:lnTo>
                  <a:pt x="782" y="1540"/>
                </a:lnTo>
                <a:lnTo>
                  <a:pt x="809" y="1567"/>
                </a:lnTo>
                <a:lnTo>
                  <a:pt x="843" y="1601"/>
                </a:lnTo>
                <a:lnTo>
                  <a:pt x="871" y="1601"/>
                </a:lnTo>
                <a:lnTo>
                  <a:pt x="898" y="1629"/>
                </a:lnTo>
                <a:lnTo>
                  <a:pt x="926" y="1656"/>
                </a:lnTo>
                <a:lnTo>
                  <a:pt x="953" y="1684"/>
                </a:lnTo>
                <a:lnTo>
                  <a:pt x="987" y="1718"/>
                </a:lnTo>
                <a:lnTo>
                  <a:pt x="1015" y="1745"/>
                </a:lnTo>
                <a:lnTo>
                  <a:pt x="1042" y="1773"/>
                </a:lnTo>
                <a:lnTo>
                  <a:pt x="1070" y="1800"/>
                </a:lnTo>
                <a:lnTo>
                  <a:pt x="1104" y="1800"/>
                </a:lnTo>
                <a:lnTo>
                  <a:pt x="1131" y="1800"/>
                </a:lnTo>
                <a:lnTo>
                  <a:pt x="1159" y="1800"/>
                </a:lnTo>
                <a:lnTo>
                  <a:pt x="1186" y="1800"/>
                </a:lnTo>
                <a:lnTo>
                  <a:pt x="1213" y="1800"/>
                </a:lnTo>
                <a:lnTo>
                  <a:pt x="1248" y="1800"/>
                </a:lnTo>
                <a:lnTo>
                  <a:pt x="1275" y="1800"/>
                </a:lnTo>
                <a:lnTo>
                  <a:pt x="1303" y="1800"/>
                </a:lnTo>
                <a:lnTo>
                  <a:pt x="1330" y="1800"/>
                </a:lnTo>
                <a:lnTo>
                  <a:pt x="1364" y="1800"/>
                </a:lnTo>
                <a:lnTo>
                  <a:pt x="1392" y="1800"/>
                </a:lnTo>
                <a:lnTo>
                  <a:pt x="1419" y="1800"/>
                </a:lnTo>
                <a:lnTo>
                  <a:pt x="1447" y="1800"/>
                </a:lnTo>
                <a:lnTo>
                  <a:pt x="1474" y="1800"/>
                </a:lnTo>
                <a:lnTo>
                  <a:pt x="1508" y="1800"/>
                </a:lnTo>
                <a:lnTo>
                  <a:pt x="1536" y="1800"/>
                </a:lnTo>
                <a:lnTo>
                  <a:pt x="1563" y="1800"/>
                </a:lnTo>
                <a:lnTo>
                  <a:pt x="1591" y="1800"/>
                </a:lnTo>
                <a:lnTo>
                  <a:pt x="1625" y="1800"/>
                </a:lnTo>
                <a:lnTo>
                  <a:pt x="1652" y="1800"/>
                </a:lnTo>
                <a:lnTo>
                  <a:pt x="1680" y="1800"/>
                </a:lnTo>
                <a:lnTo>
                  <a:pt x="1707" y="1800"/>
                </a:lnTo>
                <a:lnTo>
                  <a:pt x="1735" y="1800"/>
                </a:lnTo>
                <a:lnTo>
                  <a:pt x="1769" y="1800"/>
                </a:lnTo>
                <a:lnTo>
                  <a:pt x="1796" y="1800"/>
                </a:lnTo>
                <a:lnTo>
                  <a:pt x="1824" y="1800"/>
                </a:lnTo>
                <a:lnTo>
                  <a:pt x="1851" y="1800"/>
                </a:lnTo>
                <a:lnTo>
                  <a:pt x="1885" y="1800"/>
                </a:lnTo>
                <a:lnTo>
                  <a:pt x="1913" y="1800"/>
                </a:lnTo>
                <a:lnTo>
                  <a:pt x="1940" y="1800"/>
                </a:lnTo>
                <a:lnTo>
                  <a:pt x="1968" y="1800"/>
                </a:lnTo>
                <a:lnTo>
                  <a:pt x="1995" y="1800"/>
                </a:lnTo>
                <a:lnTo>
                  <a:pt x="2029" y="1800"/>
                </a:lnTo>
                <a:lnTo>
                  <a:pt x="2057" y="1800"/>
                </a:lnTo>
                <a:lnTo>
                  <a:pt x="2084" y="1800"/>
                </a:lnTo>
                <a:lnTo>
                  <a:pt x="2112" y="1800"/>
                </a:lnTo>
                <a:lnTo>
                  <a:pt x="2146" y="1800"/>
                </a:lnTo>
                <a:lnTo>
                  <a:pt x="2173" y="1800"/>
                </a:lnTo>
                <a:lnTo>
                  <a:pt x="2201" y="1800"/>
                </a:lnTo>
                <a:lnTo>
                  <a:pt x="2228" y="1800"/>
                </a:lnTo>
                <a:lnTo>
                  <a:pt x="2256" y="1800"/>
                </a:lnTo>
                <a:lnTo>
                  <a:pt x="2290" y="1800"/>
                </a:lnTo>
                <a:lnTo>
                  <a:pt x="2317" y="1800"/>
                </a:lnTo>
                <a:lnTo>
                  <a:pt x="2345" y="1800"/>
                </a:lnTo>
                <a:lnTo>
                  <a:pt x="2372" y="1800"/>
                </a:lnTo>
                <a:lnTo>
                  <a:pt x="2400" y="1800"/>
                </a:lnTo>
                <a:lnTo>
                  <a:pt x="2434" y="1800"/>
                </a:lnTo>
                <a:close/>
                <a:moveTo>
                  <a:pt x="1303" y="1252"/>
                </a:moveTo>
                <a:lnTo>
                  <a:pt x="1296" y="1246"/>
                </a:lnTo>
                <a:lnTo>
                  <a:pt x="1289" y="1239"/>
                </a:lnTo>
                <a:lnTo>
                  <a:pt x="1289" y="1232"/>
                </a:lnTo>
                <a:lnTo>
                  <a:pt x="1289" y="1232"/>
                </a:lnTo>
                <a:lnTo>
                  <a:pt x="1289" y="1225"/>
                </a:lnTo>
                <a:lnTo>
                  <a:pt x="1289" y="1218"/>
                </a:lnTo>
                <a:lnTo>
                  <a:pt x="1296" y="1211"/>
                </a:lnTo>
                <a:lnTo>
                  <a:pt x="1303" y="1205"/>
                </a:lnTo>
                <a:lnTo>
                  <a:pt x="1303" y="1205"/>
                </a:lnTo>
                <a:lnTo>
                  <a:pt x="1309" y="1205"/>
                </a:lnTo>
                <a:lnTo>
                  <a:pt x="1316" y="1211"/>
                </a:lnTo>
                <a:lnTo>
                  <a:pt x="1323" y="1218"/>
                </a:lnTo>
                <a:lnTo>
                  <a:pt x="1323" y="1225"/>
                </a:lnTo>
                <a:lnTo>
                  <a:pt x="1323" y="1232"/>
                </a:lnTo>
                <a:lnTo>
                  <a:pt x="1323" y="1232"/>
                </a:lnTo>
                <a:lnTo>
                  <a:pt x="1323" y="1239"/>
                </a:lnTo>
                <a:lnTo>
                  <a:pt x="1316" y="1246"/>
                </a:lnTo>
                <a:lnTo>
                  <a:pt x="1309" y="1252"/>
                </a:lnTo>
                <a:lnTo>
                  <a:pt x="1303" y="1252"/>
                </a:lnTo>
                <a:lnTo>
                  <a:pt x="1303" y="1252"/>
                </a:lnTo>
                <a:close/>
                <a:moveTo>
                  <a:pt x="1995" y="931"/>
                </a:moveTo>
                <a:lnTo>
                  <a:pt x="1995" y="924"/>
                </a:lnTo>
                <a:lnTo>
                  <a:pt x="2002" y="917"/>
                </a:lnTo>
                <a:lnTo>
                  <a:pt x="2002" y="910"/>
                </a:lnTo>
                <a:lnTo>
                  <a:pt x="2009" y="910"/>
                </a:lnTo>
                <a:lnTo>
                  <a:pt x="2009" y="904"/>
                </a:lnTo>
                <a:lnTo>
                  <a:pt x="2016" y="897"/>
                </a:lnTo>
                <a:lnTo>
                  <a:pt x="2016" y="890"/>
                </a:lnTo>
                <a:lnTo>
                  <a:pt x="2022" y="883"/>
                </a:lnTo>
                <a:lnTo>
                  <a:pt x="2029" y="876"/>
                </a:lnTo>
                <a:lnTo>
                  <a:pt x="2029" y="876"/>
                </a:lnTo>
                <a:lnTo>
                  <a:pt x="2036" y="869"/>
                </a:lnTo>
                <a:lnTo>
                  <a:pt x="2036" y="862"/>
                </a:lnTo>
                <a:lnTo>
                  <a:pt x="2036" y="856"/>
                </a:lnTo>
                <a:lnTo>
                  <a:pt x="2029" y="849"/>
                </a:lnTo>
                <a:lnTo>
                  <a:pt x="2022" y="842"/>
                </a:lnTo>
                <a:lnTo>
                  <a:pt x="2036" y="842"/>
                </a:lnTo>
                <a:lnTo>
                  <a:pt x="2043" y="835"/>
                </a:lnTo>
                <a:lnTo>
                  <a:pt x="2043" y="828"/>
                </a:lnTo>
                <a:lnTo>
                  <a:pt x="2043" y="821"/>
                </a:lnTo>
                <a:lnTo>
                  <a:pt x="2050" y="815"/>
                </a:lnTo>
                <a:lnTo>
                  <a:pt x="2057" y="815"/>
                </a:lnTo>
                <a:lnTo>
                  <a:pt x="2064" y="808"/>
                </a:lnTo>
                <a:lnTo>
                  <a:pt x="2070" y="801"/>
                </a:lnTo>
                <a:lnTo>
                  <a:pt x="2077" y="794"/>
                </a:lnTo>
                <a:lnTo>
                  <a:pt x="2077" y="794"/>
                </a:lnTo>
                <a:lnTo>
                  <a:pt x="2084" y="787"/>
                </a:lnTo>
                <a:lnTo>
                  <a:pt x="2084" y="780"/>
                </a:lnTo>
                <a:lnTo>
                  <a:pt x="2084" y="774"/>
                </a:lnTo>
                <a:lnTo>
                  <a:pt x="2077" y="767"/>
                </a:lnTo>
                <a:lnTo>
                  <a:pt x="2077" y="760"/>
                </a:lnTo>
                <a:lnTo>
                  <a:pt x="2077" y="753"/>
                </a:lnTo>
                <a:lnTo>
                  <a:pt x="2084" y="746"/>
                </a:lnTo>
                <a:lnTo>
                  <a:pt x="2084" y="739"/>
                </a:lnTo>
                <a:lnTo>
                  <a:pt x="2084" y="732"/>
                </a:lnTo>
                <a:lnTo>
                  <a:pt x="2091" y="732"/>
                </a:lnTo>
                <a:lnTo>
                  <a:pt x="2091" y="726"/>
                </a:lnTo>
                <a:lnTo>
                  <a:pt x="2098" y="719"/>
                </a:lnTo>
                <a:lnTo>
                  <a:pt x="2098" y="712"/>
                </a:lnTo>
                <a:lnTo>
                  <a:pt x="2098" y="705"/>
                </a:lnTo>
                <a:lnTo>
                  <a:pt x="2105" y="698"/>
                </a:lnTo>
                <a:lnTo>
                  <a:pt x="2105" y="691"/>
                </a:lnTo>
                <a:lnTo>
                  <a:pt x="2105" y="685"/>
                </a:lnTo>
                <a:lnTo>
                  <a:pt x="2105" y="678"/>
                </a:lnTo>
                <a:lnTo>
                  <a:pt x="2112" y="671"/>
                </a:lnTo>
                <a:lnTo>
                  <a:pt x="2118" y="671"/>
                </a:lnTo>
                <a:lnTo>
                  <a:pt x="2125" y="664"/>
                </a:lnTo>
                <a:lnTo>
                  <a:pt x="2125" y="657"/>
                </a:lnTo>
                <a:lnTo>
                  <a:pt x="2132" y="650"/>
                </a:lnTo>
                <a:lnTo>
                  <a:pt x="2139" y="650"/>
                </a:lnTo>
                <a:lnTo>
                  <a:pt x="2139" y="643"/>
                </a:lnTo>
                <a:lnTo>
                  <a:pt x="2139" y="637"/>
                </a:lnTo>
                <a:lnTo>
                  <a:pt x="2139" y="630"/>
                </a:lnTo>
                <a:lnTo>
                  <a:pt x="2139" y="623"/>
                </a:lnTo>
                <a:lnTo>
                  <a:pt x="2139" y="616"/>
                </a:lnTo>
                <a:lnTo>
                  <a:pt x="2139" y="609"/>
                </a:lnTo>
                <a:lnTo>
                  <a:pt x="2139" y="602"/>
                </a:lnTo>
                <a:lnTo>
                  <a:pt x="2146" y="596"/>
                </a:lnTo>
                <a:lnTo>
                  <a:pt x="2146" y="596"/>
                </a:lnTo>
                <a:lnTo>
                  <a:pt x="2153" y="589"/>
                </a:lnTo>
                <a:lnTo>
                  <a:pt x="2153" y="582"/>
                </a:lnTo>
                <a:lnTo>
                  <a:pt x="2160" y="575"/>
                </a:lnTo>
                <a:lnTo>
                  <a:pt x="2160" y="568"/>
                </a:lnTo>
                <a:lnTo>
                  <a:pt x="2160" y="561"/>
                </a:lnTo>
                <a:lnTo>
                  <a:pt x="2160" y="555"/>
                </a:lnTo>
                <a:lnTo>
                  <a:pt x="2160" y="548"/>
                </a:lnTo>
                <a:lnTo>
                  <a:pt x="2160" y="541"/>
                </a:lnTo>
                <a:lnTo>
                  <a:pt x="2153" y="534"/>
                </a:lnTo>
                <a:lnTo>
                  <a:pt x="2160" y="534"/>
                </a:lnTo>
                <a:lnTo>
                  <a:pt x="2160" y="527"/>
                </a:lnTo>
                <a:lnTo>
                  <a:pt x="2166" y="520"/>
                </a:lnTo>
                <a:lnTo>
                  <a:pt x="2166" y="513"/>
                </a:lnTo>
                <a:lnTo>
                  <a:pt x="2180" y="513"/>
                </a:lnTo>
                <a:lnTo>
                  <a:pt x="2187" y="513"/>
                </a:lnTo>
                <a:lnTo>
                  <a:pt x="2194" y="520"/>
                </a:lnTo>
                <a:lnTo>
                  <a:pt x="2208" y="520"/>
                </a:lnTo>
                <a:lnTo>
                  <a:pt x="2208" y="527"/>
                </a:lnTo>
                <a:lnTo>
                  <a:pt x="2214" y="534"/>
                </a:lnTo>
                <a:lnTo>
                  <a:pt x="2221" y="541"/>
                </a:lnTo>
                <a:lnTo>
                  <a:pt x="2228" y="541"/>
                </a:lnTo>
                <a:lnTo>
                  <a:pt x="2242" y="541"/>
                </a:lnTo>
                <a:lnTo>
                  <a:pt x="2249" y="548"/>
                </a:lnTo>
                <a:lnTo>
                  <a:pt x="2256" y="548"/>
                </a:lnTo>
                <a:lnTo>
                  <a:pt x="2262" y="555"/>
                </a:lnTo>
                <a:lnTo>
                  <a:pt x="2269" y="555"/>
                </a:lnTo>
                <a:lnTo>
                  <a:pt x="2269" y="561"/>
                </a:lnTo>
                <a:lnTo>
                  <a:pt x="2276" y="568"/>
                </a:lnTo>
                <a:lnTo>
                  <a:pt x="2276" y="575"/>
                </a:lnTo>
                <a:lnTo>
                  <a:pt x="2290" y="582"/>
                </a:lnTo>
                <a:lnTo>
                  <a:pt x="2297" y="582"/>
                </a:lnTo>
                <a:lnTo>
                  <a:pt x="2304" y="582"/>
                </a:lnTo>
                <a:lnTo>
                  <a:pt x="2297" y="589"/>
                </a:lnTo>
                <a:lnTo>
                  <a:pt x="2283" y="596"/>
                </a:lnTo>
                <a:lnTo>
                  <a:pt x="2276" y="602"/>
                </a:lnTo>
                <a:lnTo>
                  <a:pt x="2276" y="602"/>
                </a:lnTo>
                <a:lnTo>
                  <a:pt x="2269" y="609"/>
                </a:lnTo>
                <a:lnTo>
                  <a:pt x="2262" y="616"/>
                </a:lnTo>
                <a:lnTo>
                  <a:pt x="2256" y="623"/>
                </a:lnTo>
                <a:lnTo>
                  <a:pt x="2249" y="623"/>
                </a:lnTo>
                <a:lnTo>
                  <a:pt x="2249" y="630"/>
                </a:lnTo>
                <a:lnTo>
                  <a:pt x="2242" y="637"/>
                </a:lnTo>
                <a:lnTo>
                  <a:pt x="2235" y="637"/>
                </a:lnTo>
                <a:lnTo>
                  <a:pt x="2228" y="643"/>
                </a:lnTo>
                <a:lnTo>
                  <a:pt x="2228" y="650"/>
                </a:lnTo>
                <a:lnTo>
                  <a:pt x="2221" y="657"/>
                </a:lnTo>
                <a:lnTo>
                  <a:pt x="2221" y="664"/>
                </a:lnTo>
                <a:lnTo>
                  <a:pt x="2221" y="671"/>
                </a:lnTo>
                <a:lnTo>
                  <a:pt x="2228" y="678"/>
                </a:lnTo>
                <a:lnTo>
                  <a:pt x="2228" y="685"/>
                </a:lnTo>
                <a:lnTo>
                  <a:pt x="2228" y="691"/>
                </a:lnTo>
                <a:lnTo>
                  <a:pt x="2228" y="691"/>
                </a:lnTo>
                <a:lnTo>
                  <a:pt x="2235" y="698"/>
                </a:lnTo>
                <a:lnTo>
                  <a:pt x="2235" y="705"/>
                </a:lnTo>
                <a:lnTo>
                  <a:pt x="2235" y="712"/>
                </a:lnTo>
                <a:lnTo>
                  <a:pt x="2235" y="719"/>
                </a:lnTo>
                <a:lnTo>
                  <a:pt x="2235" y="726"/>
                </a:lnTo>
                <a:lnTo>
                  <a:pt x="2235" y="732"/>
                </a:lnTo>
                <a:lnTo>
                  <a:pt x="2235" y="739"/>
                </a:lnTo>
                <a:lnTo>
                  <a:pt x="2235" y="746"/>
                </a:lnTo>
                <a:lnTo>
                  <a:pt x="2235" y="753"/>
                </a:lnTo>
                <a:lnTo>
                  <a:pt x="2235" y="760"/>
                </a:lnTo>
                <a:lnTo>
                  <a:pt x="2242" y="760"/>
                </a:lnTo>
                <a:lnTo>
                  <a:pt x="2242" y="767"/>
                </a:lnTo>
                <a:lnTo>
                  <a:pt x="2242" y="774"/>
                </a:lnTo>
                <a:lnTo>
                  <a:pt x="2249" y="780"/>
                </a:lnTo>
                <a:lnTo>
                  <a:pt x="2242" y="787"/>
                </a:lnTo>
                <a:lnTo>
                  <a:pt x="2242" y="794"/>
                </a:lnTo>
                <a:lnTo>
                  <a:pt x="2242" y="801"/>
                </a:lnTo>
                <a:lnTo>
                  <a:pt x="2235" y="808"/>
                </a:lnTo>
                <a:lnTo>
                  <a:pt x="2235" y="815"/>
                </a:lnTo>
                <a:lnTo>
                  <a:pt x="2235" y="821"/>
                </a:lnTo>
                <a:lnTo>
                  <a:pt x="2235" y="828"/>
                </a:lnTo>
                <a:lnTo>
                  <a:pt x="2235" y="828"/>
                </a:lnTo>
                <a:lnTo>
                  <a:pt x="2235" y="835"/>
                </a:lnTo>
                <a:lnTo>
                  <a:pt x="2235" y="842"/>
                </a:lnTo>
                <a:lnTo>
                  <a:pt x="2228" y="849"/>
                </a:lnTo>
                <a:lnTo>
                  <a:pt x="2221" y="856"/>
                </a:lnTo>
                <a:lnTo>
                  <a:pt x="2221" y="862"/>
                </a:lnTo>
                <a:lnTo>
                  <a:pt x="2221" y="869"/>
                </a:lnTo>
                <a:lnTo>
                  <a:pt x="2214" y="869"/>
                </a:lnTo>
                <a:lnTo>
                  <a:pt x="2214" y="876"/>
                </a:lnTo>
                <a:lnTo>
                  <a:pt x="2214" y="883"/>
                </a:lnTo>
                <a:lnTo>
                  <a:pt x="2214" y="890"/>
                </a:lnTo>
                <a:lnTo>
                  <a:pt x="2214" y="897"/>
                </a:lnTo>
                <a:lnTo>
                  <a:pt x="2214" y="904"/>
                </a:lnTo>
                <a:lnTo>
                  <a:pt x="2214" y="910"/>
                </a:lnTo>
                <a:lnTo>
                  <a:pt x="2214" y="917"/>
                </a:lnTo>
                <a:lnTo>
                  <a:pt x="2208" y="924"/>
                </a:lnTo>
                <a:lnTo>
                  <a:pt x="2201" y="924"/>
                </a:lnTo>
                <a:lnTo>
                  <a:pt x="2194" y="931"/>
                </a:lnTo>
                <a:lnTo>
                  <a:pt x="2180" y="931"/>
                </a:lnTo>
                <a:lnTo>
                  <a:pt x="2173" y="931"/>
                </a:lnTo>
                <a:lnTo>
                  <a:pt x="2160" y="931"/>
                </a:lnTo>
                <a:lnTo>
                  <a:pt x="2153" y="931"/>
                </a:lnTo>
                <a:lnTo>
                  <a:pt x="2146" y="931"/>
                </a:lnTo>
                <a:lnTo>
                  <a:pt x="2132" y="931"/>
                </a:lnTo>
                <a:lnTo>
                  <a:pt x="2125" y="931"/>
                </a:lnTo>
                <a:lnTo>
                  <a:pt x="2112" y="931"/>
                </a:lnTo>
                <a:lnTo>
                  <a:pt x="2105" y="931"/>
                </a:lnTo>
                <a:lnTo>
                  <a:pt x="2098" y="931"/>
                </a:lnTo>
                <a:lnTo>
                  <a:pt x="2084" y="931"/>
                </a:lnTo>
                <a:lnTo>
                  <a:pt x="2077" y="931"/>
                </a:lnTo>
                <a:lnTo>
                  <a:pt x="2064" y="931"/>
                </a:lnTo>
                <a:lnTo>
                  <a:pt x="2057" y="931"/>
                </a:lnTo>
                <a:lnTo>
                  <a:pt x="2050" y="931"/>
                </a:lnTo>
                <a:lnTo>
                  <a:pt x="2036" y="931"/>
                </a:lnTo>
                <a:lnTo>
                  <a:pt x="2029" y="938"/>
                </a:lnTo>
                <a:lnTo>
                  <a:pt x="2016" y="938"/>
                </a:lnTo>
                <a:lnTo>
                  <a:pt x="2009" y="938"/>
                </a:lnTo>
                <a:lnTo>
                  <a:pt x="2002" y="938"/>
                </a:lnTo>
                <a:lnTo>
                  <a:pt x="1995" y="931"/>
                </a:lnTo>
                <a:close/>
                <a:moveTo>
                  <a:pt x="1309" y="904"/>
                </a:moveTo>
                <a:lnTo>
                  <a:pt x="1309" y="897"/>
                </a:lnTo>
                <a:lnTo>
                  <a:pt x="1309" y="890"/>
                </a:lnTo>
                <a:lnTo>
                  <a:pt x="1309" y="883"/>
                </a:lnTo>
                <a:lnTo>
                  <a:pt x="1309" y="876"/>
                </a:lnTo>
                <a:lnTo>
                  <a:pt x="1309" y="869"/>
                </a:lnTo>
                <a:lnTo>
                  <a:pt x="1316" y="869"/>
                </a:lnTo>
                <a:lnTo>
                  <a:pt x="1316" y="862"/>
                </a:lnTo>
                <a:lnTo>
                  <a:pt x="1316" y="856"/>
                </a:lnTo>
                <a:lnTo>
                  <a:pt x="1316" y="849"/>
                </a:lnTo>
                <a:lnTo>
                  <a:pt x="1316" y="842"/>
                </a:lnTo>
                <a:lnTo>
                  <a:pt x="1309" y="835"/>
                </a:lnTo>
                <a:lnTo>
                  <a:pt x="1303" y="835"/>
                </a:lnTo>
                <a:lnTo>
                  <a:pt x="1303" y="835"/>
                </a:lnTo>
                <a:lnTo>
                  <a:pt x="1296" y="842"/>
                </a:lnTo>
                <a:lnTo>
                  <a:pt x="1289" y="849"/>
                </a:lnTo>
                <a:lnTo>
                  <a:pt x="1289" y="856"/>
                </a:lnTo>
                <a:lnTo>
                  <a:pt x="1282" y="862"/>
                </a:lnTo>
                <a:lnTo>
                  <a:pt x="1282" y="869"/>
                </a:lnTo>
                <a:lnTo>
                  <a:pt x="1282" y="869"/>
                </a:lnTo>
                <a:lnTo>
                  <a:pt x="1282" y="876"/>
                </a:lnTo>
                <a:lnTo>
                  <a:pt x="1282" y="883"/>
                </a:lnTo>
                <a:lnTo>
                  <a:pt x="1289" y="890"/>
                </a:lnTo>
                <a:lnTo>
                  <a:pt x="1296" y="890"/>
                </a:lnTo>
                <a:lnTo>
                  <a:pt x="1303" y="897"/>
                </a:lnTo>
                <a:lnTo>
                  <a:pt x="1303" y="904"/>
                </a:lnTo>
                <a:lnTo>
                  <a:pt x="1309" y="904"/>
                </a:lnTo>
                <a:close/>
                <a:moveTo>
                  <a:pt x="1879" y="904"/>
                </a:moveTo>
                <a:lnTo>
                  <a:pt x="1885" y="904"/>
                </a:lnTo>
                <a:lnTo>
                  <a:pt x="1892" y="897"/>
                </a:lnTo>
                <a:lnTo>
                  <a:pt x="1899" y="897"/>
                </a:lnTo>
                <a:lnTo>
                  <a:pt x="1906" y="897"/>
                </a:lnTo>
                <a:lnTo>
                  <a:pt x="1913" y="897"/>
                </a:lnTo>
                <a:lnTo>
                  <a:pt x="1926" y="897"/>
                </a:lnTo>
                <a:lnTo>
                  <a:pt x="1933" y="897"/>
                </a:lnTo>
                <a:lnTo>
                  <a:pt x="1940" y="890"/>
                </a:lnTo>
                <a:lnTo>
                  <a:pt x="1940" y="890"/>
                </a:lnTo>
                <a:lnTo>
                  <a:pt x="1947" y="890"/>
                </a:lnTo>
                <a:lnTo>
                  <a:pt x="1954" y="883"/>
                </a:lnTo>
                <a:lnTo>
                  <a:pt x="1954" y="883"/>
                </a:lnTo>
                <a:lnTo>
                  <a:pt x="1961" y="876"/>
                </a:lnTo>
                <a:lnTo>
                  <a:pt x="1968" y="869"/>
                </a:lnTo>
                <a:lnTo>
                  <a:pt x="1968" y="869"/>
                </a:lnTo>
                <a:lnTo>
                  <a:pt x="1974" y="869"/>
                </a:lnTo>
                <a:lnTo>
                  <a:pt x="1988" y="869"/>
                </a:lnTo>
                <a:lnTo>
                  <a:pt x="1988" y="869"/>
                </a:lnTo>
                <a:lnTo>
                  <a:pt x="1988" y="876"/>
                </a:lnTo>
                <a:lnTo>
                  <a:pt x="1981" y="876"/>
                </a:lnTo>
                <a:lnTo>
                  <a:pt x="1974" y="883"/>
                </a:lnTo>
                <a:lnTo>
                  <a:pt x="1968" y="883"/>
                </a:lnTo>
                <a:lnTo>
                  <a:pt x="1968" y="890"/>
                </a:lnTo>
                <a:lnTo>
                  <a:pt x="1961" y="890"/>
                </a:lnTo>
                <a:lnTo>
                  <a:pt x="1961" y="897"/>
                </a:lnTo>
                <a:lnTo>
                  <a:pt x="1961" y="904"/>
                </a:lnTo>
                <a:lnTo>
                  <a:pt x="1954" y="904"/>
                </a:lnTo>
                <a:lnTo>
                  <a:pt x="1947" y="910"/>
                </a:lnTo>
                <a:lnTo>
                  <a:pt x="1940" y="910"/>
                </a:lnTo>
                <a:lnTo>
                  <a:pt x="1933" y="910"/>
                </a:lnTo>
                <a:lnTo>
                  <a:pt x="1926" y="910"/>
                </a:lnTo>
                <a:lnTo>
                  <a:pt x="1920" y="910"/>
                </a:lnTo>
                <a:lnTo>
                  <a:pt x="1913" y="910"/>
                </a:lnTo>
                <a:lnTo>
                  <a:pt x="1906" y="910"/>
                </a:lnTo>
                <a:lnTo>
                  <a:pt x="1899" y="904"/>
                </a:lnTo>
                <a:lnTo>
                  <a:pt x="1892" y="904"/>
                </a:lnTo>
                <a:lnTo>
                  <a:pt x="1885" y="904"/>
                </a:lnTo>
                <a:lnTo>
                  <a:pt x="1879" y="904"/>
                </a:lnTo>
                <a:close/>
                <a:moveTo>
                  <a:pt x="439" y="876"/>
                </a:moveTo>
                <a:lnTo>
                  <a:pt x="446" y="869"/>
                </a:lnTo>
                <a:lnTo>
                  <a:pt x="452" y="862"/>
                </a:lnTo>
                <a:lnTo>
                  <a:pt x="452" y="856"/>
                </a:lnTo>
                <a:lnTo>
                  <a:pt x="459" y="856"/>
                </a:lnTo>
                <a:lnTo>
                  <a:pt x="452" y="849"/>
                </a:lnTo>
                <a:lnTo>
                  <a:pt x="452" y="842"/>
                </a:lnTo>
                <a:lnTo>
                  <a:pt x="446" y="835"/>
                </a:lnTo>
                <a:lnTo>
                  <a:pt x="439" y="835"/>
                </a:lnTo>
                <a:lnTo>
                  <a:pt x="432" y="835"/>
                </a:lnTo>
                <a:lnTo>
                  <a:pt x="425" y="835"/>
                </a:lnTo>
                <a:lnTo>
                  <a:pt x="418" y="835"/>
                </a:lnTo>
                <a:lnTo>
                  <a:pt x="418" y="842"/>
                </a:lnTo>
                <a:lnTo>
                  <a:pt x="411" y="849"/>
                </a:lnTo>
                <a:lnTo>
                  <a:pt x="411" y="856"/>
                </a:lnTo>
                <a:lnTo>
                  <a:pt x="418" y="856"/>
                </a:lnTo>
                <a:lnTo>
                  <a:pt x="418" y="862"/>
                </a:lnTo>
                <a:lnTo>
                  <a:pt x="425" y="869"/>
                </a:lnTo>
                <a:lnTo>
                  <a:pt x="432" y="869"/>
                </a:lnTo>
                <a:lnTo>
                  <a:pt x="432" y="876"/>
                </a:lnTo>
                <a:lnTo>
                  <a:pt x="439" y="876"/>
                </a:lnTo>
                <a:close/>
                <a:moveTo>
                  <a:pt x="2057" y="842"/>
                </a:moveTo>
                <a:lnTo>
                  <a:pt x="2057" y="835"/>
                </a:lnTo>
                <a:lnTo>
                  <a:pt x="2057" y="835"/>
                </a:lnTo>
                <a:lnTo>
                  <a:pt x="2057" y="828"/>
                </a:lnTo>
                <a:lnTo>
                  <a:pt x="2057" y="828"/>
                </a:lnTo>
                <a:lnTo>
                  <a:pt x="2050" y="828"/>
                </a:lnTo>
                <a:lnTo>
                  <a:pt x="2043" y="835"/>
                </a:lnTo>
                <a:lnTo>
                  <a:pt x="2036" y="835"/>
                </a:lnTo>
                <a:lnTo>
                  <a:pt x="2036" y="842"/>
                </a:lnTo>
                <a:lnTo>
                  <a:pt x="2029" y="842"/>
                </a:lnTo>
                <a:lnTo>
                  <a:pt x="2036" y="849"/>
                </a:lnTo>
                <a:lnTo>
                  <a:pt x="2043" y="849"/>
                </a:lnTo>
                <a:lnTo>
                  <a:pt x="2050" y="849"/>
                </a:lnTo>
                <a:lnTo>
                  <a:pt x="2057" y="849"/>
                </a:lnTo>
                <a:lnTo>
                  <a:pt x="2057" y="842"/>
                </a:lnTo>
                <a:close/>
                <a:moveTo>
                  <a:pt x="1536" y="815"/>
                </a:moveTo>
                <a:lnTo>
                  <a:pt x="1536" y="801"/>
                </a:lnTo>
                <a:lnTo>
                  <a:pt x="1536" y="794"/>
                </a:lnTo>
                <a:lnTo>
                  <a:pt x="1536" y="794"/>
                </a:lnTo>
                <a:lnTo>
                  <a:pt x="1536" y="794"/>
                </a:lnTo>
                <a:lnTo>
                  <a:pt x="1536" y="794"/>
                </a:lnTo>
                <a:lnTo>
                  <a:pt x="1536" y="801"/>
                </a:lnTo>
                <a:lnTo>
                  <a:pt x="1529" y="815"/>
                </a:lnTo>
                <a:lnTo>
                  <a:pt x="1536" y="821"/>
                </a:lnTo>
                <a:lnTo>
                  <a:pt x="1536" y="828"/>
                </a:lnTo>
                <a:lnTo>
                  <a:pt x="1536" y="835"/>
                </a:lnTo>
                <a:lnTo>
                  <a:pt x="1536" y="835"/>
                </a:lnTo>
                <a:lnTo>
                  <a:pt x="1536" y="835"/>
                </a:lnTo>
                <a:lnTo>
                  <a:pt x="1536" y="828"/>
                </a:lnTo>
                <a:lnTo>
                  <a:pt x="1536" y="815"/>
                </a:lnTo>
                <a:close/>
                <a:moveTo>
                  <a:pt x="1659" y="815"/>
                </a:moveTo>
                <a:lnTo>
                  <a:pt x="1659" y="808"/>
                </a:lnTo>
                <a:lnTo>
                  <a:pt x="1666" y="801"/>
                </a:lnTo>
                <a:lnTo>
                  <a:pt x="1666" y="794"/>
                </a:lnTo>
                <a:lnTo>
                  <a:pt x="1666" y="787"/>
                </a:lnTo>
                <a:lnTo>
                  <a:pt x="1666" y="780"/>
                </a:lnTo>
                <a:lnTo>
                  <a:pt x="1666" y="774"/>
                </a:lnTo>
                <a:lnTo>
                  <a:pt x="1659" y="767"/>
                </a:lnTo>
                <a:lnTo>
                  <a:pt x="1659" y="760"/>
                </a:lnTo>
                <a:lnTo>
                  <a:pt x="1659" y="753"/>
                </a:lnTo>
                <a:lnTo>
                  <a:pt x="1659" y="746"/>
                </a:lnTo>
                <a:lnTo>
                  <a:pt x="1652" y="739"/>
                </a:lnTo>
                <a:lnTo>
                  <a:pt x="1652" y="732"/>
                </a:lnTo>
                <a:lnTo>
                  <a:pt x="1652" y="726"/>
                </a:lnTo>
                <a:lnTo>
                  <a:pt x="1652" y="719"/>
                </a:lnTo>
                <a:lnTo>
                  <a:pt x="1652" y="712"/>
                </a:lnTo>
                <a:lnTo>
                  <a:pt x="1652" y="719"/>
                </a:lnTo>
                <a:lnTo>
                  <a:pt x="1645" y="726"/>
                </a:lnTo>
                <a:lnTo>
                  <a:pt x="1645" y="732"/>
                </a:lnTo>
                <a:lnTo>
                  <a:pt x="1645" y="739"/>
                </a:lnTo>
                <a:lnTo>
                  <a:pt x="1645" y="746"/>
                </a:lnTo>
                <a:lnTo>
                  <a:pt x="1639" y="753"/>
                </a:lnTo>
                <a:lnTo>
                  <a:pt x="1639" y="760"/>
                </a:lnTo>
                <a:lnTo>
                  <a:pt x="1639" y="767"/>
                </a:lnTo>
                <a:lnTo>
                  <a:pt x="1632" y="774"/>
                </a:lnTo>
                <a:lnTo>
                  <a:pt x="1632" y="780"/>
                </a:lnTo>
                <a:lnTo>
                  <a:pt x="1632" y="787"/>
                </a:lnTo>
                <a:lnTo>
                  <a:pt x="1632" y="794"/>
                </a:lnTo>
                <a:lnTo>
                  <a:pt x="1632" y="801"/>
                </a:lnTo>
                <a:lnTo>
                  <a:pt x="1632" y="808"/>
                </a:lnTo>
                <a:lnTo>
                  <a:pt x="1639" y="815"/>
                </a:lnTo>
                <a:lnTo>
                  <a:pt x="1652" y="821"/>
                </a:lnTo>
                <a:lnTo>
                  <a:pt x="1659" y="815"/>
                </a:lnTo>
                <a:close/>
                <a:moveTo>
                  <a:pt x="404" y="760"/>
                </a:moveTo>
                <a:lnTo>
                  <a:pt x="418" y="753"/>
                </a:lnTo>
                <a:lnTo>
                  <a:pt x="425" y="753"/>
                </a:lnTo>
                <a:lnTo>
                  <a:pt x="432" y="746"/>
                </a:lnTo>
                <a:lnTo>
                  <a:pt x="439" y="739"/>
                </a:lnTo>
                <a:lnTo>
                  <a:pt x="439" y="739"/>
                </a:lnTo>
                <a:lnTo>
                  <a:pt x="446" y="732"/>
                </a:lnTo>
                <a:lnTo>
                  <a:pt x="452" y="726"/>
                </a:lnTo>
                <a:lnTo>
                  <a:pt x="459" y="726"/>
                </a:lnTo>
                <a:lnTo>
                  <a:pt x="466" y="719"/>
                </a:lnTo>
                <a:lnTo>
                  <a:pt x="473" y="719"/>
                </a:lnTo>
                <a:lnTo>
                  <a:pt x="480" y="712"/>
                </a:lnTo>
                <a:lnTo>
                  <a:pt x="480" y="705"/>
                </a:lnTo>
                <a:lnTo>
                  <a:pt x="487" y="705"/>
                </a:lnTo>
                <a:lnTo>
                  <a:pt x="494" y="698"/>
                </a:lnTo>
                <a:lnTo>
                  <a:pt x="494" y="691"/>
                </a:lnTo>
                <a:lnTo>
                  <a:pt x="500" y="685"/>
                </a:lnTo>
                <a:lnTo>
                  <a:pt x="507" y="685"/>
                </a:lnTo>
                <a:lnTo>
                  <a:pt x="507" y="678"/>
                </a:lnTo>
                <a:lnTo>
                  <a:pt x="514" y="671"/>
                </a:lnTo>
                <a:lnTo>
                  <a:pt x="514" y="664"/>
                </a:lnTo>
                <a:lnTo>
                  <a:pt x="521" y="664"/>
                </a:lnTo>
                <a:lnTo>
                  <a:pt x="521" y="657"/>
                </a:lnTo>
                <a:lnTo>
                  <a:pt x="528" y="650"/>
                </a:lnTo>
                <a:lnTo>
                  <a:pt x="542" y="650"/>
                </a:lnTo>
                <a:lnTo>
                  <a:pt x="548" y="650"/>
                </a:lnTo>
                <a:lnTo>
                  <a:pt x="555" y="650"/>
                </a:lnTo>
                <a:lnTo>
                  <a:pt x="562" y="657"/>
                </a:lnTo>
                <a:lnTo>
                  <a:pt x="562" y="664"/>
                </a:lnTo>
                <a:lnTo>
                  <a:pt x="569" y="671"/>
                </a:lnTo>
                <a:lnTo>
                  <a:pt x="569" y="678"/>
                </a:lnTo>
                <a:lnTo>
                  <a:pt x="569" y="678"/>
                </a:lnTo>
                <a:lnTo>
                  <a:pt x="576" y="685"/>
                </a:lnTo>
                <a:lnTo>
                  <a:pt x="576" y="691"/>
                </a:lnTo>
                <a:lnTo>
                  <a:pt x="576" y="698"/>
                </a:lnTo>
                <a:lnTo>
                  <a:pt x="583" y="705"/>
                </a:lnTo>
                <a:lnTo>
                  <a:pt x="590" y="705"/>
                </a:lnTo>
                <a:lnTo>
                  <a:pt x="596" y="698"/>
                </a:lnTo>
                <a:lnTo>
                  <a:pt x="603" y="698"/>
                </a:lnTo>
                <a:lnTo>
                  <a:pt x="610" y="691"/>
                </a:lnTo>
                <a:lnTo>
                  <a:pt x="617" y="691"/>
                </a:lnTo>
                <a:lnTo>
                  <a:pt x="617" y="685"/>
                </a:lnTo>
                <a:lnTo>
                  <a:pt x="624" y="678"/>
                </a:lnTo>
                <a:lnTo>
                  <a:pt x="624" y="671"/>
                </a:lnTo>
                <a:lnTo>
                  <a:pt x="624" y="664"/>
                </a:lnTo>
                <a:lnTo>
                  <a:pt x="624" y="657"/>
                </a:lnTo>
                <a:lnTo>
                  <a:pt x="624" y="650"/>
                </a:lnTo>
                <a:lnTo>
                  <a:pt x="624" y="650"/>
                </a:lnTo>
                <a:lnTo>
                  <a:pt x="624" y="643"/>
                </a:lnTo>
                <a:lnTo>
                  <a:pt x="624" y="637"/>
                </a:lnTo>
                <a:lnTo>
                  <a:pt x="624" y="630"/>
                </a:lnTo>
                <a:lnTo>
                  <a:pt x="624" y="623"/>
                </a:lnTo>
                <a:lnTo>
                  <a:pt x="624" y="616"/>
                </a:lnTo>
                <a:lnTo>
                  <a:pt x="624" y="616"/>
                </a:lnTo>
                <a:lnTo>
                  <a:pt x="624" y="609"/>
                </a:lnTo>
                <a:lnTo>
                  <a:pt x="631" y="602"/>
                </a:lnTo>
                <a:lnTo>
                  <a:pt x="631" y="596"/>
                </a:lnTo>
                <a:lnTo>
                  <a:pt x="638" y="589"/>
                </a:lnTo>
                <a:lnTo>
                  <a:pt x="638" y="589"/>
                </a:lnTo>
                <a:lnTo>
                  <a:pt x="644" y="582"/>
                </a:lnTo>
                <a:lnTo>
                  <a:pt x="644" y="575"/>
                </a:lnTo>
                <a:lnTo>
                  <a:pt x="644" y="568"/>
                </a:lnTo>
                <a:lnTo>
                  <a:pt x="644" y="561"/>
                </a:lnTo>
                <a:lnTo>
                  <a:pt x="644" y="555"/>
                </a:lnTo>
                <a:lnTo>
                  <a:pt x="644" y="555"/>
                </a:lnTo>
                <a:lnTo>
                  <a:pt x="638" y="548"/>
                </a:lnTo>
                <a:lnTo>
                  <a:pt x="638" y="541"/>
                </a:lnTo>
                <a:lnTo>
                  <a:pt x="638" y="534"/>
                </a:lnTo>
                <a:lnTo>
                  <a:pt x="638" y="527"/>
                </a:lnTo>
                <a:lnTo>
                  <a:pt x="631" y="520"/>
                </a:lnTo>
                <a:lnTo>
                  <a:pt x="631" y="513"/>
                </a:lnTo>
                <a:lnTo>
                  <a:pt x="631" y="513"/>
                </a:lnTo>
                <a:lnTo>
                  <a:pt x="631" y="507"/>
                </a:lnTo>
                <a:lnTo>
                  <a:pt x="638" y="500"/>
                </a:lnTo>
                <a:lnTo>
                  <a:pt x="644" y="500"/>
                </a:lnTo>
                <a:lnTo>
                  <a:pt x="651" y="493"/>
                </a:lnTo>
                <a:lnTo>
                  <a:pt x="658" y="486"/>
                </a:lnTo>
                <a:lnTo>
                  <a:pt x="658" y="486"/>
                </a:lnTo>
                <a:lnTo>
                  <a:pt x="665" y="479"/>
                </a:lnTo>
                <a:lnTo>
                  <a:pt x="665" y="472"/>
                </a:lnTo>
                <a:lnTo>
                  <a:pt x="665" y="466"/>
                </a:lnTo>
                <a:lnTo>
                  <a:pt x="665" y="459"/>
                </a:lnTo>
                <a:lnTo>
                  <a:pt x="672" y="452"/>
                </a:lnTo>
                <a:lnTo>
                  <a:pt x="679" y="452"/>
                </a:lnTo>
                <a:lnTo>
                  <a:pt x="692" y="445"/>
                </a:lnTo>
                <a:lnTo>
                  <a:pt x="692" y="445"/>
                </a:lnTo>
                <a:lnTo>
                  <a:pt x="699" y="438"/>
                </a:lnTo>
                <a:lnTo>
                  <a:pt x="706" y="431"/>
                </a:lnTo>
                <a:lnTo>
                  <a:pt x="713" y="431"/>
                </a:lnTo>
                <a:lnTo>
                  <a:pt x="720" y="425"/>
                </a:lnTo>
                <a:lnTo>
                  <a:pt x="727" y="425"/>
                </a:lnTo>
                <a:lnTo>
                  <a:pt x="727" y="418"/>
                </a:lnTo>
                <a:lnTo>
                  <a:pt x="734" y="411"/>
                </a:lnTo>
                <a:lnTo>
                  <a:pt x="740" y="411"/>
                </a:lnTo>
                <a:lnTo>
                  <a:pt x="747" y="404"/>
                </a:lnTo>
                <a:lnTo>
                  <a:pt x="754" y="397"/>
                </a:lnTo>
                <a:lnTo>
                  <a:pt x="761" y="397"/>
                </a:lnTo>
                <a:lnTo>
                  <a:pt x="768" y="390"/>
                </a:lnTo>
                <a:lnTo>
                  <a:pt x="768" y="383"/>
                </a:lnTo>
                <a:lnTo>
                  <a:pt x="775" y="383"/>
                </a:lnTo>
                <a:lnTo>
                  <a:pt x="782" y="377"/>
                </a:lnTo>
                <a:lnTo>
                  <a:pt x="788" y="377"/>
                </a:lnTo>
                <a:lnTo>
                  <a:pt x="795" y="370"/>
                </a:lnTo>
                <a:lnTo>
                  <a:pt x="802" y="363"/>
                </a:lnTo>
                <a:lnTo>
                  <a:pt x="802" y="363"/>
                </a:lnTo>
                <a:lnTo>
                  <a:pt x="809" y="356"/>
                </a:lnTo>
                <a:lnTo>
                  <a:pt x="816" y="349"/>
                </a:lnTo>
                <a:lnTo>
                  <a:pt x="823" y="349"/>
                </a:lnTo>
                <a:lnTo>
                  <a:pt x="830" y="342"/>
                </a:lnTo>
                <a:lnTo>
                  <a:pt x="830" y="336"/>
                </a:lnTo>
                <a:lnTo>
                  <a:pt x="836" y="336"/>
                </a:lnTo>
                <a:lnTo>
                  <a:pt x="843" y="329"/>
                </a:lnTo>
                <a:lnTo>
                  <a:pt x="850" y="322"/>
                </a:lnTo>
                <a:lnTo>
                  <a:pt x="857" y="322"/>
                </a:lnTo>
                <a:lnTo>
                  <a:pt x="864" y="315"/>
                </a:lnTo>
                <a:lnTo>
                  <a:pt x="864" y="308"/>
                </a:lnTo>
                <a:lnTo>
                  <a:pt x="871" y="308"/>
                </a:lnTo>
                <a:lnTo>
                  <a:pt x="884" y="301"/>
                </a:lnTo>
                <a:lnTo>
                  <a:pt x="891" y="301"/>
                </a:lnTo>
                <a:lnTo>
                  <a:pt x="898" y="301"/>
                </a:lnTo>
                <a:lnTo>
                  <a:pt x="905" y="295"/>
                </a:lnTo>
                <a:lnTo>
                  <a:pt x="912" y="295"/>
                </a:lnTo>
                <a:lnTo>
                  <a:pt x="919" y="288"/>
                </a:lnTo>
                <a:lnTo>
                  <a:pt x="926" y="288"/>
                </a:lnTo>
                <a:lnTo>
                  <a:pt x="932" y="281"/>
                </a:lnTo>
                <a:lnTo>
                  <a:pt x="939" y="274"/>
                </a:lnTo>
                <a:lnTo>
                  <a:pt x="946" y="274"/>
                </a:lnTo>
                <a:lnTo>
                  <a:pt x="946" y="267"/>
                </a:lnTo>
                <a:lnTo>
                  <a:pt x="953" y="260"/>
                </a:lnTo>
                <a:lnTo>
                  <a:pt x="960" y="260"/>
                </a:lnTo>
                <a:lnTo>
                  <a:pt x="967" y="253"/>
                </a:lnTo>
                <a:lnTo>
                  <a:pt x="974" y="247"/>
                </a:lnTo>
                <a:lnTo>
                  <a:pt x="974" y="247"/>
                </a:lnTo>
                <a:lnTo>
                  <a:pt x="980" y="240"/>
                </a:lnTo>
                <a:lnTo>
                  <a:pt x="987" y="233"/>
                </a:lnTo>
                <a:lnTo>
                  <a:pt x="994" y="233"/>
                </a:lnTo>
                <a:lnTo>
                  <a:pt x="994" y="226"/>
                </a:lnTo>
                <a:lnTo>
                  <a:pt x="1001" y="219"/>
                </a:lnTo>
                <a:lnTo>
                  <a:pt x="1008" y="212"/>
                </a:lnTo>
                <a:lnTo>
                  <a:pt x="1015" y="212"/>
                </a:lnTo>
                <a:lnTo>
                  <a:pt x="1022" y="206"/>
                </a:lnTo>
                <a:lnTo>
                  <a:pt x="1022" y="199"/>
                </a:lnTo>
                <a:lnTo>
                  <a:pt x="1028" y="199"/>
                </a:lnTo>
                <a:lnTo>
                  <a:pt x="1028" y="192"/>
                </a:lnTo>
                <a:lnTo>
                  <a:pt x="1035" y="185"/>
                </a:lnTo>
                <a:lnTo>
                  <a:pt x="1035" y="178"/>
                </a:lnTo>
                <a:lnTo>
                  <a:pt x="1035" y="171"/>
                </a:lnTo>
                <a:lnTo>
                  <a:pt x="1035" y="165"/>
                </a:lnTo>
                <a:lnTo>
                  <a:pt x="1042" y="165"/>
                </a:lnTo>
                <a:lnTo>
                  <a:pt x="1049" y="158"/>
                </a:lnTo>
                <a:lnTo>
                  <a:pt x="1056" y="158"/>
                </a:lnTo>
                <a:lnTo>
                  <a:pt x="1063" y="158"/>
                </a:lnTo>
                <a:lnTo>
                  <a:pt x="1076" y="158"/>
                </a:lnTo>
                <a:lnTo>
                  <a:pt x="1083" y="151"/>
                </a:lnTo>
                <a:lnTo>
                  <a:pt x="1090" y="151"/>
                </a:lnTo>
                <a:lnTo>
                  <a:pt x="1097" y="151"/>
                </a:lnTo>
                <a:lnTo>
                  <a:pt x="1111" y="144"/>
                </a:lnTo>
                <a:lnTo>
                  <a:pt x="1117" y="144"/>
                </a:lnTo>
                <a:lnTo>
                  <a:pt x="1124" y="137"/>
                </a:lnTo>
                <a:lnTo>
                  <a:pt x="1131" y="137"/>
                </a:lnTo>
                <a:lnTo>
                  <a:pt x="1138" y="130"/>
                </a:lnTo>
                <a:lnTo>
                  <a:pt x="1145" y="130"/>
                </a:lnTo>
                <a:lnTo>
                  <a:pt x="1152" y="130"/>
                </a:lnTo>
                <a:lnTo>
                  <a:pt x="1159" y="123"/>
                </a:lnTo>
                <a:lnTo>
                  <a:pt x="1172" y="123"/>
                </a:lnTo>
                <a:lnTo>
                  <a:pt x="1179" y="123"/>
                </a:lnTo>
                <a:lnTo>
                  <a:pt x="1186" y="123"/>
                </a:lnTo>
                <a:lnTo>
                  <a:pt x="1200" y="123"/>
                </a:lnTo>
                <a:lnTo>
                  <a:pt x="1207" y="117"/>
                </a:lnTo>
                <a:lnTo>
                  <a:pt x="1213" y="117"/>
                </a:lnTo>
                <a:lnTo>
                  <a:pt x="1220" y="110"/>
                </a:lnTo>
                <a:lnTo>
                  <a:pt x="1220" y="103"/>
                </a:lnTo>
                <a:lnTo>
                  <a:pt x="1227" y="103"/>
                </a:lnTo>
                <a:lnTo>
                  <a:pt x="1234" y="96"/>
                </a:lnTo>
                <a:lnTo>
                  <a:pt x="1248" y="96"/>
                </a:lnTo>
                <a:lnTo>
                  <a:pt x="1255" y="96"/>
                </a:lnTo>
                <a:lnTo>
                  <a:pt x="1261" y="89"/>
                </a:lnTo>
                <a:lnTo>
                  <a:pt x="1268" y="89"/>
                </a:lnTo>
                <a:lnTo>
                  <a:pt x="1282" y="89"/>
                </a:lnTo>
                <a:lnTo>
                  <a:pt x="1289" y="82"/>
                </a:lnTo>
                <a:lnTo>
                  <a:pt x="1289" y="82"/>
                </a:lnTo>
                <a:lnTo>
                  <a:pt x="1296" y="76"/>
                </a:lnTo>
                <a:lnTo>
                  <a:pt x="1303" y="69"/>
                </a:lnTo>
                <a:lnTo>
                  <a:pt x="1309" y="69"/>
                </a:lnTo>
                <a:lnTo>
                  <a:pt x="1316" y="62"/>
                </a:lnTo>
                <a:lnTo>
                  <a:pt x="1323" y="62"/>
                </a:lnTo>
                <a:lnTo>
                  <a:pt x="1323" y="55"/>
                </a:lnTo>
                <a:lnTo>
                  <a:pt x="1330" y="48"/>
                </a:lnTo>
                <a:lnTo>
                  <a:pt x="1337" y="41"/>
                </a:lnTo>
                <a:lnTo>
                  <a:pt x="1344" y="41"/>
                </a:lnTo>
                <a:lnTo>
                  <a:pt x="1351" y="34"/>
                </a:lnTo>
                <a:lnTo>
                  <a:pt x="1351" y="28"/>
                </a:lnTo>
                <a:lnTo>
                  <a:pt x="1344" y="28"/>
                </a:lnTo>
                <a:lnTo>
                  <a:pt x="1337" y="21"/>
                </a:lnTo>
                <a:lnTo>
                  <a:pt x="1330" y="14"/>
                </a:lnTo>
                <a:lnTo>
                  <a:pt x="1323" y="7"/>
                </a:lnTo>
                <a:lnTo>
                  <a:pt x="1323" y="7"/>
                </a:lnTo>
                <a:lnTo>
                  <a:pt x="1316" y="0"/>
                </a:lnTo>
                <a:lnTo>
                  <a:pt x="1303" y="0"/>
                </a:lnTo>
                <a:lnTo>
                  <a:pt x="1275" y="0"/>
                </a:lnTo>
                <a:lnTo>
                  <a:pt x="1248" y="0"/>
                </a:lnTo>
                <a:lnTo>
                  <a:pt x="1213" y="0"/>
                </a:lnTo>
                <a:lnTo>
                  <a:pt x="1186" y="0"/>
                </a:lnTo>
                <a:lnTo>
                  <a:pt x="1159" y="0"/>
                </a:lnTo>
                <a:lnTo>
                  <a:pt x="1131" y="0"/>
                </a:lnTo>
                <a:lnTo>
                  <a:pt x="1104" y="0"/>
                </a:lnTo>
                <a:lnTo>
                  <a:pt x="1070" y="0"/>
                </a:lnTo>
                <a:lnTo>
                  <a:pt x="1042" y="0"/>
                </a:lnTo>
                <a:lnTo>
                  <a:pt x="1015" y="0"/>
                </a:lnTo>
                <a:lnTo>
                  <a:pt x="987" y="0"/>
                </a:lnTo>
                <a:lnTo>
                  <a:pt x="953" y="0"/>
                </a:lnTo>
                <a:lnTo>
                  <a:pt x="926" y="0"/>
                </a:lnTo>
                <a:lnTo>
                  <a:pt x="898" y="0"/>
                </a:lnTo>
                <a:lnTo>
                  <a:pt x="871" y="0"/>
                </a:lnTo>
                <a:lnTo>
                  <a:pt x="843" y="0"/>
                </a:lnTo>
                <a:lnTo>
                  <a:pt x="809" y="0"/>
                </a:lnTo>
                <a:lnTo>
                  <a:pt x="782" y="0"/>
                </a:lnTo>
                <a:lnTo>
                  <a:pt x="754" y="0"/>
                </a:lnTo>
                <a:lnTo>
                  <a:pt x="727" y="0"/>
                </a:lnTo>
                <a:lnTo>
                  <a:pt x="692" y="0"/>
                </a:lnTo>
                <a:lnTo>
                  <a:pt x="665" y="0"/>
                </a:lnTo>
                <a:lnTo>
                  <a:pt x="638" y="28"/>
                </a:lnTo>
                <a:lnTo>
                  <a:pt x="610" y="62"/>
                </a:lnTo>
                <a:lnTo>
                  <a:pt x="583" y="89"/>
                </a:lnTo>
                <a:lnTo>
                  <a:pt x="548" y="117"/>
                </a:lnTo>
                <a:lnTo>
                  <a:pt x="521" y="144"/>
                </a:lnTo>
                <a:lnTo>
                  <a:pt x="494" y="144"/>
                </a:lnTo>
                <a:lnTo>
                  <a:pt x="466" y="178"/>
                </a:lnTo>
                <a:lnTo>
                  <a:pt x="432" y="206"/>
                </a:lnTo>
                <a:lnTo>
                  <a:pt x="404" y="233"/>
                </a:lnTo>
                <a:lnTo>
                  <a:pt x="377" y="260"/>
                </a:lnTo>
                <a:lnTo>
                  <a:pt x="377" y="288"/>
                </a:lnTo>
                <a:lnTo>
                  <a:pt x="384" y="295"/>
                </a:lnTo>
                <a:lnTo>
                  <a:pt x="377" y="301"/>
                </a:lnTo>
                <a:lnTo>
                  <a:pt x="370" y="301"/>
                </a:lnTo>
                <a:lnTo>
                  <a:pt x="370" y="308"/>
                </a:lnTo>
                <a:lnTo>
                  <a:pt x="363" y="315"/>
                </a:lnTo>
                <a:lnTo>
                  <a:pt x="363" y="322"/>
                </a:lnTo>
                <a:lnTo>
                  <a:pt x="356" y="322"/>
                </a:lnTo>
                <a:lnTo>
                  <a:pt x="350" y="329"/>
                </a:lnTo>
                <a:lnTo>
                  <a:pt x="350" y="336"/>
                </a:lnTo>
                <a:lnTo>
                  <a:pt x="343" y="336"/>
                </a:lnTo>
                <a:lnTo>
                  <a:pt x="343" y="342"/>
                </a:lnTo>
                <a:lnTo>
                  <a:pt x="336" y="349"/>
                </a:lnTo>
                <a:lnTo>
                  <a:pt x="329" y="356"/>
                </a:lnTo>
                <a:lnTo>
                  <a:pt x="329" y="356"/>
                </a:lnTo>
                <a:lnTo>
                  <a:pt x="322" y="363"/>
                </a:lnTo>
                <a:lnTo>
                  <a:pt x="315" y="370"/>
                </a:lnTo>
                <a:lnTo>
                  <a:pt x="315" y="370"/>
                </a:lnTo>
                <a:lnTo>
                  <a:pt x="308" y="377"/>
                </a:lnTo>
                <a:lnTo>
                  <a:pt x="308" y="383"/>
                </a:lnTo>
                <a:lnTo>
                  <a:pt x="302" y="383"/>
                </a:lnTo>
                <a:lnTo>
                  <a:pt x="302" y="390"/>
                </a:lnTo>
                <a:lnTo>
                  <a:pt x="295" y="397"/>
                </a:lnTo>
                <a:lnTo>
                  <a:pt x="288" y="404"/>
                </a:lnTo>
                <a:lnTo>
                  <a:pt x="288" y="404"/>
                </a:lnTo>
                <a:lnTo>
                  <a:pt x="281" y="411"/>
                </a:lnTo>
                <a:lnTo>
                  <a:pt x="281" y="418"/>
                </a:lnTo>
                <a:lnTo>
                  <a:pt x="274" y="418"/>
                </a:lnTo>
                <a:lnTo>
                  <a:pt x="267" y="425"/>
                </a:lnTo>
                <a:lnTo>
                  <a:pt x="267" y="431"/>
                </a:lnTo>
                <a:lnTo>
                  <a:pt x="261" y="438"/>
                </a:lnTo>
                <a:lnTo>
                  <a:pt x="261" y="438"/>
                </a:lnTo>
                <a:lnTo>
                  <a:pt x="254" y="445"/>
                </a:lnTo>
                <a:lnTo>
                  <a:pt x="254" y="452"/>
                </a:lnTo>
                <a:lnTo>
                  <a:pt x="247" y="459"/>
                </a:lnTo>
                <a:lnTo>
                  <a:pt x="240" y="459"/>
                </a:lnTo>
                <a:lnTo>
                  <a:pt x="233" y="466"/>
                </a:lnTo>
                <a:lnTo>
                  <a:pt x="233" y="466"/>
                </a:lnTo>
                <a:lnTo>
                  <a:pt x="226" y="472"/>
                </a:lnTo>
                <a:lnTo>
                  <a:pt x="219" y="479"/>
                </a:lnTo>
                <a:lnTo>
                  <a:pt x="219" y="479"/>
                </a:lnTo>
                <a:lnTo>
                  <a:pt x="213" y="486"/>
                </a:lnTo>
                <a:lnTo>
                  <a:pt x="213" y="493"/>
                </a:lnTo>
                <a:lnTo>
                  <a:pt x="213" y="500"/>
                </a:lnTo>
                <a:lnTo>
                  <a:pt x="213" y="507"/>
                </a:lnTo>
                <a:lnTo>
                  <a:pt x="213" y="513"/>
                </a:lnTo>
                <a:lnTo>
                  <a:pt x="213" y="520"/>
                </a:lnTo>
                <a:lnTo>
                  <a:pt x="213" y="520"/>
                </a:lnTo>
                <a:lnTo>
                  <a:pt x="206" y="527"/>
                </a:lnTo>
                <a:lnTo>
                  <a:pt x="199" y="527"/>
                </a:lnTo>
                <a:lnTo>
                  <a:pt x="192" y="534"/>
                </a:lnTo>
                <a:lnTo>
                  <a:pt x="192" y="541"/>
                </a:lnTo>
                <a:lnTo>
                  <a:pt x="192" y="548"/>
                </a:lnTo>
                <a:lnTo>
                  <a:pt x="192" y="555"/>
                </a:lnTo>
                <a:lnTo>
                  <a:pt x="185" y="555"/>
                </a:lnTo>
                <a:lnTo>
                  <a:pt x="185" y="561"/>
                </a:lnTo>
                <a:lnTo>
                  <a:pt x="185" y="568"/>
                </a:lnTo>
                <a:lnTo>
                  <a:pt x="185" y="575"/>
                </a:lnTo>
                <a:lnTo>
                  <a:pt x="185" y="582"/>
                </a:lnTo>
                <a:lnTo>
                  <a:pt x="178" y="589"/>
                </a:lnTo>
                <a:lnTo>
                  <a:pt x="171" y="589"/>
                </a:lnTo>
                <a:lnTo>
                  <a:pt x="171" y="582"/>
                </a:lnTo>
                <a:lnTo>
                  <a:pt x="165" y="582"/>
                </a:lnTo>
                <a:lnTo>
                  <a:pt x="158" y="575"/>
                </a:lnTo>
                <a:lnTo>
                  <a:pt x="158" y="568"/>
                </a:lnTo>
                <a:lnTo>
                  <a:pt x="151" y="561"/>
                </a:lnTo>
                <a:lnTo>
                  <a:pt x="144" y="561"/>
                </a:lnTo>
                <a:lnTo>
                  <a:pt x="137" y="555"/>
                </a:lnTo>
                <a:lnTo>
                  <a:pt x="130" y="555"/>
                </a:lnTo>
                <a:lnTo>
                  <a:pt x="123" y="555"/>
                </a:lnTo>
                <a:lnTo>
                  <a:pt x="117" y="555"/>
                </a:lnTo>
                <a:lnTo>
                  <a:pt x="103" y="555"/>
                </a:lnTo>
                <a:lnTo>
                  <a:pt x="96" y="555"/>
                </a:lnTo>
                <a:lnTo>
                  <a:pt x="89" y="555"/>
                </a:lnTo>
                <a:lnTo>
                  <a:pt x="82" y="548"/>
                </a:lnTo>
                <a:lnTo>
                  <a:pt x="82" y="548"/>
                </a:lnTo>
                <a:lnTo>
                  <a:pt x="82" y="541"/>
                </a:lnTo>
                <a:lnTo>
                  <a:pt x="82" y="534"/>
                </a:lnTo>
                <a:lnTo>
                  <a:pt x="62" y="555"/>
                </a:lnTo>
                <a:lnTo>
                  <a:pt x="27" y="555"/>
                </a:lnTo>
                <a:lnTo>
                  <a:pt x="7" y="575"/>
                </a:lnTo>
                <a:lnTo>
                  <a:pt x="7" y="575"/>
                </a:lnTo>
                <a:lnTo>
                  <a:pt x="7" y="582"/>
                </a:lnTo>
                <a:lnTo>
                  <a:pt x="7" y="582"/>
                </a:lnTo>
                <a:lnTo>
                  <a:pt x="7" y="582"/>
                </a:lnTo>
                <a:lnTo>
                  <a:pt x="0" y="582"/>
                </a:lnTo>
                <a:lnTo>
                  <a:pt x="0" y="582"/>
                </a:lnTo>
                <a:lnTo>
                  <a:pt x="0" y="582"/>
                </a:lnTo>
                <a:lnTo>
                  <a:pt x="0" y="582"/>
                </a:lnTo>
                <a:lnTo>
                  <a:pt x="0" y="609"/>
                </a:lnTo>
                <a:lnTo>
                  <a:pt x="0" y="643"/>
                </a:lnTo>
                <a:lnTo>
                  <a:pt x="0" y="657"/>
                </a:lnTo>
                <a:lnTo>
                  <a:pt x="7" y="650"/>
                </a:lnTo>
                <a:lnTo>
                  <a:pt x="14" y="643"/>
                </a:lnTo>
                <a:lnTo>
                  <a:pt x="14" y="643"/>
                </a:lnTo>
                <a:lnTo>
                  <a:pt x="21" y="637"/>
                </a:lnTo>
                <a:lnTo>
                  <a:pt x="27" y="630"/>
                </a:lnTo>
                <a:lnTo>
                  <a:pt x="27" y="623"/>
                </a:lnTo>
                <a:lnTo>
                  <a:pt x="34" y="623"/>
                </a:lnTo>
                <a:lnTo>
                  <a:pt x="41" y="630"/>
                </a:lnTo>
                <a:lnTo>
                  <a:pt x="48" y="637"/>
                </a:lnTo>
                <a:lnTo>
                  <a:pt x="55" y="643"/>
                </a:lnTo>
                <a:lnTo>
                  <a:pt x="55" y="650"/>
                </a:lnTo>
                <a:lnTo>
                  <a:pt x="55" y="657"/>
                </a:lnTo>
                <a:lnTo>
                  <a:pt x="55" y="664"/>
                </a:lnTo>
                <a:lnTo>
                  <a:pt x="62" y="664"/>
                </a:lnTo>
                <a:lnTo>
                  <a:pt x="62" y="664"/>
                </a:lnTo>
                <a:lnTo>
                  <a:pt x="75" y="664"/>
                </a:lnTo>
                <a:lnTo>
                  <a:pt x="82" y="664"/>
                </a:lnTo>
                <a:lnTo>
                  <a:pt x="89" y="657"/>
                </a:lnTo>
                <a:lnTo>
                  <a:pt x="103" y="657"/>
                </a:lnTo>
                <a:lnTo>
                  <a:pt x="110" y="657"/>
                </a:lnTo>
                <a:lnTo>
                  <a:pt x="117" y="657"/>
                </a:lnTo>
                <a:lnTo>
                  <a:pt x="123" y="657"/>
                </a:lnTo>
                <a:lnTo>
                  <a:pt x="123" y="664"/>
                </a:lnTo>
                <a:lnTo>
                  <a:pt x="123" y="671"/>
                </a:lnTo>
                <a:lnTo>
                  <a:pt x="123" y="678"/>
                </a:lnTo>
                <a:lnTo>
                  <a:pt x="123" y="685"/>
                </a:lnTo>
                <a:lnTo>
                  <a:pt x="117" y="691"/>
                </a:lnTo>
                <a:lnTo>
                  <a:pt x="110" y="691"/>
                </a:lnTo>
                <a:lnTo>
                  <a:pt x="103" y="691"/>
                </a:lnTo>
                <a:lnTo>
                  <a:pt x="96" y="691"/>
                </a:lnTo>
                <a:lnTo>
                  <a:pt x="82" y="691"/>
                </a:lnTo>
                <a:lnTo>
                  <a:pt x="69" y="691"/>
                </a:lnTo>
                <a:lnTo>
                  <a:pt x="62" y="698"/>
                </a:lnTo>
                <a:lnTo>
                  <a:pt x="62" y="698"/>
                </a:lnTo>
                <a:lnTo>
                  <a:pt x="62" y="698"/>
                </a:lnTo>
                <a:lnTo>
                  <a:pt x="75" y="705"/>
                </a:lnTo>
                <a:lnTo>
                  <a:pt x="82" y="705"/>
                </a:lnTo>
                <a:lnTo>
                  <a:pt x="96" y="705"/>
                </a:lnTo>
                <a:lnTo>
                  <a:pt x="103" y="705"/>
                </a:lnTo>
                <a:lnTo>
                  <a:pt x="110" y="705"/>
                </a:lnTo>
                <a:lnTo>
                  <a:pt x="123" y="705"/>
                </a:lnTo>
                <a:lnTo>
                  <a:pt x="130" y="712"/>
                </a:lnTo>
                <a:lnTo>
                  <a:pt x="137" y="712"/>
                </a:lnTo>
                <a:lnTo>
                  <a:pt x="144" y="712"/>
                </a:lnTo>
                <a:lnTo>
                  <a:pt x="151" y="712"/>
                </a:lnTo>
                <a:lnTo>
                  <a:pt x="158" y="712"/>
                </a:lnTo>
                <a:lnTo>
                  <a:pt x="165" y="705"/>
                </a:lnTo>
                <a:lnTo>
                  <a:pt x="171" y="698"/>
                </a:lnTo>
                <a:lnTo>
                  <a:pt x="171" y="691"/>
                </a:lnTo>
                <a:lnTo>
                  <a:pt x="171" y="691"/>
                </a:lnTo>
                <a:lnTo>
                  <a:pt x="171" y="685"/>
                </a:lnTo>
                <a:lnTo>
                  <a:pt x="178" y="678"/>
                </a:lnTo>
                <a:lnTo>
                  <a:pt x="178" y="671"/>
                </a:lnTo>
                <a:lnTo>
                  <a:pt x="178" y="664"/>
                </a:lnTo>
                <a:lnTo>
                  <a:pt x="192" y="664"/>
                </a:lnTo>
                <a:lnTo>
                  <a:pt x="199" y="664"/>
                </a:lnTo>
                <a:lnTo>
                  <a:pt x="206" y="664"/>
                </a:lnTo>
                <a:lnTo>
                  <a:pt x="219" y="664"/>
                </a:lnTo>
                <a:lnTo>
                  <a:pt x="226" y="671"/>
                </a:lnTo>
                <a:lnTo>
                  <a:pt x="233" y="671"/>
                </a:lnTo>
                <a:lnTo>
                  <a:pt x="240" y="671"/>
                </a:lnTo>
                <a:lnTo>
                  <a:pt x="254" y="664"/>
                </a:lnTo>
                <a:lnTo>
                  <a:pt x="261" y="664"/>
                </a:lnTo>
                <a:lnTo>
                  <a:pt x="267" y="671"/>
                </a:lnTo>
                <a:lnTo>
                  <a:pt x="267" y="678"/>
                </a:lnTo>
                <a:lnTo>
                  <a:pt x="267" y="685"/>
                </a:lnTo>
                <a:lnTo>
                  <a:pt x="267" y="685"/>
                </a:lnTo>
                <a:lnTo>
                  <a:pt x="267" y="691"/>
                </a:lnTo>
                <a:lnTo>
                  <a:pt x="267" y="698"/>
                </a:lnTo>
                <a:lnTo>
                  <a:pt x="267" y="705"/>
                </a:lnTo>
                <a:lnTo>
                  <a:pt x="261" y="712"/>
                </a:lnTo>
                <a:lnTo>
                  <a:pt x="261" y="719"/>
                </a:lnTo>
                <a:lnTo>
                  <a:pt x="261" y="719"/>
                </a:lnTo>
                <a:lnTo>
                  <a:pt x="261" y="726"/>
                </a:lnTo>
                <a:lnTo>
                  <a:pt x="261" y="732"/>
                </a:lnTo>
                <a:lnTo>
                  <a:pt x="267" y="739"/>
                </a:lnTo>
                <a:lnTo>
                  <a:pt x="274" y="739"/>
                </a:lnTo>
                <a:lnTo>
                  <a:pt x="281" y="746"/>
                </a:lnTo>
                <a:lnTo>
                  <a:pt x="288" y="746"/>
                </a:lnTo>
                <a:lnTo>
                  <a:pt x="295" y="753"/>
                </a:lnTo>
                <a:lnTo>
                  <a:pt x="308" y="753"/>
                </a:lnTo>
                <a:lnTo>
                  <a:pt x="315" y="753"/>
                </a:lnTo>
                <a:lnTo>
                  <a:pt x="322" y="753"/>
                </a:lnTo>
                <a:lnTo>
                  <a:pt x="329" y="753"/>
                </a:lnTo>
                <a:lnTo>
                  <a:pt x="336" y="746"/>
                </a:lnTo>
                <a:lnTo>
                  <a:pt x="343" y="746"/>
                </a:lnTo>
                <a:lnTo>
                  <a:pt x="356" y="739"/>
                </a:lnTo>
                <a:lnTo>
                  <a:pt x="363" y="739"/>
                </a:lnTo>
                <a:lnTo>
                  <a:pt x="370" y="732"/>
                </a:lnTo>
                <a:lnTo>
                  <a:pt x="377" y="732"/>
                </a:lnTo>
                <a:lnTo>
                  <a:pt x="384" y="739"/>
                </a:lnTo>
                <a:lnTo>
                  <a:pt x="391" y="739"/>
                </a:lnTo>
                <a:lnTo>
                  <a:pt x="391" y="746"/>
                </a:lnTo>
                <a:lnTo>
                  <a:pt x="398" y="753"/>
                </a:lnTo>
                <a:lnTo>
                  <a:pt x="404" y="760"/>
                </a:lnTo>
                <a:close/>
                <a:moveTo>
                  <a:pt x="1488" y="726"/>
                </a:moveTo>
                <a:lnTo>
                  <a:pt x="1501" y="726"/>
                </a:lnTo>
                <a:lnTo>
                  <a:pt x="1508" y="726"/>
                </a:lnTo>
                <a:lnTo>
                  <a:pt x="1515" y="726"/>
                </a:lnTo>
                <a:lnTo>
                  <a:pt x="1529" y="726"/>
                </a:lnTo>
                <a:lnTo>
                  <a:pt x="1536" y="726"/>
                </a:lnTo>
                <a:lnTo>
                  <a:pt x="1549" y="726"/>
                </a:lnTo>
                <a:lnTo>
                  <a:pt x="1556" y="726"/>
                </a:lnTo>
                <a:lnTo>
                  <a:pt x="1563" y="719"/>
                </a:lnTo>
                <a:lnTo>
                  <a:pt x="1570" y="712"/>
                </a:lnTo>
                <a:lnTo>
                  <a:pt x="1570" y="712"/>
                </a:lnTo>
                <a:lnTo>
                  <a:pt x="1570" y="705"/>
                </a:lnTo>
                <a:lnTo>
                  <a:pt x="1570" y="698"/>
                </a:lnTo>
                <a:lnTo>
                  <a:pt x="1577" y="691"/>
                </a:lnTo>
                <a:lnTo>
                  <a:pt x="1577" y="685"/>
                </a:lnTo>
                <a:lnTo>
                  <a:pt x="1577" y="678"/>
                </a:lnTo>
                <a:lnTo>
                  <a:pt x="1577" y="671"/>
                </a:lnTo>
                <a:lnTo>
                  <a:pt x="1577" y="664"/>
                </a:lnTo>
                <a:lnTo>
                  <a:pt x="1577" y="657"/>
                </a:lnTo>
                <a:lnTo>
                  <a:pt x="1577" y="650"/>
                </a:lnTo>
                <a:lnTo>
                  <a:pt x="1584" y="643"/>
                </a:lnTo>
                <a:lnTo>
                  <a:pt x="1584" y="637"/>
                </a:lnTo>
                <a:lnTo>
                  <a:pt x="1584" y="637"/>
                </a:lnTo>
                <a:lnTo>
                  <a:pt x="1591" y="630"/>
                </a:lnTo>
                <a:lnTo>
                  <a:pt x="1591" y="623"/>
                </a:lnTo>
                <a:lnTo>
                  <a:pt x="1597" y="616"/>
                </a:lnTo>
                <a:lnTo>
                  <a:pt x="1604" y="609"/>
                </a:lnTo>
                <a:lnTo>
                  <a:pt x="1604" y="602"/>
                </a:lnTo>
                <a:lnTo>
                  <a:pt x="1611" y="596"/>
                </a:lnTo>
                <a:lnTo>
                  <a:pt x="1611" y="596"/>
                </a:lnTo>
                <a:lnTo>
                  <a:pt x="1611" y="589"/>
                </a:lnTo>
                <a:lnTo>
                  <a:pt x="1618" y="582"/>
                </a:lnTo>
                <a:lnTo>
                  <a:pt x="1618" y="575"/>
                </a:lnTo>
                <a:lnTo>
                  <a:pt x="1618" y="568"/>
                </a:lnTo>
                <a:lnTo>
                  <a:pt x="1625" y="561"/>
                </a:lnTo>
                <a:lnTo>
                  <a:pt x="1625" y="555"/>
                </a:lnTo>
                <a:lnTo>
                  <a:pt x="1632" y="548"/>
                </a:lnTo>
                <a:lnTo>
                  <a:pt x="1639" y="548"/>
                </a:lnTo>
                <a:lnTo>
                  <a:pt x="1639" y="541"/>
                </a:lnTo>
                <a:lnTo>
                  <a:pt x="1639" y="534"/>
                </a:lnTo>
                <a:lnTo>
                  <a:pt x="1639" y="527"/>
                </a:lnTo>
                <a:lnTo>
                  <a:pt x="1639" y="520"/>
                </a:lnTo>
                <a:lnTo>
                  <a:pt x="1632" y="513"/>
                </a:lnTo>
                <a:lnTo>
                  <a:pt x="1625" y="513"/>
                </a:lnTo>
                <a:lnTo>
                  <a:pt x="1611" y="513"/>
                </a:lnTo>
                <a:lnTo>
                  <a:pt x="1604" y="513"/>
                </a:lnTo>
                <a:lnTo>
                  <a:pt x="1597" y="520"/>
                </a:lnTo>
                <a:lnTo>
                  <a:pt x="1591" y="520"/>
                </a:lnTo>
                <a:lnTo>
                  <a:pt x="1577" y="527"/>
                </a:lnTo>
                <a:lnTo>
                  <a:pt x="1570" y="527"/>
                </a:lnTo>
                <a:lnTo>
                  <a:pt x="1570" y="534"/>
                </a:lnTo>
                <a:lnTo>
                  <a:pt x="1563" y="541"/>
                </a:lnTo>
                <a:lnTo>
                  <a:pt x="1556" y="548"/>
                </a:lnTo>
                <a:lnTo>
                  <a:pt x="1549" y="548"/>
                </a:lnTo>
                <a:lnTo>
                  <a:pt x="1543" y="555"/>
                </a:lnTo>
                <a:lnTo>
                  <a:pt x="1543" y="561"/>
                </a:lnTo>
                <a:lnTo>
                  <a:pt x="1536" y="568"/>
                </a:lnTo>
                <a:lnTo>
                  <a:pt x="1536" y="575"/>
                </a:lnTo>
                <a:lnTo>
                  <a:pt x="1529" y="582"/>
                </a:lnTo>
                <a:lnTo>
                  <a:pt x="1529" y="582"/>
                </a:lnTo>
                <a:lnTo>
                  <a:pt x="1529" y="589"/>
                </a:lnTo>
                <a:lnTo>
                  <a:pt x="1522" y="596"/>
                </a:lnTo>
                <a:lnTo>
                  <a:pt x="1515" y="602"/>
                </a:lnTo>
                <a:lnTo>
                  <a:pt x="1508" y="609"/>
                </a:lnTo>
                <a:lnTo>
                  <a:pt x="1501" y="609"/>
                </a:lnTo>
                <a:lnTo>
                  <a:pt x="1488" y="609"/>
                </a:lnTo>
                <a:lnTo>
                  <a:pt x="1481" y="609"/>
                </a:lnTo>
                <a:lnTo>
                  <a:pt x="1474" y="616"/>
                </a:lnTo>
                <a:lnTo>
                  <a:pt x="1474" y="616"/>
                </a:lnTo>
                <a:lnTo>
                  <a:pt x="1467" y="623"/>
                </a:lnTo>
                <a:lnTo>
                  <a:pt x="1467" y="630"/>
                </a:lnTo>
                <a:lnTo>
                  <a:pt x="1467" y="637"/>
                </a:lnTo>
                <a:lnTo>
                  <a:pt x="1460" y="643"/>
                </a:lnTo>
                <a:lnTo>
                  <a:pt x="1460" y="650"/>
                </a:lnTo>
                <a:lnTo>
                  <a:pt x="1460" y="657"/>
                </a:lnTo>
                <a:lnTo>
                  <a:pt x="1460" y="664"/>
                </a:lnTo>
                <a:lnTo>
                  <a:pt x="1460" y="671"/>
                </a:lnTo>
                <a:lnTo>
                  <a:pt x="1467" y="678"/>
                </a:lnTo>
                <a:lnTo>
                  <a:pt x="1467" y="685"/>
                </a:lnTo>
                <a:lnTo>
                  <a:pt x="1467" y="685"/>
                </a:lnTo>
                <a:lnTo>
                  <a:pt x="1460" y="691"/>
                </a:lnTo>
                <a:lnTo>
                  <a:pt x="1460" y="698"/>
                </a:lnTo>
                <a:lnTo>
                  <a:pt x="1453" y="705"/>
                </a:lnTo>
                <a:lnTo>
                  <a:pt x="1453" y="712"/>
                </a:lnTo>
                <a:lnTo>
                  <a:pt x="1447" y="719"/>
                </a:lnTo>
                <a:lnTo>
                  <a:pt x="1447" y="726"/>
                </a:lnTo>
                <a:lnTo>
                  <a:pt x="1447" y="732"/>
                </a:lnTo>
                <a:lnTo>
                  <a:pt x="1447" y="739"/>
                </a:lnTo>
                <a:lnTo>
                  <a:pt x="1453" y="739"/>
                </a:lnTo>
                <a:lnTo>
                  <a:pt x="1460" y="739"/>
                </a:lnTo>
                <a:lnTo>
                  <a:pt x="1474" y="732"/>
                </a:lnTo>
                <a:lnTo>
                  <a:pt x="1481" y="732"/>
                </a:lnTo>
                <a:lnTo>
                  <a:pt x="1488" y="726"/>
                </a:lnTo>
                <a:close/>
                <a:moveTo>
                  <a:pt x="1159" y="643"/>
                </a:moveTo>
                <a:lnTo>
                  <a:pt x="1159" y="637"/>
                </a:lnTo>
                <a:lnTo>
                  <a:pt x="1159" y="630"/>
                </a:lnTo>
                <a:lnTo>
                  <a:pt x="1159" y="630"/>
                </a:lnTo>
                <a:lnTo>
                  <a:pt x="1159" y="623"/>
                </a:lnTo>
                <a:lnTo>
                  <a:pt x="1159" y="623"/>
                </a:lnTo>
                <a:lnTo>
                  <a:pt x="1159" y="616"/>
                </a:lnTo>
                <a:lnTo>
                  <a:pt x="1159" y="609"/>
                </a:lnTo>
                <a:lnTo>
                  <a:pt x="1159" y="609"/>
                </a:lnTo>
                <a:lnTo>
                  <a:pt x="1159" y="609"/>
                </a:lnTo>
                <a:lnTo>
                  <a:pt x="1159" y="616"/>
                </a:lnTo>
                <a:lnTo>
                  <a:pt x="1159" y="623"/>
                </a:lnTo>
                <a:lnTo>
                  <a:pt x="1159" y="623"/>
                </a:lnTo>
                <a:lnTo>
                  <a:pt x="1159" y="630"/>
                </a:lnTo>
                <a:lnTo>
                  <a:pt x="1159" y="630"/>
                </a:lnTo>
                <a:lnTo>
                  <a:pt x="1159" y="637"/>
                </a:lnTo>
                <a:lnTo>
                  <a:pt x="1159" y="637"/>
                </a:lnTo>
                <a:lnTo>
                  <a:pt x="1159" y="643"/>
                </a:lnTo>
                <a:lnTo>
                  <a:pt x="1159" y="650"/>
                </a:lnTo>
                <a:lnTo>
                  <a:pt x="1159" y="643"/>
                </a:lnTo>
                <a:lnTo>
                  <a:pt x="1159" y="643"/>
                </a:lnTo>
                <a:close/>
                <a:moveTo>
                  <a:pt x="1193" y="582"/>
                </a:moveTo>
                <a:lnTo>
                  <a:pt x="1193" y="575"/>
                </a:lnTo>
                <a:lnTo>
                  <a:pt x="1193" y="568"/>
                </a:lnTo>
                <a:lnTo>
                  <a:pt x="1193" y="561"/>
                </a:lnTo>
                <a:lnTo>
                  <a:pt x="1186" y="561"/>
                </a:lnTo>
                <a:lnTo>
                  <a:pt x="1186" y="561"/>
                </a:lnTo>
                <a:lnTo>
                  <a:pt x="1179" y="561"/>
                </a:lnTo>
                <a:lnTo>
                  <a:pt x="1172" y="568"/>
                </a:lnTo>
                <a:lnTo>
                  <a:pt x="1165" y="575"/>
                </a:lnTo>
                <a:lnTo>
                  <a:pt x="1165" y="582"/>
                </a:lnTo>
                <a:lnTo>
                  <a:pt x="1172" y="589"/>
                </a:lnTo>
                <a:lnTo>
                  <a:pt x="1179" y="589"/>
                </a:lnTo>
                <a:lnTo>
                  <a:pt x="1186" y="589"/>
                </a:lnTo>
                <a:lnTo>
                  <a:pt x="1193" y="589"/>
                </a:lnTo>
                <a:lnTo>
                  <a:pt x="1193" y="582"/>
                </a:lnTo>
                <a:close/>
                <a:moveTo>
                  <a:pt x="727" y="527"/>
                </a:moveTo>
                <a:lnTo>
                  <a:pt x="727" y="520"/>
                </a:lnTo>
                <a:lnTo>
                  <a:pt x="727" y="520"/>
                </a:lnTo>
                <a:lnTo>
                  <a:pt x="727" y="520"/>
                </a:lnTo>
                <a:lnTo>
                  <a:pt x="727" y="520"/>
                </a:lnTo>
                <a:lnTo>
                  <a:pt x="720" y="520"/>
                </a:lnTo>
                <a:lnTo>
                  <a:pt x="720" y="520"/>
                </a:lnTo>
                <a:lnTo>
                  <a:pt x="720" y="520"/>
                </a:lnTo>
                <a:lnTo>
                  <a:pt x="720" y="527"/>
                </a:lnTo>
                <a:lnTo>
                  <a:pt x="720" y="527"/>
                </a:lnTo>
                <a:lnTo>
                  <a:pt x="720" y="527"/>
                </a:lnTo>
                <a:lnTo>
                  <a:pt x="727" y="527"/>
                </a:lnTo>
                <a:lnTo>
                  <a:pt x="727" y="527"/>
                </a:lnTo>
                <a:lnTo>
                  <a:pt x="727" y="527"/>
                </a:lnTo>
                <a:lnTo>
                  <a:pt x="727" y="527"/>
                </a:lnTo>
                <a:close/>
                <a:moveTo>
                  <a:pt x="960" y="527"/>
                </a:moveTo>
                <a:lnTo>
                  <a:pt x="953" y="520"/>
                </a:lnTo>
                <a:lnTo>
                  <a:pt x="953" y="513"/>
                </a:lnTo>
                <a:lnTo>
                  <a:pt x="946" y="513"/>
                </a:lnTo>
                <a:lnTo>
                  <a:pt x="939" y="507"/>
                </a:lnTo>
                <a:lnTo>
                  <a:pt x="939" y="500"/>
                </a:lnTo>
                <a:lnTo>
                  <a:pt x="932" y="500"/>
                </a:lnTo>
                <a:lnTo>
                  <a:pt x="926" y="500"/>
                </a:lnTo>
                <a:lnTo>
                  <a:pt x="926" y="500"/>
                </a:lnTo>
                <a:lnTo>
                  <a:pt x="926" y="507"/>
                </a:lnTo>
                <a:lnTo>
                  <a:pt x="926" y="507"/>
                </a:lnTo>
                <a:lnTo>
                  <a:pt x="926" y="513"/>
                </a:lnTo>
                <a:lnTo>
                  <a:pt x="926" y="520"/>
                </a:lnTo>
                <a:lnTo>
                  <a:pt x="926" y="527"/>
                </a:lnTo>
                <a:lnTo>
                  <a:pt x="926" y="527"/>
                </a:lnTo>
                <a:lnTo>
                  <a:pt x="932" y="534"/>
                </a:lnTo>
                <a:lnTo>
                  <a:pt x="939" y="534"/>
                </a:lnTo>
                <a:lnTo>
                  <a:pt x="946" y="534"/>
                </a:lnTo>
                <a:lnTo>
                  <a:pt x="953" y="534"/>
                </a:lnTo>
                <a:lnTo>
                  <a:pt x="960" y="527"/>
                </a:lnTo>
                <a:lnTo>
                  <a:pt x="960" y="527"/>
                </a:lnTo>
                <a:close/>
                <a:moveTo>
                  <a:pt x="1213" y="527"/>
                </a:moveTo>
                <a:lnTo>
                  <a:pt x="1213" y="520"/>
                </a:lnTo>
                <a:lnTo>
                  <a:pt x="1213" y="520"/>
                </a:lnTo>
                <a:lnTo>
                  <a:pt x="1213" y="520"/>
                </a:lnTo>
                <a:lnTo>
                  <a:pt x="1213" y="520"/>
                </a:lnTo>
                <a:lnTo>
                  <a:pt x="1213" y="520"/>
                </a:lnTo>
                <a:lnTo>
                  <a:pt x="1213" y="520"/>
                </a:lnTo>
                <a:lnTo>
                  <a:pt x="1213" y="520"/>
                </a:lnTo>
                <a:lnTo>
                  <a:pt x="1213" y="520"/>
                </a:lnTo>
                <a:lnTo>
                  <a:pt x="1213" y="520"/>
                </a:lnTo>
                <a:lnTo>
                  <a:pt x="1213" y="527"/>
                </a:lnTo>
                <a:lnTo>
                  <a:pt x="1213" y="527"/>
                </a:lnTo>
                <a:lnTo>
                  <a:pt x="1213" y="527"/>
                </a:lnTo>
                <a:lnTo>
                  <a:pt x="1213" y="527"/>
                </a:lnTo>
                <a:lnTo>
                  <a:pt x="1213" y="527"/>
                </a:lnTo>
                <a:close/>
                <a:moveTo>
                  <a:pt x="165" y="466"/>
                </a:moveTo>
                <a:lnTo>
                  <a:pt x="144" y="466"/>
                </a:lnTo>
                <a:lnTo>
                  <a:pt x="130" y="479"/>
                </a:lnTo>
                <a:lnTo>
                  <a:pt x="137" y="479"/>
                </a:lnTo>
                <a:lnTo>
                  <a:pt x="144" y="479"/>
                </a:lnTo>
                <a:lnTo>
                  <a:pt x="144" y="479"/>
                </a:lnTo>
                <a:lnTo>
                  <a:pt x="151" y="479"/>
                </a:lnTo>
                <a:lnTo>
                  <a:pt x="158" y="479"/>
                </a:lnTo>
                <a:lnTo>
                  <a:pt x="158" y="472"/>
                </a:lnTo>
                <a:lnTo>
                  <a:pt x="158" y="472"/>
                </a:lnTo>
                <a:lnTo>
                  <a:pt x="165" y="466"/>
                </a:lnTo>
                <a:close/>
                <a:moveTo>
                  <a:pt x="932" y="466"/>
                </a:moveTo>
                <a:lnTo>
                  <a:pt x="932" y="459"/>
                </a:lnTo>
                <a:lnTo>
                  <a:pt x="926" y="452"/>
                </a:lnTo>
                <a:lnTo>
                  <a:pt x="926" y="452"/>
                </a:lnTo>
                <a:lnTo>
                  <a:pt x="919" y="445"/>
                </a:lnTo>
                <a:lnTo>
                  <a:pt x="919" y="438"/>
                </a:lnTo>
                <a:lnTo>
                  <a:pt x="919" y="431"/>
                </a:lnTo>
                <a:lnTo>
                  <a:pt x="919" y="425"/>
                </a:lnTo>
                <a:lnTo>
                  <a:pt x="919" y="418"/>
                </a:lnTo>
                <a:lnTo>
                  <a:pt x="919" y="418"/>
                </a:lnTo>
                <a:lnTo>
                  <a:pt x="919" y="411"/>
                </a:lnTo>
                <a:lnTo>
                  <a:pt x="912" y="404"/>
                </a:lnTo>
                <a:lnTo>
                  <a:pt x="905" y="397"/>
                </a:lnTo>
                <a:lnTo>
                  <a:pt x="898" y="397"/>
                </a:lnTo>
                <a:lnTo>
                  <a:pt x="891" y="397"/>
                </a:lnTo>
                <a:lnTo>
                  <a:pt x="884" y="404"/>
                </a:lnTo>
                <a:lnTo>
                  <a:pt x="871" y="404"/>
                </a:lnTo>
                <a:lnTo>
                  <a:pt x="864" y="411"/>
                </a:lnTo>
                <a:lnTo>
                  <a:pt x="864" y="411"/>
                </a:lnTo>
                <a:lnTo>
                  <a:pt x="857" y="418"/>
                </a:lnTo>
                <a:lnTo>
                  <a:pt x="850" y="425"/>
                </a:lnTo>
                <a:lnTo>
                  <a:pt x="843" y="431"/>
                </a:lnTo>
                <a:lnTo>
                  <a:pt x="836" y="431"/>
                </a:lnTo>
                <a:lnTo>
                  <a:pt x="836" y="438"/>
                </a:lnTo>
                <a:lnTo>
                  <a:pt x="830" y="445"/>
                </a:lnTo>
                <a:lnTo>
                  <a:pt x="830" y="452"/>
                </a:lnTo>
                <a:lnTo>
                  <a:pt x="823" y="452"/>
                </a:lnTo>
                <a:lnTo>
                  <a:pt x="823" y="459"/>
                </a:lnTo>
                <a:lnTo>
                  <a:pt x="816" y="466"/>
                </a:lnTo>
                <a:lnTo>
                  <a:pt x="816" y="472"/>
                </a:lnTo>
                <a:lnTo>
                  <a:pt x="823" y="472"/>
                </a:lnTo>
                <a:lnTo>
                  <a:pt x="830" y="479"/>
                </a:lnTo>
                <a:lnTo>
                  <a:pt x="836" y="486"/>
                </a:lnTo>
                <a:lnTo>
                  <a:pt x="836" y="486"/>
                </a:lnTo>
                <a:lnTo>
                  <a:pt x="843" y="486"/>
                </a:lnTo>
                <a:lnTo>
                  <a:pt x="857" y="479"/>
                </a:lnTo>
                <a:lnTo>
                  <a:pt x="864" y="479"/>
                </a:lnTo>
                <a:lnTo>
                  <a:pt x="871" y="472"/>
                </a:lnTo>
                <a:lnTo>
                  <a:pt x="878" y="472"/>
                </a:lnTo>
                <a:lnTo>
                  <a:pt x="891" y="466"/>
                </a:lnTo>
                <a:lnTo>
                  <a:pt x="898" y="466"/>
                </a:lnTo>
                <a:lnTo>
                  <a:pt x="905" y="472"/>
                </a:lnTo>
                <a:lnTo>
                  <a:pt x="912" y="479"/>
                </a:lnTo>
                <a:lnTo>
                  <a:pt x="919" y="486"/>
                </a:lnTo>
                <a:lnTo>
                  <a:pt x="926" y="486"/>
                </a:lnTo>
                <a:lnTo>
                  <a:pt x="926" y="493"/>
                </a:lnTo>
                <a:lnTo>
                  <a:pt x="926" y="493"/>
                </a:lnTo>
                <a:lnTo>
                  <a:pt x="932" y="493"/>
                </a:lnTo>
                <a:lnTo>
                  <a:pt x="932" y="486"/>
                </a:lnTo>
                <a:lnTo>
                  <a:pt x="932" y="479"/>
                </a:lnTo>
                <a:lnTo>
                  <a:pt x="932" y="466"/>
                </a:lnTo>
                <a:close/>
                <a:moveTo>
                  <a:pt x="178" y="438"/>
                </a:moveTo>
                <a:lnTo>
                  <a:pt x="171" y="438"/>
                </a:lnTo>
                <a:lnTo>
                  <a:pt x="171" y="452"/>
                </a:lnTo>
                <a:lnTo>
                  <a:pt x="178" y="438"/>
                </a:lnTo>
                <a:close/>
                <a:moveTo>
                  <a:pt x="2235" y="438"/>
                </a:moveTo>
                <a:lnTo>
                  <a:pt x="2228" y="431"/>
                </a:lnTo>
                <a:lnTo>
                  <a:pt x="2228" y="431"/>
                </a:lnTo>
                <a:lnTo>
                  <a:pt x="2221" y="431"/>
                </a:lnTo>
                <a:lnTo>
                  <a:pt x="2214" y="438"/>
                </a:lnTo>
                <a:lnTo>
                  <a:pt x="2214" y="445"/>
                </a:lnTo>
                <a:lnTo>
                  <a:pt x="2214" y="445"/>
                </a:lnTo>
                <a:lnTo>
                  <a:pt x="2221" y="452"/>
                </a:lnTo>
                <a:lnTo>
                  <a:pt x="2228" y="452"/>
                </a:lnTo>
                <a:lnTo>
                  <a:pt x="2228" y="459"/>
                </a:lnTo>
                <a:lnTo>
                  <a:pt x="2235" y="459"/>
                </a:lnTo>
                <a:lnTo>
                  <a:pt x="2235" y="452"/>
                </a:lnTo>
                <a:lnTo>
                  <a:pt x="2235" y="452"/>
                </a:lnTo>
                <a:lnTo>
                  <a:pt x="2235" y="445"/>
                </a:lnTo>
                <a:lnTo>
                  <a:pt x="2235" y="438"/>
                </a:lnTo>
                <a:close/>
                <a:moveTo>
                  <a:pt x="206" y="411"/>
                </a:moveTo>
                <a:lnTo>
                  <a:pt x="206" y="411"/>
                </a:lnTo>
                <a:lnTo>
                  <a:pt x="206" y="411"/>
                </a:lnTo>
                <a:lnTo>
                  <a:pt x="206" y="411"/>
                </a:lnTo>
                <a:close/>
                <a:moveTo>
                  <a:pt x="240" y="377"/>
                </a:moveTo>
                <a:lnTo>
                  <a:pt x="233" y="377"/>
                </a:lnTo>
                <a:lnTo>
                  <a:pt x="233" y="383"/>
                </a:lnTo>
                <a:lnTo>
                  <a:pt x="240" y="377"/>
                </a:lnTo>
                <a:close/>
                <a:moveTo>
                  <a:pt x="288" y="349"/>
                </a:moveTo>
                <a:lnTo>
                  <a:pt x="261" y="349"/>
                </a:lnTo>
                <a:lnTo>
                  <a:pt x="261" y="363"/>
                </a:lnTo>
                <a:lnTo>
                  <a:pt x="288" y="349"/>
                </a:lnTo>
                <a:close/>
                <a:moveTo>
                  <a:pt x="343" y="322"/>
                </a:moveTo>
                <a:lnTo>
                  <a:pt x="322" y="322"/>
                </a:lnTo>
                <a:lnTo>
                  <a:pt x="295" y="349"/>
                </a:lnTo>
                <a:lnTo>
                  <a:pt x="302" y="342"/>
                </a:lnTo>
                <a:lnTo>
                  <a:pt x="308" y="342"/>
                </a:lnTo>
                <a:lnTo>
                  <a:pt x="315" y="342"/>
                </a:lnTo>
                <a:lnTo>
                  <a:pt x="322" y="336"/>
                </a:lnTo>
                <a:lnTo>
                  <a:pt x="329" y="336"/>
                </a:lnTo>
                <a:lnTo>
                  <a:pt x="336" y="329"/>
                </a:lnTo>
                <a:lnTo>
                  <a:pt x="336" y="329"/>
                </a:lnTo>
                <a:lnTo>
                  <a:pt x="343" y="322"/>
                </a:lnTo>
                <a:close/>
                <a:moveTo>
                  <a:pt x="377" y="295"/>
                </a:moveTo>
                <a:lnTo>
                  <a:pt x="350" y="295"/>
                </a:lnTo>
                <a:lnTo>
                  <a:pt x="350" y="315"/>
                </a:lnTo>
                <a:lnTo>
                  <a:pt x="377" y="295"/>
                </a:lnTo>
                <a:close/>
              </a:path>
            </a:pathLst>
          </a:custGeom>
          <a:solidFill>
            <a:srgbClr val="c0e2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8" name=""/>
          <p:cNvSpPr/>
          <p:nvPr/>
        </p:nvSpPr>
        <p:spPr>
          <a:xfrm>
            <a:off x="2484360" y="2624040"/>
            <a:ext cx="4462560" cy="2857680"/>
          </a:xfrm>
          <a:custGeom>
            <a:avLst/>
            <a:gdLst/>
            <a:ahLst/>
            <a:rect l="l" t="t" r="r" b="b"/>
            <a:pathLst>
              <a:path w="2811" h="1800">
                <a:moveTo>
                  <a:pt x="2434" y="1800"/>
                </a:moveTo>
                <a:lnTo>
                  <a:pt x="2461" y="1773"/>
                </a:lnTo>
                <a:lnTo>
                  <a:pt x="2489" y="1773"/>
                </a:lnTo>
                <a:lnTo>
                  <a:pt x="2516" y="1773"/>
                </a:lnTo>
                <a:lnTo>
                  <a:pt x="2550" y="1773"/>
                </a:lnTo>
                <a:lnTo>
                  <a:pt x="2578" y="1773"/>
                </a:lnTo>
                <a:lnTo>
                  <a:pt x="2605" y="1773"/>
                </a:lnTo>
                <a:lnTo>
                  <a:pt x="2633" y="1773"/>
                </a:lnTo>
                <a:lnTo>
                  <a:pt x="2660" y="1745"/>
                </a:lnTo>
                <a:lnTo>
                  <a:pt x="2660" y="1718"/>
                </a:lnTo>
                <a:lnTo>
                  <a:pt x="2660" y="1684"/>
                </a:lnTo>
                <a:lnTo>
                  <a:pt x="2660" y="1656"/>
                </a:lnTo>
                <a:lnTo>
                  <a:pt x="2694" y="1629"/>
                </a:lnTo>
                <a:lnTo>
                  <a:pt x="2694" y="1601"/>
                </a:lnTo>
                <a:lnTo>
                  <a:pt x="2694" y="1567"/>
                </a:lnTo>
                <a:lnTo>
                  <a:pt x="2694" y="1540"/>
                </a:lnTo>
                <a:lnTo>
                  <a:pt x="2722" y="1513"/>
                </a:lnTo>
                <a:lnTo>
                  <a:pt x="2722" y="1485"/>
                </a:lnTo>
                <a:lnTo>
                  <a:pt x="2722" y="1451"/>
                </a:lnTo>
                <a:lnTo>
                  <a:pt x="2722" y="1424"/>
                </a:lnTo>
                <a:lnTo>
                  <a:pt x="2749" y="1396"/>
                </a:lnTo>
                <a:lnTo>
                  <a:pt x="2749" y="1369"/>
                </a:lnTo>
                <a:lnTo>
                  <a:pt x="2749" y="1335"/>
                </a:lnTo>
                <a:lnTo>
                  <a:pt x="2749" y="1307"/>
                </a:lnTo>
                <a:lnTo>
                  <a:pt x="2777" y="1280"/>
                </a:lnTo>
                <a:lnTo>
                  <a:pt x="2777" y="1252"/>
                </a:lnTo>
                <a:lnTo>
                  <a:pt x="2777" y="1218"/>
                </a:lnTo>
                <a:lnTo>
                  <a:pt x="2777" y="1191"/>
                </a:lnTo>
                <a:lnTo>
                  <a:pt x="2811" y="1164"/>
                </a:lnTo>
                <a:lnTo>
                  <a:pt x="2811" y="1136"/>
                </a:lnTo>
                <a:lnTo>
                  <a:pt x="2811" y="1102"/>
                </a:lnTo>
                <a:lnTo>
                  <a:pt x="2811" y="1075"/>
                </a:lnTo>
                <a:lnTo>
                  <a:pt x="2811" y="1047"/>
                </a:lnTo>
                <a:lnTo>
                  <a:pt x="2811" y="1020"/>
                </a:lnTo>
                <a:lnTo>
                  <a:pt x="2811" y="992"/>
                </a:lnTo>
                <a:lnTo>
                  <a:pt x="2811" y="958"/>
                </a:lnTo>
                <a:lnTo>
                  <a:pt x="2811" y="931"/>
                </a:lnTo>
                <a:lnTo>
                  <a:pt x="2811" y="904"/>
                </a:lnTo>
                <a:lnTo>
                  <a:pt x="2811" y="876"/>
                </a:lnTo>
                <a:lnTo>
                  <a:pt x="2811" y="842"/>
                </a:lnTo>
                <a:lnTo>
                  <a:pt x="2811" y="815"/>
                </a:lnTo>
                <a:lnTo>
                  <a:pt x="2811" y="787"/>
                </a:lnTo>
                <a:lnTo>
                  <a:pt x="2811" y="760"/>
                </a:lnTo>
                <a:lnTo>
                  <a:pt x="2811" y="726"/>
                </a:lnTo>
                <a:lnTo>
                  <a:pt x="2811" y="698"/>
                </a:lnTo>
                <a:lnTo>
                  <a:pt x="2811" y="671"/>
                </a:lnTo>
                <a:lnTo>
                  <a:pt x="2811" y="643"/>
                </a:lnTo>
                <a:lnTo>
                  <a:pt x="2811" y="609"/>
                </a:lnTo>
                <a:lnTo>
                  <a:pt x="2811" y="582"/>
                </a:lnTo>
                <a:lnTo>
                  <a:pt x="2811" y="555"/>
                </a:lnTo>
                <a:lnTo>
                  <a:pt x="2811" y="527"/>
                </a:lnTo>
                <a:lnTo>
                  <a:pt x="2811" y="493"/>
                </a:lnTo>
                <a:lnTo>
                  <a:pt x="2811" y="466"/>
                </a:lnTo>
                <a:lnTo>
                  <a:pt x="2811" y="438"/>
                </a:lnTo>
                <a:lnTo>
                  <a:pt x="2811" y="411"/>
                </a:lnTo>
                <a:lnTo>
                  <a:pt x="2811" y="377"/>
                </a:lnTo>
                <a:lnTo>
                  <a:pt x="2811" y="349"/>
                </a:lnTo>
                <a:lnTo>
                  <a:pt x="2811" y="322"/>
                </a:lnTo>
                <a:lnTo>
                  <a:pt x="2811" y="295"/>
                </a:lnTo>
                <a:lnTo>
                  <a:pt x="2811" y="260"/>
                </a:lnTo>
                <a:lnTo>
                  <a:pt x="2777" y="233"/>
                </a:lnTo>
                <a:lnTo>
                  <a:pt x="2777" y="206"/>
                </a:lnTo>
                <a:lnTo>
                  <a:pt x="2777" y="178"/>
                </a:lnTo>
                <a:lnTo>
                  <a:pt x="2777" y="144"/>
                </a:lnTo>
                <a:lnTo>
                  <a:pt x="2777" y="117"/>
                </a:lnTo>
                <a:lnTo>
                  <a:pt x="2749" y="89"/>
                </a:lnTo>
                <a:lnTo>
                  <a:pt x="2722" y="89"/>
                </a:lnTo>
                <a:lnTo>
                  <a:pt x="2694" y="89"/>
                </a:lnTo>
                <a:lnTo>
                  <a:pt x="2660" y="62"/>
                </a:lnTo>
                <a:lnTo>
                  <a:pt x="2633" y="62"/>
                </a:lnTo>
                <a:lnTo>
                  <a:pt x="2605" y="62"/>
                </a:lnTo>
                <a:lnTo>
                  <a:pt x="2578" y="28"/>
                </a:lnTo>
                <a:lnTo>
                  <a:pt x="2550" y="28"/>
                </a:lnTo>
                <a:lnTo>
                  <a:pt x="2516" y="28"/>
                </a:lnTo>
                <a:lnTo>
                  <a:pt x="2489" y="0"/>
                </a:lnTo>
                <a:lnTo>
                  <a:pt x="2461" y="0"/>
                </a:lnTo>
                <a:lnTo>
                  <a:pt x="2434" y="0"/>
                </a:lnTo>
                <a:lnTo>
                  <a:pt x="2400" y="0"/>
                </a:lnTo>
                <a:lnTo>
                  <a:pt x="2372" y="0"/>
                </a:lnTo>
                <a:lnTo>
                  <a:pt x="2345" y="0"/>
                </a:lnTo>
                <a:lnTo>
                  <a:pt x="2317" y="0"/>
                </a:lnTo>
                <a:lnTo>
                  <a:pt x="2290" y="0"/>
                </a:lnTo>
                <a:lnTo>
                  <a:pt x="2256" y="0"/>
                </a:lnTo>
                <a:lnTo>
                  <a:pt x="2228" y="0"/>
                </a:lnTo>
                <a:lnTo>
                  <a:pt x="2201" y="0"/>
                </a:lnTo>
                <a:lnTo>
                  <a:pt x="2173" y="0"/>
                </a:lnTo>
                <a:lnTo>
                  <a:pt x="2146" y="0"/>
                </a:lnTo>
                <a:lnTo>
                  <a:pt x="2153" y="0"/>
                </a:lnTo>
                <a:lnTo>
                  <a:pt x="2166" y="7"/>
                </a:lnTo>
                <a:lnTo>
                  <a:pt x="2173" y="7"/>
                </a:lnTo>
                <a:lnTo>
                  <a:pt x="2180" y="7"/>
                </a:lnTo>
                <a:lnTo>
                  <a:pt x="2187" y="14"/>
                </a:lnTo>
                <a:lnTo>
                  <a:pt x="2201" y="14"/>
                </a:lnTo>
                <a:lnTo>
                  <a:pt x="2208" y="14"/>
                </a:lnTo>
                <a:lnTo>
                  <a:pt x="2214" y="14"/>
                </a:lnTo>
                <a:lnTo>
                  <a:pt x="2228" y="14"/>
                </a:lnTo>
                <a:lnTo>
                  <a:pt x="2235" y="14"/>
                </a:lnTo>
                <a:lnTo>
                  <a:pt x="2242" y="21"/>
                </a:lnTo>
                <a:lnTo>
                  <a:pt x="2249" y="21"/>
                </a:lnTo>
                <a:lnTo>
                  <a:pt x="2262" y="21"/>
                </a:lnTo>
                <a:lnTo>
                  <a:pt x="2269" y="21"/>
                </a:lnTo>
                <a:lnTo>
                  <a:pt x="2276" y="21"/>
                </a:lnTo>
                <a:lnTo>
                  <a:pt x="2290" y="28"/>
                </a:lnTo>
                <a:lnTo>
                  <a:pt x="2297" y="28"/>
                </a:lnTo>
                <a:lnTo>
                  <a:pt x="2304" y="28"/>
                </a:lnTo>
                <a:lnTo>
                  <a:pt x="2310" y="28"/>
                </a:lnTo>
                <a:lnTo>
                  <a:pt x="2324" y="28"/>
                </a:lnTo>
                <a:lnTo>
                  <a:pt x="2324" y="34"/>
                </a:lnTo>
                <a:lnTo>
                  <a:pt x="2331" y="41"/>
                </a:lnTo>
                <a:lnTo>
                  <a:pt x="2331" y="48"/>
                </a:lnTo>
                <a:lnTo>
                  <a:pt x="2331" y="55"/>
                </a:lnTo>
                <a:lnTo>
                  <a:pt x="2338" y="62"/>
                </a:lnTo>
                <a:lnTo>
                  <a:pt x="2345" y="62"/>
                </a:lnTo>
                <a:lnTo>
                  <a:pt x="2352" y="62"/>
                </a:lnTo>
                <a:lnTo>
                  <a:pt x="2358" y="62"/>
                </a:lnTo>
                <a:lnTo>
                  <a:pt x="2372" y="69"/>
                </a:lnTo>
                <a:lnTo>
                  <a:pt x="2379" y="69"/>
                </a:lnTo>
                <a:lnTo>
                  <a:pt x="2393" y="69"/>
                </a:lnTo>
                <a:lnTo>
                  <a:pt x="2400" y="69"/>
                </a:lnTo>
                <a:lnTo>
                  <a:pt x="2406" y="69"/>
                </a:lnTo>
                <a:lnTo>
                  <a:pt x="2406" y="76"/>
                </a:lnTo>
                <a:lnTo>
                  <a:pt x="2413" y="82"/>
                </a:lnTo>
                <a:lnTo>
                  <a:pt x="2420" y="89"/>
                </a:lnTo>
                <a:lnTo>
                  <a:pt x="2420" y="96"/>
                </a:lnTo>
                <a:lnTo>
                  <a:pt x="2427" y="96"/>
                </a:lnTo>
                <a:lnTo>
                  <a:pt x="2434" y="96"/>
                </a:lnTo>
                <a:lnTo>
                  <a:pt x="2448" y="96"/>
                </a:lnTo>
                <a:lnTo>
                  <a:pt x="2454" y="89"/>
                </a:lnTo>
                <a:lnTo>
                  <a:pt x="2454" y="89"/>
                </a:lnTo>
                <a:lnTo>
                  <a:pt x="2454" y="82"/>
                </a:lnTo>
                <a:lnTo>
                  <a:pt x="2454" y="76"/>
                </a:lnTo>
                <a:lnTo>
                  <a:pt x="2454" y="69"/>
                </a:lnTo>
                <a:lnTo>
                  <a:pt x="2454" y="62"/>
                </a:lnTo>
                <a:lnTo>
                  <a:pt x="2461" y="55"/>
                </a:lnTo>
                <a:lnTo>
                  <a:pt x="2468" y="62"/>
                </a:lnTo>
                <a:lnTo>
                  <a:pt x="2468" y="69"/>
                </a:lnTo>
                <a:lnTo>
                  <a:pt x="2475" y="76"/>
                </a:lnTo>
                <a:lnTo>
                  <a:pt x="2475" y="82"/>
                </a:lnTo>
                <a:lnTo>
                  <a:pt x="2482" y="82"/>
                </a:lnTo>
                <a:lnTo>
                  <a:pt x="2489" y="89"/>
                </a:lnTo>
                <a:lnTo>
                  <a:pt x="2496" y="89"/>
                </a:lnTo>
                <a:lnTo>
                  <a:pt x="2502" y="96"/>
                </a:lnTo>
                <a:lnTo>
                  <a:pt x="2502" y="103"/>
                </a:lnTo>
                <a:lnTo>
                  <a:pt x="2502" y="110"/>
                </a:lnTo>
                <a:lnTo>
                  <a:pt x="2502" y="117"/>
                </a:lnTo>
                <a:lnTo>
                  <a:pt x="2502" y="123"/>
                </a:lnTo>
                <a:lnTo>
                  <a:pt x="2502" y="130"/>
                </a:lnTo>
                <a:lnTo>
                  <a:pt x="2502" y="130"/>
                </a:lnTo>
                <a:lnTo>
                  <a:pt x="2509" y="137"/>
                </a:lnTo>
                <a:lnTo>
                  <a:pt x="2509" y="144"/>
                </a:lnTo>
                <a:lnTo>
                  <a:pt x="2509" y="151"/>
                </a:lnTo>
                <a:lnTo>
                  <a:pt x="2509" y="158"/>
                </a:lnTo>
                <a:lnTo>
                  <a:pt x="2509" y="165"/>
                </a:lnTo>
                <a:lnTo>
                  <a:pt x="2509" y="171"/>
                </a:lnTo>
                <a:lnTo>
                  <a:pt x="2516" y="171"/>
                </a:lnTo>
                <a:lnTo>
                  <a:pt x="2523" y="178"/>
                </a:lnTo>
                <a:lnTo>
                  <a:pt x="2530" y="178"/>
                </a:lnTo>
                <a:lnTo>
                  <a:pt x="2537" y="185"/>
                </a:lnTo>
                <a:lnTo>
                  <a:pt x="2537" y="192"/>
                </a:lnTo>
                <a:lnTo>
                  <a:pt x="2544" y="199"/>
                </a:lnTo>
                <a:lnTo>
                  <a:pt x="2550" y="206"/>
                </a:lnTo>
                <a:lnTo>
                  <a:pt x="2550" y="206"/>
                </a:lnTo>
                <a:lnTo>
                  <a:pt x="2557" y="212"/>
                </a:lnTo>
                <a:lnTo>
                  <a:pt x="2571" y="212"/>
                </a:lnTo>
                <a:lnTo>
                  <a:pt x="2578" y="212"/>
                </a:lnTo>
                <a:lnTo>
                  <a:pt x="2585" y="219"/>
                </a:lnTo>
                <a:lnTo>
                  <a:pt x="2592" y="219"/>
                </a:lnTo>
                <a:lnTo>
                  <a:pt x="2592" y="226"/>
                </a:lnTo>
                <a:lnTo>
                  <a:pt x="2598" y="233"/>
                </a:lnTo>
                <a:lnTo>
                  <a:pt x="2598" y="240"/>
                </a:lnTo>
                <a:lnTo>
                  <a:pt x="2612" y="240"/>
                </a:lnTo>
                <a:lnTo>
                  <a:pt x="2619" y="247"/>
                </a:lnTo>
                <a:lnTo>
                  <a:pt x="2626" y="247"/>
                </a:lnTo>
                <a:lnTo>
                  <a:pt x="2633" y="247"/>
                </a:lnTo>
                <a:lnTo>
                  <a:pt x="2640" y="253"/>
                </a:lnTo>
                <a:lnTo>
                  <a:pt x="2646" y="260"/>
                </a:lnTo>
                <a:lnTo>
                  <a:pt x="2646" y="267"/>
                </a:lnTo>
                <a:lnTo>
                  <a:pt x="2653" y="267"/>
                </a:lnTo>
                <a:lnTo>
                  <a:pt x="2660" y="274"/>
                </a:lnTo>
                <a:lnTo>
                  <a:pt x="2667" y="274"/>
                </a:lnTo>
                <a:lnTo>
                  <a:pt x="2674" y="281"/>
                </a:lnTo>
                <a:lnTo>
                  <a:pt x="2681" y="281"/>
                </a:lnTo>
                <a:lnTo>
                  <a:pt x="2688" y="288"/>
                </a:lnTo>
                <a:lnTo>
                  <a:pt x="2694" y="295"/>
                </a:lnTo>
                <a:lnTo>
                  <a:pt x="2688" y="295"/>
                </a:lnTo>
                <a:lnTo>
                  <a:pt x="2681" y="301"/>
                </a:lnTo>
                <a:lnTo>
                  <a:pt x="2681" y="308"/>
                </a:lnTo>
                <a:lnTo>
                  <a:pt x="2674" y="315"/>
                </a:lnTo>
                <a:lnTo>
                  <a:pt x="2674" y="322"/>
                </a:lnTo>
                <a:lnTo>
                  <a:pt x="2667" y="322"/>
                </a:lnTo>
                <a:lnTo>
                  <a:pt x="2660" y="329"/>
                </a:lnTo>
                <a:lnTo>
                  <a:pt x="2653" y="329"/>
                </a:lnTo>
                <a:lnTo>
                  <a:pt x="2646" y="329"/>
                </a:lnTo>
                <a:lnTo>
                  <a:pt x="2633" y="329"/>
                </a:lnTo>
                <a:lnTo>
                  <a:pt x="2626" y="322"/>
                </a:lnTo>
                <a:lnTo>
                  <a:pt x="2619" y="322"/>
                </a:lnTo>
                <a:lnTo>
                  <a:pt x="2605" y="322"/>
                </a:lnTo>
                <a:lnTo>
                  <a:pt x="2598" y="322"/>
                </a:lnTo>
                <a:lnTo>
                  <a:pt x="2592" y="322"/>
                </a:lnTo>
                <a:lnTo>
                  <a:pt x="2585" y="329"/>
                </a:lnTo>
                <a:lnTo>
                  <a:pt x="2571" y="329"/>
                </a:lnTo>
                <a:lnTo>
                  <a:pt x="2564" y="329"/>
                </a:lnTo>
                <a:lnTo>
                  <a:pt x="2557" y="329"/>
                </a:lnTo>
                <a:lnTo>
                  <a:pt x="2550" y="322"/>
                </a:lnTo>
                <a:lnTo>
                  <a:pt x="2544" y="315"/>
                </a:lnTo>
                <a:lnTo>
                  <a:pt x="2537" y="315"/>
                </a:lnTo>
                <a:lnTo>
                  <a:pt x="2523" y="315"/>
                </a:lnTo>
                <a:lnTo>
                  <a:pt x="2516" y="308"/>
                </a:lnTo>
                <a:lnTo>
                  <a:pt x="2509" y="308"/>
                </a:lnTo>
                <a:lnTo>
                  <a:pt x="2496" y="315"/>
                </a:lnTo>
                <a:lnTo>
                  <a:pt x="2489" y="315"/>
                </a:lnTo>
                <a:lnTo>
                  <a:pt x="2482" y="315"/>
                </a:lnTo>
                <a:lnTo>
                  <a:pt x="2468" y="315"/>
                </a:lnTo>
                <a:lnTo>
                  <a:pt x="2461" y="315"/>
                </a:lnTo>
                <a:lnTo>
                  <a:pt x="2454" y="308"/>
                </a:lnTo>
                <a:lnTo>
                  <a:pt x="2448" y="301"/>
                </a:lnTo>
                <a:lnTo>
                  <a:pt x="2448" y="301"/>
                </a:lnTo>
                <a:lnTo>
                  <a:pt x="2441" y="295"/>
                </a:lnTo>
                <a:lnTo>
                  <a:pt x="2434" y="288"/>
                </a:lnTo>
                <a:lnTo>
                  <a:pt x="2427" y="288"/>
                </a:lnTo>
                <a:lnTo>
                  <a:pt x="2420" y="288"/>
                </a:lnTo>
                <a:lnTo>
                  <a:pt x="2406" y="288"/>
                </a:lnTo>
                <a:lnTo>
                  <a:pt x="2400" y="295"/>
                </a:lnTo>
                <a:lnTo>
                  <a:pt x="2406" y="295"/>
                </a:lnTo>
                <a:lnTo>
                  <a:pt x="2413" y="301"/>
                </a:lnTo>
                <a:lnTo>
                  <a:pt x="2420" y="308"/>
                </a:lnTo>
                <a:lnTo>
                  <a:pt x="2420" y="315"/>
                </a:lnTo>
                <a:lnTo>
                  <a:pt x="2427" y="315"/>
                </a:lnTo>
                <a:lnTo>
                  <a:pt x="2427" y="322"/>
                </a:lnTo>
                <a:lnTo>
                  <a:pt x="2434" y="329"/>
                </a:lnTo>
                <a:lnTo>
                  <a:pt x="2441" y="329"/>
                </a:lnTo>
                <a:lnTo>
                  <a:pt x="2448" y="336"/>
                </a:lnTo>
                <a:lnTo>
                  <a:pt x="2454" y="336"/>
                </a:lnTo>
                <a:lnTo>
                  <a:pt x="2461" y="342"/>
                </a:lnTo>
                <a:lnTo>
                  <a:pt x="2468" y="342"/>
                </a:lnTo>
                <a:lnTo>
                  <a:pt x="2475" y="349"/>
                </a:lnTo>
                <a:lnTo>
                  <a:pt x="2475" y="356"/>
                </a:lnTo>
                <a:lnTo>
                  <a:pt x="2482" y="363"/>
                </a:lnTo>
                <a:lnTo>
                  <a:pt x="2489" y="363"/>
                </a:lnTo>
                <a:lnTo>
                  <a:pt x="2489" y="370"/>
                </a:lnTo>
                <a:lnTo>
                  <a:pt x="2496" y="377"/>
                </a:lnTo>
                <a:lnTo>
                  <a:pt x="2502" y="383"/>
                </a:lnTo>
                <a:lnTo>
                  <a:pt x="2502" y="383"/>
                </a:lnTo>
                <a:lnTo>
                  <a:pt x="2509" y="390"/>
                </a:lnTo>
                <a:lnTo>
                  <a:pt x="2509" y="397"/>
                </a:lnTo>
                <a:lnTo>
                  <a:pt x="2516" y="404"/>
                </a:lnTo>
                <a:lnTo>
                  <a:pt x="2523" y="404"/>
                </a:lnTo>
                <a:lnTo>
                  <a:pt x="2523" y="411"/>
                </a:lnTo>
                <a:lnTo>
                  <a:pt x="2523" y="418"/>
                </a:lnTo>
                <a:lnTo>
                  <a:pt x="2516" y="425"/>
                </a:lnTo>
                <a:lnTo>
                  <a:pt x="2509" y="425"/>
                </a:lnTo>
                <a:lnTo>
                  <a:pt x="2496" y="425"/>
                </a:lnTo>
                <a:lnTo>
                  <a:pt x="2489" y="431"/>
                </a:lnTo>
                <a:lnTo>
                  <a:pt x="2482" y="431"/>
                </a:lnTo>
                <a:lnTo>
                  <a:pt x="2482" y="438"/>
                </a:lnTo>
                <a:lnTo>
                  <a:pt x="2475" y="445"/>
                </a:lnTo>
                <a:lnTo>
                  <a:pt x="2475" y="452"/>
                </a:lnTo>
                <a:lnTo>
                  <a:pt x="2468" y="452"/>
                </a:lnTo>
                <a:lnTo>
                  <a:pt x="2468" y="459"/>
                </a:lnTo>
                <a:lnTo>
                  <a:pt x="2468" y="466"/>
                </a:lnTo>
                <a:lnTo>
                  <a:pt x="2468" y="472"/>
                </a:lnTo>
                <a:lnTo>
                  <a:pt x="2468" y="479"/>
                </a:lnTo>
                <a:lnTo>
                  <a:pt x="2461" y="486"/>
                </a:lnTo>
                <a:lnTo>
                  <a:pt x="2461" y="486"/>
                </a:lnTo>
                <a:lnTo>
                  <a:pt x="2454" y="493"/>
                </a:lnTo>
                <a:lnTo>
                  <a:pt x="2448" y="500"/>
                </a:lnTo>
                <a:lnTo>
                  <a:pt x="2448" y="507"/>
                </a:lnTo>
                <a:lnTo>
                  <a:pt x="2441" y="507"/>
                </a:lnTo>
                <a:lnTo>
                  <a:pt x="2434" y="513"/>
                </a:lnTo>
                <a:lnTo>
                  <a:pt x="2427" y="513"/>
                </a:lnTo>
                <a:lnTo>
                  <a:pt x="2420" y="520"/>
                </a:lnTo>
                <a:lnTo>
                  <a:pt x="2406" y="520"/>
                </a:lnTo>
                <a:lnTo>
                  <a:pt x="2400" y="527"/>
                </a:lnTo>
                <a:lnTo>
                  <a:pt x="2393" y="527"/>
                </a:lnTo>
                <a:lnTo>
                  <a:pt x="2386" y="527"/>
                </a:lnTo>
                <a:lnTo>
                  <a:pt x="2372" y="527"/>
                </a:lnTo>
                <a:lnTo>
                  <a:pt x="2365" y="527"/>
                </a:lnTo>
                <a:lnTo>
                  <a:pt x="2358" y="527"/>
                </a:lnTo>
                <a:lnTo>
                  <a:pt x="2352" y="520"/>
                </a:lnTo>
                <a:lnTo>
                  <a:pt x="2345" y="520"/>
                </a:lnTo>
                <a:lnTo>
                  <a:pt x="2338" y="513"/>
                </a:lnTo>
                <a:lnTo>
                  <a:pt x="2331" y="513"/>
                </a:lnTo>
                <a:lnTo>
                  <a:pt x="2324" y="507"/>
                </a:lnTo>
                <a:lnTo>
                  <a:pt x="2310" y="507"/>
                </a:lnTo>
                <a:lnTo>
                  <a:pt x="2304" y="500"/>
                </a:lnTo>
                <a:lnTo>
                  <a:pt x="2297" y="500"/>
                </a:lnTo>
                <a:lnTo>
                  <a:pt x="2290" y="493"/>
                </a:lnTo>
                <a:lnTo>
                  <a:pt x="2283" y="493"/>
                </a:lnTo>
                <a:lnTo>
                  <a:pt x="2276" y="493"/>
                </a:lnTo>
                <a:lnTo>
                  <a:pt x="2269" y="486"/>
                </a:lnTo>
                <a:lnTo>
                  <a:pt x="2262" y="486"/>
                </a:lnTo>
                <a:lnTo>
                  <a:pt x="2249" y="479"/>
                </a:lnTo>
                <a:lnTo>
                  <a:pt x="2242" y="479"/>
                </a:lnTo>
                <a:lnTo>
                  <a:pt x="2235" y="472"/>
                </a:lnTo>
                <a:lnTo>
                  <a:pt x="2228" y="472"/>
                </a:lnTo>
                <a:lnTo>
                  <a:pt x="2221" y="466"/>
                </a:lnTo>
                <a:lnTo>
                  <a:pt x="2221" y="459"/>
                </a:lnTo>
                <a:lnTo>
                  <a:pt x="2214" y="452"/>
                </a:lnTo>
                <a:lnTo>
                  <a:pt x="2208" y="452"/>
                </a:lnTo>
                <a:lnTo>
                  <a:pt x="2201" y="445"/>
                </a:lnTo>
                <a:lnTo>
                  <a:pt x="2194" y="445"/>
                </a:lnTo>
                <a:lnTo>
                  <a:pt x="2187" y="452"/>
                </a:lnTo>
                <a:lnTo>
                  <a:pt x="2173" y="452"/>
                </a:lnTo>
                <a:lnTo>
                  <a:pt x="2166" y="452"/>
                </a:lnTo>
                <a:lnTo>
                  <a:pt x="2160" y="459"/>
                </a:lnTo>
                <a:lnTo>
                  <a:pt x="2153" y="459"/>
                </a:lnTo>
                <a:lnTo>
                  <a:pt x="2139" y="459"/>
                </a:lnTo>
                <a:lnTo>
                  <a:pt x="2132" y="459"/>
                </a:lnTo>
                <a:lnTo>
                  <a:pt x="2125" y="459"/>
                </a:lnTo>
                <a:lnTo>
                  <a:pt x="2112" y="459"/>
                </a:lnTo>
                <a:lnTo>
                  <a:pt x="2105" y="459"/>
                </a:lnTo>
                <a:lnTo>
                  <a:pt x="2098" y="466"/>
                </a:lnTo>
                <a:lnTo>
                  <a:pt x="2091" y="466"/>
                </a:lnTo>
                <a:lnTo>
                  <a:pt x="2077" y="466"/>
                </a:lnTo>
                <a:lnTo>
                  <a:pt x="2070" y="472"/>
                </a:lnTo>
                <a:lnTo>
                  <a:pt x="2064" y="479"/>
                </a:lnTo>
                <a:lnTo>
                  <a:pt x="2064" y="479"/>
                </a:lnTo>
                <a:lnTo>
                  <a:pt x="2057" y="486"/>
                </a:lnTo>
                <a:lnTo>
                  <a:pt x="2050" y="486"/>
                </a:lnTo>
                <a:lnTo>
                  <a:pt x="2043" y="493"/>
                </a:lnTo>
                <a:lnTo>
                  <a:pt x="2036" y="500"/>
                </a:lnTo>
                <a:lnTo>
                  <a:pt x="2029" y="507"/>
                </a:lnTo>
                <a:lnTo>
                  <a:pt x="2029" y="513"/>
                </a:lnTo>
                <a:lnTo>
                  <a:pt x="2029" y="513"/>
                </a:lnTo>
                <a:lnTo>
                  <a:pt x="2022" y="513"/>
                </a:lnTo>
                <a:lnTo>
                  <a:pt x="2016" y="507"/>
                </a:lnTo>
                <a:lnTo>
                  <a:pt x="2016" y="500"/>
                </a:lnTo>
                <a:lnTo>
                  <a:pt x="2016" y="493"/>
                </a:lnTo>
                <a:lnTo>
                  <a:pt x="2016" y="486"/>
                </a:lnTo>
                <a:lnTo>
                  <a:pt x="2022" y="479"/>
                </a:lnTo>
                <a:lnTo>
                  <a:pt x="2022" y="472"/>
                </a:lnTo>
                <a:lnTo>
                  <a:pt x="2029" y="472"/>
                </a:lnTo>
                <a:lnTo>
                  <a:pt x="2029" y="466"/>
                </a:lnTo>
                <a:lnTo>
                  <a:pt x="2022" y="459"/>
                </a:lnTo>
                <a:lnTo>
                  <a:pt x="2009" y="459"/>
                </a:lnTo>
                <a:lnTo>
                  <a:pt x="2002" y="466"/>
                </a:lnTo>
                <a:lnTo>
                  <a:pt x="1995" y="466"/>
                </a:lnTo>
                <a:lnTo>
                  <a:pt x="1988" y="472"/>
                </a:lnTo>
                <a:lnTo>
                  <a:pt x="1988" y="479"/>
                </a:lnTo>
                <a:lnTo>
                  <a:pt x="1988" y="486"/>
                </a:lnTo>
                <a:lnTo>
                  <a:pt x="1988" y="493"/>
                </a:lnTo>
                <a:lnTo>
                  <a:pt x="1988" y="493"/>
                </a:lnTo>
                <a:lnTo>
                  <a:pt x="1981" y="500"/>
                </a:lnTo>
                <a:lnTo>
                  <a:pt x="1981" y="507"/>
                </a:lnTo>
                <a:lnTo>
                  <a:pt x="1981" y="513"/>
                </a:lnTo>
                <a:lnTo>
                  <a:pt x="1981" y="520"/>
                </a:lnTo>
                <a:lnTo>
                  <a:pt x="1981" y="527"/>
                </a:lnTo>
                <a:lnTo>
                  <a:pt x="1974" y="534"/>
                </a:lnTo>
                <a:lnTo>
                  <a:pt x="1974" y="534"/>
                </a:lnTo>
                <a:lnTo>
                  <a:pt x="1974" y="541"/>
                </a:lnTo>
                <a:lnTo>
                  <a:pt x="1974" y="548"/>
                </a:lnTo>
                <a:lnTo>
                  <a:pt x="1968" y="555"/>
                </a:lnTo>
                <a:lnTo>
                  <a:pt x="1968" y="561"/>
                </a:lnTo>
                <a:lnTo>
                  <a:pt x="1968" y="568"/>
                </a:lnTo>
                <a:lnTo>
                  <a:pt x="1961" y="575"/>
                </a:lnTo>
                <a:lnTo>
                  <a:pt x="1961" y="575"/>
                </a:lnTo>
                <a:lnTo>
                  <a:pt x="1961" y="582"/>
                </a:lnTo>
                <a:lnTo>
                  <a:pt x="1961" y="589"/>
                </a:lnTo>
                <a:lnTo>
                  <a:pt x="1954" y="596"/>
                </a:lnTo>
                <a:lnTo>
                  <a:pt x="1954" y="602"/>
                </a:lnTo>
                <a:lnTo>
                  <a:pt x="1954" y="609"/>
                </a:lnTo>
                <a:lnTo>
                  <a:pt x="1947" y="609"/>
                </a:lnTo>
                <a:lnTo>
                  <a:pt x="1947" y="616"/>
                </a:lnTo>
                <a:lnTo>
                  <a:pt x="1947" y="623"/>
                </a:lnTo>
                <a:lnTo>
                  <a:pt x="1947" y="630"/>
                </a:lnTo>
                <a:lnTo>
                  <a:pt x="1940" y="637"/>
                </a:lnTo>
                <a:lnTo>
                  <a:pt x="1940" y="643"/>
                </a:lnTo>
                <a:lnTo>
                  <a:pt x="1940" y="643"/>
                </a:lnTo>
                <a:lnTo>
                  <a:pt x="1933" y="650"/>
                </a:lnTo>
                <a:lnTo>
                  <a:pt x="1926" y="657"/>
                </a:lnTo>
                <a:lnTo>
                  <a:pt x="1926" y="664"/>
                </a:lnTo>
                <a:lnTo>
                  <a:pt x="1920" y="671"/>
                </a:lnTo>
                <a:lnTo>
                  <a:pt x="1920" y="671"/>
                </a:lnTo>
                <a:lnTo>
                  <a:pt x="1920" y="678"/>
                </a:lnTo>
                <a:lnTo>
                  <a:pt x="1926" y="685"/>
                </a:lnTo>
                <a:lnTo>
                  <a:pt x="1926" y="691"/>
                </a:lnTo>
                <a:lnTo>
                  <a:pt x="1926" y="698"/>
                </a:lnTo>
                <a:lnTo>
                  <a:pt x="1926" y="705"/>
                </a:lnTo>
                <a:lnTo>
                  <a:pt x="1920" y="705"/>
                </a:lnTo>
                <a:lnTo>
                  <a:pt x="1913" y="712"/>
                </a:lnTo>
                <a:lnTo>
                  <a:pt x="1899" y="712"/>
                </a:lnTo>
                <a:lnTo>
                  <a:pt x="1892" y="719"/>
                </a:lnTo>
                <a:lnTo>
                  <a:pt x="1885" y="719"/>
                </a:lnTo>
                <a:lnTo>
                  <a:pt x="1879" y="719"/>
                </a:lnTo>
                <a:lnTo>
                  <a:pt x="1865" y="719"/>
                </a:lnTo>
                <a:lnTo>
                  <a:pt x="1858" y="712"/>
                </a:lnTo>
                <a:lnTo>
                  <a:pt x="1851" y="712"/>
                </a:lnTo>
                <a:lnTo>
                  <a:pt x="1837" y="712"/>
                </a:lnTo>
                <a:lnTo>
                  <a:pt x="1831" y="712"/>
                </a:lnTo>
                <a:lnTo>
                  <a:pt x="1824" y="712"/>
                </a:lnTo>
                <a:lnTo>
                  <a:pt x="1810" y="712"/>
                </a:lnTo>
                <a:lnTo>
                  <a:pt x="1803" y="712"/>
                </a:lnTo>
                <a:lnTo>
                  <a:pt x="1796" y="712"/>
                </a:lnTo>
                <a:lnTo>
                  <a:pt x="1783" y="719"/>
                </a:lnTo>
                <a:lnTo>
                  <a:pt x="1776" y="719"/>
                </a:lnTo>
                <a:lnTo>
                  <a:pt x="1769" y="719"/>
                </a:lnTo>
                <a:lnTo>
                  <a:pt x="1762" y="726"/>
                </a:lnTo>
                <a:lnTo>
                  <a:pt x="1762" y="732"/>
                </a:lnTo>
                <a:lnTo>
                  <a:pt x="1755" y="739"/>
                </a:lnTo>
                <a:lnTo>
                  <a:pt x="1748" y="739"/>
                </a:lnTo>
                <a:lnTo>
                  <a:pt x="1748" y="746"/>
                </a:lnTo>
                <a:lnTo>
                  <a:pt x="1741" y="753"/>
                </a:lnTo>
                <a:lnTo>
                  <a:pt x="1741" y="760"/>
                </a:lnTo>
                <a:lnTo>
                  <a:pt x="1735" y="767"/>
                </a:lnTo>
                <a:lnTo>
                  <a:pt x="1735" y="767"/>
                </a:lnTo>
                <a:lnTo>
                  <a:pt x="1728" y="774"/>
                </a:lnTo>
                <a:lnTo>
                  <a:pt x="1728" y="780"/>
                </a:lnTo>
                <a:lnTo>
                  <a:pt x="1721" y="787"/>
                </a:lnTo>
                <a:lnTo>
                  <a:pt x="1721" y="787"/>
                </a:lnTo>
                <a:lnTo>
                  <a:pt x="1714" y="794"/>
                </a:lnTo>
                <a:lnTo>
                  <a:pt x="1707" y="801"/>
                </a:lnTo>
                <a:lnTo>
                  <a:pt x="1707" y="808"/>
                </a:lnTo>
                <a:lnTo>
                  <a:pt x="1700" y="815"/>
                </a:lnTo>
                <a:lnTo>
                  <a:pt x="1700" y="815"/>
                </a:lnTo>
                <a:lnTo>
                  <a:pt x="1693" y="821"/>
                </a:lnTo>
                <a:lnTo>
                  <a:pt x="1693" y="828"/>
                </a:lnTo>
                <a:lnTo>
                  <a:pt x="1687" y="835"/>
                </a:lnTo>
                <a:lnTo>
                  <a:pt x="1687" y="842"/>
                </a:lnTo>
                <a:lnTo>
                  <a:pt x="1680" y="842"/>
                </a:lnTo>
                <a:lnTo>
                  <a:pt x="1680" y="849"/>
                </a:lnTo>
                <a:lnTo>
                  <a:pt x="1673" y="856"/>
                </a:lnTo>
                <a:lnTo>
                  <a:pt x="1673" y="862"/>
                </a:lnTo>
                <a:lnTo>
                  <a:pt x="1673" y="869"/>
                </a:lnTo>
                <a:lnTo>
                  <a:pt x="1673" y="876"/>
                </a:lnTo>
                <a:lnTo>
                  <a:pt x="1673" y="876"/>
                </a:lnTo>
                <a:lnTo>
                  <a:pt x="1673" y="883"/>
                </a:lnTo>
                <a:lnTo>
                  <a:pt x="1666" y="890"/>
                </a:lnTo>
                <a:lnTo>
                  <a:pt x="1666" y="897"/>
                </a:lnTo>
                <a:lnTo>
                  <a:pt x="1659" y="904"/>
                </a:lnTo>
                <a:lnTo>
                  <a:pt x="1652" y="910"/>
                </a:lnTo>
                <a:lnTo>
                  <a:pt x="1652" y="910"/>
                </a:lnTo>
                <a:lnTo>
                  <a:pt x="1645" y="904"/>
                </a:lnTo>
                <a:lnTo>
                  <a:pt x="1639" y="897"/>
                </a:lnTo>
                <a:lnTo>
                  <a:pt x="1632" y="897"/>
                </a:lnTo>
                <a:lnTo>
                  <a:pt x="1632" y="890"/>
                </a:lnTo>
                <a:lnTo>
                  <a:pt x="1632" y="883"/>
                </a:lnTo>
                <a:lnTo>
                  <a:pt x="1632" y="876"/>
                </a:lnTo>
                <a:lnTo>
                  <a:pt x="1632" y="869"/>
                </a:lnTo>
                <a:lnTo>
                  <a:pt x="1632" y="869"/>
                </a:lnTo>
                <a:lnTo>
                  <a:pt x="1625" y="862"/>
                </a:lnTo>
                <a:lnTo>
                  <a:pt x="1625" y="856"/>
                </a:lnTo>
                <a:lnTo>
                  <a:pt x="1625" y="849"/>
                </a:lnTo>
                <a:lnTo>
                  <a:pt x="1625" y="842"/>
                </a:lnTo>
                <a:lnTo>
                  <a:pt x="1625" y="835"/>
                </a:lnTo>
                <a:lnTo>
                  <a:pt x="1618" y="835"/>
                </a:lnTo>
                <a:lnTo>
                  <a:pt x="1618" y="842"/>
                </a:lnTo>
                <a:lnTo>
                  <a:pt x="1618" y="849"/>
                </a:lnTo>
                <a:lnTo>
                  <a:pt x="1618" y="856"/>
                </a:lnTo>
                <a:lnTo>
                  <a:pt x="1618" y="862"/>
                </a:lnTo>
                <a:lnTo>
                  <a:pt x="1618" y="869"/>
                </a:lnTo>
                <a:lnTo>
                  <a:pt x="1618" y="869"/>
                </a:lnTo>
                <a:lnTo>
                  <a:pt x="1618" y="876"/>
                </a:lnTo>
                <a:lnTo>
                  <a:pt x="1618" y="883"/>
                </a:lnTo>
                <a:lnTo>
                  <a:pt x="1618" y="890"/>
                </a:lnTo>
                <a:lnTo>
                  <a:pt x="1618" y="897"/>
                </a:lnTo>
                <a:lnTo>
                  <a:pt x="1618" y="904"/>
                </a:lnTo>
                <a:lnTo>
                  <a:pt x="1618" y="910"/>
                </a:lnTo>
                <a:lnTo>
                  <a:pt x="1618" y="917"/>
                </a:lnTo>
                <a:lnTo>
                  <a:pt x="1618" y="917"/>
                </a:lnTo>
                <a:lnTo>
                  <a:pt x="1618" y="924"/>
                </a:lnTo>
                <a:lnTo>
                  <a:pt x="1618" y="931"/>
                </a:lnTo>
                <a:lnTo>
                  <a:pt x="1611" y="931"/>
                </a:lnTo>
                <a:lnTo>
                  <a:pt x="1597" y="938"/>
                </a:lnTo>
                <a:lnTo>
                  <a:pt x="1591" y="938"/>
                </a:lnTo>
                <a:lnTo>
                  <a:pt x="1584" y="938"/>
                </a:lnTo>
                <a:lnTo>
                  <a:pt x="1570" y="931"/>
                </a:lnTo>
                <a:lnTo>
                  <a:pt x="1563" y="931"/>
                </a:lnTo>
                <a:lnTo>
                  <a:pt x="1556" y="931"/>
                </a:lnTo>
                <a:lnTo>
                  <a:pt x="1549" y="938"/>
                </a:lnTo>
                <a:lnTo>
                  <a:pt x="1536" y="938"/>
                </a:lnTo>
                <a:lnTo>
                  <a:pt x="1529" y="938"/>
                </a:lnTo>
                <a:lnTo>
                  <a:pt x="1522" y="945"/>
                </a:lnTo>
                <a:lnTo>
                  <a:pt x="1515" y="945"/>
                </a:lnTo>
                <a:lnTo>
                  <a:pt x="1508" y="951"/>
                </a:lnTo>
                <a:lnTo>
                  <a:pt x="1501" y="951"/>
                </a:lnTo>
                <a:lnTo>
                  <a:pt x="1495" y="958"/>
                </a:lnTo>
                <a:lnTo>
                  <a:pt x="1488" y="965"/>
                </a:lnTo>
                <a:lnTo>
                  <a:pt x="1488" y="972"/>
                </a:lnTo>
                <a:lnTo>
                  <a:pt x="1481" y="972"/>
                </a:lnTo>
                <a:lnTo>
                  <a:pt x="1481" y="979"/>
                </a:lnTo>
                <a:lnTo>
                  <a:pt x="1481" y="986"/>
                </a:lnTo>
                <a:lnTo>
                  <a:pt x="1474" y="992"/>
                </a:lnTo>
                <a:lnTo>
                  <a:pt x="1474" y="992"/>
                </a:lnTo>
                <a:lnTo>
                  <a:pt x="1460" y="999"/>
                </a:lnTo>
                <a:lnTo>
                  <a:pt x="1453" y="992"/>
                </a:lnTo>
                <a:lnTo>
                  <a:pt x="1440" y="992"/>
                </a:lnTo>
                <a:lnTo>
                  <a:pt x="1433" y="992"/>
                </a:lnTo>
                <a:lnTo>
                  <a:pt x="1426" y="992"/>
                </a:lnTo>
                <a:lnTo>
                  <a:pt x="1419" y="986"/>
                </a:lnTo>
                <a:lnTo>
                  <a:pt x="1412" y="979"/>
                </a:lnTo>
                <a:lnTo>
                  <a:pt x="1405" y="979"/>
                </a:lnTo>
                <a:lnTo>
                  <a:pt x="1405" y="972"/>
                </a:lnTo>
                <a:lnTo>
                  <a:pt x="1399" y="965"/>
                </a:lnTo>
                <a:lnTo>
                  <a:pt x="1392" y="965"/>
                </a:lnTo>
                <a:lnTo>
                  <a:pt x="1385" y="958"/>
                </a:lnTo>
                <a:lnTo>
                  <a:pt x="1378" y="951"/>
                </a:lnTo>
                <a:lnTo>
                  <a:pt x="1371" y="951"/>
                </a:lnTo>
                <a:lnTo>
                  <a:pt x="1371" y="945"/>
                </a:lnTo>
                <a:lnTo>
                  <a:pt x="1364" y="938"/>
                </a:lnTo>
                <a:lnTo>
                  <a:pt x="1357" y="938"/>
                </a:lnTo>
                <a:lnTo>
                  <a:pt x="1351" y="931"/>
                </a:lnTo>
                <a:lnTo>
                  <a:pt x="1344" y="924"/>
                </a:lnTo>
                <a:lnTo>
                  <a:pt x="1337" y="917"/>
                </a:lnTo>
                <a:lnTo>
                  <a:pt x="1330" y="917"/>
                </a:lnTo>
                <a:lnTo>
                  <a:pt x="1330" y="917"/>
                </a:lnTo>
                <a:lnTo>
                  <a:pt x="1330" y="931"/>
                </a:lnTo>
                <a:lnTo>
                  <a:pt x="1330" y="938"/>
                </a:lnTo>
                <a:lnTo>
                  <a:pt x="1323" y="945"/>
                </a:lnTo>
                <a:lnTo>
                  <a:pt x="1323" y="945"/>
                </a:lnTo>
                <a:lnTo>
                  <a:pt x="1330" y="951"/>
                </a:lnTo>
                <a:lnTo>
                  <a:pt x="1330" y="958"/>
                </a:lnTo>
                <a:lnTo>
                  <a:pt x="1337" y="965"/>
                </a:lnTo>
                <a:lnTo>
                  <a:pt x="1337" y="965"/>
                </a:lnTo>
                <a:lnTo>
                  <a:pt x="1344" y="972"/>
                </a:lnTo>
                <a:lnTo>
                  <a:pt x="1344" y="979"/>
                </a:lnTo>
                <a:lnTo>
                  <a:pt x="1351" y="986"/>
                </a:lnTo>
                <a:lnTo>
                  <a:pt x="1351" y="992"/>
                </a:lnTo>
                <a:lnTo>
                  <a:pt x="1357" y="992"/>
                </a:lnTo>
                <a:lnTo>
                  <a:pt x="1357" y="999"/>
                </a:lnTo>
                <a:lnTo>
                  <a:pt x="1364" y="1006"/>
                </a:lnTo>
                <a:lnTo>
                  <a:pt x="1371" y="1013"/>
                </a:lnTo>
                <a:lnTo>
                  <a:pt x="1371" y="1013"/>
                </a:lnTo>
                <a:lnTo>
                  <a:pt x="1378" y="1020"/>
                </a:lnTo>
                <a:lnTo>
                  <a:pt x="1378" y="1027"/>
                </a:lnTo>
                <a:lnTo>
                  <a:pt x="1378" y="1034"/>
                </a:lnTo>
                <a:lnTo>
                  <a:pt x="1378" y="1040"/>
                </a:lnTo>
                <a:lnTo>
                  <a:pt x="1385" y="1047"/>
                </a:lnTo>
                <a:lnTo>
                  <a:pt x="1385" y="1047"/>
                </a:lnTo>
                <a:lnTo>
                  <a:pt x="1392" y="1054"/>
                </a:lnTo>
                <a:lnTo>
                  <a:pt x="1392" y="1061"/>
                </a:lnTo>
                <a:lnTo>
                  <a:pt x="1399" y="1068"/>
                </a:lnTo>
                <a:lnTo>
                  <a:pt x="1399" y="1075"/>
                </a:lnTo>
                <a:lnTo>
                  <a:pt x="1405" y="1075"/>
                </a:lnTo>
                <a:lnTo>
                  <a:pt x="1405" y="1081"/>
                </a:lnTo>
                <a:lnTo>
                  <a:pt x="1412" y="1088"/>
                </a:lnTo>
                <a:lnTo>
                  <a:pt x="1419" y="1095"/>
                </a:lnTo>
                <a:lnTo>
                  <a:pt x="1419" y="1102"/>
                </a:lnTo>
                <a:lnTo>
                  <a:pt x="1426" y="1102"/>
                </a:lnTo>
                <a:lnTo>
                  <a:pt x="1426" y="1109"/>
                </a:lnTo>
                <a:lnTo>
                  <a:pt x="1426" y="1116"/>
                </a:lnTo>
                <a:lnTo>
                  <a:pt x="1426" y="1122"/>
                </a:lnTo>
                <a:lnTo>
                  <a:pt x="1419" y="1129"/>
                </a:lnTo>
                <a:lnTo>
                  <a:pt x="1419" y="1129"/>
                </a:lnTo>
                <a:lnTo>
                  <a:pt x="1412" y="1136"/>
                </a:lnTo>
                <a:lnTo>
                  <a:pt x="1405" y="1143"/>
                </a:lnTo>
                <a:lnTo>
                  <a:pt x="1399" y="1143"/>
                </a:lnTo>
                <a:lnTo>
                  <a:pt x="1392" y="1150"/>
                </a:lnTo>
                <a:lnTo>
                  <a:pt x="1385" y="1157"/>
                </a:lnTo>
                <a:lnTo>
                  <a:pt x="1378" y="1157"/>
                </a:lnTo>
                <a:lnTo>
                  <a:pt x="1371" y="1164"/>
                </a:lnTo>
                <a:lnTo>
                  <a:pt x="1364" y="1164"/>
                </a:lnTo>
                <a:lnTo>
                  <a:pt x="1357" y="1170"/>
                </a:lnTo>
                <a:lnTo>
                  <a:pt x="1351" y="1170"/>
                </a:lnTo>
                <a:lnTo>
                  <a:pt x="1344" y="1170"/>
                </a:lnTo>
                <a:lnTo>
                  <a:pt x="1330" y="1177"/>
                </a:lnTo>
                <a:lnTo>
                  <a:pt x="1323" y="1177"/>
                </a:lnTo>
                <a:lnTo>
                  <a:pt x="1316" y="1177"/>
                </a:lnTo>
                <a:lnTo>
                  <a:pt x="1309" y="1177"/>
                </a:lnTo>
                <a:lnTo>
                  <a:pt x="1296" y="1177"/>
                </a:lnTo>
                <a:lnTo>
                  <a:pt x="1289" y="1177"/>
                </a:lnTo>
                <a:lnTo>
                  <a:pt x="1282" y="1177"/>
                </a:lnTo>
                <a:lnTo>
                  <a:pt x="1268" y="1177"/>
                </a:lnTo>
                <a:lnTo>
                  <a:pt x="1261" y="1177"/>
                </a:lnTo>
                <a:lnTo>
                  <a:pt x="1255" y="1184"/>
                </a:lnTo>
                <a:lnTo>
                  <a:pt x="1248" y="1184"/>
                </a:lnTo>
                <a:lnTo>
                  <a:pt x="1241" y="1191"/>
                </a:lnTo>
                <a:lnTo>
                  <a:pt x="1241" y="1198"/>
                </a:lnTo>
                <a:lnTo>
                  <a:pt x="1241" y="1205"/>
                </a:lnTo>
                <a:lnTo>
                  <a:pt x="1234" y="1205"/>
                </a:lnTo>
                <a:lnTo>
                  <a:pt x="1234" y="1211"/>
                </a:lnTo>
                <a:lnTo>
                  <a:pt x="1234" y="1218"/>
                </a:lnTo>
                <a:lnTo>
                  <a:pt x="1234" y="1225"/>
                </a:lnTo>
                <a:lnTo>
                  <a:pt x="1234" y="1232"/>
                </a:lnTo>
                <a:lnTo>
                  <a:pt x="1227" y="1239"/>
                </a:lnTo>
                <a:lnTo>
                  <a:pt x="1227" y="1239"/>
                </a:lnTo>
                <a:lnTo>
                  <a:pt x="1227" y="1246"/>
                </a:lnTo>
                <a:lnTo>
                  <a:pt x="1220" y="1252"/>
                </a:lnTo>
                <a:lnTo>
                  <a:pt x="1220" y="1259"/>
                </a:lnTo>
                <a:lnTo>
                  <a:pt x="1220" y="1266"/>
                </a:lnTo>
                <a:lnTo>
                  <a:pt x="1213" y="1266"/>
                </a:lnTo>
                <a:lnTo>
                  <a:pt x="1207" y="1259"/>
                </a:lnTo>
                <a:lnTo>
                  <a:pt x="1193" y="1259"/>
                </a:lnTo>
                <a:lnTo>
                  <a:pt x="1186" y="1252"/>
                </a:lnTo>
                <a:lnTo>
                  <a:pt x="1172" y="1252"/>
                </a:lnTo>
                <a:lnTo>
                  <a:pt x="1165" y="1252"/>
                </a:lnTo>
                <a:lnTo>
                  <a:pt x="1159" y="1252"/>
                </a:lnTo>
                <a:lnTo>
                  <a:pt x="1152" y="1259"/>
                </a:lnTo>
                <a:lnTo>
                  <a:pt x="1138" y="1259"/>
                </a:lnTo>
                <a:lnTo>
                  <a:pt x="1131" y="1259"/>
                </a:lnTo>
                <a:lnTo>
                  <a:pt x="1124" y="1259"/>
                </a:lnTo>
                <a:lnTo>
                  <a:pt x="1111" y="1259"/>
                </a:lnTo>
                <a:lnTo>
                  <a:pt x="1104" y="1266"/>
                </a:lnTo>
                <a:lnTo>
                  <a:pt x="1097" y="1266"/>
                </a:lnTo>
                <a:lnTo>
                  <a:pt x="1097" y="1273"/>
                </a:lnTo>
                <a:lnTo>
                  <a:pt x="1097" y="1280"/>
                </a:lnTo>
                <a:lnTo>
                  <a:pt x="1097" y="1287"/>
                </a:lnTo>
                <a:lnTo>
                  <a:pt x="1104" y="1294"/>
                </a:lnTo>
                <a:lnTo>
                  <a:pt x="1104" y="1294"/>
                </a:lnTo>
                <a:lnTo>
                  <a:pt x="1111" y="1300"/>
                </a:lnTo>
                <a:lnTo>
                  <a:pt x="1111" y="1307"/>
                </a:lnTo>
                <a:lnTo>
                  <a:pt x="1111" y="1314"/>
                </a:lnTo>
                <a:lnTo>
                  <a:pt x="1117" y="1321"/>
                </a:lnTo>
                <a:lnTo>
                  <a:pt x="1117" y="1321"/>
                </a:lnTo>
                <a:lnTo>
                  <a:pt x="1124" y="1328"/>
                </a:lnTo>
                <a:lnTo>
                  <a:pt x="1131" y="1335"/>
                </a:lnTo>
                <a:lnTo>
                  <a:pt x="1131" y="1341"/>
                </a:lnTo>
                <a:lnTo>
                  <a:pt x="1124" y="1341"/>
                </a:lnTo>
                <a:lnTo>
                  <a:pt x="1117" y="1335"/>
                </a:lnTo>
                <a:lnTo>
                  <a:pt x="1111" y="1328"/>
                </a:lnTo>
                <a:lnTo>
                  <a:pt x="1111" y="1321"/>
                </a:lnTo>
                <a:lnTo>
                  <a:pt x="1104" y="1321"/>
                </a:lnTo>
                <a:lnTo>
                  <a:pt x="1097" y="1314"/>
                </a:lnTo>
                <a:lnTo>
                  <a:pt x="1090" y="1314"/>
                </a:lnTo>
                <a:lnTo>
                  <a:pt x="1083" y="1307"/>
                </a:lnTo>
                <a:lnTo>
                  <a:pt x="1076" y="1307"/>
                </a:lnTo>
                <a:lnTo>
                  <a:pt x="1070" y="1300"/>
                </a:lnTo>
                <a:lnTo>
                  <a:pt x="1063" y="1294"/>
                </a:lnTo>
                <a:lnTo>
                  <a:pt x="1056" y="1294"/>
                </a:lnTo>
                <a:lnTo>
                  <a:pt x="1049" y="1287"/>
                </a:lnTo>
                <a:lnTo>
                  <a:pt x="1042" y="1287"/>
                </a:lnTo>
                <a:lnTo>
                  <a:pt x="1035" y="1287"/>
                </a:lnTo>
                <a:lnTo>
                  <a:pt x="1022" y="1280"/>
                </a:lnTo>
                <a:lnTo>
                  <a:pt x="1015" y="1280"/>
                </a:lnTo>
                <a:lnTo>
                  <a:pt x="1008" y="1280"/>
                </a:lnTo>
                <a:lnTo>
                  <a:pt x="1001" y="1273"/>
                </a:lnTo>
                <a:lnTo>
                  <a:pt x="987" y="1273"/>
                </a:lnTo>
                <a:lnTo>
                  <a:pt x="980" y="1273"/>
                </a:lnTo>
                <a:lnTo>
                  <a:pt x="974" y="1266"/>
                </a:lnTo>
                <a:lnTo>
                  <a:pt x="967" y="1266"/>
                </a:lnTo>
                <a:lnTo>
                  <a:pt x="953" y="1266"/>
                </a:lnTo>
                <a:lnTo>
                  <a:pt x="946" y="1259"/>
                </a:lnTo>
                <a:lnTo>
                  <a:pt x="939" y="1259"/>
                </a:lnTo>
                <a:lnTo>
                  <a:pt x="932" y="1259"/>
                </a:lnTo>
                <a:lnTo>
                  <a:pt x="919" y="1252"/>
                </a:lnTo>
                <a:lnTo>
                  <a:pt x="912" y="1252"/>
                </a:lnTo>
                <a:lnTo>
                  <a:pt x="905" y="1252"/>
                </a:lnTo>
                <a:lnTo>
                  <a:pt x="898" y="1246"/>
                </a:lnTo>
                <a:lnTo>
                  <a:pt x="891" y="1246"/>
                </a:lnTo>
                <a:lnTo>
                  <a:pt x="878" y="1246"/>
                </a:lnTo>
                <a:lnTo>
                  <a:pt x="871" y="1239"/>
                </a:lnTo>
                <a:lnTo>
                  <a:pt x="864" y="1239"/>
                </a:lnTo>
                <a:lnTo>
                  <a:pt x="857" y="1239"/>
                </a:lnTo>
                <a:lnTo>
                  <a:pt x="843" y="1239"/>
                </a:lnTo>
                <a:lnTo>
                  <a:pt x="836" y="1239"/>
                </a:lnTo>
                <a:lnTo>
                  <a:pt x="830" y="1232"/>
                </a:lnTo>
                <a:lnTo>
                  <a:pt x="816" y="1232"/>
                </a:lnTo>
                <a:lnTo>
                  <a:pt x="809" y="1232"/>
                </a:lnTo>
                <a:lnTo>
                  <a:pt x="802" y="1232"/>
                </a:lnTo>
                <a:lnTo>
                  <a:pt x="788" y="1239"/>
                </a:lnTo>
                <a:lnTo>
                  <a:pt x="782" y="1239"/>
                </a:lnTo>
                <a:lnTo>
                  <a:pt x="782" y="1246"/>
                </a:lnTo>
                <a:lnTo>
                  <a:pt x="775" y="1252"/>
                </a:lnTo>
                <a:lnTo>
                  <a:pt x="768" y="1252"/>
                </a:lnTo>
                <a:lnTo>
                  <a:pt x="768" y="1259"/>
                </a:lnTo>
                <a:lnTo>
                  <a:pt x="761" y="1266"/>
                </a:lnTo>
                <a:lnTo>
                  <a:pt x="761" y="1273"/>
                </a:lnTo>
                <a:lnTo>
                  <a:pt x="754" y="1273"/>
                </a:lnTo>
                <a:lnTo>
                  <a:pt x="754" y="1280"/>
                </a:lnTo>
                <a:lnTo>
                  <a:pt x="754" y="1287"/>
                </a:lnTo>
                <a:lnTo>
                  <a:pt x="754" y="1294"/>
                </a:lnTo>
                <a:lnTo>
                  <a:pt x="747" y="1300"/>
                </a:lnTo>
                <a:lnTo>
                  <a:pt x="747" y="1307"/>
                </a:lnTo>
                <a:lnTo>
                  <a:pt x="747" y="1314"/>
                </a:lnTo>
                <a:lnTo>
                  <a:pt x="747" y="1314"/>
                </a:lnTo>
                <a:lnTo>
                  <a:pt x="747" y="1321"/>
                </a:lnTo>
                <a:lnTo>
                  <a:pt x="747" y="1328"/>
                </a:lnTo>
                <a:lnTo>
                  <a:pt x="747" y="1335"/>
                </a:lnTo>
                <a:lnTo>
                  <a:pt x="747" y="1341"/>
                </a:lnTo>
                <a:lnTo>
                  <a:pt x="740" y="1348"/>
                </a:lnTo>
                <a:lnTo>
                  <a:pt x="740" y="1355"/>
                </a:lnTo>
                <a:lnTo>
                  <a:pt x="740" y="1355"/>
                </a:lnTo>
                <a:lnTo>
                  <a:pt x="740" y="1362"/>
                </a:lnTo>
                <a:lnTo>
                  <a:pt x="740" y="1369"/>
                </a:lnTo>
                <a:lnTo>
                  <a:pt x="740" y="1376"/>
                </a:lnTo>
                <a:lnTo>
                  <a:pt x="740" y="1382"/>
                </a:lnTo>
                <a:lnTo>
                  <a:pt x="740" y="1389"/>
                </a:lnTo>
                <a:lnTo>
                  <a:pt x="734" y="1396"/>
                </a:lnTo>
                <a:lnTo>
                  <a:pt x="734" y="1396"/>
                </a:lnTo>
                <a:lnTo>
                  <a:pt x="734" y="1403"/>
                </a:lnTo>
                <a:lnTo>
                  <a:pt x="734" y="1410"/>
                </a:lnTo>
                <a:lnTo>
                  <a:pt x="734" y="1417"/>
                </a:lnTo>
                <a:lnTo>
                  <a:pt x="734" y="1424"/>
                </a:lnTo>
                <a:lnTo>
                  <a:pt x="734" y="1430"/>
                </a:lnTo>
                <a:lnTo>
                  <a:pt x="734" y="1437"/>
                </a:lnTo>
                <a:lnTo>
                  <a:pt x="727" y="1437"/>
                </a:lnTo>
                <a:lnTo>
                  <a:pt x="727" y="1444"/>
                </a:lnTo>
                <a:lnTo>
                  <a:pt x="727" y="1451"/>
                </a:lnTo>
                <a:lnTo>
                  <a:pt x="727" y="1458"/>
                </a:lnTo>
                <a:lnTo>
                  <a:pt x="727" y="1465"/>
                </a:lnTo>
                <a:lnTo>
                  <a:pt x="727" y="1471"/>
                </a:lnTo>
                <a:lnTo>
                  <a:pt x="727" y="1478"/>
                </a:lnTo>
                <a:lnTo>
                  <a:pt x="727" y="1478"/>
                </a:lnTo>
                <a:lnTo>
                  <a:pt x="727" y="1485"/>
                </a:lnTo>
                <a:lnTo>
                  <a:pt x="754" y="1513"/>
                </a:lnTo>
                <a:lnTo>
                  <a:pt x="782" y="1540"/>
                </a:lnTo>
                <a:lnTo>
                  <a:pt x="809" y="1567"/>
                </a:lnTo>
                <a:lnTo>
                  <a:pt x="843" y="1601"/>
                </a:lnTo>
                <a:lnTo>
                  <a:pt x="871" y="1601"/>
                </a:lnTo>
                <a:lnTo>
                  <a:pt x="898" y="1629"/>
                </a:lnTo>
                <a:lnTo>
                  <a:pt x="926" y="1656"/>
                </a:lnTo>
                <a:lnTo>
                  <a:pt x="953" y="1684"/>
                </a:lnTo>
                <a:lnTo>
                  <a:pt x="987" y="1718"/>
                </a:lnTo>
                <a:lnTo>
                  <a:pt x="1015" y="1745"/>
                </a:lnTo>
                <a:lnTo>
                  <a:pt x="1042" y="1773"/>
                </a:lnTo>
                <a:lnTo>
                  <a:pt x="1070" y="1800"/>
                </a:lnTo>
                <a:lnTo>
                  <a:pt x="1104" y="1800"/>
                </a:lnTo>
                <a:lnTo>
                  <a:pt x="1131" y="1800"/>
                </a:lnTo>
                <a:lnTo>
                  <a:pt x="1159" y="1800"/>
                </a:lnTo>
                <a:lnTo>
                  <a:pt x="1186" y="1800"/>
                </a:lnTo>
                <a:lnTo>
                  <a:pt x="1213" y="1800"/>
                </a:lnTo>
                <a:lnTo>
                  <a:pt x="1248" y="1800"/>
                </a:lnTo>
                <a:lnTo>
                  <a:pt x="1275" y="1800"/>
                </a:lnTo>
                <a:lnTo>
                  <a:pt x="1303" y="1800"/>
                </a:lnTo>
                <a:lnTo>
                  <a:pt x="1330" y="1800"/>
                </a:lnTo>
                <a:lnTo>
                  <a:pt x="1364" y="1800"/>
                </a:lnTo>
                <a:lnTo>
                  <a:pt x="1392" y="1800"/>
                </a:lnTo>
                <a:lnTo>
                  <a:pt x="1419" y="1800"/>
                </a:lnTo>
                <a:lnTo>
                  <a:pt x="1447" y="1800"/>
                </a:lnTo>
                <a:lnTo>
                  <a:pt x="1474" y="1800"/>
                </a:lnTo>
                <a:lnTo>
                  <a:pt x="1508" y="1800"/>
                </a:lnTo>
                <a:lnTo>
                  <a:pt x="1536" y="1800"/>
                </a:lnTo>
                <a:lnTo>
                  <a:pt x="1563" y="1800"/>
                </a:lnTo>
                <a:lnTo>
                  <a:pt x="1591" y="1800"/>
                </a:lnTo>
                <a:lnTo>
                  <a:pt x="1625" y="1800"/>
                </a:lnTo>
                <a:lnTo>
                  <a:pt x="1652" y="1800"/>
                </a:lnTo>
                <a:lnTo>
                  <a:pt x="1680" y="1800"/>
                </a:lnTo>
                <a:lnTo>
                  <a:pt x="1707" y="1800"/>
                </a:lnTo>
                <a:lnTo>
                  <a:pt x="1735" y="1800"/>
                </a:lnTo>
                <a:lnTo>
                  <a:pt x="1769" y="1800"/>
                </a:lnTo>
                <a:lnTo>
                  <a:pt x="1796" y="1800"/>
                </a:lnTo>
                <a:lnTo>
                  <a:pt x="1824" y="1800"/>
                </a:lnTo>
                <a:lnTo>
                  <a:pt x="1851" y="1800"/>
                </a:lnTo>
                <a:lnTo>
                  <a:pt x="1885" y="1800"/>
                </a:lnTo>
                <a:lnTo>
                  <a:pt x="1913" y="1800"/>
                </a:lnTo>
                <a:lnTo>
                  <a:pt x="1940" y="1800"/>
                </a:lnTo>
                <a:lnTo>
                  <a:pt x="1968" y="1800"/>
                </a:lnTo>
                <a:lnTo>
                  <a:pt x="1995" y="1800"/>
                </a:lnTo>
                <a:lnTo>
                  <a:pt x="2029" y="1800"/>
                </a:lnTo>
                <a:lnTo>
                  <a:pt x="2057" y="1800"/>
                </a:lnTo>
                <a:lnTo>
                  <a:pt x="2084" y="1800"/>
                </a:lnTo>
                <a:lnTo>
                  <a:pt x="2112" y="1800"/>
                </a:lnTo>
                <a:lnTo>
                  <a:pt x="2146" y="1800"/>
                </a:lnTo>
                <a:lnTo>
                  <a:pt x="2173" y="1800"/>
                </a:lnTo>
                <a:lnTo>
                  <a:pt x="2201" y="1800"/>
                </a:lnTo>
                <a:lnTo>
                  <a:pt x="2228" y="1800"/>
                </a:lnTo>
                <a:lnTo>
                  <a:pt x="2256" y="1800"/>
                </a:lnTo>
                <a:lnTo>
                  <a:pt x="2290" y="1800"/>
                </a:lnTo>
                <a:lnTo>
                  <a:pt x="2317" y="1800"/>
                </a:lnTo>
                <a:lnTo>
                  <a:pt x="2345" y="1800"/>
                </a:lnTo>
                <a:lnTo>
                  <a:pt x="2372" y="1800"/>
                </a:lnTo>
                <a:lnTo>
                  <a:pt x="2400" y="1800"/>
                </a:lnTo>
                <a:lnTo>
                  <a:pt x="2434" y="1800"/>
                </a:lnTo>
                <a:close/>
                <a:moveTo>
                  <a:pt x="1303" y="1252"/>
                </a:moveTo>
                <a:lnTo>
                  <a:pt x="1296" y="1246"/>
                </a:lnTo>
                <a:lnTo>
                  <a:pt x="1289" y="1239"/>
                </a:lnTo>
                <a:lnTo>
                  <a:pt x="1289" y="1232"/>
                </a:lnTo>
                <a:lnTo>
                  <a:pt x="1289" y="1232"/>
                </a:lnTo>
                <a:lnTo>
                  <a:pt x="1289" y="1225"/>
                </a:lnTo>
                <a:lnTo>
                  <a:pt x="1289" y="1218"/>
                </a:lnTo>
                <a:lnTo>
                  <a:pt x="1296" y="1211"/>
                </a:lnTo>
                <a:lnTo>
                  <a:pt x="1303" y="1205"/>
                </a:lnTo>
                <a:lnTo>
                  <a:pt x="1303" y="1205"/>
                </a:lnTo>
                <a:lnTo>
                  <a:pt x="1309" y="1205"/>
                </a:lnTo>
                <a:lnTo>
                  <a:pt x="1316" y="1211"/>
                </a:lnTo>
                <a:lnTo>
                  <a:pt x="1323" y="1218"/>
                </a:lnTo>
                <a:lnTo>
                  <a:pt x="1323" y="1225"/>
                </a:lnTo>
                <a:lnTo>
                  <a:pt x="1323" y="1232"/>
                </a:lnTo>
                <a:lnTo>
                  <a:pt x="1323" y="1232"/>
                </a:lnTo>
                <a:lnTo>
                  <a:pt x="1323" y="1239"/>
                </a:lnTo>
                <a:lnTo>
                  <a:pt x="1316" y="1246"/>
                </a:lnTo>
                <a:lnTo>
                  <a:pt x="1309" y="1252"/>
                </a:lnTo>
                <a:lnTo>
                  <a:pt x="1303" y="1252"/>
                </a:lnTo>
                <a:lnTo>
                  <a:pt x="1303" y="1252"/>
                </a:lnTo>
                <a:close/>
                <a:moveTo>
                  <a:pt x="1995" y="931"/>
                </a:moveTo>
                <a:lnTo>
                  <a:pt x="1995" y="924"/>
                </a:lnTo>
                <a:lnTo>
                  <a:pt x="2002" y="917"/>
                </a:lnTo>
                <a:lnTo>
                  <a:pt x="2002" y="910"/>
                </a:lnTo>
                <a:lnTo>
                  <a:pt x="2009" y="910"/>
                </a:lnTo>
                <a:lnTo>
                  <a:pt x="2009" y="904"/>
                </a:lnTo>
                <a:lnTo>
                  <a:pt x="2016" y="897"/>
                </a:lnTo>
                <a:lnTo>
                  <a:pt x="2016" y="890"/>
                </a:lnTo>
                <a:lnTo>
                  <a:pt x="2022" y="883"/>
                </a:lnTo>
                <a:lnTo>
                  <a:pt x="2029" y="876"/>
                </a:lnTo>
                <a:lnTo>
                  <a:pt x="2029" y="876"/>
                </a:lnTo>
                <a:lnTo>
                  <a:pt x="2036" y="869"/>
                </a:lnTo>
                <a:lnTo>
                  <a:pt x="2036" y="862"/>
                </a:lnTo>
                <a:lnTo>
                  <a:pt x="2036" y="856"/>
                </a:lnTo>
                <a:lnTo>
                  <a:pt x="2029" y="849"/>
                </a:lnTo>
                <a:lnTo>
                  <a:pt x="2022" y="842"/>
                </a:lnTo>
                <a:lnTo>
                  <a:pt x="2036" y="842"/>
                </a:lnTo>
                <a:lnTo>
                  <a:pt x="2043" y="835"/>
                </a:lnTo>
                <a:lnTo>
                  <a:pt x="2043" y="828"/>
                </a:lnTo>
                <a:lnTo>
                  <a:pt x="2043" y="821"/>
                </a:lnTo>
                <a:lnTo>
                  <a:pt x="2050" y="815"/>
                </a:lnTo>
                <a:lnTo>
                  <a:pt x="2057" y="815"/>
                </a:lnTo>
                <a:lnTo>
                  <a:pt x="2064" y="808"/>
                </a:lnTo>
                <a:lnTo>
                  <a:pt x="2070" y="801"/>
                </a:lnTo>
                <a:lnTo>
                  <a:pt x="2077" y="794"/>
                </a:lnTo>
                <a:lnTo>
                  <a:pt x="2077" y="794"/>
                </a:lnTo>
                <a:lnTo>
                  <a:pt x="2084" y="787"/>
                </a:lnTo>
                <a:lnTo>
                  <a:pt x="2084" y="780"/>
                </a:lnTo>
                <a:lnTo>
                  <a:pt x="2084" y="774"/>
                </a:lnTo>
                <a:lnTo>
                  <a:pt x="2077" y="767"/>
                </a:lnTo>
                <a:lnTo>
                  <a:pt x="2077" y="760"/>
                </a:lnTo>
                <a:lnTo>
                  <a:pt x="2077" y="753"/>
                </a:lnTo>
                <a:lnTo>
                  <a:pt x="2084" y="746"/>
                </a:lnTo>
                <a:lnTo>
                  <a:pt x="2084" y="739"/>
                </a:lnTo>
                <a:lnTo>
                  <a:pt x="2084" y="732"/>
                </a:lnTo>
                <a:lnTo>
                  <a:pt x="2091" y="732"/>
                </a:lnTo>
                <a:lnTo>
                  <a:pt x="2091" y="726"/>
                </a:lnTo>
                <a:lnTo>
                  <a:pt x="2098" y="719"/>
                </a:lnTo>
                <a:lnTo>
                  <a:pt x="2098" y="712"/>
                </a:lnTo>
                <a:lnTo>
                  <a:pt x="2098" y="705"/>
                </a:lnTo>
                <a:lnTo>
                  <a:pt x="2105" y="698"/>
                </a:lnTo>
                <a:lnTo>
                  <a:pt x="2105" y="691"/>
                </a:lnTo>
                <a:lnTo>
                  <a:pt x="2105" y="685"/>
                </a:lnTo>
                <a:lnTo>
                  <a:pt x="2105" y="678"/>
                </a:lnTo>
                <a:lnTo>
                  <a:pt x="2112" y="671"/>
                </a:lnTo>
                <a:lnTo>
                  <a:pt x="2118" y="671"/>
                </a:lnTo>
                <a:lnTo>
                  <a:pt x="2125" y="664"/>
                </a:lnTo>
                <a:lnTo>
                  <a:pt x="2125" y="657"/>
                </a:lnTo>
                <a:lnTo>
                  <a:pt x="2132" y="650"/>
                </a:lnTo>
                <a:lnTo>
                  <a:pt x="2139" y="650"/>
                </a:lnTo>
                <a:lnTo>
                  <a:pt x="2139" y="643"/>
                </a:lnTo>
                <a:lnTo>
                  <a:pt x="2139" y="637"/>
                </a:lnTo>
                <a:lnTo>
                  <a:pt x="2139" y="630"/>
                </a:lnTo>
                <a:lnTo>
                  <a:pt x="2139" y="623"/>
                </a:lnTo>
                <a:lnTo>
                  <a:pt x="2139" y="616"/>
                </a:lnTo>
                <a:lnTo>
                  <a:pt x="2139" y="609"/>
                </a:lnTo>
                <a:lnTo>
                  <a:pt x="2139" y="602"/>
                </a:lnTo>
                <a:lnTo>
                  <a:pt x="2146" y="596"/>
                </a:lnTo>
                <a:lnTo>
                  <a:pt x="2146" y="596"/>
                </a:lnTo>
                <a:lnTo>
                  <a:pt x="2153" y="589"/>
                </a:lnTo>
                <a:lnTo>
                  <a:pt x="2153" y="582"/>
                </a:lnTo>
                <a:lnTo>
                  <a:pt x="2160" y="575"/>
                </a:lnTo>
                <a:lnTo>
                  <a:pt x="2160" y="568"/>
                </a:lnTo>
                <a:lnTo>
                  <a:pt x="2160" y="561"/>
                </a:lnTo>
                <a:lnTo>
                  <a:pt x="2160" y="555"/>
                </a:lnTo>
                <a:lnTo>
                  <a:pt x="2160" y="548"/>
                </a:lnTo>
                <a:lnTo>
                  <a:pt x="2160" y="541"/>
                </a:lnTo>
                <a:lnTo>
                  <a:pt x="2153" y="534"/>
                </a:lnTo>
                <a:lnTo>
                  <a:pt x="2160" y="534"/>
                </a:lnTo>
                <a:lnTo>
                  <a:pt x="2160" y="527"/>
                </a:lnTo>
                <a:lnTo>
                  <a:pt x="2166" y="520"/>
                </a:lnTo>
                <a:lnTo>
                  <a:pt x="2166" y="513"/>
                </a:lnTo>
                <a:lnTo>
                  <a:pt x="2180" y="513"/>
                </a:lnTo>
                <a:lnTo>
                  <a:pt x="2187" y="513"/>
                </a:lnTo>
                <a:lnTo>
                  <a:pt x="2194" y="520"/>
                </a:lnTo>
                <a:lnTo>
                  <a:pt x="2208" y="520"/>
                </a:lnTo>
                <a:lnTo>
                  <a:pt x="2208" y="527"/>
                </a:lnTo>
                <a:lnTo>
                  <a:pt x="2214" y="534"/>
                </a:lnTo>
                <a:lnTo>
                  <a:pt x="2221" y="541"/>
                </a:lnTo>
                <a:lnTo>
                  <a:pt x="2228" y="541"/>
                </a:lnTo>
                <a:lnTo>
                  <a:pt x="2242" y="541"/>
                </a:lnTo>
                <a:lnTo>
                  <a:pt x="2249" y="548"/>
                </a:lnTo>
                <a:lnTo>
                  <a:pt x="2256" y="548"/>
                </a:lnTo>
                <a:lnTo>
                  <a:pt x="2262" y="555"/>
                </a:lnTo>
                <a:lnTo>
                  <a:pt x="2269" y="555"/>
                </a:lnTo>
                <a:lnTo>
                  <a:pt x="2269" y="561"/>
                </a:lnTo>
                <a:lnTo>
                  <a:pt x="2276" y="568"/>
                </a:lnTo>
                <a:lnTo>
                  <a:pt x="2276" y="575"/>
                </a:lnTo>
                <a:lnTo>
                  <a:pt x="2290" y="582"/>
                </a:lnTo>
                <a:lnTo>
                  <a:pt x="2297" y="582"/>
                </a:lnTo>
                <a:lnTo>
                  <a:pt x="2304" y="582"/>
                </a:lnTo>
                <a:lnTo>
                  <a:pt x="2297" y="589"/>
                </a:lnTo>
                <a:lnTo>
                  <a:pt x="2283" y="596"/>
                </a:lnTo>
                <a:lnTo>
                  <a:pt x="2276" y="602"/>
                </a:lnTo>
                <a:lnTo>
                  <a:pt x="2276" y="602"/>
                </a:lnTo>
                <a:lnTo>
                  <a:pt x="2269" y="609"/>
                </a:lnTo>
                <a:lnTo>
                  <a:pt x="2262" y="616"/>
                </a:lnTo>
                <a:lnTo>
                  <a:pt x="2256" y="623"/>
                </a:lnTo>
                <a:lnTo>
                  <a:pt x="2249" y="623"/>
                </a:lnTo>
                <a:lnTo>
                  <a:pt x="2249" y="630"/>
                </a:lnTo>
                <a:lnTo>
                  <a:pt x="2242" y="637"/>
                </a:lnTo>
                <a:lnTo>
                  <a:pt x="2235" y="637"/>
                </a:lnTo>
                <a:lnTo>
                  <a:pt x="2228" y="643"/>
                </a:lnTo>
                <a:lnTo>
                  <a:pt x="2228" y="650"/>
                </a:lnTo>
                <a:lnTo>
                  <a:pt x="2221" y="657"/>
                </a:lnTo>
                <a:lnTo>
                  <a:pt x="2221" y="664"/>
                </a:lnTo>
                <a:lnTo>
                  <a:pt x="2221" y="671"/>
                </a:lnTo>
                <a:lnTo>
                  <a:pt x="2228" y="678"/>
                </a:lnTo>
                <a:lnTo>
                  <a:pt x="2228" y="685"/>
                </a:lnTo>
                <a:lnTo>
                  <a:pt x="2228" y="691"/>
                </a:lnTo>
                <a:lnTo>
                  <a:pt x="2228" y="691"/>
                </a:lnTo>
                <a:lnTo>
                  <a:pt x="2235" y="698"/>
                </a:lnTo>
                <a:lnTo>
                  <a:pt x="2235" y="705"/>
                </a:lnTo>
                <a:lnTo>
                  <a:pt x="2235" y="712"/>
                </a:lnTo>
                <a:lnTo>
                  <a:pt x="2235" y="719"/>
                </a:lnTo>
                <a:lnTo>
                  <a:pt x="2235" y="726"/>
                </a:lnTo>
                <a:lnTo>
                  <a:pt x="2235" y="732"/>
                </a:lnTo>
                <a:lnTo>
                  <a:pt x="2235" y="739"/>
                </a:lnTo>
                <a:lnTo>
                  <a:pt x="2235" y="746"/>
                </a:lnTo>
                <a:lnTo>
                  <a:pt x="2235" y="753"/>
                </a:lnTo>
                <a:lnTo>
                  <a:pt x="2235" y="760"/>
                </a:lnTo>
                <a:lnTo>
                  <a:pt x="2242" y="760"/>
                </a:lnTo>
                <a:lnTo>
                  <a:pt x="2242" y="767"/>
                </a:lnTo>
                <a:lnTo>
                  <a:pt x="2242" y="774"/>
                </a:lnTo>
                <a:lnTo>
                  <a:pt x="2249" y="780"/>
                </a:lnTo>
                <a:lnTo>
                  <a:pt x="2242" y="787"/>
                </a:lnTo>
                <a:lnTo>
                  <a:pt x="2242" y="794"/>
                </a:lnTo>
                <a:lnTo>
                  <a:pt x="2242" y="801"/>
                </a:lnTo>
                <a:lnTo>
                  <a:pt x="2235" y="808"/>
                </a:lnTo>
                <a:lnTo>
                  <a:pt x="2235" y="815"/>
                </a:lnTo>
                <a:lnTo>
                  <a:pt x="2235" y="821"/>
                </a:lnTo>
                <a:lnTo>
                  <a:pt x="2235" y="828"/>
                </a:lnTo>
                <a:lnTo>
                  <a:pt x="2235" y="828"/>
                </a:lnTo>
                <a:lnTo>
                  <a:pt x="2235" y="835"/>
                </a:lnTo>
                <a:lnTo>
                  <a:pt x="2235" y="842"/>
                </a:lnTo>
                <a:lnTo>
                  <a:pt x="2228" y="849"/>
                </a:lnTo>
                <a:lnTo>
                  <a:pt x="2221" y="856"/>
                </a:lnTo>
                <a:lnTo>
                  <a:pt x="2221" y="862"/>
                </a:lnTo>
                <a:lnTo>
                  <a:pt x="2221" y="869"/>
                </a:lnTo>
                <a:lnTo>
                  <a:pt x="2214" y="869"/>
                </a:lnTo>
                <a:lnTo>
                  <a:pt x="2214" y="876"/>
                </a:lnTo>
                <a:lnTo>
                  <a:pt x="2214" y="883"/>
                </a:lnTo>
                <a:lnTo>
                  <a:pt x="2214" y="890"/>
                </a:lnTo>
                <a:lnTo>
                  <a:pt x="2214" y="897"/>
                </a:lnTo>
                <a:lnTo>
                  <a:pt x="2214" y="904"/>
                </a:lnTo>
                <a:lnTo>
                  <a:pt x="2214" y="910"/>
                </a:lnTo>
                <a:lnTo>
                  <a:pt x="2214" y="917"/>
                </a:lnTo>
                <a:lnTo>
                  <a:pt x="2208" y="924"/>
                </a:lnTo>
                <a:lnTo>
                  <a:pt x="2201" y="924"/>
                </a:lnTo>
                <a:lnTo>
                  <a:pt x="2194" y="931"/>
                </a:lnTo>
                <a:lnTo>
                  <a:pt x="2180" y="931"/>
                </a:lnTo>
                <a:lnTo>
                  <a:pt x="2173" y="931"/>
                </a:lnTo>
                <a:lnTo>
                  <a:pt x="2160" y="931"/>
                </a:lnTo>
                <a:lnTo>
                  <a:pt x="2153" y="931"/>
                </a:lnTo>
                <a:lnTo>
                  <a:pt x="2146" y="931"/>
                </a:lnTo>
                <a:lnTo>
                  <a:pt x="2132" y="931"/>
                </a:lnTo>
                <a:lnTo>
                  <a:pt x="2125" y="931"/>
                </a:lnTo>
                <a:lnTo>
                  <a:pt x="2112" y="931"/>
                </a:lnTo>
                <a:lnTo>
                  <a:pt x="2105" y="931"/>
                </a:lnTo>
                <a:lnTo>
                  <a:pt x="2098" y="931"/>
                </a:lnTo>
                <a:lnTo>
                  <a:pt x="2084" y="931"/>
                </a:lnTo>
                <a:lnTo>
                  <a:pt x="2077" y="931"/>
                </a:lnTo>
                <a:lnTo>
                  <a:pt x="2064" y="931"/>
                </a:lnTo>
                <a:lnTo>
                  <a:pt x="2057" y="931"/>
                </a:lnTo>
                <a:lnTo>
                  <a:pt x="2050" y="931"/>
                </a:lnTo>
                <a:lnTo>
                  <a:pt x="2036" y="931"/>
                </a:lnTo>
                <a:lnTo>
                  <a:pt x="2029" y="938"/>
                </a:lnTo>
                <a:lnTo>
                  <a:pt x="2016" y="938"/>
                </a:lnTo>
                <a:lnTo>
                  <a:pt x="2009" y="938"/>
                </a:lnTo>
                <a:lnTo>
                  <a:pt x="2002" y="938"/>
                </a:lnTo>
                <a:lnTo>
                  <a:pt x="1995" y="931"/>
                </a:lnTo>
                <a:close/>
                <a:moveTo>
                  <a:pt x="1309" y="904"/>
                </a:moveTo>
                <a:lnTo>
                  <a:pt x="1309" y="897"/>
                </a:lnTo>
                <a:lnTo>
                  <a:pt x="1309" y="890"/>
                </a:lnTo>
                <a:lnTo>
                  <a:pt x="1309" y="883"/>
                </a:lnTo>
                <a:lnTo>
                  <a:pt x="1309" y="876"/>
                </a:lnTo>
                <a:lnTo>
                  <a:pt x="1309" y="869"/>
                </a:lnTo>
                <a:lnTo>
                  <a:pt x="1316" y="869"/>
                </a:lnTo>
                <a:lnTo>
                  <a:pt x="1316" y="862"/>
                </a:lnTo>
                <a:lnTo>
                  <a:pt x="1316" y="856"/>
                </a:lnTo>
                <a:lnTo>
                  <a:pt x="1316" y="849"/>
                </a:lnTo>
                <a:lnTo>
                  <a:pt x="1316" y="842"/>
                </a:lnTo>
                <a:lnTo>
                  <a:pt x="1309" y="835"/>
                </a:lnTo>
                <a:lnTo>
                  <a:pt x="1303" y="835"/>
                </a:lnTo>
                <a:lnTo>
                  <a:pt x="1303" y="835"/>
                </a:lnTo>
                <a:lnTo>
                  <a:pt x="1296" y="842"/>
                </a:lnTo>
                <a:lnTo>
                  <a:pt x="1289" y="849"/>
                </a:lnTo>
                <a:lnTo>
                  <a:pt x="1289" y="856"/>
                </a:lnTo>
                <a:lnTo>
                  <a:pt x="1282" y="862"/>
                </a:lnTo>
                <a:lnTo>
                  <a:pt x="1282" y="869"/>
                </a:lnTo>
                <a:lnTo>
                  <a:pt x="1282" y="869"/>
                </a:lnTo>
                <a:lnTo>
                  <a:pt x="1282" y="876"/>
                </a:lnTo>
                <a:lnTo>
                  <a:pt x="1282" y="883"/>
                </a:lnTo>
                <a:lnTo>
                  <a:pt x="1289" y="890"/>
                </a:lnTo>
                <a:lnTo>
                  <a:pt x="1296" y="890"/>
                </a:lnTo>
                <a:lnTo>
                  <a:pt x="1303" y="897"/>
                </a:lnTo>
                <a:lnTo>
                  <a:pt x="1303" y="904"/>
                </a:lnTo>
                <a:lnTo>
                  <a:pt x="1309" y="904"/>
                </a:lnTo>
                <a:close/>
                <a:moveTo>
                  <a:pt x="1879" y="904"/>
                </a:moveTo>
                <a:lnTo>
                  <a:pt x="1885" y="904"/>
                </a:lnTo>
                <a:lnTo>
                  <a:pt x="1892" y="897"/>
                </a:lnTo>
                <a:lnTo>
                  <a:pt x="1899" y="897"/>
                </a:lnTo>
                <a:lnTo>
                  <a:pt x="1906" y="897"/>
                </a:lnTo>
                <a:lnTo>
                  <a:pt x="1913" y="897"/>
                </a:lnTo>
                <a:lnTo>
                  <a:pt x="1926" y="897"/>
                </a:lnTo>
                <a:lnTo>
                  <a:pt x="1933" y="897"/>
                </a:lnTo>
                <a:lnTo>
                  <a:pt x="1940" y="890"/>
                </a:lnTo>
                <a:lnTo>
                  <a:pt x="1940" y="890"/>
                </a:lnTo>
                <a:lnTo>
                  <a:pt x="1947" y="890"/>
                </a:lnTo>
                <a:lnTo>
                  <a:pt x="1954" y="883"/>
                </a:lnTo>
                <a:lnTo>
                  <a:pt x="1954" y="883"/>
                </a:lnTo>
                <a:lnTo>
                  <a:pt x="1961" y="876"/>
                </a:lnTo>
                <a:lnTo>
                  <a:pt x="1968" y="869"/>
                </a:lnTo>
                <a:lnTo>
                  <a:pt x="1968" y="869"/>
                </a:lnTo>
                <a:lnTo>
                  <a:pt x="1974" y="869"/>
                </a:lnTo>
                <a:lnTo>
                  <a:pt x="1988" y="869"/>
                </a:lnTo>
                <a:lnTo>
                  <a:pt x="1988" y="869"/>
                </a:lnTo>
                <a:lnTo>
                  <a:pt x="1988" y="876"/>
                </a:lnTo>
                <a:lnTo>
                  <a:pt x="1981" y="876"/>
                </a:lnTo>
                <a:lnTo>
                  <a:pt x="1974" y="883"/>
                </a:lnTo>
                <a:lnTo>
                  <a:pt x="1968" y="883"/>
                </a:lnTo>
                <a:lnTo>
                  <a:pt x="1968" y="890"/>
                </a:lnTo>
                <a:lnTo>
                  <a:pt x="1961" y="890"/>
                </a:lnTo>
                <a:lnTo>
                  <a:pt x="1961" y="897"/>
                </a:lnTo>
                <a:lnTo>
                  <a:pt x="1961" y="904"/>
                </a:lnTo>
                <a:lnTo>
                  <a:pt x="1954" y="904"/>
                </a:lnTo>
                <a:lnTo>
                  <a:pt x="1947" y="910"/>
                </a:lnTo>
                <a:lnTo>
                  <a:pt x="1940" y="910"/>
                </a:lnTo>
                <a:lnTo>
                  <a:pt x="1933" y="910"/>
                </a:lnTo>
                <a:lnTo>
                  <a:pt x="1926" y="910"/>
                </a:lnTo>
                <a:lnTo>
                  <a:pt x="1920" y="910"/>
                </a:lnTo>
                <a:lnTo>
                  <a:pt x="1913" y="910"/>
                </a:lnTo>
                <a:lnTo>
                  <a:pt x="1906" y="910"/>
                </a:lnTo>
                <a:lnTo>
                  <a:pt x="1899" y="904"/>
                </a:lnTo>
                <a:lnTo>
                  <a:pt x="1892" y="904"/>
                </a:lnTo>
                <a:lnTo>
                  <a:pt x="1885" y="904"/>
                </a:lnTo>
                <a:lnTo>
                  <a:pt x="1879" y="904"/>
                </a:lnTo>
                <a:close/>
                <a:moveTo>
                  <a:pt x="439" y="876"/>
                </a:moveTo>
                <a:lnTo>
                  <a:pt x="446" y="869"/>
                </a:lnTo>
                <a:lnTo>
                  <a:pt x="452" y="862"/>
                </a:lnTo>
                <a:lnTo>
                  <a:pt x="452" y="856"/>
                </a:lnTo>
                <a:lnTo>
                  <a:pt x="459" y="856"/>
                </a:lnTo>
                <a:lnTo>
                  <a:pt x="452" y="849"/>
                </a:lnTo>
                <a:lnTo>
                  <a:pt x="452" y="842"/>
                </a:lnTo>
                <a:lnTo>
                  <a:pt x="446" y="835"/>
                </a:lnTo>
                <a:lnTo>
                  <a:pt x="439" y="835"/>
                </a:lnTo>
                <a:lnTo>
                  <a:pt x="432" y="835"/>
                </a:lnTo>
                <a:lnTo>
                  <a:pt x="425" y="835"/>
                </a:lnTo>
                <a:lnTo>
                  <a:pt x="418" y="835"/>
                </a:lnTo>
                <a:lnTo>
                  <a:pt x="418" y="842"/>
                </a:lnTo>
                <a:lnTo>
                  <a:pt x="411" y="849"/>
                </a:lnTo>
                <a:lnTo>
                  <a:pt x="411" y="856"/>
                </a:lnTo>
                <a:lnTo>
                  <a:pt x="418" y="856"/>
                </a:lnTo>
                <a:lnTo>
                  <a:pt x="418" y="862"/>
                </a:lnTo>
                <a:lnTo>
                  <a:pt x="425" y="869"/>
                </a:lnTo>
                <a:lnTo>
                  <a:pt x="432" y="869"/>
                </a:lnTo>
                <a:lnTo>
                  <a:pt x="432" y="876"/>
                </a:lnTo>
                <a:lnTo>
                  <a:pt x="439" y="876"/>
                </a:lnTo>
                <a:close/>
                <a:moveTo>
                  <a:pt x="2057" y="842"/>
                </a:moveTo>
                <a:lnTo>
                  <a:pt x="2057" y="835"/>
                </a:lnTo>
                <a:lnTo>
                  <a:pt x="2057" y="835"/>
                </a:lnTo>
                <a:lnTo>
                  <a:pt x="2057" y="828"/>
                </a:lnTo>
                <a:lnTo>
                  <a:pt x="2057" y="828"/>
                </a:lnTo>
                <a:lnTo>
                  <a:pt x="2050" y="828"/>
                </a:lnTo>
                <a:lnTo>
                  <a:pt x="2043" y="835"/>
                </a:lnTo>
                <a:lnTo>
                  <a:pt x="2036" y="835"/>
                </a:lnTo>
                <a:lnTo>
                  <a:pt x="2036" y="842"/>
                </a:lnTo>
                <a:lnTo>
                  <a:pt x="2029" y="842"/>
                </a:lnTo>
                <a:lnTo>
                  <a:pt x="2036" y="849"/>
                </a:lnTo>
                <a:lnTo>
                  <a:pt x="2043" y="849"/>
                </a:lnTo>
                <a:lnTo>
                  <a:pt x="2050" y="849"/>
                </a:lnTo>
                <a:lnTo>
                  <a:pt x="2057" y="849"/>
                </a:lnTo>
                <a:lnTo>
                  <a:pt x="2057" y="842"/>
                </a:lnTo>
                <a:close/>
                <a:moveTo>
                  <a:pt x="1536" y="815"/>
                </a:moveTo>
                <a:lnTo>
                  <a:pt x="1536" y="801"/>
                </a:lnTo>
                <a:lnTo>
                  <a:pt x="1536" y="794"/>
                </a:lnTo>
                <a:lnTo>
                  <a:pt x="1536" y="794"/>
                </a:lnTo>
                <a:lnTo>
                  <a:pt x="1536" y="794"/>
                </a:lnTo>
                <a:lnTo>
                  <a:pt x="1536" y="794"/>
                </a:lnTo>
                <a:lnTo>
                  <a:pt x="1536" y="801"/>
                </a:lnTo>
                <a:lnTo>
                  <a:pt x="1529" y="815"/>
                </a:lnTo>
                <a:lnTo>
                  <a:pt x="1536" y="821"/>
                </a:lnTo>
                <a:lnTo>
                  <a:pt x="1536" y="828"/>
                </a:lnTo>
                <a:lnTo>
                  <a:pt x="1536" y="835"/>
                </a:lnTo>
                <a:lnTo>
                  <a:pt x="1536" y="835"/>
                </a:lnTo>
                <a:lnTo>
                  <a:pt x="1536" y="835"/>
                </a:lnTo>
                <a:lnTo>
                  <a:pt x="1536" y="828"/>
                </a:lnTo>
                <a:lnTo>
                  <a:pt x="1536" y="815"/>
                </a:lnTo>
                <a:close/>
                <a:moveTo>
                  <a:pt x="1659" y="815"/>
                </a:moveTo>
                <a:lnTo>
                  <a:pt x="1659" y="808"/>
                </a:lnTo>
                <a:lnTo>
                  <a:pt x="1666" y="801"/>
                </a:lnTo>
                <a:lnTo>
                  <a:pt x="1666" y="794"/>
                </a:lnTo>
                <a:lnTo>
                  <a:pt x="1666" y="787"/>
                </a:lnTo>
                <a:lnTo>
                  <a:pt x="1666" y="780"/>
                </a:lnTo>
                <a:lnTo>
                  <a:pt x="1666" y="774"/>
                </a:lnTo>
                <a:lnTo>
                  <a:pt x="1659" y="767"/>
                </a:lnTo>
                <a:lnTo>
                  <a:pt x="1659" y="760"/>
                </a:lnTo>
                <a:lnTo>
                  <a:pt x="1659" y="753"/>
                </a:lnTo>
                <a:lnTo>
                  <a:pt x="1659" y="746"/>
                </a:lnTo>
                <a:lnTo>
                  <a:pt x="1652" y="739"/>
                </a:lnTo>
                <a:lnTo>
                  <a:pt x="1652" y="732"/>
                </a:lnTo>
                <a:lnTo>
                  <a:pt x="1652" y="726"/>
                </a:lnTo>
                <a:lnTo>
                  <a:pt x="1652" y="719"/>
                </a:lnTo>
                <a:lnTo>
                  <a:pt x="1652" y="712"/>
                </a:lnTo>
                <a:lnTo>
                  <a:pt x="1652" y="719"/>
                </a:lnTo>
                <a:lnTo>
                  <a:pt x="1645" y="726"/>
                </a:lnTo>
                <a:lnTo>
                  <a:pt x="1645" y="732"/>
                </a:lnTo>
                <a:lnTo>
                  <a:pt x="1645" y="739"/>
                </a:lnTo>
                <a:lnTo>
                  <a:pt x="1645" y="746"/>
                </a:lnTo>
                <a:lnTo>
                  <a:pt x="1639" y="753"/>
                </a:lnTo>
                <a:lnTo>
                  <a:pt x="1639" y="760"/>
                </a:lnTo>
                <a:lnTo>
                  <a:pt x="1639" y="767"/>
                </a:lnTo>
                <a:lnTo>
                  <a:pt x="1632" y="774"/>
                </a:lnTo>
                <a:lnTo>
                  <a:pt x="1632" y="780"/>
                </a:lnTo>
                <a:lnTo>
                  <a:pt x="1632" y="787"/>
                </a:lnTo>
                <a:lnTo>
                  <a:pt x="1632" y="794"/>
                </a:lnTo>
                <a:lnTo>
                  <a:pt x="1632" y="801"/>
                </a:lnTo>
                <a:lnTo>
                  <a:pt x="1632" y="808"/>
                </a:lnTo>
                <a:lnTo>
                  <a:pt x="1639" y="815"/>
                </a:lnTo>
                <a:lnTo>
                  <a:pt x="1652" y="821"/>
                </a:lnTo>
                <a:lnTo>
                  <a:pt x="1659" y="815"/>
                </a:lnTo>
                <a:close/>
                <a:moveTo>
                  <a:pt x="404" y="760"/>
                </a:moveTo>
                <a:lnTo>
                  <a:pt x="418" y="753"/>
                </a:lnTo>
                <a:lnTo>
                  <a:pt x="425" y="753"/>
                </a:lnTo>
                <a:lnTo>
                  <a:pt x="432" y="746"/>
                </a:lnTo>
                <a:lnTo>
                  <a:pt x="439" y="739"/>
                </a:lnTo>
                <a:lnTo>
                  <a:pt x="439" y="739"/>
                </a:lnTo>
                <a:lnTo>
                  <a:pt x="446" y="732"/>
                </a:lnTo>
                <a:lnTo>
                  <a:pt x="452" y="726"/>
                </a:lnTo>
                <a:lnTo>
                  <a:pt x="459" y="726"/>
                </a:lnTo>
                <a:lnTo>
                  <a:pt x="466" y="719"/>
                </a:lnTo>
                <a:lnTo>
                  <a:pt x="473" y="719"/>
                </a:lnTo>
                <a:lnTo>
                  <a:pt x="480" y="712"/>
                </a:lnTo>
                <a:lnTo>
                  <a:pt x="480" y="705"/>
                </a:lnTo>
                <a:lnTo>
                  <a:pt x="487" y="705"/>
                </a:lnTo>
                <a:lnTo>
                  <a:pt x="494" y="698"/>
                </a:lnTo>
                <a:lnTo>
                  <a:pt x="494" y="691"/>
                </a:lnTo>
                <a:lnTo>
                  <a:pt x="500" y="685"/>
                </a:lnTo>
                <a:lnTo>
                  <a:pt x="507" y="685"/>
                </a:lnTo>
                <a:lnTo>
                  <a:pt x="507" y="678"/>
                </a:lnTo>
                <a:lnTo>
                  <a:pt x="514" y="671"/>
                </a:lnTo>
                <a:lnTo>
                  <a:pt x="514" y="664"/>
                </a:lnTo>
                <a:lnTo>
                  <a:pt x="521" y="664"/>
                </a:lnTo>
                <a:lnTo>
                  <a:pt x="521" y="657"/>
                </a:lnTo>
                <a:lnTo>
                  <a:pt x="528" y="650"/>
                </a:lnTo>
                <a:lnTo>
                  <a:pt x="542" y="650"/>
                </a:lnTo>
                <a:lnTo>
                  <a:pt x="548" y="650"/>
                </a:lnTo>
                <a:lnTo>
                  <a:pt x="555" y="650"/>
                </a:lnTo>
                <a:lnTo>
                  <a:pt x="562" y="657"/>
                </a:lnTo>
                <a:lnTo>
                  <a:pt x="562" y="664"/>
                </a:lnTo>
                <a:lnTo>
                  <a:pt x="569" y="671"/>
                </a:lnTo>
                <a:lnTo>
                  <a:pt x="569" y="678"/>
                </a:lnTo>
                <a:lnTo>
                  <a:pt x="569" y="678"/>
                </a:lnTo>
                <a:lnTo>
                  <a:pt x="576" y="685"/>
                </a:lnTo>
                <a:lnTo>
                  <a:pt x="576" y="691"/>
                </a:lnTo>
                <a:lnTo>
                  <a:pt x="576" y="698"/>
                </a:lnTo>
                <a:lnTo>
                  <a:pt x="583" y="705"/>
                </a:lnTo>
                <a:lnTo>
                  <a:pt x="590" y="705"/>
                </a:lnTo>
                <a:lnTo>
                  <a:pt x="596" y="698"/>
                </a:lnTo>
                <a:lnTo>
                  <a:pt x="603" y="698"/>
                </a:lnTo>
                <a:lnTo>
                  <a:pt x="610" y="691"/>
                </a:lnTo>
                <a:lnTo>
                  <a:pt x="617" y="691"/>
                </a:lnTo>
                <a:lnTo>
                  <a:pt x="617" y="685"/>
                </a:lnTo>
                <a:lnTo>
                  <a:pt x="624" y="678"/>
                </a:lnTo>
                <a:lnTo>
                  <a:pt x="624" y="671"/>
                </a:lnTo>
                <a:lnTo>
                  <a:pt x="624" y="664"/>
                </a:lnTo>
                <a:lnTo>
                  <a:pt x="624" y="657"/>
                </a:lnTo>
                <a:lnTo>
                  <a:pt x="624" y="650"/>
                </a:lnTo>
                <a:lnTo>
                  <a:pt x="624" y="650"/>
                </a:lnTo>
                <a:lnTo>
                  <a:pt x="624" y="643"/>
                </a:lnTo>
                <a:lnTo>
                  <a:pt x="624" y="637"/>
                </a:lnTo>
                <a:lnTo>
                  <a:pt x="624" y="630"/>
                </a:lnTo>
                <a:lnTo>
                  <a:pt x="624" y="623"/>
                </a:lnTo>
                <a:lnTo>
                  <a:pt x="624" y="616"/>
                </a:lnTo>
                <a:lnTo>
                  <a:pt x="624" y="616"/>
                </a:lnTo>
                <a:lnTo>
                  <a:pt x="624" y="609"/>
                </a:lnTo>
                <a:lnTo>
                  <a:pt x="631" y="602"/>
                </a:lnTo>
                <a:lnTo>
                  <a:pt x="631" y="596"/>
                </a:lnTo>
                <a:lnTo>
                  <a:pt x="638" y="589"/>
                </a:lnTo>
                <a:lnTo>
                  <a:pt x="638" y="589"/>
                </a:lnTo>
                <a:lnTo>
                  <a:pt x="644" y="582"/>
                </a:lnTo>
                <a:lnTo>
                  <a:pt x="644" y="575"/>
                </a:lnTo>
                <a:lnTo>
                  <a:pt x="644" y="568"/>
                </a:lnTo>
                <a:lnTo>
                  <a:pt x="644" y="561"/>
                </a:lnTo>
                <a:lnTo>
                  <a:pt x="644" y="555"/>
                </a:lnTo>
                <a:lnTo>
                  <a:pt x="644" y="555"/>
                </a:lnTo>
                <a:lnTo>
                  <a:pt x="638" y="548"/>
                </a:lnTo>
                <a:lnTo>
                  <a:pt x="638" y="541"/>
                </a:lnTo>
                <a:lnTo>
                  <a:pt x="638" y="534"/>
                </a:lnTo>
                <a:lnTo>
                  <a:pt x="638" y="527"/>
                </a:lnTo>
                <a:lnTo>
                  <a:pt x="631" y="520"/>
                </a:lnTo>
                <a:lnTo>
                  <a:pt x="631" y="513"/>
                </a:lnTo>
                <a:lnTo>
                  <a:pt x="631" y="513"/>
                </a:lnTo>
                <a:lnTo>
                  <a:pt x="631" y="507"/>
                </a:lnTo>
                <a:lnTo>
                  <a:pt x="638" y="500"/>
                </a:lnTo>
                <a:lnTo>
                  <a:pt x="644" y="500"/>
                </a:lnTo>
                <a:lnTo>
                  <a:pt x="651" y="493"/>
                </a:lnTo>
                <a:lnTo>
                  <a:pt x="658" y="486"/>
                </a:lnTo>
                <a:lnTo>
                  <a:pt x="658" y="486"/>
                </a:lnTo>
                <a:lnTo>
                  <a:pt x="665" y="479"/>
                </a:lnTo>
                <a:lnTo>
                  <a:pt x="665" y="472"/>
                </a:lnTo>
                <a:lnTo>
                  <a:pt x="665" y="466"/>
                </a:lnTo>
                <a:lnTo>
                  <a:pt x="665" y="459"/>
                </a:lnTo>
                <a:lnTo>
                  <a:pt x="672" y="452"/>
                </a:lnTo>
                <a:lnTo>
                  <a:pt x="679" y="452"/>
                </a:lnTo>
                <a:lnTo>
                  <a:pt x="692" y="445"/>
                </a:lnTo>
                <a:lnTo>
                  <a:pt x="692" y="445"/>
                </a:lnTo>
                <a:lnTo>
                  <a:pt x="699" y="438"/>
                </a:lnTo>
                <a:lnTo>
                  <a:pt x="706" y="431"/>
                </a:lnTo>
                <a:lnTo>
                  <a:pt x="713" y="431"/>
                </a:lnTo>
                <a:lnTo>
                  <a:pt x="720" y="425"/>
                </a:lnTo>
                <a:lnTo>
                  <a:pt x="727" y="425"/>
                </a:lnTo>
                <a:lnTo>
                  <a:pt x="727" y="418"/>
                </a:lnTo>
                <a:lnTo>
                  <a:pt x="734" y="411"/>
                </a:lnTo>
                <a:lnTo>
                  <a:pt x="740" y="411"/>
                </a:lnTo>
                <a:lnTo>
                  <a:pt x="747" y="404"/>
                </a:lnTo>
                <a:lnTo>
                  <a:pt x="754" y="397"/>
                </a:lnTo>
                <a:lnTo>
                  <a:pt x="761" y="397"/>
                </a:lnTo>
                <a:lnTo>
                  <a:pt x="768" y="390"/>
                </a:lnTo>
                <a:lnTo>
                  <a:pt x="768" y="383"/>
                </a:lnTo>
                <a:lnTo>
                  <a:pt x="775" y="383"/>
                </a:lnTo>
                <a:lnTo>
                  <a:pt x="782" y="377"/>
                </a:lnTo>
                <a:lnTo>
                  <a:pt x="788" y="377"/>
                </a:lnTo>
                <a:lnTo>
                  <a:pt x="795" y="370"/>
                </a:lnTo>
                <a:lnTo>
                  <a:pt x="802" y="363"/>
                </a:lnTo>
                <a:lnTo>
                  <a:pt x="802" y="363"/>
                </a:lnTo>
                <a:lnTo>
                  <a:pt x="809" y="356"/>
                </a:lnTo>
                <a:lnTo>
                  <a:pt x="816" y="349"/>
                </a:lnTo>
                <a:lnTo>
                  <a:pt x="823" y="349"/>
                </a:lnTo>
                <a:lnTo>
                  <a:pt x="830" y="342"/>
                </a:lnTo>
                <a:lnTo>
                  <a:pt x="830" y="336"/>
                </a:lnTo>
                <a:lnTo>
                  <a:pt x="836" y="336"/>
                </a:lnTo>
                <a:lnTo>
                  <a:pt x="843" y="329"/>
                </a:lnTo>
                <a:lnTo>
                  <a:pt x="850" y="322"/>
                </a:lnTo>
                <a:lnTo>
                  <a:pt x="857" y="322"/>
                </a:lnTo>
                <a:lnTo>
                  <a:pt x="864" y="315"/>
                </a:lnTo>
                <a:lnTo>
                  <a:pt x="864" y="308"/>
                </a:lnTo>
                <a:lnTo>
                  <a:pt x="871" y="308"/>
                </a:lnTo>
                <a:lnTo>
                  <a:pt x="884" y="301"/>
                </a:lnTo>
                <a:lnTo>
                  <a:pt x="891" y="301"/>
                </a:lnTo>
                <a:lnTo>
                  <a:pt x="898" y="301"/>
                </a:lnTo>
                <a:lnTo>
                  <a:pt x="905" y="295"/>
                </a:lnTo>
                <a:lnTo>
                  <a:pt x="912" y="295"/>
                </a:lnTo>
                <a:lnTo>
                  <a:pt x="919" y="288"/>
                </a:lnTo>
                <a:lnTo>
                  <a:pt x="926" y="288"/>
                </a:lnTo>
                <a:lnTo>
                  <a:pt x="932" y="281"/>
                </a:lnTo>
                <a:lnTo>
                  <a:pt x="939" y="274"/>
                </a:lnTo>
                <a:lnTo>
                  <a:pt x="946" y="274"/>
                </a:lnTo>
                <a:lnTo>
                  <a:pt x="946" y="267"/>
                </a:lnTo>
                <a:lnTo>
                  <a:pt x="953" y="260"/>
                </a:lnTo>
                <a:lnTo>
                  <a:pt x="960" y="260"/>
                </a:lnTo>
                <a:lnTo>
                  <a:pt x="967" y="253"/>
                </a:lnTo>
                <a:lnTo>
                  <a:pt x="974" y="247"/>
                </a:lnTo>
                <a:lnTo>
                  <a:pt x="974" y="247"/>
                </a:lnTo>
                <a:lnTo>
                  <a:pt x="980" y="240"/>
                </a:lnTo>
                <a:lnTo>
                  <a:pt x="987" y="233"/>
                </a:lnTo>
                <a:lnTo>
                  <a:pt x="994" y="233"/>
                </a:lnTo>
                <a:lnTo>
                  <a:pt x="994" y="226"/>
                </a:lnTo>
                <a:lnTo>
                  <a:pt x="1001" y="219"/>
                </a:lnTo>
                <a:lnTo>
                  <a:pt x="1008" y="212"/>
                </a:lnTo>
                <a:lnTo>
                  <a:pt x="1015" y="212"/>
                </a:lnTo>
                <a:lnTo>
                  <a:pt x="1022" y="206"/>
                </a:lnTo>
                <a:lnTo>
                  <a:pt x="1022" y="199"/>
                </a:lnTo>
                <a:lnTo>
                  <a:pt x="1028" y="199"/>
                </a:lnTo>
                <a:lnTo>
                  <a:pt x="1028" y="192"/>
                </a:lnTo>
                <a:lnTo>
                  <a:pt x="1035" y="185"/>
                </a:lnTo>
                <a:lnTo>
                  <a:pt x="1035" y="178"/>
                </a:lnTo>
                <a:lnTo>
                  <a:pt x="1035" y="171"/>
                </a:lnTo>
                <a:lnTo>
                  <a:pt x="1035" y="165"/>
                </a:lnTo>
                <a:lnTo>
                  <a:pt x="1042" y="165"/>
                </a:lnTo>
                <a:lnTo>
                  <a:pt x="1049" y="158"/>
                </a:lnTo>
                <a:lnTo>
                  <a:pt x="1056" y="158"/>
                </a:lnTo>
                <a:lnTo>
                  <a:pt x="1063" y="158"/>
                </a:lnTo>
                <a:lnTo>
                  <a:pt x="1076" y="158"/>
                </a:lnTo>
                <a:lnTo>
                  <a:pt x="1083" y="151"/>
                </a:lnTo>
                <a:lnTo>
                  <a:pt x="1090" y="151"/>
                </a:lnTo>
                <a:lnTo>
                  <a:pt x="1097" y="151"/>
                </a:lnTo>
                <a:lnTo>
                  <a:pt x="1111" y="144"/>
                </a:lnTo>
                <a:lnTo>
                  <a:pt x="1117" y="144"/>
                </a:lnTo>
                <a:lnTo>
                  <a:pt x="1124" y="137"/>
                </a:lnTo>
                <a:lnTo>
                  <a:pt x="1131" y="137"/>
                </a:lnTo>
                <a:lnTo>
                  <a:pt x="1138" y="130"/>
                </a:lnTo>
                <a:lnTo>
                  <a:pt x="1145" y="130"/>
                </a:lnTo>
                <a:lnTo>
                  <a:pt x="1152" y="130"/>
                </a:lnTo>
                <a:lnTo>
                  <a:pt x="1159" y="123"/>
                </a:lnTo>
                <a:lnTo>
                  <a:pt x="1172" y="123"/>
                </a:lnTo>
                <a:lnTo>
                  <a:pt x="1179" y="123"/>
                </a:lnTo>
                <a:lnTo>
                  <a:pt x="1186" y="123"/>
                </a:lnTo>
                <a:lnTo>
                  <a:pt x="1200" y="123"/>
                </a:lnTo>
                <a:lnTo>
                  <a:pt x="1207" y="117"/>
                </a:lnTo>
                <a:lnTo>
                  <a:pt x="1213" y="117"/>
                </a:lnTo>
                <a:lnTo>
                  <a:pt x="1220" y="110"/>
                </a:lnTo>
                <a:lnTo>
                  <a:pt x="1220" y="103"/>
                </a:lnTo>
                <a:lnTo>
                  <a:pt x="1227" y="103"/>
                </a:lnTo>
                <a:lnTo>
                  <a:pt x="1234" y="96"/>
                </a:lnTo>
                <a:lnTo>
                  <a:pt x="1248" y="96"/>
                </a:lnTo>
                <a:lnTo>
                  <a:pt x="1255" y="96"/>
                </a:lnTo>
                <a:lnTo>
                  <a:pt x="1261" y="89"/>
                </a:lnTo>
                <a:lnTo>
                  <a:pt x="1268" y="89"/>
                </a:lnTo>
                <a:lnTo>
                  <a:pt x="1282" y="89"/>
                </a:lnTo>
                <a:lnTo>
                  <a:pt x="1289" y="82"/>
                </a:lnTo>
                <a:lnTo>
                  <a:pt x="1289" y="82"/>
                </a:lnTo>
                <a:lnTo>
                  <a:pt x="1296" y="76"/>
                </a:lnTo>
                <a:lnTo>
                  <a:pt x="1303" y="69"/>
                </a:lnTo>
                <a:lnTo>
                  <a:pt x="1309" y="69"/>
                </a:lnTo>
                <a:lnTo>
                  <a:pt x="1316" y="62"/>
                </a:lnTo>
                <a:lnTo>
                  <a:pt x="1323" y="62"/>
                </a:lnTo>
                <a:lnTo>
                  <a:pt x="1323" y="55"/>
                </a:lnTo>
                <a:lnTo>
                  <a:pt x="1330" y="48"/>
                </a:lnTo>
                <a:lnTo>
                  <a:pt x="1337" y="41"/>
                </a:lnTo>
                <a:lnTo>
                  <a:pt x="1344" y="41"/>
                </a:lnTo>
                <a:lnTo>
                  <a:pt x="1351" y="34"/>
                </a:lnTo>
                <a:lnTo>
                  <a:pt x="1351" y="28"/>
                </a:lnTo>
                <a:lnTo>
                  <a:pt x="1344" y="28"/>
                </a:lnTo>
                <a:lnTo>
                  <a:pt x="1337" y="21"/>
                </a:lnTo>
                <a:lnTo>
                  <a:pt x="1330" y="14"/>
                </a:lnTo>
                <a:lnTo>
                  <a:pt x="1323" y="7"/>
                </a:lnTo>
                <a:lnTo>
                  <a:pt x="1323" y="7"/>
                </a:lnTo>
                <a:lnTo>
                  <a:pt x="1316" y="0"/>
                </a:lnTo>
                <a:lnTo>
                  <a:pt x="1303" y="0"/>
                </a:lnTo>
                <a:lnTo>
                  <a:pt x="1275" y="0"/>
                </a:lnTo>
                <a:lnTo>
                  <a:pt x="1248" y="0"/>
                </a:lnTo>
                <a:lnTo>
                  <a:pt x="1213" y="0"/>
                </a:lnTo>
                <a:lnTo>
                  <a:pt x="1186" y="0"/>
                </a:lnTo>
                <a:lnTo>
                  <a:pt x="1159" y="0"/>
                </a:lnTo>
                <a:lnTo>
                  <a:pt x="1131" y="0"/>
                </a:lnTo>
                <a:lnTo>
                  <a:pt x="1104" y="0"/>
                </a:lnTo>
                <a:lnTo>
                  <a:pt x="1070" y="0"/>
                </a:lnTo>
                <a:lnTo>
                  <a:pt x="1042" y="0"/>
                </a:lnTo>
                <a:lnTo>
                  <a:pt x="1015" y="0"/>
                </a:lnTo>
                <a:lnTo>
                  <a:pt x="987" y="0"/>
                </a:lnTo>
                <a:lnTo>
                  <a:pt x="953" y="0"/>
                </a:lnTo>
                <a:lnTo>
                  <a:pt x="926" y="0"/>
                </a:lnTo>
                <a:lnTo>
                  <a:pt x="898" y="0"/>
                </a:lnTo>
                <a:lnTo>
                  <a:pt x="871" y="0"/>
                </a:lnTo>
                <a:lnTo>
                  <a:pt x="843" y="0"/>
                </a:lnTo>
                <a:lnTo>
                  <a:pt x="809" y="0"/>
                </a:lnTo>
                <a:lnTo>
                  <a:pt x="782" y="0"/>
                </a:lnTo>
                <a:lnTo>
                  <a:pt x="754" y="0"/>
                </a:lnTo>
                <a:lnTo>
                  <a:pt x="727" y="0"/>
                </a:lnTo>
                <a:lnTo>
                  <a:pt x="692" y="0"/>
                </a:lnTo>
                <a:lnTo>
                  <a:pt x="665" y="0"/>
                </a:lnTo>
                <a:lnTo>
                  <a:pt x="638" y="28"/>
                </a:lnTo>
                <a:lnTo>
                  <a:pt x="610" y="62"/>
                </a:lnTo>
                <a:lnTo>
                  <a:pt x="583" y="89"/>
                </a:lnTo>
                <a:lnTo>
                  <a:pt x="548" y="117"/>
                </a:lnTo>
                <a:lnTo>
                  <a:pt x="521" y="144"/>
                </a:lnTo>
                <a:lnTo>
                  <a:pt x="494" y="144"/>
                </a:lnTo>
                <a:lnTo>
                  <a:pt x="466" y="178"/>
                </a:lnTo>
                <a:lnTo>
                  <a:pt x="432" y="206"/>
                </a:lnTo>
                <a:lnTo>
                  <a:pt x="404" y="233"/>
                </a:lnTo>
                <a:lnTo>
                  <a:pt x="377" y="260"/>
                </a:lnTo>
                <a:lnTo>
                  <a:pt x="377" y="288"/>
                </a:lnTo>
                <a:lnTo>
                  <a:pt x="384" y="295"/>
                </a:lnTo>
                <a:lnTo>
                  <a:pt x="377" y="301"/>
                </a:lnTo>
                <a:lnTo>
                  <a:pt x="370" y="301"/>
                </a:lnTo>
                <a:lnTo>
                  <a:pt x="370" y="308"/>
                </a:lnTo>
                <a:lnTo>
                  <a:pt x="363" y="315"/>
                </a:lnTo>
                <a:lnTo>
                  <a:pt x="363" y="322"/>
                </a:lnTo>
                <a:lnTo>
                  <a:pt x="356" y="322"/>
                </a:lnTo>
                <a:lnTo>
                  <a:pt x="350" y="329"/>
                </a:lnTo>
                <a:lnTo>
                  <a:pt x="350" y="336"/>
                </a:lnTo>
                <a:lnTo>
                  <a:pt x="343" y="336"/>
                </a:lnTo>
                <a:lnTo>
                  <a:pt x="343" y="342"/>
                </a:lnTo>
                <a:lnTo>
                  <a:pt x="336" y="349"/>
                </a:lnTo>
                <a:lnTo>
                  <a:pt x="329" y="356"/>
                </a:lnTo>
                <a:lnTo>
                  <a:pt x="329" y="356"/>
                </a:lnTo>
                <a:lnTo>
                  <a:pt x="322" y="363"/>
                </a:lnTo>
                <a:lnTo>
                  <a:pt x="315" y="370"/>
                </a:lnTo>
                <a:lnTo>
                  <a:pt x="315" y="370"/>
                </a:lnTo>
                <a:lnTo>
                  <a:pt x="308" y="377"/>
                </a:lnTo>
                <a:lnTo>
                  <a:pt x="308" y="383"/>
                </a:lnTo>
                <a:lnTo>
                  <a:pt x="302" y="383"/>
                </a:lnTo>
                <a:lnTo>
                  <a:pt x="302" y="390"/>
                </a:lnTo>
                <a:lnTo>
                  <a:pt x="295" y="397"/>
                </a:lnTo>
                <a:lnTo>
                  <a:pt x="288" y="404"/>
                </a:lnTo>
                <a:lnTo>
                  <a:pt x="288" y="404"/>
                </a:lnTo>
                <a:lnTo>
                  <a:pt x="281" y="411"/>
                </a:lnTo>
                <a:lnTo>
                  <a:pt x="281" y="418"/>
                </a:lnTo>
                <a:lnTo>
                  <a:pt x="274" y="418"/>
                </a:lnTo>
                <a:lnTo>
                  <a:pt x="267" y="425"/>
                </a:lnTo>
                <a:lnTo>
                  <a:pt x="267" y="431"/>
                </a:lnTo>
                <a:lnTo>
                  <a:pt x="261" y="438"/>
                </a:lnTo>
                <a:lnTo>
                  <a:pt x="261" y="438"/>
                </a:lnTo>
                <a:lnTo>
                  <a:pt x="254" y="445"/>
                </a:lnTo>
                <a:lnTo>
                  <a:pt x="254" y="452"/>
                </a:lnTo>
                <a:lnTo>
                  <a:pt x="247" y="459"/>
                </a:lnTo>
                <a:lnTo>
                  <a:pt x="240" y="459"/>
                </a:lnTo>
                <a:lnTo>
                  <a:pt x="233" y="466"/>
                </a:lnTo>
                <a:lnTo>
                  <a:pt x="233" y="466"/>
                </a:lnTo>
                <a:lnTo>
                  <a:pt x="226" y="472"/>
                </a:lnTo>
                <a:lnTo>
                  <a:pt x="219" y="479"/>
                </a:lnTo>
                <a:lnTo>
                  <a:pt x="219" y="479"/>
                </a:lnTo>
                <a:lnTo>
                  <a:pt x="213" y="486"/>
                </a:lnTo>
                <a:lnTo>
                  <a:pt x="213" y="493"/>
                </a:lnTo>
                <a:lnTo>
                  <a:pt x="213" y="500"/>
                </a:lnTo>
                <a:lnTo>
                  <a:pt x="213" y="507"/>
                </a:lnTo>
                <a:lnTo>
                  <a:pt x="213" y="513"/>
                </a:lnTo>
                <a:lnTo>
                  <a:pt x="213" y="520"/>
                </a:lnTo>
                <a:lnTo>
                  <a:pt x="213" y="520"/>
                </a:lnTo>
                <a:lnTo>
                  <a:pt x="206" y="527"/>
                </a:lnTo>
                <a:lnTo>
                  <a:pt x="199" y="527"/>
                </a:lnTo>
                <a:lnTo>
                  <a:pt x="192" y="534"/>
                </a:lnTo>
                <a:lnTo>
                  <a:pt x="192" y="541"/>
                </a:lnTo>
                <a:lnTo>
                  <a:pt x="192" y="548"/>
                </a:lnTo>
                <a:lnTo>
                  <a:pt x="192" y="555"/>
                </a:lnTo>
                <a:lnTo>
                  <a:pt x="185" y="555"/>
                </a:lnTo>
                <a:lnTo>
                  <a:pt x="185" y="561"/>
                </a:lnTo>
                <a:lnTo>
                  <a:pt x="185" y="568"/>
                </a:lnTo>
                <a:lnTo>
                  <a:pt x="185" y="575"/>
                </a:lnTo>
                <a:lnTo>
                  <a:pt x="185" y="582"/>
                </a:lnTo>
                <a:lnTo>
                  <a:pt x="178" y="589"/>
                </a:lnTo>
                <a:lnTo>
                  <a:pt x="171" y="589"/>
                </a:lnTo>
                <a:lnTo>
                  <a:pt x="171" y="582"/>
                </a:lnTo>
                <a:lnTo>
                  <a:pt x="165" y="582"/>
                </a:lnTo>
                <a:lnTo>
                  <a:pt x="158" y="575"/>
                </a:lnTo>
                <a:lnTo>
                  <a:pt x="158" y="568"/>
                </a:lnTo>
                <a:lnTo>
                  <a:pt x="151" y="561"/>
                </a:lnTo>
                <a:lnTo>
                  <a:pt x="144" y="561"/>
                </a:lnTo>
                <a:lnTo>
                  <a:pt x="137" y="555"/>
                </a:lnTo>
                <a:lnTo>
                  <a:pt x="130" y="555"/>
                </a:lnTo>
                <a:lnTo>
                  <a:pt x="123" y="555"/>
                </a:lnTo>
                <a:lnTo>
                  <a:pt x="117" y="555"/>
                </a:lnTo>
                <a:lnTo>
                  <a:pt x="103" y="555"/>
                </a:lnTo>
                <a:lnTo>
                  <a:pt x="96" y="555"/>
                </a:lnTo>
                <a:lnTo>
                  <a:pt x="89" y="555"/>
                </a:lnTo>
                <a:lnTo>
                  <a:pt x="82" y="548"/>
                </a:lnTo>
                <a:lnTo>
                  <a:pt x="82" y="548"/>
                </a:lnTo>
                <a:lnTo>
                  <a:pt x="82" y="541"/>
                </a:lnTo>
                <a:lnTo>
                  <a:pt x="82" y="534"/>
                </a:lnTo>
                <a:lnTo>
                  <a:pt x="62" y="555"/>
                </a:lnTo>
                <a:lnTo>
                  <a:pt x="27" y="555"/>
                </a:lnTo>
                <a:lnTo>
                  <a:pt x="7" y="575"/>
                </a:lnTo>
                <a:lnTo>
                  <a:pt x="7" y="575"/>
                </a:lnTo>
                <a:lnTo>
                  <a:pt x="7" y="582"/>
                </a:lnTo>
                <a:lnTo>
                  <a:pt x="7" y="582"/>
                </a:lnTo>
                <a:lnTo>
                  <a:pt x="7" y="582"/>
                </a:lnTo>
                <a:lnTo>
                  <a:pt x="0" y="582"/>
                </a:lnTo>
                <a:lnTo>
                  <a:pt x="0" y="582"/>
                </a:lnTo>
                <a:lnTo>
                  <a:pt x="0" y="582"/>
                </a:lnTo>
                <a:lnTo>
                  <a:pt x="0" y="582"/>
                </a:lnTo>
                <a:lnTo>
                  <a:pt x="0" y="609"/>
                </a:lnTo>
                <a:lnTo>
                  <a:pt x="0" y="643"/>
                </a:lnTo>
                <a:lnTo>
                  <a:pt x="0" y="657"/>
                </a:lnTo>
                <a:lnTo>
                  <a:pt x="7" y="650"/>
                </a:lnTo>
                <a:lnTo>
                  <a:pt x="14" y="643"/>
                </a:lnTo>
                <a:lnTo>
                  <a:pt x="14" y="643"/>
                </a:lnTo>
                <a:lnTo>
                  <a:pt x="21" y="637"/>
                </a:lnTo>
                <a:lnTo>
                  <a:pt x="27" y="630"/>
                </a:lnTo>
                <a:lnTo>
                  <a:pt x="27" y="623"/>
                </a:lnTo>
                <a:lnTo>
                  <a:pt x="34" y="623"/>
                </a:lnTo>
                <a:lnTo>
                  <a:pt x="41" y="630"/>
                </a:lnTo>
                <a:lnTo>
                  <a:pt x="48" y="637"/>
                </a:lnTo>
                <a:lnTo>
                  <a:pt x="55" y="643"/>
                </a:lnTo>
                <a:lnTo>
                  <a:pt x="55" y="650"/>
                </a:lnTo>
                <a:lnTo>
                  <a:pt x="55" y="657"/>
                </a:lnTo>
                <a:lnTo>
                  <a:pt x="55" y="664"/>
                </a:lnTo>
                <a:lnTo>
                  <a:pt x="62" y="664"/>
                </a:lnTo>
                <a:lnTo>
                  <a:pt x="62" y="664"/>
                </a:lnTo>
                <a:lnTo>
                  <a:pt x="75" y="664"/>
                </a:lnTo>
                <a:lnTo>
                  <a:pt x="82" y="664"/>
                </a:lnTo>
                <a:lnTo>
                  <a:pt x="89" y="657"/>
                </a:lnTo>
                <a:lnTo>
                  <a:pt x="103" y="657"/>
                </a:lnTo>
                <a:lnTo>
                  <a:pt x="110" y="657"/>
                </a:lnTo>
                <a:lnTo>
                  <a:pt x="117" y="657"/>
                </a:lnTo>
                <a:lnTo>
                  <a:pt x="123" y="657"/>
                </a:lnTo>
                <a:lnTo>
                  <a:pt x="123" y="664"/>
                </a:lnTo>
                <a:lnTo>
                  <a:pt x="123" y="671"/>
                </a:lnTo>
                <a:lnTo>
                  <a:pt x="123" y="678"/>
                </a:lnTo>
                <a:lnTo>
                  <a:pt x="123" y="685"/>
                </a:lnTo>
                <a:lnTo>
                  <a:pt x="117" y="691"/>
                </a:lnTo>
                <a:lnTo>
                  <a:pt x="110" y="691"/>
                </a:lnTo>
                <a:lnTo>
                  <a:pt x="103" y="691"/>
                </a:lnTo>
                <a:lnTo>
                  <a:pt x="96" y="691"/>
                </a:lnTo>
                <a:lnTo>
                  <a:pt x="82" y="691"/>
                </a:lnTo>
                <a:lnTo>
                  <a:pt x="69" y="691"/>
                </a:lnTo>
                <a:lnTo>
                  <a:pt x="62" y="698"/>
                </a:lnTo>
                <a:lnTo>
                  <a:pt x="62" y="698"/>
                </a:lnTo>
                <a:lnTo>
                  <a:pt x="62" y="698"/>
                </a:lnTo>
                <a:lnTo>
                  <a:pt x="75" y="705"/>
                </a:lnTo>
                <a:lnTo>
                  <a:pt x="82" y="705"/>
                </a:lnTo>
                <a:lnTo>
                  <a:pt x="96" y="705"/>
                </a:lnTo>
                <a:lnTo>
                  <a:pt x="103" y="705"/>
                </a:lnTo>
                <a:lnTo>
                  <a:pt x="110" y="705"/>
                </a:lnTo>
                <a:lnTo>
                  <a:pt x="123" y="705"/>
                </a:lnTo>
                <a:lnTo>
                  <a:pt x="130" y="712"/>
                </a:lnTo>
                <a:lnTo>
                  <a:pt x="137" y="712"/>
                </a:lnTo>
                <a:lnTo>
                  <a:pt x="144" y="712"/>
                </a:lnTo>
                <a:lnTo>
                  <a:pt x="151" y="712"/>
                </a:lnTo>
                <a:lnTo>
                  <a:pt x="158" y="712"/>
                </a:lnTo>
                <a:lnTo>
                  <a:pt x="165" y="705"/>
                </a:lnTo>
                <a:lnTo>
                  <a:pt x="171" y="698"/>
                </a:lnTo>
                <a:lnTo>
                  <a:pt x="171" y="691"/>
                </a:lnTo>
                <a:lnTo>
                  <a:pt x="171" y="691"/>
                </a:lnTo>
                <a:lnTo>
                  <a:pt x="171" y="685"/>
                </a:lnTo>
                <a:lnTo>
                  <a:pt x="178" y="678"/>
                </a:lnTo>
                <a:lnTo>
                  <a:pt x="178" y="671"/>
                </a:lnTo>
                <a:lnTo>
                  <a:pt x="178" y="664"/>
                </a:lnTo>
                <a:lnTo>
                  <a:pt x="192" y="664"/>
                </a:lnTo>
                <a:lnTo>
                  <a:pt x="199" y="664"/>
                </a:lnTo>
                <a:lnTo>
                  <a:pt x="206" y="664"/>
                </a:lnTo>
                <a:lnTo>
                  <a:pt x="219" y="664"/>
                </a:lnTo>
                <a:lnTo>
                  <a:pt x="226" y="671"/>
                </a:lnTo>
                <a:lnTo>
                  <a:pt x="233" y="671"/>
                </a:lnTo>
                <a:lnTo>
                  <a:pt x="240" y="671"/>
                </a:lnTo>
                <a:lnTo>
                  <a:pt x="254" y="664"/>
                </a:lnTo>
                <a:lnTo>
                  <a:pt x="261" y="664"/>
                </a:lnTo>
                <a:lnTo>
                  <a:pt x="267" y="671"/>
                </a:lnTo>
                <a:lnTo>
                  <a:pt x="267" y="678"/>
                </a:lnTo>
                <a:lnTo>
                  <a:pt x="267" y="685"/>
                </a:lnTo>
                <a:lnTo>
                  <a:pt x="267" y="685"/>
                </a:lnTo>
                <a:lnTo>
                  <a:pt x="267" y="691"/>
                </a:lnTo>
                <a:lnTo>
                  <a:pt x="267" y="698"/>
                </a:lnTo>
                <a:lnTo>
                  <a:pt x="267" y="705"/>
                </a:lnTo>
                <a:lnTo>
                  <a:pt x="261" y="712"/>
                </a:lnTo>
                <a:lnTo>
                  <a:pt x="261" y="719"/>
                </a:lnTo>
                <a:lnTo>
                  <a:pt x="261" y="719"/>
                </a:lnTo>
                <a:lnTo>
                  <a:pt x="261" y="726"/>
                </a:lnTo>
                <a:lnTo>
                  <a:pt x="261" y="732"/>
                </a:lnTo>
                <a:lnTo>
                  <a:pt x="267" y="739"/>
                </a:lnTo>
                <a:lnTo>
                  <a:pt x="274" y="739"/>
                </a:lnTo>
                <a:lnTo>
                  <a:pt x="281" y="746"/>
                </a:lnTo>
                <a:lnTo>
                  <a:pt x="288" y="746"/>
                </a:lnTo>
                <a:lnTo>
                  <a:pt x="295" y="753"/>
                </a:lnTo>
                <a:lnTo>
                  <a:pt x="308" y="753"/>
                </a:lnTo>
                <a:lnTo>
                  <a:pt x="315" y="753"/>
                </a:lnTo>
                <a:lnTo>
                  <a:pt x="322" y="753"/>
                </a:lnTo>
                <a:lnTo>
                  <a:pt x="329" y="753"/>
                </a:lnTo>
                <a:lnTo>
                  <a:pt x="336" y="746"/>
                </a:lnTo>
                <a:lnTo>
                  <a:pt x="343" y="746"/>
                </a:lnTo>
                <a:lnTo>
                  <a:pt x="356" y="739"/>
                </a:lnTo>
                <a:lnTo>
                  <a:pt x="363" y="739"/>
                </a:lnTo>
                <a:lnTo>
                  <a:pt x="370" y="732"/>
                </a:lnTo>
                <a:lnTo>
                  <a:pt x="377" y="732"/>
                </a:lnTo>
                <a:lnTo>
                  <a:pt x="384" y="739"/>
                </a:lnTo>
                <a:lnTo>
                  <a:pt x="391" y="739"/>
                </a:lnTo>
                <a:lnTo>
                  <a:pt x="391" y="746"/>
                </a:lnTo>
                <a:lnTo>
                  <a:pt x="398" y="753"/>
                </a:lnTo>
                <a:lnTo>
                  <a:pt x="404" y="760"/>
                </a:lnTo>
                <a:close/>
                <a:moveTo>
                  <a:pt x="1488" y="726"/>
                </a:moveTo>
                <a:lnTo>
                  <a:pt x="1501" y="726"/>
                </a:lnTo>
                <a:lnTo>
                  <a:pt x="1508" y="726"/>
                </a:lnTo>
                <a:lnTo>
                  <a:pt x="1515" y="726"/>
                </a:lnTo>
                <a:lnTo>
                  <a:pt x="1529" y="726"/>
                </a:lnTo>
                <a:lnTo>
                  <a:pt x="1536" y="726"/>
                </a:lnTo>
                <a:lnTo>
                  <a:pt x="1549" y="726"/>
                </a:lnTo>
                <a:lnTo>
                  <a:pt x="1556" y="726"/>
                </a:lnTo>
                <a:lnTo>
                  <a:pt x="1563" y="719"/>
                </a:lnTo>
                <a:lnTo>
                  <a:pt x="1570" y="712"/>
                </a:lnTo>
                <a:lnTo>
                  <a:pt x="1570" y="712"/>
                </a:lnTo>
                <a:lnTo>
                  <a:pt x="1570" y="705"/>
                </a:lnTo>
                <a:lnTo>
                  <a:pt x="1570" y="698"/>
                </a:lnTo>
                <a:lnTo>
                  <a:pt x="1577" y="691"/>
                </a:lnTo>
                <a:lnTo>
                  <a:pt x="1577" y="685"/>
                </a:lnTo>
                <a:lnTo>
                  <a:pt x="1577" y="678"/>
                </a:lnTo>
                <a:lnTo>
                  <a:pt x="1577" y="671"/>
                </a:lnTo>
                <a:lnTo>
                  <a:pt x="1577" y="664"/>
                </a:lnTo>
                <a:lnTo>
                  <a:pt x="1577" y="657"/>
                </a:lnTo>
                <a:lnTo>
                  <a:pt x="1577" y="650"/>
                </a:lnTo>
                <a:lnTo>
                  <a:pt x="1584" y="643"/>
                </a:lnTo>
                <a:lnTo>
                  <a:pt x="1584" y="637"/>
                </a:lnTo>
                <a:lnTo>
                  <a:pt x="1584" y="637"/>
                </a:lnTo>
                <a:lnTo>
                  <a:pt x="1591" y="630"/>
                </a:lnTo>
                <a:lnTo>
                  <a:pt x="1591" y="623"/>
                </a:lnTo>
                <a:lnTo>
                  <a:pt x="1597" y="616"/>
                </a:lnTo>
                <a:lnTo>
                  <a:pt x="1604" y="609"/>
                </a:lnTo>
                <a:lnTo>
                  <a:pt x="1604" y="602"/>
                </a:lnTo>
                <a:lnTo>
                  <a:pt x="1611" y="596"/>
                </a:lnTo>
                <a:lnTo>
                  <a:pt x="1611" y="596"/>
                </a:lnTo>
                <a:lnTo>
                  <a:pt x="1611" y="589"/>
                </a:lnTo>
                <a:lnTo>
                  <a:pt x="1618" y="582"/>
                </a:lnTo>
                <a:lnTo>
                  <a:pt x="1618" y="575"/>
                </a:lnTo>
                <a:lnTo>
                  <a:pt x="1618" y="568"/>
                </a:lnTo>
                <a:lnTo>
                  <a:pt x="1625" y="561"/>
                </a:lnTo>
                <a:lnTo>
                  <a:pt x="1625" y="555"/>
                </a:lnTo>
                <a:lnTo>
                  <a:pt x="1632" y="548"/>
                </a:lnTo>
                <a:lnTo>
                  <a:pt x="1639" y="548"/>
                </a:lnTo>
                <a:lnTo>
                  <a:pt x="1639" y="541"/>
                </a:lnTo>
                <a:lnTo>
                  <a:pt x="1639" y="534"/>
                </a:lnTo>
                <a:lnTo>
                  <a:pt x="1639" y="527"/>
                </a:lnTo>
                <a:lnTo>
                  <a:pt x="1639" y="520"/>
                </a:lnTo>
                <a:lnTo>
                  <a:pt x="1632" y="513"/>
                </a:lnTo>
                <a:lnTo>
                  <a:pt x="1625" y="513"/>
                </a:lnTo>
                <a:lnTo>
                  <a:pt x="1611" y="513"/>
                </a:lnTo>
                <a:lnTo>
                  <a:pt x="1604" y="513"/>
                </a:lnTo>
                <a:lnTo>
                  <a:pt x="1597" y="520"/>
                </a:lnTo>
                <a:lnTo>
                  <a:pt x="1591" y="520"/>
                </a:lnTo>
                <a:lnTo>
                  <a:pt x="1577" y="527"/>
                </a:lnTo>
                <a:lnTo>
                  <a:pt x="1570" y="527"/>
                </a:lnTo>
                <a:lnTo>
                  <a:pt x="1570" y="534"/>
                </a:lnTo>
                <a:lnTo>
                  <a:pt x="1563" y="541"/>
                </a:lnTo>
                <a:lnTo>
                  <a:pt x="1556" y="548"/>
                </a:lnTo>
                <a:lnTo>
                  <a:pt x="1549" y="548"/>
                </a:lnTo>
                <a:lnTo>
                  <a:pt x="1543" y="555"/>
                </a:lnTo>
                <a:lnTo>
                  <a:pt x="1543" y="561"/>
                </a:lnTo>
                <a:lnTo>
                  <a:pt x="1536" y="568"/>
                </a:lnTo>
                <a:lnTo>
                  <a:pt x="1536" y="575"/>
                </a:lnTo>
                <a:lnTo>
                  <a:pt x="1529" y="582"/>
                </a:lnTo>
                <a:lnTo>
                  <a:pt x="1529" y="582"/>
                </a:lnTo>
                <a:lnTo>
                  <a:pt x="1529" y="589"/>
                </a:lnTo>
                <a:lnTo>
                  <a:pt x="1522" y="596"/>
                </a:lnTo>
                <a:lnTo>
                  <a:pt x="1515" y="602"/>
                </a:lnTo>
                <a:lnTo>
                  <a:pt x="1508" y="609"/>
                </a:lnTo>
                <a:lnTo>
                  <a:pt x="1501" y="609"/>
                </a:lnTo>
                <a:lnTo>
                  <a:pt x="1488" y="609"/>
                </a:lnTo>
                <a:lnTo>
                  <a:pt x="1481" y="609"/>
                </a:lnTo>
                <a:lnTo>
                  <a:pt x="1474" y="616"/>
                </a:lnTo>
                <a:lnTo>
                  <a:pt x="1474" y="616"/>
                </a:lnTo>
                <a:lnTo>
                  <a:pt x="1467" y="623"/>
                </a:lnTo>
                <a:lnTo>
                  <a:pt x="1467" y="630"/>
                </a:lnTo>
                <a:lnTo>
                  <a:pt x="1467" y="637"/>
                </a:lnTo>
                <a:lnTo>
                  <a:pt x="1460" y="643"/>
                </a:lnTo>
                <a:lnTo>
                  <a:pt x="1460" y="650"/>
                </a:lnTo>
                <a:lnTo>
                  <a:pt x="1460" y="657"/>
                </a:lnTo>
                <a:lnTo>
                  <a:pt x="1460" y="664"/>
                </a:lnTo>
                <a:lnTo>
                  <a:pt x="1460" y="671"/>
                </a:lnTo>
                <a:lnTo>
                  <a:pt x="1467" y="678"/>
                </a:lnTo>
                <a:lnTo>
                  <a:pt x="1467" y="685"/>
                </a:lnTo>
                <a:lnTo>
                  <a:pt x="1467" y="685"/>
                </a:lnTo>
                <a:lnTo>
                  <a:pt x="1460" y="691"/>
                </a:lnTo>
                <a:lnTo>
                  <a:pt x="1460" y="698"/>
                </a:lnTo>
                <a:lnTo>
                  <a:pt x="1453" y="705"/>
                </a:lnTo>
                <a:lnTo>
                  <a:pt x="1453" y="712"/>
                </a:lnTo>
                <a:lnTo>
                  <a:pt x="1447" y="719"/>
                </a:lnTo>
                <a:lnTo>
                  <a:pt x="1447" y="726"/>
                </a:lnTo>
                <a:lnTo>
                  <a:pt x="1447" y="732"/>
                </a:lnTo>
                <a:lnTo>
                  <a:pt x="1447" y="739"/>
                </a:lnTo>
                <a:lnTo>
                  <a:pt x="1453" y="739"/>
                </a:lnTo>
                <a:lnTo>
                  <a:pt x="1460" y="739"/>
                </a:lnTo>
                <a:lnTo>
                  <a:pt x="1474" y="732"/>
                </a:lnTo>
                <a:lnTo>
                  <a:pt x="1481" y="732"/>
                </a:lnTo>
                <a:lnTo>
                  <a:pt x="1488" y="726"/>
                </a:lnTo>
                <a:close/>
                <a:moveTo>
                  <a:pt x="1159" y="643"/>
                </a:moveTo>
                <a:lnTo>
                  <a:pt x="1159" y="637"/>
                </a:lnTo>
                <a:lnTo>
                  <a:pt x="1159" y="630"/>
                </a:lnTo>
                <a:lnTo>
                  <a:pt x="1159" y="630"/>
                </a:lnTo>
                <a:lnTo>
                  <a:pt x="1159" y="623"/>
                </a:lnTo>
                <a:lnTo>
                  <a:pt x="1159" y="623"/>
                </a:lnTo>
                <a:lnTo>
                  <a:pt x="1159" y="616"/>
                </a:lnTo>
                <a:lnTo>
                  <a:pt x="1159" y="609"/>
                </a:lnTo>
                <a:lnTo>
                  <a:pt x="1159" y="609"/>
                </a:lnTo>
                <a:lnTo>
                  <a:pt x="1159" y="609"/>
                </a:lnTo>
                <a:lnTo>
                  <a:pt x="1159" y="616"/>
                </a:lnTo>
                <a:lnTo>
                  <a:pt x="1159" y="623"/>
                </a:lnTo>
                <a:lnTo>
                  <a:pt x="1159" y="623"/>
                </a:lnTo>
                <a:lnTo>
                  <a:pt x="1159" y="630"/>
                </a:lnTo>
                <a:lnTo>
                  <a:pt x="1159" y="630"/>
                </a:lnTo>
                <a:lnTo>
                  <a:pt x="1159" y="637"/>
                </a:lnTo>
                <a:lnTo>
                  <a:pt x="1159" y="637"/>
                </a:lnTo>
                <a:lnTo>
                  <a:pt x="1159" y="643"/>
                </a:lnTo>
                <a:lnTo>
                  <a:pt x="1159" y="650"/>
                </a:lnTo>
                <a:lnTo>
                  <a:pt x="1159" y="643"/>
                </a:lnTo>
                <a:lnTo>
                  <a:pt x="1159" y="643"/>
                </a:lnTo>
                <a:close/>
                <a:moveTo>
                  <a:pt x="1193" y="582"/>
                </a:moveTo>
                <a:lnTo>
                  <a:pt x="1193" y="575"/>
                </a:lnTo>
                <a:lnTo>
                  <a:pt x="1193" y="568"/>
                </a:lnTo>
                <a:lnTo>
                  <a:pt x="1193" y="561"/>
                </a:lnTo>
                <a:lnTo>
                  <a:pt x="1186" y="561"/>
                </a:lnTo>
                <a:lnTo>
                  <a:pt x="1186" y="561"/>
                </a:lnTo>
                <a:lnTo>
                  <a:pt x="1179" y="561"/>
                </a:lnTo>
                <a:lnTo>
                  <a:pt x="1172" y="568"/>
                </a:lnTo>
                <a:lnTo>
                  <a:pt x="1165" y="575"/>
                </a:lnTo>
                <a:lnTo>
                  <a:pt x="1165" y="582"/>
                </a:lnTo>
                <a:lnTo>
                  <a:pt x="1172" y="589"/>
                </a:lnTo>
                <a:lnTo>
                  <a:pt x="1179" y="589"/>
                </a:lnTo>
                <a:lnTo>
                  <a:pt x="1186" y="589"/>
                </a:lnTo>
                <a:lnTo>
                  <a:pt x="1193" y="589"/>
                </a:lnTo>
                <a:lnTo>
                  <a:pt x="1193" y="582"/>
                </a:lnTo>
                <a:close/>
                <a:moveTo>
                  <a:pt x="727" y="527"/>
                </a:moveTo>
                <a:lnTo>
                  <a:pt x="727" y="520"/>
                </a:lnTo>
                <a:lnTo>
                  <a:pt x="727" y="520"/>
                </a:lnTo>
                <a:lnTo>
                  <a:pt x="727" y="520"/>
                </a:lnTo>
                <a:lnTo>
                  <a:pt x="727" y="520"/>
                </a:lnTo>
                <a:lnTo>
                  <a:pt x="720" y="520"/>
                </a:lnTo>
                <a:lnTo>
                  <a:pt x="720" y="520"/>
                </a:lnTo>
                <a:lnTo>
                  <a:pt x="720" y="520"/>
                </a:lnTo>
                <a:lnTo>
                  <a:pt x="720" y="527"/>
                </a:lnTo>
                <a:lnTo>
                  <a:pt x="720" y="527"/>
                </a:lnTo>
                <a:lnTo>
                  <a:pt x="720" y="527"/>
                </a:lnTo>
                <a:lnTo>
                  <a:pt x="727" y="527"/>
                </a:lnTo>
                <a:lnTo>
                  <a:pt x="727" y="527"/>
                </a:lnTo>
                <a:lnTo>
                  <a:pt x="727" y="527"/>
                </a:lnTo>
                <a:lnTo>
                  <a:pt x="727" y="527"/>
                </a:lnTo>
                <a:close/>
                <a:moveTo>
                  <a:pt x="960" y="527"/>
                </a:moveTo>
                <a:lnTo>
                  <a:pt x="953" y="520"/>
                </a:lnTo>
                <a:lnTo>
                  <a:pt x="953" y="513"/>
                </a:lnTo>
                <a:lnTo>
                  <a:pt x="946" y="513"/>
                </a:lnTo>
                <a:lnTo>
                  <a:pt x="939" y="507"/>
                </a:lnTo>
                <a:lnTo>
                  <a:pt x="939" y="500"/>
                </a:lnTo>
                <a:lnTo>
                  <a:pt x="932" y="500"/>
                </a:lnTo>
                <a:lnTo>
                  <a:pt x="926" y="500"/>
                </a:lnTo>
                <a:lnTo>
                  <a:pt x="926" y="500"/>
                </a:lnTo>
                <a:lnTo>
                  <a:pt x="926" y="507"/>
                </a:lnTo>
                <a:lnTo>
                  <a:pt x="926" y="507"/>
                </a:lnTo>
                <a:lnTo>
                  <a:pt x="926" y="513"/>
                </a:lnTo>
                <a:lnTo>
                  <a:pt x="926" y="520"/>
                </a:lnTo>
                <a:lnTo>
                  <a:pt x="926" y="527"/>
                </a:lnTo>
                <a:lnTo>
                  <a:pt x="926" y="527"/>
                </a:lnTo>
                <a:lnTo>
                  <a:pt x="932" y="534"/>
                </a:lnTo>
                <a:lnTo>
                  <a:pt x="939" y="534"/>
                </a:lnTo>
                <a:lnTo>
                  <a:pt x="946" y="534"/>
                </a:lnTo>
                <a:lnTo>
                  <a:pt x="953" y="534"/>
                </a:lnTo>
                <a:lnTo>
                  <a:pt x="960" y="527"/>
                </a:lnTo>
                <a:lnTo>
                  <a:pt x="960" y="527"/>
                </a:lnTo>
                <a:close/>
                <a:moveTo>
                  <a:pt x="1213" y="527"/>
                </a:moveTo>
                <a:lnTo>
                  <a:pt x="1213" y="520"/>
                </a:lnTo>
                <a:lnTo>
                  <a:pt x="1213" y="520"/>
                </a:lnTo>
                <a:lnTo>
                  <a:pt x="1213" y="520"/>
                </a:lnTo>
                <a:lnTo>
                  <a:pt x="1213" y="520"/>
                </a:lnTo>
                <a:lnTo>
                  <a:pt x="1213" y="520"/>
                </a:lnTo>
                <a:lnTo>
                  <a:pt x="1213" y="520"/>
                </a:lnTo>
                <a:lnTo>
                  <a:pt x="1213" y="520"/>
                </a:lnTo>
                <a:lnTo>
                  <a:pt x="1213" y="520"/>
                </a:lnTo>
                <a:lnTo>
                  <a:pt x="1213" y="520"/>
                </a:lnTo>
                <a:lnTo>
                  <a:pt x="1213" y="527"/>
                </a:lnTo>
                <a:lnTo>
                  <a:pt x="1213" y="527"/>
                </a:lnTo>
                <a:lnTo>
                  <a:pt x="1213" y="527"/>
                </a:lnTo>
                <a:lnTo>
                  <a:pt x="1213" y="527"/>
                </a:lnTo>
                <a:lnTo>
                  <a:pt x="1213" y="527"/>
                </a:lnTo>
                <a:close/>
                <a:moveTo>
                  <a:pt x="165" y="466"/>
                </a:moveTo>
                <a:lnTo>
                  <a:pt x="144" y="466"/>
                </a:lnTo>
                <a:lnTo>
                  <a:pt x="130" y="479"/>
                </a:lnTo>
                <a:lnTo>
                  <a:pt x="137" y="479"/>
                </a:lnTo>
                <a:lnTo>
                  <a:pt x="144" y="479"/>
                </a:lnTo>
                <a:lnTo>
                  <a:pt x="144" y="479"/>
                </a:lnTo>
                <a:lnTo>
                  <a:pt x="151" y="479"/>
                </a:lnTo>
                <a:lnTo>
                  <a:pt x="158" y="479"/>
                </a:lnTo>
                <a:lnTo>
                  <a:pt x="158" y="472"/>
                </a:lnTo>
                <a:lnTo>
                  <a:pt x="158" y="472"/>
                </a:lnTo>
                <a:lnTo>
                  <a:pt x="165" y="466"/>
                </a:lnTo>
                <a:close/>
                <a:moveTo>
                  <a:pt x="932" y="466"/>
                </a:moveTo>
                <a:lnTo>
                  <a:pt x="932" y="459"/>
                </a:lnTo>
                <a:lnTo>
                  <a:pt x="926" y="452"/>
                </a:lnTo>
                <a:lnTo>
                  <a:pt x="926" y="452"/>
                </a:lnTo>
                <a:lnTo>
                  <a:pt x="919" y="445"/>
                </a:lnTo>
                <a:lnTo>
                  <a:pt x="919" y="438"/>
                </a:lnTo>
                <a:lnTo>
                  <a:pt x="919" y="431"/>
                </a:lnTo>
                <a:lnTo>
                  <a:pt x="919" y="425"/>
                </a:lnTo>
                <a:lnTo>
                  <a:pt x="919" y="418"/>
                </a:lnTo>
                <a:lnTo>
                  <a:pt x="919" y="418"/>
                </a:lnTo>
                <a:lnTo>
                  <a:pt x="919" y="411"/>
                </a:lnTo>
                <a:lnTo>
                  <a:pt x="912" y="404"/>
                </a:lnTo>
                <a:lnTo>
                  <a:pt x="905" y="397"/>
                </a:lnTo>
                <a:lnTo>
                  <a:pt x="898" y="397"/>
                </a:lnTo>
                <a:lnTo>
                  <a:pt x="891" y="397"/>
                </a:lnTo>
                <a:lnTo>
                  <a:pt x="884" y="404"/>
                </a:lnTo>
                <a:lnTo>
                  <a:pt x="871" y="404"/>
                </a:lnTo>
                <a:lnTo>
                  <a:pt x="864" y="411"/>
                </a:lnTo>
                <a:lnTo>
                  <a:pt x="864" y="411"/>
                </a:lnTo>
                <a:lnTo>
                  <a:pt x="857" y="418"/>
                </a:lnTo>
                <a:lnTo>
                  <a:pt x="850" y="425"/>
                </a:lnTo>
                <a:lnTo>
                  <a:pt x="843" y="431"/>
                </a:lnTo>
                <a:lnTo>
                  <a:pt x="836" y="431"/>
                </a:lnTo>
                <a:lnTo>
                  <a:pt x="836" y="438"/>
                </a:lnTo>
                <a:lnTo>
                  <a:pt x="830" y="445"/>
                </a:lnTo>
                <a:lnTo>
                  <a:pt x="830" y="452"/>
                </a:lnTo>
                <a:lnTo>
                  <a:pt x="823" y="452"/>
                </a:lnTo>
                <a:lnTo>
                  <a:pt x="823" y="459"/>
                </a:lnTo>
                <a:lnTo>
                  <a:pt x="816" y="466"/>
                </a:lnTo>
                <a:lnTo>
                  <a:pt x="816" y="472"/>
                </a:lnTo>
                <a:lnTo>
                  <a:pt x="823" y="472"/>
                </a:lnTo>
                <a:lnTo>
                  <a:pt x="830" y="479"/>
                </a:lnTo>
                <a:lnTo>
                  <a:pt x="836" y="486"/>
                </a:lnTo>
                <a:lnTo>
                  <a:pt x="836" y="486"/>
                </a:lnTo>
                <a:lnTo>
                  <a:pt x="843" y="486"/>
                </a:lnTo>
                <a:lnTo>
                  <a:pt x="857" y="479"/>
                </a:lnTo>
                <a:lnTo>
                  <a:pt x="864" y="479"/>
                </a:lnTo>
                <a:lnTo>
                  <a:pt x="871" y="472"/>
                </a:lnTo>
                <a:lnTo>
                  <a:pt x="878" y="472"/>
                </a:lnTo>
                <a:lnTo>
                  <a:pt x="891" y="466"/>
                </a:lnTo>
                <a:lnTo>
                  <a:pt x="898" y="466"/>
                </a:lnTo>
                <a:lnTo>
                  <a:pt x="905" y="472"/>
                </a:lnTo>
                <a:lnTo>
                  <a:pt x="912" y="479"/>
                </a:lnTo>
                <a:lnTo>
                  <a:pt x="919" y="486"/>
                </a:lnTo>
                <a:lnTo>
                  <a:pt x="926" y="486"/>
                </a:lnTo>
                <a:lnTo>
                  <a:pt x="926" y="493"/>
                </a:lnTo>
                <a:lnTo>
                  <a:pt x="926" y="493"/>
                </a:lnTo>
                <a:lnTo>
                  <a:pt x="932" y="493"/>
                </a:lnTo>
                <a:lnTo>
                  <a:pt x="932" y="486"/>
                </a:lnTo>
                <a:lnTo>
                  <a:pt x="932" y="479"/>
                </a:lnTo>
                <a:lnTo>
                  <a:pt x="932" y="466"/>
                </a:lnTo>
                <a:close/>
                <a:moveTo>
                  <a:pt x="178" y="438"/>
                </a:moveTo>
                <a:lnTo>
                  <a:pt x="171" y="438"/>
                </a:lnTo>
                <a:lnTo>
                  <a:pt x="171" y="452"/>
                </a:lnTo>
                <a:lnTo>
                  <a:pt x="178" y="438"/>
                </a:lnTo>
                <a:close/>
                <a:moveTo>
                  <a:pt x="2235" y="438"/>
                </a:moveTo>
                <a:lnTo>
                  <a:pt x="2228" y="431"/>
                </a:lnTo>
                <a:lnTo>
                  <a:pt x="2228" y="431"/>
                </a:lnTo>
                <a:lnTo>
                  <a:pt x="2221" y="431"/>
                </a:lnTo>
                <a:lnTo>
                  <a:pt x="2214" y="438"/>
                </a:lnTo>
                <a:lnTo>
                  <a:pt x="2214" y="445"/>
                </a:lnTo>
                <a:lnTo>
                  <a:pt x="2214" y="445"/>
                </a:lnTo>
                <a:lnTo>
                  <a:pt x="2221" y="452"/>
                </a:lnTo>
                <a:lnTo>
                  <a:pt x="2228" y="452"/>
                </a:lnTo>
                <a:lnTo>
                  <a:pt x="2228" y="459"/>
                </a:lnTo>
                <a:lnTo>
                  <a:pt x="2235" y="459"/>
                </a:lnTo>
                <a:lnTo>
                  <a:pt x="2235" y="452"/>
                </a:lnTo>
                <a:lnTo>
                  <a:pt x="2235" y="452"/>
                </a:lnTo>
                <a:lnTo>
                  <a:pt x="2235" y="445"/>
                </a:lnTo>
                <a:lnTo>
                  <a:pt x="2235" y="438"/>
                </a:lnTo>
                <a:close/>
                <a:moveTo>
                  <a:pt x="206" y="411"/>
                </a:moveTo>
                <a:lnTo>
                  <a:pt x="206" y="411"/>
                </a:lnTo>
                <a:lnTo>
                  <a:pt x="206" y="411"/>
                </a:lnTo>
                <a:lnTo>
                  <a:pt x="206" y="411"/>
                </a:lnTo>
                <a:close/>
                <a:moveTo>
                  <a:pt x="240" y="377"/>
                </a:moveTo>
                <a:lnTo>
                  <a:pt x="233" y="377"/>
                </a:lnTo>
                <a:lnTo>
                  <a:pt x="233" y="383"/>
                </a:lnTo>
                <a:lnTo>
                  <a:pt x="240" y="377"/>
                </a:lnTo>
                <a:close/>
                <a:moveTo>
                  <a:pt x="288" y="349"/>
                </a:moveTo>
                <a:lnTo>
                  <a:pt x="261" y="349"/>
                </a:lnTo>
                <a:lnTo>
                  <a:pt x="261" y="363"/>
                </a:lnTo>
                <a:lnTo>
                  <a:pt x="288" y="349"/>
                </a:lnTo>
                <a:close/>
                <a:moveTo>
                  <a:pt x="343" y="322"/>
                </a:moveTo>
                <a:lnTo>
                  <a:pt x="322" y="322"/>
                </a:lnTo>
                <a:lnTo>
                  <a:pt x="295" y="349"/>
                </a:lnTo>
                <a:lnTo>
                  <a:pt x="302" y="342"/>
                </a:lnTo>
                <a:lnTo>
                  <a:pt x="308" y="342"/>
                </a:lnTo>
                <a:lnTo>
                  <a:pt x="315" y="342"/>
                </a:lnTo>
                <a:lnTo>
                  <a:pt x="322" y="336"/>
                </a:lnTo>
                <a:lnTo>
                  <a:pt x="329" y="336"/>
                </a:lnTo>
                <a:lnTo>
                  <a:pt x="336" y="329"/>
                </a:lnTo>
                <a:lnTo>
                  <a:pt x="336" y="329"/>
                </a:lnTo>
                <a:lnTo>
                  <a:pt x="343" y="322"/>
                </a:lnTo>
                <a:close/>
                <a:moveTo>
                  <a:pt x="377" y="295"/>
                </a:moveTo>
                <a:lnTo>
                  <a:pt x="350" y="295"/>
                </a:lnTo>
                <a:lnTo>
                  <a:pt x="350" y="315"/>
                </a:lnTo>
                <a:lnTo>
                  <a:pt x="377" y="295"/>
                </a:lnTo>
                <a:close/>
                <a:moveTo>
                  <a:pt x="2434" y="1800"/>
                </a:moveTo>
                <a:lnTo>
                  <a:pt x="2461" y="1773"/>
                </a:lnTo>
                <a:lnTo>
                  <a:pt x="2489" y="1773"/>
                </a:lnTo>
                <a:lnTo>
                  <a:pt x="2516" y="1773"/>
                </a:lnTo>
                <a:lnTo>
                  <a:pt x="2550" y="1773"/>
                </a:lnTo>
                <a:lnTo>
                  <a:pt x="2578" y="1773"/>
                </a:lnTo>
                <a:lnTo>
                  <a:pt x="2605" y="1773"/>
                </a:lnTo>
                <a:lnTo>
                  <a:pt x="2633" y="1773"/>
                </a:lnTo>
                <a:lnTo>
                  <a:pt x="2660" y="1745"/>
                </a:lnTo>
                <a:lnTo>
                  <a:pt x="2660" y="1718"/>
                </a:lnTo>
                <a:lnTo>
                  <a:pt x="2660" y="1684"/>
                </a:lnTo>
                <a:lnTo>
                  <a:pt x="2660" y="1656"/>
                </a:lnTo>
                <a:lnTo>
                  <a:pt x="2694" y="1629"/>
                </a:lnTo>
                <a:lnTo>
                  <a:pt x="2694" y="1601"/>
                </a:lnTo>
                <a:lnTo>
                  <a:pt x="2694" y="1567"/>
                </a:lnTo>
                <a:lnTo>
                  <a:pt x="2694" y="1540"/>
                </a:lnTo>
                <a:lnTo>
                  <a:pt x="2722" y="1513"/>
                </a:lnTo>
                <a:lnTo>
                  <a:pt x="2722" y="1485"/>
                </a:lnTo>
                <a:lnTo>
                  <a:pt x="2722" y="1451"/>
                </a:lnTo>
                <a:lnTo>
                  <a:pt x="2722" y="1424"/>
                </a:lnTo>
                <a:lnTo>
                  <a:pt x="2749" y="1396"/>
                </a:lnTo>
                <a:lnTo>
                  <a:pt x="2749" y="1369"/>
                </a:lnTo>
                <a:lnTo>
                  <a:pt x="2749" y="1335"/>
                </a:lnTo>
                <a:lnTo>
                  <a:pt x="2749" y="1307"/>
                </a:lnTo>
                <a:lnTo>
                  <a:pt x="2777" y="1280"/>
                </a:lnTo>
                <a:lnTo>
                  <a:pt x="2777" y="1252"/>
                </a:lnTo>
                <a:lnTo>
                  <a:pt x="2777" y="1218"/>
                </a:lnTo>
                <a:lnTo>
                  <a:pt x="2777" y="1191"/>
                </a:lnTo>
                <a:lnTo>
                  <a:pt x="2811" y="1164"/>
                </a:lnTo>
                <a:lnTo>
                  <a:pt x="2811" y="1136"/>
                </a:lnTo>
                <a:lnTo>
                  <a:pt x="2811" y="1102"/>
                </a:lnTo>
                <a:lnTo>
                  <a:pt x="2811" y="1075"/>
                </a:lnTo>
                <a:lnTo>
                  <a:pt x="2811" y="1047"/>
                </a:lnTo>
                <a:lnTo>
                  <a:pt x="2811" y="1020"/>
                </a:lnTo>
                <a:lnTo>
                  <a:pt x="2811" y="992"/>
                </a:lnTo>
                <a:lnTo>
                  <a:pt x="2811" y="958"/>
                </a:lnTo>
                <a:lnTo>
                  <a:pt x="2811" y="931"/>
                </a:lnTo>
                <a:lnTo>
                  <a:pt x="2811" y="904"/>
                </a:lnTo>
                <a:lnTo>
                  <a:pt x="2811" y="876"/>
                </a:lnTo>
                <a:lnTo>
                  <a:pt x="2811" y="842"/>
                </a:lnTo>
                <a:lnTo>
                  <a:pt x="2811" y="815"/>
                </a:lnTo>
                <a:lnTo>
                  <a:pt x="2811" y="787"/>
                </a:lnTo>
                <a:lnTo>
                  <a:pt x="2811" y="760"/>
                </a:lnTo>
                <a:lnTo>
                  <a:pt x="2811" y="726"/>
                </a:lnTo>
                <a:lnTo>
                  <a:pt x="2811" y="698"/>
                </a:lnTo>
                <a:lnTo>
                  <a:pt x="2811" y="671"/>
                </a:lnTo>
                <a:lnTo>
                  <a:pt x="2811" y="643"/>
                </a:lnTo>
                <a:lnTo>
                  <a:pt x="2811" y="609"/>
                </a:lnTo>
                <a:lnTo>
                  <a:pt x="2811" y="582"/>
                </a:lnTo>
                <a:lnTo>
                  <a:pt x="2811" y="555"/>
                </a:lnTo>
                <a:lnTo>
                  <a:pt x="2811" y="527"/>
                </a:lnTo>
                <a:lnTo>
                  <a:pt x="2811" y="493"/>
                </a:lnTo>
                <a:lnTo>
                  <a:pt x="2811" y="466"/>
                </a:lnTo>
                <a:lnTo>
                  <a:pt x="2811" y="438"/>
                </a:lnTo>
                <a:lnTo>
                  <a:pt x="2811" y="411"/>
                </a:lnTo>
                <a:lnTo>
                  <a:pt x="2811" y="377"/>
                </a:lnTo>
                <a:lnTo>
                  <a:pt x="2811" y="349"/>
                </a:lnTo>
                <a:lnTo>
                  <a:pt x="2811" y="322"/>
                </a:lnTo>
                <a:lnTo>
                  <a:pt x="2811" y="295"/>
                </a:lnTo>
                <a:lnTo>
                  <a:pt x="2811" y="260"/>
                </a:lnTo>
                <a:lnTo>
                  <a:pt x="2777" y="233"/>
                </a:lnTo>
                <a:lnTo>
                  <a:pt x="2777" y="206"/>
                </a:lnTo>
                <a:lnTo>
                  <a:pt x="2777" y="178"/>
                </a:lnTo>
                <a:lnTo>
                  <a:pt x="2777" y="144"/>
                </a:lnTo>
                <a:lnTo>
                  <a:pt x="2777" y="117"/>
                </a:lnTo>
                <a:lnTo>
                  <a:pt x="2749" y="89"/>
                </a:lnTo>
                <a:lnTo>
                  <a:pt x="2722" y="89"/>
                </a:lnTo>
                <a:lnTo>
                  <a:pt x="2694" y="89"/>
                </a:lnTo>
                <a:lnTo>
                  <a:pt x="2660" y="62"/>
                </a:lnTo>
                <a:lnTo>
                  <a:pt x="2633" y="62"/>
                </a:lnTo>
                <a:lnTo>
                  <a:pt x="2605" y="62"/>
                </a:lnTo>
                <a:lnTo>
                  <a:pt x="2578" y="28"/>
                </a:lnTo>
                <a:lnTo>
                  <a:pt x="2550" y="28"/>
                </a:lnTo>
                <a:lnTo>
                  <a:pt x="2516" y="28"/>
                </a:lnTo>
                <a:lnTo>
                  <a:pt x="2489" y="0"/>
                </a:lnTo>
                <a:lnTo>
                  <a:pt x="2461" y="0"/>
                </a:lnTo>
                <a:lnTo>
                  <a:pt x="2434" y="0"/>
                </a:lnTo>
                <a:lnTo>
                  <a:pt x="2400" y="0"/>
                </a:lnTo>
                <a:lnTo>
                  <a:pt x="2372" y="0"/>
                </a:lnTo>
                <a:lnTo>
                  <a:pt x="2345" y="0"/>
                </a:lnTo>
                <a:lnTo>
                  <a:pt x="2317" y="0"/>
                </a:lnTo>
                <a:lnTo>
                  <a:pt x="2290" y="0"/>
                </a:lnTo>
                <a:lnTo>
                  <a:pt x="2256" y="0"/>
                </a:lnTo>
                <a:lnTo>
                  <a:pt x="2228" y="0"/>
                </a:lnTo>
                <a:lnTo>
                  <a:pt x="2201" y="0"/>
                </a:lnTo>
                <a:lnTo>
                  <a:pt x="2173" y="0"/>
                </a:lnTo>
                <a:lnTo>
                  <a:pt x="2146" y="0"/>
                </a:lnTo>
                <a:lnTo>
                  <a:pt x="2112" y="0"/>
                </a:lnTo>
                <a:lnTo>
                  <a:pt x="2084" y="0"/>
                </a:lnTo>
                <a:lnTo>
                  <a:pt x="2057" y="0"/>
                </a:lnTo>
                <a:lnTo>
                  <a:pt x="2029" y="0"/>
                </a:lnTo>
                <a:lnTo>
                  <a:pt x="1995" y="0"/>
                </a:lnTo>
                <a:lnTo>
                  <a:pt x="1968" y="0"/>
                </a:lnTo>
                <a:lnTo>
                  <a:pt x="1940" y="0"/>
                </a:lnTo>
                <a:lnTo>
                  <a:pt x="1913" y="0"/>
                </a:lnTo>
                <a:lnTo>
                  <a:pt x="1899" y="0"/>
                </a:lnTo>
                <a:lnTo>
                  <a:pt x="1906" y="7"/>
                </a:lnTo>
                <a:lnTo>
                  <a:pt x="1913" y="7"/>
                </a:lnTo>
                <a:lnTo>
                  <a:pt x="1926" y="7"/>
                </a:lnTo>
                <a:lnTo>
                  <a:pt x="1933" y="7"/>
                </a:lnTo>
                <a:lnTo>
                  <a:pt x="1947" y="7"/>
                </a:lnTo>
                <a:lnTo>
                  <a:pt x="1954" y="7"/>
                </a:lnTo>
                <a:lnTo>
                  <a:pt x="1961" y="14"/>
                </a:lnTo>
                <a:lnTo>
                  <a:pt x="1968" y="14"/>
                </a:lnTo>
                <a:lnTo>
                  <a:pt x="1974" y="21"/>
                </a:lnTo>
                <a:lnTo>
                  <a:pt x="1988" y="21"/>
                </a:lnTo>
                <a:lnTo>
                  <a:pt x="1995" y="28"/>
                </a:lnTo>
                <a:lnTo>
                  <a:pt x="2002" y="28"/>
                </a:lnTo>
                <a:lnTo>
                  <a:pt x="2009" y="34"/>
                </a:lnTo>
                <a:lnTo>
                  <a:pt x="2016" y="34"/>
                </a:lnTo>
                <a:lnTo>
                  <a:pt x="2029" y="34"/>
                </a:lnTo>
                <a:lnTo>
                  <a:pt x="2036" y="41"/>
                </a:lnTo>
                <a:lnTo>
                  <a:pt x="2043" y="41"/>
                </a:lnTo>
                <a:lnTo>
                  <a:pt x="2057" y="41"/>
                </a:lnTo>
                <a:lnTo>
                  <a:pt x="2064" y="48"/>
                </a:lnTo>
                <a:lnTo>
                  <a:pt x="2070" y="48"/>
                </a:lnTo>
                <a:lnTo>
                  <a:pt x="2077" y="48"/>
                </a:lnTo>
                <a:lnTo>
                  <a:pt x="2091" y="55"/>
                </a:lnTo>
                <a:lnTo>
                  <a:pt x="2098" y="55"/>
                </a:lnTo>
                <a:lnTo>
                  <a:pt x="2105" y="55"/>
                </a:lnTo>
                <a:lnTo>
                  <a:pt x="2118" y="62"/>
                </a:lnTo>
                <a:lnTo>
                  <a:pt x="2125" y="62"/>
                </a:lnTo>
                <a:lnTo>
                  <a:pt x="2132" y="69"/>
                </a:lnTo>
                <a:lnTo>
                  <a:pt x="2139" y="69"/>
                </a:lnTo>
                <a:lnTo>
                  <a:pt x="2153" y="69"/>
                </a:lnTo>
                <a:lnTo>
                  <a:pt x="2160" y="69"/>
                </a:lnTo>
                <a:lnTo>
                  <a:pt x="2166" y="76"/>
                </a:lnTo>
                <a:lnTo>
                  <a:pt x="2173" y="76"/>
                </a:lnTo>
                <a:lnTo>
                  <a:pt x="2187" y="76"/>
                </a:lnTo>
                <a:lnTo>
                  <a:pt x="2194" y="82"/>
                </a:lnTo>
                <a:lnTo>
                  <a:pt x="2201" y="82"/>
                </a:lnTo>
                <a:lnTo>
                  <a:pt x="2214" y="89"/>
                </a:lnTo>
                <a:lnTo>
                  <a:pt x="2221" y="89"/>
                </a:lnTo>
                <a:lnTo>
                  <a:pt x="2228" y="89"/>
                </a:lnTo>
                <a:lnTo>
                  <a:pt x="2235" y="96"/>
                </a:lnTo>
                <a:lnTo>
                  <a:pt x="2242" y="96"/>
                </a:lnTo>
                <a:lnTo>
                  <a:pt x="2256" y="96"/>
                </a:lnTo>
                <a:lnTo>
                  <a:pt x="2262" y="103"/>
                </a:lnTo>
                <a:lnTo>
                  <a:pt x="2269" y="103"/>
                </a:lnTo>
                <a:lnTo>
                  <a:pt x="2283" y="103"/>
                </a:lnTo>
                <a:lnTo>
                  <a:pt x="2290" y="110"/>
                </a:lnTo>
                <a:lnTo>
                  <a:pt x="2297" y="110"/>
                </a:lnTo>
                <a:lnTo>
                  <a:pt x="2304" y="110"/>
                </a:lnTo>
                <a:lnTo>
                  <a:pt x="2317" y="117"/>
                </a:lnTo>
                <a:lnTo>
                  <a:pt x="2324" y="117"/>
                </a:lnTo>
                <a:lnTo>
                  <a:pt x="2331" y="117"/>
                </a:lnTo>
                <a:lnTo>
                  <a:pt x="2338" y="123"/>
                </a:lnTo>
                <a:lnTo>
                  <a:pt x="2352" y="123"/>
                </a:lnTo>
                <a:lnTo>
                  <a:pt x="2358" y="130"/>
                </a:lnTo>
                <a:lnTo>
                  <a:pt x="2365" y="130"/>
                </a:lnTo>
                <a:lnTo>
                  <a:pt x="2379" y="130"/>
                </a:lnTo>
                <a:lnTo>
                  <a:pt x="2386" y="137"/>
                </a:lnTo>
                <a:lnTo>
                  <a:pt x="2393" y="137"/>
                </a:lnTo>
                <a:lnTo>
                  <a:pt x="2400" y="144"/>
                </a:lnTo>
                <a:lnTo>
                  <a:pt x="2406" y="144"/>
                </a:lnTo>
                <a:lnTo>
                  <a:pt x="2413" y="151"/>
                </a:lnTo>
                <a:lnTo>
                  <a:pt x="2420" y="158"/>
                </a:lnTo>
                <a:lnTo>
                  <a:pt x="2420" y="165"/>
                </a:lnTo>
                <a:lnTo>
                  <a:pt x="2427" y="165"/>
                </a:lnTo>
                <a:lnTo>
                  <a:pt x="2434" y="171"/>
                </a:lnTo>
                <a:lnTo>
                  <a:pt x="2448" y="171"/>
                </a:lnTo>
                <a:lnTo>
                  <a:pt x="2454" y="178"/>
                </a:lnTo>
                <a:lnTo>
                  <a:pt x="2454" y="178"/>
                </a:lnTo>
                <a:lnTo>
                  <a:pt x="2461" y="185"/>
                </a:lnTo>
                <a:lnTo>
                  <a:pt x="2468" y="192"/>
                </a:lnTo>
                <a:lnTo>
                  <a:pt x="2475" y="199"/>
                </a:lnTo>
                <a:lnTo>
                  <a:pt x="2482" y="199"/>
                </a:lnTo>
                <a:lnTo>
                  <a:pt x="2489" y="199"/>
                </a:lnTo>
                <a:lnTo>
                  <a:pt x="2496" y="206"/>
                </a:lnTo>
                <a:lnTo>
                  <a:pt x="2502" y="212"/>
                </a:lnTo>
                <a:lnTo>
                  <a:pt x="2509" y="219"/>
                </a:lnTo>
                <a:lnTo>
                  <a:pt x="2509" y="219"/>
                </a:lnTo>
                <a:lnTo>
                  <a:pt x="2516" y="226"/>
                </a:lnTo>
                <a:lnTo>
                  <a:pt x="2523" y="233"/>
                </a:lnTo>
                <a:lnTo>
                  <a:pt x="2530" y="233"/>
                </a:lnTo>
                <a:lnTo>
                  <a:pt x="2537" y="233"/>
                </a:lnTo>
                <a:lnTo>
                  <a:pt x="2544" y="240"/>
                </a:lnTo>
                <a:lnTo>
                  <a:pt x="2550" y="247"/>
                </a:lnTo>
                <a:lnTo>
                  <a:pt x="2557" y="247"/>
                </a:lnTo>
                <a:lnTo>
                  <a:pt x="2564" y="253"/>
                </a:lnTo>
                <a:lnTo>
                  <a:pt x="2564" y="260"/>
                </a:lnTo>
                <a:lnTo>
                  <a:pt x="2571" y="267"/>
                </a:lnTo>
                <a:lnTo>
                  <a:pt x="2578" y="267"/>
                </a:lnTo>
                <a:lnTo>
                  <a:pt x="2585" y="274"/>
                </a:lnTo>
                <a:lnTo>
                  <a:pt x="2592" y="274"/>
                </a:lnTo>
                <a:lnTo>
                  <a:pt x="2598" y="281"/>
                </a:lnTo>
                <a:lnTo>
                  <a:pt x="2605" y="288"/>
                </a:lnTo>
                <a:lnTo>
                  <a:pt x="2612" y="288"/>
                </a:lnTo>
                <a:lnTo>
                  <a:pt x="2605" y="295"/>
                </a:lnTo>
                <a:lnTo>
                  <a:pt x="2598" y="295"/>
                </a:lnTo>
                <a:lnTo>
                  <a:pt x="2585" y="295"/>
                </a:lnTo>
                <a:lnTo>
                  <a:pt x="2578" y="295"/>
                </a:lnTo>
                <a:lnTo>
                  <a:pt x="2571" y="301"/>
                </a:lnTo>
                <a:lnTo>
                  <a:pt x="2564" y="301"/>
                </a:lnTo>
                <a:lnTo>
                  <a:pt x="2550" y="301"/>
                </a:lnTo>
                <a:lnTo>
                  <a:pt x="2544" y="295"/>
                </a:lnTo>
                <a:lnTo>
                  <a:pt x="2530" y="295"/>
                </a:lnTo>
                <a:lnTo>
                  <a:pt x="2523" y="295"/>
                </a:lnTo>
                <a:lnTo>
                  <a:pt x="2516" y="295"/>
                </a:lnTo>
                <a:lnTo>
                  <a:pt x="2502" y="295"/>
                </a:lnTo>
                <a:lnTo>
                  <a:pt x="2496" y="295"/>
                </a:lnTo>
                <a:lnTo>
                  <a:pt x="2489" y="295"/>
                </a:lnTo>
                <a:lnTo>
                  <a:pt x="2475" y="288"/>
                </a:lnTo>
                <a:lnTo>
                  <a:pt x="2468" y="288"/>
                </a:lnTo>
                <a:lnTo>
                  <a:pt x="2461" y="288"/>
                </a:lnTo>
                <a:lnTo>
                  <a:pt x="2454" y="281"/>
                </a:lnTo>
                <a:lnTo>
                  <a:pt x="2441" y="281"/>
                </a:lnTo>
                <a:lnTo>
                  <a:pt x="2434" y="274"/>
                </a:lnTo>
                <a:lnTo>
                  <a:pt x="2427" y="274"/>
                </a:lnTo>
                <a:lnTo>
                  <a:pt x="2420" y="274"/>
                </a:lnTo>
                <a:lnTo>
                  <a:pt x="2406" y="274"/>
                </a:lnTo>
                <a:lnTo>
                  <a:pt x="2400" y="274"/>
                </a:lnTo>
                <a:lnTo>
                  <a:pt x="2393" y="281"/>
                </a:lnTo>
                <a:lnTo>
                  <a:pt x="2379" y="281"/>
                </a:lnTo>
                <a:lnTo>
                  <a:pt x="2372" y="288"/>
                </a:lnTo>
                <a:lnTo>
                  <a:pt x="2372" y="295"/>
                </a:lnTo>
                <a:lnTo>
                  <a:pt x="2372" y="301"/>
                </a:lnTo>
                <a:lnTo>
                  <a:pt x="2372" y="308"/>
                </a:lnTo>
                <a:lnTo>
                  <a:pt x="2379" y="308"/>
                </a:lnTo>
                <a:lnTo>
                  <a:pt x="2386" y="315"/>
                </a:lnTo>
                <a:lnTo>
                  <a:pt x="2393" y="315"/>
                </a:lnTo>
                <a:lnTo>
                  <a:pt x="2400" y="322"/>
                </a:lnTo>
                <a:lnTo>
                  <a:pt x="2406" y="329"/>
                </a:lnTo>
                <a:lnTo>
                  <a:pt x="2400" y="336"/>
                </a:lnTo>
                <a:lnTo>
                  <a:pt x="2400" y="336"/>
                </a:lnTo>
                <a:lnTo>
                  <a:pt x="2400" y="342"/>
                </a:lnTo>
                <a:lnTo>
                  <a:pt x="2400" y="349"/>
                </a:lnTo>
                <a:lnTo>
                  <a:pt x="2393" y="356"/>
                </a:lnTo>
                <a:lnTo>
                  <a:pt x="2386" y="363"/>
                </a:lnTo>
                <a:lnTo>
                  <a:pt x="2379" y="363"/>
                </a:lnTo>
                <a:lnTo>
                  <a:pt x="2372" y="370"/>
                </a:lnTo>
                <a:lnTo>
                  <a:pt x="2365" y="377"/>
                </a:lnTo>
                <a:lnTo>
                  <a:pt x="2358" y="377"/>
                </a:lnTo>
                <a:lnTo>
                  <a:pt x="2352" y="383"/>
                </a:lnTo>
                <a:lnTo>
                  <a:pt x="2345" y="383"/>
                </a:lnTo>
                <a:lnTo>
                  <a:pt x="2338" y="390"/>
                </a:lnTo>
                <a:lnTo>
                  <a:pt x="2331" y="397"/>
                </a:lnTo>
                <a:lnTo>
                  <a:pt x="2324" y="397"/>
                </a:lnTo>
                <a:lnTo>
                  <a:pt x="2317" y="404"/>
                </a:lnTo>
                <a:lnTo>
                  <a:pt x="2310" y="404"/>
                </a:lnTo>
                <a:lnTo>
                  <a:pt x="2304" y="411"/>
                </a:lnTo>
                <a:lnTo>
                  <a:pt x="2297" y="418"/>
                </a:lnTo>
                <a:lnTo>
                  <a:pt x="2290" y="418"/>
                </a:lnTo>
                <a:lnTo>
                  <a:pt x="2283" y="425"/>
                </a:lnTo>
                <a:lnTo>
                  <a:pt x="2269" y="425"/>
                </a:lnTo>
                <a:lnTo>
                  <a:pt x="2262" y="425"/>
                </a:lnTo>
                <a:lnTo>
                  <a:pt x="2256" y="425"/>
                </a:lnTo>
                <a:lnTo>
                  <a:pt x="2249" y="418"/>
                </a:lnTo>
                <a:lnTo>
                  <a:pt x="2242" y="418"/>
                </a:lnTo>
                <a:lnTo>
                  <a:pt x="2228" y="411"/>
                </a:lnTo>
                <a:lnTo>
                  <a:pt x="2221" y="411"/>
                </a:lnTo>
                <a:lnTo>
                  <a:pt x="2214" y="411"/>
                </a:lnTo>
                <a:lnTo>
                  <a:pt x="2201" y="418"/>
                </a:lnTo>
                <a:lnTo>
                  <a:pt x="2194" y="418"/>
                </a:lnTo>
                <a:lnTo>
                  <a:pt x="2187" y="425"/>
                </a:lnTo>
                <a:lnTo>
                  <a:pt x="2180" y="425"/>
                </a:lnTo>
                <a:lnTo>
                  <a:pt x="2173" y="431"/>
                </a:lnTo>
                <a:lnTo>
                  <a:pt x="2160" y="431"/>
                </a:lnTo>
                <a:lnTo>
                  <a:pt x="2153" y="425"/>
                </a:lnTo>
                <a:lnTo>
                  <a:pt x="2139" y="431"/>
                </a:lnTo>
                <a:lnTo>
                  <a:pt x="2132" y="431"/>
                </a:lnTo>
                <a:lnTo>
                  <a:pt x="2125" y="438"/>
                </a:lnTo>
                <a:lnTo>
                  <a:pt x="2118" y="438"/>
                </a:lnTo>
                <a:lnTo>
                  <a:pt x="2112" y="438"/>
                </a:lnTo>
                <a:lnTo>
                  <a:pt x="2098" y="438"/>
                </a:lnTo>
                <a:lnTo>
                  <a:pt x="2091" y="431"/>
                </a:lnTo>
                <a:lnTo>
                  <a:pt x="2084" y="431"/>
                </a:lnTo>
                <a:lnTo>
                  <a:pt x="2077" y="431"/>
                </a:lnTo>
                <a:lnTo>
                  <a:pt x="2064" y="431"/>
                </a:lnTo>
                <a:lnTo>
                  <a:pt x="2057" y="431"/>
                </a:lnTo>
                <a:lnTo>
                  <a:pt x="2050" y="431"/>
                </a:lnTo>
                <a:lnTo>
                  <a:pt x="2036" y="431"/>
                </a:lnTo>
                <a:lnTo>
                  <a:pt x="2029" y="431"/>
                </a:lnTo>
                <a:lnTo>
                  <a:pt x="2022" y="431"/>
                </a:lnTo>
                <a:lnTo>
                  <a:pt x="2009" y="431"/>
                </a:lnTo>
                <a:lnTo>
                  <a:pt x="2002" y="431"/>
                </a:lnTo>
                <a:lnTo>
                  <a:pt x="1988" y="431"/>
                </a:lnTo>
                <a:lnTo>
                  <a:pt x="1981" y="431"/>
                </a:lnTo>
                <a:lnTo>
                  <a:pt x="1974" y="438"/>
                </a:lnTo>
                <a:lnTo>
                  <a:pt x="1968" y="438"/>
                </a:lnTo>
                <a:lnTo>
                  <a:pt x="1961" y="445"/>
                </a:lnTo>
                <a:lnTo>
                  <a:pt x="1947" y="445"/>
                </a:lnTo>
                <a:lnTo>
                  <a:pt x="1940" y="452"/>
                </a:lnTo>
                <a:lnTo>
                  <a:pt x="1933" y="452"/>
                </a:lnTo>
                <a:lnTo>
                  <a:pt x="1926" y="459"/>
                </a:lnTo>
                <a:lnTo>
                  <a:pt x="1920" y="466"/>
                </a:lnTo>
                <a:lnTo>
                  <a:pt x="1913" y="466"/>
                </a:lnTo>
                <a:lnTo>
                  <a:pt x="1913" y="472"/>
                </a:lnTo>
                <a:lnTo>
                  <a:pt x="1906" y="479"/>
                </a:lnTo>
                <a:lnTo>
                  <a:pt x="1906" y="486"/>
                </a:lnTo>
                <a:lnTo>
                  <a:pt x="1906" y="493"/>
                </a:lnTo>
                <a:lnTo>
                  <a:pt x="1906" y="500"/>
                </a:lnTo>
                <a:lnTo>
                  <a:pt x="1906" y="500"/>
                </a:lnTo>
                <a:lnTo>
                  <a:pt x="1913" y="507"/>
                </a:lnTo>
                <a:lnTo>
                  <a:pt x="1920" y="513"/>
                </a:lnTo>
                <a:lnTo>
                  <a:pt x="1926" y="520"/>
                </a:lnTo>
                <a:lnTo>
                  <a:pt x="1926" y="520"/>
                </a:lnTo>
                <a:lnTo>
                  <a:pt x="1933" y="527"/>
                </a:lnTo>
                <a:lnTo>
                  <a:pt x="1926" y="534"/>
                </a:lnTo>
                <a:lnTo>
                  <a:pt x="1926" y="541"/>
                </a:lnTo>
                <a:lnTo>
                  <a:pt x="1926" y="548"/>
                </a:lnTo>
                <a:lnTo>
                  <a:pt x="1920" y="555"/>
                </a:lnTo>
                <a:lnTo>
                  <a:pt x="1920" y="561"/>
                </a:lnTo>
                <a:lnTo>
                  <a:pt x="1913" y="561"/>
                </a:lnTo>
                <a:lnTo>
                  <a:pt x="1913" y="568"/>
                </a:lnTo>
                <a:lnTo>
                  <a:pt x="1913" y="575"/>
                </a:lnTo>
                <a:lnTo>
                  <a:pt x="1913" y="582"/>
                </a:lnTo>
                <a:lnTo>
                  <a:pt x="1906" y="589"/>
                </a:lnTo>
                <a:lnTo>
                  <a:pt x="1906" y="596"/>
                </a:lnTo>
                <a:lnTo>
                  <a:pt x="1906" y="602"/>
                </a:lnTo>
                <a:lnTo>
                  <a:pt x="1899" y="609"/>
                </a:lnTo>
                <a:lnTo>
                  <a:pt x="1899" y="609"/>
                </a:lnTo>
                <a:lnTo>
                  <a:pt x="1899" y="616"/>
                </a:lnTo>
                <a:lnTo>
                  <a:pt x="1892" y="623"/>
                </a:lnTo>
                <a:lnTo>
                  <a:pt x="1885" y="630"/>
                </a:lnTo>
                <a:lnTo>
                  <a:pt x="1879" y="637"/>
                </a:lnTo>
                <a:lnTo>
                  <a:pt x="1872" y="637"/>
                </a:lnTo>
                <a:lnTo>
                  <a:pt x="1865" y="643"/>
                </a:lnTo>
                <a:lnTo>
                  <a:pt x="1858" y="643"/>
                </a:lnTo>
                <a:lnTo>
                  <a:pt x="1851" y="650"/>
                </a:lnTo>
                <a:lnTo>
                  <a:pt x="1844" y="650"/>
                </a:lnTo>
                <a:lnTo>
                  <a:pt x="1837" y="657"/>
                </a:lnTo>
                <a:lnTo>
                  <a:pt x="1824" y="657"/>
                </a:lnTo>
                <a:lnTo>
                  <a:pt x="1817" y="657"/>
                </a:lnTo>
                <a:lnTo>
                  <a:pt x="1810" y="657"/>
                </a:lnTo>
                <a:lnTo>
                  <a:pt x="1796" y="657"/>
                </a:lnTo>
                <a:lnTo>
                  <a:pt x="1789" y="657"/>
                </a:lnTo>
                <a:lnTo>
                  <a:pt x="1783" y="650"/>
                </a:lnTo>
                <a:lnTo>
                  <a:pt x="1769" y="650"/>
                </a:lnTo>
                <a:lnTo>
                  <a:pt x="1762" y="643"/>
                </a:lnTo>
                <a:lnTo>
                  <a:pt x="1755" y="643"/>
                </a:lnTo>
                <a:lnTo>
                  <a:pt x="1755" y="637"/>
                </a:lnTo>
                <a:lnTo>
                  <a:pt x="1748" y="630"/>
                </a:lnTo>
                <a:lnTo>
                  <a:pt x="1741" y="623"/>
                </a:lnTo>
                <a:lnTo>
                  <a:pt x="1741" y="616"/>
                </a:lnTo>
                <a:lnTo>
                  <a:pt x="1741" y="609"/>
                </a:lnTo>
                <a:lnTo>
                  <a:pt x="1741" y="609"/>
                </a:lnTo>
                <a:lnTo>
                  <a:pt x="1741" y="602"/>
                </a:lnTo>
                <a:lnTo>
                  <a:pt x="1741" y="596"/>
                </a:lnTo>
                <a:lnTo>
                  <a:pt x="1735" y="589"/>
                </a:lnTo>
                <a:lnTo>
                  <a:pt x="1735" y="582"/>
                </a:lnTo>
                <a:lnTo>
                  <a:pt x="1735" y="575"/>
                </a:lnTo>
                <a:lnTo>
                  <a:pt x="1728" y="568"/>
                </a:lnTo>
                <a:lnTo>
                  <a:pt x="1721" y="568"/>
                </a:lnTo>
                <a:lnTo>
                  <a:pt x="1714" y="561"/>
                </a:lnTo>
                <a:lnTo>
                  <a:pt x="1700" y="561"/>
                </a:lnTo>
                <a:lnTo>
                  <a:pt x="1693" y="555"/>
                </a:lnTo>
                <a:lnTo>
                  <a:pt x="1687" y="555"/>
                </a:lnTo>
                <a:lnTo>
                  <a:pt x="1687" y="548"/>
                </a:lnTo>
                <a:lnTo>
                  <a:pt x="1680" y="541"/>
                </a:lnTo>
                <a:lnTo>
                  <a:pt x="1680" y="534"/>
                </a:lnTo>
                <a:lnTo>
                  <a:pt x="1673" y="527"/>
                </a:lnTo>
                <a:lnTo>
                  <a:pt x="1673" y="520"/>
                </a:lnTo>
                <a:lnTo>
                  <a:pt x="1680" y="520"/>
                </a:lnTo>
                <a:lnTo>
                  <a:pt x="1687" y="513"/>
                </a:lnTo>
                <a:lnTo>
                  <a:pt x="1687" y="507"/>
                </a:lnTo>
                <a:lnTo>
                  <a:pt x="1687" y="500"/>
                </a:lnTo>
                <a:lnTo>
                  <a:pt x="1693" y="493"/>
                </a:lnTo>
                <a:lnTo>
                  <a:pt x="1693" y="486"/>
                </a:lnTo>
                <a:lnTo>
                  <a:pt x="1700" y="486"/>
                </a:lnTo>
                <a:lnTo>
                  <a:pt x="1700" y="479"/>
                </a:lnTo>
                <a:lnTo>
                  <a:pt x="1707" y="472"/>
                </a:lnTo>
                <a:lnTo>
                  <a:pt x="1707" y="466"/>
                </a:lnTo>
                <a:lnTo>
                  <a:pt x="1714" y="459"/>
                </a:lnTo>
                <a:lnTo>
                  <a:pt x="1721" y="452"/>
                </a:lnTo>
                <a:lnTo>
                  <a:pt x="1721" y="445"/>
                </a:lnTo>
                <a:lnTo>
                  <a:pt x="1721" y="438"/>
                </a:lnTo>
                <a:lnTo>
                  <a:pt x="1714" y="438"/>
                </a:lnTo>
                <a:lnTo>
                  <a:pt x="1707" y="431"/>
                </a:lnTo>
                <a:lnTo>
                  <a:pt x="1700" y="438"/>
                </a:lnTo>
                <a:lnTo>
                  <a:pt x="1693" y="445"/>
                </a:lnTo>
                <a:lnTo>
                  <a:pt x="1693" y="452"/>
                </a:lnTo>
                <a:lnTo>
                  <a:pt x="1687" y="459"/>
                </a:lnTo>
                <a:lnTo>
                  <a:pt x="1680" y="459"/>
                </a:lnTo>
                <a:lnTo>
                  <a:pt x="1673" y="459"/>
                </a:lnTo>
                <a:lnTo>
                  <a:pt x="1659" y="459"/>
                </a:lnTo>
                <a:lnTo>
                  <a:pt x="1652" y="459"/>
                </a:lnTo>
                <a:lnTo>
                  <a:pt x="1645" y="466"/>
                </a:lnTo>
                <a:lnTo>
                  <a:pt x="1639" y="472"/>
                </a:lnTo>
                <a:lnTo>
                  <a:pt x="1632" y="472"/>
                </a:lnTo>
                <a:lnTo>
                  <a:pt x="1625" y="479"/>
                </a:lnTo>
                <a:lnTo>
                  <a:pt x="1618" y="486"/>
                </a:lnTo>
                <a:lnTo>
                  <a:pt x="1611" y="486"/>
                </a:lnTo>
                <a:lnTo>
                  <a:pt x="1604" y="493"/>
                </a:lnTo>
                <a:lnTo>
                  <a:pt x="1597" y="493"/>
                </a:lnTo>
                <a:lnTo>
                  <a:pt x="1591" y="500"/>
                </a:lnTo>
                <a:lnTo>
                  <a:pt x="1584" y="507"/>
                </a:lnTo>
                <a:lnTo>
                  <a:pt x="1577" y="507"/>
                </a:lnTo>
                <a:lnTo>
                  <a:pt x="1570" y="513"/>
                </a:lnTo>
                <a:lnTo>
                  <a:pt x="1563" y="513"/>
                </a:lnTo>
                <a:lnTo>
                  <a:pt x="1556" y="520"/>
                </a:lnTo>
                <a:lnTo>
                  <a:pt x="1549" y="527"/>
                </a:lnTo>
                <a:lnTo>
                  <a:pt x="1543" y="527"/>
                </a:lnTo>
                <a:lnTo>
                  <a:pt x="1543" y="534"/>
                </a:lnTo>
                <a:lnTo>
                  <a:pt x="1536" y="541"/>
                </a:lnTo>
                <a:lnTo>
                  <a:pt x="1529" y="548"/>
                </a:lnTo>
                <a:lnTo>
                  <a:pt x="1522" y="548"/>
                </a:lnTo>
                <a:lnTo>
                  <a:pt x="1515" y="555"/>
                </a:lnTo>
                <a:lnTo>
                  <a:pt x="1515" y="561"/>
                </a:lnTo>
                <a:lnTo>
                  <a:pt x="1515" y="568"/>
                </a:lnTo>
                <a:lnTo>
                  <a:pt x="1515" y="575"/>
                </a:lnTo>
                <a:lnTo>
                  <a:pt x="1508" y="582"/>
                </a:lnTo>
                <a:lnTo>
                  <a:pt x="1508" y="582"/>
                </a:lnTo>
                <a:lnTo>
                  <a:pt x="1501" y="589"/>
                </a:lnTo>
                <a:lnTo>
                  <a:pt x="1488" y="589"/>
                </a:lnTo>
                <a:lnTo>
                  <a:pt x="1481" y="582"/>
                </a:lnTo>
                <a:lnTo>
                  <a:pt x="1474" y="582"/>
                </a:lnTo>
                <a:lnTo>
                  <a:pt x="1467" y="589"/>
                </a:lnTo>
                <a:lnTo>
                  <a:pt x="1460" y="596"/>
                </a:lnTo>
                <a:lnTo>
                  <a:pt x="1460" y="602"/>
                </a:lnTo>
                <a:lnTo>
                  <a:pt x="1453" y="609"/>
                </a:lnTo>
                <a:lnTo>
                  <a:pt x="1453" y="616"/>
                </a:lnTo>
                <a:lnTo>
                  <a:pt x="1447" y="623"/>
                </a:lnTo>
                <a:lnTo>
                  <a:pt x="1447" y="630"/>
                </a:lnTo>
                <a:lnTo>
                  <a:pt x="1440" y="630"/>
                </a:lnTo>
                <a:lnTo>
                  <a:pt x="1440" y="637"/>
                </a:lnTo>
                <a:lnTo>
                  <a:pt x="1440" y="643"/>
                </a:lnTo>
                <a:lnTo>
                  <a:pt x="1433" y="650"/>
                </a:lnTo>
                <a:lnTo>
                  <a:pt x="1433" y="657"/>
                </a:lnTo>
                <a:lnTo>
                  <a:pt x="1433" y="664"/>
                </a:lnTo>
                <a:lnTo>
                  <a:pt x="1433" y="671"/>
                </a:lnTo>
                <a:lnTo>
                  <a:pt x="1433" y="678"/>
                </a:lnTo>
                <a:lnTo>
                  <a:pt x="1433" y="685"/>
                </a:lnTo>
                <a:lnTo>
                  <a:pt x="1433" y="685"/>
                </a:lnTo>
                <a:lnTo>
                  <a:pt x="1433" y="691"/>
                </a:lnTo>
                <a:lnTo>
                  <a:pt x="1433" y="698"/>
                </a:lnTo>
                <a:lnTo>
                  <a:pt x="1426" y="705"/>
                </a:lnTo>
                <a:lnTo>
                  <a:pt x="1426" y="712"/>
                </a:lnTo>
                <a:lnTo>
                  <a:pt x="1426" y="719"/>
                </a:lnTo>
                <a:lnTo>
                  <a:pt x="1426" y="726"/>
                </a:lnTo>
                <a:lnTo>
                  <a:pt x="1426" y="732"/>
                </a:lnTo>
                <a:lnTo>
                  <a:pt x="1426" y="739"/>
                </a:lnTo>
                <a:lnTo>
                  <a:pt x="1426" y="739"/>
                </a:lnTo>
                <a:lnTo>
                  <a:pt x="1426" y="746"/>
                </a:lnTo>
                <a:lnTo>
                  <a:pt x="1426" y="753"/>
                </a:lnTo>
                <a:lnTo>
                  <a:pt x="1426" y="760"/>
                </a:lnTo>
                <a:lnTo>
                  <a:pt x="1426" y="767"/>
                </a:lnTo>
                <a:lnTo>
                  <a:pt x="1433" y="774"/>
                </a:lnTo>
                <a:lnTo>
                  <a:pt x="1433" y="780"/>
                </a:lnTo>
                <a:lnTo>
                  <a:pt x="1433" y="787"/>
                </a:lnTo>
                <a:lnTo>
                  <a:pt x="1433" y="794"/>
                </a:lnTo>
                <a:lnTo>
                  <a:pt x="1433" y="794"/>
                </a:lnTo>
                <a:lnTo>
                  <a:pt x="1433" y="801"/>
                </a:lnTo>
                <a:lnTo>
                  <a:pt x="1433" y="808"/>
                </a:lnTo>
                <a:lnTo>
                  <a:pt x="1433" y="815"/>
                </a:lnTo>
                <a:lnTo>
                  <a:pt x="1433" y="821"/>
                </a:lnTo>
                <a:lnTo>
                  <a:pt x="1433" y="828"/>
                </a:lnTo>
                <a:lnTo>
                  <a:pt x="1426" y="835"/>
                </a:lnTo>
                <a:lnTo>
                  <a:pt x="1419" y="842"/>
                </a:lnTo>
                <a:lnTo>
                  <a:pt x="1419" y="842"/>
                </a:lnTo>
                <a:lnTo>
                  <a:pt x="1412" y="849"/>
                </a:lnTo>
                <a:lnTo>
                  <a:pt x="1405" y="856"/>
                </a:lnTo>
                <a:lnTo>
                  <a:pt x="1399" y="862"/>
                </a:lnTo>
                <a:lnTo>
                  <a:pt x="1392" y="862"/>
                </a:lnTo>
                <a:lnTo>
                  <a:pt x="1392" y="869"/>
                </a:lnTo>
                <a:lnTo>
                  <a:pt x="1392" y="876"/>
                </a:lnTo>
                <a:lnTo>
                  <a:pt x="1399" y="883"/>
                </a:lnTo>
                <a:lnTo>
                  <a:pt x="1412" y="890"/>
                </a:lnTo>
                <a:lnTo>
                  <a:pt x="1419" y="890"/>
                </a:lnTo>
                <a:lnTo>
                  <a:pt x="1426" y="890"/>
                </a:lnTo>
                <a:lnTo>
                  <a:pt x="1433" y="883"/>
                </a:lnTo>
                <a:lnTo>
                  <a:pt x="1433" y="876"/>
                </a:lnTo>
                <a:lnTo>
                  <a:pt x="1440" y="869"/>
                </a:lnTo>
                <a:lnTo>
                  <a:pt x="1440" y="862"/>
                </a:lnTo>
                <a:lnTo>
                  <a:pt x="1447" y="856"/>
                </a:lnTo>
                <a:lnTo>
                  <a:pt x="1453" y="856"/>
                </a:lnTo>
                <a:lnTo>
                  <a:pt x="1453" y="862"/>
                </a:lnTo>
                <a:lnTo>
                  <a:pt x="1460" y="869"/>
                </a:lnTo>
                <a:lnTo>
                  <a:pt x="1460" y="876"/>
                </a:lnTo>
                <a:lnTo>
                  <a:pt x="1460" y="883"/>
                </a:lnTo>
                <a:lnTo>
                  <a:pt x="1453" y="883"/>
                </a:lnTo>
                <a:lnTo>
                  <a:pt x="1447" y="890"/>
                </a:lnTo>
                <a:lnTo>
                  <a:pt x="1447" y="897"/>
                </a:lnTo>
                <a:lnTo>
                  <a:pt x="1440" y="904"/>
                </a:lnTo>
                <a:lnTo>
                  <a:pt x="1433" y="910"/>
                </a:lnTo>
                <a:lnTo>
                  <a:pt x="1426" y="910"/>
                </a:lnTo>
                <a:lnTo>
                  <a:pt x="1419" y="910"/>
                </a:lnTo>
                <a:lnTo>
                  <a:pt x="1412" y="904"/>
                </a:lnTo>
                <a:lnTo>
                  <a:pt x="1412" y="897"/>
                </a:lnTo>
                <a:lnTo>
                  <a:pt x="1405" y="897"/>
                </a:lnTo>
                <a:lnTo>
                  <a:pt x="1405" y="890"/>
                </a:lnTo>
                <a:lnTo>
                  <a:pt x="1399" y="883"/>
                </a:lnTo>
                <a:lnTo>
                  <a:pt x="1392" y="876"/>
                </a:lnTo>
                <a:lnTo>
                  <a:pt x="1392" y="869"/>
                </a:lnTo>
                <a:lnTo>
                  <a:pt x="1385" y="869"/>
                </a:lnTo>
                <a:lnTo>
                  <a:pt x="1378" y="862"/>
                </a:lnTo>
                <a:lnTo>
                  <a:pt x="1378" y="856"/>
                </a:lnTo>
                <a:lnTo>
                  <a:pt x="1371" y="849"/>
                </a:lnTo>
                <a:lnTo>
                  <a:pt x="1364" y="842"/>
                </a:lnTo>
                <a:lnTo>
                  <a:pt x="1364" y="842"/>
                </a:lnTo>
                <a:lnTo>
                  <a:pt x="1357" y="835"/>
                </a:lnTo>
                <a:lnTo>
                  <a:pt x="1357" y="828"/>
                </a:lnTo>
                <a:lnTo>
                  <a:pt x="1357" y="821"/>
                </a:lnTo>
                <a:lnTo>
                  <a:pt x="1357" y="815"/>
                </a:lnTo>
                <a:lnTo>
                  <a:pt x="1357" y="808"/>
                </a:lnTo>
                <a:lnTo>
                  <a:pt x="1351" y="801"/>
                </a:lnTo>
                <a:lnTo>
                  <a:pt x="1351" y="794"/>
                </a:lnTo>
                <a:lnTo>
                  <a:pt x="1351" y="794"/>
                </a:lnTo>
                <a:lnTo>
                  <a:pt x="1351" y="787"/>
                </a:lnTo>
                <a:lnTo>
                  <a:pt x="1351" y="780"/>
                </a:lnTo>
                <a:lnTo>
                  <a:pt x="1351" y="774"/>
                </a:lnTo>
                <a:lnTo>
                  <a:pt x="1344" y="767"/>
                </a:lnTo>
                <a:lnTo>
                  <a:pt x="1344" y="760"/>
                </a:lnTo>
                <a:lnTo>
                  <a:pt x="1344" y="753"/>
                </a:lnTo>
                <a:lnTo>
                  <a:pt x="1344" y="753"/>
                </a:lnTo>
                <a:lnTo>
                  <a:pt x="1337" y="746"/>
                </a:lnTo>
                <a:lnTo>
                  <a:pt x="1337" y="739"/>
                </a:lnTo>
                <a:lnTo>
                  <a:pt x="1337" y="732"/>
                </a:lnTo>
                <a:lnTo>
                  <a:pt x="1337" y="726"/>
                </a:lnTo>
                <a:lnTo>
                  <a:pt x="1330" y="719"/>
                </a:lnTo>
                <a:lnTo>
                  <a:pt x="1330" y="712"/>
                </a:lnTo>
                <a:lnTo>
                  <a:pt x="1330" y="719"/>
                </a:lnTo>
                <a:lnTo>
                  <a:pt x="1323" y="726"/>
                </a:lnTo>
                <a:lnTo>
                  <a:pt x="1316" y="732"/>
                </a:lnTo>
                <a:lnTo>
                  <a:pt x="1309" y="732"/>
                </a:lnTo>
                <a:lnTo>
                  <a:pt x="1303" y="732"/>
                </a:lnTo>
                <a:lnTo>
                  <a:pt x="1296" y="739"/>
                </a:lnTo>
                <a:lnTo>
                  <a:pt x="1296" y="746"/>
                </a:lnTo>
                <a:lnTo>
                  <a:pt x="1289" y="753"/>
                </a:lnTo>
                <a:lnTo>
                  <a:pt x="1289" y="760"/>
                </a:lnTo>
                <a:lnTo>
                  <a:pt x="1282" y="767"/>
                </a:lnTo>
                <a:lnTo>
                  <a:pt x="1282" y="774"/>
                </a:lnTo>
                <a:lnTo>
                  <a:pt x="1275" y="774"/>
                </a:lnTo>
                <a:lnTo>
                  <a:pt x="1275" y="780"/>
                </a:lnTo>
                <a:lnTo>
                  <a:pt x="1268" y="787"/>
                </a:lnTo>
                <a:lnTo>
                  <a:pt x="1261" y="794"/>
                </a:lnTo>
                <a:lnTo>
                  <a:pt x="1261" y="801"/>
                </a:lnTo>
                <a:lnTo>
                  <a:pt x="1255" y="801"/>
                </a:lnTo>
                <a:lnTo>
                  <a:pt x="1255" y="808"/>
                </a:lnTo>
                <a:lnTo>
                  <a:pt x="1248" y="815"/>
                </a:lnTo>
                <a:lnTo>
                  <a:pt x="1241" y="821"/>
                </a:lnTo>
                <a:lnTo>
                  <a:pt x="1234" y="821"/>
                </a:lnTo>
                <a:lnTo>
                  <a:pt x="1234" y="828"/>
                </a:lnTo>
                <a:lnTo>
                  <a:pt x="1227" y="835"/>
                </a:lnTo>
                <a:lnTo>
                  <a:pt x="1220" y="842"/>
                </a:lnTo>
                <a:lnTo>
                  <a:pt x="1213" y="842"/>
                </a:lnTo>
                <a:lnTo>
                  <a:pt x="1213" y="849"/>
                </a:lnTo>
                <a:lnTo>
                  <a:pt x="1207" y="856"/>
                </a:lnTo>
                <a:lnTo>
                  <a:pt x="1207" y="862"/>
                </a:lnTo>
                <a:lnTo>
                  <a:pt x="1207" y="869"/>
                </a:lnTo>
                <a:lnTo>
                  <a:pt x="1207" y="876"/>
                </a:lnTo>
                <a:lnTo>
                  <a:pt x="1207" y="883"/>
                </a:lnTo>
                <a:lnTo>
                  <a:pt x="1213" y="883"/>
                </a:lnTo>
                <a:lnTo>
                  <a:pt x="1220" y="890"/>
                </a:lnTo>
                <a:lnTo>
                  <a:pt x="1227" y="897"/>
                </a:lnTo>
                <a:lnTo>
                  <a:pt x="1241" y="897"/>
                </a:lnTo>
                <a:lnTo>
                  <a:pt x="1248" y="897"/>
                </a:lnTo>
                <a:lnTo>
                  <a:pt x="1255" y="904"/>
                </a:lnTo>
                <a:lnTo>
                  <a:pt x="1255" y="910"/>
                </a:lnTo>
                <a:lnTo>
                  <a:pt x="1255" y="910"/>
                </a:lnTo>
                <a:lnTo>
                  <a:pt x="1248" y="917"/>
                </a:lnTo>
                <a:lnTo>
                  <a:pt x="1248" y="924"/>
                </a:lnTo>
                <a:lnTo>
                  <a:pt x="1241" y="931"/>
                </a:lnTo>
                <a:lnTo>
                  <a:pt x="1241" y="938"/>
                </a:lnTo>
                <a:lnTo>
                  <a:pt x="1248" y="945"/>
                </a:lnTo>
                <a:lnTo>
                  <a:pt x="1248" y="951"/>
                </a:lnTo>
                <a:lnTo>
                  <a:pt x="1248" y="958"/>
                </a:lnTo>
                <a:lnTo>
                  <a:pt x="1248" y="965"/>
                </a:lnTo>
                <a:lnTo>
                  <a:pt x="1255" y="965"/>
                </a:lnTo>
                <a:lnTo>
                  <a:pt x="1255" y="972"/>
                </a:lnTo>
                <a:lnTo>
                  <a:pt x="1255" y="979"/>
                </a:lnTo>
                <a:lnTo>
                  <a:pt x="1255" y="986"/>
                </a:lnTo>
                <a:lnTo>
                  <a:pt x="1255" y="992"/>
                </a:lnTo>
                <a:lnTo>
                  <a:pt x="1255" y="999"/>
                </a:lnTo>
                <a:lnTo>
                  <a:pt x="1255" y="1006"/>
                </a:lnTo>
                <a:lnTo>
                  <a:pt x="1255" y="1013"/>
                </a:lnTo>
                <a:lnTo>
                  <a:pt x="1255" y="1020"/>
                </a:lnTo>
                <a:lnTo>
                  <a:pt x="1261" y="1027"/>
                </a:lnTo>
                <a:lnTo>
                  <a:pt x="1261" y="1027"/>
                </a:lnTo>
                <a:lnTo>
                  <a:pt x="1261" y="1034"/>
                </a:lnTo>
                <a:lnTo>
                  <a:pt x="1261" y="1040"/>
                </a:lnTo>
                <a:lnTo>
                  <a:pt x="1261" y="1047"/>
                </a:lnTo>
                <a:lnTo>
                  <a:pt x="1268" y="1054"/>
                </a:lnTo>
                <a:lnTo>
                  <a:pt x="1268" y="1061"/>
                </a:lnTo>
                <a:lnTo>
                  <a:pt x="1268" y="1068"/>
                </a:lnTo>
                <a:lnTo>
                  <a:pt x="1268" y="1075"/>
                </a:lnTo>
                <a:lnTo>
                  <a:pt x="1268" y="1081"/>
                </a:lnTo>
                <a:lnTo>
                  <a:pt x="1268" y="1081"/>
                </a:lnTo>
                <a:lnTo>
                  <a:pt x="1275" y="1088"/>
                </a:lnTo>
                <a:lnTo>
                  <a:pt x="1275" y="1095"/>
                </a:lnTo>
                <a:lnTo>
                  <a:pt x="1275" y="1102"/>
                </a:lnTo>
                <a:lnTo>
                  <a:pt x="1275" y="1109"/>
                </a:lnTo>
                <a:lnTo>
                  <a:pt x="1282" y="1116"/>
                </a:lnTo>
                <a:lnTo>
                  <a:pt x="1282" y="1122"/>
                </a:lnTo>
                <a:lnTo>
                  <a:pt x="1289" y="1129"/>
                </a:lnTo>
                <a:lnTo>
                  <a:pt x="1282" y="1136"/>
                </a:lnTo>
                <a:lnTo>
                  <a:pt x="1275" y="1136"/>
                </a:lnTo>
                <a:lnTo>
                  <a:pt x="1261" y="1136"/>
                </a:lnTo>
                <a:lnTo>
                  <a:pt x="1255" y="1136"/>
                </a:lnTo>
                <a:lnTo>
                  <a:pt x="1248" y="1143"/>
                </a:lnTo>
                <a:lnTo>
                  <a:pt x="1241" y="1143"/>
                </a:lnTo>
                <a:lnTo>
                  <a:pt x="1234" y="1143"/>
                </a:lnTo>
                <a:lnTo>
                  <a:pt x="1227" y="1150"/>
                </a:lnTo>
                <a:lnTo>
                  <a:pt x="1220" y="1157"/>
                </a:lnTo>
                <a:lnTo>
                  <a:pt x="1213" y="1164"/>
                </a:lnTo>
                <a:lnTo>
                  <a:pt x="1213" y="1157"/>
                </a:lnTo>
                <a:lnTo>
                  <a:pt x="1207" y="1150"/>
                </a:lnTo>
                <a:lnTo>
                  <a:pt x="1207" y="1143"/>
                </a:lnTo>
                <a:lnTo>
                  <a:pt x="1200" y="1143"/>
                </a:lnTo>
                <a:lnTo>
                  <a:pt x="1200" y="1136"/>
                </a:lnTo>
                <a:lnTo>
                  <a:pt x="1193" y="1129"/>
                </a:lnTo>
                <a:lnTo>
                  <a:pt x="1193" y="1122"/>
                </a:lnTo>
                <a:lnTo>
                  <a:pt x="1193" y="1122"/>
                </a:lnTo>
                <a:lnTo>
                  <a:pt x="1193" y="1116"/>
                </a:lnTo>
                <a:lnTo>
                  <a:pt x="1193" y="1109"/>
                </a:lnTo>
                <a:lnTo>
                  <a:pt x="1193" y="1102"/>
                </a:lnTo>
                <a:lnTo>
                  <a:pt x="1193" y="1095"/>
                </a:lnTo>
                <a:lnTo>
                  <a:pt x="1193" y="1088"/>
                </a:lnTo>
                <a:lnTo>
                  <a:pt x="1200" y="1081"/>
                </a:lnTo>
                <a:lnTo>
                  <a:pt x="1200" y="1075"/>
                </a:lnTo>
                <a:lnTo>
                  <a:pt x="1200" y="1068"/>
                </a:lnTo>
                <a:lnTo>
                  <a:pt x="1207" y="1061"/>
                </a:lnTo>
                <a:lnTo>
                  <a:pt x="1207" y="1061"/>
                </a:lnTo>
                <a:lnTo>
                  <a:pt x="1207" y="1054"/>
                </a:lnTo>
                <a:lnTo>
                  <a:pt x="1207" y="1047"/>
                </a:lnTo>
                <a:lnTo>
                  <a:pt x="1207" y="1040"/>
                </a:lnTo>
                <a:lnTo>
                  <a:pt x="1200" y="1034"/>
                </a:lnTo>
                <a:lnTo>
                  <a:pt x="1193" y="1027"/>
                </a:lnTo>
                <a:lnTo>
                  <a:pt x="1186" y="1027"/>
                </a:lnTo>
                <a:lnTo>
                  <a:pt x="1179" y="1020"/>
                </a:lnTo>
                <a:lnTo>
                  <a:pt x="1186" y="1013"/>
                </a:lnTo>
                <a:lnTo>
                  <a:pt x="1186" y="1013"/>
                </a:lnTo>
                <a:lnTo>
                  <a:pt x="1193" y="1013"/>
                </a:lnTo>
                <a:lnTo>
                  <a:pt x="1200" y="1020"/>
                </a:lnTo>
                <a:lnTo>
                  <a:pt x="1207" y="1027"/>
                </a:lnTo>
                <a:lnTo>
                  <a:pt x="1213" y="1034"/>
                </a:lnTo>
                <a:lnTo>
                  <a:pt x="1220" y="1034"/>
                </a:lnTo>
                <a:lnTo>
                  <a:pt x="1220" y="1034"/>
                </a:lnTo>
                <a:lnTo>
                  <a:pt x="1227" y="1027"/>
                </a:lnTo>
                <a:lnTo>
                  <a:pt x="1234" y="1020"/>
                </a:lnTo>
                <a:lnTo>
                  <a:pt x="1234" y="1013"/>
                </a:lnTo>
                <a:lnTo>
                  <a:pt x="1241" y="1006"/>
                </a:lnTo>
                <a:lnTo>
                  <a:pt x="1241" y="999"/>
                </a:lnTo>
                <a:lnTo>
                  <a:pt x="1241" y="992"/>
                </a:lnTo>
                <a:lnTo>
                  <a:pt x="1234" y="986"/>
                </a:lnTo>
                <a:lnTo>
                  <a:pt x="1227" y="986"/>
                </a:lnTo>
                <a:lnTo>
                  <a:pt x="1220" y="979"/>
                </a:lnTo>
                <a:lnTo>
                  <a:pt x="1213" y="979"/>
                </a:lnTo>
                <a:lnTo>
                  <a:pt x="1207" y="972"/>
                </a:lnTo>
                <a:lnTo>
                  <a:pt x="1200" y="972"/>
                </a:lnTo>
                <a:lnTo>
                  <a:pt x="1193" y="965"/>
                </a:lnTo>
                <a:lnTo>
                  <a:pt x="1186" y="965"/>
                </a:lnTo>
                <a:lnTo>
                  <a:pt x="1172" y="958"/>
                </a:lnTo>
                <a:lnTo>
                  <a:pt x="1165" y="958"/>
                </a:lnTo>
                <a:lnTo>
                  <a:pt x="1159" y="958"/>
                </a:lnTo>
                <a:lnTo>
                  <a:pt x="1152" y="965"/>
                </a:lnTo>
                <a:lnTo>
                  <a:pt x="1152" y="972"/>
                </a:lnTo>
                <a:lnTo>
                  <a:pt x="1145" y="972"/>
                </a:lnTo>
                <a:lnTo>
                  <a:pt x="1145" y="979"/>
                </a:lnTo>
                <a:lnTo>
                  <a:pt x="1138" y="986"/>
                </a:lnTo>
                <a:lnTo>
                  <a:pt x="1138" y="992"/>
                </a:lnTo>
                <a:lnTo>
                  <a:pt x="1131" y="999"/>
                </a:lnTo>
                <a:lnTo>
                  <a:pt x="1131" y="1006"/>
                </a:lnTo>
                <a:lnTo>
                  <a:pt x="1131" y="1013"/>
                </a:lnTo>
                <a:lnTo>
                  <a:pt x="1124" y="1013"/>
                </a:lnTo>
                <a:lnTo>
                  <a:pt x="1124" y="1020"/>
                </a:lnTo>
                <a:lnTo>
                  <a:pt x="1117" y="1027"/>
                </a:lnTo>
                <a:lnTo>
                  <a:pt x="1111" y="1034"/>
                </a:lnTo>
                <a:lnTo>
                  <a:pt x="1104" y="1034"/>
                </a:lnTo>
                <a:lnTo>
                  <a:pt x="1104" y="1040"/>
                </a:lnTo>
                <a:lnTo>
                  <a:pt x="1097" y="1047"/>
                </a:lnTo>
                <a:lnTo>
                  <a:pt x="1090" y="1054"/>
                </a:lnTo>
                <a:lnTo>
                  <a:pt x="1090" y="1061"/>
                </a:lnTo>
                <a:lnTo>
                  <a:pt x="1083" y="1061"/>
                </a:lnTo>
                <a:lnTo>
                  <a:pt x="1076" y="1068"/>
                </a:lnTo>
                <a:lnTo>
                  <a:pt x="1070" y="1068"/>
                </a:lnTo>
                <a:lnTo>
                  <a:pt x="1056" y="1068"/>
                </a:lnTo>
                <a:lnTo>
                  <a:pt x="1049" y="1068"/>
                </a:lnTo>
                <a:lnTo>
                  <a:pt x="1035" y="1068"/>
                </a:lnTo>
                <a:lnTo>
                  <a:pt x="1028" y="1068"/>
                </a:lnTo>
                <a:lnTo>
                  <a:pt x="1022" y="1068"/>
                </a:lnTo>
                <a:lnTo>
                  <a:pt x="1008" y="1075"/>
                </a:lnTo>
                <a:lnTo>
                  <a:pt x="1001" y="1075"/>
                </a:lnTo>
                <a:lnTo>
                  <a:pt x="987" y="1075"/>
                </a:lnTo>
                <a:lnTo>
                  <a:pt x="980" y="1075"/>
                </a:lnTo>
                <a:lnTo>
                  <a:pt x="980" y="1068"/>
                </a:lnTo>
                <a:lnTo>
                  <a:pt x="974" y="1061"/>
                </a:lnTo>
                <a:lnTo>
                  <a:pt x="974" y="1054"/>
                </a:lnTo>
                <a:lnTo>
                  <a:pt x="974" y="1047"/>
                </a:lnTo>
                <a:lnTo>
                  <a:pt x="974" y="1040"/>
                </a:lnTo>
                <a:lnTo>
                  <a:pt x="967" y="1034"/>
                </a:lnTo>
                <a:lnTo>
                  <a:pt x="967" y="1027"/>
                </a:lnTo>
                <a:lnTo>
                  <a:pt x="960" y="1027"/>
                </a:lnTo>
                <a:lnTo>
                  <a:pt x="960" y="1020"/>
                </a:lnTo>
                <a:lnTo>
                  <a:pt x="953" y="1013"/>
                </a:lnTo>
                <a:lnTo>
                  <a:pt x="946" y="1013"/>
                </a:lnTo>
                <a:lnTo>
                  <a:pt x="939" y="1013"/>
                </a:lnTo>
                <a:lnTo>
                  <a:pt x="932" y="1020"/>
                </a:lnTo>
                <a:lnTo>
                  <a:pt x="919" y="1020"/>
                </a:lnTo>
                <a:lnTo>
                  <a:pt x="912" y="1020"/>
                </a:lnTo>
                <a:lnTo>
                  <a:pt x="905" y="1020"/>
                </a:lnTo>
                <a:lnTo>
                  <a:pt x="891" y="1027"/>
                </a:lnTo>
                <a:lnTo>
                  <a:pt x="884" y="1027"/>
                </a:lnTo>
                <a:lnTo>
                  <a:pt x="878" y="1027"/>
                </a:lnTo>
                <a:lnTo>
                  <a:pt x="864" y="1034"/>
                </a:lnTo>
                <a:lnTo>
                  <a:pt x="857" y="1034"/>
                </a:lnTo>
                <a:lnTo>
                  <a:pt x="850" y="1034"/>
                </a:lnTo>
                <a:lnTo>
                  <a:pt x="836" y="1034"/>
                </a:lnTo>
                <a:lnTo>
                  <a:pt x="830" y="1034"/>
                </a:lnTo>
                <a:lnTo>
                  <a:pt x="823" y="1034"/>
                </a:lnTo>
                <a:lnTo>
                  <a:pt x="809" y="1034"/>
                </a:lnTo>
                <a:lnTo>
                  <a:pt x="802" y="1034"/>
                </a:lnTo>
                <a:lnTo>
                  <a:pt x="795" y="1027"/>
                </a:lnTo>
                <a:lnTo>
                  <a:pt x="782" y="1027"/>
                </a:lnTo>
                <a:lnTo>
                  <a:pt x="775" y="1020"/>
                </a:lnTo>
                <a:lnTo>
                  <a:pt x="768" y="1020"/>
                </a:lnTo>
                <a:lnTo>
                  <a:pt x="761" y="1013"/>
                </a:lnTo>
                <a:lnTo>
                  <a:pt x="754" y="1013"/>
                </a:lnTo>
                <a:lnTo>
                  <a:pt x="747" y="1006"/>
                </a:lnTo>
                <a:lnTo>
                  <a:pt x="740" y="1006"/>
                </a:lnTo>
                <a:lnTo>
                  <a:pt x="734" y="999"/>
                </a:lnTo>
                <a:lnTo>
                  <a:pt x="727" y="992"/>
                </a:lnTo>
                <a:lnTo>
                  <a:pt x="727" y="986"/>
                </a:lnTo>
                <a:lnTo>
                  <a:pt x="720" y="979"/>
                </a:lnTo>
                <a:lnTo>
                  <a:pt x="720" y="979"/>
                </a:lnTo>
                <a:lnTo>
                  <a:pt x="720" y="972"/>
                </a:lnTo>
                <a:lnTo>
                  <a:pt x="720" y="965"/>
                </a:lnTo>
                <a:lnTo>
                  <a:pt x="720" y="958"/>
                </a:lnTo>
                <a:lnTo>
                  <a:pt x="713" y="951"/>
                </a:lnTo>
                <a:lnTo>
                  <a:pt x="713" y="945"/>
                </a:lnTo>
                <a:lnTo>
                  <a:pt x="713" y="938"/>
                </a:lnTo>
                <a:lnTo>
                  <a:pt x="713" y="931"/>
                </a:lnTo>
                <a:lnTo>
                  <a:pt x="713" y="924"/>
                </a:lnTo>
                <a:lnTo>
                  <a:pt x="713" y="917"/>
                </a:lnTo>
                <a:lnTo>
                  <a:pt x="713" y="917"/>
                </a:lnTo>
                <a:lnTo>
                  <a:pt x="713" y="910"/>
                </a:lnTo>
                <a:lnTo>
                  <a:pt x="713" y="904"/>
                </a:lnTo>
                <a:lnTo>
                  <a:pt x="713" y="897"/>
                </a:lnTo>
                <a:lnTo>
                  <a:pt x="713" y="890"/>
                </a:lnTo>
                <a:lnTo>
                  <a:pt x="713" y="883"/>
                </a:lnTo>
                <a:lnTo>
                  <a:pt x="713" y="876"/>
                </a:lnTo>
                <a:lnTo>
                  <a:pt x="713" y="869"/>
                </a:lnTo>
                <a:lnTo>
                  <a:pt x="713" y="862"/>
                </a:lnTo>
                <a:lnTo>
                  <a:pt x="713" y="862"/>
                </a:lnTo>
                <a:lnTo>
                  <a:pt x="713" y="856"/>
                </a:lnTo>
                <a:lnTo>
                  <a:pt x="713" y="849"/>
                </a:lnTo>
                <a:lnTo>
                  <a:pt x="713" y="842"/>
                </a:lnTo>
                <a:lnTo>
                  <a:pt x="713" y="835"/>
                </a:lnTo>
                <a:lnTo>
                  <a:pt x="713" y="828"/>
                </a:lnTo>
                <a:lnTo>
                  <a:pt x="713" y="821"/>
                </a:lnTo>
                <a:lnTo>
                  <a:pt x="713" y="815"/>
                </a:lnTo>
                <a:lnTo>
                  <a:pt x="713" y="808"/>
                </a:lnTo>
                <a:lnTo>
                  <a:pt x="713" y="801"/>
                </a:lnTo>
                <a:lnTo>
                  <a:pt x="706" y="801"/>
                </a:lnTo>
                <a:lnTo>
                  <a:pt x="706" y="794"/>
                </a:lnTo>
                <a:lnTo>
                  <a:pt x="706" y="787"/>
                </a:lnTo>
                <a:lnTo>
                  <a:pt x="706" y="780"/>
                </a:lnTo>
                <a:lnTo>
                  <a:pt x="706" y="774"/>
                </a:lnTo>
                <a:lnTo>
                  <a:pt x="706" y="767"/>
                </a:lnTo>
                <a:lnTo>
                  <a:pt x="706" y="760"/>
                </a:lnTo>
                <a:lnTo>
                  <a:pt x="706" y="753"/>
                </a:lnTo>
                <a:lnTo>
                  <a:pt x="699" y="746"/>
                </a:lnTo>
                <a:lnTo>
                  <a:pt x="699" y="746"/>
                </a:lnTo>
                <a:lnTo>
                  <a:pt x="692" y="746"/>
                </a:lnTo>
                <a:lnTo>
                  <a:pt x="686" y="753"/>
                </a:lnTo>
                <a:lnTo>
                  <a:pt x="679" y="760"/>
                </a:lnTo>
                <a:lnTo>
                  <a:pt x="679" y="767"/>
                </a:lnTo>
                <a:lnTo>
                  <a:pt x="679" y="774"/>
                </a:lnTo>
                <a:lnTo>
                  <a:pt x="679" y="780"/>
                </a:lnTo>
                <a:lnTo>
                  <a:pt x="672" y="780"/>
                </a:lnTo>
                <a:lnTo>
                  <a:pt x="672" y="787"/>
                </a:lnTo>
                <a:lnTo>
                  <a:pt x="672" y="794"/>
                </a:lnTo>
                <a:lnTo>
                  <a:pt x="665" y="801"/>
                </a:lnTo>
                <a:lnTo>
                  <a:pt x="665" y="808"/>
                </a:lnTo>
                <a:lnTo>
                  <a:pt x="658" y="808"/>
                </a:lnTo>
                <a:lnTo>
                  <a:pt x="651" y="815"/>
                </a:lnTo>
                <a:lnTo>
                  <a:pt x="651" y="821"/>
                </a:lnTo>
                <a:lnTo>
                  <a:pt x="651" y="828"/>
                </a:lnTo>
                <a:lnTo>
                  <a:pt x="651" y="835"/>
                </a:lnTo>
                <a:lnTo>
                  <a:pt x="651" y="842"/>
                </a:lnTo>
                <a:lnTo>
                  <a:pt x="651" y="849"/>
                </a:lnTo>
                <a:lnTo>
                  <a:pt x="644" y="856"/>
                </a:lnTo>
                <a:lnTo>
                  <a:pt x="644" y="862"/>
                </a:lnTo>
                <a:lnTo>
                  <a:pt x="644" y="862"/>
                </a:lnTo>
                <a:lnTo>
                  <a:pt x="644" y="869"/>
                </a:lnTo>
                <a:lnTo>
                  <a:pt x="644" y="876"/>
                </a:lnTo>
                <a:lnTo>
                  <a:pt x="644" y="883"/>
                </a:lnTo>
                <a:lnTo>
                  <a:pt x="644" y="890"/>
                </a:lnTo>
                <a:lnTo>
                  <a:pt x="638" y="897"/>
                </a:lnTo>
                <a:lnTo>
                  <a:pt x="638" y="904"/>
                </a:lnTo>
                <a:lnTo>
                  <a:pt x="638" y="910"/>
                </a:lnTo>
                <a:lnTo>
                  <a:pt x="638" y="917"/>
                </a:lnTo>
                <a:lnTo>
                  <a:pt x="638" y="917"/>
                </a:lnTo>
                <a:lnTo>
                  <a:pt x="638" y="924"/>
                </a:lnTo>
                <a:lnTo>
                  <a:pt x="638" y="931"/>
                </a:lnTo>
                <a:lnTo>
                  <a:pt x="631" y="938"/>
                </a:lnTo>
                <a:lnTo>
                  <a:pt x="631" y="945"/>
                </a:lnTo>
                <a:lnTo>
                  <a:pt x="631" y="951"/>
                </a:lnTo>
                <a:lnTo>
                  <a:pt x="631" y="958"/>
                </a:lnTo>
                <a:lnTo>
                  <a:pt x="631" y="965"/>
                </a:lnTo>
                <a:lnTo>
                  <a:pt x="631" y="972"/>
                </a:lnTo>
                <a:lnTo>
                  <a:pt x="624" y="972"/>
                </a:lnTo>
                <a:lnTo>
                  <a:pt x="624" y="979"/>
                </a:lnTo>
                <a:lnTo>
                  <a:pt x="624" y="986"/>
                </a:lnTo>
                <a:lnTo>
                  <a:pt x="624" y="992"/>
                </a:lnTo>
                <a:lnTo>
                  <a:pt x="624" y="999"/>
                </a:lnTo>
                <a:lnTo>
                  <a:pt x="624" y="1006"/>
                </a:lnTo>
                <a:lnTo>
                  <a:pt x="624" y="1013"/>
                </a:lnTo>
                <a:lnTo>
                  <a:pt x="624" y="1020"/>
                </a:lnTo>
                <a:lnTo>
                  <a:pt x="617" y="1020"/>
                </a:lnTo>
                <a:lnTo>
                  <a:pt x="610" y="1027"/>
                </a:lnTo>
                <a:lnTo>
                  <a:pt x="603" y="1034"/>
                </a:lnTo>
                <a:lnTo>
                  <a:pt x="596" y="1040"/>
                </a:lnTo>
                <a:lnTo>
                  <a:pt x="590" y="1040"/>
                </a:lnTo>
                <a:lnTo>
                  <a:pt x="590" y="1047"/>
                </a:lnTo>
                <a:lnTo>
                  <a:pt x="596" y="1054"/>
                </a:lnTo>
                <a:lnTo>
                  <a:pt x="596" y="1061"/>
                </a:lnTo>
                <a:lnTo>
                  <a:pt x="603" y="1068"/>
                </a:lnTo>
                <a:lnTo>
                  <a:pt x="610" y="1068"/>
                </a:lnTo>
                <a:lnTo>
                  <a:pt x="617" y="1075"/>
                </a:lnTo>
                <a:lnTo>
                  <a:pt x="624" y="1081"/>
                </a:lnTo>
                <a:lnTo>
                  <a:pt x="624" y="1088"/>
                </a:lnTo>
                <a:lnTo>
                  <a:pt x="631" y="1095"/>
                </a:lnTo>
                <a:lnTo>
                  <a:pt x="638" y="1095"/>
                </a:lnTo>
                <a:lnTo>
                  <a:pt x="638" y="1102"/>
                </a:lnTo>
                <a:lnTo>
                  <a:pt x="638" y="1109"/>
                </a:lnTo>
                <a:lnTo>
                  <a:pt x="631" y="1116"/>
                </a:lnTo>
                <a:lnTo>
                  <a:pt x="624" y="1116"/>
                </a:lnTo>
                <a:lnTo>
                  <a:pt x="617" y="1122"/>
                </a:lnTo>
                <a:lnTo>
                  <a:pt x="603" y="1122"/>
                </a:lnTo>
                <a:lnTo>
                  <a:pt x="596" y="1129"/>
                </a:lnTo>
                <a:lnTo>
                  <a:pt x="590" y="1129"/>
                </a:lnTo>
                <a:lnTo>
                  <a:pt x="583" y="1136"/>
                </a:lnTo>
                <a:lnTo>
                  <a:pt x="576" y="1143"/>
                </a:lnTo>
                <a:lnTo>
                  <a:pt x="569" y="1143"/>
                </a:lnTo>
                <a:lnTo>
                  <a:pt x="562" y="1150"/>
                </a:lnTo>
                <a:lnTo>
                  <a:pt x="555" y="1150"/>
                </a:lnTo>
                <a:lnTo>
                  <a:pt x="548" y="1157"/>
                </a:lnTo>
                <a:lnTo>
                  <a:pt x="542" y="1164"/>
                </a:lnTo>
                <a:lnTo>
                  <a:pt x="535" y="1164"/>
                </a:lnTo>
                <a:lnTo>
                  <a:pt x="535" y="1170"/>
                </a:lnTo>
                <a:lnTo>
                  <a:pt x="528" y="1177"/>
                </a:lnTo>
                <a:lnTo>
                  <a:pt x="521" y="1184"/>
                </a:lnTo>
                <a:lnTo>
                  <a:pt x="521" y="1184"/>
                </a:lnTo>
                <a:lnTo>
                  <a:pt x="514" y="1191"/>
                </a:lnTo>
                <a:lnTo>
                  <a:pt x="507" y="1198"/>
                </a:lnTo>
                <a:lnTo>
                  <a:pt x="494" y="1198"/>
                </a:lnTo>
                <a:lnTo>
                  <a:pt x="487" y="1205"/>
                </a:lnTo>
                <a:lnTo>
                  <a:pt x="480" y="1205"/>
                </a:lnTo>
                <a:lnTo>
                  <a:pt x="473" y="1211"/>
                </a:lnTo>
                <a:lnTo>
                  <a:pt x="473" y="1218"/>
                </a:lnTo>
                <a:lnTo>
                  <a:pt x="466" y="1225"/>
                </a:lnTo>
                <a:lnTo>
                  <a:pt x="494" y="1252"/>
                </a:lnTo>
                <a:lnTo>
                  <a:pt x="521" y="1280"/>
                </a:lnTo>
                <a:lnTo>
                  <a:pt x="548" y="1307"/>
                </a:lnTo>
                <a:lnTo>
                  <a:pt x="583" y="1335"/>
                </a:lnTo>
                <a:lnTo>
                  <a:pt x="610" y="1369"/>
                </a:lnTo>
                <a:lnTo>
                  <a:pt x="638" y="1396"/>
                </a:lnTo>
                <a:lnTo>
                  <a:pt x="665" y="1424"/>
                </a:lnTo>
                <a:lnTo>
                  <a:pt x="692" y="1451"/>
                </a:lnTo>
                <a:lnTo>
                  <a:pt x="727" y="1485"/>
                </a:lnTo>
                <a:lnTo>
                  <a:pt x="754" y="1513"/>
                </a:lnTo>
                <a:lnTo>
                  <a:pt x="782" y="1540"/>
                </a:lnTo>
                <a:lnTo>
                  <a:pt x="809" y="1567"/>
                </a:lnTo>
                <a:lnTo>
                  <a:pt x="843" y="1601"/>
                </a:lnTo>
                <a:lnTo>
                  <a:pt x="871" y="1601"/>
                </a:lnTo>
                <a:lnTo>
                  <a:pt x="898" y="1629"/>
                </a:lnTo>
                <a:lnTo>
                  <a:pt x="926" y="1656"/>
                </a:lnTo>
                <a:lnTo>
                  <a:pt x="953" y="1684"/>
                </a:lnTo>
                <a:lnTo>
                  <a:pt x="987" y="1718"/>
                </a:lnTo>
                <a:lnTo>
                  <a:pt x="1015" y="1745"/>
                </a:lnTo>
                <a:lnTo>
                  <a:pt x="1042" y="1773"/>
                </a:lnTo>
                <a:lnTo>
                  <a:pt x="1070" y="1800"/>
                </a:lnTo>
                <a:lnTo>
                  <a:pt x="1104" y="1800"/>
                </a:lnTo>
                <a:lnTo>
                  <a:pt x="1131" y="1800"/>
                </a:lnTo>
                <a:lnTo>
                  <a:pt x="1159" y="1800"/>
                </a:lnTo>
                <a:lnTo>
                  <a:pt x="1186" y="1800"/>
                </a:lnTo>
                <a:lnTo>
                  <a:pt x="1213" y="1800"/>
                </a:lnTo>
                <a:lnTo>
                  <a:pt x="1248" y="1800"/>
                </a:lnTo>
                <a:lnTo>
                  <a:pt x="1275" y="1800"/>
                </a:lnTo>
                <a:lnTo>
                  <a:pt x="1303" y="1800"/>
                </a:lnTo>
                <a:lnTo>
                  <a:pt x="1330" y="1800"/>
                </a:lnTo>
                <a:lnTo>
                  <a:pt x="1364" y="1800"/>
                </a:lnTo>
                <a:lnTo>
                  <a:pt x="1392" y="1800"/>
                </a:lnTo>
                <a:lnTo>
                  <a:pt x="1419" y="1800"/>
                </a:lnTo>
                <a:lnTo>
                  <a:pt x="1447" y="1800"/>
                </a:lnTo>
                <a:lnTo>
                  <a:pt x="1474" y="1800"/>
                </a:lnTo>
                <a:lnTo>
                  <a:pt x="1508" y="1800"/>
                </a:lnTo>
                <a:lnTo>
                  <a:pt x="1536" y="1800"/>
                </a:lnTo>
                <a:lnTo>
                  <a:pt x="1563" y="1800"/>
                </a:lnTo>
                <a:lnTo>
                  <a:pt x="1591" y="1800"/>
                </a:lnTo>
                <a:lnTo>
                  <a:pt x="1625" y="1800"/>
                </a:lnTo>
                <a:lnTo>
                  <a:pt x="1652" y="1800"/>
                </a:lnTo>
                <a:lnTo>
                  <a:pt x="1680" y="1800"/>
                </a:lnTo>
                <a:lnTo>
                  <a:pt x="1707" y="1800"/>
                </a:lnTo>
                <a:lnTo>
                  <a:pt x="1735" y="1800"/>
                </a:lnTo>
                <a:lnTo>
                  <a:pt x="1769" y="1800"/>
                </a:lnTo>
                <a:lnTo>
                  <a:pt x="1796" y="1800"/>
                </a:lnTo>
                <a:lnTo>
                  <a:pt x="1824" y="1800"/>
                </a:lnTo>
                <a:lnTo>
                  <a:pt x="1851" y="1800"/>
                </a:lnTo>
                <a:lnTo>
                  <a:pt x="1885" y="1800"/>
                </a:lnTo>
                <a:lnTo>
                  <a:pt x="1913" y="1800"/>
                </a:lnTo>
                <a:lnTo>
                  <a:pt x="1940" y="1800"/>
                </a:lnTo>
                <a:lnTo>
                  <a:pt x="1968" y="1800"/>
                </a:lnTo>
                <a:lnTo>
                  <a:pt x="1995" y="1800"/>
                </a:lnTo>
                <a:lnTo>
                  <a:pt x="2029" y="1800"/>
                </a:lnTo>
                <a:lnTo>
                  <a:pt x="2057" y="1800"/>
                </a:lnTo>
                <a:lnTo>
                  <a:pt x="2084" y="1800"/>
                </a:lnTo>
                <a:lnTo>
                  <a:pt x="2112" y="1800"/>
                </a:lnTo>
                <a:lnTo>
                  <a:pt x="2146" y="1800"/>
                </a:lnTo>
                <a:lnTo>
                  <a:pt x="2173" y="1800"/>
                </a:lnTo>
                <a:lnTo>
                  <a:pt x="2201" y="1800"/>
                </a:lnTo>
                <a:lnTo>
                  <a:pt x="2228" y="1800"/>
                </a:lnTo>
                <a:lnTo>
                  <a:pt x="2256" y="1800"/>
                </a:lnTo>
                <a:lnTo>
                  <a:pt x="2290" y="1800"/>
                </a:lnTo>
                <a:lnTo>
                  <a:pt x="2317" y="1800"/>
                </a:lnTo>
                <a:lnTo>
                  <a:pt x="2345" y="1800"/>
                </a:lnTo>
                <a:lnTo>
                  <a:pt x="2372" y="1800"/>
                </a:lnTo>
                <a:lnTo>
                  <a:pt x="2400" y="1800"/>
                </a:lnTo>
                <a:lnTo>
                  <a:pt x="2434" y="1800"/>
                </a:lnTo>
                <a:close/>
                <a:moveTo>
                  <a:pt x="446" y="1191"/>
                </a:moveTo>
                <a:lnTo>
                  <a:pt x="432" y="1184"/>
                </a:lnTo>
                <a:lnTo>
                  <a:pt x="432" y="1191"/>
                </a:lnTo>
                <a:lnTo>
                  <a:pt x="459" y="1218"/>
                </a:lnTo>
                <a:lnTo>
                  <a:pt x="446" y="1191"/>
                </a:lnTo>
                <a:close/>
                <a:moveTo>
                  <a:pt x="418" y="1164"/>
                </a:moveTo>
                <a:lnTo>
                  <a:pt x="404" y="1150"/>
                </a:lnTo>
                <a:lnTo>
                  <a:pt x="404" y="1164"/>
                </a:lnTo>
                <a:lnTo>
                  <a:pt x="418" y="1164"/>
                </a:lnTo>
                <a:close/>
                <a:moveTo>
                  <a:pt x="391" y="1136"/>
                </a:moveTo>
                <a:lnTo>
                  <a:pt x="377" y="1116"/>
                </a:lnTo>
                <a:lnTo>
                  <a:pt x="377" y="1136"/>
                </a:lnTo>
                <a:lnTo>
                  <a:pt x="391" y="1136"/>
                </a:lnTo>
                <a:close/>
                <a:moveTo>
                  <a:pt x="370" y="1102"/>
                </a:moveTo>
                <a:lnTo>
                  <a:pt x="350" y="1081"/>
                </a:lnTo>
                <a:lnTo>
                  <a:pt x="350" y="1102"/>
                </a:lnTo>
                <a:lnTo>
                  <a:pt x="370" y="1102"/>
                </a:lnTo>
                <a:close/>
                <a:moveTo>
                  <a:pt x="912" y="1102"/>
                </a:moveTo>
                <a:lnTo>
                  <a:pt x="919" y="1102"/>
                </a:lnTo>
                <a:lnTo>
                  <a:pt x="926" y="1102"/>
                </a:lnTo>
                <a:lnTo>
                  <a:pt x="926" y="1102"/>
                </a:lnTo>
                <a:lnTo>
                  <a:pt x="932" y="1095"/>
                </a:lnTo>
                <a:lnTo>
                  <a:pt x="939" y="1102"/>
                </a:lnTo>
                <a:lnTo>
                  <a:pt x="946" y="1102"/>
                </a:lnTo>
                <a:lnTo>
                  <a:pt x="953" y="1102"/>
                </a:lnTo>
                <a:lnTo>
                  <a:pt x="960" y="1102"/>
                </a:lnTo>
                <a:lnTo>
                  <a:pt x="967" y="1102"/>
                </a:lnTo>
                <a:lnTo>
                  <a:pt x="974" y="1102"/>
                </a:lnTo>
                <a:lnTo>
                  <a:pt x="974" y="1102"/>
                </a:lnTo>
                <a:lnTo>
                  <a:pt x="980" y="1102"/>
                </a:lnTo>
                <a:lnTo>
                  <a:pt x="987" y="1102"/>
                </a:lnTo>
                <a:lnTo>
                  <a:pt x="980" y="1109"/>
                </a:lnTo>
                <a:lnTo>
                  <a:pt x="974" y="1109"/>
                </a:lnTo>
                <a:lnTo>
                  <a:pt x="967" y="1109"/>
                </a:lnTo>
                <a:lnTo>
                  <a:pt x="967" y="1109"/>
                </a:lnTo>
                <a:lnTo>
                  <a:pt x="960" y="1109"/>
                </a:lnTo>
                <a:lnTo>
                  <a:pt x="953" y="1109"/>
                </a:lnTo>
                <a:lnTo>
                  <a:pt x="946" y="1109"/>
                </a:lnTo>
                <a:lnTo>
                  <a:pt x="939" y="1116"/>
                </a:lnTo>
                <a:lnTo>
                  <a:pt x="932" y="1116"/>
                </a:lnTo>
                <a:lnTo>
                  <a:pt x="926" y="1109"/>
                </a:lnTo>
                <a:lnTo>
                  <a:pt x="926" y="1109"/>
                </a:lnTo>
                <a:lnTo>
                  <a:pt x="919" y="1109"/>
                </a:lnTo>
                <a:lnTo>
                  <a:pt x="912" y="1102"/>
                </a:lnTo>
                <a:close/>
                <a:moveTo>
                  <a:pt x="343" y="1075"/>
                </a:moveTo>
                <a:lnTo>
                  <a:pt x="343" y="1075"/>
                </a:lnTo>
                <a:lnTo>
                  <a:pt x="336" y="1068"/>
                </a:lnTo>
                <a:lnTo>
                  <a:pt x="336" y="1068"/>
                </a:lnTo>
                <a:lnTo>
                  <a:pt x="329" y="1061"/>
                </a:lnTo>
                <a:lnTo>
                  <a:pt x="329" y="1061"/>
                </a:lnTo>
                <a:lnTo>
                  <a:pt x="322" y="1054"/>
                </a:lnTo>
                <a:lnTo>
                  <a:pt x="322" y="1047"/>
                </a:lnTo>
                <a:lnTo>
                  <a:pt x="322" y="1047"/>
                </a:lnTo>
                <a:lnTo>
                  <a:pt x="322" y="1047"/>
                </a:lnTo>
                <a:lnTo>
                  <a:pt x="322" y="1075"/>
                </a:lnTo>
                <a:lnTo>
                  <a:pt x="343" y="1075"/>
                </a:lnTo>
                <a:close/>
                <a:moveTo>
                  <a:pt x="295" y="1020"/>
                </a:moveTo>
                <a:lnTo>
                  <a:pt x="288" y="1013"/>
                </a:lnTo>
                <a:lnTo>
                  <a:pt x="288" y="1020"/>
                </a:lnTo>
                <a:lnTo>
                  <a:pt x="295" y="1020"/>
                </a:lnTo>
                <a:close/>
                <a:moveTo>
                  <a:pt x="274" y="992"/>
                </a:moveTo>
                <a:lnTo>
                  <a:pt x="261" y="972"/>
                </a:lnTo>
                <a:lnTo>
                  <a:pt x="261" y="992"/>
                </a:lnTo>
                <a:lnTo>
                  <a:pt x="274" y="992"/>
                </a:lnTo>
                <a:close/>
                <a:moveTo>
                  <a:pt x="254" y="958"/>
                </a:moveTo>
                <a:lnTo>
                  <a:pt x="233" y="938"/>
                </a:lnTo>
                <a:lnTo>
                  <a:pt x="233" y="958"/>
                </a:lnTo>
                <a:lnTo>
                  <a:pt x="254" y="958"/>
                </a:lnTo>
                <a:close/>
                <a:moveTo>
                  <a:pt x="987" y="958"/>
                </a:moveTo>
                <a:lnTo>
                  <a:pt x="987" y="958"/>
                </a:lnTo>
                <a:lnTo>
                  <a:pt x="987" y="958"/>
                </a:lnTo>
                <a:lnTo>
                  <a:pt x="980" y="958"/>
                </a:lnTo>
                <a:lnTo>
                  <a:pt x="980" y="965"/>
                </a:lnTo>
                <a:lnTo>
                  <a:pt x="980" y="965"/>
                </a:lnTo>
                <a:lnTo>
                  <a:pt x="980" y="972"/>
                </a:lnTo>
                <a:lnTo>
                  <a:pt x="980" y="972"/>
                </a:lnTo>
                <a:lnTo>
                  <a:pt x="987" y="979"/>
                </a:lnTo>
                <a:lnTo>
                  <a:pt x="987" y="979"/>
                </a:lnTo>
                <a:lnTo>
                  <a:pt x="987" y="979"/>
                </a:lnTo>
                <a:lnTo>
                  <a:pt x="987" y="972"/>
                </a:lnTo>
                <a:lnTo>
                  <a:pt x="987" y="972"/>
                </a:lnTo>
                <a:lnTo>
                  <a:pt x="987" y="965"/>
                </a:lnTo>
                <a:lnTo>
                  <a:pt x="987" y="958"/>
                </a:lnTo>
                <a:close/>
                <a:moveTo>
                  <a:pt x="226" y="931"/>
                </a:moveTo>
                <a:lnTo>
                  <a:pt x="226" y="924"/>
                </a:lnTo>
                <a:lnTo>
                  <a:pt x="219" y="924"/>
                </a:lnTo>
                <a:lnTo>
                  <a:pt x="213" y="917"/>
                </a:lnTo>
                <a:lnTo>
                  <a:pt x="213" y="910"/>
                </a:lnTo>
                <a:lnTo>
                  <a:pt x="206" y="904"/>
                </a:lnTo>
                <a:lnTo>
                  <a:pt x="206" y="904"/>
                </a:lnTo>
                <a:lnTo>
                  <a:pt x="199" y="897"/>
                </a:lnTo>
                <a:lnTo>
                  <a:pt x="192" y="890"/>
                </a:lnTo>
                <a:lnTo>
                  <a:pt x="192" y="883"/>
                </a:lnTo>
                <a:lnTo>
                  <a:pt x="185" y="883"/>
                </a:lnTo>
                <a:lnTo>
                  <a:pt x="185" y="876"/>
                </a:lnTo>
                <a:lnTo>
                  <a:pt x="178" y="869"/>
                </a:lnTo>
                <a:lnTo>
                  <a:pt x="171" y="862"/>
                </a:lnTo>
                <a:lnTo>
                  <a:pt x="171" y="862"/>
                </a:lnTo>
                <a:lnTo>
                  <a:pt x="165" y="856"/>
                </a:lnTo>
                <a:lnTo>
                  <a:pt x="165" y="849"/>
                </a:lnTo>
                <a:lnTo>
                  <a:pt x="158" y="842"/>
                </a:lnTo>
                <a:lnTo>
                  <a:pt x="151" y="842"/>
                </a:lnTo>
                <a:lnTo>
                  <a:pt x="151" y="835"/>
                </a:lnTo>
                <a:lnTo>
                  <a:pt x="144" y="828"/>
                </a:lnTo>
                <a:lnTo>
                  <a:pt x="144" y="842"/>
                </a:lnTo>
                <a:lnTo>
                  <a:pt x="144" y="876"/>
                </a:lnTo>
                <a:lnTo>
                  <a:pt x="171" y="904"/>
                </a:lnTo>
                <a:lnTo>
                  <a:pt x="206" y="931"/>
                </a:lnTo>
                <a:lnTo>
                  <a:pt x="226" y="931"/>
                </a:lnTo>
                <a:close/>
                <a:moveTo>
                  <a:pt x="1028" y="931"/>
                </a:moveTo>
                <a:lnTo>
                  <a:pt x="1035" y="924"/>
                </a:lnTo>
                <a:lnTo>
                  <a:pt x="1042" y="917"/>
                </a:lnTo>
                <a:lnTo>
                  <a:pt x="1049" y="917"/>
                </a:lnTo>
                <a:lnTo>
                  <a:pt x="1056" y="924"/>
                </a:lnTo>
                <a:lnTo>
                  <a:pt x="1070" y="924"/>
                </a:lnTo>
                <a:lnTo>
                  <a:pt x="1076" y="924"/>
                </a:lnTo>
                <a:lnTo>
                  <a:pt x="1083" y="924"/>
                </a:lnTo>
                <a:lnTo>
                  <a:pt x="1090" y="917"/>
                </a:lnTo>
                <a:lnTo>
                  <a:pt x="1097" y="910"/>
                </a:lnTo>
                <a:lnTo>
                  <a:pt x="1097" y="904"/>
                </a:lnTo>
                <a:lnTo>
                  <a:pt x="1097" y="897"/>
                </a:lnTo>
                <a:lnTo>
                  <a:pt x="1090" y="890"/>
                </a:lnTo>
                <a:lnTo>
                  <a:pt x="1090" y="890"/>
                </a:lnTo>
                <a:lnTo>
                  <a:pt x="1083" y="883"/>
                </a:lnTo>
                <a:lnTo>
                  <a:pt x="1076" y="876"/>
                </a:lnTo>
                <a:lnTo>
                  <a:pt x="1076" y="869"/>
                </a:lnTo>
                <a:lnTo>
                  <a:pt x="1076" y="862"/>
                </a:lnTo>
                <a:lnTo>
                  <a:pt x="1076" y="862"/>
                </a:lnTo>
                <a:lnTo>
                  <a:pt x="1076" y="856"/>
                </a:lnTo>
                <a:lnTo>
                  <a:pt x="1076" y="849"/>
                </a:lnTo>
                <a:lnTo>
                  <a:pt x="1070" y="842"/>
                </a:lnTo>
                <a:lnTo>
                  <a:pt x="1070" y="835"/>
                </a:lnTo>
                <a:lnTo>
                  <a:pt x="1070" y="828"/>
                </a:lnTo>
                <a:lnTo>
                  <a:pt x="1063" y="821"/>
                </a:lnTo>
                <a:lnTo>
                  <a:pt x="1063" y="815"/>
                </a:lnTo>
                <a:lnTo>
                  <a:pt x="1056" y="815"/>
                </a:lnTo>
                <a:lnTo>
                  <a:pt x="1056" y="808"/>
                </a:lnTo>
                <a:lnTo>
                  <a:pt x="1056" y="801"/>
                </a:lnTo>
                <a:lnTo>
                  <a:pt x="1056" y="794"/>
                </a:lnTo>
                <a:lnTo>
                  <a:pt x="1056" y="787"/>
                </a:lnTo>
                <a:lnTo>
                  <a:pt x="1056" y="780"/>
                </a:lnTo>
                <a:lnTo>
                  <a:pt x="1049" y="774"/>
                </a:lnTo>
                <a:lnTo>
                  <a:pt x="1049" y="774"/>
                </a:lnTo>
                <a:lnTo>
                  <a:pt x="1049" y="767"/>
                </a:lnTo>
                <a:lnTo>
                  <a:pt x="1049" y="760"/>
                </a:lnTo>
                <a:lnTo>
                  <a:pt x="1049" y="753"/>
                </a:lnTo>
                <a:lnTo>
                  <a:pt x="1049" y="746"/>
                </a:lnTo>
                <a:lnTo>
                  <a:pt x="1049" y="739"/>
                </a:lnTo>
                <a:lnTo>
                  <a:pt x="1049" y="732"/>
                </a:lnTo>
                <a:lnTo>
                  <a:pt x="1049" y="726"/>
                </a:lnTo>
                <a:lnTo>
                  <a:pt x="1042" y="726"/>
                </a:lnTo>
                <a:lnTo>
                  <a:pt x="1042" y="719"/>
                </a:lnTo>
                <a:lnTo>
                  <a:pt x="1042" y="712"/>
                </a:lnTo>
                <a:lnTo>
                  <a:pt x="1035" y="705"/>
                </a:lnTo>
                <a:lnTo>
                  <a:pt x="1035" y="698"/>
                </a:lnTo>
                <a:lnTo>
                  <a:pt x="1035" y="691"/>
                </a:lnTo>
                <a:lnTo>
                  <a:pt x="1028" y="685"/>
                </a:lnTo>
                <a:lnTo>
                  <a:pt x="1028" y="685"/>
                </a:lnTo>
                <a:lnTo>
                  <a:pt x="1028" y="678"/>
                </a:lnTo>
                <a:lnTo>
                  <a:pt x="1028" y="671"/>
                </a:lnTo>
                <a:lnTo>
                  <a:pt x="1022" y="664"/>
                </a:lnTo>
                <a:lnTo>
                  <a:pt x="1022" y="657"/>
                </a:lnTo>
                <a:lnTo>
                  <a:pt x="1022" y="650"/>
                </a:lnTo>
                <a:lnTo>
                  <a:pt x="1022" y="643"/>
                </a:lnTo>
                <a:lnTo>
                  <a:pt x="1022" y="637"/>
                </a:lnTo>
                <a:lnTo>
                  <a:pt x="1022" y="637"/>
                </a:lnTo>
                <a:lnTo>
                  <a:pt x="1022" y="630"/>
                </a:lnTo>
                <a:lnTo>
                  <a:pt x="1022" y="623"/>
                </a:lnTo>
                <a:lnTo>
                  <a:pt x="1022" y="616"/>
                </a:lnTo>
                <a:lnTo>
                  <a:pt x="1015" y="609"/>
                </a:lnTo>
                <a:lnTo>
                  <a:pt x="1015" y="602"/>
                </a:lnTo>
                <a:lnTo>
                  <a:pt x="1015" y="596"/>
                </a:lnTo>
                <a:lnTo>
                  <a:pt x="1008" y="596"/>
                </a:lnTo>
                <a:lnTo>
                  <a:pt x="1008" y="589"/>
                </a:lnTo>
                <a:lnTo>
                  <a:pt x="1008" y="582"/>
                </a:lnTo>
                <a:lnTo>
                  <a:pt x="1001" y="575"/>
                </a:lnTo>
                <a:lnTo>
                  <a:pt x="1001" y="568"/>
                </a:lnTo>
                <a:lnTo>
                  <a:pt x="1001" y="561"/>
                </a:lnTo>
                <a:lnTo>
                  <a:pt x="1001" y="555"/>
                </a:lnTo>
                <a:lnTo>
                  <a:pt x="994" y="555"/>
                </a:lnTo>
                <a:lnTo>
                  <a:pt x="994" y="548"/>
                </a:lnTo>
                <a:lnTo>
                  <a:pt x="987" y="541"/>
                </a:lnTo>
                <a:lnTo>
                  <a:pt x="980" y="534"/>
                </a:lnTo>
                <a:lnTo>
                  <a:pt x="980" y="527"/>
                </a:lnTo>
                <a:lnTo>
                  <a:pt x="974" y="527"/>
                </a:lnTo>
                <a:lnTo>
                  <a:pt x="974" y="520"/>
                </a:lnTo>
                <a:lnTo>
                  <a:pt x="967" y="513"/>
                </a:lnTo>
                <a:lnTo>
                  <a:pt x="967" y="507"/>
                </a:lnTo>
                <a:lnTo>
                  <a:pt x="960" y="500"/>
                </a:lnTo>
                <a:lnTo>
                  <a:pt x="960" y="500"/>
                </a:lnTo>
                <a:lnTo>
                  <a:pt x="960" y="493"/>
                </a:lnTo>
                <a:lnTo>
                  <a:pt x="967" y="500"/>
                </a:lnTo>
                <a:lnTo>
                  <a:pt x="974" y="500"/>
                </a:lnTo>
                <a:lnTo>
                  <a:pt x="980" y="507"/>
                </a:lnTo>
                <a:lnTo>
                  <a:pt x="994" y="507"/>
                </a:lnTo>
                <a:lnTo>
                  <a:pt x="994" y="513"/>
                </a:lnTo>
                <a:lnTo>
                  <a:pt x="1001" y="513"/>
                </a:lnTo>
                <a:lnTo>
                  <a:pt x="1008" y="520"/>
                </a:lnTo>
                <a:lnTo>
                  <a:pt x="1015" y="527"/>
                </a:lnTo>
                <a:lnTo>
                  <a:pt x="1022" y="527"/>
                </a:lnTo>
                <a:lnTo>
                  <a:pt x="1028" y="527"/>
                </a:lnTo>
                <a:lnTo>
                  <a:pt x="1035" y="520"/>
                </a:lnTo>
                <a:lnTo>
                  <a:pt x="1035" y="513"/>
                </a:lnTo>
                <a:lnTo>
                  <a:pt x="1028" y="507"/>
                </a:lnTo>
                <a:lnTo>
                  <a:pt x="1022" y="500"/>
                </a:lnTo>
                <a:lnTo>
                  <a:pt x="1022" y="493"/>
                </a:lnTo>
                <a:lnTo>
                  <a:pt x="1015" y="486"/>
                </a:lnTo>
                <a:lnTo>
                  <a:pt x="1015" y="486"/>
                </a:lnTo>
                <a:lnTo>
                  <a:pt x="1015" y="479"/>
                </a:lnTo>
                <a:lnTo>
                  <a:pt x="1015" y="472"/>
                </a:lnTo>
                <a:lnTo>
                  <a:pt x="1015" y="466"/>
                </a:lnTo>
                <a:lnTo>
                  <a:pt x="1008" y="459"/>
                </a:lnTo>
                <a:lnTo>
                  <a:pt x="1008" y="452"/>
                </a:lnTo>
                <a:lnTo>
                  <a:pt x="1008" y="445"/>
                </a:lnTo>
                <a:lnTo>
                  <a:pt x="1008" y="445"/>
                </a:lnTo>
                <a:lnTo>
                  <a:pt x="1008" y="438"/>
                </a:lnTo>
                <a:lnTo>
                  <a:pt x="1001" y="431"/>
                </a:lnTo>
                <a:lnTo>
                  <a:pt x="1001" y="425"/>
                </a:lnTo>
                <a:lnTo>
                  <a:pt x="1001" y="418"/>
                </a:lnTo>
                <a:lnTo>
                  <a:pt x="1001" y="411"/>
                </a:lnTo>
                <a:lnTo>
                  <a:pt x="994" y="404"/>
                </a:lnTo>
                <a:lnTo>
                  <a:pt x="994" y="397"/>
                </a:lnTo>
                <a:lnTo>
                  <a:pt x="994" y="397"/>
                </a:lnTo>
                <a:lnTo>
                  <a:pt x="987" y="390"/>
                </a:lnTo>
                <a:lnTo>
                  <a:pt x="987" y="383"/>
                </a:lnTo>
                <a:lnTo>
                  <a:pt x="987" y="377"/>
                </a:lnTo>
                <a:lnTo>
                  <a:pt x="994" y="370"/>
                </a:lnTo>
                <a:lnTo>
                  <a:pt x="994" y="363"/>
                </a:lnTo>
                <a:lnTo>
                  <a:pt x="1001" y="356"/>
                </a:lnTo>
                <a:lnTo>
                  <a:pt x="1001" y="356"/>
                </a:lnTo>
                <a:lnTo>
                  <a:pt x="1001" y="349"/>
                </a:lnTo>
                <a:lnTo>
                  <a:pt x="1001" y="342"/>
                </a:lnTo>
                <a:lnTo>
                  <a:pt x="1001" y="336"/>
                </a:lnTo>
                <a:lnTo>
                  <a:pt x="1001" y="329"/>
                </a:lnTo>
                <a:lnTo>
                  <a:pt x="1001" y="322"/>
                </a:lnTo>
                <a:lnTo>
                  <a:pt x="1001" y="315"/>
                </a:lnTo>
                <a:lnTo>
                  <a:pt x="1001" y="315"/>
                </a:lnTo>
                <a:lnTo>
                  <a:pt x="1001" y="308"/>
                </a:lnTo>
                <a:lnTo>
                  <a:pt x="1001" y="301"/>
                </a:lnTo>
                <a:lnTo>
                  <a:pt x="1001" y="295"/>
                </a:lnTo>
                <a:lnTo>
                  <a:pt x="987" y="288"/>
                </a:lnTo>
                <a:lnTo>
                  <a:pt x="980" y="288"/>
                </a:lnTo>
                <a:lnTo>
                  <a:pt x="980" y="295"/>
                </a:lnTo>
                <a:lnTo>
                  <a:pt x="980" y="301"/>
                </a:lnTo>
                <a:lnTo>
                  <a:pt x="980" y="308"/>
                </a:lnTo>
                <a:lnTo>
                  <a:pt x="980" y="315"/>
                </a:lnTo>
                <a:lnTo>
                  <a:pt x="980" y="322"/>
                </a:lnTo>
                <a:lnTo>
                  <a:pt x="974" y="322"/>
                </a:lnTo>
                <a:lnTo>
                  <a:pt x="967" y="329"/>
                </a:lnTo>
                <a:lnTo>
                  <a:pt x="960" y="329"/>
                </a:lnTo>
                <a:lnTo>
                  <a:pt x="953" y="336"/>
                </a:lnTo>
                <a:lnTo>
                  <a:pt x="946" y="336"/>
                </a:lnTo>
                <a:lnTo>
                  <a:pt x="939" y="342"/>
                </a:lnTo>
                <a:lnTo>
                  <a:pt x="932" y="349"/>
                </a:lnTo>
                <a:lnTo>
                  <a:pt x="926" y="349"/>
                </a:lnTo>
                <a:lnTo>
                  <a:pt x="926" y="342"/>
                </a:lnTo>
                <a:lnTo>
                  <a:pt x="926" y="336"/>
                </a:lnTo>
                <a:lnTo>
                  <a:pt x="932" y="329"/>
                </a:lnTo>
                <a:lnTo>
                  <a:pt x="932" y="329"/>
                </a:lnTo>
                <a:lnTo>
                  <a:pt x="932" y="322"/>
                </a:lnTo>
                <a:lnTo>
                  <a:pt x="932" y="315"/>
                </a:lnTo>
                <a:lnTo>
                  <a:pt x="932" y="308"/>
                </a:lnTo>
                <a:lnTo>
                  <a:pt x="932" y="301"/>
                </a:lnTo>
                <a:lnTo>
                  <a:pt x="939" y="295"/>
                </a:lnTo>
                <a:lnTo>
                  <a:pt x="946" y="295"/>
                </a:lnTo>
                <a:lnTo>
                  <a:pt x="946" y="288"/>
                </a:lnTo>
                <a:lnTo>
                  <a:pt x="953" y="281"/>
                </a:lnTo>
                <a:lnTo>
                  <a:pt x="960" y="274"/>
                </a:lnTo>
                <a:lnTo>
                  <a:pt x="967" y="274"/>
                </a:lnTo>
                <a:lnTo>
                  <a:pt x="974" y="267"/>
                </a:lnTo>
                <a:lnTo>
                  <a:pt x="974" y="260"/>
                </a:lnTo>
                <a:lnTo>
                  <a:pt x="980" y="260"/>
                </a:lnTo>
                <a:lnTo>
                  <a:pt x="987" y="253"/>
                </a:lnTo>
                <a:lnTo>
                  <a:pt x="994" y="247"/>
                </a:lnTo>
                <a:lnTo>
                  <a:pt x="994" y="240"/>
                </a:lnTo>
                <a:lnTo>
                  <a:pt x="1001" y="240"/>
                </a:lnTo>
                <a:lnTo>
                  <a:pt x="1008" y="233"/>
                </a:lnTo>
                <a:lnTo>
                  <a:pt x="1015" y="226"/>
                </a:lnTo>
                <a:lnTo>
                  <a:pt x="1015" y="219"/>
                </a:lnTo>
                <a:lnTo>
                  <a:pt x="1022" y="219"/>
                </a:lnTo>
                <a:lnTo>
                  <a:pt x="1028" y="212"/>
                </a:lnTo>
                <a:lnTo>
                  <a:pt x="1035" y="206"/>
                </a:lnTo>
                <a:lnTo>
                  <a:pt x="1035" y="206"/>
                </a:lnTo>
                <a:lnTo>
                  <a:pt x="1042" y="199"/>
                </a:lnTo>
                <a:lnTo>
                  <a:pt x="1042" y="192"/>
                </a:lnTo>
                <a:lnTo>
                  <a:pt x="1049" y="185"/>
                </a:lnTo>
                <a:lnTo>
                  <a:pt x="1056" y="185"/>
                </a:lnTo>
                <a:lnTo>
                  <a:pt x="1070" y="178"/>
                </a:lnTo>
                <a:lnTo>
                  <a:pt x="1076" y="178"/>
                </a:lnTo>
                <a:lnTo>
                  <a:pt x="1083" y="178"/>
                </a:lnTo>
                <a:lnTo>
                  <a:pt x="1090" y="171"/>
                </a:lnTo>
                <a:lnTo>
                  <a:pt x="1104" y="171"/>
                </a:lnTo>
                <a:lnTo>
                  <a:pt x="1111" y="171"/>
                </a:lnTo>
                <a:lnTo>
                  <a:pt x="1117" y="165"/>
                </a:lnTo>
                <a:lnTo>
                  <a:pt x="1124" y="165"/>
                </a:lnTo>
                <a:lnTo>
                  <a:pt x="1138" y="158"/>
                </a:lnTo>
                <a:lnTo>
                  <a:pt x="1145" y="158"/>
                </a:lnTo>
                <a:lnTo>
                  <a:pt x="1152" y="158"/>
                </a:lnTo>
                <a:lnTo>
                  <a:pt x="1159" y="158"/>
                </a:lnTo>
                <a:lnTo>
                  <a:pt x="1172" y="158"/>
                </a:lnTo>
                <a:lnTo>
                  <a:pt x="1179" y="151"/>
                </a:lnTo>
                <a:lnTo>
                  <a:pt x="1186" y="151"/>
                </a:lnTo>
                <a:lnTo>
                  <a:pt x="1193" y="144"/>
                </a:lnTo>
                <a:lnTo>
                  <a:pt x="1200" y="144"/>
                </a:lnTo>
                <a:lnTo>
                  <a:pt x="1213" y="144"/>
                </a:lnTo>
                <a:lnTo>
                  <a:pt x="1220" y="137"/>
                </a:lnTo>
                <a:lnTo>
                  <a:pt x="1227" y="137"/>
                </a:lnTo>
                <a:lnTo>
                  <a:pt x="1234" y="130"/>
                </a:lnTo>
                <a:lnTo>
                  <a:pt x="1248" y="130"/>
                </a:lnTo>
                <a:lnTo>
                  <a:pt x="1255" y="130"/>
                </a:lnTo>
                <a:lnTo>
                  <a:pt x="1261" y="130"/>
                </a:lnTo>
                <a:lnTo>
                  <a:pt x="1275" y="130"/>
                </a:lnTo>
                <a:lnTo>
                  <a:pt x="1282" y="123"/>
                </a:lnTo>
                <a:lnTo>
                  <a:pt x="1289" y="123"/>
                </a:lnTo>
                <a:lnTo>
                  <a:pt x="1296" y="117"/>
                </a:lnTo>
                <a:lnTo>
                  <a:pt x="1303" y="117"/>
                </a:lnTo>
                <a:lnTo>
                  <a:pt x="1309" y="117"/>
                </a:lnTo>
                <a:lnTo>
                  <a:pt x="1323" y="110"/>
                </a:lnTo>
                <a:lnTo>
                  <a:pt x="1330" y="110"/>
                </a:lnTo>
                <a:lnTo>
                  <a:pt x="1337" y="103"/>
                </a:lnTo>
                <a:lnTo>
                  <a:pt x="1344" y="103"/>
                </a:lnTo>
                <a:lnTo>
                  <a:pt x="1357" y="103"/>
                </a:lnTo>
                <a:lnTo>
                  <a:pt x="1364" y="103"/>
                </a:lnTo>
                <a:lnTo>
                  <a:pt x="1371" y="103"/>
                </a:lnTo>
                <a:lnTo>
                  <a:pt x="1385" y="110"/>
                </a:lnTo>
                <a:lnTo>
                  <a:pt x="1392" y="110"/>
                </a:lnTo>
                <a:lnTo>
                  <a:pt x="1399" y="103"/>
                </a:lnTo>
                <a:lnTo>
                  <a:pt x="1399" y="96"/>
                </a:lnTo>
                <a:lnTo>
                  <a:pt x="1405" y="89"/>
                </a:lnTo>
                <a:lnTo>
                  <a:pt x="1405" y="89"/>
                </a:lnTo>
                <a:lnTo>
                  <a:pt x="1419" y="82"/>
                </a:lnTo>
                <a:lnTo>
                  <a:pt x="1426" y="82"/>
                </a:lnTo>
                <a:lnTo>
                  <a:pt x="1433" y="76"/>
                </a:lnTo>
                <a:lnTo>
                  <a:pt x="1440" y="76"/>
                </a:lnTo>
                <a:lnTo>
                  <a:pt x="1453" y="76"/>
                </a:lnTo>
                <a:lnTo>
                  <a:pt x="1460" y="76"/>
                </a:lnTo>
                <a:lnTo>
                  <a:pt x="1467" y="76"/>
                </a:lnTo>
                <a:lnTo>
                  <a:pt x="1474" y="82"/>
                </a:lnTo>
                <a:lnTo>
                  <a:pt x="1488" y="82"/>
                </a:lnTo>
                <a:lnTo>
                  <a:pt x="1495" y="82"/>
                </a:lnTo>
                <a:lnTo>
                  <a:pt x="1501" y="89"/>
                </a:lnTo>
                <a:lnTo>
                  <a:pt x="1508" y="89"/>
                </a:lnTo>
                <a:lnTo>
                  <a:pt x="1515" y="89"/>
                </a:lnTo>
                <a:lnTo>
                  <a:pt x="1522" y="82"/>
                </a:lnTo>
                <a:lnTo>
                  <a:pt x="1522" y="76"/>
                </a:lnTo>
                <a:lnTo>
                  <a:pt x="1515" y="69"/>
                </a:lnTo>
                <a:lnTo>
                  <a:pt x="1515" y="62"/>
                </a:lnTo>
                <a:lnTo>
                  <a:pt x="1508" y="62"/>
                </a:lnTo>
                <a:lnTo>
                  <a:pt x="1515" y="55"/>
                </a:lnTo>
                <a:lnTo>
                  <a:pt x="1522" y="48"/>
                </a:lnTo>
                <a:lnTo>
                  <a:pt x="1536" y="48"/>
                </a:lnTo>
                <a:lnTo>
                  <a:pt x="1543" y="48"/>
                </a:lnTo>
                <a:lnTo>
                  <a:pt x="1556" y="48"/>
                </a:lnTo>
                <a:lnTo>
                  <a:pt x="1563" y="48"/>
                </a:lnTo>
                <a:lnTo>
                  <a:pt x="1570" y="48"/>
                </a:lnTo>
                <a:lnTo>
                  <a:pt x="1577" y="55"/>
                </a:lnTo>
                <a:lnTo>
                  <a:pt x="1584" y="55"/>
                </a:lnTo>
                <a:lnTo>
                  <a:pt x="1591" y="62"/>
                </a:lnTo>
                <a:lnTo>
                  <a:pt x="1597" y="55"/>
                </a:lnTo>
                <a:lnTo>
                  <a:pt x="1604" y="48"/>
                </a:lnTo>
                <a:lnTo>
                  <a:pt x="1604" y="41"/>
                </a:lnTo>
                <a:lnTo>
                  <a:pt x="1611" y="41"/>
                </a:lnTo>
                <a:lnTo>
                  <a:pt x="1611" y="34"/>
                </a:lnTo>
                <a:lnTo>
                  <a:pt x="1618" y="28"/>
                </a:lnTo>
                <a:lnTo>
                  <a:pt x="1625" y="21"/>
                </a:lnTo>
                <a:lnTo>
                  <a:pt x="1632" y="21"/>
                </a:lnTo>
                <a:lnTo>
                  <a:pt x="1639" y="14"/>
                </a:lnTo>
                <a:lnTo>
                  <a:pt x="1645" y="14"/>
                </a:lnTo>
                <a:lnTo>
                  <a:pt x="1652" y="14"/>
                </a:lnTo>
                <a:lnTo>
                  <a:pt x="1666" y="14"/>
                </a:lnTo>
                <a:lnTo>
                  <a:pt x="1673" y="14"/>
                </a:lnTo>
                <a:lnTo>
                  <a:pt x="1680" y="14"/>
                </a:lnTo>
                <a:lnTo>
                  <a:pt x="1687" y="14"/>
                </a:lnTo>
                <a:lnTo>
                  <a:pt x="1693" y="7"/>
                </a:lnTo>
                <a:lnTo>
                  <a:pt x="1700" y="7"/>
                </a:lnTo>
                <a:lnTo>
                  <a:pt x="1714" y="0"/>
                </a:lnTo>
                <a:lnTo>
                  <a:pt x="1707" y="0"/>
                </a:lnTo>
                <a:lnTo>
                  <a:pt x="1680" y="0"/>
                </a:lnTo>
                <a:lnTo>
                  <a:pt x="1652" y="0"/>
                </a:lnTo>
                <a:lnTo>
                  <a:pt x="1625" y="0"/>
                </a:lnTo>
                <a:lnTo>
                  <a:pt x="1591" y="0"/>
                </a:lnTo>
                <a:lnTo>
                  <a:pt x="1563" y="0"/>
                </a:lnTo>
                <a:lnTo>
                  <a:pt x="1536" y="0"/>
                </a:lnTo>
                <a:lnTo>
                  <a:pt x="1508" y="0"/>
                </a:lnTo>
                <a:lnTo>
                  <a:pt x="1474" y="0"/>
                </a:lnTo>
                <a:lnTo>
                  <a:pt x="1447" y="0"/>
                </a:lnTo>
                <a:lnTo>
                  <a:pt x="1419" y="0"/>
                </a:lnTo>
                <a:lnTo>
                  <a:pt x="1392" y="0"/>
                </a:lnTo>
                <a:lnTo>
                  <a:pt x="1364" y="0"/>
                </a:lnTo>
                <a:lnTo>
                  <a:pt x="1330" y="0"/>
                </a:lnTo>
                <a:lnTo>
                  <a:pt x="1303" y="0"/>
                </a:lnTo>
                <a:lnTo>
                  <a:pt x="1275" y="0"/>
                </a:lnTo>
                <a:lnTo>
                  <a:pt x="1248" y="0"/>
                </a:lnTo>
                <a:lnTo>
                  <a:pt x="1213" y="0"/>
                </a:lnTo>
                <a:lnTo>
                  <a:pt x="1186" y="0"/>
                </a:lnTo>
                <a:lnTo>
                  <a:pt x="1159" y="0"/>
                </a:lnTo>
                <a:lnTo>
                  <a:pt x="1131" y="0"/>
                </a:lnTo>
                <a:lnTo>
                  <a:pt x="1104" y="0"/>
                </a:lnTo>
                <a:lnTo>
                  <a:pt x="1070" y="0"/>
                </a:lnTo>
                <a:lnTo>
                  <a:pt x="1042" y="0"/>
                </a:lnTo>
                <a:lnTo>
                  <a:pt x="1015" y="0"/>
                </a:lnTo>
                <a:lnTo>
                  <a:pt x="987" y="0"/>
                </a:lnTo>
                <a:lnTo>
                  <a:pt x="953" y="0"/>
                </a:lnTo>
                <a:lnTo>
                  <a:pt x="926" y="0"/>
                </a:lnTo>
                <a:lnTo>
                  <a:pt x="898" y="0"/>
                </a:lnTo>
                <a:lnTo>
                  <a:pt x="871" y="0"/>
                </a:lnTo>
                <a:lnTo>
                  <a:pt x="843" y="0"/>
                </a:lnTo>
                <a:lnTo>
                  <a:pt x="809" y="0"/>
                </a:lnTo>
                <a:lnTo>
                  <a:pt x="782" y="0"/>
                </a:lnTo>
                <a:lnTo>
                  <a:pt x="754" y="0"/>
                </a:lnTo>
                <a:lnTo>
                  <a:pt x="727" y="0"/>
                </a:lnTo>
                <a:lnTo>
                  <a:pt x="692" y="0"/>
                </a:lnTo>
                <a:lnTo>
                  <a:pt x="665" y="0"/>
                </a:lnTo>
                <a:lnTo>
                  <a:pt x="638" y="28"/>
                </a:lnTo>
                <a:lnTo>
                  <a:pt x="610" y="62"/>
                </a:lnTo>
                <a:lnTo>
                  <a:pt x="583" y="89"/>
                </a:lnTo>
                <a:lnTo>
                  <a:pt x="548" y="117"/>
                </a:lnTo>
                <a:lnTo>
                  <a:pt x="521" y="144"/>
                </a:lnTo>
                <a:lnTo>
                  <a:pt x="494" y="144"/>
                </a:lnTo>
                <a:lnTo>
                  <a:pt x="466" y="178"/>
                </a:lnTo>
                <a:lnTo>
                  <a:pt x="432" y="206"/>
                </a:lnTo>
                <a:lnTo>
                  <a:pt x="404" y="233"/>
                </a:lnTo>
                <a:lnTo>
                  <a:pt x="377" y="260"/>
                </a:lnTo>
                <a:lnTo>
                  <a:pt x="350" y="295"/>
                </a:lnTo>
                <a:lnTo>
                  <a:pt x="322" y="322"/>
                </a:lnTo>
                <a:lnTo>
                  <a:pt x="288" y="349"/>
                </a:lnTo>
                <a:lnTo>
                  <a:pt x="261" y="349"/>
                </a:lnTo>
                <a:lnTo>
                  <a:pt x="233" y="377"/>
                </a:lnTo>
                <a:lnTo>
                  <a:pt x="233" y="397"/>
                </a:lnTo>
                <a:lnTo>
                  <a:pt x="240" y="404"/>
                </a:lnTo>
                <a:lnTo>
                  <a:pt x="254" y="404"/>
                </a:lnTo>
                <a:lnTo>
                  <a:pt x="254" y="411"/>
                </a:lnTo>
                <a:lnTo>
                  <a:pt x="254" y="411"/>
                </a:lnTo>
                <a:lnTo>
                  <a:pt x="247" y="418"/>
                </a:lnTo>
                <a:lnTo>
                  <a:pt x="247" y="425"/>
                </a:lnTo>
                <a:lnTo>
                  <a:pt x="240" y="431"/>
                </a:lnTo>
                <a:lnTo>
                  <a:pt x="233" y="431"/>
                </a:lnTo>
                <a:lnTo>
                  <a:pt x="226" y="438"/>
                </a:lnTo>
                <a:lnTo>
                  <a:pt x="219" y="445"/>
                </a:lnTo>
                <a:lnTo>
                  <a:pt x="213" y="452"/>
                </a:lnTo>
                <a:lnTo>
                  <a:pt x="213" y="452"/>
                </a:lnTo>
                <a:lnTo>
                  <a:pt x="206" y="459"/>
                </a:lnTo>
                <a:lnTo>
                  <a:pt x="199" y="459"/>
                </a:lnTo>
                <a:lnTo>
                  <a:pt x="199" y="452"/>
                </a:lnTo>
                <a:lnTo>
                  <a:pt x="192" y="445"/>
                </a:lnTo>
                <a:lnTo>
                  <a:pt x="192" y="438"/>
                </a:lnTo>
                <a:lnTo>
                  <a:pt x="171" y="438"/>
                </a:lnTo>
                <a:lnTo>
                  <a:pt x="144" y="466"/>
                </a:lnTo>
                <a:lnTo>
                  <a:pt x="117" y="493"/>
                </a:lnTo>
                <a:lnTo>
                  <a:pt x="89" y="527"/>
                </a:lnTo>
                <a:lnTo>
                  <a:pt x="62" y="555"/>
                </a:lnTo>
                <a:lnTo>
                  <a:pt x="27" y="555"/>
                </a:lnTo>
                <a:lnTo>
                  <a:pt x="0" y="582"/>
                </a:lnTo>
                <a:lnTo>
                  <a:pt x="0" y="609"/>
                </a:lnTo>
                <a:lnTo>
                  <a:pt x="0" y="643"/>
                </a:lnTo>
                <a:lnTo>
                  <a:pt x="0" y="671"/>
                </a:lnTo>
                <a:lnTo>
                  <a:pt x="27" y="671"/>
                </a:lnTo>
                <a:lnTo>
                  <a:pt x="27" y="671"/>
                </a:lnTo>
                <a:lnTo>
                  <a:pt x="27" y="664"/>
                </a:lnTo>
                <a:lnTo>
                  <a:pt x="27" y="664"/>
                </a:lnTo>
                <a:lnTo>
                  <a:pt x="27" y="664"/>
                </a:lnTo>
                <a:lnTo>
                  <a:pt x="27" y="664"/>
                </a:lnTo>
                <a:lnTo>
                  <a:pt x="34" y="664"/>
                </a:lnTo>
                <a:lnTo>
                  <a:pt x="34" y="664"/>
                </a:lnTo>
                <a:lnTo>
                  <a:pt x="34" y="671"/>
                </a:lnTo>
                <a:lnTo>
                  <a:pt x="34" y="671"/>
                </a:lnTo>
                <a:lnTo>
                  <a:pt x="34" y="671"/>
                </a:lnTo>
                <a:lnTo>
                  <a:pt x="27" y="671"/>
                </a:lnTo>
                <a:lnTo>
                  <a:pt x="27" y="698"/>
                </a:lnTo>
                <a:lnTo>
                  <a:pt x="27" y="726"/>
                </a:lnTo>
                <a:lnTo>
                  <a:pt x="62" y="760"/>
                </a:lnTo>
                <a:lnTo>
                  <a:pt x="89" y="787"/>
                </a:lnTo>
                <a:lnTo>
                  <a:pt x="110" y="787"/>
                </a:lnTo>
                <a:lnTo>
                  <a:pt x="117" y="780"/>
                </a:lnTo>
                <a:lnTo>
                  <a:pt x="117" y="774"/>
                </a:lnTo>
                <a:lnTo>
                  <a:pt x="123" y="774"/>
                </a:lnTo>
                <a:lnTo>
                  <a:pt x="130" y="767"/>
                </a:lnTo>
                <a:lnTo>
                  <a:pt x="130" y="760"/>
                </a:lnTo>
                <a:lnTo>
                  <a:pt x="137" y="753"/>
                </a:lnTo>
                <a:lnTo>
                  <a:pt x="144" y="753"/>
                </a:lnTo>
                <a:lnTo>
                  <a:pt x="151" y="753"/>
                </a:lnTo>
                <a:lnTo>
                  <a:pt x="165" y="753"/>
                </a:lnTo>
                <a:lnTo>
                  <a:pt x="171" y="753"/>
                </a:lnTo>
                <a:lnTo>
                  <a:pt x="178" y="753"/>
                </a:lnTo>
                <a:lnTo>
                  <a:pt x="192" y="753"/>
                </a:lnTo>
                <a:lnTo>
                  <a:pt x="199" y="753"/>
                </a:lnTo>
                <a:lnTo>
                  <a:pt x="206" y="753"/>
                </a:lnTo>
                <a:lnTo>
                  <a:pt x="213" y="760"/>
                </a:lnTo>
                <a:lnTo>
                  <a:pt x="219" y="767"/>
                </a:lnTo>
                <a:lnTo>
                  <a:pt x="219" y="774"/>
                </a:lnTo>
                <a:lnTo>
                  <a:pt x="226" y="780"/>
                </a:lnTo>
                <a:lnTo>
                  <a:pt x="226" y="780"/>
                </a:lnTo>
                <a:lnTo>
                  <a:pt x="233" y="787"/>
                </a:lnTo>
                <a:lnTo>
                  <a:pt x="240" y="780"/>
                </a:lnTo>
                <a:lnTo>
                  <a:pt x="247" y="780"/>
                </a:lnTo>
                <a:lnTo>
                  <a:pt x="261" y="780"/>
                </a:lnTo>
                <a:lnTo>
                  <a:pt x="267" y="780"/>
                </a:lnTo>
                <a:lnTo>
                  <a:pt x="267" y="787"/>
                </a:lnTo>
                <a:lnTo>
                  <a:pt x="261" y="794"/>
                </a:lnTo>
                <a:lnTo>
                  <a:pt x="254" y="801"/>
                </a:lnTo>
                <a:lnTo>
                  <a:pt x="247" y="801"/>
                </a:lnTo>
                <a:lnTo>
                  <a:pt x="247" y="808"/>
                </a:lnTo>
                <a:lnTo>
                  <a:pt x="247" y="815"/>
                </a:lnTo>
                <a:lnTo>
                  <a:pt x="254" y="821"/>
                </a:lnTo>
                <a:lnTo>
                  <a:pt x="254" y="828"/>
                </a:lnTo>
                <a:lnTo>
                  <a:pt x="261" y="828"/>
                </a:lnTo>
                <a:lnTo>
                  <a:pt x="274" y="828"/>
                </a:lnTo>
                <a:lnTo>
                  <a:pt x="281" y="821"/>
                </a:lnTo>
                <a:lnTo>
                  <a:pt x="288" y="821"/>
                </a:lnTo>
                <a:lnTo>
                  <a:pt x="295" y="815"/>
                </a:lnTo>
                <a:lnTo>
                  <a:pt x="302" y="815"/>
                </a:lnTo>
                <a:lnTo>
                  <a:pt x="308" y="808"/>
                </a:lnTo>
                <a:lnTo>
                  <a:pt x="315" y="801"/>
                </a:lnTo>
                <a:lnTo>
                  <a:pt x="322" y="801"/>
                </a:lnTo>
                <a:lnTo>
                  <a:pt x="329" y="801"/>
                </a:lnTo>
                <a:lnTo>
                  <a:pt x="336" y="801"/>
                </a:lnTo>
                <a:lnTo>
                  <a:pt x="350" y="801"/>
                </a:lnTo>
                <a:lnTo>
                  <a:pt x="356" y="801"/>
                </a:lnTo>
                <a:lnTo>
                  <a:pt x="363" y="801"/>
                </a:lnTo>
                <a:lnTo>
                  <a:pt x="377" y="801"/>
                </a:lnTo>
                <a:lnTo>
                  <a:pt x="384" y="801"/>
                </a:lnTo>
                <a:lnTo>
                  <a:pt x="391" y="808"/>
                </a:lnTo>
                <a:lnTo>
                  <a:pt x="398" y="815"/>
                </a:lnTo>
                <a:lnTo>
                  <a:pt x="398" y="815"/>
                </a:lnTo>
                <a:lnTo>
                  <a:pt x="398" y="821"/>
                </a:lnTo>
                <a:lnTo>
                  <a:pt x="391" y="828"/>
                </a:lnTo>
                <a:lnTo>
                  <a:pt x="391" y="835"/>
                </a:lnTo>
                <a:lnTo>
                  <a:pt x="384" y="835"/>
                </a:lnTo>
                <a:lnTo>
                  <a:pt x="377" y="842"/>
                </a:lnTo>
                <a:lnTo>
                  <a:pt x="377" y="849"/>
                </a:lnTo>
                <a:lnTo>
                  <a:pt x="377" y="856"/>
                </a:lnTo>
                <a:lnTo>
                  <a:pt x="370" y="862"/>
                </a:lnTo>
                <a:lnTo>
                  <a:pt x="370" y="862"/>
                </a:lnTo>
                <a:lnTo>
                  <a:pt x="370" y="869"/>
                </a:lnTo>
                <a:lnTo>
                  <a:pt x="370" y="876"/>
                </a:lnTo>
                <a:lnTo>
                  <a:pt x="377" y="883"/>
                </a:lnTo>
                <a:lnTo>
                  <a:pt x="384" y="883"/>
                </a:lnTo>
                <a:lnTo>
                  <a:pt x="384" y="890"/>
                </a:lnTo>
                <a:lnTo>
                  <a:pt x="391" y="897"/>
                </a:lnTo>
                <a:lnTo>
                  <a:pt x="391" y="904"/>
                </a:lnTo>
                <a:lnTo>
                  <a:pt x="398" y="904"/>
                </a:lnTo>
                <a:lnTo>
                  <a:pt x="404" y="910"/>
                </a:lnTo>
                <a:lnTo>
                  <a:pt x="411" y="910"/>
                </a:lnTo>
                <a:lnTo>
                  <a:pt x="418" y="917"/>
                </a:lnTo>
                <a:lnTo>
                  <a:pt x="432" y="910"/>
                </a:lnTo>
                <a:lnTo>
                  <a:pt x="439" y="910"/>
                </a:lnTo>
                <a:lnTo>
                  <a:pt x="446" y="904"/>
                </a:lnTo>
                <a:lnTo>
                  <a:pt x="452" y="904"/>
                </a:lnTo>
                <a:lnTo>
                  <a:pt x="452" y="897"/>
                </a:lnTo>
                <a:lnTo>
                  <a:pt x="459" y="890"/>
                </a:lnTo>
                <a:lnTo>
                  <a:pt x="466" y="890"/>
                </a:lnTo>
                <a:lnTo>
                  <a:pt x="473" y="883"/>
                </a:lnTo>
                <a:lnTo>
                  <a:pt x="480" y="883"/>
                </a:lnTo>
                <a:lnTo>
                  <a:pt x="487" y="876"/>
                </a:lnTo>
                <a:lnTo>
                  <a:pt x="494" y="869"/>
                </a:lnTo>
                <a:lnTo>
                  <a:pt x="494" y="869"/>
                </a:lnTo>
                <a:lnTo>
                  <a:pt x="500" y="862"/>
                </a:lnTo>
                <a:lnTo>
                  <a:pt x="507" y="856"/>
                </a:lnTo>
                <a:lnTo>
                  <a:pt x="514" y="856"/>
                </a:lnTo>
                <a:lnTo>
                  <a:pt x="521" y="849"/>
                </a:lnTo>
                <a:lnTo>
                  <a:pt x="528" y="849"/>
                </a:lnTo>
                <a:lnTo>
                  <a:pt x="535" y="842"/>
                </a:lnTo>
                <a:lnTo>
                  <a:pt x="542" y="842"/>
                </a:lnTo>
                <a:lnTo>
                  <a:pt x="548" y="835"/>
                </a:lnTo>
                <a:lnTo>
                  <a:pt x="555" y="835"/>
                </a:lnTo>
                <a:lnTo>
                  <a:pt x="569" y="835"/>
                </a:lnTo>
                <a:lnTo>
                  <a:pt x="576" y="835"/>
                </a:lnTo>
                <a:lnTo>
                  <a:pt x="583" y="828"/>
                </a:lnTo>
                <a:lnTo>
                  <a:pt x="590" y="828"/>
                </a:lnTo>
                <a:lnTo>
                  <a:pt x="596" y="821"/>
                </a:lnTo>
                <a:lnTo>
                  <a:pt x="603" y="821"/>
                </a:lnTo>
                <a:lnTo>
                  <a:pt x="610" y="815"/>
                </a:lnTo>
                <a:lnTo>
                  <a:pt x="617" y="815"/>
                </a:lnTo>
                <a:lnTo>
                  <a:pt x="624" y="808"/>
                </a:lnTo>
                <a:lnTo>
                  <a:pt x="638" y="808"/>
                </a:lnTo>
                <a:lnTo>
                  <a:pt x="644" y="801"/>
                </a:lnTo>
                <a:lnTo>
                  <a:pt x="644" y="801"/>
                </a:lnTo>
                <a:lnTo>
                  <a:pt x="651" y="794"/>
                </a:lnTo>
                <a:lnTo>
                  <a:pt x="658" y="787"/>
                </a:lnTo>
                <a:lnTo>
                  <a:pt x="658" y="780"/>
                </a:lnTo>
                <a:lnTo>
                  <a:pt x="658" y="780"/>
                </a:lnTo>
                <a:lnTo>
                  <a:pt x="651" y="774"/>
                </a:lnTo>
                <a:lnTo>
                  <a:pt x="651" y="767"/>
                </a:lnTo>
                <a:lnTo>
                  <a:pt x="651" y="760"/>
                </a:lnTo>
                <a:lnTo>
                  <a:pt x="651" y="753"/>
                </a:lnTo>
                <a:lnTo>
                  <a:pt x="651" y="746"/>
                </a:lnTo>
                <a:lnTo>
                  <a:pt x="651" y="746"/>
                </a:lnTo>
                <a:lnTo>
                  <a:pt x="658" y="739"/>
                </a:lnTo>
                <a:lnTo>
                  <a:pt x="658" y="732"/>
                </a:lnTo>
                <a:lnTo>
                  <a:pt x="665" y="726"/>
                </a:lnTo>
                <a:lnTo>
                  <a:pt x="665" y="719"/>
                </a:lnTo>
                <a:lnTo>
                  <a:pt x="665" y="712"/>
                </a:lnTo>
                <a:lnTo>
                  <a:pt x="658" y="712"/>
                </a:lnTo>
                <a:lnTo>
                  <a:pt x="658" y="705"/>
                </a:lnTo>
                <a:lnTo>
                  <a:pt x="658" y="698"/>
                </a:lnTo>
                <a:lnTo>
                  <a:pt x="665" y="691"/>
                </a:lnTo>
                <a:lnTo>
                  <a:pt x="665" y="685"/>
                </a:lnTo>
                <a:lnTo>
                  <a:pt x="672" y="685"/>
                </a:lnTo>
                <a:lnTo>
                  <a:pt x="686" y="678"/>
                </a:lnTo>
                <a:lnTo>
                  <a:pt x="692" y="678"/>
                </a:lnTo>
                <a:lnTo>
                  <a:pt x="699" y="678"/>
                </a:lnTo>
                <a:lnTo>
                  <a:pt x="706" y="685"/>
                </a:lnTo>
                <a:lnTo>
                  <a:pt x="706" y="685"/>
                </a:lnTo>
                <a:lnTo>
                  <a:pt x="713" y="691"/>
                </a:lnTo>
                <a:lnTo>
                  <a:pt x="713" y="698"/>
                </a:lnTo>
                <a:lnTo>
                  <a:pt x="720" y="705"/>
                </a:lnTo>
                <a:lnTo>
                  <a:pt x="720" y="712"/>
                </a:lnTo>
                <a:lnTo>
                  <a:pt x="727" y="712"/>
                </a:lnTo>
                <a:lnTo>
                  <a:pt x="734" y="719"/>
                </a:lnTo>
                <a:lnTo>
                  <a:pt x="734" y="726"/>
                </a:lnTo>
                <a:lnTo>
                  <a:pt x="740" y="732"/>
                </a:lnTo>
                <a:lnTo>
                  <a:pt x="740" y="732"/>
                </a:lnTo>
                <a:lnTo>
                  <a:pt x="740" y="739"/>
                </a:lnTo>
                <a:lnTo>
                  <a:pt x="740" y="746"/>
                </a:lnTo>
                <a:lnTo>
                  <a:pt x="740" y="753"/>
                </a:lnTo>
                <a:lnTo>
                  <a:pt x="747" y="760"/>
                </a:lnTo>
                <a:lnTo>
                  <a:pt x="747" y="767"/>
                </a:lnTo>
                <a:lnTo>
                  <a:pt x="754" y="767"/>
                </a:lnTo>
                <a:lnTo>
                  <a:pt x="761" y="767"/>
                </a:lnTo>
                <a:lnTo>
                  <a:pt x="775" y="767"/>
                </a:lnTo>
                <a:lnTo>
                  <a:pt x="782" y="767"/>
                </a:lnTo>
                <a:lnTo>
                  <a:pt x="788" y="774"/>
                </a:lnTo>
                <a:lnTo>
                  <a:pt x="788" y="780"/>
                </a:lnTo>
                <a:lnTo>
                  <a:pt x="795" y="780"/>
                </a:lnTo>
                <a:lnTo>
                  <a:pt x="802" y="787"/>
                </a:lnTo>
                <a:lnTo>
                  <a:pt x="809" y="794"/>
                </a:lnTo>
                <a:lnTo>
                  <a:pt x="816" y="794"/>
                </a:lnTo>
                <a:lnTo>
                  <a:pt x="816" y="801"/>
                </a:lnTo>
                <a:lnTo>
                  <a:pt x="823" y="808"/>
                </a:lnTo>
                <a:lnTo>
                  <a:pt x="830" y="808"/>
                </a:lnTo>
                <a:lnTo>
                  <a:pt x="836" y="815"/>
                </a:lnTo>
                <a:lnTo>
                  <a:pt x="843" y="815"/>
                </a:lnTo>
                <a:lnTo>
                  <a:pt x="850" y="821"/>
                </a:lnTo>
                <a:lnTo>
                  <a:pt x="857" y="828"/>
                </a:lnTo>
                <a:lnTo>
                  <a:pt x="864" y="828"/>
                </a:lnTo>
                <a:lnTo>
                  <a:pt x="871" y="835"/>
                </a:lnTo>
                <a:lnTo>
                  <a:pt x="871" y="835"/>
                </a:lnTo>
                <a:lnTo>
                  <a:pt x="878" y="842"/>
                </a:lnTo>
                <a:lnTo>
                  <a:pt x="884" y="849"/>
                </a:lnTo>
                <a:lnTo>
                  <a:pt x="891" y="849"/>
                </a:lnTo>
                <a:lnTo>
                  <a:pt x="898" y="856"/>
                </a:lnTo>
                <a:lnTo>
                  <a:pt x="905" y="862"/>
                </a:lnTo>
                <a:lnTo>
                  <a:pt x="905" y="862"/>
                </a:lnTo>
                <a:lnTo>
                  <a:pt x="912" y="869"/>
                </a:lnTo>
                <a:lnTo>
                  <a:pt x="919" y="876"/>
                </a:lnTo>
                <a:lnTo>
                  <a:pt x="926" y="876"/>
                </a:lnTo>
                <a:lnTo>
                  <a:pt x="932" y="883"/>
                </a:lnTo>
                <a:lnTo>
                  <a:pt x="939" y="883"/>
                </a:lnTo>
                <a:lnTo>
                  <a:pt x="939" y="890"/>
                </a:lnTo>
                <a:lnTo>
                  <a:pt x="946" y="897"/>
                </a:lnTo>
                <a:lnTo>
                  <a:pt x="953" y="897"/>
                </a:lnTo>
                <a:lnTo>
                  <a:pt x="960" y="904"/>
                </a:lnTo>
                <a:lnTo>
                  <a:pt x="967" y="910"/>
                </a:lnTo>
                <a:lnTo>
                  <a:pt x="974" y="910"/>
                </a:lnTo>
                <a:lnTo>
                  <a:pt x="980" y="917"/>
                </a:lnTo>
                <a:lnTo>
                  <a:pt x="980" y="924"/>
                </a:lnTo>
                <a:lnTo>
                  <a:pt x="987" y="924"/>
                </a:lnTo>
                <a:lnTo>
                  <a:pt x="994" y="931"/>
                </a:lnTo>
                <a:lnTo>
                  <a:pt x="1001" y="931"/>
                </a:lnTo>
                <a:lnTo>
                  <a:pt x="1008" y="938"/>
                </a:lnTo>
                <a:lnTo>
                  <a:pt x="1015" y="945"/>
                </a:lnTo>
                <a:lnTo>
                  <a:pt x="1022" y="945"/>
                </a:lnTo>
                <a:lnTo>
                  <a:pt x="1028" y="938"/>
                </a:lnTo>
                <a:lnTo>
                  <a:pt x="1028" y="931"/>
                </a:lnTo>
                <a:close/>
                <a:moveTo>
                  <a:pt x="1193" y="931"/>
                </a:moveTo>
                <a:lnTo>
                  <a:pt x="1200" y="924"/>
                </a:lnTo>
                <a:lnTo>
                  <a:pt x="1200" y="917"/>
                </a:lnTo>
                <a:lnTo>
                  <a:pt x="1200" y="910"/>
                </a:lnTo>
                <a:lnTo>
                  <a:pt x="1200" y="910"/>
                </a:lnTo>
                <a:lnTo>
                  <a:pt x="1200" y="904"/>
                </a:lnTo>
                <a:lnTo>
                  <a:pt x="1193" y="897"/>
                </a:lnTo>
                <a:lnTo>
                  <a:pt x="1186" y="897"/>
                </a:lnTo>
                <a:lnTo>
                  <a:pt x="1179" y="904"/>
                </a:lnTo>
                <a:lnTo>
                  <a:pt x="1179" y="910"/>
                </a:lnTo>
                <a:lnTo>
                  <a:pt x="1179" y="917"/>
                </a:lnTo>
                <a:lnTo>
                  <a:pt x="1179" y="924"/>
                </a:lnTo>
                <a:lnTo>
                  <a:pt x="1179" y="924"/>
                </a:lnTo>
                <a:lnTo>
                  <a:pt x="1179" y="931"/>
                </a:lnTo>
                <a:lnTo>
                  <a:pt x="1186" y="938"/>
                </a:lnTo>
                <a:lnTo>
                  <a:pt x="1186" y="945"/>
                </a:lnTo>
                <a:lnTo>
                  <a:pt x="1186" y="951"/>
                </a:lnTo>
                <a:lnTo>
                  <a:pt x="1186" y="951"/>
                </a:lnTo>
                <a:lnTo>
                  <a:pt x="1193" y="951"/>
                </a:lnTo>
                <a:lnTo>
                  <a:pt x="1193" y="945"/>
                </a:lnTo>
                <a:lnTo>
                  <a:pt x="1193" y="931"/>
                </a:lnTo>
                <a:close/>
                <a:moveTo>
                  <a:pt x="137" y="815"/>
                </a:moveTo>
                <a:lnTo>
                  <a:pt x="117" y="794"/>
                </a:lnTo>
                <a:lnTo>
                  <a:pt x="117" y="815"/>
                </a:lnTo>
                <a:lnTo>
                  <a:pt x="137" y="815"/>
                </a:lnTo>
                <a:close/>
                <a:moveTo>
                  <a:pt x="1131" y="815"/>
                </a:moveTo>
                <a:lnTo>
                  <a:pt x="1131" y="808"/>
                </a:lnTo>
                <a:lnTo>
                  <a:pt x="1131" y="801"/>
                </a:lnTo>
                <a:lnTo>
                  <a:pt x="1131" y="794"/>
                </a:lnTo>
                <a:lnTo>
                  <a:pt x="1138" y="794"/>
                </a:lnTo>
                <a:lnTo>
                  <a:pt x="1138" y="787"/>
                </a:lnTo>
                <a:lnTo>
                  <a:pt x="1138" y="780"/>
                </a:lnTo>
                <a:lnTo>
                  <a:pt x="1138" y="774"/>
                </a:lnTo>
                <a:lnTo>
                  <a:pt x="1138" y="767"/>
                </a:lnTo>
                <a:lnTo>
                  <a:pt x="1138" y="760"/>
                </a:lnTo>
                <a:lnTo>
                  <a:pt x="1138" y="753"/>
                </a:lnTo>
                <a:lnTo>
                  <a:pt x="1138" y="746"/>
                </a:lnTo>
                <a:lnTo>
                  <a:pt x="1138" y="746"/>
                </a:lnTo>
                <a:lnTo>
                  <a:pt x="1138" y="739"/>
                </a:lnTo>
                <a:lnTo>
                  <a:pt x="1138" y="732"/>
                </a:lnTo>
                <a:lnTo>
                  <a:pt x="1131" y="726"/>
                </a:lnTo>
                <a:lnTo>
                  <a:pt x="1131" y="719"/>
                </a:lnTo>
                <a:lnTo>
                  <a:pt x="1124" y="726"/>
                </a:lnTo>
                <a:lnTo>
                  <a:pt x="1124" y="732"/>
                </a:lnTo>
                <a:lnTo>
                  <a:pt x="1124" y="739"/>
                </a:lnTo>
                <a:lnTo>
                  <a:pt x="1124" y="746"/>
                </a:lnTo>
                <a:lnTo>
                  <a:pt x="1124" y="753"/>
                </a:lnTo>
                <a:lnTo>
                  <a:pt x="1124" y="753"/>
                </a:lnTo>
                <a:lnTo>
                  <a:pt x="1117" y="760"/>
                </a:lnTo>
                <a:lnTo>
                  <a:pt x="1117" y="767"/>
                </a:lnTo>
                <a:lnTo>
                  <a:pt x="1117" y="774"/>
                </a:lnTo>
                <a:lnTo>
                  <a:pt x="1117" y="780"/>
                </a:lnTo>
                <a:lnTo>
                  <a:pt x="1124" y="787"/>
                </a:lnTo>
                <a:lnTo>
                  <a:pt x="1124" y="794"/>
                </a:lnTo>
                <a:lnTo>
                  <a:pt x="1124" y="794"/>
                </a:lnTo>
                <a:lnTo>
                  <a:pt x="1124" y="801"/>
                </a:lnTo>
                <a:lnTo>
                  <a:pt x="1124" y="808"/>
                </a:lnTo>
                <a:lnTo>
                  <a:pt x="1131" y="815"/>
                </a:lnTo>
                <a:close/>
                <a:moveTo>
                  <a:pt x="2112" y="815"/>
                </a:moveTo>
                <a:lnTo>
                  <a:pt x="2118" y="808"/>
                </a:lnTo>
                <a:lnTo>
                  <a:pt x="2118" y="808"/>
                </a:lnTo>
                <a:lnTo>
                  <a:pt x="2125" y="801"/>
                </a:lnTo>
                <a:lnTo>
                  <a:pt x="2132" y="794"/>
                </a:lnTo>
                <a:lnTo>
                  <a:pt x="2132" y="794"/>
                </a:lnTo>
                <a:lnTo>
                  <a:pt x="2132" y="787"/>
                </a:lnTo>
                <a:lnTo>
                  <a:pt x="2139" y="780"/>
                </a:lnTo>
                <a:lnTo>
                  <a:pt x="2139" y="774"/>
                </a:lnTo>
                <a:lnTo>
                  <a:pt x="2139" y="767"/>
                </a:lnTo>
                <a:lnTo>
                  <a:pt x="2132" y="767"/>
                </a:lnTo>
                <a:lnTo>
                  <a:pt x="2132" y="760"/>
                </a:lnTo>
                <a:lnTo>
                  <a:pt x="2132" y="753"/>
                </a:lnTo>
                <a:lnTo>
                  <a:pt x="2132" y="753"/>
                </a:lnTo>
                <a:lnTo>
                  <a:pt x="2132" y="746"/>
                </a:lnTo>
                <a:lnTo>
                  <a:pt x="2139" y="739"/>
                </a:lnTo>
                <a:lnTo>
                  <a:pt x="2139" y="732"/>
                </a:lnTo>
                <a:lnTo>
                  <a:pt x="2139" y="726"/>
                </a:lnTo>
                <a:lnTo>
                  <a:pt x="2146" y="732"/>
                </a:lnTo>
                <a:lnTo>
                  <a:pt x="2146" y="739"/>
                </a:lnTo>
                <a:lnTo>
                  <a:pt x="2146" y="746"/>
                </a:lnTo>
                <a:lnTo>
                  <a:pt x="2146" y="746"/>
                </a:lnTo>
                <a:lnTo>
                  <a:pt x="2146" y="753"/>
                </a:lnTo>
                <a:lnTo>
                  <a:pt x="2146" y="760"/>
                </a:lnTo>
                <a:lnTo>
                  <a:pt x="2146" y="760"/>
                </a:lnTo>
                <a:lnTo>
                  <a:pt x="2146" y="767"/>
                </a:lnTo>
                <a:lnTo>
                  <a:pt x="2153" y="774"/>
                </a:lnTo>
                <a:lnTo>
                  <a:pt x="2153" y="780"/>
                </a:lnTo>
                <a:lnTo>
                  <a:pt x="2153" y="780"/>
                </a:lnTo>
                <a:lnTo>
                  <a:pt x="2153" y="787"/>
                </a:lnTo>
                <a:lnTo>
                  <a:pt x="2153" y="794"/>
                </a:lnTo>
                <a:lnTo>
                  <a:pt x="2146" y="801"/>
                </a:lnTo>
                <a:lnTo>
                  <a:pt x="2146" y="808"/>
                </a:lnTo>
                <a:lnTo>
                  <a:pt x="2146" y="808"/>
                </a:lnTo>
                <a:lnTo>
                  <a:pt x="2146" y="815"/>
                </a:lnTo>
                <a:lnTo>
                  <a:pt x="2139" y="821"/>
                </a:lnTo>
                <a:lnTo>
                  <a:pt x="2125" y="821"/>
                </a:lnTo>
                <a:lnTo>
                  <a:pt x="2118" y="821"/>
                </a:lnTo>
                <a:lnTo>
                  <a:pt x="2112" y="815"/>
                </a:lnTo>
                <a:close/>
                <a:moveTo>
                  <a:pt x="192" y="787"/>
                </a:moveTo>
                <a:lnTo>
                  <a:pt x="192" y="774"/>
                </a:lnTo>
                <a:lnTo>
                  <a:pt x="185" y="767"/>
                </a:lnTo>
                <a:lnTo>
                  <a:pt x="178" y="760"/>
                </a:lnTo>
                <a:lnTo>
                  <a:pt x="178" y="760"/>
                </a:lnTo>
                <a:lnTo>
                  <a:pt x="171" y="760"/>
                </a:lnTo>
                <a:lnTo>
                  <a:pt x="165" y="767"/>
                </a:lnTo>
                <a:lnTo>
                  <a:pt x="158" y="774"/>
                </a:lnTo>
                <a:lnTo>
                  <a:pt x="158" y="780"/>
                </a:lnTo>
                <a:lnTo>
                  <a:pt x="165" y="787"/>
                </a:lnTo>
                <a:lnTo>
                  <a:pt x="165" y="794"/>
                </a:lnTo>
                <a:lnTo>
                  <a:pt x="171" y="801"/>
                </a:lnTo>
                <a:lnTo>
                  <a:pt x="178" y="801"/>
                </a:lnTo>
                <a:lnTo>
                  <a:pt x="185" y="794"/>
                </a:lnTo>
                <a:lnTo>
                  <a:pt x="192" y="787"/>
                </a:lnTo>
                <a:close/>
                <a:moveTo>
                  <a:pt x="459" y="760"/>
                </a:moveTo>
                <a:lnTo>
                  <a:pt x="459" y="753"/>
                </a:lnTo>
                <a:lnTo>
                  <a:pt x="466" y="753"/>
                </a:lnTo>
                <a:lnTo>
                  <a:pt x="473" y="753"/>
                </a:lnTo>
                <a:lnTo>
                  <a:pt x="473" y="753"/>
                </a:lnTo>
                <a:lnTo>
                  <a:pt x="480" y="753"/>
                </a:lnTo>
                <a:lnTo>
                  <a:pt x="480" y="760"/>
                </a:lnTo>
                <a:lnTo>
                  <a:pt x="480" y="760"/>
                </a:lnTo>
                <a:lnTo>
                  <a:pt x="473" y="760"/>
                </a:lnTo>
                <a:lnTo>
                  <a:pt x="473" y="767"/>
                </a:lnTo>
                <a:lnTo>
                  <a:pt x="466" y="767"/>
                </a:lnTo>
                <a:lnTo>
                  <a:pt x="466" y="767"/>
                </a:lnTo>
                <a:lnTo>
                  <a:pt x="459" y="767"/>
                </a:lnTo>
                <a:lnTo>
                  <a:pt x="459" y="760"/>
                </a:lnTo>
                <a:lnTo>
                  <a:pt x="459" y="760"/>
                </a:lnTo>
                <a:close/>
                <a:moveTo>
                  <a:pt x="562" y="760"/>
                </a:moveTo>
                <a:lnTo>
                  <a:pt x="569" y="746"/>
                </a:lnTo>
                <a:lnTo>
                  <a:pt x="569" y="746"/>
                </a:lnTo>
                <a:lnTo>
                  <a:pt x="576" y="739"/>
                </a:lnTo>
                <a:lnTo>
                  <a:pt x="583" y="739"/>
                </a:lnTo>
                <a:lnTo>
                  <a:pt x="590" y="746"/>
                </a:lnTo>
                <a:lnTo>
                  <a:pt x="596" y="753"/>
                </a:lnTo>
                <a:lnTo>
                  <a:pt x="596" y="753"/>
                </a:lnTo>
                <a:lnTo>
                  <a:pt x="596" y="760"/>
                </a:lnTo>
                <a:lnTo>
                  <a:pt x="590" y="767"/>
                </a:lnTo>
                <a:lnTo>
                  <a:pt x="583" y="767"/>
                </a:lnTo>
                <a:lnTo>
                  <a:pt x="576" y="774"/>
                </a:lnTo>
                <a:lnTo>
                  <a:pt x="569" y="767"/>
                </a:lnTo>
                <a:lnTo>
                  <a:pt x="569" y="767"/>
                </a:lnTo>
                <a:lnTo>
                  <a:pt x="562" y="760"/>
                </a:lnTo>
                <a:close/>
                <a:moveTo>
                  <a:pt x="1159" y="698"/>
                </a:moveTo>
                <a:lnTo>
                  <a:pt x="1159" y="691"/>
                </a:lnTo>
                <a:lnTo>
                  <a:pt x="1159" y="685"/>
                </a:lnTo>
                <a:lnTo>
                  <a:pt x="1165" y="678"/>
                </a:lnTo>
                <a:lnTo>
                  <a:pt x="1165" y="671"/>
                </a:lnTo>
                <a:lnTo>
                  <a:pt x="1165" y="664"/>
                </a:lnTo>
                <a:lnTo>
                  <a:pt x="1165" y="657"/>
                </a:lnTo>
                <a:lnTo>
                  <a:pt x="1165" y="650"/>
                </a:lnTo>
                <a:lnTo>
                  <a:pt x="1165" y="643"/>
                </a:lnTo>
                <a:lnTo>
                  <a:pt x="1165" y="637"/>
                </a:lnTo>
                <a:lnTo>
                  <a:pt x="1165" y="623"/>
                </a:lnTo>
                <a:lnTo>
                  <a:pt x="1165" y="616"/>
                </a:lnTo>
                <a:lnTo>
                  <a:pt x="1172" y="609"/>
                </a:lnTo>
                <a:lnTo>
                  <a:pt x="1179" y="609"/>
                </a:lnTo>
                <a:lnTo>
                  <a:pt x="1186" y="602"/>
                </a:lnTo>
                <a:lnTo>
                  <a:pt x="1193" y="596"/>
                </a:lnTo>
                <a:lnTo>
                  <a:pt x="1200" y="589"/>
                </a:lnTo>
                <a:lnTo>
                  <a:pt x="1200" y="582"/>
                </a:lnTo>
                <a:lnTo>
                  <a:pt x="1200" y="575"/>
                </a:lnTo>
                <a:lnTo>
                  <a:pt x="1200" y="568"/>
                </a:lnTo>
                <a:lnTo>
                  <a:pt x="1200" y="561"/>
                </a:lnTo>
                <a:lnTo>
                  <a:pt x="1193" y="555"/>
                </a:lnTo>
                <a:lnTo>
                  <a:pt x="1193" y="541"/>
                </a:lnTo>
                <a:lnTo>
                  <a:pt x="1193" y="534"/>
                </a:lnTo>
                <a:lnTo>
                  <a:pt x="1186" y="527"/>
                </a:lnTo>
                <a:lnTo>
                  <a:pt x="1186" y="527"/>
                </a:lnTo>
                <a:lnTo>
                  <a:pt x="1186" y="527"/>
                </a:lnTo>
                <a:lnTo>
                  <a:pt x="1186" y="534"/>
                </a:lnTo>
                <a:lnTo>
                  <a:pt x="1179" y="548"/>
                </a:lnTo>
                <a:lnTo>
                  <a:pt x="1179" y="555"/>
                </a:lnTo>
                <a:lnTo>
                  <a:pt x="1172" y="561"/>
                </a:lnTo>
                <a:lnTo>
                  <a:pt x="1165" y="568"/>
                </a:lnTo>
                <a:lnTo>
                  <a:pt x="1159" y="575"/>
                </a:lnTo>
                <a:lnTo>
                  <a:pt x="1159" y="582"/>
                </a:lnTo>
                <a:lnTo>
                  <a:pt x="1152" y="589"/>
                </a:lnTo>
                <a:lnTo>
                  <a:pt x="1152" y="596"/>
                </a:lnTo>
                <a:lnTo>
                  <a:pt x="1152" y="602"/>
                </a:lnTo>
                <a:lnTo>
                  <a:pt x="1152" y="609"/>
                </a:lnTo>
                <a:lnTo>
                  <a:pt x="1152" y="616"/>
                </a:lnTo>
                <a:lnTo>
                  <a:pt x="1152" y="623"/>
                </a:lnTo>
                <a:lnTo>
                  <a:pt x="1152" y="630"/>
                </a:lnTo>
                <a:lnTo>
                  <a:pt x="1145" y="637"/>
                </a:lnTo>
                <a:lnTo>
                  <a:pt x="1145" y="643"/>
                </a:lnTo>
                <a:lnTo>
                  <a:pt x="1145" y="650"/>
                </a:lnTo>
                <a:lnTo>
                  <a:pt x="1145" y="657"/>
                </a:lnTo>
                <a:lnTo>
                  <a:pt x="1152" y="664"/>
                </a:lnTo>
                <a:lnTo>
                  <a:pt x="1152" y="671"/>
                </a:lnTo>
                <a:lnTo>
                  <a:pt x="1145" y="678"/>
                </a:lnTo>
                <a:lnTo>
                  <a:pt x="1152" y="685"/>
                </a:lnTo>
                <a:lnTo>
                  <a:pt x="1152" y="691"/>
                </a:lnTo>
                <a:lnTo>
                  <a:pt x="1159" y="698"/>
                </a:lnTo>
                <a:close/>
                <a:moveTo>
                  <a:pt x="740" y="671"/>
                </a:moveTo>
                <a:lnTo>
                  <a:pt x="740" y="664"/>
                </a:lnTo>
                <a:lnTo>
                  <a:pt x="734" y="657"/>
                </a:lnTo>
                <a:lnTo>
                  <a:pt x="734" y="643"/>
                </a:lnTo>
                <a:lnTo>
                  <a:pt x="740" y="637"/>
                </a:lnTo>
                <a:lnTo>
                  <a:pt x="740" y="630"/>
                </a:lnTo>
                <a:lnTo>
                  <a:pt x="747" y="616"/>
                </a:lnTo>
                <a:lnTo>
                  <a:pt x="754" y="616"/>
                </a:lnTo>
                <a:lnTo>
                  <a:pt x="754" y="623"/>
                </a:lnTo>
                <a:lnTo>
                  <a:pt x="761" y="630"/>
                </a:lnTo>
                <a:lnTo>
                  <a:pt x="761" y="643"/>
                </a:lnTo>
                <a:lnTo>
                  <a:pt x="761" y="650"/>
                </a:lnTo>
                <a:lnTo>
                  <a:pt x="761" y="657"/>
                </a:lnTo>
                <a:lnTo>
                  <a:pt x="761" y="664"/>
                </a:lnTo>
                <a:lnTo>
                  <a:pt x="761" y="678"/>
                </a:lnTo>
                <a:lnTo>
                  <a:pt x="761" y="685"/>
                </a:lnTo>
                <a:lnTo>
                  <a:pt x="754" y="691"/>
                </a:lnTo>
                <a:lnTo>
                  <a:pt x="754" y="698"/>
                </a:lnTo>
                <a:lnTo>
                  <a:pt x="747" y="691"/>
                </a:lnTo>
                <a:lnTo>
                  <a:pt x="747" y="685"/>
                </a:lnTo>
                <a:lnTo>
                  <a:pt x="740" y="671"/>
                </a:lnTo>
                <a:close/>
                <a:moveTo>
                  <a:pt x="809" y="671"/>
                </a:moveTo>
                <a:lnTo>
                  <a:pt x="809" y="664"/>
                </a:lnTo>
                <a:lnTo>
                  <a:pt x="809" y="664"/>
                </a:lnTo>
                <a:lnTo>
                  <a:pt x="809" y="664"/>
                </a:lnTo>
                <a:lnTo>
                  <a:pt x="809" y="664"/>
                </a:lnTo>
                <a:lnTo>
                  <a:pt x="816" y="664"/>
                </a:lnTo>
                <a:lnTo>
                  <a:pt x="816" y="664"/>
                </a:lnTo>
                <a:lnTo>
                  <a:pt x="816" y="671"/>
                </a:lnTo>
                <a:lnTo>
                  <a:pt x="816" y="671"/>
                </a:lnTo>
                <a:lnTo>
                  <a:pt x="816" y="671"/>
                </a:lnTo>
                <a:lnTo>
                  <a:pt x="816" y="678"/>
                </a:lnTo>
                <a:lnTo>
                  <a:pt x="809" y="678"/>
                </a:lnTo>
                <a:lnTo>
                  <a:pt x="809" y="678"/>
                </a:lnTo>
                <a:lnTo>
                  <a:pt x="809" y="671"/>
                </a:lnTo>
                <a:lnTo>
                  <a:pt x="809" y="671"/>
                </a:lnTo>
                <a:close/>
                <a:moveTo>
                  <a:pt x="836" y="609"/>
                </a:moveTo>
                <a:lnTo>
                  <a:pt x="836" y="602"/>
                </a:lnTo>
                <a:lnTo>
                  <a:pt x="836" y="602"/>
                </a:lnTo>
                <a:lnTo>
                  <a:pt x="836" y="596"/>
                </a:lnTo>
                <a:lnTo>
                  <a:pt x="836" y="589"/>
                </a:lnTo>
                <a:lnTo>
                  <a:pt x="836" y="582"/>
                </a:lnTo>
                <a:lnTo>
                  <a:pt x="836" y="575"/>
                </a:lnTo>
                <a:lnTo>
                  <a:pt x="836" y="568"/>
                </a:lnTo>
                <a:lnTo>
                  <a:pt x="836" y="568"/>
                </a:lnTo>
                <a:lnTo>
                  <a:pt x="843" y="561"/>
                </a:lnTo>
                <a:lnTo>
                  <a:pt x="850" y="561"/>
                </a:lnTo>
                <a:lnTo>
                  <a:pt x="857" y="555"/>
                </a:lnTo>
                <a:lnTo>
                  <a:pt x="864" y="555"/>
                </a:lnTo>
                <a:lnTo>
                  <a:pt x="864" y="548"/>
                </a:lnTo>
                <a:lnTo>
                  <a:pt x="864" y="548"/>
                </a:lnTo>
                <a:lnTo>
                  <a:pt x="864" y="541"/>
                </a:lnTo>
                <a:lnTo>
                  <a:pt x="864" y="534"/>
                </a:lnTo>
                <a:lnTo>
                  <a:pt x="871" y="527"/>
                </a:lnTo>
                <a:lnTo>
                  <a:pt x="871" y="527"/>
                </a:lnTo>
                <a:lnTo>
                  <a:pt x="878" y="534"/>
                </a:lnTo>
                <a:lnTo>
                  <a:pt x="878" y="541"/>
                </a:lnTo>
                <a:lnTo>
                  <a:pt x="871" y="548"/>
                </a:lnTo>
                <a:lnTo>
                  <a:pt x="871" y="548"/>
                </a:lnTo>
                <a:lnTo>
                  <a:pt x="871" y="555"/>
                </a:lnTo>
                <a:lnTo>
                  <a:pt x="871" y="561"/>
                </a:lnTo>
                <a:lnTo>
                  <a:pt x="871" y="568"/>
                </a:lnTo>
                <a:lnTo>
                  <a:pt x="871" y="575"/>
                </a:lnTo>
                <a:lnTo>
                  <a:pt x="871" y="582"/>
                </a:lnTo>
                <a:lnTo>
                  <a:pt x="871" y="582"/>
                </a:lnTo>
                <a:lnTo>
                  <a:pt x="864" y="589"/>
                </a:lnTo>
                <a:lnTo>
                  <a:pt x="864" y="596"/>
                </a:lnTo>
                <a:lnTo>
                  <a:pt x="857" y="596"/>
                </a:lnTo>
                <a:lnTo>
                  <a:pt x="850" y="602"/>
                </a:lnTo>
                <a:lnTo>
                  <a:pt x="843" y="609"/>
                </a:lnTo>
                <a:lnTo>
                  <a:pt x="843" y="616"/>
                </a:lnTo>
                <a:lnTo>
                  <a:pt x="843" y="623"/>
                </a:lnTo>
                <a:lnTo>
                  <a:pt x="843" y="623"/>
                </a:lnTo>
                <a:lnTo>
                  <a:pt x="836" y="623"/>
                </a:lnTo>
                <a:lnTo>
                  <a:pt x="836" y="609"/>
                </a:lnTo>
                <a:close/>
                <a:moveTo>
                  <a:pt x="1769" y="582"/>
                </a:moveTo>
                <a:lnTo>
                  <a:pt x="1769" y="582"/>
                </a:lnTo>
                <a:lnTo>
                  <a:pt x="1762" y="582"/>
                </a:lnTo>
                <a:lnTo>
                  <a:pt x="1762" y="582"/>
                </a:lnTo>
                <a:lnTo>
                  <a:pt x="1755" y="582"/>
                </a:lnTo>
                <a:lnTo>
                  <a:pt x="1755" y="582"/>
                </a:lnTo>
                <a:lnTo>
                  <a:pt x="1748" y="582"/>
                </a:lnTo>
                <a:lnTo>
                  <a:pt x="1748" y="582"/>
                </a:lnTo>
                <a:lnTo>
                  <a:pt x="1748" y="582"/>
                </a:lnTo>
                <a:lnTo>
                  <a:pt x="1748" y="582"/>
                </a:lnTo>
                <a:lnTo>
                  <a:pt x="1755" y="582"/>
                </a:lnTo>
                <a:lnTo>
                  <a:pt x="1755" y="582"/>
                </a:lnTo>
                <a:lnTo>
                  <a:pt x="1762" y="582"/>
                </a:lnTo>
                <a:lnTo>
                  <a:pt x="1769" y="582"/>
                </a:lnTo>
                <a:lnTo>
                  <a:pt x="1769" y="582"/>
                </a:lnTo>
                <a:close/>
                <a:moveTo>
                  <a:pt x="1755" y="555"/>
                </a:moveTo>
                <a:lnTo>
                  <a:pt x="1748" y="541"/>
                </a:lnTo>
                <a:lnTo>
                  <a:pt x="1741" y="541"/>
                </a:lnTo>
                <a:lnTo>
                  <a:pt x="1735" y="534"/>
                </a:lnTo>
                <a:lnTo>
                  <a:pt x="1728" y="541"/>
                </a:lnTo>
                <a:lnTo>
                  <a:pt x="1721" y="548"/>
                </a:lnTo>
                <a:lnTo>
                  <a:pt x="1714" y="555"/>
                </a:lnTo>
                <a:lnTo>
                  <a:pt x="1721" y="568"/>
                </a:lnTo>
                <a:lnTo>
                  <a:pt x="1728" y="575"/>
                </a:lnTo>
                <a:lnTo>
                  <a:pt x="1735" y="582"/>
                </a:lnTo>
                <a:lnTo>
                  <a:pt x="1741" y="582"/>
                </a:lnTo>
                <a:lnTo>
                  <a:pt x="1741" y="582"/>
                </a:lnTo>
                <a:lnTo>
                  <a:pt x="1748" y="575"/>
                </a:lnTo>
                <a:lnTo>
                  <a:pt x="1748" y="568"/>
                </a:lnTo>
                <a:lnTo>
                  <a:pt x="1755" y="555"/>
                </a:lnTo>
                <a:close/>
                <a:moveTo>
                  <a:pt x="1796" y="555"/>
                </a:moveTo>
                <a:lnTo>
                  <a:pt x="1796" y="555"/>
                </a:lnTo>
                <a:lnTo>
                  <a:pt x="1796" y="555"/>
                </a:lnTo>
                <a:lnTo>
                  <a:pt x="1796" y="555"/>
                </a:lnTo>
                <a:lnTo>
                  <a:pt x="1796" y="555"/>
                </a:lnTo>
                <a:lnTo>
                  <a:pt x="1796" y="555"/>
                </a:lnTo>
                <a:lnTo>
                  <a:pt x="1789" y="555"/>
                </a:lnTo>
                <a:lnTo>
                  <a:pt x="1789" y="555"/>
                </a:lnTo>
                <a:lnTo>
                  <a:pt x="1796" y="555"/>
                </a:lnTo>
                <a:lnTo>
                  <a:pt x="1796" y="555"/>
                </a:lnTo>
                <a:lnTo>
                  <a:pt x="1796" y="555"/>
                </a:lnTo>
                <a:lnTo>
                  <a:pt x="1796" y="555"/>
                </a:lnTo>
                <a:lnTo>
                  <a:pt x="1796" y="555"/>
                </a:lnTo>
                <a:lnTo>
                  <a:pt x="1796" y="555"/>
                </a:lnTo>
                <a:lnTo>
                  <a:pt x="1796" y="555"/>
                </a:lnTo>
                <a:close/>
                <a:moveTo>
                  <a:pt x="1227" y="527"/>
                </a:moveTo>
                <a:lnTo>
                  <a:pt x="1220" y="520"/>
                </a:lnTo>
                <a:lnTo>
                  <a:pt x="1220" y="513"/>
                </a:lnTo>
                <a:lnTo>
                  <a:pt x="1220" y="513"/>
                </a:lnTo>
                <a:lnTo>
                  <a:pt x="1220" y="507"/>
                </a:lnTo>
                <a:lnTo>
                  <a:pt x="1220" y="500"/>
                </a:lnTo>
                <a:lnTo>
                  <a:pt x="1220" y="493"/>
                </a:lnTo>
                <a:lnTo>
                  <a:pt x="1213" y="493"/>
                </a:lnTo>
                <a:lnTo>
                  <a:pt x="1213" y="500"/>
                </a:lnTo>
                <a:lnTo>
                  <a:pt x="1207" y="500"/>
                </a:lnTo>
                <a:lnTo>
                  <a:pt x="1200" y="507"/>
                </a:lnTo>
                <a:lnTo>
                  <a:pt x="1193" y="513"/>
                </a:lnTo>
                <a:lnTo>
                  <a:pt x="1193" y="513"/>
                </a:lnTo>
                <a:lnTo>
                  <a:pt x="1186" y="520"/>
                </a:lnTo>
                <a:lnTo>
                  <a:pt x="1186" y="520"/>
                </a:lnTo>
                <a:lnTo>
                  <a:pt x="1193" y="527"/>
                </a:lnTo>
                <a:lnTo>
                  <a:pt x="1200" y="527"/>
                </a:lnTo>
                <a:lnTo>
                  <a:pt x="1207" y="534"/>
                </a:lnTo>
                <a:lnTo>
                  <a:pt x="1213" y="534"/>
                </a:lnTo>
                <a:lnTo>
                  <a:pt x="1220" y="527"/>
                </a:lnTo>
                <a:lnTo>
                  <a:pt x="1227" y="527"/>
                </a:lnTo>
                <a:close/>
                <a:moveTo>
                  <a:pt x="1433" y="527"/>
                </a:moveTo>
                <a:lnTo>
                  <a:pt x="1426" y="520"/>
                </a:lnTo>
                <a:lnTo>
                  <a:pt x="1426" y="513"/>
                </a:lnTo>
                <a:lnTo>
                  <a:pt x="1419" y="513"/>
                </a:lnTo>
                <a:lnTo>
                  <a:pt x="1419" y="513"/>
                </a:lnTo>
                <a:lnTo>
                  <a:pt x="1419" y="513"/>
                </a:lnTo>
                <a:lnTo>
                  <a:pt x="1419" y="513"/>
                </a:lnTo>
                <a:lnTo>
                  <a:pt x="1419" y="513"/>
                </a:lnTo>
                <a:lnTo>
                  <a:pt x="1419" y="520"/>
                </a:lnTo>
                <a:lnTo>
                  <a:pt x="1419" y="520"/>
                </a:lnTo>
                <a:lnTo>
                  <a:pt x="1419" y="527"/>
                </a:lnTo>
                <a:lnTo>
                  <a:pt x="1419" y="527"/>
                </a:lnTo>
                <a:lnTo>
                  <a:pt x="1419" y="527"/>
                </a:lnTo>
                <a:lnTo>
                  <a:pt x="1426" y="527"/>
                </a:lnTo>
                <a:lnTo>
                  <a:pt x="1433" y="527"/>
                </a:lnTo>
                <a:close/>
                <a:moveTo>
                  <a:pt x="1776" y="527"/>
                </a:moveTo>
                <a:lnTo>
                  <a:pt x="1776" y="520"/>
                </a:lnTo>
                <a:lnTo>
                  <a:pt x="1769" y="513"/>
                </a:lnTo>
                <a:lnTo>
                  <a:pt x="1769" y="513"/>
                </a:lnTo>
                <a:lnTo>
                  <a:pt x="1762" y="513"/>
                </a:lnTo>
                <a:lnTo>
                  <a:pt x="1755" y="520"/>
                </a:lnTo>
                <a:lnTo>
                  <a:pt x="1748" y="520"/>
                </a:lnTo>
                <a:lnTo>
                  <a:pt x="1748" y="527"/>
                </a:lnTo>
                <a:lnTo>
                  <a:pt x="1755" y="534"/>
                </a:lnTo>
                <a:lnTo>
                  <a:pt x="1762" y="541"/>
                </a:lnTo>
                <a:lnTo>
                  <a:pt x="1769" y="541"/>
                </a:lnTo>
                <a:lnTo>
                  <a:pt x="1769" y="541"/>
                </a:lnTo>
                <a:lnTo>
                  <a:pt x="1776" y="534"/>
                </a:lnTo>
                <a:lnTo>
                  <a:pt x="1776" y="534"/>
                </a:lnTo>
                <a:lnTo>
                  <a:pt x="1776" y="527"/>
                </a:lnTo>
                <a:close/>
                <a:moveTo>
                  <a:pt x="1885" y="527"/>
                </a:moveTo>
                <a:lnTo>
                  <a:pt x="1885" y="520"/>
                </a:lnTo>
                <a:lnTo>
                  <a:pt x="1885" y="520"/>
                </a:lnTo>
                <a:lnTo>
                  <a:pt x="1879" y="520"/>
                </a:lnTo>
                <a:lnTo>
                  <a:pt x="1879" y="520"/>
                </a:lnTo>
                <a:lnTo>
                  <a:pt x="1872" y="520"/>
                </a:lnTo>
                <a:lnTo>
                  <a:pt x="1872" y="520"/>
                </a:lnTo>
                <a:lnTo>
                  <a:pt x="1872" y="527"/>
                </a:lnTo>
                <a:lnTo>
                  <a:pt x="1872" y="527"/>
                </a:lnTo>
                <a:lnTo>
                  <a:pt x="1872" y="527"/>
                </a:lnTo>
                <a:lnTo>
                  <a:pt x="1879" y="527"/>
                </a:lnTo>
                <a:lnTo>
                  <a:pt x="1879" y="527"/>
                </a:lnTo>
                <a:lnTo>
                  <a:pt x="1879" y="527"/>
                </a:lnTo>
                <a:lnTo>
                  <a:pt x="1885" y="527"/>
                </a:lnTo>
                <a:lnTo>
                  <a:pt x="1885" y="527"/>
                </a:lnTo>
                <a:close/>
                <a:moveTo>
                  <a:pt x="1481" y="493"/>
                </a:moveTo>
                <a:lnTo>
                  <a:pt x="1488" y="493"/>
                </a:lnTo>
                <a:lnTo>
                  <a:pt x="1488" y="486"/>
                </a:lnTo>
                <a:lnTo>
                  <a:pt x="1495" y="479"/>
                </a:lnTo>
                <a:lnTo>
                  <a:pt x="1501" y="472"/>
                </a:lnTo>
                <a:lnTo>
                  <a:pt x="1508" y="472"/>
                </a:lnTo>
                <a:lnTo>
                  <a:pt x="1515" y="466"/>
                </a:lnTo>
                <a:lnTo>
                  <a:pt x="1515" y="459"/>
                </a:lnTo>
                <a:lnTo>
                  <a:pt x="1515" y="452"/>
                </a:lnTo>
                <a:lnTo>
                  <a:pt x="1508" y="445"/>
                </a:lnTo>
                <a:lnTo>
                  <a:pt x="1501" y="445"/>
                </a:lnTo>
                <a:lnTo>
                  <a:pt x="1495" y="445"/>
                </a:lnTo>
                <a:lnTo>
                  <a:pt x="1481" y="445"/>
                </a:lnTo>
                <a:lnTo>
                  <a:pt x="1474" y="445"/>
                </a:lnTo>
                <a:lnTo>
                  <a:pt x="1460" y="445"/>
                </a:lnTo>
                <a:lnTo>
                  <a:pt x="1453" y="452"/>
                </a:lnTo>
                <a:lnTo>
                  <a:pt x="1447" y="452"/>
                </a:lnTo>
                <a:lnTo>
                  <a:pt x="1440" y="452"/>
                </a:lnTo>
                <a:lnTo>
                  <a:pt x="1433" y="459"/>
                </a:lnTo>
                <a:lnTo>
                  <a:pt x="1433" y="466"/>
                </a:lnTo>
                <a:lnTo>
                  <a:pt x="1433" y="472"/>
                </a:lnTo>
                <a:lnTo>
                  <a:pt x="1426" y="479"/>
                </a:lnTo>
                <a:lnTo>
                  <a:pt x="1426" y="486"/>
                </a:lnTo>
                <a:lnTo>
                  <a:pt x="1433" y="493"/>
                </a:lnTo>
                <a:lnTo>
                  <a:pt x="1433" y="493"/>
                </a:lnTo>
                <a:lnTo>
                  <a:pt x="1433" y="500"/>
                </a:lnTo>
                <a:lnTo>
                  <a:pt x="1440" y="507"/>
                </a:lnTo>
                <a:lnTo>
                  <a:pt x="1447" y="507"/>
                </a:lnTo>
                <a:lnTo>
                  <a:pt x="1460" y="513"/>
                </a:lnTo>
                <a:lnTo>
                  <a:pt x="1467" y="507"/>
                </a:lnTo>
                <a:lnTo>
                  <a:pt x="1474" y="507"/>
                </a:lnTo>
                <a:lnTo>
                  <a:pt x="1481" y="500"/>
                </a:lnTo>
                <a:lnTo>
                  <a:pt x="1481" y="493"/>
                </a:lnTo>
                <a:close/>
                <a:moveTo>
                  <a:pt x="1810" y="493"/>
                </a:moveTo>
                <a:lnTo>
                  <a:pt x="1810" y="493"/>
                </a:lnTo>
                <a:lnTo>
                  <a:pt x="1803" y="486"/>
                </a:lnTo>
                <a:lnTo>
                  <a:pt x="1796" y="486"/>
                </a:lnTo>
                <a:lnTo>
                  <a:pt x="1796" y="486"/>
                </a:lnTo>
                <a:lnTo>
                  <a:pt x="1789" y="486"/>
                </a:lnTo>
                <a:lnTo>
                  <a:pt x="1783" y="493"/>
                </a:lnTo>
                <a:lnTo>
                  <a:pt x="1783" y="500"/>
                </a:lnTo>
                <a:lnTo>
                  <a:pt x="1789" y="500"/>
                </a:lnTo>
                <a:lnTo>
                  <a:pt x="1789" y="507"/>
                </a:lnTo>
                <a:lnTo>
                  <a:pt x="1796" y="507"/>
                </a:lnTo>
                <a:lnTo>
                  <a:pt x="1796" y="507"/>
                </a:lnTo>
                <a:lnTo>
                  <a:pt x="1803" y="507"/>
                </a:lnTo>
                <a:lnTo>
                  <a:pt x="1810" y="500"/>
                </a:lnTo>
                <a:lnTo>
                  <a:pt x="1810" y="493"/>
                </a:lnTo>
                <a:close/>
                <a:moveTo>
                  <a:pt x="1364" y="466"/>
                </a:moveTo>
                <a:lnTo>
                  <a:pt x="1364" y="466"/>
                </a:lnTo>
                <a:lnTo>
                  <a:pt x="1364" y="466"/>
                </a:lnTo>
                <a:lnTo>
                  <a:pt x="1364" y="466"/>
                </a:lnTo>
                <a:lnTo>
                  <a:pt x="1364" y="466"/>
                </a:lnTo>
                <a:lnTo>
                  <a:pt x="1364" y="466"/>
                </a:lnTo>
                <a:lnTo>
                  <a:pt x="1364" y="466"/>
                </a:lnTo>
                <a:lnTo>
                  <a:pt x="1357" y="466"/>
                </a:lnTo>
                <a:lnTo>
                  <a:pt x="1357" y="466"/>
                </a:lnTo>
                <a:lnTo>
                  <a:pt x="1364" y="466"/>
                </a:lnTo>
                <a:lnTo>
                  <a:pt x="1364" y="466"/>
                </a:lnTo>
                <a:lnTo>
                  <a:pt x="1364" y="466"/>
                </a:lnTo>
                <a:lnTo>
                  <a:pt x="1364" y="466"/>
                </a:lnTo>
                <a:lnTo>
                  <a:pt x="1364" y="466"/>
                </a:lnTo>
                <a:lnTo>
                  <a:pt x="1364" y="466"/>
                </a:lnTo>
                <a:close/>
                <a:moveTo>
                  <a:pt x="1769" y="466"/>
                </a:moveTo>
                <a:lnTo>
                  <a:pt x="1769" y="466"/>
                </a:lnTo>
                <a:lnTo>
                  <a:pt x="1769" y="459"/>
                </a:lnTo>
                <a:lnTo>
                  <a:pt x="1769" y="459"/>
                </a:lnTo>
                <a:lnTo>
                  <a:pt x="1762" y="459"/>
                </a:lnTo>
                <a:lnTo>
                  <a:pt x="1762" y="466"/>
                </a:lnTo>
                <a:lnTo>
                  <a:pt x="1762" y="466"/>
                </a:lnTo>
                <a:lnTo>
                  <a:pt x="1762" y="466"/>
                </a:lnTo>
                <a:lnTo>
                  <a:pt x="1762" y="472"/>
                </a:lnTo>
                <a:lnTo>
                  <a:pt x="1762" y="472"/>
                </a:lnTo>
                <a:lnTo>
                  <a:pt x="1769" y="472"/>
                </a:lnTo>
                <a:lnTo>
                  <a:pt x="1769" y="472"/>
                </a:lnTo>
                <a:lnTo>
                  <a:pt x="1769" y="472"/>
                </a:lnTo>
                <a:lnTo>
                  <a:pt x="1769" y="472"/>
                </a:lnTo>
                <a:lnTo>
                  <a:pt x="1769" y="466"/>
                </a:lnTo>
                <a:close/>
                <a:moveTo>
                  <a:pt x="1920" y="438"/>
                </a:moveTo>
                <a:lnTo>
                  <a:pt x="1913" y="438"/>
                </a:lnTo>
                <a:lnTo>
                  <a:pt x="1906" y="431"/>
                </a:lnTo>
                <a:lnTo>
                  <a:pt x="1906" y="431"/>
                </a:lnTo>
                <a:lnTo>
                  <a:pt x="1899" y="431"/>
                </a:lnTo>
                <a:lnTo>
                  <a:pt x="1892" y="431"/>
                </a:lnTo>
                <a:lnTo>
                  <a:pt x="1885" y="438"/>
                </a:lnTo>
                <a:lnTo>
                  <a:pt x="1879" y="438"/>
                </a:lnTo>
                <a:lnTo>
                  <a:pt x="1879" y="438"/>
                </a:lnTo>
                <a:lnTo>
                  <a:pt x="1885" y="438"/>
                </a:lnTo>
                <a:lnTo>
                  <a:pt x="1892" y="445"/>
                </a:lnTo>
                <a:lnTo>
                  <a:pt x="1899" y="445"/>
                </a:lnTo>
                <a:lnTo>
                  <a:pt x="1899" y="445"/>
                </a:lnTo>
                <a:lnTo>
                  <a:pt x="1906" y="452"/>
                </a:lnTo>
                <a:lnTo>
                  <a:pt x="1906" y="452"/>
                </a:lnTo>
                <a:lnTo>
                  <a:pt x="1913" y="452"/>
                </a:lnTo>
                <a:lnTo>
                  <a:pt x="1913" y="452"/>
                </a:lnTo>
                <a:lnTo>
                  <a:pt x="1913" y="452"/>
                </a:lnTo>
                <a:lnTo>
                  <a:pt x="1913" y="445"/>
                </a:lnTo>
                <a:lnTo>
                  <a:pt x="1920" y="445"/>
                </a:lnTo>
                <a:lnTo>
                  <a:pt x="1920" y="438"/>
                </a:lnTo>
                <a:close/>
                <a:moveTo>
                  <a:pt x="219" y="411"/>
                </a:moveTo>
                <a:lnTo>
                  <a:pt x="206" y="411"/>
                </a:lnTo>
                <a:lnTo>
                  <a:pt x="206" y="425"/>
                </a:lnTo>
                <a:lnTo>
                  <a:pt x="219" y="411"/>
                </a:lnTo>
                <a:close/>
                <a:moveTo>
                  <a:pt x="1741" y="411"/>
                </a:moveTo>
                <a:lnTo>
                  <a:pt x="1741" y="404"/>
                </a:lnTo>
                <a:lnTo>
                  <a:pt x="1741" y="404"/>
                </a:lnTo>
                <a:lnTo>
                  <a:pt x="1735" y="404"/>
                </a:lnTo>
                <a:lnTo>
                  <a:pt x="1735" y="404"/>
                </a:lnTo>
                <a:lnTo>
                  <a:pt x="1735" y="411"/>
                </a:lnTo>
                <a:lnTo>
                  <a:pt x="1735" y="411"/>
                </a:lnTo>
                <a:lnTo>
                  <a:pt x="1735" y="418"/>
                </a:lnTo>
                <a:lnTo>
                  <a:pt x="1735" y="418"/>
                </a:lnTo>
                <a:lnTo>
                  <a:pt x="1735" y="418"/>
                </a:lnTo>
                <a:lnTo>
                  <a:pt x="1741" y="418"/>
                </a:lnTo>
                <a:lnTo>
                  <a:pt x="1741" y="418"/>
                </a:lnTo>
                <a:lnTo>
                  <a:pt x="1741" y="418"/>
                </a:lnTo>
                <a:lnTo>
                  <a:pt x="1741" y="411"/>
                </a:lnTo>
                <a:lnTo>
                  <a:pt x="1741" y="411"/>
                </a:lnTo>
                <a:close/>
                <a:moveTo>
                  <a:pt x="1056" y="322"/>
                </a:moveTo>
                <a:lnTo>
                  <a:pt x="1056" y="315"/>
                </a:lnTo>
                <a:lnTo>
                  <a:pt x="1063" y="308"/>
                </a:lnTo>
                <a:lnTo>
                  <a:pt x="1070" y="308"/>
                </a:lnTo>
                <a:lnTo>
                  <a:pt x="1076" y="301"/>
                </a:lnTo>
                <a:lnTo>
                  <a:pt x="1083" y="301"/>
                </a:lnTo>
                <a:lnTo>
                  <a:pt x="1090" y="295"/>
                </a:lnTo>
                <a:lnTo>
                  <a:pt x="1097" y="295"/>
                </a:lnTo>
                <a:lnTo>
                  <a:pt x="1104" y="295"/>
                </a:lnTo>
                <a:lnTo>
                  <a:pt x="1117" y="295"/>
                </a:lnTo>
                <a:lnTo>
                  <a:pt x="1124" y="295"/>
                </a:lnTo>
                <a:lnTo>
                  <a:pt x="1131" y="295"/>
                </a:lnTo>
                <a:lnTo>
                  <a:pt x="1138" y="288"/>
                </a:lnTo>
                <a:lnTo>
                  <a:pt x="1138" y="281"/>
                </a:lnTo>
                <a:lnTo>
                  <a:pt x="1145" y="274"/>
                </a:lnTo>
                <a:lnTo>
                  <a:pt x="1152" y="274"/>
                </a:lnTo>
                <a:lnTo>
                  <a:pt x="1159" y="267"/>
                </a:lnTo>
                <a:lnTo>
                  <a:pt x="1165" y="267"/>
                </a:lnTo>
                <a:lnTo>
                  <a:pt x="1172" y="267"/>
                </a:lnTo>
                <a:lnTo>
                  <a:pt x="1186" y="267"/>
                </a:lnTo>
                <a:lnTo>
                  <a:pt x="1193" y="260"/>
                </a:lnTo>
                <a:lnTo>
                  <a:pt x="1193" y="253"/>
                </a:lnTo>
                <a:lnTo>
                  <a:pt x="1200" y="253"/>
                </a:lnTo>
                <a:lnTo>
                  <a:pt x="1200" y="247"/>
                </a:lnTo>
                <a:lnTo>
                  <a:pt x="1207" y="240"/>
                </a:lnTo>
                <a:lnTo>
                  <a:pt x="1213" y="233"/>
                </a:lnTo>
                <a:lnTo>
                  <a:pt x="1220" y="233"/>
                </a:lnTo>
                <a:lnTo>
                  <a:pt x="1227" y="226"/>
                </a:lnTo>
                <a:lnTo>
                  <a:pt x="1234" y="226"/>
                </a:lnTo>
                <a:lnTo>
                  <a:pt x="1234" y="219"/>
                </a:lnTo>
                <a:lnTo>
                  <a:pt x="1241" y="219"/>
                </a:lnTo>
                <a:lnTo>
                  <a:pt x="1255" y="219"/>
                </a:lnTo>
                <a:lnTo>
                  <a:pt x="1261" y="219"/>
                </a:lnTo>
                <a:lnTo>
                  <a:pt x="1268" y="219"/>
                </a:lnTo>
                <a:lnTo>
                  <a:pt x="1275" y="212"/>
                </a:lnTo>
                <a:lnTo>
                  <a:pt x="1282" y="212"/>
                </a:lnTo>
                <a:lnTo>
                  <a:pt x="1282" y="206"/>
                </a:lnTo>
                <a:lnTo>
                  <a:pt x="1282" y="199"/>
                </a:lnTo>
                <a:lnTo>
                  <a:pt x="1289" y="192"/>
                </a:lnTo>
                <a:lnTo>
                  <a:pt x="1289" y="185"/>
                </a:lnTo>
                <a:lnTo>
                  <a:pt x="1296" y="185"/>
                </a:lnTo>
                <a:lnTo>
                  <a:pt x="1303" y="178"/>
                </a:lnTo>
                <a:lnTo>
                  <a:pt x="1316" y="178"/>
                </a:lnTo>
                <a:lnTo>
                  <a:pt x="1323" y="178"/>
                </a:lnTo>
                <a:lnTo>
                  <a:pt x="1330" y="178"/>
                </a:lnTo>
                <a:lnTo>
                  <a:pt x="1330" y="171"/>
                </a:lnTo>
                <a:lnTo>
                  <a:pt x="1330" y="165"/>
                </a:lnTo>
                <a:lnTo>
                  <a:pt x="1323" y="158"/>
                </a:lnTo>
                <a:lnTo>
                  <a:pt x="1316" y="151"/>
                </a:lnTo>
                <a:lnTo>
                  <a:pt x="1309" y="151"/>
                </a:lnTo>
                <a:lnTo>
                  <a:pt x="1303" y="151"/>
                </a:lnTo>
                <a:lnTo>
                  <a:pt x="1289" y="151"/>
                </a:lnTo>
                <a:lnTo>
                  <a:pt x="1282" y="158"/>
                </a:lnTo>
                <a:lnTo>
                  <a:pt x="1275" y="158"/>
                </a:lnTo>
                <a:lnTo>
                  <a:pt x="1268" y="165"/>
                </a:lnTo>
                <a:lnTo>
                  <a:pt x="1261" y="165"/>
                </a:lnTo>
                <a:lnTo>
                  <a:pt x="1255" y="171"/>
                </a:lnTo>
                <a:lnTo>
                  <a:pt x="1248" y="171"/>
                </a:lnTo>
                <a:lnTo>
                  <a:pt x="1234" y="171"/>
                </a:lnTo>
                <a:lnTo>
                  <a:pt x="1227" y="165"/>
                </a:lnTo>
                <a:lnTo>
                  <a:pt x="1220" y="171"/>
                </a:lnTo>
                <a:lnTo>
                  <a:pt x="1213" y="171"/>
                </a:lnTo>
                <a:lnTo>
                  <a:pt x="1207" y="178"/>
                </a:lnTo>
                <a:lnTo>
                  <a:pt x="1207" y="185"/>
                </a:lnTo>
                <a:lnTo>
                  <a:pt x="1193" y="185"/>
                </a:lnTo>
                <a:lnTo>
                  <a:pt x="1186" y="192"/>
                </a:lnTo>
                <a:lnTo>
                  <a:pt x="1179" y="192"/>
                </a:lnTo>
                <a:lnTo>
                  <a:pt x="1172" y="192"/>
                </a:lnTo>
                <a:lnTo>
                  <a:pt x="1165" y="199"/>
                </a:lnTo>
                <a:lnTo>
                  <a:pt x="1152" y="199"/>
                </a:lnTo>
                <a:lnTo>
                  <a:pt x="1145" y="199"/>
                </a:lnTo>
                <a:lnTo>
                  <a:pt x="1138" y="199"/>
                </a:lnTo>
                <a:lnTo>
                  <a:pt x="1131" y="199"/>
                </a:lnTo>
                <a:lnTo>
                  <a:pt x="1131" y="206"/>
                </a:lnTo>
                <a:lnTo>
                  <a:pt x="1131" y="212"/>
                </a:lnTo>
                <a:lnTo>
                  <a:pt x="1131" y="219"/>
                </a:lnTo>
                <a:lnTo>
                  <a:pt x="1131" y="219"/>
                </a:lnTo>
                <a:lnTo>
                  <a:pt x="1138" y="226"/>
                </a:lnTo>
                <a:lnTo>
                  <a:pt x="1138" y="233"/>
                </a:lnTo>
                <a:lnTo>
                  <a:pt x="1138" y="240"/>
                </a:lnTo>
                <a:lnTo>
                  <a:pt x="1131" y="240"/>
                </a:lnTo>
                <a:lnTo>
                  <a:pt x="1124" y="247"/>
                </a:lnTo>
                <a:lnTo>
                  <a:pt x="1117" y="247"/>
                </a:lnTo>
                <a:lnTo>
                  <a:pt x="1111" y="253"/>
                </a:lnTo>
                <a:lnTo>
                  <a:pt x="1104" y="253"/>
                </a:lnTo>
                <a:lnTo>
                  <a:pt x="1097" y="260"/>
                </a:lnTo>
                <a:lnTo>
                  <a:pt x="1090" y="260"/>
                </a:lnTo>
                <a:lnTo>
                  <a:pt x="1083" y="267"/>
                </a:lnTo>
                <a:lnTo>
                  <a:pt x="1076" y="267"/>
                </a:lnTo>
                <a:lnTo>
                  <a:pt x="1070" y="274"/>
                </a:lnTo>
                <a:lnTo>
                  <a:pt x="1063" y="274"/>
                </a:lnTo>
                <a:lnTo>
                  <a:pt x="1056" y="281"/>
                </a:lnTo>
                <a:lnTo>
                  <a:pt x="1049" y="288"/>
                </a:lnTo>
                <a:lnTo>
                  <a:pt x="1042" y="288"/>
                </a:lnTo>
                <a:lnTo>
                  <a:pt x="1035" y="295"/>
                </a:lnTo>
                <a:lnTo>
                  <a:pt x="1028" y="295"/>
                </a:lnTo>
                <a:lnTo>
                  <a:pt x="1022" y="301"/>
                </a:lnTo>
                <a:lnTo>
                  <a:pt x="1015" y="308"/>
                </a:lnTo>
                <a:lnTo>
                  <a:pt x="1015" y="315"/>
                </a:lnTo>
                <a:lnTo>
                  <a:pt x="1015" y="322"/>
                </a:lnTo>
                <a:lnTo>
                  <a:pt x="1022" y="322"/>
                </a:lnTo>
                <a:lnTo>
                  <a:pt x="1028" y="329"/>
                </a:lnTo>
                <a:lnTo>
                  <a:pt x="1042" y="329"/>
                </a:lnTo>
                <a:lnTo>
                  <a:pt x="1049" y="329"/>
                </a:lnTo>
                <a:lnTo>
                  <a:pt x="1056" y="322"/>
                </a:lnTo>
                <a:close/>
                <a:moveTo>
                  <a:pt x="2379" y="178"/>
                </a:moveTo>
                <a:lnTo>
                  <a:pt x="2372" y="171"/>
                </a:lnTo>
                <a:lnTo>
                  <a:pt x="2372" y="171"/>
                </a:lnTo>
                <a:lnTo>
                  <a:pt x="2365" y="171"/>
                </a:lnTo>
                <a:lnTo>
                  <a:pt x="2358" y="171"/>
                </a:lnTo>
                <a:lnTo>
                  <a:pt x="2352" y="165"/>
                </a:lnTo>
                <a:lnTo>
                  <a:pt x="2345" y="165"/>
                </a:lnTo>
                <a:lnTo>
                  <a:pt x="2338" y="165"/>
                </a:lnTo>
                <a:lnTo>
                  <a:pt x="2331" y="165"/>
                </a:lnTo>
                <a:lnTo>
                  <a:pt x="2324" y="165"/>
                </a:lnTo>
                <a:lnTo>
                  <a:pt x="2324" y="165"/>
                </a:lnTo>
                <a:lnTo>
                  <a:pt x="2317" y="165"/>
                </a:lnTo>
                <a:lnTo>
                  <a:pt x="2317" y="165"/>
                </a:lnTo>
                <a:lnTo>
                  <a:pt x="2310" y="171"/>
                </a:lnTo>
                <a:lnTo>
                  <a:pt x="2310" y="178"/>
                </a:lnTo>
                <a:lnTo>
                  <a:pt x="2317" y="178"/>
                </a:lnTo>
                <a:lnTo>
                  <a:pt x="2317" y="178"/>
                </a:lnTo>
                <a:lnTo>
                  <a:pt x="2324" y="185"/>
                </a:lnTo>
                <a:lnTo>
                  <a:pt x="2331" y="185"/>
                </a:lnTo>
                <a:lnTo>
                  <a:pt x="2338" y="185"/>
                </a:lnTo>
                <a:lnTo>
                  <a:pt x="2345" y="185"/>
                </a:lnTo>
                <a:lnTo>
                  <a:pt x="2352" y="178"/>
                </a:lnTo>
                <a:lnTo>
                  <a:pt x="2358" y="178"/>
                </a:lnTo>
                <a:lnTo>
                  <a:pt x="2358" y="178"/>
                </a:lnTo>
                <a:lnTo>
                  <a:pt x="2365" y="178"/>
                </a:lnTo>
                <a:lnTo>
                  <a:pt x="2372" y="178"/>
                </a:lnTo>
                <a:lnTo>
                  <a:pt x="2379" y="178"/>
                </a:lnTo>
                <a:close/>
                <a:moveTo>
                  <a:pt x="1392" y="144"/>
                </a:moveTo>
                <a:lnTo>
                  <a:pt x="1392" y="137"/>
                </a:lnTo>
                <a:lnTo>
                  <a:pt x="1392" y="137"/>
                </a:lnTo>
                <a:lnTo>
                  <a:pt x="1385" y="130"/>
                </a:lnTo>
                <a:lnTo>
                  <a:pt x="1378" y="130"/>
                </a:lnTo>
                <a:lnTo>
                  <a:pt x="1364" y="137"/>
                </a:lnTo>
                <a:lnTo>
                  <a:pt x="1357" y="137"/>
                </a:lnTo>
                <a:lnTo>
                  <a:pt x="1351" y="137"/>
                </a:lnTo>
                <a:lnTo>
                  <a:pt x="1337" y="137"/>
                </a:lnTo>
                <a:lnTo>
                  <a:pt x="1330" y="137"/>
                </a:lnTo>
                <a:lnTo>
                  <a:pt x="1323" y="137"/>
                </a:lnTo>
                <a:lnTo>
                  <a:pt x="1309" y="144"/>
                </a:lnTo>
                <a:lnTo>
                  <a:pt x="1303" y="144"/>
                </a:lnTo>
                <a:lnTo>
                  <a:pt x="1303" y="151"/>
                </a:lnTo>
                <a:lnTo>
                  <a:pt x="1309" y="158"/>
                </a:lnTo>
                <a:lnTo>
                  <a:pt x="1316" y="165"/>
                </a:lnTo>
                <a:lnTo>
                  <a:pt x="1323" y="165"/>
                </a:lnTo>
                <a:lnTo>
                  <a:pt x="1330" y="171"/>
                </a:lnTo>
                <a:lnTo>
                  <a:pt x="1344" y="171"/>
                </a:lnTo>
                <a:lnTo>
                  <a:pt x="1351" y="171"/>
                </a:lnTo>
                <a:lnTo>
                  <a:pt x="1357" y="171"/>
                </a:lnTo>
                <a:lnTo>
                  <a:pt x="1364" y="171"/>
                </a:lnTo>
                <a:lnTo>
                  <a:pt x="1371" y="165"/>
                </a:lnTo>
                <a:lnTo>
                  <a:pt x="1378" y="158"/>
                </a:lnTo>
                <a:lnTo>
                  <a:pt x="1378" y="151"/>
                </a:lnTo>
                <a:lnTo>
                  <a:pt x="1385" y="151"/>
                </a:lnTo>
                <a:lnTo>
                  <a:pt x="1392" y="144"/>
                </a:lnTo>
                <a:close/>
                <a:moveTo>
                  <a:pt x="2242" y="144"/>
                </a:moveTo>
                <a:lnTo>
                  <a:pt x="2242" y="144"/>
                </a:lnTo>
                <a:lnTo>
                  <a:pt x="2242" y="144"/>
                </a:lnTo>
                <a:lnTo>
                  <a:pt x="2235" y="144"/>
                </a:lnTo>
                <a:lnTo>
                  <a:pt x="2235" y="144"/>
                </a:lnTo>
                <a:lnTo>
                  <a:pt x="2228" y="144"/>
                </a:lnTo>
                <a:lnTo>
                  <a:pt x="2228" y="144"/>
                </a:lnTo>
                <a:lnTo>
                  <a:pt x="2228" y="144"/>
                </a:lnTo>
                <a:lnTo>
                  <a:pt x="2228" y="144"/>
                </a:lnTo>
                <a:lnTo>
                  <a:pt x="2228" y="144"/>
                </a:lnTo>
                <a:lnTo>
                  <a:pt x="2235" y="144"/>
                </a:lnTo>
                <a:lnTo>
                  <a:pt x="2235" y="144"/>
                </a:lnTo>
                <a:lnTo>
                  <a:pt x="2242" y="144"/>
                </a:lnTo>
                <a:lnTo>
                  <a:pt x="2242" y="144"/>
                </a:lnTo>
                <a:lnTo>
                  <a:pt x="2242" y="144"/>
                </a:lnTo>
                <a:close/>
                <a:moveTo>
                  <a:pt x="1460" y="117"/>
                </a:moveTo>
                <a:lnTo>
                  <a:pt x="1460" y="117"/>
                </a:lnTo>
                <a:lnTo>
                  <a:pt x="1453" y="117"/>
                </a:lnTo>
                <a:lnTo>
                  <a:pt x="1447" y="110"/>
                </a:lnTo>
                <a:lnTo>
                  <a:pt x="1440" y="110"/>
                </a:lnTo>
                <a:lnTo>
                  <a:pt x="1433" y="110"/>
                </a:lnTo>
                <a:lnTo>
                  <a:pt x="1426" y="103"/>
                </a:lnTo>
                <a:lnTo>
                  <a:pt x="1419" y="103"/>
                </a:lnTo>
                <a:lnTo>
                  <a:pt x="1412" y="110"/>
                </a:lnTo>
                <a:lnTo>
                  <a:pt x="1405" y="110"/>
                </a:lnTo>
                <a:lnTo>
                  <a:pt x="1405" y="117"/>
                </a:lnTo>
                <a:lnTo>
                  <a:pt x="1405" y="117"/>
                </a:lnTo>
                <a:lnTo>
                  <a:pt x="1412" y="123"/>
                </a:lnTo>
                <a:lnTo>
                  <a:pt x="1419" y="123"/>
                </a:lnTo>
                <a:lnTo>
                  <a:pt x="1426" y="123"/>
                </a:lnTo>
                <a:lnTo>
                  <a:pt x="1433" y="123"/>
                </a:lnTo>
                <a:lnTo>
                  <a:pt x="1440" y="123"/>
                </a:lnTo>
                <a:lnTo>
                  <a:pt x="1447" y="123"/>
                </a:lnTo>
                <a:lnTo>
                  <a:pt x="1453" y="123"/>
                </a:lnTo>
                <a:lnTo>
                  <a:pt x="1460" y="123"/>
                </a:lnTo>
                <a:lnTo>
                  <a:pt x="1460" y="117"/>
                </a:lnTo>
                <a:close/>
              </a:path>
            </a:pathLst>
          </a:custGeom>
          <a:solidFill>
            <a:srgbClr val="9fde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9" name=""/>
          <p:cNvSpPr/>
          <p:nvPr/>
        </p:nvSpPr>
        <p:spPr>
          <a:xfrm>
            <a:off x="2484360" y="2624040"/>
            <a:ext cx="4462560" cy="2857680"/>
          </a:xfrm>
          <a:custGeom>
            <a:avLst/>
            <a:gdLst/>
            <a:ahLst/>
            <a:rect l="l" t="t" r="r" b="b"/>
            <a:pathLst>
              <a:path w="2811" h="1800">
                <a:moveTo>
                  <a:pt x="2434" y="1800"/>
                </a:moveTo>
                <a:lnTo>
                  <a:pt x="2461" y="1773"/>
                </a:lnTo>
                <a:lnTo>
                  <a:pt x="2489" y="1773"/>
                </a:lnTo>
                <a:lnTo>
                  <a:pt x="2516" y="1773"/>
                </a:lnTo>
                <a:lnTo>
                  <a:pt x="2550" y="1773"/>
                </a:lnTo>
                <a:lnTo>
                  <a:pt x="2578" y="1773"/>
                </a:lnTo>
                <a:lnTo>
                  <a:pt x="2605" y="1773"/>
                </a:lnTo>
                <a:lnTo>
                  <a:pt x="2633" y="1773"/>
                </a:lnTo>
                <a:lnTo>
                  <a:pt x="2660" y="1745"/>
                </a:lnTo>
                <a:lnTo>
                  <a:pt x="2660" y="1718"/>
                </a:lnTo>
                <a:lnTo>
                  <a:pt x="2660" y="1684"/>
                </a:lnTo>
                <a:lnTo>
                  <a:pt x="2660" y="1656"/>
                </a:lnTo>
                <a:lnTo>
                  <a:pt x="2694" y="1629"/>
                </a:lnTo>
                <a:lnTo>
                  <a:pt x="2694" y="1601"/>
                </a:lnTo>
                <a:lnTo>
                  <a:pt x="2694" y="1567"/>
                </a:lnTo>
                <a:lnTo>
                  <a:pt x="2694" y="1540"/>
                </a:lnTo>
                <a:lnTo>
                  <a:pt x="2722" y="1513"/>
                </a:lnTo>
                <a:lnTo>
                  <a:pt x="2722" y="1485"/>
                </a:lnTo>
                <a:lnTo>
                  <a:pt x="2722" y="1451"/>
                </a:lnTo>
                <a:lnTo>
                  <a:pt x="2722" y="1424"/>
                </a:lnTo>
                <a:lnTo>
                  <a:pt x="2749" y="1396"/>
                </a:lnTo>
                <a:lnTo>
                  <a:pt x="2749" y="1369"/>
                </a:lnTo>
                <a:lnTo>
                  <a:pt x="2749" y="1335"/>
                </a:lnTo>
                <a:lnTo>
                  <a:pt x="2749" y="1307"/>
                </a:lnTo>
                <a:lnTo>
                  <a:pt x="2777" y="1280"/>
                </a:lnTo>
                <a:lnTo>
                  <a:pt x="2777" y="1252"/>
                </a:lnTo>
                <a:lnTo>
                  <a:pt x="2777" y="1218"/>
                </a:lnTo>
                <a:lnTo>
                  <a:pt x="2777" y="1191"/>
                </a:lnTo>
                <a:lnTo>
                  <a:pt x="2811" y="1164"/>
                </a:lnTo>
                <a:lnTo>
                  <a:pt x="2811" y="1136"/>
                </a:lnTo>
                <a:lnTo>
                  <a:pt x="2811" y="1102"/>
                </a:lnTo>
                <a:lnTo>
                  <a:pt x="2811" y="1075"/>
                </a:lnTo>
                <a:lnTo>
                  <a:pt x="2811" y="1047"/>
                </a:lnTo>
                <a:lnTo>
                  <a:pt x="2811" y="1020"/>
                </a:lnTo>
                <a:lnTo>
                  <a:pt x="2811" y="992"/>
                </a:lnTo>
                <a:lnTo>
                  <a:pt x="2811" y="958"/>
                </a:lnTo>
                <a:lnTo>
                  <a:pt x="2811" y="931"/>
                </a:lnTo>
                <a:lnTo>
                  <a:pt x="2811" y="904"/>
                </a:lnTo>
                <a:lnTo>
                  <a:pt x="2811" y="876"/>
                </a:lnTo>
                <a:lnTo>
                  <a:pt x="2811" y="842"/>
                </a:lnTo>
                <a:lnTo>
                  <a:pt x="2811" y="815"/>
                </a:lnTo>
                <a:lnTo>
                  <a:pt x="2811" y="787"/>
                </a:lnTo>
                <a:lnTo>
                  <a:pt x="2811" y="760"/>
                </a:lnTo>
                <a:lnTo>
                  <a:pt x="2811" y="726"/>
                </a:lnTo>
                <a:lnTo>
                  <a:pt x="2811" y="698"/>
                </a:lnTo>
                <a:lnTo>
                  <a:pt x="2811" y="671"/>
                </a:lnTo>
                <a:lnTo>
                  <a:pt x="2811" y="643"/>
                </a:lnTo>
                <a:lnTo>
                  <a:pt x="2811" y="609"/>
                </a:lnTo>
                <a:lnTo>
                  <a:pt x="2811" y="582"/>
                </a:lnTo>
                <a:lnTo>
                  <a:pt x="2811" y="555"/>
                </a:lnTo>
                <a:lnTo>
                  <a:pt x="2811" y="527"/>
                </a:lnTo>
                <a:lnTo>
                  <a:pt x="2811" y="493"/>
                </a:lnTo>
                <a:lnTo>
                  <a:pt x="2811" y="466"/>
                </a:lnTo>
                <a:lnTo>
                  <a:pt x="2811" y="438"/>
                </a:lnTo>
                <a:lnTo>
                  <a:pt x="2811" y="411"/>
                </a:lnTo>
                <a:lnTo>
                  <a:pt x="2811" y="377"/>
                </a:lnTo>
                <a:lnTo>
                  <a:pt x="2811" y="349"/>
                </a:lnTo>
                <a:lnTo>
                  <a:pt x="2811" y="322"/>
                </a:lnTo>
                <a:lnTo>
                  <a:pt x="2811" y="295"/>
                </a:lnTo>
                <a:lnTo>
                  <a:pt x="2811" y="260"/>
                </a:lnTo>
                <a:lnTo>
                  <a:pt x="2777" y="233"/>
                </a:lnTo>
                <a:lnTo>
                  <a:pt x="2777" y="206"/>
                </a:lnTo>
                <a:lnTo>
                  <a:pt x="2777" y="178"/>
                </a:lnTo>
                <a:lnTo>
                  <a:pt x="2777" y="144"/>
                </a:lnTo>
                <a:lnTo>
                  <a:pt x="2777" y="117"/>
                </a:lnTo>
                <a:lnTo>
                  <a:pt x="2749" y="89"/>
                </a:lnTo>
                <a:lnTo>
                  <a:pt x="2722" y="89"/>
                </a:lnTo>
                <a:lnTo>
                  <a:pt x="2694" y="89"/>
                </a:lnTo>
                <a:lnTo>
                  <a:pt x="2660" y="62"/>
                </a:lnTo>
                <a:lnTo>
                  <a:pt x="2633" y="62"/>
                </a:lnTo>
                <a:lnTo>
                  <a:pt x="2605" y="62"/>
                </a:lnTo>
                <a:lnTo>
                  <a:pt x="2578" y="28"/>
                </a:lnTo>
                <a:lnTo>
                  <a:pt x="2550" y="28"/>
                </a:lnTo>
                <a:lnTo>
                  <a:pt x="2516" y="28"/>
                </a:lnTo>
                <a:lnTo>
                  <a:pt x="2489" y="0"/>
                </a:lnTo>
                <a:lnTo>
                  <a:pt x="2461" y="0"/>
                </a:lnTo>
                <a:lnTo>
                  <a:pt x="2434" y="0"/>
                </a:lnTo>
                <a:lnTo>
                  <a:pt x="2400" y="0"/>
                </a:lnTo>
                <a:lnTo>
                  <a:pt x="2372" y="0"/>
                </a:lnTo>
                <a:lnTo>
                  <a:pt x="2345" y="0"/>
                </a:lnTo>
                <a:lnTo>
                  <a:pt x="2317" y="0"/>
                </a:lnTo>
                <a:lnTo>
                  <a:pt x="2290" y="0"/>
                </a:lnTo>
                <a:lnTo>
                  <a:pt x="2256" y="0"/>
                </a:lnTo>
                <a:lnTo>
                  <a:pt x="2228" y="0"/>
                </a:lnTo>
                <a:lnTo>
                  <a:pt x="2201" y="0"/>
                </a:lnTo>
                <a:lnTo>
                  <a:pt x="2173" y="0"/>
                </a:lnTo>
                <a:lnTo>
                  <a:pt x="2146" y="0"/>
                </a:lnTo>
                <a:lnTo>
                  <a:pt x="2112" y="0"/>
                </a:lnTo>
                <a:lnTo>
                  <a:pt x="2084" y="0"/>
                </a:lnTo>
                <a:lnTo>
                  <a:pt x="2057" y="0"/>
                </a:lnTo>
                <a:lnTo>
                  <a:pt x="2029" y="0"/>
                </a:lnTo>
                <a:lnTo>
                  <a:pt x="1995" y="0"/>
                </a:lnTo>
                <a:lnTo>
                  <a:pt x="1968" y="0"/>
                </a:lnTo>
                <a:lnTo>
                  <a:pt x="1940" y="0"/>
                </a:lnTo>
                <a:lnTo>
                  <a:pt x="1913" y="0"/>
                </a:lnTo>
                <a:lnTo>
                  <a:pt x="1899" y="0"/>
                </a:lnTo>
                <a:lnTo>
                  <a:pt x="1906" y="7"/>
                </a:lnTo>
                <a:lnTo>
                  <a:pt x="1913" y="7"/>
                </a:lnTo>
                <a:lnTo>
                  <a:pt x="1926" y="7"/>
                </a:lnTo>
                <a:lnTo>
                  <a:pt x="1933" y="7"/>
                </a:lnTo>
                <a:lnTo>
                  <a:pt x="1947" y="7"/>
                </a:lnTo>
                <a:lnTo>
                  <a:pt x="1954" y="7"/>
                </a:lnTo>
                <a:lnTo>
                  <a:pt x="1961" y="14"/>
                </a:lnTo>
                <a:lnTo>
                  <a:pt x="1968" y="14"/>
                </a:lnTo>
                <a:lnTo>
                  <a:pt x="1974" y="21"/>
                </a:lnTo>
                <a:lnTo>
                  <a:pt x="1988" y="21"/>
                </a:lnTo>
                <a:lnTo>
                  <a:pt x="1995" y="28"/>
                </a:lnTo>
                <a:lnTo>
                  <a:pt x="2002" y="28"/>
                </a:lnTo>
                <a:lnTo>
                  <a:pt x="2009" y="34"/>
                </a:lnTo>
                <a:lnTo>
                  <a:pt x="2016" y="34"/>
                </a:lnTo>
                <a:lnTo>
                  <a:pt x="2029" y="34"/>
                </a:lnTo>
                <a:lnTo>
                  <a:pt x="2036" y="41"/>
                </a:lnTo>
                <a:lnTo>
                  <a:pt x="2043" y="41"/>
                </a:lnTo>
                <a:lnTo>
                  <a:pt x="2057" y="41"/>
                </a:lnTo>
                <a:lnTo>
                  <a:pt x="2064" y="48"/>
                </a:lnTo>
                <a:lnTo>
                  <a:pt x="2070" y="48"/>
                </a:lnTo>
                <a:lnTo>
                  <a:pt x="2077" y="48"/>
                </a:lnTo>
                <a:lnTo>
                  <a:pt x="2091" y="55"/>
                </a:lnTo>
                <a:lnTo>
                  <a:pt x="2098" y="55"/>
                </a:lnTo>
                <a:lnTo>
                  <a:pt x="2105" y="55"/>
                </a:lnTo>
                <a:lnTo>
                  <a:pt x="2118" y="62"/>
                </a:lnTo>
                <a:lnTo>
                  <a:pt x="2125" y="62"/>
                </a:lnTo>
                <a:lnTo>
                  <a:pt x="2132" y="69"/>
                </a:lnTo>
                <a:lnTo>
                  <a:pt x="2139" y="69"/>
                </a:lnTo>
                <a:lnTo>
                  <a:pt x="2153" y="69"/>
                </a:lnTo>
                <a:lnTo>
                  <a:pt x="2160" y="69"/>
                </a:lnTo>
                <a:lnTo>
                  <a:pt x="2166" y="76"/>
                </a:lnTo>
                <a:lnTo>
                  <a:pt x="2173" y="76"/>
                </a:lnTo>
                <a:lnTo>
                  <a:pt x="2187" y="76"/>
                </a:lnTo>
                <a:lnTo>
                  <a:pt x="2194" y="82"/>
                </a:lnTo>
                <a:lnTo>
                  <a:pt x="2201" y="82"/>
                </a:lnTo>
                <a:lnTo>
                  <a:pt x="2214" y="89"/>
                </a:lnTo>
                <a:lnTo>
                  <a:pt x="2221" y="89"/>
                </a:lnTo>
                <a:lnTo>
                  <a:pt x="2228" y="89"/>
                </a:lnTo>
                <a:lnTo>
                  <a:pt x="2235" y="96"/>
                </a:lnTo>
                <a:lnTo>
                  <a:pt x="2242" y="96"/>
                </a:lnTo>
                <a:lnTo>
                  <a:pt x="2256" y="96"/>
                </a:lnTo>
                <a:lnTo>
                  <a:pt x="2262" y="103"/>
                </a:lnTo>
                <a:lnTo>
                  <a:pt x="2269" y="103"/>
                </a:lnTo>
                <a:lnTo>
                  <a:pt x="2283" y="103"/>
                </a:lnTo>
                <a:lnTo>
                  <a:pt x="2290" y="110"/>
                </a:lnTo>
                <a:lnTo>
                  <a:pt x="2297" y="110"/>
                </a:lnTo>
                <a:lnTo>
                  <a:pt x="2304" y="110"/>
                </a:lnTo>
                <a:lnTo>
                  <a:pt x="2317" y="117"/>
                </a:lnTo>
                <a:lnTo>
                  <a:pt x="2324" y="117"/>
                </a:lnTo>
                <a:lnTo>
                  <a:pt x="2331" y="117"/>
                </a:lnTo>
                <a:lnTo>
                  <a:pt x="2338" y="123"/>
                </a:lnTo>
                <a:lnTo>
                  <a:pt x="2352" y="123"/>
                </a:lnTo>
                <a:lnTo>
                  <a:pt x="2358" y="130"/>
                </a:lnTo>
                <a:lnTo>
                  <a:pt x="2365" y="130"/>
                </a:lnTo>
                <a:lnTo>
                  <a:pt x="2379" y="130"/>
                </a:lnTo>
                <a:lnTo>
                  <a:pt x="2386" y="137"/>
                </a:lnTo>
                <a:lnTo>
                  <a:pt x="2393" y="137"/>
                </a:lnTo>
                <a:lnTo>
                  <a:pt x="2400" y="144"/>
                </a:lnTo>
                <a:lnTo>
                  <a:pt x="2406" y="144"/>
                </a:lnTo>
                <a:lnTo>
                  <a:pt x="2413" y="151"/>
                </a:lnTo>
                <a:lnTo>
                  <a:pt x="2420" y="158"/>
                </a:lnTo>
                <a:lnTo>
                  <a:pt x="2420" y="165"/>
                </a:lnTo>
                <a:lnTo>
                  <a:pt x="2427" y="165"/>
                </a:lnTo>
                <a:lnTo>
                  <a:pt x="2434" y="171"/>
                </a:lnTo>
                <a:lnTo>
                  <a:pt x="2448" y="171"/>
                </a:lnTo>
                <a:lnTo>
                  <a:pt x="2454" y="178"/>
                </a:lnTo>
                <a:lnTo>
                  <a:pt x="2454" y="178"/>
                </a:lnTo>
                <a:lnTo>
                  <a:pt x="2461" y="185"/>
                </a:lnTo>
                <a:lnTo>
                  <a:pt x="2468" y="192"/>
                </a:lnTo>
                <a:lnTo>
                  <a:pt x="2475" y="199"/>
                </a:lnTo>
                <a:lnTo>
                  <a:pt x="2482" y="199"/>
                </a:lnTo>
                <a:lnTo>
                  <a:pt x="2489" y="199"/>
                </a:lnTo>
                <a:lnTo>
                  <a:pt x="2496" y="206"/>
                </a:lnTo>
                <a:lnTo>
                  <a:pt x="2502" y="212"/>
                </a:lnTo>
                <a:lnTo>
                  <a:pt x="2509" y="219"/>
                </a:lnTo>
                <a:lnTo>
                  <a:pt x="2509" y="219"/>
                </a:lnTo>
                <a:lnTo>
                  <a:pt x="2516" y="226"/>
                </a:lnTo>
                <a:lnTo>
                  <a:pt x="2523" y="233"/>
                </a:lnTo>
                <a:lnTo>
                  <a:pt x="2530" y="233"/>
                </a:lnTo>
                <a:lnTo>
                  <a:pt x="2537" y="233"/>
                </a:lnTo>
                <a:lnTo>
                  <a:pt x="2544" y="240"/>
                </a:lnTo>
                <a:lnTo>
                  <a:pt x="2550" y="247"/>
                </a:lnTo>
                <a:lnTo>
                  <a:pt x="2557" y="247"/>
                </a:lnTo>
                <a:lnTo>
                  <a:pt x="2564" y="253"/>
                </a:lnTo>
                <a:lnTo>
                  <a:pt x="2564" y="260"/>
                </a:lnTo>
                <a:lnTo>
                  <a:pt x="2571" y="267"/>
                </a:lnTo>
                <a:lnTo>
                  <a:pt x="2578" y="267"/>
                </a:lnTo>
                <a:lnTo>
                  <a:pt x="2585" y="274"/>
                </a:lnTo>
                <a:lnTo>
                  <a:pt x="2592" y="274"/>
                </a:lnTo>
                <a:lnTo>
                  <a:pt x="2598" y="281"/>
                </a:lnTo>
                <a:lnTo>
                  <a:pt x="2605" y="288"/>
                </a:lnTo>
                <a:lnTo>
                  <a:pt x="2612" y="288"/>
                </a:lnTo>
                <a:lnTo>
                  <a:pt x="2605" y="295"/>
                </a:lnTo>
                <a:lnTo>
                  <a:pt x="2598" y="295"/>
                </a:lnTo>
                <a:lnTo>
                  <a:pt x="2585" y="295"/>
                </a:lnTo>
                <a:lnTo>
                  <a:pt x="2578" y="295"/>
                </a:lnTo>
                <a:lnTo>
                  <a:pt x="2571" y="301"/>
                </a:lnTo>
                <a:lnTo>
                  <a:pt x="2564" y="301"/>
                </a:lnTo>
                <a:lnTo>
                  <a:pt x="2550" y="301"/>
                </a:lnTo>
                <a:lnTo>
                  <a:pt x="2544" y="295"/>
                </a:lnTo>
                <a:lnTo>
                  <a:pt x="2530" y="295"/>
                </a:lnTo>
                <a:lnTo>
                  <a:pt x="2523" y="295"/>
                </a:lnTo>
                <a:lnTo>
                  <a:pt x="2516" y="295"/>
                </a:lnTo>
                <a:lnTo>
                  <a:pt x="2502" y="295"/>
                </a:lnTo>
                <a:lnTo>
                  <a:pt x="2496" y="295"/>
                </a:lnTo>
                <a:lnTo>
                  <a:pt x="2489" y="295"/>
                </a:lnTo>
                <a:lnTo>
                  <a:pt x="2475" y="288"/>
                </a:lnTo>
                <a:lnTo>
                  <a:pt x="2468" y="288"/>
                </a:lnTo>
                <a:lnTo>
                  <a:pt x="2461" y="288"/>
                </a:lnTo>
                <a:lnTo>
                  <a:pt x="2454" y="281"/>
                </a:lnTo>
                <a:lnTo>
                  <a:pt x="2441" y="281"/>
                </a:lnTo>
                <a:lnTo>
                  <a:pt x="2434" y="274"/>
                </a:lnTo>
                <a:lnTo>
                  <a:pt x="2427" y="274"/>
                </a:lnTo>
                <a:lnTo>
                  <a:pt x="2420" y="274"/>
                </a:lnTo>
                <a:lnTo>
                  <a:pt x="2406" y="274"/>
                </a:lnTo>
                <a:lnTo>
                  <a:pt x="2400" y="274"/>
                </a:lnTo>
                <a:lnTo>
                  <a:pt x="2393" y="281"/>
                </a:lnTo>
                <a:lnTo>
                  <a:pt x="2379" y="281"/>
                </a:lnTo>
                <a:lnTo>
                  <a:pt x="2372" y="288"/>
                </a:lnTo>
                <a:lnTo>
                  <a:pt x="2372" y="295"/>
                </a:lnTo>
                <a:lnTo>
                  <a:pt x="2372" y="301"/>
                </a:lnTo>
                <a:lnTo>
                  <a:pt x="2372" y="308"/>
                </a:lnTo>
                <a:lnTo>
                  <a:pt x="2379" y="308"/>
                </a:lnTo>
                <a:lnTo>
                  <a:pt x="2386" y="315"/>
                </a:lnTo>
                <a:lnTo>
                  <a:pt x="2393" y="315"/>
                </a:lnTo>
                <a:lnTo>
                  <a:pt x="2400" y="322"/>
                </a:lnTo>
                <a:lnTo>
                  <a:pt x="2406" y="329"/>
                </a:lnTo>
                <a:lnTo>
                  <a:pt x="2400" y="336"/>
                </a:lnTo>
                <a:lnTo>
                  <a:pt x="2400" y="336"/>
                </a:lnTo>
                <a:lnTo>
                  <a:pt x="2400" y="342"/>
                </a:lnTo>
                <a:lnTo>
                  <a:pt x="2400" y="349"/>
                </a:lnTo>
                <a:lnTo>
                  <a:pt x="2393" y="356"/>
                </a:lnTo>
                <a:lnTo>
                  <a:pt x="2386" y="363"/>
                </a:lnTo>
                <a:lnTo>
                  <a:pt x="2379" y="363"/>
                </a:lnTo>
                <a:lnTo>
                  <a:pt x="2372" y="370"/>
                </a:lnTo>
                <a:lnTo>
                  <a:pt x="2365" y="377"/>
                </a:lnTo>
                <a:lnTo>
                  <a:pt x="2358" y="377"/>
                </a:lnTo>
                <a:lnTo>
                  <a:pt x="2352" y="383"/>
                </a:lnTo>
                <a:lnTo>
                  <a:pt x="2345" y="383"/>
                </a:lnTo>
                <a:lnTo>
                  <a:pt x="2338" y="390"/>
                </a:lnTo>
                <a:lnTo>
                  <a:pt x="2331" y="397"/>
                </a:lnTo>
                <a:lnTo>
                  <a:pt x="2324" y="397"/>
                </a:lnTo>
                <a:lnTo>
                  <a:pt x="2317" y="404"/>
                </a:lnTo>
                <a:lnTo>
                  <a:pt x="2310" y="404"/>
                </a:lnTo>
                <a:lnTo>
                  <a:pt x="2304" y="411"/>
                </a:lnTo>
                <a:lnTo>
                  <a:pt x="2297" y="418"/>
                </a:lnTo>
                <a:lnTo>
                  <a:pt x="2290" y="418"/>
                </a:lnTo>
                <a:lnTo>
                  <a:pt x="2283" y="425"/>
                </a:lnTo>
                <a:lnTo>
                  <a:pt x="2269" y="425"/>
                </a:lnTo>
                <a:lnTo>
                  <a:pt x="2262" y="425"/>
                </a:lnTo>
                <a:lnTo>
                  <a:pt x="2256" y="425"/>
                </a:lnTo>
                <a:lnTo>
                  <a:pt x="2249" y="418"/>
                </a:lnTo>
                <a:lnTo>
                  <a:pt x="2242" y="418"/>
                </a:lnTo>
                <a:lnTo>
                  <a:pt x="2228" y="411"/>
                </a:lnTo>
                <a:lnTo>
                  <a:pt x="2221" y="411"/>
                </a:lnTo>
                <a:lnTo>
                  <a:pt x="2214" y="411"/>
                </a:lnTo>
                <a:lnTo>
                  <a:pt x="2201" y="418"/>
                </a:lnTo>
                <a:lnTo>
                  <a:pt x="2194" y="418"/>
                </a:lnTo>
                <a:lnTo>
                  <a:pt x="2187" y="425"/>
                </a:lnTo>
                <a:lnTo>
                  <a:pt x="2180" y="425"/>
                </a:lnTo>
                <a:lnTo>
                  <a:pt x="2173" y="431"/>
                </a:lnTo>
                <a:lnTo>
                  <a:pt x="2160" y="431"/>
                </a:lnTo>
                <a:lnTo>
                  <a:pt x="2153" y="425"/>
                </a:lnTo>
                <a:lnTo>
                  <a:pt x="2139" y="431"/>
                </a:lnTo>
                <a:lnTo>
                  <a:pt x="2132" y="431"/>
                </a:lnTo>
                <a:lnTo>
                  <a:pt x="2125" y="438"/>
                </a:lnTo>
                <a:lnTo>
                  <a:pt x="2118" y="438"/>
                </a:lnTo>
                <a:lnTo>
                  <a:pt x="2112" y="438"/>
                </a:lnTo>
                <a:lnTo>
                  <a:pt x="2098" y="438"/>
                </a:lnTo>
                <a:lnTo>
                  <a:pt x="2091" y="431"/>
                </a:lnTo>
                <a:lnTo>
                  <a:pt x="2084" y="431"/>
                </a:lnTo>
                <a:lnTo>
                  <a:pt x="2077" y="431"/>
                </a:lnTo>
                <a:lnTo>
                  <a:pt x="2064" y="431"/>
                </a:lnTo>
                <a:lnTo>
                  <a:pt x="2057" y="431"/>
                </a:lnTo>
                <a:lnTo>
                  <a:pt x="2050" y="431"/>
                </a:lnTo>
                <a:lnTo>
                  <a:pt x="2036" y="431"/>
                </a:lnTo>
                <a:lnTo>
                  <a:pt x="2029" y="431"/>
                </a:lnTo>
                <a:lnTo>
                  <a:pt x="2022" y="431"/>
                </a:lnTo>
                <a:lnTo>
                  <a:pt x="2009" y="431"/>
                </a:lnTo>
                <a:lnTo>
                  <a:pt x="2002" y="431"/>
                </a:lnTo>
                <a:lnTo>
                  <a:pt x="1988" y="431"/>
                </a:lnTo>
                <a:lnTo>
                  <a:pt x="1981" y="431"/>
                </a:lnTo>
                <a:lnTo>
                  <a:pt x="1974" y="438"/>
                </a:lnTo>
                <a:lnTo>
                  <a:pt x="1968" y="438"/>
                </a:lnTo>
                <a:lnTo>
                  <a:pt x="1961" y="445"/>
                </a:lnTo>
                <a:lnTo>
                  <a:pt x="1947" y="445"/>
                </a:lnTo>
                <a:lnTo>
                  <a:pt x="1940" y="452"/>
                </a:lnTo>
                <a:lnTo>
                  <a:pt x="1933" y="452"/>
                </a:lnTo>
                <a:lnTo>
                  <a:pt x="1926" y="459"/>
                </a:lnTo>
                <a:lnTo>
                  <a:pt x="1920" y="466"/>
                </a:lnTo>
                <a:lnTo>
                  <a:pt x="1913" y="466"/>
                </a:lnTo>
                <a:lnTo>
                  <a:pt x="1913" y="472"/>
                </a:lnTo>
                <a:lnTo>
                  <a:pt x="1906" y="479"/>
                </a:lnTo>
                <a:lnTo>
                  <a:pt x="1906" y="486"/>
                </a:lnTo>
                <a:lnTo>
                  <a:pt x="1906" y="493"/>
                </a:lnTo>
                <a:lnTo>
                  <a:pt x="1906" y="500"/>
                </a:lnTo>
                <a:lnTo>
                  <a:pt x="1906" y="500"/>
                </a:lnTo>
                <a:lnTo>
                  <a:pt x="1913" y="507"/>
                </a:lnTo>
                <a:lnTo>
                  <a:pt x="1920" y="513"/>
                </a:lnTo>
                <a:lnTo>
                  <a:pt x="1926" y="520"/>
                </a:lnTo>
                <a:lnTo>
                  <a:pt x="1926" y="520"/>
                </a:lnTo>
                <a:lnTo>
                  <a:pt x="1933" y="527"/>
                </a:lnTo>
                <a:lnTo>
                  <a:pt x="1926" y="534"/>
                </a:lnTo>
                <a:lnTo>
                  <a:pt x="1926" y="541"/>
                </a:lnTo>
                <a:lnTo>
                  <a:pt x="1926" y="548"/>
                </a:lnTo>
                <a:lnTo>
                  <a:pt x="1920" y="555"/>
                </a:lnTo>
                <a:lnTo>
                  <a:pt x="1920" y="561"/>
                </a:lnTo>
                <a:lnTo>
                  <a:pt x="1913" y="561"/>
                </a:lnTo>
                <a:lnTo>
                  <a:pt x="1913" y="568"/>
                </a:lnTo>
                <a:lnTo>
                  <a:pt x="1913" y="575"/>
                </a:lnTo>
                <a:lnTo>
                  <a:pt x="1913" y="582"/>
                </a:lnTo>
                <a:lnTo>
                  <a:pt x="1906" y="589"/>
                </a:lnTo>
                <a:lnTo>
                  <a:pt x="1906" y="596"/>
                </a:lnTo>
                <a:lnTo>
                  <a:pt x="1906" y="602"/>
                </a:lnTo>
                <a:lnTo>
                  <a:pt x="1899" y="609"/>
                </a:lnTo>
                <a:lnTo>
                  <a:pt x="1899" y="609"/>
                </a:lnTo>
                <a:lnTo>
                  <a:pt x="1899" y="616"/>
                </a:lnTo>
                <a:lnTo>
                  <a:pt x="1892" y="623"/>
                </a:lnTo>
                <a:lnTo>
                  <a:pt x="1885" y="630"/>
                </a:lnTo>
                <a:lnTo>
                  <a:pt x="1879" y="637"/>
                </a:lnTo>
                <a:lnTo>
                  <a:pt x="1872" y="637"/>
                </a:lnTo>
                <a:lnTo>
                  <a:pt x="1865" y="643"/>
                </a:lnTo>
                <a:lnTo>
                  <a:pt x="1858" y="643"/>
                </a:lnTo>
                <a:lnTo>
                  <a:pt x="1851" y="650"/>
                </a:lnTo>
                <a:lnTo>
                  <a:pt x="1844" y="650"/>
                </a:lnTo>
                <a:lnTo>
                  <a:pt x="1837" y="657"/>
                </a:lnTo>
                <a:lnTo>
                  <a:pt x="1824" y="657"/>
                </a:lnTo>
                <a:lnTo>
                  <a:pt x="1817" y="657"/>
                </a:lnTo>
                <a:lnTo>
                  <a:pt x="1810" y="657"/>
                </a:lnTo>
                <a:lnTo>
                  <a:pt x="1796" y="657"/>
                </a:lnTo>
                <a:lnTo>
                  <a:pt x="1789" y="657"/>
                </a:lnTo>
                <a:lnTo>
                  <a:pt x="1783" y="650"/>
                </a:lnTo>
                <a:lnTo>
                  <a:pt x="1769" y="650"/>
                </a:lnTo>
                <a:lnTo>
                  <a:pt x="1762" y="643"/>
                </a:lnTo>
                <a:lnTo>
                  <a:pt x="1755" y="643"/>
                </a:lnTo>
                <a:lnTo>
                  <a:pt x="1755" y="637"/>
                </a:lnTo>
                <a:lnTo>
                  <a:pt x="1748" y="630"/>
                </a:lnTo>
                <a:lnTo>
                  <a:pt x="1741" y="623"/>
                </a:lnTo>
                <a:lnTo>
                  <a:pt x="1741" y="616"/>
                </a:lnTo>
                <a:lnTo>
                  <a:pt x="1741" y="609"/>
                </a:lnTo>
                <a:lnTo>
                  <a:pt x="1741" y="609"/>
                </a:lnTo>
                <a:lnTo>
                  <a:pt x="1741" y="602"/>
                </a:lnTo>
                <a:lnTo>
                  <a:pt x="1741" y="596"/>
                </a:lnTo>
                <a:lnTo>
                  <a:pt x="1735" y="589"/>
                </a:lnTo>
                <a:lnTo>
                  <a:pt x="1735" y="582"/>
                </a:lnTo>
                <a:lnTo>
                  <a:pt x="1735" y="575"/>
                </a:lnTo>
                <a:lnTo>
                  <a:pt x="1728" y="568"/>
                </a:lnTo>
                <a:lnTo>
                  <a:pt x="1721" y="568"/>
                </a:lnTo>
                <a:lnTo>
                  <a:pt x="1714" y="561"/>
                </a:lnTo>
                <a:lnTo>
                  <a:pt x="1700" y="561"/>
                </a:lnTo>
                <a:lnTo>
                  <a:pt x="1693" y="555"/>
                </a:lnTo>
                <a:lnTo>
                  <a:pt x="1687" y="555"/>
                </a:lnTo>
                <a:lnTo>
                  <a:pt x="1687" y="548"/>
                </a:lnTo>
                <a:lnTo>
                  <a:pt x="1680" y="541"/>
                </a:lnTo>
                <a:lnTo>
                  <a:pt x="1680" y="534"/>
                </a:lnTo>
                <a:lnTo>
                  <a:pt x="1673" y="527"/>
                </a:lnTo>
                <a:lnTo>
                  <a:pt x="1673" y="520"/>
                </a:lnTo>
                <a:lnTo>
                  <a:pt x="1680" y="520"/>
                </a:lnTo>
                <a:lnTo>
                  <a:pt x="1687" y="513"/>
                </a:lnTo>
                <a:lnTo>
                  <a:pt x="1687" y="507"/>
                </a:lnTo>
                <a:lnTo>
                  <a:pt x="1687" y="500"/>
                </a:lnTo>
                <a:lnTo>
                  <a:pt x="1693" y="493"/>
                </a:lnTo>
                <a:lnTo>
                  <a:pt x="1693" y="486"/>
                </a:lnTo>
                <a:lnTo>
                  <a:pt x="1700" y="486"/>
                </a:lnTo>
                <a:lnTo>
                  <a:pt x="1700" y="479"/>
                </a:lnTo>
                <a:lnTo>
                  <a:pt x="1707" y="472"/>
                </a:lnTo>
                <a:lnTo>
                  <a:pt x="1707" y="466"/>
                </a:lnTo>
                <a:lnTo>
                  <a:pt x="1714" y="459"/>
                </a:lnTo>
                <a:lnTo>
                  <a:pt x="1721" y="452"/>
                </a:lnTo>
                <a:lnTo>
                  <a:pt x="1721" y="445"/>
                </a:lnTo>
                <a:lnTo>
                  <a:pt x="1721" y="438"/>
                </a:lnTo>
                <a:lnTo>
                  <a:pt x="1714" y="438"/>
                </a:lnTo>
                <a:lnTo>
                  <a:pt x="1707" y="431"/>
                </a:lnTo>
                <a:lnTo>
                  <a:pt x="1700" y="438"/>
                </a:lnTo>
                <a:lnTo>
                  <a:pt x="1693" y="445"/>
                </a:lnTo>
                <a:lnTo>
                  <a:pt x="1693" y="452"/>
                </a:lnTo>
                <a:lnTo>
                  <a:pt x="1687" y="459"/>
                </a:lnTo>
                <a:lnTo>
                  <a:pt x="1680" y="459"/>
                </a:lnTo>
                <a:lnTo>
                  <a:pt x="1673" y="459"/>
                </a:lnTo>
                <a:lnTo>
                  <a:pt x="1659" y="459"/>
                </a:lnTo>
                <a:lnTo>
                  <a:pt x="1652" y="459"/>
                </a:lnTo>
                <a:lnTo>
                  <a:pt x="1645" y="466"/>
                </a:lnTo>
                <a:lnTo>
                  <a:pt x="1639" y="472"/>
                </a:lnTo>
                <a:lnTo>
                  <a:pt x="1632" y="472"/>
                </a:lnTo>
                <a:lnTo>
                  <a:pt x="1625" y="479"/>
                </a:lnTo>
                <a:lnTo>
                  <a:pt x="1618" y="486"/>
                </a:lnTo>
                <a:lnTo>
                  <a:pt x="1611" y="486"/>
                </a:lnTo>
                <a:lnTo>
                  <a:pt x="1604" y="493"/>
                </a:lnTo>
                <a:lnTo>
                  <a:pt x="1597" y="493"/>
                </a:lnTo>
                <a:lnTo>
                  <a:pt x="1591" y="500"/>
                </a:lnTo>
                <a:lnTo>
                  <a:pt x="1584" y="507"/>
                </a:lnTo>
                <a:lnTo>
                  <a:pt x="1577" y="507"/>
                </a:lnTo>
                <a:lnTo>
                  <a:pt x="1570" y="513"/>
                </a:lnTo>
                <a:lnTo>
                  <a:pt x="1563" y="513"/>
                </a:lnTo>
                <a:lnTo>
                  <a:pt x="1556" y="520"/>
                </a:lnTo>
                <a:lnTo>
                  <a:pt x="1549" y="527"/>
                </a:lnTo>
                <a:lnTo>
                  <a:pt x="1543" y="527"/>
                </a:lnTo>
                <a:lnTo>
                  <a:pt x="1543" y="534"/>
                </a:lnTo>
                <a:lnTo>
                  <a:pt x="1536" y="541"/>
                </a:lnTo>
                <a:lnTo>
                  <a:pt x="1529" y="548"/>
                </a:lnTo>
                <a:lnTo>
                  <a:pt x="1522" y="548"/>
                </a:lnTo>
                <a:lnTo>
                  <a:pt x="1515" y="555"/>
                </a:lnTo>
                <a:lnTo>
                  <a:pt x="1515" y="561"/>
                </a:lnTo>
                <a:lnTo>
                  <a:pt x="1515" y="568"/>
                </a:lnTo>
                <a:lnTo>
                  <a:pt x="1515" y="575"/>
                </a:lnTo>
                <a:lnTo>
                  <a:pt x="1508" y="582"/>
                </a:lnTo>
                <a:lnTo>
                  <a:pt x="1508" y="582"/>
                </a:lnTo>
                <a:lnTo>
                  <a:pt x="1501" y="589"/>
                </a:lnTo>
                <a:lnTo>
                  <a:pt x="1488" y="589"/>
                </a:lnTo>
                <a:lnTo>
                  <a:pt x="1481" y="582"/>
                </a:lnTo>
                <a:lnTo>
                  <a:pt x="1474" y="582"/>
                </a:lnTo>
                <a:lnTo>
                  <a:pt x="1467" y="589"/>
                </a:lnTo>
                <a:lnTo>
                  <a:pt x="1460" y="596"/>
                </a:lnTo>
                <a:lnTo>
                  <a:pt x="1460" y="602"/>
                </a:lnTo>
                <a:lnTo>
                  <a:pt x="1453" y="609"/>
                </a:lnTo>
                <a:lnTo>
                  <a:pt x="1453" y="616"/>
                </a:lnTo>
                <a:lnTo>
                  <a:pt x="1447" y="623"/>
                </a:lnTo>
                <a:lnTo>
                  <a:pt x="1447" y="630"/>
                </a:lnTo>
                <a:lnTo>
                  <a:pt x="1440" y="630"/>
                </a:lnTo>
                <a:lnTo>
                  <a:pt x="1440" y="637"/>
                </a:lnTo>
                <a:lnTo>
                  <a:pt x="1440" y="643"/>
                </a:lnTo>
                <a:lnTo>
                  <a:pt x="1433" y="650"/>
                </a:lnTo>
                <a:lnTo>
                  <a:pt x="1433" y="657"/>
                </a:lnTo>
                <a:lnTo>
                  <a:pt x="1433" y="664"/>
                </a:lnTo>
                <a:lnTo>
                  <a:pt x="1433" y="671"/>
                </a:lnTo>
                <a:lnTo>
                  <a:pt x="1433" y="678"/>
                </a:lnTo>
                <a:lnTo>
                  <a:pt x="1433" y="685"/>
                </a:lnTo>
                <a:lnTo>
                  <a:pt x="1433" y="685"/>
                </a:lnTo>
                <a:lnTo>
                  <a:pt x="1433" y="691"/>
                </a:lnTo>
                <a:lnTo>
                  <a:pt x="1433" y="698"/>
                </a:lnTo>
                <a:lnTo>
                  <a:pt x="1426" y="705"/>
                </a:lnTo>
                <a:lnTo>
                  <a:pt x="1426" y="712"/>
                </a:lnTo>
                <a:lnTo>
                  <a:pt x="1426" y="719"/>
                </a:lnTo>
                <a:lnTo>
                  <a:pt x="1426" y="726"/>
                </a:lnTo>
                <a:lnTo>
                  <a:pt x="1426" y="732"/>
                </a:lnTo>
                <a:lnTo>
                  <a:pt x="1426" y="739"/>
                </a:lnTo>
                <a:lnTo>
                  <a:pt x="1426" y="739"/>
                </a:lnTo>
                <a:lnTo>
                  <a:pt x="1426" y="746"/>
                </a:lnTo>
                <a:lnTo>
                  <a:pt x="1426" y="753"/>
                </a:lnTo>
                <a:lnTo>
                  <a:pt x="1426" y="760"/>
                </a:lnTo>
                <a:lnTo>
                  <a:pt x="1426" y="767"/>
                </a:lnTo>
                <a:lnTo>
                  <a:pt x="1433" y="774"/>
                </a:lnTo>
                <a:lnTo>
                  <a:pt x="1433" y="780"/>
                </a:lnTo>
                <a:lnTo>
                  <a:pt x="1433" y="787"/>
                </a:lnTo>
                <a:lnTo>
                  <a:pt x="1433" y="794"/>
                </a:lnTo>
                <a:lnTo>
                  <a:pt x="1433" y="794"/>
                </a:lnTo>
                <a:lnTo>
                  <a:pt x="1433" y="801"/>
                </a:lnTo>
                <a:lnTo>
                  <a:pt x="1433" y="808"/>
                </a:lnTo>
                <a:lnTo>
                  <a:pt x="1433" y="815"/>
                </a:lnTo>
                <a:lnTo>
                  <a:pt x="1433" y="821"/>
                </a:lnTo>
                <a:lnTo>
                  <a:pt x="1433" y="828"/>
                </a:lnTo>
                <a:lnTo>
                  <a:pt x="1426" y="835"/>
                </a:lnTo>
                <a:lnTo>
                  <a:pt x="1419" y="842"/>
                </a:lnTo>
                <a:lnTo>
                  <a:pt x="1419" y="842"/>
                </a:lnTo>
                <a:lnTo>
                  <a:pt x="1412" y="849"/>
                </a:lnTo>
                <a:lnTo>
                  <a:pt x="1405" y="856"/>
                </a:lnTo>
                <a:lnTo>
                  <a:pt x="1399" y="862"/>
                </a:lnTo>
                <a:lnTo>
                  <a:pt x="1392" y="862"/>
                </a:lnTo>
                <a:lnTo>
                  <a:pt x="1392" y="869"/>
                </a:lnTo>
                <a:lnTo>
                  <a:pt x="1392" y="876"/>
                </a:lnTo>
                <a:lnTo>
                  <a:pt x="1399" y="883"/>
                </a:lnTo>
                <a:lnTo>
                  <a:pt x="1412" y="890"/>
                </a:lnTo>
                <a:lnTo>
                  <a:pt x="1419" y="890"/>
                </a:lnTo>
                <a:lnTo>
                  <a:pt x="1426" y="890"/>
                </a:lnTo>
                <a:lnTo>
                  <a:pt x="1433" y="883"/>
                </a:lnTo>
                <a:lnTo>
                  <a:pt x="1433" y="876"/>
                </a:lnTo>
                <a:lnTo>
                  <a:pt x="1440" y="869"/>
                </a:lnTo>
                <a:lnTo>
                  <a:pt x="1440" y="862"/>
                </a:lnTo>
                <a:lnTo>
                  <a:pt x="1447" y="856"/>
                </a:lnTo>
                <a:lnTo>
                  <a:pt x="1453" y="856"/>
                </a:lnTo>
                <a:lnTo>
                  <a:pt x="1453" y="862"/>
                </a:lnTo>
                <a:lnTo>
                  <a:pt x="1460" y="869"/>
                </a:lnTo>
                <a:lnTo>
                  <a:pt x="1460" y="876"/>
                </a:lnTo>
                <a:lnTo>
                  <a:pt x="1460" y="883"/>
                </a:lnTo>
                <a:lnTo>
                  <a:pt x="1453" y="883"/>
                </a:lnTo>
                <a:lnTo>
                  <a:pt x="1447" y="890"/>
                </a:lnTo>
                <a:lnTo>
                  <a:pt x="1447" y="897"/>
                </a:lnTo>
                <a:lnTo>
                  <a:pt x="1440" y="904"/>
                </a:lnTo>
                <a:lnTo>
                  <a:pt x="1433" y="910"/>
                </a:lnTo>
                <a:lnTo>
                  <a:pt x="1426" y="910"/>
                </a:lnTo>
                <a:lnTo>
                  <a:pt x="1419" y="910"/>
                </a:lnTo>
                <a:lnTo>
                  <a:pt x="1412" y="904"/>
                </a:lnTo>
                <a:lnTo>
                  <a:pt x="1412" y="897"/>
                </a:lnTo>
                <a:lnTo>
                  <a:pt x="1405" y="897"/>
                </a:lnTo>
                <a:lnTo>
                  <a:pt x="1405" y="890"/>
                </a:lnTo>
                <a:lnTo>
                  <a:pt x="1399" y="883"/>
                </a:lnTo>
                <a:lnTo>
                  <a:pt x="1392" y="876"/>
                </a:lnTo>
                <a:lnTo>
                  <a:pt x="1392" y="869"/>
                </a:lnTo>
                <a:lnTo>
                  <a:pt x="1385" y="869"/>
                </a:lnTo>
                <a:lnTo>
                  <a:pt x="1378" y="862"/>
                </a:lnTo>
                <a:lnTo>
                  <a:pt x="1378" y="856"/>
                </a:lnTo>
                <a:lnTo>
                  <a:pt x="1371" y="849"/>
                </a:lnTo>
                <a:lnTo>
                  <a:pt x="1364" y="842"/>
                </a:lnTo>
                <a:lnTo>
                  <a:pt x="1364" y="842"/>
                </a:lnTo>
                <a:lnTo>
                  <a:pt x="1357" y="835"/>
                </a:lnTo>
                <a:lnTo>
                  <a:pt x="1357" y="828"/>
                </a:lnTo>
                <a:lnTo>
                  <a:pt x="1357" y="821"/>
                </a:lnTo>
                <a:lnTo>
                  <a:pt x="1357" y="815"/>
                </a:lnTo>
                <a:lnTo>
                  <a:pt x="1357" y="808"/>
                </a:lnTo>
                <a:lnTo>
                  <a:pt x="1351" y="801"/>
                </a:lnTo>
                <a:lnTo>
                  <a:pt x="1351" y="794"/>
                </a:lnTo>
                <a:lnTo>
                  <a:pt x="1351" y="794"/>
                </a:lnTo>
                <a:lnTo>
                  <a:pt x="1351" y="787"/>
                </a:lnTo>
                <a:lnTo>
                  <a:pt x="1351" y="780"/>
                </a:lnTo>
                <a:lnTo>
                  <a:pt x="1351" y="774"/>
                </a:lnTo>
                <a:lnTo>
                  <a:pt x="1344" y="767"/>
                </a:lnTo>
                <a:lnTo>
                  <a:pt x="1344" y="760"/>
                </a:lnTo>
                <a:lnTo>
                  <a:pt x="1344" y="753"/>
                </a:lnTo>
                <a:lnTo>
                  <a:pt x="1344" y="753"/>
                </a:lnTo>
                <a:lnTo>
                  <a:pt x="1337" y="746"/>
                </a:lnTo>
                <a:lnTo>
                  <a:pt x="1337" y="739"/>
                </a:lnTo>
                <a:lnTo>
                  <a:pt x="1337" y="732"/>
                </a:lnTo>
                <a:lnTo>
                  <a:pt x="1337" y="726"/>
                </a:lnTo>
                <a:lnTo>
                  <a:pt x="1330" y="719"/>
                </a:lnTo>
                <a:lnTo>
                  <a:pt x="1330" y="712"/>
                </a:lnTo>
                <a:lnTo>
                  <a:pt x="1330" y="719"/>
                </a:lnTo>
                <a:lnTo>
                  <a:pt x="1323" y="726"/>
                </a:lnTo>
                <a:lnTo>
                  <a:pt x="1316" y="732"/>
                </a:lnTo>
                <a:lnTo>
                  <a:pt x="1309" y="732"/>
                </a:lnTo>
                <a:lnTo>
                  <a:pt x="1303" y="732"/>
                </a:lnTo>
                <a:lnTo>
                  <a:pt x="1296" y="739"/>
                </a:lnTo>
                <a:lnTo>
                  <a:pt x="1296" y="746"/>
                </a:lnTo>
                <a:lnTo>
                  <a:pt x="1289" y="753"/>
                </a:lnTo>
                <a:lnTo>
                  <a:pt x="1289" y="760"/>
                </a:lnTo>
                <a:lnTo>
                  <a:pt x="1282" y="767"/>
                </a:lnTo>
                <a:lnTo>
                  <a:pt x="1282" y="774"/>
                </a:lnTo>
                <a:lnTo>
                  <a:pt x="1275" y="774"/>
                </a:lnTo>
                <a:lnTo>
                  <a:pt x="1275" y="780"/>
                </a:lnTo>
                <a:lnTo>
                  <a:pt x="1268" y="787"/>
                </a:lnTo>
                <a:lnTo>
                  <a:pt x="1261" y="794"/>
                </a:lnTo>
                <a:lnTo>
                  <a:pt x="1261" y="801"/>
                </a:lnTo>
                <a:lnTo>
                  <a:pt x="1255" y="801"/>
                </a:lnTo>
                <a:lnTo>
                  <a:pt x="1255" y="808"/>
                </a:lnTo>
                <a:lnTo>
                  <a:pt x="1248" y="815"/>
                </a:lnTo>
                <a:lnTo>
                  <a:pt x="1241" y="821"/>
                </a:lnTo>
                <a:lnTo>
                  <a:pt x="1234" y="821"/>
                </a:lnTo>
                <a:lnTo>
                  <a:pt x="1234" y="828"/>
                </a:lnTo>
                <a:lnTo>
                  <a:pt x="1227" y="835"/>
                </a:lnTo>
                <a:lnTo>
                  <a:pt x="1220" y="842"/>
                </a:lnTo>
                <a:lnTo>
                  <a:pt x="1213" y="842"/>
                </a:lnTo>
                <a:lnTo>
                  <a:pt x="1213" y="849"/>
                </a:lnTo>
                <a:lnTo>
                  <a:pt x="1207" y="856"/>
                </a:lnTo>
                <a:lnTo>
                  <a:pt x="1207" y="862"/>
                </a:lnTo>
                <a:lnTo>
                  <a:pt x="1207" y="869"/>
                </a:lnTo>
                <a:lnTo>
                  <a:pt x="1207" y="876"/>
                </a:lnTo>
                <a:lnTo>
                  <a:pt x="1207" y="883"/>
                </a:lnTo>
                <a:lnTo>
                  <a:pt x="1213" y="883"/>
                </a:lnTo>
                <a:lnTo>
                  <a:pt x="1220" y="890"/>
                </a:lnTo>
                <a:lnTo>
                  <a:pt x="1227" y="897"/>
                </a:lnTo>
                <a:lnTo>
                  <a:pt x="1241" y="897"/>
                </a:lnTo>
                <a:lnTo>
                  <a:pt x="1248" y="897"/>
                </a:lnTo>
                <a:lnTo>
                  <a:pt x="1255" y="904"/>
                </a:lnTo>
                <a:lnTo>
                  <a:pt x="1255" y="910"/>
                </a:lnTo>
                <a:lnTo>
                  <a:pt x="1255" y="910"/>
                </a:lnTo>
                <a:lnTo>
                  <a:pt x="1248" y="917"/>
                </a:lnTo>
                <a:lnTo>
                  <a:pt x="1248" y="924"/>
                </a:lnTo>
                <a:lnTo>
                  <a:pt x="1241" y="931"/>
                </a:lnTo>
                <a:lnTo>
                  <a:pt x="1241" y="938"/>
                </a:lnTo>
                <a:lnTo>
                  <a:pt x="1248" y="945"/>
                </a:lnTo>
                <a:lnTo>
                  <a:pt x="1248" y="951"/>
                </a:lnTo>
                <a:lnTo>
                  <a:pt x="1248" y="958"/>
                </a:lnTo>
                <a:lnTo>
                  <a:pt x="1248" y="965"/>
                </a:lnTo>
                <a:lnTo>
                  <a:pt x="1255" y="965"/>
                </a:lnTo>
                <a:lnTo>
                  <a:pt x="1255" y="972"/>
                </a:lnTo>
                <a:lnTo>
                  <a:pt x="1255" y="979"/>
                </a:lnTo>
                <a:lnTo>
                  <a:pt x="1255" y="986"/>
                </a:lnTo>
                <a:lnTo>
                  <a:pt x="1255" y="992"/>
                </a:lnTo>
                <a:lnTo>
                  <a:pt x="1255" y="999"/>
                </a:lnTo>
                <a:lnTo>
                  <a:pt x="1255" y="1006"/>
                </a:lnTo>
                <a:lnTo>
                  <a:pt x="1255" y="1013"/>
                </a:lnTo>
                <a:lnTo>
                  <a:pt x="1255" y="1020"/>
                </a:lnTo>
                <a:lnTo>
                  <a:pt x="1261" y="1027"/>
                </a:lnTo>
                <a:lnTo>
                  <a:pt x="1261" y="1027"/>
                </a:lnTo>
                <a:lnTo>
                  <a:pt x="1261" y="1034"/>
                </a:lnTo>
                <a:lnTo>
                  <a:pt x="1261" y="1040"/>
                </a:lnTo>
                <a:lnTo>
                  <a:pt x="1261" y="1047"/>
                </a:lnTo>
                <a:lnTo>
                  <a:pt x="1268" y="1054"/>
                </a:lnTo>
                <a:lnTo>
                  <a:pt x="1268" y="1061"/>
                </a:lnTo>
                <a:lnTo>
                  <a:pt x="1268" y="1068"/>
                </a:lnTo>
                <a:lnTo>
                  <a:pt x="1268" y="1075"/>
                </a:lnTo>
                <a:lnTo>
                  <a:pt x="1268" y="1081"/>
                </a:lnTo>
                <a:lnTo>
                  <a:pt x="1268" y="1081"/>
                </a:lnTo>
                <a:lnTo>
                  <a:pt x="1275" y="1088"/>
                </a:lnTo>
                <a:lnTo>
                  <a:pt x="1275" y="1095"/>
                </a:lnTo>
                <a:lnTo>
                  <a:pt x="1275" y="1102"/>
                </a:lnTo>
                <a:lnTo>
                  <a:pt x="1275" y="1109"/>
                </a:lnTo>
                <a:lnTo>
                  <a:pt x="1282" y="1116"/>
                </a:lnTo>
                <a:lnTo>
                  <a:pt x="1282" y="1122"/>
                </a:lnTo>
                <a:lnTo>
                  <a:pt x="1289" y="1129"/>
                </a:lnTo>
                <a:lnTo>
                  <a:pt x="1282" y="1136"/>
                </a:lnTo>
                <a:lnTo>
                  <a:pt x="1275" y="1136"/>
                </a:lnTo>
                <a:lnTo>
                  <a:pt x="1261" y="1136"/>
                </a:lnTo>
                <a:lnTo>
                  <a:pt x="1255" y="1136"/>
                </a:lnTo>
                <a:lnTo>
                  <a:pt x="1248" y="1143"/>
                </a:lnTo>
                <a:lnTo>
                  <a:pt x="1241" y="1143"/>
                </a:lnTo>
                <a:lnTo>
                  <a:pt x="1234" y="1143"/>
                </a:lnTo>
                <a:lnTo>
                  <a:pt x="1227" y="1150"/>
                </a:lnTo>
                <a:lnTo>
                  <a:pt x="1220" y="1157"/>
                </a:lnTo>
                <a:lnTo>
                  <a:pt x="1213" y="1164"/>
                </a:lnTo>
                <a:lnTo>
                  <a:pt x="1213" y="1157"/>
                </a:lnTo>
                <a:lnTo>
                  <a:pt x="1207" y="1150"/>
                </a:lnTo>
                <a:lnTo>
                  <a:pt x="1207" y="1143"/>
                </a:lnTo>
                <a:lnTo>
                  <a:pt x="1200" y="1143"/>
                </a:lnTo>
                <a:lnTo>
                  <a:pt x="1200" y="1136"/>
                </a:lnTo>
                <a:lnTo>
                  <a:pt x="1193" y="1129"/>
                </a:lnTo>
                <a:lnTo>
                  <a:pt x="1193" y="1122"/>
                </a:lnTo>
                <a:lnTo>
                  <a:pt x="1193" y="1122"/>
                </a:lnTo>
                <a:lnTo>
                  <a:pt x="1193" y="1116"/>
                </a:lnTo>
                <a:lnTo>
                  <a:pt x="1193" y="1109"/>
                </a:lnTo>
                <a:lnTo>
                  <a:pt x="1193" y="1102"/>
                </a:lnTo>
                <a:lnTo>
                  <a:pt x="1193" y="1095"/>
                </a:lnTo>
                <a:lnTo>
                  <a:pt x="1193" y="1088"/>
                </a:lnTo>
                <a:lnTo>
                  <a:pt x="1200" y="1081"/>
                </a:lnTo>
                <a:lnTo>
                  <a:pt x="1200" y="1075"/>
                </a:lnTo>
                <a:lnTo>
                  <a:pt x="1200" y="1068"/>
                </a:lnTo>
                <a:lnTo>
                  <a:pt x="1207" y="1061"/>
                </a:lnTo>
                <a:lnTo>
                  <a:pt x="1207" y="1061"/>
                </a:lnTo>
                <a:lnTo>
                  <a:pt x="1207" y="1054"/>
                </a:lnTo>
                <a:lnTo>
                  <a:pt x="1207" y="1047"/>
                </a:lnTo>
                <a:lnTo>
                  <a:pt x="1207" y="1040"/>
                </a:lnTo>
                <a:lnTo>
                  <a:pt x="1200" y="1034"/>
                </a:lnTo>
                <a:lnTo>
                  <a:pt x="1193" y="1027"/>
                </a:lnTo>
                <a:lnTo>
                  <a:pt x="1186" y="1027"/>
                </a:lnTo>
                <a:lnTo>
                  <a:pt x="1179" y="1020"/>
                </a:lnTo>
                <a:lnTo>
                  <a:pt x="1186" y="1013"/>
                </a:lnTo>
                <a:lnTo>
                  <a:pt x="1186" y="1013"/>
                </a:lnTo>
                <a:lnTo>
                  <a:pt x="1193" y="1013"/>
                </a:lnTo>
                <a:lnTo>
                  <a:pt x="1200" y="1020"/>
                </a:lnTo>
                <a:lnTo>
                  <a:pt x="1207" y="1027"/>
                </a:lnTo>
                <a:lnTo>
                  <a:pt x="1213" y="1034"/>
                </a:lnTo>
                <a:lnTo>
                  <a:pt x="1220" y="1034"/>
                </a:lnTo>
                <a:lnTo>
                  <a:pt x="1220" y="1034"/>
                </a:lnTo>
                <a:lnTo>
                  <a:pt x="1227" y="1027"/>
                </a:lnTo>
                <a:lnTo>
                  <a:pt x="1234" y="1020"/>
                </a:lnTo>
                <a:lnTo>
                  <a:pt x="1234" y="1013"/>
                </a:lnTo>
                <a:lnTo>
                  <a:pt x="1241" y="1006"/>
                </a:lnTo>
                <a:lnTo>
                  <a:pt x="1241" y="999"/>
                </a:lnTo>
                <a:lnTo>
                  <a:pt x="1241" y="992"/>
                </a:lnTo>
                <a:lnTo>
                  <a:pt x="1234" y="986"/>
                </a:lnTo>
                <a:lnTo>
                  <a:pt x="1227" y="986"/>
                </a:lnTo>
                <a:lnTo>
                  <a:pt x="1220" y="979"/>
                </a:lnTo>
                <a:lnTo>
                  <a:pt x="1213" y="979"/>
                </a:lnTo>
                <a:lnTo>
                  <a:pt x="1207" y="972"/>
                </a:lnTo>
                <a:lnTo>
                  <a:pt x="1200" y="972"/>
                </a:lnTo>
                <a:lnTo>
                  <a:pt x="1193" y="965"/>
                </a:lnTo>
                <a:lnTo>
                  <a:pt x="1186" y="965"/>
                </a:lnTo>
                <a:lnTo>
                  <a:pt x="1172" y="958"/>
                </a:lnTo>
                <a:lnTo>
                  <a:pt x="1165" y="958"/>
                </a:lnTo>
                <a:lnTo>
                  <a:pt x="1159" y="958"/>
                </a:lnTo>
                <a:lnTo>
                  <a:pt x="1152" y="965"/>
                </a:lnTo>
                <a:lnTo>
                  <a:pt x="1152" y="972"/>
                </a:lnTo>
                <a:lnTo>
                  <a:pt x="1145" y="972"/>
                </a:lnTo>
                <a:lnTo>
                  <a:pt x="1145" y="979"/>
                </a:lnTo>
                <a:lnTo>
                  <a:pt x="1138" y="986"/>
                </a:lnTo>
                <a:lnTo>
                  <a:pt x="1138" y="992"/>
                </a:lnTo>
                <a:lnTo>
                  <a:pt x="1131" y="999"/>
                </a:lnTo>
                <a:lnTo>
                  <a:pt x="1131" y="1006"/>
                </a:lnTo>
                <a:lnTo>
                  <a:pt x="1131" y="1013"/>
                </a:lnTo>
                <a:lnTo>
                  <a:pt x="1124" y="1013"/>
                </a:lnTo>
                <a:lnTo>
                  <a:pt x="1124" y="1020"/>
                </a:lnTo>
                <a:lnTo>
                  <a:pt x="1117" y="1027"/>
                </a:lnTo>
                <a:lnTo>
                  <a:pt x="1111" y="1034"/>
                </a:lnTo>
                <a:lnTo>
                  <a:pt x="1104" y="1034"/>
                </a:lnTo>
                <a:lnTo>
                  <a:pt x="1104" y="1040"/>
                </a:lnTo>
                <a:lnTo>
                  <a:pt x="1097" y="1047"/>
                </a:lnTo>
                <a:lnTo>
                  <a:pt x="1090" y="1054"/>
                </a:lnTo>
                <a:lnTo>
                  <a:pt x="1090" y="1061"/>
                </a:lnTo>
                <a:lnTo>
                  <a:pt x="1083" y="1061"/>
                </a:lnTo>
                <a:lnTo>
                  <a:pt x="1076" y="1068"/>
                </a:lnTo>
                <a:lnTo>
                  <a:pt x="1070" y="1068"/>
                </a:lnTo>
                <a:lnTo>
                  <a:pt x="1056" y="1068"/>
                </a:lnTo>
                <a:lnTo>
                  <a:pt x="1049" y="1068"/>
                </a:lnTo>
                <a:lnTo>
                  <a:pt x="1035" y="1068"/>
                </a:lnTo>
                <a:lnTo>
                  <a:pt x="1028" y="1068"/>
                </a:lnTo>
                <a:lnTo>
                  <a:pt x="1022" y="1068"/>
                </a:lnTo>
                <a:lnTo>
                  <a:pt x="1008" y="1075"/>
                </a:lnTo>
                <a:lnTo>
                  <a:pt x="1001" y="1075"/>
                </a:lnTo>
                <a:lnTo>
                  <a:pt x="987" y="1075"/>
                </a:lnTo>
                <a:lnTo>
                  <a:pt x="980" y="1075"/>
                </a:lnTo>
                <a:lnTo>
                  <a:pt x="980" y="1068"/>
                </a:lnTo>
                <a:lnTo>
                  <a:pt x="974" y="1061"/>
                </a:lnTo>
                <a:lnTo>
                  <a:pt x="974" y="1054"/>
                </a:lnTo>
                <a:lnTo>
                  <a:pt x="974" y="1047"/>
                </a:lnTo>
                <a:lnTo>
                  <a:pt x="974" y="1040"/>
                </a:lnTo>
                <a:lnTo>
                  <a:pt x="967" y="1034"/>
                </a:lnTo>
                <a:lnTo>
                  <a:pt x="967" y="1027"/>
                </a:lnTo>
                <a:lnTo>
                  <a:pt x="960" y="1027"/>
                </a:lnTo>
                <a:lnTo>
                  <a:pt x="960" y="1020"/>
                </a:lnTo>
                <a:lnTo>
                  <a:pt x="953" y="1013"/>
                </a:lnTo>
                <a:lnTo>
                  <a:pt x="946" y="1013"/>
                </a:lnTo>
                <a:lnTo>
                  <a:pt x="939" y="1013"/>
                </a:lnTo>
                <a:lnTo>
                  <a:pt x="932" y="1020"/>
                </a:lnTo>
                <a:lnTo>
                  <a:pt x="919" y="1020"/>
                </a:lnTo>
                <a:lnTo>
                  <a:pt x="912" y="1020"/>
                </a:lnTo>
                <a:lnTo>
                  <a:pt x="905" y="1020"/>
                </a:lnTo>
                <a:lnTo>
                  <a:pt x="891" y="1027"/>
                </a:lnTo>
                <a:lnTo>
                  <a:pt x="884" y="1027"/>
                </a:lnTo>
                <a:lnTo>
                  <a:pt x="878" y="1027"/>
                </a:lnTo>
                <a:lnTo>
                  <a:pt x="864" y="1034"/>
                </a:lnTo>
                <a:lnTo>
                  <a:pt x="857" y="1034"/>
                </a:lnTo>
                <a:lnTo>
                  <a:pt x="850" y="1034"/>
                </a:lnTo>
                <a:lnTo>
                  <a:pt x="836" y="1034"/>
                </a:lnTo>
                <a:lnTo>
                  <a:pt x="830" y="1034"/>
                </a:lnTo>
                <a:lnTo>
                  <a:pt x="823" y="1034"/>
                </a:lnTo>
                <a:lnTo>
                  <a:pt x="809" y="1034"/>
                </a:lnTo>
                <a:lnTo>
                  <a:pt x="802" y="1034"/>
                </a:lnTo>
                <a:lnTo>
                  <a:pt x="795" y="1027"/>
                </a:lnTo>
                <a:lnTo>
                  <a:pt x="782" y="1027"/>
                </a:lnTo>
                <a:lnTo>
                  <a:pt x="775" y="1020"/>
                </a:lnTo>
                <a:lnTo>
                  <a:pt x="768" y="1020"/>
                </a:lnTo>
                <a:lnTo>
                  <a:pt x="761" y="1013"/>
                </a:lnTo>
                <a:lnTo>
                  <a:pt x="754" y="1013"/>
                </a:lnTo>
                <a:lnTo>
                  <a:pt x="747" y="1006"/>
                </a:lnTo>
                <a:lnTo>
                  <a:pt x="740" y="1006"/>
                </a:lnTo>
                <a:lnTo>
                  <a:pt x="734" y="999"/>
                </a:lnTo>
                <a:lnTo>
                  <a:pt x="727" y="992"/>
                </a:lnTo>
                <a:lnTo>
                  <a:pt x="727" y="986"/>
                </a:lnTo>
                <a:lnTo>
                  <a:pt x="720" y="979"/>
                </a:lnTo>
                <a:lnTo>
                  <a:pt x="720" y="979"/>
                </a:lnTo>
                <a:lnTo>
                  <a:pt x="720" y="972"/>
                </a:lnTo>
                <a:lnTo>
                  <a:pt x="720" y="965"/>
                </a:lnTo>
                <a:lnTo>
                  <a:pt x="720" y="958"/>
                </a:lnTo>
                <a:lnTo>
                  <a:pt x="713" y="951"/>
                </a:lnTo>
                <a:lnTo>
                  <a:pt x="713" y="945"/>
                </a:lnTo>
                <a:lnTo>
                  <a:pt x="713" y="938"/>
                </a:lnTo>
                <a:lnTo>
                  <a:pt x="713" y="931"/>
                </a:lnTo>
                <a:lnTo>
                  <a:pt x="713" y="924"/>
                </a:lnTo>
                <a:lnTo>
                  <a:pt x="713" y="917"/>
                </a:lnTo>
                <a:lnTo>
                  <a:pt x="713" y="917"/>
                </a:lnTo>
                <a:lnTo>
                  <a:pt x="713" y="910"/>
                </a:lnTo>
                <a:lnTo>
                  <a:pt x="713" y="904"/>
                </a:lnTo>
                <a:lnTo>
                  <a:pt x="713" y="897"/>
                </a:lnTo>
                <a:lnTo>
                  <a:pt x="713" y="890"/>
                </a:lnTo>
                <a:lnTo>
                  <a:pt x="713" y="883"/>
                </a:lnTo>
                <a:lnTo>
                  <a:pt x="713" y="876"/>
                </a:lnTo>
                <a:lnTo>
                  <a:pt x="713" y="869"/>
                </a:lnTo>
                <a:lnTo>
                  <a:pt x="713" y="862"/>
                </a:lnTo>
                <a:lnTo>
                  <a:pt x="713" y="862"/>
                </a:lnTo>
                <a:lnTo>
                  <a:pt x="713" y="856"/>
                </a:lnTo>
                <a:lnTo>
                  <a:pt x="713" y="849"/>
                </a:lnTo>
                <a:lnTo>
                  <a:pt x="713" y="842"/>
                </a:lnTo>
                <a:lnTo>
                  <a:pt x="713" y="835"/>
                </a:lnTo>
                <a:lnTo>
                  <a:pt x="713" y="828"/>
                </a:lnTo>
                <a:lnTo>
                  <a:pt x="713" y="821"/>
                </a:lnTo>
                <a:lnTo>
                  <a:pt x="713" y="815"/>
                </a:lnTo>
                <a:lnTo>
                  <a:pt x="713" y="808"/>
                </a:lnTo>
                <a:lnTo>
                  <a:pt x="713" y="801"/>
                </a:lnTo>
                <a:lnTo>
                  <a:pt x="706" y="801"/>
                </a:lnTo>
                <a:lnTo>
                  <a:pt x="706" y="794"/>
                </a:lnTo>
                <a:lnTo>
                  <a:pt x="706" y="787"/>
                </a:lnTo>
                <a:lnTo>
                  <a:pt x="706" y="780"/>
                </a:lnTo>
                <a:lnTo>
                  <a:pt x="706" y="774"/>
                </a:lnTo>
                <a:lnTo>
                  <a:pt x="706" y="767"/>
                </a:lnTo>
                <a:lnTo>
                  <a:pt x="706" y="760"/>
                </a:lnTo>
                <a:lnTo>
                  <a:pt x="706" y="753"/>
                </a:lnTo>
                <a:lnTo>
                  <a:pt x="699" y="746"/>
                </a:lnTo>
                <a:lnTo>
                  <a:pt x="699" y="746"/>
                </a:lnTo>
                <a:lnTo>
                  <a:pt x="692" y="746"/>
                </a:lnTo>
                <a:lnTo>
                  <a:pt x="686" y="753"/>
                </a:lnTo>
                <a:lnTo>
                  <a:pt x="679" y="760"/>
                </a:lnTo>
                <a:lnTo>
                  <a:pt x="679" y="767"/>
                </a:lnTo>
                <a:lnTo>
                  <a:pt x="679" y="774"/>
                </a:lnTo>
                <a:lnTo>
                  <a:pt x="679" y="780"/>
                </a:lnTo>
                <a:lnTo>
                  <a:pt x="672" y="780"/>
                </a:lnTo>
                <a:lnTo>
                  <a:pt x="672" y="787"/>
                </a:lnTo>
                <a:lnTo>
                  <a:pt x="672" y="794"/>
                </a:lnTo>
                <a:lnTo>
                  <a:pt x="665" y="801"/>
                </a:lnTo>
                <a:lnTo>
                  <a:pt x="665" y="808"/>
                </a:lnTo>
                <a:lnTo>
                  <a:pt x="658" y="808"/>
                </a:lnTo>
                <a:lnTo>
                  <a:pt x="651" y="815"/>
                </a:lnTo>
                <a:lnTo>
                  <a:pt x="651" y="821"/>
                </a:lnTo>
                <a:lnTo>
                  <a:pt x="651" y="828"/>
                </a:lnTo>
                <a:lnTo>
                  <a:pt x="651" y="835"/>
                </a:lnTo>
                <a:lnTo>
                  <a:pt x="651" y="842"/>
                </a:lnTo>
                <a:lnTo>
                  <a:pt x="651" y="849"/>
                </a:lnTo>
                <a:lnTo>
                  <a:pt x="644" y="856"/>
                </a:lnTo>
                <a:lnTo>
                  <a:pt x="644" y="862"/>
                </a:lnTo>
                <a:lnTo>
                  <a:pt x="644" y="862"/>
                </a:lnTo>
                <a:lnTo>
                  <a:pt x="644" y="869"/>
                </a:lnTo>
                <a:lnTo>
                  <a:pt x="644" y="876"/>
                </a:lnTo>
                <a:lnTo>
                  <a:pt x="644" y="883"/>
                </a:lnTo>
                <a:lnTo>
                  <a:pt x="644" y="890"/>
                </a:lnTo>
                <a:lnTo>
                  <a:pt x="638" y="897"/>
                </a:lnTo>
                <a:lnTo>
                  <a:pt x="638" y="904"/>
                </a:lnTo>
                <a:lnTo>
                  <a:pt x="638" y="910"/>
                </a:lnTo>
                <a:lnTo>
                  <a:pt x="638" y="917"/>
                </a:lnTo>
                <a:lnTo>
                  <a:pt x="638" y="917"/>
                </a:lnTo>
                <a:lnTo>
                  <a:pt x="638" y="924"/>
                </a:lnTo>
                <a:lnTo>
                  <a:pt x="638" y="931"/>
                </a:lnTo>
                <a:lnTo>
                  <a:pt x="631" y="938"/>
                </a:lnTo>
                <a:lnTo>
                  <a:pt x="631" y="945"/>
                </a:lnTo>
                <a:lnTo>
                  <a:pt x="631" y="951"/>
                </a:lnTo>
                <a:lnTo>
                  <a:pt x="631" y="958"/>
                </a:lnTo>
                <a:lnTo>
                  <a:pt x="631" y="965"/>
                </a:lnTo>
                <a:lnTo>
                  <a:pt x="631" y="972"/>
                </a:lnTo>
                <a:lnTo>
                  <a:pt x="624" y="972"/>
                </a:lnTo>
                <a:lnTo>
                  <a:pt x="624" y="979"/>
                </a:lnTo>
                <a:lnTo>
                  <a:pt x="624" y="986"/>
                </a:lnTo>
                <a:lnTo>
                  <a:pt x="624" y="992"/>
                </a:lnTo>
                <a:lnTo>
                  <a:pt x="624" y="999"/>
                </a:lnTo>
                <a:lnTo>
                  <a:pt x="624" y="1006"/>
                </a:lnTo>
                <a:lnTo>
                  <a:pt x="624" y="1013"/>
                </a:lnTo>
                <a:lnTo>
                  <a:pt x="624" y="1020"/>
                </a:lnTo>
                <a:lnTo>
                  <a:pt x="617" y="1020"/>
                </a:lnTo>
                <a:lnTo>
                  <a:pt x="610" y="1027"/>
                </a:lnTo>
                <a:lnTo>
                  <a:pt x="603" y="1034"/>
                </a:lnTo>
                <a:lnTo>
                  <a:pt x="596" y="1040"/>
                </a:lnTo>
                <a:lnTo>
                  <a:pt x="590" y="1040"/>
                </a:lnTo>
                <a:lnTo>
                  <a:pt x="590" y="1047"/>
                </a:lnTo>
                <a:lnTo>
                  <a:pt x="596" y="1054"/>
                </a:lnTo>
                <a:lnTo>
                  <a:pt x="596" y="1061"/>
                </a:lnTo>
                <a:lnTo>
                  <a:pt x="603" y="1068"/>
                </a:lnTo>
                <a:lnTo>
                  <a:pt x="610" y="1068"/>
                </a:lnTo>
                <a:lnTo>
                  <a:pt x="617" y="1075"/>
                </a:lnTo>
                <a:lnTo>
                  <a:pt x="624" y="1081"/>
                </a:lnTo>
                <a:lnTo>
                  <a:pt x="624" y="1088"/>
                </a:lnTo>
                <a:lnTo>
                  <a:pt x="631" y="1095"/>
                </a:lnTo>
                <a:lnTo>
                  <a:pt x="638" y="1095"/>
                </a:lnTo>
                <a:lnTo>
                  <a:pt x="638" y="1102"/>
                </a:lnTo>
                <a:lnTo>
                  <a:pt x="638" y="1109"/>
                </a:lnTo>
                <a:lnTo>
                  <a:pt x="631" y="1116"/>
                </a:lnTo>
                <a:lnTo>
                  <a:pt x="624" y="1116"/>
                </a:lnTo>
                <a:lnTo>
                  <a:pt x="617" y="1122"/>
                </a:lnTo>
                <a:lnTo>
                  <a:pt x="603" y="1122"/>
                </a:lnTo>
                <a:lnTo>
                  <a:pt x="596" y="1129"/>
                </a:lnTo>
                <a:lnTo>
                  <a:pt x="590" y="1129"/>
                </a:lnTo>
                <a:lnTo>
                  <a:pt x="583" y="1136"/>
                </a:lnTo>
                <a:lnTo>
                  <a:pt x="576" y="1143"/>
                </a:lnTo>
                <a:lnTo>
                  <a:pt x="569" y="1143"/>
                </a:lnTo>
                <a:lnTo>
                  <a:pt x="562" y="1150"/>
                </a:lnTo>
                <a:lnTo>
                  <a:pt x="555" y="1150"/>
                </a:lnTo>
                <a:lnTo>
                  <a:pt x="548" y="1157"/>
                </a:lnTo>
                <a:lnTo>
                  <a:pt x="542" y="1164"/>
                </a:lnTo>
                <a:lnTo>
                  <a:pt x="535" y="1164"/>
                </a:lnTo>
                <a:lnTo>
                  <a:pt x="535" y="1170"/>
                </a:lnTo>
                <a:lnTo>
                  <a:pt x="528" y="1177"/>
                </a:lnTo>
                <a:lnTo>
                  <a:pt x="521" y="1184"/>
                </a:lnTo>
                <a:lnTo>
                  <a:pt x="521" y="1184"/>
                </a:lnTo>
                <a:lnTo>
                  <a:pt x="514" y="1191"/>
                </a:lnTo>
                <a:lnTo>
                  <a:pt x="507" y="1198"/>
                </a:lnTo>
                <a:lnTo>
                  <a:pt x="494" y="1198"/>
                </a:lnTo>
                <a:lnTo>
                  <a:pt x="487" y="1205"/>
                </a:lnTo>
                <a:lnTo>
                  <a:pt x="480" y="1205"/>
                </a:lnTo>
                <a:lnTo>
                  <a:pt x="473" y="1211"/>
                </a:lnTo>
                <a:lnTo>
                  <a:pt x="473" y="1218"/>
                </a:lnTo>
                <a:lnTo>
                  <a:pt x="466" y="1225"/>
                </a:lnTo>
                <a:lnTo>
                  <a:pt x="494" y="1252"/>
                </a:lnTo>
                <a:lnTo>
                  <a:pt x="521" y="1280"/>
                </a:lnTo>
                <a:lnTo>
                  <a:pt x="548" y="1307"/>
                </a:lnTo>
                <a:lnTo>
                  <a:pt x="583" y="1335"/>
                </a:lnTo>
                <a:lnTo>
                  <a:pt x="610" y="1369"/>
                </a:lnTo>
                <a:lnTo>
                  <a:pt x="638" y="1396"/>
                </a:lnTo>
                <a:lnTo>
                  <a:pt x="665" y="1424"/>
                </a:lnTo>
                <a:lnTo>
                  <a:pt x="692" y="1451"/>
                </a:lnTo>
                <a:lnTo>
                  <a:pt x="727" y="1485"/>
                </a:lnTo>
                <a:lnTo>
                  <a:pt x="754" y="1513"/>
                </a:lnTo>
                <a:lnTo>
                  <a:pt x="782" y="1540"/>
                </a:lnTo>
                <a:lnTo>
                  <a:pt x="809" y="1567"/>
                </a:lnTo>
                <a:lnTo>
                  <a:pt x="843" y="1601"/>
                </a:lnTo>
                <a:lnTo>
                  <a:pt x="871" y="1601"/>
                </a:lnTo>
                <a:lnTo>
                  <a:pt x="898" y="1629"/>
                </a:lnTo>
                <a:lnTo>
                  <a:pt x="926" y="1656"/>
                </a:lnTo>
                <a:lnTo>
                  <a:pt x="953" y="1684"/>
                </a:lnTo>
                <a:lnTo>
                  <a:pt x="987" y="1718"/>
                </a:lnTo>
                <a:lnTo>
                  <a:pt x="1015" y="1745"/>
                </a:lnTo>
                <a:lnTo>
                  <a:pt x="1042" y="1773"/>
                </a:lnTo>
                <a:lnTo>
                  <a:pt x="1070" y="1800"/>
                </a:lnTo>
                <a:lnTo>
                  <a:pt x="1104" y="1800"/>
                </a:lnTo>
                <a:lnTo>
                  <a:pt x="1131" y="1800"/>
                </a:lnTo>
                <a:lnTo>
                  <a:pt x="1159" y="1800"/>
                </a:lnTo>
                <a:lnTo>
                  <a:pt x="1186" y="1800"/>
                </a:lnTo>
                <a:lnTo>
                  <a:pt x="1213" y="1800"/>
                </a:lnTo>
                <a:lnTo>
                  <a:pt x="1248" y="1800"/>
                </a:lnTo>
                <a:lnTo>
                  <a:pt x="1275" y="1800"/>
                </a:lnTo>
                <a:lnTo>
                  <a:pt x="1303" y="1800"/>
                </a:lnTo>
                <a:lnTo>
                  <a:pt x="1330" y="1800"/>
                </a:lnTo>
                <a:lnTo>
                  <a:pt x="1364" y="1800"/>
                </a:lnTo>
                <a:lnTo>
                  <a:pt x="1392" y="1800"/>
                </a:lnTo>
                <a:lnTo>
                  <a:pt x="1419" y="1800"/>
                </a:lnTo>
                <a:lnTo>
                  <a:pt x="1447" y="1800"/>
                </a:lnTo>
                <a:lnTo>
                  <a:pt x="1474" y="1800"/>
                </a:lnTo>
                <a:lnTo>
                  <a:pt x="1508" y="1800"/>
                </a:lnTo>
                <a:lnTo>
                  <a:pt x="1536" y="1800"/>
                </a:lnTo>
                <a:lnTo>
                  <a:pt x="1563" y="1800"/>
                </a:lnTo>
                <a:lnTo>
                  <a:pt x="1591" y="1800"/>
                </a:lnTo>
                <a:lnTo>
                  <a:pt x="1625" y="1800"/>
                </a:lnTo>
                <a:lnTo>
                  <a:pt x="1652" y="1800"/>
                </a:lnTo>
                <a:lnTo>
                  <a:pt x="1680" y="1800"/>
                </a:lnTo>
                <a:lnTo>
                  <a:pt x="1707" y="1800"/>
                </a:lnTo>
                <a:lnTo>
                  <a:pt x="1735" y="1800"/>
                </a:lnTo>
                <a:lnTo>
                  <a:pt x="1769" y="1800"/>
                </a:lnTo>
                <a:lnTo>
                  <a:pt x="1796" y="1800"/>
                </a:lnTo>
                <a:lnTo>
                  <a:pt x="1824" y="1800"/>
                </a:lnTo>
                <a:lnTo>
                  <a:pt x="1851" y="1800"/>
                </a:lnTo>
                <a:lnTo>
                  <a:pt x="1885" y="1800"/>
                </a:lnTo>
                <a:lnTo>
                  <a:pt x="1913" y="1800"/>
                </a:lnTo>
                <a:lnTo>
                  <a:pt x="1940" y="1800"/>
                </a:lnTo>
                <a:lnTo>
                  <a:pt x="1968" y="1800"/>
                </a:lnTo>
                <a:lnTo>
                  <a:pt x="1995" y="1800"/>
                </a:lnTo>
                <a:lnTo>
                  <a:pt x="2029" y="1800"/>
                </a:lnTo>
                <a:lnTo>
                  <a:pt x="2057" y="1800"/>
                </a:lnTo>
                <a:lnTo>
                  <a:pt x="2084" y="1800"/>
                </a:lnTo>
                <a:lnTo>
                  <a:pt x="2112" y="1800"/>
                </a:lnTo>
                <a:lnTo>
                  <a:pt x="2146" y="1800"/>
                </a:lnTo>
                <a:lnTo>
                  <a:pt x="2173" y="1800"/>
                </a:lnTo>
                <a:lnTo>
                  <a:pt x="2201" y="1800"/>
                </a:lnTo>
                <a:lnTo>
                  <a:pt x="2228" y="1800"/>
                </a:lnTo>
                <a:lnTo>
                  <a:pt x="2256" y="1800"/>
                </a:lnTo>
                <a:lnTo>
                  <a:pt x="2290" y="1800"/>
                </a:lnTo>
                <a:lnTo>
                  <a:pt x="2317" y="1800"/>
                </a:lnTo>
                <a:lnTo>
                  <a:pt x="2345" y="1800"/>
                </a:lnTo>
                <a:lnTo>
                  <a:pt x="2372" y="1800"/>
                </a:lnTo>
                <a:lnTo>
                  <a:pt x="2400" y="1800"/>
                </a:lnTo>
                <a:lnTo>
                  <a:pt x="2434" y="1800"/>
                </a:lnTo>
                <a:close/>
                <a:moveTo>
                  <a:pt x="446" y="1191"/>
                </a:moveTo>
                <a:lnTo>
                  <a:pt x="432" y="1184"/>
                </a:lnTo>
                <a:lnTo>
                  <a:pt x="432" y="1191"/>
                </a:lnTo>
                <a:lnTo>
                  <a:pt x="459" y="1218"/>
                </a:lnTo>
                <a:lnTo>
                  <a:pt x="446" y="1191"/>
                </a:lnTo>
                <a:close/>
                <a:moveTo>
                  <a:pt x="418" y="1164"/>
                </a:moveTo>
                <a:lnTo>
                  <a:pt x="404" y="1150"/>
                </a:lnTo>
                <a:lnTo>
                  <a:pt x="404" y="1164"/>
                </a:lnTo>
                <a:lnTo>
                  <a:pt x="418" y="1164"/>
                </a:lnTo>
                <a:close/>
                <a:moveTo>
                  <a:pt x="391" y="1136"/>
                </a:moveTo>
                <a:lnTo>
                  <a:pt x="377" y="1116"/>
                </a:lnTo>
                <a:lnTo>
                  <a:pt x="377" y="1136"/>
                </a:lnTo>
                <a:lnTo>
                  <a:pt x="391" y="1136"/>
                </a:lnTo>
                <a:close/>
                <a:moveTo>
                  <a:pt x="370" y="1102"/>
                </a:moveTo>
                <a:lnTo>
                  <a:pt x="350" y="1081"/>
                </a:lnTo>
                <a:lnTo>
                  <a:pt x="350" y="1102"/>
                </a:lnTo>
                <a:lnTo>
                  <a:pt x="370" y="1102"/>
                </a:lnTo>
                <a:close/>
                <a:moveTo>
                  <a:pt x="912" y="1102"/>
                </a:moveTo>
                <a:lnTo>
                  <a:pt x="919" y="1102"/>
                </a:lnTo>
                <a:lnTo>
                  <a:pt x="926" y="1102"/>
                </a:lnTo>
                <a:lnTo>
                  <a:pt x="926" y="1102"/>
                </a:lnTo>
                <a:lnTo>
                  <a:pt x="932" y="1095"/>
                </a:lnTo>
                <a:lnTo>
                  <a:pt x="939" y="1102"/>
                </a:lnTo>
                <a:lnTo>
                  <a:pt x="946" y="1102"/>
                </a:lnTo>
                <a:lnTo>
                  <a:pt x="953" y="1102"/>
                </a:lnTo>
                <a:lnTo>
                  <a:pt x="960" y="1102"/>
                </a:lnTo>
                <a:lnTo>
                  <a:pt x="967" y="1102"/>
                </a:lnTo>
                <a:lnTo>
                  <a:pt x="974" y="1102"/>
                </a:lnTo>
                <a:lnTo>
                  <a:pt x="974" y="1102"/>
                </a:lnTo>
                <a:lnTo>
                  <a:pt x="980" y="1102"/>
                </a:lnTo>
                <a:lnTo>
                  <a:pt x="987" y="1102"/>
                </a:lnTo>
                <a:lnTo>
                  <a:pt x="980" y="1109"/>
                </a:lnTo>
                <a:lnTo>
                  <a:pt x="974" y="1109"/>
                </a:lnTo>
                <a:lnTo>
                  <a:pt x="967" y="1109"/>
                </a:lnTo>
                <a:lnTo>
                  <a:pt x="967" y="1109"/>
                </a:lnTo>
                <a:lnTo>
                  <a:pt x="960" y="1109"/>
                </a:lnTo>
                <a:lnTo>
                  <a:pt x="953" y="1109"/>
                </a:lnTo>
                <a:lnTo>
                  <a:pt x="946" y="1109"/>
                </a:lnTo>
                <a:lnTo>
                  <a:pt x="939" y="1116"/>
                </a:lnTo>
                <a:lnTo>
                  <a:pt x="932" y="1116"/>
                </a:lnTo>
                <a:lnTo>
                  <a:pt x="926" y="1109"/>
                </a:lnTo>
                <a:lnTo>
                  <a:pt x="926" y="1109"/>
                </a:lnTo>
                <a:lnTo>
                  <a:pt x="919" y="1109"/>
                </a:lnTo>
                <a:lnTo>
                  <a:pt x="912" y="1102"/>
                </a:lnTo>
                <a:close/>
                <a:moveTo>
                  <a:pt x="343" y="1075"/>
                </a:moveTo>
                <a:lnTo>
                  <a:pt x="343" y="1075"/>
                </a:lnTo>
                <a:lnTo>
                  <a:pt x="336" y="1068"/>
                </a:lnTo>
                <a:lnTo>
                  <a:pt x="336" y="1068"/>
                </a:lnTo>
                <a:lnTo>
                  <a:pt x="329" y="1061"/>
                </a:lnTo>
                <a:lnTo>
                  <a:pt x="329" y="1061"/>
                </a:lnTo>
                <a:lnTo>
                  <a:pt x="322" y="1054"/>
                </a:lnTo>
                <a:lnTo>
                  <a:pt x="322" y="1047"/>
                </a:lnTo>
                <a:lnTo>
                  <a:pt x="322" y="1047"/>
                </a:lnTo>
                <a:lnTo>
                  <a:pt x="322" y="1047"/>
                </a:lnTo>
                <a:lnTo>
                  <a:pt x="322" y="1075"/>
                </a:lnTo>
                <a:lnTo>
                  <a:pt x="343" y="1075"/>
                </a:lnTo>
                <a:close/>
                <a:moveTo>
                  <a:pt x="295" y="1020"/>
                </a:moveTo>
                <a:lnTo>
                  <a:pt x="288" y="1013"/>
                </a:lnTo>
                <a:lnTo>
                  <a:pt x="288" y="1020"/>
                </a:lnTo>
                <a:lnTo>
                  <a:pt x="295" y="1020"/>
                </a:lnTo>
                <a:close/>
                <a:moveTo>
                  <a:pt x="274" y="992"/>
                </a:moveTo>
                <a:lnTo>
                  <a:pt x="261" y="972"/>
                </a:lnTo>
                <a:lnTo>
                  <a:pt x="261" y="992"/>
                </a:lnTo>
                <a:lnTo>
                  <a:pt x="274" y="992"/>
                </a:lnTo>
                <a:close/>
                <a:moveTo>
                  <a:pt x="254" y="958"/>
                </a:moveTo>
                <a:lnTo>
                  <a:pt x="233" y="938"/>
                </a:lnTo>
                <a:lnTo>
                  <a:pt x="233" y="958"/>
                </a:lnTo>
                <a:lnTo>
                  <a:pt x="254" y="958"/>
                </a:lnTo>
                <a:close/>
                <a:moveTo>
                  <a:pt x="987" y="958"/>
                </a:moveTo>
                <a:lnTo>
                  <a:pt x="987" y="958"/>
                </a:lnTo>
                <a:lnTo>
                  <a:pt x="987" y="958"/>
                </a:lnTo>
                <a:lnTo>
                  <a:pt x="980" y="958"/>
                </a:lnTo>
                <a:lnTo>
                  <a:pt x="980" y="965"/>
                </a:lnTo>
                <a:lnTo>
                  <a:pt x="980" y="965"/>
                </a:lnTo>
                <a:lnTo>
                  <a:pt x="980" y="972"/>
                </a:lnTo>
                <a:lnTo>
                  <a:pt x="980" y="972"/>
                </a:lnTo>
                <a:lnTo>
                  <a:pt x="987" y="979"/>
                </a:lnTo>
                <a:lnTo>
                  <a:pt x="987" y="979"/>
                </a:lnTo>
                <a:lnTo>
                  <a:pt x="987" y="979"/>
                </a:lnTo>
                <a:lnTo>
                  <a:pt x="987" y="972"/>
                </a:lnTo>
                <a:lnTo>
                  <a:pt x="987" y="972"/>
                </a:lnTo>
                <a:lnTo>
                  <a:pt x="987" y="965"/>
                </a:lnTo>
                <a:lnTo>
                  <a:pt x="987" y="958"/>
                </a:lnTo>
                <a:close/>
                <a:moveTo>
                  <a:pt x="226" y="931"/>
                </a:moveTo>
                <a:lnTo>
                  <a:pt x="226" y="924"/>
                </a:lnTo>
                <a:lnTo>
                  <a:pt x="219" y="924"/>
                </a:lnTo>
                <a:lnTo>
                  <a:pt x="213" y="917"/>
                </a:lnTo>
                <a:lnTo>
                  <a:pt x="213" y="910"/>
                </a:lnTo>
                <a:lnTo>
                  <a:pt x="206" y="904"/>
                </a:lnTo>
                <a:lnTo>
                  <a:pt x="206" y="904"/>
                </a:lnTo>
                <a:lnTo>
                  <a:pt x="199" y="897"/>
                </a:lnTo>
                <a:lnTo>
                  <a:pt x="192" y="890"/>
                </a:lnTo>
                <a:lnTo>
                  <a:pt x="192" y="883"/>
                </a:lnTo>
                <a:lnTo>
                  <a:pt x="185" y="883"/>
                </a:lnTo>
                <a:lnTo>
                  <a:pt x="185" y="876"/>
                </a:lnTo>
                <a:lnTo>
                  <a:pt x="178" y="869"/>
                </a:lnTo>
                <a:lnTo>
                  <a:pt x="171" y="862"/>
                </a:lnTo>
                <a:lnTo>
                  <a:pt x="171" y="862"/>
                </a:lnTo>
                <a:lnTo>
                  <a:pt x="165" y="856"/>
                </a:lnTo>
                <a:lnTo>
                  <a:pt x="165" y="849"/>
                </a:lnTo>
                <a:lnTo>
                  <a:pt x="158" y="842"/>
                </a:lnTo>
                <a:lnTo>
                  <a:pt x="151" y="842"/>
                </a:lnTo>
                <a:lnTo>
                  <a:pt x="151" y="835"/>
                </a:lnTo>
                <a:lnTo>
                  <a:pt x="144" y="828"/>
                </a:lnTo>
                <a:lnTo>
                  <a:pt x="144" y="842"/>
                </a:lnTo>
                <a:lnTo>
                  <a:pt x="144" y="876"/>
                </a:lnTo>
                <a:lnTo>
                  <a:pt x="171" y="904"/>
                </a:lnTo>
                <a:lnTo>
                  <a:pt x="206" y="931"/>
                </a:lnTo>
                <a:lnTo>
                  <a:pt x="226" y="931"/>
                </a:lnTo>
                <a:close/>
                <a:moveTo>
                  <a:pt x="1028" y="931"/>
                </a:moveTo>
                <a:lnTo>
                  <a:pt x="1035" y="924"/>
                </a:lnTo>
                <a:lnTo>
                  <a:pt x="1042" y="917"/>
                </a:lnTo>
                <a:lnTo>
                  <a:pt x="1049" y="917"/>
                </a:lnTo>
                <a:lnTo>
                  <a:pt x="1056" y="924"/>
                </a:lnTo>
                <a:lnTo>
                  <a:pt x="1070" y="924"/>
                </a:lnTo>
                <a:lnTo>
                  <a:pt x="1076" y="924"/>
                </a:lnTo>
                <a:lnTo>
                  <a:pt x="1083" y="924"/>
                </a:lnTo>
                <a:lnTo>
                  <a:pt x="1090" y="917"/>
                </a:lnTo>
                <a:lnTo>
                  <a:pt x="1097" y="910"/>
                </a:lnTo>
                <a:lnTo>
                  <a:pt x="1097" y="904"/>
                </a:lnTo>
                <a:lnTo>
                  <a:pt x="1097" y="897"/>
                </a:lnTo>
                <a:lnTo>
                  <a:pt x="1090" y="890"/>
                </a:lnTo>
                <a:lnTo>
                  <a:pt x="1090" y="890"/>
                </a:lnTo>
                <a:lnTo>
                  <a:pt x="1083" y="883"/>
                </a:lnTo>
                <a:lnTo>
                  <a:pt x="1076" y="876"/>
                </a:lnTo>
                <a:lnTo>
                  <a:pt x="1076" y="869"/>
                </a:lnTo>
                <a:lnTo>
                  <a:pt x="1076" y="862"/>
                </a:lnTo>
                <a:lnTo>
                  <a:pt x="1076" y="862"/>
                </a:lnTo>
                <a:lnTo>
                  <a:pt x="1076" y="856"/>
                </a:lnTo>
                <a:lnTo>
                  <a:pt x="1076" y="849"/>
                </a:lnTo>
                <a:lnTo>
                  <a:pt x="1070" y="842"/>
                </a:lnTo>
                <a:lnTo>
                  <a:pt x="1070" y="835"/>
                </a:lnTo>
                <a:lnTo>
                  <a:pt x="1070" y="828"/>
                </a:lnTo>
                <a:lnTo>
                  <a:pt x="1063" y="821"/>
                </a:lnTo>
                <a:lnTo>
                  <a:pt x="1063" y="815"/>
                </a:lnTo>
                <a:lnTo>
                  <a:pt x="1056" y="815"/>
                </a:lnTo>
                <a:lnTo>
                  <a:pt x="1056" y="808"/>
                </a:lnTo>
                <a:lnTo>
                  <a:pt x="1056" y="801"/>
                </a:lnTo>
                <a:lnTo>
                  <a:pt x="1056" y="794"/>
                </a:lnTo>
                <a:lnTo>
                  <a:pt x="1056" y="787"/>
                </a:lnTo>
                <a:lnTo>
                  <a:pt x="1056" y="780"/>
                </a:lnTo>
                <a:lnTo>
                  <a:pt x="1049" y="774"/>
                </a:lnTo>
                <a:lnTo>
                  <a:pt x="1049" y="774"/>
                </a:lnTo>
                <a:lnTo>
                  <a:pt x="1049" y="767"/>
                </a:lnTo>
                <a:lnTo>
                  <a:pt x="1049" y="760"/>
                </a:lnTo>
                <a:lnTo>
                  <a:pt x="1049" y="753"/>
                </a:lnTo>
                <a:lnTo>
                  <a:pt x="1049" y="746"/>
                </a:lnTo>
                <a:lnTo>
                  <a:pt x="1049" y="739"/>
                </a:lnTo>
                <a:lnTo>
                  <a:pt x="1049" y="732"/>
                </a:lnTo>
                <a:lnTo>
                  <a:pt x="1049" y="726"/>
                </a:lnTo>
                <a:lnTo>
                  <a:pt x="1042" y="726"/>
                </a:lnTo>
                <a:lnTo>
                  <a:pt x="1042" y="719"/>
                </a:lnTo>
                <a:lnTo>
                  <a:pt x="1042" y="712"/>
                </a:lnTo>
                <a:lnTo>
                  <a:pt x="1035" y="705"/>
                </a:lnTo>
                <a:lnTo>
                  <a:pt x="1035" y="698"/>
                </a:lnTo>
                <a:lnTo>
                  <a:pt x="1035" y="691"/>
                </a:lnTo>
                <a:lnTo>
                  <a:pt x="1028" y="685"/>
                </a:lnTo>
                <a:lnTo>
                  <a:pt x="1028" y="685"/>
                </a:lnTo>
                <a:lnTo>
                  <a:pt x="1028" y="678"/>
                </a:lnTo>
                <a:lnTo>
                  <a:pt x="1028" y="671"/>
                </a:lnTo>
                <a:lnTo>
                  <a:pt x="1022" y="664"/>
                </a:lnTo>
                <a:lnTo>
                  <a:pt x="1022" y="657"/>
                </a:lnTo>
                <a:lnTo>
                  <a:pt x="1022" y="650"/>
                </a:lnTo>
                <a:lnTo>
                  <a:pt x="1022" y="643"/>
                </a:lnTo>
                <a:lnTo>
                  <a:pt x="1022" y="637"/>
                </a:lnTo>
                <a:lnTo>
                  <a:pt x="1022" y="637"/>
                </a:lnTo>
                <a:lnTo>
                  <a:pt x="1022" y="630"/>
                </a:lnTo>
                <a:lnTo>
                  <a:pt x="1022" y="623"/>
                </a:lnTo>
                <a:lnTo>
                  <a:pt x="1022" y="616"/>
                </a:lnTo>
                <a:lnTo>
                  <a:pt x="1015" y="609"/>
                </a:lnTo>
                <a:lnTo>
                  <a:pt x="1015" y="602"/>
                </a:lnTo>
                <a:lnTo>
                  <a:pt x="1015" y="596"/>
                </a:lnTo>
                <a:lnTo>
                  <a:pt x="1008" y="596"/>
                </a:lnTo>
                <a:lnTo>
                  <a:pt x="1008" y="589"/>
                </a:lnTo>
                <a:lnTo>
                  <a:pt x="1008" y="582"/>
                </a:lnTo>
                <a:lnTo>
                  <a:pt x="1001" y="575"/>
                </a:lnTo>
                <a:lnTo>
                  <a:pt x="1001" y="568"/>
                </a:lnTo>
                <a:lnTo>
                  <a:pt x="1001" y="561"/>
                </a:lnTo>
                <a:lnTo>
                  <a:pt x="1001" y="555"/>
                </a:lnTo>
                <a:lnTo>
                  <a:pt x="994" y="555"/>
                </a:lnTo>
                <a:lnTo>
                  <a:pt x="994" y="548"/>
                </a:lnTo>
                <a:lnTo>
                  <a:pt x="987" y="541"/>
                </a:lnTo>
                <a:lnTo>
                  <a:pt x="980" y="534"/>
                </a:lnTo>
                <a:lnTo>
                  <a:pt x="980" y="527"/>
                </a:lnTo>
                <a:lnTo>
                  <a:pt x="974" y="527"/>
                </a:lnTo>
                <a:lnTo>
                  <a:pt x="974" y="520"/>
                </a:lnTo>
                <a:lnTo>
                  <a:pt x="967" y="513"/>
                </a:lnTo>
                <a:lnTo>
                  <a:pt x="967" y="507"/>
                </a:lnTo>
                <a:lnTo>
                  <a:pt x="960" y="500"/>
                </a:lnTo>
                <a:lnTo>
                  <a:pt x="960" y="500"/>
                </a:lnTo>
                <a:lnTo>
                  <a:pt x="960" y="493"/>
                </a:lnTo>
                <a:lnTo>
                  <a:pt x="967" y="500"/>
                </a:lnTo>
                <a:lnTo>
                  <a:pt x="974" y="500"/>
                </a:lnTo>
                <a:lnTo>
                  <a:pt x="980" y="507"/>
                </a:lnTo>
                <a:lnTo>
                  <a:pt x="994" y="507"/>
                </a:lnTo>
                <a:lnTo>
                  <a:pt x="994" y="513"/>
                </a:lnTo>
                <a:lnTo>
                  <a:pt x="1001" y="513"/>
                </a:lnTo>
                <a:lnTo>
                  <a:pt x="1008" y="520"/>
                </a:lnTo>
                <a:lnTo>
                  <a:pt x="1015" y="527"/>
                </a:lnTo>
                <a:lnTo>
                  <a:pt x="1022" y="527"/>
                </a:lnTo>
                <a:lnTo>
                  <a:pt x="1028" y="527"/>
                </a:lnTo>
                <a:lnTo>
                  <a:pt x="1035" y="520"/>
                </a:lnTo>
                <a:lnTo>
                  <a:pt x="1035" y="513"/>
                </a:lnTo>
                <a:lnTo>
                  <a:pt x="1028" y="507"/>
                </a:lnTo>
                <a:lnTo>
                  <a:pt x="1022" y="500"/>
                </a:lnTo>
                <a:lnTo>
                  <a:pt x="1022" y="493"/>
                </a:lnTo>
                <a:lnTo>
                  <a:pt x="1015" y="486"/>
                </a:lnTo>
                <a:lnTo>
                  <a:pt x="1015" y="486"/>
                </a:lnTo>
                <a:lnTo>
                  <a:pt x="1015" y="479"/>
                </a:lnTo>
                <a:lnTo>
                  <a:pt x="1015" y="472"/>
                </a:lnTo>
                <a:lnTo>
                  <a:pt x="1015" y="466"/>
                </a:lnTo>
                <a:lnTo>
                  <a:pt x="1008" y="459"/>
                </a:lnTo>
                <a:lnTo>
                  <a:pt x="1008" y="452"/>
                </a:lnTo>
                <a:lnTo>
                  <a:pt x="1008" y="445"/>
                </a:lnTo>
                <a:lnTo>
                  <a:pt x="1008" y="445"/>
                </a:lnTo>
                <a:lnTo>
                  <a:pt x="1008" y="438"/>
                </a:lnTo>
                <a:lnTo>
                  <a:pt x="1001" y="431"/>
                </a:lnTo>
                <a:lnTo>
                  <a:pt x="1001" y="425"/>
                </a:lnTo>
                <a:lnTo>
                  <a:pt x="1001" y="418"/>
                </a:lnTo>
                <a:lnTo>
                  <a:pt x="1001" y="411"/>
                </a:lnTo>
                <a:lnTo>
                  <a:pt x="994" y="404"/>
                </a:lnTo>
                <a:lnTo>
                  <a:pt x="994" y="397"/>
                </a:lnTo>
                <a:lnTo>
                  <a:pt x="994" y="397"/>
                </a:lnTo>
                <a:lnTo>
                  <a:pt x="987" y="390"/>
                </a:lnTo>
                <a:lnTo>
                  <a:pt x="987" y="383"/>
                </a:lnTo>
                <a:lnTo>
                  <a:pt x="987" y="377"/>
                </a:lnTo>
                <a:lnTo>
                  <a:pt x="994" y="370"/>
                </a:lnTo>
                <a:lnTo>
                  <a:pt x="994" y="363"/>
                </a:lnTo>
                <a:lnTo>
                  <a:pt x="1001" y="356"/>
                </a:lnTo>
                <a:lnTo>
                  <a:pt x="1001" y="356"/>
                </a:lnTo>
                <a:lnTo>
                  <a:pt x="1001" y="349"/>
                </a:lnTo>
                <a:lnTo>
                  <a:pt x="1001" y="342"/>
                </a:lnTo>
                <a:lnTo>
                  <a:pt x="1001" y="336"/>
                </a:lnTo>
                <a:lnTo>
                  <a:pt x="1001" y="329"/>
                </a:lnTo>
                <a:lnTo>
                  <a:pt x="1001" y="322"/>
                </a:lnTo>
                <a:lnTo>
                  <a:pt x="1001" y="315"/>
                </a:lnTo>
                <a:lnTo>
                  <a:pt x="1001" y="315"/>
                </a:lnTo>
                <a:lnTo>
                  <a:pt x="1001" y="308"/>
                </a:lnTo>
                <a:lnTo>
                  <a:pt x="1001" y="301"/>
                </a:lnTo>
                <a:lnTo>
                  <a:pt x="1001" y="295"/>
                </a:lnTo>
                <a:lnTo>
                  <a:pt x="987" y="288"/>
                </a:lnTo>
                <a:lnTo>
                  <a:pt x="980" y="288"/>
                </a:lnTo>
                <a:lnTo>
                  <a:pt x="980" y="295"/>
                </a:lnTo>
                <a:lnTo>
                  <a:pt x="980" y="301"/>
                </a:lnTo>
                <a:lnTo>
                  <a:pt x="980" y="308"/>
                </a:lnTo>
                <a:lnTo>
                  <a:pt x="980" y="315"/>
                </a:lnTo>
                <a:lnTo>
                  <a:pt x="980" y="322"/>
                </a:lnTo>
                <a:lnTo>
                  <a:pt x="974" y="322"/>
                </a:lnTo>
                <a:lnTo>
                  <a:pt x="967" y="329"/>
                </a:lnTo>
                <a:lnTo>
                  <a:pt x="960" y="329"/>
                </a:lnTo>
                <a:lnTo>
                  <a:pt x="953" y="336"/>
                </a:lnTo>
                <a:lnTo>
                  <a:pt x="946" y="336"/>
                </a:lnTo>
                <a:lnTo>
                  <a:pt x="939" y="342"/>
                </a:lnTo>
                <a:lnTo>
                  <a:pt x="932" y="349"/>
                </a:lnTo>
                <a:lnTo>
                  <a:pt x="926" y="349"/>
                </a:lnTo>
                <a:lnTo>
                  <a:pt x="926" y="342"/>
                </a:lnTo>
                <a:lnTo>
                  <a:pt x="926" y="336"/>
                </a:lnTo>
                <a:lnTo>
                  <a:pt x="932" y="329"/>
                </a:lnTo>
                <a:lnTo>
                  <a:pt x="932" y="329"/>
                </a:lnTo>
                <a:lnTo>
                  <a:pt x="932" y="322"/>
                </a:lnTo>
                <a:lnTo>
                  <a:pt x="932" y="315"/>
                </a:lnTo>
                <a:lnTo>
                  <a:pt x="932" y="308"/>
                </a:lnTo>
                <a:lnTo>
                  <a:pt x="932" y="301"/>
                </a:lnTo>
                <a:lnTo>
                  <a:pt x="939" y="295"/>
                </a:lnTo>
                <a:lnTo>
                  <a:pt x="946" y="295"/>
                </a:lnTo>
                <a:lnTo>
                  <a:pt x="946" y="288"/>
                </a:lnTo>
                <a:lnTo>
                  <a:pt x="953" y="281"/>
                </a:lnTo>
                <a:lnTo>
                  <a:pt x="960" y="274"/>
                </a:lnTo>
                <a:lnTo>
                  <a:pt x="967" y="274"/>
                </a:lnTo>
                <a:lnTo>
                  <a:pt x="974" y="267"/>
                </a:lnTo>
                <a:lnTo>
                  <a:pt x="974" y="260"/>
                </a:lnTo>
                <a:lnTo>
                  <a:pt x="980" y="260"/>
                </a:lnTo>
                <a:lnTo>
                  <a:pt x="987" y="253"/>
                </a:lnTo>
                <a:lnTo>
                  <a:pt x="994" y="247"/>
                </a:lnTo>
                <a:lnTo>
                  <a:pt x="994" y="240"/>
                </a:lnTo>
                <a:lnTo>
                  <a:pt x="1001" y="240"/>
                </a:lnTo>
                <a:lnTo>
                  <a:pt x="1008" y="233"/>
                </a:lnTo>
                <a:lnTo>
                  <a:pt x="1015" y="226"/>
                </a:lnTo>
                <a:lnTo>
                  <a:pt x="1015" y="219"/>
                </a:lnTo>
                <a:lnTo>
                  <a:pt x="1022" y="219"/>
                </a:lnTo>
                <a:lnTo>
                  <a:pt x="1028" y="212"/>
                </a:lnTo>
                <a:lnTo>
                  <a:pt x="1035" y="206"/>
                </a:lnTo>
                <a:lnTo>
                  <a:pt x="1035" y="206"/>
                </a:lnTo>
                <a:lnTo>
                  <a:pt x="1042" y="199"/>
                </a:lnTo>
                <a:lnTo>
                  <a:pt x="1042" y="192"/>
                </a:lnTo>
                <a:lnTo>
                  <a:pt x="1049" y="185"/>
                </a:lnTo>
                <a:lnTo>
                  <a:pt x="1056" y="185"/>
                </a:lnTo>
                <a:lnTo>
                  <a:pt x="1070" y="178"/>
                </a:lnTo>
                <a:lnTo>
                  <a:pt x="1076" y="178"/>
                </a:lnTo>
                <a:lnTo>
                  <a:pt x="1083" y="178"/>
                </a:lnTo>
                <a:lnTo>
                  <a:pt x="1090" y="171"/>
                </a:lnTo>
                <a:lnTo>
                  <a:pt x="1104" y="171"/>
                </a:lnTo>
                <a:lnTo>
                  <a:pt x="1111" y="171"/>
                </a:lnTo>
                <a:lnTo>
                  <a:pt x="1117" y="165"/>
                </a:lnTo>
                <a:lnTo>
                  <a:pt x="1124" y="165"/>
                </a:lnTo>
                <a:lnTo>
                  <a:pt x="1138" y="158"/>
                </a:lnTo>
                <a:lnTo>
                  <a:pt x="1145" y="158"/>
                </a:lnTo>
                <a:lnTo>
                  <a:pt x="1152" y="158"/>
                </a:lnTo>
                <a:lnTo>
                  <a:pt x="1159" y="158"/>
                </a:lnTo>
                <a:lnTo>
                  <a:pt x="1172" y="158"/>
                </a:lnTo>
                <a:lnTo>
                  <a:pt x="1179" y="151"/>
                </a:lnTo>
                <a:lnTo>
                  <a:pt x="1186" y="151"/>
                </a:lnTo>
                <a:lnTo>
                  <a:pt x="1193" y="144"/>
                </a:lnTo>
                <a:lnTo>
                  <a:pt x="1200" y="144"/>
                </a:lnTo>
                <a:lnTo>
                  <a:pt x="1213" y="144"/>
                </a:lnTo>
                <a:lnTo>
                  <a:pt x="1220" y="137"/>
                </a:lnTo>
                <a:lnTo>
                  <a:pt x="1227" y="137"/>
                </a:lnTo>
                <a:lnTo>
                  <a:pt x="1234" y="130"/>
                </a:lnTo>
                <a:lnTo>
                  <a:pt x="1248" y="130"/>
                </a:lnTo>
                <a:lnTo>
                  <a:pt x="1255" y="130"/>
                </a:lnTo>
                <a:lnTo>
                  <a:pt x="1261" y="130"/>
                </a:lnTo>
                <a:lnTo>
                  <a:pt x="1275" y="130"/>
                </a:lnTo>
                <a:lnTo>
                  <a:pt x="1282" y="123"/>
                </a:lnTo>
                <a:lnTo>
                  <a:pt x="1289" y="123"/>
                </a:lnTo>
                <a:lnTo>
                  <a:pt x="1296" y="117"/>
                </a:lnTo>
                <a:lnTo>
                  <a:pt x="1303" y="117"/>
                </a:lnTo>
                <a:lnTo>
                  <a:pt x="1309" y="117"/>
                </a:lnTo>
                <a:lnTo>
                  <a:pt x="1323" y="110"/>
                </a:lnTo>
                <a:lnTo>
                  <a:pt x="1330" y="110"/>
                </a:lnTo>
                <a:lnTo>
                  <a:pt x="1337" y="103"/>
                </a:lnTo>
                <a:lnTo>
                  <a:pt x="1344" y="103"/>
                </a:lnTo>
                <a:lnTo>
                  <a:pt x="1357" y="103"/>
                </a:lnTo>
                <a:lnTo>
                  <a:pt x="1364" y="103"/>
                </a:lnTo>
                <a:lnTo>
                  <a:pt x="1371" y="103"/>
                </a:lnTo>
                <a:lnTo>
                  <a:pt x="1385" y="110"/>
                </a:lnTo>
                <a:lnTo>
                  <a:pt x="1392" y="110"/>
                </a:lnTo>
                <a:lnTo>
                  <a:pt x="1399" y="103"/>
                </a:lnTo>
                <a:lnTo>
                  <a:pt x="1399" y="96"/>
                </a:lnTo>
                <a:lnTo>
                  <a:pt x="1405" y="89"/>
                </a:lnTo>
                <a:lnTo>
                  <a:pt x="1405" y="89"/>
                </a:lnTo>
                <a:lnTo>
                  <a:pt x="1419" y="82"/>
                </a:lnTo>
                <a:lnTo>
                  <a:pt x="1426" y="82"/>
                </a:lnTo>
                <a:lnTo>
                  <a:pt x="1433" y="76"/>
                </a:lnTo>
                <a:lnTo>
                  <a:pt x="1440" y="76"/>
                </a:lnTo>
                <a:lnTo>
                  <a:pt x="1453" y="76"/>
                </a:lnTo>
                <a:lnTo>
                  <a:pt x="1460" y="76"/>
                </a:lnTo>
                <a:lnTo>
                  <a:pt x="1467" y="76"/>
                </a:lnTo>
                <a:lnTo>
                  <a:pt x="1474" y="82"/>
                </a:lnTo>
                <a:lnTo>
                  <a:pt x="1488" y="82"/>
                </a:lnTo>
                <a:lnTo>
                  <a:pt x="1495" y="82"/>
                </a:lnTo>
                <a:lnTo>
                  <a:pt x="1501" y="89"/>
                </a:lnTo>
                <a:lnTo>
                  <a:pt x="1508" y="89"/>
                </a:lnTo>
                <a:lnTo>
                  <a:pt x="1515" y="89"/>
                </a:lnTo>
                <a:lnTo>
                  <a:pt x="1522" y="82"/>
                </a:lnTo>
                <a:lnTo>
                  <a:pt x="1522" y="76"/>
                </a:lnTo>
                <a:lnTo>
                  <a:pt x="1515" y="69"/>
                </a:lnTo>
                <a:lnTo>
                  <a:pt x="1515" y="62"/>
                </a:lnTo>
                <a:lnTo>
                  <a:pt x="1508" y="62"/>
                </a:lnTo>
                <a:lnTo>
                  <a:pt x="1515" y="55"/>
                </a:lnTo>
                <a:lnTo>
                  <a:pt x="1522" y="48"/>
                </a:lnTo>
                <a:lnTo>
                  <a:pt x="1536" y="48"/>
                </a:lnTo>
                <a:lnTo>
                  <a:pt x="1543" y="48"/>
                </a:lnTo>
                <a:lnTo>
                  <a:pt x="1556" y="48"/>
                </a:lnTo>
                <a:lnTo>
                  <a:pt x="1563" y="48"/>
                </a:lnTo>
                <a:lnTo>
                  <a:pt x="1570" y="48"/>
                </a:lnTo>
                <a:lnTo>
                  <a:pt x="1577" y="55"/>
                </a:lnTo>
                <a:lnTo>
                  <a:pt x="1584" y="55"/>
                </a:lnTo>
                <a:lnTo>
                  <a:pt x="1591" y="62"/>
                </a:lnTo>
                <a:lnTo>
                  <a:pt x="1597" y="55"/>
                </a:lnTo>
                <a:lnTo>
                  <a:pt x="1604" y="48"/>
                </a:lnTo>
                <a:lnTo>
                  <a:pt x="1604" y="41"/>
                </a:lnTo>
                <a:lnTo>
                  <a:pt x="1611" y="41"/>
                </a:lnTo>
                <a:lnTo>
                  <a:pt x="1611" y="34"/>
                </a:lnTo>
                <a:lnTo>
                  <a:pt x="1618" y="28"/>
                </a:lnTo>
                <a:lnTo>
                  <a:pt x="1625" y="21"/>
                </a:lnTo>
                <a:lnTo>
                  <a:pt x="1632" y="21"/>
                </a:lnTo>
                <a:lnTo>
                  <a:pt x="1639" y="14"/>
                </a:lnTo>
                <a:lnTo>
                  <a:pt x="1645" y="14"/>
                </a:lnTo>
                <a:lnTo>
                  <a:pt x="1652" y="14"/>
                </a:lnTo>
                <a:lnTo>
                  <a:pt x="1666" y="14"/>
                </a:lnTo>
                <a:lnTo>
                  <a:pt x="1673" y="14"/>
                </a:lnTo>
                <a:lnTo>
                  <a:pt x="1680" y="14"/>
                </a:lnTo>
                <a:lnTo>
                  <a:pt x="1687" y="14"/>
                </a:lnTo>
                <a:lnTo>
                  <a:pt x="1693" y="7"/>
                </a:lnTo>
                <a:lnTo>
                  <a:pt x="1700" y="7"/>
                </a:lnTo>
                <a:lnTo>
                  <a:pt x="1714" y="0"/>
                </a:lnTo>
                <a:lnTo>
                  <a:pt x="1707" y="0"/>
                </a:lnTo>
                <a:lnTo>
                  <a:pt x="1680" y="0"/>
                </a:lnTo>
                <a:lnTo>
                  <a:pt x="1652" y="0"/>
                </a:lnTo>
                <a:lnTo>
                  <a:pt x="1625" y="0"/>
                </a:lnTo>
                <a:lnTo>
                  <a:pt x="1591" y="0"/>
                </a:lnTo>
                <a:lnTo>
                  <a:pt x="1563" y="0"/>
                </a:lnTo>
                <a:lnTo>
                  <a:pt x="1536" y="0"/>
                </a:lnTo>
                <a:lnTo>
                  <a:pt x="1508" y="0"/>
                </a:lnTo>
                <a:lnTo>
                  <a:pt x="1474" y="0"/>
                </a:lnTo>
                <a:lnTo>
                  <a:pt x="1447" y="0"/>
                </a:lnTo>
                <a:lnTo>
                  <a:pt x="1419" y="0"/>
                </a:lnTo>
                <a:lnTo>
                  <a:pt x="1392" y="0"/>
                </a:lnTo>
                <a:lnTo>
                  <a:pt x="1364" y="0"/>
                </a:lnTo>
                <a:lnTo>
                  <a:pt x="1330" y="0"/>
                </a:lnTo>
                <a:lnTo>
                  <a:pt x="1303" y="0"/>
                </a:lnTo>
                <a:lnTo>
                  <a:pt x="1275" y="0"/>
                </a:lnTo>
                <a:lnTo>
                  <a:pt x="1248" y="0"/>
                </a:lnTo>
                <a:lnTo>
                  <a:pt x="1213" y="0"/>
                </a:lnTo>
                <a:lnTo>
                  <a:pt x="1186" y="0"/>
                </a:lnTo>
                <a:lnTo>
                  <a:pt x="1159" y="0"/>
                </a:lnTo>
                <a:lnTo>
                  <a:pt x="1131" y="0"/>
                </a:lnTo>
                <a:lnTo>
                  <a:pt x="1104" y="0"/>
                </a:lnTo>
                <a:lnTo>
                  <a:pt x="1070" y="0"/>
                </a:lnTo>
                <a:lnTo>
                  <a:pt x="1042" y="0"/>
                </a:lnTo>
                <a:lnTo>
                  <a:pt x="1015" y="0"/>
                </a:lnTo>
                <a:lnTo>
                  <a:pt x="987" y="0"/>
                </a:lnTo>
                <a:lnTo>
                  <a:pt x="953" y="0"/>
                </a:lnTo>
                <a:lnTo>
                  <a:pt x="926" y="0"/>
                </a:lnTo>
                <a:lnTo>
                  <a:pt x="898" y="0"/>
                </a:lnTo>
                <a:lnTo>
                  <a:pt x="871" y="0"/>
                </a:lnTo>
                <a:lnTo>
                  <a:pt x="843" y="0"/>
                </a:lnTo>
                <a:lnTo>
                  <a:pt x="809" y="0"/>
                </a:lnTo>
                <a:lnTo>
                  <a:pt x="782" y="0"/>
                </a:lnTo>
                <a:lnTo>
                  <a:pt x="754" y="0"/>
                </a:lnTo>
                <a:lnTo>
                  <a:pt x="727" y="0"/>
                </a:lnTo>
                <a:lnTo>
                  <a:pt x="692" y="0"/>
                </a:lnTo>
                <a:lnTo>
                  <a:pt x="665" y="0"/>
                </a:lnTo>
                <a:lnTo>
                  <a:pt x="638" y="28"/>
                </a:lnTo>
                <a:lnTo>
                  <a:pt x="610" y="62"/>
                </a:lnTo>
                <a:lnTo>
                  <a:pt x="583" y="89"/>
                </a:lnTo>
                <a:lnTo>
                  <a:pt x="548" y="117"/>
                </a:lnTo>
                <a:lnTo>
                  <a:pt x="521" y="144"/>
                </a:lnTo>
                <a:lnTo>
                  <a:pt x="494" y="144"/>
                </a:lnTo>
                <a:lnTo>
                  <a:pt x="466" y="178"/>
                </a:lnTo>
                <a:lnTo>
                  <a:pt x="432" y="206"/>
                </a:lnTo>
                <a:lnTo>
                  <a:pt x="404" y="233"/>
                </a:lnTo>
                <a:lnTo>
                  <a:pt x="377" y="260"/>
                </a:lnTo>
                <a:lnTo>
                  <a:pt x="350" y="295"/>
                </a:lnTo>
                <a:lnTo>
                  <a:pt x="322" y="322"/>
                </a:lnTo>
                <a:lnTo>
                  <a:pt x="288" y="349"/>
                </a:lnTo>
                <a:lnTo>
                  <a:pt x="261" y="349"/>
                </a:lnTo>
                <a:lnTo>
                  <a:pt x="233" y="377"/>
                </a:lnTo>
                <a:lnTo>
                  <a:pt x="233" y="397"/>
                </a:lnTo>
                <a:lnTo>
                  <a:pt x="240" y="404"/>
                </a:lnTo>
                <a:lnTo>
                  <a:pt x="254" y="404"/>
                </a:lnTo>
                <a:lnTo>
                  <a:pt x="254" y="411"/>
                </a:lnTo>
                <a:lnTo>
                  <a:pt x="254" y="411"/>
                </a:lnTo>
                <a:lnTo>
                  <a:pt x="247" y="418"/>
                </a:lnTo>
                <a:lnTo>
                  <a:pt x="247" y="425"/>
                </a:lnTo>
                <a:lnTo>
                  <a:pt x="240" y="431"/>
                </a:lnTo>
                <a:lnTo>
                  <a:pt x="233" y="431"/>
                </a:lnTo>
                <a:lnTo>
                  <a:pt x="226" y="438"/>
                </a:lnTo>
                <a:lnTo>
                  <a:pt x="219" y="445"/>
                </a:lnTo>
                <a:lnTo>
                  <a:pt x="213" y="452"/>
                </a:lnTo>
                <a:lnTo>
                  <a:pt x="213" y="452"/>
                </a:lnTo>
                <a:lnTo>
                  <a:pt x="206" y="459"/>
                </a:lnTo>
                <a:lnTo>
                  <a:pt x="199" y="459"/>
                </a:lnTo>
                <a:lnTo>
                  <a:pt x="199" y="452"/>
                </a:lnTo>
                <a:lnTo>
                  <a:pt x="192" y="445"/>
                </a:lnTo>
                <a:lnTo>
                  <a:pt x="192" y="438"/>
                </a:lnTo>
                <a:lnTo>
                  <a:pt x="171" y="438"/>
                </a:lnTo>
                <a:lnTo>
                  <a:pt x="144" y="466"/>
                </a:lnTo>
                <a:lnTo>
                  <a:pt x="117" y="493"/>
                </a:lnTo>
                <a:lnTo>
                  <a:pt x="89" y="527"/>
                </a:lnTo>
                <a:lnTo>
                  <a:pt x="62" y="555"/>
                </a:lnTo>
                <a:lnTo>
                  <a:pt x="27" y="555"/>
                </a:lnTo>
                <a:lnTo>
                  <a:pt x="0" y="582"/>
                </a:lnTo>
                <a:lnTo>
                  <a:pt x="0" y="609"/>
                </a:lnTo>
                <a:lnTo>
                  <a:pt x="0" y="643"/>
                </a:lnTo>
                <a:lnTo>
                  <a:pt x="0" y="671"/>
                </a:lnTo>
                <a:lnTo>
                  <a:pt x="27" y="671"/>
                </a:lnTo>
                <a:lnTo>
                  <a:pt x="27" y="671"/>
                </a:lnTo>
                <a:lnTo>
                  <a:pt x="27" y="664"/>
                </a:lnTo>
                <a:lnTo>
                  <a:pt x="27" y="664"/>
                </a:lnTo>
                <a:lnTo>
                  <a:pt x="27" y="664"/>
                </a:lnTo>
                <a:lnTo>
                  <a:pt x="27" y="664"/>
                </a:lnTo>
                <a:lnTo>
                  <a:pt x="34" y="664"/>
                </a:lnTo>
                <a:lnTo>
                  <a:pt x="34" y="664"/>
                </a:lnTo>
                <a:lnTo>
                  <a:pt x="34" y="671"/>
                </a:lnTo>
                <a:lnTo>
                  <a:pt x="34" y="671"/>
                </a:lnTo>
                <a:lnTo>
                  <a:pt x="34" y="671"/>
                </a:lnTo>
                <a:lnTo>
                  <a:pt x="27" y="671"/>
                </a:lnTo>
                <a:lnTo>
                  <a:pt x="27" y="698"/>
                </a:lnTo>
                <a:lnTo>
                  <a:pt x="27" y="726"/>
                </a:lnTo>
                <a:lnTo>
                  <a:pt x="62" y="760"/>
                </a:lnTo>
                <a:lnTo>
                  <a:pt x="89" y="787"/>
                </a:lnTo>
                <a:lnTo>
                  <a:pt x="110" y="787"/>
                </a:lnTo>
                <a:lnTo>
                  <a:pt x="117" y="780"/>
                </a:lnTo>
                <a:lnTo>
                  <a:pt x="117" y="774"/>
                </a:lnTo>
                <a:lnTo>
                  <a:pt x="123" y="774"/>
                </a:lnTo>
                <a:lnTo>
                  <a:pt x="130" y="767"/>
                </a:lnTo>
                <a:lnTo>
                  <a:pt x="130" y="760"/>
                </a:lnTo>
                <a:lnTo>
                  <a:pt x="137" y="753"/>
                </a:lnTo>
                <a:lnTo>
                  <a:pt x="144" y="753"/>
                </a:lnTo>
                <a:lnTo>
                  <a:pt x="151" y="753"/>
                </a:lnTo>
                <a:lnTo>
                  <a:pt x="165" y="753"/>
                </a:lnTo>
                <a:lnTo>
                  <a:pt x="171" y="753"/>
                </a:lnTo>
                <a:lnTo>
                  <a:pt x="178" y="753"/>
                </a:lnTo>
                <a:lnTo>
                  <a:pt x="192" y="753"/>
                </a:lnTo>
                <a:lnTo>
                  <a:pt x="199" y="753"/>
                </a:lnTo>
                <a:lnTo>
                  <a:pt x="206" y="753"/>
                </a:lnTo>
                <a:lnTo>
                  <a:pt x="213" y="760"/>
                </a:lnTo>
                <a:lnTo>
                  <a:pt x="219" y="767"/>
                </a:lnTo>
                <a:lnTo>
                  <a:pt x="219" y="774"/>
                </a:lnTo>
                <a:lnTo>
                  <a:pt x="226" y="780"/>
                </a:lnTo>
                <a:lnTo>
                  <a:pt x="226" y="780"/>
                </a:lnTo>
                <a:lnTo>
                  <a:pt x="233" y="787"/>
                </a:lnTo>
                <a:lnTo>
                  <a:pt x="240" y="780"/>
                </a:lnTo>
                <a:lnTo>
                  <a:pt x="247" y="780"/>
                </a:lnTo>
                <a:lnTo>
                  <a:pt x="261" y="780"/>
                </a:lnTo>
                <a:lnTo>
                  <a:pt x="267" y="780"/>
                </a:lnTo>
                <a:lnTo>
                  <a:pt x="267" y="787"/>
                </a:lnTo>
                <a:lnTo>
                  <a:pt x="261" y="794"/>
                </a:lnTo>
                <a:lnTo>
                  <a:pt x="254" y="801"/>
                </a:lnTo>
                <a:lnTo>
                  <a:pt x="247" y="801"/>
                </a:lnTo>
                <a:lnTo>
                  <a:pt x="247" y="808"/>
                </a:lnTo>
                <a:lnTo>
                  <a:pt x="247" y="815"/>
                </a:lnTo>
                <a:lnTo>
                  <a:pt x="254" y="821"/>
                </a:lnTo>
                <a:lnTo>
                  <a:pt x="254" y="828"/>
                </a:lnTo>
                <a:lnTo>
                  <a:pt x="261" y="828"/>
                </a:lnTo>
                <a:lnTo>
                  <a:pt x="274" y="828"/>
                </a:lnTo>
                <a:lnTo>
                  <a:pt x="281" y="821"/>
                </a:lnTo>
                <a:lnTo>
                  <a:pt x="288" y="821"/>
                </a:lnTo>
                <a:lnTo>
                  <a:pt x="295" y="815"/>
                </a:lnTo>
                <a:lnTo>
                  <a:pt x="302" y="815"/>
                </a:lnTo>
                <a:lnTo>
                  <a:pt x="308" y="808"/>
                </a:lnTo>
                <a:lnTo>
                  <a:pt x="315" y="801"/>
                </a:lnTo>
                <a:lnTo>
                  <a:pt x="322" y="801"/>
                </a:lnTo>
                <a:lnTo>
                  <a:pt x="329" y="801"/>
                </a:lnTo>
                <a:lnTo>
                  <a:pt x="336" y="801"/>
                </a:lnTo>
                <a:lnTo>
                  <a:pt x="350" y="801"/>
                </a:lnTo>
                <a:lnTo>
                  <a:pt x="356" y="801"/>
                </a:lnTo>
                <a:lnTo>
                  <a:pt x="363" y="801"/>
                </a:lnTo>
                <a:lnTo>
                  <a:pt x="377" y="801"/>
                </a:lnTo>
                <a:lnTo>
                  <a:pt x="384" y="801"/>
                </a:lnTo>
                <a:lnTo>
                  <a:pt x="391" y="808"/>
                </a:lnTo>
                <a:lnTo>
                  <a:pt x="398" y="815"/>
                </a:lnTo>
                <a:lnTo>
                  <a:pt x="398" y="815"/>
                </a:lnTo>
                <a:lnTo>
                  <a:pt x="398" y="821"/>
                </a:lnTo>
                <a:lnTo>
                  <a:pt x="391" y="828"/>
                </a:lnTo>
                <a:lnTo>
                  <a:pt x="391" y="835"/>
                </a:lnTo>
                <a:lnTo>
                  <a:pt x="384" y="835"/>
                </a:lnTo>
                <a:lnTo>
                  <a:pt x="377" y="842"/>
                </a:lnTo>
                <a:lnTo>
                  <a:pt x="377" y="849"/>
                </a:lnTo>
                <a:lnTo>
                  <a:pt x="377" y="856"/>
                </a:lnTo>
                <a:lnTo>
                  <a:pt x="370" y="862"/>
                </a:lnTo>
                <a:lnTo>
                  <a:pt x="370" y="862"/>
                </a:lnTo>
                <a:lnTo>
                  <a:pt x="370" y="869"/>
                </a:lnTo>
                <a:lnTo>
                  <a:pt x="370" y="876"/>
                </a:lnTo>
                <a:lnTo>
                  <a:pt x="377" y="883"/>
                </a:lnTo>
                <a:lnTo>
                  <a:pt x="384" y="883"/>
                </a:lnTo>
                <a:lnTo>
                  <a:pt x="384" y="890"/>
                </a:lnTo>
                <a:lnTo>
                  <a:pt x="391" y="897"/>
                </a:lnTo>
                <a:lnTo>
                  <a:pt x="391" y="904"/>
                </a:lnTo>
                <a:lnTo>
                  <a:pt x="398" y="904"/>
                </a:lnTo>
                <a:lnTo>
                  <a:pt x="404" y="910"/>
                </a:lnTo>
                <a:lnTo>
                  <a:pt x="411" y="910"/>
                </a:lnTo>
                <a:lnTo>
                  <a:pt x="418" y="917"/>
                </a:lnTo>
                <a:lnTo>
                  <a:pt x="432" y="910"/>
                </a:lnTo>
                <a:lnTo>
                  <a:pt x="439" y="910"/>
                </a:lnTo>
                <a:lnTo>
                  <a:pt x="446" y="904"/>
                </a:lnTo>
                <a:lnTo>
                  <a:pt x="452" y="904"/>
                </a:lnTo>
                <a:lnTo>
                  <a:pt x="452" y="897"/>
                </a:lnTo>
                <a:lnTo>
                  <a:pt x="459" y="890"/>
                </a:lnTo>
                <a:lnTo>
                  <a:pt x="466" y="890"/>
                </a:lnTo>
                <a:lnTo>
                  <a:pt x="473" y="883"/>
                </a:lnTo>
                <a:lnTo>
                  <a:pt x="480" y="883"/>
                </a:lnTo>
                <a:lnTo>
                  <a:pt x="487" y="876"/>
                </a:lnTo>
                <a:lnTo>
                  <a:pt x="494" y="869"/>
                </a:lnTo>
                <a:lnTo>
                  <a:pt x="494" y="869"/>
                </a:lnTo>
                <a:lnTo>
                  <a:pt x="500" y="862"/>
                </a:lnTo>
                <a:lnTo>
                  <a:pt x="507" y="856"/>
                </a:lnTo>
                <a:lnTo>
                  <a:pt x="514" y="856"/>
                </a:lnTo>
                <a:lnTo>
                  <a:pt x="521" y="849"/>
                </a:lnTo>
                <a:lnTo>
                  <a:pt x="528" y="849"/>
                </a:lnTo>
                <a:lnTo>
                  <a:pt x="535" y="842"/>
                </a:lnTo>
                <a:lnTo>
                  <a:pt x="542" y="842"/>
                </a:lnTo>
                <a:lnTo>
                  <a:pt x="548" y="835"/>
                </a:lnTo>
                <a:lnTo>
                  <a:pt x="555" y="835"/>
                </a:lnTo>
                <a:lnTo>
                  <a:pt x="569" y="835"/>
                </a:lnTo>
                <a:lnTo>
                  <a:pt x="576" y="835"/>
                </a:lnTo>
                <a:lnTo>
                  <a:pt x="583" y="828"/>
                </a:lnTo>
                <a:lnTo>
                  <a:pt x="590" y="828"/>
                </a:lnTo>
                <a:lnTo>
                  <a:pt x="596" y="821"/>
                </a:lnTo>
                <a:lnTo>
                  <a:pt x="603" y="821"/>
                </a:lnTo>
                <a:lnTo>
                  <a:pt x="610" y="815"/>
                </a:lnTo>
                <a:lnTo>
                  <a:pt x="617" y="815"/>
                </a:lnTo>
                <a:lnTo>
                  <a:pt x="624" y="808"/>
                </a:lnTo>
                <a:lnTo>
                  <a:pt x="638" y="808"/>
                </a:lnTo>
                <a:lnTo>
                  <a:pt x="644" y="801"/>
                </a:lnTo>
                <a:lnTo>
                  <a:pt x="644" y="801"/>
                </a:lnTo>
                <a:lnTo>
                  <a:pt x="651" y="794"/>
                </a:lnTo>
                <a:lnTo>
                  <a:pt x="658" y="787"/>
                </a:lnTo>
                <a:lnTo>
                  <a:pt x="658" y="780"/>
                </a:lnTo>
                <a:lnTo>
                  <a:pt x="658" y="780"/>
                </a:lnTo>
                <a:lnTo>
                  <a:pt x="651" y="774"/>
                </a:lnTo>
                <a:lnTo>
                  <a:pt x="651" y="767"/>
                </a:lnTo>
                <a:lnTo>
                  <a:pt x="651" y="760"/>
                </a:lnTo>
                <a:lnTo>
                  <a:pt x="651" y="753"/>
                </a:lnTo>
                <a:lnTo>
                  <a:pt x="651" y="746"/>
                </a:lnTo>
                <a:lnTo>
                  <a:pt x="651" y="746"/>
                </a:lnTo>
                <a:lnTo>
                  <a:pt x="658" y="739"/>
                </a:lnTo>
                <a:lnTo>
                  <a:pt x="658" y="732"/>
                </a:lnTo>
                <a:lnTo>
                  <a:pt x="665" y="726"/>
                </a:lnTo>
                <a:lnTo>
                  <a:pt x="665" y="719"/>
                </a:lnTo>
                <a:lnTo>
                  <a:pt x="665" y="712"/>
                </a:lnTo>
                <a:lnTo>
                  <a:pt x="658" y="712"/>
                </a:lnTo>
                <a:lnTo>
                  <a:pt x="658" y="705"/>
                </a:lnTo>
                <a:lnTo>
                  <a:pt x="658" y="698"/>
                </a:lnTo>
                <a:lnTo>
                  <a:pt x="665" y="691"/>
                </a:lnTo>
                <a:lnTo>
                  <a:pt x="665" y="685"/>
                </a:lnTo>
                <a:lnTo>
                  <a:pt x="672" y="685"/>
                </a:lnTo>
                <a:lnTo>
                  <a:pt x="686" y="678"/>
                </a:lnTo>
                <a:lnTo>
                  <a:pt x="692" y="678"/>
                </a:lnTo>
                <a:lnTo>
                  <a:pt x="699" y="678"/>
                </a:lnTo>
                <a:lnTo>
                  <a:pt x="706" y="685"/>
                </a:lnTo>
                <a:lnTo>
                  <a:pt x="706" y="685"/>
                </a:lnTo>
                <a:lnTo>
                  <a:pt x="713" y="691"/>
                </a:lnTo>
                <a:lnTo>
                  <a:pt x="713" y="698"/>
                </a:lnTo>
                <a:lnTo>
                  <a:pt x="720" y="705"/>
                </a:lnTo>
                <a:lnTo>
                  <a:pt x="720" y="712"/>
                </a:lnTo>
                <a:lnTo>
                  <a:pt x="727" y="712"/>
                </a:lnTo>
                <a:lnTo>
                  <a:pt x="734" y="719"/>
                </a:lnTo>
                <a:lnTo>
                  <a:pt x="734" y="726"/>
                </a:lnTo>
                <a:lnTo>
                  <a:pt x="740" y="732"/>
                </a:lnTo>
                <a:lnTo>
                  <a:pt x="740" y="732"/>
                </a:lnTo>
                <a:lnTo>
                  <a:pt x="740" y="739"/>
                </a:lnTo>
                <a:lnTo>
                  <a:pt x="740" y="746"/>
                </a:lnTo>
                <a:lnTo>
                  <a:pt x="740" y="753"/>
                </a:lnTo>
                <a:lnTo>
                  <a:pt x="747" y="760"/>
                </a:lnTo>
                <a:lnTo>
                  <a:pt x="747" y="767"/>
                </a:lnTo>
                <a:lnTo>
                  <a:pt x="754" y="767"/>
                </a:lnTo>
                <a:lnTo>
                  <a:pt x="761" y="767"/>
                </a:lnTo>
                <a:lnTo>
                  <a:pt x="775" y="767"/>
                </a:lnTo>
                <a:lnTo>
                  <a:pt x="782" y="767"/>
                </a:lnTo>
                <a:lnTo>
                  <a:pt x="788" y="774"/>
                </a:lnTo>
                <a:lnTo>
                  <a:pt x="788" y="780"/>
                </a:lnTo>
                <a:lnTo>
                  <a:pt x="795" y="780"/>
                </a:lnTo>
                <a:lnTo>
                  <a:pt x="802" y="787"/>
                </a:lnTo>
                <a:lnTo>
                  <a:pt x="809" y="794"/>
                </a:lnTo>
                <a:lnTo>
                  <a:pt x="816" y="794"/>
                </a:lnTo>
                <a:lnTo>
                  <a:pt x="816" y="801"/>
                </a:lnTo>
                <a:lnTo>
                  <a:pt x="823" y="808"/>
                </a:lnTo>
                <a:lnTo>
                  <a:pt x="830" y="808"/>
                </a:lnTo>
                <a:lnTo>
                  <a:pt x="836" y="815"/>
                </a:lnTo>
                <a:lnTo>
                  <a:pt x="843" y="815"/>
                </a:lnTo>
                <a:lnTo>
                  <a:pt x="850" y="821"/>
                </a:lnTo>
                <a:lnTo>
                  <a:pt x="857" y="828"/>
                </a:lnTo>
                <a:lnTo>
                  <a:pt x="864" y="828"/>
                </a:lnTo>
                <a:lnTo>
                  <a:pt x="871" y="835"/>
                </a:lnTo>
                <a:lnTo>
                  <a:pt x="871" y="835"/>
                </a:lnTo>
                <a:lnTo>
                  <a:pt x="878" y="842"/>
                </a:lnTo>
                <a:lnTo>
                  <a:pt x="884" y="849"/>
                </a:lnTo>
                <a:lnTo>
                  <a:pt x="891" y="849"/>
                </a:lnTo>
                <a:lnTo>
                  <a:pt x="898" y="856"/>
                </a:lnTo>
                <a:lnTo>
                  <a:pt x="905" y="862"/>
                </a:lnTo>
                <a:lnTo>
                  <a:pt x="905" y="862"/>
                </a:lnTo>
                <a:lnTo>
                  <a:pt x="912" y="869"/>
                </a:lnTo>
                <a:lnTo>
                  <a:pt x="919" y="876"/>
                </a:lnTo>
                <a:lnTo>
                  <a:pt x="926" y="876"/>
                </a:lnTo>
                <a:lnTo>
                  <a:pt x="932" y="883"/>
                </a:lnTo>
                <a:lnTo>
                  <a:pt x="939" y="883"/>
                </a:lnTo>
                <a:lnTo>
                  <a:pt x="939" y="890"/>
                </a:lnTo>
                <a:lnTo>
                  <a:pt x="946" y="897"/>
                </a:lnTo>
                <a:lnTo>
                  <a:pt x="953" y="897"/>
                </a:lnTo>
                <a:lnTo>
                  <a:pt x="960" y="904"/>
                </a:lnTo>
                <a:lnTo>
                  <a:pt x="967" y="910"/>
                </a:lnTo>
                <a:lnTo>
                  <a:pt x="974" y="910"/>
                </a:lnTo>
                <a:lnTo>
                  <a:pt x="980" y="917"/>
                </a:lnTo>
                <a:lnTo>
                  <a:pt x="980" y="924"/>
                </a:lnTo>
                <a:lnTo>
                  <a:pt x="987" y="924"/>
                </a:lnTo>
                <a:lnTo>
                  <a:pt x="994" y="931"/>
                </a:lnTo>
                <a:lnTo>
                  <a:pt x="1001" y="931"/>
                </a:lnTo>
                <a:lnTo>
                  <a:pt x="1008" y="938"/>
                </a:lnTo>
                <a:lnTo>
                  <a:pt x="1015" y="945"/>
                </a:lnTo>
                <a:lnTo>
                  <a:pt x="1022" y="945"/>
                </a:lnTo>
                <a:lnTo>
                  <a:pt x="1028" y="938"/>
                </a:lnTo>
                <a:lnTo>
                  <a:pt x="1028" y="931"/>
                </a:lnTo>
                <a:close/>
                <a:moveTo>
                  <a:pt x="1193" y="931"/>
                </a:moveTo>
                <a:lnTo>
                  <a:pt x="1200" y="924"/>
                </a:lnTo>
                <a:lnTo>
                  <a:pt x="1200" y="917"/>
                </a:lnTo>
                <a:lnTo>
                  <a:pt x="1200" y="910"/>
                </a:lnTo>
                <a:lnTo>
                  <a:pt x="1200" y="910"/>
                </a:lnTo>
                <a:lnTo>
                  <a:pt x="1200" y="904"/>
                </a:lnTo>
                <a:lnTo>
                  <a:pt x="1193" y="897"/>
                </a:lnTo>
                <a:lnTo>
                  <a:pt x="1186" y="897"/>
                </a:lnTo>
                <a:lnTo>
                  <a:pt x="1179" y="904"/>
                </a:lnTo>
                <a:lnTo>
                  <a:pt x="1179" y="910"/>
                </a:lnTo>
                <a:lnTo>
                  <a:pt x="1179" y="917"/>
                </a:lnTo>
                <a:lnTo>
                  <a:pt x="1179" y="924"/>
                </a:lnTo>
                <a:lnTo>
                  <a:pt x="1179" y="924"/>
                </a:lnTo>
                <a:lnTo>
                  <a:pt x="1179" y="931"/>
                </a:lnTo>
                <a:lnTo>
                  <a:pt x="1186" y="938"/>
                </a:lnTo>
                <a:lnTo>
                  <a:pt x="1186" y="945"/>
                </a:lnTo>
                <a:lnTo>
                  <a:pt x="1186" y="951"/>
                </a:lnTo>
                <a:lnTo>
                  <a:pt x="1186" y="951"/>
                </a:lnTo>
                <a:lnTo>
                  <a:pt x="1193" y="951"/>
                </a:lnTo>
                <a:lnTo>
                  <a:pt x="1193" y="945"/>
                </a:lnTo>
                <a:lnTo>
                  <a:pt x="1193" y="931"/>
                </a:lnTo>
                <a:close/>
                <a:moveTo>
                  <a:pt x="137" y="815"/>
                </a:moveTo>
                <a:lnTo>
                  <a:pt x="117" y="794"/>
                </a:lnTo>
                <a:lnTo>
                  <a:pt x="117" y="815"/>
                </a:lnTo>
                <a:lnTo>
                  <a:pt x="137" y="815"/>
                </a:lnTo>
                <a:close/>
                <a:moveTo>
                  <a:pt x="1131" y="815"/>
                </a:moveTo>
                <a:lnTo>
                  <a:pt x="1131" y="808"/>
                </a:lnTo>
                <a:lnTo>
                  <a:pt x="1131" y="801"/>
                </a:lnTo>
                <a:lnTo>
                  <a:pt x="1131" y="794"/>
                </a:lnTo>
                <a:lnTo>
                  <a:pt x="1138" y="794"/>
                </a:lnTo>
                <a:lnTo>
                  <a:pt x="1138" y="787"/>
                </a:lnTo>
                <a:lnTo>
                  <a:pt x="1138" y="780"/>
                </a:lnTo>
                <a:lnTo>
                  <a:pt x="1138" y="774"/>
                </a:lnTo>
                <a:lnTo>
                  <a:pt x="1138" y="767"/>
                </a:lnTo>
                <a:lnTo>
                  <a:pt x="1138" y="760"/>
                </a:lnTo>
                <a:lnTo>
                  <a:pt x="1138" y="753"/>
                </a:lnTo>
                <a:lnTo>
                  <a:pt x="1138" y="746"/>
                </a:lnTo>
                <a:lnTo>
                  <a:pt x="1138" y="746"/>
                </a:lnTo>
                <a:lnTo>
                  <a:pt x="1138" y="739"/>
                </a:lnTo>
                <a:lnTo>
                  <a:pt x="1138" y="732"/>
                </a:lnTo>
                <a:lnTo>
                  <a:pt x="1131" y="726"/>
                </a:lnTo>
                <a:lnTo>
                  <a:pt x="1131" y="719"/>
                </a:lnTo>
                <a:lnTo>
                  <a:pt x="1124" y="726"/>
                </a:lnTo>
                <a:lnTo>
                  <a:pt x="1124" y="732"/>
                </a:lnTo>
                <a:lnTo>
                  <a:pt x="1124" y="739"/>
                </a:lnTo>
                <a:lnTo>
                  <a:pt x="1124" y="746"/>
                </a:lnTo>
                <a:lnTo>
                  <a:pt x="1124" y="753"/>
                </a:lnTo>
                <a:lnTo>
                  <a:pt x="1124" y="753"/>
                </a:lnTo>
                <a:lnTo>
                  <a:pt x="1117" y="760"/>
                </a:lnTo>
                <a:lnTo>
                  <a:pt x="1117" y="767"/>
                </a:lnTo>
                <a:lnTo>
                  <a:pt x="1117" y="774"/>
                </a:lnTo>
                <a:lnTo>
                  <a:pt x="1117" y="780"/>
                </a:lnTo>
                <a:lnTo>
                  <a:pt x="1124" y="787"/>
                </a:lnTo>
                <a:lnTo>
                  <a:pt x="1124" y="794"/>
                </a:lnTo>
                <a:lnTo>
                  <a:pt x="1124" y="794"/>
                </a:lnTo>
                <a:lnTo>
                  <a:pt x="1124" y="801"/>
                </a:lnTo>
                <a:lnTo>
                  <a:pt x="1124" y="808"/>
                </a:lnTo>
                <a:lnTo>
                  <a:pt x="1131" y="815"/>
                </a:lnTo>
                <a:close/>
                <a:moveTo>
                  <a:pt x="2112" y="815"/>
                </a:moveTo>
                <a:lnTo>
                  <a:pt x="2118" y="808"/>
                </a:lnTo>
                <a:lnTo>
                  <a:pt x="2118" y="808"/>
                </a:lnTo>
                <a:lnTo>
                  <a:pt x="2125" y="801"/>
                </a:lnTo>
                <a:lnTo>
                  <a:pt x="2132" y="794"/>
                </a:lnTo>
                <a:lnTo>
                  <a:pt x="2132" y="794"/>
                </a:lnTo>
                <a:lnTo>
                  <a:pt x="2132" y="787"/>
                </a:lnTo>
                <a:lnTo>
                  <a:pt x="2139" y="780"/>
                </a:lnTo>
                <a:lnTo>
                  <a:pt x="2139" y="774"/>
                </a:lnTo>
                <a:lnTo>
                  <a:pt x="2139" y="767"/>
                </a:lnTo>
                <a:lnTo>
                  <a:pt x="2132" y="767"/>
                </a:lnTo>
                <a:lnTo>
                  <a:pt x="2132" y="760"/>
                </a:lnTo>
                <a:lnTo>
                  <a:pt x="2132" y="753"/>
                </a:lnTo>
                <a:lnTo>
                  <a:pt x="2132" y="753"/>
                </a:lnTo>
                <a:lnTo>
                  <a:pt x="2132" y="746"/>
                </a:lnTo>
                <a:lnTo>
                  <a:pt x="2139" y="739"/>
                </a:lnTo>
                <a:lnTo>
                  <a:pt x="2139" y="732"/>
                </a:lnTo>
                <a:lnTo>
                  <a:pt x="2139" y="726"/>
                </a:lnTo>
                <a:lnTo>
                  <a:pt x="2146" y="732"/>
                </a:lnTo>
                <a:lnTo>
                  <a:pt x="2146" y="739"/>
                </a:lnTo>
                <a:lnTo>
                  <a:pt x="2146" y="746"/>
                </a:lnTo>
                <a:lnTo>
                  <a:pt x="2146" y="746"/>
                </a:lnTo>
                <a:lnTo>
                  <a:pt x="2146" y="753"/>
                </a:lnTo>
                <a:lnTo>
                  <a:pt x="2146" y="760"/>
                </a:lnTo>
                <a:lnTo>
                  <a:pt x="2146" y="760"/>
                </a:lnTo>
                <a:lnTo>
                  <a:pt x="2146" y="767"/>
                </a:lnTo>
                <a:lnTo>
                  <a:pt x="2153" y="774"/>
                </a:lnTo>
                <a:lnTo>
                  <a:pt x="2153" y="780"/>
                </a:lnTo>
                <a:lnTo>
                  <a:pt x="2153" y="780"/>
                </a:lnTo>
                <a:lnTo>
                  <a:pt x="2153" y="787"/>
                </a:lnTo>
                <a:lnTo>
                  <a:pt x="2153" y="794"/>
                </a:lnTo>
                <a:lnTo>
                  <a:pt x="2146" y="801"/>
                </a:lnTo>
                <a:lnTo>
                  <a:pt x="2146" y="808"/>
                </a:lnTo>
                <a:lnTo>
                  <a:pt x="2146" y="808"/>
                </a:lnTo>
                <a:lnTo>
                  <a:pt x="2146" y="815"/>
                </a:lnTo>
                <a:lnTo>
                  <a:pt x="2139" y="821"/>
                </a:lnTo>
                <a:lnTo>
                  <a:pt x="2125" y="821"/>
                </a:lnTo>
                <a:lnTo>
                  <a:pt x="2118" y="821"/>
                </a:lnTo>
                <a:lnTo>
                  <a:pt x="2112" y="815"/>
                </a:lnTo>
                <a:close/>
                <a:moveTo>
                  <a:pt x="192" y="787"/>
                </a:moveTo>
                <a:lnTo>
                  <a:pt x="192" y="774"/>
                </a:lnTo>
                <a:lnTo>
                  <a:pt x="185" y="767"/>
                </a:lnTo>
                <a:lnTo>
                  <a:pt x="178" y="760"/>
                </a:lnTo>
                <a:lnTo>
                  <a:pt x="178" y="760"/>
                </a:lnTo>
                <a:lnTo>
                  <a:pt x="171" y="760"/>
                </a:lnTo>
                <a:lnTo>
                  <a:pt x="165" y="767"/>
                </a:lnTo>
                <a:lnTo>
                  <a:pt x="158" y="774"/>
                </a:lnTo>
                <a:lnTo>
                  <a:pt x="158" y="780"/>
                </a:lnTo>
                <a:lnTo>
                  <a:pt x="165" y="787"/>
                </a:lnTo>
                <a:lnTo>
                  <a:pt x="165" y="794"/>
                </a:lnTo>
                <a:lnTo>
                  <a:pt x="171" y="801"/>
                </a:lnTo>
                <a:lnTo>
                  <a:pt x="178" y="801"/>
                </a:lnTo>
                <a:lnTo>
                  <a:pt x="185" y="794"/>
                </a:lnTo>
                <a:lnTo>
                  <a:pt x="192" y="787"/>
                </a:lnTo>
                <a:close/>
                <a:moveTo>
                  <a:pt x="459" y="760"/>
                </a:moveTo>
                <a:lnTo>
                  <a:pt x="459" y="753"/>
                </a:lnTo>
                <a:lnTo>
                  <a:pt x="466" y="753"/>
                </a:lnTo>
                <a:lnTo>
                  <a:pt x="473" y="753"/>
                </a:lnTo>
                <a:lnTo>
                  <a:pt x="473" y="753"/>
                </a:lnTo>
                <a:lnTo>
                  <a:pt x="480" y="753"/>
                </a:lnTo>
                <a:lnTo>
                  <a:pt x="480" y="760"/>
                </a:lnTo>
                <a:lnTo>
                  <a:pt x="480" y="760"/>
                </a:lnTo>
                <a:lnTo>
                  <a:pt x="473" y="760"/>
                </a:lnTo>
                <a:lnTo>
                  <a:pt x="473" y="767"/>
                </a:lnTo>
                <a:lnTo>
                  <a:pt x="466" y="767"/>
                </a:lnTo>
                <a:lnTo>
                  <a:pt x="466" y="767"/>
                </a:lnTo>
                <a:lnTo>
                  <a:pt x="459" y="767"/>
                </a:lnTo>
                <a:lnTo>
                  <a:pt x="459" y="760"/>
                </a:lnTo>
                <a:lnTo>
                  <a:pt x="459" y="760"/>
                </a:lnTo>
                <a:close/>
                <a:moveTo>
                  <a:pt x="562" y="760"/>
                </a:moveTo>
                <a:lnTo>
                  <a:pt x="569" y="746"/>
                </a:lnTo>
                <a:lnTo>
                  <a:pt x="569" y="746"/>
                </a:lnTo>
                <a:lnTo>
                  <a:pt x="576" y="739"/>
                </a:lnTo>
                <a:lnTo>
                  <a:pt x="583" y="739"/>
                </a:lnTo>
                <a:lnTo>
                  <a:pt x="590" y="746"/>
                </a:lnTo>
                <a:lnTo>
                  <a:pt x="596" y="753"/>
                </a:lnTo>
                <a:lnTo>
                  <a:pt x="596" y="753"/>
                </a:lnTo>
                <a:lnTo>
                  <a:pt x="596" y="760"/>
                </a:lnTo>
                <a:lnTo>
                  <a:pt x="590" y="767"/>
                </a:lnTo>
                <a:lnTo>
                  <a:pt x="583" y="767"/>
                </a:lnTo>
                <a:lnTo>
                  <a:pt x="576" y="774"/>
                </a:lnTo>
                <a:lnTo>
                  <a:pt x="569" y="767"/>
                </a:lnTo>
                <a:lnTo>
                  <a:pt x="569" y="767"/>
                </a:lnTo>
                <a:lnTo>
                  <a:pt x="562" y="760"/>
                </a:lnTo>
                <a:close/>
                <a:moveTo>
                  <a:pt x="1159" y="698"/>
                </a:moveTo>
                <a:lnTo>
                  <a:pt x="1159" y="691"/>
                </a:lnTo>
                <a:lnTo>
                  <a:pt x="1159" y="685"/>
                </a:lnTo>
                <a:lnTo>
                  <a:pt x="1165" y="678"/>
                </a:lnTo>
                <a:lnTo>
                  <a:pt x="1165" y="671"/>
                </a:lnTo>
                <a:lnTo>
                  <a:pt x="1165" y="664"/>
                </a:lnTo>
                <a:lnTo>
                  <a:pt x="1165" y="657"/>
                </a:lnTo>
                <a:lnTo>
                  <a:pt x="1165" y="650"/>
                </a:lnTo>
                <a:lnTo>
                  <a:pt x="1165" y="643"/>
                </a:lnTo>
                <a:lnTo>
                  <a:pt x="1165" y="637"/>
                </a:lnTo>
                <a:lnTo>
                  <a:pt x="1165" y="623"/>
                </a:lnTo>
                <a:lnTo>
                  <a:pt x="1165" y="616"/>
                </a:lnTo>
                <a:lnTo>
                  <a:pt x="1172" y="609"/>
                </a:lnTo>
                <a:lnTo>
                  <a:pt x="1179" y="609"/>
                </a:lnTo>
                <a:lnTo>
                  <a:pt x="1186" y="602"/>
                </a:lnTo>
                <a:lnTo>
                  <a:pt x="1193" y="596"/>
                </a:lnTo>
                <a:lnTo>
                  <a:pt x="1200" y="589"/>
                </a:lnTo>
                <a:lnTo>
                  <a:pt x="1200" y="582"/>
                </a:lnTo>
                <a:lnTo>
                  <a:pt x="1200" y="575"/>
                </a:lnTo>
                <a:lnTo>
                  <a:pt x="1200" y="568"/>
                </a:lnTo>
                <a:lnTo>
                  <a:pt x="1200" y="561"/>
                </a:lnTo>
                <a:lnTo>
                  <a:pt x="1193" y="555"/>
                </a:lnTo>
                <a:lnTo>
                  <a:pt x="1193" y="541"/>
                </a:lnTo>
                <a:lnTo>
                  <a:pt x="1193" y="534"/>
                </a:lnTo>
                <a:lnTo>
                  <a:pt x="1186" y="527"/>
                </a:lnTo>
                <a:lnTo>
                  <a:pt x="1186" y="527"/>
                </a:lnTo>
                <a:lnTo>
                  <a:pt x="1186" y="527"/>
                </a:lnTo>
                <a:lnTo>
                  <a:pt x="1186" y="534"/>
                </a:lnTo>
                <a:lnTo>
                  <a:pt x="1179" y="548"/>
                </a:lnTo>
                <a:lnTo>
                  <a:pt x="1179" y="555"/>
                </a:lnTo>
                <a:lnTo>
                  <a:pt x="1172" y="561"/>
                </a:lnTo>
                <a:lnTo>
                  <a:pt x="1165" y="568"/>
                </a:lnTo>
                <a:lnTo>
                  <a:pt x="1159" y="575"/>
                </a:lnTo>
                <a:lnTo>
                  <a:pt x="1159" y="582"/>
                </a:lnTo>
                <a:lnTo>
                  <a:pt x="1152" y="589"/>
                </a:lnTo>
                <a:lnTo>
                  <a:pt x="1152" y="596"/>
                </a:lnTo>
                <a:lnTo>
                  <a:pt x="1152" y="602"/>
                </a:lnTo>
                <a:lnTo>
                  <a:pt x="1152" y="609"/>
                </a:lnTo>
                <a:lnTo>
                  <a:pt x="1152" y="616"/>
                </a:lnTo>
                <a:lnTo>
                  <a:pt x="1152" y="623"/>
                </a:lnTo>
                <a:lnTo>
                  <a:pt x="1152" y="630"/>
                </a:lnTo>
                <a:lnTo>
                  <a:pt x="1145" y="637"/>
                </a:lnTo>
                <a:lnTo>
                  <a:pt x="1145" y="643"/>
                </a:lnTo>
                <a:lnTo>
                  <a:pt x="1145" y="650"/>
                </a:lnTo>
                <a:lnTo>
                  <a:pt x="1145" y="657"/>
                </a:lnTo>
                <a:lnTo>
                  <a:pt x="1152" y="664"/>
                </a:lnTo>
                <a:lnTo>
                  <a:pt x="1152" y="671"/>
                </a:lnTo>
                <a:lnTo>
                  <a:pt x="1145" y="678"/>
                </a:lnTo>
                <a:lnTo>
                  <a:pt x="1152" y="685"/>
                </a:lnTo>
                <a:lnTo>
                  <a:pt x="1152" y="691"/>
                </a:lnTo>
                <a:lnTo>
                  <a:pt x="1159" y="698"/>
                </a:lnTo>
                <a:close/>
                <a:moveTo>
                  <a:pt x="740" y="671"/>
                </a:moveTo>
                <a:lnTo>
                  <a:pt x="740" y="664"/>
                </a:lnTo>
                <a:lnTo>
                  <a:pt x="734" y="657"/>
                </a:lnTo>
                <a:lnTo>
                  <a:pt x="734" y="643"/>
                </a:lnTo>
                <a:lnTo>
                  <a:pt x="740" y="637"/>
                </a:lnTo>
                <a:lnTo>
                  <a:pt x="740" y="630"/>
                </a:lnTo>
                <a:lnTo>
                  <a:pt x="747" y="616"/>
                </a:lnTo>
                <a:lnTo>
                  <a:pt x="754" y="616"/>
                </a:lnTo>
                <a:lnTo>
                  <a:pt x="754" y="623"/>
                </a:lnTo>
                <a:lnTo>
                  <a:pt x="761" y="630"/>
                </a:lnTo>
                <a:lnTo>
                  <a:pt x="761" y="643"/>
                </a:lnTo>
                <a:lnTo>
                  <a:pt x="761" y="650"/>
                </a:lnTo>
                <a:lnTo>
                  <a:pt x="761" y="657"/>
                </a:lnTo>
                <a:lnTo>
                  <a:pt x="761" y="664"/>
                </a:lnTo>
                <a:lnTo>
                  <a:pt x="761" y="678"/>
                </a:lnTo>
                <a:lnTo>
                  <a:pt x="761" y="685"/>
                </a:lnTo>
                <a:lnTo>
                  <a:pt x="754" y="691"/>
                </a:lnTo>
                <a:lnTo>
                  <a:pt x="754" y="698"/>
                </a:lnTo>
                <a:lnTo>
                  <a:pt x="747" y="691"/>
                </a:lnTo>
                <a:lnTo>
                  <a:pt x="747" y="685"/>
                </a:lnTo>
                <a:lnTo>
                  <a:pt x="740" y="671"/>
                </a:lnTo>
                <a:close/>
                <a:moveTo>
                  <a:pt x="809" y="671"/>
                </a:moveTo>
                <a:lnTo>
                  <a:pt x="809" y="664"/>
                </a:lnTo>
                <a:lnTo>
                  <a:pt x="809" y="664"/>
                </a:lnTo>
                <a:lnTo>
                  <a:pt x="809" y="664"/>
                </a:lnTo>
                <a:lnTo>
                  <a:pt x="809" y="664"/>
                </a:lnTo>
                <a:lnTo>
                  <a:pt x="816" y="664"/>
                </a:lnTo>
                <a:lnTo>
                  <a:pt x="816" y="664"/>
                </a:lnTo>
                <a:lnTo>
                  <a:pt x="816" y="671"/>
                </a:lnTo>
                <a:lnTo>
                  <a:pt x="816" y="671"/>
                </a:lnTo>
                <a:lnTo>
                  <a:pt x="816" y="671"/>
                </a:lnTo>
                <a:lnTo>
                  <a:pt x="816" y="678"/>
                </a:lnTo>
                <a:lnTo>
                  <a:pt x="809" y="678"/>
                </a:lnTo>
                <a:lnTo>
                  <a:pt x="809" y="678"/>
                </a:lnTo>
                <a:lnTo>
                  <a:pt x="809" y="671"/>
                </a:lnTo>
                <a:lnTo>
                  <a:pt x="809" y="671"/>
                </a:lnTo>
                <a:close/>
                <a:moveTo>
                  <a:pt x="836" y="609"/>
                </a:moveTo>
                <a:lnTo>
                  <a:pt x="836" y="602"/>
                </a:lnTo>
                <a:lnTo>
                  <a:pt x="836" y="602"/>
                </a:lnTo>
                <a:lnTo>
                  <a:pt x="836" y="596"/>
                </a:lnTo>
                <a:lnTo>
                  <a:pt x="836" y="589"/>
                </a:lnTo>
                <a:lnTo>
                  <a:pt x="836" y="582"/>
                </a:lnTo>
                <a:lnTo>
                  <a:pt x="836" y="575"/>
                </a:lnTo>
                <a:lnTo>
                  <a:pt x="836" y="568"/>
                </a:lnTo>
                <a:lnTo>
                  <a:pt x="836" y="568"/>
                </a:lnTo>
                <a:lnTo>
                  <a:pt x="843" y="561"/>
                </a:lnTo>
                <a:lnTo>
                  <a:pt x="850" y="561"/>
                </a:lnTo>
                <a:lnTo>
                  <a:pt x="857" y="555"/>
                </a:lnTo>
                <a:lnTo>
                  <a:pt x="864" y="555"/>
                </a:lnTo>
                <a:lnTo>
                  <a:pt x="864" y="548"/>
                </a:lnTo>
                <a:lnTo>
                  <a:pt x="864" y="548"/>
                </a:lnTo>
                <a:lnTo>
                  <a:pt x="864" y="541"/>
                </a:lnTo>
                <a:lnTo>
                  <a:pt x="864" y="534"/>
                </a:lnTo>
                <a:lnTo>
                  <a:pt x="871" y="527"/>
                </a:lnTo>
                <a:lnTo>
                  <a:pt x="871" y="527"/>
                </a:lnTo>
                <a:lnTo>
                  <a:pt x="878" y="534"/>
                </a:lnTo>
                <a:lnTo>
                  <a:pt x="878" y="541"/>
                </a:lnTo>
                <a:lnTo>
                  <a:pt x="871" y="548"/>
                </a:lnTo>
                <a:lnTo>
                  <a:pt x="871" y="548"/>
                </a:lnTo>
                <a:lnTo>
                  <a:pt x="871" y="555"/>
                </a:lnTo>
                <a:lnTo>
                  <a:pt x="871" y="561"/>
                </a:lnTo>
                <a:lnTo>
                  <a:pt x="871" y="568"/>
                </a:lnTo>
                <a:lnTo>
                  <a:pt x="871" y="575"/>
                </a:lnTo>
                <a:lnTo>
                  <a:pt x="871" y="582"/>
                </a:lnTo>
                <a:lnTo>
                  <a:pt x="871" y="582"/>
                </a:lnTo>
                <a:lnTo>
                  <a:pt x="864" y="589"/>
                </a:lnTo>
                <a:lnTo>
                  <a:pt x="864" y="596"/>
                </a:lnTo>
                <a:lnTo>
                  <a:pt x="857" y="596"/>
                </a:lnTo>
                <a:lnTo>
                  <a:pt x="850" y="602"/>
                </a:lnTo>
                <a:lnTo>
                  <a:pt x="843" y="609"/>
                </a:lnTo>
                <a:lnTo>
                  <a:pt x="843" y="616"/>
                </a:lnTo>
                <a:lnTo>
                  <a:pt x="843" y="623"/>
                </a:lnTo>
                <a:lnTo>
                  <a:pt x="843" y="623"/>
                </a:lnTo>
                <a:lnTo>
                  <a:pt x="836" y="623"/>
                </a:lnTo>
                <a:lnTo>
                  <a:pt x="836" y="609"/>
                </a:lnTo>
                <a:close/>
                <a:moveTo>
                  <a:pt x="1769" y="582"/>
                </a:moveTo>
                <a:lnTo>
                  <a:pt x="1769" y="582"/>
                </a:lnTo>
                <a:lnTo>
                  <a:pt x="1762" y="582"/>
                </a:lnTo>
                <a:lnTo>
                  <a:pt x="1762" y="582"/>
                </a:lnTo>
                <a:lnTo>
                  <a:pt x="1755" y="582"/>
                </a:lnTo>
                <a:lnTo>
                  <a:pt x="1755" y="582"/>
                </a:lnTo>
                <a:lnTo>
                  <a:pt x="1748" y="582"/>
                </a:lnTo>
                <a:lnTo>
                  <a:pt x="1748" y="582"/>
                </a:lnTo>
                <a:lnTo>
                  <a:pt x="1748" y="582"/>
                </a:lnTo>
                <a:lnTo>
                  <a:pt x="1748" y="582"/>
                </a:lnTo>
                <a:lnTo>
                  <a:pt x="1755" y="582"/>
                </a:lnTo>
                <a:lnTo>
                  <a:pt x="1755" y="582"/>
                </a:lnTo>
                <a:lnTo>
                  <a:pt x="1762" y="582"/>
                </a:lnTo>
                <a:lnTo>
                  <a:pt x="1769" y="582"/>
                </a:lnTo>
                <a:lnTo>
                  <a:pt x="1769" y="582"/>
                </a:lnTo>
                <a:close/>
                <a:moveTo>
                  <a:pt x="1755" y="555"/>
                </a:moveTo>
                <a:lnTo>
                  <a:pt x="1748" y="541"/>
                </a:lnTo>
                <a:lnTo>
                  <a:pt x="1741" y="541"/>
                </a:lnTo>
                <a:lnTo>
                  <a:pt x="1735" y="534"/>
                </a:lnTo>
                <a:lnTo>
                  <a:pt x="1728" y="541"/>
                </a:lnTo>
                <a:lnTo>
                  <a:pt x="1721" y="548"/>
                </a:lnTo>
                <a:lnTo>
                  <a:pt x="1714" y="555"/>
                </a:lnTo>
                <a:lnTo>
                  <a:pt x="1721" y="568"/>
                </a:lnTo>
                <a:lnTo>
                  <a:pt x="1728" y="575"/>
                </a:lnTo>
                <a:lnTo>
                  <a:pt x="1735" y="582"/>
                </a:lnTo>
                <a:lnTo>
                  <a:pt x="1741" y="582"/>
                </a:lnTo>
                <a:lnTo>
                  <a:pt x="1741" y="582"/>
                </a:lnTo>
                <a:lnTo>
                  <a:pt x="1748" y="575"/>
                </a:lnTo>
                <a:lnTo>
                  <a:pt x="1748" y="568"/>
                </a:lnTo>
                <a:lnTo>
                  <a:pt x="1755" y="555"/>
                </a:lnTo>
                <a:close/>
                <a:moveTo>
                  <a:pt x="1796" y="555"/>
                </a:moveTo>
                <a:lnTo>
                  <a:pt x="1796" y="555"/>
                </a:lnTo>
                <a:lnTo>
                  <a:pt x="1796" y="555"/>
                </a:lnTo>
                <a:lnTo>
                  <a:pt x="1796" y="555"/>
                </a:lnTo>
                <a:lnTo>
                  <a:pt x="1796" y="555"/>
                </a:lnTo>
                <a:lnTo>
                  <a:pt x="1796" y="555"/>
                </a:lnTo>
                <a:lnTo>
                  <a:pt x="1789" y="555"/>
                </a:lnTo>
                <a:lnTo>
                  <a:pt x="1789" y="555"/>
                </a:lnTo>
                <a:lnTo>
                  <a:pt x="1796" y="555"/>
                </a:lnTo>
                <a:lnTo>
                  <a:pt x="1796" y="555"/>
                </a:lnTo>
                <a:lnTo>
                  <a:pt x="1796" y="555"/>
                </a:lnTo>
                <a:lnTo>
                  <a:pt x="1796" y="555"/>
                </a:lnTo>
                <a:lnTo>
                  <a:pt x="1796" y="555"/>
                </a:lnTo>
                <a:lnTo>
                  <a:pt x="1796" y="555"/>
                </a:lnTo>
                <a:lnTo>
                  <a:pt x="1796" y="555"/>
                </a:lnTo>
                <a:close/>
                <a:moveTo>
                  <a:pt x="1227" y="527"/>
                </a:moveTo>
                <a:lnTo>
                  <a:pt x="1220" y="520"/>
                </a:lnTo>
                <a:lnTo>
                  <a:pt x="1220" y="513"/>
                </a:lnTo>
                <a:lnTo>
                  <a:pt x="1220" y="513"/>
                </a:lnTo>
                <a:lnTo>
                  <a:pt x="1220" y="507"/>
                </a:lnTo>
                <a:lnTo>
                  <a:pt x="1220" y="500"/>
                </a:lnTo>
                <a:lnTo>
                  <a:pt x="1220" y="493"/>
                </a:lnTo>
                <a:lnTo>
                  <a:pt x="1213" y="493"/>
                </a:lnTo>
                <a:lnTo>
                  <a:pt x="1213" y="500"/>
                </a:lnTo>
                <a:lnTo>
                  <a:pt x="1207" y="500"/>
                </a:lnTo>
                <a:lnTo>
                  <a:pt x="1200" y="507"/>
                </a:lnTo>
                <a:lnTo>
                  <a:pt x="1193" y="513"/>
                </a:lnTo>
                <a:lnTo>
                  <a:pt x="1193" y="513"/>
                </a:lnTo>
                <a:lnTo>
                  <a:pt x="1186" y="520"/>
                </a:lnTo>
                <a:lnTo>
                  <a:pt x="1186" y="520"/>
                </a:lnTo>
                <a:lnTo>
                  <a:pt x="1193" y="527"/>
                </a:lnTo>
                <a:lnTo>
                  <a:pt x="1200" y="527"/>
                </a:lnTo>
                <a:lnTo>
                  <a:pt x="1207" y="534"/>
                </a:lnTo>
                <a:lnTo>
                  <a:pt x="1213" y="534"/>
                </a:lnTo>
                <a:lnTo>
                  <a:pt x="1220" y="527"/>
                </a:lnTo>
                <a:lnTo>
                  <a:pt x="1227" y="527"/>
                </a:lnTo>
                <a:close/>
                <a:moveTo>
                  <a:pt x="1433" y="527"/>
                </a:moveTo>
                <a:lnTo>
                  <a:pt x="1426" y="520"/>
                </a:lnTo>
                <a:lnTo>
                  <a:pt x="1426" y="513"/>
                </a:lnTo>
                <a:lnTo>
                  <a:pt x="1419" y="513"/>
                </a:lnTo>
                <a:lnTo>
                  <a:pt x="1419" y="513"/>
                </a:lnTo>
                <a:lnTo>
                  <a:pt x="1419" y="513"/>
                </a:lnTo>
                <a:lnTo>
                  <a:pt x="1419" y="513"/>
                </a:lnTo>
                <a:lnTo>
                  <a:pt x="1419" y="513"/>
                </a:lnTo>
                <a:lnTo>
                  <a:pt x="1419" y="520"/>
                </a:lnTo>
                <a:lnTo>
                  <a:pt x="1419" y="520"/>
                </a:lnTo>
                <a:lnTo>
                  <a:pt x="1419" y="527"/>
                </a:lnTo>
                <a:lnTo>
                  <a:pt x="1419" y="527"/>
                </a:lnTo>
                <a:lnTo>
                  <a:pt x="1419" y="527"/>
                </a:lnTo>
                <a:lnTo>
                  <a:pt x="1426" y="527"/>
                </a:lnTo>
                <a:lnTo>
                  <a:pt x="1433" y="527"/>
                </a:lnTo>
                <a:close/>
                <a:moveTo>
                  <a:pt x="1776" y="527"/>
                </a:moveTo>
                <a:lnTo>
                  <a:pt x="1776" y="520"/>
                </a:lnTo>
                <a:lnTo>
                  <a:pt x="1769" y="513"/>
                </a:lnTo>
                <a:lnTo>
                  <a:pt x="1769" y="513"/>
                </a:lnTo>
                <a:lnTo>
                  <a:pt x="1762" y="513"/>
                </a:lnTo>
                <a:lnTo>
                  <a:pt x="1755" y="520"/>
                </a:lnTo>
                <a:lnTo>
                  <a:pt x="1748" y="520"/>
                </a:lnTo>
                <a:lnTo>
                  <a:pt x="1748" y="527"/>
                </a:lnTo>
                <a:lnTo>
                  <a:pt x="1755" y="534"/>
                </a:lnTo>
                <a:lnTo>
                  <a:pt x="1762" y="541"/>
                </a:lnTo>
                <a:lnTo>
                  <a:pt x="1769" y="541"/>
                </a:lnTo>
                <a:lnTo>
                  <a:pt x="1769" y="541"/>
                </a:lnTo>
                <a:lnTo>
                  <a:pt x="1776" y="534"/>
                </a:lnTo>
                <a:lnTo>
                  <a:pt x="1776" y="534"/>
                </a:lnTo>
                <a:lnTo>
                  <a:pt x="1776" y="527"/>
                </a:lnTo>
                <a:close/>
                <a:moveTo>
                  <a:pt x="1885" y="527"/>
                </a:moveTo>
                <a:lnTo>
                  <a:pt x="1885" y="520"/>
                </a:lnTo>
                <a:lnTo>
                  <a:pt x="1885" y="520"/>
                </a:lnTo>
                <a:lnTo>
                  <a:pt x="1879" y="520"/>
                </a:lnTo>
                <a:lnTo>
                  <a:pt x="1879" y="520"/>
                </a:lnTo>
                <a:lnTo>
                  <a:pt x="1872" y="520"/>
                </a:lnTo>
                <a:lnTo>
                  <a:pt x="1872" y="520"/>
                </a:lnTo>
                <a:lnTo>
                  <a:pt x="1872" y="527"/>
                </a:lnTo>
                <a:lnTo>
                  <a:pt x="1872" y="527"/>
                </a:lnTo>
                <a:lnTo>
                  <a:pt x="1872" y="527"/>
                </a:lnTo>
                <a:lnTo>
                  <a:pt x="1879" y="527"/>
                </a:lnTo>
                <a:lnTo>
                  <a:pt x="1879" y="527"/>
                </a:lnTo>
                <a:lnTo>
                  <a:pt x="1879" y="527"/>
                </a:lnTo>
                <a:lnTo>
                  <a:pt x="1885" y="527"/>
                </a:lnTo>
                <a:lnTo>
                  <a:pt x="1885" y="527"/>
                </a:lnTo>
                <a:close/>
                <a:moveTo>
                  <a:pt x="1481" y="493"/>
                </a:moveTo>
                <a:lnTo>
                  <a:pt x="1488" y="493"/>
                </a:lnTo>
                <a:lnTo>
                  <a:pt x="1488" y="486"/>
                </a:lnTo>
                <a:lnTo>
                  <a:pt x="1495" y="479"/>
                </a:lnTo>
                <a:lnTo>
                  <a:pt x="1501" y="472"/>
                </a:lnTo>
                <a:lnTo>
                  <a:pt x="1508" y="472"/>
                </a:lnTo>
                <a:lnTo>
                  <a:pt x="1515" y="466"/>
                </a:lnTo>
                <a:lnTo>
                  <a:pt x="1515" y="459"/>
                </a:lnTo>
                <a:lnTo>
                  <a:pt x="1515" y="452"/>
                </a:lnTo>
                <a:lnTo>
                  <a:pt x="1508" y="445"/>
                </a:lnTo>
                <a:lnTo>
                  <a:pt x="1501" y="445"/>
                </a:lnTo>
                <a:lnTo>
                  <a:pt x="1495" y="445"/>
                </a:lnTo>
                <a:lnTo>
                  <a:pt x="1481" y="445"/>
                </a:lnTo>
                <a:lnTo>
                  <a:pt x="1474" y="445"/>
                </a:lnTo>
                <a:lnTo>
                  <a:pt x="1460" y="445"/>
                </a:lnTo>
                <a:lnTo>
                  <a:pt x="1453" y="452"/>
                </a:lnTo>
                <a:lnTo>
                  <a:pt x="1447" y="452"/>
                </a:lnTo>
                <a:lnTo>
                  <a:pt x="1440" y="452"/>
                </a:lnTo>
                <a:lnTo>
                  <a:pt x="1433" y="459"/>
                </a:lnTo>
                <a:lnTo>
                  <a:pt x="1433" y="466"/>
                </a:lnTo>
                <a:lnTo>
                  <a:pt x="1433" y="472"/>
                </a:lnTo>
                <a:lnTo>
                  <a:pt x="1426" y="479"/>
                </a:lnTo>
                <a:lnTo>
                  <a:pt x="1426" y="486"/>
                </a:lnTo>
                <a:lnTo>
                  <a:pt x="1433" y="493"/>
                </a:lnTo>
                <a:lnTo>
                  <a:pt x="1433" y="493"/>
                </a:lnTo>
                <a:lnTo>
                  <a:pt x="1433" y="500"/>
                </a:lnTo>
                <a:lnTo>
                  <a:pt x="1440" y="507"/>
                </a:lnTo>
                <a:lnTo>
                  <a:pt x="1447" y="507"/>
                </a:lnTo>
                <a:lnTo>
                  <a:pt x="1460" y="513"/>
                </a:lnTo>
                <a:lnTo>
                  <a:pt x="1467" y="507"/>
                </a:lnTo>
                <a:lnTo>
                  <a:pt x="1474" y="507"/>
                </a:lnTo>
                <a:lnTo>
                  <a:pt x="1481" y="500"/>
                </a:lnTo>
                <a:lnTo>
                  <a:pt x="1481" y="493"/>
                </a:lnTo>
                <a:close/>
                <a:moveTo>
                  <a:pt x="1810" y="493"/>
                </a:moveTo>
                <a:lnTo>
                  <a:pt x="1810" y="493"/>
                </a:lnTo>
                <a:lnTo>
                  <a:pt x="1803" y="486"/>
                </a:lnTo>
                <a:lnTo>
                  <a:pt x="1796" y="486"/>
                </a:lnTo>
                <a:lnTo>
                  <a:pt x="1796" y="486"/>
                </a:lnTo>
                <a:lnTo>
                  <a:pt x="1789" y="486"/>
                </a:lnTo>
                <a:lnTo>
                  <a:pt x="1783" y="493"/>
                </a:lnTo>
                <a:lnTo>
                  <a:pt x="1783" y="500"/>
                </a:lnTo>
                <a:lnTo>
                  <a:pt x="1789" y="500"/>
                </a:lnTo>
                <a:lnTo>
                  <a:pt x="1789" y="507"/>
                </a:lnTo>
                <a:lnTo>
                  <a:pt x="1796" y="507"/>
                </a:lnTo>
                <a:lnTo>
                  <a:pt x="1796" y="507"/>
                </a:lnTo>
                <a:lnTo>
                  <a:pt x="1803" y="507"/>
                </a:lnTo>
                <a:lnTo>
                  <a:pt x="1810" y="500"/>
                </a:lnTo>
                <a:lnTo>
                  <a:pt x="1810" y="493"/>
                </a:lnTo>
                <a:close/>
                <a:moveTo>
                  <a:pt x="1364" y="466"/>
                </a:moveTo>
                <a:lnTo>
                  <a:pt x="1364" y="466"/>
                </a:lnTo>
                <a:lnTo>
                  <a:pt x="1364" y="466"/>
                </a:lnTo>
                <a:lnTo>
                  <a:pt x="1364" y="466"/>
                </a:lnTo>
                <a:lnTo>
                  <a:pt x="1364" y="466"/>
                </a:lnTo>
                <a:lnTo>
                  <a:pt x="1364" y="466"/>
                </a:lnTo>
                <a:lnTo>
                  <a:pt x="1364" y="466"/>
                </a:lnTo>
                <a:lnTo>
                  <a:pt x="1357" y="466"/>
                </a:lnTo>
                <a:lnTo>
                  <a:pt x="1357" y="466"/>
                </a:lnTo>
                <a:lnTo>
                  <a:pt x="1364" y="466"/>
                </a:lnTo>
                <a:lnTo>
                  <a:pt x="1364" y="466"/>
                </a:lnTo>
                <a:lnTo>
                  <a:pt x="1364" y="466"/>
                </a:lnTo>
                <a:lnTo>
                  <a:pt x="1364" y="466"/>
                </a:lnTo>
                <a:lnTo>
                  <a:pt x="1364" y="466"/>
                </a:lnTo>
                <a:lnTo>
                  <a:pt x="1364" y="466"/>
                </a:lnTo>
                <a:close/>
                <a:moveTo>
                  <a:pt x="1769" y="466"/>
                </a:moveTo>
                <a:lnTo>
                  <a:pt x="1769" y="466"/>
                </a:lnTo>
                <a:lnTo>
                  <a:pt x="1769" y="459"/>
                </a:lnTo>
                <a:lnTo>
                  <a:pt x="1769" y="459"/>
                </a:lnTo>
                <a:lnTo>
                  <a:pt x="1762" y="459"/>
                </a:lnTo>
                <a:lnTo>
                  <a:pt x="1762" y="466"/>
                </a:lnTo>
                <a:lnTo>
                  <a:pt x="1762" y="466"/>
                </a:lnTo>
                <a:lnTo>
                  <a:pt x="1762" y="466"/>
                </a:lnTo>
                <a:lnTo>
                  <a:pt x="1762" y="472"/>
                </a:lnTo>
                <a:lnTo>
                  <a:pt x="1762" y="472"/>
                </a:lnTo>
                <a:lnTo>
                  <a:pt x="1769" y="472"/>
                </a:lnTo>
                <a:lnTo>
                  <a:pt x="1769" y="472"/>
                </a:lnTo>
                <a:lnTo>
                  <a:pt x="1769" y="472"/>
                </a:lnTo>
                <a:lnTo>
                  <a:pt x="1769" y="472"/>
                </a:lnTo>
                <a:lnTo>
                  <a:pt x="1769" y="466"/>
                </a:lnTo>
                <a:close/>
                <a:moveTo>
                  <a:pt x="1920" y="438"/>
                </a:moveTo>
                <a:lnTo>
                  <a:pt x="1913" y="438"/>
                </a:lnTo>
                <a:lnTo>
                  <a:pt x="1906" y="431"/>
                </a:lnTo>
                <a:lnTo>
                  <a:pt x="1906" y="431"/>
                </a:lnTo>
                <a:lnTo>
                  <a:pt x="1899" y="431"/>
                </a:lnTo>
                <a:lnTo>
                  <a:pt x="1892" y="431"/>
                </a:lnTo>
                <a:lnTo>
                  <a:pt x="1885" y="438"/>
                </a:lnTo>
                <a:lnTo>
                  <a:pt x="1879" y="438"/>
                </a:lnTo>
                <a:lnTo>
                  <a:pt x="1879" y="438"/>
                </a:lnTo>
                <a:lnTo>
                  <a:pt x="1885" y="438"/>
                </a:lnTo>
                <a:lnTo>
                  <a:pt x="1892" y="445"/>
                </a:lnTo>
                <a:lnTo>
                  <a:pt x="1899" y="445"/>
                </a:lnTo>
                <a:lnTo>
                  <a:pt x="1899" y="445"/>
                </a:lnTo>
                <a:lnTo>
                  <a:pt x="1906" y="452"/>
                </a:lnTo>
                <a:lnTo>
                  <a:pt x="1906" y="452"/>
                </a:lnTo>
                <a:lnTo>
                  <a:pt x="1913" y="452"/>
                </a:lnTo>
                <a:lnTo>
                  <a:pt x="1913" y="452"/>
                </a:lnTo>
                <a:lnTo>
                  <a:pt x="1913" y="452"/>
                </a:lnTo>
                <a:lnTo>
                  <a:pt x="1913" y="445"/>
                </a:lnTo>
                <a:lnTo>
                  <a:pt x="1920" y="445"/>
                </a:lnTo>
                <a:lnTo>
                  <a:pt x="1920" y="438"/>
                </a:lnTo>
                <a:close/>
                <a:moveTo>
                  <a:pt x="219" y="411"/>
                </a:moveTo>
                <a:lnTo>
                  <a:pt x="206" y="411"/>
                </a:lnTo>
                <a:lnTo>
                  <a:pt x="206" y="425"/>
                </a:lnTo>
                <a:lnTo>
                  <a:pt x="219" y="411"/>
                </a:lnTo>
                <a:close/>
                <a:moveTo>
                  <a:pt x="1741" y="411"/>
                </a:moveTo>
                <a:lnTo>
                  <a:pt x="1741" y="404"/>
                </a:lnTo>
                <a:lnTo>
                  <a:pt x="1741" y="404"/>
                </a:lnTo>
                <a:lnTo>
                  <a:pt x="1735" y="404"/>
                </a:lnTo>
                <a:lnTo>
                  <a:pt x="1735" y="404"/>
                </a:lnTo>
                <a:lnTo>
                  <a:pt x="1735" y="411"/>
                </a:lnTo>
                <a:lnTo>
                  <a:pt x="1735" y="411"/>
                </a:lnTo>
                <a:lnTo>
                  <a:pt x="1735" y="418"/>
                </a:lnTo>
                <a:lnTo>
                  <a:pt x="1735" y="418"/>
                </a:lnTo>
                <a:lnTo>
                  <a:pt x="1735" y="418"/>
                </a:lnTo>
                <a:lnTo>
                  <a:pt x="1741" y="418"/>
                </a:lnTo>
                <a:lnTo>
                  <a:pt x="1741" y="418"/>
                </a:lnTo>
                <a:lnTo>
                  <a:pt x="1741" y="418"/>
                </a:lnTo>
                <a:lnTo>
                  <a:pt x="1741" y="411"/>
                </a:lnTo>
                <a:lnTo>
                  <a:pt x="1741" y="411"/>
                </a:lnTo>
                <a:close/>
                <a:moveTo>
                  <a:pt x="1056" y="322"/>
                </a:moveTo>
                <a:lnTo>
                  <a:pt x="1056" y="315"/>
                </a:lnTo>
                <a:lnTo>
                  <a:pt x="1063" y="308"/>
                </a:lnTo>
                <a:lnTo>
                  <a:pt x="1070" y="308"/>
                </a:lnTo>
                <a:lnTo>
                  <a:pt x="1076" y="301"/>
                </a:lnTo>
                <a:lnTo>
                  <a:pt x="1083" y="301"/>
                </a:lnTo>
                <a:lnTo>
                  <a:pt x="1090" y="295"/>
                </a:lnTo>
                <a:lnTo>
                  <a:pt x="1097" y="295"/>
                </a:lnTo>
                <a:lnTo>
                  <a:pt x="1104" y="295"/>
                </a:lnTo>
                <a:lnTo>
                  <a:pt x="1117" y="295"/>
                </a:lnTo>
                <a:lnTo>
                  <a:pt x="1124" y="295"/>
                </a:lnTo>
                <a:lnTo>
                  <a:pt x="1131" y="295"/>
                </a:lnTo>
                <a:lnTo>
                  <a:pt x="1138" y="288"/>
                </a:lnTo>
                <a:lnTo>
                  <a:pt x="1138" y="281"/>
                </a:lnTo>
                <a:lnTo>
                  <a:pt x="1145" y="274"/>
                </a:lnTo>
                <a:lnTo>
                  <a:pt x="1152" y="274"/>
                </a:lnTo>
                <a:lnTo>
                  <a:pt x="1159" y="267"/>
                </a:lnTo>
                <a:lnTo>
                  <a:pt x="1165" y="267"/>
                </a:lnTo>
                <a:lnTo>
                  <a:pt x="1172" y="267"/>
                </a:lnTo>
                <a:lnTo>
                  <a:pt x="1186" y="267"/>
                </a:lnTo>
                <a:lnTo>
                  <a:pt x="1193" y="260"/>
                </a:lnTo>
                <a:lnTo>
                  <a:pt x="1193" y="253"/>
                </a:lnTo>
                <a:lnTo>
                  <a:pt x="1200" y="253"/>
                </a:lnTo>
                <a:lnTo>
                  <a:pt x="1200" y="247"/>
                </a:lnTo>
                <a:lnTo>
                  <a:pt x="1207" y="240"/>
                </a:lnTo>
                <a:lnTo>
                  <a:pt x="1213" y="233"/>
                </a:lnTo>
                <a:lnTo>
                  <a:pt x="1220" y="233"/>
                </a:lnTo>
                <a:lnTo>
                  <a:pt x="1227" y="226"/>
                </a:lnTo>
                <a:lnTo>
                  <a:pt x="1234" y="226"/>
                </a:lnTo>
                <a:lnTo>
                  <a:pt x="1234" y="219"/>
                </a:lnTo>
                <a:lnTo>
                  <a:pt x="1241" y="219"/>
                </a:lnTo>
                <a:lnTo>
                  <a:pt x="1255" y="219"/>
                </a:lnTo>
                <a:lnTo>
                  <a:pt x="1261" y="219"/>
                </a:lnTo>
                <a:lnTo>
                  <a:pt x="1268" y="219"/>
                </a:lnTo>
                <a:lnTo>
                  <a:pt x="1275" y="212"/>
                </a:lnTo>
                <a:lnTo>
                  <a:pt x="1282" y="212"/>
                </a:lnTo>
                <a:lnTo>
                  <a:pt x="1282" y="206"/>
                </a:lnTo>
                <a:lnTo>
                  <a:pt x="1282" y="199"/>
                </a:lnTo>
                <a:lnTo>
                  <a:pt x="1289" y="192"/>
                </a:lnTo>
                <a:lnTo>
                  <a:pt x="1289" y="185"/>
                </a:lnTo>
                <a:lnTo>
                  <a:pt x="1296" y="185"/>
                </a:lnTo>
                <a:lnTo>
                  <a:pt x="1303" y="178"/>
                </a:lnTo>
                <a:lnTo>
                  <a:pt x="1316" y="178"/>
                </a:lnTo>
                <a:lnTo>
                  <a:pt x="1323" y="178"/>
                </a:lnTo>
                <a:lnTo>
                  <a:pt x="1330" y="178"/>
                </a:lnTo>
                <a:lnTo>
                  <a:pt x="1330" y="171"/>
                </a:lnTo>
                <a:lnTo>
                  <a:pt x="1330" y="165"/>
                </a:lnTo>
                <a:lnTo>
                  <a:pt x="1323" y="158"/>
                </a:lnTo>
                <a:lnTo>
                  <a:pt x="1316" y="151"/>
                </a:lnTo>
                <a:lnTo>
                  <a:pt x="1309" y="151"/>
                </a:lnTo>
                <a:lnTo>
                  <a:pt x="1303" y="151"/>
                </a:lnTo>
                <a:lnTo>
                  <a:pt x="1289" y="151"/>
                </a:lnTo>
                <a:lnTo>
                  <a:pt x="1282" y="158"/>
                </a:lnTo>
                <a:lnTo>
                  <a:pt x="1275" y="158"/>
                </a:lnTo>
                <a:lnTo>
                  <a:pt x="1268" y="165"/>
                </a:lnTo>
                <a:lnTo>
                  <a:pt x="1261" y="165"/>
                </a:lnTo>
                <a:lnTo>
                  <a:pt x="1255" y="171"/>
                </a:lnTo>
                <a:lnTo>
                  <a:pt x="1248" y="171"/>
                </a:lnTo>
                <a:lnTo>
                  <a:pt x="1234" y="171"/>
                </a:lnTo>
                <a:lnTo>
                  <a:pt x="1227" y="165"/>
                </a:lnTo>
                <a:lnTo>
                  <a:pt x="1220" y="171"/>
                </a:lnTo>
                <a:lnTo>
                  <a:pt x="1213" y="171"/>
                </a:lnTo>
                <a:lnTo>
                  <a:pt x="1207" y="178"/>
                </a:lnTo>
                <a:lnTo>
                  <a:pt x="1207" y="185"/>
                </a:lnTo>
                <a:lnTo>
                  <a:pt x="1193" y="185"/>
                </a:lnTo>
                <a:lnTo>
                  <a:pt x="1186" y="192"/>
                </a:lnTo>
                <a:lnTo>
                  <a:pt x="1179" y="192"/>
                </a:lnTo>
                <a:lnTo>
                  <a:pt x="1172" y="192"/>
                </a:lnTo>
                <a:lnTo>
                  <a:pt x="1165" y="199"/>
                </a:lnTo>
                <a:lnTo>
                  <a:pt x="1152" y="199"/>
                </a:lnTo>
                <a:lnTo>
                  <a:pt x="1145" y="199"/>
                </a:lnTo>
                <a:lnTo>
                  <a:pt x="1138" y="199"/>
                </a:lnTo>
                <a:lnTo>
                  <a:pt x="1131" y="199"/>
                </a:lnTo>
                <a:lnTo>
                  <a:pt x="1131" y="206"/>
                </a:lnTo>
                <a:lnTo>
                  <a:pt x="1131" y="212"/>
                </a:lnTo>
                <a:lnTo>
                  <a:pt x="1131" y="219"/>
                </a:lnTo>
                <a:lnTo>
                  <a:pt x="1131" y="219"/>
                </a:lnTo>
                <a:lnTo>
                  <a:pt x="1138" y="226"/>
                </a:lnTo>
                <a:lnTo>
                  <a:pt x="1138" y="233"/>
                </a:lnTo>
                <a:lnTo>
                  <a:pt x="1138" y="240"/>
                </a:lnTo>
                <a:lnTo>
                  <a:pt x="1131" y="240"/>
                </a:lnTo>
                <a:lnTo>
                  <a:pt x="1124" y="247"/>
                </a:lnTo>
                <a:lnTo>
                  <a:pt x="1117" y="247"/>
                </a:lnTo>
                <a:lnTo>
                  <a:pt x="1111" y="253"/>
                </a:lnTo>
                <a:lnTo>
                  <a:pt x="1104" y="253"/>
                </a:lnTo>
                <a:lnTo>
                  <a:pt x="1097" y="260"/>
                </a:lnTo>
                <a:lnTo>
                  <a:pt x="1090" y="260"/>
                </a:lnTo>
                <a:lnTo>
                  <a:pt x="1083" y="267"/>
                </a:lnTo>
                <a:lnTo>
                  <a:pt x="1076" y="267"/>
                </a:lnTo>
                <a:lnTo>
                  <a:pt x="1070" y="274"/>
                </a:lnTo>
                <a:lnTo>
                  <a:pt x="1063" y="274"/>
                </a:lnTo>
                <a:lnTo>
                  <a:pt x="1056" y="281"/>
                </a:lnTo>
                <a:lnTo>
                  <a:pt x="1049" y="288"/>
                </a:lnTo>
                <a:lnTo>
                  <a:pt x="1042" y="288"/>
                </a:lnTo>
                <a:lnTo>
                  <a:pt x="1035" y="295"/>
                </a:lnTo>
                <a:lnTo>
                  <a:pt x="1028" y="295"/>
                </a:lnTo>
                <a:lnTo>
                  <a:pt x="1022" y="301"/>
                </a:lnTo>
                <a:lnTo>
                  <a:pt x="1015" y="308"/>
                </a:lnTo>
                <a:lnTo>
                  <a:pt x="1015" y="315"/>
                </a:lnTo>
                <a:lnTo>
                  <a:pt x="1015" y="322"/>
                </a:lnTo>
                <a:lnTo>
                  <a:pt x="1022" y="322"/>
                </a:lnTo>
                <a:lnTo>
                  <a:pt x="1028" y="329"/>
                </a:lnTo>
                <a:lnTo>
                  <a:pt x="1042" y="329"/>
                </a:lnTo>
                <a:lnTo>
                  <a:pt x="1049" y="329"/>
                </a:lnTo>
                <a:lnTo>
                  <a:pt x="1056" y="322"/>
                </a:lnTo>
                <a:close/>
                <a:moveTo>
                  <a:pt x="2379" y="178"/>
                </a:moveTo>
                <a:lnTo>
                  <a:pt x="2372" y="171"/>
                </a:lnTo>
                <a:lnTo>
                  <a:pt x="2372" y="171"/>
                </a:lnTo>
                <a:lnTo>
                  <a:pt x="2365" y="171"/>
                </a:lnTo>
                <a:lnTo>
                  <a:pt x="2358" y="171"/>
                </a:lnTo>
                <a:lnTo>
                  <a:pt x="2352" y="165"/>
                </a:lnTo>
                <a:lnTo>
                  <a:pt x="2345" y="165"/>
                </a:lnTo>
                <a:lnTo>
                  <a:pt x="2338" y="165"/>
                </a:lnTo>
                <a:lnTo>
                  <a:pt x="2331" y="165"/>
                </a:lnTo>
                <a:lnTo>
                  <a:pt x="2324" y="165"/>
                </a:lnTo>
                <a:lnTo>
                  <a:pt x="2324" y="165"/>
                </a:lnTo>
                <a:lnTo>
                  <a:pt x="2317" y="165"/>
                </a:lnTo>
                <a:lnTo>
                  <a:pt x="2317" y="165"/>
                </a:lnTo>
                <a:lnTo>
                  <a:pt x="2310" y="171"/>
                </a:lnTo>
                <a:lnTo>
                  <a:pt x="2310" y="178"/>
                </a:lnTo>
                <a:lnTo>
                  <a:pt x="2317" y="178"/>
                </a:lnTo>
                <a:lnTo>
                  <a:pt x="2317" y="178"/>
                </a:lnTo>
                <a:lnTo>
                  <a:pt x="2324" y="185"/>
                </a:lnTo>
                <a:lnTo>
                  <a:pt x="2331" y="185"/>
                </a:lnTo>
                <a:lnTo>
                  <a:pt x="2338" y="185"/>
                </a:lnTo>
                <a:lnTo>
                  <a:pt x="2345" y="185"/>
                </a:lnTo>
                <a:lnTo>
                  <a:pt x="2352" y="178"/>
                </a:lnTo>
                <a:lnTo>
                  <a:pt x="2358" y="178"/>
                </a:lnTo>
                <a:lnTo>
                  <a:pt x="2358" y="178"/>
                </a:lnTo>
                <a:lnTo>
                  <a:pt x="2365" y="178"/>
                </a:lnTo>
                <a:lnTo>
                  <a:pt x="2372" y="178"/>
                </a:lnTo>
                <a:lnTo>
                  <a:pt x="2379" y="178"/>
                </a:lnTo>
                <a:close/>
                <a:moveTo>
                  <a:pt x="1392" y="144"/>
                </a:moveTo>
                <a:lnTo>
                  <a:pt x="1392" y="137"/>
                </a:lnTo>
                <a:lnTo>
                  <a:pt x="1392" y="137"/>
                </a:lnTo>
                <a:lnTo>
                  <a:pt x="1385" y="130"/>
                </a:lnTo>
                <a:lnTo>
                  <a:pt x="1378" y="130"/>
                </a:lnTo>
                <a:lnTo>
                  <a:pt x="1364" y="137"/>
                </a:lnTo>
                <a:lnTo>
                  <a:pt x="1357" y="137"/>
                </a:lnTo>
                <a:lnTo>
                  <a:pt x="1351" y="137"/>
                </a:lnTo>
                <a:lnTo>
                  <a:pt x="1337" y="137"/>
                </a:lnTo>
                <a:lnTo>
                  <a:pt x="1330" y="137"/>
                </a:lnTo>
                <a:lnTo>
                  <a:pt x="1323" y="137"/>
                </a:lnTo>
                <a:lnTo>
                  <a:pt x="1309" y="144"/>
                </a:lnTo>
                <a:lnTo>
                  <a:pt x="1303" y="144"/>
                </a:lnTo>
                <a:lnTo>
                  <a:pt x="1303" y="151"/>
                </a:lnTo>
                <a:lnTo>
                  <a:pt x="1309" y="158"/>
                </a:lnTo>
                <a:lnTo>
                  <a:pt x="1316" y="165"/>
                </a:lnTo>
                <a:lnTo>
                  <a:pt x="1323" y="165"/>
                </a:lnTo>
                <a:lnTo>
                  <a:pt x="1330" y="171"/>
                </a:lnTo>
                <a:lnTo>
                  <a:pt x="1344" y="171"/>
                </a:lnTo>
                <a:lnTo>
                  <a:pt x="1351" y="171"/>
                </a:lnTo>
                <a:lnTo>
                  <a:pt x="1357" y="171"/>
                </a:lnTo>
                <a:lnTo>
                  <a:pt x="1364" y="171"/>
                </a:lnTo>
                <a:lnTo>
                  <a:pt x="1371" y="165"/>
                </a:lnTo>
                <a:lnTo>
                  <a:pt x="1378" y="158"/>
                </a:lnTo>
                <a:lnTo>
                  <a:pt x="1378" y="151"/>
                </a:lnTo>
                <a:lnTo>
                  <a:pt x="1385" y="151"/>
                </a:lnTo>
                <a:lnTo>
                  <a:pt x="1392" y="144"/>
                </a:lnTo>
                <a:close/>
                <a:moveTo>
                  <a:pt x="2242" y="144"/>
                </a:moveTo>
                <a:lnTo>
                  <a:pt x="2242" y="144"/>
                </a:lnTo>
                <a:lnTo>
                  <a:pt x="2242" y="144"/>
                </a:lnTo>
                <a:lnTo>
                  <a:pt x="2235" y="144"/>
                </a:lnTo>
                <a:lnTo>
                  <a:pt x="2235" y="144"/>
                </a:lnTo>
                <a:lnTo>
                  <a:pt x="2228" y="144"/>
                </a:lnTo>
                <a:lnTo>
                  <a:pt x="2228" y="144"/>
                </a:lnTo>
                <a:lnTo>
                  <a:pt x="2228" y="144"/>
                </a:lnTo>
                <a:lnTo>
                  <a:pt x="2228" y="144"/>
                </a:lnTo>
                <a:lnTo>
                  <a:pt x="2228" y="144"/>
                </a:lnTo>
                <a:lnTo>
                  <a:pt x="2235" y="144"/>
                </a:lnTo>
                <a:lnTo>
                  <a:pt x="2235" y="144"/>
                </a:lnTo>
                <a:lnTo>
                  <a:pt x="2242" y="144"/>
                </a:lnTo>
                <a:lnTo>
                  <a:pt x="2242" y="144"/>
                </a:lnTo>
                <a:lnTo>
                  <a:pt x="2242" y="144"/>
                </a:lnTo>
                <a:close/>
                <a:moveTo>
                  <a:pt x="1460" y="117"/>
                </a:moveTo>
                <a:lnTo>
                  <a:pt x="1460" y="117"/>
                </a:lnTo>
                <a:lnTo>
                  <a:pt x="1453" y="117"/>
                </a:lnTo>
                <a:lnTo>
                  <a:pt x="1447" y="110"/>
                </a:lnTo>
                <a:lnTo>
                  <a:pt x="1440" y="110"/>
                </a:lnTo>
                <a:lnTo>
                  <a:pt x="1433" y="110"/>
                </a:lnTo>
                <a:lnTo>
                  <a:pt x="1426" y="103"/>
                </a:lnTo>
                <a:lnTo>
                  <a:pt x="1419" y="103"/>
                </a:lnTo>
                <a:lnTo>
                  <a:pt x="1412" y="110"/>
                </a:lnTo>
                <a:lnTo>
                  <a:pt x="1405" y="110"/>
                </a:lnTo>
                <a:lnTo>
                  <a:pt x="1405" y="117"/>
                </a:lnTo>
                <a:lnTo>
                  <a:pt x="1405" y="117"/>
                </a:lnTo>
                <a:lnTo>
                  <a:pt x="1412" y="123"/>
                </a:lnTo>
                <a:lnTo>
                  <a:pt x="1419" y="123"/>
                </a:lnTo>
                <a:lnTo>
                  <a:pt x="1426" y="123"/>
                </a:lnTo>
                <a:lnTo>
                  <a:pt x="1433" y="123"/>
                </a:lnTo>
                <a:lnTo>
                  <a:pt x="1440" y="123"/>
                </a:lnTo>
                <a:lnTo>
                  <a:pt x="1447" y="123"/>
                </a:lnTo>
                <a:lnTo>
                  <a:pt x="1453" y="123"/>
                </a:lnTo>
                <a:lnTo>
                  <a:pt x="1460" y="123"/>
                </a:lnTo>
                <a:lnTo>
                  <a:pt x="1460" y="117"/>
                </a:lnTo>
                <a:close/>
                <a:moveTo>
                  <a:pt x="2434" y="1800"/>
                </a:moveTo>
                <a:lnTo>
                  <a:pt x="2461" y="1773"/>
                </a:lnTo>
                <a:lnTo>
                  <a:pt x="2489" y="1773"/>
                </a:lnTo>
                <a:lnTo>
                  <a:pt x="2516" y="1773"/>
                </a:lnTo>
                <a:lnTo>
                  <a:pt x="2550" y="1773"/>
                </a:lnTo>
                <a:lnTo>
                  <a:pt x="2578" y="1773"/>
                </a:lnTo>
                <a:lnTo>
                  <a:pt x="2605" y="1773"/>
                </a:lnTo>
                <a:lnTo>
                  <a:pt x="2633" y="1773"/>
                </a:lnTo>
                <a:lnTo>
                  <a:pt x="2660" y="1745"/>
                </a:lnTo>
                <a:lnTo>
                  <a:pt x="2660" y="1718"/>
                </a:lnTo>
                <a:lnTo>
                  <a:pt x="2660" y="1684"/>
                </a:lnTo>
                <a:lnTo>
                  <a:pt x="2660" y="1656"/>
                </a:lnTo>
                <a:lnTo>
                  <a:pt x="2694" y="1629"/>
                </a:lnTo>
                <a:lnTo>
                  <a:pt x="2694" y="1601"/>
                </a:lnTo>
                <a:lnTo>
                  <a:pt x="2694" y="1567"/>
                </a:lnTo>
                <a:lnTo>
                  <a:pt x="2694" y="1540"/>
                </a:lnTo>
                <a:lnTo>
                  <a:pt x="2722" y="1513"/>
                </a:lnTo>
                <a:lnTo>
                  <a:pt x="2722" y="1485"/>
                </a:lnTo>
                <a:lnTo>
                  <a:pt x="2722" y="1451"/>
                </a:lnTo>
                <a:lnTo>
                  <a:pt x="2722" y="1424"/>
                </a:lnTo>
                <a:lnTo>
                  <a:pt x="2749" y="1396"/>
                </a:lnTo>
                <a:lnTo>
                  <a:pt x="2749" y="1369"/>
                </a:lnTo>
                <a:lnTo>
                  <a:pt x="2749" y="1335"/>
                </a:lnTo>
                <a:lnTo>
                  <a:pt x="2749" y="1307"/>
                </a:lnTo>
                <a:lnTo>
                  <a:pt x="2777" y="1280"/>
                </a:lnTo>
                <a:lnTo>
                  <a:pt x="2777" y="1252"/>
                </a:lnTo>
                <a:lnTo>
                  <a:pt x="2777" y="1218"/>
                </a:lnTo>
                <a:lnTo>
                  <a:pt x="2777" y="1191"/>
                </a:lnTo>
                <a:lnTo>
                  <a:pt x="2811" y="1164"/>
                </a:lnTo>
                <a:lnTo>
                  <a:pt x="2811" y="1136"/>
                </a:lnTo>
                <a:lnTo>
                  <a:pt x="2811" y="1102"/>
                </a:lnTo>
                <a:lnTo>
                  <a:pt x="2811" y="1075"/>
                </a:lnTo>
                <a:lnTo>
                  <a:pt x="2811" y="1047"/>
                </a:lnTo>
                <a:lnTo>
                  <a:pt x="2811" y="1020"/>
                </a:lnTo>
                <a:lnTo>
                  <a:pt x="2811" y="992"/>
                </a:lnTo>
                <a:lnTo>
                  <a:pt x="2811" y="958"/>
                </a:lnTo>
                <a:lnTo>
                  <a:pt x="2811" y="931"/>
                </a:lnTo>
                <a:lnTo>
                  <a:pt x="2811" y="904"/>
                </a:lnTo>
                <a:lnTo>
                  <a:pt x="2811" y="876"/>
                </a:lnTo>
                <a:lnTo>
                  <a:pt x="2811" y="842"/>
                </a:lnTo>
                <a:lnTo>
                  <a:pt x="2811" y="815"/>
                </a:lnTo>
                <a:lnTo>
                  <a:pt x="2811" y="787"/>
                </a:lnTo>
                <a:lnTo>
                  <a:pt x="2811" y="760"/>
                </a:lnTo>
                <a:lnTo>
                  <a:pt x="2811" y="726"/>
                </a:lnTo>
                <a:lnTo>
                  <a:pt x="2811" y="698"/>
                </a:lnTo>
                <a:lnTo>
                  <a:pt x="2811" y="671"/>
                </a:lnTo>
                <a:lnTo>
                  <a:pt x="2811" y="643"/>
                </a:lnTo>
                <a:lnTo>
                  <a:pt x="2811" y="609"/>
                </a:lnTo>
                <a:lnTo>
                  <a:pt x="2811" y="582"/>
                </a:lnTo>
                <a:lnTo>
                  <a:pt x="2811" y="555"/>
                </a:lnTo>
                <a:lnTo>
                  <a:pt x="2811" y="527"/>
                </a:lnTo>
                <a:lnTo>
                  <a:pt x="2811" y="493"/>
                </a:lnTo>
                <a:lnTo>
                  <a:pt x="2811" y="466"/>
                </a:lnTo>
                <a:lnTo>
                  <a:pt x="2811" y="438"/>
                </a:lnTo>
                <a:lnTo>
                  <a:pt x="2811" y="411"/>
                </a:lnTo>
                <a:lnTo>
                  <a:pt x="2811" y="377"/>
                </a:lnTo>
                <a:lnTo>
                  <a:pt x="2811" y="349"/>
                </a:lnTo>
                <a:lnTo>
                  <a:pt x="2811" y="322"/>
                </a:lnTo>
                <a:lnTo>
                  <a:pt x="2811" y="295"/>
                </a:lnTo>
                <a:lnTo>
                  <a:pt x="2811" y="260"/>
                </a:lnTo>
                <a:lnTo>
                  <a:pt x="2777" y="233"/>
                </a:lnTo>
                <a:lnTo>
                  <a:pt x="2777" y="206"/>
                </a:lnTo>
                <a:lnTo>
                  <a:pt x="2777" y="178"/>
                </a:lnTo>
                <a:lnTo>
                  <a:pt x="2777" y="144"/>
                </a:lnTo>
                <a:lnTo>
                  <a:pt x="2777" y="117"/>
                </a:lnTo>
                <a:lnTo>
                  <a:pt x="2749" y="89"/>
                </a:lnTo>
                <a:lnTo>
                  <a:pt x="2722" y="89"/>
                </a:lnTo>
                <a:lnTo>
                  <a:pt x="2694" y="89"/>
                </a:lnTo>
                <a:lnTo>
                  <a:pt x="2660" y="62"/>
                </a:lnTo>
                <a:lnTo>
                  <a:pt x="2633" y="62"/>
                </a:lnTo>
                <a:lnTo>
                  <a:pt x="2605" y="62"/>
                </a:lnTo>
                <a:lnTo>
                  <a:pt x="2578" y="28"/>
                </a:lnTo>
                <a:lnTo>
                  <a:pt x="2550" y="28"/>
                </a:lnTo>
                <a:lnTo>
                  <a:pt x="2516" y="28"/>
                </a:lnTo>
                <a:lnTo>
                  <a:pt x="2489" y="0"/>
                </a:lnTo>
                <a:lnTo>
                  <a:pt x="2461" y="0"/>
                </a:lnTo>
                <a:lnTo>
                  <a:pt x="2434" y="0"/>
                </a:lnTo>
                <a:lnTo>
                  <a:pt x="2400" y="0"/>
                </a:lnTo>
                <a:lnTo>
                  <a:pt x="2372" y="0"/>
                </a:lnTo>
                <a:lnTo>
                  <a:pt x="2345" y="0"/>
                </a:lnTo>
                <a:lnTo>
                  <a:pt x="2317" y="0"/>
                </a:lnTo>
                <a:lnTo>
                  <a:pt x="2290" y="0"/>
                </a:lnTo>
                <a:lnTo>
                  <a:pt x="2256" y="0"/>
                </a:lnTo>
                <a:lnTo>
                  <a:pt x="2228" y="0"/>
                </a:lnTo>
                <a:lnTo>
                  <a:pt x="2201" y="0"/>
                </a:lnTo>
                <a:lnTo>
                  <a:pt x="2173" y="0"/>
                </a:lnTo>
                <a:lnTo>
                  <a:pt x="2146" y="0"/>
                </a:lnTo>
                <a:lnTo>
                  <a:pt x="2112" y="0"/>
                </a:lnTo>
                <a:lnTo>
                  <a:pt x="2084" y="0"/>
                </a:lnTo>
                <a:lnTo>
                  <a:pt x="2057" y="0"/>
                </a:lnTo>
                <a:lnTo>
                  <a:pt x="2029" y="0"/>
                </a:lnTo>
                <a:lnTo>
                  <a:pt x="1995" y="0"/>
                </a:lnTo>
                <a:lnTo>
                  <a:pt x="1968" y="0"/>
                </a:lnTo>
                <a:lnTo>
                  <a:pt x="1940" y="0"/>
                </a:lnTo>
                <a:lnTo>
                  <a:pt x="1913" y="0"/>
                </a:lnTo>
                <a:lnTo>
                  <a:pt x="1885" y="0"/>
                </a:lnTo>
                <a:lnTo>
                  <a:pt x="1851" y="0"/>
                </a:lnTo>
                <a:lnTo>
                  <a:pt x="1824" y="0"/>
                </a:lnTo>
                <a:lnTo>
                  <a:pt x="1796" y="0"/>
                </a:lnTo>
                <a:lnTo>
                  <a:pt x="1769" y="0"/>
                </a:lnTo>
                <a:lnTo>
                  <a:pt x="1735" y="0"/>
                </a:lnTo>
                <a:lnTo>
                  <a:pt x="1707" y="0"/>
                </a:lnTo>
                <a:lnTo>
                  <a:pt x="1680" y="0"/>
                </a:lnTo>
                <a:lnTo>
                  <a:pt x="1652" y="0"/>
                </a:lnTo>
                <a:lnTo>
                  <a:pt x="1625" y="0"/>
                </a:lnTo>
                <a:lnTo>
                  <a:pt x="1591" y="0"/>
                </a:lnTo>
                <a:lnTo>
                  <a:pt x="1563" y="0"/>
                </a:lnTo>
                <a:lnTo>
                  <a:pt x="1536" y="0"/>
                </a:lnTo>
                <a:lnTo>
                  <a:pt x="1508" y="0"/>
                </a:lnTo>
                <a:lnTo>
                  <a:pt x="1474" y="0"/>
                </a:lnTo>
                <a:lnTo>
                  <a:pt x="1447" y="0"/>
                </a:lnTo>
                <a:lnTo>
                  <a:pt x="1419" y="0"/>
                </a:lnTo>
                <a:lnTo>
                  <a:pt x="1392" y="0"/>
                </a:lnTo>
                <a:lnTo>
                  <a:pt x="1364" y="0"/>
                </a:lnTo>
                <a:lnTo>
                  <a:pt x="1330" y="0"/>
                </a:lnTo>
                <a:lnTo>
                  <a:pt x="1303" y="0"/>
                </a:lnTo>
                <a:lnTo>
                  <a:pt x="1275" y="0"/>
                </a:lnTo>
                <a:lnTo>
                  <a:pt x="1248" y="0"/>
                </a:lnTo>
                <a:lnTo>
                  <a:pt x="1213" y="0"/>
                </a:lnTo>
                <a:lnTo>
                  <a:pt x="1186" y="0"/>
                </a:lnTo>
                <a:lnTo>
                  <a:pt x="1159" y="0"/>
                </a:lnTo>
                <a:lnTo>
                  <a:pt x="1131" y="0"/>
                </a:lnTo>
                <a:lnTo>
                  <a:pt x="1104" y="0"/>
                </a:lnTo>
                <a:lnTo>
                  <a:pt x="1070" y="0"/>
                </a:lnTo>
                <a:lnTo>
                  <a:pt x="1042" y="0"/>
                </a:lnTo>
                <a:lnTo>
                  <a:pt x="1015" y="0"/>
                </a:lnTo>
                <a:lnTo>
                  <a:pt x="987" y="0"/>
                </a:lnTo>
                <a:lnTo>
                  <a:pt x="953" y="0"/>
                </a:lnTo>
                <a:lnTo>
                  <a:pt x="926" y="0"/>
                </a:lnTo>
                <a:lnTo>
                  <a:pt x="898" y="0"/>
                </a:lnTo>
                <a:lnTo>
                  <a:pt x="871" y="0"/>
                </a:lnTo>
                <a:lnTo>
                  <a:pt x="843" y="0"/>
                </a:lnTo>
                <a:lnTo>
                  <a:pt x="809" y="0"/>
                </a:lnTo>
                <a:lnTo>
                  <a:pt x="782" y="0"/>
                </a:lnTo>
                <a:lnTo>
                  <a:pt x="754" y="0"/>
                </a:lnTo>
                <a:lnTo>
                  <a:pt x="727" y="0"/>
                </a:lnTo>
                <a:lnTo>
                  <a:pt x="692" y="0"/>
                </a:lnTo>
                <a:lnTo>
                  <a:pt x="665" y="0"/>
                </a:lnTo>
                <a:lnTo>
                  <a:pt x="638" y="28"/>
                </a:lnTo>
                <a:lnTo>
                  <a:pt x="610" y="62"/>
                </a:lnTo>
                <a:lnTo>
                  <a:pt x="583" y="89"/>
                </a:lnTo>
                <a:lnTo>
                  <a:pt x="548" y="117"/>
                </a:lnTo>
                <a:lnTo>
                  <a:pt x="521" y="144"/>
                </a:lnTo>
                <a:lnTo>
                  <a:pt x="494" y="144"/>
                </a:lnTo>
                <a:lnTo>
                  <a:pt x="466" y="178"/>
                </a:lnTo>
                <a:lnTo>
                  <a:pt x="432" y="206"/>
                </a:lnTo>
                <a:lnTo>
                  <a:pt x="404" y="233"/>
                </a:lnTo>
                <a:lnTo>
                  <a:pt x="377" y="260"/>
                </a:lnTo>
                <a:lnTo>
                  <a:pt x="350" y="295"/>
                </a:lnTo>
                <a:lnTo>
                  <a:pt x="322" y="322"/>
                </a:lnTo>
                <a:lnTo>
                  <a:pt x="288" y="349"/>
                </a:lnTo>
                <a:lnTo>
                  <a:pt x="261" y="349"/>
                </a:lnTo>
                <a:lnTo>
                  <a:pt x="233" y="377"/>
                </a:lnTo>
                <a:lnTo>
                  <a:pt x="206" y="411"/>
                </a:lnTo>
                <a:lnTo>
                  <a:pt x="171" y="438"/>
                </a:lnTo>
                <a:lnTo>
                  <a:pt x="144" y="466"/>
                </a:lnTo>
                <a:lnTo>
                  <a:pt x="117" y="493"/>
                </a:lnTo>
                <a:lnTo>
                  <a:pt x="89" y="527"/>
                </a:lnTo>
                <a:lnTo>
                  <a:pt x="62" y="555"/>
                </a:lnTo>
                <a:lnTo>
                  <a:pt x="27" y="555"/>
                </a:lnTo>
                <a:lnTo>
                  <a:pt x="0" y="582"/>
                </a:lnTo>
                <a:lnTo>
                  <a:pt x="0" y="609"/>
                </a:lnTo>
                <a:lnTo>
                  <a:pt x="0" y="643"/>
                </a:lnTo>
                <a:lnTo>
                  <a:pt x="0" y="671"/>
                </a:lnTo>
                <a:lnTo>
                  <a:pt x="27" y="698"/>
                </a:lnTo>
                <a:lnTo>
                  <a:pt x="27" y="726"/>
                </a:lnTo>
                <a:lnTo>
                  <a:pt x="62" y="760"/>
                </a:lnTo>
                <a:lnTo>
                  <a:pt x="89" y="787"/>
                </a:lnTo>
                <a:lnTo>
                  <a:pt x="117" y="815"/>
                </a:lnTo>
                <a:lnTo>
                  <a:pt x="144" y="842"/>
                </a:lnTo>
                <a:lnTo>
                  <a:pt x="144" y="876"/>
                </a:lnTo>
                <a:lnTo>
                  <a:pt x="171" y="904"/>
                </a:lnTo>
                <a:lnTo>
                  <a:pt x="206" y="931"/>
                </a:lnTo>
                <a:lnTo>
                  <a:pt x="233" y="958"/>
                </a:lnTo>
                <a:lnTo>
                  <a:pt x="261" y="992"/>
                </a:lnTo>
                <a:lnTo>
                  <a:pt x="288" y="1020"/>
                </a:lnTo>
                <a:lnTo>
                  <a:pt x="322" y="1047"/>
                </a:lnTo>
                <a:lnTo>
                  <a:pt x="322" y="1075"/>
                </a:lnTo>
                <a:lnTo>
                  <a:pt x="350" y="1102"/>
                </a:lnTo>
                <a:lnTo>
                  <a:pt x="377" y="1136"/>
                </a:lnTo>
                <a:lnTo>
                  <a:pt x="404" y="1164"/>
                </a:lnTo>
                <a:lnTo>
                  <a:pt x="432" y="1191"/>
                </a:lnTo>
                <a:lnTo>
                  <a:pt x="466" y="1218"/>
                </a:lnTo>
                <a:lnTo>
                  <a:pt x="494" y="1252"/>
                </a:lnTo>
                <a:lnTo>
                  <a:pt x="521" y="1280"/>
                </a:lnTo>
                <a:lnTo>
                  <a:pt x="548" y="1307"/>
                </a:lnTo>
                <a:lnTo>
                  <a:pt x="583" y="1335"/>
                </a:lnTo>
                <a:lnTo>
                  <a:pt x="610" y="1369"/>
                </a:lnTo>
                <a:lnTo>
                  <a:pt x="638" y="1396"/>
                </a:lnTo>
                <a:lnTo>
                  <a:pt x="665" y="1424"/>
                </a:lnTo>
                <a:lnTo>
                  <a:pt x="692" y="1451"/>
                </a:lnTo>
                <a:lnTo>
                  <a:pt x="727" y="1485"/>
                </a:lnTo>
                <a:lnTo>
                  <a:pt x="754" y="1513"/>
                </a:lnTo>
                <a:lnTo>
                  <a:pt x="782" y="1540"/>
                </a:lnTo>
                <a:lnTo>
                  <a:pt x="809" y="1567"/>
                </a:lnTo>
                <a:lnTo>
                  <a:pt x="843" y="1601"/>
                </a:lnTo>
                <a:lnTo>
                  <a:pt x="871" y="1601"/>
                </a:lnTo>
                <a:lnTo>
                  <a:pt x="898" y="1629"/>
                </a:lnTo>
                <a:lnTo>
                  <a:pt x="926" y="1656"/>
                </a:lnTo>
                <a:lnTo>
                  <a:pt x="953" y="1684"/>
                </a:lnTo>
                <a:lnTo>
                  <a:pt x="987" y="1718"/>
                </a:lnTo>
                <a:lnTo>
                  <a:pt x="1015" y="1745"/>
                </a:lnTo>
                <a:lnTo>
                  <a:pt x="1042" y="1773"/>
                </a:lnTo>
                <a:lnTo>
                  <a:pt x="1070" y="1800"/>
                </a:lnTo>
                <a:lnTo>
                  <a:pt x="1104" y="1800"/>
                </a:lnTo>
                <a:lnTo>
                  <a:pt x="1131" y="1800"/>
                </a:lnTo>
                <a:lnTo>
                  <a:pt x="1159" y="1800"/>
                </a:lnTo>
                <a:lnTo>
                  <a:pt x="1186" y="1800"/>
                </a:lnTo>
                <a:lnTo>
                  <a:pt x="1213" y="1800"/>
                </a:lnTo>
                <a:lnTo>
                  <a:pt x="1248" y="1800"/>
                </a:lnTo>
                <a:lnTo>
                  <a:pt x="1275" y="1800"/>
                </a:lnTo>
                <a:lnTo>
                  <a:pt x="1303" y="1800"/>
                </a:lnTo>
                <a:lnTo>
                  <a:pt x="1330" y="1800"/>
                </a:lnTo>
                <a:lnTo>
                  <a:pt x="1364" y="1800"/>
                </a:lnTo>
                <a:lnTo>
                  <a:pt x="1392" y="1800"/>
                </a:lnTo>
                <a:lnTo>
                  <a:pt x="1419" y="1800"/>
                </a:lnTo>
                <a:lnTo>
                  <a:pt x="1447" y="1800"/>
                </a:lnTo>
                <a:lnTo>
                  <a:pt x="1474" y="1800"/>
                </a:lnTo>
                <a:lnTo>
                  <a:pt x="1508" y="1800"/>
                </a:lnTo>
                <a:lnTo>
                  <a:pt x="1536" y="1800"/>
                </a:lnTo>
                <a:lnTo>
                  <a:pt x="1563" y="1800"/>
                </a:lnTo>
                <a:lnTo>
                  <a:pt x="1591" y="1800"/>
                </a:lnTo>
                <a:lnTo>
                  <a:pt x="1625" y="1800"/>
                </a:lnTo>
                <a:lnTo>
                  <a:pt x="1652" y="1800"/>
                </a:lnTo>
                <a:lnTo>
                  <a:pt x="1680" y="1800"/>
                </a:lnTo>
                <a:lnTo>
                  <a:pt x="1707" y="1800"/>
                </a:lnTo>
                <a:lnTo>
                  <a:pt x="1735" y="1800"/>
                </a:lnTo>
                <a:lnTo>
                  <a:pt x="1769" y="1800"/>
                </a:lnTo>
                <a:lnTo>
                  <a:pt x="1796" y="1800"/>
                </a:lnTo>
                <a:lnTo>
                  <a:pt x="1824" y="1800"/>
                </a:lnTo>
                <a:lnTo>
                  <a:pt x="1851" y="1800"/>
                </a:lnTo>
                <a:lnTo>
                  <a:pt x="1885" y="1800"/>
                </a:lnTo>
                <a:lnTo>
                  <a:pt x="1913" y="1800"/>
                </a:lnTo>
                <a:lnTo>
                  <a:pt x="1940" y="1800"/>
                </a:lnTo>
                <a:lnTo>
                  <a:pt x="1968" y="1800"/>
                </a:lnTo>
                <a:lnTo>
                  <a:pt x="1995" y="1800"/>
                </a:lnTo>
                <a:lnTo>
                  <a:pt x="2029" y="1800"/>
                </a:lnTo>
                <a:lnTo>
                  <a:pt x="2057" y="1800"/>
                </a:lnTo>
                <a:lnTo>
                  <a:pt x="2084" y="1800"/>
                </a:lnTo>
                <a:lnTo>
                  <a:pt x="2112" y="1800"/>
                </a:lnTo>
                <a:lnTo>
                  <a:pt x="2146" y="1800"/>
                </a:lnTo>
                <a:lnTo>
                  <a:pt x="2173" y="1800"/>
                </a:lnTo>
                <a:lnTo>
                  <a:pt x="2201" y="1800"/>
                </a:lnTo>
                <a:lnTo>
                  <a:pt x="2228" y="1800"/>
                </a:lnTo>
                <a:lnTo>
                  <a:pt x="2256" y="1800"/>
                </a:lnTo>
                <a:lnTo>
                  <a:pt x="2290" y="1800"/>
                </a:lnTo>
                <a:lnTo>
                  <a:pt x="2317" y="1800"/>
                </a:lnTo>
                <a:lnTo>
                  <a:pt x="2345" y="1800"/>
                </a:lnTo>
                <a:lnTo>
                  <a:pt x="2372" y="1800"/>
                </a:lnTo>
                <a:lnTo>
                  <a:pt x="2400" y="1800"/>
                </a:lnTo>
                <a:lnTo>
                  <a:pt x="2434" y="1800"/>
                </a:lnTo>
                <a:close/>
              </a:path>
            </a:pathLst>
          </a:custGeom>
          <a:solidFill>
            <a:srgbClr val="7fdb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0" name=""/>
          <p:cNvSpPr/>
          <p:nvPr/>
        </p:nvSpPr>
        <p:spPr>
          <a:xfrm>
            <a:off x="3540240" y="2928960"/>
            <a:ext cx="11160" cy="31680"/>
          </a:xfrm>
          <a:custGeom>
            <a:avLst/>
            <a:gdLst/>
            <a:ahLst/>
            <a:rect l="l" t="t" r="r" b="b"/>
            <a:pathLst>
              <a:path w="7" h="20">
                <a:moveTo>
                  <a:pt x="7" y="14"/>
                </a:moveTo>
                <a:lnTo>
                  <a:pt x="7" y="7"/>
                </a:lnTo>
                <a:lnTo>
                  <a:pt x="0" y="7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14"/>
                </a:lnTo>
                <a:lnTo>
                  <a:pt x="0" y="14"/>
                </a:lnTo>
                <a:lnTo>
                  <a:pt x="0" y="20"/>
                </a:lnTo>
                <a:lnTo>
                  <a:pt x="0" y="20"/>
                </a:lnTo>
                <a:lnTo>
                  <a:pt x="0" y="14"/>
                </a:lnTo>
                <a:lnTo>
                  <a:pt x="7" y="14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1" name=""/>
          <p:cNvSpPr/>
          <p:nvPr/>
        </p:nvSpPr>
        <p:spPr>
          <a:xfrm>
            <a:off x="3887640" y="2852640"/>
            <a:ext cx="33480" cy="54000"/>
          </a:xfrm>
          <a:custGeom>
            <a:avLst/>
            <a:gdLst/>
            <a:ahLst/>
            <a:rect l="l" t="t" r="r" b="b"/>
            <a:pathLst>
              <a:path w="21" h="34">
                <a:moveTo>
                  <a:pt x="14" y="34"/>
                </a:moveTo>
                <a:lnTo>
                  <a:pt x="14" y="27"/>
                </a:lnTo>
                <a:lnTo>
                  <a:pt x="14" y="21"/>
                </a:lnTo>
                <a:lnTo>
                  <a:pt x="21" y="21"/>
                </a:lnTo>
                <a:lnTo>
                  <a:pt x="21" y="14"/>
                </a:lnTo>
                <a:lnTo>
                  <a:pt x="21" y="14"/>
                </a:lnTo>
                <a:lnTo>
                  <a:pt x="21" y="7"/>
                </a:lnTo>
                <a:lnTo>
                  <a:pt x="21" y="7"/>
                </a:lnTo>
                <a:lnTo>
                  <a:pt x="14" y="7"/>
                </a:lnTo>
                <a:lnTo>
                  <a:pt x="14" y="0"/>
                </a:lnTo>
                <a:lnTo>
                  <a:pt x="7" y="7"/>
                </a:lnTo>
                <a:lnTo>
                  <a:pt x="7" y="7"/>
                </a:lnTo>
                <a:lnTo>
                  <a:pt x="0" y="7"/>
                </a:lnTo>
                <a:lnTo>
                  <a:pt x="0" y="14"/>
                </a:lnTo>
                <a:lnTo>
                  <a:pt x="7" y="14"/>
                </a:lnTo>
                <a:lnTo>
                  <a:pt x="7" y="21"/>
                </a:lnTo>
                <a:lnTo>
                  <a:pt x="7" y="21"/>
                </a:lnTo>
                <a:lnTo>
                  <a:pt x="7" y="27"/>
                </a:lnTo>
                <a:lnTo>
                  <a:pt x="14" y="34"/>
                </a:lnTo>
                <a:lnTo>
                  <a:pt x="14" y="34"/>
                </a:lnTo>
                <a:lnTo>
                  <a:pt x="14" y="34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2" name=""/>
          <p:cNvSpPr/>
          <p:nvPr/>
        </p:nvSpPr>
        <p:spPr>
          <a:xfrm>
            <a:off x="3573360" y="2798640"/>
            <a:ext cx="20880" cy="76320"/>
          </a:xfrm>
          <a:custGeom>
            <a:avLst/>
            <a:gdLst/>
            <a:ahLst/>
            <a:rect l="l" t="t" r="r" b="b"/>
            <a:pathLst>
              <a:path w="13" h="48">
                <a:moveTo>
                  <a:pt x="13" y="34"/>
                </a:moveTo>
                <a:lnTo>
                  <a:pt x="13" y="34"/>
                </a:lnTo>
                <a:lnTo>
                  <a:pt x="13" y="27"/>
                </a:lnTo>
                <a:lnTo>
                  <a:pt x="13" y="27"/>
                </a:lnTo>
                <a:lnTo>
                  <a:pt x="13" y="20"/>
                </a:lnTo>
                <a:lnTo>
                  <a:pt x="13" y="13"/>
                </a:lnTo>
                <a:lnTo>
                  <a:pt x="13" y="13"/>
                </a:lnTo>
                <a:lnTo>
                  <a:pt x="13" y="7"/>
                </a:lnTo>
                <a:lnTo>
                  <a:pt x="6" y="0"/>
                </a:lnTo>
                <a:lnTo>
                  <a:pt x="6" y="7"/>
                </a:lnTo>
                <a:lnTo>
                  <a:pt x="6" y="13"/>
                </a:lnTo>
                <a:lnTo>
                  <a:pt x="0" y="20"/>
                </a:lnTo>
                <a:lnTo>
                  <a:pt x="0" y="20"/>
                </a:lnTo>
                <a:lnTo>
                  <a:pt x="0" y="27"/>
                </a:lnTo>
                <a:lnTo>
                  <a:pt x="0" y="27"/>
                </a:lnTo>
                <a:lnTo>
                  <a:pt x="0" y="34"/>
                </a:lnTo>
                <a:lnTo>
                  <a:pt x="6" y="41"/>
                </a:lnTo>
                <a:lnTo>
                  <a:pt x="6" y="41"/>
                </a:lnTo>
                <a:lnTo>
                  <a:pt x="6" y="48"/>
                </a:lnTo>
                <a:lnTo>
                  <a:pt x="13" y="41"/>
                </a:lnTo>
                <a:lnTo>
                  <a:pt x="13" y="34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3" name=""/>
          <p:cNvSpPr/>
          <p:nvPr/>
        </p:nvSpPr>
        <p:spPr>
          <a:xfrm>
            <a:off x="3594240" y="2711520"/>
            <a:ext cx="55440" cy="54000"/>
          </a:xfrm>
          <a:custGeom>
            <a:avLst/>
            <a:gdLst/>
            <a:ahLst/>
            <a:rect l="l" t="t" r="r" b="b"/>
            <a:pathLst>
              <a:path w="35" h="34">
                <a:moveTo>
                  <a:pt x="28" y="34"/>
                </a:moveTo>
                <a:lnTo>
                  <a:pt x="28" y="27"/>
                </a:lnTo>
                <a:lnTo>
                  <a:pt x="35" y="21"/>
                </a:lnTo>
                <a:lnTo>
                  <a:pt x="35" y="21"/>
                </a:lnTo>
                <a:lnTo>
                  <a:pt x="35" y="14"/>
                </a:lnTo>
                <a:lnTo>
                  <a:pt x="35" y="7"/>
                </a:lnTo>
                <a:lnTo>
                  <a:pt x="35" y="7"/>
                </a:lnTo>
                <a:lnTo>
                  <a:pt x="28" y="0"/>
                </a:lnTo>
                <a:lnTo>
                  <a:pt x="21" y="0"/>
                </a:lnTo>
                <a:lnTo>
                  <a:pt x="14" y="0"/>
                </a:lnTo>
                <a:lnTo>
                  <a:pt x="7" y="0"/>
                </a:lnTo>
                <a:lnTo>
                  <a:pt x="0" y="0"/>
                </a:lnTo>
                <a:lnTo>
                  <a:pt x="0" y="7"/>
                </a:lnTo>
                <a:lnTo>
                  <a:pt x="0" y="7"/>
                </a:lnTo>
                <a:lnTo>
                  <a:pt x="0" y="14"/>
                </a:lnTo>
                <a:lnTo>
                  <a:pt x="0" y="21"/>
                </a:lnTo>
                <a:lnTo>
                  <a:pt x="7" y="21"/>
                </a:lnTo>
                <a:lnTo>
                  <a:pt x="14" y="27"/>
                </a:lnTo>
                <a:lnTo>
                  <a:pt x="21" y="34"/>
                </a:lnTo>
                <a:lnTo>
                  <a:pt x="28" y="34"/>
                </a:lnTo>
                <a:lnTo>
                  <a:pt x="28" y="34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4" name=""/>
          <p:cNvSpPr/>
          <p:nvPr/>
        </p:nvSpPr>
        <p:spPr>
          <a:xfrm>
            <a:off x="3573360" y="2646360"/>
            <a:ext cx="20880" cy="65160"/>
          </a:xfrm>
          <a:custGeom>
            <a:avLst/>
            <a:gdLst/>
            <a:ahLst/>
            <a:rect l="l" t="t" r="r" b="b"/>
            <a:pathLst>
              <a:path w="13" h="41">
                <a:moveTo>
                  <a:pt x="13" y="14"/>
                </a:moveTo>
                <a:lnTo>
                  <a:pt x="13" y="7"/>
                </a:lnTo>
                <a:lnTo>
                  <a:pt x="13" y="0"/>
                </a:lnTo>
                <a:lnTo>
                  <a:pt x="6" y="0"/>
                </a:lnTo>
                <a:lnTo>
                  <a:pt x="6" y="7"/>
                </a:lnTo>
                <a:lnTo>
                  <a:pt x="6" y="14"/>
                </a:lnTo>
                <a:lnTo>
                  <a:pt x="0" y="20"/>
                </a:lnTo>
                <a:lnTo>
                  <a:pt x="6" y="27"/>
                </a:lnTo>
                <a:lnTo>
                  <a:pt x="6" y="34"/>
                </a:lnTo>
                <a:lnTo>
                  <a:pt x="6" y="41"/>
                </a:lnTo>
                <a:lnTo>
                  <a:pt x="13" y="41"/>
                </a:lnTo>
                <a:lnTo>
                  <a:pt x="13" y="41"/>
                </a:lnTo>
                <a:lnTo>
                  <a:pt x="13" y="34"/>
                </a:lnTo>
                <a:lnTo>
                  <a:pt x="13" y="27"/>
                </a:lnTo>
                <a:lnTo>
                  <a:pt x="13" y="14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5" name=""/>
          <p:cNvSpPr/>
          <p:nvPr/>
        </p:nvSpPr>
        <p:spPr>
          <a:xfrm>
            <a:off x="4519440" y="5362560"/>
            <a:ext cx="163800" cy="119160"/>
          </a:xfrm>
          <a:custGeom>
            <a:avLst/>
            <a:gdLst/>
            <a:ahLst/>
            <a:rect l="l" t="t" r="r" b="b"/>
            <a:pathLst>
              <a:path w="103" h="75">
                <a:moveTo>
                  <a:pt x="0" y="75"/>
                </a:moveTo>
                <a:lnTo>
                  <a:pt x="7" y="75"/>
                </a:lnTo>
                <a:lnTo>
                  <a:pt x="14" y="68"/>
                </a:lnTo>
                <a:lnTo>
                  <a:pt x="14" y="61"/>
                </a:lnTo>
                <a:lnTo>
                  <a:pt x="21" y="54"/>
                </a:lnTo>
                <a:lnTo>
                  <a:pt x="27" y="54"/>
                </a:lnTo>
                <a:lnTo>
                  <a:pt x="27" y="48"/>
                </a:lnTo>
                <a:lnTo>
                  <a:pt x="34" y="41"/>
                </a:lnTo>
                <a:lnTo>
                  <a:pt x="34" y="34"/>
                </a:lnTo>
                <a:lnTo>
                  <a:pt x="41" y="27"/>
                </a:lnTo>
                <a:lnTo>
                  <a:pt x="48" y="27"/>
                </a:lnTo>
                <a:lnTo>
                  <a:pt x="55" y="20"/>
                </a:lnTo>
                <a:lnTo>
                  <a:pt x="62" y="20"/>
                </a:lnTo>
                <a:lnTo>
                  <a:pt x="69" y="20"/>
                </a:lnTo>
                <a:lnTo>
                  <a:pt x="75" y="13"/>
                </a:lnTo>
                <a:lnTo>
                  <a:pt x="75" y="6"/>
                </a:lnTo>
                <a:lnTo>
                  <a:pt x="82" y="0"/>
                </a:lnTo>
                <a:lnTo>
                  <a:pt x="89" y="0"/>
                </a:lnTo>
                <a:lnTo>
                  <a:pt x="96" y="6"/>
                </a:lnTo>
                <a:lnTo>
                  <a:pt x="103" y="13"/>
                </a:lnTo>
                <a:lnTo>
                  <a:pt x="103" y="20"/>
                </a:lnTo>
                <a:lnTo>
                  <a:pt x="96" y="20"/>
                </a:lnTo>
                <a:lnTo>
                  <a:pt x="89" y="27"/>
                </a:lnTo>
                <a:lnTo>
                  <a:pt x="82" y="27"/>
                </a:lnTo>
                <a:lnTo>
                  <a:pt x="75" y="34"/>
                </a:lnTo>
                <a:lnTo>
                  <a:pt x="69" y="34"/>
                </a:lnTo>
                <a:lnTo>
                  <a:pt x="69" y="41"/>
                </a:lnTo>
                <a:lnTo>
                  <a:pt x="69" y="48"/>
                </a:lnTo>
                <a:lnTo>
                  <a:pt x="75" y="54"/>
                </a:lnTo>
                <a:lnTo>
                  <a:pt x="75" y="61"/>
                </a:lnTo>
                <a:lnTo>
                  <a:pt x="75" y="68"/>
                </a:lnTo>
                <a:lnTo>
                  <a:pt x="75" y="75"/>
                </a:lnTo>
                <a:lnTo>
                  <a:pt x="82" y="75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6" name=""/>
          <p:cNvSpPr/>
          <p:nvPr/>
        </p:nvSpPr>
        <p:spPr>
          <a:xfrm flipH="1">
            <a:off x="6881400" y="2886120"/>
            <a:ext cx="11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7" name=""/>
          <p:cNvSpPr/>
          <p:nvPr/>
        </p:nvSpPr>
        <p:spPr>
          <a:xfrm>
            <a:off x="6478560" y="2886120"/>
            <a:ext cx="414360" cy="911160"/>
          </a:xfrm>
          <a:custGeom>
            <a:avLst/>
            <a:gdLst/>
            <a:ahLst/>
            <a:rect l="l" t="t" r="r" b="b"/>
            <a:pathLst>
              <a:path w="261" h="574">
                <a:moveTo>
                  <a:pt x="254" y="0"/>
                </a:moveTo>
                <a:lnTo>
                  <a:pt x="254" y="6"/>
                </a:lnTo>
                <a:lnTo>
                  <a:pt x="247" y="13"/>
                </a:lnTo>
                <a:lnTo>
                  <a:pt x="247" y="20"/>
                </a:lnTo>
                <a:lnTo>
                  <a:pt x="247" y="27"/>
                </a:lnTo>
                <a:lnTo>
                  <a:pt x="247" y="34"/>
                </a:lnTo>
                <a:lnTo>
                  <a:pt x="254" y="41"/>
                </a:lnTo>
                <a:lnTo>
                  <a:pt x="254" y="47"/>
                </a:lnTo>
                <a:lnTo>
                  <a:pt x="261" y="54"/>
                </a:lnTo>
                <a:lnTo>
                  <a:pt x="261" y="54"/>
                </a:lnTo>
                <a:lnTo>
                  <a:pt x="261" y="61"/>
                </a:lnTo>
                <a:lnTo>
                  <a:pt x="261" y="68"/>
                </a:lnTo>
                <a:lnTo>
                  <a:pt x="254" y="75"/>
                </a:lnTo>
                <a:lnTo>
                  <a:pt x="247" y="82"/>
                </a:lnTo>
                <a:lnTo>
                  <a:pt x="240" y="82"/>
                </a:lnTo>
                <a:lnTo>
                  <a:pt x="233" y="88"/>
                </a:lnTo>
                <a:lnTo>
                  <a:pt x="226" y="95"/>
                </a:lnTo>
                <a:lnTo>
                  <a:pt x="219" y="95"/>
                </a:lnTo>
                <a:lnTo>
                  <a:pt x="213" y="102"/>
                </a:lnTo>
                <a:lnTo>
                  <a:pt x="206" y="109"/>
                </a:lnTo>
                <a:lnTo>
                  <a:pt x="206" y="109"/>
                </a:lnTo>
                <a:lnTo>
                  <a:pt x="206" y="116"/>
                </a:lnTo>
                <a:lnTo>
                  <a:pt x="199" y="123"/>
                </a:lnTo>
                <a:lnTo>
                  <a:pt x="199" y="130"/>
                </a:lnTo>
                <a:lnTo>
                  <a:pt x="192" y="136"/>
                </a:lnTo>
                <a:lnTo>
                  <a:pt x="185" y="143"/>
                </a:lnTo>
                <a:lnTo>
                  <a:pt x="178" y="143"/>
                </a:lnTo>
                <a:lnTo>
                  <a:pt x="178" y="150"/>
                </a:lnTo>
                <a:lnTo>
                  <a:pt x="172" y="157"/>
                </a:lnTo>
                <a:lnTo>
                  <a:pt x="172" y="164"/>
                </a:lnTo>
                <a:lnTo>
                  <a:pt x="172" y="171"/>
                </a:lnTo>
                <a:lnTo>
                  <a:pt x="172" y="177"/>
                </a:lnTo>
                <a:lnTo>
                  <a:pt x="178" y="184"/>
                </a:lnTo>
                <a:lnTo>
                  <a:pt x="178" y="184"/>
                </a:lnTo>
                <a:lnTo>
                  <a:pt x="178" y="191"/>
                </a:lnTo>
                <a:lnTo>
                  <a:pt x="172" y="184"/>
                </a:lnTo>
                <a:lnTo>
                  <a:pt x="172" y="177"/>
                </a:lnTo>
                <a:lnTo>
                  <a:pt x="158" y="177"/>
                </a:lnTo>
                <a:lnTo>
                  <a:pt x="144" y="177"/>
                </a:lnTo>
                <a:lnTo>
                  <a:pt x="137" y="177"/>
                </a:lnTo>
                <a:lnTo>
                  <a:pt x="130" y="184"/>
                </a:lnTo>
                <a:lnTo>
                  <a:pt x="124" y="184"/>
                </a:lnTo>
                <a:lnTo>
                  <a:pt x="117" y="191"/>
                </a:lnTo>
                <a:lnTo>
                  <a:pt x="117" y="198"/>
                </a:lnTo>
                <a:lnTo>
                  <a:pt x="124" y="205"/>
                </a:lnTo>
                <a:lnTo>
                  <a:pt x="124" y="212"/>
                </a:lnTo>
                <a:lnTo>
                  <a:pt x="137" y="218"/>
                </a:lnTo>
                <a:lnTo>
                  <a:pt x="144" y="218"/>
                </a:lnTo>
                <a:lnTo>
                  <a:pt x="151" y="218"/>
                </a:lnTo>
                <a:lnTo>
                  <a:pt x="158" y="225"/>
                </a:lnTo>
                <a:lnTo>
                  <a:pt x="165" y="232"/>
                </a:lnTo>
                <a:lnTo>
                  <a:pt x="165" y="239"/>
                </a:lnTo>
                <a:lnTo>
                  <a:pt x="165" y="246"/>
                </a:lnTo>
                <a:lnTo>
                  <a:pt x="165" y="253"/>
                </a:lnTo>
                <a:lnTo>
                  <a:pt x="158" y="253"/>
                </a:lnTo>
                <a:lnTo>
                  <a:pt x="158" y="260"/>
                </a:lnTo>
                <a:lnTo>
                  <a:pt x="151" y="266"/>
                </a:lnTo>
                <a:lnTo>
                  <a:pt x="144" y="273"/>
                </a:lnTo>
                <a:lnTo>
                  <a:pt x="137" y="273"/>
                </a:lnTo>
                <a:lnTo>
                  <a:pt x="137" y="280"/>
                </a:lnTo>
                <a:lnTo>
                  <a:pt x="130" y="287"/>
                </a:lnTo>
                <a:lnTo>
                  <a:pt x="130" y="294"/>
                </a:lnTo>
                <a:lnTo>
                  <a:pt x="130" y="301"/>
                </a:lnTo>
                <a:lnTo>
                  <a:pt x="124" y="307"/>
                </a:lnTo>
                <a:lnTo>
                  <a:pt x="124" y="314"/>
                </a:lnTo>
                <a:lnTo>
                  <a:pt x="117" y="314"/>
                </a:lnTo>
                <a:lnTo>
                  <a:pt x="117" y="321"/>
                </a:lnTo>
                <a:lnTo>
                  <a:pt x="117" y="328"/>
                </a:lnTo>
                <a:lnTo>
                  <a:pt x="117" y="335"/>
                </a:lnTo>
                <a:lnTo>
                  <a:pt x="117" y="342"/>
                </a:lnTo>
                <a:lnTo>
                  <a:pt x="110" y="348"/>
                </a:lnTo>
                <a:lnTo>
                  <a:pt x="110" y="355"/>
                </a:lnTo>
                <a:lnTo>
                  <a:pt x="103" y="362"/>
                </a:lnTo>
                <a:lnTo>
                  <a:pt x="103" y="362"/>
                </a:lnTo>
                <a:lnTo>
                  <a:pt x="103" y="369"/>
                </a:lnTo>
                <a:lnTo>
                  <a:pt x="96" y="376"/>
                </a:lnTo>
                <a:lnTo>
                  <a:pt x="96" y="383"/>
                </a:lnTo>
                <a:lnTo>
                  <a:pt x="96" y="390"/>
                </a:lnTo>
                <a:lnTo>
                  <a:pt x="96" y="396"/>
                </a:lnTo>
                <a:lnTo>
                  <a:pt x="96" y="403"/>
                </a:lnTo>
                <a:lnTo>
                  <a:pt x="96" y="410"/>
                </a:lnTo>
                <a:lnTo>
                  <a:pt x="89" y="417"/>
                </a:lnTo>
                <a:lnTo>
                  <a:pt x="89" y="424"/>
                </a:lnTo>
                <a:lnTo>
                  <a:pt x="82" y="424"/>
                </a:lnTo>
                <a:lnTo>
                  <a:pt x="82" y="431"/>
                </a:lnTo>
                <a:lnTo>
                  <a:pt x="82" y="437"/>
                </a:lnTo>
                <a:lnTo>
                  <a:pt x="82" y="444"/>
                </a:lnTo>
                <a:lnTo>
                  <a:pt x="89" y="451"/>
                </a:lnTo>
                <a:lnTo>
                  <a:pt x="96" y="458"/>
                </a:lnTo>
                <a:lnTo>
                  <a:pt x="103" y="458"/>
                </a:lnTo>
                <a:lnTo>
                  <a:pt x="110" y="465"/>
                </a:lnTo>
                <a:lnTo>
                  <a:pt x="110" y="472"/>
                </a:lnTo>
                <a:lnTo>
                  <a:pt x="110" y="478"/>
                </a:lnTo>
                <a:lnTo>
                  <a:pt x="110" y="485"/>
                </a:lnTo>
                <a:lnTo>
                  <a:pt x="103" y="492"/>
                </a:lnTo>
                <a:lnTo>
                  <a:pt x="103" y="499"/>
                </a:lnTo>
                <a:lnTo>
                  <a:pt x="103" y="506"/>
                </a:lnTo>
                <a:lnTo>
                  <a:pt x="110" y="506"/>
                </a:lnTo>
                <a:lnTo>
                  <a:pt x="117" y="513"/>
                </a:lnTo>
                <a:lnTo>
                  <a:pt x="124" y="513"/>
                </a:lnTo>
                <a:lnTo>
                  <a:pt x="130" y="520"/>
                </a:lnTo>
                <a:lnTo>
                  <a:pt x="130" y="526"/>
                </a:lnTo>
                <a:lnTo>
                  <a:pt x="137" y="533"/>
                </a:lnTo>
                <a:lnTo>
                  <a:pt x="137" y="540"/>
                </a:lnTo>
                <a:lnTo>
                  <a:pt x="130" y="547"/>
                </a:lnTo>
                <a:lnTo>
                  <a:pt x="130" y="554"/>
                </a:lnTo>
                <a:lnTo>
                  <a:pt x="124" y="561"/>
                </a:lnTo>
                <a:lnTo>
                  <a:pt x="117" y="561"/>
                </a:lnTo>
                <a:lnTo>
                  <a:pt x="110" y="554"/>
                </a:lnTo>
                <a:lnTo>
                  <a:pt x="96" y="547"/>
                </a:lnTo>
                <a:lnTo>
                  <a:pt x="89" y="547"/>
                </a:lnTo>
                <a:lnTo>
                  <a:pt x="89" y="547"/>
                </a:lnTo>
                <a:lnTo>
                  <a:pt x="82" y="547"/>
                </a:lnTo>
                <a:lnTo>
                  <a:pt x="82" y="554"/>
                </a:lnTo>
                <a:lnTo>
                  <a:pt x="76" y="567"/>
                </a:lnTo>
                <a:lnTo>
                  <a:pt x="69" y="574"/>
                </a:lnTo>
                <a:lnTo>
                  <a:pt x="62" y="574"/>
                </a:lnTo>
                <a:lnTo>
                  <a:pt x="62" y="574"/>
                </a:lnTo>
                <a:lnTo>
                  <a:pt x="55" y="574"/>
                </a:lnTo>
                <a:lnTo>
                  <a:pt x="48" y="567"/>
                </a:lnTo>
                <a:lnTo>
                  <a:pt x="41" y="561"/>
                </a:lnTo>
                <a:lnTo>
                  <a:pt x="41" y="554"/>
                </a:lnTo>
                <a:lnTo>
                  <a:pt x="34" y="547"/>
                </a:lnTo>
                <a:lnTo>
                  <a:pt x="28" y="547"/>
                </a:lnTo>
                <a:lnTo>
                  <a:pt x="28" y="540"/>
                </a:lnTo>
                <a:lnTo>
                  <a:pt x="28" y="533"/>
                </a:lnTo>
                <a:lnTo>
                  <a:pt x="28" y="526"/>
                </a:lnTo>
                <a:lnTo>
                  <a:pt x="28" y="520"/>
                </a:lnTo>
                <a:lnTo>
                  <a:pt x="28" y="513"/>
                </a:lnTo>
                <a:lnTo>
                  <a:pt x="28" y="506"/>
                </a:lnTo>
                <a:lnTo>
                  <a:pt x="21" y="499"/>
                </a:lnTo>
                <a:lnTo>
                  <a:pt x="21" y="492"/>
                </a:lnTo>
                <a:lnTo>
                  <a:pt x="14" y="485"/>
                </a:lnTo>
                <a:lnTo>
                  <a:pt x="7" y="478"/>
                </a:lnTo>
                <a:lnTo>
                  <a:pt x="0" y="478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8" name=""/>
          <p:cNvSpPr/>
          <p:nvPr/>
        </p:nvSpPr>
        <p:spPr>
          <a:xfrm>
            <a:off x="6478560" y="3645000"/>
            <a:ext cx="1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9" name=""/>
          <p:cNvSpPr/>
          <p:nvPr/>
        </p:nvSpPr>
        <p:spPr>
          <a:xfrm>
            <a:off x="6380280" y="3689280"/>
            <a:ext cx="66600" cy="65160"/>
          </a:xfrm>
          <a:custGeom>
            <a:avLst/>
            <a:gdLst/>
            <a:ahLst/>
            <a:rect l="l" t="t" r="r" b="b"/>
            <a:pathLst>
              <a:path w="42" h="41">
                <a:moveTo>
                  <a:pt x="21" y="0"/>
                </a:moveTo>
                <a:lnTo>
                  <a:pt x="14" y="7"/>
                </a:lnTo>
                <a:lnTo>
                  <a:pt x="14" y="7"/>
                </a:lnTo>
                <a:lnTo>
                  <a:pt x="14" y="7"/>
                </a:lnTo>
                <a:lnTo>
                  <a:pt x="14" y="7"/>
                </a:lnTo>
                <a:lnTo>
                  <a:pt x="14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14"/>
                </a:lnTo>
                <a:lnTo>
                  <a:pt x="7" y="14"/>
                </a:lnTo>
                <a:lnTo>
                  <a:pt x="7" y="14"/>
                </a:lnTo>
                <a:lnTo>
                  <a:pt x="7" y="14"/>
                </a:lnTo>
                <a:lnTo>
                  <a:pt x="7" y="20"/>
                </a:lnTo>
                <a:lnTo>
                  <a:pt x="7" y="20"/>
                </a:lnTo>
                <a:lnTo>
                  <a:pt x="7" y="20"/>
                </a:lnTo>
                <a:lnTo>
                  <a:pt x="14" y="27"/>
                </a:lnTo>
                <a:lnTo>
                  <a:pt x="14" y="20"/>
                </a:lnTo>
                <a:lnTo>
                  <a:pt x="14" y="20"/>
                </a:lnTo>
                <a:lnTo>
                  <a:pt x="14" y="20"/>
                </a:lnTo>
                <a:lnTo>
                  <a:pt x="14" y="20"/>
                </a:lnTo>
                <a:lnTo>
                  <a:pt x="14" y="20"/>
                </a:lnTo>
                <a:lnTo>
                  <a:pt x="14" y="14"/>
                </a:lnTo>
                <a:lnTo>
                  <a:pt x="14" y="14"/>
                </a:lnTo>
                <a:lnTo>
                  <a:pt x="14" y="14"/>
                </a:lnTo>
                <a:lnTo>
                  <a:pt x="14" y="14"/>
                </a:lnTo>
                <a:lnTo>
                  <a:pt x="21" y="14"/>
                </a:lnTo>
                <a:lnTo>
                  <a:pt x="21" y="7"/>
                </a:lnTo>
                <a:lnTo>
                  <a:pt x="28" y="7"/>
                </a:lnTo>
                <a:lnTo>
                  <a:pt x="28" y="7"/>
                </a:lnTo>
                <a:lnTo>
                  <a:pt x="28" y="14"/>
                </a:lnTo>
                <a:lnTo>
                  <a:pt x="35" y="14"/>
                </a:lnTo>
                <a:lnTo>
                  <a:pt x="35" y="14"/>
                </a:lnTo>
                <a:lnTo>
                  <a:pt x="35" y="14"/>
                </a:lnTo>
                <a:lnTo>
                  <a:pt x="35" y="20"/>
                </a:lnTo>
                <a:lnTo>
                  <a:pt x="35" y="20"/>
                </a:lnTo>
                <a:lnTo>
                  <a:pt x="42" y="20"/>
                </a:lnTo>
                <a:lnTo>
                  <a:pt x="42" y="20"/>
                </a:lnTo>
                <a:lnTo>
                  <a:pt x="42" y="27"/>
                </a:lnTo>
                <a:lnTo>
                  <a:pt x="42" y="27"/>
                </a:lnTo>
                <a:lnTo>
                  <a:pt x="42" y="27"/>
                </a:lnTo>
                <a:lnTo>
                  <a:pt x="42" y="27"/>
                </a:lnTo>
                <a:lnTo>
                  <a:pt x="35" y="34"/>
                </a:lnTo>
                <a:lnTo>
                  <a:pt x="35" y="34"/>
                </a:lnTo>
                <a:lnTo>
                  <a:pt x="35" y="34"/>
                </a:lnTo>
                <a:lnTo>
                  <a:pt x="35" y="34"/>
                </a:lnTo>
                <a:lnTo>
                  <a:pt x="28" y="41"/>
                </a:lnTo>
                <a:lnTo>
                  <a:pt x="28" y="41"/>
                </a:lnTo>
                <a:lnTo>
                  <a:pt x="21" y="41"/>
                </a:lnTo>
                <a:lnTo>
                  <a:pt x="21" y="41"/>
                </a:lnTo>
                <a:lnTo>
                  <a:pt x="14" y="34"/>
                </a:lnTo>
                <a:lnTo>
                  <a:pt x="14" y="34"/>
                </a:lnTo>
                <a:lnTo>
                  <a:pt x="7" y="27"/>
                </a:lnTo>
                <a:lnTo>
                  <a:pt x="7" y="27"/>
                </a:lnTo>
                <a:lnTo>
                  <a:pt x="0" y="20"/>
                </a:lnTo>
                <a:lnTo>
                  <a:pt x="0" y="20"/>
                </a:lnTo>
                <a:lnTo>
                  <a:pt x="0" y="14"/>
                </a:lnTo>
                <a:lnTo>
                  <a:pt x="0" y="14"/>
                </a:lnTo>
                <a:lnTo>
                  <a:pt x="0" y="7"/>
                </a:lnTo>
                <a:lnTo>
                  <a:pt x="0" y="7"/>
                </a:lnTo>
                <a:lnTo>
                  <a:pt x="0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14" y="0"/>
                </a:lnTo>
                <a:lnTo>
                  <a:pt x="14" y="0"/>
                </a:lnTo>
                <a:lnTo>
                  <a:pt x="14" y="0"/>
                </a:lnTo>
                <a:lnTo>
                  <a:pt x="21" y="0"/>
                </a:lnTo>
                <a:lnTo>
                  <a:pt x="21" y="0"/>
                </a:lnTo>
                <a:close/>
                <a:moveTo>
                  <a:pt x="21" y="27"/>
                </a:moveTo>
                <a:lnTo>
                  <a:pt x="21" y="34"/>
                </a:lnTo>
                <a:lnTo>
                  <a:pt x="21" y="34"/>
                </a:lnTo>
                <a:lnTo>
                  <a:pt x="21" y="34"/>
                </a:lnTo>
                <a:lnTo>
                  <a:pt x="21" y="34"/>
                </a:lnTo>
                <a:lnTo>
                  <a:pt x="21" y="34"/>
                </a:lnTo>
                <a:lnTo>
                  <a:pt x="28" y="34"/>
                </a:lnTo>
                <a:lnTo>
                  <a:pt x="28" y="34"/>
                </a:lnTo>
                <a:lnTo>
                  <a:pt x="28" y="34"/>
                </a:lnTo>
                <a:lnTo>
                  <a:pt x="28" y="34"/>
                </a:lnTo>
                <a:lnTo>
                  <a:pt x="28" y="34"/>
                </a:lnTo>
                <a:lnTo>
                  <a:pt x="35" y="34"/>
                </a:lnTo>
                <a:lnTo>
                  <a:pt x="35" y="34"/>
                </a:lnTo>
                <a:lnTo>
                  <a:pt x="35" y="27"/>
                </a:lnTo>
                <a:lnTo>
                  <a:pt x="35" y="27"/>
                </a:lnTo>
                <a:lnTo>
                  <a:pt x="35" y="27"/>
                </a:lnTo>
                <a:lnTo>
                  <a:pt x="35" y="27"/>
                </a:lnTo>
                <a:lnTo>
                  <a:pt x="35" y="20"/>
                </a:lnTo>
                <a:lnTo>
                  <a:pt x="35" y="20"/>
                </a:lnTo>
                <a:lnTo>
                  <a:pt x="35" y="20"/>
                </a:lnTo>
                <a:lnTo>
                  <a:pt x="28" y="20"/>
                </a:lnTo>
                <a:lnTo>
                  <a:pt x="28" y="14"/>
                </a:lnTo>
                <a:lnTo>
                  <a:pt x="28" y="14"/>
                </a:lnTo>
                <a:lnTo>
                  <a:pt x="28" y="14"/>
                </a:lnTo>
                <a:lnTo>
                  <a:pt x="21" y="14"/>
                </a:lnTo>
                <a:lnTo>
                  <a:pt x="21" y="14"/>
                </a:lnTo>
                <a:lnTo>
                  <a:pt x="21" y="14"/>
                </a:lnTo>
                <a:lnTo>
                  <a:pt x="21" y="14"/>
                </a:lnTo>
                <a:lnTo>
                  <a:pt x="21" y="20"/>
                </a:lnTo>
                <a:lnTo>
                  <a:pt x="14" y="20"/>
                </a:lnTo>
                <a:lnTo>
                  <a:pt x="14" y="20"/>
                </a:lnTo>
                <a:lnTo>
                  <a:pt x="14" y="20"/>
                </a:lnTo>
                <a:lnTo>
                  <a:pt x="14" y="20"/>
                </a:lnTo>
                <a:lnTo>
                  <a:pt x="14" y="27"/>
                </a:lnTo>
                <a:lnTo>
                  <a:pt x="14" y="27"/>
                </a:lnTo>
                <a:lnTo>
                  <a:pt x="14" y="27"/>
                </a:lnTo>
                <a:lnTo>
                  <a:pt x="21" y="27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0" name=""/>
          <p:cNvSpPr/>
          <p:nvPr/>
        </p:nvSpPr>
        <p:spPr>
          <a:xfrm>
            <a:off x="6413400" y="3645000"/>
            <a:ext cx="65160" cy="66600"/>
          </a:xfrm>
          <a:custGeom>
            <a:avLst/>
            <a:gdLst/>
            <a:ahLst/>
            <a:rect l="l" t="t" r="r" b="b"/>
            <a:pathLst>
              <a:path w="41" h="42">
                <a:moveTo>
                  <a:pt x="14" y="35"/>
                </a:moveTo>
                <a:lnTo>
                  <a:pt x="7" y="28"/>
                </a:lnTo>
                <a:lnTo>
                  <a:pt x="7" y="28"/>
                </a:lnTo>
                <a:lnTo>
                  <a:pt x="7" y="28"/>
                </a:lnTo>
                <a:lnTo>
                  <a:pt x="7" y="21"/>
                </a:lnTo>
                <a:lnTo>
                  <a:pt x="0" y="21"/>
                </a:lnTo>
                <a:lnTo>
                  <a:pt x="0" y="21"/>
                </a:lnTo>
                <a:lnTo>
                  <a:pt x="0" y="14"/>
                </a:lnTo>
                <a:lnTo>
                  <a:pt x="0" y="14"/>
                </a:lnTo>
                <a:lnTo>
                  <a:pt x="0" y="14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14" y="0"/>
                </a:lnTo>
                <a:lnTo>
                  <a:pt x="14" y="0"/>
                </a:lnTo>
                <a:lnTo>
                  <a:pt x="14" y="0"/>
                </a:lnTo>
                <a:lnTo>
                  <a:pt x="14" y="0"/>
                </a:lnTo>
                <a:lnTo>
                  <a:pt x="21" y="0"/>
                </a:lnTo>
                <a:lnTo>
                  <a:pt x="21" y="0"/>
                </a:lnTo>
                <a:lnTo>
                  <a:pt x="21" y="7"/>
                </a:lnTo>
                <a:lnTo>
                  <a:pt x="21" y="7"/>
                </a:lnTo>
                <a:lnTo>
                  <a:pt x="27" y="7"/>
                </a:lnTo>
                <a:lnTo>
                  <a:pt x="27" y="7"/>
                </a:lnTo>
                <a:lnTo>
                  <a:pt x="27" y="7"/>
                </a:lnTo>
                <a:lnTo>
                  <a:pt x="27" y="7"/>
                </a:lnTo>
                <a:lnTo>
                  <a:pt x="34" y="14"/>
                </a:lnTo>
                <a:lnTo>
                  <a:pt x="34" y="14"/>
                </a:lnTo>
                <a:lnTo>
                  <a:pt x="34" y="21"/>
                </a:lnTo>
                <a:lnTo>
                  <a:pt x="41" y="21"/>
                </a:lnTo>
                <a:lnTo>
                  <a:pt x="41" y="21"/>
                </a:lnTo>
                <a:lnTo>
                  <a:pt x="41" y="28"/>
                </a:lnTo>
                <a:lnTo>
                  <a:pt x="41" y="28"/>
                </a:lnTo>
                <a:lnTo>
                  <a:pt x="41" y="28"/>
                </a:lnTo>
                <a:lnTo>
                  <a:pt x="41" y="28"/>
                </a:lnTo>
                <a:lnTo>
                  <a:pt x="41" y="35"/>
                </a:lnTo>
                <a:lnTo>
                  <a:pt x="41" y="35"/>
                </a:lnTo>
                <a:lnTo>
                  <a:pt x="41" y="35"/>
                </a:lnTo>
                <a:lnTo>
                  <a:pt x="41" y="42"/>
                </a:lnTo>
                <a:lnTo>
                  <a:pt x="34" y="42"/>
                </a:lnTo>
                <a:lnTo>
                  <a:pt x="34" y="42"/>
                </a:lnTo>
                <a:lnTo>
                  <a:pt x="27" y="42"/>
                </a:lnTo>
                <a:lnTo>
                  <a:pt x="27" y="42"/>
                </a:lnTo>
                <a:lnTo>
                  <a:pt x="27" y="42"/>
                </a:lnTo>
                <a:lnTo>
                  <a:pt x="21" y="42"/>
                </a:lnTo>
                <a:lnTo>
                  <a:pt x="14" y="35"/>
                </a:lnTo>
                <a:lnTo>
                  <a:pt x="14" y="35"/>
                </a:lnTo>
                <a:close/>
                <a:moveTo>
                  <a:pt x="14" y="28"/>
                </a:moveTo>
                <a:lnTo>
                  <a:pt x="21" y="35"/>
                </a:lnTo>
                <a:lnTo>
                  <a:pt x="21" y="35"/>
                </a:lnTo>
                <a:lnTo>
                  <a:pt x="27" y="35"/>
                </a:lnTo>
                <a:lnTo>
                  <a:pt x="27" y="35"/>
                </a:lnTo>
                <a:lnTo>
                  <a:pt x="27" y="35"/>
                </a:lnTo>
                <a:lnTo>
                  <a:pt x="34" y="35"/>
                </a:lnTo>
                <a:lnTo>
                  <a:pt x="34" y="35"/>
                </a:lnTo>
                <a:lnTo>
                  <a:pt x="34" y="35"/>
                </a:lnTo>
                <a:lnTo>
                  <a:pt x="34" y="35"/>
                </a:lnTo>
                <a:lnTo>
                  <a:pt x="34" y="35"/>
                </a:lnTo>
                <a:lnTo>
                  <a:pt x="34" y="28"/>
                </a:lnTo>
                <a:lnTo>
                  <a:pt x="34" y="28"/>
                </a:lnTo>
                <a:lnTo>
                  <a:pt x="34" y="28"/>
                </a:lnTo>
                <a:lnTo>
                  <a:pt x="34" y="21"/>
                </a:lnTo>
                <a:lnTo>
                  <a:pt x="34" y="21"/>
                </a:lnTo>
                <a:lnTo>
                  <a:pt x="27" y="14"/>
                </a:lnTo>
                <a:lnTo>
                  <a:pt x="27" y="14"/>
                </a:lnTo>
                <a:lnTo>
                  <a:pt x="21" y="7"/>
                </a:lnTo>
                <a:lnTo>
                  <a:pt x="21" y="7"/>
                </a:lnTo>
                <a:lnTo>
                  <a:pt x="14" y="7"/>
                </a:lnTo>
                <a:lnTo>
                  <a:pt x="14" y="7"/>
                </a:lnTo>
                <a:lnTo>
                  <a:pt x="14" y="7"/>
                </a:lnTo>
                <a:lnTo>
                  <a:pt x="14" y="7"/>
                </a:lnTo>
                <a:lnTo>
                  <a:pt x="7" y="7"/>
                </a:lnTo>
                <a:lnTo>
                  <a:pt x="7" y="14"/>
                </a:lnTo>
                <a:lnTo>
                  <a:pt x="7" y="14"/>
                </a:lnTo>
                <a:lnTo>
                  <a:pt x="7" y="14"/>
                </a:lnTo>
                <a:lnTo>
                  <a:pt x="7" y="14"/>
                </a:lnTo>
                <a:lnTo>
                  <a:pt x="7" y="21"/>
                </a:lnTo>
                <a:lnTo>
                  <a:pt x="7" y="21"/>
                </a:lnTo>
                <a:lnTo>
                  <a:pt x="14" y="28"/>
                </a:lnTo>
                <a:lnTo>
                  <a:pt x="14" y="28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1" name=""/>
          <p:cNvSpPr/>
          <p:nvPr/>
        </p:nvSpPr>
        <p:spPr>
          <a:xfrm flipH="1">
            <a:off x="6370200" y="3754440"/>
            <a:ext cx="9720" cy="11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2" name=""/>
          <p:cNvSpPr/>
          <p:nvPr/>
        </p:nvSpPr>
        <p:spPr>
          <a:xfrm>
            <a:off x="4900680" y="3765600"/>
            <a:ext cx="1469880" cy="1042920"/>
          </a:xfrm>
          <a:custGeom>
            <a:avLst/>
            <a:gdLst/>
            <a:ahLst/>
            <a:rect l="l" t="t" r="r" b="b"/>
            <a:pathLst>
              <a:path w="926" h="657">
                <a:moveTo>
                  <a:pt x="926" y="0"/>
                </a:moveTo>
                <a:lnTo>
                  <a:pt x="919" y="0"/>
                </a:lnTo>
                <a:lnTo>
                  <a:pt x="912" y="7"/>
                </a:lnTo>
                <a:lnTo>
                  <a:pt x="905" y="13"/>
                </a:lnTo>
                <a:lnTo>
                  <a:pt x="905" y="20"/>
                </a:lnTo>
                <a:lnTo>
                  <a:pt x="898" y="20"/>
                </a:lnTo>
                <a:lnTo>
                  <a:pt x="891" y="27"/>
                </a:lnTo>
                <a:lnTo>
                  <a:pt x="884" y="27"/>
                </a:lnTo>
                <a:lnTo>
                  <a:pt x="878" y="34"/>
                </a:lnTo>
                <a:lnTo>
                  <a:pt x="871" y="41"/>
                </a:lnTo>
                <a:lnTo>
                  <a:pt x="864" y="41"/>
                </a:lnTo>
                <a:lnTo>
                  <a:pt x="857" y="48"/>
                </a:lnTo>
                <a:lnTo>
                  <a:pt x="850" y="55"/>
                </a:lnTo>
                <a:lnTo>
                  <a:pt x="843" y="61"/>
                </a:lnTo>
                <a:lnTo>
                  <a:pt x="836" y="61"/>
                </a:lnTo>
                <a:lnTo>
                  <a:pt x="830" y="68"/>
                </a:lnTo>
                <a:lnTo>
                  <a:pt x="823" y="75"/>
                </a:lnTo>
                <a:lnTo>
                  <a:pt x="816" y="75"/>
                </a:lnTo>
                <a:lnTo>
                  <a:pt x="809" y="82"/>
                </a:lnTo>
                <a:lnTo>
                  <a:pt x="809" y="89"/>
                </a:lnTo>
                <a:lnTo>
                  <a:pt x="802" y="96"/>
                </a:lnTo>
                <a:lnTo>
                  <a:pt x="802" y="96"/>
                </a:lnTo>
                <a:lnTo>
                  <a:pt x="795" y="102"/>
                </a:lnTo>
                <a:lnTo>
                  <a:pt x="795" y="109"/>
                </a:lnTo>
                <a:lnTo>
                  <a:pt x="795" y="116"/>
                </a:lnTo>
                <a:lnTo>
                  <a:pt x="795" y="123"/>
                </a:lnTo>
                <a:lnTo>
                  <a:pt x="795" y="130"/>
                </a:lnTo>
                <a:lnTo>
                  <a:pt x="795" y="137"/>
                </a:lnTo>
                <a:lnTo>
                  <a:pt x="788" y="143"/>
                </a:lnTo>
                <a:lnTo>
                  <a:pt x="788" y="150"/>
                </a:lnTo>
                <a:lnTo>
                  <a:pt x="788" y="150"/>
                </a:lnTo>
                <a:lnTo>
                  <a:pt x="788" y="157"/>
                </a:lnTo>
                <a:lnTo>
                  <a:pt x="788" y="164"/>
                </a:lnTo>
                <a:lnTo>
                  <a:pt x="788" y="171"/>
                </a:lnTo>
                <a:lnTo>
                  <a:pt x="788" y="178"/>
                </a:lnTo>
                <a:lnTo>
                  <a:pt x="788" y="185"/>
                </a:lnTo>
                <a:lnTo>
                  <a:pt x="788" y="191"/>
                </a:lnTo>
                <a:lnTo>
                  <a:pt x="782" y="198"/>
                </a:lnTo>
                <a:lnTo>
                  <a:pt x="782" y="205"/>
                </a:lnTo>
                <a:lnTo>
                  <a:pt x="782" y="212"/>
                </a:lnTo>
                <a:lnTo>
                  <a:pt x="782" y="219"/>
                </a:lnTo>
                <a:lnTo>
                  <a:pt x="782" y="219"/>
                </a:lnTo>
                <a:lnTo>
                  <a:pt x="775" y="226"/>
                </a:lnTo>
                <a:lnTo>
                  <a:pt x="775" y="232"/>
                </a:lnTo>
                <a:lnTo>
                  <a:pt x="775" y="239"/>
                </a:lnTo>
                <a:lnTo>
                  <a:pt x="775" y="246"/>
                </a:lnTo>
                <a:lnTo>
                  <a:pt x="775" y="253"/>
                </a:lnTo>
                <a:lnTo>
                  <a:pt x="775" y="260"/>
                </a:lnTo>
                <a:lnTo>
                  <a:pt x="775" y="267"/>
                </a:lnTo>
                <a:lnTo>
                  <a:pt x="775" y="273"/>
                </a:lnTo>
                <a:lnTo>
                  <a:pt x="775" y="280"/>
                </a:lnTo>
                <a:lnTo>
                  <a:pt x="775" y="280"/>
                </a:lnTo>
                <a:lnTo>
                  <a:pt x="775" y="287"/>
                </a:lnTo>
                <a:lnTo>
                  <a:pt x="775" y="294"/>
                </a:lnTo>
                <a:lnTo>
                  <a:pt x="775" y="301"/>
                </a:lnTo>
                <a:lnTo>
                  <a:pt x="782" y="308"/>
                </a:lnTo>
                <a:lnTo>
                  <a:pt x="782" y="315"/>
                </a:lnTo>
                <a:lnTo>
                  <a:pt x="788" y="321"/>
                </a:lnTo>
                <a:lnTo>
                  <a:pt x="788" y="328"/>
                </a:lnTo>
                <a:lnTo>
                  <a:pt x="795" y="328"/>
                </a:lnTo>
                <a:lnTo>
                  <a:pt x="795" y="335"/>
                </a:lnTo>
                <a:lnTo>
                  <a:pt x="795" y="342"/>
                </a:lnTo>
                <a:lnTo>
                  <a:pt x="788" y="349"/>
                </a:lnTo>
                <a:lnTo>
                  <a:pt x="782" y="356"/>
                </a:lnTo>
                <a:lnTo>
                  <a:pt x="775" y="362"/>
                </a:lnTo>
                <a:lnTo>
                  <a:pt x="768" y="362"/>
                </a:lnTo>
                <a:lnTo>
                  <a:pt x="761" y="362"/>
                </a:lnTo>
                <a:lnTo>
                  <a:pt x="747" y="362"/>
                </a:lnTo>
                <a:lnTo>
                  <a:pt x="740" y="362"/>
                </a:lnTo>
                <a:lnTo>
                  <a:pt x="727" y="362"/>
                </a:lnTo>
                <a:lnTo>
                  <a:pt x="720" y="362"/>
                </a:lnTo>
                <a:lnTo>
                  <a:pt x="713" y="362"/>
                </a:lnTo>
                <a:lnTo>
                  <a:pt x="699" y="362"/>
                </a:lnTo>
                <a:lnTo>
                  <a:pt x="692" y="362"/>
                </a:lnTo>
                <a:lnTo>
                  <a:pt x="686" y="362"/>
                </a:lnTo>
                <a:lnTo>
                  <a:pt x="672" y="362"/>
                </a:lnTo>
                <a:lnTo>
                  <a:pt x="665" y="362"/>
                </a:lnTo>
                <a:lnTo>
                  <a:pt x="651" y="369"/>
                </a:lnTo>
                <a:lnTo>
                  <a:pt x="644" y="369"/>
                </a:lnTo>
                <a:lnTo>
                  <a:pt x="638" y="376"/>
                </a:lnTo>
                <a:lnTo>
                  <a:pt x="631" y="376"/>
                </a:lnTo>
                <a:lnTo>
                  <a:pt x="624" y="383"/>
                </a:lnTo>
                <a:lnTo>
                  <a:pt x="617" y="390"/>
                </a:lnTo>
                <a:lnTo>
                  <a:pt x="617" y="390"/>
                </a:lnTo>
                <a:lnTo>
                  <a:pt x="610" y="397"/>
                </a:lnTo>
                <a:lnTo>
                  <a:pt x="617" y="403"/>
                </a:lnTo>
                <a:lnTo>
                  <a:pt x="610" y="410"/>
                </a:lnTo>
                <a:lnTo>
                  <a:pt x="610" y="417"/>
                </a:lnTo>
                <a:lnTo>
                  <a:pt x="603" y="424"/>
                </a:lnTo>
                <a:lnTo>
                  <a:pt x="596" y="424"/>
                </a:lnTo>
                <a:lnTo>
                  <a:pt x="590" y="431"/>
                </a:lnTo>
                <a:lnTo>
                  <a:pt x="583" y="431"/>
                </a:lnTo>
                <a:lnTo>
                  <a:pt x="576" y="438"/>
                </a:lnTo>
                <a:lnTo>
                  <a:pt x="562" y="438"/>
                </a:lnTo>
                <a:lnTo>
                  <a:pt x="555" y="438"/>
                </a:lnTo>
                <a:lnTo>
                  <a:pt x="548" y="445"/>
                </a:lnTo>
                <a:lnTo>
                  <a:pt x="542" y="451"/>
                </a:lnTo>
                <a:lnTo>
                  <a:pt x="542" y="451"/>
                </a:lnTo>
                <a:lnTo>
                  <a:pt x="548" y="458"/>
                </a:lnTo>
                <a:lnTo>
                  <a:pt x="548" y="465"/>
                </a:lnTo>
                <a:lnTo>
                  <a:pt x="548" y="472"/>
                </a:lnTo>
                <a:lnTo>
                  <a:pt x="542" y="479"/>
                </a:lnTo>
                <a:lnTo>
                  <a:pt x="528" y="479"/>
                </a:lnTo>
                <a:lnTo>
                  <a:pt x="521" y="486"/>
                </a:lnTo>
                <a:lnTo>
                  <a:pt x="514" y="486"/>
                </a:lnTo>
                <a:lnTo>
                  <a:pt x="507" y="492"/>
                </a:lnTo>
                <a:lnTo>
                  <a:pt x="494" y="492"/>
                </a:lnTo>
                <a:lnTo>
                  <a:pt x="487" y="492"/>
                </a:lnTo>
                <a:lnTo>
                  <a:pt x="480" y="492"/>
                </a:lnTo>
                <a:lnTo>
                  <a:pt x="473" y="499"/>
                </a:lnTo>
                <a:lnTo>
                  <a:pt x="473" y="506"/>
                </a:lnTo>
                <a:lnTo>
                  <a:pt x="480" y="506"/>
                </a:lnTo>
                <a:lnTo>
                  <a:pt x="494" y="513"/>
                </a:lnTo>
                <a:lnTo>
                  <a:pt x="500" y="513"/>
                </a:lnTo>
                <a:lnTo>
                  <a:pt x="507" y="520"/>
                </a:lnTo>
                <a:lnTo>
                  <a:pt x="507" y="527"/>
                </a:lnTo>
                <a:lnTo>
                  <a:pt x="514" y="527"/>
                </a:lnTo>
                <a:lnTo>
                  <a:pt x="521" y="533"/>
                </a:lnTo>
                <a:lnTo>
                  <a:pt x="521" y="540"/>
                </a:lnTo>
                <a:lnTo>
                  <a:pt x="528" y="547"/>
                </a:lnTo>
                <a:lnTo>
                  <a:pt x="528" y="554"/>
                </a:lnTo>
                <a:lnTo>
                  <a:pt x="528" y="561"/>
                </a:lnTo>
                <a:lnTo>
                  <a:pt x="535" y="568"/>
                </a:lnTo>
                <a:lnTo>
                  <a:pt x="535" y="568"/>
                </a:lnTo>
                <a:lnTo>
                  <a:pt x="542" y="575"/>
                </a:lnTo>
                <a:lnTo>
                  <a:pt x="548" y="581"/>
                </a:lnTo>
                <a:lnTo>
                  <a:pt x="548" y="588"/>
                </a:lnTo>
                <a:lnTo>
                  <a:pt x="548" y="595"/>
                </a:lnTo>
                <a:lnTo>
                  <a:pt x="542" y="595"/>
                </a:lnTo>
                <a:lnTo>
                  <a:pt x="535" y="602"/>
                </a:lnTo>
                <a:lnTo>
                  <a:pt x="521" y="595"/>
                </a:lnTo>
                <a:lnTo>
                  <a:pt x="521" y="588"/>
                </a:lnTo>
                <a:lnTo>
                  <a:pt x="514" y="588"/>
                </a:lnTo>
                <a:lnTo>
                  <a:pt x="507" y="581"/>
                </a:lnTo>
                <a:lnTo>
                  <a:pt x="494" y="581"/>
                </a:lnTo>
                <a:lnTo>
                  <a:pt x="487" y="588"/>
                </a:lnTo>
                <a:lnTo>
                  <a:pt x="480" y="588"/>
                </a:lnTo>
                <a:lnTo>
                  <a:pt x="473" y="595"/>
                </a:lnTo>
                <a:lnTo>
                  <a:pt x="466" y="595"/>
                </a:lnTo>
                <a:lnTo>
                  <a:pt x="459" y="602"/>
                </a:lnTo>
                <a:lnTo>
                  <a:pt x="452" y="609"/>
                </a:lnTo>
                <a:lnTo>
                  <a:pt x="446" y="609"/>
                </a:lnTo>
                <a:lnTo>
                  <a:pt x="439" y="616"/>
                </a:lnTo>
                <a:lnTo>
                  <a:pt x="425" y="616"/>
                </a:lnTo>
                <a:lnTo>
                  <a:pt x="418" y="616"/>
                </a:lnTo>
                <a:lnTo>
                  <a:pt x="404" y="609"/>
                </a:lnTo>
                <a:lnTo>
                  <a:pt x="398" y="609"/>
                </a:lnTo>
                <a:lnTo>
                  <a:pt x="391" y="616"/>
                </a:lnTo>
                <a:lnTo>
                  <a:pt x="384" y="622"/>
                </a:lnTo>
                <a:lnTo>
                  <a:pt x="377" y="622"/>
                </a:lnTo>
                <a:lnTo>
                  <a:pt x="370" y="629"/>
                </a:lnTo>
                <a:lnTo>
                  <a:pt x="370" y="636"/>
                </a:lnTo>
                <a:lnTo>
                  <a:pt x="363" y="643"/>
                </a:lnTo>
                <a:lnTo>
                  <a:pt x="357" y="643"/>
                </a:lnTo>
                <a:lnTo>
                  <a:pt x="350" y="650"/>
                </a:lnTo>
                <a:lnTo>
                  <a:pt x="343" y="657"/>
                </a:lnTo>
                <a:lnTo>
                  <a:pt x="336" y="657"/>
                </a:lnTo>
                <a:lnTo>
                  <a:pt x="322" y="657"/>
                </a:lnTo>
                <a:lnTo>
                  <a:pt x="315" y="657"/>
                </a:lnTo>
                <a:lnTo>
                  <a:pt x="309" y="650"/>
                </a:lnTo>
                <a:lnTo>
                  <a:pt x="295" y="650"/>
                </a:lnTo>
                <a:lnTo>
                  <a:pt x="288" y="643"/>
                </a:lnTo>
                <a:lnTo>
                  <a:pt x="281" y="643"/>
                </a:lnTo>
                <a:lnTo>
                  <a:pt x="274" y="636"/>
                </a:lnTo>
                <a:lnTo>
                  <a:pt x="274" y="629"/>
                </a:lnTo>
                <a:lnTo>
                  <a:pt x="267" y="629"/>
                </a:lnTo>
                <a:lnTo>
                  <a:pt x="261" y="622"/>
                </a:lnTo>
                <a:lnTo>
                  <a:pt x="254" y="616"/>
                </a:lnTo>
                <a:lnTo>
                  <a:pt x="247" y="609"/>
                </a:lnTo>
                <a:lnTo>
                  <a:pt x="240" y="609"/>
                </a:lnTo>
                <a:lnTo>
                  <a:pt x="233" y="609"/>
                </a:lnTo>
                <a:lnTo>
                  <a:pt x="219" y="616"/>
                </a:lnTo>
                <a:lnTo>
                  <a:pt x="213" y="616"/>
                </a:lnTo>
                <a:lnTo>
                  <a:pt x="213" y="616"/>
                </a:lnTo>
                <a:lnTo>
                  <a:pt x="206" y="609"/>
                </a:lnTo>
                <a:lnTo>
                  <a:pt x="206" y="602"/>
                </a:lnTo>
                <a:lnTo>
                  <a:pt x="206" y="588"/>
                </a:lnTo>
                <a:lnTo>
                  <a:pt x="199" y="581"/>
                </a:lnTo>
                <a:lnTo>
                  <a:pt x="199" y="581"/>
                </a:lnTo>
                <a:lnTo>
                  <a:pt x="192" y="575"/>
                </a:lnTo>
                <a:lnTo>
                  <a:pt x="178" y="575"/>
                </a:lnTo>
                <a:lnTo>
                  <a:pt x="171" y="568"/>
                </a:lnTo>
                <a:lnTo>
                  <a:pt x="165" y="568"/>
                </a:lnTo>
                <a:lnTo>
                  <a:pt x="151" y="568"/>
                </a:lnTo>
                <a:lnTo>
                  <a:pt x="144" y="575"/>
                </a:lnTo>
                <a:lnTo>
                  <a:pt x="137" y="575"/>
                </a:lnTo>
                <a:lnTo>
                  <a:pt x="137" y="581"/>
                </a:lnTo>
                <a:lnTo>
                  <a:pt x="130" y="588"/>
                </a:lnTo>
                <a:lnTo>
                  <a:pt x="123" y="595"/>
                </a:lnTo>
                <a:lnTo>
                  <a:pt x="117" y="588"/>
                </a:lnTo>
                <a:lnTo>
                  <a:pt x="130" y="588"/>
                </a:lnTo>
                <a:lnTo>
                  <a:pt x="144" y="588"/>
                </a:lnTo>
                <a:lnTo>
                  <a:pt x="151" y="581"/>
                </a:lnTo>
                <a:lnTo>
                  <a:pt x="151" y="575"/>
                </a:lnTo>
                <a:lnTo>
                  <a:pt x="158" y="568"/>
                </a:lnTo>
                <a:lnTo>
                  <a:pt x="151" y="561"/>
                </a:lnTo>
                <a:lnTo>
                  <a:pt x="151" y="554"/>
                </a:lnTo>
                <a:lnTo>
                  <a:pt x="144" y="547"/>
                </a:lnTo>
                <a:lnTo>
                  <a:pt x="144" y="547"/>
                </a:lnTo>
                <a:lnTo>
                  <a:pt x="137" y="540"/>
                </a:lnTo>
                <a:lnTo>
                  <a:pt x="130" y="533"/>
                </a:lnTo>
                <a:lnTo>
                  <a:pt x="123" y="527"/>
                </a:lnTo>
                <a:lnTo>
                  <a:pt x="117" y="527"/>
                </a:lnTo>
                <a:lnTo>
                  <a:pt x="117" y="520"/>
                </a:lnTo>
                <a:lnTo>
                  <a:pt x="117" y="513"/>
                </a:lnTo>
                <a:lnTo>
                  <a:pt x="110" y="506"/>
                </a:lnTo>
                <a:lnTo>
                  <a:pt x="103" y="499"/>
                </a:lnTo>
                <a:lnTo>
                  <a:pt x="103" y="499"/>
                </a:lnTo>
                <a:lnTo>
                  <a:pt x="96" y="492"/>
                </a:lnTo>
                <a:lnTo>
                  <a:pt x="89" y="486"/>
                </a:lnTo>
                <a:lnTo>
                  <a:pt x="89" y="479"/>
                </a:lnTo>
                <a:lnTo>
                  <a:pt x="82" y="472"/>
                </a:lnTo>
                <a:lnTo>
                  <a:pt x="82" y="465"/>
                </a:lnTo>
                <a:lnTo>
                  <a:pt x="82" y="458"/>
                </a:lnTo>
                <a:lnTo>
                  <a:pt x="75" y="451"/>
                </a:lnTo>
                <a:lnTo>
                  <a:pt x="69" y="451"/>
                </a:lnTo>
                <a:lnTo>
                  <a:pt x="62" y="451"/>
                </a:lnTo>
                <a:lnTo>
                  <a:pt x="55" y="458"/>
                </a:lnTo>
                <a:lnTo>
                  <a:pt x="48" y="465"/>
                </a:lnTo>
                <a:lnTo>
                  <a:pt x="48" y="472"/>
                </a:lnTo>
                <a:lnTo>
                  <a:pt x="41" y="479"/>
                </a:lnTo>
                <a:lnTo>
                  <a:pt x="41" y="486"/>
                </a:lnTo>
                <a:lnTo>
                  <a:pt x="48" y="486"/>
                </a:lnTo>
                <a:lnTo>
                  <a:pt x="48" y="492"/>
                </a:lnTo>
                <a:lnTo>
                  <a:pt x="55" y="499"/>
                </a:lnTo>
                <a:lnTo>
                  <a:pt x="55" y="506"/>
                </a:lnTo>
                <a:lnTo>
                  <a:pt x="62" y="513"/>
                </a:lnTo>
                <a:lnTo>
                  <a:pt x="62" y="520"/>
                </a:lnTo>
                <a:lnTo>
                  <a:pt x="62" y="527"/>
                </a:lnTo>
                <a:lnTo>
                  <a:pt x="62" y="533"/>
                </a:lnTo>
                <a:lnTo>
                  <a:pt x="69" y="533"/>
                </a:lnTo>
                <a:lnTo>
                  <a:pt x="75" y="540"/>
                </a:lnTo>
                <a:lnTo>
                  <a:pt x="75" y="547"/>
                </a:lnTo>
                <a:lnTo>
                  <a:pt x="82" y="554"/>
                </a:lnTo>
                <a:lnTo>
                  <a:pt x="82" y="561"/>
                </a:lnTo>
                <a:lnTo>
                  <a:pt x="82" y="568"/>
                </a:lnTo>
                <a:lnTo>
                  <a:pt x="82" y="575"/>
                </a:lnTo>
                <a:lnTo>
                  <a:pt x="75" y="581"/>
                </a:lnTo>
                <a:lnTo>
                  <a:pt x="75" y="581"/>
                </a:lnTo>
                <a:lnTo>
                  <a:pt x="69" y="581"/>
                </a:lnTo>
                <a:lnTo>
                  <a:pt x="62" y="581"/>
                </a:lnTo>
                <a:lnTo>
                  <a:pt x="55" y="575"/>
                </a:lnTo>
                <a:lnTo>
                  <a:pt x="48" y="568"/>
                </a:lnTo>
                <a:lnTo>
                  <a:pt x="41" y="561"/>
                </a:lnTo>
                <a:lnTo>
                  <a:pt x="34" y="561"/>
                </a:lnTo>
                <a:lnTo>
                  <a:pt x="21" y="561"/>
                </a:lnTo>
                <a:lnTo>
                  <a:pt x="14" y="561"/>
                </a:lnTo>
                <a:lnTo>
                  <a:pt x="7" y="561"/>
                </a:lnTo>
                <a:lnTo>
                  <a:pt x="7" y="568"/>
                </a:lnTo>
                <a:lnTo>
                  <a:pt x="7" y="575"/>
                </a:lnTo>
                <a:lnTo>
                  <a:pt x="7" y="581"/>
                </a:lnTo>
                <a:lnTo>
                  <a:pt x="7" y="588"/>
                </a:lnTo>
                <a:lnTo>
                  <a:pt x="7" y="595"/>
                </a:lnTo>
                <a:lnTo>
                  <a:pt x="7" y="602"/>
                </a:lnTo>
                <a:lnTo>
                  <a:pt x="0" y="609"/>
                </a:lnTo>
                <a:lnTo>
                  <a:pt x="0" y="616"/>
                </a:lnTo>
                <a:lnTo>
                  <a:pt x="7" y="622"/>
                </a:lnTo>
                <a:lnTo>
                  <a:pt x="7" y="622"/>
                </a:lnTo>
                <a:lnTo>
                  <a:pt x="14" y="622"/>
                </a:lnTo>
                <a:lnTo>
                  <a:pt x="21" y="616"/>
                </a:lnTo>
                <a:lnTo>
                  <a:pt x="27" y="616"/>
                </a:lnTo>
                <a:lnTo>
                  <a:pt x="41" y="616"/>
                </a:lnTo>
                <a:lnTo>
                  <a:pt x="48" y="609"/>
                </a:lnTo>
                <a:lnTo>
                  <a:pt x="62" y="609"/>
                </a:lnTo>
                <a:lnTo>
                  <a:pt x="69" y="609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3" name=""/>
          <p:cNvSpPr/>
          <p:nvPr/>
        </p:nvSpPr>
        <p:spPr>
          <a:xfrm>
            <a:off x="5010120" y="4732200"/>
            <a:ext cx="1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4" name=""/>
          <p:cNvSpPr/>
          <p:nvPr/>
        </p:nvSpPr>
        <p:spPr>
          <a:xfrm>
            <a:off x="5010120" y="4743360"/>
            <a:ext cx="65160" cy="65160"/>
          </a:xfrm>
          <a:custGeom>
            <a:avLst/>
            <a:gdLst/>
            <a:ahLst/>
            <a:rect l="l" t="t" r="r" b="b"/>
            <a:pathLst>
              <a:path w="41" h="41">
                <a:moveTo>
                  <a:pt x="34" y="20"/>
                </a:moveTo>
                <a:lnTo>
                  <a:pt x="34" y="20"/>
                </a:lnTo>
                <a:lnTo>
                  <a:pt x="34" y="20"/>
                </a:lnTo>
                <a:lnTo>
                  <a:pt x="34" y="13"/>
                </a:lnTo>
                <a:lnTo>
                  <a:pt x="34" y="13"/>
                </a:lnTo>
                <a:lnTo>
                  <a:pt x="34" y="13"/>
                </a:lnTo>
                <a:lnTo>
                  <a:pt x="34" y="13"/>
                </a:lnTo>
                <a:lnTo>
                  <a:pt x="34" y="13"/>
                </a:lnTo>
                <a:lnTo>
                  <a:pt x="34" y="13"/>
                </a:lnTo>
                <a:lnTo>
                  <a:pt x="34" y="6"/>
                </a:lnTo>
                <a:lnTo>
                  <a:pt x="34" y="6"/>
                </a:lnTo>
                <a:lnTo>
                  <a:pt x="34" y="6"/>
                </a:lnTo>
                <a:lnTo>
                  <a:pt x="34" y="6"/>
                </a:lnTo>
                <a:lnTo>
                  <a:pt x="27" y="6"/>
                </a:lnTo>
                <a:lnTo>
                  <a:pt x="27" y="6"/>
                </a:lnTo>
                <a:lnTo>
                  <a:pt x="27" y="6"/>
                </a:lnTo>
                <a:lnTo>
                  <a:pt x="27" y="6"/>
                </a:lnTo>
                <a:lnTo>
                  <a:pt x="20" y="6"/>
                </a:lnTo>
                <a:lnTo>
                  <a:pt x="20" y="6"/>
                </a:lnTo>
                <a:lnTo>
                  <a:pt x="20" y="6"/>
                </a:lnTo>
                <a:lnTo>
                  <a:pt x="20" y="6"/>
                </a:lnTo>
                <a:lnTo>
                  <a:pt x="13" y="13"/>
                </a:lnTo>
                <a:lnTo>
                  <a:pt x="13" y="13"/>
                </a:lnTo>
                <a:lnTo>
                  <a:pt x="20" y="13"/>
                </a:lnTo>
                <a:lnTo>
                  <a:pt x="20" y="13"/>
                </a:lnTo>
                <a:lnTo>
                  <a:pt x="20" y="13"/>
                </a:lnTo>
                <a:lnTo>
                  <a:pt x="20" y="13"/>
                </a:lnTo>
                <a:lnTo>
                  <a:pt x="20" y="13"/>
                </a:lnTo>
                <a:lnTo>
                  <a:pt x="27" y="13"/>
                </a:lnTo>
                <a:lnTo>
                  <a:pt x="27" y="13"/>
                </a:lnTo>
                <a:lnTo>
                  <a:pt x="27" y="20"/>
                </a:lnTo>
                <a:lnTo>
                  <a:pt x="27" y="20"/>
                </a:lnTo>
                <a:lnTo>
                  <a:pt x="27" y="20"/>
                </a:lnTo>
                <a:lnTo>
                  <a:pt x="27" y="27"/>
                </a:lnTo>
                <a:lnTo>
                  <a:pt x="27" y="27"/>
                </a:lnTo>
                <a:lnTo>
                  <a:pt x="27" y="34"/>
                </a:lnTo>
                <a:lnTo>
                  <a:pt x="27" y="34"/>
                </a:lnTo>
                <a:lnTo>
                  <a:pt x="20" y="34"/>
                </a:lnTo>
                <a:lnTo>
                  <a:pt x="20" y="34"/>
                </a:lnTo>
                <a:lnTo>
                  <a:pt x="20" y="34"/>
                </a:lnTo>
                <a:lnTo>
                  <a:pt x="13" y="41"/>
                </a:lnTo>
                <a:lnTo>
                  <a:pt x="13" y="41"/>
                </a:lnTo>
                <a:lnTo>
                  <a:pt x="13" y="41"/>
                </a:lnTo>
                <a:lnTo>
                  <a:pt x="13" y="41"/>
                </a:lnTo>
                <a:lnTo>
                  <a:pt x="6" y="41"/>
                </a:lnTo>
                <a:lnTo>
                  <a:pt x="6" y="41"/>
                </a:lnTo>
                <a:lnTo>
                  <a:pt x="6" y="34"/>
                </a:lnTo>
                <a:lnTo>
                  <a:pt x="6" y="34"/>
                </a:lnTo>
                <a:lnTo>
                  <a:pt x="0" y="34"/>
                </a:lnTo>
                <a:lnTo>
                  <a:pt x="0" y="34"/>
                </a:lnTo>
                <a:lnTo>
                  <a:pt x="0" y="34"/>
                </a:lnTo>
                <a:lnTo>
                  <a:pt x="0" y="27"/>
                </a:lnTo>
                <a:lnTo>
                  <a:pt x="0" y="27"/>
                </a:lnTo>
                <a:lnTo>
                  <a:pt x="0" y="20"/>
                </a:lnTo>
                <a:lnTo>
                  <a:pt x="0" y="20"/>
                </a:lnTo>
                <a:lnTo>
                  <a:pt x="0" y="13"/>
                </a:lnTo>
                <a:lnTo>
                  <a:pt x="6" y="13"/>
                </a:lnTo>
                <a:lnTo>
                  <a:pt x="6" y="6"/>
                </a:lnTo>
                <a:lnTo>
                  <a:pt x="13" y="6"/>
                </a:lnTo>
                <a:lnTo>
                  <a:pt x="20" y="0"/>
                </a:lnTo>
                <a:lnTo>
                  <a:pt x="20" y="0"/>
                </a:lnTo>
                <a:lnTo>
                  <a:pt x="27" y="0"/>
                </a:lnTo>
                <a:lnTo>
                  <a:pt x="27" y="0"/>
                </a:lnTo>
                <a:lnTo>
                  <a:pt x="34" y="0"/>
                </a:lnTo>
                <a:lnTo>
                  <a:pt x="34" y="6"/>
                </a:lnTo>
                <a:lnTo>
                  <a:pt x="41" y="6"/>
                </a:lnTo>
                <a:lnTo>
                  <a:pt x="41" y="6"/>
                </a:lnTo>
                <a:lnTo>
                  <a:pt x="41" y="13"/>
                </a:lnTo>
                <a:lnTo>
                  <a:pt x="41" y="13"/>
                </a:lnTo>
                <a:lnTo>
                  <a:pt x="41" y="13"/>
                </a:lnTo>
                <a:lnTo>
                  <a:pt x="41" y="20"/>
                </a:lnTo>
                <a:lnTo>
                  <a:pt x="41" y="20"/>
                </a:lnTo>
                <a:lnTo>
                  <a:pt x="41" y="20"/>
                </a:lnTo>
                <a:lnTo>
                  <a:pt x="34" y="20"/>
                </a:lnTo>
                <a:close/>
                <a:moveTo>
                  <a:pt x="6" y="13"/>
                </a:moveTo>
                <a:lnTo>
                  <a:pt x="6" y="20"/>
                </a:lnTo>
                <a:lnTo>
                  <a:pt x="6" y="20"/>
                </a:lnTo>
                <a:lnTo>
                  <a:pt x="6" y="20"/>
                </a:lnTo>
                <a:lnTo>
                  <a:pt x="6" y="20"/>
                </a:lnTo>
                <a:lnTo>
                  <a:pt x="6" y="20"/>
                </a:lnTo>
                <a:lnTo>
                  <a:pt x="6" y="20"/>
                </a:lnTo>
                <a:lnTo>
                  <a:pt x="6" y="27"/>
                </a:lnTo>
                <a:lnTo>
                  <a:pt x="6" y="27"/>
                </a:lnTo>
                <a:lnTo>
                  <a:pt x="6" y="27"/>
                </a:lnTo>
                <a:lnTo>
                  <a:pt x="6" y="27"/>
                </a:lnTo>
                <a:lnTo>
                  <a:pt x="6" y="27"/>
                </a:lnTo>
                <a:lnTo>
                  <a:pt x="6" y="34"/>
                </a:lnTo>
                <a:lnTo>
                  <a:pt x="6" y="34"/>
                </a:lnTo>
                <a:lnTo>
                  <a:pt x="6" y="34"/>
                </a:lnTo>
                <a:lnTo>
                  <a:pt x="6" y="34"/>
                </a:lnTo>
                <a:lnTo>
                  <a:pt x="13" y="34"/>
                </a:lnTo>
                <a:lnTo>
                  <a:pt x="13" y="34"/>
                </a:lnTo>
                <a:lnTo>
                  <a:pt x="13" y="34"/>
                </a:lnTo>
                <a:lnTo>
                  <a:pt x="13" y="34"/>
                </a:lnTo>
                <a:lnTo>
                  <a:pt x="20" y="34"/>
                </a:lnTo>
                <a:lnTo>
                  <a:pt x="20" y="27"/>
                </a:lnTo>
                <a:lnTo>
                  <a:pt x="20" y="27"/>
                </a:lnTo>
                <a:lnTo>
                  <a:pt x="20" y="27"/>
                </a:lnTo>
                <a:lnTo>
                  <a:pt x="20" y="27"/>
                </a:lnTo>
                <a:lnTo>
                  <a:pt x="20" y="20"/>
                </a:lnTo>
                <a:lnTo>
                  <a:pt x="20" y="20"/>
                </a:lnTo>
                <a:lnTo>
                  <a:pt x="20" y="20"/>
                </a:lnTo>
                <a:lnTo>
                  <a:pt x="20" y="20"/>
                </a:lnTo>
                <a:lnTo>
                  <a:pt x="20" y="13"/>
                </a:lnTo>
                <a:lnTo>
                  <a:pt x="20" y="13"/>
                </a:lnTo>
                <a:lnTo>
                  <a:pt x="20" y="13"/>
                </a:lnTo>
                <a:lnTo>
                  <a:pt x="13" y="13"/>
                </a:lnTo>
                <a:lnTo>
                  <a:pt x="13" y="13"/>
                </a:lnTo>
                <a:lnTo>
                  <a:pt x="13" y="13"/>
                </a:lnTo>
                <a:lnTo>
                  <a:pt x="6" y="13"/>
                </a:lnTo>
                <a:lnTo>
                  <a:pt x="6" y="13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5" name=""/>
          <p:cNvSpPr/>
          <p:nvPr/>
        </p:nvSpPr>
        <p:spPr>
          <a:xfrm>
            <a:off x="5041800" y="4786200"/>
            <a:ext cx="65160" cy="65160"/>
          </a:xfrm>
          <a:custGeom>
            <a:avLst/>
            <a:gdLst/>
            <a:ahLst/>
            <a:rect l="l" t="t" r="r" b="b"/>
            <a:pathLst>
              <a:path w="41" h="41">
                <a:moveTo>
                  <a:pt x="14" y="7"/>
                </a:moveTo>
                <a:lnTo>
                  <a:pt x="14" y="7"/>
                </a:lnTo>
                <a:lnTo>
                  <a:pt x="14" y="7"/>
                </a:lnTo>
                <a:lnTo>
                  <a:pt x="21" y="0"/>
                </a:lnTo>
                <a:lnTo>
                  <a:pt x="21" y="0"/>
                </a:lnTo>
                <a:lnTo>
                  <a:pt x="28" y="0"/>
                </a:lnTo>
                <a:lnTo>
                  <a:pt x="28" y="0"/>
                </a:lnTo>
                <a:lnTo>
                  <a:pt x="28" y="0"/>
                </a:lnTo>
                <a:lnTo>
                  <a:pt x="28" y="0"/>
                </a:lnTo>
                <a:lnTo>
                  <a:pt x="34" y="0"/>
                </a:lnTo>
                <a:lnTo>
                  <a:pt x="34" y="0"/>
                </a:lnTo>
                <a:lnTo>
                  <a:pt x="34" y="7"/>
                </a:lnTo>
                <a:lnTo>
                  <a:pt x="41" y="7"/>
                </a:lnTo>
                <a:lnTo>
                  <a:pt x="41" y="7"/>
                </a:lnTo>
                <a:lnTo>
                  <a:pt x="41" y="7"/>
                </a:lnTo>
                <a:lnTo>
                  <a:pt x="41" y="7"/>
                </a:lnTo>
                <a:lnTo>
                  <a:pt x="41" y="14"/>
                </a:lnTo>
                <a:lnTo>
                  <a:pt x="41" y="14"/>
                </a:lnTo>
                <a:lnTo>
                  <a:pt x="41" y="14"/>
                </a:lnTo>
                <a:lnTo>
                  <a:pt x="41" y="14"/>
                </a:lnTo>
                <a:lnTo>
                  <a:pt x="41" y="20"/>
                </a:lnTo>
                <a:lnTo>
                  <a:pt x="41" y="20"/>
                </a:lnTo>
                <a:lnTo>
                  <a:pt x="41" y="20"/>
                </a:lnTo>
                <a:lnTo>
                  <a:pt x="34" y="20"/>
                </a:lnTo>
                <a:lnTo>
                  <a:pt x="34" y="20"/>
                </a:lnTo>
                <a:lnTo>
                  <a:pt x="34" y="27"/>
                </a:lnTo>
                <a:lnTo>
                  <a:pt x="34" y="27"/>
                </a:lnTo>
                <a:lnTo>
                  <a:pt x="34" y="27"/>
                </a:lnTo>
                <a:lnTo>
                  <a:pt x="28" y="34"/>
                </a:lnTo>
                <a:lnTo>
                  <a:pt x="28" y="34"/>
                </a:lnTo>
                <a:lnTo>
                  <a:pt x="21" y="34"/>
                </a:lnTo>
                <a:lnTo>
                  <a:pt x="21" y="34"/>
                </a:lnTo>
                <a:lnTo>
                  <a:pt x="21" y="34"/>
                </a:lnTo>
                <a:lnTo>
                  <a:pt x="14" y="41"/>
                </a:lnTo>
                <a:lnTo>
                  <a:pt x="14" y="41"/>
                </a:lnTo>
                <a:lnTo>
                  <a:pt x="14" y="41"/>
                </a:lnTo>
                <a:lnTo>
                  <a:pt x="7" y="41"/>
                </a:lnTo>
                <a:lnTo>
                  <a:pt x="7" y="34"/>
                </a:lnTo>
                <a:lnTo>
                  <a:pt x="7" y="34"/>
                </a:lnTo>
                <a:lnTo>
                  <a:pt x="0" y="34"/>
                </a:lnTo>
                <a:lnTo>
                  <a:pt x="0" y="34"/>
                </a:lnTo>
                <a:lnTo>
                  <a:pt x="0" y="27"/>
                </a:lnTo>
                <a:lnTo>
                  <a:pt x="0" y="27"/>
                </a:lnTo>
                <a:lnTo>
                  <a:pt x="0" y="27"/>
                </a:lnTo>
                <a:lnTo>
                  <a:pt x="0" y="20"/>
                </a:lnTo>
                <a:lnTo>
                  <a:pt x="0" y="20"/>
                </a:lnTo>
                <a:lnTo>
                  <a:pt x="0" y="14"/>
                </a:lnTo>
                <a:lnTo>
                  <a:pt x="7" y="14"/>
                </a:lnTo>
                <a:lnTo>
                  <a:pt x="14" y="7"/>
                </a:lnTo>
                <a:close/>
                <a:moveTo>
                  <a:pt x="14" y="14"/>
                </a:moveTo>
                <a:lnTo>
                  <a:pt x="14" y="14"/>
                </a:lnTo>
                <a:lnTo>
                  <a:pt x="7" y="20"/>
                </a:lnTo>
                <a:lnTo>
                  <a:pt x="7" y="20"/>
                </a:lnTo>
                <a:lnTo>
                  <a:pt x="7" y="20"/>
                </a:lnTo>
                <a:lnTo>
                  <a:pt x="7" y="27"/>
                </a:lnTo>
                <a:lnTo>
                  <a:pt x="7" y="27"/>
                </a:lnTo>
                <a:lnTo>
                  <a:pt x="7" y="27"/>
                </a:lnTo>
                <a:lnTo>
                  <a:pt x="7" y="27"/>
                </a:lnTo>
                <a:lnTo>
                  <a:pt x="7" y="34"/>
                </a:lnTo>
                <a:lnTo>
                  <a:pt x="7" y="34"/>
                </a:lnTo>
                <a:lnTo>
                  <a:pt x="7" y="34"/>
                </a:lnTo>
                <a:lnTo>
                  <a:pt x="14" y="34"/>
                </a:lnTo>
                <a:lnTo>
                  <a:pt x="14" y="34"/>
                </a:lnTo>
                <a:lnTo>
                  <a:pt x="21" y="34"/>
                </a:lnTo>
                <a:lnTo>
                  <a:pt x="21" y="27"/>
                </a:lnTo>
                <a:lnTo>
                  <a:pt x="28" y="27"/>
                </a:lnTo>
                <a:lnTo>
                  <a:pt x="28" y="20"/>
                </a:lnTo>
                <a:lnTo>
                  <a:pt x="34" y="20"/>
                </a:lnTo>
                <a:lnTo>
                  <a:pt x="34" y="20"/>
                </a:lnTo>
                <a:lnTo>
                  <a:pt x="34" y="14"/>
                </a:lnTo>
                <a:lnTo>
                  <a:pt x="34" y="14"/>
                </a:lnTo>
                <a:lnTo>
                  <a:pt x="34" y="14"/>
                </a:lnTo>
                <a:lnTo>
                  <a:pt x="34" y="7"/>
                </a:lnTo>
                <a:lnTo>
                  <a:pt x="34" y="7"/>
                </a:lnTo>
                <a:lnTo>
                  <a:pt x="34" y="7"/>
                </a:lnTo>
                <a:lnTo>
                  <a:pt x="34" y="7"/>
                </a:lnTo>
                <a:lnTo>
                  <a:pt x="28" y="7"/>
                </a:lnTo>
                <a:lnTo>
                  <a:pt x="28" y="7"/>
                </a:lnTo>
                <a:lnTo>
                  <a:pt x="28" y="7"/>
                </a:lnTo>
                <a:lnTo>
                  <a:pt x="21" y="7"/>
                </a:lnTo>
                <a:lnTo>
                  <a:pt x="21" y="7"/>
                </a:lnTo>
                <a:lnTo>
                  <a:pt x="14" y="14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6" name=""/>
          <p:cNvSpPr/>
          <p:nvPr/>
        </p:nvSpPr>
        <p:spPr>
          <a:xfrm>
            <a:off x="5106960" y="4862520"/>
            <a:ext cx="1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7" name=""/>
          <p:cNvSpPr/>
          <p:nvPr/>
        </p:nvSpPr>
        <p:spPr>
          <a:xfrm>
            <a:off x="4454640" y="4862520"/>
            <a:ext cx="925560" cy="619200"/>
          </a:xfrm>
          <a:custGeom>
            <a:avLst/>
            <a:gdLst/>
            <a:ahLst/>
            <a:rect l="l" t="t" r="r" b="b"/>
            <a:pathLst>
              <a:path w="583" h="390">
                <a:moveTo>
                  <a:pt x="411" y="0"/>
                </a:moveTo>
                <a:lnTo>
                  <a:pt x="411" y="0"/>
                </a:lnTo>
                <a:lnTo>
                  <a:pt x="418" y="7"/>
                </a:lnTo>
                <a:lnTo>
                  <a:pt x="425" y="14"/>
                </a:lnTo>
                <a:lnTo>
                  <a:pt x="425" y="20"/>
                </a:lnTo>
                <a:lnTo>
                  <a:pt x="432" y="27"/>
                </a:lnTo>
                <a:lnTo>
                  <a:pt x="432" y="34"/>
                </a:lnTo>
                <a:lnTo>
                  <a:pt x="439" y="34"/>
                </a:lnTo>
                <a:lnTo>
                  <a:pt x="446" y="41"/>
                </a:lnTo>
                <a:lnTo>
                  <a:pt x="446" y="48"/>
                </a:lnTo>
                <a:lnTo>
                  <a:pt x="452" y="55"/>
                </a:lnTo>
                <a:lnTo>
                  <a:pt x="452" y="61"/>
                </a:lnTo>
                <a:lnTo>
                  <a:pt x="459" y="61"/>
                </a:lnTo>
                <a:lnTo>
                  <a:pt x="466" y="68"/>
                </a:lnTo>
                <a:lnTo>
                  <a:pt x="466" y="75"/>
                </a:lnTo>
                <a:lnTo>
                  <a:pt x="473" y="82"/>
                </a:lnTo>
                <a:lnTo>
                  <a:pt x="480" y="89"/>
                </a:lnTo>
                <a:lnTo>
                  <a:pt x="487" y="96"/>
                </a:lnTo>
                <a:lnTo>
                  <a:pt x="494" y="96"/>
                </a:lnTo>
                <a:lnTo>
                  <a:pt x="494" y="103"/>
                </a:lnTo>
                <a:lnTo>
                  <a:pt x="500" y="96"/>
                </a:lnTo>
                <a:lnTo>
                  <a:pt x="507" y="96"/>
                </a:lnTo>
                <a:lnTo>
                  <a:pt x="514" y="89"/>
                </a:lnTo>
                <a:lnTo>
                  <a:pt x="521" y="82"/>
                </a:lnTo>
                <a:lnTo>
                  <a:pt x="521" y="75"/>
                </a:lnTo>
                <a:lnTo>
                  <a:pt x="521" y="68"/>
                </a:lnTo>
                <a:lnTo>
                  <a:pt x="528" y="61"/>
                </a:lnTo>
                <a:lnTo>
                  <a:pt x="542" y="61"/>
                </a:lnTo>
                <a:lnTo>
                  <a:pt x="548" y="61"/>
                </a:lnTo>
                <a:lnTo>
                  <a:pt x="555" y="61"/>
                </a:lnTo>
                <a:lnTo>
                  <a:pt x="569" y="61"/>
                </a:lnTo>
                <a:lnTo>
                  <a:pt x="576" y="68"/>
                </a:lnTo>
                <a:lnTo>
                  <a:pt x="583" y="75"/>
                </a:lnTo>
                <a:lnTo>
                  <a:pt x="576" y="75"/>
                </a:lnTo>
                <a:lnTo>
                  <a:pt x="569" y="82"/>
                </a:lnTo>
                <a:lnTo>
                  <a:pt x="562" y="82"/>
                </a:lnTo>
                <a:lnTo>
                  <a:pt x="555" y="82"/>
                </a:lnTo>
                <a:lnTo>
                  <a:pt x="542" y="82"/>
                </a:lnTo>
                <a:lnTo>
                  <a:pt x="535" y="82"/>
                </a:lnTo>
                <a:lnTo>
                  <a:pt x="521" y="82"/>
                </a:lnTo>
                <a:lnTo>
                  <a:pt x="514" y="82"/>
                </a:lnTo>
                <a:lnTo>
                  <a:pt x="514" y="89"/>
                </a:lnTo>
                <a:lnTo>
                  <a:pt x="507" y="96"/>
                </a:lnTo>
                <a:lnTo>
                  <a:pt x="500" y="103"/>
                </a:lnTo>
                <a:lnTo>
                  <a:pt x="494" y="109"/>
                </a:lnTo>
                <a:lnTo>
                  <a:pt x="487" y="109"/>
                </a:lnTo>
                <a:lnTo>
                  <a:pt x="480" y="116"/>
                </a:lnTo>
                <a:lnTo>
                  <a:pt x="473" y="116"/>
                </a:lnTo>
                <a:lnTo>
                  <a:pt x="459" y="123"/>
                </a:lnTo>
                <a:lnTo>
                  <a:pt x="452" y="123"/>
                </a:lnTo>
                <a:lnTo>
                  <a:pt x="446" y="130"/>
                </a:lnTo>
                <a:lnTo>
                  <a:pt x="439" y="130"/>
                </a:lnTo>
                <a:lnTo>
                  <a:pt x="432" y="137"/>
                </a:lnTo>
                <a:lnTo>
                  <a:pt x="425" y="137"/>
                </a:lnTo>
                <a:lnTo>
                  <a:pt x="411" y="137"/>
                </a:lnTo>
                <a:lnTo>
                  <a:pt x="404" y="144"/>
                </a:lnTo>
                <a:lnTo>
                  <a:pt x="398" y="150"/>
                </a:lnTo>
                <a:lnTo>
                  <a:pt x="398" y="157"/>
                </a:lnTo>
                <a:lnTo>
                  <a:pt x="391" y="157"/>
                </a:lnTo>
                <a:lnTo>
                  <a:pt x="384" y="164"/>
                </a:lnTo>
                <a:lnTo>
                  <a:pt x="377" y="164"/>
                </a:lnTo>
                <a:lnTo>
                  <a:pt x="363" y="171"/>
                </a:lnTo>
                <a:lnTo>
                  <a:pt x="356" y="171"/>
                </a:lnTo>
                <a:lnTo>
                  <a:pt x="350" y="171"/>
                </a:lnTo>
                <a:lnTo>
                  <a:pt x="336" y="171"/>
                </a:lnTo>
                <a:lnTo>
                  <a:pt x="329" y="171"/>
                </a:lnTo>
                <a:lnTo>
                  <a:pt x="322" y="178"/>
                </a:lnTo>
                <a:lnTo>
                  <a:pt x="315" y="178"/>
                </a:lnTo>
                <a:lnTo>
                  <a:pt x="308" y="185"/>
                </a:lnTo>
                <a:lnTo>
                  <a:pt x="302" y="191"/>
                </a:lnTo>
                <a:lnTo>
                  <a:pt x="295" y="191"/>
                </a:lnTo>
                <a:lnTo>
                  <a:pt x="288" y="198"/>
                </a:lnTo>
                <a:lnTo>
                  <a:pt x="274" y="198"/>
                </a:lnTo>
                <a:lnTo>
                  <a:pt x="267" y="205"/>
                </a:lnTo>
                <a:lnTo>
                  <a:pt x="260" y="205"/>
                </a:lnTo>
                <a:lnTo>
                  <a:pt x="254" y="212"/>
                </a:lnTo>
                <a:lnTo>
                  <a:pt x="247" y="219"/>
                </a:lnTo>
                <a:lnTo>
                  <a:pt x="240" y="219"/>
                </a:lnTo>
                <a:lnTo>
                  <a:pt x="240" y="226"/>
                </a:lnTo>
                <a:lnTo>
                  <a:pt x="233" y="233"/>
                </a:lnTo>
                <a:lnTo>
                  <a:pt x="226" y="239"/>
                </a:lnTo>
                <a:lnTo>
                  <a:pt x="226" y="239"/>
                </a:lnTo>
                <a:lnTo>
                  <a:pt x="219" y="246"/>
                </a:lnTo>
                <a:lnTo>
                  <a:pt x="219" y="253"/>
                </a:lnTo>
                <a:lnTo>
                  <a:pt x="212" y="260"/>
                </a:lnTo>
                <a:lnTo>
                  <a:pt x="212" y="267"/>
                </a:lnTo>
                <a:lnTo>
                  <a:pt x="206" y="274"/>
                </a:lnTo>
                <a:lnTo>
                  <a:pt x="199" y="274"/>
                </a:lnTo>
                <a:lnTo>
                  <a:pt x="192" y="280"/>
                </a:lnTo>
                <a:lnTo>
                  <a:pt x="185" y="280"/>
                </a:lnTo>
                <a:lnTo>
                  <a:pt x="185" y="287"/>
                </a:lnTo>
                <a:lnTo>
                  <a:pt x="185" y="294"/>
                </a:lnTo>
                <a:lnTo>
                  <a:pt x="185" y="301"/>
                </a:lnTo>
                <a:lnTo>
                  <a:pt x="185" y="308"/>
                </a:lnTo>
                <a:lnTo>
                  <a:pt x="178" y="315"/>
                </a:lnTo>
                <a:lnTo>
                  <a:pt x="171" y="308"/>
                </a:lnTo>
                <a:lnTo>
                  <a:pt x="164" y="301"/>
                </a:lnTo>
                <a:lnTo>
                  <a:pt x="158" y="294"/>
                </a:lnTo>
                <a:lnTo>
                  <a:pt x="158" y="287"/>
                </a:lnTo>
                <a:lnTo>
                  <a:pt x="151" y="280"/>
                </a:lnTo>
                <a:lnTo>
                  <a:pt x="151" y="280"/>
                </a:lnTo>
                <a:lnTo>
                  <a:pt x="144" y="280"/>
                </a:lnTo>
                <a:lnTo>
                  <a:pt x="137" y="287"/>
                </a:lnTo>
                <a:lnTo>
                  <a:pt x="123" y="287"/>
                </a:lnTo>
                <a:lnTo>
                  <a:pt x="116" y="294"/>
                </a:lnTo>
                <a:lnTo>
                  <a:pt x="110" y="294"/>
                </a:lnTo>
                <a:lnTo>
                  <a:pt x="96" y="301"/>
                </a:lnTo>
                <a:lnTo>
                  <a:pt x="89" y="301"/>
                </a:lnTo>
                <a:lnTo>
                  <a:pt x="82" y="301"/>
                </a:lnTo>
                <a:lnTo>
                  <a:pt x="75" y="308"/>
                </a:lnTo>
                <a:lnTo>
                  <a:pt x="62" y="308"/>
                </a:lnTo>
                <a:lnTo>
                  <a:pt x="55" y="315"/>
                </a:lnTo>
                <a:lnTo>
                  <a:pt x="48" y="315"/>
                </a:lnTo>
                <a:lnTo>
                  <a:pt x="41" y="315"/>
                </a:lnTo>
                <a:lnTo>
                  <a:pt x="27" y="321"/>
                </a:lnTo>
                <a:lnTo>
                  <a:pt x="20" y="321"/>
                </a:lnTo>
                <a:lnTo>
                  <a:pt x="14" y="328"/>
                </a:lnTo>
                <a:lnTo>
                  <a:pt x="7" y="328"/>
                </a:lnTo>
                <a:lnTo>
                  <a:pt x="7" y="335"/>
                </a:lnTo>
                <a:lnTo>
                  <a:pt x="0" y="342"/>
                </a:lnTo>
                <a:lnTo>
                  <a:pt x="0" y="349"/>
                </a:lnTo>
                <a:lnTo>
                  <a:pt x="0" y="356"/>
                </a:lnTo>
                <a:lnTo>
                  <a:pt x="0" y="363"/>
                </a:lnTo>
                <a:lnTo>
                  <a:pt x="0" y="369"/>
                </a:lnTo>
                <a:lnTo>
                  <a:pt x="0" y="376"/>
                </a:lnTo>
                <a:lnTo>
                  <a:pt x="0" y="383"/>
                </a:lnTo>
                <a:lnTo>
                  <a:pt x="0" y="390"/>
                </a:lnTo>
                <a:lnTo>
                  <a:pt x="0" y="39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8" name=""/>
          <p:cNvSpPr/>
          <p:nvPr/>
        </p:nvSpPr>
        <p:spPr>
          <a:xfrm>
            <a:off x="4584600" y="5470560"/>
            <a:ext cx="54000" cy="11160"/>
          </a:xfrm>
          <a:custGeom>
            <a:avLst/>
            <a:gdLst/>
            <a:ahLst/>
            <a:rect l="l" t="t" r="r" b="b"/>
            <a:pathLst>
              <a:path w="34" h="7">
                <a:moveTo>
                  <a:pt x="34" y="7"/>
                </a:moveTo>
                <a:lnTo>
                  <a:pt x="28" y="7"/>
                </a:lnTo>
                <a:lnTo>
                  <a:pt x="21" y="0"/>
                </a:lnTo>
                <a:lnTo>
                  <a:pt x="21" y="0"/>
                </a:lnTo>
                <a:lnTo>
                  <a:pt x="14" y="0"/>
                </a:lnTo>
                <a:lnTo>
                  <a:pt x="7" y="0"/>
                </a:lnTo>
                <a:lnTo>
                  <a:pt x="7" y="0"/>
                </a:lnTo>
                <a:lnTo>
                  <a:pt x="0" y="7"/>
                </a:lnTo>
                <a:lnTo>
                  <a:pt x="0" y="7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9" name=""/>
          <p:cNvSpPr/>
          <p:nvPr/>
        </p:nvSpPr>
        <p:spPr>
          <a:xfrm>
            <a:off x="4846680" y="5286240"/>
            <a:ext cx="42840" cy="32040"/>
          </a:xfrm>
          <a:custGeom>
            <a:avLst/>
            <a:gdLst/>
            <a:ahLst/>
            <a:rect l="l" t="t" r="r" b="b"/>
            <a:pathLst>
              <a:path w="27" h="20">
                <a:moveTo>
                  <a:pt x="0" y="7"/>
                </a:moveTo>
                <a:lnTo>
                  <a:pt x="7" y="7"/>
                </a:lnTo>
                <a:lnTo>
                  <a:pt x="13" y="0"/>
                </a:lnTo>
                <a:lnTo>
                  <a:pt x="13" y="0"/>
                </a:lnTo>
                <a:lnTo>
                  <a:pt x="20" y="0"/>
                </a:lnTo>
                <a:lnTo>
                  <a:pt x="20" y="0"/>
                </a:lnTo>
                <a:lnTo>
                  <a:pt x="27" y="7"/>
                </a:lnTo>
                <a:lnTo>
                  <a:pt x="27" y="7"/>
                </a:lnTo>
                <a:lnTo>
                  <a:pt x="27" y="13"/>
                </a:lnTo>
                <a:lnTo>
                  <a:pt x="20" y="13"/>
                </a:lnTo>
                <a:lnTo>
                  <a:pt x="20" y="13"/>
                </a:lnTo>
                <a:lnTo>
                  <a:pt x="13" y="20"/>
                </a:lnTo>
                <a:lnTo>
                  <a:pt x="13" y="13"/>
                </a:lnTo>
                <a:lnTo>
                  <a:pt x="7" y="13"/>
                </a:lnTo>
                <a:lnTo>
                  <a:pt x="0" y="7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0" name=""/>
          <p:cNvSpPr/>
          <p:nvPr/>
        </p:nvSpPr>
        <p:spPr>
          <a:xfrm>
            <a:off x="5064120" y="5003640"/>
            <a:ext cx="65160" cy="43200"/>
          </a:xfrm>
          <a:custGeom>
            <a:avLst/>
            <a:gdLst/>
            <a:ahLst/>
            <a:rect l="l" t="t" r="r" b="b"/>
            <a:pathLst>
              <a:path w="41" h="27">
                <a:moveTo>
                  <a:pt x="41" y="14"/>
                </a:moveTo>
                <a:lnTo>
                  <a:pt x="34" y="7"/>
                </a:lnTo>
                <a:lnTo>
                  <a:pt x="27" y="0"/>
                </a:lnTo>
                <a:lnTo>
                  <a:pt x="27" y="0"/>
                </a:lnTo>
                <a:lnTo>
                  <a:pt x="14" y="0"/>
                </a:lnTo>
                <a:lnTo>
                  <a:pt x="7" y="7"/>
                </a:lnTo>
                <a:lnTo>
                  <a:pt x="0" y="7"/>
                </a:lnTo>
                <a:lnTo>
                  <a:pt x="0" y="14"/>
                </a:lnTo>
                <a:lnTo>
                  <a:pt x="7" y="20"/>
                </a:lnTo>
                <a:lnTo>
                  <a:pt x="14" y="27"/>
                </a:lnTo>
                <a:lnTo>
                  <a:pt x="20" y="27"/>
                </a:lnTo>
                <a:lnTo>
                  <a:pt x="27" y="27"/>
                </a:lnTo>
                <a:lnTo>
                  <a:pt x="34" y="27"/>
                </a:lnTo>
                <a:lnTo>
                  <a:pt x="34" y="20"/>
                </a:lnTo>
                <a:lnTo>
                  <a:pt x="41" y="14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1" name=""/>
          <p:cNvSpPr/>
          <p:nvPr/>
        </p:nvSpPr>
        <p:spPr>
          <a:xfrm>
            <a:off x="5433840" y="4905360"/>
            <a:ext cx="76320" cy="44640"/>
          </a:xfrm>
          <a:custGeom>
            <a:avLst/>
            <a:gdLst/>
            <a:ahLst/>
            <a:rect l="l" t="t" r="r" b="b"/>
            <a:pathLst>
              <a:path w="48" h="28">
                <a:moveTo>
                  <a:pt x="0" y="14"/>
                </a:moveTo>
                <a:lnTo>
                  <a:pt x="7" y="7"/>
                </a:lnTo>
                <a:lnTo>
                  <a:pt x="14" y="0"/>
                </a:lnTo>
                <a:lnTo>
                  <a:pt x="14" y="0"/>
                </a:lnTo>
                <a:lnTo>
                  <a:pt x="21" y="0"/>
                </a:lnTo>
                <a:lnTo>
                  <a:pt x="27" y="0"/>
                </a:lnTo>
                <a:lnTo>
                  <a:pt x="34" y="7"/>
                </a:lnTo>
                <a:lnTo>
                  <a:pt x="41" y="7"/>
                </a:lnTo>
                <a:lnTo>
                  <a:pt x="48" y="14"/>
                </a:lnTo>
                <a:lnTo>
                  <a:pt x="41" y="21"/>
                </a:lnTo>
                <a:lnTo>
                  <a:pt x="34" y="21"/>
                </a:lnTo>
                <a:lnTo>
                  <a:pt x="27" y="28"/>
                </a:lnTo>
                <a:lnTo>
                  <a:pt x="14" y="28"/>
                </a:lnTo>
                <a:lnTo>
                  <a:pt x="7" y="21"/>
                </a:lnTo>
                <a:lnTo>
                  <a:pt x="0" y="14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2" name=""/>
          <p:cNvSpPr/>
          <p:nvPr/>
        </p:nvSpPr>
        <p:spPr>
          <a:xfrm>
            <a:off x="6608880" y="4602240"/>
            <a:ext cx="21960" cy="31680"/>
          </a:xfrm>
          <a:custGeom>
            <a:avLst/>
            <a:gdLst/>
            <a:ahLst/>
            <a:rect l="l" t="t" r="r" b="b"/>
            <a:pathLst>
              <a:path w="14" h="20">
                <a:moveTo>
                  <a:pt x="0" y="6"/>
                </a:moveTo>
                <a:lnTo>
                  <a:pt x="0" y="0"/>
                </a:lnTo>
                <a:lnTo>
                  <a:pt x="7" y="0"/>
                </a:lnTo>
                <a:lnTo>
                  <a:pt x="14" y="0"/>
                </a:lnTo>
                <a:lnTo>
                  <a:pt x="14" y="0"/>
                </a:lnTo>
                <a:lnTo>
                  <a:pt x="14" y="6"/>
                </a:lnTo>
                <a:lnTo>
                  <a:pt x="14" y="13"/>
                </a:lnTo>
                <a:lnTo>
                  <a:pt x="14" y="13"/>
                </a:lnTo>
                <a:lnTo>
                  <a:pt x="14" y="20"/>
                </a:lnTo>
                <a:lnTo>
                  <a:pt x="7" y="20"/>
                </a:lnTo>
                <a:lnTo>
                  <a:pt x="7" y="20"/>
                </a:lnTo>
                <a:lnTo>
                  <a:pt x="7" y="20"/>
                </a:lnTo>
                <a:lnTo>
                  <a:pt x="0" y="13"/>
                </a:lnTo>
                <a:lnTo>
                  <a:pt x="0" y="13"/>
                </a:lnTo>
                <a:lnTo>
                  <a:pt x="0" y="6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3" name=""/>
          <p:cNvSpPr/>
          <p:nvPr/>
        </p:nvSpPr>
        <p:spPr>
          <a:xfrm>
            <a:off x="5194440" y="4557600"/>
            <a:ext cx="1440" cy="11160"/>
          </a:xfrm>
          <a:custGeom>
            <a:avLst/>
            <a:gdLst/>
            <a:ahLst/>
            <a:rect l="l" t="t" r="r" b="b"/>
            <a:pathLst>
              <a:path w="0" h="7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4" name=""/>
          <p:cNvSpPr/>
          <p:nvPr/>
        </p:nvSpPr>
        <p:spPr>
          <a:xfrm>
            <a:off x="5106960" y="4503600"/>
            <a:ext cx="55440" cy="33480"/>
          </a:xfrm>
          <a:custGeom>
            <a:avLst/>
            <a:gdLst/>
            <a:ahLst/>
            <a:rect l="l" t="t" r="r" b="b"/>
            <a:pathLst>
              <a:path w="35" h="21">
                <a:moveTo>
                  <a:pt x="35" y="7"/>
                </a:moveTo>
                <a:lnTo>
                  <a:pt x="35" y="0"/>
                </a:lnTo>
                <a:lnTo>
                  <a:pt x="28" y="0"/>
                </a:lnTo>
                <a:lnTo>
                  <a:pt x="28" y="0"/>
                </a:lnTo>
                <a:lnTo>
                  <a:pt x="21" y="0"/>
                </a:lnTo>
                <a:lnTo>
                  <a:pt x="7" y="0"/>
                </a:lnTo>
                <a:lnTo>
                  <a:pt x="7" y="7"/>
                </a:lnTo>
                <a:lnTo>
                  <a:pt x="0" y="7"/>
                </a:lnTo>
                <a:lnTo>
                  <a:pt x="7" y="14"/>
                </a:lnTo>
                <a:lnTo>
                  <a:pt x="14" y="21"/>
                </a:lnTo>
                <a:lnTo>
                  <a:pt x="21" y="21"/>
                </a:lnTo>
                <a:lnTo>
                  <a:pt x="28" y="21"/>
                </a:lnTo>
                <a:lnTo>
                  <a:pt x="28" y="21"/>
                </a:lnTo>
                <a:lnTo>
                  <a:pt x="35" y="14"/>
                </a:lnTo>
                <a:lnTo>
                  <a:pt x="35" y="7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5" name=""/>
          <p:cNvSpPr/>
          <p:nvPr/>
        </p:nvSpPr>
        <p:spPr>
          <a:xfrm>
            <a:off x="5030640" y="4351320"/>
            <a:ext cx="76320" cy="65160"/>
          </a:xfrm>
          <a:custGeom>
            <a:avLst/>
            <a:gdLst/>
            <a:ahLst/>
            <a:rect l="l" t="t" r="r" b="b"/>
            <a:pathLst>
              <a:path w="48" h="41">
                <a:moveTo>
                  <a:pt x="41" y="28"/>
                </a:moveTo>
                <a:lnTo>
                  <a:pt x="41" y="21"/>
                </a:lnTo>
                <a:lnTo>
                  <a:pt x="41" y="21"/>
                </a:lnTo>
                <a:lnTo>
                  <a:pt x="41" y="21"/>
                </a:lnTo>
                <a:lnTo>
                  <a:pt x="41" y="21"/>
                </a:lnTo>
                <a:lnTo>
                  <a:pt x="41" y="14"/>
                </a:lnTo>
                <a:lnTo>
                  <a:pt x="41" y="14"/>
                </a:lnTo>
                <a:lnTo>
                  <a:pt x="41" y="14"/>
                </a:lnTo>
                <a:lnTo>
                  <a:pt x="41" y="14"/>
                </a:lnTo>
                <a:lnTo>
                  <a:pt x="41" y="14"/>
                </a:lnTo>
                <a:lnTo>
                  <a:pt x="41" y="7"/>
                </a:lnTo>
                <a:lnTo>
                  <a:pt x="41" y="7"/>
                </a:lnTo>
                <a:lnTo>
                  <a:pt x="35" y="7"/>
                </a:lnTo>
                <a:lnTo>
                  <a:pt x="35" y="7"/>
                </a:lnTo>
                <a:lnTo>
                  <a:pt x="35" y="7"/>
                </a:lnTo>
                <a:lnTo>
                  <a:pt x="35" y="7"/>
                </a:lnTo>
                <a:lnTo>
                  <a:pt x="35" y="7"/>
                </a:lnTo>
                <a:lnTo>
                  <a:pt x="28" y="7"/>
                </a:lnTo>
                <a:lnTo>
                  <a:pt x="28" y="7"/>
                </a:lnTo>
                <a:lnTo>
                  <a:pt x="28" y="7"/>
                </a:lnTo>
                <a:lnTo>
                  <a:pt x="21" y="14"/>
                </a:lnTo>
                <a:lnTo>
                  <a:pt x="21" y="14"/>
                </a:lnTo>
                <a:lnTo>
                  <a:pt x="21" y="14"/>
                </a:lnTo>
                <a:lnTo>
                  <a:pt x="21" y="14"/>
                </a:lnTo>
                <a:lnTo>
                  <a:pt x="28" y="14"/>
                </a:lnTo>
                <a:lnTo>
                  <a:pt x="28" y="14"/>
                </a:lnTo>
                <a:lnTo>
                  <a:pt x="28" y="14"/>
                </a:lnTo>
                <a:lnTo>
                  <a:pt x="28" y="14"/>
                </a:lnTo>
                <a:lnTo>
                  <a:pt x="28" y="14"/>
                </a:lnTo>
                <a:lnTo>
                  <a:pt x="35" y="21"/>
                </a:lnTo>
                <a:lnTo>
                  <a:pt x="35" y="21"/>
                </a:lnTo>
                <a:lnTo>
                  <a:pt x="35" y="21"/>
                </a:lnTo>
                <a:lnTo>
                  <a:pt x="35" y="28"/>
                </a:lnTo>
                <a:lnTo>
                  <a:pt x="35" y="28"/>
                </a:lnTo>
                <a:lnTo>
                  <a:pt x="35" y="28"/>
                </a:lnTo>
                <a:lnTo>
                  <a:pt x="28" y="34"/>
                </a:lnTo>
                <a:lnTo>
                  <a:pt x="28" y="34"/>
                </a:lnTo>
                <a:lnTo>
                  <a:pt x="28" y="34"/>
                </a:lnTo>
                <a:lnTo>
                  <a:pt x="28" y="41"/>
                </a:lnTo>
                <a:lnTo>
                  <a:pt x="21" y="41"/>
                </a:lnTo>
                <a:lnTo>
                  <a:pt x="21" y="41"/>
                </a:lnTo>
                <a:lnTo>
                  <a:pt x="21" y="41"/>
                </a:lnTo>
                <a:lnTo>
                  <a:pt x="14" y="41"/>
                </a:lnTo>
                <a:lnTo>
                  <a:pt x="14" y="41"/>
                </a:lnTo>
                <a:lnTo>
                  <a:pt x="14" y="41"/>
                </a:lnTo>
                <a:lnTo>
                  <a:pt x="14" y="41"/>
                </a:lnTo>
                <a:lnTo>
                  <a:pt x="7" y="41"/>
                </a:lnTo>
                <a:lnTo>
                  <a:pt x="7" y="34"/>
                </a:lnTo>
                <a:lnTo>
                  <a:pt x="7" y="34"/>
                </a:lnTo>
                <a:lnTo>
                  <a:pt x="7" y="34"/>
                </a:lnTo>
                <a:lnTo>
                  <a:pt x="7" y="34"/>
                </a:lnTo>
                <a:lnTo>
                  <a:pt x="7" y="28"/>
                </a:lnTo>
                <a:lnTo>
                  <a:pt x="0" y="28"/>
                </a:lnTo>
                <a:lnTo>
                  <a:pt x="7" y="21"/>
                </a:lnTo>
                <a:lnTo>
                  <a:pt x="7" y="21"/>
                </a:lnTo>
                <a:lnTo>
                  <a:pt x="7" y="14"/>
                </a:lnTo>
                <a:lnTo>
                  <a:pt x="14" y="14"/>
                </a:lnTo>
                <a:lnTo>
                  <a:pt x="14" y="7"/>
                </a:lnTo>
                <a:lnTo>
                  <a:pt x="21" y="7"/>
                </a:lnTo>
                <a:lnTo>
                  <a:pt x="28" y="7"/>
                </a:lnTo>
                <a:lnTo>
                  <a:pt x="28" y="0"/>
                </a:lnTo>
                <a:lnTo>
                  <a:pt x="35" y="0"/>
                </a:lnTo>
                <a:lnTo>
                  <a:pt x="35" y="0"/>
                </a:lnTo>
                <a:lnTo>
                  <a:pt x="41" y="7"/>
                </a:lnTo>
                <a:lnTo>
                  <a:pt x="41" y="7"/>
                </a:lnTo>
                <a:lnTo>
                  <a:pt x="41" y="7"/>
                </a:lnTo>
                <a:lnTo>
                  <a:pt x="48" y="14"/>
                </a:lnTo>
                <a:lnTo>
                  <a:pt x="48" y="14"/>
                </a:lnTo>
                <a:lnTo>
                  <a:pt x="48" y="14"/>
                </a:lnTo>
                <a:lnTo>
                  <a:pt x="48" y="21"/>
                </a:lnTo>
                <a:lnTo>
                  <a:pt x="48" y="21"/>
                </a:lnTo>
                <a:lnTo>
                  <a:pt x="48" y="21"/>
                </a:lnTo>
                <a:lnTo>
                  <a:pt x="41" y="21"/>
                </a:lnTo>
                <a:lnTo>
                  <a:pt x="41" y="28"/>
                </a:lnTo>
                <a:close/>
                <a:moveTo>
                  <a:pt x="14" y="21"/>
                </a:moveTo>
                <a:lnTo>
                  <a:pt x="14" y="21"/>
                </a:lnTo>
                <a:lnTo>
                  <a:pt x="14" y="21"/>
                </a:lnTo>
                <a:lnTo>
                  <a:pt x="14" y="21"/>
                </a:lnTo>
                <a:lnTo>
                  <a:pt x="7" y="21"/>
                </a:lnTo>
                <a:lnTo>
                  <a:pt x="7" y="21"/>
                </a:lnTo>
                <a:lnTo>
                  <a:pt x="7" y="28"/>
                </a:lnTo>
                <a:lnTo>
                  <a:pt x="7" y="28"/>
                </a:lnTo>
                <a:lnTo>
                  <a:pt x="7" y="28"/>
                </a:lnTo>
                <a:lnTo>
                  <a:pt x="7" y="28"/>
                </a:lnTo>
                <a:lnTo>
                  <a:pt x="7" y="28"/>
                </a:lnTo>
                <a:lnTo>
                  <a:pt x="7" y="28"/>
                </a:lnTo>
                <a:lnTo>
                  <a:pt x="7" y="34"/>
                </a:lnTo>
                <a:lnTo>
                  <a:pt x="14" y="34"/>
                </a:lnTo>
                <a:lnTo>
                  <a:pt x="14" y="34"/>
                </a:lnTo>
                <a:lnTo>
                  <a:pt x="14" y="34"/>
                </a:lnTo>
                <a:lnTo>
                  <a:pt x="14" y="34"/>
                </a:lnTo>
                <a:lnTo>
                  <a:pt x="21" y="34"/>
                </a:lnTo>
                <a:lnTo>
                  <a:pt x="21" y="34"/>
                </a:lnTo>
                <a:lnTo>
                  <a:pt x="21" y="34"/>
                </a:lnTo>
                <a:lnTo>
                  <a:pt x="21" y="34"/>
                </a:lnTo>
                <a:lnTo>
                  <a:pt x="28" y="34"/>
                </a:lnTo>
                <a:lnTo>
                  <a:pt x="28" y="28"/>
                </a:lnTo>
                <a:lnTo>
                  <a:pt x="28" y="28"/>
                </a:lnTo>
                <a:lnTo>
                  <a:pt x="28" y="28"/>
                </a:lnTo>
                <a:lnTo>
                  <a:pt x="28" y="28"/>
                </a:lnTo>
                <a:lnTo>
                  <a:pt x="28" y="21"/>
                </a:lnTo>
                <a:lnTo>
                  <a:pt x="28" y="21"/>
                </a:lnTo>
                <a:lnTo>
                  <a:pt x="28" y="21"/>
                </a:lnTo>
                <a:lnTo>
                  <a:pt x="28" y="21"/>
                </a:lnTo>
                <a:lnTo>
                  <a:pt x="21" y="21"/>
                </a:lnTo>
                <a:lnTo>
                  <a:pt x="21" y="14"/>
                </a:lnTo>
                <a:lnTo>
                  <a:pt x="21" y="14"/>
                </a:lnTo>
                <a:lnTo>
                  <a:pt x="21" y="14"/>
                </a:lnTo>
                <a:lnTo>
                  <a:pt x="14" y="14"/>
                </a:lnTo>
                <a:lnTo>
                  <a:pt x="14" y="14"/>
                </a:lnTo>
                <a:lnTo>
                  <a:pt x="14" y="2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6" name=""/>
          <p:cNvSpPr/>
          <p:nvPr/>
        </p:nvSpPr>
        <p:spPr>
          <a:xfrm>
            <a:off x="5064120" y="4395960"/>
            <a:ext cx="65160" cy="64800"/>
          </a:xfrm>
          <a:custGeom>
            <a:avLst/>
            <a:gdLst/>
            <a:ahLst/>
            <a:rect l="l" t="t" r="r" b="b"/>
            <a:pathLst>
              <a:path w="41" h="41">
                <a:moveTo>
                  <a:pt x="14" y="6"/>
                </a:moveTo>
                <a:lnTo>
                  <a:pt x="20" y="6"/>
                </a:lnTo>
                <a:lnTo>
                  <a:pt x="20" y="6"/>
                </a:lnTo>
                <a:lnTo>
                  <a:pt x="20" y="6"/>
                </a:lnTo>
                <a:lnTo>
                  <a:pt x="27" y="6"/>
                </a:lnTo>
                <a:lnTo>
                  <a:pt x="27" y="6"/>
                </a:lnTo>
                <a:lnTo>
                  <a:pt x="34" y="0"/>
                </a:lnTo>
                <a:lnTo>
                  <a:pt x="34" y="6"/>
                </a:lnTo>
                <a:lnTo>
                  <a:pt x="34" y="6"/>
                </a:lnTo>
                <a:lnTo>
                  <a:pt x="34" y="6"/>
                </a:lnTo>
                <a:lnTo>
                  <a:pt x="41" y="6"/>
                </a:lnTo>
                <a:lnTo>
                  <a:pt x="41" y="6"/>
                </a:lnTo>
                <a:lnTo>
                  <a:pt x="41" y="6"/>
                </a:lnTo>
                <a:lnTo>
                  <a:pt x="41" y="13"/>
                </a:lnTo>
                <a:lnTo>
                  <a:pt x="41" y="13"/>
                </a:lnTo>
                <a:lnTo>
                  <a:pt x="41" y="13"/>
                </a:lnTo>
                <a:lnTo>
                  <a:pt x="41" y="13"/>
                </a:lnTo>
                <a:lnTo>
                  <a:pt x="41" y="13"/>
                </a:lnTo>
                <a:lnTo>
                  <a:pt x="41" y="20"/>
                </a:lnTo>
                <a:lnTo>
                  <a:pt x="41" y="20"/>
                </a:lnTo>
                <a:lnTo>
                  <a:pt x="41" y="20"/>
                </a:lnTo>
                <a:lnTo>
                  <a:pt x="41" y="20"/>
                </a:lnTo>
                <a:lnTo>
                  <a:pt x="41" y="27"/>
                </a:lnTo>
                <a:lnTo>
                  <a:pt x="41" y="27"/>
                </a:lnTo>
                <a:lnTo>
                  <a:pt x="41" y="27"/>
                </a:lnTo>
                <a:lnTo>
                  <a:pt x="41" y="27"/>
                </a:lnTo>
                <a:lnTo>
                  <a:pt x="34" y="27"/>
                </a:lnTo>
                <a:lnTo>
                  <a:pt x="34" y="34"/>
                </a:lnTo>
                <a:lnTo>
                  <a:pt x="34" y="34"/>
                </a:lnTo>
                <a:lnTo>
                  <a:pt x="27" y="34"/>
                </a:lnTo>
                <a:lnTo>
                  <a:pt x="27" y="34"/>
                </a:lnTo>
                <a:lnTo>
                  <a:pt x="20" y="41"/>
                </a:lnTo>
                <a:lnTo>
                  <a:pt x="20" y="41"/>
                </a:lnTo>
                <a:lnTo>
                  <a:pt x="20" y="41"/>
                </a:lnTo>
                <a:lnTo>
                  <a:pt x="14" y="41"/>
                </a:lnTo>
                <a:lnTo>
                  <a:pt x="14" y="41"/>
                </a:lnTo>
                <a:lnTo>
                  <a:pt x="14" y="41"/>
                </a:lnTo>
                <a:lnTo>
                  <a:pt x="7" y="41"/>
                </a:lnTo>
                <a:lnTo>
                  <a:pt x="7" y="41"/>
                </a:lnTo>
                <a:lnTo>
                  <a:pt x="7" y="34"/>
                </a:lnTo>
                <a:lnTo>
                  <a:pt x="7" y="34"/>
                </a:lnTo>
                <a:lnTo>
                  <a:pt x="0" y="34"/>
                </a:lnTo>
                <a:lnTo>
                  <a:pt x="0" y="27"/>
                </a:lnTo>
                <a:lnTo>
                  <a:pt x="0" y="27"/>
                </a:lnTo>
                <a:lnTo>
                  <a:pt x="0" y="20"/>
                </a:lnTo>
                <a:lnTo>
                  <a:pt x="7" y="20"/>
                </a:lnTo>
                <a:lnTo>
                  <a:pt x="7" y="13"/>
                </a:lnTo>
                <a:lnTo>
                  <a:pt x="14" y="13"/>
                </a:lnTo>
                <a:lnTo>
                  <a:pt x="14" y="6"/>
                </a:lnTo>
                <a:close/>
                <a:moveTo>
                  <a:pt x="20" y="13"/>
                </a:moveTo>
                <a:lnTo>
                  <a:pt x="14" y="20"/>
                </a:lnTo>
                <a:lnTo>
                  <a:pt x="14" y="20"/>
                </a:lnTo>
                <a:lnTo>
                  <a:pt x="7" y="20"/>
                </a:lnTo>
                <a:lnTo>
                  <a:pt x="7" y="27"/>
                </a:lnTo>
                <a:lnTo>
                  <a:pt x="7" y="27"/>
                </a:lnTo>
                <a:lnTo>
                  <a:pt x="7" y="27"/>
                </a:lnTo>
                <a:lnTo>
                  <a:pt x="7" y="27"/>
                </a:lnTo>
                <a:lnTo>
                  <a:pt x="7" y="34"/>
                </a:lnTo>
                <a:lnTo>
                  <a:pt x="7" y="34"/>
                </a:lnTo>
                <a:lnTo>
                  <a:pt x="14" y="34"/>
                </a:lnTo>
                <a:lnTo>
                  <a:pt x="14" y="34"/>
                </a:lnTo>
                <a:lnTo>
                  <a:pt x="14" y="34"/>
                </a:lnTo>
                <a:lnTo>
                  <a:pt x="20" y="34"/>
                </a:lnTo>
                <a:lnTo>
                  <a:pt x="20" y="34"/>
                </a:lnTo>
                <a:lnTo>
                  <a:pt x="27" y="34"/>
                </a:lnTo>
                <a:lnTo>
                  <a:pt x="27" y="27"/>
                </a:lnTo>
                <a:lnTo>
                  <a:pt x="34" y="27"/>
                </a:lnTo>
                <a:lnTo>
                  <a:pt x="34" y="20"/>
                </a:lnTo>
                <a:lnTo>
                  <a:pt x="34" y="20"/>
                </a:lnTo>
                <a:lnTo>
                  <a:pt x="41" y="20"/>
                </a:lnTo>
                <a:lnTo>
                  <a:pt x="41" y="13"/>
                </a:lnTo>
                <a:lnTo>
                  <a:pt x="41" y="13"/>
                </a:lnTo>
                <a:lnTo>
                  <a:pt x="41" y="13"/>
                </a:lnTo>
                <a:lnTo>
                  <a:pt x="41" y="13"/>
                </a:lnTo>
                <a:lnTo>
                  <a:pt x="34" y="6"/>
                </a:lnTo>
                <a:lnTo>
                  <a:pt x="34" y="6"/>
                </a:lnTo>
                <a:lnTo>
                  <a:pt x="34" y="6"/>
                </a:lnTo>
                <a:lnTo>
                  <a:pt x="34" y="6"/>
                </a:lnTo>
                <a:lnTo>
                  <a:pt x="27" y="6"/>
                </a:lnTo>
                <a:lnTo>
                  <a:pt x="27" y="6"/>
                </a:lnTo>
                <a:lnTo>
                  <a:pt x="20" y="13"/>
                </a:lnTo>
                <a:lnTo>
                  <a:pt x="20" y="13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7" name=""/>
          <p:cNvSpPr/>
          <p:nvPr/>
        </p:nvSpPr>
        <p:spPr>
          <a:xfrm>
            <a:off x="5041800" y="4340160"/>
            <a:ext cx="1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8" name=""/>
          <p:cNvSpPr/>
          <p:nvPr/>
        </p:nvSpPr>
        <p:spPr>
          <a:xfrm>
            <a:off x="4878360" y="4221000"/>
            <a:ext cx="250920" cy="293760"/>
          </a:xfrm>
          <a:custGeom>
            <a:avLst/>
            <a:gdLst/>
            <a:ahLst/>
            <a:rect l="l" t="t" r="r" b="b"/>
            <a:pathLst>
              <a:path w="158" h="185">
                <a:moveTo>
                  <a:pt x="103" y="75"/>
                </a:moveTo>
                <a:lnTo>
                  <a:pt x="96" y="69"/>
                </a:lnTo>
                <a:lnTo>
                  <a:pt x="96" y="62"/>
                </a:lnTo>
                <a:lnTo>
                  <a:pt x="89" y="62"/>
                </a:lnTo>
                <a:lnTo>
                  <a:pt x="89" y="55"/>
                </a:lnTo>
                <a:lnTo>
                  <a:pt x="83" y="48"/>
                </a:lnTo>
                <a:lnTo>
                  <a:pt x="76" y="41"/>
                </a:lnTo>
                <a:lnTo>
                  <a:pt x="76" y="34"/>
                </a:lnTo>
                <a:lnTo>
                  <a:pt x="69" y="28"/>
                </a:lnTo>
                <a:lnTo>
                  <a:pt x="69" y="21"/>
                </a:lnTo>
                <a:lnTo>
                  <a:pt x="62" y="21"/>
                </a:lnTo>
                <a:lnTo>
                  <a:pt x="62" y="14"/>
                </a:lnTo>
                <a:lnTo>
                  <a:pt x="55" y="7"/>
                </a:lnTo>
                <a:lnTo>
                  <a:pt x="48" y="0"/>
                </a:lnTo>
                <a:lnTo>
                  <a:pt x="35" y="0"/>
                </a:lnTo>
                <a:lnTo>
                  <a:pt x="28" y="0"/>
                </a:lnTo>
                <a:lnTo>
                  <a:pt x="21" y="7"/>
                </a:lnTo>
                <a:lnTo>
                  <a:pt x="21" y="14"/>
                </a:lnTo>
                <a:lnTo>
                  <a:pt x="14" y="21"/>
                </a:lnTo>
                <a:lnTo>
                  <a:pt x="7" y="28"/>
                </a:lnTo>
                <a:lnTo>
                  <a:pt x="7" y="34"/>
                </a:lnTo>
                <a:lnTo>
                  <a:pt x="0" y="34"/>
                </a:lnTo>
                <a:lnTo>
                  <a:pt x="0" y="41"/>
                </a:lnTo>
                <a:lnTo>
                  <a:pt x="7" y="48"/>
                </a:lnTo>
                <a:lnTo>
                  <a:pt x="14" y="48"/>
                </a:lnTo>
                <a:lnTo>
                  <a:pt x="28" y="55"/>
                </a:lnTo>
                <a:lnTo>
                  <a:pt x="35" y="62"/>
                </a:lnTo>
                <a:lnTo>
                  <a:pt x="35" y="62"/>
                </a:lnTo>
                <a:lnTo>
                  <a:pt x="41" y="69"/>
                </a:lnTo>
                <a:lnTo>
                  <a:pt x="48" y="75"/>
                </a:lnTo>
                <a:lnTo>
                  <a:pt x="55" y="82"/>
                </a:lnTo>
                <a:lnTo>
                  <a:pt x="62" y="82"/>
                </a:lnTo>
                <a:lnTo>
                  <a:pt x="69" y="89"/>
                </a:lnTo>
                <a:lnTo>
                  <a:pt x="69" y="96"/>
                </a:lnTo>
                <a:lnTo>
                  <a:pt x="76" y="103"/>
                </a:lnTo>
                <a:lnTo>
                  <a:pt x="76" y="110"/>
                </a:lnTo>
                <a:lnTo>
                  <a:pt x="83" y="116"/>
                </a:lnTo>
                <a:lnTo>
                  <a:pt x="83" y="116"/>
                </a:lnTo>
                <a:lnTo>
                  <a:pt x="89" y="123"/>
                </a:lnTo>
                <a:lnTo>
                  <a:pt x="96" y="130"/>
                </a:lnTo>
                <a:lnTo>
                  <a:pt x="96" y="137"/>
                </a:lnTo>
                <a:lnTo>
                  <a:pt x="96" y="144"/>
                </a:lnTo>
                <a:lnTo>
                  <a:pt x="96" y="151"/>
                </a:lnTo>
                <a:lnTo>
                  <a:pt x="96" y="158"/>
                </a:lnTo>
                <a:lnTo>
                  <a:pt x="103" y="158"/>
                </a:lnTo>
                <a:lnTo>
                  <a:pt x="110" y="164"/>
                </a:lnTo>
                <a:lnTo>
                  <a:pt x="124" y="164"/>
                </a:lnTo>
                <a:lnTo>
                  <a:pt x="131" y="171"/>
                </a:lnTo>
                <a:lnTo>
                  <a:pt x="137" y="178"/>
                </a:lnTo>
                <a:lnTo>
                  <a:pt x="137" y="185"/>
                </a:lnTo>
                <a:lnTo>
                  <a:pt x="144" y="185"/>
                </a:lnTo>
                <a:lnTo>
                  <a:pt x="151" y="185"/>
                </a:lnTo>
                <a:lnTo>
                  <a:pt x="151" y="178"/>
                </a:lnTo>
                <a:lnTo>
                  <a:pt x="158" y="164"/>
                </a:lnTo>
                <a:lnTo>
                  <a:pt x="158" y="158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9" name=""/>
          <p:cNvSpPr/>
          <p:nvPr/>
        </p:nvSpPr>
        <p:spPr>
          <a:xfrm>
            <a:off x="4943520" y="4416480"/>
            <a:ext cx="44280" cy="33120"/>
          </a:xfrm>
          <a:custGeom>
            <a:avLst/>
            <a:gdLst/>
            <a:ahLst/>
            <a:rect l="l" t="t" r="r" b="b"/>
            <a:pathLst>
              <a:path w="28" h="21">
                <a:moveTo>
                  <a:pt x="28" y="7"/>
                </a:moveTo>
                <a:lnTo>
                  <a:pt x="21" y="0"/>
                </a:lnTo>
                <a:lnTo>
                  <a:pt x="21" y="0"/>
                </a:lnTo>
                <a:lnTo>
                  <a:pt x="14" y="0"/>
                </a:lnTo>
                <a:lnTo>
                  <a:pt x="7" y="0"/>
                </a:lnTo>
                <a:lnTo>
                  <a:pt x="0" y="7"/>
                </a:lnTo>
                <a:lnTo>
                  <a:pt x="0" y="7"/>
                </a:lnTo>
                <a:lnTo>
                  <a:pt x="0" y="14"/>
                </a:lnTo>
                <a:lnTo>
                  <a:pt x="7" y="14"/>
                </a:lnTo>
                <a:lnTo>
                  <a:pt x="14" y="21"/>
                </a:lnTo>
                <a:lnTo>
                  <a:pt x="14" y="21"/>
                </a:lnTo>
                <a:lnTo>
                  <a:pt x="21" y="21"/>
                </a:lnTo>
                <a:lnTo>
                  <a:pt x="21" y="14"/>
                </a:lnTo>
                <a:lnTo>
                  <a:pt x="28" y="14"/>
                </a:lnTo>
                <a:lnTo>
                  <a:pt x="28" y="7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0" name=""/>
          <p:cNvSpPr/>
          <p:nvPr/>
        </p:nvSpPr>
        <p:spPr>
          <a:xfrm>
            <a:off x="4900680" y="4362480"/>
            <a:ext cx="33120" cy="42840"/>
          </a:xfrm>
          <a:custGeom>
            <a:avLst/>
            <a:gdLst/>
            <a:ahLst/>
            <a:rect l="l" t="t" r="r" b="b"/>
            <a:pathLst>
              <a:path w="21" h="27">
                <a:moveTo>
                  <a:pt x="21" y="7"/>
                </a:moveTo>
                <a:lnTo>
                  <a:pt x="21" y="7"/>
                </a:lnTo>
                <a:lnTo>
                  <a:pt x="14" y="0"/>
                </a:lnTo>
                <a:lnTo>
                  <a:pt x="7" y="0"/>
                </a:lnTo>
                <a:lnTo>
                  <a:pt x="0" y="7"/>
                </a:lnTo>
                <a:lnTo>
                  <a:pt x="0" y="7"/>
                </a:lnTo>
                <a:lnTo>
                  <a:pt x="0" y="14"/>
                </a:lnTo>
                <a:lnTo>
                  <a:pt x="0" y="21"/>
                </a:lnTo>
                <a:lnTo>
                  <a:pt x="7" y="27"/>
                </a:lnTo>
                <a:lnTo>
                  <a:pt x="7" y="27"/>
                </a:lnTo>
                <a:lnTo>
                  <a:pt x="14" y="27"/>
                </a:lnTo>
                <a:lnTo>
                  <a:pt x="14" y="27"/>
                </a:lnTo>
                <a:lnTo>
                  <a:pt x="21" y="27"/>
                </a:lnTo>
                <a:lnTo>
                  <a:pt x="21" y="21"/>
                </a:lnTo>
                <a:lnTo>
                  <a:pt x="21" y="7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1" name=""/>
          <p:cNvSpPr/>
          <p:nvPr/>
        </p:nvSpPr>
        <p:spPr>
          <a:xfrm>
            <a:off x="6554880" y="4079880"/>
            <a:ext cx="33120" cy="33480"/>
          </a:xfrm>
          <a:custGeom>
            <a:avLst/>
            <a:gdLst/>
            <a:ahLst/>
            <a:rect l="l" t="t" r="r" b="b"/>
            <a:pathLst>
              <a:path w="21" h="21">
                <a:moveTo>
                  <a:pt x="0" y="14"/>
                </a:moveTo>
                <a:lnTo>
                  <a:pt x="0" y="7"/>
                </a:lnTo>
                <a:lnTo>
                  <a:pt x="7" y="7"/>
                </a:lnTo>
                <a:lnTo>
                  <a:pt x="7" y="7"/>
                </a:lnTo>
                <a:lnTo>
                  <a:pt x="14" y="0"/>
                </a:lnTo>
                <a:lnTo>
                  <a:pt x="14" y="7"/>
                </a:lnTo>
                <a:lnTo>
                  <a:pt x="14" y="7"/>
                </a:lnTo>
                <a:lnTo>
                  <a:pt x="14" y="7"/>
                </a:lnTo>
                <a:lnTo>
                  <a:pt x="21" y="14"/>
                </a:lnTo>
                <a:lnTo>
                  <a:pt x="14" y="14"/>
                </a:lnTo>
                <a:lnTo>
                  <a:pt x="14" y="21"/>
                </a:lnTo>
                <a:lnTo>
                  <a:pt x="14" y="21"/>
                </a:lnTo>
                <a:lnTo>
                  <a:pt x="7" y="21"/>
                </a:lnTo>
                <a:lnTo>
                  <a:pt x="7" y="14"/>
                </a:lnTo>
                <a:lnTo>
                  <a:pt x="0" y="14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2" name=""/>
          <p:cNvSpPr/>
          <p:nvPr/>
        </p:nvSpPr>
        <p:spPr>
          <a:xfrm>
            <a:off x="6283440" y="3906720"/>
            <a:ext cx="20520" cy="20880"/>
          </a:xfrm>
          <a:custGeom>
            <a:avLst/>
            <a:gdLst/>
            <a:ahLst/>
            <a:rect l="l" t="t" r="r" b="b"/>
            <a:pathLst>
              <a:path w="13" h="13">
                <a:moveTo>
                  <a:pt x="0" y="7"/>
                </a:moveTo>
                <a:lnTo>
                  <a:pt x="0" y="7"/>
                </a:lnTo>
                <a:lnTo>
                  <a:pt x="7" y="7"/>
                </a:lnTo>
                <a:lnTo>
                  <a:pt x="7" y="0"/>
                </a:lnTo>
                <a:lnTo>
                  <a:pt x="7" y="0"/>
                </a:lnTo>
                <a:lnTo>
                  <a:pt x="13" y="7"/>
                </a:lnTo>
                <a:lnTo>
                  <a:pt x="13" y="7"/>
                </a:lnTo>
                <a:lnTo>
                  <a:pt x="13" y="7"/>
                </a:lnTo>
                <a:lnTo>
                  <a:pt x="13" y="7"/>
                </a:lnTo>
                <a:lnTo>
                  <a:pt x="13" y="13"/>
                </a:lnTo>
                <a:lnTo>
                  <a:pt x="7" y="13"/>
                </a:lnTo>
                <a:lnTo>
                  <a:pt x="7" y="13"/>
                </a:lnTo>
                <a:lnTo>
                  <a:pt x="7" y="13"/>
                </a:lnTo>
                <a:lnTo>
                  <a:pt x="0" y="7"/>
                </a:lnTo>
                <a:lnTo>
                  <a:pt x="0" y="7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3" name=""/>
          <p:cNvSpPr/>
          <p:nvPr/>
        </p:nvSpPr>
        <p:spPr>
          <a:xfrm flipV="1">
            <a:off x="2995560" y="3720600"/>
            <a:ext cx="1800" cy="11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4" name=""/>
          <p:cNvSpPr/>
          <p:nvPr/>
        </p:nvSpPr>
        <p:spPr>
          <a:xfrm>
            <a:off x="2995560" y="3514680"/>
            <a:ext cx="403200" cy="206280"/>
          </a:xfrm>
          <a:custGeom>
            <a:avLst/>
            <a:gdLst/>
            <a:ahLst/>
            <a:rect l="l" t="t" r="r" b="b"/>
            <a:pathLst>
              <a:path w="254" h="130">
                <a:moveTo>
                  <a:pt x="0" y="130"/>
                </a:moveTo>
                <a:lnTo>
                  <a:pt x="7" y="124"/>
                </a:lnTo>
                <a:lnTo>
                  <a:pt x="7" y="117"/>
                </a:lnTo>
                <a:lnTo>
                  <a:pt x="14" y="117"/>
                </a:lnTo>
                <a:lnTo>
                  <a:pt x="14" y="110"/>
                </a:lnTo>
                <a:lnTo>
                  <a:pt x="14" y="103"/>
                </a:lnTo>
                <a:lnTo>
                  <a:pt x="21" y="96"/>
                </a:lnTo>
                <a:lnTo>
                  <a:pt x="21" y="89"/>
                </a:lnTo>
                <a:lnTo>
                  <a:pt x="28" y="82"/>
                </a:lnTo>
                <a:lnTo>
                  <a:pt x="34" y="82"/>
                </a:lnTo>
                <a:lnTo>
                  <a:pt x="48" y="82"/>
                </a:lnTo>
                <a:lnTo>
                  <a:pt x="62" y="82"/>
                </a:lnTo>
                <a:lnTo>
                  <a:pt x="69" y="89"/>
                </a:lnTo>
                <a:lnTo>
                  <a:pt x="76" y="89"/>
                </a:lnTo>
                <a:lnTo>
                  <a:pt x="82" y="89"/>
                </a:lnTo>
                <a:lnTo>
                  <a:pt x="96" y="96"/>
                </a:lnTo>
                <a:lnTo>
                  <a:pt x="103" y="103"/>
                </a:lnTo>
                <a:lnTo>
                  <a:pt x="103" y="103"/>
                </a:lnTo>
                <a:lnTo>
                  <a:pt x="110" y="110"/>
                </a:lnTo>
                <a:lnTo>
                  <a:pt x="117" y="117"/>
                </a:lnTo>
                <a:lnTo>
                  <a:pt x="124" y="110"/>
                </a:lnTo>
                <a:lnTo>
                  <a:pt x="130" y="110"/>
                </a:lnTo>
                <a:lnTo>
                  <a:pt x="137" y="103"/>
                </a:lnTo>
                <a:lnTo>
                  <a:pt x="151" y="103"/>
                </a:lnTo>
                <a:lnTo>
                  <a:pt x="158" y="103"/>
                </a:lnTo>
                <a:lnTo>
                  <a:pt x="165" y="96"/>
                </a:lnTo>
                <a:lnTo>
                  <a:pt x="172" y="96"/>
                </a:lnTo>
                <a:lnTo>
                  <a:pt x="178" y="89"/>
                </a:lnTo>
                <a:lnTo>
                  <a:pt x="178" y="82"/>
                </a:lnTo>
                <a:lnTo>
                  <a:pt x="178" y="76"/>
                </a:lnTo>
                <a:lnTo>
                  <a:pt x="178" y="69"/>
                </a:lnTo>
                <a:lnTo>
                  <a:pt x="185" y="62"/>
                </a:lnTo>
                <a:lnTo>
                  <a:pt x="185" y="55"/>
                </a:lnTo>
                <a:lnTo>
                  <a:pt x="185" y="48"/>
                </a:lnTo>
                <a:lnTo>
                  <a:pt x="192" y="41"/>
                </a:lnTo>
                <a:lnTo>
                  <a:pt x="192" y="35"/>
                </a:lnTo>
                <a:lnTo>
                  <a:pt x="192" y="28"/>
                </a:lnTo>
                <a:lnTo>
                  <a:pt x="199" y="28"/>
                </a:lnTo>
                <a:lnTo>
                  <a:pt x="199" y="21"/>
                </a:lnTo>
                <a:lnTo>
                  <a:pt x="206" y="14"/>
                </a:lnTo>
                <a:lnTo>
                  <a:pt x="220" y="14"/>
                </a:lnTo>
                <a:lnTo>
                  <a:pt x="233" y="14"/>
                </a:lnTo>
                <a:lnTo>
                  <a:pt x="240" y="14"/>
                </a:lnTo>
                <a:lnTo>
                  <a:pt x="247" y="7"/>
                </a:lnTo>
                <a:lnTo>
                  <a:pt x="254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5" name=""/>
          <p:cNvSpPr/>
          <p:nvPr/>
        </p:nvSpPr>
        <p:spPr>
          <a:xfrm>
            <a:off x="3398760" y="3514680"/>
            <a:ext cx="1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6" name=""/>
          <p:cNvSpPr/>
          <p:nvPr/>
        </p:nvSpPr>
        <p:spPr>
          <a:xfrm>
            <a:off x="3387600" y="3449520"/>
            <a:ext cx="65160" cy="55800"/>
          </a:xfrm>
          <a:custGeom>
            <a:avLst/>
            <a:gdLst/>
            <a:ahLst/>
            <a:rect l="l" t="t" r="r" b="b"/>
            <a:pathLst>
              <a:path w="41" h="35">
                <a:moveTo>
                  <a:pt x="14" y="0"/>
                </a:moveTo>
                <a:lnTo>
                  <a:pt x="14" y="0"/>
                </a:lnTo>
                <a:lnTo>
                  <a:pt x="7" y="0"/>
                </a:lnTo>
                <a:lnTo>
                  <a:pt x="7" y="0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14"/>
                </a:lnTo>
                <a:lnTo>
                  <a:pt x="0" y="14"/>
                </a:lnTo>
                <a:lnTo>
                  <a:pt x="0" y="14"/>
                </a:lnTo>
                <a:lnTo>
                  <a:pt x="0" y="14"/>
                </a:lnTo>
                <a:lnTo>
                  <a:pt x="0" y="14"/>
                </a:lnTo>
                <a:lnTo>
                  <a:pt x="7" y="21"/>
                </a:lnTo>
                <a:lnTo>
                  <a:pt x="7" y="21"/>
                </a:lnTo>
                <a:lnTo>
                  <a:pt x="7" y="21"/>
                </a:lnTo>
                <a:lnTo>
                  <a:pt x="7" y="21"/>
                </a:lnTo>
                <a:lnTo>
                  <a:pt x="14" y="21"/>
                </a:lnTo>
                <a:lnTo>
                  <a:pt x="14" y="21"/>
                </a:lnTo>
                <a:lnTo>
                  <a:pt x="14" y="21"/>
                </a:lnTo>
                <a:lnTo>
                  <a:pt x="14" y="21"/>
                </a:lnTo>
                <a:lnTo>
                  <a:pt x="14" y="21"/>
                </a:lnTo>
                <a:lnTo>
                  <a:pt x="14" y="21"/>
                </a:lnTo>
                <a:lnTo>
                  <a:pt x="14" y="14"/>
                </a:lnTo>
                <a:lnTo>
                  <a:pt x="14" y="14"/>
                </a:lnTo>
                <a:lnTo>
                  <a:pt x="14" y="14"/>
                </a:lnTo>
                <a:lnTo>
                  <a:pt x="14" y="14"/>
                </a:lnTo>
                <a:lnTo>
                  <a:pt x="14" y="7"/>
                </a:lnTo>
                <a:lnTo>
                  <a:pt x="14" y="7"/>
                </a:lnTo>
                <a:lnTo>
                  <a:pt x="21" y="7"/>
                </a:lnTo>
                <a:lnTo>
                  <a:pt x="21" y="7"/>
                </a:lnTo>
                <a:lnTo>
                  <a:pt x="21" y="0"/>
                </a:lnTo>
                <a:lnTo>
                  <a:pt x="27" y="0"/>
                </a:lnTo>
                <a:lnTo>
                  <a:pt x="27" y="0"/>
                </a:lnTo>
                <a:lnTo>
                  <a:pt x="27" y="7"/>
                </a:lnTo>
                <a:lnTo>
                  <a:pt x="34" y="7"/>
                </a:lnTo>
                <a:lnTo>
                  <a:pt x="34" y="7"/>
                </a:lnTo>
                <a:lnTo>
                  <a:pt x="34" y="7"/>
                </a:lnTo>
                <a:lnTo>
                  <a:pt x="34" y="7"/>
                </a:lnTo>
                <a:lnTo>
                  <a:pt x="41" y="7"/>
                </a:lnTo>
                <a:lnTo>
                  <a:pt x="41" y="14"/>
                </a:lnTo>
                <a:lnTo>
                  <a:pt x="41" y="14"/>
                </a:lnTo>
                <a:lnTo>
                  <a:pt x="41" y="14"/>
                </a:lnTo>
                <a:lnTo>
                  <a:pt x="41" y="14"/>
                </a:lnTo>
                <a:lnTo>
                  <a:pt x="41" y="21"/>
                </a:lnTo>
                <a:lnTo>
                  <a:pt x="41" y="21"/>
                </a:lnTo>
                <a:lnTo>
                  <a:pt x="41" y="21"/>
                </a:lnTo>
                <a:lnTo>
                  <a:pt x="41" y="28"/>
                </a:lnTo>
                <a:lnTo>
                  <a:pt x="34" y="28"/>
                </a:lnTo>
                <a:lnTo>
                  <a:pt x="34" y="28"/>
                </a:lnTo>
                <a:lnTo>
                  <a:pt x="34" y="28"/>
                </a:lnTo>
                <a:lnTo>
                  <a:pt x="27" y="35"/>
                </a:lnTo>
                <a:lnTo>
                  <a:pt x="27" y="35"/>
                </a:lnTo>
                <a:lnTo>
                  <a:pt x="21" y="28"/>
                </a:lnTo>
                <a:lnTo>
                  <a:pt x="14" y="28"/>
                </a:lnTo>
                <a:lnTo>
                  <a:pt x="7" y="28"/>
                </a:lnTo>
                <a:lnTo>
                  <a:pt x="7" y="28"/>
                </a:lnTo>
                <a:lnTo>
                  <a:pt x="0" y="21"/>
                </a:lnTo>
                <a:lnTo>
                  <a:pt x="0" y="21"/>
                </a:lnTo>
                <a:lnTo>
                  <a:pt x="0" y="14"/>
                </a:lnTo>
                <a:lnTo>
                  <a:pt x="0" y="14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0"/>
                </a:lnTo>
                <a:lnTo>
                  <a:pt x="0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14" y="0"/>
                </a:lnTo>
                <a:close/>
                <a:moveTo>
                  <a:pt x="21" y="28"/>
                </a:moveTo>
                <a:lnTo>
                  <a:pt x="27" y="28"/>
                </a:lnTo>
                <a:lnTo>
                  <a:pt x="27" y="28"/>
                </a:lnTo>
                <a:lnTo>
                  <a:pt x="27" y="28"/>
                </a:lnTo>
                <a:lnTo>
                  <a:pt x="27" y="28"/>
                </a:lnTo>
                <a:lnTo>
                  <a:pt x="27" y="28"/>
                </a:lnTo>
                <a:lnTo>
                  <a:pt x="34" y="28"/>
                </a:lnTo>
                <a:lnTo>
                  <a:pt x="34" y="28"/>
                </a:lnTo>
                <a:lnTo>
                  <a:pt x="34" y="28"/>
                </a:lnTo>
                <a:lnTo>
                  <a:pt x="34" y="21"/>
                </a:lnTo>
                <a:lnTo>
                  <a:pt x="34" y="21"/>
                </a:lnTo>
                <a:lnTo>
                  <a:pt x="34" y="21"/>
                </a:lnTo>
                <a:lnTo>
                  <a:pt x="34" y="21"/>
                </a:lnTo>
                <a:lnTo>
                  <a:pt x="34" y="21"/>
                </a:lnTo>
                <a:lnTo>
                  <a:pt x="34" y="21"/>
                </a:lnTo>
                <a:lnTo>
                  <a:pt x="34" y="14"/>
                </a:lnTo>
                <a:lnTo>
                  <a:pt x="34" y="14"/>
                </a:lnTo>
                <a:lnTo>
                  <a:pt x="34" y="14"/>
                </a:lnTo>
                <a:lnTo>
                  <a:pt x="34" y="14"/>
                </a:lnTo>
                <a:lnTo>
                  <a:pt x="34" y="7"/>
                </a:lnTo>
                <a:lnTo>
                  <a:pt x="27" y="7"/>
                </a:lnTo>
                <a:lnTo>
                  <a:pt x="27" y="7"/>
                </a:lnTo>
                <a:lnTo>
                  <a:pt x="27" y="7"/>
                </a:lnTo>
                <a:lnTo>
                  <a:pt x="21" y="7"/>
                </a:lnTo>
                <a:lnTo>
                  <a:pt x="21" y="7"/>
                </a:lnTo>
                <a:lnTo>
                  <a:pt x="21" y="7"/>
                </a:lnTo>
                <a:lnTo>
                  <a:pt x="21" y="14"/>
                </a:lnTo>
                <a:lnTo>
                  <a:pt x="21" y="14"/>
                </a:lnTo>
                <a:lnTo>
                  <a:pt x="14" y="14"/>
                </a:lnTo>
                <a:lnTo>
                  <a:pt x="14" y="14"/>
                </a:lnTo>
                <a:lnTo>
                  <a:pt x="14" y="21"/>
                </a:lnTo>
                <a:lnTo>
                  <a:pt x="14" y="21"/>
                </a:lnTo>
                <a:lnTo>
                  <a:pt x="21" y="21"/>
                </a:lnTo>
                <a:lnTo>
                  <a:pt x="21" y="21"/>
                </a:lnTo>
                <a:lnTo>
                  <a:pt x="21" y="21"/>
                </a:lnTo>
                <a:lnTo>
                  <a:pt x="21" y="28"/>
                </a:lnTo>
                <a:lnTo>
                  <a:pt x="21" y="28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7" name=""/>
          <p:cNvSpPr/>
          <p:nvPr/>
        </p:nvSpPr>
        <p:spPr>
          <a:xfrm>
            <a:off x="3398760" y="3395520"/>
            <a:ext cx="76320" cy="54000"/>
          </a:xfrm>
          <a:custGeom>
            <a:avLst/>
            <a:gdLst/>
            <a:ahLst/>
            <a:rect l="l" t="t" r="r" b="b"/>
            <a:pathLst>
              <a:path w="48" h="34">
                <a:moveTo>
                  <a:pt x="20" y="27"/>
                </a:moveTo>
                <a:lnTo>
                  <a:pt x="14" y="27"/>
                </a:lnTo>
                <a:lnTo>
                  <a:pt x="14" y="27"/>
                </a:lnTo>
                <a:lnTo>
                  <a:pt x="7" y="27"/>
                </a:lnTo>
                <a:lnTo>
                  <a:pt x="7" y="27"/>
                </a:lnTo>
                <a:lnTo>
                  <a:pt x="7" y="21"/>
                </a:lnTo>
                <a:lnTo>
                  <a:pt x="7" y="21"/>
                </a:lnTo>
                <a:lnTo>
                  <a:pt x="0" y="21"/>
                </a:lnTo>
                <a:lnTo>
                  <a:pt x="0" y="21"/>
                </a:lnTo>
                <a:lnTo>
                  <a:pt x="0" y="14"/>
                </a:lnTo>
                <a:lnTo>
                  <a:pt x="0" y="14"/>
                </a:lnTo>
                <a:lnTo>
                  <a:pt x="0" y="14"/>
                </a:lnTo>
                <a:lnTo>
                  <a:pt x="0" y="7"/>
                </a:lnTo>
                <a:lnTo>
                  <a:pt x="0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14" y="0"/>
                </a:lnTo>
                <a:lnTo>
                  <a:pt x="14" y="0"/>
                </a:lnTo>
                <a:lnTo>
                  <a:pt x="14" y="0"/>
                </a:lnTo>
                <a:lnTo>
                  <a:pt x="14" y="0"/>
                </a:lnTo>
                <a:lnTo>
                  <a:pt x="20" y="0"/>
                </a:lnTo>
                <a:lnTo>
                  <a:pt x="20" y="0"/>
                </a:lnTo>
                <a:lnTo>
                  <a:pt x="20" y="0"/>
                </a:lnTo>
                <a:lnTo>
                  <a:pt x="27" y="0"/>
                </a:lnTo>
                <a:lnTo>
                  <a:pt x="27" y="0"/>
                </a:lnTo>
                <a:lnTo>
                  <a:pt x="34" y="7"/>
                </a:lnTo>
                <a:lnTo>
                  <a:pt x="34" y="7"/>
                </a:lnTo>
                <a:lnTo>
                  <a:pt x="34" y="7"/>
                </a:lnTo>
                <a:lnTo>
                  <a:pt x="41" y="7"/>
                </a:lnTo>
                <a:lnTo>
                  <a:pt x="41" y="14"/>
                </a:lnTo>
                <a:lnTo>
                  <a:pt x="41" y="14"/>
                </a:lnTo>
                <a:lnTo>
                  <a:pt x="41" y="14"/>
                </a:lnTo>
                <a:lnTo>
                  <a:pt x="48" y="14"/>
                </a:lnTo>
                <a:lnTo>
                  <a:pt x="48" y="21"/>
                </a:lnTo>
                <a:lnTo>
                  <a:pt x="48" y="21"/>
                </a:lnTo>
                <a:lnTo>
                  <a:pt x="48" y="21"/>
                </a:lnTo>
                <a:lnTo>
                  <a:pt x="48" y="27"/>
                </a:lnTo>
                <a:lnTo>
                  <a:pt x="41" y="27"/>
                </a:lnTo>
                <a:lnTo>
                  <a:pt x="41" y="27"/>
                </a:lnTo>
                <a:lnTo>
                  <a:pt x="41" y="34"/>
                </a:lnTo>
                <a:lnTo>
                  <a:pt x="34" y="34"/>
                </a:lnTo>
                <a:lnTo>
                  <a:pt x="34" y="34"/>
                </a:lnTo>
                <a:lnTo>
                  <a:pt x="27" y="34"/>
                </a:lnTo>
                <a:lnTo>
                  <a:pt x="27" y="34"/>
                </a:lnTo>
                <a:lnTo>
                  <a:pt x="20" y="27"/>
                </a:lnTo>
                <a:close/>
                <a:moveTo>
                  <a:pt x="20" y="27"/>
                </a:moveTo>
                <a:lnTo>
                  <a:pt x="27" y="27"/>
                </a:lnTo>
                <a:lnTo>
                  <a:pt x="27" y="27"/>
                </a:lnTo>
                <a:lnTo>
                  <a:pt x="34" y="27"/>
                </a:lnTo>
                <a:lnTo>
                  <a:pt x="34" y="27"/>
                </a:lnTo>
                <a:lnTo>
                  <a:pt x="34" y="27"/>
                </a:lnTo>
                <a:lnTo>
                  <a:pt x="41" y="27"/>
                </a:lnTo>
                <a:lnTo>
                  <a:pt x="41" y="27"/>
                </a:lnTo>
                <a:lnTo>
                  <a:pt x="41" y="21"/>
                </a:lnTo>
                <a:lnTo>
                  <a:pt x="41" y="21"/>
                </a:lnTo>
                <a:lnTo>
                  <a:pt x="41" y="21"/>
                </a:lnTo>
                <a:lnTo>
                  <a:pt x="41" y="21"/>
                </a:lnTo>
                <a:lnTo>
                  <a:pt x="41" y="14"/>
                </a:lnTo>
                <a:lnTo>
                  <a:pt x="34" y="14"/>
                </a:lnTo>
                <a:lnTo>
                  <a:pt x="34" y="14"/>
                </a:lnTo>
                <a:lnTo>
                  <a:pt x="34" y="7"/>
                </a:lnTo>
                <a:lnTo>
                  <a:pt x="27" y="7"/>
                </a:lnTo>
                <a:lnTo>
                  <a:pt x="20" y="7"/>
                </a:lnTo>
                <a:lnTo>
                  <a:pt x="20" y="7"/>
                </a:lnTo>
                <a:lnTo>
                  <a:pt x="14" y="7"/>
                </a:lnTo>
                <a:lnTo>
                  <a:pt x="14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14"/>
                </a:lnTo>
                <a:lnTo>
                  <a:pt x="7" y="14"/>
                </a:lnTo>
                <a:lnTo>
                  <a:pt x="7" y="14"/>
                </a:lnTo>
                <a:lnTo>
                  <a:pt x="7" y="14"/>
                </a:lnTo>
                <a:lnTo>
                  <a:pt x="7" y="21"/>
                </a:lnTo>
                <a:lnTo>
                  <a:pt x="7" y="21"/>
                </a:lnTo>
                <a:lnTo>
                  <a:pt x="14" y="21"/>
                </a:lnTo>
                <a:lnTo>
                  <a:pt x="14" y="21"/>
                </a:lnTo>
                <a:lnTo>
                  <a:pt x="20" y="27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8" name=""/>
          <p:cNvSpPr/>
          <p:nvPr/>
        </p:nvSpPr>
        <p:spPr>
          <a:xfrm>
            <a:off x="3452760" y="3373560"/>
            <a:ext cx="1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9" name=""/>
          <p:cNvSpPr/>
          <p:nvPr/>
        </p:nvSpPr>
        <p:spPr>
          <a:xfrm>
            <a:off x="3452760" y="2624040"/>
            <a:ext cx="609480" cy="749520"/>
          </a:xfrm>
          <a:custGeom>
            <a:avLst/>
            <a:gdLst/>
            <a:ahLst/>
            <a:rect l="l" t="t" r="r" b="b"/>
            <a:pathLst>
              <a:path w="384" h="472">
                <a:moveTo>
                  <a:pt x="0" y="472"/>
                </a:moveTo>
                <a:lnTo>
                  <a:pt x="0" y="466"/>
                </a:lnTo>
                <a:lnTo>
                  <a:pt x="7" y="459"/>
                </a:lnTo>
                <a:lnTo>
                  <a:pt x="7" y="452"/>
                </a:lnTo>
                <a:lnTo>
                  <a:pt x="7" y="445"/>
                </a:lnTo>
                <a:lnTo>
                  <a:pt x="14" y="438"/>
                </a:lnTo>
                <a:lnTo>
                  <a:pt x="14" y="438"/>
                </a:lnTo>
                <a:lnTo>
                  <a:pt x="21" y="431"/>
                </a:lnTo>
                <a:lnTo>
                  <a:pt x="21" y="425"/>
                </a:lnTo>
                <a:lnTo>
                  <a:pt x="28" y="418"/>
                </a:lnTo>
                <a:lnTo>
                  <a:pt x="28" y="411"/>
                </a:lnTo>
                <a:lnTo>
                  <a:pt x="28" y="404"/>
                </a:lnTo>
                <a:lnTo>
                  <a:pt x="34" y="397"/>
                </a:lnTo>
                <a:lnTo>
                  <a:pt x="34" y="390"/>
                </a:lnTo>
                <a:lnTo>
                  <a:pt x="34" y="383"/>
                </a:lnTo>
                <a:lnTo>
                  <a:pt x="34" y="383"/>
                </a:lnTo>
                <a:lnTo>
                  <a:pt x="41" y="377"/>
                </a:lnTo>
                <a:lnTo>
                  <a:pt x="41" y="370"/>
                </a:lnTo>
                <a:lnTo>
                  <a:pt x="48" y="363"/>
                </a:lnTo>
                <a:lnTo>
                  <a:pt x="48" y="356"/>
                </a:lnTo>
                <a:lnTo>
                  <a:pt x="48" y="349"/>
                </a:lnTo>
                <a:lnTo>
                  <a:pt x="55" y="342"/>
                </a:lnTo>
                <a:lnTo>
                  <a:pt x="55" y="336"/>
                </a:lnTo>
                <a:lnTo>
                  <a:pt x="62" y="329"/>
                </a:lnTo>
                <a:lnTo>
                  <a:pt x="62" y="329"/>
                </a:lnTo>
                <a:lnTo>
                  <a:pt x="69" y="322"/>
                </a:lnTo>
                <a:lnTo>
                  <a:pt x="69" y="315"/>
                </a:lnTo>
                <a:lnTo>
                  <a:pt x="69" y="308"/>
                </a:lnTo>
                <a:lnTo>
                  <a:pt x="76" y="301"/>
                </a:lnTo>
                <a:lnTo>
                  <a:pt x="76" y="295"/>
                </a:lnTo>
                <a:lnTo>
                  <a:pt x="76" y="288"/>
                </a:lnTo>
                <a:lnTo>
                  <a:pt x="76" y="281"/>
                </a:lnTo>
                <a:lnTo>
                  <a:pt x="82" y="274"/>
                </a:lnTo>
                <a:lnTo>
                  <a:pt x="82" y="267"/>
                </a:lnTo>
                <a:lnTo>
                  <a:pt x="89" y="267"/>
                </a:lnTo>
                <a:lnTo>
                  <a:pt x="96" y="260"/>
                </a:lnTo>
                <a:lnTo>
                  <a:pt x="103" y="253"/>
                </a:lnTo>
                <a:lnTo>
                  <a:pt x="103" y="247"/>
                </a:lnTo>
                <a:lnTo>
                  <a:pt x="110" y="240"/>
                </a:lnTo>
                <a:lnTo>
                  <a:pt x="110" y="233"/>
                </a:lnTo>
                <a:lnTo>
                  <a:pt x="110" y="226"/>
                </a:lnTo>
                <a:lnTo>
                  <a:pt x="110" y="219"/>
                </a:lnTo>
                <a:lnTo>
                  <a:pt x="117" y="219"/>
                </a:lnTo>
                <a:lnTo>
                  <a:pt x="117" y="212"/>
                </a:lnTo>
                <a:lnTo>
                  <a:pt x="124" y="206"/>
                </a:lnTo>
                <a:lnTo>
                  <a:pt x="130" y="206"/>
                </a:lnTo>
                <a:lnTo>
                  <a:pt x="137" y="199"/>
                </a:lnTo>
                <a:lnTo>
                  <a:pt x="144" y="192"/>
                </a:lnTo>
                <a:lnTo>
                  <a:pt x="151" y="185"/>
                </a:lnTo>
                <a:lnTo>
                  <a:pt x="158" y="185"/>
                </a:lnTo>
                <a:lnTo>
                  <a:pt x="165" y="178"/>
                </a:lnTo>
                <a:lnTo>
                  <a:pt x="172" y="171"/>
                </a:lnTo>
                <a:lnTo>
                  <a:pt x="178" y="171"/>
                </a:lnTo>
                <a:lnTo>
                  <a:pt x="192" y="165"/>
                </a:lnTo>
                <a:lnTo>
                  <a:pt x="199" y="165"/>
                </a:lnTo>
                <a:lnTo>
                  <a:pt x="206" y="171"/>
                </a:lnTo>
                <a:lnTo>
                  <a:pt x="206" y="178"/>
                </a:lnTo>
                <a:lnTo>
                  <a:pt x="213" y="185"/>
                </a:lnTo>
                <a:lnTo>
                  <a:pt x="220" y="185"/>
                </a:lnTo>
                <a:lnTo>
                  <a:pt x="226" y="192"/>
                </a:lnTo>
                <a:lnTo>
                  <a:pt x="233" y="199"/>
                </a:lnTo>
                <a:lnTo>
                  <a:pt x="240" y="199"/>
                </a:lnTo>
                <a:lnTo>
                  <a:pt x="247" y="206"/>
                </a:lnTo>
                <a:lnTo>
                  <a:pt x="254" y="212"/>
                </a:lnTo>
                <a:lnTo>
                  <a:pt x="254" y="219"/>
                </a:lnTo>
                <a:lnTo>
                  <a:pt x="261" y="219"/>
                </a:lnTo>
                <a:lnTo>
                  <a:pt x="268" y="226"/>
                </a:lnTo>
                <a:lnTo>
                  <a:pt x="274" y="233"/>
                </a:lnTo>
                <a:lnTo>
                  <a:pt x="274" y="240"/>
                </a:lnTo>
                <a:lnTo>
                  <a:pt x="281" y="247"/>
                </a:lnTo>
                <a:lnTo>
                  <a:pt x="281" y="253"/>
                </a:lnTo>
                <a:lnTo>
                  <a:pt x="288" y="253"/>
                </a:lnTo>
                <a:lnTo>
                  <a:pt x="295" y="253"/>
                </a:lnTo>
                <a:lnTo>
                  <a:pt x="302" y="247"/>
                </a:lnTo>
                <a:lnTo>
                  <a:pt x="309" y="240"/>
                </a:lnTo>
                <a:lnTo>
                  <a:pt x="322" y="240"/>
                </a:lnTo>
                <a:lnTo>
                  <a:pt x="329" y="233"/>
                </a:lnTo>
                <a:lnTo>
                  <a:pt x="336" y="233"/>
                </a:lnTo>
                <a:lnTo>
                  <a:pt x="336" y="226"/>
                </a:lnTo>
                <a:lnTo>
                  <a:pt x="343" y="219"/>
                </a:lnTo>
                <a:lnTo>
                  <a:pt x="350" y="212"/>
                </a:lnTo>
                <a:lnTo>
                  <a:pt x="364" y="212"/>
                </a:lnTo>
                <a:lnTo>
                  <a:pt x="370" y="212"/>
                </a:lnTo>
                <a:lnTo>
                  <a:pt x="377" y="206"/>
                </a:lnTo>
                <a:lnTo>
                  <a:pt x="384" y="199"/>
                </a:lnTo>
                <a:lnTo>
                  <a:pt x="384" y="192"/>
                </a:lnTo>
                <a:lnTo>
                  <a:pt x="384" y="185"/>
                </a:lnTo>
                <a:lnTo>
                  <a:pt x="384" y="178"/>
                </a:lnTo>
                <a:lnTo>
                  <a:pt x="377" y="178"/>
                </a:lnTo>
                <a:lnTo>
                  <a:pt x="370" y="171"/>
                </a:lnTo>
                <a:lnTo>
                  <a:pt x="357" y="171"/>
                </a:lnTo>
                <a:lnTo>
                  <a:pt x="350" y="171"/>
                </a:lnTo>
                <a:lnTo>
                  <a:pt x="343" y="165"/>
                </a:lnTo>
                <a:lnTo>
                  <a:pt x="343" y="158"/>
                </a:lnTo>
                <a:lnTo>
                  <a:pt x="336" y="151"/>
                </a:lnTo>
                <a:lnTo>
                  <a:pt x="336" y="144"/>
                </a:lnTo>
                <a:lnTo>
                  <a:pt x="329" y="137"/>
                </a:lnTo>
                <a:lnTo>
                  <a:pt x="329" y="130"/>
                </a:lnTo>
                <a:lnTo>
                  <a:pt x="322" y="123"/>
                </a:lnTo>
                <a:lnTo>
                  <a:pt x="322" y="123"/>
                </a:lnTo>
                <a:lnTo>
                  <a:pt x="322" y="117"/>
                </a:lnTo>
                <a:lnTo>
                  <a:pt x="329" y="110"/>
                </a:lnTo>
                <a:lnTo>
                  <a:pt x="336" y="103"/>
                </a:lnTo>
                <a:lnTo>
                  <a:pt x="343" y="103"/>
                </a:lnTo>
                <a:lnTo>
                  <a:pt x="350" y="96"/>
                </a:lnTo>
                <a:lnTo>
                  <a:pt x="357" y="96"/>
                </a:lnTo>
                <a:lnTo>
                  <a:pt x="364" y="89"/>
                </a:lnTo>
                <a:lnTo>
                  <a:pt x="370" y="82"/>
                </a:lnTo>
                <a:lnTo>
                  <a:pt x="364" y="76"/>
                </a:lnTo>
                <a:lnTo>
                  <a:pt x="364" y="69"/>
                </a:lnTo>
                <a:lnTo>
                  <a:pt x="357" y="62"/>
                </a:lnTo>
                <a:lnTo>
                  <a:pt x="357" y="55"/>
                </a:lnTo>
                <a:lnTo>
                  <a:pt x="350" y="55"/>
                </a:lnTo>
                <a:lnTo>
                  <a:pt x="343" y="48"/>
                </a:lnTo>
                <a:lnTo>
                  <a:pt x="336" y="41"/>
                </a:lnTo>
                <a:lnTo>
                  <a:pt x="329" y="34"/>
                </a:lnTo>
                <a:lnTo>
                  <a:pt x="322" y="34"/>
                </a:lnTo>
                <a:lnTo>
                  <a:pt x="322" y="28"/>
                </a:lnTo>
                <a:lnTo>
                  <a:pt x="316" y="21"/>
                </a:lnTo>
                <a:lnTo>
                  <a:pt x="309" y="14"/>
                </a:lnTo>
                <a:lnTo>
                  <a:pt x="302" y="14"/>
                </a:lnTo>
                <a:lnTo>
                  <a:pt x="295" y="7"/>
                </a:lnTo>
                <a:lnTo>
                  <a:pt x="288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0" name=""/>
          <p:cNvSpPr/>
          <p:nvPr/>
        </p:nvSpPr>
        <p:spPr>
          <a:xfrm>
            <a:off x="3333600" y="2830680"/>
            <a:ext cx="1800" cy="10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1" name=""/>
          <p:cNvSpPr/>
          <p:nvPr/>
        </p:nvSpPr>
        <p:spPr>
          <a:xfrm>
            <a:off x="3224160" y="2841480"/>
            <a:ext cx="109440" cy="195480"/>
          </a:xfrm>
          <a:custGeom>
            <a:avLst/>
            <a:gdLst/>
            <a:ahLst/>
            <a:rect l="l" t="t" r="r" b="b"/>
            <a:pathLst>
              <a:path w="69" h="123">
                <a:moveTo>
                  <a:pt x="69" y="0"/>
                </a:moveTo>
                <a:lnTo>
                  <a:pt x="62" y="7"/>
                </a:lnTo>
                <a:lnTo>
                  <a:pt x="62" y="14"/>
                </a:lnTo>
                <a:lnTo>
                  <a:pt x="55" y="21"/>
                </a:lnTo>
                <a:lnTo>
                  <a:pt x="55" y="28"/>
                </a:lnTo>
                <a:lnTo>
                  <a:pt x="48" y="34"/>
                </a:lnTo>
                <a:lnTo>
                  <a:pt x="48" y="41"/>
                </a:lnTo>
                <a:lnTo>
                  <a:pt x="41" y="48"/>
                </a:lnTo>
                <a:lnTo>
                  <a:pt x="34" y="48"/>
                </a:lnTo>
                <a:lnTo>
                  <a:pt x="34" y="55"/>
                </a:lnTo>
                <a:lnTo>
                  <a:pt x="28" y="62"/>
                </a:lnTo>
                <a:lnTo>
                  <a:pt x="21" y="69"/>
                </a:lnTo>
                <a:lnTo>
                  <a:pt x="14" y="75"/>
                </a:lnTo>
                <a:lnTo>
                  <a:pt x="7" y="82"/>
                </a:lnTo>
                <a:lnTo>
                  <a:pt x="7" y="89"/>
                </a:lnTo>
                <a:lnTo>
                  <a:pt x="0" y="96"/>
                </a:lnTo>
                <a:lnTo>
                  <a:pt x="0" y="103"/>
                </a:lnTo>
                <a:lnTo>
                  <a:pt x="7" y="110"/>
                </a:lnTo>
                <a:lnTo>
                  <a:pt x="14" y="116"/>
                </a:lnTo>
                <a:lnTo>
                  <a:pt x="21" y="123"/>
                </a:lnTo>
                <a:lnTo>
                  <a:pt x="28" y="123"/>
                </a:lnTo>
                <a:lnTo>
                  <a:pt x="34" y="116"/>
                </a:lnTo>
                <a:lnTo>
                  <a:pt x="41" y="110"/>
                </a:lnTo>
                <a:lnTo>
                  <a:pt x="48" y="103"/>
                </a:lnTo>
                <a:lnTo>
                  <a:pt x="48" y="96"/>
                </a:lnTo>
                <a:lnTo>
                  <a:pt x="55" y="89"/>
                </a:lnTo>
                <a:lnTo>
                  <a:pt x="62" y="89"/>
                </a:lnTo>
                <a:lnTo>
                  <a:pt x="62" y="96"/>
                </a:lnTo>
                <a:lnTo>
                  <a:pt x="62" y="103"/>
                </a:lnTo>
                <a:lnTo>
                  <a:pt x="55" y="110"/>
                </a:lnTo>
                <a:lnTo>
                  <a:pt x="41" y="116"/>
                </a:lnTo>
                <a:lnTo>
                  <a:pt x="41" y="123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2" name=""/>
          <p:cNvSpPr/>
          <p:nvPr/>
        </p:nvSpPr>
        <p:spPr>
          <a:xfrm>
            <a:off x="3289320" y="3036960"/>
            <a:ext cx="1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3" name=""/>
          <p:cNvSpPr/>
          <p:nvPr/>
        </p:nvSpPr>
        <p:spPr>
          <a:xfrm>
            <a:off x="3213000" y="3102120"/>
            <a:ext cx="65160" cy="55440"/>
          </a:xfrm>
          <a:custGeom>
            <a:avLst/>
            <a:gdLst/>
            <a:ahLst/>
            <a:rect l="l" t="t" r="r" b="b"/>
            <a:pathLst>
              <a:path w="41" h="35">
                <a:moveTo>
                  <a:pt x="14" y="0"/>
                </a:moveTo>
                <a:lnTo>
                  <a:pt x="14" y="7"/>
                </a:lnTo>
                <a:lnTo>
                  <a:pt x="14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0" y="7"/>
                </a:lnTo>
                <a:lnTo>
                  <a:pt x="0" y="14"/>
                </a:lnTo>
                <a:lnTo>
                  <a:pt x="0" y="14"/>
                </a:lnTo>
                <a:lnTo>
                  <a:pt x="0" y="14"/>
                </a:lnTo>
                <a:lnTo>
                  <a:pt x="0" y="14"/>
                </a:lnTo>
                <a:lnTo>
                  <a:pt x="0" y="14"/>
                </a:lnTo>
                <a:lnTo>
                  <a:pt x="7" y="14"/>
                </a:lnTo>
                <a:lnTo>
                  <a:pt x="7" y="21"/>
                </a:lnTo>
                <a:lnTo>
                  <a:pt x="7" y="21"/>
                </a:lnTo>
                <a:lnTo>
                  <a:pt x="7" y="21"/>
                </a:lnTo>
                <a:lnTo>
                  <a:pt x="7" y="21"/>
                </a:lnTo>
                <a:lnTo>
                  <a:pt x="14" y="21"/>
                </a:lnTo>
                <a:lnTo>
                  <a:pt x="14" y="28"/>
                </a:lnTo>
                <a:lnTo>
                  <a:pt x="14" y="21"/>
                </a:lnTo>
                <a:lnTo>
                  <a:pt x="14" y="21"/>
                </a:lnTo>
                <a:lnTo>
                  <a:pt x="14" y="21"/>
                </a:lnTo>
                <a:lnTo>
                  <a:pt x="14" y="21"/>
                </a:lnTo>
                <a:lnTo>
                  <a:pt x="14" y="21"/>
                </a:lnTo>
                <a:lnTo>
                  <a:pt x="14" y="14"/>
                </a:lnTo>
                <a:lnTo>
                  <a:pt x="14" y="14"/>
                </a:lnTo>
                <a:lnTo>
                  <a:pt x="14" y="14"/>
                </a:lnTo>
                <a:lnTo>
                  <a:pt x="14" y="14"/>
                </a:lnTo>
                <a:lnTo>
                  <a:pt x="14" y="7"/>
                </a:lnTo>
                <a:lnTo>
                  <a:pt x="21" y="7"/>
                </a:lnTo>
                <a:lnTo>
                  <a:pt x="21" y="7"/>
                </a:lnTo>
                <a:lnTo>
                  <a:pt x="21" y="7"/>
                </a:lnTo>
                <a:lnTo>
                  <a:pt x="28" y="7"/>
                </a:lnTo>
                <a:lnTo>
                  <a:pt x="28" y="7"/>
                </a:lnTo>
                <a:lnTo>
                  <a:pt x="35" y="7"/>
                </a:lnTo>
                <a:lnTo>
                  <a:pt x="35" y="7"/>
                </a:lnTo>
                <a:lnTo>
                  <a:pt x="35" y="7"/>
                </a:lnTo>
                <a:lnTo>
                  <a:pt x="35" y="7"/>
                </a:lnTo>
                <a:lnTo>
                  <a:pt x="41" y="14"/>
                </a:lnTo>
                <a:lnTo>
                  <a:pt x="41" y="14"/>
                </a:lnTo>
                <a:lnTo>
                  <a:pt x="41" y="14"/>
                </a:lnTo>
                <a:lnTo>
                  <a:pt x="41" y="14"/>
                </a:lnTo>
                <a:lnTo>
                  <a:pt x="41" y="21"/>
                </a:lnTo>
                <a:lnTo>
                  <a:pt x="41" y="21"/>
                </a:lnTo>
                <a:lnTo>
                  <a:pt x="41" y="21"/>
                </a:lnTo>
                <a:lnTo>
                  <a:pt x="41" y="21"/>
                </a:lnTo>
                <a:lnTo>
                  <a:pt x="41" y="28"/>
                </a:lnTo>
                <a:lnTo>
                  <a:pt x="41" y="28"/>
                </a:lnTo>
                <a:lnTo>
                  <a:pt x="35" y="28"/>
                </a:lnTo>
                <a:lnTo>
                  <a:pt x="35" y="35"/>
                </a:lnTo>
                <a:lnTo>
                  <a:pt x="35" y="35"/>
                </a:lnTo>
                <a:lnTo>
                  <a:pt x="28" y="35"/>
                </a:lnTo>
                <a:lnTo>
                  <a:pt x="28" y="35"/>
                </a:lnTo>
                <a:lnTo>
                  <a:pt x="21" y="35"/>
                </a:lnTo>
                <a:lnTo>
                  <a:pt x="14" y="35"/>
                </a:lnTo>
                <a:lnTo>
                  <a:pt x="7" y="28"/>
                </a:lnTo>
                <a:lnTo>
                  <a:pt x="7" y="28"/>
                </a:lnTo>
                <a:lnTo>
                  <a:pt x="0" y="21"/>
                </a:lnTo>
                <a:lnTo>
                  <a:pt x="0" y="21"/>
                </a:lnTo>
                <a:lnTo>
                  <a:pt x="0" y="14"/>
                </a:lnTo>
                <a:lnTo>
                  <a:pt x="0" y="14"/>
                </a:lnTo>
                <a:lnTo>
                  <a:pt x="0" y="14"/>
                </a:lnTo>
                <a:lnTo>
                  <a:pt x="0" y="7"/>
                </a:lnTo>
                <a:lnTo>
                  <a:pt x="0" y="7"/>
                </a:lnTo>
                <a:lnTo>
                  <a:pt x="0" y="0"/>
                </a:lnTo>
                <a:lnTo>
                  <a:pt x="0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14" y="0"/>
                </a:lnTo>
                <a:lnTo>
                  <a:pt x="14" y="0"/>
                </a:lnTo>
                <a:close/>
                <a:moveTo>
                  <a:pt x="21" y="28"/>
                </a:moveTo>
                <a:lnTo>
                  <a:pt x="28" y="28"/>
                </a:lnTo>
                <a:lnTo>
                  <a:pt x="28" y="28"/>
                </a:lnTo>
                <a:lnTo>
                  <a:pt x="28" y="28"/>
                </a:lnTo>
                <a:lnTo>
                  <a:pt x="28" y="28"/>
                </a:lnTo>
                <a:lnTo>
                  <a:pt x="28" y="28"/>
                </a:lnTo>
                <a:lnTo>
                  <a:pt x="35" y="28"/>
                </a:lnTo>
                <a:lnTo>
                  <a:pt x="35" y="28"/>
                </a:lnTo>
                <a:lnTo>
                  <a:pt x="35" y="28"/>
                </a:lnTo>
                <a:lnTo>
                  <a:pt x="35" y="28"/>
                </a:lnTo>
                <a:lnTo>
                  <a:pt x="35" y="28"/>
                </a:lnTo>
                <a:lnTo>
                  <a:pt x="35" y="28"/>
                </a:lnTo>
                <a:lnTo>
                  <a:pt x="35" y="21"/>
                </a:lnTo>
                <a:lnTo>
                  <a:pt x="35" y="21"/>
                </a:lnTo>
                <a:lnTo>
                  <a:pt x="35" y="21"/>
                </a:lnTo>
                <a:lnTo>
                  <a:pt x="35" y="21"/>
                </a:lnTo>
                <a:lnTo>
                  <a:pt x="35" y="14"/>
                </a:lnTo>
                <a:lnTo>
                  <a:pt x="35" y="14"/>
                </a:lnTo>
                <a:lnTo>
                  <a:pt x="35" y="14"/>
                </a:lnTo>
                <a:lnTo>
                  <a:pt x="35" y="14"/>
                </a:lnTo>
                <a:lnTo>
                  <a:pt x="28" y="14"/>
                </a:lnTo>
                <a:lnTo>
                  <a:pt x="28" y="14"/>
                </a:lnTo>
                <a:lnTo>
                  <a:pt x="28" y="14"/>
                </a:lnTo>
                <a:lnTo>
                  <a:pt x="28" y="14"/>
                </a:lnTo>
                <a:lnTo>
                  <a:pt x="21" y="14"/>
                </a:lnTo>
                <a:lnTo>
                  <a:pt x="21" y="14"/>
                </a:lnTo>
                <a:lnTo>
                  <a:pt x="21" y="14"/>
                </a:lnTo>
                <a:lnTo>
                  <a:pt x="21" y="14"/>
                </a:lnTo>
                <a:lnTo>
                  <a:pt x="21" y="14"/>
                </a:lnTo>
                <a:lnTo>
                  <a:pt x="21" y="21"/>
                </a:lnTo>
                <a:lnTo>
                  <a:pt x="14" y="21"/>
                </a:lnTo>
                <a:lnTo>
                  <a:pt x="21" y="21"/>
                </a:lnTo>
                <a:lnTo>
                  <a:pt x="21" y="21"/>
                </a:lnTo>
                <a:lnTo>
                  <a:pt x="21" y="28"/>
                </a:lnTo>
                <a:lnTo>
                  <a:pt x="21" y="28"/>
                </a:lnTo>
                <a:lnTo>
                  <a:pt x="21" y="28"/>
                </a:lnTo>
                <a:lnTo>
                  <a:pt x="21" y="28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4" name=""/>
          <p:cNvSpPr/>
          <p:nvPr/>
        </p:nvSpPr>
        <p:spPr>
          <a:xfrm>
            <a:off x="3235320" y="3048120"/>
            <a:ext cx="65160" cy="54000"/>
          </a:xfrm>
          <a:custGeom>
            <a:avLst/>
            <a:gdLst/>
            <a:ahLst/>
            <a:rect l="l" t="t" r="r" b="b"/>
            <a:pathLst>
              <a:path w="41" h="34">
                <a:moveTo>
                  <a:pt x="14" y="34"/>
                </a:moveTo>
                <a:lnTo>
                  <a:pt x="7" y="34"/>
                </a:lnTo>
                <a:lnTo>
                  <a:pt x="7" y="28"/>
                </a:lnTo>
                <a:lnTo>
                  <a:pt x="7" y="28"/>
                </a:lnTo>
                <a:lnTo>
                  <a:pt x="0" y="28"/>
                </a:lnTo>
                <a:lnTo>
                  <a:pt x="0" y="28"/>
                </a:lnTo>
                <a:lnTo>
                  <a:pt x="0" y="21"/>
                </a:lnTo>
                <a:lnTo>
                  <a:pt x="0" y="21"/>
                </a:lnTo>
                <a:lnTo>
                  <a:pt x="0" y="21"/>
                </a:lnTo>
                <a:lnTo>
                  <a:pt x="0" y="14"/>
                </a:lnTo>
                <a:lnTo>
                  <a:pt x="0" y="14"/>
                </a:lnTo>
                <a:lnTo>
                  <a:pt x="0" y="14"/>
                </a:lnTo>
                <a:lnTo>
                  <a:pt x="0" y="14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7" y="7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14" y="0"/>
                </a:lnTo>
                <a:lnTo>
                  <a:pt x="14" y="0"/>
                </a:lnTo>
                <a:lnTo>
                  <a:pt x="14" y="0"/>
                </a:lnTo>
                <a:lnTo>
                  <a:pt x="14" y="0"/>
                </a:lnTo>
                <a:lnTo>
                  <a:pt x="21" y="7"/>
                </a:lnTo>
                <a:lnTo>
                  <a:pt x="21" y="7"/>
                </a:lnTo>
                <a:lnTo>
                  <a:pt x="27" y="7"/>
                </a:lnTo>
                <a:lnTo>
                  <a:pt x="27" y="7"/>
                </a:lnTo>
                <a:lnTo>
                  <a:pt x="27" y="7"/>
                </a:lnTo>
                <a:lnTo>
                  <a:pt x="34" y="14"/>
                </a:lnTo>
                <a:lnTo>
                  <a:pt x="34" y="14"/>
                </a:lnTo>
                <a:lnTo>
                  <a:pt x="34" y="14"/>
                </a:lnTo>
                <a:lnTo>
                  <a:pt x="41" y="14"/>
                </a:lnTo>
                <a:lnTo>
                  <a:pt x="41" y="21"/>
                </a:lnTo>
                <a:lnTo>
                  <a:pt x="41" y="21"/>
                </a:lnTo>
                <a:lnTo>
                  <a:pt x="41" y="21"/>
                </a:lnTo>
                <a:lnTo>
                  <a:pt x="41" y="21"/>
                </a:lnTo>
                <a:lnTo>
                  <a:pt x="41" y="28"/>
                </a:lnTo>
                <a:lnTo>
                  <a:pt x="41" y="28"/>
                </a:lnTo>
                <a:lnTo>
                  <a:pt x="41" y="28"/>
                </a:lnTo>
                <a:lnTo>
                  <a:pt x="34" y="34"/>
                </a:lnTo>
                <a:lnTo>
                  <a:pt x="34" y="34"/>
                </a:lnTo>
                <a:lnTo>
                  <a:pt x="34" y="34"/>
                </a:lnTo>
                <a:lnTo>
                  <a:pt x="27" y="34"/>
                </a:lnTo>
                <a:lnTo>
                  <a:pt x="21" y="34"/>
                </a:lnTo>
                <a:lnTo>
                  <a:pt x="21" y="34"/>
                </a:lnTo>
                <a:lnTo>
                  <a:pt x="14" y="34"/>
                </a:lnTo>
                <a:close/>
                <a:moveTo>
                  <a:pt x="14" y="28"/>
                </a:moveTo>
                <a:lnTo>
                  <a:pt x="21" y="28"/>
                </a:lnTo>
                <a:lnTo>
                  <a:pt x="27" y="28"/>
                </a:lnTo>
                <a:lnTo>
                  <a:pt x="27" y="28"/>
                </a:lnTo>
                <a:lnTo>
                  <a:pt x="27" y="28"/>
                </a:lnTo>
                <a:lnTo>
                  <a:pt x="34" y="28"/>
                </a:lnTo>
                <a:lnTo>
                  <a:pt x="34" y="28"/>
                </a:lnTo>
                <a:lnTo>
                  <a:pt x="34" y="28"/>
                </a:lnTo>
                <a:lnTo>
                  <a:pt x="34" y="28"/>
                </a:lnTo>
                <a:lnTo>
                  <a:pt x="34" y="28"/>
                </a:lnTo>
                <a:lnTo>
                  <a:pt x="34" y="21"/>
                </a:lnTo>
                <a:lnTo>
                  <a:pt x="34" y="21"/>
                </a:lnTo>
                <a:lnTo>
                  <a:pt x="34" y="21"/>
                </a:lnTo>
                <a:lnTo>
                  <a:pt x="34" y="14"/>
                </a:lnTo>
                <a:lnTo>
                  <a:pt x="27" y="14"/>
                </a:lnTo>
                <a:lnTo>
                  <a:pt x="27" y="14"/>
                </a:lnTo>
                <a:lnTo>
                  <a:pt x="21" y="14"/>
                </a:lnTo>
                <a:lnTo>
                  <a:pt x="21" y="7"/>
                </a:lnTo>
                <a:lnTo>
                  <a:pt x="14" y="7"/>
                </a:lnTo>
                <a:lnTo>
                  <a:pt x="14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0" y="14"/>
                </a:lnTo>
                <a:lnTo>
                  <a:pt x="0" y="14"/>
                </a:lnTo>
                <a:lnTo>
                  <a:pt x="0" y="14"/>
                </a:lnTo>
                <a:lnTo>
                  <a:pt x="0" y="14"/>
                </a:lnTo>
                <a:lnTo>
                  <a:pt x="0" y="21"/>
                </a:lnTo>
                <a:lnTo>
                  <a:pt x="0" y="21"/>
                </a:lnTo>
                <a:lnTo>
                  <a:pt x="7" y="21"/>
                </a:lnTo>
                <a:lnTo>
                  <a:pt x="7" y="21"/>
                </a:lnTo>
                <a:lnTo>
                  <a:pt x="14" y="28"/>
                </a:lnTo>
                <a:lnTo>
                  <a:pt x="14" y="28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5" name=""/>
          <p:cNvSpPr/>
          <p:nvPr/>
        </p:nvSpPr>
        <p:spPr>
          <a:xfrm>
            <a:off x="3224160" y="3178080"/>
            <a:ext cx="1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6" name=""/>
          <p:cNvSpPr/>
          <p:nvPr/>
        </p:nvSpPr>
        <p:spPr>
          <a:xfrm>
            <a:off x="2583000" y="3178080"/>
            <a:ext cx="695160" cy="401760"/>
          </a:xfrm>
          <a:custGeom>
            <a:avLst/>
            <a:gdLst/>
            <a:ahLst/>
            <a:rect l="l" t="t" r="r" b="b"/>
            <a:pathLst>
              <a:path w="438" h="253">
                <a:moveTo>
                  <a:pt x="404" y="0"/>
                </a:moveTo>
                <a:lnTo>
                  <a:pt x="397" y="7"/>
                </a:lnTo>
                <a:lnTo>
                  <a:pt x="397" y="14"/>
                </a:lnTo>
                <a:lnTo>
                  <a:pt x="397" y="21"/>
                </a:lnTo>
                <a:lnTo>
                  <a:pt x="397" y="28"/>
                </a:lnTo>
                <a:lnTo>
                  <a:pt x="390" y="34"/>
                </a:lnTo>
                <a:lnTo>
                  <a:pt x="384" y="41"/>
                </a:lnTo>
                <a:lnTo>
                  <a:pt x="384" y="48"/>
                </a:lnTo>
                <a:lnTo>
                  <a:pt x="377" y="55"/>
                </a:lnTo>
                <a:lnTo>
                  <a:pt x="377" y="62"/>
                </a:lnTo>
                <a:lnTo>
                  <a:pt x="377" y="69"/>
                </a:lnTo>
                <a:lnTo>
                  <a:pt x="384" y="76"/>
                </a:lnTo>
                <a:lnTo>
                  <a:pt x="390" y="82"/>
                </a:lnTo>
                <a:lnTo>
                  <a:pt x="397" y="89"/>
                </a:lnTo>
                <a:lnTo>
                  <a:pt x="404" y="82"/>
                </a:lnTo>
                <a:lnTo>
                  <a:pt x="411" y="82"/>
                </a:lnTo>
                <a:lnTo>
                  <a:pt x="418" y="76"/>
                </a:lnTo>
                <a:lnTo>
                  <a:pt x="425" y="69"/>
                </a:lnTo>
                <a:lnTo>
                  <a:pt x="432" y="62"/>
                </a:lnTo>
                <a:lnTo>
                  <a:pt x="432" y="62"/>
                </a:lnTo>
                <a:lnTo>
                  <a:pt x="432" y="69"/>
                </a:lnTo>
                <a:lnTo>
                  <a:pt x="438" y="82"/>
                </a:lnTo>
                <a:lnTo>
                  <a:pt x="432" y="89"/>
                </a:lnTo>
                <a:lnTo>
                  <a:pt x="432" y="96"/>
                </a:lnTo>
                <a:lnTo>
                  <a:pt x="432" y="103"/>
                </a:lnTo>
                <a:lnTo>
                  <a:pt x="432" y="110"/>
                </a:lnTo>
                <a:lnTo>
                  <a:pt x="425" y="117"/>
                </a:lnTo>
                <a:lnTo>
                  <a:pt x="418" y="123"/>
                </a:lnTo>
                <a:lnTo>
                  <a:pt x="418" y="130"/>
                </a:lnTo>
                <a:lnTo>
                  <a:pt x="411" y="130"/>
                </a:lnTo>
                <a:lnTo>
                  <a:pt x="411" y="137"/>
                </a:lnTo>
                <a:lnTo>
                  <a:pt x="411" y="151"/>
                </a:lnTo>
                <a:lnTo>
                  <a:pt x="404" y="158"/>
                </a:lnTo>
                <a:lnTo>
                  <a:pt x="404" y="164"/>
                </a:lnTo>
                <a:lnTo>
                  <a:pt x="397" y="164"/>
                </a:lnTo>
                <a:lnTo>
                  <a:pt x="390" y="158"/>
                </a:lnTo>
                <a:lnTo>
                  <a:pt x="384" y="151"/>
                </a:lnTo>
                <a:lnTo>
                  <a:pt x="377" y="144"/>
                </a:lnTo>
                <a:lnTo>
                  <a:pt x="370" y="137"/>
                </a:lnTo>
                <a:lnTo>
                  <a:pt x="370" y="130"/>
                </a:lnTo>
                <a:lnTo>
                  <a:pt x="377" y="123"/>
                </a:lnTo>
                <a:lnTo>
                  <a:pt x="384" y="117"/>
                </a:lnTo>
                <a:lnTo>
                  <a:pt x="384" y="110"/>
                </a:lnTo>
                <a:lnTo>
                  <a:pt x="390" y="110"/>
                </a:lnTo>
                <a:lnTo>
                  <a:pt x="397" y="103"/>
                </a:lnTo>
                <a:lnTo>
                  <a:pt x="397" y="96"/>
                </a:lnTo>
                <a:lnTo>
                  <a:pt x="397" y="89"/>
                </a:lnTo>
                <a:lnTo>
                  <a:pt x="397" y="76"/>
                </a:lnTo>
                <a:lnTo>
                  <a:pt x="390" y="69"/>
                </a:lnTo>
                <a:lnTo>
                  <a:pt x="384" y="62"/>
                </a:lnTo>
                <a:lnTo>
                  <a:pt x="377" y="62"/>
                </a:lnTo>
                <a:lnTo>
                  <a:pt x="370" y="62"/>
                </a:lnTo>
                <a:lnTo>
                  <a:pt x="370" y="69"/>
                </a:lnTo>
                <a:lnTo>
                  <a:pt x="363" y="76"/>
                </a:lnTo>
                <a:lnTo>
                  <a:pt x="363" y="82"/>
                </a:lnTo>
                <a:lnTo>
                  <a:pt x="363" y="96"/>
                </a:lnTo>
                <a:lnTo>
                  <a:pt x="363" y="103"/>
                </a:lnTo>
                <a:lnTo>
                  <a:pt x="356" y="110"/>
                </a:lnTo>
                <a:lnTo>
                  <a:pt x="356" y="117"/>
                </a:lnTo>
                <a:lnTo>
                  <a:pt x="349" y="117"/>
                </a:lnTo>
                <a:lnTo>
                  <a:pt x="336" y="123"/>
                </a:lnTo>
                <a:lnTo>
                  <a:pt x="336" y="130"/>
                </a:lnTo>
                <a:lnTo>
                  <a:pt x="336" y="137"/>
                </a:lnTo>
                <a:lnTo>
                  <a:pt x="329" y="144"/>
                </a:lnTo>
                <a:lnTo>
                  <a:pt x="329" y="151"/>
                </a:lnTo>
                <a:lnTo>
                  <a:pt x="322" y="158"/>
                </a:lnTo>
                <a:lnTo>
                  <a:pt x="322" y="164"/>
                </a:lnTo>
                <a:lnTo>
                  <a:pt x="315" y="164"/>
                </a:lnTo>
                <a:lnTo>
                  <a:pt x="308" y="171"/>
                </a:lnTo>
                <a:lnTo>
                  <a:pt x="294" y="178"/>
                </a:lnTo>
                <a:lnTo>
                  <a:pt x="288" y="178"/>
                </a:lnTo>
                <a:lnTo>
                  <a:pt x="281" y="185"/>
                </a:lnTo>
                <a:lnTo>
                  <a:pt x="274" y="192"/>
                </a:lnTo>
                <a:lnTo>
                  <a:pt x="267" y="199"/>
                </a:lnTo>
                <a:lnTo>
                  <a:pt x="260" y="206"/>
                </a:lnTo>
                <a:lnTo>
                  <a:pt x="253" y="206"/>
                </a:lnTo>
                <a:lnTo>
                  <a:pt x="246" y="199"/>
                </a:lnTo>
                <a:lnTo>
                  <a:pt x="240" y="192"/>
                </a:lnTo>
                <a:lnTo>
                  <a:pt x="233" y="185"/>
                </a:lnTo>
                <a:lnTo>
                  <a:pt x="226" y="178"/>
                </a:lnTo>
                <a:lnTo>
                  <a:pt x="219" y="178"/>
                </a:lnTo>
                <a:lnTo>
                  <a:pt x="205" y="185"/>
                </a:lnTo>
                <a:lnTo>
                  <a:pt x="199" y="192"/>
                </a:lnTo>
                <a:lnTo>
                  <a:pt x="192" y="192"/>
                </a:lnTo>
                <a:lnTo>
                  <a:pt x="192" y="199"/>
                </a:lnTo>
                <a:lnTo>
                  <a:pt x="185" y="206"/>
                </a:lnTo>
                <a:lnTo>
                  <a:pt x="178" y="212"/>
                </a:lnTo>
                <a:lnTo>
                  <a:pt x="171" y="219"/>
                </a:lnTo>
                <a:lnTo>
                  <a:pt x="157" y="219"/>
                </a:lnTo>
                <a:lnTo>
                  <a:pt x="151" y="226"/>
                </a:lnTo>
                <a:lnTo>
                  <a:pt x="144" y="226"/>
                </a:lnTo>
                <a:lnTo>
                  <a:pt x="137" y="233"/>
                </a:lnTo>
                <a:lnTo>
                  <a:pt x="137" y="240"/>
                </a:lnTo>
                <a:lnTo>
                  <a:pt x="130" y="247"/>
                </a:lnTo>
                <a:lnTo>
                  <a:pt x="123" y="253"/>
                </a:lnTo>
                <a:lnTo>
                  <a:pt x="109" y="253"/>
                </a:lnTo>
                <a:lnTo>
                  <a:pt x="103" y="253"/>
                </a:lnTo>
                <a:lnTo>
                  <a:pt x="89" y="247"/>
                </a:lnTo>
                <a:lnTo>
                  <a:pt x="82" y="240"/>
                </a:lnTo>
                <a:lnTo>
                  <a:pt x="82" y="233"/>
                </a:lnTo>
                <a:lnTo>
                  <a:pt x="75" y="233"/>
                </a:lnTo>
                <a:lnTo>
                  <a:pt x="68" y="226"/>
                </a:lnTo>
                <a:lnTo>
                  <a:pt x="55" y="226"/>
                </a:lnTo>
                <a:lnTo>
                  <a:pt x="48" y="226"/>
                </a:lnTo>
                <a:lnTo>
                  <a:pt x="34" y="226"/>
                </a:lnTo>
                <a:lnTo>
                  <a:pt x="27" y="226"/>
                </a:lnTo>
                <a:lnTo>
                  <a:pt x="13" y="219"/>
                </a:lnTo>
                <a:lnTo>
                  <a:pt x="7" y="212"/>
                </a:lnTo>
                <a:lnTo>
                  <a:pt x="7" y="206"/>
                </a:lnTo>
                <a:lnTo>
                  <a:pt x="0" y="199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7" name=""/>
          <p:cNvSpPr/>
          <p:nvPr/>
        </p:nvSpPr>
        <p:spPr>
          <a:xfrm>
            <a:off x="2517840" y="3505320"/>
            <a:ext cx="477720" cy="226800"/>
          </a:xfrm>
          <a:custGeom>
            <a:avLst/>
            <a:gdLst/>
            <a:ahLst/>
            <a:rect l="l" t="t" r="r" b="b"/>
            <a:pathLst>
              <a:path w="301" h="143">
                <a:moveTo>
                  <a:pt x="34" y="0"/>
                </a:moveTo>
                <a:lnTo>
                  <a:pt x="27" y="0"/>
                </a:lnTo>
                <a:lnTo>
                  <a:pt x="20" y="6"/>
                </a:lnTo>
                <a:lnTo>
                  <a:pt x="13" y="6"/>
                </a:lnTo>
                <a:lnTo>
                  <a:pt x="13" y="13"/>
                </a:lnTo>
                <a:lnTo>
                  <a:pt x="6" y="20"/>
                </a:lnTo>
                <a:lnTo>
                  <a:pt x="0" y="20"/>
                </a:lnTo>
                <a:lnTo>
                  <a:pt x="0" y="27"/>
                </a:lnTo>
                <a:lnTo>
                  <a:pt x="0" y="34"/>
                </a:lnTo>
                <a:lnTo>
                  <a:pt x="0" y="41"/>
                </a:lnTo>
                <a:lnTo>
                  <a:pt x="6" y="41"/>
                </a:lnTo>
                <a:lnTo>
                  <a:pt x="13" y="47"/>
                </a:lnTo>
                <a:lnTo>
                  <a:pt x="20" y="47"/>
                </a:lnTo>
                <a:lnTo>
                  <a:pt x="27" y="54"/>
                </a:lnTo>
                <a:lnTo>
                  <a:pt x="34" y="54"/>
                </a:lnTo>
                <a:lnTo>
                  <a:pt x="41" y="54"/>
                </a:lnTo>
                <a:lnTo>
                  <a:pt x="48" y="61"/>
                </a:lnTo>
                <a:lnTo>
                  <a:pt x="54" y="61"/>
                </a:lnTo>
                <a:lnTo>
                  <a:pt x="61" y="61"/>
                </a:lnTo>
                <a:lnTo>
                  <a:pt x="75" y="61"/>
                </a:lnTo>
                <a:lnTo>
                  <a:pt x="82" y="68"/>
                </a:lnTo>
                <a:lnTo>
                  <a:pt x="89" y="68"/>
                </a:lnTo>
                <a:lnTo>
                  <a:pt x="96" y="68"/>
                </a:lnTo>
                <a:lnTo>
                  <a:pt x="102" y="68"/>
                </a:lnTo>
                <a:lnTo>
                  <a:pt x="109" y="68"/>
                </a:lnTo>
                <a:lnTo>
                  <a:pt x="116" y="75"/>
                </a:lnTo>
                <a:lnTo>
                  <a:pt x="123" y="75"/>
                </a:lnTo>
                <a:lnTo>
                  <a:pt x="130" y="82"/>
                </a:lnTo>
                <a:lnTo>
                  <a:pt x="137" y="82"/>
                </a:lnTo>
                <a:lnTo>
                  <a:pt x="144" y="88"/>
                </a:lnTo>
                <a:lnTo>
                  <a:pt x="150" y="88"/>
                </a:lnTo>
                <a:lnTo>
                  <a:pt x="157" y="88"/>
                </a:lnTo>
                <a:lnTo>
                  <a:pt x="164" y="88"/>
                </a:lnTo>
                <a:lnTo>
                  <a:pt x="171" y="88"/>
                </a:lnTo>
                <a:lnTo>
                  <a:pt x="178" y="88"/>
                </a:lnTo>
                <a:lnTo>
                  <a:pt x="192" y="95"/>
                </a:lnTo>
                <a:lnTo>
                  <a:pt x="198" y="95"/>
                </a:lnTo>
                <a:lnTo>
                  <a:pt x="205" y="95"/>
                </a:lnTo>
                <a:lnTo>
                  <a:pt x="212" y="95"/>
                </a:lnTo>
                <a:lnTo>
                  <a:pt x="219" y="95"/>
                </a:lnTo>
                <a:lnTo>
                  <a:pt x="233" y="88"/>
                </a:lnTo>
                <a:lnTo>
                  <a:pt x="240" y="88"/>
                </a:lnTo>
                <a:lnTo>
                  <a:pt x="246" y="88"/>
                </a:lnTo>
                <a:lnTo>
                  <a:pt x="253" y="95"/>
                </a:lnTo>
                <a:lnTo>
                  <a:pt x="253" y="95"/>
                </a:lnTo>
                <a:lnTo>
                  <a:pt x="260" y="102"/>
                </a:lnTo>
                <a:lnTo>
                  <a:pt x="267" y="109"/>
                </a:lnTo>
                <a:lnTo>
                  <a:pt x="267" y="116"/>
                </a:lnTo>
                <a:lnTo>
                  <a:pt x="267" y="123"/>
                </a:lnTo>
                <a:lnTo>
                  <a:pt x="267" y="123"/>
                </a:lnTo>
                <a:lnTo>
                  <a:pt x="267" y="130"/>
                </a:lnTo>
                <a:lnTo>
                  <a:pt x="267" y="136"/>
                </a:lnTo>
                <a:lnTo>
                  <a:pt x="274" y="136"/>
                </a:lnTo>
                <a:lnTo>
                  <a:pt x="281" y="143"/>
                </a:lnTo>
                <a:lnTo>
                  <a:pt x="287" y="143"/>
                </a:lnTo>
                <a:lnTo>
                  <a:pt x="294" y="143"/>
                </a:lnTo>
                <a:lnTo>
                  <a:pt x="301" y="143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8" name=""/>
          <p:cNvSpPr/>
          <p:nvPr/>
        </p:nvSpPr>
        <p:spPr>
          <a:xfrm>
            <a:off x="3213000" y="3720960"/>
            <a:ext cx="11160" cy="11160"/>
          </a:xfrm>
          <a:custGeom>
            <a:avLst/>
            <a:gdLst/>
            <a:ahLst/>
            <a:rect l="l" t="t" r="r" b="b"/>
            <a:pathLst>
              <a:path w="7" h="7">
                <a:moveTo>
                  <a:pt x="7" y="7"/>
                </a:moveTo>
                <a:lnTo>
                  <a:pt x="7" y="7"/>
                </a:lnTo>
                <a:lnTo>
                  <a:pt x="7" y="7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0" y="0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7" y="7"/>
                </a:lnTo>
                <a:lnTo>
                  <a:pt x="7" y="7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9" name=""/>
          <p:cNvSpPr/>
          <p:nvPr/>
        </p:nvSpPr>
        <p:spPr>
          <a:xfrm>
            <a:off x="5694480" y="3613320"/>
            <a:ext cx="33120" cy="87120"/>
          </a:xfrm>
          <a:custGeom>
            <a:avLst/>
            <a:gdLst/>
            <a:ahLst/>
            <a:rect l="l" t="t" r="r" b="b"/>
            <a:pathLst>
              <a:path w="21" h="55">
                <a:moveTo>
                  <a:pt x="7" y="48"/>
                </a:moveTo>
                <a:lnTo>
                  <a:pt x="14" y="41"/>
                </a:lnTo>
                <a:lnTo>
                  <a:pt x="14" y="34"/>
                </a:lnTo>
                <a:lnTo>
                  <a:pt x="21" y="27"/>
                </a:lnTo>
                <a:lnTo>
                  <a:pt x="21" y="27"/>
                </a:lnTo>
                <a:lnTo>
                  <a:pt x="21" y="20"/>
                </a:lnTo>
                <a:lnTo>
                  <a:pt x="14" y="14"/>
                </a:lnTo>
                <a:lnTo>
                  <a:pt x="14" y="7"/>
                </a:lnTo>
                <a:lnTo>
                  <a:pt x="7" y="0"/>
                </a:lnTo>
                <a:lnTo>
                  <a:pt x="0" y="0"/>
                </a:lnTo>
                <a:lnTo>
                  <a:pt x="0" y="7"/>
                </a:lnTo>
                <a:lnTo>
                  <a:pt x="0" y="14"/>
                </a:lnTo>
                <a:lnTo>
                  <a:pt x="0" y="20"/>
                </a:lnTo>
                <a:lnTo>
                  <a:pt x="0" y="27"/>
                </a:lnTo>
                <a:lnTo>
                  <a:pt x="0" y="27"/>
                </a:lnTo>
                <a:lnTo>
                  <a:pt x="0" y="34"/>
                </a:lnTo>
                <a:lnTo>
                  <a:pt x="0" y="41"/>
                </a:lnTo>
                <a:lnTo>
                  <a:pt x="0" y="48"/>
                </a:lnTo>
                <a:lnTo>
                  <a:pt x="7" y="55"/>
                </a:lnTo>
                <a:lnTo>
                  <a:pt x="7" y="55"/>
                </a:lnTo>
                <a:lnTo>
                  <a:pt x="7" y="48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0" name=""/>
          <p:cNvSpPr/>
          <p:nvPr/>
        </p:nvSpPr>
        <p:spPr>
          <a:xfrm flipH="1" flipV="1">
            <a:off x="2484000" y="3579480"/>
            <a:ext cx="33480" cy="11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1" name=""/>
          <p:cNvSpPr/>
          <p:nvPr/>
        </p:nvSpPr>
        <p:spPr>
          <a:xfrm flipV="1">
            <a:off x="2484360" y="3591000"/>
            <a:ext cx="33480" cy="33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2" name=""/>
          <p:cNvSpPr/>
          <p:nvPr/>
        </p:nvSpPr>
        <p:spPr>
          <a:xfrm>
            <a:off x="4367160" y="3548160"/>
            <a:ext cx="180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3" name=""/>
          <p:cNvSpPr/>
          <p:nvPr/>
        </p:nvSpPr>
        <p:spPr>
          <a:xfrm>
            <a:off x="5738760" y="3471840"/>
            <a:ext cx="54000" cy="119160"/>
          </a:xfrm>
          <a:custGeom>
            <a:avLst/>
            <a:gdLst/>
            <a:ahLst/>
            <a:rect l="l" t="t" r="r" b="b"/>
            <a:pathLst>
              <a:path w="34" h="75">
                <a:moveTo>
                  <a:pt x="20" y="48"/>
                </a:moveTo>
                <a:lnTo>
                  <a:pt x="27" y="41"/>
                </a:lnTo>
                <a:lnTo>
                  <a:pt x="34" y="34"/>
                </a:lnTo>
                <a:lnTo>
                  <a:pt x="34" y="27"/>
                </a:lnTo>
                <a:lnTo>
                  <a:pt x="27" y="21"/>
                </a:lnTo>
                <a:lnTo>
                  <a:pt x="20" y="7"/>
                </a:lnTo>
                <a:lnTo>
                  <a:pt x="14" y="0"/>
                </a:lnTo>
                <a:lnTo>
                  <a:pt x="7" y="0"/>
                </a:lnTo>
                <a:lnTo>
                  <a:pt x="0" y="7"/>
                </a:lnTo>
                <a:lnTo>
                  <a:pt x="0" y="21"/>
                </a:lnTo>
                <a:lnTo>
                  <a:pt x="0" y="27"/>
                </a:lnTo>
                <a:lnTo>
                  <a:pt x="0" y="34"/>
                </a:lnTo>
                <a:lnTo>
                  <a:pt x="0" y="41"/>
                </a:lnTo>
                <a:lnTo>
                  <a:pt x="0" y="48"/>
                </a:lnTo>
                <a:lnTo>
                  <a:pt x="0" y="62"/>
                </a:lnTo>
                <a:lnTo>
                  <a:pt x="0" y="68"/>
                </a:lnTo>
                <a:lnTo>
                  <a:pt x="7" y="75"/>
                </a:lnTo>
                <a:lnTo>
                  <a:pt x="7" y="75"/>
                </a:lnTo>
                <a:lnTo>
                  <a:pt x="14" y="68"/>
                </a:lnTo>
                <a:lnTo>
                  <a:pt x="14" y="62"/>
                </a:lnTo>
                <a:lnTo>
                  <a:pt x="20" y="48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4" name=""/>
          <p:cNvSpPr/>
          <p:nvPr/>
        </p:nvSpPr>
        <p:spPr>
          <a:xfrm>
            <a:off x="5770440" y="3406680"/>
            <a:ext cx="33480" cy="76320"/>
          </a:xfrm>
          <a:custGeom>
            <a:avLst/>
            <a:gdLst/>
            <a:ahLst/>
            <a:rect l="l" t="t" r="r" b="b"/>
            <a:pathLst>
              <a:path w="21" h="48">
                <a:moveTo>
                  <a:pt x="21" y="34"/>
                </a:moveTo>
                <a:lnTo>
                  <a:pt x="21" y="27"/>
                </a:lnTo>
                <a:lnTo>
                  <a:pt x="21" y="20"/>
                </a:lnTo>
                <a:lnTo>
                  <a:pt x="21" y="14"/>
                </a:lnTo>
                <a:lnTo>
                  <a:pt x="21" y="7"/>
                </a:lnTo>
                <a:lnTo>
                  <a:pt x="21" y="7"/>
                </a:lnTo>
                <a:lnTo>
                  <a:pt x="21" y="0"/>
                </a:lnTo>
                <a:lnTo>
                  <a:pt x="14" y="0"/>
                </a:lnTo>
                <a:lnTo>
                  <a:pt x="7" y="0"/>
                </a:lnTo>
                <a:lnTo>
                  <a:pt x="0" y="7"/>
                </a:lnTo>
                <a:lnTo>
                  <a:pt x="0" y="14"/>
                </a:lnTo>
                <a:lnTo>
                  <a:pt x="0" y="20"/>
                </a:lnTo>
                <a:lnTo>
                  <a:pt x="0" y="27"/>
                </a:lnTo>
                <a:lnTo>
                  <a:pt x="7" y="27"/>
                </a:lnTo>
                <a:lnTo>
                  <a:pt x="7" y="34"/>
                </a:lnTo>
                <a:lnTo>
                  <a:pt x="7" y="41"/>
                </a:lnTo>
                <a:lnTo>
                  <a:pt x="14" y="48"/>
                </a:lnTo>
                <a:lnTo>
                  <a:pt x="14" y="48"/>
                </a:lnTo>
                <a:lnTo>
                  <a:pt x="21" y="48"/>
                </a:lnTo>
                <a:lnTo>
                  <a:pt x="21" y="41"/>
                </a:lnTo>
                <a:lnTo>
                  <a:pt x="21" y="34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5" name=""/>
          <p:cNvSpPr/>
          <p:nvPr/>
        </p:nvSpPr>
        <p:spPr>
          <a:xfrm>
            <a:off x="2963880" y="3319560"/>
            <a:ext cx="54000" cy="75960"/>
          </a:xfrm>
          <a:custGeom>
            <a:avLst/>
            <a:gdLst/>
            <a:ahLst/>
            <a:rect l="l" t="t" r="r" b="b"/>
            <a:pathLst>
              <a:path w="34" h="48">
                <a:moveTo>
                  <a:pt x="34" y="28"/>
                </a:moveTo>
                <a:lnTo>
                  <a:pt x="34" y="14"/>
                </a:lnTo>
                <a:lnTo>
                  <a:pt x="27" y="7"/>
                </a:lnTo>
                <a:lnTo>
                  <a:pt x="20" y="0"/>
                </a:lnTo>
                <a:lnTo>
                  <a:pt x="13" y="0"/>
                </a:lnTo>
                <a:lnTo>
                  <a:pt x="6" y="7"/>
                </a:lnTo>
                <a:lnTo>
                  <a:pt x="0" y="14"/>
                </a:lnTo>
                <a:lnTo>
                  <a:pt x="0" y="21"/>
                </a:lnTo>
                <a:lnTo>
                  <a:pt x="0" y="28"/>
                </a:lnTo>
                <a:lnTo>
                  <a:pt x="0" y="41"/>
                </a:lnTo>
                <a:lnTo>
                  <a:pt x="13" y="48"/>
                </a:lnTo>
                <a:lnTo>
                  <a:pt x="20" y="48"/>
                </a:lnTo>
                <a:lnTo>
                  <a:pt x="27" y="48"/>
                </a:lnTo>
                <a:lnTo>
                  <a:pt x="27" y="41"/>
                </a:lnTo>
                <a:lnTo>
                  <a:pt x="34" y="28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6" name=""/>
          <p:cNvSpPr/>
          <p:nvPr/>
        </p:nvSpPr>
        <p:spPr>
          <a:xfrm>
            <a:off x="2995560" y="3200400"/>
            <a:ext cx="130320" cy="141120"/>
          </a:xfrm>
          <a:custGeom>
            <a:avLst/>
            <a:gdLst/>
            <a:ahLst/>
            <a:rect l="l" t="t" r="r" b="b"/>
            <a:pathLst>
              <a:path w="82" h="89">
                <a:moveTo>
                  <a:pt x="41" y="75"/>
                </a:moveTo>
                <a:lnTo>
                  <a:pt x="41" y="68"/>
                </a:lnTo>
                <a:lnTo>
                  <a:pt x="48" y="62"/>
                </a:lnTo>
                <a:lnTo>
                  <a:pt x="48" y="55"/>
                </a:lnTo>
                <a:lnTo>
                  <a:pt x="55" y="48"/>
                </a:lnTo>
                <a:lnTo>
                  <a:pt x="62" y="48"/>
                </a:lnTo>
                <a:lnTo>
                  <a:pt x="62" y="41"/>
                </a:lnTo>
                <a:lnTo>
                  <a:pt x="69" y="34"/>
                </a:lnTo>
                <a:lnTo>
                  <a:pt x="76" y="27"/>
                </a:lnTo>
                <a:lnTo>
                  <a:pt x="82" y="20"/>
                </a:lnTo>
                <a:lnTo>
                  <a:pt x="76" y="14"/>
                </a:lnTo>
                <a:lnTo>
                  <a:pt x="76" y="7"/>
                </a:lnTo>
                <a:lnTo>
                  <a:pt x="62" y="7"/>
                </a:lnTo>
                <a:lnTo>
                  <a:pt x="55" y="0"/>
                </a:lnTo>
                <a:lnTo>
                  <a:pt x="48" y="7"/>
                </a:lnTo>
                <a:lnTo>
                  <a:pt x="48" y="14"/>
                </a:lnTo>
                <a:lnTo>
                  <a:pt x="41" y="20"/>
                </a:lnTo>
                <a:lnTo>
                  <a:pt x="41" y="27"/>
                </a:lnTo>
                <a:lnTo>
                  <a:pt x="34" y="27"/>
                </a:lnTo>
                <a:lnTo>
                  <a:pt x="28" y="34"/>
                </a:lnTo>
                <a:lnTo>
                  <a:pt x="28" y="41"/>
                </a:lnTo>
                <a:lnTo>
                  <a:pt x="21" y="48"/>
                </a:lnTo>
                <a:lnTo>
                  <a:pt x="14" y="55"/>
                </a:lnTo>
                <a:lnTo>
                  <a:pt x="7" y="55"/>
                </a:lnTo>
                <a:lnTo>
                  <a:pt x="0" y="62"/>
                </a:lnTo>
                <a:lnTo>
                  <a:pt x="0" y="68"/>
                </a:lnTo>
                <a:lnTo>
                  <a:pt x="0" y="75"/>
                </a:lnTo>
                <a:lnTo>
                  <a:pt x="7" y="82"/>
                </a:lnTo>
                <a:lnTo>
                  <a:pt x="14" y="89"/>
                </a:lnTo>
                <a:lnTo>
                  <a:pt x="28" y="89"/>
                </a:lnTo>
                <a:lnTo>
                  <a:pt x="28" y="89"/>
                </a:lnTo>
                <a:lnTo>
                  <a:pt x="34" y="82"/>
                </a:lnTo>
                <a:lnTo>
                  <a:pt x="41" y="75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7" name=""/>
          <p:cNvSpPr/>
          <p:nvPr/>
        </p:nvSpPr>
        <p:spPr>
          <a:xfrm>
            <a:off x="6664320" y="3232080"/>
            <a:ext cx="11160" cy="55800"/>
          </a:xfrm>
          <a:custGeom>
            <a:avLst/>
            <a:gdLst/>
            <a:ahLst/>
            <a:rect l="l" t="t" r="r" b="b"/>
            <a:pathLst>
              <a:path w="7" h="35">
                <a:moveTo>
                  <a:pt x="7" y="28"/>
                </a:moveTo>
                <a:lnTo>
                  <a:pt x="7" y="14"/>
                </a:lnTo>
                <a:lnTo>
                  <a:pt x="7" y="7"/>
                </a:lnTo>
                <a:lnTo>
                  <a:pt x="7" y="7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7"/>
                </a:lnTo>
                <a:lnTo>
                  <a:pt x="0" y="14"/>
                </a:lnTo>
                <a:lnTo>
                  <a:pt x="0" y="21"/>
                </a:lnTo>
                <a:lnTo>
                  <a:pt x="0" y="28"/>
                </a:lnTo>
                <a:lnTo>
                  <a:pt x="0" y="35"/>
                </a:lnTo>
                <a:lnTo>
                  <a:pt x="0" y="35"/>
                </a:lnTo>
                <a:lnTo>
                  <a:pt x="7" y="35"/>
                </a:lnTo>
                <a:lnTo>
                  <a:pt x="7" y="28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8" name=""/>
          <p:cNvSpPr/>
          <p:nvPr/>
        </p:nvSpPr>
        <p:spPr>
          <a:xfrm>
            <a:off x="3105000" y="3135240"/>
            <a:ext cx="54000" cy="87480"/>
          </a:xfrm>
          <a:custGeom>
            <a:avLst/>
            <a:gdLst/>
            <a:ahLst/>
            <a:rect l="l" t="t" r="r" b="b"/>
            <a:pathLst>
              <a:path w="34" h="55">
                <a:moveTo>
                  <a:pt x="34" y="27"/>
                </a:moveTo>
                <a:lnTo>
                  <a:pt x="27" y="14"/>
                </a:lnTo>
                <a:lnTo>
                  <a:pt x="27" y="7"/>
                </a:lnTo>
                <a:lnTo>
                  <a:pt x="20" y="0"/>
                </a:lnTo>
                <a:lnTo>
                  <a:pt x="13" y="0"/>
                </a:lnTo>
                <a:lnTo>
                  <a:pt x="7" y="7"/>
                </a:lnTo>
                <a:lnTo>
                  <a:pt x="0" y="14"/>
                </a:lnTo>
                <a:lnTo>
                  <a:pt x="0" y="20"/>
                </a:lnTo>
                <a:lnTo>
                  <a:pt x="0" y="34"/>
                </a:lnTo>
                <a:lnTo>
                  <a:pt x="7" y="41"/>
                </a:lnTo>
                <a:lnTo>
                  <a:pt x="13" y="48"/>
                </a:lnTo>
                <a:lnTo>
                  <a:pt x="20" y="55"/>
                </a:lnTo>
                <a:lnTo>
                  <a:pt x="20" y="48"/>
                </a:lnTo>
                <a:lnTo>
                  <a:pt x="27" y="41"/>
                </a:lnTo>
                <a:lnTo>
                  <a:pt x="34" y="27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9" name=""/>
          <p:cNvSpPr/>
          <p:nvPr/>
        </p:nvSpPr>
        <p:spPr>
          <a:xfrm>
            <a:off x="3125880" y="3005280"/>
            <a:ext cx="142920" cy="152280"/>
          </a:xfrm>
          <a:custGeom>
            <a:avLst/>
            <a:gdLst/>
            <a:ahLst/>
            <a:rect l="l" t="t" r="r" b="b"/>
            <a:pathLst>
              <a:path w="90" h="96">
                <a:moveTo>
                  <a:pt x="42" y="82"/>
                </a:moveTo>
                <a:lnTo>
                  <a:pt x="48" y="75"/>
                </a:lnTo>
                <a:lnTo>
                  <a:pt x="48" y="68"/>
                </a:lnTo>
                <a:lnTo>
                  <a:pt x="55" y="61"/>
                </a:lnTo>
                <a:lnTo>
                  <a:pt x="69" y="55"/>
                </a:lnTo>
                <a:lnTo>
                  <a:pt x="76" y="55"/>
                </a:lnTo>
                <a:lnTo>
                  <a:pt x="90" y="55"/>
                </a:lnTo>
                <a:lnTo>
                  <a:pt x="90" y="48"/>
                </a:lnTo>
                <a:lnTo>
                  <a:pt x="90" y="41"/>
                </a:lnTo>
                <a:lnTo>
                  <a:pt x="90" y="34"/>
                </a:lnTo>
                <a:lnTo>
                  <a:pt x="83" y="20"/>
                </a:lnTo>
                <a:lnTo>
                  <a:pt x="76" y="13"/>
                </a:lnTo>
                <a:lnTo>
                  <a:pt x="69" y="7"/>
                </a:lnTo>
                <a:lnTo>
                  <a:pt x="62" y="0"/>
                </a:lnTo>
                <a:lnTo>
                  <a:pt x="62" y="0"/>
                </a:lnTo>
                <a:lnTo>
                  <a:pt x="55" y="0"/>
                </a:lnTo>
                <a:lnTo>
                  <a:pt x="48" y="7"/>
                </a:lnTo>
                <a:lnTo>
                  <a:pt x="48" y="20"/>
                </a:lnTo>
                <a:lnTo>
                  <a:pt x="42" y="27"/>
                </a:lnTo>
                <a:lnTo>
                  <a:pt x="35" y="34"/>
                </a:lnTo>
                <a:lnTo>
                  <a:pt x="35" y="41"/>
                </a:lnTo>
                <a:lnTo>
                  <a:pt x="28" y="48"/>
                </a:lnTo>
                <a:lnTo>
                  <a:pt x="21" y="55"/>
                </a:lnTo>
                <a:lnTo>
                  <a:pt x="14" y="61"/>
                </a:lnTo>
                <a:lnTo>
                  <a:pt x="7" y="61"/>
                </a:lnTo>
                <a:lnTo>
                  <a:pt x="7" y="68"/>
                </a:lnTo>
                <a:lnTo>
                  <a:pt x="0" y="75"/>
                </a:lnTo>
                <a:lnTo>
                  <a:pt x="7" y="82"/>
                </a:lnTo>
                <a:lnTo>
                  <a:pt x="14" y="89"/>
                </a:lnTo>
                <a:lnTo>
                  <a:pt x="28" y="96"/>
                </a:lnTo>
                <a:lnTo>
                  <a:pt x="35" y="96"/>
                </a:lnTo>
                <a:lnTo>
                  <a:pt x="42" y="89"/>
                </a:lnTo>
                <a:lnTo>
                  <a:pt x="42" y="82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0" name=""/>
          <p:cNvSpPr/>
          <p:nvPr/>
        </p:nvSpPr>
        <p:spPr>
          <a:xfrm>
            <a:off x="3017880" y="3092400"/>
            <a:ext cx="22320" cy="20520"/>
          </a:xfrm>
          <a:custGeom>
            <a:avLst/>
            <a:gdLst/>
            <a:ahLst/>
            <a:rect l="l" t="t" r="r" b="b"/>
            <a:pathLst>
              <a:path w="14" h="13">
                <a:moveTo>
                  <a:pt x="0" y="13"/>
                </a:moveTo>
                <a:lnTo>
                  <a:pt x="0" y="6"/>
                </a:lnTo>
                <a:lnTo>
                  <a:pt x="0" y="6"/>
                </a:lnTo>
                <a:lnTo>
                  <a:pt x="7" y="6"/>
                </a:lnTo>
                <a:lnTo>
                  <a:pt x="7" y="6"/>
                </a:lnTo>
                <a:lnTo>
                  <a:pt x="14" y="0"/>
                </a:lnTo>
                <a:lnTo>
                  <a:pt x="14" y="0"/>
                </a:lnTo>
                <a:lnTo>
                  <a:pt x="14" y="0"/>
                </a:lnTo>
                <a:lnTo>
                  <a:pt x="14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1" name=""/>
          <p:cNvSpPr/>
          <p:nvPr/>
        </p:nvSpPr>
        <p:spPr>
          <a:xfrm flipV="1">
            <a:off x="3083040" y="3036600"/>
            <a:ext cx="11160" cy="11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2" name=""/>
          <p:cNvSpPr/>
          <p:nvPr/>
        </p:nvSpPr>
        <p:spPr>
          <a:xfrm flipV="1">
            <a:off x="3125880" y="2982600"/>
            <a:ext cx="21960" cy="11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3" name=""/>
          <p:cNvSpPr/>
          <p:nvPr/>
        </p:nvSpPr>
        <p:spPr>
          <a:xfrm>
            <a:off x="3125880" y="2994120"/>
            <a:ext cx="1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4" name=""/>
          <p:cNvSpPr/>
          <p:nvPr/>
        </p:nvSpPr>
        <p:spPr>
          <a:xfrm>
            <a:off x="3201840" y="2906640"/>
            <a:ext cx="22320" cy="22320"/>
          </a:xfrm>
          <a:custGeom>
            <a:avLst/>
            <a:gdLst/>
            <a:ahLst/>
            <a:rect l="l" t="t" r="r" b="b"/>
            <a:pathLst>
              <a:path w="14" h="14">
                <a:moveTo>
                  <a:pt x="0" y="14"/>
                </a:moveTo>
                <a:lnTo>
                  <a:pt x="0" y="7"/>
                </a:lnTo>
                <a:lnTo>
                  <a:pt x="0" y="7"/>
                </a:lnTo>
                <a:lnTo>
                  <a:pt x="7" y="7"/>
                </a:lnTo>
                <a:lnTo>
                  <a:pt x="7" y="7"/>
                </a:lnTo>
                <a:lnTo>
                  <a:pt x="7" y="0"/>
                </a:lnTo>
                <a:lnTo>
                  <a:pt x="14" y="0"/>
                </a:lnTo>
                <a:lnTo>
                  <a:pt x="14" y="0"/>
                </a:lnTo>
                <a:lnTo>
                  <a:pt x="14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5" name=""/>
          <p:cNvSpPr/>
          <p:nvPr/>
        </p:nvSpPr>
        <p:spPr>
          <a:xfrm>
            <a:off x="4051440" y="2886120"/>
            <a:ext cx="55440" cy="31680"/>
          </a:xfrm>
          <a:custGeom>
            <a:avLst/>
            <a:gdLst/>
            <a:ahLst/>
            <a:rect l="l" t="t" r="r" b="b"/>
            <a:pathLst>
              <a:path w="35" h="20">
                <a:moveTo>
                  <a:pt x="35" y="13"/>
                </a:moveTo>
                <a:lnTo>
                  <a:pt x="35" y="6"/>
                </a:lnTo>
                <a:lnTo>
                  <a:pt x="28" y="0"/>
                </a:lnTo>
                <a:lnTo>
                  <a:pt x="28" y="0"/>
                </a:lnTo>
                <a:lnTo>
                  <a:pt x="21" y="0"/>
                </a:lnTo>
                <a:lnTo>
                  <a:pt x="7" y="0"/>
                </a:lnTo>
                <a:lnTo>
                  <a:pt x="0" y="6"/>
                </a:lnTo>
                <a:lnTo>
                  <a:pt x="0" y="6"/>
                </a:lnTo>
                <a:lnTo>
                  <a:pt x="0" y="13"/>
                </a:lnTo>
                <a:lnTo>
                  <a:pt x="7" y="20"/>
                </a:lnTo>
                <a:lnTo>
                  <a:pt x="14" y="20"/>
                </a:lnTo>
                <a:lnTo>
                  <a:pt x="21" y="20"/>
                </a:lnTo>
                <a:lnTo>
                  <a:pt x="28" y="20"/>
                </a:lnTo>
                <a:lnTo>
                  <a:pt x="35" y="13"/>
                </a:lnTo>
                <a:lnTo>
                  <a:pt x="35" y="13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6" name=""/>
          <p:cNvSpPr/>
          <p:nvPr/>
        </p:nvSpPr>
        <p:spPr>
          <a:xfrm flipV="1">
            <a:off x="3268800" y="2852280"/>
            <a:ext cx="3168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7" name=""/>
          <p:cNvSpPr/>
          <p:nvPr/>
        </p:nvSpPr>
        <p:spPr>
          <a:xfrm>
            <a:off x="6870600" y="2809800"/>
            <a:ext cx="22320" cy="31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8" name=""/>
          <p:cNvSpPr/>
          <p:nvPr/>
        </p:nvSpPr>
        <p:spPr>
          <a:xfrm>
            <a:off x="3746520" y="2744640"/>
            <a:ext cx="44280" cy="32040"/>
          </a:xfrm>
          <a:custGeom>
            <a:avLst/>
            <a:gdLst/>
            <a:ahLst/>
            <a:rect l="l" t="t" r="r" b="b"/>
            <a:pathLst>
              <a:path w="28" h="20">
                <a:moveTo>
                  <a:pt x="0" y="13"/>
                </a:moveTo>
                <a:lnTo>
                  <a:pt x="7" y="6"/>
                </a:lnTo>
                <a:lnTo>
                  <a:pt x="7" y="6"/>
                </a:lnTo>
                <a:lnTo>
                  <a:pt x="14" y="0"/>
                </a:lnTo>
                <a:lnTo>
                  <a:pt x="14" y="0"/>
                </a:lnTo>
                <a:lnTo>
                  <a:pt x="21" y="6"/>
                </a:lnTo>
                <a:lnTo>
                  <a:pt x="28" y="6"/>
                </a:lnTo>
                <a:lnTo>
                  <a:pt x="28" y="13"/>
                </a:lnTo>
                <a:lnTo>
                  <a:pt x="28" y="13"/>
                </a:lnTo>
                <a:lnTo>
                  <a:pt x="21" y="20"/>
                </a:lnTo>
                <a:lnTo>
                  <a:pt x="21" y="20"/>
                </a:lnTo>
                <a:lnTo>
                  <a:pt x="14" y="20"/>
                </a:lnTo>
                <a:lnTo>
                  <a:pt x="14" y="20"/>
                </a:lnTo>
                <a:lnTo>
                  <a:pt x="7" y="20"/>
                </a:lnTo>
                <a:lnTo>
                  <a:pt x="0" y="13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9" name=""/>
          <p:cNvSpPr/>
          <p:nvPr/>
        </p:nvSpPr>
        <p:spPr>
          <a:xfrm>
            <a:off x="6794640" y="2765520"/>
            <a:ext cx="54000" cy="21960"/>
          </a:xfrm>
          <a:custGeom>
            <a:avLst/>
            <a:gdLst/>
            <a:ahLst/>
            <a:rect l="l" t="t" r="r" b="b"/>
            <a:pathLst>
              <a:path w="34" h="14">
                <a:moveTo>
                  <a:pt x="0" y="0"/>
                </a:moveTo>
                <a:lnTo>
                  <a:pt x="7" y="0"/>
                </a:lnTo>
                <a:lnTo>
                  <a:pt x="7" y="7"/>
                </a:lnTo>
                <a:lnTo>
                  <a:pt x="14" y="7"/>
                </a:lnTo>
                <a:lnTo>
                  <a:pt x="14" y="7"/>
                </a:lnTo>
                <a:lnTo>
                  <a:pt x="20" y="14"/>
                </a:lnTo>
                <a:lnTo>
                  <a:pt x="27" y="14"/>
                </a:lnTo>
                <a:lnTo>
                  <a:pt x="27" y="14"/>
                </a:lnTo>
                <a:lnTo>
                  <a:pt x="34" y="14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0" name=""/>
          <p:cNvSpPr/>
          <p:nvPr/>
        </p:nvSpPr>
        <p:spPr>
          <a:xfrm>
            <a:off x="6576840" y="2668680"/>
            <a:ext cx="180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1" name=""/>
          <p:cNvSpPr/>
          <p:nvPr/>
        </p:nvSpPr>
        <p:spPr>
          <a:xfrm>
            <a:off x="6249960" y="2624040"/>
            <a:ext cx="87480" cy="11160"/>
          </a:xfrm>
          <a:custGeom>
            <a:avLst/>
            <a:gdLst/>
            <a:ahLst/>
            <a:rect l="l" t="t" r="r" b="b"/>
            <a:pathLst>
              <a:path w="55" h="7">
                <a:moveTo>
                  <a:pt x="0" y="0"/>
                </a:moveTo>
                <a:lnTo>
                  <a:pt x="7" y="0"/>
                </a:lnTo>
                <a:lnTo>
                  <a:pt x="7" y="0"/>
                </a:lnTo>
                <a:lnTo>
                  <a:pt x="14" y="0"/>
                </a:lnTo>
                <a:lnTo>
                  <a:pt x="21" y="7"/>
                </a:lnTo>
                <a:lnTo>
                  <a:pt x="28" y="7"/>
                </a:lnTo>
                <a:lnTo>
                  <a:pt x="28" y="7"/>
                </a:lnTo>
                <a:lnTo>
                  <a:pt x="34" y="7"/>
                </a:lnTo>
                <a:lnTo>
                  <a:pt x="41" y="7"/>
                </a:lnTo>
                <a:lnTo>
                  <a:pt x="48" y="7"/>
                </a:lnTo>
                <a:lnTo>
                  <a:pt x="48" y="0"/>
                </a:lnTo>
                <a:lnTo>
                  <a:pt x="55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2" name=""/>
          <p:cNvSpPr/>
          <p:nvPr/>
        </p:nvSpPr>
        <p:spPr>
          <a:xfrm>
            <a:off x="3638520" y="2624040"/>
            <a:ext cx="3122640" cy="2346480"/>
          </a:xfrm>
          <a:custGeom>
            <a:avLst/>
            <a:gdLst/>
            <a:ahLst/>
            <a:rect l="l" t="t" r="r" b="b"/>
            <a:pathLst>
              <a:path w="1967" h="1478">
                <a:moveTo>
                  <a:pt x="1419" y="0"/>
                </a:moveTo>
                <a:lnTo>
                  <a:pt x="1426" y="0"/>
                </a:lnTo>
                <a:lnTo>
                  <a:pt x="1439" y="7"/>
                </a:lnTo>
                <a:lnTo>
                  <a:pt x="1446" y="7"/>
                </a:lnTo>
                <a:lnTo>
                  <a:pt x="1453" y="7"/>
                </a:lnTo>
                <a:lnTo>
                  <a:pt x="1460" y="14"/>
                </a:lnTo>
                <a:lnTo>
                  <a:pt x="1474" y="14"/>
                </a:lnTo>
                <a:lnTo>
                  <a:pt x="1481" y="14"/>
                </a:lnTo>
                <a:lnTo>
                  <a:pt x="1487" y="14"/>
                </a:lnTo>
                <a:lnTo>
                  <a:pt x="1501" y="14"/>
                </a:lnTo>
                <a:lnTo>
                  <a:pt x="1508" y="14"/>
                </a:lnTo>
                <a:lnTo>
                  <a:pt x="1515" y="21"/>
                </a:lnTo>
                <a:lnTo>
                  <a:pt x="1522" y="21"/>
                </a:lnTo>
                <a:lnTo>
                  <a:pt x="1535" y="21"/>
                </a:lnTo>
                <a:lnTo>
                  <a:pt x="1542" y="21"/>
                </a:lnTo>
                <a:lnTo>
                  <a:pt x="1549" y="21"/>
                </a:lnTo>
                <a:lnTo>
                  <a:pt x="1563" y="28"/>
                </a:lnTo>
                <a:lnTo>
                  <a:pt x="1570" y="28"/>
                </a:lnTo>
                <a:lnTo>
                  <a:pt x="1577" y="28"/>
                </a:lnTo>
                <a:lnTo>
                  <a:pt x="1583" y="28"/>
                </a:lnTo>
                <a:lnTo>
                  <a:pt x="1597" y="28"/>
                </a:lnTo>
                <a:lnTo>
                  <a:pt x="1597" y="34"/>
                </a:lnTo>
                <a:lnTo>
                  <a:pt x="1604" y="41"/>
                </a:lnTo>
                <a:lnTo>
                  <a:pt x="1604" y="48"/>
                </a:lnTo>
                <a:lnTo>
                  <a:pt x="1604" y="55"/>
                </a:lnTo>
                <a:lnTo>
                  <a:pt x="1611" y="62"/>
                </a:lnTo>
                <a:lnTo>
                  <a:pt x="1618" y="62"/>
                </a:lnTo>
                <a:lnTo>
                  <a:pt x="1625" y="62"/>
                </a:lnTo>
                <a:lnTo>
                  <a:pt x="1631" y="62"/>
                </a:lnTo>
                <a:lnTo>
                  <a:pt x="1645" y="69"/>
                </a:lnTo>
                <a:lnTo>
                  <a:pt x="1652" y="69"/>
                </a:lnTo>
                <a:lnTo>
                  <a:pt x="1666" y="69"/>
                </a:lnTo>
                <a:lnTo>
                  <a:pt x="1673" y="69"/>
                </a:lnTo>
                <a:lnTo>
                  <a:pt x="1679" y="69"/>
                </a:lnTo>
                <a:lnTo>
                  <a:pt x="1679" y="76"/>
                </a:lnTo>
                <a:lnTo>
                  <a:pt x="1686" y="82"/>
                </a:lnTo>
                <a:lnTo>
                  <a:pt x="1693" y="89"/>
                </a:lnTo>
                <a:lnTo>
                  <a:pt x="1693" y="96"/>
                </a:lnTo>
                <a:lnTo>
                  <a:pt x="1700" y="96"/>
                </a:lnTo>
                <a:lnTo>
                  <a:pt x="1707" y="96"/>
                </a:lnTo>
                <a:lnTo>
                  <a:pt x="1721" y="96"/>
                </a:lnTo>
                <a:lnTo>
                  <a:pt x="1727" y="89"/>
                </a:lnTo>
                <a:lnTo>
                  <a:pt x="1727" y="89"/>
                </a:lnTo>
                <a:lnTo>
                  <a:pt x="1727" y="82"/>
                </a:lnTo>
                <a:lnTo>
                  <a:pt x="1727" y="76"/>
                </a:lnTo>
                <a:lnTo>
                  <a:pt x="1727" y="69"/>
                </a:lnTo>
                <a:lnTo>
                  <a:pt x="1727" y="62"/>
                </a:lnTo>
                <a:lnTo>
                  <a:pt x="1734" y="55"/>
                </a:lnTo>
                <a:lnTo>
                  <a:pt x="1741" y="62"/>
                </a:lnTo>
                <a:lnTo>
                  <a:pt x="1741" y="69"/>
                </a:lnTo>
                <a:lnTo>
                  <a:pt x="1748" y="76"/>
                </a:lnTo>
                <a:lnTo>
                  <a:pt x="1748" y="82"/>
                </a:lnTo>
                <a:lnTo>
                  <a:pt x="1755" y="82"/>
                </a:lnTo>
                <a:lnTo>
                  <a:pt x="1762" y="89"/>
                </a:lnTo>
                <a:lnTo>
                  <a:pt x="1769" y="89"/>
                </a:lnTo>
                <a:lnTo>
                  <a:pt x="1775" y="96"/>
                </a:lnTo>
                <a:lnTo>
                  <a:pt x="1775" y="103"/>
                </a:lnTo>
                <a:lnTo>
                  <a:pt x="1775" y="110"/>
                </a:lnTo>
                <a:lnTo>
                  <a:pt x="1775" y="117"/>
                </a:lnTo>
                <a:lnTo>
                  <a:pt x="1775" y="123"/>
                </a:lnTo>
                <a:lnTo>
                  <a:pt x="1775" y="130"/>
                </a:lnTo>
                <a:lnTo>
                  <a:pt x="1775" y="130"/>
                </a:lnTo>
                <a:lnTo>
                  <a:pt x="1782" y="137"/>
                </a:lnTo>
                <a:lnTo>
                  <a:pt x="1782" y="144"/>
                </a:lnTo>
                <a:lnTo>
                  <a:pt x="1782" y="151"/>
                </a:lnTo>
                <a:lnTo>
                  <a:pt x="1782" y="158"/>
                </a:lnTo>
                <a:lnTo>
                  <a:pt x="1782" y="165"/>
                </a:lnTo>
                <a:lnTo>
                  <a:pt x="1782" y="171"/>
                </a:lnTo>
                <a:lnTo>
                  <a:pt x="1789" y="171"/>
                </a:lnTo>
                <a:lnTo>
                  <a:pt x="1796" y="178"/>
                </a:lnTo>
                <a:lnTo>
                  <a:pt x="1803" y="178"/>
                </a:lnTo>
                <a:lnTo>
                  <a:pt x="1810" y="185"/>
                </a:lnTo>
                <a:lnTo>
                  <a:pt x="1810" y="192"/>
                </a:lnTo>
                <a:lnTo>
                  <a:pt x="1817" y="199"/>
                </a:lnTo>
                <a:lnTo>
                  <a:pt x="1823" y="206"/>
                </a:lnTo>
                <a:lnTo>
                  <a:pt x="1823" y="206"/>
                </a:lnTo>
                <a:lnTo>
                  <a:pt x="1830" y="212"/>
                </a:lnTo>
                <a:lnTo>
                  <a:pt x="1844" y="212"/>
                </a:lnTo>
                <a:lnTo>
                  <a:pt x="1851" y="212"/>
                </a:lnTo>
                <a:lnTo>
                  <a:pt x="1858" y="219"/>
                </a:lnTo>
                <a:lnTo>
                  <a:pt x="1865" y="219"/>
                </a:lnTo>
                <a:lnTo>
                  <a:pt x="1865" y="226"/>
                </a:lnTo>
                <a:lnTo>
                  <a:pt x="1871" y="233"/>
                </a:lnTo>
                <a:lnTo>
                  <a:pt x="1871" y="240"/>
                </a:lnTo>
                <a:lnTo>
                  <a:pt x="1885" y="240"/>
                </a:lnTo>
                <a:lnTo>
                  <a:pt x="1892" y="247"/>
                </a:lnTo>
                <a:lnTo>
                  <a:pt x="1899" y="247"/>
                </a:lnTo>
                <a:lnTo>
                  <a:pt x="1906" y="247"/>
                </a:lnTo>
                <a:lnTo>
                  <a:pt x="1913" y="253"/>
                </a:lnTo>
                <a:lnTo>
                  <a:pt x="1919" y="260"/>
                </a:lnTo>
                <a:lnTo>
                  <a:pt x="1919" y="267"/>
                </a:lnTo>
                <a:lnTo>
                  <a:pt x="1926" y="267"/>
                </a:lnTo>
                <a:lnTo>
                  <a:pt x="1933" y="274"/>
                </a:lnTo>
                <a:lnTo>
                  <a:pt x="1940" y="274"/>
                </a:lnTo>
                <a:lnTo>
                  <a:pt x="1947" y="281"/>
                </a:lnTo>
                <a:lnTo>
                  <a:pt x="1954" y="281"/>
                </a:lnTo>
                <a:lnTo>
                  <a:pt x="1961" y="288"/>
                </a:lnTo>
                <a:lnTo>
                  <a:pt x="1967" y="295"/>
                </a:lnTo>
                <a:lnTo>
                  <a:pt x="1961" y="295"/>
                </a:lnTo>
                <a:lnTo>
                  <a:pt x="1954" y="301"/>
                </a:lnTo>
                <a:lnTo>
                  <a:pt x="1954" y="308"/>
                </a:lnTo>
                <a:lnTo>
                  <a:pt x="1947" y="315"/>
                </a:lnTo>
                <a:lnTo>
                  <a:pt x="1947" y="322"/>
                </a:lnTo>
                <a:lnTo>
                  <a:pt x="1940" y="322"/>
                </a:lnTo>
                <a:lnTo>
                  <a:pt x="1933" y="329"/>
                </a:lnTo>
                <a:lnTo>
                  <a:pt x="1926" y="329"/>
                </a:lnTo>
                <a:lnTo>
                  <a:pt x="1919" y="329"/>
                </a:lnTo>
                <a:lnTo>
                  <a:pt x="1906" y="329"/>
                </a:lnTo>
                <a:lnTo>
                  <a:pt x="1899" y="322"/>
                </a:lnTo>
                <a:lnTo>
                  <a:pt x="1892" y="322"/>
                </a:lnTo>
                <a:lnTo>
                  <a:pt x="1878" y="322"/>
                </a:lnTo>
                <a:lnTo>
                  <a:pt x="1871" y="322"/>
                </a:lnTo>
                <a:lnTo>
                  <a:pt x="1865" y="322"/>
                </a:lnTo>
                <a:lnTo>
                  <a:pt x="1858" y="329"/>
                </a:lnTo>
                <a:lnTo>
                  <a:pt x="1844" y="329"/>
                </a:lnTo>
                <a:lnTo>
                  <a:pt x="1837" y="329"/>
                </a:lnTo>
                <a:lnTo>
                  <a:pt x="1830" y="329"/>
                </a:lnTo>
                <a:lnTo>
                  <a:pt x="1823" y="322"/>
                </a:lnTo>
                <a:lnTo>
                  <a:pt x="1817" y="315"/>
                </a:lnTo>
                <a:lnTo>
                  <a:pt x="1810" y="315"/>
                </a:lnTo>
                <a:lnTo>
                  <a:pt x="1796" y="315"/>
                </a:lnTo>
                <a:lnTo>
                  <a:pt x="1789" y="308"/>
                </a:lnTo>
                <a:lnTo>
                  <a:pt x="1782" y="308"/>
                </a:lnTo>
                <a:lnTo>
                  <a:pt x="1769" y="315"/>
                </a:lnTo>
                <a:lnTo>
                  <a:pt x="1762" y="315"/>
                </a:lnTo>
                <a:lnTo>
                  <a:pt x="1755" y="315"/>
                </a:lnTo>
                <a:lnTo>
                  <a:pt x="1741" y="315"/>
                </a:lnTo>
                <a:lnTo>
                  <a:pt x="1734" y="315"/>
                </a:lnTo>
                <a:lnTo>
                  <a:pt x="1727" y="308"/>
                </a:lnTo>
                <a:lnTo>
                  <a:pt x="1721" y="301"/>
                </a:lnTo>
                <a:lnTo>
                  <a:pt x="1721" y="301"/>
                </a:lnTo>
                <a:lnTo>
                  <a:pt x="1714" y="295"/>
                </a:lnTo>
                <a:lnTo>
                  <a:pt x="1707" y="288"/>
                </a:lnTo>
                <a:lnTo>
                  <a:pt x="1700" y="288"/>
                </a:lnTo>
                <a:lnTo>
                  <a:pt x="1693" y="288"/>
                </a:lnTo>
                <a:lnTo>
                  <a:pt x="1679" y="288"/>
                </a:lnTo>
                <a:lnTo>
                  <a:pt x="1673" y="295"/>
                </a:lnTo>
                <a:lnTo>
                  <a:pt x="1679" y="295"/>
                </a:lnTo>
                <a:lnTo>
                  <a:pt x="1686" y="301"/>
                </a:lnTo>
                <a:lnTo>
                  <a:pt x="1693" y="308"/>
                </a:lnTo>
                <a:lnTo>
                  <a:pt x="1693" y="315"/>
                </a:lnTo>
                <a:lnTo>
                  <a:pt x="1700" y="315"/>
                </a:lnTo>
                <a:lnTo>
                  <a:pt x="1700" y="322"/>
                </a:lnTo>
                <a:lnTo>
                  <a:pt x="1707" y="329"/>
                </a:lnTo>
                <a:lnTo>
                  <a:pt x="1714" y="329"/>
                </a:lnTo>
                <a:lnTo>
                  <a:pt x="1721" y="336"/>
                </a:lnTo>
                <a:lnTo>
                  <a:pt x="1727" y="336"/>
                </a:lnTo>
                <a:lnTo>
                  <a:pt x="1734" y="342"/>
                </a:lnTo>
                <a:lnTo>
                  <a:pt x="1741" y="342"/>
                </a:lnTo>
                <a:lnTo>
                  <a:pt x="1748" y="349"/>
                </a:lnTo>
                <a:lnTo>
                  <a:pt x="1748" y="356"/>
                </a:lnTo>
                <a:lnTo>
                  <a:pt x="1755" y="363"/>
                </a:lnTo>
                <a:lnTo>
                  <a:pt x="1762" y="363"/>
                </a:lnTo>
                <a:lnTo>
                  <a:pt x="1762" y="370"/>
                </a:lnTo>
                <a:lnTo>
                  <a:pt x="1769" y="377"/>
                </a:lnTo>
                <a:lnTo>
                  <a:pt x="1775" y="383"/>
                </a:lnTo>
                <a:lnTo>
                  <a:pt x="1775" y="383"/>
                </a:lnTo>
                <a:lnTo>
                  <a:pt x="1782" y="390"/>
                </a:lnTo>
                <a:lnTo>
                  <a:pt x="1782" y="397"/>
                </a:lnTo>
                <a:lnTo>
                  <a:pt x="1789" y="404"/>
                </a:lnTo>
                <a:lnTo>
                  <a:pt x="1796" y="404"/>
                </a:lnTo>
                <a:lnTo>
                  <a:pt x="1796" y="411"/>
                </a:lnTo>
                <a:lnTo>
                  <a:pt x="1796" y="418"/>
                </a:lnTo>
                <a:lnTo>
                  <a:pt x="1789" y="425"/>
                </a:lnTo>
                <a:lnTo>
                  <a:pt x="1782" y="425"/>
                </a:lnTo>
                <a:lnTo>
                  <a:pt x="1769" y="425"/>
                </a:lnTo>
                <a:lnTo>
                  <a:pt x="1762" y="431"/>
                </a:lnTo>
                <a:lnTo>
                  <a:pt x="1755" y="431"/>
                </a:lnTo>
                <a:lnTo>
                  <a:pt x="1755" y="438"/>
                </a:lnTo>
                <a:lnTo>
                  <a:pt x="1748" y="445"/>
                </a:lnTo>
                <a:lnTo>
                  <a:pt x="1748" y="452"/>
                </a:lnTo>
                <a:lnTo>
                  <a:pt x="1741" y="452"/>
                </a:lnTo>
                <a:lnTo>
                  <a:pt x="1741" y="459"/>
                </a:lnTo>
                <a:lnTo>
                  <a:pt x="1741" y="466"/>
                </a:lnTo>
                <a:lnTo>
                  <a:pt x="1741" y="472"/>
                </a:lnTo>
                <a:lnTo>
                  <a:pt x="1741" y="479"/>
                </a:lnTo>
                <a:lnTo>
                  <a:pt x="1734" y="486"/>
                </a:lnTo>
                <a:lnTo>
                  <a:pt x="1734" y="486"/>
                </a:lnTo>
                <a:lnTo>
                  <a:pt x="1727" y="493"/>
                </a:lnTo>
                <a:lnTo>
                  <a:pt x="1721" y="500"/>
                </a:lnTo>
                <a:lnTo>
                  <a:pt x="1721" y="507"/>
                </a:lnTo>
                <a:lnTo>
                  <a:pt x="1714" y="507"/>
                </a:lnTo>
                <a:lnTo>
                  <a:pt x="1707" y="513"/>
                </a:lnTo>
                <a:lnTo>
                  <a:pt x="1700" y="513"/>
                </a:lnTo>
                <a:lnTo>
                  <a:pt x="1693" y="520"/>
                </a:lnTo>
                <a:lnTo>
                  <a:pt x="1679" y="520"/>
                </a:lnTo>
                <a:lnTo>
                  <a:pt x="1673" y="527"/>
                </a:lnTo>
                <a:lnTo>
                  <a:pt x="1666" y="527"/>
                </a:lnTo>
                <a:lnTo>
                  <a:pt x="1659" y="527"/>
                </a:lnTo>
                <a:lnTo>
                  <a:pt x="1645" y="527"/>
                </a:lnTo>
                <a:lnTo>
                  <a:pt x="1638" y="527"/>
                </a:lnTo>
                <a:lnTo>
                  <a:pt x="1631" y="527"/>
                </a:lnTo>
                <a:lnTo>
                  <a:pt x="1625" y="520"/>
                </a:lnTo>
                <a:lnTo>
                  <a:pt x="1618" y="520"/>
                </a:lnTo>
                <a:lnTo>
                  <a:pt x="1611" y="513"/>
                </a:lnTo>
                <a:lnTo>
                  <a:pt x="1604" y="513"/>
                </a:lnTo>
                <a:lnTo>
                  <a:pt x="1597" y="507"/>
                </a:lnTo>
                <a:lnTo>
                  <a:pt x="1583" y="507"/>
                </a:lnTo>
                <a:lnTo>
                  <a:pt x="1577" y="500"/>
                </a:lnTo>
                <a:lnTo>
                  <a:pt x="1570" y="500"/>
                </a:lnTo>
                <a:lnTo>
                  <a:pt x="1563" y="493"/>
                </a:lnTo>
                <a:lnTo>
                  <a:pt x="1556" y="493"/>
                </a:lnTo>
                <a:lnTo>
                  <a:pt x="1549" y="493"/>
                </a:lnTo>
                <a:lnTo>
                  <a:pt x="1542" y="486"/>
                </a:lnTo>
                <a:lnTo>
                  <a:pt x="1535" y="486"/>
                </a:lnTo>
                <a:lnTo>
                  <a:pt x="1522" y="479"/>
                </a:lnTo>
                <a:lnTo>
                  <a:pt x="1515" y="479"/>
                </a:lnTo>
                <a:lnTo>
                  <a:pt x="1508" y="472"/>
                </a:lnTo>
                <a:lnTo>
                  <a:pt x="1501" y="472"/>
                </a:lnTo>
                <a:lnTo>
                  <a:pt x="1494" y="466"/>
                </a:lnTo>
                <a:lnTo>
                  <a:pt x="1494" y="459"/>
                </a:lnTo>
                <a:lnTo>
                  <a:pt x="1487" y="452"/>
                </a:lnTo>
                <a:lnTo>
                  <a:pt x="1481" y="452"/>
                </a:lnTo>
                <a:lnTo>
                  <a:pt x="1474" y="445"/>
                </a:lnTo>
                <a:lnTo>
                  <a:pt x="1467" y="445"/>
                </a:lnTo>
                <a:lnTo>
                  <a:pt x="1460" y="452"/>
                </a:lnTo>
                <a:lnTo>
                  <a:pt x="1446" y="452"/>
                </a:lnTo>
                <a:lnTo>
                  <a:pt x="1439" y="452"/>
                </a:lnTo>
                <a:lnTo>
                  <a:pt x="1433" y="459"/>
                </a:lnTo>
                <a:lnTo>
                  <a:pt x="1426" y="459"/>
                </a:lnTo>
                <a:lnTo>
                  <a:pt x="1412" y="459"/>
                </a:lnTo>
                <a:lnTo>
                  <a:pt x="1405" y="459"/>
                </a:lnTo>
                <a:lnTo>
                  <a:pt x="1398" y="459"/>
                </a:lnTo>
                <a:lnTo>
                  <a:pt x="1385" y="459"/>
                </a:lnTo>
                <a:lnTo>
                  <a:pt x="1378" y="459"/>
                </a:lnTo>
                <a:lnTo>
                  <a:pt x="1371" y="466"/>
                </a:lnTo>
                <a:lnTo>
                  <a:pt x="1364" y="466"/>
                </a:lnTo>
                <a:lnTo>
                  <a:pt x="1350" y="466"/>
                </a:lnTo>
                <a:lnTo>
                  <a:pt x="1343" y="472"/>
                </a:lnTo>
                <a:lnTo>
                  <a:pt x="1337" y="479"/>
                </a:lnTo>
                <a:lnTo>
                  <a:pt x="1337" y="479"/>
                </a:lnTo>
                <a:lnTo>
                  <a:pt x="1330" y="486"/>
                </a:lnTo>
                <a:lnTo>
                  <a:pt x="1323" y="486"/>
                </a:lnTo>
                <a:lnTo>
                  <a:pt x="1316" y="493"/>
                </a:lnTo>
                <a:lnTo>
                  <a:pt x="1309" y="500"/>
                </a:lnTo>
                <a:lnTo>
                  <a:pt x="1302" y="507"/>
                </a:lnTo>
                <a:lnTo>
                  <a:pt x="1302" y="513"/>
                </a:lnTo>
                <a:lnTo>
                  <a:pt x="1302" y="513"/>
                </a:lnTo>
                <a:lnTo>
                  <a:pt x="1295" y="513"/>
                </a:lnTo>
                <a:lnTo>
                  <a:pt x="1289" y="507"/>
                </a:lnTo>
                <a:lnTo>
                  <a:pt x="1289" y="500"/>
                </a:lnTo>
                <a:lnTo>
                  <a:pt x="1289" y="493"/>
                </a:lnTo>
                <a:lnTo>
                  <a:pt x="1289" y="486"/>
                </a:lnTo>
                <a:lnTo>
                  <a:pt x="1295" y="479"/>
                </a:lnTo>
                <a:lnTo>
                  <a:pt x="1295" y="472"/>
                </a:lnTo>
                <a:lnTo>
                  <a:pt x="1302" y="472"/>
                </a:lnTo>
                <a:lnTo>
                  <a:pt x="1302" y="466"/>
                </a:lnTo>
                <a:lnTo>
                  <a:pt x="1295" y="459"/>
                </a:lnTo>
                <a:lnTo>
                  <a:pt x="1282" y="459"/>
                </a:lnTo>
                <a:lnTo>
                  <a:pt x="1275" y="466"/>
                </a:lnTo>
                <a:lnTo>
                  <a:pt x="1268" y="466"/>
                </a:lnTo>
                <a:lnTo>
                  <a:pt x="1261" y="472"/>
                </a:lnTo>
                <a:lnTo>
                  <a:pt x="1261" y="479"/>
                </a:lnTo>
                <a:lnTo>
                  <a:pt x="1261" y="486"/>
                </a:lnTo>
                <a:lnTo>
                  <a:pt x="1261" y="493"/>
                </a:lnTo>
                <a:lnTo>
                  <a:pt x="1261" y="493"/>
                </a:lnTo>
                <a:lnTo>
                  <a:pt x="1254" y="500"/>
                </a:lnTo>
                <a:lnTo>
                  <a:pt x="1254" y="507"/>
                </a:lnTo>
                <a:lnTo>
                  <a:pt x="1254" y="513"/>
                </a:lnTo>
                <a:lnTo>
                  <a:pt x="1254" y="520"/>
                </a:lnTo>
                <a:lnTo>
                  <a:pt x="1254" y="527"/>
                </a:lnTo>
                <a:lnTo>
                  <a:pt x="1247" y="534"/>
                </a:lnTo>
                <a:lnTo>
                  <a:pt x="1247" y="534"/>
                </a:lnTo>
                <a:lnTo>
                  <a:pt x="1247" y="541"/>
                </a:lnTo>
                <a:lnTo>
                  <a:pt x="1247" y="548"/>
                </a:lnTo>
                <a:lnTo>
                  <a:pt x="1241" y="555"/>
                </a:lnTo>
                <a:lnTo>
                  <a:pt x="1241" y="561"/>
                </a:lnTo>
                <a:lnTo>
                  <a:pt x="1241" y="568"/>
                </a:lnTo>
                <a:lnTo>
                  <a:pt x="1234" y="575"/>
                </a:lnTo>
                <a:lnTo>
                  <a:pt x="1234" y="575"/>
                </a:lnTo>
                <a:lnTo>
                  <a:pt x="1234" y="582"/>
                </a:lnTo>
                <a:lnTo>
                  <a:pt x="1234" y="589"/>
                </a:lnTo>
                <a:lnTo>
                  <a:pt x="1227" y="596"/>
                </a:lnTo>
                <a:lnTo>
                  <a:pt x="1227" y="602"/>
                </a:lnTo>
                <a:lnTo>
                  <a:pt x="1227" y="609"/>
                </a:lnTo>
                <a:lnTo>
                  <a:pt x="1220" y="609"/>
                </a:lnTo>
                <a:lnTo>
                  <a:pt x="1220" y="616"/>
                </a:lnTo>
                <a:lnTo>
                  <a:pt x="1220" y="623"/>
                </a:lnTo>
                <a:lnTo>
                  <a:pt x="1220" y="630"/>
                </a:lnTo>
                <a:lnTo>
                  <a:pt x="1213" y="637"/>
                </a:lnTo>
                <a:lnTo>
                  <a:pt x="1213" y="643"/>
                </a:lnTo>
                <a:lnTo>
                  <a:pt x="1213" y="643"/>
                </a:lnTo>
                <a:lnTo>
                  <a:pt x="1206" y="650"/>
                </a:lnTo>
                <a:lnTo>
                  <a:pt x="1199" y="657"/>
                </a:lnTo>
                <a:lnTo>
                  <a:pt x="1199" y="664"/>
                </a:lnTo>
                <a:lnTo>
                  <a:pt x="1193" y="671"/>
                </a:lnTo>
                <a:lnTo>
                  <a:pt x="1193" y="671"/>
                </a:lnTo>
                <a:lnTo>
                  <a:pt x="1193" y="678"/>
                </a:lnTo>
                <a:lnTo>
                  <a:pt x="1199" y="685"/>
                </a:lnTo>
                <a:lnTo>
                  <a:pt x="1199" y="691"/>
                </a:lnTo>
                <a:lnTo>
                  <a:pt x="1199" y="698"/>
                </a:lnTo>
                <a:lnTo>
                  <a:pt x="1199" y="705"/>
                </a:lnTo>
                <a:lnTo>
                  <a:pt x="1193" y="705"/>
                </a:lnTo>
                <a:lnTo>
                  <a:pt x="1186" y="712"/>
                </a:lnTo>
                <a:lnTo>
                  <a:pt x="1172" y="712"/>
                </a:lnTo>
                <a:lnTo>
                  <a:pt x="1165" y="719"/>
                </a:lnTo>
                <a:lnTo>
                  <a:pt x="1158" y="719"/>
                </a:lnTo>
                <a:lnTo>
                  <a:pt x="1152" y="719"/>
                </a:lnTo>
                <a:lnTo>
                  <a:pt x="1138" y="719"/>
                </a:lnTo>
                <a:lnTo>
                  <a:pt x="1131" y="712"/>
                </a:lnTo>
                <a:lnTo>
                  <a:pt x="1124" y="712"/>
                </a:lnTo>
                <a:lnTo>
                  <a:pt x="1110" y="712"/>
                </a:lnTo>
                <a:lnTo>
                  <a:pt x="1104" y="712"/>
                </a:lnTo>
                <a:lnTo>
                  <a:pt x="1097" y="712"/>
                </a:lnTo>
                <a:lnTo>
                  <a:pt x="1083" y="712"/>
                </a:lnTo>
                <a:lnTo>
                  <a:pt x="1076" y="712"/>
                </a:lnTo>
                <a:lnTo>
                  <a:pt x="1069" y="712"/>
                </a:lnTo>
                <a:lnTo>
                  <a:pt x="1056" y="719"/>
                </a:lnTo>
                <a:lnTo>
                  <a:pt x="1049" y="719"/>
                </a:lnTo>
                <a:lnTo>
                  <a:pt x="1042" y="719"/>
                </a:lnTo>
                <a:lnTo>
                  <a:pt x="1035" y="726"/>
                </a:lnTo>
                <a:lnTo>
                  <a:pt x="1035" y="732"/>
                </a:lnTo>
                <a:lnTo>
                  <a:pt x="1028" y="739"/>
                </a:lnTo>
                <a:lnTo>
                  <a:pt x="1021" y="739"/>
                </a:lnTo>
                <a:lnTo>
                  <a:pt x="1021" y="746"/>
                </a:lnTo>
                <a:lnTo>
                  <a:pt x="1014" y="753"/>
                </a:lnTo>
                <a:lnTo>
                  <a:pt x="1014" y="760"/>
                </a:lnTo>
                <a:lnTo>
                  <a:pt x="1008" y="767"/>
                </a:lnTo>
                <a:lnTo>
                  <a:pt x="1008" y="767"/>
                </a:lnTo>
                <a:lnTo>
                  <a:pt x="1001" y="774"/>
                </a:lnTo>
                <a:lnTo>
                  <a:pt x="1001" y="780"/>
                </a:lnTo>
                <a:lnTo>
                  <a:pt x="994" y="787"/>
                </a:lnTo>
                <a:lnTo>
                  <a:pt x="994" y="787"/>
                </a:lnTo>
                <a:lnTo>
                  <a:pt x="987" y="794"/>
                </a:lnTo>
                <a:lnTo>
                  <a:pt x="980" y="801"/>
                </a:lnTo>
                <a:lnTo>
                  <a:pt x="980" y="808"/>
                </a:lnTo>
                <a:lnTo>
                  <a:pt x="973" y="815"/>
                </a:lnTo>
                <a:lnTo>
                  <a:pt x="973" y="815"/>
                </a:lnTo>
                <a:lnTo>
                  <a:pt x="966" y="821"/>
                </a:lnTo>
                <a:lnTo>
                  <a:pt x="966" y="828"/>
                </a:lnTo>
                <a:lnTo>
                  <a:pt x="960" y="835"/>
                </a:lnTo>
                <a:lnTo>
                  <a:pt x="960" y="842"/>
                </a:lnTo>
                <a:lnTo>
                  <a:pt x="953" y="842"/>
                </a:lnTo>
                <a:lnTo>
                  <a:pt x="953" y="849"/>
                </a:lnTo>
                <a:lnTo>
                  <a:pt x="946" y="856"/>
                </a:lnTo>
                <a:lnTo>
                  <a:pt x="946" y="862"/>
                </a:lnTo>
                <a:lnTo>
                  <a:pt x="946" y="869"/>
                </a:lnTo>
                <a:lnTo>
                  <a:pt x="946" y="876"/>
                </a:lnTo>
                <a:lnTo>
                  <a:pt x="946" y="876"/>
                </a:lnTo>
                <a:lnTo>
                  <a:pt x="946" y="883"/>
                </a:lnTo>
                <a:lnTo>
                  <a:pt x="939" y="890"/>
                </a:lnTo>
                <a:lnTo>
                  <a:pt x="939" y="897"/>
                </a:lnTo>
                <a:lnTo>
                  <a:pt x="932" y="904"/>
                </a:lnTo>
                <a:lnTo>
                  <a:pt x="925" y="910"/>
                </a:lnTo>
                <a:lnTo>
                  <a:pt x="925" y="910"/>
                </a:lnTo>
                <a:lnTo>
                  <a:pt x="918" y="904"/>
                </a:lnTo>
                <a:lnTo>
                  <a:pt x="912" y="897"/>
                </a:lnTo>
                <a:lnTo>
                  <a:pt x="905" y="897"/>
                </a:lnTo>
                <a:lnTo>
                  <a:pt x="905" y="890"/>
                </a:lnTo>
                <a:lnTo>
                  <a:pt x="905" y="883"/>
                </a:lnTo>
                <a:lnTo>
                  <a:pt x="905" y="876"/>
                </a:lnTo>
                <a:lnTo>
                  <a:pt x="905" y="869"/>
                </a:lnTo>
                <a:lnTo>
                  <a:pt x="905" y="869"/>
                </a:lnTo>
                <a:lnTo>
                  <a:pt x="898" y="862"/>
                </a:lnTo>
                <a:lnTo>
                  <a:pt x="898" y="856"/>
                </a:lnTo>
                <a:lnTo>
                  <a:pt x="898" y="849"/>
                </a:lnTo>
                <a:lnTo>
                  <a:pt x="898" y="842"/>
                </a:lnTo>
                <a:lnTo>
                  <a:pt x="898" y="835"/>
                </a:lnTo>
                <a:lnTo>
                  <a:pt x="891" y="835"/>
                </a:lnTo>
                <a:lnTo>
                  <a:pt x="891" y="842"/>
                </a:lnTo>
                <a:lnTo>
                  <a:pt x="891" y="849"/>
                </a:lnTo>
                <a:lnTo>
                  <a:pt x="891" y="856"/>
                </a:lnTo>
                <a:lnTo>
                  <a:pt x="891" y="862"/>
                </a:lnTo>
                <a:lnTo>
                  <a:pt x="891" y="869"/>
                </a:lnTo>
                <a:lnTo>
                  <a:pt x="891" y="869"/>
                </a:lnTo>
                <a:lnTo>
                  <a:pt x="891" y="876"/>
                </a:lnTo>
                <a:lnTo>
                  <a:pt x="891" y="883"/>
                </a:lnTo>
                <a:lnTo>
                  <a:pt x="891" y="890"/>
                </a:lnTo>
                <a:lnTo>
                  <a:pt x="891" y="897"/>
                </a:lnTo>
                <a:lnTo>
                  <a:pt x="891" y="904"/>
                </a:lnTo>
                <a:lnTo>
                  <a:pt x="891" y="910"/>
                </a:lnTo>
                <a:lnTo>
                  <a:pt x="891" y="917"/>
                </a:lnTo>
                <a:lnTo>
                  <a:pt x="891" y="917"/>
                </a:lnTo>
                <a:lnTo>
                  <a:pt x="891" y="924"/>
                </a:lnTo>
                <a:lnTo>
                  <a:pt x="891" y="931"/>
                </a:lnTo>
                <a:lnTo>
                  <a:pt x="884" y="931"/>
                </a:lnTo>
                <a:lnTo>
                  <a:pt x="870" y="938"/>
                </a:lnTo>
                <a:lnTo>
                  <a:pt x="864" y="938"/>
                </a:lnTo>
                <a:lnTo>
                  <a:pt x="857" y="938"/>
                </a:lnTo>
                <a:lnTo>
                  <a:pt x="843" y="931"/>
                </a:lnTo>
                <a:lnTo>
                  <a:pt x="836" y="931"/>
                </a:lnTo>
                <a:lnTo>
                  <a:pt x="829" y="931"/>
                </a:lnTo>
                <a:lnTo>
                  <a:pt x="822" y="938"/>
                </a:lnTo>
                <a:lnTo>
                  <a:pt x="809" y="938"/>
                </a:lnTo>
                <a:lnTo>
                  <a:pt x="802" y="938"/>
                </a:lnTo>
                <a:lnTo>
                  <a:pt x="795" y="945"/>
                </a:lnTo>
                <a:lnTo>
                  <a:pt x="788" y="945"/>
                </a:lnTo>
                <a:lnTo>
                  <a:pt x="781" y="951"/>
                </a:lnTo>
                <a:lnTo>
                  <a:pt x="774" y="951"/>
                </a:lnTo>
                <a:lnTo>
                  <a:pt x="768" y="958"/>
                </a:lnTo>
                <a:lnTo>
                  <a:pt x="761" y="965"/>
                </a:lnTo>
                <a:lnTo>
                  <a:pt x="761" y="972"/>
                </a:lnTo>
                <a:lnTo>
                  <a:pt x="754" y="972"/>
                </a:lnTo>
                <a:lnTo>
                  <a:pt x="754" y="979"/>
                </a:lnTo>
                <a:lnTo>
                  <a:pt x="754" y="986"/>
                </a:lnTo>
                <a:lnTo>
                  <a:pt x="747" y="992"/>
                </a:lnTo>
                <a:lnTo>
                  <a:pt x="747" y="992"/>
                </a:lnTo>
                <a:lnTo>
                  <a:pt x="733" y="999"/>
                </a:lnTo>
                <a:lnTo>
                  <a:pt x="726" y="992"/>
                </a:lnTo>
                <a:lnTo>
                  <a:pt x="713" y="992"/>
                </a:lnTo>
                <a:lnTo>
                  <a:pt x="706" y="992"/>
                </a:lnTo>
                <a:lnTo>
                  <a:pt x="699" y="992"/>
                </a:lnTo>
                <a:lnTo>
                  <a:pt x="692" y="986"/>
                </a:lnTo>
                <a:lnTo>
                  <a:pt x="685" y="979"/>
                </a:lnTo>
                <a:lnTo>
                  <a:pt x="678" y="979"/>
                </a:lnTo>
                <a:lnTo>
                  <a:pt x="678" y="972"/>
                </a:lnTo>
                <a:lnTo>
                  <a:pt x="672" y="965"/>
                </a:lnTo>
                <a:lnTo>
                  <a:pt x="665" y="965"/>
                </a:lnTo>
                <a:lnTo>
                  <a:pt x="658" y="958"/>
                </a:lnTo>
                <a:lnTo>
                  <a:pt x="651" y="951"/>
                </a:lnTo>
                <a:lnTo>
                  <a:pt x="644" y="951"/>
                </a:lnTo>
                <a:lnTo>
                  <a:pt x="644" y="945"/>
                </a:lnTo>
                <a:lnTo>
                  <a:pt x="637" y="938"/>
                </a:lnTo>
                <a:lnTo>
                  <a:pt x="630" y="938"/>
                </a:lnTo>
                <a:lnTo>
                  <a:pt x="624" y="931"/>
                </a:lnTo>
                <a:lnTo>
                  <a:pt x="617" y="924"/>
                </a:lnTo>
                <a:lnTo>
                  <a:pt x="610" y="917"/>
                </a:lnTo>
                <a:lnTo>
                  <a:pt x="603" y="917"/>
                </a:lnTo>
                <a:lnTo>
                  <a:pt x="603" y="917"/>
                </a:lnTo>
                <a:lnTo>
                  <a:pt x="603" y="931"/>
                </a:lnTo>
                <a:lnTo>
                  <a:pt x="603" y="938"/>
                </a:lnTo>
                <a:lnTo>
                  <a:pt x="596" y="945"/>
                </a:lnTo>
                <a:lnTo>
                  <a:pt x="596" y="945"/>
                </a:lnTo>
                <a:lnTo>
                  <a:pt x="603" y="951"/>
                </a:lnTo>
                <a:lnTo>
                  <a:pt x="603" y="958"/>
                </a:lnTo>
                <a:lnTo>
                  <a:pt x="610" y="965"/>
                </a:lnTo>
                <a:lnTo>
                  <a:pt x="610" y="965"/>
                </a:lnTo>
                <a:lnTo>
                  <a:pt x="617" y="972"/>
                </a:lnTo>
                <a:lnTo>
                  <a:pt x="617" y="979"/>
                </a:lnTo>
                <a:lnTo>
                  <a:pt x="624" y="986"/>
                </a:lnTo>
                <a:lnTo>
                  <a:pt x="624" y="992"/>
                </a:lnTo>
                <a:lnTo>
                  <a:pt x="630" y="992"/>
                </a:lnTo>
                <a:lnTo>
                  <a:pt x="630" y="999"/>
                </a:lnTo>
                <a:lnTo>
                  <a:pt x="637" y="1006"/>
                </a:lnTo>
                <a:lnTo>
                  <a:pt x="644" y="1013"/>
                </a:lnTo>
                <a:lnTo>
                  <a:pt x="644" y="1013"/>
                </a:lnTo>
                <a:lnTo>
                  <a:pt x="651" y="1020"/>
                </a:lnTo>
                <a:lnTo>
                  <a:pt x="651" y="1027"/>
                </a:lnTo>
                <a:lnTo>
                  <a:pt x="651" y="1034"/>
                </a:lnTo>
                <a:lnTo>
                  <a:pt x="651" y="1040"/>
                </a:lnTo>
                <a:lnTo>
                  <a:pt x="658" y="1047"/>
                </a:lnTo>
                <a:lnTo>
                  <a:pt x="658" y="1047"/>
                </a:lnTo>
                <a:lnTo>
                  <a:pt x="665" y="1054"/>
                </a:lnTo>
                <a:lnTo>
                  <a:pt x="665" y="1061"/>
                </a:lnTo>
                <a:lnTo>
                  <a:pt x="672" y="1068"/>
                </a:lnTo>
                <a:lnTo>
                  <a:pt x="672" y="1075"/>
                </a:lnTo>
                <a:lnTo>
                  <a:pt x="678" y="1075"/>
                </a:lnTo>
                <a:lnTo>
                  <a:pt x="678" y="1081"/>
                </a:lnTo>
                <a:lnTo>
                  <a:pt x="685" y="1088"/>
                </a:lnTo>
                <a:lnTo>
                  <a:pt x="692" y="1095"/>
                </a:lnTo>
                <a:lnTo>
                  <a:pt x="692" y="1102"/>
                </a:lnTo>
                <a:lnTo>
                  <a:pt x="699" y="1102"/>
                </a:lnTo>
                <a:lnTo>
                  <a:pt x="699" y="1109"/>
                </a:lnTo>
                <a:lnTo>
                  <a:pt x="699" y="1116"/>
                </a:lnTo>
                <a:lnTo>
                  <a:pt x="699" y="1122"/>
                </a:lnTo>
                <a:lnTo>
                  <a:pt x="692" y="1129"/>
                </a:lnTo>
                <a:lnTo>
                  <a:pt x="692" y="1129"/>
                </a:lnTo>
                <a:lnTo>
                  <a:pt x="685" y="1136"/>
                </a:lnTo>
                <a:lnTo>
                  <a:pt x="678" y="1143"/>
                </a:lnTo>
                <a:lnTo>
                  <a:pt x="672" y="1143"/>
                </a:lnTo>
                <a:lnTo>
                  <a:pt x="665" y="1150"/>
                </a:lnTo>
                <a:lnTo>
                  <a:pt x="658" y="1157"/>
                </a:lnTo>
                <a:lnTo>
                  <a:pt x="651" y="1157"/>
                </a:lnTo>
                <a:lnTo>
                  <a:pt x="644" y="1164"/>
                </a:lnTo>
                <a:lnTo>
                  <a:pt x="637" y="1164"/>
                </a:lnTo>
                <a:lnTo>
                  <a:pt x="630" y="1170"/>
                </a:lnTo>
                <a:lnTo>
                  <a:pt x="624" y="1170"/>
                </a:lnTo>
                <a:lnTo>
                  <a:pt x="617" y="1170"/>
                </a:lnTo>
                <a:lnTo>
                  <a:pt x="603" y="1177"/>
                </a:lnTo>
                <a:lnTo>
                  <a:pt x="596" y="1177"/>
                </a:lnTo>
                <a:lnTo>
                  <a:pt x="589" y="1177"/>
                </a:lnTo>
                <a:lnTo>
                  <a:pt x="582" y="1177"/>
                </a:lnTo>
                <a:lnTo>
                  <a:pt x="569" y="1177"/>
                </a:lnTo>
                <a:lnTo>
                  <a:pt x="562" y="1177"/>
                </a:lnTo>
                <a:lnTo>
                  <a:pt x="555" y="1177"/>
                </a:lnTo>
                <a:lnTo>
                  <a:pt x="541" y="1177"/>
                </a:lnTo>
                <a:lnTo>
                  <a:pt x="534" y="1177"/>
                </a:lnTo>
                <a:lnTo>
                  <a:pt x="528" y="1184"/>
                </a:lnTo>
                <a:lnTo>
                  <a:pt x="521" y="1184"/>
                </a:lnTo>
                <a:lnTo>
                  <a:pt x="514" y="1191"/>
                </a:lnTo>
                <a:lnTo>
                  <a:pt x="514" y="1198"/>
                </a:lnTo>
                <a:lnTo>
                  <a:pt x="514" y="1205"/>
                </a:lnTo>
                <a:lnTo>
                  <a:pt x="507" y="1205"/>
                </a:lnTo>
                <a:lnTo>
                  <a:pt x="507" y="1211"/>
                </a:lnTo>
                <a:lnTo>
                  <a:pt x="507" y="1218"/>
                </a:lnTo>
                <a:lnTo>
                  <a:pt x="507" y="1225"/>
                </a:lnTo>
                <a:lnTo>
                  <a:pt x="507" y="1232"/>
                </a:lnTo>
                <a:lnTo>
                  <a:pt x="500" y="1239"/>
                </a:lnTo>
                <a:lnTo>
                  <a:pt x="500" y="1239"/>
                </a:lnTo>
                <a:lnTo>
                  <a:pt x="500" y="1246"/>
                </a:lnTo>
                <a:lnTo>
                  <a:pt x="493" y="1252"/>
                </a:lnTo>
                <a:lnTo>
                  <a:pt x="493" y="1259"/>
                </a:lnTo>
                <a:lnTo>
                  <a:pt x="493" y="1266"/>
                </a:lnTo>
                <a:lnTo>
                  <a:pt x="486" y="1266"/>
                </a:lnTo>
                <a:lnTo>
                  <a:pt x="480" y="1259"/>
                </a:lnTo>
                <a:lnTo>
                  <a:pt x="466" y="1259"/>
                </a:lnTo>
                <a:lnTo>
                  <a:pt x="459" y="1252"/>
                </a:lnTo>
                <a:lnTo>
                  <a:pt x="445" y="1252"/>
                </a:lnTo>
                <a:lnTo>
                  <a:pt x="438" y="1252"/>
                </a:lnTo>
                <a:lnTo>
                  <a:pt x="432" y="1252"/>
                </a:lnTo>
                <a:lnTo>
                  <a:pt x="425" y="1259"/>
                </a:lnTo>
                <a:lnTo>
                  <a:pt x="411" y="1259"/>
                </a:lnTo>
                <a:lnTo>
                  <a:pt x="404" y="1259"/>
                </a:lnTo>
                <a:lnTo>
                  <a:pt x="397" y="1259"/>
                </a:lnTo>
                <a:lnTo>
                  <a:pt x="384" y="1259"/>
                </a:lnTo>
                <a:lnTo>
                  <a:pt x="377" y="1266"/>
                </a:lnTo>
                <a:lnTo>
                  <a:pt x="370" y="1266"/>
                </a:lnTo>
                <a:lnTo>
                  <a:pt x="370" y="1273"/>
                </a:lnTo>
                <a:lnTo>
                  <a:pt x="370" y="1280"/>
                </a:lnTo>
                <a:lnTo>
                  <a:pt x="370" y="1287"/>
                </a:lnTo>
                <a:lnTo>
                  <a:pt x="377" y="1294"/>
                </a:lnTo>
                <a:lnTo>
                  <a:pt x="377" y="1294"/>
                </a:lnTo>
                <a:lnTo>
                  <a:pt x="384" y="1300"/>
                </a:lnTo>
                <a:lnTo>
                  <a:pt x="384" y="1307"/>
                </a:lnTo>
                <a:lnTo>
                  <a:pt x="384" y="1314"/>
                </a:lnTo>
                <a:lnTo>
                  <a:pt x="390" y="1321"/>
                </a:lnTo>
                <a:lnTo>
                  <a:pt x="390" y="1321"/>
                </a:lnTo>
                <a:lnTo>
                  <a:pt x="397" y="1328"/>
                </a:lnTo>
                <a:lnTo>
                  <a:pt x="404" y="1335"/>
                </a:lnTo>
                <a:lnTo>
                  <a:pt x="404" y="1341"/>
                </a:lnTo>
                <a:lnTo>
                  <a:pt x="397" y="1341"/>
                </a:lnTo>
                <a:lnTo>
                  <a:pt x="390" y="1335"/>
                </a:lnTo>
                <a:lnTo>
                  <a:pt x="384" y="1328"/>
                </a:lnTo>
                <a:lnTo>
                  <a:pt x="384" y="1321"/>
                </a:lnTo>
                <a:lnTo>
                  <a:pt x="377" y="1321"/>
                </a:lnTo>
                <a:lnTo>
                  <a:pt x="370" y="1314"/>
                </a:lnTo>
                <a:lnTo>
                  <a:pt x="363" y="1314"/>
                </a:lnTo>
                <a:lnTo>
                  <a:pt x="356" y="1307"/>
                </a:lnTo>
                <a:lnTo>
                  <a:pt x="349" y="1307"/>
                </a:lnTo>
                <a:lnTo>
                  <a:pt x="343" y="1300"/>
                </a:lnTo>
                <a:lnTo>
                  <a:pt x="336" y="1294"/>
                </a:lnTo>
                <a:lnTo>
                  <a:pt x="329" y="1294"/>
                </a:lnTo>
                <a:lnTo>
                  <a:pt x="322" y="1287"/>
                </a:lnTo>
                <a:lnTo>
                  <a:pt x="315" y="1287"/>
                </a:lnTo>
                <a:lnTo>
                  <a:pt x="308" y="1287"/>
                </a:lnTo>
                <a:lnTo>
                  <a:pt x="295" y="1280"/>
                </a:lnTo>
                <a:lnTo>
                  <a:pt x="288" y="1280"/>
                </a:lnTo>
                <a:lnTo>
                  <a:pt x="281" y="1280"/>
                </a:lnTo>
                <a:lnTo>
                  <a:pt x="274" y="1273"/>
                </a:lnTo>
                <a:lnTo>
                  <a:pt x="260" y="1273"/>
                </a:lnTo>
                <a:lnTo>
                  <a:pt x="253" y="1273"/>
                </a:lnTo>
                <a:lnTo>
                  <a:pt x="247" y="1266"/>
                </a:lnTo>
                <a:lnTo>
                  <a:pt x="240" y="1266"/>
                </a:lnTo>
                <a:lnTo>
                  <a:pt x="226" y="1266"/>
                </a:lnTo>
                <a:lnTo>
                  <a:pt x="219" y="1259"/>
                </a:lnTo>
                <a:lnTo>
                  <a:pt x="212" y="1259"/>
                </a:lnTo>
                <a:lnTo>
                  <a:pt x="205" y="1259"/>
                </a:lnTo>
                <a:lnTo>
                  <a:pt x="192" y="1252"/>
                </a:lnTo>
                <a:lnTo>
                  <a:pt x="185" y="1252"/>
                </a:lnTo>
                <a:lnTo>
                  <a:pt x="178" y="1252"/>
                </a:lnTo>
                <a:lnTo>
                  <a:pt x="171" y="1246"/>
                </a:lnTo>
                <a:lnTo>
                  <a:pt x="164" y="1246"/>
                </a:lnTo>
                <a:lnTo>
                  <a:pt x="151" y="1246"/>
                </a:lnTo>
                <a:lnTo>
                  <a:pt x="144" y="1239"/>
                </a:lnTo>
                <a:lnTo>
                  <a:pt x="137" y="1239"/>
                </a:lnTo>
                <a:lnTo>
                  <a:pt x="130" y="1239"/>
                </a:lnTo>
                <a:lnTo>
                  <a:pt x="116" y="1239"/>
                </a:lnTo>
                <a:lnTo>
                  <a:pt x="109" y="1239"/>
                </a:lnTo>
                <a:lnTo>
                  <a:pt x="103" y="1232"/>
                </a:lnTo>
                <a:lnTo>
                  <a:pt x="89" y="1232"/>
                </a:lnTo>
                <a:lnTo>
                  <a:pt x="82" y="1232"/>
                </a:lnTo>
                <a:lnTo>
                  <a:pt x="75" y="1232"/>
                </a:lnTo>
                <a:lnTo>
                  <a:pt x="61" y="1239"/>
                </a:lnTo>
                <a:lnTo>
                  <a:pt x="55" y="1239"/>
                </a:lnTo>
                <a:lnTo>
                  <a:pt x="55" y="1246"/>
                </a:lnTo>
                <a:lnTo>
                  <a:pt x="48" y="1252"/>
                </a:lnTo>
                <a:lnTo>
                  <a:pt x="41" y="1252"/>
                </a:lnTo>
                <a:lnTo>
                  <a:pt x="41" y="1259"/>
                </a:lnTo>
                <a:lnTo>
                  <a:pt x="34" y="1266"/>
                </a:lnTo>
                <a:lnTo>
                  <a:pt x="34" y="1273"/>
                </a:lnTo>
                <a:lnTo>
                  <a:pt x="27" y="1273"/>
                </a:lnTo>
                <a:lnTo>
                  <a:pt x="27" y="1280"/>
                </a:lnTo>
                <a:lnTo>
                  <a:pt x="27" y="1287"/>
                </a:lnTo>
                <a:lnTo>
                  <a:pt x="27" y="1294"/>
                </a:lnTo>
                <a:lnTo>
                  <a:pt x="20" y="1300"/>
                </a:lnTo>
                <a:lnTo>
                  <a:pt x="20" y="1307"/>
                </a:lnTo>
                <a:lnTo>
                  <a:pt x="20" y="1314"/>
                </a:lnTo>
                <a:lnTo>
                  <a:pt x="20" y="1314"/>
                </a:lnTo>
                <a:lnTo>
                  <a:pt x="20" y="1321"/>
                </a:lnTo>
                <a:lnTo>
                  <a:pt x="20" y="1328"/>
                </a:lnTo>
                <a:lnTo>
                  <a:pt x="20" y="1335"/>
                </a:lnTo>
                <a:lnTo>
                  <a:pt x="20" y="1341"/>
                </a:lnTo>
                <a:lnTo>
                  <a:pt x="13" y="1348"/>
                </a:lnTo>
                <a:lnTo>
                  <a:pt x="13" y="1355"/>
                </a:lnTo>
                <a:lnTo>
                  <a:pt x="13" y="1355"/>
                </a:lnTo>
                <a:lnTo>
                  <a:pt x="13" y="1362"/>
                </a:lnTo>
                <a:lnTo>
                  <a:pt x="13" y="1369"/>
                </a:lnTo>
                <a:lnTo>
                  <a:pt x="13" y="1376"/>
                </a:lnTo>
                <a:lnTo>
                  <a:pt x="13" y="1382"/>
                </a:lnTo>
                <a:lnTo>
                  <a:pt x="13" y="1389"/>
                </a:lnTo>
                <a:lnTo>
                  <a:pt x="7" y="1396"/>
                </a:lnTo>
                <a:lnTo>
                  <a:pt x="7" y="1396"/>
                </a:lnTo>
                <a:lnTo>
                  <a:pt x="7" y="1403"/>
                </a:lnTo>
                <a:lnTo>
                  <a:pt x="7" y="1410"/>
                </a:lnTo>
                <a:lnTo>
                  <a:pt x="7" y="1417"/>
                </a:lnTo>
                <a:lnTo>
                  <a:pt x="7" y="1424"/>
                </a:lnTo>
                <a:lnTo>
                  <a:pt x="7" y="1430"/>
                </a:lnTo>
                <a:lnTo>
                  <a:pt x="7" y="1437"/>
                </a:lnTo>
                <a:lnTo>
                  <a:pt x="0" y="1437"/>
                </a:lnTo>
                <a:lnTo>
                  <a:pt x="0" y="1444"/>
                </a:lnTo>
                <a:lnTo>
                  <a:pt x="0" y="1451"/>
                </a:lnTo>
                <a:lnTo>
                  <a:pt x="0" y="1458"/>
                </a:lnTo>
                <a:lnTo>
                  <a:pt x="0" y="1465"/>
                </a:lnTo>
                <a:lnTo>
                  <a:pt x="0" y="1471"/>
                </a:lnTo>
                <a:lnTo>
                  <a:pt x="0" y="1478"/>
                </a:lnTo>
                <a:lnTo>
                  <a:pt x="0" y="1478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3" name=""/>
          <p:cNvSpPr/>
          <p:nvPr/>
        </p:nvSpPr>
        <p:spPr>
          <a:xfrm>
            <a:off x="4530600" y="4537080"/>
            <a:ext cx="54000" cy="74520"/>
          </a:xfrm>
          <a:custGeom>
            <a:avLst/>
            <a:gdLst/>
            <a:ahLst/>
            <a:rect l="l" t="t" r="r" b="b"/>
            <a:pathLst>
              <a:path w="34" h="47">
                <a:moveTo>
                  <a:pt x="14" y="47"/>
                </a:moveTo>
                <a:lnTo>
                  <a:pt x="7" y="41"/>
                </a:lnTo>
                <a:lnTo>
                  <a:pt x="0" y="34"/>
                </a:lnTo>
                <a:lnTo>
                  <a:pt x="0" y="27"/>
                </a:lnTo>
                <a:lnTo>
                  <a:pt x="0" y="27"/>
                </a:lnTo>
                <a:lnTo>
                  <a:pt x="0" y="20"/>
                </a:lnTo>
                <a:lnTo>
                  <a:pt x="0" y="13"/>
                </a:lnTo>
                <a:lnTo>
                  <a:pt x="7" y="6"/>
                </a:lnTo>
                <a:lnTo>
                  <a:pt x="14" y="0"/>
                </a:lnTo>
                <a:lnTo>
                  <a:pt x="14" y="0"/>
                </a:lnTo>
                <a:lnTo>
                  <a:pt x="20" y="0"/>
                </a:lnTo>
                <a:lnTo>
                  <a:pt x="27" y="6"/>
                </a:lnTo>
                <a:lnTo>
                  <a:pt x="34" y="13"/>
                </a:lnTo>
                <a:lnTo>
                  <a:pt x="34" y="20"/>
                </a:lnTo>
                <a:lnTo>
                  <a:pt x="34" y="27"/>
                </a:lnTo>
                <a:lnTo>
                  <a:pt x="34" y="27"/>
                </a:lnTo>
                <a:lnTo>
                  <a:pt x="34" y="34"/>
                </a:lnTo>
                <a:lnTo>
                  <a:pt x="27" y="41"/>
                </a:lnTo>
                <a:lnTo>
                  <a:pt x="20" y="47"/>
                </a:lnTo>
                <a:lnTo>
                  <a:pt x="14" y="47"/>
                </a:lnTo>
                <a:lnTo>
                  <a:pt x="14" y="47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4" name=""/>
          <p:cNvSpPr/>
          <p:nvPr/>
        </p:nvSpPr>
        <p:spPr>
          <a:xfrm>
            <a:off x="5651640" y="3438360"/>
            <a:ext cx="490320" cy="675000"/>
          </a:xfrm>
          <a:custGeom>
            <a:avLst/>
            <a:gdLst/>
            <a:ahLst/>
            <a:rect l="l" t="t" r="r" b="b"/>
            <a:pathLst>
              <a:path w="309" h="425">
                <a:moveTo>
                  <a:pt x="0" y="418"/>
                </a:moveTo>
                <a:lnTo>
                  <a:pt x="0" y="411"/>
                </a:lnTo>
                <a:lnTo>
                  <a:pt x="7" y="404"/>
                </a:lnTo>
                <a:lnTo>
                  <a:pt x="7" y="397"/>
                </a:lnTo>
                <a:lnTo>
                  <a:pt x="14" y="397"/>
                </a:lnTo>
                <a:lnTo>
                  <a:pt x="14" y="391"/>
                </a:lnTo>
                <a:lnTo>
                  <a:pt x="21" y="384"/>
                </a:lnTo>
                <a:lnTo>
                  <a:pt x="21" y="377"/>
                </a:lnTo>
                <a:lnTo>
                  <a:pt x="27" y="370"/>
                </a:lnTo>
                <a:lnTo>
                  <a:pt x="34" y="363"/>
                </a:lnTo>
                <a:lnTo>
                  <a:pt x="34" y="363"/>
                </a:lnTo>
                <a:lnTo>
                  <a:pt x="41" y="356"/>
                </a:lnTo>
                <a:lnTo>
                  <a:pt x="41" y="349"/>
                </a:lnTo>
                <a:lnTo>
                  <a:pt x="41" y="343"/>
                </a:lnTo>
                <a:lnTo>
                  <a:pt x="34" y="336"/>
                </a:lnTo>
                <a:lnTo>
                  <a:pt x="27" y="329"/>
                </a:lnTo>
                <a:lnTo>
                  <a:pt x="41" y="329"/>
                </a:lnTo>
                <a:lnTo>
                  <a:pt x="48" y="322"/>
                </a:lnTo>
                <a:lnTo>
                  <a:pt x="48" y="315"/>
                </a:lnTo>
                <a:lnTo>
                  <a:pt x="48" y="308"/>
                </a:lnTo>
                <a:lnTo>
                  <a:pt x="55" y="302"/>
                </a:lnTo>
                <a:lnTo>
                  <a:pt x="62" y="302"/>
                </a:lnTo>
                <a:lnTo>
                  <a:pt x="69" y="295"/>
                </a:lnTo>
                <a:lnTo>
                  <a:pt x="75" y="288"/>
                </a:lnTo>
                <a:lnTo>
                  <a:pt x="82" y="281"/>
                </a:lnTo>
                <a:lnTo>
                  <a:pt x="82" y="281"/>
                </a:lnTo>
                <a:lnTo>
                  <a:pt x="89" y="274"/>
                </a:lnTo>
                <a:lnTo>
                  <a:pt x="89" y="267"/>
                </a:lnTo>
                <a:lnTo>
                  <a:pt x="89" y="261"/>
                </a:lnTo>
                <a:lnTo>
                  <a:pt x="82" y="254"/>
                </a:lnTo>
                <a:lnTo>
                  <a:pt x="82" y="247"/>
                </a:lnTo>
                <a:lnTo>
                  <a:pt x="82" y="240"/>
                </a:lnTo>
                <a:lnTo>
                  <a:pt x="89" y="233"/>
                </a:lnTo>
                <a:lnTo>
                  <a:pt x="89" y="226"/>
                </a:lnTo>
                <a:lnTo>
                  <a:pt x="89" y="219"/>
                </a:lnTo>
                <a:lnTo>
                  <a:pt x="96" y="219"/>
                </a:lnTo>
                <a:lnTo>
                  <a:pt x="96" y="213"/>
                </a:lnTo>
                <a:lnTo>
                  <a:pt x="103" y="206"/>
                </a:lnTo>
                <a:lnTo>
                  <a:pt x="103" y="199"/>
                </a:lnTo>
                <a:lnTo>
                  <a:pt x="103" y="192"/>
                </a:lnTo>
                <a:lnTo>
                  <a:pt x="110" y="185"/>
                </a:lnTo>
                <a:lnTo>
                  <a:pt x="110" y="178"/>
                </a:lnTo>
                <a:lnTo>
                  <a:pt x="110" y="172"/>
                </a:lnTo>
                <a:lnTo>
                  <a:pt x="110" y="165"/>
                </a:lnTo>
                <a:lnTo>
                  <a:pt x="117" y="158"/>
                </a:lnTo>
                <a:lnTo>
                  <a:pt x="123" y="158"/>
                </a:lnTo>
                <a:lnTo>
                  <a:pt x="130" y="151"/>
                </a:lnTo>
                <a:lnTo>
                  <a:pt x="130" y="144"/>
                </a:lnTo>
                <a:lnTo>
                  <a:pt x="137" y="137"/>
                </a:lnTo>
                <a:lnTo>
                  <a:pt x="144" y="137"/>
                </a:lnTo>
                <a:lnTo>
                  <a:pt x="144" y="130"/>
                </a:lnTo>
                <a:lnTo>
                  <a:pt x="144" y="124"/>
                </a:lnTo>
                <a:lnTo>
                  <a:pt x="144" y="117"/>
                </a:lnTo>
                <a:lnTo>
                  <a:pt x="144" y="110"/>
                </a:lnTo>
                <a:lnTo>
                  <a:pt x="144" y="103"/>
                </a:lnTo>
                <a:lnTo>
                  <a:pt x="144" y="96"/>
                </a:lnTo>
                <a:lnTo>
                  <a:pt x="144" y="89"/>
                </a:lnTo>
                <a:lnTo>
                  <a:pt x="151" y="83"/>
                </a:lnTo>
                <a:lnTo>
                  <a:pt x="151" y="83"/>
                </a:lnTo>
                <a:lnTo>
                  <a:pt x="158" y="76"/>
                </a:lnTo>
                <a:lnTo>
                  <a:pt x="158" y="69"/>
                </a:lnTo>
                <a:lnTo>
                  <a:pt x="165" y="62"/>
                </a:lnTo>
                <a:lnTo>
                  <a:pt x="165" y="55"/>
                </a:lnTo>
                <a:lnTo>
                  <a:pt x="165" y="48"/>
                </a:lnTo>
                <a:lnTo>
                  <a:pt x="165" y="42"/>
                </a:lnTo>
                <a:lnTo>
                  <a:pt x="165" y="35"/>
                </a:lnTo>
                <a:lnTo>
                  <a:pt x="165" y="28"/>
                </a:lnTo>
                <a:lnTo>
                  <a:pt x="158" y="21"/>
                </a:lnTo>
                <a:lnTo>
                  <a:pt x="165" y="21"/>
                </a:lnTo>
                <a:lnTo>
                  <a:pt x="165" y="14"/>
                </a:lnTo>
                <a:lnTo>
                  <a:pt x="171" y="7"/>
                </a:lnTo>
                <a:lnTo>
                  <a:pt x="171" y="0"/>
                </a:lnTo>
                <a:lnTo>
                  <a:pt x="185" y="0"/>
                </a:lnTo>
                <a:lnTo>
                  <a:pt x="192" y="0"/>
                </a:lnTo>
                <a:lnTo>
                  <a:pt x="199" y="7"/>
                </a:lnTo>
                <a:lnTo>
                  <a:pt x="213" y="7"/>
                </a:lnTo>
                <a:lnTo>
                  <a:pt x="213" y="14"/>
                </a:lnTo>
                <a:lnTo>
                  <a:pt x="219" y="21"/>
                </a:lnTo>
                <a:lnTo>
                  <a:pt x="226" y="28"/>
                </a:lnTo>
                <a:lnTo>
                  <a:pt x="233" y="28"/>
                </a:lnTo>
                <a:lnTo>
                  <a:pt x="247" y="28"/>
                </a:lnTo>
                <a:lnTo>
                  <a:pt x="254" y="35"/>
                </a:lnTo>
                <a:lnTo>
                  <a:pt x="261" y="35"/>
                </a:lnTo>
                <a:lnTo>
                  <a:pt x="267" y="42"/>
                </a:lnTo>
                <a:lnTo>
                  <a:pt x="274" y="42"/>
                </a:lnTo>
                <a:lnTo>
                  <a:pt x="274" y="48"/>
                </a:lnTo>
                <a:lnTo>
                  <a:pt x="281" y="55"/>
                </a:lnTo>
                <a:lnTo>
                  <a:pt x="281" y="62"/>
                </a:lnTo>
                <a:lnTo>
                  <a:pt x="295" y="69"/>
                </a:lnTo>
                <a:lnTo>
                  <a:pt x="302" y="69"/>
                </a:lnTo>
                <a:lnTo>
                  <a:pt x="309" y="69"/>
                </a:lnTo>
                <a:lnTo>
                  <a:pt x="302" y="76"/>
                </a:lnTo>
                <a:lnTo>
                  <a:pt x="288" y="83"/>
                </a:lnTo>
                <a:lnTo>
                  <a:pt x="281" y="89"/>
                </a:lnTo>
                <a:lnTo>
                  <a:pt x="281" y="89"/>
                </a:lnTo>
                <a:lnTo>
                  <a:pt x="274" y="96"/>
                </a:lnTo>
                <a:lnTo>
                  <a:pt x="267" y="103"/>
                </a:lnTo>
                <a:lnTo>
                  <a:pt x="261" y="110"/>
                </a:lnTo>
                <a:lnTo>
                  <a:pt x="254" y="110"/>
                </a:lnTo>
                <a:lnTo>
                  <a:pt x="254" y="117"/>
                </a:lnTo>
                <a:lnTo>
                  <a:pt x="247" y="124"/>
                </a:lnTo>
                <a:lnTo>
                  <a:pt x="240" y="124"/>
                </a:lnTo>
                <a:lnTo>
                  <a:pt x="233" y="130"/>
                </a:lnTo>
                <a:lnTo>
                  <a:pt x="233" y="137"/>
                </a:lnTo>
                <a:lnTo>
                  <a:pt x="226" y="144"/>
                </a:lnTo>
                <a:lnTo>
                  <a:pt x="226" y="151"/>
                </a:lnTo>
                <a:lnTo>
                  <a:pt x="226" y="158"/>
                </a:lnTo>
                <a:lnTo>
                  <a:pt x="233" y="165"/>
                </a:lnTo>
                <a:lnTo>
                  <a:pt x="233" y="172"/>
                </a:lnTo>
                <a:lnTo>
                  <a:pt x="233" y="178"/>
                </a:lnTo>
                <a:lnTo>
                  <a:pt x="233" y="178"/>
                </a:lnTo>
                <a:lnTo>
                  <a:pt x="240" y="185"/>
                </a:lnTo>
                <a:lnTo>
                  <a:pt x="240" y="192"/>
                </a:lnTo>
                <a:lnTo>
                  <a:pt x="240" y="199"/>
                </a:lnTo>
                <a:lnTo>
                  <a:pt x="240" y="206"/>
                </a:lnTo>
                <a:lnTo>
                  <a:pt x="240" y="213"/>
                </a:lnTo>
                <a:lnTo>
                  <a:pt x="240" y="219"/>
                </a:lnTo>
                <a:lnTo>
                  <a:pt x="240" y="226"/>
                </a:lnTo>
                <a:lnTo>
                  <a:pt x="240" y="233"/>
                </a:lnTo>
                <a:lnTo>
                  <a:pt x="240" y="240"/>
                </a:lnTo>
                <a:lnTo>
                  <a:pt x="240" y="247"/>
                </a:lnTo>
                <a:lnTo>
                  <a:pt x="247" y="247"/>
                </a:lnTo>
                <a:lnTo>
                  <a:pt x="247" y="254"/>
                </a:lnTo>
                <a:lnTo>
                  <a:pt x="247" y="261"/>
                </a:lnTo>
                <a:lnTo>
                  <a:pt x="254" y="267"/>
                </a:lnTo>
                <a:lnTo>
                  <a:pt x="247" y="274"/>
                </a:lnTo>
                <a:lnTo>
                  <a:pt x="247" y="281"/>
                </a:lnTo>
                <a:lnTo>
                  <a:pt x="247" y="288"/>
                </a:lnTo>
                <a:lnTo>
                  <a:pt x="240" y="295"/>
                </a:lnTo>
                <a:lnTo>
                  <a:pt x="240" y="302"/>
                </a:lnTo>
                <a:lnTo>
                  <a:pt x="240" y="308"/>
                </a:lnTo>
                <a:lnTo>
                  <a:pt x="240" y="315"/>
                </a:lnTo>
                <a:lnTo>
                  <a:pt x="240" y="315"/>
                </a:lnTo>
                <a:lnTo>
                  <a:pt x="240" y="322"/>
                </a:lnTo>
                <a:lnTo>
                  <a:pt x="240" y="329"/>
                </a:lnTo>
                <a:lnTo>
                  <a:pt x="233" y="336"/>
                </a:lnTo>
                <a:lnTo>
                  <a:pt x="226" y="343"/>
                </a:lnTo>
                <a:lnTo>
                  <a:pt x="226" y="349"/>
                </a:lnTo>
                <a:lnTo>
                  <a:pt x="226" y="356"/>
                </a:lnTo>
                <a:lnTo>
                  <a:pt x="219" y="356"/>
                </a:lnTo>
                <a:lnTo>
                  <a:pt x="219" y="363"/>
                </a:lnTo>
                <a:lnTo>
                  <a:pt x="219" y="370"/>
                </a:lnTo>
                <a:lnTo>
                  <a:pt x="219" y="377"/>
                </a:lnTo>
                <a:lnTo>
                  <a:pt x="219" y="384"/>
                </a:lnTo>
                <a:lnTo>
                  <a:pt x="219" y="391"/>
                </a:lnTo>
                <a:lnTo>
                  <a:pt x="219" y="397"/>
                </a:lnTo>
                <a:lnTo>
                  <a:pt x="219" y="404"/>
                </a:lnTo>
                <a:lnTo>
                  <a:pt x="213" y="411"/>
                </a:lnTo>
                <a:lnTo>
                  <a:pt x="206" y="411"/>
                </a:lnTo>
                <a:lnTo>
                  <a:pt x="199" y="418"/>
                </a:lnTo>
                <a:lnTo>
                  <a:pt x="185" y="418"/>
                </a:lnTo>
                <a:lnTo>
                  <a:pt x="178" y="418"/>
                </a:lnTo>
                <a:lnTo>
                  <a:pt x="165" y="418"/>
                </a:lnTo>
                <a:lnTo>
                  <a:pt x="158" y="418"/>
                </a:lnTo>
                <a:lnTo>
                  <a:pt x="151" y="418"/>
                </a:lnTo>
                <a:lnTo>
                  <a:pt x="137" y="418"/>
                </a:lnTo>
                <a:lnTo>
                  <a:pt x="130" y="418"/>
                </a:lnTo>
                <a:lnTo>
                  <a:pt x="117" y="418"/>
                </a:lnTo>
                <a:lnTo>
                  <a:pt x="110" y="418"/>
                </a:lnTo>
                <a:lnTo>
                  <a:pt x="103" y="418"/>
                </a:lnTo>
                <a:lnTo>
                  <a:pt x="89" y="418"/>
                </a:lnTo>
                <a:lnTo>
                  <a:pt x="82" y="418"/>
                </a:lnTo>
                <a:lnTo>
                  <a:pt x="69" y="418"/>
                </a:lnTo>
                <a:lnTo>
                  <a:pt x="62" y="418"/>
                </a:lnTo>
                <a:lnTo>
                  <a:pt x="55" y="418"/>
                </a:lnTo>
                <a:lnTo>
                  <a:pt x="41" y="418"/>
                </a:lnTo>
                <a:lnTo>
                  <a:pt x="34" y="425"/>
                </a:lnTo>
                <a:lnTo>
                  <a:pt x="21" y="425"/>
                </a:lnTo>
                <a:lnTo>
                  <a:pt x="14" y="425"/>
                </a:lnTo>
                <a:lnTo>
                  <a:pt x="7" y="425"/>
                </a:lnTo>
                <a:lnTo>
                  <a:pt x="0" y="418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5" name=""/>
          <p:cNvSpPr/>
          <p:nvPr/>
        </p:nvSpPr>
        <p:spPr>
          <a:xfrm>
            <a:off x="4519440" y="3949560"/>
            <a:ext cx="54000" cy="109800"/>
          </a:xfrm>
          <a:custGeom>
            <a:avLst/>
            <a:gdLst/>
            <a:ahLst/>
            <a:rect l="l" t="t" r="r" b="b"/>
            <a:pathLst>
              <a:path w="34" h="69">
                <a:moveTo>
                  <a:pt x="27" y="69"/>
                </a:moveTo>
                <a:lnTo>
                  <a:pt x="27" y="62"/>
                </a:lnTo>
                <a:lnTo>
                  <a:pt x="27" y="55"/>
                </a:lnTo>
                <a:lnTo>
                  <a:pt x="27" y="48"/>
                </a:lnTo>
                <a:lnTo>
                  <a:pt x="27" y="41"/>
                </a:lnTo>
                <a:lnTo>
                  <a:pt x="27" y="34"/>
                </a:lnTo>
                <a:lnTo>
                  <a:pt x="34" y="34"/>
                </a:lnTo>
                <a:lnTo>
                  <a:pt x="34" y="27"/>
                </a:lnTo>
                <a:lnTo>
                  <a:pt x="34" y="21"/>
                </a:lnTo>
                <a:lnTo>
                  <a:pt x="34" y="14"/>
                </a:lnTo>
                <a:lnTo>
                  <a:pt x="34" y="7"/>
                </a:lnTo>
                <a:lnTo>
                  <a:pt x="27" y="0"/>
                </a:lnTo>
                <a:lnTo>
                  <a:pt x="21" y="0"/>
                </a:lnTo>
                <a:lnTo>
                  <a:pt x="21" y="0"/>
                </a:lnTo>
                <a:lnTo>
                  <a:pt x="14" y="7"/>
                </a:lnTo>
                <a:lnTo>
                  <a:pt x="7" y="14"/>
                </a:lnTo>
                <a:lnTo>
                  <a:pt x="7" y="21"/>
                </a:lnTo>
                <a:lnTo>
                  <a:pt x="0" y="27"/>
                </a:lnTo>
                <a:lnTo>
                  <a:pt x="0" y="34"/>
                </a:lnTo>
                <a:lnTo>
                  <a:pt x="0" y="34"/>
                </a:lnTo>
                <a:lnTo>
                  <a:pt x="0" y="41"/>
                </a:lnTo>
                <a:lnTo>
                  <a:pt x="0" y="48"/>
                </a:lnTo>
                <a:lnTo>
                  <a:pt x="7" y="55"/>
                </a:lnTo>
                <a:lnTo>
                  <a:pt x="14" y="55"/>
                </a:lnTo>
                <a:lnTo>
                  <a:pt x="21" y="62"/>
                </a:lnTo>
                <a:lnTo>
                  <a:pt x="21" y="69"/>
                </a:lnTo>
                <a:lnTo>
                  <a:pt x="27" y="69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6" name=""/>
          <p:cNvSpPr/>
          <p:nvPr/>
        </p:nvSpPr>
        <p:spPr>
          <a:xfrm>
            <a:off x="5467320" y="4003560"/>
            <a:ext cx="173160" cy="65160"/>
          </a:xfrm>
          <a:custGeom>
            <a:avLst/>
            <a:gdLst/>
            <a:ahLst/>
            <a:rect l="l" t="t" r="r" b="b"/>
            <a:pathLst>
              <a:path w="109" h="41">
                <a:moveTo>
                  <a:pt x="0" y="35"/>
                </a:moveTo>
                <a:lnTo>
                  <a:pt x="6" y="35"/>
                </a:lnTo>
                <a:lnTo>
                  <a:pt x="13" y="28"/>
                </a:lnTo>
                <a:lnTo>
                  <a:pt x="20" y="28"/>
                </a:lnTo>
                <a:lnTo>
                  <a:pt x="27" y="28"/>
                </a:lnTo>
                <a:lnTo>
                  <a:pt x="34" y="28"/>
                </a:lnTo>
                <a:lnTo>
                  <a:pt x="47" y="28"/>
                </a:lnTo>
                <a:lnTo>
                  <a:pt x="54" y="28"/>
                </a:lnTo>
                <a:lnTo>
                  <a:pt x="61" y="21"/>
                </a:lnTo>
                <a:lnTo>
                  <a:pt x="61" y="21"/>
                </a:lnTo>
                <a:lnTo>
                  <a:pt x="68" y="21"/>
                </a:lnTo>
                <a:lnTo>
                  <a:pt x="75" y="14"/>
                </a:lnTo>
                <a:lnTo>
                  <a:pt x="75" y="14"/>
                </a:lnTo>
                <a:lnTo>
                  <a:pt x="82" y="7"/>
                </a:lnTo>
                <a:lnTo>
                  <a:pt x="89" y="0"/>
                </a:lnTo>
                <a:lnTo>
                  <a:pt x="89" y="0"/>
                </a:lnTo>
                <a:lnTo>
                  <a:pt x="95" y="0"/>
                </a:lnTo>
                <a:lnTo>
                  <a:pt x="109" y="0"/>
                </a:lnTo>
                <a:lnTo>
                  <a:pt x="109" y="0"/>
                </a:lnTo>
                <a:lnTo>
                  <a:pt x="109" y="7"/>
                </a:lnTo>
                <a:lnTo>
                  <a:pt x="102" y="7"/>
                </a:lnTo>
                <a:lnTo>
                  <a:pt x="95" y="14"/>
                </a:lnTo>
                <a:lnTo>
                  <a:pt x="89" y="14"/>
                </a:lnTo>
                <a:lnTo>
                  <a:pt x="89" y="21"/>
                </a:lnTo>
                <a:lnTo>
                  <a:pt x="82" y="21"/>
                </a:lnTo>
                <a:lnTo>
                  <a:pt x="82" y="28"/>
                </a:lnTo>
                <a:lnTo>
                  <a:pt x="82" y="35"/>
                </a:lnTo>
                <a:lnTo>
                  <a:pt x="75" y="35"/>
                </a:lnTo>
                <a:lnTo>
                  <a:pt x="68" y="41"/>
                </a:lnTo>
                <a:lnTo>
                  <a:pt x="61" y="41"/>
                </a:lnTo>
                <a:lnTo>
                  <a:pt x="54" y="41"/>
                </a:lnTo>
                <a:lnTo>
                  <a:pt x="47" y="41"/>
                </a:lnTo>
                <a:lnTo>
                  <a:pt x="41" y="41"/>
                </a:lnTo>
                <a:lnTo>
                  <a:pt x="34" y="41"/>
                </a:lnTo>
                <a:lnTo>
                  <a:pt x="27" y="41"/>
                </a:lnTo>
                <a:lnTo>
                  <a:pt x="20" y="35"/>
                </a:lnTo>
                <a:lnTo>
                  <a:pt x="13" y="35"/>
                </a:lnTo>
                <a:lnTo>
                  <a:pt x="6" y="35"/>
                </a:lnTo>
                <a:lnTo>
                  <a:pt x="0" y="35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7" name=""/>
          <p:cNvSpPr/>
          <p:nvPr/>
        </p:nvSpPr>
        <p:spPr>
          <a:xfrm>
            <a:off x="3137040" y="3949560"/>
            <a:ext cx="75960" cy="65160"/>
          </a:xfrm>
          <a:custGeom>
            <a:avLst/>
            <a:gdLst/>
            <a:ahLst/>
            <a:rect l="l" t="t" r="r" b="b"/>
            <a:pathLst>
              <a:path w="48" h="41">
                <a:moveTo>
                  <a:pt x="28" y="41"/>
                </a:moveTo>
                <a:lnTo>
                  <a:pt x="35" y="34"/>
                </a:lnTo>
                <a:lnTo>
                  <a:pt x="41" y="27"/>
                </a:lnTo>
                <a:lnTo>
                  <a:pt x="41" y="21"/>
                </a:lnTo>
                <a:lnTo>
                  <a:pt x="48" y="21"/>
                </a:lnTo>
                <a:lnTo>
                  <a:pt x="41" y="14"/>
                </a:lnTo>
                <a:lnTo>
                  <a:pt x="41" y="7"/>
                </a:lnTo>
                <a:lnTo>
                  <a:pt x="35" y="0"/>
                </a:lnTo>
                <a:lnTo>
                  <a:pt x="28" y="0"/>
                </a:lnTo>
                <a:lnTo>
                  <a:pt x="21" y="0"/>
                </a:lnTo>
                <a:lnTo>
                  <a:pt x="14" y="0"/>
                </a:lnTo>
                <a:lnTo>
                  <a:pt x="7" y="0"/>
                </a:lnTo>
                <a:lnTo>
                  <a:pt x="7" y="7"/>
                </a:lnTo>
                <a:lnTo>
                  <a:pt x="0" y="14"/>
                </a:lnTo>
                <a:lnTo>
                  <a:pt x="0" y="21"/>
                </a:lnTo>
                <a:lnTo>
                  <a:pt x="7" y="21"/>
                </a:lnTo>
                <a:lnTo>
                  <a:pt x="7" y="27"/>
                </a:lnTo>
                <a:lnTo>
                  <a:pt x="14" y="34"/>
                </a:lnTo>
                <a:lnTo>
                  <a:pt x="21" y="34"/>
                </a:lnTo>
                <a:lnTo>
                  <a:pt x="21" y="41"/>
                </a:lnTo>
                <a:lnTo>
                  <a:pt x="28" y="41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8" name=""/>
          <p:cNvSpPr/>
          <p:nvPr/>
        </p:nvSpPr>
        <p:spPr>
          <a:xfrm>
            <a:off x="5705640" y="3938760"/>
            <a:ext cx="44280" cy="33120"/>
          </a:xfrm>
          <a:custGeom>
            <a:avLst/>
            <a:gdLst/>
            <a:ahLst/>
            <a:rect l="l" t="t" r="r" b="b"/>
            <a:pathLst>
              <a:path w="28" h="21">
                <a:moveTo>
                  <a:pt x="28" y="14"/>
                </a:moveTo>
                <a:lnTo>
                  <a:pt x="28" y="7"/>
                </a:lnTo>
                <a:lnTo>
                  <a:pt x="28" y="7"/>
                </a:lnTo>
                <a:lnTo>
                  <a:pt x="28" y="0"/>
                </a:lnTo>
                <a:lnTo>
                  <a:pt x="28" y="0"/>
                </a:lnTo>
                <a:lnTo>
                  <a:pt x="21" y="0"/>
                </a:lnTo>
                <a:lnTo>
                  <a:pt x="14" y="7"/>
                </a:lnTo>
                <a:lnTo>
                  <a:pt x="7" y="7"/>
                </a:lnTo>
                <a:lnTo>
                  <a:pt x="7" y="14"/>
                </a:lnTo>
                <a:lnTo>
                  <a:pt x="0" y="14"/>
                </a:lnTo>
                <a:lnTo>
                  <a:pt x="7" y="21"/>
                </a:lnTo>
                <a:lnTo>
                  <a:pt x="14" y="21"/>
                </a:lnTo>
                <a:lnTo>
                  <a:pt x="21" y="21"/>
                </a:lnTo>
                <a:lnTo>
                  <a:pt x="28" y="21"/>
                </a:lnTo>
                <a:lnTo>
                  <a:pt x="28" y="14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9" name=""/>
          <p:cNvSpPr/>
          <p:nvPr/>
        </p:nvSpPr>
        <p:spPr>
          <a:xfrm>
            <a:off x="4911840" y="3884760"/>
            <a:ext cx="11160" cy="64800"/>
          </a:xfrm>
          <a:custGeom>
            <a:avLst/>
            <a:gdLst/>
            <a:ahLst/>
            <a:rect l="l" t="t" r="r" b="b"/>
            <a:pathLst>
              <a:path w="7" h="41">
                <a:moveTo>
                  <a:pt x="7" y="21"/>
                </a:moveTo>
                <a:lnTo>
                  <a:pt x="7" y="7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7"/>
                </a:lnTo>
                <a:lnTo>
                  <a:pt x="0" y="21"/>
                </a:lnTo>
                <a:lnTo>
                  <a:pt x="7" y="27"/>
                </a:lnTo>
                <a:lnTo>
                  <a:pt x="7" y="34"/>
                </a:lnTo>
                <a:lnTo>
                  <a:pt x="7" y="41"/>
                </a:lnTo>
                <a:lnTo>
                  <a:pt x="7" y="41"/>
                </a:lnTo>
                <a:lnTo>
                  <a:pt x="7" y="41"/>
                </a:lnTo>
                <a:lnTo>
                  <a:pt x="7" y="34"/>
                </a:lnTo>
                <a:lnTo>
                  <a:pt x="7" y="21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0" name=""/>
          <p:cNvSpPr/>
          <p:nvPr/>
        </p:nvSpPr>
        <p:spPr>
          <a:xfrm>
            <a:off x="5075280" y="3754440"/>
            <a:ext cx="54000" cy="173160"/>
          </a:xfrm>
          <a:custGeom>
            <a:avLst/>
            <a:gdLst/>
            <a:ahLst/>
            <a:rect l="l" t="t" r="r" b="b"/>
            <a:pathLst>
              <a:path w="34" h="109">
                <a:moveTo>
                  <a:pt x="27" y="103"/>
                </a:moveTo>
                <a:lnTo>
                  <a:pt x="27" y="96"/>
                </a:lnTo>
                <a:lnTo>
                  <a:pt x="34" y="89"/>
                </a:lnTo>
                <a:lnTo>
                  <a:pt x="34" y="82"/>
                </a:lnTo>
                <a:lnTo>
                  <a:pt x="34" y="75"/>
                </a:lnTo>
                <a:lnTo>
                  <a:pt x="34" y="68"/>
                </a:lnTo>
                <a:lnTo>
                  <a:pt x="34" y="62"/>
                </a:lnTo>
                <a:lnTo>
                  <a:pt x="27" y="55"/>
                </a:lnTo>
                <a:lnTo>
                  <a:pt x="27" y="48"/>
                </a:lnTo>
                <a:lnTo>
                  <a:pt x="27" y="41"/>
                </a:lnTo>
                <a:lnTo>
                  <a:pt x="27" y="34"/>
                </a:lnTo>
                <a:lnTo>
                  <a:pt x="20" y="27"/>
                </a:lnTo>
                <a:lnTo>
                  <a:pt x="20" y="20"/>
                </a:lnTo>
                <a:lnTo>
                  <a:pt x="20" y="14"/>
                </a:lnTo>
                <a:lnTo>
                  <a:pt x="20" y="7"/>
                </a:lnTo>
                <a:lnTo>
                  <a:pt x="20" y="0"/>
                </a:lnTo>
                <a:lnTo>
                  <a:pt x="20" y="7"/>
                </a:lnTo>
                <a:lnTo>
                  <a:pt x="13" y="14"/>
                </a:lnTo>
                <a:lnTo>
                  <a:pt x="13" y="20"/>
                </a:lnTo>
                <a:lnTo>
                  <a:pt x="13" y="27"/>
                </a:lnTo>
                <a:lnTo>
                  <a:pt x="13" y="34"/>
                </a:lnTo>
                <a:lnTo>
                  <a:pt x="7" y="41"/>
                </a:lnTo>
                <a:lnTo>
                  <a:pt x="7" y="48"/>
                </a:lnTo>
                <a:lnTo>
                  <a:pt x="7" y="55"/>
                </a:lnTo>
                <a:lnTo>
                  <a:pt x="0" y="62"/>
                </a:lnTo>
                <a:lnTo>
                  <a:pt x="0" y="68"/>
                </a:lnTo>
                <a:lnTo>
                  <a:pt x="0" y="75"/>
                </a:lnTo>
                <a:lnTo>
                  <a:pt x="0" y="82"/>
                </a:lnTo>
                <a:lnTo>
                  <a:pt x="0" y="89"/>
                </a:lnTo>
                <a:lnTo>
                  <a:pt x="0" y="96"/>
                </a:lnTo>
                <a:lnTo>
                  <a:pt x="7" y="103"/>
                </a:lnTo>
                <a:lnTo>
                  <a:pt x="20" y="109"/>
                </a:lnTo>
                <a:lnTo>
                  <a:pt x="27" y="103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1" name=""/>
          <p:cNvSpPr/>
          <p:nvPr/>
        </p:nvSpPr>
        <p:spPr>
          <a:xfrm>
            <a:off x="3125880" y="2624040"/>
            <a:ext cx="1503360" cy="1206720"/>
          </a:xfrm>
          <a:custGeom>
            <a:avLst/>
            <a:gdLst/>
            <a:ahLst/>
            <a:rect l="l" t="t" r="r" b="b"/>
            <a:pathLst>
              <a:path w="947" h="760">
                <a:moveTo>
                  <a:pt x="0" y="760"/>
                </a:moveTo>
                <a:lnTo>
                  <a:pt x="14" y="753"/>
                </a:lnTo>
                <a:lnTo>
                  <a:pt x="21" y="753"/>
                </a:lnTo>
                <a:lnTo>
                  <a:pt x="28" y="746"/>
                </a:lnTo>
                <a:lnTo>
                  <a:pt x="35" y="739"/>
                </a:lnTo>
                <a:lnTo>
                  <a:pt x="35" y="739"/>
                </a:lnTo>
                <a:lnTo>
                  <a:pt x="42" y="732"/>
                </a:lnTo>
                <a:lnTo>
                  <a:pt x="48" y="726"/>
                </a:lnTo>
                <a:lnTo>
                  <a:pt x="55" y="726"/>
                </a:lnTo>
                <a:lnTo>
                  <a:pt x="62" y="719"/>
                </a:lnTo>
                <a:lnTo>
                  <a:pt x="69" y="719"/>
                </a:lnTo>
                <a:lnTo>
                  <a:pt x="76" y="712"/>
                </a:lnTo>
                <a:lnTo>
                  <a:pt x="76" y="705"/>
                </a:lnTo>
                <a:lnTo>
                  <a:pt x="83" y="705"/>
                </a:lnTo>
                <a:lnTo>
                  <a:pt x="90" y="698"/>
                </a:lnTo>
                <a:lnTo>
                  <a:pt x="90" y="691"/>
                </a:lnTo>
                <a:lnTo>
                  <a:pt x="96" y="685"/>
                </a:lnTo>
                <a:lnTo>
                  <a:pt x="103" y="685"/>
                </a:lnTo>
                <a:lnTo>
                  <a:pt x="103" y="678"/>
                </a:lnTo>
                <a:lnTo>
                  <a:pt x="110" y="671"/>
                </a:lnTo>
                <a:lnTo>
                  <a:pt x="110" y="664"/>
                </a:lnTo>
                <a:lnTo>
                  <a:pt x="117" y="664"/>
                </a:lnTo>
                <a:lnTo>
                  <a:pt x="117" y="657"/>
                </a:lnTo>
                <a:lnTo>
                  <a:pt x="124" y="650"/>
                </a:lnTo>
                <a:lnTo>
                  <a:pt x="138" y="650"/>
                </a:lnTo>
                <a:lnTo>
                  <a:pt x="144" y="650"/>
                </a:lnTo>
                <a:lnTo>
                  <a:pt x="151" y="650"/>
                </a:lnTo>
                <a:lnTo>
                  <a:pt x="158" y="657"/>
                </a:lnTo>
                <a:lnTo>
                  <a:pt x="158" y="664"/>
                </a:lnTo>
                <a:lnTo>
                  <a:pt x="165" y="671"/>
                </a:lnTo>
                <a:lnTo>
                  <a:pt x="165" y="678"/>
                </a:lnTo>
                <a:lnTo>
                  <a:pt x="165" y="678"/>
                </a:lnTo>
                <a:lnTo>
                  <a:pt x="172" y="685"/>
                </a:lnTo>
                <a:lnTo>
                  <a:pt x="172" y="691"/>
                </a:lnTo>
                <a:lnTo>
                  <a:pt x="172" y="698"/>
                </a:lnTo>
                <a:lnTo>
                  <a:pt x="179" y="705"/>
                </a:lnTo>
                <a:lnTo>
                  <a:pt x="186" y="705"/>
                </a:lnTo>
                <a:lnTo>
                  <a:pt x="192" y="698"/>
                </a:lnTo>
                <a:lnTo>
                  <a:pt x="199" y="698"/>
                </a:lnTo>
                <a:lnTo>
                  <a:pt x="206" y="691"/>
                </a:lnTo>
                <a:lnTo>
                  <a:pt x="213" y="691"/>
                </a:lnTo>
                <a:lnTo>
                  <a:pt x="213" y="685"/>
                </a:lnTo>
                <a:lnTo>
                  <a:pt x="220" y="678"/>
                </a:lnTo>
                <a:lnTo>
                  <a:pt x="220" y="671"/>
                </a:lnTo>
                <a:lnTo>
                  <a:pt x="220" y="664"/>
                </a:lnTo>
                <a:lnTo>
                  <a:pt x="220" y="657"/>
                </a:lnTo>
                <a:lnTo>
                  <a:pt x="220" y="650"/>
                </a:lnTo>
                <a:lnTo>
                  <a:pt x="220" y="650"/>
                </a:lnTo>
                <a:lnTo>
                  <a:pt x="220" y="643"/>
                </a:lnTo>
                <a:lnTo>
                  <a:pt x="220" y="637"/>
                </a:lnTo>
                <a:lnTo>
                  <a:pt x="220" y="630"/>
                </a:lnTo>
                <a:lnTo>
                  <a:pt x="220" y="623"/>
                </a:lnTo>
                <a:lnTo>
                  <a:pt x="220" y="616"/>
                </a:lnTo>
                <a:lnTo>
                  <a:pt x="220" y="616"/>
                </a:lnTo>
                <a:lnTo>
                  <a:pt x="220" y="609"/>
                </a:lnTo>
                <a:lnTo>
                  <a:pt x="227" y="602"/>
                </a:lnTo>
                <a:lnTo>
                  <a:pt x="227" y="596"/>
                </a:lnTo>
                <a:lnTo>
                  <a:pt x="234" y="589"/>
                </a:lnTo>
                <a:lnTo>
                  <a:pt x="234" y="589"/>
                </a:lnTo>
                <a:lnTo>
                  <a:pt x="240" y="582"/>
                </a:lnTo>
                <a:lnTo>
                  <a:pt x="240" y="575"/>
                </a:lnTo>
                <a:lnTo>
                  <a:pt x="240" y="568"/>
                </a:lnTo>
                <a:lnTo>
                  <a:pt x="240" y="561"/>
                </a:lnTo>
                <a:lnTo>
                  <a:pt x="240" y="555"/>
                </a:lnTo>
                <a:lnTo>
                  <a:pt x="240" y="555"/>
                </a:lnTo>
                <a:lnTo>
                  <a:pt x="234" y="548"/>
                </a:lnTo>
                <a:lnTo>
                  <a:pt x="234" y="541"/>
                </a:lnTo>
                <a:lnTo>
                  <a:pt x="234" y="534"/>
                </a:lnTo>
                <a:lnTo>
                  <a:pt x="234" y="527"/>
                </a:lnTo>
                <a:lnTo>
                  <a:pt x="227" y="520"/>
                </a:lnTo>
                <a:lnTo>
                  <a:pt x="227" y="513"/>
                </a:lnTo>
                <a:lnTo>
                  <a:pt x="227" y="513"/>
                </a:lnTo>
                <a:lnTo>
                  <a:pt x="227" y="507"/>
                </a:lnTo>
                <a:lnTo>
                  <a:pt x="234" y="500"/>
                </a:lnTo>
                <a:lnTo>
                  <a:pt x="240" y="500"/>
                </a:lnTo>
                <a:lnTo>
                  <a:pt x="247" y="493"/>
                </a:lnTo>
                <a:lnTo>
                  <a:pt x="254" y="486"/>
                </a:lnTo>
                <a:lnTo>
                  <a:pt x="254" y="486"/>
                </a:lnTo>
                <a:lnTo>
                  <a:pt x="261" y="479"/>
                </a:lnTo>
                <a:lnTo>
                  <a:pt x="261" y="472"/>
                </a:lnTo>
                <a:lnTo>
                  <a:pt x="261" y="466"/>
                </a:lnTo>
                <a:lnTo>
                  <a:pt x="261" y="459"/>
                </a:lnTo>
                <a:lnTo>
                  <a:pt x="268" y="452"/>
                </a:lnTo>
                <a:lnTo>
                  <a:pt x="275" y="452"/>
                </a:lnTo>
                <a:lnTo>
                  <a:pt x="288" y="445"/>
                </a:lnTo>
                <a:lnTo>
                  <a:pt x="288" y="445"/>
                </a:lnTo>
                <a:lnTo>
                  <a:pt x="295" y="438"/>
                </a:lnTo>
                <a:lnTo>
                  <a:pt x="302" y="431"/>
                </a:lnTo>
                <a:lnTo>
                  <a:pt x="309" y="431"/>
                </a:lnTo>
                <a:lnTo>
                  <a:pt x="316" y="425"/>
                </a:lnTo>
                <a:lnTo>
                  <a:pt x="323" y="425"/>
                </a:lnTo>
                <a:lnTo>
                  <a:pt x="323" y="418"/>
                </a:lnTo>
                <a:lnTo>
                  <a:pt x="330" y="411"/>
                </a:lnTo>
                <a:lnTo>
                  <a:pt x="336" y="411"/>
                </a:lnTo>
                <a:lnTo>
                  <a:pt x="343" y="404"/>
                </a:lnTo>
                <a:lnTo>
                  <a:pt x="350" y="397"/>
                </a:lnTo>
                <a:lnTo>
                  <a:pt x="357" y="397"/>
                </a:lnTo>
                <a:lnTo>
                  <a:pt x="364" y="390"/>
                </a:lnTo>
                <a:lnTo>
                  <a:pt x="364" y="383"/>
                </a:lnTo>
                <a:lnTo>
                  <a:pt x="371" y="383"/>
                </a:lnTo>
                <a:lnTo>
                  <a:pt x="378" y="377"/>
                </a:lnTo>
                <a:lnTo>
                  <a:pt x="384" y="377"/>
                </a:lnTo>
                <a:lnTo>
                  <a:pt x="391" y="370"/>
                </a:lnTo>
                <a:lnTo>
                  <a:pt x="398" y="363"/>
                </a:lnTo>
                <a:lnTo>
                  <a:pt x="398" y="363"/>
                </a:lnTo>
                <a:lnTo>
                  <a:pt x="405" y="356"/>
                </a:lnTo>
                <a:lnTo>
                  <a:pt x="412" y="349"/>
                </a:lnTo>
                <a:lnTo>
                  <a:pt x="419" y="349"/>
                </a:lnTo>
                <a:lnTo>
                  <a:pt x="426" y="342"/>
                </a:lnTo>
                <a:lnTo>
                  <a:pt x="426" y="336"/>
                </a:lnTo>
                <a:lnTo>
                  <a:pt x="432" y="336"/>
                </a:lnTo>
                <a:lnTo>
                  <a:pt x="439" y="329"/>
                </a:lnTo>
                <a:lnTo>
                  <a:pt x="446" y="322"/>
                </a:lnTo>
                <a:lnTo>
                  <a:pt x="453" y="322"/>
                </a:lnTo>
                <a:lnTo>
                  <a:pt x="460" y="315"/>
                </a:lnTo>
                <a:lnTo>
                  <a:pt x="460" y="308"/>
                </a:lnTo>
                <a:lnTo>
                  <a:pt x="467" y="308"/>
                </a:lnTo>
                <a:lnTo>
                  <a:pt x="480" y="301"/>
                </a:lnTo>
                <a:lnTo>
                  <a:pt x="487" y="301"/>
                </a:lnTo>
                <a:lnTo>
                  <a:pt x="494" y="301"/>
                </a:lnTo>
                <a:lnTo>
                  <a:pt x="501" y="295"/>
                </a:lnTo>
                <a:lnTo>
                  <a:pt x="508" y="295"/>
                </a:lnTo>
                <a:lnTo>
                  <a:pt x="515" y="288"/>
                </a:lnTo>
                <a:lnTo>
                  <a:pt x="522" y="288"/>
                </a:lnTo>
                <a:lnTo>
                  <a:pt x="528" y="281"/>
                </a:lnTo>
                <a:lnTo>
                  <a:pt x="535" y="274"/>
                </a:lnTo>
                <a:lnTo>
                  <a:pt x="542" y="274"/>
                </a:lnTo>
                <a:lnTo>
                  <a:pt x="542" y="267"/>
                </a:lnTo>
                <a:lnTo>
                  <a:pt x="549" y="260"/>
                </a:lnTo>
                <a:lnTo>
                  <a:pt x="556" y="260"/>
                </a:lnTo>
                <a:lnTo>
                  <a:pt x="563" y="253"/>
                </a:lnTo>
                <a:lnTo>
                  <a:pt x="570" y="247"/>
                </a:lnTo>
                <a:lnTo>
                  <a:pt x="570" y="247"/>
                </a:lnTo>
                <a:lnTo>
                  <a:pt x="576" y="240"/>
                </a:lnTo>
                <a:lnTo>
                  <a:pt x="583" y="233"/>
                </a:lnTo>
                <a:lnTo>
                  <a:pt x="590" y="233"/>
                </a:lnTo>
                <a:lnTo>
                  <a:pt x="590" y="226"/>
                </a:lnTo>
                <a:lnTo>
                  <a:pt x="597" y="219"/>
                </a:lnTo>
                <a:lnTo>
                  <a:pt x="604" y="212"/>
                </a:lnTo>
                <a:lnTo>
                  <a:pt x="611" y="212"/>
                </a:lnTo>
                <a:lnTo>
                  <a:pt x="618" y="206"/>
                </a:lnTo>
                <a:lnTo>
                  <a:pt x="618" y="199"/>
                </a:lnTo>
                <a:lnTo>
                  <a:pt x="624" y="199"/>
                </a:lnTo>
                <a:lnTo>
                  <a:pt x="624" y="192"/>
                </a:lnTo>
                <a:lnTo>
                  <a:pt x="631" y="185"/>
                </a:lnTo>
                <a:lnTo>
                  <a:pt x="631" y="178"/>
                </a:lnTo>
                <a:lnTo>
                  <a:pt x="631" y="171"/>
                </a:lnTo>
                <a:lnTo>
                  <a:pt x="631" y="165"/>
                </a:lnTo>
                <a:lnTo>
                  <a:pt x="638" y="165"/>
                </a:lnTo>
                <a:lnTo>
                  <a:pt x="645" y="158"/>
                </a:lnTo>
                <a:lnTo>
                  <a:pt x="652" y="158"/>
                </a:lnTo>
                <a:lnTo>
                  <a:pt x="659" y="158"/>
                </a:lnTo>
                <a:lnTo>
                  <a:pt x="672" y="158"/>
                </a:lnTo>
                <a:lnTo>
                  <a:pt x="679" y="151"/>
                </a:lnTo>
                <a:lnTo>
                  <a:pt x="686" y="151"/>
                </a:lnTo>
                <a:lnTo>
                  <a:pt x="693" y="151"/>
                </a:lnTo>
                <a:lnTo>
                  <a:pt x="707" y="144"/>
                </a:lnTo>
                <a:lnTo>
                  <a:pt x="713" y="144"/>
                </a:lnTo>
                <a:lnTo>
                  <a:pt x="720" y="137"/>
                </a:lnTo>
                <a:lnTo>
                  <a:pt x="727" y="137"/>
                </a:lnTo>
                <a:lnTo>
                  <a:pt x="734" y="130"/>
                </a:lnTo>
                <a:lnTo>
                  <a:pt x="741" y="130"/>
                </a:lnTo>
                <a:lnTo>
                  <a:pt x="748" y="130"/>
                </a:lnTo>
                <a:lnTo>
                  <a:pt x="755" y="123"/>
                </a:lnTo>
                <a:lnTo>
                  <a:pt x="768" y="123"/>
                </a:lnTo>
                <a:lnTo>
                  <a:pt x="775" y="123"/>
                </a:lnTo>
                <a:lnTo>
                  <a:pt x="782" y="123"/>
                </a:lnTo>
                <a:lnTo>
                  <a:pt x="796" y="123"/>
                </a:lnTo>
                <a:lnTo>
                  <a:pt x="803" y="117"/>
                </a:lnTo>
                <a:lnTo>
                  <a:pt x="809" y="117"/>
                </a:lnTo>
                <a:lnTo>
                  <a:pt x="816" y="110"/>
                </a:lnTo>
                <a:lnTo>
                  <a:pt x="816" y="103"/>
                </a:lnTo>
                <a:lnTo>
                  <a:pt x="823" y="103"/>
                </a:lnTo>
                <a:lnTo>
                  <a:pt x="830" y="96"/>
                </a:lnTo>
                <a:lnTo>
                  <a:pt x="844" y="96"/>
                </a:lnTo>
                <a:lnTo>
                  <a:pt x="851" y="96"/>
                </a:lnTo>
                <a:lnTo>
                  <a:pt x="857" y="89"/>
                </a:lnTo>
                <a:lnTo>
                  <a:pt x="864" y="89"/>
                </a:lnTo>
                <a:lnTo>
                  <a:pt x="878" y="89"/>
                </a:lnTo>
                <a:lnTo>
                  <a:pt x="885" y="82"/>
                </a:lnTo>
                <a:lnTo>
                  <a:pt x="885" y="82"/>
                </a:lnTo>
                <a:lnTo>
                  <a:pt x="892" y="76"/>
                </a:lnTo>
                <a:lnTo>
                  <a:pt x="899" y="69"/>
                </a:lnTo>
                <a:lnTo>
                  <a:pt x="905" y="69"/>
                </a:lnTo>
                <a:lnTo>
                  <a:pt x="912" y="62"/>
                </a:lnTo>
                <a:lnTo>
                  <a:pt x="919" y="62"/>
                </a:lnTo>
                <a:lnTo>
                  <a:pt x="919" y="55"/>
                </a:lnTo>
                <a:lnTo>
                  <a:pt x="926" y="48"/>
                </a:lnTo>
                <a:lnTo>
                  <a:pt x="933" y="41"/>
                </a:lnTo>
                <a:lnTo>
                  <a:pt x="940" y="41"/>
                </a:lnTo>
                <a:lnTo>
                  <a:pt x="947" y="34"/>
                </a:lnTo>
                <a:lnTo>
                  <a:pt x="947" y="28"/>
                </a:lnTo>
                <a:lnTo>
                  <a:pt x="940" y="28"/>
                </a:lnTo>
                <a:lnTo>
                  <a:pt x="933" y="21"/>
                </a:lnTo>
                <a:lnTo>
                  <a:pt x="926" y="14"/>
                </a:lnTo>
                <a:lnTo>
                  <a:pt x="919" y="7"/>
                </a:lnTo>
                <a:lnTo>
                  <a:pt x="919" y="7"/>
                </a:lnTo>
                <a:lnTo>
                  <a:pt x="912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2" name=""/>
          <p:cNvSpPr/>
          <p:nvPr/>
        </p:nvSpPr>
        <p:spPr>
          <a:xfrm>
            <a:off x="2614680" y="3081240"/>
            <a:ext cx="479520" cy="478080"/>
          </a:xfrm>
          <a:custGeom>
            <a:avLst/>
            <a:gdLst/>
            <a:ahLst/>
            <a:rect l="l" t="t" r="r" b="b"/>
            <a:pathLst>
              <a:path w="302" h="301">
                <a:moveTo>
                  <a:pt x="295" y="0"/>
                </a:moveTo>
                <a:lnTo>
                  <a:pt x="302" y="7"/>
                </a:lnTo>
                <a:lnTo>
                  <a:pt x="295" y="13"/>
                </a:lnTo>
                <a:lnTo>
                  <a:pt x="288" y="13"/>
                </a:lnTo>
                <a:lnTo>
                  <a:pt x="288" y="20"/>
                </a:lnTo>
                <a:lnTo>
                  <a:pt x="281" y="27"/>
                </a:lnTo>
                <a:lnTo>
                  <a:pt x="281" y="34"/>
                </a:lnTo>
                <a:lnTo>
                  <a:pt x="274" y="34"/>
                </a:lnTo>
                <a:lnTo>
                  <a:pt x="268" y="41"/>
                </a:lnTo>
                <a:lnTo>
                  <a:pt x="268" y="48"/>
                </a:lnTo>
                <a:lnTo>
                  <a:pt x="261" y="48"/>
                </a:lnTo>
                <a:lnTo>
                  <a:pt x="261" y="54"/>
                </a:lnTo>
                <a:lnTo>
                  <a:pt x="254" y="61"/>
                </a:lnTo>
                <a:lnTo>
                  <a:pt x="247" y="68"/>
                </a:lnTo>
                <a:lnTo>
                  <a:pt x="247" y="68"/>
                </a:lnTo>
                <a:lnTo>
                  <a:pt x="240" y="75"/>
                </a:lnTo>
                <a:lnTo>
                  <a:pt x="233" y="82"/>
                </a:lnTo>
                <a:lnTo>
                  <a:pt x="233" y="82"/>
                </a:lnTo>
                <a:lnTo>
                  <a:pt x="226" y="89"/>
                </a:lnTo>
                <a:lnTo>
                  <a:pt x="226" y="95"/>
                </a:lnTo>
                <a:lnTo>
                  <a:pt x="220" y="95"/>
                </a:lnTo>
                <a:lnTo>
                  <a:pt x="220" y="102"/>
                </a:lnTo>
                <a:lnTo>
                  <a:pt x="213" y="109"/>
                </a:lnTo>
                <a:lnTo>
                  <a:pt x="206" y="116"/>
                </a:lnTo>
                <a:lnTo>
                  <a:pt x="206" y="116"/>
                </a:lnTo>
                <a:lnTo>
                  <a:pt x="199" y="123"/>
                </a:lnTo>
                <a:lnTo>
                  <a:pt x="199" y="130"/>
                </a:lnTo>
                <a:lnTo>
                  <a:pt x="192" y="130"/>
                </a:lnTo>
                <a:lnTo>
                  <a:pt x="185" y="137"/>
                </a:lnTo>
                <a:lnTo>
                  <a:pt x="185" y="143"/>
                </a:lnTo>
                <a:lnTo>
                  <a:pt x="179" y="150"/>
                </a:lnTo>
                <a:lnTo>
                  <a:pt x="179" y="150"/>
                </a:lnTo>
                <a:lnTo>
                  <a:pt x="172" y="157"/>
                </a:lnTo>
                <a:lnTo>
                  <a:pt x="172" y="164"/>
                </a:lnTo>
                <a:lnTo>
                  <a:pt x="165" y="171"/>
                </a:lnTo>
                <a:lnTo>
                  <a:pt x="158" y="171"/>
                </a:lnTo>
                <a:lnTo>
                  <a:pt x="151" y="178"/>
                </a:lnTo>
                <a:lnTo>
                  <a:pt x="151" y="178"/>
                </a:lnTo>
                <a:lnTo>
                  <a:pt x="144" y="184"/>
                </a:lnTo>
                <a:lnTo>
                  <a:pt x="137" y="191"/>
                </a:lnTo>
                <a:lnTo>
                  <a:pt x="137" y="191"/>
                </a:lnTo>
                <a:lnTo>
                  <a:pt x="131" y="198"/>
                </a:lnTo>
                <a:lnTo>
                  <a:pt x="131" y="205"/>
                </a:lnTo>
                <a:lnTo>
                  <a:pt x="131" y="212"/>
                </a:lnTo>
                <a:lnTo>
                  <a:pt x="131" y="219"/>
                </a:lnTo>
                <a:lnTo>
                  <a:pt x="131" y="225"/>
                </a:lnTo>
                <a:lnTo>
                  <a:pt x="131" y="232"/>
                </a:lnTo>
                <a:lnTo>
                  <a:pt x="131" y="232"/>
                </a:lnTo>
                <a:lnTo>
                  <a:pt x="124" y="239"/>
                </a:lnTo>
                <a:lnTo>
                  <a:pt x="117" y="239"/>
                </a:lnTo>
                <a:lnTo>
                  <a:pt x="110" y="246"/>
                </a:lnTo>
                <a:lnTo>
                  <a:pt x="110" y="253"/>
                </a:lnTo>
                <a:lnTo>
                  <a:pt x="110" y="260"/>
                </a:lnTo>
                <a:lnTo>
                  <a:pt x="110" y="267"/>
                </a:lnTo>
                <a:lnTo>
                  <a:pt x="103" y="267"/>
                </a:lnTo>
                <a:lnTo>
                  <a:pt x="103" y="273"/>
                </a:lnTo>
                <a:lnTo>
                  <a:pt x="103" y="280"/>
                </a:lnTo>
                <a:lnTo>
                  <a:pt x="103" y="287"/>
                </a:lnTo>
                <a:lnTo>
                  <a:pt x="103" y="294"/>
                </a:lnTo>
                <a:lnTo>
                  <a:pt x="96" y="301"/>
                </a:lnTo>
                <a:lnTo>
                  <a:pt x="89" y="301"/>
                </a:lnTo>
                <a:lnTo>
                  <a:pt x="89" y="294"/>
                </a:lnTo>
                <a:lnTo>
                  <a:pt x="83" y="294"/>
                </a:lnTo>
                <a:lnTo>
                  <a:pt x="76" y="287"/>
                </a:lnTo>
                <a:lnTo>
                  <a:pt x="76" y="280"/>
                </a:lnTo>
                <a:lnTo>
                  <a:pt x="69" y="273"/>
                </a:lnTo>
                <a:lnTo>
                  <a:pt x="62" y="273"/>
                </a:lnTo>
                <a:lnTo>
                  <a:pt x="55" y="267"/>
                </a:lnTo>
                <a:lnTo>
                  <a:pt x="48" y="267"/>
                </a:lnTo>
                <a:lnTo>
                  <a:pt x="41" y="267"/>
                </a:lnTo>
                <a:lnTo>
                  <a:pt x="35" y="267"/>
                </a:lnTo>
                <a:lnTo>
                  <a:pt x="21" y="267"/>
                </a:lnTo>
                <a:lnTo>
                  <a:pt x="14" y="267"/>
                </a:lnTo>
                <a:lnTo>
                  <a:pt x="7" y="267"/>
                </a:lnTo>
                <a:lnTo>
                  <a:pt x="0" y="260"/>
                </a:lnTo>
                <a:lnTo>
                  <a:pt x="0" y="260"/>
                </a:lnTo>
                <a:lnTo>
                  <a:pt x="0" y="253"/>
                </a:lnTo>
                <a:lnTo>
                  <a:pt x="0" y="246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3" name=""/>
          <p:cNvSpPr/>
          <p:nvPr/>
        </p:nvSpPr>
        <p:spPr>
          <a:xfrm>
            <a:off x="2484360" y="3537000"/>
            <a:ext cx="11160" cy="11160"/>
          </a:xfrm>
          <a:custGeom>
            <a:avLst/>
            <a:gdLst/>
            <a:ahLst/>
            <a:rect l="l" t="t" r="r" b="b"/>
            <a:pathLst>
              <a:path w="7" h="7">
                <a:moveTo>
                  <a:pt x="7" y="0"/>
                </a:moveTo>
                <a:lnTo>
                  <a:pt x="7" y="0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4" name=""/>
          <p:cNvSpPr/>
          <p:nvPr/>
        </p:nvSpPr>
        <p:spPr>
          <a:xfrm>
            <a:off x="2484360" y="3613320"/>
            <a:ext cx="641520" cy="217440"/>
          </a:xfrm>
          <a:custGeom>
            <a:avLst/>
            <a:gdLst/>
            <a:ahLst/>
            <a:rect l="l" t="t" r="r" b="b"/>
            <a:pathLst>
              <a:path w="404" h="137">
                <a:moveTo>
                  <a:pt x="0" y="34"/>
                </a:moveTo>
                <a:lnTo>
                  <a:pt x="7" y="27"/>
                </a:lnTo>
                <a:lnTo>
                  <a:pt x="14" y="20"/>
                </a:lnTo>
                <a:lnTo>
                  <a:pt x="14" y="20"/>
                </a:lnTo>
                <a:lnTo>
                  <a:pt x="21" y="14"/>
                </a:lnTo>
                <a:lnTo>
                  <a:pt x="27" y="7"/>
                </a:lnTo>
                <a:lnTo>
                  <a:pt x="27" y="0"/>
                </a:lnTo>
                <a:lnTo>
                  <a:pt x="34" y="0"/>
                </a:lnTo>
                <a:lnTo>
                  <a:pt x="41" y="7"/>
                </a:lnTo>
                <a:lnTo>
                  <a:pt x="48" y="14"/>
                </a:lnTo>
                <a:lnTo>
                  <a:pt x="55" y="20"/>
                </a:lnTo>
                <a:lnTo>
                  <a:pt x="55" y="27"/>
                </a:lnTo>
                <a:lnTo>
                  <a:pt x="55" y="34"/>
                </a:lnTo>
                <a:lnTo>
                  <a:pt x="55" y="41"/>
                </a:lnTo>
                <a:lnTo>
                  <a:pt x="62" y="41"/>
                </a:lnTo>
                <a:lnTo>
                  <a:pt x="62" y="41"/>
                </a:lnTo>
                <a:lnTo>
                  <a:pt x="75" y="41"/>
                </a:lnTo>
                <a:lnTo>
                  <a:pt x="82" y="41"/>
                </a:lnTo>
                <a:lnTo>
                  <a:pt x="89" y="34"/>
                </a:lnTo>
                <a:lnTo>
                  <a:pt x="103" y="34"/>
                </a:lnTo>
                <a:lnTo>
                  <a:pt x="110" y="34"/>
                </a:lnTo>
                <a:lnTo>
                  <a:pt x="117" y="34"/>
                </a:lnTo>
                <a:lnTo>
                  <a:pt x="123" y="34"/>
                </a:lnTo>
                <a:lnTo>
                  <a:pt x="123" y="41"/>
                </a:lnTo>
                <a:lnTo>
                  <a:pt x="123" y="48"/>
                </a:lnTo>
                <a:lnTo>
                  <a:pt x="123" y="55"/>
                </a:lnTo>
                <a:lnTo>
                  <a:pt x="123" y="62"/>
                </a:lnTo>
                <a:lnTo>
                  <a:pt x="117" y="68"/>
                </a:lnTo>
                <a:lnTo>
                  <a:pt x="110" y="68"/>
                </a:lnTo>
                <a:lnTo>
                  <a:pt x="103" y="68"/>
                </a:lnTo>
                <a:lnTo>
                  <a:pt x="96" y="68"/>
                </a:lnTo>
                <a:lnTo>
                  <a:pt x="82" y="68"/>
                </a:lnTo>
                <a:lnTo>
                  <a:pt x="69" y="68"/>
                </a:lnTo>
                <a:lnTo>
                  <a:pt x="62" y="75"/>
                </a:lnTo>
                <a:lnTo>
                  <a:pt x="62" y="75"/>
                </a:lnTo>
                <a:lnTo>
                  <a:pt x="62" y="75"/>
                </a:lnTo>
                <a:lnTo>
                  <a:pt x="75" y="82"/>
                </a:lnTo>
                <a:lnTo>
                  <a:pt x="82" y="82"/>
                </a:lnTo>
                <a:lnTo>
                  <a:pt x="96" y="82"/>
                </a:lnTo>
                <a:lnTo>
                  <a:pt x="103" y="82"/>
                </a:lnTo>
                <a:lnTo>
                  <a:pt x="110" y="82"/>
                </a:lnTo>
                <a:lnTo>
                  <a:pt x="123" y="82"/>
                </a:lnTo>
                <a:lnTo>
                  <a:pt x="130" y="89"/>
                </a:lnTo>
                <a:lnTo>
                  <a:pt x="137" y="89"/>
                </a:lnTo>
                <a:lnTo>
                  <a:pt x="144" y="89"/>
                </a:lnTo>
                <a:lnTo>
                  <a:pt x="151" y="89"/>
                </a:lnTo>
                <a:lnTo>
                  <a:pt x="158" y="89"/>
                </a:lnTo>
                <a:lnTo>
                  <a:pt x="165" y="82"/>
                </a:lnTo>
                <a:lnTo>
                  <a:pt x="171" y="75"/>
                </a:lnTo>
                <a:lnTo>
                  <a:pt x="171" y="68"/>
                </a:lnTo>
                <a:lnTo>
                  <a:pt x="171" y="68"/>
                </a:lnTo>
                <a:lnTo>
                  <a:pt x="171" y="62"/>
                </a:lnTo>
                <a:lnTo>
                  <a:pt x="178" y="55"/>
                </a:lnTo>
                <a:lnTo>
                  <a:pt x="178" y="48"/>
                </a:lnTo>
                <a:lnTo>
                  <a:pt x="178" y="41"/>
                </a:lnTo>
                <a:lnTo>
                  <a:pt x="192" y="41"/>
                </a:lnTo>
                <a:lnTo>
                  <a:pt x="199" y="41"/>
                </a:lnTo>
                <a:lnTo>
                  <a:pt x="206" y="41"/>
                </a:lnTo>
                <a:lnTo>
                  <a:pt x="219" y="41"/>
                </a:lnTo>
                <a:lnTo>
                  <a:pt x="226" y="48"/>
                </a:lnTo>
                <a:lnTo>
                  <a:pt x="233" y="48"/>
                </a:lnTo>
                <a:lnTo>
                  <a:pt x="240" y="48"/>
                </a:lnTo>
                <a:lnTo>
                  <a:pt x="254" y="41"/>
                </a:lnTo>
                <a:lnTo>
                  <a:pt x="261" y="41"/>
                </a:lnTo>
                <a:lnTo>
                  <a:pt x="267" y="48"/>
                </a:lnTo>
                <a:lnTo>
                  <a:pt x="267" y="55"/>
                </a:lnTo>
                <a:lnTo>
                  <a:pt x="267" y="62"/>
                </a:lnTo>
                <a:lnTo>
                  <a:pt x="267" y="62"/>
                </a:lnTo>
                <a:lnTo>
                  <a:pt x="267" y="68"/>
                </a:lnTo>
                <a:lnTo>
                  <a:pt x="267" y="75"/>
                </a:lnTo>
                <a:lnTo>
                  <a:pt x="267" y="82"/>
                </a:lnTo>
                <a:lnTo>
                  <a:pt x="261" y="89"/>
                </a:lnTo>
                <a:lnTo>
                  <a:pt x="261" y="96"/>
                </a:lnTo>
                <a:lnTo>
                  <a:pt x="261" y="96"/>
                </a:lnTo>
                <a:lnTo>
                  <a:pt x="261" y="103"/>
                </a:lnTo>
                <a:lnTo>
                  <a:pt x="261" y="109"/>
                </a:lnTo>
                <a:lnTo>
                  <a:pt x="267" y="116"/>
                </a:lnTo>
                <a:lnTo>
                  <a:pt x="274" y="116"/>
                </a:lnTo>
                <a:lnTo>
                  <a:pt x="281" y="123"/>
                </a:lnTo>
                <a:lnTo>
                  <a:pt x="288" y="123"/>
                </a:lnTo>
                <a:lnTo>
                  <a:pt x="295" y="130"/>
                </a:lnTo>
                <a:lnTo>
                  <a:pt x="308" y="130"/>
                </a:lnTo>
                <a:lnTo>
                  <a:pt x="315" y="130"/>
                </a:lnTo>
                <a:lnTo>
                  <a:pt x="322" y="130"/>
                </a:lnTo>
                <a:lnTo>
                  <a:pt x="329" y="130"/>
                </a:lnTo>
                <a:lnTo>
                  <a:pt x="336" y="123"/>
                </a:lnTo>
                <a:lnTo>
                  <a:pt x="343" y="123"/>
                </a:lnTo>
                <a:lnTo>
                  <a:pt x="356" y="116"/>
                </a:lnTo>
                <a:lnTo>
                  <a:pt x="363" y="116"/>
                </a:lnTo>
                <a:lnTo>
                  <a:pt x="370" y="109"/>
                </a:lnTo>
                <a:lnTo>
                  <a:pt x="377" y="109"/>
                </a:lnTo>
                <a:lnTo>
                  <a:pt x="384" y="116"/>
                </a:lnTo>
                <a:lnTo>
                  <a:pt x="391" y="116"/>
                </a:lnTo>
                <a:lnTo>
                  <a:pt x="391" y="123"/>
                </a:lnTo>
                <a:lnTo>
                  <a:pt x="398" y="130"/>
                </a:lnTo>
                <a:lnTo>
                  <a:pt x="404" y="137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5" name=""/>
          <p:cNvSpPr/>
          <p:nvPr/>
        </p:nvSpPr>
        <p:spPr>
          <a:xfrm>
            <a:off x="4781520" y="3438360"/>
            <a:ext cx="304920" cy="358920"/>
          </a:xfrm>
          <a:custGeom>
            <a:avLst/>
            <a:gdLst/>
            <a:ahLst/>
            <a:rect l="l" t="t" r="r" b="b"/>
            <a:pathLst>
              <a:path w="192" h="226">
                <a:moveTo>
                  <a:pt x="41" y="213"/>
                </a:moveTo>
                <a:lnTo>
                  <a:pt x="54" y="213"/>
                </a:lnTo>
                <a:lnTo>
                  <a:pt x="61" y="213"/>
                </a:lnTo>
                <a:lnTo>
                  <a:pt x="68" y="213"/>
                </a:lnTo>
                <a:lnTo>
                  <a:pt x="82" y="213"/>
                </a:lnTo>
                <a:lnTo>
                  <a:pt x="89" y="213"/>
                </a:lnTo>
                <a:lnTo>
                  <a:pt x="102" y="213"/>
                </a:lnTo>
                <a:lnTo>
                  <a:pt x="109" y="213"/>
                </a:lnTo>
                <a:lnTo>
                  <a:pt x="116" y="206"/>
                </a:lnTo>
                <a:lnTo>
                  <a:pt x="123" y="199"/>
                </a:lnTo>
                <a:lnTo>
                  <a:pt x="123" y="199"/>
                </a:lnTo>
                <a:lnTo>
                  <a:pt x="123" y="192"/>
                </a:lnTo>
                <a:lnTo>
                  <a:pt x="123" y="185"/>
                </a:lnTo>
                <a:lnTo>
                  <a:pt x="130" y="178"/>
                </a:lnTo>
                <a:lnTo>
                  <a:pt x="130" y="172"/>
                </a:lnTo>
                <a:lnTo>
                  <a:pt x="130" y="165"/>
                </a:lnTo>
                <a:lnTo>
                  <a:pt x="130" y="158"/>
                </a:lnTo>
                <a:lnTo>
                  <a:pt x="130" y="151"/>
                </a:lnTo>
                <a:lnTo>
                  <a:pt x="130" y="144"/>
                </a:lnTo>
                <a:lnTo>
                  <a:pt x="130" y="137"/>
                </a:lnTo>
                <a:lnTo>
                  <a:pt x="137" y="130"/>
                </a:lnTo>
                <a:lnTo>
                  <a:pt x="137" y="124"/>
                </a:lnTo>
                <a:lnTo>
                  <a:pt x="137" y="124"/>
                </a:lnTo>
                <a:lnTo>
                  <a:pt x="144" y="117"/>
                </a:lnTo>
                <a:lnTo>
                  <a:pt x="144" y="110"/>
                </a:lnTo>
                <a:lnTo>
                  <a:pt x="150" y="103"/>
                </a:lnTo>
                <a:lnTo>
                  <a:pt x="157" y="96"/>
                </a:lnTo>
                <a:lnTo>
                  <a:pt x="157" y="89"/>
                </a:lnTo>
                <a:lnTo>
                  <a:pt x="164" y="83"/>
                </a:lnTo>
                <a:lnTo>
                  <a:pt x="164" y="83"/>
                </a:lnTo>
                <a:lnTo>
                  <a:pt x="164" y="76"/>
                </a:lnTo>
                <a:lnTo>
                  <a:pt x="171" y="69"/>
                </a:lnTo>
                <a:lnTo>
                  <a:pt x="171" y="62"/>
                </a:lnTo>
                <a:lnTo>
                  <a:pt x="171" y="55"/>
                </a:lnTo>
                <a:lnTo>
                  <a:pt x="178" y="48"/>
                </a:lnTo>
                <a:lnTo>
                  <a:pt x="178" y="42"/>
                </a:lnTo>
                <a:lnTo>
                  <a:pt x="185" y="35"/>
                </a:lnTo>
                <a:lnTo>
                  <a:pt x="192" y="35"/>
                </a:lnTo>
                <a:lnTo>
                  <a:pt x="192" y="28"/>
                </a:lnTo>
                <a:lnTo>
                  <a:pt x="192" y="21"/>
                </a:lnTo>
                <a:lnTo>
                  <a:pt x="192" y="14"/>
                </a:lnTo>
                <a:lnTo>
                  <a:pt x="192" y="7"/>
                </a:lnTo>
                <a:lnTo>
                  <a:pt x="185" y="0"/>
                </a:lnTo>
                <a:lnTo>
                  <a:pt x="178" y="0"/>
                </a:lnTo>
                <a:lnTo>
                  <a:pt x="164" y="0"/>
                </a:lnTo>
                <a:lnTo>
                  <a:pt x="157" y="0"/>
                </a:lnTo>
                <a:lnTo>
                  <a:pt x="150" y="7"/>
                </a:lnTo>
                <a:lnTo>
                  <a:pt x="144" y="7"/>
                </a:lnTo>
                <a:lnTo>
                  <a:pt x="130" y="14"/>
                </a:lnTo>
                <a:lnTo>
                  <a:pt x="123" y="14"/>
                </a:lnTo>
                <a:lnTo>
                  <a:pt x="123" y="21"/>
                </a:lnTo>
                <a:lnTo>
                  <a:pt x="116" y="28"/>
                </a:lnTo>
                <a:lnTo>
                  <a:pt x="109" y="35"/>
                </a:lnTo>
                <a:lnTo>
                  <a:pt x="102" y="35"/>
                </a:lnTo>
                <a:lnTo>
                  <a:pt x="96" y="42"/>
                </a:lnTo>
                <a:lnTo>
                  <a:pt x="96" y="48"/>
                </a:lnTo>
                <a:lnTo>
                  <a:pt x="89" y="55"/>
                </a:lnTo>
                <a:lnTo>
                  <a:pt x="89" y="62"/>
                </a:lnTo>
                <a:lnTo>
                  <a:pt x="82" y="69"/>
                </a:lnTo>
                <a:lnTo>
                  <a:pt x="82" y="69"/>
                </a:lnTo>
                <a:lnTo>
                  <a:pt x="82" y="76"/>
                </a:lnTo>
                <a:lnTo>
                  <a:pt x="75" y="83"/>
                </a:lnTo>
                <a:lnTo>
                  <a:pt x="68" y="89"/>
                </a:lnTo>
                <a:lnTo>
                  <a:pt x="61" y="96"/>
                </a:lnTo>
                <a:lnTo>
                  <a:pt x="54" y="96"/>
                </a:lnTo>
                <a:lnTo>
                  <a:pt x="41" y="96"/>
                </a:lnTo>
                <a:lnTo>
                  <a:pt x="34" y="96"/>
                </a:lnTo>
                <a:lnTo>
                  <a:pt x="27" y="103"/>
                </a:lnTo>
                <a:lnTo>
                  <a:pt x="27" y="103"/>
                </a:lnTo>
                <a:lnTo>
                  <a:pt x="20" y="110"/>
                </a:lnTo>
                <a:lnTo>
                  <a:pt x="20" y="117"/>
                </a:lnTo>
                <a:lnTo>
                  <a:pt x="20" y="124"/>
                </a:lnTo>
                <a:lnTo>
                  <a:pt x="13" y="130"/>
                </a:lnTo>
                <a:lnTo>
                  <a:pt x="13" y="137"/>
                </a:lnTo>
                <a:lnTo>
                  <a:pt x="13" y="144"/>
                </a:lnTo>
                <a:lnTo>
                  <a:pt x="13" y="151"/>
                </a:lnTo>
                <a:lnTo>
                  <a:pt x="13" y="158"/>
                </a:lnTo>
                <a:lnTo>
                  <a:pt x="20" y="165"/>
                </a:lnTo>
                <a:lnTo>
                  <a:pt x="20" y="172"/>
                </a:lnTo>
                <a:lnTo>
                  <a:pt x="20" y="172"/>
                </a:lnTo>
                <a:lnTo>
                  <a:pt x="13" y="178"/>
                </a:lnTo>
                <a:lnTo>
                  <a:pt x="13" y="185"/>
                </a:lnTo>
                <a:lnTo>
                  <a:pt x="6" y="192"/>
                </a:lnTo>
                <a:lnTo>
                  <a:pt x="6" y="199"/>
                </a:lnTo>
                <a:lnTo>
                  <a:pt x="0" y="206"/>
                </a:lnTo>
                <a:lnTo>
                  <a:pt x="0" y="213"/>
                </a:lnTo>
                <a:lnTo>
                  <a:pt x="0" y="219"/>
                </a:lnTo>
                <a:lnTo>
                  <a:pt x="0" y="226"/>
                </a:lnTo>
                <a:lnTo>
                  <a:pt x="6" y="226"/>
                </a:lnTo>
                <a:lnTo>
                  <a:pt x="13" y="226"/>
                </a:lnTo>
                <a:lnTo>
                  <a:pt x="27" y="219"/>
                </a:lnTo>
                <a:lnTo>
                  <a:pt x="34" y="219"/>
                </a:lnTo>
                <a:lnTo>
                  <a:pt x="41" y="213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6" name=""/>
          <p:cNvSpPr/>
          <p:nvPr/>
        </p:nvSpPr>
        <p:spPr>
          <a:xfrm>
            <a:off x="4324320" y="3591000"/>
            <a:ext cx="1440" cy="65160"/>
          </a:xfrm>
          <a:custGeom>
            <a:avLst/>
            <a:gdLst/>
            <a:ahLst/>
            <a:rect l="l" t="t" r="r" b="b"/>
            <a:pathLst>
              <a:path w="0" h="41">
                <a:moveTo>
                  <a:pt x="0" y="34"/>
                </a:moveTo>
                <a:lnTo>
                  <a:pt x="0" y="28"/>
                </a:lnTo>
                <a:lnTo>
                  <a:pt x="0" y="21"/>
                </a:lnTo>
                <a:lnTo>
                  <a:pt x="0" y="21"/>
                </a:lnTo>
                <a:lnTo>
                  <a:pt x="0" y="14"/>
                </a:lnTo>
                <a:lnTo>
                  <a:pt x="0" y="14"/>
                </a:lnTo>
                <a:lnTo>
                  <a:pt x="0" y="7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7"/>
                </a:lnTo>
                <a:lnTo>
                  <a:pt x="0" y="14"/>
                </a:lnTo>
                <a:lnTo>
                  <a:pt x="0" y="14"/>
                </a:lnTo>
                <a:lnTo>
                  <a:pt x="0" y="21"/>
                </a:lnTo>
                <a:lnTo>
                  <a:pt x="0" y="21"/>
                </a:lnTo>
                <a:lnTo>
                  <a:pt x="0" y="28"/>
                </a:lnTo>
                <a:lnTo>
                  <a:pt x="0" y="28"/>
                </a:lnTo>
                <a:lnTo>
                  <a:pt x="0" y="34"/>
                </a:lnTo>
                <a:lnTo>
                  <a:pt x="0" y="41"/>
                </a:lnTo>
                <a:lnTo>
                  <a:pt x="0" y="34"/>
                </a:lnTo>
                <a:lnTo>
                  <a:pt x="0" y="34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7" name=""/>
          <p:cNvSpPr/>
          <p:nvPr/>
        </p:nvSpPr>
        <p:spPr>
          <a:xfrm>
            <a:off x="4334040" y="3514680"/>
            <a:ext cx="44280" cy="44640"/>
          </a:xfrm>
          <a:custGeom>
            <a:avLst/>
            <a:gdLst/>
            <a:ahLst/>
            <a:rect l="l" t="t" r="r" b="b"/>
            <a:pathLst>
              <a:path w="28" h="28">
                <a:moveTo>
                  <a:pt x="28" y="21"/>
                </a:moveTo>
                <a:lnTo>
                  <a:pt x="28" y="14"/>
                </a:lnTo>
                <a:lnTo>
                  <a:pt x="28" y="7"/>
                </a:lnTo>
                <a:lnTo>
                  <a:pt x="28" y="0"/>
                </a:lnTo>
                <a:lnTo>
                  <a:pt x="21" y="0"/>
                </a:lnTo>
                <a:lnTo>
                  <a:pt x="21" y="0"/>
                </a:lnTo>
                <a:lnTo>
                  <a:pt x="14" y="0"/>
                </a:lnTo>
                <a:lnTo>
                  <a:pt x="7" y="7"/>
                </a:lnTo>
                <a:lnTo>
                  <a:pt x="0" y="14"/>
                </a:lnTo>
                <a:lnTo>
                  <a:pt x="0" y="21"/>
                </a:lnTo>
                <a:lnTo>
                  <a:pt x="7" y="28"/>
                </a:lnTo>
                <a:lnTo>
                  <a:pt x="14" y="28"/>
                </a:lnTo>
                <a:lnTo>
                  <a:pt x="21" y="28"/>
                </a:lnTo>
                <a:lnTo>
                  <a:pt x="28" y="28"/>
                </a:lnTo>
                <a:lnTo>
                  <a:pt x="28" y="21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8" name=""/>
          <p:cNvSpPr/>
          <p:nvPr/>
        </p:nvSpPr>
        <p:spPr>
          <a:xfrm>
            <a:off x="3627360" y="3449520"/>
            <a:ext cx="11160" cy="11160"/>
          </a:xfrm>
          <a:custGeom>
            <a:avLst/>
            <a:gdLst/>
            <a:ahLst/>
            <a:rect l="l" t="t" r="r" b="b"/>
            <a:pathLst>
              <a:path w="7" h="7">
                <a:moveTo>
                  <a:pt x="7" y="7"/>
                </a:move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9" name=""/>
          <p:cNvSpPr/>
          <p:nvPr/>
        </p:nvSpPr>
        <p:spPr>
          <a:xfrm>
            <a:off x="3954600" y="3417840"/>
            <a:ext cx="54000" cy="54000"/>
          </a:xfrm>
          <a:custGeom>
            <a:avLst/>
            <a:gdLst/>
            <a:ahLst/>
            <a:rect l="l" t="t" r="r" b="b"/>
            <a:pathLst>
              <a:path w="34" h="34">
                <a:moveTo>
                  <a:pt x="34" y="27"/>
                </a:moveTo>
                <a:lnTo>
                  <a:pt x="27" y="20"/>
                </a:lnTo>
                <a:lnTo>
                  <a:pt x="27" y="13"/>
                </a:lnTo>
                <a:lnTo>
                  <a:pt x="20" y="13"/>
                </a:lnTo>
                <a:lnTo>
                  <a:pt x="13" y="7"/>
                </a:lnTo>
                <a:lnTo>
                  <a:pt x="13" y="0"/>
                </a:lnTo>
                <a:lnTo>
                  <a:pt x="6" y="0"/>
                </a:lnTo>
                <a:lnTo>
                  <a:pt x="0" y="0"/>
                </a:lnTo>
                <a:lnTo>
                  <a:pt x="0" y="0"/>
                </a:lnTo>
                <a:lnTo>
                  <a:pt x="0" y="7"/>
                </a:lnTo>
                <a:lnTo>
                  <a:pt x="0" y="7"/>
                </a:lnTo>
                <a:lnTo>
                  <a:pt x="0" y="13"/>
                </a:lnTo>
                <a:lnTo>
                  <a:pt x="0" y="20"/>
                </a:lnTo>
                <a:lnTo>
                  <a:pt x="0" y="27"/>
                </a:lnTo>
                <a:lnTo>
                  <a:pt x="0" y="27"/>
                </a:lnTo>
                <a:lnTo>
                  <a:pt x="6" y="34"/>
                </a:lnTo>
                <a:lnTo>
                  <a:pt x="13" y="34"/>
                </a:lnTo>
                <a:lnTo>
                  <a:pt x="20" y="34"/>
                </a:lnTo>
                <a:lnTo>
                  <a:pt x="27" y="34"/>
                </a:lnTo>
                <a:lnTo>
                  <a:pt x="34" y="27"/>
                </a:lnTo>
                <a:lnTo>
                  <a:pt x="34" y="27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0" name=""/>
          <p:cNvSpPr/>
          <p:nvPr/>
        </p:nvSpPr>
        <p:spPr>
          <a:xfrm>
            <a:off x="4410000" y="3449520"/>
            <a:ext cx="1800" cy="11160"/>
          </a:xfrm>
          <a:custGeom>
            <a:avLst/>
            <a:gdLst/>
            <a:ahLst/>
            <a:rect l="l" t="t" r="r" b="b"/>
            <a:pathLst>
              <a:path w="0" h="7">
                <a:moveTo>
                  <a:pt x="0" y="7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1" name=""/>
          <p:cNvSpPr/>
          <p:nvPr/>
        </p:nvSpPr>
        <p:spPr>
          <a:xfrm>
            <a:off x="2690640" y="3363840"/>
            <a:ext cx="55800" cy="20880"/>
          </a:xfrm>
          <a:custGeom>
            <a:avLst/>
            <a:gdLst/>
            <a:ahLst/>
            <a:rect l="l" t="t" r="r" b="b"/>
            <a:pathLst>
              <a:path w="35" h="13">
                <a:moveTo>
                  <a:pt x="0" y="13"/>
                </a:moveTo>
                <a:lnTo>
                  <a:pt x="7" y="13"/>
                </a:lnTo>
                <a:lnTo>
                  <a:pt x="14" y="13"/>
                </a:lnTo>
                <a:lnTo>
                  <a:pt x="14" y="13"/>
                </a:lnTo>
                <a:lnTo>
                  <a:pt x="21" y="13"/>
                </a:lnTo>
                <a:lnTo>
                  <a:pt x="28" y="13"/>
                </a:lnTo>
                <a:lnTo>
                  <a:pt x="28" y="6"/>
                </a:lnTo>
                <a:lnTo>
                  <a:pt x="28" y="6"/>
                </a:lnTo>
                <a:lnTo>
                  <a:pt x="35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2" name=""/>
          <p:cNvSpPr/>
          <p:nvPr/>
        </p:nvSpPr>
        <p:spPr>
          <a:xfrm>
            <a:off x="3780000" y="3254400"/>
            <a:ext cx="183960" cy="152280"/>
          </a:xfrm>
          <a:custGeom>
            <a:avLst/>
            <a:gdLst/>
            <a:ahLst/>
            <a:rect l="l" t="t" r="r" b="b"/>
            <a:pathLst>
              <a:path w="116" h="96">
                <a:moveTo>
                  <a:pt x="116" y="69"/>
                </a:moveTo>
                <a:lnTo>
                  <a:pt x="116" y="62"/>
                </a:lnTo>
                <a:lnTo>
                  <a:pt x="110" y="55"/>
                </a:lnTo>
                <a:lnTo>
                  <a:pt x="110" y="55"/>
                </a:lnTo>
                <a:lnTo>
                  <a:pt x="103" y="48"/>
                </a:lnTo>
                <a:lnTo>
                  <a:pt x="103" y="41"/>
                </a:lnTo>
                <a:lnTo>
                  <a:pt x="103" y="34"/>
                </a:lnTo>
                <a:lnTo>
                  <a:pt x="103" y="28"/>
                </a:lnTo>
                <a:lnTo>
                  <a:pt x="103" y="21"/>
                </a:lnTo>
                <a:lnTo>
                  <a:pt x="103" y="21"/>
                </a:lnTo>
                <a:lnTo>
                  <a:pt x="103" y="14"/>
                </a:lnTo>
                <a:lnTo>
                  <a:pt x="96" y="7"/>
                </a:lnTo>
                <a:lnTo>
                  <a:pt x="89" y="0"/>
                </a:lnTo>
                <a:lnTo>
                  <a:pt x="82" y="0"/>
                </a:lnTo>
                <a:lnTo>
                  <a:pt x="75" y="0"/>
                </a:lnTo>
                <a:lnTo>
                  <a:pt x="68" y="7"/>
                </a:lnTo>
                <a:lnTo>
                  <a:pt x="55" y="7"/>
                </a:lnTo>
                <a:lnTo>
                  <a:pt x="48" y="14"/>
                </a:lnTo>
                <a:lnTo>
                  <a:pt x="48" y="14"/>
                </a:lnTo>
                <a:lnTo>
                  <a:pt x="41" y="21"/>
                </a:lnTo>
                <a:lnTo>
                  <a:pt x="34" y="28"/>
                </a:lnTo>
                <a:lnTo>
                  <a:pt x="27" y="34"/>
                </a:lnTo>
                <a:lnTo>
                  <a:pt x="20" y="34"/>
                </a:lnTo>
                <a:lnTo>
                  <a:pt x="20" y="41"/>
                </a:lnTo>
                <a:lnTo>
                  <a:pt x="14" y="48"/>
                </a:lnTo>
                <a:lnTo>
                  <a:pt x="14" y="55"/>
                </a:lnTo>
                <a:lnTo>
                  <a:pt x="7" y="55"/>
                </a:lnTo>
                <a:lnTo>
                  <a:pt x="7" y="62"/>
                </a:lnTo>
                <a:lnTo>
                  <a:pt x="0" y="69"/>
                </a:lnTo>
                <a:lnTo>
                  <a:pt x="0" y="75"/>
                </a:lnTo>
                <a:lnTo>
                  <a:pt x="7" y="75"/>
                </a:lnTo>
                <a:lnTo>
                  <a:pt x="14" y="82"/>
                </a:lnTo>
                <a:lnTo>
                  <a:pt x="20" y="89"/>
                </a:lnTo>
                <a:lnTo>
                  <a:pt x="20" y="89"/>
                </a:lnTo>
                <a:lnTo>
                  <a:pt x="27" y="89"/>
                </a:lnTo>
                <a:lnTo>
                  <a:pt x="41" y="82"/>
                </a:lnTo>
                <a:lnTo>
                  <a:pt x="48" y="82"/>
                </a:lnTo>
                <a:lnTo>
                  <a:pt x="55" y="75"/>
                </a:lnTo>
                <a:lnTo>
                  <a:pt x="62" y="75"/>
                </a:lnTo>
                <a:lnTo>
                  <a:pt x="75" y="69"/>
                </a:lnTo>
                <a:lnTo>
                  <a:pt x="82" y="69"/>
                </a:lnTo>
                <a:lnTo>
                  <a:pt x="89" y="75"/>
                </a:lnTo>
                <a:lnTo>
                  <a:pt x="96" y="82"/>
                </a:lnTo>
                <a:lnTo>
                  <a:pt x="103" y="89"/>
                </a:lnTo>
                <a:lnTo>
                  <a:pt x="110" y="89"/>
                </a:lnTo>
                <a:lnTo>
                  <a:pt x="110" y="96"/>
                </a:lnTo>
                <a:lnTo>
                  <a:pt x="110" y="96"/>
                </a:lnTo>
                <a:lnTo>
                  <a:pt x="116" y="96"/>
                </a:lnTo>
                <a:lnTo>
                  <a:pt x="116" y="89"/>
                </a:lnTo>
                <a:lnTo>
                  <a:pt x="116" y="82"/>
                </a:lnTo>
                <a:lnTo>
                  <a:pt x="116" y="69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3" name=""/>
          <p:cNvSpPr/>
          <p:nvPr/>
        </p:nvSpPr>
        <p:spPr>
          <a:xfrm flipV="1">
            <a:off x="2755800" y="3319200"/>
            <a:ext cx="11160" cy="21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4" name=""/>
          <p:cNvSpPr/>
          <p:nvPr/>
        </p:nvSpPr>
        <p:spPr>
          <a:xfrm>
            <a:off x="5999040" y="3308400"/>
            <a:ext cx="33480" cy="44280"/>
          </a:xfrm>
          <a:custGeom>
            <a:avLst/>
            <a:gdLst/>
            <a:ahLst/>
            <a:rect l="l" t="t" r="r" b="b"/>
            <a:pathLst>
              <a:path w="21" h="28">
                <a:moveTo>
                  <a:pt x="21" y="7"/>
                </a:moveTo>
                <a:lnTo>
                  <a:pt x="14" y="0"/>
                </a:lnTo>
                <a:lnTo>
                  <a:pt x="14" y="0"/>
                </a:lnTo>
                <a:lnTo>
                  <a:pt x="7" y="0"/>
                </a:lnTo>
                <a:lnTo>
                  <a:pt x="0" y="7"/>
                </a:lnTo>
                <a:lnTo>
                  <a:pt x="0" y="14"/>
                </a:lnTo>
                <a:lnTo>
                  <a:pt x="0" y="14"/>
                </a:lnTo>
                <a:lnTo>
                  <a:pt x="7" y="21"/>
                </a:lnTo>
                <a:lnTo>
                  <a:pt x="14" y="21"/>
                </a:lnTo>
                <a:lnTo>
                  <a:pt x="14" y="28"/>
                </a:lnTo>
                <a:lnTo>
                  <a:pt x="21" y="28"/>
                </a:lnTo>
                <a:lnTo>
                  <a:pt x="21" y="21"/>
                </a:lnTo>
                <a:lnTo>
                  <a:pt x="21" y="21"/>
                </a:lnTo>
                <a:lnTo>
                  <a:pt x="21" y="14"/>
                </a:lnTo>
                <a:lnTo>
                  <a:pt x="21" y="7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5" name=""/>
          <p:cNvSpPr/>
          <p:nvPr/>
        </p:nvSpPr>
        <p:spPr>
          <a:xfrm>
            <a:off x="2811600" y="3276720"/>
            <a:ext cx="1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6" name=""/>
          <p:cNvSpPr/>
          <p:nvPr/>
        </p:nvSpPr>
        <p:spPr>
          <a:xfrm flipV="1">
            <a:off x="2854440" y="3222720"/>
            <a:ext cx="1116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7" name=""/>
          <p:cNvSpPr/>
          <p:nvPr/>
        </p:nvSpPr>
        <p:spPr>
          <a:xfrm flipV="1">
            <a:off x="2898720" y="3178080"/>
            <a:ext cx="42840" cy="22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8" name=""/>
          <p:cNvSpPr/>
          <p:nvPr/>
        </p:nvSpPr>
        <p:spPr>
          <a:xfrm>
            <a:off x="2952720" y="3135240"/>
            <a:ext cx="76320" cy="42840"/>
          </a:xfrm>
          <a:custGeom>
            <a:avLst/>
            <a:gdLst/>
            <a:ahLst/>
            <a:rect l="l" t="t" r="r" b="b"/>
            <a:pathLst>
              <a:path w="48" h="27">
                <a:moveTo>
                  <a:pt x="0" y="27"/>
                </a:moveTo>
                <a:lnTo>
                  <a:pt x="7" y="20"/>
                </a:lnTo>
                <a:lnTo>
                  <a:pt x="13" y="20"/>
                </a:lnTo>
                <a:lnTo>
                  <a:pt x="20" y="20"/>
                </a:lnTo>
                <a:lnTo>
                  <a:pt x="27" y="14"/>
                </a:lnTo>
                <a:lnTo>
                  <a:pt x="34" y="14"/>
                </a:lnTo>
                <a:lnTo>
                  <a:pt x="41" y="7"/>
                </a:lnTo>
                <a:lnTo>
                  <a:pt x="41" y="7"/>
                </a:lnTo>
                <a:lnTo>
                  <a:pt x="48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9" name=""/>
          <p:cNvSpPr/>
          <p:nvPr/>
        </p:nvSpPr>
        <p:spPr>
          <a:xfrm flipV="1">
            <a:off x="3040200" y="3092400"/>
            <a:ext cx="42840" cy="31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0" name=""/>
          <p:cNvSpPr/>
          <p:nvPr/>
        </p:nvSpPr>
        <p:spPr>
          <a:xfrm>
            <a:off x="5499000" y="2624040"/>
            <a:ext cx="11160" cy="11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1" name=""/>
          <p:cNvSpPr/>
          <p:nvPr/>
        </p:nvSpPr>
        <p:spPr>
          <a:xfrm>
            <a:off x="5510160" y="2635200"/>
            <a:ext cx="1120680" cy="466920"/>
          </a:xfrm>
          <a:custGeom>
            <a:avLst/>
            <a:gdLst/>
            <a:ahLst/>
            <a:rect l="l" t="t" r="r" b="b"/>
            <a:pathLst>
              <a:path w="706" h="294">
                <a:moveTo>
                  <a:pt x="0" y="0"/>
                </a:moveTo>
                <a:lnTo>
                  <a:pt x="7" y="0"/>
                </a:lnTo>
                <a:lnTo>
                  <a:pt x="20" y="0"/>
                </a:lnTo>
                <a:lnTo>
                  <a:pt x="27" y="0"/>
                </a:lnTo>
                <a:lnTo>
                  <a:pt x="41" y="0"/>
                </a:lnTo>
                <a:lnTo>
                  <a:pt x="48" y="0"/>
                </a:lnTo>
                <a:lnTo>
                  <a:pt x="55" y="7"/>
                </a:lnTo>
                <a:lnTo>
                  <a:pt x="62" y="7"/>
                </a:lnTo>
                <a:lnTo>
                  <a:pt x="68" y="14"/>
                </a:lnTo>
                <a:lnTo>
                  <a:pt x="82" y="14"/>
                </a:lnTo>
                <a:lnTo>
                  <a:pt x="89" y="21"/>
                </a:lnTo>
                <a:lnTo>
                  <a:pt x="96" y="21"/>
                </a:lnTo>
                <a:lnTo>
                  <a:pt x="103" y="27"/>
                </a:lnTo>
                <a:lnTo>
                  <a:pt x="110" y="27"/>
                </a:lnTo>
                <a:lnTo>
                  <a:pt x="123" y="27"/>
                </a:lnTo>
                <a:lnTo>
                  <a:pt x="130" y="34"/>
                </a:lnTo>
                <a:lnTo>
                  <a:pt x="137" y="34"/>
                </a:lnTo>
                <a:lnTo>
                  <a:pt x="151" y="34"/>
                </a:lnTo>
                <a:lnTo>
                  <a:pt x="158" y="41"/>
                </a:lnTo>
                <a:lnTo>
                  <a:pt x="164" y="41"/>
                </a:lnTo>
                <a:lnTo>
                  <a:pt x="171" y="41"/>
                </a:lnTo>
                <a:lnTo>
                  <a:pt x="185" y="48"/>
                </a:lnTo>
                <a:lnTo>
                  <a:pt x="192" y="48"/>
                </a:lnTo>
                <a:lnTo>
                  <a:pt x="199" y="48"/>
                </a:lnTo>
                <a:lnTo>
                  <a:pt x="212" y="55"/>
                </a:lnTo>
                <a:lnTo>
                  <a:pt x="219" y="55"/>
                </a:lnTo>
                <a:lnTo>
                  <a:pt x="226" y="62"/>
                </a:lnTo>
                <a:lnTo>
                  <a:pt x="233" y="62"/>
                </a:lnTo>
                <a:lnTo>
                  <a:pt x="247" y="62"/>
                </a:lnTo>
                <a:lnTo>
                  <a:pt x="254" y="62"/>
                </a:lnTo>
                <a:lnTo>
                  <a:pt x="260" y="69"/>
                </a:lnTo>
                <a:lnTo>
                  <a:pt x="267" y="69"/>
                </a:lnTo>
                <a:lnTo>
                  <a:pt x="281" y="69"/>
                </a:lnTo>
                <a:lnTo>
                  <a:pt x="288" y="75"/>
                </a:lnTo>
                <a:lnTo>
                  <a:pt x="295" y="75"/>
                </a:lnTo>
                <a:lnTo>
                  <a:pt x="308" y="82"/>
                </a:lnTo>
                <a:lnTo>
                  <a:pt x="315" y="82"/>
                </a:lnTo>
                <a:lnTo>
                  <a:pt x="322" y="82"/>
                </a:lnTo>
                <a:lnTo>
                  <a:pt x="329" y="89"/>
                </a:lnTo>
                <a:lnTo>
                  <a:pt x="336" y="89"/>
                </a:lnTo>
                <a:lnTo>
                  <a:pt x="350" y="89"/>
                </a:lnTo>
                <a:lnTo>
                  <a:pt x="356" y="96"/>
                </a:lnTo>
                <a:lnTo>
                  <a:pt x="363" y="96"/>
                </a:lnTo>
                <a:lnTo>
                  <a:pt x="377" y="96"/>
                </a:lnTo>
                <a:lnTo>
                  <a:pt x="384" y="103"/>
                </a:lnTo>
                <a:lnTo>
                  <a:pt x="391" y="103"/>
                </a:lnTo>
                <a:lnTo>
                  <a:pt x="398" y="103"/>
                </a:lnTo>
                <a:lnTo>
                  <a:pt x="411" y="110"/>
                </a:lnTo>
                <a:lnTo>
                  <a:pt x="418" y="110"/>
                </a:lnTo>
                <a:lnTo>
                  <a:pt x="425" y="110"/>
                </a:lnTo>
                <a:lnTo>
                  <a:pt x="432" y="116"/>
                </a:lnTo>
                <a:lnTo>
                  <a:pt x="446" y="116"/>
                </a:lnTo>
                <a:lnTo>
                  <a:pt x="452" y="123"/>
                </a:lnTo>
                <a:lnTo>
                  <a:pt x="459" y="123"/>
                </a:lnTo>
                <a:lnTo>
                  <a:pt x="473" y="123"/>
                </a:lnTo>
                <a:lnTo>
                  <a:pt x="480" y="130"/>
                </a:lnTo>
                <a:lnTo>
                  <a:pt x="487" y="130"/>
                </a:lnTo>
                <a:lnTo>
                  <a:pt x="494" y="137"/>
                </a:lnTo>
                <a:lnTo>
                  <a:pt x="500" y="137"/>
                </a:lnTo>
                <a:lnTo>
                  <a:pt x="507" y="144"/>
                </a:lnTo>
                <a:lnTo>
                  <a:pt x="514" y="151"/>
                </a:lnTo>
                <a:lnTo>
                  <a:pt x="514" y="158"/>
                </a:lnTo>
                <a:lnTo>
                  <a:pt x="521" y="158"/>
                </a:lnTo>
                <a:lnTo>
                  <a:pt x="528" y="164"/>
                </a:lnTo>
                <a:lnTo>
                  <a:pt x="542" y="164"/>
                </a:lnTo>
                <a:lnTo>
                  <a:pt x="548" y="171"/>
                </a:lnTo>
                <a:lnTo>
                  <a:pt x="548" y="171"/>
                </a:lnTo>
                <a:lnTo>
                  <a:pt x="555" y="178"/>
                </a:lnTo>
                <a:lnTo>
                  <a:pt x="562" y="185"/>
                </a:lnTo>
                <a:lnTo>
                  <a:pt x="569" y="192"/>
                </a:lnTo>
                <a:lnTo>
                  <a:pt x="576" y="192"/>
                </a:lnTo>
                <a:lnTo>
                  <a:pt x="583" y="192"/>
                </a:lnTo>
                <a:lnTo>
                  <a:pt x="590" y="199"/>
                </a:lnTo>
                <a:lnTo>
                  <a:pt x="596" y="205"/>
                </a:lnTo>
                <a:lnTo>
                  <a:pt x="603" y="212"/>
                </a:lnTo>
                <a:lnTo>
                  <a:pt x="603" y="212"/>
                </a:lnTo>
                <a:lnTo>
                  <a:pt x="610" y="219"/>
                </a:lnTo>
                <a:lnTo>
                  <a:pt x="617" y="226"/>
                </a:lnTo>
                <a:lnTo>
                  <a:pt x="624" y="226"/>
                </a:lnTo>
                <a:lnTo>
                  <a:pt x="631" y="226"/>
                </a:lnTo>
                <a:lnTo>
                  <a:pt x="638" y="233"/>
                </a:lnTo>
                <a:lnTo>
                  <a:pt x="644" y="240"/>
                </a:lnTo>
                <a:lnTo>
                  <a:pt x="651" y="240"/>
                </a:lnTo>
                <a:lnTo>
                  <a:pt x="658" y="246"/>
                </a:lnTo>
                <a:lnTo>
                  <a:pt x="658" y="253"/>
                </a:lnTo>
                <a:lnTo>
                  <a:pt x="665" y="260"/>
                </a:lnTo>
                <a:lnTo>
                  <a:pt x="672" y="260"/>
                </a:lnTo>
                <a:lnTo>
                  <a:pt x="679" y="267"/>
                </a:lnTo>
                <a:lnTo>
                  <a:pt x="686" y="267"/>
                </a:lnTo>
                <a:lnTo>
                  <a:pt x="692" y="274"/>
                </a:lnTo>
                <a:lnTo>
                  <a:pt x="699" y="281"/>
                </a:lnTo>
                <a:lnTo>
                  <a:pt x="706" y="281"/>
                </a:lnTo>
                <a:lnTo>
                  <a:pt x="699" y="288"/>
                </a:lnTo>
                <a:lnTo>
                  <a:pt x="692" y="288"/>
                </a:lnTo>
                <a:lnTo>
                  <a:pt x="679" y="288"/>
                </a:lnTo>
                <a:lnTo>
                  <a:pt x="672" y="288"/>
                </a:lnTo>
                <a:lnTo>
                  <a:pt x="665" y="294"/>
                </a:lnTo>
                <a:lnTo>
                  <a:pt x="658" y="294"/>
                </a:lnTo>
                <a:lnTo>
                  <a:pt x="644" y="294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2" name=""/>
          <p:cNvSpPr/>
          <p:nvPr/>
        </p:nvSpPr>
        <p:spPr>
          <a:xfrm>
            <a:off x="6532560" y="3102120"/>
            <a:ext cx="1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3" name=""/>
          <p:cNvSpPr/>
          <p:nvPr/>
        </p:nvSpPr>
        <p:spPr>
          <a:xfrm>
            <a:off x="6359400" y="3036960"/>
            <a:ext cx="32040" cy="65160"/>
          </a:xfrm>
          <a:custGeom>
            <a:avLst/>
            <a:gdLst/>
            <a:ahLst/>
            <a:rect l="l" t="t" r="r" b="b"/>
            <a:pathLst>
              <a:path w="20" h="41">
                <a:moveTo>
                  <a:pt x="13" y="41"/>
                </a:moveTo>
                <a:lnTo>
                  <a:pt x="7" y="41"/>
                </a:lnTo>
                <a:lnTo>
                  <a:pt x="13" y="7"/>
                </a:lnTo>
                <a:lnTo>
                  <a:pt x="13" y="7"/>
                </a:lnTo>
                <a:lnTo>
                  <a:pt x="13" y="7"/>
                </a:lnTo>
                <a:lnTo>
                  <a:pt x="13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0" y="14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13" y="0"/>
                </a:lnTo>
                <a:lnTo>
                  <a:pt x="13" y="0"/>
                </a:lnTo>
                <a:lnTo>
                  <a:pt x="13" y="0"/>
                </a:lnTo>
                <a:lnTo>
                  <a:pt x="13" y="0"/>
                </a:lnTo>
                <a:lnTo>
                  <a:pt x="20" y="0"/>
                </a:lnTo>
                <a:lnTo>
                  <a:pt x="20" y="0"/>
                </a:lnTo>
                <a:lnTo>
                  <a:pt x="20" y="0"/>
                </a:lnTo>
                <a:lnTo>
                  <a:pt x="13" y="4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4" name=""/>
          <p:cNvSpPr/>
          <p:nvPr/>
        </p:nvSpPr>
        <p:spPr>
          <a:xfrm>
            <a:off x="6402240" y="3036960"/>
            <a:ext cx="54000" cy="75960"/>
          </a:xfrm>
          <a:custGeom>
            <a:avLst/>
            <a:gdLst/>
            <a:ahLst/>
            <a:rect l="l" t="t" r="r" b="b"/>
            <a:pathLst>
              <a:path w="34" h="48">
                <a:moveTo>
                  <a:pt x="34" y="14"/>
                </a:moveTo>
                <a:lnTo>
                  <a:pt x="28" y="14"/>
                </a:lnTo>
                <a:lnTo>
                  <a:pt x="28" y="14"/>
                </a:lnTo>
                <a:lnTo>
                  <a:pt x="28" y="14"/>
                </a:lnTo>
                <a:lnTo>
                  <a:pt x="28" y="14"/>
                </a:lnTo>
                <a:lnTo>
                  <a:pt x="28" y="14"/>
                </a:lnTo>
                <a:lnTo>
                  <a:pt x="28" y="7"/>
                </a:lnTo>
                <a:lnTo>
                  <a:pt x="28" y="7"/>
                </a:lnTo>
                <a:lnTo>
                  <a:pt x="28" y="7"/>
                </a:lnTo>
                <a:lnTo>
                  <a:pt x="21" y="7"/>
                </a:lnTo>
                <a:lnTo>
                  <a:pt x="21" y="7"/>
                </a:lnTo>
                <a:lnTo>
                  <a:pt x="21" y="7"/>
                </a:lnTo>
                <a:lnTo>
                  <a:pt x="21" y="7"/>
                </a:lnTo>
                <a:lnTo>
                  <a:pt x="21" y="7"/>
                </a:lnTo>
                <a:lnTo>
                  <a:pt x="14" y="7"/>
                </a:lnTo>
                <a:lnTo>
                  <a:pt x="14" y="7"/>
                </a:lnTo>
                <a:lnTo>
                  <a:pt x="14" y="14"/>
                </a:lnTo>
                <a:lnTo>
                  <a:pt x="14" y="14"/>
                </a:lnTo>
                <a:lnTo>
                  <a:pt x="14" y="14"/>
                </a:lnTo>
                <a:lnTo>
                  <a:pt x="14" y="14"/>
                </a:lnTo>
                <a:lnTo>
                  <a:pt x="7" y="21"/>
                </a:lnTo>
                <a:lnTo>
                  <a:pt x="7" y="21"/>
                </a:lnTo>
                <a:lnTo>
                  <a:pt x="14" y="21"/>
                </a:lnTo>
                <a:lnTo>
                  <a:pt x="14" y="21"/>
                </a:lnTo>
                <a:lnTo>
                  <a:pt x="14" y="21"/>
                </a:lnTo>
                <a:lnTo>
                  <a:pt x="14" y="21"/>
                </a:lnTo>
                <a:lnTo>
                  <a:pt x="14" y="21"/>
                </a:lnTo>
                <a:lnTo>
                  <a:pt x="21" y="21"/>
                </a:lnTo>
                <a:lnTo>
                  <a:pt x="21" y="21"/>
                </a:lnTo>
                <a:lnTo>
                  <a:pt x="21" y="21"/>
                </a:lnTo>
                <a:lnTo>
                  <a:pt x="21" y="21"/>
                </a:lnTo>
                <a:lnTo>
                  <a:pt x="28" y="21"/>
                </a:lnTo>
                <a:lnTo>
                  <a:pt x="28" y="21"/>
                </a:lnTo>
                <a:lnTo>
                  <a:pt x="28" y="28"/>
                </a:lnTo>
                <a:lnTo>
                  <a:pt x="28" y="28"/>
                </a:lnTo>
                <a:lnTo>
                  <a:pt x="34" y="28"/>
                </a:lnTo>
                <a:lnTo>
                  <a:pt x="34" y="35"/>
                </a:lnTo>
                <a:lnTo>
                  <a:pt x="34" y="35"/>
                </a:lnTo>
                <a:lnTo>
                  <a:pt x="28" y="35"/>
                </a:lnTo>
                <a:lnTo>
                  <a:pt x="28" y="41"/>
                </a:lnTo>
                <a:lnTo>
                  <a:pt x="28" y="41"/>
                </a:lnTo>
                <a:lnTo>
                  <a:pt x="28" y="41"/>
                </a:lnTo>
                <a:lnTo>
                  <a:pt x="28" y="41"/>
                </a:lnTo>
                <a:lnTo>
                  <a:pt x="28" y="48"/>
                </a:lnTo>
                <a:lnTo>
                  <a:pt x="21" y="48"/>
                </a:lnTo>
                <a:lnTo>
                  <a:pt x="21" y="48"/>
                </a:lnTo>
                <a:lnTo>
                  <a:pt x="21" y="48"/>
                </a:lnTo>
                <a:lnTo>
                  <a:pt x="21" y="48"/>
                </a:lnTo>
                <a:lnTo>
                  <a:pt x="14" y="48"/>
                </a:lnTo>
                <a:lnTo>
                  <a:pt x="14" y="48"/>
                </a:lnTo>
                <a:lnTo>
                  <a:pt x="14" y="48"/>
                </a:lnTo>
                <a:lnTo>
                  <a:pt x="7" y="48"/>
                </a:lnTo>
                <a:lnTo>
                  <a:pt x="7" y="41"/>
                </a:lnTo>
                <a:lnTo>
                  <a:pt x="7" y="41"/>
                </a:lnTo>
                <a:lnTo>
                  <a:pt x="7" y="35"/>
                </a:lnTo>
                <a:lnTo>
                  <a:pt x="0" y="35"/>
                </a:lnTo>
                <a:lnTo>
                  <a:pt x="0" y="28"/>
                </a:lnTo>
                <a:lnTo>
                  <a:pt x="7" y="21"/>
                </a:lnTo>
                <a:lnTo>
                  <a:pt x="7" y="21"/>
                </a:lnTo>
                <a:lnTo>
                  <a:pt x="7" y="14"/>
                </a:lnTo>
                <a:lnTo>
                  <a:pt x="7" y="7"/>
                </a:lnTo>
                <a:lnTo>
                  <a:pt x="14" y="7"/>
                </a:lnTo>
                <a:lnTo>
                  <a:pt x="14" y="7"/>
                </a:lnTo>
                <a:lnTo>
                  <a:pt x="21" y="0"/>
                </a:lnTo>
                <a:lnTo>
                  <a:pt x="21" y="0"/>
                </a:lnTo>
                <a:lnTo>
                  <a:pt x="28" y="0"/>
                </a:lnTo>
                <a:lnTo>
                  <a:pt x="28" y="7"/>
                </a:lnTo>
                <a:lnTo>
                  <a:pt x="28" y="7"/>
                </a:lnTo>
                <a:lnTo>
                  <a:pt x="28" y="7"/>
                </a:lnTo>
                <a:lnTo>
                  <a:pt x="34" y="7"/>
                </a:lnTo>
                <a:lnTo>
                  <a:pt x="34" y="7"/>
                </a:lnTo>
                <a:lnTo>
                  <a:pt x="34" y="14"/>
                </a:lnTo>
                <a:lnTo>
                  <a:pt x="34" y="14"/>
                </a:lnTo>
                <a:lnTo>
                  <a:pt x="34" y="14"/>
                </a:lnTo>
                <a:close/>
                <a:moveTo>
                  <a:pt x="7" y="35"/>
                </a:moveTo>
                <a:lnTo>
                  <a:pt x="7" y="35"/>
                </a:lnTo>
                <a:lnTo>
                  <a:pt x="7" y="35"/>
                </a:lnTo>
                <a:lnTo>
                  <a:pt x="7" y="35"/>
                </a:lnTo>
                <a:lnTo>
                  <a:pt x="7" y="35"/>
                </a:lnTo>
                <a:lnTo>
                  <a:pt x="7" y="41"/>
                </a:lnTo>
                <a:lnTo>
                  <a:pt x="7" y="41"/>
                </a:lnTo>
                <a:lnTo>
                  <a:pt x="14" y="41"/>
                </a:lnTo>
                <a:lnTo>
                  <a:pt x="14" y="41"/>
                </a:lnTo>
                <a:lnTo>
                  <a:pt x="14" y="41"/>
                </a:lnTo>
                <a:lnTo>
                  <a:pt x="14" y="41"/>
                </a:lnTo>
                <a:lnTo>
                  <a:pt x="14" y="41"/>
                </a:lnTo>
                <a:lnTo>
                  <a:pt x="14" y="41"/>
                </a:lnTo>
                <a:lnTo>
                  <a:pt x="21" y="41"/>
                </a:lnTo>
                <a:lnTo>
                  <a:pt x="21" y="41"/>
                </a:lnTo>
                <a:lnTo>
                  <a:pt x="21" y="41"/>
                </a:lnTo>
                <a:lnTo>
                  <a:pt x="21" y="41"/>
                </a:lnTo>
                <a:lnTo>
                  <a:pt x="21" y="41"/>
                </a:lnTo>
                <a:lnTo>
                  <a:pt x="28" y="41"/>
                </a:lnTo>
                <a:lnTo>
                  <a:pt x="28" y="35"/>
                </a:lnTo>
                <a:lnTo>
                  <a:pt x="28" y="35"/>
                </a:lnTo>
                <a:lnTo>
                  <a:pt x="28" y="35"/>
                </a:lnTo>
                <a:lnTo>
                  <a:pt x="28" y="28"/>
                </a:lnTo>
                <a:lnTo>
                  <a:pt x="28" y="28"/>
                </a:lnTo>
                <a:lnTo>
                  <a:pt x="28" y="28"/>
                </a:lnTo>
                <a:lnTo>
                  <a:pt x="21" y="28"/>
                </a:lnTo>
                <a:lnTo>
                  <a:pt x="21" y="28"/>
                </a:lnTo>
                <a:lnTo>
                  <a:pt x="21" y="21"/>
                </a:lnTo>
                <a:lnTo>
                  <a:pt x="21" y="21"/>
                </a:lnTo>
                <a:lnTo>
                  <a:pt x="21" y="21"/>
                </a:lnTo>
                <a:lnTo>
                  <a:pt x="14" y="21"/>
                </a:lnTo>
                <a:lnTo>
                  <a:pt x="14" y="21"/>
                </a:lnTo>
                <a:lnTo>
                  <a:pt x="14" y="28"/>
                </a:lnTo>
                <a:lnTo>
                  <a:pt x="14" y="28"/>
                </a:lnTo>
                <a:lnTo>
                  <a:pt x="7" y="28"/>
                </a:lnTo>
                <a:lnTo>
                  <a:pt x="7" y="28"/>
                </a:lnTo>
                <a:lnTo>
                  <a:pt x="7" y="35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5" name=""/>
          <p:cNvSpPr/>
          <p:nvPr/>
        </p:nvSpPr>
        <p:spPr>
          <a:xfrm>
            <a:off x="6456240" y="3048120"/>
            <a:ext cx="55800" cy="75960"/>
          </a:xfrm>
          <a:custGeom>
            <a:avLst/>
            <a:gdLst/>
            <a:ahLst/>
            <a:rect l="l" t="t" r="r" b="b"/>
            <a:pathLst>
              <a:path w="35" h="48">
                <a:moveTo>
                  <a:pt x="7" y="21"/>
                </a:moveTo>
                <a:lnTo>
                  <a:pt x="7" y="21"/>
                </a:lnTo>
                <a:lnTo>
                  <a:pt x="7" y="14"/>
                </a:lnTo>
                <a:lnTo>
                  <a:pt x="7" y="14"/>
                </a:lnTo>
                <a:lnTo>
                  <a:pt x="7" y="7"/>
                </a:lnTo>
                <a:lnTo>
                  <a:pt x="7" y="7"/>
                </a:lnTo>
                <a:lnTo>
                  <a:pt x="14" y="7"/>
                </a:lnTo>
                <a:lnTo>
                  <a:pt x="14" y="7"/>
                </a:lnTo>
                <a:lnTo>
                  <a:pt x="14" y="7"/>
                </a:lnTo>
                <a:lnTo>
                  <a:pt x="14" y="0"/>
                </a:lnTo>
                <a:lnTo>
                  <a:pt x="21" y="0"/>
                </a:lnTo>
                <a:lnTo>
                  <a:pt x="21" y="0"/>
                </a:lnTo>
                <a:lnTo>
                  <a:pt x="21" y="0"/>
                </a:lnTo>
                <a:lnTo>
                  <a:pt x="28" y="0"/>
                </a:lnTo>
                <a:lnTo>
                  <a:pt x="28" y="7"/>
                </a:lnTo>
                <a:lnTo>
                  <a:pt x="28" y="7"/>
                </a:lnTo>
                <a:lnTo>
                  <a:pt x="28" y="7"/>
                </a:lnTo>
                <a:lnTo>
                  <a:pt x="28" y="7"/>
                </a:lnTo>
                <a:lnTo>
                  <a:pt x="28" y="7"/>
                </a:lnTo>
                <a:lnTo>
                  <a:pt x="35" y="7"/>
                </a:lnTo>
                <a:lnTo>
                  <a:pt x="35" y="7"/>
                </a:lnTo>
                <a:lnTo>
                  <a:pt x="35" y="14"/>
                </a:lnTo>
                <a:lnTo>
                  <a:pt x="35" y="14"/>
                </a:lnTo>
                <a:lnTo>
                  <a:pt x="35" y="14"/>
                </a:lnTo>
                <a:lnTo>
                  <a:pt x="35" y="14"/>
                </a:lnTo>
                <a:lnTo>
                  <a:pt x="35" y="21"/>
                </a:lnTo>
                <a:lnTo>
                  <a:pt x="35" y="21"/>
                </a:lnTo>
                <a:lnTo>
                  <a:pt x="35" y="28"/>
                </a:lnTo>
                <a:lnTo>
                  <a:pt x="35" y="28"/>
                </a:lnTo>
                <a:lnTo>
                  <a:pt x="35" y="34"/>
                </a:lnTo>
                <a:lnTo>
                  <a:pt x="28" y="34"/>
                </a:lnTo>
                <a:lnTo>
                  <a:pt x="28" y="34"/>
                </a:lnTo>
                <a:lnTo>
                  <a:pt x="28" y="41"/>
                </a:lnTo>
                <a:lnTo>
                  <a:pt x="28" y="41"/>
                </a:lnTo>
                <a:lnTo>
                  <a:pt x="28" y="41"/>
                </a:lnTo>
                <a:lnTo>
                  <a:pt x="21" y="48"/>
                </a:lnTo>
                <a:lnTo>
                  <a:pt x="21" y="48"/>
                </a:lnTo>
                <a:lnTo>
                  <a:pt x="21" y="48"/>
                </a:lnTo>
                <a:lnTo>
                  <a:pt x="21" y="48"/>
                </a:lnTo>
                <a:lnTo>
                  <a:pt x="14" y="48"/>
                </a:lnTo>
                <a:lnTo>
                  <a:pt x="14" y="48"/>
                </a:lnTo>
                <a:lnTo>
                  <a:pt x="14" y="48"/>
                </a:lnTo>
                <a:lnTo>
                  <a:pt x="7" y="48"/>
                </a:lnTo>
                <a:lnTo>
                  <a:pt x="7" y="41"/>
                </a:lnTo>
                <a:lnTo>
                  <a:pt x="7" y="41"/>
                </a:lnTo>
                <a:lnTo>
                  <a:pt x="0" y="34"/>
                </a:lnTo>
                <a:lnTo>
                  <a:pt x="0" y="34"/>
                </a:lnTo>
                <a:lnTo>
                  <a:pt x="0" y="28"/>
                </a:lnTo>
                <a:lnTo>
                  <a:pt x="7" y="21"/>
                </a:lnTo>
                <a:close/>
                <a:moveTo>
                  <a:pt x="7" y="21"/>
                </a:moveTo>
                <a:lnTo>
                  <a:pt x="7" y="28"/>
                </a:lnTo>
                <a:lnTo>
                  <a:pt x="7" y="34"/>
                </a:lnTo>
                <a:lnTo>
                  <a:pt x="7" y="34"/>
                </a:lnTo>
                <a:lnTo>
                  <a:pt x="7" y="41"/>
                </a:lnTo>
                <a:lnTo>
                  <a:pt x="7" y="41"/>
                </a:lnTo>
                <a:lnTo>
                  <a:pt x="14" y="41"/>
                </a:lnTo>
                <a:lnTo>
                  <a:pt x="14" y="41"/>
                </a:lnTo>
                <a:lnTo>
                  <a:pt x="14" y="41"/>
                </a:lnTo>
                <a:lnTo>
                  <a:pt x="14" y="41"/>
                </a:lnTo>
                <a:lnTo>
                  <a:pt x="21" y="41"/>
                </a:lnTo>
                <a:lnTo>
                  <a:pt x="21" y="41"/>
                </a:lnTo>
                <a:lnTo>
                  <a:pt x="21" y="41"/>
                </a:lnTo>
                <a:lnTo>
                  <a:pt x="21" y="41"/>
                </a:lnTo>
                <a:lnTo>
                  <a:pt x="28" y="34"/>
                </a:lnTo>
                <a:lnTo>
                  <a:pt x="28" y="34"/>
                </a:lnTo>
                <a:lnTo>
                  <a:pt x="28" y="28"/>
                </a:lnTo>
                <a:lnTo>
                  <a:pt x="28" y="21"/>
                </a:lnTo>
                <a:lnTo>
                  <a:pt x="28" y="21"/>
                </a:lnTo>
                <a:lnTo>
                  <a:pt x="28" y="14"/>
                </a:lnTo>
                <a:lnTo>
                  <a:pt x="28" y="14"/>
                </a:lnTo>
                <a:lnTo>
                  <a:pt x="28" y="7"/>
                </a:lnTo>
                <a:lnTo>
                  <a:pt x="28" y="7"/>
                </a:lnTo>
                <a:lnTo>
                  <a:pt x="21" y="7"/>
                </a:lnTo>
                <a:lnTo>
                  <a:pt x="21" y="7"/>
                </a:lnTo>
                <a:lnTo>
                  <a:pt x="21" y="7"/>
                </a:lnTo>
                <a:lnTo>
                  <a:pt x="21" y="7"/>
                </a:lnTo>
                <a:lnTo>
                  <a:pt x="14" y="7"/>
                </a:lnTo>
                <a:lnTo>
                  <a:pt x="14" y="7"/>
                </a:lnTo>
                <a:lnTo>
                  <a:pt x="14" y="14"/>
                </a:lnTo>
                <a:lnTo>
                  <a:pt x="14" y="14"/>
                </a:lnTo>
                <a:lnTo>
                  <a:pt x="14" y="21"/>
                </a:lnTo>
                <a:lnTo>
                  <a:pt x="7" y="2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6" name=""/>
          <p:cNvSpPr/>
          <p:nvPr/>
        </p:nvSpPr>
        <p:spPr>
          <a:xfrm>
            <a:off x="6326280" y="3059280"/>
            <a:ext cx="1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7" name=""/>
          <p:cNvSpPr/>
          <p:nvPr/>
        </p:nvSpPr>
        <p:spPr>
          <a:xfrm>
            <a:off x="5118120" y="3059280"/>
            <a:ext cx="1208160" cy="607680"/>
          </a:xfrm>
          <a:custGeom>
            <a:avLst/>
            <a:gdLst/>
            <a:ahLst/>
            <a:rect l="l" t="t" r="r" b="b"/>
            <a:pathLst>
              <a:path w="761" h="383">
                <a:moveTo>
                  <a:pt x="761" y="0"/>
                </a:moveTo>
                <a:lnTo>
                  <a:pt x="747" y="0"/>
                </a:lnTo>
                <a:lnTo>
                  <a:pt x="741" y="0"/>
                </a:lnTo>
                <a:lnTo>
                  <a:pt x="734" y="7"/>
                </a:lnTo>
                <a:lnTo>
                  <a:pt x="720" y="7"/>
                </a:lnTo>
                <a:lnTo>
                  <a:pt x="713" y="14"/>
                </a:lnTo>
                <a:lnTo>
                  <a:pt x="713" y="21"/>
                </a:lnTo>
                <a:lnTo>
                  <a:pt x="713" y="27"/>
                </a:lnTo>
                <a:lnTo>
                  <a:pt x="713" y="34"/>
                </a:lnTo>
                <a:lnTo>
                  <a:pt x="720" y="34"/>
                </a:lnTo>
                <a:lnTo>
                  <a:pt x="727" y="41"/>
                </a:lnTo>
                <a:lnTo>
                  <a:pt x="734" y="41"/>
                </a:lnTo>
                <a:lnTo>
                  <a:pt x="741" y="48"/>
                </a:lnTo>
                <a:lnTo>
                  <a:pt x="747" y="55"/>
                </a:lnTo>
                <a:lnTo>
                  <a:pt x="741" y="62"/>
                </a:lnTo>
                <a:lnTo>
                  <a:pt x="741" y="62"/>
                </a:lnTo>
                <a:lnTo>
                  <a:pt x="741" y="68"/>
                </a:lnTo>
                <a:lnTo>
                  <a:pt x="741" y="75"/>
                </a:lnTo>
                <a:lnTo>
                  <a:pt x="734" y="82"/>
                </a:lnTo>
                <a:lnTo>
                  <a:pt x="727" y="89"/>
                </a:lnTo>
                <a:lnTo>
                  <a:pt x="720" y="89"/>
                </a:lnTo>
                <a:lnTo>
                  <a:pt x="713" y="96"/>
                </a:lnTo>
                <a:lnTo>
                  <a:pt x="706" y="103"/>
                </a:lnTo>
                <a:lnTo>
                  <a:pt x="699" y="103"/>
                </a:lnTo>
                <a:lnTo>
                  <a:pt x="693" y="109"/>
                </a:lnTo>
                <a:lnTo>
                  <a:pt x="686" y="109"/>
                </a:lnTo>
                <a:lnTo>
                  <a:pt x="679" y="116"/>
                </a:lnTo>
                <a:lnTo>
                  <a:pt x="672" y="123"/>
                </a:lnTo>
                <a:lnTo>
                  <a:pt x="665" y="123"/>
                </a:lnTo>
                <a:lnTo>
                  <a:pt x="658" y="130"/>
                </a:lnTo>
                <a:lnTo>
                  <a:pt x="651" y="130"/>
                </a:lnTo>
                <a:lnTo>
                  <a:pt x="645" y="137"/>
                </a:lnTo>
                <a:lnTo>
                  <a:pt x="638" y="144"/>
                </a:lnTo>
                <a:lnTo>
                  <a:pt x="631" y="144"/>
                </a:lnTo>
                <a:lnTo>
                  <a:pt x="624" y="151"/>
                </a:lnTo>
                <a:lnTo>
                  <a:pt x="610" y="151"/>
                </a:lnTo>
                <a:lnTo>
                  <a:pt x="603" y="151"/>
                </a:lnTo>
                <a:lnTo>
                  <a:pt x="597" y="151"/>
                </a:lnTo>
                <a:lnTo>
                  <a:pt x="590" y="144"/>
                </a:lnTo>
                <a:lnTo>
                  <a:pt x="583" y="144"/>
                </a:lnTo>
                <a:lnTo>
                  <a:pt x="569" y="137"/>
                </a:lnTo>
                <a:lnTo>
                  <a:pt x="562" y="137"/>
                </a:lnTo>
                <a:lnTo>
                  <a:pt x="555" y="137"/>
                </a:lnTo>
                <a:lnTo>
                  <a:pt x="542" y="144"/>
                </a:lnTo>
                <a:lnTo>
                  <a:pt x="535" y="144"/>
                </a:lnTo>
                <a:lnTo>
                  <a:pt x="528" y="151"/>
                </a:lnTo>
                <a:lnTo>
                  <a:pt x="521" y="151"/>
                </a:lnTo>
                <a:lnTo>
                  <a:pt x="514" y="157"/>
                </a:lnTo>
                <a:lnTo>
                  <a:pt x="501" y="157"/>
                </a:lnTo>
                <a:lnTo>
                  <a:pt x="494" y="151"/>
                </a:lnTo>
                <a:lnTo>
                  <a:pt x="480" y="157"/>
                </a:lnTo>
                <a:lnTo>
                  <a:pt x="473" y="157"/>
                </a:lnTo>
                <a:lnTo>
                  <a:pt x="466" y="164"/>
                </a:lnTo>
                <a:lnTo>
                  <a:pt x="459" y="164"/>
                </a:lnTo>
                <a:lnTo>
                  <a:pt x="453" y="164"/>
                </a:lnTo>
                <a:lnTo>
                  <a:pt x="439" y="164"/>
                </a:lnTo>
                <a:lnTo>
                  <a:pt x="432" y="157"/>
                </a:lnTo>
                <a:lnTo>
                  <a:pt x="425" y="157"/>
                </a:lnTo>
                <a:lnTo>
                  <a:pt x="418" y="157"/>
                </a:lnTo>
                <a:lnTo>
                  <a:pt x="405" y="157"/>
                </a:lnTo>
                <a:lnTo>
                  <a:pt x="398" y="157"/>
                </a:lnTo>
                <a:lnTo>
                  <a:pt x="391" y="157"/>
                </a:lnTo>
                <a:lnTo>
                  <a:pt x="377" y="157"/>
                </a:lnTo>
                <a:lnTo>
                  <a:pt x="370" y="157"/>
                </a:lnTo>
                <a:lnTo>
                  <a:pt x="363" y="157"/>
                </a:lnTo>
                <a:lnTo>
                  <a:pt x="350" y="157"/>
                </a:lnTo>
                <a:lnTo>
                  <a:pt x="343" y="157"/>
                </a:lnTo>
                <a:lnTo>
                  <a:pt x="329" y="157"/>
                </a:lnTo>
                <a:lnTo>
                  <a:pt x="322" y="157"/>
                </a:lnTo>
                <a:lnTo>
                  <a:pt x="315" y="164"/>
                </a:lnTo>
                <a:lnTo>
                  <a:pt x="309" y="164"/>
                </a:lnTo>
                <a:lnTo>
                  <a:pt x="302" y="171"/>
                </a:lnTo>
                <a:lnTo>
                  <a:pt x="288" y="171"/>
                </a:lnTo>
                <a:lnTo>
                  <a:pt x="281" y="178"/>
                </a:lnTo>
                <a:lnTo>
                  <a:pt x="274" y="178"/>
                </a:lnTo>
                <a:lnTo>
                  <a:pt x="267" y="185"/>
                </a:lnTo>
                <a:lnTo>
                  <a:pt x="261" y="192"/>
                </a:lnTo>
                <a:lnTo>
                  <a:pt x="254" y="192"/>
                </a:lnTo>
                <a:lnTo>
                  <a:pt x="254" y="198"/>
                </a:lnTo>
                <a:lnTo>
                  <a:pt x="247" y="205"/>
                </a:lnTo>
                <a:lnTo>
                  <a:pt x="247" y="212"/>
                </a:lnTo>
                <a:lnTo>
                  <a:pt x="247" y="219"/>
                </a:lnTo>
                <a:lnTo>
                  <a:pt x="247" y="226"/>
                </a:lnTo>
                <a:lnTo>
                  <a:pt x="247" y="226"/>
                </a:lnTo>
                <a:lnTo>
                  <a:pt x="254" y="233"/>
                </a:lnTo>
                <a:lnTo>
                  <a:pt x="261" y="239"/>
                </a:lnTo>
                <a:lnTo>
                  <a:pt x="267" y="246"/>
                </a:lnTo>
                <a:lnTo>
                  <a:pt x="267" y="246"/>
                </a:lnTo>
                <a:lnTo>
                  <a:pt x="274" y="253"/>
                </a:lnTo>
                <a:lnTo>
                  <a:pt x="267" y="260"/>
                </a:lnTo>
                <a:lnTo>
                  <a:pt x="267" y="267"/>
                </a:lnTo>
                <a:lnTo>
                  <a:pt x="267" y="274"/>
                </a:lnTo>
                <a:lnTo>
                  <a:pt x="261" y="281"/>
                </a:lnTo>
                <a:lnTo>
                  <a:pt x="261" y="287"/>
                </a:lnTo>
                <a:lnTo>
                  <a:pt x="254" y="287"/>
                </a:lnTo>
                <a:lnTo>
                  <a:pt x="254" y="294"/>
                </a:lnTo>
                <a:lnTo>
                  <a:pt x="254" y="301"/>
                </a:lnTo>
                <a:lnTo>
                  <a:pt x="254" y="308"/>
                </a:lnTo>
                <a:lnTo>
                  <a:pt x="247" y="315"/>
                </a:lnTo>
                <a:lnTo>
                  <a:pt x="247" y="322"/>
                </a:lnTo>
                <a:lnTo>
                  <a:pt x="247" y="328"/>
                </a:lnTo>
                <a:lnTo>
                  <a:pt x="240" y="335"/>
                </a:lnTo>
                <a:lnTo>
                  <a:pt x="240" y="335"/>
                </a:lnTo>
                <a:lnTo>
                  <a:pt x="240" y="342"/>
                </a:lnTo>
                <a:lnTo>
                  <a:pt x="233" y="349"/>
                </a:lnTo>
                <a:lnTo>
                  <a:pt x="226" y="356"/>
                </a:lnTo>
                <a:lnTo>
                  <a:pt x="220" y="363"/>
                </a:lnTo>
                <a:lnTo>
                  <a:pt x="213" y="363"/>
                </a:lnTo>
                <a:lnTo>
                  <a:pt x="206" y="369"/>
                </a:lnTo>
                <a:lnTo>
                  <a:pt x="199" y="369"/>
                </a:lnTo>
                <a:lnTo>
                  <a:pt x="192" y="376"/>
                </a:lnTo>
                <a:lnTo>
                  <a:pt x="185" y="376"/>
                </a:lnTo>
                <a:lnTo>
                  <a:pt x="178" y="383"/>
                </a:lnTo>
                <a:lnTo>
                  <a:pt x="165" y="383"/>
                </a:lnTo>
                <a:lnTo>
                  <a:pt x="158" y="383"/>
                </a:lnTo>
                <a:lnTo>
                  <a:pt x="151" y="383"/>
                </a:lnTo>
                <a:lnTo>
                  <a:pt x="137" y="383"/>
                </a:lnTo>
                <a:lnTo>
                  <a:pt x="130" y="383"/>
                </a:lnTo>
                <a:lnTo>
                  <a:pt x="124" y="376"/>
                </a:lnTo>
                <a:lnTo>
                  <a:pt x="110" y="376"/>
                </a:lnTo>
                <a:lnTo>
                  <a:pt x="103" y="369"/>
                </a:lnTo>
                <a:lnTo>
                  <a:pt x="96" y="369"/>
                </a:lnTo>
                <a:lnTo>
                  <a:pt x="96" y="363"/>
                </a:lnTo>
                <a:lnTo>
                  <a:pt x="89" y="356"/>
                </a:lnTo>
                <a:lnTo>
                  <a:pt x="82" y="349"/>
                </a:lnTo>
                <a:lnTo>
                  <a:pt x="82" y="342"/>
                </a:lnTo>
                <a:lnTo>
                  <a:pt x="82" y="335"/>
                </a:lnTo>
                <a:lnTo>
                  <a:pt x="82" y="335"/>
                </a:lnTo>
                <a:lnTo>
                  <a:pt x="82" y="328"/>
                </a:lnTo>
                <a:lnTo>
                  <a:pt x="82" y="322"/>
                </a:lnTo>
                <a:lnTo>
                  <a:pt x="76" y="315"/>
                </a:lnTo>
                <a:lnTo>
                  <a:pt x="76" y="308"/>
                </a:lnTo>
                <a:lnTo>
                  <a:pt x="76" y="301"/>
                </a:lnTo>
                <a:lnTo>
                  <a:pt x="69" y="294"/>
                </a:lnTo>
                <a:lnTo>
                  <a:pt x="62" y="294"/>
                </a:lnTo>
                <a:lnTo>
                  <a:pt x="55" y="287"/>
                </a:lnTo>
                <a:lnTo>
                  <a:pt x="41" y="287"/>
                </a:lnTo>
                <a:lnTo>
                  <a:pt x="34" y="281"/>
                </a:lnTo>
                <a:lnTo>
                  <a:pt x="28" y="281"/>
                </a:lnTo>
                <a:lnTo>
                  <a:pt x="28" y="274"/>
                </a:lnTo>
                <a:lnTo>
                  <a:pt x="21" y="267"/>
                </a:lnTo>
                <a:lnTo>
                  <a:pt x="21" y="260"/>
                </a:lnTo>
                <a:lnTo>
                  <a:pt x="14" y="253"/>
                </a:lnTo>
                <a:lnTo>
                  <a:pt x="14" y="246"/>
                </a:lnTo>
                <a:lnTo>
                  <a:pt x="21" y="246"/>
                </a:lnTo>
                <a:lnTo>
                  <a:pt x="28" y="239"/>
                </a:lnTo>
                <a:lnTo>
                  <a:pt x="28" y="233"/>
                </a:lnTo>
                <a:lnTo>
                  <a:pt x="28" y="226"/>
                </a:lnTo>
                <a:lnTo>
                  <a:pt x="34" y="219"/>
                </a:lnTo>
                <a:lnTo>
                  <a:pt x="34" y="212"/>
                </a:lnTo>
                <a:lnTo>
                  <a:pt x="41" y="212"/>
                </a:lnTo>
                <a:lnTo>
                  <a:pt x="41" y="205"/>
                </a:lnTo>
                <a:lnTo>
                  <a:pt x="48" y="198"/>
                </a:lnTo>
                <a:lnTo>
                  <a:pt x="48" y="192"/>
                </a:lnTo>
                <a:lnTo>
                  <a:pt x="55" y="185"/>
                </a:lnTo>
                <a:lnTo>
                  <a:pt x="62" y="178"/>
                </a:lnTo>
                <a:lnTo>
                  <a:pt x="62" y="171"/>
                </a:lnTo>
                <a:lnTo>
                  <a:pt x="62" y="164"/>
                </a:lnTo>
                <a:lnTo>
                  <a:pt x="55" y="164"/>
                </a:lnTo>
                <a:lnTo>
                  <a:pt x="48" y="157"/>
                </a:lnTo>
                <a:lnTo>
                  <a:pt x="41" y="164"/>
                </a:lnTo>
                <a:lnTo>
                  <a:pt x="34" y="171"/>
                </a:lnTo>
                <a:lnTo>
                  <a:pt x="34" y="178"/>
                </a:lnTo>
                <a:lnTo>
                  <a:pt x="28" y="185"/>
                </a:lnTo>
                <a:lnTo>
                  <a:pt x="21" y="185"/>
                </a:lnTo>
                <a:lnTo>
                  <a:pt x="14" y="185"/>
                </a:lnTo>
                <a:lnTo>
                  <a:pt x="0" y="185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8" name=""/>
          <p:cNvSpPr/>
          <p:nvPr/>
        </p:nvSpPr>
        <p:spPr>
          <a:xfrm>
            <a:off x="5118120" y="3352680"/>
            <a:ext cx="1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9" name=""/>
          <p:cNvSpPr/>
          <p:nvPr/>
        </p:nvSpPr>
        <p:spPr>
          <a:xfrm>
            <a:off x="4965840" y="3395520"/>
            <a:ext cx="44280" cy="65160"/>
          </a:xfrm>
          <a:custGeom>
            <a:avLst/>
            <a:gdLst/>
            <a:ahLst/>
            <a:rect l="l" t="t" r="r" b="b"/>
            <a:pathLst>
              <a:path w="28" h="41">
                <a:moveTo>
                  <a:pt x="28" y="41"/>
                </a:moveTo>
                <a:lnTo>
                  <a:pt x="21" y="41"/>
                </a:lnTo>
                <a:lnTo>
                  <a:pt x="7" y="14"/>
                </a:lnTo>
                <a:lnTo>
                  <a:pt x="7" y="14"/>
                </a:lnTo>
                <a:lnTo>
                  <a:pt x="7" y="14"/>
                </a:lnTo>
                <a:lnTo>
                  <a:pt x="7" y="21"/>
                </a:lnTo>
                <a:lnTo>
                  <a:pt x="0" y="21"/>
                </a:lnTo>
                <a:lnTo>
                  <a:pt x="0" y="21"/>
                </a:lnTo>
                <a:lnTo>
                  <a:pt x="0" y="21"/>
                </a:lnTo>
                <a:lnTo>
                  <a:pt x="0" y="21"/>
                </a:lnTo>
                <a:lnTo>
                  <a:pt x="0" y="27"/>
                </a:lnTo>
                <a:lnTo>
                  <a:pt x="0" y="21"/>
                </a:lnTo>
                <a:lnTo>
                  <a:pt x="0" y="21"/>
                </a:lnTo>
                <a:lnTo>
                  <a:pt x="0" y="14"/>
                </a:lnTo>
                <a:lnTo>
                  <a:pt x="0" y="14"/>
                </a:lnTo>
                <a:lnTo>
                  <a:pt x="0" y="14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7" y="0"/>
                </a:lnTo>
                <a:lnTo>
                  <a:pt x="28" y="4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0" name=""/>
          <p:cNvSpPr/>
          <p:nvPr/>
        </p:nvSpPr>
        <p:spPr>
          <a:xfrm>
            <a:off x="4998960" y="3373560"/>
            <a:ext cx="65160" cy="64800"/>
          </a:xfrm>
          <a:custGeom>
            <a:avLst/>
            <a:gdLst/>
            <a:ahLst/>
            <a:rect l="l" t="t" r="r" b="b"/>
            <a:pathLst>
              <a:path w="41" h="41">
                <a:moveTo>
                  <a:pt x="27" y="0"/>
                </a:moveTo>
                <a:lnTo>
                  <a:pt x="20" y="7"/>
                </a:lnTo>
                <a:lnTo>
                  <a:pt x="20" y="7"/>
                </a:lnTo>
                <a:lnTo>
                  <a:pt x="20" y="7"/>
                </a:lnTo>
                <a:lnTo>
                  <a:pt x="20" y="7"/>
                </a:lnTo>
                <a:lnTo>
                  <a:pt x="20" y="7"/>
                </a:lnTo>
                <a:lnTo>
                  <a:pt x="13" y="0"/>
                </a:lnTo>
                <a:lnTo>
                  <a:pt x="13" y="0"/>
                </a:lnTo>
                <a:lnTo>
                  <a:pt x="13" y="7"/>
                </a:lnTo>
                <a:lnTo>
                  <a:pt x="13" y="7"/>
                </a:lnTo>
                <a:lnTo>
                  <a:pt x="13" y="7"/>
                </a:lnTo>
                <a:lnTo>
                  <a:pt x="13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14"/>
                </a:lnTo>
                <a:lnTo>
                  <a:pt x="7" y="14"/>
                </a:lnTo>
                <a:lnTo>
                  <a:pt x="7" y="14"/>
                </a:lnTo>
                <a:lnTo>
                  <a:pt x="7" y="14"/>
                </a:lnTo>
                <a:lnTo>
                  <a:pt x="7" y="21"/>
                </a:lnTo>
                <a:lnTo>
                  <a:pt x="13" y="21"/>
                </a:lnTo>
                <a:lnTo>
                  <a:pt x="13" y="28"/>
                </a:lnTo>
                <a:lnTo>
                  <a:pt x="13" y="21"/>
                </a:lnTo>
                <a:lnTo>
                  <a:pt x="13" y="21"/>
                </a:lnTo>
                <a:lnTo>
                  <a:pt x="13" y="21"/>
                </a:lnTo>
                <a:lnTo>
                  <a:pt x="13" y="21"/>
                </a:lnTo>
                <a:lnTo>
                  <a:pt x="13" y="14"/>
                </a:lnTo>
                <a:lnTo>
                  <a:pt x="13" y="14"/>
                </a:lnTo>
                <a:lnTo>
                  <a:pt x="20" y="14"/>
                </a:lnTo>
                <a:lnTo>
                  <a:pt x="20" y="14"/>
                </a:lnTo>
                <a:lnTo>
                  <a:pt x="20" y="14"/>
                </a:lnTo>
                <a:lnTo>
                  <a:pt x="20" y="14"/>
                </a:lnTo>
                <a:lnTo>
                  <a:pt x="27" y="14"/>
                </a:lnTo>
                <a:lnTo>
                  <a:pt x="27" y="14"/>
                </a:lnTo>
                <a:lnTo>
                  <a:pt x="34" y="14"/>
                </a:lnTo>
                <a:lnTo>
                  <a:pt x="34" y="14"/>
                </a:lnTo>
                <a:lnTo>
                  <a:pt x="34" y="14"/>
                </a:lnTo>
                <a:lnTo>
                  <a:pt x="34" y="21"/>
                </a:lnTo>
                <a:lnTo>
                  <a:pt x="41" y="21"/>
                </a:lnTo>
                <a:lnTo>
                  <a:pt x="41" y="21"/>
                </a:lnTo>
                <a:lnTo>
                  <a:pt x="41" y="28"/>
                </a:lnTo>
                <a:lnTo>
                  <a:pt x="41" y="28"/>
                </a:lnTo>
                <a:lnTo>
                  <a:pt x="41" y="28"/>
                </a:lnTo>
                <a:lnTo>
                  <a:pt x="41" y="28"/>
                </a:lnTo>
                <a:lnTo>
                  <a:pt x="41" y="35"/>
                </a:lnTo>
                <a:lnTo>
                  <a:pt x="41" y="35"/>
                </a:lnTo>
                <a:lnTo>
                  <a:pt x="34" y="35"/>
                </a:lnTo>
                <a:lnTo>
                  <a:pt x="34" y="35"/>
                </a:lnTo>
                <a:lnTo>
                  <a:pt x="34" y="41"/>
                </a:lnTo>
                <a:lnTo>
                  <a:pt x="34" y="41"/>
                </a:lnTo>
                <a:lnTo>
                  <a:pt x="27" y="41"/>
                </a:lnTo>
                <a:lnTo>
                  <a:pt x="27" y="41"/>
                </a:lnTo>
                <a:lnTo>
                  <a:pt x="20" y="41"/>
                </a:lnTo>
                <a:lnTo>
                  <a:pt x="20" y="41"/>
                </a:lnTo>
                <a:lnTo>
                  <a:pt x="20" y="41"/>
                </a:lnTo>
                <a:lnTo>
                  <a:pt x="13" y="35"/>
                </a:lnTo>
                <a:lnTo>
                  <a:pt x="13" y="35"/>
                </a:lnTo>
                <a:lnTo>
                  <a:pt x="7" y="28"/>
                </a:lnTo>
                <a:lnTo>
                  <a:pt x="7" y="21"/>
                </a:lnTo>
                <a:lnTo>
                  <a:pt x="7" y="21"/>
                </a:lnTo>
                <a:lnTo>
                  <a:pt x="0" y="14"/>
                </a:lnTo>
                <a:lnTo>
                  <a:pt x="0" y="14"/>
                </a:lnTo>
                <a:lnTo>
                  <a:pt x="7" y="7"/>
                </a:lnTo>
                <a:lnTo>
                  <a:pt x="7" y="7"/>
                </a:lnTo>
                <a:lnTo>
                  <a:pt x="7" y="0"/>
                </a:lnTo>
                <a:lnTo>
                  <a:pt x="7" y="0"/>
                </a:lnTo>
                <a:lnTo>
                  <a:pt x="13" y="0"/>
                </a:lnTo>
                <a:lnTo>
                  <a:pt x="13" y="0"/>
                </a:lnTo>
                <a:lnTo>
                  <a:pt x="13" y="0"/>
                </a:lnTo>
                <a:lnTo>
                  <a:pt x="20" y="0"/>
                </a:lnTo>
                <a:lnTo>
                  <a:pt x="20" y="0"/>
                </a:lnTo>
                <a:lnTo>
                  <a:pt x="20" y="0"/>
                </a:lnTo>
                <a:lnTo>
                  <a:pt x="27" y="0"/>
                </a:lnTo>
                <a:lnTo>
                  <a:pt x="27" y="0"/>
                </a:lnTo>
                <a:close/>
                <a:moveTo>
                  <a:pt x="20" y="35"/>
                </a:moveTo>
                <a:lnTo>
                  <a:pt x="20" y="35"/>
                </a:lnTo>
                <a:lnTo>
                  <a:pt x="20" y="35"/>
                </a:lnTo>
                <a:lnTo>
                  <a:pt x="20" y="35"/>
                </a:lnTo>
                <a:lnTo>
                  <a:pt x="20" y="35"/>
                </a:lnTo>
                <a:lnTo>
                  <a:pt x="20" y="35"/>
                </a:lnTo>
                <a:lnTo>
                  <a:pt x="20" y="35"/>
                </a:lnTo>
                <a:lnTo>
                  <a:pt x="27" y="35"/>
                </a:lnTo>
                <a:lnTo>
                  <a:pt x="27" y="35"/>
                </a:lnTo>
                <a:lnTo>
                  <a:pt x="27" y="35"/>
                </a:lnTo>
                <a:lnTo>
                  <a:pt x="27" y="35"/>
                </a:lnTo>
                <a:lnTo>
                  <a:pt x="27" y="35"/>
                </a:lnTo>
                <a:lnTo>
                  <a:pt x="27" y="35"/>
                </a:lnTo>
                <a:lnTo>
                  <a:pt x="34" y="35"/>
                </a:lnTo>
                <a:lnTo>
                  <a:pt x="34" y="35"/>
                </a:lnTo>
                <a:lnTo>
                  <a:pt x="34" y="35"/>
                </a:lnTo>
                <a:lnTo>
                  <a:pt x="34" y="28"/>
                </a:lnTo>
                <a:lnTo>
                  <a:pt x="34" y="28"/>
                </a:lnTo>
                <a:lnTo>
                  <a:pt x="34" y="28"/>
                </a:lnTo>
                <a:lnTo>
                  <a:pt x="34" y="28"/>
                </a:lnTo>
                <a:lnTo>
                  <a:pt x="34" y="21"/>
                </a:lnTo>
                <a:lnTo>
                  <a:pt x="34" y="21"/>
                </a:lnTo>
                <a:lnTo>
                  <a:pt x="27" y="21"/>
                </a:lnTo>
                <a:lnTo>
                  <a:pt x="27" y="21"/>
                </a:lnTo>
                <a:lnTo>
                  <a:pt x="27" y="21"/>
                </a:lnTo>
                <a:lnTo>
                  <a:pt x="27" y="21"/>
                </a:lnTo>
                <a:lnTo>
                  <a:pt x="20" y="21"/>
                </a:lnTo>
                <a:lnTo>
                  <a:pt x="20" y="21"/>
                </a:lnTo>
                <a:lnTo>
                  <a:pt x="20" y="21"/>
                </a:lnTo>
                <a:lnTo>
                  <a:pt x="20" y="21"/>
                </a:lnTo>
                <a:lnTo>
                  <a:pt x="20" y="21"/>
                </a:lnTo>
                <a:lnTo>
                  <a:pt x="13" y="21"/>
                </a:lnTo>
                <a:lnTo>
                  <a:pt x="13" y="21"/>
                </a:lnTo>
                <a:lnTo>
                  <a:pt x="13" y="28"/>
                </a:lnTo>
                <a:lnTo>
                  <a:pt x="13" y="28"/>
                </a:lnTo>
                <a:lnTo>
                  <a:pt x="13" y="28"/>
                </a:lnTo>
                <a:lnTo>
                  <a:pt x="20" y="35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1" name=""/>
          <p:cNvSpPr/>
          <p:nvPr/>
        </p:nvSpPr>
        <p:spPr>
          <a:xfrm>
            <a:off x="5052960" y="3341520"/>
            <a:ext cx="54000" cy="76320"/>
          </a:xfrm>
          <a:custGeom>
            <a:avLst/>
            <a:gdLst/>
            <a:ahLst/>
            <a:rect l="l" t="t" r="r" b="b"/>
            <a:pathLst>
              <a:path w="34" h="48">
                <a:moveTo>
                  <a:pt x="7" y="27"/>
                </a:moveTo>
                <a:lnTo>
                  <a:pt x="0" y="27"/>
                </a:lnTo>
                <a:lnTo>
                  <a:pt x="0" y="27"/>
                </a:lnTo>
                <a:lnTo>
                  <a:pt x="0" y="20"/>
                </a:lnTo>
                <a:lnTo>
                  <a:pt x="0" y="20"/>
                </a:lnTo>
                <a:lnTo>
                  <a:pt x="0" y="14"/>
                </a:lnTo>
                <a:lnTo>
                  <a:pt x="0" y="14"/>
                </a:lnTo>
                <a:lnTo>
                  <a:pt x="0" y="14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7" y="7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14" y="0"/>
                </a:lnTo>
                <a:lnTo>
                  <a:pt x="14" y="0"/>
                </a:lnTo>
                <a:lnTo>
                  <a:pt x="14" y="0"/>
                </a:lnTo>
                <a:lnTo>
                  <a:pt x="14" y="0"/>
                </a:lnTo>
                <a:lnTo>
                  <a:pt x="14" y="0"/>
                </a:lnTo>
                <a:lnTo>
                  <a:pt x="21" y="7"/>
                </a:lnTo>
                <a:lnTo>
                  <a:pt x="21" y="7"/>
                </a:lnTo>
                <a:lnTo>
                  <a:pt x="21" y="7"/>
                </a:lnTo>
                <a:lnTo>
                  <a:pt x="21" y="7"/>
                </a:lnTo>
                <a:lnTo>
                  <a:pt x="21" y="7"/>
                </a:lnTo>
                <a:lnTo>
                  <a:pt x="27" y="14"/>
                </a:lnTo>
                <a:lnTo>
                  <a:pt x="27" y="14"/>
                </a:lnTo>
                <a:lnTo>
                  <a:pt x="27" y="14"/>
                </a:lnTo>
                <a:lnTo>
                  <a:pt x="27" y="20"/>
                </a:lnTo>
                <a:lnTo>
                  <a:pt x="34" y="20"/>
                </a:lnTo>
                <a:lnTo>
                  <a:pt x="34" y="27"/>
                </a:lnTo>
                <a:lnTo>
                  <a:pt x="34" y="27"/>
                </a:lnTo>
                <a:lnTo>
                  <a:pt x="34" y="27"/>
                </a:lnTo>
                <a:lnTo>
                  <a:pt x="34" y="34"/>
                </a:lnTo>
                <a:lnTo>
                  <a:pt x="34" y="34"/>
                </a:lnTo>
                <a:lnTo>
                  <a:pt x="34" y="34"/>
                </a:lnTo>
                <a:lnTo>
                  <a:pt x="34" y="41"/>
                </a:lnTo>
                <a:lnTo>
                  <a:pt x="34" y="41"/>
                </a:lnTo>
                <a:lnTo>
                  <a:pt x="27" y="41"/>
                </a:lnTo>
                <a:lnTo>
                  <a:pt x="27" y="41"/>
                </a:lnTo>
                <a:lnTo>
                  <a:pt x="27" y="41"/>
                </a:lnTo>
                <a:lnTo>
                  <a:pt x="21" y="48"/>
                </a:lnTo>
                <a:lnTo>
                  <a:pt x="21" y="48"/>
                </a:lnTo>
                <a:lnTo>
                  <a:pt x="14" y="41"/>
                </a:lnTo>
                <a:lnTo>
                  <a:pt x="14" y="41"/>
                </a:lnTo>
                <a:lnTo>
                  <a:pt x="7" y="41"/>
                </a:lnTo>
                <a:lnTo>
                  <a:pt x="7" y="34"/>
                </a:lnTo>
                <a:lnTo>
                  <a:pt x="7" y="27"/>
                </a:lnTo>
                <a:close/>
                <a:moveTo>
                  <a:pt x="7" y="27"/>
                </a:moveTo>
                <a:lnTo>
                  <a:pt x="14" y="34"/>
                </a:lnTo>
                <a:lnTo>
                  <a:pt x="14" y="34"/>
                </a:lnTo>
                <a:lnTo>
                  <a:pt x="14" y="34"/>
                </a:lnTo>
                <a:lnTo>
                  <a:pt x="21" y="41"/>
                </a:lnTo>
                <a:lnTo>
                  <a:pt x="21" y="41"/>
                </a:lnTo>
                <a:lnTo>
                  <a:pt x="21" y="41"/>
                </a:lnTo>
                <a:lnTo>
                  <a:pt x="21" y="41"/>
                </a:lnTo>
                <a:lnTo>
                  <a:pt x="27" y="41"/>
                </a:lnTo>
                <a:lnTo>
                  <a:pt x="27" y="34"/>
                </a:lnTo>
                <a:lnTo>
                  <a:pt x="27" y="34"/>
                </a:lnTo>
                <a:lnTo>
                  <a:pt x="27" y="34"/>
                </a:lnTo>
                <a:lnTo>
                  <a:pt x="27" y="34"/>
                </a:lnTo>
                <a:lnTo>
                  <a:pt x="27" y="27"/>
                </a:lnTo>
                <a:lnTo>
                  <a:pt x="27" y="27"/>
                </a:lnTo>
                <a:lnTo>
                  <a:pt x="27" y="20"/>
                </a:lnTo>
                <a:lnTo>
                  <a:pt x="21" y="20"/>
                </a:lnTo>
                <a:lnTo>
                  <a:pt x="21" y="14"/>
                </a:lnTo>
                <a:lnTo>
                  <a:pt x="21" y="14"/>
                </a:lnTo>
                <a:lnTo>
                  <a:pt x="14" y="7"/>
                </a:lnTo>
                <a:lnTo>
                  <a:pt x="14" y="7"/>
                </a:lnTo>
                <a:lnTo>
                  <a:pt x="14" y="7"/>
                </a:lnTo>
                <a:lnTo>
                  <a:pt x="14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14"/>
                </a:lnTo>
                <a:lnTo>
                  <a:pt x="0" y="14"/>
                </a:lnTo>
                <a:lnTo>
                  <a:pt x="7" y="14"/>
                </a:lnTo>
                <a:lnTo>
                  <a:pt x="7" y="20"/>
                </a:lnTo>
                <a:lnTo>
                  <a:pt x="7" y="20"/>
                </a:lnTo>
                <a:lnTo>
                  <a:pt x="7" y="27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2" name=""/>
          <p:cNvSpPr/>
          <p:nvPr/>
        </p:nvSpPr>
        <p:spPr>
          <a:xfrm flipH="1">
            <a:off x="4933440" y="3460680"/>
            <a:ext cx="9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3" name=""/>
          <p:cNvSpPr/>
          <p:nvPr/>
        </p:nvSpPr>
        <p:spPr>
          <a:xfrm>
            <a:off x="4400640" y="3460680"/>
            <a:ext cx="533160" cy="652680"/>
          </a:xfrm>
          <a:custGeom>
            <a:avLst/>
            <a:gdLst/>
            <a:ahLst/>
            <a:rect l="l" t="t" r="r" b="b"/>
            <a:pathLst>
              <a:path w="336" h="411">
                <a:moveTo>
                  <a:pt x="336" y="0"/>
                </a:moveTo>
                <a:lnTo>
                  <a:pt x="336" y="7"/>
                </a:lnTo>
                <a:lnTo>
                  <a:pt x="329" y="14"/>
                </a:lnTo>
                <a:lnTo>
                  <a:pt x="322" y="21"/>
                </a:lnTo>
                <a:lnTo>
                  <a:pt x="315" y="21"/>
                </a:lnTo>
                <a:lnTo>
                  <a:pt x="308" y="28"/>
                </a:lnTo>
                <a:lnTo>
                  <a:pt x="308" y="34"/>
                </a:lnTo>
                <a:lnTo>
                  <a:pt x="308" y="41"/>
                </a:lnTo>
                <a:lnTo>
                  <a:pt x="308" y="48"/>
                </a:lnTo>
                <a:lnTo>
                  <a:pt x="301" y="55"/>
                </a:lnTo>
                <a:lnTo>
                  <a:pt x="301" y="55"/>
                </a:lnTo>
                <a:lnTo>
                  <a:pt x="294" y="62"/>
                </a:lnTo>
                <a:lnTo>
                  <a:pt x="281" y="62"/>
                </a:lnTo>
                <a:lnTo>
                  <a:pt x="274" y="55"/>
                </a:lnTo>
                <a:lnTo>
                  <a:pt x="267" y="55"/>
                </a:lnTo>
                <a:lnTo>
                  <a:pt x="260" y="62"/>
                </a:lnTo>
                <a:lnTo>
                  <a:pt x="253" y="69"/>
                </a:lnTo>
                <a:lnTo>
                  <a:pt x="253" y="75"/>
                </a:lnTo>
                <a:lnTo>
                  <a:pt x="246" y="82"/>
                </a:lnTo>
                <a:lnTo>
                  <a:pt x="246" y="89"/>
                </a:lnTo>
                <a:lnTo>
                  <a:pt x="240" y="96"/>
                </a:lnTo>
                <a:lnTo>
                  <a:pt x="240" y="103"/>
                </a:lnTo>
                <a:lnTo>
                  <a:pt x="233" y="103"/>
                </a:lnTo>
                <a:lnTo>
                  <a:pt x="233" y="110"/>
                </a:lnTo>
                <a:lnTo>
                  <a:pt x="233" y="116"/>
                </a:lnTo>
                <a:lnTo>
                  <a:pt x="226" y="123"/>
                </a:lnTo>
                <a:lnTo>
                  <a:pt x="226" y="130"/>
                </a:lnTo>
                <a:lnTo>
                  <a:pt x="226" y="137"/>
                </a:lnTo>
                <a:lnTo>
                  <a:pt x="226" y="144"/>
                </a:lnTo>
                <a:lnTo>
                  <a:pt x="226" y="151"/>
                </a:lnTo>
                <a:lnTo>
                  <a:pt x="226" y="158"/>
                </a:lnTo>
                <a:lnTo>
                  <a:pt x="226" y="158"/>
                </a:lnTo>
                <a:lnTo>
                  <a:pt x="226" y="164"/>
                </a:lnTo>
                <a:lnTo>
                  <a:pt x="226" y="171"/>
                </a:lnTo>
                <a:lnTo>
                  <a:pt x="219" y="178"/>
                </a:lnTo>
                <a:lnTo>
                  <a:pt x="219" y="185"/>
                </a:lnTo>
                <a:lnTo>
                  <a:pt x="219" y="192"/>
                </a:lnTo>
                <a:lnTo>
                  <a:pt x="219" y="199"/>
                </a:lnTo>
                <a:lnTo>
                  <a:pt x="219" y="205"/>
                </a:lnTo>
                <a:lnTo>
                  <a:pt x="219" y="212"/>
                </a:lnTo>
                <a:lnTo>
                  <a:pt x="219" y="212"/>
                </a:lnTo>
                <a:lnTo>
                  <a:pt x="219" y="219"/>
                </a:lnTo>
                <a:lnTo>
                  <a:pt x="219" y="226"/>
                </a:lnTo>
                <a:lnTo>
                  <a:pt x="219" y="233"/>
                </a:lnTo>
                <a:lnTo>
                  <a:pt x="219" y="240"/>
                </a:lnTo>
                <a:lnTo>
                  <a:pt x="226" y="247"/>
                </a:lnTo>
                <a:lnTo>
                  <a:pt x="226" y="253"/>
                </a:lnTo>
                <a:lnTo>
                  <a:pt x="226" y="260"/>
                </a:lnTo>
                <a:lnTo>
                  <a:pt x="226" y="267"/>
                </a:lnTo>
                <a:lnTo>
                  <a:pt x="226" y="267"/>
                </a:lnTo>
                <a:lnTo>
                  <a:pt x="226" y="274"/>
                </a:lnTo>
                <a:lnTo>
                  <a:pt x="226" y="281"/>
                </a:lnTo>
                <a:lnTo>
                  <a:pt x="226" y="288"/>
                </a:lnTo>
                <a:lnTo>
                  <a:pt x="226" y="294"/>
                </a:lnTo>
                <a:lnTo>
                  <a:pt x="226" y="301"/>
                </a:lnTo>
                <a:lnTo>
                  <a:pt x="219" y="308"/>
                </a:lnTo>
                <a:lnTo>
                  <a:pt x="212" y="315"/>
                </a:lnTo>
                <a:lnTo>
                  <a:pt x="212" y="315"/>
                </a:lnTo>
                <a:lnTo>
                  <a:pt x="205" y="322"/>
                </a:lnTo>
                <a:lnTo>
                  <a:pt x="198" y="329"/>
                </a:lnTo>
                <a:lnTo>
                  <a:pt x="192" y="335"/>
                </a:lnTo>
                <a:lnTo>
                  <a:pt x="185" y="335"/>
                </a:lnTo>
                <a:lnTo>
                  <a:pt x="185" y="342"/>
                </a:lnTo>
                <a:lnTo>
                  <a:pt x="185" y="349"/>
                </a:lnTo>
                <a:lnTo>
                  <a:pt x="192" y="356"/>
                </a:lnTo>
                <a:lnTo>
                  <a:pt x="205" y="363"/>
                </a:lnTo>
                <a:lnTo>
                  <a:pt x="212" y="363"/>
                </a:lnTo>
                <a:lnTo>
                  <a:pt x="219" y="363"/>
                </a:lnTo>
                <a:lnTo>
                  <a:pt x="226" y="356"/>
                </a:lnTo>
                <a:lnTo>
                  <a:pt x="226" y="349"/>
                </a:lnTo>
                <a:lnTo>
                  <a:pt x="233" y="342"/>
                </a:lnTo>
                <a:lnTo>
                  <a:pt x="233" y="335"/>
                </a:lnTo>
                <a:lnTo>
                  <a:pt x="240" y="329"/>
                </a:lnTo>
                <a:lnTo>
                  <a:pt x="246" y="329"/>
                </a:lnTo>
                <a:lnTo>
                  <a:pt x="246" y="335"/>
                </a:lnTo>
                <a:lnTo>
                  <a:pt x="253" y="342"/>
                </a:lnTo>
                <a:lnTo>
                  <a:pt x="253" y="349"/>
                </a:lnTo>
                <a:lnTo>
                  <a:pt x="253" y="356"/>
                </a:lnTo>
                <a:lnTo>
                  <a:pt x="246" y="356"/>
                </a:lnTo>
                <a:lnTo>
                  <a:pt x="240" y="363"/>
                </a:lnTo>
                <a:lnTo>
                  <a:pt x="240" y="370"/>
                </a:lnTo>
                <a:lnTo>
                  <a:pt x="233" y="377"/>
                </a:lnTo>
                <a:lnTo>
                  <a:pt x="226" y="383"/>
                </a:lnTo>
                <a:lnTo>
                  <a:pt x="219" y="383"/>
                </a:lnTo>
                <a:lnTo>
                  <a:pt x="212" y="383"/>
                </a:lnTo>
                <a:lnTo>
                  <a:pt x="205" y="377"/>
                </a:lnTo>
                <a:lnTo>
                  <a:pt x="205" y="370"/>
                </a:lnTo>
                <a:lnTo>
                  <a:pt x="198" y="370"/>
                </a:lnTo>
                <a:lnTo>
                  <a:pt x="198" y="363"/>
                </a:lnTo>
                <a:lnTo>
                  <a:pt x="192" y="356"/>
                </a:lnTo>
                <a:lnTo>
                  <a:pt x="185" y="349"/>
                </a:lnTo>
                <a:lnTo>
                  <a:pt x="185" y="342"/>
                </a:lnTo>
                <a:lnTo>
                  <a:pt x="178" y="342"/>
                </a:lnTo>
                <a:lnTo>
                  <a:pt x="171" y="335"/>
                </a:lnTo>
                <a:lnTo>
                  <a:pt x="171" y="329"/>
                </a:lnTo>
                <a:lnTo>
                  <a:pt x="164" y="322"/>
                </a:lnTo>
                <a:lnTo>
                  <a:pt x="157" y="315"/>
                </a:lnTo>
                <a:lnTo>
                  <a:pt x="157" y="315"/>
                </a:lnTo>
                <a:lnTo>
                  <a:pt x="150" y="308"/>
                </a:lnTo>
                <a:lnTo>
                  <a:pt x="150" y="301"/>
                </a:lnTo>
                <a:lnTo>
                  <a:pt x="150" y="294"/>
                </a:lnTo>
                <a:lnTo>
                  <a:pt x="150" y="288"/>
                </a:lnTo>
                <a:lnTo>
                  <a:pt x="150" y="281"/>
                </a:lnTo>
                <a:lnTo>
                  <a:pt x="144" y="274"/>
                </a:lnTo>
                <a:lnTo>
                  <a:pt x="144" y="267"/>
                </a:lnTo>
                <a:lnTo>
                  <a:pt x="144" y="267"/>
                </a:lnTo>
                <a:lnTo>
                  <a:pt x="144" y="260"/>
                </a:lnTo>
                <a:lnTo>
                  <a:pt x="144" y="253"/>
                </a:lnTo>
                <a:lnTo>
                  <a:pt x="144" y="247"/>
                </a:lnTo>
                <a:lnTo>
                  <a:pt x="137" y="240"/>
                </a:lnTo>
                <a:lnTo>
                  <a:pt x="137" y="233"/>
                </a:lnTo>
                <a:lnTo>
                  <a:pt x="137" y="226"/>
                </a:lnTo>
                <a:lnTo>
                  <a:pt x="137" y="226"/>
                </a:lnTo>
                <a:lnTo>
                  <a:pt x="130" y="219"/>
                </a:lnTo>
                <a:lnTo>
                  <a:pt x="130" y="212"/>
                </a:lnTo>
                <a:lnTo>
                  <a:pt x="130" y="205"/>
                </a:lnTo>
                <a:lnTo>
                  <a:pt x="130" y="199"/>
                </a:lnTo>
                <a:lnTo>
                  <a:pt x="123" y="192"/>
                </a:lnTo>
                <a:lnTo>
                  <a:pt x="123" y="185"/>
                </a:lnTo>
                <a:lnTo>
                  <a:pt x="123" y="192"/>
                </a:lnTo>
                <a:lnTo>
                  <a:pt x="116" y="199"/>
                </a:lnTo>
                <a:lnTo>
                  <a:pt x="109" y="205"/>
                </a:lnTo>
                <a:lnTo>
                  <a:pt x="102" y="205"/>
                </a:lnTo>
                <a:lnTo>
                  <a:pt x="96" y="205"/>
                </a:lnTo>
                <a:lnTo>
                  <a:pt x="89" y="212"/>
                </a:lnTo>
                <a:lnTo>
                  <a:pt x="89" y="219"/>
                </a:lnTo>
                <a:lnTo>
                  <a:pt x="82" y="226"/>
                </a:lnTo>
                <a:lnTo>
                  <a:pt x="82" y="233"/>
                </a:lnTo>
                <a:lnTo>
                  <a:pt x="75" y="240"/>
                </a:lnTo>
                <a:lnTo>
                  <a:pt x="75" y="247"/>
                </a:lnTo>
                <a:lnTo>
                  <a:pt x="68" y="247"/>
                </a:lnTo>
                <a:lnTo>
                  <a:pt x="68" y="253"/>
                </a:lnTo>
                <a:lnTo>
                  <a:pt x="61" y="260"/>
                </a:lnTo>
                <a:lnTo>
                  <a:pt x="54" y="267"/>
                </a:lnTo>
                <a:lnTo>
                  <a:pt x="54" y="274"/>
                </a:lnTo>
                <a:lnTo>
                  <a:pt x="48" y="274"/>
                </a:lnTo>
                <a:lnTo>
                  <a:pt x="48" y="281"/>
                </a:lnTo>
                <a:lnTo>
                  <a:pt x="41" y="288"/>
                </a:lnTo>
                <a:lnTo>
                  <a:pt x="34" y="294"/>
                </a:lnTo>
                <a:lnTo>
                  <a:pt x="27" y="294"/>
                </a:lnTo>
                <a:lnTo>
                  <a:pt x="27" y="301"/>
                </a:lnTo>
                <a:lnTo>
                  <a:pt x="20" y="308"/>
                </a:lnTo>
                <a:lnTo>
                  <a:pt x="13" y="315"/>
                </a:lnTo>
                <a:lnTo>
                  <a:pt x="6" y="315"/>
                </a:lnTo>
                <a:lnTo>
                  <a:pt x="6" y="322"/>
                </a:lnTo>
                <a:lnTo>
                  <a:pt x="0" y="329"/>
                </a:lnTo>
                <a:lnTo>
                  <a:pt x="0" y="335"/>
                </a:lnTo>
                <a:lnTo>
                  <a:pt x="0" y="342"/>
                </a:lnTo>
                <a:lnTo>
                  <a:pt x="0" y="349"/>
                </a:lnTo>
                <a:lnTo>
                  <a:pt x="0" y="356"/>
                </a:lnTo>
                <a:lnTo>
                  <a:pt x="6" y="356"/>
                </a:lnTo>
                <a:lnTo>
                  <a:pt x="13" y="363"/>
                </a:lnTo>
                <a:lnTo>
                  <a:pt x="20" y="370"/>
                </a:lnTo>
                <a:lnTo>
                  <a:pt x="34" y="370"/>
                </a:lnTo>
                <a:lnTo>
                  <a:pt x="41" y="370"/>
                </a:lnTo>
                <a:lnTo>
                  <a:pt x="48" y="377"/>
                </a:lnTo>
                <a:lnTo>
                  <a:pt x="48" y="383"/>
                </a:lnTo>
                <a:lnTo>
                  <a:pt x="48" y="383"/>
                </a:lnTo>
                <a:lnTo>
                  <a:pt x="41" y="390"/>
                </a:lnTo>
                <a:lnTo>
                  <a:pt x="41" y="397"/>
                </a:lnTo>
                <a:lnTo>
                  <a:pt x="34" y="404"/>
                </a:lnTo>
                <a:lnTo>
                  <a:pt x="34" y="411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4" name=""/>
          <p:cNvSpPr/>
          <p:nvPr/>
        </p:nvSpPr>
        <p:spPr>
          <a:xfrm>
            <a:off x="4454640" y="4113360"/>
            <a:ext cx="1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5" name=""/>
          <p:cNvSpPr/>
          <p:nvPr/>
        </p:nvSpPr>
        <p:spPr>
          <a:xfrm>
            <a:off x="4432320" y="4145040"/>
            <a:ext cx="76320" cy="33120"/>
          </a:xfrm>
          <a:custGeom>
            <a:avLst/>
            <a:gdLst/>
            <a:ahLst/>
            <a:rect l="l" t="t" r="r" b="b"/>
            <a:pathLst>
              <a:path w="48" h="21">
                <a:moveTo>
                  <a:pt x="0" y="21"/>
                </a:moveTo>
                <a:lnTo>
                  <a:pt x="0" y="14"/>
                </a:lnTo>
                <a:lnTo>
                  <a:pt x="34" y="7"/>
                </a:lnTo>
                <a:lnTo>
                  <a:pt x="34" y="7"/>
                </a:lnTo>
                <a:lnTo>
                  <a:pt x="34" y="7"/>
                </a:lnTo>
                <a:lnTo>
                  <a:pt x="34" y="7"/>
                </a:lnTo>
                <a:lnTo>
                  <a:pt x="28" y="7"/>
                </a:lnTo>
                <a:lnTo>
                  <a:pt x="28" y="0"/>
                </a:lnTo>
                <a:lnTo>
                  <a:pt x="28" y="0"/>
                </a:lnTo>
                <a:lnTo>
                  <a:pt x="28" y="0"/>
                </a:lnTo>
                <a:lnTo>
                  <a:pt x="28" y="0"/>
                </a:lnTo>
                <a:lnTo>
                  <a:pt x="34" y="0"/>
                </a:lnTo>
                <a:lnTo>
                  <a:pt x="34" y="0"/>
                </a:lnTo>
                <a:lnTo>
                  <a:pt x="34" y="0"/>
                </a:lnTo>
                <a:lnTo>
                  <a:pt x="34" y="0"/>
                </a:lnTo>
                <a:lnTo>
                  <a:pt x="41" y="7"/>
                </a:lnTo>
                <a:lnTo>
                  <a:pt x="41" y="7"/>
                </a:lnTo>
                <a:lnTo>
                  <a:pt x="41" y="7"/>
                </a:lnTo>
                <a:lnTo>
                  <a:pt x="41" y="7"/>
                </a:lnTo>
                <a:lnTo>
                  <a:pt x="48" y="7"/>
                </a:lnTo>
                <a:lnTo>
                  <a:pt x="48" y="14"/>
                </a:lnTo>
                <a:lnTo>
                  <a:pt x="0" y="2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6" name=""/>
          <p:cNvSpPr/>
          <p:nvPr/>
        </p:nvSpPr>
        <p:spPr>
          <a:xfrm>
            <a:off x="4443480" y="4189320"/>
            <a:ext cx="75960" cy="54000"/>
          </a:xfrm>
          <a:custGeom>
            <a:avLst/>
            <a:gdLst/>
            <a:ahLst/>
            <a:rect l="l" t="t" r="r" b="b"/>
            <a:pathLst>
              <a:path w="48" h="34">
                <a:moveTo>
                  <a:pt x="34" y="27"/>
                </a:moveTo>
                <a:lnTo>
                  <a:pt x="34" y="20"/>
                </a:lnTo>
                <a:lnTo>
                  <a:pt x="34" y="20"/>
                </a:lnTo>
                <a:lnTo>
                  <a:pt x="34" y="20"/>
                </a:lnTo>
                <a:lnTo>
                  <a:pt x="41" y="20"/>
                </a:lnTo>
                <a:lnTo>
                  <a:pt x="41" y="20"/>
                </a:lnTo>
                <a:lnTo>
                  <a:pt x="41" y="20"/>
                </a:lnTo>
                <a:lnTo>
                  <a:pt x="41" y="20"/>
                </a:lnTo>
                <a:lnTo>
                  <a:pt x="41" y="13"/>
                </a:lnTo>
                <a:lnTo>
                  <a:pt x="41" y="13"/>
                </a:lnTo>
                <a:lnTo>
                  <a:pt x="41" y="13"/>
                </a:lnTo>
                <a:lnTo>
                  <a:pt x="41" y="13"/>
                </a:lnTo>
                <a:lnTo>
                  <a:pt x="41" y="13"/>
                </a:lnTo>
                <a:lnTo>
                  <a:pt x="41" y="6"/>
                </a:lnTo>
                <a:lnTo>
                  <a:pt x="34" y="6"/>
                </a:lnTo>
                <a:lnTo>
                  <a:pt x="34" y="6"/>
                </a:lnTo>
                <a:lnTo>
                  <a:pt x="34" y="6"/>
                </a:lnTo>
                <a:lnTo>
                  <a:pt x="34" y="6"/>
                </a:lnTo>
                <a:lnTo>
                  <a:pt x="27" y="6"/>
                </a:lnTo>
                <a:lnTo>
                  <a:pt x="27" y="6"/>
                </a:lnTo>
                <a:lnTo>
                  <a:pt x="27" y="6"/>
                </a:lnTo>
                <a:lnTo>
                  <a:pt x="21" y="6"/>
                </a:lnTo>
                <a:lnTo>
                  <a:pt x="21" y="6"/>
                </a:lnTo>
                <a:lnTo>
                  <a:pt x="27" y="6"/>
                </a:lnTo>
                <a:lnTo>
                  <a:pt x="27" y="6"/>
                </a:lnTo>
                <a:lnTo>
                  <a:pt x="27" y="13"/>
                </a:lnTo>
                <a:lnTo>
                  <a:pt x="27" y="13"/>
                </a:lnTo>
                <a:lnTo>
                  <a:pt x="27" y="13"/>
                </a:lnTo>
                <a:lnTo>
                  <a:pt x="27" y="13"/>
                </a:lnTo>
                <a:lnTo>
                  <a:pt x="27" y="13"/>
                </a:lnTo>
                <a:lnTo>
                  <a:pt x="27" y="20"/>
                </a:lnTo>
                <a:lnTo>
                  <a:pt x="27" y="20"/>
                </a:lnTo>
                <a:lnTo>
                  <a:pt x="27" y="27"/>
                </a:lnTo>
                <a:lnTo>
                  <a:pt x="27" y="27"/>
                </a:lnTo>
                <a:lnTo>
                  <a:pt x="27" y="27"/>
                </a:lnTo>
                <a:lnTo>
                  <a:pt x="21" y="27"/>
                </a:lnTo>
                <a:lnTo>
                  <a:pt x="21" y="34"/>
                </a:lnTo>
                <a:lnTo>
                  <a:pt x="21" y="34"/>
                </a:lnTo>
                <a:lnTo>
                  <a:pt x="14" y="34"/>
                </a:lnTo>
                <a:lnTo>
                  <a:pt x="14" y="34"/>
                </a:lnTo>
                <a:lnTo>
                  <a:pt x="14" y="34"/>
                </a:lnTo>
                <a:lnTo>
                  <a:pt x="7" y="34"/>
                </a:lnTo>
                <a:lnTo>
                  <a:pt x="7" y="34"/>
                </a:lnTo>
                <a:lnTo>
                  <a:pt x="7" y="27"/>
                </a:lnTo>
                <a:lnTo>
                  <a:pt x="7" y="27"/>
                </a:lnTo>
                <a:lnTo>
                  <a:pt x="0" y="27"/>
                </a:lnTo>
                <a:lnTo>
                  <a:pt x="0" y="27"/>
                </a:lnTo>
                <a:lnTo>
                  <a:pt x="0" y="27"/>
                </a:lnTo>
                <a:lnTo>
                  <a:pt x="0" y="20"/>
                </a:lnTo>
                <a:lnTo>
                  <a:pt x="0" y="20"/>
                </a:lnTo>
                <a:lnTo>
                  <a:pt x="0" y="20"/>
                </a:lnTo>
                <a:lnTo>
                  <a:pt x="0" y="13"/>
                </a:lnTo>
                <a:lnTo>
                  <a:pt x="0" y="13"/>
                </a:lnTo>
                <a:lnTo>
                  <a:pt x="0" y="6"/>
                </a:lnTo>
                <a:lnTo>
                  <a:pt x="7" y="6"/>
                </a:lnTo>
                <a:lnTo>
                  <a:pt x="7" y="6"/>
                </a:lnTo>
                <a:lnTo>
                  <a:pt x="14" y="6"/>
                </a:lnTo>
                <a:lnTo>
                  <a:pt x="21" y="0"/>
                </a:lnTo>
                <a:lnTo>
                  <a:pt x="27" y="0"/>
                </a:lnTo>
                <a:lnTo>
                  <a:pt x="27" y="0"/>
                </a:lnTo>
                <a:lnTo>
                  <a:pt x="34" y="0"/>
                </a:lnTo>
                <a:lnTo>
                  <a:pt x="34" y="6"/>
                </a:lnTo>
                <a:lnTo>
                  <a:pt x="41" y="6"/>
                </a:lnTo>
                <a:lnTo>
                  <a:pt x="41" y="6"/>
                </a:lnTo>
                <a:lnTo>
                  <a:pt x="41" y="13"/>
                </a:lnTo>
                <a:lnTo>
                  <a:pt x="48" y="13"/>
                </a:lnTo>
                <a:lnTo>
                  <a:pt x="48" y="13"/>
                </a:lnTo>
                <a:lnTo>
                  <a:pt x="48" y="20"/>
                </a:lnTo>
                <a:lnTo>
                  <a:pt x="41" y="20"/>
                </a:lnTo>
                <a:lnTo>
                  <a:pt x="41" y="20"/>
                </a:lnTo>
                <a:lnTo>
                  <a:pt x="41" y="27"/>
                </a:lnTo>
                <a:lnTo>
                  <a:pt x="41" y="27"/>
                </a:lnTo>
                <a:lnTo>
                  <a:pt x="41" y="27"/>
                </a:lnTo>
                <a:lnTo>
                  <a:pt x="34" y="27"/>
                </a:lnTo>
                <a:close/>
                <a:moveTo>
                  <a:pt x="14" y="6"/>
                </a:moveTo>
                <a:lnTo>
                  <a:pt x="14" y="6"/>
                </a:lnTo>
                <a:lnTo>
                  <a:pt x="14" y="13"/>
                </a:lnTo>
                <a:lnTo>
                  <a:pt x="7" y="13"/>
                </a:lnTo>
                <a:lnTo>
                  <a:pt x="7" y="13"/>
                </a:lnTo>
                <a:lnTo>
                  <a:pt x="7" y="13"/>
                </a:lnTo>
                <a:lnTo>
                  <a:pt x="7" y="13"/>
                </a:lnTo>
                <a:lnTo>
                  <a:pt x="7" y="13"/>
                </a:lnTo>
                <a:lnTo>
                  <a:pt x="7" y="13"/>
                </a:lnTo>
                <a:lnTo>
                  <a:pt x="7" y="13"/>
                </a:lnTo>
                <a:lnTo>
                  <a:pt x="7" y="20"/>
                </a:lnTo>
                <a:lnTo>
                  <a:pt x="7" y="20"/>
                </a:lnTo>
                <a:lnTo>
                  <a:pt x="7" y="20"/>
                </a:lnTo>
                <a:lnTo>
                  <a:pt x="7" y="20"/>
                </a:lnTo>
                <a:lnTo>
                  <a:pt x="7" y="20"/>
                </a:lnTo>
                <a:lnTo>
                  <a:pt x="7" y="27"/>
                </a:lnTo>
                <a:lnTo>
                  <a:pt x="7" y="27"/>
                </a:lnTo>
                <a:lnTo>
                  <a:pt x="7" y="27"/>
                </a:lnTo>
                <a:lnTo>
                  <a:pt x="14" y="27"/>
                </a:lnTo>
                <a:lnTo>
                  <a:pt x="14" y="27"/>
                </a:lnTo>
                <a:lnTo>
                  <a:pt x="14" y="27"/>
                </a:lnTo>
                <a:lnTo>
                  <a:pt x="21" y="27"/>
                </a:lnTo>
                <a:lnTo>
                  <a:pt x="21" y="27"/>
                </a:lnTo>
                <a:lnTo>
                  <a:pt x="21" y="27"/>
                </a:lnTo>
                <a:lnTo>
                  <a:pt x="21" y="20"/>
                </a:lnTo>
                <a:lnTo>
                  <a:pt x="21" y="20"/>
                </a:lnTo>
                <a:lnTo>
                  <a:pt x="27" y="20"/>
                </a:lnTo>
                <a:lnTo>
                  <a:pt x="27" y="20"/>
                </a:lnTo>
                <a:lnTo>
                  <a:pt x="27" y="13"/>
                </a:lnTo>
                <a:lnTo>
                  <a:pt x="21" y="13"/>
                </a:lnTo>
                <a:lnTo>
                  <a:pt x="21" y="13"/>
                </a:lnTo>
                <a:lnTo>
                  <a:pt x="21" y="13"/>
                </a:lnTo>
                <a:lnTo>
                  <a:pt x="21" y="13"/>
                </a:lnTo>
                <a:lnTo>
                  <a:pt x="21" y="6"/>
                </a:lnTo>
                <a:lnTo>
                  <a:pt x="14" y="6"/>
                </a:lnTo>
                <a:lnTo>
                  <a:pt x="14" y="6"/>
                </a:lnTo>
                <a:lnTo>
                  <a:pt x="14" y="6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7" name=""/>
          <p:cNvSpPr/>
          <p:nvPr/>
        </p:nvSpPr>
        <p:spPr>
          <a:xfrm>
            <a:off x="4454640" y="4243320"/>
            <a:ext cx="64800" cy="54000"/>
          </a:xfrm>
          <a:custGeom>
            <a:avLst/>
            <a:gdLst/>
            <a:ahLst/>
            <a:rect l="l" t="t" r="r" b="b"/>
            <a:pathLst>
              <a:path w="41" h="34">
                <a:moveTo>
                  <a:pt x="20" y="0"/>
                </a:moveTo>
                <a:lnTo>
                  <a:pt x="20" y="0"/>
                </a:lnTo>
                <a:lnTo>
                  <a:pt x="27" y="0"/>
                </a:lnTo>
                <a:lnTo>
                  <a:pt x="27" y="0"/>
                </a:lnTo>
                <a:lnTo>
                  <a:pt x="34" y="0"/>
                </a:lnTo>
                <a:lnTo>
                  <a:pt x="34" y="0"/>
                </a:lnTo>
                <a:lnTo>
                  <a:pt x="34" y="0"/>
                </a:lnTo>
                <a:lnTo>
                  <a:pt x="41" y="7"/>
                </a:lnTo>
                <a:lnTo>
                  <a:pt x="41" y="7"/>
                </a:lnTo>
                <a:lnTo>
                  <a:pt x="41" y="7"/>
                </a:lnTo>
                <a:lnTo>
                  <a:pt x="41" y="7"/>
                </a:lnTo>
                <a:lnTo>
                  <a:pt x="41" y="7"/>
                </a:lnTo>
                <a:lnTo>
                  <a:pt x="41" y="14"/>
                </a:lnTo>
                <a:lnTo>
                  <a:pt x="41" y="14"/>
                </a:lnTo>
                <a:lnTo>
                  <a:pt x="41" y="14"/>
                </a:lnTo>
                <a:lnTo>
                  <a:pt x="41" y="20"/>
                </a:lnTo>
                <a:lnTo>
                  <a:pt x="41" y="20"/>
                </a:lnTo>
                <a:lnTo>
                  <a:pt x="41" y="20"/>
                </a:lnTo>
                <a:lnTo>
                  <a:pt x="41" y="20"/>
                </a:lnTo>
                <a:lnTo>
                  <a:pt x="41" y="20"/>
                </a:lnTo>
                <a:lnTo>
                  <a:pt x="41" y="20"/>
                </a:lnTo>
                <a:lnTo>
                  <a:pt x="41" y="27"/>
                </a:lnTo>
                <a:lnTo>
                  <a:pt x="41" y="27"/>
                </a:lnTo>
                <a:lnTo>
                  <a:pt x="34" y="27"/>
                </a:lnTo>
                <a:lnTo>
                  <a:pt x="34" y="27"/>
                </a:lnTo>
                <a:lnTo>
                  <a:pt x="34" y="27"/>
                </a:lnTo>
                <a:lnTo>
                  <a:pt x="27" y="27"/>
                </a:lnTo>
                <a:lnTo>
                  <a:pt x="27" y="27"/>
                </a:lnTo>
                <a:lnTo>
                  <a:pt x="27" y="27"/>
                </a:lnTo>
                <a:lnTo>
                  <a:pt x="20" y="34"/>
                </a:lnTo>
                <a:lnTo>
                  <a:pt x="20" y="34"/>
                </a:lnTo>
                <a:lnTo>
                  <a:pt x="14" y="34"/>
                </a:lnTo>
                <a:lnTo>
                  <a:pt x="14" y="34"/>
                </a:lnTo>
                <a:lnTo>
                  <a:pt x="7" y="34"/>
                </a:lnTo>
                <a:lnTo>
                  <a:pt x="7" y="27"/>
                </a:lnTo>
                <a:lnTo>
                  <a:pt x="7" y="27"/>
                </a:lnTo>
                <a:lnTo>
                  <a:pt x="7" y="27"/>
                </a:lnTo>
                <a:lnTo>
                  <a:pt x="0" y="27"/>
                </a:lnTo>
                <a:lnTo>
                  <a:pt x="0" y="27"/>
                </a:lnTo>
                <a:lnTo>
                  <a:pt x="0" y="20"/>
                </a:lnTo>
                <a:lnTo>
                  <a:pt x="0" y="20"/>
                </a:lnTo>
                <a:lnTo>
                  <a:pt x="0" y="20"/>
                </a:lnTo>
                <a:lnTo>
                  <a:pt x="0" y="14"/>
                </a:lnTo>
                <a:lnTo>
                  <a:pt x="0" y="14"/>
                </a:lnTo>
                <a:lnTo>
                  <a:pt x="0" y="7"/>
                </a:lnTo>
                <a:lnTo>
                  <a:pt x="7" y="7"/>
                </a:lnTo>
                <a:lnTo>
                  <a:pt x="7" y="7"/>
                </a:lnTo>
                <a:lnTo>
                  <a:pt x="14" y="7"/>
                </a:lnTo>
                <a:lnTo>
                  <a:pt x="20" y="0"/>
                </a:lnTo>
                <a:close/>
                <a:moveTo>
                  <a:pt x="20" y="7"/>
                </a:moveTo>
                <a:lnTo>
                  <a:pt x="14" y="7"/>
                </a:lnTo>
                <a:lnTo>
                  <a:pt x="14" y="7"/>
                </a:lnTo>
                <a:lnTo>
                  <a:pt x="7" y="14"/>
                </a:lnTo>
                <a:lnTo>
                  <a:pt x="7" y="14"/>
                </a:lnTo>
                <a:lnTo>
                  <a:pt x="7" y="14"/>
                </a:lnTo>
                <a:lnTo>
                  <a:pt x="7" y="14"/>
                </a:lnTo>
                <a:lnTo>
                  <a:pt x="7" y="20"/>
                </a:lnTo>
                <a:lnTo>
                  <a:pt x="7" y="20"/>
                </a:lnTo>
                <a:lnTo>
                  <a:pt x="7" y="20"/>
                </a:lnTo>
                <a:lnTo>
                  <a:pt x="7" y="20"/>
                </a:lnTo>
                <a:lnTo>
                  <a:pt x="7" y="27"/>
                </a:lnTo>
                <a:lnTo>
                  <a:pt x="7" y="27"/>
                </a:lnTo>
                <a:lnTo>
                  <a:pt x="14" y="27"/>
                </a:lnTo>
                <a:lnTo>
                  <a:pt x="14" y="27"/>
                </a:lnTo>
                <a:lnTo>
                  <a:pt x="20" y="27"/>
                </a:lnTo>
                <a:lnTo>
                  <a:pt x="20" y="27"/>
                </a:lnTo>
                <a:lnTo>
                  <a:pt x="27" y="27"/>
                </a:lnTo>
                <a:lnTo>
                  <a:pt x="34" y="20"/>
                </a:lnTo>
                <a:lnTo>
                  <a:pt x="34" y="20"/>
                </a:lnTo>
                <a:lnTo>
                  <a:pt x="34" y="20"/>
                </a:lnTo>
                <a:lnTo>
                  <a:pt x="41" y="20"/>
                </a:lnTo>
                <a:lnTo>
                  <a:pt x="41" y="14"/>
                </a:lnTo>
                <a:lnTo>
                  <a:pt x="41" y="14"/>
                </a:lnTo>
                <a:lnTo>
                  <a:pt x="41" y="14"/>
                </a:lnTo>
                <a:lnTo>
                  <a:pt x="41" y="14"/>
                </a:lnTo>
                <a:lnTo>
                  <a:pt x="41" y="7"/>
                </a:lnTo>
                <a:lnTo>
                  <a:pt x="34" y="7"/>
                </a:lnTo>
                <a:lnTo>
                  <a:pt x="34" y="7"/>
                </a:lnTo>
                <a:lnTo>
                  <a:pt x="34" y="7"/>
                </a:lnTo>
                <a:lnTo>
                  <a:pt x="27" y="7"/>
                </a:lnTo>
                <a:lnTo>
                  <a:pt x="27" y="7"/>
                </a:lnTo>
                <a:lnTo>
                  <a:pt x="20" y="7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8" name=""/>
          <p:cNvSpPr/>
          <p:nvPr/>
        </p:nvSpPr>
        <p:spPr>
          <a:xfrm>
            <a:off x="4497480" y="4319640"/>
            <a:ext cx="1440" cy="11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9" name=""/>
          <p:cNvSpPr/>
          <p:nvPr/>
        </p:nvSpPr>
        <p:spPr>
          <a:xfrm>
            <a:off x="3616200" y="4079880"/>
            <a:ext cx="914400" cy="392040"/>
          </a:xfrm>
          <a:custGeom>
            <a:avLst/>
            <a:gdLst/>
            <a:ahLst/>
            <a:rect l="l" t="t" r="r" b="b"/>
            <a:pathLst>
              <a:path w="576" h="247">
                <a:moveTo>
                  <a:pt x="555" y="158"/>
                </a:moveTo>
                <a:lnTo>
                  <a:pt x="555" y="164"/>
                </a:lnTo>
                <a:lnTo>
                  <a:pt x="555" y="164"/>
                </a:lnTo>
                <a:lnTo>
                  <a:pt x="562" y="171"/>
                </a:lnTo>
                <a:lnTo>
                  <a:pt x="562" y="178"/>
                </a:lnTo>
                <a:lnTo>
                  <a:pt x="562" y="185"/>
                </a:lnTo>
                <a:lnTo>
                  <a:pt x="562" y="192"/>
                </a:lnTo>
                <a:lnTo>
                  <a:pt x="569" y="199"/>
                </a:lnTo>
                <a:lnTo>
                  <a:pt x="569" y="205"/>
                </a:lnTo>
                <a:lnTo>
                  <a:pt x="576" y="212"/>
                </a:lnTo>
                <a:lnTo>
                  <a:pt x="569" y="219"/>
                </a:lnTo>
                <a:lnTo>
                  <a:pt x="562" y="219"/>
                </a:lnTo>
                <a:lnTo>
                  <a:pt x="548" y="219"/>
                </a:lnTo>
                <a:lnTo>
                  <a:pt x="542" y="219"/>
                </a:lnTo>
                <a:lnTo>
                  <a:pt x="535" y="226"/>
                </a:lnTo>
                <a:lnTo>
                  <a:pt x="528" y="226"/>
                </a:lnTo>
                <a:lnTo>
                  <a:pt x="521" y="226"/>
                </a:lnTo>
                <a:lnTo>
                  <a:pt x="514" y="233"/>
                </a:lnTo>
                <a:lnTo>
                  <a:pt x="507" y="240"/>
                </a:lnTo>
                <a:lnTo>
                  <a:pt x="500" y="247"/>
                </a:lnTo>
                <a:lnTo>
                  <a:pt x="500" y="240"/>
                </a:lnTo>
                <a:lnTo>
                  <a:pt x="494" y="233"/>
                </a:lnTo>
                <a:lnTo>
                  <a:pt x="494" y="226"/>
                </a:lnTo>
                <a:lnTo>
                  <a:pt x="487" y="226"/>
                </a:lnTo>
                <a:lnTo>
                  <a:pt x="487" y="219"/>
                </a:lnTo>
                <a:lnTo>
                  <a:pt x="480" y="212"/>
                </a:lnTo>
                <a:lnTo>
                  <a:pt x="480" y="205"/>
                </a:lnTo>
                <a:lnTo>
                  <a:pt x="480" y="205"/>
                </a:lnTo>
                <a:lnTo>
                  <a:pt x="480" y="199"/>
                </a:lnTo>
                <a:lnTo>
                  <a:pt x="480" y="192"/>
                </a:lnTo>
                <a:lnTo>
                  <a:pt x="480" y="185"/>
                </a:lnTo>
                <a:lnTo>
                  <a:pt x="480" y="178"/>
                </a:lnTo>
                <a:lnTo>
                  <a:pt x="480" y="171"/>
                </a:lnTo>
                <a:lnTo>
                  <a:pt x="487" y="164"/>
                </a:lnTo>
                <a:lnTo>
                  <a:pt x="487" y="158"/>
                </a:lnTo>
                <a:lnTo>
                  <a:pt x="487" y="151"/>
                </a:lnTo>
                <a:lnTo>
                  <a:pt x="494" y="144"/>
                </a:lnTo>
                <a:lnTo>
                  <a:pt x="494" y="144"/>
                </a:lnTo>
                <a:lnTo>
                  <a:pt x="494" y="137"/>
                </a:lnTo>
                <a:lnTo>
                  <a:pt x="494" y="130"/>
                </a:lnTo>
                <a:lnTo>
                  <a:pt x="494" y="123"/>
                </a:lnTo>
                <a:lnTo>
                  <a:pt x="487" y="117"/>
                </a:lnTo>
                <a:lnTo>
                  <a:pt x="480" y="110"/>
                </a:lnTo>
                <a:lnTo>
                  <a:pt x="473" y="110"/>
                </a:lnTo>
                <a:lnTo>
                  <a:pt x="466" y="103"/>
                </a:lnTo>
                <a:lnTo>
                  <a:pt x="473" y="96"/>
                </a:lnTo>
                <a:lnTo>
                  <a:pt x="473" y="96"/>
                </a:lnTo>
                <a:lnTo>
                  <a:pt x="480" y="96"/>
                </a:lnTo>
                <a:lnTo>
                  <a:pt x="487" y="103"/>
                </a:lnTo>
                <a:lnTo>
                  <a:pt x="494" y="110"/>
                </a:lnTo>
                <a:lnTo>
                  <a:pt x="500" y="117"/>
                </a:lnTo>
                <a:lnTo>
                  <a:pt x="507" y="117"/>
                </a:lnTo>
                <a:lnTo>
                  <a:pt x="507" y="117"/>
                </a:lnTo>
                <a:lnTo>
                  <a:pt x="514" y="110"/>
                </a:lnTo>
                <a:lnTo>
                  <a:pt x="521" y="103"/>
                </a:lnTo>
                <a:lnTo>
                  <a:pt x="521" y="96"/>
                </a:lnTo>
                <a:lnTo>
                  <a:pt x="528" y="89"/>
                </a:lnTo>
                <a:lnTo>
                  <a:pt x="528" y="82"/>
                </a:lnTo>
                <a:lnTo>
                  <a:pt x="528" y="75"/>
                </a:lnTo>
                <a:lnTo>
                  <a:pt x="521" y="69"/>
                </a:lnTo>
                <a:lnTo>
                  <a:pt x="514" y="69"/>
                </a:lnTo>
                <a:lnTo>
                  <a:pt x="507" y="62"/>
                </a:lnTo>
                <a:lnTo>
                  <a:pt x="500" y="62"/>
                </a:lnTo>
                <a:lnTo>
                  <a:pt x="494" y="55"/>
                </a:lnTo>
                <a:lnTo>
                  <a:pt x="487" y="55"/>
                </a:lnTo>
                <a:lnTo>
                  <a:pt x="480" y="48"/>
                </a:lnTo>
                <a:lnTo>
                  <a:pt x="473" y="48"/>
                </a:lnTo>
                <a:lnTo>
                  <a:pt x="459" y="41"/>
                </a:lnTo>
                <a:lnTo>
                  <a:pt x="452" y="41"/>
                </a:lnTo>
                <a:lnTo>
                  <a:pt x="446" y="41"/>
                </a:lnTo>
                <a:lnTo>
                  <a:pt x="439" y="48"/>
                </a:lnTo>
                <a:lnTo>
                  <a:pt x="439" y="55"/>
                </a:lnTo>
                <a:lnTo>
                  <a:pt x="432" y="55"/>
                </a:lnTo>
                <a:lnTo>
                  <a:pt x="432" y="62"/>
                </a:lnTo>
                <a:lnTo>
                  <a:pt x="425" y="69"/>
                </a:lnTo>
                <a:lnTo>
                  <a:pt x="425" y="75"/>
                </a:lnTo>
                <a:lnTo>
                  <a:pt x="418" y="82"/>
                </a:lnTo>
                <a:lnTo>
                  <a:pt x="418" y="89"/>
                </a:lnTo>
                <a:lnTo>
                  <a:pt x="418" y="96"/>
                </a:lnTo>
                <a:lnTo>
                  <a:pt x="411" y="96"/>
                </a:lnTo>
                <a:lnTo>
                  <a:pt x="411" y="103"/>
                </a:lnTo>
                <a:lnTo>
                  <a:pt x="404" y="110"/>
                </a:lnTo>
                <a:lnTo>
                  <a:pt x="398" y="117"/>
                </a:lnTo>
                <a:lnTo>
                  <a:pt x="391" y="117"/>
                </a:lnTo>
                <a:lnTo>
                  <a:pt x="391" y="123"/>
                </a:lnTo>
                <a:lnTo>
                  <a:pt x="384" y="130"/>
                </a:lnTo>
                <a:lnTo>
                  <a:pt x="377" y="137"/>
                </a:lnTo>
                <a:lnTo>
                  <a:pt x="377" y="144"/>
                </a:lnTo>
                <a:lnTo>
                  <a:pt x="370" y="144"/>
                </a:lnTo>
                <a:lnTo>
                  <a:pt x="363" y="151"/>
                </a:lnTo>
                <a:lnTo>
                  <a:pt x="357" y="151"/>
                </a:lnTo>
                <a:lnTo>
                  <a:pt x="343" y="151"/>
                </a:lnTo>
                <a:lnTo>
                  <a:pt x="336" y="151"/>
                </a:lnTo>
                <a:lnTo>
                  <a:pt x="322" y="151"/>
                </a:lnTo>
                <a:lnTo>
                  <a:pt x="315" y="151"/>
                </a:lnTo>
                <a:lnTo>
                  <a:pt x="309" y="151"/>
                </a:lnTo>
                <a:lnTo>
                  <a:pt x="295" y="158"/>
                </a:lnTo>
                <a:lnTo>
                  <a:pt x="288" y="158"/>
                </a:lnTo>
                <a:lnTo>
                  <a:pt x="274" y="158"/>
                </a:lnTo>
                <a:lnTo>
                  <a:pt x="267" y="158"/>
                </a:lnTo>
                <a:lnTo>
                  <a:pt x="267" y="151"/>
                </a:lnTo>
                <a:lnTo>
                  <a:pt x="261" y="144"/>
                </a:lnTo>
                <a:lnTo>
                  <a:pt x="261" y="137"/>
                </a:lnTo>
                <a:lnTo>
                  <a:pt x="261" y="130"/>
                </a:lnTo>
                <a:lnTo>
                  <a:pt x="261" y="123"/>
                </a:lnTo>
                <a:lnTo>
                  <a:pt x="254" y="117"/>
                </a:lnTo>
                <a:lnTo>
                  <a:pt x="254" y="110"/>
                </a:lnTo>
                <a:lnTo>
                  <a:pt x="247" y="110"/>
                </a:lnTo>
                <a:lnTo>
                  <a:pt x="247" y="103"/>
                </a:lnTo>
                <a:lnTo>
                  <a:pt x="240" y="96"/>
                </a:lnTo>
                <a:lnTo>
                  <a:pt x="233" y="96"/>
                </a:lnTo>
                <a:lnTo>
                  <a:pt x="226" y="96"/>
                </a:lnTo>
                <a:lnTo>
                  <a:pt x="219" y="103"/>
                </a:lnTo>
                <a:lnTo>
                  <a:pt x="206" y="103"/>
                </a:lnTo>
                <a:lnTo>
                  <a:pt x="199" y="103"/>
                </a:lnTo>
                <a:lnTo>
                  <a:pt x="192" y="103"/>
                </a:lnTo>
                <a:lnTo>
                  <a:pt x="178" y="110"/>
                </a:lnTo>
                <a:lnTo>
                  <a:pt x="171" y="110"/>
                </a:lnTo>
                <a:lnTo>
                  <a:pt x="165" y="110"/>
                </a:lnTo>
                <a:lnTo>
                  <a:pt x="151" y="117"/>
                </a:lnTo>
                <a:lnTo>
                  <a:pt x="144" y="117"/>
                </a:lnTo>
                <a:lnTo>
                  <a:pt x="137" y="117"/>
                </a:lnTo>
                <a:lnTo>
                  <a:pt x="123" y="117"/>
                </a:lnTo>
                <a:lnTo>
                  <a:pt x="117" y="117"/>
                </a:lnTo>
                <a:lnTo>
                  <a:pt x="110" y="117"/>
                </a:lnTo>
                <a:lnTo>
                  <a:pt x="96" y="117"/>
                </a:lnTo>
                <a:lnTo>
                  <a:pt x="89" y="117"/>
                </a:lnTo>
                <a:lnTo>
                  <a:pt x="82" y="110"/>
                </a:lnTo>
                <a:lnTo>
                  <a:pt x="69" y="110"/>
                </a:lnTo>
                <a:lnTo>
                  <a:pt x="62" y="103"/>
                </a:lnTo>
                <a:lnTo>
                  <a:pt x="55" y="103"/>
                </a:lnTo>
                <a:lnTo>
                  <a:pt x="48" y="96"/>
                </a:lnTo>
                <a:lnTo>
                  <a:pt x="41" y="96"/>
                </a:lnTo>
                <a:lnTo>
                  <a:pt x="34" y="89"/>
                </a:lnTo>
                <a:lnTo>
                  <a:pt x="27" y="89"/>
                </a:lnTo>
                <a:lnTo>
                  <a:pt x="21" y="82"/>
                </a:lnTo>
                <a:lnTo>
                  <a:pt x="14" y="75"/>
                </a:lnTo>
                <a:lnTo>
                  <a:pt x="14" y="69"/>
                </a:lnTo>
                <a:lnTo>
                  <a:pt x="7" y="62"/>
                </a:lnTo>
                <a:lnTo>
                  <a:pt x="7" y="62"/>
                </a:lnTo>
                <a:lnTo>
                  <a:pt x="7" y="55"/>
                </a:lnTo>
                <a:lnTo>
                  <a:pt x="7" y="48"/>
                </a:lnTo>
                <a:lnTo>
                  <a:pt x="7" y="41"/>
                </a:lnTo>
                <a:lnTo>
                  <a:pt x="0" y="34"/>
                </a:lnTo>
                <a:lnTo>
                  <a:pt x="0" y="28"/>
                </a:lnTo>
                <a:lnTo>
                  <a:pt x="0" y="21"/>
                </a:lnTo>
                <a:lnTo>
                  <a:pt x="0" y="14"/>
                </a:lnTo>
                <a:lnTo>
                  <a:pt x="0" y="7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0" name=""/>
          <p:cNvSpPr/>
          <p:nvPr/>
        </p:nvSpPr>
        <p:spPr>
          <a:xfrm>
            <a:off x="3616200" y="4079880"/>
            <a:ext cx="1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1" name=""/>
          <p:cNvSpPr/>
          <p:nvPr/>
        </p:nvSpPr>
        <p:spPr>
          <a:xfrm>
            <a:off x="3573360" y="3906720"/>
            <a:ext cx="76320" cy="32040"/>
          </a:xfrm>
          <a:custGeom>
            <a:avLst/>
            <a:gdLst/>
            <a:ahLst/>
            <a:rect l="l" t="t" r="r" b="b"/>
            <a:pathLst>
              <a:path w="48" h="20">
                <a:moveTo>
                  <a:pt x="0" y="20"/>
                </a:moveTo>
                <a:lnTo>
                  <a:pt x="0" y="13"/>
                </a:lnTo>
                <a:lnTo>
                  <a:pt x="34" y="13"/>
                </a:lnTo>
                <a:lnTo>
                  <a:pt x="34" y="13"/>
                </a:lnTo>
                <a:lnTo>
                  <a:pt x="34" y="13"/>
                </a:lnTo>
                <a:lnTo>
                  <a:pt x="34" y="7"/>
                </a:lnTo>
                <a:lnTo>
                  <a:pt x="34" y="7"/>
                </a:lnTo>
                <a:lnTo>
                  <a:pt x="34" y="7"/>
                </a:lnTo>
                <a:lnTo>
                  <a:pt x="27" y="7"/>
                </a:lnTo>
                <a:lnTo>
                  <a:pt x="27" y="7"/>
                </a:lnTo>
                <a:lnTo>
                  <a:pt x="27" y="0"/>
                </a:lnTo>
                <a:lnTo>
                  <a:pt x="34" y="0"/>
                </a:lnTo>
                <a:lnTo>
                  <a:pt x="34" y="7"/>
                </a:lnTo>
                <a:lnTo>
                  <a:pt x="34" y="7"/>
                </a:lnTo>
                <a:lnTo>
                  <a:pt x="41" y="7"/>
                </a:lnTo>
                <a:lnTo>
                  <a:pt x="41" y="7"/>
                </a:lnTo>
                <a:lnTo>
                  <a:pt x="41" y="13"/>
                </a:lnTo>
                <a:lnTo>
                  <a:pt x="41" y="13"/>
                </a:lnTo>
                <a:lnTo>
                  <a:pt x="41" y="13"/>
                </a:lnTo>
                <a:lnTo>
                  <a:pt x="48" y="13"/>
                </a:lnTo>
                <a:lnTo>
                  <a:pt x="48" y="20"/>
                </a:lnTo>
                <a:lnTo>
                  <a:pt x="0" y="2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2" name=""/>
          <p:cNvSpPr/>
          <p:nvPr/>
        </p:nvSpPr>
        <p:spPr>
          <a:xfrm>
            <a:off x="3573360" y="3960720"/>
            <a:ext cx="76320" cy="42840"/>
          </a:xfrm>
          <a:custGeom>
            <a:avLst/>
            <a:gdLst/>
            <a:ahLst/>
            <a:rect l="l" t="t" r="r" b="b"/>
            <a:pathLst>
              <a:path w="48" h="27">
                <a:moveTo>
                  <a:pt x="41" y="27"/>
                </a:moveTo>
                <a:lnTo>
                  <a:pt x="34" y="20"/>
                </a:lnTo>
                <a:lnTo>
                  <a:pt x="41" y="20"/>
                </a:lnTo>
                <a:lnTo>
                  <a:pt x="41" y="20"/>
                </a:lnTo>
                <a:lnTo>
                  <a:pt x="41" y="20"/>
                </a:lnTo>
                <a:lnTo>
                  <a:pt x="41" y="20"/>
                </a:lnTo>
                <a:lnTo>
                  <a:pt x="41" y="20"/>
                </a:lnTo>
                <a:lnTo>
                  <a:pt x="41" y="14"/>
                </a:lnTo>
                <a:lnTo>
                  <a:pt x="41" y="14"/>
                </a:lnTo>
                <a:lnTo>
                  <a:pt x="41" y="14"/>
                </a:lnTo>
                <a:lnTo>
                  <a:pt x="41" y="14"/>
                </a:lnTo>
                <a:lnTo>
                  <a:pt x="41" y="14"/>
                </a:lnTo>
                <a:lnTo>
                  <a:pt x="41" y="7"/>
                </a:lnTo>
                <a:lnTo>
                  <a:pt x="41" y="7"/>
                </a:lnTo>
                <a:lnTo>
                  <a:pt x="41" y="7"/>
                </a:lnTo>
                <a:lnTo>
                  <a:pt x="41" y="7"/>
                </a:lnTo>
                <a:lnTo>
                  <a:pt x="41" y="7"/>
                </a:lnTo>
                <a:lnTo>
                  <a:pt x="34" y="7"/>
                </a:lnTo>
                <a:lnTo>
                  <a:pt x="34" y="7"/>
                </a:lnTo>
                <a:lnTo>
                  <a:pt x="34" y="7"/>
                </a:lnTo>
                <a:lnTo>
                  <a:pt x="27" y="7"/>
                </a:lnTo>
                <a:lnTo>
                  <a:pt x="27" y="7"/>
                </a:lnTo>
                <a:lnTo>
                  <a:pt x="27" y="7"/>
                </a:lnTo>
                <a:lnTo>
                  <a:pt x="27" y="7"/>
                </a:lnTo>
                <a:lnTo>
                  <a:pt x="27" y="7"/>
                </a:lnTo>
                <a:lnTo>
                  <a:pt x="27" y="7"/>
                </a:lnTo>
                <a:lnTo>
                  <a:pt x="34" y="7"/>
                </a:lnTo>
                <a:lnTo>
                  <a:pt x="34" y="14"/>
                </a:lnTo>
                <a:lnTo>
                  <a:pt x="34" y="14"/>
                </a:lnTo>
                <a:lnTo>
                  <a:pt x="34" y="14"/>
                </a:lnTo>
                <a:lnTo>
                  <a:pt x="34" y="14"/>
                </a:lnTo>
                <a:lnTo>
                  <a:pt x="34" y="20"/>
                </a:lnTo>
                <a:lnTo>
                  <a:pt x="27" y="20"/>
                </a:lnTo>
                <a:lnTo>
                  <a:pt x="27" y="20"/>
                </a:lnTo>
                <a:lnTo>
                  <a:pt x="27" y="27"/>
                </a:lnTo>
                <a:lnTo>
                  <a:pt x="27" y="27"/>
                </a:lnTo>
                <a:lnTo>
                  <a:pt x="20" y="27"/>
                </a:lnTo>
                <a:lnTo>
                  <a:pt x="20" y="27"/>
                </a:lnTo>
                <a:lnTo>
                  <a:pt x="13" y="27"/>
                </a:lnTo>
                <a:lnTo>
                  <a:pt x="13" y="27"/>
                </a:lnTo>
                <a:lnTo>
                  <a:pt x="13" y="27"/>
                </a:lnTo>
                <a:lnTo>
                  <a:pt x="13" y="27"/>
                </a:lnTo>
                <a:lnTo>
                  <a:pt x="6" y="27"/>
                </a:lnTo>
                <a:lnTo>
                  <a:pt x="6" y="27"/>
                </a:lnTo>
                <a:lnTo>
                  <a:pt x="6" y="20"/>
                </a:lnTo>
                <a:lnTo>
                  <a:pt x="6" y="20"/>
                </a:lnTo>
                <a:lnTo>
                  <a:pt x="6" y="20"/>
                </a:lnTo>
                <a:lnTo>
                  <a:pt x="6" y="20"/>
                </a:lnTo>
                <a:lnTo>
                  <a:pt x="0" y="20"/>
                </a:lnTo>
                <a:lnTo>
                  <a:pt x="0" y="14"/>
                </a:lnTo>
                <a:lnTo>
                  <a:pt x="0" y="14"/>
                </a:lnTo>
                <a:lnTo>
                  <a:pt x="6" y="7"/>
                </a:lnTo>
                <a:lnTo>
                  <a:pt x="6" y="7"/>
                </a:lnTo>
                <a:lnTo>
                  <a:pt x="6" y="7"/>
                </a:lnTo>
                <a:lnTo>
                  <a:pt x="6" y="0"/>
                </a:lnTo>
                <a:lnTo>
                  <a:pt x="13" y="0"/>
                </a:lnTo>
                <a:lnTo>
                  <a:pt x="20" y="0"/>
                </a:lnTo>
                <a:lnTo>
                  <a:pt x="20" y="0"/>
                </a:lnTo>
                <a:lnTo>
                  <a:pt x="27" y="0"/>
                </a:lnTo>
                <a:lnTo>
                  <a:pt x="34" y="0"/>
                </a:lnTo>
                <a:lnTo>
                  <a:pt x="41" y="0"/>
                </a:lnTo>
                <a:lnTo>
                  <a:pt x="41" y="0"/>
                </a:lnTo>
                <a:lnTo>
                  <a:pt x="48" y="7"/>
                </a:lnTo>
                <a:lnTo>
                  <a:pt x="48" y="7"/>
                </a:lnTo>
                <a:lnTo>
                  <a:pt x="48" y="7"/>
                </a:lnTo>
                <a:lnTo>
                  <a:pt x="48" y="14"/>
                </a:lnTo>
                <a:lnTo>
                  <a:pt x="48" y="14"/>
                </a:lnTo>
                <a:lnTo>
                  <a:pt x="48" y="20"/>
                </a:lnTo>
                <a:lnTo>
                  <a:pt x="48" y="20"/>
                </a:lnTo>
                <a:lnTo>
                  <a:pt x="48" y="20"/>
                </a:lnTo>
                <a:lnTo>
                  <a:pt x="41" y="20"/>
                </a:lnTo>
                <a:lnTo>
                  <a:pt x="41" y="27"/>
                </a:lnTo>
                <a:lnTo>
                  <a:pt x="41" y="27"/>
                </a:lnTo>
                <a:lnTo>
                  <a:pt x="41" y="27"/>
                </a:lnTo>
                <a:close/>
                <a:moveTo>
                  <a:pt x="20" y="7"/>
                </a:moveTo>
                <a:lnTo>
                  <a:pt x="13" y="7"/>
                </a:lnTo>
                <a:lnTo>
                  <a:pt x="13" y="7"/>
                </a:lnTo>
                <a:lnTo>
                  <a:pt x="13" y="7"/>
                </a:lnTo>
                <a:lnTo>
                  <a:pt x="13" y="7"/>
                </a:lnTo>
                <a:lnTo>
                  <a:pt x="13" y="7"/>
                </a:lnTo>
                <a:lnTo>
                  <a:pt x="6" y="7"/>
                </a:lnTo>
                <a:lnTo>
                  <a:pt x="6" y="7"/>
                </a:lnTo>
                <a:lnTo>
                  <a:pt x="6" y="7"/>
                </a:lnTo>
                <a:lnTo>
                  <a:pt x="6" y="14"/>
                </a:lnTo>
                <a:lnTo>
                  <a:pt x="6" y="14"/>
                </a:lnTo>
                <a:lnTo>
                  <a:pt x="6" y="14"/>
                </a:lnTo>
                <a:lnTo>
                  <a:pt x="6" y="14"/>
                </a:lnTo>
                <a:lnTo>
                  <a:pt x="6" y="14"/>
                </a:lnTo>
                <a:lnTo>
                  <a:pt x="6" y="20"/>
                </a:lnTo>
                <a:lnTo>
                  <a:pt x="6" y="20"/>
                </a:lnTo>
                <a:lnTo>
                  <a:pt x="13" y="20"/>
                </a:lnTo>
                <a:lnTo>
                  <a:pt x="13" y="20"/>
                </a:lnTo>
                <a:lnTo>
                  <a:pt x="13" y="20"/>
                </a:lnTo>
                <a:lnTo>
                  <a:pt x="13" y="20"/>
                </a:lnTo>
                <a:lnTo>
                  <a:pt x="20" y="20"/>
                </a:lnTo>
                <a:lnTo>
                  <a:pt x="20" y="20"/>
                </a:lnTo>
                <a:lnTo>
                  <a:pt x="20" y="20"/>
                </a:lnTo>
                <a:lnTo>
                  <a:pt x="20" y="20"/>
                </a:lnTo>
                <a:lnTo>
                  <a:pt x="27" y="20"/>
                </a:lnTo>
                <a:lnTo>
                  <a:pt x="27" y="20"/>
                </a:lnTo>
                <a:lnTo>
                  <a:pt x="27" y="14"/>
                </a:lnTo>
                <a:lnTo>
                  <a:pt x="27" y="14"/>
                </a:lnTo>
                <a:lnTo>
                  <a:pt x="27" y="14"/>
                </a:lnTo>
                <a:lnTo>
                  <a:pt x="27" y="14"/>
                </a:lnTo>
                <a:lnTo>
                  <a:pt x="27" y="7"/>
                </a:lnTo>
                <a:lnTo>
                  <a:pt x="27" y="7"/>
                </a:lnTo>
                <a:lnTo>
                  <a:pt x="27" y="7"/>
                </a:lnTo>
                <a:lnTo>
                  <a:pt x="20" y="7"/>
                </a:lnTo>
                <a:lnTo>
                  <a:pt x="20" y="7"/>
                </a:lnTo>
                <a:lnTo>
                  <a:pt x="20" y="7"/>
                </a:lnTo>
                <a:lnTo>
                  <a:pt x="20" y="7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3" name=""/>
          <p:cNvSpPr/>
          <p:nvPr/>
        </p:nvSpPr>
        <p:spPr>
          <a:xfrm>
            <a:off x="3583080" y="4014720"/>
            <a:ext cx="66600" cy="44640"/>
          </a:xfrm>
          <a:custGeom>
            <a:avLst/>
            <a:gdLst/>
            <a:ahLst/>
            <a:rect l="l" t="t" r="r" b="b"/>
            <a:pathLst>
              <a:path w="42" h="28">
                <a:moveTo>
                  <a:pt x="21" y="0"/>
                </a:moveTo>
                <a:lnTo>
                  <a:pt x="21" y="0"/>
                </a:lnTo>
                <a:lnTo>
                  <a:pt x="28" y="0"/>
                </a:lnTo>
                <a:lnTo>
                  <a:pt x="28" y="0"/>
                </a:lnTo>
                <a:lnTo>
                  <a:pt x="35" y="0"/>
                </a:lnTo>
                <a:lnTo>
                  <a:pt x="35" y="0"/>
                </a:lnTo>
                <a:lnTo>
                  <a:pt x="35" y="0"/>
                </a:lnTo>
                <a:lnTo>
                  <a:pt x="42" y="0"/>
                </a:lnTo>
                <a:lnTo>
                  <a:pt x="42" y="7"/>
                </a:lnTo>
                <a:lnTo>
                  <a:pt x="42" y="7"/>
                </a:lnTo>
                <a:lnTo>
                  <a:pt x="42" y="7"/>
                </a:lnTo>
                <a:lnTo>
                  <a:pt x="42" y="7"/>
                </a:lnTo>
                <a:lnTo>
                  <a:pt x="42" y="14"/>
                </a:lnTo>
                <a:lnTo>
                  <a:pt x="42" y="14"/>
                </a:lnTo>
                <a:lnTo>
                  <a:pt x="42" y="14"/>
                </a:lnTo>
                <a:lnTo>
                  <a:pt x="42" y="14"/>
                </a:lnTo>
                <a:lnTo>
                  <a:pt x="42" y="21"/>
                </a:lnTo>
                <a:lnTo>
                  <a:pt x="42" y="21"/>
                </a:lnTo>
                <a:lnTo>
                  <a:pt x="42" y="21"/>
                </a:lnTo>
                <a:lnTo>
                  <a:pt x="42" y="21"/>
                </a:lnTo>
                <a:lnTo>
                  <a:pt x="42" y="21"/>
                </a:lnTo>
                <a:lnTo>
                  <a:pt x="35" y="21"/>
                </a:lnTo>
                <a:lnTo>
                  <a:pt x="35" y="28"/>
                </a:lnTo>
                <a:lnTo>
                  <a:pt x="35" y="28"/>
                </a:lnTo>
                <a:lnTo>
                  <a:pt x="35" y="28"/>
                </a:lnTo>
                <a:lnTo>
                  <a:pt x="28" y="28"/>
                </a:lnTo>
                <a:lnTo>
                  <a:pt x="28" y="28"/>
                </a:lnTo>
                <a:lnTo>
                  <a:pt x="28" y="28"/>
                </a:lnTo>
                <a:lnTo>
                  <a:pt x="21" y="28"/>
                </a:lnTo>
                <a:lnTo>
                  <a:pt x="21" y="28"/>
                </a:lnTo>
                <a:lnTo>
                  <a:pt x="14" y="28"/>
                </a:lnTo>
                <a:lnTo>
                  <a:pt x="14" y="28"/>
                </a:lnTo>
                <a:lnTo>
                  <a:pt x="7" y="28"/>
                </a:lnTo>
                <a:lnTo>
                  <a:pt x="7" y="28"/>
                </a:lnTo>
                <a:lnTo>
                  <a:pt x="7" y="28"/>
                </a:lnTo>
                <a:lnTo>
                  <a:pt x="0" y="21"/>
                </a:lnTo>
                <a:lnTo>
                  <a:pt x="0" y="21"/>
                </a:lnTo>
                <a:lnTo>
                  <a:pt x="0" y="21"/>
                </a:lnTo>
                <a:lnTo>
                  <a:pt x="0" y="21"/>
                </a:lnTo>
                <a:lnTo>
                  <a:pt x="0" y="14"/>
                </a:lnTo>
                <a:lnTo>
                  <a:pt x="0" y="14"/>
                </a:lnTo>
                <a:lnTo>
                  <a:pt x="0" y="14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7" y="0"/>
                </a:lnTo>
                <a:lnTo>
                  <a:pt x="7" y="0"/>
                </a:lnTo>
                <a:lnTo>
                  <a:pt x="14" y="0"/>
                </a:lnTo>
                <a:lnTo>
                  <a:pt x="21" y="0"/>
                </a:lnTo>
                <a:close/>
                <a:moveTo>
                  <a:pt x="21" y="7"/>
                </a:moveTo>
                <a:lnTo>
                  <a:pt x="14" y="7"/>
                </a:lnTo>
                <a:lnTo>
                  <a:pt x="14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0" y="14"/>
                </a:lnTo>
                <a:lnTo>
                  <a:pt x="0" y="14"/>
                </a:lnTo>
                <a:lnTo>
                  <a:pt x="0" y="14"/>
                </a:lnTo>
                <a:lnTo>
                  <a:pt x="0" y="14"/>
                </a:lnTo>
                <a:lnTo>
                  <a:pt x="7" y="21"/>
                </a:lnTo>
                <a:lnTo>
                  <a:pt x="7" y="21"/>
                </a:lnTo>
                <a:lnTo>
                  <a:pt x="7" y="21"/>
                </a:lnTo>
                <a:lnTo>
                  <a:pt x="7" y="21"/>
                </a:lnTo>
                <a:lnTo>
                  <a:pt x="14" y="21"/>
                </a:lnTo>
                <a:lnTo>
                  <a:pt x="14" y="21"/>
                </a:lnTo>
                <a:lnTo>
                  <a:pt x="21" y="21"/>
                </a:lnTo>
                <a:lnTo>
                  <a:pt x="28" y="21"/>
                </a:lnTo>
                <a:lnTo>
                  <a:pt x="28" y="21"/>
                </a:lnTo>
                <a:lnTo>
                  <a:pt x="35" y="21"/>
                </a:lnTo>
                <a:lnTo>
                  <a:pt x="35" y="21"/>
                </a:lnTo>
                <a:lnTo>
                  <a:pt x="35" y="21"/>
                </a:lnTo>
                <a:lnTo>
                  <a:pt x="42" y="14"/>
                </a:lnTo>
                <a:lnTo>
                  <a:pt x="42" y="14"/>
                </a:lnTo>
                <a:lnTo>
                  <a:pt x="42" y="14"/>
                </a:lnTo>
                <a:lnTo>
                  <a:pt x="42" y="14"/>
                </a:lnTo>
                <a:lnTo>
                  <a:pt x="42" y="7"/>
                </a:lnTo>
                <a:lnTo>
                  <a:pt x="35" y="7"/>
                </a:lnTo>
                <a:lnTo>
                  <a:pt x="35" y="7"/>
                </a:lnTo>
                <a:lnTo>
                  <a:pt x="35" y="7"/>
                </a:lnTo>
                <a:lnTo>
                  <a:pt x="28" y="7"/>
                </a:lnTo>
                <a:lnTo>
                  <a:pt x="28" y="7"/>
                </a:lnTo>
                <a:lnTo>
                  <a:pt x="21" y="7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4" name=""/>
          <p:cNvSpPr/>
          <p:nvPr/>
        </p:nvSpPr>
        <p:spPr>
          <a:xfrm>
            <a:off x="3605040" y="3873600"/>
            <a:ext cx="1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5" name=""/>
          <p:cNvSpPr/>
          <p:nvPr/>
        </p:nvSpPr>
        <p:spPr>
          <a:xfrm>
            <a:off x="3224160" y="3808440"/>
            <a:ext cx="380880" cy="760320"/>
          </a:xfrm>
          <a:custGeom>
            <a:avLst/>
            <a:gdLst/>
            <a:ahLst/>
            <a:rect l="l" t="t" r="r" b="b"/>
            <a:pathLst>
              <a:path w="240" h="479">
                <a:moveTo>
                  <a:pt x="240" y="41"/>
                </a:moveTo>
                <a:lnTo>
                  <a:pt x="240" y="34"/>
                </a:lnTo>
                <a:lnTo>
                  <a:pt x="240" y="28"/>
                </a:lnTo>
                <a:lnTo>
                  <a:pt x="240" y="21"/>
                </a:lnTo>
                <a:lnTo>
                  <a:pt x="240" y="14"/>
                </a:lnTo>
                <a:lnTo>
                  <a:pt x="240" y="7"/>
                </a:lnTo>
                <a:lnTo>
                  <a:pt x="233" y="0"/>
                </a:lnTo>
                <a:lnTo>
                  <a:pt x="233" y="0"/>
                </a:lnTo>
                <a:lnTo>
                  <a:pt x="226" y="0"/>
                </a:lnTo>
                <a:lnTo>
                  <a:pt x="220" y="7"/>
                </a:lnTo>
                <a:lnTo>
                  <a:pt x="213" y="14"/>
                </a:lnTo>
                <a:lnTo>
                  <a:pt x="213" y="21"/>
                </a:lnTo>
                <a:lnTo>
                  <a:pt x="213" y="28"/>
                </a:lnTo>
                <a:lnTo>
                  <a:pt x="213" y="34"/>
                </a:lnTo>
                <a:lnTo>
                  <a:pt x="206" y="34"/>
                </a:lnTo>
                <a:lnTo>
                  <a:pt x="206" y="41"/>
                </a:lnTo>
                <a:lnTo>
                  <a:pt x="206" y="48"/>
                </a:lnTo>
                <a:lnTo>
                  <a:pt x="199" y="55"/>
                </a:lnTo>
                <a:lnTo>
                  <a:pt x="199" y="62"/>
                </a:lnTo>
                <a:lnTo>
                  <a:pt x="192" y="62"/>
                </a:lnTo>
                <a:lnTo>
                  <a:pt x="185" y="69"/>
                </a:lnTo>
                <a:lnTo>
                  <a:pt x="185" y="75"/>
                </a:lnTo>
                <a:lnTo>
                  <a:pt x="185" y="82"/>
                </a:lnTo>
                <a:lnTo>
                  <a:pt x="185" y="89"/>
                </a:lnTo>
                <a:lnTo>
                  <a:pt x="185" y="96"/>
                </a:lnTo>
                <a:lnTo>
                  <a:pt x="185" y="103"/>
                </a:lnTo>
                <a:lnTo>
                  <a:pt x="178" y="110"/>
                </a:lnTo>
                <a:lnTo>
                  <a:pt x="178" y="116"/>
                </a:lnTo>
                <a:lnTo>
                  <a:pt x="178" y="116"/>
                </a:lnTo>
                <a:lnTo>
                  <a:pt x="178" y="123"/>
                </a:lnTo>
                <a:lnTo>
                  <a:pt x="178" y="130"/>
                </a:lnTo>
                <a:lnTo>
                  <a:pt x="178" y="137"/>
                </a:lnTo>
                <a:lnTo>
                  <a:pt x="178" y="144"/>
                </a:lnTo>
                <a:lnTo>
                  <a:pt x="172" y="151"/>
                </a:lnTo>
                <a:lnTo>
                  <a:pt x="172" y="158"/>
                </a:lnTo>
                <a:lnTo>
                  <a:pt x="172" y="164"/>
                </a:lnTo>
                <a:lnTo>
                  <a:pt x="172" y="171"/>
                </a:lnTo>
                <a:lnTo>
                  <a:pt x="172" y="171"/>
                </a:lnTo>
                <a:lnTo>
                  <a:pt x="172" y="178"/>
                </a:lnTo>
                <a:lnTo>
                  <a:pt x="172" y="185"/>
                </a:lnTo>
                <a:lnTo>
                  <a:pt x="165" y="192"/>
                </a:lnTo>
                <a:lnTo>
                  <a:pt x="165" y="199"/>
                </a:lnTo>
                <a:lnTo>
                  <a:pt x="165" y="205"/>
                </a:lnTo>
                <a:lnTo>
                  <a:pt x="165" y="212"/>
                </a:lnTo>
                <a:lnTo>
                  <a:pt x="165" y="219"/>
                </a:lnTo>
                <a:lnTo>
                  <a:pt x="165" y="226"/>
                </a:lnTo>
                <a:lnTo>
                  <a:pt x="158" y="226"/>
                </a:lnTo>
                <a:lnTo>
                  <a:pt x="158" y="233"/>
                </a:lnTo>
                <a:lnTo>
                  <a:pt x="158" y="240"/>
                </a:lnTo>
                <a:lnTo>
                  <a:pt x="158" y="246"/>
                </a:lnTo>
                <a:lnTo>
                  <a:pt x="158" y="253"/>
                </a:lnTo>
                <a:lnTo>
                  <a:pt x="158" y="260"/>
                </a:lnTo>
                <a:lnTo>
                  <a:pt x="158" y="267"/>
                </a:lnTo>
                <a:lnTo>
                  <a:pt x="158" y="274"/>
                </a:lnTo>
                <a:lnTo>
                  <a:pt x="151" y="274"/>
                </a:lnTo>
                <a:lnTo>
                  <a:pt x="144" y="281"/>
                </a:lnTo>
                <a:lnTo>
                  <a:pt x="137" y="288"/>
                </a:lnTo>
                <a:lnTo>
                  <a:pt x="130" y="294"/>
                </a:lnTo>
                <a:lnTo>
                  <a:pt x="124" y="294"/>
                </a:lnTo>
                <a:lnTo>
                  <a:pt x="124" y="301"/>
                </a:lnTo>
                <a:lnTo>
                  <a:pt x="130" y="308"/>
                </a:lnTo>
                <a:lnTo>
                  <a:pt x="130" y="315"/>
                </a:lnTo>
                <a:lnTo>
                  <a:pt x="137" y="322"/>
                </a:lnTo>
                <a:lnTo>
                  <a:pt x="144" y="322"/>
                </a:lnTo>
                <a:lnTo>
                  <a:pt x="151" y="329"/>
                </a:lnTo>
                <a:lnTo>
                  <a:pt x="158" y="335"/>
                </a:lnTo>
                <a:lnTo>
                  <a:pt x="158" y="342"/>
                </a:lnTo>
                <a:lnTo>
                  <a:pt x="165" y="349"/>
                </a:lnTo>
                <a:lnTo>
                  <a:pt x="172" y="349"/>
                </a:lnTo>
                <a:lnTo>
                  <a:pt x="172" y="356"/>
                </a:lnTo>
                <a:lnTo>
                  <a:pt x="172" y="363"/>
                </a:lnTo>
                <a:lnTo>
                  <a:pt x="165" y="370"/>
                </a:lnTo>
                <a:lnTo>
                  <a:pt x="158" y="370"/>
                </a:lnTo>
                <a:lnTo>
                  <a:pt x="151" y="376"/>
                </a:lnTo>
                <a:lnTo>
                  <a:pt x="137" y="376"/>
                </a:lnTo>
                <a:lnTo>
                  <a:pt x="130" y="383"/>
                </a:lnTo>
                <a:lnTo>
                  <a:pt x="124" y="383"/>
                </a:lnTo>
                <a:lnTo>
                  <a:pt x="117" y="390"/>
                </a:lnTo>
                <a:lnTo>
                  <a:pt x="110" y="397"/>
                </a:lnTo>
                <a:lnTo>
                  <a:pt x="103" y="397"/>
                </a:lnTo>
                <a:lnTo>
                  <a:pt x="96" y="404"/>
                </a:lnTo>
                <a:lnTo>
                  <a:pt x="89" y="404"/>
                </a:lnTo>
                <a:lnTo>
                  <a:pt x="82" y="411"/>
                </a:lnTo>
                <a:lnTo>
                  <a:pt x="76" y="418"/>
                </a:lnTo>
                <a:lnTo>
                  <a:pt x="69" y="418"/>
                </a:lnTo>
                <a:lnTo>
                  <a:pt x="69" y="424"/>
                </a:lnTo>
                <a:lnTo>
                  <a:pt x="62" y="431"/>
                </a:lnTo>
                <a:lnTo>
                  <a:pt x="55" y="438"/>
                </a:lnTo>
                <a:lnTo>
                  <a:pt x="55" y="438"/>
                </a:lnTo>
                <a:lnTo>
                  <a:pt x="48" y="445"/>
                </a:lnTo>
                <a:lnTo>
                  <a:pt x="41" y="452"/>
                </a:lnTo>
                <a:lnTo>
                  <a:pt x="28" y="452"/>
                </a:lnTo>
                <a:lnTo>
                  <a:pt x="21" y="459"/>
                </a:lnTo>
                <a:lnTo>
                  <a:pt x="14" y="459"/>
                </a:lnTo>
                <a:lnTo>
                  <a:pt x="7" y="465"/>
                </a:lnTo>
                <a:lnTo>
                  <a:pt x="7" y="472"/>
                </a:lnTo>
                <a:lnTo>
                  <a:pt x="0" y="479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6" name=""/>
          <p:cNvSpPr/>
          <p:nvPr/>
        </p:nvSpPr>
        <p:spPr>
          <a:xfrm flipH="1" flipV="1">
            <a:off x="3170160" y="4503240"/>
            <a:ext cx="22320" cy="11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7" name=""/>
          <p:cNvSpPr/>
          <p:nvPr/>
        </p:nvSpPr>
        <p:spPr>
          <a:xfrm flipH="1" flipV="1">
            <a:off x="3192120" y="4514400"/>
            <a:ext cx="2052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8" name=""/>
          <p:cNvSpPr/>
          <p:nvPr/>
        </p:nvSpPr>
        <p:spPr>
          <a:xfrm flipH="1" flipV="1">
            <a:off x="3125520" y="4449600"/>
            <a:ext cx="21960" cy="22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9" name=""/>
          <p:cNvSpPr/>
          <p:nvPr/>
        </p:nvSpPr>
        <p:spPr>
          <a:xfrm flipH="1" flipV="1">
            <a:off x="3082680" y="4395960"/>
            <a:ext cx="21960" cy="31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0" name=""/>
          <p:cNvSpPr/>
          <p:nvPr/>
        </p:nvSpPr>
        <p:spPr>
          <a:xfrm flipH="1" flipV="1">
            <a:off x="3040200" y="4339800"/>
            <a:ext cx="3168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1" name=""/>
          <p:cNvSpPr/>
          <p:nvPr/>
        </p:nvSpPr>
        <p:spPr>
          <a:xfrm>
            <a:off x="3932280" y="4362480"/>
            <a:ext cx="119160" cy="33480"/>
          </a:xfrm>
          <a:custGeom>
            <a:avLst/>
            <a:gdLst/>
            <a:ahLst/>
            <a:rect l="l" t="t" r="r" b="b"/>
            <a:pathLst>
              <a:path w="75" h="21">
                <a:moveTo>
                  <a:pt x="0" y="7"/>
                </a:moveTo>
                <a:lnTo>
                  <a:pt x="7" y="7"/>
                </a:lnTo>
                <a:lnTo>
                  <a:pt x="14" y="7"/>
                </a:lnTo>
                <a:lnTo>
                  <a:pt x="14" y="7"/>
                </a:lnTo>
                <a:lnTo>
                  <a:pt x="20" y="0"/>
                </a:lnTo>
                <a:lnTo>
                  <a:pt x="27" y="7"/>
                </a:lnTo>
                <a:lnTo>
                  <a:pt x="34" y="7"/>
                </a:lnTo>
                <a:lnTo>
                  <a:pt x="41" y="7"/>
                </a:lnTo>
                <a:lnTo>
                  <a:pt x="48" y="7"/>
                </a:lnTo>
                <a:lnTo>
                  <a:pt x="55" y="7"/>
                </a:lnTo>
                <a:lnTo>
                  <a:pt x="62" y="7"/>
                </a:lnTo>
                <a:lnTo>
                  <a:pt x="62" y="7"/>
                </a:lnTo>
                <a:lnTo>
                  <a:pt x="68" y="7"/>
                </a:lnTo>
                <a:lnTo>
                  <a:pt x="75" y="7"/>
                </a:lnTo>
                <a:lnTo>
                  <a:pt x="68" y="14"/>
                </a:lnTo>
                <a:lnTo>
                  <a:pt x="62" y="14"/>
                </a:lnTo>
                <a:lnTo>
                  <a:pt x="55" y="14"/>
                </a:lnTo>
                <a:lnTo>
                  <a:pt x="55" y="14"/>
                </a:lnTo>
                <a:lnTo>
                  <a:pt x="48" y="14"/>
                </a:lnTo>
                <a:lnTo>
                  <a:pt x="41" y="14"/>
                </a:lnTo>
                <a:lnTo>
                  <a:pt x="34" y="14"/>
                </a:lnTo>
                <a:lnTo>
                  <a:pt x="27" y="21"/>
                </a:lnTo>
                <a:lnTo>
                  <a:pt x="20" y="21"/>
                </a:lnTo>
                <a:lnTo>
                  <a:pt x="14" y="14"/>
                </a:lnTo>
                <a:lnTo>
                  <a:pt x="14" y="14"/>
                </a:lnTo>
                <a:lnTo>
                  <a:pt x="7" y="14"/>
                </a:lnTo>
                <a:lnTo>
                  <a:pt x="0" y="7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2" name=""/>
          <p:cNvSpPr/>
          <p:nvPr/>
        </p:nvSpPr>
        <p:spPr>
          <a:xfrm>
            <a:off x="2995560" y="4286160"/>
            <a:ext cx="33480" cy="44640"/>
          </a:xfrm>
          <a:custGeom>
            <a:avLst/>
            <a:gdLst/>
            <a:ahLst/>
            <a:rect l="l" t="t" r="r" b="b"/>
            <a:pathLst>
              <a:path w="21" h="28">
                <a:moveTo>
                  <a:pt x="21" y="28"/>
                </a:moveTo>
                <a:lnTo>
                  <a:pt x="21" y="28"/>
                </a:lnTo>
                <a:lnTo>
                  <a:pt x="14" y="21"/>
                </a:lnTo>
                <a:lnTo>
                  <a:pt x="14" y="21"/>
                </a:lnTo>
                <a:lnTo>
                  <a:pt x="7" y="14"/>
                </a:lnTo>
                <a:lnTo>
                  <a:pt x="7" y="14"/>
                </a:lnTo>
                <a:lnTo>
                  <a:pt x="0" y="7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3" name=""/>
          <p:cNvSpPr/>
          <p:nvPr/>
        </p:nvSpPr>
        <p:spPr>
          <a:xfrm flipH="1" flipV="1">
            <a:off x="2941200" y="4231800"/>
            <a:ext cx="11160" cy="11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4" name=""/>
          <p:cNvSpPr/>
          <p:nvPr/>
        </p:nvSpPr>
        <p:spPr>
          <a:xfrm flipH="1" flipV="1">
            <a:off x="2898360" y="4167360"/>
            <a:ext cx="20520" cy="31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5" name=""/>
          <p:cNvSpPr/>
          <p:nvPr/>
        </p:nvSpPr>
        <p:spPr>
          <a:xfrm flipH="1" flipV="1">
            <a:off x="2854440" y="4113360"/>
            <a:ext cx="33120" cy="31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6" name=""/>
          <p:cNvSpPr/>
          <p:nvPr/>
        </p:nvSpPr>
        <p:spPr>
          <a:xfrm>
            <a:off x="4040280" y="4145040"/>
            <a:ext cx="11160" cy="33120"/>
          </a:xfrm>
          <a:custGeom>
            <a:avLst/>
            <a:gdLst/>
            <a:ahLst/>
            <a:rect l="l" t="t" r="r" b="b"/>
            <a:pathLst>
              <a:path w="7" h="21">
                <a:moveTo>
                  <a:pt x="7" y="0"/>
                </a:moveTo>
                <a:lnTo>
                  <a:pt x="7" y="0"/>
                </a:lnTo>
                <a:lnTo>
                  <a:pt x="7" y="0"/>
                </a:lnTo>
                <a:lnTo>
                  <a:pt x="0" y="0"/>
                </a:lnTo>
                <a:lnTo>
                  <a:pt x="0" y="7"/>
                </a:lnTo>
                <a:lnTo>
                  <a:pt x="0" y="7"/>
                </a:lnTo>
                <a:lnTo>
                  <a:pt x="0" y="14"/>
                </a:lnTo>
                <a:lnTo>
                  <a:pt x="0" y="14"/>
                </a:lnTo>
                <a:lnTo>
                  <a:pt x="7" y="21"/>
                </a:lnTo>
                <a:lnTo>
                  <a:pt x="7" y="21"/>
                </a:lnTo>
                <a:lnTo>
                  <a:pt x="7" y="21"/>
                </a:lnTo>
                <a:lnTo>
                  <a:pt x="7" y="14"/>
                </a:lnTo>
                <a:lnTo>
                  <a:pt x="7" y="14"/>
                </a:lnTo>
                <a:lnTo>
                  <a:pt x="7" y="7"/>
                </a:lnTo>
                <a:lnTo>
                  <a:pt x="7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7" name=""/>
          <p:cNvSpPr/>
          <p:nvPr/>
        </p:nvSpPr>
        <p:spPr>
          <a:xfrm>
            <a:off x="2712960" y="3938760"/>
            <a:ext cx="130320" cy="163440"/>
          </a:xfrm>
          <a:custGeom>
            <a:avLst/>
            <a:gdLst/>
            <a:ahLst/>
            <a:rect l="l" t="t" r="r" b="b"/>
            <a:pathLst>
              <a:path w="82" h="103">
                <a:moveTo>
                  <a:pt x="82" y="103"/>
                </a:moveTo>
                <a:lnTo>
                  <a:pt x="82" y="96"/>
                </a:lnTo>
                <a:lnTo>
                  <a:pt x="75" y="96"/>
                </a:lnTo>
                <a:lnTo>
                  <a:pt x="69" y="89"/>
                </a:lnTo>
                <a:lnTo>
                  <a:pt x="69" y="82"/>
                </a:lnTo>
                <a:lnTo>
                  <a:pt x="62" y="76"/>
                </a:lnTo>
                <a:lnTo>
                  <a:pt x="62" y="76"/>
                </a:lnTo>
                <a:lnTo>
                  <a:pt x="55" y="69"/>
                </a:lnTo>
                <a:lnTo>
                  <a:pt x="48" y="62"/>
                </a:lnTo>
                <a:lnTo>
                  <a:pt x="48" y="55"/>
                </a:lnTo>
                <a:lnTo>
                  <a:pt x="41" y="55"/>
                </a:lnTo>
                <a:lnTo>
                  <a:pt x="41" y="48"/>
                </a:lnTo>
                <a:lnTo>
                  <a:pt x="34" y="41"/>
                </a:lnTo>
                <a:lnTo>
                  <a:pt x="27" y="34"/>
                </a:lnTo>
                <a:lnTo>
                  <a:pt x="27" y="34"/>
                </a:lnTo>
                <a:lnTo>
                  <a:pt x="21" y="28"/>
                </a:lnTo>
                <a:lnTo>
                  <a:pt x="21" y="21"/>
                </a:lnTo>
                <a:lnTo>
                  <a:pt x="14" y="14"/>
                </a:lnTo>
                <a:lnTo>
                  <a:pt x="7" y="14"/>
                </a:lnTo>
                <a:lnTo>
                  <a:pt x="7" y="7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8" name=""/>
          <p:cNvSpPr/>
          <p:nvPr/>
        </p:nvSpPr>
        <p:spPr>
          <a:xfrm flipV="1">
            <a:off x="4116240" y="4090680"/>
            <a:ext cx="11160" cy="11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9" name=""/>
          <p:cNvSpPr/>
          <p:nvPr/>
        </p:nvSpPr>
        <p:spPr>
          <a:xfrm>
            <a:off x="4127400" y="4014720"/>
            <a:ext cx="98640" cy="76320"/>
          </a:xfrm>
          <a:custGeom>
            <a:avLst/>
            <a:gdLst/>
            <a:ahLst/>
            <a:rect l="l" t="t" r="r" b="b"/>
            <a:pathLst>
              <a:path w="62" h="48">
                <a:moveTo>
                  <a:pt x="0" y="48"/>
                </a:moveTo>
                <a:lnTo>
                  <a:pt x="7" y="41"/>
                </a:lnTo>
                <a:lnTo>
                  <a:pt x="14" y="41"/>
                </a:lnTo>
                <a:lnTo>
                  <a:pt x="21" y="48"/>
                </a:lnTo>
                <a:lnTo>
                  <a:pt x="35" y="48"/>
                </a:lnTo>
                <a:lnTo>
                  <a:pt x="41" y="48"/>
                </a:lnTo>
                <a:lnTo>
                  <a:pt x="48" y="48"/>
                </a:lnTo>
                <a:lnTo>
                  <a:pt x="55" y="41"/>
                </a:lnTo>
                <a:lnTo>
                  <a:pt x="62" y="34"/>
                </a:lnTo>
                <a:lnTo>
                  <a:pt x="62" y="28"/>
                </a:lnTo>
                <a:lnTo>
                  <a:pt x="62" y="21"/>
                </a:lnTo>
                <a:lnTo>
                  <a:pt x="55" y="14"/>
                </a:lnTo>
                <a:lnTo>
                  <a:pt x="55" y="14"/>
                </a:lnTo>
                <a:lnTo>
                  <a:pt x="48" y="7"/>
                </a:lnTo>
                <a:lnTo>
                  <a:pt x="41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0" name=""/>
          <p:cNvSpPr/>
          <p:nvPr/>
        </p:nvSpPr>
        <p:spPr>
          <a:xfrm>
            <a:off x="4192560" y="4014720"/>
            <a:ext cx="1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1" name=""/>
          <p:cNvSpPr/>
          <p:nvPr/>
        </p:nvSpPr>
        <p:spPr>
          <a:xfrm>
            <a:off x="4127400" y="3841920"/>
            <a:ext cx="65160" cy="31680"/>
          </a:xfrm>
          <a:custGeom>
            <a:avLst/>
            <a:gdLst/>
            <a:ahLst/>
            <a:rect l="l" t="t" r="r" b="b"/>
            <a:pathLst>
              <a:path w="41" h="20">
                <a:moveTo>
                  <a:pt x="0" y="20"/>
                </a:moveTo>
                <a:lnTo>
                  <a:pt x="0" y="20"/>
                </a:lnTo>
                <a:lnTo>
                  <a:pt x="35" y="7"/>
                </a:lnTo>
                <a:lnTo>
                  <a:pt x="35" y="7"/>
                </a:lnTo>
                <a:lnTo>
                  <a:pt x="28" y="7"/>
                </a:lnTo>
                <a:lnTo>
                  <a:pt x="28" y="7"/>
                </a:lnTo>
                <a:lnTo>
                  <a:pt x="28" y="7"/>
                </a:lnTo>
                <a:lnTo>
                  <a:pt x="28" y="7"/>
                </a:lnTo>
                <a:lnTo>
                  <a:pt x="28" y="0"/>
                </a:lnTo>
                <a:lnTo>
                  <a:pt x="28" y="0"/>
                </a:lnTo>
                <a:lnTo>
                  <a:pt x="21" y="0"/>
                </a:lnTo>
                <a:lnTo>
                  <a:pt x="28" y="0"/>
                </a:lnTo>
                <a:lnTo>
                  <a:pt x="28" y="0"/>
                </a:lnTo>
                <a:lnTo>
                  <a:pt x="35" y="0"/>
                </a:lnTo>
                <a:lnTo>
                  <a:pt x="35" y="7"/>
                </a:lnTo>
                <a:lnTo>
                  <a:pt x="35" y="7"/>
                </a:lnTo>
                <a:lnTo>
                  <a:pt x="41" y="7"/>
                </a:lnTo>
                <a:lnTo>
                  <a:pt x="41" y="7"/>
                </a:lnTo>
                <a:lnTo>
                  <a:pt x="41" y="7"/>
                </a:lnTo>
                <a:lnTo>
                  <a:pt x="41" y="7"/>
                </a:lnTo>
                <a:lnTo>
                  <a:pt x="41" y="13"/>
                </a:lnTo>
                <a:lnTo>
                  <a:pt x="0" y="2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2" name=""/>
          <p:cNvSpPr/>
          <p:nvPr/>
        </p:nvSpPr>
        <p:spPr>
          <a:xfrm>
            <a:off x="4138560" y="3884760"/>
            <a:ext cx="65160" cy="54000"/>
          </a:xfrm>
          <a:custGeom>
            <a:avLst/>
            <a:gdLst/>
            <a:ahLst/>
            <a:rect l="l" t="t" r="r" b="b"/>
            <a:pathLst>
              <a:path w="41" h="34">
                <a:moveTo>
                  <a:pt x="34" y="27"/>
                </a:moveTo>
                <a:lnTo>
                  <a:pt x="34" y="21"/>
                </a:lnTo>
                <a:lnTo>
                  <a:pt x="34" y="21"/>
                </a:lnTo>
                <a:lnTo>
                  <a:pt x="34" y="21"/>
                </a:lnTo>
                <a:lnTo>
                  <a:pt x="41" y="21"/>
                </a:lnTo>
                <a:lnTo>
                  <a:pt x="41" y="21"/>
                </a:lnTo>
                <a:lnTo>
                  <a:pt x="41" y="21"/>
                </a:lnTo>
                <a:lnTo>
                  <a:pt x="41" y="21"/>
                </a:lnTo>
                <a:lnTo>
                  <a:pt x="41" y="14"/>
                </a:lnTo>
                <a:lnTo>
                  <a:pt x="41" y="14"/>
                </a:lnTo>
                <a:lnTo>
                  <a:pt x="41" y="14"/>
                </a:lnTo>
                <a:lnTo>
                  <a:pt x="41" y="14"/>
                </a:lnTo>
                <a:lnTo>
                  <a:pt x="41" y="14"/>
                </a:lnTo>
                <a:lnTo>
                  <a:pt x="34" y="14"/>
                </a:lnTo>
                <a:lnTo>
                  <a:pt x="34" y="7"/>
                </a:lnTo>
                <a:lnTo>
                  <a:pt x="34" y="7"/>
                </a:lnTo>
                <a:lnTo>
                  <a:pt x="34" y="7"/>
                </a:lnTo>
                <a:lnTo>
                  <a:pt x="28" y="7"/>
                </a:lnTo>
                <a:lnTo>
                  <a:pt x="28" y="7"/>
                </a:lnTo>
                <a:lnTo>
                  <a:pt x="28" y="7"/>
                </a:lnTo>
                <a:lnTo>
                  <a:pt x="21" y="7"/>
                </a:lnTo>
                <a:lnTo>
                  <a:pt x="21" y="7"/>
                </a:lnTo>
                <a:lnTo>
                  <a:pt x="21" y="7"/>
                </a:lnTo>
                <a:lnTo>
                  <a:pt x="21" y="14"/>
                </a:lnTo>
                <a:lnTo>
                  <a:pt x="28" y="14"/>
                </a:lnTo>
                <a:lnTo>
                  <a:pt x="28" y="14"/>
                </a:lnTo>
                <a:lnTo>
                  <a:pt x="28" y="14"/>
                </a:lnTo>
                <a:lnTo>
                  <a:pt x="28" y="14"/>
                </a:lnTo>
                <a:lnTo>
                  <a:pt x="28" y="14"/>
                </a:lnTo>
                <a:lnTo>
                  <a:pt x="28" y="21"/>
                </a:lnTo>
                <a:lnTo>
                  <a:pt x="28" y="21"/>
                </a:lnTo>
                <a:lnTo>
                  <a:pt x="28" y="21"/>
                </a:lnTo>
                <a:lnTo>
                  <a:pt x="28" y="27"/>
                </a:lnTo>
                <a:lnTo>
                  <a:pt x="28" y="27"/>
                </a:lnTo>
                <a:lnTo>
                  <a:pt x="28" y="27"/>
                </a:lnTo>
                <a:lnTo>
                  <a:pt x="21" y="34"/>
                </a:lnTo>
                <a:lnTo>
                  <a:pt x="21" y="34"/>
                </a:lnTo>
                <a:lnTo>
                  <a:pt x="21" y="34"/>
                </a:lnTo>
                <a:lnTo>
                  <a:pt x="14" y="34"/>
                </a:lnTo>
                <a:lnTo>
                  <a:pt x="14" y="34"/>
                </a:lnTo>
                <a:lnTo>
                  <a:pt x="14" y="34"/>
                </a:lnTo>
                <a:lnTo>
                  <a:pt x="7" y="34"/>
                </a:lnTo>
                <a:lnTo>
                  <a:pt x="7" y="34"/>
                </a:lnTo>
                <a:lnTo>
                  <a:pt x="7" y="34"/>
                </a:lnTo>
                <a:lnTo>
                  <a:pt x="7" y="34"/>
                </a:lnTo>
                <a:lnTo>
                  <a:pt x="0" y="34"/>
                </a:lnTo>
                <a:lnTo>
                  <a:pt x="0" y="27"/>
                </a:lnTo>
                <a:lnTo>
                  <a:pt x="0" y="27"/>
                </a:lnTo>
                <a:lnTo>
                  <a:pt x="0" y="27"/>
                </a:lnTo>
                <a:lnTo>
                  <a:pt x="0" y="27"/>
                </a:lnTo>
                <a:lnTo>
                  <a:pt x="0" y="21"/>
                </a:lnTo>
                <a:lnTo>
                  <a:pt x="0" y="21"/>
                </a:lnTo>
                <a:lnTo>
                  <a:pt x="0" y="14"/>
                </a:lnTo>
                <a:lnTo>
                  <a:pt x="0" y="14"/>
                </a:lnTo>
                <a:lnTo>
                  <a:pt x="7" y="7"/>
                </a:lnTo>
                <a:lnTo>
                  <a:pt x="7" y="7"/>
                </a:lnTo>
                <a:lnTo>
                  <a:pt x="14" y="7"/>
                </a:lnTo>
                <a:lnTo>
                  <a:pt x="14" y="7"/>
                </a:lnTo>
                <a:lnTo>
                  <a:pt x="21" y="0"/>
                </a:lnTo>
                <a:lnTo>
                  <a:pt x="28" y="0"/>
                </a:lnTo>
                <a:lnTo>
                  <a:pt x="34" y="0"/>
                </a:lnTo>
                <a:lnTo>
                  <a:pt x="34" y="7"/>
                </a:lnTo>
                <a:lnTo>
                  <a:pt x="41" y="7"/>
                </a:lnTo>
                <a:lnTo>
                  <a:pt x="41" y="7"/>
                </a:lnTo>
                <a:lnTo>
                  <a:pt x="41" y="14"/>
                </a:lnTo>
                <a:lnTo>
                  <a:pt x="41" y="14"/>
                </a:lnTo>
                <a:lnTo>
                  <a:pt x="41" y="14"/>
                </a:lnTo>
                <a:lnTo>
                  <a:pt x="41" y="21"/>
                </a:lnTo>
                <a:lnTo>
                  <a:pt x="41" y="21"/>
                </a:lnTo>
                <a:lnTo>
                  <a:pt x="41" y="21"/>
                </a:lnTo>
                <a:lnTo>
                  <a:pt x="41" y="27"/>
                </a:lnTo>
                <a:lnTo>
                  <a:pt x="41" y="27"/>
                </a:lnTo>
                <a:lnTo>
                  <a:pt x="41" y="27"/>
                </a:lnTo>
                <a:lnTo>
                  <a:pt x="34" y="27"/>
                </a:lnTo>
                <a:close/>
                <a:moveTo>
                  <a:pt x="14" y="14"/>
                </a:moveTo>
                <a:lnTo>
                  <a:pt x="14" y="14"/>
                </a:lnTo>
                <a:lnTo>
                  <a:pt x="7" y="14"/>
                </a:lnTo>
                <a:lnTo>
                  <a:pt x="7" y="14"/>
                </a:lnTo>
                <a:lnTo>
                  <a:pt x="7" y="14"/>
                </a:lnTo>
                <a:lnTo>
                  <a:pt x="7" y="14"/>
                </a:lnTo>
                <a:lnTo>
                  <a:pt x="7" y="14"/>
                </a:lnTo>
                <a:lnTo>
                  <a:pt x="7" y="21"/>
                </a:lnTo>
                <a:lnTo>
                  <a:pt x="7" y="21"/>
                </a:lnTo>
                <a:lnTo>
                  <a:pt x="7" y="21"/>
                </a:lnTo>
                <a:lnTo>
                  <a:pt x="7" y="21"/>
                </a:lnTo>
                <a:lnTo>
                  <a:pt x="7" y="21"/>
                </a:lnTo>
                <a:lnTo>
                  <a:pt x="7" y="21"/>
                </a:lnTo>
                <a:lnTo>
                  <a:pt x="7" y="27"/>
                </a:lnTo>
                <a:lnTo>
                  <a:pt x="7" y="27"/>
                </a:lnTo>
                <a:lnTo>
                  <a:pt x="7" y="27"/>
                </a:lnTo>
                <a:lnTo>
                  <a:pt x="7" y="27"/>
                </a:lnTo>
                <a:lnTo>
                  <a:pt x="7" y="27"/>
                </a:lnTo>
                <a:lnTo>
                  <a:pt x="14" y="27"/>
                </a:lnTo>
                <a:lnTo>
                  <a:pt x="14" y="27"/>
                </a:lnTo>
                <a:lnTo>
                  <a:pt x="14" y="27"/>
                </a:lnTo>
                <a:lnTo>
                  <a:pt x="21" y="27"/>
                </a:lnTo>
                <a:lnTo>
                  <a:pt x="21" y="27"/>
                </a:lnTo>
                <a:lnTo>
                  <a:pt x="21" y="27"/>
                </a:lnTo>
                <a:lnTo>
                  <a:pt x="21" y="27"/>
                </a:lnTo>
                <a:lnTo>
                  <a:pt x="21" y="21"/>
                </a:lnTo>
                <a:lnTo>
                  <a:pt x="21" y="21"/>
                </a:lnTo>
                <a:lnTo>
                  <a:pt x="28" y="21"/>
                </a:lnTo>
                <a:lnTo>
                  <a:pt x="21" y="21"/>
                </a:lnTo>
                <a:lnTo>
                  <a:pt x="21" y="14"/>
                </a:lnTo>
                <a:lnTo>
                  <a:pt x="21" y="14"/>
                </a:lnTo>
                <a:lnTo>
                  <a:pt x="21" y="14"/>
                </a:lnTo>
                <a:lnTo>
                  <a:pt x="21" y="14"/>
                </a:lnTo>
                <a:lnTo>
                  <a:pt x="21" y="14"/>
                </a:lnTo>
                <a:lnTo>
                  <a:pt x="14" y="14"/>
                </a:lnTo>
                <a:lnTo>
                  <a:pt x="14" y="14"/>
                </a:lnTo>
                <a:lnTo>
                  <a:pt x="14" y="14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3" name=""/>
          <p:cNvSpPr/>
          <p:nvPr/>
        </p:nvSpPr>
        <p:spPr>
          <a:xfrm>
            <a:off x="4149720" y="3938760"/>
            <a:ext cx="76320" cy="53640"/>
          </a:xfrm>
          <a:custGeom>
            <a:avLst/>
            <a:gdLst/>
            <a:ahLst/>
            <a:rect l="l" t="t" r="r" b="b"/>
            <a:pathLst>
              <a:path w="48" h="34">
                <a:moveTo>
                  <a:pt x="21" y="7"/>
                </a:moveTo>
                <a:lnTo>
                  <a:pt x="21" y="0"/>
                </a:lnTo>
                <a:lnTo>
                  <a:pt x="27" y="0"/>
                </a:lnTo>
                <a:lnTo>
                  <a:pt x="27" y="0"/>
                </a:lnTo>
                <a:lnTo>
                  <a:pt x="34" y="0"/>
                </a:lnTo>
                <a:lnTo>
                  <a:pt x="34" y="0"/>
                </a:lnTo>
                <a:lnTo>
                  <a:pt x="34" y="0"/>
                </a:lnTo>
                <a:lnTo>
                  <a:pt x="41" y="7"/>
                </a:lnTo>
                <a:lnTo>
                  <a:pt x="41" y="7"/>
                </a:lnTo>
                <a:lnTo>
                  <a:pt x="41" y="7"/>
                </a:lnTo>
                <a:lnTo>
                  <a:pt x="41" y="7"/>
                </a:lnTo>
                <a:lnTo>
                  <a:pt x="41" y="7"/>
                </a:lnTo>
                <a:lnTo>
                  <a:pt x="48" y="14"/>
                </a:lnTo>
                <a:lnTo>
                  <a:pt x="48" y="14"/>
                </a:lnTo>
                <a:lnTo>
                  <a:pt x="48" y="14"/>
                </a:lnTo>
                <a:lnTo>
                  <a:pt x="48" y="21"/>
                </a:lnTo>
                <a:lnTo>
                  <a:pt x="48" y="21"/>
                </a:lnTo>
                <a:lnTo>
                  <a:pt x="48" y="21"/>
                </a:lnTo>
                <a:lnTo>
                  <a:pt x="41" y="21"/>
                </a:lnTo>
                <a:lnTo>
                  <a:pt x="41" y="21"/>
                </a:lnTo>
                <a:lnTo>
                  <a:pt x="41" y="28"/>
                </a:lnTo>
                <a:lnTo>
                  <a:pt x="41" y="28"/>
                </a:lnTo>
                <a:lnTo>
                  <a:pt x="41" y="28"/>
                </a:lnTo>
                <a:lnTo>
                  <a:pt x="41" y="28"/>
                </a:lnTo>
                <a:lnTo>
                  <a:pt x="34" y="28"/>
                </a:lnTo>
                <a:lnTo>
                  <a:pt x="34" y="28"/>
                </a:lnTo>
                <a:lnTo>
                  <a:pt x="34" y="28"/>
                </a:lnTo>
                <a:lnTo>
                  <a:pt x="27" y="34"/>
                </a:lnTo>
                <a:lnTo>
                  <a:pt x="27" y="34"/>
                </a:lnTo>
                <a:lnTo>
                  <a:pt x="21" y="34"/>
                </a:lnTo>
                <a:lnTo>
                  <a:pt x="21" y="34"/>
                </a:lnTo>
                <a:lnTo>
                  <a:pt x="14" y="34"/>
                </a:lnTo>
                <a:lnTo>
                  <a:pt x="14" y="34"/>
                </a:lnTo>
                <a:lnTo>
                  <a:pt x="14" y="34"/>
                </a:lnTo>
                <a:lnTo>
                  <a:pt x="7" y="34"/>
                </a:lnTo>
                <a:lnTo>
                  <a:pt x="7" y="34"/>
                </a:lnTo>
                <a:lnTo>
                  <a:pt x="7" y="28"/>
                </a:lnTo>
                <a:lnTo>
                  <a:pt x="7" y="28"/>
                </a:lnTo>
                <a:lnTo>
                  <a:pt x="0" y="28"/>
                </a:lnTo>
                <a:lnTo>
                  <a:pt x="0" y="28"/>
                </a:lnTo>
                <a:lnTo>
                  <a:pt x="0" y="21"/>
                </a:lnTo>
                <a:lnTo>
                  <a:pt x="0" y="21"/>
                </a:lnTo>
                <a:lnTo>
                  <a:pt x="0" y="21"/>
                </a:lnTo>
                <a:lnTo>
                  <a:pt x="0" y="14"/>
                </a:lnTo>
                <a:lnTo>
                  <a:pt x="0" y="14"/>
                </a:lnTo>
                <a:lnTo>
                  <a:pt x="7" y="7"/>
                </a:lnTo>
                <a:lnTo>
                  <a:pt x="7" y="7"/>
                </a:lnTo>
                <a:lnTo>
                  <a:pt x="14" y="7"/>
                </a:lnTo>
                <a:lnTo>
                  <a:pt x="21" y="7"/>
                </a:lnTo>
                <a:close/>
                <a:moveTo>
                  <a:pt x="21" y="7"/>
                </a:moveTo>
                <a:lnTo>
                  <a:pt x="14" y="14"/>
                </a:lnTo>
                <a:lnTo>
                  <a:pt x="14" y="14"/>
                </a:lnTo>
                <a:lnTo>
                  <a:pt x="7" y="14"/>
                </a:lnTo>
                <a:lnTo>
                  <a:pt x="7" y="14"/>
                </a:lnTo>
                <a:lnTo>
                  <a:pt x="7" y="14"/>
                </a:lnTo>
                <a:lnTo>
                  <a:pt x="7" y="21"/>
                </a:lnTo>
                <a:lnTo>
                  <a:pt x="7" y="21"/>
                </a:lnTo>
                <a:lnTo>
                  <a:pt x="7" y="21"/>
                </a:lnTo>
                <a:lnTo>
                  <a:pt x="7" y="21"/>
                </a:lnTo>
                <a:lnTo>
                  <a:pt x="7" y="28"/>
                </a:lnTo>
                <a:lnTo>
                  <a:pt x="7" y="28"/>
                </a:lnTo>
                <a:lnTo>
                  <a:pt x="14" y="28"/>
                </a:lnTo>
                <a:lnTo>
                  <a:pt x="14" y="28"/>
                </a:lnTo>
                <a:lnTo>
                  <a:pt x="14" y="28"/>
                </a:lnTo>
                <a:lnTo>
                  <a:pt x="21" y="28"/>
                </a:lnTo>
                <a:lnTo>
                  <a:pt x="27" y="28"/>
                </a:lnTo>
                <a:lnTo>
                  <a:pt x="27" y="28"/>
                </a:lnTo>
                <a:lnTo>
                  <a:pt x="34" y="21"/>
                </a:lnTo>
                <a:lnTo>
                  <a:pt x="34" y="21"/>
                </a:lnTo>
                <a:lnTo>
                  <a:pt x="41" y="21"/>
                </a:lnTo>
                <a:lnTo>
                  <a:pt x="41" y="21"/>
                </a:lnTo>
                <a:lnTo>
                  <a:pt x="41" y="14"/>
                </a:lnTo>
                <a:lnTo>
                  <a:pt x="41" y="14"/>
                </a:lnTo>
                <a:lnTo>
                  <a:pt x="41" y="14"/>
                </a:lnTo>
                <a:lnTo>
                  <a:pt x="41" y="14"/>
                </a:lnTo>
                <a:lnTo>
                  <a:pt x="41" y="7"/>
                </a:lnTo>
                <a:lnTo>
                  <a:pt x="41" y="7"/>
                </a:lnTo>
                <a:lnTo>
                  <a:pt x="34" y="7"/>
                </a:lnTo>
                <a:lnTo>
                  <a:pt x="34" y="7"/>
                </a:lnTo>
                <a:lnTo>
                  <a:pt x="27" y="7"/>
                </a:lnTo>
                <a:lnTo>
                  <a:pt x="27" y="7"/>
                </a:lnTo>
                <a:lnTo>
                  <a:pt x="21" y="7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4" name=""/>
          <p:cNvSpPr/>
          <p:nvPr/>
        </p:nvSpPr>
        <p:spPr>
          <a:xfrm>
            <a:off x="4149720" y="3808440"/>
            <a:ext cx="1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5" name=""/>
          <p:cNvSpPr/>
          <p:nvPr/>
        </p:nvSpPr>
        <p:spPr>
          <a:xfrm>
            <a:off x="3954600" y="2624040"/>
            <a:ext cx="1250640" cy="1184400"/>
          </a:xfrm>
          <a:custGeom>
            <a:avLst/>
            <a:gdLst/>
            <a:ahLst/>
            <a:rect l="l" t="t" r="r" b="b"/>
            <a:pathLst>
              <a:path w="788" h="746">
                <a:moveTo>
                  <a:pt x="123" y="746"/>
                </a:moveTo>
                <a:lnTo>
                  <a:pt x="123" y="739"/>
                </a:lnTo>
                <a:lnTo>
                  <a:pt x="123" y="732"/>
                </a:lnTo>
                <a:lnTo>
                  <a:pt x="123" y="726"/>
                </a:lnTo>
                <a:lnTo>
                  <a:pt x="116" y="726"/>
                </a:lnTo>
                <a:lnTo>
                  <a:pt x="116" y="719"/>
                </a:lnTo>
                <a:lnTo>
                  <a:pt x="116" y="712"/>
                </a:lnTo>
                <a:lnTo>
                  <a:pt x="109" y="705"/>
                </a:lnTo>
                <a:lnTo>
                  <a:pt x="109" y="698"/>
                </a:lnTo>
                <a:lnTo>
                  <a:pt x="109" y="691"/>
                </a:lnTo>
                <a:lnTo>
                  <a:pt x="102" y="685"/>
                </a:lnTo>
                <a:lnTo>
                  <a:pt x="102" y="685"/>
                </a:lnTo>
                <a:lnTo>
                  <a:pt x="102" y="678"/>
                </a:lnTo>
                <a:lnTo>
                  <a:pt x="102" y="671"/>
                </a:lnTo>
                <a:lnTo>
                  <a:pt x="96" y="664"/>
                </a:lnTo>
                <a:lnTo>
                  <a:pt x="96" y="657"/>
                </a:lnTo>
                <a:lnTo>
                  <a:pt x="96" y="650"/>
                </a:lnTo>
                <a:lnTo>
                  <a:pt x="96" y="643"/>
                </a:lnTo>
                <a:lnTo>
                  <a:pt x="96" y="637"/>
                </a:lnTo>
                <a:lnTo>
                  <a:pt x="96" y="637"/>
                </a:lnTo>
                <a:lnTo>
                  <a:pt x="96" y="630"/>
                </a:lnTo>
                <a:lnTo>
                  <a:pt x="96" y="623"/>
                </a:lnTo>
                <a:lnTo>
                  <a:pt x="96" y="616"/>
                </a:lnTo>
                <a:lnTo>
                  <a:pt x="89" y="609"/>
                </a:lnTo>
                <a:lnTo>
                  <a:pt x="89" y="602"/>
                </a:lnTo>
                <a:lnTo>
                  <a:pt x="89" y="596"/>
                </a:lnTo>
                <a:lnTo>
                  <a:pt x="82" y="596"/>
                </a:lnTo>
                <a:lnTo>
                  <a:pt x="82" y="589"/>
                </a:lnTo>
                <a:lnTo>
                  <a:pt x="82" y="582"/>
                </a:lnTo>
                <a:lnTo>
                  <a:pt x="75" y="575"/>
                </a:lnTo>
                <a:lnTo>
                  <a:pt x="75" y="568"/>
                </a:lnTo>
                <a:lnTo>
                  <a:pt x="75" y="561"/>
                </a:lnTo>
                <a:lnTo>
                  <a:pt x="75" y="555"/>
                </a:lnTo>
                <a:lnTo>
                  <a:pt x="68" y="555"/>
                </a:lnTo>
                <a:lnTo>
                  <a:pt x="68" y="548"/>
                </a:lnTo>
                <a:lnTo>
                  <a:pt x="61" y="541"/>
                </a:lnTo>
                <a:lnTo>
                  <a:pt x="54" y="534"/>
                </a:lnTo>
                <a:lnTo>
                  <a:pt x="54" y="527"/>
                </a:lnTo>
                <a:lnTo>
                  <a:pt x="48" y="527"/>
                </a:lnTo>
                <a:lnTo>
                  <a:pt x="48" y="520"/>
                </a:lnTo>
                <a:lnTo>
                  <a:pt x="41" y="513"/>
                </a:lnTo>
                <a:lnTo>
                  <a:pt x="41" y="507"/>
                </a:lnTo>
                <a:lnTo>
                  <a:pt x="34" y="500"/>
                </a:lnTo>
                <a:lnTo>
                  <a:pt x="34" y="500"/>
                </a:lnTo>
                <a:lnTo>
                  <a:pt x="34" y="493"/>
                </a:lnTo>
                <a:lnTo>
                  <a:pt x="41" y="500"/>
                </a:lnTo>
                <a:lnTo>
                  <a:pt x="48" y="500"/>
                </a:lnTo>
                <a:lnTo>
                  <a:pt x="54" y="507"/>
                </a:lnTo>
                <a:lnTo>
                  <a:pt x="68" y="507"/>
                </a:lnTo>
                <a:lnTo>
                  <a:pt x="68" y="513"/>
                </a:lnTo>
                <a:lnTo>
                  <a:pt x="75" y="513"/>
                </a:lnTo>
                <a:lnTo>
                  <a:pt x="82" y="520"/>
                </a:lnTo>
                <a:lnTo>
                  <a:pt x="89" y="527"/>
                </a:lnTo>
                <a:lnTo>
                  <a:pt x="96" y="527"/>
                </a:lnTo>
                <a:lnTo>
                  <a:pt x="102" y="527"/>
                </a:lnTo>
                <a:lnTo>
                  <a:pt x="109" y="520"/>
                </a:lnTo>
                <a:lnTo>
                  <a:pt x="109" y="513"/>
                </a:lnTo>
                <a:lnTo>
                  <a:pt x="102" y="507"/>
                </a:lnTo>
                <a:lnTo>
                  <a:pt x="96" y="500"/>
                </a:lnTo>
                <a:lnTo>
                  <a:pt x="96" y="493"/>
                </a:lnTo>
                <a:lnTo>
                  <a:pt x="89" y="486"/>
                </a:lnTo>
                <a:lnTo>
                  <a:pt x="89" y="486"/>
                </a:lnTo>
                <a:lnTo>
                  <a:pt x="89" y="479"/>
                </a:lnTo>
                <a:lnTo>
                  <a:pt x="89" y="472"/>
                </a:lnTo>
                <a:lnTo>
                  <a:pt x="89" y="466"/>
                </a:lnTo>
                <a:lnTo>
                  <a:pt x="82" y="459"/>
                </a:lnTo>
                <a:lnTo>
                  <a:pt x="82" y="452"/>
                </a:lnTo>
                <a:lnTo>
                  <a:pt x="82" y="445"/>
                </a:lnTo>
                <a:lnTo>
                  <a:pt x="82" y="445"/>
                </a:lnTo>
                <a:lnTo>
                  <a:pt x="82" y="438"/>
                </a:lnTo>
                <a:lnTo>
                  <a:pt x="75" y="431"/>
                </a:lnTo>
                <a:lnTo>
                  <a:pt x="75" y="425"/>
                </a:lnTo>
                <a:lnTo>
                  <a:pt x="75" y="418"/>
                </a:lnTo>
                <a:lnTo>
                  <a:pt x="75" y="411"/>
                </a:lnTo>
                <a:lnTo>
                  <a:pt x="68" y="404"/>
                </a:lnTo>
                <a:lnTo>
                  <a:pt x="68" y="397"/>
                </a:lnTo>
                <a:lnTo>
                  <a:pt x="68" y="397"/>
                </a:lnTo>
                <a:lnTo>
                  <a:pt x="61" y="390"/>
                </a:lnTo>
                <a:lnTo>
                  <a:pt x="61" y="383"/>
                </a:lnTo>
                <a:lnTo>
                  <a:pt x="61" y="377"/>
                </a:lnTo>
                <a:lnTo>
                  <a:pt x="68" y="370"/>
                </a:lnTo>
                <a:lnTo>
                  <a:pt x="68" y="363"/>
                </a:lnTo>
                <a:lnTo>
                  <a:pt x="75" y="356"/>
                </a:lnTo>
                <a:lnTo>
                  <a:pt x="75" y="356"/>
                </a:lnTo>
                <a:lnTo>
                  <a:pt x="75" y="349"/>
                </a:lnTo>
                <a:lnTo>
                  <a:pt x="75" y="342"/>
                </a:lnTo>
                <a:lnTo>
                  <a:pt x="75" y="336"/>
                </a:lnTo>
                <a:lnTo>
                  <a:pt x="75" y="329"/>
                </a:lnTo>
                <a:lnTo>
                  <a:pt x="75" y="322"/>
                </a:lnTo>
                <a:lnTo>
                  <a:pt x="75" y="315"/>
                </a:lnTo>
                <a:lnTo>
                  <a:pt x="75" y="315"/>
                </a:lnTo>
                <a:lnTo>
                  <a:pt x="75" y="308"/>
                </a:lnTo>
                <a:lnTo>
                  <a:pt x="75" y="301"/>
                </a:lnTo>
                <a:lnTo>
                  <a:pt x="75" y="295"/>
                </a:lnTo>
                <a:lnTo>
                  <a:pt x="61" y="288"/>
                </a:lnTo>
                <a:lnTo>
                  <a:pt x="54" y="288"/>
                </a:lnTo>
                <a:lnTo>
                  <a:pt x="54" y="295"/>
                </a:lnTo>
                <a:lnTo>
                  <a:pt x="54" y="301"/>
                </a:lnTo>
                <a:lnTo>
                  <a:pt x="54" y="308"/>
                </a:lnTo>
                <a:lnTo>
                  <a:pt x="54" y="315"/>
                </a:lnTo>
                <a:lnTo>
                  <a:pt x="54" y="322"/>
                </a:lnTo>
                <a:lnTo>
                  <a:pt x="48" y="322"/>
                </a:lnTo>
                <a:lnTo>
                  <a:pt x="41" y="329"/>
                </a:lnTo>
                <a:lnTo>
                  <a:pt x="34" y="329"/>
                </a:lnTo>
                <a:lnTo>
                  <a:pt x="27" y="336"/>
                </a:lnTo>
                <a:lnTo>
                  <a:pt x="20" y="336"/>
                </a:lnTo>
                <a:lnTo>
                  <a:pt x="13" y="342"/>
                </a:lnTo>
                <a:lnTo>
                  <a:pt x="6" y="349"/>
                </a:lnTo>
                <a:lnTo>
                  <a:pt x="0" y="349"/>
                </a:lnTo>
                <a:lnTo>
                  <a:pt x="0" y="342"/>
                </a:lnTo>
                <a:lnTo>
                  <a:pt x="0" y="336"/>
                </a:lnTo>
                <a:lnTo>
                  <a:pt x="6" y="329"/>
                </a:lnTo>
                <a:lnTo>
                  <a:pt x="6" y="329"/>
                </a:lnTo>
                <a:lnTo>
                  <a:pt x="6" y="322"/>
                </a:lnTo>
                <a:lnTo>
                  <a:pt x="6" y="315"/>
                </a:lnTo>
                <a:lnTo>
                  <a:pt x="6" y="308"/>
                </a:lnTo>
                <a:lnTo>
                  <a:pt x="6" y="301"/>
                </a:lnTo>
                <a:lnTo>
                  <a:pt x="13" y="295"/>
                </a:lnTo>
                <a:lnTo>
                  <a:pt x="20" y="295"/>
                </a:lnTo>
                <a:lnTo>
                  <a:pt x="20" y="288"/>
                </a:lnTo>
                <a:lnTo>
                  <a:pt x="27" y="281"/>
                </a:lnTo>
                <a:lnTo>
                  <a:pt x="34" y="274"/>
                </a:lnTo>
                <a:lnTo>
                  <a:pt x="41" y="274"/>
                </a:lnTo>
                <a:lnTo>
                  <a:pt x="48" y="267"/>
                </a:lnTo>
                <a:lnTo>
                  <a:pt x="48" y="260"/>
                </a:lnTo>
                <a:lnTo>
                  <a:pt x="54" y="260"/>
                </a:lnTo>
                <a:lnTo>
                  <a:pt x="61" y="253"/>
                </a:lnTo>
                <a:lnTo>
                  <a:pt x="68" y="247"/>
                </a:lnTo>
                <a:lnTo>
                  <a:pt x="68" y="240"/>
                </a:lnTo>
                <a:lnTo>
                  <a:pt x="75" y="240"/>
                </a:lnTo>
                <a:lnTo>
                  <a:pt x="82" y="233"/>
                </a:lnTo>
                <a:lnTo>
                  <a:pt x="89" y="226"/>
                </a:lnTo>
                <a:lnTo>
                  <a:pt x="89" y="219"/>
                </a:lnTo>
                <a:lnTo>
                  <a:pt x="96" y="219"/>
                </a:lnTo>
                <a:lnTo>
                  <a:pt x="102" y="212"/>
                </a:lnTo>
                <a:lnTo>
                  <a:pt x="109" y="206"/>
                </a:lnTo>
                <a:lnTo>
                  <a:pt x="109" y="206"/>
                </a:lnTo>
                <a:lnTo>
                  <a:pt x="116" y="199"/>
                </a:lnTo>
                <a:lnTo>
                  <a:pt x="116" y="192"/>
                </a:lnTo>
                <a:lnTo>
                  <a:pt x="123" y="185"/>
                </a:lnTo>
                <a:lnTo>
                  <a:pt x="130" y="185"/>
                </a:lnTo>
                <a:lnTo>
                  <a:pt x="144" y="178"/>
                </a:lnTo>
                <a:lnTo>
                  <a:pt x="150" y="178"/>
                </a:lnTo>
                <a:lnTo>
                  <a:pt x="157" y="178"/>
                </a:lnTo>
                <a:lnTo>
                  <a:pt x="164" y="171"/>
                </a:lnTo>
                <a:lnTo>
                  <a:pt x="178" y="171"/>
                </a:lnTo>
                <a:lnTo>
                  <a:pt x="185" y="171"/>
                </a:lnTo>
                <a:lnTo>
                  <a:pt x="191" y="165"/>
                </a:lnTo>
                <a:lnTo>
                  <a:pt x="198" y="165"/>
                </a:lnTo>
                <a:lnTo>
                  <a:pt x="212" y="158"/>
                </a:lnTo>
                <a:lnTo>
                  <a:pt x="219" y="158"/>
                </a:lnTo>
                <a:lnTo>
                  <a:pt x="226" y="158"/>
                </a:lnTo>
                <a:lnTo>
                  <a:pt x="233" y="158"/>
                </a:lnTo>
                <a:lnTo>
                  <a:pt x="246" y="158"/>
                </a:lnTo>
                <a:lnTo>
                  <a:pt x="253" y="151"/>
                </a:lnTo>
                <a:lnTo>
                  <a:pt x="260" y="151"/>
                </a:lnTo>
                <a:lnTo>
                  <a:pt x="267" y="144"/>
                </a:lnTo>
                <a:lnTo>
                  <a:pt x="274" y="144"/>
                </a:lnTo>
                <a:lnTo>
                  <a:pt x="287" y="144"/>
                </a:lnTo>
                <a:lnTo>
                  <a:pt x="294" y="137"/>
                </a:lnTo>
                <a:lnTo>
                  <a:pt x="301" y="137"/>
                </a:lnTo>
                <a:lnTo>
                  <a:pt x="308" y="130"/>
                </a:lnTo>
                <a:lnTo>
                  <a:pt x="322" y="130"/>
                </a:lnTo>
                <a:lnTo>
                  <a:pt x="329" y="130"/>
                </a:lnTo>
                <a:lnTo>
                  <a:pt x="335" y="130"/>
                </a:lnTo>
                <a:lnTo>
                  <a:pt x="349" y="130"/>
                </a:lnTo>
                <a:lnTo>
                  <a:pt x="356" y="123"/>
                </a:lnTo>
                <a:lnTo>
                  <a:pt x="363" y="123"/>
                </a:lnTo>
                <a:lnTo>
                  <a:pt x="370" y="117"/>
                </a:lnTo>
                <a:lnTo>
                  <a:pt x="377" y="117"/>
                </a:lnTo>
                <a:lnTo>
                  <a:pt x="383" y="117"/>
                </a:lnTo>
                <a:lnTo>
                  <a:pt x="397" y="110"/>
                </a:lnTo>
                <a:lnTo>
                  <a:pt x="404" y="110"/>
                </a:lnTo>
                <a:lnTo>
                  <a:pt x="411" y="103"/>
                </a:lnTo>
                <a:lnTo>
                  <a:pt x="418" y="103"/>
                </a:lnTo>
                <a:lnTo>
                  <a:pt x="431" y="103"/>
                </a:lnTo>
                <a:lnTo>
                  <a:pt x="438" y="103"/>
                </a:lnTo>
                <a:lnTo>
                  <a:pt x="445" y="103"/>
                </a:lnTo>
                <a:lnTo>
                  <a:pt x="459" y="110"/>
                </a:lnTo>
                <a:lnTo>
                  <a:pt x="466" y="110"/>
                </a:lnTo>
                <a:lnTo>
                  <a:pt x="473" y="103"/>
                </a:lnTo>
                <a:lnTo>
                  <a:pt x="473" y="96"/>
                </a:lnTo>
                <a:lnTo>
                  <a:pt x="479" y="89"/>
                </a:lnTo>
                <a:lnTo>
                  <a:pt x="479" y="89"/>
                </a:lnTo>
                <a:lnTo>
                  <a:pt x="493" y="82"/>
                </a:lnTo>
                <a:lnTo>
                  <a:pt x="500" y="82"/>
                </a:lnTo>
                <a:lnTo>
                  <a:pt x="507" y="76"/>
                </a:lnTo>
                <a:lnTo>
                  <a:pt x="514" y="76"/>
                </a:lnTo>
                <a:lnTo>
                  <a:pt x="527" y="76"/>
                </a:lnTo>
                <a:lnTo>
                  <a:pt x="534" y="76"/>
                </a:lnTo>
                <a:lnTo>
                  <a:pt x="541" y="76"/>
                </a:lnTo>
                <a:lnTo>
                  <a:pt x="548" y="82"/>
                </a:lnTo>
                <a:lnTo>
                  <a:pt x="562" y="82"/>
                </a:lnTo>
                <a:lnTo>
                  <a:pt x="569" y="82"/>
                </a:lnTo>
                <a:lnTo>
                  <a:pt x="575" y="89"/>
                </a:lnTo>
                <a:lnTo>
                  <a:pt x="582" y="89"/>
                </a:lnTo>
                <a:lnTo>
                  <a:pt x="589" y="89"/>
                </a:lnTo>
                <a:lnTo>
                  <a:pt x="596" y="82"/>
                </a:lnTo>
                <a:lnTo>
                  <a:pt x="596" y="76"/>
                </a:lnTo>
                <a:lnTo>
                  <a:pt x="589" y="69"/>
                </a:lnTo>
                <a:lnTo>
                  <a:pt x="589" y="62"/>
                </a:lnTo>
                <a:lnTo>
                  <a:pt x="582" y="62"/>
                </a:lnTo>
                <a:lnTo>
                  <a:pt x="589" y="55"/>
                </a:lnTo>
                <a:lnTo>
                  <a:pt x="596" y="48"/>
                </a:lnTo>
                <a:lnTo>
                  <a:pt x="610" y="48"/>
                </a:lnTo>
                <a:lnTo>
                  <a:pt x="617" y="48"/>
                </a:lnTo>
                <a:lnTo>
                  <a:pt x="630" y="48"/>
                </a:lnTo>
                <a:lnTo>
                  <a:pt x="637" y="48"/>
                </a:lnTo>
                <a:lnTo>
                  <a:pt x="644" y="48"/>
                </a:lnTo>
                <a:lnTo>
                  <a:pt x="651" y="55"/>
                </a:lnTo>
                <a:lnTo>
                  <a:pt x="658" y="55"/>
                </a:lnTo>
                <a:lnTo>
                  <a:pt x="665" y="62"/>
                </a:lnTo>
                <a:lnTo>
                  <a:pt x="671" y="55"/>
                </a:lnTo>
                <a:lnTo>
                  <a:pt x="678" y="48"/>
                </a:lnTo>
                <a:lnTo>
                  <a:pt x="678" y="41"/>
                </a:lnTo>
                <a:lnTo>
                  <a:pt x="685" y="41"/>
                </a:lnTo>
                <a:lnTo>
                  <a:pt x="685" y="34"/>
                </a:lnTo>
                <a:lnTo>
                  <a:pt x="692" y="28"/>
                </a:lnTo>
                <a:lnTo>
                  <a:pt x="699" y="21"/>
                </a:lnTo>
                <a:lnTo>
                  <a:pt x="706" y="21"/>
                </a:lnTo>
                <a:lnTo>
                  <a:pt x="713" y="14"/>
                </a:lnTo>
                <a:lnTo>
                  <a:pt x="719" y="14"/>
                </a:lnTo>
                <a:lnTo>
                  <a:pt x="726" y="14"/>
                </a:lnTo>
                <a:lnTo>
                  <a:pt x="740" y="14"/>
                </a:lnTo>
                <a:lnTo>
                  <a:pt x="747" y="14"/>
                </a:lnTo>
                <a:lnTo>
                  <a:pt x="754" y="14"/>
                </a:lnTo>
                <a:lnTo>
                  <a:pt x="761" y="14"/>
                </a:lnTo>
                <a:lnTo>
                  <a:pt x="767" y="7"/>
                </a:lnTo>
                <a:lnTo>
                  <a:pt x="774" y="7"/>
                </a:lnTo>
                <a:lnTo>
                  <a:pt x="788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6" name=""/>
          <p:cNvSpPr/>
          <p:nvPr/>
        </p:nvSpPr>
        <p:spPr>
          <a:xfrm>
            <a:off x="2789280" y="3254400"/>
            <a:ext cx="98280" cy="98280"/>
          </a:xfrm>
          <a:custGeom>
            <a:avLst/>
            <a:gdLst/>
            <a:ahLst/>
            <a:rect l="l" t="t" r="r" b="b"/>
            <a:pathLst>
              <a:path w="62" h="62">
                <a:moveTo>
                  <a:pt x="41" y="0"/>
                </a:moveTo>
                <a:lnTo>
                  <a:pt x="48" y="7"/>
                </a:lnTo>
                <a:lnTo>
                  <a:pt x="62" y="7"/>
                </a:lnTo>
                <a:lnTo>
                  <a:pt x="62" y="14"/>
                </a:lnTo>
                <a:lnTo>
                  <a:pt x="62" y="14"/>
                </a:lnTo>
                <a:lnTo>
                  <a:pt x="55" y="21"/>
                </a:lnTo>
                <a:lnTo>
                  <a:pt x="55" y="28"/>
                </a:lnTo>
                <a:lnTo>
                  <a:pt x="48" y="34"/>
                </a:lnTo>
                <a:lnTo>
                  <a:pt x="41" y="34"/>
                </a:lnTo>
                <a:lnTo>
                  <a:pt x="34" y="41"/>
                </a:lnTo>
                <a:lnTo>
                  <a:pt x="27" y="48"/>
                </a:lnTo>
                <a:lnTo>
                  <a:pt x="21" y="55"/>
                </a:lnTo>
                <a:lnTo>
                  <a:pt x="21" y="55"/>
                </a:lnTo>
                <a:lnTo>
                  <a:pt x="14" y="62"/>
                </a:lnTo>
                <a:lnTo>
                  <a:pt x="7" y="62"/>
                </a:lnTo>
                <a:lnTo>
                  <a:pt x="7" y="55"/>
                </a:lnTo>
                <a:lnTo>
                  <a:pt x="0" y="48"/>
                </a:lnTo>
                <a:lnTo>
                  <a:pt x="0" y="41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7" name=""/>
          <p:cNvSpPr/>
          <p:nvPr/>
        </p:nvSpPr>
        <p:spPr>
          <a:xfrm>
            <a:off x="2527200" y="3678120"/>
            <a:ext cx="11160" cy="11160"/>
          </a:xfrm>
          <a:custGeom>
            <a:avLst/>
            <a:gdLst/>
            <a:ahLst/>
            <a:rect l="l" t="t" r="r" b="b"/>
            <a:pathLst>
              <a:path w="7" h="7">
                <a:moveTo>
                  <a:pt x="0" y="7"/>
                </a:moveTo>
                <a:lnTo>
                  <a:pt x="0" y="7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7" y="0"/>
                </a:lnTo>
                <a:lnTo>
                  <a:pt x="7" y="0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0" y="7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8" name=""/>
          <p:cNvSpPr/>
          <p:nvPr/>
        </p:nvSpPr>
        <p:spPr>
          <a:xfrm flipV="1">
            <a:off x="2658960" y="3862080"/>
            <a:ext cx="11160" cy="11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9" name=""/>
          <p:cNvSpPr/>
          <p:nvPr/>
        </p:nvSpPr>
        <p:spPr>
          <a:xfrm>
            <a:off x="2670120" y="3819600"/>
            <a:ext cx="477720" cy="260280"/>
          </a:xfrm>
          <a:custGeom>
            <a:avLst/>
            <a:gdLst/>
            <a:ahLst/>
            <a:rect l="l" t="t" r="r" b="b"/>
            <a:pathLst>
              <a:path w="301" h="164">
                <a:moveTo>
                  <a:pt x="0" y="27"/>
                </a:moveTo>
                <a:lnTo>
                  <a:pt x="0" y="21"/>
                </a:lnTo>
                <a:lnTo>
                  <a:pt x="6" y="21"/>
                </a:lnTo>
                <a:lnTo>
                  <a:pt x="13" y="14"/>
                </a:lnTo>
                <a:lnTo>
                  <a:pt x="13" y="7"/>
                </a:lnTo>
                <a:lnTo>
                  <a:pt x="20" y="0"/>
                </a:lnTo>
                <a:lnTo>
                  <a:pt x="27" y="0"/>
                </a:lnTo>
                <a:lnTo>
                  <a:pt x="34" y="0"/>
                </a:lnTo>
                <a:lnTo>
                  <a:pt x="48" y="0"/>
                </a:lnTo>
                <a:lnTo>
                  <a:pt x="54" y="0"/>
                </a:lnTo>
                <a:lnTo>
                  <a:pt x="61" y="0"/>
                </a:lnTo>
                <a:lnTo>
                  <a:pt x="75" y="0"/>
                </a:lnTo>
                <a:lnTo>
                  <a:pt x="82" y="0"/>
                </a:lnTo>
                <a:lnTo>
                  <a:pt x="89" y="0"/>
                </a:lnTo>
                <a:lnTo>
                  <a:pt x="96" y="7"/>
                </a:lnTo>
                <a:lnTo>
                  <a:pt x="102" y="14"/>
                </a:lnTo>
                <a:lnTo>
                  <a:pt x="102" y="21"/>
                </a:lnTo>
                <a:lnTo>
                  <a:pt x="109" y="27"/>
                </a:lnTo>
                <a:lnTo>
                  <a:pt x="109" y="27"/>
                </a:lnTo>
                <a:lnTo>
                  <a:pt x="116" y="34"/>
                </a:lnTo>
                <a:lnTo>
                  <a:pt x="123" y="27"/>
                </a:lnTo>
                <a:lnTo>
                  <a:pt x="130" y="27"/>
                </a:lnTo>
                <a:lnTo>
                  <a:pt x="144" y="27"/>
                </a:lnTo>
                <a:lnTo>
                  <a:pt x="150" y="27"/>
                </a:lnTo>
                <a:lnTo>
                  <a:pt x="150" y="34"/>
                </a:lnTo>
                <a:lnTo>
                  <a:pt x="144" y="41"/>
                </a:lnTo>
                <a:lnTo>
                  <a:pt x="137" y="48"/>
                </a:lnTo>
                <a:lnTo>
                  <a:pt x="130" y="48"/>
                </a:lnTo>
                <a:lnTo>
                  <a:pt x="130" y="55"/>
                </a:lnTo>
                <a:lnTo>
                  <a:pt x="130" y="62"/>
                </a:lnTo>
                <a:lnTo>
                  <a:pt x="137" y="68"/>
                </a:lnTo>
                <a:lnTo>
                  <a:pt x="137" y="75"/>
                </a:lnTo>
                <a:lnTo>
                  <a:pt x="144" y="75"/>
                </a:lnTo>
                <a:lnTo>
                  <a:pt x="157" y="75"/>
                </a:lnTo>
                <a:lnTo>
                  <a:pt x="164" y="68"/>
                </a:lnTo>
                <a:lnTo>
                  <a:pt x="171" y="68"/>
                </a:lnTo>
                <a:lnTo>
                  <a:pt x="178" y="62"/>
                </a:lnTo>
                <a:lnTo>
                  <a:pt x="185" y="62"/>
                </a:lnTo>
                <a:lnTo>
                  <a:pt x="191" y="55"/>
                </a:lnTo>
                <a:lnTo>
                  <a:pt x="198" y="48"/>
                </a:lnTo>
                <a:lnTo>
                  <a:pt x="205" y="48"/>
                </a:lnTo>
                <a:lnTo>
                  <a:pt x="212" y="48"/>
                </a:lnTo>
                <a:lnTo>
                  <a:pt x="219" y="48"/>
                </a:lnTo>
                <a:lnTo>
                  <a:pt x="233" y="48"/>
                </a:lnTo>
                <a:lnTo>
                  <a:pt x="239" y="48"/>
                </a:lnTo>
                <a:lnTo>
                  <a:pt x="246" y="48"/>
                </a:lnTo>
                <a:lnTo>
                  <a:pt x="260" y="48"/>
                </a:lnTo>
                <a:lnTo>
                  <a:pt x="267" y="48"/>
                </a:lnTo>
                <a:lnTo>
                  <a:pt x="274" y="55"/>
                </a:lnTo>
                <a:lnTo>
                  <a:pt x="281" y="62"/>
                </a:lnTo>
                <a:lnTo>
                  <a:pt x="281" y="62"/>
                </a:lnTo>
                <a:lnTo>
                  <a:pt x="281" y="68"/>
                </a:lnTo>
                <a:lnTo>
                  <a:pt x="274" y="75"/>
                </a:lnTo>
                <a:lnTo>
                  <a:pt x="274" y="82"/>
                </a:lnTo>
                <a:lnTo>
                  <a:pt x="267" y="82"/>
                </a:lnTo>
                <a:lnTo>
                  <a:pt x="260" y="89"/>
                </a:lnTo>
                <a:lnTo>
                  <a:pt x="260" y="96"/>
                </a:lnTo>
                <a:lnTo>
                  <a:pt x="260" y="103"/>
                </a:lnTo>
                <a:lnTo>
                  <a:pt x="253" y="109"/>
                </a:lnTo>
                <a:lnTo>
                  <a:pt x="253" y="109"/>
                </a:lnTo>
                <a:lnTo>
                  <a:pt x="253" y="116"/>
                </a:lnTo>
                <a:lnTo>
                  <a:pt x="253" y="123"/>
                </a:lnTo>
                <a:lnTo>
                  <a:pt x="260" y="130"/>
                </a:lnTo>
                <a:lnTo>
                  <a:pt x="267" y="130"/>
                </a:lnTo>
                <a:lnTo>
                  <a:pt x="267" y="137"/>
                </a:lnTo>
                <a:lnTo>
                  <a:pt x="274" y="144"/>
                </a:lnTo>
                <a:lnTo>
                  <a:pt x="274" y="151"/>
                </a:lnTo>
                <a:lnTo>
                  <a:pt x="281" y="151"/>
                </a:lnTo>
                <a:lnTo>
                  <a:pt x="287" y="157"/>
                </a:lnTo>
                <a:lnTo>
                  <a:pt x="294" y="157"/>
                </a:lnTo>
                <a:lnTo>
                  <a:pt x="301" y="164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0" name=""/>
          <p:cNvSpPr/>
          <p:nvPr/>
        </p:nvSpPr>
        <p:spPr>
          <a:xfrm>
            <a:off x="3147840" y="4079880"/>
            <a:ext cx="1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1" name=""/>
          <p:cNvSpPr/>
          <p:nvPr/>
        </p:nvSpPr>
        <p:spPr>
          <a:xfrm>
            <a:off x="3170160" y="4014720"/>
            <a:ext cx="54000" cy="65160"/>
          </a:xfrm>
          <a:custGeom>
            <a:avLst/>
            <a:gdLst/>
            <a:ahLst/>
            <a:rect l="l" t="t" r="r" b="b"/>
            <a:pathLst>
              <a:path w="34" h="41">
                <a:moveTo>
                  <a:pt x="34" y="34"/>
                </a:moveTo>
                <a:lnTo>
                  <a:pt x="27" y="41"/>
                </a:lnTo>
                <a:lnTo>
                  <a:pt x="7" y="14"/>
                </a:lnTo>
                <a:lnTo>
                  <a:pt x="7" y="14"/>
                </a:lnTo>
                <a:lnTo>
                  <a:pt x="7" y="14"/>
                </a:lnTo>
                <a:lnTo>
                  <a:pt x="7" y="14"/>
                </a:lnTo>
                <a:lnTo>
                  <a:pt x="7" y="14"/>
                </a:lnTo>
                <a:lnTo>
                  <a:pt x="7" y="21"/>
                </a:lnTo>
                <a:lnTo>
                  <a:pt x="7" y="21"/>
                </a:lnTo>
                <a:lnTo>
                  <a:pt x="7" y="21"/>
                </a:lnTo>
                <a:lnTo>
                  <a:pt x="0" y="21"/>
                </a:lnTo>
                <a:lnTo>
                  <a:pt x="0" y="21"/>
                </a:lnTo>
                <a:lnTo>
                  <a:pt x="0" y="14"/>
                </a:lnTo>
                <a:lnTo>
                  <a:pt x="0" y="14"/>
                </a:lnTo>
                <a:lnTo>
                  <a:pt x="7" y="14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34" y="34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2" name=""/>
          <p:cNvSpPr/>
          <p:nvPr/>
        </p:nvSpPr>
        <p:spPr>
          <a:xfrm>
            <a:off x="3213000" y="3983040"/>
            <a:ext cx="55800" cy="76320"/>
          </a:xfrm>
          <a:custGeom>
            <a:avLst/>
            <a:gdLst/>
            <a:ahLst/>
            <a:rect l="l" t="t" r="r" b="b"/>
            <a:pathLst>
              <a:path w="35" h="48">
                <a:moveTo>
                  <a:pt x="21" y="6"/>
                </a:moveTo>
                <a:lnTo>
                  <a:pt x="21" y="13"/>
                </a:lnTo>
                <a:lnTo>
                  <a:pt x="21" y="6"/>
                </a:lnTo>
                <a:lnTo>
                  <a:pt x="14" y="6"/>
                </a:lnTo>
                <a:lnTo>
                  <a:pt x="14" y="6"/>
                </a:lnTo>
                <a:lnTo>
                  <a:pt x="14" y="6"/>
                </a:lnTo>
                <a:lnTo>
                  <a:pt x="14" y="6"/>
                </a:lnTo>
                <a:lnTo>
                  <a:pt x="14" y="6"/>
                </a:lnTo>
                <a:lnTo>
                  <a:pt x="7" y="6"/>
                </a:lnTo>
                <a:lnTo>
                  <a:pt x="7" y="6"/>
                </a:lnTo>
                <a:lnTo>
                  <a:pt x="7" y="6"/>
                </a:lnTo>
                <a:lnTo>
                  <a:pt x="7" y="6"/>
                </a:lnTo>
                <a:lnTo>
                  <a:pt x="7" y="13"/>
                </a:lnTo>
                <a:lnTo>
                  <a:pt x="7" y="13"/>
                </a:lnTo>
                <a:lnTo>
                  <a:pt x="7" y="13"/>
                </a:lnTo>
                <a:lnTo>
                  <a:pt x="7" y="13"/>
                </a:lnTo>
                <a:lnTo>
                  <a:pt x="7" y="13"/>
                </a:lnTo>
                <a:lnTo>
                  <a:pt x="7" y="20"/>
                </a:lnTo>
                <a:lnTo>
                  <a:pt x="7" y="20"/>
                </a:lnTo>
                <a:lnTo>
                  <a:pt x="7" y="20"/>
                </a:lnTo>
                <a:lnTo>
                  <a:pt x="7" y="27"/>
                </a:lnTo>
                <a:lnTo>
                  <a:pt x="7" y="27"/>
                </a:lnTo>
                <a:lnTo>
                  <a:pt x="7" y="27"/>
                </a:lnTo>
                <a:lnTo>
                  <a:pt x="7" y="27"/>
                </a:lnTo>
                <a:lnTo>
                  <a:pt x="7" y="20"/>
                </a:lnTo>
                <a:lnTo>
                  <a:pt x="14" y="20"/>
                </a:lnTo>
                <a:lnTo>
                  <a:pt x="14" y="20"/>
                </a:lnTo>
                <a:lnTo>
                  <a:pt x="14" y="20"/>
                </a:lnTo>
                <a:lnTo>
                  <a:pt x="14" y="20"/>
                </a:lnTo>
                <a:lnTo>
                  <a:pt x="14" y="20"/>
                </a:lnTo>
                <a:lnTo>
                  <a:pt x="21" y="13"/>
                </a:lnTo>
                <a:lnTo>
                  <a:pt x="21" y="13"/>
                </a:lnTo>
                <a:lnTo>
                  <a:pt x="21" y="13"/>
                </a:lnTo>
                <a:lnTo>
                  <a:pt x="28" y="13"/>
                </a:lnTo>
                <a:lnTo>
                  <a:pt x="28" y="20"/>
                </a:lnTo>
                <a:lnTo>
                  <a:pt x="28" y="20"/>
                </a:lnTo>
                <a:lnTo>
                  <a:pt x="35" y="20"/>
                </a:lnTo>
                <a:lnTo>
                  <a:pt x="35" y="20"/>
                </a:lnTo>
                <a:lnTo>
                  <a:pt x="35" y="27"/>
                </a:lnTo>
                <a:lnTo>
                  <a:pt x="35" y="27"/>
                </a:lnTo>
                <a:lnTo>
                  <a:pt x="35" y="27"/>
                </a:lnTo>
                <a:lnTo>
                  <a:pt x="35" y="34"/>
                </a:lnTo>
                <a:lnTo>
                  <a:pt x="35" y="34"/>
                </a:lnTo>
                <a:lnTo>
                  <a:pt x="35" y="34"/>
                </a:lnTo>
                <a:lnTo>
                  <a:pt x="35" y="34"/>
                </a:lnTo>
                <a:lnTo>
                  <a:pt x="35" y="41"/>
                </a:lnTo>
                <a:lnTo>
                  <a:pt x="35" y="41"/>
                </a:lnTo>
                <a:lnTo>
                  <a:pt x="35" y="41"/>
                </a:lnTo>
                <a:lnTo>
                  <a:pt x="35" y="41"/>
                </a:lnTo>
                <a:lnTo>
                  <a:pt x="28" y="41"/>
                </a:lnTo>
                <a:lnTo>
                  <a:pt x="28" y="48"/>
                </a:lnTo>
                <a:lnTo>
                  <a:pt x="21" y="48"/>
                </a:lnTo>
                <a:lnTo>
                  <a:pt x="21" y="48"/>
                </a:lnTo>
                <a:lnTo>
                  <a:pt x="21" y="48"/>
                </a:lnTo>
                <a:lnTo>
                  <a:pt x="14" y="41"/>
                </a:lnTo>
                <a:lnTo>
                  <a:pt x="14" y="41"/>
                </a:lnTo>
                <a:lnTo>
                  <a:pt x="7" y="41"/>
                </a:lnTo>
                <a:lnTo>
                  <a:pt x="7" y="34"/>
                </a:lnTo>
                <a:lnTo>
                  <a:pt x="0" y="27"/>
                </a:lnTo>
                <a:lnTo>
                  <a:pt x="0" y="20"/>
                </a:lnTo>
                <a:lnTo>
                  <a:pt x="0" y="20"/>
                </a:lnTo>
                <a:lnTo>
                  <a:pt x="0" y="13"/>
                </a:lnTo>
                <a:lnTo>
                  <a:pt x="0" y="13"/>
                </a:lnTo>
                <a:lnTo>
                  <a:pt x="0" y="6"/>
                </a:lnTo>
                <a:lnTo>
                  <a:pt x="7" y="6"/>
                </a:lnTo>
                <a:lnTo>
                  <a:pt x="7" y="6"/>
                </a:lnTo>
                <a:lnTo>
                  <a:pt x="7" y="6"/>
                </a:lnTo>
                <a:lnTo>
                  <a:pt x="14" y="0"/>
                </a:lnTo>
                <a:lnTo>
                  <a:pt x="14" y="0"/>
                </a:lnTo>
                <a:lnTo>
                  <a:pt x="14" y="0"/>
                </a:lnTo>
                <a:lnTo>
                  <a:pt x="21" y="0"/>
                </a:lnTo>
                <a:lnTo>
                  <a:pt x="21" y="6"/>
                </a:lnTo>
                <a:lnTo>
                  <a:pt x="21" y="6"/>
                </a:lnTo>
                <a:lnTo>
                  <a:pt x="21" y="6"/>
                </a:lnTo>
                <a:close/>
                <a:moveTo>
                  <a:pt x="14" y="34"/>
                </a:moveTo>
                <a:lnTo>
                  <a:pt x="14" y="34"/>
                </a:lnTo>
                <a:lnTo>
                  <a:pt x="14" y="41"/>
                </a:lnTo>
                <a:lnTo>
                  <a:pt x="14" y="41"/>
                </a:lnTo>
                <a:lnTo>
                  <a:pt x="21" y="41"/>
                </a:lnTo>
                <a:lnTo>
                  <a:pt x="21" y="41"/>
                </a:lnTo>
                <a:lnTo>
                  <a:pt x="21" y="41"/>
                </a:lnTo>
                <a:lnTo>
                  <a:pt x="21" y="41"/>
                </a:lnTo>
                <a:lnTo>
                  <a:pt x="21" y="41"/>
                </a:lnTo>
                <a:lnTo>
                  <a:pt x="21" y="41"/>
                </a:lnTo>
                <a:lnTo>
                  <a:pt x="28" y="41"/>
                </a:lnTo>
                <a:lnTo>
                  <a:pt x="28" y="41"/>
                </a:lnTo>
                <a:lnTo>
                  <a:pt x="28" y="41"/>
                </a:lnTo>
                <a:lnTo>
                  <a:pt x="28" y="41"/>
                </a:lnTo>
                <a:lnTo>
                  <a:pt x="28" y="34"/>
                </a:lnTo>
                <a:lnTo>
                  <a:pt x="28" y="34"/>
                </a:lnTo>
                <a:lnTo>
                  <a:pt x="28" y="34"/>
                </a:lnTo>
                <a:lnTo>
                  <a:pt x="28" y="34"/>
                </a:lnTo>
                <a:lnTo>
                  <a:pt x="28" y="27"/>
                </a:lnTo>
                <a:lnTo>
                  <a:pt x="28" y="27"/>
                </a:lnTo>
                <a:lnTo>
                  <a:pt x="28" y="27"/>
                </a:lnTo>
                <a:lnTo>
                  <a:pt x="28" y="27"/>
                </a:lnTo>
                <a:lnTo>
                  <a:pt x="28" y="20"/>
                </a:lnTo>
                <a:lnTo>
                  <a:pt x="28" y="20"/>
                </a:lnTo>
                <a:lnTo>
                  <a:pt x="21" y="20"/>
                </a:lnTo>
                <a:lnTo>
                  <a:pt x="21" y="20"/>
                </a:lnTo>
                <a:lnTo>
                  <a:pt x="21" y="20"/>
                </a:lnTo>
                <a:lnTo>
                  <a:pt x="21" y="20"/>
                </a:lnTo>
                <a:lnTo>
                  <a:pt x="14" y="20"/>
                </a:lnTo>
                <a:lnTo>
                  <a:pt x="14" y="20"/>
                </a:lnTo>
                <a:lnTo>
                  <a:pt x="14" y="27"/>
                </a:lnTo>
                <a:lnTo>
                  <a:pt x="14" y="27"/>
                </a:lnTo>
                <a:lnTo>
                  <a:pt x="14" y="27"/>
                </a:lnTo>
                <a:lnTo>
                  <a:pt x="14" y="27"/>
                </a:lnTo>
                <a:lnTo>
                  <a:pt x="14" y="34"/>
                </a:lnTo>
                <a:lnTo>
                  <a:pt x="14" y="34"/>
                </a:lnTo>
                <a:lnTo>
                  <a:pt x="14" y="34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3" name=""/>
          <p:cNvSpPr/>
          <p:nvPr/>
        </p:nvSpPr>
        <p:spPr>
          <a:xfrm>
            <a:off x="3257640" y="3960720"/>
            <a:ext cx="54000" cy="65160"/>
          </a:xfrm>
          <a:custGeom>
            <a:avLst/>
            <a:gdLst/>
            <a:ahLst/>
            <a:rect l="l" t="t" r="r" b="b"/>
            <a:pathLst>
              <a:path w="34" h="41">
                <a:moveTo>
                  <a:pt x="7" y="27"/>
                </a:moveTo>
                <a:lnTo>
                  <a:pt x="7" y="27"/>
                </a:lnTo>
                <a:lnTo>
                  <a:pt x="0" y="20"/>
                </a:lnTo>
                <a:lnTo>
                  <a:pt x="0" y="20"/>
                </a:lnTo>
                <a:lnTo>
                  <a:pt x="0" y="14"/>
                </a:lnTo>
                <a:lnTo>
                  <a:pt x="0" y="14"/>
                </a:lnTo>
                <a:lnTo>
                  <a:pt x="0" y="14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7" y="7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13" y="0"/>
                </a:lnTo>
                <a:lnTo>
                  <a:pt x="13" y="0"/>
                </a:lnTo>
                <a:lnTo>
                  <a:pt x="13" y="0"/>
                </a:lnTo>
                <a:lnTo>
                  <a:pt x="13" y="0"/>
                </a:lnTo>
                <a:lnTo>
                  <a:pt x="13" y="0"/>
                </a:lnTo>
                <a:lnTo>
                  <a:pt x="20" y="0"/>
                </a:lnTo>
                <a:lnTo>
                  <a:pt x="20" y="0"/>
                </a:lnTo>
                <a:lnTo>
                  <a:pt x="20" y="0"/>
                </a:lnTo>
                <a:lnTo>
                  <a:pt x="20" y="0"/>
                </a:lnTo>
                <a:lnTo>
                  <a:pt x="20" y="0"/>
                </a:lnTo>
                <a:lnTo>
                  <a:pt x="27" y="7"/>
                </a:lnTo>
                <a:lnTo>
                  <a:pt x="27" y="7"/>
                </a:lnTo>
                <a:lnTo>
                  <a:pt x="27" y="7"/>
                </a:lnTo>
                <a:lnTo>
                  <a:pt x="27" y="14"/>
                </a:lnTo>
                <a:lnTo>
                  <a:pt x="34" y="14"/>
                </a:lnTo>
                <a:lnTo>
                  <a:pt x="34" y="14"/>
                </a:lnTo>
                <a:lnTo>
                  <a:pt x="34" y="20"/>
                </a:lnTo>
                <a:lnTo>
                  <a:pt x="34" y="20"/>
                </a:lnTo>
                <a:lnTo>
                  <a:pt x="34" y="27"/>
                </a:lnTo>
                <a:lnTo>
                  <a:pt x="34" y="27"/>
                </a:lnTo>
                <a:lnTo>
                  <a:pt x="34" y="27"/>
                </a:lnTo>
                <a:lnTo>
                  <a:pt x="34" y="34"/>
                </a:lnTo>
                <a:lnTo>
                  <a:pt x="34" y="34"/>
                </a:lnTo>
                <a:lnTo>
                  <a:pt x="34" y="34"/>
                </a:lnTo>
                <a:lnTo>
                  <a:pt x="34" y="34"/>
                </a:lnTo>
                <a:lnTo>
                  <a:pt x="34" y="41"/>
                </a:lnTo>
                <a:lnTo>
                  <a:pt x="34" y="41"/>
                </a:lnTo>
                <a:lnTo>
                  <a:pt x="27" y="41"/>
                </a:lnTo>
                <a:lnTo>
                  <a:pt x="27" y="41"/>
                </a:lnTo>
                <a:lnTo>
                  <a:pt x="20" y="41"/>
                </a:lnTo>
                <a:lnTo>
                  <a:pt x="20" y="41"/>
                </a:lnTo>
                <a:lnTo>
                  <a:pt x="13" y="41"/>
                </a:lnTo>
                <a:lnTo>
                  <a:pt x="13" y="34"/>
                </a:lnTo>
                <a:lnTo>
                  <a:pt x="7" y="34"/>
                </a:lnTo>
                <a:lnTo>
                  <a:pt x="7" y="27"/>
                </a:lnTo>
                <a:close/>
                <a:moveTo>
                  <a:pt x="13" y="27"/>
                </a:moveTo>
                <a:lnTo>
                  <a:pt x="13" y="27"/>
                </a:lnTo>
                <a:lnTo>
                  <a:pt x="13" y="34"/>
                </a:lnTo>
                <a:lnTo>
                  <a:pt x="20" y="34"/>
                </a:lnTo>
                <a:lnTo>
                  <a:pt x="20" y="34"/>
                </a:lnTo>
                <a:lnTo>
                  <a:pt x="20" y="34"/>
                </a:lnTo>
                <a:lnTo>
                  <a:pt x="27" y="34"/>
                </a:lnTo>
                <a:lnTo>
                  <a:pt x="27" y="34"/>
                </a:lnTo>
                <a:lnTo>
                  <a:pt x="27" y="34"/>
                </a:lnTo>
                <a:lnTo>
                  <a:pt x="27" y="34"/>
                </a:lnTo>
                <a:lnTo>
                  <a:pt x="34" y="34"/>
                </a:lnTo>
                <a:lnTo>
                  <a:pt x="34" y="34"/>
                </a:lnTo>
                <a:lnTo>
                  <a:pt x="34" y="27"/>
                </a:lnTo>
                <a:lnTo>
                  <a:pt x="34" y="27"/>
                </a:lnTo>
                <a:lnTo>
                  <a:pt x="34" y="20"/>
                </a:lnTo>
                <a:lnTo>
                  <a:pt x="27" y="20"/>
                </a:lnTo>
                <a:lnTo>
                  <a:pt x="27" y="14"/>
                </a:lnTo>
                <a:lnTo>
                  <a:pt x="27" y="14"/>
                </a:lnTo>
                <a:lnTo>
                  <a:pt x="20" y="7"/>
                </a:lnTo>
                <a:lnTo>
                  <a:pt x="20" y="7"/>
                </a:lnTo>
                <a:lnTo>
                  <a:pt x="13" y="7"/>
                </a:lnTo>
                <a:lnTo>
                  <a:pt x="13" y="7"/>
                </a:lnTo>
                <a:lnTo>
                  <a:pt x="13" y="7"/>
                </a:lnTo>
                <a:lnTo>
                  <a:pt x="13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14"/>
                </a:lnTo>
                <a:lnTo>
                  <a:pt x="7" y="14"/>
                </a:lnTo>
                <a:lnTo>
                  <a:pt x="7" y="14"/>
                </a:lnTo>
                <a:lnTo>
                  <a:pt x="7" y="20"/>
                </a:lnTo>
                <a:lnTo>
                  <a:pt x="13" y="27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4" name=""/>
          <p:cNvSpPr/>
          <p:nvPr/>
        </p:nvSpPr>
        <p:spPr>
          <a:xfrm flipV="1">
            <a:off x="3333600" y="3960360"/>
            <a:ext cx="1800" cy="11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5" name=""/>
          <p:cNvSpPr/>
          <p:nvPr/>
        </p:nvSpPr>
        <p:spPr>
          <a:xfrm>
            <a:off x="3333600" y="3700440"/>
            <a:ext cx="782640" cy="423720"/>
          </a:xfrm>
          <a:custGeom>
            <a:avLst/>
            <a:gdLst/>
            <a:ahLst/>
            <a:rect l="l" t="t" r="r" b="b"/>
            <a:pathLst>
              <a:path w="493" h="267">
                <a:moveTo>
                  <a:pt x="0" y="164"/>
                </a:moveTo>
                <a:lnTo>
                  <a:pt x="7" y="164"/>
                </a:lnTo>
                <a:lnTo>
                  <a:pt x="13" y="157"/>
                </a:lnTo>
                <a:lnTo>
                  <a:pt x="20" y="157"/>
                </a:lnTo>
                <a:lnTo>
                  <a:pt x="34" y="157"/>
                </a:lnTo>
                <a:lnTo>
                  <a:pt x="41" y="157"/>
                </a:lnTo>
                <a:lnTo>
                  <a:pt x="48" y="150"/>
                </a:lnTo>
                <a:lnTo>
                  <a:pt x="55" y="150"/>
                </a:lnTo>
                <a:lnTo>
                  <a:pt x="61" y="143"/>
                </a:lnTo>
                <a:lnTo>
                  <a:pt x="68" y="143"/>
                </a:lnTo>
                <a:lnTo>
                  <a:pt x="75" y="137"/>
                </a:lnTo>
                <a:lnTo>
                  <a:pt x="82" y="137"/>
                </a:lnTo>
                <a:lnTo>
                  <a:pt x="89" y="130"/>
                </a:lnTo>
                <a:lnTo>
                  <a:pt x="103" y="130"/>
                </a:lnTo>
                <a:lnTo>
                  <a:pt x="109" y="123"/>
                </a:lnTo>
                <a:lnTo>
                  <a:pt x="109" y="123"/>
                </a:lnTo>
                <a:lnTo>
                  <a:pt x="116" y="116"/>
                </a:lnTo>
                <a:lnTo>
                  <a:pt x="123" y="109"/>
                </a:lnTo>
                <a:lnTo>
                  <a:pt x="123" y="102"/>
                </a:lnTo>
                <a:lnTo>
                  <a:pt x="123" y="102"/>
                </a:lnTo>
                <a:lnTo>
                  <a:pt x="116" y="96"/>
                </a:lnTo>
                <a:lnTo>
                  <a:pt x="116" y="89"/>
                </a:lnTo>
                <a:lnTo>
                  <a:pt x="116" y="82"/>
                </a:lnTo>
                <a:lnTo>
                  <a:pt x="116" y="75"/>
                </a:lnTo>
                <a:lnTo>
                  <a:pt x="116" y="68"/>
                </a:lnTo>
                <a:lnTo>
                  <a:pt x="116" y="68"/>
                </a:lnTo>
                <a:lnTo>
                  <a:pt x="123" y="61"/>
                </a:lnTo>
                <a:lnTo>
                  <a:pt x="123" y="54"/>
                </a:lnTo>
                <a:lnTo>
                  <a:pt x="130" y="48"/>
                </a:lnTo>
                <a:lnTo>
                  <a:pt x="130" y="41"/>
                </a:lnTo>
                <a:lnTo>
                  <a:pt x="130" y="34"/>
                </a:lnTo>
                <a:lnTo>
                  <a:pt x="123" y="34"/>
                </a:lnTo>
                <a:lnTo>
                  <a:pt x="123" y="27"/>
                </a:lnTo>
                <a:lnTo>
                  <a:pt x="123" y="20"/>
                </a:lnTo>
                <a:lnTo>
                  <a:pt x="130" y="13"/>
                </a:lnTo>
                <a:lnTo>
                  <a:pt x="130" y="7"/>
                </a:lnTo>
                <a:lnTo>
                  <a:pt x="137" y="7"/>
                </a:lnTo>
                <a:lnTo>
                  <a:pt x="151" y="0"/>
                </a:lnTo>
                <a:lnTo>
                  <a:pt x="157" y="0"/>
                </a:lnTo>
                <a:lnTo>
                  <a:pt x="164" y="0"/>
                </a:lnTo>
                <a:lnTo>
                  <a:pt x="171" y="7"/>
                </a:lnTo>
                <a:lnTo>
                  <a:pt x="171" y="7"/>
                </a:lnTo>
                <a:lnTo>
                  <a:pt x="178" y="13"/>
                </a:lnTo>
                <a:lnTo>
                  <a:pt x="178" y="20"/>
                </a:lnTo>
                <a:lnTo>
                  <a:pt x="185" y="27"/>
                </a:lnTo>
                <a:lnTo>
                  <a:pt x="185" y="34"/>
                </a:lnTo>
                <a:lnTo>
                  <a:pt x="192" y="34"/>
                </a:lnTo>
                <a:lnTo>
                  <a:pt x="199" y="41"/>
                </a:lnTo>
                <a:lnTo>
                  <a:pt x="199" y="48"/>
                </a:lnTo>
                <a:lnTo>
                  <a:pt x="205" y="54"/>
                </a:lnTo>
                <a:lnTo>
                  <a:pt x="205" y="54"/>
                </a:lnTo>
                <a:lnTo>
                  <a:pt x="205" y="61"/>
                </a:lnTo>
                <a:lnTo>
                  <a:pt x="205" y="68"/>
                </a:lnTo>
                <a:lnTo>
                  <a:pt x="205" y="75"/>
                </a:lnTo>
                <a:lnTo>
                  <a:pt x="212" y="82"/>
                </a:lnTo>
                <a:lnTo>
                  <a:pt x="212" y="89"/>
                </a:lnTo>
                <a:lnTo>
                  <a:pt x="219" y="89"/>
                </a:lnTo>
                <a:lnTo>
                  <a:pt x="226" y="89"/>
                </a:lnTo>
                <a:lnTo>
                  <a:pt x="240" y="89"/>
                </a:lnTo>
                <a:lnTo>
                  <a:pt x="247" y="89"/>
                </a:lnTo>
                <a:lnTo>
                  <a:pt x="253" y="96"/>
                </a:lnTo>
                <a:lnTo>
                  <a:pt x="253" y="102"/>
                </a:lnTo>
                <a:lnTo>
                  <a:pt x="260" y="102"/>
                </a:lnTo>
                <a:lnTo>
                  <a:pt x="267" y="109"/>
                </a:lnTo>
                <a:lnTo>
                  <a:pt x="274" y="116"/>
                </a:lnTo>
                <a:lnTo>
                  <a:pt x="281" y="116"/>
                </a:lnTo>
                <a:lnTo>
                  <a:pt x="281" y="123"/>
                </a:lnTo>
                <a:lnTo>
                  <a:pt x="288" y="130"/>
                </a:lnTo>
                <a:lnTo>
                  <a:pt x="295" y="130"/>
                </a:lnTo>
                <a:lnTo>
                  <a:pt x="301" y="137"/>
                </a:lnTo>
                <a:lnTo>
                  <a:pt x="308" y="137"/>
                </a:lnTo>
                <a:lnTo>
                  <a:pt x="315" y="143"/>
                </a:lnTo>
                <a:lnTo>
                  <a:pt x="322" y="150"/>
                </a:lnTo>
                <a:lnTo>
                  <a:pt x="329" y="150"/>
                </a:lnTo>
                <a:lnTo>
                  <a:pt x="336" y="157"/>
                </a:lnTo>
                <a:lnTo>
                  <a:pt x="336" y="157"/>
                </a:lnTo>
                <a:lnTo>
                  <a:pt x="343" y="164"/>
                </a:lnTo>
                <a:lnTo>
                  <a:pt x="349" y="171"/>
                </a:lnTo>
                <a:lnTo>
                  <a:pt x="356" y="171"/>
                </a:lnTo>
                <a:lnTo>
                  <a:pt x="363" y="178"/>
                </a:lnTo>
                <a:lnTo>
                  <a:pt x="370" y="184"/>
                </a:lnTo>
                <a:lnTo>
                  <a:pt x="370" y="184"/>
                </a:lnTo>
                <a:lnTo>
                  <a:pt x="377" y="191"/>
                </a:lnTo>
                <a:lnTo>
                  <a:pt x="384" y="198"/>
                </a:lnTo>
                <a:lnTo>
                  <a:pt x="391" y="198"/>
                </a:lnTo>
                <a:lnTo>
                  <a:pt x="397" y="205"/>
                </a:lnTo>
                <a:lnTo>
                  <a:pt x="404" y="205"/>
                </a:lnTo>
                <a:lnTo>
                  <a:pt x="404" y="212"/>
                </a:lnTo>
                <a:lnTo>
                  <a:pt x="411" y="219"/>
                </a:lnTo>
                <a:lnTo>
                  <a:pt x="418" y="219"/>
                </a:lnTo>
                <a:lnTo>
                  <a:pt x="425" y="226"/>
                </a:lnTo>
                <a:lnTo>
                  <a:pt x="432" y="232"/>
                </a:lnTo>
                <a:lnTo>
                  <a:pt x="439" y="232"/>
                </a:lnTo>
                <a:lnTo>
                  <a:pt x="445" y="239"/>
                </a:lnTo>
                <a:lnTo>
                  <a:pt x="445" y="246"/>
                </a:lnTo>
                <a:lnTo>
                  <a:pt x="452" y="246"/>
                </a:lnTo>
                <a:lnTo>
                  <a:pt x="459" y="253"/>
                </a:lnTo>
                <a:lnTo>
                  <a:pt x="466" y="253"/>
                </a:lnTo>
                <a:lnTo>
                  <a:pt x="473" y="260"/>
                </a:lnTo>
                <a:lnTo>
                  <a:pt x="480" y="267"/>
                </a:lnTo>
                <a:lnTo>
                  <a:pt x="487" y="267"/>
                </a:lnTo>
                <a:lnTo>
                  <a:pt x="493" y="260"/>
                </a:lnTo>
                <a:lnTo>
                  <a:pt x="493" y="253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6" name=""/>
          <p:cNvSpPr/>
          <p:nvPr/>
        </p:nvSpPr>
        <p:spPr>
          <a:xfrm>
            <a:off x="4356000" y="4048200"/>
            <a:ext cx="33480" cy="85680"/>
          </a:xfrm>
          <a:custGeom>
            <a:avLst/>
            <a:gdLst/>
            <a:ahLst/>
            <a:rect l="l" t="t" r="r" b="b"/>
            <a:pathLst>
              <a:path w="21" h="54">
                <a:moveTo>
                  <a:pt x="14" y="34"/>
                </a:moveTo>
                <a:lnTo>
                  <a:pt x="21" y="27"/>
                </a:lnTo>
                <a:lnTo>
                  <a:pt x="21" y="20"/>
                </a:lnTo>
                <a:lnTo>
                  <a:pt x="21" y="13"/>
                </a:lnTo>
                <a:lnTo>
                  <a:pt x="21" y="13"/>
                </a:lnTo>
                <a:lnTo>
                  <a:pt x="21" y="7"/>
                </a:lnTo>
                <a:lnTo>
                  <a:pt x="14" y="0"/>
                </a:lnTo>
                <a:lnTo>
                  <a:pt x="7" y="0"/>
                </a:lnTo>
                <a:lnTo>
                  <a:pt x="0" y="7"/>
                </a:lnTo>
                <a:lnTo>
                  <a:pt x="0" y="13"/>
                </a:lnTo>
                <a:lnTo>
                  <a:pt x="0" y="20"/>
                </a:lnTo>
                <a:lnTo>
                  <a:pt x="0" y="27"/>
                </a:lnTo>
                <a:lnTo>
                  <a:pt x="0" y="27"/>
                </a:lnTo>
                <a:lnTo>
                  <a:pt x="0" y="34"/>
                </a:lnTo>
                <a:lnTo>
                  <a:pt x="7" y="41"/>
                </a:lnTo>
                <a:lnTo>
                  <a:pt x="7" y="48"/>
                </a:lnTo>
                <a:lnTo>
                  <a:pt x="7" y="54"/>
                </a:lnTo>
                <a:lnTo>
                  <a:pt x="7" y="54"/>
                </a:lnTo>
                <a:lnTo>
                  <a:pt x="14" y="54"/>
                </a:lnTo>
                <a:lnTo>
                  <a:pt x="14" y="48"/>
                </a:lnTo>
                <a:lnTo>
                  <a:pt x="14" y="34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7" name=""/>
          <p:cNvSpPr/>
          <p:nvPr/>
        </p:nvSpPr>
        <p:spPr>
          <a:xfrm flipH="1" flipV="1">
            <a:off x="2670120" y="3884760"/>
            <a:ext cx="31680" cy="33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8" name=""/>
          <p:cNvSpPr/>
          <p:nvPr/>
        </p:nvSpPr>
        <p:spPr>
          <a:xfrm>
            <a:off x="4257720" y="3765600"/>
            <a:ext cx="33120" cy="152280"/>
          </a:xfrm>
          <a:custGeom>
            <a:avLst/>
            <a:gdLst/>
            <a:ahLst/>
            <a:rect l="l" t="t" r="r" b="b"/>
            <a:pathLst>
              <a:path w="21" h="96">
                <a:moveTo>
                  <a:pt x="14" y="96"/>
                </a:moveTo>
                <a:lnTo>
                  <a:pt x="14" y="89"/>
                </a:lnTo>
                <a:lnTo>
                  <a:pt x="14" y="82"/>
                </a:lnTo>
                <a:lnTo>
                  <a:pt x="14" y="75"/>
                </a:lnTo>
                <a:lnTo>
                  <a:pt x="21" y="75"/>
                </a:lnTo>
                <a:lnTo>
                  <a:pt x="21" y="68"/>
                </a:lnTo>
                <a:lnTo>
                  <a:pt x="21" y="61"/>
                </a:lnTo>
                <a:lnTo>
                  <a:pt x="21" y="55"/>
                </a:lnTo>
                <a:lnTo>
                  <a:pt x="21" y="48"/>
                </a:lnTo>
                <a:lnTo>
                  <a:pt x="21" y="41"/>
                </a:lnTo>
                <a:lnTo>
                  <a:pt x="21" y="34"/>
                </a:lnTo>
                <a:lnTo>
                  <a:pt x="21" y="27"/>
                </a:lnTo>
                <a:lnTo>
                  <a:pt x="21" y="27"/>
                </a:lnTo>
                <a:lnTo>
                  <a:pt x="21" y="20"/>
                </a:lnTo>
                <a:lnTo>
                  <a:pt x="21" y="13"/>
                </a:lnTo>
                <a:lnTo>
                  <a:pt x="14" y="7"/>
                </a:lnTo>
                <a:lnTo>
                  <a:pt x="14" y="0"/>
                </a:lnTo>
                <a:lnTo>
                  <a:pt x="7" y="7"/>
                </a:lnTo>
                <a:lnTo>
                  <a:pt x="7" y="13"/>
                </a:lnTo>
                <a:lnTo>
                  <a:pt x="7" y="20"/>
                </a:lnTo>
                <a:lnTo>
                  <a:pt x="7" y="27"/>
                </a:lnTo>
                <a:lnTo>
                  <a:pt x="7" y="34"/>
                </a:lnTo>
                <a:lnTo>
                  <a:pt x="7" y="34"/>
                </a:lnTo>
                <a:lnTo>
                  <a:pt x="0" y="41"/>
                </a:lnTo>
                <a:lnTo>
                  <a:pt x="0" y="48"/>
                </a:lnTo>
                <a:lnTo>
                  <a:pt x="0" y="55"/>
                </a:lnTo>
                <a:lnTo>
                  <a:pt x="0" y="61"/>
                </a:lnTo>
                <a:lnTo>
                  <a:pt x="7" y="68"/>
                </a:lnTo>
                <a:lnTo>
                  <a:pt x="7" y="75"/>
                </a:lnTo>
                <a:lnTo>
                  <a:pt x="7" y="75"/>
                </a:lnTo>
                <a:lnTo>
                  <a:pt x="7" y="82"/>
                </a:lnTo>
                <a:lnTo>
                  <a:pt x="7" y="89"/>
                </a:lnTo>
                <a:lnTo>
                  <a:pt x="14" y="96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9" name=""/>
          <p:cNvSpPr/>
          <p:nvPr/>
        </p:nvSpPr>
        <p:spPr>
          <a:xfrm>
            <a:off x="5837400" y="3776760"/>
            <a:ext cx="64800" cy="150840"/>
          </a:xfrm>
          <a:custGeom>
            <a:avLst/>
            <a:gdLst/>
            <a:ahLst/>
            <a:rect l="l" t="t" r="r" b="b"/>
            <a:pathLst>
              <a:path w="41" h="95">
                <a:moveTo>
                  <a:pt x="0" y="89"/>
                </a:moveTo>
                <a:lnTo>
                  <a:pt x="6" y="82"/>
                </a:lnTo>
                <a:lnTo>
                  <a:pt x="6" y="82"/>
                </a:lnTo>
                <a:lnTo>
                  <a:pt x="13" y="75"/>
                </a:lnTo>
                <a:lnTo>
                  <a:pt x="20" y="68"/>
                </a:lnTo>
                <a:lnTo>
                  <a:pt x="20" y="68"/>
                </a:lnTo>
                <a:lnTo>
                  <a:pt x="20" y="61"/>
                </a:lnTo>
                <a:lnTo>
                  <a:pt x="27" y="54"/>
                </a:lnTo>
                <a:lnTo>
                  <a:pt x="27" y="48"/>
                </a:lnTo>
                <a:lnTo>
                  <a:pt x="27" y="41"/>
                </a:lnTo>
                <a:lnTo>
                  <a:pt x="20" y="41"/>
                </a:lnTo>
                <a:lnTo>
                  <a:pt x="20" y="34"/>
                </a:lnTo>
                <a:lnTo>
                  <a:pt x="20" y="27"/>
                </a:lnTo>
                <a:lnTo>
                  <a:pt x="20" y="27"/>
                </a:lnTo>
                <a:lnTo>
                  <a:pt x="20" y="20"/>
                </a:lnTo>
                <a:lnTo>
                  <a:pt x="27" y="13"/>
                </a:lnTo>
                <a:lnTo>
                  <a:pt x="27" y="6"/>
                </a:lnTo>
                <a:lnTo>
                  <a:pt x="27" y="0"/>
                </a:lnTo>
                <a:lnTo>
                  <a:pt x="34" y="6"/>
                </a:lnTo>
                <a:lnTo>
                  <a:pt x="34" y="13"/>
                </a:lnTo>
                <a:lnTo>
                  <a:pt x="34" y="20"/>
                </a:lnTo>
                <a:lnTo>
                  <a:pt x="34" y="20"/>
                </a:lnTo>
                <a:lnTo>
                  <a:pt x="34" y="27"/>
                </a:lnTo>
                <a:lnTo>
                  <a:pt x="34" y="34"/>
                </a:lnTo>
                <a:lnTo>
                  <a:pt x="34" y="34"/>
                </a:lnTo>
                <a:lnTo>
                  <a:pt x="34" y="41"/>
                </a:lnTo>
                <a:lnTo>
                  <a:pt x="41" y="48"/>
                </a:lnTo>
                <a:lnTo>
                  <a:pt x="41" y="54"/>
                </a:lnTo>
                <a:lnTo>
                  <a:pt x="41" y="54"/>
                </a:lnTo>
                <a:lnTo>
                  <a:pt x="41" y="61"/>
                </a:lnTo>
                <a:lnTo>
                  <a:pt x="41" y="68"/>
                </a:lnTo>
                <a:lnTo>
                  <a:pt x="34" y="75"/>
                </a:lnTo>
                <a:lnTo>
                  <a:pt x="34" y="82"/>
                </a:lnTo>
                <a:lnTo>
                  <a:pt x="34" y="82"/>
                </a:lnTo>
                <a:lnTo>
                  <a:pt x="34" y="89"/>
                </a:lnTo>
                <a:lnTo>
                  <a:pt x="27" y="95"/>
                </a:lnTo>
                <a:lnTo>
                  <a:pt x="13" y="95"/>
                </a:lnTo>
                <a:lnTo>
                  <a:pt x="6" y="95"/>
                </a:lnTo>
                <a:lnTo>
                  <a:pt x="0" y="89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0" name=""/>
          <p:cNvSpPr/>
          <p:nvPr/>
        </p:nvSpPr>
        <p:spPr>
          <a:xfrm>
            <a:off x="2735280" y="3830760"/>
            <a:ext cx="54000" cy="64800"/>
          </a:xfrm>
          <a:custGeom>
            <a:avLst/>
            <a:gdLst/>
            <a:ahLst/>
            <a:rect l="l" t="t" r="r" b="b"/>
            <a:pathLst>
              <a:path w="34" h="41">
                <a:moveTo>
                  <a:pt x="34" y="27"/>
                </a:moveTo>
                <a:lnTo>
                  <a:pt x="34" y="14"/>
                </a:lnTo>
                <a:lnTo>
                  <a:pt x="27" y="7"/>
                </a:lnTo>
                <a:lnTo>
                  <a:pt x="20" y="0"/>
                </a:lnTo>
                <a:lnTo>
                  <a:pt x="20" y="0"/>
                </a:lnTo>
                <a:lnTo>
                  <a:pt x="13" y="0"/>
                </a:lnTo>
                <a:lnTo>
                  <a:pt x="7" y="7"/>
                </a:lnTo>
                <a:lnTo>
                  <a:pt x="0" y="14"/>
                </a:lnTo>
                <a:lnTo>
                  <a:pt x="0" y="20"/>
                </a:lnTo>
                <a:lnTo>
                  <a:pt x="7" y="27"/>
                </a:lnTo>
                <a:lnTo>
                  <a:pt x="7" y="34"/>
                </a:lnTo>
                <a:lnTo>
                  <a:pt x="13" y="41"/>
                </a:lnTo>
                <a:lnTo>
                  <a:pt x="20" y="41"/>
                </a:lnTo>
                <a:lnTo>
                  <a:pt x="27" y="34"/>
                </a:lnTo>
                <a:lnTo>
                  <a:pt x="34" y="27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1" name=""/>
          <p:cNvSpPr/>
          <p:nvPr/>
        </p:nvSpPr>
        <p:spPr>
          <a:xfrm>
            <a:off x="3213000" y="3819600"/>
            <a:ext cx="33480" cy="22320"/>
          </a:xfrm>
          <a:custGeom>
            <a:avLst/>
            <a:gdLst/>
            <a:ahLst/>
            <a:rect l="l" t="t" r="r" b="b"/>
            <a:pathLst>
              <a:path w="21" h="14">
                <a:moveTo>
                  <a:pt x="0" y="7"/>
                </a:moveTo>
                <a:lnTo>
                  <a:pt x="0" y="0"/>
                </a:lnTo>
                <a:lnTo>
                  <a:pt x="7" y="0"/>
                </a:lnTo>
                <a:lnTo>
                  <a:pt x="14" y="0"/>
                </a:lnTo>
                <a:lnTo>
                  <a:pt x="14" y="0"/>
                </a:lnTo>
                <a:lnTo>
                  <a:pt x="21" y="0"/>
                </a:lnTo>
                <a:lnTo>
                  <a:pt x="21" y="7"/>
                </a:lnTo>
                <a:lnTo>
                  <a:pt x="21" y="7"/>
                </a:lnTo>
                <a:lnTo>
                  <a:pt x="14" y="7"/>
                </a:lnTo>
                <a:lnTo>
                  <a:pt x="14" y="14"/>
                </a:lnTo>
                <a:lnTo>
                  <a:pt x="7" y="14"/>
                </a:lnTo>
                <a:lnTo>
                  <a:pt x="7" y="14"/>
                </a:lnTo>
                <a:lnTo>
                  <a:pt x="0" y="14"/>
                </a:lnTo>
                <a:lnTo>
                  <a:pt x="0" y="7"/>
                </a:lnTo>
                <a:lnTo>
                  <a:pt x="0" y="7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2" name=""/>
          <p:cNvSpPr/>
          <p:nvPr/>
        </p:nvSpPr>
        <p:spPr>
          <a:xfrm>
            <a:off x="3376440" y="3797280"/>
            <a:ext cx="54000" cy="55440"/>
          </a:xfrm>
          <a:custGeom>
            <a:avLst/>
            <a:gdLst/>
            <a:ahLst/>
            <a:rect l="l" t="t" r="r" b="b"/>
            <a:pathLst>
              <a:path w="34" h="35">
                <a:moveTo>
                  <a:pt x="0" y="21"/>
                </a:moveTo>
                <a:lnTo>
                  <a:pt x="7" y="7"/>
                </a:lnTo>
                <a:lnTo>
                  <a:pt x="7" y="7"/>
                </a:lnTo>
                <a:lnTo>
                  <a:pt x="14" y="0"/>
                </a:lnTo>
                <a:lnTo>
                  <a:pt x="21" y="0"/>
                </a:lnTo>
                <a:lnTo>
                  <a:pt x="28" y="7"/>
                </a:lnTo>
                <a:lnTo>
                  <a:pt x="34" y="14"/>
                </a:lnTo>
                <a:lnTo>
                  <a:pt x="34" y="14"/>
                </a:lnTo>
                <a:lnTo>
                  <a:pt x="34" y="21"/>
                </a:lnTo>
                <a:lnTo>
                  <a:pt x="28" y="28"/>
                </a:lnTo>
                <a:lnTo>
                  <a:pt x="21" y="28"/>
                </a:lnTo>
                <a:lnTo>
                  <a:pt x="14" y="35"/>
                </a:lnTo>
                <a:lnTo>
                  <a:pt x="7" y="28"/>
                </a:lnTo>
                <a:lnTo>
                  <a:pt x="7" y="28"/>
                </a:lnTo>
                <a:lnTo>
                  <a:pt x="0" y="21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3" name=""/>
          <p:cNvSpPr/>
          <p:nvPr/>
        </p:nvSpPr>
        <p:spPr>
          <a:xfrm>
            <a:off x="4302000" y="3460680"/>
            <a:ext cx="87480" cy="271440"/>
          </a:xfrm>
          <a:custGeom>
            <a:avLst/>
            <a:gdLst/>
            <a:ahLst/>
            <a:rect l="l" t="t" r="r" b="b"/>
            <a:pathLst>
              <a:path w="55" h="171">
                <a:moveTo>
                  <a:pt x="14" y="171"/>
                </a:moveTo>
                <a:lnTo>
                  <a:pt x="14" y="164"/>
                </a:lnTo>
                <a:lnTo>
                  <a:pt x="14" y="158"/>
                </a:lnTo>
                <a:lnTo>
                  <a:pt x="20" y="151"/>
                </a:lnTo>
                <a:lnTo>
                  <a:pt x="20" y="144"/>
                </a:lnTo>
                <a:lnTo>
                  <a:pt x="20" y="137"/>
                </a:lnTo>
                <a:lnTo>
                  <a:pt x="20" y="130"/>
                </a:lnTo>
                <a:lnTo>
                  <a:pt x="20" y="123"/>
                </a:lnTo>
                <a:lnTo>
                  <a:pt x="20" y="116"/>
                </a:lnTo>
                <a:lnTo>
                  <a:pt x="20" y="110"/>
                </a:lnTo>
                <a:lnTo>
                  <a:pt x="20" y="96"/>
                </a:lnTo>
                <a:lnTo>
                  <a:pt x="20" y="89"/>
                </a:lnTo>
                <a:lnTo>
                  <a:pt x="27" y="82"/>
                </a:lnTo>
                <a:lnTo>
                  <a:pt x="34" y="82"/>
                </a:lnTo>
                <a:lnTo>
                  <a:pt x="41" y="75"/>
                </a:lnTo>
                <a:lnTo>
                  <a:pt x="48" y="69"/>
                </a:lnTo>
                <a:lnTo>
                  <a:pt x="55" y="62"/>
                </a:lnTo>
                <a:lnTo>
                  <a:pt x="55" y="55"/>
                </a:lnTo>
                <a:lnTo>
                  <a:pt x="55" y="48"/>
                </a:lnTo>
                <a:lnTo>
                  <a:pt x="55" y="41"/>
                </a:lnTo>
                <a:lnTo>
                  <a:pt x="55" y="34"/>
                </a:lnTo>
                <a:lnTo>
                  <a:pt x="48" y="28"/>
                </a:lnTo>
                <a:lnTo>
                  <a:pt x="48" y="14"/>
                </a:lnTo>
                <a:lnTo>
                  <a:pt x="48" y="7"/>
                </a:lnTo>
                <a:lnTo>
                  <a:pt x="41" y="0"/>
                </a:lnTo>
                <a:lnTo>
                  <a:pt x="41" y="0"/>
                </a:lnTo>
                <a:lnTo>
                  <a:pt x="41" y="0"/>
                </a:lnTo>
                <a:lnTo>
                  <a:pt x="41" y="7"/>
                </a:lnTo>
                <a:lnTo>
                  <a:pt x="34" y="21"/>
                </a:lnTo>
                <a:lnTo>
                  <a:pt x="34" y="28"/>
                </a:lnTo>
                <a:lnTo>
                  <a:pt x="27" y="34"/>
                </a:lnTo>
                <a:lnTo>
                  <a:pt x="20" y="41"/>
                </a:lnTo>
                <a:lnTo>
                  <a:pt x="14" y="48"/>
                </a:lnTo>
                <a:lnTo>
                  <a:pt x="14" y="55"/>
                </a:lnTo>
                <a:lnTo>
                  <a:pt x="7" y="62"/>
                </a:lnTo>
                <a:lnTo>
                  <a:pt x="7" y="69"/>
                </a:lnTo>
                <a:lnTo>
                  <a:pt x="7" y="75"/>
                </a:lnTo>
                <a:lnTo>
                  <a:pt x="7" y="82"/>
                </a:lnTo>
                <a:lnTo>
                  <a:pt x="7" y="89"/>
                </a:lnTo>
                <a:lnTo>
                  <a:pt x="7" y="96"/>
                </a:lnTo>
                <a:lnTo>
                  <a:pt x="7" y="103"/>
                </a:lnTo>
                <a:lnTo>
                  <a:pt x="0" y="110"/>
                </a:lnTo>
                <a:lnTo>
                  <a:pt x="0" y="116"/>
                </a:lnTo>
                <a:lnTo>
                  <a:pt x="0" y="123"/>
                </a:lnTo>
                <a:lnTo>
                  <a:pt x="0" y="130"/>
                </a:lnTo>
                <a:lnTo>
                  <a:pt x="7" y="137"/>
                </a:lnTo>
                <a:lnTo>
                  <a:pt x="7" y="144"/>
                </a:lnTo>
                <a:lnTo>
                  <a:pt x="0" y="151"/>
                </a:lnTo>
                <a:lnTo>
                  <a:pt x="7" y="158"/>
                </a:lnTo>
                <a:lnTo>
                  <a:pt x="7" y="164"/>
                </a:lnTo>
                <a:lnTo>
                  <a:pt x="14" y="171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4" name=""/>
          <p:cNvSpPr/>
          <p:nvPr/>
        </p:nvSpPr>
        <p:spPr>
          <a:xfrm>
            <a:off x="3649680" y="3602160"/>
            <a:ext cx="42840" cy="129960"/>
          </a:xfrm>
          <a:custGeom>
            <a:avLst/>
            <a:gdLst/>
            <a:ahLst/>
            <a:rect l="l" t="t" r="r" b="b"/>
            <a:pathLst>
              <a:path w="27" h="82">
                <a:moveTo>
                  <a:pt x="6" y="55"/>
                </a:moveTo>
                <a:lnTo>
                  <a:pt x="6" y="48"/>
                </a:lnTo>
                <a:lnTo>
                  <a:pt x="0" y="41"/>
                </a:lnTo>
                <a:lnTo>
                  <a:pt x="0" y="27"/>
                </a:lnTo>
                <a:lnTo>
                  <a:pt x="6" y="21"/>
                </a:lnTo>
                <a:lnTo>
                  <a:pt x="6" y="14"/>
                </a:lnTo>
                <a:lnTo>
                  <a:pt x="13" y="0"/>
                </a:lnTo>
                <a:lnTo>
                  <a:pt x="20" y="0"/>
                </a:lnTo>
                <a:lnTo>
                  <a:pt x="20" y="7"/>
                </a:lnTo>
                <a:lnTo>
                  <a:pt x="27" y="14"/>
                </a:lnTo>
                <a:lnTo>
                  <a:pt x="27" y="27"/>
                </a:lnTo>
                <a:lnTo>
                  <a:pt x="27" y="34"/>
                </a:lnTo>
                <a:lnTo>
                  <a:pt x="27" y="41"/>
                </a:lnTo>
                <a:lnTo>
                  <a:pt x="27" y="48"/>
                </a:lnTo>
                <a:lnTo>
                  <a:pt x="27" y="62"/>
                </a:lnTo>
                <a:lnTo>
                  <a:pt x="27" y="69"/>
                </a:lnTo>
                <a:lnTo>
                  <a:pt x="20" y="75"/>
                </a:lnTo>
                <a:lnTo>
                  <a:pt x="20" y="82"/>
                </a:lnTo>
                <a:lnTo>
                  <a:pt x="13" y="75"/>
                </a:lnTo>
                <a:lnTo>
                  <a:pt x="13" y="69"/>
                </a:lnTo>
                <a:lnTo>
                  <a:pt x="6" y="55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5" name=""/>
          <p:cNvSpPr/>
          <p:nvPr/>
        </p:nvSpPr>
        <p:spPr>
          <a:xfrm>
            <a:off x="3768840" y="3678120"/>
            <a:ext cx="11160" cy="22320"/>
          </a:xfrm>
          <a:custGeom>
            <a:avLst/>
            <a:gdLst/>
            <a:ahLst/>
            <a:rect l="l" t="t" r="r" b="b"/>
            <a:pathLst>
              <a:path w="7" h="14">
                <a:moveTo>
                  <a:pt x="0" y="7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7" y="0"/>
                </a:lnTo>
                <a:lnTo>
                  <a:pt x="7" y="0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14"/>
                </a:lnTo>
                <a:lnTo>
                  <a:pt x="0" y="14"/>
                </a:lnTo>
                <a:lnTo>
                  <a:pt x="0" y="14"/>
                </a:lnTo>
                <a:lnTo>
                  <a:pt x="0" y="7"/>
                </a:lnTo>
                <a:lnTo>
                  <a:pt x="0" y="7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6" name=""/>
          <p:cNvSpPr/>
          <p:nvPr/>
        </p:nvSpPr>
        <p:spPr>
          <a:xfrm>
            <a:off x="3811680" y="3460680"/>
            <a:ext cx="66600" cy="152640"/>
          </a:xfrm>
          <a:custGeom>
            <a:avLst/>
            <a:gdLst/>
            <a:ahLst/>
            <a:rect l="l" t="t" r="r" b="b"/>
            <a:pathLst>
              <a:path w="42" h="96">
                <a:moveTo>
                  <a:pt x="0" y="82"/>
                </a:moveTo>
                <a:lnTo>
                  <a:pt x="0" y="75"/>
                </a:lnTo>
                <a:lnTo>
                  <a:pt x="0" y="75"/>
                </a:lnTo>
                <a:lnTo>
                  <a:pt x="0" y="69"/>
                </a:lnTo>
                <a:lnTo>
                  <a:pt x="0" y="62"/>
                </a:lnTo>
                <a:lnTo>
                  <a:pt x="0" y="55"/>
                </a:lnTo>
                <a:lnTo>
                  <a:pt x="0" y="48"/>
                </a:lnTo>
                <a:lnTo>
                  <a:pt x="0" y="41"/>
                </a:lnTo>
                <a:lnTo>
                  <a:pt x="0" y="41"/>
                </a:lnTo>
                <a:lnTo>
                  <a:pt x="7" y="34"/>
                </a:lnTo>
                <a:lnTo>
                  <a:pt x="14" y="34"/>
                </a:lnTo>
                <a:lnTo>
                  <a:pt x="21" y="28"/>
                </a:lnTo>
                <a:lnTo>
                  <a:pt x="28" y="28"/>
                </a:lnTo>
                <a:lnTo>
                  <a:pt x="28" y="21"/>
                </a:lnTo>
                <a:lnTo>
                  <a:pt x="28" y="21"/>
                </a:lnTo>
                <a:lnTo>
                  <a:pt x="28" y="14"/>
                </a:lnTo>
                <a:lnTo>
                  <a:pt x="28" y="7"/>
                </a:lnTo>
                <a:lnTo>
                  <a:pt x="35" y="0"/>
                </a:lnTo>
                <a:lnTo>
                  <a:pt x="35" y="0"/>
                </a:lnTo>
                <a:lnTo>
                  <a:pt x="42" y="7"/>
                </a:lnTo>
                <a:lnTo>
                  <a:pt x="42" y="14"/>
                </a:lnTo>
                <a:lnTo>
                  <a:pt x="35" y="21"/>
                </a:lnTo>
                <a:lnTo>
                  <a:pt x="35" y="21"/>
                </a:lnTo>
                <a:lnTo>
                  <a:pt x="35" y="28"/>
                </a:lnTo>
                <a:lnTo>
                  <a:pt x="35" y="34"/>
                </a:lnTo>
                <a:lnTo>
                  <a:pt x="35" y="41"/>
                </a:lnTo>
                <a:lnTo>
                  <a:pt x="35" y="48"/>
                </a:lnTo>
                <a:lnTo>
                  <a:pt x="35" y="55"/>
                </a:lnTo>
                <a:lnTo>
                  <a:pt x="35" y="55"/>
                </a:lnTo>
                <a:lnTo>
                  <a:pt x="28" y="62"/>
                </a:lnTo>
                <a:lnTo>
                  <a:pt x="28" y="69"/>
                </a:lnTo>
                <a:lnTo>
                  <a:pt x="21" y="69"/>
                </a:lnTo>
                <a:lnTo>
                  <a:pt x="14" y="75"/>
                </a:lnTo>
                <a:lnTo>
                  <a:pt x="7" y="82"/>
                </a:lnTo>
                <a:lnTo>
                  <a:pt x="7" y="89"/>
                </a:lnTo>
                <a:lnTo>
                  <a:pt x="7" y="96"/>
                </a:lnTo>
                <a:lnTo>
                  <a:pt x="7" y="96"/>
                </a:lnTo>
                <a:lnTo>
                  <a:pt x="0" y="96"/>
                </a:lnTo>
                <a:lnTo>
                  <a:pt x="0" y="82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7" name=""/>
          <p:cNvSpPr/>
          <p:nvPr/>
        </p:nvSpPr>
        <p:spPr>
          <a:xfrm>
            <a:off x="5259240" y="3548160"/>
            <a:ext cx="33480" cy="1440"/>
          </a:xfrm>
          <a:custGeom>
            <a:avLst/>
            <a:gdLst/>
            <a:ahLst/>
            <a:rect l="l" t="t" r="r" b="b"/>
            <a:pathLst>
              <a:path w="21" h="0">
                <a:moveTo>
                  <a:pt x="21" y="0"/>
                </a:moveTo>
                <a:lnTo>
                  <a:pt x="21" y="0"/>
                </a:lnTo>
                <a:lnTo>
                  <a:pt x="14" y="0"/>
                </a:lnTo>
                <a:lnTo>
                  <a:pt x="14" y="0"/>
                </a:lnTo>
                <a:lnTo>
                  <a:pt x="7" y="0"/>
                </a:lnTo>
                <a:lnTo>
                  <a:pt x="7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7" y="0"/>
                </a:lnTo>
                <a:lnTo>
                  <a:pt x="7" y="0"/>
                </a:lnTo>
                <a:lnTo>
                  <a:pt x="14" y="0"/>
                </a:lnTo>
                <a:lnTo>
                  <a:pt x="21" y="0"/>
                </a:lnTo>
                <a:lnTo>
                  <a:pt x="21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8" name=""/>
          <p:cNvSpPr/>
          <p:nvPr/>
        </p:nvSpPr>
        <p:spPr>
          <a:xfrm>
            <a:off x="5205240" y="3471840"/>
            <a:ext cx="65160" cy="76320"/>
          </a:xfrm>
          <a:custGeom>
            <a:avLst/>
            <a:gdLst/>
            <a:ahLst/>
            <a:rect l="l" t="t" r="r" b="b"/>
            <a:pathLst>
              <a:path w="41" h="48">
                <a:moveTo>
                  <a:pt x="41" y="21"/>
                </a:moveTo>
                <a:lnTo>
                  <a:pt x="34" y="7"/>
                </a:lnTo>
                <a:lnTo>
                  <a:pt x="27" y="7"/>
                </a:lnTo>
                <a:lnTo>
                  <a:pt x="21" y="0"/>
                </a:lnTo>
                <a:lnTo>
                  <a:pt x="14" y="7"/>
                </a:lnTo>
                <a:lnTo>
                  <a:pt x="7" y="14"/>
                </a:lnTo>
                <a:lnTo>
                  <a:pt x="0" y="21"/>
                </a:lnTo>
                <a:lnTo>
                  <a:pt x="7" y="34"/>
                </a:lnTo>
                <a:lnTo>
                  <a:pt x="14" y="41"/>
                </a:lnTo>
                <a:lnTo>
                  <a:pt x="21" y="48"/>
                </a:lnTo>
                <a:lnTo>
                  <a:pt x="27" y="48"/>
                </a:lnTo>
                <a:lnTo>
                  <a:pt x="27" y="48"/>
                </a:lnTo>
                <a:lnTo>
                  <a:pt x="34" y="41"/>
                </a:lnTo>
                <a:lnTo>
                  <a:pt x="34" y="34"/>
                </a:lnTo>
                <a:lnTo>
                  <a:pt x="41" y="21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9" name=""/>
          <p:cNvSpPr/>
          <p:nvPr/>
        </p:nvSpPr>
        <p:spPr>
          <a:xfrm>
            <a:off x="5324400" y="3505320"/>
            <a:ext cx="11160" cy="1440"/>
          </a:xfrm>
          <a:custGeom>
            <a:avLst/>
            <a:gdLst/>
            <a:ahLst/>
            <a:rect l="l" t="t" r="r" b="b"/>
            <a:pathLst>
              <a:path w="7" h="0">
                <a:moveTo>
                  <a:pt x="7" y="0"/>
                </a:move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0" y="0"/>
                </a:lnTo>
                <a:lnTo>
                  <a:pt x="0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0" name=""/>
          <p:cNvSpPr/>
          <p:nvPr/>
        </p:nvSpPr>
        <p:spPr>
          <a:xfrm>
            <a:off x="4367160" y="3406680"/>
            <a:ext cx="65160" cy="65160"/>
          </a:xfrm>
          <a:custGeom>
            <a:avLst/>
            <a:gdLst/>
            <a:ahLst/>
            <a:rect l="l" t="t" r="r" b="b"/>
            <a:pathLst>
              <a:path w="41" h="41">
                <a:moveTo>
                  <a:pt x="41" y="34"/>
                </a:moveTo>
                <a:lnTo>
                  <a:pt x="34" y="27"/>
                </a:lnTo>
                <a:lnTo>
                  <a:pt x="34" y="20"/>
                </a:lnTo>
                <a:lnTo>
                  <a:pt x="34" y="20"/>
                </a:lnTo>
                <a:lnTo>
                  <a:pt x="34" y="14"/>
                </a:lnTo>
                <a:lnTo>
                  <a:pt x="34" y="7"/>
                </a:lnTo>
                <a:lnTo>
                  <a:pt x="34" y="0"/>
                </a:lnTo>
                <a:lnTo>
                  <a:pt x="27" y="0"/>
                </a:lnTo>
                <a:lnTo>
                  <a:pt x="27" y="7"/>
                </a:lnTo>
                <a:lnTo>
                  <a:pt x="21" y="7"/>
                </a:lnTo>
                <a:lnTo>
                  <a:pt x="14" y="14"/>
                </a:lnTo>
                <a:lnTo>
                  <a:pt x="7" y="20"/>
                </a:lnTo>
                <a:lnTo>
                  <a:pt x="7" y="20"/>
                </a:lnTo>
                <a:lnTo>
                  <a:pt x="0" y="27"/>
                </a:lnTo>
                <a:lnTo>
                  <a:pt x="0" y="27"/>
                </a:lnTo>
                <a:lnTo>
                  <a:pt x="7" y="34"/>
                </a:lnTo>
                <a:lnTo>
                  <a:pt x="14" y="34"/>
                </a:lnTo>
                <a:lnTo>
                  <a:pt x="21" y="41"/>
                </a:lnTo>
                <a:lnTo>
                  <a:pt x="27" y="41"/>
                </a:lnTo>
                <a:lnTo>
                  <a:pt x="34" y="34"/>
                </a:lnTo>
                <a:lnTo>
                  <a:pt x="41" y="34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1" name=""/>
          <p:cNvSpPr/>
          <p:nvPr/>
        </p:nvSpPr>
        <p:spPr>
          <a:xfrm>
            <a:off x="4737240" y="3438360"/>
            <a:ext cx="21960" cy="22320"/>
          </a:xfrm>
          <a:custGeom>
            <a:avLst/>
            <a:gdLst/>
            <a:ahLst/>
            <a:rect l="l" t="t" r="r" b="b"/>
            <a:pathLst>
              <a:path w="14" h="14">
                <a:moveTo>
                  <a:pt x="14" y="14"/>
                </a:moveTo>
                <a:lnTo>
                  <a:pt x="7" y="7"/>
                </a:lnTo>
                <a:lnTo>
                  <a:pt x="7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7"/>
                </a:lnTo>
                <a:lnTo>
                  <a:pt x="0" y="7"/>
                </a:lnTo>
                <a:lnTo>
                  <a:pt x="0" y="14"/>
                </a:lnTo>
                <a:lnTo>
                  <a:pt x="0" y="14"/>
                </a:lnTo>
                <a:lnTo>
                  <a:pt x="0" y="14"/>
                </a:lnTo>
                <a:lnTo>
                  <a:pt x="7" y="14"/>
                </a:lnTo>
                <a:lnTo>
                  <a:pt x="14" y="14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2" name=""/>
          <p:cNvSpPr/>
          <p:nvPr/>
        </p:nvSpPr>
        <p:spPr>
          <a:xfrm>
            <a:off x="5259240" y="3438360"/>
            <a:ext cx="44640" cy="44640"/>
          </a:xfrm>
          <a:custGeom>
            <a:avLst/>
            <a:gdLst/>
            <a:ahLst/>
            <a:rect l="l" t="t" r="r" b="b"/>
            <a:pathLst>
              <a:path w="28" h="28">
                <a:moveTo>
                  <a:pt x="28" y="14"/>
                </a:moveTo>
                <a:lnTo>
                  <a:pt x="28" y="7"/>
                </a:lnTo>
                <a:lnTo>
                  <a:pt x="21" y="0"/>
                </a:lnTo>
                <a:lnTo>
                  <a:pt x="21" y="0"/>
                </a:lnTo>
                <a:lnTo>
                  <a:pt x="14" y="0"/>
                </a:lnTo>
                <a:lnTo>
                  <a:pt x="7" y="7"/>
                </a:lnTo>
                <a:lnTo>
                  <a:pt x="0" y="7"/>
                </a:lnTo>
                <a:lnTo>
                  <a:pt x="0" y="14"/>
                </a:lnTo>
                <a:lnTo>
                  <a:pt x="7" y="21"/>
                </a:lnTo>
                <a:lnTo>
                  <a:pt x="14" y="28"/>
                </a:lnTo>
                <a:lnTo>
                  <a:pt x="21" y="28"/>
                </a:lnTo>
                <a:lnTo>
                  <a:pt x="21" y="28"/>
                </a:lnTo>
                <a:lnTo>
                  <a:pt x="28" y="21"/>
                </a:lnTo>
                <a:lnTo>
                  <a:pt x="28" y="21"/>
                </a:lnTo>
                <a:lnTo>
                  <a:pt x="28" y="14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3" name=""/>
          <p:cNvSpPr/>
          <p:nvPr/>
        </p:nvSpPr>
        <p:spPr>
          <a:xfrm>
            <a:off x="5456160" y="3449520"/>
            <a:ext cx="20880" cy="11160"/>
          </a:xfrm>
          <a:custGeom>
            <a:avLst/>
            <a:gdLst/>
            <a:ahLst/>
            <a:rect l="l" t="t" r="r" b="b"/>
            <a:pathLst>
              <a:path w="13" h="7">
                <a:moveTo>
                  <a:pt x="13" y="7"/>
                </a:moveTo>
                <a:lnTo>
                  <a:pt x="13" y="0"/>
                </a:lnTo>
                <a:lnTo>
                  <a:pt x="13" y="0"/>
                </a:lnTo>
                <a:lnTo>
                  <a:pt x="7" y="0"/>
                </a:lnTo>
                <a:lnTo>
                  <a:pt x="7" y="0"/>
                </a:lnTo>
                <a:lnTo>
                  <a:pt x="0" y="0"/>
                </a:lnTo>
                <a:lnTo>
                  <a:pt x="0" y="0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13" y="7"/>
                </a:lnTo>
                <a:lnTo>
                  <a:pt x="13" y="7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4" name=""/>
          <p:cNvSpPr/>
          <p:nvPr/>
        </p:nvSpPr>
        <p:spPr>
          <a:xfrm>
            <a:off x="4748040" y="3330720"/>
            <a:ext cx="141480" cy="107640"/>
          </a:xfrm>
          <a:custGeom>
            <a:avLst/>
            <a:gdLst/>
            <a:ahLst/>
            <a:rect l="l" t="t" r="r" b="b"/>
            <a:pathLst>
              <a:path w="89" h="68">
                <a:moveTo>
                  <a:pt x="55" y="48"/>
                </a:moveTo>
                <a:lnTo>
                  <a:pt x="62" y="48"/>
                </a:lnTo>
                <a:lnTo>
                  <a:pt x="62" y="41"/>
                </a:lnTo>
                <a:lnTo>
                  <a:pt x="69" y="34"/>
                </a:lnTo>
                <a:lnTo>
                  <a:pt x="75" y="27"/>
                </a:lnTo>
                <a:lnTo>
                  <a:pt x="82" y="27"/>
                </a:lnTo>
                <a:lnTo>
                  <a:pt x="89" y="21"/>
                </a:lnTo>
                <a:lnTo>
                  <a:pt x="89" y="14"/>
                </a:lnTo>
                <a:lnTo>
                  <a:pt x="89" y="7"/>
                </a:lnTo>
                <a:lnTo>
                  <a:pt x="82" y="0"/>
                </a:lnTo>
                <a:lnTo>
                  <a:pt x="75" y="0"/>
                </a:lnTo>
                <a:lnTo>
                  <a:pt x="69" y="0"/>
                </a:lnTo>
                <a:lnTo>
                  <a:pt x="55" y="0"/>
                </a:lnTo>
                <a:lnTo>
                  <a:pt x="48" y="0"/>
                </a:lnTo>
                <a:lnTo>
                  <a:pt x="34" y="0"/>
                </a:lnTo>
                <a:lnTo>
                  <a:pt x="27" y="7"/>
                </a:lnTo>
                <a:lnTo>
                  <a:pt x="21" y="7"/>
                </a:lnTo>
                <a:lnTo>
                  <a:pt x="14" y="7"/>
                </a:lnTo>
                <a:lnTo>
                  <a:pt x="7" y="14"/>
                </a:lnTo>
                <a:lnTo>
                  <a:pt x="7" y="21"/>
                </a:lnTo>
                <a:lnTo>
                  <a:pt x="7" y="27"/>
                </a:lnTo>
                <a:lnTo>
                  <a:pt x="0" y="34"/>
                </a:lnTo>
                <a:lnTo>
                  <a:pt x="0" y="41"/>
                </a:lnTo>
                <a:lnTo>
                  <a:pt x="7" y="48"/>
                </a:lnTo>
                <a:lnTo>
                  <a:pt x="7" y="48"/>
                </a:lnTo>
                <a:lnTo>
                  <a:pt x="7" y="55"/>
                </a:lnTo>
                <a:lnTo>
                  <a:pt x="14" y="62"/>
                </a:lnTo>
                <a:lnTo>
                  <a:pt x="21" y="62"/>
                </a:lnTo>
                <a:lnTo>
                  <a:pt x="34" y="68"/>
                </a:lnTo>
                <a:lnTo>
                  <a:pt x="41" y="62"/>
                </a:lnTo>
                <a:lnTo>
                  <a:pt x="48" y="62"/>
                </a:lnTo>
                <a:lnTo>
                  <a:pt x="55" y="55"/>
                </a:lnTo>
                <a:lnTo>
                  <a:pt x="55" y="48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5" name=""/>
          <p:cNvSpPr/>
          <p:nvPr/>
        </p:nvSpPr>
        <p:spPr>
          <a:xfrm>
            <a:off x="5315040" y="3395520"/>
            <a:ext cx="42840" cy="33480"/>
          </a:xfrm>
          <a:custGeom>
            <a:avLst/>
            <a:gdLst/>
            <a:ahLst/>
            <a:rect l="l" t="t" r="r" b="b"/>
            <a:pathLst>
              <a:path w="27" h="21">
                <a:moveTo>
                  <a:pt x="27" y="7"/>
                </a:moveTo>
                <a:lnTo>
                  <a:pt x="27" y="7"/>
                </a:lnTo>
                <a:lnTo>
                  <a:pt x="20" y="0"/>
                </a:lnTo>
                <a:lnTo>
                  <a:pt x="13" y="0"/>
                </a:lnTo>
                <a:lnTo>
                  <a:pt x="13" y="0"/>
                </a:lnTo>
                <a:lnTo>
                  <a:pt x="6" y="0"/>
                </a:lnTo>
                <a:lnTo>
                  <a:pt x="0" y="7"/>
                </a:lnTo>
                <a:lnTo>
                  <a:pt x="0" y="14"/>
                </a:lnTo>
                <a:lnTo>
                  <a:pt x="6" y="14"/>
                </a:lnTo>
                <a:lnTo>
                  <a:pt x="6" y="21"/>
                </a:lnTo>
                <a:lnTo>
                  <a:pt x="13" y="21"/>
                </a:lnTo>
                <a:lnTo>
                  <a:pt x="13" y="21"/>
                </a:lnTo>
                <a:lnTo>
                  <a:pt x="20" y="21"/>
                </a:lnTo>
                <a:lnTo>
                  <a:pt x="27" y="14"/>
                </a:lnTo>
                <a:lnTo>
                  <a:pt x="27" y="7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6" name=""/>
          <p:cNvSpPr/>
          <p:nvPr/>
        </p:nvSpPr>
        <p:spPr>
          <a:xfrm>
            <a:off x="4638600" y="3363840"/>
            <a:ext cx="11160" cy="1800"/>
          </a:xfrm>
          <a:custGeom>
            <a:avLst/>
            <a:gdLst/>
            <a:ahLst/>
            <a:rect l="l" t="t" r="r" b="b"/>
            <a:pathLst>
              <a:path w="7" h="0">
                <a:moveTo>
                  <a:pt x="7" y="0"/>
                </a:move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0" y="0"/>
                </a:lnTo>
                <a:lnTo>
                  <a:pt x="0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7" name=""/>
          <p:cNvSpPr/>
          <p:nvPr/>
        </p:nvSpPr>
        <p:spPr>
          <a:xfrm>
            <a:off x="5281560" y="3352680"/>
            <a:ext cx="11160" cy="20880"/>
          </a:xfrm>
          <a:custGeom>
            <a:avLst/>
            <a:gdLst/>
            <a:ahLst/>
            <a:rect l="l" t="t" r="r" b="b"/>
            <a:pathLst>
              <a:path w="7" h="13">
                <a:moveTo>
                  <a:pt x="7" y="7"/>
                </a:moveTo>
                <a:lnTo>
                  <a:pt x="7" y="7"/>
                </a:lnTo>
                <a:lnTo>
                  <a:pt x="7" y="0"/>
                </a:lnTo>
                <a:lnTo>
                  <a:pt x="7" y="0"/>
                </a:lnTo>
                <a:lnTo>
                  <a:pt x="0" y="0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13"/>
                </a:lnTo>
                <a:lnTo>
                  <a:pt x="0" y="13"/>
                </a:lnTo>
                <a:lnTo>
                  <a:pt x="7" y="13"/>
                </a:lnTo>
                <a:lnTo>
                  <a:pt x="7" y="13"/>
                </a:lnTo>
                <a:lnTo>
                  <a:pt x="7" y="13"/>
                </a:lnTo>
                <a:lnTo>
                  <a:pt x="7" y="13"/>
                </a:lnTo>
                <a:lnTo>
                  <a:pt x="7" y="7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8" name=""/>
          <p:cNvSpPr/>
          <p:nvPr/>
        </p:nvSpPr>
        <p:spPr>
          <a:xfrm>
            <a:off x="5467320" y="3308400"/>
            <a:ext cx="65160" cy="33120"/>
          </a:xfrm>
          <a:custGeom>
            <a:avLst/>
            <a:gdLst/>
            <a:ahLst/>
            <a:rect l="l" t="t" r="r" b="b"/>
            <a:pathLst>
              <a:path w="41" h="21">
                <a:moveTo>
                  <a:pt x="41" y="7"/>
                </a:moveTo>
                <a:lnTo>
                  <a:pt x="34" y="7"/>
                </a:lnTo>
                <a:lnTo>
                  <a:pt x="27" y="0"/>
                </a:lnTo>
                <a:lnTo>
                  <a:pt x="27" y="0"/>
                </a:lnTo>
                <a:lnTo>
                  <a:pt x="20" y="0"/>
                </a:lnTo>
                <a:lnTo>
                  <a:pt x="13" y="0"/>
                </a:lnTo>
                <a:lnTo>
                  <a:pt x="6" y="7"/>
                </a:lnTo>
                <a:lnTo>
                  <a:pt x="0" y="7"/>
                </a:lnTo>
                <a:lnTo>
                  <a:pt x="0" y="7"/>
                </a:lnTo>
                <a:lnTo>
                  <a:pt x="6" y="7"/>
                </a:lnTo>
                <a:lnTo>
                  <a:pt x="13" y="14"/>
                </a:lnTo>
                <a:lnTo>
                  <a:pt x="20" y="14"/>
                </a:lnTo>
                <a:lnTo>
                  <a:pt x="20" y="14"/>
                </a:lnTo>
                <a:lnTo>
                  <a:pt x="27" y="21"/>
                </a:lnTo>
                <a:lnTo>
                  <a:pt x="27" y="21"/>
                </a:lnTo>
                <a:lnTo>
                  <a:pt x="34" y="21"/>
                </a:lnTo>
                <a:lnTo>
                  <a:pt x="34" y="21"/>
                </a:lnTo>
                <a:lnTo>
                  <a:pt x="34" y="21"/>
                </a:lnTo>
                <a:lnTo>
                  <a:pt x="34" y="14"/>
                </a:lnTo>
                <a:lnTo>
                  <a:pt x="41" y="14"/>
                </a:lnTo>
                <a:lnTo>
                  <a:pt x="41" y="7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9" name=""/>
          <p:cNvSpPr/>
          <p:nvPr/>
        </p:nvSpPr>
        <p:spPr>
          <a:xfrm flipV="1">
            <a:off x="2811600" y="3276360"/>
            <a:ext cx="20520" cy="21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0" name=""/>
          <p:cNvSpPr/>
          <p:nvPr/>
        </p:nvSpPr>
        <p:spPr>
          <a:xfrm>
            <a:off x="5238720" y="3265560"/>
            <a:ext cx="9720" cy="22320"/>
          </a:xfrm>
          <a:custGeom>
            <a:avLst/>
            <a:gdLst/>
            <a:ahLst/>
            <a:rect l="l" t="t" r="r" b="b"/>
            <a:pathLst>
              <a:path w="6" h="14">
                <a:moveTo>
                  <a:pt x="6" y="7"/>
                </a:moveTo>
                <a:lnTo>
                  <a:pt x="6" y="0"/>
                </a:lnTo>
                <a:lnTo>
                  <a:pt x="6" y="0"/>
                </a:lnTo>
                <a:lnTo>
                  <a:pt x="0" y="0"/>
                </a:lnTo>
                <a:lnTo>
                  <a:pt x="0" y="0"/>
                </a:lnTo>
                <a:lnTo>
                  <a:pt x="0" y="7"/>
                </a:lnTo>
                <a:lnTo>
                  <a:pt x="0" y="7"/>
                </a:lnTo>
                <a:lnTo>
                  <a:pt x="0" y="14"/>
                </a:lnTo>
                <a:lnTo>
                  <a:pt x="0" y="14"/>
                </a:lnTo>
                <a:lnTo>
                  <a:pt x="0" y="14"/>
                </a:lnTo>
                <a:lnTo>
                  <a:pt x="6" y="14"/>
                </a:lnTo>
                <a:lnTo>
                  <a:pt x="6" y="14"/>
                </a:lnTo>
                <a:lnTo>
                  <a:pt x="6" y="14"/>
                </a:lnTo>
                <a:lnTo>
                  <a:pt x="6" y="7"/>
                </a:lnTo>
                <a:lnTo>
                  <a:pt x="6" y="7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1" name=""/>
          <p:cNvSpPr/>
          <p:nvPr/>
        </p:nvSpPr>
        <p:spPr>
          <a:xfrm>
            <a:off x="4095720" y="2863800"/>
            <a:ext cx="500040" cy="282600"/>
          </a:xfrm>
          <a:custGeom>
            <a:avLst/>
            <a:gdLst/>
            <a:ahLst/>
            <a:rect l="l" t="t" r="r" b="b"/>
            <a:pathLst>
              <a:path w="315" h="178">
                <a:moveTo>
                  <a:pt x="41" y="171"/>
                </a:moveTo>
                <a:lnTo>
                  <a:pt x="41" y="164"/>
                </a:lnTo>
                <a:lnTo>
                  <a:pt x="48" y="157"/>
                </a:lnTo>
                <a:lnTo>
                  <a:pt x="55" y="157"/>
                </a:lnTo>
                <a:lnTo>
                  <a:pt x="61" y="150"/>
                </a:lnTo>
                <a:lnTo>
                  <a:pt x="68" y="150"/>
                </a:lnTo>
                <a:lnTo>
                  <a:pt x="75" y="144"/>
                </a:lnTo>
                <a:lnTo>
                  <a:pt x="82" y="144"/>
                </a:lnTo>
                <a:lnTo>
                  <a:pt x="89" y="144"/>
                </a:lnTo>
                <a:lnTo>
                  <a:pt x="102" y="144"/>
                </a:lnTo>
                <a:lnTo>
                  <a:pt x="109" y="144"/>
                </a:lnTo>
                <a:lnTo>
                  <a:pt x="116" y="144"/>
                </a:lnTo>
                <a:lnTo>
                  <a:pt x="123" y="137"/>
                </a:lnTo>
                <a:lnTo>
                  <a:pt x="123" y="130"/>
                </a:lnTo>
                <a:lnTo>
                  <a:pt x="130" y="123"/>
                </a:lnTo>
                <a:lnTo>
                  <a:pt x="137" y="123"/>
                </a:lnTo>
                <a:lnTo>
                  <a:pt x="144" y="116"/>
                </a:lnTo>
                <a:lnTo>
                  <a:pt x="150" y="116"/>
                </a:lnTo>
                <a:lnTo>
                  <a:pt x="157" y="116"/>
                </a:lnTo>
                <a:lnTo>
                  <a:pt x="171" y="116"/>
                </a:lnTo>
                <a:lnTo>
                  <a:pt x="178" y="109"/>
                </a:lnTo>
                <a:lnTo>
                  <a:pt x="178" y="102"/>
                </a:lnTo>
                <a:lnTo>
                  <a:pt x="185" y="102"/>
                </a:lnTo>
                <a:lnTo>
                  <a:pt x="185" y="96"/>
                </a:lnTo>
                <a:lnTo>
                  <a:pt x="192" y="89"/>
                </a:lnTo>
                <a:lnTo>
                  <a:pt x="198" y="82"/>
                </a:lnTo>
                <a:lnTo>
                  <a:pt x="205" y="82"/>
                </a:lnTo>
                <a:lnTo>
                  <a:pt x="212" y="75"/>
                </a:lnTo>
                <a:lnTo>
                  <a:pt x="219" y="75"/>
                </a:lnTo>
                <a:lnTo>
                  <a:pt x="219" y="68"/>
                </a:lnTo>
                <a:lnTo>
                  <a:pt x="226" y="68"/>
                </a:lnTo>
                <a:lnTo>
                  <a:pt x="240" y="68"/>
                </a:lnTo>
                <a:lnTo>
                  <a:pt x="246" y="68"/>
                </a:lnTo>
                <a:lnTo>
                  <a:pt x="253" y="68"/>
                </a:lnTo>
                <a:lnTo>
                  <a:pt x="260" y="61"/>
                </a:lnTo>
                <a:lnTo>
                  <a:pt x="267" y="61"/>
                </a:lnTo>
                <a:lnTo>
                  <a:pt x="267" y="55"/>
                </a:lnTo>
                <a:lnTo>
                  <a:pt x="267" y="48"/>
                </a:lnTo>
                <a:lnTo>
                  <a:pt x="274" y="41"/>
                </a:lnTo>
                <a:lnTo>
                  <a:pt x="274" y="34"/>
                </a:lnTo>
                <a:lnTo>
                  <a:pt x="281" y="34"/>
                </a:lnTo>
                <a:lnTo>
                  <a:pt x="288" y="27"/>
                </a:lnTo>
                <a:lnTo>
                  <a:pt x="301" y="27"/>
                </a:lnTo>
                <a:lnTo>
                  <a:pt x="308" y="27"/>
                </a:lnTo>
                <a:lnTo>
                  <a:pt x="315" y="27"/>
                </a:lnTo>
                <a:lnTo>
                  <a:pt x="315" y="20"/>
                </a:lnTo>
                <a:lnTo>
                  <a:pt x="315" y="14"/>
                </a:lnTo>
                <a:lnTo>
                  <a:pt x="308" y="7"/>
                </a:lnTo>
                <a:lnTo>
                  <a:pt x="301" y="0"/>
                </a:lnTo>
                <a:lnTo>
                  <a:pt x="294" y="0"/>
                </a:lnTo>
                <a:lnTo>
                  <a:pt x="288" y="0"/>
                </a:lnTo>
                <a:lnTo>
                  <a:pt x="274" y="0"/>
                </a:lnTo>
                <a:lnTo>
                  <a:pt x="267" y="7"/>
                </a:lnTo>
                <a:lnTo>
                  <a:pt x="260" y="7"/>
                </a:lnTo>
                <a:lnTo>
                  <a:pt x="253" y="14"/>
                </a:lnTo>
                <a:lnTo>
                  <a:pt x="246" y="14"/>
                </a:lnTo>
                <a:lnTo>
                  <a:pt x="240" y="20"/>
                </a:lnTo>
                <a:lnTo>
                  <a:pt x="233" y="20"/>
                </a:lnTo>
                <a:lnTo>
                  <a:pt x="219" y="20"/>
                </a:lnTo>
                <a:lnTo>
                  <a:pt x="212" y="14"/>
                </a:lnTo>
                <a:lnTo>
                  <a:pt x="205" y="20"/>
                </a:lnTo>
                <a:lnTo>
                  <a:pt x="198" y="20"/>
                </a:lnTo>
                <a:lnTo>
                  <a:pt x="192" y="27"/>
                </a:lnTo>
                <a:lnTo>
                  <a:pt x="192" y="34"/>
                </a:lnTo>
                <a:lnTo>
                  <a:pt x="178" y="34"/>
                </a:lnTo>
                <a:lnTo>
                  <a:pt x="171" y="41"/>
                </a:lnTo>
                <a:lnTo>
                  <a:pt x="164" y="41"/>
                </a:lnTo>
                <a:lnTo>
                  <a:pt x="157" y="41"/>
                </a:lnTo>
                <a:lnTo>
                  <a:pt x="150" y="48"/>
                </a:lnTo>
                <a:lnTo>
                  <a:pt x="137" y="48"/>
                </a:lnTo>
                <a:lnTo>
                  <a:pt x="130" y="48"/>
                </a:lnTo>
                <a:lnTo>
                  <a:pt x="123" y="48"/>
                </a:lnTo>
                <a:lnTo>
                  <a:pt x="116" y="48"/>
                </a:lnTo>
                <a:lnTo>
                  <a:pt x="116" y="55"/>
                </a:lnTo>
                <a:lnTo>
                  <a:pt x="116" y="61"/>
                </a:lnTo>
                <a:lnTo>
                  <a:pt x="116" y="68"/>
                </a:lnTo>
                <a:lnTo>
                  <a:pt x="116" y="68"/>
                </a:lnTo>
                <a:lnTo>
                  <a:pt x="123" y="75"/>
                </a:lnTo>
                <a:lnTo>
                  <a:pt x="123" y="82"/>
                </a:lnTo>
                <a:lnTo>
                  <a:pt x="123" y="89"/>
                </a:lnTo>
                <a:lnTo>
                  <a:pt x="116" y="89"/>
                </a:lnTo>
                <a:lnTo>
                  <a:pt x="109" y="96"/>
                </a:lnTo>
                <a:lnTo>
                  <a:pt x="102" y="96"/>
                </a:lnTo>
                <a:lnTo>
                  <a:pt x="96" y="102"/>
                </a:lnTo>
                <a:lnTo>
                  <a:pt x="89" y="102"/>
                </a:lnTo>
                <a:lnTo>
                  <a:pt x="82" y="109"/>
                </a:lnTo>
                <a:lnTo>
                  <a:pt x="75" y="109"/>
                </a:lnTo>
                <a:lnTo>
                  <a:pt x="68" y="116"/>
                </a:lnTo>
                <a:lnTo>
                  <a:pt x="61" y="116"/>
                </a:lnTo>
                <a:lnTo>
                  <a:pt x="55" y="123"/>
                </a:lnTo>
                <a:lnTo>
                  <a:pt x="48" y="123"/>
                </a:lnTo>
                <a:lnTo>
                  <a:pt x="41" y="130"/>
                </a:lnTo>
                <a:lnTo>
                  <a:pt x="34" y="137"/>
                </a:lnTo>
                <a:lnTo>
                  <a:pt x="27" y="137"/>
                </a:lnTo>
                <a:lnTo>
                  <a:pt x="20" y="144"/>
                </a:lnTo>
                <a:lnTo>
                  <a:pt x="13" y="144"/>
                </a:lnTo>
                <a:lnTo>
                  <a:pt x="7" y="150"/>
                </a:lnTo>
                <a:lnTo>
                  <a:pt x="0" y="157"/>
                </a:lnTo>
                <a:lnTo>
                  <a:pt x="0" y="164"/>
                </a:lnTo>
                <a:lnTo>
                  <a:pt x="0" y="171"/>
                </a:lnTo>
                <a:lnTo>
                  <a:pt x="7" y="171"/>
                </a:lnTo>
                <a:lnTo>
                  <a:pt x="13" y="178"/>
                </a:lnTo>
                <a:lnTo>
                  <a:pt x="27" y="178"/>
                </a:lnTo>
                <a:lnTo>
                  <a:pt x="34" y="178"/>
                </a:lnTo>
                <a:lnTo>
                  <a:pt x="41" y="171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2" name=""/>
          <p:cNvSpPr/>
          <p:nvPr/>
        </p:nvSpPr>
        <p:spPr>
          <a:xfrm>
            <a:off x="6151680" y="2886120"/>
            <a:ext cx="109440" cy="31680"/>
          </a:xfrm>
          <a:custGeom>
            <a:avLst/>
            <a:gdLst/>
            <a:ahLst/>
            <a:rect l="l" t="t" r="r" b="b"/>
            <a:pathLst>
              <a:path w="69" h="20">
                <a:moveTo>
                  <a:pt x="69" y="13"/>
                </a:moveTo>
                <a:lnTo>
                  <a:pt x="62" y="6"/>
                </a:lnTo>
                <a:lnTo>
                  <a:pt x="62" y="6"/>
                </a:lnTo>
                <a:lnTo>
                  <a:pt x="55" y="6"/>
                </a:lnTo>
                <a:lnTo>
                  <a:pt x="48" y="6"/>
                </a:lnTo>
                <a:lnTo>
                  <a:pt x="42" y="0"/>
                </a:lnTo>
                <a:lnTo>
                  <a:pt x="35" y="0"/>
                </a:lnTo>
                <a:lnTo>
                  <a:pt x="28" y="0"/>
                </a:lnTo>
                <a:lnTo>
                  <a:pt x="21" y="0"/>
                </a:lnTo>
                <a:lnTo>
                  <a:pt x="14" y="0"/>
                </a:lnTo>
                <a:lnTo>
                  <a:pt x="14" y="0"/>
                </a:lnTo>
                <a:lnTo>
                  <a:pt x="7" y="0"/>
                </a:lnTo>
                <a:lnTo>
                  <a:pt x="7" y="0"/>
                </a:lnTo>
                <a:lnTo>
                  <a:pt x="0" y="6"/>
                </a:lnTo>
                <a:lnTo>
                  <a:pt x="0" y="13"/>
                </a:lnTo>
                <a:lnTo>
                  <a:pt x="7" y="13"/>
                </a:lnTo>
                <a:lnTo>
                  <a:pt x="7" y="13"/>
                </a:lnTo>
                <a:lnTo>
                  <a:pt x="14" y="20"/>
                </a:lnTo>
                <a:lnTo>
                  <a:pt x="21" y="20"/>
                </a:lnTo>
                <a:lnTo>
                  <a:pt x="28" y="20"/>
                </a:lnTo>
                <a:lnTo>
                  <a:pt x="35" y="20"/>
                </a:lnTo>
                <a:lnTo>
                  <a:pt x="42" y="13"/>
                </a:lnTo>
                <a:lnTo>
                  <a:pt x="48" y="13"/>
                </a:lnTo>
                <a:lnTo>
                  <a:pt x="48" y="13"/>
                </a:lnTo>
                <a:lnTo>
                  <a:pt x="55" y="13"/>
                </a:lnTo>
                <a:lnTo>
                  <a:pt x="62" y="13"/>
                </a:lnTo>
                <a:lnTo>
                  <a:pt x="69" y="13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3" name=""/>
          <p:cNvSpPr/>
          <p:nvPr/>
        </p:nvSpPr>
        <p:spPr>
          <a:xfrm>
            <a:off x="4552920" y="2830680"/>
            <a:ext cx="141480" cy="64800"/>
          </a:xfrm>
          <a:custGeom>
            <a:avLst/>
            <a:gdLst/>
            <a:ahLst/>
            <a:rect l="l" t="t" r="r" b="b"/>
            <a:pathLst>
              <a:path w="89" h="41">
                <a:moveTo>
                  <a:pt x="89" y="14"/>
                </a:moveTo>
                <a:lnTo>
                  <a:pt x="89" y="7"/>
                </a:lnTo>
                <a:lnTo>
                  <a:pt x="89" y="7"/>
                </a:lnTo>
                <a:lnTo>
                  <a:pt x="82" y="0"/>
                </a:lnTo>
                <a:lnTo>
                  <a:pt x="75" y="0"/>
                </a:lnTo>
                <a:lnTo>
                  <a:pt x="61" y="7"/>
                </a:lnTo>
                <a:lnTo>
                  <a:pt x="54" y="7"/>
                </a:lnTo>
                <a:lnTo>
                  <a:pt x="48" y="7"/>
                </a:lnTo>
                <a:lnTo>
                  <a:pt x="34" y="7"/>
                </a:lnTo>
                <a:lnTo>
                  <a:pt x="27" y="7"/>
                </a:lnTo>
                <a:lnTo>
                  <a:pt x="20" y="7"/>
                </a:lnTo>
                <a:lnTo>
                  <a:pt x="6" y="14"/>
                </a:lnTo>
                <a:lnTo>
                  <a:pt x="0" y="14"/>
                </a:lnTo>
                <a:lnTo>
                  <a:pt x="0" y="21"/>
                </a:lnTo>
                <a:lnTo>
                  <a:pt x="6" y="28"/>
                </a:lnTo>
                <a:lnTo>
                  <a:pt x="13" y="35"/>
                </a:lnTo>
                <a:lnTo>
                  <a:pt x="20" y="35"/>
                </a:lnTo>
                <a:lnTo>
                  <a:pt x="27" y="41"/>
                </a:lnTo>
                <a:lnTo>
                  <a:pt x="41" y="41"/>
                </a:lnTo>
                <a:lnTo>
                  <a:pt x="48" y="41"/>
                </a:lnTo>
                <a:lnTo>
                  <a:pt x="54" y="41"/>
                </a:lnTo>
                <a:lnTo>
                  <a:pt x="61" y="41"/>
                </a:lnTo>
                <a:lnTo>
                  <a:pt x="68" y="35"/>
                </a:lnTo>
                <a:lnTo>
                  <a:pt x="75" y="28"/>
                </a:lnTo>
                <a:lnTo>
                  <a:pt x="75" y="21"/>
                </a:lnTo>
                <a:lnTo>
                  <a:pt x="82" y="21"/>
                </a:lnTo>
                <a:lnTo>
                  <a:pt x="89" y="14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4" name=""/>
          <p:cNvSpPr/>
          <p:nvPr/>
        </p:nvSpPr>
        <p:spPr>
          <a:xfrm>
            <a:off x="6021360" y="2852640"/>
            <a:ext cx="22320" cy="1800"/>
          </a:xfrm>
          <a:custGeom>
            <a:avLst/>
            <a:gdLst/>
            <a:ahLst/>
            <a:rect l="l" t="t" r="r" b="b"/>
            <a:pathLst>
              <a:path w="14" h="0">
                <a:moveTo>
                  <a:pt x="14" y="0"/>
                </a:moveTo>
                <a:lnTo>
                  <a:pt x="14" y="0"/>
                </a:lnTo>
                <a:lnTo>
                  <a:pt x="14" y="0"/>
                </a:lnTo>
                <a:lnTo>
                  <a:pt x="7" y="0"/>
                </a:lnTo>
                <a:lnTo>
                  <a:pt x="7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7" y="0"/>
                </a:lnTo>
                <a:lnTo>
                  <a:pt x="7" y="0"/>
                </a:lnTo>
                <a:lnTo>
                  <a:pt x="14" y="0"/>
                </a:lnTo>
                <a:lnTo>
                  <a:pt x="14" y="0"/>
                </a:lnTo>
                <a:lnTo>
                  <a:pt x="14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5" name=""/>
          <p:cNvSpPr/>
          <p:nvPr/>
        </p:nvSpPr>
        <p:spPr>
          <a:xfrm>
            <a:off x="4714920" y="2787480"/>
            <a:ext cx="87120" cy="32040"/>
          </a:xfrm>
          <a:custGeom>
            <a:avLst/>
            <a:gdLst/>
            <a:ahLst/>
            <a:rect l="l" t="t" r="r" b="b"/>
            <a:pathLst>
              <a:path w="55" h="20">
                <a:moveTo>
                  <a:pt x="55" y="14"/>
                </a:moveTo>
                <a:lnTo>
                  <a:pt x="55" y="14"/>
                </a:lnTo>
                <a:lnTo>
                  <a:pt x="48" y="14"/>
                </a:lnTo>
                <a:lnTo>
                  <a:pt x="42" y="7"/>
                </a:lnTo>
                <a:lnTo>
                  <a:pt x="35" y="7"/>
                </a:lnTo>
                <a:lnTo>
                  <a:pt x="28" y="7"/>
                </a:lnTo>
                <a:lnTo>
                  <a:pt x="21" y="0"/>
                </a:lnTo>
                <a:lnTo>
                  <a:pt x="14" y="0"/>
                </a:lnTo>
                <a:lnTo>
                  <a:pt x="7" y="7"/>
                </a:lnTo>
                <a:lnTo>
                  <a:pt x="0" y="7"/>
                </a:lnTo>
                <a:lnTo>
                  <a:pt x="0" y="14"/>
                </a:lnTo>
                <a:lnTo>
                  <a:pt x="0" y="14"/>
                </a:lnTo>
                <a:lnTo>
                  <a:pt x="7" y="20"/>
                </a:lnTo>
                <a:lnTo>
                  <a:pt x="14" y="20"/>
                </a:lnTo>
                <a:lnTo>
                  <a:pt x="21" y="20"/>
                </a:lnTo>
                <a:lnTo>
                  <a:pt x="28" y="20"/>
                </a:lnTo>
                <a:lnTo>
                  <a:pt x="35" y="20"/>
                </a:lnTo>
                <a:lnTo>
                  <a:pt x="42" y="20"/>
                </a:lnTo>
                <a:lnTo>
                  <a:pt x="48" y="20"/>
                </a:lnTo>
                <a:lnTo>
                  <a:pt x="55" y="20"/>
                </a:lnTo>
                <a:lnTo>
                  <a:pt x="55" y="14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6" name=""/>
          <p:cNvGrpSpPr/>
          <p:nvPr/>
        </p:nvGrpSpPr>
        <p:grpSpPr>
          <a:xfrm>
            <a:off x="3398760" y="1244520"/>
            <a:ext cx="3689280" cy="5214960"/>
            <a:chOff x="3398760" y="1244520"/>
            <a:chExt cx="3689280" cy="5214960"/>
          </a:xfrm>
        </p:grpSpPr>
        <p:sp>
          <p:nvSpPr>
            <p:cNvPr id="3777" name=""/>
            <p:cNvSpPr/>
            <p:nvPr/>
          </p:nvSpPr>
          <p:spPr>
            <a:xfrm>
              <a:off x="3398760" y="1244520"/>
              <a:ext cx="3689280" cy="5214960"/>
            </a:xfrm>
            <a:custGeom>
              <a:avLst/>
              <a:gdLst/>
              <a:ahLst/>
              <a:rect l="l" t="t" r="r" b="b"/>
              <a:pathLst>
                <a:path w="2324" h="3285">
                  <a:moveTo>
                    <a:pt x="980" y="3285"/>
                  </a:moveTo>
                  <a:lnTo>
                    <a:pt x="1015" y="3251"/>
                  </a:lnTo>
                  <a:lnTo>
                    <a:pt x="1042" y="3251"/>
                  </a:lnTo>
                  <a:lnTo>
                    <a:pt x="1076" y="3216"/>
                  </a:lnTo>
                  <a:lnTo>
                    <a:pt x="1111" y="3216"/>
                  </a:lnTo>
                  <a:lnTo>
                    <a:pt x="1145" y="3216"/>
                  </a:lnTo>
                  <a:lnTo>
                    <a:pt x="1179" y="3182"/>
                  </a:lnTo>
                  <a:lnTo>
                    <a:pt x="1213" y="3182"/>
                  </a:lnTo>
                  <a:lnTo>
                    <a:pt x="1248" y="3148"/>
                  </a:lnTo>
                  <a:lnTo>
                    <a:pt x="1282" y="3148"/>
                  </a:lnTo>
                  <a:lnTo>
                    <a:pt x="1316" y="3114"/>
                  </a:lnTo>
                  <a:lnTo>
                    <a:pt x="1350" y="3114"/>
                  </a:lnTo>
                  <a:lnTo>
                    <a:pt x="1385" y="3114"/>
                  </a:lnTo>
                  <a:lnTo>
                    <a:pt x="1385" y="3079"/>
                  </a:lnTo>
                  <a:lnTo>
                    <a:pt x="1419" y="3045"/>
                  </a:lnTo>
                  <a:lnTo>
                    <a:pt x="1419" y="3011"/>
                  </a:lnTo>
                  <a:lnTo>
                    <a:pt x="1446" y="2977"/>
                  </a:lnTo>
                  <a:lnTo>
                    <a:pt x="1446" y="2943"/>
                  </a:lnTo>
                  <a:lnTo>
                    <a:pt x="1481" y="2915"/>
                  </a:lnTo>
                  <a:lnTo>
                    <a:pt x="1481" y="2881"/>
                  </a:lnTo>
                  <a:lnTo>
                    <a:pt x="1515" y="2847"/>
                  </a:lnTo>
                  <a:lnTo>
                    <a:pt x="1549" y="2813"/>
                  </a:lnTo>
                  <a:lnTo>
                    <a:pt x="1549" y="2778"/>
                  </a:lnTo>
                  <a:lnTo>
                    <a:pt x="1584" y="2744"/>
                  </a:lnTo>
                  <a:lnTo>
                    <a:pt x="1584" y="2710"/>
                  </a:lnTo>
                  <a:lnTo>
                    <a:pt x="1618" y="2676"/>
                  </a:lnTo>
                  <a:lnTo>
                    <a:pt x="1618" y="2642"/>
                  </a:lnTo>
                  <a:lnTo>
                    <a:pt x="1652" y="2607"/>
                  </a:lnTo>
                  <a:lnTo>
                    <a:pt x="1652" y="2573"/>
                  </a:lnTo>
                  <a:lnTo>
                    <a:pt x="1686" y="2539"/>
                  </a:lnTo>
                  <a:lnTo>
                    <a:pt x="1686" y="2505"/>
                  </a:lnTo>
                  <a:lnTo>
                    <a:pt x="1721" y="2470"/>
                  </a:lnTo>
                  <a:lnTo>
                    <a:pt x="1721" y="2436"/>
                  </a:lnTo>
                  <a:lnTo>
                    <a:pt x="1755" y="2402"/>
                  </a:lnTo>
                  <a:lnTo>
                    <a:pt x="1755" y="2368"/>
                  </a:lnTo>
                  <a:lnTo>
                    <a:pt x="1789" y="2334"/>
                  </a:lnTo>
                  <a:lnTo>
                    <a:pt x="1824" y="2299"/>
                  </a:lnTo>
                  <a:lnTo>
                    <a:pt x="1824" y="2272"/>
                  </a:lnTo>
                  <a:lnTo>
                    <a:pt x="1851" y="2238"/>
                  </a:lnTo>
                  <a:lnTo>
                    <a:pt x="1851" y="2204"/>
                  </a:lnTo>
                  <a:lnTo>
                    <a:pt x="1885" y="2169"/>
                  </a:lnTo>
                  <a:lnTo>
                    <a:pt x="1885" y="2135"/>
                  </a:lnTo>
                  <a:lnTo>
                    <a:pt x="1920" y="2101"/>
                  </a:lnTo>
                  <a:lnTo>
                    <a:pt x="1920" y="2067"/>
                  </a:lnTo>
                  <a:lnTo>
                    <a:pt x="1954" y="2033"/>
                  </a:lnTo>
                  <a:lnTo>
                    <a:pt x="1954" y="1998"/>
                  </a:lnTo>
                  <a:lnTo>
                    <a:pt x="1988" y="1964"/>
                  </a:lnTo>
                  <a:lnTo>
                    <a:pt x="1988" y="1930"/>
                  </a:lnTo>
                  <a:lnTo>
                    <a:pt x="2022" y="1896"/>
                  </a:lnTo>
                  <a:lnTo>
                    <a:pt x="2022" y="1861"/>
                  </a:lnTo>
                  <a:lnTo>
                    <a:pt x="2022" y="1855"/>
                  </a:lnTo>
                  <a:lnTo>
                    <a:pt x="2016" y="1855"/>
                  </a:lnTo>
                  <a:lnTo>
                    <a:pt x="2009" y="1861"/>
                  </a:lnTo>
                  <a:lnTo>
                    <a:pt x="2002" y="1868"/>
                  </a:lnTo>
                  <a:lnTo>
                    <a:pt x="1995" y="1868"/>
                  </a:lnTo>
                  <a:lnTo>
                    <a:pt x="1988" y="1868"/>
                  </a:lnTo>
                  <a:lnTo>
                    <a:pt x="1981" y="1861"/>
                  </a:lnTo>
                  <a:lnTo>
                    <a:pt x="1981" y="1848"/>
                  </a:lnTo>
                  <a:lnTo>
                    <a:pt x="1981" y="1841"/>
                  </a:lnTo>
                  <a:lnTo>
                    <a:pt x="1981" y="1827"/>
                  </a:lnTo>
                  <a:lnTo>
                    <a:pt x="1988" y="1814"/>
                  </a:lnTo>
                  <a:lnTo>
                    <a:pt x="1988" y="1807"/>
                  </a:lnTo>
                  <a:lnTo>
                    <a:pt x="1988" y="1793"/>
                  </a:lnTo>
                  <a:lnTo>
                    <a:pt x="1995" y="1786"/>
                  </a:lnTo>
                  <a:lnTo>
                    <a:pt x="1995" y="1773"/>
                  </a:lnTo>
                  <a:lnTo>
                    <a:pt x="2002" y="1766"/>
                  </a:lnTo>
                  <a:lnTo>
                    <a:pt x="2002" y="1759"/>
                  </a:lnTo>
                  <a:lnTo>
                    <a:pt x="1995" y="1745"/>
                  </a:lnTo>
                  <a:lnTo>
                    <a:pt x="1988" y="1738"/>
                  </a:lnTo>
                  <a:lnTo>
                    <a:pt x="1981" y="1738"/>
                  </a:lnTo>
                  <a:lnTo>
                    <a:pt x="1974" y="1738"/>
                  </a:lnTo>
                  <a:lnTo>
                    <a:pt x="1968" y="1745"/>
                  </a:lnTo>
                  <a:lnTo>
                    <a:pt x="1961" y="1745"/>
                  </a:lnTo>
                  <a:lnTo>
                    <a:pt x="1947" y="1752"/>
                  </a:lnTo>
                  <a:lnTo>
                    <a:pt x="1940" y="1759"/>
                  </a:lnTo>
                  <a:lnTo>
                    <a:pt x="1933" y="1759"/>
                  </a:lnTo>
                  <a:lnTo>
                    <a:pt x="1926" y="1766"/>
                  </a:lnTo>
                  <a:lnTo>
                    <a:pt x="1920" y="1773"/>
                  </a:lnTo>
                  <a:lnTo>
                    <a:pt x="1913" y="1773"/>
                  </a:lnTo>
                  <a:lnTo>
                    <a:pt x="1906" y="1773"/>
                  </a:lnTo>
                  <a:lnTo>
                    <a:pt x="1899" y="1779"/>
                  </a:lnTo>
                  <a:lnTo>
                    <a:pt x="1892" y="1779"/>
                  </a:lnTo>
                  <a:lnTo>
                    <a:pt x="1885" y="1779"/>
                  </a:lnTo>
                  <a:lnTo>
                    <a:pt x="1878" y="1779"/>
                  </a:lnTo>
                  <a:lnTo>
                    <a:pt x="1865" y="1779"/>
                  </a:lnTo>
                  <a:lnTo>
                    <a:pt x="1858" y="1779"/>
                  </a:lnTo>
                  <a:lnTo>
                    <a:pt x="1851" y="1779"/>
                  </a:lnTo>
                  <a:lnTo>
                    <a:pt x="1844" y="1779"/>
                  </a:lnTo>
                  <a:lnTo>
                    <a:pt x="1837" y="1779"/>
                  </a:lnTo>
                  <a:lnTo>
                    <a:pt x="1830" y="1779"/>
                  </a:lnTo>
                  <a:lnTo>
                    <a:pt x="1824" y="1779"/>
                  </a:lnTo>
                  <a:lnTo>
                    <a:pt x="1817" y="1779"/>
                  </a:lnTo>
                  <a:lnTo>
                    <a:pt x="1803" y="1779"/>
                  </a:lnTo>
                  <a:lnTo>
                    <a:pt x="1796" y="1779"/>
                  </a:lnTo>
                  <a:lnTo>
                    <a:pt x="1789" y="1779"/>
                  </a:lnTo>
                  <a:lnTo>
                    <a:pt x="1782" y="1779"/>
                  </a:lnTo>
                  <a:lnTo>
                    <a:pt x="1776" y="1779"/>
                  </a:lnTo>
                  <a:lnTo>
                    <a:pt x="1769" y="1779"/>
                  </a:lnTo>
                  <a:lnTo>
                    <a:pt x="1762" y="1779"/>
                  </a:lnTo>
                  <a:lnTo>
                    <a:pt x="1748" y="1779"/>
                  </a:lnTo>
                  <a:lnTo>
                    <a:pt x="1741" y="1779"/>
                  </a:lnTo>
                  <a:lnTo>
                    <a:pt x="1734" y="1779"/>
                  </a:lnTo>
                  <a:lnTo>
                    <a:pt x="1728" y="1779"/>
                  </a:lnTo>
                  <a:lnTo>
                    <a:pt x="1721" y="1773"/>
                  </a:lnTo>
                  <a:lnTo>
                    <a:pt x="1714" y="1766"/>
                  </a:lnTo>
                  <a:lnTo>
                    <a:pt x="1714" y="1759"/>
                  </a:lnTo>
                  <a:lnTo>
                    <a:pt x="1707" y="1745"/>
                  </a:lnTo>
                  <a:lnTo>
                    <a:pt x="1707" y="1738"/>
                  </a:lnTo>
                  <a:lnTo>
                    <a:pt x="1700" y="1731"/>
                  </a:lnTo>
                  <a:lnTo>
                    <a:pt x="1693" y="1718"/>
                  </a:lnTo>
                  <a:lnTo>
                    <a:pt x="1686" y="1718"/>
                  </a:lnTo>
                  <a:lnTo>
                    <a:pt x="1680" y="1711"/>
                  </a:lnTo>
                  <a:lnTo>
                    <a:pt x="1673" y="1704"/>
                  </a:lnTo>
                  <a:lnTo>
                    <a:pt x="1666" y="1697"/>
                  </a:lnTo>
                  <a:lnTo>
                    <a:pt x="1659" y="1690"/>
                  </a:lnTo>
                  <a:lnTo>
                    <a:pt x="1652" y="1684"/>
                  </a:lnTo>
                  <a:lnTo>
                    <a:pt x="1645" y="1684"/>
                  </a:lnTo>
                  <a:lnTo>
                    <a:pt x="1638" y="1684"/>
                  </a:lnTo>
                  <a:lnTo>
                    <a:pt x="1632" y="1690"/>
                  </a:lnTo>
                  <a:lnTo>
                    <a:pt x="1632" y="1697"/>
                  </a:lnTo>
                  <a:lnTo>
                    <a:pt x="1632" y="1711"/>
                  </a:lnTo>
                  <a:lnTo>
                    <a:pt x="1625" y="1725"/>
                  </a:lnTo>
                  <a:lnTo>
                    <a:pt x="1625" y="1731"/>
                  </a:lnTo>
                  <a:lnTo>
                    <a:pt x="1625" y="1745"/>
                  </a:lnTo>
                  <a:lnTo>
                    <a:pt x="1618" y="1752"/>
                  </a:lnTo>
                  <a:lnTo>
                    <a:pt x="1611" y="1759"/>
                  </a:lnTo>
                  <a:lnTo>
                    <a:pt x="1604" y="1759"/>
                  </a:lnTo>
                  <a:lnTo>
                    <a:pt x="1597" y="1759"/>
                  </a:lnTo>
                  <a:lnTo>
                    <a:pt x="1584" y="1759"/>
                  </a:lnTo>
                  <a:lnTo>
                    <a:pt x="1577" y="1766"/>
                  </a:lnTo>
                  <a:lnTo>
                    <a:pt x="1570" y="1766"/>
                  </a:lnTo>
                  <a:lnTo>
                    <a:pt x="1563" y="1766"/>
                  </a:lnTo>
                  <a:lnTo>
                    <a:pt x="1556" y="1766"/>
                  </a:lnTo>
                  <a:lnTo>
                    <a:pt x="1549" y="1773"/>
                  </a:lnTo>
                  <a:lnTo>
                    <a:pt x="1542" y="1773"/>
                  </a:lnTo>
                  <a:lnTo>
                    <a:pt x="1536" y="1773"/>
                  </a:lnTo>
                  <a:lnTo>
                    <a:pt x="1522" y="1773"/>
                  </a:lnTo>
                  <a:lnTo>
                    <a:pt x="1515" y="1779"/>
                  </a:lnTo>
                  <a:lnTo>
                    <a:pt x="1508" y="1779"/>
                  </a:lnTo>
                  <a:lnTo>
                    <a:pt x="1501" y="1779"/>
                  </a:lnTo>
                  <a:lnTo>
                    <a:pt x="1494" y="1786"/>
                  </a:lnTo>
                  <a:lnTo>
                    <a:pt x="1488" y="1786"/>
                  </a:lnTo>
                  <a:lnTo>
                    <a:pt x="1481" y="1779"/>
                  </a:lnTo>
                  <a:lnTo>
                    <a:pt x="1467" y="1779"/>
                  </a:lnTo>
                  <a:lnTo>
                    <a:pt x="1460" y="1773"/>
                  </a:lnTo>
                  <a:lnTo>
                    <a:pt x="1460" y="1759"/>
                  </a:lnTo>
                  <a:lnTo>
                    <a:pt x="1460" y="1752"/>
                  </a:lnTo>
                  <a:lnTo>
                    <a:pt x="1460" y="1738"/>
                  </a:lnTo>
                  <a:lnTo>
                    <a:pt x="1467" y="1731"/>
                  </a:lnTo>
                  <a:lnTo>
                    <a:pt x="1467" y="1718"/>
                  </a:lnTo>
                  <a:lnTo>
                    <a:pt x="1460" y="1711"/>
                  </a:lnTo>
                  <a:lnTo>
                    <a:pt x="1453" y="1704"/>
                  </a:lnTo>
                  <a:lnTo>
                    <a:pt x="1446" y="1697"/>
                  </a:lnTo>
                  <a:lnTo>
                    <a:pt x="1440" y="1697"/>
                  </a:lnTo>
                  <a:lnTo>
                    <a:pt x="1426" y="1704"/>
                  </a:lnTo>
                  <a:lnTo>
                    <a:pt x="1419" y="1704"/>
                  </a:lnTo>
                  <a:lnTo>
                    <a:pt x="1412" y="1697"/>
                  </a:lnTo>
                  <a:lnTo>
                    <a:pt x="1405" y="1690"/>
                  </a:lnTo>
                  <a:lnTo>
                    <a:pt x="1398" y="1690"/>
                  </a:lnTo>
                  <a:lnTo>
                    <a:pt x="1392" y="1684"/>
                  </a:lnTo>
                  <a:lnTo>
                    <a:pt x="1385" y="1677"/>
                  </a:lnTo>
                  <a:lnTo>
                    <a:pt x="1378" y="1670"/>
                  </a:lnTo>
                  <a:lnTo>
                    <a:pt x="1371" y="1670"/>
                  </a:lnTo>
                  <a:lnTo>
                    <a:pt x="1364" y="1663"/>
                  </a:lnTo>
                  <a:lnTo>
                    <a:pt x="1357" y="1656"/>
                  </a:lnTo>
                  <a:lnTo>
                    <a:pt x="1350" y="1656"/>
                  </a:lnTo>
                  <a:lnTo>
                    <a:pt x="1344" y="1656"/>
                  </a:lnTo>
                  <a:lnTo>
                    <a:pt x="1337" y="1649"/>
                  </a:lnTo>
                  <a:lnTo>
                    <a:pt x="1330" y="1643"/>
                  </a:lnTo>
                  <a:lnTo>
                    <a:pt x="1323" y="1643"/>
                  </a:lnTo>
                  <a:lnTo>
                    <a:pt x="1316" y="1636"/>
                  </a:lnTo>
                  <a:lnTo>
                    <a:pt x="1309" y="1636"/>
                  </a:lnTo>
                  <a:lnTo>
                    <a:pt x="1296" y="1636"/>
                  </a:lnTo>
                  <a:lnTo>
                    <a:pt x="1289" y="1636"/>
                  </a:lnTo>
                  <a:lnTo>
                    <a:pt x="1282" y="1643"/>
                  </a:lnTo>
                  <a:lnTo>
                    <a:pt x="1275" y="1649"/>
                  </a:lnTo>
                  <a:lnTo>
                    <a:pt x="1268" y="1649"/>
                  </a:lnTo>
                  <a:lnTo>
                    <a:pt x="1261" y="1656"/>
                  </a:lnTo>
                  <a:lnTo>
                    <a:pt x="1255" y="1663"/>
                  </a:lnTo>
                  <a:lnTo>
                    <a:pt x="1248" y="1663"/>
                  </a:lnTo>
                  <a:lnTo>
                    <a:pt x="1241" y="1663"/>
                  </a:lnTo>
                  <a:lnTo>
                    <a:pt x="1234" y="1670"/>
                  </a:lnTo>
                  <a:lnTo>
                    <a:pt x="1227" y="1670"/>
                  </a:lnTo>
                  <a:lnTo>
                    <a:pt x="1220" y="1670"/>
                  </a:lnTo>
                  <a:lnTo>
                    <a:pt x="1207" y="1670"/>
                  </a:lnTo>
                  <a:lnTo>
                    <a:pt x="1200" y="1670"/>
                  </a:lnTo>
                  <a:lnTo>
                    <a:pt x="1193" y="1670"/>
                  </a:lnTo>
                  <a:lnTo>
                    <a:pt x="1186" y="1677"/>
                  </a:lnTo>
                  <a:lnTo>
                    <a:pt x="1179" y="1677"/>
                  </a:lnTo>
                  <a:lnTo>
                    <a:pt x="1172" y="1677"/>
                  </a:lnTo>
                  <a:lnTo>
                    <a:pt x="1165" y="1684"/>
                  </a:lnTo>
                  <a:lnTo>
                    <a:pt x="1159" y="1690"/>
                  </a:lnTo>
                  <a:lnTo>
                    <a:pt x="1152" y="1697"/>
                  </a:lnTo>
                  <a:lnTo>
                    <a:pt x="1145" y="1704"/>
                  </a:lnTo>
                  <a:lnTo>
                    <a:pt x="1138" y="1718"/>
                  </a:lnTo>
                  <a:lnTo>
                    <a:pt x="1138" y="1725"/>
                  </a:lnTo>
                  <a:lnTo>
                    <a:pt x="1131" y="1731"/>
                  </a:lnTo>
                  <a:lnTo>
                    <a:pt x="1124" y="1738"/>
                  </a:lnTo>
                  <a:lnTo>
                    <a:pt x="1117" y="1745"/>
                  </a:lnTo>
                  <a:lnTo>
                    <a:pt x="1117" y="1759"/>
                  </a:lnTo>
                  <a:lnTo>
                    <a:pt x="1117" y="1766"/>
                  </a:lnTo>
                  <a:lnTo>
                    <a:pt x="1117" y="1779"/>
                  </a:lnTo>
                  <a:lnTo>
                    <a:pt x="1124" y="1793"/>
                  </a:lnTo>
                  <a:lnTo>
                    <a:pt x="1124" y="1800"/>
                  </a:lnTo>
                  <a:lnTo>
                    <a:pt x="1131" y="1800"/>
                  </a:lnTo>
                  <a:lnTo>
                    <a:pt x="1138" y="1807"/>
                  </a:lnTo>
                  <a:lnTo>
                    <a:pt x="1152" y="1807"/>
                  </a:lnTo>
                  <a:lnTo>
                    <a:pt x="1159" y="1814"/>
                  </a:lnTo>
                  <a:lnTo>
                    <a:pt x="1165" y="1814"/>
                  </a:lnTo>
                  <a:lnTo>
                    <a:pt x="1172" y="1820"/>
                  </a:lnTo>
                  <a:lnTo>
                    <a:pt x="1179" y="1820"/>
                  </a:lnTo>
                  <a:lnTo>
                    <a:pt x="1186" y="1820"/>
                  </a:lnTo>
                  <a:lnTo>
                    <a:pt x="1193" y="1820"/>
                  </a:lnTo>
                  <a:lnTo>
                    <a:pt x="1200" y="1820"/>
                  </a:lnTo>
                  <a:lnTo>
                    <a:pt x="1207" y="1820"/>
                  </a:lnTo>
                  <a:lnTo>
                    <a:pt x="1220" y="1820"/>
                  </a:lnTo>
                  <a:lnTo>
                    <a:pt x="1227" y="1820"/>
                  </a:lnTo>
                  <a:lnTo>
                    <a:pt x="1234" y="1820"/>
                  </a:lnTo>
                  <a:lnTo>
                    <a:pt x="1241" y="1820"/>
                  </a:lnTo>
                  <a:lnTo>
                    <a:pt x="1248" y="1814"/>
                  </a:lnTo>
                  <a:lnTo>
                    <a:pt x="1255" y="1814"/>
                  </a:lnTo>
                  <a:lnTo>
                    <a:pt x="1261" y="1814"/>
                  </a:lnTo>
                  <a:lnTo>
                    <a:pt x="1275" y="1807"/>
                  </a:lnTo>
                  <a:lnTo>
                    <a:pt x="1282" y="1814"/>
                  </a:lnTo>
                  <a:lnTo>
                    <a:pt x="1289" y="1814"/>
                  </a:lnTo>
                  <a:lnTo>
                    <a:pt x="1296" y="1820"/>
                  </a:lnTo>
                  <a:lnTo>
                    <a:pt x="1296" y="1827"/>
                  </a:lnTo>
                  <a:lnTo>
                    <a:pt x="1303" y="1834"/>
                  </a:lnTo>
                  <a:lnTo>
                    <a:pt x="1309" y="1841"/>
                  </a:lnTo>
                  <a:lnTo>
                    <a:pt x="1316" y="1848"/>
                  </a:lnTo>
                  <a:lnTo>
                    <a:pt x="1330" y="1855"/>
                  </a:lnTo>
                  <a:lnTo>
                    <a:pt x="1337" y="1855"/>
                  </a:lnTo>
                  <a:lnTo>
                    <a:pt x="1337" y="1861"/>
                  </a:lnTo>
                  <a:lnTo>
                    <a:pt x="1337" y="1868"/>
                  </a:lnTo>
                  <a:lnTo>
                    <a:pt x="1330" y="1875"/>
                  </a:lnTo>
                  <a:lnTo>
                    <a:pt x="1323" y="1882"/>
                  </a:lnTo>
                  <a:lnTo>
                    <a:pt x="1316" y="1889"/>
                  </a:lnTo>
                  <a:lnTo>
                    <a:pt x="1309" y="1896"/>
                  </a:lnTo>
                  <a:lnTo>
                    <a:pt x="1303" y="1903"/>
                  </a:lnTo>
                  <a:lnTo>
                    <a:pt x="1303" y="1916"/>
                  </a:lnTo>
                  <a:lnTo>
                    <a:pt x="1309" y="1923"/>
                  </a:lnTo>
                  <a:lnTo>
                    <a:pt x="1309" y="1937"/>
                  </a:lnTo>
                  <a:lnTo>
                    <a:pt x="1316" y="1950"/>
                  </a:lnTo>
                  <a:lnTo>
                    <a:pt x="1316" y="1944"/>
                  </a:lnTo>
                  <a:lnTo>
                    <a:pt x="1323" y="1937"/>
                  </a:lnTo>
                  <a:lnTo>
                    <a:pt x="1330" y="1923"/>
                  </a:lnTo>
                  <a:lnTo>
                    <a:pt x="1337" y="1916"/>
                  </a:lnTo>
                  <a:lnTo>
                    <a:pt x="1344" y="1916"/>
                  </a:lnTo>
                  <a:lnTo>
                    <a:pt x="1350" y="1916"/>
                  </a:lnTo>
                  <a:lnTo>
                    <a:pt x="1357" y="1923"/>
                  </a:lnTo>
                  <a:lnTo>
                    <a:pt x="1357" y="1937"/>
                  </a:lnTo>
                  <a:lnTo>
                    <a:pt x="1350" y="1944"/>
                  </a:lnTo>
                  <a:lnTo>
                    <a:pt x="1337" y="1950"/>
                  </a:lnTo>
                  <a:lnTo>
                    <a:pt x="1330" y="1957"/>
                  </a:lnTo>
                  <a:lnTo>
                    <a:pt x="1323" y="1957"/>
                  </a:lnTo>
                  <a:lnTo>
                    <a:pt x="1323" y="1964"/>
                  </a:lnTo>
                  <a:lnTo>
                    <a:pt x="1330" y="1971"/>
                  </a:lnTo>
                  <a:lnTo>
                    <a:pt x="1330" y="1985"/>
                  </a:lnTo>
                  <a:lnTo>
                    <a:pt x="1337" y="1991"/>
                  </a:lnTo>
                  <a:lnTo>
                    <a:pt x="1337" y="2005"/>
                  </a:lnTo>
                  <a:lnTo>
                    <a:pt x="1337" y="2012"/>
                  </a:lnTo>
                  <a:lnTo>
                    <a:pt x="1330" y="2026"/>
                  </a:lnTo>
                  <a:lnTo>
                    <a:pt x="1330" y="2039"/>
                  </a:lnTo>
                  <a:lnTo>
                    <a:pt x="1330" y="2046"/>
                  </a:lnTo>
                  <a:lnTo>
                    <a:pt x="1330" y="2060"/>
                  </a:lnTo>
                  <a:lnTo>
                    <a:pt x="1337" y="2067"/>
                  </a:lnTo>
                  <a:lnTo>
                    <a:pt x="1344" y="2074"/>
                  </a:lnTo>
                  <a:lnTo>
                    <a:pt x="1350" y="2080"/>
                  </a:lnTo>
                  <a:lnTo>
                    <a:pt x="1357" y="2087"/>
                  </a:lnTo>
                  <a:lnTo>
                    <a:pt x="1364" y="2087"/>
                  </a:lnTo>
                  <a:lnTo>
                    <a:pt x="1371" y="2094"/>
                  </a:lnTo>
                  <a:lnTo>
                    <a:pt x="1371" y="2101"/>
                  </a:lnTo>
                  <a:lnTo>
                    <a:pt x="1371" y="2115"/>
                  </a:lnTo>
                  <a:lnTo>
                    <a:pt x="1364" y="2121"/>
                  </a:lnTo>
                  <a:lnTo>
                    <a:pt x="1364" y="2135"/>
                  </a:lnTo>
                  <a:lnTo>
                    <a:pt x="1357" y="2142"/>
                  </a:lnTo>
                  <a:lnTo>
                    <a:pt x="1357" y="2156"/>
                  </a:lnTo>
                  <a:lnTo>
                    <a:pt x="1350" y="2163"/>
                  </a:lnTo>
                  <a:lnTo>
                    <a:pt x="1344" y="2169"/>
                  </a:lnTo>
                  <a:lnTo>
                    <a:pt x="1337" y="2163"/>
                  </a:lnTo>
                  <a:lnTo>
                    <a:pt x="1330" y="2156"/>
                  </a:lnTo>
                  <a:lnTo>
                    <a:pt x="1323" y="2156"/>
                  </a:lnTo>
                  <a:lnTo>
                    <a:pt x="1316" y="2156"/>
                  </a:lnTo>
                  <a:lnTo>
                    <a:pt x="1309" y="2156"/>
                  </a:lnTo>
                  <a:lnTo>
                    <a:pt x="1303" y="2156"/>
                  </a:lnTo>
                  <a:lnTo>
                    <a:pt x="1296" y="2156"/>
                  </a:lnTo>
                  <a:lnTo>
                    <a:pt x="1282" y="2156"/>
                  </a:lnTo>
                  <a:lnTo>
                    <a:pt x="1275" y="2156"/>
                  </a:lnTo>
                  <a:lnTo>
                    <a:pt x="1268" y="2149"/>
                  </a:lnTo>
                  <a:lnTo>
                    <a:pt x="1261" y="2149"/>
                  </a:lnTo>
                  <a:lnTo>
                    <a:pt x="1255" y="2149"/>
                  </a:lnTo>
                  <a:lnTo>
                    <a:pt x="1248" y="2149"/>
                  </a:lnTo>
                  <a:lnTo>
                    <a:pt x="1241" y="2142"/>
                  </a:lnTo>
                  <a:lnTo>
                    <a:pt x="1227" y="2142"/>
                  </a:lnTo>
                  <a:lnTo>
                    <a:pt x="1220" y="2142"/>
                  </a:lnTo>
                  <a:lnTo>
                    <a:pt x="1220" y="2128"/>
                  </a:lnTo>
                  <a:lnTo>
                    <a:pt x="1213" y="2121"/>
                  </a:lnTo>
                  <a:lnTo>
                    <a:pt x="1213" y="2115"/>
                  </a:lnTo>
                  <a:lnTo>
                    <a:pt x="1207" y="2108"/>
                  </a:lnTo>
                  <a:lnTo>
                    <a:pt x="1200" y="2101"/>
                  </a:lnTo>
                  <a:lnTo>
                    <a:pt x="1200" y="2094"/>
                  </a:lnTo>
                  <a:lnTo>
                    <a:pt x="1207" y="2087"/>
                  </a:lnTo>
                  <a:lnTo>
                    <a:pt x="1213" y="2080"/>
                  </a:lnTo>
                  <a:lnTo>
                    <a:pt x="1213" y="2067"/>
                  </a:lnTo>
                  <a:lnTo>
                    <a:pt x="1213" y="2060"/>
                  </a:lnTo>
                  <a:lnTo>
                    <a:pt x="1207" y="2053"/>
                  </a:lnTo>
                  <a:lnTo>
                    <a:pt x="1200" y="2046"/>
                  </a:lnTo>
                  <a:lnTo>
                    <a:pt x="1200" y="2033"/>
                  </a:lnTo>
                  <a:lnTo>
                    <a:pt x="1193" y="2026"/>
                  </a:lnTo>
                  <a:lnTo>
                    <a:pt x="1186" y="2019"/>
                  </a:lnTo>
                  <a:lnTo>
                    <a:pt x="1179" y="2012"/>
                  </a:lnTo>
                  <a:lnTo>
                    <a:pt x="1179" y="2005"/>
                  </a:lnTo>
                  <a:lnTo>
                    <a:pt x="1172" y="1991"/>
                  </a:lnTo>
                  <a:lnTo>
                    <a:pt x="1165" y="1985"/>
                  </a:lnTo>
                  <a:lnTo>
                    <a:pt x="1165" y="1978"/>
                  </a:lnTo>
                  <a:lnTo>
                    <a:pt x="1159" y="1964"/>
                  </a:lnTo>
                  <a:lnTo>
                    <a:pt x="1152" y="1957"/>
                  </a:lnTo>
                  <a:lnTo>
                    <a:pt x="1152" y="1950"/>
                  </a:lnTo>
                  <a:lnTo>
                    <a:pt x="1145" y="1944"/>
                  </a:lnTo>
                  <a:lnTo>
                    <a:pt x="1138" y="1930"/>
                  </a:lnTo>
                  <a:lnTo>
                    <a:pt x="1131" y="1923"/>
                  </a:lnTo>
                  <a:lnTo>
                    <a:pt x="1124" y="1923"/>
                  </a:lnTo>
                  <a:lnTo>
                    <a:pt x="1117" y="1923"/>
                  </a:lnTo>
                  <a:lnTo>
                    <a:pt x="1111" y="1923"/>
                  </a:lnTo>
                  <a:lnTo>
                    <a:pt x="1104" y="1923"/>
                  </a:lnTo>
                  <a:lnTo>
                    <a:pt x="1097" y="1923"/>
                  </a:lnTo>
                  <a:lnTo>
                    <a:pt x="1090" y="1923"/>
                  </a:lnTo>
                  <a:lnTo>
                    <a:pt x="1076" y="1923"/>
                  </a:lnTo>
                  <a:lnTo>
                    <a:pt x="1069" y="1923"/>
                  </a:lnTo>
                  <a:lnTo>
                    <a:pt x="1063" y="1923"/>
                  </a:lnTo>
                  <a:lnTo>
                    <a:pt x="1056" y="1930"/>
                  </a:lnTo>
                  <a:lnTo>
                    <a:pt x="1049" y="1930"/>
                  </a:lnTo>
                  <a:lnTo>
                    <a:pt x="1042" y="1937"/>
                  </a:lnTo>
                  <a:lnTo>
                    <a:pt x="1035" y="1937"/>
                  </a:lnTo>
                  <a:lnTo>
                    <a:pt x="1028" y="1937"/>
                  </a:lnTo>
                  <a:lnTo>
                    <a:pt x="1021" y="1944"/>
                  </a:lnTo>
                  <a:lnTo>
                    <a:pt x="1015" y="1944"/>
                  </a:lnTo>
                  <a:lnTo>
                    <a:pt x="1001" y="1950"/>
                  </a:lnTo>
                  <a:lnTo>
                    <a:pt x="994" y="1950"/>
                  </a:lnTo>
                  <a:lnTo>
                    <a:pt x="987" y="1957"/>
                  </a:lnTo>
                  <a:lnTo>
                    <a:pt x="980" y="1957"/>
                  </a:lnTo>
                  <a:lnTo>
                    <a:pt x="973" y="1957"/>
                  </a:lnTo>
                  <a:lnTo>
                    <a:pt x="967" y="1964"/>
                  </a:lnTo>
                  <a:lnTo>
                    <a:pt x="960" y="1964"/>
                  </a:lnTo>
                  <a:lnTo>
                    <a:pt x="953" y="1964"/>
                  </a:lnTo>
                  <a:lnTo>
                    <a:pt x="946" y="1964"/>
                  </a:lnTo>
                  <a:lnTo>
                    <a:pt x="932" y="1964"/>
                  </a:lnTo>
                  <a:lnTo>
                    <a:pt x="925" y="1964"/>
                  </a:lnTo>
                  <a:lnTo>
                    <a:pt x="919" y="1957"/>
                  </a:lnTo>
                  <a:lnTo>
                    <a:pt x="912" y="1957"/>
                  </a:lnTo>
                  <a:lnTo>
                    <a:pt x="905" y="1957"/>
                  </a:lnTo>
                  <a:lnTo>
                    <a:pt x="898" y="1957"/>
                  </a:lnTo>
                  <a:lnTo>
                    <a:pt x="891" y="1957"/>
                  </a:lnTo>
                  <a:lnTo>
                    <a:pt x="877" y="1950"/>
                  </a:lnTo>
                  <a:lnTo>
                    <a:pt x="871" y="1950"/>
                  </a:lnTo>
                  <a:lnTo>
                    <a:pt x="864" y="1950"/>
                  </a:lnTo>
                  <a:lnTo>
                    <a:pt x="857" y="1944"/>
                  </a:lnTo>
                  <a:lnTo>
                    <a:pt x="850" y="1944"/>
                  </a:lnTo>
                  <a:lnTo>
                    <a:pt x="843" y="1937"/>
                  </a:lnTo>
                  <a:lnTo>
                    <a:pt x="836" y="1930"/>
                  </a:lnTo>
                  <a:lnTo>
                    <a:pt x="836" y="1923"/>
                  </a:lnTo>
                  <a:lnTo>
                    <a:pt x="836" y="1916"/>
                  </a:lnTo>
                  <a:lnTo>
                    <a:pt x="836" y="1903"/>
                  </a:lnTo>
                  <a:lnTo>
                    <a:pt x="836" y="1889"/>
                  </a:lnTo>
                  <a:lnTo>
                    <a:pt x="829" y="1882"/>
                  </a:lnTo>
                  <a:lnTo>
                    <a:pt x="829" y="1868"/>
                  </a:lnTo>
                  <a:lnTo>
                    <a:pt x="823" y="1868"/>
                  </a:lnTo>
                  <a:lnTo>
                    <a:pt x="809" y="1861"/>
                  </a:lnTo>
                  <a:lnTo>
                    <a:pt x="802" y="1861"/>
                  </a:lnTo>
                  <a:lnTo>
                    <a:pt x="795" y="1861"/>
                  </a:lnTo>
                  <a:lnTo>
                    <a:pt x="788" y="1861"/>
                  </a:lnTo>
                  <a:lnTo>
                    <a:pt x="781" y="1861"/>
                  </a:lnTo>
                  <a:lnTo>
                    <a:pt x="775" y="1861"/>
                  </a:lnTo>
                  <a:lnTo>
                    <a:pt x="768" y="1861"/>
                  </a:lnTo>
                  <a:lnTo>
                    <a:pt x="754" y="1861"/>
                  </a:lnTo>
                  <a:lnTo>
                    <a:pt x="747" y="1861"/>
                  </a:lnTo>
                  <a:lnTo>
                    <a:pt x="740" y="1861"/>
                  </a:lnTo>
                  <a:lnTo>
                    <a:pt x="733" y="1861"/>
                  </a:lnTo>
                  <a:lnTo>
                    <a:pt x="727" y="1861"/>
                  </a:lnTo>
                  <a:lnTo>
                    <a:pt x="720" y="1861"/>
                  </a:lnTo>
                  <a:lnTo>
                    <a:pt x="713" y="1861"/>
                  </a:lnTo>
                  <a:lnTo>
                    <a:pt x="706" y="1861"/>
                  </a:lnTo>
                  <a:lnTo>
                    <a:pt x="692" y="1861"/>
                  </a:lnTo>
                  <a:lnTo>
                    <a:pt x="685" y="1868"/>
                  </a:lnTo>
                  <a:lnTo>
                    <a:pt x="685" y="1875"/>
                  </a:lnTo>
                  <a:lnTo>
                    <a:pt x="679" y="1889"/>
                  </a:lnTo>
                  <a:lnTo>
                    <a:pt x="672" y="1896"/>
                  </a:lnTo>
                  <a:lnTo>
                    <a:pt x="672" y="1909"/>
                  </a:lnTo>
                  <a:lnTo>
                    <a:pt x="672" y="1923"/>
                  </a:lnTo>
                  <a:lnTo>
                    <a:pt x="672" y="1930"/>
                  </a:lnTo>
                  <a:lnTo>
                    <a:pt x="672" y="1944"/>
                  </a:lnTo>
                  <a:lnTo>
                    <a:pt x="672" y="1950"/>
                  </a:lnTo>
                  <a:lnTo>
                    <a:pt x="672" y="1964"/>
                  </a:lnTo>
                  <a:lnTo>
                    <a:pt x="672" y="1978"/>
                  </a:lnTo>
                  <a:lnTo>
                    <a:pt x="672" y="1985"/>
                  </a:lnTo>
                  <a:lnTo>
                    <a:pt x="672" y="1998"/>
                  </a:lnTo>
                  <a:lnTo>
                    <a:pt x="679" y="2005"/>
                  </a:lnTo>
                  <a:lnTo>
                    <a:pt x="685" y="2012"/>
                  </a:lnTo>
                  <a:lnTo>
                    <a:pt x="692" y="2019"/>
                  </a:lnTo>
                  <a:lnTo>
                    <a:pt x="699" y="2026"/>
                  </a:lnTo>
                  <a:lnTo>
                    <a:pt x="699" y="2039"/>
                  </a:lnTo>
                  <a:lnTo>
                    <a:pt x="692" y="2046"/>
                  </a:lnTo>
                  <a:lnTo>
                    <a:pt x="685" y="2053"/>
                  </a:lnTo>
                  <a:lnTo>
                    <a:pt x="679" y="2067"/>
                  </a:lnTo>
                  <a:lnTo>
                    <a:pt x="685" y="2074"/>
                  </a:lnTo>
                  <a:lnTo>
                    <a:pt x="685" y="2080"/>
                  </a:lnTo>
                  <a:lnTo>
                    <a:pt x="692" y="2094"/>
                  </a:lnTo>
                  <a:lnTo>
                    <a:pt x="699" y="2101"/>
                  </a:lnTo>
                  <a:lnTo>
                    <a:pt x="699" y="2115"/>
                  </a:lnTo>
                  <a:lnTo>
                    <a:pt x="706" y="2128"/>
                  </a:lnTo>
                  <a:lnTo>
                    <a:pt x="699" y="2135"/>
                  </a:lnTo>
                  <a:lnTo>
                    <a:pt x="692" y="2135"/>
                  </a:lnTo>
                  <a:lnTo>
                    <a:pt x="685" y="2142"/>
                  </a:lnTo>
                  <a:lnTo>
                    <a:pt x="679" y="2142"/>
                  </a:lnTo>
                  <a:lnTo>
                    <a:pt x="672" y="2142"/>
                  </a:lnTo>
                  <a:lnTo>
                    <a:pt x="658" y="2142"/>
                  </a:lnTo>
                  <a:lnTo>
                    <a:pt x="651" y="2142"/>
                  </a:lnTo>
                  <a:lnTo>
                    <a:pt x="644" y="2142"/>
                  </a:lnTo>
                  <a:lnTo>
                    <a:pt x="637" y="2142"/>
                  </a:lnTo>
                  <a:lnTo>
                    <a:pt x="631" y="2149"/>
                  </a:lnTo>
                  <a:lnTo>
                    <a:pt x="624" y="2149"/>
                  </a:lnTo>
                  <a:lnTo>
                    <a:pt x="617" y="2149"/>
                  </a:lnTo>
                  <a:lnTo>
                    <a:pt x="610" y="2149"/>
                  </a:lnTo>
                  <a:lnTo>
                    <a:pt x="603" y="2149"/>
                  </a:lnTo>
                  <a:lnTo>
                    <a:pt x="596" y="2142"/>
                  </a:lnTo>
                  <a:lnTo>
                    <a:pt x="589" y="2135"/>
                  </a:lnTo>
                  <a:lnTo>
                    <a:pt x="583" y="2128"/>
                  </a:lnTo>
                  <a:lnTo>
                    <a:pt x="569" y="2128"/>
                  </a:lnTo>
                  <a:lnTo>
                    <a:pt x="569" y="2121"/>
                  </a:lnTo>
                  <a:lnTo>
                    <a:pt x="562" y="2115"/>
                  </a:lnTo>
                  <a:lnTo>
                    <a:pt x="555" y="2108"/>
                  </a:lnTo>
                  <a:lnTo>
                    <a:pt x="548" y="2108"/>
                  </a:lnTo>
                  <a:lnTo>
                    <a:pt x="535" y="2101"/>
                  </a:lnTo>
                  <a:lnTo>
                    <a:pt x="528" y="2101"/>
                  </a:lnTo>
                  <a:lnTo>
                    <a:pt x="528" y="2087"/>
                  </a:lnTo>
                  <a:lnTo>
                    <a:pt x="528" y="2074"/>
                  </a:lnTo>
                  <a:lnTo>
                    <a:pt x="535" y="2067"/>
                  </a:lnTo>
                  <a:lnTo>
                    <a:pt x="541" y="2053"/>
                  </a:lnTo>
                  <a:lnTo>
                    <a:pt x="541" y="2046"/>
                  </a:lnTo>
                  <a:lnTo>
                    <a:pt x="548" y="2039"/>
                  </a:lnTo>
                  <a:lnTo>
                    <a:pt x="548" y="2026"/>
                  </a:lnTo>
                  <a:lnTo>
                    <a:pt x="548" y="2012"/>
                  </a:lnTo>
                  <a:lnTo>
                    <a:pt x="548" y="2005"/>
                  </a:lnTo>
                  <a:lnTo>
                    <a:pt x="548" y="1991"/>
                  </a:lnTo>
                  <a:lnTo>
                    <a:pt x="548" y="1985"/>
                  </a:lnTo>
                  <a:lnTo>
                    <a:pt x="548" y="1971"/>
                  </a:lnTo>
                  <a:lnTo>
                    <a:pt x="541" y="1964"/>
                  </a:lnTo>
                  <a:lnTo>
                    <a:pt x="541" y="1950"/>
                  </a:lnTo>
                  <a:lnTo>
                    <a:pt x="541" y="1937"/>
                  </a:lnTo>
                  <a:lnTo>
                    <a:pt x="541" y="1930"/>
                  </a:lnTo>
                  <a:lnTo>
                    <a:pt x="535" y="1916"/>
                  </a:lnTo>
                  <a:lnTo>
                    <a:pt x="535" y="1909"/>
                  </a:lnTo>
                  <a:lnTo>
                    <a:pt x="528" y="1903"/>
                  </a:lnTo>
                  <a:lnTo>
                    <a:pt x="521" y="1889"/>
                  </a:lnTo>
                  <a:lnTo>
                    <a:pt x="521" y="1882"/>
                  </a:lnTo>
                  <a:lnTo>
                    <a:pt x="514" y="1875"/>
                  </a:lnTo>
                  <a:lnTo>
                    <a:pt x="507" y="1868"/>
                  </a:lnTo>
                  <a:lnTo>
                    <a:pt x="500" y="1861"/>
                  </a:lnTo>
                  <a:lnTo>
                    <a:pt x="494" y="1855"/>
                  </a:lnTo>
                  <a:lnTo>
                    <a:pt x="487" y="1848"/>
                  </a:lnTo>
                  <a:lnTo>
                    <a:pt x="480" y="1848"/>
                  </a:lnTo>
                  <a:lnTo>
                    <a:pt x="473" y="1841"/>
                  </a:lnTo>
                  <a:lnTo>
                    <a:pt x="466" y="1834"/>
                  </a:lnTo>
                  <a:lnTo>
                    <a:pt x="466" y="1820"/>
                  </a:lnTo>
                  <a:lnTo>
                    <a:pt x="459" y="1814"/>
                  </a:lnTo>
                  <a:lnTo>
                    <a:pt x="452" y="1807"/>
                  </a:lnTo>
                  <a:lnTo>
                    <a:pt x="452" y="1793"/>
                  </a:lnTo>
                  <a:lnTo>
                    <a:pt x="446" y="1786"/>
                  </a:lnTo>
                  <a:lnTo>
                    <a:pt x="439" y="1779"/>
                  </a:lnTo>
                  <a:lnTo>
                    <a:pt x="432" y="1773"/>
                  </a:lnTo>
                  <a:lnTo>
                    <a:pt x="432" y="1766"/>
                  </a:lnTo>
                  <a:lnTo>
                    <a:pt x="432" y="1752"/>
                  </a:lnTo>
                  <a:lnTo>
                    <a:pt x="439" y="1745"/>
                  </a:lnTo>
                  <a:lnTo>
                    <a:pt x="439" y="1731"/>
                  </a:lnTo>
                  <a:lnTo>
                    <a:pt x="446" y="1725"/>
                  </a:lnTo>
                  <a:lnTo>
                    <a:pt x="446" y="1718"/>
                  </a:lnTo>
                  <a:lnTo>
                    <a:pt x="452" y="1704"/>
                  </a:lnTo>
                  <a:lnTo>
                    <a:pt x="459" y="1697"/>
                  </a:lnTo>
                  <a:lnTo>
                    <a:pt x="459" y="1684"/>
                  </a:lnTo>
                  <a:lnTo>
                    <a:pt x="466" y="1677"/>
                  </a:lnTo>
                  <a:lnTo>
                    <a:pt x="466" y="1670"/>
                  </a:lnTo>
                  <a:lnTo>
                    <a:pt x="473" y="1656"/>
                  </a:lnTo>
                  <a:lnTo>
                    <a:pt x="473" y="1649"/>
                  </a:lnTo>
                  <a:lnTo>
                    <a:pt x="480" y="1636"/>
                  </a:lnTo>
                  <a:lnTo>
                    <a:pt x="480" y="1629"/>
                  </a:lnTo>
                  <a:lnTo>
                    <a:pt x="487" y="1622"/>
                  </a:lnTo>
                  <a:lnTo>
                    <a:pt x="494" y="1608"/>
                  </a:lnTo>
                  <a:lnTo>
                    <a:pt x="494" y="1601"/>
                  </a:lnTo>
                  <a:lnTo>
                    <a:pt x="500" y="1588"/>
                  </a:lnTo>
                  <a:lnTo>
                    <a:pt x="500" y="1581"/>
                  </a:lnTo>
                  <a:lnTo>
                    <a:pt x="507" y="1574"/>
                  </a:lnTo>
                  <a:lnTo>
                    <a:pt x="514" y="1567"/>
                  </a:lnTo>
                  <a:lnTo>
                    <a:pt x="521" y="1574"/>
                  </a:lnTo>
                  <a:lnTo>
                    <a:pt x="528" y="1574"/>
                  </a:lnTo>
                  <a:lnTo>
                    <a:pt x="535" y="1581"/>
                  </a:lnTo>
                  <a:lnTo>
                    <a:pt x="541" y="1574"/>
                  </a:lnTo>
                  <a:lnTo>
                    <a:pt x="548" y="1567"/>
                  </a:lnTo>
                  <a:lnTo>
                    <a:pt x="548" y="1554"/>
                  </a:lnTo>
                  <a:lnTo>
                    <a:pt x="548" y="1540"/>
                  </a:lnTo>
                  <a:lnTo>
                    <a:pt x="548" y="1533"/>
                  </a:lnTo>
                  <a:lnTo>
                    <a:pt x="548" y="1519"/>
                  </a:lnTo>
                  <a:lnTo>
                    <a:pt x="548" y="1512"/>
                  </a:lnTo>
                  <a:lnTo>
                    <a:pt x="541" y="1499"/>
                  </a:lnTo>
                  <a:lnTo>
                    <a:pt x="535" y="1492"/>
                  </a:lnTo>
                  <a:lnTo>
                    <a:pt x="535" y="1485"/>
                  </a:lnTo>
                  <a:lnTo>
                    <a:pt x="535" y="1471"/>
                  </a:lnTo>
                  <a:lnTo>
                    <a:pt x="535" y="1465"/>
                  </a:lnTo>
                  <a:lnTo>
                    <a:pt x="541" y="1451"/>
                  </a:lnTo>
                  <a:lnTo>
                    <a:pt x="541" y="1444"/>
                  </a:lnTo>
                  <a:lnTo>
                    <a:pt x="541" y="1430"/>
                  </a:lnTo>
                  <a:lnTo>
                    <a:pt x="541" y="1417"/>
                  </a:lnTo>
                  <a:lnTo>
                    <a:pt x="541" y="1410"/>
                  </a:lnTo>
                  <a:lnTo>
                    <a:pt x="548" y="1396"/>
                  </a:lnTo>
                  <a:lnTo>
                    <a:pt x="548" y="1389"/>
                  </a:lnTo>
                  <a:lnTo>
                    <a:pt x="548" y="1376"/>
                  </a:lnTo>
                  <a:lnTo>
                    <a:pt x="548" y="1369"/>
                  </a:lnTo>
                  <a:lnTo>
                    <a:pt x="548" y="1355"/>
                  </a:lnTo>
                  <a:lnTo>
                    <a:pt x="555" y="1341"/>
                  </a:lnTo>
                  <a:lnTo>
                    <a:pt x="555" y="1335"/>
                  </a:lnTo>
                  <a:lnTo>
                    <a:pt x="555" y="1321"/>
                  </a:lnTo>
                  <a:lnTo>
                    <a:pt x="555" y="1314"/>
                  </a:lnTo>
                  <a:lnTo>
                    <a:pt x="562" y="1300"/>
                  </a:lnTo>
                  <a:lnTo>
                    <a:pt x="562" y="1294"/>
                  </a:lnTo>
                  <a:lnTo>
                    <a:pt x="569" y="1280"/>
                  </a:lnTo>
                  <a:lnTo>
                    <a:pt x="569" y="1273"/>
                  </a:lnTo>
                  <a:lnTo>
                    <a:pt x="576" y="1266"/>
                  </a:lnTo>
                  <a:lnTo>
                    <a:pt x="583" y="1259"/>
                  </a:lnTo>
                  <a:lnTo>
                    <a:pt x="589" y="1266"/>
                  </a:lnTo>
                  <a:lnTo>
                    <a:pt x="596" y="1273"/>
                  </a:lnTo>
                  <a:lnTo>
                    <a:pt x="603" y="1280"/>
                  </a:lnTo>
                  <a:lnTo>
                    <a:pt x="610" y="1280"/>
                  </a:lnTo>
                  <a:lnTo>
                    <a:pt x="617" y="1287"/>
                  </a:lnTo>
                  <a:lnTo>
                    <a:pt x="624" y="1287"/>
                  </a:lnTo>
                  <a:lnTo>
                    <a:pt x="631" y="1294"/>
                  </a:lnTo>
                  <a:lnTo>
                    <a:pt x="644" y="1294"/>
                  </a:lnTo>
                  <a:lnTo>
                    <a:pt x="651" y="1294"/>
                  </a:lnTo>
                  <a:lnTo>
                    <a:pt x="658" y="1300"/>
                  </a:lnTo>
                  <a:lnTo>
                    <a:pt x="665" y="1300"/>
                  </a:lnTo>
                  <a:lnTo>
                    <a:pt x="672" y="1300"/>
                  </a:lnTo>
                  <a:lnTo>
                    <a:pt x="679" y="1307"/>
                  </a:lnTo>
                  <a:lnTo>
                    <a:pt x="685" y="1314"/>
                  </a:lnTo>
                  <a:lnTo>
                    <a:pt x="692" y="1321"/>
                  </a:lnTo>
                  <a:lnTo>
                    <a:pt x="692" y="1335"/>
                  </a:lnTo>
                  <a:lnTo>
                    <a:pt x="699" y="1341"/>
                  </a:lnTo>
                  <a:lnTo>
                    <a:pt x="699" y="1355"/>
                  </a:lnTo>
                  <a:lnTo>
                    <a:pt x="699" y="1362"/>
                  </a:lnTo>
                  <a:lnTo>
                    <a:pt x="706" y="1376"/>
                  </a:lnTo>
                  <a:lnTo>
                    <a:pt x="706" y="1382"/>
                  </a:lnTo>
                  <a:lnTo>
                    <a:pt x="706" y="1396"/>
                  </a:lnTo>
                  <a:lnTo>
                    <a:pt x="706" y="1410"/>
                  </a:lnTo>
                  <a:lnTo>
                    <a:pt x="706" y="1417"/>
                  </a:lnTo>
                  <a:lnTo>
                    <a:pt x="713" y="1424"/>
                  </a:lnTo>
                  <a:lnTo>
                    <a:pt x="720" y="1430"/>
                  </a:lnTo>
                  <a:lnTo>
                    <a:pt x="727" y="1437"/>
                  </a:lnTo>
                  <a:lnTo>
                    <a:pt x="733" y="1437"/>
                  </a:lnTo>
                  <a:lnTo>
                    <a:pt x="740" y="1437"/>
                  </a:lnTo>
                  <a:lnTo>
                    <a:pt x="747" y="1430"/>
                  </a:lnTo>
                  <a:lnTo>
                    <a:pt x="754" y="1424"/>
                  </a:lnTo>
                  <a:lnTo>
                    <a:pt x="761" y="1417"/>
                  </a:lnTo>
                  <a:lnTo>
                    <a:pt x="768" y="1410"/>
                  </a:lnTo>
                  <a:lnTo>
                    <a:pt x="768" y="1403"/>
                  </a:lnTo>
                  <a:lnTo>
                    <a:pt x="768" y="1389"/>
                  </a:lnTo>
                  <a:lnTo>
                    <a:pt x="768" y="1376"/>
                  </a:lnTo>
                  <a:lnTo>
                    <a:pt x="768" y="1369"/>
                  </a:lnTo>
                  <a:lnTo>
                    <a:pt x="768" y="1355"/>
                  </a:lnTo>
                  <a:lnTo>
                    <a:pt x="768" y="1348"/>
                  </a:lnTo>
                  <a:lnTo>
                    <a:pt x="768" y="1335"/>
                  </a:lnTo>
                  <a:lnTo>
                    <a:pt x="768" y="1321"/>
                  </a:lnTo>
                  <a:lnTo>
                    <a:pt x="768" y="1314"/>
                  </a:lnTo>
                  <a:lnTo>
                    <a:pt x="768" y="1300"/>
                  </a:lnTo>
                  <a:lnTo>
                    <a:pt x="768" y="1294"/>
                  </a:lnTo>
                  <a:lnTo>
                    <a:pt x="768" y="1280"/>
                  </a:lnTo>
                  <a:lnTo>
                    <a:pt x="768" y="1266"/>
                  </a:lnTo>
                  <a:lnTo>
                    <a:pt x="768" y="1259"/>
                  </a:lnTo>
                  <a:lnTo>
                    <a:pt x="775" y="1252"/>
                  </a:lnTo>
                  <a:lnTo>
                    <a:pt x="781" y="1246"/>
                  </a:lnTo>
                  <a:lnTo>
                    <a:pt x="788" y="1239"/>
                  </a:lnTo>
                  <a:lnTo>
                    <a:pt x="795" y="1239"/>
                  </a:lnTo>
                  <a:lnTo>
                    <a:pt x="802" y="1232"/>
                  </a:lnTo>
                  <a:lnTo>
                    <a:pt x="809" y="1232"/>
                  </a:lnTo>
                  <a:lnTo>
                    <a:pt x="816" y="1225"/>
                  </a:lnTo>
                  <a:lnTo>
                    <a:pt x="823" y="1225"/>
                  </a:lnTo>
                  <a:lnTo>
                    <a:pt x="829" y="1218"/>
                  </a:lnTo>
                  <a:lnTo>
                    <a:pt x="843" y="1218"/>
                  </a:lnTo>
                  <a:lnTo>
                    <a:pt x="850" y="1218"/>
                  </a:lnTo>
                  <a:lnTo>
                    <a:pt x="857" y="1225"/>
                  </a:lnTo>
                  <a:lnTo>
                    <a:pt x="864" y="1225"/>
                  </a:lnTo>
                  <a:lnTo>
                    <a:pt x="871" y="1232"/>
                  </a:lnTo>
                  <a:lnTo>
                    <a:pt x="877" y="1239"/>
                  </a:lnTo>
                  <a:lnTo>
                    <a:pt x="884" y="1246"/>
                  </a:lnTo>
                  <a:lnTo>
                    <a:pt x="891" y="1246"/>
                  </a:lnTo>
                  <a:lnTo>
                    <a:pt x="898" y="1252"/>
                  </a:lnTo>
                  <a:lnTo>
                    <a:pt x="905" y="1259"/>
                  </a:lnTo>
                  <a:lnTo>
                    <a:pt x="912" y="1259"/>
                  </a:lnTo>
                  <a:lnTo>
                    <a:pt x="919" y="1266"/>
                  </a:lnTo>
                  <a:lnTo>
                    <a:pt x="925" y="1266"/>
                  </a:lnTo>
                  <a:lnTo>
                    <a:pt x="932" y="1273"/>
                  </a:lnTo>
                  <a:lnTo>
                    <a:pt x="939" y="1266"/>
                  </a:lnTo>
                  <a:lnTo>
                    <a:pt x="953" y="1266"/>
                  </a:lnTo>
                  <a:lnTo>
                    <a:pt x="960" y="1259"/>
                  </a:lnTo>
                  <a:lnTo>
                    <a:pt x="967" y="1259"/>
                  </a:lnTo>
                  <a:lnTo>
                    <a:pt x="973" y="1252"/>
                  </a:lnTo>
                  <a:lnTo>
                    <a:pt x="980" y="1252"/>
                  </a:lnTo>
                  <a:lnTo>
                    <a:pt x="987" y="1252"/>
                  </a:lnTo>
                  <a:lnTo>
                    <a:pt x="994" y="1259"/>
                  </a:lnTo>
                  <a:lnTo>
                    <a:pt x="1001" y="1266"/>
                  </a:lnTo>
                  <a:lnTo>
                    <a:pt x="1008" y="1273"/>
                  </a:lnTo>
                  <a:lnTo>
                    <a:pt x="1015" y="1273"/>
                  </a:lnTo>
                  <a:lnTo>
                    <a:pt x="1021" y="1280"/>
                  </a:lnTo>
                  <a:lnTo>
                    <a:pt x="1028" y="1287"/>
                  </a:lnTo>
                  <a:lnTo>
                    <a:pt x="1035" y="1294"/>
                  </a:lnTo>
                  <a:lnTo>
                    <a:pt x="1042" y="1294"/>
                  </a:lnTo>
                  <a:lnTo>
                    <a:pt x="1049" y="1300"/>
                  </a:lnTo>
                  <a:lnTo>
                    <a:pt x="1056" y="1307"/>
                  </a:lnTo>
                  <a:lnTo>
                    <a:pt x="1063" y="1307"/>
                  </a:lnTo>
                  <a:lnTo>
                    <a:pt x="1076" y="1307"/>
                  </a:lnTo>
                  <a:lnTo>
                    <a:pt x="1083" y="1307"/>
                  </a:lnTo>
                  <a:lnTo>
                    <a:pt x="1090" y="1314"/>
                  </a:lnTo>
                  <a:lnTo>
                    <a:pt x="1097" y="1314"/>
                  </a:lnTo>
                  <a:lnTo>
                    <a:pt x="1104" y="1314"/>
                  </a:lnTo>
                  <a:lnTo>
                    <a:pt x="1111" y="1321"/>
                  </a:lnTo>
                  <a:lnTo>
                    <a:pt x="1117" y="1321"/>
                  </a:lnTo>
                  <a:lnTo>
                    <a:pt x="1124" y="1328"/>
                  </a:lnTo>
                  <a:lnTo>
                    <a:pt x="1131" y="1341"/>
                  </a:lnTo>
                  <a:lnTo>
                    <a:pt x="1131" y="1348"/>
                  </a:lnTo>
                  <a:lnTo>
                    <a:pt x="1138" y="1355"/>
                  </a:lnTo>
                  <a:lnTo>
                    <a:pt x="1145" y="1355"/>
                  </a:lnTo>
                  <a:lnTo>
                    <a:pt x="1152" y="1362"/>
                  </a:lnTo>
                  <a:lnTo>
                    <a:pt x="1159" y="1369"/>
                  </a:lnTo>
                  <a:lnTo>
                    <a:pt x="1165" y="1369"/>
                  </a:lnTo>
                  <a:lnTo>
                    <a:pt x="1172" y="1376"/>
                  </a:lnTo>
                  <a:lnTo>
                    <a:pt x="1179" y="1382"/>
                  </a:lnTo>
                  <a:lnTo>
                    <a:pt x="1186" y="1389"/>
                  </a:lnTo>
                  <a:lnTo>
                    <a:pt x="1193" y="1396"/>
                  </a:lnTo>
                  <a:lnTo>
                    <a:pt x="1193" y="1410"/>
                  </a:lnTo>
                  <a:lnTo>
                    <a:pt x="1200" y="1417"/>
                  </a:lnTo>
                  <a:lnTo>
                    <a:pt x="1200" y="1430"/>
                  </a:lnTo>
                  <a:lnTo>
                    <a:pt x="1207" y="1430"/>
                  </a:lnTo>
                  <a:lnTo>
                    <a:pt x="1213" y="1437"/>
                  </a:lnTo>
                  <a:lnTo>
                    <a:pt x="1220" y="1444"/>
                  </a:lnTo>
                  <a:lnTo>
                    <a:pt x="1227" y="1451"/>
                  </a:lnTo>
                  <a:lnTo>
                    <a:pt x="1234" y="1458"/>
                  </a:lnTo>
                  <a:lnTo>
                    <a:pt x="1241" y="1471"/>
                  </a:lnTo>
                  <a:lnTo>
                    <a:pt x="1241" y="1478"/>
                  </a:lnTo>
                  <a:lnTo>
                    <a:pt x="1241" y="1492"/>
                  </a:lnTo>
                  <a:lnTo>
                    <a:pt x="1234" y="1499"/>
                  </a:lnTo>
                  <a:lnTo>
                    <a:pt x="1227" y="1506"/>
                  </a:lnTo>
                  <a:lnTo>
                    <a:pt x="1220" y="1512"/>
                  </a:lnTo>
                  <a:lnTo>
                    <a:pt x="1213" y="1519"/>
                  </a:lnTo>
                  <a:lnTo>
                    <a:pt x="1207" y="1526"/>
                  </a:lnTo>
                  <a:lnTo>
                    <a:pt x="1207" y="1533"/>
                  </a:lnTo>
                  <a:lnTo>
                    <a:pt x="1213" y="1547"/>
                  </a:lnTo>
                  <a:lnTo>
                    <a:pt x="1220" y="1554"/>
                  </a:lnTo>
                  <a:lnTo>
                    <a:pt x="1227" y="1554"/>
                  </a:lnTo>
                  <a:lnTo>
                    <a:pt x="1234" y="1560"/>
                  </a:lnTo>
                  <a:lnTo>
                    <a:pt x="1241" y="1567"/>
                  </a:lnTo>
                  <a:lnTo>
                    <a:pt x="1248" y="1567"/>
                  </a:lnTo>
                  <a:lnTo>
                    <a:pt x="1255" y="1560"/>
                  </a:lnTo>
                  <a:lnTo>
                    <a:pt x="1261" y="1554"/>
                  </a:lnTo>
                  <a:lnTo>
                    <a:pt x="1268" y="1547"/>
                  </a:lnTo>
                  <a:lnTo>
                    <a:pt x="1275" y="1547"/>
                  </a:lnTo>
                  <a:lnTo>
                    <a:pt x="1282" y="1540"/>
                  </a:lnTo>
                  <a:lnTo>
                    <a:pt x="1296" y="1540"/>
                  </a:lnTo>
                  <a:lnTo>
                    <a:pt x="1303" y="1533"/>
                  </a:lnTo>
                  <a:lnTo>
                    <a:pt x="1303" y="1519"/>
                  </a:lnTo>
                  <a:lnTo>
                    <a:pt x="1303" y="1512"/>
                  </a:lnTo>
                  <a:lnTo>
                    <a:pt x="1303" y="1499"/>
                  </a:lnTo>
                  <a:lnTo>
                    <a:pt x="1303" y="1492"/>
                  </a:lnTo>
                  <a:lnTo>
                    <a:pt x="1309" y="1485"/>
                  </a:lnTo>
                  <a:lnTo>
                    <a:pt x="1316" y="1478"/>
                  </a:lnTo>
                  <a:lnTo>
                    <a:pt x="1323" y="1471"/>
                  </a:lnTo>
                  <a:lnTo>
                    <a:pt x="1330" y="1471"/>
                  </a:lnTo>
                  <a:lnTo>
                    <a:pt x="1337" y="1471"/>
                  </a:lnTo>
                  <a:lnTo>
                    <a:pt x="1344" y="1471"/>
                  </a:lnTo>
                  <a:lnTo>
                    <a:pt x="1350" y="1471"/>
                  </a:lnTo>
                  <a:lnTo>
                    <a:pt x="1357" y="1478"/>
                  </a:lnTo>
                  <a:lnTo>
                    <a:pt x="1364" y="1478"/>
                  </a:lnTo>
                  <a:lnTo>
                    <a:pt x="1371" y="1485"/>
                  </a:lnTo>
                  <a:lnTo>
                    <a:pt x="1378" y="1492"/>
                  </a:lnTo>
                  <a:lnTo>
                    <a:pt x="1385" y="1492"/>
                  </a:lnTo>
                  <a:lnTo>
                    <a:pt x="1398" y="1499"/>
                  </a:lnTo>
                  <a:lnTo>
                    <a:pt x="1405" y="1499"/>
                  </a:lnTo>
                  <a:lnTo>
                    <a:pt x="1412" y="1499"/>
                  </a:lnTo>
                  <a:lnTo>
                    <a:pt x="1419" y="1499"/>
                  </a:lnTo>
                  <a:lnTo>
                    <a:pt x="1426" y="1499"/>
                  </a:lnTo>
                  <a:lnTo>
                    <a:pt x="1433" y="1506"/>
                  </a:lnTo>
                  <a:lnTo>
                    <a:pt x="1440" y="1506"/>
                  </a:lnTo>
                  <a:lnTo>
                    <a:pt x="1446" y="1512"/>
                  </a:lnTo>
                  <a:lnTo>
                    <a:pt x="1453" y="1512"/>
                  </a:lnTo>
                  <a:lnTo>
                    <a:pt x="1460" y="1519"/>
                  </a:lnTo>
                  <a:lnTo>
                    <a:pt x="1467" y="1526"/>
                  </a:lnTo>
                  <a:lnTo>
                    <a:pt x="1474" y="1533"/>
                  </a:lnTo>
                  <a:lnTo>
                    <a:pt x="1481" y="1533"/>
                  </a:lnTo>
                  <a:lnTo>
                    <a:pt x="1488" y="1540"/>
                  </a:lnTo>
                  <a:lnTo>
                    <a:pt x="1494" y="1547"/>
                  </a:lnTo>
                  <a:lnTo>
                    <a:pt x="1501" y="1554"/>
                  </a:lnTo>
                  <a:lnTo>
                    <a:pt x="1508" y="1560"/>
                  </a:lnTo>
                  <a:lnTo>
                    <a:pt x="1515" y="1567"/>
                  </a:lnTo>
                  <a:lnTo>
                    <a:pt x="1522" y="1567"/>
                  </a:lnTo>
                  <a:lnTo>
                    <a:pt x="1529" y="1574"/>
                  </a:lnTo>
                  <a:lnTo>
                    <a:pt x="1536" y="1581"/>
                  </a:lnTo>
                  <a:lnTo>
                    <a:pt x="1542" y="1581"/>
                  </a:lnTo>
                  <a:lnTo>
                    <a:pt x="1556" y="1581"/>
                  </a:lnTo>
                  <a:lnTo>
                    <a:pt x="1563" y="1588"/>
                  </a:lnTo>
                  <a:lnTo>
                    <a:pt x="1570" y="1588"/>
                  </a:lnTo>
                  <a:lnTo>
                    <a:pt x="1577" y="1595"/>
                  </a:lnTo>
                  <a:lnTo>
                    <a:pt x="1584" y="1595"/>
                  </a:lnTo>
                  <a:lnTo>
                    <a:pt x="1590" y="1595"/>
                  </a:lnTo>
                  <a:lnTo>
                    <a:pt x="1597" y="1595"/>
                  </a:lnTo>
                  <a:lnTo>
                    <a:pt x="1604" y="1595"/>
                  </a:lnTo>
                  <a:lnTo>
                    <a:pt x="1611" y="1595"/>
                  </a:lnTo>
                  <a:lnTo>
                    <a:pt x="1625" y="1595"/>
                  </a:lnTo>
                  <a:lnTo>
                    <a:pt x="1632" y="1595"/>
                  </a:lnTo>
                  <a:lnTo>
                    <a:pt x="1638" y="1595"/>
                  </a:lnTo>
                  <a:lnTo>
                    <a:pt x="1645" y="1595"/>
                  </a:lnTo>
                  <a:lnTo>
                    <a:pt x="1652" y="1595"/>
                  </a:lnTo>
                  <a:lnTo>
                    <a:pt x="1659" y="1595"/>
                  </a:lnTo>
                  <a:lnTo>
                    <a:pt x="1666" y="1595"/>
                  </a:lnTo>
                  <a:lnTo>
                    <a:pt x="1680" y="1595"/>
                  </a:lnTo>
                  <a:lnTo>
                    <a:pt x="1686" y="1595"/>
                  </a:lnTo>
                  <a:lnTo>
                    <a:pt x="1693" y="1595"/>
                  </a:lnTo>
                  <a:lnTo>
                    <a:pt x="1700" y="1595"/>
                  </a:lnTo>
                  <a:lnTo>
                    <a:pt x="1707" y="1601"/>
                  </a:lnTo>
                  <a:lnTo>
                    <a:pt x="1714" y="1601"/>
                  </a:lnTo>
                  <a:lnTo>
                    <a:pt x="1721" y="1608"/>
                  </a:lnTo>
                  <a:lnTo>
                    <a:pt x="1728" y="1615"/>
                  </a:lnTo>
                  <a:lnTo>
                    <a:pt x="1734" y="1615"/>
                  </a:lnTo>
                  <a:lnTo>
                    <a:pt x="1748" y="1615"/>
                  </a:lnTo>
                  <a:lnTo>
                    <a:pt x="1755" y="1615"/>
                  </a:lnTo>
                  <a:lnTo>
                    <a:pt x="1762" y="1615"/>
                  </a:lnTo>
                  <a:lnTo>
                    <a:pt x="1769" y="1608"/>
                  </a:lnTo>
                  <a:lnTo>
                    <a:pt x="1776" y="1601"/>
                  </a:lnTo>
                  <a:lnTo>
                    <a:pt x="1782" y="1595"/>
                  </a:lnTo>
                  <a:lnTo>
                    <a:pt x="1789" y="1595"/>
                  </a:lnTo>
                  <a:lnTo>
                    <a:pt x="1796" y="1588"/>
                  </a:lnTo>
                  <a:lnTo>
                    <a:pt x="1803" y="1588"/>
                  </a:lnTo>
                  <a:lnTo>
                    <a:pt x="1810" y="1595"/>
                  </a:lnTo>
                  <a:lnTo>
                    <a:pt x="1817" y="1595"/>
                  </a:lnTo>
                  <a:lnTo>
                    <a:pt x="1824" y="1595"/>
                  </a:lnTo>
                  <a:lnTo>
                    <a:pt x="1830" y="1595"/>
                  </a:lnTo>
                  <a:lnTo>
                    <a:pt x="1844" y="1601"/>
                  </a:lnTo>
                  <a:lnTo>
                    <a:pt x="1851" y="1601"/>
                  </a:lnTo>
                  <a:lnTo>
                    <a:pt x="1858" y="1601"/>
                  </a:lnTo>
                  <a:lnTo>
                    <a:pt x="1865" y="1608"/>
                  </a:lnTo>
                  <a:lnTo>
                    <a:pt x="1872" y="1608"/>
                  </a:lnTo>
                  <a:lnTo>
                    <a:pt x="1878" y="1615"/>
                  </a:lnTo>
                  <a:lnTo>
                    <a:pt x="1885" y="1615"/>
                  </a:lnTo>
                  <a:lnTo>
                    <a:pt x="1892" y="1622"/>
                  </a:lnTo>
                  <a:lnTo>
                    <a:pt x="1899" y="1629"/>
                  </a:lnTo>
                  <a:lnTo>
                    <a:pt x="1906" y="1629"/>
                  </a:lnTo>
                  <a:lnTo>
                    <a:pt x="1913" y="1636"/>
                  </a:lnTo>
                  <a:lnTo>
                    <a:pt x="1920" y="1643"/>
                  </a:lnTo>
                  <a:lnTo>
                    <a:pt x="1926" y="1649"/>
                  </a:lnTo>
                  <a:lnTo>
                    <a:pt x="1933" y="1656"/>
                  </a:lnTo>
                  <a:lnTo>
                    <a:pt x="1940" y="1656"/>
                  </a:lnTo>
                  <a:lnTo>
                    <a:pt x="1947" y="1663"/>
                  </a:lnTo>
                  <a:lnTo>
                    <a:pt x="1954" y="1670"/>
                  </a:lnTo>
                  <a:lnTo>
                    <a:pt x="1961" y="1677"/>
                  </a:lnTo>
                  <a:lnTo>
                    <a:pt x="1968" y="1684"/>
                  </a:lnTo>
                  <a:lnTo>
                    <a:pt x="1974" y="1690"/>
                  </a:lnTo>
                  <a:lnTo>
                    <a:pt x="1974" y="1697"/>
                  </a:lnTo>
                  <a:lnTo>
                    <a:pt x="1981" y="1704"/>
                  </a:lnTo>
                  <a:lnTo>
                    <a:pt x="1988" y="1718"/>
                  </a:lnTo>
                  <a:lnTo>
                    <a:pt x="1995" y="1725"/>
                  </a:lnTo>
                  <a:lnTo>
                    <a:pt x="2002" y="1725"/>
                  </a:lnTo>
                  <a:lnTo>
                    <a:pt x="2009" y="1731"/>
                  </a:lnTo>
                  <a:lnTo>
                    <a:pt x="2016" y="1738"/>
                  </a:lnTo>
                  <a:lnTo>
                    <a:pt x="2022" y="1738"/>
                  </a:lnTo>
                  <a:lnTo>
                    <a:pt x="2029" y="1738"/>
                  </a:lnTo>
                  <a:lnTo>
                    <a:pt x="2036" y="1731"/>
                  </a:lnTo>
                  <a:lnTo>
                    <a:pt x="2043" y="1718"/>
                  </a:lnTo>
                  <a:lnTo>
                    <a:pt x="2043" y="1711"/>
                  </a:lnTo>
                  <a:lnTo>
                    <a:pt x="2050" y="1704"/>
                  </a:lnTo>
                  <a:lnTo>
                    <a:pt x="2057" y="1697"/>
                  </a:lnTo>
                  <a:lnTo>
                    <a:pt x="2064" y="1704"/>
                  </a:lnTo>
                  <a:lnTo>
                    <a:pt x="2070" y="1711"/>
                  </a:lnTo>
                  <a:lnTo>
                    <a:pt x="2091" y="1690"/>
                  </a:lnTo>
                  <a:lnTo>
                    <a:pt x="2091" y="1656"/>
                  </a:lnTo>
                  <a:lnTo>
                    <a:pt x="2091" y="1629"/>
                  </a:lnTo>
                  <a:lnTo>
                    <a:pt x="2091" y="1595"/>
                  </a:lnTo>
                  <a:lnTo>
                    <a:pt x="2125" y="1560"/>
                  </a:lnTo>
                  <a:lnTo>
                    <a:pt x="2125" y="1526"/>
                  </a:lnTo>
                  <a:lnTo>
                    <a:pt x="2125" y="1492"/>
                  </a:lnTo>
                  <a:lnTo>
                    <a:pt x="2125" y="1458"/>
                  </a:lnTo>
                  <a:lnTo>
                    <a:pt x="2125" y="1424"/>
                  </a:lnTo>
                  <a:lnTo>
                    <a:pt x="2125" y="1389"/>
                  </a:lnTo>
                  <a:lnTo>
                    <a:pt x="2159" y="1355"/>
                  </a:lnTo>
                  <a:lnTo>
                    <a:pt x="2159" y="1321"/>
                  </a:lnTo>
                  <a:lnTo>
                    <a:pt x="2159" y="1287"/>
                  </a:lnTo>
                  <a:lnTo>
                    <a:pt x="2159" y="1252"/>
                  </a:lnTo>
                  <a:lnTo>
                    <a:pt x="2159" y="1218"/>
                  </a:lnTo>
                  <a:lnTo>
                    <a:pt x="2159" y="1184"/>
                  </a:lnTo>
                  <a:lnTo>
                    <a:pt x="2159" y="1150"/>
                  </a:lnTo>
                  <a:lnTo>
                    <a:pt x="2194" y="1116"/>
                  </a:lnTo>
                  <a:lnTo>
                    <a:pt x="2194" y="1081"/>
                  </a:lnTo>
                  <a:lnTo>
                    <a:pt x="2194" y="1047"/>
                  </a:lnTo>
                  <a:lnTo>
                    <a:pt x="2194" y="1013"/>
                  </a:lnTo>
                  <a:lnTo>
                    <a:pt x="2194" y="986"/>
                  </a:lnTo>
                  <a:lnTo>
                    <a:pt x="2194" y="951"/>
                  </a:lnTo>
                  <a:lnTo>
                    <a:pt x="2194" y="917"/>
                  </a:lnTo>
                  <a:lnTo>
                    <a:pt x="2228" y="883"/>
                  </a:lnTo>
                  <a:lnTo>
                    <a:pt x="2228" y="849"/>
                  </a:lnTo>
                  <a:lnTo>
                    <a:pt x="2228" y="815"/>
                  </a:lnTo>
                  <a:lnTo>
                    <a:pt x="2228" y="780"/>
                  </a:lnTo>
                  <a:lnTo>
                    <a:pt x="2228" y="746"/>
                  </a:lnTo>
                  <a:lnTo>
                    <a:pt x="2228" y="712"/>
                  </a:lnTo>
                  <a:lnTo>
                    <a:pt x="2228" y="678"/>
                  </a:lnTo>
                  <a:lnTo>
                    <a:pt x="2255" y="643"/>
                  </a:lnTo>
                  <a:lnTo>
                    <a:pt x="2255" y="609"/>
                  </a:lnTo>
                  <a:lnTo>
                    <a:pt x="2255" y="575"/>
                  </a:lnTo>
                  <a:lnTo>
                    <a:pt x="2255" y="541"/>
                  </a:lnTo>
                  <a:lnTo>
                    <a:pt x="2255" y="507"/>
                  </a:lnTo>
                  <a:lnTo>
                    <a:pt x="2255" y="472"/>
                  </a:lnTo>
                  <a:lnTo>
                    <a:pt x="2255" y="438"/>
                  </a:lnTo>
                  <a:lnTo>
                    <a:pt x="2290" y="404"/>
                  </a:lnTo>
                  <a:lnTo>
                    <a:pt x="2290" y="370"/>
                  </a:lnTo>
                  <a:lnTo>
                    <a:pt x="2290" y="342"/>
                  </a:lnTo>
                  <a:lnTo>
                    <a:pt x="2290" y="308"/>
                  </a:lnTo>
                  <a:lnTo>
                    <a:pt x="2290" y="274"/>
                  </a:lnTo>
                  <a:lnTo>
                    <a:pt x="2290" y="240"/>
                  </a:lnTo>
                  <a:lnTo>
                    <a:pt x="2290" y="206"/>
                  </a:lnTo>
                  <a:lnTo>
                    <a:pt x="2324" y="171"/>
                  </a:lnTo>
                  <a:lnTo>
                    <a:pt x="2324" y="137"/>
                  </a:lnTo>
                  <a:lnTo>
                    <a:pt x="2324" y="103"/>
                  </a:lnTo>
                  <a:lnTo>
                    <a:pt x="2324" y="69"/>
                  </a:lnTo>
                  <a:lnTo>
                    <a:pt x="2324" y="34"/>
                  </a:lnTo>
                  <a:lnTo>
                    <a:pt x="2324" y="0"/>
                  </a:lnTo>
                  <a:lnTo>
                    <a:pt x="2303" y="0"/>
                  </a:lnTo>
                  <a:lnTo>
                    <a:pt x="2297" y="7"/>
                  </a:lnTo>
                  <a:lnTo>
                    <a:pt x="2297" y="14"/>
                  </a:lnTo>
                  <a:lnTo>
                    <a:pt x="2290" y="28"/>
                  </a:lnTo>
                  <a:lnTo>
                    <a:pt x="2290" y="34"/>
                  </a:lnTo>
                  <a:lnTo>
                    <a:pt x="2283" y="41"/>
                  </a:lnTo>
                  <a:lnTo>
                    <a:pt x="2276" y="48"/>
                  </a:lnTo>
                  <a:lnTo>
                    <a:pt x="2276" y="55"/>
                  </a:lnTo>
                  <a:lnTo>
                    <a:pt x="2269" y="69"/>
                  </a:lnTo>
                  <a:lnTo>
                    <a:pt x="2269" y="76"/>
                  </a:lnTo>
                  <a:lnTo>
                    <a:pt x="2262" y="82"/>
                  </a:lnTo>
                  <a:lnTo>
                    <a:pt x="2255" y="89"/>
                  </a:lnTo>
                  <a:lnTo>
                    <a:pt x="2255" y="96"/>
                  </a:lnTo>
                  <a:lnTo>
                    <a:pt x="2249" y="103"/>
                  </a:lnTo>
                  <a:lnTo>
                    <a:pt x="2242" y="117"/>
                  </a:lnTo>
                  <a:lnTo>
                    <a:pt x="2242" y="123"/>
                  </a:lnTo>
                  <a:lnTo>
                    <a:pt x="2235" y="130"/>
                  </a:lnTo>
                  <a:lnTo>
                    <a:pt x="2235" y="137"/>
                  </a:lnTo>
                  <a:lnTo>
                    <a:pt x="2228" y="144"/>
                  </a:lnTo>
                  <a:lnTo>
                    <a:pt x="2221" y="158"/>
                  </a:lnTo>
                  <a:lnTo>
                    <a:pt x="2221" y="158"/>
                  </a:lnTo>
                  <a:lnTo>
                    <a:pt x="2214" y="164"/>
                  </a:lnTo>
                  <a:lnTo>
                    <a:pt x="2201" y="164"/>
                  </a:lnTo>
                  <a:lnTo>
                    <a:pt x="2194" y="164"/>
                  </a:lnTo>
                  <a:lnTo>
                    <a:pt x="2187" y="164"/>
                  </a:lnTo>
                  <a:lnTo>
                    <a:pt x="2180" y="164"/>
                  </a:lnTo>
                  <a:lnTo>
                    <a:pt x="2173" y="158"/>
                  </a:lnTo>
                  <a:lnTo>
                    <a:pt x="2166" y="151"/>
                  </a:lnTo>
                  <a:lnTo>
                    <a:pt x="2166" y="144"/>
                  </a:lnTo>
                  <a:lnTo>
                    <a:pt x="2159" y="137"/>
                  </a:lnTo>
                  <a:lnTo>
                    <a:pt x="2153" y="137"/>
                  </a:lnTo>
                  <a:lnTo>
                    <a:pt x="2146" y="151"/>
                  </a:lnTo>
                  <a:lnTo>
                    <a:pt x="2146" y="158"/>
                  </a:lnTo>
                  <a:lnTo>
                    <a:pt x="2139" y="164"/>
                  </a:lnTo>
                  <a:lnTo>
                    <a:pt x="2132" y="171"/>
                  </a:lnTo>
                  <a:lnTo>
                    <a:pt x="2125" y="171"/>
                  </a:lnTo>
                  <a:lnTo>
                    <a:pt x="2118" y="178"/>
                  </a:lnTo>
                  <a:lnTo>
                    <a:pt x="2112" y="178"/>
                  </a:lnTo>
                  <a:lnTo>
                    <a:pt x="2105" y="185"/>
                  </a:lnTo>
                  <a:lnTo>
                    <a:pt x="2105" y="185"/>
                  </a:lnTo>
                  <a:lnTo>
                    <a:pt x="2098" y="192"/>
                  </a:lnTo>
                  <a:lnTo>
                    <a:pt x="2091" y="192"/>
                  </a:lnTo>
                  <a:lnTo>
                    <a:pt x="2084" y="199"/>
                  </a:lnTo>
                  <a:lnTo>
                    <a:pt x="2077" y="199"/>
                  </a:lnTo>
                  <a:lnTo>
                    <a:pt x="2070" y="206"/>
                  </a:lnTo>
                  <a:lnTo>
                    <a:pt x="2064" y="212"/>
                  </a:lnTo>
                  <a:lnTo>
                    <a:pt x="2057" y="212"/>
                  </a:lnTo>
                  <a:lnTo>
                    <a:pt x="2050" y="219"/>
                  </a:lnTo>
                  <a:lnTo>
                    <a:pt x="2043" y="226"/>
                  </a:lnTo>
                  <a:lnTo>
                    <a:pt x="2036" y="226"/>
                  </a:lnTo>
                  <a:lnTo>
                    <a:pt x="2029" y="226"/>
                  </a:lnTo>
                  <a:lnTo>
                    <a:pt x="2022" y="226"/>
                  </a:lnTo>
                  <a:lnTo>
                    <a:pt x="2016" y="226"/>
                  </a:lnTo>
                  <a:lnTo>
                    <a:pt x="2009" y="219"/>
                  </a:lnTo>
                  <a:lnTo>
                    <a:pt x="2002" y="206"/>
                  </a:lnTo>
                  <a:lnTo>
                    <a:pt x="2002" y="199"/>
                  </a:lnTo>
                  <a:lnTo>
                    <a:pt x="1995" y="185"/>
                  </a:lnTo>
                  <a:lnTo>
                    <a:pt x="1995" y="178"/>
                  </a:lnTo>
                  <a:lnTo>
                    <a:pt x="1988" y="171"/>
                  </a:lnTo>
                  <a:lnTo>
                    <a:pt x="1981" y="171"/>
                  </a:lnTo>
                  <a:lnTo>
                    <a:pt x="1974" y="171"/>
                  </a:lnTo>
                  <a:lnTo>
                    <a:pt x="1968" y="171"/>
                  </a:lnTo>
                  <a:lnTo>
                    <a:pt x="1961" y="171"/>
                  </a:lnTo>
                  <a:lnTo>
                    <a:pt x="1954" y="171"/>
                  </a:lnTo>
                  <a:lnTo>
                    <a:pt x="1947" y="171"/>
                  </a:lnTo>
                  <a:lnTo>
                    <a:pt x="1940" y="171"/>
                  </a:lnTo>
                  <a:lnTo>
                    <a:pt x="1933" y="171"/>
                  </a:lnTo>
                  <a:lnTo>
                    <a:pt x="1926" y="171"/>
                  </a:lnTo>
                  <a:lnTo>
                    <a:pt x="1920" y="171"/>
                  </a:lnTo>
                  <a:lnTo>
                    <a:pt x="1913" y="178"/>
                  </a:lnTo>
                  <a:lnTo>
                    <a:pt x="1906" y="178"/>
                  </a:lnTo>
                  <a:lnTo>
                    <a:pt x="1899" y="178"/>
                  </a:lnTo>
                  <a:lnTo>
                    <a:pt x="1892" y="171"/>
                  </a:lnTo>
                  <a:lnTo>
                    <a:pt x="1885" y="164"/>
                  </a:lnTo>
                  <a:lnTo>
                    <a:pt x="1892" y="158"/>
                  </a:lnTo>
                  <a:lnTo>
                    <a:pt x="1899" y="158"/>
                  </a:lnTo>
                  <a:lnTo>
                    <a:pt x="1906" y="158"/>
                  </a:lnTo>
                  <a:lnTo>
                    <a:pt x="1913" y="164"/>
                  </a:lnTo>
                  <a:lnTo>
                    <a:pt x="1920" y="164"/>
                  </a:lnTo>
                  <a:lnTo>
                    <a:pt x="1926" y="158"/>
                  </a:lnTo>
                  <a:lnTo>
                    <a:pt x="1926" y="151"/>
                  </a:lnTo>
                  <a:lnTo>
                    <a:pt x="1926" y="137"/>
                  </a:lnTo>
                  <a:lnTo>
                    <a:pt x="1926" y="130"/>
                  </a:lnTo>
                  <a:lnTo>
                    <a:pt x="1920" y="123"/>
                  </a:lnTo>
                  <a:lnTo>
                    <a:pt x="1913" y="123"/>
                  </a:lnTo>
                  <a:lnTo>
                    <a:pt x="1906" y="123"/>
                  </a:lnTo>
                  <a:lnTo>
                    <a:pt x="1899" y="123"/>
                  </a:lnTo>
                  <a:lnTo>
                    <a:pt x="1885" y="137"/>
                  </a:lnTo>
                  <a:lnTo>
                    <a:pt x="1851" y="137"/>
                  </a:lnTo>
                  <a:lnTo>
                    <a:pt x="1844" y="137"/>
                  </a:lnTo>
                  <a:lnTo>
                    <a:pt x="1837" y="137"/>
                  </a:lnTo>
                  <a:lnTo>
                    <a:pt x="1837" y="137"/>
                  </a:lnTo>
                  <a:lnTo>
                    <a:pt x="1830" y="137"/>
                  </a:lnTo>
                  <a:lnTo>
                    <a:pt x="1830" y="137"/>
                  </a:lnTo>
                  <a:lnTo>
                    <a:pt x="1824" y="137"/>
                  </a:lnTo>
                  <a:lnTo>
                    <a:pt x="1824" y="137"/>
                  </a:lnTo>
                  <a:lnTo>
                    <a:pt x="1817" y="144"/>
                  </a:lnTo>
                  <a:lnTo>
                    <a:pt x="1817" y="144"/>
                  </a:lnTo>
                  <a:lnTo>
                    <a:pt x="1789" y="171"/>
                  </a:lnTo>
                  <a:lnTo>
                    <a:pt x="1755" y="171"/>
                  </a:lnTo>
                  <a:lnTo>
                    <a:pt x="1721" y="171"/>
                  </a:lnTo>
                  <a:lnTo>
                    <a:pt x="1686" y="206"/>
                  </a:lnTo>
                  <a:lnTo>
                    <a:pt x="1652" y="206"/>
                  </a:lnTo>
                  <a:lnTo>
                    <a:pt x="1618" y="206"/>
                  </a:lnTo>
                  <a:lnTo>
                    <a:pt x="1584" y="240"/>
                  </a:lnTo>
                  <a:lnTo>
                    <a:pt x="1549" y="240"/>
                  </a:lnTo>
                  <a:lnTo>
                    <a:pt x="1515" y="240"/>
                  </a:lnTo>
                  <a:lnTo>
                    <a:pt x="1481" y="274"/>
                  </a:lnTo>
                  <a:lnTo>
                    <a:pt x="1446" y="274"/>
                  </a:lnTo>
                  <a:lnTo>
                    <a:pt x="1419" y="274"/>
                  </a:lnTo>
                  <a:lnTo>
                    <a:pt x="1385" y="308"/>
                  </a:lnTo>
                  <a:lnTo>
                    <a:pt x="1350" y="308"/>
                  </a:lnTo>
                  <a:lnTo>
                    <a:pt x="1316" y="308"/>
                  </a:lnTo>
                  <a:lnTo>
                    <a:pt x="1282" y="342"/>
                  </a:lnTo>
                  <a:lnTo>
                    <a:pt x="1248" y="342"/>
                  </a:lnTo>
                  <a:lnTo>
                    <a:pt x="1213" y="370"/>
                  </a:lnTo>
                  <a:lnTo>
                    <a:pt x="1179" y="370"/>
                  </a:lnTo>
                  <a:lnTo>
                    <a:pt x="1145" y="370"/>
                  </a:lnTo>
                  <a:lnTo>
                    <a:pt x="1111" y="404"/>
                  </a:lnTo>
                  <a:lnTo>
                    <a:pt x="1076" y="404"/>
                  </a:lnTo>
                  <a:lnTo>
                    <a:pt x="1042" y="404"/>
                  </a:lnTo>
                  <a:lnTo>
                    <a:pt x="1015" y="438"/>
                  </a:lnTo>
                  <a:lnTo>
                    <a:pt x="980" y="438"/>
                  </a:lnTo>
                  <a:lnTo>
                    <a:pt x="946" y="438"/>
                  </a:lnTo>
                  <a:lnTo>
                    <a:pt x="912" y="472"/>
                  </a:lnTo>
                  <a:lnTo>
                    <a:pt x="877" y="472"/>
                  </a:lnTo>
                  <a:lnTo>
                    <a:pt x="843" y="472"/>
                  </a:lnTo>
                  <a:lnTo>
                    <a:pt x="809" y="507"/>
                  </a:lnTo>
                  <a:lnTo>
                    <a:pt x="775" y="507"/>
                  </a:lnTo>
                  <a:lnTo>
                    <a:pt x="740" y="507"/>
                  </a:lnTo>
                  <a:lnTo>
                    <a:pt x="706" y="541"/>
                  </a:lnTo>
                  <a:lnTo>
                    <a:pt x="672" y="541"/>
                  </a:lnTo>
                  <a:lnTo>
                    <a:pt x="637" y="541"/>
                  </a:lnTo>
                  <a:lnTo>
                    <a:pt x="603" y="575"/>
                  </a:lnTo>
                  <a:lnTo>
                    <a:pt x="576" y="575"/>
                  </a:lnTo>
                  <a:lnTo>
                    <a:pt x="541" y="575"/>
                  </a:lnTo>
                  <a:lnTo>
                    <a:pt x="507" y="609"/>
                  </a:lnTo>
                  <a:lnTo>
                    <a:pt x="473" y="609"/>
                  </a:lnTo>
                  <a:lnTo>
                    <a:pt x="439" y="643"/>
                  </a:lnTo>
                  <a:lnTo>
                    <a:pt x="404" y="643"/>
                  </a:lnTo>
                  <a:lnTo>
                    <a:pt x="370" y="643"/>
                  </a:lnTo>
                  <a:lnTo>
                    <a:pt x="336" y="678"/>
                  </a:lnTo>
                  <a:lnTo>
                    <a:pt x="302" y="678"/>
                  </a:lnTo>
                  <a:lnTo>
                    <a:pt x="267" y="678"/>
                  </a:lnTo>
                  <a:lnTo>
                    <a:pt x="233" y="712"/>
                  </a:lnTo>
                  <a:lnTo>
                    <a:pt x="199" y="712"/>
                  </a:lnTo>
                  <a:lnTo>
                    <a:pt x="171" y="712"/>
                  </a:lnTo>
                  <a:lnTo>
                    <a:pt x="137" y="746"/>
                  </a:lnTo>
                  <a:lnTo>
                    <a:pt x="103" y="746"/>
                  </a:lnTo>
                  <a:lnTo>
                    <a:pt x="103" y="780"/>
                  </a:lnTo>
                  <a:lnTo>
                    <a:pt x="103" y="815"/>
                  </a:lnTo>
                  <a:lnTo>
                    <a:pt x="103" y="849"/>
                  </a:lnTo>
                  <a:lnTo>
                    <a:pt x="103" y="883"/>
                  </a:lnTo>
                  <a:lnTo>
                    <a:pt x="103" y="917"/>
                  </a:lnTo>
                  <a:lnTo>
                    <a:pt x="68" y="951"/>
                  </a:lnTo>
                  <a:lnTo>
                    <a:pt x="68" y="986"/>
                  </a:lnTo>
                  <a:lnTo>
                    <a:pt x="68" y="1013"/>
                  </a:lnTo>
                  <a:lnTo>
                    <a:pt x="68" y="1047"/>
                  </a:lnTo>
                  <a:lnTo>
                    <a:pt x="68" y="1081"/>
                  </a:lnTo>
                  <a:lnTo>
                    <a:pt x="68" y="1116"/>
                  </a:lnTo>
                  <a:lnTo>
                    <a:pt x="68" y="1150"/>
                  </a:lnTo>
                  <a:lnTo>
                    <a:pt x="68" y="1184"/>
                  </a:lnTo>
                  <a:lnTo>
                    <a:pt x="68" y="1218"/>
                  </a:lnTo>
                  <a:lnTo>
                    <a:pt x="68" y="1252"/>
                  </a:lnTo>
                  <a:lnTo>
                    <a:pt x="68" y="1287"/>
                  </a:lnTo>
                  <a:lnTo>
                    <a:pt x="68" y="1321"/>
                  </a:lnTo>
                  <a:lnTo>
                    <a:pt x="68" y="1355"/>
                  </a:lnTo>
                  <a:lnTo>
                    <a:pt x="68" y="1389"/>
                  </a:lnTo>
                  <a:lnTo>
                    <a:pt x="68" y="1424"/>
                  </a:lnTo>
                  <a:lnTo>
                    <a:pt x="68" y="1458"/>
                  </a:lnTo>
                  <a:lnTo>
                    <a:pt x="68" y="1492"/>
                  </a:lnTo>
                  <a:lnTo>
                    <a:pt x="68" y="1526"/>
                  </a:lnTo>
                  <a:lnTo>
                    <a:pt x="34" y="1560"/>
                  </a:lnTo>
                  <a:lnTo>
                    <a:pt x="34" y="1595"/>
                  </a:lnTo>
                  <a:lnTo>
                    <a:pt x="34" y="1629"/>
                  </a:lnTo>
                  <a:lnTo>
                    <a:pt x="34" y="1656"/>
                  </a:lnTo>
                  <a:lnTo>
                    <a:pt x="34" y="1690"/>
                  </a:lnTo>
                  <a:lnTo>
                    <a:pt x="34" y="1725"/>
                  </a:lnTo>
                  <a:lnTo>
                    <a:pt x="34" y="1759"/>
                  </a:lnTo>
                  <a:lnTo>
                    <a:pt x="34" y="1793"/>
                  </a:lnTo>
                  <a:lnTo>
                    <a:pt x="34" y="1827"/>
                  </a:lnTo>
                  <a:lnTo>
                    <a:pt x="34" y="1861"/>
                  </a:lnTo>
                  <a:lnTo>
                    <a:pt x="34" y="1896"/>
                  </a:lnTo>
                  <a:lnTo>
                    <a:pt x="34" y="1930"/>
                  </a:lnTo>
                  <a:lnTo>
                    <a:pt x="34" y="1964"/>
                  </a:lnTo>
                  <a:lnTo>
                    <a:pt x="34" y="1998"/>
                  </a:lnTo>
                  <a:lnTo>
                    <a:pt x="34" y="2033"/>
                  </a:lnTo>
                  <a:lnTo>
                    <a:pt x="34" y="2067"/>
                  </a:lnTo>
                  <a:lnTo>
                    <a:pt x="34" y="2101"/>
                  </a:lnTo>
                  <a:lnTo>
                    <a:pt x="0" y="2135"/>
                  </a:lnTo>
                  <a:lnTo>
                    <a:pt x="0" y="2169"/>
                  </a:lnTo>
                  <a:lnTo>
                    <a:pt x="0" y="2204"/>
                  </a:lnTo>
                  <a:lnTo>
                    <a:pt x="0" y="2238"/>
                  </a:lnTo>
                  <a:lnTo>
                    <a:pt x="0" y="2272"/>
                  </a:lnTo>
                  <a:lnTo>
                    <a:pt x="0" y="2299"/>
                  </a:lnTo>
                  <a:lnTo>
                    <a:pt x="0" y="2334"/>
                  </a:lnTo>
                  <a:lnTo>
                    <a:pt x="0" y="2368"/>
                  </a:lnTo>
                  <a:lnTo>
                    <a:pt x="0" y="2402"/>
                  </a:lnTo>
                  <a:lnTo>
                    <a:pt x="0" y="2436"/>
                  </a:lnTo>
                  <a:lnTo>
                    <a:pt x="0" y="2470"/>
                  </a:lnTo>
                  <a:lnTo>
                    <a:pt x="0" y="2505"/>
                  </a:lnTo>
                  <a:lnTo>
                    <a:pt x="0" y="2539"/>
                  </a:lnTo>
                  <a:lnTo>
                    <a:pt x="0" y="2573"/>
                  </a:lnTo>
                  <a:lnTo>
                    <a:pt x="0" y="2607"/>
                  </a:lnTo>
                  <a:lnTo>
                    <a:pt x="0" y="2642"/>
                  </a:lnTo>
                  <a:lnTo>
                    <a:pt x="0" y="2676"/>
                  </a:lnTo>
                  <a:lnTo>
                    <a:pt x="0" y="2710"/>
                  </a:lnTo>
                  <a:lnTo>
                    <a:pt x="0" y="2744"/>
                  </a:lnTo>
                  <a:lnTo>
                    <a:pt x="34" y="2744"/>
                  </a:lnTo>
                  <a:lnTo>
                    <a:pt x="68" y="2778"/>
                  </a:lnTo>
                  <a:lnTo>
                    <a:pt x="103" y="2778"/>
                  </a:lnTo>
                  <a:lnTo>
                    <a:pt x="137" y="2813"/>
                  </a:lnTo>
                  <a:lnTo>
                    <a:pt x="171" y="2847"/>
                  </a:lnTo>
                  <a:lnTo>
                    <a:pt x="199" y="2847"/>
                  </a:lnTo>
                  <a:lnTo>
                    <a:pt x="233" y="2881"/>
                  </a:lnTo>
                  <a:lnTo>
                    <a:pt x="267" y="2915"/>
                  </a:lnTo>
                  <a:lnTo>
                    <a:pt x="302" y="2915"/>
                  </a:lnTo>
                  <a:lnTo>
                    <a:pt x="336" y="2943"/>
                  </a:lnTo>
                  <a:lnTo>
                    <a:pt x="370" y="2977"/>
                  </a:lnTo>
                  <a:lnTo>
                    <a:pt x="404" y="2977"/>
                  </a:lnTo>
                  <a:lnTo>
                    <a:pt x="439" y="3011"/>
                  </a:lnTo>
                  <a:lnTo>
                    <a:pt x="473" y="3045"/>
                  </a:lnTo>
                  <a:lnTo>
                    <a:pt x="507" y="3045"/>
                  </a:lnTo>
                  <a:lnTo>
                    <a:pt x="541" y="3079"/>
                  </a:lnTo>
                  <a:lnTo>
                    <a:pt x="576" y="3079"/>
                  </a:lnTo>
                  <a:lnTo>
                    <a:pt x="603" y="3114"/>
                  </a:lnTo>
                  <a:lnTo>
                    <a:pt x="637" y="3148"/>
                  </a:lnTo>
                  <a:lnTo>
                    <a:pt x="672" y="3148"/>
                  </a:lnTo>
                  <a:lnTo>
                    <a:pt x="706" y="3182"/>
                  </a:lnTo>
                  <a:lnTo>
                    <a:pt x="740" y="3216"/>
                  </a:lnTo>
                  <a:lnTo>
                    <a:pt x="775" y="3216"/>
                  </a:lnTo>
                  <a:lnTo>
                    <a:pt x="809" y="3251"/>
                  </a:lnTo>
                  <a:lnTo>
                    <a:pt x="843" y="3251"/>
                  </a:lnTo>
                  <a:lnTo>
                    <a:pt x="877" y="3285"/>
                  </a:lnTo>
                  <a:lnTo>
                    <a:pt x="912" y="3285"/>
                  </a:lnTo>
                  <a:lnTo>
                    <a:pt x="946" y="3285"/>
                  </a:lnTo>
                  <a:lnTo>
                    <a:pt x="980" y="3285"/>
                  </a:lnTo>
                  <a:close/>
                  <a:moveTo>
                    <a:pt x="1076" y="2169"/>
                  </a:moveTo>
                  <a:lnTo>
                    <a:pt x="1069" y="2163"/>
                  </a:lnTo>
                  <a:lnTo>
                    <a:pt x="1063" y="2163"/>
                  </a:lnTo>
                  <a:lnTo>
                    <a:pt x="1056" y="2156"/>
                  </a:lnTo>
                  <a:lnTo>
                    <a:pt x="1049" y="2142"/>
                  </a:lnTo>
                  <a:lnTo>
                    <a:pt x="1049" y="2135"/>
                  </a:lnTo>
                  <a:lnTo>
                    <a:pt x="1049" y="2128"/>
                  </a:lnTo>
                  <a:lnTo>
                    <a:pt x="1056" y="2121"/>
                  </a:lnTo>
                  <a:lnTo>
                    <a:pt x="1063" y="2115"/>
                  </a:lnTo>
                  <a:lnTo>
                    <a:pt x="1069" y="2108"/>
                  </a:lnTo>
                  <a:lnTo>
                    <a:pt x="1076" y="2094"/>
                  </a:lnTo>
                  <a:lnTo>
                    <a:pt x="1076" y="2087"/>
                  </a:lnTo>
                  <a:lnTo>
                    <a:pt x="1083" y="2080"/>
                  </a:lnTo>
                  <a:lnTo>
                    <a:pt x="1090" y="2080"/>
                  </a:lnTo>
                  <a:lnTo>
                    <a:pt x="1097" y="2074"/>
                  </a:lnTo>
                  <a:lnTo>
                    <a:pt x="1104" y="2060"/>
                  </a:lnTo>
                  <a:lnTo>
                    <a:pt x="1104" y="2053"/>
                  </a:lnTo>
                  <a:lnTo>
                    <a:pt x="1111" y="2039"/>
                  </a:lnTo>
                  <a:lnTo>
                    <a:pt x="1111" y="2039"/>
                  </a:lnTo>
                  <a:lnTo>
                    <a:pt x="1117" y="2039"/>
                  </a:lnTo>
                  <a:lnTo>
                    <a:pt x="1124" y="2053"/>
                  </a:lnTo>
                  <a:lnTo>
                    <a:pt x="1124" y="2067"/>
                  </a:lnTo>
                  <a:lnTo>
                    <a:pt x="1131" y="2074"/>
                  </a:lnTo>
                  <a:lnTo>
                    <a:pt x="1138" y="2080"/>
                  </a:lnTo>
                  <a:lnTo>
                    <a:pt x="1145" y="2087"/>
                  </a:lnTo>
                  <a:lnTo>
                    <a:pt x="1145" y="2094"/>
                  </a:lnTo>
                  <a:lnTo>
                    <a:pt x="1145" y="2108"/>
                  </a:lnTo>
                  <a:lnTo>
                    <a:pt x="1145" y="2115"/>
                  </a:lnTo>
                  <a:lnTo>
                    <a:pt x="1138" y="2128"/>
                  </a:lnTo>
                  <a:lnTo>
                    <a:pt x="1131" y="2135"/>
                  </a:lnTo>
                  <a:lnTo>
                    <a:pt x="1131" y="2142"/>
                  </a:lnTo>
                  <a:lnTo>
                    <a:pt x="1124" y="2149"/>
                  </a:lnTo>
                  <a:lnTo>
                    <a:pt x="1117" y="2156"/>
                  </a:lnTo>
                  <a:lnTo>
                    <a:pt x="1117" y="2169"/>
                  </a:lnTo>
                  <a:lnTo>
                    <a:pt x="1111" y="2176"/>
                  </a:lnTo>
                  <a:lnTo>
                    <a:pt x="1104" y="2176"/>
                  </a:lnTo>
                  <a:lnTo>
                    <a:pt x="1097" y="2176"/>
                  </a:lnTo>
                  <a:lnTo>
                    <a:pt x="1090" y="2169"/>
                  </a:lnTo>
                  <a:lnTo>
                    <a:pt x="1076" y="2169"/>
                  </a:lnTo>
                  <a:close/>
                  <a:moveTo>
                    <a:pt x="2057" y="1827"/>
                  </a:moveTo>
                  <a:lnTo>
                    <a:pt x="2057" y="1820"/>
                  </a:lnTo>
                  <a:lnTo>
                    <a:pt x="2057" y="1827"/>
                  </a:lnTo>
                  <a:lnTo>
                    <a:pt x="2057" y="1827"/>
                  </a:lnTo>
                  <a:close/>
                  <a:moveTo>
                    <a:pt x="617" y="1656"/>
                  </a:moveTo>
                  <a:lnTo>
                    <a:pt x="617" y="1649"/>
                  </a:lnTo>
                  <a:lnTo>
                    <a:pt x="617" y="1643"/>
                  </a:lnTo>
                  <a:lnTo>
                    <a:pt x="617" y="1636"/>
                  </a:lnTo>
                  <a:lnTo>
                    <a:pt x="610" y="1629"/>
                  </a:lnTo>
                  <a:lnTo>
                    <a:pt x="610" y="1629"/>
                  </a:lnTo>
                  <a:lnTo>
                    <a:pt x="603" y="1622"/>
                  </a:lnTo>
                  <a:lnTo>
                    <a:pt x="603" y="1615"/>
                  </a:lnTo>
                  <a:lnTo>
                    <a:pt x="596" y="1615"/>
                  </a:lnTo>
                  <a:lnTo>
                    <a:pt x="589" y="1608"/>
                  </a:lnTo>
                  <a:lnTo>
                    <a:pt x="589" y="1608"/>
                  </a:lnTo>
                  <a:lnTo>
                    <a:pt x="583" y="1601"/>
                  </a:lnTo>
                  <a:lnTo>
                    <a:pt x="583" y="1601"/>
                  </a:lnTo>
                  <a:lnTo>
                    <a:pt x="576" y="1595"/>
                  </a:lnTo>
                  <a:lnTo>
                    <a:pt x="569" y="1595"/>
                  </a:lnTo>
                  <a:lnTo>
                    <a:pt x="569" y="1595"/>
                  </a:lnTo>
                  <a:lnTo>
                    <a:pt x="562" y="1601"/>
                  </a:lnTo>
                  <a:lnTo>
                    <a:pt x="562" y="1615"/>
                  </a:lnTo>
                  <a:lnTo>
                    <a:pt x="562" y="1622"/>
                  </a:lnTo>
                  <a:lnTo>
                    <a:pt x="562" y="1629"/>
                  </a:lnTo>
                  <a:lnTo>
                    <a:pt x="569" y="1636"/>
                  </a:lnTo>
                  <a:lnTo>
                    <a:pt x="569" y="1636"/>
                  </a:lnTo>
                  <a:lnTo>
                    <a:pt x="576" y="1643"/>
                  </a:lnTo>
                  <a:lnTo>
                    <a:pt x="576" y="1649"/>
                  </a:lnTo>
                  <a:lnTo>
                    <a:pt x="583" y="1656"/>
                  </a:lnTo>
                  <a:lnTo>
                    <a:pt x="583" y="1656"/>
                  </a:lnTo>
                  <a:lnTo>
                    <a:pt x="589" y="1663"/>
                  </a:lnTo>
                  <a:lnTo>
                    <a:pt x="596" y="1663"/>
                  </a:lnTo>
                  <a:lnTo>
                    <a:pt x="596" y="1663"/>
                  </a:lnTo>
                  <a:lnTo>
                    <a:pt x="603" y="1663"/>
                  </a:lnTo>
                  <a:lnTo>
                    <a:pt x="610" y="1663"/>
                  </a:lnTo>
                  <a:lnTo>
                    <a:pt x="610" y="1663"/>
                  </a:lnTo>
                  <a:lnTo>
                    <a:pt x="617" y="1656"/>
                  </a:lnTo>
                  <a:close/>
                  <a:moveTo>
                    <a:pt x="925" y="1656"/>
                  </a:moveTo>
                  <a:lnTo>
                    <a:pt x="932" y="1656"/>
                  </a:lnTo>
                  <a:lnTo>
                    <a:pt x="939" y="1649"/>
                  </a:lnTo>
                  <a:lnTo>
                    <a:pt x="946" y="1649"/>
                  </a:lnTo>
                  <a:lnTo>
                    <a:pt x="953" y="1643"/>
                  </a:lnTo>
                  <a:lnTo>
                    <a:pt x="960" y="1636"/>
                  </a:lnTo>
                  <a:lnTo>
                    <a:pt x="967" y="1636"/>
                  </a:lnTo>
                  <a:lnTo>
                    <a:pt x="973" y="1629"/>
                  </a:lnTo>
                  <a:lnTo>
                    <a:pt x="973" y="1622"/>
                  </a:lnTo>
                  <a:lnTo>
                    <a:pt x="967" y="1622"/>
                  </a:lnTo>
                  <a:lnTo>
                    <a:pt x="960" y="1615"/>
                  </a:lnTo>
                  <a:lnTo>
                    <a:pt x="953" y="1615"/>
                  </a:lnTo>
                  <a:lnTo>
                    <a:pt x="946" y="1608"/>
                  </a:lnTo>
                  <a:lnTo>
                    <a:pt x="939" y="1601"/>
                  </a:lnTo>
                  <a:lnTo>
                    <a:pt x="932" y="1595"/>
                  </a:lnTo>
                  <a:lnTo>
                    <a:pt x="932" y="1588"/>
                  </a:lnTo>
                  <a:lnTo>
                    <a:pt x="925" y="1581"/>
                  </a:lnTo>
                  <a:lnTo>
                    <a:pt x="925" y="1567"/>
                  </a:lnTo>
                  <a:lnTo>
                    <a:pt x="919" y="1560"/>
                  </a:lnTo>
                  <a:lnTo>
                    <a:pt x="919" y="1554"/>
                  </a:lnTo>
                  <a:lnTo>
                    <a:pt x="912" y="1547"/>
                  </a:lnTo>
                  <a:lnTo>
                    <a:pt x="905" y="1554"/>
                  </a:lnTo>
                  <a:lnTo>
                    <a:pt x="898" y="1554"/>
                  </a:lnTo>
                  <a:lnTo>
                    <a:pt x="891" y="1560"/>
                  </a:lnTo>
                  <a:lnTo>
                    <a:pt x="884" y="1560"/>
                  </a:lnTo>
                  <a:lnTo>
                    <a:pt x="877" y="1567"/>
                  </a:lnTo>
                  <a:lnTo>
                    <a:pt x="871" y="1567"/>
                  </a:lnTo>
                  <a:lnTo>
                    <a:pt x="864" y="1574"/>
                  </a:lnTo>
                  <a:lnTo>
                    <a:pt x="857" y="1581"/>
                  </a:lnTo>
                  <a:lnTo>
                    <a:pt x="857" y="1595"/>
                  </a:lnTo>
                  <a:lnTo>
                    <a:pt x="850" y="1601"/>
                  </a:lnTo>
                  <a:lnTo>
                    <a:pt x="850" y="1608"/>
                  </a:lnTo>
                  <a:lnTo>
                    <a:pt x="843" y="1615"/>
                  </a:lnTo>
                  <a:lnTo>
                    <a:pt x="843" y="1629"/>
                  </a:lnTo>
                  <a:lnTo>
                    <a:pt x="843" y="1636"/>
                  </a:lnTo>
                  <a:lnTo>
                    <a:pt x="836" y="1649"/>
                  </a:lnTo>
                  <a:lnTo>
                    <a:pt x="836" y="1656"/>
                  </a:lnTo>
                  <a:lnTo>
                    <a:pt x="836" y="1663"/>
                  </a:lnTo>
                  <a:lnTo>
                    <a:pt x="843" y="1670"/>
                  </a:lnTo>
                  <a:lnTo>
                    <a:pt x="850" y="1677"/>
                  </a:lnTo>
                  <a:lnTo>
                    <a:pt x="857" y="1677"/>
                  </a:lnTo>
                  <a:lnTo>
                    <a:pt x="864" y="1677"/>
                  </a:lnTo>
                  <a:lnTo>
                    <a:pt x="871" y="1677"/>
                  </a:lnTo>
                  <a:lnTo>
                    <a:pt x="877" y="1677"/>
                  </a:lnTo>
                  <a:lnTo>
                    <a:pt x="884" y="1677"/>
                  </a:lnTo>
                  <a:lnTo>
                    <a:pt x="891" y="1677"/>
                  </a:lnTo>
                  <a:lnTo>
                    <a:pt x="898" y="1670"/>
                  </a:lnTo>
                  <a:lnTo>
                    <a:pt x="905" y="1670"/>
                  </a:lnTo>
                  <a:lnTo>
                    <a:pt x="912" y="1670"/>
                  </a:lnTo>
                  <a:lnTo>
                    <a:pt x="919" y="1663"/>
                  </a:lnTo>
                  <a:lnTo>
                    <a:pt x="925" y="1656"/>
                  </a:lnTo>
                  <a:close/>
                  <a:moveTo>
                    <a:pt x="1131" y="1116"/>
                  </a:moveTo>
                  <a:lnTo>
                    <a:pt x="1131" y="1109"/>
                  </a:lnTo>
                  <a:lnTo>
                    <a:pt x="1124" y="1102"/>
                  </a:lnTo>
                  <a:lnTo>
                    <a:pt x="1124" y="1095"/>
                  </a:lnTo>
                  <a:lnTo>
                    <a:pt x="1117" y="1088"/>
                  </a:lnTo>
                  <a:lnTo>
                    <a:pt x="1117" y="1081"/>
                  </a:lnTo>
                  <a:lnTo>
                    <a:pt x="1111" y="1075"/>
                  </a:lnTo>
                  <a:lnTo>
                    <a:pt x="1104" y="1068"/>
                  </a:lnTo>
                  <a:lnTo>
                    <a:pt x="1104" y="1061"/>
                  </a:lnTo>
                  <a:lnTo>
                    <a:pt x="1097" y="1054"/>
                  </a:lnTo>
                  <a:lnTo>
                    <a:pt x="1104" y="1040"/>
                  </a:lnTo>
                  <a:lnTo>
                    <a:pt x="1104" y="1034"/>
                  </a:lnTo>
                  <a:lnTo>
                    <a:pt x="1111" y="1027"/>
                  </a:lnTo>
                  <a:lnTo>
                    <a:pt x="1117" y="1027"/>
                  </a:lnTo>
                  <a:lnTo>
                    <a:pt x="1117" y="1034"/>
                  </a:lnTo>
                  <a:lnTo>
                    <a:pt x="1124" y="1040"/>
                  </a:lnTo>
                  <a:lnTo>
                    <a:pt x="1131" y="1047"/>
                  </a:lnTo>
                  <a:lnTo>
                    <a:pt x="1138" y="1047"/>
                  </a:lnTo>
                  <a:lnTo>
                    <a:pt x="1138" y="1054"/>
                  </a:lnTo>
                  <a:lnTo>
                    <a:pt x="1145" y="1061"/>
                  </a:lnTo>
                  <a:lnTo>
                    <a:pt x="1152" y="1061"/>
                  </a:lnTo>
                  <a:lnTo>
                    <a:pt x="1159" y="1068"/>
                  </a:lnTo>
                  <a:lnTo>
                    <a:pt x="1159" y="1075"/>
                  </a:lnTo>
                  <a:lnTo>
                    <a:pt x="1165" y="1081"/>
                  </a:lnTo>
                  <a:lnTo>
                    <a:pt x="1165" y="1088"/>
                  </a:lnTo>
                  <a:lnTo>
                    <a:pt x="1159" y="1102"/>
                  </a:lnTo>
                  <a:lnTo>
                    <a:pt x="1159" y="1109"/>
                  </a:lnTo>
                  <a:lnTo>
                    <a:pt x="1152" y="1116"/>
                  </a:lnTo>
                  <a:lnTo>
                    <a:pt x="1152" y="1122"/>
                  </a:lnTo>
                  <a:lnTo>
                    <a:pt x="1145" y="1129"/>
                  </a:lnTo>
                  <a:lnTo>
                    <a:pt x="1145" y="1129"/>
                  </a:lnTo>
                  <a:lnTo>
                    <a:pt x="1138" y="1129"/>
                  </a:lnTo>
                  <a:lnTo>
                    <a:pt x="1131" y="1116"/>
                  </a:lnTo>
                  <a:close/>
                  <a:moveTo>
                    <a:pt x="864" y="917"/>
                  </a:moveTo>
                  <a:lnTo>
                    <a:pt x="857" y="910"/>
                  </a:lnTo>
                  <a:lnTo>
                    <a:pt x="850" y="903"/>
                  </a:lnTo>
                  <a:lnTo>
                    <a:pt x="843" y="897"/>
                  </a:lnTo>
                  <a:lnTo>
                    <a:pt x="836" y="890"/>
                  </a:lnTo>
                  <a:lnTo>
                    <a:pt x="829" y="883"/>
                  </a:lnTo>
                  <a:lnTo>
                    <a:pt x="823" y="876"/>
                  </a:lnTo>
                  <a:lnTo>
                    <a:pt x="809" y="869"/>
                  </a:lnTo>
                  <a:lnTo>
                    <a:pt x="802" y="869"/>
                  </a:lnTo>
                  <a:lnTo>
                    <a:pt x="795" y="869"/>
                  </a:lnTo>
                  <a:lnTo>
                    <a:pt x="788" y="862"/>
                  </a:lnTo>
                  <a:lnTo>
                    <a:pt x="775" y="862"/>
                  </a:lnTo>
                  <a:lnTo>
                    <a:pt x="768" y="862"/>
                  </a:lnTo>
                  <a:lnTo>
                    <a:pt x="761" y="856"/>
                  </a:lnTo>
                  <a:lnTo>
                    <a:pt x="754" y="856"/>
                  </a:lnTo>
                  <a:lnTo>
                    <a:pt x="747" y="856"/>
                  </a:lnTo>
                  <a:lnTo>
                    <a:pt x="733" y="856"/>
                  </a:lnTo>
                  <a:lnTo>
                    <a:pt x="727" y="856"/>
                  </a:lnTo>
                  <a:lnTo>
                    <a:pt x="720" y="849"/>
                  </a:lnTo>
                  <a:lnTo>
                    <a:pt x="713" y="842"/>
                  </a:lnTo>
                  <a:lnTo>
                    <a:pt x="706" y="835"/>
                  </a:lnTo>
                  <a:lnTo>
                    <a:pt x="699" y="835"/>
                  </a:lnTo>
                  <a:lnTo>
                    <a:pt x="692" y="828"/>
                  </a:lnTo>
                  <a:lnTo>
                    <a:pt x="679" y="828"/>
                  </a:lnTo>
                  <a:lnTo>
                    <a:pt x="672" y="821"/>
                  </a:lnTo>
                  <a:lnTo>
                    <a:pt x="665" y="821"/>
                  </a:lnTo>
                  <a:lnTo>
                    <a:pt x="658" y="821"/>
                  </a:lnTo>
                  <a:lnTo>
                    <a:pt x="644" y="821"/>
                  </a:lnTo>
                  <a:lnTo>
                    <a:pt x="637" y="821"/>
                  </a:lnTo>
                  <a:lnTo>
                    <a:pt x="631" y="821"/>
                  </a:lnTo>
                  <a:lnTo>
                    <a:pt x="624" y="821"/>
                  </a:lnTo>
                  <a:lnTo>
                    <a:pt x="617" y="815"/>
                  </a:lnTo>
                  <a:lnTo>
                    <a:pt x="603" y="815"/>
                  </a:lnTo>
                  <a:lnTo>
                    <a:pt x="596" y="815"/>
                  </a:lnTo>
                  <a:lnTo>
                    <a:pt x="583" y="815"/>
                  </a:lnTo>
                  <a:lnTo>
                    <a:pt x="583" y="815"/>
                  </a:lnTo>
                  <a:lnTo>
                    <a:pt x="589" y="808"/>
                  </a:lnTo>
                  <a:lnTo>
                    <a:pt x="596" y="808"/>
                  </a:lnTo>
                  <a:lnTo>
                    <a:pt x="610" y="808"/>
                  </a:lnTo>
                  <a:lnTo>
                    <a:pt x="617" y="808"/>
                  </a:lnTo>
                  <a:lnTo>
                    <a:pt x="631" y="808"/>
                  </a:lnTo>
                  <a:lnTo>
                    <a:pt x="637" y="808"/>
                  </a:lnTo>
                  <a:lnTo>
                    <a:pt x="644" y="808"/>
                  </a:lnTo>
                  <a:lnTo>
                    <a:pt x="651" y="801"/>
                  </a:lnTo>
                  <a:lnTo>
                    <a:pt x="658" y="801"/>
                  </a:lnTo>
                  <a:lnTo>
                    <a:pt x="672" y="801"/>
                  </a:lnTo>
                  <a:lnTo>
                    <a:pt x="679" y="801"/>
                  </a:lnTo>
                  <a:lnTo>
                    <a:pt x="685" y="801"/>
                  </a:lnTo>
                  <a:lnTo>
                    <a:pt x="692" y="801"/>
                  </a:lnTo>
                  <a:lnTo>
                    <a:pt x="706" y="801"/>
                  </a:lnTo>
                  <a:lnTo>
                    <a:pt x="713" y="801"/>
                  </a:lnTo>
                  <a:lnTo>
                    <a:pt x="720" y="801"/>
                  </a:lnTo>
                  <a:lnTo>
                    <a:pt x="727" y="801"/>
                  </a:lnTo>
                  <a:lnTo>
                    <a:pt x="733" y="801"/>
                  </a:lnTo>
                  <a:lnTo>
                    <a:pt x="747" y="801"/>
                  </a:lnTo>
                  <a:lnTo>
                    <a:pt x="754" y="801"/>
                  </a:lnTo>
                  <a:lnTo>
                    <a:pt x="761" y="801"/>
                  </a:lnTo>
                  <a:lnTo>
                    <a:pt x="768" y="801"/>
                  </a:lnTo>
                  <a:lnTo>
                    <a:pt x="781" y="801"/>
                  </a:lnTo>
                  <a:lnTo>
                    <a:pt x="788" y="794"/>
                  </a:lnTo>
                  <a:lnTo>
                    <a:pt x="795" y="794"/>
                  </a:lnTo>
                  <a:lnTo>
                    <a:pt x="802" y="794"/>
                  </a:lnTo>
                  <a:lnTo>
                    <a:pt x="809" y="794"/>
                  </a:lnTo>
                  <a:lnTo>
                    <a:pt x="823" y="794"/>
                  </a:lnTo>
                  <a:lnTo>
                    <a:pt x="829" y="794"/>
                  </a:lnTo>
                  <a:lnTo>
                    <a:pt x="836" y="794"/>
                  </a:lnTo>
                  <a:lnTo>
                    <a:pt x="843" y="794"/>
                  </a:lnTo>
                  <a:lnTo>
                    <a:pt x="857" y="794"/>
                  </a:lnTo>
                  <a:lnTo>
                    <a:pt x="864" y="794"/>
                  </a:lnTo>
                  <a:lnTo>
                    <a:pt x="871" y="787"/>
                  </a:lnTo>
                  <a:lnTo>
                    <a:pt x="877" y="787"/>
                  </a:lnTo>
                  <a:lnTo>
                    <a:pt x="884" y="780"/>
                  </a:lnTo>
                  <a:lnTo>
                    <a:pt x="891" y="767"/>
                  </a:lnTo>
                  <a:lnTo>
                    <a:pt x="898" y="760"/>
                  </a:lnTo>
                  <a:lnTo>
                    <a:pt x="905" y="760"/>
                  </a:lnTo>
                  <a:lnTo>
                    <a:pt x="912" y="760"/>
                  </a:lnTo>
                  <a:lnTo>
                    <a:pt x="919" y="767"/>
                  </a:lnTo>
                  <a:lnTo>
                    <a:pt x="925" y="773"/>
                  </a:lnTo>
                  <a:lnTo>
                    <a:pt x="932" y="787"/>
                  </a:lnTo>
                  <a:lnTo>
                    <a:pt x="939" y="794"/>
                  </a:lnTo>
                  <a:lnTo>
                    <a:pt x="946" y="801"/>
                  </a:lnTo>
                  <a:lnTo>
                    <a:pt x="953" y="808"/>
                  </a:lnTo>
                  <a:lnTo>
                    <a:pt x="953" y="821"/>
                  </a:lnTo>
                  <a:lnTo>
                    <a:pt x="960" y="835"/>
                  </a:lnTo>
                  <a:lnTo>
                    <a:pt x="953" y="849"/>
                  </a:lnTo>
                  <a:lnTo>
                    <a:pt x="953" y="856"/>
                  </a:lnTo>
                  <a:lnTo>
                    <a:pt x="946" y="862"/>
                  </a:lnTo>
                  <a:lnTo>
                    <a:pt x="939" y="869"/>
                  </a:lnTo>
                  <a:lnTo>
                    <a:pt x="932" y="876"/>
                  </a:lnTo>
                  <a:lnTo>
                    <a:pt x="925" y="883"/>
                  </a:lnTo>
                  <a:lnTo>
                    <a:pt x="919" y="890"/>
                  </a:lnTo>
                  <a:lnTo>
                    <a:pt x="912" y="897"/>
                  </a:lnTo>
                  <a:lnTo>
                    <a:pt x="905" y="903"/>
                  </a:lnTo>
                  <a:lnTo>
                    <a:pt x="898" y="910"/>
                  </a:lnTo>
                  <a:lnTo>
                    <a:pt x="891" y="917"/>
                  </a:lnTo>
                  <a:lnTo>
                    <a:pt x="884" y="924"/>
                  </a:lnTo>
                  <a:lnTo>
                    <a:pt x="877" y="931"/>
                  </a:lnTo>
                  <a:lnTo>
                    <a:pt x="871" y="924"/>
                  </a:lnTo>
                  <a:lnTo>
                    <a:pt x="864" y="917"/>
                  </a:lnTo>
                  <a:close/>
                  <a:moveTo>
                    <a:pt x="1392" y="780"/>
                  </a:moveTo>
                  <a:lnTo>
                    <a:pt x="1398" y="767"/>
                  </a:lnTo>
                  <a:lnTo>
                    <a:pt x="1398" y="760"/>
                  </a:lnTo>
                  <a:lnTo>
                    <a:pt x="1405" y="746"/>
                  </a:lnTo>
                  <a:lnTo>
                    <a:pt x="1405" y="732"/>
                  </a:lnTo>
                  <a:lnTo>
                    <a:pt x="1412" y="726"/>
                  </a:lnTo>
                  <a:lnTo>
                    <a:pt x="1412" y="712"/>
                  </a:lnTo>
                  <a:lnTo>
                    <a:pt x="1419" y="705"/>
                  </a:lnTo>
                  <a:lnTo>
                    <a:pt x="1419" y="691"/>
                  </a:lnTo>
                  <a:lnTo>
                    <a:pt x="1419" y="678"/>
                  </a:lnTo>
                  <a:lnTo>
                    <a:pt x="1426" y="671"/>
                  </a:lnTo>
                  <a:lnTo>
                    <a:pt x="1426" y="657"/>
                  </a:lnTo>
                  <a:lnTo>
                    <a:pt x="1433" y="650"/>
                  </a:lnTo>
                  <a:lnTo>
                    <a:pt x="1433" y="637"/>
                  </a:lnTo>
                  <a:lnTo>
                    <a:pt x="1440" y="630"/>
                  </a:lnTo>
                  <a:lnTo>
                    <a:pt x="1446" y="616"/>
                  </a:lnTo>
                  <a:lnTo>
                    <a:pt x="1453" y="609"/>
                  </a:lnTo>
                  <a:lnTo>
                    <a:pt x="1460" y="602"/>
                  </a:lnTo>
                  <a:lnTo>
                    <a:pt x="1467" y="602"/>
                  </a:lnTo>
                  <a:lnTo>
                    <a:pt x="1474" y="602"/>
                  </a:lnTo>
                  <a:lnTo>
                    <a:pt x="1488" y="602"/>
                  </a:lnTo>
                  <a:lnTo>
                    <a:pt x="1494" y="602"/>
                  </a:lnTo>
                  <a:lnTo>
                    <a:pt x="1501" y="596"/>
                  </a:lnTo>
                  <a:lnTo>
                    <a:pt x="1508" y="596"/>
                  </a:lnTo>
                  <a:lnTo>
                    <a:pt x="1522" y="596"/>
                  </a:lnTo>
                  <a:lnTo>
                    <a:pt x="1529" y="589"/>
                  </a:lnTo>
                  <a:lnTo>
                    <a:pt x="1536" y="589"/>
                  </a:lnTo>
                  <a:lnTo>
                    <a:pt x="1542" y="589"/>
                  </a:lnTo>
                  <a:lnTo>
                    <a:pt x="1549" y="582"/>
                  </a:lnTo>
                  <a:lnTo>
                    <a:pt x="1563" y="582"/>
                  </a:lnTo>
                  <a:lnTo>
                    <a:pt x="1570" y="582"/>
                  </a:lnTo>
                  <a:lnTo>
                    <a:pt x="1577" y="575"/>
                  </a:lnTo>
                  <a:lnTo>
                    <a:pt x="1584" y="575"/>
                  </a:lnTo>
                  <a:lnTo>
                    <a:pt x="1590" y="575"/>
                  </a:lnTo>
                  <a:lnTo>
                    <a:pt x="1604" y="568"/>
                  </a:lnTo>
                  <a:lnTo>
                    <a:pt x="1611" y="568"/>
                  </a:lnTo>
                  <a:lnTo>
                    <a:pt x="1618" y="568"/>
                  </a:lnTo>
                  <a:lnTo>
                    <a:pt x="1625" y="561"/>
                  </a:lnTo>
                  <a:lnTo>
                    <a:pt x="1638" y="561"/>
                  </a:lnTo>
                  <a:lnTo>
                    <a:pt x="1645" y="561"/>
                  </a:lnTo>
                  <a:lnTo>
                    <a:pt x="1652" y="561"/>
                  </a:lnTo>
                  <a:lnTo>
                    <a:pt x="1659" y="561"/>
                  </a:lnTo>
                  <a:lnTo>
                    <a:pt x="1666" y="555"/>
                  </a:lnTo>
                  <a:lnTo>
                    <a:pt x="1680" y="555"/>
                  </a:lnTo>
                  <a:lnTo>
                    <a:pt x="1686" y="555"/>
                  </a:lnTo>
                  <a:lnTo>
                    <a:pt x="1693" y="548"/>
                  </a:lnTo>
                  <a:lnTo>
                    <a:pt x="1700" y="548"/>
                  </a:lnTo>
                  <a:lnTo>
                    <a:pt x="1714" y="548"/>
                  </a:lnTo>
                  <a:lnTo>
                    <a:pt x="1721" y="548"/>
                  </a:lnTo>
                  <a:lnTo>
                    <a:pt x="1728" y="555"/>
                  </a:lnTo>
                  <a:lnTo>
                    <a:pt x="1734" y="561"/>
                  </a:lnTo>
                  <a:lnTo>
                    <a:pt x="1741" y="568"/>
                  </a:lnTo>
                  <a:lnTo>
                    <a:pt x="1748" y="575"/>
                  </a:lnTo>
                  <a:lnTo>
                    <a:pt x="1755" y="582"/>
                  </a:lnTo>
                  <a:lnTo>
                    <a:pt x="1762" y="589"/>
                  </a:lnTo>
                  <a:lnTo>
                    <a:pt x="1769" y="596"/>
                  </a:lnTo>
                  <a:lnTo>
                    <a:pt x="1776" y="602"/>
                  </a:lnTo>
                  <a:lnTo>
                    <a:pt x="1776" y="616"/>
                  </a:lnTo>
                  <a:lnTo>
                    <a:pt x="1776" y="623"/>
                  </a:lnTo>
                  <a:lnTo>
                    <a:pt x="1776" y="637"/>
                  </a:lnTo>
                  <a:lnTo>
                    <a:pt x="1769" y="650"/>
                  </a:lnTo>
                  <a:lnTo>
                    <a:pt x="1769" y="664"/>
                  </a:lnTo>
                  <a:lnTo>
                    <a:pt x="1762" y="671"/>
                  </a:lnTo>
                  <a:lnTo>
                    <a:pt x="1762" y="685"/>
                  </a:lnTo>
                  <a:lnTo>
                    <a:pt x="1755" y="691"/>
                  </a:lnTo>
                  <a:lnTo>
                    <a:pt x="1748" y="698"/>
                  </a:lnTo>
                  <a:lnTo>
                    <a:pt x="1741" y="698"/>
                  </a:lnTo>
                  <a:lnTo>
                    <a:pt x="1728" y="705"/>
                  </a:lnTo>
                  <a:lnTo>
                    <a:pt x="1721" y="712"/>
                  </a:lnTo>
                  <a:lnTo>
                    <a:pt x="1714" y="719"/>
                  </a:lnTo>
                  <a:lnTo>
                    <a:pt x="1707" y="726"/>
                  </a:lnTo>
                  <a:lnTo>
                    <a:pt x="1700" y="732"/>
                  </a:lnTo>
                  <a:lnTo>
                    <a:pt x="1693" y="739"/>
                  </a:lnTo>
                  <a:lnTo>
                    <a:pt x="1686" y="746"/>
                  </a:lnTo>
                  <a:lnTo>
                    <a:pt x="1680" y="753"/>
                  </a:lnTo>
                  <a:lnTo>
                    <a:pt x="1680" y="760"/>
                  </a:lnTo>
                  <a:lnTo>
                    <a:pt x="1673" y="767"/>
                  </a:lnTo>
                  <a:lnTo>
                    <a:pt x="1666" y="780"/>
                  </a:lnTo>
                  <a:lnTo>
                    <a:pt x="1659" y="787"/>
                  </a:lnTo>
                  <a:lnTo>
                    <a:pt x="1652" y="787"/>
                  </a:lnTo>
                  <a:lnTo>
                    <a:pt x="1645" y="794"/>
                  </a:lnTo>
                  <a:lnTo>
                    <a:pt x="1632" y="794"/>
                  </a:lnTo>
                  <a:lnTo>
                    <a:pt x="1625" y="794"/>
                  </a:lnTo>
                  <a:lnTo>
                    <a:pt x="1618" y="794"/>
                  </a:lnTo>
                  <a:lnTo>
                    <a:pt x="1611" y="794"/>
                  </a:lnTo>
                  <a:lnTo>
                    <a:pt x="1597" y="794"/>
                  </a:lnTo>
                  <a:lnTo>
                    <a:pt x="1590" y="794"/>
                  </a:lnTo>
                  <a:lnTo>
                    <a:pt x="1584" y="794"/>
                  </a:lnTo>
                  <a:lnTo>
                    <a:pt x="1577" y="794"/>
                  </a:lnTo>
                  <a:lnTo>
                    <a:pt x="1570" y="794"/>
                  </a:lnTo>
                  <a:lnTo>
                    <a:pt x="1556" y="794"/>
                  </a:lnTo>
                  <a:lnTo>
                    <a:pt x="1549" y="794"/>
                  </a:lnTo>
                  <a:lnTo>
                    <a:pt x="1542" y="794"/>
                  </a:lnTo>
                  <a:lnTo>
                    <a:pt x="1536" y="794"/>
                  </a:lnTo>
                  <a:lnTo>
                    <a:pt x="1522" y="794"/>
                  </a:lnTo>
                  <a:lnTo>
                    <a:pt x="1515" y="801"/>
                  </a:lnTo>
                  <a:lnTo>
                    <a:pt x="1508" y="801"/>
                  </a:lnTo>
                  <a:lnTo>
                    <a:pt x="1501" y="801"/>
                  </a:lnTo>
                  <a:lnTo>
                    <a:pt x="1488" y="801"/>
                  </a:lnTo>
                  <a:lnTo>
                    <a:pt x="1481" y="801"/>
                  </a:lnTo>
                  <a:lnTo>
                    <a:pt x="1474" y="801"/>
                  </a:lnTo>
                  <a:lnTo>
                    <a:pt x="1467" y="801"/>
                  </a:lnTo>
                  <a:lnTo>
                    <a:pt x="1453" y="801"/>
                  </a:lnTo>
                  <a:lnTo>
                    <a:pt x="1446" y="801"/>
                  </a:lnTo>
                  <a:lnTo>
                    <a:pt x="1440" y="801"/>
                  </a:lnTo>
                  <a:lnTo>
                    <a:pt x="1433" y="801"/>
                  </a:lnTo>
                  <a:lnTo>
                    <a:pt x="1419" y="801"/>
                  </a:lnTo>
                  <a:lnTo>
                    <a:pt x="1412" y="801"/>
                  </a:lnTo>
                  <a:lnTo>
                    <a:pt x="1405" y="794"/>
                  </a:lnTo>
                  <a:lnTo>
                    <a:pt x="1398" y="787"/>
                  </a:lnTo>
                  <a:lnTo>
                    <a:pt x="1392" y="780"/>
                  </a:lnTo>
                  <a:close/>
                  <a:moveTo>
                    <a:pt x="1138" y="643"/>
                  </a:moveTo>
                  <a:lnTo>
                    <a:pt x="1138" y="643"/>
                  </a:lnTo>
                  <a:lnTo>
                    <a:pt x="1145" y="637"/>
                  </a:lnTo>
                  <a:lnTo>
                    <a:pt x="1145" y="637"/>
                  </a:lnTo>
                  <a:lnTo>
                    <a:pt x="1152" y="637"/>
                  </a:lnTo>
                  <a:lnTo>
                    <a:pt x="1152" y="637"/>
                  </a:lnTo>
                  <a:lnTo>
                    <a:pt x="1159" y="643"/>
                  </a:lnTo>
                  <a:lnTo>
                    <a:pt x="1159" y="643"/>
                  </a:lnTo>
                  <a:lnTo>
                    <a:pt x="1159" y="643"/>
                  </a:lnTo>
                  <a:lnTo>
                    <a:pt x="1152" y="650"/>
                  </a:lnTo>
                  <a:lnTo>
                    <a:pt x="1152" y="650"/>
                  </a:lnTo>
                  <a:lnTo>
                    <a:pt x="1145" y="650"/>
                  </a:lnTo>
                  <a:lnTo>
                    <a:pt x="1145" y="650"/>
                  </a:lnTo>
                  <a:lnTo>
                    <a:pt x="1138" y="650"/>
                  </a:lnTo>
                  <a:lnTo>
                    <a:pt x="1138" y="643"/>
                  </a:lnTo>
                  <a:close/>
                  <a:moveTo>
                    <a:pt x="980" y="3285"/>
                  </a:moveTo>
                  <a:lnTo>
                    <a:pt x="1015" y="3251"/>
                  </a:lnTo>
                  <a:lnTo>
                    <a:pt x="1042" y="3251"/>
                  </a:lnTo>
                  <a:lnTo>
                    <a:pt x="1076" y="3216"/>
                  </a:lnTo>
                  <a:lnTo>
                    <a:pt x="1111" y="3216"/>
                  </a:lnTo>
                  <a:lnTo>
                    <a:pt x="1145" y="3216"/>
                  </a:lnTo>
                  <a:lnTo>
                    <a:pt x="1179" y="3182"/>
                  </a:lnTo>
                  <a:lnTo>
                    <a:pt x="1213" y="3182"/>
                  </a:lnTo>
                  <a:lnTo>
                    <a:pt x="1248" y="3148"/>
                  </a:lnTo>
                  <a:lnTo>
                    <a:pt x="1282" y="3148"/>
                  </a:lnTo>
                  <a:lnTo>
                    <a:pt x="1316" y="3114"/>
                  </a:lnTo>
                  <a:lnTo>
                    <a:pt x="1350" y="3114"/>
                  </a:lnTo>
                  <a:lnTo>
                    <a:pt x="1385" y="3114"/>
                  </a:lnTo>
                  <a:lnTo>
                    <a:pt x="1385" y="3079"/>
                  </a:lnTo>
                  <a:lnTo>
                    <a:pt x="1419" y="3045"/>
                  </a:lnTo>
                  <a:lnTo>
                    <a:pt x="1419" y="3011"/>
                  </a:lnTo>
                  <a:lnTo>
                    <a:pt x="1446" y="2977"/>
                  </a:lnTo>
                  <a:lnTo>
                    <a:pt x="1446" y="2943"/>
                  </a:lnTo>
                  <a:lnTo>
                    <a:pt x="1481" y="2915"/>
                  </a:lnTo>
                  <a:lnTo>
                    <a:pt x="1481" y="2881"/>
                  </a:lnTo>
                  <a:lnTo>
                    <a:pt x="1515" y="2847"/>
                  </a:lnTo>
                  <a:lnTo>
                    <a:pt x="1549" y="2813"/>
                  </a:lnTo>
                  <a:lnTo>
                    <a:pt x="1549" y="2778"/>
                  </a:lnTo>
                  <a:lnTo>
                    <a:pt x="1584" y="2744"/>
                  </a:lnTo>
                  <a:lnTo>
                    <a:pt x="1584" y="2710"/>
                  </a:lnTo>
                  <a:lnTo>
                    <a:pt x="1618" y="2676"/>
                  </a:lnTo>
                  <a:lnTo>
                    <a:pt x="1618" y="2642"/>
                  </a:lnTo>
                  <a:lnTo>
                    <a:pt x="1652" y="2607"/>
                  </a:lnTo>
                  <a:lnTo>
                    <a:pt x="1652" y="2573"/>
                  </a:lnTo>
                  <a:lnTo>
                    <a:pt x="1686" y="2539"/>
                  </a:lnTo>
                  <a:lnTo>
                    <a:pt x="1686" y="2505"/>
                  </a:lnTo>
                  <a:lnTo>
                    <a:pt x="1721" y="2470"/>
                  </a:lnTo>
                  <a:lnTo>
                    <a:pt x="1721" y="2436"/>
                  </a:lnTo>
                  <a:lnTo>
                    <a:pt x="1755" y="2402"/>
                  </a:lnTo>
                  <a:lnTo>
                    <a:pt x="1755" y="2368"/>
                  </a:lnTo>
                  <a:lnTo>
                    <a:pt x="1789" y="2334"/>
                  </a:lnTo>
                  <a:lnTo>
                    <a:pt x="1824" y="2299"/>
                  </a:lnTo>
                  <a:lnTo>
                    <a:pt x="1824" y="2272"/>
                  </a:lnTo>
                  <a:lnTo>
                    <a:pt x="1851" y="2238"/>
                  </a:lnTo>
                  <a:lnTo>
                    <a:pt x="1851" y="2204"/>
                  </a:lnTo>
                  <a:lnTo>
                    <a:pt x="1885" y="2169"/>
                  </a:lnTo>
                  <a:lnTo>
                    <a:pt x="1885" y="2135"/>
                  </a:lnTo>
                  <a:lnTo>
                    <a:pt x="1920" y="2101"/>
                  </a:lnTo>
                  <a:lnTo>
                    <a:pt x="1920" y="2067"/>
                  </a:lnTo>
                  <a:lnTo>
                    <a:pt x="1954" y="2033"/>
                  </a:lnTo>
                  <a:lnTo>
                    <a:pt x="1954" y="1998"/>
                  </a:lnTo>
                  <a:lnTo>
                    <a:pt x="1988" y="1964"/>
                  </a:lnTo>
                  <a:lnTo>
                    <a:pt x="1988" y="1930"/>
                  </a:lnTo>
                  <a:lnTo>
                    <a:pt x="2022" y="1896"/>
                  </a:lnTo>
                  <a:lnTo>
                    <a:pt x="2022" y="1861"/>
                  </a:lnTo>
                  <a:lnTo>
                    <a:pt x="2057" y="1827"/>
                  </a:lnTo>
                  <a:lnTo>
                    <a:pt x="2057" y="1793"/>
                  </a:lnTo>
                  <a:lnTo>
                    <a:pt x="2057" y="1759"/>
                  </a:lnTo>
                  <a:lnTo>
                    <a:pt x="2057" y="1725"/>
                  </a:lnTo>
                  <a:lnTo>
                    <a:pt x="2091" y="1690"/>
                  </a:lnTo>
                  <a:lnTo>
                    <a:pt x="2091" y="1656"/>
                  </a:lnTo>
                  <a:lnTo>
                    <a:pt x="2091" y="1629"/>
                  </a:lnTo>
                  <a:lnTo>
                    <a:pt x="2091" y="1595"/>
                  </a:lnTo>
                  <a:lnTo>
                    <a:pt x="2125" y="1560"/>
                  </a:lnTo>
                  <a:lnTo>
                    <a:pt x="2125" y="1526"/>
                  </a:lnTo>
                  <a:lnTo>
                    <a:pt x="2125" y="1492"/>
                  </a:lnTo>
                  <a:lnTo>
                    <a:pt x="2125" y="1458"/>
                  </a:lnTo>
                  <a:lnTo>
                    <a:pt x="2125" y="1424"/>
                  </a:lnTo>
                  <a:lnTo>
                    <a:pt x="2125" y="1389"/>
                  </a:lnTo>
                  <a:lnTo>
                    <a:pt x="2159" y="1355"/>
                  </a:lnTo>
                  <a:lnTo>
                    <a:pt x="2159" y="1321"/>
                  </a:lnTo>
                  <a:lnTo>
                    <a:pt x="2159" y="1287"/>
                  </a:lnTo>
                  <a:lnTo>
                    <a:pt x="2159" y="1252"/>
                  </a:lnTo>
                  <a:lnTo>
                    <a:pt x="2159" y="1218"/>
                  </a:lnTo>
                  <a:lnTo>
                    <a:pt x="2159" y="1184"/>
                  </a:lnTo>
                  <a:lnTo>
                    <a:pt x="2159" y="1150"/>
                  </a:lnTo>
                  <a:lnTo>
                    <a:pt x="2194" y="1116"/>
                  </a:lnTo>
                  <a:lnTo>
                    <a:pt x="2194" y="1081"/>
                  </a:lnTo>
                  <a:lnTo>
                    <a:pt x="2194" y="1047"/>
                  </a:lnTo>
                  <a:lnTo>
                    <a:pt x="2194" y="1013"/>
                  </a:lnTo>
                  <a:lnTo>
                    <a:pt x="2194" y="986"/>
                  </a:lnTo>
                  <a:lnTo>
                    <a:pt x="2194" y="951"/>
                  </a:lnTo>
                  <a:lnTo>
                    <a:pt x="2194" y="917"/>
                  </a:lnTo>
                  <a:lnTo>
                    <a:pt x="2228" y="883"/>
                  </a:lnTo>
                  <a:lnTo>
                    <a:pt x="2228" y="849"/>
                  </a:lnTo>
                  <a:lnTo>
                    <a:pt x="2228" y="815"/>
                  </a:lnTo>
                  <a:lnTo>
                    <a:pt x="2228" y="780"/>
                  </a:lnTo>
                  <a:lnTo>
                    <a:pt x="2228" y="746"/>
                  </a:lnTo>
                  <a:lnTo>
                    <a:pt x="2228" y="712"/>
                  </a:lnTo>
                  <a:lnTo>
                    <a:pt x="2228" y="678"/>
                  </a:lnTo>
                  <a:lnTo>
                    <a:pt x="2255" y="643"/>
                  </a:lnTo>
                  <a:lnTo>
                    <a:pt x="2255" y="609"/>
                  </a:lnTo>
                  <a:lnTo>
                    <a:pt x="2255" y="575"/>
                  </a:lnTo>
                  <a:lnTo>
                    <a:pt x="2255" y="541"/>
                  </a:lnTo>
                  <a:lnTo>
                    <a:pt x="2255" y="507"/>
                  </a:lnTo>
                  <a:lnTo>
                    <a:pt x="2255" y="472"/>
                  </a:lnTo>
                  <a:lnTo>
                    <a:pt x="2255" y="438"/>
                  </a:lnTo>
                  <a:lnTo>
                    <a:pt x="2290" y="404"/>
                  </a:lnTo>
                  <a:lnTo>
                    <a:pt x="2290" y="370"/>
                  </a:lnTo>
                  <a:lnTo>
                    <a:pt x="2290" y="342"/>
                  </a:lnTo>
                  <a:lnTo>
                    <a:pt x="2290" y="308"/>
                  </a:lnTo>
                  <a:lnTo>
                    <a:pt x="2290" y="274"/>
                  </a:lnTo>
                  <a:lnTo>
                    <a:pt x="2290" y="240"/>
                  </a:lnTo>
                  <a:lnTo>
                    <a:pt x="2290" y="206"/>
                  </a:lnTo>
                  <a:lnTo>
                    <a:pt x="2324" y="171"/>
                  </a:lnTo>
                  <a:lnTo>
                    <a:pt x="2324" y="137"/>
                  </a:lnTo>
                  <a:lnTo>
                    <a:pt x="2324" y="103"/>
                  </a:lnTo>
                  <a:lnTo>
                    <a:pt x="2324" y="69"/>
                  </a:lnTo>
                  <a:lnTo>
                    <a:pt x="2324" y="34"/>
                  </a:lnTo>
                  <a:lnTo>
                    <a:pt x="2324" y="0"/>
                  </a:lnTo>
                  <a:lnTo>
                    <a:pt x="2290" y="0"/>
                  </a:lnTo>
                  <a:lnTo>
                    <a:pt x="2255" y="0"/>
                  </a:lnTo>
                  <a:lnTo>
                    <a:pt x="2228" y="0"/>
                  </a:lnTo>
                  <a:lnTo>
                    <a:pt x="2194" y="0"/>
                  </a:lnTo>
                  <a:lnTo>
                    <a:pt x="2159" y="34"/>
                  </a:lnTo>
                  <a:lnTo>
                    <a:pt x="2125" y="34"/>
                  </a:lnTo>
                  <a:lnTo>
                    <a:pt x="2091" y="34"/>
                  </a:lnTo>
                  <a:lnTo>
                    <a:pt x="2057" y="69"/>
                  </a:lnTo>
                  <a:lnTo>
                    <a:pt x="2022" y="69"/>
                  </a:lnTo>
                  <a:lnTo>
                    <a:pt x="1988" y="69"/>
                  </a:lnTo>
                  <a:lnTo>
                    <a:pt x="1954" y="103"/>
                  </a:lnTo>
                  <a:lnTo>
                    <a:pt x="1920" y="103"/>
                  </a:lnTo>
                  <a:lnTo>
                    <a:pt x="1885" y="137"/>
                  </a:lnTo>
                  <a:lnTo>
                    <a:pt x="1851" y="137"/>
                  </a:lnTo>
                  <a:lnTo>
                    <a:pt x="1824" y="137"/>
                  </a:lnTo>
                  <a:lnTo>
                    <a:pt x="1789" y="171"/>
                  </a:lnTo>
                  <a:lnTo>
                    <a:pt x="1755" y="171"/>
                  </a:lnTo>
                  <a:lnTo>
                    <a:pt x="1721" y="171"/>
                  </a:lnTo>
                  <a:lnTo>
                    <a:pt x="1686" y="206"/>
                  </a:lnTo>
                  <a:lnTo>
                    <a:pt x="1652" y="206"/>
                  </a:lnTo>
                  <a:lnTo>
                    <a:pt x="1618" y="206"/>
                  </a:lnTo>
                  <a:lnTo>
                    <a:pt x="1584" y="240"/>
                  </a:lnTo>
                  <a:lnTo>
                    <a:pt x="1549" y="240"/>
                  </a:lnTo>
                  <a:lnTo>
                    <a:pt x="1515" y="240"/>
                  </a:lnTo>
                  <a:lnTo>
                    <a:pt x="1481" y="274"/>
                  </a:lnTo>
                  <a:lnTo>
                    <a:pt x="1446" y="274"/>
                  </a:lnTo>
                  <a:lnTo>
                    <a:pt x="1419" y="274"/>
                  </a:lnTo>
                  <a:lnTo>
                    <a:pt x="1385" y="308"/>
                  </a:lnTo>
                  <a:lnTo>
                    <a:pt x="1350" y="308"/>
                  </a:lnTo>
                  <a:lnTo>
                    <a:pt x="1316" y="308"/>
                  </a:lnTo>
                  <a:lnTo>
                    <a:pt x="1282" y="342"/>
                  </a:lnTo>
                  <a:lnTo>
                    <a:pt x="1248" y="342"/>
                  </a:lnTo>
                  <a:lnTo>
                    <a:pt x="1213" y="370"/>
                  </a:lnTo>
                  <a:lnTo>
                    <a:pt x="1179" y="370"/>
                  </a:lnTo>
                  <a:lnTo>
                    <a:pt x="1145" y="370"/>
                  </a:lnTo>
                  <a:lnTo>
                    <a:pt x="1111" y="404"/>
                  </a:lnTo>
                  <a:lnTo>
                    <a:pt x="1076" y="404"/>
                  </a:lnTo>
                  <a:lnTo>
                    <a:pt x="1042" y="404"/>
                  </a:lnTo>
                  <a:lnTo>
                    <a:pt x="1015" y="438"/>
                  </a:lnTo>
                  <a:lnTo>
                    <a:pt x="980" y="438"/>
                  </a:lnTo>
                  <a:lnTo>
                    <a:pt x="946" y="438"/>
                  </a:lnTo>
                  <a:lnTo>
                    <a:pt x="912" y="472"/>
                  </a:lnTo>
                  <a:lnTo>
                    <a:pt x="877" y="472"/>
                  </a:lnTo>
                  <a:lnTo>
                    <a:pt x="843" y="472"/>
                  </a:lnTo>
                  <a:lnTo>
                    <a:pt x="809" y="507"/>
                  </a:lnTo>
                  <a:lnTo>
                    <a:pt x="775" y="507"/>
                  </a:lnTo>
                  <a:lnTo>
                    <a:pt x="740" y="507"/>
                  </a:lnTo>
                  <a:lnTo>
                    <a:pt x="706" y="541"/>
                  </a:lnTo>
                  <a:lnTo>
                    <a:pt x="672" y="541"/>
                  </a:lnTo>
                  <a:lnTo>
                    <a:pt x="637" y="541"/>
                  </a:lnTo>
                  <a:lnTo>
                    <a:pt x="603" y="575"/>
                  </a:lnTo>
                  <a:lnTo>
                    <a:pt x="576" y="575"/>
                  </a:lnTo>
                  <a:lnTo>
                    <a:pt x="541" y="575"/>
                  </a:lnTo>
                  <a:lnTo>
                    <a:pt x="507" y="609"/>
                  </a:lnTo>
                  <a:lnTo>
                    <a:pt x="473" y="609"/>
                  </a:lnTo>
                  <a:lnTo>
                    <a:pt x="439" y="643"/>
                  </a:lnTo>
                  <a:lnTo>
                    <a:pt x="404" y="643"/>
                  </a:lnTo>
                  <a:lnTo>
                    <a:pt x="370" y="643"/>
                  </a:lnTo>
                  <a:lnTo>
                    <a:pt x="336" y="678"/>
                  </a:lnTo>
                  <a:lnTo>
                    <a:pt x="302" y="678"/>
                  </a:lnTo>
                  <a:lnTo>
                    <a:pt x="267" y="678"/>
                  </a:lnTo>
                  <a:lnTo>
                    <a:pt x="233" y="712"/>
                  </a:lnTo>
                  <a:lnTo>
                    <a:pt x="199" y="712"/>
                  </a:lnTo>
                  <a:lnTo>
                    <a:pt x="171" y="712"/>
                  </a:lnTo>
                  <a:lnTo>
                    <a:pt x="137" y="746"/>
                  </a:lnTo>
                  <a:lnTo>
                    <a:pt x="103" y="746"/>
                  </a:lnTo>
                  <a:lnTo>
                    <a:pt x="103" y="780"/>
                  </a:lnTo>
                  <a:lnTo>
                    <a:pt x="103" y="815"/>
                  </a:lnTo>
                  <a:lnTo>
                    <a:pt x="103" y="849"/>
                  </a:lnTo>
                  <a:lnTo>
                    <a:pt x="103" y="883"/>
                  </a:lnTo>
                  <a:lnTo>
                    <a:pt x="103" y="917"/>
                  </a:lnTo>
                  <a:lnTo>
                    <a:pt x="68" y="951"/>
                  </a:lnTo>
                  <a:lnTo>
                    <a:pt x="68" y="986"/>
                  </a:lnTo>
                  <a:lnTo>
                    <a:pt x="68" y="1013"/>
                  </a:lnTo>
                  <a:lnTo>
                    <a:pt x="68" y="1047"/>
                  </a:lnTo>
                  <a:lnTo>
                    <a:pt x="68" y="1081"/>
                  </a:lnTo>
                  <a:lnTo>
                    <a:pt x="68" y="1116"/>
                  </a:lnTo>
                  <a:lnTo>
                    <a:pt x="68" y="1150"/>
                  </a:lnTo>
                  <a:lnTo>
                    <a:pt x="68" y="1184"/>
                  </a:lnTo>
                  <a:lnTo>
                    <a:pt x="68" y="1218"/>
                  </a:lnTo>
                  <a:lnTo>
                    <a:pt x="68" y="1252"/>
                  </a:lnTo>
                  <a:lnTo>
                    <a:pt x="68" y="1287"/>
                  </a:lnTo>
                  <a:lnTo>
                    <a:pt x="68" y="1321"/>
                  </a:lnTo>
                  <a:lnTo>
                    <a:pt x="68" y="1355"/>
                  </a:lnTo>
                  <a:lnTo>
                    <a:pt x="68" y="1389"/>
                  </a:lnTo>
                  <a:lnTo>
                    <a:pt x="68" y="1424"/>
                  </a:lnTo>
                  <a:lnTo>
                    <a:pt x="68" y="1458"/>
                  </a:lnTo>
                  <a:lnTo>
                    <a:pt x="68" y="1492"/>
                  </a:lnTo>
                  <a:lnTo>
                    <a:pt x="68" y="1526"/>
                  </a:lnTo>
                  <a:lnTo>
                    <a:pt x="34" y="1560"/>
                  </a:lnTo>
                  <a:lnTo>
                    <a:pt x="34" y="1595"/>
                  </a:lnTo>
                  <a:lnTo>
                    <a:pt x="34" y="1629"/>
                  </a:lnTo>
                  <a:lnTo>
                    <a:pt x="34" y="1656"/>
                  </a:lnTo>
                  <a:lnTo>
                    <a:pt x="34" y="1690"/>
                  </a:lnTo>
                  <a:lnTo>
                    <a:pt x="34" y="1725"/>
                  </a:lnTo>
                  <a:lnTo>
                    <a:pt x="34" y="1759"/>
                  </a:lnTo>
                  <a:lnTo>
                    <a:pt x="34" y="1793"/>
                  </a:lnTo>
                  <a:lnTo>
                    <a:pt x="34" y="1827"/>
                  </a:lnTo>
                  <a:lnTo>
                    <a:pt x="34" y="1861"/>
                  </a:lnTo>
                  <a:lnTo>
                    <a:pt x="34" y="1896"/>
                  </a:lnTo>
                  <a:lnTo>
                    <a:pt x="34" y="1930"/>
                  </a:lnTo>
                  <a:lnTo>
                    <a:pt x="34" y="1964"/>
                  </a:lnTo>
                  <a:lnTo>
                    <a:pt x="34" y="1998"/>
                  </a:lnTo>
                  <a:lnTo>
                    <a:pt x="34" y="2033"/>
                  </a:lnTo>
                  <a:lnTo>
                    <a:pt x="34" y="2067"/>
                  </a:lnTo>
                  <a:lnTo>
                    <a:pt x="34" y="2101"/>
                  </a:lnTo>
                  <a:lnTo>
                    <a:pt x="0" y="2135"/>
                  </a:lnTo>
                  <a:lnTo>
                    <a:pt x="0" y="2169"/>
                  </a:lnTo>
                  <a:lnTo>
                    <a:pt x="0" y="2204"/>
                  </a:lnTo>
                  <a:lnTo>
                    <a:pt x="0" y="2238"/>
                  </a:lnTo>
                  <a:lnTo>
                    <a:pt x="0" y="2272"/>
                  </a:lnTo>
                  <a:lnTo>
                    <a:pt x="0" y="2299"/>
                  </a:lnTo>
                  <a:lnTo>
                    <a:pt x="0" y="2334"/>
                  </a:lnTo>
                  <a:lnTo>
                    <a:pt x="0" y="2368"/>
                  </a:lnTo>
                  <a:lnTo>
                    <a:pt x="0" y="2402"/>
                  </a:lnTo>
                  <a:lnTo>
                    <a:pt x="0" y="2436"/>
                  </a:lnTo>
                  <a:lnTo>
                    <a:pt x="0" y="2470"/>
                  </a:lnTo>
                  <a:lnTo>
                    <a:pt x="0" y="2505"/>
                  </a:lnTo>
                  <a:lnTo>
                    <a:pt x="0" y="2539"/>
                  </a:lnTo>
                  <a:lnTo>
                    <a:pt x="0" y="2573"/>
                  </a:lnTo>
                  <a:lnTo>
                    <a:pt x="0" y="2607"/>
                  </a:lnTo>
                  <a:lnTo>
                    <a:pt x="0" y="2642"/>
                  </a:lnTo>
                  <a:lnTo>
                    <a:pt x="0" y="2676"/>
                  </a:lnTo>
                  <a:lnTo>
                    <a:pt x="0" y="2710"/>
                  </a:lnTo>
                  <a:lnTo>
                    <a:pt x="0" y="2744"/>
                  </a:lnTo>
                  <a:lnTo>
                    <a:pt x="34" y="2744"/>
                  </a:lnTo>
                  <a:lnTo>
                    <a:pt x="68" y="2778"/>
                  </a:lnTo>
                  <a:lnTo>
                    <a:pt x="103" y="2778"/>
                  </a:lnTo>
                  <a:lnTo>
                    <a:pt x="137" y="2813"/>
                  </a:lnTo>
                  <a:lnTo>
                    <a:pt x="171" y="2847"/>
                  </a:lnTo>
                  <a:lnTo>
                    <a:pt x="199" y="2847"/>
                  </a:lnTo>
                  <a:lnTo>
                    <a:pt x="233" y="2881"/>
                  </a:lnTo>
                  <a:lnTo>
                    <a:pt x="267" y="2915"/>
                  </a:lnTo>
                  <a:lnTo>
                    <a:pt x="302" y="2915"/>
                  </a:lnTo>
                  <a:lnTo>
                    <a:pt x="336" y="2943"/>
                  </a:lnTo>
                  <a:lnTo>
                    <a:pt x="370" y="2977"/>
                  </a:lnTo>
                  <a:lnTo>
                    <a:pt x="404" y="2977"/>
                  </a:lnTo>
                  <a:lnTo>
                    <a:pt x="439" y="3011"/>
                  </a:lnTo>
                  <a:lnTo>
                    <a:pt x="473" y="3045"/>
                  </a:lnTo>
                  <a:lnTo>
                    <a:pt x="507" y="3045"/>
                  </a:lnTo>
                  <a:lnTo>
                    <a:pt x="541" y="3079"/>
                  </a:lnTo>
                  <a:lnTo>
                    <a:pt x="576" y="3079"/>
                  </a:lnTo>
                  <a:lnTo>
                    <a:pt x="603" y="3114"/>
                  </a:lnTo>
                  <a:lnTo>
                    <a:pt x="637" y="3148"/>
                  </a:lnTo>
                  <a:lnTo>
                    <a:pt x="672" y="3148"/>
                  </a:lnTo>
                  <a:lnTo>
                    <a:pt x="706" y="3182"/>
                  </a:lnTo>
                  <a:lnTo>
                    <a:pt x="740" y="3216"/>
                  </a:lnTo>
                  <a:lnTo>
                    <a:pt x="775" y="3216"/>
                  </a:lnTo>
                  <a:lnTo>
                    <a:pt x="809" y="3251"/>
                  </a:lnTo>
                  <a:lnTo>
                    <a:pt x="843" y="3251"/>
                  </a:lnTo>
                  <a:lnTo>
                    <a:pt x="877" y="3285"/>
                  </a:lnTo>
                  <a:lnTo>
                    <a:pt x="912" y="3285"/>
                  </a:lnTo>
                  <a:lnTo>
                    <a:pt x="946" y="3285"/>
                  </a:lnTo>
                  <a:lnTo>
                    <a:pt x="980" y="3285"/>
                  </a:lnTo>
                  <a:close/>
                  <a:moveTo>
                    <a:pt x="884" y="1896"/>
                  </a:moveTo>
                  <a:lnTo>
                    <a:pt x="891" y="1889"/>
                  </a:lnTo>
                  <a:lnTo>
                    <a:pt x="891" y="1882"/>
                  </a:lnTo>
                  <a:lnTo>
                    <a:pt x="898" y="1868"/>
                  </a:lnTo>
                  <a:lnTo>
                    <a:pt x="898" y="1861"/>
                  </a:lnTo>
                  <a:lnTo>
                    <a:pt x="898" y="1848"/>
                  </a:lnTo>
                  <a:lnTo>
                    <a:pt x="898" y="1841"/>
                  </a:lnTo>
                  <a:lnTo>
                    <a:pt x="898" y="1827"/>
                  </a:lnTo>
                  <a:lnTo>
                    <a:pt x="898" y="1820"/>
                  </a:lnTo>
                  <a:lnTo>
                    <a:pt x="891" y="1814"/>
                  </a:lnTo>
                  <a:lnTo>
                    <a:pt x="891" y="1800"/>
                  </a:lnTo>
                  <a:lnTo>
                    <a:pt x="884" y="1793"/>
                  </a:lnTo>
                  <a:lnTo>
                    <a:pt x="884" y="1786"/>
                  </a:lnTo>
                  <a:lnTo>
                    <a:pt x="884" y="1773"/>
                  </a:lnTo>
                  <a:lnTo>
                    <a:pt x="877" y="1766"/>
                  </a:lnTo>
                  <a:lnTo>
                    <a:pt x="877" y="1759"/>
                  </a:lnTo>
                  <a:lnTo>
                    <a:pt x="877" y="1745"/>
                  </a:lnTo>
                  <a:lnTo>
                    <a:pt x="884" y="1738"/>
                  </a:lnTo>
                  <a:lnTo>
                    <a:pt x="884" y="1731"/>
                  </a:lnTo>
                  <a:lnTo>
                    <a:pt x="884" y="1725"/>
                  </a:lnTo>
                  <a:lnTo>
                    <a:pt x="891" y="1718"/>
                  </a:lnTo>
                  <a:lnTo>
                    <a:pt x="898" y="1711"/>
                  </a:lnTo>
                  <a:lnTo>
                    <a:pt x="912" y="1711"/>
                  </a:lnTo>
                  <a:lnTo>
                    <a:pt x="919" y="1711"/>
                  </a:lnTo>
                  <a:lnTo>
                    <a:pt x="925" y="1711"/>
                  </a:lnTo>
                  <a:lnTo>
                    <a:pt x="932" y="1704"/>
                  </a:lnTo>
                  <a:lnTo>
                    <a:pt x="939" y="1704"/>
                  </a:lnTo>
                  <a:lnTo>
                    <a:pt x="946" y="1704"/>
                  </a:lnTo>
                  <a:lnTo>
                    <a:pt x="953" y="1704"/>
                  </a:lnTo>
                  <a:lnTo>
                    <a:pt x="960" y="1704"/>
                  </a:lnTo>
                  <a:lnTo>
                    <a:pt x="967" y="1704"/>
                  </a:lnTo>
                  <a:lnTo>
                    <a:pt x="973" y="1704"/>
                  </a:lnTo>
                  <a:lnTo>
                    <a:pt x="980" y="1704"/>
                  </a:lnTo>
                  <a:lnTo>
                    <a:pt x="987" y="1704"/>
                  </a:lnTo>
                  <a:lnTo>
                    <a:pt x="994" y="1711"/>
                  </a:lnTo>
                  <a:lnTo>
                    <a:pt x="1001" y="1711"/>
                  </a:lnTo>
                  <a:lnTo>
                    <a:pt x="1008" y="1718"/>
                  </a:lnTo>
                  <a:lnTo>
                    <a:pt x="1015" y="1725"/>
                  </a:lnTo>
                  <a:lnTo>
                    <a:pt x="1021" y="1731"/>
                  </a:lnTo>
                  <a:lnTo>
                    <a:pt x="1021" y="1738"/>
                  </a:lnTo>
                  <a:lnTo>
                    <a:pt x="1028" y="1752"/>
                  </a:lnTo>
                  <a:lnTo>
                    <a:pt x="1035" y="1759"/>
                  </a:lnTo>
                  <a:lnTo>
                    <a:pt x="1035" y="1766"/>
                  </a:lnTo>
                  <a:lnTo>
                    <a:pt x="1035" y="1779"/>
                  </a:lnTo>
                  <a:lnTo>
                    <a:pt x="1035" y="1786"/>
                  </a:lnTo>
                  <a:lnTo>
                    <a:pt x="1042" y="1800"/>
                  </a:lnTo>
                  <a:lnTo>
                    <a:pt x="1049" y="1807"/>
                  </a:lnTo>
                  <a:lnTo>
                    <a:pt x="1049" y="1807"/>
                  </a:lnTo>
                  <a:lnTo>
                    <a:pt x="1056" y="1814"/>
                  </a:lnTo>
                  <a:lnTo>
                    <a:pt x="1063" y="1820"/>
                  </a:lnTo>
                  <a:lnTo>
                    <a:pt x="1069" y="1820"/>
                  </a:lnTo>
                  <a:lnTo>
                    <a:pt x="1083" y="1820"/>
                  </a:lnTo>
                  <a:lnTo>
                    <a:pt x="1090" y="1827"/>
                  </a:lnTo>
                  <a:lnTo>
                    <a:pt x="1090" y="1834"/>
                  </a:lnTo>
                  <a:lnTo>
                    <a:pt x="1097" y="1841"/>
                  </a:lnTo>
                  <a:lnTo>
                    <a:pt x="1097" y="1855"/>
                  </a:lnTo>
                  <a:lnTo>
                    <a:pt x="1097" y="1861"/>
                  </a:lnTo>
                  <a:lnTo>
                    <a:pt x="1097" y="1868"/>
                  </a:lnTo>
                  <a:lnTo>
                    <a:pt x="1090" y="1875"/>
                  </a:lnTo>
                  <a:lnTo>
                    <a:pt x="1076" y="1875"/>
                  </a:lnTo>
                  <a:lnTo>
                    <a:pt x="1069" y="1875"/>
                  </a:lnTo>
                  <a:lnTo>
                    <a:pt x="1063" y="1875"/>
                  </a:lnTo>
                  <a:lnTo>
                    <a:pt x="1056" y="1882"/>
                  </a:lnTo>
                  <a:lnTo>
                    <a:pt x="1049" y="1882"/>
                  </a:lnTo>
                  <a:lnTo>
                    <a:pt x="1042" y="1882"/>
                  </a:lnTo>
                  <a:lnTo>
                    <a:pt x="1035" y="1882"/>
                  </a:lnTo>
                  <a:lnTo>
                    <a:pt x="1028" y="1875"/>
                  </a:lnTo>
                  <a:lnTo>
                    <a:pt x="1021" y="1875"/>
                  </a:lnTo>
                  <a:lnTo>
                    <a:pt x="1015" y="1875"/>
                  </a:lnTo>
                  <a:lnTo>
                    <a:pt x="1008" y="1868"/>
                  </a:lnTo>
                  <a:lnTo>
                    <a:pt x="1001" y="1868"/>
                  </a:lnTo>
                  <a:lnTo>
                    <a:pt x="994" y="1868"/>
                  </a:lnTo>
                  <a:lnTo>
                    <a:pt x="987" y="1861"/>
                  </a:lnTo>
                  <a:lnTo>
                    <a:pt x="980" y="1861"/>
                  </a:lnTo>
                  <a:lnTo>
                    <a:pt x="973" y="1861"/>
                  </a:lnTo>
                  <a:lnTo>
                    <a:pt x="967" y="1861"/>
                  </a:lnTo>
                  <a:lnTo>
                    <a:pt x="960" y="1861"/>
                  </a:lnTo>
                  <a:lnTo>
                    <a:pt x="946" y="1861"/>
                  </a:lnTo>
                  <a:lnTo>
                    <a:pt x="946" y="1861"/>
                  </a:lnTo>
                  <a:lnTo>
                    <a:pt x="946" y="1875"/>
                  </a:lnTo>
                  <a:lnTo>
                    <a:pt x="953" y="1889"/>
                  </a:lnTo>
                  <a:lnTo>
                    <a:pt x="960" y="1896"/>
                  </a:lnTo>
                  <a:lnTo>
                    <a:pt x="960" y="1896"/>
                  </a:lnTo>
                  <a:lnTo>
                    <a:pt x="953" y="1896"/>
                  </a:lnTo>
                  <a:lnTo>
                    <a:pt x="939" y="1903"/>
                  </a:lnTo>
                  <a:lnTo>
                    <a:pt x="932" y="1903"/>
                  </a:lnTo>
                  <a:lnTo>
                    <a:pt x="925" y="1903"/>
                  </a:lnTo>
                  <a:lnTo>
                    <a:pt x="919" y="1909"/>
                  </a:lnTo>
                  <a:lnTo>
                    <a:pt x="912" y="1909"/>
                  </a:lnTo>
                  <a:lnTo>
                    <a:pt x="905" y="1909"/>
                  </a:lnTo>
                  <a:lnTo>
                    <a:pt x="898" y="1909"/>
                  </a:lnTo>
                  <a:lnTo>
                    <a:pt x="891" y="1903"/>
                  </a:lnTo>
                  <a:lnTo>
                    <a:pt x="884" y="1896"/>
                  </a:lnTo>
                  <a:close/>
                  <a:moveTo>
                    <a:pt x="569" y="1861"/>
                  </a:moveTo>
                  <a:lnTo>
                    <a:pt x="569" y="1855"/>
                  </a:lnTo>
                  <a:lnTo>
                    <a:pt x="562" y="1841"/>
                  </a:lnTo>
                  <a:lnTo>
                    <a:pt x="562" y="1834"/>
                  </a:lnTo>
                  <a:lnTo>
                    <a:pt x="562" y="1827"/>
                  </a:lnTo>
                  <a:lnTo>
                    <a:pt x="555" y="1820"/>
                  </a:lnTo>
                  <a:lnTo>
                    <a:pt x="548" y="1807"/>
                  </a:lnTo>
                  <a:lnTo>
                    <a:pt x="548" y="1800"/>
                  </a:lnTo>
                  <a:lnTo>
                    <a:pt x="541" y="1793"/>
                  </a:lnTo>
                  <a:lnTo>
                    <a:pt x="535" y="1786"/>
                  </a:lnTo>
                  <a:lnTo>
                    <a:pt x="535" y="1779"/>
                  </a:lnTo>
                  <a:lnTo>
                    <a:pt x="528" y="1773"/>
                  </a:lnTo>
                  <a:lnTo>
                    <a:pt x="521" y="1766"/>
                  </a:lnTo>
                  <a:lnTo>
                    <a:pt x="521" y="1759"/>
                  </a:lnTo>
                  <a:lnTo>
                    <a:pt x="514" y="1752"/>
                  </a:lnTo>
                  <a:lnTo>
                    <a:pt x="514" y="1738"/>
                  </a:lnTo>
                  <a:lnTo>
                    <a:pt x="507" y="1731"/>
                  </a:lnTo>
                  <a:lnTo>
                    <a:pt x="507" y="1725"/>
                  </a:lnTo>
                  <a:lnTo>
                    <a:pt x="514" y="1718"/>
                  </a:lnTo>
                  <a:lnTo>
                    <a:pt x="521" y="1718"/>
                  </a:lnTo>
                  <a:lnTo>
                    <a:pt x="528" y="1718"/>
                  </a:lnTo>
                  <a:lnTo>
                    <a:pt x="535" y="1718"/>
                  </a:lnTo>
                  <a:lnTo>
                    <a:pt x="541" y="1718"/>
                  </a:lnTo>
                  <a:lnTo>
                    <a:pt x="548" y="1718"/>
                  </a:lnTo>
                  <a:lnTo>
                    <a:pt x="555" y="1718"/>
                  </a:lnTo>
                  <a:lnTo>
                    <a:pt x="562" y="1718"/>
                  </a:lnTo>
                  <a:lnTo>
                    <a:pt x="569" y="1718"/>
                  </a:lnTo>
                  <a:lnTo>
                    <a:pt x="576" y="1711"/>
                  </a:lnTo>
                  <a:lnTo>
                    <a:pt x="583" y="1711"/>
                  </a:lnTo>
                  <a:lnTo>
                    <a:pt x="589" y="1711"/>
                  </a:lnTo>
                  <a:lnTo>
                    <a:pt x="596" y="1711"/>
                  </a:lnTo>
                  <a:lnTo>
                    <a:pt x="603" y="1711"/>
                  </a:lnTo>
                  <a:lnTo>
                    <a:pt x="610" y="1711"/>
                  </a:lnTo>
                  <a:lnTo>
                    <a:pt x="617" y="1711"/>
                  </a:lnTo>
                  <a:lnTo>
                    <a:pt x="624" y="1718"/>
                  </a:lnTo>
                  <a:lnTo>
                    <a:pt x="631" y="1718"/>
                  </a:lnTo>
                  <a:lnTo>
                    <a:pt x="637" y="1718"/>
                  </a:lnTo>
                  <a:lnTo>
                    <a:pt x="644" y="1718"/>
                  </a:lnTo>
                  <a:lnTo>
                    <a:pt x="651" y="1718"/>
                  </a:lnTo>
                  <a:lnTo>
                    <a:pt x="658" y="1725"/>
                  </a:lnTo>
                  <a:lnTo>
                    <a:pt x="665" y="1725"/>
                  </a:lnTo>
                  <a:lnTo>
                    <a:pt x="672" y="1725"/>
                  </a:lnTo>
                  <a:lnTo>
                    <a:pt x="679" y="1725"/>
                  </a:lnTo>
                  <a:lnTo>
                    <a:pt x="685" y="1718"/>
                  </a:lnTo>
                  <a:lnTo>
                    <a:pt x="692" y="1711"/>
                  </a:lnTo>
                  <a:lnTo>
                    <a:pt x="699" y="1704"/>
                  </a:lnTo>
                  <a:lnTo>
                    <a:pt x="699" y="1697"/>
                  </a:lnTo>
                  <a:lnTo>
                    <a:pt x="706" y="1690"/>
                  </a:lnTo>
                  <a:lnTo>
                    <a:pt x="706" y="1684"/>
                  </a:lnTo>
                  <a:lnTo>
                    <a:pt x="706" y="1670"/>
                  </a:lnTo>
                  <a:lnTo>
                    <a:pt x="706" y="1663"/>
                  </a:lnTo>
                  <a:lnTo>
                    <a:pt x="706" y="1649"/>
                  </a:lnTo>
                  <a:lnTo>
                    <a:pt x="713" y="1643"/>
                  </a:lnTo>
                  <a:lnTo>
                    <a:pt x="713" y="1636"/>
                  </a:lnTo>
                  <a:lnTo>
                    <a:pt x="713" y="1622"/>
                  </a:lnTo>
                  <a:lnTo>
                    <a:pt x="713" y="1615"/>
                  </a:lnTo>
                  <a:lnTo>
                    <a:pt x="713" y="1601"/>
                  </a:lnTo>
                  <a:lnTo>
                    <a:pt x="720" y="1595"/>
                  </a:lnTo>
                  <a:lnTo>
                    <a:pt x="720" y="1588"/>
                  </a:lnTo>
                  <a:lnTo>
                    <a:pt x="720" y="1574"/>
                  </a:lnTo>
                  <a:lnTo>
                    <a:pt x="720" y="1567"/>
                  </a:lnTo>
                  <a:lnTo>
                    <a:pt x="720" y="1554"/>
                  </a:lnTo>
                  <a:lnTo>
                    <a:pt x="727" y="1547"/>
                  </a:lnTo>
                  <a:lnTo>
                    <a:pt x="727" y="1533"/>
                  </a:lnTo>
                  <a:lnTo>
                    <a:pt x="727" y="1526"/>
                  </a:lnTo>
                  <a:lnTo>
                    <a:pt x="720" y="1519"/>
                  </a:lnTo>
                  <a:lnTo>
                    <a:pt x="713" y="1512"/>
                  </a:lnTo>
                  <a:lnTo>
                    <a:pt x="706" y="1512"/>
                  </a:lnTo>
                  <a:lnTo>
                    <a:pt x="699" y="1519"/>
                  </a:lnTo>
                  <a:lnTo>
                    <a:pt x="692" y="1519"/>
                  </a:lnTo>
                  <a:lnTo>
                    <a:pt x="685" y="1526"/>
                  </a:lnTo>
                  <a:lnTo>
                    <a:pt x="679" y="1533"/>
                  </a:lnTo>
                  <a:lnTo>
                    <a:pt x="672" y="1533"/>
                  </a:lnTo>
                  <a:lnTo>
                    <a:pt x="665" y="1540"/>
                  </a:lnTo>
                  <a:lnTo>
                    <a:pt x="658" y="1547"/>
                  </a:lnTo>
                  <a:lnTo>
                    <a:pt x="658" y="1547"/>
                  </a:lnTo>
                  <a:lnTo>
                    <a:pt x="651" y="1554"/>
                  </a:lnTo>
                  <a:lnTo>
                    <a:pt x="644" y="1560"/>
                  </a:lnTo>
                  <a:lnTo>
                    <a:pt x="637" y="1560"/>
                  </a:lnTo>
                  <a:lnTo>
                    <a:pt x="631" y="1554"/>
                  </a:lnTo>
                  <a:lnTo>
                    <a:pt x="624" y="1547"/>
                  </a:lnTo>
                  <a:lnTo>
                    <a:pt x="617" y="1547"/>
                  </a:lnTo>
                  <a:lnTo>
                    <a:pt x="610" y="1540"/>
                  </a:lnTo>
                  <a:lnTo>
                    <a:pt x="603" y="1540"/>
                  </a:lnTo>
                  <a:lnTo>
                    <a:pt x="596" y="1533"/>
                  </a:lnTo>
                  <a:lnTo>
                    <a:pt x="596" y="1526"/>
                  </a:lnTo>
                  <a:lnTo>
                    <a:pt x="589" y="1519"/>
                  </a:lnTo>
                  <a:lnTo>
                    <a:pt x="583" y="1512"/>
                  </a:lnTo>
                  <a:lnTo>
                    <a:pt x="576" y="1506"/>
                  </a:lnTo>
                  <a:lnTo>
                    <a:pt x="569" y="1499"/>
                  </a:lnTo>
                  <a:lnTo>
                    <a:pt x="569" y="1492"/>
                  </a:lnTo>
                  <a:lnTo>
                    <a:pt x="569" y="1485"/>
                  </a:lnTo>
                  <a:lnTo>
                    <a:pt x="576" y="1471"/>
                  </a:lnTo>
                  <a:lnTo>
                    <a:pt x="576" y="1465"/>
                  </a:lnTo>
                  <a:lnTo>
                    <a:pt x="583" y="1458"/>
                  </a:lnTo>
                  <a:lnTo>
                    <a:pt x="583" y="1451"/>
                  </a:lnTo>
                  <a:lnTo>
                    <a:pt x="589" y="1444"/>
                  </a:lnTo>
                  <a:lnTo>
                    <a:pt x="596" y="1437"/>
                  </a:lnTo>
                  <a:lnTo>
                    <a:pt x="603" y="1430"/>
                  </a:lnTo>
                  <a:lnTo>
                    <a:pt x="610" y="1424"/>
                  </a:lnTo>
                  <a:lnTo>
                    <a:pt x="617" y="1424"/>
                  </a:lnTo>
                  <a:lnTo>
                    <a:pt x="617" y="1417"/>
                  </a:lnTo>
                  <a:lnTo>
                    <a:pt x="624" y="1410"/>
                  </a:lnTo>
                  <a:lnTo>
                    <a:pt x="631" y="1403"/>
                  </a:lnTo>
                  <a:lnTo>
                    <a:pt x="637" y="1396"/>
                  </a:lnTo>
                  <a:lnTo>
                    <a:pt x="644" y="1396"/>
                  </a:lnTo>
                  <a:lnTo>
                    <a:pt x="651" y="1403"/>
                  </a:lnTo>
                  <a:lnTo>
                    <a:pt x="658" y="1410"/>
                  </a:lnTo>
                  <a:lnTo>
                    <a:pt x="665" y="1410"/>
                  </a:lnTo>
                  <a:lnTo>
                    <a:pt x="672" y="1417"/>
                  </a:lnTo>
                  <a:lnTo>
                    <a:pt x="672" y="1424"/>
                  </a:lnTo>
                  <a:lnTo>
                    <a:pt x="679" y="1430"/>
                  </a:lnTo>
                  <a:lnTo>
                    <a:pt x="685" y="1437"/>
                  </a:lnTo>
                  <a:lnTo>
                    <a:pt x="692" y="1444"/>
                  </a:lnTo>
                  <a:lnTo>
                    <a:pt x="699" y="1444"/>
                  </a:lnTo>
                  <a:lnTo>
                    <a:pt x="706" y="1451"/>
                  </a:lnTo>
                  <a:lnTo>
                    <a:pt x="713" y="1458"/>
                  </a:lnTo>
                  <a:lnTo>
                    <a:pt x="720" y="1458"/>
                  </a:lnTo>
                  <a:lnTo>
                    <a:pt x="727" y="1465"/>
                  </a:lnTo>
                  <a:lnTo>
                    <a:pt x="727" y="1471"/>
                  </a:lnTo>
                  <a:lnTo>
                    <a:pt x="733" y="1478"/>
                  </a:lnTo>
                  <a:lnTo>
                    <a:pt x="740" y="1485"/>
                  </a:lnTo>
                  <a:lnTo>
                    <a:pt x="747" y="1485"/>
                  </a:lnTo>
                  <a:lnTo>
                    <a:pt x="754" y="1478"/>
                  </a:lnTo>
                  <a:lnTo>
                    <a:pt x="761" y="1478"/>
                  </a:lnTo>
                  <a:lnTo>
                    <a:pt x="768" y="1471"/>
                  </a:lnTo>
                  <a:lnTo>
                    <a:pt x="775" y="1465"/>
                  </a:lnTo>
                  <a:lnTo>
                    <a:pt x="781" y="1465"/>
                  </a:lnTo>
                  <a:lnTo>
                    <a:pt x="788" y="1458"/>
                  </a:lnTo>
                  <a:lnTo>
                    <a:pt x="788" y="1451"/>
                  </a:lnTo>
                  <a:lnTo>
                    <a:pt x="795" y="1444"/>
                  </a:lnTo>
                  <a:lnTo>
                    <a:pt x="795" y="1430"/>
                  </a:lnTo>
                  <a:lnTo>
                    <a:pt x="802" y="1424"/>
                  </a:lnTo>
                  <a:lnTo>
                    <a:pt x="802" y="1410"/>
                  </a:lnTo>
                  <a:lnTo>
                    <a:pt x="809" y="1403"/>
                  </a:lnTo>
                  <a:lnTo>
                    <a:pt x="809" y="1396"/>
                  </a:lnTo>
                  <a:lnTo>
                    <a:pt x="816" y="1396"/>
                  </a:lnTo>
                  <a:lnTo>
                    <a:pt x="823" y="1396"/>
                  </a:lnTo>
                  <a:lnTo>
                    <a:pt x="829" y="1389"/>
                  </a:lnTo>
                  <a:lnTo>
                    <a:pt x="836" y="1382"/>
                  </a:lnTo>
                  <a:lnTo>
                    <a:pt x="843" y="1382"/>
                  </a:lnTo>
                  <a:lnTo>
                    <a:pt x="850" y="1389"/>
                  </a:lnTo>
                  <a:lnTo>
                    <a:pt x="857" y="1389"/>
                  </a:lnTo>
                  <a:lnTo>
                    <a:pt x="864" y="1396"/>
                  </a:lnTo>
                  <a:lnTo>
                    <a:pt x="871" y="1396"/>
                  </a:lnTo>
                  <a:lnTo>
                    <a:pt x="877" y="1403"/>
                  </a:lnTo>
                  <a:lnTo>
                    <a:pt x="877" y="1410"/>
                  </a:lnTo>
                  <a:lnTo>
                    <a:pt x="884" y="1417"/>
                  </a:lnTo>
                  <a:lnTo>
                    <a:pt x="884" y="1430"/>
                  </a:lnTo>
                  <a:lnTo>
                    <a:pt x="891" y="1437"/>
                  </a:lnTo>
                  <a:lnTo>
                    <a:pt x="891" y="1451"/>
                  </a:lnTo>
                  <a:lnTo>
                    <a:pt x="891" y="1458"/>
                  </a:lnTo>
                  <a:lnTo>
                    <a:pt x="884" y="1471"/>
                  </a:lnTo>
                  <a:lnTo>
                    <a:pt x="884" y="1478"/>
                  </a:lnTo>
                  <a:lnTo>
                    <a:pt x="884" y="1485"/>
                  </a:lnTo>
                  <a:lnTo>
                    <a:pt x="877" y="1492"/>
                  </a:lnTo>
                  <a:lnTo>
                    <a:pt x="871" y="1499"/>
                  </a:lnTo>
                  <a:lnTo>
                    <a:pt x="864" y="1506"/>
                  </a:lnTo>
                  <a:lnTo>
                    <a:pt x="864" y="1519"/>
                  </a:lnTo>
                  <a:lnTo>
                    <a:pt x="857" y="1519"/>
                  </a:lnTo>
                  <a:lnTo>
                    <a:pt x="850" y="1526"/>
                  </a:lnTo>
                  <a:lnTo>
                    <a:pt x="843" y="1533"/>
                  </a:lnTo>
                  <a:lnTo>
                    <a:pt x="836" y="1533"/>
                  </a:lnTo>
                  <a:lnTo>
                    <a:pt x="829" y="1540"/>
                  </a:lnTo>
                  <a:lnTo>
                    <a:pt x="823" y="1547"/>
                  </a:lnTo>
                  <a:lnTo>
                    <a:pt x="823" y="1554"/>
                  </a:lnTo>
                  <a:lnTo>
                    <a:pt x="816" y="1560"/>
                  </a:lnTo>
                  <a:lnTo>
                    <a:pt x="816" y="1574"/>
                  </a:lnTo>
                  <a:lnTo>
                    <a:pt x="809" y="1581"/>
                  </a:lnTo>
                  <a:lnTo>
                    <a:pt x="809" y="1588"/>
                  </a:lnTo>
                  <a:lnTo>
                    <a:pt x="809" y="1601"/>
                  </a:lnTo>
                  <a:lnTo>
                    <a:pt x="802" y="1608"/>
                  </a:lnTo>
                  <a:lnTo>
                    <a:pt x="802" y="1615"/>
                  </a:lnTo>
                  <a:lnTo>
                    <a:pt x="795" y="1629"/>
                  </a:lnTo>
                  <a:lnTo>
                    <a:pt x="795" y="1636"/>
                  </a:lnTo>
                  <a:lnTo>
                    <a:pt x="795" y="1643"/>
                  </a:lnTo>
                  <a:lnTo>
                    <a:pt x="788" y="1656"/>
                  </a:lnTo>
                  <a:lnTo>
                    <a:pt x="788" y="1663"/>
                  </a:lnTo>
                  <a:lnTo>
                    <a:pt x="781" y="1670"/>
                  </a:lnTo>
                  <a:lnTo>
                    <a:pt x="781" y="1684"/>
                  </a:lnTo>
                  <a:lnTo>
                    <a:pt x="781" y="1690"/>
                  </a:lnTo>
                  <a:lnTo>
                    <a:pt x="775" y="1697"/>
                  </a:lnTo>
                  <a:lnTo>
                    <a:pt x="775" y="1711"/>
                  </a:lnTo>
                  <a:lnTo>
                    <a:pt x="768" y="1718"/>
                  </a:lnTo>
                  <a:lnTo>
                    <a:pt x="768" y="1725"/>
                  </a:lnTo>
                  <a:lnTo>
                    <a:pt x="775" y="1738"/>
                  </a:lnTo>
                  <a:lnTo>
                    <a:pt x="781" y="1745"/>
                  </a:lnTo>
                  <a:lnTo>
                    <a:pt x="788" y="1752"/>
                  </a:lnTo>
                  <a:lnTo>
                    <a:pt x="795" y="1759"/>
                  </a:lnTo>
                  <a:lnTo>
                    <a:pt x="795" y="1759"/>
                  </a:lnTo>
                  <a:lnTo>
                    <a:pt x="788" y="1766"/>
                  </a:lnTo>
                  <a:lnTo>
                    <a:pt x="781" y="1773"/>
                  </a:lnTo>
                  <a:lnTo>
                    <a:pt x="775" y="1779"/>
                  </a:lnTo>
                  <a:lnTo>
                    <a:pt x="768" y="1779"/>
                  </a:lnTo>
                  <a:lnTo>
                    <a:pt x="761" y="1779"/>
                  </a:lnTo>
                  <a:lnTo>
                    <a:pt x="754" y="1779"/>
                  </a:lnTo>
                  <a:lnTo>
                    <a:pt x="747" y="1779"/>
                  </a:lnTo>
                  <a:lnTo>
                    <a:pt x="740" y="1786"/>
                  </a:lnTo>
                  <a:lnTo>
                    <a:pt x="733" y="1786"/>
                  </a:lnTo>
                  <a:lnTo>
                    <a:pt x="727" y="1786"/>
                  </a:lnTo>
                  <a:lnTo>
                    <a:pt x="720" y="1786"/>
                  </a:lnTo>
                  <a:lnTo>
                    <a:pt x="713" y="1786"/>
                  </a:lnTo>
                  <a:lnTo>
                    <a:pt x="706" y="1786"/>
                  </a:lnTo>
                  <a:lnTo>
                    <a:pt x="699" y="1786"/>
                  </a:lnTo>
                  <a:lnTo>
                    <a:pt x="692" y="1779"/>
                  </a:lnTo>
                  <a:lnTo>
                    <a:pt x="685" y="1779"/>
                  </a:lnTo>
                  <a:lnTo>
                    <a:pt x="679" y="1773"/>
                  </a:lnTo>
                  <a:lnTo>
                    <a:pt x="672" y="1773"/>
                  </a:lnTo>
                  <a:lnTo>
                    <a:pt x="665" y="1766"/>
                  </a:lnTo>
                  <a:lnTo>
                    <a:pt x="658" y="1766"/>
                  </a:lnTo>
                  <a:lnTo>
                    <a:pt x="651" y="1759"/>
                  </a:lnTo>
                  <a:lnTo>
                    <a:pt x="644" y="1745"/>
                  </a:lnTo>
                  <a:lnTo>
                    <a:pt x="644" y="1745"/>
                  </a:lnTo>
                  <a:lnTo>
                    <a:pt x="637" y="1745"/>
                  </a:lnTo>
                  <a:lnTo>
                    <a:pt x="631" y="1752"/>
                  </a:lnTo>
                  <a:lnTo>
                    <a:pt x="631" y="1766"/>
                  </a:lnTo>
                  <a:lnTo>
                    <a:pt x="624" y="1773"/>
                  </a:lnTo>
                  <a:lnTo>
                    <a:pt x="624" y="1779"/>
                  </a:lnTo>
                  <a:lnTo>
                    <a:pt x="617" y="1793"/>
                  </a:lnTo>
                  <a:lnTo>
                    <a:pt x="617" y="1800"/>
                  </a:lnTo>
                  <a:lnTo>
                    <a:pt x="617" y="1807"/>
                  </a:lnTo>
                  <a:lnTo>
                    <a:pt x="617" y="1820"/>
                  </a:lnTo>
                  <a:lnTo>
                    <a:pt x="617" y="1827"/>
                  </a:lnTo>
                  <a:lnTo>
                    <a:pt x="617" y="1841"/>
                  </a:lnTo>
                  <a:lnTo>
                    <a:pt x="617" y="1848"/>
                  </a:lnTo>
                  <a:lnTo>
                    <a:pt x="617" y="1861"/>
                  </a:lnTo>
                  <a:lnTo>
                    <a:pt x="617" y="1868"/>
                  </a:lnTo>
                  <a:lnTo>
                    <a:pt x="610" y="1882"/>
                  </a:lnTo>
                  <a:lnTo>
                    <a:pt x="610" y="1889"/>
                  </a:lnTo>
                  <a:lnTo>
                    <a:pt x="603" y="1896"/>
                  </a:lnTo>
                  <a:lnTo>
                    <a:pt x="596" y="1903"/>
                  </a:lnTo>
                  <a:lnTo>
                    <a:pt x="589" y="1896"/>
                  </a:lnTo>
                  <a:lnTo>
                    <a:pt x="583" y="1896"/>
                  </a:lnTo>
                  <a:lnTo>
                    <a:pt x="576" y="1889"/>
                  </a:lnTo>
                  <a:lnTo>
                    <a:pt x="569" y="1882"/>
                  </a:lnTo>
                  <a:lnTo>
                    <a:pt x="569" y="1875"/>
                  </a:lnTo>
                  <a:lnTo>
                    <a:pt x="569" y="1861"/>
                  </a:lnTo>
                  <a:close/>
                  <a:moveTo>
                    <a:pt x="1851" y="1725"/>
                  </a:moveTo>
                  <a:lnTo>
                    <a:pt x="1844" y="1718"/>
                  </a:lnTo>
                  <a:lnTo>
                    <a:pt x="1837" y="1711"/>
                  </a:lnTo>
                  <a:lnTo>
                    <a:pt x="1830" y="1711"/>
                  </a:lnTo>
                  <a:lnTo>
                    <a:pt x="1824" y="1704"/>
                  </a:lnTo>
                  <a:lnTo>
                    <a:pt x="1817" y="1704"/>
                  </a:lnTo>
                  <a:lnTo>
                    <a:pt x="1810" y="1704"/>
                  </a:lnTo>
                  <a:lnTo>
                    <a:pt x="1803" y="1704"/>
                  </a:lnTo>
                  <a:lnTo>
                    <a:pt x="1789" y="1704"/>
                  </a:lnTo>
                  <a:lnTo>
                    <a:pt x="1782" y="1697"/>
                  </a:lnTo>
                  <a:lnTo>
                    <a:pt x="1776" y="1690"/>
                  </a:lnTo>
                  <a:lnTo>
                    <a:pt x="1782" y="1684"/>
                  </a:lnTo>
                  <a:lnTo>
                    <a:pt x="1789" y="1677"/>
                  </a:lnTo>
                  <a:lnTo>
                    <a:pt x="1796" y="1677"/>
                  </a:lnTo>
                  <a:lnTo>
                    <a:pt x="1803" y="1677"/>
                  </a:lnTo>
                  <a:lnTo>
                    <a:pt x="1810" y="1677"/>
                  </a:lnTo>
                  <a:lnTo>
                    <a:pt x="1817" y="1684"/>
                  </a:lnTo>
                  <a:lnTo>
                    <a:pt x="1830" y="1684"/>
                  </a:lnTo>
                  <a:lnTo>
                    <a:pt x="1837" y="1684"/>
                  </a:lnTo>
                  <a:lnTo>
                    <a:pt x="1844" y="1684"/>
                  </a:lnTo>
                  <a:lnTo>
                    <a:pt x="1851" y="1684"/>
                  </a:lnTo>
                  <a:lnTo>
                    <a:pt x="1858" y="1684"/>
                  </a:lnTo>
                  <a:lnTo>
                    <a:pt x="1865" y="1684"/>
                  </a:lnTo>
                  <a:lnTo>
                    <a:pt x="1872" y="1684"/>
                  </a:lnTo>
                  <a:lnTo>
                    <a:pt x="1878" y="1690"/>
                  </a:lnTo>
                  <a:lnTo>
                    <a:pt x="1885" y="1697"/>
                  </a:lnTo>
                  <a:lnTo>
                    <a:pt x="1892" y="1704"/>
                  </a:lnTo>
                  <a:lnTo>
                    <a:pt x="1899" y="1718"/>
                  </a:lnTo>
                  <a:lnTo>
                    <a:pt x="1899" y="1725"/>
                  </a:lnTo>
                  <a:lnTo>
                    <a:pt x="1892" y="1731"/>
                  </a:lnTo>
                  <a:lnTo>
                    <a:pt x="1885" y="1731"/>
                  </a:lnTo>
                  <a:lnTo>
                    <a:pt x="1878" y="1731"/>
                  </a:lnTo>
                  <a:lnTo>
                    <a:pt x="1872" y="1731"/>
                  </a:lnTo>
                  <a:lnTo>
                    <a:pt x="1865" y="1731"/>
                  </a:lnTo>
                  <a:lnTo>
                    <a:pt x="1858" y="1731"/>
                  </a:lnTo>
                  <a:lnTo>
                    <a:pt x="1851" y="1725"/>
                  </a:lnTo>
                  <a:close/>
                  <a:moveTo>
                    <a:pt x="1481" y="1656"/>
                  </a:moveTo>
                  <a:lnTo>
                    <a:pt x="1474" y="1656"/>
                  </a:lnTo>
                  <a:lnTo>
                    <a:pt x="1467" y="1656"/>
                  </a:lnTo>
                  <a:lnTo>
                    <a:pt x="1460" y="1656"/>
                  </a:lnTo>
                  <a:lnTo>
                    <a:pt x="1453" y="1656"/>
                  </a:lnTo>
                  <a:lnTo>
                    <a:pt x="1446" y="1656"/>
                  </a:lnTo>
                  <a:lnTo>
                    <a:pt x="1440" y="1656"/>
                  </a:lnTo>
                  <a:lnTo>
                    <a:pt x="1433" y="1649"/>
                  </a:lnTo>
                  <a:lnTo>
                    <a:pt x="1426" y="1649"/>
                  </a:lnTo>
                  <a:lnTo>
                    <a:pt x="1419" y="1649"/>
                  </a:lnTo>
                  <a:lnTo>
                    <a:pt x="1412" y="1649"/>
                  </a:lnTo>
                  <a:lnTo>
                    <a:pt x="1405" y="1643"/>
                  </a:lnTo>
                  <a:lnTo>
                    <a:pt x="1398" y="1643"/>
                  </a:lnTo>
                  <a:lnTo>
                    <a:pt x="1385" y="1643"/>
                  </a:lnTo>
                  <a:lnTo>
                    <a:pt x="1378" y="1643"/>
                  </a:lnTo>
                  <a:lnTo>
                    <a:pt x="1371" y="1636"/>
                  </a:lnTo>
                  <a:lnTo>
                    <a:pt x="1364" y="1636"/>
                  </a:lnTo>
                  <a:lnTo>
                    <a:pt x="1357" y="1629"/>
                  </a:lnTo>
                  <a:lnTo>
                    <a:pt x="1357" y="1622"/>
                  </a:lnTo>
                  <a:lnTo>
                    <a:pt x="1350" y="1615"/>
                  </a:lnTo>
                  <a:lnTo>
                    <a:pt x="1357" y="1601"/>
                  </a:lnTo>
                  <a:lnTo>
                    <a:pt x="1357" y="1595"/>
                  </a:lnTo>
                  <a:lnTo>
                    <a:pt x="1357" y="1581"/>
                  </a:lnTo>
                  <a:lnTo>
                    <a:pt x="1357" y="1574"/>
                  </a:lnTo>
                  <a:lnTo>
                    <a:pt x="1357" y="1560"/>
                  </a:lnTo>
                  <a:lnTo>
                    <a:pt x="1350" y="1554"/>
                  </a:lnTo>
                  <a:lnTo>
                    <a:pt x="1350" y="1540"/>
                  </a:lnTo>
                  <a:lnTo>
                    <a:pt x="1344" y="1533"/>
                  </a:lnTo>
                  <a:lnTo>
                    <a:pt x="1344" y="1526"/>
                  </a:lnTo>
                  <a:lnTo>
                    <a:pt x="1344" y="1519"/>
                  </a:lnTo>
                  <a:lnTo>
                    <a:pt x="1350" y="1512"/>
                  </a:lnTo>
                  <a:lnTo>
                    <a:pt x="1357" y="1512"/>
                  </a:lnTo>
                  <a:lnTo>
                    <a:pt x="1364" y="1512"/>
                  </a:lnTo>
                  <a:lnTo>
                    <a:pt x="1371" y="1519"/>
                  </a:lnTo>
                  <a:lnTo>
                    <a:pt x="1378" y="1519"/>
                  </a:lnTo>
                  <a:lnTo>
                    <a:pt x="1392" y="1526"/>
                  </a:lnTo>
                  <a:lnTo>
                    <a:pt x="1398" y="1519"/>
                  </a:lnTo>
                  <a:lnTo>
                    <a:pt x="1405" y="1519"/>
                  </a:lnTo>
                  <a:lnTo>
                    <a:pt x="1412" y="1519"/>
                  </a:lnTo>
                  <a:lnTo>
                    <a:pt x="1419" y="1519"/>
                  </a:lnTo>
                  <a:lnTo>
                    <a:pt x="1426" y="1519"/>
                  </a:lnTo>
                  <a:lnTo>
                    <a:pt x="1433" y="1526"/>
                  </a:lnTo>
                  <a:lnTo>
                    <a:pt x="1440" y="1526"/>
                  </a:lnTo>
                  <a:lnTo>
                    <a:pt x="1446" y="1533"/>
                  </a:lnTo>
                  <a:lnTo>
                    <a:pt x="1453" y="1533"/>
                  </a:lnTo>
                  <a:lnTo>
                    <a:pt x="1460" y="1540"/>
                  </a:lnTo>
                  <a:lnTo>
                    <a:pt x="1467" y="1540"/>
                  </a:lnTo>
                  <a:lnTo>
                    <a:pt x="1474" y="1547"/>
                  </a:lnTo>
                  <a:lnTo>
                    <a:pt x="1481" y="1554"/>
                  </a:lnTo>
                  <a:lnTo>
                    <a:pt x="1481" y="1560"/>
                  </a:lnTo>
                  <a:lnTo>
                    <a:pt x="1488" y="1567"/>
                  </a:lnTo>
                  <a:lnTo>
                    <a:pt x="1494" y="1574"/>
                  </a:lnTo>
                  <a:lnTo>
                    <a:pt x="1501" y="1581"/>
                  </a:lnTo>
                  <a:lnTo>
                    <a:pt x="1508" y="1588"/>
                  </a:lnTo>
                  <a:lnTo>
                    <a:pt x="1508" y="1595"/>
                  </a:lnTo>
                  <a:lnTo>
                    <a:pt x="1515" y="1601"/>
                  </a:lnTo>
                  <a:lnTo>
                    <a:pt x="1522" y="1608"/>
                  </a:lnTo>
                  <a:lnTo>
                    <a:pt x="1529" y="1615"/>
                  </a:lnTo>
                  <a:lnTo>
                    <a:pt x="1536" y="1622"/>
                  </a:lnTo>
                  <a:lnTo>
                    <a:pt x="1542" y="1622"/>
                  </a:lnTo>
                  <a:lnTo>
                    <a:pt x="1536" y="1629"/>
                  </a:lnTo>
                  <a:lnTo>
                    <a:pt x="1536" y="1636"/>
                  </a:lnTo>
                  <a:lnTo>
                    <a:pt x="1522" y="1643"/>
                  </a:lnTo>
                  <a:lnTo>
                    <a:pt x="1515" y="1643"/>
                  </a:lnTo>
                  <a:lnTo>
                    <a:pt x="1508" y="1649"/>
                  </a:lnTo>
                  <a:lnTo>
                    <a:pt x="1501" y="1656"/>
                  </a:lnTo>
                  <a:lnTo>
                    <a:pt x="1494" y="1656"/>
                  </a:lnTo>
                  <a:lnTo>
                    <a:pt x="1488" y="1656"/>
                  </a:lnTo>
                  <a:lnTo>
                    <a:pt x="1481" y="1656"/>
                  </a:lnTo>
                  <a:close/>
                  <a:moveTo>
                    <a:pt x="980" y="1595"/>
                  </a:moveTo>
                  <a:lnTo>
                    <a:pt x="980" y="1581"/>
                  </a:lnTo>
                  <a:lnTo>
                    <a:pt x="973" y="1574"/>
                  </a:lnTo>
                  <a:lnTo>
                    <a:pt x="973" y="1567"/>
                  </a:lnTo>
                  <a:lnTo>
                    <a:pt x="967" y="1554"/>
                  </a:lnTo>
                  <a:lnTo>
                    <a:pt x="967" y="1547"/>
                  </a:lnTo>
                  <a:lnTo>
                    <a:pt x="967" y="1533"/>
                  </a:lnTo>
                  <a:lnTo>
                    <a:pt x="973" y="1526"/>
                  </a:lnTo>
                  <a:lnTo>
                    <a:pt x="973" y="1519"/>
                  </a:lnTo>
                  <a:lnTo>
                    <a:pt x="980" y="1512"/>
                  </a:lnTo>
                  <a:lnTo>
                    <a:pt x="987" y="1499"/>
                  </a:lnTo>
                  <a:lnTo>
                    <a:pt x="987" y="1492"/>
                  </a:lnTo>
                  <a:lnTo>
                    <a:pt x="994" y="1485"/>
                  </a:lnTo>
                  <a:lnTo>
                    <a:pt x="1001" y="1478"/>
                  </a:lnTo>
                  <a:lnTo>
                    <a:pt x="1001" y="1471"/>
                  </a:lnTo>
                  <a:lnTo>
                    <a:pt x="1008" y="1465"/>
                  </a:lnTo>
                  <a:lnTo>
                    <a:pt x="1015" y="1451"/>
                  </a:lnTo>
                  <a:lnTo>
                    <a:pt x="1015" y="1444"/>
                  </a:lnTo>
                  <a:lnTo>
                    <a:pt x="1021" y="1437"/>
                  </a:lnTo>
                  <a:lnTo>
                    <a:pt x="1028" y="1430"/>
                  </a:lnTo>
                  <a:lnTo>
                    <a:pt x="1028" y="1424"/>
                  </a:lnTo>
                  <a:lnTo>
                    <a:pt x="1028" y="1410"/>
                  </a:lnTo>
                  <a:lnTo>
                    <a:pt x="1035" y="1403"/>
                  </a:lnTo>
                  <a:lnTo>
                    <a:pt x="1035" y="1389"/>
                  </a:lnTo>
                  <a:lnTo>
                    <a:pt x="1042" y="1382"/>
                  </a:lnTo>
                  <a:lnTo>
                    <a:pt x="1049" y="1376"/>
                  </a:lnTo>
                  <a:lnTo>
                    <a:pt x="1049" y="1369"/>
                  </a:lnTo>
                  <a:lnTo>
                    <a:pt x="1056" y="1369"/>
                  </a:lnTo>
                  <a:lnTo>
                    <a:pt x="1069" y="1369"/>
                  </a:lnTo>
                  <a:lnTo>
                    <a:pt x="1076" y="1369"/>
                  </a:lnTo>
                  <a:lnTo>
                    <a:pt x="1083" y="1376"/>
                  </a:lnTo>
                  <a:lnTo>
                    <a:pt x="1090" y="1376"/>
                  </a:lnTo>
                  <a:lnTo>
                    <a:pt x="1097" y="1376"/>
                  </a:lnTo>
                  <a:lnTo>
                    <a:pt x="1104" y="1382"/>
                  </a:lnTo>
                  <a:lnTo>
                    <a:pt x="1111" y="1389"/>
                  </a:lnTo>
                  <a:lnTo>
                    <a:pt x="1117" y="1396"/>
                  </a:lnTo>
                  <a:lnTo>
                    <a:pt x="1117" y="1403"/>
                  </a:lnTo>
                  <a:lnTo>
                    <a:pt x="1124" y="1410"/>
                  </a:lnTo>
                  <a:lnTo>
                    <a:pt x="1131" y="1417"/>
                  </a:lnTo>
                  <a:lnTo>
                    <a:pt x="1138" y="1424"/>
                  </a:lnTo>
                  <a:lnTo>
                    <a:pt x="1138" y="1430"/>
                  </a:lnTo>
                  <a:lnTo>
                    <a:pt x="1138" y="1444"/>
                  </a:lnTo>
                  <a:lnTo>
                    <a:pt x="1138" y="1451"/>
                  </a:lnTo>
                  <a:lnTo>
                    <a:pt x="1138" y="1465"/>
                  </a:lnTo>
                  <a:lnTo>
                    <a:pt x="1145" y="1471"/>
                  </a:lnTo>
                  <a:lnTo>
                    <a:pt x="1152" y="1478"/>
                  </a:lnTo>
                  <a:lnTo>
                    <a:pt x="1159" y="1485"/>
                  </a:lnTo>
                  <a:lnTo>
                    <a:pt x="1165" y="1485"/>
                  </a:lnTo>
                  <a:lnTo>
                    <a:pt x="1165" y="1492"/>
                  </a:lnTo>
                  <a:lnTo>
                    <a:pt x="1159" y="1499"/>
                  </a:lnTo>
                  <a:lnTo>
                    <a:pt x="1152" y="1506"/>
                  </a:lnTo>
                  <a:lnTo>
                    <a:pt x="1145" y="1506"/>
                  </a:lnTo>
                  <a:lnTo>
                    <a:pt x="1138" y="1506"/>
                  </a:lnTo>
                  <a:lnTo>
                    <a:pt x="1131" y="1512"/>
                  </a:lnTo>
                  <a:lnTo>
                    <a:pt x="1124" y="1512"/>
                  </a:lnTo>
                  <a:lnTo>
                    <a:pt x="1117" y="1512"/>
                  </a:lnTo>
                  <a:lnTo>
                    <a:pt x="1111" y="1519"/>
                  </a:lnTo>
                  <a:lnTo>
                    <a:pt x="1104" y="1526"/>
                  </a:lnTo>
                  <a:lnTo>
                    <a:pt x="1097" y="1533"/>
                  </a:lnTo>
                  <a:lnTo>
                    <a:pt x="1097" y="1540"/>
                  </a:lnTo>
                  <a:lnTo>
                    <a:pt x="1090" y="1554"/>
                  </a:lnTo>
                  <a:lnTo>
                    <a:pt x="1090" y="1560"/>
                  </a:lnTo>
                  <a:lnTo>
                    <a:pt x="1083" y="1567"/>
                  </a:lnTo>
                  <a:lnTo>
                    <a:pt x="1083" y="1581"/>
                  </a:lnTo>
                  <a:lnTo>
                    <a:pt x="1083" y="1588"/>
                  </a:lnTo>
                  <a:lnTo>
                    <a:pt x="1083" y="1601"/>
                  </a:lnTo>
                  <a:lnTo>
                    <a:pt x="1076" y="1608"/>
                  </a:lnTo>
                  <a:lnTo>
                    <a:pt x="1076" y="1615"/>
                  </a:lnTo>
                  <a:lnTo>
                    <a:pt x="1069" y="1615"/>
                  </a:lnTo>
                  <a:lnTo>
                    <a:pt x="1063" y="1622"/>
                  </a:lnTo>
                  <a:lnTo>
                    <a:pt x="1056" y="1622"/>
                  </a:lnTo>
                  <a:lnTo>
                    <a:pt x="1042" y="1615"/>
                  </a:lnTo>
                  <a:lnTo>
                    <a:pt x="1035" y="1615"/>
                  </a:lnTo>
                  <a:lnTo>
                    <a:pt x="1028" y="1615"/>
                  </a:lnTo>
                  <a:lnTo>
                    <a:pt x="1021" y="1615"/>
                  </a:lnTo>
                  <a:lnTo>
                    <a:pt x="1015" y="1615"/>
                  </a:lnTo>
                  <a:lnTo>
                    <a:pt x="1008" y="1608"/>
                  </a:lnTo>
                  <a:lnTo>
                    <a:pt x="1001" y="1608"/>
                  </a:lnTo>
                  <a:lnTo>
                    <a:pt x="994" y="1601"/>
                  </a:lnTo>
                  <a:lnTo>
                    <a:pt x="987" y="1595"/>
                  </a:lnTo>
                  <a:lnTo>
                    <a:pt x="980" y="1595"/>
                  </a:lnTo>
                  <a:close/>
                  <a:moveTo>
                    <a:pt x="829" y="1321"/>
                  </a:moveTo>
                  <a:lnTo>
                    <a:pt x="836" y="1314"/>
                  </a:lnTo>
                  <a:lnTo>
                    <a:pt x="843" y="1307"/>
                  </a:lnTo>
                  <a:lnTo>
                    <a:pt x="850" y="1307"/>
                  </a:lnTo>
                  <a:lnTo>
                    <a:pt x="857" y="1307"/>
                  </a:lnTo>
                  <a:lnTo>
                    <a:pt x="864" y="1307"/>
                  </a:lnTo>
                  <a:lnTo>
                    <a:pt x="871" y="1307"/>
                  </a:lnTo>
                  <a:lnTo>
                    <a:pt x="877" y="1307"/>
                  </a:lnTo>
                  <a:lnTo>
                    <a:pt x="884" y="1314"/>
                  </a:lnTo>
                  <a:lnTo>
                    <a:pt x="891" y="1314"/>
                  </a:lnTo>
                  <a:lnTo>
                    <a:pt x="891" y="1321"/>
                  </a:lnTo>
                  <a:lnTo>
                    <a:pt x="884" y="1328"/>
                  </a:lnTo>
                  <a:lnTo>
                    <a:pt x="884" y="1335"/>
                  </a:lnTo>
                  <a:lnTo>
                    <a:pt x="871" y="1341"/>
                  </a:lnTo>
                  <a:lnTo>
                    <a:pt x="864" y="1341"/>
                  </a:lnTo>
                  <a:lnTo>
                    <a:pt x="857" y="1341"/>
                  </a:lnTo>
                  <a:lnTo>
                    <a:pt x="850" y="1341"/>
                  </a:lnTo>
                  <a:lnTo>
                    <a:pt x="850" y="1335"/>
                  </a:lnTo>
                  <a:lnTo>
                    <a:pt x="843" y="1335"/>
                  </a:lnTo>
                  <a:lnTo>
                    <a:pt x="836" y="1328"/>
                  </a:lnTo>
                  <a:lnTo>
                    <a:pt x="829" y="1321"/>
                  </a:lnTo>
                  <a:close/>
                  <a:moveTo>
                    <a:pt x="1481" y="746"/>
                  </a:moveTo>
                  <a:lnTo>
                    <a:pt x="1481" y="732"/>
                  </a:lnTo>
                  <a:lnTo>
                    <a:pt x="1488" y="726"/>
                  </a:lnTo>
                  <a:lnTo>
                    <a:pt x="1488" y="712"/>
                  </a:lnTo>
                  <a:lnTo>
                    <a:pt x="1494" y="705"/>
                  </a:lnTo>
                  <a:lnTo>
                    <a:pt x="1494" y="691"/>
                  </a:lnTo>
                  <a:lnTo>
                    <a:pt x="1501" y="685"/>
                  </a:lnTo>
                  <a:lnTo>
                    <a:pt x="1501" y="671"/>
                  </a:lnTo>
                  <a:lnTo>
                    <a:pt x="1501" y="664"/>
                  </a:lnTo>
                  <a:lnTo>
                    <a:pt x="1508" y="650"/>
                  </a:lnTo>
                  <a:lnTo>
                    <a:pt x="1508" y="643"/>
                  </a:lnTo>
                  <a:lnTo>
                    <a:pt x="1515" y="637"/>
                  </a:lnTo>
                  <a:lnTo>
                    <a:pt x="1522" y="630"/>
                  </a:lnTo>
                  <a:lnTo>
                    <a:pt x="1529" y="623"/>
                  </a:lnTo>
                  <a:lnTo>
                    <a:pt x="1536" y="616"/>
                  </a:lnTo>
                  <a:lnTo>
                    <a:pt x="1542" y="609"/>
                  </a:lnTo>
                  <a:lnTo>
                    <a:pt x="1549" y="609"/>
                  </a:lnTo>
                  <a:lnTo>
                    <a:pt x="1556" y="602"/>
                  </a:lnTo>
                  <a:lnTo>
                    <a:pt x="1563" y="602"/>
                  </a:lnTo>
                  <a:lnTo>
                    <a:pt x="1577" y="602"/>
                  </a:lnTo>
                  <a:lnTo>
                    <a:pt x="1584" y="602"/>
                  </a:lnTo>
                  <a:lnTo>
                    <a:pt x="1590" y="596"/>
                  </a:lnTo>
                  <a:lnTo>
                    <a:pt x="1597" y="596"/>
                  </a:lnTo>
                  <a:lnTo>
                    <a:pt x="1604" y="596"/>
                  </a:lnTo>
                  <a:lnTo>
                    <a:pt x="1611" y="596"/>
                  </a:lnTo>
                  <a:lnTo>
                    <a:pt x="1618" y="589"/>
                  </a:lnTo>
                  <a:lnTo>
                    <a:pt x="1632" y="589"/>
                  </a:lnTo>
                  <a:lnTo>
                    <a:pt x="1638" y="589"/>
                  </a:lnTo>
                  <a:lnTo>
                    <a:pt x="1645" y="589"/>
                  </a:lnTo>
                  <a:lnTo>
                    <a:pt x="1652" y="582"/>
                  </a:lnTo>
                  <a:lnTo>
                    <a:pt x="1659" y="582"/>
                  </a:lnTo>
                  <a:lnTo>
                    <a:pt x="1673" y="582"/>
                  </a:lnTo>
                  <a:lnTo>
                    <a:pt x="1680" y="575"/>
                  </a:lnTo>
                  <a:lnTo>
                    <a:pt x="1686" y="582"/>
                  </a:lnTo>
                  <a:lnTo>
                    <a:pt x="1686" y="589"/>
                  </a:lnTo>
                  <a:lnTo>
                    <a:pt x="1693" y="596"/>
                  </a:lnTo>
                  <a:lnTo>
                    <a:pt x="1700" y="602"/>
                  </a:lnTo>
                  <a:lnTo>
                    <a:pt x="1707" y="616"/>
                  </a:lnTo>
                  <a:lnTo>
                    <a:pt x="1707" y="623"/>
                  </a:lnTo>
                  <a:lnTo>
                    <a:pt x="1714" y="637"/>
                  </a:lnTo>
                  <a:lnTo>
                    <a:pt x="1714" y="643"/>
                  </a:lnTo>
                  <a:lnTo>
                    <a:pt x="1714" y="650"/>
                  </a:lnTo>
                  <a:lnTo>
                    <a:pt x="1714" y="664"/>
                  </a:lnTo>
                  <a:lnTo>
                    <a:pt x="1707" y="671"/>
                  </a:lnTo>
                  <a:lnTo>
                    <a:pt x="1700" y="678"/>
                  </a:lnTo>
                  <a:lnTo>
                    <a:pt x="1686" y="685"/>
                  </a:lnTo>
                  <a:lnTo>
                    <a:pt x="1680" y="685"/>
                  </a:lnTo>
                  <a:lnTo>
                    <a:pt x="1673" y="691"/>
                  </a:lnTo>
                  <a:lnTo>
                    <a:pt x="1673" y="698"/>
                  </a:lnTo>
                  <a:lnTo>
                    <a:pt x="1666" y="712"/>
                  </a:lnTo>
                  <a:lnTo>
                    <a:pt x="1659" y="719"/>
                  </a:lnTo>
                  <a:lnTo>
                    <a:pt x="1659" y="732"/>
                  </a:lnTo>
                  <a:lnTo>
                    <a:pt x="1652" y="739"/>
                  </a:lnTo>
                  <a:lnTo>
                    <a:pt x="1645" y="746"/>
                  </a:lnTo>
                  <a:lnTo>
                    <a:pt x="1638" y="746"/>
                  </a:lnTo>
                  <a:lnTo>
                    <a:pt x="1632" y="746"/>
                  </a:lnTo>
                  <a:lnTo>
                    <a:pt x="1625" y="739"/>
                  </a:lnTo>
                  <a:lnTo>
                    <a:pt x="1618" y="739"/>
                  </a:lnTo>
                  <a:lnTo>
                    <a:pt x="1604" y="739"/>
                  </a:lnTo>
                  <a:lnTo>
                    <a:pt x="1597" y="739"/>
                  </a:lnTo>
                  <a:lnTo>
                    <a:pt x="1590" y="739"/>
                  </a:lnTo>
                  <a:lnTo>
                    <a:pt x="1584" y="739"/>
                  </a:lnTo>
                  <a:lnTo>
                    <a:pt x="1577" y="739"/>
                  </a:lnTo>
                  <a:lnTo>
                    <a:pt x="1570" y="746"/>
                  </a:lnTo>
                  <a:lnTo>
                    <a:pt x="1563" y="746"/>
                  </a:lnTo>
                  <a:lnTo>
                    <a:pt x="1549" y="746"/>
                  </a:lnTo>
                  <a:lnTo>
                    <a:pt x="1542" y="746"/>
                  </a:lnTo>
                  <a:lnTo>
                    <a:pt x="1536" y="746"/>
                  </a:lnTo>
                  <a:lnTo>
                    <a:pt x="1529" y="746"/>
                  </a:lnTo>
                  <a:lnTo>
                    <a:pt x="1522" y="746"/>
                  </a:lnTo>
                  <a:lnTo>
                    <a:pt x="1515" y="746"/>
                  </a:lnTo>
                  <a:lnTo>
                    <a:pt x="1501" y="746"/>
                  </a:lnTo>
                  <a:lnTo>
                    <a:pt x="1494" y="746"/>
                  </a:lnTo>
                  <a:lnTo>
                    <a:pt x="1488" y="746"/>
                  </a:lnTo>
                  <a:lnTo>
                    <a:pt x="1481" y="746"/>
                  </a:lnTo>
                  <a:close/>
                </a:path>
              </a:pathLst>
            </a:custGeom>
            <a:solidFill>
              <a:srgbClr val="e4e4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8" name=""/>
            <p:cNvSpPr/>
            <p:nvPr/>
          </p:nvSpPr>
          <p:spPr>
            <a:xfrm>
              <a:off x="3398760" y="1244520"/>
              <a:ext cx="3689280" cy="5214960"/>
            </a:xfrm>
            <a:custGeom>
              <a:avLst/>
              <a:gdLst/>
              <a:ahLst/>
              <a:rect l="l" t="t" r="r" b="b"/>
              <a:pathLst>
                <a:path w="2324" h="3285">
                  <a:moveTo>
                    <a:pt x="980" y="3285"/>
                  </a:moveTo>
                  <a:lnTo>
                    <a:pt x="1015" y="3251"/>
                  </a:lnTo>
                  <a:lnTo>
                    <a:pt x="1042" y="3251"/>
                  </a:lnTo>
                  <a:lnTo>
                    <a:pt x="1076" y="3216"/>
                  </a:lnTo>
                  <a:lnTo>
                    <a:pt x="1111" y="3216"/>
                  </a:lnTo>
                  <a:lnTo>
                    <a:pt x="1145" y="3216"/>
                  </a:lnTo>
                  <a:lnTo>
                    <a:pt x="1179" y="3182"/>
                  </a:lnTo>
                  <a:lnTo>
                    <a:pt x="1213" y="3182"/>
                  </a:lnTo>
                  <a:lnTo>
                    <a:pt x="1248" y="3148"/>
                  </a:lnTo>
                  <a:lnTo>
                    <a:pt x="1282" y="3148"/>
                  </a:lnTo>
                  <a:lnTo>
                    <a:pt x="1316" y="3114"/>
                  </a:lnTo>
                  <a:lnTo>
                    <a:pt x="1350" y="3114"/>
                  </a:lnTo>
                  <a:lnTo>
                    <a:pt x="1385" y="3114"/>
                  </a:lnTo>
                  <a:lnTo>
                    <a:pt x="1385" y="3079"/>
                  </a:lnTo>
                  <a:lnTo>
                    <a:pt x="1419" y="3045"/>
                  </a:lnTo>
                  <a:lnTo>
                    <a:pt x="1419" y="3011"/>
                  </a:lnTo>
                  <a:lnTo>
                    <a:pt x="1446" y="2977"/>
                  </a:lnTo>
                  <a:lnTo>
                    <a:pt x="1446" y="2943"/>
                  </a:lnTo>
                  <a:lnTo>
                    <a:pt x="1481" y="2915"/>
                  </a:lnTo>
                  <a:lnTo>
                    <a:pt x="1481" y="2881"/>
                  </a:lnTo>
                  <a:lnTo>
                    <a:pt x="1515" y="2847"/>
                  </a:lnTo>
                  <a:lnTo>
                    <a:pt x="1549" y="2813"/>
                  </a:lnTo>
                  <a:lnTo>
                    <a:pt x="1549" y="2778"/>
                  </a:lnTo>
                  <a:lnTo>
                    <a:pt x="1584" y="2744"/>
                  </a:lnTo>
                  <a:lnTo>
                    <a:pt x="1584" y="2710"/>
                  </a:lnTo>
                  <a:lnTo>
                    <a:pt x="1618" y="2676"/>
                  </a:lnTo>
                  <a:lnTo>
                    <a:pt x="1618" y="2642"/>
                  </a:lnTo>
                  <a:lnTo>
                    <a:pt x="1652" y="2607"/>
                  </a:lnTo>
                  <a:lnTo>
                    <a:pt x="1652" y="2573"/>
                  </a:lnTo>
                  <a:lnTo>
                    <a:pt x="1686" y="2539"/>
                  </a:lnTo>
                  <a:lnTo>
                    <a:pt x="1686" y="2505"/>
                  </a:lnTo>
                  <a:lnTo>
                    <a:pt x="1721" y="2470"/>
                  </a:lnTo>
                  <a:lnTo>
                    <a:pt x="1721" y="2436"/>
                  </a:lnTo>
                  <a:lnTo>
                    <a:pt x="1755" y="2402"/>
                  </a:lnTo>
                  <a:lnTo>
                    <a:pt x="1755" y="2368"/>
                  </a:lnTo>
                  <a:lnTo>
                    <a:pt x="1789" y="2334"/>
                  </a:lnTo>
                  <a:lnTo>
                    <a:pt x="1824" y="2299"/>
                  </a:lnTo>
                  <a:lnTo>
                    <a:pt x="1824" y="2272"/>
                  </a:lnTo>
                  <a:lnTo>
                    <a:pt x="1851" y="2238"/>
                  </a:lnTo>
                  <a:lnTo>
                    <a:pt x="1851" y="2204"/>
                  </a:lnTo>
                  <a:lnTo>
                    <a:pt x="1885" y="2169"/>
                  </a:lnTo>
                  <a:lnTo>
                    <a:pt x="1885" y="2135"/>
                  </a:lnTo>
                  <a:lnTo>
                    <a:pt x="1920" y="2101"/>
                  </a:lnTo>
                  <a:lnTo>
                    <a:pt x="1920" y="2067"/>
                  </a:lnTo>
                  <a:lnTo>
                    <a:pt x="1954" y="2033"/>
                  </a:lnTo>
                  <a:lnTo>
                    <a:pt x="1954" y="1998"/>
                  </a:lnTo>
                  <a:lnTo>
                    <a:pt x="1988" y="1964"/>
                  </a:lnTo>
                  <a:lnTo>
                    <a:pt x="1988" y="1930"/>
                  </a:lnTo>
                  <a:lnTo>
                    <a:pt x="2022" y="1896"/>
                  </a:lnTo>
                  <a:lnTo>
                    <a:pt x="2022" y="1861"/>
                  </a:lnTo>
                  <a:lnTo>
                    <a:pt x="2057" y="1827"/>
                  </a:lnTo>
                  <a:lnTo>
                    <a:pt x="2057" y="1793"/>
                  </a:lnTo>
                  <a:lnTo>
                    <a:pt x="2057" y="1759"/>
                  </a:lnTo>
                  <a:lnTo>
                    <a:pt x="2057" y="1725"/>
                  </a:lnTo>
                  <a:lnTo>
                    <a:pt x="2091" y="1690"/>
                  </a:lnTo>
                  <a:lnTo>
                    <a:pt x="2091" y="1656"/>
                  </a:lnTo>
                  <a:lnTo>
                    <a:pt x="2091" y="1629"/>
                  </a:lnTo>
                  <a:lnTo>
                    <a:pt x="2091" y="1595"/>
                  </a:lnTo>
                  <a:lnTo>
                    <a:pt x="2125" y="1560"/>
                  </a:lnTo>
                  <a:lnTo>
                    <a:pt x="2125" y="1526"/>
                  </a:lnTo>
                  <a:lnTo>
                    <a:pt x="2125" y="1492"/>
                  </a:lnTo>
                  <a:lnTo>
                    <a:pt x="2125" y="1458"/>
                  </a:lnTo>
                  <a:lnTo>
                    <a:pt x="2125" y="1424"/>
                  </a:lnTo>
                  <a:lnTo>
                    <a:pt x="2125" y="1389"/>
                  </a:lnTo>
                  <a:lnTo>
                    <a:pt x="2159" y="1355"/>
                  </a:lnTo>
                  <a:lnTo>
                    <a:pt x="2159" y="1321"/>
                  </a:lnTo>
                  <a:lnTo>
                    <a:pt x="2159" y="1287"/>
                  </a:lnTo>
                  <a:lnTo>
                    <a:pt x="2159" y="1252"/>
                  </a:lnTo>
                  <a:lnTo>
                    <a:pt x="2159" y="1218"/>
                  </a:lnTo>
                  <a:lnTo>
                    <a:pt x="2159" y="1184"/>
                  </a:lnTo>
                  <a:lnTo>
                    <a:pt x="2159" y="1150"/>
                  </a:lnTo>
                  <a:lnTo>
                    <a:pt x="2194" y="1116"/>
                  </a:lnTo>
                  <a:lnTo>
                    <a:pt x="2194" y="1081"/>
                  </a:lnTo>
                  <a:lnTo>
                    <a:pt x="2194" y="1047"/>
                  </a:lnTo>
                  <a:lnTo>
                    <a:pt x="2194" y="1013"/>
                  </a:lnTo>
                  <a:lnTo>
                    <a:pt x="2194" y="986"/>
                  </a:lnTo>
                  <a:lnTo>
                    <a:pt x="2194" y="951"/>
                  </a:lnTo>
                  <a:lnTo>
                    <a:pt x="2194" y="917"/>
                  </a:lnTo>
                  <a:lnTo>
                    <a:pt x="2228" y="883"/>
                  </a:lnTo>
                  <a:lnTo>
                    <a:pt x="2228" y="849"/>
                  </a:lnTo>
                  <a:lnTo>
                    <a:pt x="2228" y="815"/>
                  </a:lnTo>
                  <a:lnTo>
                    <a:pt x="2228" y="780"/>
                  </a:lnTo>
                  <a:lnTo>
                    <a:pt x="2228" y="746"/>
                  </a:lnTo>
                  <a:lnTo>
                    <a:pt x="2228" y="712"/>
                  </a:lnTo>
                  <a:lnTo>
                    <a:pt x="2228" y="678"/>
                  </a:lnTo>
                  <a:lnTo>
                    <a:pt x="2255" y="643"/>
                  </a:lnTo>
                  <a:lnTo>
                    <a:pt x="2255" y="609"/>
                  </a:lnTo>
                  <a:lnTo>
                    <a:pt x="2255" y="575"/>
                  </a:lnTo>
                  <a:lnTo>
                    <a:pt x="2255" y="541"/>
                  </a:lnTo>
                  <a:lnTo>
                    <a:pt x="2255" y="507"/>
                  </a:lnTo>
                  <a:lnTo>
                    <a:pt x="2255" y="472"/>
                  </a:lnTo>
                  <a:lnTo>
                    <a:pt x="2255" y="438"/>
                  </a:lnTo>
                  <a:lnTo>
                    <a:pt x="2290" y="404"/>
                  </a:lnTo>
                  <a:lnTo>
                    <a:pt x="2290" y="370"/>
                  </a:lnTo>
                  <a:lnTo>
                    <a:pt x="2290" y="342"/>
                  </a:lnTo>
                  <a:lnTo>
                    <a:pt x="2290" y="308"/>
                  </a:lnTo>
                  <a:lnTo>
                    <a:pt x="2290" y="274"/>
                  </a:lnTo>
                  <a:lnTo>
                    <a:pt x="2290" y="240"/>
                  </a:lnTo>
                  <a:lnTo>
                    <a:pt x="2290" y="206"/>
                  </a:lnTo>
                  <a:lnTo>
                    <a:pt x="2324" y="171"/>
                  </a:lnTo>
                  <a:lnTo>
                    <a:pt x="2324" y="137"/>
                  </a:lnTo>
                  <a:lnTo>
                    <a:pt x="2324" y="103"/>
                  </a:lnTo>
                  <a:lnTo>
                    <a:pt x="2324" y="69"/>
                  </a:lnTo>
                  <a:lnTo>
                    <a:pt x="2324" y="34"/>
                  </a:lnTo>
                  <a:lnTo>
                    <a:pt x="2324" y="0"/>
                  </a:lnTo>
                  <a:lnTo>
                    <a:pt x="2290" y="0"/>
                  </a:lnTo>
                  <a:lnTo>
                    <a:pt x="2255" y="0"/>
                  </a:lnTo>
                  <a:lnTo>
                    <a:pt x="2228" y="0"/>
                  </a:lnTo>
                  <a:lnTo>
                    <a:pt x="2194" y="0"/>
                  </a:lnTo>
                  <a:lnTo>
                    <a:pt x="2159" y="34"/>
                  </a:lnTo>
                  <a:lnTo>
                    <a:pt x="2125" y="34"/>
                  </a:lnTo>
                  <a:lnTo>
                    <a:pt x="2091" y="34"/>
                  </a:lnTo>
                  <a:lnTo>
                    <a:pt x="2057" y="69"/>
                  </a:lnTo>
                  <a:lnTo>
                    <a:pt x="2022" y="69"/>
                  </a:lnTo>
                  <a:lnTo>
                    <a:pt x="1988" y="69"/>
                  </a:lnTo>
                  <a:lnTo>
                    <a:pt x="1954" y="103"/>
                  </a:lnTo>
                  <a:lnTo>
                    <a:pt x="1920" y="103"/>
                  </a:lnTo>
                  <a:lnTo>
                    <a:pt x="1885" y="137"/>
                  </a:lnTo>
                  <a:lnTo>
                    <a:pt x="1851" y="137"/>
                  </a:lnTo>
                  <a:lnTo>
                    <a:pt x="1824" y="137"/>
                  </a:lnTo>
                  <a:lnTo>
                    <a:pt x="1789" y="171"/>
                  </a:lnTo>
                  <a:lnTo>
                    <a:pt x="1755" y="171"/>
                  </a:lnTo>
                  <a:lnTo>
                    <a:pt x="1721" y="171"/>
                  </a:lnTo>
                  <a:lnTo>
                    <a:pt x="1686" y="206"/>
                  </a:lnTo>
                  <a:lnTo>
                    <a:pt x="1652" y="206"/>
                  </a:lnTo>
                  <a:lnTo>
                    <a:pt x="1618" y="206"/>
                  </a:lnTo>
                  <a:lnTo>
                    <a:pt x="1584" y="240"/>
                  </a:lnTo>
                  <a:lnTo>
                    <a:pt x="1549" y="240"/>
                  </a:lnTo>
                  <a:lnTo>
                    <a:pt x="1515" y="240"/>
                  </a:lnTo>
                  <a:lnTo>
                    <a:pt x="1481" y="274"/>
                  </a:lnTo>
                  <a:lnTo>
                    <a:pt x="1446" y="274"/>
                  </a:lnTo>
                  <a:lnTo>
                    <a:pt x="1419" y="274"/>
                  </a:lnTo>
                  <a:lnTo>
                    <a:pt x="1385" y="308"/>
                  </a:lnTo>
                  <a:lnTo>
                    <a:pt x="1350" y="308"/>
                  </a:lnTo>
                  <a:lnTo>
                    <a:pt x="1316" y="308"/>
                  </a:lnTo>
                  <a:lnTo>
                    <a:pt x="1282" y="342"/>
                  </a:lnTo>
                  <a:lnTo>
                    <a:pt x="1248" y="342"/>
                  </a:lnTo>
                  <a:lnTo>
                    <a:pt x="1213" y="370"/>
                  </a:lnTo>
                  <a:lnTo>
                    <a:pt x="1179" y="370"/>
                  </a:lnTo>
                  <a:lnTo>
                    <a:pt x="1145" y="370"/>
                  </a:lnTo>
                  <a:lnTo>
                    <a:pt x="1111" y="404"/>
                  </a:lnTo>
                  <a:lnTo>
                    <a:pt x="1076" y="404"/>
                  </a:lnTo>
                  <a:lnTo>
                    <a:pt x="1042" y="404"/>
                  </a:lnTo>
                  <a:lnTo>
                    <a:pt x="1015" y="438"/>
                  </a:lnTo>
                  <a:lnTo>
                    <a:pt x="980" y="438"/>
                  </a:lnTo>
                  <a:lnTo>
                    <a:pt x="946" y="438"/>
                  </a:lnTo>
                  <a:lnTo>
                    <a:pt x="912" y="472"/>
                  </a:lnTo>
                  <a:lnTo>
                    <a:pt x="877" y="472"/>
                  </a:lnTo>
                  <a:lnTo>
                    <a:pt x="843" y="472"/>
                  </a:lnTo>
                  <a:lnTo>
                    <a:pt x="809" y="507"/>
                  </a:lnTo>
                  <a:lnTo>
                    <a:pt x="775" y="507"/>
                  </a:lnTo>
                  <a:lnTo>
                    <a:pt x="740" y="507"/>
                  </a:lnTo>
                  <a:lnTo>
                    <a:pt x="706" y="541"/>
                  </a:lnTo>
                  <a:lnTo>
                    <a:pt x="672" y="541"/>
                  </a:lnTo>
                  <a:lnTo>
                    <a:pt x="637" y="541"/>
                  </a:lnTo>
                  <a:lnTo>
                    <a:pt x="603" y="575"/>
                  </a:lnTo>
                  <a:lnTo>
                    <a:pt x="576" y="575"/>
                  </a:lnTo>
                  <a:lnTo>
                    <a:pt x="541" y="575"/>
                  </a:lnTo>
                  <a:lnTo>
                    <a:pt x="507" y="609"/>
                  </a:lnTo>
                  <a:lnTo>
                    <a:pt x="473" y="609"/>
                  </a:lnTo>
                  <a:lnTo>
                    <a:pt x="439" y="643"/>
                  </a:lnTo>
                  <a:lnTo>
                    <a:pt x="404" y="643"/>
                  </a:lnTo>
                  <a:lnTo>
                    <a:pt x="370" y="643"/>
                  </a:lnTo>
                  <a:lnTo>
                    <a:pt x="336" y="678"/>
                  </a:lnTo>
                  <a:lnTo>
                    <a:pt x="302" y="678"/>
                  </a:lnTo>
                  <a:lnTo>
                    <a:pt x="267" y="678"/>
                  </a:lnTo>
                  <a:lnTo>
                    <a:pt x="233" y="712"/>
                  </a:lnTo>
                  <a:lnTo>
                    <a:pt x="199" y="712"/>
                  </a:lnTo>
                  <a:lnTo>
                    <a:pt x="171" y="712"/>
                  </a:lnTo>
                  <a:lnTo>
                    <a:pt x="137" y="746"/>
                  </a:lnTo>
                  <a:lnTo>
                    <a:pt x="103" y="746"/>
                  </a:lnTo>
                  <a:lnTo>
                    <a:pt x="103" y="780"/>
                  </a:lnTo>
                  <a:lnTo>
                    <a:pt x="103" y="815"/>
                  </a:lnTo>
                  <a:lnTo>
                    <a:pt x="103" y="849"/>
                  </a:lnTo>
                  <a:lnTo>
                    <a:pt x="103" y="883"/>
                  </a:lnTo>
                  <a:lnTo>
                    <a:pt x="103" y="917"/>
                  </a:lnTo>
                  <a:lnTo>
                    <a:pt x="68" y="951"/>
                  </a:lnTo>
                  <a:lnTo>
                    <a:pt x="68" y="986"/>
                  </a:lnTo>
                  <a:lnTo>
                    <a:pt x="68" y="1013"/>
                  </a:lnTo>
                  <a:lnTo>
                    <a:pt x="68" y="1047"/>
                  </a:lnTo>
                  <a:lnTo>
                    <a:pt x="68" y="1081"/>
                  </a:lnTo>
                  <a:lnTo>
                    <a:pt x="68" y="1116"/>
                  </a:lnTo>
                  <a:lnTo>
                    <a:pt x="68" y="1150"/>
                  </a:lnTo>
                  <a:lnTo>
                    <a:pt x="68" y="1184"/>
                  </a:lnTo>
                  <a:lnTo>
                    <a:pt x="68" y="1218"/>
                  </a:lnTo>
                  <a:lnTo>
                    <a:pt x="68" y="1252"/>
                  </a:lnTo>
                  <a:lnTo>
                    <a:pt x="68" y="1287"/>
                  </a:lnTo>
                  <a:lnTo>
                    <a:pt x="68" y="1321"/>
                  </a:lnTo>
                  <a:lnTo>
                    <a:pt x="68" y="1355"/>
                  </a:lnTo>
                  <a:lnTo>
                    <a:pt x="68" y="1389"/>
                  </a:lnTo>
                  <a:lnTo>
                    <a:pt x="68" y="1424"/>
                  </a:lnTo>
                  <a:lnTo>
                    <a:pt x="68" y="1458"/>
                  </a:lnTo>
                  <a:lnTo>
                    <a:pt x="68" y="1492"/>
                  </a:lnTo>
                  <a:lnTo>
                    <a:pt x="68" y="1526"/>
                  </a:lnTo>
                  <a:lnTo>
                    <a:pt x="34" y="1560"/>
                  </a:lnTo>
                  <a:lnTo>
                    <a:pt x="34" y="1595"/>
                  </a:lnTo>
                  <a:lnTo>
                    <a:pt x="34" y="1629"/>
                  </a:lnTo>
                  <a:lnTo>
                    <a:pt x="34" y="1656"/>
                  </a:lnTo>
                  <a:lnTo>
                    <a:pt x="34" y="1690"/>
                  </a:lnTo>
                  <a:lnTo>
                    <a:pt x="34" y="1725"/>
                  </a:lnTo>
                  <a:lnTo>
                    <a:pt x="34" y="1759"/>
                  </a:lnTo>
                  <a:lnTo>
                    <a:pt x="34" y="1793"/>
                  </a:lnTo>
                  <a:lnTo>
                    <a:pt x="34" y="1827"/>
                  </a:lnTo>
                  <a:lnTo>
                    <a:pt x="34" y="1861"/>
                  </a:lnTo>
                  <a:lnTo>
                    <a:pt x="34" y="1896"/>
                  </a:lnTo>
                  <a:lnTo>
                    <a:pt x="34" y="1930"/>
                  </a:lnTo>
                  <a:lnTo>
                    <a:pt x="34" y="1964"/>
                  </a:lnTo>
                  <a:lnTo>
                    <a:pt x="34" y="1998"/>
                  </a:lnTo>
                  <a:lnTo>
                    <a:pt x="34" y="2033"/>
                  </a:lnTo>
                  <a:lnTo>
                    <a:pt x="34" y="2067"/>
                  </a:lnTo>
                  <a:lnTo>
                    <a:pt x="34" y="2101"/>
                  </a:lnTo>
                  <a:lnTo>
                    <a:pt x="0" y="2135"/>
                  </a:lnTo>
                  <a:lnTo>
                    <a:pt x="0" y="2169"/>
                  </a:lnTo>
                  <a:lnTo>
                    <a:pt x="0" y="2204"/>
                  </a:lnTo>
                  <a:lnTo>
                    <a:pt x="0" y="2238"/>
                  </a:lnTo>
                  <a:lnTo>
                    <a:pt x="0" y="2272"/>
                  </a:lnTo>
                  <a:lnTo>
                    <a:pt x="0" y="2299"/>
                  </a:lnTo>
                  <a:lnTo>
                    <a:pt x="0" y="2334"/>
                  </a:lnTo>
                  <a:lnTo>
                    <a:pt x="0" y="2368"/>
                  </a:lnTo>
                  <a:lnTo>
                    <a:pt x="0" y="2402"/>
                  </a:lnTo>
                  <a:lnTo>
                    <a:pt x="0" y="2436"/>
                  </a:lnTo>
                  <a:lnTo>
                    <a:pt x="0" y="2470"/>
                  </a:lnTo>
                  <a:lnTo>
                    <a:pt x="0" y="2505"/>
                  </a:lnTo>
                  <a:lnTo>
                    <a:pt x="0" y="2539"/>
                  </a:lnTo>
                  <a:lnTo>
                    <a:pt x="0" y="2573"/>
                  </a:lnTo>
                  <a:lnTo>
                    <a:pt x="0" y="2607"/>
                  </a:lnTo>
                  <a:lnTo>
                    <a:pt x="0" y="2642"/>
                  </a:lnTo>
                  <a:lnTo>
                    <a:pt x="0" y="2676"/>
                  </a:lnTo>
                  <a:lnTo>
                    <a:pt x="0" y="2710"/>
                  </a:lnTo>
                  <a:lnTo>
                    <a:pt x="0" y="2744"/>
                  </a:lnTo>
                  <a:lnTo>
                    <a:pt x="34" y="2744"/>
                  </a:lnTo>
                  <a:lnTo>
                    <a:pt x="68" y="2778"/>
                  </a:lnTo>
                  <a:lnTo>
                    <a:pt x="103" y="2778"/>
                  </a:lnTo>
                  <a:lnTo>
                    <a:pt x="137" y="2813"/>
                  </a:lnTo>
                  <a:lnTo>
                    <a:pt x="171" y="2847"/>
                  </a:lnTo>
                  <a:lnTo>
                    <a:pt x="199" y="2847"/>
                  </a:lnTo>
                  <a:lnTo>
                    <a:pt x="233" y="2881"/>
                  </a:lnTo>
                  <a:lnTo>
                    <a:pt x="267" y="2915"/>
                  </a:lnTo>
                  <a:lnTo>
                    <a:pt x="302" y="2915"/>
                  </a:lnTo>
                  <a:lnTo>
                    <a:pt x="336" y="2943"/>
                  </a:lnTo>
                  <a:lnTo>
                    <a:pt x="370" y="2977"/>
                  </a:lnTo>
                  <a:lnTo>
                    <a:pt x="404" y="2977"/>
                  </a:lnTo>
                  <a:lnTo>
                    <a:pt x="439" y="3011"/>
                  </a:lnTo>
                  <a:lnTo>
                    <a:pt x="473" y="3045"/>
                  </a:lnTo>
                  <a:lnTo>
                    <a:pt x="507" y="3045"/>
                  </a:lnTo>
                  <a:lnTo>
                    <a:pt x="541" y="3079"/>
                  </a:lnTo>
                  <a:lnTo>
                    <a:pt x="576" y="3079"/>
                  </a:lnTo>
                  <a:lnTo>
                    <a:pt x="603" y="3114"/>
                  </a:lnTo>
                  <a:lnTo>
                    <a:pt x="637" y="3148"/>
                  </a:lnTo>
                  <a:lnTo>
                    <a:pt x="672" y="3148"/>
                  </a:lnTo>
                  <a:lnTo>
                    <a:pt x="706" y="3182"/>
                  </a:lnTo>
                  <a:lnTo>
                    <a:pt x="740" y="3216"/>
                  </a:lnTo>
                  <a:lnTo>
                    <a:pt x="775" y="3216"/>
                  </a:lnTo>
                  <a:lnTo>
                    <a:pt x="809" y="3251"/>
                  </a:lnTo>
                  <a:lnTo>
                    <a:pt x="843" y="3251"/>
                  </a:lnTo>
                  <a:lnTo>
                    <a:pt x="877" y="3285"/>
                  </a:lnTo>
                  <a:lnTo>
                    <a:pt x="912" y="3285"/>
                  </a:lnTo>
                  <a:lnTo>
                    <a:pt x="946" y="3285"/>
                  </a:lnTo>
                  <a:lnTo>
                    <a:pt x="980" y="3285"/>
                  </a:lnTo>
                  <a:close/>
                  <a:moveTo>
                    <a:pt x="884" y="1896"/>
                  </a:moveTo>
                  <a:lnTo>
                    <a:pt x="891" y="1889"/>
                  </a:lnTo>
                  <a:lnTo>
                    <a:pt x="891" y="1882"/>
                  </a:lnTo>
                  <a:lnTo>
                    <a:pt x="898" y="1868"/>
                  </a:lnTo>
                  <a:lnTo>
                    <a:pt x="898" y="1861"/>
                  </a:lnTo>
                  <a:lnTo>
                    <a:pt x="898" y="1848"/>
                  </a:lnTo>
                  <a:lnTo>
                    <a:pt x="898" y="1841"/>
                  </a:lnTo>
                  <a:lnTo>
                    <a:pt x="898" y="1827"/>
                  </a:lnTo>
                  <a:lnTo>
                    <a:pt x="898" y="1820"/>
                  </a:lnTo>
                  <a:lnTo>
                    <a:pt x="891" y="1814"/>
                  </a:lnTo>
                  <a:lnTo>
                    <a:pt x="891" y="1800"/>
                  </a:lnTo>
                  <a:lnTo>
                    <a:pt x="884" y="1793"/>
                  </a:lnTo>
                  <a:lnTo>
                    <a:pt x="884" y="1786"/>
                  </a:lnTo>
                  <a:lnTo>
                    <a:pt x="884" y="1773"/>
                  </a:lnTo>
                  <a:lnTo>
                    <a:pt x="877" y="1766"/>
                  </a:lnTo>
                  <a:lnTo>
                    <a:pt x="877" y="1759"/>
                  </a:lnTo>
                  <a:lnTo>
                    <a:pt x="877" y="1745"/>
                  </a:lnTo>
                  <a:lnTo>
                    <a:pt x="884" y="1738"/>
                  </a:lnTo>
                  <a:lnTo>
                    <a:pt x="884" y="1731"/>
                  </a:lnTo>
                  <a:lnTo>
                    <a:pt x="884" y="1725"/>
                  </a:lnTo>
                  <a:lnTo>
                    <a:pt x="891" y="1718"/>
                  </a:lnTo>
                  <a:lnTo>
                    <a:pt x="898" y="1711"/>
                  </a:lnTo>
                  <a:lnTo>
                    <a:pt x="912" y="1711"/>
                  </a:lnTo>
                  <a:lnTo>
                    <a:pt x="919" y="1711"/>
                  </a:lnTo>
                  <a:lnTo>
                    <a:pt x="925" y="1711"/>
                  </a:lnTo>
                  <a:lnTo>
                    <a:pt x="932" y="1704"/>
                  </a:lnTo>
                  <a:lnTo>
                    <a:pt x="939" y="1704"/>
                  </a:lnTo>
                  <a:lnTo>
                    <a:pt x="946" y="1704"/>
                  </a:lnTo>
                  <a:lnTo>
                    <a:pt x="953" y="1704"/>
                  </a:lnTo>
                  <a:lnTo>
                    <a:pt x="960" y="1704"/>
                  </a:lnTo>
                  <a:lnTo>
                    <a:pt x="967" y="1704"/>
                  </a:lnTo>
                  <a:lnTo>
                    <a:pt x="973" y="1704"/>
                  </a:lnTo>
                  <a:lnTo>
                    <a:pt x="980" y="1704"/>
                  </a:lnTo>
                  <a:lnTo>
                    <a:pt x="987" y="1704"/>
                  </a:lnTo>
                  <a:lnTo>
                    <a:pt x="994" y="1711"/>
                  </a:lnTo>
                  <a:lnTo>
                    <a:pt x="1001" y="1711"/>
                  </a:lnTo>
                  <a:lnTo>
                    <a:pt x="1008" y="1718"/>
                  </a:lnTo>
                  <a:lnTo>
                    <a:pt x="1015" y="1725"/>
                  </a:lnTo>
                  <a:lnTo>
                    <a:pt x="1021" y="1731"/>
                  </a:lnTo>
                  <a:lnTo>
                    <a:pt x="1021" y="1738"/>
                  </a:lnTo>
                  <a:lnTo>
                    <a:pt x="1028" y="1752"/>
                  </a:lnTo>
                  <a:lnTo>
                    <a:pt x="1035" y="1759"/>
                  </a:lnTo>
                  <a:lnTo>
                    <a:pt x="1035" y="1766"/>
                  </a:lnTo>
                  <a:lnTo>
                    <a:pt x="1035" y="1779"/>
                  </a:lnTo>
                  <a:lnTo>
                    <a:pt x="1035" y="1786"/>
                  </a:lnTo>
                  <a:lnTo>
                    <a:pt x="1042" y="1800"/>
                  </a:lnTo>
                  <a:lnTo>
                    <a:pt x="1049" y="1807"/>
                  </a:lnTo>
                  <a:lnTo>
                    <a:pt x="1049" y="1807"/>
                  </a:lnTo>
                  <a:lnTo>
                    <a:pt x="1056" y="1814"/>
                  </a:lnTo>
                  <a:lnTo>
                    <a:pt x="1063" y="1820"/>
                  </a:lnTo>
                  <a:lnTo>
                    <a:pt x="1069" y="1820"/>
                  </a:lnTo>
                  <a:lnTo>
                    <a:pt x="1083" y="1820"/>
                  </a:lnTo>
                  <a:lnTo>
                    <a:pt x="1090" y="1827"/>
                  </a:lnTo>
                  <a:lnTo>
                    <a:pt x="1090" y="1834"/>
                  </a:lnTo>
                  <a:lnTo>
                    <a:pt x="1097" y="1841"/>
                  </a:lnTo>
                  <a:lnTo>
                    <a:pt x="1097" y="1855"/>
                  </a:lnTo>
                  <a:lnTo>
                    <a:pt x="1097" y="1861"/>
                  </a:lnTo>
                  <a:lnTo>
                    <a:pt x="1097" y="1868"/>
                  </a:lnTo>
                  <a:lnTo>
                    <a:pt x="1090" y="1875"/>
                  </a:lnTo>
                  <a:lnTo>
                    <a:pt x="1076" y="1875"/>
                  </a:lnTo>
                  <a:lnTo>
                    <a:pt x="1069" y="1875"/>
                  </a:lnTo>
                  <a:lnTo>
                    <a:pt x="1063" y="1875"/>
                  </a:lnTo>
                  <a:lnTo>
                    <a:pt x="1056" y="1882"/>
                  </a:lnTo>
                  <a:lnTo>
                    <a:pt x="1049" y="1882"/>
                  </a:lnTo>
                  <a:lnTo>
                    <a:pt x="1042" y="1882"/>
                  </a:lnTo>
                  <a:lnTo>
                    <a:pt x="1035" y="1882"/>
                  </a:lnTo>
                  <a:lnTo>
                    <a:pt x="1028" y="1875"/>
                  </a:lnTo>
                  <a:lnTo>
                    <a:pt x="1021" y="1875"/>
                  </a:lnTo>
                  <a:lnTo>
                    <a:pt x="1015" y="1875"/>
                  </a:lnTo>
                  <a:lnTo>
                    <a:pt x="1008" y="1868"/>
                  </a:lnTo>
                  <a:lnTo>
                    <a:pt x="1001" y="1868"/>
                  </a:lnTo>
                  <a:lnTo>
                    <a:pt x="994" y="1868"/>
                  </a:lnTo>
                  <a:lnTo>
                    <a:pt x="987" y="1861"/>
                  </a:lnTo>
                  <a:lnTo>
                    <a:pt x="980" y="1861"/>
                  </a:lnTo>
                  <a:lnTo>
                    <a:pt x="973" y="1861"/>
                  </a:lnTo>
                  <a:lnTo>
                    <a:pt x="967" y="1861"/>
                  </a:lnTo>
                  <a:lnTo>
                    <a:pt x="960" y="1861"/>
                  </a:lnTo>
                  <a:lnTo>
                    <a:pt x="946" y="1861"/>
                  </a:lnTo>
                  <a:lnTo>
                    <a:pt x="946" y="1861"/>
                  </a:lnTo>
                  <a:lnTo>
                    <a:pt x="946" y="1875"/>
                  </a:lnTo>
                  <a:lnTo>
                    <a:pt x="953" y="1889"/>
                  </a:lnTo>
                  <a:lnTo>
                    <a:pt x="960" y="1896"/>
                  </a:lnTo>
                  <a:lnTo>
                    <a:pt x="960" y="1896"/>
                  </a:lnTo>
                  <a:lnTo>
                    <a:pt x="953" y="1896"/>
                  </a:lnTo>
                  <a:lnTo>
                    <a:pt x="939" y="1903"/>
                  </a:lnTo>
                  <a:lnTo>
                    <a:pt x="932" y="1903"/>
                  </a:lnTo>
                  <a:lnTo>
                    <a:pt x="925" y="1903"/>
                  </a:lnTo>
                  <a:lnTo>
                    <a:pt x="919" y="1909"/>
                  </a:lnTo>
                  <a:lnTo>
                    <a:pt x="912" y="1909"/>
                  </a:lnTo>
                  <a:lnTo>
                    <a:pt x="905" y="1909"/>
                  </a:lnTo>
                  <a:lnTo>
                    <a:pt x="898" y="1909"/>
                  </a:lnTo>
                  <a:lnTo>
                    <a:pt x="891" y="1903"/>
                  </a:lnTo>
                  <a:lnTo>
                    <a:pt x="884" y="1896"/>
                  </a:lnTo>
                  <a:close/>
                  <a:moveTo>
                    <a:pt x="569" y="1861"/>
                  </a:moveTo>
                  <a:lnTo>
                    <a:pt x="569" y="1855"/>
                  </a:lnTo>
                  <a:lnTo>
                    <a:pt x="562" y="1841"/>
                  </a:lnTo>
                  <a:lnTo>
                    <a:pt x="562" y="1834"/>
                  </a:lnTo>
                  <a:lnTo>
                    <a:pt x="562" y="1827"/>
                  </a:lnTo>
                  <a:lnTo>
                    <a:pt x="555" y="1820"/>
                  </a:lnTo>
                  <a:lnTo>
                    <a:pt x="548" y="1807"/>
                  </a:lnTo>
                  <a:lnTo>
                    <a:pt x="548" y="1800"/>
                  </a:lnTo>
                  <a:lnTo>
                    <a:pt x="541" y="1793"/>
                  </a:lnTo>
                  <a:lnTo>
                    <a:pt x="535" y="1786"/>
                  </a:lnTo>
                  <a:lnTo>
                    <a:pt x="535" y="1779"/>
                  </a:lnTo>
                  <a:lnTo>
                    <a:pt x="528" y="1773"/>
                  </a:lnTo>
                  <a:lnTo>
                    <a:pt x="521" y="1766"/>
                  </a:lnTo>
                  <a:lnTo>
                    <a:pt x="521" y="1759"/>
                  </a:lnTo>
                  <a:lnTo>
                    <a:pt x="514" y="1752"/>
                  </a:lnTo>
                  <a:lnTo>
                    <a:pt x="514" y="1738"/>
                  </a:lnTo>
                  <a:lnTo>
                    <a:pt x="507" y="1731"/>
                  </a:lnTo>
                  <a:lnTo>
                    <a:pt x="507" y="1725"/>
                  </a:lnTo>
                  <a:lnTo>
                    <a:pt x="514" y="1718"/>
                  </a:lnTo>
                  <a:lnTo>
                    <a:pt x="521" y="1718"/>
                  </a:lnTo>
                  <a:lnTo>
                    <a:pt x="528" y="1718"/>
                  </a:lnTo>
                  <a:lnTo>
                    <a:pt x="535" y="1718"/>
                  </a:lnTo>
                  <a:lnTo>
                    <a:pt x="541" y="1718"/>
                  </a:lnTo>
                  <a:lnTo>
                    <a:pt x="548" y="1718"/>
                  </a:lnTo>
                  <a:lnTo>
                    <a:pt x="555" y="1718"/>
                  </a:lnTo>
                  <a:lnTo>
                    <a:pt x="562" y="1718"/>
                  </a:lnTo>
                  <a:lnTo>
                    <a:pt x="569" y="1718"/>
                  </a:lnTo>
                  <a:lnTo>
                    <a:pt x="576" y="1711"/>
                  </a:lnTo>
                  <a:lnTo>
                    <a:pt x="583" y="1711"/>
                  </a:lnTo>
                  <a:lnTo>
                    <a:pt x="589" y="1711"/>
                  </a:lnTo>
                  <a:lnTo>
                    <a:pt x="596" y="1711"/>
                  </a:lnTo>
                  <a:lnTo>
                    <a:pt x="603" y="1711"/>
                  </a:lnTo>
                  <a:lnTo>
                    <a:pt x="610" y="1711"/>
                  </a:lnTo>
                  <a:lnTo>
                    <a:pt x="617" y="1711"/>
                  </a:lnTo>
                  <a:lnTo>
                    <a:pt x="624" y="1718"/>
                  </a:lnTo>
                  <a:lnTo>
                    <a:pt x="631" y="1718"/>
                  </a:lnTo>
                  <a:lnTo>
                    <a:pt x="637" y="1718"/>
                  </a:lnTo>
                  <a:lnTo>
                    <a:pt x="644" y="1718"/>
                  </a:lnTo>
                  <a:lnTo>
                    <a:pt x="651" y="1718"/>
                  </a:lnTo>
                  <a:lnTo>
                    <a:pt x="658" y="1725"/>
                  </a:lnTo>
                  <a:lnTo>
                    <a:pt x="665" y="1725"/>
                  </a:lnTo>
                  <a:lnTo>
                    <a:pt x="672" y="1725"/>
                  </a:lnTo>
                  <a:lnTo>
                    <a:pt x="679" y="1725"/>
                  </a:lnTo>
                  <a:lnTo>
                    <a:pt x="685" y="1718"/>
                  </a:lnTo>
                  <a:lnTo>
                    <a:pt x="692" y="1711"/>
                  </a:lnTo>
                  <a:lnTo>
                    <a:pt x="699" y="1704"/>
                  </a:lnTo>
                  <a:lnTo>
                    <a:pt x="699" y="1697"/>
                  </a:lnTo>
                  <a:lnTo>
                    <a:pt x="706" y="1690"/>
                  </a:lnTo>
                  <a:lnTo>
                    <a:pt x="706" y="1684"/>
                  </a:lnTo>
                  <a:lnTo>
                    <a:pt x="706" y="1670"/>
                  </a:lnTo>
                  <a:lnTo>
                    <a:pt x="706" y="1663"/>
                  </a:lnTo>
                  <a:lnTo>
                    <a:pt x="706" y="1649"/>
                  </a:lnTo>
                  <a:lnTo>
                    <a:pt x="713" y="1643"/>
                  </a:lnTo>
                  <a:lnTo>
                    <a:pt x="713" y="1636"/>
                  </a:lnTo>
                  <a:lnTo>
                    <a:pt x="713" y="1622"/>
                  </a:lnTo>
                  <a:lnTo>
                    <a:pt x="713" y="1615"/>
                  </a:lnTo>
                  <a:lnTo>
                    <a:pt x="713" y="1601"/>
                  </a:lnTo>
                  <a:lnTo>
                    <a:pt x="720" y="1595"/>
                  </a:lnTo>
                  <a:lnTo>
                    <a:pt x="720" y="1588"/>
                  </a:lnTo>
                  <a:lnTo>
                    <a:pt x="720" y="1574"/>
                  </a:lnTo>
                  <a:lnTo>
                    <a:pt x="720" y="1567"/>
                  </a:lnTo>
                  <a:lnTo>
                    <a:pt x="720" y="1554"/>
                  </a:lnTo>
                  <a:lnTo>
                    <a:pt x="727" y="1547"/>
                  </a:lnTo>
                  <a:lnTo>
                    <a:pt x="727" y="1533"/>
                  </a:lnTo>
                  <a:lnTo>
                    <a:pt x="727" y="1526"/>
                  </a:lnTo>
                  <a:lnTo>
                    <a:pt x="720" y="1519"/>
                  </a:lnTo>
                  <a:lnTo>
                    <a:pt x="713" y="1512"/>
                  </a:lnTo>
                  <a:lnTo>
                    <a:pt x="706" y="1512"/>
                  </a:lnTo>
                  <a:lnTo>
                    <a:pt x="699" y="1519"/>
                  </a:lnTo>
                  <a:lnTo>
                    <a:pt x="692" y="1519"/>
                  </a:lnTo>
                  <a:lnTo>
                    <a:pt x="685" y="1526"/>
                  </a:lnTo>
                  <a:lnTo>
                    <a:pt x="679" y="1533"/>
                  </a:lnTo>
                  <a:lnTo>
                    <a:pt x="672" y="1533"/>
                  </a:lnTo>
                  <a:lnTo>
                    <a:pt x="665" y="1540"/>
                  </a:lnTo>
                  <a:lnTo>
                    <a:pt x="658" y="1547"/>
                  </a:lnTo>
                  <a:lnTo>
                    <a:pt x="658" y="1547"/>
                  </a:lnTo>
                  <a:lnTo>
                    <a:pt x="651" y="1554"/>
                  </a:lnTo>
                  <a:lnTo>
                    <a:pt x="644" y="1560"/>
                  </a:lnTo>
                  <a:lnTo>
                    <a:pt x="637" y="1560"/>
                  </a:lnTo>
                  <a:lnTo>
                    <a:pt x="631" y="1554"/>
                  </a:lnTo>
                  <a:lnTo>
                    <a:pt x="624" y="1547"/>
                  </a:lnTo>
                  <a:lnTo>
                    <a:pt x="617" y="1547"/>
                  </a:lnTo>
                  <a:lnTo>
                    <a:pt x="610" y="1540"/>
                  </a:lnTo>
                  <a:lnTo>
                    <a:pt x="603" y="1540"/>
                  </a:lnTo>
                  <a:lnTo>
                    <a:pt x="596" y="1533"/>
                  </a:lnTo>
                  <a:lnTo>
                    <a:pt x="596" y="1526"/>
                  </a:lnTo>
                  <a:lnTo>
                    <a:pt x="589" y="1519"/>
                  </a:lnTo>
                  <a:lnTo>
                    <a:pt x="583" y="1512"/>
                  </a:lnTo>
                  <a:lnTo>
                    <a:pt x="576" y="1506"/>
                  </a:lnTo>
                  <a:lnTo>
                    <a:pt x="569" y="1499"/>
                  </a:lnTo>
                  <a:lnTo>
                    <a:pt x="569" y="1492"/>
                  </a:lnTo>
                  <a:lnTo>
                    <a:pt x="569" y="1485"/>
                  </a:lnTo>
                  <a:lnTo>
                    <a:pt x="576" y="1471"/>
                  </a:lnTo>
                  <a:lnTo>
                    <a:pt x="576" y="1465"/>
                  </a:lnTo>
                  <a:lnTo>
                    <a:pt x="583" y="1458"/>
                  </a:lnTo>
                  <a:lnTo>
                    <a:pt x="583" y="1451"/>
                  </a:lnTo>
                  <a:lnTo>
                    <a:pt x="589" y="1444"/>
                  </a:lnTo>
                  <a:lnTo>
                    <a:pt x="596" y="1437"/>
                  </a:lnTo>
                  <a:lnTo>
                    <a:pt x="603" y="1430"/>
                  </a:lnTo>
                  <a:lnTo>
                    <a:pt x="610" y="1424"/>
                  </a:lnTo>
                  <a:lnTo>
                    <a:pt x="617" y="1424"/>
                  </a:lnTo>
                  <a:lnTo>
                    <a:pt x="617" y="1417"/>
                  </a:lnTo>
                  <a:lnTo>
                    <a:pt x="624" y="1410"/>
                  </a:lnTo>
                  <a:lnTo>
                    <a:pt x="631" y="1403"/>
                  </a:lnTo>
                  <a:lnTo>
                    <a:pt x="637" y="1396"/>
                  </a:lnTo>
                  <a:lnTo>
                    <a:pt x="644" y="1396"/>
                  </a:lnTo>
                  <a:lnTo>
                    <a:pt x="651" y="1403"/>
                  </a:lnTo>
                  <a:lnTo>
                    <a:pt x="658" y="1410"/>
                  </a:lnTo>
                  <a:lnTo>
                    <a:pt x="665" y="1410"/>
                  </a:lnTo>
                  <a:lnTo>
                    <a:pt x="672" y="1417"/>
                  </a:lnTo>
                  <a:lnTo>
                    <a:pt x="672" y="1424"/>
                  </a:lnTo>
                  <a:lnTo>
                    <a:pt x="679" y="1430"/>
                  </a:lnTo>
                  <a:lnTo>
                    <a:pt x="685" y="1437"/>
                  </a:lnTo>
                  <a:lnTo>
                    <a:pt x="692" y="1444"/>
                  </a:lnTo>
                  <a:lnTo>
                    <a:pt x="699" y="1444"/>
                  </a:lnTo>
                  <a:lnTo>
                    <a:pt x="706" y="1451"/>
                  </a:lnTo>
                  <a:lnTo>
                    <a:pt x="713" y="1458"/>
                  </a:lnTo>
                  <a:lnTo>
                    <a:pt x="720" y="1458"/>
                  </a:lnTo>
                  <a:lnTo>
                    <a:pt x="727" y="1465"/>
                  </a:lnTo>
                  <a:lnTo>
                    <a:pt x="727" y="1471"/>
                  </a:lnTo>
                  <a:lnTo>
                    <a:pt x="733" y="1478"/>
                  </a:lnTo>
                  <a:lnTo>
                    <a:pt x="740" y="1485"/>
                  </a:lnTo>
                  <a:lnTo>
                    <a:pt x="747" y="1485"/>
                  </a:lnTo>
                  <a:lnTo>
                    <a:pt x="754" y="1478"/>
                  </a:lnTo>
                  <a:lnTo>
                    <a:pt x="761" y="1478"/>
                  </a:lnTo>
                  <a:lnTo>
                    <a:pt x="768" y="1471"/>
                  </a:lnTo>
                  <a:lnTo>
                    <a:pt x="775" y="1465"/>
                  </a:lnTo>
                  <a:lnTo>
                    <a:pt x="781" y="1465"/>
                  </a:lnTo>
                  <a:lnTo>
                    <a:pt x="788" y="1458"/>
                  </a:lnTo>
                  <a:lnTo>
                    <a:pt x="788" y="1451"/>
                  </a:lnTo>
                  <a:lnTo>
                    <a:pt x="795" y="1444"/>
                  </a:lnTo>
                  <a:lnTo>
                    <a:pt x="795" y="1430"/>
                  </a:lnTo>
                  <a:lnTo>
                    <a:pt x="802" y="1424"/>
                  </a:lnTo>
                  <a:lnTo>
                    <a:pt x="802" y="1410"/>
                  </a:lnTo>
                  <a:lnTo>
                    <a:pt x="809" y="1403"/>
                  </a:lnTo>
                  <a:lnTo>
                    <a:pt x="809" y="1396"/>
                  </a:lnTo>
                  <a:lnTo>
                    <a:pt x="816" y="1396"/>
                  </a:lnTo>
                  <a:lnTo>
                    <a:pt x="823" y="1396"/>
                  </a:lnTo>
                  <a:lnTo>
                    <a:pt x="829" y="1389"/>
                  </a:lnTo>
                  <a:lnTo>
                    <a:pt x="836" y="1382"/>
                  </a:lnTo>
                  <a:lnTo>
                    <a:pt x="843" y="1382"/>
                  </a:lnTo>
                  <a:lnTo>
                    <a:pt x="850" y="1389"/>
                  </a:lnTo>
                  <a:lnTo>
                    <a:pt x="857" y="1389"/>
                  </a:lnTo>
                  <a:lnTo>
                    <a:pt x="864" y="1396"/>
                  </a:lnTo>
                  <a:lnTo>
                    <a:pt x="871" y="1396"/>
                  </a:lnTo>
                  <a:lnTo>
                    <a:pt x="877" y="1403"/>
                  </a:lnTo>
                  <a:lnTo>
                    <a:pt x="877" y="1410"/>
                  </a:lnTo>
                  <a:lnTo>
                    <a:pt x="884" y="1417"/>
                  </a:lnTo>
                  <a:lnTo>
                    <a:pt x="884" y="1430"/>
                  </a:lnTo>
                  <a:lnTo>
                    <a:pt x="891" y="1437"/>
                  </a:lnTo>
                  <a:lnTo>
                    <a:pt x="891" y="1451"/>
                  </a:lnTo>
                  <a:lnTo>
                    <a:pt x="891" y="1458"/>
                  </a:lnTo>
                  <a:lnTo>
                    <a:pt x="884" y="1471"/>
                  </a:lnTo>
                  <a:lnTo>
                    <a:pt x="884" y="1478"/>
                  </a:lnTo>
                  <a:lnTo>
                    <a:pt x="884" y="1485"/>
                  </a:lnTo>
                  <a:lnTo>
                    <a:pt x="877" y="1492"/>
                  </a:lnTo>
                  <a:lnTo>
                    <a:pt x="871" y="1499"/>
                  </a:lnTo>
                  <a:lnTo>
                    <a:pt x="864" y="1506"/>
                  </a:lnTo>
                  <a:lnTo>
                    <a:pt x="864" y="1519"/>
                  </a:lnTo>
                  <a:lnTo>
                    <a:pt x="857" y="1519"/>
                  </a:lnTo>
                  <a:lnTo>
                    <a:pt x="850" y="1526"/>
                  </a:lnTo>
                  <a:lnTo>
                    <a:pt x="843" y="1533"/>
                  </a:lnTo>
                  <a:lnTo>
                    <a:pt x="836" y="1533"/>
                  </a:lnTo>
                  <a:lnTo>
                    <a:pt x="829" y="1540"/>
                  </a:lnTo>
                  <a:lnTo>
                    <a:pt x="823" y="1547"/>
                  </a:lnTo>
                  <a:lnTo>
                    <a:pt x="823" y="1554"/>
                  </a:lnTo>
                  <a:lnTo>
                    <a:pt x="816" y="1560"/>
                  </a:lnTo>
                  <a:lnTo>
                    <a:pt x="816" y="1574"/>
                  </a:lnTo>
                  <a:lnTo>
                    <a:pt x="809" y="1581"/>
                  </a:lnTo>
                  <a:lnTo>
                    <a:pt x="809" y="1588"/>
                  </a:lnTo>
                  <a:lnTo>
                    <a:pt x="809" y="1601"/>
                  </a:lnTo>
                  <a:lnTo>
                    <a:pt x="802" y="1608"/>
                  </a:lnTo>
                  <a:lnTo>
                    <a:pt x="802" y="1615"/>
                  </a:lnTo>
                  <a:lnTo>
                    <a:pt x="795" y="1629"/>
                  </a:lnTo>
                  <a:lnTo>
                    <a:pt x="795" y="1636"/>
                  </a:lnTo>
                  <a:lnTo>
                    <a:pt x="795" y="1643"/>
                  </a:lnTo>
                  <a:lnTo>
                    <a:pt x="788" y="1656"/>
                  </a:lnTo>
                  <a:lnTo>
                    <a:pt x="788" y="1663"/>
                  </a:lnTo>
                  <a:lnTo>
                    <a:pt x="781" y="1670"/>
                  </a:lnTo>
                  <a:lnTo>
                    <a:pt x="781" y="1684"/>
                  </a:lnTo>
                  <a:lnTo>
                    <a:pt x="781" y="1690"/>
                  </a:lnTo>
                  <a:lnTo>
                    <a:pt x="775" y="1697"/>
                  </a:lnTo>
                  <a:lnTo>
                    <a:pt x="775" y="1711"/>
                  </a:lnTo>
                  <a:lnTo>
                    <a:pt x="768" y="1718"/>
                  </a:lnTo>
                  <a:lnTo>
                    <a:pt x="768" y="1725"/>
                  </a:lnTo>
                  <a:lnTo>
                    <a:pt x="775" y="1738"/>
                  </a:lnTo>
                  <a:lnTo>
                    <a:pt x="781" y="1745"/>
                  </a:lnTo>
                  <a:lnTo>
                    <a:pt x="788" y="1752"/>
                  </a:lnTo>
                  <a:lnTo>
                    <a:pt x="795" y="1759"/>
                  </a:lnTo>
                  <a:lnTo>
                    <a:pt x="795" y="1759"/>
                  </a:lnTo>
                  <a:lnTo>
                    <a:pt x="788" y="1766"/>
                  </a:lnTo>
                  <a:lnTo>
                    <a:pt x="781" y="1773"/>
                  </a:lnTo>
                  <a:lnTo>
                    <a:pt x="775" y="1779"/>
                  </a:lnTo>
                  <a:lnTo>
                    <a:pt x="768" y="1779"/>
                  </a:lnTo>
                  <a:lnTo>
                    <a:pt x="761" y="1779"/>
                  </a:lnTo>
                  <a:lnTo>
                    <a:pt x="754" y="1779"/>
                  </a:lnTo>
                  <a:lnTo>
                    <a:pt x="747" y="1779"/>
                  </a:lnTo>
                  <a:lnTo>
                    <a:pt x="740" y="1786"/>
                  </a:lnTo>
                  <a:lnTo>
                    <a:pt x="733" y="1786"/>
                  </a:lnTo>
                  <a:lnTo>
                    <a:pt x="727" y="1786"/>
                  </a:lnTo>
                  <a:lnTo>
                    <a:pt x="720" y="1786"/>
                  </a:lnTo>
                  <a:lnTo>
                    <a:pt x="713" y="1786"/>
                  </a:lnTo>
                  <a:lnTo>
                    <a:pt x="706" y="1786"/>
                  </a:lnTo>
                  <a:lnTo>
                    <a:pt x="699" y="1786"/>
                  </a:lnTo>
                  <a:lnTo>
                    <a:pt x="692" y="1779"/>
                  </a:lnTo>
                  <a:lnTo>
                    <a:pt x="685" y="1779"/>
                  </a:lnTo>
                  <a:lnTo>
                    <a:pt x="679" y="1773"/>
                  </a:lnTo>
                  <a:lnTo>
                    <a:pt x="672" y="1773"/>
                  </a:lnTo>
                  <a:lnTo>
                    <a:pt x="665" y="1766"/>
                  </a:lnTo>
                  <a:lnTo>
                    <a:pt x="658" y="1766"/>
                  </a:lnTo>
                  <a:lnTo>
                    <a:pt x="651" y="1759"/>
                  </a:lnTo>
                  <a:lnTo>
                    <a:pt x="644" y="1745"/>
                  </a:lnTo>
                  <a:lnTo>
                    <a:pt x="644" y="1745"/>
                  </a:lnTo>
                  <a:lnTo>
                    <a:pt x="637" y="1745"/>
                  </a:lnTo>
                  <a:lnTo>
                    <a:pt x="631" y="1752"/>
                  </a:lnTo>
                  <a:lnTo>
                    <a:pt x="631" y="1766"/>
                  </a:lnTo>
                  <a:lnTo>
                    <a:pt x="624" y="1773"/>
                  </a:lnTo>
                  <a:lnTo>
                    <a:pt x="624" y="1779"/>
                  </a:lnTo>
                  <a:lnTo>
                    <a:pt x="617" y="1793"/>
                  </a:lnTo>
                  <a:lnTo>
                    <a:pt x="617" y="1800"/>
                  </a:lnTo>
                  <a:lnTo>
                    <a:pt x="617" y="1807"/>
                  </a:lnTo>
                  <a:lnTo>
                    <a:pt x="617" y="1820"/>
                  </a:lnTo>
                  <a:lnTo>
                    <a:pt x="617" y="1827"/>
                  </a:lnTo>
                  <a:lnTo>
                    <a:pt x="617" y="1841"/>
                  </a:lnTo>
                  <a:lnTo>
                    <a:pt x="617" y="1848"/>
                  </a:lnTo>
                  <a:lnTo>
                    <a:pt x="617" y="1861"/>
                  </a:lnTo>
                  <a:lnTo>
                    <a:pt x="617" y="1868"/>
                  </a:lnTo>
                  <a:lnTo>
                    <a:pt x="610" y="1882"/>
                  </a:lnTo>
                  <a:lnTo>
                    <a:pt x="610" y="1889"/>
                  </a:lnTo>
                  <a:lnTo>
                    <a:pt x="603" y="1896"/>
                  </a:lnTo>
                  <a:lnTo>
                    <a:pt x="596" y="1903"/>
                  </a:lnTo>
                  <a:lnTo>
                    <a:pt x="589" y="1896"/>
                  </a:lnTo>
                  <a:lnTo>
                    <a:pt x="583" y="1896"/>
                  </a:lnTo>
                  <a:lnTo>
                    <a:pt x="576" y="1889"/>
                  </a:lnTo>
                  <a:lnTo>
                    <a:pt x="569" y="1882"/>
                  </a:lnTo>
                  <a:lnTo>
                    <a:pt x="569" y="1875"/>
                  </a:lnTo>
                  <a:lnTo>
                    <a:pt x="569" y="1861"/>
                  </a:lnTo>
                  <a:close/>
                  <a:moveTo>
                    <a:pt x="1851" y="1725"/>
                  </a:moveTo>
                  <a:lnTo>
                    <a:pt x="1844" y="1718"/>
                  </a:lnTo>
                  <a:lnTo>
                    <a:pt x="1837" y="1711"/>
                  </a:lnTo>
                  <a:lnTo>
                    <a:pt x="1830" y="1711"/>
                  </a:lnTo>
                  <a:lnTo>
                    <a:pt x="1824" y="1704"/>
                  </a:lnTo>
                  <a:lnTo>
                    <a:pt x="1817" y="1704"/>
                  </a:lnTo>
                  <a:lnTo>
                    <a:pt x="1810" y="1704"/>
                  </a:lnTo>
                  <a:lnTo>
                    <a:pt x="1803" y="1704"/>
                  </a:lnTo>
                  <a:lnTo>
                    <a:pt x="1789" y="1704"/>
                  </a:lnTo>
                  <a:lnTo>
                    <a:pt x="1782" y="1697"/>
                  </a:lnTo>
                  <a:lnTo>
                    <a:pt x="1776" y="1690"/>
                  </a:lnTo>
                  <a:lnTo>
                    <a:pt x="1782" y="1684"/>
                  </a:lnTo>
                  <a:lnTo>
                    <a:pt x="1789" y="1677"/>
                  </a:lnTo>
                  <a:lnTo>
                    <a:pt x="1796" y="1677"/>
                  </a:lnTo>
                  <a:lnTo>
                    <a:pt x="1803" y="1677"/>
                  </a:lnTo>
                  <a:lnTo>
                    <a:pt x="1810" y="1677"/>
                  </a:lnTo>
                  <a:lnTo>
                    <a:pt x="1817" y="1684"/>
                  </a:lnTo>
                  <a:lnTo>
                    <a:pt x="1830" y="1684"/>
                  </a:lnTo>
                  <a:lnTo>
                    <a:pt x="1837" y="1684"/>
                  </a:lnTo>
                  <a:lnTo>
                    <a:pt x="1844" y="1684"/>
                  </a:lnTo>
                  <a:lnTo>
                    <a:pt x="1851" y="1684"/>
                  </a:lnTo>
                  <a:lnTo>
                    <a:pt x="1858" y="1684"/>
                  </a:lnTo>
                  <a:lnTo>
                    <a:pt x="1865" y="1684"/>
                  </a:lnTo>
                  <a:lnTo>
                    <a:pt x="1872" y="1684"/>
                  </a:lnTo>
                  <a:lnTo>
                    <a:pt x="1878" y="1690"/>
                  </a:lnTo>
                  <a:lnTo>
                    <a:pt x="1885" y="1697"/>
                  </a:lnTo>
                  <a:lnTo>
                    <a:pt x="1892" y="1704"/>
                  </a:lnTo>
                  <a:lnTo>
                    <a:pt x="1899" y="1718"/>
                  </a:lnTo>
                  <a:lnTo>
                    <a:pt x="1899" y="1725"/>
                  </a:lnTo>
                  <a:lnTo>
                    <a:pt x="1892" y="1731"/>
                  </a:lnTo>
                  <a:lnTo>
                    <a:pt x="1885" y="1731"/>
                  </a:lnTo>
                  <a:lnTo>
                    <a:pt x="1878" y="1731"/>
                  </a:lnTo>
                  <a:lnTo>
                    <a:pt x="1872" y="1731"/>
                  </a:lnTo>
                  <a:lnTo>
                    <a:pt x="1865" y="1731"/>
                  </a:lnTo>
                  <a:lnTo>
                    <a:pt x="1858" y="1731"/>
                  </a:lnTo>
                  <a:lnTo>
                    <a:pt x="1851" y="1725"/>
                  </a:lnTo>
                  <a:close/>
                  <a:moveTo>
                    <a:pt x="1481" y="1656"/>
                  </a:moveTo>
                  <a:lnTo>
                    <a:pt x="1474" y="1656"/>
                  </a:lnTo>
                  <a:lnTo>
                    <a:pt x="1467" y="1656"/>
                  </a:lnTo>
                  <a:lnTo>
                    <a:pt x="1460" y="1656"/>
                  </a:lnTo>
                  <a:lnTo>
                    <a:pt x="1453" y="1656"/>
                  </a:lnTo>
                  <a:lnTo>
                    <a:pt x="1446" y="1656"/>
                  </a:lnTo>
                  <a:lnTo>
                    <a:pt x="1440" y="1656"/>
                  </a:lnTo>
                  <a:lnTo>
                    <a:pt x="1433" y="1649"/>
                  </a:lnTo>
                  <a:lnTo>
                    <a:pt x="1426" y="1649"/>
                  </a:lnTo>
                  <a:lnTo>
                    <a:pt x="1419" y="1649"/>
                  </a:lnTo>
                  <a:lnTo>
                    <a:pt x="1412" y="1649"/>
                  </a:lnTo>
                  <a:lnTo>
                    <a:pt x="1405" y="1643"/>
                  </a:lnTo>
                  <a:lnTo>
                    <a:pt x="1398" y="1643"/>
                  </a:lnTo>
                  <a:lnTo>
                    <a:pt x="1385" y="1643"/>
                  </a:lnTo>
                  <a:lnTo>
                    <a:pt x="1378" y="1643"/>
                  </a:lnTo>
                  <a:lnTo>
                    <a:pt x="1371" y="1636"/>
                  </a:lnTo>
                  <a:lnTo>
                    <a:pt x="1364" y="1636"/>
                  </a:lnTo>
                  <a:lnTo>
                    <a:pt x="1357" y="1629"/>
                  </a:lnTo>
                  <a:lnTo>
                    <a:pt x="1357" y="1622"/>
                  </a:lnTo>
                  <a:lnTo>
                    <a:pt x="1350" y="1615"/>
                  </a:lnTo>
                  <a:lnTo>
                    <a:pt x="1357" y="1601"/>
                  </a:lnTo>
                  <a:lnTo>
                    <a:pt x="1357" y="1595"/>
                  </a:lnTo>
                  <a:lnTo>
                    <a:pt x="1357" y="1581"/>
                  </a:lnTo>
                  <a:lnTo>
                    <a:pt x="1357" y="1574"/>
                  </a:lnTo>
                  <a:lnTo>
                    <a:pt x="1357" y="1560"/>
                  </a:lnTo>
                  <a:lnTo>
                    <a:pt x="1350" y="1554"/>
                  </a:lnTo>
                  <a:lnTo>
                    <a:pt x="1350" y="1540"/>
                  </a:lnTo>
                  <a:lnTo>
                    <a:pt x="1344" y="1533"/>
                  </a:lnTo>
                  <a:lnTo>
                    <a:pt x="1344" y="1526"/>
                  </a:lnTo>
                  <a:lnTo>
                    <a:pt x="1344" y="1519"/>
                  </a:lnTo>
                  <a:lnTo>
                    <a:pt x="1350" y="1512"/>
                  </a:lnTo>
                  <a:lnTo>
                    <a:pt x="1357" y="1512"/>
                  </a:lnTo>
                  <a:lnTo>
                    <a:pt x="1364" y="1512"/>
                  </a:lnTo>
                  <a:lnTo>
                    <a:pt x="1371" y="1519"/>
                  </a:lnTo>
                  <a:lnTo>
                    <a:pt x="1378" y="1519"/>
                  </a:lnTo>
                  <a:lnTo>
                    <a:pt x="1392" y="1526"/>
                  </a:lnTo>
                  <a:lnTo>
                    <a:pt x="1398" y="1519"/>
                  </a:lnTo>
                  <a:lnTo>
                    <a:pt x="1405" y="1519"/>
                  </a:lnTo>
                  <a:lnTo>
                    <a:pt x="1412" y="1519"/>
                  </a:lnTo>
                  <a:lnTo>
                    <a:pt x="1419" y="1519"/>
                  </a:lnTo>
                  <a:lnTo>
                    <a:pt x="1426" y="1519"/>
                  </a:lnTo>
                  <a:lnTo>
                    <a:pt x="1433" y="1526"/>
                  </a:lnTo>
                  <a:lnTo>
                    <a:pt x="1440" y="1526"/>
                  </a:lnTo>
                  <a:lnTo>
                    <a:pt x="1446" y="1533"/>
                  </a:lnTo>
                  <a:lnTo>
                    <a:pt x="1453" y="1533"/>
                  </a:lnTo>
                  <a:lnTo>
                    <a:pt x="1460" y="1540"/>
                  </a:lnTo>
                  <a:lnTo>
                    <a:pt x="1467" y="1540"/>
                  </a:lnTo>
                  <a:lnTo>
                    <a:pt x="1474" y="1547"/>
                  </a:lnTo>
                  <a:lnTo>
                    <a:pt x="1481" y="1554"/>
                  </a:lnTo>
                  <a:lnTo>
                    <a:pt x="1481" y="1560"/>
                  </a:lnTo>
                  <a:lnTo>
                    <a:pt x="1488" y="1567"/>
                  </a:lnTo>
                  <a:lnTo>
                    <a:pt x="1494" y="1574"/>
                  </a:lnTo>
                  <a:lnTo>
                    <a:pt x="1501" y="1581"/>
                  </a:lnTo>
                  <a:lnTo>
                    <a:pt x="1508" y="1588"/>
                  </a:lnTo>
                  <a:lnTo>
                    <a:pt x="1508" y="1595"/>
                  </a:lnTo>
                  <a:lnTo>
                    <a:pt x="1515" y="1601"/>
                  </a:lnTo>
                  <a:lnTo>
                    <a:pt x="1522" y="1608"/>
                  </a:lnTo>
                  <a:lnTo>
                    <a:pt x="1529" y="1615"/>
                  </a:lnTo>
                  <a:lnTo>
                    <a:pt x="1536" y="1622"/>
                  </a:lnTo>
                  <a:lnTo>
                    <a:pt x="1542" y="1622"/>
                  </a:lnTo>
                  <a:lnTo>
                    <a:pt x="1536" y="1629"/>
                  </a:lnTo>
                  <a:lnTo>
                    <a:pt x="1536" y="1636"/>
                  </a:lnTo>
                  <a:lnTo>
                    <a:pt x="1522" y="1643"/>
                  </a:lnTo>
                  <a:lnTo>
                    <a:pt x="1515" y="1643"/>
                  </a:lnTo>
                  <a:lnTo>
                    <a:pt x="1508" y="1649"/>
                  </a:lnTo>
                  <a:lnTo>
                    <a:pt x="1501" y="1656"/>
                  </a:lnTo>
                  <a:lnTo>
                    <a:pt x="1494" y="1656"/>
                  </a:lnTo>
                  <a:lnTo>
                    <a:pt x="1488" y="1656"/>
                  </a:lnTo>
                  <a:lnTo>
                    <a:pt x="1481" y="1656"/>
                  </a:lnTo>
                  <a:close/>
                  <a:moveTo>
                    <a:pt x="980" y="1595"/>
                  </a:moveTo>
                  <a:lnTo>
                    <a:pt x="980" y="1581"/>
                  </a:lnTo>
                  <a:lnTo>
                    <a:pt x="973" y="1574"/>
                  </a:lnTo>
                  <a:lnTo>
                    <a:pt x="973" y="1567"/>
                  </a:lnTo>
                  <a:lnTo>
                    <a:pt x="967" y="1554"/>
                  </a:lnTo>
                  <a:lnTo>
                    <a:pt x="967" y="1547"/>
                  </a:lnTo>
                  <a:lnTo>
                    <a:pt x="967" y="1533"/>
                  </a:lnTo>
                  <a:lnTo>
                    <a:pt x="973" y="1526"/>
                  </a:lnTo>
                  <a:lnTo>
                    <a:pt x="973" y="1519"/>
                  </a:lnTo>
                  <a:lnTo>
                    <a:pt x="980" y="1512"/>
                  </a:lnTo>
                  <a:lnTo>
                    <a:pt x="987" y="1499"/>
                  </a:lnTo>
                  <a:lnTo>
                    <a:pt x="987" y="1492"/>
                  </a:lnTo>
                  <a:lnTo>
                    <a:pt x="994" y="1485"/>
                  </a:lnTo>
                  <a:lnTo>
                    <a:pt x="1001" y="1478"/>
                  </a:lnTo>
                  <a:lnTo>
                    <a:pt x="1001" y="1471"/>
                  </a:lnTo>
                  <a:lnTo>
                    <a:pt x="1008" y="1465"/>
                  </a:lnTo>
                  <a:lnTo>
                    <a:pt x="1015" y="1451"/>
                  </a:lnTo>
                  <a:lnTo>
                    <a:pt x="1015" y="1444"/>
                  </a:lnTo>
                  <a:lnTo>
                    <a:pt x="1021" y="1437"/>
                  </a:lnTo>
                  <a:lnTo>
                    <a:pt x="1028" y="1430"/>
                  </a:lnTo>
                  <a:lnTo>
                    <a:pt x="1028" y="1424"/>
                  </a:lnTo>
                  <a:lnTo>
                    <a:pt x="1028" y="1410"/>
                  </a:lnTo>
                  <a:lnTo>
                    <a:pt x="1035" y="1403"/>
                  </a:lnTo>
                  <a:lnTo>
                    <a:pt x="1035" y="1389"/>
                  </a:lnTo>
                  <a:lnTo>
                    <a:pt x="1042" y="1382"/>
                  </a:lnTo>
                  <a:lnTo>
                    <a:pt x="1049" y="1376"/>
                  </a:lnTo>
                  <a:lnTo>
                    <a:pt x="1049" y="1369"/>
                  </a:lnTo>
                  <a:lnTo>
                    <a:pt x="1056" y="1369"/>
                  </a:lnTo>
                  <a:lnTo>
                    <a:pt x="1069" y="1369"/>
                  </a:lnTo>
                  <a:lnTo>
                    <a:pt x="1076" y="1369"/>
                  </a:lnTo>
                  <a:lnTo>
                    <a:pt x="1083" y="1376"/>
                  </a:lnTo>
                  <a:lnTo>
                    <a:pt x="1090" y="1376"/>
                  </a:lnTo>
                  <a:lnTo>
                    <a:pt x="1097" y="1376"/>
                  </a:lnTo>
                  <a:lnTo>
                    <a:pt x="1104" y="1382"/>
                  </a:lnTo>
                  <a:lnTo>
                    <a:pt x="1111" y="1389"/>
                  </a:lnTo>
                  <a:lnTo>
                    <a:pt x="1117" y="1396"/>
                  </a:lnTo>
                  <a:lnTo>
                    <a:pt x="1117" y="1403"/>
                  </a:lnTo>
                  <a:lnTo>
                    <a:pt x="1124" y="1410"/>
                  </a:lnTo>
                  <a:lnTo>
                    <a:pt x="1131" y="1417"/>
                  </a:lnTo>
                  <a:lnTo>
                    <a:pt x="1138" y="1424"/>
                  </a:lnTo>
                  <a:lnTo>
                    <a:pt x="1138" y="1430"/>
                  </a:lnTo>
                  <a:lnTo>
                    <a:pt x="1138" y="1444"/>
                  </a:lnTo>
                  <a:lnTo>
                    <a:pt x="1138" y="1451"/>
                  </a:lnTo>
                  <a:lnTo>
                    <a:pt x="1138" y="1465"/>
                  </a:lnTo>
                  <a:lnTo>
                    <a:pt x="1145" y="1471"/>
                  </a:lnTo>
                  <a:lnTo>
                    <a:pt x="1152" y="1478"/>
                  </a:lnTo>
                  <a:lnTo>
                    <a:pt x="1159" y="1485"/>
                  </a:lnTo>
                  <a:lnTo>
                    <a:pt x="1165" y="1485"/>
                  </a:lnTo>
                  <a:lnTo>
                    <a:pt x="1165" y="1492"/>
                  </a:lnTo>
                  <a:lnTo>
                    <a:pt x="1159" y="1499"/>
                  </a:lnTo>
                  <a:lnTo>
                    <a:pt x="1152" y="1506"/>
                  </a:lnTo>
                  <a:lnTo>
                    <a:pt x="1145" y="1506"/>
                  </a:lnTo>
                  <a:lnTo>
                    <a:pt x="1138" y="1506"/>
                  </a:lnTo>
                  <a:lnTo>
                    <a:pt x="1131" y="1512"/>
                  </a:lnTo>
                  <a:lnTo>
                    <a:pt x="1124" y="1512"/>
                  </a:lnTo>
                  <a:lnTo>
                    <a:pt x="1117" y="1512"/>
                  </a:lnTo>
                  <a:lnTo>
                    <a:pt x="1111" y="1519"/>
                  </a:lnTo>
                  <a:lnTo>
                    <a:pt x="1104" y="1526"/>
                  </a:lnTo>
                  <a:lnTo>
                    <a:pt x="1097" y="1533"/>
                  </a:lnTo>
                  <a:lnTo>
                    <a:pt x="1097" y="1540"/>
                  </a:lnTo>
                  <a:lnTo>
                    <a:pt x="1090" y="1554"/>
                  </a:lnTo>
                  <a:lnTo>
                    <a:pt x="1090" y="1560"/>
                  </a:lnTo>
                  <a:lnTo>
                    <a:pt x="1083" y="1567"/>
                  </a:lnTo>
                  <a:lnTo>
                    <a:pt x="1083" y="1581"/>
                  </a:lnTo>
                  <a:lnTo>
                    <a:pt x="1083" y="1588"/>
                  </a:lnTo>
                  <a:lnTo>
                    <a:pt x="1083" y="1601"/>
                  </a:lnTo>
                  <a:lnTo>
                    <a:pt x="1076" y="1608"/>
                  </a:lnTo>
                  <a:lnTo>
                    <a:pt x="1076" y="1615"/>
                  </a:lnTo>
                  <a:lnTo>
                    <a:pt x="1069" y="1615"/>
                  </a:lnTo>
                  <a:lnTo>
                    <a:pt x="1063" y="1622"/>
                  </a:lnTo>
                  <a:lnTo>
                    <a:pt x="1056" y="1622"/>
                  </a:lnTo>
                  <a:lnTo>
                    <a:pt x="1042" y="1615"/>
                  </a:lnTo>
                  <a:lnTo>
                    <a:pt x="1035" y="1615"/>
                  </a:lnTo>
                  <a:lnTo>
                    <a:pt x="1028" y="1615"/>
                  </a:lnTo>
                  <a:lnTo>
                    <a:pt x="1021" y="1615"/>
                  </a:lnTo>
                  <a:lnTo>
                    <a:pt x="1015" y="1615"/>
                  </a:lnTo>
                  <a:lnTo>
                    <a:pt x="1008" y="1608"/>
                  </a:lnTo>
                  <a:lnTo>
                    <a:pt x="1001" y="1608"/>
                  </a:lnTo>
                  <a:lnTo>
                    <a:pt x="994" y="1601"/>
                  </a:lnTo>
                  <a:lnTo>
                    <a:pt x="987" y="1595"/>
                  </a:lnTo>
                  <a:lnTo>
                    <a:pt x="980" y="1595"/>
                  </a:lnTo>
                  <a:close/>
                  <a:moveTo>
                    <a:pt x="829" y="1321"/>
                  </a:moveTo>
                  <a:lnTo>
                    <a:pt x="836" y="1314"/>
                  </a:lnTo>
                  <a:lnTo>
                    <a:pt x="843" y="1307"/>
                  </a:lnTo>
                  <a:lnTo>
                    <a:pt x="850" y="1307"/>
                  </a:lnTo>
                  <a:lnTo>
                    <a:pt x="857" y="1307"/>
                  </a:lnTo>
                  <a:lnTo>
                    <a:pt x="864" y="1307"/>
                  </a:lnTo>
                  <a:lnTo>
                    <a:pt x="871" y="1307"/>
                  </a:lnTo>
                  <a:lnTo>
                    <a:pt x="877" y="1307"/>
                  </a:lnTo>
                  <a:lnTo>
                    <a:pt x="884" y="1314"/>
                  </a:lnTo>
                  <a:lnTo>
                    <a:pt x="891" y="1314"/>
                  </a:lnTo>
                  <a:lnTo>
                    <a:pt x="891" y="1321"/>
                  </a:lnTo>
                  <a:lnTo>
                    <a:pt x="884" y="1328"/>
                  </a:lnTo>
                  <a:lnTo>
                    <a:pt x="884" y="1335"/>
                  </a:lnTo>
                  <a:lnTo>
                    <a:pt x="871" y="1341"/>
                  </a:lnTo>
                  <a:lnTo>
                    <a:pt x="864" y="1341"/>
                  </a:lnTo>
                  <a:lnTo>
                    <a:pt x="857" y="1341"/>
                  </a:lnTo>
                  <a:lnTo>
                    <a:pt x="850" y="1341"/>
                  </a:lnTo>
                  <a:lnTo>
                    <a:pt x="850" y="1335"/>
                  </a:lnTo>
                  <a:lnTo>
                    <a:pt x="843" y="1335"/>
                  </a:lnTo>
                  <a:lnTo>
                    <a:pt x="836" y="1328"/>
                  </a:lnTo>
                  <a:lnTo>
                    <a:pt x="829" y="1321"/>
                  </a:lnTo>
                  <a:close/>
                  <a:moveTo>
                    <a:pt x="1481" y="746"/>
                  </a:moveTo>
                  <a:lnTo>
                    <a:pt x="1481" y="732"/>
                  </a:lnTo>
                  <a:lnTo>
                    <a:pt x="1488" y="726"/>
                  </a:lnTo>
                  <a:lnTo>
                    <a:pt x="1488" y="712"/>
                  </a:lnTo>
                  <a:lnTo>
                    <a:pt x="1494" y="705"/>
                  </a:lnTo>
                  <a:lnTo>
                    <a:pt x="1494" y="691"/>
                  </a:lnTo>
                  <a:lnTo>
                    <a:pt x="1501" y="685"/>
                  </a:lnTo>
                  <a:lnTo>
                    <a:pt x="1501" y="671"/>
                  </a:lnTo>
                  <a:lnTo>
                    <a:pt x="1501" y="664"/>
                  </a:lnTo>
                  <a:lnTo>
                    <a:pt x="1508" y="650"/>
                  </a:lnTo>
                  <a:lnTo>
                    <a:pt x="1508" y="643"/>
                  </a:lnTo>
                  <a:lnTo>
                    <a:pt x="1515" y="637"/>
                  </a:lnTo>
                  <a:lnTo>
                    <a:pt x="1522" y="630"/>
                  </a:lnTo>
                  <a:lnTo>
                    <a:pt x="1529" y="623"/>
                  </a:lnTo>
                  <a:lnTo>
                    <a:pt x="1536" y="616"/>
                  </a:lnTo>
                  <a:lnTo>
                    <a:pt x="1542" y="609"/>
                  </a:lnTo>
                  <a:lnTo>
                    <a:pt x="1549" y="609"/>
                  </a:lnTo>
                  <a:lnTo>
                    <a:pt x="1556" y="602"/>
                  </a:lnTo>
                  <a:lnTo>
                    <a:pt x="1563" y="602"/>
                  </a:lnTo>
                  <a:lnTo>
                    <a:pt x="1577" y="602"/>
                  </a:lnTo>
                  <a:lnTo>
                    <a:pt x="1584" y="602"/>
                  </a:lnTo>
                  <a:lnTo>
                    <a:pt x="1590" y="596"/>
                  </a:lnTo>
                  <a:lnTo>
                    <a:pt x="1597" y="596"/>
                  </a:lnTo>
                  <a:lnTo>
                    <a:pt x="1604" y="596"/>
                  </a:lnTo>
                  <a:lnTo>
                    <a:pt x="1611" y="596"/>
                  </a:lnTo>
                  <a:lnTo>
                    <a:pt x="1618" y="589"/>
                  </a:lnTo>
                  <a:lnTo>
                    <a:pt x="1632" y="589"/>
                  </a:lnTo>
                  <a:lnTo>
                    <a:pt x="1638" y="589"/>
                  </a:lnTo>
                  <a:lnTo>
                    <a:pt x="1645" y="589"/>
                  </a:lnTo>
                  <a:lnTo>
                    <a:pt x="1652" y="582"/>
                  </a:lnTo>
                  <a:lnTo>
                    <a:pt x="1659" y="582"/>
                  </a:lnTo>
                  <a:lnTo>
                    <a:pt x="1673" y="582"/>
                  </a:lnTo>
                  <a:lnTo>
                    <a:pt x="1680" y="575"/>
                  </a:lnTo>
                  <a:lnTo>
                    <a:pt x="1686" y="582"/>
                  </a:lnTo>
                  <a:lnTo>
                    <a:pt x="1686" y="589"/>
                  </a:lnTo>
                  <a:lnTo>
                    <a:pt x="1693" y="596"/>
                  </a:lnTo>
                  <a:lnTo>
                    <a:pt x="1700" y="602"/>
                  </a:lnTo>
                  <a:lnTo>
                    <a:pt x="1707" y="616"/>
                  </a:lnTo>
                  <a:lnTo>
                    <a:pt x="1707" y="623"/>
                  </a:lnTo>
                  <a:lnTo>
                    <a:pt x="1714" y="637"/>
                  </a:lnTo>
                  <a:lnTo>
                    <a:pt x="1714" y="643"/>
                  </a:lnTo>
                  <a:lnTo>
                    <a:pt x="1714" y="650"/>
                  </a:lnTo>
                  <a:lnTo>
                    <a:pt x="1714" y="664"/>
                  </a:lnTo>
                  <a:lnTo>
                    <a:pt x="1707" y="671"/>
                  </a:lnTo>
                  <a:lnTo>
                    <a:pt x="1700" y="678"/>
                  </a:lnTo>
                  <a:lnTo>
                    <a:pt x="1686" y="685"/>
                  </a:lnTo>
                  <a:lnTo>
                    <a:pt x="1680" y="685"/>
                  </a:lnTo>
                  <a:lnTo>
                    <a:pt x="1673" y="691"/>
                  </a:lnTo>
                  <a:lnTo>
                    <a:pt x="1673" y="698"/>
                  </a:lnTo>
                  <a:lnTo>
                    <a:pt x="1666" y="712"/>
                  </a:lnTo>
                  <a:lnTo>
                    <a:pt x="1659" y="719"/>
                  </a:lnTo>
                  <a:lnTo>
                    <a:pt x="1659" y="732"/>
                  </a:lnTo>
                  <a:lnTo>
                    <a:pt x="1652" y="739"/>
                  </a:lnTo>
                  <a:lnTo>
                    <a:pt x="1645" y="746"/>
                  </a:lnTo>
                  <a:lnTo>
                    <a:pt x="1638" y="746"/>
                  </a:lnTo>
                  <a:lnTo>
                    <a:pt x="1632" y="746"/>
                  </a:lnTo>
                  <a:lnTo>
                    <a:pt x="1625" y="739"/>
                  </a:lnTo>
                  <a:lnTo>
                    <a:pt x="1618" y="739"/>
                  </a:lnTo>
                  <a:lnTo>
                    <a:pt x="1604" y="739"/>
                  </a:lnTo>
                  <a:lnTo>
                    <a:pt x="1597" y="739"/>
                  </a:lnTo>
                  <a:lnTo>
                    <a:pt x="1590" y="739"/>
                  </a:lnTo>
                  <a:lnTo>
                    <a:pt x="1584" y="739"/>
                  </a:lnTo>
                  <a:lnTo>
                    <a:pt x="1577" y="739"/>
                  </a:lnTo>
                  <a:lnTo>
                    <a:pt x="1570" y="746"/>
                  </a:lnTo>
                  <a:lnTo>
                    <a:pt x="1563" y="746"/>
                  </a:lnTo>
                  <a:lnTo>
                    <a:pt x="1549" y="746"/>
                  </a:lnTo>
                  <a:lnTo>
                    <a:pt x="1542" y="746"/>
                  </a:lnTo>
                  <a:lnTo>
                    <a:pt x="1536" y="746"/>
                  </a:lnTo>
                  <a:lnTo>
                    <a:pt x="1529" y="746"/>
                  </a:lnTo>
                  <a:lnTo>
                    <a:pt x="1522" y="746"/>
                  </a:lnTo>
                  <a:lnTo>
                    <a:pt x="1515" y="746"/>
                  </a:lnTo>
                  <a:lnTo>
                    <a:pt x="1501" y="746"/>
                  </a:lnTo>
                  <a:lnTo>
                    <a:pt x="1494" y="746"/>
                  </a:lnTo>
                  <a:lnTo>
                    <a:pt x="1488" y="746"/>
                  </a:lnTo>
                  <a:lnTo>
                    <a:pt x="1481" y="746"/>
                  </a:lnTo>
                  <a:close/>
                  <a:moveTo>
                    <a:pt x="980" y="3285"/>
                  </a:moveTo>
                  <a:lnTo>
                    <a:pt x="1015" y="3251"/>
                  </a:lnTo>
                  <a:lnTo>
                    <a:pt x="1042" y="3251"/>
                  </a:lnTo>
                  <a:lnTo>
                    <a:pt x="1076" y="3216"/>
                  </a:lnTo>
                  <a:lnTo>
                    <a:pt x="1111" y="3216"/>
                  </a:lnTo>
                  <a:lnTo>
                    <a:pt x="1145" y="3216"/>
                  </a:lnTo>
                  <a:lnTo>
                    <a:pt x="1179" y="3182"/>
                  </a:lnTo>
                  <a:lnTo>
                    <a:pt x="1213" y="3182"/>
                  </a:lnTo>
                  <a:lnTo>
                    <a:pt x="1248" y="3148"/>
                  </a:lnTo>
                  <a:lnTo>
                    <a:pt x="1282" y="3148"/>
                  </a:lnTo>
                  <a:lnTo>
                    <a:pt x="1316" y="3114"/>
                  </a:lnTo>
                  <a:lnTo>
                    <a:pt x="1350" y="3114"/>
                  </a:lnTo>
                  <a:lnTo>
                    <a:pt x="1385" y="3114"/>
                  </a:lnTo>
                  <a:lnTo>
                    <a:pt x="1385" y="3079"/>
                  </a:lnTo>
                  <a:lnTo>
                    <a:pt x="1419" y="3045"/>
                  </a:lnTo>
                  <a:lnTo>
                    <a:pt x="1419" y="3011"/>
                  </a:lnTo>
                  <a:lnTo>
                    <a:pt x="1446" y="2977"/>
                  </a:lnTo>
                  <a:lnTo>
                    <a:pt x="1446" y="2943"/>
                  </a:lnTo>
                  <a:lnTo>
                    <a:pt x="1481" y="2915"/>
                  </a:lnTo>
                  <a:lnTo>
                    <a:pt x="1481" y="2881"/>
                  </a:lnTo>
                  <a:lnTo>
                    <a:pt x="1515" y="2847"/>
                  </a:lnTo>
                  <a:lnTo>
                    <a:pt x="1549" y="2813"/>
                  </a:lnTo>
                  <a:lnTo>
                    <a:pt x="1549" y="2778"/>
                  </a:lnTo>
                  <a:lnTo>
                    <a:pt x="1584" y="2744"/>
                  </a:lnTo>
                  <a:lnTo>
                    <a:pt x="1584" y="2710"/>
                  </a:lnTo>
                  <a:lnTo>
                    <a:pt x="1618" y="2676"/>
                  </a:lnTo>
                  <a:lnTo>
                    <a:pt x="1618" y="2642"/>
                  </a:lnTo>
                  <a:lnTo>
                    <a:pt x="1652" y="2607"/>
                  </a:lnTo>
                  <a:lnTo>
                    <a:pt x="1652" y="2573"/>
                  </a:lnTo>
                  <a:lnTo>
                    <a:pt x="1686" y="2539"/>
                  </a:lnTo>
                  <a:lnTo>
                    <a:pt x="1686" y="2505"/>
                  </a:lnTo>
                  <a:lnTo>
                    <a:pt x="1721" y="2470"/>
                  </a:lnTo>
                  <a:lnTo>
                    <a:pt x="1721" y="2436"/>
                  </a:lnTo>
                  <a:lnTo>
                    <a:pt x="1755" y="2402"/>
                  </a:lnTo>
                  <a:lnTo>
                    <a:pt x="1755" y="2368"/>
                  </a:lnTo>
                  <a:lnTo>
                    <a:pt x="1789" y="2334"/>
                  </a:lnTo>
                  <a:lnTo>
                    <a:pt x="1824" y="2299"/>
                  </a:lnTo>
                  <a:lnTo>
                    <a:pt x="1824" y="2272"/>
                  </a:lnTo>
                  <a:lnTo>
                    <a:pt x="1851" y="2238"/>
                  </a:lnTo>
                  <a:lnTo>
                    <a:pt x="1851" y="2204"/>
                  </a:lnTo>
                  <a:lnTo>
                    <a:pt x="1885" y="2169"/>
                  </a:lnTo>
                  <a:lnTo>
                    <a:pt x="1885" y="2135"/>
                  </a:lnTo>
                  <a:lnTo>
                    <a:pt x="1920" y="2101"/>
                  </a:lnTo>
                  <a:lnTo>
                    <a:pt x="1920" y="2067"/>
                  </a:lnTo>
                  <a:lnTo>
                    <a:pt x="1954" y="2033"/>
                  </a:lnTo>
                  <a:lnTo>
                    <a:pt x="1954" y="1998"/>
                  </a:lnTo>
                  <a:lnTo>
                    <a:pt x="1988" y="1964"/>
                  </a:lnTo>
                  <a:lnTo>
                    <a:pt x="1988" y="1930"/>
                  </a:lnTo>
                  <a:lnTo>
                    <a:pt x="2022" y="1896"/>
                  </a:lnTo>
                  <a:lnTo>
                    <a:pt x="2022" y="1861"/>
                  </a:lnTo>
                  <a:lnTo>
                    <a:pt x="2057" y="1827"/>
                  </a:lnTo>
                  <a:lnTo>
                    <a:pt x="2057" y="1793"/>
                  </a:lnTo>
                  <a:lnTo>
                    <a:pt x="2057" y="1759"/>
                  </a:lnTo>
                  <a:lnTo>
                    <a:pt x="2057" y="1725"/>
                  </a:lnTo>
                  <a:lnTo>
                    <a:pt x="2091" y="1690"/>
                  </a:lnTo>
                  <a:lnTo>
                    <a:pt x="2091" y="1656"/>
                  </a:lnTo>
                  <a:lnTo>
                    <a:pt x="2091" y="1629"/>
                  </a:lnTo>
                  <a:lnTo>
                    <a:pt x="2091" y="1595"/>
                  </a:lnTo>
                  <a:lnTo>
                    <a:pt x="2125" y="1560"/>
                  </a:lnTo>
                  <a:lnTo>
                    <a:pt x="2125" y="1526"/>
                  </a:lnTo>
                  <a:lnTo>
                    <a:pt x="2125" y="1492"/>
                  </a:lnTo>
                  <a:lnTo>
                    <a:pt x="2125" y="1458"/>
                  </a:lnTo>
                  <a:lnTo>
                    <a:pt x="2125" y="1424"/>
                  </a:lnTo>
                  <a:lnTo>
                    <a:pt x="2125" y="1389"/>
                  </a:lnTo>
                  <a:lnTo>
                    <a:pt x="2159" y="1355"/>
                  </a:lnTo>
                  <a:lnTo>
                    <a:pt x="2159" y="1321"/>
                  </a:lnTo>
                  <a:lnTo>
                    <a:pt x="2159" y="1287"/>
                  </a:lnTo>
                  <a:lnTo>
                    <a:pt x="2159" y="1252"/>
                  </a:lnTo>
                  <a:lnTo>
                    <a:pt x="2159" y="1218"/>
                  </a:lnTo>
                  <a:lnTo>
                    <a:pt x="2159" y="1184"/>
                  </a:lnTo>
                  <a:lnTo>
                    <a:pt x="2159" y="1150"/>
                  </a:lnTo>
                  <a:lnTo>
                    <a:pt x="2194" y="1116"/>
                  </a:lnTo>
                  <a:lnTo>
                    <a:pt x="2194" y="1081"/>
                  </a:lnTo>
                  <a:lnTo>
                    <a:pt x="2194" y="1047"/>
                  </a:lnTo>
                  <a:lnTo>
                    <a:pt x="2194" y="1013"/>
                  </a:lnTo>
                  <a:lnTo>
                    <a:pt x="2194" y="986"/>
                  </a:lnTo>
                  <a:lnTo>
                    <a:pt x="2194" y="951"/>
                  </a:lnTo>
                  <a:lnTo>
                    <a:pt x="2194" y="917"/>
                  </a:lnTo>
                  <a:lnTo>
                    <a:pt x="2228" y="883"/>
                  </a:lnTo>
                  <a:lnTo>
                    <a:pt x="2228" y="849"/>
                  </a:lnTo>
                  <a:lnTo>
                    <a:pt x="2228" y="815"/>
                  </a:lnTo>
                  <a:lnTo>
                    <a:pt x="2228" y="780"/>
                  </a:lnTo>
                  <a:lnTo>
                    <a:pt x="2228" y="746"/>
                  </a:lnTo>
                  <a:lnTo>
                    <a:pt x="2228" y="712"/>
                  </a:lnTo>
                  <a:lnTo>
                    <a:pt x="2228" y="678"/>
                  </a:lnTo>
                  <a:lnTo>
                    <a:pt x="2255" y="643"/>
                  </a:lnTo>
                  <a:lnTo>
                    <a:pt x="2255" y="609"/>
                  </a:lnTo>
                  <a:lnTo>
                    <a:pt x="2255" y="575"/>
                  </a:lnTo>
                  <a:lnTo>
                    <a:pt x="2255" y="541"/>
                  </a:lnTo>
                  <a:lnTo>
                    <a:pt x="2255" y="507"/>
                  </a:lnTo>
                  <a:lnTo>
                    <a:pt x="2255" y="472"/>
                  </a:lnTo>
                  <a:lnTo>
                    <a:pt x="2255" y="438"/>
                  </a:lnTo>
                  <a:lnTo>
                    <a:pt x="2290" y="404"/>
                  </a:lnTo>
                  <a:lnTo>
                    <a:pt x="2290" y="370"/>
                  </a:lnTo>
                  <a:lnTo>
                    <a:pt x="2290" y="342"/>
                  </a:lnTo>
                  <a:lnTo>
                    <a:pt x="2290" y="308"/>
                  </a:lnTo>
                  <a:lnTo>
                    <a:pt x="2290" y="274"/>
                  </a:lnTo>
                  <a:lnTo>
                    <a:pt x="2290" y="240"/>
                  </a:lnTo>
                  <a:lnTo>
                    <a:pt x="2290" y="206"/>
                  </a:lnTo>
                  <a:lnTo>
                    <a:pt x="2324" y="171"/>
                  </a:lnTo>
                  <a:lnTo>
                    <a:pt x="2324" y="137"/>
                  </a:lnTo>
                  <a:lnTo>
                    <a:pt x="2324" y="103"/>
                  </a:lnTo>
                  <a:lnTo>
                    <a:pt x="2324" y="69"/>
                  </a:lnTo>
                  <a:lnTo>
                    <a:pt x="2324" y="34"/>
                  </a:lnTo>
                  <a:lnTo>
                    <a:pt x="2324" y="0"/>
                  </a:lnTo>
                  <a:lnTo>
                    <a:pt x="2290" y="0"/>
                  </a:lnTo>
                  <a:lnTo>
                    <a:pt x="2255" y="0"/>
                  </a:lnTo>
                  <a:lnTo>
                    <a:pt x="2228" y="0"/>
                  </a:lnTo>
                  <a:lnTo>
                    <a:pt x="2194" y="0"/>
                  </a:lnTo>
                  <a:lnTo>
                    <a:pt x="2159" y="34"/>
                  </a:lnTo>
                  <a:lnTo>
                    <a:pt x="2125" y="34"/>
                  </a:lnTo>
                  <a:lnTo>
                    <a:pt x="2091" y="34"/>
                  </a:lnTo>
                  <a:lnTo>
                    <a:pt x="2057" y="69"/>
                  </a:lnTo>
                  <a:lnTo>
                    <a:pt x="2022" y="69"/>
                  </a:lnTo>
                  <a:lnTo>
                    <a:pt x="1988" y="69"/>
                  </a:lnTo>
                  <a:lnTo>
                    <a:pt x="1954" y="103"/>
                  </a:lnTo>
                  <a:lnTo>
                    <a:pt x="1920" y="103"/>
                  </a:lnTo>
                  <a:lnTo>
                    <a:pt x="1885" y="137"/>
                  </a:lnTo>
                  <a:lnTo>
                    <a:pt x="1851" y="137"/>
                  </a:lnTo>
                  <a:lnTo>
                    <a:pt x="1824" y="137"/>
                  </a:lnTo>
                  <a:lnTo>
                    <a:pt x="1789" y="171"/>
                  </a:lnTo>
                  <a:lnTo>
                    <a:pt x="1755" y="171"/>
                  </a:lnTo>
                  <a:lnTo>
                    <a:pt x="1721" y="171"/>
                  </a:lnTo>
                  <a:lnTo>
                    <a:pt x="1686" y="206"/>
                  </a:lnTo>
                  <a:lnTo>
                    <a:pt x="1652" y="206"/>
                  </a:lnTo>
                  <a:lnTo>
                    <a:pt x="1618" y="206"/>
                  </a:lnTo>
                  <a:lnTo>
                    <a:pt x="1584" y="240"/>
                  </a:lnTo>
                  <a:lnTo>
                    <a:pt x="1549" y="240"/>
                  </a:lnTo>
                  <a:lnTo>
                    <a:pt x="1515" y="240"/>
                  </a:lnTo>
                  <a:lnTo>
                    <a:pt x="1481" y="274"/>
                  </a:lnTo>
                  <a:lnTo>
                    <a:pt x="1446" y="274"/>
                  </a:lnTo>
                  <a:lnTo>
                    <a:pt x="1419" y="274"/>
                  </a:lnTo>
                  <a:lnTo>
                    <a:pt x="1385" y="308"/>
                  </a:lnTo>
                  <a:lnTo>
                    <a:pt x="1350" y="308"/>
                  </a:lnTo>
                  <a:lnTo>
                    <a:pt x="1316" y="308"/>
                  </a:lnTo>
                  <a:lnTo>
                    <a:pt x="1282" y="342"/>
                  </a:lnTo>
                  <a:lnTo>
                    <a:pt x="1248" y="342"/>
                  </a:lnTo>
                  <a:lnTo>
                    <a:pt x="1213" y="370"/>
                  </a:lnTo>
                  <a:lnTo>
                    <a:pt x="1179" y="370"/>
                  </a:lnTo>
                  <a:lnTo>
                    <a:pt x="1145" y="370"/>
                  </a:lnTo>
                  <a:lnTo>
                    <a:pt x="1111" y="404"/>
                  </a:lnTo>
                  <a:lnTo>
                    <a:pt x="1076" y="404"/>
                  </a:lnTo>
                  <a:lnTo>
                    <a:pt x="1042" y="404"/>
                  </a:lnTo>
                  <a:lnTo>
                    <a:pt x="1015" y="438"/>
                  </a:lnTo>
                  <a:lnTo>
                    <a:pt x="980" y="438"/>
                  </a:lnTo>
                  <a:lnTo>
                    <a:pt x="946" y="438"/>
                  </a:lnTo>
                  <a:lnTo>
                    <a:pt x="912" y="472"/>
                  </a:lnTo>
                  <a:lnTo>
                    <a:pt x="877" y="472"/>
                  </a:lnTo>
                  <a:lnTo>
                    <a:pt x="843" y="472"/>
                  </a:lnTo>
                  <a:lnTo>
                    <a:pt x="809" y="507"/>
                  </a:lnTo>
                  <a:lnTo>
                    <a:pt x="775" y="507"/>
                  </a:lnTo>
                  <a:lnTo>
                    <a:pt x="740" y="507"/>
                  </a:lnTo>
                  <a:lnTo>
                    <a:pt x="706" y="541"/>
                  </a:lnTo>
                  <a:lnTo>
                    <a:pt x="672" y="541"/>
                  </a:lnTo>
                  <a:lnTo>
                    <a:pt x="637" y="541"/>
                  </a:lnTo>
                  <a:lnTo>
                    <a:pt x="603" y="575"/>
                  </a:lnTo>
                  <a:lnTo>
                    <a:pt x="576" y="575"/>
                  </a:lnTo>
                  <a:lnTo>
                    <a:pt x="541" y="575"/>
                  </a:lnTo>
                  <a:lnTo>
                    <a:pt x="507" y="609"/>
                  </a:lnTo>
                  <a:lnTo>
                    <a:pt x="473" y="609"/>
                  </a:lnTo>
                  <a:lnTo>
                    <a:pt x="439" y="643"/>
                  </a:lnTo>
                  <a:lnTo>
                    <a:pt x="404" y="643"/>
                  </a:lnTo>
                  <a:lnTo>
                    <a:pt x="370" y="643"/>
                  </a:lnTo>
                  <a:lnTo>
                    <a:pt x="336" y="678"/>
                  </a:lnTo>
                  <a:lnTo>
                    <a:pt x="302" y="678"/>
                  </a:lnTo>
                  <a:lnTo>
                    <a:pt x="267" y="678"/>
                  </a:lnTo>
                  <a:lnTo>
                    <a:pt x="233" y="712"/>
                  </a:lnTo>
                  <a:lnTo>
                    <a:pt x="199" y="712"/>
                  </a:lnTo>
                  <a:lnTo>
                    <a:pt x="171" y="712"/>
                  </a:lnTo>
                  <a:lnTo>
                    <a:pt x="137" y="746"/>
                  </a:lnTo>
                  <a:lnTo>
                    <a:pt x="103" y="746"/>
                  </a:lnTo>
                  <a:lnTo>
                    <a:pt x="103" y="780"/>
                  </a:lnTo>
                  <a:lnTo>
                    <a:pt x="103" y="815"/>
                  </a:lnTo>
                  <a:lnTo>
                    <a:pt x="103" y="849"/>
                  </a:lnTo>
                  <a:lnTo>
                    <a:pt x="103" y="883"/>
                  </a:lnTo>
                  <a:lnTo>
                    <a:pt x="103" y="917"/>
                  </a:lnTo>
                  <a:lnTo>
                    <a:pt x="68" y="951"/>
                  </a:lnTo>
                  <a:lnTo>
                    <a:pt x="68" y="986"/>
                  </a:lnTo>
                  <a:lnTo>
                    <a:pt x="68" y="1013"/>
                  </a:lnTo>
                  <a:lnTo>
                    <a:pt x="68" y="1047"/>
                  </a:lnTo>
                  <a:lnTo>
                    <a:pt x="68" y="1081"/>
                  </a:lnTo>
                  <a:lnTo>
                    <a:pt x="68" y="1116"/>
                  </a:lnTo>
                  <a:lnTo>
                    <a:pt x="68" y="1150"/>
                  </a:lnTo>
                  <a:lnTo>
                    <a:pt x="68" y="1184"/>
                  </a:lnTo>
                  <a:lnTo>
                    <a:pt x="68" y="1218"/>
                  </a:lnTo>
                  <a:lnTo>
                    <a:pt x="68" y="1252"/>
                  </a:lnTo>
                  <a:lnTo>
                    <a:pt x="68" y="1287"/>
                  </a:lnTo>
                  <a:lnTo>
                    <a:pt x="68" y="1321"/>
                  </a:lnTo>
                  <a:lnTo>
                    <a:pt x="68" y="1355"/>
                  </a:lnTo>
                  <a:lnTo>
                    <a:pt x="68" y="1389"/>
                  </a:lnTo>
                  <a:lnTo>
                    <a:pt x="68" y="1424"/>
                  </a:lnTo>
                  <a:lnTo>
                    <a:pt x="68" y="1458"/>
                  </a:lnTo>
                  <a:lnTo>
                    <a:pt x="68" y="1492"/>
                  </a:lnTo>
                  <a:lnTo>
                    <a:pt x="68" y="1526"/>
                  </a:lnTo>
                  <a:lnTo>
                    <a:pt x="34" y="1560"/>
                  </a:lnTo>
                  <a:lnTo>
                    <a:pt x="34" y="1595"/>
                  </a:lnTo>
                  <a:lnTo>
                    <a:pt x="34" y="1629"/>
                  </a:lnTo>
                  <a:lnTo>
                    <a:pt x="34" y="1656"/>
                  </a:lnTo>
                  <a:lnTo>
                    <a:pt x="34" y="1690"/>
                  </a:lnTo>
                  <a:lnTo>
                    <a:pt x="34" y="1725"/>
                  </a:lnTo>
                  <a:lnTo>
                    <a:pt x="34" y="1759"/>
                  </a:lnTo>
                  <a:lnTo>
                    <a:pt x="34" y="1793"/>
                  </a:lnTo>
                  <a:lnTo>
                    <a:pt x="34" y="1827"/>
                  </a:lnTo>
                  <a:lnTo>
                    <a:pt x="34" y="1861"/>
                  </a:lnTo>
                  <a:lnTo>
                    <a:pt x="34" y="1896"/>
                  </a:lnTo>
                  <a:lnTo>
                    <a:pt x="34" y="1930"/>
                  </a:lnTo>
                  <a:lnTo>
                    <a:pt x="34" y="1964"/>
                  </a:lnTo>
                  <a:lnTo>
                    <a:pt x="34" y="1998"/>
                  </a:lnTo>
                  <a:lnTo>
                    <a:pt x="34" y="2033"/>
                  </a:lnTo>
                  <a:lnTo>
                    <a:pt x="34" y="2067"/>
                  </a:lnTo>
                  <a:lnTo>
                    <a:pt x="34" y="2101"/>
                  </a:lnTo>
                  <a:lnTo>
                    <a:pt x="0" y="2135"/>
                  </a:lnTo>
                  <a:lnTo>
                    <a:pt x="0" y="2169"/>
                  </a:lnTo>
                  <a:lnTo>
                    <a:pt x="0" y="2204"/>
                  </a:lnTo>
                  <a:lnTo>
                    <a:pt x="0" y="2238"/>
                  </a:lnTo>
                  <a:lnTo>
                    <a:pt x="0" y="2272"/>
                  </a:lnTo>
                  <a:lnTo>
                    <a:pt x="0" y="2299"/>
                  </a:lnTo>
                  <a:lnTo>
                    <a:pt x="0" y="2334"/>
                  </a:lnTo>
                  <a:lnTo>
                    <a:pt x="0" y="2368"/>
                  </a:lnTo>
                  <a:lnTo>
                    <a:pt x="0" y="2402"/>
                  </a:lnTo>
                  <a:lnTo>
                    <a:pt x="0" y="2436"/>
                  </a:lnTo>
                  <a:lnTo>
                    <a:pt x="0" y="2470"/>
                  </a:lnTo>
                  <a:lnTo>
                    <a:pt x="0" y="2505"/>
                  </a:lnTo>
                  <a:lnTo>
                    <a:pt x="0" y="2539"/>
                  </a:lnTo>
                  <a:lnTo>
                    <a:pt x="0" y="2573"/>
                  </a:lnTo>
                  <a:lnTo>
                    <a:pt x="0" y="2607"/>
                  </a:lnTo>
                  <a:lnTo>
                    <a:pt x="0" y="2642"/>
                  </a:lnTo>
                  <a:lnTo>
                    <a:pt x="0" y="2676"/>
                  </a:lnTo>
                  <a:lnTo>
                    <a:pt x="0" y="2710"/>
                  </a:lnTo>
                  <a:lnTo>
                    <a:pt x="0" y="2744"/>
                  </a:lnTo>
                  <a:lnTo>
                    <a:pt x="34" y="2744"/>
                  </a:lnTo>
                  <a:lnTo>
                    <a:pt x="68" y="2778"/>
                  </a:lnTo>
                  <a:lnTo>
                    <a:pt x="103" y="2778"/>
                  </a:lnTo>
                  <a:lnTo>
                    <a:pt x="137" y="2813"/>
                  </a:lnTo>
                  <a:lnTo>
                    <a:pt x="171" y="2847"/>
                  </a:lnTo>
                  <a:lnTo>
                    <a:pt x="199" y="2847"/>
                  </a:lnTo>
                  <a:lnTo>
                    <a:pt x="233" y="2881"/>
                  </a:lnTo>
                  <a:lnTo>
                    <a:pt x="267" y="2915"/>
                  </a:lnTo>
                  <a:lnTo>
                    <a:pt x="302" y="2915"/>
                  </a:lnTo>
                  <a:lnTo>
                    <a:pt x="336" y="2943"/>
                  </a:lnTo>
                  <a:lnTo>
                    <a:pt x="370" y="2977"/>
                  </a:lnTo>
                  <a:lnTo>
                    <a:pt x="404" y="2977"/>
                  </a:lnTo>
                  <a:lnTo>
                    <a:pt x="439" y="3011"/>
                  </a:lnTo>
                  <a:lnTo>
                    <a:pt x="473" y="3045"/>
                  </a:lnTo>
                  <a:lnTo>
                    <a:pt x="507" y="3045"/>
                  </a:lnTo>
                  <a:lnTo>
                    <a:pt x="541" y="3079"/>
                  </a:lnTo>
                  <a:lnTo>
                    <a:pt x="576" y="3079"/>
                  </a:lnTo>
                  <a:lnTo>
                    <a:pt x="603" y="3114"/>
                  </a:lnTo>
                  <a:lnTo>
                    <a:pt x="637" y="3148"/>
                  </a:lnTo>
                  <a:lnTo>
                    <a:pt x="672" y="3148"/>
                  </a:lnTo>
                  <a:lnTo>
                    <a:pt x="706" y="3182"/>
                  </a:lnTo>
                  <a:lnTo>
                    <a:pt x="740" y="3216"/>
                  </a:lnTo>
                  <a:lnTo>
                    <a:pt x="775" y="3216"/>
                  </a:lnTo>
                  <a:lnTo>
                    <a:pt x="809" y="3251"/>
                  </a:lnTo>
                  <a:lnTo>
                    <a:pt x="843" y="3251"/>
                  </a:lnTo>
                  <a:lnTo>
                    <a:pt x="877" y="3285"/>
                  </a:lnTo>
                  <a:lnTo>
                    <a:pt x="912" y="3285"/>
                  </a:lnTo>
                  <a:lnTo>
                    <a:pt x="946" y="3285"/>
                  </a:lnTo>
                  <a:lnTo>
                    <a:pt x="980" y="3285"/>
                  </a:lnTo>
                  <a:close/>
                  <a:moveTo>
                    <a:pt x="939" y="1793"/>
                  </a:moveTo>
                  <a:lnTo>
                    <a:pt x="946" y="1793"/>
                  </a:lnTo>
                  <a:lnTo>
                    <a:pt x="953" y="1793"/>
                  </a:lnTo>
                  <a:lnTo>
                    <a:pt x="953" y="1786"/>
                  </a:lnTo>
                  <a:lnTo>
                    <a:pt x="960" y="1786"/>
                  </a:lnTo>
                  <a:lnTo>
                    <a:pt x="960" y="1786"/>
                  </a:lnTo>
                  <a:lnTo>
                    <a:pt x="967" y="1786"/>
                  </a:lnTo>
                  <a:lnTo>
                    <a:pt x="967" y="1786"/>
                  </a:lnTo>
                  <a:lnTo>
                    <a:pt x="973" y="1786"/>
                  </a:lnTo>
                  <a:lnTo>
                    <a:pt x="980" y="1786"/>
                  </a:lnTo>
                  <a:lnTo>
                    <a:pt x="980" y="1793"/>
                  </a:lnTo>
                  <a:lnTo>
                    <a:pt x="980" y="1800"/>
                  </a:lnTo>
                  <a:lnTo>
                    <a:pt x="973" y="1800"/>
                  </a:lnTo>
                  <a:lnTo>
                    <a:pt x="967" y="1800"/>
                  </a:lnTo>
                  <a:lnTo>
                    <a:pt x="967" y="1800"/>
                  </a:lnTo>
                  <a:lnTo>
                    <a:pt x="960" y="1800"/>
                  </a:lnTo>
                  <a:lnTo>
                    <a:pt x="960" y="1800"/>
                  </a:lnTo>
                  <a:lnTo>
                    <a:pt x="953" y="1800"/>
                  </a:lnTo>
                  <a:lnTo>
                    <a:pt x="953" y="1800"/>
                  </a:lnTo>
                  <a:lnTo>
                    <a:pt x="946" y="1800"/>
                  </a:lnTo>
                  <a:lnTo>
                    <a:pt x="939" y="1793"/>
                  </a:lnTo>
                  <a:close/>
                  <a:moveTo>
                    <a:pt x="1419" y="1629"/>
                  </a:moveTo>
                  <a:lnTo>
                    <a:pt x="1412" y="1622"/>
                  </a:lnTo>
                  <a:lnTo>
                    <a:pt x="1405" y="1622"/>
                  </a:lnTo>
                  <a:lnTo>
                    <a:pt x="1398" y="1622"/>
                  </a:lnTo>
                  <a:lnTo>
                    <a:pt x="1392" y="1622"/>
                  </a:lnTo>
                  <a:lnTo>
                    <a:pt x="1385" y="1615"/>
                  </a:lnTo>
                  <a:lnTo>
                    <a:pt x="1378" y="1608"/>
                  </a:lnTo>
                  <a:lnTo>
                    <a:pt x="1378" y="1601"/>
                  </a:lnTo>
                  <a:lnTo>
                    <a:pt x="1378" y="1588"/>
                  </a:lnTo>
                  <a:lnTo>
                    <a:pt x="1371" y="1581"/>
                  </a:lnTo>
                  <a:lnTo>
                    <a:pt x="1378" y="1567"/>
                  </a:lnTo>
                  <a:lnTo>
                    <a:pt x="1378" y="1560"/>
                  </a:lnTo>
                  <a:lnTo>
                    <a:pt x="1385" y="1554"/>
                  </a:lnTo>
                  <a:lnTo>
                    <a:pt x="1385" y="1547"/>
                  </a:lnTo>
                  <a:lnTo>
                    <a:pt x="1392" y="1547"/>
                  </a:lnTo>
                  <a:lnTo>
                    <a:pt x="1398" y="1547"/>
                  </a:lnTo>
                  <a:lnTo>
                    <a:pt x="1405" y="1540"/>
                  </a:lnTo>
                  <a:lnTo>
                    <a:pt x="1412" y="1540"/>
                  </a:lnTo>
                  <a:lnTo>
                    <a:pt x="1426" y="1540"/>
                  </a:lnTo>
                  <a:lnTo>
                    <a:pt x="1433" y="1547"/>
                  </a:lnTo>
                  <a:lnTo>
                    <a:pt x="1440" y="1547"/>
                  </a:lnTo>
                  <a:lnTo>
                    <a:pt x="1446" y="1547"/>
                  </a:lnTo>
                  <a:lnTo>
                    <a:pt x="1446" y="1554"/>
                  </a:lnTo>
                  <a:lnTo>
                    <a:pt x="1453" y="1554"/>
                  </a:lnTo>
                  <a:lnTo>
                    <a:pt x="1460" y="1560"/>
                  </a:lnTo>
                  <a:lnTo>
                    <a:pt x="1467" y="1567"/>
                  </a:lnTo>
                  <a:lnTo>
                    <a:pt x="1467" y="1581"/>
                  </a:lnTo>
                  <a:lnTo>
                    <a:pt x="1467" y="1588"/>
                  </a:lnTo>
                  <a:lnTo>
                    <a:pt x="1474" y="1601"/>
                  </a:lnTo>
                  <a:lnTo>
                    <a:pt x="1474" y="1608"/>
                  </a:lnTo>
                  <a:lnTo>
                    <a:pt x="1474" y="1622"/>
                  </a:lnTo>
                  <a:lnTo>
                    <a:pt x="1467" y="1629"/>
                  </a:lnTo>
                  <a:lnTo>
                    <a:pt x="1460" y="1629"/>
                  </a:lnTo>
                  <a:lnTo>
                    <a:pt x="1453" y="1629"/>
                  </a:lnTo>
                  <a:lnTo>
                    <a:pt x="1446" y="1629"/>
                  </a:lnTo>
                  <a:lnTo>
                    <a:pt x="1440" y="1629"/>
                  </a:lnTo>
                  <a:lnTo>
                    <a:pt x="1433" y="1629"/>
                  </a:lnTo>
                  <a:lnTo>
                    <a:pt x="1426" y="1629"/>
                  </a:lnTo>
                  <a:lnTo>
                    <a:pt x="1419" y="1629"/>
                  </a:lnTo>
                  <a:close/>
                  <a:moveTo>
                    <a:pt x="1042" y="1560"/>
                  </a:moveTo>
                  <a:lnTo>
                    <a:pt x="1042" y="1554"/>
                  </a:lnTo>
                  <a:lnTo>
                    <a:pt x="1042" y="1554"/>
                  </a:lnTo>
                  <a:lnTo>
                    <a:pt x="1042" y="1554"/>
                  </a:lnTo>
                  <a:lnTo>
                    <a:pt x="1042" y="1554"/>
                  </a:lnTo>
                  <a:lnTo>
                    <a:pt x="1042" y="1554"/>
                  </a:lnTo>
                  <a:lnTo>
                    <a:pt x="1049" y="1554"/>
                  </a:lnTo>
                  <a:lnTo>
                    <a:pt x="1049" y="1560"/>
                  </a:lnTo>
                  <a:lnTo>
                    <a:pt x="1049" y="1560"/>
                  </a:lnTo>
                  <a:lnTo>
                    <a:pt x="1042" y="1560"/>
                  </a:lnTo>
                  <a:lnTo>
                    <a:pt x="1042" y="1560"/>
                  </a:lnTo>
                  <a:lnTo>
                    <a:pt x="1042" y="1560"/>
                  </a:lnTo>
                  <a:lnTo>
                    <a:pt x="1042" y="1560"/>
                  </a:lnTo>
                  <a:lnTo>
                    <a:pt x="1042" y="1560"/>
                  </a:lnTo>
                  <a:lnTo>
                    <a:pt x="1042" y="1560"/>
                  </a:lnTo>
                  <a:close/>
                  <a:moveTo>
                    <a:pt x="1577" y="678"/>
                  </a:moveTo>
                  <a:lnTo>
                    <a:pt x="1584" y="671"/>
                  </a:lnTo>
                  <a:lnTo>
                    <a:pt x="1584" y="664"/>
                  </a:lnTo>
                  <a:lnTo>
                    <a:pt x="1590" y="657"/>
                  </a:lnTo>
                  <a:lnTo>
                    <a:pt x="1597" y="650"/>
                  </a:lnTo>
                  <a:lnTo>
                    <a:pt x="1597" y="637"/>
                  </a:lnTo>
                  <a:lnTo>
                    <a:pt x="1604" y="637"/>
                  </a:lnTo>
                  <a:lnTo>
                    <a:pt x="1611" y="630"/>
                  </a:lnTo>
                  <a:lnTo>
                    <a:pt x="1618" y="623"/>
                  </a:lnTo>
                  <a:lnTo>
                    <a:pt x="1625" y="616"/>
                  </a:lnTo>
                  <a:lnTo>
                    <a:pt x="1632" y="616"/>
                  </a:lnTo>
                  <a:lnTo>
                    <a:pt x="1638" y="609"/>
                  </a:lnTo>
                  <a:lnTo>
                    <a:pt x="1645" y="609"/>
                  </a:lnTo>
                  <a:lnTo>
                    <a:pt x="1652" y="616"/>
                  </a:lnTo>
                  <a:lnTo>
                    <a:pt x="1659" y="616"/>
                  </a:lnTo>
                  <a:lnTo>
                    <a:pt x="1666" y="630"/>
                  </a:lnTo>
                  <a:lnTo>
                    <a:pt x="1666" y="637"/>
                  </a:lnTo>
                  <a:lnTo>
                    <a:pt x="1666" y="643"/>
                  </a:lnTo>
                  <a:lnTo>
                    <a:pt x="1666" y="657"/>
                  </a:lnTo>
                  <a:lnTo>
                    <a:pt x="1666" y="664"/>
                  </a:lnTo>
                  <a:lnTo>
                    <a:pt x="1659" y="671"/>
                  </a:lnTo>
                  <a:lnTo>
                    <a:pt x="1652" y="678"/>
                  </a:lnTo>
                  <a:lnTo>
                    <a:pt x="1645" y="685"/>
                  </a:lnTo>
                  <a:lnTo>
                    <a:pt x="1638" y="685"/>
                  </a:lnTo>
                  <a:lnTo>
                    <a:pt x="1632" y="691"/>
                  </a:lnTo>
                  <a:lnTo>
                    <a:pt x="1625" y="691"/>
                  </a:lnTo>
                  <a:lnTo>
                    <a:pt x="1618" y="691"/>
                  </a:lnTo>
                  <a:lnTo>
                    <a:pt x="1611" y="691"/>
                  </a:lnTo>
                  <a:lnTo>
                    <a:pt x="1604" y="691"/>
                  </a:lnTo>
                  <a:lnTo>
                    <a:pt x="1597" y="691"/>
                  </a:lnTo>
                  <a:lnTo>
                    <a:pt x="1590" y="685"/>
                  </a:lnTo>
                  <a:lnTo>
                    <a:pt x="1584" y="685"/>
                  </a:lnTo>
                  <a:lnTo>
                    <a:pt x="1577" y="678"/>
                  </a:lnTo>
                  <a:close/>
                </a:path>
              </a:pathLst>
            </a:custGeom>
            <a:solidFill>
              <a:srgbClr val="ccc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9" name=""/>
          <p:cNvSpPr/>
          <p:nvPr/>
        </p:nvSpPr>
        <p:spPr>
          <a:xfrm>
            <a:off x="3398760" y="1244520"/>
            <a:ext cx="3689280" cy="5214960"/>
          </a:xfrm>
          <a:custGeom>
            <a:avLst/>
            <a:gdLst/>
            <a:ahLst/>
            <a:rect l="l" t="t" r="r" b="b"/>
            <a:pathLst>
              <a:path w="2324" h="3285">
                <a:moveTo>
                  <a:pt x="980" y="3285"/>
                </a:moveTo>
                <a:lnTo>
                  <a:pt x="1015" y="3251"/>
                </a:lnTo>
                <a:lnTo>
                  <a:pt x="1042" y="3251"/>
                </a:lnTo>
                <a:lnTo>
                  <a:pt x="1076" y="3216"/>
                </a:lnTo>
                <a:lnTo>
                  <a:pt x="1111" y="3216"/>
                </a:lnTo>
                <a:lnTo>
                  <a:pt x="1145" y="3216"/>
                </a:lnTo>
                <a:lnTo>
                  <a:pt x="1179" y="3182"/>
                </a:lnTo>
                <a:lnTo>
                  <a:pt x="1213" y="3182"/>
                </a:lnTo>
                <a:lnTo>
                  <a:pt x="1248" y="3148"/>
                </a:lnTo>
                <a:lnTo>
                  <a:pt x="1282" y="3148"/>
                </a:lnTo>
                <a:lnTo>
                  <a:pt x="1316" y="3114"/>
                </a:lnTo>
                <a:lnTo>
                  <a:pt x="1350" y="3114"/>
                </a:lnTo>
                <a:lnTo>
                  <a:pt x="1385" y="3114"/>
                </a:lnTo>
                <a:lnTo>
                  <a:pt x="1385" y="3079"/>
                </a:lnTo>
                <a:lnTo>
                  <a:pt x="1419" y="3045"/>
                </a:lnTo>
                <a:lnTo>
                  <a:pt x="1419" y="3011"/>
                </a:lnTo>
                <a:lnTo>
                  <a:pt x="1446" y="2977"/>
                </a:lnTo>
                <a:lnTo>
                  <a:pt x="1446" y="2943"/>
                </a:lnTo>
                <a:lnTo>
                  <a:pt x="1481" y="2915"/>
                </a:lnTo>
                <a:lnTo>
                  <a:pt x="1481" y="2881"/>
                </a:lnTo>
                <a:lnTo>
                  <a:pt x="1515" y="2847"/>
                </a:lnTo>
                <a:lnTo>
                  <a:pt x="1549" y="2813"/>
                </a:lnTo>
                <a:lnTo>
                  <a:pt x="1549" y="2778"/>
                </a:lnTo>
                <a:lnTo>
                  <a:pt x="1584" y="2744"/>
                </a:lnTo>
                <a:lnTo>
                  <a:pt x="1584" y="2710"/>
                </a:lnTo>
                <a:lnTo>
                  <a:pt x="1618" y="2676"/>
                </a:lnTo>
                <a:lnTo>
                  <a:pt x="1618" y="2642"/>
                </a:lnTo>
                <a:lnTo>
                  <a:pt x="1652" y="2607"/>
                </a:lnTo>
                <a:lnTo>
                  <a:pt x="1652" y="2573"/>
                </a:lnTo>
                <a:lnTo>
                  <a:pt x="1686" y="2539"/>
                </a:lnTo>
                <a:lnTo>
                  <a:pt x="1686" y="2505"/>
                </a:lnTo>
                <a:lnTo>
                  <a:pt x="1721" y="2470"/>
                </a:lnTo>
                <a:lnTo>
                  <a:pt x="1721" y="2436"/>
                </a:lnTo>
                <a:lnTo>
                  <a:pt x="1755" y="2402"/>
                </a:lnTo>
                <a:lnTo>
                  <a:pt x="1755" y="2368"/>
                </a:lnTo>
                <a:lnTo>
                  <a:pt x="1789" y="2334"/>
                </a:lnTo>
                <a:lnTo>
                  <a:pt x="1824" y="2299"/>
                </a:lnTo>
                <a:lnTo>
                  <a:pt x="1824" y="2272"/>
                </a:lnTo>
                <a:lnTo>
                  <a:pt x="1851" y="2238"/>
                </a:lnTo>
                <a:lnTo>
                  <a:pt x="1851" y="2204"/>
                </a:lnTo>
                <a:lnTo>
                  <a:pt x="1885" y="2169"/>
                </a:lnTo>
                <a:lnTo>
                  <a:pt x="1885" y="2135"/>
                </a:lnTo>
                <a:lnTo>
                  <a:pt x="1920" y="2101"/>
                </a:lnTo>
                <a:lnTo>
                  <a:pt x="1920" y="2067"/>
                </a:lnTo>
                <a:lnTo>
                  <a:pt x="1954" y="2033"/>
                </a:lnTo>
                <a:lnTo>
                  <a:pt x="1954" y="1998"/>
                </a:lnTo>
                <a:lnTo>
                  <a:pt x="1988" y="1964"/>
                </a:lnTo>
                <a:lnTo>
                  <a:pt x="1988" y="1930"/>
                </a:lnTo>
                <a:lnTo>
                  <a:pt x="2022" y="1896"/>
                </a:lnTo>
                <a:lnTo>
                  <a:pt x="2022" y="1861"/>
                </a:lnTo>
                <a:lnTo>
                  <a:pt x="2057" y="1827"/>
                </a:lnTo>
                <a:lnTo>
                  <a:pt x="2057" y="1793"/>
                </a:lnTo>
                <a:lnTo>
                  <a:pt x="2057" y="1759"/>
                </a:lnTo>
                <a:lnTo>
                  <a:pt x="2057" y="1725"/>
                </a:lnTo>
                <a:lnTo>
                  <a:pt x="2091" y="1690"/>
                </a:lnTo>
                <a:lnTo>
                  <a:pt x="2091" y="1656"/>
                </a:lnTo>
                <a:lnTo>
                  <a:pt x="2091" y="1629"/>
                </a:lnTo>
                <a:lnTo>
                  <a:pt x="2091" y="1595"/>
                </a:lnTo>
                <a:lnTo>
                  <a:pt x="2125" y="1560"/>
                </a:lnTo>
                <a:lnTo>
                  <a:pt x="2125" y="1526"/>
                </a:lnTo>
                <a:lnTo>
                  <a:pt x="2125" y="1492"/>
                </a:lnTo>
                <a:lnTo>
                  <a:pt x="2125" y="1458"/>
                </a:lnTo>
                <a:lnTo>
                  <a:pt x="2125" y="1424"/>
                </a:lnTo>
                <a:lnTo>
                  <a:pt x="2125" y="1389"/>
                </a:lnTo>
                <a:lnTo>
                  <a:pt x="2159" y="1355"/>
                </a:lnTo>
                <a:lnTo>
                  <a:pt x="2159" y="1321"/>
                </a:lnTo>
                <a:lnTo>
                  <a:pt x="2159" y="1287"/>
                </a:lnTo>
                <a:lnTo>
                  <a:pt x="2159" y="1252"/>
                </a:lnTo>
                <a:lnTo>
                  <a:pt x="2159" y="1218"/>
                </a:lnTo>
                <a:lnTo>
                  <a:pt x="2159" y="1184"/>
                </a:lnTo>
                <a:lnTo>
                  <a:pt x="2159" y="1150"/>
                </a:lnTo>
                <a:lnTo>
                  <a:pt x="2194" y="1116"/>
                </a:lnTo>
                <a:lnTo>
                  <a:pt x="2194" y="1081"/>
                </a:lnTo>
                <a:lnTo>
                  <a:pt x="2194" y="1047"/>
                </a:lnTo>
                <a:lnTo>
                  <a:pt x="2194" y="1013"/>
                </a:lnTo>
                <a:lnTo>
                  <a:pt x="2194" y="986"/>
                </a:lnTo>
                <a:lnTo>
                  <a:pt x="2194" y="951"/>
                </a:lnTo>
                <a:lnTo>
                  <a:pt x="2194" y="917"/>
                </a:lnTo>
                <a:lnTo>
                  <a:pt x="2228" y="883"/>
                </a:lnTo>
                <a:lnTo>
                  <a:pt x="2228" y="849"/>
                </a:lnTo>
                <a:lnTo>
                  <a:pt x="2228" y="815"/>
                </a:lnTo>
                <a:lnTo>
                  <a:pt x="2228" y="780"/>
                </a:lnTo>
                <a:lnTo>
                  <a:pt x="2228" y="746"/>
                </a:lnTo>
                <a:lnTo>
                  <a:pt x="2228" y="712"/>
                </a:lnTo>
                <a:lnTo>
                  <a:pt x="2228" y="678"/>
                </a:lnTo>
                <a:lnTo>
                  <a:pt x="2255" y="643"/>
                </a:lnTo>
                <a:lnTo>
                  <a:pt x="2255" y="609"/>
                </a:lnTo>
                <a:lnTo>
                  <a:pt x="2255" y="575"/>
                </a:lnTo>
                <a:lnTo>
                  <a:pt x="2255" y="541"/>
                </a:lnTo>
                <a:lnTo>
                  <a:pt x="2255" y="507"/>
                </a:lnTo>
                <a:lnTo>
                  <a:pt x="2255" y="472"/>
                </a:lnTo>
                <a:lnTo>
                  <a:pt x="2255" y="438"/>
                </a:lnTo>
                <a:lnTo>
                  <a:pt x="2290" y="404"/>
                </a:lnTo>
                <a:lnTo>
                  <a:pt x="2290" y="370"/>
                </a:lnTo>
                <a:lnTo>
                  <a:pt x="2290" y="342"/>
                </a:lnTo>
                <a:lnTo>
                  <a:pt x="2290" y="308"/>
                </a:lnTo>
                <a:lnTo>
                  <a:pt x="2290" y="274"/>
                </a:lnTo>
                <a:lnTo>
                  <a:pt x="2290" y="240"/>
                </a:lnTo>
                <a:lnTo>
                  <a:pt x="2290" y="206"/>
                </a:lnTo>
                <a:lnTo>
                  <a:pt x="2324" y="171"/>
                </a:lnTo>
                <a:lnTo>
                  <a:pt x="2324" y="137"/>
                </a:lnTo>
                <a:lnTo>
                  <a:pt x="2324" y="103"/>
                </a:lnTo>
                <a:lnTo>
                  <a:pt x="2324" y="69"/>
                </a:lnTo>
                <a:lnTo>
                  <a:pt x="2324" y="34"/>
                </a:lnTo>
                <a:lnTo>
                  <a:pt x="2324" y="0"/>
                </a:lnTo>
                <a:lnTo>
                  <a:pt x="2290" y="0"/>
                </a:lnTo>
                <a:lnTo>
                  <a:pt x="2255" y="0"/>
                </a:lnTo>
                <a:lnTo>
                  <a:pt x="2228" y="0"/>
                </a:lnTo>
                <a:lnTo>
                  <a:pt x="2194" y="0"/>
                </a:lnTo>
                <a:lnTo>
                  <a:pt x="2159" y="34"/>
                </a:lnTo>
                <a:lnTo>
                  <a:pt x="2125" y="34"/>
                </a:lnTo>
                <a:lnTo>
                  <a:pt x="2091" y="34"/>
                </a:lnTo>
                <a:lnTo>
                  <a:pt x="2057" y="69"/>
                </a:lnTo>
                <a:lnTo>
                  <a:pt x="2022" y="69"/>
                </a:lnTo>
                <a:lnTo>
                  <a:pt x="1988" y="69"/>
                </a:lnTo>
                <a:lnTo>
                  <a:pt x="1954" y="103"/>
                </a:lnTo>
                <a:lnTo>
                  <a:pt x="1920" y="103"/>
                </a:lnTo>
                <a:lnTo>
                  <a:pt x="1885" y="137"/>
                </a:lnTo>
                <a:lnTo>
                  <a:pt x="1851" y="137"/>
                </a:lnTo>
                <a:lnTo>
                  <a:pt x="1824" y="137"/>
                </a:lnTo>
                <a:lnTo>
                  <a:pt x="1789" y="171"/>
                </a:lnTo>
                <a:lnTo>
                  <a:pt x="1755" y="171"/>
                </a:lnTo>
                <a:lnTo>
                  <a:pt x="1721" y="171"/>
                </a:lnTo>
                <a:lnTo>
                  <a:pt x="1686" y="206"/>
                </a:lnTo>
                <a:lnTo>
                  <a:pt x="1652" y="206"/>
                </a:lnTo>
                <a:lnTo>
                  <a:pt x="1618" y="206"/>
                </a:lnTo>
                <a:lnTo>
                  <a:pt x="1584" y="240"/>
                </a:lnTo>
                <a:lnTo>
                  <a:pt x="1549" y="240"/>
                </a:lnTo>
                <a:lnTo>
                  <a:pt x="1515" y="240"/>
                </a:lnTo>
                <a:lnTo>
                  <a:pt x="1481" y="274"/>
                </a:lnTo>
                <a:lnTo>
                  <a:pt x="1446" y="274"/>
                </a:lnTo>
                <a:lnTo>
                  <a:pt x="1419" y="274"/>
                </a:lnTo>
                <a:lnTo>
                  <a:pt x="1385" y="308"/>
                </a:lnTo>
                <a:lnTo>
                  <a:pt x="1350" y="308"/>
                </a:lnTo>
                <a:lnTo>
                  <a:pt x="1316" y="308"/>
                </a:lnTo>
                <a:lnTo>
                  <a:pt x="1282" y="342"/>
                </a:lnTo>
                <a:lnTo>
                  <a:pt x="1248" y="342"/>
                </a:lnTo>
                <a:lnTo>
                  <a:pt x="1213" y="370"/>
                </a:lnTo>
                <a:lnTo>
                  <a:pt x="1179" y="370"/>
                </a:lnTo>
                <a:lnTo>
                  <a:pt x="1145" y="370"/>
                </a:lnTo>
                <a:lnTo>
                  <a:pt x="1111" y="404"/>
                </a:lnTo>
                <a:lnTo>
                  <a:pt x="1076" y="404"/>
                </a:lnTo>
                <a:lnTo>
                  <a:pt x="1042" y="404"/>
                </a:lnTo>
                <a:lnTo>
                  <a:pt x="1015" y="438"/>
                </a:lnTo>
                <a:lnTo>
                  <a:pt x="980" y="438"/>
                </a:lnTo>
                <a:lnTo>
                  <a:pt x="946" y="438"/>
                </a:lnTo>
                <a:lnTo>
                  <a:pt x="912" y="472"/>
                </a:lnTo>
                <a:lnTo>
                  <a:pt x="877" y="472"/>
                </a:lnTo>
                <a:lnTo>
                  <a:pt x="843" y="472"/>
                </a:lnTo>
                <a:lnTo>
                  <a:pt x="809" y="507"/>
                </a:lnTo>
                <a:lnTo>
                  <a:pt x="775" y="507"/>
                </a:lnTo>
                <a:lnTo>
                  <a:pt x="740" y="507"/>
                </a:lnTo>
                <a:lnTo>
                  <a:pt x="706" y="541"/>
                </a:lnTo>
                <a:lnTo>
                  <a:pt x="672" y="541"/>
                </a:lnTo>
                <a:lnTo>
                  <a:pt x="637" y="541"/>
                </a:lnTo>
                <a:lnTo>
                  <a:pt x="603" y="575"/>
                </a:lnTo>
                <a:lnTo>
                  <a:pt x="576" y="575"/>
                </a:lnTo>
                <a:lnTo>
                  <a:pt x="541" y="575"/>
                </a:lnTo>
                <a:lnTo>
                  <a:pt x="507" y="609"/>
                </a:lnTo>
                <a:lnTo>
                  <a:pt x="473" y="609"/>
                </a:lnTo>
                <a:lnTo>
                  <a:pt x="439" y="643"/>
                </a:lnTo>
                <a:lnTo>
                  <a:pt x="404" y="643"/>
                </a:lnTo>
                <a:lnTo>
                  <a:pt x="370" y="643"/>
                </a:lnTo>
                <a:lnTo>
                  <a:pt x="336" y="678"/>
                </a:lnTo>
                <a:lnTo>
                  <a:pt x="302" y="678"/>
                </a:lnTo>
                <a:lnTo>
                  <a:pt x="267" y="678"/>
                </a:lnTo>
                <a:lnTo>
                  <a:pt x="233" y="712"/>
                </a:lnTo>
                <a:lnTo>
                  <a:pt x="199" y="712"/>
                </a:lnTo>
                <a:lnTo>
                  <a:pt x="171" y="712"/>
                </a:lnTo>
                <a:lnTo>
                  <a:pt x="137" y="746"/>
                </a:lnTo>
                <a:lnTo>
                  <a:pt x="103" y="746"/>
                </a:lnTo>
                <a:lnTo>
                  <a:pt x="103" y="780"/>
                </a:lnTo>
                <a:lnTo>
                  <a:pt x="103" y="815"/>
                </a:lnTo>
                <a:lnTo>
                  <a:pt x="103" y="849"/>
                </a:lnTo>
                <a:lnTo>
                  <a:pt x="103" y="883"/>
                </a:lnTo>
                <a:lnTo>
                  <a:pt x="103" y="917"/>
                </a:lnTo>
                <a:lnTo>
                  <a:pt x="68" y="951"/>
                </a:lnTo>
                <a:lnTo>
                  <a:pt x="68" y="986"/>
                </a:lnTo>
                <a:lnTo>
                  <a:pt x="68" y="1013"/>
                </a:lnTo>
                <a:lnTo>
                  <a:pt x="68" y="1047"/>
                </a:lnTo>
                <a:lnTo>
                  <a:pt x="68" y="1081"/>
                </a:lnTo>
                <a:lnTo>
                  <a:pt x="68" y="1116"/>
                </a:lnTo>
                <a:lnTo>
                  <a:pt x="68" y="1150"/>
                </a:lnTo>
                <a:lnTo>
                  <a:pt x="68" y="1184"/>
                </a:lnTo>
                <a:lnTo>
                  <a:pt x="68" y="1218"/>
                </a:lnTo>
                <a:lnTo>
                  <a:pt x="68" y="1252"/>
                </a:lnTo>
                <a:lnTo>
                  <a:pt x="68" y="1287"/>
                </a:lnTo>
                <a:lnTo>
                  <a:pt x="68" y="1321"/>
                </a:lnTo>
                <a:lnTo>
                  <a:pt x="68" y="1355"/>
                </a:lnTo>
                <a:lnTo>
                  <a:pt x="68" y="1389"/>
                </a:lnTo>
                <a:lnTo>
                  <a:pt x="68" y="1424"/>
                </a:lnTo>
                <a:lnTo>
                  <a:pt x="68" y="1458"/>
                </a:lnTo>
                <a:lnTo>
                  <a:pt x="68" y="1492"/>
                </a:lnTo>
                <a:lnTo>
                  <a:pt x="68" y="1526"/>
                </a:lnTo>
                <a:lnTo>
                  <a:pt x="34" y="1560"/>
                </a:lnTo>
                <a:lnTo>
                  <a:pt x="34" y="1595"/>
                </a:lnTo>
                <a:lnTo>
                  <a:pt x="34" y="1629"/>
                </a:lnTo>
                <a:lnTo>
                  <a:pt x="34" y="1656"/>
                </a:lnTo>
                <a:lnTo>
                  <a:pt x="34" y="1690"/>
                </a:lnTo>
                <a:lnTo>
                  <a:pt x="34" y="1725"/>
                </a:lnTo>
                <a:lnTo>
                  <a:pt x="34" y="1759"/>
                </a:lnTo>
                <a:lnTo>
                  <a:pt x="34" y="1793"/>
                </a:lnTo>
                <a:lnTo>
                  <a:pt x="34" y="1827"/>
                </a:lnTo>
                <a:lnTo>
                  <a:pt x="34" y="1861"/>
                </a:lnTo>
                <a:lnTo>
                  <a:pt x="34" y="1896"/>
                </a:lnTo>
                <a:lnTo>
                  <a:pt x="34" y="1930"/>
                </a:lnTo>
                <a:lnTo>
                  <a:pt x="34" y="1964"/>
                </a:lnTo>
                <a:lnTo>
                  <a:pt x="34" y="1998"/>
                </a:lnTo>
                <a:lnTo>
                  <a:pt x="34" y="2033"/>
                </a:lnTo>
                <a:lnTo>
                  <a:pt x="34" y="2067"/>
                </a:lnTo>
                <a:lnTo>
                  <a:pt x="34" y="2101"/>
                </a:lnTo>
                <a:lnTo>
                  <a:pt x="0" y="2135"/>
                </a:lnTo>
                <a:lnTo>
                  <a:pt x="0" y="2169"/>
                </a:lnTo>
                <a:lnTo>
                  <a:pt x="0" y="2204"/>
                </a:lnTo>
                <a:lnTo>
                  <a:pt x="0" y="2238"/>
                </a:lnTo>
                <a:lnTo>
                  <a:pt x="0" y="2272"/>
                </a:lnTo>
                <a:lnTo>
                  <a:pt x="0" y="2299"/>
                </a:lnTo>
                <a:lnTo>
                  <a:pt x="0" y="2334"/>
                </a:lnTo>
                <a:lnTo>
                  <a:pt x="0" y="2368"/>
                </a:lnTo>
                <a:lnTo>
                  <a:pt x="0" y="2402"/>
                </a:lnTo>
                <a:lnTo>
                  <a:pt x="0" y="2436"/>
                </a:lnTo>
                <a:lnTo>
                  <a:pt x="0" y="2470"/>
                </a:lnTo>
                <a:lnTo>
                  <a:pt x="0" y="2505"/>
                </a:lnTo>
                <a:lnTo>
                  <a:pt x="0" y="2539"/>
                </a:lnTo>
                <a:lnTo>
                  <a:pt x="0" y="2573"/>
                </a:lnTo>
                <a:lnTo>
                  <a:pt x="0" y="2607"/>
                </a:lnTo>
                <a:lnTo>
                  <a:pt x="0" y="2642"/>
                </a:lnTo>
                <a:lnTo>
                  <a:pt x="0" y="2676"/>
                </a:lnTo>
                <a:lnTo>
                  <a:pt x="0" y="2710"/>
                </a:lnTo>
                <a:lnTo>
                  <a:pt x="0" y="2744"/>
                </a:lnTo>
                <a:lnTo>
                  <a:pt x="34" y="2744"/>
                </a:lnTo>
                <a:lnTo>
                  <a:pt x="68" y="2778"/>
                </a:lnTo>
                <a:lnTo>
                  <a:pt x="103" y="2778"/>
                </a:lnTo>
                <a:lnTo>
                  <a:pt x="137" y="2813"/>
                </a:lnTo>
                <a:lnTo>
                  <a:pt x="171" y="2847"/>
                </a:lnTo>
                <a:lnTo>
                  <a:pt x="199" y="2847"/>
                </a:lnTo>
                <a:lnTo>
                  <a:pt x="233" y="2881"/>
                </a:lnTo>
                <a:lnTo>
                  <a:pt x="267" y="2915"/>
                </a:lnTo>
                <a:lnTo>
                  <a:pt x="302" y="2915"/>
                </a:lnTo>
                <a:lnTo>
                  <a:pt x="336" y="2943"/>
                </a:lnTo>
                <a:lnTo>
                  <a:pt x="370" y="2977"/>
                </a:lnTo>
                <a:lnTo>
                  <a:pt x="404" y="2977"/>
                </a:lnTo>
                <a:lnTo>
                  <a:pt x="439" y="3011"/>
                </a:lnTo>
                <a:lnTo>
                  <a:pt x="473" y="3045"/>
                </a:lnTo>
                <a:lnTo>
                  <a:pt x="507" y="3045"/>
                </a:lnTo>
                <a:lnTo>
                  <a:pt x="541" y="3079"/>
                </a:lnTo>
                <a:lnTo>
                  <a:pt x="576" y="3079"/>
                </a:lnTo>
                <a:lnTo>
                  <a:pt x="603" y="3114"/>
                </a:lnTo>
                <a:lnTo>
                  <a:pt x="637" y="3148"/>
                </a:lnTo>
                <a:lnTo>
                  <a:pt x="672" y="3148"/>
                </a:lnTo>
                <a:lnTo>
                  <a:pt x="706" y="3182"/>
                </a:lnTo>
                <a:lnTo>
                  <a:pt x="740" y="3216"/>
                </a:lnTo>
                <a:lnTo>
                  <a:pt x="775" y="3216"/>
                </a:lnTo>
                <a:lnTo>
                  <a:pt x="809" y="3251"/>
                </a:lnTo>
                <a:lnTo>
                  <a:pt x="843" y="3251"/>
                </a:lnTo>
                <a:lnTo>
                  <a:pt x="877" y="3285"/>
                </a:lnTo>
                <a:lnTo>
                  <a:pt x="912" y="3285"/>
                </a:lnTo>
                <a:lnTo>
                  <a:pt x="946" y="3285"/>
                </a:lnTo>
                <a:lnTo>
                  <a:pt x="980" y="3285"/>
                </a:lnTo>
                <a:close/>
                <a:moveTo>
                  <a:pt x="939" y="1793"/>
                </a:moveTo>
                <a:lnTo>
                  <a:pt x="946" y="1793"/>
                </a:lnTo>
                <a:lnTo>
                  <a:pt x="953" y="1793"/>
                </a:lnTo>
                <a:lnTo>
                  <a:pt x="953" y="1786"/>
                </a:lnTo>
                <a:lnTo>
                  <a:pt x="960" y="1786"/>
                </a:lnTo>
                <a:lnTo>
                  <a:pt x="960" y="1786"/>
                </a:lnTo>
                <a:lnTo>
                  <a:pt x="967" y="1786"/>
                </a:lnTo>
                <a:lnTo>
                  <a:pt x="967" y="1786"/>
                </a:lnTo>
                <a:lnTo>
                  <a:pt x="973" y="1786"/>
                </a:lnTo>
                <a:lnTo>
                  <a:pt x="980" y="1786"/>
                </a:lnTo>
                <a:lnTo>
                  <a:pt x="980" y="1793"/>
                </a:lnTo>
                <a:lnTo>
                  <a:pt x="980" y="1800"/>
                </a:lnTo>
                <a:lnTo>
                  <a:pt x="973" y="1800"/>
                </a:lnTo>
                <a:lnTo>
                  <a:pt x="967" y="1800"/>
                </a:lnTo>
                <a:lnTo>
                  <a:pt x="967" y="1800"/>
                </a:lnTo>
                <a:lnTo>
                  <a:pt x="960" y="1800"/>
                </a:lnTo>
                <a:lnTo>
                  <a:pt x="960" y="1800"/>
                </a:lnTo>
                <a:lnTo>
                  <a:pt x="953" y="1800"/>
                </a:lnTo>
                <a:lnTo>
                  <a:pt x="953" y="1800"/>
                </a:lnTo>
                <a:lnTo>
                  <a:pt x="946" y="1800"/>
                </a:lnTo>
                <a:lnTo>
                  <a:pt x="939" y="1793"/>
                </a:lnTo>
                <a:close/>
                <a:moveTo>
                  <a:pt x="1419" y="1629"/>
                </a:moveTo>
                <a:lnTo>
                  <a:pt x="1412" y="1622"/>
                </a:lnTo>
                <a:lnTo>
                  <a:pt x="1405" y="1622"/>
                </a:lnTo>
                <a:lnTo>
                  <a:pt x="1398" y="1622"/>
                </a:lnTo>
                <a:lnTo>
                  <a:pt x="1392" y="1622"/>
                </a:lnTo>
                <a:lnTo>
                  <a:pt x="1385" y="1615"/>
                </a:lnTo>
                <a:lnTo>
                  <a:pt x="1378" y="1608"/>
                </a:lnTo>
                <a:lnTo>
                  <a:pt x="1378" y="1601"/>
                </a:lnTo>
                <a:lnTo>
                  <a:pt x="1378" y="1588"/>
                </a:lnTo>
                <a:lnTo>
                  <a:pt x="1371" y="1581"/>
                </a:lnTo>
                <a:lnTo>
                  <a:pt x="1378" y="1567"/>
                </a:lnTo>
                <a:lnTo>
                  <a:pt x="1378" y="1560"/>
                </a:lnTo>
                <a:lnTo>
                  <a:pt x="1385" y="1554"/>
                </a:lnTo>
                <a:lnTo>
                  <a:pt x="1385" y="1547"/>
                </a:lnTo>
                <a:lnTo>
                  <a:pt x="1392" y="1547"/>
                </a:lnTo>
                <a:lnTo>
                  <a:pt x="1398" y="1547"/>
                </a:lnTo>
                <a:lnTo>
                  <a:pt x="1405" y="1540"/>
                </a:lnTo>
                <a:lnTo>
                  <a:pt x="1412" y="1540"/>
                </a:lnTo>
                <a:lnTo>
                  <a:pt x="1426" y="1540"/>
                </a:lnTo>
                <a:lnTo>
                  <a:pt x="1433" y="1547"/>
                </a:lnTo>
                <a:lnTo>
                  <a:pt x="1440" y="1547"/>
                </a:lnTo>
                <a:lnTo>
                  <a:pt x="1446" y="1547"/>
                </a:lnTo>
                <a:lnTo>
                  <a:pt x="1446" y="1554"/>
                </a:lnTo>
                <a:lnTo>
                  <a:pt x="1453" y="1554"/>
                </a:lnTo>
                <a:lnTo>
                  <a:pt x="1460" y="1560"/>
                </a:lnTo>
                <a:lnTo>
                  <a:pt x="1467" y="1567"/>
                </a:lnTo>
                <a:lnTo>
                  <a:pt x="1467" y="1581"/>
                </a:lnTo>
                <a:lnTo>
                  <a:pt x="1467" y="1588"/>
                </a:lnTo>
                <a:lnTo>
                  <a:pt x="1474" y="1601"/>
                </a:lnTo>
                <a:lnTo>
                  <a:pt x="1474" y="1608"/>
                </a:lnTo>
                <a:lnTo>
                  <a:pt x="1474" y="1622"/>
                </a:lnTo>
                <a:lnTo>
                  <a:pt x="1467" y="1629"/>
                </a:lnTo>
                <a:lnTo>
                  <a:pt x="1460" y="1629"/>
                </a:lnTo>
                <a:lnTo>
                  <a:pt x="1453" y="1629"/>
                </a:lnTo>
                <a:lnTo>
                  <a:pt x="1446" y="1629"/>
                </a:lnTo>
                <a:lnTo>
                  <a:pt x="1440" y="1629"/>
                </a:lnTo>
                <a:lnTo>
                  <a:pt x="1433" y="1629"/>
                </a:lnTo>
                <a:lnTo>
                  <a:pt x="1426" y="1629"/>
                </a:lnTo>
                <a:lnTo>
                  <a:pt x="1419" y="1629"/>
                </a:lnTo>
                <a:close/>
                <a:moveTo>
                  <a:pt x="1042" y="1560"/>
                </a:moveTo>
                <a:lnTo>
                  <a:pt x="1042" y="1554"/>
                </a:lnTo>
                <a:lnTo>
                  <a:pt x="1042" y="1554"/>
                </a:lnTo>
                <a:lnTo>
                  <a:pt x="1042" y="1554"/>
                </a:lnTo>
                <a:lnTo>
                  <a:pt x="1042" y="1554"/>
                </a:lnTo>
                <a:lnTo>
                  <a:pt x="1042" y="1554"/>
                </a:lnTo>
                <a:lnTo>
                  <a:pt x="1049" y="1554"/>
                </a:lnTo>
                <a:lnTo>
                  <a:pt x="1049" y="1560"/>
                </a:lnTo>
                <a:lnTo>
                  <a:pt x="1049" y="1560"/>
                </a:lnTo>
                <a:lnTo>
                  <a:pt x="1042" y="1560"/>
                </a:lnTo>
                <a:lnTo>
                  <a:pt x="1042" y="1560"/>
                </a:lnTo>
                <a:lnTo>
                  <a:pt x="1042" y="1560"/>
                </a:lnTo>
                <a:lnTo>
                  <a:pt x="1042" y="1560"/>
                </a:lnTo>
                <a:lnTo>
                  <a:pt x="1042" y="1560"/>
                </a:lnTo>
                <a:lnTo>
                  <a:pt x="1042" y="1560"/>
                </a:lnTo>
                <a:close/>
                <a:moveTo>
                  <a:pt x="1577" y="678"/>
                </a:moveTo>
                <a:lnTo>
                  <a:pt x="1584" y="671"/>
                </a:lnTo>
                <a:lnTo>
                  <a:pt x="1584" y="664"/>
                </a:lnTo>
                <a:lnTo>
                  <a:pt x="1590" y="657"/>
                </a:lnTo>
                <a:lnTo>
                  <a:pt x="1597" y="650"/>
                </a:lnTo>
                <a:lnTo>
                  <a:pt x="1597" y="637"/>
                </a:lnTo>
                <a:lnTo>
                  <a:pt x="1604" y="637"/>
                </a:lnTo>
                <a:lnTo>
                  <a:pt x="1611" y="630"/>
                </a:lnTo>
                <a:lnTo>
                  <a:pt x="1618" y="623"/>
                </a:lnTo>
                <a:lnTo>
                  <a:pt x="1625" y="616"/>
                </a:lnTo>
                <a:lnTo>
                  <a:pt x="1632" y="616"/>
                </a:lnTo>
                <a:lnTo>
                  <a:pt x="1638" y="609"/>
                </a:lnTo>
                <a:lnTo>
                  <a:pt x="1645" y="609"/>
                </a:lnTo>
                <a:lnTo>
                  <a:pt x="1652" y="616"/>
                </a:lnTo>
                <a:lnTo>
                  <a:pt x="1659" y="616"/>
                </a:lnTo>
                <a:lnTo>
                  <a:pt x="1666" y="630"/>
                </a:lnTo>
                <a:lnTo>
                  <a:pt x="1666" y="637"/>
                </a:lnTo>
                <a:lnTo>
                  <a:pt x="1666" y="643"/>
                </a:lnTo>
                <a:lnTo>
                  <a:pt x="1666" y="657"/>
                </a:lnTo>
                <a:lnTo>
                  <a:pt x="1666" y="664"/>
                </a:lnTo>
                <a:lnTo>
                  <a:pt x="1659" y="671"/>
                </a:lnTo>
                <a:lnTo>
                  <a:pt x="1652" y="678"/>
                </a:lnTo>
                <a:lnTo>
                  <a:pt x="1645" y="685"/>
                </a:lnTo>
                <a:lnTo>
                  <a:pt x="1638" y="685"/>
                </a:lnTo>
                <a:lnTo>
                  <a:pt x="1632" y="691"/>
                </a:lnTo>
                <a:lnTo>
                  <a:pt x="1625" y="691"/>
                </a:lnTo>
                <a:lnTo>
                  <a:pt x="1618" y="691"/>
                </a:lnTo>
                <a:lnTo>
                  <a:pt x="1611" y="691"/>
                </a:lnTo>
                <a:lnTo>
                  <a:pt x="1604" y="691"/>
                </a:lnTo>
                <a:lnTo>
                  <a:pt x="1597" y="691"/>
                </a:lnTo>
                <a:lnTo>
                  <a:pt x="1590" y="685"/>
                </a:lnTo>
                <a:lnTo>
                  <a:pt x="1584" y="685"/>
                </a:lnTo>
                <a:lnTo>
                  <a:pt x="1577" y="678"/>
                </a:lnTo>
                <a:close/>
                <a:moveTo>
                  <a:pt x="980" y="3285"/>
                </a:moveTo>
                <a:lnTo>
                  <a:pt x="1015" y="3251"/>
                </a:lnTo>
                <a:lnTo>
                  <a:pt x="1042" y="3251"/>
                </a:lnTo>
                <a:lnTo>
                  <a:pt x="1076" y="3216"/>
                </a:lnTo>
                <a:lnTo>
                  <a:pt x="1111" y="3216"/>
                </a:lnTo>
                <a:lnTo>
                  <a:pt x="1145" y="3216"/>
                </a:lnTo>
                <a:lnTo>
                  <a:pt x="1179" y="3182"/>
                </a:lnTo>
                <a:lnTo>
                  <a:pt x="1213" y="3182"/>
                </a:lnTo>
                <a:lnTo>
                  <a:pt x="1248" y="3148"/>
                </a:lnTo>
                <a:lnTo>
                  <a:pt x="1282" y="3148"/>
                </a:lnTo>
                <a:lnTo>
                  <a:pt x="1316" y="3114"/>
                </a:lnTo>
                <a:lnTo>
                  <a:pt x="1350" y="3114"/>
                </a:lnTo>
                <a:lnTo>
                  <a:pt x="1385" y="3114"/>
                </a:lnTo>
                <a:lnTo>
                  <a:pt x="1385" y="3079"/>
                </a:lnTo>
                <a:lnTo>
                  <a:pt x="1419" y="3045"/>
                </a:lnTo>
                <a:lnTo>
                  <a:pt x="1419" y="3011"/>
                </a:lnTo>
                <a:lnTo>
                  <a:pt x="1446" y="2977"/>
                </a:lnTo>
                <a:lnTo>
                  <a:pt x="1446" y="2943"/>
                </a:lnTo>
                <a:lnTo>
                  <a:pt x="1481" y="2915"/>
                </a:lnTo>
                <a:lnTo>
                  <a:pt x="1481" y="2881"/>
                </a:lnTo>
                <a:lnTo>
                  <a:pt x="1515" y="2847"/>
                </a:lnTo>
                <a:lnTo>
                  <a:pt x="1549" y="2813"/>
                </a:lnTo>
                <a:lnTo>
                  <a:pt x="1549" y="2778"/>
                </a:lnTo>
                <a:lnTo>
                  <a:pt x="1584" y="2744"/>
                </a:lnTo>
                <a:lnTo>
                  <a:pt x="1584" y="2710"/>
                </a:lnTo>
                <a:lnTo>
                  <a:pt x="1618" y="2676"/>
                </a:lnTo>
                <a:lnTo>
                  <a:pt x="1618" y="2642"/>
                </a:lnTo>
                <a:lnTo>
                  <a:pt x="1652" y="2607"/>
                </a:lnTo>
                <a:lnTo>
                  <a:pt x="1652" y="2573"/>
                </a:lnTo>
                <a:lnTo>
                  <a:pt x="1686" y="2539"/>
                </a:lnTo>
                <a:lnTo>
                  <a:pt x="1686" y="2505"/>
                </a:lnTo>
                <a:lnTo>
                  <a:pt x="1721" y="2470"/>
                </a:lnTo>
                <a:lnTo>
                  <a:pt x="1721" y="2436"/>
                </a:lnTo>
                <a:lnTo>
                  <a:pt x="1755" y="2402"/>
                </a:lnTo>
                <a:lnTo>
                  <a:pt x="1755" y="2368"/>
                </a:lnTo>
                <a:lnTo>
                  <a:pt x="1789" y="2334"/>
                </a:lnTo>
                <a:lnTo>
                  <a:pt x="1824" y="2299"/>
                </a:lnTo>
                <a:lnTo>
                  <a:pt x="1824" y="2272"/>
                </a:lnTo>
                <a:lnTo>
                  <a:pt x="1851" y="2238"/>
                </a:lnTo>
                <a:lnTo>
                  <a:pt x="1851" y="2204"/>
                </a:lnTo>
                <a:lnTo>
                  <a:pt x="1885" y="2169"/>
                </a:lnTo>
                <a:lnTo>
                  <a:pt x="1885" y="2135"/>
                </a:lnTo>
                <a:lnTo>
                  <a:pt x="1920" y="2101"/>
                </a:lnTo>
                <a:lnTo>
                  <a:pt x="1920" y="2067"/>
                </a:lnTo>
                <a:lnTo>
                  <a:pt x="1954" y="2033"/>
                </a:lnTo>
                <a:lnTo>
                  <a:pt x="1954" y="1998"/>
                </a:lnTo>
                <a:lnTo>
                  <a:pt x="1988" y="1964"/>
                </a:lnTo>
                <a:lnTo>
                  <a:pt x="1988" y="1930"/>
                </a:lnTo>
                <a:lnTo>
                  <a:pt x="2022" y="1896"/>
                </a:lnTo>
                <a:lnTo>
                  <a:pt x="2022" y="1861"/>
                </a:lnTo>
                <a:lnTo>
                  <a:pt x="2057" y="1827"/>
                </a:lnTo>
                <a:lnTo>
                  <a:pt x="2057" y="1793"/>
                </a:lnTo>
                <a:lnTo>
                  <a:pt x="2057" y="1759"/>
                </a:lnTo>
                <a:lnTo>
                  <a:pt x="2057" y="1725"/>
                </a:lnTo>
                <a:lnTo>
                  <a:pt x="2091" y="1690"/>
                </a:lnTo>
                <a:lnTo>
                  <a:pt x="2091" y="1656"/>
                </a:lnTo>
                <a:lnTo>
                  <a:pt x="2091" y="1629"/>
                </a:lnTo>
                <a:lnTo>
                  <a:pt x="2091" y="1595"/>
                </a:lnTo>
                <a:lnTo>
                  <a:pt x="2125" y="1560"/>
                </a:lnTo>
                <a:lnTo>
                  <a:pt x="2125" y="1526"/>
                </a:lnTo>
                <a:lnTo>
                  <a:pt x="2125" y="1492"/>
                </a:lnTo>
                <a:lnTo>
                  <a:pt x="2125" y="1458"/>
                </a:lnTo>
                <a:lnTo>
                  <a:pt x="2125" y="1424"/>
                </a:lnTo>
                <a:lnTo>
                  <a:pt x="2125" y="1389"/>
                </a:lnTo>
                <a:lnTo>
                  <a:pt x="2159" y="1355"/>
                </a:lnTo>
                <a:lnTo>
                  <a:pt x="2159" y="1321"/>
                </a:lnTo>
                <a:lnTo>
                  <a:pt x="2159" y="1287"/>
                </a:lnTo>
                <a:lnTo>
                  <a:pt x="2159" y="1252"/>
                </a:lnTo>
                <a:lnTo>
                  <a:pt x="2159" y="1218"/>
                </a:lnTo>
                <a:lnTo>
                  <a:pt x="2159" y="1184"/>
                </a:lnTo>
                <a:lnTo>
                  <a:pt x="2159" y="1150"/>
                </a:lnTo>
                <a:lnTo>
                  <a:pt x="2194" y="1116"/>
                </a:lnTo>
                <a:lnTo>
                  <a:pt x="2194" y="1081"/>
                </a:lnTo>
                <a:lnTo>
                  <a:pt x="2194" y="1047"/>
                </a:lnTo>
                <a:lnTo>
                  <a:pt x="2194" y="1013"/>
                </a:lnTo>
                <a:lnTo>
                  <a:pt x="2194" y="986"/>
                </a:lnTo>
                <a:lnTo>
                  <a:pt x="2194" y="951"/>
                </a:lnTo>
                <a:lnTo>
                  <a:pt x="2194" y="917"/>
                </a:lnTo>
                <a:lnTo>
                  <a:pt x="2228" y="883"/>
                </a:lnTo>
                <a:lnTo>
                  <a:pt x="2228" y="849"/>
                </a:lnTo>
                <a:lnTo>
                  <a:pt x="2228" y="815"/>
                </a:lnTo>
                <a:lnTo>
                  <a:pt x="2228" y="780"/>
                </a:lnTo>
                <a:lnTo>
                  <a:pt x="2228" y="746"/>
                </a:lnTo>
                <a:lnTo>
                  <a:pt x="2228" y="712"/>
                </a:lnTo>
                <a:lnTo>
                  <a:pt x="2228" y="678"/>
                </a:lnTo>
                <a:lnTo>
                  <a:pt x="2255" y="643"/>
                </a:lnTo>
                <a:lnTo>
                  <a:pt x="2255" y="609"/>
                </a:lnTo>
                <a:lnTo>
                  <a:pt x="2255" y="575"/>
                </a:lnTo>
                <a:lnTo>
                  <a:pt x="2255" y="541"/>
                </a:lnTo>
                <a:lnTo>
                  <a:pt x="2255" y="507"/>
                </a:lnTo>
                <a:lnTo>
                  <a:pt x="2255" y="472"/>
                </a:lnTo>
                <a:lnTo>
                  <a:pt x="2255" y="438"/>
                </a:lnTo>
                <a:lnTo>
                  <a:pt x="2290" y="404"/>
                </a:lnTo>
                <a:lnTo>
                  <a:pt x="2290" y="370"/>
                </a:lnTo>
                <a:lnTo>
                  <a:pt x="2290" y="342"/>
                </a:lnTo>
                <a:lnTo>
                  <a:pt x="2290" y="308"/>
                </a:lnTo>
                <a:lnTo>
                  <a:pt x="2290" y="274"/>
                </a:lnTo>
                <a:lnTo>
                  <a:pt x="2290" y="240"/>
                </a:lnTo>
                <a:lnTo>
                  <a:pt x="2290" y="206"/>
                </a:lnTo>
                <a:lnTo>
                  <a:pt x="2324" y="171"/>
                </a:lnTo>
                <a:lnTo>
                  <a:pt x="2324" y="137"/>
                </a:lnTo>
                <a:lnTo>
                  <a:pt x="2324" y="103"/>
                </a:lnTo>
                <a:lnTo>
                  <a:pt x="2324" y="69"/>
                </a:lnTo>
                <a:lnTo>
                  <a:pt x="2324" y="34"/>
                </a:lnTo>
                <a:lnTo>
                  <a:pt x="2324" y="0"/>
                </a:lnTo>
                <a:lnTo>
                  <a:pt x="2290" y="0"/>
                </a:lnTo>
                <a:lnTo>
                  <a:pt x="2255" y="0"/>
                </a:lnTo>
                <a:lnTo>
                  <a:pt x="2228" y="0"/>
                </a:lnTo>
                <a:lnTo>
                  <a:pt x="2194" y="0"/>
                </a:lnTo>
                <a:lnTo>
                  <a:pt x="2159" y="34"/>
                </a:lnTo>
                <a:lnTo>
                  <a:pt x="2125" y="34"/>
                </a:lnTo>
                <a:lnTo>
                  <a:pt x="2091" y="34"/>
                </a:lnTo>
                <a:lnTo>
                  <a:pt x="2057" y="69"/>
                </a:lnTo>
                <a:lnTo>
                  <a:pt x="2022" y="69"/>
                </a:lnTo>
                <a:lnTo>
                  <a:pt x="1988" y="69"/>
                </a:lnTo>
                <a:lnTo>
                  <a:pt x="1954" y="103"/>
                </a:lnTo>
                <a:lnTo>
                  <a:pt x="1920" y="103"/>
                </a:lnTo>
                <a:lnTo>
                  <a:pt x="1885" y="137"/>
                </a:lnTo>
                <a:lnTo>
                  <a:pt x="1851" y="137"/>
                </a:lnTo>
                <a:lnTo>
                  <a:pt x="1824" y="137"/>
                </a:lnTo>
                <a:lnTo>
                  <a:pt x="1789" y="171"/>
                </a:lnTo>
                <a:lnTo>
                  <a:pt x="1755" y="171"/>
                </a:lnTo>
                <a:lnTo>
                  <a:pt x="1721" y="171"/>
                </a:lnTo>
                <a:lnTo>
                  <a:pt x="1686" y="206"/>
                </a:lnTo>
                <a:lnTo>
                  <a:pt x="1652" y="206"/>
                </a:lnTo>
                <a:lnTo>
                  <a:pt x="1618" y="206"/>
                </a:lnTo>
                <a:lnTo>
                  <a:pt x="1584" y="240"/>
                </a:lnTo>
                <a:lnTo>
                  <a:pt x="1549" y="240"/>
                </a:lnTo>
                <a:lnTo>
                  <a:pt x="1515" y="240"/>
                </a:lnTo>
                <a:lnTo>
                  <a:pt x="1481" y="274"/>
                </a:lnTo>
                <a:lnTo>
                  <a:pt x="1446" y="274"/>
                </a:lnTo>
                <a:lnTo>
                  <a:pt x="1419" y="274"/>
                </a:lnTo>
                <a:lnTo>
                  <a:pt x="1385" y="308"/>
                </a:lnTo>
                <a:lnTo>
                  <a:pt x="1350" y="308"/>
                </a:lnTo>
                <a:lnTo>
                  <a:pt x="1316" y="308"/>
                </a:lnTo>
                <a:lnTo>
                  <a:pt x="1282" y="342"/>
                </a:lnTo>
                <a:lnTo>
                  <a:pt x="1248" y="342"/>
                </a:lnTo>
                <a:lnTo>
                  <a:pt x="1213" y="370"/>
                </a:lnTo>
                <a:lnTo>
                  <a:pt x="1179" y="370"/>
                </a:lnTo>
                <a:lnTo>
                  <a:pt x="1145" y="370"/>
                </a:lnTo>
                <a:lnTo>
                  <a:pt x="1111" y="404"/>
                </a:lnTo>
                <a:lnTo>
                  <a:pt x="1076" y="404"/>
                </a:lnTo>
                <a:lnTo>
                  <a:pt x="1042" y="404"/>
                </a:lnTo>
                <a:lnTo>
                  <a:pt x="1015" y="438"/>
                </a:lnTo>
                <a:lnTo>
                  <a:pt x="980" y="438"/>
                </a:lnTo>
                <a:lnTo>
                  <a:pt x="946" y="438"/>
                </a:lnTo>
                <a:lnTo>
                  <a:pt x="912" y="472"/>
                </a:lnTo>
                <a:lnTo>
                  <a:pt x="877" y="472"/>
                </a:lnTo>
                <a:lnTo>
                  <a:pt x="843" y="472"/>
                </a:lnTo>
                <a:lnTo>
                  <a:pt x="809" y="507"/>
                </a:lnTo>
                <a:lnTo>
                  <a:pt x="775" y="507"/>
                </a:lnTo>
                <a:lnTo>
                  <a:pt x="740" y="507"/>
                </a:lnTo>
                <a:lnTo>
                  <a:pt x="706" y="541"/>
                </a:lnTo>
                <a:lnTo>
                  <a:pt x="672" y="541"/>
                </a:lnTo>
                <a:lnTo>
                  <a:pt x="637" y="541"/>
                </a:lnTo>
                <a:lnTo>
                  <a:pt x="603" y="575"/>
                </a:lnTo>
                <a:lnTo>
                  <a:pt x="576" y="575"/>
                </a:lnTo>
                <a:lnTo>
                  <a:pt x="541" y="575"/>
                </a:lnTo>
                <a:lnTo>
                  <a:pt x="507" y="609"/>
                </a:lnTo>
                <a:lnTo>
                  <a:pt x="473" y="609"/>
                </a:lnTo>
                <a:lnTo>
                  <a:pt x="439" y="643"/>
                </a:lnTo>
                <a:lnTo>
                  <a:pt x="404" y="643"/>
                </a:lnTo>
                <a:lnTo>
                  <a:pt x="370" y="643"/>
                </a:lnTo>
                <a:lnTo>
                  <a:pt x="336" y="678"/>
                </a:lnTo>
                <a:lnTo>
                  <a:pt x="302" y="678"/>
                </a:lnTo>
                <a:lnTo>
                  <a:pt x="267" y="678"/>
                </a:lnTo>
                <a:lnTo>
                  <a:pt x="233" y="712"/>
                </a:lnTo>
                <a:lnTo>
                  <a:pt x="199" y="712"/>
                </a:lnTo>
                <a:lnTo>
                  <a:pt x="171" y="712"/>
                </a:lnTo>
                <a:lnTo>
                  <a:pt x="137" y="746"/>
                </a:lnTo>
                <a:lnTo>
                  <a:pt x="103" y="746"/>
                </a:lnTo>
                <a:lnTo>
                  <a:pt x="103" y="780"/>
                </a:lnTo>
                <a:lnTo>
                  <a:pt x="103" y="815"/>
                </a:lnTo>
                <a:lnTo>
                  <a:pt x="103" y="849"/>
                </a:lnTo>
                <a:lnTo>
                  <a:pt x="103" y="883"/>
                </a:lnTo>
                <a:lnTo>
                  <a:pt x="103" y="917"/>
                </a:lnTo>
                <a:lnTo>
                  <a:pt x="68" y="951"/>
                </a:lnTo>
                <a:lnTo>
                  <a:pt x="68" y="986"/>
                </a:lnTo>
                <a:lnTo>
                  <a:pt x="68" y="1013"/>
                </a:lnTo>
                <a:lnTo>
                  <a:pt x="68" y="1047"/>
                </a:lnTo>
                <a:lnTo>
                  <a:pt x="68" y="1081"/>
                </a:lnTo>
                <a:lnTo>
                  <a:pt x="68" y="1116"/>
                </a:lnTo>
                <a:lnTo>
                  <a:pt x="68" y="1150"/>
                </a:lnTo>
                <a:lnTo>
                  <a:pt x="68" y="1184"/>
                </a:lnTo>
                <a:lnTo>
                  <a:pt x="68" y="1218"/>
                </a:lnTo>
                <a:lnTo>
                  <a:pt x="68" y="1252"/>
                </a:lnTo>
                <a:lnTo>
                  <a:pt x="68" y="1287"/>
                </a:lnTo>
                <a:lnTo>
                  <a:pt x="68" y="1321"/>
                </a:lnTo>
                <a:lnTo>
                  <a:pt x="68" y="1355"/>
                </a:lnTo>
                <a:lnTo>
                  <a:pt x="68" y="1389"/>
                </a:lnTo>
                <a:lnTo>
                  <a:pt x="68" y="1424"/>
                </a:lnTo>
                <a:lnTo>
                  <a:pt x="68" y="1458"/>
                </a:lnTo>
                <a:lnTo>
                  <a:pt x="68" y="1492"/>
                </a:lnTo>
                <a:lnTo>
                  <a:pt x="68" y="1526"/>
                </a:lnTo>
                <a:lnTo>
                  <a:pt x="34" y="1560"/>
                </a:lnTo>
                <a:lnTo>
                  <a:pt x="34" y="1595"/>
                </a:lnTo>
                <a:lnTo>
                  <a:pt x="34" y="1629"/>
                </a:lnTo>
                <a:lnTo>
                  <a:pt x="34" y="1656"/>
                </a:lnTo>
                <a:lnTo>
                  <a:pt x="34" y="1690"/>
                </a:lnTo>
                <a:lnTo>
                  <a:pt x="34" y="1725"/>
                </a:lnTo>
                <a:lnTo>
                  <a:pt x="34" y="1759"/>
                </a:lnTo>
                <a:lnTo>
                  <a:pt x="34" y="1793"/>
                </a:lnTo>
                <a:lnTo>
                  <a:pt x="34" y="1827"/>
                </a:lnTo>
                <a:lnTo>
                  <a:pt x="34" y="1861"/>
                </a:lnTo>
                <a:lnTo>
                  <a:pt x="34" y="1896"/>
                </a:lnTo>
                <a:lnTo>
                  <a:pt x="34" y="1930"/>
                </a:lnTo>
                <a:lnTo>
                  <a:pt x="34" y="1964"/>
                </a:lnTo>
                <a:lnTo>
                  <a:pt x="34" y="1998"/>
                </a:lnTo>
                <a:lnTo>
                  <a:pt x="34" y="2033"/>
                </a:lnTo>
                <a:lnTo>
                  <a:pt x="34" y="2067"/>
                </a:lnTo>
                <a:lnTo>
                  <a:pt x="34" y="2101"/>
                </a:lnTo>
                <a:lnTo>
                  <a:pt x="0" y="2135"/>
                </a:lnTo>
                <a:lnTo>
                  <a:pt x="0" y="2169"/>
                </a:lnTo>
                <a:lnTo>
                  <a:pt x="0" y="2204"/>
                </a:lnTo>
                <a:lnTo>
                  <a:pt x="0" y="2238"/>
                </a:lnTo>
                <a:lnTo>
                  <a:pt x="0" y="2272"/>
                </a:lnTo>
                <a:lnTo>
                  <a:pt x="0" y="2299"/>
                </a:lnTo>
                <a:lnTo>
                  <a:pt x="0" y="2334"/>
                </a:lnTo>
                <a:lnTo>
                  <a:pt x="0" y="2368"/>
                </a:lnTo>
                <a:lnTo>
                  <a:pt x="0" y="2402"/>
                </a:lnTo>
                <a:lnTo>
                  <a:pt x="0" y="2436"/>
                </a:lnTo>
                <a:lnTo>
                  <a:pt x="0" y="2470"/>
                </a:lnTo>
                <a:lnTo>
                  <a:pt x="0" y="2505"/>
                </a:lnTo>
                <a:lnTo>
                  <a:pt x="0" y="2539"/>
                </a:lnTo>
                <a:lnTo>
                  <a:pt x="0" y="2573"/>
                </a:lnTo>
                <a:lnTo>
                  <a:pt x="0" y="2607"/>
                </a:lnTo>
                <a:lnTo>
                  <a:pt x="0" y="2642"/>
                </a:lnTo>
                <a:lnTo>
                  <a:pt x="0" y="2676"/>
                </a:lnTo>
                <a:lnTo>
                  <a:pt x="0" y="2710"/>
                </a:lnTo>
                <a:lnTo>
                  <a:pt x="0" y="2744"/>
                </a:lnTo>
                <a:lnTo>
                  <a:pt x="34" y="2744"/>
                </a:lnTo>
                <a:lnTo>
                  <a:pt x="68" y="2778"/>
                </a:lnTo>
                <a:lnTo>
                  <a:pt x="103" y="2778"/>
                </a:lnTo>
                <a:lnTo>
                  <a:pt x="137" y="2813"/>
                </a:lnTo>
                <a:lnTo>
                  <a:pt x="171" y="2847"/>
                </a:lnTo>
                <a:lnTo>
                  <a:pt x="199" y="2847"/>
                </a:lnTo>
                <a:lnTo>
                  <a:pt x="233" y="2881"/>
                </a:lnTo>
                <a:lnTo>
                  <a:pt x="267" y="2915"/>
                </a:lnTo>
                <a:lnTo>
                  <a:pt x="302" y="2915"/>
                </a:lnTo>
                <a:lnTo>
                  <a:pt x="336" y="2943"/>
                </a:lnTo>
                <a:lnTo>
                  <a:pt x="370" y="2977"/>
                </a:lnTo>
                <a:lnTo>
                  <a:pt x="404" y="2977"/>
                </a:lnTo>
                <a:lnTo>
                  <a:pt x="439" y="3011"/>
                </a:lnTo>
                <a:lnTo>
                  <a:pt x="473" y="3045"/>
                </a:lnTo>
                <a:lnTo>
                  <a:pt x="507" y="3045"/>
                </a:lnTo>
                <a:lnTo>
                  <a:pt x="541" y="3079"/>
                </a:lnTo>
                <a:lnTo>
                  <a:pt x="576" y="3079"/>
                </a:lnTo>
                <a:lnTo>
                  <a:pt x="603" y="3114"/>
                </a:lnTo>
                <a:lnTo>
                  <a:pt x="637" y="3148"/>
                </a:lnTo>
                <a:lnTo>
                  <a:pt x="672" y="3148"/>
                </a:lnTo>
                <a:lnTo>
                  <a:pt x="706" y="3182"/>
                </a:lnTo>
                <a:lnTo>
                  <a:pt x="740" y="3216"/>
                </a:lnTo>
                <a:lnTo>
                  <a:pt x="775" y="3216"/>
                </a:lnTo>
                <a:lnTo>
                  <a:pt x="809" y="3251"/>
                </a:lnTo>
                <a:lnTo>
                  <a:pt x="843" y="3251"/>
                </a:lnTo>
                <a:lnTo>
                  <a:pt x="877" y="3285"/>
                </a:lnTo>
                <a:lnTo>
                  <a:pt x="912" y="3285"/>
                </a:lnTo>
                <a:lnTo>
                  <a:pt x="946" y="3285"/>
                </a:lnTo>
                <a:lnTo>
                  <a:pt x="980" y="3285"/>
                </a:lnTo>
                <a:close/>
                <a:moveTo>
                  <a:pt x="1412" y="1595"/>
                </a:moveTo>
                <a:lnTo>
                  <a:pt x="1412" y="1588"/>
                </a:lnTo>
                <a:lnTo>
                  <a:pt x="1412" y="1588"/>
                </a:lnTo>
                <a:lnTo>
                  <a:pt x="1419" y="1581"/>
                </a:lnTo>
                <a:lnTo>
                  <a:pt x="1419" y="1581"/>
                </a:lnTo>
                <a:lnTo>
                  <a:pt x="1426" y="1588"/>
                </a:lnTo>
                <a:lnTo>
                  <a:pt x="1426" y="1588"/>
                </a:lnTo>
                <a:lnTo>
                  <a:pt x="1426" y="1588"/>
                </a:lnTo>
                <a:lnTo>
                  <a:pt x="1426" y="1595"/>
                </a:lnTo>
                <a:lnTo>
                  <a:pt x="1426" y="1595"/>
                </a:lnTo>
                <a:lnTo>
                  <a:pt x="1419" y="1595"/>
                </a:lnTo>
                <a:lnTo>
                  <a:pt x="1419" y="1595"/>
                </a:lnTo>
                <a:lnTo>
                  <a:pt x="1412" y="1595"/>
                </a:lnTo>
                <a:lnTo>
                  <a:pt x="1412" y="1595"/>
                </a:lnTo>
                <a:lnTo>
                  <a:pt x="1412" y="1595"/>
                </a:lnTo>
                <a:close/>
              </a:path>
            </a:pathLst>
          </a:custGeom>
          <a:solidFill>
            <a:srgbClr val="b5b5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0" name=""/>
          <p:cNvSpPr/>
          <p:nvPr/>
        </p:nvSpPr>
        <p:spPr>
          <a:xfrm>
            <a:off x="3398760" y="1244520"/>
            <a:ext cx="3689280" cy="5214960"/>
          </a:xfrm>
          <a:custGeom>
            <a:avLst/>
            <a:gdLst/>
            <a:ahLst/>
            <a:rect l="l" t="t" r="r" b="b"/>
            <a:pathLst>
              <a:path w="2324" h="3285">
                <a:moveTo>
                  <a:pt x="980" y="3285"/>
                </a:moveTo>
                <a:lnTo>
                  <a:pt x="1015" y="3251"/>
                </a:lnTo>
                <a:lnTo>
                  <a:pt x="1042" y="3251"/>
                </a:lnTo>
                <a:lnTo>
                  <a:pt x="1076" y="3216"/>
                </a:lnTo>
                <a:lnTo>
                  <a:pt x="1111" y="3216"/>
                </a:lnTo>
                <a:lnTo>
                  <a:pt x="1145" y="3216"/>
                </a:lnTo>
                <a:lnTo>
                  <a:pt x="1179" y="3182"/>
                </a:lnTo>
                <a:lnTo>
                  <a:pt x="1213" y="3182"/>
                </a:lnTo>
                <a:lnTo>
                  <a:pt x="1248" y="3148"/>
                </a:lnTo>
                <a:lnTo>
                  <a:pt x="1282" y="3148"/>
                </a:lnTo>
                <a:lnTo>
                  <a:pt x="1316" y="3114"/>
                </a:lnTo>
                <a:lnTo>
                  <a:pt x="1350" y="3114"/>
                </a:lnTo>
                <a:lnTo>
                  <a:pt x="1385" y="3114"/>
                </a:lnTo>
                <a:lnTo>
                  <a:pt x="1385" y="3079"/>
                </a:lnTo>
                <a:lnTo>
                  <a:pt x="1419" y="3045"/>
                </a:lnTo>
                <a:lnTo>
                  <a:pt x="1419" y="3011"/>
                </a:lnTo>
                <a:lnTo>
                  <a:pt x="1446" y="2977"/>
                </a:lnTo>
                <a:lnTo>
                  <a:pt x="1446" y="2943"/>
                </a:lnTo>
                <a:lnTo>
                  <a:pt x="1481" y="2915"/>
                </a:lnTo>
                <a:lnTo>
                  <a:pt x="1481" y="2881"/>
                </a:lnTo>
                <a:lnTo>
                  <a:pt x="1515" y="2847"/>
                </a:lnTo>
                <a:lnTo>
                  <a:pt x="1549" y="2813"/>
                </a:lnTo>
                <a:lnTo>
                  <a:pt x="1549" y="2778"/>
                </a:lnTo>
                <a:lnTo>
                  <a:pt x="1584" y="2744"/>
                </a:lnTo>
                <a:lnTo>
                  <a:pt x="1584" y="2710"/>
                </a:lnTo>
                <a:lnTo>
                  <a:pt x="1618" y="2676"/>
                </a:lnTo>
                <a:lnTo>
                  <a:pt x="1618" y="2642"/>
                </a:lnTo>
                <a:lnTo>
                  <a:pt x="1652" y="2607"/>
                </a:lnTo>
                <a:lnTo>
                  <a:pt x="1652" y="2573"/>
                </a:lnTo>
                <a:lnTo>
                  <a:pt x="1686" y="2539"/>
                </a:lnTo>
                <a:lnTo>
                  <a:pt x="1686" y="2505"/>
                </a:lnTo>
                <a:lnTo>
                  <a:pt x="1721" y="2470"/>
                </a:lnTo>
                <a:lnTo>
                  <a:pt x="1721" y="2436"/>
                </a:lnTo>
                <a:lnTo>
                  <a:pt x="1755" y="2402"/>
                </a:lnTo>
                <a:lnTo>
                  <a:pt x="1755" y="2368"/>
                </a:lnTo>
                <a:lnTo>
                  <a:pt x="1789" y="2334"/>
                </a:lnTo>
                <a:lnTo>
                  <a:pt x="1824" y="2299"/>
                </a:lnTo>
                <a:lnTo>
                  <a:pt x="1824" y="2272"/>
                </a:lnTo>
                <a:lnTo>
                  <a:pt x="1851" y="2238"/>
                </a:lnTo>
                <a:lnTo>
                  <a:pt x="1851" y="2204"/>
                </a:lnTo>
                <a:lnTo>
                  <a:pt x="1885" y="2169"/>
                </a:lnTo>
                <a:lnTo>
                  <a:pt x="1885" y="2135"/>
                </a:lnTo>
                <a:lnTo>
                  <a:pt x="1920" y="2101"/>
                </a:lnTo>
                <a:lnTo>
                  <a:pt x="1920" y="2067"/>
                </a:lnTo>
                <a:lnTo>
                  <a:pt x="1954" y="2033"/>
                </a:lnTo>
                <a:lnTo>
                  <a:pt x="1954" y="1998"/>
                </a:lnTo>
                <a:lnTo>
                  <a:pt x="1988" y="1964"/>
                </a:lnTo>
                <a:lnTo>
                  <a:pt x="1988" y="1930"/>
                </a:lnTo>
                <a:lnTo>
                  <a:pt x="2022" y="1896"/>
                </a:lnTo>
                <a:lnTo>
                  <a:pt x="2022" y="1861"/>
                </a:lnTo>
                <a:lnTo>
                  <a:pt x="2057" y="1827"/>
                </a:lnTo>
                <a:lnTo>
                  <a:pt x="2057" y="1793"/>
                </a:lnTo>
                <a:lnTo>
                  <a:pt x="2057" y="1759"/>
                </a:lnTo>
                <a:lnTo>
                  <a:pt x="2057" y="1725"/>
                </a:lnTo>
                <a:lnTo>
                  <a:pt x="2091" y="1690"/>
                </a:lnTo>
                <a:lnTo>
                  <a:pt x="2091" y="1656"/>
                </a:lnTo>
                <a:lnTo>
                  <a:pt x="2091" y="1629"/>
                </a:lnTo>
                <a:lnTo>
                  <a:pt x="2091" y="1595"/>
                </a:lnTo>
                <a:lnTo>
                  <a:pt x="2125" y="1560"/>
                </a:lnTo>
                <a:lnTo>
                  <a:pt x="2125" y="1526"/>
                </a:lnTo>
                <a:lnTo>
                  <a:pt x="2125" y="1492"/>
                </a:lnTo>
                <a:lnTo>
                  <a:pt x="2125" y="1458"/>
                </a:lnTo>
                <a:lnTo>
                  <a:pt x="2125" y="1424"/>
                </a:lnTo>
                <a:lnTo>
                  <a:pt x="2125" y="1389"/>
                </a:lnTo>
                <a:lnTo>
                  <a:pt x="2159" y="1355"/>
                </a:lnTo>
                <a:lnTo>
                  <a:pt x="2159" y="1321"/>
                </a:lnTo>
                <a:lnTo>
                  <a:pt x="2159" y="1287"/>
                </a:lnTo>
                <a:lnTo>
                  <a:pt x="2159" y="1252"/>
                </a:lnTo>
                <a:lnTo>
                  <a:pt x="2159" y="1218"/>
                </a:lnTo>
                <a:lnTo>
                  <a:pt x="2159" y="1184"/>
                </a:lnTo>
                <a:lnTo>
                  <a:pt x="2159" y="1150"/>
                </a:lnTo>
                <a:lnTo>
                  <a:pt x="2194" y="1116"/>
                </a:lnTo>
                <a:lnTo>
                  <a:pt x="2194" y="1081"/>
                </a:lnTo>
                <a:lnTo>
                  <a:pt x="2194" y="1047"/>
                </a:lnTo>
                <a:lnTo>
                  <a:pt x="2194" y="1013"/>
                </a:lnTo>
                <a:lnTo>
                  <a:pt x="2194" y="986"/>
                </a:lnTo>
                <a:lnTo>
                  <a:pt x="2194" y="951"/>
                </a:lnTo>
                <a:lnTo>
                  <a:pt x="2194" y="917"/>
                </a:lnTo>
                <a:lnTo>
                  <a:pt x="2228" y="883"/>
                </a:lnTo>
                <a:lnTo>
                  <a:pt x="2228" y="849"/>
                </a:lnTo>
                <a:lnTo>
                  <a:pt x="2228" y="815"/>
                </a:lnTo>
                <a:lnTo>
                  <a:pt x="2228" y="780"/>
                </a:lnTo>
                <a:lnTo>
                  <a:pt x="2228" y="746"/>
                </a:lnTo>
                <a:lnTo>
                  <a:pt x="2228" y="712"/>
                </a:lnTo>
                <a:lnTo>
                  <a:pt x="2228" y="678"/>
                </a:lnTo>
                <a:lnTo>
                  <a:pt x="2255" y="643"/>
                </a:lnTo>
                <a:lnTo>
                  <a:pt x="2255" y="609"/>
                </a:lnTo>
                <a:lnTo>
                  <a:pt x="2255" y="575"/>
                </a:lnTo>
                <a:lnTo>
                  <a:pt x="2255" y="541"/>
                </a:lnTo>
                <a:lnTo>
                  <a:pt x="2255" y="507"/>
                </a:lnTo>
                <a:lnTo>
                  <a:pt x="2255" y="472"/>
                </a:lnTo>
                <a:lnTo>
                  <a:pt x="2255" y="438"/>
                </a:lnTo>
                <a:lnTo>
                  <a:pt x="2290" y="404"/>
                </a:lnTo>
                <a:lnTo>
                  <a:pt x="2290" y="370"/>
                </a:lnTo>
                <a:lnTo>
                  <a:pt x="2290" y="342"/>
                </a:lnTo>
                <a:lnTo>
                  <a:pt x="2290" y="308"/>
                </a:lnTo>
                <a:lnTo>
                  <a:pt x="2290" y="274"/>
                </a:lnTo>
                <a:lnTo>
                  <a:pt x="2290" y="240"/>
                </a:lnTo>
                <a:lnTo>
                  <a:pt x="2290" y="206"/>
                </a:lnTo>
                <a:lnTo>
                  <a:pt x="2324" y="171"/>
                </a:lnTo>
                <a:lnTo>
                  <a:pt x="2324" y="137"/>
                </a:lnTo>
                <a:lnTo>
                  <a:pt x="2324" y="103"/>
                </a:lnTo>
                <a:lnTo>
                  <a:pt x="2324" y="69"/>
                </a:lnTo>
                <a:lnTo>
                  <a:pt x="2324" y="34"/>
                </a:lnTo>
                <a:lnTo>
                  <a:pt x="2324" y="0"/>
                </a:lnTo>
                <a:lnTo>
                  <a:pt x="2290" y="0"/>
                </a:lnTo>
                <a:lnTo>
                  <a:pt x="2255" y="0"/>
                </a:lnTo>
                <a:lnTo>
                  <a:pt x="2228" y="0"/>
                </a:lnTo>
                <a:lnTo>
                  <a:pt x="2194" y="0"/>
                </a:lnTo>
                <a:lnTo>
                  <a:pt x="2159" y="34"/>
                </a:lnTo>
                <a:lnTo>
                  <a:pt x="2125" y="34"/>
                </a:lnTo>
                <a:lnTo>
                  <a:pt x="2091" y="34"/>
                </a:lnTo>
                <a:lnTo>
                  <a:pt x="2057" y="69"/>
                </a:lnTo>
                <a:lnTo>
                  <a:pt x="2022" y="69"/>
                </a:lnTo>
                <a:lnTo>
                  <a:pt x="1988" y="69"/>
                </a:lnTo>
                <a:lnTo>
                  <a:pt x="1954" y="103"/>
                </a:lnTo>
                <a:lnTo>
                  <a:pt x="1920" y="103"/>
                </a:lnTo>
                <a:lnTo>
                  <a:pt x="1885" y="137"/>
                </a:lnTo>
                <a:lnTo>
                  <a:pt x="1851" y="137"/>
                </a:lnTo>
                <a:lnTo>
                  <a:pt x="1824" y="137"/>
                </a:lnTo>
                <a:lnTo>
                  <a:pt x="1789" y="171"/>
                </a:lnTo>
                <a:lnTo>
                  <a:pt x="1755" y="171"/>
                </a:lnTo>
                <a:lnTo>
                  <a:pt x="1721" y="171"/>
                </a:lnTo>
                <a:lnTo>
                  <a:pt x="1686" y="206"/>
                </a:lnTo>
                <a:lnTo>
                  <a:pt x="1652" y="206"/>
                </a:lnTo>
                <a:lnTo>
                  <a:pt x="1618" y="206"/>
                </a:lnTo>
                <a:lnTo>
                  <a:pt x="1584" y="240"/>
                </a:lnTo>
                <a:lnTo>
                  <a:pt x="1549" y="240"/>
                </a:lnTo>
                <a:lnTo>
                  <a:pt x="1515" y="240"/>
                </a:lnTo>
                <a:lnTo>
                  <a:pt x="1481" y="274"/>
                </a:lnTo>
                <a:lnTo>
                  <a:pt x="1446" y="274"/>
                </a:lnTo>
                <a:lnTo>
                  <a:pt x="1419" y="274"/>
                </a:lnTo>
                <a:lnTo>
                  <a:pt x="1385" y="308"/>
                </a:lnTo>
                <a:lnTo>
                  <a:pt x="1350" y="308"/>
                </a:lnTo>
                <a:lnTo>
                  <a:pt x="1316" y="308"/>
                </a:lnTo>
                <a:lnTo>
                  <a:pt x="1282" y="342"/>
                </a:lnTo>
                <a:lnTo>
                  <a:pt x="1248" y="342"/>
                </a:lnTo>
                <a:lnTo>
                  <a:pt x="1213" y="370"/>
                </a:lnTo>
                <a:lnTo>
                  <a:pt x="1179" y="370"/>
                </a:lnTo>
                <a:lnTo>
                  <a:pt x="1145" y="370"/>
                </a:lnTo>
                <a:lnTo>
                  <a:pt x="1111" y="404"/>
                </a:lnTo>
                <a:lnTo>
                  <a:pt x="1076" y="404"/>
                </a:lnTo>
                <a:lnTo>
                  <a:pt x="1042" y="404"/>
                </a:lnTo>
                <a:lnTo>
                  <a:pt x="1015" y="438"/>
                </a:lnTo>
                <a:lnTo>
                  <a:pt x="980" y="438"/>
                </a:lnTo>
                <a:lnTo>
                  <a:pt x="946" y="438"/>
                </a:lnTo>
                <a:lnTo>
                  <a:pt x="912" y="472"/>
                </a:lnTo>
                <a:lnTo>
                  <a:pt x="877" y="472"/>
                </a:lnTo>
                <a:lnTo>
                  <a:pt x="843" y="472"/>
                </a:lnTo>
                <a:lnTo>
                  <a:pt x="809" y="507"/>
                </a:lnTo>
                <a:lnTo>
                  <a:pt x="775" y="507"/>
                </a:lnTo>
                <a:lnTo>
                  <a:pt x="740" y="507"/>
                </a:lnTo>
                <a:lnTo>
                  <a:pt x="706" y="541"/>
                </a:lnTo>
                <a:lnTo>
                  <a:pt x="672" y="541"/>
                </a:lnTo>
                <a:lnTo>
                  <a:pt x="637" y="541"/>
                </a:lnTo>
                <a:lnTo>
                  <a:pt x="603" y="575"/>
                </a:lnTo>
                <a:lnTo>
                  <a:pt x="576" y="575"/>
                </a:lnTo>
                <a:lnTo>
                  <a:pt x="541" y="575"/>
                </a:lnTo>
                <a:lnTo>
                  <a:pt x="507" y="609"/>
                </a:lnTo>
                <a:lnTo>
                  <a:pt x="473" y="609"/>
                </a:lnTo>
                <a:lnTo>
                  <a:pt x="439" y="643"/>
                </a:lnTo>
                <a:lnTo>
                  <a:pt x="404" y="643"/>
                </a:lnTo>
                <a:lnTo>
                  <a:pt x="370" y="643"/>
                </a:lnTo>
                <a:lnTo>
                  <a:pt x="336" y="678"/>
                </a:lnTo>
                <a:lnTo>
                  <a:pt x="302" y="678"/>
                </a:lnTo>
                <a:lnTo>
                  <a:pt x="267" y="678"/>
                </a:lnTo>
                <a:lnTo>
                  <a:pt x="233" y="712"/>
                </a:lnTo>
                <a:lnTo>
                  <a:pt x="199" y="712"/>
                </a:lnTo>
                <a:lnTo>
                  <a:pt x="171" y="712"/>
                </a:lnTo>
                <a:lnTo>
                  <a:pt x="137" y="746"/>
                </a:lnTo>
                <a:lnTo>
                  <a:pt x="103" y="746"/>
                </a:lnTo>
                <a:lnTo>
                  <a:pt x="103" y="780"/>
                </a:lnTo>
                <a:lnTo>
                  <a:pt x="103" y="815"/>
                </a:lnTo>
                <a:lnTo>
                  <a:pt x="103" y="849"/>
                </a:lnTo>
                <a:lnTo>
                  <a:pt x="103" y="883"/>
                </a:lnTo>
                <a:lnTo>
                  <a:pt x="103" y="917"/>
                </a:lnTo>
                <a:lnTo>
                  <a:pt x="68" y="951"/>
                </a:lnTo>
                <a:lnTo>
                  <a:pt x="68" y="986"/>
                </a:lnTo>
                <a:lnTo>
                  <a:pt x="68" y="1013"/>
                </a:lnTo>
                <a:lnTo>
                  <a:pt x="68" y="1047"/>
                </a:lnTo>
                <a:lnTo>
                  <a:pt x="68" y="1081"/>
                </a:lnTo>
                <a:lnTo>
                  <a:pt x="68" y="1116"/>
                </a:lnTo>
                <a:lnTo>
                  <a:pt x="68" y="1150"/>
                </a:lnTo>
                <a:lnTo>
                  <a:pt x="68" y="1184"/>
                </a:lnTo>
                <a:lnTo>
                  <a:pt x="68" y="1218"/>
                </a:lnTo>
                <a:lnTo>
                  <a:pt x="68" y="1252"/>
                </a:lnTo>
                <a:lnTo>
                  <a:pt x="68" y="1287"/>
                </a:lnTo>
                <a:lnTo>
                  <a:pt x="68" y="1321"/>
                </a:lnTo>
                <a:lnTo>
                  <a:pt x="68" y="1355"/>
                </a:lnTo>
                <a:lnTo>
                  <a:pt x="68" y="1389"/>
                </a:lnTo>
                <a:lnTo>
                  <a:pt x="68" y="1424"/>
                </a:lnTo>
                <a:lnTo>
                  <a:pt x="68" y="1458"/>
                </a:lnTo>
                <a:lnTo>
                  <a:pt x="68" y="1492"/>
                </a:lnTo>
                <a:lnTo>
                  <a:pt x="68" y="1526"/>
                </a:lnTo>
                <a:lnTo>
                  <a:pt x="34" y="1560"/>
                </a:lnTo>
                <a:lnTo>
                  <a:pt x="34" y="1595"/>
                </a:lnTo>
                <a:lnTo>
                  <a:pt x="34" y="1629"/>
                </a:lnTo>
                <a:lnTo>
                  <a:pt x="34" y="1656"/>
                </a:lnTo>
                <a:lnTo>
                  <a:pt x="34" y="1690"/>
                </a:lnTo>
                <a:lnTo>
                  <a:pt x="34" y="1725"/>
                </a:lnTo>
                <a:lnTo>
                  <a:pt x="34" y="1759"/>
                </a:lnTo>
                <a:lnTo>
                  <a:pt x="34" y="1793"/>
                </a:lnTo>
                <a:lnTo>
                  <a:pt x="34" y="1827"/>
                </a:lnTo>
                <a:lnTo>
                  <a:pt x="34" y="1861"/>
                </a:lnTo>
                <a:lnTo>
                  <a:pt x="34" y="1896"/>
                </a:lnTo>
                <a:lnTo>
                  <a:pt x="34" y="1930"/>
                </a:lnTo>
                <a:lnTo>
                  <a:pt x="34" y="1964"/>
                </a:lnTo>
                <a:lnTo>
                  <a:pt x="34" y="1998"/>
                </a:lnTo>
                <a:lnTo>
                  <a:pt x="34" y="2033"/>
                </a:lnTo>
                <a:lnTo>
                  <a:pt x="34" y="2067"/>
                </a:lnTo>
                <a:lnTo>
                  <a:pt x="34" y="2101"/>
                </a:lnTo>
                <a:lnTo>
                  <a:pt x="0" y="2135"/>
                </a:lnTo>
                <a:lnTo>
                  <a:pt x="0" y="2169"/>
                </a:lnTo>
                <a:lnTo>
                  <a:pt x="0" y="2204"/>
                </a:lnTo>
                <a:lnTo>
                  <a:pt x="0" y="2238"/>
                </a:lnTo>
                <a:lnTo>
                  <a:pt x="0" y="2272"/>
                </a:lnTo>
                <a:lnTo>
                  <a:pt x="0" y="2299"/>
                </a:lnTo>
                <a:lnTo>
                  <a:pt x="0" y="2334"/>
                </a:lnTo>
                <a:lnTo>
                  <a:pt x="0" y="2368"/>
                </a:lnTo>
                <a:lnTo>
                  <a:pt x="0" y="2402"/>
                </a:lnTo>
                <a:lnTo>
                  <a:pt x="0" y="2436"/>
                </a:lnTo>
                <a:lnTo>
                  <a:pt x="0" y="2470"/>
                </a:lnTo>
                <a:lnTo>
                  <a:pt x="0" y="2505"/>
                </a:lnTo>
                <a:lnTo>
                  <a:pt x="0" y="2539"/>
                </a:lnTo>
                <a:lnTo>
                  <a:pt x="0" y="2573"/>
                </a:lnTo>
                <a:lnTo>
                  <a:pt x="0" y="2607"/>
                </a:lnTo>
                <a:lnTo>
                  <a:pt x="0" y="2642"/>
                </a:lnTo>
                <a:lnTo>
                  <a:pt x="0" y="2676"/>
                </a:lnTo>
                <a:lnTo>
                  <a:pt x="0" y="2710"/>
                </a:lnTo>
                <a:lnTo>
                  <a:pt x="0" y="2744"/>
                </a:lnTo>
                <a:lnTo>
                  <a:pt x="34" y="2744"/>
                </a:lnTo>
                <a:lnTo>
                  <a:pt x="68" y="2778"/>
                </a:lnTo>
                <a:lnTo>
                  <a:pt x="103" y="2778"/>
                </a:lnTo>
                <a:lnTo>
                  <a:pt x="137" y="2813"/>
                </a:lnTo>
                <a:lnTo>
                  <a:pt x="171" y="2847"/>
                </a:lnTo>
                <a:lnTo>
                  <a:pt x="199" y="2847"/>
                </a:lnTo>
                <a:lnTo>
                  <a:pt x="233" y="2881"/>
                </a:lnTo>
                <a:lnTo>
                  <a:pt x="267" y="2915"/>
                </a:lnTo>
                <a:lnTo>
                  <a:pt x="302" y="2915"/>
                </a:lnTo>
                <a:lnTo>
                  <a:pt x="336" y="2943"/>
                </a:lnTo>
                <a:lnTo>
                  <a:pt x="370" y="2977"/>
                </a:lnTo>
                <a:lnTo>
                  <a:pt x="404" y="2977"/>
                </a:lnTo>
                <a:lnTo>
                  <a:pt x="439" y="3011"/>
                </a:lnTo>
                <a:lnTo>
                  <a:pt x="473" y="3045"/>
                </a:lnTo>
                <a:lnTo>
                  <a:pt x="507" y="3045"/>
                </a:lnTo>
                <a:lnTo>
                  <a:pt x="541" y="3079"/>
                </a:lnTo>
                <a:lnTo>
                  <a:pt x="576" y="3079"/>
                </a:lnTo>
                <a:lnTo>
                  <a:pt x="603" y="3114"/>
                </a:lnTo>
                <a:lnTo>
                  <a:pt x="637" y="3148"/>
                </a:lnTo>
                <a:lnTo>
                  <a:pt x="672" y="3148"/>
                </a:lnTo>
                <a:lnTo>
                  <a:pt x="706" y="3182"/>
                </a:lnTo>
                <a:lnTo>
                  <a:pt x="740" y="3216"/>
                </a:lnTo>
                <a:lnTo>
                  <a:pt x="775" y="3216"/>
                </a:lnTo>
                <a:lnTo>
                  <a:pt x="809" y="3251"/>
                </a:lnTo>
                <a:lnTo>
                  <a:pt x="843" y="3251"/>
                </a:lnTo>
                <a:lnTo>
                  <a:pt x="877" y="3285"/>
                </a:lnTo>
                <a:lnTo>
                  <a:pt x="912" y="3285"/>
                </a:lnTo>
                <a:lnTo>
                  <a:pt x="946" y="3285"/>
                </a:lnTo>
                <a:lnTo>
                  <a:pt x="980" y="3285"/>
                </a:lnTo>
                <a:close/>
                <a:moveTo>
                  <a:pt x="1412" y="1595"/>
                </a:moveTo>
                <a:lnTo>
                  <a:pt x="1412" y="1588"/>
                </a:lnTo>
                <a:lnTo>
                  <a:pt x="1412" y="1588"/>
                </a:lnTo>
                <a:lnTo>
                  <a:pt x="1419" y="1581"/>
                </a:lnTo>
                <a:lnTo>
                  <a:pt x="1419" y="1581"/>
                </a:lnTo>
                <a:lnTo>
                  <a:pt x="1426" y="1588"/>
                </a:lnTo>
                <a:lnTo>
                  <a:pt x="1426" y="1588"/>
                </a:lnTo>
                <a:lnTo>
                  <a:pt x="1426" y="1588"/>
                </a:lnTo>
                <a:lnTo>
                  <a:pt x="1426" y="1595"/>
                </a:lnTo>
                <a:lnTo>
                  <a:pt x="1426" y="1595"/>
                </a:lnTo>
                <a:lnTo>
                  <a:pt x="1419" y="1595"/>
                </a:lnTo>
                <a:lnTo>
                  <a:pt x="1419" y="1595"/>
                </a:lnTo>
                <a:lnTo>
                  <a:pt x="1412" y="1595"/>
                </a:lnTo>
                <a:lnTo>
                  <a:pt x="1412" y="1595"/>
                </a:lnTo>
                <a:lnTo>
                  <a:pt x="1412" y="1595"/>
                </a:lnTo>
                <a:close/>
                <a:moveTo>
                  <a:pt x="980" y="3285"/>
                </a:moveTo>
                <a:lnTo>
                  <a:pt x="1015" y="3251"/>
                </a:lnTo>
                <a:lnTo>
                  <a:pt x="1042" y="3251"/>
                </a:lnTo>
                <a:lnTo>
                  <a:pt x="1076" y="3216"/>
                </a:lnTo>
                <a:lnTo>
                  <a:pt x="1111" y="3216"/>
                </a:lnTo>
                <a:lnTo>
                  <a:pt x="1145" y="3216"/>
                </a:lnTo>
                <a:lnTo>
                  <a:pt x="1179" y="3182"/>
                </a:lnTo>
                <a:lnTo>
                  <a:pt x="1213" y="3182"/>
                </a:lnTo>
                <a:lnTo>
                  <a:pt x="1248" y="3148"/>
                </a:lnTo>
                <a:lnTo>
                  <a:pt x="1282" y="3148"/>
                </a:lnTo>
                <a:lnTo>
                  <a:pt x="1316" y="3114"/>
                </a:lnTo>
                <a:lnTo>
                  <a:pt x="1350" y="3114"/>
                </a:lnTo>
                <a:lnTo>
                  <a:pt x="1385" y="3114"/>
                </a:lnTo>
                <a:lnTo>
                  <a:pt x="1385" y="3079"/>
                </a:lnTo>
                <a:lnTo>
                  <a:pt x="1419" y="3045"/>
                </a:lnTo>
                <a:lnTo>
                  <a:pt x="1419" y="3011"/>
                </a:lnTo>
                <a:lnTo>
                  <a:pt x="1446" y="2977"/>
                </a:lnTo>
                <a:lnTo>
                  <a:pt x="1446" y="2943"/>
                </a:lnTo>
                <a:lnTo>
                  <a:pt x="1481" y="2915"/>
                </a:lnTo>
                <a:lnTo>
                  <a:pt x="1481" y="2881"/>
                </a:lnTo>
                <a:lnTo>
                  <a:pt x="1515" y="2847"/>
                </a:lnTo>
                <a:lnTo>
                  <a:pt x="1549" y="2813"/>
                </a:lnTo>
                <a:lnTo>
                  <a:pt x="1549" y="2778"/>
                </a:lnTo>
                <a:lnTo>
                  <a:pt x="1584" y="2744"/>
                </a:lnTo>
                <a:lnTo>
                  <a:pt x="1584" y="2710"/>
                </a:lnTo>
                <a:lnTo>
                  <a:pt x="1618" y="2676"/>
                </a:lnTo>
                <a:lnTo>
                  <a:pt x="1618" y="2642"/>
                </a:lnTo>
                <a:lnTo>
                  <a:pt x="1652" y="2607"/>
                </a:lnTo>
                <a:lnTo>
                  <a:pt x="1652" y="2573"/>
                </a:lnTo>
                <a:lnTo>
                  <a:pt x="1686" y="2539"/>
                </a:lnTo>
                <a:lnTo>
                  <a:pt x="1686" y="2505"/>
                </a:lnTo>
                <a:lnTo>
                  <a:pt x="1721" y="2470"/>
                </a:lnTo>
                <a:lnTo>
                  <a:pt x="1721" y="2436"/>
                </a:lnTo>
                <a:lnTo>
                  <a:pt x="1755" y="2402"/>
                </a:lnTo>
                <a:lnTo>
                  <a:pt x="1755" y="2368"/>
                </a:lnTo>
                <a:lnTo>
                  <a:pt x="1789" y="2334"/>
                </a:lnTo>
                <a:lnTo>
                  <a:pt x="1824" y="2299"/>
                </a:lnTo>
                <a:lnTo>
                  <a:pt x="1824" y="2272"/>
                </a:lnTo>
                <a:lnTo>
                  <a:pt x="1851" y="2238"/>
                </a:lnTo>
                <a:lnTo>
                  <a:pt x="1851" y="2204"/>
                </a:lnTo>
                <a:lnTo>
                  <a:pt x="1885" y="2169"/>
                </a:lnTo>
                <a:lnTo>
                  <a:pt x="1885" y="2135"/>
                </a:lnTo>
                <a:lnTo>
                  <a:pt x="1920" y="2101"/>
                </a:lnTo>
                <a:lnTo>
                  <a:pt x="1920" y="2067"/>
                </a:lnTo>
                <a:lnTo>
                  <a:pt x="1954" y="2033"/>
                </a:lnTo>
                <a:lnTo>
                  <a:pt x="1954" y="1998"/>
                </a:lnTo>
                <a:lnTo>
                  <a:pt x="1988" y="1964"/>
                </a:lnTo>
                <a:lnTo>
                  <a:pt x="1988" y="1930"/>
                </a:lnTo>
                <a:lnTo>
                  <a:pt x="2022" y="1896"/>
                </a:lnTo>
                <a:lnTo>
                  <a:pt x="2022" y="1861"/>
                </a:lnTo>
                <a:lnTo>
                  <a:pt x="2057" y="1827"/>
                </a:lnTo>
                <a:lnTo>
                  <a:pt x="2057" y="1793"/>
                </a:lnTo>
                <a:lnTo>
                  <a:pt x="2057" y="1759"/>
                </a:lnTo>
                <a:lnTo>
                  <a:pt x="2057" y="1725"/>
                </a:lnTo>
                <a:lnTo>
                  <a:pt x="2091" y="1690"/>
                </a:lnTo>
                <a:lnTo>
                  <a:pt x="2091" y="1656"/>
                </a:lnTo>
                <a:lnTo>
                  <a:pt x="2091" y="1629"/>
                </a:lnTo>
                <a:lnTo>
                  <a:pt x="2091" y="1595"/>
                </a:lnTo>
                <a:lnTo>
                  <a:pt x="2125" y="1560"/>
                </a:lnTo>
                <a:lnTo>
                  <a:pt x="2125" y="1526"/>
                </a:lnTo>
                <a:lnTo>
                  <a:pt x="2125" y="1492"/>
                </a:lnTo>
                <a:lnTo>
                  <a:pt x="2125" y="1458"/>
                </a:lnTo>
                <a:lnTo>
                  <a:pt x="2125" y="1424"/>
                </a:lnTo>
                <a:lnTo>
                  <a:pt x="2125" y="1389"/>
                </a:lnTo>
                <a:lnTo>
                  <a:pt x="2159" y="1355"/>
                </a:lnTo>
                <a:lnTo>
                  <a:pt x="2159" y="1321"/>
                </a:lnTo>
                <a:lnTo>
                  <a:pt x="2159" y="1287"/>
                </a:lnTo>
                <a:lnTo>
                  <a:pt x="2159" y="1252"/>
                </a:lnTo>
                <a:lnTo>
                  <a:pt x="2159" y="1218"/>
                </a:lnTo>
                <a:lnTo>
                  <a:pt x="2159" y="1184"/>
                </a:lnTo>
                <a:lnTo>
                  <a:pt x="2159" y="1150"/>
                </a:lnTo>
                <a:lnTo>
                  <a:pt x="2194" y="1116"/>
                </a:lnTo>
                <a:lnTo>
                  <a:pt x="2194" y="1081"/>
                </a:lnTo>
                <a:lnTo>
                  <a:pt x="2194" y="1047"/>
                </a:lnTo>
                <a:lnTo>
                  <a:pt x="2194" y="1013"/>
                </a:lnTo>
                <a:lnTo>
                  <a:pt x="2194" y="986"/>
                </a:lnTo>
                <a:lnTo>
                  <a:pt x="2194" y="951"/>
                </a:lnTo>
                <a:lnTo>
                  <a:pt x="2194" y="917"/>
                </a:lnTo>
                <a:lnTo>
                  <a:pt x="2228" y="883"/>
                </a:lnTo>
                <a:lnTo>
                  <a:pt x="2228" y="849"/>
                </a:lnTo>
                <a:lnTo>
                  <a:pt x="2228" y="815"/>
                </a:lnTo>
                <a:lnTo>
                  <a:pt x="2228" y="780"/>
                </a:lnTo>
                <a:lnTo>
                  <a:pt x="2228" y="746"/>
                </a:lnTo>
                <a:lnTo>
                  <a:pt x="2228" y="712"/>
                </a:lnTo>
                <a:lnTo>
                  <a:pt x="2228" y="678"/>
                </a:lnTo>
                <a:lnTo>
                  <a:pt x="2255" y="643"/>
                </a:lnTo>
                <a:lnTo>
                  <a:pt x="2255" y="609"/>
                </a:lnTo>
                <a:lnTo>
                  <a:pt x="2255" y="575"/>
                </a:lnTo>
                <a:lnTo>
                  <a:pt x="2255" y="541"/>
                </a:lnTo>
                <a:lnTo>
                  <a:pt x="2255" y="507"/>
                </a:lnTo>
                <a:lnTo>
                  <a:pt x="2255" y="472"/>
                </a:lnTo>
                <a:lnTo>
                  <a:pt x="2255" y="438"/>
                </a:lnTo>
                <a:lnTo>
                  <a:pt x="2290" y="404"/>
                </a:lnTo>
                <a:lnTo>
                  <a:pt x="2290" y="370"/>
                </a:lnTo>
                <a:lnTo>
                  <a:pt x="2290" y="342"/>
                </a:lnTo>
                <a:lnTo>
                  <a:pt x="2290" y="308"/>
                </a:lnTo>
                <a:lnTo>
                  <a:pt x="2290" y="274"/>
                </a:lnTo>
                <a:lnTo>
                  <a:pt x="2290" y="240"/>
                </a:lnTo>
                <a:lnTo>
                  <a:pt x="2290" y="206"/>
                </a:lnTo>
                <a:lnTo>
                  <a:pt x="2324" y="171"/>
                </a:lnTo>
                <a:lnTo>
                  <a:pt x="2324" y="137"/>
                </a:lnTo>
                <a:lnTo>
                  <a:pt x="2324" y="103"/>
                </a:lnTo>
                <a:lnTo>
                  <a:pt x="2324" y="69"/>
                </a:lnTo>
                <a:lnTo>
                  <a:pt x="2324" y="34"/>
                </a:lnTo>
                <a:lnTo>
                  <a:pt x="2324" y="0"/>
                </a:lnTo>
                <a:lnTo>
                  <a:pt x="2290" y="0"/>
                </a:lnTo>
                <a:lnTo>
                  <a:pt x="2255" y="0"/>
                </a:lnTo>
                <a:lnTo>
                  <a:pt x="2228" y="0"/>
                </a:lnTo>
                <a:lnTo>
                  <a:pt x="2194" y="0"/>
                </a:lnTo>
                <a:lnTo>
                  <a:pt x="2159" y="34"/>
                </a:lnTo>
                <a:lnTo>
                  <a:pt x="2125" y="34"/>
                </a:lnTo>
                <a:lnTo>
                  <a:pt x="2091" y="34"/>
                </a:lnTo>
                <a:lnTo>
                  <a:pt x="2057" y="69"/>
                </a:lnTo>
                <a:lnTo>
                  <a:pt x="2022" y="69"/>
                </a:lnTo>
                <a:lnTo>
                  <a:pt x="1988" y="69"/>
                </a:lnTo>
                <a:lnTo>
                  <a:pt x="1954" y="103"/>
                </a:lnTo>
                <a:lnTo>
                  <a:pt x="1920" y="103"/>
                </a:lnTo>
                <a:lnTo>
                  <a:pt x="1885" y="137"/>
                </a:lnTo>
                <a:lnTo>
                  <a:pt x="1851" y="137"/>
                </a:lnTo>
                <a:lnTo>
                  <a:pt x="1824" y="137"/>
                </a:lnTo>
                <a:lnTo>
                  <a:pt x="1789" y="171"/>
                </a:lnTo>
                <a:lnTo>
                  <a:pt x="1755" y="171"/>
                </a:lnTo>
                <a:lnTo>
                  <a:pt x="1721" y="171"/>
                </a:lnTo>
                <a:lnTo>
                  <a:pt x="1686" y="206"/>
                </a:lnTo>
                <a:lnTo>
                  <a:pt x="1652" y="206"/>
                </a:lnTo>
                <a:lnTo>
                  <a:pt x="1618" y="206"/>
                </a:lnTo>
                <a:lnTo>
                  <a:pt x="1584" y="240"/>
                </a:lnTo>
                <a:lnTo>
                  <a:pt x="1549" y="240"/>
                </a:lnTo>
                <a:lnTo>
                  <a:pt x="1515" y="240"/>
                </a:lnTo>
                <a:lnTo>
                  <a:pt x="1481" y="274"/>
                </a:lnTo>
                <a:lnTo>
                  <a:pt x="1446" y="274"/>
                </a:lnTo>
                <a:lnTo>
                  <a:pt x="1419" y="274"/>
                </a:lnTo>
                <a:lnTo>
                  <a:pt x="1385" y="308"/>
                </a:lnTo>
                <a:lnTo>
                  <a:pt x="1350" y="308"/>
                </a:lnTo>
                <a:lnTo>
                  <a:pt x="1316" y="308"/>
                </a:lnTo>
                <a:lnTo>
                  <a:pt x="1282" y="342"/>
                </a:lnTo>
                <a:lnTo>
                  <a:pt x="1248" y="342"/>
                </a:lnTo>
                <a:lnTo>
                  <a:pt x="1213" y="370"/>
                </a:lnTo>
                <a:lnTo>
                  <a:pt x="1179" y="370"/>
                </a:lnTo>
                <a:lnTo>
                  <a:pt x="1145" y="370"/>
                </a:lnTo>
                <a:lnTo>
                  <a:pt x="1111" y="404"/>
                </a:lnTo>
                <a:lnTo>
                  <a:pt x="1076" y="404"/>
                </a:lnTo>
                <a:lnTo>
                  <a:pt x="1042" y="404"/>
                </a:lnTo>
                <a:lnTo>
                  <a:pt x="1015" y="438"/>
                </a:lnTo>
                <a:lnTo>
                  <a:pt x="980" y="438"/>
                </a:lnTo>
                <a:lnTo>
                  <a:pt x="946" y="438"/>
                </a:lnTo>
                <a:lnTo>
                  <a:pt x="912" y="472"/>
                </a:lnTo>
                <a:lnTo>
                  <a:pt x="877" y="472"/>
                </a:lnTo>
                <a:lnTo>
                  <a:pt x="843" y="472"/>
                </a:lnTo>
                <a:lnTo>
                  <a:pt x="809" y="507"/>
                </a:lnTo>
                <a:lnTo>
                  <a:pt x="775" y="507"/>
                </a:lnTo>
                <a:lnTo>
                  <a:pt x="740" y="507"/>
                </a:lnTo>
                <a:lnTo>
                  <a:pt x="706" y="541"/>
                </a:lnTo>
                <a:lnTo>
                  <a:pt x="672" y="541"/>
                </a:lnTo>
                <a:lnTo>
                  <a:pt x="637" y="541"/>
                </a:lnTo>
                <a:lnTo>
                  <a:pt x="603" y="575"/>
                </a:lnTo>
                <a:lnTo>
                  <a:pt x="576" y="575"/>
                </a:lnTo>
                <a:lnTo>
                  <a:pt x="541" y="575"/>
                </a:lnTo>
                <a:lnTo>
                  <a:pt x="507" y="609"/>
                </a:lnTo>
                <a:lnTo>
                  <a:pt x="473" y="609"/>
                </a:lnTo>
                <a:lnTo>
                  <a:pt x="439" y="643"/>
                </a:lnTo>
                <a:lnTo>
                  <a:pt x="404" y="643"/>
                </a:lnTo>
                <a:lnTo>
                  <a:pt x="370" y="643"/>
                </a:lnTo>
                <a:lnTo>
                  <a:pt x="336" y="678"/>
                </a:lnTo>
                <a:lnTo>
                  <a:pt x="302" y="678"/>
                </a:lnTo>
                <a:lnTo>
                  <a:pt x="267" y="678"/>
                </a:lnTo>
                <a:lnTo>
                  <a:pt x="233" y="712"/>
                </a:lnTo>
                <a:lnTo>
                  <a:pt x="199" y="712"/>
                </a:lnTo>
                <a:lnTo>
                  <a:pt x="171" y="712"/>
                </a:lnTo>
                <a:lnTo>
                  <a:pt x="137" y="746"/>
                </a:lnTo>
                <a:lnTo>
                  <a:pt x="103" y="746"/>
                </a:lnTo>
                <a:lnTo>
                  <a:pt x="103" y="780"/>
                </a:lnTo>
                <a:lnTo>
                  <a:pt x="103" y="815"/>
                </a:lnTo>
                <a:lnTo>
                  <a:pt x="103" y="849"/>
                </a:lnTo>
                <a:lnTo>
                  <a:pt x="103" y="883"/>
                </a:lnTo>
                <a:lnTo>
                  <a:pt x="103" y="917"/>
                </a:lnTo>
                <a:lnTo>
                  <a:pt x="68" y="951"/>
                </a:lnTo>
                <a:lnTo>
                  <a:pt x="68" y="986"/>
                </a:lnTo>
                <a:lnTo>
                  <a:pt x="68" y="1013"/>
                </a:lnTo>
                <a:lnTo>
                  <a:pt x="68" y="1047"/>
                </a:lnTo>
                <a:lnTo>
                  <a:pt x="68" y="1081"/>
                </a:lnTo>
                <a:lnTo>
                  <a:pt x="68" y="1116"/>
                </a:lnTo>
                <a:lnTo>
                  <a:pt x="68" y="1150"/>
                </a:lnTo>
                <a:lnTo>
                  <a:pt x="68" y="1184"/>
                </a:lnTo>
                <a:lnTo>
                  <a:pt x="68" y="1218"/>
                </a:lnTo>
                <a:lnTo>
                  <a:pt x="68" y="1252"/>
                </a:lnTo>
                <a:lnTo>
                  <a:pt x="68" y="1287"/>
                </a:lnTo>
                <a:lnTo>
                  <a:pt x="68" y="1321"/>
                </a:lnTo>
                <a:lnTo>
                  <a:pt x="68" y="1355"/>
                </a:lnTo>
                <a:lnTo>
                  <a:pt x="68" y="1389"/>
                </a:lnTo>
                <a:lnTo>
                  <a:pt x="68" y="1424"/>
                </a:lnTo>
                <a:lnTo>
                  <a:pt x="68" y="1458"/>
                </a:lnTo>
                <a:lnTo>
                  <a:pt x="68" y="1492"/>
                </a:lnTo>
                <a:lnTo>
                  <a:pt x="68" y="1526"/>
                </a:lnTo>
                <a:lnTo>
                  <a:pt x="34" y="1560"/>
                </a:lnTo>
                <a:lnTo>
                  <a:pt x="34" y="1595"/>
                </a:lnTo>
                <a:lnTo>
                  <a:pt x="34" y="1629"/>
                </a:lnTo>
                <a:lnTo>
                  <a:pt x="34" y="1656"/>
                </a:lnTo>
                <a:lnTo>
                  <a:pt x="34" y="1690"/>
                </a:lnTo>
                <a:lnTo>
                  <a:pt x="34" y="1725"/>
                </a:lnTo>
                <a:lnTo>
                  <a:pt x="34" y="1759"/>
                </a:lnTo>
                <a:lnTo>
                  <a:pt x="34" y="1793"/>
                </a:lnTo>
                <a:lnTo>
                  <a:pt x="34" y="1827"/>
                </a:lnTo>
                <a:lnTo>
                  <a:pt x="34" y="1861"/>
                </a:lnTo>
                <a:lnTo>
                  <a:pt x="34" y="1896"/>
                </a:lnTo>
                <a:lnTo>
                  <a:pt x="34" y="1930"/>
                </a:lnTo>
                <a:lnTo>
                  <a:pt x="34" y="1964"/>
                </a:lnTo>
                <a:lnTo>
                  <a:pt x="34" y="1998"/>
                </a:lnTo>
                <a:lnTo>
                  <a:pt x="34" y="2033"/>
                </a:lnTo>
                <a:lnTo>
                  <a:pt x="34" y="2067"/>
                </a:lnTo>
                <a:lnTo>
                  <a:pt x="34" y="2101"/>
                </a:lnTo>
                <a:lnTo>
                  <a:pt x="0" y="2135"/>
                </a:lnTo>
                <a:lnTo>
                  <a:pt x="0" y="2169"/>
                </a:lnTo>
                <a:lnTo>
                  <a:pt x="0" y="2204"/>
                </a:lnTo>
                <a:lnTo>
                  <a:pt x="0" y="2238"/>
                </a:lnTo>
                <a:lnTo>
                  <a:pt x="0" y="2272"/>
                </a:lnTo>
                <a:lnTo>
                  <a:pt x="0" y="2299"/>
                </a:lnTo>
                <a:lnTo>
                  <a:pt x="0" y="2334"/>
                </a:lnTo>
                <a:lnTo>
                  <a:pt x="0" y="2368"/>
                </a:lnTo>
                <a:lnTo>
                  <a:pt x="0" y="2402"/>
                </a:lnTo>
                <a:lnTo>
                  <a:pt x="0" y="2436"/>
                </a:lnTo>
                <a:lnTo>
                  <a:pt x="0" y="2470"/>
                </a:lnTo>
                <a:lnTo>
                  <a:pt x="0" y="2505"/>
                </a:lnTo>
                <a:lnTo>
                  <a:pt x="0" y="2539"/>
                </a:lnTo>
                <a:lnTo>
                  <a:pt x="0" y="2573"/>
                </a:lnTo>
                <a:lnTo>
                  <a:pt x="0" y="2607"/>
                </a:lnTo>
                <a:lnTo>
                  <a:pt x="0" y="2642"/>
                </a:lnTo>
                <a:lnTo>
                  <a:pt x="0" y="2676"/>
                </a:lnTo>
                <a:lnTo>
                  <a:pt x="0" y="2710"/>
                </a:lnTo>
                <a:lnTo>
                  <a:pt x="0" y="2744"/>
                </a:lnTo>
                <a:lnTo>
                  <a:pt x="34" y="2744"/>
                </a:lnTo>
                <a:lnTo>
                  <a:pt x="68" y="2778"/>
                </a:lnTo>
                <a:lnTo>
                  <a:pt x="103" y="2778"/>
                </a:lnTo>
                <a:lnTo>
                  <a:pt x="137" y="2813"/>
                </a:lnTo>
                <a:lnTo>
                  <a:pt x="171" y="2847"/>
                </a:lnTo>
                <a:lnTo>
                  <a:pt x="199" y="2847"/>
                </a:lnTo>
                <a:lnTo>
                  <a:pt x="233" y="2881"/>
                </a:lnTo>
                <a:lnTo>
                  <a:pt x="267" y="2915"/>
                </a:lnTo>
                <a:lnTo>
                  <a:pt x="302" y="2915"/>
                </a:lnTo>
                <a:lnTo>
                  <a:pt x="336" y="2943"/>
                </a:lnTo>
                <a:lnTo>
                  <a:pt x="370" y="2977"/>
                </a:lnTo>
                <a:lnTo>
                  <a:pt x="404" y="2977"/>
                </a:lnTo>
                <a:lnTo>
                  <a:pt x="439" y="3011"/>
                </a:lnTo>
                <a:lnTo>
                  <a:pt x="473" y="3045"/>
                </a:lnTo>
                <a:lnTo>
                  <a:pt x="507" y="3045"/>
                </a:lnTo>
                <a:lnTo>
                  <a:pt x="541" y="3079"/>
                </a:lnTo>
                <a:lnTo>
                  <a:pt x="576" y="3079"/>
                </a:lnTo>
                <a:lnTo>
                  <a:pt x="603" y="3114"/>
                </a:lnTo>
                <a:lnTo>
                  <a:pt x="637" y="3148"/>
                </a:lnTo>
                <a:lnTo>
                  <a:pt x="672" y="3148"/>
                </a:lnTo>
                <a:lnTo>
                  <a:pt x="706" y="3182"/>
                </a:lnTo>
                <a:lnTo>
                  <a:pt x="740" y="3216"/>
                </a:lnTo>
                <a:lnTo>
                  <a:pt x="775" y="3216"/>
                </a:lnTo>
                <a:lnTo>
                  <a:pt x="809" y="3251"/>
                </a:lnTo>
                <a:lnTo>
                  <a:pt x="843" y="3251"/>
                </a:lnTo>
                <a:lnTo>
                  <a:pt x="877" y="3285"/>
                </a:lnTo>
                <a:lnTo>
                  <a:pt x="912" y="3285"/>
                </a:lnTo>
                <a:lnTo>
                  <a:pt x="946" y="3285"/>
                </a:lnTo>
                <a:lnTo>
                  <a:pt x="980" y="3285"/>
                </a:lnTo>
                <a:close/>
              </a:path>
            </a:pathLst>
          </a:custGeom>
          <a:solidFill>
            <a:srgbClr val="9e9e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1" name=""/>
          <p:cNvSpPr/>
          <p:nvPr/>
        </p:nvSpPr>
        <p:spPr>
          <a:xfrm>
            <a:off x="3898800" y="1255680"/>
            <a:ext cx="3189240" cy="5127480"/>
          </a:xfrm>
          <a:custGeom>
            <a:avLst/>
            <a:gdLst/>
            <a:ahLst/>
            <a:rect l="l" t="t" r="r" b="b"/>
            <a:pathLst>
              <a:path w="2009" h="3230">
                <a:moveTo>
                  <a:pt x="706" y="3230"/>
                </a:moveTo>
                <a:lnTo>
                  <a:pt x="741" y="3196"/>
                </a:lnTo>
                <a:lnTo>
                  <a:pt x="775" y="3196"/>
                </a:lnTo>
                <a:lnTo>
                  <a:pt x="802" y="3196"/>
                </a:lnTo>
                <a:lnTo>
                  <a:pt x="837" y="3168"/>
                </a:lnTo>
                <a:lnTo>
                  <a:pt x="871" y="3168"/>
                </a:lnTo>
                <a:lnTo>
                  <a:pt x="905" y="3168"/>
                </a:lnTo>
                <a:lnTo>
                  <a:pt x="940" y="3134"/>
                </a:lnTo>
                <a:lnTo>
                  <a:pt x="974" y="3134"/>
                </a:lnTo>
                <a:lnTo>
                  <a:pt x="1008" y="3134"/>
                </a:lnTo>
                <a:lnTo>
                  <a:pt x="1042" y="3100"/>
                </a:lnTo>
                <a:lnTo>
                  <a:pt x="1077" y="3100"/>
                </a:lnTo>
                <a:lnTo>
                  <a:pt x="1077" y="3066"/>
                </a:lnTo>
                <a:lnTo>
                  <a:pt x="1104" y="3031"/>
                </a:lnTo>
                <a:lnTo>
                  <a:pt x="1104" y="2997"/>
                </a:lnTo>
                <a:lnTo>
                  <a:pt x="1138" y="2963"/>
                </a:lnTo>
                <a:lnTo>
                  <a:pt x="1138" y="2936"/>
                </a:lnTo>
                <a:lnTo>
                  <a:pt x="1173" y="2901"/>
                </a:lnTo>
                <a:lnTo>
                  <a:pt x="1173" y="2867"/>
                </a:lnTo>
                <a:lnTo>
                  <a:pt x="1207" y="2833"/>
                </a:lnTo>
                <a:lnTo>
                  <a:pt x="1207" y="2799"/>
                </a:lnTo>
                <a:lnTo>
                  <a:pt x="1241" y="2765"/>
                </a:lnTo>
                <a:lnTo>
                  <a:pt x="1241" y="2730"/>
                </a:lnTo>
                <a:lnTo>
                  <a:pt x="1275" y="2696"/>
                </a:lnTo>
                <a:lnTo>
                  <a:pt x="1275" y="2669"/>
                </a:lnTo>
                <a:lnTo>
                  <a:pt x="1310" y="2635"/>
                </a:lnTo>
                <a:lnTo>
                  <a:pt x="1310" y="2600"/>
                </a:lnTo>
                <a:lnTo>
                  <a:pt x="1344" y="2566"/>
                </a:lnTo>
                <a:lnTo>
                  <a:pt x="1344" y="2532"/>
                </a:lnTo>
                <a:lnTo>
                  <a:pt x="1371" y="2498"/>
                </a:lnTo>
                <a:lnTo>
                  <a:pt x="1371" y="2463"/>
                </a:lnTo>
                <a:lnTo>
                  <a:pt x="1399" y="2443"/>
                </a:lnTo>
                <a:lnTo>
                  <a:pt x="1399" y="2429"/>
                </a:lnTo>
                <a:lnTo>
                  <a:pt x="1406" y="2422"/>
                </a:lnTo>
                <a:lnTo>
                  <a:pt x="1406" y="2409"/>
                </a:lnTo>
                <a:lnTo>
                  <a:pt x="1406" y="2402"/>
                </a:lnTo>
                <a:lnTo>
                  <a:pt x="1413" y="2388"/>
                </a:lnTo>
                <a:lnTo>
                  <a:pt x="1413" y="2375"/>
                </a:lnTo>
                <a:lnTo>
                  <a:pt x="1413" y="2368"/>
                </a:lnTo>
                <a:lnTo>
                  <a:pt x="1419" y="2354"/>
                </a:lnTo>
                <a:lnTo>
                  <a:pt x="1419" y="2347"/>
                </a:lnTo>
                <a:lnTo>
                  <a:pt x="1419" y="2333"/>
                </a:lnTo>
                <a:lnTo>
                  <a:pt x="1419" y="2327"/>
                </a:lnTo>
                <a:lnTo>
                  <a:pt x="1426" y="2313"/>
                </a:lnTo>
                <a:lnTo>
                  <a:pt x="1426" y="2306"/>
                </a:lnTo>
                <a:lnTo>
                  <a:pt x="1426" y="2292"/>
                </a:lnTo>
                <a:lnTo>
                  <a:pt x="1433" y="2286"/>
                </a:lnTo>
                <a:lnTo>
                  <a:pt x="1433" y="2272"/>
                </a:lnTo>
                <a:lnTo>
                  <a:pt x="1433" y="2265"/>
                </a:lnTo>
                <a:lnTo>
                  <a:pt x="1433" y="2251"/>
                </a:lnTo>
                <a:lnTo>
                  <a:pt x="1440" y="2244"/>
                </a:lnTo>
                <a:lnTo>
                  <a:pt x="1440" y="2231"/>
                </a:lnTo>
                <a:lnTo>
                  <a:pt x="1440" y="2217"/>
                </a:lnTo>
                <a:lnTo>
                  <a:pt x="1447" y="2210"/>
                </a:lnTo>
                <a:lnTo>
                  <a:pt x="1447" y="2197"/>
                </a:lnTo>
                <a:lnTo>
                  <a:pt x="1447" y="2190"/>
                </a:lnTo>
                <a:lnTo>
                  <a:pt x="1440" y="2176"/>
                </a:lnTo>
                <a:lnTo>
                  <a:pt x="1433" y="2169"/>
                </a:lnTo>
                <a:lnTo>
                  <a:pt x="1433" y="2169"/>
                </a:lnTo>
                <a:lnTo>
                  <a:pt x="1426" y="2162"/>
                </a:lnTo>
                <a:lnTo>
                  <a:pt x="1419" y="2162"/>
                </a:lnTo>
                <a:lnTo>
                  <a:pt x="1413" y="2162"/>
                </a:lnTo>
                <a:lnTo>
                  <a:pt x="1406" y="2156"/>
                </a:lnTo>
                <a:lnTo>
                  <a:pt x="1399" y="2149"/>
                </a:lnTo>
                <a:lnTo>
                  <a:pt x="1392" y="2142"/>
                </a:lnTo>
                <a:lnTo>
                  <a:pt x="1385" y="2135"/>
                </a:lnTo>
                <a:lnTo>
                  <a:pt x="1385" y="2128"/>
                </a:lnTo>
                <a:lnTo>
                  <a:pt x="1378" y="2121"/>
                </a:lnTo>
                <a:lnTo>
                  <a:pt x="1371" y="2114"/>
                </a:lnTo>
                <a:lnTo>
                  <a:pt x="1365" y="2108"/>
                </a:lnTo>
                <a:lnTo>
                  <a:pt x="1358" y="2101"/>
                </a:lnTo>
                <a:lnTo>
                  <a:pt x="1358" y="2094"/>
                </a:lnTo>
                <a:lnTo>
                  <a:pt x="1351" y="2087"/>
                </a:lnTo>
                <a:lnTo>
                  <a:pt x="1344" y="2087"/>
                </a:lnTo>
                <a:lnTo>
                  <a:pt x="1337" y="2087"/>
                </a:lnTo>
                <a:lnTo>
                  <a:pt x="1330" y="2087"/>
                </a:lnTo>
                <a:lnTo>
                  <a:pt x="1323" y="2087"/>
                </a:lnTo>
                <a:lnTo>
                  <a:pt x="1317" y="2087"/>
                </a:lnTo>
                <a:lnTo>
                  <a:pt x="1310" y="2087"/>
                </a:lnTo>
                <a:lnTo>
                  <a:pt x="1303" y="2087"/>
                </a:lnTo>
                <a:lnTo>
                  <a:pt x="1296" y="2087"/>
                </a:lnTo>
                <a:lnTo>
                  <a:pt x="1289" y="2087"/>
                </a:lnTo>
                <a:lnTo>
                  <a:pt x="1282" y="2087"/>
                </a:lnTo>
                <a:lnTo>
                  <a:pt x="1275" y="2087"/>
                </a:lnTo>
                <a:lnTo>
                  <a:pt x="1269" y="2087"/>
                </a:lnTo>
                <a:lnTo>
                  <a:pt x="1262" y="2080"/>
                </a:lnTo>
                <a:lnTo>
                  <a:pt x="1255" y="2080"/>
                </a:lnTo>
                <a:lnTo>
                  <a:pt x="1248" y="2080"/>
                </a:lnTo>
                <a:lnTo>
                  <a:pt x="1234" y="2080"/>
                </a:lnTo>
                <a:lnTo>
                  <a:pt x="1227" y="2080"/>
                </a:lnTo>
                <a:lnTo>
                  <a:pt x="1221" y="2080"/>
                </a:lnTo>
                <a:lnTo>
                  <a:pt x="1214" y="2080"/>
                </a:lnTo>
                <a:lnTo>
                  <a:pt x="1207" y="2080"/>
                </a:lnTo>
                <a:lnTo>
                  <a:pt x="1200" y="2080"/>
                </a:lnTo>
                <a:lnTo>
                  <a:pt x="1193" y="2080"/>
                </a:lnTo>
                <a:lnTo>
                  <a:pt x="1186" y="2080"/>
                </a:lnTo>
                <a:lnTo>
                  <a:pt x="1179" y="2080"/>
                </a:lnTo>
                <a:lnTo>
                  <a:pt x="1173" y="2080"/>
                </a:lnTo>
                <a:lnTo>
                  <a:pt x="1166" y="2080"/>
                </a:lnTo>
                <a:lnTo>
                  <a:pt x="1159" y="2080"/>
                </a:lnTo>
                <a:lnTo>
                  <a:pt x="1152" y="2080"/>
                </a:lnTo>
                <a:lnTo>
                  <a:pt x="1145" y="2080"/>
                </a:lnTo>
                <a:lnTo>
                  <a:pt x="1138" y="2080"/>
                </a:lnTo>
                <a:lnTo>
                  <a:pt x="1131" y="2080"/>
                </a:lnTo>
                <a:lnTo>
                  <a:pt x="1125" y="2080"/>
                </a:lnTo>
                <a:lnTo>
                  <a:pt x="1118" y="2080"/>
                </a:lnTo>
                <a:lnTo>
                  <a:pt x="1111" y="2080"/>
                </a:lnTo>
                <a:lnTo>
                  <a:pt x="1104" y="2080"/>
                </a:lnTo>
                <a:lnTo>
                  <a:pt x="1097" y="2080"/>
                </a:lnTo>
                <a:lnTo>
                  <a:pt x="1090" y="2080"/>
                </a:lnTo>
                <a:lnTo>
                  <a:pt x="1083" y="2080"/>
                </a:lnTo>
                <a:lnTo>
                  <a:pt x="1077" y="2080"/>
                </a:lnTo>
                <a:lnTo>
                  <a:pt x="1070" y="2080"/>
                </a:lnTo>
                <a:lnTo>
                  <a:pt x="1063" y="2080"/>
                </a:lnTo>
                <a:lnTo>
                  <a:pt x="1056" y="2080"/>
                </a:lnTo>
                <a:lnTo>
                  <a:pt x="1049" y="2080"/>
                </a:lnTo>
                <a:lnTo>
                  <a:pt x="1042" y="2080"/>
                </a:lnTo>
                <a:lnTo>
                  <a:pt x="1035" y="2080"/>
                </a:lnTo>
                <a:lnTo>
                  <a:pt x="1029" y="2080"/>
                </a:lnTo>
                <a:lnTo>
                  <a:pt x="1022" y="2080"/>
                </a:lnTo>
                <a:lnTo>
                  <a:pt x="1015" y="2080"/>
                </a:lnTo>
                <a:lnTo>
                  <a:pt x="1008" y="2080"/>
                </a:lnTo>
                <a:lnTo>
                  <a:pt x="1001" y="2080"/>
                </a:lnTo>
                <a:lnTo>
                  <a:pt x="994" y="2073"/>
                </a:lnTo>
                <a:lnTo>
                  <a:pt x="988" y="2073"/>
                </a:lnTo>
                <a:lnTo>
                  <a:pt x="981" y="2067"/>
                </a:lnTo>
                <a:lnTo>
                  <a:pt x="981" y="2067"/>
                </a:lnTo>
                <a:lnTo>
                  <a:pt x="988" y="2060"/>
                </a:lnTo>
                <a:lnTo>
                  <a:pt x="1001" y="2060"/>
                </a:lnTo>
                <a:lnTo>
                  <a:pt x="1008" y="2053"/>
                </a:lnTo>
                <a:lnTo>
                  <a:pt x="1015" y="2053"/>
                </a:lnTo>
                <a:lnTo>
                  <a:pt x="1022" y="2046"/>
                </a:lnTo>
                <a:lnTo>
                  <a:pt x="1022" y="2039"/>
                </a:lnTo>
                <a:lnTo>
                  <a:pt x="1029" y="2032"/>
                </a:lnTo>
                <a:lnTo>
                  <a:pt x="1035" y="2026"/>
                </a:lnTo>
                <a:lnTo>
                  <a:pt x="1042" y="2019"/>
                </a:lnTo>
                <a:lnTo>
                  <a:pt x="1049" y="2012"/>
                </a:lnTo>
                <a:lnTo>
                  <a:pt x="1056" y="2012"/>
                </a:lnTo>
                <a:lnTo>
                  <a:pt x="1063" y="2005"/>
                </a:lnTo>
                <a:lnTo>
                  <a:pt x="1063" y="1998"/>
                </a:lnTo>
                <a:lnTo>
                  <a:pt x="1070" y="1991"/>
                </a:lnTo>
                <a:lnTo>
                  <a:pt x="1077" y="1984"/>
                </a:lnTo>
                <a:lnTo>
                  <a:pt x="1083" y="1978"/>
                </a:lnTo>
                <a:lnTo>
                  <a:pt x="1090" y="1971"/>
                </a:lnTo>
                <a:lnTo>
                  <a:pt x="1097" y="1971"/>
                </a:lnTo>
                <a:lnTo>
                  <a:pt x="1104" y="1964"/>
                </a:lnTo>
                <a:lnTo>
                  <a:pt x="1104" y="1957"/>
                </a:lnTo>
                <a:lnTo>
                  <a:pt x="1111" y="1950"/>
                </a:lnTo>
                <a:lnTo>
                  <a:pt x="1118" y="1943"/>
                </a:lnTo>
                <a:lnTo>
                  <a:pt x="1125" y="1937"/>
                </a:lnTo>
                <a:lnTo>
                  <a:pt x="1131" y="1937"/>
                </a:lnTo>
                <a:lnTo>
                  <a:pt x="1138" y="1930"/>
                </a:lnTo>
                <a:lnTo>
                  <a:pt x="1145" y="1923"/>
                </a:lnTo>
                <a:lnTo>
                  <a:pt x="1145" y="1916"/>
                </a:lnTo>
                <a:lnTo>
                  <a:pt x="1152" y="1909"/>
                </a:lnTo>
                <a:lnTo>
                  <a:pt x="1159" y="1902"/>
                </a:lnTo>
                <a:lnTo>
                  <a:pt x="1166" y="1902"/>
                </a:lnTo>
                <a:lnTo>
                  <a:pt x="1173" y="1896"/>
                </a:lnTo>
                <a:lnTo>
                  <a:pt x="1179" y="1889"/>
                </a:lnTo>
                <a:lnTo>
                  <a:pt x="1186" y="1882"/>
                </a:lnTo>
                <a:lnTo>
                  <a:pt x="1186" y="1875"/>
                </a:lnTo>
                <a:lnTo>
                  <a:pt x="1193" y="1868"/>
                </a:lnTo>
                <a:lnTo>
                  <a:pt x="1200" y="1861"/>
                </a:lnTo>
                <a:lnTo>
                  <a:pt x="1207" y="1861"/>
                </a:lnTo>
                <a:lnTo>
                  <a:pt x="1214" y="1854"/>
                </a:lnTo>
                <a:lnTo>
                  <a:pt x="1221" y="1848"/>
                </a:lnTo>
                <a:lnTo>
                  <a:pt x="1227" y="1841"/>
                </a:lnTo>
                <a:lnTo>
                  <a:pt x="1227" y="1834"/>
                </a:lnTo>
                <a:lnTo>
                  <a:pt x="1234" y="1827"/>
                </a:lnTo>
                <a:lnTo>
                  <a:pt x="1241" y="1827"/>
                </a:lnTo>
                <a:lnTo>
                  <a:pt x="1248" y="1820"/>
                </a:lnTo>
                <a:lnTo>
                  <a:pt x="1255" y="1813"/>
                </a:lnTo>
                <a:lnTo>
                  <a:pt x="1262" y="1807"/>
                </a:lnTo>
                <a:lnTo>
                  <a:pt x="1269" y="1800"/>
                </a:lnTo>
                <a:lnTo>
                  <a:pt x="1269" y="1793"/>
                </a:lnTo>
                <a:lnTo>
                  <a:pt x="1275" y="1793"/>
                </a:lnTo>
                <a:lnTo>
                  <a:pt x="1282" y="1786"/>
                </a:lnTo>
                <a:lnTo>
                  <a:pt x="1289" y="1779"/>
                </a:lnTo>
                <a:lnTo>
                  <a:pt x="1296" y="1772"/>
                </a:lnTo>
                <a:lnTo>
                  <a:pt x="1303" y="1766"/>
                </a:lnTo>
                <a:lnTo>
                  <a:pt x="1310" y="1759"/>
                </a:lnTo>
                <a:lnTo>
                  <a:pt x="1310" y="1759"/>
                </a:lnTo>
                <a:lnTo>
                  <a:pt x="1317" y="1752"/>
                </a:lnTo>
                <a:lnTo>
                  <a:pt x="1323" y="1745"/>
                </a:lnTo>
                <a:lnTo>
                  <a:pt x="1330" y="1738"/>
                </a:lnTo>
                <a:lnTo>
                  <a:pt x="1337" y="1731"/>
                </a:lnTo>
                <a:lnTo>
                  <a:pt x="1337" y="1724"/>
                </a:lnTo>
                <a:lnTo>
                  <a:pt x="1344" y="1711"/>
                </a:lnTo>
                <a:lnTo>
                  <a:pt x="1344" y="1704"/>
                </a:lnTo>
                <a:lnTo>
                  <a:pt x="1337" y="1697"/>
                </a:lnTo>
                <a:lnTo>
                  <a:pt x="1330" y="1690"/>
                </a:lnTo>
                <a:lnTo>
                  <a:pt x="1323" y="1683"/>
                </a:lnTo>
                <a:lnTo>
                  <a:pt x="1317" y="1683"/>
                </a:lnTo>
                <a:lnTo>
                  <a:pt x="1310" y="1677"/>
                </a:lnTo>
                <a:lnTo>
                  <a:pt x="1310" y="1663"/>
                </a:lnTo>
                <a:lnTo>
                  <a:pt x="1310" y="1649"/>
                </a:lnTo>
                <a:lnTo>
                  <a:pt x="1310" y="1642"/>
                </a:lnTo>
                <a:lnTo>
                  <a:pt x="1303" y="1636"/>
                </a:lnTo>
                <a:lnTo>
                  <a:pt x="1296" y="1636"/>
                </a:lnTo>
                <a:lnTo>
                  <a:pt x="1289" y="1636"/>
                </a:lnTo>
                <a:lnTo>
                  <a:pt x="1282" y="1642"/>
                </a:lnTo>
                <a:lnTo>
                  <a:pt x="1269" y="1642"/>
                </a:lnTo>
                <a:lnTo>
                  <a:pt x="1262" y="1642"/>
                </a:lnTo>
                <a:lnTo>
                  <a:pt x="1255" y="1642"/>
                </a:lnTo>
                <a:lnTo>
                  <a:pt x="1248" y="1642"/>
                </a:lnTo>
                <a:lnTo>
                  <a:pt x="1241" y="1642"/>
                </a:lnTo>
                <a:lnTo>
                  <a:pt x="1234" y="1642"/>
                </a:lnTo>
                <a:lnTo>
                  <a:pt x="1227" y="1642"/>
                </a:lnTo>
                <a:lnTo>
                  <a:pt x="1221" y="1642"/>
                </a:lnTo>
                <a:lnTo>
                  <a:pt x="1214" y="1642"/>
                </a:lnTo>
                <a:lnTo>
                  <a:pt x="1207" y="1642"/>
                </a:lnTo>
                <a:lnTo>
                  <a:pt x="1200" y="1642"/>
                </a:lnTo>
                <a:lnTo>
                  <a:pt x="1193" y="1642"/>
                </a:lnTo>
                <a:lnTo>
                  <a:pt x="1186" y="1642"/>
                </a:lnTo>
                <a:lnTo>
                  <a:pt x="1179" y="1642"/>
                </a:lnTo>
                <a:lnTo>
                  <a:pt x="1173" y="1642"/>
                </a:lnTo>
                <a:lnTo>
                  <a:pt x="1166" y="1649"/>
                </a:lnTo>
                <a:lnTo>
                  <a:pt x="1159" y="1649"/>
                </a:lnTo>
                <a:lnTo>
                  <a:pt x="1152" y="1649"/>
                </a:lnTo>
                <a:lnTo>
                  <a:pt x="1145" y="1649"/>
                </a:lnTo>
                <a:lnTo>
                  <a:pt x="1138" y="1649"/>
                </a:lnTo>
                <a:lnTo>
                  <a:pt x="1131" y="1649"/>
                </a:lnTo>
                <a:lnTo>
                  <a:pt x="1125" y="1649"/>
                </a:lnTo>
                <a:lnTo>
                  <a:pt x="1118" y="1649"/>
                </a:lnTo>
                <a:lnTo>
                  <a:pt x="1111" y="1649"/>
                </a:lnTo>
                <a:lnTo>
                  <a:pt x="1104" y="1649"/>
                </a:lnTo>
                <a:lnTo>
                  <a:pt x="1097" y="1656"/>
                </a:lnTo>
                <a:lnTo>
                  <a:pt x="1090" y="1656"/>
                </a:lnTo>
                <a:lnTo>
                  <a:pt x="1083" y="1656"/>
                </a:lnTo>
                <a:lnTo>
                  <a:pt x="1077" y="1656"/>
                </a:lnTo>
                <a:lnTo>
                  <a:pt x="1070" y="1663"/>
                </a:lnTo>
                <a:lnTo>
                  <a:pt x="1063" y="1663"/>
                </a:lnTo>
                <a:lnTo>
                  <a:pt x="1056" y="1663"/>
                </a:lnTo>
                <a:lnTo>
                  <a:pt x="1049" y="1670"/>
                </a:lnTo>
                <a:lnTo>
                  <a:pt x="1042" y="1670"/>
                </a:lnTo>
                <a:lnTo>
                  <a:pt x="1035" y="1670"/>
                </a:lnTo>
                <a:lnTo>
                  <a:pt x="1029" y="1677"/>
                </a:lnTo>
                <a:lnTo>
                  <a:pt x="1022" y="1677"/>
                </a:lnTo>
                <a:lnTo>
                  <a:pt x="1015" y="1677"/>
                </a:lnTo>
                <a:lnTo>
                  <a:pt x="1008" y="1683"/>
                </a:lnTo>
                <a:lnTo>
                  <a:pt x="1001" y="1683"/>
                </a:lnTo>
                <a:lnTo>
                  <a:pt x="1001" y="1690"/>
                </a:lnTo>
                <a:lnTo>
                  <a:pt x="994" y="1690"/>
                </a:lnTo>
                <a:lnTo>
                  <a:pt x="988" y="1690"/>
                </a:lnTo>
                <a:lnTo>
                  <a:pt x="981" y="1697"/>
                </a:lnTo>
                <a:lnTo>
                  <a:pt x="974" y="1697"/>
                </a:lnTo>
                <a:lnTo>
                  <a:pt x="967" y="1697"/>
                </a:lnTo>
                <a:lnTo>
                  <a:pt x="960" y="1704"/>
                </a:lnTo>
                <a:lnTo>
                  <a:pt x="953" y="1704"/>
                </a:lnTo>
                <a:lnTo>
                  <a:pt x="946" y="1711"/>
                </a:lnTo>
                <a:lnTo>
                  <a:pt x="940" y="1711"/>
                </a:lnTo>
                <a:lnTo>
                  <a:pt x="933" y="1704"/>
                </a:lnTo>
                <a:lnTo>
                  <a:pt x="926" y="1697"/>
                </a:lnTo>
                <a:lnTo>
                  <a:pt x="926" y="1683"/>
                </a:lnTo>
                <a:lnTo>
                  <a:pt x="933" y="1677"/>
                </a:lnTo>
                <a:lnTo>
                  <a:pt x="940" y="1663"/>
                </a:lnTo>
                <a:lnTo>
                  <a:pt x="940" y="1656"/>
                </a:lnTo>
                <a:lnTo>
                  <a:pt x="946" y="1649"/>
                </a:lnTo>
                <a:lnTo>
                  <a:pt x="946" y="1636"/>
                </a:lnTo>
                <a:lnTo>
                  <a:pt x="953" y="1629"/>
                </a:lnTo>
                <a:lnTo>
                  <a:pt x="953" y="1622"/>
                </a:lnTo>
                <a:lnTo>
                  <a:pt x="960" y="1608"/>
                </a:lnTo>
                <a:lnTo>
                  <a:pt x="967" y="1601"/>
                </a:lnTo>
                <a:lnTo>
                  <a:pt x="967" y="1594"/>
                </a:lnTo>
                <a:lnTo>
                  <a:pt x="974" y="1581"/>
                </a:lnTo>
                <a:lnTo>
                  <a:pt x="974" y="1574"/>
                </a:lnTo>
                <a:lnTo>
                  <a:pt x="981" y="1567"/>
                </a:lnTo>
                <a:lnTo>
                  <a:pt x="981" y="1553"/>
                </a:lnTo>
                <a:lnTo>
                  <a:pt x="988" y="1547"/>
                </a:lnTo>
                <a:lnTo>
                  <a:pt x="994" y="1540"/>
                </a:lnTo>
                <a:lnTo>
                  <a:pt x="994" y="1526"/>
                </a:lnTo>
                <a:lnTo>
                  <a:pt x="994" y="1519"/>
                </a:lnTo>
                <a:lnTo>
                  <a:pt x="1001" y="1505"/>
                </a:lnTo>
                <a:lnTo>
                  <a:pt x="1008" y="1499"/>
                </a:lnTo>
                <a:lnTo>
                  <a:pt x="1015" y="1492"/>
                </a:lnTo>
                <a:lnTo>
                  <a:pt x="1015" y="1485"/>
                </a:lnTo>
                <a:lnTo>
                  <a:pt x="1022" y="1478"/>
                </a:lnTo>
                <a:lnTo>
                  <a:pt x="1029" y="1471"/>
                </a:lnTo>
                <a:lnTo>
                  <a:pt x="1029" y="1458"/>
                </a:lnTo>
                <a:lnTo>
                  <a:pt x="1029" y="1451"/>
                </a:lnTo>
                <a:lnTo>
                  <a:pt x="1029" y="1437"/>
                </a:lnTo>
                <a:lnTo>
                  <a:pt x="1029" y="1423"/>
                </a:lnTo>
                <a:lnTo>
                  <a:pt x="1029" y="1417"/>
                </a:lnTo>
                <a:lnTo>
                  <a:pt x="1029" y="1403"/>
                </a:lnTo>
                <a:lnTo>
                  <a:pt x="1029" y="1396"/>
                </a:lnTo>
                <a:lnTo>
                  <a:pt x="1029" y="1382"/>
                </a:lnTo>
                <a:lnTo>
                  <a:pt x="1035" y="1369"/>
                </a:lnTo>
                <a:lnTo>
                  <a:pt x="1035" y="1362"/>
                </a:lnTo>
                <a:lnTo>
                  <a:pt x="1035" y="1348"/>
                </a:lnTo>
                <a:lnTo>
                  <a:pt x="1035" y="1341"/>
                </a:lnTo>
                <a:lnTo>
                  <a:pt x="1035" y="1328"/>
                </a:lnTo>
                <a:lnTo>
                  <a:pt x="1035" y="1314"/>
                </a:lnTo>
                <a:lnTo>
                  <a:pt x="1035" y="1307"/>
                </a:lnTo>
                <a:lnTo>
                  <a:pt x="1035" y="1293"/>
                </a:lnTo>
                <a:lnTo>
                  <a:pt x="1035" y="1287"/>
                </a:lnTo>
                <a:lnTo>
                  <a:pt x="1035" y="1273"/>
                </a:lnTo>
                <a:lnTo>
                  <a:pt x="1042" y="1259"/>
                </a:lnTo>
                <a:lnTo>
                  <a:pt x="1042" y="1252"/>
                </a:lnTo>
                <a:lnTo>
                  <a:pt x="1049" y="1252"/>
                </a:lnTo>
                <a:lnTo>
                  <a:pt x="1056" y="1252"/>
                </a:lnTo>
                <a:lnTo>
                  <a:pt x="1063" y="1259"/>
                </a:lnTo>
                <a:lnTo>
                  <a:pt x="1077" y="1259"/>
                </a:lnTo>
                <a:lnTo>
                  <a:pt x="1083" y="1266"/>
                </a:lnTo>
                <a:lnTo>
                  <a:pt x="1083" y="1266"/>
                </a:lnTo>
                <a:lnTo>
                  <a:pt x="1090" y="1273"/>
                </a:lnTo>
                <a:lnTo>
                  <a:pt x="1097" y="1273"/>
                </a:lnTo>
                <a:lnTo>
                  <a:pt x="1104" y="1273"/>
                </a:lnTo>
                <a:lnTo>
                  <a:pt x="1111" y="1280"/>
                </a:lnTo>
                <a:lnTo>
                  <a:pt x="1118" y="1280"/>
                </a:lnTo>
                <a:lnTo>
                  <a:pt x="1125" y="1287"/>
                </a:lnTo>
                <a:lnTo>
                  <a:pt x="1131" y="1287"/>
                </a:lnTo>
                <a:lnTo>
                  <a:pt x="1138" y="1293"/>
                </a:lnTo>
                <a:lnTo>
                  <a:pt x="1145" y="1293"/>
                </a:lnTo>
                <a:lnTo>
                  <a:pt x="1152" y="1300"/>
                </a:lnTo>
                <a:lnTo>
                  <a:pt x="1159" y="1300"/>
                </a:lnTo>
                <a:lnTo>
                  <a:pt x="1166" y="1300"/>
                </a:lnTo>
                <a:lnTo>
                  <a:pt x="1173" y="1307"/>
                </a:lnTo>
                <a:lnTo>
                  <a:pt x="1179" y="1307"/>
                </a:lnTo>
                <a:lnTo>
                  <a:pt x="1186" y="1314"/>
                </a:lnTo>
                <a:lnTo>
                  <a:pt x="1193" y="1314"/>
                </a:lnTo>
                <a:lnTo>
                  <a:pt x="1200" y="1321"/>
                </a:lnTo>
                <a:lnTo>
                  <a:pt x="1207" y="1321"/>
                </a:lnTo>
                <a:lnTo>
                  <a:pt x="1214" y="1328"/>
                </a:lnTo>
                <a:lnTo>
                  <a:pt x="1221" y="1328"/>
                </a:lnTo>
                <a:lnTo>
                  <a:pt x="1227" y="1328"/>
                </a:lnTo>
                <a:lnTo>
                  <a:pt x="1234" y="1334"/>
                </a:lnTo>
                <a:lnTo>
                  <a:pt x="1241" y="1334"/>
                </a:lnTo>
                <a:lnTo>
                  <a:pt x="1248" y="1341"/>
                </a:lnTo>
                <a:lnTo>
                  <a:pt x="1255" y="1341"/>
                </a:lnTo>
                <a:lnTo>
                  <a:pt x="1262" y="1348"/>
                </a:lnTo>
                <a:lnTo>
                  <a:pt x="1269" y="1348"/>
                </a:lnTo>
                <a:lnTo>
                  <a:pt x="1275" y="1348"/>
                </a:lnTo>
                <a:lnTo>
                  <a:pt x="1282" y="1355"/>
                </a:lnTo>
                <a:lnTo>
                  <a:pt x="1282" y="1355"/>
                </a:lnTo>
                <a:lnTo>
                  <a:pt x="1289" y="1362"/>
                </a:lnTo>
                <a:lnTo>
                  <a:pt x="1296" y="1362"/>
                </a:lnTo>
                <a:lnTo>
                  <a:pt x="1303" y="1369"/>
                </a:lnTo>
                <a:lnTo>
                  <a:pt x="1310" y="1369"/>
                </a:lnTo>
                <a:lnTo>
                  <a:pt x="1317" y="1375"/>
                </a:lnTo>
                <a:lnTo>
                  <a:pt x="1323" y="1375"/>
                </a:lnTo>
                <a:lnTo>
                  <a:pt x="1330" y="1375"/>
                </a:lnTo>
                <a:lnTo>
                  <a:pt x="1337" y="1382"/>
                </a:lnTo>
                <a:lnTo>
                  <a:pt x="1344" y="1382"/>
                </a:lnTo>
                <a:lnTo>
                  <a:pt x="1351" y="1389"/>
                </a:lnTo>
                <a:lnTo>
                  <a:pt x="1358" y="1389"/>
                </a:lnTo>
                <a:lnTo>
                  <a:pt x="1365" y="1396"/>
                </a:lnTo>
                <a:lnTo>
                  <a:pt x="1371" y="1396"/>
                </a:lnTo>
                <a:lnTo>
                  <a:pt x="1378" y="1403"/>
                </a:lnTo>
                <a:lnTo>
                  <a:pt x="1385" y="1403"/>
                </a:lnTo>
                <a:lnTo>
                  <a:pt x="1392" y="1403"/>
                </a:lnTo>
                <a:lnTo>
                  <a:pt x="1399" y="1410"/>
                </a:lnTo>
                <a:lnTo>
                  <a:pt x="1406" y="1410"/>
                </a:lnTo>
                <a:lnTo>
                  <a:pt x="1413" y="1417"/>
                </a:lnTo>
                <a:lnTo>
                  <a:pt x="1419" y="1417"/>
                </a:lnTo>
                <a:lnTo>
                  <a:pt x="1426" y="1417"/>
                </a:lnTo>
                <a:lnTo>
                  <a:pt x="1433" y="1423"/>
                </a:lnTo>
                <a:lnTo>
                  <a:pt x="1440" y="1423"/>
                </a:lnTo>
                <a:lnTo>
                  <a:pt x="1447" y="1423"/>
                </a:lnTo>
                <a:lnTo>
                  <a:pt x="1454" y="1430"/>
                </a:lnTo>
                <a:lnTo>
                  <a:pt x="1461" y="1430"/>
                </a:lnTo>
                <a:lnTo>
                  <a:pt x="1467" y="1437"/>
                </a:lnTo>
                <a:lnTo>
                  <a:pt x="1474" y="1444"/>
                </a:lnTo>
                <a:lnTo>
                  <a:pt x="1481" y="1444"/>
                </a:lnTo>
                <a:lnTo>
                  <a:pt x="1488" y="1444"/>
                </a:lnTo>
                <a:lnTo>
                  <a:pt x="1495" y="1444"/>
                </a:lnTo>
                <a:lnTo>
                  <a:pt x="1502" y="1444"/>
                </a:lnTo>
                <a:lnTo>
                  <a:pt x="1509" y="1437"/>
                </a:lnTo>
                <a:lnTo>
                  <a:pt x="1509" y="1430"/>
                </a:lnTo>
                <a:lnTo>
                  <a:pt x="1509" y="1417"/>
                </a:lnTo>
                <a:lnTo>
                  <a:pt x="1515" y="1403"/>
                </a:lnTo>
                <a:lnTo>
                  <a:pt x="1515" y="1396"/>
                </a:lnTo>
                <a:lnTo>
                  <a:pt x="1515" y="1382"/>
                </a:lnTo>
                <a:lnTo>
                  <a:pt x="1522" y="1375"/>
                </a:lnTo>
                <a:lnTo>
                  <a:pt x="1522" y="1369"/>
                </a:lnTo>
                <a:lnTo>
                  <a:pt x="1529" y="1362"/>
                </a:lnTo>
                <a:lnTo>
                  <a:pt x="1536" y="1348"/>
                </a:lnTo>
                <a:lnTo>
                  <a:pt x="1536" y="1341"/>
                </a:lnTo>
                <a:lnTo>
                  <a:pt x="1543" y="1328"/>
                </a:lnTo>
                <a:lnTo>
                  <a:pt x="1543" y="1321"/>
                </a:lnTo>
                <a:lnTo>
                  <a:pt x="1543" y="1307"/>
                </a:lnTo>
                <a:lnTo>
                  <a:pt x="1550" y="1300"/>
                </a:lnTo>
                <a:lnTo>
                  <a:pt x="1550" y="1287"/>
                </a:lnTo>
                <a:lnTo>
                  <a:pt x="1550" y="1280"/>
                </a:lnTo>
                <a:lnTo>
                  <a:pt x="1550" y="1266"/>
                </a:lnTo>
                <a:lnTo>
                  <a:pt x="1557" y="1259"/>
                </a:lnTo>
                <a:lnTo>
                  <a:pt x="1557" y="1245"/>
                </a:lnTo>
                <a:lnTo>
                  <a:pt x="1557" y="1239"/>
                </a:lnTo>
                <a:lnTo>
                  <a:pt x="1563" y="1225"/>
                </a:lnTo>
                <a:lnTo>
                  <a:pt x="1563" y="1218"/>
                </a:lnTo>
                <a:lnTo>
                  <a:pt x="1570" y="1204"/>
                </a:lnTo>
                <a:lnTo>
                  <a:pt x="1570" y="1198"/>
                </a:lnTo>
                <a:lnTo>
                  <a:pt x="1577" y="1191"/>
                </a:lnTo>
                <a:lnTo>
                  <a:pt x="1577" y="1177"/>
                </a:lnTo>
                <a:lnTo>
                  <a:pt x="1577" y="1163"/>
                </a:lnTo>
                <a:lnTo>
                  <a:pt x="1584" y="1157"/>
                </a:lnTo>
                <a:lnTo>
                  <a:pt x="1584" y="1143"/>
                </a:lnTo>
                <a:lnTo>
                  <a:pt x="1584" y="1136"/>
                </a:lnTo>
                <a:lnTo>
                  <a:pt x="1584" y="1122"/>
                </a:lnTo>
                <a:lnTo>
                  <a:pt x="1591" y="1115"/>
                </a:lnTo>
                <a:lnTo>
                  <a:pt x="1591" y="1102"/>
                </a:lnTo>
                <a:lnTo>
                  <a:pt x="1598" y="1095"/>
                </a:lnTo>
                <a:lnTo>
                  <a:pt x="1598" y="1081"/>
                </a:lnTo>
                <a:lnTo>
                  <a:pt x="1598" y="1074"/>
                </a:lnTo>
                <a:lnTo>
                  <a:pt x="1605" y="1068"/>
                </a:lnTo>
                <a:lnTo>
                  <a:pt x="1605" y="1054"/>
                </a:lnTo>
                <a:lnTo>
                  <a:pt x="1611" y="1047"/>
                </a:lnTo>
                <a:lnTo>
                  <a:pt x="1611" y="1033"/>
                </a:lnTo>
                <a:lnTo>
                  <a:pt x="1611" y="1027"/>
                </a:lnTo>
                <a:lnTo>
                  <a:pt x="1618" y="1013"/>
                </a:lnTo>
                <a:lnTo>
                  <a:pt x="1618" y="999"/>
                </a:lnTo>
                <a:lnTo>
                  <a:pt x="1618" y="992"/>
                </a:lnTo>
                <a:lnTo>
                  <a:pt x="1618" y="979"/>
                </a:lnTo>
                <a:lnTo>
                  <a:pt x="1625" y="972"/>
                </a:lnTo>
                <a:lnTo>
                  <a:pt x="1625" y="958"/>
                </a:lnTo>
                <a:lnTo>
                  <a:pt x="1632" y="951"/>
                </a:lnTo>
                <a:lnTo>
                  <a:pt x="1632" y="944"/>
                </a:lnTo>
                <a:lnTo>
                  <a:pt x="1639" y="931"/>
                </a:lnTo>
                <a:lnTo>
                  <a:pt x="1639" y="924"/>
                </a:lnTo>
                <a:lnTo>
                  <a:pt x="1639" y="910"/>
                </a:lnTo>
                <a:lnTo>
                  <a:pt x="1646" y="903"/>
                </a:lnTo>
                <a:lnTo>
                  <a:pt x="1646" y="890"/>
                </a:lnTo>
                <a:lnTo>
                  <a:pt x="1646" y="883"/>
                </a:lnTo>
                <a:lnTo>
                  <a:pt x="1653" y="869"/>
                </a:lnTo>
                <a:lnTo>
                  <a:pt x="1653" y="862"/>
                </a:lnTo>
                <a:lnTo>
                  <a:pt x="1653" y="849"/>
                </a:lnTo>
                <a:lnTo>
                  <a:pt x="1659" y="842"/>
                </a:lnTo>
                <a:lnTo>
                  <a:pt x="1659" y="828"/>
                </a:lnTo>
                <a:lnTo>
                  <a:pt x="1659" y="821"/>
                </a:lnTo>
                <a:lnTo>
                  <a:pt x="1666" y="808"/>
                </a:lnTo>
                <a:lnTo>
                  <a:pt x="1666" y="801"/>
                </a:lnTo>
                <a:lnTo>
                  <a:pt x="1673" y="787"/>
                </a:lnTo>
                <a:lnTo>
                  <a:pt x="1673" y="780"/>
                </a:lnTo>
                <a:lnTo>
                  <a:pt x="1680" y="766"/>
                </a:lnTo>
                <a:lnTo>
                  <a:pt x="1680" y="760"/>
                </a:lnTo>
                <a:lnTo>
                  <a:pt x="1680" y="746"/>
                </a:lnTo>
                <a:lnTo>
                  <a:pt x="1680" y="739"/>
                </a:lnTo>
                <a:lnTo>
                  <a:pt x="1687" y="725"/>
                </a:lnTo>
                <a:lnTo>
                  <a:pt x="1687" y="719"/>
                </a:lnTo>
                <a:lnTo>
                  <a:pt x="1687" y="705"/>
                </a:lnTo>
                <a:lnTo>
                  <a:pt x="1694" y="698"/>
                </a:lnTo>
                <a:lnTo>
                  <a:pt x="1694" y="684"/>
                </a:lnTo>
                <a:lnTo>
                  <a:pt x="1694" y="678"/>
                </a:lnTo>
                <a:lnTo>
                  <a:pt x="1701" y="664"/>
                </a:lnTo>
                <a:lnTo>
                  <a:pt x="1701" y="657"/>
                </a:lnTo>
                <a:lnTo>
                  <a:pt x="1707" y="643"/>
                </a:lnTo>
                <a:lnTo>
                  <a:pt x="1707" y="636"/>
                </a:lnTo>
                <a:lnTo>
                  <a:pt x="1714" y="630"/>
                </a:lnTo>
                <a:lnTo>
                  <a:pt x="1714" y="616"/>
                </a:lnTo>
                <a:lnTo>
                  <a:pt x="1714" y="602"/>
                </a:lnTo>
                <a:lnTo>
                  <a:pt x="1714" y="595"/>
                </a:lnTo>
                <a:lnTo>
                  <a:pt x="1721" y="582"/>
                </a:lnTo>
                <a:lnTo>
                  <a:pt x="1721" y="575"/>
                </a:lnTo>
                <a:lnTo>
                  <a:pt x="1721" y="561"/>
                </a:lnTo>
                <a:lnTo>
                  <a:pt x="1728" y="554"/>
                </a:lnTo>
                <a:lnTo>
                  <a:pt x="1728" y="541"/>
                </a:lnTo>
                <a:lnTo>
                  <a:pt x="1728" y="534"/>
                </a:lnTo>
                <a:lnTo>
                  <a:pt x="1735" y="520"/>
                </a:lnTo>
                <a:lnTo>
                  <a:pt x="1742" y="513"/>
                </a:lnTo>
                <a:lnTo>
                  <a:pt x="1742" y="506"/>
                </a:lnTo>
                <a:lnTo>
                  <a:pt x="1742" y="493"/>
                </a:lnTo>
                <a:lnTo>
                  <a:pt x="1749" y="486"/>
                </a:lnTo>
                <a:lnTo>
                  <a:pt x="1749" y="472"/>
                </a:lnTo>
                <a:lnTo>
                  <a:pt x="1749" y="465"/>
                </a:lnTo>
                <a:lnTo>
                  <a:pt x="1749" y="452"/>
                </a:lnTo>
                <a:lnTo>
                  <a:pt x="1755" y="438"/>
                </a:lnTo>
                <a:lnTo>
                  <a:pt x="1755" y="431"/>
                </a:lnTo>
                <a:lnTo>
                  <a:pt x="1755" y="418"/>
                </a:lnTo>
                <a:lnTo>
                  <a:pt x="1762" y="411"/>
                </a:lnTo>
                <a:lnTo>
                  <a:pt x="1762" y="397"/>
                </a:lnTo>
                <a:lnTo>
                  <a:pt x="1769" y="390"/>
                </a:lnTo>
                <a:lnTo>
                  <a:pt x="1769" y="383"/>
                </a:lnTo>
                <a:lnTo>
                  <a:pt x="1776" y="370"/>
                </a:lnTo>
                <a:lnTo>
                  <a:pt x="1776" y="363"/>
                </a:lnTo>
                <a:lnTo>
                  <a:pt x="1776" y="349"/>
                </a:lnTo>
                <a:lnTo>
                  <a:pt x="1783" y="342"/>
                </a:lnTo>
                <a:lnTo>
                  <a:pt x="1783" y="329"/>
                </a:lnTo>
                <a:lnTo>
                  <a:pt x="1783" y="322"/>
                </a:lnTo>
                <a:lnTo>
                  <a:pt x="1783" y="308"/>
                </a:lnTo>
                <a:lnTo>
                  <a:pt x="1790" y="301"/>
                </a:lnTo>
                <a:lnTo>
                  <a:pt x="1790" y="288"/>
                </a:lnTo>
                <a:lnTo>
                  <a:pt x="1790" y="281"/>
                </a:lnTo>
                <a:lnTo>
                  <a:pt x="1797" y="267"/>
                </a:lnTo>
                <a:lnTo>
                  <a:pt x="1797" y="260"/>
                </a:lnTo>
                <a:lnTo>
                  <a:pt x="1803" y="246"/>
                </a:lnTo>
                <a:lnTo>
                  <a:pt x="1803" y="240"/>
                </a:lnTo>
                <a:lnTo>
                  <a:pt x="1803" y="226"/>
                </a:lnTo>
                <a:lnTo>
                  <a:pt x="1810" y="219"/>
                </a:lnTo>
                <a:lnTo>
                  <a:pt x="1817" y="212"/>
                </a:lnTo>
                <a:lnTo>
                  <a:pt x="1824" y="212"/>
                </a:lnTo>
                <a:lnTo>
                  <a:pt x="1831" y="219"/>
                </a:lnTo>
                <a:lnTo>
                  <a:pt x="1838" y="226"/>
                </a:lnTo>
                <a:lnTo>
                  <a:pt x="1844" y="233"/>
                </a:lnTo>
                <a:lnTo>
                  <a:pt x="1844" y="246"/>
                </a:lnTo>
                <a:lnTo>
                  <a:pt x="1851" y="253"/>
                </a:lnTo>
                <a:lnTo>
                  <a:pt x="1851" y="267"/>
                </a:lnTo>
                <a:lnTo>
                  <a:pt x="1858" y="274"/>
                </a:lnTo>
                <a:lnTo>
                  <a:pt x="1858" y="281"/>
                </a:lnTo>
                <a:lnTo>
                  <a:pt x="1865" y="294"/>
                </a:lnTo>
                <a:lnTo>
                  <a:pt x="1865" y="301"/>
                </a:lnTo>
                <a:lnTo>
                  <a:pt x="1865" y="315"/>
                </a:lnTo>
                <a:lnTo>
                  <a:pt x="1872" y="322"/>
                </a:lnTo>
                <a:lnTo>
                  <a:pt x="1872" y="335"/>
                </a:lnTo>
                <a:lnTo>
                  <a:pt x="1879" y="342"/>
                </a:lnTo>
                <a:lnTo>
                  <a:pt x="1879" y="356"/>
                </a:lnTo>
                <a:lnTo>
                  <a:pt x="1886" y="363"/>
                </a:lnTo>
                <a:lnTo>
                  <a:pt x="1886" y="376"/>
                </a:lnTo>
                <a:lnTo>
                  <a:pt x="1886" y="383"/>
                </a:lnTo>
                <a:lnTo>
                  <a:pt x="1892" y="390"/>
                </a:lnTo>
                <a:lnTo>
                  <a:pt x="1892" y="404"/>
                </a:lnTo>
                <a:lnTo>
                  <a:pt x="1899" y="411"/>
                </a:lnTo>
                <a:lnTo>
                  <a:pt x="1899" y="424"/>
                </a:lnTo>
                <a:lnTo>
                  <a:pt x="1906" y="431"/>
                </a:lnTo>
                <a:lnTo>
                  <a:pt x="1906" y="445"/>
                </a:lnTo>
                <a:lnTo>
                  <a:pt x="1906" y="452"/>
                </a:lnTo>
                <a:lnTo>
                  <a:pt x="1913" y="465"/>
                </a:lnTo>
                <a:lnTo>
                  <a:pt x="1913" y="472"/>
                </a:lnTo>
                <a:lnTo>
                  <a:pt x="1920" y="479"/>
                </a:lnTo>
                <a:lnTo>
                  <a:pt x="1920" y="493"/>
                </a:lnTo>
                <a:lnTo>
                  <a:pt x="1927" y="500"/>
                </a:lnTo>
                <a:lnTo>
                  <a:pt x="1927" y="513"/>
                </a:lnTo>
                <a:lnTo>
                  <a:pt x="1927" y="520"/>
                </a:lnTo>
                <a:lnTo>
                  <a:pt x="1934" y="534"/>
                </a:lnTo>
                <a:lnTo>
                  <a:pt x="1934" y="541"/>
                </a:lnTo>
                <a:lnTo>
                  <a:pt x="1940" y="534"/>
                </a:lnTo>
                <a:lnTo>
                  <a:pt x="1940" y="500"/>
                </a:lnTo>
                <a:lnTo>
                  <a:pt x="1940" y="465"/>
                </a:lnTo>
                <a:lnTo>
                  <a:pt x="1940" y="431"/>
                </a:lnTo>
                <a:lnTo>
                  <a:pt x="1940" y="404"/>
                </a:lnTo>
                <a:lnTo>
                  <a:pt x="1940" y="370"/>
                </a:lnTo>
                <a:lnTo>
                  <a:pt x="1975" y="335"/>
                </a:lnTo>
                <a:lnTo>
                  <a:pt x="1975" y="301"/>
                </a:lnTo>
                <a:lnTo>
                  <a:pt x="1975" y="267"/>
                </a:lnTo>
                <a:lnTo>
                  <a:pt x="1975" y="233"/>
                </a:lnTo>
                <a:lnTo>
                  <a:pt x="1975" y="199"/>
                </a:lnTo>
                <a:lnTo>
                  <a:pt x="1975" y="164"/>
                </a:lnTo>
                <a:lnTo>
                  <a:pt x="2009" y="137"/>
                </a:lnTo>
                <a:lnTo>
                  <a:pt x="2009" y="103"/>
                </a:lnTo>
                <a:lnTo>
                  <a:pt x="2009" y="69"/>
                </a:lnTo>
                <a:lnTo>
                  <a:pt x="2009" y="34"/>
                </a:lnTo>
                <a:lnTo>
                  <a:pt x="2009" y="0"/>
                </a:lnTo>
                <a:lnTo>
                  <a:pt x="1975" y="0"/>
                </a:lnTo>
                <a:lnTo>
                  <a:pt x="1940" y="0"/>
                </a:lnTo>
                <a:lnTo>
                  <a:pt x="1913" y="0"/>
                </a:lnTo>
                <a:lnTo>
                  <a:pt x="1879" y="34"/>
                </a:lnTo>
                <a:lnTo>
                  <a:pt x="1844" y="34"/>
                </a:lnTo>
                <a:lnTo>
                  <a:pt x="1844" y="62"/>
                </a:lnTo>
                <a:lnTo>
                  <a:pt x="1851" y="69"/>
                </a:lnTo>
                <a:lnTo>
                  <a:pt x="1851" y="82"/>
                </a:lnTo>
                <a:lnTo>
                  <a:pt x="1851" y="96"/>
                </a:lnTo>
                <a:lnTo>
                  <a:pt x="1844" y="103"/>
                </a:lnTo>
                <a:lnTo>
                  <a:pt x="1844" y="110"/>
                </a:lnTo>
                <a:lnTo>
                  <a:pt x="1838" y="123"/>
                </a:lnTo>
                <a:lnTo>
                  <a:pt x="1838" y="130"/>
                </a:lnTo>
                <a:lnTo>
                  <a:pt x="1831" y="144"/>
                </a:lnTo>
                <a:lnTo>
                  <a:pt x="1831" y="151"/>
                </a:lnTo>
                <a:lnTo>
                  <a:pt x="1824" y="157"/>
                </a:lnTo>
                <a:lnTo>
                  <a:pt x="1817" y="164"/>
                </a:lnTo>
                <a:lnTo>
                  <a:pt x="1810" y="164"/>
                </a:lnTo>
                <a:lnTo>
                  <a:pt x="1803" y="164"/>
                </a:lnTo>
                <a:lnTo>
                  <a:pt x="1797" y="164"/>
                </a:lnTo>
                <a:lnTo>
                  <a:pt x="1790" y="157"/>
                </a:lnTo>
                <a:lnTo>
                  <a:pt x="1783" y="151"/>
                </a:lnTo>
                <a:lnTo>
                  <a:pt x="1783" y="144"/>
                </a:lnTo>
                <a:lnTo>
                  <a:pt x="1776" y="130"/>
                </a:lnTo>
                <a:lnTo>
                  <a:pt x="1769" y="123"/>
                </a:lnTo>
                <a:lnTo>
                  <a:pt x="1762" y="116"/>
                </a:lnTo>
                <a:lnTo>
                  <a:pt x="1755" y="110"/>
                </a:lnTo>
                <a:lnTo>
                  <a:pt x="1755" y="103"/>
                </a:lnTo>
                <a:lnTo>
                  <a:pt x="1755" y="96"/>
                </a:lnTo>
                <a:lnTo>
                  <a:pt x="1762" y="96"/>
                </a:lnTo>
                <a:lnTo>
                  <a:pt x="1769" y="96"/>
                </a:lnTo>
                <a:lnTo>
                  <a:pt x="1776" y="89"/>
                </a:lnTo>
                <a:lnTo>
                  <a:pt x="1783" y="89"/>
                </a:lnTo>
                <a:lnTo>
                  <a:pt x="1790" y="89"/>
                </a:lnTo>
                <a:lnTo>
                  <a:pt x="1797" y="82"/>
                </a:lnTo>
                <a:lnTo>
                  <a:pt x="1803" y="82"/>
                </a:lnTo>
                <a:lnTo>
                  <a:pt x="1810" y="75"/>
                </a:lnTo>
                <a:lnTo>
                  <a:pt x="1817" y="75"/>
                </a:lnTo>
                <a:lnTo>
                  <a:pt x="1824" y="75"/>
                </a:lnTo>
                <a:lnTo>
                  <a:pt x="1831" y="69"/>
                </a:lnTo>
                <a:lnTo>
                  <a:pt x="1838" y="69"/>
                </a:lnTo>
                <a:lnTo>
                  <a:pt x="1810" y="69"/>
                </a:lnTo>
                <a:lnTo>
                  <a:pt x="1776" y="69"/>
                </a:lnTo>
                <a:lnTo>
                  <a:pt x="1742" y="69"/>
                </a:lnTo>
                <a:lnTo>
                  <a:pt x="1707" y="103"/>
                </a:lnTo>
                <a:lnTo>
                  <a:pt x="1673" y="103"/>
                </a:lnTo>
                <a:lnTo>
                  <a:pt x="1646" y="137"/>
                </a:lnTo>
                <a:lnTo>
                  <a:pt x="1611" y="137"/>
                </a:lnTo>
                <a:lnTo>
                  <a:pt x="1577" y="164"/>
                </a:lnTo>
                <a:lnTo>
                  <a:pt x="1543" y="164"/>
                </a:lnTo>
                <a:lnTo>
                  <a:pt x="1509" y="199"/>
                </a:lnTo>
                <a:lnTo>
                  <a:pt x="1474" y="199"/>
                </a:lnTo>
                <a:lnTo>
                  <a:pt x="1440" y="199"/>
                </a:lnTo>
                <a:lnTo>
                  <a:pt x="1406" y="233"/>
                </a:lnTo>
                <a:lnTo>
                  <a:pt x="1371" y="233"/>
                </a:lnTo>
                <a:lnTo>
                  <a:pt x="1344" y="267"/>
                </a:lnTo>
                <a:lnTo>
                  <a:pt x="1310" y="267"/>
                </a:lnTo>
                <a:lnTo>
                  <a:pt x="1275" y="301"/>
                </a:lnTo>
                <a:lnTo>
                  <a:pt x="1241" y="301"/>
                </a:lnTo>
                <a:lnTo>
                  <a:pt x="1207" y="335"/>
                </a:lnTo>
                <a:lnTo>
                  <a:pt x="1173" y="335"/>
                </a:lnTo>
                <a:lnTo>
                  <a:pt x="1138" y="335"/>
                </a:lnTo>
                <a:lnTo>
                  <a:pt x="1104" y="370"/>
                </a:lnTo>
                <a:lnTo>
                  <a:pt x="1077" y="370"/>
                </a:lnTo>
                <a:lnTo>
                  <a:pt x="1042" y="404"/>
                </a:lnTo>
                <a:lnTo>
                  <a:pt x="1008" y="404"/>
                </a:lnTo>
                <a:lnTo>
                  <a:pt x="974" y="431"/>
                </a:lnTo>
                <a:lnTo>
                  <a:pt x="940" y="431"/>
                </a:lnTo>
                <a:lnTo>
                  <a:pt x="905" y="465"/>
                </a:lnTo>
                <a:lnTo>
                  <a:pt x="871" y="465"/>
                </a:lnTo>
                <a:lnTo>
                  <a:pt x="837" y="465"/>
                </a:lnTo>
                <a:lnTo>
                  <a:pt x="802" y="500"/>
                </a:lnTo>
                <a:lnTo>
                  <a:pt x="775" y="534"/>
                </a:lnTo>
                <a:lnTo>
                  <a:pt x="741" y="568"/>
                </a:lnTo>
                <a:lnTo>
                  <a:pt x="741" y="602"/>
                </a:lnTo>
                <a:lnTo>
                  <a:pt x="706" y="636"/>
                </a:lnTo>
                <a:lnTo>
                  <a:pt x="672" y="664"/>
                </a:lnTo>
                <a:lnTo>
                  <a:pt x="638" y="698"/>
                </a:lnTo>
                <a:lnTo>
                  <a:pt x="638" y="732"/>
                </a:lnTo>
                <a:lnTo>
                  <a:pt x="604" y="766"/>
                </a:lnTo>
                <a:lnTo>
                  <a:pt x="569" y="801"/>
                </a:lnTo>
                <a:lnTo>
                  <a:pt x="535" y="835"/>
                </a:lnTo>
                <a:lnTo>
                  <a:pt x="535" y="869"/>
                </a:lnTo>
                <a:lnTo>
                  <a:pt x="508" y="903"/>
                </a:lnTo>
                <a:lnTo>
                  <a:pt x="473" y="931"/>
                </a:lnTo>
                <a:lnTo>
                  <a:pt x="473" y="965"/>
                </a:lnTo>
                <a:lnTo>
                  <a:pt x="439" y="999"/>
                </a:lnTo>
                <a:lnTo>
                  <a:pt x="439" y="1033"/>
                </a:lnTo>
                <a:lnTo>
                  <a:pt x="439" y="1068"/>
                </a:lnTo>
                <a:lnTo>
                  <a:pt x="405" y="1102"/>
                </a:lnTo>
                <a:lnTo>
                  <a:pt x="405" y="1136"/>
                </a:lnTo>
                <a:lnTo>
                  <a:pt x="370" y="1163"/>
                </a:lnTo>
                <a:lnTo>
                  <a:pt x="370" y="1198"/>
                </a:lnTo>
                <a:lnTo>
                  <a:pt x="336" y="1232"/>
                </a:lnTo>
                <a:lnTo>
                  <a:pt x="336" y="1266"/>
                </a:lnTo>
                <a:lnTo>
                  <a:pt x="302" y="1300"/>
                </a:lnTo>
                <a:lnTo>
                  <a:pt x="302" y="1334"/>
                </a:lnTo>
                <a:lnTo>
                  <a:pt x="268" y="1369"/>
                </a:lnTo>
                <a:lnTo>
                  <a:pt x="268" y="1403"/>
                </a:lnTo>
                <a:lnTo>
                  <a:pt x="268" y="1430"/>
                </a:lnTo>
                <a:lnTo>
                  <a:pt x="240" y="1464"/>
                </a:lnTo>
                <a:lnTo>
                  <a:pt x="240" y="1499"/>
                </a:lnTo>
                <a:lnTo>
                  <a:pt x="206" y="1533"/>
                </a:lnTo>
                <a:lnTo>
                  <a:pt x="206" y="1567"/>
                </a:lnTo>
                <a:lnTo>
                  <a:pt x="172" y="1601"/>
                </a:lnTo>
                <a:lnTo>
                  <a:pt x="172" y="1636"/>
                </a:lnTo>
                <a:lnTo>
                  <a:pt x="137" y="1670"/>
                </a:lnTo>
                <a:lnTo>
                  <a:pt x="137" y="1697"/>
                </a:lnTo>
                <a:lnTo>
                  <a:pt x="137" y="1731"/>
                </a:lnTo>
                <a:lnTo>
                  <a:pt x="103" y="1766"/>
                </a:lnTo>
                <a:lnTo>
                  <a:pt x="103" y="1772"/>
                </a:lnTo>
                <a:lnTo>
                  <a:pt x="110" y="1779"/>
                </a:lnTo>
                <a:lnTo>
                  <a:pt x="117" y="1779"/>
                </a:lnTo>
                <a:lnTo>
                  <a:pt x="124" y="1786"/>
                </a:lnTo>
                <a:lnTo>
                  <a:pt x="131" y="1786"/>
                </a:lnTo>
                <a:lnTo>
                  <a:pt x="137" y="1793"/>
                </a:lnTo>
                <a:lnTo>
                  <a:pt x="144" y="1793"/>
                </a:lnTo>
                <a:lnTo>
                  <a:pt x="151" y="1793"/>
                </a:lnTo>
                <a:lnTo>
                  <a:pt x="165" y="1793"/>
                </a:lnTo>
                <a:lnTo>
                  <a:pt x="172" y="1793"/>
                </a:lnTo>
                <a:lnTo>
                  <a:pt x="179" y="1793"/>
                </a:lnTo>
                <a:lnTo>
                  <a:pt x="185" y="1800"/>
                </a:lnTo>
                <a:lnTo>
                  <a:pt x="192" y="1807"/>
                </a:lnTo>
                <a:lnTo>
                  <a:pt x="199" y="1807"/>
                </a:lnTo>
                <a:lnTo>
                  <a:pt x="206" y="1813"/>
                </a:lnTo>
                <a:lnTo>
                  <a:pt x="213" y="1813"/>
                </a:lnTo>
                <a:lnTo>
                  <a:pt x="220" y="1820"/>
                </a:lnTo>
                <a:lnTo>
                  <a:pt x="226" y="1827"/>
                </a:lnTo>
                <a:lnTo>
                  <a:pt x="233" y="1827"/>
                </a:lnTo>
                <a:lnTo>
                  <a:pt x="240" y="1834"/>
                </a:lnTo>
                <a:lnTo>
                  <a:pt x="247" y="1841"/>
                </a:lnTo>
                <a:lnTo>
                  <a:pt x="254" y="1841"/>
                </a:lnTo>
                <a:lnTo>
                  <a:pt x="261" y="1848"/>
                </a:lnTo>
                <a:lnTo>
                  <a:pt x="268" y="1854"/>
                </a:lnTo>
                <a:lnTo>
                  <a:pt x="274" y="1854"/>
                </a:lnTo>
                <a:lnTo>
                  <a:pt x="281" y="1861"/>
                </a:lnTo>
                <a:lnTo>
                  <a:pt x="288" y="1868"/>
                </a:lnTo>
                <a:lnTo>
                  <a:pt x="295" y="1868"/>
                </a:lnTo>
                <a:lnTo>
                  <a:pt x="302" y="1875"/>
                </a:lnTo>
                <a:lnTo>
                  <a:pt x="309" y="1875"/>
                </a:lnTo>
                <a:lnTo>
                  <a:pt x="316" y="1882"/>
                </a:lnTo>
                <a:lnTo>
                  <a:pt x="322" y="1882"/>
                </a:lnTo>
                <a:lnTo>
                  <a:pt x="329" y="1882"/>
                </a:lnTo>
                <a:lnTo>
                  <a:pt x="336" y="1882"/>
                </a:lnTo>
                <a:lnTo>
                  <a:pt x="343" y="1889"/>
                </a:lnTo>
                <a:lnTo>
                  <a:pt x="357" y="1889"/>
                </a:lnTo>
                <a:lnTo>
                  <a:pt x="364" y="1896"/>
                </a:lnTo>
                <a:lnTo>
                  <a:pt x="370" y="1896"/>
                </a:lnTo>
                <a:lnTo>
                  <a:pt x="377" y="1902"/>
                </a:lnTo>
                <a:lnTo>
                  <a:pt x="384" y="1909"/>
                </a:lnTo>
                <a:lnTo>
                  <a:pt x="384" y="1916"/>
                </a:lnTo>
                <a:lnTo>
                  <a:pt x="391" y="1923"/>
                </a:lnTo>
                <a:lnTo>
                  <a:pt x="398" y="1930"/>
                </a:lnTo>
                <a:lnTo>
                  <a:pt x="405" y="1937"/>
                </a:lnTo>
                <a:lnTo>
                  <a:pt x="412" y="1943"/>
                </a:lnTo>
                <a:lnTo>
                  <a:pt x="418" y="1950"/>
                </a:lnTo>
                <a:lnTo>
                  <a:pt x="425" y="1957"/>
                </a:lnTo>
                <a:lnTo>
                  <a:pt x="432" y="1964"/>
                </a:lnTo>
                <a:lnTo>
                  <a:pt x="425" y="1978"/>
                </a:lnTo>
                <a:lnTo>
                  <a:pt x="425" y="1984"/>
                </a:lnTo>
                <a:lnTo>
                  <a:pt x="418" y="1998"/>
                </a:lnTo>
                <a:lnTo>
                  <a:pt x="412" y="2005"/>
                </a:lnTo>
                <a:lnTo>
                  <a:pt x="405" y="2012"/>
                </a:lnTo>
                <a:lnTo>
                  <a:pt x="398" y="2019"/>
                </a:lnTo>
                <a:lnTo>
                  <a:pt x="391" y="2026"/>
                </a:lnTo>
                <a:lnTo>
                  <a:pt x="384" y="2032"/>
                </a:lnTo>
                <a:lnTo>
                  <a:pt x="384" y="2046"/>
                </a:lnTo>
                <a:lnTo>
                  <a:pt x="384" y="2053"/>
                </a:lnTo>
                <a:lnTo>
                  <a:pt x="384" y="2067"/>
                </a:lnTo>
                <a:lnTo>
                  <a:pt x="391" y="2080"/>
                </a:lnTo>
                <a:lnTo>
                  <a:pt x="391" y="2087"/>
                </a:lnTo>
                <a:lnTo>
                  <a:pt x="398" y="2094"/>
                </a:lnTo>
                <a:lnTo>
                  <a:pt x="405" y="2108"/>
                </a:lnTo>
                <a:lnTo>
                  <a:pt x="412" y="2114"/>
                </a:lnTo>
                <a:lnTo>
                  <a:pt x="412" y="2121"/>
                </a:lnTo>
                <a:lnTo>
                  <a:pt x="418" y="2135"/>
                </a:lnTo>
                <a:lnTo>
                  <a:pt x="425" y="2142"/>
                </a:lnTo>
                <a:lnTo>
                  <a:pt x="425" y="2156"/>
                </a:lnTo>
                <a:lnTo>
                  <a:pt x="432" y="2162"/>
                </a:lnTo>
                <a:lnTo>
                  <a:pt x="425" y="2176"/>
                </a:lnTo>
                <a:lnTo>
                  <a:pt x="418" y="2183"/>
                </a:lnTo>
                <a:lnTo>
                  <a:pt x="412" y="2183"/>
                </a:lnTo>
                <a:lnTo>
                  <a:pt x="405" y="2183"/>
                </a:lnTo>
                <a:lnTo>
                  <a:pt x="398" y="2190"/>
                </a:lnTo>
                <a:lnTo>
                  <a:pt x="384" y="2183"/>
                </a:lnTo>
                <a:lnTo>
                  <a:pt x="377" y="2183"/>
                </a:lnTo>
                <a:lnTo>
                  <a:pt x="370" y="2183"/>
                </a:lnTo>
                <a:lnTo>
                  <a:pt x="364" y="2183"/>
                </a:lnTo>
                <a:lnTo>
                  <a:pt x="357" y="2176"/>
                </a:lnTo>
                <a:lnTo>
                  <a:pt x="350" y="2176"/>
                </a:lnTo>
                <a:lnTo>
                  <a:pt x="343" y="2176"/>
                </a:lnTo>
                <a:lnTo>
                  <a:pt x="336" y="2176"/>
                </a:lnTo>
                <a:lnTo>
                  <a:pt x="329" y="2176"/>
                </a:lnTo>
                <a:lnTo>
                  <a:pt x="322" y="2176"/>
                </a:lnTo>
                <a:lnTo>
                  <a:pt x="316" y="2176"/>
                </a:lnTo>
                <a:lnTo>
                  <a:pt x="309" y="2169"/>
                </a:lnTo>
                <a:lnTo>
                  <a:pt x="295" y="2169"/>
                </a:lnTo>
                <a:lnTo>
                  <a:pt x="288" y="2169"/>
                </a:lnTo>
                <a:lnTo>
                  <a:pt x="281" y="2169"/>
                </a:lnTo>
                <a:lnTo>
                  <a:pt x="274" y="2169"/>
                </a:lnTo>
                <a:lnTo>
                  <a:pt x="268" y="2169"/>
                </a:lnTo>
                <a:lnTo>
                  <a:pt x="261" y="2169"/>
                </a:lnTo>
                <a:lnTo>
                  <a:pt x="254" y="2162"/>
                </a:lnTo>
                <a:lnTo>
                  <a:pt x="247" y="2162"/>
                </a:lnTo>
                <a:lnTo>
                  <a:pt x="240" y="2162"/>
                </a:lnTo>
                <a:lnTo>
                  <a:pt x="233" y="2162"/>
                </a:lnTo>
                <a:lnTo>
                  <a:pt x="220" y="2162"/>
                </a:lnTo>
                <a:lnTo>
                  <a:pt x="213" y="2162"/>
                </a:lnTo>
                <a:lnTo>
                  <a:pt x="206" y="2156"/>
                </a:lnTo>
                <a:lnTo>
                  <a:pt x="199" y="2156"/>
                </a:lnTo>
                <a:lnTo>
                  <a:pt x="192" y="2156"/>
                </a:lnTo>
                <a:lnTo>
                  <a:pt x="185" y="2156"/>
                </a:lnTo>
                <a:lnTo>
                  <a:pt x="179" y="2156"/>
                </a:lnTo>
                <a:lnTo>
                  <a:pt x="172" y="2156"/>
                </a:lnTo>
                <a:lnTo>
                  <a:pt x="165" y="2149"/>
                </a:lnTo>
                <a:lnTo>
                  <a:pt x="158" y="2149"/>
                </a:lnTo>
                <a:lnTo>
                  <a:pt x="151" y="2149"/>
                </a:lnTo>
                <a:lnTo>
                  <a:pt x="144" y="2142"/>
                </a:lnTo>
                <a:lnTo>
                  <a:pt x="131" y="2142"/>
                </a:lnTo>
                <a:lnTo>
                  <a:pt x="124" y="2135"/>
                </a:lnTo>
                <a:lnTo>
                  <a:pt x="124" y="2128"/>
                </a:lnTo>
                <a:lnTo>
                  <a:pt x="117" y="2121"/>
                </a:lnTo>
                <a:lnTo>
                  <a:pt x="117" y="2108"/>
                </a:lnTo>
                <a:lnTo>
                  <a:pt x="110" y="2094"/>
                </a:lnTo>
                <a:lnTo>
                  <a:pt x="110" y="2087"/>
                </a:lnTo>
                <a:lnTo>
                  <a:pt x="110" y="2073"/>
                </a:lnTo>
                <a:lnTo>
                  <a:pt x="110" y="2060"/>
                </a:lnTo>
                <a:lnTo>
                  <a:pt x="110" y="2046"/>
                </a:lnTo>
                <a:lnTo>
                  <a:pt x="103" y="2039"/>
                </a:lnTo>
                <a:lnTo>
                  <a:pt x="103" y="2026"/>
                </a:lnTo>
                <a:lnTo>
                  <a:pt x="103" y="2012"/>
                </a:lnTo>
                <a:lnTo>
                  <a:pt x="103" y="1998"/>
                </a:lnTo>
                <a:lnTo>
                  <a:pt x="103" y="1991"/>
                </a:lnTo>
                <a:lnTo>
                  <a:pt x="103" y="1978"/>
                </a:lnTo>
                <a:lnTo>
                  <a:pt x="96" y="1964"/>
                </a:lnTo>
                <a:lnTo>
                  <a:pt x="96" y="1957"/>
                </a:lnTo>
                <a:lnTo>
                  <a:pt x="96" y="1943"/>
                </a:lnTo>
                <a:lnTo>
                  <a:pt x="96" y="1930"/>
                </a:lnTo>
                <a:lnTo>
                  <a:pt x="96" y="1916"/>
                </a:lnTo>
                <a:lnTo>
                  <a:pt x="89" y="1909"/>
                </a:lnTo>
                <a:lnTo>
                  <a:pt x="89" y="1896"/>
                </a:lnTo>
                <a:lnTo>
                  <a:pt x="89" y="1882"/>
                </a:lnTo>
                <a:lnTo>
                  <a:pt x="89" y="1875"/>
                </a:lnTo>
                <a:lnTo>
                  <a:pt x="89" y="1861"/>
                </a:lnTo>
                <a:lnTo>
                  <a:pt x="83" y="1848"/>
                </a:lnTo>
                <a:lnTo>
                  <a:pt x="83" y="1834"/>
                </a:lnTo>
                <a:lnTo>
                  <a:pt x="83" y="1827"/>
                </a:lnTo>
                <a:lnTo>
                  <a:pt x="89" y="1813"/>
                </a:lnTo>
                <a:lnTo>
                  <a:pt x="69" y="1834"/>
                </a:lnTo>
                <a:lnTo>
                  <a:pt x="69" y="1868"/>
                </a:lnTo>
                <a:lnTo>
                  <a:pt x="69" y="1902"/>
                </a:lnTo>
                <a:lnTo>
                  <a:pt x="69" y="1930"/>
                </a:lnTo>
                <a:lnTo>
                  <a:pt x="69" y="1964"/>
                </a:lnTo>
                <a:lnTo>
                  <a:pt x="35" y="1998"/>
                </a:lnTo>
                <a:lnTo>
                  <a:pt x="35" y="2032"/>
                </a:lnTo>
                <a:lnTo>
                  <a:pt x="35" y="2067"/>
                </a:lnTo>
                <a:lnTo>
                  <a:pt x="35" y="2101"/>
                </a:lnTo>
                <a:lnTo>
                  <a:pt x="0" y="2135"/>
                </a:lnTo>
                <a:lnTo>
                  <a:pt x="0" y="2169"/>
                </a:lnTo>
                <a:lnTo>
                  <a:pt x="0" y="2197"/>
                </a:lnTo>
                <a:lnTo>
                  <a:pt x="0" y="2231"/>
                </a:lnTo>
                <a:lnTo>
                  <a:pt x="0" y="2265"/>
                </a:lnTo>
                <a:lnTo>
                  <a:pt x="0" y="2299"/>
                </a:lnTo>
                <a:lnTo>
                  <a:pt x="0" y="2333"/>
                </a:lnTo>
                <a:lnTo>
                  <a:pt x="0" y="2368"/>
                </a:lnTo>
                <a:lnTo>
                  <a:pt x="0" y="2402"/>
                </a:lnTo>
                <a:lnTo>
                  <a:pt x="0" y="2429"/>
                </a:lnTo>
                <a:lnTo>
                  <a:pt x="0" y="2463"/>
                </a:lnTo>
                <a:lnTo>
                  <a:pt x="0" y="2498"/>
                </a:lnTo>
                <a:lnTo>
                  <a:pt x="0" y="2532"/>
                </a:lnTo>
                <a:lnTo>
                  <a:pt x="35" y="2566"/>
                </a:lnTo>
                <a:lnTo>
                  <a:pt x="35" y="2600"/>
                </a:lnTo>
                <a:lnTo>
                  <a:pt x="35" y="2635"/>
                </a:lnTo>
                <a:lnTo>
                  <a:pt x="35" y="2669"/>
                </a:lnTo>
                <a:lnTo>
                  <a:pt x="35" y="2696"/>
                </a:lnTo>
                <a:lnTo>
                  <a:pt x="35" y="2730"/>
                </a:lnTo>
                <a:lnTo>
                  <a:pt x="35" y="2765"/>
                </a:lnTo>
                <a:lnTo>
                  <a:pt x="35" y="2799"/>
                </a:lnTo>
                <a:lnTo>
                  <a:pt x="35" y="2833"/>
                </a:lnTo>
                <a:lnTo>
                  <a:pt x="69" y="2867"/>
                </a:lnTo>
                <a:lnTo>
                  <a:pt x="69" y="2895"/>
                </a:lnTo>
                <a:lnTo>
                  <a:pt x="76" y="2895"/>
                </a:lnTo>
                <a:lnTo>
                  <a:pt x="83" y="2888"/>
                </a:lnTo>
                <a:lnTo>
                  <a:pt x="89" y="2888"/>
                </a:lnTo>
                <a:lnTo>
                  <a:pt x="96" y="2881"/>
                </a:lnTo>
                <a:lnTo>
                  <a:pt x="96" y="2881"/>
                </a:lnTo>
                <a:lnTo>
                  <a:pt x="103" y="2874"/>
                </a:lnTo>
                <a:lnTo>
                  <a:pt x="110" y="2874"/>
                </a:lnTo>
                <a:lnTo>
                  <a:pt x="117" y="2867"/>
                </a:lnTo>
                <a:lnTo>
                  <a:pt x="124" y="2867"/>
                </a:lnTo>
                <a:lnTo>
                  <a:pt x="131" y="2860"/>
                </a:lnTo>
                <a:lnTo>
                  <a:pt x="137" y="2860"/>
                </a:lnTo>
                <a:lnTo>
                  <a:pt x="144" y="2860"/>
                </a:lnTo>
                <a:lnTo>
                  <a:pt x="151" y="2860"/>
                </a:lnTo>
                <a:lnTo>
                  <a:pt x="158" y="2860"/>
                </a:lnTo>
                <a:lnTo>
                  <a:pt x="165" y="2860"/>
                </a:lnTo>
                <a:lnTo>
                  <a:pt x="165" y="2860"/>
                </a:lnTo>
                <a:lnTo>
                  <a:pt x="172" y="2867"/>
                </a:lnTo>
                <a:lnTo>
                  <a:pt x="179" y="2867"/>
                </a:lnTo>
                <a:lnTo>
                  <a:pt x="185" y="2867"/>
                </a:lnTo>
                <a:lnTo>
                  <a:pt x="192" y="2867"/>
                </a:lnTo>
                <a:lnTo>
                  <a:pt x="199" y="2867"/>
                </a:lnTo>
                <a:lnTo>
                  <a:pt x="206" y="2874"/>
                </a:lnTo>
                <a:lnTo>
                  <a:pt x="213" y="2881"/>
                </a:lnTo>
                <a:lnTo>
                  <a:pt x="213" y="2888"/>
                </a:lnTo>
                <a:lnTo>
                  <a:pt x="220" y="2895"/>
                </a:lnTo>
                <a:lnTo>
                  <a:pt x="220" y="2908"/>
                </a:lnTo>
                <a:lnTo>
                  <a:pt x="226" y="2915"/>
                </a:lnTo>
                <a:lnTo>
                  <a:pt x="226" y="2922"/>
                </a:lnTo>
                <a:lnTo>
                  <a:pt x="226" y="2936"/>
                </a:lnTo>
                <a:lnTo>
                  <a:pt x="233" y="2942"/>
                </a:lnTo>
                <a:lnTo>
                  <a:pt x="233" y="2956"/>
                </a:lnTo>
                <a:lnTo>
                  <a:pt x="240" y="2963"/>
                </a:lnTo>
                <a:lnTo>
                  <a:pt x="240" y="2970"/>
                </a:lnTo>
                <a:lnTo>
                  <a:pt x="247" y="2983"/>
                </a:lnTo>
                <a:lnTo>
                  <a:pt x="247" y="2990"/>
                </a:lnTo>
                <a:lnTo>
                  <a:pt x="247" y="3004"/>
                </a:lnTo>
                <a:lnTo>
                  <a:pt x="247" y="3011"/>
                </a:lnTo>
                <a:lnTo>
                  <a:pt x="247" y="3025"/>
                </a:lnTo>
                <a:lnTo>
                  <a:pt x="247" y="3031"/>
                </a:lnTo>
                <a:lnTo>
                  <a:pt x="247" y="3038"/>
                </a:lnTo>
                <a:lnTo>
                  <a:pt x="247" y="3052"/>
                </a:lnTo>
                <a:lnTo>
                  <a:pt x="247" y="3059"/>
                </a:lnTo>
                <a:lnTo>
                  <a:pt x="254" y="3072"/>
                </a:lnTo>
                <a:lnTo>
                  <a:pt x="254" y="3079"/>
                </a:lnTo>
                <a:lnTo>
                  <a:pt x="268" y="3100"/>
                </a:lnTo>
                <a:lnTo>
                  <a:pt x="302" y="3134"/>
                </a:lnTo>
                <a:lnTo>
                  <a:pt x="336" y="3134"/>
                </a:lnTo>
                <a:lnTo>
                  <a:pt x="370" y="3168"/>
                </a:lnTo>
                <a:lnTo>
                  <a:pt x="405" y="3168"/>
                </a:lnTo>
                <a:lnTo>
                  <a:pt x="439" y="3168"/>
                </a:lnTo>
                <a:lnTo>
                  <a:pt x="473" y="3196"/>
                </a:lnTo>
                <a:lnTo>
                  <a:pt x="508" y="3196"/>
                </a:lnTo>
                <a:lnTo>
                  <a:pt x="535" y="3230"/>
                </a:lnTo>
                <a:lnTo>
                  <a:pt x="569" y="3230"/>
                </a:lnTo>
                <a:lnTo>
                  <a:pt x="604" y="3230"/>
                </a:lnTo>
                <a:lnTo>
                  <a:pt x="638" y="3230"/>
                </a:lnTo>
                <a:lnTo>
                  <a:pt x="672" y="3230"/>
                </a:lnTo>
                <a:lnTo>
                  <a:pt x="706" y="3230"/>
                </a:lnTo>
                <a:close/>
                <a:moveTo>
                  <a:pt x="329" y="2901"/>
                </a:moveTo>
                <a:lnTo>
                  <a:pt x="322" y="2888"/>
                </a:lnTo>
                <a:lnTo>
                  <a:pt x="322" y="2874"/>
                </a:lnTo>
                <a:lnTo>
                  <a:pt x="316" y="2867"/>
                </a:lnTo>
                <a:lnTo>
                  <a:pt x="316" y="2853"/>
                </a:lnTo>
                <a:lnTo>
                  <a:pt x="309" y="2840"/>
                </a:lnTo>
                <a:lnTo>
                  <a:pt x="309" y="2833"/>
                </a:lnTo>
                <a:lnTo>
                  <a:pt x="302" y="2819"/>
                </a:lnTo>
                <a:lnTo>
                  <a:pt x="302" y="2812"/>
                </a:lnTo>
                <a:lnTo>
                  <a:pt x="295" y="2799"/>
                </a:lnTo>
                <a:lnTo>
                  <a:pt x="288" y="2792"/>
                </a:lnTo>
                <a:lnTo>
                  <a:pt x="281" y="2785"/>
                </a:lnTo>
                <a:lnTo>
                  <a:pt x="274" y="2778"/>
                </a:lnTo>
                <a:lnTo>
                  <a:pt x="268" y="2765"/>
                </a:lnTo>
                <a:lnTo>
                  <a:pt x="268" y="2758"/>
                </a:lnTo>
                <a:lnTo>
                  <a:pt x="261" y="2744"/>
                </a:lnTo>
                <a:lnTo>
                  <a:pt x="254" y="2737"/>
                </a:lnTo>
                <a:lnTo>
                  <a:pt x="247" y="2730"/>
                </a:lnTo>
                <a:lnTo>
                  <a:pt x="240" y="2730"/>
                </a:lnTo>
                <a:lnTo>
                  <a:pt x="233" y="2730"/>
                </a:lnTo>
                <a:lnTo>
                  <a:pt x="226" y="2737"/>
                </a:lnTo>
                <a:lnTo>
                  <a:pt x="220" y="2744"/>
                </a:lnTo>
                <a:lnTo>
                  <a:pt x="213" y="2744"/>
                </a:lnTo>
                <a:lnTo>
                  <a:pt x="199" y="2751"/>
                </a:lnTo>
                <a:lnTo>
                  <a:pt x="192" y="2751"/>
                </a:lnTo>
                <a:lnTo>
                  <a:pt x="185" y="2751"/>
                </a:lnTo>
                <a:lnTo>
                  <a:pt x="179" y="2751"/>
                </a:lnTo>
                <a:lnTo>
                  <a:pt x="172" y="2751"/>
                </a:lnTo>
                <a:lnTo>
                  <a:pt x="165" y="2744"/>
                </a:lnTo>
                <a:lnTo>
                  <a:pt x="158" y="2737"/>
                </a:lnTo>
                <a:lnTo>
                  <a:pt x="144" y="2737"/>
                </a:lnTo>
                <a:lnTo>
                  <a:pt x="137" y="2730"/>
                </a:lnTo>
                <a:lnTo>
                  <a:pt x="131" y="2730"/>
                </a:lnTo>
                <a:lnTo>
                  <a:pt x="124" y="2723"/>
                </a:lnTo>
                <a:lnTo>
                  <a:pt x="117" y="2717"/>
                </a:lnTo>
                <a:lnTo>
                  <a:pt x="110" y="2717"/>
                </a:lnTo>
                <a:lnTo>
                  <a:pt x="103" y="2717"/>
                </a:lnTo>
                <a:lnTo>
                  <a:pt x="89" y="2710"/>
                </a:lnTo>
                <a:lnTo>
                  <a:pt x="83" y="2710"/>
                </a:lnTo>
                <a:lnTo>
                  <a:pt x="76" y="2703"/>
                </a:lnTo>
                <a:lnTo>
                  <a:pt x="69" y="2696"/>
                </a:lnTo>
                <a:lnTo>
                  <a:pt x="76" y="2689"/>
                </a:lnTo>
                <a:lnTo>
                  <a:pt x="76" y="2676"/>
                </a:lnTo>
                <a:lnTo>
                  <a:pt x="83" y="2662"/>
                </a:lnTo>
                <a:lnTo>
                  <a:pt x="83" y="2648"/>
                </a:lnTo>
                <a:lnTo>
                  <a:pt x="83" y="2635"/>
                </a:lnTo>
                <a:lnTo>
                  <a:pt x="83" y="2621"/>
                </a:lnTo>
                <a:lnTo>
                  <a:pt x="83" y="2607"/>
                </a:lnTo>
                <a:lnTo>
                  <a:pt x="83" y="2600"/>
                </a:lnTo>
                <a:lnTo>
                  <a:pt x="83" y="2587"/>
                </a:lnTo>
                <a:lnTo>
                  <a:pt x="83" y="2573"/>
                </a:lnTo>
                <a:lnTo>
                  <a:pt x="83" y="2559"/>
                </a:lnTo>
                <a:lnTo>
                  <a:pt x="83" y="2546"/>
                </a:lnTo>
                <a:lnTo>
                  <a:pt x="83" y="2532"/>
                </a:lnTo>
                <a:lnTo>
                  <a:pt x="83" y="2518"/>
                </a:lnTo>
                <a:lnTo>
                  <a:pt x="83" y="2511"/>
                </a:lnTo>
                <a:lnTo>
                  <a:pt x="83" y="2498"/>
                </a:lnTo>
                <a:lnTo>
                  <a:pt x="89" y="2484"/>
                </a:lnTo>
                <a:lnTo>
                  <a:pt x="89" y="2470"/>
                </a:lnTo>
                <a:lnTo>
                  <a:pt x="89" y="2457"/>
                </a:lnTo>
                <a:lnTo>
                  <a:pt x="96" y="2450"/>
                </a:lnTo>
                <a:lnTo>
                  <a:pt x="96" y="2436"/>
                </a:lnTo>
                <a:lnTo>
                  <a:pt x="103" y="2422"/>
                </a:lnTo>
                <a:lnTo>
                  <a:pt x="103" y="2416"/>
                </a:lnTo>
                <a:lnTo>
                  <a:pt x="110" y="2402"/>
                </a:lnTo>
                <a:lnTo>
                  <a:pt x="117" y="2395"/>
                </a:lnTo>
                <a:lnTo>
                  <a:pt x="124" y="2388"/>
                </a:lnTo>
                <a:lnTo>
                  <a:pt x="131" y="2388"/>
                </a:lnTo>
                <a:lnTo>
                  <a:pt x="137" y="2388"/>
                </a:lnTo>
                <a:lnTo>
                  <a:pt x="151" y="2388"/>
                </a:lnTo>
                <a:lnTo>
                  <a:pt x="158" y="2388"/>
                </a:lnTo>
                <a:lnTo>
                  <a:pt x="165" y="2388"/>
                </a:lnTo>
                <a:lnTo>
                  <a:pt x="172" y="2395"/>
                </a:lnTo>
                <a:lnTo>
                  <a:pt x="179" y="2395"/>
                </a:lnTo>
                <a:lnTo>
                  <a:pt x="185" y="2395"/>
                </a:lnTo>
                <a:lnTo>
                  <a:pt x="199" y="2395"/>
                </a:lnTo>
                <a:lnTo>
                  <a:pt x="206" y="2395"/>
                </a:lnTo>
                <a:lnTo>
                  <a:pt x="213" y="2395"/>
                </a:lnTo>
                <a:lnTo>
                  <a:pt x="220" y="2402"/>
                </a:lnTo>
                <a:lnTo>
                  <a:pt x="226" y="2402"/>
                </a:lnTo>
                <a:lnTo>
                  <a:pt x="233" y="2402"/>
                </a:lnTo>
                <a:lnTo>
                  <a:pt x="240" y="2402"/>
                </a:lnTo>
                <a:lnTo>
                  <a:pt x="254" y="2402"/>
                </a:lnTo>
                <a:lnTo>
                  <a:pt x="261" y="2402"/>
                </a:lnTo>
                <a:lnTo>
                  <a:pt x="268" y="2409"/>
                </a:lnTo>
                <a:lnTo>
                  <a:pt x="274" y="2409"/>
                </a:lnTo>
                <a:lnTo>
                  <a:pt x="281" y="2409"/>
                </a:lnTo>
                <a:lnTo>
                  <a:pt x="288" y="2409"/>
                </a:lnTo>
                <a:lnTo>
                  <a:pt x="302" y="2409"/>
                </a:lnTo>
                <a:lnTo>
                  <a:pt x="309" y="2409"/>
                </a:lnTo>
                <a:lnTo>
                  <a:pt x="316" y="2416"/>
                </a:lnTo>
                <a:lnTo>
                  <a:pt x="322" y="2416"/>
                </a:lnTo>
                <a:lnTo>
                  <a:pt x="329" y="2416"/>
                </a:lnTo>
                <a:lnTo>
                  <a:pt x="336" y="2416"/>
                </a:lnTo>
                <a:lnTo>
                  <a:pt x="350" y="2416"/>
                </a:lnTo>
                <a:lnTo>
                  <a:pt x="357" y="2416"/>
                </a:lnTo>
                <a:lnTo>
                  <a:pt x="364" y="2422"/>
                </a:lnTo>
                <a:lnTo>
                  <a:pt x="370" y="2422"/>
                </a:lnTo>
                <a:lnTo>
                  <a:pt x="377" y="2422"/>
                </a:lnTo>
                <a:lnTo>
                  <a:pt x="384" y="2422"/>
                </a:lnTo>
                <a:lnTo>
                  <a:pt x="398" y="2422"/>
                </a:lnTo>
                <a:lnTo>
                  <a:pt x="405" y="2422"/>
                </a:lnTo>
                <a:lnTo>
                  <a:pt x="412" y="2429"/>
                </a:lnTo>
                <a:lnTo>
                  <a:pt x="418" y="2429"/>
                </a:lnTo>
                <a:lnTo>
                  <a:pt x="425" y="2429"/>
                </a:lnTo>
                <a:lnTo>
                  <a:pt x="432" y="2429"/>
                </a:lnTo>
                <a:lnTo>
                  <a:pt x="446" y="2429"/>
                </a:lnTo>
                <a:lnTo>
                  <a:pt x="453" y="2429"/>
                </a:lnTo>
                <a:lnTo>
                  <a:pt x="460" y="2429"/>
                </a:lnTo>
                <a:lnTo>
                  <a:pt x="466" y="2436"/>
                </a:lnTo>
                <a:lnTo>
                  <a:pt x="473" y="2436"/>
                </a:lnTo>
                <a:lnTo>
                  <a:pt x="480" y="2436"/>
                </a:lnTo>
                <a:lnTo>
                  <a:pt x="494" y="2436"/>
                </a:lnTo>
                <a:lnTo>
                  <a:pt x="501" y="2436"/>
                </a:lnTo>
                <a:lnTo>
                  <a:pt x="508" y="2443"/>
                </a:lnTo>
                <a:lnTo>
                  <a:pt x="514" y="2443"/>
                </a:lnTo>
                <a:lnTo>
                  <a:pt x="521" y="2450"/>
                </a:lnTo>
                <a:lnTo>
                  <a:pt x="528" y="2457"/>
                </a:lnTo>
                <a:lnTo>
                  <a:pt x="535" y="2470"/>
                </a:lnTo>
                <a:lnTo>
                  <a:pt x="535" y="2477"/>
                </a:lnTo>
                <a:lnTo>
                  <a:pt x="542" y="2491"/>
                </a:lnTo>
                <a:lnTo>
                  <a:pt x="542" y="2505"/>
                </a:lnTo>
                <a:lnTo>
                  <a:pt x="549" y="2511"/>
                </a:lnTo>
                <a:lnTo>
                  <a:pt x="556" y="2525"/>
                </a:lnTo>
                <a:lnTo>
                  <a:pt x="562" y="2532"/>
                </a:lnTo>
                <a:lnTo>
                  <a:pt x="562" y="2539"/>
                </a:lnTo>
                <a:lnTo>
                  <a:pt x="569" y="2546"/>
                </a:lnTo>
                <a:lnTo>
                  <a:pt x="583" y="2552"/>
                </a:lnTo>
                <a:lnTo>
                  <a:pt x="590" y="2559"/>
                </a:lnTo>
                <a:lnTo>
                  <a:pt x="597" y="2566"/>
                </a:lnTo>
                <a:lnTo>
                  <a:pt x="604" y="2566"/>
                </a:lnTo>
                <a:lnTo>
                  <a:pt x="610" y="2573"/>
                </a:lnTo>
                <a:lnTo>
                  <a:pt x="617" y="2580"/>
                </a:lnTo>
                <a:lnTo>
                  <a:pt x="624" y="2587"/>
                </a:lnTo>
                <a:lnTo>
                  <a:pt x="631" y="2593"/>
                </a:lnTo>
                <a:lnTo>
                  <a:pt x="638" y="2593"/>
                </a:lnTo>
                <a:lnTo>
                  <a:pt x="645" y="2593"/>
                </a:lnTo>
                <a:lnTo>
                  <a:pt x="652" y="2593"/>
                </a:lnTo>
                <a:lnTo>
                  <a:pt x="665" y="2593"/>
                </a:lnTo>
                <a:lnTo>
                  <a:pt x="672" y="2593"/>
                </a:lnTo>
                <a:lnTo>
                  <a:pt x="679" y="2593"/>
                </a:lnTo>
                <a:lnTo>
                  <a:pt x="686" y="2593"/>
                </a:lnTo>
                <a:lnTo>
                  <a:pt x="693" y="2593"/>
                </a:lnTo>
                <a:lnTo>
                  <a:pt x="700" y="2593"/>
                </a:lnTo>
                <a:lnTo>
                  <a:pt x="713" y="2593"/>
                </a:lnTo>
                <a:lnTo>
                  <a:pt x="720" y="2593"/>
                </a:lnTo>
                <a:lnTo>
                  <a:pt x="727" y="2593"/>
                </a:lnTo>
                <a:lnTo>
                  <a:pt x="734" y="2593"/>
                </a:lnTo>
                <a:lnTo>
                  <a:pt x="741" y="2587"/>
                </a:lnTo>
                <a:lnTo>
                  <a:pt x="748" y="2587"/>
                </a:lnTo>
                <a:lnTo>
                  <a:pt x="754" y="2587"/>
                </a:lnTo>
                <a:lnTo>
                  <a:pt x="768" y="2580"/>
                </a:lnTo>
                <a:lnTo>
                  <a:pt x="775" y="2580"/>
                </a:lnTo>
                <a:lnTo>
                  <a:pt x="782" y="2573"/>
                </a:lnTo>
                <a:lnTo>
                  <a:pt x="789" y="2573"/>
                </a:lnTo>
                <a:lnTo>
                  <a:pt x="796" y="2573"/>
                </a:lnTo>
                <a:lnTo>
                  <a:pt x="802" y="2566"/>
                </a:lnTo>
                <a:lnTo>
                  <a:pt x="809" y="2566"/>
                </a:lnTo>
                <a:lnTo>
                  <a:pt x="823" y="2566"/>
                </a:lnTo>
                <a:lnTo>
                  <a:pt x="830" y="2559"/>
                </a:lnTo>
                <a:lnTo>
                  <a:pt x="837" y="2559"/>
                </a:lnTo>
                <a:lnTo>
                  <a:pt x="844" y="2552"/>
                </a:lnTo>
                <a:lnTo>
                  <a:pt x="850" y="2552"/>
                </a:lnTo>
                <a:lnTo>
                  <a:pt x="857" y="2546"/>
                </a:lnTo>
                <a:lnTo>
                  <a:pt x="864" y="2546"/>
                </a:lnTo>
                <a:lnTo>
                  <a:pt x="878" y="2546"/>
                </a:lnTo>
                <a:lnTo>
                  <a:pt x="885" y="2546"/>
                </a:lnTo>
                <a:lnTo>
                  <a:pt x="892" y="2552"/>
                </a:lnTo>
                <a:lnTo>
                  <a:pt x="898" y="2559"/>
                </a:lnTo>
                <a:lnTo>
                  <a:pt x="905" y="2566"/>
                </a:lnTo>
                <a:lnTo>
                  <a:pt x="905" y="2573"/>
                </a:lnTo>
                <a:lnTo>
                  <a:pt x="905" y="2587"/>
                </a:lnTo>
                <a:lnTo>
                  <a:pt x="905" y="2600"/>
                </a:lnTo>
                <a:lnTo>
                  <a:pt x="905" y="2614"/>
                </a:lnTo>
                <a:lnTo>
                  <a:pt x="905" y="2628"/>
                </a:lnTo>
                <a:lnTo>
                  <a:pt x="905" y="2641"/>
                </a:lnTo>
                <a:lnTo>
                  <a:pt x="905" y="2655"/>
                </a:lnTo>
                <a:lnTo>
                  <a:pt x="905" y="2669"/>
                </a:lnTo>
                <a:lnTo>
                  <a:pt x="905" y="2682"/>
                </a:lnTo>
                <a:lnTo>
                  <a:pt x="898" y="2689"/>
                </a:lnTo>
                <a:lnTo>
                  <a:pt x="892" y="2696"/>
                </a:lnTo>
                <a:lnTo>
                  <a:pt x="885" y="2703"/>
                </a:lnTo>
                <a:lnTo>
                  <a:pt x="878" y="2703"/>
                </a:lnTo>
                <a:lnTo>
                  <a:pt x="871" y="2710"/>
                </a:lnTo>
                <a:lnTo>
                  <a:pt x="864" y="2710"/>
                </a:lnTo>
                <a:lnTo>
                  <a:pt x="857" y="2717"/>
                </a:lnTo>
                <a:lnTo>
                  <a:pt x="850" y="2723"/>
                </a:lnTo>
                <a:lnTo>
                  <a:pt x="844" y="2730"/>
                </a:lnTo>
                <a:lnTo>
                  <a:pt x="837" y="2737"/>
                </a:lnTo>
                <a:lnTo>
                  <a:pt x="830" y="2744"/>
                </a:lnTo>
                <a:lnTo>
                  <a:pt x="823" y="2744"/>
                </a:lnTo>
                <a:lnTo>
                  <a:pt x="816" y="2751"/>
                </a:lnTo>
                <a:lnTo>
                  <a:pt x="802" y="2758"/>
                </a:lnTo>
                <a:lnTo>
                  <a:pt x="796" y="2758"/>
                </a:lnTo>
                <a:lnTo>
                  <a:pt x="789" y="2765"/>
                </a:lnTo>
                <a:lnTo>
                  <a:pt x="782" y="2771"/>
                </a:lnTo>
                <a:lnTo>
                  <a:pt x="775" y="2778"/>
                </a:lnTo>
                <a:lnTo>
                  <a:pt x="768" y="2778"/>
                </a:lnTo>
                <a:lnTo>
                  <a:pt x="761" y="2785"/>
                </a:lnTo>
                <a:lnTo>
                  <a:pt x="754" y="2785"/>
                </a:lnTo>
                <a:lnTo>
                  <a:pt x="748" y="2785"/>
                </a:lnTo>
                <a:lnTo>
                  <a:pt x="734" y="2785"/>
                </a:lnTo>
                <a:lnTo>
                  <a:pt x="727" y="2785"/>
                </a:lnTo>
                <a:lnTo>
                  <a:pt x="720" y="2785"/>
                </a:lnTo>
                <a:lnTo>
                  <a:pt x="713" y="2792"/>
                </a:lnTo>
                <a:lnTo>
                  <a:pt x="706" y="2792"/>
                </a:lnTo>
                <a:lnTo>
                  <a:pt x="700" y="2792"/>
                </a:lnTo>
                <a:lnTo>
                  <a:pt x="693" y="2799"/>
                </a:lnTo>
                <a:lnTo>
                  <a:pt x="679" y="2799"/>
                </a:lnTo>
                <a:lnTo>
                  <a:pt x="672" y="2806"/>
                </a:lnTo>
                <a:lnTo>
                  <a:pt x="665" y="2806"/>
                </a:lnTo>
                <a:lnTo>
                  <a:pt x="658" y="2812"/>
                </a:lnTo>
                <a:lnTo>
                  <a:pt x="652" y="2812"/>
                </a:lnTo>
                <a:lnTo>
                  <a:pt x="645" y="2812"/>
                </a:lnTo>
                <a:lnTo>
                  <a:pt x="638" y="2819"/>
                </a:lnTo>
                <a:lnTo>
                  <a:pt x="624" y="2819"/>
                </a:lnTo>
                <a:lnTo>
                  <a:pt x="617" y="2826"/>
                </a:lnTo>
                <a:lnTo>
                  <a:pt x="610" y="2826"/>
                </a:lnTo>
                <a:lnTo>
                  <a:pt x="604" y="2833"/>
                </a:lnTo>
                <a:lnTo>
                  <a:pt x="597" y="2833"/>
                </a:lnTo>
                <a:lnTo>
                  <a:pt x="590" y="2833"/>
                </a:lnTo>
                <a:lnTo>
                  <a:pt x="583" y="2840"/>
                </a:lnTo>
                <a:lnTo>
                  <a:pt x="569" y="2840"/>
                </a:lnTo>
                <a:lnTo>
                  <a:pt x="562" y="2847"/>
                </a:lnTo>
                <a:lnTo>
                  <a:pt x="556" y="2847"/>
                </a:lnTo>
                <a:lnTo>
                  <a:pt x="549" y="2853"/>
                </a:lnTo>
                <a:lnTo>
                  <a:pt x="542" y="2853"/>
                </a:lnTo>
                <a:lnTo>
                  <a:pt x="535" y="2853"/>
                </a:lnTo>
                <a:lnTo>
                  <a:pt x="528" y="2860"/>
                </a:lnTo>
                <a:lnTo>
                  <a:pt x="521" y="2860"/>
                </a:lnTo>
                <a:lnTo>
                  <a:pt x="508" y="2867"/>
                </a:lnTo>
                <a:lnTo>
                  <a:pt x="501" y="2867"/>
                </a:lnTo>
                <a:lnTo>
                  <a:pt x="494" y="2867"/>
                </a:lnTo>
                <a:lnTo>
                  <a:pt x="487" y="2874"/>
                </a:lnTo>
                <a:lnTo>
                  <a:pt x="480" y="2874"/>
                </a:lnTo>
                <a:lnTo>
                  <a:pt x="473" y="2881"/>
                </a:lnTo>
                <a:lnTo>
                  <a:pt x="466" y="2881"/>
                </a:lnTo>
                <a:lnTo>
                  <a:pt x="453" y="2888"/>
                </a:lnTo>
                <a:lnTo>
                  <a:pt x="446" y="2888"/>
                </a:lnTo>
                <a:lnTo>
                  <a:pt x="439" y="2888"/>
                </a:lnTo>
                <a:lnTo>
                  <a:pt x="432" y="2895"/>
                </a:lnTo>
                <a:lnTo>
                  <a:pt x="425" y="2895"/>
                </a:lnTo>
                <a:lnTo>
                  <a:pt x="418" y="2901"/>
                </a:lnTo>
                <a:lnTo>
                  <a:pt x="412" y="2901"/>
                </a:lnTo>
                <a:lnTo>
                  <a:pt x="398" y="2901"/>
                </a:lnTo>
                <a:lnTo>
                  <a:pt x="391" y="2908"/>
                </a:lnTo>
                <a:lnTo>
                  <a:pt x="384" y="2908"/>
                </a:lnTo>
                <a:lnTo>
                  <a:pt x="377" y="2908"/>
                </a:lnTo>
                <a:lnTo>
                  <a:pt x="370" y="2915"/>
                </a:lnTo>
                <a:lnTo>
                  <a:pt x="364" y="2922"/>
                </a:lnTo>
                <a:lnTo>
                  <a:pt x="350" y="2922"/>
                </a:lnTo>
                <a:lnTo>
                  <a:pt x="343" y="2922"/>
                </a:lnTo>
                <a:lnTo>
                  <a:pt x="336" y="2922"/>
                </a:lnTo>
                <a:lnTo>
                  <a:pt x="329" y="2915"/>
                </a:lnTo>
                <a:lnTo>
                  <a:pt x="329" y="2901"/>
                </a:lnTo>
                <a:close/>
                <a:moveTo>
                  <a:pt x="741" y="2101"/>
                </a:moveTo>
                <a:lnTo>
                  <a:pt x="748" y="2101"/>
                </a:lnTo>
                <a:lnTo>
                  <a:pt x="761" y="2101"/>
                </a:lnTo>
                <a:lnTo>
                  <a:pt x="768" y="2101"/>
                </a:lnTo>
                <a:lnTo>
                  <a:pt x="775" y="2101"/>
                </a:lnTo>
                <a:lnTo>
                  <a:pt x="789" y="2101"/>
                </a:lnTo>
                <a:lnTo>
                  <a:pt x="796" y="2101"/>
                </a:lnTo>
                <a:lnTo>
                  <a:pt x="809" y="2101"/>
                </a:lnTo>
                <a:lnTo>
                  <a:pt x="823" y="2101"/>
                </a:lnTo>
                <a:lnTo>
                  <a:pt x="837" y="2101"/>
                </a:lnTo>
                <a:lnTo>
                  <a:pt x="837" y="2101"/>
                </a:lnTo>
                <a:lnTo>
                  <a:pt x="837" y="2101"/>
                </a:lnTo>
                <a:lnTo>
                  <a:pt x="823" y="2101"/>
                </a:lnTo>
                <a:lnTo>
                  <a:pt x="809" y="2101"/>
                </a:lnTo>
                <a:lnTo>
                  <a:pt x="796" y="2101"/>
                </a:lnTo>
                <a:lnTo>
                  <a:pt x="789" y="2101"/>
                </a:lnTo>
                <a:lnTo>
                  <a:pt x="775" y="2101"/>
                </a:lnTo>
                <a:lnTo>
                  <a:pt x="768" y="2101"/>
                </a:lnTo>
                <a:lnTo>
                  <a:pt x="761" y="2101"/>
                </a:lnTo>
                <a:lnTo>
                  <a:pt x="748" y="2101"/>
                </a:lnTo>
                <a:lnTo>
                  <a:pt x="741" y="2101"/>
                </a:lnTo>
                <a:close/>
                <a:moveTo>
                  <a:pt x="905" y="2067"/>
                </a:moveTo>
                <a:lnTo>
                  <a:pt x="919" y="2067"/>
                </a:lnTo>
                <a:lnTo>
                  <a:pt x="933" y="2067"/>
                </a:lnTo>
                <a:lnTo>
                  <a:pt x="940" y="2067"/>
                </a:lnTo>
                <a:lnTo>
                  <a:pt x="940" y="2067"/>
                </a:lnTo>
                <a:lnTo>
                  <a:pt x="940" y="2067"/>
                </a:lnTo>
                <a:lnTo>
                  <a:pt x="933" y="2067"/>
                </a:lnTo>
                <a:lnTo>
                  <a:pt x="919" y="2067"/>
                </a:lnTo>
                <a:lnTo>
                  <a:pt x="905" y="2067"/>
                </a:lnTo>
                <a:close/>
                <a:moveTo>
                  <a:pt x="295" y="1636"/>
                </a:moveTo>
                <a:lnTo>
                  <a:pt x="302" y="1629"/>
                </a:lnTo>
                <a:lnTo>
                  <a:pt x="309" y="1622"/>
                </a:lnTo>
                <a:lnTo>
                  <a:pt x="309" y="1608"/>
                </a:lnTo>
                <a:lnTo>
                  <a:pt x="316" y="1601"/>
                </a:lnTo>
                <a:lnTo>
                  <a:pt x="316" y="1588"/>
                </a:lnTo>
                <a:lnTo>
                  <a:pt x="316" y="1574"/>
                </a:lnTo>
                <a:lnTo>
                  <a:pt x="322" y="1567"/>
                </a:lnTo>
                <a:lnTo>
                  <a:pt x="329" y="1560"/>
                </a:lnTo>
                <a:lnTo>
                  <a:pt x="329" y="1547"/>
                </a:lnTo>
                <a:lnTo>
                  <a:pt x="336" y="1540"/>
                </a:lnTo>
                <a:lnTo>
                  <a:pt x="343" y="1533"/>
                </a:lnTo>
                <a:lnTo>
                  <a:pt x="343" y="1519"/>
                </a:lnTo>
                <a:lnTo>
                  <a:pt x="350" y="1512"/>
                </a:lnTo>
                <a:lnTo>
                  <a:pt x="350" y="1499"/>
                </a:lnTo>
                <a:lnTo>
                  <a:pt x="357" y="1492"/>
                </a:lnTo>
                <a:lnTo>
                  <a:pt x="357" y="1478"/>
                </a:lnTo>
                <a:lnTo>
                  <a:pt x="364" y="1471"/>
                </a:lnTo>
                <a:lnTo>
                  <a:pt x="370" y="1458"/>
                </a:lnTo>
                <a:lnTo>
                  <a:pt x="370" y="1451"/>
                </a:lnTo>
                <a:lnTo>
                  <a:pt x="377" y="1437"/>
                </a:lnTo>
                <a:lnTo>
                  <a:pt x="377" y="1430"/>
                </a:lnTo>
                <a:lnTo>
                  <a:pt x="384" y="1417"/>
                </a:lnTo>
                <a:lnTo>
                  <a:pt x="384" y="1410"/>
                </a:lnTo>
                <a:lnTo>
                  <a:pt x="391" y="1396"/>
                </a:lnTo>
                <a:lnTo>
                  <a:pt x="398" y="1389"/>
                </a:lnTo>
                <a:lnTo>
                  <a:pt x="398" y="1382"/>
                </a:lnTo>
                <a:lnTo>
                  <a:pt x="405" y="1369"/>
                </a:lnTo>
                <a:lnTo>
                  <a:pt x="405" y="1362"/>
                </a:lnTo>
                <a:lnTo>
                  <a:pt x="412" y="1348"/>
                </a:lnTo>
                <a:lnTo>
                  <a:pt x="412" y="1341"/>
                </a:lnTo>
                <a:lnTo>
                  <a:pt x="418" y="1328"/>
                </a:lnTo>
                <a:lnTo>
                  <a:pt x="418" y="1321"/>
                </a:lnTo>
                <a:lnTo>
                  <a:pt x="425" y="1307"/>
                </a:lnTo>
                <a:lnTo>
                  <a:pt x="425" y="1293"/>
                </a:lnTo>
                <a:lnTo>
                  <a:pt x="432" y="1287"/>
                </a:lnTo>
                <a:lnTo>
                  <a:pt x="432" y="1273"/>
                </a:lnTo>
                <a:lnTo>
                  <a:pt x="432" y="1266"/>
                </a:lnTo>
                <a:lnTo>
                  <a:pt x="432" y="1252"/>
                </a:lnTo>
                <a:lnTo>
                  <a:pt x="432" y="1239"/>
                </a:lnTo>
                <a:lnTo>
                  <a:pt x="432" y="1232"/>
                </a:lnTo>
                <a:lnTo>
                  <a:pt x="439" y="1225"/>
                </a:lnTo>
                <a:lnTo>
                  <a:pt x="446" y="1218"/>
                </a:lnTo>
                <a:lnTo>
                  <a:pt x="453" y="1218"/>
                </a:lnTo>
                <a:lnTo>
                  <a:pt x="460" y="1218"/>
                </a:lnTo>
                <a:lnTo>
                  <a:pt x="466" y="1225"/>
                </a:lnTo>
                <a:lnTo>
                  <a:pt x="473" y="1225"/>
                </a:lnTo>
                <a:lnTo>
                  <a:pt x="487" y="1225"/>
                </a:lnTo>
                <a:lnTo>
                  <a:pt x="494" y="1225"/>
                </a:lnTo>
                <a:lnTo>
                  <a:pt x="501" y="1225"/>
                </a:lnTo>
                <a:lnTo>
                  <a:pt x="508" y="1218"/>
                </a:lnTo>
                <a:lnTo>
                  <a:pt x="514" y="1218"/>
                </a:lnTo>
                <a:lnTo>
                  <a:pt x="521" y="1211"/>
                </a:lnTo>
                <a:lnTo>
                  <a:pt x="528" y="1204"/>
                </a:lnTo>
                <a:lnTo>
                  <a:pt x="535" y="1204"/>
                </a:lnTo>
                <a:lnTo>
                  <a:pt x="542" y="1204"/>
                </a:lnTo>
                <a:lnTo>
                  <a:pt x="549" y="1204"/>
                </a:lnTo>
                <a:lnTo>
                  <a:pt x="556" y="1211"/>
                </a:lnTo>
                <a:lnTo>
                  <a:pt x="562" y="1211"/>
                </a:lnTo>
                <a:lnTo>
                  <a:pt x="569" y="1218"/>
                </a:lnTo>
                <a:lnTo>
                  <a:pt x="576" y="1218"/>
                </a:lnTo>
                <a:lnTo>
                  <a:pt x="583" y="1218"/>
                </a:lnTo>
                <a:lnTo>
                  <a:pt x="590" y="1218"/>
                </a:lnTo>
                <a:lnTo>
                  <a:pt x="597" y="1211"/>
                </a:lnTo>
                <a:lnTo>
                  <a:pt x="604" y="1211"/>
                </a:lnTo>
                <a:lnTo>
                  <a:pt x="610" y="1211"/>
                </a:lnTo>
                <a:lnTo>
                  <a:pt x="617" y="1204"/>
                </a:lnTo>
                <a:lnTo>
                  <a:pt x="631" y="1204"/>
                </a:lnTo>
                <a:lnTo>
                  <a:pt x="638" y="1204"/>
                </a:lnTo>
                <a:lnTo>
                  <a:pt x="645" y="1204"/>
                </a:lnTo>
                <a:lnTo>
                  <a:pt x="652" y="1198"/>
                </a:lnTo>
                <a:lnTo>
                  <a:pt x="658" y="1198"/>
                </a:lnTo>
                <a:lnTo>
                  <a:pt x="665" y="1198"/>
                </a:lnTo>
                <a:lnTo>
                  <a:pt x="672" y="1191"/>
                </a:lnTo>
                <a:lnTo>
                  <a:pt x="679" y="1191"/>
                </a:lnTo>
                <a:lnTo>
                  <a:pt x="686" y="1191"/>
                </a:lnTo>
                <a:lnTo>
                  <a:pt x="693" y="1191"/>
                </a:lnTo>
                <a:lnTo>
                  <a:pt x="700" y="1184"/>
                </a:lnTo>
                <a:lnTo>
                  <a:pt x="706" y="1184"/>
                </a:lnTo>
                <a:lnTo>
                  <a:pt x="713" y="1184"/>
                </a:lnTo>
                <a:lnTo>
                  <a:pt x="720" y="1184"/>
                </a:lnTo>
                <a:lnTo>
                  <a:pt x="727" y="1177"/>
                </a:lnTo>
                <a:lnTo>
                  <a:pt x="741" y="1177"/>
                </a:lnTo>
                <a:lnTo>
                  <a:pt x="748" y="1177"/>
                </a:lnTo>
                <a:lnTo>
                  <a:pt x="754" y="1170"/>
                </a:lnTo>
                <a:lnTo>
                  <a:pt x="761" y="1170"/>
                </a:lnTo>
                <a:lnTo>
                  <a:pt x="768" y="1177"/>
                </a:lnTo>
                <a:lnTo>
                  <a:pt x="775" y="1184"/>
                </a:lnTo>
                <a:lnTo>
                  <a:pt x="775" y="1198"/>
                </a:lnTo>
                <a:lnTo>
                  <a:pt x="782" y="1204"/>
                </a:lnTo>
                <a:lnTo>
                  <a:pt x="782" y="1218"/>
                </a:lnTo>
                <a:lnTo>
                  <a:pt x="782" y="1225"/>
                </a:lnTo>
                <a:lnTo>
                  <a:pt x="789" y="1239"/>
                </a:lnTo>
                <a:lnTo>
                  <a:pt x="789" y="1252"/>
                </a:lnTo>
                <a:lnTo>
                  <a:pt x="796" y="1259"/>
                </a:lnTo>
                <a:lnTo>
                  <a:pt x="796" y="1273"/>
                </a:lnTo>
                <a:lnTo>
                  <a:pt x="796" y="1287"/>
                </a:lnTo>
                <a:lnTo>
                  <a:pt x="802" y="1293"/>
                </a:lnTo>
                <a:lnTo>
                  <a:pt x="802" y="1300"/>
                </a:lnTo>
                <a:lnTo>
                  <a:pt x="809" y="1314"/>
                </a:lnTo>
                <a:lnTo>
                  <a:pt x="816" y="1321"/>
                </a:lnTo>
                <a:lnTo>
                  <a:pt x="823" y="1328"/>
                </a:lnTo>
                <a:lnTo>
                  <a:pt x="823" y="1334"/>
                </a:lnTo>
                <a:lnTo>
                  <a:pt x="830" y="1348"/>
                </a:lnTo>
                <a:lnTo>
                  <a:pt x="837" y="1355"/>
                </a:lnTo>
                <a:lnTo>
                  <a:pt x="844" y="1362"/>
                </a:lnTo>
                <a:lnTo>
                  <a:pt x="844" y="1375"/>
                </a:lnTo>
                <a:lnTo>
                  <a:pt x="844" y="1389"/>
                </a:lnTo>
                <a:lnTo>
                  <a:pt x="844" y="1396"/>
                </a:lnTo>
                <a:lnTo>
                  <a:pt x="837" y="1403"/>
                </a:lnTo>
                <a:lnTo>
                  <a:pt x="830" y="1410"/>
                </a:lnTo>
                <a:lnTo>
                  <a:pt x="823" y="1410"/>
                </a:lnTo>
                <a:lnTo>
                  <a:pt x="816" y="1417"/>
                </a:lnTo>
                <a:lnTo>
                  <a:pt x="809" y="1423"/>
                </a:lnTo>
                <a:lnTo>
                  <a:pt x="802" y="1423"/>
                </a:lnTo>
                <a:lnTo>
                  <a:pt x="796" y="1430"/>
                </a:lnTo>
                <a:lnTo>
                  <a:pt x="789" y="1430"/>
                </a:lnTo>
                <a:lnTo>
                  <a:pt x="782" y="1437"/>
                </a:lnTo>
                <a:lnTo>
                  <a:pt x="775" y="1444"/>
                </a:lnTo>
                <a:lnTo>
                  <a:pt x="768" y="1444"/>
                </a:lnTo>
                <a:lnTo>
                  <a:pt x="761" y="1451"/>
                </a:lnTo>
                <a:lnTo>
                  <a:pt x="754" y="1451"/>
                </a:lnTo>
                <a:lnTo>
                  <a:pt x="748" y="1458"/>
                </a:lnTo>
                <a:lnTo>
                  <a:pt x="741" y="1464"/>
                </a:lnTo>
                <a:lnTo>
                  <a:pt x="734" y="1464"/>
                </a:lnTo>
                <a:lnTo>
                  <a:pt x="727" y="1471"/>
                </a:lnTo>
                <a:lnTo>
                  <a:pt x="720" y="1478"/>
                </a:lnTo>
                <a:lnTo>
                  <a:pt x="713" y="1478"/>
                </a:lnTo>
                <a:lnTo>
                  <a:pt x="706" y="1485"/>
                </a:lnTo>
                <a:lnTo>
                  <a:pt x="700" y="1485"/>
                </a:lnTo>
                <a:lnTo>
                  <a:pt x="693" y="1492"/>
                </a:lnTo>
                <a:lnTo>
                  <a:pt x="679" y="1492"/>
                </a:lnTo>
                <a:lnTo>
                  <a:pt x="672" y="1499"/>
                </a:lnTo>
                <a:lnTo>
                  <a:pt x="672" y="1505"/>
                </a:lnTo>
                <a:lnTo>
                  <a:pt x="665" y="1505"/>
                </a:lnTo>
                <a:lnTo>
                  <a:pt x="652" y="1512"/>
                </a:lnTo>
                <a:lnTo>
                  <a:pt x="645" y="1512"/>
                </a:lnTo>
                <a:lnTo>
                  <a:pt x="638" y="1519"/>
                </a:lnTo>
                <a:lnTo>
                  <a:pt x="638" y="1526"/>
                </a:lnTo>
                <a:lnTo>
                  <a:pt x="631" y="1540"/>
                </a:lnTo>
                <a:lnTo>
                  <a:pt x="624" y="1547"/>
                </a:lnTo>
                <a:lnTo>
                  <a:pt x="624" y="1553"/>
                </a:lnTo>
                <a:lnTo>
                  <a:pt x="617" y="1560"/>
                </a:lnTo>
                <a:lnTo>
                  <a:pt x="610" y="1574"/>
                </a:lnTo>
                <a:lnTo>
                  <a:pt x="604" y="1581"/>
                </a:lnTo>
                <a:lnTo>
                  <a:pt x="604" y="1588"/>
                </a:lnTo>
                <a:lnTo>
                  <a:pt x="597" y="1594"/>
                </a:lnTo>
                <a:lnTo>
                  <a:pt x="590" y="1608"/>
                </a:lnTo>
                <a:lnTo>
                  <a:pt x="583" y="1615"/>
                </a:lnTo>
                <a:lnTo>
                  <a:pt x="576" y="1622"/>
                </a:lnTo>
                <a:lnTo>
                  <a:pt x="569" y="1622"/>
                </a:lnTo>
                <a:lnTo>
                  <a:pt x="562" y="1629"/>
                </a:lnTo>
                <a:lnTo>
                  <a:pt x="556" y="1629"/>
                </a:lnTo>
                <a:lnTo>
                  <a:pt x="549" y="1636"/>
                </a:lnTo>
                <a:lnTo>
                  <a:pt x="542" y="1636"/>
                </a:lnTo>
                <a:lnTo>
                  <a:pt x="535" y="1642"/>
                </a:lnTo>
                <a:lnTo>
                  <a:pt x="528" y="1642"/>
                </a:lnTo>
                <a:lnTo>
                  <a:pt x="521" y="1649"/>
                </a:lnTo>
                <a:lnTo>
                  <a:pt x="514" y="1649"/>
                </a:lnTo>
                <a:lnTo>
                  <a:pt x="508" y="1656"/>
                </a:lnTo>
                <a:lnTo>
                  <a:pt x="501" y="1656"/>
                </a:lnTo>
                <a:lnTo>
                  <a:pt x="494" y="1663"/>
                </a:lnTo>
                <a:lnTo>
                  <a:pt x="487" y="1663"/>
                </a:lnTo>
                <a:lnTo>
                  <a:pt x="480" y="1663"/>
                </a:lnTo>
                <a:lnTo>
                  <a:pt x="473" y="1663"/>
                </a:lnTo>
                <a:lnTo>
                  <a:pt x="460" y="1663"/>
                </a:lnTo>
                <a:lnTo>
                  <a:pt x="453" y="1663"/>
                </a:lnTo>
                <a:lnTo>
                  <a:pt x="446" y="1663"/>
                </a:lnTo>
                <a:lnTo>
                  <a:pt x="439" y="1663"/>
                </a:lnTo>
                <a:lnTo>
                  <a:pt x="432" y="1663"/>
                </a:lnTo>
                <a:lnTo>
                  <a:pt x="425" y="1663"/>
                </a:lnTo>
                <a:lnTo>
                  <a:pt x="418" y="1656"/>
                </a:lnTo>
                <a:lnTo>
                  <a:pt x="412" y="1656"/>
                </a:lnTo>
                <a:lnTo>
                  <a:pt x="405" y="1656"/>
                </a:lnTo>
                <a:lnTo>
                  <a:pt x="398" y="1656"/>
                </a:lnTo>
                <a:lnTo>
                  <a:pt x="391" y="1656"/>
                </a:lnTo>
                <a:lnTo>
                  <a:pt x="384" y="1656"/>
                </a:lnTo>
                <a:lnTo>
                  <a:pt x="377" y="1656"/>
                </a:lnTo>
                <a:lnTo>
                  <a:pt x="364" y="1656"/>
                </a:lnTo>
                <a:lnTo>
                  <a:pt x="357" y="1656"/>
                </a:lnTo>
                <a:lnTo>
                  <a:pt x="350" y="1656"/>
                </a:lnTo>
                <a:lnTo>
                  <a:pt x="343" y="1656"/>
                </a:lnTo>
                <a:lnTo>
                  <a:pt x="336" y="1656"/>
                </a:lnTo>
                <a:lnTo>
                  <a:pt x="329" y="1649"/>
                </a:lnTo>
                <a:lnTo>
                  <a:pt x="322" y="1649"/>
                </a:lnTo>
                <a:lnTo>
                  <a:pt x="316" y="1649"/>
                </a:lnTo>
                <a:lnTo>
                  <a:pt x="309" y="1642"/>
                </a:lnTo>
                <a:lnTo>
                  <a:pt x="302" y="1636"/>
                </a:lnTo>
                <a:lnTo>
                  <a:pt x="295" y="1636"/>
                </a:lnTo>
                <a:close/>
                <a:moveTo>
                  <a:pt x="706" y="903"/>
                </a:moveTo>
                <a:lnTo>
                  <a:pt x="706" y="883"/>
                </a:lnTo>
                <a:lnTo>
                  <a:pt x="706" y="869"/>
                </a:lnTo>
                <a:lnTo>
                  <a:pt x="706" y="855"/>
                </a:lnTo>
                <a:lnTo>
                  <a:pt x="713" y="849"/>
                </a:lnTo>
                <a:lnTo>
                  <a:pt x="727" y="842"/>
                </a:lnTo>
                <a:lnTo>
                  <a:pt x="734" y="835"/>
                </a:lnTo>
                <a:lnTo>
                  <a:pt x="748" y="828"/>
                </a:lnTo>
                <a:lnTo>
                  <a:pt x="754" y="814"/>
                </a:lnTo>
                <a:lnTo>
                  <a:pt x="761" y="808"/>
                </a:lnTo>
                <a:lnTo>
                  <a:pt x="768" y="801"/>
                </a:lnTo>
                <a:lnTo>
                  <a:pt x="775" y="801"/>
                </a:lnTo>
                <a:lnTo>
                  <a:pt x="789" y="801"/>
                </a:lnTo>
                <a:lnTo>
                  <a:pt x="796" y="808"/>
                </a:lnTo>
                <a:lnTo>
                  <a:pt x="809" y="801"/>
                </a:lnTo>
                <a:lnTo>
                  <a:pt x="809" y="787"/>
                </a:lnTo>
                <a:lnTo>
                  <a:pt x="809" y="766"/>
                </a:lnTo>
                <a:lnTo>
                  <a:pt x="802" y="760"/>
                </a:lnTo>
                <a:lnTo>
                  <a:pt x="796" y="746"/>
                </a:lnTo>
                <a:lnTo>
                  <a:pt x="789" y="732"/>
                </a:lnTo>
                <a:lnTo>
                  <a:pt x="782" y="719"/>
                </a:lnTo>
                <a:lnTo>
                  <a:pt x="775" y="712"/>
                </a:lnTo>
                <a:lnTo>
                  <a:pt x="768" y="698"/>
                </a:lnTo>
                <a:lnTo>
                  <a:pt x="761" y="684"/>
                </a:lnTo>
                <a:lnTo>
                  <a:pt x="754" y="678"/>
                </a:lnTo>
                <a:lnTo>
                  <a:pt x="754" y="664"/>
                </a:lnTo>
                <a:lnTo>
                  <a:pt x="754" y="650"/>
                </a:lnTo>
                <a:lnTo>
                  <a:pt x="754" y="630"/>
                </a:lnTo>
                <a:lnTo>
                  <a:pt x="761" y="623"/>
                </a:lnTo>
                <a:lnTo>
                  <a:pt x="768" y="609"/>
                </a:lnTo>
                <a:lnTo>
                  <a:pt x="775" y="602"/>
                </a:lnTo>
                <a:lnTo>
                  <a:pt x="782" y="589"/>
                </a:lnTo>
                <a:lnTo>
                  <a:pt x="789" y="582"/>
                </a:lnTo>
                <a:lnTo>
                  <a:pt x="796" y="568"/>
                </a:lnTo>
                <a:lnTo>
                  <a:pt x="809" y="561"/>
                </a:lnTo>
                <a:lnTo>
                  <a:pt x="816" y="554"/>
                </a:lnTo>
                <a:lnTo>
                  <a:pt x="823" y="554"/>
                </a:lnTo>
                <a:lnTo>
                  <a:pt x="837" y="554"/>
                </a:lnTo>
                <a:lnTo>
                  <a:pt x="844" y="554"/>
                </a:lnTo>
                <a:lnTo>
                  <a:pt x="850" y="548"/>
                </a:lnTo>
                <a:lnTo>
                  <a:pt x="864" y="548"/>
                </a:lnTo>
                <a:lnTo>
                  <a:pt x="871" y="541"/>
                </a:lnTo>
                <a:lnTo>
                  <a:pt x="878" y="541"/>
                </a:lnTo>
                <a:lnTo>
                  <a:pt x="892" y="541"/>
                </a:lnTo>
                <a:lnTo>
                  <a:pt x="898" y="534"/>
                </a:lnTo>
                <a:lnTo>
                  <a:pt x="912" y="534"/>
                </a:lnTo>
                <a:lnTo>
                  <a:pt x="919" y="527"/>
                </a:lnTo>
                <a:lnTo>
                  <a:pt x="926" y="527"/>
                </a:lnTo>
                <a:lnTo>
                  <a:pt x="940" y="527"/>
                </a:lnTo>
                <a:lnTo>
                  <a:pt x="946" y="527"/>
                </a:lnTo>
                <a:lnTo>
                  <a:pt x="960" y="527"/>
                </a:lnTo>
                <a:lnTo>
                  <a:pt x="967" y="527"/>
                </a:lnTo>
                <a:lnTo>
                  <a:pt x="974" y="527"/>
                </a:lnTo>
                <a:lnTo>
                  <a:pt x="988" y="527"/>
                </a:lnTo>
                <a:lnTo>
                  <a:pt x="994" y="534"/>
                </a:lnTo>
                <a:lnTo>
                  <a:pt x="1001" y="534"/>
                </a:lnTo>
                <a:lnTo>
                  <a:pt x="1015" y="541"/>
                </a:lnTo>
                <a:lnTo>
                  <a:pt x="1022" y="548"/>
                </a:lnTo>
                <a:lnTo>
                  <a:pt x="1029" y="561"/>
                </a:lnTo>
                <a:lnTo>
                  <a:pt x="1035" y="568"/>
                </a:lnTo>
                <a:lnTo>
                  <a:pt x="1049" y="568"/>
                </a:lnTo>
                <a:lnTo>
                  <a:pt x="1056" y="568"/>
                </a:lnTo>
                <a:lnTo>
                  <a:pt x="1063" y="568"/>
                </a:lnTo>
                <a:lnTo>
                  <a:pt x="1077" y="568"/>
                </a:lnTo>
                <a:lnTo>
                  <a:pt x="1083" y="561"/>
                </a:lnTo>
                <a:lnTo>
                  <a:pt x="1097" y="561"/>
                </a:lnTo>
                <a:lnTo>
                  <a:pt x="1104" y="568"/>
                </a:lnTo>
                <a:lnTo>
                  <a:pt x="1111" y="575"/>
                </a:lnTo>
                <a:lnTo>
                  <a:pt x="1125" y="582"/>
                </a:lnTo>
                <a:lnTo>
                  <a:pt x="1131" y="589"/>
                </a:lnTo>
                <a:lnTo>
                  <a:pt x="1138" y="595"/>
                </a:lnTo>
                <a:lnTo>
                  <a:pt x="1145" y="602"/>
                </a:lnTo>
                <a:lnTo>
                  <a:pt x="1152" y="602"/>
                </a:lnTo>
                <a:lnTo>
                  <a:pt x="1166" y="602"/>
                </a:lnTo>
                <a:lnTo>
                  <a:pt x="1173" y="602"/>
                </a:lnTo>
                <a:lnTo>
                  <a:pt x="1186" y="595"/>
                </a:lnTo>
                <a:lnTo>
                  <a:pt x="1200" y="595"/>
                </a:lnTo>
                <a:lnTo>
                  <a:pt x="1207" y="595"/>
                </a:lnTo>
                <a:lnTo>
                  <a:pt x="1207" y="609"/>
                </a:lnTo>
                <a:lnTo>
                  <a:pt x="1207" y="630"/>
                </a:lnTo>
                <a:lnTo>
                  <a:pt x="1207" y="636"/>
                </a:lnTo>
                <a:lnTo>
                  <a:pt x="1193" y="636"/>
                </a:lnTo>
                <a:lnTo>
                  <a:pt x="1186" y="636"/>
                </a:lnTo>
                <a:lnTo>
                  <a:pt x="1173" y="636"/>
                </a:lnTo>
                <a:lnTo>
                  <a:pt x="1166" y="636"/>
                </a:lnTo>
                <a:lnTo>
                  <a:pt x="1159" y="643"/>
                </a:lnTo>
                <a:lnTo>
                  <a:pt x="1152" y="657"/>
                </a:lnTo>
                <a:lnTo>
                  <a:pt x="1138" y="664"/>
                </a:lnTo>
                <a:lnTo>
                  <a:pt x="1131" y="678"/>
                </a:lnTo>
                <a:lnTo>
                  <a:pt x="1125" y="684"/>
                </a:lnTo>
                <a:lnTo>
                  <a:pt x="1118" y="691"/>
                </a:lnTo>
                <a:lnTo>
                  <a:pt x="1111" y="698"/>
                </a:lnTo>
                <a:lnTo>
                  <a:pt x="1097" y="698"/>
                </a:lnTo>
                <a:lnTo>
                  <a:pt x="1090" y="698"/>
                </a:lnTo>
                <a:lnTo>
                  <a:pt x="1083" y="698"/>
                </a:lnTo>
                <a:lnTo>
                  <a:pt x="1070" y="698"/>
                </a:lnTo>
                <a:lnTo>
                  <a:pt x="1063" y="705"/>
                </a:lnTo>
                <a:lnTo>
                  <a:pt x="1056" y="712"/>
                </a:lnTo>
                <a:lnTo>
                  <a:pt x="1049" y="725"/>
                </a:lnTo>
                <a:lnTo>
                  <a:pt x="1042" y="732"/>
                </a:lnTo>
                <a:lnTo>
                  <a:pt x="1029" y="746"/>
                </a:lnTo>
                <a:lnTo>
                  <a:pt x="1022" y="753"/>
                </a:lnTo>
                <a:lnTo>
                  <a:pt x="1015" y="760"/>
                </a:lnTo>
                <a:lnTo>
                  <a:pt x="1008" y="766"/>
                </a:lnTo>
                <a:lnTo>
                  <a:pt x="994" y="766"/>
                </a:lnTo>
                <a:lnTo>
                  <a:pt x="988" y="766"/>
                </a:lnTo>
                <a:lnTo>
                  <a:pt x="981" y="766"/>
                </a:lnTo>
                <a:lnTo>
                  <a:pt x="967" y="766"/>
                </a:lnTo>
                <a:lnTo>
                  <a:pt x="960" y="773"/>
                </a:lnTo>
                <a:lnTo>
                  <a:pt x="953" y="780"/>
                </a:lnTo>
                <a:lnTo>
                  <a:pt x="946" y="794"/>
                </a:lnTo>
                <a:lnTo>
                  <a:pt x="940" y="801"/>
                </a:lnTo>
                <a:lnTo>
                  <a:pt x="926" y="814"/>
                </a:lnTo>
                <a:lnTo>
                  <a:pt x="919" y="821"/>
                </a:lnTo>
                <a:lnTo>
                  <a:pt x="912" y="828"/>
                </a:lnTo>
                <a:lnTo>
                  <a:pt x="905" y="835"/>
                </a:lnTo>
                <a:lnTo>
                  <a:pt x="892" y="835"/>
                </a:lnTo>
                <a:lnTo>
                  <a:pt x="885" y="835"/>
                </a:lnTo>
                <a:lnTo>
                  <a:pt x="878" y="835"/>
                </a:lnTo>
                <a:lnTo>
                  <a:pt x="864" y="835"/>
                </a:lnTo>
                <a:lnTo>
                  <a:pt x="857" y="828"/>
                </a:lnTo>
                <a:lnTo>
                  <a:pt x="844" y="828"/>
                </a:lnTo>
                <a:lnTo>
                  <a:pt x="837" y="835"/>
                </a:lnTo>
                <a:lnTo>
                  <a:pt x="830" y="842"/>
                </a:lnTo>
                <a:lnTo>
                  <a:pt x="823" y="855"/>
                </a:lnTo>
                <a:lnTo>
                  <a:pt x="816" y="862"/>
                </a:lnTo>
                <a:lnTo>
                  <a:pt x="802" y="869"/>
                </a:lnTo>
                <a:lnTo>
                  <a:pt x="796" y="869"/>
                </a:lnTo>
                <a:lnTo>
                  <a:pt x="789" y="869"/>
                </a:lnTo>
                <a:lnTo>
                  <a:pt x="775" y="869"/>
                </a:lnTo>
                <a:lnTo>
                  <a:pt x="768" y="869"/>
                </a:lnTo>
                <a:lnTo>
                  <a:pt x="761" y="876"/>
                </a:lnTo>
                <a:lnTo>
                  <a:pt x="748" y="890"/>
                </a:lnTo>
                <a:lnTo>
                  <a:pt x="741" y="896"/>
                </a:lnTo>
                <a:lnTo>
                  <a:pt x="734" y="903"/>
                </a:lnTo>
                <a:lnTo>
                  <a:pt x="727" y="903"/>
                </a:lnTo>
                <a:lnTo>
                  <a:pt x="713" y="903"/>
                </a:lnTo>
                <a:lnTo>
                  <a:pt x="706" y="903"/>
                </a:lnTo>
                <a:close/>
                <a:moveTo>
                  <a:pt x="1337" y="698"/>
                </a:moveTo>
                <a:lnTo>
                  <a:pt x="1330" y="691"/>
                </a:lnTo>
                <a:lnTo>
                  <a:pt x="1330" y="684"/>
                </a:lnTo>
                <a:lnTo>
                  <a:pt x="1323" y="678"/>
                </a:lnTo>
                <a:lnTo>
                  <a:pt x="1317" y="671"/>
                </a:lnTo>
                <a:lnTo>
                  <a:pt x="1317" y="664"/>
                </a:lnTo>
                <a:lnTo>
                  <a:pt x="1310" y="664"/>
                </a:lnTo>
                <a:lnTo>
                  <a:pt x="1303" y="657"/>
                </a:lnTo>
                <a:lnTo>
                  <a:pt x="1296" y="657"/>
                </a:lnTo>
                <a:lnTo>
                  <a:pt x="1289" y="650"/>
                </a:lnTo>
                <a:lnTo>
                  <a:pt x="1289" y="650"/>
                </a:lnTo>
                <a:lnTo>
                  <a:pt x="1282" y="643"/>
                </a:lnTo>
                <a:lnTo>
                  <a:pt x="1275" y="636"/>
                </a:lnTo>
                <a:lnTo>
                  <a:pt x="1275" y="623"/>
                </a:lnTo>
                <a:lnTo>
                  <a:pt x="1275" y="616"/>
                </a:lnTo>
                <a:lnTo>
                  <a:pt x="1275" y="602"/>
                </a:lnTo>
                <a:lnTo>
                  <a:pt x="1275" y="595"/>
                </a:lnTo>
                <a:lnTo>
                  <a:pt x="1282" y="589"/>
                </a:lnTo>
                <a:lnTo>
                  <a:pt x="1289" y="589"/>
                </a:lnTo>
                <a:lnTo>
                  <a:pt x="1289" y="582"/>
                </a:lnTo>
                <a:lnTo>
                  <a:pt x="1296" y="582"/>
                </a:lnTo>
                <a:lnTo>
                  <a:pt x="1303" y="575"/>
                </a:lnTo>
                <a:lnTo>
                  <a:pt x="1310" y="575"/>
                </a:lnTo>
                <a:lnTo>
                  <a:pt x="1317" y="568"/>
                </a:lnTo>
                <a:lnTo>
                  <a:pt x="1323" y="561"/>
                </a:lnTo>
                <a:lnTo>
                  <a:pt x="1323" y="554"/>
                </a:lnTo>
                <a:lnTo>
                  <a:pt x="1330" y="554"/>
                </a:lnTo>
                <a:lnTo>
                  <a:pt x="1337" y="548"/>
                </a:lnTo>
                <a:lnTo>
                  <a:pt x="1344" y="548"/>
                </a:lnTo>
                <a:lnTo>
                  <a:pt x="1351" y="548"/>
                </a:lnTo>
                <a:lnTo>
                  <a:pt x="1351" y="541"/>
                </a:lnTo>
                <a:lnTo>
                  <a:pt x="1358" y="541"/>
                </a:lnTo>
                <a:lnTo>
                  <a:pt x="1365" y="541"/>
                </a:lnTo>
                <a:lnTo>
                  <a:pt x="1371" y="534"/>
                </a:lnTo>
                <a:lnTo>
                  <a:pt x="1378" y="534"/>
                </a:lnTo>
                <a:lnTo>
                  <a:pt x="1378" y="541"/>
                </a:lnTo>
                <a:lnTo>
                  <a:pt x="1378" y="554"/>
                </a:lnTo>
                <a:lnTo>
                  <a:pt x="1378" y="561"/>
                </a:lnTo>
                <a:lnTo>
                  <a:pt x="1378" y="575"/>
                </a:lnTo>
                <a:lnTo>
                  <a:pt x="1378" y="582"/>
                </a:lnTo>
                <a:lnTo>
                  <a:pt x="1378" y="589"/>
                </a:lnTo>
                <a:lnTo>
                  <a:pt x="1378" y="602"/>
                </a:lnTo>
                <a:lnTo>
                  <a:pt x="1385" y="609"/>
                </a:lnTo>
                <a:lnTo>
                  <a:pt x="1385" y="623"/>
                </a:lnTo>
                <a:lnTo>
                  <a:pt x="1385" y="630"/>
                </a:lnTo>
                <a:lnTo>
                  <a:pt x="1378" y="636"/>
                </a:lnTo>
                <a:lnTo>
                  <a:pt x="1371" y="643"/>
                </a:lnTo>
                <a:lnTo>
                  <a:pt x="1371" y="657"/>
                </a:lnTo>
                <a:lnTo>
                  <a:pt x="1371" y="664"/>
                </a:lnTo>
                <a:lnTo>
                  <a:pt x="1371" y="671"/>
                </a:lnTo>
                <a:lnTo>
                  <a:pt x="1371" y="684"/>
                </a:lnTo>
                <a:lnTo>
                  <a:pt x="1365" y="691"/>
                </a:lnTo>
                <a:lnTo>
                  <a:pt x="1358" y="691"/>
                </a:lnTo>
                <a:lnTo>
                  <a:pt x="1351" y="698"/>
                </a:lnTo>
                <a:lnTo>
                  <a:pt x="1344" y="705"/>
                </a:lnTo>
                <a:lnTo>
                  <a:pt x="1344" y="705"/>
                </a:lnTo>
                <a:lnTo>
                  <a:pt x="1337" y="698"/>
                </a:lnTo>
                <a:close/>
                <a:moveTo>
                  <a:pt x="706" y="3230"/>
                </a:moveTo>
                <a:lnTo>
                  <a:pt x="741" y="3196"/>
                </a:lnTo>
                <a:lnTo>
                  <a:pt x="775" y="3196"/>
                </a:lnTo>
                <a:lnTo>
                  <a:pt x="802" y="3196"/>
                </a:lnTo>
                <a:lnTo>
                  <a:pt x="837" y="3168"/>
                </a:lnTo>
                <a:lnTo>
                  <a:pt x="871" y="3168"/>
                </a:lnTo>
                <a:lnTo>
                  <a:pt x="905" y="3168"/>
                </a:lnTo>
                <a:lnTo>
                  <a:pt x="940" y="3134"/>
                </a:lnTo>
                <a:lnTo>
                  <a:pt x="974" y="3134"/>
                </a:lnTo>
                <a:lnTo>
                  <a:pt x="1008" y="3134"/>
                </a:lnTo>
                <a:lnTo>
                  <a:pt x="1042" y="3100"/>
                </a:lnTo>
                <a:lnTo>
                  <a:pt x="1077" y="3100"/>
                </a:lnTo>
                <a:lnTo>
                  <a:pt x="1077" y="3066"/>
                </a:lnTo>
                <a:lnTo>
                  <a:pt x="1104" y="3031"/>
                </a:lnTo>
                <a:lnTo>
                  <a:pt x="1104" y="2997"/>
                </a:lnTo>
                <a:lnTo>
                  <a:pt x="1138" y="2963"/>
                </a:lnTo>
                <a:lnTo>
                  <a:pt x="1138" y="2936"/>
                </a:lnTo>
                <a:lnTo>
                  <a:pt x="1173" y="2901"/>
                </a:lnTo>
                <a:lnTo>
                  <a:pt x="1173" y="2867"/>
                </a:lnTo>
                <a:lnTo>
                  <a:pt x="1207" y="2833"/>
                </a:lnTo>
                <a:lnTo>
                  <a:pt x="1207" y="2799"/>
                </a:lnTo>
                <a:lnTo>
                  <a:pt x="1241" y="2765"/>
                </a:lnTo>
                <a:lnTo>
                  <a:pt x="1241" y="2730"/>
                </a:lnTo>
                <a:lnTo>
                  <a:pt x="1275" y="2696"/>
                </a:lnTo>
                <a:lnTo>
                  <a:pt x="1275" y="2669"/>
                </a:lnTo>
                <a:lnTo>
                  <a:pt x="1310" y="2635"/>
                </a:lnTo>
                <a:lnTo>
                  <a:pt x="1310" y="2600"/>
                </a:lnTo>
                <a:lnTo>
                  <a:pt x="1344" y="2566"/>
                </a:lnTo>
                <a:lnTo>
                  <a:pt x="1344" y="2532"/>
                </a:lnTo>
                <a:lnTo>
                  <a:pt x="1371" y="2498"/>
                </a:lnTo>
                <a:lnTo>
                  <a:pt x="1371" y="2463"/>
                </a:lnTo>
                <a:lnTo>
                  <a:pt x="1406" y="2429"/>
                </a:lnTo>
                <a:lnTo>
                  <a:pt x="1406" y="2402"/>
                </a:lnTo>
                <a:lnTo>
                  <a:pt x="1440" y="2368"/>
                </a:lnTo>
                <a:lnTo>
                  <a:pt x="1440" y="2333"/>
                </a:lnTo>
                <a:lnTo>
                  <a:pt x="1474" y="2299"/>
                </a:lnTo>
                <a:lnTo>
                  <a:pt x="1474" y="2265"/>
                </a:lnTo>
                <a:lnTo>
                  <a:pt x="1509" y="2231"/>
                </a:lnTo>
                <a:lnTo>
                  <a:pt x="1509" y="2197"/>
                </a:lnTo>
                <a:lnTo>
                  <a:pt x="1543" y="2169"/>
                </a:lnTo>
                <a:lnTo>
                  <a:pt x="1543" y="2135"/>
                </a:lnTo>
                <a:lnTo>
                  <a:pt x="1577" y="2101"/>
                </a:lnTo>
                <a:lnTo>
                  <a:pt x="1577" y="2067"/>
                </a:lnTo>
                <a:lnTo>
                  <a:pt x="1611" y="2032"/>
                </a:lnTo>
                <a:lnTo>
                  <a:pt x="1611" y="1998"/>
                </a:lnTo>
                <a:lnTo>
                  <a:pt x="1646" y="1964"/>
                </a:lnTo>
                <a:lnTo>
                  <a:pt x="1646" y="1930"/>
                </a:lnTo>
                <a:lnTo>
                  <a:pt x="1673" y="1902"/>
                </a:lnTo>
                <a:lnTo>
                  <a:pt x="1673" y="1868"/>
                </a:lnTo>
                <a:lnTo>
                  <a:pt x="1707" y="1834"/>
                </a:lnTo>
                <a:lnTo>
                  <a:pt x="1707" y="1834"/>
                </a:lnTo>
                <a:lnTo>
                  <a:pt x="1701" y="1827"/>
                </a:lnTo>
                <a:lnTo>
                  <a:pt x="1694" y="1827"/>
                </a:lnTo>
                <a:lnTo>
                  <a:pt x="1687" y="1820"/>
                </a:lnTo>
                <a:lnTo>
                  <a:pt x="1680" y="1820"/>
                </a:lnTo>
                <a:lnTo>
                  <a:pt x="1673" y="1820"/>
                </a:lnTo>
                <a:lnTo>
                  <a:pt x="1666" y="1813"/>
                </a:lnTo>
                <a:lnTo>
                  <a:pt x="1659" y="1813"/>
                </a:lnTo>
                <a:lnTo>
                  <a:pt x="1659" y="1807"/>
                </a:lnTo>
                <a:lnTo>
                  <a:pt x="1653" y="1807"/>
                </a:lnTo>
                <a:lnTo>
                  <a:pt x="1646" y="1793"/>
                </a:lnTo>
                <a:lnTo>
                  <a:pt x="1646" y="1786"/>
                </a:lnTo>
                <a:lnTo>
                  <a:pt x="1639" y="1786"/>
                </a:lnTo>
                <a:lnTo>
                  <a:pt x="1632" y="1786"/>
                </a:lnTo>
                <a:lnTo>
                  <a:pt x="1625" y="1793"/>
                </a:lnTo>
                <a:lnTo>
                  <a:pt x="1618" y="1793"/>
                </a:lnTo>
                <a:lnTo>
                  <a:pt x="1611" y="1793"/>
                </a:lnTo>
                <a:lnTo>
                  <a:pt x="1605" y="1786"/>
                </a:lnTo>
                <a:lnTo>
                  <a:pt x="1598" y="1779"/>
                </a:lnTo>
                <a:lnTo>
                  <a:pt x="1591" y="1772"/>
                </a:lnTo>
                <a:lnTo>
                  <a:pt x="1591" y="1766"/>
                </a:lnTo>
                <a:lnTo>
                  <a:pt x="1584" y="1766"/>
                </a:lnTo>
                <a:lnTo>
                  <a:pt x="1577" y="1759"/>
                </a:lnTo>
                <a:lnTo>
                  <a:pt x="1570" y="1759"/>
                </a:lnTo>
                <a:lnTo>
                  <a:pt x="1563" y="1759"/>
                </a:lnTo>
                <a:lnTo>
                  <a:pt x="1557" y="1759"/>
                </a:lnTo>
                <a:lnTo>
                  <a:pt x="1550" y="1759"/>
                </a:lnTo>
                <a:lnTo>
                  <a:pt x="1543" y="1752"/>
                </a:lnTo>
                <a:lnTo>
                  <a:pt x="1536" y="1752"/>
                </a:lnTo>
                <a:lnTo>
                  <a:pt x="1529" y="1745"/>
                </a:lnTo>
                <a:lnTo>
                  <a:pt x="1522" y="1738"/>
                </a:lnTo>
                <a:lnTo>
                  <a:pt x="1515" y="1738"/>
                </a:lnTo>
                <a:lnTo>
                  <a:pt x="1509" y="1731"/>
                </a:lnTo>
                <a:lnTo>
                  <a:pt x="1502" y="1731"/>
                </a:lnTo>
                <a:lnTo>
                  <a:pt x="1502" y="1724"/>
                </a:lnTo>
                <a:lnTo>
                  <a:pt x="1495" y="1724"/>
                </a:lnTo>
                <a:lnTo>
                  <a:pt x="1488" y="1724"/>
                </a:lnTo>
                <a:lnTo>
                  <a:pt x="1481" y="1718"/>
                </a:lnTo>
                <a:lnTo>
                  <a:pt x="1467" y="1718"/>
                </a:lnTo>
                <a:lnTo>
                  <a:pt x="1461" y="1718"/>
                </a:lnTo>
                <a:lnTo>
                  <a:pt x="1454" y="1718"/>
                </a:lnTo>
                <a:lnTo>
                  <a:pt x="1447" y="1711"/>
                </a:lnTo>
                <a:lnTo>
                  <a:pt x="1447" y="1704"/>
                </a:lnTo>
                <a:lnTo>
                  <a:pt x="1440" y="1690"/>
                </a:lnTo>
                <a:lnTo>
                  <a:pt x="1440" y="1683"/>
                </a:lnTo>
                <a:lnTo>
                  <a:pt x="1440" y="1683"/>
                </a:lnTo>
                <a:lnTo>
                  <a:pt x="1433" y="1690"/>
                </a:lnTo>
                <a:lnTo>
                  <a:pt x="1426" y="1697"/>
                </a:lnTo>
                <a:lnTo>
                  <a:pt x="1419" y="1704"/>
                </a:lnTo>
                <a:lnTo>
                  <a:pt x="1413" y="1704"/>
                </a:lnTo>
                <a:lnTo>
                  <a:pt x="1406" y="1704"/>
                </a:lnTo>
                <a:lnTo>
                  <a:pt x="1399" y="1697"/>
                </a:lnTo>
                <a:lnTo>
                  <a:pt x="1392" y="1697"/>
                </a:lnTo>
                <a:lnTo>
                  <a:pt x="1392" y="1690"/>
                </a:lnTo>
                <a:lnTo>
                  <a:pt x="1385" y="1690"/>
                </a:lnTo>
                <a:lnTo>
                  <a:pt x="1378" y="1683"/>
                </a:lnTo>
                <a:lnTo>
                  <a:pt x="1371" y="1677"/>
                </a:lnTo>
                <a:lnTo>
                  <a:pt x="1365" y="1670"/>
                </a:lnTo>
                <a:lnTo>
                  <a:pt x="1365" y="1663"/>
                </a:lnTo>
                <a:lnTo>
                  <a:pt x="1365" y="1656"/>
                </a:lnTo>
                <a:lnTo>
                  <a:pt x="1371" y="1649"/>
                </a:lnTo>
                <a:lnTo>
                  <a:pt x="1378" y="1642"/>
                </a:lnTo>
                <a:lnTo>
                  <a:pt x="1385" y="1636"/>
                </a:lnTo>
                <a:lnTo>
                  <a:pt x="1392" y="1629"/>
                </a:lnTo>
                <a:lnTo>
                  <a:pt x="1399" y="1622"/>
                </a:lnTo>
                <a:lnTo>
                  <a:pt x="1406" y="1622"/>
                </a:lnTo>
                <a:lnTo>
                  <a:pt x="1406" y="1615"/>
                </a:lnTo>
                <a:lnTo>
                  <a:pt x="1413" y="1608"/>
                </a:lnTo>
                <a:lnTo>
                  <a:pt x="1419" y="1601"/>
                </a:lnTo>
                <a:lnTo>
                  <a:pt x="1426" y="1594"/>
                </a:lnTo>
                <a:lnTo>
                  <a:pt x="1433" y="1588"/>
                </a:lnTo>
                <a:lnTo>
                  <a:pt x="1440" y="1581"/>
                </a:lnTo>
                <a:lnTo>
                  <a:pt x="1440" y="1581"/>
                </a:lnTo>
                <a:lnTo>
                  <a:pt x="1447" y="1594"/>
                </a:lnTo>
                <a:lnTo>
                  <a:pt x="1447" y="1601"/>
                </a:lnTo>
                <a:lnTo>
                  <a:pt x="1447" y="1615"/>
                </a:lnTo>
                <a:lnTo>
                  <a:pt x="1447" y="1622"/>
                </a:lnTo>
                <a:lnTo>
                  <a:pt x="1447" y="1636"/>
                </a:lnTo>
                <a:lnTo>
                  <a:pt x="1447" y="1649"/>
                </a:lnTo>
                <a:lnTo>
                  <a:pt x="1440" y="1656"/>
                </a:lnTo>
                <a:lnTo>
                  <a:pt x="1447" y="1670"/>
                </a:lnTo>
                <a:lnTo>
                  <a:pt x="1447" y="1670"/>
                </a:lnTo>
                <a:lnTo>
                  <a:pt x="1454" y="1677"/>
                </a:lnTo>
                <a:lnTo>
                  <a:pt x="1461" y="1677"/>
                </a:lnTo>
                <a:lnTo>
                  <a:pt x="1467" y="1683"/>
                </a:lnTo>
                <a:lnTo>
                  <a:pt x="1474" y="1683"/>
                </a:lnTo>
                <a:lnTo>
                  <a:pt x="1481" y="1683"/>
                </a:lnTo>
                <a:lnTo>
                  <a:pt x="1488" y="1683"/>
                </a:lnTo>
                <a:lnTo>
                  <a:pt x="1495" y="1683"/>
                </a:lnTo>
                <a:lnTo>
                  <a:pt x="1502" y="1683"/>
                </a:lnTo>
                <a:lnTo>
                  <a:pt x="1509" y="1683"/>
                </a:lnTo>
                <a:lnTo>
                  <a:pt x="1515" y="1683"/>
                </a:lnTo>
                <a:lnTo>
                  <a:pt x="1522" y="1690"/>
                </a:lnTo>
                <a:lnTo>
                  <a:pt x="1529" y="1690"/>
                </a:lnTo>
                <a:lnTo>
                  <a:pt x="1536" y="1697"/>
                </a:lnTo>
                <a:lnTo>
                  <a:pt x="1543" y="1697"/>
                </a:lnTo>
                <a:lnTo>
                  <a:pt x="1550" y="1697"/>
                </a:lnTo>
                <a:lnTo>
                  <a:pt x="1557" y="1697"/>
                </a:lnTo>
                <a:lnTo>
                  <a:pt x="1563" y="1704"/>
                </a:lnTo>
                <a:lnTo>
                  <a:pt x="1570" y="1704"/>
                </a:lnTo>
                <a:lnTo>
                  <a:pt x="1577" y="1704"/>
                </a:lnTo>
                <a:lnTo>
                  <a:pt x="1584" y="1704"/>
                </a:lnTo>
                <a:lnTo>
                  <a:pt x="1591" y="1704"/>
                </a:lnTo>
                <a:lnTo>
                  <a:pt x="1598" y="1704"/>
                </a:lnTo>
                <a:lnTo>
                  <a:pt x="1605" y="1704"/>
                </a:lnTo>
                <a:lnTo>
                  <a:pt x="1611" y="1704"/>
                </a:lnTo>
                <a:lnTo>
                  <a:pt x="1618" y="1704"/>
                </a:lnTo>
                <a:lnTo>
                  <a:pt x="1625" y="1704"/>
                </a:lnTo>
                <a:lnTo>
                  <a:pt x="1632" y="1704"/>
                </a:lnTo>
                <a:lnTo>
                  <a:pt x="1639" y="1704"/>
                </a:lnTo>
                <a:lnTo>
                  <a:pt x="1646" y="1711"/>
                </a:lnTo>
                <a:lnTo>
                  <a:pt x="1653" y="1718"/>
                </a:lnTo>
                <a:lnTo>
                  <a:pt x="1659" y="1718"/>
                </a:lnTo>
                <a:lnTo>
                  <a:pt x="1666" y="1724"/>
                </a:lnTo>
                <a:lnTo>
                  <a:pt x="1673" y="1724"/>
                </a:lnTo>
                <a:lnTo>
                  <a:pt x="1673" y="1724"/>
                </a:lnTo>
                <a:lnTo>
                  <a:pt x="1680" y="1718"/>
                </a:lnTo>
                <a:lnTo>
                  <a:pt x="1680" y="1704"/>
                </a:lnTo>
                <a:lnTo>
                  <a:pt x="1687" y="1690"/>
                </a:lnTo>
                <a:lnTo>
                  <a:pt x="1687" y="1683"/>
                </a:lnTo>
                <a:lnTo>
                  <a:pt x="1680" y="1670"/>
                </a:lnTo>
                <a:lnTo>
                  <a:pt x="1680" y="1663"/>
                </a:lnTo>
                <a:lnTo>
                  <a:pt x="1673" y="1656"/>
                </a:lnTo>
                <a:lnTo>
                  <a:pt x="1666" y="1649"/>
                </a:lnTo>
                <a:lnTo>
                  <a:pt x="1666" y="1642"/>
                </a:lnTo>
                <a:lnTo>
                  <a:pt x="1659" y="1636"/>
                </a:lnTo>
                <a:lnTo>
                  <a:pt x="1653" y="1622"/>
                </a:lnTo>
                <a:lnTo>
                  <a:pt x="1653" y="1615"/>
                </a:lnTo>
                <a:lnTo>
                  <a:pt x="1646" y="1608"/>
                </a:lnTo>
                <a:lnTo>
                  <a:pt x="1646" y="1594"/>
                </a:lnTo>
                <a:lnTo>
                  <a:pt x="1639" y="1588"/>
                </a:lnTo>
                <a:lnTo>
                  <a:pt x="1639" y="1574"/>
                </a:lnTo>
                <a:lnTo>
                  <a:pt x="1639" y="1567"/>
                </a:lnTo>
                <a:lnTo>
                  <a:pt x="1639" y="1553"/>
                </a:lnTo>
                <a:lnTo>
                  <a:pt x="1639" y="1547"/>
                </a:lnTo>
                <a:lnTo>
                  <a:pt x="1639" y="1533"/>
                </a:lnTo>
                <a:lnTo>
                  <a:pt x="1646" y="1526"/>
                </a:lnTo>
                <a:lnTo>
                  <a:pt x="1646" y="1512"/>
                </a:lnTo>
                <a:lnTo>
                  <a:pt x="1646" y="1505"/>
                </a:lnTo>
                <a:lnTo>
                  <a:pt x="1653" y="1492"/>
                </a:lnTo>
                <a:lnTo>
                  <a:pt x="1653" y="1485"/>
                </a:lnTo>
                <a:lnTo>
                  <a:pt x="1653" y="1471"/>
                </a:lnTo>
                <a:lnTo>
                  <a:pt x="1659" y="1464"/>
                </a:lnTo>
                <a:lnTo>
                  <a:pt x="1659" y="1451"/>
                </a:lnTo>
                <a:lnTo>
                  <a:pt x="1659" y="1444"/>
                </a:lnTo>
                <a:lnTo>
                  <a:pt x="1666" y="1430"/>
                </a:lnTo>
                <a:lnTo>
                  <a:pt x="1666" y="1423"/>
                </a:lnTo>
                <a:lnTo>
                  <a:pt x="1673" y="1410"/>
                </a:lnTo>
                <a:lnTo>
                  <a:pt x="1673" y="1403"/>
                </a:lnTo>
                <a:lnTo>
                  <a:pt x="1673" y="1396"/>
                </a:lnTo>
                <a:lnTo>
                  <a:pt x="1680" y="1382"/>
                </a:lnTo>
                <a:lnTo>
                  <a:pt x="1680" y="1375"/>
                </a:lnTo>
                <a:lnTo>
                  <a:pt x="1680" y="1362"/>
                </a:lnTo>
                <a:lnTo>
                  <a:pt x="1687" y="1355"/>
                </a:lnTo>
                <a:lnTo>
                  <a:pt x="1687" y="1341"/>
                </a:lnTo>
                <a:lnTo>
                  <a:pt x="1687" y="1334"/>
                </a:lnTo>
                <a:lnTo>
                  <a:pt x="1694" y="1321"/>
                </a:lnTo>
                <a:lnTo>
                  <a:pt x="1694" y="1314"/>
                </a:lnTo>
                <a:lnTo>
                  <a:pt x="1694" y="1300"/>
                </a:lnTo>
                <a:lnTo>
                  <a:pt x="1701" y="1293"/>
                </a:lnTo>
                <a:lnTo>
                  <a:pt x="1701" y="1280"/>
                </a:lnTo>
                <a:lnTo>
                  <a:pt x="1707" y="1273"/>
                </a:lnTo>
                <a:lnTo>
                  <a:pt x="1707" y="1266"/>
                </a:lnTo>
                <a:lnTo>
                  <a:pt x="1707" y="1252"/>
                </a:lnTo>
                <a:lnTo>
                  <a:pt x="1714" y="1245"/>
                </a:lnTo>
                <a:lnTo>
                  <a:pt x="1714" y="1232"/>
                </a:lnTo>
                <a:lnTo>
                  <a:pt x="1714" y="1225"/>
                </a:lnTo>
                <a:lnTo>
                  <a:pt x="1721" y="1211"/>
                </a:lnTo>
                <a:lnTo>
                  <a:pt x="1721" y="1204"/>
                </a:lnTo>
                <a:lnTo>
                  <a:pt x="1721" y="1191"/>
                </a:lnTo>
                <a:lnTo>
                  <a:pt x="1728" y="1184"/>
                </a:lnTo>
                <a:lnTo>
                  <a:pt x="1728" y="1170"/>
                </a:lnTo>
                <a:lnTo>
                  <a:pt x="1728" y="1163"/>
                </a:lnTo>
                <a:lnTo>
                  <a:pt x="1735" y="1157"/>
                </a:lnTo>
                <a:lnTo>
                  <a:pt x="1735" y="1143"/>
                </a:lnTo>
                <a:lnTo>
                  <a:pt x="1735" y="1136"/>
                </a:lnTo>
                <a:lnTo>
                  <a:pt x="1742" y="1122"/>
                </a:lnTo>
                <a:lnTo>
                  <a:pt x="1742" y="1115"/>
                </a:lnTo>
                <a:lnTo>
                  <a:pt x="1749" y="1102"/>
                </a:lnTo>
                <a:lnTo>
                  <a:pt x="1749" y="1095"/>
                </a:lnTo>
                <a:lnTo>
                  <a:pt x="1749" y="1081"/>
                </a:lnTo>
                <a:lnTo>
                  <a:pt x="1755" y="1074"/>
                </a:lnTo>
                <a:lnTo>
                  <a:pt x="1755" y="1061"/>
                </a:lnTo>
                <a:lnTo>
                  <a:pt x="1755" y="1054"/>
                </a:lnTo>
                <a:lnTo>
                  <a:pt x="1762" y="1040"/>
                </a:lnTo>
                <a:lnTo>
                  <a:pt x="1762" y="1033"/>
                </a:lnTo>
                <a:lnTo>
                  <a:pt x="1762" y="1027"/>
                </a:lnTo>
                <a:lnTo>
                  <a:pt x="1769" y="1013"/>
                </a:lnTo>
                <a:lnTo>
                  <a:pt x="1769" y="1006"/>
                </a:lnTo>
                <a:lnTo>
                  <a:pt x="1769" y="992"/>
                </a:lnTo>
                <a:lnTo>
                  <a:pt x="1776" y="979"/>
                </a:lnTo>
                <a:lnTo>
                  <a:pt x="1776" y="979"/>
                </a:lnTo>
                <a:lnTo>
                  <a:pt x="1783" y="979"/>
                </a:lnTo>
                <a:lnTo>
                  <a:pt x="1783" y="992"/>
                </a:lnTo>
                <a:lnTo>
                  <a:pt x="1790" y="999"/>
                </a:lnTo>
                <a:lnTo>
                  <a:pt x="1797" y="1013"/>
                </a:lnTo>
                <a:lnTo>
                  <a:pt x="1797" y="1020"/>
                </a:lnTo>
                <a:lnTo>
                  <a:pt x="1803" y="1027"/>
                </a:lnTo>
                <a:lnTo>
                  <a:pt x="1803" y="1040"/>
                </a:lnTo>
                <a:lnTo>
                  <a:pt x="1810" y="1047"/>
                </a:lnTo>
                <a:lnTo>
                  <a:pt x="1810" y="1061"/>
                </a:lnTo>
                <a:lnTo>
                  <a:pt x="1810" y="1068"/>
                </a:lnTo>
                <a:lnTo>
                  <a:pt x="1817" y="1074"/>
                </a:lnTo>
                <a:lnTo>
                  <a:pt x="1817" y="1088"/>
                </a:lnTo>
                <a:lnTo>
                  <a:pt x="1824" y="1095"/>
                </a:lnTo>
                <a:lnTo>
                  <a:pt x="1824" y="1109"/>
                </a:lnTo>
                <a:lnTo>
                  <a:pt x="1824" y="1115"/>
                </a:lnTo>
                <a:lnTo>
                  <a:pt x="1844" y="1102"/>
                </a:lnTo>
                <a:lnTo>
                  <a:pt x="1844" y="1068"/>
                </a:lnTo>
                <a:lnTo>
                  <a:pt x="1844" y="1033"/>
                </a:lnTo>
                <a:lnTo>
                  <a:pt x="1844" y="999"/>
                </a:lnTo>
                <a:lnTo>
                  <a:pt x="1844" y="965"/>
                </a:lnTo>
                <a:lnTo>
                  <a:pt x="1879" y="931"/>
                </a:lnTo>
                <a:lnTo>
                  <a:pt x="1879" y="903"/>
                </a:lnTo>
                <a:lnTo>
                  <a:pt x="1879" y="869"/>
                </a:lnTo>
                <a:lnTo>
                  <a:pt x="1879" y="835"/>
                </a:lnTo>
                <a:lnTo>
                  <a:pt x="1879" y="801"/>
                </a:lnTo>
                <a:lnTo>
                  <a:pt x="1879" y="766"/>
                </a:lnTo>
                <a:lnTo>
                  <a:pt x="1913" y="732"/>
                </a:lnTo>
                <a:lnTo>
                  <a:pt x="1913" y="698"/>
                </a:lnTo>
                <a:lnTo>
                  <a:pt x="1913" y="664"/>
                </a:lnTo>
                <a:lnTo>
                  <a:pt x="1913" y="636"/>
                </a:lnTo>
                <a:lnTo>
                  <a:pt x="1913" y="602"/>
                </a:lnTo>
                <a:lnTo>
                  <a:pt x="1913" y="568"/>
                </a:lnTo>
                <a:lnTo>
                  <a:pt x="1940" y="534"/>
                </a:lnTo>
                <a:lnTo>
                  <a:pt x="1940" y="500"/>
                </a:lnTo>
                <a:lnTo>
                  <a:pt x="1940" y="465"/>
                </a:lnTo>
                <a:lnTo>
                  <a:pt x="1940" y="431"/>
                </a:lnTo>
                <a:lnTo>
                  <a:pt x="1940" y="404"/>
                </a:lnTo>
                <a:lnTo>
                  <a:pt x="1940" y="370"/>
                </a:lnTo>
                <a:lnTo>
                  <a:pt x="1975" y="335"/>
                </a:lnTo>
                <a:lnTo>
                  <a:pt x="1975" y="301"/>
                </a:lnTo>
                <a:lnTo>
                  <a:pt x="1975" y="267"/>
                </a:lnTo>
                <a:lnTo>
                  <a:pt x="1975" y="233"/>
                </a:lnTo>
                <a:lnTo>
                  <a:pt x="1975" y="199"/>
                </a:lnTo>
                <a:lnTo>
                  <a:pt x="1975" y="164"/>
                </a:lnTo>
                <a:lnTo>
                  <a:pt x="2009" y="137"/>
                </a:lnTo>
                <a:lnTo>
                  <a:pt x="2009" y="103"/>
                </a:lnTo>
                <a:lnTo>
                  <a:pt x="2009" y="69"/>
                </a:lnTo>
                <a:lnTo>
                  <a:pt x="2009" y="34"/>
                </a:lnTo>
                <a:lnTo>
                  <a:pt x="2009" y="0"/>
                </a:lnTo>
                <a:lnTo>
                  <a:pt x="1975" y="0"/>
                </a:lnTo>
                <a:lnTo>
                  <a:pt x="1940" y="0"/>
                </a:lnTo>
                <a:lnTo>
                  <a:pt x="1913" y="0"/>
                </a:lnTo>
                <a:lnTo>
                  <a:pt x="1879" y="34"/>
                </a:lnTo>
                <a:lnTo>
                  <a:pt x="1844" y="34"/>
                </a:lnTo>
                <a:lnTo>
                  <a:pt x="1810" y="69"/>
                </a:lnTo>
                <a:lnTo>
                  <a:pt x="1776" y="69"/>
                </a:lnTo>
                <a:lnTo>
                  <a:pt x="1742" y="69"/>
                </a:lnTo>
                <a:lnTo>
                  <a:pt x="1707" y="103"/>
                </a:lnTo>
                <a:lnTo>
                  <a:pt x="1673" y="103"/>
                </a:lnTo>
                <a:lnTo>
                  <a:pt x="1646" y="137"/>
                </a:lnTo>
                <a:lnTo>
                  <a:pt x="1611" y="137"/>
                </a:lnTo>
                <a:lnTo>
                  <a:pt x="1577" y="164"/>
                </a:lnTo>
                <a:lnTo>
                  <a:pt x="1543" y="164"/>
                </a:lnTo>
                <a:lnTo>
                  <a:pt x="1509" y="199"/>
                </a:lnTo>
                <a:lnTo>
                  <a:pt x="1474" y="199"/>
                </a:lnTo>
                <a:lnTo>
                  <a:pt x="1440" y="199"/>
                </a:lnTo>
                <a:lnTo>
                  <a:pt x="1406" y="233"/>
                </a:lnTo>
                <a:lnTo>
                  <a:pt x="1371" y="233"/>
                </a:lnTo>
                <a:lnTo>
                  <a:pt x="1344" y="267"/>
                </a:lnTo>
                <a:lnTo>
                  <a:pt x="1310" y="267"/>
                </a:lnTo>
                <a:lnTo>
                  <a:pt x="1275" y="301"/>
                </a:lnTo>
                <a:lnTo>
                  <a:pt x="1241" y="301"/>
                </a:lnTo>
                <a:lnTo>
                  <a:pt x="1207" y="335"/>
                </a:lnTo>
                <a:lnTo>
                  <a:pt x="1173" y="335"/>
                </a:lnTo>
                <a:lnTo>
                  <a:pt x="1138" y="335"/>
                </a:lnTo>
                <a:lnTo>
                  <a:pt x="1104" y="370"/>
                </a:lnTo>
                <a:lnTo>
                  <a:pt x="1077" y="370"/>
                </a:lnTo>
                <a:lnTo>
                  <a:pt x="1042" y="404"/>
                </a:lnTo>
                <a:lnTo>
                  <a:pt x="1008" y="404"/>
                </a:lnTo>
                <a:lnTo>
                  <a:pt x="974" y="431"/>
                </a:lnTo>
                <a:lnTo>
                  <a:pt x="940" y="431"/>
                </a:lnTo>
                <a:lnTo>
                  <a:pt x="905" y="465"/>
                </a:lnTo>
                <a:lnTo>
                  <a:pt x="871" y="465"/>
                </a:lnTo>
                <a:lnTo>
                  <a:pt x="837" y="465"/>
                </a:lnTo>
                <a:lnTo>
                  <a:pt x="802" y="500"/>
                </a:lnTo>
                <a:lnTo>
                  <a:pt x="775" y="534"/>
                </a:lnTo>
                <a:lnTo>
                  <a:pt x="741" y="568"/>
                </a:lnTo>
                <a:lnTo>
                  <a:pt x="741" y="602"/>
                </a:lnTo>
                <a:lnTo>
                  <a:pt x="706" y="636"/>
                </a:lnTo>
                <a:lnTo>
                  <a:pt x="672" y="664"/>
                </a:lnTo>
                <a:lnTo>
                  <a:pt x="638" y="698"/>
                </a:lnTo>
                <a:lnTo>
                  <a:pt x="638" y="732"/>
                </a:lnTo>
                <a:lnTo>
                  <a:pt x="604" y="766"/>
                </a:lnTo>
                <a:lnTo>
                  <a:pt x="569" y="801"/>
                </a:lnTo>
                <a:lnTo>
                  <a:pt x="535" y="835"/>
                </a:lnTo>
                <a:lnTo>
                  <a:pt x="535" y="869"/>
                </a:lnTo>
                <a:lnTo>
                  <a:pt x="508" y="903"/>
                </a:lnTo>
                <a:lnTo>
                  <a:pt x="473" y="931"/>
                </a:lnTo>
                <a:lnTo>
                  <a:pt x="473" y="965"/>
                </a:lnTo>
                <a:lnTo>
                  <a:pt x="439" y="999"/>
                </a:lnTo>
                <a:lnTo>
                  <a:pt x="439" y="1033"/>
                </a:lnTo>
                <a:lnTo>
                  <a:pt x="439" y="1068"/>
                </a:lnTo>
                <a:lnTo>
                  <a:pt x="405" y="1102"/>
                </a:lnTo>
                <a:lnTo>
                  <a:pt x="405" y="1136"/>
                </a:lnTo>
                <a:lnTo>
                  <a:pt x="370" y="1163"/>
                </a:lnTo>
                <a:lnTo>
                  <a:pt x="370" y="1198"/>
                </a:lnTo>
                <a:lnTo>
                  <a:pt x="336" y="1232"/>
                </a:lnTo>
                <a:lnTo>
                  <a:pt x="336" y="1266"/>
                </a:lnTo>
                <a:lnTo>
                  <a:pt x="302" y="1300"/>
                </a:lnTo>
                <a:lnTo>
                  <a:pt x="302" y="1334"/>
                </a:lnTo>
                <a:lnTo>
                  <a:pt x="268" y="1369"/>
                </a:lnTo>
                <a:lnTo>
                  <a:pt x="268" y="1403"/>
                </a:lnTo>
                <a:lnTo>
                  <a:pt x="268" y="1430"/>
                </a:lnTo>
                <a:lnTo>
                  <a:pt x="240" y="1464"/>
                </a:lnTo>
                <a:lnTo>
                  <a:pt x="240" y="1499"/>
                </a:lnTo>
                <a:lnTo>
                  <a:pt x="206" y="1533"/>
                </a:lnTo>
                <a:lnTo>
                  <a:pt x="206" y="1567"/>
                </a:lnTo>
                <a:lnTo>
                  <a:pt x="172" y="1601"/>
                </a:lnTo>
                <a:lnTo>
                  <a:pt x="172" y="1636"/>
                </a:lnTo>
                <a:lnTo>
                  <a:pt x="137" y="1670"/>
                </a:lnTo>
                <a:lnTo>
                  <a:pt x="137" y="1697"/>
                </a:lnTo>
                <a:lnTo>
                  <a:pt x="137" y="1731"/>
                </a:lnTo>
                <a:lnTo>
                  <a:pt x="103" y="1766"/>
                </a:lnTo>
                <a:lnTo>
                  <a:pt x="103" y="1800"/>
                </a:lnTo>
                <a:lnTo>
                  <a:pt x="69" y="1834"/>
                </a:lnTo>
                <a:lnTo>
                  <a:pt x="69" y="1868"/>
                </a:lnTo>
                <a:lnTo>
                  <a:pt x="69" y="1902"/>
                </a:lnTo>
                <a:lnTo>
                  <a:pt x="69" y="1930"/>
                </a:lnTo>
                <a:lnTo>
                  <a:pt x="69" y="1964"/>
                </a:lnTo>
                <a:lnTo>
                  <a:pt x="35" y="1998"/>
                </a:lnTo>
                <a:lnTo>
                  <a:pt x="35" y="2032"/>
                </a:lnTo>
                <a:lnTo>
                  <a:pt x="35" y="2067"/>
                </a:lnTo>
                <a:lnTo>
                  <a:pt x="35" y="2101"/>
                </a:lnTo>
                <a:lnTo>
                  <a:pt x="0" y="2135"/>
                </a:lnTo>
                <a:lnTo>
                  <a:pt x="0" y="2169"/>
                </a:lnTo>
                <a:lnTo>
                  <a:pt x="0" y="2197"/>
                </a:lnTo>
                <a:lnTo>
                  <a:pt x="0" y="2231"/>
                </a:lnTo>
                <a:lnTo>
                  <a:pt x="0" y="2265"/>
                </a:lnTo>
                <a:lnTo>
                  <a:pt x="0" y="2299"/>
                </a:lnTo>
                <a:lnTo>
                  <a:pt x="0" y="2333"/>
                </a:lnTo>
                <a:lnTo>
                  <a:pt x="0" y="2368"/>
                </a:lnTo>
                <a:lnTo>
                  <a:pt x="0" y="2402"/>
                </a:lnTo>
                <a:lnTo>
                  <a:pt x="0" y="2429"/>
                </a:lnTo>
                <a:lnTo>
                  <a:pt x="0" y="2463"/>
                </a:lnTo>
                <a:lnTo>
                  <a:pt x="0" y="2498"/>
                </a:lnTo>
                <a:lnTo>
                  <a:pt x="0" y="2532"/>
                </a:lnTo>
                <a:lnTo>
                  <a:pt x="35" y="2566"/>
                </a:lnTo>
                <a:lnTo>
                  <a:pt x="35" y="2600"/>
                </a:lnTo>
                <a:lnTo>
                  <a:pt x="35" y="2635"/>
                </a:lnTo>
                <a:lnTo>
                  <a:pt x="35" y="2669"/>
                </a:lnTo>
                <a:lnTo>
                  <a:pt x="35" y="2696"/>
                </a:lnTo>
                <a:lnTo>
                  <a:pt x="35" y="2730"/>
                </a:lnTo>
                <a:lnTo>
                  <a:pt x="35" y="2765"/>
                </a:lnTo>
                <a:lnTo>
                  <a:pt x="35" y="2799"/>
                </a:lnTo>
                <a:lnTo>
                  <a:pt x="35" y="2833"/>
                </a:lnTo>
                <a:lnTo>
                  <a:pt x="69" y="2867"/>
                </a:lnTo>
                <a:lnTo>
                  <a:pt x="69" y="2901"/>
                </a:lnTo>
                <a:lnTo>
                  <a:pt x="89" y="2922"/>
                </a:lnTo>
                <a:lnTo>
                  <a:pt x="96" y="2915"/>
                </a:lnTo>
                <a:lnTo>
                  <a:pt x="103" y="2915"/>
                </a:lnTo>
                <a:lnTo>
                  <a:pt x="110" y="2908"/>
                </a:lnTo>
                <a:lnTo>
                  <a:pt x="117" y="2908"/>
                </a:lnTo>
                <a:lnTo>
                  <a:pt x="124" y="2901"/>
                </a:lnTo>
                <a:lnTo>
                  <a:pt x="131" y="2901"/>
                </a:lnTo>
                <a:lnTo>
                  <a:pt x="144" y="2901"/>
                </a:lnTo>
                <a:lnTo>
                  <a:pt x="151" y="2895"/>
                </a:lnTo>
                <a:lnTo>
                  <a:pt x="158" y="2895"/>
                </a:lnTo>
                <a:lnTo>
                  <a:pt x="165" y="2901"/>
                </a:lnTo>
                <a:lnTo>
                  <a:pt x="172" y="2901"/>
                </a:lnTo>
                <a:lnTo>
                  <a:pt x="179" y="2908"/>
                </a:lnTo>
                <a:lnTo>
                  <a:pt x="179" y="2915"/>
                </a:lnTo>
                <a:lnTo>
                  <a:pt x="185" y="2922"/>
                </a:lnTo>
                <a:lnTo>
                  <a:pt x="192" y="2936"/>
                </a:lnTo>
                <a:lnTo>
                  <a:pt x="199" y="2942"/>
                </a:lnTo>
                <a:lnTo>
                  <a:pt x="199" y="2956"/>
                </a:lnTo>
                <a:lnTo>
                  <a:pt x="199" y="2963"/>
                </a:lnTo>
                <a:lnTo>
                  <a:pt x="192" y="2977"/>
                </a:lnTo>
                <a:lnTo>
                  <a:pt x="192" y="2983"/>
                </a:lnTo>
                <a:lnTo>
                  <a:pt x="185" y="2990"/>
                </a:lnTo>
                <a:lnTo>
                  <a:pt x="185" y="3004"/>
                </a:lnTo>
                <a:lnTo>
                  <a:pt x="185" y="3018"/>
                </a:lnTo>
                <a:lnTo>
                  <a:pt x="206" y="3031"/>
                </a:lnTo>
                <a:lnTo>
                  <a:pt x="240" y="3066"/>
                </a:lnTo>
                <a:lnTo>
                  <a:pt x="268" y="3100"/>
                </a:lnTo>
                <a:lnTo>
                  <a:pt x="302" y="3134"/>
                </a:lnTo>
                <a:lnTo>
                  <a:pt x="336" y="3134"/>
                </a:lnTo>
                <a:lnTo>
                  <a:pt x="370" y="3168"/>
                </a:lnTo>
                <a:lnTo>
                  <a:pt x="405" y="3168"/>
                </a:lnTo>
                <a:lnTo>
                  <a:pt x="439" y="3168"/>
                </a:lnTo>
                <a:lnTo>
                  <a:pt x="473" y="3196"/>
                </a:lnTo>
                <a:lnTo>
                  <a:pt x="508" y="3196"/>
                </a:lnTo>
                <a:lnTo>
                  <a:pt x="535" y="3230"/>
                </a:lnTo>
                <a:lnTo>
                  <a:pt x="569" y="3230"/>
                </a:lnTo>
                <a:lnTo>
                  <a:pt x="604" y="3230"/>
                </a:lnTo>
                <a:lnTo>
                  <a:pt x="638" y="3230"/>
                </a:lnTo>
                <a:lnTo>
                  <a:pt x="672" y="3230"/>
                </a:lnTo>
                <a:lnTo>
                  <a:pt x="706" y="3230"/>
                </a:lnTo>
                <a:close/>
                <a:moveTo>
                  <a:pt x="370" y="2799"/>
                </a:moveTo>
                <a:lnTo>
                  <a:pt x="370" y="2785"/>
                </a:lnTo>
                <a:lnTo>
                  <a:pt x="364" y="2778"/>
                </a:lnTo>
                <a:lnTo>
                  <a:pt x="357" y="2765"/>
                </a:lnTo>
                <a:lnTo>
                  <a:pt x="357" y="2758"/>
                </a:lnTo>
                <a:lnTo>
                  <a:pt x="350" y="2758"/>
                </a:lnTo>
                <a:lnTo>
                  <a:pt x="343" y="2751"/>
                </a:lnTo>
                <a:lnTo>
                  <a:pt x="329" y="2751"/>
                </a:lnTo>
                <a:lnTo>
                  <a:pt x="322" y="2744"/>
                </a:lnTo>
                <a:lnTo>
                  <a:pt x="316" y="2737"/>
                </a:lnTo>
                <a:lnTo>
                  <a:pt x="316" y="2730"/>
                </a:lnTo>
                <a:lnTo>
                  <a:pt x="316" y="2717"/>
                </a:lnTo>
                <a:lnTo>
                  <a:pt x="316" y="2703"/>
                </a:lnTo>
                <a:lnTo>
                  <a:pt x="309" y="2696"/>
                </a:lnTo>
                <a:lnTo>
                  <a:pt x="302" y="2689"/>
                </a:lnTo>
                <a:lnTo>
                  <a:pt x="295" y="2682"/>
                </a:lnTo>
                <a:lnTo>
                  <a:pt x="288" y="2682"/>
                </a:lnTo>
                <a:lnTo>
                  <a:pt x="281" y="2682"/>
                </a:lnTo>
                <a:lnTo>
                  <a:pt x="274" y="2676"/>
                </a:lnTo>
                <a:lnTo>
                  <a:pt x="268" y="2676"/>
                </a:lnTo>
                <a:lnTo>
                  <a:pt x="261" y="2676"/>
                </a:lnTo>
                <a:lnTo>
                  <a:pt x="254" y="2676"/>
                </a:lnTo>
                <a:lnTo>
                  <a:pt x="247" y="2676"/>
                </a:lnTo>
                <a:lnTo>
                  <a:pt x="240" y="2676"/>
                </a:lnTo>
                <a:lnTo>
                  <a:pt x="226" y="2676"/>
                </a:lnTo>
                <a:lnTo>
                  <a:pt x="220" y="2676"/>
                </a:lnTo>
                <a:lnTo>
                  <a:pt x="213" y="2669"/>
                </a:lnTo>
                <a:lnTo>
                  <a:pt x="213" y="2662"/>
                </a:lnTo>
                <a:lnTo>
                  <a:pt x="213" y="2655"/>
                </a:lnTo>
                <a:lnTo>
                  <a:pt x="220" y="2641"/>
                </a:lnTo>
                <a:lnTo>
                  <a:pt x="220" y="2635"/>
                </a:lnTo>
                <a:lnTo>
                  <a:pt x="226" y="2621"/>
                </a:lnTo>
                <a:lnTo>
                  <a:pt x="233" y="2614"/>
                </a:lnTo>
                <a:lnTo>
                  <a:pt x="233" y="2600"/>
                </a:lnTo>
                <a:lnTo>
                  <a:pt x="240" y="2593"/>
                </a:lnTo>
                <a:lnTo>
                  <a:pt x="240" y="2580"/>
                </a:lnTo>
                <a:lnTo>
                  <a:pt x="247" y="2573"/>
                </a:lnTo>
                <a:lnTo>
                  <a:pt x="247" y="2559"/>
                </a:lnTo>
                <a:lnTo>
                  <a:pt x="254" y="2546"/>
                </a:lnTo>
                <a:lnTo>
                  <a:pt x="254" y="2539"/>
                </a:lnTo>
                <a:lnTo>
                  <a:pt x="261" y="2532"/>
                </a:lnTo>
                <a:lnTo>
                  <a:pt x="268" y="2525"/>
                </a:lnTo>
                <a:lnTo>
                  <a:pt x="274" y="2525"/>
                </a:lnTo>
                <a:lnTo>
                  <a:pt x="281" y="2525"/>
                </a:lnTo>
                <a:lnTo>
                  <a:pt x="288" y="2525"/>
                </a:lnTo>
                <a:lnTo>
                  <a:pt x="295" y="2525"/>
                </a:lnTo>
                <a:lnTo>
                  <a:pt x="309" y="2532"/>
                </a:lnTo>
                <a:lnTo>
                  <a:pt x="316" y="2532"/>
                </a:lnTo>
                <a:lnTo>
                  <a:pt x="322" y="2532"/>
                </a:lnTo>
                <a:lnTo>
                  <a:pt x="329" y="2532"/>
                </a:lnTo>
                <a:lnTo>
                  <a:pt x="336" y="2532"/>
                </a:lnTo>
                <a:lnTo>
                  <a:pt x="343" y="2532"/>
                </a:lnTo>
                <a:lnTo>
                  <a:pt x="350" y="2532"/>
                </a:lnTo>
                <a:lnTo>
                  <a:pt x="357" y="2539"/>
                </a:lnTo>
                <a:lnTo>
                  <a:pt x="364" y="2539"/>
                </a:lnTo>
                <a:lnTo>
                  <a:pt x="370" y="2539"/>
                </a:lnTo>
                <a:lnTo>
                  <a:pt x="377" y="2539"/>
                </a:lnTo>
                <a:lnTo>
                  <a:pt x="391" y="2539"/>
                </a:lnTo>
                <a:lnTo>
                  <a:pt x="398" y="2539"/>
                </a:lnTo>
                <a:lnTo>
                  <a:pt x="405" y="2546"/>
                </a:lnTo>
                <a:lnTo>
                  <a:pt x="412" y="2546"/>
                </a:lnTo>
                <a:lnTo>
                  <a:pt x="418" y="2546"/>
                </a:lnTo>
                <a:lnTo>
                  <a:pt x="425" y="2546"/>
                </a:lnTo>
                <a:lnTo>
                  <a:pt x="432" y="2546"/>
                </a:lnTo>
                <a:lnTo>
                  <a:pt x="439" y="2546"/>
                </a:lnTo>
                <a:lnTo>
                  <a:pt x="446" y="2546"/>
                </a:lnTo>
                <a:lnTo>
                  <a:pt x="453" y="2552"/>
                </a:lnTo>
                <a:lnTo>
                  <a:pt x="460" y="2552"/>
                </a:lnTo>
                <a:lnTo>
                  <a:pt x="466" y="2559"/>
                </a:lnTo>
                <a:lnTo>
                  <a:pt x="473" y="2573"/>
                </a:lnTo>
                <a:lnTo>
                  <a:pt x="480" y="2580"/>
                </a:lnTo>
                <a:lnTo>
                  <a:pt x="480" y="2593"/>
                </a:lnTo>
                <a:lnTo>
                  <a:pt x="487" y="2600"/>
                </a:lnTo>
                <a:lnTo>
                  <a:pt x="494" y="2607"/>
                </a:lnTo>
                <a:lnTo>
                  <a:pt x="501" y="2614"/>
                </a:lnTo>
                <a:lnTo>
                  <a:pt x="508" y="2614"/>
                </a:lnTo>
                <a:lnTo>
                  <a:pt x="514" y="2621"/>
                </a:lnTo>
                <a:lnTo>
                  <a:pt x="521" y="2628"/>
                </a:lnTo>
                <a:lnTo>
                  <a:pt x="528" y="2628"/>
                </a:lnTo>
                <a:lnTo>
                  <a:pt x="535" y="2635"/>
                </a:lnTo>
                <a:lnTo>
                  <a:pt x="542" y="2641"/>
                </a:lnTo>
                <a:lnTo>
                  <a:pt x="549" y="2648"/>
                </a:lnTo>
                <a:lnTo>
                  <a:pt x="556" y="2648"/>
                </a:lnTo>
                <a:lnTo>
                  <a:pt x="562" y="2655"/>
                </a:lnTo>
                <a:lnTo>
                  <a:pt x="569" y="2662"/>
                </a:lnTo>
                <a:lnTo>
                  <a:pt x="576" y="2662"/>
                </a:lnTo>
                <a:lnTo>
                  <a:pt x="583" y="2669"/>
                </a:lnTo>
                <a:lnTo>
                  <a:pt x="590" y="2676"/>
                </a:lnTo>
                <a:lnTo>
                  <a:pt x="597" y="2682"/>
                </a:lnTo>
                <a:lnTo>
                  <a:pt x="604" y="2682"/>
                </a:lnTo>
                <a:lnTo>
                  <a:pt x="610" y="2689"/>
                </a:lnTo>
                <a:lnTo>
                  <a:pt x="617" y="2696"/>
                </a:lnTo>
                <a:lnTo>
                  <a:pt x="624" y="2703"/>
                </a:lnTo>
                <a:lnTo>
                  <a:pt x="624" y="2710"/>
                </a:lnTo>
                <a:lnTo>
                  <a:pt x="617" y="2723"/>
                </a:lnTo>
                <a:lnTo>
                  <a:pt x="610" y="2730"/>
                </a:lnTo>
                <a:lnTo>
                  <a:pt x="604" y="2737"/>
                </a:lnTo>
                <a:lnTo>
                  <a:pt x="597" y="2737"/>
                </a:lnTo>
                <a:lnTo>
                  <a:pt x="590" y="2737"/>
                </a:lnTo>
                <a:lnTo>
                  <a:pt x="583" y="2744"/>
                </a:lnTo>
                <a:lnTo>
                  <a:pt x="576" y="2744"/>
                </a:lnTo>
                <a:lnTo>
                  <a:pt x="569" y="2744"/>
                </a:lnTo>
                <a:lnTo>
                  <a:pt x="562" y="2751"/>
                </a:lnTo>
                <a:lnTo>
                  <a:pt x="549" y="2751"/>
                </a:lnTo>
                <a:lnTo>
                  <a:pt x="542" y="2758"/>
                </a:lnTo>
                <a:lnTo>
                  <a:pt x="535" y="2758"/>
                </a:lnTo>
                <a:lnTo>
                  <a:pt x="528" y="2758"/>
                </a:lnTo>
                <a:lnTo>
                  <a:pt x="521" y="2765"/>
                </a:lnTo>
                <a:lnTo>
                  <a:pt x="514" y="2765"/>
                </a:lnTo>
                <a:lnTo>
                  <a:pt x="508" y="2765"/>
                </a:lnTo>
                <a:lnTo>
                  <a:pt x="501" y="2771"/>
                </a:lnTo>
                <a:lnTo>
                  <a:pt x="494" y="2771"/>
                </a:lnTo>
                <a:lnTo>
                  <a:pt x="487" y="2778"/>
                </a:lnTo>
                <a:lnTo>
                  <a:pt x="480" y="2778"/>
                </a:lnTo>
                <a:lnTo>
                  <a:pt x="473" y="2778"/>
                </a:lnTo>
                <a:lnTo>
                  <a:pt x="466" y="2785"/>
                </a:lnTo>
                <a:lnTo>
                  <a:pt x="460" y="2785"/>
                </a:lnTo>
                <a:lnTo>
                  <a:pt x="453" y="2785"/>
                </a:lnTo>
                <a:lnTo>
                  <a:pt x="439" y="2792"/>
                </a:lnTo>
                <a:lnTo>
                  <a:pt x="432" y="2792"/>
                </a:lnTo>
                <a:lnTo>
                  <a:pt x="425" y="2792"/>
                </a:lnTo>
                <a:lnTo>
                  <a:pt x="418" y="2799"/>
                </a:lnTo>
                <a:lnTo>
                  <a:pt x="412" y="2799"/>
                </a:lnTo>
                <a:lnTo>
                  <a:pt x="405" y="2806"/>
                </a:lnTo>
                <a:lnTo>
                  <a:pt x="398" y="2806"/>
                </a:lnTo>
                <a:lnTo>
                  <a:pt x="391" y="2806"/>
                </a:lnTo>
                <a:lnTo>
                  <a:pt x="384" y="2812"/>
                </a:lnTo>
                <a:lnTo>
                  <a:pt x="377" y="2806"/>
                </a:lnTo>
                <a:lnTo>
                  <a:pt x="370" y="2799"/>
                </a:lnTo>
                <a:close/>
                <a:moveTo>
                  <a:pt x="1001" y="1636"/>
                </a:moveTo>
                <a:lnTo>
                  <a:pt x="1001" y="1622"/>
                </a:lnTo>
                <a:lnTo>
                  <a:pt x="1008" y="1615"/>
                </a:lnTo>
                <a:lnTo>
                  <a:pt x="1008" y="1601"/>
                </a:lnTo>
                <a:lnTo>
                  <a:pt x="1015" y="1594"/>
                </a:lnTo>
                <a:lnTo>
                  <a:pt x="1015" y="1581"/>
                </a:lnTo>
                <a:lnTo>
                  <a:pt x="1022" y="1574"/>
                </a:lnTo>
                <a:lnTo>
                  <a:pt x="1029" y="1560"/>
                </a:lnTo>
                <a:lnTo>
                  <a:pt x="1029" y="1553"/>
                </a:lnTo>
                <a:lnTo>
                  <a:pt x="1035" y="1540"/>
                </a:lnTo>
                <a:lnTo>
                  <a:pt x="1035" y="1533"/>
                </a:lnTo>
                <a:lnTo>
                  <a:pt x="1042" y="1526"/>
                </a:lnTo>
                <a:lnTo>
                  <a:pt x="1049" y="1526"/>
                </a:lnTo>
                <a:lnTo>
                  <a:pt x="1056" y="1519"/>
                </a:lnTo>
                <a:lnTo>
                  <a:pt x="1063" y="1512"/>
                </a:lnTo>
                <a:lnTo>
                  <a:pt x="1070" y="1505"/>
                </a:lnTo>
                <a:lnTo>
                  <a:pt x="1077" y="1499"/>
                </a:lnTo>
                <a:lnTo>
                  <a:pt x="1077" y="1492"/>
                </a:lnTo>
                <a:lnTo>
                  <a:pt x="1077" y="1478"/>
                </a:lnTo>
                <a:lnTo>
                  <a:pt x="1077" y="1464"/>
                </a:lnTo>
                <a:lnTo>
                  <a:pt x="1077" y="1458"/>
                </a:lnTo>
                <a:lnTo>
                  <a:pt x="1083" y="1444"/>
                </a:lnTo>
                <a:lnTo>
                  <a:pt x="1083" y="1437"/>
                </a:lnTo>
                <a:lnTo>
                  <a:pt x="1090" y="1423"/>
                </a:lnTo>
                <a:lnTo>
                  <a:pt x="1097" y="1417"/>
                </a:lnTo>
                <a:lnTo>
                  <a:pt x="1104" y="1410"/>
                </a:lnTo>
                <a:lnTo>
                  <a:pt x="1111" y="1410"/>
                </a:lnTo>
                <a:lnTo>
                  <a:pt x="1118" y="1410"/>
                </a:lnTo>
                <a:lnTo>
                  <a:pt x="1125" y="1417"/>
                </a:lnTo>
                <a:lnTo>
                  <a:pt x="1131" y="1417"/>
                </a:lnTo>
                <a:lnTo>
                  <a:pt x="1138" y="1423"/>
                </a:lnTo>
                <a:lnTo>
                  <a:pt x="1145" y="1430"/>
                </a:lnTo>
                <a:lnTo>
                  <a:pt x="1152" y="1430"/>
                </a:lnTo>
                <a:lnTo>
                  <a:pt x="1159" y="1437"/>
                </a:lnTo>
                <a:lnTo>
                  <a:pt x="1166" y="1437"/>
                </a:lnTo>
                <a:lnTo>
                  <a:pt x="1173" y="1444"/>
                </a:lnTo>
                <a:lnTo>
                  <a:pt x="1179" y="1444"/>
                </a:lnTo>
                <a:lnTo>
                  <a:pt x="1186" y="1444"/>
                </a:lnTo>
                <a:lnTo>
                  <a:pt x="1193" y="1451"/>
                </a:lnTo>
                <a:lnTo>
                  <a:pt x="1200" y="1451"/>
                </a:lnTo>
                <a:lnTo>
                  <a:pt x="1207" y="1458"/>
                </a:lnTo>
                <a:lnTo>
                  <a:pt x="1214" y="1458"/>
                </a:lnTo>
                <a:lnTo>
                  <a:pt x="1221" y="1464"/>
                </a:lnTo>
                <a:lnTo>
                  <a:pt x="1227" y="1464"/>
                </a:lnTo>
                <a:lnTo>
                  <a:pt x="1234" y="1471"/>
                </a:lnTo>
                <a:lnTo>
                  <a:pt x="1241" y="1471"/>
                </a:lnTo>
                <a:lnTo>
                  <a:pt x="1248" y="1478"/>
                </a:lnTo>
                <a:lnTo>
                  <a:pt x="1255" y="1478"/>
                </a:lnTo>
                <a:lnTo>
                  <a:pt x="1262" y="1485"/>
                </a:lnTo>
                <a:lnTo>
                  <a:pt x="1269" y="1485"/>
                </a:lnTo>
                <a:lnTo>
                  <a:pt x="1275" y="1485"/>
                </a:lnTo>
                <a:lnTo>
                  <a:pt x="1289" y="1492"/>
                </a:lnTo>
                <a:lnTo>
                  <a:pt x="1296" y="1492"/>
                </a:lnTo>
                <a:lnTo>
                  <a:pt x="1303" y="1499"/>
                </a:lnTo>
                <a:lnTo>
                  <a:pt x="1303" y="1499"/>
                </a:lnTo>
                <a:lnTo>
                  <a:pt x="1296" y="1505"/>
                </a:lnTo>
                <a:lnTo>
                  <a:pt x="1289" y="1512"/>
                </a:lnTo>
                <a:lnTo>
                  <a:pt x="1282" y="1519"/>
                </a:lnTo>
                <a:lnTo>
                  <a:pt x="1275" y="1526"/>
                </a:lnTo>
                <a:lnTo>
                  <a:pt x="1269" y="1540"/>
                </a:lnTo>
                <a:lnTo>
                  <a:pt x="1269" y="1547"/>
                </a:lnTo>
                <a:lnTo>
                  <a:pt x="1262" y="1553"/>
                </a:lnTo>
                <a:lnTo>
                  <a:pt x="1255" y="1553"/>
                </a:lnTo>
                <a:lnTo>
                  <a:pt x="1248" y="1560"/>
                </a:lnTo>
                <a:lnTo>
                  <a:pt x="1241" y="1567"/>
                </a:lnTo>
                <a:lnTo>
                  <a:pt x="1234" y="1574"/>
                </a:lnTo>
                <a:lnTo>
                  <a:pt x="1227" y="1581"/>
                </a:lnTo>
                <a:lnTo>
                  <a:pt x="1221" y="1581"/>
                </a:lnTo>
                <a:lnTo>
                  <a:pt x="1214" y="1588"/>
                </a:lnTo>
                <a:lnTo>
                  <a:pt x="1207" y="1588"/>
                </a:lnTo>
                <a:lnTo>
                  <a:pt x="1200" y="1588"/>
                </a:lnTo>
                <a:lnTo>
                  <a:pt x="1193" y="1594"/>
                </a:lnTo>
                <a:lnTo>
                  <a:pt x="1186" y="1594"/>
                </a:lnTo>
                <a:lnTo>
                  <a:pt x="1179" y="1594"/>
                </a:lnTo>
                <a:lnTo>
                  <a:pt x="1173" y="1594"/>
                </a:lnTo>
                <a:lnTo>
                  <a:pt x="1166" y="1594"/>
                </a:lnTo>
                <a:lnTo>
                  <a:pt x="1159" y="1601"/>
                </a:lnTo>
                <a:lnTo>
                  <a:pt x="1152" y="1601"/>
                </a:lnTo>
                <a:lnTo>
                  <a:pt x="1138" y="1601"/>
                </a:lnTo>
                <a:lnTo>
                  <a:pt x="1131" y="1601"/>
                </a:lnTo>
                <a:lnTo>
                  <a:pt x="1125" y="1601"/>
                </a:lnTo>
                <a:lnTo>
                  <a:pt x="1118" y="1601"/>
                </a:lnTo>
                <a:lnTo>
                  <a:pt x="1111" y="1601"/>
                </a:lnTo>
                <a:lnTo>
                  <a:pt x="1104" y="1601"/>
                </a:lnTo>
                <a:lnTo>
                  <a:pt x="1097" y="1608"/>
                </a:lnTo>
                <a:lnTo>
                  <a:pt x="1090" y="1608"/>
                </a:lnTo>
                <a:lnTo>
                  <a:pt x="1083" y="1608"/>
                </a:lnTo>
                <a:lnTo>
                  <a:pt x="1077" y="1615"/>
                </a:lnTo>
                <a:lnTo>
                  <a:pt x="1070" y="1615"/>
                </a:lnTo>
                <a:lnTo>
                  <a:pt x="1063" y="1615"/>
                </a:lnTo>
                <a:lnTo>
                  <a:pt x="1056" y="1622"/>
                </a:lnTo>
                <a:lnTo>
                  <a:pt x="1049" y="1622"/>
                </a:lnTo>
                <a:lnTo>
                  <a:pt x="1042" y="1629"/>
                </a:lnTo>
                <a:lnTo>
                  <a:pt x="1035" y="1629"/>
                </a:lnTo>
                <a:lnTo>
                  <a:pt x="1029" y="1629"/>
                </a:lnTo>
                <a:lnTo>
                  <a:pt x="1022" y="1636"/>
                </a:lnTo>
                <a:lnTo>
                  <a:pt x="1015" y="1636"/>
                </a:lnTo>
                <a:lnTo>
                  <a:pt x="1008" y="1636"/>
                </a:lnTo>
                <a:lnTo>
                  <a:pt x="1001" y="1636"/>
                </a:lnTo>
                <a:close/>
                <a:moveTo>
                  <a:pt x="398" y="1567"/>
                </a:moveTo>
                <a:lnTo>
                  <a:pt x="398" y="1553"/>
                </a:lnTo>
                <a:lnTo>
                  <a:pt x="398" y="1547"/>
                </a:lnTo>
                <a:lnTo>
                  <a:pt x="398" y="1533"/>
                </a:lnTo>
                <a:lnTo>
                  <a:pt x="398" y="1526"/>
                </a:lnTo>
                <a:lnTo>
                  <a:pt x="405" y="1519"/>
                </a:lnTo>
                <a:lnTo>
                  <a:pt x="405" y="1512"/>
                </a:lnTo>
                <a:lnTo>
                  <a:pt x="412" y="1499"/>
                </a:lnTo>
                <a:lnTo>
                  <a:pt x="412" y="1492"/>
                </a:lnTo>
                <a:lnTo>
                  <a:pt x="418" y="1485"/>
                </a:lnTo>
                <a:lnTo>
                  <a:pt x="418" y="1471"/>
                </a:lnTo>
                <a:lnTo>
                  <a:pt x="425" y="1464"/>
                </a:lnTo>
                <a:lnTo>
                  <a:pt x="425" y="1458"/>
                </a:lnTo>
                <a:lnTo>
                  <a:pt x="432" y="1451"/>
                </a:lnTo>
                <a:lnTo>
                  <a:pt x="432" y="1437"/>
                </a:lnTo>
                <a:lnTo>
                  <a:pt x="439" y="1430"/>
                </a:lnTo>
                <a:lnTo>
                  <a:pt x="439" y="1423"/>
                </a:lnTo>
                <a:lnTo>
                  <a:pt x="446" y="1410"/>
                </a:lnTo>
                <a:lnTo>
                  <a:pt x="446" y="1403"/>
                </a:lnTo>
                <a:lnTo>
                  <a:pt x="453" y="1396"/>
                </a:lnTo>
                <a:lnTo>
                  <a:pt x="453" y="1382"/>
                </a:lnTo>
                <a:lnTo>
                  <a:pt x="453" y="1375"/>
                </a:lnTo>
                <a:lnTo>
                  <a:pt x="460" y="1362"/>
                </a:lnTo>
                <a:lnTo>
                  <a:pt x="460" y="1355"/>
                </a:lnTo>
                <a:lnTo>
                  <a:pt x="460" y="1348"/>
                </a:lnTo>
                <a:lnTo>
                  <a:pt x="466" y="1334"/>
                </a:lnTo>
                <a:lnTo>
                  <a:pt x="466" y="1328"/>
                </a:lnTo>
                <a:lnTo>
                  <a:pt x="466" y="1314"/>
                </a:lnTo>
                <a:lnTo>
                  <a:pt x="473" y="1307"/>
                </a:lnTo>
                <a:lnTo>
                  <a:pt x="473" y="1300"/>
                </a:lnTo>
                <a:lnTo>
                  <a:pt x="466" y="1287"/>
                </a:lnTo>
                <a:lnTo>
                  <a:pt x="466" y="1280"/>
                </a:lnTo>
                <a:lnTo>
                  <a:pt x="466" y="1266"/>
                </a:lnTo>
                <a:lnTo>
                  <a:pt x="473" y="1259"/>
                </a:lnTo>
                <a:lnTo>
                  <a:pt x="473" y="1259"/>
                </a:lnTo>
                <a:lnTo>
                  <a:pt x="480" y="1252"/>
                </a:lnTo>
                <a:lnTo>
                  <a:pt x="487" y="1245"/>
                </a:lnTo>
                <a:lnTo>
                  <a:pt x="494" y="1245"/>
                </a:lnTo>
                <a:lnTo>
                  <a:pt x="501" y="1245"/>
                </a:lnTo>
                <a:lnTo>
                  <a:pt x="508" y="1245"/>
                </a:lnTo>
                <a:lnTo>
                  <a:pt x="514" y="1245"/>
                </a:lnTo>
                <a:lnTo>
                  <a:pt x="521" y="1245"/>
                </a:lnTo>
                <a:lnTo>
                  <a:pt x="528" y="1245"/>
                </a:lnTo>
                <a:lnTo>
                  <a:pt x="535" y="1252"/>
                </a:lnTo>
                <a:lnTo>
                  <a:pt x="542" y="1252"/>
                </a:lnTo>
                <a:lnTo>
                  <a:pt x="549" y="1252"/>
                </a:lnTo>
                <a:lnTo>
                  <a:pt x="549" y="1259"/>
                </a:lnTo>
                <a:lnTo>
                  <a:pt x="556" y="1259"/>
                </a:lnTo>
                <a:lnTo>
                  <a:pt x="562" y="1266"/>
                </a:lnTo>
                <a:lnTo>
                  <a:pt x="569" y="1273"/>
                </a:lnTo>
                <a:lnTo>
                  <a:pt x="576" y="1273"/>
                </a:lnTo>
                <a:lnTo>
                  <a:pt x="583" y="1280"/>
                </a:lnTo>
                <a:lnTo>
                  <a:pt x="590" y="1280"/>
                </a:lnTo>
                <a:lnTo>
                  <a:pt x="597" y="1280"/>
                </a:lnTo>
                <a:lnTo>
                  <a:pt x="604" y="1280"/>
                </a:lnTo>
                <a:lnTo>
                  <a:pt x="610" y="1280"/>
                </a:lnTo>
                <a:lnTo>
                  <a:pt x="617" y="1287"/>
                </a:lnTo>
                <a:lnTo>
                  <a:pt x="617" y="1287"/>
                </a:lnTo>
                <a:lnTo>
                  <a:pt x="624" y="1287"/>
                </a:lnTo>
                <a:lnTo>
                  <a:pt x="631" y="1293"/>
                </a:lnTo>
                <a:lnTo>
                  <a:pt x="638" y="1293"/>
                </a:lnTo>
                <a:lnTo>
                  <a:pt x="645" y="1300"/>
                </a:lnTo>
                <a:lnTo>
                  <a:pt x="652" y="1300"/>
                </a:lnTo>
                <a:lnTo>
                  <a:pt x="658" y="1307"/>
                </a:lnTo>
                <a:lnTo>
                  <a:pt x="658" y="1314"/>
                </a:lnTo>
                <a:lnTo>
                  <a:pt x="665" y="1321"/>
                </a:lnTo>
                <a:lnTo>
                  <a:pt x="672" y="1328"/>
                </a:lnTo>
                <a:lnTo>
                  <a:pt x="679" y="1328"/>
                </a:lnTo>
                <a:lnTo>
                  <a:pt x="686" y="1334"/>
                </a:lnTo>
                <a:lnTo>
                  <a:pt x="679" y="1334"/>
                </a:lnTo>
                <a:lnTo>
                  <a:pt x="672" y="1341"/>
                </a:lnTo>
                <a:lnTo>
                  <a:pt x="665" y="1341"/>
                </a:lnTo>
                <a:lnTo>
                  <a:pt x="665" y="1355"/>
                </a:lnTo>
                <a:lnTo>
                  <a:pt x="658" y="1362"/>
                </a:lnTo>
                <a:lnTo>
                  <a:pt x="658" y="1369"/>
                </a:lnTo>
                <a:lnTo>
                  <a:pt x="652" y="1375"/>
                </a:lnTo>
                <a:lnTo>
                  <a:pt x="645" y="1382"/>
                </a:lnTo>
                <a:lnTo>
                  <a:pt x="645" y="1389"/>
                </a:lnTo>
                <a:lnTo>
                  <a:pt x="638" y="1403"/>
                </a:lnTo>
                <a:lnTo>
                  <a:pt x="631" y="1410"/>
                </a:lnTo>
                <a:lnTo>
                  <a:pt x="631" y="1417"/>
                </a:lnTo>
                <a:lnTo>
                  <a:pt x="624" y="1423"/>
                </a:lnTo>
                <a:lnTo>
                  <a:pt x="624" y="1430"/>
                </a:lnTo>
                <a:lnTo>
                  <a:pt x="617" y="1437"/>
                </a:lnTo>
                <a:lnTo>
                  <a:pt x="610" y="1444"/>
                </a:lnTo>
                <a:lnTo>
                  <a:pt x="610" y="1451"/>
                </a:lnTo>
                <a:lnTo>
                  <a:pt x="604" y="1464"/>
                </a:lnTo>
                <a:lnTo>
                  <a:pt x="597" y="1471"/>
                </a:lnTo>
                <a:lnTo>
                  <a:pt x="597" y="1478"/>
                </a:lnTo>
                <a:lnTo>
                  <a:pt x="590" y="1485"/>
                </a:lnTo>
                <a:lnTo>
                  <a:pt x="590" y="1492"/>
                </a:lnTo>
                <a:lnTo>
                  <a:pt x="583" y="1499"/>
                </a:lnTo>
                <a:lnTo>
                  <a:pt x="576" y="1505"/>
                </a:lnTo>
                <a:lnTo>
                  <a:pt x="576" y="1512"/>
                </a:lnTo>
                <a:lnTo>
                  <a:pt x="569" y="1526"/>
                </a:lnTo>
                <a:lnTo>
                  <a:pt x="562" y="1533"/>
                </a:lnTo>
                <a:lnTo>
                  <a:pt x="562" y="1540"/>
                </a:lnTo>
                <a:lnTo>
                  <a:pt x="556" y="1547"/>
                </a:lnTo>
                <a:lnTo>
                  <a:pt x="549" y="1553"/>
                </a:lnTo>
                <a:lnTo>
                  <a:pt x="542" y="1553"/>
                </a:lnTo>
                <a:lnTo>
                  <a:pt x="535" y="1560"/>
                </a:lnTo>
                <a:lnTo>
                  <a:pt x="535" y="1560"/>
                </a:lnTo>
                <a:lnTo>
                  <a:pt x="528" y="1567"/>
                </a:lnTo>
                <a:lnTo>
                  <a:pt x="521" y="1567"/>
                </a:lnTo>
                <a:lnTo>
                  <a:pt x="514" y="1574"/>
                </a:lnTo>
                <a:lnTo>
                  <a:pt x="508" y="1574"/>
                </a:lnTo>
                <a:lnTo>
                  <a:pt x="501" y="1574"/>
                </a:lnTo>
                <a:lnTo>
                  <a:pt x="494" y="1581"/>
                </a:lnTo>
                <a:lnTo>
                  <a:pt x="487" y="1581"/>
                </a:lnTo>
                <a:lnTo>
                  <a:pt x="480" y="1574"/>
                </a:lnTo>
                <a:lnTo>
                  <a:pt x="473" y="1574"/>
                </a:lnTo>
                <a:lnTo>
                  <a:pt x="466" y="1574"/>
                </a:lnTo>
                <a:lnTo>
                  <a:pt x="460" y="1574"/>
                </a:lnTo>
                <a:lnTo>
                  <a:pt x="453" y="1574"/>
                </a:lnTo>
                <a:lnTo>
                  <a:pt x="453" y="1574"/>
                </a:lnTo>
                <a:lnTo>
                  <a:pt x="446" y="1574"/>
                </a:lnTo>
                <a:lnTo>
                  <a:pt x="439" y="1574"/>
                </a:lnTo>
                <a:lnTo>
                  <a:pt x="432" y="1574"/>
                </a:lnTo>
                <a:lnTo>
                  <a:pt x="425" y="1574"/>
                </a:lnTo>
                <a:lnTo>
                  <a:pt x="418" y="1574"/>
                </a:lnTo>
                <a:lnTo>
                  <a:pt x="412" y="1574"/>
                </a:lnTo>
                <a:lnTo>
                  <a:pt x="405" y="1574"/>
                </a:lnTo>
                <a:lnTo>
                  <a:pt x="398" y="156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2" name=""/>
          <p:cNvSpPr/>
          <p:nvPr/>
        </p:nvSpPr>
        <p:spPr>
          <a:xfrm>
            <a:off x="3898800" y="1255680"/>
            <a:ext cx="3189240" cy="5127480"/>
          </a:xfrm>
          <a:custGeom>
            <a:avLst/>
            <a:gdLst/>
            <a:ahLst/>
            <a:rect l="l" t="t" r="r" b="b"/>
            <a:pathLst>
              <a:path w="2009" h="3230">
                <a:moveTo>
                  <a:pt x="706" y="3230"/>
                </a:moveTo>
                <a:lnTo>
                  <a:pt x="741" y="3196"/>
                </a:lnTo>
                <a:lnTo>
                  <a:pt x="775" y="3196"/>
                </a:lnTo>
                <a:lnTo>
                  <a:pt x="802" y="3196"/>
                </a:lnTo>
                <a:lnTo>
                  <a:pt x="837" y="3168"/>
                </a:lnTo>
                <a:lnTo>
                  <a:pt x="871" y="3168"/>
                </a:lnTo>
                <a:lnTo>
                  <a:pt x="905" y="3168"/>
                </a:lnTo>
                <a:lnTo>
                  <a:pt x="940" y="3134"/>
                </a:lnTo>
                <a:lnTo>
                  <a:pt x="974" y="3134"/>
                </a:lnTo>
                <a:lnTo>
                  <a:pt x="1008" y="3134"/>
                </a:lnTo>
                <a:lnTo>
                  <a:pt x="1042" y="3100"/>
                </a:lnTo>
                <a:lnTo>
                  <a:pt x="1077" y="3100"/>
                </a:lnTo>
                <a:lnTo>
                  <a:pt x="1077" y="3066"/>
                </a:lnTo>
                <a:lnTo>
                  <a:pt x="1104" y="3031"/>
                </a:lnTo>
                <a:lnTo>
                  <a:pt x="1104" y="2997"/>
                </a:lnTo>
                <a:lnTo>
                  <a:pt x="1138" y="2963"/>
                </a:lnTo>
                <a:lnTo>
                  <a:pt x="1138" y="2936"/>
                </a:lnTo>
                <a:lnTo>
                  <a:pt x="1173" y="2901"/>
                </a:lnTo>
                <a:lnTo>
                  <a:pt x="1173" y="2867"/>
                </a:lnTo>
                <a:lnTo>
                  <a:pt x="1207" y="2833"/>
                </a:lnTo>
                <a:lnTo>
                  <a:pt x="1207" y="2799"/>
                </a:lnTo>
                <a:lnTo>
                  <a:pt x="1241" y="2765"/>
                </a:lnTo>
                <a:lnTo>
                  <a:pt x="1241" y="2730"/>
                </a:lnTo>
                <a:lnTo>
                  <a:pt x="1275" y="2696"/>
                </a:lnTo>
                <a:lnTo>
                  <a:pt x="1275" y="2669"/>
                </a:lnTo>
                <a:lnTo>
                  <a:pt x="1310" y="2635"/>
                </a:lnTo>
                <a:lnTo>
                  <a:pt x="1310" y="2600"/>
                </a:lnTo>
                <a:lnTo>
                  <a:pt x="1344" y="2566"/>
                </a:lnTo>
                <a:lnTo>
                  <a:pt x="1344" y="2532"/>
                </a:lnTo>
                <a:lnTo>
                  <a:pt x="1371" y="2498"/>
                </a:lnTo>
                <a:lnTo>
                  <a:pt x="1371" y="2463"/>
                </a:lnTo>
                <a:lnTo>
                  <a:pt x="1406" y="2429"/>
                </a:lnTo>
                <a:lnTo>
                  <a:pt x="1406" y="2402"/>
                </a:lnTo>
                <a:lnTo>
                  <a:pt x="1440" y="2368"/>
                </a:lnTo>
                <a:lnTo>
                  <a:pt x="1440" y="2333"/>
                </a:lnTo>
                <a:lnTo>
                  <a:pt x="1474" y="2299"/>
                </a:lnTo>
                <a:lnTo>
                  <a:pt x="1474" y="2265"/>
                </a:lnTo>
                <a:lnTo>
                  <a:pt x="1509" y="2231"/>
                </a:lnTo>
                <a:lnTo>
                  <a:pt x="1509" y="2197"/>
                </a:lnTo>
                <a:lnTo>
                  <a:pt x="1543" y="2169"/>
                </a:lnTo>
                <a:lnTo>
                  <a:pt x="1543" y="2135"/>
                </a:lnTo>
                <a:lnTo>
                  <a:pt x="1577" y="2101"/>
                </a:lnTo>
                <a:lnTo>
                  <a:pt x="1577" y="2067"/>
                </a:lnTo>
                <a:lnTo>
                  <a:pt x="1611" y="2032"/>
                </a:lnTo>
                <a:lnTo>
                  <a:pt x="1611" y="1998"/>
                </a:lnTo>
                <a:lnTo>
                  <a:pt x="1646" y="1964"/>
                </a:lnTo>
                <a:lnTo>
                  <a:pt x="1646" y="1930"/>
                </a:lnTo>
                <a:lnTo>
                  <a:pt x="1673" y="1902"/>
                </a:lnTo>
                <a:lnTo>
                  <a:pt x="1673" y="1868"/>
                </a:lnTo>
                <a:lnTo>
                  <a:pt x="1707" y="1834"/>
                </a:lnTo>
                <a:lnTo>
                  <a:pt x="1707" y="1834"/>
                </a:lnTo>
                <a:lnTo>
                  <a:pt x="1701" y="1827"/>
                </a:lnTo>
                <a:lnTo>
                  <a:pt x="1694" y="1827"/>
                </a:lnTo>
                <a:lnTo>
                  <a:pt x="1687" y="1820"/>
                </a:lnTo>
                <a:lnTo>
                  <a:pt x="1680" y="1820"/>
                </a:lnTo>
                <a:lnTo>
                  <a:pt x="1673" y="1820"/>
                </a:lnTo>
                <a:lnTo>
                  <a:pt x="1666" y="1813"/>
                </a:lnTo>
                <a:lnTo>
                  <a:pt x="1659" y="1813"/>
                </a:lnTo>
                <a:lnTo>
                  <a:pt x="1659" y="1807"/>
                </a:lnTo>
                <a:lnTo>
                  <a:pt x="1653" y="1807"/>
                </a:lnTo>
                <a:lnTo>
                  <a:pt x="1646" y="1793"/>
                </a:lnTo>
                <a:lnTo>
                  <a:pt x="1646" y="1786"/>
                </a:lnTo>
                <a:lnTo>
                  <a:pt x="1639" y="1786"/>
                </a:lnTo>
                <a:lnTo>
                  <a:pt x="1632" y="1786"/>
                </a:lnTo>
                <a:lnTo>
                  <a:pt x="1625" y="1793"/>
                </a:lnTo>
                <a:lnTo>
                  <a:pt x="1618" y="1793"/>
                </a:lnTo>
                <a:lnTo>
                  <a:pt x="1611" y="1793"/>
                </a:lnTo>
                <a:lnTo>
                  <a:pt x="1605" y="1786"/>
                </a:lnTo>
                <a:lnTo>
                  <a:pt x="1598" y="1779"/>
                </a:lnTo>
                <a:lnTo>
                  <a:pt x="1591" y="1772"/>
                </a:lnTo>
                <a:lnTo>
                  <a:pt x="1591" y="1766"/>
                </a:lnTo>
                <a:lnTo>
                  <a:pt x="1584" y="1766"/>
                </a:lnTo>
                <a:lnTo>
                  <a:pt x="1577" y="1759"/>
                </a:lnTo>
                <a:lnTo>
                  <a:pt x="1570" y="1759"/>
                </a:lnTo>
                <a:lnTo>
                  <a:pt x="1563" y="1759"/>
                </a:lnTo>
                <a:lnTo>
                  <a:pt x="1557" y="1759"/>
                </a:lnTo>
                <a:lnTo>
                  <a:pt x="1550" y="1759"/>
                </a:lnTo>
                <a:lnTo>
                  <a:pt x="1543" y="1752"/>
                </a:lnTo>
                <a:lnTo>
                  <a:pt x="1536" y="1752"/>
                </a:lnTo>
                <a:lnTo>
                  <a:pt x="1529" y="1745"/>
                </a:lnTo>
                <a:lnTo>
                  <a:pt x="1522" y="1738"/>
                </a:lnTo>
                <a:lnTo>
                  <a:pt x="1515" y="1738"/>
                </a:lnTo>
                <a:lnTo>
                  <a:pt x="1509" y="1731"/>
                </a:lnTo>
                <a:lnTo>
                  <a:pt x="1502" y="1731"/>
                </a:lnTo>
                <a:lnTo>
                  <a:pt x="1502" y="1724"/>
                </a:lnTo>
                <a:lnTo>
                  <a:pt x="1495" y="1724"/>
                </a:lnTo>
                <a:lnTo>
                  <a:pt x="1488" y="1724"/>
                </a:lnTo>
                <a:lnTo>
                  <a:pt x="1481" y="1718"/>
                </a:lnTo>
                <a:lnTo>
                  <a:pt x="1467" y="1718"/>
                </a:lnTo>
                <a:lnTo>
                  <a:pt x="1461" y="1718"/>
                </a:lnTo>
                <a:lnTo>
                  <a:pt x="1454" y="1718"/>
                </a:lnTo>
                <a:lnTo>
                  <a:pt x="1447" y="1711"/>
                </a:lnTo>
                <a:lnTo>
                  <a:pt x="1447" y="1704"/>
                </a:lnTo>
                <a:lnTo>
                  <a:pt x="1440" y="1690"/>
                </a:lnTo>
                <a:lnTo>
                  <a:pt x="1440" y="1683"/>
                </a:lnTo>
                <a:lnTo>
                  <a:pt x="1440" y="1683"/>
                </a:lnTo>
                <a:lnTo>
                  <a:pt x="1433" y="1690"/>
                </a:lnTo>
                <a:lnTo>
                  <a:pt x="1426" y="1697"/>
                </a:lnTo>
                <a:lnTo>
                  <a:pt x="1419" y="1704"/>
                </a:lnTo>
                <a:lnTo>
                  <a:pt x="1413" y="1704"/>
                </a:lnTo>
                <a:lnTo>
                  <a:pt x="1406" y="1704"/>
                </a:lnTo>
                <a:lnTo>
                  <a:pt x="1399" y="1697"/>
                </a:lnTo>
                <a:lnTo>
                  <a:pt x="1392" y="1697"/>
                </a:lnTo>
                <a:lnTo>
                  <a:pt x="1392" y="1690"/>
                </a:lnTo>
                <a:lnTo>
                  <a:pt x="1385" y="1690"/>
                </a:lnTo>
                <a:lnTo>
                  <a:pt x="1378" y="1683"/>
                </a:lnTo>
                <a:lnTo>
                  <a:pt x="1371" y="1677"/>
                </a:lnTo>
                <a:lnTo>
                  <a:pt x="1365" y="1670"/>
                </a:lnTo>
                <a:lnTo>
                  <a:pt x="1365" y="1663"/>
                </a:lnTo>
                <a:lnTo>
                  <a:pt x="1365" y="1656"/>
                </a:lnTo>
                <a:lnTo>
                  <a:pt x="1371" y="1649"/>
                </a:lnTo>
                <a:lnTo>
                  <a:pt x="1378" y="1642"/>
                </a:lnTo>
                <a:lnTo>
                  <a:pt x="1385" y="1636"/>
                </a:lnTo>
                <a:lnTo>
                  <a:pt x="1392" y="1629"/>
                </a:lnTo>
                <a:lnTo>
                  <a:pt x="1399" y="1622"/>
                </a:lnTo>
                <a:lnTo>
                  <a:pt x="1406" y="1622"/>
                </a:lnTo>
                <a:lnTo>
                  <a:pt x="1406" y="1615"/>
                </a:lnTo>
                <a:lnTo>
                  <a:pt x="1413" y="1608"/>
                </a:lnTo>
                <a:lnTo>
                  <a:pt x="1419" y="1601"/>
                </a:lnTo>
                <a:lnTo>
                  <a:pt x="1426" y="1594"/>
                </a:lnTo>
                <a:lnTo>
                  <a:pt x="1433" y="1588"/>
                </a:lnTo>
                <a:lnTo>
                  <a:pt x="1440" y="1581"/>
                </a:lnTo>
                <a:lnTo>
                  <a:pt x="1440" y="1581"/>
                </a:lnTo>
                <a:lnTo>
                  <a:pt x="1447" y="1594"/>
                </a:lnTo>
                <a:lnTo>
                  <a:pt x="1447" y="1601"/>
                </a:lnTo>
                <a:lnTo>
                  <a:pt x="1447" y="1615"/>
                </a:lnTo>
                <a:lnTo>
                  <a:pt x="1447" y="1622"/>
                </a:lnTo>
                <a:lnTo>
                  <a:pt x="1447" y="1636"/>
                </a:lnTo>
                <a:lnTo>
                  <a:pt x="1447" y="1649"/>
                </a:lnTo>
                <a:lnTo>
                  <a:pt x="1440" y="1656"/>
                </a:lnTo>
                <a:lnTo>
                  <a:pt x="1447" y="1670"/>
                </a:lnTo>
                <a:lnTo>
                  <a:pt x="1447" y="1670"/>
                </a:lnTo>
                <a:lnTo>
                  <a:pt x="1454" y="1677"/>
                </a:lnTo>
                <a:lnTo>
                  <a:pt x="1461" y="1677"/>
                </a:lnTo>
                <a:lnTo>
                  <a:pt x="1467" y="1683"/>
                </a:lnTo>
                <a:lnTo>
                  <a:pt x="1474" y="1683"/>
                </a:lnTo>
                <a:lnTo>
                  <a:pt x="1481" y="1683"/>
                </a:lnTo>
                <a:lnTo>
                  <a:pt x="1488" y="1683"/>
                </a:lnTo>
                <a:lnTo>
                  <a:pt x="1495" y="1683"/>
                </a:lnTo>
                <a:lnTo>
                  <a:pt x="1502" y="1683"/>
                </a:lnTo>
                <a:lnTo>
                  <a:pt x="1509" y="1683"/>
                </a:lnTo>
                <a:lnTo>
                  <a:pt x="1515" y="1683"/>
                </a:lnTo>
                <a:lnTo>
                  <a:pt x="1522" y="1690"/>
                </a:lnTo>
                <a:lnTo>
                  <a:pt x="1529" y="1690"/>
                </a:lnTo>
                <a:lnTo>
                  <a:pt x="1536" y="1697"/>
                </a:lnTo>
                <a:lnTo>
                  <a:pt x="1543" y="1697"/>
                </a:lnTo>
                <a:lnTo>
                  <a:pt x="1550" y="1697"/>
                </a:lnTo>
                <a:lnTo>
                  <a:pt x="1557" y="1697"/>
                </a:lnTo>
                <a:lnTo>
                  <a:pt x="1563" y="1704"/>
                </a:lnTo>
                <a:lnTo>
                  <a:pt x="1570" y="1704"/>
                </a:lnTo>
                <a:lnTo>
                  <a:pt x="1577" y="1704"/>
                </a:lnTo>
                <a:lnTo>
                  <a:pt x="1584" y="1704"/>
                </a:lnTo>
                <a:lnTo>
                  <a:pt x="1591" y="1704"/>
                </a:lnTo>
                <a:lnTo>
                  <a:pt x="1598" y="1704"/>
                </a:lnTo>
                <a:lnTo>
                  <a:pt x="1605" y="1704"/>
                </a:lnTo>
                <a:lnTo>
                  <a:pt x="1611" y="1704"/>
                </a:lnTo>
                <a:lnTo>
                  <a:pt x="1618" y="1704"/>
                </a:lnTo>
                <a:lnTo>
                  <a:pt x="1625" y="1704"/>
                </a:lnTo>
                <a:lnTo>
                  <a:pt x="1632" y="1704"/>
                </a:lnTo>
                <a:lnTo>
                  <a:pt x="1639" y="1704"/>
                </a:lnTo>
                <a:lnTo>
                  <a:pt x="1646" y="1711"/>
                </a:lnTo>
                <a:lnTo>
                  <a:pt x="1653" y="1718"/>
                </a:lnTo>
                <a:lnTo>
                  <a:pt x="1659" y="1718"/>
                </a:lnTo>
                <a:lnTo>
                  <a:pt x="1666" y="1724"/>
                </a:lnTo>
                <a:lnTo>
                  <a:pt x="1673" y="1724"/>
                </a:lnTo>
                <a:lnTo>
                  <a:pt x="1673" y="1724"/>
                </a:lnTo>
                <a:lnTo>
                  <a:pt x="1680" y="1718"/>
                </a:lnTo>
                <a:lnTo>
                  <a:pt x="1680" y="1704"/>
                </a:lnTo>
                <a:lnTo>
                  <a:pt x="1687" y="1690"/>
                </a:lnTo>
                <a:lnTo>
                  <a:pt x="1687" y="1683"/>
                </a:lnTo>
                <a:lnTo>
                  <a:pt x="1680" y="1670"/>
                </a:lnTo>
                <a:lnTo>
                  <a:pt x="1680" y="1663"/>
                </a:lnTo>
                <a:lnTo>
                  <a:pt x="1673" y="1656"/>
                </a:lnTo>
                <a:lnTo>
                  <a:pt x="1666" y="1649"/>
                </a:lnTo>
                <a:lnTo>
                  <a:pt x="1666" y="1642"/>
                </a:lnTo>
                <a:lnTo>
                  <a:pt x="1659" y="1636"/>
                </a:lnTo>
                <a:lnTo>
                  <a:pt x="1653" y="1622"/>
                </a:lnTo>
                <a:lnTo>
                  <a:pt x="1653" y="1615"/>
                </a:lnTo>
                <a:lnTo>
                  <a:pt x="1646" y="1608"/>
                </a:lnTo>
                <a:lnTo>
                  <a:pt x="1646" y="1594"/>
                </a:lnTo>
                <a:lnTo>
                  <a:pt x="1639" y="1588"/>
                </a:lnTo>
                <a:lnTo>
                  <a:pt x="1639" y="1574"/>
                </a:lnTo>
                <a:lnTo>
                  <a:pt x="1639" y="1567"/>
                </a:lnTo>
                <a:lnTo>
                  <a:pt x="1639" y="1553"/>
                </a:lnTo>
                <a:lnTo>
                  <a:pt x="1639" y="1547"/>
                </a:lnTo>
                <a:lnTo>
                  <a:pt x="1639" y="1533"/>
                </a:lnTo>
                <a:lnTo>
                  <a:pt x="1646" y="1526"/>
                </a:lnTo>
                <a:lnTo>
                  <a:pt x="1646" y="1512"/>
                </a:lnTo>
                <a:lnTo>
                  <a:pt x="1646" y="1505"/>
                </a:lnTo>
                <a:lnTo>
                  <a:pt x="1653" y="1492"/>
                </a:lnTo>
                <a:lnTo>
                  <a:pt x="1653" y="1485"/>
                </a:lnTo>
                <a:lnTo>
                  <a:pt x="1653" y="1471"/>
                </a:lnTo>
                <a:lnTo>
                  <a:pt x="1659" y="1464"/>
                </a:lnTo>
                <a:lnTo>
                  <a:pt x="1659" y="1451"/>
                </a:lnTo>
                <a:lnTo>
                  <a:pt x="1659" y="1444"/>
                </a:lnTo>
                <a:lnTo>
                  <a:pt x="1666" y="1430"/>
                </a:lnTo>
                <a:lnTo>
                  <a:pt x="1666" y="1423"/>
                </a:lnTo>
                <a:lnTo>
                  <a:pt x="1673" y="1410"/>
                </a:lnTo>
                <a:lnTo>
                  <a:pt x="1673" y="1403"/>
                </a:lnTo>
                <a:lnTo>
                  <a:pt x="1673" y="1396"/>
                </a:lnTo>
                <a:lnTo>
                  <a:pt x="1680" y="1382"/>
                </a:lnTo>
                <a:lnTo>
                  <a:pt x="1680" y="1375"/>
                </a:lnTo>
                <a:lnTo>
                  <a:pt x="1680" y="1362"/>
                </a:lnTo>
                <a:lnTo>
                  <a:pt x="1687" y="1355"/>
                </a:lnTo>
                <a:lnTo>
                  <a:pt x="1687" y="1341"/>
                </a:lnTo>
                <a:lnTo>
                  <a:pt x="1687" y="1334"/>
                </a:lnTo>
                <a:lnTo>
                  <a:pt x="1694" y="1321"/>
                </a:lnTo>
                <a:lnTo>
                  <a:pt x="1694" y="1314"/>
                </a:lnTo>
                <a:lnTo>
                  <a:pt x="1694" y="1300"/>
                </a:lnTo>
                <a:lnTo>
                  <a:pt x="1701" y="1293"/>
                </a:lnTo>
                <a:lnTo>
                  <a:pt x="1701" y="1280"/>
                </a:lnTo>
                <a:lnTo>
                  <a:pt x="1707" y="1273"/>
                </a:lnTo>
                <a:lnTo>
                  <a:pt x="1707" y="1266"/>
                </a:lnTo>
                <a:lnTo>
                  <a:pt x="1707" y="1252"/>
                </a:lnTo>
                <a:lnTo>
                  <a:pt x="1714" y="1245"/>
                </a:lnTo>
                <a:lnTo>
                  <a:pt x="1714" y="1232"/>
                </a:lnTo>
                <a:lnTo>
                  <a:pt x="1714" y="1225"/>
                </a:lnTo>
                <a:lnTo>
                  <a:pt x="1721" y="1211"/>
                </a:lnTo>
                <a:lnTo>
                  <a:pt x="1721" y="1204"/>
                </a:lnTo>
                <a:lnTo>
                  <a:pt x="1721" y="1191"/>
                </a:lnTo>
                <a:lnTo>
                  <a:pt x="1728" y="1184"/>
                </a:lnTo>
                <a:lnTo>
                  <a:pt x="1728" y="1170"/>
                </a:lnTo>
                <a:lnTo>
                  <a:pt x="1728" y="1163"/>
                </a:lnTo>
                <a:lnTo>
                  <a:pt x="1735" y="1157"/>
                </a:lnTo>
                <a:lnTo>
                  <a:pt x="1735" y="1143"/>
                </a:lnTo>
                <a:lnTo>
                  <a:pt x="1735" y="1136"/>
                </a:lnTo>
                <a:lnTo>
                  <a:pt x="1742" y="1122"/>
                </a:lnTo>
                <a:lnTo>
                  <a:pt x="1742" y="1115"/>
                </a:lnTo>
                <a:lnTo>
                  <a:pt x="1749" y="1102"/>
                </a:lnTo>
                <a:lnTo>
                  <a:pt x="1749" y="1095"/>
                </a:lnTo>
                <a:lnTo>
                  <a:pt x="1749" y="1081"/>
                </a:lnTo>
                <a:lnTo>
                  <a:pt x="1755" y="1074"/>
                </a:lnTo>
                <a:lnTo>
                  <a:pt x="1755" y="1061"/>
                </a:lnTo>
                <a:lnTo>
                  <a:pt x="1755" y="1054"/>
                </a:lnTo>
                <a:lnTo>
                  <a:pt x="1762" y="1040"/>
                </a:lnTo>
                <a:lnTo>
                  <a:pt x="1762" y="1033"/>
                </a:lnTo>
                <a:lnTo>
                  <a:pt x="1762" y="1027"/>
                </a:lnTo>
                <a:lnTo>
                  <a:pt x="1769" y="1013"/>
                </a:lnTo>
                <a:lnTo>
                  <a:pt x="1769" y="1006"/>
                </a:lnTo>
                <a:lnTo>
                  <a:pt x="1769" y="992"/>
                </a:lnTo>
                <a:lnTo>
                  <a:pt x="1776" y="979"/>
                </a:lnTo>
                <a:lnTo>
                  <a:pt x="1776" y="979"/>
                </a:lnTo>
                <a:lnTo>
                  <a:pt x="1783" y="979"/>
                </a:lnTo>
                <a:lnTo>
                  <a:pt x="1783" y="992"/>
                </a:lnTo>
                <a:lnTo>
                  <a:pt x="1790" y="999"/>
                </a:lnTo>
                <a:lnTo>
                  <a:pt x="1797" y="1013"/>
                </a:lnTo>
                <a:lnTo>
                  <a:pt x="1797" y="1020"/>
                </a:lnTo>
                <a:lnTo>
                  <a:pt x="1803" y="1027"/>
                </a:lnTo>
                <a:lnTo>
                  <a:pt x="1803" y="1040"/>
                </a:lnTo>
                <a:lnTo>
                  <a:pt x="1810" y="1047"/>
                </a:lnTo>
                <a:lnTo>
                  <a:pt x="1810" y="1061"/>
                </a:lnTo>
                <a:lnTo>
                  <a:pt x="1810" y="1068"/>
                </a:lnTo>
                <a:lnTo>
                  <a:pt x="1817" y="1074"/>
                </a:lnTo>
                <a:lnTo>
                  <a:pt x="1817" y="1088"/>
                </a:lnTo>
                <a:lnTo>
                  <a:pt x="1824" y="1095"/>
                </a:lnTo>
                <a:lnTo>
                  <a:pt x="1824" y="1109"/>
                </a:lnTo>
                <a:lnTo>
                  <a:pt x="1824" y="1115"/>
                </a:lnTo>
                <a:lnTo>
                  <a:pt x="1844" y="1102"/>
                </a:lnTo>
                <a:lnTo>
                  <a:pt x="1844" y="1068"/>
                </a:lnTo>
                <a:lnTo>
                  <a:pt x="1844" y="1033"/>
                </a:lnTo>
                <a:lnTo>
                  <a:pt x="1844" y="999"/>
                </a:lnTo>
                <a:lnTo>
                  <a:pt x="1844" y="965"/>
                </a:lnTo>
                <a:lnTo>
                  <a:pt x="1879" y="931"/>
                </a:lnTo>
                <a:lnTo>
                  <a:pt x="1879" y="903"/>
                </a:lnTo>
                <a:lnTo>
                  <a:pt x="1879" y="869"/>
                </a:lnTo>
                <a:lnTo>
                  <a:pt x="1879" y="835"/>
                </a:lnTo>
                <a:lnTo>
                  <a:pt x="1879" y="801"/>
                </a:lnTo>
                <a:lnTo>
                  <a:pt x="1879" y="766"/>
                </a:lnTo>
                <a:lnTo>
                  <a:pt x="1913" y="732"/>
                </a:lnTo>
                <a:lnTo>
                  <a:pt x="1913" y="698"/>
                </a:lnTo>
                <a:lnTo>
                  <a:pt x="1913" y="664"/>
                </a:lnTo>
                <a:lnTo>
                  <a:pt x="1913" y="636"/>
                </a:lnTo>
                <a:lnTo>
                  <a:pt x="1913" y="602"/>
                </a:lnTo>
                <a:lnTo>
                  <a:pt x="1913" y="568"/>
                </a:lnTo>
                <a:lnTo>
                  <a:pt x="1940" y="534"/>
                </a:lnTo>
                <a:lnTo>
                  <a:pt x="1940" y="500"/>
                </a:lnTo>
                <a:lnTo>
                  <a:pt x="1940" y="465"/>
                </a:lnTo>
                <a:lnTo>
                  <a:pt x="1940" y="431"/>
                </a:lnTo>
                <a:lnTo>
                  <a:pt x="1940" y="404"/>
                </a:lnTo>
                <a:lnTo>
                  <a:pt x="1940" y="370"/>
                </a:lnTo>
                <a:lnTo>
                  <a:pt x="1975" y="335"/>
                </a:lnTo>
                <a:lnTo>
                  <a:pt x="1975" y="301"/>
                </a:lnTo>
                <a:lnTo>
                  <a:pt x="1975" y="267"/>
                </a:lnTo>
                <a:lnTo>
                  <a:pt x="1975" y="233"/>
                </a:lnTo>
                <a:lnTo>
                  <a:pt x="1975" y="199"/>
                </a:lnTo>
                <a:lnTo>
                  <a:pt x="1975" y="164"/>
                </a:lnTo>
                <a:lnTo>
                  <a:pt x="2009" y="137"/>
                </a:lnTo>
                <a:lnTo>
                  <a:pt x="2009" y="103"/>
                </a:lnTo>
                <a:lnTo>
                  <a:pt x="2009" y="69"/>
                </a:lnTo>
                <a:lnTo>
                  <a:pt x="2009" y="34"/>
                </a:lnTo>
                <a:lnTo>
                  <a:pt x="2009" y="0"/>
                </a:lnTo>
                <a:lnTo>
                  <a:pt x="1975" y="0"/>
                </a:lnTo>
                <a:lnTo>
                  <a:pt x="1940" y="0"/>
                </a:lnTo>
                <a:lnTo>
                  <a:pt x="1913" y="0"/>
                </a:lnTo>
                <a:lnTo>
                  <a:pt x="1879" y="34"/>
                </a:lnTo>
                <a:lnTo>
                  <a:pt x="1844" y="34"/>
                </a:lnTo>
                <a:lnTo>
                  <a:pt x="1810" y="69"/>
                </a:lnTo>
                <a:lnTo>
                  <a:pt x="1776" y="69"/>
                </a:lnTo>
                <a:lnTo>
                  <a:pt x="1742" y="69"/>
                </a:lnTo>
                <a:lnTo>
                  <a:pt x="1707" y="103"/>
                </a:lnTo>
                <a:lnTo>
                  <a:pt x="1673" y="103"/>
                </a:lnTo>
                <a:lnTo>
                  <a:pt x="1646" y="137"/>
                </a:lnTo>
                <a:lnTo>
                  <a:pt x="1611" y="137"/>
                </a:lnTo>
                <a:lnTo>
                  <a:pt x="1577" y="164"/>
                </a:lnTo>
                <a:lnTo>
                  <a:pt x="1543" y="164"/>
                </a:lnTo>
                <a:lnTo>
                  <a:pt x="1509" y="199"/>
                </a:lnTo>
                <a:lnTo>
                  <a:pt x="1474" y="199"/>
                </a:lnTo>
                <a:lnTo>
                  <a:pt x="1440" y="199"/>
                </a:lnTo>
                <a:lnTo>
                  <a:pt x="1406" y="233"/>
                </a:lnTo>
                <a:lnTo>
                  <a:pt x="1371" y="233"/>
                </a:lnTo>
                <a:lnTo>
                  <a:pt x="1344" y="267"/>
                </a:lnTo>
                <a:lnTo>
                  <a:pt x="1310" y="267"/>
                </a:lnTo>
                <a:lnTo>
                  <a:pt x="1275" y="301"/>
                </a:lnTo>
                <a:lnTo>
                  <a:pt x="1241" y="301"/>
                </a:lnTo>
                <a:lnTo>
                  <a:pt x="1207" y="335"/>
                </a:lnTo>
                <a:lnTo>
                  <a:pt x="1173" y="335"/>
                </a:lnTo>
                <a:lnTo>
                  <a:pt x="1138" y="335"/>
                </a:lnTo>
                <a:lnTo>
                  <a:pt x="1104" y="370"/>
                </a:lnTo>
                <a:lnTo>
                  <a:pt x="1077" y="370"/>
                </a:lnTo>
                <a:lnTo>
                  <a:pt x="1042" y="404"/>
                </a:lnTo>
                <a:lnTo>
                  <a:pt x="1008" y="404"/>
                </a:lnTo>
                <a:lnTo>
                  <a:pt x="974" y="431"/>
                </a:lnTo>
                <a:lnTo>
                  <a:pt x="940" y="431"/>
                </a:lnTo>
                <a:lnTo>
                  <a:pt x="905" y="465"/>
                </a:lnTo>
                <a:lnTo>
                  <a:pt x="871" y="465"/>
                </a:lnTo>
                <a:lnTo>
                  <a:pt x="837" y="465"/>
                </a:lnTo>
                <a:lnTo>
                  <a:pt x="802" y="500"/>
                </a:lnTo>
                <a:lnTo>
                  <a:pt x="775" y="534"/>
                </a:lnTo>
                <a:lnTo>
                  <a:pt x="741" y="568"/>
                </a:lnTo>
                <a:lnTo>
                  <a:pt x="741" y="602"/>
                </a:lnTo>
                <a:lnTo>
                  <a:pt x="706" y="636"/>
                </a:lnTo>
                <a:lnTo>
                  <a:pt x="672" y="664"/>
                </a:lnTo>
                <a:lnTo>
                  <a:pt x="638" y="698"/>
                </a:lnTo>
                <a:lnTo>
                  <a:pt x="638" y="732"/>
                </a:lnTo>
                <a:lnTo>
                  <a:pt x="604" y="766"/>
                </a:lnTo>
                <a:lnTo>
                  <a:pt x="569" y="801"/>
                </a:lnTo>
                <a:lnTo>
                  <a:pt x="535" y="835"/>
                </a:lnTo>
                <a:lnTo>
                  <a:pt x="535" y="869"/>
                </a:lnTo>
                <a:lnTo>
                  <a:pt x="508" y="903"/>
                </a:lnTo>
                <a:lnTo>
                  <a:pt x="473" y="931"/>
                </a:lnTo>
                <a:lnTo>
                  <a:pt x="473" y="965"/>
                </a:lnTo>
                <a:lnTo>
                  <a:pt x="439" y="999"/>
                </a:lnTo>
                <a:lnTo>
                  <a:pt x="439" y="1033"/>
                </a:lnTo>
                <a:lnTo>
                  <a:pt x="439" y="1068"/>
                </a:lnTo>
                <a:lnTo>
                  <a:pt x="405" y="1102"/>
                </a:lnTo>
                <a:lnTo>
                  <a:pt x="405" y="1136"/>
                </a:lnTo>
                <a:lnTo>
                  <a:pt x="370" y="1163"/>
                </a:lnTo>
                <a:lnTo>
                  <a:pt x="370" y="1198"/>
                </a:lnTo>
                <a:lnTo>
                  <a:pt x="336" y="1232"/>
                </a:lnTo>
                <a:lnTo>
                  <a:pt x="336" y="1266"/>
                </a:lnTo>
                <a:lnTo>
                  <a:pt x="302" y="1300"/>
                </a:lnTo>
                <a:lnTo>
                  <a:pt x="302" y="1334"/>
                </a:lnTo>
                <a:lnTo>
                  <a:pt x="268" y="1369"/>
                </a:lnTo>
                <a:lnTo>
                  <a:pt x="268" y="1403"/>
                </a:lnTo>
                <a:lnTo>
                  <a:pt x="268" y="1430"/>
                </a:lnTo>
                <a:lnTo>
                  <a:pt x="240" y="1464"/>
                </a:lnTo>
                <a:lnTo>
                  <a:pt x="240" y="1499"/>
                </a:lnTo>
                <a:lnTo>
                  <a:pt x="206" y="1533"/>
                </a:lnTo>
                <a:lnTo>
                  <a:pt x="206" y="1567"/>
                </a:lnTo>
                <a:lnTo>
                  <a:pt x="172" y="1601"/>
                </a:lnTo>
                <a:lnTo>
                  <a:pt x="172" y="1636"/>
                </a:lnTo>
                <a:lnTo>
                  <a:pt x="137" y="1670"/>
                </a:lnTo>
                <a:lnTo>
                  <a:pt x="137" y="1697"/>
                </a:lnTo>
                <a:lnTo>
                  <a:pt x="137" y="1731"/>
                </a:lnTo>
                <a:lnTo>
                  <a:pt x="103" y="1766"/>
                </a:lnTo>
                <a:lnTo>
                  <a:pt x="103" y="1800"/>
                </a:lnTo>
                <a:lnTo>
                  <a:pt x="69" y="1834"/>
                </a:lnTo>
                <a:lnTo>
                  <a:pt x="69" y="1868"/>
                </a:lnTo>
                <a:lnTo>
                  <a:pt x="69" y="1902"/>
                </a:lnTo>
                <a:lnTo>
                  <a:pt x="69" y="1930"/>
                </a:lnTo>
                <a:lnTo>
                  <a:pt x="69" y="1964"/>
                </a:lnTo>
                <a:lnTo>
                  <a:pt x="35" y="1998"/>
                </a:lnTo>
                <a:lnTo>
                  <a:pt x="35" y="2032"/>
                </a:lnTo>
                <a:lnTo>
                  <a:pt x="35" y="2067"/>
                </a:lnTo>
                <a:lnTo>
                  <a:pt x="35" y="2101"/>
                </a:lnTo>
                <a:lnTo>
                  <a:pt x="0" y="2135"/>
                </a:lnTo>
                <a:lnTo>
                  <a:pt x="0" y="2169"/>
                </a:lnTo>
                <a:lnTo>
                  <a:pt x="0" y="2197"/>
                </a:lnTo>
                <a:lnTo>
                  <a:pt x="0" y="2231"/>
                </a:lnTo>
                <a:lnTo>
                  <a:pt x="0" y="2265"/>
                </a:lnTo>
                <a:lnTo>
                  <a:pt x="0" y="2299"/>
                </a:lnTo>
                <a:lnTo>
                  <a:pt x="0" y="2333"/>
                </a:lnTo>
                <a:lnTo>
                  <a:pt x="0" y="2368"/>
                </a:lnTo>
                <a:lnTo>
                  <a:pt x="0" y="2402"/>
                </a:lnTo>
                <a:lnTo>
                  <a:pt x="0" y="2429"/>
                </a:lnTo>
                <a:lnTo>
                  <a:pt x="0" y="2463"/>
                </a:lnTo>
                <a:lnTo>
                  <a:pt x="0" y="2498"/>
                </a:lnTo>
                <a:lnTo>
                  <a:pt x="0" y="2532"/>
                </a:lnTo>
                <a:lnTo>
                  <a:pt x="35" y="2566"/>
                </a:lnTo>
                <a:lnTo>
                  <a:pt x="35" y="2600"/>
                </a:lnTo>
                <a:lnTo>
                  <a:pt x="35" y="2635"/>
                </a:lnTo>
                <a:lnTo>
                  <a:pt x="35" y="2669"/>
                </a:lnTo>
                <a:lnTo>
                  <a:pt x="35" y="2696"/>
                </a:lnTo>
                <a:lnTo>
                  <a:pt x="35" y="2730"/>
                </a:lnTo>
                <a:lnTo>
                  <a:pt x="35" y="2765"/>
                </a:lnTo>
                <a:lnTo>
                  <a:pt x="35" y="2799"/>
                </a:lnTo>
                <a:lnTo>
                  <a:pt x="35" y="2833"/>
                </a:lnTo>
                <a:lnTo>
                  <a:pt x="69" y="2867"/>
                </a:lnTo>
                <a:lnTo>
                  <a:pt x="69" y="2901"/>
                </a:lnTo>
                <a:lnTo>
                  <a:pt x="89" y="2922"/>
                </a:lnTo>
                <a:lnTo>
                  <a:pt x="96" y="2915"/>
                </a:lnTo>
                <a:lnTo>
                  <a:pt x="103" y="2915"/>
                </a:lnTo>
                <a:lnTo>
                  <a:pt x="110" y="2908"/>
                </a:lnTo>
                <a:lnTo>
                  <a:pt x="117" y="2908"/>
                </a:lnTo>
                <a:lnTo>
                  <a:pt x="124" y="2901"/>
                </a:lnTo>
                <a:lnTo>
                  <a:pt x="131" y="2901"/>
                </a:lnTo>
                <a:lnTo>
                  <a:pt x="144" y="2901"/>
                </a:lnTo>
                <a:lnTo>
                  <a:pt x="151" y="2895"/>
                </a:lnTo>
                <a:lnTo>
                  <a:pt x="158" y="2895"/>
                </a:lnTo>
                <a:lnTo>
                  <a:pt x="165" y="2901"/>
                </a:lnTo>
                <a:lnTo>
                  <a:pt x="172" y="2901"/>
                </a:lnTo>
                <a:lnTo>
                  <a:pt x="179" y="2908"/>
                </a:lnTo>
                <a:lnTo>
                  <a:pt x="179" y="2915"/>
                </a:lnTo>
                <a:lnTo>
                  <a:pt x="185" y="2922"/>
                </a:lnTo>
                <a:lnTo>
                  <a:pt x="192" y="2936"/>
                </a:lnTo>
                <a:lnTo>
                  <a:pt x="199" y="2942"/>
                </a:lnTo>
                <a:lnTo>
                  <a:pt x="199" y="2956"/>
                </a:lnTo>
                <a:lnTo>
                  <a:pt x="199" y="2963"/>
                </a:lnTo>
                <a:lnTo>
                  <a:pt x="192" y="2977"/>
                </a:lnTo>
                <a:lnTo>
                  <a:pt x="192" y="2983"/>
                </a:lnTo>
                <a:lnTo>
                  <a:pt x="185" y="2990"/>
                </a:lnTo>
                <a:lnTo>
                  <a:pt x="185" y="3004"/>
                </a:lnTo>
                <a:lnTo>
                  <a:pt x="185" y="3018"/>
                </a:lnTo>
                <a:lnTo>
                  <a:pt x="206" y="3031"/>
                </a:lnTo>
                <a:lnTo>
                  <a:pt x="240" y="3066"/>
                </a:lnTo>
                <a:lnTo>
                  <a:pt x="268" y="3100"/>
                </a:lnTo>
                <a:lnTo>
                  <a:pt x="302" y="3134"/>
                </a:lnTo>
                <a:lnTo>
                  <a:pt x="336" y="3134"/>
                </a:lnTo>
                <a:lnTo>
                  <a:pt x="370" y="3168"/>
                </a:lnTo>
                <a:lnTo>
                  <a:pt x="405" y="3168"/>
                </a:lnTo>
                <a:lnTo>
                  <a:pt x="439" y="3168"/>
                </a:lnTo>
                <a:lnTo>
                  <a:pt x="473" y="3196"/>
                </a:lnTo>
                <a:lnTo>
                  <a:pt x="508" y="3196"/>
                </a:lnTo>
                <a:lnTo>
                  <a:pt x="535" y="3230"/>
                </a:lnTo>
                <a:lnTo>
                  <a:pt x="569" y="3230"/>
                </a:lnTo>
                <a:lnTo>
                  <a:pt x="604" y="3230"/>
                </a:lnTo>
                <a:lnTo>
                  <a:pt x="638" y="3230"/>
                </a:lnTo>
                <a:lnTo>
                  <a:pt x="672" y="3230"/>
                </a:lnTo>
                <a:lnTo>
                  <a:pt x="706" y="3230"/>
                </a:lnTo>
                <a:close/>
                <a:moveTo>
                  <a:pt x="370" y="2799"/>
                </a:moveTo>
                <a:lnTo>
                  <a:pt x="370" y="2785"/>
                </a:lnTo>
                <a:lnTo>
                  <a:pt x="364" y="2778"/>
                </a:lnTo>
                <a:lnTo>
                  <a:pt x="357" y="2765"/>
                </a:lnTo>
                <a:lnTo>
                  <a:pt x="357" y="2758"/>
                </a:lnTo>
                <a:lnTo>
                  <a:pt x="350" y="2758"/>
                </a:lnTo>
                <a:lnTo>
                  <a:pt x="343" y="2751"/>
                </a:lnTo>
                <a:lnTo>
                  <a:pt x="329" y="2751"/>
                </a:lnTo>
                <a:lnTo>
                  <a:pt x="322" y="2744"/>
                </a:lnTo>
                <a:lnTo>
                  <a:pt x="316" y="2737"/>
                </a:lnTo>
                <a:lnTo>
                  <a:pt x="316" y="2730"/>
                </a:lnTo>
                <a:lnTo>
                  <a:pt x="316" y="2717"/>
                </a:lnTo>
                <a:lnTo>
                  <a:pt x="316" y="2703"/>
                </a:lnTo>
                <a:lnTo>
                  <a:pt x="309" y="2696"/>
                </a:lnTo>
                <a:lnTo>
                  <a:pt x="302" y="2689"/>
                </a:lnTo>
                <a:lnTo>
                  <a:pt x="295" y="2682"/>
                </a:lnTo>
                <a:lnTo>
                  <a:pt x="288" y="2682"/>
                </a:lnTo>
                <a:lnTo>
                  <a:pt x="281" y="2682"/>
                </a:lnTo>
                <a:lnTo>
                  <a:pt x="274" y="2676"/>
                </a:lnTo>
                <a:lnTo>
                  <a:pt x="268" y="2676"/>
                </a:lnTo>
                <a:lnTo>
                  <a:pt x="261" y="2676"/>
                </a:lnTo>
                <a:lnTo>
                  <a:pt x="254" y="2676"/>
                </a:lnTo>
                <a:lnTo>
                  <a:pt x="247" y="2676"/>
                </a:lnTo>
                <a:lnTo>
                  <a:pt x="240" y="2676"/>
                </a:lnTo>
                <a:lnTo>
                  <a:pt x="226" y="2676"/>
                </a:lnTo>
                <a:lnTo>
                  <a:pt x="220" y="2676"/>
                </a:lnTo>
                <a:lnTo>
                  <a:pt x="213" y="2669"/>
                </a:lnTo>
                <a:lnTo>
                  <a:pt x="213" y="2662"/>
                </a:lnTo>
                <a:lnTo>
                  <a:pt x="213" y="2655"/>
                </a:lnTo>
                <a:lnTo>
                  <a:pt x="220" y="2641"/>
                </a:lnTo>
                <a:lnTo>
                  <a:pt x="220" y="2635"/>
                </a:lnTo>
                <a:lnTo>
                  <a:pt x="226" y="2621"/>
                </a:lnTo>
                <a:lnTo>
                  <a:pt x="233" y="2614"/>
                </a:lnTo>
                <a:lnTo>
                  <a:pt x="233" y="2600"/>
                </a:lnTo>
                <a:lnTo>
                  <a:pt x="240" y="2593"/>
                </a:lnTo>
                <a:lnTo>
                  <a:pt x="240" y="2580"/>
                </a:lnTo>
                <a:lnTo>
                  <a:pt x="247" y="2573"/>
                </a:lnTo>
                <a:lnTo>
                  <a:pt x="247" y="2559"/>
                </a:lnTo>
                <a:lnTo>
                  <a:pt x="254" y="2546"/>
                </a:lnTo>
                <a:lnTo>
                  <a:pt x="254" y="2539"/>
                </a:lnTo>
                <a:lnTo>
                  <a:pt x="261" y="2532"/>
                </a:lnTo>
                <a:lnTo>
                  <a:pt x="268" y="2525"/>
                </a:lnTo>
                <a:lnTo>
                  <a:pt x="274" y="2525"/>
                </a:lnTo>
                <a:lnTo>
                  <a:pt x="281" y="2525"/>
                </a:lnTo>
                <a:lnTo>
                  <a:pt x="288" y="2525"/>
                </a:lnTo>
                <a:lnTo>
                  <a:pt x="295" y="2525"/>
                </a:lnTo>
                <a:lnTo>
                  <a:pt x="309" y="2532"/>
                </a:lnTo>
                <a:lnTo>
                  <a:pt x="316" y="2532"/>
                </a:lnTo>
                <a:lnTo>
                  <a:pt x="322" y="2532"/>
                </a:lnTo>
                <a:lnTo>
                  <a:pt x="329" y="2532"/>
                </a:lnTo>
                <a:lnTo>
                  <a:pt x="336" y="2532"/>
                </a:lnTo>
                <a:lnTo>
                  <a:pt x="343" y="2532"/>
                </a:lnTo>
                <a:lnTo>
                  <a:pt x="350" y="2532"/>
                </a:lnTo>
                <a:lnTo>
                  <a:pt x="357" y="2539"/>
                </a:lnTo>
                <a:lnTo>
                  <a:pt x="364" y="2539"/>
                </a:lnTo>
                <a:lnTo>
                  <a:pt x="370" y="2539"/>
                </a:lnTo>
                <a:lnTo>
                  <a:pt x="377" y="2539"/>
                </a:lnTo>
                <a:lnTo>
                  <a:pt x="391" y="2539"/>
                </a:lnTo>
                <a:lnTo>
                  <a:pt x="398" y="2539"/>
                </a:lnTo>
                <a:lnTo>
                  <a:pt x="405" y="2546"/>
                </a:lnTo>
                <a:lnTo>
                  <a:pt x="412" y="2546"/>
                </a:lnTo>
                <a:lnTo>
                  <a:pt x="418" y="2546"/>
                </a:lnTo>
                <a:lnTo>
                  <a:pt x="425" y="2546"/>
                </a:lnTo>
                <a:lnTo>
                  <a:pt x="432" y="2546"/>
                </a:lnTo>
                <a:lnTo>
                  <a:pt x="439" y="2546"/>
                </a:lnTo>
                <a:lnTo>
                  <a:pt x="446" y="2546"/>
                </a:lnTo>
                <a:lnTo>
                  <a:pt x="453" y="2552"/>
                </a:lnTo>
                <a:lnTo>
                  <a:pt x="460" y="2552"/>
                </a:lnTo>
                <a:lnTo>
                  <a:pt x="466" y="2559"/>
                </a:lnTo>
                <a:lnTo>
                  <a:pt x="473" y="2573"/>
                </a:lnTo>
                <a:lnTo>
                  <a:pt x="480" y="2580"/>
                </a:lnTo>
                <a:lnTo>
                  <a:pt x="480" y="2593"/>
                </a:lnTo>
                <a:lnTo>
                  <a:pt x="487" y="2600"/>
                </a:lnTo>
                <a:lnTo>
                  <a:pt x="494" y="2607"/>
                </a:lnTo>
                <a:lnTo>
                  <a:pt x="501" y="2614"/>
                </a:lnTo>
                <a:lnTo>
                  <a:pt x="508" y="2614"/>
                </a:lnTo>
                <a:lnTo>
                  <a:pt x="514" y="2621"/>
                </a:lnTo>
                <a:lnTo>
                  <a:pt x="521" y="2628"/>
                </a:lnTo>
                <a:lnTo>
                  <a:pt x="528" y="2628"/>
                </a:lnTo>
                <a:lnTo>
                  <a:pt x="535" y="2635"/>
                </a:lnTo>
                <a:lnTo>
                  <a:pt x="542" y="2641"/>
                </a:lnTo>
                <a:lnTo>
                  <a:pt x="549" y="2648"/>
                </a:lnTo>
                <a:lnTo>
                  <a:pt x="556" y="2648"/>
                </a:lnTo>
                <a:lnTo>
                  <a:pt x="562" y="2655"/>
                </a:lnTo>
                <a:lnTo>
                  <a:pt x="569" y="2662"/>
                </a:lnTo>
                <a:lnTo>
                  <a:pt x="576" y="2662"/>
                </a:lnTo>
                <a:lnTo>
                  <a:pt x="583" y="2669"/>
                </a:lnTo>
                <a:lnTo>
                  <a:pt x="590" y="2676"/>
                </a:lnTo>
                <a:lnTo>
                  <a:pt x="597" y="2682"/>
                </a:lnTo>
                <a:lnTo>
                  <a:pt x="604" y="2682"/>
                </a:lnTo>
                <a:lnTo>
                  <a:pt x="610" y="2689"/>
                </a:lnTo>
                <a:lnTo>
                  <a:pt x="617" y="2696"/>
                </a:lnTo>
                <a:lnTo>
                  <a:pt x="624" y="2703"/>
                </a:lnTo>
                <a:lnTo>
                  <a:pt x="624" y="2710"/>
                </a:lnTo>
                <a:lnTo>
                  <a:pt x="617" y="2723"/>
                </a:lnTo>
                <a:lnTo>
                  <a:pt x="610" y="2730"/>
                </a:lnTo>
                <a:lnTo>
                  <a:pt x="604" y="2737"/>
                </a:lnTo>
                <a:lnTo>
                  <a:pt x="597" y="2737"/>
                </a:lnTo>
                <a:lnTo>
                  <a:pt x="590" y="2737"/>
                </a:lnTo>
                <a:lnTo>
                  <a:pt x="583" y="2744"/>
                </a:lnTo>
                <a:lnTo>
                  <a:pt x="576" y="2744"/>
                </a:lnTo>
                <a:lnTo>
                  <a:pt x="569" y="2744"/>
                </a:lnTo>
                <a:lnTo>
                  <a:pt x="562" y="2751"/>
                </a:lnTo>
                <a:lnTo>
                  <a:pt x="549" y="2751"/>
                </a:lnTo>
                <a:lnTo>
                  <a:pt x="542" y="2758"/>
                </a:lnTo>
                <a:lnTo>
                  <a:pt x="535" y="2758"/>
                </a:lnTo>
                <a:lnTo>
                  <a:pt x="528" y="2758"/>
                </a:lnTo>
                <a:lnTo>
                  <a:pt x="521" y="2765"/>
                </a:lnTo>
                <a:lnTo>
                  <a:pt x="514" y="2765"/>
                </a:lnTo>
                <a:lnTo>
                  <a:pt x="508" y="2765"/>
                </a:lnTo>
                <a:lnTo>
                  <a:pt x="501" y="2771"/>
                </a:lnTo>
                <a:lnTo>
                  <a:pt x="494" y="2771"/>
                </a:lnTo>
                <a:lnTo>
                  <a:pt x="487" y="2778"/>
                </a:lnTo>
                <a:lnTo>
                  <a:pt x="480" y="2778"/>
                </a:lnTo>
                <a:lnTo>
                  <a:pt x="473" y="2778"/>
                </a:lnTo>
                <a:lnTo>
                  <a:pt x="466" y="2785"/>
                </a:lnTo>
                <a:lnTo>
                  <a:pt x="460" y="2785"/>
                </a:lnTo>
                <a:lnTo>
                  <a:pt x="453" y="2785"/>
                </a:lnTo>
                <a:lnTo>
                  <a:pt x="439" y="2792"/>
                </a:lnTo>
                <a:lnTo>
                  <a:pt x="432" y="2792"/>
                </a:lnTo>
                <a:lnTo>
                  <a:pt x="425" y="2792"/>
                </a:lnTo>
                <a:lnTo>
                  <a:pt x="418" y="2799"/>
                </a:lnTo>
                <a:lnTo>
                  <a:pt x="412" y="2799"/>
                </a:lnTo>
                <a:lnTo>
                  <a:pt x="405" y="2806"/>
                </a:lnTo>
                <a:lnTo>
                  <a:pt x="398" y="2806"/>
                </a:lnTo>
                <a:lnTo>
                  <a:pt x="391" y="2806"/>
                </a:lnTo>
                <a:lnTo>
                  <a:pt x="384" y="2812"/>
                </a:lnTo>
                <a:lnTo>
                  <a:pt x="377" y="2806"/>
                </a:lnTo>
                <a:lnTo>
                  <a:pt x="370" y="2799"/>
                </a:lnTo>
                <a:close/>
                <a:moveTo>
                  <a:pt x="1001" y="1636"/>
                </a:moveTo>
                <a:lnTo>
                  <a:pt x="1001" y="1622"/>
                </a:lnTo>
                <a:lnTo>
                  <a:pt x="1008" y="1615"/>
                </a:lnTo>
                <a:lnTo>
                  <a:pt x="1008" y="1601"/>
                </a:lnTo>
                <a:lnTo>
                  <a:pt x="1015" y="1594"/>
                </a:lnTo>
                <a:lnTo>
                  <a:pt x="1015" y="1581"/>
                </a:lnTo>
                <a:lnTo>
                  <a:pt x="1022" y="1574"/>
                </a:lnTo>
                <a:lnTo>
                  <a:pt x="1029" y="1560"/>
                </a:lnTo>
                <a:lnTo>
                  <a:pt x="1029" y="1553"/>
                </a:lnTo>
                <a:lnTo>
                  <a:pt x="1035" y="1540"/>
                </a:lnTo>
                <a:lnTo>
                  <a:pt x="1035" y="1533"/>
                </a:lnTo>
                <a:lnTo>
                  <a:pt x="1042" y="1526"/>
                </a:lnTo>
                <a:lnTo>
                  <a:pt x="1049" y="1526"/>
                </a:lnTo>
                <a:lnTo>
                  <a:pt x="1056" y="1519"/>
                </a:lnTo>
                <a:lnTo>
                  <a:pt x="1063" y="1512"/>
                </a:lnTo>
                <a:lnTo>
                  <a:pt x="1070" y="1505"/>
                </a:lnTo>
                <a:lnTo>
                  <a:pt x="1077" y="1499"/>
                </a:lnTo>
                <a:lnTo>
                  <a:pt x="1077" y="1492"/>
                </a:lnTo>
                <a:lnTo>
                  <a:pt x="1077" y="1478"/>
                </a:lnTo>
                <a:lnTo>
                  <a:pt x="1077" y="1464"/>
                </a:lnTo>
                <a:lnTo>
                  <a:pt x="1077" y="1458"/>
                </a:lnTo>
                <a:lnTo>
                  <a:pt x="1083" y="1444"/>
                </a:lnTo>
                <a:lnTo>
                  <a:pt x="1083" y="1437"/>
                </a:lnTo>
                <a:lnTo>
                  <a:pt x="1090" y="1423"/>
                </a:lnTo>
                <a:lnTo>
                  <a:pt x="1097" y="1417"/>
                </a:lnTo>
                <a:lnTo>
                  <a:pt x="1104" y="1410"/>
                </a:lnTo>
                <a:lnTo>
                  <a:pt x="1111" y="1410"/>
                </a:lnTo>
                <a:lnTo>
                  <a:pt x="1118" y="1410"/>
                </a:lnTo>
                <a:lnTo>
                  <a:pt x="1125" y="1417"/>
                </a:lnTo>
                <a:lnTo>
                  <a:pt x="1131" y="1417"/>
                </a:lnTo>
                <a:lnTo>
                  <a:pt x="1138" y="1423"/>
                </a:lnTo>
                <a:lnTo>
                  <a:pt x="1145" y="1430"/>
                </a:lnTo>
                <a:lnTo>
                  <a:pt x="1152" y="1430"/>
                </a:lnTo>
                <a:lnTo>
                  <a:pt x="1159" y="1437"/>
                </a:lnTo>
                <a:lnTo>
                  <a:pt x="1166" y="1437"/>
                </a:lnTo>
                <a:lnTo>
                  <a:pt x="1173" y="1444"/>
                </a:lnTo>
                <a:lnTo>
                  <a:pt x="1179" y="1444"/>
                </a:lnTo>
                <a:lnTo>
                  <a:pt x="1186" y="1444"/>
                </a:lnTo>
                <a:lnTo>
                  <a:pt x="1193" y="1451"/>
                </a:lnTo>
                <a:lnTo>
                  <a:pt x="1200" y="1451"/>
                </a:lnTo>
                <a:lnTo>
                  <a:pt x="1207" y="1458"/>
                </a:lnTo>
                <a:lnTo>
                  <a:pt x="1214" y="1458"/>
                </a:lnTo>
                <a:lnTo>
                  <a:pt x="1221" y="1464"/>
                </a:lnTo>
                <a:lnTo>
                  <a:pt x="1227" y="1464"/>
                </a:lnTo>
                <a:lnTo>
                  <a:pt x="1234" y="1471"/>
                </a:lnTo>
                <a:lnTo>
                  <a:pt x="1241" y="1471"/>
                </a:lnTo>
                <a:lnTo>
                  <a:pt x="1248" y="1478"/>
                </a:lnTo>
                <a:lnTo>
                  <a:pt x="1255" y="1478"/>
                </a:lnTo>
                <a:lnTo>
                  <a:pt x="1262" y="1485"/>
                </a:lnTo>
                <a:lnTo>
                  <a:pt x="1269" y="1485"/>
                </a:lnTo>
                <a:lnTo>
                  <a:pt x="1275" y="1485"/>
                </a:lnTo>
                <a:lnTo>
                  <a:pt x="1289" y="1492"/>
                </a:lnTo>
                <a:lnTo>
                  <a:pt x="1296" y="1492"/>
                </a:lnTo>
                <a:lnTo>
                  <a:pt x="1303" y="1499"/>
                </a:lnTo>
                <a:lnTo>
                  <a:pt x="1303" y="1499"/>
                </a:lnTo>
                <a:lnTo>
                  <a:pt x="1296" y="1505"/>
                </a:lnTo>
                <a:lnTo>
                  <a:pt x="1289" y="1512"/>
                </a:lnTo>
                <a:lnTo>
                  <a:pt x="1282" y="1519"/>
                </a:lnTo>
                <a:lnTo>
                  <a:pt x="1275" y="1526"/>
                </a:lnTo>
                <a:lnTo>
                  <a:pt x="1269" y="1540"/>
                </a:lnTo>
                <a:lnTo>
                  <a:pt x="1269" y="1547"/>
                </a:lnTo>
                <a:lnTo>
                  <a:pt x="1262" y="1553"/>
                </a:lnTo>
                <a:lnTo>
                  <a:pt x="1255" y="1553"/>
                </a:lnTo>
                <a:lnTo>
                  <a:pt x="1248" y="1560"/>
                </a:lnTo>
                <a:lnTo>
                  <a:pt x="1241" y="1567"/>
                </a:lnTo>
                <a:lnTo>
                  <a:pt x="1234" y="1574"/>
                </a:lnTo>
                <a:lnTo>
                  <a:pt x="1227" y="1581"/>
                </a:lnTo>
                <a:lnTo>
                  <a:pt x="1221" y="1581"/>
                </a:lnTo>
                <a:lnTo>
                  <a:pt x="1214" y="1588"/>
                </a:lnTo>
                <a:lnTo>
                  <a:pt x="1207" y="1588"/>
                </a:lnTo>
                <a:lnTo>
                  <a:pt x="1200" y="1588"/>
                </a:lnTo>
                <a:lnTo>
                  <a:pt x="1193" y="1594"/>
                </a:lnTo>
                <a:lnTo>
                  <a:pt x="1186" y="1594"/>
                </a:lnTo>
                <a:lnTo>
                  <a:pt x="1179" y="1594"/>
                </a:lnTo>
                <a:lnTo>
                  <a:pt x="1173" y="1594"/>
                </a:lnTo>
                <a:lnTo>
                  <a:pt x="1166" y="1594"/>
                </a:lnTo>
                <a:lnTo>
                  <a:pt x="1159" y="1601"/>
                </a:lnTo>
                <a:lnTo>
                  <a:pt x="1152" y="1601"/>
                </a:lnTo>
                <a:lnTo>
                  <a:pt x="1138" y="1601"/>
                </a:lnTo>
                <a:lnTo>
                  <a:pt x="1131" y="1601"/>
                </a:lnTo>
                <a:lnTo>
                  <a:pt x="1125" y="1601"/>
                </a:lnTo>
                <a:lnTo>
                  <a:pt x="1118" y="1601"/>
                </a:lnTo>
                <a:lnTo>
                  <a:pt x="1111" y="1601"/>
                </a:lnTo>
                <a:lnTo>
                  <a:pt x="1104" y="1601"/>
                </a:lnTo>
                <a:lnTo>
                  <a:pt x="1097" y="1608"/>
                </a:lnTo>
                <a:lnTo>
                  <a:pt x="1090" y="1608"/>
                </a:lnTo>
                <a:lnTo>
                  <a:pt x="1083" y="1608"/>
                </a:lnTo>
                <a:lnTo>
                  <a:pt x="1077" y="1615"/>
                </a:lnTo>
                <a:lnTo>
                  <a:pt x="1070" y="1615"/>
                </a:lnTo>
                <a:lnTo>
                  <a:pt x="1063" y="1615"/>
                </a:lnTo>
                <a:lnTo>
                  <a:pt x="1056" y="1622"/>
                </a:lnTo>
                <a:lnTo>
                  <a:pt x="1049" y="1622"/>
                </a:lnTo>
                <a:lnTo>
                  <a:pt x="1042" y="1629"/>
                </a:lnTo>
                <a:lnTo>
                  <a:pt x="1035" y="1629"/>
                </a:lnTo>
                <a:lnTo>
                  <a:pt x="1029" y="1629"/>
                </a:lnTo>
                <a:lnTo>
                  <a:pt x="1022" y="1636"/>
                </a:lnTo>
                <a:lnTo>
                  <a:pt x="1015" y="1636"/>
                </a:lnTo>
                <a:lnTo>
                  <a:pt x="1008" y="1636"/>
                </a:lnTo>
                <a:lnTo>
                  <a:pt x="1001" y="1636"/>
                </a:lnTo>
                <a:close/>
                <a:moveTo>
                  <a:pt x="398" y="1567"/>
                </a:moveTo>
                <a:lnTo>
                  <a:pt x="398" y="1553"/>
                </a:lnTo>
                <a:lnTo>
                  <a:pt x="398" y="1547"/>
                </a:lnTo>
                <a:lnTo>
                  <a:pt x="398" y="1533"/>
                </a:lnTo>
                <a:lnTo>
                  <a:pt x="398" y="1526"/>
                </a:lnTo>
                <a:lnTo>
                  <a:pt x="405" y="1519"/>
                </a:lnTo>
                <a:lnTo>
                  <a:pt x="405" y="1512"/>
                </a:lnTo>
                <a:lnTo>
                  <a:pt x="412" y="1499"/>
                </a:lnTo>
                <a:lnTo>
                  <a:pt x="412" y="1492"/>
                </a:lnTo>
                <a:lnTo>
                  <a:pt x="418" y="1485"/>
                </a:lnTo>
                <a:lnTo>
                  <a:pt x="418" y="1471"/>
                </a:lnTo>
                <a:lnTo>
                  <a:pt x="425" y="1464"/>
                </a:lnTo>
                <a:lnTo>
                  <a:pt x="425" y="1458"/>
                </a:lnTo>
                <a:lnTo>
                  <a:pt x="432" y="1451"/>
                </a:lnTo>
                <a:lnTo>
                  <a:pt x="432" y="1437"/>
                </a:lnTo>
                <a:lnTo>
                  <a:pt x="439" y="1430"/>
                </a:lnTo>
                <a:lnTo>
                  <a:pt x="439" y="1423"/>
                </a:lnTo>
                <a:lnTo>
                  <a:pt x="446" y="1410"/>
                </a:lnTo>
                <a:lnTo>
                  <a:pt x="446" y="1403"/>
                </a:lnTo>
                <a:lnTo>
                  <a:pt x="453" y="1396"/>
                </a:lnTo>
                <a:lnTo>
                  <a:pt x="453" y="1382"/>
                </a:lnTo>
                <a:lnTo>
                  <a:pt x="453" y="1375"/>
                </a:lnTo>
                <a:lnTo>
                  <a:pt x="460" y="1362"/>
                </a:lnTo>
                <a:lnTo>
                  <a:pt x="460" y="1355"/>
                </a:lnTo>
                <a:lnTo>
                  <a:pt x="460" y="1348"/>
                </a:lnTo>
                <a:lnTo>
                  <a:pt x="466" y="1334"/>
                </a:lnTo>
                <a:lnTo>
                  <a:pt x="466" y="1328"/>
                </a:lnTo>
                <a:lnTo>
                  <a:pt x="466" y="1314"/>
                </a:lnTo>
                <a:lnTo>
                  <a:pt x="473" y="1307"/>
                </a:lnTo>
                <a:lnTo>
                  <a:pt x="473" y="1300"/>
                </a:lnTo>
                <a:lnTo>
                  <a:pt x="466" y="1287"/>
                </a:lnTo>
                <a:lnTo>
                  <a:pt x="466" y="1280"/>
                </a:lnTo>
                <a:lnTo>
                  <a:pt x="466" y="1266"/>
                </a:lnTo>
                <a:lnTo>
                  <a:pt x="473" y="1259"/>
                </a:lnTo>
                <a:lnTo>
                  <a:pt x="473" y="1259"/>
                </a:lnTo>
                <a:lnTo>
                  <a:pt x="480" y="1252"/>
                </a:lnTo>
                <a:lnTo>
                  <a:pt x="487" y="1245"/>
                </a:lnTo>
                <a:lnTo>
                  <a:pt x="494" y="1245"/>
                </a:lnTo>
                <a:lnTo>
                  <a:pt x="501" y="1245"/>
                </a:lnTo>
                <a:lnTo>
                  <a:pt x="508" y="1245"/>
                </a:lnTo>
                <a:lnTo>
                  <a:pt x="514" y="1245"/>
                </a:lnTo>
                <a:lnTo>
                  <a:pt x="521" y="1245"/>
                </a:lnTo>
                <a:lnTo>
                  <a:pt x="528" y="1245"/>
                </a:lnTo>
                <a:lnTo>
                  <a:pt x="535" y="1252"/>
                </a:lnTo>
                <a:lnTo>
                  <a:pt x="542" y="1252"/>
                </a:lnTo>
                <a:lnTo>
                  <a:pt x="549" y="1252"/>
                </a:lnTo>
                <a:lnTo>
                  <a:pt x="549" y="1259"/>
                </a:lnTo>
                <a:lnTo>
                  <a:pt x="556" y="1259"/>
                </a:lnTo>
                <a:lnTo>
                  <a:pt x="562" y="1266"/>
                </a:lnTo>
                <a:lnTo>
                  <a:pt x="569" y="1273"/>
                </a:lnTo>
                <a:lnTo>
                  <a:pt x="576" y="1273"/>
                </a:lnTo>
                <a:lnTo>
                  <a:pt x="583" y="1280"/>
                </a:lnTo>
                <a:lnTo>
                  <a:pt x="590" y="1280"/>
                </a:lnTo>
                <a:lnTo>
                  <a:pt x="597" y="1280"/>
                </a:lnTo>
                <a:lnTo>
                  <a:pt x="604" y="1280"/>
                </a:lnTo>
                <a:lnTo>
                  <a:pt x="610" y="1280"/>
                </a:lnTo>
                <a:lnTo>
                  <a:pt x="617" y="1287"/>
                </a:lnTo>
                <a:lnTo>
                  <a:pt x="617" y="1287"/>
                </a:lnTo>
                <a:lnTo>
                  <a:pt x="624" y="1287"/>
                </a:lnTo>
                <a:lnTo>
                  <a:pt x="631" y="1293"/>
                </a:lnTo>
                <a:lnTo>
                  <a:pt x="638" y="1293"/>
                </a:lnTo>
                <a:lnTo>
                  <a:pt x="645" y="1300"/>
                </a:lnTo>
                <a:lnTo>
                  <a:pt x="652" y="1300"/>
                </a:lnTo>
                <a:lnTo>
                  <a:pt x="658" y="1307"/>
                </a:lnTo>
                <a:lnTo>
                  <a:pt x="658" y="1314"/>
                </a:lnTo>
                <a:lnTo>
                  <a:pt x="665" y="1321"/>
                </a:lnTo>
                <a:lnTo>
                  <a:pt x="672" y="1328"/>
                </a:lnTo>
                <a:lnTo>
                  <a:pt x="679" y="1328"/>
                </a:lnTo>
                <a:lnTo>
                  <a:pt x="686" y="1334"/>
                </a:lnTo>
                <a:lnTo>
                  <a:pt x="679" y="1334"/>
                </a:lnTo>
                <a:lnTo>
                  <a:pt x="672" y="1341"/>
                </a:lnTo>
                <a:lnTo>
                  <a:pt x="665" y="1341"/>
                </a:lnTo>
                <a:lnTo>
                  <a:pt x="665" y="1355"/>
                </a:lnTo>
                <a:lnTo>
                  <a:pt x="658" y="1362"/>
                </a:lnTo>
                <a:lnTo>
                  <a:pt x="658" y="1369"/>
                </a:lnTo>
                <a:lnTo>
                  <a:pt x="652" y="1375"/>
                </a:lnTo>
                <a:lnTo>
                  <a:pt x="645" y="1382"/>
                </a:lnTo>
                <a:lnTo>
                  <a:pt x="645" y="1389"/>
                </a:lnTo>
                <a:lnTo>
                  <a:pt x="638" y="1403"/>
                </a:lnTo>
                <a:lnTo>
                  <a:pt x="631" y="1410"/>
                </a:lnTo>
                <a:lnTo>
                  <a:pt x="631" y="1417"/>
                </a:lnTo>
                <a:lnTo>
                  <a:pt x="624" y="1423"/>
                </a:lnTo>
                <a:lnTo>
                  <a:pt x="624" y="1430"/>
                </a:lnTo>
                <a:lnTo>
                  <a:pt x="617" y="1437"/>
                </a:lnTo>
                <a:lnTo>
                  <a:pt x="610" y="1444"/>
                </a:lnTo>
                <a:lnTo>
                  <a:pt x="610" y="1451"/>
                </a:lnTo>
                <a:lnTo>
                  <a:pt x="604" y="1464"/>
                </a:lnTo>
                <a:lnTo>
                  <a:pt x="597" y="1471"/>
                </a:lnTo>
                <a:lnTo>
                  <a:pt x="597" y="1478"/>
                </a:lnTo>
                <a:lnTo>
                  <a:pt x="590" y="1485"/>
                </a:lnTo>
                <a:lnTo>
                  <a:pt x="590" y="1492"/>
                </a:lnTo>
                <a:lnTo>
                  <a:pt x="583" y="1499"/>
                </a:lnTo>
                <a:lnTo>
                  <a:pt x="576" y="1505"/>
                </a:lnTo>
                <a:lnTo>
                  <a:pt x="576" y="1512"/>
                </a:lnTo>
                <a:lnTo>
                  <a:pt x="569" y="1526"/>
                </a:lnTo>
                <a:lnTo>
                  <a:pt x="562" y="1533"/>
                </a:lnTo>
                <a:lnTo>
                  <a:pt x="562" y="1540"/>
                </a:lnTo>
                <a:lnTo>
                  <a:pt x="556" y="1547"/>
                </a:lnTo>
                <a:lnTo>
                  <a:pt x="549" y="1553"/>
                </a:lnTo>
                <a:lnTo>
                  <a:pt x="542" y="1553"/>
                </a:lnTo>
                <a:lnTo>
                  <a:pt x="535" y="1560"/>
                </a:lnTo>
                <a:lnTo>
                  <a:pt x="535" y="1560"/>
                </a:lnTo>
                <a:lnTo>
                  <a:pt x="528" y="1567"/>
                </a:lnTo>
                <a:lnTo>
                  <a:pt x="521" y="1567"/>
                </a:lnTo>
                <a:lnTo>
                  <a:pt x="514" y="1574"/>
                </a:lnTo>
                <a:lnTo>
                  <a:pt x="508" y="1574"/>
                </a:lnTo>
                <a:lnTo>
                  <a:pt x="501" y="1574"/>
                </a:lnTo>
                <a:lnTo>
                  <a:pt x="494" y="1581"/>
                </a:lnTo>
                <a:lnTo>
                  <a:pt x="487" y="1581"/>
                </a:lnTo>
                <a:lnTo>
                  <a:pt x="480" y="1574"/>
                </a:lnTo>
                <a:lnTo>
                  <a:pt x="473" y="1574"/>
                </a:lnTo>
                <a:lnTo>
                  <a:pt x="466" y="1574"/>
                </a:lnTo>
                <a:lnTo>
                  <a:pt x="460" y="1574"/>
                </a:lnTo>
                <a:lnTo>
                  <a:pt x="453" y="1574"/>
                </a:lnTo>
                <a:lnTo>
                  <a:pt x="453" y="1574"/>
                </a:lnTo>
                <a:lnTo>
                  <a:pt x="446" y="1574"/>
                </a:lnTo>
                <a:lnTo>
                  <a:pt x="439" y="1574"/>
                </a:lnTo>
                <a:lnTo>
                  <a:pt x="432" y="1574"/>
                </a:lnTo>
                <a:lnTo>
                  <a:pt x="425" y="1574"/>
                </a:lnTo>
                <a:lnTo>
                  <a:pt x="418" y="1574"/>
                </a:lnTo>
                <a:lnTo>
                  <a:pt x="412" y="1574"/>
                </a:lnTo>
                <a:lnTo>
                  <a:pt x="405" y="1574"/>
                </a:lnTo>
                <a:lnTo>
                  <a:pt x="398" y="1567"/>
                </a:lnTo>
                <a:close/>
                <a:moveTo>
                  <a:pt x="706" y="3230"/>
                </a:moveTo>
                <a:lnTo>
                  <a:pt x="741" y="3196"/>
                </a:lnTo>
                <a:lnTo>
                  <a:pt x="775" y="3196"/>
                </a:lnTo>
                <a:lnTo>
                  <a:pt x="802" y="3196"/>
                </a:lnTo>
                <a:lnTo>
                  <a:pt x="837" y="3168"/>
                </a:lnTo>
                <a:lnTo>
                  <a:pt x="871" y="3168"/>
                </a:lnTo>
                <a:lnTo>
                  <a:pt x="905" y="3168"/>
                </a:lnTo>
                <a:lnTo>
                  <a:pt x="940" y="3134"/>
                </a:lnTo>
                <a:lnTo>
                  <a:pt x="974" y="3134"/>
                </a:lnTo>
                <a:lnTo>
                  <a:pt x="1008" y="3134"/>
                </a:lnTo>
                <a:lnTo>
                  <a:pt x="1042" y="3100"/>
                </a:lnTo>
                <a:lnTo>
                  <a:pt x="1077" y="3100"/>
                </a:lnTo>
                <a:lnTo>
                  <a:pt x="1077" y="3066"/>
                </a:lnTo>
                <a:lnTo>
                  <a:pt x="1104" y="3031"/>
                </a:lnTo>
                <a:lnTo>
                  <a:pt x="1104" y="2997"/>
                </a:lnTo>
                <a:lnTo>
                  <a:pt x="1138" y="2963"/>
                </a:lnTo>
                <a:lnTo>
                  <a:pt x="1138" y="2936"/>
                </a:lnTo>
                <a:lnTo>
                  <a:pt x="1173" y="2901"/>
                </a:lnTo>
                <a:lnTo>
                  <a:pt x="1173" y="2867"/>
                </a:lnTo>
                <a:lnTo>
                  <a:pt x="1207" y="2833"/>
                </a:lnTo>
                <a:lnTo>
                  <a:pt x="1207" y="2799"/>
                </a:lnTo>
                <a:lnTo>
                  <a:pt x="1241" y="2765"/>
                </a:lnTo>
                <a:lnTo>
                  <a:pt x="1241" y="2730"/>
                </a:lnTo>
                <a:lnTo>
                  <a:pt x="1275" y="2696"/>
                </a:lnTo>
                <a:lnTo>
                  <a:pt x="1275" y="2669"/>
                </a:lnTo>
                <a:lnTo>
                  <a:pt x="1310" y="2635"/>
                </a:lnTo>
                <a:lnTo>
                  <a:pt x="1310" y="2600"/>
                </a:lnTo>
                <a:lnTo>
                  <a:pt x="1344" y="2566"/>
                </a:lnTo>
                <a:lnTo>
                  <a:pt x="1344" y="2532"/>
                </a:lnTo>
                <a:lnTo>
                  <a:pt x="1371" y="2498"/>
                </a:lnTo>
                <a:lnTo>
                  <a:pt x="1371" y="2463"/>
                </a:lnTo>
                <a:lnTo>
                  <a:pt x="1406" y="2429"/>
                </a:lnTo>
                <a:lnTo>
                  <a:pt x="1406" y="2402"/>
                </a:lnTo>
                <a:lnTo>
                  <a:pt x="1440" y="2368"/>
                </a:lnTo>
                <a:lnTo>
                  <a:pt x="1440" y="2333"/>
                </a:lnTo>
                <a:lnTo>
                  <a:pt x="1474" y="2299"/>
                </a:lnTo>
                <a:lnTo>
                  <a:pt x="1474" y="2265"/>
                </a:lnTo>
                <a:lnTo>
                  <a:pt x="1509" y="2231"/>
                </a:lnTo>
                <a:lnTo>
                  <a:pt x="1509" y="2197"/>
                </a:lnTo>
                <a:lnTo>
                  <a:pt x="1543" y="2169"/>
                </a:lnTo>
                <a:lnTo>
                  <a:pt x="1543" y="2135"/>
                </a:lnTo>
                <a:lnTo>
                  <a:pt x="1577" y="2101"/>
                </a:lnTo>
                <a:lnTo>
                  <a:pt x="1577" y="2067"/>
                </a:lnTo>
                <a:lnTo>
                  <a:pt x="1611" y="2032"/>
                </a:lnTo>
                <a:lnTo>
                  <a:pt x="1611" y="1998"/>
                </a:lnTo>
                <a:lnTo>
                  <a:pt x="1646" y="1964"/>
                </a:lnTo>
                <a:lnTo>
                  <a:pt x="1646" y="1930"/>
                </a:lnTo>
                <a:lnTo>
                  <a:pt x="1673" y="1902"/>
                </a:lnTo>
                <a:lnTo>
                  <a:pt x="1673" y="1868"/>
                </a:lnTo>
                <a:lnTo>
                  <a:pt x="1707" y="1834"/>
                </a:lnTo>
                <a:lnTo>
                  <a:pt x="1707" y="1800"/>
                </a:lnTo>
                <a:lnTo>
                  <a:pt x="1707" y="1766"/>
                </a:lnTo>
                <a:lnTo>
                  <a:pt x="1707" y="1731"/>
                </a:lnTo>
                <a:lnTo>
                  <a:pt x="1742" y="1697"/>
                </a:lnTo>
                <a:lnTo>
                  <a:pt x="1742" y="1670"/>
                </a:lnTo>
                <a:lnTo>
                  <a:pt x="1742" y="1636"/>
                </a:lnTo>
                <a:lnTo>
                  <a:pt x="1742" y="1601"/>
                </a:lnTo>
                <a:lnTo>
                  <a:pt x="1742" y="1567"/>
                </a:lnTo>
                <a:lnTo>
                  <a:pt x="1742" y="1533"/>
                </a:lnTo>
                <a:lnTo>
                  <a:pt x="1776" y="1499"/>
                </a:lnTo>
                <a:lnTo>
                  <a:pt x="1776" y="1464"/>
                </a:lnTo>
                <a:lnTo>
                  <a:pt x="1776" y="1430"/>
                </a:lnTo>
                <a:lnTo>
                  <a:pt x="1776" y="1403"/>
                </a:lnTo>
                <a:lnTo>
                  <a:pt x="1776" y="1369"/>
                </a:lnTo>
                <a:lnTo>
                  <a:pt x="1776" y="1334"/>
                </a:lnTo>
                <a:lnTo>
                  <a:pt x="1810" y="1300"/>
                </a:lnTo>
                <a:lnTo>
                  <a:pt x="1810" y="1266"/>
                </a:lnTo>
                <a:lnTo>
                  <a:pt x="1810" y="1232"/>
                </a:lnTo>
                <a:lnTo>
                  <a:pt x="1810" y="1198"/>
                </a:lnTo>
                <a:lnTo>
                  <a:pt x="1810" y="1163"/>
                </a:lnTo>
                <a:lnTo>
                  <a:pt x="1810" y="1136"/>
                </a:lnTo>
                <a:lnTo>
                  <a:pt x="1844" y="1102"/>
                </a:lnTo>
                <a:lnTo>
                  <a:pt x="1844" y="1068"/>
                </a:lnTo>
                <a:lnTo>
                  <a:pt x="1844" y="1033"/>
                </a:lnTo>
                <a:lnTo>
                  <a:pt x="1844" y="999"/>
                </a:lnTo>
                <a:lnTo>
                  <a:pt x="1844" y="965"/>
                </a:lnTo>
                <a:lnTo>
                  <a:pt x="1879" y="931"/>
                </a:lnTo>
                <a:lnTo>
                  <a:pt x="1879" y="903"/>
                </a:lnTo>
                <a:lnTo>
                  <a:pt x="1879" y="869"/>
                </a:lnTo>
                <a:lnTo>
                  <a:pt x="1879" y="835"/>
                </a:lnTo>
                <a:lnTo>
                  <a:pt x="1879" y="801"/>
                </a:lnTo>
                <a:lnTo>
                  <a:pt x="1879" y="766"/>
                </a:lnTo>
                <a:lnTo>
                  <a:pt x="1913" y="732"/>
                </a:lnTo>
                <a:lnTo>
                  <a:pt x="1913" y="698"/>
                </a:lnTo>
                <a:lnTo>
                  <a:pt x="1913" y="664"/>
                </a:lnTo>
                <a:lnTo>
                  <a:pt x="1913" y="636"/>
                </a:lnTo>
                <a:lnTo>
                  <a:pt x="1913" y="602"/>
                </a:lnTo>
                <a:lnTo>
                  <a:pt x="1913" y="568"/>
                </a:lnTo>
                <a:lnTo>
                  <a:pt x="1940" y="534"/>
                </a:lnTo>
                <a:lnTo>
                  <a:pt x="1940" y="500"/>
                </a:lnTo>
                <a:lnTo>
                  <a:pt x="1940" y="465"/>
                </a:lnTo>
                <a:lnTo>
                  <a:pt x="1940" y="431"/>
                </a:lnTo>
                <a:lnTo>
                  <a:pt x="1940" y="404"/>
                </a:lnTo>
                <a:lnTo>
                  <a:pt x="1940" y="370"/>
                </a:lnTo>
                <a:lnTo>
                  <a:pt x="1975" y="335"/>
                </a:lnTo>
                <a:lnTo>
                  <a:pt x="1975" y="301"/>
                </a:lnTo>
                <a:lnTo>
                  <a:pt x="1975" y="267"/>
                </a:lnTo>
                <a:lnTo>
                  <a:pt x="1975" y="233"/>
                </a:lnTo>
                <a:lnTo>
                  <a:pt x="1975" y="199"/>
                </a:lnTo>
                <a:lnTo>
                  <a:pt x="1975" y="164"/>
                </a:lnTo>
                <a:lnTo>
                  <a:pt x="2009" y="137"/>
                </a:lnTo>
                <a:lnTo>
                  <a:pt x="2009" y="103"/>
                </a:lnTo>
                <a:lnTo>
                  <a:pt x="2009" y="69"/>
                </a:lnTo>
                <a:lnTo>
                  <a:pt x="2009" y="34"/>
                </a:lnTo>
                <a:lnTo>
                  <a:pt x="2009" y="0"/>
                </a:lnTo>
                <a:lnTo>
                  <a:pt x="1975" y="0"/>
                </a:lnTo>
                <a:lnTo>
                  <a:pt x="1940" y="0"/>
                </a:lnTo>
                <a:lnTo>
                  <a:pt x="1913" y="0"/>
                </a:lnTo>
                <a:lnTo>
                  <a:pt x="1879" y="34"/>
                </a:lnTo>
                <a:lnTo>
                  <a:pt x="1844" y="34"/>
                </a:lnTo>
                <a:lnTo>
                  <a:pt x="1810" y="69"/>
                </a:lnTo>
                <a:lnTo>
                  <a:pt x="1776" y="69"/>
                </a:lnTo>
                <a:lnTo>
                  <a:pt x="1742" y="69"/>
                </a:lnTo>
                <a:lnTo>
                  <a:pt x="1707" y="103"/>
                </a:lnTo>
                <a:lnTo>
                  <a:pt x="1673" y="103"/>
                </a:lnTo>
                <a:lnTo>
                  <a:pt x="1646" y="137"/>
                </a:lnTo>
                <a:lnTo>
                  <a:pt x="1611" y="137"/>
                </a:lnTo>
                <a:lnTo>
                  <a:pt x="1577" y="164"/>
                </a:lnTo>
                <a:lnTo>
                  <a:pt x="1543" y="164"/>
                </a:lnTo>
                <a:lnTo>
                  <a:pt x="1509" y="199"/>
                </a:lnTo>
                <a:lnTo>
                  <a:pt x="1474" y="199"/>
                </a:lnTo>
                <a:lnTo>
                  <a:pt x="1440" y="199"/>
                </a:lnTo>
                <a:lnTo>
                  <a:pt x="1406" y="233"/>
                </a:lnTo>
                <a:lnTo>
                  <a:pt x="1371" y="233"/>
                </a:lnTo>
                <a:lnTo>
                  <a:pt x="1344" y="267"/>
                </a:lnTo>
                <a:lnTo>
                  <a:pt x="1310" y="267"/>
                </a:lnTo>
                <a:lnTo>
                  <a:pt x="1275" y="301"/>
                </a:lnTo>
                <a:lnTo>
                  <a:pt x="1241" y="301"/>
                </a:lnTo>
                <a:lnTo>
                  <a:pt x="1207" y="335"/>
                </a:lnTo>
                <a:lnTo>
                  <a:pt x="1173" y="335"/>
                </a:lnTo>
                <a:lnTo>
                  <a:pt x="1138" y="335"/>
                </a:lnTo>
                <a:lnTo>
                  <a:pt x="1104" y="370"/>
                </a:lnTo>
                <a:lnTo>
                  <a:pt x="1077" y="370"/>
                </a:lnTo>
                <a:lnTo>
                  <a:pt x="1042" y="404"/>
                </a:lnTo>
                <a:lnTo>
                  <a:pt x="1008" y="404"/>
                </a:lnTo>
                <a:lnTo>
                  <a:pt x="974" y="431"/>
                </a:lnTo>
                <a:lnTo>
                  <a:pt x="940" y="431"/>
                </a:lnTo>
                <a:lnTo>
                  <a:pt x="905" y="465"/>
                </a:lnTo>
                <a:lnTo>
                  <a:pt x="871" y="465"/>
                </a:lnTo>
                <a:lnTo>
                  <a:pt x="837" y="465"/>
                </a:lnTo>
                <a:lnTo>
                  <a:pt x="802" y="500"/>
                </a:lnTo>
                <a:lnTo>
                  <a:pt x="775" y="534"/>
                </a:lnTo>
                <a:lnTo>
                  <a:pt x="741" y="568"/>
                </a:lnTo>
                <a:lnTo>
                  <a:pt x="741" y="602"/>
                </a:lnTo>
                <a:lnTo>
                  <a:pt x="706" y="636"/>
                </a:lnTo>
                <a:lnTo>
                  <a:pt x="672" y="664"/>
                </a:lnTo>
                <a:lnTo>
                  <a:pt x="638" y="698"/>
                </a:lnTo>
                <a:lnTo>
                  <a:pt x="638" y="732"/>
                </a:lnTo>
                <a:lnTo>
                  <a:pt x="604" y="766"/>
                </a:lnTo>
                <a:lnTo>
                  <a:pt x="569" y="801"/>
                </a:lnTo>
                <a:lnTo>
                  <a:pt x="535" y="835"/>
                </a:lnTo>
                <a:lnTo>
                  <a:pt x="535" y="869"/>
                </a:lnTo>
                <a:lnTo>
                  <a:pt x="508" y="903"/>
                </a:lnTo>
                <a:lnTo>
                  <a:pt x="473" y="931"/>
                </a:lnTo>
                <a:lnTo>
                  <a:pt x="473" y="965"/>
                </a:lnTo>
                <a:lnTo>
                  <a:pt x="439" y="999"/>
                </a:lnTo>
                <a:lnTo>
                  <a:pt x="439" y="1033"/>
                </a:lnTo>
                <a:lnTo>
                  <a:pt x="439" y="1068"/>
                </a:lnTo>
                <a:lnTo>
                  <a:pt x="405" y="1102"/>
                </a:lnTo>
                <a:lnTo>
                  <a:pt x="405" y="1136"/>
                </a:lnTo>
                <a:lnTo>
                  <a:pt x="370" y="1163"/>
                </a:lnTo>
                <a:lnTo>
                  <a:pt x="370" y="1198"/>
                </a:lnTo>
                <a:lnTo>
                  <a:pt x="336" y="1232"/>
                </a:lnTo>
                <a:lnTo>
                  <a:pt x="336" y="1266"/>
                </a:lnTo>
                <a:lnTo>
                  <a:pt x="302" y="1300"/>
                </a:lnTo>
                <a:lnTo>
                  <a:pt x="302" y="1334"/>
                </a:lnTo>
                <a:lnTo>
                  <a:pt x="268" y="1369"/>
                </a:lnTo>
                <a:lnTo>
                  <a:pt x="268" y="1403"/>
                </a:lnTo>
                <a:lnTo>
                  <a:pt x="268" y="1430"/>
                </a:lnTo>
                <a:lnTo>
                  <a:pt x="240" y="1464"/>
                </a:lnTo>
                <a:lnTo>
                  <a:pt x="240" y="1499"/>
                </a:lnTo>
                <a:lnTo>
                  <a:pt x="206" y="1533"/>
                </a:lnTo>
                <a:lnTo>
                  <a:pt x="206" y="1567"/>
                </a:lnTo>
                <a:lnTo>
                  <a:pt x="172" y="1601"/>
                </a:lnTo>
                <a:lnTo>
                  <a:pt x="172" y="1636"/>
                </a:lnTo>
                <a:lnTo>
                  <a:pt x="137" y="1670"/>
                </a:lnTo>
                <a:lnTo>
                  <a:pt x="137" y="1697"/>
                </a:lnTo>
                <a:lnTo>
                  <a:pt x="137" y="1731"/>
                </a:lnTo>
                <a:lnTo>
                  <a:pt x="103" y="1766"/>
                </a:lnTo>
                <a:lnTo>
                  <a:pt x="103" y="1800"/>
                </a:lnTo>
                <a:lnTo>
                  <a:pt x="69" y="1834"/>
                </a:lnTo>
                <a:lnTo>
                  <a:pt x="69" y="1868"/>
                </a:lnTo>
                <a:lnTo>
                  <a:pt x="69" y="1902"/>
                </a:lnTo>
                <a:lnTo>
                  <a:pt x="69" y="1930"/>
                </a:lnTo>
                <a:lnTo>
                  <a:pt x="69" y="1964"/>
                </a:lnTo>
                <a:lnTo>
                  <a:pt x="35" y="1998"/>
                </a:lnTo>
                <a:lnTo>
                  <a:pt x="35" y="2032"/>
                </a:lnTo>
                <a:lnTo>
                  <a:pt x="35" y="2067"/>
                </a:lnTo>
                <a:lnTo>
                  <a:pt x="35" y="2101"/>
                </a:lnTo>
                <a:lnTo>
                  <a:pt x="0" y="2135"/>
                </a:lnTo>
                <a:lnTo>
                  <a:pt x="0" y="2169"/>
                </a:lnTo>
                <a:lnTo>
                  <a:pt x="0" y="2197"/>
                </a:lnTo>
                <a:lnTo>
                  <a:pt x="0" y="2231"/>
                </a:lnTo>
                <a:lnTo>
                  <a:pt x="0" y="2265"/>
                </a:lnTo>
                <a:lnTo>
                  <a:pt x="0" y="2299"/>
                </a:lnTo>
                <a:lnTo>
                  <a:pt x="0" y="2333"/>
                </a:lnTo>
                <a:lnTo>
                  <a:pt x="0" y="2368"/>
                </a:lnTo>
                <a:lnTo>
                  <a:pt x="0" y="2402"/>
                </a:lnTo>
                <a:lnTo>
                  <a:pt x="0" y="2429"/>
                </a:lnTo>
                <a:lnTo>
                  <a:pt x="0" y="2463"/>
                </a:lnTo>
                <a:lnTo>
                  <a:pt x="0" y="2498"/>
                </a:lnTo>
                <a:lnTo>
                  <a:pt x="0" y="2532"/>
                </a:lnTo>
                <a:lnTo>
                  <a:pt x="35" y="2566"/>
                </a:lnTo>
                <a:lnTo>
                  <a:pt x="35" y="2600"/>
                </a:lnTo>
                <a:lnTo>
                  <a:pt x="35" y="2635"/>
                </a:lnTo>
                <a:lnTo>
                  <a:pt x="35" y="2669"/>
                </a:lnTo>
                <a:lnTo>
                  <a:pt x="35" y="2696"/>
                </a:lnTo>
                <a:lnTo>
                  <a:pt x="35" y="2730"/>
                </a:lnTo>
                <a:lnTo>
                  <a:pt x="35" y="2765"/>
                </a:lnTo>
                <a:lnTo>
                  <a:pt x="35" y="2799"/>
                </a:lnTo>
                <a:lnTo>
                  <a:pt x="35" y="2833"/>
                </a:lnTo>
                <a:lnTo>
                  <a:pt x="69" y="2867"/>
                </a:lnTo>
                <a:lnTo>
                  <a:pt x="69" y="2901"/>
                </a:lnTo>
                <a:lnTo>
                  <a:pt x="103" y="2936"/>
                </a:lnTo>
                <a:lnTo>
                  <a:pt x="137" y="2963"/>
                </a:lnTo>
                <a:lnTo>
                  <a:pt x="172" y="2997"/>
                </a:lnTo>
                <a:lnTo>
                  <a:pt x="206" y="3031"/>
                </a:lnTo>
                <a:lnTo>
                  <a:pt x="240" y="3066"/>
                </a:lnTo>
                <a:lnTo>
                  <a:pt x="268" y="3100"/>
                </a:lnTo>
                <a:lnTo>
                  <a:pt x="302" y="3134"/>
                </a:lnTo>
                <a:lnTo>
                  <a:pt x="336" y="3134"/>
                </a:lnTo>
                <a:lnTo>
                  <a:pt x="370" y="3168"/>
                </a:lnTo>
                <a:lnTo>
                  <a:pt x="405" y="3168"/>
                </a:lnTo>
                <a:lnTo>
                  <a:pt x="439" y="3168"/>
                </a:lnTo>
                <a:lnTo>
                  <a:pt x="473" y="3196"/>
                </a:lnTo>
                <a:lnTo>
                  <a:pt x="508" y="3196"/>
                </a:lnTo>
                <a:lnTo>
                  <a:pt x="535" y="3230"/>
                </a:lnTo>
                <a:lnTo>
                  <a:pt x="569" y="3230"/>
                </a:lnTo>
                <a:lnTo>
                  <a:pt x="604" y="3230"/>
                </a:lnTo>
                <a:lnTo>
                  <a:pt x="638" y="3230"/>
                </a:lnTo>
                <a:lnTo>
                  <a:pt x="672" y="3230"/>
                </a:lnTo>
                <a:lnTo>
                  <a:pt x="706" y="3230"/>
                </a:lnTo>
                <a:close/>
                <a:moveTo>
                  <a:pt x="370" y="2696"/>
                </a:moveTo>
                <a:lnTo>
                  <a:pt x="384" y="2682"/>
                </a:lnTo>
                <a:lnTo>
                  <a:pt x="391" y="2669"/>
                </a:lnTo>
                <a:lnTo>
                  <a:pt x="398" y="2662"/>
                </a:lnTo>
                <a:lnTo>
                  <a:pt x="405" y="2662"/>
                </a:lnTo>
                <a:lnTo>
                  <a:pt x="405" y="2669"/>
                </a:lnTo>
                <a:lnTo>
                  <a:pt x="405" y="2682"/>
                </a:lnTo>
                <a:lnTo>
                  <a:pt x="405" y="2696"/>
                </a:lnTo>
                <a:lnTo>
                  <a:pt x="398" y="2703"/>
                </a:lnTo>
                <a:lnTo>
                  <a:pt x="391" y="2703"/>
                </a:lnTo>
                <a:lnTo>
                  <a:pt x="384" y="2703"/>
                </a:lnTo>
                <a:lnTo>
                  <a:pt x="370" y="2696"/>
                </a:lnTo>
                <a:close/>
                <a:moveTo>
                  <a:pt x="508" y="1464"/>
                </a:moveTo>
                <a:lnTo>
                  <a:pt x="508" y="1458"/>
                </a:lnTo>
                <a:lnTo>
                  <a:pt x="508" y="1444"/>
                </a:lnTo>
                <a:lnTo>
                  <a:pt x="508" y="1437"/>
                </a:lnTo>
                <a:lnTo>
                  <a:pt x="508" y="1430"/>
                </a:lnTo>
                <a:lnTo>
                  <a:pt x="508" y="1417"/>
                </a:lnTo>
                <a:lnTo>
                  <a:pt x="508" y="1410"/>
                </a:lnTo>
                <a:lnTo>
                  <a:pt x="508" y="1396"/>
                </a:lnTo>
                <a:lnTo>
                  <a:pt x="508" y="1382"/>
                </a:lnTo>
                <a:lnTo>
                  <a:pt x="508" y="1369"/>
                </a:lnTo>
                <a:lnTo>
                  <a:pt x="508" y="1369"/>
                </a:lnTo>
                <a:lnTo>
                  <a:pt x="508" y="1369"/>
                </a:lnTo>
                <a:lnTo>
                  <a:pt x="508" y="1382"/>
                </a:lnTo>
                <a:lnTo>
                  <a:pt x="508" y="1396"/>
                </a:lnTo>
                <a:lnTo>
                  <a:pt x="508" y="1410"/>
                </a:lnTo>
                <a:lnTo>
                  <a:pt x="508" y="1417"/>
                </a:lnTo>
                <a:lnTo>
                  <a:pt x="508" y="1430"/>
                </a:lnTo>
                <a:lnTo>
                  <a:pt x="508" y="1437"/>
                </a:lnTo>
                <a:lnTo>
                  <a:pt x="508" y="1444"/>
                </a:lnTo>
                <a:lnTo>
                  <a:pt x="508" y="1458"/>
                </a:lnTo>
                <a:lnTo>
                  <a:pt x="508" y="1464"/>
                </a:lnTo>
                <a:close/>
                <a:moveTo>
                  <a:pt x="501" y="1300"/>
                </a:moveTo>
                <a:lnTo>
                  <a:pt x="494" y="1287"/>
                </a:lnTo>
                <a:lnTo>
                  <a:pt x="487" y="1273"/>
                </a:lnTo>
                <a:lnTo>
                  <a:pt x="487" y="1266"/>
                </a:lnTo>
                <a:lnTo>
                  <a:pt x="494" y="1259"/>
                </a:lnTo>
                <a:lnTo>
                  <a:pt x="501" y="1259"/>
                </a:lnTo>
                <a:lnTo>
                  <a:pt x="508" y="1259"/>
                </a:lnTo>
                <a:lnTo>
                  <a:pt x="521" y="1259"/>
                </a:lnTo>
                <a:lnTo>
                  <a:pt x="528" y="1259"/>
                </a:lnTo>
                <a:lnTo>
                  <a:pt x="528" y="1266"/>
                </a:lnTo>
                <a:lnTo>
                  <a:pt x="535" y="1273"/>
                </a:lnTo>
                <a:lnTo>
                  <a:pt x="542" y="1287"/>
                </a:lnTo>
                <a:lnTo>
                  <a:pt x="549" y="1293"/>
                </a:lnTo>
                <a:lnTo>
                  <a:pt x="556" y="1293"/>
                </a:lnTo>
                <a:lnTo>
                  <a:pt x="562" y="1300"/>
                </a:lnTo>
                <a:lnTo>
                  <a:pt x="569" y="1300"/>
                </a:lnTo>
                <a:lnTo>
                  <a:pt x="569" y="1300"/>
                </a:lnTo>
                <a:lnTo>
                  <a:pt x="562" y="1307"/>
                </a:lnTo>
                <a:lnTo>
                  <a:pt x="556" y="1307"/>
                </a:lnTo>
                <a:lnTo>
                  <a:pt x="542" y="1314"/>
                </a:lnTo>
                <a:lnTo>
                  <a:pt x="535" y="1314"/>
                </a:lnTo>
                <a:lnTo>
                  <a:pt x="528" y="1321"/>
                </a:lnTo>
                <a:lnTo>
                  <a:pt x="514" y="1328"/>
                </a:lnTo>
                <a:lnTo>
                  <a:pt x="508" y="1328"/>
                </a:lnTo>
                <a:lnTo>
                  <a:pt x="508" y="1321"/>
                </a:lnTo>
                <a:lnTo>
                  <a:pt x="501" y="1314"/>
                </a:lnTo>
                <a:lnTo>
                  <a:pt x="501" y="1300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3" name=""/>
          <p:cNvSpPr/>
          <p:nvPr/>
        </p:nvSpPr>
        <p:spPr>
          <a:xfrm>
            <a:off x="3898800" y="1255680"/>
            <a:ext cx="3189240" cy="5127480"/>
          </a:xfrm>
          <a:custGeom>
            <a:avLst/>
            <a:gdLst/>
            <a:ahLst/>
            <a:rect l="l" t="t" r="r" b="b"/>
            <a:pathLst>
              <a:path w="2009" h="3230">
                <a:moveTo>
                  <a:pt x="706" y="3230"/>
                </a:moveTo>
                <a:lnTo>
                  <a:pt x="741" y="3196"/>
                </a:lnTo>
                <a:lnTo>
                  <a:pt x="775" y="3196"/>
                </a:lnTo>
                <a:lnTo>
                  <a:pt x="802" y="3196"/>
                </a:lnTo>
                <a:lnTo>
                  <a:pt x="837" y="3168"/>
                </a:lnTo>
                <a:lnTo>
                  <a:pt x="871" y="3168"/>
                </a:lnTo>
                <a:lnTo>
                  <a:pt x="905" y="3168"/>
                </a:lnTo>
                <a:lnTo>
                  <a:pt x="940" y="3134"/>
                </a:lnTo>
                <a:lnTo>
                  <a:pt x="974" y="3134"/>
                </a:lnTo>
                <a:lnTo>
                  <a:pt x="1008" y="3134"/>
                </a:lnTo>
                <a:lnTo>
                  <a:pt x="1042" y="3100"/>
                </a:lnTo>
                <a:lnTo>
                  <a:pt x="1077" y="3100"/>
                </a:lnTo>
                <a:lnTo>
                  <a:pt x="1077" y="3066"/>
                </a:lnTo>
                <a:lnTo>
                  <a:pt x="1104" y="3031"/>
                </a:lnTo>
                <a:lnTo>
                  <a:pt x="1104" y="2997"/>
                </a:lnTo>
                <a:lnTo>
                  <a:pt x="1138" y="2963"/>
                </a:lnTo>
                <a:lnTo>
                  <a:pt x="1138" y="2936"/>
                </a:lnTo>
                <a:lnTo>
                  <a:pt x="1173" y="2901"/>
                </a:lnTo>
                <a:lnTo>
                  <a:pt x="1173" y="2867"/>
                </a:lnTo>
                <a:lnTo>
                  <a:pt x="1207" y="2833"/>
                </a:lnTo>
                <a:lnTo>
                  <a:pt x="1207" y="2799"/>
                </a:lnTo>
                <a:lnTo>
                  <a:pt x="1241" y="2765"/>
                </a:lnTo>
                <a:lnTo>
                  <a:pt x="1241" y="2730"/>
                </a:lnTo>
                <a:lnTo>
                  <a:pt x="1275" y="2696"/>
                </a:lnTo>
                <a:lnTo>
                  <a:pt x="1275" y="2669"/>
                </a:lnTo>
                <a:lnTo>
                  <a:pt x="1310" y="2635"/>
                </a:lnTo>
                <a:lnTo>
                  <a:pt x="1310" y="2600"/>
                </a:lnTo>
                <a:lnTo>
                  <a:pt x="1344" y="2566"/>
                </a:lnTo>
                <a:lnTo>
                  <a:pt x="1344" y="2532"/>
                </a:lnTo>
                <a:lnTo>
                  <a:pt x="1371" y="2498"/>
                </a:lnTo>
                <a:lnTo>
                  <a:pt x="1371" y="2463"/>
                </a:lnTo>
                <a:lnTo>
                  <a:pt x="1406" y="2429"/>
                </a:lnTo>
                <a:lnTo>
                  <a:pt x="1406" y="2402"/>
                </a:lnTo>
                <a:lnTo>
                  <a:pt x="1440" y="2368"/>
                </a:lnTo>
                <a:lnTo>
                  <a:pt x="1440" y="2333"/>
                </a:lnTo>
                <a:lnTo>
                  <a:pt x="1474" y="2299"/>
                </a:lnTo>
                <a:lnTo>
                  <a:pt x="1474" y="2265"/>
                </a:lnTo>
                <a:lnTo>
                  <a:pt x="1509" y="2231"/>
                </a:lnTo>
                <a:lnTo>
                  <a:pt x="1509" y="2197"/>
                </a:lnTo>
                <a:lnTo>
                  <a:pt x="1543" y="2169"/>
                </a:lnTo>
                <a:lnTo>
                  <a:pt x="1543" y="2135"/>
                </a:lnTo>
                <a:lnTo>
                  <a:pt x="1577" y="2101"/>
                </a:lnTo>
                <a:lnTo>
                  <a:pt x="1577" y="2067"/>
                </a:lnTo>
                <a:lnTo>
                  <a:pt x="1611" y="2032"/>
                </a:lnTo>
                <a:lnTo>
                  <a:pt x="1611" y="1998"/>
                </a:lnTo>
                <a:lnTo>
                  <a:pt x="1646" y="1964"/>
                </a:lnTo>
                <a:lnTo>
                  <a:pt x="1646" y="1930"/>
                </a:lnTo>
                <a:lnTo>
                  <a:pt x="1673" y="1902"/>
                </a:lnTo>
                <a:lnTo>
                  <a:pt x="1673" y="1868"/>
                </a:lnTo>
                <a:lnTo>
                  <a:pt x="1707" y="1834"/>
                </a:lnTo>
                <a:lnTo>
                  <a:pt x="1707" y="1800"/>
                </a:lnTo>
                <a:lnTo>
                  <a:pt x="1707" y="1766"/>
                </a:lnTo>
                <a:lnTo>
                  <a:pt x="1707" y="1731"/>
                </a:lnTo>
                <a:lnTo>
                  <a:pt x="1742" y="1697"/>
                </a:lnTo>
                <a:lnTo>
                  <a:pt x="1742" y="1670"/>
                </a:lnTo>
                <a:lnTo>
                  <a:pt x="1742" y="1636"/>
                </a:lnTo>
                <a:lnTo>
                  <a:pt x="1742" y="1601"/>
                </a:lnTo>
                <a:lnTo>
                  <a:pt x="1742" y="1567"/>
                </a:lnTo>
                <a:lnTo>
                  <a:pt x="1742" y="1533"/>
                </a:lnTo>
                <a:lnTo>
                  <a:pt x="1776" y="1499"/>
                </a:lnTo>
                <a:lnTo>
                  <a:pt x="1776" y="1464"/>
                </a:lnTo>
                <a:lnTo>
                  <a:pt x="1776" y="1430"/>
                </a:lnTo>
                <a:lnTo>
                  <a:pt x="1776" y="1403"/>
                </a:lnTo>
                <a:lnTo>
                  <a:pt x="1776" y="1369"/>
                </a:lnTo>
                <a:lnTo>
                  <a:pt x="1776" y="1334"/>
                </a:lnTo>
                <a:lnTo>
                  <a:pt x="1810" y="1300"/>
                </a:lnTo>
                <a:lnTo>
                  <a:pt x="1810" y="1266"/>
                </a:lnTo>
                <a:lnTo>
                  <a:pt x="1810" y="1232"/>
                </a:lnTo>
                <a:lnTo>
                  <a:pt x="1810" y="1198"/>
                </a:lnTo>
                <a:lnTo>
                  <a:pt x="1810" y="1163"/>
                </a:lnTo>
                <a:lnTo>
                  <a:pt x="1810" y="1136"/>
                </a:lnTo>
                <a:lnTo>
                  <a:pt x="1844" y="1102"/>
                </a:lnTo>
                <a:lnTo>
                  <a:pt x="1844" y="1068"/>
                </a:lnTo>
                <a:lnTo>
                  <a:pt x="1844" y="1033"/>
                </a:lnTo>
                <a:lnTo>
                  <a:pt x="1844" y="999"/>
                </a:lnTo>
                <a:lnTo>
                  <a:pt x="1844" y="965"/>
                </a:lnTo>
                <a:lnTo>
                  <a:pt x="1879" y="931"/>
                </a:lnTo>
                <a:lnTo>
                  <a:pt x="1879" y="903"/>
                </a:lnTo>
                <a:lnTo>
                  <a:pt x="1879" y="869"/>
                </a:lnTo>
                <a:lnTo>
                  <a:pt x="1879" y="835"/>
                </a:lnTo>
                <a:lnTo>
                  <a:pt x="1879" y="801"/>
                </a:lnTo>
                <a:lnTo>
                  <a:pt x="1879" y="766"/>
                </a:lnTo>
                <a:lnTo>
                  <a:pt x="1913" y="732"/>
                </a:lnTo>
                <a:lnTo>
                  <a:pt x="1913" y="698"/>
                </a:lnTo>
                <a:lnTo>
                  <a:pt x="1913" y="664"/>
                </a:lnTo>
                <a:lnTo>
                  <a:pt x="1913" y="636"/>
                </a:lnTo>
                <a:lnTo>
                  <a:pt x="1913" y="602"/>
                </a:lnTo>
                <a:lnTo>
                  <a:pt x="1913" y="568"/>
                </a:lnTo>
                <a:lnTo>
                  <a:pt x="1940" y="534"/>
                </a:lnTo>
                <a:lnTo>
                  <a:pt x="1940" y="500"/>
                </a:lnTo>
                <a:lnTo>
                  <a:pt x="1940" y="465"/>
                </a:lnTo>
                <a:lnTo>
                  <a:pt x="1940" y="431"/>
                </a:lnTo>
                <a:lnTo>
                  <a:pt x="1940" y="404"/>
                </a:lnTo>
                <a:lnTo>
                  <a:pt x="1940" y="370"/>
                </a:lnTo>
                <a:lnTo>
                  <a:pt x="1975" y="335"/>
                </a:lnTo>
                <a:lnTo>
                  <a:pt x="1975" y="301"/>
                </a:lnTo>
                <a:lnTo>
                  <a:pt x="1975" y="267"/>
                </a:lnTo>
                <a:lnTo>
                  <a:pt x="1975" y="233"/>
                </a:lnTo>
                <a:lnTo>
                  <a:pt x="1975" y="199"/>
                </a:lnTo>
                <a:lnTo>
                  <a:pt x="1975" y="164"/>
                </a:lnTo>
                <a:lnTo>
                  <a:pt x="2009" y="137"/>
                </a:lnTo>
                <a:lnTo>
                  <a:pt x="2009" y="103"/>
                </a:lnTo>
                <a:lnTo>
                  <a:pt x="2009" y="69"/>
                </a:lnTo>
                <a:lnTo>
                  <a:pt x="2009" y="34"/>
                </a:lnTo>
                <a:lnTo>
                  <a:pt x="2009" y="0"/>
                </a:lnTo>
                <a:lnTo>
                  <a:pt x="1975" y="0"/>
                </a:lnTo>
                <a:lnTo>
                  <a:pt x="1940" y="0"/>
                </a:lnTo>
                <a:lnTo>
                  <a:pt x="1913" y="0"/>
                </a:lnTo>
                <a:lnTo>
                  <a:pt x="1879" y="34"/>
                </a:lnTo>
                <a:lnTo>
                  <a:pt x="1844" y="34"/>
                </a:lnTo>
                <a:lnTo>
                  <a:pt x="1810" y="69"/>
                </a:lnTo>
                <a:lnTo>
                  <a:pt x="1776" y="69"/>
                </a:lnTo>
                <a:lnTo>
                  <a:pt x="1742" y="69"/>
                </a:lnTo>
                <a:lnTo>
                  <a:pt x="1707" y="103"/>
                </a:lnTo>
                <a:lnTo>
                  <a:pt x="1673" y="103"/>
                </a:lnTo>
                <a:lnTo>
                  <a:pt x="1646" y="137"/>
                </a:lnTo>
                <a:lnTo>
                  <a:pt x="1611" y="137"/>
                </a:lnTo>
                <a:lnTo>
                  <a:pt x="1577" y="164"/>
                </a:lnTo>
                <a:lnTo>
                  <a:pt x="1543" y="164"/>
                </a:lnTo>
                <a:lnTo>
                  <a:pt x="1509" y="199"/>
                </a:lnTo>
                <a:lnTo>
                  <a:pt x="1474" y="199"/>
                </a:lnTo>
                <a:lnTo>
                  <a:pt x="1440" y="199"/>
                </a:lnTo>
                <a:lnTo>
                  <a:pt x="1406" y="233"/>
                </a:lnTo>
                <a:lnTo>
                  <a:pt x="1371" y="233"/>
                </a:lnTo>
                <a:lnTo>
                  <a:pt x="1344" y="267"/>
                </a:lnTo>
                <a:lnTo>
                  <a:pt x="1310" y="267"/>
                </a:lnTo>
                <a:lnTo>
                  <a:pt x="1275" y="301"/>
                </a:lnTo>
                <a:lnTo>
                  <a:pt x="1241" y="301"/>
                </a:lnTo>
                <a:lnTo>
                  <a:pt x="1207" y="335"/>
                </a:lnTo>
                <a:lnTo>
                  <a:pt x="1173" y="335"/>
                </a:lnTo>
                <a:lnTo>
                  <a:pt x="1138" y="335"/>
                </a:lnTo>
                <a:lnTo>
                  <a:pt x="1104" y="370"/>
                </a:lnTo>
                <a:lnTo>
                  <a:pt x="1077" y="370"/>
                </a:lnTo>
                <a:lnTo>
                  <a:pt x="1042" y="404"/>
                </a:lnTo>
                <a:lnTo>
                  <a:pt x="1008" y="404"/>
                </a:lnTo>
                <a:lnTo>
                  <a:pt x="974" y="431"/>
                </a:lnTo>
                <a:lnTo>
                  <a:pt x="940" y="431"/>
                </a:lnTo>
                <a:lnTo>
                  <a:pt x="905" y="465"/>
                </a:lnTo>
                <a:lnTo>
                  <a:pt x="871" y="465"/>
                </a:lnTo>
                <a:lnTo>
                  <a:pt x="837" y="465"/>
                </a:lnTo>
                <a:lnTo>
                  <a:pt x="802" y="500"/>
                </a:lnTo>
                <a:lnTo>
                  <a:pt x="775" y="534"/>
                </a:lnTo>
                <a:lnTo>
                  <a:pt x="741" y="568"/>
                </a:lnTo>
                <a:lnTo>
                  <a:pt x="741" y="602"/>
                </a:lnTo>
                <a:lnTo>
                  <a:pt x="706" y="636"/>
                </a:lnTo>
                <a:lnTo>
                  <a:pt x="672" y="664"/>
                </a:lnTo>
                <a:lnTo>
                  <a:pt x="638" y="698"/>
                </a:lnTo>
                <a:lnTo>
                  <a:pt x="638" y="732"/>
                </a:lnTo>
                <a:lnTo>
                  <a:pt x="604" y="766"/>
                </a:lnTo>
                <a:lnTo>
                  <a:pt x="569" y="801"/>
                </a:lnTo>
                <a:lnTo>
                  <a:pt x="535" y="835"/>
                </a:lnTo>
                <a:lnTo>
                  <a:pt x="535" y="869"/>
                </a:lnTo>
                <a:lnTo>
                  <a:pt x="508" y="903"/>
                </a:lnTo>
                <a:lnTo>
                  <a:pt x="473" y="931"/>
                </a:lnTo>
                <a:lnTo>
                  <a:pt x="473" y="965"/>
                </a:lnTo>
                <a:lnTo>
                  <a:pt x="439" y="999"/>
                </a:lnTo>
                <a:lnTo>
                  <a:pt x="439" y="1033"/>
                </a:lnTo>
                <a:lnTo>
                  <a:pt x="439" y="1068"/>
                </a:lnTo>
                <a:lnTo>
                  <a:pt x="405" y="1102"/>
                </a:lnTo>
                <a:lnTo>
                  <a:pt x="405" y="1136"/>
                </a:lnTo>
                <a:lnTo>
                  <a:pt x="370" y="1163"/>
                </a:lnTo>
                <a:lnTo>
                  <a:pt x="370" y="1198"/>
                </a:lnTo>
                <a:lnTo>
                  <a:pt x="336" y="1232"/>
                </a:lnTo>
                <a:lnTo>
                  <a:pt x="336" y="1266"/>
                </a:lnTo>
                <a:lnTo>
                  <a:pt x="302" y="1300"/>
                </a:lnTo>
                <a:lnTo>
                  <a:pt x="302" y="1334"/>
                </a:lnTo>
                <a:lnTo>
                  <a:pt x="268" y="1369"/>
                </a:lnTo>
                <a:lnTo>
                  <a:pt x="268" y="1403"/>
                </a:lnTo>
                <a:lnTo>
                  <a:pt x="268" y="1430"/>
                </a:lnTo>
                <a:lnTo>
                  <a:pt x="240" y="1464"/>
                </a:lnTo>
                <a:lnTo>
                  <a:pt x="240" y="1499"/>
                </a:lnTo>
                <a:lnTo>
                  <a:pt x="206" y="1533"/>
                </a:lnTo>
                <a:lnTo>
                  <a:pt x="206" y="1567"/>
                </a:lnTo>
                <a:lnTo>
                  <a:pt x="172" y="1601"/>
                </a:lnTo>
                <a:lnTo>
                  <a:pt x="172" y="1636"/>
                </a:lnTo>
                <a:lnTo>
                  <a:pt x="137" y="1670"/>
                </a:lnTo>
                <a:lnTo>
                  <a:pt x="137" y="1697"/>
                </a:lnTo>
                <a:lnTo>
                  <a:pt x="137" y="1731"/>
                </a:lnTo>
                <a:lnTo>
                  <a:pt x="103" y="1766"/>
                </a:lnTo>
                <a:lnTo>
                  <a:pt x="103" y="1800"/>
                </a:lnTo>
                <a:lnTo>
                  <a:pt x="69" y="1834"/>
                </a:lnTo>
                <a:lnTo>
                  <a:pt x="69" y="1868"/>
                </a:lnTo>
                <a:lnTo>
                  <a:pt x="69" y="1902"/>
                </a:lnTo>
                <a:lnTo>
                  <a:pt x="69" y="1930"/>
                </a:lnTo>
                <a:lnTo>
                  <a:pt x="69" y="1964"/>
                </a:lnTo>
                <a:lnTo>
                  <a:pt x="35" y="1998"/>
                </a:lnTo>
                <a:lnTo>
                  <a:pt x="35" y="2032"/>
                </a:lnTo>
                <a:lnTo>
                  <a:pt x="35" y="2067"/>
                </a:lnTo>
                <a:lnTo>
                  <a:pt x="35" y="2101"/>
                </a:lnTo>
                <a:lnTo>
                  <a:pt x="0" y="2135"/>
                </a:lnTo>
                <a:lnTo>
                  <a:pt x="0" y="2169"/>
                </a:lnTo>
                <a:lnTo>
                  <a:pt x="0" y="2197"/>
                </a:lnTo>
                <a:lnTo>
                  <a:pt x="0" y="2231"/>
                </a:lnTo>
                <a:lnTo>
                  <a:pt x="0" y="2265"/>
                </a:lnTo>
                <a:lnTo>
                  <a:pt x="0" y="2299"/>
                </a:lnTo>
                <a:lnTo>
                  <a:pt x="0" y="2333"/>
                </a:lnTo>
                <a:lnTo>
                  <a:pt x="0" y="2368"/>
                </a:lnTo>
                <a:lnTo>
                  <a:pt x="0" y="2402"/>
                </a:lnTo>
                <a:lnTo>
                  <a:pt x="0" y="2429"/>
                </a:lnTo>
                <a:lnTo>
                  <a:pt x="0" y="2463"/>
                </a:lnTo>
                <a:lnTo>
                  <a:pt x="0" y="2498"/>
                </a:lnTo>
                <a:lnTo>
                  <a:pt x="0" y="2532"/>
                </a:lnTo>
                <a:lnTo>
                  <a:pt x="35" y="2566"/>
                </a:lnTo>
                <a:lnTo>
                  <a:pt x="35" y="2600"/>
                </a:lnTo>
                <a:lnTo>
                  <a:pt x="35" y="2635"/>
                </a:lnTo>
                <a:lnTo>
                  <a:pt x="35" y="2669"/>
                </a:lnTo>
                <a:lnTo>
                  <a:pt x="35" y="2696"/>
                </a:lnTo>
                <a:lnTo>
                  <a:pt x="35" y="2730"/>
                </a:lnTo>
                <a:lnTo>
                  <a:pt x="35" y="2765"/>
                </a:lnTo>
                <a:lnTo>
                  <a:pt x="35" y="2799"/>
                </a:lnTo>
                <a:lnTo>
                  <a:pt x="35" y="2833"/>
                </a:lnTo>
                <a:lnTo>
                  <a:pt x="69" y="2867"/>
                </a:lnTo>
                <a:lnTo>
                  <a:pt x="69" y="2901"/>
                </a:lnTo>
                <a:lnTo>
                  <a:pt x="103" y="2936"/>
                </a:lnTo>
                <a:lnTo>
                  <a:pt x="137" y="2963"/>
                </a:lnTo>
                <a:lnTo>
                  <a:pt x="172" y="2997"/>
                </a:lnTo>
                <a:lnTo>
                  <a:pt x="206" y="3031"/>
                </a:lnTo>
                <a:lnTo>
                  <a:pt x="240" y="3066"/>
                </a:lnTo>
                <a:lnTo>
                  <a:pt x="268" y="3100"/>
                </a:lnTo>
                <a:lnTo>
                  <a:pt x="302" y="3134"/>
                </a:lnTo>
                <a:lnTo>
                  <a:pt x="336" y="3134"/>
                </a:lnTo>
                <a:lnTo>
                  <a:pt x="370" y="3168"/>
                </a:lnTo>
                <a:lnTo>
                  <a:pt x="405" y="3168"/>
                </a:lnTo>
                <a:lnTo>
                  <a:pt x="439" y="3168"/>
                </a:lnTo>
                <a:lnTo>
                  <a:pt x="473" y="3196"/>
                </a:lnTo>
                <a:lnTo>
                  <a:pt x="508" y="3196"/>
                </a:lnTo>
                <a:lnTo>
                  <a:pt x="535" y="3230"/>
                </a:lnTo>
                <a:lnTo>
                  <a:pt x="569" y="3230"/>
                </a:lnTo>
                <a:lnTo>
                  <a:pt x="604" y="3230"/>
                </a:lnTo>
                <a:lnTo>
                  <a:pt x="638" y="3230"/>
                </a:lnTo>
                <a:lnTo>
                  <a:pt x="672" y="3230"/>
                </a:lnTo>
                <a:lnTo>
                  <a:pt x="706" y="3230"/>
                </a:lnTo>
                <a:close/>
                <a:moveTo>
                  <a:pt x="370" y="2696"/>
                </a:moveTo>
                <a:lnTo>
                  <a:pt x="384" y="2682"/>
                </a:lnTo>
                <a:lnTo>
                  <a:pt x="391" y="2669"/>
                </a:lnTo>
                <a:lnTo>
                  <a:pt x="398" y="2662"/>
                </a:lnTo>
                <a:lnTo>
                  <a:pt x="405" y="2662"/>
                </a:lnTo>
                <a:lnTo>
                  <a:pt x="405" y="2669"/>
                </a:lnTo>
                <a:lnTo>
                  <a:pt x="405" y="2682"/>
                </a:lnTo>
                <a:lnTo>
                  <a:pt x="405" y="2696"/>
                </a:lnTo>
                <a:lnTo>
                  <a:pt x="398" y="2703"/>
                </a:lnTo>
                <a:lnTo>
                  <a:pt x="391" y="2703"/>
                </a:lnTo>
                <a:lnTo>
                  <a:pt x="384" y="2703"/>
                </a:lnTo>
                <a:lnTo>
                  <a:pt x="370" y="2696"/>
                </a:lnTo>
                <a:close/>
                <a:moveTo>
                  <a:pt x="508" y="1464"/>
                </a:moveTo>
                <a:lnTo>
                  <a:pt x="508" y="1458"/>
                </a:lnTo>
                <a:lnTo>
                  <a:pt x="508" y="1444"/>
                </a:lnTo>
                <a:lnTo>
                  <a:pt x="508" y="1437"/>
                </a:lnTo>
                <a:lnTo>
                  <a:pt x="508" y="1430"/>
                </a:lnTo>
                <a:lnTo>
                  <a:pt x="508" y="1417"/>
                </a:lnTo>
                <a:lnTo>
                  <a:pt x="508" y="1410"/>
                </a:lnTo>
                <a:lnTo>
                  <a:pt x="508" y="1396"/>
                </a:lnTo>
                <a:lnTo>
                  <a:pt x="508" y="1382"/>
                </a:lnTo>
                <a:lnTo>
                  <a:pt x="508" y="1369"/>
                </a:lnTo>
                <a:lnTo>
                  <a:pt x="508" y="1369"/>
                </a:lnTo>
                <a:lnTo>
                  <a:pt x="508" y="1369"/>
                </a:lnTo>
                <a:lnTo>
                  <a:pt x="508" y="1382"/>
                </a:lnTo>
                <a:lnTo>
                  <a:pt x="508" y="1396"/>
                </a:lnTo>
                <a:lnTo>
                  <a:pt x="508" y="1410"/>
                </a:lnTo>
                <a:lnTo>
                  <a:pt x="508" y="1417"/>
                </a:lnTo>
                <a:lnTo>
                  <a:pt x="508" y="1430"/>
                </a:lnTo>
                <a:lnTo>
                  <a:pt x="508" y="1437"/>
                </a:lnTo>
                <a:lnTo>
                  <a:pt x="508" y="1444"/>
                </a:lnTo>
                <a:lnTo>
                  <a:pt x="508" y="1458"/>
                </a:lnTo>
                <a:lnTo>
                  <a:pt x="508" y="1464"/>
                </a:lnTo>
                <a:close/>
                <a:moveTo>
                  <a:pt x="501" y="1300"/>
                </a:moveTo>
                <a:lnTo>
                  <a:pt x="494" y="1287"/>
                </a:lnTo>
                <a:lnTo>
                  <a:pt x="487" y="1273"/>
                </a:lnTo>
                <a:lnTo>
                  <a:pt x="487" y="1266"/>
                </a:lnTo>
                <a:lnTo>
                  <a:pt x="494" y="1259"/>
                </a:lnTo>
                <a:lnTo>
                  <a:pt x="501" y="1259"/>
                </a:lnTo>
                <a:lnTo>
                  <a:pt x="508" y="1259"/>
                </a:lnTo>
                <a:lnTo>
                  <a:pt x="521" y="1259"/>
                </a:lnTo>
                <a:lnTo>
                  <a:pt x="528" y="1259"/>
                </a:lnTo>
                <a:lnTo>
                  <a:pt x="528" y="1266"/>
                </a:lnTo>
                <a:lnTo>
                  <a:pt x="535" y="1273"/>
                </a:lnTo>
                <a:lnTo>
                  <a:pt x="542" y="1287"/>
                </a:lnTo>
                <a:lnTo>
                  <a:pt x="549" y="1293"/>
                </a:lnTo>
                <a:lnTo>
                  <a:pt x="556" y="1293"/>
                </a:lnTo>
                <a:lnTo>
                  <a:pt x="562" y="1300"/>
                </a:lnTo>
                <a:lnTo>
                  <a:pt x="569" y="1300"/>
                </a:lnTo>
                <a:lnTo>
                  <a:pt x="569" y="1300"/>
                </a:lnTo>
                <a:lnTo>
                  <a:pt x="562" y="1307"/>
                </a:lnTo>
                <a:lnTo>
                  <a:pt x="556" y="1307"/>
                </a:lnTo>
                <a:lnTo>
                  <a:pt x="542" y="1314"/>
                </a:lnTo>
                <a:lnTo>
                  <a:pt x="535" y="1314"/>
                </a:lnTo>
                <a:lnTo>
                  <a:pt x="528" y="1321"/>
                </a:lnTo>
                <a:lnTo>
                  <a:pt x="514" y="1328"/>
                </a:lnTo>
                <a:lnTo>
                  <a:pt x="508" y="1328"/>
                </a:lnTo>
                <a:lnTo>
                  <a:pt x="508" y="1321"/>
                </a:lnTo>
                <a:lnTo>
                  <a:pt x="501" y="1314"/>
                </a:lnTo>
                <a:lnTo>
                  <a:pt x="501" y="1300"/>
                </a:lnTo>
                <a:close/>
                <a:moveTo>
                  <a:pt x="706" y="3230"/>
                </a:moveTo>
                <a:lnTo>
                  <a:pt x="741" y="3196"/>
                </a:lnTo>
                <a:lnTo>
                  <a:pt x="775" y="3196"/>
                </a:lnTo>
                <a:lnTo>
                  <a:pt x="802" y="3196"/>
                </a:lnTo>
                <a:lnTo>
                  <a:pt x="837" y="3168"/>
                </a:lnTo>
                <a:lnTo>
                  <a:pt x="871" y="3168"/>
                </a:lnTo>
                <a:lnTo>
                  <a:pt x="905" y="3168"/>
                </a:lnTo>
                <a:lnTo>
                  <a:pt x="940" y="3134"/>
                </a:lnTo>
                <a:lnTo>
                  <a:pt x="974" y="3134"/>
                </a:lnTo>
                <a:lnTo>
                  <a:pt x="1008" y="3134"/>
                </a:lnTo>
                <a:lnTo>
                  <a:pt x="1042" y="3100"/>
                </a:lnTo>
                <a:lnTo>
                  <a:pt x="1077" y="3100"/>
                </a:lnTo>
                <a:lnTo>
                  <a:pt x="1077" y="3066"/>
                </a:lnTo>
                <a:lnTo>
                  <a:pt x="1104" y="3031"/>
                </a:lnTo>
                <a:lnTo>
                  <a:pt x="1104" y="2997"/>
                </a:lnTo>
                <a:lnTo>
                  <a:pt x="1138" y="2963"/>
                </a:lnTo>
                <a:lnTo>
                  <a:pt x="1138" y="2936"/>
                </a:lnTo>
                <a:lnTo>
                  <a:pt x="1173" y="2901"/>
                </a:lnTo>
                <a:lnTo>
                  <a:pt x="1173" y="2867"/>
                </a:lnTo>
                <a:lnTo>
                  <a:pt x="1207" y="2833"/>
                </a:lnTo>
                <a:lnTo>
                  <a:pt x="1207" y="2799"/>
                </a:lnTo>
                <a:lnTo>
                  <a:pt x="1241" y="2765"/>
                </a:lnTo>
                <a:lnTo>
                  <a:pt x="1241" y="2730"/>
                </a:lnTo>
                <a:lnTo>
                  <a:pt x="1275" y="2696"/>
                </a:lnTo>
                <a:lnTo>
                  <a:pt x="1275" y="2669"/>
                </a:lnTo>
                <a:lnTo>
                  <a:pt x="1310" y="2635"/>
                </a:lnTo>
                <a:lnTo>
                  <a:pt x="1310" y="2600"/>
                </a:lnTo>
                <a:lnTo>
                  <a:pt x="1344" y="2566"/>
                </a:lnTo>
                <a:lnTo>
                  <a:pt x="1344" y="2532"/>
                </a:lnTo>
                <a:lnTo>
                  <a:pt x="1371" y="2498"/>
                </a:lnTo>
                <a:lnTo>
                  <a:pt x="1371" y="2463"/>
                </a:lnTo>
                <a:lnTo>
                  <a:pt x="1406" y="2429"/>
                </a:lnTo>
                <a:lnTo>
                  <a:pt x="1406" y="2402"/>
                </a:lnTo>
                <a:lnTo>
                  <a:pt x="1440" y="2368"/>
                </a:lnTo>
                <a:lnTo>
                  <a:pt x="1440" y="2333"/>
                </a:lnTo>
                <a:lnTo>
                  <a:pt x="1474" y="2299"/>
                </a:lnTo>
                <a:lnTo>
                  <a:pt x="1474" y="2265"/>
                </a:lnTo>
                <a:lnTo>
                  <a:pt x="1509" y="2231"/>
                </a:lnTo>
                <a:lnTo>
                  <a:pt x="1509" y="2197"/>
                </a:lnTo>
                <a:lnTo>
                  <a:pt x="1543" y="2169"/>
                </a:lnTo>
                <a:lnTo>
                  <a:pt x="1543" y="2135"/>
                </a:lnTo>
                <a:lnTo>
                  <a:pt x="1577" y="2101"/>
                </a:lnTo>
                <a:lnTo>
                  <a:pt x="1577" y="2067"/>
                </a:lnTo>
                <a:lnTo>
                  <a:pt x="1611" y="2032"/>
                </a:lnTo>
                <a:lnTo>
                  <a:pt x="1611" y="1998"/>
                </a:lnTo>
                <a:lnTo>
                  <a:pt x="1646" y="1964"/>
                </a:lnTo>
                <a:lnTo>
                  <a:pt x="1646" y="1930"/>
                </a:lnTo>
                <a:lnTo>
                  <a:pt x="1673" y="1902"/>
                </a:lnTo>
                <a:lnTo>
                  <a:pt x="1673" y="1868"/>
                </a:lnTo>
                <a:lnTo>
                  <a:pt x="1707" y="1834"/>
                </a:lnTo>
                <a:lnTo>
                  <a:pt x="1707" y="1800"/>
                </a:lnTo>
                <a:lnTo>
                  <a:pt x="1707" y="1766"/>
                </a:lnTo>
                <a:lnTo>
                  <a:pt x="1707" y="1731"/>
                </a:lnTo>
                <a:lnTo>
                  <a:pt x="1742" y="1697"/>
                </a:lnTo>
                <a:lnTo>
                  <a:pt x="1742" y="1670"/>
                </a:lnTo>
                <a:lnTo>
                  <a:pt x="1742" y="1636"/>
                </a:lnTo>
                <a:lnTo>
                  <a:pt x="1742" y="1601"/>
                </a:lnTo>
                <a:lnTo>
                  <a:pt x="1742" y="1567"/>
                </a:lnTo>
                <a:lnTo>
                  <a:pt x="1742" y="1533"/>
                </a:lnTo>
                <a:lnTo>
                  <a:pt x="1776" y="1499"/>
                </a:lnTo>
                <a:lnTo>
                  <a:pt x="1776" y="1464"/>
                </a:lnTo>
                <a:lnTo>
                  <a:pt x="1776" y="1430"/>
                </a:lnTo>
                <a:lnTo>
                  <a:pt x="1776" y="1403"/>
                </a:lnTo>
                <a:lnTo>
                  <a:pt x="1776" y="1369"/>
                </a:lnTo>
                <a:lnTo>
                  <a:pt x="1776" y="1334"/>
                </a:lnTo>
                <a:lnTo>
                  <a:pt x="1810" y="1300"/>
                </a:lnTo>
                <a:lnTo>
                  <a:pt x="1810" y="1266"/>
                </a:lnTo>
                <a:lnTo>
                  <a:pt x="1810" y="1232"/>
                </a:lnTo>
                <a:lnTo>
                  <a:pt x="1810" y="1198"/>
                </a:lnTo>
                <a:lnTo>
                  <a:pt x="1810" y="1163"/>
                </a:lnTo>
                <a:lnTo>
                  <a:pt x="1810" y="1136"/>
                </a:lnTo>
                <a:lnTo>
                  <a:pt x="1844" y="1102"/>
                </a:lnTo>
                <a:lnTo>
                  <a:pt x="1844" y="1068"/>
                </a:lnTo>
                <a:lnTo>
                  <a:pt x="1844" y="1033"/>
                </a:lnTo>
                <a:lnTo>
                  <a:pt x="1844" y="999"/>
                </a:lnTo>
                <a:lnTo>
                  <a:pt x="1844" y="965"/>
                </a:lnTo>
                <a:lnTo>
                  <a:pt x="1879" y="931"/>
                </a:lnTo>
                <a:lnTo>
                  <a:pt x="1879" y="903"/>
                </a:lnTo>
                <a:lnTo>
                  <a:pt x="1879" y="869"/>
                </a:lnTo>
                <a:lnTo>
                  <a:pt x="1879" y="835"/>
                </a:lnTo>
                <a:lnTo>
                  <a:pt x="1879" y="801"/>
                </a:lnTo>
                <a:lnTo>
                  <a:pt x="1879" y="766"/>
                </a:lnTo>
                <a:lnTo>
                  <a:pt x="1913" y="732"/>
                </a:lnTo>
                <a:lnTo>
                  <a:pt x="1913" y="698"/>
                </a:lnTo>
                <a:lnTo>
                  <a:pt x="1913" y="664"/>
                </a:lnTo>
                <a:lnTo>
                  <a:pt x="1913" y="636"/>
                </a:lnTo>
                <a:lnTo>
                  <a:pt x="1913" y="602"/>
                </a:lnTo>
                <a:lnTo>
                  <a:pt x="1913" y="568"/>
                </a:lnTo>
                <a:lnTo>
                  <a:pt x="1940" y="534"/>
                </a:lnTo>
                <a:lnTo>
                  <a:pt x="1940" y="500"/>
                </a:lnTo>
                <a:lnTo>
                  <a:pt x="1940" y="465"/>
                </a:lnTo>
                <a:lnTo>
                  <a:pt x="1940" y="431"/>
                </a:lnTo>
                <a:lnTo>
                  <a:pt x="1940" y="404"/>
                </a:lnTo>
                <a:lnTo>
                  <a:pt x="1940" y="370"/>
                </a:lnTo>
                <a:lnTo>
                  <a:pt x="1975" y="335"/>
                </a:lnTo>
                <a:lnTo>
                  <a:pt x="1975" y="301"/>
                </a:lnTo>
                <a:lnTo>
                  <a:pt x="1975" y="267"/>
                </a:lnTo>
                <a:lnTo>
                  <a:pt x="1975" y="233"/>
                </a:lnTo>
                <a:lnTo>
                  <a:pt x="1975" y="199"/>
                </a:lnTo>
                <a:lnTo>
                  <a:pt x="1975" y="164"/>
                </a:lnTo>
                <a:lnTo>
                  <a:pt x="2009" y="137"/>
                </a:lnTo>
                <a:lnTo>
                  <a:pt x="2009" y="103"/>
                </a:lnTo>
                <a:lnTo>
                  <a:pt x="2009" y="69"/>
                </a:lnTo>
                <a:lnTo>
                  <a:pt x="2009" y="34"/>
                </a:lnTo>
                <a:lnTo>
                  <a:pt x="2009" y="0"/>
                </a:lnTo>
                <a:lnTo>
                  <a:pt x="1975" y="0"/>
                </a:lnTo>
                <a:lnTo>
                  <a:pt x="1940" y="0"/>
                </a:lnTo>
                <a:lnTo>
                  <a:pt x="1913" y="0"/>
                </a:lnTo>
                <a:lnTo>
                  <a:pt x="1879" y="34"/>
                </a:lnTo>
                <a:lnTo>
                  <a:pt x="1844" y="34"/>
                </a:lnTo>
                <a:lnTo>
                  <a:pt x="1810" y="69"/>
                </a:lnTo>
                <a:lnTo>
                  <a:pt x="1776" y="69"/>
                </a:lnTo>
                <a:lnTo>
                  <a:pt x="1742" y="69"/>
                </a:lnTo>
                <a:lnTo>
                  <a:pt x="1707" y="103"/>
                </a:lnTo>
                <a:lnTo>
                  <a:pt x="1673" y="103"/>
                </a:lnTo>
                <a:lnTo>
                  <a:pt x="1646" y="137"/>
                </a:lnTo>
                <a:lnTo>
                  <a:pt x="1611" y="137"/>
                </a:lnTo>
                <a:lnTo>
                  <a:pt x="1577" y="164"/>
                </a:lnTo>
                <a:lnTo>
                  <a:pt x="1543" y="164"/>
                </a:lnTo>
                <a:lnTo>
                  <a:pt x="1509" y="199"/>
                </a:lnTo>
                <a:lnTo>
                  <a:pt x="1474" y="199"/>
                </a:lnTo>
                <a:lnTo>
                  <a:pt x="1440" y="199"/>
                </a:lnTo>
                <a:lnTo>
                  <a:pt x="1406" y="233"/>
                </a:lnTo>
                <a:lnTo>
                  <a:pt x="1371" y="233"/>
                </a:lnTo>
                <a:lnTo>
                  <a:pt x="1344" y="267"/>
                </a:lnTo>
                <a:lnTo>
                  <a:pt x="1310" y="267"/>
                </a:lnTo>
                <a:lnTo>
                  <a:pt x="1275" y="301"/>
                </a:lnTo>
                <a:lnTo>
                  <a:pt x="1241" y="301"/>
                </a:lnTo>
                <a:lnTo>
                  <a:pt x="1207" y="335"/>
                </a:lnTo>
                <a:lnTo>
                  <a:pt x="1173" y="335"/>
                </a:lnTo>
                <a:lnTo>
                  <a:pt x="1138" y="335"/>
                </a:lnTo>
                <a:lnTo>
                  <a:pt x="1104" y="370"/>
                </a:lnTo>
                <a:lnTo>
                  <a:pt x="1077" y="370"/>
                </a:lnTo>
                <a:lnTo>
                  <a:pt x="1042" y="404"/>
                </a:lnTo>
                <a:lnTo>
                  <a:pt x="1008" y="404"/>
                </a:lnTo>
                <a:lnTo>
                  <a:pt x="974" y="431"/>
                </a:lnTo>
                <a:lnTo>
                  <a:pt x="940" y="431"/>
                </a:lnTo>
                <a:lnTo>
                  <a:pt x="905" y="465"/>
                </a:lnTo>
                <a:lnTo>
                  <a:pt x="871" y="465"/>
                </a:lnTo>
                <a:lnTo>
                  <a:pt x="837" y="465"/>
                </a:lnTo>
                <a:lnTo>
                  <a:pt x="802" y="500"/>
                </a:lnTo>
                <a:lnTo>
                  <a:pt x="775" y="534"/>
                </a:lnTo>
                <a:lnTo>
                  <a:pt x="741" y="568"/>
                </a:lnTo>
                <a:lnTo>
                  <a:pt x="741" y="602"/>
                </a:lnTo>
                <a:lnTo>
                  <a:pt x="706" y="636"/>
                </a:lnTo>
                <a:lnTo>
                  <a:pt x="672" y="664"/>
                </a:lnTo>
                <a:lnTo>
                  <a:pt x="638" y="698"/>
                </a:lnTo>
                <a:lnTo>
                  <a:pt x="638" y="732"/>
                </a:lnTo>
                <a:lnTo>
                  <a:pt x="604" y="766"/>
                </a:lnTo>
                <a:lnTo>
                  <a:pt x="569" y="801"/>
                </a:lnTo>
                <a:lnTo>
                  <a:pt x="535" y="835"/>
                </a:lnTo>
                <a:lnTo>
                  <a:pt x="535" y="869"/>
                </a:lnTo>
                <a:lnTo>
                  <a:pt x="508" y="903"/>
                </a:lnTo>
                <a:lnTo>
                  <a:pt x="473" y="931"/>
                </a:lnTo>
                <a:lnTo>
                  <a:pt x="473" y="965"/>
                </a:lnTo>
                <a:lnTo>
                  <a:pt x="439" y="999"/>
                </a:lnTo>
                <a:lnTo>
                  <a:pt x="439" y="1033"/>
                </a:lnTo>
                <a:lnTo>
                  <a:pt x="439" y="1068"/>
                </a:lnTo>
                <a:lnTo>
                  <a:pt x="405" y="1102"/>
                </a:lnTo>
                <a:lnTo>
                  <a:pt x="405" y="1136"/>
                </a:lnTo>
                <a:lnTo>
                  <a:pt x="370" y="1163"/>
                </a:lnTo>
                <a:lnTo>
                  <a:pt x="370" y="1198"/>
                </a:lnTo>
                <a:lnTo>
                  <a:pt x="336" y="1232"/>
                </a:lnTo>
                <a:lnTo>
                  <a:pt x="336" y="1266"/>
                </a:lnTo>
                <a:lnTo>
                  <a:pt x="302" y="1300"/>
                </a:lnTo>
                <a:lnTo>
                  <a:pt x="302" y="1334"/>
                </a:lnTo>
                <a:lnTo>
                  <a:pt x="268" y="1369"/>
                </a:lnTo>
                <a:lnTo>
                  <a:pt x="268" y="1403"/>
                </a:lnTo>
                <a:lnTo>
                  <a:pt x="268" y="1430"/>
                </a:lnTo>
                <a:lnTo>
                  <a:pt x="240" y="1464"/>
                </a:lnTo>
                <a:lnTo>
                  <a:pt x="240" y="1499"/>
                </a:lnTo>
                <a:lnTo>
                  <a:pt x="206" y="1533"/>
                </a:lnTo>
                <a:lnTo>
                  <a:pt x="206" y="1567"/>
                </a:lnTo>
                <a:lnTo>
                  <a:pt x="172" y="1601"/>
                </a:lnTo>
                <a:lnTo>
                  <a:pt x="172" y="1636"/>
                </a:lnTo>
                <a:lnTo>
                  <a:pt x="137" y="1670"/>
                </a:lnTo>
                <a:lnTo>
                  <a:pt x="137" y="1697"/>
                </a:lnTo>
                <a:lnTo>
                  <a:pt x="137" y="1731"/>
                </a:lnTo>
                <a:lnTo>
                  <a:pt x="103" y="1766"/>
                </a:lnTo>
                <a:lnTo>
                  <a:pt x="103" y="1800"/>
                </a:lnTo>
                <a:lnTo>
                  <a:pt x="69" y="1834"/>
                </a:lnTo>
                <a:lnTo>
                  <a:pt x="69" y="1868"/>
                </a:lnTo>
                <a:lnTo>
                  <a:pt x="69" y="1902"/>
                </a:lnTo>
                <a:lnTo>
                  <a:pt x="69" y="1930"/>
                </a:lnTo>
                <a:lnTo>
                  <a:pt x="69" y="1964"/>
                </a:lnTo>
                <a:lnTo>
                  <a:pt x="35" y="1998"/>
                </a:lnTo>
                <a:lnTo>
                  <a:pt x="35" y="2032"/>
                </a:lnTo>
                <a:lnTo>
                  <a:pt x="35" y="2067"/>
                </a:lnTo>
                <a:lnTo>
                  <a:pt x="35" y="2101"/>
                </a:lnTo>
                <a:lnTo>
                  <a:pt x="0" y="2135"/>
                </a:lnTo>
                <a:lnTo>
                  <a:pt x="0" y="2169"/>
                </a:lnTo>
                <a:lnTo>
                  <a:pt x="0" y="2197"/>
                </a:lnTo>
                <a:lnTo>
                  <a:pt x="0" y="2231"/>
                </a:lnTo>
                <a:lnTo>
                  <a:pt x="0" y="2265"/>
                </a:lnTo>
                <a:lnTo>
                  <a:pt x="0" y="2299"/>
                </a:lnTo>
                <a:lnTo>
                  <a:pt x="0" y="2333"/>
                </a:lnTo>
                <a:lnTo>
                  <a:pt x="0" y="2368"/>
                </a:lnTo>
                <a:lnTo>
                  <a:pt x="0" y="2402"/>
                </a:lnTo>
                <a:lnTo>
                  <a:pt x="0" y="2429"/>
                </a:lnTo>
                <a:lnTo>
                  <a:pt x="0" y="2463"/>
                </a:lnTo>
                <a:lnTo>
                  <a:pt x="0" y="2498"/>
                </a:lnTo>
                <a:lnTo>
                  <a:pt x="0" y="2532"/>
                </a:lnTo>
                <a:lnTo>
                  <a:pt x="35" y="2566"/>
                </a:lnTo>
                <a:lnTo>
                  <a:pt x="35" y="2600"/>
                </a:lnTo>
                <a:lnTo>
                  <a:pt x="35" y="2635"/>
                </a:lnTo>
                <a:lnTo>
                  <a:pt x="35" y="2669"/>
                </a:lnTo>
                <a:lnTo>
                  <a:pt x="35" y="2696"/>
                </a:lnTo>
                <a:lnTo>
                  <a:pt x="35" y="2730"/>
                </a:lnTo>
                <a:lnTo>
                  <a:pt x="35" y="2765"/>
                </a:lnTo>
                <a:lnTo>
                  <a:pt x="35" y="2799"/>
                </a:lnTo>
                <a:lnTo>
                  <a:pt x="35" y="2833"/>
                </a:lnTo>
                <a:lnTo>
                  <a:pt x="69" y="2867"/>
                </a:lnTo>
                <a:lnTo>
                  <a:pt x="69" y="2901"/>
                </a:lnTo>
                <a:lnTo>
                  <a:pt x="103" y="2936"/>
                </a:lnTo>
                <a:lnTo>
                  <a:pt x="137" y="2963"/>
                </a:lnTo>
                <a:lnTo>
                  <a:pt x="172" y="2997"/>
                </a:lnTo>
                <a:lnTo>
                  <a:pt x="206" y="3031"/>
                </a:lnTo>
                <a:lnTo>
                  <a:pt x="240" y="3066"/>
                </a:lnTo>
                <a:lnTo>
                  <a:pt x="268" y="3100"/>
                </a:lnTo>
                <a:lnTo>
                  <a:pt x="302" y="3134"/>
                </a:lnTo>
                <a:lnTo>
                  <a:pt x="336" y="3134"/>
                </a:lnTo>
                <a:lnTo>
                  <a:pt x="370" y="3168"/>
                </a:lnTo>
                <a:lnTo>
                  <a:pt x="405" y="3168"/>
                </a:lnTo>
                <a:lnTo>
                  <a:pt x="439" y="3168"/>
                </a:lnTo>
                <a:lnTo>
                  <a:pt x="473" y="3196"/>
                </a:lnTo>
                <a:lnTo>
                  <a:pt x="508" y="3196"/>
                </a:lnTo>
                <a:lnTo>
                  <a:pt x="535" y="3230"/>
                </a:lnTo>
                <a:lnTo>
                  <a:pt x="569" y="3230"/>
                </a:lnTo>
                <a:lnTo>
                  <a:pt x="604" y="3230"/>
                </a:lnTo>
                <a:lnTo>
                  <a:pt x="638" y="3230"/>
                </a:lnTo>
                <a:lnTo>
                  <a:pt x="672" y="3230"/>
                </a:lnTo>
                <a:lnTo>
                  <a:pt x="706" y="323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4" name=""/>
          <p:cNvSpPr/>
          <p:nvPr/>
        </p:nvSpPr>
        <p:spPr>
          <a:xfrm>
            <a:off x="2332080" y="1973160"/>
            <a:ext cx="87120" cy="85680"/>
          </a:xfrm>
          <a:custGeom>
            <a:avLst/>
            <a:gdLst/>
            <a:ahLst/>
            <a:rect l="l" t="t" r="r" b="b"/>
            <a:pathLst>
              <a:path w="55" h="54">
                <a:moveTo>
                  <a:pt x="21" y="54"/>
                </a:moveTo>
                <a:lnTo>
                  <a:pt x="27" y="54"/>
                </a:lnTo>
                <a:lnTo>
                  <a:pt x="27" y="34"/>
                </a:lnTo>
                <a:lnTo>
                  <a:pt x="55" y="34"/>
                </a:lnTo>
                <a:lnTo>
                  <a:pt x="55" y="27"/>
                </a:lnTo>
                <a:lnTo>
                  <a:pt x="27" y="27"/>
                </a:lnTo>
                <a:lnTo>
                  <a:pt x="27" y="0"/>
                </a:lnTo>
                <a:lnTo>
                  <a:pt x="21" y="0"/>
                </a:lnTo>
                <a:lnTo>
                  <a:pt x="21" y="27"/>
                </a:lnTo>
                <a:lnTo>
                  <a:pt x="0" y="27"/>
                </a:lnTo>
                <a:lnTo>
                  <a:pt x="0" y="34"/>
                </a:lnTo>
                <a:lnTo>
                  <a:pt x="21" y="34"/>
                </a:lnTo>
                <a:lnTo>
                  <a:pt x="21" y="54"/>
                </a:lnTo>
                <a:close/>
              </a:path>
            </a:pathLst>
          </a:custGeom>
          <a:solidFill>
            <a:srgbClr val="0000ff"/>
          </a:solidFill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5" name=""/>
          <p:cNvSpPr/>
          <p:nvPr/>
        </p:nvSpPr>
        <p:spPr>
          <a:xfrm>
            <a:off x="7415280" y="1973160"/>
            <a:ext cx="87120" cy="85680"/>
          </a:xfrm>
          <a:custGeom>
            <a:avLst/>
            <a:gdLst/>
            <a:ahLst/>
            <a:rect l="l" t="t" r="r" b="b"/>
            <a:pathLst>
              <a:path w="55" h="54">
                <a:moveTo>
                  <a:pt x="27" y="54"/>
                </a:moveTo>
                <a:lnTo>
                  <a:pt x="27" y="54"/>
                </a:lnTo>
                <a:lnTo>
                  <a:pt x="27" y="34"/>
                </a:lnTo>
                <a:lnTo>
                  <a:pt x="55" y="34"/>
                </a:lnTo>
                <a:lnTo>
                  <a:pt x="55" y="27"/>
                </a:lnTo>
                <a:lnTo>
                  <a:pt x="27" y="27"/>
                </a:lnTo>
                <a:lnTo>
                  <a:pt x="27" y="0"/>
                </a:lnTo>
                <a:lnTo>
                  <a:pt x="27" y="0"/>
                </a:lnTo>
                <a:lnTo>
                  <a:pt x="27" y="27"/>
                </a:lnTo>
                <a:lnTo>
                  <a:pt x="0" y="27"/>
                </a:lnTo>
                <a:lnTo>
                  <a:pt x="0" y="34"/>
                </a:lnTo>
                <a:lnTo>
                  <a:pt x="27" y="34"/>
                </a:lnTo>
                <a:lnTo>
                  <a:pt x="27" y="54"/>
                </a:lnTo>
                <a:close/>
              </a:path>
            </a:pathLst>
          </a:custGeom>
          <a:solidFill>
            <a:srgbClr val="0000ff"/>
          </a:solidFill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86" name=""/>
          <p:cNvGrpSpPr/>
          <p:nvPr/>
        </p:nvGrpSpPr>
        <p:grpSpPr>
          <a:xfrm>
            <a:off x="2332080" y="3200400"/>
            <a:ext cx="5180040" cy="2465280"/>
            <a:chOff x="2332080" y="3200400"/>
            <a:chExt cx="5180040" cy="2465280"/>
          </a:xfrm>
        </p:grpSpPr>
        <p:sp>
          <p:nvSpPr>
            <p:cNvPr id="3787" name=""/>
            <p:cNvSpPr/>
            <p:nvPr/>
          </p:nvSpPr>
          <p:spPr>
            <a:xfrm>
              <a:off x="7426440" y="5578560"/>
              <a:ext cx="85680" cy="8712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20" y="55"/>
                  </a:moveTo>
                  <a:lnTo>
                    <a:pt x="27" y="55"/>
                  </a:lnTo>
                  <a:lnTo>
                    <a:pt x="27" y="28"/>
                  </a:lnTo>
                  <a:lnTo>
                    <a:pt x="54" y="28"/>
                  </a:lnTo>
                  <a:lnTo>
                    <a:pt x="54" y="21"/>
                  </a:lnTo>
                  <a:lnTo>
                    <a:pt x="27" y="21"/>
                  </a:lnTo>
                  <a:lnTo>
                    <a:pt x="27" y="0"/>
                  </a:lnTo>
                  <a:lnTo>
                    <a:pt x="20" y="0"/>
                  </a:lnTo>
                  <a:lnTo>
                    <a:pt x="20" y="21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20" y="28"/>
                  </a:lnTo>
                  <a:lnTo>
                    <a:pt x="20" y="55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8" name=""/>
            <p:cNvSpPr/>
            <p:nvPr/>
          </p:nvSpPr>
          <p:spPr>
            <a:xfrm>
              <a:off x="2332080" y="557856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1" y="55"/>
                  </a:moveTo>
                  <a:lnTo>
                    <a:pt x="27" y="55"/>
                  </a:lnTo>
                  <a:lnTo>
                    <a:pt x="27" y="28"/>
                  </a:lnTo>
                  <a:lnTo>
                    <a:pt x="55" y="28"/>
                  </a:lnTo>
                  <a:lnTo>
                    <a:pt x="55" y="21"/>
                  </a:lnTo>
                  <a:lnTo>
                    <a:pt x="27" y="21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21" y="21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21" y="28"/>
                  </a:lnTo>
                  <a:lnTo>
                    <a:pt x="21" y="55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9" name=""/>
            <p:cNvSpPr/>
            <p:nvPr/>
          </p:nvSpPr>
          <p:spPr>
            <a:xfrm>
              <a:off x="4127400" y="4068720"/>
              <a:ext cx="44640" cy="334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0" name=""/>
            <p:cNvSpPr/>
            <p:nvPr/>
          </p:nvSpPr>
          <p:spPr>
            <a:xfrm>
              <a:off x="4192560" y="4124160"/>
              <a:ext cx="22320" cy="32040"/>
            </a:xfrm>
            <a:custGeom>
              <a:avLst/>
              <a:gdLst/>
              <a:ahLst/>
              <a:rect l="l" t="t" r="r" b="b"/>
              <a:pathLst>
                <a:path w="14" h="20">
                  <a:moveTo>
                    <a:pt x="7" y="0"/>
                  </a:moveTo>
                  <a:lnTo>
                    <a:pt x="14" y="0"/>
                  </a:lnTo>
                  <a:lnTo>
                    <a:pt x="0" y="2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1" name=""/>
            <p:cNvSpPr/>
            <p:nvPr/>
          </p:nvSpPr>
          <p:spPr>
            <a:xfrm flipH="1">
              <a:off x="4160520" y="4199040"/>
              <a:ext cx="11160" cy="442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2" name=""/>
            <p:cNvSpPr/>
            <p:nvPr/>
          </p:nvSpPr>
          <p:spPr>
            <a:xfrm>
              <a:off x="4183200" y="4275000"/>
              <a:ext cx="42840" cy="223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3" name=""/>
            <p:cNvSpPr/>
            <p:nvPr/>
          </p:nvSpPr>
          <p:spPr>
            <a:xfrm>
              <a:off x="4257720" y="4319640"/>
              <a:ext cx="33120" cy="316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4" name=""/>
            <p:cNvSpPr/>
            <p:nvPr/>
          </p:nvSpPr>
          <p:spPr>
            <a:xfrm>
              <a:off x="4334040" y="4373640"/>
              <a:ext cx="33120" cy="316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5" name=""/>
            <p:cNvSpPr/>
            <p:nvPr/>
          </p:nvSpPr>
          <p:spPr>
            <a:xfrm>
              <a:off x="4400640" y="4427640"/>
              <a:ext cx="31680" cy="21960"/>
            </a:xfrm>
            <a:custGeom>
              <a:avLst/>
              <a:gdLst/>
              <a:ahLst/>
              <a:rect l="l" t="t" r="r" b="b"/>
              <a:pathLst>
                <a:path w="20" h="14">
                  <a:moveTo>
                    <a:pt x="0" y="0"/>
                  </a:moveTo>
                  <a:lnTo>
                    <a:pt x="20" y="14"/>
                  </a:lnTo>
                  <a:lnTo>
                    <a:pt x="20" y="14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6" name=""/>
            <p:cNvSpPr/>
            <p:nvPr/>
          </p:nvSpPr>
          <p:spPr>
            <a:xfrm>
              <a:off x="4476600" y="4481640"/>
              <a:ext cx="32040" cy="21960"/>
            </a:xfrm>
            <a:custGeom>
              <a:avLst/>
              <a:gdLst/>
              <a:ahLst/>
              <a:rect l="l" t="t" r="r" b="b"/>
              <a:pathLst>
                <a:path w="20" h="14">
                  <a:moveTo>
                    <a:pt x="0" y="0"/>
                  </a:moveTo>
                  <a:lnTo>
                    <a:pt x="20" y="14"/>
                  </a:lnTo>
                  <a:lnTo>
                    <a:pt x="20" y="14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7" name=""/>
            <p:cNvSpPr/>
            <p:nvPr/>
          </p:nvSpPr>
          <p:spPr>
            <a:xfrm>
              <a:off x="4541760" y="4537080"/>
              <a:ext cx="42840" cy="205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8" name=""/>
            <p:cNvSpPr/>
            <p:nvPr/>
          </p:nvSpPr>
          <p:spPr>
            <a:xfrm>
              <a:off x="5803920" y="4373640"/>
              <a:ext cx="4284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9" name=""/>
            <p:cNvSpPr/>
            <p:nvPr/>
          </p:nvSpPr>
          <p:spPr>
            <a:xfrm>
              <a:off x="5846760" y="4416480"/>
              <a:ext cx="44280" cy="11160"/>
            </a:xfrm>
            <a:custGeom>
              <a:avLst/>
              <a:gdLst/>
              <a:ahLst/>
              <a:rect l="l" t="t" r="r" b="b"/>
              <a:pathLst>
                <a:path w="28" h="7">
                  <a:moveTo>
                    <a:pt x="0" y="0"/>
                  </a:moveTo>
                  <a:lnTo>
                    <a:pt x="0" y="0"/>
                  </a:lnTo>
                  <a:lnTo>
                    <a:pt x="28" y="7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0" name=""/>
            <p:cNvSpPr/>
            <p:nvPr/>
          </p:nvSpPr>
          <p:spPr>
            <a:xfrm>
              <a:off x="5934240" y="4449600"/>
              <a:ext cx="33120" cy="22320"/>
            </a:xfrm>
            <a:custGeom>
              <a:avLst/>
              <a:gdLst/>
              <a:ahLst/>
              <a:rect l="l" t="t" r="r" b="b"/>
              <a:pathLst>
                <a:path w="21" h="14">
                  <a:moveTo>
                    <a:pt x="0" y="0"/>
                  </a:moveTo>
                  <a:lnTo>
                    <a:pt x="21" y="7"/>
                  </a:lnTo>
                  <a:lnTo>
                    <a:pt x="21" y="14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1" name=""/>
            <p:cNvSpPr/>
            <p:nvPr/>
          </p:nvSpPr>
          <p:spPr>
            <a:xfrm>
              <a:off x="6010200" y="4481640"/>
              <a:ext cx="44640" cy="111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2" name=""/>
            <p:cNvSpPr/>
            <p:nvPr/>
          </p:nvSpPr>
          <p:spPr>
            <a:xfrm>
              <a:off x="5781600" y="3841920"/>
              <a:ext cx="11160" cy="42840"/>
            </a:xfrm>
            <a:custGeom>
              <a:avLst/>
              <a:gdLst/>
              <a:ahLst/>
              <a:rect l="l" t="t" r="r" b="b"/>
              <a:pathLst>
                <a:path w="7" h="27">
                  <a:moveTo>
                    <a:pt x="7" y="0"/>
                  </a:moveTo>
                  <a:lnTo>
                    <a:pt x="0" y="20"/>
                  </a:lnTo>
                  <a:lnTo>
                    <a:pt x="0" y="27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3" name=""/>
            <p:cNvSpPr/>
            <p:nvPr/>
          </p:nvSpPr>
          <p:spPr>
            <a:xfrm>
              <a:off x="5781600" y="3927600"/>
              <a:ext cx="1800" cy="442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4" name=""/>
            <p:cNvSpPr/>
            <p:nvPr/>
          </p:nvSpPr>
          <p:spPr>
            <a:xfrm>
              <a:off x="5770440" y="4014720"/>
              <a:ext cx="1800" cy="446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5" name=""/>
            <p:cNvSpPr/>
            <p:nvPr/>
          </p:nvSpPr>
          <p:spPr>
            <a:xfrm>
              <a:off x="5770440" y="4102200"/>
              <a:ext cx="1800" cy="428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6" name=""/>
            <p:cNvSpPr/>
            <p:nvPr/>
          </p:nvSpPr>
          <p:spPr>
            <a:xfrm>
              <a:off x="5770440" y="4189320"/>
              <a:ext cx="33480" cy="20880"/>
            </a:xfrm>
            <a:custGeom>
              <a:avLst/>
              <a:gdLst/>
              <a:ahLst/>
              <a:rect l="l" t="t" r="r" b="b"/>
              <a:pathLst>
                <a:path w="21" h="13">
                  <a:moveTo>
                    <a:pt x="0" y="0"/>
                  </a:moveTo>
                  <a:lnTo>
                    <a:pt x="0" y="13"/>
                  </a:lnTo>
                  <a:lnTo>
                    <a:pt x="21" y="13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7" name=""/>
            <p:cNvSpPr/>
            <p:nvPr/>
          </p:nvSpPr>
          <p:spPr>
            <a:xfrm>
              <a:off x="5803920" y="4243320"/>
              <a:ext cx="1440" cy="428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8" name=""/>
            <p:cNvSpPr/>
            <p:nvPr/>
          </p:nvSpPr>
          <p:spPr>
            <a:xfrm>
              <a:off x="5792760" y="4340160"/>
              <a:ext cx="11160" cy="33480"/>
            </a:xfrm>
            <a:custGeom>
              <a:avLst/>
              <a:gdLst/>
              <a:ahLst/>
              <a:rect l="l" t="t" r="r" b="b"/>
              <a:pathLst>
                <a:path w="7" h="21">
                  <a:moveTo>
                    <a:pt x="7" y="0"/>
                  </a:moveTo>
                  <a:lnTo>
                    <a:pt x="7" y="21"/>
                  </a:lnTo>
                  <a:lnTo>
                    <a:pt x="0" y="21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9" name=""/>
            <p:cNvSpPr/>
            <p:nvPr/>
          </p:nvSpPr>
          <p:spPr>
            <a:xfrm>
              <a:off x="4802040" y="4938840"/>
              <a:ext cx="11160" cy="428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0" name=""/>
            <p:cNvSpPr/>
            <p:nvPr/>
          </p:nvSpPr>
          <p:spPr>
            <a:xfrm>
              <a:off x="4824360" y="5025960"/>
              <a:ext cx="11160" cy="428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1" name=""/>
            <p:cNvSpPr/>
            <p:nvPr/>
          </p:nvSpPr>
          <p:spPr>
            <a:xfrm>
              <a:off x="4846680" y="5111640"/>
              <a:ext cx="11160" cy="446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2" name=""/>
            <p:cNvSpPr/>
            <p:nvPr/>
          </p:nvSpPr>
          <p:spPr>
            <a:xfrm>
              <a:off x="4857840" y="5199120"/>
              <a:ext cx="9360" cy="428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3" name=""/>
            <p:cNvSpPr/>
            <p:nvPr/>
          </p:nvSpPr>
          <p:spPr>
            <a:xfrm>
              <a:off x="4878360" y="5286240"/>
              <a:ext cx="11160" cy="428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4" name=""/>
            <p:cNvSpPr/>
            <p:nvPr/>
          </p:nvSpPr>
          <p:spPr>
            <a:xfrm>
              <a:off x="4900680" y="5372280"/>
              <a:ext cx="1440" cy="442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5" name=""/>
            <p:cNvSpPr/>
            <p:nvPr/>
          </p:nvSpPr>
          <p:spPr>
            <a:xfrm>
              <a:off x="4911840" y="5459400"/>
              <a:ext cx="11160" cy="446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6" name=""/>
            <p:cNvSpPr/>
            <p:nvPr/>
          </p:nvSpPr>
          <p:spPr>
            <a:xfrm>
              <a:off x="4835520" y="4927680"/>
              <a:ext cx="22320" cy="428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7" name=""/>
            <p:cNvSpPr/>
            <p:nvPr/>
          </p:nvSpPr>
          <p:spPr>
            <a:xfrm>
              <a:off x="4867200" y="5003640"/>
              <a:ext cx="22320" cy="432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8" name=""/>
            <p:cNvSpPr/>
            <p:nvPr/>
          </p:nvSpPr>
          <p:spPr>
            <a:xfrm>
              <a:off x="4911840" y="5091120"/>
              <a:ext cx="21960" cy="316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9" name=""/>
            <p:cNvSpPr/>
            <p:nvPr/>
          </p:nvSpPr>
          <p:spPr>
            <a:xfrm>
              <a:off x="4954680" y="5165640"/>
              <a:ext cx="11160" cy="446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0" name=""/>
            <p:cNvSpPr/>
            <p:nvPr/>
          </p:nvSpPr>
          <p:spPr>
            <a:xfrm>
              <a:off x="4987800" y="5241960"/>
              <a:ext cx="22320" cy="442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1" name=""/>
            <p:cNvSpPr/>
            <p:nvPr/>
          </p:nvSpPr>
          <p:spPr>
            <a:xfrm flipV="1">
              <a:off x="4889520" y="5318280"/>
              <a:ext cx="44280" cy="108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2" name=""/>
            <p:cNvSpPr/>
            <p:nvPr/>
          </p:nvSpPr>
          <p:spPr>
            <a:xfrm>
              <a:off x="4976640" y="5286240"/>
              <a:ext cx="33480" cy="20880"/>
            </a:xfrm>
            <a:custGeom>
              <a:avLst/>
              <a:gdLst/>
              <a:ahLst/>
              <a:rect l="l" t="t" r="r" b="b"/>
              <a:pathLst>
                <a:path w="21" h="13">
                  <a:moveTo>
                    <a:pt x="0" y="13"/>
                  </a:moveTo>
                  <a:lnTo>
                    <a:pt x="7" y="7"/>
                  </a:lnTo>
                  <a:lnTo>
                    <a:pt x="21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3" name=""/>
            <p:cNvSpPr/>
            <p:nvPr/>
          </p:nvSpPr>
          <p:spPr>
            <a:xfrm>
              <a:off x="5052960" y="5241960"/>
              <a:ext cx="33480" cy="22320"/>
            </a:xfrm>
            <a:custGeom>
              <a:avLst/>
              <a:gdLst/>
              <a:ahLst/>
              <a:rect l="l" t="t" r="r" b="b"/>
              <a:pathLst>
                <a:path w="21" h="14">
                  <a:moveTo>
                    <a:pt x="0" y="14"/>
                  </a:moveTo>
                  <a:lnTo>
                    <a:pt x="14" y="0"/>
                  </a:lnTo>
                  <a:lnTo>
                    <a:pt x="21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4" name=""/>
            <p:cNvSpPr/>
            <p:nvPr/>
          </p:nvSpPr>
          <p:spPr>
            <a:xfrm>
              <a:off x="5129280" y="5232240"/>
              <a:ext cx="42840" cy="1800"/>
            </a:xfrm>
            <a:custGeom>
              <a:avLst/>
              <a:gdLst/>
              <a:ahLst/>
              <a:rect l="l" t="t" r="r" b="b"/>
              <a:pathLst>
                <a:path w="27" h="0">
                  <a:moveTo>
                    <a:pt x="0" y="0"/>
                  </a:moveTo>
                  <a:lnTo>
                    <a:pt x="21" y="0"/>
                  </a:lnTo>
                  <a:lnTo>
                    <a:pt x="27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5" name=""/>
            <p:cNvSpPr/>
            <p:nvPr/>
          </p:nvSpPr>
          <p:spPr>
            <a:xfrm>
              <a:off x="5216400" y="5221440"/>
              <a:ext cx="42840" cy="1440"/>
            </a:xfrm>
            <a:custGeom>
              <a:avLst/>
              <a:gdLst/>
              <a:ahLst/>
              <a:rect l="l" t="t" r="r" b="b"/>
              <a:pathLst>
                <a:path w="27" h="0">
                  <a:moveTo>
                    <a:pt x="0" y="0"/>
                  </a:moveTo>
                  <a:lnTo>
                    <a:pt x="7" y="0"/>
                  </a:lnTo>
                  <a:lnTo>
                    <a:pt x="27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6" name=""/>
            <p:cNvSpPr/>
            <p:nvPr/>
          </p:nvSpPr>
          <p:spPr>
            <a:xfrm>
              <a:off x="5303880" y="5210280"/>
              <a:ext cx="42840" cy="11160"/>
            </a:xfrm>
            <a:custGeom>
              <a:avLst/>
              <a:gdLst/>
              <a:ahLst/>
              <a:rect l="l" t="t" r="r" b="b"/>
              <a:pathLst>
                <a:path w="27" h="7">
                  <a:moveTo>
                    <a:pt x="0" y="7"/>
                  </a:moveTo>
                  <a:lnTo>
                    <a:pt x="27" y="0"/>
                  </a:lnTo>
                  <a:lnTo>
                    <a:pt x="27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7" name=""/>
            <p:cNvSpPr/>
            <p:nvPr/>
          </p:nvSpPr>
          <p:spPr>
            <a:xfrm>
              <a:off x="5380200" y="5232240"/>
              <a:ext cx="1440" cy="432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8" name=""/>
            <p:cNvSpPr/>
            <p:nvPr/>
          </p:nvSpPr>
          <p:spPr>
            <a:xfrm>
              <a:off x="5380200" y="5318280"/>
              <a:ext cx="1440" cy="442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9" name=""/>
            <p:cNvSpPr/>
            <p:nvPr/>
          </p:nvSpPr>
          <p:spPr>
            <a:xfrm>
              <a:off x="5380200" y="5405400"/>
              <a:ext cx="1440" cy="428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0" name=""/>
            <p:cNvSpPr/>
            <p:nvPr/>
          </p:nvSpPr>
          <p:spPr>
            <a:xfrm>
              <a:off x="5380200" y="5492880"/>
              <a:ext cx="1440" cy="205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1" name=""/>
            <p:cNvSpPr/>
            <p:nvPr/>
          </p:nvSpPr>
          <p:spPr>
            <a:xfrm>
              <a:off x="5553000" y="4525920"/>
              <a:ext cx="44640" cy="111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2" name=""/>
            <p:cNvSpPr/>
            <p:nvPr/>
          </p:nvSpPr>
          <p:spPr>
            <a:xfrm>
              <a:off x="5640480" y="4537080"/>
              <a:ext cx="1440" cy="428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3" name=""/>
            <p:cNvSpPr/>
            <p:nvPr/>
          </p:nvSpPr>
          <p:spPr>
            <a:xfrm>
              <a:off x="5629320" y="4622760"/>
              <a:ext cx="1440" cy="446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4" name=""/>
            <p:cNvSpPr/>
            <p:nvPr/>
          </p:nvSpPr>
          <p:spPr>
            <a:xfrm>
              <a:off x="5629320" y="4710240"/>
              <a:ext cx="1440" cy="42840"/>
            </a:xfrm>
            <a:custGeom>
              <a:avLst/>
              <a:gdLst/>
              <a:ahLst/>
              <a:rect l="l" t="t" r="r" b="b"/>
              <a:pathLst>
                <a:path w="0" h="27">
                  <a:moveTo>
                    <a:pt x="0" y="0"/>
                  </a:moveTo>
                  <a:lnTo>
                    <a:pt x="0" y="7"/>
                  </a:lnTo>
                  <a:lnTo>
                    <a:pt x="0" y="27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5" name=""/>
            <p:cNvSpPr/>
            <p:nvPr/>
          </p:nvSpPr>
          <p:spPr>
            <a:xfrm>
              <a:off x="5640480" y="4797360"/>
              <a:ext cx="11160" cy="428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6" name=""/>
            <p:cNvSpPr/>
            <p:nvPr/>
          </p:nvSpPr>
          <p:spPr>
            <a:xfrm>
              <a:off x="5662440" y="4884840"/>
              <a:ext cx="11160" cy="428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7" name=""/>
            <p:cNvSpPr/>
            <p:nvPr/>
          </p:nvSpPr>
          <p:spPr>
            <a:xfrm>
              <a:off x="5684760" y="4970520"/>
              <a:ext cx="9720" cy="442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8" name=""/>
            <p:cNvSpPr/>
            <p:nvPr/>
          </p:nvSpPr>
          <p:spPr>
            <a:xfrm>
              <a:off x="5673600" y="5057640"/>
              <a:ext cx="11160" cy="42840"/>
            </a:xfrm>
            <a:custGeom>
              <a:avLst/>
              <a:gdLst/>
              <a:ahLst/>
              <a:rect l="l" t="t" r="r" b="b"/>
              <a:pathLst>
                <a:path w="7" h="27">
                  <a:moveTo>
                    <a:pt x="7" y="0"/>
                  </a:moveTo>
                  <a:lnTo>
                    <a:pt x="7" y="14"/>
                  </a:lnTo>
                  <a:lnTo>
                    <a:pt x="0" y="27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9" name=""/>
            <p:cNvSpPr/>
            <p:nvPr/>
          </p:nvSpPr>
          <p:spPr>
            <a:xfrm flipH="1">
              <a:off x="5651640" y="5145120"/>
              <a:ext cx="10800" cy="428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0" name=""/>
            <p:cNvSpPr/>
            <p:nvPr/>
          </p:nvSpPr>
          <p:spPr>
            <a:xfrm>
              <a:off x="4344840" y="5156280"/>
              <a:ext cx="44640" cy="1440"/>
            </a:xfrm>
            <a:custGeom>
              <a:avLst/>
              <a:gdLst/>
              <a:ahLst/>
              <a:rect l="l" t="t" r="r" b="b"/>
              <a:pathLst>
                <a:path w="28" h="0">
                  <a:moveTo>
                    <a:pt x="0" y="0"/>
                  </a:moveTo>
                  <a:lnTo>
                    <a:pt x="28" y="0"/>
                  </a:lnTo>
                  <a:lnTo>
                    <a:pt x="28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1" name=""/>
            <p:cNvSpPr/>
            <p:nvPr/>
          </p:nvSpPr>
          <p:spPr>
            <a:xfrm>
              <a:off x="4432320" y="5156280"/>
              <a:ext cx="4428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2" name=""/>
            <p:cNvSpPr/>
            <p:nvPr/>
          </p:nvSpPr>
          <p:spPr>
            <a:xfrm>
              <a:off x="4519440" y="5122800"/>
              <a:ext cx="11160" cy="42840"/>
            </a:xfrm>
            <a:custGeom>
              <a:avLst/>
              <a:gdLst/>
              <a:ahLst/>
              <a:rect l="l" t="t" r="r" b="b"/>
              <a:pathLst>
                <a:path w="7" h="27">
                  <a:moveTo>
                    <a:pt x="0" y="27"/>
                  </a:moveTo>
                  <a:lnTo>
                    <a:pt x="0" y="0"/>
                  </a:lnTo>
                  <a:lnTo>
                    <a:pt x="7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3" name=""/>
            <p:cNvSpPr/>
            <p:nvPr/>
          </p:nvSpPr>
          <p:spPr>
            <a:xfrm flipV="1">
              <a:off x="4530600" y="5025960"/>
              <a:ext cx="1800" cy="540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4" name=""/>
            <p:cNvSpPr/>
            <p:nvPr/>
          </p:nvSpPr>
          <p:spPr>
            <a:xfrm flipV="1">
              <a:off x="4552920" y="4992840"/>
              <a:ext cx="42840" cy="108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5" name=""/>
            <p:cNvSpPr/>
            <p:nvPr/>
          </p:nvSpPr>
          <p:spPr>
            <a:xfrm flipV="1">
              <a:off x="4638600" y="4970160"/>
              <a:ext cx="44640" cy="111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6" name=""/>
            <p:cNvSpPr/>
            <p:nvPr/>
          </p:nvSpPr>
          <p:spPr>
            <a:xfrm flipV="1">
              <a:off x="4726080" y="4938480"/>
              <a:ext cx="44280" cy="205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7" name=""/>
            <p:cNvSpPr/>
            <p:nvPr/>
          </p:nvSpPr>
          <p:spPr>
            <a:xfrm>
              <a:off x="4813200" y="4916520"/>
              <a:ext cx="22320" cy="2232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0" y="14"/>
                  </a:moveTo>
                  <a:lnTo>
                    <a:pt x="14" y="7"/>
                  </a:lnTo>
                  <a:lnTo>
                    <a:pt x="7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8" name=""/>
            <p:cNvSpPr/>
            <p:nvPr/>
          </p:nvSpPr>
          <p:spPr>
            <a:xfrm flipH="1" flipV="1">
              <a:off x="4791240" y="4829040"/>
              <a:ext cx="10800" cy="446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9" name=""/>
            <p:cNvSpPr/>
            <p:nvPr/>
          </p:nvSpPr>
          <p:spPr>
            <a:xfrm flipV="1">
              <a:off x="4781520" y="4775040"/>
              <a:ext cx="42840" cy="223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0" name=""/>
            <p:cNvSpPr/>
            <p:nvPr/>
          </p:nvSpPr>
          <p:spPr>
            <a:xfrm>
              <a:off x="4857840" y="4743360"/>
              <a:ext cx="42840" cy="9720"/>
            </a:xfrm>
            <a:custGeom>
              <a:avLst/>
              <a:gdLst/>
              <a:ahLst/>
              <a:rect l="l" t="t" r="r" b="b"/>
              <a:pathLst>
                <a:path w="27" h="6">
                  <a:moveTo>
                    <a:pt x="0" y="6"/>
                  </a:moveTo>
                  <a:lnTo>
                    <a:pt x="6" y="6"/>
                  </a:lnTo>
                  <a:lnTo>
                    <a:pt x="27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1" name=""/>
            <p:cNvSpPr/>
            <p:nvPr/>
          </p:nvSpPr>
          <p:spPr>
            <a:xfrm>
              <a:off x="4943520" y="4699080"/>
              <a:ext cx="33120" cy="22320"/>
            </a:xfrm>
            <a:custGeom>
              <a:avLst/>
              <a:gdLst/>
              <a:ahLst/>
              <a:rect l="l" t="t" r="r" b="b"/>
              <a:pathLst>
                <a:path w="21" h="14">
                  <a:moveTo>
                    <a:pt x="0" y="14"/>
                  </a:moveTo>
                  <a:lnTo>
                    <a:pt x="7" y="14"/>
                  </a:lnTo>
                  <a:lnTo>
                    <a:pt x="21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2" name=""/>
            <p:cNvSpPr/>
            <p:nvPr/>
          </p:nvSpPr>
          <p:spPr>
            <a:xfrm flipV="1">
              <a:off x="5019840" y="4667040"/>
              <a:ext cx="44280" cy="205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3" name=""/>
            <p:cNvSpPr/>
            <p:nvPr/>
          </p:nvSpPr>
          <p:spPr>
            <a:xfrm flipV="1">
              <a:off x="5106960" y="4633560"/>
              <a:ext cx="33480" cy="111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4" name=""/>
            <p:cNvSpPr/>
            <p:nvPr/>
          </p:nvSpPr>
          <p:spPr>
            <a:xfrm flipV="1">
              <a:off x="5183280" y="4590720"/>
              <a:ext cx="44280" cy="205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5" name=""/>
            <p:cNvSpPr/>
            <p:nvPr/>
          </p:nvSpPr>
          <p:spPr>
            <a:xfrm flipV="1">
              <a:off x="5259240" y="4557600"/>
              <a:ext cx="44640" cy="223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6" name=""/>
            <p:cNvSpPr/>
            <p:nvPr/>
          </p:nvSpPr>
          <p:spPr>
            <a:xfrm>
              <a:off x="5346720" y="4525920"/>
              <a:ext cx="44280" cy="11160"/>
            </a:xfrm>
            <a:custGeom>
              <a:avLst/>
              <a:gdLst/>
              <a:ahLst/>
              <a:rect l="l" t="t" r="r" b="b"/>
              <a:pathLst>
                <a:path w="28" h="7">
                  <a:moveTo>
                    <a:pt x="0" y="7"/>
                  </a:moveTo>
                  <a:lnTo>
                    <a:pt x="7" y="7"/>
                  </a:lnTo>
                  <a:lnTo>
                    <a:pt x="21" y="0"/>
                  </a:lnTo>
                  <a:lnTo>
                    <a:pt x="28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7" name=""/>
            <p:cNvSpPr/>
            <p:nvPr/>
          </p:nvSpPr>
          <p:spPr>
            <a:xfrm>
              <a:off x="5433840" y="4525920"/>
              <a:ext cx="43200" cy="111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8" name=""/>
            <p:cNvSpPr/>
            <p:nvPr/>
          </p:nvSpPr>
          <p:spPr>
            <a:xfrm>
              <a:off x="5521320" y="4537080"/>
              <a:ext cx="31680" cy="9360"/>
            </a:xfrm>
            <a:custGeom>
              <a:avLst/>
              <a:gdLst/>
              <a:ahLst/>
              <a:rect l="l" t="t" r="r" b="b"/>
              <a:pathLst>
                <a:path w="20" h="6">
                  <a:moveTo>
                    <a:pt x="0" y="0"/>
                  </a:moveTo>
                  <a:lnTo>
                    <a:pt x="20" y="0"/>
                  </a:lnTo>
                  <a:lnTo>
                    <a:pt x="13" y="6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9" name=""/>
            <p:cNvSpPr/>
            <p:nvPr/>
          </p:nvSpPr>
          <p:spPr>
            <a:xfrm flipH="1">
              <a:off x="5520960" y="4591080"/>
              <a:ext cx="20520" cy="428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0" name=""/>
            <p:cNvSpPr/>
            <p:nvPr/>
          </p:nvSpPr>
          <p:spPr>
            <a:xfrm flipH="1">
              <a:off x="5498640" y="4678200"/>
              <a:ext cx="11160" cy="432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1" name=""/>
            <p:cNvSpPr/>
            <p:nvPr/>
          </p:nvSpPr>
          <p:spPr>
            <a:xfrm>
              <a:off x="5467320" y="4764240"/>
              <a:ext cx="20520" cy="33120"/>
            </a:xfrm>
            <a:custGeom>
              <a:avLst/>
              <a:gdLst/>
              <a:ahLst/>
              <a:rect l="l" t="t" r="r" b="b"/>
              <a:pathLst>
                <a:path w="13" h="21">
                  <a:moveTo>
                    <a:pt x="13" y="0"/>
                  </a:moveTo>
                  <a:lnTo>
                    <a:pt x="13" y="0"/>
                  </a:lnTo>
                  <a:lnTo>
                    <a:pt x="6" y="14"/>
                  </a:lnTo>
                  <a:lnTo>
                    <a:pt x="0" y="21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2" name=""/>
            <p:cNvSpPr/>
            <p:nvPr/>
          </p:nvSpPr>
          <p:spPr>
            <a:xfrm>
              <a:off x="5423040" y="4808520"/>
              <a:ext cx="21960" cy="428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3" name=""/>
            <p:cNvSpPr/>
            <p:nvPr/>
          </p:nvSpPr>
          <p:spPr>
            <a:xfrm>
              <a:off x="5456160" y="4894200"/>
              <a:ext cx="20880" cy="334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4" name=""/>
            <p:cNvSpPr/>
            <p:nvPr/>
          </p:nvSpPr>
          <p:spPr>
            <a:xfrm>
              <a:off x="5499000" y="4970520"/>
              <a:ext cx="11160" cy="442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5" name=""/>
            <p:cNvSpPr/>
            <p:nvPr/>
          </p:nvSpPr>
          <p:spPr>
            <a:xfrm>
              <a:off x="5532480" y="5057640"/>
              <a:ext cx="20520" cy="334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6" name=""/>
            <p:cNvSpPr/>
            <p:nvPr/>
          </p:nvSpPr>
          <p:spPr>
            <a:xfrm>
              <a:off x="5564160" y="5133960"/>
              <a:ext cx="22320" cy="428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7" name=""/>
            <p:cNvSpPr/>
            <p:nvPr/>
          </p:nvSpPr>
          <p:spPr>
            <a:xfrm>
              <a:off x="5618160" y="5199120"/>
              <a:ext cx="44280" cy="11160"/>
            </a:xfrm>
            <a:custGeom>
              <a:avLst/>
              <a:gdLst/>
              <a:ahLst/>
              <a:rect l="l" t="t" r="r" b="b"/>
              <a:pathLst>
                <a:path w="28" h="7">
                  <a:moveTo>
                    <a:pt x="0" y="0"/>
                  </a:moveTo>
                  <a:lnTo>
                    <a:pt x="7" y="7"/>
                  </a:lnTo>
                  <a:lnTo>
                    <a:pt x="28" y="7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8" name=""/>
            <p:cNvSpPr/>
            <p:nvPr/>
          </p:nvSpPr>
          <p:spPr>
            <a:xfrm>
              <a:off x="5705640" y="5210280"/>
              <a:ext cx="44280" cy="111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9" name=""/>
            <p:cNvSpPr/>
            <p:nvPr/>
          </p:nvSpPr>
          <p:spPr>
            <a:xfrm>
              <a:off x="5792760" y="5221440"/>
              <a:ext cx="44640" cy="10800"/>
            </a:xfrm>
            <a:custGeom>
              <a:avLst/>
              <a:gdLst/>
              <a:ahLst/>
              <a:rect l="l" t="t" r="r" b="b"/>
              <a:pathLst>
                <a:path w="28" h="7">
                  <a:moveTo>
                    <a:pt x="0" y="0"/>
                  </a:moveTo>
                  <a:lnTo>
                    <a:pt x="7" y="0"/>
                  </a:lnTo>
                  <a:lnTo>
                    <a:pt x="21" y="0"/>
                  </a:lnTo>
                  <a:lnTo>
                    <a:pt x="28" y="7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0" name=""/>
            <p:cNvSpPr/>
            <p:nvPr/>
          </p:nvSpPr>
          <p:spPr>
            <a:xfrm>
              <a:off x="5869080" y="5253120"/>
              <a:ext cx="44280" cy="223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1" name=""/>
            <p:cNvSpPr/>
            <p:nvPr/>
          </p:nvSpPr>
          <p:spPr>
            <a:xfrm>
              <a:off x="5945040" y="5297400"/>
              <a:ext cx="44640" cy="208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2" name=""/>
            <p:cNvSpPr/>
            <p:nvPr/>
          </p:nvSpPr>
          <p:spPr>
            <a:xfrm>
              <a:off x="6021360" y="5340240"/>
              <a:ext cx="44640" cy="320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3" name=""/>
            <p:cNvSpPr/>
            <p:nvPr/>
          </p:nvSpPr>
          <p:spPr>
            <a:xfrm>
              <a:off x="6097680" y="5394240"/>
              <a:ext cx="11160" cy="33480"/>
            </a:xfrm>
            <a:custGeom>
              <a:avLst/>
              <a:gdLst/>
              <a:ahLst/>
              <a:rect l="l" t="t" r="r" b="b"/>
              <a:pathLst>
                <a:path w="7" h="21">
                  <a:moveTo>
                    <a:pt x="0" y="0"/>
                  </a:moveTo>
                  <a:lnTo>
                    <a:pt x="7" y="0"/>
                  </a:lnTo>
                  <a:lnTo>
                    <a:pt x="0" y="21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4" name=""/>
            <p:cNvSpPr/>
            <p:nvPr/>
          </p:nvSpPr>
          <p:spPr>
            <a:xfrm flipH="1">
              <a:off x="6066000" y="5459400"/>
              <a:ext cx="9360" cy="334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5" name=""/>
            <p:cNvSpPr/>
            <p:nvPr/>
          </p:nvSpPr>
          <p:spPr>
            <a:xfrm>
              <a:off x="3105000" y="3200400"/>
              <a:ext cx="816120" cy="390600"/>
            </a:xfrm>
            <a:custGeom>
              <a:avLst/>
              <a:gdLst/>
              <a:ahLst/>
              <a:rect l="l" t="t" r="r" b="b"/>
              <a:pathLst>
                <a:path w="514" h="246">
                  <a:moveTo>
                    <a:pt x="514" y="48"/>
                  </a:moveTo>
                  <a:lnTo>
                    <a:pt x="459" y="41"/>
                  </a:lnTo>
                  <a:lnTo>
                    <a:pt x="322" y="20"/>
                  </a:lnTo>
                  <a:lnTo>
                    <a:pt x="226" y="7"/>
                  </a:lnTo>
                  <a:lnTo>
                    <a:pt x="164" y="0"/>
                  </a:lnTo>
                  <a:lnTo>
                    <a:pt x="164" y="62"/>
                  </a:lnTo>
                  <a:lnTo>
                    <a:pt x="164" y="123"/>
                  </a:lnTo>
                  <a:lnTo>
                    <a:pt x="157" y="130"/>
                  </a:lnTo>
                  <a:lnTo>
                    <a:pt x="157" y="150"/>
                  </a:lnTo>
                  <a:lnTo>
                    <a:pt x="109" y="185"/>
                  </a:lnTo>
                  <a:lnTo>
                    <a:pt x="48" y="226"/>
                  </a:lnTo>
                  <a:lnTo>
                    <a:pt x="0" y="246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6" name=""/>
            <p:cNvSpPr/>
            <p:nvPr/>
          </p:nvSpPr>
          <p:spPr>
            <a:xfrm flipH="1">
              <a:off x="4366800" y="4981680"/>
              <a:ext cx="11160" cy="442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7" name=""/>
            <p:cNvSpPr/>
            <p:nvPr/>
          </p:nvSpPr>
          <p:spPr>
            <a:xfrm flipH="1">
              <a:off x="4355640" y="5068800"/>
              <a:ext cx="11160" cy="428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8" name=""/>
            <p:cNvSpPr/>
            <p:nvPr/>
          </p:nvSpPr>
          <p:spPr>
            <a:xfrm>
              <a:off x="4344840" y="5156280"/>
              <a:ext cx="1800" cy="428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9" name=""/>
            <p:cNvSpPr/>
            <p:nvPr/>
          </p:nvSpPr>
          <p:spPr>
            <a:xfrm flipH="1">
              <a:off x="4323960" y="5241960"/>
              <a:ext cx="9720" cy="442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0" name=""/>
            <p:cNvSpPr/>
            <p:nvPr/>
          </p:nvSpPr>
          <p:spPr>
            <a:xfrm flipH="1">
              <a:off x="4312800" y="5329080"/>
              <a:ext cx="11160" cy="432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1" name=""/>
            <p:cNvSpPr/>
            <p:nvPr/>
          </p:nvSpPr>
          <p:spPr>
            <a:xfrm>
              <a:off x="4302000" y="5416560"/>
              <a:ext cx="1800" cy="428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2" name=""/>
            <p:cNvSpPr/>
            <p:nvPr/>
          </p:nvSpPr>
          <p:spPr>
            <a:xfrm>
              <a:off x="4290840" y="5504040"/>
              <a:ext cx="1800" cy="316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3" name=""/>
            <p:cNvSpPr/>
            <p:nvPr/>
          </p:nvSpPr>
          <p:spPr>
            <a:xfrm flipV="1">
              <a:off x="4378320" y="4893840"/>
              <a:ext cx="11160" cy="874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4" name=""/>
            <p:cNvSpPr/>
            <p:nvPr/>
          </p:nvSpPr>
          <p:spPr>
            <a:xfrm>
              <a:off x="4410000" y="4743360"/>
              <a:ext cx="55800" cy="65160"/>
            </a:xfrm>
            <a:custGeom>
              <a:avLst/>
              <a:gdLst/>
              <a:ahLst/>
              <a:rect l="l" t="t" r="r" b="b"/>
              <a:pathLst>
                <a:path w="35" h="41">
                  <a:moveTo>
                    <a:pt x="0" y="41"/>
                  </a:moveTo>
                  <a:lnTo>
                    <a:pt x="35" y="0"/>
                  </a:lnTo>
                  <a:lnTo>
                    <a:pt x="35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5" name=""/>
            <p:cNvSpPr/>
            <p:nvPr/>
          </p:nvSpPr>
          <p:spPr>
            <a:xfrm flipV="1">
              <a:off x="4519440" y="4611240"/>
              <a:ext cx="65160" cy="666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6" name=""/>
            <p:cNvSpPr/>
            <p:nvPr/>
          </p:nvSpPr>
          <p:spPr>
            <a:xfrm flipV="1">
              <a:off x="4638600" y="4471560"/>
              <a:ext cx="66600" cy="651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7" name=""/>
            <p:cNvSpPr/>
            <p:nvPr/>
          </p:nvSpPr>
          <p:spPr>
            <a:xfrm>
              <a:off x="4759200" y="4340160"/>
              <a:ext cx="65160" cy="65160"/>
            </a:xfrm>
            <a:custGeom>
              <a:avLst/>
              <a:gdLst/>
              <a:ahLst/>
              <a:rect l="l" t="t" r="r" b="b"/>
              <a:pathLst>
                <a:path w="41" h="41">
                  <a:moveTo>
                    <a:pt x="0" y="41"/>
                  </a:moveTo>
                  <a:lnTo>
                    <a:pt x="14" y="28"/>
                  </a:lnTo>
                  <a:lnTo>
                    <a:pt x="41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8" name=""/>
            <p:cNvSpPr/>
            <p:nvPr/>
          </p:nvSpPr>
          <p:spPr>
            <a:xfrm>
              <a:off x="4878360" y="4232160"/>
              <a:ext cx="65160" cy="42840"/>
            </a:xfrm>
            <a:custGeom>
              <a:avLst/>
              <a:gdLst/>
              <a:ahLst/>
              <a:rect l="l" t="t" r="r" b="b"/>
              <a:pathLst>
                <a:path w="41" h="27">
                  <a:moveTo>
                    <a:pt x="0" y="27"/>
                  </a:moveTo>
                  <a:lnTo>
                    <a:pt x="21" y="0"/>
                  </a:lnTo>
                  <a:lnTo>
                    <a:pt x="41" y="7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9" name=""/>
            <p:cNvSpPr/>
            <p:nvPr/>
          </p:nvSpPr>
          <p:spPr>
            <a:xfrm flipV="1">
              <a:off x="5030640" y="4210200"/>
              <a:ext cx="33480" cy="108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0" name=""/>
            <p:cNvSpPr/>
            <p:nvPr/>
          </p:nvSpPr>
          <p:spPr>
            <a:xfrm>
              <a:off x="3105000" y="3591000"/>
              <a:ext cx="42840" cy="223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1" name=""/>
            <p:cNvSpPr/>
            <p:nvPr/>
          </p:nvSpPr>
          <p:spPr>
            <a:xfrm>
              <a:off x="3192480" y="3624120"/>
              <a:ext cx="42840" cy="111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2" name=""/>
            <p:cNvSpPr/>
            <p:nvPr/>
          </p:nvSpPr>
          <p:spPr>
            <a:xfrm>
              <a:off x="3213000" y="3666960"/>
              <a:ext cx="22320" cy="33480"/>
            </a:xfrm>
            <a:custGeom>
              <a:avLst/>
              <a:gdLst/>
              <a:ahLst/>
              <a:rect l="l" t="t" r="r" b="b"/>
              <a:pathLst>
                <a:path w="14" h="21">
                  <a:moveTo>
                    <a:pt x="14" y="0"/>
                  </a:moveTo>
                  <a:lnTo>
                    <a:pt x="14" y="0"/>
                  </a:lnTo>
                  <a:lnTo>
                    <a:pt x="0" y="14"/>
                  </a:lnTo>
                  <a:lnTo>
                    <a:pt x="0" y="21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3" name=""/>
            <p:cNvSpPr/>
            <p:nvPr/>
          </p:nvSpPr>
          <p:spPr>
            <a:xfrm>
              <a:off x="3170160" y="3732120"/>
              <a:ext cx="22320" cy="44640"/>
            </a:xfrm>
            <a:custGeom>
              <a:avLst/>
              <a:gdLst/>
              <a:ahLst/>
              <a:rect l="l" t="t" r="r" b="b"/>
              <a:pathLst>
                <a:path w="14" h="28">
                  <a:moveTo>
                    <a:pt x="14" y="0"/>
                  </a:moveTo>
                  <a:lnTo>
                    <a:pt x="14" y="7"/>
                  </a:lnTo>
                  <a:lnTo>
                    <a:pt x="7" y="14"/>
                  </a:lnTo>
                  <a:lnTo>
                    <a:pt x="0" y="21"/>
                  </a:lnTo>
                  <a:lnTo>
                    <a:pt x="0" y="28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4" name=""/>
            <p:cNvSpPr/>
            <p:nvPr/>
          </p:nvSpPr>
          <p:spPr>
            <a:xfrm>
              <a:off x="3159000" y="3819600"/>
              <a:ext cx="1800" cy="42840"/>
            </a:xfrm>
            <a:custGeom>
              <a:avLst/>
              <a:gdLst/>
              <a:ahLst/>
              <a:rect l="l" t="t" r="r" b="b"/>
              <a:pathLst>
                <a:path w="0" h="27">
                  <a:moveTo>
                    <a:pt x="0" y="0"/>
                  </a:moveTo>
                  <a:lnTo>
                    <a:pt x="0" y="21"/>
                  </a:lnTo>
                  <a:lnTo>
                    <a:pt x="0" y="27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5" name=""/>
            <p:cNvSpPr/>
            <p:nvPr/>
          </p:nvSpPr>
          <p:spPr>
            <a:xfrm>
              <a:off x="3159000" y="3906720"/>
              <a:ext cx="1800" cy="42840"/>
            </a:xfrm>
            <a:custGeom>
              <a:avLst/>
              <a:gdLst/>
              <a:ahLst/>
              <a:rect l="l" t="t" r="r" b="b"/>
              <a:pathLst>
                <a:path w="0" h="27">
                  <a:moveTo>
                    <a:pt x="0" y="0"/>
                  </a:moveTo>
                  <a:lnTo>
                    <a:pt x="0" y="13"/>
                  </a:lnTo>
                  <a:lnTo>
                    <a:pt x="0" y="27"/>
                  </a:lnTo>
                  <a:lnTo>
                    <a:pt x="0" y="27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6" name=""/>
            <p:cNvSpPr/>
            <p:nvPr/>
          </p:nvSpPr>
          <p:spPr>
            <a:xfrm>
              <a:off x="3147840" y="3992400"/>
              <a:ext cx="1800" cy="44640"/>
            </a:xfrm>
            <a:custGeom>
              <a:avLst/>
              <a:gdLst/>
              <a:ahLst/>
              <a:rect l="l" t="t" r="r" b="b"/>
              <a:pathLst>
                <a:path w="0" h="28">
                  <a:moveTo>
                    <a:pt x="0" y="0"/>
                  </a:moveTo>
                  <a:lnTo>
                    <a:pt x="0" y="14"/>
                  </a:lnTo>
                  <a:lnTo>
                    <a:pt x="0" y="28"/>
                  </a:lnTo>
                  <a:lnTo>
                    <a:pt x="0" y="28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7" name=""/>
            <p:cNvSpPr/>
            <p:nvPr/>
          </p:nvSpPr>
          <p:spPr>
            <a:xfrm>
              <a:off x="3147840" y="4079880"/>
              <a:ext cx="11160" cy="44280"/>
            </a:xfrm>
            <a:custGeom>
              <a:avLst/>
              <a:gdLst/>
              <a:ahLst/>
              <a:rect l="l" t="t" r="r" b="b"/>
              <a:pathLst>
                <a:path w="7" h="28">
                  <a:moveTo>
                    <a:pt x="0" y="0"/>
                  </a:moveTo>
                  <a:lnTo>
                    <a:pt x="0" y="7"/>
                  </a:lnTo>
                  <a:lnTo>
                    <a:pt x="7" y="21"/>
                  </a:lnTo>
                  <a:lnTo>
                    <a:pt x="7" y="28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8" name=""/>
            <p:cNvSpPr/>
            <p:nvPr/>
          </p:nvSpPr>
          <p:spPr>
            <a:xfrm>
              <a:off x="3170160" y="4167360"/>
              <a:ext cx="22320" cy="42840"/>
            </a:xfrm>
            <a:custGeom>
              <a:avLst/>
              <a:gdLst/>
              <a:ahLst/>
              <a:rect l="l" t="t" r="r" b="b"/>
              <a:pathLst>
                <a:path w="14" h="27">
                  <a:moveTo>
                    <a:pt x="0" y="0"/>
                  </a:moveTo>
                  <a:lnTo>
                    <a:pt x="7" y="7"/>
                  </a:lnTo>
                  <a:lnTo>
                    <a:pt x="14" y="20"/>
                  </a:lnTo>
                  <a:lnTo>
                    <a:pt x="14" y="27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9" name=""/>
            <p:cNvSpPr/>
            <p:nvPr/>
          </p:nvSpPr>
          <p:spPr>
            <a:xfrm>
              <a:off x="3192480" y="4254480"/>
              <a:ext cx="20520" cy="3168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0" y="0"/>
                  </a:moveTo>
                  <a:lnTo>
                    <a:pt x="6" y="0"/>
                  </a:lnTo>
                  <a:lnTo>
                    <a:pt x="6" y="13"/>
                  </a:lnTo>
                  <a:lnTo>
                    <a:pt x="6" y="20"/>
                  </a:lnTo>
                  <a:lnTo>
                    <a:pt x="13" y="2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0" name=""/>
            <p:cNvSpPr/>
            <p:nvPr/>
          </p:nvSpPr>
          <p:spPr>
            <a:xfrm>
              <a:off x="3224160" y="4330800"/>
              <a:ext cx="1800" cy="42840"/>
            </a:xfrm>
            <a:custGeom>
              <a:avLst/>
              <a:gdLst/>
              <a:ahLst/>
              <a:rect l="l" t="t" r="r" b="b"/>
              <a:pathLst>
                <a:path w="0" h="27">
                  <a:moveTo>
                    <a:pt x="0" y="0"/>
                  </a:moveTo>
                  <a:lnTo>
                    <a:pt x="0" y="0"/>
                  </a:lnTo>
                  <a:lnTo>
                    <a:pt x="0" y="27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1" name=""/>
            <p:cNvSpPr/>
            <p:nvPr/>
          </p:nvSpPr>
          <p:spPr>
            <a:xfrm>
              <a:off x="3224160" y="4416480"/>
              <a:ext cx="1800" cy="44280"/>
            </a:xfrm>
            <a:custGeom>
              <a:avLst/>
              <a:gdLst/>
              <a:ahLst/>
              <a:rect l="l" t="t" r="r" b="b"/>
              <a:pathLst>
                <a:path w="0" h="28">
                  <a:moveTo>
                    <a:pt x="0" y="0"/>
                  </a:moveTo>
                  <a:lnTo>
                    <a:pt x="0" y="14"/>
                  </a:lnTo>
                  <a:lnTo>
                    <a:pt x="0" y="28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2" name=""/>
            <p:cNvSpPr/>
            <p:nvPr/>
          </p:nvSpPr>
          <p:spPr>
            <a:xfrm>
              <a:off x="3224160" y="4503600"/>
              <a:ext cx="1800" cy="42840"/>
            </a:xfrm>
            <a:custGeom>
              <a:avLst/>
              <a:gdLst/>
              <a:ahLst/>
              <a:rect l="l" t="t" r="r" b="b"/>
              <a:pathLst>
                <a:path w="0" h="27">
                  <a:moveTo>
                    <a:pt x="0" y="0"/>
                  </a:moveTo>
                  <a:lnTo>
                    <a:pt x="0" y="7"/>
                  </a:lnTo>
                  <a:lnTo>
                    <a:pt x="0" y="27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3" name=""/>
            <p:cNvSpPr/>
            <p:nvPr/>
          </p:nvSpPr>
          <p:spPr>
            <a:xfrm>
              <a:off x="3235320" y="4591080"/>
              <a:ext cx="11160" cy="42840"/>
            </a:xfrm>
            <a:custGeom>
              <a:avLst/>
              <a:gdLst/>
              <a:ahLst/>
              <a:rect l="l" t="t" r="r" b="b"/>
              <a:pathLst>
                <a:path w="7" h="27">
                  <a:moveTo>
                    <a:pt x="0" y="0"/>
                  </a:moveTo>
                  <a:lnTo>
                    <a:pt x="0" y="13"/>
                  </a:lnTo>
                  <a:lnTo>
                    <a:pt x="0" y="27"/>
                  </a:lnTo>
                  <a:lnTo>
                    <a:pt x="7" y="27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4" name=""/>
            <p:cNvSpPr/>
            <p:nvPr/>
          </p:nvSpPr>
          <p:spPr>
            <a:xfrm>
              <a:off x="3289320" y="4656240"/>
              <a:ext cx="33480" cy="11160"/>
            </a:xfrm>
            <a:custGeom>
              <a:avLst/>
              <a:gdLst/>
              <a:ahLst/>
              <a:rect l="l" t="t" r="r" b="b"/>
              <a:pathLst>
                <a:path w="21" h="7">
                  <a:moveTo>
                    <a:pt x="0" y="0"/>
                  </a:moveTo>
                  <a:lnTo>
                    <a:pt x="7" y="0"/>
                  </a:lnTo>
                  <a:lnTo>
                    <a:pt x="14" y="7"/>
                  </a:lnTo>
                  <a:lnTo>
                    <a:pt x="21" y="7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5" name=""/>
            <p:cNvSpPr/>
            <p:nvPr/>
          </p:nvSpPr>
          <p:spPr>
            <a:xfrm>
              <a:off x="3344760" y="4687920"/>
              <a:ext cx="1800" cy="442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6" name=""/>
            <p:cNvSpPr/>
            <p:nvPr/>
          </p:nvSpPr>
          <p:spPr>
            <a:xfrm>
              <a:off x="3354480" y="4775040"/>
              <a:ext cx="44280" cy="11160"/>
            </a:xfrm>
            <a:custGeom>
              <a:avLst/>
              <a:gdLst/>
              <a:ahLst/>
              <a:rect l="l" t="t" r="r" b="b"/>
              <a:pathLst>
                <a:path w="28" h="7">
                  <a:moveTo>
                    <a:pt x="0" y="0"/>
                  </a:moveTo>
                  <a:lnTo>
                    <a:pt x="7" y="0"/>
                  </a:lnTo>
                  <a:lnTo>
                    <a:pt x="28" y="7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7" name=""/>
            <p:cNvSpPr/>
            <p:nvPr/>
          </p:nvSpPr>
          <p:spPr>
            <a:xfrm>
              <a:off x="3441600" y="4797360"/>
              <a:ext cx="44640" cy="18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8" name=""/>
            <p:cNvSpPr/>
            <p:nvPr/>
          </p:nvSpPr>
          <p:spPr>
            <a:xfrm>
              <a:off x="3529080" y="4808520"/>
              <a:ext cx="44280" cy="9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9" name=""/>
            <p:cNvSpPr/>
            <p:nvPr/>
          </p:nvSpPr>
          <p:spPr>
            <a:xfrm>
              <a:off x="3616200" y="4829040"/>
              <a:ext cx="42840" cy="1800"/>
            </a:xfrm>
            <a:custGeom>
              <a:avLst/>
              <a:gdLst/>
              <a:ahLst/>
              <a:rect l="l" t="t" r="r" b="b"/>
              <a:pathLst>
                <a:path w="27" h="0">
                  <a:moveTo>
                    <a:pt x="0" y="0"/>
                  </a:moveTo>
                  <a:lnTo>
                    <a:pt x="14" y="0"/>
                  </a:lnTo>
                  <a:lnTo>
                    <a:pt x="27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0" name=""/>
            <p:cNvSpPr/>
            <p:nvPr/>
          </p:nvSpPr>
          <p:spPr>
            <a:xfrm>
              <a:off x="3703680" y="4840200"/>
              <a:ext cx="42840" cy="111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1" name=""/>
            <p:cNvSpPr/>
            <p:nvPr/>
          </p:nvSpPr>
          <p:spPr>
            <a:xfrm>
              <a:off x="3790800" y="4840200"/>
              <a:ext cx="42840" cy="11160"/>
            </a:xfrm>
            <a:custGeom>
              <a:avLst/>
              <a:gdLst/>
              <a:ahLst/>
              <a:rect l="l" t="t" r="r" b="b"/>
              <a:pathLst>
                <a:path w="27" h="7">
                  <a:moveTo>
                    <a:pt x="0" y="0"/>
                  </a:moveTo>
                  <a:lnTo>
                    <a:pt x="7" y="0"/>
                  </a:lnTo>
                  <a:lnTo>
                    <a:pt x="20" y="7"/>
                  </a:lnTo>
                  <a:lnTo>
                    <a:pt x="27" y="7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2" name=""/>
            <p:cNvSpPr/>
            <p:nvPr/>
          </p:nvSpPr>
          <p:spPr>
            <a:xfrm>
              <a:off x="3867120" y="4873680"/>
              <a:ext cx="42840" cy="20520"/>
            </a:xfrm>
            <a:custGeom>
              <a:avLst/>
              <a:gdLst/>
              <a:ahLst/>
              <a:rect l="l" t="t" r="r" b="b"/>
              <a:pathLst>
                <a:path w="27" h="13">
                  <a:moveTo>
                    <a:pt x="0" y="0"/>
                  </a:moveTo>
                  <a:lnTo>
                    <a:pt x="13" y="7"/>
                  </a:lnTo>
                  <a:lnTo>
                    <a:pt x="27" y="13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3" name=""/>
            <p:cNvSpPr/>
            <p:nvPr/>
          </p:nvSpPr>
          <p:spPr>
            <a:xfrm>
              <a:off x="3943440" y="4916520"/>
              <a:ext cx="11160" cy="42840"/>
            </a:xfrm>
            <a:custGeom>
              <a:avLst/>
              <a:gdLst/>
              <a:ahLst/>
              <a:rect l="l" t="t" r="r" b="b"/>
              <a:pathLst>
                <a:path w="7" h="27">
                  <a:moveTo>
                    <a:pt x="0" y="0"/>
                  </a:moveTo>
                  <a:lnTo>
                    <a:pt x="7" y="7"/>
                  </a:lnTo>
                  <a:lnTo>
                    <a:pt x="0" y="27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4" name=""/>
            <p:cNvSpPr/>
            <p:nvPr/>
          </p:nvSpPr>
          <p:spPr>
            <a:xfrm flipH="1">
              <a:off x="3931920" y="5003640"/>
              <a:ext cx="11160" cy="432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5" name=""/>
            <p:cNvSpPr/>
            <p:nvPr/>
          </p:nvSpPr>
          <p:spPr>
            <a:xfrm>
              <a:off x="3921120" y="5091120"/>
              <a:ext cx="1440" cy="428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6" name=""/>
            <p:cNvSpPr/>
            <p:nvPr/>
          </p:nvSpPr>
          <p:spPr>
            <a:xfrm>
              <a:off x="3887640" y="5176800"/>
              <a:ext cx="22320" cy="44640"/>
            </a:xfrm>
            <a:custGeom>
              <a:avLst/>
              <a:gdLst/>
              <a:ahLst/>
              <a:rect l="l" t="t" r="r" b="b"/>
              <a:pathLst>
                <a:path w="14" h="28">
                  <a:moveTo>
                    <a:pt x="14" y="0"/>
                  </a:moveTo>
                  <a:lnTo>
                    <a:pt x="7" y="7"/>
                  </a:lnTo>
                  <a:lnTo>
                    <a:pt x="0" y="28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7" name=""/>
            <p:cNvSpPr/>
            <p:nvPr/>
          </p:nvSpPr>
          <p:spPr>
            <a:xfrm>
              <a:off x="3878280" y="5264280"/>
              <a:ext cx="9360" cy="42840"/>
            </a:xfrm>
            <a:custGeom>
              <a:avLst/>
              <a:gdLst/>
              <a:ahLst/>
              <a:rect l="l" t="t" r="r" b="b"/>
              <a:pathLst>
                <a:path w="6" h="27">
                  <a:moveTo>
                    <a:pt x="6" y="0"/>
                  </a:moveTo>
                  <a:lnTo>
                    <a:pt x="6" y="0"/>
                  </a:lnTo>
                  <a:lnTo>
                    <a:pt x="0" y="27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8" name=""/>
            <p:cNvSpPr/>
            <p:nvPr/>
          </p:nvSpPr>
          <p:spPr>
            <a:xfrm flipH="1">
              <a:off x="3866760" y="5351400"/>
              <a:ext cx="11160" cy="428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9" name=""/>
            <p:cNvSpPr/>
            <p:nvPr/>
          </p:nvSpPr>
          <p:spPr>
            <a:xfrm flipH="1">
              <a:off x="3855600" y="5438880"/>
              <a:ext cx="11160" cy="428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0" name=""/>
            <p:cNvSpPr/>
            <p:nvPr/>
          </p:nvSpPr>
          <p:spPr>
            <a:xfrm>
              <a:off x="3855960" y="5524560"/>
              <a:ext cx="1800" cy="111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1" name=""/>
            <p:cNvSpPr/>
            <p:nvPr/>
          </p:nvSpPr>
          <p:spPr>
            <a:xfrm flipH="1">
              <a:off x="6663960" y="5459400"/>
              <a:ext cx="4284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2" name=""/>
            <p:cNvSpPr/>
            <p:nvPr/>
          </p:nvSpPr>
          <p:spPr>
            <a:xfrm flipH="1">
              <a:off x="6576840" y="5459400"/>
              <a:ext cx="4320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3" name=""/>
            <p:cNvSpPr/>
            <p:nvPr/>
          </p:nvSpPr>
          <p:spPr>
            <a:xfrm flipH="1">
              <a:off x="6489360" y="5470560"/>
              <a:ext cx="4284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4" name=""/>
            <p:cNvSpPr/>
            <p:nvPr/>
          </p:nvSpPr>
          <p:spPr>
            <a:xfrm flipH="1">
              <a:off x="6402240" y="5470560"/>
              <a:ext cx="4464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5" name=""/>
            <p:cNvSpPr/>
            <p:nvPr/>
          </p:nvSpPr>
          <p:spPr>
            <a:xfrm flipH="1">
              <a:off x="6314760" y="5470560"/>
              <a:ext cx="44280" cy="111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6" name=""/>
            <p:cNvSpPr/>
            <p:nvPr/>
          </p:nvSpPr>
          <p:spPr>
            <a:xfrm flipH="1">
              <a:off x="6227640" y="5481720"/>
              <a:ext cx="4464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7" name=""/>
            <p:cNvSpPr/>
            <p:nvPr/>
          </p:nvSpPr>
          <p:spPr>
            <a:xfrm flipH="1">
              <a:off x="6130440" y="5481720"/>
              <a:ext cx="42840" cy="111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8" name=""/>
            <p:cNvSpPr/>
            <p:nvPr/>
          </p:nvSpPr>
          <p:spPr>
            <a:xfrm flipH="1">
              <a:off x="6043320" y="5492880"/>
              <a:ext cx="4284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9" name=""/>
            <p:cNvSpPr/>
            <p:nvPr/>
          </p:nvSpPr>
          <p:spPr>
            <a:xfrm flipH="1">
              <a:off x="5955840" y="5492880"/>
              <a:ext cx="4284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0" name=""/>
            <p:cNvSpPr/>
            <p:nvPr/>
          </p:nvSpPr>
          <p:spPr>
            <a:xfrm flipH="1">
              <a:off x="5868720" y="5492880"/>
              <a:ext cx="44280" cy="111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1" name=""/>
            <p:cNvSpPr/>
            <p:nvPr/>
          </p:nvSpPr>
          <p:spPr>
            <a:xfrm flipH="1">
              <a:off x="5781600" y="5504040"/>
              <a:ext cx="4464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2" name=""/>
            <p:cNvSpPr/>
            <p:nvPr/>
          </p:nvSpPr>
          <p:spPr>
            <a:xfrm flipH="1">
              <a:off x="5694120" y="5504040"/>
              <a:ext cx="4428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3" name=""/>
            <p:cNvSpPr/>
            <p:nvPr/>
          </p:nvSpPr>
          <p:spPr>
            <a:xfrm flipH="1">
              <a:off x="5608440" y="5504040"/>
              <a:ext cx="4284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4" name=""/>
            <p:cNvSpPr/>
            <p:nvPr/>
          </p:nvSpPr>
          <p:spPr>
            <a:xfrm flipH="1">
              <a:off x="5509800" y="5504040"/>
              <a:ext cx="42840" cy="93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5" name=""/>
            <p:cNvSpPr/>
            <p:nvPr/>
          </p:nvSpPr>
          <p:spPr>
            <a:xfrm flipH="1">
              <a:off x="5422680" y="5513400"/>
              <a:ext cx="4428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6" name=""/>
            <p:cNvSpPr/>
            <p:nvPr/>
          </p:nvSpPr>
          <p:spPr>
            <a:xfrm flipH="1">
              <a:off x="5335560" y="5513400"/>
              <a:ext cx="4464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7" name=""/>
            <p:cNvSpPr/>
            <p:nvPr/>
          </p:nvSpPr>
          <p:spPr>
            <a:xfrm flipH="1">
              <a:off x="5248080" y="5513400"/>
              <a:ext cx="4428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8" name=""/>
            <p:cNvSpPr/>
            <p:nvPr/>
          </p:nvSpPr>
          <p:spPr>
            <a:xfrm flipH="1">
              <a:off x="5162040" y="5513400"/>
              <a:ext cx="42840" cy="111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9" name=""/>
            <p:cNvSpPr/>
            <p:nvPr/>
          </p:nvSpPr>
          <p:spPr>
            <a:xfrm flipH="1">
              <a:off x="5074920" y="5524560"/>
              <a:ext cx="4284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0" name=""/>
            <p:cNvSpPr/>
            <p:nvPr/>
          </p:nvSpPr>
          <p:spPr>
            <a:xfrm flipH="1">
              <a:off x="4987440" y="5524560"/>
              <a:ext cx="4284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1" name=""/>
            <p:cNvSpPr/>
            <p:nvPr/>
          </p:nvSpPr>
          <p:spPr>
            <a:xfrm flipH="1">
              <a:off x="4889160" y="5524560"/>
              <a:ext cx="4428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2" name=""/>
            <p:cNvSpPr/>
            <p:nvPr/>
          </p:nvSpPr>
          <p:spPr>
            <a:xfrm flipH="1">
              <a:off x="4802040" y="5524560"/>
              <a:ext cx="4464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3" name=""/>
            <p:cNvSpPr/>
            <p:nvPr/>
          </p:nvSpPr>
          <p:spPr>
            <a:xfrm flipH="1">
              <a:off x="4714560" y="5524560"/>
              <a:ext cx="4428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4" name=""/>
            <p:cNvSpPr/>
            <p:nvPr/>
          </p:nvSpPr>
          <p:spPr>
            <a:xfrm flipH="1">
              <a:off x="4628880" y="5524560"/>
              <a:ext cx="4284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5" name=""/>
            <p:cNvSpPr/>
            <p:nvPr/>
          </p:nvSpPr>
          <p:spPr>
            <a:xfrm flipH="1">
              <a:off x="4541400" y="5524560"/>
              <a:ext cx="4284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6" name=""/>
            <p:cNvSpPr/>
            <p:nvPr/>
          </p:nvSpPr>
          <p:spPr>
            <a:xfrm flipH="1">
              <a:off x="4454280" y="5524560"/>
              <a:ext cx="4284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7" name=""/>
            <p:cNvSpPr/>
            <p:nvPr/>
          </p:nvSpPr>
          <p:spPr>
            <a:xfrm flipH="1">
              <a:off x="4366800" y="5524560"/>
              <a:ext cx="4284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8" name=""/>
            <p:cNvSpPr/>
            <p:nvPr/>
          </p:nvSpPr>
          <p:spPr>
            <a:xfrm flipH="1">
              <a:off x="4268520" y="5524560"/>
              <a:ext cx="4428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9" name=""/>
            <p:cNvSpPr/>
            <p:nvPr/>
          </p:nvSpPr>
          <p:spPr>
            <a:xfrm flipH="1">
              <a:off x="4182840" y="5524560"/>
              <a:ext cx="4284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0" name=""/>
            <p:cNvSpPr/>
            <p:nvPr/>
          </p:nvSpPr>
          <p:spPr>
            <a:xfrm flipH="1">
              <a:off x="4095360" y="5524560"/>
              <a:ext cx="4284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1" name=""/>
            <p:cNvSpPr/>
            <p:nvPr/>
          </p:nvSpPr>
          <p:spPr>
            <a:xfrm flipH="1">
              <a:off x="4008240" y="5535720"/>
              <a:ext cx="4284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2" name=""/>
            <p:cNvSpPr/>
            <p:nvPr/>
          </p:nvSpPr>
          <p:spPr>
            <a:xfrm flipH="1">
              <a:off x="3920760" y="5535720"/>
              <a:ext cx="4284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3" name=""/>
            <p:cNvSpPr/>
            <p:nvPr/>
          </p:nvSpPr>
          <p:spPr>
            <a:xfrm flipH="1">
              <a:off x="3833640" y="5535720"/>
              <a:ext cx="4464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4" name=""/>
            <p:cNvSpPr/>
            <p:nvPr/>
          </p:nvSpPr>
          <p:spPr>
            <a:xfrm flipH="1">
              <a:off x="3746160" y="5535720"/>
              <a:ext cx="4428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5" name=""/>
            <p:cNvSpPr/>
            <p:nvPr/>
          </p:nvSpPr>
          <p:spPr>
            <a:xfrm flipH="1">
              <a:off x="3649320" y="5535720"/>
              <a:ext cx="42840" cy="111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6" name=""/>
            <p:cNvSpPr/>
            <p:nvPr/>
          </p:nvSpPr>
          <p:spPr>
            <a:xfrm flipH="1">
              <a:off x="3561840" y="5546880"/>
              <a:ext cx="4284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7" name=""/>
            <p:cNvSpPr/>
            <p:nvPr/>
          </p:nvSpPr>
          <p:spPr>
            <a:xfrm flipH="1">
              <a:off x="3474720" y="5546880"/>
              <a:ext cx="4284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8" name=""/>
            <p:cNvSpPr/>
            <p:nvPr/>
          </p:nvSpPr>
          <p:spPr>
            <a:xfrm flipH="1">
              <a:off x="3387240" y="5546880"/>
              <a:ext cx="4284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9" name=""/>
            <p:cNvSpPr/>
            <p:nvPr/>
          </p:nvSpPr>
          <p:spPr>
            <a:xfrm>
              <a:off x="3344760" y="5546880"/>
              <a:ext cx="180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0" name=""/>
            <p:cNvSpPr/>
            <p:nvPr/>
          </p:nvSpPr>
          <p:spPr>
            <a:xfrm flipV="1">
              <a:off x="6707160" y="5416200"/>
              <a:ext cx="11160" cy="428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1" name=""/>
            <p:cNvSpPr/>
            <p:nvPr/>
          </p:nvSpPr>
          <p:spPr>
            <a:xfrm flipV="1">
              <a:off x="6729480" y="5329080"/>
              <a:ext cx="11160" cy="432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2" name=""/>
            <p:cNvSpPr/>
            <p:nvPr/>
          </p:nvSpPr>
          <p:spPr>
            <a:xfrm>
              <a:off x="6751800" y="5241960"/>
              <a:ext cx="1440" cy="44280"/>
            </a:xfrm>
            <a:custGeom>
              <a:avLst/>
              <a:gdLst/>
              <a:ahLst/>
              <a:rect l="l" t="t" r="r" b="b"/>
              <a:pathLst>
                <a:path w="0" h="28">
                  <a:moveTo>
                    <a:pt x="0" y="28"/>
                  </a:moveTo>
                  <a:lnTo>
                    <a:pt x="0" y="28"/>
                  </a:lnTo>
                  <a:lnTo>
                    <a:pt x="0" y="21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3" name=""/>
            <p:cNvSpPr/>
            <p:nvPr/>
          </p:nvSpPr>
          <p:spPr>
            <a:xfrm>
              <a:off x="6684840" y="5176800"/>
              <a:ext cx="33480" cy="33480"/>
            </a:xfrm>
            <a:custGeom>
              <a:avLst/>
              <a:gdLst/>
              <a:ahLst/>
              <a:rect l="l" t="t" r="r" b="b"/>
              <a:pathLst>
                <a:path w="21" h="21">
                  <a:moveTo>
                    <a:pt x="21" y="21"/>
                  </a:moveTo>
                  <a:lnTo>
                    <a:pt x="7" y="14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4" name=""/>
            <p:cNvSpPr/>
            <p:nvPr/>
          </p:nvSpPr>
          <p:spPr>
            <a:xfrm>
              <a:off x="6642000" y="5100480"/>
              <a:ext cx="22320" cy="44640"/>
            </a:xfrm>
            <a:custGeom>
              <a:avLst/>
              <a:gdLst/>
              <a:ahLst/>
              <a:rect l="l" t="t" r="r" b="b"/>
              <a:pathLst>
                <a:path w="14" h="28">
                  <a:moveTo>
                    <a:pt x="14" y="28"/>
                  </a:moveTo>
                  <a:lnTo>
                    <a:pt x="14" y="21"/>
                  </a:lnTo>
                  <a:lnTo>
                    <a:pt x="0" y="7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5" name=""/>
            <p:cNvSpPr/>
            <p:nvPr/>
          </p:nvSpPr>
          <p:spPr>
            <a:xfrm flipH="1">
              <a:off x="6608520" y="5068800"/>
              <a:ext cx="11160" cy="18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6" name=""/>
            <p:cNvSpPr/>
            <p:nvPr/>
          </p:nvSpPr>
          <p:spPr>
            <a:xfrm>
              <a:off x="6642000" y="5068800"/>
              <a:ext cx="11160" cy="42840"/>
            </a:xfrm>
            <a:custGeom>
              <a:avLst/>
              <a:gdLst/>
              <a:ahLst/>
              <a:rect l="l" t="t" r="r" b="b"/>
              <a:pathLst>
                <a:path w="7" h="27">
                  <a:moveTo>
                    <a:pt x="0" y="27"/>
                  </a:moveTo>
                  <a:lnTo>
                    <a:pt x="7" y="0"/>
                  </a:lnTo>
                  <a:lnTo>
                    <a:pt x="7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7" name=""/>
            <p:cNvSpPr/>
            <p:nvPr/>
          </p:nvSpPr>
          <p:spPr>
            <a:xfrm>
              <a:off x="6642000" y="4970520"/>
              <a:ext cx="11160" cy="44280"/>
            </a:xfrm>
            <a:custGeom>
              <a:avLst/>
              <a:gdLst/>
              <a:ahLst/>
              <a:rect l="l" t="t" r="r" b="b"/>
              <a:pathLst>
                <a:path w="7" h="28">
                  <a:moveTo>
                    <a:pt x="7" y="28"/>
                  </a:moveTo>
                  <a:lnTo>
                    <a:pt x="7" y="21"/>
                  </a:lnTo>
                  <a:lnTo>
                    <a:pt x="0" y="7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8" name=""/>
            <p:cNvSpPr/>
            <p:nvPr/>
          </p:nvSpPr>
          <p:spPr>
            <a:xfrm>
              <a:off x="6599160" y="4905360"/>
              <a:ext cx="20880" cy="33480"/>
            </a:xfrm>
            <a:custGeom>
              <a:avLst/>
              <a:gdLst/>
              <a:ahLst/>
              <a:rect l="l" t="t" r="r" b="b"/>
              <a:pathLst>
                <a:path w="13" h="21">
                  <a:moveTo>
                    <a:pt x="13" y="21"/>
                  </a:moveTo>
                  <a:lnTo>
                    <a:pt x="6" y="7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9" name=""/>
            <p:cNvSpPr/>
            <p:nvPr/>
          </p:nvSpPr>
          <p:spPr>
            <a:xfrm>
              <a:off x="6588000" y="4818240"/>
              <a:ext cx="1800" cy="44280"/>
            </a:xfrm>
            <a:custGeom>
              <a:avLst/>
              <a:gdLst/>
              <a:ahLst/>
              <a:rect l="l" t="t" r="r" b="b"/>
              <a:pathLst>
                <a:path w="0" h="28">
                  <a:moveTo>
                    <a:pt x="0" y="28"/>
                  </a:moveTo>
                  <a:lnTo>
                    <a:pt x="0" y="21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0" name=""/>
            <p:cNvSpPr/>
            <p:nvPr/>
          </p:nvSpPr>
          <p:spPr>
            <a:xfrm>
              <a:off x="6576840" y="4732200"/>
              <a:ext cx="11160" cy="42840"/>
            </a:xfrm>
            <a:custGeom>
              <a:avLst/>
              <a:gdLst/>
              <a:ahLst/>
              <a:rect l="l" t="t" r="r" b="b"/>
              <a:pathLst>
                <a:path w="7" h="27">
                  <a:moveTo>
                    <a:pt x="7" y="27"/>
                  </a:moveTo>
                  <a:lnTo>
                    <a:pt x="7" y="2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1" name=""/>
            <p:cNvSpPr/>
            <p:nvPr/>
          </p:nvSpPr>
          <p:spPr>
            <a:xfrm>
              <a:off x="6576840" y="4645080"/>
              <a:ext cx="11160" cy="42840"/>
            </a:xfrm>
            <a:custGeom>
              <a:avLst/>
              <a:gdLst/>
              <a:ahLst/>
              <a:rect l="l" t="t" r="r" b="b"/>
              <a:pathLst>
                <a:path w="7" h="27">
                  <a:moveTo>
                    <a:pt x="0" y="27"/>
                  </a:moveTo>
                  <a:lnTo>
                    <a:pt x="0" y="21"/>
                  </a:lnTo>
                  <a:lnTo>
                    <a:pt x="7" y="7"/>
                  </a:lnTo>
                  <a:lnTo>
                    <a:pt x="7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2" name=""/>
            <p:cNvSpPr/>
            <p:nvPr/>
          </p:nvSpPr>
          <p:spPr>
            <a:xfrm>
              <a:off x="6608880" y="4557600"/>
              <a:ext cx="11160" cy="44640"/>
            </a:xfrm>
            <a:custGeom>
              <a:avLst/>
              <a:gdLst/>
              <a:ahLst/>
              <a:rect l="l" t="t" r="r" b="b"/>
              <a:pathLst>
                <a:path w="7" h="28">
                  <a:moveTo>
                    <a:pt x="0" y="28"/>
                  </a:moveTo>
                  <a:lnTo>
                    <a:pt x="7" y="7"/>
                  </a:lnTo>
                  <a:lnTo>
                    <a:pt x="7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3" name=""/>
            <p:cNvSpPr/>
            <p:nvPr/>
          </p:nvSpPr>
          <p:spPr>
            <a:xfrm>
              <a:off x="6642000" y="4481640"/>
              <a:ext cx="11160" cy="44280"/>
            </a:xfrm>
            <a:custGeom>
              <a:avLst/>
              <a:gdLst/>
              <a:ahLst/>
              <a:rect l="l" t="t" r="r" b="b"/>
              <a:pathLst>
                <a:path w="7" h="28">
                  <a:moveTo>
                    <a:pt x="0" y="28"/>
                  </a:moveTo>
                  <a:lnTo>
                    <a:pt x="7" y="21"/>
                  </a:lnTo>
                  <a:lnTo>
                    <a:pt x="7" y="7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4" name=""/>
            <p:cNvSpPr/>
            <p:nvPr/>
          </p:nvSpPr>
          <p:spPr>
            <a:xfrm>
              <a:off x="6664320" y="4438800"/>
              <a:ext cx="42840" cy="10800"/>
            </a:xfrm>
            <a:custGeom>
              <a:avLst/>
              <a:gdLst/>
              <a:ahLst/>
              <a:rect l="l" t="t" r="r" b="b"/>
              <a:pathLst>
                <a:path w="27" h="7">
                  <a:moveTo>
                    <a:pt x="0" y="7"/>
                  </a:moveTo>
                  <a:lnTo>
                    <a:pt x="0" y="0"/>
                  </a:lnTo>
                  <a:lnTo>
                    <a:pt x="27" y="0"/>
                  </a:lnTo>
                  <a:lnTo>
                    <a:pt x="27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5" name=""/>
            <p:cNvSpPr/>
            <p:nvPr/>
          </p:nvSpPr>
          <p:spPr>
            <a:xfrm>
              <a:off x="6751800" y="4416480"/>
              <a:ext cx="42840" cy="11160"/>
            </a:xfrm>
            <a:custGeom>
              <a:avLst/>
              <a:gdLst/>
              <a:ahLst/>
              <a:rect l="l" t="t" r="r" b="b"/>
              <a:pathLst>
                <a:path w="27" h="7">
                  <a:moveTo>
                    <a:pt x="0" y="7"/>
                  </a:moveTo>
                  <a:lnTo>
                    <a:pt x="13" y="7"/>
                  </a:lnTo>
                  <a:lnTo>
                    <a:pt x="27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6" name=""/>
            <p:cNvSpPr/>
            <p:nvPr/>
          </p:nvSpPr>
          <p:spPr>
            <a:xfrm>
              <a:off x="6837480" y="4373640"/>
              <a:ext cx="33120" cy="22320"/>
            </a:xfrm>
            <a:custGeom>
              <a:avLst/>
              <a:gdLst/>
              <a:ahLst/>
              <a:rect l="l" t="t" r="r" b="b"/>
              <a:pathLst>
                <a:path w="21" h="14">
                  <a:moveTo>
                    <a:pt x="0" y="14"/>
                  </a:moveTo>
                  <a:lnTo>
                    <a:pt x="14" y="7"/>
                  </a:lnTo>
                  <a:lnTo>
                    <a:pt x="21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7" name=""/>
            <p:cNvSpPr/>
            <p:nvPr/>
          </p:nvSpPr>
          <p:spPr>
            <a:xfrm>
              <a:off x="6902280" y="4319640"/>
              <a:ext cx="44640" cy="31680"/>
            </a:xfrm>
            <a:custGeom>
              <a:avLst/>
              <a:gdLst/>
              <a:ahLst/>
              <a:rect l="l" t="t" r="r" b="b"/>
              <a:pathLst>
                <a:path w="28" h="20">
                  <a:moveTo>
                    <a:pt x="0" y="20"/>
                  </a:moveTo>
                  <a:lnTo>
                    <a:pt x="21" y="7"/>
                  </a:lnTo>
                  <a:lnTo>
                    <a:pt x="28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8" name=""/>
            <p:cNvSpPr/>
            <p:nvPr/>
          </p:nvSpPr>
          <p:spPr>
            <a:xfrm flipV="1">
              <a:off x="6978600" y="4274640"/>
              <a:ext cx="22320" cy="111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9" name=""/>
            <p:cNvSpPr/>
            <p:nvPr/>
          </p:nvSpPr>
          <p:spPr>
            <a:xfrm>
              <a:off x="5369040" y="3559320"/>
              <a:ext cx="206280" cy="217440"/>
            </a:xfrm>
            <a:custGeom>
              <a:avLst/>
              <a:gdLst/>
              <a:ahLst/>
              <a:rect l="l" t="t" r="r" b="b"/>
              <a:pathLst>
                <a:path w="130" h="137">
                  <a:moveTo>
                    <a:pt x="0" y="41"/>
                  </a:moveTo>
                  <a:lnTo>
                    <a:pt x="7" y="102"/>
                  </a:lnTo>
                  <a:lnTo>
                    <a:pt x="34" y="130"/>
                  </a:lnTo>
                  <a:lnTo>
                    <a:pt x="89" y="137"/>
                  </a:lnTo>
                  <a:lnTo>
                    <a:pt x="130" y="102"/>
                  </a:lnTo>
                  <a:lnTo>
                    <a:pt x="130" y="48"/>
                  </a:lnTo>
                  <a:lnTo>
                    <a:pt x="96" y="20"/>
                  </a:lnTo>
                  <a:lnTo>
                    <a:pt x="62" y="0"/>
                  </a:lnTo>
                  <a:lnTo>
                    <a:pt x="34" y="13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0" name=""/>
            <p:cNvSpPr/>
            <p:nvPr/>
          </p:nvSpPr>
          <p:spPr>
            <a:xfrm>
              <a:off x="5183280" y="4156200"/>
              <a:ext cx="44280" cy="111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1" name=""/>
            <p:cNvSpPr/>
            <p:nvPr/>
          </p:nvSpPr>
          <p:spPr>
            <a:xfrm>
              <a:off x="5270400" y="4178160"/>
              <a:ext cx="44640" cy="111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2" name=""/>
            <p:cNvSpPr/>
            <p:nvPr/>
          </p:nvSpPr>
          <p:spPr>
            <a:xfrm flipV="1">
              <a:off x="5346720" y="4133520"/>
              <a:ext cx="11160" cy="442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3" name=""/>
            <p:cNvSpPr/>
            <p:nvPr/>
          </p:nvSpPr>
          <p:spPr>
            <a:xfrm flipV="1">
              <a:off x="5357880" y="4047840"/>
              <a:ext cx="11160" cy="428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4" name=""/>
            <p:cNvSpPr/>
            <p:nvPr/>
          </p:nvSpPr>
          <p:spPr>
            <a:xfrm flipV="1">
              <a:off x="5380200" y="3949560"/>
              <a:ext cx="1440" cy="540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5" name=""/>
            <p:cNvSpPr/>
            <p:nvPr/>
          </p:nvSpPr>
          <p:spPr>
            <a:xfrm>
              <a:off x="5380200" y="3862440"/>
              <a:ext cx="1440" cy="44280"/>
            </a:xfrm>
            <a:custGeom>
              <a:avLst/>
              <a:gdLst/>
              <a:ahLst/>
              <a:rect l="l" t="t" r="r" b="b"/>
              <a:pathLst>
                <a:path w="0" h="28">
                  <a:moveTo>
                    <a:pt x="0" y="28"/>
                  </a:moveTo>
                  <a:lnTo>
                    <a:pt x="0" y="7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6" name=""/>
            <p:cNvSpPr/>
            <p:nvPr/>
          </p:nvSpPr>
          <p:spPr>
            <a:xfrm>
              <a:off x="5369040" y="3786120"/>
              <a:ext cx="21960" cy="44640"/>
            </a:xfrm>
            <a:custGeom>
              <a:avLst/>
              <a:gdLst/>
              <a:ahLst/>
              <a:rect l="l" t="t" r="r" b="b"/>
              <a:pathLst>
                <a:path w="14" h="28">
                  <a:moveTo>
                    <a:pt x="0" y="28"/>
                  </a:moveTo>
                  <a:lnTo>
                    <a:pt x="7" y="0"/>
                  </a:lnTo>
                  <a:lnTo>
                    <a:pt x="14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7" name=""/>
          <p:cNvGrpSpPr/>
          <p:nvPr/>
        </p:nvGrpSpPr>
        <p:grpSpPr>
          <a:xfrm>
            <a:off x="3376440" y="2125800"/>
            <a:ext cx="3668760" cy="3409560"/>
            <a:chOff x="3376440" y="2125800"/>
            <a:chExt cx="3668760" cy="3409560"/>
          </a:xfrm>
        </p:grpSpPr>
        <p:sp>
          <p:nvSpPr>
            <p:cNvPr id="3988" name=""/>
            <p:cNvSpPr/>
            <p:nvPr/>
          </p:nvSpPr>
          <p:spPr>
            <a:xfrm>
              <a:off x="5433840" y="3797280"/>
              <a:ext cx="43200" cy="11160"/>
            </a:xfrm>
            <a:custGeom>
              <a:avLst/>
              <a:gdLst/>
              <a:ahLst/>
              <a:rect l="l" t="t" r="r" b="b"/>
              <a:pathLst>
                <a:path w="27" h="7">
                  <a:moveTo>
                    <a:pt x="0" y="0"/>
                  </a:moveTo>
                  <a:lnTo>
                    <a:pt x="7" y="0"/>
                  </a:lnTo>
                  <a:lnTo>
                    <a:pt x="27" y="7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9" name=""/>
            <p:cNvSpPr/>
            <p:nvPr/>
          </p:nvSpPr>
          <p:spPr>
            <a:xfrm>
              <a:off x="5521320" y="3819600"/>
              <a:ext cx="3168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0" name=""/>
            <p:cNvSpPr/>
            <p:nvPr/>
          </p:nvSpPr>
          <p:spPr>
            <a:xfrm>
              <a:off x="5541840" y="3689280"/>
              <a:ext cx="1503360" cy="596880"/>
            </a:xfrm>
            <a:custGeom>
              <a:avLst/>
              <a:gdLst/>
              <a:ahLst/>
              <a:rect l="l" t="t" r="r" b="b"/>
              <a:pathLst>
                <a:path w="947" h="376">
                  <a:moveTo>
                    <a:pt x="947" y="376"/>
                  </a:moveTo>
                  <a:lnTo>
                    <a:pt x="823" y="342"/>
                  </a:lnTo>
                  <a:lnTo>
                    <a:pt x="816" y="335"/>
                  </a:lnTo>
                  <a:lnTo>
                    <a:pt x="809" y="335"/>
                  </a:lnTo>
                  <a:lnTo>
                    <a:pt x="803" y="328"/>
                  </a:lnTo>
                  <a:lnTo>
                    <a:pt x="714" y="308"/>
                  </a:lnTo>
                  <a:lnTo>
                    <a:pt x="528" y="164"/>
                  </a:lnTo>
                  <a:lnTo>
                    <a:pt x="501" y="150"/>
                  </a:lnTo>
                  <a:lnTo>
                    <a:pt x="323" y="116"/>
                  </a:lnTo>
                  <a:lnTo>
                    <a:pt x="261" y="103"/>
                  </a:lnTo>
                  <a:lnTo>
                    <a:pt x="165" y="96"/>
                  </a:lnTo>
                  <a:lnTo>
                    <a:pt x="151" y="96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1" name=""/>
            <p:cNvSpPr/>
            <p:nvPr/>
          </p:nvSpPr>
          <p:spPr>
            <a:xfrm flipH="1">
              <a:off x="5552640" y="3700440"/>
              <a:ext cx="11160" cy="428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2" name=""/>
            <p:cNvSpPr/>
            <p:nvPr/>
          </p:nvSpPr>
          <p:spPr>
            <a:xfrm>
              <a:off x="5553000" y="3786120"/>
              <a:ext cx="1800" cy="446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3" name=""/>
            <p:cNvSpPr/>
            <p:nvPr/>
          </p:nvSpPr>
          <p:spPr>
            <a:xfrm>
              <a:off x="5553000" y="3873600"/>
              <a:ext cx="1800" cy="540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4" name=""/>
            <p:cNvSpPr/>
            <p:nvPr/>
          </p:nvSpPr>
          <p:spPr>
            <a:xfrm>
              <a:off x="5553000" y="3971880"/>
              <a:ext cx="1800" cy="42840"/>
            </a:xfrm>
            <a:custGeom>
              <a:avLst/>
              <a:gdLst/>
              <a:ahLst/>
              <a:rect l="l" t="t" r="r" b="b"/>
              <a:pathLst>
                <a:path w="0" h="27">
                  <a:moveTo>
                    <a:pt x="0" y="0"/>
                  </a:moveTo>
                  <a:lnTo>
                    <a:pt x="0" y="7"/>
                  </a:lnTo>
                  <a:lnTo>
                    <a:pt x="0" y="27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5" name=""/>
            <p:cNvSpPr/>
            <p:nvPr/>
          </p:nvSpPr>
          <p:spPr>
            <a:xfrm>
              <a:off x="5553000" y="4059360"/>
              <a:ext cx="1800" cy="42840"/>
            </a:xfrm>
            <a:custGeom>
              <a:avLst/>
              <a:gdLst/>
              <a:ahLst/>
              <a:rect l="l" t="t" r="r" b="b"/>
              <a:pathLst>
                <a:path w="0" h="27">
                  <a:moveTo>
                    <a:pt x="0" y="0"/>
                  </a:moveTo>
                  <a:lnTo>
                    <a:pt x="0" y="20"/>
                  </a:lnTo>
                  <a:lnTo>
                    <a:pt x="0" y="27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6" name=""/>
            <p:cNvSpPr/>
            <p:nvPr/>
          </p:nvSpPr>
          <p:spPr>
            <a:xfrm>
              <a:off x="5553000" y="4145040"/>
              <a:ext cx="1800" cy="44280"/>
            </a:xfrm>
            <a:custGeom>
              <a:avLst/>
              <a:gdLst/>
              <a:ahLst/>
              <a:rect l="l" t="t" r="r" b="b"/>
              <a:pathLst>
                <a:path w="0" h="28">
                  <a:moveTo>
                    <a:pt x="0" y="0"/>
                  </a:moveTo>
                  <a:lnTo>
                    <a:pt x="0" y="7"/>
                  </a:lnTo>
                  <a:lnTo>
                    <a:pt x="0" y="28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7" name=""/>
            <p:cNvSpPr/>
            <p:nvPr/>
          </p:nvSpPr>
          <p:spPr>
            <a:xfrm flipH="1">
              <a:off x="5552640" y="4232160"/>
              <a:ext cx="11160" cy="428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8" name=""/>
            <p:cNvSpPr/>
            <p:nvPr/>
          </p:nvSpPr>
          <p:spPr>
            <a:xfrm>
              <a:off x="5553000" y="4319640"/>
              <a:ext cx="1800" cy="428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9" name=""/>
            <p:cNvSpPr/>
            <p:nvPr/>
          </p:nvSpPr>
          <p:spPr>
            <a:xfrm>
              <a:off x="5553000" y="4405320"/>
              <a:ext cx="1800" cy="55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0" name=""/>
            <p:cNvSpPr/>
            <p:nvPr/>
          </p:nvSpPr>
          <p:spPr>
            <a:xfrm>
              <a:off x="5553000" y="4503600"/>
              <a:ext cx="1800" cy="223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1" name=""/>
            <p:cNvSpPr/>
            <p:nvPr/>
          </p:nvSpPr>
          <p:spPr>
            <a:xfrm flipV="1">
              <a:off x="3649680" y="5492520"/>
              <a:ext cx="1440" cy="428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2" name=""/>
            <p:cNvSpPr/>
            <p:nvPr/>
          </p:nvSpPr>
          <p:spPr>
            <a:xfrm>
              <a:off x="3627360" y="5416560"/>
              <a:ext cx="11160" cy="31680"/>
            </a:xfrm>
            <a:custGeom>
              <a:avLst/>
              <a:gdLst/>
              <a:ahLst/>
              <a:rect l="l" t="t" r="r" b="b"/>
              <a:pathLst>
                <a:path w="7" h="20">
                  <a:moveTo>
                    <a:pt x="7" y="20"/>
                  </a:moveTo>
                  <a:lnTo>
                    <a:pt x="0" y="7"/>
                  </a:lnTo>
                  <a:lnTo>
                    <a:pt x="7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3" name=""/>
            <p:cNvSpPr/>
            <p:nvPr/>
          </p:nvSpPr>
          <p:spPr>
            <a:xfrm>
              <a:off x="3659040" y="5329080"/>
              <a:ext cx="22320" cy="43200"/>
            </a:xfrm>
            <a:custGeom>
              <a:avLst/>
              <a:gdLst/>
              <a:ahLst/>
              <a:rect l="l" t="t" r="r" b="b"/>
              <a:pathLst>
                <a:path w="14" h="27">
                  <a:moveTo>
                    <a:pt x="0" y="27"/>
                  </a:moveTo>
                  <a:lnTo>
                    <a:pt x="14" y="7"/>
                  </a:lnTo>
                  <a:lnTo>
                    <a:pt x="7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4" name=""/>
            <p:cNvSpPr/>
            <p:nvPr/>
          </p:nvSpPr>
          <p:spPr>
            <a:xfrm>
              <a:off x="3627360" y="5264280"/>
              <a:ext cx="22320" cy="33120"/>
            </a:xfrm>
            <a:custGeom>
              <a:avLst/>
              <a:gdLst/>
              <a:ahLst/>
              <a:rect l="l" t="t" r="r" b="b"/>
              <a:pathLst>
                <a:path w="14" h="21">
                  <a:moveTo>
                    <a:pt x="14" y="21"/>
                  </a:moveTo>
                  <a:lnTo>
                    <a:pt x="7" y="14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5" name=""/>
            <p:cNvSpPr/>
            <p:nvPr/>
          </p:nvSpPr>
          <p:spPr>
            <a:xfrm>
              <a:off x="3573360" y="5187960"/>
              <a:ext cx="20880" cy="33480"/>
            </a:xfrm>
            <a:custGeom>
              <a:avLst/>
              <a:gdLst/>
              <a:ahLst/>
              <a:rect l="l" t="t" r="r" b="b"/>
              <a:pathLst>
                <a:path w="13" h="21">
                  <a:moveTo>
                    <a:pt x="13" y="21"/>
                  </a:moveTo>
                  <a:lnTo>
                    <a:pt x="6" y="14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6" name=""/>
            <p:cNvSpPr/>
            <p:nvPr/>
          </p:nvSpPr>
          <p:spPr>
            <a:xfrm flipH="1" flipV="1">
              <a:off x="3517920" y="5122440"/>
              <a:ext cx="22320" cy="334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7" name=""/>
            <p:cNvSpPr/>
            <p:nvPr/>
          </p:nvSpPr>
          <p:spPr>
            <a:xfrm flipH="1" flipV="1">
              <a:off x="3463920" y="5046840"/>
              <a:ext cx="22320" cy="331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8" name=""/>
            <p:cNvSpPr/>
            <p:nvPr/>
          </p:nvSpPr>
          <p:spPr>
            <a:xfrm flipV="1">
              <a:off x="3463920" y="4959000"/>
              <a:ext cx="11160" cy="442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9" name=""/>
            <p:cNvSpPr/>
            <p:nvPr/>
          </p:nvSpPr>
          <p:spPr>
            <a:xfrm flipV="1">
              <a:off x="3486240" y="4873320"/>
              <a:ext cx="11160" cy="428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0" name=""/>
            <p:cNvSpPr/>
            <p:nvPr/>
          </p:nvSpPr>
          <p:spPr>
            <a:xfrm flipV="1">
              <a:off x="3497400" y="4785840"/>
              <a:ext cx="9360" cy="428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1" name=""/>
            <p:cNvSpPr/>
            <p:nvPr/>
          </p:nvSpPr>
          <p:spPr>
            <a:xfrm flipV="1">
              <a:off x="3517920" y="4698720"/>
              <a:ext cx="11160" cy="442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2" name=""/>
            <p:cNvSpPr/>
            <p:nvPr/>
          </p:nvSpPr>
          <p:spPr>
            <a:xfrm flipV="1">
              <a:off x="3529080" y="4611600"/>
              <a:ext cx="11160" cy="446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3" name=""/>
            <p:cNvSpPr/>
            <p:nvPr/>
          </p:nvSpPr>
          <p:spPr>
            <a:xfrm>
              <a:off x="3551400" y="4525920"/>
              <a:ext cx="10800" cy="42840"/>
            </a:xfrm>
            <a:custGeom>
              <a:avLst/>
              <a:gdLst/>
              <a:ahLst/>
              <a:rect l="l" t="t" r="r" b="b"/>
              <a:pathLst>
                <a:path w="7" h="27">
                  <a:moveTo>
                    <a:pt x="0" y="27"/>
                  </a:moveTo>
                  <a:lnTo>
                    <a:pt x="7" y="13"/>
                  </a:lnTo>
                  <a:lnTo>
                    <a:pt x="7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4" name=""/>
            <p:cNvSpPr/>
            <p:nvPr/>
          </p:nvSpPr>
          <p:spPr>
            <a:xfrm>
              <a:off x="3573360" y="4449600"/>
              <a:ext cx="20880" cy="43200"/>
            </a:xfrm>
            <a:custGeom>
              <a:avLst/>
              <a:gdLst/>
              <a:ahLst/>
              <a:rect l="l" t="t" r="r" b="b"/>
              <a:pathLst>
                <a:path w="13" h="27">
                  <a:moveTo>
                    <a:pt x="0" y="27"/>
                  </a:moveTo>
                  <a:lnTo>
                    <a:pt x="6" y="7"/>
                  </a:lnTo>
                  <a:lnTo>
                    <a:pt x="13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5" name=""/>
            <p:cNvSpPr/>
            <p:nvPr/>
          </p:nvSpPr>
          <p:spPr>
            <a:xfrm>
              <a:off x="3605040" y="4362480"/>
              <a:ext cx="11160" cy="42840"/>
            </a:xfrm>
            <a:custGeom>
              <a:avLst/>
              <a:gdLst/>
              <a:ahLst/>
              <a:rect l="l" t="t" r="r" b="b"/>
              <a:pathLst>
                <a:path w="7" h="27">
                  <a:moveTo>
                    <a:pt x="0" y="27"/>
                  </a:moveTo>
                  <a:lnTo>
                    <a:pt x="0" y="14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6" name=""/>
            <p:cNvSpPr/>
            <p:nvPr/>
          </p:nvSpPr>
          <p:spPr>
            <a:xfrm>
              <a:off x="3627360" y="4308480"/>
              <a:ext cx="22320" cy="2232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0" y="14"/>
                  </a:moveTo>
                  <a:lnTo>
                    <a:pt x="0" y="7"/>
                  </a:lnTo>
                  <a:lnTo>
                    <a:pt x="0" y="7"/>
                  </a:lnTo>
                  <a:lnTo>
                    <a:pt x="7" y="0"/>
                  </a:lnTo>
                  <a:lnTo>
                    <a:pt x="14" y="7"/>
                  </a:lnTo>
                  <a:lnTo>
                    <a:pt x="14" y="7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7" name=""/>
            <p:cNvSpPr/>
            <p:nvPr/>
          </p:nvSpPr>
          <p:spPr>
            <a:xfrm>
              <a:off x="3692520" y="4308480"/>
              <a:ext cx="42840" cy="11160"/>
            </a:xfrm>
            <a:custGeom>
              <a:avLst/>
              <a:gdLst/>
              <a:ahLst/>
              <a:rect l="l" t="t" r="r" b="b"/>
              <a:pathLst>
                <a:path w="27" h="7">
                  <a:moveTo>
                    <a:pt x="0" y="7"/>
                  </a:moveTo>
                  <a:lnTo>
                    <a:pt x="14" y="0"/>
                  </a:lnTo>
                  <a:lnTo>
                    <a:pt x="21" y="0"/>
                  </a:lnTo>
                  <a:lnTo>
                    <a:pt x="27" y="7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8" name=""/>
            <p:cNvSpPr/>
            <p:nvPr/>
          </p:nvSpPr>
          <p:spPr>
            <a:xfrm>
              <a:off x="3780000" y="4330800"/>
              <a:ext cx="42840" cy="1440"/>
            </a:xfrm>
            <a:custGeom>
              <a:avLst/>
              <a:gdLst/>
              <a:ahLst/>
              <a:rect l="l" t="t" r="r" b="b"/>
              <a:pathLst>
                <a:path w="27" h="0">
                  <a:moveTo>
                    <a:pt x="0" y="0"/>
                  </a:moveTo>
                  <a:lnTo>
                    <a:pt x="7" y="0"/>
                  </a:lnTo>
                  <a:lnTo>
                    <a:pt x="20" y="0"/>
                  </a:lnTo>
                  <a:lnTo>
                    <a:pt x="27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9" name=""/>
            <p:cNvSpPr/>
            <p:nvPr/>
          </p:nvSpPr>
          <p:spPr>
            <a:xfrm>
              <a:off x="3867120" y="4351320"/>
              <a:ext cx="42840" cy="11160"/>
            </a:xfrm>
            <a:custGeom>
              <a:avLst/>
              <a:gdLst/>
              <a:ahLst/>
              <a:rect l="l" t="t" r="r" b="b"/>
              <a:pathLst>
                <a:path w="27" h="7">
                  <a:moveTo>
                    <a:pt x="0" y="0"/>
                  </a:moveTo>
                  <a:lnTo>
                    <a:pt x="7" y="0"/>
                  </a:lnTo>
                  <a:lnTo>
                    <a:pt x="13" y="0"/>
                  </a:lnTo>
                  <a:lnTo>
                    <a:pt x="27" y="7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0" name=""/>
            <p:cNvSpPr/>
            <p:nvPr/>
          </p:nvSpPr>
          <p:spPr>
            <a:xfrm>
              <a:off x="3943440" y="4340160"/>
              <a:ext cx="20520" cy="33480"/>
            </a:xfrm>
            <a:custGeom>
              <a:avLst/>
              <a:gdLst/>
              <a:ahLst/>
              <a:rect l="l" t="t" r="r" b="b"/>
              <a:pathLst>
                <a:path w="13" h="21">
                  <a:moveTo>
                    <a:pt x="0" y="21"/>
                  </a:moveTo>
                  <a:lnTo>
                    <a:pt x="0" y="21"/>
                  </a:lnTo>
                  <a:lnTo>
                    <a:pt x="13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1" name=""/>
            <p:cNvSpPr/>
            <p:nvPr/>
          </p:nvSpPr>
          <p:spPr>
            <a:xfrm flipV="1">
              <a:off x="3986280" y="4265640"/>
              <a:ext cx="22320" cy="316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2" name=""/>
            <p:cNvSpPr/>
            <p:nvPr/>
          </p:nvSpPr>
          <p:spPr>
            <a:xfrm flipV="1">
              <a:off x="4030560" y="4189320"/>
              <a:ext cx="31680" cy="316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3" name=""/>
            <p:cNvSpPr/>
            <p:nvPr/>
          </p:nvSpPr>
          <p:spPr>
            <a:xfrm>
              <a:off x="4084560" y="4113360"/>
              <a:ext cx="22320" cy="31680"/>
            </a:xfrm>
            <a:custGeom>
              <a:avLst/>
              <a:gdLst/>
              <a:ahLst/>
              <a:rect l="l" t="t" r="r" b="b"/>
              <a:pathLst>
                <a:path w="14" h="20">
                  <a:moveTo>
                    <a:pt x="0" y="20"/>
                  </a:moveTo>
                  <a:lnTo>
                    <a:pt x="7" y="13"/>
                  </a:lnTo>
                  <a:lnTo>
                    <a:pt x="14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4" name=""/>
            <p:cNvSpPr/>
            <p:nvPr/>
          </p:nvSpPr>
          <p:spPr>
            <a:xfrm>
              <a:off x="4127400" y="4048200"/>
              <a:ext cx="33480" cy="20520"/>
            </a:xfrm>
            <a:custGeom>
              <a:avLst/>
              <a:gdLst/>
              <a:ahLst/>
              <a:rect l="l" t="t" r="r" b="b"/>
              <a:pathLst>
                <a:path w="21" h="13">
                  <a:moveTo>
                    <a:pt x="0" y="13"/>
                  </a:moveTo>
                  <a:lnTo>
                    <a:pt x="0" y="13"/>
                  </a:lnTo>
                  <a:lnTo>
                    <a:pt x="14" y="7"/>
                  </a:lnTo>
                  <a:lnTo>
                    <a:pt x="21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5" name=""/>
            <p:cNvSpPr/>
            <p:nvPr/>
          </p:nvSpPr>
          <p:spPr>
            <a:xfrm>
              <a:off x="4192560" y="3983040"/>
              <a:ext cx="33480" cy="31680"/>
            </a:xfrm>
            <a:custGeom>
              <a:avLst/>
              <a:gdLst/>
              <a:ahLst/>
              <a:rect l="l" t="t" r="r" b="b"/>
              <a:pathLst>
                <a:path w="21" h="20">
                  <a:moveTo>
                    <a:pt x="0" y="20"/>
                  </a:moveTo>
                  <a:lnTo>
                    <a:pt x="0" y="13"/>
                  </a:lnTo>
                  <a:lnTo>
                    <a:pt x="14" y="6"/>
                  </a:lnTo>
                  <a:lnTo>
                    <a:pt x="21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6" name=""/>
            <p:cNvSpPr/>
            <p:nvPr/>
          </p:nvSpPr>
          <p:spPr>
            <a:xfrm>
              <a:off x="4257720" y="3983040"/>
              <a:ext cx="33120" cy="9360"/>
            </a:xfrm>
            <a:custGeom>
              <a:avLst/>
              <a:gdLst/>
              <a:ahLst/>
              <a:rect l="l" t="t" r="r" b="b"/>
              <a:pathLst>
                <a:path w="21" h="6">
                  <a:moveTo>
                    <a:pt x="0" y="0"/>
                  </a:moveTo>
                  <a:lnTo>
                    <a:pt x="0" y="0"/>
                  </a:lnTo>
                  <a:lnTo>
                    <a:pt x="14" y="6"/>
                  </a:lnTo>
                  <a:lnTo>
                    <a:pt x="21" y="6"/>
                  </a:lnTo>
                  <a:lnTo>
                    <a:pt x="21" y="0"/>
                  </a:lnTo>
                  <a:lnTo>
                    <a:pt x="21" y="6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7" name=""/>
            <p:cNvSpPr/>
            <p:nvPr/>
          </p:nvSpPr>
          <p:spPr>
            <a:xfrm>
              <a:off x="4334040" y="4003560"/>
              <a:ext cx="44280" cy="11160"/>
            </a:xfrm>
            <a:custGeom>
              <a:avLst/>
              <a:gdLst/>
              <a:ahLst/>
              <a:rect l="l" t="t" r="r" b="b"/>
              <a:pathLst>
                <a:path w="28" h="7">
                  <a:moveTo>
                    <a:pt x="0" y="0"/>
                  </a:moveTo>
                  <a:lnTo>
                    <a:pt x="7" y="7"/>
                  </a:lnTo>
                  <a:lnTo>
                    <a:pt x="28" y="7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8" name=""/>
            <p:cNvSpPr/>
            <p:nvPr/>
          </p:nvSpPr>
          <p:spPr>
            <a:xfrm>
              <a:off x="4421160" y="4014720"/>
              <a:ext cx="44640" cy="22320"/>
            </a:xfrm>
            <a:custGeom>
              <a:avLst/>
              <a:gdLst/>
              <a:ahLst/>
              <a:rect l="l" t="t" r="r" b="b"/>
              <a:pathLst>
                <a:path w="28" h="14">
                  <a:moveTo>
                    <a:pt x="0" y="0"/>
                  </a:moveTo>
                  <a:lnTo>
                    <a:pt x="7" y="7"/>
                  </a:lnTo>
                  <a:lnTo>
                    <a:pt x="28" y="14"/>
                  </a:lnTo>
                  <a:lnTo>
                    <a:pt x="28" y="14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9" name=""/>
            <p:cNvSpPr/>
            <p:nvPr/>
          </p:nvSpPr>
          <p:spPr>
            <a:xfrm>
              <a:off x="4508640" y="4014720"/>
              <a:ext cx="33120" cy="22320"/>
            </a:xfrm>
            <a:custGeom>
              <a:avLst/>
              <a:gdLst/>
              <a:ahLst/>
              <a:rect l="l" t="t" r="r" b="b"/>
              <a:pathLst>
                <a:path w="21" h="14">
                  <a:moveTo>
                    <a:pt x="0" y="14"/>
                  </a:moveTo>
                  <a:lnTo>
                    <a:pt x="0" y="14"/>
                  </a:lnTo>
                  <a:lnTo>
                    <a:pt x="14" y="7"/>
                  </a:lnTo>
                  <a:lnTo>
                    <a:pt x="21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0" name=""/>
            <p:cNvSpPr/>
            <p:nvPr/>
          </p:nvSpPr>
          <p:spPr>
            <a:xfrm>
              <a:off x="4584600" y="3992400"/>
              <a:ext cx="44640" cy="1800"/>
            </a:xfrm>
            <a:custGeom>
              <a:avLst/>
              <a:gdLst/>
              <a:ahLst/>
              <a:rect l="l" t="t" r="r" b="b"/>
              <a:pathLst>
                <a:path w="28" h="0">
                  <a:moveTo>
                    <a:pt x="0" y="0"/>
                  </a:moveTo>
                  <a:lnTo>
                    <a:pt x="0" y="0"/>
                  </a:lnTo>
                  <a:lnTo>
                    <a:pt x="28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1" name=""/>
            <p:cNvSpPr/>
            <p:nvPr/>
          </p:nvSpPr>
          <p:spPr>
            <a:xfrm>
              <a:off x="4672080" y="4003560"/>
              <a:ext cx="42840" cy="1800"/>
            </a:xfrm>
            <a:custGeom>
              <a:avLst/>
              <a:gdLst/>
              <a:ahLst/>
              <a:rect l="l" t="t" r="r" b="b"/>
              <a:pathLst>
                <a:path w="27" h="0">
                  <a:moveTo>
                    <a:pt x="0" y="0"/>
                  </a:moveTo>
                  <a:lnTo>
                    <a:pt x="7" y="0"/>
                  </a:lnTo>
                  <a:lnTo>
                    <a:pt x="21" y="0"/>
                  </a:lnTo>
                  <a:lnTo>
                    <a:pt x="27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2" name=""/>
            <p:cNvSpPr/>
            <p:nvPr/>
          </p:nvSpPr>
          <p:spPr>
            <a:xfrm>
              <a:off x="4759200" y="4014720"/>
              <a:ext cx="42840" cy="11160"/>
            </a:xfrm>
            <a:custGeom>
              <a:avLst/>
              <a:gdLst/>
              <a:ahLst/>
              <a:rect l="l" t="t" r="r" b="b"/>
              <a:pathLst>
                <a:path w="27" h="7">
                  <a:moveTo>
                    <a:pt x="0" y="0"/>
                  </a:moveTo>
                  <a:lnTo>
                    <a:pt x="27" y="7"/>
                  </a:lnTo>
                  <a:lnTo>
                    <a:pt x="27" y="7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3" name=""/>
            <p:cNvSpPr/>
            <p:nvPr/>
          </p:nvSpPr>
          <p:spPr>
            <a:xfrm>
              <a:off x="4846680" y="4025880"/>
              <a:ext cx="42840" cy="11160"/>
            </a:xfrm>
            <a:custGeom>
              <a:avLst/>
              <a:gdLst/>
              <a:ahLst/>
              <a:rect l="l" t="t" r="r" b="b"/>
              <a:pathLst>
                <a:path w="27" h="7">
                  <a:moveTo>
                    <a:pt x="0" y="0"/>
                  </a:moveTo>
                  <a:lnTo>
                    <a:pt x="13" y="7"/>
                  </a:lnTo>
                  <a:lnTo>
                    <a:pt x="27" y="7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4" name=""/>
            <p:cNvSpPr/>
            <p:nvPr/>
          </p:nvSpPr>
          <p:spPr>
            <a:xfrm>
              <a:off x="4923000" y="4059360"/>
              <a:ext cx="42840" cy="9360"/>
            </a:xfrm>
            <a:custGeom>
              <a:avLst/>
              <a:gdLst/>
              <a:ahLst/>
              <a:rect l="l" t="t" r="r" b="b"/>
              <a:pathLst>
                <a:path w="27" h="6">
                  <a:moveTo>
                    <a:pt x="0" y="0"/>
                  </a:moveTo>
                  <a:lnTo>
                    <a:pt x="7" y="0"/>
                  </a:lnTo>
                  <a:lnTo>
                    <a:pt x="20" y="6"/>
                  </a:lnTo>
                  <a:lnTo>
                    <a:pt x="27" y="6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5" name=""/>
            <p:cNvSpPr/>
            <p:nvPr/>
          </p:nvSpPr>
          <p:spPr>
            <a:xfrm>
              <a:off x="5010120" y="4068720"/>
              <a:ext cx="42840" cy="1800"/>
            </a:xfrm>
            <a:custGeom>
              <a:avLst/>
              <a:gdLst/>
              <a:ahLst/>
              <a:rect l="l" t="t" r="r" b="b"/>
              <a:pathLst>
                <a:path w="27" h="0">
                  <a:moveTo>
                    <a:pt x="0" y="0"/>
                  </a:moveTo>
                  <a:lnTo>
                    <a:pt x="6" y="0"/>
                  </a:lnTo>
                  <a:lnTo>
                    <a:pt x="27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6" name=""/>
            <p:cNvSpPr/>
            <p:nvPr/>
          </p:nvSpPr>
          <p:spPr>
            <a:xfrm>
              <a:off x="5095800" y="4068720"/>
              <a:ext cx="44640" cy="11160"/>
            </a:xfrm>
            <a:custGeom>
              <a:avLst/>
              <a:gdLst/>
              <a:ahLst/>
              <a:rect l="l" t="t" r="r" b="b"/>
              <a:pathLst>
                <a:path w="28" h="7">
                  <a:moveTo>
                    <a:pt x="0" y="7"/>
                  </a:moveTo>
                  <a:lnTo>
                    <a:pt x="21" y="7"/>
                  </a:lnTo>
                  <a:lnTo>
                    <a:pt x="28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7" name=""/>
            <p:cNvSpPr/>
            <p:nvPr/>
          </p:nvSpPr>
          <p:spPr>
            <a:xfrm flipV="1">
              <a:off x="5151600" y="3982680"/>
              <a:ext cx="10800" cy="428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8" name=""/>
            <p:cNvSpPr/>
            <p:nvPr/>
          </p:nvSpPr>
          <p:spPr>
            <a:xfrm>
              <a:off x="5194440" y="3983040"/>
              <a:ext cx="44280" cy="93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9" name=""/>
            <p:cNvSpPr/>
            <p:nvPr/>
          </p:nvSpPr>
          <p:spPr>
            <a:xfrm>
              <a:off x="5248440" y="3917880"/>
              <a:ext cx="10800" cy="42840"/>
            </a:xfrm>
            <a:custGeom>
              <a:avLst/>
              <a:gdLst/>
              <a:ahLst/>
              <a:rect l="l" t="t" r="r" b="b"/>
              <a:pathLst>
                <a:path w="7" h="27">
                  <a:moveTo>
                    <a:pt x="0" y="27"/>
                  </a:moveTo>
                  <a:lnTo>
                    <a:pt x="7" y="6"/>
                  </a:lnTo>
                  <a:lnTo>
                    <a:pt x="7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0" name=""/>
            <p:cNvSpPr/>
            <p:nvPr/>
          </p:nvSpPr>
          <p:spPr>
            <a:xfrm flipV="1">
              <a:off x="5281560" y="3830400"/>
              <a:ext cx="11160" cy="428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1" name=""/>
            <p:cNvSpPr/>
            <p:nvPr/>
          </p:nvSpPr>
          <p:spPr>
            <a:xfrm flipV="1">
              <a:off x="5303880" y="3742920"/>
              <a:ext cx="11160" cy="428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2" name=""/>
            <p:cNvSpPr/>
            <p:nvPr/>
          </p:nvSpPr>
          <p:spPr>
            <a:xfrm>
              <a:off x="5335560" y="3656160"/>
              <a:ext cx="11160" cy="44280"/>
            </a:xfrm>
            <a:custGeom>
              <a:avLst/>
              <a:gdLst/>
              <a:ahLst/>
              <a:rect l="l" t="t" r="r" b="b"/>
              <a:pathLst>
                <a:path w="7" h="28">
                  <a:moveTo>
                    <a:pt x="0" y="28"/>
                  </a:moveTo>
                  <a:lnTo>
                    <a:pt x="7" y="7"/>
                  </a:lnTo>
                  <a:lnTo>
                    <a:pt x="7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3" name=""/>
            <p:cNvSpPr/>
            <p:nvPr/>
          </p:nvSpPr>
          <p:spPr>
            <a:xfrm>
              <a:off x="5357880" y="3624120"/>
              <a:ext cx="1440" cy="18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4" name=""/>
            <p:cNvSpPr/>
            <p:nvPr/>
          </p:nvSpPr>
          <p:spPr>
            <a:xfrm>
              <a:off x="5205240" y="3570120"/>
              <a:ext cx="1800" cy="432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5" name=""/>
            <p:cNvSpPr/>
            <p:nvPr/>
          </p:nvSpPr>
          <p:spPr>
            <a:xfrm>
              <a:off x="5172120" y="3656160"/>
              <a:ext cx="22320" cy="33120"/>
            </a:xfrm>
            <a:custGeom>
              <a:avLst/>
              <a:gdLst/>
              <a:ahLst/>
              <a:rect l="l" t="t" r="r" b="b"/>
              <a:pathLst>
                <a:path w="14" h="21">
                  <a:moveTo>
                    <a:pt x="14" y="0"/>
                  </a:moveTo>
                  <a:lnTo>
                    <a:pt x="14" y="21"/>
                  </a:lnTo>
                  <a:lnTo>
                    <a:pt x="0" y="21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6" name=""/>
            <p:cNvSpPr/>
            <p:nvPr/>
          </p:nvSpPr>
          <p:spPr>
            <a:xfrm flipH="1">
              <a:off x="5086080" y="3678120"/>
              <a:ext cx="42840" cy="18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7" name=""/>
            <p:cNvSpPr/>
            <p:nvPr/>
          </p:nvSpPr>
          <p:spPr>
            <a:xfrm flipH="1" flipV="1">
              <a:off x="4998600" y="3656160"/>
              <a:ext cx="42840" cy="108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8" name=""/>
            <p:cNvSpPr/>
            <p:nvPr/>
          </p:nvSpPr>
          <p:spPr>
            <a:xfrm flipH="1" flipV="1">
              <a:off x="4911480" y="3644640"/>
              <a:ext cx="42840" cy="111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9" name=""/>
            <p:cNvSpPr/>
            <p:nvPr/>
          </p:nvSpPr>
          <p:spPr>
            <a:xfrm flipH="1" flipV="1">
              <a:off x="4824000" y="3634920"/>
              <a:ext cx="42840" cy="9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0" name=""/>
            <p:cNvSpPr/>
            <p:nvPr/>
          </p:nvSpPr>
          <p:spPr>
            <a:xfrm flipH="1">
              <a:off x="4736880" y="3624120"/>
              <a:ext cx="44280" cy="18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1" name=""/>
            <p:cNvSpPr/>
            <p:nvPr/>
          </p:nvSpPr>
          <p:spPr>
            <a:xfrm flipH="1">
              <a:off x="4649760" y="3613320"/>
              <a:ext cx="4464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2" name=""/>
            <p:cNvSpPr/>
            <p:nvPr/>
          </p:nvSpPr>
          <p:spPr>
            <a:xfrm flipH="1" flipV="1">
              <a:off x="4562280" y="3590640"/>
              <a:ext cx="44280" cy="111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3" name=""/>
            <p:cNvSpPr/>
            <p:nvPr/>
          </p:nvSpPr>
          <p:spPr>
            <a:xfrm flipH="1" flipV="1">
              <a:off x="4476240" y="3579480"/>
              <a:ext cx="42840" cy="111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4" name=""/>
            <p:cNvSpPr/>
            <p:nvPr/>
          </p:nvSpPr>
          <p:spPr>
            <a:xfrm flipH="1" flipV="1">
              <a:off x="4389120" y="3569760"/>
              <a:ext cx="42840" cy="9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5" name=""/>
            <p:cNvSpPr/>
            <p:nvPr/>
          </p:nvSpPr>
          <p:spPr>
            <a:xfrm flipH="1">
              <a:off x="4301640" y="3559320"/>
              <a:ext cx="4284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6" name=""/>
            <p:cNvSpPr/>
            <p:nvPr/>
          </p:nvSpPr>
          <p:spPr>
            <a:xfrm flipH="1">
              <a:off x="4214520" y="3548160"/>
              <a:ext cx="4284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7" name=""/>
            <p:cNvSpPr/>
            <p:nvPr/>
          </p:nvSpPr>
          <p:spPr>
            <a:xfrm flipH="1">
              <a:off x="4127400" y="3537000"/>
              <a:ext cx="4464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8" name=""/>
            <p:cNvSpPr/>
            <p:nvPr/>
          </p:nvSpPr>
          <p:spPr>
            <a:xfrm flipH="1" flipV="1">
              <a:off x="4039920" y="3514320"/>
              <a:ext cx="44280" cy="111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9" name=""/>
            <p:cNvSpPr/>
            <p:nvPr/>
          </p:nvSpPr>
          <p:spPr>
            <a:xfrm flipH="1" flipV="1">
              <a:off x="3954240" y="3505320"/>
              <a:ext cx="42840" cy="93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0" name=""/>
            <p:cNvSpPr/>
            <p:nvPr/>
          </p:nvSpPr>
          <p:spPr>
            <a:xfrm flipH="1">
              <a:off x="3855600" y="3494160"/>
              <a:ext cx="4284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1" name=""/>
            <p:cNvSpPr/>
            <p:nvPr/>
          </p:nvSpPr>
          <p:spPr>
            <a:xfrm flipH="1">
              <a:off x="3768480" y="3483000"/>
              <a:ext cx="4284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2" name=""/>
            <p:cNvSpPr/>
            <p:nvPr/>
          </p:nvSpPr>
          <p:spPr>
            <a:xfrm flipH="1">
              <a:off x="3681360" y="3471840"/>
              <a:ext cx="4464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3" name=""/>
            <p:cNvSpPr/>
            <p:nvPr/>
          </p:nvSpPr>
          <p:spPr>
            <a:xfrm flipH="1" flipV="1">
              <a:off x="3593880" y="3449160"/>
              <a:ext cx="44280" cy="111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4" name=""/>
            <p:cNvSpPr/>
            <p:nvPr/>
          </p:nvSpPr>
          <p:spPr>
            <a:xfrm flipH="1" flipV="1">
              <a:off x="3506760" y="3438000"/>
              <a:ext cx="44640" cy="111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5" name=""/>
            <p:cNvSpPr/>
            <p:nvPr/>
          </p:nvSpPr>
          <p:spPr>
            <a:xfrm flipH="1" flipV="1">
              <a:off x="3420720" y="3429000"/>
              <a:ext cx="42840" cy="93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6" name=""/>
            <p:cNvSpPr/>
            <p:nvPr/>
          </p:nvSpPr>
          <p:spPr>
            <a:xfrm>
              <a:off x="3376440" y="3417840"/>
              <a:ext cx="1800" cy="18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7" name=""/>
            <p:cNvSpPr/>
            <p:nvPr/>
          </p:nvSpPr>
          <p:spPr>
            <a:xfrm>
              <a:off x="5586480" y="3016080"/>
              <a:ext cx="42840" cy="18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8" name=""/>
            <p:cNvSpPr/>
            <p:nvPr/>
          </p:nvSpPr>
          <p:spPr>
            <a:xfrm>
              <a:off x="5597640" y="3222720"/>
              <a:ext cx="42840" cy="9360"/>
            </a:xfrm>
            <a:custGeom>
              <a:avLst/>
              <a:gdLst/>
              <a:ahLst/>
              <a:rect l="l" t="t" r="r" b="b"/>
              <a:pathLst>
                <a:path w="27" h="6">
                  <a:moveTo>
                    <a:pt x="27" y="6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9" name=""/>
            <p:cNvSpPr/>
            <p:nvPr/>
          </p:nvSpPr>
          <p:spPr>
            <a:xfrm flipV="1">
              <a:off x="5597640" y="3134880"/>
              <a:ext cx="1440" cy="428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0" name=""/>
            <p:cNvSpPr/>
            <p:nvPr/>
          </p:nvSpPr>
          <p:spPr>
            <a:xfrm flipV="1">
              <a:off x="5586480" y="3047760"/>
              <a:ext cx="1440" cy="442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1" name=""/>
            <p:cNvSpPr/>
            <p:nvPr/>
          </p:nvSpPr>
          <p:spPr>
            <a:xfrm>
              <a:off x="5575320" y="2960640"/>
              <a:ext cx="11160" cy="44640"/>
            </a:xfrm>
            <a:custGeom>
              <a:avLst/>
              <a:gdLst/>
              <a:ahLst/>
              <a:rect l="l" t="t" r="r" b="b"/>
              <a:pathLst>
                <a:path w="7" h="28">
                  <a:moveTo>
                    <a:pt x="7" y="28"/>
                  </a:moveTo>
                  <a:lnTo>
                    <a:pt x="0" y="14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2" name=""/>
            <p:cNvSpPr/>
            <p:nvPr/>
          </p:nvSpPr>
          <p:spPr>
            <a:xfrm>
              <a:off x="5618160" y="3330720"/>
              <a:ext cx="22320" cy="33120"/>
            </a:xfrm>
            <a:custGeom>
              <a:avLst/>
              <a:gdLst/>
              <a:ahLst/>
              <a:rect l="l" t="t" r="r" b="b"/>
              <a:pathLst>
                <a:path w="14" h="21">
                  <a:moveTo>
                    <a:pt x="0" y="21"/>
                  </a:moveTo>
                  <a:lnTo>
                    <a:pt x="7" y="7"/>
                  </a:lnTo>
                  <a:lnTo>
                    <a:pt x="14" y="0"/>
                  </a:lnTo>
                  <a:lnTo>
                    <a:pt x="14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3" name=""/>
            <p:cNvSpPr/>
            <p:nvPr/>
          </p:nvSpPr>
          <p:spPr>
            <a:xfrm flipV="1">
              <a:off x="5640480" y="3243240"/>
              <a:ext cx="1440" cy="446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4" name=""/>
            <p:cNvSpPr/>
            <p:nvPr/>
          </p:nvSpPr>
          <p:spPr>
            <a:xfrm>
              <a:off x="5651640" y="3146400"/>
              <a:ext cx="1440" cy="42840"/>
            </a:xfrm>
            <a:custGeom>
              <a:avLst/>
              <a:gdLst/>
              <a:ahLst/>
              <a:rect l="l" t="t" r="r" b="b"/>
              <a:pathLst>
                <a:path w="0" h="27">
                  <a:moveTo>
                    <a:pt x="0" y="27"/>
                  </a:moveTo>
                  <a:lnTo>
                    <a:pt x="0" y="27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5" name=""/>
            <p:cNvSpPr/>
            <p:nvPr/>
          </p:nvSpPr>
          <p:spPr>
            <a:xfrm flipV="1">
              <a:off x="5651640" y="3058920"/>
              <a:ext cx="1440" cy="428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6" name=""/>
            <p:cNvSpPr/>
            <p:nvPr/>
          </p:nvSpPr>
          <p:spPr>
            <a:xfrm>
              <a:off x="5662440" y="2971800"/>
              <a:ext cx="1800" cy="44280"/>
            </a:xfrm>
            <a:custGeom>
              <a:avLst/>
              <a:gdLst/>
              <a:ahLst/>
              <a:rect l="l" t="t" r="r" b="b"/>
              <a:pathLst>
                <a:path w="0" h="28">
                  <a:moveTo>
                    <a:pt x="0" y="28"/>
                  </a:moveTo>
                  <a:lnTo>
                    <a:pt x="0" y="28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7" name=""/>
            <p:cNvSpPr/>
            <p:nvPr/>
          </p:nvSpPr>
          <p:spPr>
            <a:xfrm>
              <a:off x="5684760" y="2951280"/>
              <a:ext cx="42840" cy="9360"/>
            </a:xfrm>
            <a:custGeom>
              <a:avLst/>
              <a:gdLst/>
              <a:ahLst/>
              <a:rect l="l" t="t" r="r" b="b"/>
              <a:pathLst>
                <a:path w="27" h="6">
                  <a:moveTo>
                    <a:pt x="0" y="0"/>
                  </a:moveTo>
                  <a:lnTo>
                    <a:pt x="20" y="6"/>
                  </a:lnTo>
                  <a:lnTo>
                    <a:pt x="27" y="6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8" name=""/>
            <p:cNvSpPr/>
            <p:nvPr/>
          </p:nvSpPr>
          <p:spPr>
            <a:xfrm>
              <a:off x="5761080" y="2895480"/>
              <a:ext cx="9360" cy="44640"/>
            </a:xfrm>
            <a:custGeom>
              <a:avLst/>
              <a:gdLst/>
              <a:ahLst/>
              <a:rect l="l" t="t" r="r" b="b"/>
              <a:pathLst>
                <a:path w="6" h="28">
                  <a:moveTo>
                    <a:pt x="0" y="28"/>
                  </a:moveTo>
                  <a:lnTo>
                    <a:pt x="0" y="14"/>
                  </a:lnTo>
                  <a:lnTo>
                    <a:pt x="6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9" name=""/>
            <p:cNvSpPr/>
            <p:nvPr/>
          </p:nvSpPr>
          <p:spPr>
            <a:xfrm flipV="1">
              <a:off x="5792760" y="2830320"/>
              <a:ext cx="22320" cy="219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0" name=""/>
            <p:cNvSpPr/>
            <p:nvPr/>
          </p:nvSpPr>
          <p:spPr>
            <a:xfrm flipH="1">
              <a:off x="6935400" y="2733840"/>
              <a:ext cx="11160" cy="428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1" name=""/>
            <p:cNvSpPr/>
            <p:nvPr/>
          </p:nvSpPr>
          <p:spPr>
            <a:xfrm>
              <a:off x="6902280" y="2819520"/>
              <a:ext cx="22320" cy="33120"/>
            </a:xfrm>
            <a:custGeom>
              <a:avLst/>
              <a:gdLst/>
              <a:ahLst/>
              <a:rect l="l" t="t" r="r" b="b"/>
              <a:pathLst>
                <a:path w="14" h="21">
                  <a:moveTo>
                    <a:pt x="14" y="0"/>
                  </a:moveTo>
                  <a:lnTo>
                    <a:pt x="7" y="21"/>
                  </a:lnTo>
                  <a:lnTo>
                    <a:pt x="0" y="21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2" name=""/>
            <p:cNvSpPr/>
            <p:nvPr/>
          </p:nvSpPr>
          <p:spPr>
            <a:xfrm>
              <a:off x="6881760" y="2895480"/>
              <a:ext cx="11160" cy="44640"/>
            </a:xfrm>
            <a:custGeom>
              <a:avLst/>
              <a:gdLst/>
              <a:ahLst/>
              <a:rect l="l" t="t" r="r" b="b"/>
              <a:pathLst>
                <a:path w="7" h="28">
                  <a:moveTo>
                    <a:pt x="7" y="0"/>
                  </a:moveTo>
                  <a:lnTo>
                    <a:pt x="0" y="28"/>
                  </a:lnTo>
                  <a:lnTo>
                    <a:pt x="0" y="28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3" name=""/>
            <p:cNvSpPr/>
            <p:nvPr/>
          </p:nvSpPr>
          <p:spPr>
            <a:xfrm>
              <a:off x="6859440" y="2982960"/>
              <a:ext cx="11160" cy="42840"/>
            </a:xfrm>
            <a:custGeom>
              <a:avLst/>
              <a:gdLst/>
              <a:ahLst/>
              <a:rect l="l" t="t" r="r" b="b"/>
              <a:pathLst>
                <a:path w="7" h="27">
                  <a:moveTo>
                    <a:pt x="7" y="0"/>
                  </a:moveTo>
                  <a:lnTo>
                    <a:pt x="7" y="7"/>
                  </a:lnTo>
                  <a:lnTo>
                    <a:pt x="0" y="21"/>
                  </a:lnTo>
                  <a:lnTo>
                    <a:pt x="0" y="27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4" name=""/>
            <p:cNvSpPr/>
            <p:nvPr/>
          </p:nvSpPr>
          <p:spPr>
            <a:xfrm>
              <a:off x="6783480" y="3048120"/>
              <a:ext cx="33120" cy="21960"/>
            </a:xfrm>
            <a:custGeom>
              <a:avLst/>
              <a:gdLst/>
              <a:ahLst/>
              <a:rect l="l" t="t" r="r" b="b"/>
              <a:pathLst>
                <a:path w="21" h="14">
                  <a:moveTo>
                    <a:pt x="21" y="0"/>
                  </a:moveTo>
                  <a:lnTo>
                    <a:pt x="7" y="7"/>
                  </a:lnTo>
                  <a:lnTo>
                    <a:pt x="0" y="14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5" name=""/>
            <p:cNvSpPr/>
            <p:nvPr/>
          </p:nvSpPr>
          <p:spPr>
            <a:xfrm>
              <a:off x="6729480" y="3102120"/>
              <a:ext cx="22320" cy="44280"/>
            </a:xfrm>
            <a:custGeom>
              <a:avLst/>
              <a:gdLst/>
              <a:ahLst/>
              <a:rect l="l" t="t" r="r" b="b"/>
              <a:pathLst>
                <a:path w="14" h="28">
                  <a:moveTo>
                    <a:pt x="14" y="0"/>
                  </a:moveTo>
                  <a:lnTo>
                    <a:pt x="14" y="7"/>
                  </a:lnTo>
                  <a:lnTo>
                    <a:pt x="0" y="28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6" name=""/>
            <p:cNvSpPr/>
            <p:nvPr/>
          </p:nvSpPr>
          <p:spPr>
            <a:xfrm>
              <a:off x="6684840" y="3178080"/>
              <a:ext cx="22320" cy="44640"/>
            </a:xfrm>
            <a:custGeom>
              <a:avLst/>
              <a:gdLst/>
              <a:ahLst/>
              <a:rect l="l" t="t" r="r" b="b"/>
              <a:pathLst>
                <a:path w="14" h="28">
                  <a:moveTo>
                    <a:pt x="14" y="0"/>
                  </a:moveTo>
                  <a:lnTo>
                    <a:pt x="7" y="14"/>
                  </a:lnTo>
                  <a:lnTo>
                    <a:pt x="0" y="28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7" name=""/>
            <p:cNvSpPr/>
            <p:nvPr/>
          </p:nvSpPr>
          <p:spPr>
            <a:xfrm>
              <a:off x="6642000" y="3254400"/>
              <a:ext cx="11160" cy="33480"/>
            </a:xfrm>
            <a:custGeom>
              <a:avLst/>
              <a:gdLst/>
              <a:ahLst/>
              <a:rect l="l" t="t" r="r" b="b"/>
              <a:pathLst>
                <a:path w="7" h="21">
                  <a:moveTo>
                    <a:pt x="7" y="0"/>
                  </a:moveTo>
                  <a:lnTo>
                    <a:pt x="7" y="7"/>
                  </a:lnTo>
                  <a:lnTo>
                    <a:pt x="0" y="21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8" name=""/>
            <p:cNvSpPr/>
            <p:nvPr/>
          </p:nvSpPr>
          <p:spPr>
            <a:xfrm>
              <a:off x="6608880" y="3330720"/>
              <a:ext cx="11160" cy="42840"/>
            </a:xfrm>
            <a:custGeom>
              <a:avLst/>
              <a:gdLst/>
              <a:ahLst/>
              <a:rect l="l" t="t" r="r" b="b"/>
              <a:pathLst>
                <a:path w="7" h="27">
                  <a:moveTo>
                    <a:pt x="7" y="0"/>
                  </a:moveTo>
                  <a:lnTo>
                    <a:pt x="0" y="21"/>
                  </a:lnTo>
                  <a:lnTo>
                    <a:pt x="0" y="27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9" name=""/>
            <p:cNvSpPr/>
            <p:nvPr/>
          </p:nvSpPr>
          <p:spPr>
            <a:xfrm>
              <a:off x="6588000" y="3417840"/>
              <a:ext cx="11160" cy="42840"/>
            </a:xfrm>
            <a:custGeom>
              <a:avLst/>
              <a:gdLst/>
              <a:ahLst/>
              <a:rect l="l" t="t" r="r" b="b"/>
              <a:pathLst>
                <a:path w="7" h="27">
                  <a:moveTo>
                    <a:pt x="0" y="0"/>
                  </a:moveTo>
                  <a:lnTo>
                    <a:pt x="0" y="0"/>
                  </a:lnTo>
                  <a:lnTo>
                    <a:pt x="7" y="20"/>
                  </a:lnTo>
                  <a:lnTo>
                    <a:pt x="7" y="27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0" name=""/>
            <p:cNvSpPr/>
            <p:nvPr/>
          </p:nvSpPr>
          <p:spPr>
            <a:xfrm>
              <a:off x="6588000" y="3505320"/>
              <a:ext cx="11160" cy="42840"/>
            </a:xfrm>
            <a:custGeom>
              <a:avLst/>
              <a:gdLst/>
              <a:ahLst/>
              <a:rect l="l" t="t" r="r" b="b"/>
              <a:pathLst>
                <a:path w="7" h="27">
                  <a:moveTo>
                    <a:pt x="7" y="0"/>
                  </a:moveTo>
                  <a:lnTo>
                    <a:pt x="0" y="6"/>
                  </a:lnTo>
                  <a:lnTo>
                    <a:pt x="0" y="27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1" name=""/>
            <p:cNvSpPr/>
            <p:nvPr/>
          </p:nvSpPr>
          <p:spPr>
            <a:xfrm>
              <a:off x="6543720" y="3591000"/>
              <a:ext cx="22320" cy="11160"/>
            </a:xfrm>
            <a:custGeom>
              <a:avLst/>
              <a:gdLst/>
              <a:ahLst/>
              <a:rect l="l" t="t" r="r" b="b"/>
              <a:pathLst>
                <a:path w="14" h="7">
                  <a:moveTo>
                    <a:pt x="14" y="0"/>
                  </a:moveTo>
                  <a:lnTo>
                    <a:pt x="14" y="0"/>
                  </a:lnTo>
                  <a:lnTo>
                    <a:pt x="7" y="7"/>
                  </a:lnTo>
                  <a:lnTo>
                    <a:pt x="0" y="7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2" name=""/>
            <p:cNvSpPr/>
            <p:nvPr/>
          </p:nvSpPr>
          <p:spPr>
            <a:xfrm>
              <a:off x="6489720" y="3602160"/>
              <a:ext cx="22320" cy="42840"/>
            </a:xfrm>
            <a:custGeom>
              <a:avLst/>
              <a:gdLst/>
              <a:ahLst/>
              <a:rect l="l" t="t" r="r" b="b"/>
              <a:pathLst>
                <a:path w="14" h="27">
                  <a:moveTo>
                    <a:pt x="14" y="0"/>
                  </a:moveTo>
                  <a:lnTo>
                    <a:pt x="7" y="7"/>
                  </a:lnTo>
                  <a:lnTo>
                    <a:pt x="0" y="21"/>
                  </a:lnTo>
                  <a:lnTo>
                    <a:pt x="0" y="27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3" name=""/>
            <p:cNvSpPr/>
            <p:nvPr/>
          </p:nvSpPr>
          <p:spPr>
            <a:xfrm>
              <a:off x="6478560" y="3689280"/>
              <a:ext cx="11160" cy="42840"/>
            </a:xfrm>
            <a:custGeom>
              <a:avLst/>
              <a:gdLst/>
              <a:ahLst/>
              <a:rect l="l" t="t" r="r" b="b"/>
              <a:pathLst>
                <a:path w="7" h="27">
                  <a:moveTo>
                    <a:pt x="0" y="0"/>
                  </a:moveTo>
                  <a:lnTo>
                    <a:pt x="7" y="20"/>
                  </a:lnTo>
                  <a:lnTo>
                    <a:pt x="7" y="27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4" name=""/>
            <p:cNvSpPr/>
            <p:nvPr/>
          </p:nvSpPr>
          <p:spPr>
            <a:xfrm>
              <a:off x="6467400" y="3776760"/>
              <a:ext cx="11160" cy="42840"/>
            </a:xfrm>
            <a:custGeom>
              <a:avLst/>
              <a:gdLst/>
              <a:ahLst/>
              <a:rect l="l" t="t" r="r" b="b"/>
              <a:pathLst>
                <a:path w="7" h="27">
                  <a:moveTo>
                    <a:pt x="7" y="0"/>
                  </a:moveTo>
                  <a:lnTo>
                    <a:pt x="0" y="20"/>
                  </a:lnTo>
                  <a:lnTo>
                    <a:pt x="0" y="27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5" name=""/>
            <p:cNvSpPr/>
            <p:nvPr/>
          </p:nvSpPr>
          <p:spPr>
            <a:xfrm>
              <a:off x="6467400" y="3862440"/>
              <a:ext cx="1800" cy="44280"/>
            </a:xfrm>
            <a:custGeom>
              <a:avLst/>
              <a:gdLst/>
              <a:ahLst/>
              <a:rect l="l" t="t" r="r" b="b"/>
              <a:pathLst>
                <a:path w="0" h="28">
                  <a:moveTo>
                    <a:pt x="0" y="0"/>
                  </a:moveTo>
                  <a:lnTo>
                    <a:pt x="0" y="21"/>
                  </a:lnTo>
                  <a:lnTo>
                    <a:pt x="0" y="28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6" name=""/>
            <p:cNvSpPr/>
            <p:nvPr/>
          </p:nvSpPr>
          <p:spPr>
            <a:xfrm>
              <a:off x="6424560" y="3938760"/>
              <a:ext cx="31680" cy="10800"/>
            </a:xfrm>
            <a:custGeom>
              <a:avLst/>
              <a:gdLst/>
              <a:ahLst/>
              <a:rect l="l" t="t" r="r" b="b"/>
              <a:pathLst>
                <a:path w="20" h="7">
                  <a:moveTo>
                    <a:pt x="20" y="7"/>
                  </a:moveTo>
                  <a:lnTo>
                    <a:pt x="20" y="7"/>
                  </a:lnTo>
                  <a:lnTo>
                    <a:pt x="7" y="0"/>
                  </a:lnTo>
                  <a:lnTo>
                    <a:pt x="0" y="7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7" name=""/>
            <p:cNvSpPr/>
            <p:nvPr/>
          </p:nvSpPr>
          <p:spPr>
            <a:xfrm>
              <a:off x="6370560" y="3983040"/>
              <a:ext cx="31680" cy="316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20" y="0"/>
                  </a:moveTo>
                  <a:lnTo>
                    <a:pt x="13" y="6"/>
                  </a:lnTo>
                  <a:lnTo>
                    <a:pt x="0" y="2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8" name=""/>
            <p:cNvSpPr/>
            <p:nvPr/>
          </p:nvSpPr>
          <p:spPr>
            <a:xfrm flipH="1">
              <a:off x="6315120" y="4048200"/>
              <a:ext cx="33120" cy="428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9" name=""/>
            <p:cNvSpPr/>
            <p:nvPr/>
          </p:nvSpPr>
          <p:spPr>
            <a:xfrm flipH="1">
              <a:off x="6272280" y="4124160"/>
              <a:ext cx="22320" cy="320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0" name=""/>
            <p:cNvSpPr/>
            <p:nvPr/>
          </p:nvSpPr>
          <p:spPr>
            <a:xfrm>
              <a:off x="6207120" y="4199040"/>
              <a:ext cx="31680" cy="21960"/>
            </a:xfrm>
            <a:custGeom>
              <a:avLst/>
              <a:gdLst/>
              <a:ahLst/>
              <a:rect l="l" t="t" r="r" b="b"/>
              <a:pathLst>
                <a:path w="20" h="14">
                  <a:moveTo>
                    <a:pt x="20" y="0"/>
                  </a:moveTo>
                  <a:lnTo>
                    <a:pt x="7" y="14"/>
                  </a:lnTo>
                  <a:lnTo>
                    <a:pt x="0" y="7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1" name=""/>
            <p:cNvSpPr/>
            <p:nvPr/>
          </p:nvSpPr>
          <p:spPr>
            <a:xfrm flipH="1">
              <a:off x="6162840" y="4210200"/>
              <a:ext cx="10800" cy="331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2" name=""/>
            <p:cNvSpPr/>
            <p:nvPr/>
          </p:nvSpPr>
          <p:spPr>
            <a:xfrm flipH="1">
              <a:off x="6130440" y="4286160"/>
              <a:ext cx="11160" cy="446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3" name=""/>
            <p:cNvSpPr/>
            <p:nvPr/>
          </p:nvSpPr>
          <p:spPr>
            <a:xfrm flipH="1">
              <a:off x="6108840" y="4373640"/>
              <a:ext cx="10800" cy="428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4" name=""/>
            <p:cNvSpPr/>
            <p:nvPr/>
          </p:nvSpPr>
          <p:spPr>
            <a:xfrm flipH="1">
              <a:off x="6075000" y="4460760"/>
              <a:ext cx="11160" cy="428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5" name=""/>
            <p:cNvSpPr/>
            <p:nvPr/>
          </p:nvSpPr>
          <p:spPr>
            <a:xfrm flipH="1">
              <a:off x="6043680" y="4537080"/>
              <a:ext cx="22320" cy="428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6" name=""/>
            <p:cNvSpPr/>
            <p:nvPr/>
          </p:nvSpPr>
          <p:spPr>
            <a:xfrm flipH="1">
              <a:off x="6021000" y="4622760"/>
              <a:ext cx="11160" cy="446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7" name=""/>
            <p:cNvSpPr/>
            <p:nvPr/>
          </p:nvSpPr>
          <p:spPr>
            <a:xfrm flipH="1">
              <a:off x="5989680" y="4710240"/>
              <a:ext cx="9360" cy="428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8" name=""/>
            <p:cNvSpPr/>
            <p:nvPr/>
          </p:nvSpPr>
          <p:spPr>
            <a:xfrm flipH="1">
              <a:off x="5956200" y="4797360"/>
              <a:ext cx="22320" cy="428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9" name=""/>
            <p:cNvSpPr/>
            <p:nvPr/>
          </p:nvSpPr>
          <p:spPr>
            <a:xfrm flipH="1">
              <a:off x="5934240" y="4873680"/>
              <a:ext cx="10800" cy="316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0" name=""/>
            <p:cNvSpPr/>
            <p:nvPr/>
          </p:nvSpPr>
          <p:spPr>
            <a:xfrm>
              <a:off x="6086520" y="2570040"/>
              <a:ext cx="44280" cy="18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1" name=""/>
            <p:cNvSpPr/>
            <p:nvPr/>
          </p:nvSpPr>
          <p:spPr>
            <a:xfrm>
              <a:off x="6173640" y="2570040"/>
              <a:ext cx="44640" cy="18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2" name=""/>
            <p:cNvSpPr/>
            <p:nvPr/>
          </p:nvSpPr>
          <p:spPr>
            <a:xfrm>
              <a:off x="6261120" y="2570040"/>
              <a:ext cx="42840" cy="111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3" name=""/>
            <p:cNvSpPr/>
            <p:nvPr/>
          </p:nvSpPr>
          <p:spPr>
            <a:xfrm>
              <a:off x="6348240" y="2581200"/>
              <a:ext cx="43200" cy="223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4" name=""/>
            <p:cNvSpPr/>
            <p:nvPr/>
          </p:nvSpPr>
          <p:spPr>
            <a:xfrm>
              <a:off x="6424560" y="2612880"/>
              <a:ext cx="42840" cy="223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5" name=""/>
            <p:cNvSpPr/>
            <p:nvPr/>
          </p:nvSpPr>
          <p:spPr>
            <a:xfrm>
              <a:off x="6512040" y="2657520"/>
              <a:ext cx="42840" cy="111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6" name=""/>
            <p:cNvSpPr/>
            <p:nvPr/>
          </p:nvSpPr>
          <p:spPr>
            <a:xfrm>
              <a:off x="6588000" y="2689200"/>
              <a:ext cx="42840" cy="223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7" name=""/>
            <p:cNvSpPr/>
            <p:nvPr/>
          </p:nvSpPr>
          <p:spPr>
            <a:xfrm>
              <a:off x="6675480" y="2722680"/>
              <a:ext cx="31680" cy="219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8" name=""/>
            <p:cNvSpPr/>
            <p:nvPr/>
          </p:nvSpPr>
          <p:spPr>
            <a:xfrm>
              <a:off x="6751800" y="2765520"/>
              <a:ext cx="42840" cy="111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9" name=""/>
            <p:cNvSpPr/>
            <p:nvPr/>
          </p:nvSpPr>
          <p:spPr>
            <a:xfrm>
              <a:off x="6826320" y="2733840"/>
              <a:ext cx="44280" cy="20520"/>
            </a:xfrm>
            <a:custGeom>
              <a:avLst/>
              <a:gdLst/>
              <a:ahLst/>
              <a:rect l="l" t="t" r="r" b="b"/>
              <a:pathLst>
                <a:path w="28" h="13">
                  <a:moveTo>
                    <a:pt x="0" y="13"/>
                  </a:moveTo>
                  <a:lnTo>
                    <a:pt x="14" y="0"/>
                  </a:lnTo>
                  <a:lnTo>
                    <a:pt x="28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0" name=""/>
            <p:cNvSpPr/>
            <p:nvPr/>
          </p:nvSpPr>
          <p:spPr>
            <a:xfrm>
              <a:off x="6913440" y="2733840"/>
              <a:ext cx="3348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1" name=""/>
            <p:cNvSpPr/>
            <p:nvPr/>
          </p:nvSpPr>
          <p:spPr>
            <a:xfrm flipH="1">
              <a:off x="6337440" y="2581200"/>
              <a:ext cx="10800" cy="428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2" name=""/>
            <p:cNvSpPr/>
            <p:nvPr/>
          </p:nvSpPr>
          <p:spPr>
            <a:xfrm>
              <a:off x="6326280" y="2668680"/>
              <a:ext cx="1440" cy="54000"/>
            </a:xfrm>
            <a:custGeom>
              <a:avLst/>
              <a:gdLst/>
              <a:ahLst/>
              <a:rect l="l" t="t" r="r" b="b"/>
              <a:pathLst>
                <a:path w="0" h="34">
                  <a:moveTo>
                    <a:pt x="0" y="0"/>
                  </a:moveTo>
                  <a:lnTo>
                    <a:pt x="0" y="27"/>
                  </a:lnTo>
                  <a:lnTo>
                    <a:pt x="0" y="34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3" name=""/>
            <p:cNvSpPr/>
            <p:nvPr/>
          </p:nvSpPr>
          <p:spPr>
            <a:xfrm>
              <a:off x="6303960" y="2765520"/>
              <a:ext cx="11160" cy="33120"/>
            </a:xfrm>
            <a:custGeom>
              <a:avLst/>
              <a:gdLst/>
              <a:ahLst/>
              <a:rect l="l" t="t" r="r" b="b"/>
              <a:pathLst>
                <a:path w="7" h="21">
                  <a:moveTo>
                    <a:pt x="7" y="0"/>
                  </a:moveTo>
                  <a:lnTo>
                    <a:pt x="0" y="21"/>
                  </a:lnTo>
                  <a:lnTo>
                    <a:pt x="0" y="21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4" name=""/>
            <p:cNvSpPr/>
            <p:nvPr/>
          </p:nvSpPr>
          <p:spPr>
            <a:xfrm>
              <a:off x="6272280" y="2841480"/>
              <a:ext cx="11160" cy="44640"/>
            </a:xfrm>
            <a:custGeom>
              <a:avLst/>
              <a:gdLst/>
              <a:ahLst/>
              <a:rect l="l" t="t" r="r" b="b"/>
              <a:pathLst>
                <a:path w="7" h="28">
                  <a:moveTo>
                    <a:pt x="7" y="0"/>
                  </a:moveTo>
                  <a:lnTo>
                    <a:pt x="7" y="0"/>
                  </a:lnTo>
                  <a:lnTo>
                    <a:pt x="7" y="21"/>
                  </a:lnTo>
                  <a:lnTo>
                    <a:pt x="0" y="28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5" name=""/>
            <p:cNvSpPr/>
            <p:nvPr/>
          </p:nvSpPr>
          <p:spPr>
            <a:xfrm>
              <a:off x="6249960" y="2928960"/>
              <a:ext cx="11160" cy="42840"/>
            </a:xfrm>
            <a:custGeom>
              <a:avLst/>
              <a:gdLst/>
              <a:ahLst/>
              <a:rect l="l" t="t" r="r" b="b"/>
              <a:pathLst>
                <a:path w="7" h="27">
                  <a:moveTo>
                    <a:pt x="7" y="0"/>
                  </a:moveTo>
                  <a:lnTo>
                    <a:pt x="0" y="0"/>
                  </a:lnTo>
                  <a:lnTo>
                    <a:pt x="0" y="20"/>
                  </a:lnTo>
                  <a:lnTo>
                    <a:pt x="0" y="27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6" name=""/>
            <p:cNvSpPr/>
            <p:nvPr/>
          </p:nvSpPr>
          <p:spPr>
            <a:xfrm>
              <a:off x="6261120" y="3016080"/>
              <a:ext cx="11160" cy="32040"/>
            </a:xfrm>
            <a:custGeom>
              <a:avLst/>
              <a:gdLst/>
              <a:ahLst/>
              <a:rect l="l" t="t" r="r" b="b"/>
              <a:pathLst>
                <a:path w="7" h="20">
                  <a:moveTo>
                    <a:pt x="0" y="0"/>
                  </a:moveTo>
                  <a:lnTo>
                    <a:pt x="0" y="0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13"/>
                  </a:lnTo>
                  <a:lnTo>
                    <a:pt x="7" y="13"/>
                  </a:lnTo>
                  <a:lnTo>
                    <a:pt x="7" y="20"/>
                  </a:lnTo>
                  <a:lnTo>
                    <a:pt x="7" y="2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7" name=""/>
            <p:cNvSpPr/>
            <p:nvPr/>
          </p:nvSpPr>
          <p:spPr>
            <a:xfrm>
              <a:off x="6227640" y="3092400"/>
              <a:ext cx="33480" cy="31680"/>
            </a:xfrm>
            <a:custGeom>
              <a:avLst/>
              <a:gdLst/>
              <a:ahLst/>
              <a:rect l="l" t="t" r="r" b="b"/>
              <a:pathLst>
                <a:path w="21" h="20">
                  <a:moveTo>
                    <a:pt x="21" y="0"/>
                  </a:moveTo>
                  <a:lnTo>
                    <a:pt x="14" y="6"/>
                  </a:lnTo>
                  <a:lnTo>
                    <a:pt x="0" y="13"/>
                  </a:lnTo>
                  <a:lnTo>
                    <a:pt x="0" y="2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8" name=""/>
            <p:cNvSpPr/>
            <p:nvPr/>
          </p:nvSpPr>
          <p:spPr>
            <a:xfrm>
              <a:off x="6162840" y="3157560"/>
              <a:ext cx="44280" cy="9360"/>
            </a:xfrm>
            <a:custGeom>
              <a:avLst/>
              <a:gdLst/>
              <a:ahLst/>
              <a:rect l="l" t="t" r="r" b="b"/>
              <a:pathLst>
                <a:path w="28" h="6">
                  <a:moveTo>
                    <a:pt x="28" y="0"/>
                  </a:moveTo>
                  <a:lnTo>
                    <a:pt x="21" y="6"/>
                  </a:lnTo>
                  <a:lnTo>
                    <a:pt x="7" y="6"/>
                  </a:lnTo>
                  <a:lnTo>
                    <a:pt x="0" y="6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9" name=""/>
            <p:cNvSpPr/>
            <p:nvPr/>
          </p:nvSpPr>
          <p:spPr>
            <a:xfrm>
              <a:off x="6097680" y="3157560"/>
              <a:ext cx="21960" cy="20520"/>
            </a:xfrm>
            <a:custGeom>
              <a:avLst/>
              <a:gdLst/>
              <a:ahLst/>
              <a:rect l="l" t="t" r="r" b="b"/>
              <a:pathLst>
                <a:path w="14" h="13">
                  <a:moveTo>
                    <a:pt x="14" y="0"/>
                  </a:moveTo>
                  <a:lnTo>
                    <a:pt x="14" y="0"/>
                  </a:lnTo>
                  <a:lnTo>
                    <a:pt x="0" y="0"/>
                  </a:lnTo>
                  <a:lnTo>
                    <a:pt x="0" y="13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0" name=""/>
            <p:cNvSpPr/>
            <p:nvPr/>
          </p:nvSpPr>
          <p:spPr>
            <a:xfrm>
              <a:off x="6066000" y="3211560"/>
              <a:ext cx="9360" cy="31680"/>
            </a:xfrm>
            <a:custGeom>
              <a:avLst/>
              <a:gdLst/>
              <a:ahLst/>
              <a:rect l="l" t="t" r="r" b="b"/>
              <a:pathLst>
                <a:path w="6" h="20">
                  <a:moveTo>
                    <a:pt x="6" y="0"/>
                  </a:moveTo>
                  <a:lnTo>
                    <a:pt x="0" y="0"/>
                  </a:lnTo>
                  <a:lnTo>
                    <a:pt x="0" y="13"/>
                  </a:lnTo>
                  <a:lnTo>
                    <a:pt x="0" y="2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1" name=""/>
            <p:cNvSpPr/>
            <p:nvPr/>
          </p:nvSpPr>
          <p:spPr>
            <a:xfrm>
              <a:off x="6043680" y="3287880"/>
              <a:ext cx="22320" cy="20520"/>
            </a:xfrm>
            <a:custGeom>
              <a:avLst/>
              <a:gdLst/>
              <a:ahLst/>
              <a:rect l="l" t="t" r="r" b="b"/>
              <a:pathLst>
                <a:path w="14" h="13">
                  <a:moveTo>
                    <a:pt x="14" y="0"/>
                  </a:moveTo>
                  <a:lnTo>
                    <a:pt x="14" y="13"/>
                  </a:lnTo>
                  <a:lnTo>
                    <a:pt x="0" y="7"/>
                  </a:lnTo>
                  <a:lnTo>
                    <a:pt x="0" y="13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2" name=""/>
            <p:cNvSpPr/>
            <p:nvPr/>
          </p:nvSpPr>
          <p:spPr>
            <a:xfrm>
              <a:off x="5989680" y="3341520"/>
              <a:ext cx="20520" cy="3204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3" y="0"/>
                  </a:moveTo>
                  <a:lnTo>
                    <a:pt x="6" y="0"/>
                  </a:lnTo>
                  <a:lnTo>
                    <a:pt x="0" y="2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3" name=""/>
            <p:cNvSpPr/>
            <p:nvPr/>
          </p:nvSpPr>
          <p:spPr>
            <a:xfrm>
              <a:off x="5934240" y="3417840"/>
              <a:ext cx="33120" cy="31680"/>
            </a:xfrm>
            <a:custGeom>
              <a:avLst/>
              <a:gdLst/>
              <a:ahLst/>
              <a:rect l="l" t="t" r="r" b="b"/>
              <a:pathLst>
                <a:path w="21" h="20">
                  <a:moveTo>
                    <a:pt x="21" y="0"/>
                  </a:moveTo>
                  <a:lnTo>
                    <a:pt x="21" y="0"/>
                  </a:lnTo>
                  <a:lnTo>
                    <a:pt x="7" y="13"/>
                  </a:lnTo>
                  <a:lnTo>
                    <a:pt x="0" y="2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4" name=""/>
            <p:cNvSpPr/>
            <p:nvPr/>
          </p:nvSpPr>
          <p:spPr>
            <a:xfrm>
              <a:off x="5880240" y="3406680"/>
              <a:ext cx="21960" cy="31680"/>
            </a:xfrm>
            <a:custGeom>
              <a:avLst/>
              <a:gdLst/>
              <a:ahLst/>
              <a:rect l="l" t="t" r="r" b="b"/>
              <a:pathLst>
                <a:path w="14" h="20">
                  <a:moveTo>
                    <a:pt x="14" y="20"/>
                  </a:moveTo>
                  <a:lnTo>
                    <a:pt x="14" y="20"/>
                  </a:lnTo>
                  <a:lnTo>
                    <a:pt x="7" y="7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5" name=""/>
            <p:cNvSpPr/>
            <p:nvPr/>
          </p:nvSpPr>
          <p:spPr>
            <a:xfrm flipH="1" flipV="1">
              <a:off x="5803560" y="3384720"/>
              <a:ext cx="42840" cy="108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6" name=""/>
            <p:cNvSpPr/>
            <p:nvPr/>
          </p:nvSpPr>
          <p:spPr>
            <a:xfrm flipH="1" flipV="1">
              <a:off x="5716440" y="3373200"/>
              <a:ext cx="44640" cy="111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7" name=""/>
            <p:cNvSpPr/>
            <p:nvPr/>
          </p:nvSpPr>
          <p:spPr>
            <a:xfrm flipH="1">
              <a:off x="5618160" y="3373560"/>
              <a:ext cx="5544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8" name=""/>
            <p:cNvSpPr/>
            <p:nvPr/>
          </p:nvSpPr>
          <p:spPr>
            <a:xfrm>
              <a:off x="5618160" y="3406680"/>
              <a:ext cx="1440" cy="540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9" name=""/>
            <p:cNvSpPr/>
            <p:nvPr/>
          </p:nvSpPr>
          <p:spPr>
            <a:xfrm>
              <a:off x="5564160" y="3471840"/>
              <a:ext cx="22320" cy="2232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14" y="0"/>
                  </a:moveTo>
                  <a:lnTo>
                    <a:pt x="0" y="0"/>
                  </a:lnTo>
                  <a:lnTo>
                    <a:pt x="0" y="14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0" name=""/>
            <p:cNvSpPr/>
            <p:nvPr/>
          </p:nvSpPr>
          <p:spPr>
            <a:xfrm>
              <a:off x="5553000" y="3537000"/>
              <a:ext cx="11160" cy="33120"/>
            </a:xfrm>
            <a:custGeom>
              <a:avLst/>
              <a:gdLst/>
              <a:ahLst/>
              <a:rect l="l" t="t" r="r" b="b"/>
              <a:pathLst>
                <a:path w="7" h="21">
                  <a:moveTo>
                    <a:pt x="7" y="0"/>
                  </a:moveTo>
                  <a:lnTo>
                    <a:pt x="7" y="21"/>
                  </a:lnTo>
                  <a:lnTo>
                    <a:pt x="0" y="21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1" name=""/>
            <p:cNvSpPr/>
            <p:nvPr/>
          </p:nvSpPr>
          <p:spPr>
            <a:xfrm>
              <a:off x="5499000" y="3559320"/>
              <a:ext cx="11160" cy="31680"/>
            </a:xfrm>
            <a:custGeom>
              <a:avLst/>
              <a:gdLst/>
              <a:ahLst/>
              <a:rect l="l" t="t" r="r" b="b"/>
              <a:pathLst>
                <a:path w="7" h="20">
                  <a:moveTo>
                    <a:pt x="7" y="0"/>
                  </a:moveTo>
                  <a:lnTo>
                    <a:pt x="7" y="0"/>
                  </a:lnTo>
                  <a:lnTo>
                    <a:pt x="0" y="2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2" name=""/>
            <p:cNvSpPr/>
            <p:nvPr/>
          </p:nvSpPr>
          <p:spPr>
            <a:xfrm>
              <a:off x="5216400" y="3200400"/>
              <a:ext cx="22320" cy="42840"/>
            </a:xfrm>
            <a:custGeom>
              <a:avLst/>
              <a:gdLst/>
              <a:ahLst/>
              <a:rect l="l" t="t" r="r" b="b"/>
              <a:pathLst>
                <a:path w="14" h="27">
                  <a:moveTo>
                    <a:pt x="14" y="27"/>
                  </a:moveTo>
                  <a:lnTo>
                    <a:pt x="0" y="7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3" name=""/>
            <p:cNvSpPr/>
            <p:nvPr/>
          </p:nvSpPr>
          <p:spPr>
            <a:xfrm>
              <a:off x="5205240" y="3112920"/>
              <a:ext cx="1800" cy="44640"/>
            </a:xfrm>
            <a:custGeom>
              <a:avLst/>
              <a:gdLst/>
              <a:ahLst/>
              <a:rect l="l" t="t" r="r" b="b"/>
              <a:pathLst>
                <a:path w="0" h="28">
                  <a:moveTo>
                    <a:pt x="0" y="28"/>
                  </a:moveTo>
                  <a:lnTo>
                    <a:pt x="0" y="14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4" name=""/>
            <p:cNvSpPr/>
            <p:nvPr/>
          </p:nvSpPr>
          <p:spPr>
            <a:xfrm>
              <a:off x="5205240" y="3025800"/>
              <a:ext cx="11160" cy="44280"/>
            </a:xfrm>
            <a:custGeom>
              <a:avLst/>
              <a:gdLst/>
              <a:ahLst/>
              <a:rect l="l" t="t" r="r" b="b"/>
              <a:pathLst>
                <a:path w="7" h="28">
                  <a:moveTo>
                    <a:pt x="0" y="28"/>
                  </a:moveTo>
                  <a:lnTo>
                    <a:pt x="0" y="28"/>
                  </a:lnTo>
                  <a:lnTo>
                    <a:pt x="0" y="14"/>
                  </a:lnTo>
                  <a:lnTo>
                    <a:pt x="7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5" name=""/>
            <p:cNvSpPr/>
            <p:nvPr/>
          </p:nvSpPr>
          <p:spPr>
            <a:xfrm>
              <a:off x="5216400" y="2940120"/>
              <a:ext cx="11160" cy="42840"/>
            </a:xfrm>
            <a:custGeom>
              <a:avLst/>
              <a:gdLst/>
              <a:ahLst/>
              <a:rect l="l" t="t" r="r" b="b"/>
              <a:pathLst>
                <a:path w="7" h="27">
                  <a:moveTo>
                    <a:pt x="7" y="27"/>
                  </a:moveTo>
                  <a:lnTo>
                    <a:pt x="7" y="27"/>
                  </a:lnTo>
                  <a:lnTo>
                    <a:pt x="7" y="13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6" name=""/>
            <p:cNvSpPr/>
            <p:nvPr/>
          </p:nvSpPr>
          <p:spPr>
            <a:xfrm>
              <a:off x="5162400" y="2886120"/>
              <a:ext cx="32040" cy="20520"/>
            </a:xfrm>
            <a:custGeom>
              <a:avLst/>
              <a:gdLst/>
              <a:ahLst/>
              <a:rect l="l" t="t" r="r" b="b"/>
              <a:pathLst>
                <a:path w="20" h="13">
                  <a:moveTo>
                    <a:pt x="20" y="13"/>
                  </a:moveTo>
                  <a:lnTo>
                    <a:pt x="6" y="6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7" name=""/>
            <p:cNvSpPr/>
            <p:nvPr/>
          </p:nvSpPr>
          <p:spPr>
            <a:xfrm>
              <a:off x="5118120" y="2809800"/>
              <a:ext cx="22320" cy="31680"/>
            </a:xfrm>
            <a:custGeom>
              <a:avLst/>
              <a:gdLst/>
              <a:ahLst/>
              <a:rect l="l" t="t" r="r" b="b"/>
              <a:pathLst>
                <a:path w="14" h="20">
                  <a:moveTo>
                    <a:pt x="14" y="20"/>
                  </a:moveTo>
                  <a:lnTo>
                    <a:pt x="7" y="6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8" name=""/>
            <p:cNvSpPr/>
            <p:nvPr/>
          </p:nvSpPr>
          <p:spPr>
            <a:xfrm>
              <a:off x="5052960" y="2744640"/>
              <a:ext cx="33480" cy="32040"/>
            </a:xfrm>
            <a:custGeom>
              <a:avLst/>
              <a:gdLst/>
              <a:ahLst/>
              <a:rect l="l" t="t" r="r" b="b"/>
              <a:pathLst>
                <a:path w="21" h="20">
                  <a:moveTo>
                    <a:pt x="21" y="20"/>
                  </a:moveTo>
                  <a:lnTo>
                    <a:pt x="21" y="13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9" name=""/>
            <p:cNvSpPr/>
            <p:nvPr/>
          </p:nvSpPr>
          <p:spPr>
            <a:xfrm flipH="1" flipV="1">
              <a:off x="4998960" y="2668680"/>
              <a:ext cx="31680" cy="316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0" name=""/>
            <p:cNvSpPr/>
            <p:nvPr/>
          </p:nvSpPr>
          <p:spPr>
            <a:xfrm>
              <a:off x="4943520" y="2603520"/>
              <a:ext cx="22320" cy="42840"/>
            </a:xfrm>
            <a:custGeom>
              <a:avLst/>
              <a:gdLst/>
              <a:ahLst/>
              <a:rect l="l" t="t" r="r" b="b"/>
              <a:pathLst>
                <a:path w="14" h="27">
                  <a:moveTo>
                    <a:pt x="14" y="27"/>
                  </a:moveTo>
                  <a:lnTo>
                    <a:pt x="0" y="6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1" name=""/>
            <p:cNvSpPr/>
            <p:nvPr/>
          </p:nvSpPr>
          <p:spPr>
            <a:xfrm>
              <a:off x="4878360" y="2558880"/>
              <a:ext cx="44640" cy="11160"/>
            </a:xfrm>
            <a:custGeom>
              <a:avLst/>
              <a:gdLst/>
              <a:ahLst/>
              <a:rect l="l" t="t" r="r" b="b"/>
              <a:pathLst>
                <a:path w="28" h="7">
                  <a:moveTo>
                    <a:pt x="28" y="7"/>
                  </a:moveTo>
                  <a:lnTo>
                    <a:pt x="21" y="0"/>
                  </a:lnTo>
                  <a:lnTo>
                    <a:pt x="7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2" name=""/>
            <p:cNvSpPr/>
            <p:nvPr/>
          </p:nvSpPr>
          <p:spPr>
            <a:xfrm flipH="1" flipV="1">
              <a:off x="5411520" y="3525480"/>
              <a:ext cx="21960" cy="442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3" name=""/>
            <p:cNvSpPr/>
            <p:nvPr/>
          </p:nvSpPr>
          <p:spPr>
            <a:xfrm>
              <a:off x="5369040" y="3449520"/>
              <a:ext cx="21960" cy="33480"/>
            </a:xfrm>
            <a:custGeom>
              <a:avLst/>
              <a:gdLst/>
              <a:ahLst/>
              <a:rect l="l" t="t" r="r" b="b"/>
              <a:pathLst>
                <a:path w="14" h="21">
                  <a:moveTo>
                    <a:pt x="14" y="21"/>
                  </a:moveTo>
                  <a:lnTo>
                    <a:pt x="0" y="7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4" name=""/>
            <p:cNvSpPr/>
            <p:nvPr/>
          </p:nvSpPr>
          <p:spPr>
            <a:xfrm>
              <a:off x="5335560" y="3363840"/>
              <a:ext cx="11160" cy="42840"/>
            </a:xfrm>
            <a:custGeom>
              <a:avLst/>
              <a:gdLst/>
              <a:ahLst/>
              <a:rect l="l" t="t" r="r" b="b"/>
              <a:pathLst>
                <a:path w="7" h="27">
                  <a:moveTo>
                    <a:pt x="7" y="27"/>
                  </a:move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5" name=""/>
            <p:cNvSpPr/>
            <p:nvPr/>
          </p:nvSpPr>
          <p:spPr>
            <a:xfrm>
              <a:off x="5281560" y="3287880"/>
              <a:ext cx="33480" cy="42840"/>
            </a:xfrm>
            <a:custGeom>
              <a:avLst/>
              <a:gdLst/>
              <a:ahLst/>
              <a:rect l="l" t="t" r="r" b="b"/>
              <a:pathLst>
                <a:path w="21" h="27">
                  <a:moveTo>
                    <a:pt x="21" y="27"/>
                  </a:moveTo>
                  <a:lnTo>
                    <a:pt x="7" y="7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6" name=""/>
            <p:cNvSpPr/>
            <p:nvPr/>
          </p:nvSpPr>
          <p:spPr>
            <a:xfrm>
              <a:off x="5248440" y="3222720"/>
              <a:ext cx="10800" cy="31680"/>
            </a:xfrm>
            <a:custGeom>
              <a:avLst/>
              <a:gdLst/>
              <a:ahLst/>
              <a:rect l="l" t="t" r="r" b="b"/>
              <a:pathLst>
                <a:path w="7" h="20">
                  <a:moveTo>
                    <a:pt x="7" y="20"/>
                  </a:moveTo>
                  <a:lnTo>
                    <a:pt x="0" y="20"/>
                  </a:lnTo>
                  <a:lnTo>
                    <a:pt x="0" y="6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7" name=""/>
            <p:cNvSpPr/>
            <p:nvPr/>
          </p:nvSpPr>
          <p:spPr>
            <a:xfrm flipV="1">
              <a:off x="5259240" y="3123720"/>
              <a:ext cx="1800" cy="428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8" name=""/>
            <p:cNvSpPr/>
            <p:nvPr/>
          </p:nvSpPr>
          <p:spPr>
            <a:xfrm flipV="1">
              <a:off x="5270400" y="3036600"/>
              <a:ext cx="1800" cy="442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9" name=""/>
            <p:cNvSpPr/>
            <p:nvPr/>
          </p:nvSpPr>
          <p:spPr>
            <a:xfrm flipV="1">
              <a:off x="5281560" y="2950920"/>
              <a:ext cx="11160" cy="428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0" name=""/>
            <p:cNvSpPr/>
            <p:nvPr/>
          </p:nvSpPr>
          <p:spPr>
            <a:xfrm flipV="1">
              <a:off x="5292720" y="2863440"/>
              <a:ext cx="11160" cy="428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1" name=""/>
            <p:cNvSpPr/>
            <p:nvPr/>
          </p:nvSpPr>
          <p:spPr>
            <a:xfrm>
              <a:off x="5315040" y="2776680"/>
              <a:ext cx="1440" cy="42840"/>
            </a:xfrm>
            <a:custGeom>
              <a:avLst/>
              <a:gdLst/>
              <a:ahLst/>
              <a:rect l="l" t="t" r="r" b="b"/>
              <a:pathLst>
                <a:path w="0" h="27">
                  <a:moveTo>
                    <a:pt x="0" y="27"/>
                  </a:moveTo>
                  <a:lnTo>
                    <a:pt x="0" y="27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2" name=""/>
            <p:cNvSpPr/>
            <p:nvPr/>
          </p:nvSpPr>
          <p:spPr>
            <a:xfrm flipV="1">
              <a:off x="5324400" y="2689200"/>
              <a:ext cx="1800" cy="446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3" name=""/>
            <p:cNvSpPr/>
            <p:nvPr/>
          </p:nvSpPr>
          <p:spPr>
            <a:xfrm flipV="1">
              <a:off x="5335560" y="2603160"/>
              <a:ext cx="11160" cy="428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4" name=""/>
            <p:cNvSpPr/>
            <p:nvPr/>
          </p:nvSpPr>
          <p:spPr>
            <a:xfrm flipV="1">
              <a:off x="5346720" y="2515680"/>
              <a:ext cx="11160" cy="428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5" name=""/>
            <p:cNvSpPr/>
            <p:nvPr/>
          </p:nvSpPr>
          <p:spPr>
            <a:xfrm flipV="1">
              <a:off x="5357880" y="2428560"/>
              <a:ext cx="11160" cy="428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6" name=""/>
            <p:cNvSpPr/>
            <p:nvPr/>
          </p:nvSpPr>
          <p:spPr>
            <a:xfrm flipV="1">
              <a:off x="5369040" y="2341440"/>
              <a:ext cx="11160" cy="446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7" name=""/>
            <p:cNvSpPr/>
            <p:nvPr/>
          </p:nvSpPr>
          <p:spPr>
            <a:xfrm flipV="1">
              <a:off x="5380200" y="2255400"/>
              <a:ext cx="10800" cy="428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8" name=""/>
            <p:cNvSpPr/>
            <p:nvPr/>
          </p:nvSpPr>
          <p:spPr>
            <a:xfrm>
              <a:off x="5391000" y="2200320"/>
              <a:ext cx="42840" cy="11160"/>
            </a:xfrm>
            <a:custGeom>
              <a:avLst/>
              <a:gdLst/>
              <a:ahLst/>
              <a:rect l="l" t="t" r="r" b="b"/>
              <a:pathLst>
                <a:path w="27" h="7">
                  <a:moveTo>
                    <a:pt x="0" y="7"/>
                  </a:moveTo>
                  <a:lnTo>
                    <a:pt x="6" y="0"/>
                  </a:lnTo>
                  <a:lnTo>
                    <a:pt x="27" y="7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9" name=""/>
            <p:cNvSpPr/>
            <p:nvPr/>
          </p:nvSpPr>
          <p:spPr>
            <a:xfrm>
              <a:off x="5477040" y="2211480"/>
              <a:ext cx="44280" cy="111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0" name=""/>
            <p:cNvSpPr/>
            <p:nvPr/>
          </p:nvSpPr>
          <p:spPr>
            <a:xfrm flipV="1">
              <a:off x="5564160" y="2190240"/>
              <a:ext cx="22320" cy="320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1" name=""/>
            <p:cNvSpPr/>
            <p:nvPr/>
          </p:nvSpPr>
          <p:spPr>
            <a:xfrm flipV="1">
              <a:off x="5618160" y="2125800"/>
              <a:ext cx="22320" cy="316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2" name=""/>
            <p:cNvSpPr/>
            <p:nvPr/>
          </p:nvSpPr>
          <p:spPr>
            <a:xfrm>
              <a:off x="5684760" y="2125800"/>
              <a:ext cx="31680" cy="93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3" name=""/>
            <p:cNvSpPr/>
            <p:nvPr/>
          </p:nvSpPr>
          <p:spPr>
            <a:xfrm>
              <a:off x="5761080" y="2157480"/>
              <a:ext cx="42840" cy="223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4" name=""/>
            <p:cNvSpPr/>
            <p:nvPr/>
          </p:nvSpPr>
          <p:spPr>
            <a:xfrm>
              <a:off x="5846760" y="2190600"/>
              <a:ext cx="33480" cy="208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5" name=""/>
            <p:cNvSpPr/>
            <p:nvPr/>
          </p:nvSpPr>
          <p:spPr>
            <a:xfrm>
              <a:off x="5923080" y="2233440"/>
              <a:ext cx="44280" cy="11160"/>
            </a:xfrm>
            <a:custGeom>
              <a:avLst/>
              <a:gdLst/>
              <a:ahLst/>
              <a:rect l="l" t="t" r="r" b="b"/>
              <a:pathLst>
                <a:path w="28" h="7">
                  <a:moveTo>
                    <a:pt x="0" y="0"/>
                  </a:moveTo>
                  <a:lnTo>
                    <a:pt x="0" y="0"/>
                  </a:lnTo>
                  <a:lnTo>
                    <a:pt x="28" y="7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6" name=""/>
            <p:cNvSpPr/>
            <p:nvPr/>
          </p:nvSpPr>
          <p:spPr>
            <a:xfrm>
              <a:off x="5999040" y="2265480"/>
              <a:ext cx="44640" cy="21960"/>
            </a:xfrm>
            <a:custGeom>
              <a:avLst/>
              <a:gdLst/>
              <a:ahLst/>
              <a:rect l="l" t="t" r="r" b="b"/>
              <a:pathLst>
                <a:path w="28" h="14">
                  <a:moveTo>
                    <a:pt x="0" y="0"/>
                  </a:moveTo>
                  <a:lnTo>
                    <a:pt x="7" y="0"/>
                  </a:lnTo>
                  <a:lnTo>
                    <a:pt x="28" y="14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7" name=""/>
            <p:cNvSpPr/>
            <p:nvPr/>
          </p:nvSpPr>
          <p:spPr>
            <a:xfrm>
              <a:off x="6086520" y="2298600"/>
              <a:ext cx="11160" cy="428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8" name=""/>
            <p:cNvSpPr/>
            <p:nvPr/>
          </p:nvSpPr>
          <p:spPr>
            <a:xfrm>
              <a:off x="6097680" y="2386080"/>
              <a:ext cx="1440" cy="428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9" name=""/>
            <p:cNvSpPr/>
            <p:nvPr/>
          </p:nvSpPr>
          <p:spPr>
            <a:xfrm>
              <a:off x="6075360" y="2471760"/>
              <a:ext cx="11160" cy="44280"/>
            </a:xfrm>
            <a:custGeom>
              <a:avLst/>
              <a:gdLst/>
              <a:ahLst/>
              <a:rect l="l" t="t" r="r" b="b"/>
              <a:pathLst>
                <a:path w="7" h="28">
                  <a:moveTo>
                    <a:pt x="7" y="0"/>
                  </a:moveTo>
                  <a:lnTo>
                    <a:pt x="0" y="21"/>
                  </a:lnTo>
                  <a:lnTo>
                    <a:pt x="0" y="28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0" name=""/>
            <p:cNvSpPr/>
            <p:nvPr/>
          </p:nvSpPr>
          <p:spPr>
            <a:xfrm>
              <a:off x="6086520" y="2558880"/>
              <a:ext cx="1440" cy="11160"/>
            </a:xfrm>
            <a:custGeom>
              <a:avLst/>
              <a:gdLst/>
              <a:ahLst/>
              <a:rect l="l" t="t" r="r" b="b"/>
              <a:pathLst>
                <a:path w="0" h="7">
                  <a:moveTo>
                    <a:pt x="0" y="0"/>
                  </a:moveTo>
                  <a:lnTo>
                    <a:pt x="0" y="7"/>
                  </a:lnTo>
                  <a:lnTo>
                    <a:pt x="0" y="7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1" name=""/>
            <p:cNvSpPr/>
            <p:nvPr/>
          </p:nvSpPr>
          <p:spPr>
            <a:xfrm flipH="1" flipV="1">
              <a:off x="4813200" y="2548080"/>
              <a:ext cx="44640" cy="108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2" name=""/>
            <p:cNvSpPr/>
            <p:nvPr/>
          </p:nvSpPr>
          <p:spPr>
            <a:xfrm>
              <a:off x="4759200" y="2581200"/>
              <a:ext cx="32040" cy="22320"/>
            </a:xfrm>
            <a:custGeom>
              <a:avLst/>
              <a:gdLst/>
              <a:ahLst/>
              <a:rect l="l" t="t" r="r" b="b"/>
              <a:pathLst>
                <a:path w="20" h="14">
                  <a:moveTo>
                    <a:pt x="20" y="0"/>
                  </a:moveTo>
                  <a:lnTo>
                    <a:pt x="7" y="7"/>
                  </a:lnTo>
                  <a:lnTo>
                    <a:pt x="0" y="14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3" name=""/>
            <p:cNvSpPr/>
            <p:nvPr/>
          </p:nvSpPr>
          <p:spPr>
            <a:xfrm>
              <a:off x="4683240" y="2624040"/>
              <a:ext cx="31680" cy="22320"/>
            </a:xfrm>
            <a:custGeom>
              <a:avLst/>
              <a:gdLst/>
              <a:ahLst/>
              <a:rect l="l" t="t" r="r" b="b"/>
              <a:pathLst>
                <a:path w="20" h="14">
                  <a:moveTo>
                    <a:pt x="20" y="0"/>
                  </a:moveTo>
                  <a:lnTo>
                    <a:pt x="7" y="7"/>
                  </a:lnTo>
                  <a:lnTo>
                    <a:pt x="0" y="14"/>
                  </a:lnTo>
                  <a:lnTo>
                    <a:pt x="0" y="14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4" name=""/>
            <p:cNvSpPr/>
            <p:nvPr/>
          </p:nvSpPr>
          <p:spPr>
            <a:xfrm>
              <a:off x="4638600" y="2689200"/>
              <a:ext cx="33480" cy="33480"/>
            </a:xfrm>
            <a:custGeom>
              <a:avLst/>
              <a:gdLst/>
              <a:ahLst/>
              <a:rect l="l" t="t" r="r" b="b"/>
              <a:pathLst>
                <a:path w="21" h="21">
                  <a:moveTo>
                    <a:pt x="21" y="0"/>
                  </a:moveTo>
                  <a:lnTo>
                    <a:pt x="14" y="7"/>
                  </a:lnTo>
                  <a:lnTo>
                    <a:pt x="7" y="14"/>
                  </a:lnTo>
                  <a:lnTo>
                    <a:pt x="0" y="21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5" name=""/>
            <p:cNvSpPr/>
            <p:nvPr/>
          </p:nvSpPr>
          <p:spPr>
            <a:xfrm>
              <a:off x="4573440" y="2754360"/>
              <a:ext cx="33480" cy="22320"/>
            </a:xfrm>
            <a:custGeom>
              <a:avLst/>
              <a:gdLst/>
              <a:ahLst/>
              <a:rect l="l" t="t" r="r" b="b"/>
              <a:pathLst>
                <a:path w="21" h="14">
                  <a:moveTo>
                    <a:pt x="21" y="0"/>
                  </a:moveTo>
                  <a:lnTo>
                    <a:pt x="14" y="0"/>
                  </a:lnTo>
                  <a:lnTo>
                    <a:pt x="0" y="14"/>
                  </a:lnTo>
                  <a:lnTo>
                    <a:pt x="0" y="14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6" name=""/>
            <p:cNvSpPr/>
            <p:nvPr/>
          </p:nvSpPr>
          <p:spPr>
            <a:xfrm flipH="1">
              <a:off x="4497120" y="2809800"/>
              <a:ext cx="44280" cy="208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7" name=""/>
            <p:cNvSpPr/>
            <p:nvPr/>
          </p:nvSpPr>
          <p:spPr>
            <a:xfrm>
              <a:off x="4432320" y="2841480"/>
              <a:ext cx="33480" cy="22320"/>
            </a:xfrm>
            <a:custGeom>
              <a:avLst/>
              <a:gdLst/>
              <a:ahLst/>
              <a:rect l="l" t="t" r="r" b="b"/>
              <a:pathLst>
                <a:path w="21" h="14">
                  <a:moveTo>
                    <a:pt x="21" y="14"/>
                  </a:moveTo>
                  <a:lnTo>
                    <a:pt x="21" y="14"/>
                  </a:lnTo>
                  <a:lnTo>
                    <a:pt x="7" y="14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88" name=""/>
          <p:cNvGrpSpPr/>
          <p:nvPr/>
        </p:nvGrpSpPr>
        <p:grpSpPr>
          <a:xfrm>
            <a:off x="2374920" y="2015640"/>
            <a:ext cx="5094360" cy="3934080"/>
            <a:chOff x="2374920" y="2015640"/>
            <a:chExt cx="5094360" cy="3934080"/>
          </a:xfrm>
        </p:grpSpPr>
        <p:sp>
          <p:nvSpPr>
            <p:cNvPr id="4189" name=""/>
            <p:cNvSpPr/>
            <p:nvPr/>
          </p:nvSpPr>
          <p:spPr>
            <a:xfrm flipH="1" flipV="1">
              <a:off x="4400640" y="2765520"/>
              <a:ext cx="9360" cy="331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0" name=""/>
            <p:cNvSpPr/>
            <p:nvPr/>
          </p:nvSpPr>
          <p:spPr>
            <a:xfrm flipH="1" flipV="1">
              <a:off x="4366800" y="2765160"/>
              <a:ext cx="42840" cy="219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1" name=""/>
            <p:cNvSpPr/>
            <p:nvPr/>
          </p:nvSpPr>
          <p:spPr>
            <a:xfrm flipH="1" flipV="1">
              <a:off x="4301640" y="2711520"/>
              <a:ext cx="32040" cy="223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2" name=""/>
            <p:cNvSpPr/>
            <p:nvPr/>
          </p:nvSpPr>
          <p:spPr>
            <a:xfrm>
              <a:off x="4226040" y="2711520"/>
              <a:ext cx="42840" cy="33120"/>
            </a:xfrm>
            <a:custGeom>
              <a:avLst/>
              <a:gdLst/>
              <a:ahLst/>
              <a:rect l="l" t="t" r="r" b="b"/>
              <a:pathLst>
                <a:path w="27" h="21">
                  <a:moveTo>
                    <a:pt x="27" y="0"/>
                  </a:moveTo>
                  <a:lnTo>
                    <a:pt x="14" y="7"/>
                  </a:lnTo>
                  <a:lnTo>
                    <a:pt x="0" y="21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3" name=""/>
            <p:cNvSpPr/>
            <p:nvPr/>
          </p:nvSpPr>
          <p:spPr>
            <a:xfrm>
              <a:off x="4160880" y="2765520"/>
              <a:ext cx="31680" cy="33120"/>
            </a:xfrm>
            <a:custGeom>
              <a:avLst/>
              <a:gdLst/>
              <a:ahLst/>
              <a:rect l="l" t="t" r="r" b="b"/>
              <a:pathLst>
                <a:path w="20" h="21">
                  <a:moveTo>
                    <a:pt x="20" y="0"/>
                  </a:moveTo>
                  <a:lnTo>
                    <a:pt x="14" y="7"/>
                  </a:lnTo>
                  <a:lnTo>
                    <a:pt x="0" y="21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4" name=""/>
            <p:cNvSpPr/>
            <p:nvPr/>
          </p:nvSpPr>
          <p:spPr>
            <a:xfrm>
              <a:off x="4095720" y="2819520"/>
              <a:ext cx="31680" cy="33120"/>
            </a:xfrm>
            <a:custGeom>
              <a:avLst/>
              <a:gdLst/>
              <a:ahLst/>
              <a:rect l="l" t="t" r="r" b="b"/>
              <a:pathLst>
                <a:path w="20" h="21">
                  <a:moveTo>
                    <a:pt x="20" y="0"/>
                  </a:moveTo>
                  <a:lnTo>
                    <a:pt x="7" y="14"/>
                  </a:lnTo>
                  <a:lnTo>
                    <a:pt x="0" y="21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5" name=""/>
            <p:cNvSpPr/>
            <p:nvPr/>
          </p:nvSpPr>
          <p:spPr>
            <a:xfrm>
              <a:off x="4051440" y="2874960"/>
              <a:ext cx="1440" cy="111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6" name=""/>
            <p:cNvSpPr/>
            <p:nvPr/>
          </p:nvSpPr>
          <p:spPr>
            <a:xfrm>
              <a:off x="3898800" y="2863800"/>
              <a:ext cx="33480" cy="412920"/>
            </a:xfrm>
            <a:custGeom>
              <a:avLst/>
              <a:gdLst/>
              <a:ahLst/>
              <a:rect l="l" t="t" r="r" b="b"/>
              <a:pathLst>
                <a:path w="21" h="260">
                  <a:moveTo>
                    <a:pt x="21" y="0"/>
                  </a:moveTo>
                  <a:lnTo>
                    <a:pt x="14" y="20"/>
                  </a:lnTo>
                  <a:lnTo>
                    <a:pt x="7" y="34"/>
                  </a:lnTo>
                  <a:lnTo>
                    <a:pt x="7" y="55"/>
                  </a:lnTo>
                  <a:lnTo>
                    <a:pt x="0" y="75"/>
                  </a:lnTo>
                  <a:lnTo>
                    <a:pt x="7" y="96"/>
                  </a:lnTo>
                  <a:lnTo>
                    <a:pt x="7" y="123"/>
                  </a:lnTo>
                  <a:lnTo>
                    <a:pt x="14" y="144"/>
                  </a:lnTo>
                  <a:lnTo>
                    <a:pt x="21" y="164"/>
                  </a:lnTo>
                  <a:lnTo>
                    <a:pt x="21" y="191"/>
                  </a:lnTo>
                  <a:lnTo>
                    <a:pt x="14" y="219"/>
                  </a:lnTo>
                  <a:lnTo>
                    <a:pt x="14" y="232"/>
                  </a:lnTo>
                  <a:lnTo>
                    <a:pt x="14" y="260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7" name=""/>
            <p:cNvSpPr/>
            <p:nvPr/>
          </p:nvSpPr>
          <p:spPr>
            <a:xfrm>
              <a:off x="3932280" y="2863800"/>
              <a:ext cx="1479600" cy="771480"/>
            </a:xfrm>
            <a:custGeom>
              <a:avLst/>
              <a:gdLst/>
              <a:ahLst/>
              <a:rect l="l" t="t" r="r" b="b"/>
              <a:pathLst>
                <a:path w="932" h="486">
                  <a:moveTo>
                    <a:pt x="932" y="486"/>
                  </a:moveTo>
                  <a:lnTo>
                    <a:pt x="857" y="458"/>
                  </a:lnTo>
                  <a:lnTo>
                    <a:pt x="747" y="424"/>
                  </a:lnTo>
                  <a:lnTo>
                    <a:pt x="631" y="376"/>
                  </a:lnTo>
                  <a:lnTo>
                    <a:pt x="583" y="328"/>
                  </a:lnTo>
                  <a:lnTo>
                    <a:pt x="528" y="301"/>
                  </a:lnTo>
                  <a:lnTo>
                    <a:pt x="445" y="246"/>
                  </a:lnTo>
                  <a:lnTo>
                    <a:pt x="370" y="191"/>
                  </a:lnTo>
                  <a:lnTo>
                    <a:pt x="329" y="157"/>
                  </a:lnTo>
                  <a:lnTo>
                    <a:pt x="308" y="137"/>
                  </a:lnTo>
                  <a:lnTo>
                    <a:pt x="253" y="75"/>
                  </a:lnTo>
                  <a:lnTo>
                    <a:pt x="226" y="61"/>
                  </a:lnTo>
                  <a:lnTo>
                    <a:pt x="103" y="27"/>
                  </a:lnTo>
                  <a:lnTo>
                    <a:pt x="62" y="7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8" name=""/>
            <p:cNvSpPr/>
            <p:nvPr/>
          </p:nvSpPr>
          <p:spPr>
            <a:xfrm>
              <a:off x="5640480" y="3222720"/>
              <a:ext cx="4428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9" name=""/>
            <p:cNvSpPr/>
            <p:nvPr/>
          </p:nvSpPr>
          <p:spPr>
            <a:xfrm>
              <a:off x="5738760" y="3222720"/>
              <a:ext cx="31680" cy="1440"/>
            </a:xfrm>
            <a:custGeom>
              <a:avLst/>
              <a:gdLst/>
              <a:ahLst/>
              <a:rect l="l" t="t" r="r" b="b"/>
              <a:pathLst>
                <a:path w="20" h="0">
                  <a:moveTo>
                    <a:pt x="0" y="0"/>
                  </a:moveTo>
                  <a:lnTo>
                    <a:pt x="20" y="0"/>
                  </a:lnTo>
                  <a:lnTo>
                    <a:pt x="2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0" name=""/>
            <p:cNvSpPr/>
            <p:nvPr/>
          </p:nvSpPr>
          <p:spPr>
            <a:xfrm>
              <a:off x="5792760" y="3166920"/>
              <a:ext cx="33480" cy="11160"/>
            </a:xfrm>
            <a:custGeom>
              <a:avLst/>
              <a:gdLst/>
              <a:ahLst/>
              <a:rect l="l" t="t" r="r" b="b"/>
              <a:pathLst>
                <a:path w="21" h="7">
                  <a:moveTo>
                    <a:pt x="0" y="7"/>
                  </a:moveTo>
                  <a:lnTo>
                    <a:pt x="14" y="0"/>
                  </a:lnTo>
                  <a:lnTo>
                    <a:pt x="21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1" name=""/>
            <p:cNvSpPr/>
            <p:nvPr/>
          </p:nvSpPr>
          <p:spPr>
            <a:xfrm>
              <a:off x="5575320" y="2951280"/>
              <a:ext cx="4284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2" name=""/>
            <p:cNvSpPr/>
            <p:nvPr/>
          </p:nvSpPr>
          <p:spPr>
            <a:xfrm>
              <a:off x="2843280" y="3570120"/>
              <a:ext cx="261720" cy="54000"/>
            </a:xfrm>
            <a:custGeom>
              <a:avLst/>
              <a:gdLst/>
              <a:ahLst/>
              <a:rect l="l" t="t" r="r" b="b"/>
              <a:pathLst>
                <a:path w="165" h="34">
                  <a:moveTo>
                    <a:pt x="165" y="13"/>
                  </a:moveTo>
                  <a:lnTo>
                    <a:pt x="158" y="13"/>
                  </a:lnTo>
                  <a:lnTo>
                    <a:pt x="144" y="13"/>
                  </a:lnTo>
                  <a:lnTo>
                    <a:pt x="130" y="6"/>
                  </a:lnTo>
                  <a:lnTo>
                    <a:pt x="117" y="0"/>
                  </a:lnTo>
                  <a:lnTo>
                    <a:pt x="110" y="0"/>
                  </a:lnTo>
                  <a:lnTo>
                    <a:pt x="103" y="0"/>
                  </a:lnTo>
                  <a:lnTo>
                    <a:pt x="96" y="6"/>
                  </a:lnTo>
                  <a:lnTo>
                    <a:pt x="89" y="20"/>
                  </a:lnTo>
                  <a:lnTo>
                    <a:pt x="82" y="27"/>
                  </a:lnTo>
                  <a:lnTo>
                    <a:pt x="76" y="27"/>
                  </a:lnTo>
                  <a:lnTo>
                    <a:pt x="55" y="34"/>
                  </a:lnTo>
                  <a:lnTo>
                    <a:pt x="0" y="34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3" name=""/>
            <p:cNvSpPr/>
            <p:nvPr/>
          </p:nvSpPr>
          <p:spPr>
            <a:xfrm>
              <a:off x="5064120" y="4189320"/>
              <a:ext cx="31680" cy="20880"/>
            </a:xfrm>
            <a:custGeom>
              <a:avLst/>
              <a:gdLst/>
              <a:ahLst/>
              <a:rect l="l" t="t" r="r" b="b"/>
              <a:pathLst>
                <a:path w="20" h="13">
                  <a:moveTo>
                    <a:pt x="0" y="13"/>
                  </a:moveTo>
                  <a:lnTo>
                    <a:pt x="20" y="6"/>
                  </a:lnTo>
                  <a:lnTo>
                    <a:pt x="2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4" name=""/>
            <p:cNvSpPr/>
            <p:nvPr/>
          </p:nvSpPr>
          <p:spPr>
            <a:xfrm flipV="1">
              <a:off x="5106960" y="4113360"/>
              <a:ext cx="22320" cy="316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5" name=""/>
            <p:cNvSpPr/>
            <p:nvPr/>
          </p:nvSpPr>
          <p:spPr>
            <a:xfrm>
              <a:off x="5095800" y="4199040"/>
              <a:ext cx="44640" cy="111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6" name=""/>
            <p:cNvSpPr/>
            <p:nvPr/>
          </p:nvSpPr>
          <p:spPr>
            <a:xfrm flipV="1">
              <a:off x="5172120" y="4177800"/>
              <a:ext cx="11160" cy="428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7" name=""/>
            <p:cNvSpPr/>
            <p:nvPr/>
          </p:nvSpPr>
          <p:spPr>
            <a:xfrm flipV="1">
              <a:off x="5194440" y="4090680"/>
              <a:ext cx="21960" cy="428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8" name=""/>
            <p:cNvSpPr/>
            <p:nvPr/>
          </p:nvSpPr>
          <p:spPr>
            <a:xfrm flipV="1">
              <a:off x="5227560" y="4003560"/>
              <a:ext cx="11160" cy="446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9" name=""/>
            <p:cNvSpPr/>
            <p:nvPr/>
          </p:nvSpPr>
          <p:spPr>
            <a:xfrm flipV="1">
              <a:off x="4705200" y="3949200"/>
              <a:ext cx="9720" cy="428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0" name=""/>
            <p:cNvSpPr/>
            <p:nvPr/>
          </p:nvSpPr>
          <p:spPr>
            <a:xfrm flipV="1">
              <a:off x="4726080" y="3873240"/>
              <a:ext cx="21960" cy="442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1" name=""/>
            <p:cNvSpPr/>
            <p:nvPr/>
          </p:nvSpPr>
          <p:spPr>
            <a:xfrm flipV="1">
              <a:off x="4759200" y="3786120"/>
              <a:ext cx="11160" cy="446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2" name=""/>
            <p:cNvSpPr/>
            <p:nvPr/>
          </p:nvSpPr>
          <p:spPr>
            <a:xfrm flipV="1">
              <a:off x="4781520" y="3700080"/>
              <a:ext cx="9720" cy="428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3" name=""/>
            <p:cNvSpPr/>
            <p:nvPr/>
          </p:nvSpPr>
          <p:spPr>
            <a:xfrm flipV="1">
              <a:off x="4813200" y="3635280"/>
              <a:ext cx="1800" cy="208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4" name=""/>
            <p:cNvSpPr/>
            <p:nvPr/>
          </p:nvSpPr>
          <p:spPr>
            <a:xfrm>
              <a:off x="4649760" y="4537080"/>
              <a:ext cx="44640" cy="93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5" name=""/>
            <p:cNvSpPr/>
            <p:nvPr/>
          </p:nvSpPr>
          <p:spPr>
            <a:xfrm flipH="1">
              <a:off x="4705200" y="4568760"/>
              <a:ext cx="20880" cy="428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6" name=""/>
            <p:cNvSpPr/>
            <p:nvPr/>
          </p:nvSpPr>
          <p:spPr>
            <a:xfrm flipH="1">
              <a:off x="4682880" y="4656240"/>
              <a:ext cx="11160" cy="316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7" name=""/>
            <p:cNvSpPr/>
            <p:nvPr/>
          </p:nvSpPr>
          <p:spPr>
            <a:xfrm>
              <a:off x="4705200" y="4721400"/>
              <a:ext cx="42840" cy="21960"/>
            </a:xfrm>
            <a:custGeom>
              <a:avLst/>
              <a:gdLst/>
              <a:ahLst/>
              <a:rect l="l" t="t" r="r" b="b"/>
              <a:pathLst>
                <a:path w="27" h="14">
                  <a:moveTo>
                    <a:pt x="0" y="0"/>
                  </a:moveTo>
                  <a:lnTo>
                    <a:pt x="6" y="0"/>
                  </a:lnTo>
                  <a:lnTo>
                    <a:pt x="27" y="14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8" name=""/>
            <p:cNvSpPr/>
            <p:nvPr/>
          </p:nvSpPr>
          <p:spPr>
            <a:xfrm>
              <a:off x="4781520" y="4764240"/>
              <a:ext cx="20520" cy="21960"/>
            </a:xfrm>
            <a:custGeom>
              <a:avLst/>
              <a:gdLst/>
              <a:ahLst/>
              <a:rect l="l" t="t" r="r" b="b"/>
              <a:pathLst>
                <a:path w="13" h="14">
                  <a:moveTo>
                    <a:pt x="0" y="0"/>
                  </a:moveTo>
                  <a:lnTo>
                    <a:pt x="13" y="7"/>
                  </a:lnTo>
                  <a:lnTo>
                    <a:pt x="0" y="14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9" name=""/>
            <p:cNvSpPr/>
            <p:nvPr/>
          </p:nvSpPr>
          <p:spPr>
            <a:xfrm flipV="1">
              <a:off x="4835520" y="4916160"/>
              <a:ext cx="42840" cy="111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0" name=""/>
            <p:cNvSpPr/>
            <p:nvPr/>
          </p:nvSpPr>
          <p:spPr>
            <a:xfrm flipH="1">
              <a:off x="5162040" y="4232160"/>
              <a:ext cx="9720" cy="334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1" name=""/>
            <p:cNvSpPr/>
            <p:nvPr/>
          </p:nvSpPr>
          <p:spPr>
            <a:xfrm flipH="1">
              <a:off x="5128920" y="4308480"/>
              <a:ext cx="11160" cy="428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2" name=""/>
            <p:cNvSpPr/>
            <p:nvPr/>
          </p:nvSpPr>
          <p:spPr>
            <a:xfrm flipH="1">
              <a:off x="5106600" y="4395960"/>
              <a:ext cx="11160" cy="428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3" name=""/>
            <p:cNvSpPr/>
            <p:nvPr/>
          </p:nvSpPr>
          <p:spPr>
            <a:xfrm>
              <a:off x="5086440" y="4481640"/>
              <a:ext cx="9360" cy="44280"/>
            </a:xfrm>
            <a:custGeom>
              <a:avLst/>
              <a:gdLst/>
              <a:ahLst/>
              <a:rect l="l" t="t" r="r" b="b"/>
              <a:pathLst>
                <a:path w="6" h="28">
                  <a:moveTo>
                    <a:pt x="6" y="0"/>
                  </a:moveTo>
                  <a:lnTo>
                    <a:pt x="0" y="21"/>
                  </a:lnTo>
                  <a:lnTo>
                    <a:pt x="6" y="28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4" name=""/>
            <p:cNvSpPr/>
            <p:nvPr/>
          </p:nvSpPr>
          <p:spPr>
            <a:xfrm>
              <a:off x="5106960" y="4568760"/>
              <a:ext cx="22320" cy="428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5" name=""/>
            <p:cNvSpPr/>
            <p:nvPr/>
          </p:nvSpPr>
          <p:spPr>
            <a:xfrm>
              <a:off x="4867200" y="4286160"/>
              <a:ext cx="22320" cy="44640"/>
            </a:xfrm>
            <a:custGeom>
              <a:avLst/>
              <a:gdLst/>
              <a:ahLst/>
              <a:rect l="l" t="t" r="r" b="b"/>
              <a:pathLst>
                <a:path w="14" h="28">
                  <a:moveTo>
                    <a:pt x="0" y="0"/>
                  </a:moveTo>
                  <a:lnTo>
                    <a:pt x="7" y="21"/>
                  </a:lnTo>
                  <a:lnTo>
                    <a:pt x="14" y="28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6" name=""/>
            <p:cNvSpPr/>
            <p:nvPr/>
          </p:nvSpPr>
          <p:spPr>
            <a:xfrm>
              <a:off x="4911840" y="4351320"/>
              <a:ext cx="1440" cy="446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7" name=""/>
            <p:cNvSpPr/>
            <p:nvPr/>
          </p:nvSpPr>
          <p:spPr>
            <a:xfrm>
              <a:off x="4933800" y="4427640"/>
              <a:ext cx="32040" cy="111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8" name=""/>
            <p:cNvSpPr/>
            <p:nvPr/>
          </p:nvSpPr>
          <p:spPr>
            <a:xfrm>
              <a:off x="5010120" y="4427640"/>
              <a:ext cx="20520" cy="33120"/>
            </a:xfrm>
            <a:custGeom>
              <a:avLst/>
              <a:gdLst/>
              <a:ahLst/>
              <a:rect l="l" t="t" r="r" b="b"/>
              <a:pathLst>
                <a:path w="13" h="21">
                  <a:moveTo>
                    <a:pt x="0" y="21"/>
                  </a:moveTo>
                  <a:lnTo>
                    <a:pt x="0" y="21"/>
                  </a:lnTo>
                  <a:lnTo>
                    <a:pt x="13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9" name=""/>
            <p:cNvSpPr/>
            <p:nvPr/>
          </p:nvSpPr>
          <p:spPr>
            <a:xfrm flipV="1">
              <a:off x="5041800" y="4340160"/>
              <a:ext cx="11160" cy="446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0" name=""/>
            <p:cNvSpPr/>
            <p:nvPr/>
          </p:nvSpPr>
          <p:spPr>
            <a:xfrm flipV="1">
              <a:off x="5064120" y="4254120"/>
              <a:ext cx="11160" cy="428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1" name=""/>
            <p:cNvSpPr/>
            <p:nvPr/>
          </p:nvSpPr>
          <p:spPr>
            <a:xfrm>
              <a:off x="5095800" y="4210200"/>
              <a:ext cx="180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2" name=""/>
            <p:cNvSpPr/>
            <p:nvPr/>
          </p:nvSpPr>
          <p:spPr>
            <a:xfrm flipH="1">
              <a:off x="4801680" y="3232080"/>
              <a:ext cx="11160" cy="446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3" name=""/>
            <p:cNvSpPr/>
            <p:nvPr/>
          </p:nvSpPr>
          <p:spPr>
            <a:xfrm flipH="1">
              <a:off x="4791240" y="3319560"/>
              <a:ext cx="10800" cy="331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4" name=""/>
            <p:cNvSpPr/>
            <p:nvPr/>
          </p:nvSpPr>
          <p:spPr>
            <a:xfrm flipV="1">
              <a:off x="4976640" y="3438360"/>
              <a:ext cx="22320" cy="446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5" name=""/>
            <p:cNvSpPr/>
            <p:nvPr/>
          </p:nvSpPr>
          <p:spPr>
            <a:xfrm flipV="1">
              <a:off x="5010120" y="3352320"/>
              <a:ext cx="1440" cy="428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6" name=""/>
            <p:cNvSpPr/>
            <p:nvPr/>
          </p:nvSpPr>
          <p:spPr>
            <a:xfrm flipV="1">
              <a:off x="5019840" y="3265200"/>
              <a:ext cx="1440" cy="428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7" name=""/>
            <p:cNvSpPr/>
            <p:nvPr/>
          </p:nvSpPr>
          <p:spPr>
            <a:xfrm flipV="1">
              <a:off x="5019840" y="3211200"/>
              <a:ext cx="1440" cy="111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8" name=""/>
            <p:cNvSpPr/>
            <p:nvPr/>
          </p:nvSpPr>
          <p:spPr>
            <a:xfrm flipV="1">
              <a:off x="4867200" y="3352320"/>
              <a:ext cx="1800" cy="428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9" name=""/>
            <p:cNvSpPr/>
            <p:nvPr/>
          </p:nvSpPr>
          <p:spPr>
            <a:xfrm>
              <a:off x="4878360" y="3319560"/>
              <a:ext cx="44640" cy="111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0" name=""/>
            <p:cNvSpPr/>
            <p:nvPr/>
          </p:nvSpPr>
          <p:spPr>
            <a:xfrm>
              <a:off x="4965840" y="3308400"/>
              <a:ext cx="21960" cy="2232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0" y="14"/>
                  </a:moveTo>
                  <a:lnTo>
                    <a:pt x="14" y="14"/>
                  </a:lnTo>
                  <a:lnTo>
                    <a:pt x="14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1" name=""/>
            <p:cNvSpPr/>
            <p:nvPr/>
          </p:nvSpPr>
          <p:spPr>
            <a:xfrm flipV="1">
              <a:off x="4987800" y="3254040"/>
              <a:ext cx="1800" cy="111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2" name=""/>
            <p:cNvSpPr/>
            <p:nvPr/>
          </p:nvSpPr>
          <p:spPr>
            <a:xfrm>
              <a:off x="4432320" y="2852640"/>
              <a:ext cx="44280" cy="22320"/>
            </a:xfrm>
            <a:custGeom>
              <a:avLst/>
              <a:gdLst/>
              <a:ahLst/>
              <a:rect l="l" t="t" r="r" b="b"/>
              <a:pathLst>
                <a:path w="28" h="14">
                  <a:moveTo>
                    <a:pt x="0" y="0"/>
                  </a:moveTo>
                  <a:lnTo>
                    <a:pt x="7" y="14"/>
                  </a:lnTo>
                  <a:lnTo>
                    <a:pt x="14" y="14"/>
                  </a:lnTo>
                  <a:lnTo>
                    <a:pt x="21" y="14"/>
                  </a:lnTo>
                  <a:lnTo>
                    <a:pt x="28" y="7"/>
                  </a:lnTo>
                  <a:lnTo>
                    <a:pt x="21" y="0"/>
                  </a:lnTo>
                  <a:lnTo>
                    <a:pt x="1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3" name=""/>
            <p:cNvSpPr/>
            <p:nvPr/>
          </p:nvSpPr>
          <p:spPr>
            <a:xfrm>
              <a:off x="5989680" y="2255760"/>
              <a:ext cx="31680" cy="20880"/>
            </a:xfrm>
            <a:custGeom>
              <a:avLst/>
              <a:gdLst/>
              <a:ahLst/>
              <a:rect l="l" t="t" r="r" b="b"/>
              <a:pathLst>
                <a:path w="20" h="13">
                  <a:moveTo>
                    <a:pt x="0" y="0"/>
                  </a:moveTo>
                  <a:lnTo>
                    <a:pt x="0" y="13"/>
                  </a:lnTo>
                  <a:lnTo>
                    <a:pt x="6" y="13"/>
                  </a:lnTo>
                  <a:lnTo>
                    <a:pt x="20" y="13"/>
                  </a:lnTo>
                  <a:lnTo>
                    <a:pt x="20" y="6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4" name=""/>
            <p:cNvSpPr/>
            <p:nvPr/>
          </p:nvSpPr>
          <p:spPr>
            <a:xfrm>
              <a:off x="6924600" y="2754360"/>
              <a:ext cx="44640" cy="44280"/>
            </a:xfrm>
            <a:custGeom>
              <a:avLst/>
              <a:gdLst/>
              <a:ahLst/>
              <a:rect l="l" t="t" r="r" b="b"/>
              <a:pathLst>
                <a:path w="28" h="28">
                  <a:moveTo>
                    <a:pt x="0" y="7"/>
                  </a:moveTo>
                  <a:lnTo>
                    <a:pt x="0" y="21"/>
                  </a:lnTo>
                  <a:lnTo>
                    <a:pt x="14" y="28"/>
                  </a:lnTo>
                  <a:lnTo>
                    <a:pt x="28" y="21"/>
                  </a:lnTo>
                  <a:lnTo>
                    <a:pt x="28" y="7"/>
                  </a:lnTo>
                  <a:lnTo>
                    <a:pt x="28" y="0"/>
                  </a:lnTo>
                  <a:lnTo>
                    <a:pt x="14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5" name=""/>
            <p:cNvSpPr/>
            <p:nvPr/>
          </p:nvSpPr>
          <p:spPr>
            <a:xfrm>
              <a:off x="6969600" y="2657520"/>
              <a:ext cx="15624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MAISA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6" name=""/>
            <p:cNvSpPr/>
            <p:nvPr/>
          </p:nvSpPr>
          <p:spPr>
            <a:xfrm>
              <a:off x="6330600" y="3092400"/>
              <a:ext cx="24012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Furna Feia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7" name=""/>
            <p:cNvSpPr/>
            <p:nvPr/>
          </p:nvSpPr>
          <p:spPr>
            <a:xfrm>
              <a:off x="6261120" y="3048120"/>
              <a:ext cx="87120" cy="75960"/>
            </a:xfrm>
            <a:custGeom>
              <a:avLst/>
              <a:gdLst/>
              <a:ahLst/>
              <a:rect l="l" t="t" r="r" b="b"/>
              <a:pathLst>
                <a:path w="55" h="48">
                  <a:moveTo>
                    <a:pt x="7" y="28"/>
                  </a:moveTo>
                  <a:lnTo>
                    <a:pt x="0" y="21"/>
                  </a:lnTo>
                  <a:lnTo>
                    <a:pt x="14" y="21"/>
                  </a:lnTo>
                  <a:lnTo>
                    <a:pt x="14" y="14"/>
                  </a:lnTo>
                  <a:lnTo>
                    <a:pt x="21" y="14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27" y="21"/>
                  </a:lnTo>
                  <a:lnTo>
                    <a:pt x="55" y="28"/>
                  </a:lnTo>
                  <a:lnTo>
                    <a:pt x="27" y="34"/>
                  </a:lnTo>
                  <a:lnTo>
                    <a:pt x="27" y="41"/>
                  </a:lnTo>
                  <a:lnTo>
                    <a:pt x="27" y="41"/>
                  </a:lnTo>
                  <a:lnTo>
                    <a:pt x="21" y="34"/>
                  </a:lnTo>
                  <a:lnTo>
                    <a:pt x="14" y="48"/>
                  </a:lnTo>
                  <a:lnTo>
                    <a:pt x="14" y="34"/>
                  </a:lnTo>
                  <a:lnTo>
                    <a:pt x="7" y="34"/>
                  </a:lnTo>
                  <a:lnTo>
                    <a:pt x="7" y="28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8" name=""/>
            <p:cNvSpPr/>
            <p:nvPr/>
          </p:nvSpPr>
          <p:spPr>
            <a:xfrm>
              <a:off x="5792760" y="2787480"/>
              <a:ext cx="54000" cy="32040"/>
            </a:xfrm>
            <a:custGeom>
              <a:avLst/>
              <a:gdLst/>
              <a:ahLst/>
              <a:rect l="l" t="t" r="r" b="b"/>
              <a:pathLst>
                <a:path w="34" h="20">
                  <a:moveTo>
                    <a:pt x="0" y="7"/>
                  </a:moveTo>
                  <a:lnTo>
                    <a:pt x="0" y="14"/>
                  </a:lnTo>
                  <a:lnTo>
                    <a:pt x="14" y="20"/>
                  </a:lnTo>
                  <a:lnTo>
                    <a:pt x="28" y="20"/>
                  </a:lnTo>
                  <a:lnTo>
                    <a:pt x="34" y="7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9" name=""/>
            <p:cNvSpPr/>
            <p:nvPr/>
          </p:nvSpPr>
          <p:spPr>
            <a:xfrm>
              <a:off x="5599080" y="2690640"/>
              <a:ext cx="21420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Vila Nova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0" name=""/>
            <p:cNvSpPr/>
            <p:nvPr/>
          </p:nvSpPr>
          <p:spPr>
            <a:xfrm>
              <a:off x="5618160" y="3157560"/>
              <a:ext cx="55440" cy="31680"/>
            </a:xfrm>
            <a:custGeom>
              <a:avLst/>
              <a:gdLst/>
              <a:ahLst/>
              <a:rect l="l" t="t" r="r" b="b"/>
              <a:pathLst>
                <a:path w="35" h="20">
                  <a:moveTo>
                    <a:pt x="0" y="6"/>
                  </a:moveTo>
                  <a:lnTo>
                    <a:pt x="7" y="13"/>
                  </a:lnTo>
                  <a:lnTo>
                    <a:pt x="21" y="20"/>
                  </a:lnTo>
                  <a:lnTo>
                    <a:pt x="35" y="20"/>
                  </a:lnTo>
                  <a:lnTo>
                    <a:pt x="35" y="6"/>
                  </a:lnTo>
                  <a:lnTo>
                    <a:pt x="35" y="0"/>
                  </a:lnTo>
                  <a:lnTo>
                    <a:pt x="21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1" name=""/>
            <p:cNvSpPr/>
            <p:nvPr/>
          </p:nvSpPr>
          <p:spPr>
            <a:xfrm>
              <a:off x="5492880" y="3070080"/>
              <a:ext cx="36648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Toca da Raposa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2" name=""/>
            <p:cNvSpPr/>
            <p:nvPr/>
          </p:nvSpPr>
          <p:spPr>
            <a:xfrm>
              <a:off x="6402240" y="3917880"/>
              <a:ext cx="54000" cy="31680"/>
            </a:xfrm>
            <a:custGeom>
              <a:avLst/>
              <a:gdLst/>
              <a:ahLst/>
              <a:rect l="l" t="t" r="r" b="b"/>
              <a:pathLst>
                <a:path w="34" h="20">
                  <a:moveTo>
                    <a:pt x="0" y="6"/>
                  </a:moveTo>
                  <a:lnTo>
                    <a:pt x="7" y="20"/>
                  </a:lnTo>
                  <a:lnTo>
                    <a:pt x="21" y="20"/>
                  </a:lnTo>
                  <a:lnTo>
                    <a:pt x="34" y="20"/>
                  </a:lnTo>
                  <a:lnTo>
                    <a:pt x="34" y="6"/>
                  </a:lnTo>
                  <a:lnTo>
                    <a:pt x="34" y="6"/>
                  </a:lnTo>
                  <a:lnTo>
                    <a:pt x="21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3" name=""/>
            <p:cNvSpPr/>
            <p:nvPr/>
          </p:nvSpPr>
          <p:spPr>
            <a:xfrm>
              <a:off x="6492240" y="3895560"/>
              <a:ext cx="17748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400" spc="-1" strike="noStrike">
                  <a:solidFill>
                    <a:srgbClr val="000000"/>
                  </a:solidFill>
                  <a:latin typeface="Arial"/>
                </a:rPr>
                <a:t>Juremal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4" name=""/>
            <p:cNvSpPr/>
            <p:nvPr/>
          </p:nvSpPr>
          <p:spPr>
            <a:xfrm>
              <a:off x="6742800" y="4048200"/>
              <a:ext cx="21420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Vertentes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5" name=""/>
            <p:cNvSpPr/>
            <p:nvPr/>
          </p:nvSpPr>
          <p:spPr>
            <a:xfrm>
              <a:off x="6664320" y="4102200"/>
              <a:ext cx="65160" cy="42840"/>
            </a:xfrm>
            <a:custGeom>
              <a:avLst/>
              <a:gdLst/>
              <a:ahLst/>
              <a:rect l="l" t="t" r="r" b="b"/>
              <a:pathLst>
                <a:path w="41" h="27">
                  <a:moveTo>
                    <a:pt x="0" y="7"/>
                  </a:moveTo>
                  <a:lnTo>
                    <a:pt x="7" y="27"/>
                  </a:lnTo>
                  <a:lnTo>
                    <a:pt x="20" y="27"/>
                  </a:lnTo>
                  <a:lnTo>
                    <a:pt x="34" y="27"/>
                  </a:lnTo>
                  <a:lnTo>
                    <a:pt x="41" y="14"/>
                  </a:lnTo>
                  <a:lnTo>
                    <a:pt x="34" y="7"/>
                  </a:lnTo>
                  <a:lnTo>
                    <a:pt x="27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6" name=""/>
            <p:cNvSpPr/>
            <p:nvPr/>
          </p:nvSpPr>
          <p:spPr>
            <a:xfrm>
              <a:off x="6696000" y="5210280"/>
              <a:ext cx="76320" cy="54000"/>
            </a:xfrm>
            <a:custGeom>
              <a:avLst/>
              <a:gdLst/>
              <a:ahLst/>
              <a:rect l="l" t="t" r="r" b="b"/>
              <a:pathLst>
                <a:path w="48" h="34">
                  <a:moveTo>
                    <a:pt x="0" y="7"/>
                  </a:moveTo>
                  <a:lnTo>
                    <a:pt x="7" y="27"/>
                  </a:lnTo>
                  <a:lnTo>
                    <a:pt x="28" y="34"/>
                  </a:lnTo>
                  <a:lnTo>
                    <a:pt x="48" y="27"/>
                  </a:lnTo>
                  <a:lnTo>
                    <a:pt x="48" y="14"/>
                  </a:lnTo>
                  <a:lnTo>
                    <a:pt x="41" y="7"/>
                  </a:lnTo>
                  <a:lnTo>
                    <a:pt x="28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7" name=""/>
            <p:cNvSpPr/>
            <p:nvPr/>
          </p:nvSpPr>
          <p:spPr>
            <a:xfrm>
              <a:off x="6746760" y="5133960"/>
              <a:ext cx="40320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Barreira Vermelha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8" name=""/>
            <p:cNvSpPr/>
            <p:nvPr/>
          </p:nvSpPr>
          <p:spPr>
            <a:xfrm>
              <a:off x="3325320" y="5568840"/>
              <a:ext cx="29808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Baixa Branca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9" name=""/>
            <p:cNvSpPr/>
            <p:nvPr/>
          </p:nvSpPr>
          <p:spPr>
            <a:xfrm>
              <a:off x="3409920" y="5524560"/>
              <a:ext cx="54000" cy="33120"/>
            </a:xfrm>
            <a:custGeom>
              <a:avLst/>
              <a:gdLst/>
              <a:ahLst/>
              <a:rect l="l" t="t" r="r" b="b"/>
              <a:pathLst>
                <a:path w="34" h="21">
                  <a:moveTo>
                    <a:pt x="0" y="7"/>
                  </a:moveTo>
                  <a:lnTo>
                    <a:pt x="7" y="21"/>
                  </a:lnTo>
                  <a:lnTo>
                    <a:pt x="20" y="21"/>
                  </a:lnTo>
                  <a:lnTo>
                    <a:pt x="34" y="21"/>
                  </a:lnTo>
                  <a:lnTo>
                    <a:pt x="34" y="7"/>
                  </a:lnTo>
                  <a:lnTo>
                    <a:pt x="34" y="7"/>
                  </a:lnTo>
                  <a:lnTo>
                    <a:pt x="20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0" name=""/>
            <p:cNvSpPr/>
            <p:nvPr/>
          </p:nvSpPr>
          <p:spPr>
            <a:xfrm>
              <a:off x="3201840" y="4602240"/>
              <a:ext cx="55800" cy="31680"/>
            </a:xfrm>
            <a:custGeom>
              <a:avLst/>
              <a:gdLst/>
              <a:ahLst/>
              <a:rect l="l" t="t" r="r" b="b"/>
              <a:pathLst>
                <a:path w="35" h="20">
                  <a:moveTo>
                    <a:pt x="0" y="0"/>
                  </a:moveTo>
                  <a:lnTo>
                    <a:pt x="7" y="13"/>
                  </a:lnTo>
                  <a:lnTo>
                    <a:pt x="21" y="20"/>
                  </a:lnTo>
                  <a:lnTo>
                    <a:pt x="35" y="13"/>
                  </a:lnTo>
                  <a:lnTo>
                    <a:pt x="35" y="6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1" name=""/>
            <p:cNvSpPr/>
            <p:nvPr/>
          </p:nvSpPr>
          <p:spPr>
            <a:xfrm>
              <a:off x="3170160" y="4189320"/>
              <a:ext cx="54000" cy="31680"/>
            </a:xfrm>
            <a:custGeom>
              <a:avLst/>
              <a:gdLst/>
              <a:ahLst/>
              <a:rect l="l" t="t" r="r" b="b"/>
              <a:pathLst>
                <a:path w="34" h="20">
                  <a:moveTo>
                    <a:pt x="0" y="6"/>
                  </a:moveTo>
                  <a:lnTo>
                    <a:pt x="7" y="20"/>
                  </a:lnTo>
                  <a:lnTo>
                    <a:pt x="20" y="20"/>
                  </a:lnTo>
                  <a:lnTo>
                    <a:pt x="34" y="20"/>
                  </a:lnTo>
                  <a:lnTo>
                    <a:pt x="34" y="13"/>
                  </a:lnTo>
                  <a:lnTo>
                    <a:pt x="27" y="6"/>
                  </a:lnTo>
                  <a:lnTo>
                    <a:pt x="20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2" name=""/>
            <p:cNvSpPr/>
            <p:nvPr/>
          </p:nvSpPr>
          <p:spPr>
            <a:xfrm>
              <a:off x="3247920" y="4135320"/>
              <a:ext cx="13032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400" spc="-1" strike="noStrike">
                  <a:solidFill>
                    <a:srgbClr val="000000"/>
                  </a:solidFill>
                  <a:latin typeface="Arial"/>
                </a:rPr>
                <a:t>Ubaia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3" name=""/>
            <p:cNvSpPr/>
            <p:nvPr/>
          </p:nvSpPr>
          <p:spPr>
            <a:xfrm>
              <a:off x="3259080" y="4537080"/>
              <a:ext cx="15912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Maxixe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4" name=""/>
            <p:cNvSpPr/>
            <p:nvPr/>
          </p:nvSpPr>
          <p:spPr>
            <a:xfrm>
              <a:off x="3226320" y="3112920"/>
              <a:ext cx="30996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Bom Sucesso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5" name=""/>
            <p:cNvSpPr/>
            <p:nvPr/>
          </p:nvSpPr>
          <p:spPr>
            <a:xfrm>
              <a:off x="3289320" y="3189240"/>
              <a:ext cx="55440" cy="33480"/>
            </a:xfrm>
            <a:custGeom>
              <a:avLst/>
              <a:gdLst/>
              <a:ahLst/>
              <a:rect l="l" t="t" r="r" b="b"/>
              <a:pathLst>
                <a:path w="35" h="21">
                  <a:moveTo>
                    <a:pt x="0" y="7"/>
                  </a:moveTo>
                  <a:lnTo>
                    <a:pt x="0" y="21"/>
                  </a:lnTo>
                  <a:lnTo>
                    <a:pt x="14" y="21"/>
                  </a:lnTo>
                  <a:lnTo>
                    <a:pt x="28" y="21"/>
                  </a:lnTo>
                  <a:lnTo>
                    <a:pt x="35" y="14"/>
                  </a:lnTo>
                  <a:lnTo>
                    <a:pt x="28" y="7"/>
                  </a:lnTo>
                  <a:lnTo>
                    <a:pt x="21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6" name=""/>
            <p:cNvSpPr/>
            <p:nvPr/>
          </p:nvSpPr>
          <p:spPr>
            <a:xfrm>
              <a:off x="4878360" y="4210200"/>
              <a:ext cx="55440" cy="33120"/>
            </a:xfrm>
            <a:custGeom>
              <a:avLst/>
              <a:gdLst/>
              <a:ahLst/>
              <a:rect l="l" t="t" r="r" b="b"/>
              <a:pathLst>
                <a:path w="35" h="21">
                  <a:moveTo>
                    <a:pt x="0" y="0"/>
                  </a:moveTo>
                  <a:lnTo>
                    <a:pt x="7" y="14"/>
                  </a:lnTo>
                  <a:lnTo>
                    <a:pt x="14" y="21"/>
                  </a:lnTo>
                  <a:lnTo>
                    <a:pt x="28" y="14"/>
                  </a:lnTo>
                  <a:lnTo>
                    <a:pt x="35" y="7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7" name=""/>
            <p:cNvSpPr/>
            <p:nvPr/>
          </p:nvSpPr>
          <p:spPr>
            <a:xfrm>
              <a:off x="4795200" y="4135320"/>
              <a:ext cx="25380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Catingueira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8" name=""/>
            <p:cNvSpPr/>
            <p:nvPr/>
          </p:nvSpPr>
          <p:spPr>
            <a:xfrm>
              <a:off x="5521320" y="4514760"/>
              <a:ext cx="54000" cy="31680"/>
            </a:xfrm>
            <a:custGeom>
              <a:avLst/>
              <a:gdLst/>
              <a:ahLst/>
              <a:rect l="l" t="t" r="r" b="b"/>
              <a:pathLst>
                <a:path w="34" h="20">
                  <a:moveTo>
                    <a:pt x="0" y="7"/>
                  </a:moveTo>
                  <a:lnTo>
                    <a:pt x="0" y="14"/>
                  </a:lnTo>
                  <a:lnTo>
                    <a:pt x="13" y="20"/>
                  </a:lnTo>
                  <a:lnTo>
                    <a:pt x="27" y="20"/>
                  </a:lnTo>
                  <a:lnTo>
                    <a:pt x="34" y="7"/>
                  </a:lnTo>
                  <a:lnTo>
                    <a:pt x="27" y="0"/>
                  </a:lnTo>
                  <a:lnTo>
                    <a:pt x="20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9" name=""/>
            <p:cNvSpPr/>
            <p:nvPr/>
          </p:nvSpPr>
          <p:spPr>
            <a:xfrm>
              <a:off x="5589000" y="4438800"/>
              <a:ext cx="21852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Boa Água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0" name=""/>
            <p:cNvSpPr/>
            <p:nvPr/>
          </p:nvSpPr>
          <p:spPr>
            <a:xfrm>
              <a:off x="4824360" y="5221440"/>
              <a:ext cx="54000" cy="31680"/>
            </a:xfrm>
            <a:custGeom>
              <a:avLst/>
              <a:gdLst/>
              <a:ahLst/>
              <a:rect l="l" t="t" r="r" b="b"/>
              <a:pathLst>
                <a:path w="34" h="20">
                  <a:moveTo>
                    <a:pt x="0" y="0"/>
                  </a:moveTo>
                  <a:lnTo>
                    <a:pt x="7" y="13"/>
                  </a:lnTo>
                  <a:lnTo>
                    <a:pt x="21" y="20"/>
                  </a:lnTo>
                  <a:lnTo>
                    <a:pt x="34" y="13"/>
                  </a:lnTo>
                  <a:lnTo>
                    <a:pt x="34" y="7"/>
                  </a:lnTo>
                  <a:lnTo>
                    <a:pt x="34" y="0"/>
                  </a:lnTo>
                  <a:lnTo>
                    <a:pt x="2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1" name=""/>
            <p:cNvSpPr/>
            <p:nvPr/>
          </p:nvSpPr>
          <p:spPr>
            <a:xfrm>
              <a:off x="4685040" y="5156280"/>
              <a:ext cx="14688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Canaã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2" name=""/>
            <p:cNvSpPr/>
            <p:nvPr/>
          </p:nvSpPr>
          <p:spPr>
            <a:xfrm>
              <a:off x="4510800" y="3635280"/>
              <a:ext cx="16848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400" spc="-1" strike="noStrike">
                  <a:solidFill>
                    <a:srgbClr val="000000"/>
                  </a:solidFill>
                  <a:latin typeface="Arial"/>
                </a:rPr>
                <a:t>Velame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3" name=""/>
            <p:cNvSpPr/>
            <p:nvPr/>
          </p:nvSpPr>
          <p:spPr>
            <a:xfrm>
              <a:off x="4435920" y="3884760"/>
              <a:ext cx="24012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Sumidouro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4" name=""/>
            <p:cNvSpPr/>
            <p:nvPr/>
          </p:nvSpPr>
          <p:spPr>
            <a:xfrm>
              <a:off x="5958360" y="2168640"/>
              <a:ext cx="28116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Pico Estreito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5" name=""/>
            <p:cNvSpPr/>
            <p:nvPr/>
          </p:nvSpPr>
          <p:spPr>
            <a:xfrm>
              <a:off x="4791240" y="2527200"/>
              <a:ext cx="55440" cy="31680"/>
            </a:xfrm>
            <a:custGeom>
              <a:avLst/>
              <a:gdLst/>
              <a:ahLst/>
              <a:rect l="l" t="t" r="r" b="b"/>
              <a:pathLst>
                <a:path w="35" h="20">
                  <a:moveTo>
                    <a:pt x="0" y="7"/>
                  </a:moveTo>
                  <a:lnTo>
                    <a:pt x="0" y="20"/>
                  </a:lnTo>
                  <a:lnTo>
                    <a:pt x="14" y="20"/>
                  </a:lnTo>
                  <a:lnTo>
                    <a:pt x="28" y="20"/>
                  </a:lnTo>
                  <a:lnTo>
                    <a:pt x="35" y="13"/>
                  </a:lnTo>
                  <a:lnTo>
                    <a:pt x="28" y="7"/>
                  </a:lnTo>
                  <a:lnTo>
                    <a:pt x="21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6" name=""/>
            <p:cNvSpPr/>
            <p:nvPr/>
          </p:nvSpPr>
          <p:spPr>
            <a:xfrm>
              <a:off x="4663440" y="2440080"/>
              <a:ext cx="14868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400" spc="-1" strike="noStrike">
                  <a:solidFill>
                    <a:srgbClr val="000000"/>
                  </a:solidFill>
                  <a:latin typeface="Arial"/>
                </a:rPr>
                <a:t>Lajeiro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7" name=""/>
            <p:cNvSpPr/>
            <p:nvPr/>
          </p:nvSpPr>
          <p:spPr>
            <a:xfrm>
              <a:off x="5194440" y="2917800"/>
              <a:ext cx="54000" cy="33480"/>
            </a:xfrm>
            <a:custGeom>
              <a:avLst/>
              <a:gdLst/>
              <a:ahLst/>
              <a:rect l="l" t="t" r="r" b="b"/>
              <a:pathLst>
                <a:path w="34" h="21">
                  <a:moveTo>
                    <a:pt x="0" y="7"/>
                  </a:moveTo>
                  <a:lnTo>
                    <a:pt x="0" y="14"/>
                  </a:lnTo>
                  <a:lnTo>
                    <a:pt x="14" y="21"/>
                  </a:lnTo>
                  <a:lnTo>
                    <a:pt x="28" y="21"/>
                  </a:lnTo>
                  <a:lnTo>
                    <a:pt x="34" y="7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8" name=""/>
            <p:cNvSpPr/>
            <p:nvPr/>
          </p:nvSpPr>
          <p:spPr>
            <a:xfrm>
              <a:off x="4841280" y="2917800"/>
              <a:ext cx="34524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Furna de Pedra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9" name=""/>
            <p:cNvSpPr/>
            <p:nvPr/>
          </p:nvSpPr>
          <p:spPr>
            <a:xfrm>
              <a:off x="4394520" y="2874960"/>
              <a:ext cx="26424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Formigueiro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0" name=""/>
            <p:cNvSpPr/>
            <p:nvPr/>
          </p:nvSpPr>
          <p:spPr>
            <a:xfrm>
              <a:off x="4694400" y="3298680"/>
              <a:ext cx="53640" cy="32040"/>
            </a:xfrm>
            <a:custGeom>
              <a:avLst/>
              <a:gdLst/>
              <a:ahLst/>
              <a:rect l="l" t="t" r="r" b="b"/>
              <a:pathLst>
                <a:path w="34" h="20">
                  <a:moveTo>
                    <a:pt x="0" y="0"/>
                  </a:moveTo>
                  <a:lnTo>
                    <a:pt x="7" y="13"/>
                  </a:lnTo>
                  <a:lnTo>
                    <a:pt x="20" y="20"/>
                  </a:lnTo>
                  <a:lnTo>
                    <a:pt x="34" y="20"/>
                  </a:lnTo>
                  <a:lnTo>
                    <a:pt x="34" y="6"/>
                  </a:lnTo>
                  <a:lnTo>
                    <a:pt x="34" y="0"/>
                  </a:lnTo>
                  <a:lnTo>
                    <a:pt x="2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1" name=""/>
            <p:cNvSpPr/>
            <p:nvPr/>
          </p:nvSpPr>
          <p:spPr>
            <a:xfrm>
              <a:off x="4574880" y="3341520"/>
              <a:ext cx="16236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Currais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2" name=""/>
            <p:cNvSpPr/>
            <p:nvPr/>
          </p:nvSpPr>
          <p:spPr>
            <a:xfrm>
              <a:off x="4106880" y="4048200"/>
              <a:ext cx="54000" cy="31680"/>
            </a:xfrm>
            <a:custGeom>
              <a:avLst/>
              <a:gdLst/>
              <a:ahLst/>
              <a:rect l="l" t="t" r="r" b="b"/>
              <a:pathLst>
                <a:path w="34" h="20">
                  <a:moveTo>
                    <a:pt x="0" y="0"/>
                  </a:moveTo>
                  <a:lnTo>
                    <a:pt x="0" y="13"/>
                  </a:lnTo>
                  <a:lnTo>
                    <a:pt x="13" y="20"/>
                  </a:lnTo>
                  <a:lnTo>
                    <a:pt x="27" y="13"/>
                  </a:lnTo>
                  <a:lnTo>
                    <a:pt x="34" y="7"/>
                  </a:lnTo>
                  <a:lnTo>
                    <a:pt x="27" y="0"/>
                  </a:lnTo>
                  <a:lnTo>
                    <a:pt x="2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3" name=""/>
            <p:cNvSpPr/>
            <p:nvPr/>
          </p:nvSpPr>
          <p:spPr>
            <a:xfrm>
              <a:off x="3935520" y="3949560"/>
              <a:ext cx="20952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Mato Alto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4" name=""/>
            <p:cNvSpPr/>
            <p:nvPr/>
          </p:nvSpPr>
          <p:spPr>
            <a:xfrm>
              <a:off x="5292720" y="4156200"/>
              <a:ext cx="54000" cy="4284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0" y="7"/>
                  </a:moveTo>
                  <a:lnTo>
                    <a:pt x="0" y="21"/>
                  </a:lnTo>
                  <a:lnTo>
                    <a:pt x="14" y="27"/>
                  </a:lnTo>
                  <a:lnTo>
                    <a:pt x="27" y="21"/>
                  </a:lnTo>
                  <a:lnTo>
                    <a:pt x="34" y="14"/>
                  </a:lnTo>
                  <a:lnTo>
                    <a:pt x="27" y="7"/>
                  </a:lnTo>
                  <a:lnTo>
                    <a:pt x="20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5" name=""/>
            <p:cNvSpPr/>
            <p:nvPr/>
          </p:nvSpPr>
          <p:spPr>
            <a:xfrm>
              <a:off x="5199480" y="4211640"/>
              <a:ext cx="34200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Vereda do Anel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6" name=""/>
            <p:cNvSpPr/>
            <p:nvPr/>
          </p:nvSpPr>
          <p:spPr>
            <a:xfrm>
              <a:off x="5673600" y="3754440"/>
              <a:ext cx="54000" cy="31680"/>
            </a:xfrm>
            <a:custGeom>
              <a:avLst/>
              <a:gdLst/>
              <a:ahLst/>
              <a:rect l="l" t="t" r="r" b="b"/>
              <a:pathLst>
                <a:path w="34" h="20">
                  <a:moveTo>
                    <a:pt x="0" y="0"/>
                  </a:moveTo>
                  <a:lnTo>
                    <a:pt x="0" y="14"/>
                  </a:lnTo>
                  <a:lnTo>
                    <a:pt x="13" y="20"/>
                  </a:lnTo>
                  <a:lnTo>
                    <a:pt x="27" y="20"/>
                  </a:lnTo>
                  <a:lnTo>
                    <a:pt x="34" y="7"/>
                  </a:lnTo>
                  <a:lnTo>
                    <a:pt x="27" y="0"/>
                  </a:lnTo>
                  <a:lnTo>
                    <a:pt x="2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7" name=""/>
            <p:cNvSpPr/>
            <p:nvPr/>
          </p:nvSpPr>
          <p:spPr>
            <a:xfrm>
              <a:off x="5720400" y="3678120"/>
              <a:ext cx="29340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Moinho Novo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8" name=""/>
            <p:cNvSpPr/>
            <p:nvPr/>
          </p:nvSpPr>
          <p:spPr>
            <a:xfrm>
              <a:off x="5346720" y="5524560"/>
              <a:ext cx="54000" cy="33120"/>
            </a:xfrm>
            <a:custGeom>
              <a:avLst/>
              <a:gdLst/>
              <a:ahLst/>
              <a:rect l="l" t="t" r="r" b="b"/>
              <a:pathLst>
                <a:path w="34" h="21">
                  <a:moveTo>
                    <a:pt x="0" y="0"/>
                  </a:moveTo>
                  <a:lnTo>
                    <a:pt x="0" y="14"/>
                  </a:lnTo>
                  <a:lnTo>
                    <a:pt x="14" y="21"/>
                  </a:lnTo>
                  <a:lnTo>
                    <a:pt x="28" y="21"/>
                  </a:lnTo>
                  <a:lnTo>
                    <a:pt x="34" y="7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9" name=""/>
            <p:cNvSpPr/>
            <p:nvPr/>
          </p:nvSpPr>
          <p:spPr>
            <a:xfrm>
              <a:off x="5307840" y="5580000"/>
              <a:ext cx="25992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Trinta e Um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0" name=""/>
            <p:cNvSpPr/>
            <p:nvPr/>
          </p:nvSpPr>
          <p:spPr>
            <a:xfrm>
              <a:off x="3246480" y="3656160"/>
              <a:ext cx="54000" cy="33120"/>
            </a:xfrm>
            <a:custGeom>
              <a:avLst/>
              <a:gdLst/>
              <a:ahLst/>
              <a:rect l="l" t="t" r="r" b="b"/>
              <a:pathLst>
                <a:path w="34" h="21">
                  <a:moveTo>
                    <a:pt x="0" y="7"/>
                  </a:moveTo>
                  <a:lnTo>
                    <a:pt x="7" y="21"/>
                  </a:lnTo>
                  <a:lnTo>
                    <a:pt x="20" y="21"/>
                  </a:lnTo>
                  <a:lnTo>
                    <a:pt x="34" y="21"/>
                  </a:lnTo>
                  <a:lnTo>
                    <a:pt x="34" y="14"/>
                  </a:lnTo>
                  <a:lnTo>
                    <a:pt x="34" y="7"/>
                  </a:lnTo>
                  <a:lnTo>
                    <a:pt x="20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1" name=""/>
            <p:cNvSpPr/>
            <p:nvPr/>
          </p:nvSpPr>
          <p:spPr>
            <a:xfrm>
              <a:off x="3261240" y="3559320"/>
              <a:ext cx="31320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Baixa do Félix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2" name=""/>
            <p:cNvSpPr/>
            <p:nvPr/>
          </p:nvSpPr>
          <p:spPr>
            <a:xfrm>
              <a:off x="3887640" y="2830680"/>
              <a:ext cx="44640" cy="21960"/>
            </a:xfrm>
            <a:custGeom>
              <a:avLst/>
              <a:gdLst/>
              <a:ahLst/>
              <a:rect l="l" t="t" r="r" b="b"/>
              <a:pathLst>
                <a:path w="28" h="14">
                  <a:moveTo>
                    <a:pt x="28" y="14"/>
                  </a:moveTo>
                  <a:lnTo>
                    <a:pt x="7" y="7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3" name=""/>
            <p:cNvSpPr/>
            <p:nvPr/>
          </p:nvSpPr>
          <p:spPr>
            <a:xfrm>
              <a:off x="3822840" y="2776680"/>
              <a:ext cx="33120" cy="21960"/>
            </a:xfrm>
            <a:custGeom>
              <a:avLst/>
              <a:gdLst/>
              <a:ahLst/>
              <a:rect l="l" t="t" r="r" b="b"/>
              <a:pathLst>
                <a:path w="21" h="14">
                  <a:moveTo>
                    <a:pt x="21" y="14"/>
                  </a:moveTo>
                  <a:lnTo>
                    <a:pt x="7" y="7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4" name=""/>
            <p:cNvSpPr/>
            <p:nvPr/>
          </p:nvSpPr>
          <p:spPr>
            <a:xfrm>
              <a:off x="3735360" y="2754360"/>
              <a:ext cx="44640" cy="11160"/>
            </a:xfrm>
            <a:custGeom>
              <a:avLst/>
              <a:gdLst/>
              <a:ahLst/>
              <a:rect l="l" t="t" r="r" b="b"/>
              <a:pathLst>
                <a:path w="28" h="7">
                  <a:moveTo>
                    <a:pt x="28" y="7"/>
                  </a:moveTo>
                  <a:lnTo>
                    <a:pt x="21" y="7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5" name=""/>
            <p:cNvSpPr/>
            <p:nvPr/>
          </p:nvSpPr>
          <p:spPr>
            <a:xfrm>
              <a:off x="3659040" y="2711520"/>
              <a:ext cx="33480" cy="22320"/>
            </a:xfrm>
            <a:custGeom>
              <a:avLst/>
              <a:gdLst/>
              <a:ahLst/>
              <a:rect l="l" t="t" r="r" b="b"/>
              <a:pathLst>
                <a:path w="21" h="14">
                  <a:moveTo>
                    <a:pt x="21" y="14"/>
                  </a:moveTo>
                  <a:lnTo>
                    <a:pt x="21" y="14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6" name=""/>
            <p:cNvSpPr/>
            <p:nvPr/>
          </p:nvSpPr>
          <p:spPr>
            <a:xfrm flipH="1" flipV="1">
              <a:off x="3616200" y="2634840"/>
              <a:ext cx="22320" cy="334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7" name=""/>
            <p:cNvSpPr/>
            <p:nvPr/>
          </p:nvSpPr>
          <p:spPr>
            <a:xfrm flipH="1" flipV="1">
              <a:off x="3573000" y="2592000"/>
              <a:ext cx="9720" cy="111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8" name=""/>
            <p:cNvSpPr/>
            <p:nvPr/>
          </p:nvSpPr>
          <p:spPr>
            <a:xfrm>
              <a:off x="3921120" y="3276720"/>
              <a:ext cx="11160" cy="31680"/>
            </a:xfrm>
            <a:custGeom>
              <a:avLst/>
              <a:gdLst/>
              <a:ahLst/>
              <a:rect l="l" t="t" r="r" b="b"/>
              <a:pathLst>
                <a:path w="7" h="20">
                  <a:moveTo>
                    <a:pt x="0" y="0"/>
                  </a:moveTo>
                  <a:lnTo>
                    <a:pt x="0" y="14"/>
                  </a:lnTo>
                  <a:lnTo>
                    <a:pt x="0" y="20"/>
                  </a:lnTo>
                  <a:lnTo>
                    <a:pt x="7" y="2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9" name=""/>
            <p:cNvSpPr/>
            <p:nvPr/>
          </p:nvSpPr>
          <p:spPr>
            <a:xfrm>
              <a:off x="3975120" y="3298680"/>
              <a:ext cx="44280" cy="9720"/>
            </a:xfrm>
            <a:custGeom>
              <a:avLst/>
              <a:gdLst/>
              <a:ahLst/>
              <a:rect l="l" t="t" r="r" b="b"/>
              <a:pathLst>
                <a:path w="28" h="6">
                  <a:moveTo>
                    <a:pt x="0" y="6"/>
                  </a:moveTo>
                  <a:lnTo>
                    <a:pt x="7" y="6"/>
                  </a:lnTo>
                  <a:lnTo>
                    <a:pt x="28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0" name=""/>
            <p:cNvSpPr/>
            <p:nvPr/>
          </p:nvSpPr>
          <p:spPr>
            <a:xfrm>
              <a:off x="4062240" y="3287880"/>
              <a:ext cx="44640" cy="10800"/>
            </a:xfrm>
            <a:custGeom>
              <a:avLst/>
              <a:gdLst/>
              <a:ahLst/>
              <a:rect l="l" t="t" r="r" b="b"/>
              <a:pathLst>
                <a:path w="28" h="7">
                  <a:moveTo>
                    <a:pt x="0" y="0"/>
                  </a:moveTo>
                  <a:lnTo>
                    <a:pt x="0" y="0"/>
                  </a:lnTo>
                  <a:lnTo>
                    <a:pt x="14" y="0"/>
                  </a:lnTo>
                  <a:lnTo>
                    <a:pt x="28" y="7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1" name=""/>
            <p:cNvSpPr/>
            <p:nvPr/>
          </p:nvSpPr>
          <p:spPr>
            <a:xfrm>
              <a:off x="4149720" y="3308400"/>
              <a:ext cx="42840" cy="11160"/>
            </a:xfrm>
            <a:custGeom>
              <a:avLst/>
              <a:gdLst/>
              <a:ahLst/>
              <a:rect l="l" t="t" r="r" b="b"/>
              <a:pathLst>
                <a:path w="27" h="7">
                  <a:moveTo>
                    <a:pt x="0" y="0"/>
                  </a:moveTo>
                  <a:lnTo>
                    <a:pt x="14" y="0"/>
                  </a:lnTo>
                  <a:lnTo>
                    <a:pt x="27" y="7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2" name=""/>
            <p:cNvSpPr/>
            <p:nvPr/>
          </p:nvSpPr>
          <p:spPr>
            <a:xfrm>
              <a:off x="4237200" y="3298680"/>
              <a:ext cx="42840" cy="9720"/>
            </a:xfrm>
            <a:custGeom>
              <a:avLst/>
              <a:gdLst/>
              <a:ahLst/>
              <a:rect l="l" t="t" r="r" b="b"/>
              <a:pathLst>
                <a:path w="27" h="6">
                  <a:moveTo>
                    <a:pt x="0" y="6"/>
                  </a:moveTo>
                  <a:lnTo>
                    <a:pt x="13" y="6"/>
                  </a:lnTo>
                  <a:lnTo>
                    <a:pt x="27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3" name=""/>
            <p:cNvSpPr/>
            <p:nvPr/>
          </p:nvSpPr>
          <p:spPr>
            <a:xfrm>
              <a:off x="4313160" y="3243240"/>
              <a:ext cx="20880" cy="33480"/>
            </a:xfrm>
            <a:custGeom>
              <a:avLst/>
              <a:gdLst/>
              <a:ahLst/>
              <a:rect l="l" t="t" r="r" b="b"/>
              <a:pathLst>
                <a:path w="13" h="21">
                  <a:moveTo>
                    <a:pt x="0" y="21"/>
                  </a:moveTo>
                  <a:lnTo>
                    <a:pt x="13" y="7"/>
                  </a:lnTo>
                  <a:lnTo>
                    <a:pt x="13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4" name=""/>
            <p:cNvSpPr/>
            <p:nvPr/>
          </p:nvSpPr>
          <p:spPr>
            <a:xfrm>
              <a:off x="4378320" y="3243240"/>
              <a:ext cx="42840" cy="111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5" name=""/>
            <p:cNvSpPr/>
            <p:nvPr/>
          </p:nvSpPr>
          <p:spPr>
            <a:xfrm>
              <a:off x="4465800" y="3254400"/>
              <a:ext cx="53640" cy="111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6" name=""/>
            <p:cNvSpPr/>
            <p:nvPr/>
          </p:nvSpPr>
          <p:spPr>
            <a:xfrm>
              <a:off x="4562640" y="3276720"/>
              <a:ext cx="4428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7" name=""/>
            <p:cNvSpPr/>
            <p:nvPr/>
          </p:nvSpPr>
          <p:spPr>
            <a:xfrm>
              <a:off x="4649760" y="3287880"/>
              <a:ext cx="2232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8" name=""/>
            <p:cNvSpPr/>
            <p:nvPr/>
          </p:nvSpPr>
          <p:spPr>
            <a:xfrm rot="900000">
              <a:off x="7006680" y="4094280"/>
              <a:ext cx="3420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9" name=""/>
            <p:cNvSpPr/>
            <p:nvPr/>
          </p:nvSpPr>
          <p:spPr>
            <a:xfrm rot="900000">
              <a:off x="7041960" y="4103640"/>
              <a:ext cx="1440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0" name=""/>
            <p:cNvSpPr/>
            <p:nvPr/>
          </p:nvSpPr>
          <p:spPr>
            <a:xfrm rot="900000">
              <a:off x="7062480" y="4114800"/>
              <a:ext cx="1440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1" name=""/>
            <p:cNvSpPr/>
            <p:nvPr/>
          </p:nvSpPr>
          <p:spPr>
            <a:xfrm rot="900000">
              <a:off x="7072560" y="4119480"/>
              <a:ext cx="4176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2" name=""/>
            <p:cNvSpPr/>
            <p:nvPr/>
          </p:nvSpPr>
          <p:spPr>
            <a:xfrm rot="900000">
              <a:off x="7105320" y="4127400"/>
              <a:ext cx="2808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3" name=""/>
            <p:cNvSpPr/>
            <p:nvPr/>
          </p:nvSpPr>
          <p:spPr>
            <a:xfrm rot="900000">
              <a:off x="7134840" y="4140000"/>
              <a:ext cx="2664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4" name=""/>
            <p:cNvSpPr/>
            <p:nvPr/>
          </p:nvSpPr>
          <p:spPr>
            <a:xfrm rot="900000">
              <a:off x="7157160" y="4140360"/>
              <a:ext cx="2664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5" name=""/>
            <p:cNvSpPr/>
            <p:nvPr/>
          </p:nvSpPr>
          <p:spPr>
            <a:xfrm rot="900000">
              <a:off x="7181640" y="4148280"/>
              <a:ext cx="2808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6" name=""/>
            <p:cNvSpPr/>
            <p:nvPr/>
          </p:nvSpPr>
          <p:spPr>
            <a:xfrm rot="900000">
              <a:off x="7213320" y="4148280"/>
              <a:ext cx="1764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7" name=""/>
            <p:cNvSpPr/>
            <p:nvPr/>
          </p:nvSpPr>
          <p:spPr>
            <a:xfrm rot="900000">
              <a:off x="7224480" y="4159080"/>
              <a:ext cx="2808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ó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8" name=""/>
            <p:cNvSpPr/>
            <p:nvPr/>
          </p:nvSpPr>
          <p:spPr>
            <a:xfrm rot="900000">
              <a:off x="7259400" y="4157640"/>
              <a:ext cx="1440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9" name=""/>
            <p:cNvSpPr/>
            <p:nvPr/>
          </p:nvSpPr>
          <p:spPr>
            <a:xfrm rot="900000">
              <a:off x="7269120" y="4170240"/>
              <a:ext cx="1764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0" name=""/>
            <p:cNvSpPr/>
            <p:nvPr/>
          </p:nvSpPr>
          <p:spPr>
            <a:xfrm rot="900000">
              <a:off x="7279920" y="4170240"/>
              <a:ext cx="2808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1" name=""/>
            <p:cNvSpPr/>
            <p:nvPr/>
          </p:nvSpPr>
          <p:spPr>
            <a:xfrm rot="900000">
              <a:off x="7311960" y="4181400"/>
              <a:ext cx="2808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2" name=""/>
            <p:cNvSpPr/>
            <p:nvPr/>
          </p:nvSpPr>
          <p:spPr>
            <a:xfrm rot="900000">
              <a:off x="7335360" y="4191120"/>
              <a:ext cx="1440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3" name=""/>
            <p:cNvSpPr/>
            <p:nvPr/>
          </p:nvSpPr>
          <p:spPr>
            <a:xfrm rot="900000">
              <a:off x="7342920" y="4195800"/>
              <a:ext cx="2664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4" name=""/>
            <p:cNvSpPr/>
            <p:nvPr/>
          </p:nvSpPr>
          <p:spPr>
            <a:xfrm rot="900000">
              <a:off x="7365960" y="4195800"/>
              <a:ext cx="4176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5" name=""/>
            <p:cNvSpPr/>
            <p:nvPr/>
          </p:nvSpPr>
          <p:spPr>
            <a:xfrm rot="900000">
              <a:off x="7410600" y="4203720"/>
              <a:ext cx="1764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6" name=""/>
            <p:cNvSpPr/>
            <p:nvPr/>
          </p:nvSpPr>
          <p:spPr>
            <a:xfrm>
              <a:off x="7066080" y="4254480"/>
              <a:ext cx="185760" cy="42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7" name=""/>
            <p:cNvSpPr/>
            <p:nvPr/>
          </p:nvSpPr>
          <p:spPr>
            <a:xfrm>
              <a:off x="7175520" y="4232160"/>
              <a:ext cx="76320" cy="65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8" name=""/>
            <p:cNvSpPr/>
            <p:nvPr/>
          </p:nvSpPr>
          <p:spPr>
            <a:xfrm flipV="1">
              <a:off x="7153200" y="4297320"/>
              <a:ext cx="98640" cy="22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9" name=""/>
            <p:cNvSpPr/>
            <p:nvPr/>
          </p:nvSpPr>
          <p:spPr>
            <a:xfrm rot="21540000">
              <a:off x="2471400" y="3513240"/>
              <a:ext cx="3420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0" name=""/>
            <p:cNvSpPr/>
            <p:nvPr/>
          </p:nvSpPr>
          <p:spPr>
            <a:xfrm rot="21540000">
              <a:off x="2505240" y="3512880"/>
              <a:ext cx="1440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1" name=""/>
            <p:cNvSpPr/>
            <p:nvPr/>
          </p:nvSpPr>
          <p:spPr>
            <a:xfrm rot="21540000">
              <a:off x="2516040" y="3512880"/>
              <a:ext cx="1440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2" name=""/>
            <p:cNvSpPr/>
            <p:nvPr/>
          </p:nvSpPr>
          <p:spPr>
            <a:xfrm rot="21540000">
              <a:off x="2536560" y="3513240"/>
              <a:ext cx="4032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3" name=""/>
            <p:cNvSpPr/>
            <p:nvPr/>
          </p:nvSpPr>
          <p:spPr>
            <a:xfrm rot="21540000">
              <a:off x="2570400" y="3513240"/>
              <a:ext cx="2808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4" name=""/>
            <p:cNvSpPr/>
            <p:nvPr/>
          </p:nvSpPr>
          <p:spPr>
            <a:xfrm rot="21540000">
              <a:off x="2601720" y="3503160"/>
              <a:ext cx="1152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5" name=""/>
            <p:cNvSpPr/>
            <p:nvPr/>
          </p:nvSpPr>
          <p:spPr>
            <a:xfrm rot="21540000">
              <a:off x="2612520" y="3503520"/>
              <a:ext cx="2664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6" name=""/>
            <p:cNvSpPr/>
            <p:nvPr/>
          </p:nvSpPr>
          <p:spPr>
            <a:xfrm rot="21540000">
              <a:off x="2635560" y="3503520"/>
              <a:ext cx="2808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7" name=""/>
            <p:cNvSpPr/>
            <p:nvPr/>
          </p:nvSpPr>
          <p:spPr>
            <a:xfrm rot="21540000">
              <a:off x="2657520" y="3503160"/>
              <a:ext cx="1764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8" name=""/>
            <p:cNvSpPr/>
            <p:nvPr/>
          </p:nvSpPr>
          <p:spPr>
            <a:xfrm rot="21540000">
              <a:off x="2678400" y="3503520"/>
              <a:ext cx="2808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é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9" name=""/>
            <p:cNvSpPr/>
            <p:nvPr/>
          </p:nvSpPr>
          <p:spPr>
            <a:xfrm rot="21540000">
              <a:off x="2700360" y="3503160"/>
              <a:ext cx="1440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0" name=""/>
            <p:cNvSpPr/>
            <p:nvPr/>
          </p:nvSpPr>
          <p:spPr>
            <a:xfrm rot="21540000">
              <a:off x="2722680" y="3503160"/>
              <a:ext cx="1764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1" name=""/>
            <p:cNvSpPr/>
            <p:nvPr/>
          </p:nvSpPr>
          <p:spPr>
            <a:xfrm rot="21540000">
              <a:off x="2733840" y="3503520"/>
              <a:ext cx="2808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2" name=""/>
            <p:cNvSpPr/>
            <p:nvPr/>
          </p:nvSpPr>
          <p:spPr>
            <a:xfrm rot="21540000">
              <a:off x="2765520" y="3503520"/>
              <a:ext cx="2808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3" name=""/>
            <p:cNvSpPr/>
            <p:nvPr/>
          </p:nvSpPr>
          <p:spPr>
            <a:xfrm rot="21540000">
              <a:off x="2787480" y="3503160"/>
              <a:ext cx="1440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4" name=""/>
            <p:cNvSpPr/>
            <p:nvPr/>
          </p:nvSpPr>
          <p:spPr>
            <a:xfrm rot="21540000">
              <a:off x="2798280" y="3503520"/>
              <a:ext cx="2664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5" name=""/>
            <p:cNvSpPr/>
            <p:nvPr/>
          </p:nvSpPr>
          <p:spPr>
            <a:xfrm rot="21540000">
              <a:off x="2831040" y="3503160"/>
              <a:ext cx="4176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6" name=""/>
            <p:cNvSpPr/>
            <p:nvPr/>
          </p:nvSpPr>
          <p:spPr>
            <a:xfrm rot="21540000">
              <a:off x="2863800" y="3503160"/>
              <a:ext cx="1764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7" name=""/>
            <p:cNvSpPr/>
            <p:nvPr/>
          </p:nvSpPr>
          <p:spPr>
            <a:xfrm>
              <a:off x="2603520" y="3666960"/>
              <a:ext cx="196920" cy="11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8" name=""/>
            <p:cNvSpPr/>
            <p:nvPr/>
          </p:nvSpPr>
          <p:spPr>
            <a:xfrm flipH="1" flipV="1">
              <a:off x="2603520" y="3666960"/>
              <a:ext cx="87120" cy="54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9" name=""/>
            <p:cNvSpPr/>
            <p:nvPr/>
          </p:nvSpPr>
          <p:spPr>
            <a:xfrm flipH="1">
              <a:off x="2603160" y="3635280"/>
              <a:ext cx="98280" cy="31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0" name=""/>
            <p:cNvSpPr/>
            <p:nvPr/>
          </p:nvSpPr>
          <p:spPr>
            <a:xfrm>
              <a:off x="3257640" y="3645000"/>
              <a:ext cx="42840" cy="111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1" name=""/>
            <p:cNvSpPr/>
            <p:nvPr/>
          </p:nvSpPr>
          <p:spPr>
            <a:xfrm>
              <a:off x="3344760" y="3666960"/>
              <a:ext cx="42840" cy="111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2" name=""/>
            <p:cNvSpPr/>
            <p:nvPr/>
          </p:nvSpPr>
          <p:spPr>
            <a:xfrm>
              <a:off x="3430440" y="3689280"/>
              <a:ext cx="22320" cy="111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3" name=""/>
            <p:cNvSpPr/>
            <p:nvPr/>
          </p:nvSpPr>
          <p:spPr>
            <a:xfrm>
              <a:off x="4400640" y="3059280"/>
              <a:ext cx="9360" cy="1080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4" name=""/>
            <p:cNvSpPr/>
            <p:nvPr/>
          </p:nvSpPr>
          <p:spPr>
            <a:xfrm>
              <a:off x="3822840" y="3483000"/>
              <a:ext cx="1080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5" name=""/>
            <p:cNvSpPr/>
            <p:nvPr/>
          </p:nvSpPr>
          <p:spPr>
            <a:xfrm>
              <a:off x="4802040" y="55245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6" name=""/>
            <p:cNvSpPr/>
            <p:nvPr/>
          </p:nvSpPr>
          <p:spPr>
            <a:xfrm>
              <a:off x="5303880" y="454644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0"/>
                  </a:move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7" name=""/>
            <p:cNvSpPr/>
            <p:nvPr/>
          </p:nvSpPr>
          <p:spPr>
            <a:xfrm>
              <a:off x="4781520" y="4373640"/>
              <a:ext cx="972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6" y="0"/>
                  </a:move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6" y="0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8" name=""/>
            <p:cNvSpPr/>
            <p:nvPr/>
          </p:nvSpPr>
          <p:spPr>
            <a:xfrm>
              <a:off x="6238800" y="4189320"/>
              <a:ext cx="11160" cy="1800"/>
            </a:xfrm>
            <a:custGeom>
              <a:avLst/>
              <a:gdLst/>
              <a:ahLst/>
              <a:rect l="l" t="t" r="r" b="b"/>
              <a:pathLst>
                <a:path w="7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9" name=""/>
            <p:cNvSpPr/>
            <p:nvPr/>
          </p:nvSpPr>
          <p:spPr>
            <a:xfrm>
              <a:off x="4008600" y="4254480"/>
              <a:ext cx="1080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0" name=""/>
            <p:cNvSpPr/>
            <p:nvPr/>
          </p:nvSpPr>
          <p:spPr>
            <a:xfrm>
              <a:off x="6054840" y="32115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0"/>
                  </a:move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1" name=""/>
            <p:cNvSpPr/>
            <p:nvPr/>
          </p:nvSpPr>
          <p:spPr>
            <a:xfrm>
              <a:off x="4867200" y="5275440"/>
              <a:ext cx="11160" cy="1080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0"/>
                  </a:moveTo>
                  <a:lnTo>
                    <a:pt x="0" y="0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2" name=""/>
            <p:cNvSpPr/>
            <p:nvPr/>
          </p:nvSpPr>
          <p:spPr>
            <a:xfrm>
              <a:off x="2506680" y="3732120"/>
              <a:ext cx="1440" cy="11160"/>
            </a:xfrm>
            <a:custGeom>
              <a:avLst/>
              <a:gdLst/>
              <a:ahLst/>
              <a:rect l="l" t="t" r="r" b="b"/>
              <a:pathLst>
                <a:path w="0" h="7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3" name=""/>
            <p:cNvSpPr/>
            <p:nvPr/>
          </p:nvSpPr>
          <p:spPr>
            <a:xfrm>
              <a:off x="3083040" y="3754440"/>
              <a:ext cx="1440" cy="11160"/>
            </a:xfrm>
            <a:custGeom>
              <a:avLst/>
              <a:gdLst/>
              <a:ahLst/>
              <a:rect l="l" t="t" r="r" b="b"/>
              <a:pathLst>
                <a:path w="0" h="7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4" name=""/>
            <p:cNvSpPr/>
            <p:nvPr/>
          </p:nvSpPr>
          <p:spPr>
            <a:xfrm>
              <a:off x="3094200" y="3678120"/>
              <a:ext cx="10800" cy="1800"/>
            </a:xfrm>
            <a:custGeom>
              <a:avLst/>
              <a:gdLst/>
              <a:ahLst/>
              <a:rect l="l" t="t" r="r" b="b"/>
              <a:pathLst>
                <a:path w="7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5" name=""/>
            <p:cNvSpPr/>
            <p:nvPr/>
          </p:nvSpPr>
          <p:spPr>
            <a:xfrm>
              <a:off x="3670200" y="380844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0"/>
                  </a:move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6" name=""/>
            <p:cNvSpPr/>
            <p:nvPr/>
          </p:nvSpPr>
          <p:spPr>
            <a:xfrm>
              <a:off x="3071880" y="3429000"/>
              <a:ext cx="1440" cy="144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7" name=""/>
            <p:cNvSpPr/>
            <p:nvPr/>
          </p:nvSpPr>
          <p:spPr>
            <a:xfrm>
              <a:off x="2374920" y="5622840"/>
              <a:ext cx="50943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8" name=""/>
            <p:cNvSpPr/>
            <p:nvPr/>
          </p:nvSpPr>
          <p:spPr>
            <a:xfrm flipV="1">
              <a:off x="2712960" y="5622840"/>
              <a:ext cx="1800" cy="54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9" name=""/>
            <p:cNvSpPr/>
            <p:nvPr/>
          </p:nvSpPr>
          <p:spPr>
            <a:xfrm flipV="1">
              <a:off x="3311640" y="5622840"/>
              <a:ext cx="1440" cy="54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0" name=""/>
            <p:cNvSpPr/>
            <p:nvPr/>
          </p:nvSpPr>
          <p:spPr>
            <a:xfrm flipV="1">
              <a:off x="3909960" y="5622840"/>
              <a:ext cx="1800" cy="54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1" name=""/>
            <p:cNvSpPr/>
            <p:nvPr/>
          </p:nvSpPr>
          <p:spPr>
            <a:xfrm flipV="1">
              <a:off x="4497480" y="5622840"/>
              <a:ext cx="1440" cy="54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2" name=""/>
            <p:cNvSpPr/>
            <p:nvPr/>
          </p:nvSpPr>
          <p:spPr>
            <a:xfrm flipV="1">
              <a:off x="5095800" y="5622840"/>
              <a:ext cx="1800" cy="54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3" name=""/>
            <p:cNvSpPr/>
            <p:nvPr/>
          </p:nvSpPr>
          <p:spPr>
            <a:xfrm flipV="1">
              <a:off x="5684760" y="5622840"/>
              <a:ext cx="1800" cy="54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4" name=""/>
            <p:cNvSpPr/>
            <p:nvPr/>
          </p:nvSpPr>
          <p:spPr>
            <a:xfrm flipV="1">
              <a:off x="6283440" y="5622840"/>
              <a:ext cx="1440" cy="54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5" name=""/>
            <p:cNvSpPr/>
            <p:nvPr/>
          </p:nvSpPr>
          <p:spPr>
            <a:xfrm flipV="1">
              <a:off x="6870600" y="5622840"/>
              <a:ext cx="1800" cy="54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6" name=""/>
            <p:cNvSpPr/>
            <p:nvPr/>
          </p:nvSpPr>
          <p:spPr>
            <a:xfrm>
              <a:off x="2562480" y="5676840"/>
              <a:ext cx="3391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63000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7" name=""/>
            <p:cNvSpPr/>
            <p:nvPr/>
          </p:nvSpPr>
          <p:spPr>
            <a:xfrm>
              <a:off x="3160800" y="5676840"/>
              <a:ext cx="3391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63500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8" name=""/>
            <p:cNvSpPr/>
            <p:nvPr/>
          </p:nvSpPr>
          <p:spPr>
            <a:xfrm>
              <a:off x="3748320" y="5676840"/>
              <a:ext cx="3391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64000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9" name=""/>
            <p:cNvSpPr/>
            <p:nvPr/>
          </p:nvSpPr>
          <p:spPr>
            <a:xfrm>
              <a:off x="4346640" y="5676840"/>
              <a:ext cx="3391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64500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0" name=""/>
            <p:cNvSpPr/>
            <p:nvPr/>
          </p:nvSpPr>
          <p:spPr>
            <a:xfrm>
              <a:off x="4935600" y="5676840"/>
              <a:ext cx="3391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65000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1" name=""/>
            <p:cNvSpPr/>
            <p:nvPr/>
          </p:nvSpPr>
          <p:spPr>
            <a:xfrm>
              <a:off x="5534280" y="5676840"/>
              <a:ext cx="3391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65500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2" name=""/>
            <p:cNvSpPr/>
            <p:nvPr/>
          </p:nvSpPr>
          <p:spPr>
            <a:xfrm>
              <a:off x="6121440" y="5676840"/>
              <a:ext cx="3391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66000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3" name=""/>
            <p:cNvSpPr/>
            <p:nvPr/>
          </p:nvSpPr>
          <p:spPr>
            <a:xfrm>
              <a:off x="6720120" y="5676840"/>
              <a:ext cx="3391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66500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4" name=""/>
            <p:cNvSpPr/>
            <p:nvPr/>
          </p:nvSpPr>
          <p:spPr>
            <a:xfrm>
              <a:off x="4605120" y="5827680"/>
              <a:ext cx="681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UTM Leste (m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5" name=""/>
            <p:cNvSpPr/>
            <p:nvPr/>
          </p:nvSpPr>
          <p:spPr>
            <a:xfrm flipV="1">
              <a:off x="2712960" y="2015640"/>
              <a:ext cx="1800" cy="3606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6" name=""/>
            <p:cNvSpPr/>
            <p:nvPr/>
          </p:nvSpPr>
          <p:spPr>
            <a:xfrm flipV="1">
              <a:off x="3311640" y="2015640"/>
              <a:ext cx="1440" cy="3606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7" name=""/>
            <p:cNvSpPr/>
            <p:nvPr/>
          </p:nvSpPr>
          <p:spPr>
            <a:xfrm flipV="1">
              <a:off x="3909960" y="2015640"/>
              <a:ext cx="1800" cy="3606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8" name=""/>
            <p:cNvSpPr/>
            <p:nvPr/>
          </p:nvSpPr>
          <p:spPr>
            <a:xfrm flipV="1">
              <a:off x="4497480" y="2015640"/>
              <a:ext cx="1440" cy="3606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89" name=""/>
          <p:cNvSpPr/>
          <p:nvPr/>
        </p:nvSpPr>
        <p:spPr>
          <a:xfrm flipV="1">
            <a:off x="5095800" y="2015640"/>
            <a:ext cx="1800" cy="3606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0" name=""/>
          <p:cNvSpPr/>
          <p:nvPr/>
        </p:nvSpPr>
        <p:spPr>
          <a:xfrm flipV="1">
            <a:off x="5684760" y="2015640"/>
            <a:ext cx="1800" cy="3606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1" name=""/>
          <p:cNvSpPr/>
          <p:nvPr/>
        </p:nvSpPr>
        <p:spPr>
          <a:xfrm flipV="1">
            <a:off x="6283440" y="2015640"/>
            <a:ext cx="1440" cy="3606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2" name=""/>
          <p:cNvSpPr/>
          <p:nvPr/>
        </p:nvSpPr>
        <p:spPr>
          <a:xfrm flipV="1">
            <a:off x="6870600" y="2015640"/>
            <a:ext cx="1800" cy="3606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3" name=""/>
          <p:cNvSpPr/>
          <p:nvPr/>
        </p:nvSpPr>
        <p:spPr>
          <a:xfrm>
            <a:off x="2374920" y="2016000"/>
            <a:ext cx="50943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4" name=""/>
          <p:cNvSpPr/>
          <p:nvPr/>
        </p:nvSpPr>
        <p:spPr>
          <a:xfrm flipV="1">
            <a:off x="2712960" y="1951200"/>
            <a:ext cx="1800" cy="64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5" name=""/>
          <p:cNvSpPr/>
          <p:nvPr/>
        </p:nvSpPr>
        <p:spPr>
          <a:xfrm flipV="1">
            <a:off x="3311640" y="1951200"/>
            <a:ext cx="1440" cy="64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6" name=""/>
          <p:cNvSpPr/>
          <p:nvPr/>
        </p:nvSpPr>
        <p:spPr>
          <a:xfrm flipV="1">
            <a:off x="3909960" y="1951200"/>
            <a:ext cx="1800" cy="64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7" name=""/>
          <p:cNvSpPr/>
          <p:nvPr/>
        </p:nvSpPr>
        <p:spPr>
          <a:xfrm flipV="1">
            <a:off x="4497480" y="1951200"/>
            <a:ext cx="1440" cy="64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8" name=""/>
          <p:cNvSpPr/>
          <p:nvPr/>
        </p:nvSpPr>
        <p:spPr>
          <a:xfrm flipV="1">
            <a:off x="5095800" y="1951200"/>
            <a:ext cx="1800" cy="64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9" name=""/>
          <p:cNvSpPr/>
          <p:nvPr/>
        </p:nvSpPr>
        <p:spPr>
          <a:xfrm flipV="1">
            <a:off x="5684760" y="1951200"/>
            <a:ext cx="1800" cy="64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0" name=""/>
          <p:cNvSpPr/>
          <p:nvPr/>
        </p:nvSpPr>
        <p:spPr>
          <a:xfrm flipV="1">
            <a:off x="6283440" y="1951200"/>
            <a:ext cx="1440" cy="64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1" name=""/>
          <p:cNvSpPr/>
          <p:nvPr/>
        </p:nvSpPr>
        <p:spPr>
          <a:xfrm flipV="1">
            <a:off x="6870600" y="1951200"/>
            <a:ext cx="1800" cy="64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2" name=""/>
          <p:cNvSpPr/>
          <p:nvPr/>
        </p:nvSpPr>
        <p:spPr>
          <a:xfrm flipV="1">
            <a:off x="2374920" y="2015640"/>
            <a:ext cx="1440" cy="3606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3" name=""/>
          <p:cNvSpPr/>
          <p:nvPr/>
        </p:nvSpPr>
        <p:spPr>
          <a:xfrm flipH="1">
            <a:off x="2309400" y="5241960"/>
            <a:ext cx="65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4" name=""/>
          <p:cNvSpPr/>
          <p:nvPr/>
        </p:nvSpPr>
        <p:spPr>
          <a:xfrm flipH="1">
            <a:off x="2309400" y="4645080"/>
            <a:ext cx="65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5" name=""/>
          <p:cNvSpPr/>
          <p:nvPr/>
        </p:nvSpPr>
        <p:spPr>
          <a:xfrm flipH="1">
            <a:off x="2309400" y="4059360"/>
            <a:ext cx="65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6" name=""/>
          <p:cNvSpPr/>
          <p:nvPr/>
        </p:nvSpPr>
        <p:spPr>
          <a:xfrm flipH="1">
            <a:off x="2309400" y="3460680"/>
            <a:ext cx="651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7" name=""/>
          <p:cNvSpPr/>
          <p:nvPr/>
        </p:nvSpPr>
        <p:spPr>
          <a:xfrm flipH="1">
            <a:off x="2309400" y="2863800"/>
            <a:ext cx="651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8" name=""/>
          <p:cNvSpPr/>
          <p:nvPr/>
        </p:nvSpPr>
        <p:spPr>
          <a:xfrm flipH="1">
            <a:off x="2309400" y="2276640"/>
            <a:ext cx="65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9" name=""/>
          <p:cNvSpPr/>
          <p:nvPr/>
        </p:nvSpPr>
        <p:spPr>
          <a:xfrm>
            <a:off x="1942200" y="5176800"/>
            <a:ext cx="3952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9425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0" name=""/>
          <p:cNvSpPr/>
          <p:nvPr/>
        </p:nvSpPr>
        <p:spPr>
          <a:xfrm>
            <a:off x="1942200" y="4579920"/>
            <a:ext cx="3952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943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1" name=""/>
          <p:cNvSpPr/>
          <p:nvPr/>
        </p:nvSpPr>
        <p:spPr>
          <a:xfrm>
            <a:off x="1942200" y="3992400"/>
            <a:ext cx="3952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9435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2" name=""/>
          <p:cNvSpPr/>
          <p:nvPr/>
        </p:nvSpPr>
        <p:spPr>
          <a:xfrm>
            <a:off x="1942200" y="3395520"/>
            <a:ext cx="3952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944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3" name=""/>
          <p:cNvSpPr/>
          <p:nvPr/>
        </p:nvSpPr>
        <p:spPr>
          <a:xfrm>
            <a:off x="1942200" y="2797200"/>
            <a:ext cx="3952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9445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4" name=""/>
          <p:cNvSpPr/>
          <p:nvPr/>
        </p:nvSpPr>
        <p:spPr>
          <a:xfrm>
            <a:off x="1942200" y="2211480"/>
            <a:ext cx="3952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945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5" name=""/>
          <p:cNvSpPr/>
          <p:nvPr/>
        </p:nvSpPr>
        <p:spPr>
          <a:xfrm rot="16200000">
            <a:off x="1787760" y="4034520"/>
            <a:ext cx="73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6" name=""/>
          <p:cNvSpPr/>
          <p:nvPr/>
        </p:nvSpPr>
        <p:spPr>
          <a:xfrm rot="16200000">
            <a:off x="1792800" y="3976560"/>
            <a:ext cx="63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7" name=""/>
          <p:cNvSpPr/>
          <p:nvPr/>
        </p:nvSpPr>
        <p:spPr>
          <a:xfrm rot="16200000">
            <a:off x="1781640" y="3898800"/>
            <a:ext cx="8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8" name=""/>
          <p:cNvSpPr/>
          <p:nvPr/>
        </p:nvSpPr>
        <p:spPr>
          <a:xfrm rot="16200000">
            <a:off x="1809720" y="3852000"/>
            <a:ext cx="295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9" name=""/>
          <p:cNvSpPr/>
          <p:nvPr/>
        </p:nvSpPr>
        <p:spPr>
          <a:xfrm rot="16200000">
            <a:off x="1787760" y="3807360"/>
            <a:ext cx="73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0" name=""/>
          <p:cNvSpPr/>
          <p:nvPr/>
        </p:nvSpPr>
        <p:spPr>
          <a:xfrm rot="16200000">
            <a:off x="1796040" y="374076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1" name=""/>
          <p:cNvSpPr/>
          <p:nvPr/>
        </p:nvSpPr>
        <p:spPr>
          <a:xfrm rot="16200000">
            <a:off x="1807560" y="3708360"/>
            <a:ext cx="342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2" name=""/>
          <p:cNvSpPr/>
          <p:nvPr/>
        </p:nvSpPr>
        <p:spPr>
          <a:xfrm rot="16200000">
            <a:off x="1809720" y="3678480"/>
            <a:ext cx="295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3" name=""/>
          <p:cNvSpPr/>
          <p:nvPr/>
        </p:nvSpPr>
        <p:spPr>
          <a:xfrm rot="16200000">
            <a:off x="1796040" y="363132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4" name=""/>
          <p:cNvSpPr/>
          <p:nvPr/>
        </p:nvSpPr>
        <p:spPr>
          <a:xfrm rot="16200000">
            <a:off x="1809720" y="3591000"/>
            <a:ext cx="295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5" name=""/>
          <p:cNvSpPr/>
          <p:nvPr/>
        </p:nvSpPr>
        <p:spPr>
          <a:xfrm rot="16200000">
            <a:off x="1807560" y="3566880"/>
            <a:ext cx="342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6" name=""/>
          <p:cNvSpPr/>
          <p:nvPr/>
        </p:nvSpPr>
        <p:spPr>
          <a:xfrm rot="16200000">
            <a:off x="1781640" y="3510000"/>
            <a:ext cx="8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7" name=""/>
          <p:cNvSpPr/>
          <p:nvPr/>
        </p:nvSpPr>
        <p:spPr>
          <a:xfrm rot="16200000">
            <a:off x="1807560" y="3458880"/>
            <a:ext cx="342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8" name=""/>
          <p:cNvSpPr/>
          <p:nvPr/>
        </p:nvSpPr>
        <p:spPr>
          <a:xfrm>
            <a:off x="2374920" y="5241960"/>
            <a:ext cx="50943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9" name=""/>
          <p:cNvSpPr/>
          <p:nvPr/>
        </p:nvSpPr>
        <p:spPr>
          <a:xfrm>
            <a:off x="2374920" y="4645080"/>
            <a:ext cx="50943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0" name=""/>
          <p:cNvSpPr/>
          <p:nvPr/>
        </p:nvSpPr>
        <p:spPr>
          <a:xfrm>
            <a:off x="2374920" y="4059360"/>
            <a:ext cx="50943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1" name=""/>
          <p:cNvSpPr/>
          <p:nvPr/>
        </p:nvSpPr>
        <p:spPr>
          <a:xfrm>
            <a:off x="2374920" y="3460680"/>
            <a:ext cx="50943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2" name=""/>
          <p:cNvSpPr/>
          <p:nvPr/>
        </p:nvSpPr>
        <p:spPr>
          <a:xfrm>
            <a:off x="2374920" y="2863800"/>
            <a:ext cx="50943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3" name=""/>
          <p:cNvSpPr/>
          <p:nvPr/>
        </p:nvSpPr>
        <p:spPr>
          <a:xfrm>
            <a:off x="2374920" y="2276640"/>
            <a:ext cx="50943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4" name=""/>
          <p:cNvSpPr/>
          <p:nvPr/>
        </p:nvSpPr>
        <p:spPr>
          <a:xfrm flipV="1">
            <a:off x="7469280" y="2015640"/>
            <a:ext cx="1440" cy="3606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5" name=""/>
          <p:cNvSpPr/>
          <p:nvPr/>
        </p:nvSpPr>
        <p:spPr>
          <a:xfrm flipH="1">
            <a:off x="7468920" y="5241960"/>
            <a:ext cx="65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6" name=""/>
          <p:cNvSpPr/>
          <p:nvPr/>
        </p:nvSpPr>
        <p:spPr>
          <a:xfrm flipH="1">
            <a:off x="7468920" y="4645080"/>
            <a:ext cx="65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7" name=""/>
          <p:cNvSpPr/>
          <p:nvPr/>
        </p:nvSpPr>
        <p:spPr>
          <a:xfrm flipH="1">
            <a:off x="7468920" y="4059360"/>
            <a:ext cx="65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8" name=""/>
          <p:cNvSpPr/>
          <p:nvPr/>
        </p:nvSpPr>
        <p:spPr>
          <a:xfrm flipH="1">
            <a:off x="7468920" y="3460680"/>
            <a:ext cx="651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9" name=""/>
          <p:cNvSpPr/>
          <p:nvPr/>
        </p:nvSpPr>
        <p:spPr>
          <a:xfrm flipH="1">
            <a:off x="7468920" y="2863800"/>
            <a:ext cx="651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0" name=""/>
          <p:cNvSpPr/>
          <p:nvPr/>
        </p:nvSpPr>
        <p:spPr>
          <a:xfrm flipH="1">
            <a:off x="7468920" y="2276640"/>
            <a:ext cx="65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1" name=""/>
          <p:cNvSpPr/>
          <p:nvPr/>
        </p:nvSpPr>
        <p:spPr>
          <a:xfrm>
            <a:off x="2354400" y="1994040"/>
            <a:ext cx="42840" cy="55440"/>
          </a:xfrm>
          <a:custGeom>
            <a:avLst/>
            <a:gdLst/>
            <a:ahLst/>
            <a:rect l="l" t="t" r="r" b="b"/>
            <a:pathLst>
              <a:path w="27" h="35">
                <a:moveTo>
                  <a:pt x="13" y="35"/>
                </a:moveTo>
                <a:lnTo>
                  <a:pt x="13" y="35"/>
                </a:lnTo>
                <a:lnTo>
                  <a:pt x="13" y="14"/>
                </a:lnTo>
                <a:lnTo>
                  <a:pt x="27" y="14"/>
                </a:lnTo>
                <a:lnTo>
                  <a:pt x="27" y="14"/>
                </a:lnTo>
                <a:lnTo>
                  <a:pt x="13" y="14"/>
                </a:lnTo>
                <a:lnTo>
                  <a:pt x="13" y="0"/>
                </a:lnTo>
                <a:lnTo>
                  <a:pt x="13" y="0"/>
                </a:lnTo>
                <a:lnTo>
                  <a:pt x="13" y="14"/>
                </a:lnTo>
                <a:lnTo>
                  <a:pt x="0" y="14"/>
                </a:lnTo>
                <a:lnTo>
                  <a:pt x="0" y="14"/>
                </a:lnTo>
                <a:lnTo>
                  <a:pt x="13" y="14"/>
                </a:lnTo>
                <a:lnTo>
                  <a:pt x="13" y="35"/>
                </a:lnTo>
                <a:close/>
              </a:path>
            </a:pathLst>
          </a:custGeom>
          <a:solidFill>
            <a:srgbClr val="ff00ff"/>
          </a:solidFill>
          <a:ln w="0">
            <a:solidFill>
              <a:srgbClr val="ff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2" name=""/>
          <p:cNvSpPr/>
          <p:nvPr/>
        </p:nvSpPr>
        <p:spPr>
          <a:xfrm>
            <a:off x="7435800" y="1994040"/>
            <a:ext cx="44640" cy="55440"/>
          </a:xfrm>
          <a:custGeom>
            <a:avLst/>
            <a:gdLst/>
            <a:ahLst/>
            <a:rect l="l" t="t" r="r" b="b"/>
            <a:pathLst>
              <a:path w="28" h="35">
                <a:moveTo>
                  <a:pt x="14" y="35"/>
                </a:moveTo>
                <a:lnTo>
                  <a:pt x="14" y="35"/>
                </a:lnTo>
                <a:lnTo>
                  <a:pt x="14" y="14"/>
                </a:lnTo>
                <a:lnTo>
                  <a:pt x="28" y="14"/>
                </a:lnTo>
                <a:lnTo>
                  <a:pt x="28" y="14"/>
                </a:lnTo>
                <a:lnTo>
                  <a:pt x="14" y="14"/>
                </a:lnTo>
                <a:lnTo>
                  <a:pt x="14" y="0"/>
                </a:lnTo>
                <a:lnTo>
                  <a:pt x="14" y="0"/>
                </a:lnTo>
                <a:lnTo>
                  <a:pt x="14" y="14"/>
                </a:lnTo>
                <a:lnTo>
                  <a:pt x="0" y="14"/>
                </a:lnTo>
                <a:lnTo>
                  <a:pt x="0" y="14"/>
                </a:lnTo>
                <a:lnTo>
                  <a:pt x="14" y="14"/>
                </a:lnTo>
                <a:lnTo>
                  <a:pt x="14" y="35"/>
                </a:lnTo>
                <a:close/>
              </a:path>
            </a:pathLst>
          </a:custGeom>
          <a:solidFill>
            <a:srgbClr val="ff00ff"/>
          </a:solidFill>
          <a:ln w="0">
            <a:solidFill>
              <a:srgbClr val="ff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3" name=""/>
          <p:cNvSpPr/>
          <p:nvPr/>
        </p:nvSpPr>
        <p:spPr>
          <a:xfrm>
            <a:off x="7435800" y="5589720"/>
            <a:ext cx="55440" cy="55440"/>
          </a:xfrm>
          <a:custGeom>
            <a:avLst/>
            <a:gdLst/>
            <a:ahLst/>
            <a:rect l="l" t="t" r="r" b="b"/>
            <a:pathLst>
              <a:path w="35" h="35">
                <a:moveTo>
                  <a:pt x="14" y="35"/>
                </a:moveTo>
                <a:lnTo>
                  <a:pt x="21" y="35"/>
                </a:lnTo>
                <a:lnTo>
                  <a:pt x="21" y="21"/>
                </a:lnTo>
                <a:lnTo>
                  <a:pt x="35" y="21"/>
                </a:lnTo>
                <a:lnTo>
                  <a:pt x="35" y="21"/>
                </a:lnTo>
                <a:lnTo>
                  <a:pt x="21" y="21"/>
                </a:lnTo>
                <a:lnTo>
                  <a:pt x="21" y="0"/>
                </a:lnTo>
                <a:lnTo>
                  <a:pt x="14" y="0"/>
                </a:lnTo>
                <a:lnTo>
                  <a:pt x="14" y="21"/>
                </a:lnTo>
                <a:lnTo>
                  <a:pt x="0" y="21"/>
                </a:lnTo>
                <a:lnTo>
                  <a:pt x="0" y="21"/>
                </a:lnTo>
                <a:lnTo>
                  <a:pt x="14" y="21"/>
                </a:lnTo>
                <a:lnTo>
                  <a:pt x="14" y="35"/>
                </a:lnTo>
                <a:close/>
              </a:path>
            </a:pathLst>
          </a:custGeom>
          <a:solidFill>
            <a:srgbClr val="ff00ff"/>
          </a:solidFill>
          <a:ln w="0">
            <a:solidFill>
              <a:srgbClr val="ff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4" name=""/>
          <p:cNvSpPr/>
          <p:nvPr/>
        </p:nvSpPr>
        <p:spPr>
          <a:xfrm>
            <a:off x="2354400" y="5589720"/>
            <a:ext cx="42840" cy="55440"/>
          </a:xfrm>
          <a:custGeom>
            <a:avLst/>
            <a:gdLst/>
            <a:ahLst/>
            <a:rect l="l" t="t" r="r" b="b"/>
            <a:pathLst>
              <a:path w="27" h="35">
                <a:moveTo>
                  <a:pt x="13" y="35"/>
                </a:moveTo>
                <a:lnTo>
                  <a:pt x="13" y="35"/>
                </a:lnTo>
                <a:lnTo>
                  <a:pt x="13" y="21"/>
                </a:lnTo>
                <a:lnTo>
                  <a:pt x="27" y="21"/>
                </a:lnTo>
                <a:lnTo>
                  <a:pt x="27" y="21"/>
                </a:lnTo>
                <a:lnTo>
                  <a:pt x="13" y="21"/>
                </a:lnTo>
                <a:lnTo>
                  <a:pt x="13" y="0"/>
                </a:lnTo>
                <a:lnTo>
                  <a:pt x="13" y="0"/>
                </a:lnTo>
                <a:lnTo>
                  <a:pt x="13" y="21"/>
                </a:lnTo>
                <a:lnTo>
                  <a:pt x="0" y="21"/>
                </a:lnTo>
                <a:lnTo>
                  <a:pt x="0" y="21"/>
                </a:lnTo>
                <a:lnTo>
                  <a:pt x="13" y="21"/>
                </a:lnTo>
                <a:lnTo>
                  <a:pt x="13" y="35"/>
                </a:lnTo>
                <a:close/>
              </a:path>
            </a:pathLst>
          </a:custGeom>
          <a:solidFill>
            <a:srgbClr val="ff00ff"/>
          </a:solidFill>
          <a:ln w="0">
            <a:solidFill>
              <a:srgbClr val="ff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5" name=""/>
          <p:cNvSpPr/>
          <p:nvPr/>
        </p:nvSpPr>
        <p:spPr>
          <a:xfrm>
            <a:off x="5608800" y="3559320"/>
            <a:ext cx="328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600" spc="-1" strike="noStrike">
                <a:solidFill>
                  <a:srgbClr val="000000"/>
                </a:solidFill>
                <a:latin typeface="Arial"/>
              </a:rPr>
              <a:t>Barauna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6" name=""/>
          <p:cNvSpPr/>
          <p:nvPr/>
        </p:nvSpPr>
        <p:spPr>
          <a:xfrm flipV="1">
            <a:off x="3029040" y="5448240"/>
            <a:ext cx="75960" cy="1526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7" name=""/>
          <p:cNvSpPr/>
          <p:nvPr/>
        </p:nvSpPr>
        <p:spPr>
          <a:xfrm flipV="1">
            <a:off x="3181320" y="5122800"/>
            <a:ext cx="87480" cy="163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8" name=""/>
          <p:cNvSpPr/>
          <p:nvPr/>
        </p:nvSpPr>
        <p:spPr>
          <a:xfrm flipV="1">
            <a:off x="3344760" y="4808520"/>
            <a:ext cx="76320" cy="162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9" name=""/>
          <p:cNvSpPr/>
          <p:nvPr/>
        </p:nvSpPr>
        <p:spPr>
          <a:xfrm flipV="1">
            <a:off x="3497400" y="4492440"/>
            <a:ext cx="75960" cy="1522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0" name=""/>
          <p:cNvSpPr/>
          <p:nvPr/>
        </p:nvSpPr>
        <p:spPr>
          <a:xfrm flipV="1">
            <a:off x="3649680" y="4167360"/>
            <a:ext cx="76320" cy="163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1" name=""/>
          <p:cNvSpPr/>
          <p:nvPr/>
        </p:nvSpPr>
        <p:spPr>
          <a:xfrm flipV="1">
            <a:off x="3811680" y="3852720"/>
            <a:ext cx="75960" cy="162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2" name=""/>
          <p:cNvSpPr/>
          <p:nvPr/>
        </p:nvSpPr>
        <p:spPr>
          <a:xfrm>
            <a:off x="3963960" y="3525840"/>
            <a:ext cx="76320" cy="163440"/>
          </a:xfrm>
          <a:custGeom>
            <a:avLst/>
            <a:gdLst/>
            <a:ahLst/>
            <a:rect l="l" t="t" r="r" b="b"/>
            <a:pathLst>
              <a:path w="48" h="103">
                <a:moveTo>
                  <a:pt x="0" y="103"/>
                </a:moveTo>
                <a:lnTo>
                  <a:pt x="35" y="28"/>
                </a:lnTo>
                <a:lnTo>
                  <a:pt x="48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3" name=""/>
          <p:cNvSpPr/>
          <p:nvPr/>
        </p:nvSpPr>
        <p:spPr>
          <a:xfrm flipV="1">
            <a:off x="4095720" y="3200400"/>
            <a:ext cx="54000" cy="163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4" name=""/>
          <p:cNvSpPr/>
          <p:nvPr/>
        </p:nvSpPr>
        <p:spPr>
          <a:xfrm flipV="1">
            <a:off x="4214880" y="2863800"/>
            <a:ext cx="54000" cy="162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5" name=""/>
          <p:cNvSpPr/>
          <p:nvPr/>
        </p:nvSpPr>
        <p:spPr>
          <a:xfrm flipV="1">
            <a:off x="4334040" y="2526840"/>
            <a:ext cx="55440" cy="1731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6" name=""/>
          <p:cNvSpPr/>
          <p:nvPr/>
        </p:nvSpPr>
        <p:spPr>
          <a:xfrm flipV="1">
            <a:off x="4454640" y="2190240"/>
            <a:ext cx="54000" cy="1731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7" name=""/>
          <p:cNvSpPr/>
          <p:nvPr/>
        </p:nvSpPr>
        <p:spPr>
          <a:xfrm flipV="1">
            <a:off x="4573440" y="1940040"/>
            <a:ext cx="33480" cy="871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8" name=""/>
          <p:cNvSpPr/>
          <p:nvPr/>
        </p:nvSpPr>
        <p:spPr>
          <a:xfrm rot="17760000">
            <a:off x="4324320" y="2155320"/>
            <a:ext cx="831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9" name=""/>
          <p:cNvSpPr/>
          <p:nvPr/>
        </p:nvSpPr>
        <p:spPr>
          <a:xfrm rot="17760000">
            <a:off x="4356000" y="2078640"/>
            <a:ext cx="77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0" name=""/>
          <p:cNvSpPr/>
          <p:nvPr/>
        </p:nvSpPr>
        <p:spPr>
          <a:xfrm rot="17280000">
            <a:off x="4575240" y="2117160"/>
            <a:ext cx="831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1" name=""/>
          <p:cNvSpPr/>
          <p:nvPr/>
        </p:nvSpPr>
        <p:spPr>
          <a:xfrm rot="17280000">
            <a:off x="4597560" y="2040840"/>
            <a:ext cx="831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2" name=""/>
          <p:cNvSpPr/>
          <p:nvPr/>
        </p:nvSpPr>
        <p:spPr>
          <a:xfrm>
            <a:off x="2451240" y="2081160"/>
            <a:ext cx="490320" cy="488880"/>
          </a:xfrm>
          <a:prstGeom prst="ellipse">
            <a:avLst/>
          </a:pr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3" name=""/>
          <p:cNvSpPr/>
          <p:nvPr/>
        </p:nvSpPr>
        <p:spPr>
          <a:xfrm>
            <a:off x="2625120" y="218916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4" name=""/>
          <p:cNvSpPr/>
          <p:nvPr/>
        </p:nvSpPr>
        <p:spPr>
          <a:xfrm>
            <a:off x="3345480" y="1363680"/>
            <a:ext cx="2782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Índice de Concentração de Poços (ICP)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65" name=""/>
          <p:cNvGrpSpPr/>
          <p:nvPr/>
        </p:nvGrpSpPr>
        <p:grpSpPr>
          <a:xfrm>
            <a:off x="8112240" y="2374920"/>
            <a:ext cx="569160" cy="2881080"/>
            <a:chOff x="8112240" y="2374920"/>
            <a:chExt cx="569160" cy="2881080"/>
          </a:xfrm>
        </p:grpSpPr>
        <p:sp>
          <p:nvSpPr>
            <p:cNvPr id="4466" name=""/>
            <p:cNvSpPr/>
            <p:nvPr/>
          </p:nvSpPr>
          <p:spPr>
            <a:xfrm>
              <a:off x="8372520" y="4633920"/>
              <a:ext cx="174600" cy="5652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7" name=""/>
            <p:cNvSpPr/>
            <p:nvPr/>
          </p:nvSpPr>
          <p:spPr>
            <a:xfrm>
              <a:off x="8372520" y="4068720"/>
              <a:ext cx="174600" cy="565200"/>
            </a:xfrm>
            <a:prstGeom prst="rect">
              <a:avLst/>
            </a:prstGeom>
            <a:solidFill>
              <a:srgbClr val="e4e42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8" name=""/>
            <p:cNvSpPr/>
            <p:nvPr/>
          </p:nvSpPr>
          <p:spPr>
            <a:xfrm>
              <a:off x="8372520" y="3505320"/>
              <a:ext cx="174600" cy="563400"/>
            </a:xfrm>
            <a:prstGeom prst="rect">
              <a:avLst/>
            </a:prstGeom>
            <a:solidFill>
              <a:srgbClr val="cccc4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9" name=""/>
            <p:cNvSpPr/>
            <p:nvPr/>
          </p:nvSpPr>
          <p:spPr>
            <a:xfrm>
              <a:off x="8372520" y="2940120"/>
              <a:ext cx="174600" cy="565200"/>
            </a:xfrm>
            <a:prstGeom prst="rect">
              <a:avLst/>
            </a:prstGeom>
            <a:solidFill>
              <a:srgbClr val="b5b56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0" name=""/>
            <p:cNvSpPr/>
            <p:nvPr/>
          </p:nvSpPr>
          <p:spPr>
            <a:xfrm>
              <a:off x="8372520" y="2374920"/>
              <a:ext cx="174600" cy="565200"/>
            </a:xfrm>
            <a:prstGeom prst="rect">
              <a:avLst/>
            </a:prstGeom>
            <a:solidFill>
              <a:srgbClr val="9e9e9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1" name=""/>
            <p:cNvSpPr/>
            <p:nvPr/>
          </p:nvSpPr>
          <p:spPr>
            <a:xfrm>
              <a:off x="8567640" y="51339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2" name=""/>
            <p:cNvSpPr/>
            <p:nvPr/>
          </p:nvSpPr>
          <p:spPr>
            <a:xfrm>
              <a:off x="8567640" y="45687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3" name=""/>
            <p:cNvSpPr/>
            <p:nvPr/>
          </p:nvSpPr>
          <p:spPr>
            <a:xfrm>
              <a:off x="8568000" y="400356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4" name=""/>
            <p:cNvSpPr/>
            <p:nvPr/>
          </p:nvSpPr>
          <p:spPr>
            <a:xfrm>
              <a:off x="8568000" y="344952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5" name=""/>
            <p:cNvSpPr/>
            <p:nvPr/>
          </p:nvSpPr>
          <p:spPr>
            <a:xfrm>
              <a:off x="8568000" y="288432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1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6" name=""/>
            <p:cNvSpPr/>
            <p:nvPr/>
          </p:nvSpPr>
          <p:spPr>
            <a:xfrm rot="16200000">
              <a:off x="8158320" y="421020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7" name=""/>
            <p:cNvSpPr/>
            <p:nvPr/>
          </p:nvSpPr>
          <p:spPr>
            <a:xfrm rot="16200000">
              <a:off x="8136360" y="4155120"/>
              <a:ext cx="73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8" name=""/>
            <p:cNvSpPr/>
            <p:nvPr/>
          </p:nvSpPr>
          <p:spPr>
            <a:xfrm rot="16200000">
              <a:off x="8138520" y="409248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9" name=""/>
            <p:cNvSpPr/>
            <p:nvPr/>
          </p:nvSpPr>
          <p:spPr>
            <a:xfrm rot="16200000">
              <a:off x="8158320" y="404820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0" name=""/>
            <p:cNvSpPr/>
            <p:nvPr/>
          </p:nvSpPr>
          <p:spPr>
            <a:xfrm rot="16200000">
              <a:off x="8141400" y="3998880"/>
              <a:ext cx="633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1" name=""/>
            <p:cNvSpPr/>
            <p:nvPr/>
          </p:nvSpPr>
          <p:spPr>
            <a:xfrm rot="16200000">
              <a:off x="8144640" y="39470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2" name=""/>
            <p:cNvSpPr/>
            <p:nvPr/>
          </p:nvSpPr>
          <p:spPr>
            <a:xfrm rot="16200000">
              <a:off x="8144640" y="38930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3" name=""/>
            <p:cNvSpPr/>
            <p:nvPr/>
          </p:nvSpPr>
          <p:spPr>
            <a:xfrm rot="16200000">
              <a:off x="8144640" y="38250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4" name=""/>
            <p:cNvSpPr/>
            <p:nvPr/>
          </p:nvSpPr>
          <p:spPr>
            <a:xfrm rot="16200000">
              <a:off x="8146800" y="377208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5" name=""/>
            <p:cNvSpPr/>
            <p:nvPr/>
          </p:nvSpPr>
          <p:spPr>
            <a:xfrm rot="16200000">
              <a:off x="8158320" y="374040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6" name=""/>
            <p:cNvSpPr/>
            <p:nvPr/>
          </p:nvSpPr>
          <p:spPr>
            <a:xfrm rot="16200000">
              <a:off x="8144640" y="36932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7" name=""/>
            <p:cNvSpPr/>
            <p:nvPr/>
          </p:nvSpPr>
          <p:spPr>
            <a:xfrm rot="16200000">
              <a:off x="8146800" y="364176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8" name=""/>
            <p:cNvSpPr/>
            <p:nvPr/>
          </p:nvSpPr>
          <p:spPr>
            <a:xfrm rot="16200000">
              <a:off x="8158320" y="361008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9" name=""/>
            <p:cNvSpPr/>
            <p:nvPr/>
          </p:nvSpPr>
          <p:spPr>
            <a:xfrm rot="16200000">
              <a:off x="8138520" y="355572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0" name=""/>
            <p:cNvSpPr/>
            <p:nvPr/>
          </p:nvSpPr>
          <p:spPr>
            <a:xfrm rot="16200000">
              <a:off x="8144640" y="34977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1" name=""/>
            <p:cNvSpPr/>
            <p:nvPr/>
          </p:nvSpPr>
          <p:spPr>
            <a:xfrm rot="16200000">
              <a:off x="8146800" y="344664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ç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2" name=""/>
            <p:cNvSpPr/>
            <p:nvPr/>
          </p:nvSpPr>
          <p:spPr>
            <a:xfrm rot="16200000">
              <a:off x="8144640" y="34009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3" name=""/>
            <p:cNvSpPr/>
            <p:nvPr/>
          </p:nvSpPr>
          <p:spPr>
            <a:xfrm rot="16200000">
              <a:off x="8146800" y="334836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94" name=""/>
          <p:cNvGrpSpPr/>
          <p:nvPr/>
        </p:nvGrpSpPr>
        <p:grpSpPr>
          <a:xfrm>
            <a:off x="958680" y="2244600"/>
            <a:ext cx="516240" cy="2901960"/>
            <a:chOff x="958680" y="2244600"/>
            <a:chExt cx="516240" cy="2901960"/>
          </a:xfrm>
        </p:grpSpPr>
        <p:sp>
          <p:nvSpPr>
            <p:cNvPr id="4495" name=""/>
            <p:cNvSpPr/>
            <p:nvPr/>
          </p:nvSpPr>
          <p:spPr>
            <a:xfrm rot="16200000">
              <a:off x="1004760" y="464580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6" name=""/>
            <p:cNvSpPr/>
            <p:nvPr/>
          </p:nvSpPr>
          <p:spPr>
            <a:xfrm rot="16200000">
              <a:off x="982800" y="4599720"/>
              <a:ext cx="73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7" name=""/>
            <p:cNvSpPr/>
            <p:nvPr/>
          </p:nvSpPr>
          <p:spPr>
            <a:xfrm rot="16200000">
              <a:off x="984960" y="452592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8" name=""/>
            <p:cNvSpPr/>
            <p:nvPr/>
          </p:nvSpPr>
          <p:spPr>
            <a:xfrm rot="16200000">
              <a:off x="1004760" y="448164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9" name=""/>
            <p:cNvSpPr/>
            <p:nvPr/>
          </p:nvSpPr>
          <p:spPr>
            <a:xfrm rot="16200000">
              <a:off x="984960" y="444024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0" name=""/>
            <p:cNvSpPr/>
            <p:nvPr/>
          </p:nvSpPr>
          <p:spPr>
            <a:xfrm rot="16200000">
              <a:off x="991080" y="43819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1" name=""/>
            <p:cNvSpPr/>
            <p:nvPr/>
          </p:nvSpPr>
          <p:spPr>
            <a:xfrm rot="16200000">
              <a:off x="993240" y="432936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ç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2" name=""/>
            <p:cNvSpPr/>
            <p:nvPr/>
          </p:nvSpPr>
          <p:spPr>
            <a:xfrm rot="16200000">
              <a:off x="991080" y="42724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3" name=""/>
            <p:cNvSpPr/>
            <p:nvPr/>
          </p:nvSpPr>
          <p:spPr>
            <a:xfrm rot="16200000">
              <a:off x="993240" y="422136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4" name=""/>
            <p:cNvSpPr/>
            <p:nvPr/>
          </p:nvSpPr>
          <p:spPr>
            <a:xfrm rot="16200000">
              <a:off x="1004760" y="418968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5" name=""/>
            <p:cNvSpPr/>
            <p:nvPr/>
          </p:nvSpPr>
          <p:spPr>
            <a:xfrm rot="16200000">
              <a:off x="984960" y="413532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6" name=""/>
            <p:cNvSpPr/>
            <p:nvPr/>
          </p:nvSpPr>
          <p:spPr>
            <a:xfrm rot="16200000">
              <a:off x="991080" y="40773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7" name=""/>
            <p:cNvSpPr/>
            <p:nvPr/>
          </p:nvSpPr>
          <p:spPr>
            <a:xfrm rot="16200000">
              <a:off x="993240" y="402660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8" name=""/>
            <p:cNvSpPr/>
            <p:nvPr/>
          </p:nvSpPr>
          <p:spPr>
            <a:xfrm rot="16200000">
              <a:off x="991080" y="39693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9" name=""/>
            <p:cNvSpPr/>
            <p:nvPr/>
          </p:nvSpPr>
          <p:spPr>
            <a:xfrm rot="16200000">
              <a:off x="993240" y="391644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0" name=""/>
            <p:cNvSpPr/>
            <p:nvPr/>
          </p:nvSpPr>
          <p:spPr>
            <a:xfrm rot="16200000">
              <a:off x="1004760" y="388476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1" name=""/>
            <p:cNvSpPr/>
            <p:nvPr/>
          </p:nvSpPr>
          <p:spPr>
            <a:xfrm rot="16200000">
              <a:off x="1004760" y="385200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2" name=""/>
            <p:cNvSpPr/>
            <p:nvPr/>
          </p:nvSpPr>
          <p:spPr>
            <a:xfrm rot="16200000">
              <a:off x="984960" y="380988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3" name=""/>
            <p:cNvSpPr/>
            <p:nvPr/>
          </p:nvSpPr>
          <p:spPr>
            <a:xfrm rot="16200000">
              <a:off x="991080" y="37519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4" name=""/>
            <p:cNvSpPr/>
            <p:nvPr/>
          </p:nvSpPr>
          <p:spPr>
            <a:xfrm rot="16200000">
              <a:off x="991080" y="36961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5" name=""/>
            <p:cNvSpPr/>
            <p:nvPr/>
          </p:nvSpPr>
          <p:spPr>
            <a:xfrm rot="16200000">
              <a:off x="991080" y="36424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6" name=""/>
            <p:cNvSpPr/>
            <p:nvPr/>
          </p:nvSpPr>
          <p:spPr>
            <a:xfrm rot="16200000">
              <a:off x="991080" y="35884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7" name=""/>
            <p:cNvSpPr/>
            <p:nvPr/>
          </p:nvSpPr>
          <p:spPr>
            <a:xfrm rot="16200000">
              <a:off x="991080" y="35344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8" name=""/>
            <p:cNvSpPr/>
            <p:nvPr/>
          </p:nvSpPr>
          <p:spPr>
            <a:xfrm rot="16200000">
              <a:off x="991080" y="34693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9" name=""/>
            <p:cNvSpPr/>
            <p:nvPr/>
          </p:nvSpPr>
          <p:spPr>
            <a:xfrm rot="16200000">
              <a:off x="991080" y="34153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0" name=""/>
            <p:cNvSpPr/>
            <p:nvPr/>
          </p:nvSpPr>
          <p:spPr>
            <a:xfrm rot="16200000">
              <a:off x="991080" y="33598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1" name=""/>
            <p:cNvSpPr/>
            <p:nvPr/>
          </p:nvSpPr>
          <p:spPr>
            <a:xfrm rot="16200000">
              <a:off x="991080" y="33058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2" name=""/>
            <p:cNvSpPr/>
            <p:nvPr/>
          </p:nvSpPr>
          <p:spPr>
            <a:xfrm rot="16200000">
              <a:off x="993240" y="325440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3" name=""/>
            <p:cNvSpPr/>
            <p:nvPr/>
          </p:nvSpPr>
          <p:spPr>
            <a:xfrm rot="16200000">
              <a:off x="1004760" y="322272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4" name=""/>
            <p:cNvSpPr/>
            <p:nvPr/>
          </p:nvSpPr>
          <p:spPr>
            <a:xfrm rot="16200000">
              <a:off x="992880" y="31755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5" name=""/>
            <p:cNvSpPr/>
            <p:nvPr/>
          </p:nvSpPr>
          <p:spPr>
            <a:xfrm rot="16200000">
              <a:off x="1008000" y="313596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6" name=""/>
            <p:cNvSpPr/>
            <p:nvPr/>
          </p:nvSpPr>
          <p:spPr>
            <a:xfrm rot="16200000">
              <a:off x="986040" y="3089880"/>
              <a:ext cx="73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7" name=""/>
            <p:cNvSpPr/>
            <p:nvPr/>
          </p:nvSpPr>
          <p:spPr>
            <a:xfrm rot="16200000">
              <a:off x="994320" y="30232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8" name=""/>
            <p:cNvSpPr/>
            <p:nvPr/>
          </p:nvSpPr>
          <p:spPr>
            <a:xfrm rot="16200000">
              <a:off x="996480" y="297252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9" name=""/>
            <p:cNvSpPr/>
            <p:nvPr/>
          </p:nvSpPr>
          <p:spPr>
            <a:xfrm rot="16200000">
              <a:off x="994320" y="29264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0" name=""/>
            <p:cNvSpPr/>
            <p:nvPr/>
          </p:nvSpPr>
          <p:spPr>
            <a:xfrm rot="16200000">
              <a:off x="1008000" y="288468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1" name=""/>
            <p:cNvSpPr/>
            <p:nvPr/>
          </p:nvSpPr>
          <p:spPr>
            <a:xfrm rot="16200000">
              <a:off x="1010880" y="2855160"/>
              <a:ext cx="23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2" name=""/>
            <p:cNvSpPr/>
            <p:nvPr/>
          </p:nvSpPr>
          <p:spPr>
            <a:xfrm rot="16200000">
              <a:off x="996480" y="281808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3" name=""/>
            <p:cNvSpPr/>
            <p:nvPr/>
          </p:nvSpPr>
          <p:spPr>
            <a:xfrm rot="16200000">
              <a:off x="994320" y="27630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4" name=""/>
            <p:cNvSpPr/>
            <p:nvPr/>
          </p:nvSpPr>
          <p:spPr>
            <a:xfrm rot="16200000">
              <a:off x="994320" y="27090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5" name=""/>
            <p:cNvSpPr/>
            <p:nvPr/>
          </p:nvSpPr>
          <p:spPr>
            <a:xfrm rot="16200000">
              <a:off x="994320" y="26550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6" name=""/>
            <p:cNvSpPr/>
            <p:nvPr/>
          </p:nvSpPr>
          <p:spPr>
            <a:xfrm rot="16200000">
              <a:off x="996480" y="260208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7" name=""/>
            <p:cNvSpPr/>
            <p:nvPr/>
          </p:nvSpPr>
          <p:spPr>
            <a:xfrm>
              <a:off x="1211400" y="4384800"/>
              <a:ext cx="183960" cy="70632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8" name=""/>
            <p:cNvSpPr/>
            <p:nvPr/>
          </p:nvSpPr>
          <p:spPr>
            <a:xfrm>
              <a:off x="1211400" y="3666960"/>
              <a:ext cx="183960" cy="7178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9" name=""/>
            <p:cNvSpPr/>
            <p:nvPr/>
          </p:nvSpPr>
          <p:spPr>
            <a:xfrm>
              <a:off x="1211400" y="2960640"/>
              <a:ext cx="183960" cy="70632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0" name=""/>
            <p:cNvSpPr/>
            <p:nvPr/>
          </p:nvSpPr>
          <p:spPr>
            <a:xfrm>
              <a:off x="1211400" y="2244600"/>
              <a:ext cx="183960" cy="716040"/>
            </a:xfrm>
            <a:prstGeom prst="rect">
              <a:avLst/>
            </a:prstGeom>
            <a:solidFill>
              <a:srgbClr val="ff0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1" name=""/>
            <p:cNvSpPr/>
            <p:nvPr/>
          </p:nvSpPr>
          <p:spPr>
            <a:xfrm>
              <a:off x="1417680" y="50245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2" name=""/>
            <p:cNvSpPr/>
            <p:nvPr/>
          </p:nvSpPr>
          <p:spPr>
            <a:xfrm>
              <a:off x="1417680" y="43178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3" name=""/>
            <p:cNvSpPr/>
            <p:nvPr/>
          </p:nvSpPr>
          <p:spPr>
            <a:xfrm>
              <a:off x="1417680" y="36021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4" name=""/>
            <p:cNvSpPr/>
            <p:nvPr/>
          </p:nvSpPr>
          <p:spPr>
            <a:xfrm>
              <a:off x="1417680" y="28954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4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4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37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37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4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4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37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37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1" dur="500"/>
                                        <p:tgtEl>
                                          <p:spTgt spid="3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6" dur="500"/>
                                        <p:tgtEl>
                                          <p:spTgt spid="3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5" name=""/>
          <p:cNvSpPr/>
          <p:nvPr/>
        </p:nvSpPr>
        <p:spPr>
          <a:xfrm>
            <a:off x="1332000" y="333360"/>
            <a:ext cx="817236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99"/>
                </a:solidFill>
                <a:latin typeface="Tahoma"/>
              </a:rPr>
              <a:t>BARAUNAS – RN</a:t>
            </a:r>
            <a:br>
              <a:rPr sz="2400"/>
            </a:br>
            <a:r>
              <a:rPr b="0" lang="pt-BR" sz="2400" spc="-1" strike="noStrike">
                <a:solidFill>
                  <a:srgbClr val="333399"/>
                </a:solidFill>
                <a:latin typeface="Tahoma"/>
              </a:rPr>
              <a:t>Aquífero Jandaíra – ICP Total e 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46" name=""/>
          <p:cNvGrpSpPr/>
          <p:nvPr/>
        </p:nvGrpSpPr>
        <p:grpSpPr>
          <a:xfrm>
            <a:off x="2149560" y="1382760"/>
            <a:ext cx="4993560" cy="5018040"/>
            <a:chOff x="2149560" y="1382760"/>
            <a:chExt cx="4993560" cy="5018040"/>
          </a:xfrm>
        </p:grpSpPr>
        <p:sp>
          <p:nvSpPr>
            <p:cNvPr id="4547" name=""/>
            <p:cNvSpPr/>
            <p:nvPr/>
          </p:nvSpPr>
          <p:spPr>
            <a:xfrm>
              <a:off x="5373000" y="5867280"/>
              <a:ext cx="17701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ICP = Número de Poços (raio = 1000 metros)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8" name=""/>
            <p:cNvSpPr/>
            <p:nvPr/>
          </p:nvSpPr>
          <p:spPr>
            <a:xfrm>
              <a:off x="5362560" y="5972040"/>
              <a:ext cx="98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9" name=""/>
            <p:cNvSpPr/>
            <p:nvPr/>
          </p:nvSpPr>
          <p:spPr>
            <a:xfrm>
              <a:off x="2295360" y="2711520"/>
              <a:ext cx="4289760" cy="2747880"/>
            </a:xfrm>
            <a:custGeom>
              <a:avLst/>
              <a:gdLst/>
              <a:ahLst/>
              <a:rect l="l" t="t" r="r" b="b"/>
              <a:pathLst>
                <a:path w="2702" h="1731">
                  <a:moveTo>
                    <a:pt x="646" y="197"/>
                  </a:moveTo>
                  <a:lnTo>
                    <a:pt x="646" y="190"/>
                  </a:lnTo>
                  <a:lnTo>
                    <a:pt x="646" y="190"/>
                  </a:lnTo>
                  <a:lnTo>
                    <a:pt x="646" y="184"/>
                  </a:lnTo>
                  <a:lnTo>
                    <a:pt x="639" y="184"/>
                  </a:lnTo>
                  <a:lnTo>
                    <a:pt x="639" y="184"/>
                  </a:lnTo>
                  <a:lnTo>
                    <a:pt x="639" y="190"/>
                  </a:lnTo>
                  <a:lnTo>
                    <a:pt x="639" y="190"/>
                  </a:lnTo>
                  <a:lnTo>
                    <a:pt x="639" y="190"/>
                  </a:lnTo>
                  <a:lnTo>
                    <a:pt x="639" y="197"/>
                  </a:lnTo>
                  <a:lnTo>
                    <a:pt x="639" y="197"/>
                  </a:lnTo>
                  <a:lnTo>
                    <a:pt x="639" y="204"/>
                  </a:lnTo>
                  <a:lnTo>
                    <a:pt x="646" y="204"/>
                  </a:lnTo>
                  <a:lnTo>
                    <a:pt x="646" y="197"/>
                  </a:lnTo>
                  <a:lnTo>
                    <a:pt x="646" y="197"/>
                  </a:lnTo>
                  <a:close/>
                  <a:moveTo>
                    <a:pt x="863" y="171"/>
                  </a:moveTo>
                  <a:lnTo>
                    <a:pt x="863" y="164"/>
                  </a:lnTo>
                  <a:lnTo>
                    <a:pt x="870" y="158"/>
                  </a:lnTo>
                  <a:lnTo>
                    <a:pt x="870" y="158"/>
                  </a:lnTo>
                  <a:lnTo>
                    <a:pt x="870" y="151"/>
                  </a:lnTo>
                  <a:lnTo>
                    <a:pt x="870" y="151"/>
                  </a:lnTo>
                  <a:lnTo>
                    <a:pt x="870" y="144"/>
                  </a:lnTo>
                  <a:lnTo>
                    <a:pt x="870" y="144"/>
                  </a:lnTo>
                  <a:lnTo>
                    <a:pt x="870" y="144"/>
                  </a:lnTo>
                  <a:lnTo>
                    <a:pt x="863" y="138"/>
                  </a:lnTo>
                  <a:lnTo>
                    <a:pt x="857" y="144"/>
                  </a:lnTo>
                  <a:lnTo>
                    <a:pt x="857" y="144"/>
                  </a:lnTo>
                  <a:lnTo>
                    <a:pt x="857" y="144"/>
                  </a:lnTo>
                  <a:lnTo>
                    <a:pt x="857" y="151"/>
                  </a:lnTo>
                  <a:lnTo>
                    <a:pt x="857" y="151"/>
                  </a:lnTo>
                  <a:lnTo>
                    <a:pt x="857" y="158"/>
                  </a:lnTo>
                  <a:lnTo>
                    <a:pt x="857" y="158"/>
                  </a:lnTo>
                  <a:lnTo>
                    <a:pt x="863" y="164"/>
                  </a:lnTo>
                  <a:lnTo>
                    <a:pt x="863" y="171"/>
                  </a:lnTo>
                  <a:lnTo>
                    <a:pt x="863" y="171"/>
                  </a:lnTo>
                  <a:lnTo>
                    <a:pt x="863" y="171"/>
                  </a:lnTo>
                  <a:close/>
                  <a:moveTo>
                    <a:pt x="672" y="138"/>
                  </a:moveTo>
                  <a:lnTo>
                    <a:pt x="672" y="138"/>
                  </a:lnTo>
                  <a:lnTo>
                    <a:pt x="672" y="131"/>
                  </a:lnTo>
                  <a:lnTo>
                    <a:pt x="672" y="131"/>
                  </a:lnTo>
                  <a:lnTo>
                    <a:pt x="672" y="125"/>
                  </a:lnTo>
                  <a:lnTo>
                    <a:pt x="672" y="118"/>
                  </a:lnTo>
                  <a:lnTo>
                    <a:pt x="672" y="118"/>
                  </a:lnTo>
                  <a:lnTo>
                    <a:pt x="672" y="111"/>
                  </a:lnTo>
                  <a:lnTo>
                    <a:pt x="672" y="105"/>
                  </a:lnTo>
                  <a:lnTo>
                    <a:pt x="665" y="111"/>
                  </a:lnTo>
                  <a:lnTo>
                    <a:pt x="665" y="118"/>
                  </a:lnTo>
                  <a:lnTo>
                    <a:pt x="665" y="118"/>
                  </a:lnTo>
                  <a:lnTo>
                    <a:pt x="659" y="125"/>
                  </a:lnTo>
                  <a:lnTo>
                    <a:pt x="659" y="131"/>
                  </a:lnTo>
                  <a:lnTo>
                    <a:pt x="659" y="131"/>
                  </a:lnTo>
                  <a:lnTo>
                    <a:pt x="659" y="138"/>
                  </a:lnTo>
                  <a:lnTo>
                    <a:pt x="665" y="144"/>
                  </a:lnTo>
                  <a:lnTo>
                    <a:pt x="665" y="144"/>
                  </a:lnTo>
                  <a:lnTo>
                    <a:pt x="672" y="151"/>
                  </a:lnTo>
                  <a:lnTo>
                    <a:pt x="672" y="144"/>
                  </a:lnTo>
                  <a:lnTo>
                    <a:pt x="672" y="138"/>
                  </a:lnTo>
                  <a:close/>
                  <a:moveTo>
                    <a:pt x="698" y="85"/>
                  </a:moveTo>
                  <a:lnTo>
                    <a:pt x="698" y="79"/>
                  </a:lnTo>
                  <a:lnTo>
                    <a:pt x="705" y="72"/>
                  </a:lnTo>
                  <a:lnTo>
                    <a:pt x="705" y="72"/>
                  </a:lnTo>
                  <a:lnTo>
                    <a:pt x="705" y="65"/>
                  </a:lnTo>
                  <a:lnTo>
                    <a:pt x="705" y="59"/>
                  </a:lnTo>
                  <a:lnTo>
                    <a:pt x="705" y="59"/>
                  </a:lnTo>
                  <a:lnTo>
                    <a:pt x="698" y="52"/>
                  </a:lnTo>
                  <a:lnTo>
                    <a:pt x="698" y="52"/>
                  </a:lnTo>
                  <a:lnTo>
                    <a:pt x="692" y="52"/>
                  </a:lnTo>
                  <a:lnTo>
                    <a:pt x="679" y="52"/>
                  </a:lnTo>
                  <a:lnTo>
                    <a:pt x="672" y="52"/>
                  </a:lnTo>
                  <a:lnTo>
                    <a:pt x="672" y="59"/>
                  </a:lnTo>
                  <a:lnTo>
                    <a:pt x="672" y="59"/>
                  </a:lnTo>
                  <a:lnTo>
                    <a:pt x="672" y="65"/>
                  </a:lnTo>
                  <a:lnTo>
                    <a:pt x="672" y="72"/>
                  </a:lnTo>
                  <a:lnTo>
                    <a:pt x="679" y="72"/>
                  </a:lnTo>
                  <a:lnTo>
                    <a:pt x="685" y="79"/>
                  </a:lnTo>
                  <a:lnTo>
                    <a:pt x="692" y="85"/>
                  </a:lnTo>
                  <a:lnTo>
                    <a:pt x="698" y="85"/>
                  </a:lnTo>
                  <a:lnTo>
                    <a:pt x="698" y="85"/>
                  </a:lnTo>
                  <a:close/>
                  <a:moveTo>
                    <a:pt x="672" y="26"/>
                  </a:moveTo>
                  <a:lnTo>
                    <a:pt x="672" y="19"/>
                  </a:lnTo>
                  <a:lnTo>
                    <a:pt x="672" y="13"/>
                  </a:lnTo>
                  <a:lnTo>
                    <a:pt x="672" y="13"/>
                  </a:lnTo>
                  <a:lnTo>
                    <a:pt x="665" y="19"/>
                  </a:lnTo>
                  <a:lnTo>
                    <a:pt x="665" y="26"/>
                  </a:lnTo>
                  <a:lnTo>
                    <a:pt x="665" y="32"/>
                  </a:lnTo>
                  <a:lnTo>
                    <a:pt x="665" y="39"/>
                  </a:lnTo>
                  <a:lnTo>
                    <a:pt x="665" y="46"/>
                  </a:lnTo>
                  <a:lnTo>
                    <a:pt x="665" y="52"/>
                  </a:lnTo>
                  <a:lnTo>
                    <a:pt x="672" y="52"/>
                  </a:lnTo>
                  <a:lnTo>
                    <a:pt x="672" y="52"/>
                  </a:lnTo>
                  <a:lnTo>
                    <a:pt x="672" y="46"/>
                  </a:lnTo>
                  <a:lnTo>
                    <a:pt x="672" y="39"/>
                  </a:lnTo>
                  <a:lnTo>
                    <a:pt x="672" y="26"/>
                  </a:lnTo>
                  <a:close/>
                  <a:moveTo>
                    <a:pt x="1239" y="1731"/>
                  </a:moveTo>
                  <a:lnTo>
                    <a:pt x="1239" y="1731"/>
                  </a:lnTo>
                  <a:lnTo>
                    <a:pt x="1245" y="1724"/>
                  </a:lnTo>
                  <a:lnTo>
                    <a:pt x="1252" y="1718"/>
                  </a:lnTo>
                  <a:lnTo>
                    <a:pt x="1252" y="1711"/>
                  </a:lnTo>
                  <a:lnTo>
                    <a:pt x="1258" y="1711"/>
                  </a:lnTo>
                  <a:lnTo>
                    <a:pt x="1265" y="1705"/>
                  </a:lnTo>
                  <a:lnTo>
                    <a:pt x="1265" y="1698"/>
                  </a:lnTo>
                  <a:lnTo>
                    <a:pt x="1272" y="1692"/>
                  </a:lnTo>
                  <a:lnTo>
                    <a:pt x="1272" y="1685"/>
                  </a:lnTo>
                  <a:lnTo>
                    <a:pt x="1278" y="1685"/>
                  </a:lnTo>
                  <a:lnTo>
                    <a:pt x="1285" y="1678"/>
                  </a:lnTo>
                  <a:lnTo>
                    <a:pt x="1291" y="1678"/>
                  </a:lnTo>
                  <a:lnTo>
                    <a:pt x="1298" y="1678"/>
                  </a:lnTo>
                  <a:lnTo>
                    <a:pt x="1305" y="1672"/>
                  </a:lnTo>
                  <a:lnTo>
                    <a:pt x="1305" y="1665"/>
                  </a:lnTo>
                  <a:lnTo>
                    <a:pt x="1311" y="1659"/>
                  </a:lnTo>
                  <a:lnTo>
                    <a:pt x="1318" y="1659"/>
                  </a:lnTo>
                  <a:lnTo>
                    <a:pt x="1324" y="1665"/>
                  </a:lnTo>
                  <a:lnTo>
                    <a:pt x="1331" y="1672"/>
                  </a:lnTo>
                  <a:lnTo>
                    <a:pt x="1331" y="1678"/>
                  </a:lnTo>
                  <a:lnTo>
                    <a:pt x="1331" y="1678"/>
                  </a:lnTo>
                  <a:lnTo>
                    <a:pt x="1318" y="1685"/>
                  </a:lnTo>
                  <a:lnTo>
                    <a:pt x="1311" y="1685"/>
                  </a:lnTo>
                  <a:lnTo>
                    <a:pt x="1305" y="1692"/>
                  </a:lnTo>
                  <a:lnTo>
                    <a:pt x="1305" y="1692"/>
                  </a:lnTo>
                  <a:lnTo>
                    <a:pt x="1305" y="1698"/>
                  </a:lnTo>
                  <a:lnTo>
                    <a:pt x="1305" y="1705"/>
                  </a:lnTo>
                  <a:lnTo>
                    <a:pt x="1305" y="1711"/>
                  </a:lnTo>
                  <a:lnTo>
                    <a:pt x="1305" y="1718"/>
                  </a:lnTo>
                  <a:lnTo>
                    <a:pt x="1305" y="1724"/>
                  </a:lnTo>
                  <a:lnTo>
                    <a:pt x="1311" y="1731"/>
                  </a:lnTo>
                  <a:lnTo>
                    <a:pt x="1311" y="1731"/>
                  </a:lnTo>
                  <a:lnTo>
                    <a:pt x="1338" y="1731"/>
                  </a:lnTo>
                  <a:lnTo>
                    <a:pt x="1364" y="1731"/>
                  </a:lnTo>
                  <a:lnTo>
                    <a:pt x="1397" y="1731"/>
                  </a:lnTo>
                  <a:lnTo>
                    <a:pt x="1423" y="1731"/>
                  </a:lnTo>
                  <a:lnTo>
                    <a:pt x="1450" y="1731"/>
                  </a:lnTo>
                  <a:lnTo>
                    <a:pt x="1476" y="1731"/>
                  </a:lnTo>
                  <a:lnTo>
                    <a:pt x="1502" y="1731"/>
                  </a:lnTo>
                  <a:lnTo>
                    <a:pt x="1535" y="1731"/>
                  </a:lnTo>
                  <a:lnTo>
                    <a:pt x="1562" y="1731"/>
                  </a:lnTo>
                  <a:lnTo>
                    <a:pt x="1588" y="1731"/>
                  </a:lnTo>
                  <a:lnTo>
                    <a:pt x="1614" y="1731"/>
                  </a:lnTo>
                  <a:lnTo>
                    <a:pt x="1647" y="1731"/>
                  </a:lnTo>
                  <a:lnTo>
                    <a:pt x="1674" y="1731"/>
                  </a:lnTo>
                  <a:lnTo>
                    <a:pt x="1700" y="1731"/>
                  </a:lnTo>
                  <a:lnTo>
                    <a:pt x="1726" y="1731"/>
                  </a:lnTo>
                  <a:lnTo>
                    <a:pt x="1753" y="1731"/>
                  </a:lnTo>
                  <a:lnTo>
                    <a:pt x="1786" y="1731"/>
                  </a:lnTo>
                  <a:lnTo>
                    <a:pt x="1812" y="1731"/>
                  </a:lnTo>
                  <a:lnTo>
                    <a:pt x="1838" y="1731"/>
                  </a:lnTo>
                  <a:lnTo>
                    <a:pt x="1865" y="1731"/>
                  </a:lnTo>
                  <a:lnTo>
                    <a:pt x="1898" y="1731"/>
                  </a:lnTo>
                  <a:lnTo>
                    <a:pt x="1924" y="1731"/>
                  </a:lnTo>
                  <a:lnTo>
                    <a:pt x="1950" y="1731"/>
                  </a:lnTo>
                  <a:lnTo>
                    <a:pt x="1977" y="1731"/>
                  </a:lnTo>
                  <a:lnTo>
                    <a:pt x="2003" y="1731"/>
                  </a:lnTo>
                  <a:lnTo>
                    <a:pt x="2036" y="1731"/>
                  </a:lnTo>
                  <a:lnTo>
                    <a:pt x="2062" y="1731"/>
                  </a:lnTo>
                  <a:lnTo>
                    <a:pt x="2089" y="1731"/>
                  </a:lnTo>
                  <a:lnTo>
                    <a:pt x="2115" y="1731"/>
                  </a:lnTo>
                  <a:lnTo>
                    <a:pt x="2148" y="1731"/>
                  </a:lnTo>
                  <a:lnTo>
                    <a:pt x="2174" y="1731"/>
                  </a:lnTo>
                  <a:lnTo>
                    <a:pt x="2201" y="1731"/>
                  </a:lnTo>
                  <a:lnTo>
                    <a:pt x="2227" y="1731"/>
                  </a:lnTo>
                  <a:lnTo>
                    <a:pt x="2253" y="1731"/>
                  </a:lnTo>
                  <a:lnTo>
                    <a:pt x="2286" y="1731"/>
                  </a:lnTo>
                  <a:lnTo>
                    <a:pt x="2313" y="1731"/>
                  </a:lnTo>
                  <a:lnTo>
                    <a:pt x="2339" y="1731"/>
                  </a:lnTo>
                  <a:lnTo>
                    <a:pt x="2365" y="1705"/>
                  </a:lnTo>
                  <a:lnTo>
                    <a:pt x="2398" y="1705"/>
                  </a:lnTo>
                  <a:lnTo>
                    <a:pt x="2425" y="1705"/>
                  </a:lnTo>
                  <a:lnTo>
                    <a:pt x="2451" y="1705"/>
                  </a:lnTo>
                  <a:lnTo>
                    <a:pt x="2477" y="1705"/>
                  </a:lnTo>
                  <a:lnTo>
                    <a:pt x="2510" y="1705"/>
                  </a:lnTo>
                  <a:lnTo>
                    <a:pt x="2537" y="1705"/>
                  </a:lnTo>
                  <a:lnTo>
                    <a:pt x="2563" y="1678"/>
                  </a:lnTo>
                  <a:lnTo>
                    <a:pt x="2563" y="1652"/>
                  </a:lnTo>
                  <a:lnTo>
                    <a:pt x="2563" y="1619"/>
                  </a:lnTo>
                  <a:lnTo>
                    <a:pt x="2563" y="1593"/>
                  </a:lnTo>
                  <a:lnTo>
                    <a:pt x="2590" y="1566"/>
                  </a:lnTo>
                  <a:lnTo>
                    <a:pt x="2590" y="1540"/>
                  </a:lnTo>
                  <a:lnTo>
                    <a:pt x="2590" y="1507"/>
                  </a:lnTo>
                  <a:lnTo>
                    <a:pt x="2590" y="1481"/>
                  </a:lnTo>
                  <a:lnTo>
                    <a:pt x="2616" y="1455"/>
                  </a:lnTo>
                  <a:lnTo>
                    <a:pt x="2616" y="1428"/>
                  </a:lnTo>
                  <a:lnTo>
                    <a:pt x="2616" y="1395"/>
                  </a:lnTo>
                  <a:lnTo>
                    <a:pt x="2616" y="1369"/>
                  </a:lnTo>
                  <a:lnTo>
                    <a:pt x="2649" y="1343"/>
                  </a:lnTo>
                  <a:lnTo>
                    <a:pt x="2649" y="1316"/>
                  </a:lnTo>
                  <a:lnTo>
                    <a:pt x="2649" y="1283"/>
                  </a:lnTo>
                  <a:lnTo>
                    <a:pt x="2649" y="1257"/>
                  </a:lnTo>
                  <a:lnTo>
                    <a:pt x="2675" y="1231"/>
                  </a:lnTo>
                  <a:lnTo>
                    <a:pt x="2675" y="1204"/>
                  </a:lnTo>
                  <a:lnTo>
                    <a:pt x="2675" y="1171"/>
                  </a:lnTo>
                  <a:lnTo>
                    <a:pt x="2675" y="1145"/>
                  </a:lnTo>
                  <a:lnTo>
                    <a:pt x="2702" y="1119"/>
                  </a:lnTo>
                  <a:lnTo>
                    <a:pt x="2702" y="1092"/>
                  </a:lnTo>
                  <a:lnTo>
                    <a:pt x="2702" y="1060"/>
                  </a:lnTo>
                  <a:lnTo>
                    <a:pt x="2702" y="1033"/>
                  </a:lnTo>
                  <a:lnTo>
                    <a:pt x="2702" y="1007"/>
                  </a:lnTo>
                  <a:lnTo>
                    <a:pt x="2702" y="981"/>
                  </a:lnTo>
                  <a:lnTo>
                    <a:pt x="2702" y="948"/>
                  </a:lnTo>
                  <a:lnTo>
                    <a:pt x="2702" y="921"/>
                  </a:lnTo>
                  <a:lnTo>
                    <a:pt x="2702" y="895"/>
                  </a:lnTo>
                  <a:lnTo>
                    <a:pt x="2702" y="869"/>
                  </a:lnTo>
                  <a:lnTo>
                    <a:pt x="2702" y="842"/>
                  </a:lnTo>
                  <a:lnTo>
                    <a:pt x="2702" y="809"/>
                  </a:lnTo>
                  <a:lnTo>
                    <a:pt x="2702" y="783"/>
                  </a:lnTo>
                  <a:lnTo>
                    <a:pt x="2702" y="757"/>
                  </a:lnTo>
                  <a:lnTo>
                    <a:pt x="2702" y="730"/>
                  </a:lnTo>
                  <a:lnTo>
                    <a:pt x="2702" y="697"/>
                  </a:lnTo>
                  <a:lnTo>
                    <a:pt x="2702" y="671"/>
                  </a:lnTo>
                  <a:lnTo>
                    <a:pt x="2702" y="645"/>
                  </a:lnTo>
                  <a:lnTo>
                    <a:pt x="2702" y="618"/>
                  </a:lnTo>
                  <a:lnTo>
                    <a:pt x="2702" y="585"/>
                  </a:lnTo>
                  <a:lnTo>
                    <a:pt x="2702" y="559"/>
                  </a:lnTo>
                  <a:lnTo>
                    <a:pt x="2702" y="533"/>
                  </a:lnTo>
                  <a:lnTo>
                    <a:pt x="2702" y="506"/>
                  </a:lnTo>
                  <a:lnTo>
                    <a:pt x="2702" y="474"/>
                  </a:lnTo>
                  <a:lnTo>
                    <a:pt x="2702" y="447"/>
                  </a:lnTo>
                  <a:lnTo>
                    <a:pt x="2702" y="421"/>
                  </a:lnTo>
                  <a:lnTo>
                    <a:pt x="2702" y="395"/>
                  </a:lnTo>
                  <a:lnTo>
                    <a:pt x="2702" y="362"/>
                  </a:lnTo>
                  <a:lnTo>
                    <a:pt x="2702" y="335"/>
                  </a:lnTo>
                  <a:lnTo>
                    <a:pt x="2702" y="309"/>
                  </a:lnTo>
                  <a:lnTo>
                    <a:pt x="2702" y="283"/>
                  </a:lnTo>
                  <a:lnTo>
                    <a:pt x="2702" y="250"/>
                  </a:lnTo>
                  <a:lnTo>
                    <a:pt x="2675" y="223"/>
                  </a:lnTo>
                  <a:lnTo>
                    <a:pt x="2675" y="197"/>
                  </a:lnTo>
                  <a:lnTo>
                    <a:pt x="2675" y="171"/>
                  </a:lnTo>
                  <a:lnTo>
                    <a:pt x="2675" y="158"/>
                  </a:lnTo>
                  <a:lnTo>
                    <a:pt x="2669" y="158"/>
                  </a:lnTo>
                  <a:lnTo>
                    <a:pt x="2662" y="164"/>
                  </a:lnTo>
                  <a:lnTo>
                    <a:pt x="2662" y="171"/>
                  </a:lnTo>
                  <a:lnTo>
                    <a:pt x="2655" y="177"/>
                  </a:lnTo>
                  <a:lnTo>
                    <a:pt x="2662" y="184"/>
                  </a:lnTo>
                  <a:lnTo>
                    <a:pt x="2662" y="190"/>
                  </a:lnTo>
                  <a:lnTo>
                    <a:pt x="2662" y="197"/>
                  </a:lnTo>
                  <a:lnTo>
                    <a:pt x="2669" y="204"/>
                  </a:lnTo>
                  <a:lnTo>
                    <a:pt x="2669" y="210"/>
                  </a:lnTo>
                  <a:lnTo>
                    <a:pt x="2669" y="210"/>
                  </a:lnTo>
                  <a:lnTo>
                    <a:pt x="2669" y="217"/>
                  </a:lnTo>
                  <a:lnTo>
                    <a:pt x="2669" y="223"/>
                  </a:lnTo>
                  <a:lnTo>
                    <a:pt x="2662" y="230"/>
                  </a:lnTo>
                  <a:lnTo>
                    <a:pt x="2662" y="237"/>
                  </a:lnTo>
                  <a:lnTo>
                    <a:pt x="2655" y="237"/>
                  </a:lnTo>
                  <a:lnTo>
                    <a:pt x="2649" y="243"/>
                  </a:lnTo>
                  <a:lnTo>
                    <a:pt x="2642" y="250"/>
                  </a:lnTo>
                  <a:lnTo>
                    <a:pt x="2629" y="250"/>
                  </a:lnTo>
                  <a:lnTo>
                    <a:pt x="2622" y="256"/>
                  </a:lnTo>
                  <a:lnTo>
                    <a:pt x="2622" y="263"/>
                  </a:lnTo>
                  <a:lnTo>
                    <a:pt x="2616" y="269"/>
                  </a:lnTo>
                  <a:lnTo>
                    <a:pt x="2616" y="269"/>
                  </a:lnTo>
                  <a:lnTo>
                    <a:pt x="2616" y="276"/>
                  </a:lnTo>
                  <a:lnTo>
                    <a:pt x="2609" y="283"/>
                  </a:lnTo>
                  <a:lnTo>
                    <a:pt x="2609" y="289"/>
                  </a:lnTo>
                  <a:lnTo>
                    <a:pt x="2603" y="296"/>
                  </a:lnTo>
                  <a:lnTo>
                    <a:pt x="2596" y="296"/>
                  </a:lnTo>
                  <a:lnTo>
                    <a:pt x="2590" y="302"/>
                  </a:lnTo>
                  <a:lnTo>
                    <a:pt x="2590" y="309"/>
                  </a:lnTo>
                  <a:lnTo>
                    <a:pt x="2583" y="316"/>
                  </a:lnTo>
                  <a:lnTo>
                    <a:pt x="2583" y="322"/>
                  </a:lnTo>
                  <a:lnTo>
                    <a:pt x="2583" y="329"/>
                  </a:lnTo>
                  <a:lnTo>
                    <a:pt x="2590" y="335"/>
                  </a:lnTo>
                  <a:lnTo>
                    <a:pt x="2596" y="335"/>
                  </a:lnTo>
                  <a:lnTo>
                    <a:pt x="2590" y="342"/>
                  </a:lnTo>
                  <a:lnTo>
                    <a:pt x="2590" y="335"/>
                  </a:lnTo>
                  <a:lnTo>
                    <a:pt x="2583" y="329"/>
                  </a:lnTo>
                  <a:lnTo>
                    <a:pt x="2576" y="329"/>
                  </a:lnTo>
                  <a:lnTo>
                    <a:pt x="2563" y="329"/>
                  </a:lnTo>
                  <a:lnTo>
                    <a:pt x="2550" y="335"/>
                  </a:lnTo>
                  <a:lnTo>
                    <a:pt x="2543" y="335"/>
                  </a:lnTo>
                  <a:lnTo>
                    <a:pt x="2537" y="335"/>
                  </a:lnTo>
                  <a:lnTo>
                    <a:pt x="2537" y="342"/>
                  </a:lnTo>
                  <a:lnTo>
                    <a:pt x="2537" y="348"/>
                  </a:lnTo>
                  <a:lnTo>
                    <a:pt x="2537" y="355"/>
                  </a:lnTo>
                  <a:lnTo>
                    <a:pt x="2543" y="362"/>
                  </a:lnTo>
                  <a:lnTo>
                    <a:pt x="2550" y="368"/>
                  </a:lnTo>
                  <a:lnTo>
                    <a:pt x="2563" y="368"/>
                  </a:lnTo>
                  <a:lnTo>
                    <a:pt x="2570" y="368"/>
                  </a:lnTo>
                  <a:lnTo>
                    <a:pt x="2576" y="375"/>
                  </a:lnTo>
                  <a:lnTo>
                    <a:pt x="2576" y="381"/>
                  </a:lnTo>
                  <a:lnTo>
                    <a:pt x="2583" y="388"/>
                  </a:lnTo>
                  <a:lnTo>
                    <a:pt x="2583" y="395"/>
                  </a:lnTo>
                  <a:lnTo>
                    <a:pt x="2583" y="401"/>
                  </a:lnTo>
                  <a:lnTo>
                    <a:pt x="2576" y="401"/>
                  </a:lnTo>
                  <a:lnTo>
                    <a:pt x="2570" y="408"/>
                  </a:lnTo>
                  <a:lnTo>
                    <a:pt x="2563" y="414"/>
                  </a:lnTo>
                  <a:lnTo>
                    <a:pt x="2557" y="421"/>
                  </a:lnTo>
                  <a:lnTo>
                    <a:pt x="2557" y="421"/>
                  </a:lnTo>
                  <a:lnTo>
                    <a:pt x="2550" y="427"/>
                  </a:lnTo>
                  <a:lnTo>
                    <a:pt x="2550" y="434"/>
                  </a:lnTo>
                  <a:lnTo>
                    <a:pt x="2543" y="441"/>
                  </a:lnTo>
                  <a:lnTo>
                    <a:pt x="2543" y="447"/>
                  </a:lnTo>
                  <a:lnTo>
                    <a:pt x="2543" y="454"/>
                  </a:lnTo>
                  <a:lnTo>
                    <a:pt x="2537" y="460"/>
                  </a:lnTo>
                  <a:lnTo>
                    <a:pt x="2537" y="460"/>
                  </a:lnTo>
                  <a:lnTo>
                    <a:pt x="2537" y="467"/>
                  </a:lnTo>
                  <a:lnTo>
                    <a:pt x="2537" y="474"/>
                  </a:lnTo>
                  <a:lnTo>
                    <a:pt x="2530" y="480"/>
                  </a:lnTo>
                  <a:lnTo>
                    <a:pt x="2530" y="487"/>
                  </a:lnTo>
                  <a:lnTo>
                    <a:pt x="2530" y="493"/>
                  </a:lnTo>
                  <a:lnTo>
                    <a:pt x="2524" y="500"/>
                  </a:lnTo>
                  <a:lnTo>
                    <a:pt x="2524" y="506"/>
                  </a:lnTo>
                  <a:lnTo>
                    <a:pt x="2517" y="506"/>
                  </a:lnTo>
                  <a:lnTo>
                    <a:pt x="2517" y="513"/>
                  </a:lnTo>
                  <a:lnTo>
                    <a:pt x="2517" y="520"/>
                  </a:lnTo>
                  <a:lnTo>
                    <a:pt x="2517" y="526"/>
                  </a:lnTo>
                  <a:lnTo>
                    <a:pt x="2517" y="533"/>
                  </a:lnTo>
                  <a:lnTo>
                    <a:pt x="2517" y="539"/>
                  </a:lnTo>
                  <a:lnTo>
                    <a:pt x="2510" y="546"/>
                  </a:lnTo>
                  <a:lnTo>
                    <a:pt x="2510" y="553"/>
                  </a:lnTo>
                  <a:lnTo>
                    <a:pt x="2510" y="559"/>
                  </a:lnTo>
                  <a:lnTo>
                    <a:pt x="2504" y="566"/>
                  </a:lnTo>
                  <a:lnTo>
                    <a:pt x="2504" y="566"/>
                  </a:lnTo>
                  <a:lnTo>
                    <a:pt x="2504" y="572"/>
                  </a:lnTo>
                  <a:lnTo>
                    <a:pt x="2504" y="579"/>
                  </a:lnTo>
                  <a:lnTo>
                    <a:pt x="2504" y="585"/>
                  </a:lnTo>
                  <a:lnTo>
                    <a:pt x="2510" y="592"/>
                  </a:lnTo>
                  <a:lnTo>
                    <a:pt x="2517" y="599"/>
                  </a:lnTo>
                  <a:lnTo>
                    <a:pt x="2524" y="599"/>
                  </a:lnTo>
                  <a:lnTo>
                    <a:pt x="2524" y="605"/>
                  </a:lnTo>
                  <a:lnTo>
                    <a:pt x="2530" y="612"/>
                  </a:lnTo>
                  <a:lnTo>
                    <a:pt x="2530" y="618"/>
                  </a:lnTo>
                  <a:lnTo>
                    <a:pt x="2524" y="625"/>
                  </a:lnTo>
                  <a:lnTo>
                    <a:pt x="2524" y="632"/>
                  </a:lnTo>
                  <a:lnTo>
                    <a:pt x="2517" y="638"/>
                  </a:lnTo>
                  <a:lnTo>
                    <a:pt x="2517" y="645"/>
                  </a:lnTo>
                  <a:lnTo>
                    <a:pt x="2524" y="645"/>
                  </a:lnTo>
                  <a:lnTo>
                    <a:pt x="2530" y="651"/>
                  </a:lnTo>
                  <a:lnTo>
                    <a:pt x="2537" y="651"/>
                  </a:lnTo>
                  <a:lnTo>
                    <a:pt x="2543" y="658"/>
                  </a:lnTo>
                  <a:lnTo>
                    <a:pt x="2550" y="664"/>
                  </a:lnTo>
                  <a:lnTo>
                    <a:pt x="2550" y="671"/>
                  </a:lnTo>
                  <a:lnTo>
                    <a:pt x="2550" y="678"/>
                  </a:lnTo>
                  <a:lnTo>
                    <a:pt x="2550" y="684"/>
                  </a:lnTo>
                  <a:lnTo>
                    <a:pt x="2543" y="691"/>
                  </a:lnTo>
                  <a:lnTo>
                    <a:pt x="2537" y="697"/>
                  </a:lnTo>
                  <a:lnTo>
                    <a:pt x="2530" y="697"/>
                  </a:lnTo>
                  <a:lnTo>
                    <a:pt x="2524" y="691"/>
                  </a:lnTo>
                  <a:lnTo>
                    <a:pt x="2517" y="684"/>
                  </a:lnTo>
                  <a:lnTo>
                    <a:pt x="2510" y="684"/>
                  </a:lnTo>
                  <a:lnTo>
                    <a:pt x="2504" y="684"/>
                  </a:lnTo>
                  <a:lnTo>
                    <a:pt x="2504" y="684"/>
                  </a:lnTo>
                  <a:lnTo>
                    <a:pt x="2497" y="691"/>
                  </a:lnTo>
                  <a:lnTo>
                    <a:pt x="2497" y="704"/>
                  </a:lnTo>
                  <a:lnTo>
                    <a:pt x="2491" y="711"/>
                  </a:lnTo>
                  <a:lnTo>
                    <a:pt x="2484" y="711"/>
                  </a:lnTo>
                  <a:lnTo>
                    <a:pt x="2477" y="711"/>
                  </a:lnTo>
                  <a:lnTo>
                    <a:pt x="2471" y="711"/>
                  </a:lnTo>
                  <a:lnTo>
                    <a:pt x="2471" y="704"/>
                  </a:lnTo>
                  <a:lnTo>
                    <a:pt x="2464" y="697"/>
                  </a:lnTo>
                  <a:lnTo>
                    <a:pt x="2458" y="691"/>
                  </a:lnTo>
                  <a:lnTo>
                    <a:pt x="2451" y="684"/>
                  </a:lnTo>
                  <a:lnTo>
                    <a:pt x="2451" y="684"/>
                  </a:lnTo>
                  <a:lnTo>
                    <a:pt x="2451" y="678"/>
                  </a:lnTo>
                  <a:lnTo>
                    <a:pt x="2445" y="671"/>
                  </a:lnTo>
                  <a:lnTo>
                    <a:pt x="2445" y="664"/>
                  </a:lnTo>
                  <a:lnTo>
                    <a:pt x="2445" y="658"/>
                  </a:lnTo>
                  <a:lnTo>
                    <a:pt x="2445" y="651"/>
                  </a:lnTo>
                  <a:lnTo>
                    <a:pt x="2445" y="645"/>
                  </a:lnTo>
                  <a:lnTo>
                    <a:pt x="2445" y="638"/>
                  </a:lnTo>
                  <a:lnTo>
                    <a:pt x="2438" y="632"/>
                  </a:lnTo>
                  <a:lnTo>
                    <a:pt x="2438" y="625"/>
                  </a:lnTo>
                  <a:lnTo>
                    <a:pt x="2431" y="618"/>
                  </a:lnTo>
                  <a:lnTo>
                    <a:pt x="2425" y="618"/>
                  </a:lnTo>
                  <a:lnTo>
                    <a:pt x="2418" y="618"/>
                  </a:lnTo>
                  <a:lnTo>
                    <a:pt x="2412" y="625"/>
                  </a:lnTo>
                  <a:lnTo>
                    <a:pt x="2412" y="632"/>
                  </a:lnTo>
                  <a:lnTo>
                    <a:pt x="2405" y="638"/>
                  </a:lnTo>
                  <a:lnTo>
                    <a:pt x="2398" y="645"/>
                  </a:lnTo>
                  <a:lnTo>
                    <a:pt x="2398" y="651"/>
                  </a:lnTo>
                  <a:lnTo>
                    <a:pt x="2392" y="651"/>
                  </a:lnTo>
                  <a:lnTo>
                    <a:pt x="2385" y="658"/>
                  </a:lnTo>
                  <a:lnTo>
                    <a:pt x="2379" y="664"/>
                  </a:lnTo>
                  <a:lnTo>
                    <a:pt x="2372" y="671"/>
                  </a:lnTo>
                  <a:lnTo>
                    <a:pt x="2372" y="671"/>
                  </a:lnTo>
                  <a:lnTo>
                    <a:pt x="2365" y="678"/>
                  </a:lnTo>
                  <a:lnTo>
                    <a:pt x="2359" y="684"/>
                  </a:lnTo>
                  <a:lnTo>
                    <a:pt x="2352" y="691"/>
                  </a:lnTo>
                  <a:lnTo>
                    <a:pt x="2346" y="691"/>
                  </a:lnTo>
                  <a:lnTo>
                    <a:pt x="2346" y="697"/>
                  </a:lnTo>
                  <a:lnTo>
                    <a:pt x="2339" y="704"/>
                  </a:lnTo>
                  <a:lnTo>
                    <a:pt x="2333" y="711"/>
                  </a:lnTo>
                  <a:lnTo>
                    <a:pt x="2326" y="711"/>
                  </a:lnTo>
                  <a:lnTo>
                    <a:pt x="2319" y="717"/>
                  </a:lnTo>
                  <a:lnTo>
                    <a:pt x="2313" y="717"/>
                  </a:lnTo>
                  <a:lnTo>
                    <a:pt x="2306" y="724"/>
                  </a:lnTo>
                  <a:lnTo>
                    <a:pt x="2300" y="730"/>
                  </a:lnTo>
                  <a:lnTo>
                    <a:pt x="2293" y="730"/>
                  </a:lnTo>
                  <a:lnTo>
                    <a:pt x="2286" y="737"/>
                  </a:lnTo>
                  <a:lnTo>
                    <a:pt x="2286" y="744"/>
                  </a:lnTo>
                  <a:lnTo>
                    <a:pt x="2280" y="750"/>
                  </a:lnTo>
                  <a:lnTo>
                    <a:pt x="2273" y="750"/>
                  </a:lnTo>
                  <a:lnTo>
                    <a:pt x="2267" y="757"/>
                  </a:lnTo>
                  <a:lnTo>
                    <a:pt x="2260" y="757"/>
                  </a:lnTo>
                  <a:lnTo>
                    <a:pt x="2253" y="763"/>
                  </a:lnTo>
                  <a:lnTo>
                    <a:pt x="2247" y="770"/>
                  </a:lnTo>
                  <a:lnTo>
                    <a:pt x="2240" y="776"/>
                  </a:lnTo>
                  <a:lnTo>
                    <a:pt x="2234" y="776"/>
                  </a:lnTo>
                  <a:lnTo>
                    <a:pt x="2234" y="783"/>
                  </a:lnTo>
                  <a:lnTo>
                    <a:pt x="2234" y="790"/>
                  </a:lnTo>
                  <a:lnTo>
                    <a:pt x="2234" y="796"/>
                  </a:lnTo>
                  <a:lnTo>
                    <a:pt x="2234" y="803"/>
                  </a:lnTo>
                  <a:lnTo>
                    <a:pt x="2227" y="809"/>
                  </a:lnTo>
                  <a:lnTo>
                    <a:pt x="2227" y="816"/>
                  </a:lnTo>
                  <a:lnTo>
                    <a:pt x="2227" y="823"/>
                  </a:lnTo>
                  <a:lnTo>
                    <a:pt x="2227" y="829"/>
                  </a:lnTo>
                  <a:lnTo>
                    <a:pt x="2227" y="836"/>
                  </a:lnTo>
                  <a:lnTo>
                    <a:pt x="2227" y="836"/>
                  </a:lnTo>
                  <a:lnTo>
                    <a:pt x="2227" y="842"/>
                  </a:lnTo>
                  <a:lnTo>
                    <a:pt x="2221" y="849"/>
                  </a:lnTo>
                  <a:lnTo>
                    <a:pt x="2221" y="855"/>
                  </a:lnTo>
                  <a:lnTo>
                    <a:pt x="2221" y="862"/>
                  </a:lnTo>
                  <a:lnTo>
                    <a:pt x="2221" y="869"/>
                  </a:lnTo>
                  <a:lnTo>
                    <a:pt x="2221" y="875"/>
                  </a:lnTo>
                  <a:lnTo>
                    <a:pt x="2221" y="882"/>
                  </a:lnTo>
                  <a:lnTo>
                    <a:pt x="2221" y="888"/>
                  </a:lnTo>
                  <a:lnTo>
                    <a:pt x="2221" y="895"/>
                  </a:lnTo>
                  <a:lnTo>
                    <a:pt x="2214" y="902"/>
                  </a:lnTo>
                  <a:lnTo>
                    <a:pt x="2214" y="902"/>
                  </a:lnTo>
                  <a:lnTo>
                    <a:pt x="2214" y="908"/>
                  </a:lnTo>
                  <a:lnTo>
                    <a:pt x="2214" y="915"/>
                  </a:lnTo>
                  <a:lnTo>
                    <a:pt x="2207" y="921"/>
                  </a:lnTo>
                  <a:lnTo>
                    <a:pt x="2207" y="928"/>
                  </a:lnTo>
                  <a:lnTo>
                    <a:pt x="2207" y="934"/>
                  </a:lnTo>
                  <a:lnTo>
                    <a:pt x="2207" y="941"/>
                  </a:lnTo>
                  <a:lnTo>
                    <a:pt x="2214" y="948"/>
                  </a:lnTo>
                  <a:lnTo>
                    <a:pt x="2214" y="954"/>
                  </a:lnTo>
                  <a:lnTo>
                    <a:pt x="2207" y="961"/>
                  </a:lnTo>
                  <a:lnTo>
                    <a:pt x="2207" y="961"/>
                  </a:lnTo>
                  <a:lnTo>
                    <a:pt x="2207" y="967"/>
                  </a:lnTo>
                  <a:lnTo>
                    <a:pt x="2207" y="974"/>
                  </a:lnTo>
                  <a:lnTo>
                    <a:pt x="2214" y="981"/>
                  </a:lnTo>
                  <a:lnTo>
                    <a:pt x="2214" y="987"/>
                  </a:lnTo>
                  <a:lnTo>
                    <a:pt x="2221" y="994"/>
                  </a:lnTo>
                  <a:lnTo>
                    <a:pt x="2221" y="1000"/>
                  </a:lnTo>
                  <a:lnTo>
                    <a:pt x="2227" y="1007"/>
                  </a:lnTo>
                  <a:lnTo>
                    <a:pt x="2227" y="1007"/>
                  </a:lnTo>
                  <a:lnTo>
                    <a:pt x="2227" y="1013"/>
                  </a:lnTo>
                  <a:lnTo>
                    <a:pt x="2227" y="1020"/>
                  </a:lnTo>
                  <a:lnTo>
                    <a:pt x="2227" y="1027"/>
                  </a:lnTo>
                  <a:lnTo>
                    <a:pt x="2221" y="1033"/>
                  </a:lnTo>
                  <a:lnTo>
                    <a:pt x="2214" y="1040"/>
                  </a:lnTo>
                  <a:lnTo>
                    <a:pt x="2201" y="1040"/>
                  </a:lnTo>
                  <a:lnTo>
                    <a:pt x="2194" y="1040"/>
                  </a:lnTo>
                  <a:lnTo>
                    <a:pt x="2188" y="1040"/>
                  </a:lnTo>
                  <a:lnTo>
                    <a:pt x="2174" y="1040"/>
                  </a:lnTo>
                  <a:lnTo>
                    <a:pt x="2168" y="1040"/>
                  </a:lnTo>
                  <a:lnTo>
                    <a:pt x="2155" y="1040"/>
                  </a:lnTo>
                  <a:lnTo>
                    <a:pt x="2148" y="1040"/>
                  </a:lnTo>
                  <a:lnTo>
                    <a:pt x="2141" y="1040"/>
                  </a:lnTo>
                  <a:lnTo>
                    <a:pt x="2128" y="1040"/>
                  </a:lnTo>
                  <a:lnTo>
                    <a:pt x="2122" y="1040"/>
                  </a:lnTo>
                  <a:lnTo>
                    <a:pt x="2115" y="1040"/>
                  </a:lnTo>
                  <a:lnTo>
                    <a:pt x="2102" y="1040"/>
                  </a:lnTo>
                  <a:lnTo>
                    <a:pt x="2095" y="1046"/>
                  </a:lnTo>
                  <a:lnTo>
                    <a:pt x="2089" y="1046"/>
                  </a:lnTo>
                  <a:lnTo>
                    <a:pt x="2082" y="1053"/>
                  </a:lnTo>
                  <a:lnTo>
                    <a:pt x="2076" y="1053"/>
                  </a:lnTo>
                  <a:lnTo>
                    <a:pt x="2069" y="1060"/>
                  </a:lnTo>
                  <a:lnTo>
                    <a:pt x="2062" y="1066"/>
                  </a:lnTo>
                  <a:lnTo>
                    <a:pt x="2056" y="1066"/>
                  </a:lnTo>
                  <a:lnTo>
                    <a:pt x="2056" y="1073"/>
                  </a:lnTo>
                  <a:lnTo>
                    <a:pt x="2056" y="1079"/>
                  </a:lnTo>
                  <a:lnTo>
                    <a:pt x="2056" y="1086"/>
                  </a:lnTo>
                  <a:lnTo>
                    <a:pt x="2056" y="1092"/>
                  </a:lnTo>
                  <a:lnTo>
                    <a:pt x="2049" y="1099"/>
                  </a:lnTo>
                  <a:lnTo>
                    <a:pt x="2043" y="1099"/>
                  </a:lnTo>
                  <a:lnTo>
                    <a:pt x="2036" y="1106"/>
                  </a:lnTo>
                  <a:lnTo>
                    <a:pt x="2023" y="1106"/>
                  </a:lnTo>
                  <a:lnTo>
                    <a:pt x="2016" y="1112"/>
                  </a:lnTo>
                  <a:lnTo>
                    <a:pt x="2010" y="1112"/>
                  </a:lnTo>
                  <a:lnTo>
                    <a:pt x="1996" y="1112"/>
                  </a:lnTo>
                  <a:lnTo>
                    <a:pt x="1990" y="1119"/>
                  </a:lnTo>
                  <a:lnTo>
                    <a:pt x="1990" y="1119"/>
                  </a:lnTo>
                  <a:lnTo>
                    <a:pt x="1990" y="1125"/>
                  </a:lnTo>
                  <a:lnTo>
                    <a:pt x="1990" y="1132"/>
                  </a:lnTo>
                  <a:lnTo>
                    <a:pt x="1990" y="1139"/>
                  </a:lnTo>
                  <a:lnTo>
                    <a:pt x="1990" y="1145"/>
                  </a:lnTo>
                  <a:lnTo>
                    <a:pt x="1983" y="1152"/>
                  </a:lnTo>
                  <a:lnTo>
                    <a:pt x="1977" y="1152"/>
                  </a:lnTo>
                  <a:lnTo>
                    <a:pt x="1970" y="1158"/>
                  </a:lnTo>
                  <a:lnTo>
                    <a:pt x="1957" y="1158"/>
                  </a:lnTo>
                  <a:lnTo>
                    <a:pt x="1950" y="1165"/>
                  </a:lnTo>
                  <a:lnTo>
                    <a:pt x="1944" y="1165"/>
                  </a:lnTo>
                  <a:lnTo>
                    <a:pt x="1937" y="1165"/>
                  </a:lnTo>
                  <a:lnTo>
                    <a:pt x="1924" y="1171"/>
                  </a:lnTo>
                  <a:lnTo>
                    <a:pt x="1917" y="1171"/>
                  </a:lnTo>
                  <a:lnTo>
                    <a:pt x="1917" y="1178"/>
                  </a:lnTo>
                  <a:lnTo>
                    <a:pt x="1931" y="1178"/>
                  </a:lnTo>
                  <a:lnTo>
                    <a:pt x="1937" y="1185"/>
                  </a:lnTo>
                  <a:lnTo>
                    <a:pt x="1944" y="1185"/>
                  </a:lnTo>
                  <a:lnTo>
                    <a:pt x="1950" y="1191"/>
                  </a:lnTo>
                  <a:lnTo>
                    <a:pt x="1957" y="1198"/>
                  </a:lnTo>
                  <a:lnTo>
                    <a:pt x="1964" y="1198"/>
                  </a:lnTo>
                  <a:lnTo>
                    <a:pt x="1964" y="1204"/>
                  </a:lnTo>
                  <a:lnTo>
                    <a:pt x="1970" y="1211"/>
                  </a:lnTo>
                  <a:lnTo>
                    <a:pt x="1970" y="1218"/>
                  </a:lnTo>
                  <a:lnTo>
                    <a:pt x="1970" y="1224"/>
                  </a:lnTo>
                  <a:lnTo>
                    <a:pt x="1977" y="1231"/>
                  </a:lnTo>
                  <a:lnTo>
                    <a:pt x="1977" y="1237"/>
                  </a:lnTo>
                  <a:lnTo>
                    <a:pt x="1983" y="1237"/>
                  </a:lnTo>
                  <a:lnTo>
                    <a:pt x="1990" y="1244"/>
                  </a:lnTo>
                  <a:lnTo>
                    <a:pt x="1990" y="1250"/>
                  </a:lnTo>
                  <a:lnTo>
                    <a:pt x="1996" y="1257"/>
                  </a:lnTo>
                  <a:lnTo>
                    <a:pt x="1990" y="1264"/>
                  </a:lnTo>
                  <a:lnTo>
                    <a:pt x="1983" y="1270"/>
                  </a:lnTo>
                  <a:lnTo>
                    <a:pt x="1977" y="1270"/>
                  </a:lnTo>
                  <a:lnTo>
                    <a:pt x="1970" y="1264"/>
                  </a:lnTo>
                  <a:lnTo>
                    <a:pt x="1964" y="1257"/>
                  </a:lnTo>
                  <a:lnTo>
                    <a:pt x="1957" y="1257"/>
                  </a:lnTo>
                  <a:lnTo>
                    <a:pt x="1950" y="1250"/>
                  </a:lnTo>
                  <a:lnTo>
                    <a:pt x="1944" y="1250"/>
                  </a:lnTo>
                  <a:lnTo>
                    <a:pt x="1931" y="1257"/>
                  </a:lnTo>
                  <a:lnTo>
                    <a:pt x="1924" y="1257"/>
                  </a:lnTo>
                  <a:lnTo>
                    <a:pt x="1917" y="1264"/>
                  </a:lnTo>
                  <a:lnTo>
                    <a:pt x="1911" y="1264"/>
                  </a:lnTo>
                  <a:lnTo>
                    <a:pt x="1904" y="1270"/>
                  </a:lnTo>
                  <a:lnTo>
                    <a:pt x="1898" y="1277"/>
                  </a:lnTo>
                  <a:lnTo>
                    <a:pt x="1891" y="1277"/>
                  </a:lnTo>
                  <a:lnTo>
                    <a:pt x="1884" y="1283"/>
                  </a:lnTo>
                  <a:lnTo>
                    <a:pt x="1878" y="1283"/>
                  </a:lnTo>
                  <a:lnTo>
                    <a:pt x="1865" y="1283"/>
                  </a:lnTo>
                  <a:lnTo>
                    <a:pt x="1858" y="1277"/>
                  </a:lnTo>
                  <a:lnTo>
                    <a:pt x="1845" y="1277"/>
                  </a:lnTo>
                  <a:lnTo>
                    <a:pt x="1838" y="1283"/>
                  </a:lnTo>
                  <a:lnTo>
                    <a:pt x="1832" y="1290"/>
                  </a:lnTo>
                  <a:lnTo>
                    <a:pt x="1825" y="1290"/>
                  </a:lnTo>
                  <a:lnTo>
                    <a:pt x="1825" y="1297"/>
                  </a:lnTo>
                  <a:lnTo>
                    <a:pt x="1819" y="1303"/>
                  </a:lnTo>
                  <a:lnTo>
                    <a:pt x="1812" y="1310"/>
                  </a:lnTo>
                  <a:lnTo>
                    <a:pt x="1805" y="1310"/>
                  </a:lnTo>
                  <a:lnTo>
                    <a:pt x="1805" y="1316"/>
                  </a:lnTo>
                  <a:lnTo>
                    <a:pt x="1792" y="1323"/>
                  </a:lnTo>
                  <a:lnTo>
                    <a:pt x="1786" y="1323"/>
                  </a:lnTo>
                  <a:lnTo>
                    <a:pt x="1779" y="1323"/>
                  </a:lnTo>
                  <a:lnTo>
                    <a:pt x="1766" y="1323"/>
                  </a:lnTo>
                  <a:lnTo>
                    <a:pt x="1759" y="1316"/>
                  </a:lnTo>
                  <a:lnTo>
                    <a:pt x="1753" y="1316"/>
                  </a:lnTo>
                  <a:lnTo>
                    <a:pt x="1746" y="1310"/>
                  </a:lnTo>
                  <a:lnTo>
                    <a:pt x="1739" y="1310"/>
                  </a:lnTo>
                  <a:lnTo>
                    <a:pt x="1733" y="1303"/>
                  </a:lnTo>
                  <a:lnTo>
                    <a:pt x="1726" y="1297"/>
                  </a:lnTo>
                  <a:lnTo>
                    <a:pt x="1720" y="1297"/>
                  </a:lnTo>
                  <a:lnTo>
                    <a:pt x="1713" y="1290"/>
                  </a:lnTo>
                  <a:lnTo>
                    <a:pt x="1707" y="1283"/>
                  </a:lnTo>
                  <a:lnTo>
                    <a:pt x="1707" y="1277"/>
                  </a:lnTo>
                  <a:lnTo>
                    <a:pt x="1700" y="1277"/>
                  </a:lnTo>
                  <a:lnTo>
                    <a:pt x="1687" y="1277"/>
                  </a:lnTo>
                  <a:lnTo>
                    <a:pt x="1680" y="1283"/>
                  </a:lnTo>
                  <a:lnTo>
                    <a:pt x="1674" y="1283"/>
                  </a:lnTo>
                  <a:lnTo>
                    <a:pt x="1667" y="1283"/>
                  </a:lnTo>
                  <a:lnTo>
                    <a:pt x="1667" y="1277"/>
                  </a:lnTo>
                  <a:lnTo>
                    <a:pt x="1660" y="1270"/>
                  </a:lnTo>
                  <a:lnTo>
                    <a:pt x="1660" y="1257"/>
                  </a:lnTo>
                  <a:lnTo>
                    <a:pt x="1660" y="1250"/>
                  </a:lnTo>
                  <a:lnTo>
                    <a:pt x="1654" y="1250"/>
                  </a:lnTo>
                  <a:lnTo>
                    <a:pt x="1647" y="1244"/>
                  </a:lnTo>
                  <a:lnTo>
                    <a:pt x="1641" y="1244"/>
                  </a:lnTo>
                  <a:lnTo>
                    <a:pt x="1627" y="1237"/>
                  </a:lnTo>
                  <a:lnTo>
                    <a:pt x="1621" y="1237"/>
                  </a:lnTo>
                  <a:lnTo>
                    <a:pt x="1614" y="1237"/>
                  </a:lnTo>
                  <a:lnTo>
                    <a:pt x="1608" y="1244"/>
                  </a:lnTo>
                  <a:lnTo>
                    <a:pt x="1601" y="1244"/>
                  </a:lnTo>
                  <a:lnTo>
                    <a:pt x="1595" y="1250"/>
                  </a:lnTo>
                  <a:lnTo>
                    <a:pt x="1588" y="1257"/>
                  </a:lnTo>
                  <a:lnTo>
                    <a:pt x="1581" y="1264"/>
                  </a:lnTo>
                  <a:lnTo>
                    <a:pt x="1581" y="1257"/>
                  </a:lnTo>
                  <a:lnTo>
                    <a:pt x="1588" y="1257"/>
                  </a:lnTo>
                  <a:lnTo>
                    <a:pt x="1601" y="1257"/>
                  </a:lnTo>
                  <a:lnTo>
                    <a:pt x="1608" y="1250"/>
                  </a:lnTo>
                  <a:lnTo>
                    <a:pt x="1614" y="1244"/>
                  </a:lnTo>
                  <a:lnTo>
                    <a:pt x="1614" y="1237"/>
                  </a:lnTo>
                  <a:lnTo>
                    <a:pt x="1614" y="1231"/>
                  </a:lnTo>
                  <a:lnTo>
                    <a:pt x="1608" y="1224"/>
                  </a:lnTo>
                  <a:lnTo>
                    <a:pt x="1608" y="1218"/>
                  </a:lnTo>
                  <a:lnTo>
                    <a:pt x="1601" y="1218"/>
                  </a:lnTo>
                  <a:lnTo>
                    <a:pt x="1595" y="1211"/>
                  </a:lnTo>
                  <a:lnTo>
                    <a:pt x="1588" y="1204"/>
                  </a:lnTo>
                  <a:lnTo>
                    <a:pt x="1581" y="1198"/>
                  </a:lnTo>
                  <a:lnTo>
                    <a:pt x="1581" y="1198"/>
                  </a:lnTo>
                  <a:lnTo>
                    <a:pt x="1575" y="1191"/>
                  </a:lnTo>
                  <a:lnTo>
                    <a:pt x="1575" y="1185"/>
                  </a:lnTo>
                  <a:lnTo>
                    <a:pt x="1568" y="1178"/>
                  </a:lnTo>
                  <a:lnTo>
                    <a:pt x="1568" y="1171"/>
                  </a:lnTo>
                  <a:lnTo>
                    <a:pt x="1562" y="1171"/>
                  </a:lnTo>
                  <a:lnTo>
                    <a:pt x="1555" y="1165"/>
                  </a:lnTo>
                  <a:lnTo>
                    <a:pt x="1555" y="1158"/>
                  </a:lnTo>
                  <a:lnTo>
                    <a:pt x="1548" y="1152"/>
                  </a:lnTo>
                  <a:lnTo>
                    <a:pt x="1548" y="1145"/>
                  </a:lnTo>
                  <a:lnTo>
                    <a:pt x="1542" y="1139"/>
                  </a:lnTo>
                  <a:lnTo>
                    <a:pt x="1542" y="1132"/>
                  </a:lnTo>
                  <a:lnTo>
                    <a:pt x="1535" y="1125"/>
                  </a:lnTo>
                  <a:lnTo>
                    <a:pt x="1535" y="1125"/>
                  </a:lnTo>
                  <a:lnTo>
                    <a:pt x="1529" y="1125"/>
                  </a:lnTo>
                  <a:lnTo>
                    <a:pt x="1522" y="1132"/>
                  </a:lnTo>
                  <a:lnTo>
                    <a:pt x="1515" y="1139"/>
                  </a:lnTo>
                  <a:lnTo>
                    <a:pt x="1509" y="1145"/>
                  </a:lnTo>
                  <a:lnTo>
                    <a:pt x="1509" y="1152"/>
                  </a:lnTo>
                  <a:lnTo>
                    <a:pt x="1509" y="1158"/>
                  </a:lnTo>
                  <a:lnTo>
                    <a:pt x="1509" y="1158"/>
                  </a:lnTo>
                  <a:lnTo>
                    <a:pt x="1515" y="1165"/>
                  </a:lnTo>
                  <a:lnTo>
                    <a:pt x="1515" y="1171"/>
                  </a:lnTo>
                  <a:lnTo>
                    <a:pt x="1522" y="1178"/>
                  </a:lnTo>
                  <a:lnTo>
                    <a:pt x="1522" y="1185"/>
                  </a:lnTo>
                  <a:lnTo>
                    <a:pt x="1522" y="1191"/>
                  </a:lnTo>
                  <a:lnTo>
                    <a:pt x="1522" y="1198"/>
                  </a:lnTo>
                  <a:lnTo>
                    <a:pt x="1529" y="1204"/>
                  </a:lnTo>
                  <a:lnTo>
                    <a:pt x="1529" y="1204"/>
                  </a:lnTo>
                  <a:lnTo>
                    <a:pt x="1535" y="1211"/>
                  </a:lnTo>
                  <a:lnTo>
                    <a:pt x="1542" y="1218"/>
                  </a:lnTo>
                  <a:lnTo>
                    <a:pt x="1542" y="1224"/>
                  </a:lnTo>
                  <a:lnTo>
                    <a:pt x="1542" y="1231"/>
                  </a:lnTo>
                  <a:lnTo>
                    <a:pt x="1542" y="1237"/>
                  </a:lnTo>
                  <a:lnTo>
                    <a:pt x="1542" y="1244"/>
                  </a:lnTo>
                  <a:lnTo>
                    <a:pt x="1542" y="1250"/>
                  </a:lnTo>
                  <a:lnTo>
                    <a:pt x="1535" y="1250"/>
                  </a:lnTo>
                  <a:lnTo>
                    <a:pt x="1529" y="1250"/>
                  </a:lnTo>
                  <a:lnTo>
                    <a:pt x="1522" y="1250"/>
                  </a:lnTo>
                  <a:lnTo>
                    <a:pt x="1515" y="1244"/>
                  </a:lnTo>
                  <a:lnTo>
                    <a:pt x="1509" y="1237"/>
                  </a:lnTo>
                  <a:lnTo>
                    <a:pt x="1502" y="1231"/>
                  </a:lnTo>
                  <a:lnTo>
                    <a:pt x="1496" y="1231"/>
                  </a:lnTo>
                  <a:lnTo>
                    <a:pt x="1489" y="1231"/>
                  </a:lnTo>
                  <a:lnTo>
                    <a:pt x="1476" y="1231"/>
                  </a:lnTo>
                  <a:lnTo>
                    <a:pt x="1469" y="1231"/>
                  </a:lnTo>
                  <a:lnTo>
                    <a:pt x="1469" y="1237"/>
                  </a:lnTo>
                  <a:lnTo>
                    <a:pt x="1469" y="1244"/>
                  </a:lnTo>
                  <a:lnTo>
                    <a:pt x="1469" y="1250"/>
                  </a:lnTo>
                  <a:lnTo>
                    <a:pt x="1469" y="1257"/>
                  </a:lnTo>
                  <a:lnTo>
                    <a:pt x="1469" y="1264"/>
                  </a:lnTo>
                  <a:lnTo>
                    <a:pt x="1469" y="1270"/>
                  </a:lnTo>
                  <a:lnTo>
                    <a:pt x="1469" y="1277"/>
                  </a:lnTo>
                  <a:lnTo>
                    <a:pt x="1463" y="1283"/>
                  </a:lnTo>
                  <a:lnTo>
                    <a:pt x="1469" y="1290"/>
                  </a:lnTo>
                  <a:lnTo>
                    <a:pt x="1476" y="1290"/>
                  </a:lnTo>
                  <a:lnTo>
                    <a:pt x="1482" y="1290"/>
                  </a:lnTo>
                  <a:lnTo>
                    <a:pt x="1489" y="1283"/>
                  </a:lnTo>
                  <a:lnTo>
                    <a:pt x="1496" y="1283"/>
                  </a:lnTo>
                  <a:lnTo>
                    <a:pt x="1502" y="1283"/>
                  </a:lnTo>
                  <a:lnTo>
                    <a:pt x="1515" y="1277"/>
                  </a:lnTo>
                  <a:lnTo>
                    <a:pt x="1522" y="1277"/>
                  </a:lnTo>
                  <a:lnTo>
                    <a:pt x="1529" y="1277"/>
                  </a:lnTo>
                  <a:lnTo>
                    <a:pt x="1535" y="1283"/>
                  </a:lnTo>
                  <a:lnTo>
                    <a:pt x="1542" y="1290"/>
                  </a:lnTo>
                  <a:lnTo>
                    <a:pt x="1542" y="1297"/>
                  </a:lnTo>
                  <a:lnTo>
                    <a:pt x="1548" y="1303"/>
                  </a:lnTo>
                  <a:lnTo>
                    <a:pt x="1548" y="1303"/>
                  </a:lnTo>
                  <a:lnTo>
                    <a:pt x="1555" y="1310"/>
                  </a:lnTo>
                  <a:lnTo>
                    <a:pt x="1562" y="1316"/>
                  </a:lnTo>
                  <a:lnTo>
                    <a:pt x="1562" y="1323"/>
                  </a:lnTo>
                  <a:lnTo>
                    <a:pt x="1568" y="1329"/>
                  </a:lnTo>
                  <a:lnTo>
                    <a:pt x="1575" y="1329"/>
                  </a:lnTo>
                  <a:lnTo>
                    <a:pt x="1575" y="1336"/>
                  </a:lnTo>
                  <a:lnTo>
                    <a:pt x="1581" y="1343"/>
                  </a:lnTo>
                  <a:lnTo>
                    <a:pt x="1581" y="1349"/>
                  </a:lnTo>
                  <a:lnTo>
                    <a:pt x="1588" y="1356"/>
                  </a:lnTo>
                  <a:lnTo>
                    <a:pt x="1595" y="1356"/>
                  </a:lnTo>
                  <a:lnTo>
                    <a:pt x="1595" y="1362"/>
                  </a:lnTo>
                  <a:lnTo>
                    <a:pt x="1601" y="1369"/>
                  </a:lnTo>
                  <a:lnTo>
                    <a:pt x="1601" y="1376"/>
                  </a:lnTo>
                  <a:lnTo>
                    <a:pt x="1608" y="1382"/>
                  </a:lnTo>
                  <a:lnTo>
                    <a:pt x="1614" y="1389"/>
                  </a:lnTo>
                  <a:lnTo>
                    <a:pt x="1614" y="1389"/>
                  </a:lnTo>
                  <a:lnTo>
                    <a:pt x="1621" y="1395"/>
                  </a:lnTo>
                  <a:lnTo>
                    <a:pt x="1621" y="1402"/>
                  </a:lnTo>
                  <a:lnTo>
                    <a:pt x="1627" y="1408"/>
                  </a:lnTo>
                  <a:lnTo>
                    <a:pt x="1634" y="1415"/>
                  </a:lnTo>
                  <a:lnTo>
                    <a:pt x="1634" y="1415"/>
                  </a:lnTo>
                  <a:lnTo>
                    <a:pt x="1641" y="1422"/>
                  </a:lnTo>
                  <a:lnTo>
                    <a:pt x="1647" y="1428"/>
                  </a:lnTo>
                  <a:lnTo>
                    <a:pt x="1654" y="1435"/>
                  </a:lnTo>
                  <a:lnTo>
                    <a:pt x="1654" y="1441"/>
                  </a:lnTo>
                  <a:lnTo>
                    <a:pt x="1660" y="1448"/>
                  </a:lnTo>
                  <a:lnTo>
                    <a:pt x="1667" y="1448"/>
                  </a:lnTo>
                  <a:lnTo>
                    <a:pt x="1674" y="1455"/>
                  </a:lnTo>
                  <a:lnTo>
                    <a:pt x="1680" y="1448"/>
                  </a:lnTo>
                  <a:lnTo>
                    <a:pt x="1680" y="1448"/>
                  </a:lnTo>
                  <a:lnTo>
                    <a:pt x="1687" y="1441"/>
                  </a:lnTo>
                  <a:lnTo>
                    <a:pt x="1693" y="1435"/>
                  </a:lnTo>
                  <a:lnTo>
                    <a:pt x="1693" y="1428"/>
                  </a:lnTo>
                  <a:lnTo>
                    <a:pt x="1700" y="1422"/>
                  </a:lnTo>
                  <a:lnTo>
                    <a:pt x="1707" y="1415"/>
                  </a:lnTo>
                  <a:lnTo>
                    <a:pt x="1713" y="1415"/>
                  </a:lnTo>
                  <a:lnTo>
                    <a:pt x="1726" y="1415"/>
                  </a:lnTo>
                  <a:lnTo>
                    <a:pt x="1733" y="1415"/>
                  </a:lnTo>
                  <a:lnTo>
                    <a:pt x="1739" y="1415"/>
                  </a:lnTo>
                  <a:lnTo>
                    <a:pt x="1746" y="1422"/>
                  </a:lnTo>
                  <a:lnTo>
                    <a:pt x="1753" y="1428"/>
                  </a:lnTo>
                  <a:lnTo>
                    <a:pt x="1753" y="1428"/>
                  </a:lnTo>
                  <a:lnTo>
                    <a:pt x="1746" y="1435"/>
                  </a:lnTo>
                  <a:lnTo>
                    <a:pt x="1733" y="1435"/>
                  </a:lnTo>
                  <a:lnTo>
                    <a:pt x="1726" y="1435"/>
                  </a:lnTo>
                  <a:lnTo>
                    <a:pt x="1713" y="1435"/>
                  </a:lnTo>
                  <a:lnTo>
                    <a:pt x="1707" y="1435"/>
                  </a:lnTo>
                  <a:lnTo>
                    <a:pt x="1700" y="1435"/>
                  </a:lnTo>
                  <a:lnTo>
                    <a:pt x="1693" y="1441"/>
                  </a:lnTo>
                  <a:lnTo>
                    <a:pt x="1687" y="1441"/>
                  </a:lnTo>
                  <a:lnTo>
                    <a:pt x="1680" y="1448"/>
                  </a:lnTo>
                  <a:lnTo>
                    <a:pt x="1674" y="1455"/>
                  </a:lnTo>
                  <a:lnTo>
                    <a:pt x="1667" y="1461"/>
                  </a:lnTo>
                  <a:lnTo>
                    <a:pt x="1660" y="1461"/>
                  </a:lnTo>
                  <a:lnTo>
                    <a:pt x="1654" y="1468"/>
                  </a:lnTo>
                  <a:lnTo>
                    <a:pt x="1647" y="1468"/>
                  </a:lnTo>
                  <a:lnTo>
                    <a:pt x="1641" y="1474"/>
                  </a:lnTo>
                  <a:lnTo>
                    <a:pt x="1634" y="1474"/>
                  </a:lnTo>
                  <a:lnTo>
                    <a:pt x="1627" y="1481"/>
                  </a:lnTo>
                  <a:lnTo>
                    <a:pt x="1614" y="1481"/>
                  </a:lnTo>
                  <a:lnTo>
                    <a:pt x="1608" y="1487"/>
                  </a:lnTo>
                  <a:lnTo>
                    <a:pt x="1601" y="1487"/>
                  </a:lnTo>
                  <a:lnTo>
                    <a:pt x="1595" y="1487"/>
                  </a:lnTo>
                  <a:lnTo>
                    <a:pt x="1588" y="1494"/>
                  </a:lnTo>
                  <a:lnTo>
                    <a:pt x="1581" y="1501"/>
                  </a:lnTo>
                  <a:lnTo>
                    <a:pt x="1575" y="1507"/>
                  </a:lnTo>
                  <a:lnTo>
                    <a:pt x="1568" y="1507"/>
                  </a:lnTo>
                  <a:lnTo>
                    <a:pt x="1562" y="1514"/>
                  </a:lnTo>
                  <a:lnTo>
                    <a:pt x="1555" y="1514"/>
                  </a:lnTo>
                  <a:lnTo>
                    <a:pt x="1548" y="1520"/>
                  </a:lnTo>
                  <a:lnTo>
                    <a:pt x="1535" y="1520"/>
                  </a:lnTo>
                  <a:lnTo>
                    <a:pt x="1529" y="1520"/>
                  </a:lnTo>
                  <a:lnTo>
                    <a:pt x="1522" y="1520"/>
                  </a:lnTo>
                  <a:lnTo>
                    <a:pt x="1509" y="1520"/>
                  </a:lnTo>
                  <a:lnTo>
                    <a:pt x="1502" y="1527"/>
                  </a:lnTo>
                  <a:lnTo>
                    <a:pt x="1496" y="1527"/>
                  </a:lnTo>
                  <a:lnTo>
                    <a:pt x="1489" y="1534"/>
                  </a:lnTo>
                  <a:lnTo>
                    <a:pt x="1482" y="1540"/>
                  </a:lnTo>
                  <a:lnTo>
                    <a:pt x="1476" y="1540"/>
                  </a:lnTo>
                  <a:lnTo>
                    <a:pt x="1469" y="1547"/>
                  </a:lnTo>
                  <a:lnTo>
                    <a:pt x="1463" y="1547"/>
                  </a:lnTo>
                  <a:lnTo>
                    <a:pt x="1456" y="1553"/>
                  </a:lnTo>
                  <a:lnTo>
                    <a:pt x="1443" y="1553"/>
                  </a:lnTo>
                  <a:lnTo>
                    <a:pt x="1436" y="1560"/>
                  </a:lnTo>
                  <a:lnTo>
                    <a:pt x="1430" y="1566"/>
                  </a:lnTo>
                  <a:lnTo>
                    <a:pt x="1430" y="1566"/>
                  </a:lnTo>
                  <a:lnTo>
                    <a:pt x="1423" y="1573"/>
                  </a:lnTo>
                  <a:lnTo>
                    <a:pt x="1417" y="1580"/>
                  </a:lnTo>
                  <a:lnTo>
                    <a:pt x="1417" y="1586"/>
                  </a:lnTo>
                  <a:lnTo>
                    <a:pt x="1410" y="1593"/>
                  </a:lnTo>
                  <a:lnTo>
                    <a:pt x="1410" y="1593"/>
                  </a:lnTo>
                  <a:lnTo>
                    <a:pt x="1403" y="1599"/>
                  </a:lnTo>
                  <a:lnTo>
                    <a:pt x="1403" y="1606"/>
                  </a:lnTo>
                  <a:lnTo>
                    <a:pt x="1397" y="1613"/>
                  </a:lnTo>
                  <a:lnTo>
                    <a:pt x="1390" y="1619"/>
                  </a:lnTo>
                  <a:lnTo>
                    <a:pt x="1384" y="1619"/>
                  </a:lnTo>
                  <a:lnTo>
                    <a:pt x="1377" y="1626"/>
                  </a:lnTo>
                  <a:lnTo>
                    <a:pt x="1377" y="1626"/>
                  </a:lnTo>
                  <a:lnTo>
                    <a:pt x="1377" y="1632"/>
                  </a:lnTo>
                  <a:lnTo>
                    <a:pt x="1377" y="1639"/>
                  </a:lnTo>
                  <a:lnTo>
                    <a:pt x="1370" y="1645"/>
                  </a:lnTo>
                  <a:lnTo>
                    <a:pt x="1370" y="1652"/>
                  </a:lnTo>
                  <a:lnTo>
                    <a:pt x="1364" y="1659"/>
                  </a:lnTo>
                  <a:lnTo>
                    <a:pt x="1357" y="1652"/>
                  </a:lnTo>
                  <a:lnTo>
                    <a:pt x="1351" y="1645"/>
                  </a:lnTo>
                  <a:lnTo>
                    <a:pt x="1351" y="1639"/>
                  </a:lnTo>
                  <a:lnTo>
                    <a:pt x="1344" y="1632"/>
                  </a:lnTo>
                  <a:lnTo>
                    <a:pt x="1344" y="1626"/>
                  </a:lnTo>
                  <a:lnTo>
                    <a:pt x="1338" y="1626"/>
                  </a:lnTo>
                  <a:lnTo>
                    <a:pt x="1331" y="1626"/>
                  </a:lnTo>
                  <a:lnTo>
                    <a:pt x="1324" y="1632"/>
                  </a:lnTo>
                  <a:lnTo>
                    <a:pt x="1318" y="1632"/>
                  </a:lnTo>
                  <a:lnTo>
                    <a:pt x="1305" y="1639"/>
                  </a:lnTo>
                  <a:lnTo>
                    <a:pt x="1298" y="1639"/>
                  </a:lnTo>
                  <a:lnTo>
                    <a:pt x="1291" y="1645"/>
                  </a:lnTo>
                  <a:lnTo>
                    <a:pt x="1285" y="1645"/>
                  </a:lnTo>
                  <a:lnTo>
                    <a:pt x="1272" y="1645"/>
                  </a:lnTo>
                  <a:lnTo>
                    <a:pt x="1265" y="1652"/>
                  </a:lnTo>
                  <a:lnTo>
                    <a:pt x="1258" y="1652"/>
                  </a:lnTo>
                  <a:lnTo>
                    <a:pt x="1245" y="1659"/>
                  </a:lnTo>
                  <a:lnTo>
                    <a:pt x="1239" y="1659"/>
                  </a:lnTo>
                  <a:lnTo>
                    <a:pt x="1232" y="1659"/>
                  </a:lnTo>
                  <a:lnTo>
                    <a:pt x="1226" y="1665"/>
                  </a:lnTo>
                  <a:lnTo>
                    <a:pt x="1212" y="1665"/>
                  </a:lnTo>
                  <a:lnTo>
                    <a:pt x="1206" y="1672"/>
                  </a:lnTo>
                  <a:lnTo>
                    <a:pt x="1199" y="1672"/>
                  </a:lnTo>
                  <a:lnTo>
                    <a:pt x="1199" y="1678"/>
                  </a:lnTo>
                  <a:lnTo>
                    <a:pt x="1199" y="1685"/>
                  </a:lnTo>
                  <a:lnTo>
                    <a:pt x="1199" y="1692"/>
                  </a:lnTo>
                  <a:lnTo>
                    <a:pt x="1193" y="1698"/>
                  </a:lnTo>
                  <a:lnTo>
                    <a:pt x="1193" y="1705"/>
                  </a:lnTo>
                  <a:lnTo>
                    <a:pt x="1193" y="1711"/>
                  </a:lnTo>
                  <a:lnTo>
                    <a:pt x="1193" y="1718"/>
                  </a:lnTo>
                  <a:lnTo>
                    <a:pt x="1193" y="1724"/>
                  </a:lnTo>
                  <a:lnTo>
                    <a:pt x="1193" y="1731"/>
                  </a:lnTo>
                  <a:lnTo>
                    <a:pt x="1193" y="1731"/>
                  </a:lnTo>
                  <a:lnTo>
                    <a:pt x="1199" y="1731"/>
                  </a:lnTo>
                  <a:lnTo>
                    <a:pt x="1226" y="1731"/>
                  </a:lnTo>
                  <a:lnTo>
                    <a:pt x="1239" y="1731"/>
                  </a:lnTo>
                  <a:close/>
                  <a:moveTo>
                    <a:pt x="1305" y="1731"/>
                  </a:moveTo>
                  <a:lnTo>
                    <a:pt x="1298" y="1731"/>
                  </a:lnTo>
                  <a:lnTo>
                    <a:pt x="1298" y="1724"/>
                  </a:lnTo>
                  <a:lnTo>
                    <a:pt x="1291" y="1724"/>
                  </a:lnTo>
                  <a:lnTo>
                    <a:pt x="1285" y="1724"/>
                  </a:lnTo>
                  <a:lnTo>
                    <a:pt x="1285" y="1724"/>
                  </a:lnTo>
                  <a:lnTo>
                    <a:pt x="1278" y="1724"/>
                  </a:lnTo>
                  <a:lnTo>
                    <a:pt x="1278" y="1731"/>
                  </a:lnTo>
                  <a:lnTo>
                    <a:pt x="1272" y="1731"/>
                  </a:lnTo>
                  <a:lnTo>
                    <a:pt x="1285" y="1731"/>
                  </a:lnTo>
                  <a:lnTo>
                    <a:pt x="1305" y="1731"/>
                  </a:lnTo>
                  <a:close/>
                  <a:moveTo>
                    <a:pt x="1436" y="1619"/>
                  </a:moveTo>
                  <a:lnTo>
                    <a:pt x="1436" y="1619"/>
                  </a:lnTo>
                  <a:lnTo>
                    <a:pt x="1443" y="1613"/>
                  </a:lnTo>
                  <a:lnTo>
                    <a:pt x="1443" y="1613"/>
                  </a:lnTo>
                  <a:lnTo>
                    <a:pt x="1450" y="1613"/>
                  </a:lnTo>
                  <a:lnTo>
                    <a:pt x="1450" y="1613"/>
                  </a:lnTo>
                  <a:lnTo>
                    <a:pt x="1456" y="1619"/>
                  </a:lnTo>
                  <a:lnTo>
                    <a:pt x="1456" y="1619"/>
                  </a:lnTo>
                  <a:lnTo>
                    <a:pt x="1456" y="1626"/>
                  </a:lnTo>
                  <a:lnTo>
                    <a:pt x="1456" y="1626"/>
                  </a:lnTo>
                  <a:lnTo>
                    <a:pt x="1450" y="1626"/>
                  </a:lnTo>
                  <a:lnTo>
                    <a:pt x="1443" y="1632"/>
                  </a:lnTo>
                  <a:lnTo>
                    <a:pt x="1443" y="1626"/>
                  </a:lnTo>
                  <a:lnTo>
                    <a:pt x="1436" y="1626"/>
                  </a:lnTo>
                  <a:lnTo>
                    <a:pt x="1436" y="1619"/>
                  </a:lnTo>
                  <a:close/>
                  <a:moveTo>
                    <a:pt x="1601" y="1455"/>
                  </a:moveTo>
                  <a:lnTo>
                    <a:pt x="1595" y="1448"/>
                  </a:lnTo>
                  <a:lnTo>
                    <a:pt x="1595" y="1441"/>
                  </a:lnTo>
                  <a:lnTo>
                    <a:pt x="1588" y="1441"/>
                  </a:lnTo>
                  <a:lnTo>
                    <a:pt x="1581" y="1441"/>
                  </a:lnTo>
                  <a:lnTo>
                    <a:pt x="1568" y="1448"/>
                  </a:lnTo>
                  <a:lnTo>
                    <a:pt x="1568" y="1448"/>
                  </a:lnTo>
                  <a:lnTo>
                    <a:pt x="1562" y="1455"/>
                  </a:lnTo>
                  <a:lnTo>
                    <a:pt x="1568" y="1461"/>
                  </a:lnTo>
                  <a:lnTo>
                    <a:pt x="1575" y="1468"/>
                  </a:lnTo>
                  <a:lnTo>
                    <a:pt x="1581" y="1468"/>
                  </a:lnTo>
                  <a:lnTo>
                    <a:pt x="1588" y="1468"/>
                  </a:lnTo>
                  <a:lnTo>
                    <a:pt x="1595" y="1468"/>
                  </a:lnTo>
                  <a:lnTo>
                    <a:pt x="1595" y="1461"/>
                  </a:lnTo>
                  <a:lnTo>
                    <a:pt x="1601" y="1455"/>
                  </a:lnTo>
                  <a:close/>
                  <a:moveTo>
                    <a:pt x="1792" y="1395"/>
                  </a:moveTo>
                  <a:lnTo>
                    <a:pt x="1792" y="1389"/>
                  </a:lnTo>
                  <a:lnTo>
                    <a:pt x="1799" y="1382"/>
                  </a:lnTo>
                  <a:lnTo>
                    <a:pt x="1805" y="1382"/>
                  </a:lnTo>
                  <a:lnTo>
                    <a:pt x="1812" y="1382"/>
                  </a:lnTo>
                  <a:lnTo>
                    <a:pt x="1819" y="1382"/>
                  </a:lnTo>
                  <a:lnTo>
                    <a:pt x="1825" y="1389"/>
                  </a:lnTo>
                  <a:lnTo>
                    <a:pt x="1832" y="1389"/>
                  </a:lnTo>
                  <a:lnTo>
                    <a:pt x="1832" y="1395"/>
                  </a:lnTo>
                  <a:lnTo>
                    <a:pt x="1832" y="1402"/>
                  </a:lnTo>
                  <a:lnTo>
                    <a:pt x="1819" y="1402"/>
                  </a:lnTo>
                  <a:lnTo>
                    <a:pt x="1812" y="1408"/>
                  </a:lnTo>
                  <a:lnTo>
                    <a:pt x="1805" y="1408"/>
                  </a:lnTo>
                  <a:lnTo>
                    <a:pt x="1799" y="1402"/>
                  </a:lnTo>
                  <a:lnTo>
                    <a:pt x="1792" y="1395"/>
                  </a:lnTo>
                  <a:close/>
                  <a:moveTo>
                    <a:pt x="2504" y="1204"/>
                  </a:moveTo>
                  <a:lnTo>
                    <a:pt x="2504" y="1198"/>
                  </a:lnTo>
                  <a:lnTo>
                    <a:pt x="2504" y="1198"/>
                  </a:lnTo>
                  <a:lnTo>
                    <a:pt x="2510" y="1198"/>
                  </a:lnTo>
                  <a:lnTo>
                    <a:pt x="2517" y="1198"/>
                  </a:lnTo>
                  <a:lnTo>
                    <a:pt x="2517" y="1204"/>
                  </a:lnTo>
                  <a:lnTo>
                    <a:pt x="2517" y="1211"/>
                  </a:lnTo>
                  <a:lnTo>
                    <a:pt x="2517" y="1211"/>
                  </a:lnTo>
                  <a:lnTo>
                    <a:pt x="2510" y="1218"/>
                  </a:lnTo>
                  <a:lnTo>
                    <a:pt x="2510" y="1218"/>
                  </a:lnTo>
                  <a:lnTo>
                    <a:pt x="2504" y="1218"/>
                  </a:lnTo>
                  <a:lnTo>
                    <a:pt x="2504" y="1218"/>
                  </a:lnTo>
                  <a:lnTo>
                    <a:pt x="2504" y="1211"/>
                  </a:lnTo>
                  <a:lnTo>
                    <a:pt x="2504" y="1211"/>
                  </a:lnTo>
                  <a:lnTo>
                    <a:pt x="2504" y="1204"/>
                  </a:lnTo>
                  <a:close/>
                  <a:moveTo>
                    <a:pt x="1647" y="1171"/>
                  </a:moveTo>
                  <a:lnTo>
                    <a:pt x="1647" y="1171"/>
                  </a:lnTo>
                  <a:lnTo>
                    <a:pt x="1647" y="1171"/>
                  </a:lnTo>
                  <a:lnTo>
                    <a:pt x="1647" y="1171"/>
                  </a:lnTo>
                  <a:lnTo>
                    <a:pt x="1641" y="1171"/>
                  </a:lnTo>
                  <a:lnTo>
                    <a:pt x="1641" y="1171"/>
                  </a:lnTo>
                  <a:lnTo>
                    <a:pt x="1641" y="1171"/>
                  </a:lnTo>
                  <a:lnTo>
                    <a:pt x="1641" y="1171"/>
                  </a:lnTo>
                  <a:lnTo>
                    <a:pt x="1641" y="1178"/>
                  </a:lnTo>
                  <a:lnTo>
                    <a:pt x="1641" y="1178"/>
                  </a:lnTo>
                  <a:lnTo>
                    <a:pt x="1641" y="1178"/>
                  </a:lnTo>
                  <a:lnTo>
                    <a:pt x="1647" y="1178"/>
                  </a:lnTo>
                  <a:lnTo>
                    <a:pt x="1647" y="1178"/>
                  </a:lnTo>
                  <a:lnTo>
                    <a:pt x="1647" y="1178"/>
                  </a:lnTo>
                  <a:lnTo>
                    <a:pt x="1647" y="1171"/>
                  </a:lnTo>
                  <a:close/>
                  <a:moveTo>
                    <a:pt x="1621" y="1145"/>
                  </a:moveTo>
                  <a:lnTo>
                    <a:pt x="1621" y="1139"/>
                  </a:lnTo>
                  <a:lnTo>
                    <a:pt x="1621" y="1139"/>
                  </a:lnTo>
                  <a:lnTo>
                    <a:pt x="1614" y="1139"/>
                  </a:lnTo>
                  <a:lnTo>
                    <a:pt x="1608" y="1139"/>
                  </a:lnTo>
                  <a:lnTo>
                    <a:pt x="1601" y="1139"/>
                  </a:lnTo>
                  <a:lnTo>
                    <a:pt x="1595" y="1145"/>
                  </a:lnTo>
                  <a:lnTo>
                    <a:pt x="1595" y="1145"/>
                  </a:lnTo>
                  <a:lnTo>
                    <a:pt x="1595" y="1152"/>
                  </a:lnTo>
                  <a:lnTo>
                    <a:pt x="1601" y="1158"/>
                  </a:lnTo>
                  <a:lnTo>
                    <a:pt x="1608" y="1158"/>
                  </a:lnTo>
                  <a:lnTo>
                    <a:pt x="1614" y="1158"/>
                  </a:lnTo>
                  <a:lnTo>
                    <a:pt x="1621" y="1158"/>
                  </a:lnTo>
                  <a:lnTo>
                    <a:pt x="1621" y="1152"/>
                  </a:lnTo>
                  <a:lnTo>
                    <a:pt x="1621" y="1145"/>
                  </a:lnTo>
                  <a:close/>
                  <a:moveTo>
                    <a:pt x="1601" y="1119"/>
                  </a:moveTo>
                  <a:lnTo>
                    <a:pt x="1601" y="1112"/>
                  </a:lnTo>
                  <a:lnTo>
                    <a:pt x="1595" y="1106"/>
                  </a:lnTo>
                  <a:lnTo>
                    <a:pt x="1595" y="1099"/>
                  </a:lnTo>
                  <a:lnTo>
                    <a:pt x="1588" y="1099"/>
                  </a:lnTo>
                  <a:lnTo>
                    <a:pt x="1581" y="1092"/>
                  </a:lnTo>
                  <a:lnTo>
                    <a:pt x="1581" y="1086"/>
                  </a:lnTo>
                  <a:lnTo>
                    <a:pt x="1575" y="1079"/>
                  </a:lnTo>
                  <a:lnTo>
                    <a:pt x="1575" y="1073"/>
                  </a:lnTo>
                  <a:lnTo>
                    <a:pt x="1568" y="1066"/>
                  </a:lnTo>
                  <a:lnTo>
                    <a:pt x="1562" y="1060"/>
                  </a:lnTo>
                  <a:lnTo>
                    <a:pt x="1562" y="1060"/>
                  </a:lnTo>
                  <a:lnTo>
                    <a:pt x="1555" y="1053"/>
                  </a:lnTo>
                  <a:lnTo>
                    <a:pt x="1555" y="1046"/>
                  </a:lnTo>
                  <a:lnTo>
                    <a:pt x="1548" y="1040"/>
                  </a:lnTo>
                  <a:lnTo>
                    <a:pt x="1548" y="1033"/>
                  </a:lnTo>
                  <a:lnTo>
                    <a:pt x="1542" y="1027"/>
                  </a:lnTo>
                  <a:lnTo>
                    <a:pt x="1535" y="1027"/>
                  </a:lnTo>
                  <a:lnTo>
                    <a:pt x="1535" y="1020"/>
                  </a:lnTo>
                  <a:lnTo>
                    <a:pt x="1529" y="1013"/>
                  </a:lnTo>
                  <a:lnTo>
                    <a:pt x="1529" y="1007"/>
                  </a:lnTo>
                  <a:lnTo>
                    <a:pt x="1522" y="1000"/>
                  </a:lnTo>
                  <a:lnTo>
                    <a:pt x="1522" y="994"/>
                  </a:lnTo>
                  <a:lnTo>
                    <a:pt x="1515" y="987"/>
                  </a:lnTo>
                  <a:lnTo>
                    <a:pt x="1509" y="987"/>
                  </a:lnTo>
                  <a:lnTo>
                    <a:pt x="1509" y="981"/>
                  </a:lnTo>
                  <a:lnTo>
                    <a:pt x="1502" y="974"/>
                  </a:lnTo>
                  <a:lnTo>
                    <a:pt x="1496" y="967"/>
                  </a:lnTo>
                  <a:lnTo>
                    <a:pt x="1482" y="967"/>
                  </a:lnTo>
                  <a:lnTo>
                    <a:pt x="1476" y="967"/>
                  </a:lnTo>
                  <a:lnTo>
                    <a:pt x="1476" y="974"/>
                  </a:lnTo>
                  <a:lnTo>
                    <a:pt x="1469" y="981"/>
                  </a:lnTo>
                  <a:lnTo>
                    <a:pt x="1463" y="987"/>
                  </a:lnTo>
                  <a:lnTo>
                    <a:pt x="1463" y="994"/>
                  </a:lnTo>
                  <a:lnTo>
                    <a:pt x="1456" y="1000"/>
                  </a:lnTo>
                  <a:lnTo>
                    <a:pt x="1456" y="1000"/>
                  </a:lnTo>
                  <a:lnTo>
                    <a:pt x="1456" y="1007"/>
                  </a:lnTo>
                  <a:lnTo>
                    <a:pt x="1456" y="1013"/>
                  </a:lnTo>
                  <a:lnTo>
                    <a:pt x="1469" y="1013"/>
                  </a:lnTo>
                  <a:lnTo>
                    <a:pt x="1476" y="1020"/>
                  </a:lnTo>
                  <a:lnTo>
                    <a:pt x="1482" y="1027"/>
                  </a:lnTo>
                  <a:lnTo>
                    <a:pt x="1489" y="1027"/>
                  </a:lnTo>
                  <a:lnTo>
                    <a:pt x="1489" y="1033"/>
                  </a:lnTo>
                  <a:lnTo>
                    <a:pt x="1496" y="1040"/>
                  </a:lnTo>
                  <a:lnTo>
                    <a:pt x="1502" y="1046"/>
                  </a:lnTo>
                  <a:lnTo>
                    <a:pt x="1509" y="1046"/>
                  </a:lnTo>
                  <a:lnTo>
                    <a:pt x="1515" y="1053"/>
                  </a:lnTo>
                  <a:lnTo>
                    <a:pt x="1522" y="1060"/>
                  </a:lnTo>
                  <a:lnTo>
                    <a:pt x="1522" y="1066"/>
                  </a:lnTo>
                  <a:lnTo>
                    <a:pt x="1529" y="1073"/>
                  </a:lnTo>
                  <a:lnTo>
                    <a:pt x="1529" y="1079"/>
                  </a:lnTo>
                  <a:lnTo>
                    <a:pt x="1535" y="1079"/>
                  </a:lnTo>
                  <a:lnTo>
                    <a:pt x="1535" y="1086"/>
                  </a:lnTo>
                  <a:lnTo>
                    <a:pt x="1542" y="1092"/>
                  </a:lnTo>
                  <a:lnTo>
                    <a:pt x="1542" y="1099"/>
                  </a:lnTo>
                  <a:lnTo>
                    <a:pt x="1542" y="1106"/>
                  </a:lnTo>
                  <a:lnTo>
                    <a:pt x="1542" y="1112"/>
                  </a:lnTo>
                  <a:lnTo>
                    <a:pt x="1548" y="1119"/>
                  </a:lnTo>
                  <a:lnTo>
                    <a:pt x="1548" y="1119"/>
                  </a:lnTo>
                  <a:lnTo>
                    <a:pt x="1562" y="1125"/>
                  </a:lnTo>
                  <a:lnTo>
                    <a:pt x="1568" y="1125"/>
                  </a:lnTo>
                  <a:lnTo>
                    <a:pt x="1575" y="1132"/>
                  </a:lnTo>
                  <a:lnTo>
                    <a:pt x="1581" y="1139"/>
                  </a:lnTo>
                  <a:lnTo>
                    <a:pt x="1588" y="1145"/>
                  </a:lnTo>
                  <a:lnTo>
                    <a:pt x="1588" y="1145"/>
                  </a:lnTo>
                  <a:lnTo>
                    <a:pt x="1595" y="1145"/>
                  </a:lnTo>
                  <a:lnTo>
                    <a:pt x="1595" y="1139"/>
                  </a:lnTo>
                  <a:lnTo>
                    <a:pt x="1601" y="1132"/>
                  </a:lnTo>
                  <a:lnTo>
                    <a:pt x="1601" y="1119"/>
                  </a:lnTo>
                  <a:close/>
                  <a:moveTo>
                    <a:pt x="1515" y="1092"/>
                  </a:moveTo>
                  <a:lnTo>
                    <a:pt x="1515" y="1086"/>
                  </a:lnTo>
                  <a:lnTo>
                    <a:pt x="1509" y="1086"/>
                  </a:lnTo>
                  <a:lnTo>
                    <a:pt x="1502" y="1086"/>
                  </a:lnTo>
                  <a:lnTo>
                    <a:pt x="1496" y="1086"/>
                  </a:lnTo>
                  <a:lnTo>
                    <a:pt x="1489" y="1092"/>
                  </a:lnTo>
                  <a:lnTo>
                    <a:pt x="1489" y="1092"/>
                  </a:lnTo>
                  <a:lnTo>
                    <a:pt x="1496" y="1099"/>
                  </a:lnTo>
                  <a:lnTo>
                    <a:pt x="1496" y="1099"/>
                  </a:lnTo>
                  <a:lnTo>
                    <a:pt x="1502" y="1106"/>
                  </a:lnTo>
                  <a:lnTo>
                    <a:pt x="1509" y="1106"/>
                  </a:lnTo>
                  <a:lnTo>
                    <a:pt x="1509" y="1106"/>
                  </a:lnTo>
                  <a:lnTo>
                    <a:pt x="1515" y="1099"/>
                  </a:lnTo>
                  <a:lnTo>
                    <a:pt x="1515" y="1099"/>
                  </a:lnTo>
                  <a:lnTo>
                    <a:pt x="1515" y="1092"/>
                  </a:lnTo>
                  <a:close/>
                  <a:moveTo>
                    <a:pt x="1482" y="1060"/>
                  </a:moveTo>
                  <a:lnTo>
                    <a:pt x="1482" y="1060"/>
                  </a:lnTo>
                  <a:lnTo>
                    <a:pt x="1476" y="1053"/>
                  </a:lnTo>
                  <a:lnTo>
                    <a:pt x="1476" y="1053"/>
                  </a:lnTo>
                  <a:lnTo>
                    <a:pt x="1469" y="1060"/>
                  </a:lnTo>
                  <a:lnTo>
                    <a:pt x="1463" y="1060"/>
                  </a:lnTo>
                  <a:lnTo>
                    <a:pt x="1463" y="1066"/>
                  </a:lnTo>
                  <a:lnTo>
                    <a:pt x="1463" y="1073"/>
                  </a:lnTo>
                  <a:lnTo>
                    <a:pt x="1469" y="1079"/>
                  </a:lnTo>
                  <a:lnTo>
                    <a:pt x="1476" y="1079"/>
                  </a:lnTo>
                  <a:lnTo>
                    <a:pt x="1476" y="1079"/>
                  </a:lnTo>
                  <a:lnTo>
                    <a:pt x="1482" y="1079"/>
                  </a:lnTo>
                  <a:lnTo>
                    <a:pt x="1482" y="1079"/>
                  </a:lnTo>
                  <a:lnTo>
                    <a:pt x="1482" y="1073"/>
                  </a:lnTo>
                  <a:lnTo>
                    <a:pt x="1482" y="1060"/>
                  </a:lnTo>
                  <a:close/>
                  <a:moveTo>
                    <a:pt x="2464" y="895"/>
                  </a:moveTo>
                  <a:lnTo>
                    <a:pt x="2471" y="888"/>
                  </a:lnTo>
                  <a:lnTo>
                    <a:pt x="2471" y="888"/>
                  </a:lnTo>
                  <a:lnTo>
                    <a:pt x="2477" y="888"/>
                  </a:lnTo>
                  <a:lnTo>
                    <a:pt x="2477" y="882"/>
                  </a:lnTo>
                  <a:lnTo>
                    <a:pt x="2477" y="888"/>
                  </a:lnTo>
                  <a:lnTo>
                    <a:pt x="2484" y="888"/>
                  </a:lnTo>
                  <a:lnTo>
                    <a:pt x="2484" y="888"/>
                  </a:lnTo>
                  <a:lnTo>
                    <a:pt x="2484" y="895"/>
                  </a:lnTo>
                  <a:lnTo>
                    <a:pt x="2484" y="895"/>
                  </a:lnTo>
                  <a:lnTo>
                    <a:pt x="2484" y="902"/>
                  </a:lnTo>
                  <a:lnTo>
                    <a:pt x="2477" y="902"/>
                  </a:lnTo>
                  <a:lnTo>
                    <a:pt x="2477" y="902"/>
                  </a:lnTo>
                  <a:lnTo>
                    <a:pt x="2471" y="902"/>
                  </a:lnTo>
                  <a:lnTo>
                    <a:pt x="2464" y="895"/>
                  </a:lnTo>
                  <a:close/>
                  <a:moveTo>
                    <a:pt x="2300" y="783"/>
                  </a:moveTo>
                  <a:lnTo>
                    <a:pt x="2306" y="783"/>
                  </a:lnTo>
                  <a:lnTo>
                    <a:pt x="2306" y="783"/>
                  </a:lnTo>
                  <a:lnTo>
                    <a:pt x="2313" y="776"/>
                  </a:lnTo>
                  <a:lnTo>
                    <a:pt x="2313" y="776"/>
                  </a:lnTo>
                  <a:lnTo>
                    <a:pt x="2313" y="783"/>
                  </a:lnTo>
                  <a:lnTo>
                    <a:pt x="2313" y="783"/>
                  </a:lnTo>
                  <a:lnTo>
                    <a:pt x="2313" y="783"/>
                  </a:lnTo>
                  <a:lnTo>
                    <a:pt x="2313" y="783"/>
                  </a:lnTo>
                  <a:lnTo>
                    <a:pt x="2313" y="790"/>
                  </a:lnTo>
                  <a:lnTo>
                    <a:pt x="2313" y="790"/>
                  </a:lnTo>
                  <a:lnTo>
                    <a:pt x="2306" y="790"/>
                  </a:lnTo>
                  <a:lnTo>
                    <a:pt x="2306" y="790"/>
                  </a:lnTo>
                  <a:lnTo>
                    <a:pt x="2306" y="783"/>
                  </a:lnTo>
                  <a:lnTo>
                    <a:pt x="2300" y="783"/>
                  </a:lnTo>
                  <a:close/>
                  <a:moveTo>
                    <a:pt x="310" y="671"/>
                  </a:moveTo>
                  <a:lnTo>
                    <a:pt x="316" y="664"/>
                  </a:lnTo>
                  <a:lnTo>
                    <a:pt x="316" y="658"/>
                  </a:lnTo>
                  <a:lnTo>
                    <a:pt x="323" y="651"/>
                  </a:lnTo>
                  <a:lnTo>
                    <a:pt x="323" y="651"/>
                  </a:lnTo>
                  <a:lnTo>
                    <a:pt x="323" y="645"/>
                  </a:lnTo>
                  <a:lnTo>
                    <a:pt x="323" y="638"/>
                  </a:lnTo>
                  <a:lnTo>
                    <a:pt x="329" y="632"/>
                  </a:lnTo>
                  <a:lnTo>
                    <a:pt x="329" y="625"/>
                  </a:lnTo>
                  <a:lnTo>
                    <a:pt x="336" y="618"/>
                  </a:lnTo>
                  <a:lnTo>
                    <a:pt x="349" y="618"/>
                  </a:lnTo>
                  <a:lnTo>
                    <a:pt x="356" y="618"/>
                  </a:lnTo>
                  <a:lnTo>
                    <a:pt x="369" y="618"/>
                  </a:lnTo>
                  <a:lnTo>
                    <a:pt x="375" y="625"/>
                  </a:lnTo>
                  <a:lnTo>
                    <a:pt x="382" y="625"/>
                  </a:lnTo>
                  <a:lnTo>
                    <a:pt x="395" y="625"/>
                  </a:lnTo>
                  <a:lnTo>
                    <a:pt x="402" y="632"/>
                  </a:lnTo>
                  <a:lnTo>
                    <a:pt x="408" y="638"/>
                  </a:lnTo>
                  <a:lnTo>
                    <a:pt x="415" y="638"/>
                  </a:lnTo>
                  <a:lnTo>
                    <a:pt x="415" y="645"/>
                  </a:lnTo>
                  <a:lnTo>
                    <a:pt x="422" y="651"/>
                  </a:lnTo>
                  <a:lnTo>
                    <a:pt x="428" y="645"/>
                  </a:lnTo>
                  <a:lnTo>
                    <a:pt x="435" y="645"/>
                  </a:lnTo>
                  <a:lnTo>
                    <a:pt x="448" y="638"/>
                  </a:lnTo>
                  <a:lnTo>
                    <a:pt x="455" y="638"/>
                  </a:lnTo>
                  <a:lnTo>
                    <a:pt x="461" y="638"/>
                  </a:lnTo>
                  <a:lnTo>
                    <a:pt x="474" y="632"/>
                  </a:lnTo>
                  <a:lnTo>
                    <a:pt x="474" y="632"/>
                  </a:lnTo>
                  <a:lnTo>
                    <a:pt x="481" y="625"/>
                  </a:lnTo>
                  <a:lnTo>
                    <a:pt x="481" y="618"/>
                  </a:lnTo>
                  <a:lnTo>
                    <a:pt x="481" y="612"/>
                  </a:lnTo>
                  <a:lnTo>
                    <a:pt x="487" y="605"/>
                  </a:lnTo>
                  <a:lnTo>
                    <a:pt x="487" y="599"/>
                  </a:lnTo>
                  <a:lnTo>
                    <a:pt x="487" y="592"/>
                  </a:lnTo>
                  <a:lnTo>
                    <a:pt x="487" y="585"/>
                  </a:lnTo>
                  <a:lnTo>
                    <a:pt x="494" y="579"/>
                  </a:lnTo>
                  <a:lnTo>
                    <a:pt x="494" y="572"/>
                  </a:lnTo>
                  <a:lnTo>
                    <a:pt x="501" y="566"/>
                  </a:lnTo>
                  <a:lnTo>
                    <a:pt x="501" y="566"/>
                  </a:lnTo>
                  <a:lnTo>
                    <a:pt x="507" y="559"/>
                  </a:lnTo>
                  <a:lnTo>
                    <a:pt x="514" y="553"/>
                  </a:lnTo>
                  <a:lnTo>
                    <a:pt x="520" y="553"/>
                  </a:lnTo>
                  <a:lnTo>
                    <a:pt x="534" y="553"/>
                  </a:lnTo>
                  <a:lnTo>
                    <a:pt x="540" y="553"/>
                  </a:lnTo>
                  <a:lnTo>
                    <a:pt x="553" y="546"/>
                  </a:lnTo>
                  <a:lnTo>
                    <a:pt x="553" y="539"/>
                  </a:lnTo>
                  <a:lnTo>
                    <a:pt x="560" y="539"/>
                  </a:lnTo>
                  <a:lnTo>
                    <a:pt x="567" y="533"/>
                  </a:lnTo>
                  <a:lnTo>
                    <a:pt x="567" y="526"/>
                  </a:lnTo>
                  <a:lnTo>
                    <a:pt x="573" y="520"/>
                  </a:lnTo>
                  <a:lnTo>
                    <a:pt x="573" y="513"/>
                  </a:lnTo>
                  <a:lnTo>
                    <a:pt x="573" y="506"/>
                  </a:lnTo>
                  <a:lnTo>
                    <a:pt x="573" y="500"/>
                  </a:lnTo>
                  <a:lnTo>
                    <a:pt x="573" y="493"/>
                  </a:lnTo>
                  <a:lnTo>
                    <a:pt x="573" y="487"/>
                  </a:lnTo>
                  <a:lnTo>
                    <a:pt x="580" y="480"/>
                  </a:lnTo>
                  <a:lnTo>
                    <a:pt x="580" y="480"/>
                  </a:lnTo>
                  <a:lnTo>
                    <a:pt x="580" y="474"/>
                  </a:lnTo>
                  <a:lnTo>
                    <a:pt x="586" y="467"/>
                  </a:lnTo>
                  <a:lnTo>
                    <a:pt x="586" y="460"/>
                  </a:lnTo>
                  <a:lnTo>
                    <a:pt x="586" y="454"/>
                  </a:lnTo>
                  <a:lnTo>
                    <a:pt x="586" y="447"/>
                  </a:lnTo>
                  <a:lnTo>
                    <a:pt x="593" y="441"/>
                  </a:lnTo>
                  <a:lnTo>
                    <a:pt x="593" y="434"/>
                  </a:lnTo>
                  <a:lnTo>
                    <a:pt x="593" y="427"/>
                  </a:lnTo>
                  <a:lnTo>
                    <a:pt x="600" y="421"/>
                  </a:lnTo>
                  <a:lnTo>
                    <a:pt x="600" y="421"/>
                  </a:lnTo>
                  <a:lnTo>
                    <a:pt x="606" y="414"/>
                  </a:lnTo>
                  <a:lnTo>
                    <a:pt x="606" y="408"/>
                  </a:lnTo>
                  <a:lnTo>
                    <a:pt x="613" y="401"/>
                  </a:lnTo>
                  <a:lnTo>
                    <a:pt x="613" y="395"/>
                  </a:lnTo>
                  <a:lnTo>
                    <a:pt x="619" y="388"/>
                  </a:lnTo>
                  <a:lnTo>
                    <a:pt x="619" y="381"/>
                  </a:lnTo>
                  <a:lnTo>
                    <a:pt x="619" y="375"/>
                  </a:lnTo>
                  <a:lnTo>
                    <a:pt x="619" y="368"/>
                  </a:lnTo>
                  <a:lnTo>
                    <a:pt x="626" y="368"/>
                  </a:lnTo>
                  <a:lnTo>
                    <a:pt x="626" y="362"/>
                  </a:lnTo>
                  <a:lnTo>
                    <a:pt x="626" y="355"/>
                  </a:lnTo>
                  <a:lnTo>
                    <a:pt x="632" y="348"/>
                  </a:lnTo>
                  <a:lnTo>
                    <a:pt x="632" y="342"/>
                  </a:lnTo>
                  <a:lnTo>
                    <a:pt x="639" y="335"/>
                  </a:lnTo>
                  <a:lnTo>
                    <a:pt x="639" y="329"/>
                  </a:lnTo>
                  <a:lnTo>
                    <a:pt x="646" y="322"/>
                  </a:lnTo>
                  <a:lnTo>
                    <a:pt x="646" y="316"/>
                  </a:lnTo>
                  <a:lnTo>
                    <a:pt x="652" y="316"/>
                  </a:lnTo>
                  <a:lnTo>
                    <a:pt x="652" y="309"/>
                  </a:lnTo>
                  <a:lnTo>
                    <a:pt x="652" y="302"/>
                  </a:lnTo>
                  <a:lnTo>
                    <a:pt x="659" y="296"/>
                  </a:lnTo>
                  <a:lnTo>
                    <a:pt x="659" y="289"/>
                  </a:lnTo>
                  <a:lnTo>
                    <a:pt x="659" y="283"/>
                  </a:lnTo>
                  <a:lnTo>
                    <a:pt x="659" y="276"/>
                  </a:lnTo>
                  <a:lnTo>
                    <a:pt x="665" y="269"/>
                  </a:lnTo>
                  <a:lnTo>
                    <a:pt x="665" y="263"/>
                  </a:lnTo>
                  <a:lnTo>
                    <a:pt x="672" y="256"/>
                  </a:lnTo>
                  <a:lnTo>
                    <a:pt x="672" y="256"/>
                  </a:lnTo>
                  <a:lnTo>
                    <a:pt x="679" y="250"/>
                  </a:lnTo>
                  <a:lnTo>
                    <a:pt x="685" y="243"/>
                  </a:lnTo>
                  <a:lnTo>
                    <a:pt x="685" y="237"/>
                  </a:lnTo>
                  <a:lnTo>
                    <a:pt x="692" y="230"/>
                  </a:lnTo>
                  <a:lnTo>
                    <a:pt x="692" y="223"/>
                  </a:lnTo>
                  <a:lnTo>
                    <a:pt x="692" y="217"/>
                  </a:lnTo>
                  <a:lnTo>
                    <a:pt x="692" y="210"/>
                  </a:lnTo>
                  <a:lnTo>
                    <a:pt x="698" y="210"/>
                  </a:lnTo>
                  <a:lnTo>
                    <a:pt x="705" y="204"/>
                  </a:lnTo>
                  <a:lnTo>
                    <a:pt x="712" y="197"/>
                  </a:lnTo>
                  <a:lnTo>
                    <a:pt x="718" y="197"/>
                  </a:lnTo>
                  <a:lnTo>
                    <a:pt x="725" y="190"/>
                  </a:lnTo>
                  <a:lnTo>
                    <a:pt x="731" y="184"/>
                  </a:lnTo>
                  <a:lnTo>
                    <a:pt x="731" y="177"/>
                  </a:lnTo>
                  <a:lnTo>
                    <a:pt x="738" y="177"/>
                  </a:lnTo>
                  <a:lnTo>
                    <a:pt x="744" y="171"/>
                  </a:lnTo>
                  <a:lnTo>
                    <a:pt x="751" y="164"/>
                  </a:lnTo>
                  <a:lnTo>
                    <a:pt x="764" y="164"/>
                  </a:lnTo>
                  <a:lnTo>
                    <a:pt x="771" y="158"/>
                  </a:lnTo>
                  <a:lnTo>
                    <a:pt x="777" y="158"/>
                  </a:lnTo>
                  <a:lnTo>
                    <a:pt x="784" y="164"/>
                  </a:lnTo>
                  <a:lnTo>
                    <a:pt x="791" y="171"/>
                  </a:lnTo>
                  <a:lnTo>
                    <a:pt x="797" y="177"/>
                  </a:lnTo>
                  <a:lnTo>
                    <a:pt x="804" y="177"/>
                  </a:lnTo>
                  <a:lnTo>
                    <a:pt x="810" y="184"/>
                  </a:lnTo>
                  <a:lnTo>
                    <a:pt x="817" y="190"/>
                  </a:lnTo>
                  <a:lnTo>
                    <a:pt x="817" y="190"/>
                  </a:lnTo>
                  <a:lnTo>
                    <a:pt x="824" y="197"/>
                  </a:lnTo>
                  <a:lnTo>
                    <a:pt x="830" y="204"/>
                  </a:lnTo>
                  <a:lnTo>
                    <a:pt x="837" y="210"/>
                  </a:lnTo>
                  <a:lnTo>
                    <a:pt x="837" y="210"/>
                  </a:lnTo>
                  <a:lnTo>
                    <a:pt x="843" y="217"/>
                  </a:lnTo>
                  <a:lnTo>
                    <a:pt x="850" y="223"/>
                  </a:lnTo>
                  <a:lnTo>
                    <a:pt x="857" y="230"/>
                  </a:lnTo>
                  <a:lnTo>
                    <a:pt x="857" y="237"/>
                  </a:lnTo>
                  <a:lnTo>
                    <a:pt x="863" y="243"/>
                  </a:lnTo>
                  <a:lnTo>
                    <a:pt x="863" y="243"/>
                  </a:lnTo>
                  <a:lnTo>
                    <a:pt x="870" y="243"/>
                  </a:lnTo>
                  <a:lnTo>
                    <a:pt x="876" y="237"/>
                  </a:lnTo>
                  <a:lnTo>
                    <a:pt x="883" y="230"/>
                  </a:lnTo>
                  <a:lnTo>
                    <a:pt x="896" y="230"/>
                  </a:lnTo>
                  <a:lnTo>
                    <a:pt x="903" y="223"/>
                  </a:lnTo>
                  <a:lnTo>
                    <a:pt x="909" y="223"/>
                  </a:lnTo>
                  <a:lnTo>
                    <a:pt x="916" y="217"/>
                  </a:lnTo>
                  <a:lnTo>
                    <a:pt x="916" y="210"/>
                  </a:lnTo>
                  <a:lnTo>
                    <a:pt x="929" y="204"/>
                  </a:lnTo>
                  <a:lnTo>
                    <a:pt x="936" y="204"/>
                  </a:lnTo>
                  <a:lnTo>
                    <a:pt x="942" y="204"/>
                  </a:lnTo>
                  <a:lnTo>
                    <a:pt x="949" y="197"/>
                  </a:lnTo>
                  <a:lnTo>
                    <a:pt x="955" y="190"/>
                  </a:lnTo>
                  <a:lnTo>
                    <a:pt x="962" y="184"/>
                  </a:lnTo>
                  <a:lnTo>
                    <a:pt x="955" y="177"/>
                  </a:lnTo>
                  <a:lnTo>
                    <a:pt x="955" y="171"/>
                  </a:lnTo>
                  <a:lnTo>
                    <a:pt x="949" y="171"/>
                  </a:lnTo>
                  <a:lnTo>
                    <a:pt x="942" y="164"/>
                  </a:lnTo>
                  <a:lnTo>
                    <a:pt x="929" y="164"/>
                  </a:lnTo>
                  <a:lnTo>
                    <a:pt x="922" y="164"/>
                  </a:lnTo>
                  <a:lnTo>
                    <a:pt x="916" y="158"/>
                  </a:lnTo>
                  <a:lnTo>
                    <a:pt x="916" y="151"/>
                  </a:lnTo>
                  <a:lnTo>
                    <a:pt x="916" y="144"/>
                  </a:lnTo>
                  <a:lnTo>
                    <a:pt x="909" y="138"/>
                  </a:lnTo>
                  <a:lnTo>
                    <a:pt x="909" y="131"/>
                  </a:lnTo>
                  <a:lnTo>
                    <a:pt x="903" y="125"/>
                  </a:lnTo>
                  <a:lnTo>
                    <a:pt x="896" y="118"/>
                  </a:lnTo>
                  <a:lnTo>
                    <a:pt x="896" y="118"/>
                  </a:lnTo>
                  <a:lnTo>
                    <a:pt x="896" y="111"/>
                  </a:lnTo>
                  <a:lnTo>
                    <a:pt x="903" y="105"/>
                  </a:lnTo>
                  <a:lnTo>
                    <a:pt x="909" y="98"/>
                  </a:lnTo>
                  <a:lnTo>
                    <a:pt x="916" y="98"/>
                  </a:lnTo>
                  <a:lnTo>
                    <a:pt x="929" y="92"/>
                  </a:lnTo>
                  <a:lnTo>
                    <a:pt x="936" y="92"/>
                  </a:lnTo>
                  <a:lnTo>
                    <a:pt x="936" y="85"/>
                  </a:lnTo>
                  <a:lnTo>
                    <a:pt x="942" y="79"/>
                  </a:lnTo>
                  <a:lnTo>
                    <a:pt x="942" y="72"/>
                  </a:lnTo>
                  <a:lnTo>
                    <a:pt x="936" y="65"/>
                  </a:lnTo>
                  <a:lnTo>
                    <a:pt x="936" y="59"/>
                  </a:lnTo>
                  <a:lnTo>
                    <a:pt x="929" y="52"/>
                  </a:lnTo>
                  <a:lnTo>
                    <a:pt x="922" y="52"/>
                  </a:lnTo>
                  <a:lnTo>
                    <a:pt x="916" y="46"/>
                  </a:lnTo>
                  <a:lnTo>
                    <a:pt x="909" y="39"/>
                  </a:lnTo>
                  <a:lnTo>
                    <a:pt x="903" y="32"/>
                  </a:lnTo>
                  <a:lnTo>
                    <a:pt x="903" y="32"/>
                  </a:lnTo>
                  <a:lnTo>
                    <a:pt x="896" y="26"/>
                  </a:lnTo>
                  <a:lnTo>
                    <a:pt x="889" y="19"/>
                  </a:lnTo>
                  <a:lnTo>
                    <a:pt x="883" y="13"/>
                  </a:lnTo>
                  <a:lnTo>
                    <a:pt x="876" y="13"/>
                  </a:lnTo>
                  <a:lnTo>
                    <a:pt x="870" y="6"/>
                  </a:lnTo>
                  <a:lnTo>
                    <a:pt x="870" y="0"/>
                  </a:lnTo>
                  <a:lnTo>
                    <a:pt x="863" y="0"/>
                  </a:lnTo>
                  <a:lnTo>
                    <a:pt x="837" y="0"/>
                  </a:lnTo>
                  <a:lnTo>
                    <a:pt x="810" y="0"/>
                  </a:lnTo>
                  <a:lnTo>
                    <a:pt x="784" y="0"/>
                  </a:lnTo>
                  <a:lnTo>
                    <a:pt x="751" y="0"/>
                  </a:lnTo>
                  <a:lnTo>
                    <a:pt x="725" y="0"/>
                  </a:lnTo>
                  <a:lnTo>
                    <a:pt x="698" y="0"/>
                  </a:lnTo>
                  <a:lnTo>
                    <a:pt x="672" y="0"/>
                  </a:lnTo>
                  <a:lnTo>
                    <a:pt x="639" y="0"/>
                  </a:lnTo>
                  <a:lnTo>
                    <a:pt x="613" y="26"/>
                  </a:lnTo>
                  <a:lnTo>
                    <a:pt x="586" y="59"/>
                  </a:lnTo>
                  <a:lnTo>
                    <a:pt x="560" y="85"/>
                  </a:lnTo>
                  <a:lnTo>
                    <a:pt x="534" y="111"/>
                  </a:lnTo>
                  <a:lnTo>
                    <a:pt x="520" y="125"/>
                  </a:lnTo>
                  <a:lnTo>
                    <a:pt x="514" y="131"/>
                  </a:lnTo>
                  <a:lnTo>
                    <a:pt x="507" y="138"/>
                  </a:lnTo>
                  <a:lnTo>
                    <a:pt x="507" y="144"/>
                  </a:lnTo>
                  <a:lnTo>
                    <a:pt x="501" y="151"/>
                  </a:lnTo>
                  <a:lnTo>
                    <a:pt x="501" y="158"/>
                  </a:lnTo>
                  <a:lnTo>
                    <a:pt x="494" y="164"/>
                  </a:lnTo>
                  <a:lnTo>
                    <a:pt x="494" y="171"/>
                  </a:lnTo>
                  <a:lnTo>
                    <a:pt x="487" y="177"/>
                  </a:lnTo>
                  <a:lnTo>
                    <a:pt x="481" y="177"/>
                  </a:lnTo>
                  <a:lnTo>
                    <a:pt x="481" y="184"/>
                  </a:lnTo>
                  <a:lnTo>
                    <a:pt x="474" y="190"/>
                  </a:lnTo>
                  <a:lnTo>
                    <a:pt x="468" y="197"/>
                  </a:lnTo>
                  <a:lnTo>
                    <a:pt x="468" y="204"/>
                  </a:lnTo>
                  <a:lnTo>
                    <a:pt x="461" y="210"/>
                  </a:lnTo>
                  <a:lnTo>
                    <a:pt x="455" y="217"/>
                  </a:lnTo>
                  <a:lnTo>
                    <a:pt x="448" y="223"/>
                  </a:lnTo>
                  <a:lnTo>
                    <a:pt x="455" y="230"/>
                  </a:lnTo>
                  <a:lnTo>
                    <a:pt x="455" y="237"/>
                  </a:lnTo>
                  <a:lnTo>
                    <a:pt x="461" y="243"/>
                  </a:lnTo>
                  <a:lnTo>
                    <a:pt x="468" y="250"/>
                  </a:lnTo>
                  <a:lnTo>
                    <a:pt x="474" y="250"/>
                  </a:lnTo>
                  <a:lnTo>
                    <a:pt x="481" y="243"/>
                  </a:lnTo>
                  <a:lnTo>
                    <a:pt x="487" y="237"/>
                  </a:lnTo>
                  <a:lnTo>
                    <a:pt x="494" y="230"/>
                  </a:lnTo>
                  <a:lnTo>
                    <a:pt x="494" y="223"/>
                  </a:lnTo>
                  <a:lnTo>
                    <a:pt x="501" y="217"/>
                  </a:lnTo>
                  <a:lnTo>
                    <a:pt x="507" y="217"/>
                  </a:lnTo>
                  <a:lnTo>
                    <a:pt x="507" y="223"/>
                  </a:lnTo>
                  <a:lnTo>
                    <a:pt x="507" y="230"/>
                  </a:lnTo>
                  <a:lnTo>
                    <a:pt x="501" y="237"/>
                  </a:lnTo>
                  <a:lnTo>
                    <a:pt x="494" y="243"/>
                  </a:lnTo>
                  <a:lnTo>
                    <a:pt x="487" y="250"/>
                  </a:lnTo>
                  <a:lnTo>
                    <a:pt x="481" y="256"/>
                  </a:lnTo>
                  <a:lnTo>
                    <a:pt x="481" y="256"/>
                  </a:lnTo>
                  <a:lnTo>
                    <a:pt x="481" y="269"/>
                  </a:lnTo>
                  <a:lnTo>
                    <a:pt x="481" y="276"/>
                  </a:lnTo>
                  <a:lnTo>
                    <a:pt x="474" y="276"/>
                  </a:lnTo>
                  <a:lnTo>
                    <a:pt x="474" y="283"/>
                  </a:lnTo>
                  <a:lnTo>
                    <a:pt x="468" y="289"/>
                  </a:lnTo>
                  <a:lnTo>
                    <a:pt x="468" y="296"/>
                  </a:lnTo>
                  <a:lnTo>
                    <a:pt x="468" y="302"/>
                  </a:lnTo>
                  <a:lnTo>
                    <a:pt x="461" y="309"/>
                  </a:lnTo>
                  <a:lnTo>
                    <a:pt x="461" y="316"/>
                  </a:lnTo>
                  <a:lnTo>
                    <a:pt x="455" y="322"/>
                  </a:lnTo>
                  <a:lnTo>
                    <a:pt x="455" y="329"/>
                  </a:lnTo>
                  <a:lnTo>
                    <a:pt x="448" y="335"/>
                  </a:lnTo>
                  <a:lnTo>
                    <a:pt x="448" y="342"/>
                  </a:lnTo>
                  <a:lnTo>
                    <a:pt x="441" y="348"/>
                  </a:lnTo>
                  <a:lnTo>
                    <a:pt x="441" y="355"/>
                  </a:lnTo>
                  <a:lnTo>
                    <a:pt x="441" y="362"/>
                  </a:lnTo>
                  <a:lnTo>
                    <a:pt x="435" y="368"/>
                  </a:lnTo>
                  <a:lnTo>
                    <a:pt x="428" y="375"/>
                  </a:lnTo>
                  <a:lnTo>
                    <a:pt x="428" y="381"/>
                  </a:lnTo>
                  <a:lnTo>
                    <a:pt x="422" y="388"/>
                  </a:lnTo>
                  <a:lnTo>
                    <a:pt x="422" y="395"/>
                  </a:lnTo>
                  <a:lnTo>
                    <a:pt x="422" y="401"/>
                  </a:lnTo>
                  <a:lnTo>
                    <a:pt x="428" y="408"/>
                  </a:lnTo>
                  <a:lnTo>
                    <a:pt x="435" y="414"/>
                  </a:lnTo>
                  <a:lnTo>
                    <a:pt x="441" y="421"/>
                  </a:lnTo>
                  <a:lnTo>
                    <a:pt x="448" y="421"/>
                  </a:lnTo>
                  <a:lnTo>
                    <a:pt x="455" y="414"/>
                  </a:lnTo>
                  <a:lnTo>
                    <a:pt x="461" y="408"/>
                  </a:lnTo>
                  <a:lnTo>
                    <a:pt x="468" y="401"/>
                  </a:lnTo>
                  <a:lnTo>
                    <a:pt x="474" y="395"/>
                  </a:lnTo>
                  <a:lnTo>
                    <a:pt x="474" y="395"/>
                  </a:lnTo>
                  <a:lnTo>
                    <a:pt x="481" y="401"/>
                  </a:lnTo>
                  <a:lnTo>
                    <a:pt x="481" y="414"/>
                  </a:lnTo>
                  <a:lnTo>
                    <a:pt x="481" y="421"/>
                  </a:lnTo>
                  <a:lnTo>
                    <a:pt x="481" y="427"/>
                  </a:lnTo>
                  <a:lnTo>
                    <a:pt x="474" y="434"/>
                  </a:lnTo>
                  <a:lnTo>
                    <a:pt x="474" y="441"/>
                  </a:lnTo>
                  <a:lnTo>
                    <a:pt x="468" y="447"/>
                  </a:lnTo>
                  <a:lnTo>
                    <a:pt x="468" y="454"/>
                  </a:lnTo>
                  <a:lnTo>
                    <a:pt x="461" y="460"/>
                  </a:lnTo>
                  <a:lnTo>
                    <a:pt x="461" y="460"/>
                  </a:lnTo>
                  <a:lnTo>
                    <a:pt x="455" y="467"/>
                  </a:lnTo>
                  <a:lnTo>
                    <a:pt x="455" y="480"/>
                  </a:lnTo>
                  <a:lnTo>
                    <a:pt x="455" y="487"/>
                  </a:lnTo>
                  <a:lnTo>
                    <a:pt x="448" y="493"/>
                  </a:lnTo>
                  <a:lnTo>
                    <a:pt x="441" y="493"/>
                  </a:lnTo>
                  <a:lnTo>
                    <a:pt x="435" y="487"/>
                  </a:lnTo>
                  <a:lnTo>
                    <a:pt x="428" y="480"/>
                  </a:lnTo>
                  <a:lnTo>
                    <a:pt x="422" y="474"/>
                  </a:lnTo>
                  <a:lnTo>
                    <a:pt x="422" y="467"/>
                  </a:lnTo>
                  <a:lnTo>
                    <a:pt x="422" y="460"/>
                  </a:lnTo>
                  <a:lnTo>
                    <a:pt x="422" y="454"/>
                  </a:lnTo>
                  <a:lnTo>
                    <a:pt x="428" y="447"/>
                  </a:lnTo>
                  <a:lnTo>
                    <a:pt x="435" y="441"/>
                  </a:lnTo>
                  <a:lnTo>
                    <a:pt x="435" y="441"/>
                  </a:lnTo>
                  <a:lnTo>
                    <a:pt x="441" y="434"/>
                  </a:lnTo>
                  <a:lnTo>
                    <a:pt x="448" y="427"/>
                  </a:lnTo>
                  <a:lnTo>
                    <a:pt x="441" y="421"/>
                  </a:lnTo>
                  <a:lnTo>
                    <a:pt x="441" y="408"/>
                  </a:lnTo>
                  <a:lnTo>
                    <a:pt x="435" y="401"/>
                  </a:lnTo>
                  <a:lnTo>
                    <a:pt x="428" y="395"/>
                  </a:lnTo>
                  <a:lnTo>
                    <a:pt x="422" y="395"/>
                  </a:lnTo>
                  <a:lnTo>
                    <a:pt x="415" y="395"/>
                  </a:lnTo>
                  <a:lnTo>
                    <a:pt x="415" y="401"/>
                  </a:lnTo>
                  <a:lnTo>
                    <a:pt x="408" y="408"/>
                  </a:lnTo>
                  <a:lnTo>
                    <a:pt x="408" y="414"/>
                  </a:lnTo>
                  <a:lnTo>
                    <a:pt x="408" y="427"/>
                  </a:lnTo>
                  <a:lnTo>
                    <a:pt x="408" y="434"/>
                  </a:lnTo>
                  <a:lnTo>
                    <a:pt x="408" y="441"/>
                  </a:lnTo>
                  <a:lnTo>
                    <a:pt x="402" y="447"/>
                  </a:lnTo>
                  <a:lnTo>
                    <a:pt x="395" y="447"/>
                  </a:lnTo>
                  <a:lnTo>
                    <a:pt x="389" y="454"/>
                  </a:lnTo>
                  <a:lnTo>
                    <a:pt x="382" y="460"/>
                  </a:lnTo>
                  <a:lnTo>
                    <a:pt x="382" y="467"/>
                  </a:lnTo>
                  <a:lnTo>
                    <a:pt x="382" y="474"/>
                  </a:lnTo>
                  <a:lnTo>
                    <a:pt x="375" y="480"/>
                  </a:lnTo>
                  <a:lnTo>
                    <a:pt x="375" y="487"/>
                  </a:lnTo>
                  <a:lnTo>
                    <a:pt x="369" y="493"/>
                  </a:lnTo>
                  <a:lnTo>
                    <a:pt x="362" y="493"/>
                  </a:lnTo>
                  <a:lnTo>
                    <a:pt x="356" y="500"/>
                  </a:lnTo>
                  <a:lnTo>
                    <a:pt x="349" y="506"/>
                  </a:lnTo>
                  <a:lnTo>
                    <a:pt x="343" y="506"/>
                  </a:lnTo>
                  <a:lnTo>
                    <a:pt x="329" y="513"/>
                  </a:lnTo>
                  <a:lnTo>
                    <a:pt x="323" y="520"/>
                  </a:lnTo>
                  <a:lnTo>
                    <a:pt x="316" y="526"/>
                  </a:lnTo>
                  <a:lnTo>
                    <a:pt x="310" y="533"/>
                  </a:lnTo>
                  <a:lnTo>
                    <a:pt x="303" y="533"/>
                  </a:lnTo>
                  <a:lnTo>
                    <a:pt x="296" y="526"/>
                  </a:lnTo>
                  <a:lnTo>
                    <a:pt x="296" y="520"/>
                  </a:lnTo>
                  <a:lnTo>
                    <a:pt x="290" y="513"/>
                  </a:lnTo>
                  <a:lnTo>
                    <a:pt x="277" y="506"/>
                  </a:lnTo>
                  <a:lnTo>
                    <a:pt x="270" y="506"/>
                  </a:lnTo>
                  <a:lnTo>
                    <a:pt x="257" y="513"/>
                  </a:lnTo>
                  <a:lnTo>
                    <a:pt x="250" y="520"/>
                  </a:lnTo>
                  <a:lnTo>
                    <a:pt x="244" y="520"/>
                  </a:lnTo>
                  <a:lnTo>
                    <a:pt x="244" y="526"/>
                  </a:lnTo>
                  <a:lnTo>
                    <a:pt x="237" y="533"/>
                  </a:lnTo>
                  <a:lnTo>
                    <a:pt x="231" y="539"/>
                  </a:lnTo>
                  <a:lnTo>
                    <a:pt x="224" y="546"/>
                  </a:lnTo>
                  <a:lnTo>
                    <a:pt x="217" y="546"/>
                  </a:lnTo>
                  <a:lnTo>
                    <a:pt x="204" y="553"/>
                  </a:lnTo>
                  <a:lnTo>
                    <a:pt x="198" y="553"/>
                  </a:lnTo>
                  <a:lnTo>
                    <a:pt x="191" y="559"/>
                  </a:lnTo>
                  <a:lnTo>
                    <a:pt x="191" y="566"/>
                  </a:lnTo>
                  <a:lnTo>
                    <a:pt x="184" y="572"/>
                  </a:lnTo>
                  <a:lnTo>
                    <a:pt x="178" y="579"/>
                  </a:lnTo>
                  <a:lnTo>
                    <a:pt x="165" y="579"/>
                  </a:lnTo>
                  <a:lnTo>
                    <a:pt x="158" y="579"/>
                  </a:lnTo>
                  <a:lnTo>
                    <a:pt x="145" y="572"/>
                  </a:lnTo>
                  <a:lnTo>
                    <a:pt x="138" y="566"/>
                  </a:lnTo>
                  <a:lnTo>
                    <a:pt x="138" y="559"/>
                  </a:lnTo>
                  <a:lnTo>
                    <a:pt x="132" y="559"/>
                  </a:lnTo>
                  <a:lnTo>
                    <a:pt x="125" y="553"/>
                  </a:lnTo>
                  <a:lnTo>
                    <a:pt x="112" y="553"/>
                  </a:lnTo>
                  <a:lnTo>
                    <a:pt x="105" y="553"/>
                  </a:lnTo>
                  <a:lnTo>
                    <a:pt x="92" y="553"/>
                  </a:lnTo>
                  <a:lnTo>
                    <a:pt x="86" y="553"/>
                  </a:lnTo>
                  <a:lnTo>
                    <a:pt x="72" y="546"/>
                  </a:lnTo>
                  <a:lnTo>
                    <a:pt x="66" y="539"/>
                  </a:lnTo>
                  <a:lnTo>
                    <a:pt x="66" y="533"/>
                  </a:lnTo>
                  <a:lnTo>
                    <a:pt x="59" y="526"/>
                  </a:lnTo>
                  <a:lnTo>
                    <a:pt x="59" y="533"/>
                  </a:lnTo>
                  <a:lnTo>
                    <a:pt x="53" y="533"/>
                  </a:lnTo>
                  <a:lnTo>
                    <a:pt x="46" y="533"/>
                  </a:lnTo>
                  <a:lnTo>
                    <a:pt x="39" y="539"/>
                  </a:lnTo>
                  <a:lnTo>
                    <a:pt x="33" y="539"/>
                  </a:lnTo>
                  <a:lnTo>
                    <a:pt x="33" y="546"/>
                  </a:lnTo>
                  <a:lnTo>
                    <a:pt x="26" y="553"/>
                  </a:lnTo>
                  <a:lnTo>
                    <a:pt x="20" y="553"/>
                  </a:lnTo>
                  <a:lnTo>
                    <a:pt x="20" y="559"/>
                  </a:lnTo>
                  <a:lnTo>
                    <a:pt x="20" y="566"/>
                  </a:lnTo>
                  <a:lnTo>
                    <a:pt x="26" y="572"/>
                  </a:lnTo>
                  <a:lnTo>
                    <a:pt x="26" y="572"/>
                  </a:lnTo>
                  <a:lnTo>
                    <a:pt x="33" y="579"/>
                  </a:lnTo>
                  <a:lnTo>
                    <a:pt x="39" y="579"/>
                  </a:lnTo>
                  <a:lnTo>
                    <a:pt x="46" y="585"/>
                  </a:lnTo>
                  <a:lnTo>
                    <a:pt x="53" y="585"/>
                  </a:lnTo>
                  <a:lnTo>
                    <a:pt x="59" y="585"/>
                  </a:lnTo>
                  <a:lnTo>
                    <a:pt x="66" y="592"/>
                  </a:lnTo>
                  <a:lnTo>
                    <a:pt x="72" y="592"/>
                  </a:lnTo>
                  <a:lnTo>
                    <a:pt x="79" y="592"/>
                  </a:lnTo>
                  <a:lnTo>
                    <a:pt x="92" y="592"/>
                  </a:lnTo>
                  <a:lnTo>
                    <a:pt x="99" y="599"/>
                  </a:lnTo>
                  <a:lnTo>
                    <a:pt x="105" y="599"/>
                  </a:lnTo>
                  <a:lnTo>
                    <a:pt x="112" y="599"/>
                  </a:lnTo>
                  <a:lnTo>
                    <a:pt x="118" y="599"/>
                  </a:lnTo>
                  <a:lnTo>
                    <a:pt x="132" y="599"/>
                  </a:lnTo>
                  <a:lnTo>
                    <a:pt x="138" y="605"/>
                  </a:lnTo>
                  <a:lnTo>
                    <a:pt x="138" y="605"/>
                  </a:lnTo>
                  <a:lnTo>
                    <a:pt x="145" y="612"/>
                  </a:lnTo>
                  <a:lnTo>
                    <a:pt x="151" y="612"/>
                  </a:lnTo>
                  <a:lnTo>
                    <a:pt x="158" y="618"/>
                  </a:lnTo>
                  <a:lnTo>
                    <a:pt x="165" y="618"/>
                  </a:lnTo>
                  <a:lnTo>
                    <a:pt x="171" y="618"/>
                  </a:lnTo>
                  <a:lnTo>
                    <a:pt x="178" y="618"/>
                  </a:lnTo>
                  <a:lnTo>
                    <a:pt x="184" y="618"/>
                  </a:lnTo>
                  <a:lnTo>
                    <a:pt x="198" y="618"/>
                  </a:lnTo>
                  <a:lnTo>
                    <a:pt x="204" y="625"/>
                  </a:lnTo>
                  <a:lnTo>
                    <a:pt x="211" y="625"/>
                  </a:lnTo>
                  <a:lnTo>
                    <a:pt x="217" y="625"/>
                  </a:lnTo>
                  <a:lnTo>
                    <a:pt x="224" y="625"/>
                  </a:lnTo>
                  <a:lnTo>
                    <a:pt x="231" y="625"/>
                  </a:lnTo>
                  <a:lnTo>
                    <a:pt x="244" y="618"/>
                  </a:lnTo>
                  <a:lnTo>
                    <a:pt x="250" y="618"/>
                  </a:lnTo>
                  <a:lnTo>
                    <a:pt x="257" y="618"/>
                  </a:lnTo>
                  <a:lnTo>
                    <a:pt x="263" y="625"/>
                  </a:lnTo>
                  <a:lnTo>
                    <a:pt x="270" y="625"/>
                  </a:lnTo>
                  <a:lnTo>
                    <a:pt x="270" y="632"/>
                  </a:lnTo>
                  <a:lnTo>
                    <a:pt x="277" y="638"/>
                  </a:lnTo>
                  <a:lnTo>
                    <a:pt x="277" y="645"/>
                  </a:lnTo>
                  <a:lnTo>
                    <a:pt x="277" y="651"/>
                  </a:lnTo>
                  <a:lnTo>
                    <a:pt x="277" y="651"/>
                  </a:lnTo>
                  <a:lnTo>
                    <a:pt x="277" y="658"/>
                  </a:lnTo>
                  <a:lnTo>
                    <a:pt x="277" y="664"/>
                  </a:lnTo>
                  <a:lnTo>
                    <a:pt x="283" y="664"/>
                  </a:lnTo>
                  <a:lnTo>
                    <a:pt x="290" y="671"/>
                  </a:lnTo>
                  <a:lnTo>
                    <a:pt x="296" y="671"/>
                  </a:lnTo>
                  <a:lnTo>
                    <a:pt x="303" y="671"/>
                  </a:lnTo>
                  <a:lnTo>
                    <a:pt x="310" y="671"/>
                  </a:lnTo>
                  <a:close/>
                  <a:moveTo>
                    <a:pt x="448" y="671"/>
                  </a:moveTo>
                  <a:lnTo>
                    <a:pt x="448" y="671"/>
                  </a:lnTo>
                  <a:lnTo>
                    <a:pt x="448" y="671"/>
                  </a:lnTo>
                  <a:lnTo>
                    <a:pt x="448" y="664"/>
                  </a:lnTo>
                  <a:lnTo>
                    <a:pt x="448" y="664"/>
                  </a:lnTo>
                  <a:lnTo>
                    <a:pt x="448" y="664"/>
                  </a:lnTo>
                  <a:lnTo>
                    <a:pt x="448" y="664"/>
                  </a:lnTo>
                  <a:lnTo>
                    <a:pt x="448" y="664"/>
                  </a:lnTo>
                  <a:lnTo>
                    <a:pt x="448" y="664"/>
                  </a:lnTo>
                  <a:lnTo>
                    <a:pt x="441" y="671"/>
                  </a:lnTo>
                  <a:lnTo>
                    <a:pt x="441" y="671"/>
                  </a:lnTo>
                  <a:lnTo>
                    <a:pt x="441" y="671"/>
                  </a:lnTo>
                  <a:lnTo>
                    <a:pt x="448" y="671"/>
                  </a:lnTo>
                  <a:lnTo>
                    <a:pt x="448" y="671"/>
                  </a:lnTo>
                  <a:lnTo>
                    <a:pt x="448" y="671"/>
                  </a:lnTo>
                  <a:close/>
                  <a:moveTo>
                    <a:pt x="1957" y="645"/>
                  </a:moveTo>
                  <a:lnTo>
                    <a:pt x="1957" y="638"/>
                  </a:lnTo>
                  <a:lnTo>
                    <a:pt x="1964" y="632"/>
                  </a:lnTo>
                  <a:lnTo>
                    <a:pt x="1964" y="625"/>
                  </a:lnTo>
                  <a:lnTo>
                    <a:pt x="1964" y="625"/>
                  </a:lnTo>
                  <a:lnTo>
                    <a:pt x="1964" y="618"/>
                  </a:lnTo>
                  <a:lnTo>
                    <a:pt x="1964" y="612"/>
                  </a:lnTo>
                  <a:lnTo>
                    <a:pt x="1957" y="605"/>
                  </a:lnTo>
                  <a:lnTo>
                    <a:pt x="1950" y="599"/>
                  </a:lnTo>
                  <a:lnTo>
                    <a:pt x="1950" y="599"/>
                  </a:lnTo>
                  <a:lnTo>
                    <a:pt x="1950" y="605"/>
                  </a:lnTo>
                  <a:lnTo>
                    <a:pt x="1944" y="612"/>
                  </a:lnTo>
                  <a:lnTo>
                    <a:pt x="1944" y="618"/>
                  </a:lnTo>
                  <a:lnTo>
                    <a:pt x="1944" y="625"/>
                  </a:lnTo>
                  <a:lnTo>
                    <a:pt x="1944" y="625"/>
                  </a:lnTo>
                  <a:lnTo>
                    <a:pt x="1944" y="632"/>
                  </a:lnTo>
                  <a:lnTo>
                    <a:pt x="1950" y="638"/>
                  </a:lnTo>
                  <a:lnTo>
                    <a:pt x="1950" y="645"/>
                  </a:lnTo>
                  <a:lnTo>
                    <a:pt x="1950" y="651"/>
                  </a:lnTo>
                  <a:lnTo>
                    <a:pt x="1950" y="651"/>
                  </a:lnTo>
                  <a:lnTo>
                    <a:pt x="1957" y="645"/>
                  </a:lnTo>
                  <a:close/>
                  <a:moveTo>
                    <a:pt x="20" y="585"/>
                  </a:moveTo>
                  <a:lnTo>
                    <a:pt x="0" y="579"/>
                  </a:lnTo>
                  <a:lnTo>
                    <a:pt x="0" y="585"/>
                  </a:lnTo>
                  <a:lnTo>
                    <a:pt x="0" y="605"/>
                  </a:lnTo>
                  <a:lnTo>
                    <a:pt x="20" y="585"/>
                  </a:lnTo>
                  <a:close/>
                  <a:moveTo>
                    <a:pt x="1146" y="559"/>
                  </a:moveTo>
                  <a:lnTo>
                    <a:pt x="1146" y="559"/>
                  </a:lnTo>
                  <a:lnTo>
                    <a:pt x="1146" y="559"/>
                  </a:lnTo>
                  <a:lnTo>
                    <a:pt x="1146" y="559"/>
                  </a:lnTo>
                  <a:lnTo>
                    <a:pt x="1140" y="559"/>
                  </a:lnTo>
                  <a:lnTo>
                    <a:pt x="1140" y="559"/>
                  </a:lnTo>
                  <a:lnTo>
                    <a:pt x="1140" y="559"/>
                  </a:lnTo>
                  <a:lnTo>
                    <a:pt x="1140" y="559"/>
                  </a:lnTo>
                  <a:lnTo>
                    <a:pt x="1140" y="559"/>
                  </a:lnTo>
                  <a:lnTo>
                    <a:pt x="1140" y="559"/>
                  </a:lnTo>
                  <a:lnTo>
                    <a:pt x="1140" y="559"/>
                  </a:lnTo>
                  <a:lnTo>
                    <a:pt x="1140" y="559"/>
                  </a:lnTo>
                  <a:lnTo>
                    <a:pt x="1140" y="559"/>
                  </a:lnTo>
                  <a:lnTo>
                    <a:pt x="1146" y="559"/>
                  </a:lnTo>
                  <a:lnTo>
                    <a:pt x="1146" y="559"/>
                  </a:lnTo>
                  <a:close/>
                  <a:moveTo>
                    <a:pt x="1990" y="559"/>
                  </a:moveTo>
                  <a:lnTo>
                    <a:pt x="1996" y="553"/>
                  </a:lnTo>
                  <a:lnTo>
                    <a:pt x="2003" y="546"/>
                  </a:lnTo>
                  <a:lnTo>
                    <a:pt x="2003" y="539"/>
                  </a:lnTo>
                  <a:lnTo>
                    <a:pt x="2003" y="533"/>
                  </a:lnTo>
                  <a:lnTo>
                    <a:pt x="1990" y="520"/>
                  </a:lnTo>
                  <a:lnTo>
                    <a:pt x="1983" y="513"/>
                  </a:lnTo>
                  <a:lnTo>
                    <a:pt x="1977" y="513"/>
                  </a:lnTo>
                  <a:lnTo>
                    <a:pt x="1970" y="520"/>
                  </a:lnTo>
                  <a:lnTo>
                    <a:pt x="1970" y="533"/>
                  </a:lnTo>
                  <a:lnTo>
                    <a:pt x="1970" y="539"/>
                  </a:lnTo>
                  <a:lnTo>
                    <a:pt x="1970" y="546"/>
                  </a:lnTo>
                  <a:lnTo>
                    <a:pt x="1970" y="553"/>
                  </a:lnTo>
                  <a:lnTo>
                    <a:pt x="1977" y="559"/>
                  </a:lnTo>
                  <a:lnTo>
                    <a:pt x="1977" y="572"/>
                  </a:lnTo>
                  <a:lnTo>
                    <a:pt x="1977" y="579"/>
                  </a:lnTo>
                  <a:lnTo>
                    <a:pt x="1977" y="585"/>
                  </a:lnTo>
                  <a:lnTo>
                    <a:pt x="1977" y="585"/>
                  </a:lnTo>
                  <a:lnTo>
                    <a:pt x="1983" y="579"/>
                  </a:lnTo>
                  <a:lnTo>
                    <a:pt x="1983" y="572"/>
                  </a:lnTo>
                  <a:lnTo>
                    <a:pt x="1990" y="559"/>
                  </a:lnTo>
                  <a:close/>
                  <a:moveTo>
                    <a:pt x="2016" y="506"/>
                  </a:moveTo>
                  <a:lnTo>
                    <a:pt x="2016" y="500"/>
                  </a:lnTo>
                  <a:lnTo>
                    <a:pt x="2016" y="493"/>
                  </a:lnTo>
                  <a:lnTo>
                    <a:pt x="2016" y="487"/>
                  </a:lnTo>
                  <a:lnTo>
                    <a:pt x="2016" y="480"/>
                  </a:lnTo>
                  <a:lnTo>
                    <a:pt x="2016" y="480"/>
                  </a:lnTo>
                  <a:lnTo>
                    <a:pt x="2010" y="474"/>
                  </a:lnTo>
                  <a:lnTo>
                    <a:pt x="2003" y="474"/>
                  </a:lnTo>
                  <a:lnTo>
                    <a:pt x="1996" y="474"/>
                  </a:lnTo>
                  <a:lnTo>
                    <a:pt x="1996" y="480"/>
                  </a:lnTo>
                  <a:lnTo>
                    <a:pt x="1996" y="487"/>
                  </a:lnTo>
                  <a:lnTo>
                    <a:pt x="1996" y="493"/>
                  </a:lnTo>
                  <a:lnTo>
                    <a:pt x="1996" y="500"/>
                  </a:lnTo>
                  <a:lnTo>
                    <a:pt x="1996" y="500"/>
                  </a:lnTo>
                  <a:lnTo>
                    <a:pt x="1996" y="506"/>
                  </a:lnTo>
                  <a:lnTo>
                    <a:pt x="2003" y="513"/>
                  </a:lnTo>
                  <a:lnTo>
                    <a:pt x="2003" y="520"/>
                  </a:lnTo>
                  <a:lnTo>
                    <a:pt x="2010" y="520"/>
                  </a:lnTo>
                  <a:lnTo>
                    <a:pt x="2010" y="520"/>
                  </a:lnTo>
                  <a:lnTo>
                    <a:pt x="2010" y="513"/>
                  </a:lnTo>
                  <a:lnTo>
                    <a:pt x="2016" y="506"/>
                  </a:lnTo>
                  <a:close/>
                  <a:moveTo>
                    <a:pt x="323" y="447"/>
                  </a:moveTo>
                  <a:lnTo>
                    <a:pt x="323" y="434"/>
                  </a:lnTo>
                  <a:lnTo>
                    <a:pt x="316" y="427"/>
                  </a:lnTo>
                  <a:lnTo>
                    <a:pt x="310" y="421"/>
                  </a:lnTo>
                  <a:lnTo>
                    <a:pt x="310" y="421"/>
                  </a:lnTo>
                  <a:lnTo>
                    <a:pt x="303" y="427"/>
                  </a:lnTo>
                  <a:lnTo>
                    <a:pt x="296" y="434"/>
                  </a:lnTo>
                  <a:lnTo>
                    <a:pt x="290" y="441"/>
                  </a:lnTo>
                  <a:lnTo>
                    <a:pt x="290" y="447"/>
                  </a:lnTo>
                  <a:lnTo>
                    <a:pt x="296" y="460"/>
                  </a:lnTo>
                  <a:lnTo>
                    <a:pt x="303" y="467"/>
                  </a:lnTo>
                  <a:lnTo>
                    <a:pt x="310" y="467"/>
                  </a:lnTo>
                  <a:lnTo>
                    <a:pt x="316" y="467"/>
                  </a:lnTo>
                  <a:lnTo>
                    <a:pt x="323" y="460"/>
                  </a:lnTo>
                  <a:lnTo>
                    <a:pt x="323" y="447"/>
                  </a:lnTo>
                  <a:close/>
                  <a:moveTo>
                    <a:pt x="349" y="421"/>
                  </a:moveTo>
                  <a:lnTo>
                    <a:pt x="349" y="414"/>
                  </a:lnTo>
                  <a:lnTo>
                    <a:pt x="356" y="408"/>
                  </a:lnTo>
                  <a:lnTo>
                    <a:pt x="356" y="401"/>
                  </a:lnTo>
                  <a:lnTo>
                    <a:pt x="362" y="395"/>
                  </a:lnTo>
                  <a:lnTo>
                    <a:pt x="369" y="395"/>
                  </a:lnTo>
                  <a:lnTo>
                    <a:pt x="369" y="388"/>
                  </a:lnTo>
                  <a:lnTo>
                    <a:pt x="375" y="381"/>
                  </a:lnTo>
                  <a:lnTo>
                    <a:pt x="382" y="375"/>
                  </a:lnTo>
                  <a:lnTo>
                    <a:pt x="389" y="368"/>
                  </a:lnTo>
                  <a:lnTo>
                    <a:pt x="389" y="362"/>
                  </a:lnTo>
                  <a:lnTo>
                    <a:pt x="382" y="355"/>
                  </a:lnTo>
                  <a:lnTo>
                    <a:pt x="375" y="355"/>
                  </a:lnTo>
                  <a:lnTo>
                    <a:pt x="362" y="348"/>
                  </a:lnTo>
                  <a:lnTo>
                    <a:pt x="356" y="355"/>
                  </a:lnTo>
                  <a:lnTo>
                    <a:pt x="356" y="362"/>
                  </a:lnTo>
                  <a:lnTo>
                    <a:pt x="349" y="368"/>
                  </a:lnTo>
                  <a:lnTo>
                    <a:pt x="349" y="375"/>
                  </a:lnTo>
                  <a:lnTo>
                    <a:pt x="343" y="375"/>
                  </a:lnTo>
                  <a:lnTo>
                    <a:pt x="336" y="381"/>
                  </a:lnTo>
                  <a:lnTo>
                    <a:pt x="336" y="388"/>
                  </a:lnTo>
                  <a:lnTo>
                    <a:pt x="329" y="395"/>
                  </a:lnTo>
                  <a:lnTo>
                    <a:pt x="323" y="401"/>
                  </a:lnTo>
                  <a:lnTo>
                    <a:pt x="316" y="401"/>
                  </a:lnTo>
                  <a:lnTo>
                    <a:pt x="316" y="408"/>
                  </a:lnTo>
                  <a:lnTo>
                    <a:pt x="310" y="414"/>
                  </a:lnTo>
                  <a:lnTo>
                    <a:pt x="310" y="421"/>
                  </a:lnTo>
                  <a:lnTo>
                    <a:pt x="316" y="427"/>
                  </a:lnTo>
                  <a:lnTo>
                    <a:pt x="329" y="434"/>
                  </a:lnTo>
                  <a:lnTo>
                    <a:pt x="336" y="434"/>
                  </a:lnTo>
                  <a:lnTo>
                    <a:pt x="343" y="434"/>
                  </a:lnTo>
                  <a:lnTo>
                    <a:pt x="343" y="427"/>
                  </a:lnTo>
                  <a:lnTo>
                    <a:pt x="349" y="421"/>
                  </a:lnTo>
                  <a:close/>
                  <a:moveTo>
                    <a:pt x="2543" y="395"/>
                  </a:moveTo>
                  <a:lnTo>
                    <a:pt x="2543" y="381"/>
                  </a:lnTo>
                  <a:lnTo>
                    <a:pt x="2537" y="375"/>
                  </a:lnTo>
                  <a:lnTo>
                    <a:pt x="2537" y="375"/>
                  </a:lnTo>
                  <a:lnTo>
                    <a:pt x="2537" y="368"/>
                  </a:lnTo>
                  <a:lnTo>
                    <a:pt x="2537" y="368"/>
                  </a:lnTo>
                  <a:lnTo>
                    <a:pt x="2537" y="368"/>
                  </a:lnTo>
                  <a:lnTo>
                    <a:pt x="2530" y="375"/>
                  </a:lnTo>
                  <a:lnTo>
                    <a:pt x="2530" y="381"/>
                  </a:lnTo>
                  <a:lnTo>
                    <a:pt x="2530" y="388"/>
                  </a:lnTo>
                  <a:lnTo>
                    <a:pt x="2530" y="395"/>
                  </a:lnTo>
                  <a:lnTo>
                    <a:pt x="2530" y="401"/>
                  </a:lnTo>
                  <a:lnTo>
                    <a:pt x="2537" y="401"/>
                  </a:lnTo>
                  <a:lnTo>
                    <a:pt x="2537" y="401"/>
                  </a:lnTo>
                  <a:lnTo>
                    <a:pt x="2543" y="395"/>
                  </a:lnTo>
                  <a:close/>
                  <a:moveTo>
                    <a:pt x="408" y="335"/>
                  </a:moveTo>
                  <a:lnTo>
                    <a:pt x="402" y="322"/>
                  </a:lnTo>
                  <a:lnTo>
                    <a:pt x="402" y="316"/>
                  </a:lnTo>
                  <a:lnTo>
                    <a:pt x="395" y="309"/>
                  </a:lnTo>
                  <a:lnTo>
                    <a:pt x="389" y="309"/>
                  </a:lnTo>
                  <a:lnTo>
                    <a:pt x="382" y="316"/>
                  </a:lnTo>
                  <a:lnTo>
                    <a:pt x="375" y="322"/>
                  </a:lnTo>
                  <a:lnTo>
                    <a:pt x="375" y="329"/>
                  </a:lnTo>
                  <a:lnTo>
                    <a:pt x="375" y="342"/>
                  </a:lnTo>
                  <a:lnTo>
                    <a:pt x="382" y="348"/>
                  </a:lnTo>
                  <a:lnTo>
                    <a:pt x="389" y="355"/>
                  </a:lnTo>
                  <a:lnTo>
                    <a:pt x="395" y="362"/>
                  </a:lnTo>
                  <a:lnTo>
                    <a:pt x="402" y="355"/>
                  </a:lnTo>
                  <a:lnTo>
                    <a:pt x="402" y="348"/>
                  </a:lnTo>
                  <a:lnTo>
                    <a:pt x="408" y="335"/>
                  </a:lnTo>
                  <a:close/>
                  <a:moveTo>
                    <a:pt x="428" y="309"/>
                  </a:moveTo>
                  <a:lnTo>
                    <a:pt x="435" y="302"/>
                  </a:lnTo>
                  <a:lnTo>
                    <a:pt x="435" y="296"/>
                  </a:lnTo>
                  <a:lnTo>
                    <a:pt x="441" y="289"/>
                  </a:lnTo>
                  <a:lnTo>
                    <a:pt x="455" y="283"/>
                  </a:lnTo>
                  <a:lnTo>
                    <a:pt x="468" y="283"/>
                  </a:lnTo>
                  <a:lnTo>
                    <a:pt x="474" y="283"/>
                  </a:lnTo>
                  <a:lnTo>
                    <a:pt x="474" y="276"/>
                  </a:lnTo>
                  <a:lnTo>
                    <a:pt x="474" y="269"/>
                  </a:lnTo>
                  <a:lnTo>
                    <a:pt x="474" y="263"/>
                  </a:lnTo>
                  <a:lnTo>
                    <a:pt x="468" y="250"/>
                  </a:lnTo>
                  <a:lnTo>
                    <a:pt x="461" y="243"/>
                  </a:lnTo>
                  <a:lnTo>
                    <a:pt x="455" y="237"/>
                  </a:lnTo>
                  <a:lnTo>
                    <a:pt x="455" y="230"/>
                  </a:lnTo>
                  <a:lnTo>
                    <a:pt x="448" y="230"/>
                  </a:lnTo>
                  <a:lnTo>
                    <a:pt x="441" y="230"/>
                  </a:lnTo>
                  <a:lnTo>
                    <a:pt x="435" y="237"/>
                  </a:lnTo>
                  <a:lnTo>
                    <a:pt x="435" y="250"/>
                  </a:lnTo>
                  <a:lnTo>
                    <a:pt x="428" y="256"/>
                  </a:lnTo>
                  <a:lnTo>
                    <a:pt x="428" y="263"/>
                  </a:lnTo>
                  <a:lnTo>
                    <a:pt x="422" y="269"/>
                  </a:lnTo>
                  <a:lnTo>
                    <a:pt x="415" y="276"/>
                  </a:lnTo>
                  <a:lnTo>
                    <a:pt x="415" y="283"/>
                  </a:lnTo>
                  <a:lnTo>
                    <a:pt x="408" y="289"/>
                  </a:lnTo>
                  <a:lnTo>
                    <a:pt x="402" y="289"/>
                  </a:lnTo>
                  <a:lnTo>
                    <a:pt x="395" y="296"/>
                  </a:lnTo>
                  <a:lnTo>
                    <a:pt x="389" y="302"/>
                  </a:lnTo>
                  <a:lnTo>
                    <a:pt x="395" y="309"/>
                  </a:lnTo>
                  <a:lnTo>
                    <a:pt x="402" y="316"/>
                  </a:lnTo>
                  <a:lnTo>
                    <a:pt x="415" y="322"/>
                  </a:lnTo>
                  <a:lnTo>
                    <a:pt x="422" y="322"/>
                  </a:lnTo>
                  <a:lnTo>
                    <a:pt x="428" y="316"/>
                  </a:lnTo>
                  <a:lnTo>
                    <a:pt x="428" y="309"/>
                  </a:lnTo>
                  <a:close/>
                  <a:moveTo>
                    <a:pt x="343" y="283"/>
                  </a:moveTo>
                  <a:lnTo>
                    <a:pt x="336" y="283"/>
                  </a:lnTo>
                  <a:lnTo>
                    <a:pt x="323" y="296"/>
                  </a:lnTo>
                  <a:lnTo>
                    <a:pt x="323" y="289"/>
                  </a:lnTo>
                  <a:lnTo>
                    <a:pt x="329" y="289"/>
                  </a:lnTo>
                  <a:lnTo>
                    <a:pt x="329" y="289"/>
                  </a:lnTo>
                  <a:lnTo>
                    <a:pt x="329" y="289"/>
                  </a:lnTo>
                  <a:lnTo>
                    <a:pt x="336" y="283"/>
                  </a:lnTo>
                  <a:lnTo>
                    <a:pt x="336" y="283"/>
                  </a:lnTo>
                  <a:lnTo>
                    <a:pt x="336" y="283"/>
                  </a:lnTo>
                  <a:lnTo>
                    <a:pt x="343" y="283"/>
                  </a:lnTo>
                  <a:close/>
                  <a:moveTo>
                    <a:pt x="369" y="250"/>
                  </a:moveTo>
                  <a:lnTo>
                    <a:pt x="362" y="250"/>
                  </a:lnTo>
                  <a:lnTo>
                    <a:pt x="362" y="256"/>
                  </a:lnTo>
                  <a:lnTo>
                    <a:pt x="369" y="250"/>
                  </a:lnTo>
                  <a:close/>
                  <a:moveTo>
                    <a:pt x="395" y="223"/>
                  </a:moveTo>
                  <a:lnTo>
                    <a:pt x="402" y="217"/>
                  </a:lnTo>
                  <a:lnTo>
                    <a:pt x="389" y="223"/>
                  </a:lnTo>
                  <a:lnTo>
                    <a:pt x="389" y="223"/>
                  </a:lnTo>
                  <a:lnTo>
                    <a:pt x="395" y="223"/>
                  </a:lnTo>
                  <a:close/>
                  <a:moveTo>
                    <a:pt x="455" y="171"/>
                  </a:moveTo>
                  <a:lnTo>
                    <a:pt x="448" y="171"/>
                  </a:lnTo>
                  <a:lnTo>
                    <a:pt x="435" y="184"/>
                  </a:lnTo>
                  <a:lnTo>
                    <a:pt x="435" y="177"/>
                  </a:lnTo>
                  <a:lnTo>
                    <a:pt x="441" y="177"/>
                  </a:lnTo>
                  <a:lnTo>
                    <a:pt x="441" y="177"/>
                  </a:lnTo>
                  <a:lnTo>
                    <a:pt x="441" y="177"/>
                  </a:lnTo>
                  <a:lnTo>
                    <a:pt x="441" y="171"/>
                  </a:lnTo>
                  <a:lnTo>
                    <a:pt x="448" y="171"/>
                  </a:lnTo>
                  <a:lnTo>
                    <a:pt x="448" y="171"/>
                  </a:lnTo>
                  <a:lnTo>
                    <a:pt x="455" y="171"/>
                  </a:lnTo>
                  <a:close/>
                  <a:moveTo>
                    <a:pt x="982" y="171"/>
                  </a:moveTo>
                  <a:lnTo>
                    <a:pt x="982" y="164"/>
                  </a:lnTo>
                  <a:lnTo>
                    <a:pt x="982" y="158"/>
                  </a:lnTo>
                  <a:lnTo>
                    <a:pt x="975" y="158"/>
                  </a:lnTo>
                  <a:lnTo>
                    <a:pt x="969" y="158"/>
                  </a:lnTo>
                  <a:lnTo>
                    <a:pt x="962" y="158"/>
                  </a:lnTo>
                  <a:lnTo>
                    <a:pt x="955" y="164"/>
                  </a:lnTo>
                  <a:lnTo>
                    <a:pt x="949" y="164"/>
                  </a:lnTo>
                  <a:lnTo>
                    <a:pt x="949" y="171"/>
                  </a:lnTo>
                  <a:lnTo>
                    <a:pt x="955" y="177"/>
                  </a:lnTo>
                  <a:lnTo>
                    <a:pt x="962" y="177"/>
                  </a:lnTo>
                  <a:lnTo>
                    <a:pt x="969" y="177"/>
                  </a:lnTo>
                  <a:lnTo>
                    <a:pt x="975" y="177"/>
                  </a:lnTo>
                  <a:lnTo>
                    <a:pt x="982" y="177"/>
                  </a:lnTo>
                  <a:lnTo>
                    <a:pt x="982" y="171"/>
                  </a:lnTo>
                  <a:close/>
                  <a:moveTo>
                    <a:pt x="494" y="138"/>
                  </a:moveTo>
                  <a:lnTo>
                    <a:pt x="474" y="138"/>
                  </a:lnTo>
                  <a:lnTo>
                    <a:pt x="474" y="158"/>
                  </a:lnTo>
                  <a:lnTo>
                    <a:pt x="494" y="138"/>
                  </a:lnTo>
                  <a:close/>
                  <a:moveTo>
                    <a:pt x="2675" y="111"/>
                  </a:moveTo>
                  <a:lnTo>
                    <a:pt x="2655" y="111"/>
                  </a:lnTo>
                  <a:lnTo>
                    <a:pt x="2675" y="131"/>
                  </a:lnTo>
                  <a:lnTo>
                    <a:pt x="2675" y="111"/>
                  </a:lnTo>
                  <a:close/>
                  <a:moveTo>
                    <a:pt x="771" y="85"/>
                  </a:moveTo>
                  <a:lnTo>
                    <a:pt x="771" y="79"/>
                  </a:lnTo>
                  <a:lnTo>
                    <a:pt x="777" y="79"/>
                  </a:lnTo>
                  <a:lnTo>
                    <a:pt x="777" y="72"/>
                  </a:lnTo>
                  <a:lnTo>
                    <a:pt x="784" y="72"/>
                  </a:lnTo>
                  <a:lnTo>
                    <a:pt x="784" y="79"/>
                  </a:lnTo>
                  <a:lnTo>
                    <a:pt x="791" y="79"/>
                  </a:lnTo>
                  <a:lnTo>
                    <a:pt x="791" y="85"/>
                  </a:lnTo>
                  <a:lnTo>
                    <a:pt x="791" y="85"/>
                  </a:lnTo>
                  <a:lnTo>
                    <a:pt x="784" y="92"/>
                  </a:lnTo>
                  <a:lnTo>
                    <a:pt x="784" y="92"/>
                  </a:lnTo>
                  <a:lnTo>
                    <a:pt x="777" y="92"/>
                  </a:lnTo>
                  <a:lnTo>
                    <a:pt x="777" y="92"/>
                  </a:lnTo>
                  <a:lnTo>
                    <a:pt x="771" y="92"/>
                  </a:lnTo>
                  <a:lnTo>
                    <a:pt x="771" y="85"/>
                  </a:lnTo>
                  <a:close/>
                  <a:moveTo>
                    <a:pt x="2649" y="85"/>
                  </a:moveTo>
                  <a:lnTo>
                    <a:pt x="2616" y="85"/>
                  </a:lnTo>
                  <a:lnTo>
                    <a:pt x="2616" y="85"/>
                  </a:lnTo>
                  <a:lnTo>
                    <a:pt x="2616" y="85"/>
                  </a:lnTo>
                  <a:lnTo>
                    <a:pt x="2622" y="92"/>
                  </a:lnTo>
                  <a:lnTo>
                    <a:pt x="2622" y="92"/>
                  </a:lnTo>
                  <a:lnTo>
                    <a:pt x="2629" y="92"/>
                  </a:lnTo>
                  <a:lnTo>
                    <a:pt x="2629" y="98"/>
                  </a:lnTo>
                  <a:lnTo>
                    <a:pt x="2636" y="98"/>
                  </a:lnTo>
                  <a:lnTo>
                    <a:pt x="2642" y="98"/>
                  </a:lnTo>
                  <a:lnTo>
                    <a:pt x="2649" y="98"/>
                  </a:lnTo>
                  <a:lnTo>
                    <a:pt x="2649" y="85"/>
                  </a:lnTo>
                  <a:close/>
                  <a:moveTo>
                    <a:pt x="2477" y="26"/>
                  </a:moveTo>
                  <a:lnTo>
                    <a:pt x="2477" y="26"/>
                  </a:lnTo>
                  <a:lnTo>
                    <a:pt x="2477" y="26"/>
                  </a:lnTo>
                  <a:lnTo>
                    <a:pt x="2477" y="26"/>
                  </a:lnTo>
                  <a:lnTo>
                    <a:pt x="2477" y="26"/>
                  </a:lnTo>
                  <a:lnTo>
                    <a:pt x="2477" y="26"/>
                  </a:lnTo>
                  <a:lnTo>
                    <a:pt x="2477" y="26"/>
                  </a:lnTo>
                  <a:lnTo>
                    <a:pt x="2477" y="26"/>
                  </a:lnTo>
                  <a:lnTo>
                    <a:pt x="2477" y="26"/>
                  </a:lnTo>
                  <a:lnTo>
                    <a:pt x="2477" y="26"/>
                  </a:lnTo>
                  <a:lnTo>
                    <a:pt x="2477" y="26"/>
                  </a:lnTo>
                  <a:close/>
                  <a:moveTo>
                    <a:pt x="2339" y="0"/>
                  </a:moveTo>
                  <a:lnTo>
                    <a:pt x="2313" y="0"/>
                  </a:lnTo>
                  <a:lnTo>
                    <a:pt x="2286" y="0"/>
                  </a:lnTo>
                  <a:lnTo>
                    <a:pt x="2280" y="0"/>
                  </a:lnTo>
                  <a:lnTo>
                    <a:pt x="2286" y="0"/>
                  </a:lnTo>
                  <a:lnTo>
                    <a:pt x="2293" y="0"/>
                  </a:lnTo>
                  <a:lnTo>
                    <a:pt x="2300" y="0"/>
                  </a:lnTo>
                  <a:lnTo>
                    <a:pt x="2300" y="6"/>
                  </a:lnTo>
                  <a:lnTo>
                    <a:pt x="2306" y="6"/>
                  </a:lnTo>
                  <a:lnTo>
                    <a:pt x="2313" y="6"/>
                  </a:lnTo>
                  <a:lnTo>
                    <a:pt x="2319" y="6"/>
                  </a:lnTo>
                  <a:lnTo>
                    <a:pt x="2319" y="6"/>
                  </a:lnTo>
                  <a:lnTo>
                    <a:pt x="2326" y="6"/>
                  </a:lnTo>
                  <a:lnTo>
                    <a:pt x="2333" y="0"/>
                  </a:lnTo>
                  <a:lnTo>
                    <a:pt x="2339" y="0"/>
                  </a:lnTo>
                  <a:close/>
                </a:path>
              </a:pathLst>
            </a:custGeom>
            <a:solidFill>
              <a:srgbClr val="e0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0" name=""/>
            <p:cNvSpPr/>
            <p:nvPr/>
          </p:nvSpPr>
          <p:spPr>
            <a:xfrm>
              <a:off x="2295360" y="2711520"/>
              <a:ext cx="4289760" cy="2747880"/>
            </a:xfrm>
            <a:custGeom>
              <a:avLst/>
              <a:gdLst/>
              <a:ahLst/>
              <a:rect l="l" t="t" r="r" b="b"/>
              <a:pathLst>
                <a:path w="2702" h="1731">
                  <a:moveTo>
                    <a:pt x="1239" y="1731"/>
                  </a:moveTo>
                  <a:lnTo>
                    <a:pt x="1239" y="1731"/>
                  </a:lnTo>
                  <a:lnTo>
                    <a:pt x="1245" y="1724"/>
                  </a:lnTo>
                  <a:lnTo>
                    <a:pt x="1252" y="1718"/>
                  </a:lnTo>
                  <a:lnTo>
                    <a:pt x="1252" y="1711"/>
                  </a:lnTo>
                  <a:lnTo>
                    <a:pt x="1258" y="1711"/>
                  </a:lnTo>
                  <a:lnTo>
                    <a:pt x="1265" y="1705"/>
                  </a:lnTo>
                  <a:lnTo>
                    <a:pt x="1265" y="1698"/>
                  </a:lnTo>
                  <a:lnTo>
                    <a:pt x="1272" y="1692"/>
                  </a:lnTo>
                  <a:lnTo>
                    <a:pt x="1272" y="1685"/>
                  </a:lnTo>
                  <a:lnTo>
                    <a:pt x="1278" y="1685"/>
                  </a:lnTo>
                  <a:lnTo>
                    <a:pt x="1285" y="1678"/>
                  </a:lnTo>
                  <a:lnTo>
                    <a:pt x="1291" y="1678"/>
                  </a:lnTo>
                  <a:lnTo>
                    <a:pt x="1298" y="1678"/>
                  </a:lnTo>
                  <a:lnTo>
                    <a:pt x="1305" y="1672"/>
                  </a:lnTo>
                  <a:lnTo>
                    <a:pt x="1305" y="1665"/>
                  </a:lnTo>
                  <a:lnTo>
                    <a:pt x="1311" y="1659"/>
                  </a:lnTo>
                  <a:lnTo>
                    <a:pt x="1318" y="1659"/>
                  </a:lnTo>
                  <a:lnTo>
                    <a:pt x="1324" y="1665"/>
                  </a:lnTo>
                  <a:lnTo>
                    <a:pt x="1331" y="1672"/>
                  </a:lnTo>
                  <a:lnTo>
                    <a:pt x="1331" y="1678"/>
                  </a:lnTo>
                  <a:lnTo>
                    <a:pt x="1331" y="1678"/>
                  </a:lnTo>
                  <a:lnTo>
                    <a:pt x="1318" y="1685"/>
                  </a:lnTo>
                  <a:lnTo>
                    <a:pt x="1311" y="1685"/>
                  </a:lnTo>
                  <a:lnTo>
                    <a:pt x="1305" y="1692"/>
                  </a:lnTo>
                  <a:lnTo>
                    <a:pt x="1305" y="1692"/>
                  </a:lnTo>
                  <a:lnTo>
                    <a:pt x="1305" y="1698"/>
                  </a:lnTo>
                  <a:lnTo>
                    <a:pt x="1305" y="1705"/>
                  </a:lnTo>
                  <a:lnTo>
                    <a:pt x="1305" y="1711"/>
                  </a:lnTo>
                  <a:lnTo>
                    <a:pt x="1305" y="1718"/>
                  </a:lnTo>
                  <a:lnTo>
                    <a:pt x="1305" y="1724"/>
                  </a:lnTo>
                  <a:lnTo>
                    <a:pt x="1311" y="1731"/>
                  </a:lnTo>
                  <a:lnTo>
                    <a:pt x="1311" y="1731"/>
                  </a:lnTo>
                  <a:lnTo>
                    <a:pt x="1338" y="1731"/>
                  </a:lnTo>
                  <a:lnTo>
                    <a:pt x="1364" y="1731"/>
                  </a:lnTo>
                  <a:lnTo>
                    <a:pt x="1397" y="1731"/>
                  </a:lnTo>
                  <a:lnTo>
                    <a:pt x="1423" y="1731"/>
                  </a:lnTo>
                  <a:lnTo>
                    <a:pt x="1450" y="1731"/>
                  </a:lnTo>
                  <a:lnTo>
                    <a:pt x="1476" y="1731"/>
                  </a:lnTo>
                  <a:lnTo>
                    <a:pt x="1502" y="1731"/>
                  </a:lnTo>
                  <a:lnTo>
                    <a:pt x="1535" y="1731"/>
                  </a:lnTo>
                  <a:lnTo>
                    <a:pt x="1562" y="1731"/>
                  </a:lnTo>
                  <a:lnTo>
                    <a:pt x="1588" y="1731"/>
                  </a:lnTo>
                  <a:lnTo>
                    <a:pt x="1614" y="1731"/>
                  </a:lnTo>
                  <a:lnTo>
                    <a:pt x="1647" y="1731"/>
                  </a:lnTo>
                  <a:lnTo>
                    <a:pt x="1674" y="1731"/>
                  </a:lnTo>
                  <a:lnTo>
                    <a:pt x="1700" y="1731"/>
                  </a:lnTo>
                  <a:lnTo>
                    <a:pt x="1726" y="1731"/>
                  </a:lnTo>
                  <a:lnTo>
                    <a:pt x="1753" y="1731"/>
                  </a:lnTo>
                  <a:lnTo>
                    <a:pt x="1786" y="1731"/>
                  </a:lnTo>
                  <a:lnTo>
                    <a:pt x="1812" y="1731"/>
                  </a:lnTo>
                  <a:lnTo>
                    <a:pt x="1838" y="1731"/>
                  </a:lnTo>
                  <a:lnTo>
                    <a:pt x="1865" y="1731"/>
                  </a:lnTo>
                  <a:lnTo>
                    <a:pt x="1898" y="1731"/>
                  </a:lnTo>
                  <a:lnTo>
                    <a:pt x="1924" y="1731"/>
                  </a:lnTo>
                  <a:lnTo>
                    <a:pt x="1950" y="1731"/>
                  </a:lnTo>
                  <a:lnTo>
                    <a:pt x="1977" y="1731"/>
                  </a:lnTo>
                  <a:lnTo>
                    <a:pt x="2003" y="1731"/>
                  </a:lnTo>
                  <a:lnTo>
                    <a:pt x="2036" y="1731"/>
                  </a:lnTo>
                  <a:lnTo>
                    <a:pt x="2062" y="1731"/>
                  </a:lnTo>
                  <a:lnTo>
                    <a:pt x="2089" y="1731"/>
                  </a:lnTo>
                  <a:lnTo>
                    <a:pt x="2115" y="1731"/>
                  </a:lnTo>
                  <a:lnTo>
                    <a:pt x="2148" y="1731"/>
                  </a:lnTo>
                  <a:lnTo>
                    <a:pt x="2174" y="1731"/>
                  </a:lnTo>
                  <a:lnTo>
                    <a:pt x="2201" y="1731"/>
                  </a:lnTo>
                  <a:lnTo>
                    <a:pt x="2227" y="1731"/>
                  </a:lnTo>
                  <a:lnTo>
                    <a:pt x="2253" y="1731"/>
                  </a:lnTo>
                  <a:lnTo>
                    <a:pt x="2286" y="1731"/>
                  </a:lnTo>
                  <a:lnTo>
                    <a:pt x="2313" y="1731"/>
                  </a:lnTo>
                  <a:lnTo>
                    <a:pt x="2339" y="1731"/>
                  </a:lnTo>
                  <a:lnTo>
                    <a:pt x="2365" y="1705"/>
                  </a:lnTo>
                  <a:lnTo>
                    <a:pt x="2398" y="1705"/>
                  </a:lnTo>
                  <a:lnTo>
                    <a:pt x="2425" y="1705"/>
                  </a:lnTo>
                  <a:lnTo>
                    <a:pt x="2451" y="1705"/>
                  </a:lnTo>
                  <a:lnTo>
                    <a:pt x="2477" y="1705"/>
                  </a:lnTo>
                  <a:lnTo>
                    <a:pt x="2510" y="1705"/>
                  </a:lnTo>
                  <a:lnTo>
                    <a:pt x="2537" y="1705"/>
                  </a:lnTo>
                  <a:lnTo>
                    <a:pt x="2563" y="1678"/>
                  </a:lnTo>
                  <a:lnTo>
                    <a:pt x="2563" y="1652"/>
                  </a:lnTo>
                  <a:lnTo>
                    <a:pt x="2563" y="1619"/>
                  </a:lnTo>
                  <a:lnTo>
                    <a:pt x="2563" y="1593"/>
                  </a:lnTo>
                  <a:lnTo>
                    <a:pt x="2590" y="1566"/>
                  </a:lnTo>
                  <a:lnTo>
                    <a:pt x="2590" y="1540"/>
                  </a:lnTo>
                  <a:lnTo>
                    <a:pt x="2590" y="1507"/>
                  </a:lnTo>
                  <a:lnTo>
                    <a:pt x="2590" y="1481"/>
                  </a:lnTo>
                  <a:lnTo>
                    <a:pt x="2616" y="1455"/>
                  </a:lnTo>
                  <a:lnTo>
                    <a:pt x="2616" y="1428"/>
                  </a:lnTo>
                  <a:lnTo>
                    <a:pt x="2616" y="1395"/>
                  </a:lnTo>
                  <a:lnTo>
                    <a:pt x="2616" y="1369"/>
                  </a:lnTo>
                  <a:lnTo>
                    <a:pt x="2649" y="1343"/>
                  </a:lnTo>
                  <a:lnTo>
                    <a:pt x="2649" y="1316"/>
                  </a:lnTo>
                  <a:lnTo>
                    <a:pt x="2649" y="1283"/>
                  </a:lnTo>
                  <a:lnTo>
                    <a:pt x="2649" y="1257"/>
                  </a:lnTo>
                  <a:lnTo>
                    <a:pt x="2675" y="1231"/>
                  </a:lnTo>
                  <a:lnTo>
                    <a:pt x="2675" y="1204"/>
                  </a:lnTo>
                  <a:lnTo>
                    <a:pt x="2675" y="1171"/>
                  </a:lnTo>
                  <a:lnTo>
                    <a:pt x="2675" y="1145"/>
                  </a:lnTo>
                  <a:lnTo>
                    <a:pt x="2702" y="1119"/>
                  </a:lnTo>
                  <a:lnTo>
                    <a:pt x="2702" y="1092"/>
                  </a:lnTo>
                  <a:lnTo>
                    <a:pt x="2702" y="1060"/>
                  </a:lnTo>
                  <a:lnTo>
                    <a:pt x="2702" y="1033"/>
                  </a:lnTo>
                  <a:lnTo>
                    <a:pt x="2702" y="1007"/>
                  </a:lnTo>
                  <a:lnTo>
                    <a:pt x="2702" y="981"/>
                  </a:lnTo>
                  <a:lnTo>
                    <a:pt x="2702" y="948"/>
                  </a:lnTo>
                  <a:lnTo>
                    <a:pt x="2702" y="921"/>
                  </a:lnTo>
                  <a:lnTo>
                    <a:pt x="2702" y="895"/>
                  </a:lnTo>
                  <a:lnTo>
                    <a:pt x="2702" y="869"/>
                  </a:lnTo>
                  <a:lnTo>
                    <a:pt x="2702" y="842"/>
                  </a:lnTo>
                  <a:lnTo>
                    <a:pt x="2702" y="809"/>
                  </a:lnTo>
                  <a:lnTo>
                    <a:pt x="2702" y="783"/>
                  </a:lnTo>
                  <a:lnTo>
                    <a:pt x="2702" y="757"/>
                  </a:lnTo>
                  <a:lnTo>
                    <a:pt x="2702" y="730"/>
                  </a:lnTo>
                  <a:lnTo>
                    <a:pt x="2702" y="697"/>
                  </a:lnTo>
                  <a:lnTo>
                    <a:pt x="2702" y="671"/>
                  </a:lnTo>
                  <a:lnTo>
                    <a:pt x="2702" y="645"/>
                  </a:lnTo>
                  <a:lnTo>
                    <a:pt x="2702" y="618"/>
                  </a:lnTo>
                  <a:lnTo>
                    <a:pt x="2702" y="585"/>
                  </a:lnTo>
                  <a:lnTo>
                    <a:pt x="2702" y="559"/>
                  </a:lnTo>
                  <a:lnTo>
                    <a:pt x="2702" y="533"/>
                  </a:lnTo>
                  <a:lnTo>
                    <a:pt x="2702" y="506"/>
                  </a:lnTo>
                  <a:lnTo>
                    <a:pt x="2702" y="474"/>
                  </a:lnTo>
                  <a:lnTo>
                    <a:pt x="2702" y="447"/>
                  </a:lnTo>
                  <a:lnTo>
                    <a:pt x="2702" y="421"/>
                  </a:lnTo>
                  <a:lnTo>
                    <a:pt x="2702" y="395"/>
                  </a:lnTo>
                  <a:lnTo>
                    <a:pt x="2702" y="362"/>
                  </a:lnTo>
                  <a:lnTo>
                    <a:pt x="2702" y="335"/>
                  </a:lnTo>
                  <a:lnTo>
                    <a:pt x="2702" y="309"/>
                  </a:lnTo>
                  <a:lnTo>
                    <a:pt x="2702" y="283"/>
                  </a:lnTo>
                  <a:lnTo>
                    <a:pt x="2702" y="250"/>
                  </a:lnTo>
                  <a:lnTo>
                    <a:pt x="2675" y="223"/>
                  </a:lnTo>
                  <a:lnTo>
                    <a:pt x="2675" y="197"/>
                  </a:lnTo>
                  <a:lnTo>
                    <a:pt x="2675" y="171"/>
                  </a:lnTo>
                  <a:lnTo>
                    <a:pt x="2675" y="158"/>
                  </a:lnTo>
                  <a:lnTo>
                    <a:pt x="2669" y="158"/>
                  </a:lnTo>
                  <a:lnTo>
                    <a:pt x="2662" y="164"/>
                  </a:lnTo>
                  <a:lnTo>
                    <a:pt x="2662" y="171"/>
                  </a:lnTo>
                  <a:lnTo>
                    <a:pt x="2655" y="177"/>
                  </a:lnTo>
                  <a:lnTo>
                    <a:pt x="2662" y="184"/>
                  </a:lnTo>
                  <a:lnTo>
                    <a:pt x="2662" y="190"/>
                  </a:lnTo>
                  <a:lnTo>
                    <a:pt x="2662" y="197"/>
                  </a:lnTo>
                  <a:lnTo>
                    <a:pt x="2669" y="204"/>
                  </a:lnTo>
                  <a:lnTo>
                    <a:pt x="2669" y="210"/>
                  </a:lnTo>
                  <a:lnTo>
                    <a:pt x="2669" y="210"/>
                  </a:lnTo>
                  <a:lnTo>
                    <a:pt x="2669" y="217"/>
                  </a:lnTo>
                  <a:lnTo>
                    <a:pt x="2669" y="223"/>
                  </a:lnTo>
                  <a:lnTo>
                    <a:pt x="2662" y="230"/>
                  </a:lnTo>
                  <a:lnTo>
                    <a:pt x="2662" y="237"/>
                  </a:lnTo>
                  <a:lnTo>
                    <a:pt x="2655" y="237"/>
                  </a:lnTo>
                  <a:lnTo>
                    <a:pt x="2649" y="243"/>
                  </a:lnTo>
                  <a:lnTo>
                    <a:pt x="2642" y="250"/>
                  </a:lnTo>
                  <a:lnTo>
                    <a:pt x="2629" y="250"/>
                  </a:lnTo>
                  <a:lnTo>
                    <a:pt x="2622" y="256"/>
                  </a:lnTo>
                  <a:lnTo>
                    <a:pt x="2622" y="263"/>
                  </a:lnTo>
                  <a:lnTo>
                    <a:pt x="2616" y="269"/>
                  </a:lnTo>
                  <a:lnTo>
                    <a:pt x="2616" y="269"/>
                  </a:lnTo>
                  <a:lnTo>
                    <a:pt x="2616" y="276"/>
                  </a:lnTo>
                  <a:lnTo>
                    <a:pt x="2609" y="283"/>
                  </a:lnTo>
                  <a:lnTo>
                    <a:pt x="2609" y="289"/>
                  </a:lnTo>
                  <a:lnTo>
                    <a:pt x="2603" y="296"/>
                  </a:lnTo>
                  <a:lnTo>
                    <a:pt x="2596" y="296"/>
                  </a:lnTo>
                  <a:lnTo>
                    <a:pt x="2590" y="302"/>
                  </a:lnTo>
                  <a:lnTo>
                    <a:pt x="2590" y="309"/>
                  </a:lnTo>
                  <a:lnTo>
                    <a:pt x="2583" y="316"/>
                  </a:lnTo>
                  <a:lnTo>
                    <a:pt x="2583" y="322"/>
                  </a:lnTo>
                  <a:lnTo>
                    <a:pt x="2583" y="329"/>
                  </a:lnTo>
                  <a:lnTo>
                    <a:pt x="2590" y="335"/>
                  </a:lnTo>
                  <a:lnTo>
                    <a:pt x="2596" y="335"/>
                  </a:lnTo>
                  <a:lnTo>
                    <a:pt x="2590" y="342"/>
                  </a:lnTo>
                  <a:lnTo>
                    <a:pt x="2590" y="335"/>
                  </a:lnTo>
                  <a:lnTo>
                    <a:pt x="2583" y="329"/>
                  </a:lnTo>
                  <a:lnTo>
                    <a:pt x="2576" y="329"/>
                  </a:lnTo>
                  <a:lnTo>
                    <a:pt x="2563" y="329"/>
                  </a:lnTo>
                  <a:lnTo>
                    <a:pt x="2550" y="335"/>
                  </a:lnTo>
                  <a:lnTo>
                    <a:pt x="2543" y="335"/>
                  </a:lnTo>
                  <a:lnTo>
                    <a:pt x="2537" y="335"/>
                  </a:lnTo>
                  <a:lnTo>
                    <a:pt x="2537" y="342"/>
                  </a:lnTo>
                  <a:lnTo>
                    <a:pt x="2537" y="348"/>
                  </a:lnTo>
                  <a:lnTo>
                    <a:pt x="2537" y="355"/>
                  </a:lnTo>
                  <a:lnTo>
                    <a:pt x="2543" y="362"/>
                  </a:lnTo>
                  <a:lnTo>
                    <a:pt x="2550" y="368"/>
                  </a:lnTo>
                  <a:lnTo>
                    <a:pt x="2563" y="368"/>
                  </a:lnTo>
                  <a:lnTo>
                    <a:pt x="2570" y="368"/>
                  </a:lnTo>
                  <a:lnTo>
                    <a:pt x="2576" y="375"/>
                  </a:lnTo>
                  <a:lnTo>
                    <a:pt x="2576" y="381"/>
                  </a:lnTo>
                  <a:lnTo>
                    <a:pt x="2583" y="388"/>
                  </a:lnTo>
                  <a:lnTo>
                    <a:pt x="2583" y="395"/>
                  </a:lnTo>
                  <a:lnTo>
                    <a:pt x="2583" y="401"/>
                  </a:lnTo>
                  <a:lnTo>
                    <a:pt x="2576" y="401"/>
                  </a:lnTo>
                  <a:lnTo>
                    <a:pt x="2570" y="408"/>
                  </a:lnTo>
                  <a:lnTo>
                    <a:pt x="2563" y="414"/>
                  </a:lnTo>
                  <a:lnTo>
                    <a:pt x="2557" y="421"/>
                  </a:lnTo>
                  <a:lnTo>
                    <a:pt x="2557" y="421"/>
                  </a:lnTo>
                  <a:lnTo>
                    <a:pt x="2550" y="427"/>
                  </a:lnTo>
                  <a:lnTo>
                    <a:pt x="2550" y="434"/>
                  </a:lnTo>
                  <a:lnTo>
                    <a:pt x="2543" y="441"/>
                  </a:lnTo>
                  <a:lnTo>
                    <a:pt x="2543" y="447"/>
                  </a:lnTo>
                  <a:lnTo>
                    <a:pt x="2543" y="454"/>
                  </a:lnTo>
                  <a:lnTo>
                    <a:pt x="2537" y="460"/>
                  </a:lnTo>
                  <a:lnTo>
                    <a:pt x="2537" y="460"/>
                  </a:lnTo>
                  <a:lnTo>
                    <a:pt x="2537" y="467"/>
                  </a:lnTo>
                  <a:lnTo>
                    <a:pt x="2537" y="474"/>
                  </a:lnTo>
                  <a:lnTo>
                    <a:pt x="2530" y="480"/>
                  </a:lnTo>
                  <a:lnTo>
                    <a:pt x="2530" y="487"/>
                  </a:lnTo>
                  <a:lnTo>
                    <a:pt x="2530" y="493"/>
                  </a:lnTo>
                  <a:lnTo>
                    <a:pt x="2524" y="500"/>
                  </a:lnTo>
                  <a:lnTo>
                    <a:pt x="2524" y="506"/>
                  </a:lnTo>
                  <a:lnTo>
                    <a:pt x="2517" y="506"/>
                  </a:lnTo>
                  <a:lnTo>
                    <a:pt x="2517" y="513"/>
                  </a:lnTo>
                  <a:lnTo>
                    <a:pt x="2517" y="520"/>
                  </a:lnTo>
                  <a:lnTo>
                    <a:pt x="2517" y="526"/>
                  </a:lnTo>
                  <a:lnTo>
                    <a:pt x="2517" y="533"/>
                  </a:lnTo>
                  <a:lnTo>
                    <a:pt x="2517" y="539"/>
                  </a:lnTo>
                  <a:lnTo>
                    <a:pt x="2510" y="546"/>
                  </a:lnTo>
                  <a:lnTo>
                    <a:pt x="2510" y="553"/>
                  </a:lnTo>
                  <a:lnTo>
                    <a:pt x="2510" y="559"/>
                  </a:lnTo>
                  <a:lnTo>
                    <a:pt x="2504" y="566"/>
                  </a:lnTo>
                  <a:lnTo>
                    <a:pt x="2504" y="566"/>
                  </a:lnTo>
                  <a:lnTo>
                    <a:pt x="2504" y="572"/>
                  </a:lnTo>
                  <a:lnTo>
                    <a:pt x="2504" y="579"/>
                  </a:lnTo>
                  <a:lnTo>
                    <a:pt x="2504" y="585"/>
                  </a:lnTo>
                  <a:lnTo>
                    <a:pt x="2510" y="592"/>
                  </a:lnTo>
                  <a:lnTo>
                    <a:pt x="2517" y="599"/>
                  </a:lnTo>
                  <a:lnTo>
                    <a:pt x="2524" y="599"/>
                  </a:lnTo>
                  <a:lnTo>
                    <a:pt x="2524" y="605"/>
                  </a:lnTo>
                  <a:lnTo>
                    <a:pt x="2530" y="612"/>
                  </a:lnTo>
                  <a:lnTo>
                    <a:pt x="2530" y="618"/>
                  </a:lnTo>
                  <a:lnTo>
                    <a:pt x="2524" y="625"/>
                  </a:lnTo>
                  <a:lnTo>
                    <a:pt x="2524" y="632"/>
                  </a:lnTo>
                  <a:lnTo>
                    <a:pt x="2517" y="638"/>
                  </a:lnTo>
                  <a:lnTo>
                    <a:pt x="2517" y="645"/>
                  </a:lnTo>
                  <a:lnTo>
                    <a:pt x="2524" y="645"/>
                  </a:lnTo>
                  <a:lnTo>
                    <a:pt x="2530" y="651"/>
                  </a:lnTo>
                  <a:lnTo>
                    <a:pt x="2537" y="651"/>
                  </a:lnTo>
                  <a:lnTo>
                    <a:pt x="2543" y="658"/>
                  </a:lnTo>
                  <a:lnTo>
                    <a:pt x="2550" y="664"/>
                  </a:lnTo>
                  <a:lnTo>
                    <a:pt x="2550" y="671"/>
                  </a:lnTo>
                  <a:lnTo>
                    <a:pt x="2550" y="678"/>
                  </a:lnTo>
                  <a:lnTo>
                    <a:pt x="2550" y="684"/>
                  </a:lnTo>
                  <a:lnTo>
                    <a:pt x="2543" y="691"/>
                  </a:lnTo>
                  <a:lnTo>
                    <a:pt x="2537" y="697"/>
                  </a:lnTo>
                  <a:lnTo>
                    <a:pt x="2530" y="697"/>
                  </a:lnTo>
                  <a:lnTo>
                    <a:pt x="2524" y="691"/>
                  </a:lnTo>
                  <a:lnTo>
                    <a:pt x="2517" y="684"/>
                  </a:lnTo>
                  <a:lnTo>
                    <a:pt x="2510" y="684"/>
                  </a:lnTo>
                  <a:lnTo>
                    <a:pt x="2504" y="684"/>
                  </a:lnTo>
                  <a:lnTo>
                    <a:pt x="2504" y="684"/>
                  </a:lnTo>
                  <a:lnTo>
                    <a:pt x="2497" y="691"/>
                  </a:lnTo>
                  <a:lnTo>
                    <a:pt x="2497" y="704"/>
                  </a:lnTo>
                  <a:lnTo>
                    <a:pt x="2491" y="711"/>
                  </a:lnTo>
                  <a:lnTo>
                    <a:pt x="2484" y="711"/>
                  </a:lnTo>
                  <a:lnTo>
                    <a:pt x="2477" y="711"/>
                  </a:lnTo>
                  <a:lnTo>
                    <a:pt x="2471" y="711"/>
                  </a:lnTo>
                  <a:lnTo>
                    <a:pt x="2471" y="704"/>
                  </a:lnTo>
                  <a:lnTo>
                    <a:pt x="2464" y="697"/>
                  </a:lnTo>
                  <a:lnTo>
                    <a:pt x="2458" y="691"/>
                  </a:lnTo>
                  <a:lnTo>
                    <a:pt x="2451" y="684"/>
                  </a:lnTo>
                  <a:lnTo>
                    <a:pt x="2451" y="684"/>
                  </a:lnTo>
                  <a:lnTo>
                    <a:pt x="2451" y="678"/>
                  </a:lnTo>
                  <a:lnTo>
                    <a:pt x="2445" y="671"/>
                  </a:lnTo>
                  <a:lnTo>
                    <a:pt x="2445" y="664"/>
                  </a:lnTo>
                  <a:lnTo>
                    <a:pt x="2445" y="658"/>
                  </a:lnTo>
                  <a:lnTo>
                    <a:pt x="2445" y="651"/>
                  </a:lnTo>
                  <a:lnTo>
                    <a:pt x="2445" y="645"/>
                  </a:lnTo>
                  <a:lnTo>
                    <a:pt x="2445" y="638"/>
                  </a:lnTo>
                  <a:lnTo>
                    <a:pt x="2438" y="632"/>
                  </a:lnTo>
                  <a:lnTo>
                    <a:pt x="2438" y="625"/>
                  </a:lnTo>
                  <a:lnTo>
                    <a:pt x="2431" y="618"/>
                  </a:lnTo>
                  <a:lnTo>
                    <a:pt x="2425" y="618"/>
                  </a:lnTo>
                  <a:lnTo>
                    <a:pt x="2418" y="618"/>
                  </a:lnTo>
                  <a:lnTo>
                    <a:pt x="2412" y="625"/>
                  </a:lnTo>
                  <a:lnTo>
                    <a:pt x="2412" y="632"/>
                  </a:lnTo>
                  <a:lnTo>
                    <a:pt x="2405" y="638"/>
                  </a:lnTo>
                  <a:lnTo>
                    <a:pt x="2398" y="645"/>
                  </a:lnTo>
                  <a:lnTo>
                    <a:pt x="2398" y="651"/>
                  </a:lnTo>
                  <a:lnTo>
                    <a:pt x="2392" y="651"/>
                  </a:lnTo>
                  <a:lnTo>
                    <a:pt x="2385" y="658"/>
                  </a:lnTo>
                  <a:lnTo>
                    <a:pt x="2379" y="664"/>
                  </a:lnTo>
                  <a:lnTo>
                    <a:pt x="2372" y="671"/>
                  </a:lnTo>
                  <a:lnTo>
                    <a:pt x="2372" y="671"/>
                  </a:lnTo>
                  <a:lnTo>
                    <a:pt x="2365" y="678"/>
                  </a:lnTo>
                  <a:lnTo>
                    <a:pt x="2359" y="684"/>
                  </a:lnTo>
                  <a:lnTo>
                    <a:pt x="2352" y="691"/>
                  </a:lnTo>
                  <a:lnTo>
                    <a:pt x="2346" y="691"/>
                  </a:lnTo>
                  <a:lnTo>
                    <a:pt x="2346" y="697"/>
                  </a:lnTo>
                  <a:lnTo>
                    <a:pt x="2339" y="704"/>
                  </a:lnTo>
                  <a:lnTo>
                    <a:pt x="2333" y="711"/>
                  </a:lnTo>
                  <a:lnTo>
                    <a:pt x="2326" y="711"/>
                  </a:lnTo>
                  <a:lnTo>
                    <a:pt x="2319" y="717"/>
                  </a:lnTo>
                  <a:lnTo>
                    <a:pt x="2313" y="717"/>
                  </a:lnTo>
                  <a:lnTo>
                    <a:pt x="2306" y="724"/>
                  </a:lnTo>
                  <a:lnTo>
                    <a:pt x="2300" y="730"/>
                  </a:lnTo>
                  <a:lnTo>
                    <a:pt x="2293" y="730"/>
                  </a:lnTo>
                  <a:lnTo>
                    <a:pt x="2286" y="737"/>
                  </a:lnTo>
                  <a:lnTo>
                    <a:pt x="2286" y="744"/>
                  </a:lnTo>
                  <a:lnTo>
                    <a:pt x="2280" y="750"/>
                  </a:lnTo>
                  <a:lnTo>
                    <a:pt x="2273" y="750"/>
                  </a:lnTo>
                  <a:lnTo>
                    <a:pt x="2267" y="757"/>
                  </a:lnTo>
                  <a:lnTo>
                    <a:pt x="2260" y="757"/>
                  </a:lnTo>
                  <a:lnTo>
                    <a:pt x="2253" y="763"/>
                  </a:lnTo>
                  <a:lnTo>
                    <a:pt x="2247" y="770"/>
                  </a:lnTo>
                  <a:lnTo>
                    <a:pt x="2240" y="776"/>
                  </a:lnTo>
                  <a:lnTo>
                    <a:pt x="2234" y="776"/>
                  </a:lnTo>
                  <a:lnTo>
                    <a:pt x="2234" y="783"/>
                  </a:lnTo>
                  <a:lnTo>
                    <a:pt x="2234" y="790"/>
                  </a:lnTo>
                  <a:lnTo>
                    <a:pt x="2234" y="796"/>
                  </a:lnTo>
                  <a:lnTo>
                    <a:pt x="2234" y="803"/>
                  </a:lnTo>
                  <a:lnTo>
                    <a:pt x="2227" y="809"/>
                  </a:lnTo>
                  <a:lnTo>
                    <a:pt x="2227" y="816"/>
                  </a:lnTo>
                  <a:lnTo>
                    <a:pt x="2227" y="823"/>
                  </a:lnTo>
                  <a:lnTo>
                    <a:pt x="2227" y="829"/>
                  </a:lnTo>
                  <a:lnTo>
                    <a:pt x="2227" y="836"/>
                  </a:lnTo>
                  <a:lnTo>
                    <a:pt x="2227" y="836"/>
                  </a:lnTo>
                  <a:lnTo>
                    <a:pt x="2227" y="842"/>
                  </a:lnTo>
                  <a:lnTo>
                    <a:pt x="2221" y="849"/>
                  </a:lnTo>
                  <a:lnTo>
                    <a:pt x="2221" y="855"/>
                  </a:lnTo>
                  <a:lnTo>
                    <a:pt x="2221" y="862"/>
                  </a:lnTo>
                  <a:lnTo>
                    <a:pt x="2221" y="869"/>
                  </a:lnTo>
                  <a:lnTo>
                    <a:pt x="2221" y="875"/>
                  </a:lnTo>
                  <a:lnTo>
                    <a:pt x="2221" y="882"/>
                  </a:lnTo>
                  <a:lnTo>
                    <a:pt x="2221" y="888"/>
                  </a:lnTo>
                  <a:lnTo>
                    <a:pt x="2221" y="895"/>
                  </a:lnTo>
                  <a:lnTo>
                    <a:pt x="2214" y="902"/>
                  </a:lnTo>
                  <a:lnTo>
                    <a:pt x="2214" y="902"/>
                  </a:lnTo>
                  <a:lnTo>
                    <a:pt x="2214" y="908"/>
                  </a:lnTo>
                  <a:lnTo>
                    <a:pt x="2214" y="915"/>
                  </a:lnTo>
                  <a:lnTo>
                    <a:pt x="2207" y="921"/>
                  </a:lnTo>
                  <a:lnTo>
                    <a:pt x="2207" y="928"/>
                  </a:lnTo>
                  <a:lnTo>
                    <a:pt x="2207" y="934"/>
                  </a:lnTo>
                  <a:lnTo>
                    <a:pt x="2207" y="941"/>
                  </a:lnTo>
                  <a:lnTo>
                    <a:pt x="2214" y="948"/>
                  </a:lnTo>
                  <a:lnTo>
                    <a:pt x="2214" y="954"/>
                  </a:lnTo>
                  <a:lnTo>
                    <a:pt x="2207" y="961"/>
                  </a:lnTo>
                  <a:lnTo>
                    <a:pt x="2207" y="961"/>
                  </a:lnTo>
                  <a:lnTo>
                    <a:pt x="2207" y="967"/>
                  </a:lnTo>
                  <a:lnTo>
                    <a:pt x="2207" y="974"/>
                  </a:lnTo>
                  <a:lnTo>
                    <a:pt x="2214" y="981"/>
                  </a:lnTo>
                  <a:lnTo>
                    <a:pt x="2214" y="987"/>
                  </a:lnTo>
                  <a:lnTo>
                    <a:pt x="2221" y="994"/>
                  </a:lnTo>
                  <a:lnTo>
                    <a:pt x="2221" y="1000"/>
                  </a:lnTo>
                  <a:lnTo>
                    <a:pt x="2227" y="1007"/>
                  </a:lnTo>
                  <a:lnTo>
                    <a:pt x="2227" y="1007"/>
                  </a:lnTo>
                  <a:lnTo>
                    <a:pt x="2227" y="1013"/>
                  </a:lnTo>
                  <a:lnTo>
                    <a:pt x="2227" y="1020"/>
                  </a:lnTo>
                  <a:lnTo>
                    <a:pt x="2227" y="1027"/>
                  </a:lnTo>
                  <a:lnTo>
                    <a:pt x="2221" y="1033"/>
                  </a:lnTo>
                  <a:lnTo>
                    <a:pt x="2214" y="1040"/>
                  </a:lnTo>
                  <a:lnTo>
                    <a:pt x="2201" y="1040"/>
                  </a:lnTo>
                  <a:lnTo>
                    <a:pt x="2194" y="1040"/>
                  </a:lnTo>
                  <a:lnTo>
                    <a:pt x="2188" y="1040"/>
                  </a:lnTo>
                  <a:lnTo>
                    <a:pt x="2174" y="1040"/>
                  </a:lnTo>
                  <a:lnTo>
                    <a:pt x="2168" y="1040"/>
                  </a:lnTo>
                  <a:lnTo>
                    <a:pt x="2155" y="1040"/>
                  </a:lnTo>
                  <a:lnTo>
                    <a:pt x="2148" y="1040"/>
                  </a:lnTo>
                  <a:lnTo>
                    <a:pt x="2141" y="1040"/>
                  </a:lnTo>
                  <a:lnTo>
                    <a:pt x="2128" y="1040"/>
                  </a:lnTo>
                  <a:lnTo>
                    <a:pt x="2122" y="1040"/>
                  </a:lnTo>
                  <a:lnTo>
                    <a:pt x="2115" y="1040"/>
                  </a:lnTo>
                  <a:lnTo>
                    <a:pt x="2102" y="1040"/>
                  </a:lnTo>
                  <a:lnTo>
                    <a:pt x="2095" y="1046"/>
                  </a:lnTo>
                  <a:lnTo>
                    <a:pt x="2089" y="1046"/>
                  </a:lnTo>
                  <a:lnTo>
                    <a:pt x="2082" y="1053"/>
                  </a:lnTo>
                  <a:lnTo>
                    <a:pt x="2076" y="1053"/>
                  </a:lnTo>
                  <a:lnTo>
                    <a:pt x="2069" y="1060"/>
                  </a:lnTo>
                  <a:lnTo>
                    <a:pt x="2062" y="1066"/>
                  </a:lnTo>
                  <a:lnTo>
                    <a:pt x="2056" y="1066"/>
                  </a:lnTo>
                  <a:lnTo>
                    <a:pt x="2056" y="1073"/>
                  </a:lnTo>
                  <a:lnTo>
                    <a:pt x="2056" y="1079"/>
                  </a:lnTo>
                  <a:lnTo>
                    <a:pt x="2056" y="1086"/>
                  </a:lnTo>
                  <a:lnTo>
                    <a:pt x="2056" y="1092"/>
                  </a:lnTo>
                  <a:lnTo>
                    <a:pt x="2049" y="1099"/>
                  </a:lnTo>
                  <a:lnTo>
                    <a:pt x="2043" y="1099"/>
                  </a:lnTo>
                  <a:lnTo>
                    <a:pt x="2036" y="1106"/>
                  </a:lnTo>
                  <a:lnTo>
                    <a:pt x="2023" y="1106"/>
                  </a:lnTo>
                  <a:lnTo>
                    <a:pt x="2016" y="1112"/>
                  </a:lnTo>
                  <a:lnTo>
                    <a:pt x="2010" y="1112"/>
                  </a:lnTo>
                  <a:lnTo>
                    <a:pt x="1996" y="1112"/>
                  </a:lnTo>
                  <a:lnTo>
                    <a:pt x="1990" y="1119"/>
                  </a:lnTo>
                  <a:lnTo>
                    <a:pt x="1990" y="1119"/>
                  </a:lnTo>
                  <a:lnTo>
                    <a:pt x="1990" y="1125"/>
                  </a:lnTo>
                  <a:lnTo>
                    <a:pt x="1990" y="1132"/>
                  </a:lnTo>
                  <a:lnTo>
                    <a:pt x="1990" y="1139"/>
                  </a:lnTo>
                  <a:lnTo>
                    <a:pt x="1990" y="1145"/>
                  </a:lnTo>
                  <a:lnTo>
                    <a:pt x="1983" y="1152"/>
                  </a:lnTo>
                  <a:lnTo>
                    <a:pt x="1977" y="1152"/>
                  </a:lnTo>
                  <a:lnTo>
                    <a:pt x="1970" y="1158"/>
                  </a:lnTo>
                  <a:lnTo>
                    <a:pt x="1957" y="1158"/>
                  </a:lnTo>
                  <a:lnTo>
                    <a:pt x="1950" y="1165"/>
                  </a:lnTo>
                  <a:lnTo>
                    <a:pt x="1944" y="1165"/>
                  </a:lnTo>
                  <a:lnTo>
                    <a:pt x="1937" y="1165"/>
                  </a:lnTo>
                  <a:lnTo>
                    <a:pt x="1924" y="1171"/>
                  </a:lnTo>
                  <a:lnTo>
                    <a:pt x="1917" y="1171"/>
                  </a:lnTo>
                  <a:lnTo>
                    <a:pt x="1917" y="1178"/>
                  </a:lnTo>
                  <a:lnTo>
                    <a:pt x="1931" y="1178"/>
                  </a:lnTo>
                  <a:lnTo>
                    <a:pt x="1937" y="1185"/>
                  </a:lnTo>
                  <a:lnTo>
                    <a:pt x="1944" y="1185"/>
                  </a:lnTo>
                  <a:lnTo>
                    <a:pt x="1950" y="1191"/>
                  </a:lnTo>
                  <a:lnTo>
                    <a:pt x="1957" y="1198"/>
                  </a:lnTo>
                  <a:lnTo>
                    <a:pt x="1964" y="1198"/>
                  </a:lnTo>
                  <a:lnTo>
                    <a:pt x="1964" y="1204"/>
                  </a:lnTo>
                  <a:lnTo>
                    <a:pt x="1970" y="1211"/>
                  </a:lnTo>
                  <a:lnTo>
                    <a:pt x="1970" y="1218"/>
                  </a:lnTo>
                  <a:lnTo>
                    <a:pt x="1970" y="1224"/>
                  </a:lnTo>
                  <a:lnTo>
                    <a:pt x="1977" y="1231"/>
                  </a:lnTo>
                  <a:lnTo>
                    <a:pt x="1977" y="1237"/>
                  </a:lnTo>
                  <a:lnTo>
                    <a:pt x="1983" y="1237"/>
                  </a:lnTo>
                  <a:lnTo>
                    <a:pt x="1990" y="1244"/>
                  </a:lnTo>
                  <a:lnTo>
                    <a:pt x="1990" y="1250"/>
                  </a:lnTo>
                  <a:lnTo>
                    <a:pt x="1996" y="1257"/>
                  </a:lnTo>
                  <a:lnTo>
                    <a:pt x="1990" y="1264"/>
                  </a:lnTo>
                  <a:lnTo>
                    <a:pt x="1983" y="1270"/>
                  </a:lnTo>
                  <a:lnTo>
                    <a:pt x="1977" y="1270"/>
                  </a:lnTo>
                  <a:lnTo>
                    <a:pt x="1970" y="1264"/>
                  </a:lnTo>
                  <a:lnTo>
                    <a:pt x="1964" y="1257"/>
                  </a:lnTo>
                  <a:lnTo>
                    <a:pt x="1957" y="1257"/>
                  </a:lnTo>
                  <a:lnTo>
                    <a:pt x="1950" y="1250"/>
                  </a:lnTo>
                  <a:lnTo>
                    <a:pt x="1944" y="1250"/>
                  </a:lnTo>
                  <a:lnTo>
                    <a:pt x="1931" y="1257"/>
                  </a:lnTo>
                  <a:lnTo>
                    <a:pt x="1924" y="1257"/>
                  </a:lnTo>
                  <a:lnTo>
                    <a:pt x="1917" y="1264"/>
                  </a:lnTo>
                  <a:lnTo>
                    <a:pt x="1911" y="1264"/>
                  </a:lnTo>
                  <a:lnTo>
                    <a:pt x="1904" y="1270"/>
                  </a:lnTo>
                  <a:lnTo>
                    <a:pt x="1898" y="1277"/>
                  </a:lnTo>
                  <a:lnTo>
                    <a:pt x="1891" y="1277"/>
                  </a:lnTo>
                  <a:lnTo>
                    <a:pt x="1884" y="1283"/>
                  </a:lnTo>
                  <a:lnTo>
                    <a:pt x="1878" y="1283"/>
                  </a:lnTo>
                  <a:lnTo>
                    <a:pt x="1865" y="1283"/>
                  </a:lnTo>
                  <a:lnTo>
                    <a:pt x="1858" y="1277"/>
                  </a:lnTo>
                  <a:lnTo>
                    <a:pt x="1845" y="1277"/>
                  </a:lnTo>
                  <a:lnTo>
                    <a:pt x="1838" y="1283"/>
                  </a:lnTo>
                  <a:lnTo>
                    <a:pt x="1832" y="1290"/>
                  </a:lnTo>
                  <a:lnTo>
                    <a:pt x="1825" y="1290"/>
                  </a:lnTo>
                  <a:lnTo>
                    <a:pt x="1825" y="1297"/>
                  </a:lnTo>
                  <a:lnTo>
                    <a:pt x="1819" y="1303"/>
                  </a:lnTo>
                  <a:lnTo>
                    <a:pt x="1812" y="1310"/>
                  </a:lnTo>
                  <a:lnTo>
                    <a:pt x="1805" y="1310"/>
                  </a:lnTo>
                  <a:lnTo>
                    <a:pt x="1805" y="1316"/>
                  </a:lnTo>
                  <a:lnTo>
                    <a:pt x="1792" y="1323"/>
                  </a:lnTo>
                  <a:lnTo>
                    <a:pt x="1786" y="1323"/>
                  </a:lnTo>
                  <a:lnTo>
                    <a:pt x="1779" y="1323"/>
                  </a:lnTo>
                  <a:lnTo>
                    <a:pt x="1766" y="1323"/>
                  </a:lnTo>
                  <a:lnTo>
                    <a:pt x="1759" y="1316"/>
                  </a:lnTo>
                  <a:lnTo>
                    <a:pt x="1753" y="1316"/>
                  </a:lnTo>
                  <a:lnTo>
                    <a:pt x="1746" y="1310"/>
                  </a:lnTo>
                  <a:lnTo>
                    <a:pt x="1739" y="1310"/>
                  </a:lnTo>
                  <a:lnTo>
                    <a:pt x="1733" y="1303"/>
                  </a:lnTo>
                  <a:lnTo>
                    <a:pt x="1726" y="1297"/>
                  </a:lnTo>
                  <a:lnTo>
                    <a:pt x="1720" y="1297"/>
                  </a:lnTo>
                  <a:lnTo>
                    <a:pt x="1713" y="1290"/>
                  </a:lnTo>
                  <a:lnTo>
                    <a:pt x="1707" y="1283"/>
                  </a:lnTo>
                  <a:lnTo>
                    <a:pt x="1707" y="1277"/>
                  </a:lnTo>
                  <a:lnTo>
                    <a:pt x="1700" y="1277"/>
                  </a:lnTo>
                  <a:lnTo>
                    <a:pt x="1687" y="1277"/>
                  </a:lnTo>
                  <a:lnTo>
                    <a:pt x="1680" y="1283"/>
                  </a:lnTo>
                  <a:lnTo>
                    <a:pt x="1674" y="1283"/>
                  </a:lnTo>
                  <a:lnTo>
                    <a:pt x="1667" y="1283"/>
                  </a:lnTo>
                  <a:lnTo>
                    <a:pt x="1667" y="1277"/>
                  </a:lnTo>
                  <a:lnTo>
                    <a:pt x="1660" y="1270"/>
                  </a:lnTo>
                  <a:lnTo>
                    <a:pt x="1660" y="1257"/>
                  </a:lnTo>
                  <a:lnTo>
                    <a:pt x="1660" y="1250"/>
                  </a:lnTo>
                  <a:lnTo>
                    <a:pt x="1654" y="1250"/>
                  </a:lnTo>
                  <a:lnTo>
                    <a:pt x="1647" y="1244"/>
                  </a:lnTo>
                  <a:lnTo>
                    <a:pt x="1641" y="1244"/>
                  </a:lnTo>
                  <a:lnTo>
                    <a:pt x="1627" y="1237"/>
                  </a:lnTo>
                  <a:lnTo>
                    <a:pt x="1621" y="1237"/>
                  </a:lnTo>
                  <a:lnTo>
                    <a:pt x="1614" y="1237"/>
                  </a:lnTo>
                  <a:lnTo>
                    <a:pt x="1608" y="1244"/>
                  </a:lnTo>
                  <a:lnTo>
                    <a:pt x="1601" y="1244"/>
                  </a:lnTo>
                  <a:lnTo>
                    <a:pt x="1595" y="1250"/>
                  </a:lnTo>
                  <a:lnTo>
                    <a:pt x="1588" y="1257"/>
                  </a:lnTo>
                  <a:lnTo>
                    <a:pt x="1581" y="1264"/>
                  </a:lnTo>
                  <a:lnTo>
                    <a:pt x="1581" y="1257"/>
                  </a:lnTo>
                  <a:lnTo>
                    <a:pt x="1588" y="1257"/>
                  </a:lnTo>
                  <a:lnTo>
                    <a:pt x="1601" y="1257"/>
                  </a:lnTo>
                  <a:lnTo>
                    <a:pt x="1608" y="1250"/>
                  </a:lnTo>
                  <a:lnTo>
                    <a:pt x="1614" y="1244"/>
                  </a:lnTo>
                  <a:lnTo>
                    <a:pt x="1614" y="1237"/>
                  </a:lnTo>
                  <a:lnTo>
                    <a:pt x="1614" y="1231"/>
                  </a:lnTo>
                  <a:lnTo>
                    <a:pt x="1608" y="1224"/>
                  </a:lnTo>
                  <a:lnTo>
                    <a:pt x="1608" y="1218"/>
                  </a:lnTo>
                  <a:lnTo>
                    <a:pt x="1601" y="1218"/>
                  </a:lnTo>
                  <a:lnTo>
                    <a:pt x="1595" y="1211"/>
                  </a:lnTo>
                  <a:lnTo>
                    <a:pt x="1588" y="1204"/>
                  </a:lnTo>
                  <a:lnTo>
                    <a:pt x="1581" y="1198"/>
                  </a:lnTo>
                  <a:lnTo>
                    <a:pt x="1581" y="1198"/>
                  </a:lnTo>
                  <a:lnTo>
                    <a:pt x="1575" y="1191"/>
                  </a:lnTo>
                  <a:lnTo>
                    <a:pt x="1575" y="1185"/>
                  </a:lnTo>
                  <a:lnTo>
                    <a:pt x="1568" y="1178"/>
                  </a:lnTo>
                  <a:lnTo>
                    <a:pt x="1568" y="1171"/>
                  </a:lnTo>
                  <a:lnTo>
                    <a:pt x="1562" y="1171"/>
                  </a:lnTo>
                  <a:lnTo>
                    <a:pt x="1555" y="1165"/>
                  </a:lnTo>
                  <a:lnTo>
                    <a:pt x="1555" y="1158"/>
                  </a:lnTo>
                  <a:lnTo>
                    <a:pt x="1548" y="1152"/>
                  </a:lnTo>
                  <a:lnTo>
                    <a:pt x="1548" y="1145"/>
                  </a:lnTo>
                  <a:lnTo>
                    <a:pt x="1542" y="1139"/>
                  </a:lnTo>
                  <a:lnTo>
                    <a:pt x="1542" y="1132"/>
                  </a:lnTo>
                  <a:lnTo>
                    <a:pt x="1535" y="1125"/>
                  </a:lnTo>
                  <a:lnTo>
                    <a:pt x="1535" y="1125"/>
                  </a:lnTo>
                  <a:lnTo>
                    <a:pt x="1529" y="1125"/>
                  </a:lnTo>
                  <a:lnTo>
                    <a:pt x="1522" y="1132"/>
                  </a:lnTo>
                  <a:lnTo>
                    <a:pt x="1515" y="1139"/>
                  </a:lnTo>
                  <a:lnTo>
                    <a:pt x="1509" y="1145"/>
                  </a:lnTo>
                  <a:lnTo>
                    <a:pt x="1509" y="1152"/>
                  </a:lnTo>
                  <a:lnTo>
                    <a:pt x="1509" y="1158"/>
                  </a:lnTo>
                  <a:lnTo>
                    <a:pt x="1509" y="1158"/>
                  </a:lnTo>
                  <a:lnTo>
                    <a:pt x="1515" y="1165"/>
                  </a:lnTo>
                  <a:lnTo>
                    <a:pt x="1515" y="1171"/>
                  </a:lnTo>
                  <a:lnTo>
                    <a:pt x="1522" y="1178"/>
                  </a:lnTo>
                  <a:lnTo>
                    <a:pt x="1522" y="1185"/>
                  </a:lnTo>
                  <a:lnTo>
                    <a:pt x="1522" y="1191"/>
                  </a:lnTo>
                  <a:lnTo>
                    <a:pt x="1522" y="1198"/>
                  </a:lnTo>
                  <a:lnTo>
                    <a:pt x="1529" y="1204"/>
                  </a:lnTo>
                  <a:lnTo>
                    <a:pt x="1529" y="1204"/>
                  </a:lnTo>
                  <a:lnTo>
                    <a:pt x="1535" y="1211"/>
                  </a:lnTo>
                  <a:lnTo>
                    <a:pt x="1542" y="1218"/>
                  </a:lnTo>
                  <a:lnTo>
                    <a:pt x="1542" y="1224"/>
                  </a:lnTo>
                  <a:lnTo>
                    <a:pt x="1542" y="1231"/>
                  </a:lnTo>
                  <a:lnTo>
                    <a:pt x="1542" y="1237"/>
                  </a:lnTo>
                  <a:lnTo>
                    <a:pt x="1542" y="1244"/>
                  </a:lnTo>
                  <a:lnTo>
                    <a:pt x="1542" y="1250"/>
                  </a:lnTo>
                  <a:lnTo>
                    <a:pt x="1535" y="1250"/>
                  </a:lnTo>
                  <a:lnTo>
                    <a:pt x="1529" y="1250"/>
                  </a:lnTo>
                  <a:lnTo>
                    <a:pt x="1522" y="1250"/>
                  </a:lnTo>
                  <a:lnTo>
                    <a:pt x="1515" y="1244"/>
                  </a:lnTo>
                  <a:lnTo>
                    <a:pt x="1509" y="1237"/>
                  </a:lnTo>
                  <a:lnTo>
                    <a:pt x="1502" y="1231"/>
                  </a:lnTo>
                  <a:lnTo>
                    <a:pt x="1496" y="1231"/>
                  </a:lnTo>
                  <a:lnTo>
                    <a:pt x="1489" y="1231"/>
                  </a:lnTo>
                  <a:lnTo>
                    <a:pt x="1476" y="1231"/>
                  </a:lnTo>
                  <a:lnTo>
                    <a:pt x="1469" y="1231"/>
                  </a:lnTo>
                  <a:lnTo>
                    <a:pt x="1469" y="1237"/>
                  </a:lnTo>
                  <a:lnTo>
                    <a:pt x="1469" y="1244"/>
                  </a:lnTo>
                  <a:lnTo>
                    <a:pt x="1469" y="1250"/>
                  </a:lnTo>
                  <a:lnTo>
                    <a:pt x="1469" y="1257"/>
                  </a:lnTo>
                  <a:lnTo>
                    <a:pt x="1469" y="1264"/>
                  </a:lnTo>
                  <a:lnTo>
                    <a:pt x="1469" y="1270"/>
                  </a:lnTo>
                  <a:lnTo>
                    <a:pt x="1469" y="1277"/>
                  </a:lnTo>
                  <a:lnTo>
                    <a:pt x="1463" y="1283"/>
                  </a:lnTo>
                  <a:lnTo>
                    <a:pt x="1469" y="1290"/>
                  </a:lnTo>
                  <a:lnTo>
                    <a:pt x="1476" y="1290"/>
                  </a:lnTo>
                  <a:lnTo>
                    <a:pt x="1482" y="1290"/>
                  </a:lnTo>
                  <a:lnTo>
                    <a:pt x="1489" y="1283"/>
                  </a:lnTo>
                  <a:lnTo>
                    <a:pt x="1496" y="1283"/>
                  </a:lnTo>
                  <a:lnTo>
                    <a:pt x="1502" y="1283"/>
                  </a:lnTo>
                  <a:lnTo>
                    <a:pt x="1515" y="1277"/>
                  </a:lnTo>
                  <a:lnTo>
                    <a:pt x="1522" y="1277"/>
                  </a:lnTo>
                  <a:lnTo>
                    <a:pt x="1529" y="1277"/>
                  </a:lnTo>
                  <a:lnTo>
                    <a:pt x="1535" y="1283"/>
                  </a:lnTo>
                  <a:lnTo>
                    <a:pt x="1542" y="1290"/>
                  </a:lnTo>
                  <a:lnTo>
                    <a:pt x="1542" y="1297"/>
                  </a:lnTo>
                  <a:lnTo>
                    <a:pt x="1548" y="1303"/>
                  </a:lnTo>
                  <a:lnTo>
                    <a:pt x="1548" y="1303"/>
                  </a:lnTo>
                  <a:lnTo>
                    <a:pt x="1555" y="1310"/>
                  </a:lnTo>
                  <a:lnTo>
                    <a:pt x="1562" y="1316"/>
                  </a:lnTo>
                  <a:lnTo>
                    <a:pt x="1562" y="1323"/>
                  </a:lnTo>
                  <a:lnTo>
                    <a:pt x="1568" y="1329"/>
                  </a:lnTo>
                  <a:lnTo>
                    <a:pt x="1575" y="1329"/>
                  </a:lnTo>
                  <a:lnTo>
                    <a:pt x="1575" y="1336"/>
                  </a:lnTo>
                  <a:lnTo>
                    <a:pt x="1581" y="1343"/>
                  </a:lnTo>
                  <a:lnTo>
                    <a:pt x="1581" y="1349"/>
                  </a:lnTo>
                  <a:lnTo>
                    <a:pt x="1588" y="1356"/>
                  </a:lnTo>
                  <a:lnTo>
                    <a:pt x="1595" y="1356"/>
                  </a:lnTo>
                  <a:lnTo>
                    <a:pt x="1595" y="1362"/>
                  </a:lnTo>
                  <a:lnTo>
                    <a:pt x="1601" y="1369"/>
                  </a:lnTo>
                  <a:lnTo>
                    <a:pt x="1601" y="1376"/>
                  </a:lnTo>
                  <a:lnTo>
                    <a:pt x="1608" y="1382"/>
                  </a:lnTo>
                  <a:lnTo>
                    <a:pt x="1614" y="1389"/>
                  </a:lnTo>
                  <a:lnTo>
                    <a:pt x="1614" y="1389"/>
                  </a:lnTo>
                  <a:lnTo>
                    <a:pt x="1621" y="1395"/>
                  </a:lnTo>
                  <a:lnTo>
                    <a:pt x="1621" y="1402"/>
                  </a:lnTo>
                  <a:lnTo>
                    <a:pt x="1627" y="1408"/>
                  </a:lnTo>
                  <a:lnTo>
                    <a:pt x="1634" y="1415"/>
                  </a:lnTo>
                  <a:lnTo>
                    <a:pt x="1634" y="1415"/>
                  </a:lnTo>
                  <a:lnTo>
                    <a:pt x="1641" y="1422"/>
                  </a:lnTo>
                  <a:lnTo>
                    <a:pt x="1647" y="1428"/>
                  </a:lnTo>
                  <a:lnTo>
                    <a:pt x="1654" y="1435"/>
                  </a:lnTo>
                  <a:lnTo>
                    <a:pt x="1654" y="1441"/>
                  </a:lnTo>
                  <a:lnTo>
                    <a:pt x="1660" y="1448"/>
                  </a:lnTo>
                  <a:lnTo>
                    <a:pt x="1667" y="1448"/>
                  </a:lnTo>
                  <a:lnTo>
                    <a:pt x="1674" y="1455"/>
                  </a:lnTo>
                  <a:lnTo>
                    <a:pt x="1680" y="1448"/>
                  </a:lnTo>
                  <a:lnTo>
                    <a:pt x="1680" y="1448"/>
                  </a:lnTo>
                  <a:lnTo>
                    <a:pt x="1687" y="1441"/>
                  </a:lnTo>
                  <a:lnTo>
                    <a:pt x="1693" y="1435"/>
                  </a:lnTo>
                  <a:lnTo>
                    <a:pt x="1693" y="1428"/>
                  </a:lnTo>
                  <a:lnTo>
                    <a:pt x="1700" y="1422"/>
                  </a:lnTo>
                  <a:lnTo>
                    <a:pt x="1707" y="1415"/>
                  </a:lnTo>
                  <a:lnTo>
                    <a:pt x="1713" y="1415"/>
                  </a:lnTo>
                  <a:lnTo>
                    <a:pt x="1726" y="1415"/>
                  </a:lnTo>
                  <a:lnTo>
                    <a:pt x="1733" y="1415"/>
                  </a:lnTo>
                  <a:lnTo>
                    <a:pt x="1739" y="1415"/>
                  </a:lnTo>
                  <a:lnTo>
                    <a:pt x="1746" y="1422"/>
                  </a:lnTo>
                  <a:lnTo>
                    <a:pt x="1753" y="1428"/>
                  </a:lnTo>
                  <a:lnTo>
                    <a:pt x="1753" y="1428"/>
                  </a:lnTo>
                  <a:lnTo>
                    <a:pt x="1746" y="1435"/>
                  </a:lnTo>
                  <a:lnTo>
                    <a:pt x="1733" y="1435"/>
                  </a:lnTo>
                  <a:lnTo>
                    <a:pt x="1726" y="1435"/>
                  </a:lnTo>
                  <a:lnTo>
                    <a:pt x="1713" y="1435"/>
                  </a:lnTo>
                  <a:lnTo>
                    <a:pt x="1707" y="1435"/>
                  </a:lnTo>
                  <a:lnTo>
                    <a:pt x="1700" y="1435"/>
                  </a:lnTo>
                  <a:lnTo>
                    <a:pt x="1693" y="1441"/>
                  </a:lnTo>
                  <a:lnTo>
                    <a:pt x="1687" y="1441"/>
                  </a:lnTo>
                  <a:lnTo>
                    <a:pt x="1680" y="1448"/>
                  </a:lnTo>
                  <a:lnTo>
                    <a:pt x="1674" y="1455"/>
                  </a:lnTo>
                  <a:lnTo>
                    <a:pt x="1667" y="1461"/>
                  </a:lnTo>
                  <a:lnTo>
                    <a:pt x="1660" y="1461"/>
                  </a:lnTo>
                  <a:lnTo>
                    <a:pt x="1654" y="1468"/>
                  </a:lnTo>
                  <a:lnTo>
                    <a:pt x="1647" y="1468"/>
                  </a:lnTo>
                  <a:lnTo>
                    <a:pt x="1641" y="1474"/>
                  </a:lnTo>
                  <a:lnTo>
                    <a:pt x="1634" y="1474"/>
                  </a:lnTo>
                  <a:lnTo>
                    <a:pt x="1627" y="1481"/>
                  </a:lnTo>
                  <a:lnTo>
                    <a:pt x="1614" y="1481"/>
                  </a:lnTo>
                  <a:lnTo>
                    <a:pt x="1608" y="1487"/>
                  </a:lnTo>
                  <a:lnTo>
                    <a:pt x="1601" y="1487"/>
                  </a:lnTo>
                  <a:lnTo>
                    <a:pt x="1595" y="1487"/>
                  </a:lnTo>
                  <a:lnTo>
                    <a:pt x="1588" y="1494"/>
                  </a:lnTo>
                  <a:lnTo>
                    <a:pt x="1581" y="1501"/>
                  </a:lnTo>
                  <a:lnTo>
                    <a:pt x="1575" y="1507"/>
                  </a:lnTo>
                  <a:lnTo>
                    <a:pt x="1568" y="1507"/>
                  </a:lnTo>
                  <a:lnTo>
                    <a:pt x="1562" y="1514"/>
                  </a:lnTo>
                  <a:lnTo>
                    <a:pt x="1555" y="1514"/>
                  </a:lnTo>
                  <a:lnTo>
                    <a:pt x="1548" y="1520"/>
                  </a:lnTo>
                  <a:lnTo>
                    <a:pt x="1535" y="1520"/>
                  </a:lnTo>
                  <a:lnTo>
                    <a:pt x="1529" y="1520"/>
                  </a:lnTo>
                  <a:lnTo>
                    <a:pt x="1522" y="1520"/>
                  </a:lnTo>
                  <a:lnTo>
                    <a:pt x="1509" y="1520"/>
                  </a:lnTo>
                  <a:lnTo>
                    <a:pt x="1502" y="1527"/>
                  </a:lnTo>
                  <a:lnTo>
                    <a:pt x="1496" y="1527"/>
                  </a:lnTo>
                  <a:lnTo>
                    <a:pt x="1489" y="1534"/>
                  </a:lnTo>
                  <a:lnTo>
                    <a:pt x="1482" y="1540"/>
                  </a:lnTo>
                  <a:lnTo>
                    <a:pt x="1476" y="1540"/>
                  </a:lnTo>
                  <a:lnTo>
                    <a:pt x="1469" y="1547"/>
                  </a:lnTo>
                  <a:lnTo>
                    <a:pt x="1463" y="1547"/>
                  </a:lnTo>
                  <a:lnTo>
                    <a:pt x="1456" y="1553"/>
                  </a:lnTo>
                  <a:lnTo>
                    <a:pt x="1443" y="1553"/>
                  </a:lnTo>
                  <a:lnTo>
                    <a:pt x="1436" y="1560"/>
                  </a:lnTo>
                  <a:lnTo>
                    <a:pt x="1430" y="1566"/>
                  </a:lnTo>
                  <a:lnTo>
                    <a:pt x="1430" y="1566"/>
                  </a:lnTo>
                  <a:lnTo>
                    <a:pt x="1423" y="1573"/>
                  </a:lnTo>
                  <a:lnTo>
                    <a:pt x="1417" y="1580"/>
                  </a:lnTo>
                  <a:lnTo>
                    <a:pt x="1417" y="1586"/>
                  </a:lnTo>
                  <a:lnTo>
                    <a:pt x="1410" y="1593"/>
                  </a:lnTo>
                  <a:lnTo>
                    <a:pt x="1410" y="1593"/>
                  </a:lnTo>
                  <a:lnTo>
                    <a:pt x="1403" y="1599"/>
                  </a:lnTo>
                  <a:lnTo>
                    <a:pt x="1403" y="1606"/>
                  </a:lnTo>
                  <a:lnTo>
                    <a:pt x="1397" y="1613"/>
                  </a:lnTo>
                  <a:lnTo>
                    <a:pt x="1390" y="1619"/>
                  </a:lnTo>
                  <a:lnTo>
                    <a:pt x="1384" y="1619"/>
                  </a:lnTo>
                  <a:lnTo>
                    <a:pt x="1377" y="1626"/>
                  </a:lnTo>
                  <a:lnTo>
                    <a:pt x="1377" y="1626"/>
                  </a:lnTo>
                  <a:lnTo>
                    <a:pt x="1377" y="1632"/>
                  </a:lnTo>
                  <a:lnTo>
                    <a:pt x="1377" y="1639"/>
                  </a:lnTo>
                  <a:lnTo>
                    <a:pt x="1370" y="1645"/>
                  </a:lnTo>
                  <a:lnTo>
                    <a:pt x="1370" y="1652"/>
                  </a:lnTo>
                  <a:lnTo>
                    <a:pt x="1364" y="1659"/>
                  </a:lnTo>
                  <a:lnTo>
                    <a:pt x="1357" y="1652"/>
                  </a:lnTo>
                  <a:lnTo>
                    <a:pt x="1351" y="1645"/>
                  </a:lnTo>
                  <a:lnTo>
                    <a:pt x="1351" y="1639"/>
                  </a:lnTo>
                  <a:lnTo>
                    <a:pt x="1344" y="1632"/>
                  </a:lnTo>
                  <a:lnTo>
                    <a:pt x="1344" y="1626"/>
                  </a:lnTo>
                  <a:lnTo>
                    <a:pt x="1338" y="1626"/>
                  </a:lnTo>
                  <a:lnTo>
                    <a:pt x="1331" y="1626"/>
                  </a:lnTo>
                  <a:lnTo>
                    <a:pt x="1324" y="1632"/>
                  </a:lnTo>
                  <a:lnTo>
                    <a:pt x="1318" y="1632"/>
                  </a:lnTo>
                  <a:lnTo>
                    <a:pt x="1305" y="1639"/>
                  </a:lnTo>
                  <a:lnTo>
                    <a:pt x="1298" y="1639"/>
                  </a:lnTo>
                  <a:lnTo>
                    <a:pt x="1291" y="1645"/>
                  </a:lnTo>
                  <a:lnTo>
                    <a:pt x="1285" y="1645"/>
                  </a:lnTo>
                  <a:lnTo>
                    <a:pt x="1272" y="1645"/>
                  </a:lnTo>
                  <a:lnTo>
                    <a:pt x="1265" y="1652"/>
                  </a:lnTo>
                  <a:lnTo>
                    <a:pt x="1258" y="1652"/>
                  </a:lnTo>
                  <a:lnTo>
                    <a:pt x="1245" y="1659"/>
                  </a:lnTo>
                  <a:lnTo>
                    <a:pt x="1239" y="1659"/>
                  </a:lnTo>
                  <a:lnTo>
                    <a:pt x="1232" y="1659"/>
                  </a:lnTo>
                  <a:lnTo>
                    <a:pt x="1226" y="1665"/>
                  </a:lnTo>
                  <a:lnTo>
                    <a:pt x="1212" y="1665"/>
                  </a:lnTo>
                  <a:lnTo>
                    <a:pt x="1206" y="1672"/>
                  </a:lnTo>
                  <a:lnTo>
                    <a:pt x="1199" y="1672"/>
                  </a:lnTo>
                  <a:lnTo>
                    <a:pt x="1199" y="1678"/>
                  </a:lnTo>
                  <a:lnTo>
                    <a:pt x="1199" y="1685"/>
                  </a:lnTo>
                  <a:lnTo>
                    <a:pt x="1199" y="1692"/>
                  </a:lnTo>
                  <a:lnTo>
                    <a:pt x="1193" y="1698"/>
                  </a:lnTo>
                  <a:lnTo>
                    <a:pt x="1193" y="1705"/>
                  </a:lnTo>
                  <a:lnTo>
                    <a:pt x="1193" y="1711"/>
                  </a:lnTo>
                  <a:lnTo>
                    <a:pt x="1193" y="1718"/>
                  </a:lnTo>
                  <a:lnTo>
                    <a:pt x="1193" y="1724"/>
                  </a:lnTo>
                  <a:lnTo>
                    <a:pt x="1193" y="1731"/>
                  </a:lnTo>
                  <a:lnTo>
                    <a:pt x="1193" y="1731"/>
                  </a:lnTo>
                  <a:lnTo>
                    <a:pt x="1199" y="1731"/>
                  </a:lnTo>
                  <a:lnTo>
                    <a:pt x="1226" y="1731"/>
                  </a:lnTo>
                  <a:lnTo>
                    <a:pt x="1239" y="1731"/>
                  </a:lnTo>
                  <a:close/>
                  <a:moveTo>
                    <a:pt x="1305" y="1731"/>
                  </a:moveTo>
                  <a:lnTo>
                    <a:pt x="1298" y="1731"/>
                  </a:lnTo>
                  <a:lnTo>
                    <a:pt x="1298" y="1724"/>
                  </a:lnTo>
                  <a:lnTo>
                    <a:pt x="1291" y="1724"/>
                  </a:lnTo>
                  <a:lnTo>
                    <a:pt x="1285" y="1724"/>
                  </a:lnTo>
                  <a:lnTo>
                    <a:pt x="1285" y="1724"/>
                  </a:lnTo>
                  <a:lnTo>
                    <a:pt x="1278" y="1724"/>
                  </a:lnTo>
                  <a:lnTo>
                    <a:pt x="1278" y="1731"/>
                  </a:lnTo>
                  <a:lnTo>
                    <a:pt x="1272" y="1731"/>
                  </a:lnTo>
                  <a:lnTo>
                    <a:pt x="1285" y="1731"/>
                  </a:lnTo>
                  <a:lnTo>
                    <a:pt x="1305" y="1731"/>
                  </a:lnTo>
                  <a:close/>
                  <a:moveTo>
                    <a:pt x="1436" y="1619"/>
                  </a:moveTo>
                  <a:lnTo>
                    <a:pt x="1436" y="1619"/>
                  </a:lnTo>
                  <a:lnTo>
                    <a:pt x="1443" y="1613"/>
                  </a:lnTo>
                  <a:lnTo>
                    <a:pt x="1443" y="1613"/>
                  </a:lnTo>
                  <a:lnTo>
                    <a:pt x="1450" y="1613"/>
                  </a:lnTo>
                  <a:lnTo>
                    <a:pt x="1450" y="1613"/>
                  </a:lnTo>
                  <a:lnTo>
                    <a:pt x="1456" y="1619"/>
                  </a:lnTo>
                  <a:lnTo>
                    <a:pt x="1456" y="1619"/>
                  </a:lnTo>
                  <a:lnTo>
                    <a:pt x="1456" y="1626"/>
                  </a:lnTo>
                  <a:lnTo>
                    <a:pt x="1456" y="1626"/>
                  </a:lnTo>
                  <a:lnTo>
                    <a:pt x="1450" y="1626"/>
                  </a:lnTo>
                  <a:lnTo>
                    <a:pt x="1443" y="1632"/>
                  </a:lnTo>
                  <a:lnTo>
                    <a:pt x="1443" y="1626"/>
                  </a:lnTo>
                  <a:lnTo>
                    <a:pt x="1436" y="1626"/>
                  </a:lnTo>
                  <a:lnTo>
                    <a:pt x="1436" y="1619"/>
                  </a:lnTo>
                  <a:close/>
                  <a:moveTo>
                    <a:pt x="1601" y="1455"/>
                  </a:moveTo>
                  <a:lnTo>
                    <a:pt x="1595" y="1448"/>
                  </a:lnTo>
                  <a:lnTo>
                    <a:pt x="1595" y="1441"/>
                  </a:lnTo>
                  <a:lnTo>
                    <a:pt x="1588" y="1441"/>
                  </a:lnTo>
                  <a:lnTo>
                    <a:pt x="1581" y="1441"/>
                  </a:lnTo>
                  <a:lnTo>
                    <a:pt x="1568" y="1448"/>
                  </a:lnTo>
                  <a:lnTo>
                    <a:pt x="1568" y="1448"/>
                  </a:lnTo>
                  <a:lnTo>
                    <a:pt x="1562" y="1455"/>
                  </a:lnTo>
                  <a:lnTo>
                    <a:pt x="1568" y="1461"/>
                  </a:lnTo>
                  <a:lnTo>
                    <a:pt x="1575" y="1468"/>
                  </a:lnTo>
                  <a:lnTo>
                    <a:pt x="1581" y="1468"/>
                  </a:lnTo>
                  <a:lnTo>
                    <a:pt x="1588" y="1468"/>
                  </a:lnTo>
                  <a:lnTo>
                    <a:pt x="1595" y="1468"/>
                  </a:lnTo>
                  <a:lnTo>
                    <a:pt x="1595" y="1461"/>
                  </a:lnTo>
                  <a:lnTo>
                    <a:pt x="1601" y="1455"/>
                  </a:lnTo>
                  <a:close/>
                  <a:moveTo>
                    <a:pt x="1792" y="1395"/>
                  </a:moveTo>
                  <a:lnTo>
                    <a:pt x="1792" y="1389"/>
                  </a:lnTo>
                  <a:lnTo>
                    <a:pt x="1799" y="1382"/>
                  </a:lnTo>
                  <a:lnTo>
                    <a:pt x="1805" y="1382"/>
                  </a:lnTo>
                  <a:lnTo>
                    <a:pt x="1812" y="1382"/>
                  </a:lnTo>
                  <a:lnTo>
                    <a:pt x="1819" y="1382"/>
                  </a:lnTo>
                  <a:lnTo>
                    <a:pt x="1825" y="1389"/>
                  </a:lnTo>
                  <a:lnTo>
                    <a:pt x="1832" y="1389"/>
                  </a:lnTo>
                  <a:lnTo>
                    <a:pt x="1832" y="1395"/>
                  </a:lnTo>
                  <a:lnTo>
                    <a:pt x="1832" y="1402"/>
                  </a:lnTo>
                  <a:lnTo>
                    <a:pt x="1819" y="1402"/>
                  </a:lnTo>
                  <a:lnTo>
                    <a:pt x="1812" y="1408"/>
                  </a:lnTo>
                  <a:lnTo>
                    <a:pt x="1805" y="1408"/>
                  </a:lnTo>
                  <a:lnTo>
                    <a:pt x="1799" y="1402"/>
                  </a:lnTo>
                  <a:lnTo>
                    <a:pt x="1792" y="1395"/>
                  </a:lnTo>
                  <a:close/>
                  <a:moveTo>
                    <a:pt x="2504" y="1204"/>
                  </a:moveTo>
                  <a:lnTo>
                    <a:pt x="2504" y="1198"/>
                  </a:lnTo>
                  <a:lnTo>
                    <a:pt x="2504" y="1198"/>
                  </a:lnTo>
                  <a:lnTo>
                    <a:pt x="2510" y="1198"/>
                  </a:lnTo>
                  <a:lnTo>
                    <a:pt x="2517" y="1198"/>
                  </a:lnTo>
                  <a:lnTo>
                    <a:pt x="2517" y="1204"/>
                  </a:lnTo>
                  <a:lnTo>
                    <a:pt x="2517" y="1211"/>
                  </a:lnTo>
                  <a:lnTo>
                    <a:pt x="2517" y="1211"/>
                  </a:lnTo>
                  <a:lnTo>
                    <a:pt x="2510" y="1218"/>
                  </a:lnTo>
                  <a:lnTo>
                    <a:pt x="2510" y="1218"/>
                  </a:lnTo>
                  <a:lnTo>
                    <a:pt x="2504" y="1218"/>
                  </a:lnTo>
                  <a:lnTo>
                    <a:pt x="2504" y="1218"/>
                  </a:lnTo>
                  <a:lnTo>
                    <a:pt x="2504" y="1211"/>
                  </a:lnTo>
                  <a:lnTo>
                    <a:pt x="2504" y="1211"/>
                  </a:lnTo>
                  <a:lnTo>
                    <a:pt x="2504" y="1204"/>
                  </a:lnTo>
                  <a:close/>
                  <a:moveTo>
                    <a:pt x="1647" y="1171"/>
                  </a:moveTo>
                  <a:lnTo>
                    <a:pt x="1647" y="1171"/>
                  </a:lnTo>
                  <a:lnTo>
                    <a:pt x="1647" y="1171"/>
                  </a:lnTo>
                  <a:lnTo>
                    <a:pt x="1647" y="1171"/>
                  </a:lnTo>
                  <a:lnTo>
                    <a:pt x="1641" y="1171"/>
                  </a:lnTo>
                  <a:lnTo>
                    <a:pt x="1641" y="1171"/>
                  </a:lnTo>
                  <a:lnTo>
                    <a:pt x="1641" y="1171"/>
                  </a:lnTo>
                  <a:lnTo>
                    <a:pt x="1641" y="1171"/>
                  </a:lnTo>
                  <a:lnTo>
                    <a:pt x="1641" y="1178"/>
                  </a:lnTo>
                  <a:lnTo>
                    <a:pt x="1641" y="1178"/>
                  </a:lnTo>
                  <a:lnTo>
                    <a:pt x="1641" y="1178"/>
                  </a:lnTo>
                  <a:lnTo>
                    <a:pt x="1647" y="1178"/>
                  </a:lnTo>
                  <a:lnTo>
                    <a:pt x="1647" y="1178"/>
                  </a:lnTo>
                  <a:lnTo>
                    <a:pt x="1647" y="1178"/>
                  </a:lnTo>
                  <a:lnTo>
                    <a:pt x="1647" y="1171"/>
                  </a:lnTo>
                  <a:close/>
                  <a:moveTo>
                    <a:pt x="1621" y="1145"/>
                  </a:moveTo>
                  <a:lnTo>
                    <a:pt x="1621" y="1139"/>
                  </a:lnTo>
                  <a:lnTo>
                    <a:pt x="1621" y="1139"/>
                  </a:lnTo>
                  <a:lnTo>
                    <a:pt x="1614" y="1139"/>
                  </a:lnTo>
                  <a:lnTo>
                    <a:pt x="1608" y="1139"/>
                  </a:lnTo>
                  <a:lnTo>
                    <a:pt x="1601" y="1139"/>
                  </a:lnTo>
                  <a:lnTo>
                    <a:pt x="1595" y="1145"/>
                  </a:lnTo>
                  <a:lnTo>
                    <a:pt x="1595" y="1145"/>
                  </a:lnTo>
                  <a:lnTo>
                    <a:pt x="1595" y="1152"/>
                  </a:lnTo>
                  <a:lnTo>
                    <a:pt x="1601" y="1158"/>
                  </a:lnTo>
                  <a:lnTo>
                    <a:pt x="1608" y="1158"/>
                  </a:lnTo>
                  <a:lnTo>
                    <a:pt x="1614" y="1158"/>
                  </a:lnTo>
                  <a:lnTo>
                    <a:pt x="1621" y="1158"/>
                  </a:lnTo>
                  <a:lnTo>
                    <a:pt x="1621" y="1152"/>
                  </a:lnTo>
                  <a:lnTo>
                    <a:pt x="1621" y="1145"/>
                  </a:lnTo>
                  <a:close/>
                  <a:moveTo>
                    <a:pt x="1601" y="1119"/>
                  </a:moveTo>
                  <a:lnTo>
                    <a:pt x="1601" y="1112"/>
                  </a:lnTo>
                  <a:lnTo>
                    <a:pt x="1595" y="1106"/>
                  </a:lnTo>
                  <a:lnTo>
                    <a:pt x="1595" y="1099"/>
                  </a:lnTo>
                  <a:lnTo>
                    <a:pt x="1588" y="1099"/>
                  </a:lnTo>
                  <a:lnTo>
                    <a:pt x="1581" y="1092"/>
                  </a:lnTo>
                  <a:lnTo>
                    <a:pt x="1581" y="1086"/>
                  </a:lnTo>
                  <a:lnTo>
                    <a:pt x="1575" y="1079"/>
                  </a:lnTo>
                  <a:lnTo>
                    <a:pt x="1575" y="1073"/>
                  </a:lnTo>
                  <a:lnTo>
                    <a:pt x="1568" y="1066"/>
                  </a:lnTo>
                  <a:lnTo>
                    <a:pt x="1562" y="1060"/>
                  </a:lnTo>
                  <a:lnTo>
                    <a:pt x="1562" y="1060"/>
                  </a:lnTo>
                  <a:lnTo>
                    <a:pt x="1555" y="1053"/>
                  </a:lnTo>
                  <a:lnTo>
                    <a:pt x="1555" y="1046"/>
                  </a:lnTo>
                  <a:lnTo>
                    <a:pt x="1548" y="1040"/>
                  </a:lnTo>
                  <a:lnTo>
                    <a:pt x="1548" y="1033"/>
                  </a:lnTo>
                  <a:lnTo>
                    <a:pt x="1542" y="1027"/>
                  </a:lnTo>
                  <a:lnTo>
                    <a:pt x="1535" y="1027"/>
                  </a:lnTo>
                  <a:lnTo>
                    <a:pt x="1535" y="1020"/>
                  </a:lnTo>
                  <a:lnTo>
                    <a:pt x="1529" y="1013"/>
                  </a:lnTo>
                  <a:lnTo>
                    <a:pt x="1529" y="1007"/>
                  </a:lnTo>
                  <a:lnTo>
                    <a:pt x="1522" y="1000"/>
                  </a:lnTo>
                  <a:lnTo>
                    <a:pt x="1522" y="994"/>
                  </a:lnTo>
                  <a:lnTo>
                    <a:pt x="1515" y="987"/>
                  </a:lnTo>
                  <a:lnTo>
                    <a:pt x="1509" y="987"/>
                  </a:lnTo>
                  <a:lnTo>
                    <a:pt x="1509" y="981"/>
                  </a:lnTo>
                  <a:lnTo>
                    <a:pt x="1502" y="974"/>
                  </a:lnTo>
                  <a:lnTo>
                    <a:pt x="1496" y="967"/>
                  </a:lnTo>
                  <a:lnTo>
                    <a:pt x="1482" y="967"/>
                  </a:lnTo>
                  <a:lnTo>
                    <a:pt x="1476" y="967"/>
                  </a:lnTo>
                  <a:lnTo>
                    <a:pt x="1476" y="974"/>
                  </a:lnTo>
                  <a:lnTo>
                    <a:pt x="1469" y="981"/>
                  </a:lnTo>
                  <a:lnTo>
                    <a:pt x="1463" y="987"/>
                  </a:lnTo>
                  <a:lnTo>
                    <a:pt x="1463" y="994"/>
                  </a:lnTo>
                  <a:lnTo>
                    <a:pt x="1456" y="1000"/>
                  </a:lnTo>
                  <a:lnTo>
                    <a:pt x="1456" y="1000"/>
                  </a:lnTo>
                  <a:lnTo>
                    <a:pt x="1456" y="1007"/>
                  </a:lnTo>
                  <a:lnTo>
                    <a:pt x="1456" y="1013"/>
                  </a:lnTo>
                  <a:lnTo>
                    <a:pt x="1469" y="1013"/>
                  </a:lnTo>
                  <a:lnTo>
                    <a:pt x="1476" y="1020"/>
                  </a:lnTo>
                  <a:lnTo>
                    <a:pt x="1482" y="1027"/>
                  </a:lnTo>
                  <a:lnTo>
                    <a:pt x="1489" y="1027"/>
                  </a:lnTo>
                  <a:lnTo>
                    <a:pt x="1489" y="1033"/>
                  </a:lnTo>
                  <a:lnTo>
                    <a:pt x="1496" y="1040"/>
                  </a:lnTo>
                  <a:lnTo>
                    <a:pt x="1502" y="1046"/>
                  </a:lnTo>
                  <a:lnTo>
                    <a:pt x="1509" y="1046"/>
                  </a:lnTo>
                  <a:lnTo>
                    <a:pt x="1515" y="1053"/>
                  </a:lnTo>
                  <a:lnTo>
                    <a:pt x="1522" y="1060"/>
                  </a:lnTo>
                  <a:lnTo>
                    <a:pt x="1522" y="1066"/>
                  </a:lnTo>
                  <a:lnTo>
                    <a:pt x="1529" y="1073"/>
                  </a:lnTo>
                  <a:lnTo>
                    <a:pt x="1529" y="1079"/>
                  </a:lnTo>
                  <a:lnTo>
                    <a:pt x="1535" y="1079"/>
                  </a:lnTo>
                  <a:lnTo>
                    <a:pt x="1535" y="1086"/>
                  </a:lnTo>
                  <a:lnTo>
                    <a:pt x="1542" y="1092"/>
                  </a:lnTo>
                  <a:lnTo>
                    <a:pt x="1542" y="1099"/>
                  </a:lnTo>
                  <a:lnTo>
                    <a:pt x="1542" y="1106"/>
                  </a:lnTo>
                  <a:lnTo>
                    <a:pt x="1542" y="1112"/>
                  </a:lnTo>
                  <a:lnTo>
                    <a:pt x="1548" y="1119"/>
                  </a:lnTo>
                  <a:lnTo>
                    <a:pt x="1548" y="1119"/>
                  </a:lnTo>
                  <a:lnTo>
                    <a:pt x="1562" y="1125"/>
                  </a:lnTo>
                  <a:lnTo>
                    <a:pt x="1568" y="1125"/>
                  </a:lnTo>
                  <a:lnTo>
                    <a:pt x="1575" y="1132"/>
                  </a:lnTo>
                  <a:lnTo>
                    <a:pt x="1581" y="1139"/>
                  </a:lnTo>
                  <a:lnTo>
                    <a:pt x="1588" y="1145"/>
                  </a:lnTo>
                  <a:lnTo>
                    <a:pt x="1588" y="1145"/>
                  </a:lnTo>
                  <a:lnTo>
                    <a:pt x="1595" y="1145"/>
                  </a:lnTo>
                  <a:lnTo>
                    <a:pt x="1595" y="1139"/>
                  </a:lnTo>
                  <a:lnTo>
                    <a:pt x="1601" y="1132"/>
                  </a:lnTo>
                  <a:lnTo>
                    <a:pt x="1601" y="1119"/>
                  </a:lnTo>
                  <a:close/>
                  <a:moveTo>
                    <a:pt x="1515" y="1092"/>
                  </a:moveTo>
                  <a:lnTo>
                    <a:pt x="1515" y="1086"/>
                  </a:lnTo>
                  <a:lnTo>
                    <a:pt x="1509" y="1086"/>
                  </a:lnTo>
                  <a:lnTo>
                    <a:pt x="1502" y="1086"/>
                  </a:lnTo>
                  <a:lnTo>
                    <a:pt x="1496" y="1086"/>
                  </a:lnTo>
                  <a:lnTo>
                    <a:pt x="1489" y="1092"/>
                  </a:lnTo>
                  <a:lnTo>
                    <a:pt x="1489" y="1092"/>
                  </a:lnTo>
                  <a:lnTo>
                    <a:pt x="1496" y="1099"/>
                  </a:lnTo>
                  <a:lnTo>
                    <a:pt x="1496" y="1099"/>
                  </a:lnTo>
                  <a:lnTo>
                    <a:pt x="1502" y="1106"/>
                  </a:lnTo>
                  <a:lnTo>
                    <a:pt x="1509" y="1106"/>
                  </a:lnTo>
                  <a:lnTo>
                    <a:pt x="1509" y="1106"/>
                  </a:lnTo>
                  <a:lnTo>
                    <a:pt x="1515" y="1099"/>
                  </a:lnTo>
                  <a:lnTo>
                    <a:pt x="1515" y="1099"/>
                  </a:lnTo>
                  <a:lnTo>
                    <a:pt x="1515" y="1092"/>
                  </a:lnTo>
                  <a:close/>
                  <a:moveTo>
                    <a:pt x="1482" y="1060"/>
                  </a:moveTo>
                  <a:lnTo>
                    <a:pt x="1482" y="1060"/>
                  </a:lnTo>
                  <a:lnTo>
                    <a:pt x="1476" y="1053"/>
                  </a:lnTo>
                  <a:lnTo>
                    <a:pt x="1476" y="1053"/>
                  </a:lnTo>
                  <a:lnTo>
                    <a:pt x="1469" y="1060"/>
                  </a:lnTo>
                  <a:lnTo>
                    <a:pt x="1463" y="1060"/>
                  </a:lnTo>
                  <a:lnTo>
                    <a:pt x="1463" y="1066"/>
                  </a:lnTo>
                  <a:lnTo>
                    <a:pt x="1463" y="1073"/>
                  </a:lnTo>
                  <a:lnTo>
                    <a:pt x="1469" y="1079"/>
                  </a:lnTo>
                  <a:lnTo>
                    <a:pt x="1476" y="1079"/>
                  </a:lnTo>
                  <a:lnTo>
                    <a:pt x="1476" y="1079"/>
                  </a:lnTo>
                  <a:lnTo>
                    <a:pt x="1482" y="1079"/>
                  </a:lnTo>
                  <a:lnTo>
                    <a:pt x="1482" y="1079"/>
                  </a:lnTo>
                  <a:lnTo>
                    <a:pt x="1482" y="1073"/>
                  </a:lnTo>
                  <a:lnTo>
                    <a:pt x="1482" y="1060"/>
                  </a:lnTo>
                  <a:close/>
                  <a:moveTo>
                    <a:pt x="2464" y="895"/>
                  </a:moveTo>
                  <a:lnTo>
                    <a:pt x="2471" y="888"/>
                  </a:lnTo>
                  <a:lnTo>
                    <a:pt x="2471" y="888"/>
                  </a:lnTo>
                  <a:lnTo>
                    <a:pt x="2477" y="888"/>
                  </a:lnTo>
                  <a:lnTo>
                    <a:pt x="2477" y="882"/>
                  </a:lnTo>
                  <a:lnTo>
                    <a:pt x="2477" y="888"/>
                  </a:lnTo>
                  <a:lnTo>
                    <a:pt x="2484" y="888"/>
                  </a:lnTo>
                  <a:lnTo>
                    <a:pt x="2484" y="888"/>
                  </a:lnTo>
                  <a:lnTo>
                    <a:pt x="2484" y="895"/>
                  </a:lnTo>
                  <a:lnTo>
                    <a:pt x="2484" y="895"/>
                  </a:lnTo>
                  <a:lnTo>
                    <a:pt x="2484" y="902"/>
                  </a:lnTo>
                  <a:lnTo>
                    <a:pt x="2477" y="902"/>
                  </a:lnTo>
                  <a:lnTo>
                    <a:pt x="2477" y="902"/>
                  </a:lnTo>
                  <a:lnTo>
                    <a:pt x="2471" y="902"/>
                  </a:lnTo>
                  <a:lnTo>
                    <a:pt x="2464" y="895"/>
                  </a:lnTo>
                  <a:close/>
                  <a:moveTo>
                    <a:pt x="2300" y="783"/>
                  </a:moveTo>
                  <a:lnTo>
                    <a:pt x="2306" y="783"/>
                  </a:lnTo>
                  <a:lnTo>
                    <a:pt x="2306" y="783"/>
                  </a:lnTo>
                  <a:lnTo>
                    <a:pt x="2313" y="776"/>
                  </a:lnTo>
                  <a:lnTo>
                    <a:pt x="2313" y="776"/>
                  </a:lnTo>
                  <a:lnTo>
                    <a:pt x="2313" y="783"/>
                  </a:lnTo>
                  <a:lnTo>
                    <a:pt x="2313" y="783"/>
                  </a:lnTo>
                  <a:lnTo>
                    <a:pt x="2313" y="783"/>
                  </a:lnTo>
                  <a:lnTo>
                    <a:pt x="2313" y="783"/>
                  </a:lnTo>
                  <a:lnTo>
                    <a:pt x="2313" y="790"/>
                  </a:lnTo>
                  <a:lnTo>
                    <a:pt x="2313" y="790"/>
                  </a:lnTo>
                  <a:lnTo>
                    <a:pt x="2306" y="790"/>
                  </a:lnTo>
                  <a:lnTo>
                    <a:pt x="2306" y="790"/>
                  </a:lnTo>
                  <a:lnTo>
                    <a:pt x="2306" y="783"/>
                  </a:lnTo>
                  <a:lnTo>
                    <a:pt x="2300" y="783"/>
                  </a:lnTo>
                  <a:close/>
                  <a:moveTo>
                    <a:pt x="310" y="671"/>
                  </a:moveTo>
                  <a:lnTo>
                    <a:pt x="316" y="664"/>
                  </a:lnTo>
                  <a:lnTo>
                    <a:pt x="316" y="658"/>
                  </a:lnTo>
                  <a:lnTo>
                    <a:pt x="323" y="651"/>
                  </a:lnTo>
                  <a:lnTo>
                    <a:pt x="323" y="651"/>
                  </a:lnTo>
                  <a:lnTo>
                    <a:pt x="323" y="645"/>
                  </a:lnTo>
                  <a:lnTo>
                    <a:pt x="323" y="638"/>
                  </a:lnTo>
                  <a:lnTo>
                    <a:pt x="329" y="632"/>
                  </a:lnTo>
                  <a:lnTo>
                    <a:pt x="329" y="625"/>
                  </a:lnTo>
                  <a:lnTo>
                    <a:pt x="336" y="618"/>
                  </a:lnTo>
                  <a:lnTo>
                    <a:pt x="349" y="618"/>
                  </a:lnTo>
                  <a:lnTo>
                    <a:pt x="356" y="618"/>
                  </a:lnTo>
                  <a:lnTo>
                    <a:pt x="369" y="618"/>
                  </a:lnTo>
                  <a:lnTo>
                    <a:pt x="375" y="625"/>
                  </a:lnTo>
                  <a:lnTo>
                    <a:pt x="382" y="625"/>
                  </a:lnTo>
                  <a:lnTo>
                    <a:pt x="395" y="625"/>
                  </a:lnTo>
                  <a:lnTo>
                    <a:pt x="402" y="632"/>
                  </a:lnTo>
                  <a:lnTo>
                    <a:pt x="408" y="638"/>
                  </a:lnTo>
                  <a:lnTo>
                    <a:pt x="415" y="638"/>
                  </a:lnTo>
                  <a:lnTo>
                    <a:pt x="415" y="645"/>
                  </a:lnTo>
                  <a:lnTo>
                    <a:pt x="422" y="651"/>
                  </a:lnTo>
                  <a:lnTo>
                    <a:pt x="428" y="645"/>
                  </a:lnTo>
                  <a:lnTo>
                    <a:pt x="435" y="645"/>
                  </a:lnTo>
                  <a:lnTo>
                    <a:pt x="448" y="638"/>
                  </a:lnTo>
                  <a:lnTo>
                    <a:pt x="455" y="638"/>
                  </a:lnTo>
                  <a:lnTo>
                    <a:pt x="461" y="638"/>
                  </a:lnTo>
                  <a:lnTo>
                    <a:pt x="474" y="632"/>
                  </a:lnTo>
                  <a:lnTo>
                    <a:pt x="474" y="632"/>
                  </a:lnTo>
                  <a:lnTo>
                    <a:pt x="481" y="625"/>
                  </a:lnTo>
                  <a:lnTo>
                    <a:pt x="481" y="618"/>
                  </a:lnTo>
                  <a:lnTo>
                    <a:pt x="481" y="612"/>
                  </a:lnTo>
                  <a:lnTo>
                    <a:pt x="487" y="605"/>
                  </a:lnTo>
                  <a:lnTo>
                    <a:pt x="487" y="599"/>
                  </a:lnTo>
                  <a:lnTo>
                    <a:pt x="487" y="592"/>
                  </a:lnTo>
                  <a:lnTo>
                    <a:pt x="487" y="585"/>
                  </a:lnTo>
                  <a:lnTo>
                    <a:pt x="494" y="579"/>
                  </a:lnTo>
                  <a:lnTo>
                    <a:pt x="494" y="572"/>
                  </a:lnTo>
                  <a:lnTo>
                    <a:pt x="501" y="566"/>
                  </a:lnTo>
                  <a:lnTo>
                    <a:pt x="501" y="566"/>
                  </a:lnTo>
                  <a:lnTo>
                    <a:pt x="507" y="559"/>
                  </a:lnTo>
                  <a:lnTo>
                    <a:pt x="514" y="553"/>
                  </a:lnTo>
                  <a:lnTo>
                    <a:pt x="520" y="553"/>
                  </a:lnTo>
                  <a:lnTo>
                    <a:pt x="534" y="553"/>
                  </a:lnTo>
                  <a:lnTo>
                    <a:pt x="540" y="553"/>
                  </a:lnTo>
                  <a:lnTo>
                    <a:pt x="553" y="546"/>
                  </a:lnTo>
                  <a:lnTo>
                    <a:pt x="553" y="539"/>
                  </a:lnTo>
                  <a:lnTo>
                    <a:pt x="560" y="539"/>
                  </a:lnTo>
                  <a:lnTo>
                    <a:pt x="567" y="533"/>
                  </a:lnTo>
                  <a:lnTo>
                    <a:pt x="567" y="526"/>
                  </a:lnTo>
                  <a:lnTo>
                    <a:pt x="573" y="520"/>
                  </a:lnTo>
                  <a:lnTo>
                    <a:pt x="573" y="513"/>
                  </a:lnTo>
                  <a:lnTo>
                    <a:pt x="573" y="506"/>
                  </a:lnTo>
                  <a:lnTo>
                    <a:pt x="573" y="500"/>
                  </a:lnTo>
                  <a:lnTo>
                    <a:pt x="573" y="493"/>
                  </a:lnTo>
                  <a:lnTo>
                    <a:pt x="573" y="487"/>
                  </a:lnTo>
                  <a:lnTo>
                    <a:pt x="580" y="480"/>
                  </a:lnTo>
                  <a:lnTo>
                    <a:pt x="580" y="480"/>
                  </a:lnTo>
                  <a:lnTo>
                    <a:pt x="580" y="474"/>
                  </a:lnTo>
                  <a:lnTo>
                    <a:pt x="586" y="467"/>
                  </a:lnTo>
                  <a:lnTo>
                    <a:pt x="586" y="460"/>
                  </a:lnTo>
                  <a:lnTo>
                    <a:pt x="586" y="454"/>
                  </a:lnTo>
                  <a:lnTo>
                    <a:pt x="586" y="447"/>
                  </a:lnTo>
                  <a:lnTo>
                    <a:pt x="593" y="441"/>
                  </a:lnTo>
                  <a:lnTo>
                    <a:pt x="593" y="434"/>
                  </a:lnTo>
                  <a:lnTo>
                    <a:pt x="593" y="427"/>
                  </a:lnTo>
                  <a:lnTo>
                    <a:pt x="600" y="421"/>
                  </a:lnTo>
                  <a:lnTo>
                    <a:pt x="600" y="421"/>
                  </a:lnTo>
                  <a:lnTo>
                    <a:pt x="606" y="414"/>
                  </a:lnTo>
                  <a:lnTo>
                    <a:pt x="606" y="408"/>
                  </a:lnTo>
                  <a:lnTo>
                    <a:pt x="613" y="401"/>
                  </a:lnTo>
                  <a:lnTo>
                    <a:pt x="613" y="395"/>
                  </a:lnTo>
                  <a:lnTo>
                    <a:pt x="619" y="388"/>
                  </a:lnTo>
                  <a:lnTo>
                    <a:pt x="619" y="381"/>
                  </a:lnTo>
                  <a:lnTo>
                    <a:pt x="619" y="375"/>
                  </a:lnTo>
                  <a:lnTo>
                    <a:pt x="619" y="368"/>
                  </a:lnTo>
                  <a:lnTo>
                    <a:pt x="626" y="368"/>
                  </a:lnTo>
                  <a:lnTo>
                    <a:pt x="626" y="362"/>
                  </a:lnTo>
                  <a:lnTo>
                    <a:pt x="626" y="355"/>
                  </a:lnTo>
                  <a:lnTo>
                    <a:pt x="632" y="348"/>
                  </a:lnTo>
                  <a:lnTo>
                    <a:pt x="632" y="342"/>
                  </a:lnTo>
                  <a:lnTo>
                    <a:pt x="639" y="335"/>
                  </a:lnTo>
                  <a:lnTo>
                    <a:pt x="639" y="329"/>
                  </a:lnTo>
                  <a:lnTo>
                    <a:pt x="646" y="322"/>
                  </a:lnTo>
                  <a:lnTo>
                    <a:pt x="646" y="316"/>
                  </a:lnTo>
                  <a:lnTo>
                    <a:pt x="652" y="316"/>
                  </a:lnTo>
                  <a:lnTo>
                    <a:pt x="652" y="309"/>
                  </a:lnTo>
                  <a:lnTo>
                    <a:pt x="652" y="302"/>
                  </a:lnTo>
                  <a:lnTo>
                    <a:pt x="659" y="296"/>
                  </a:lnTo>
                  <a:lnTo>
                    <a:pt x="659" y="289"/>
                  </a:lnTo>
                  <a:lnTo>
                    <a:pt x="659" y="283"/>
                  </a:lnTo>
                  <a:lnTo>
                    <a:pt x="659" y="276"/>
                  </a:lnTo>
                  <a:lnTo>
                    <a:pt x="665" y="269"/>
                  </a:lnTo>
                  <a:lnTo>
                    <a:pt x="665" y="263"/>
                  </a:lnTo>
                  <a:lnTo>
                    <a:pt x="672" y="256"/>
                  </a:lnTo>
                  <a:lnTo>
                    <a:pt x="672" y="256"/>
                  </a:lnTo>
                  <a:lnTo>
                    <a:pt x="679" y="250"/>
                  </a:lnTo>
                  <a:lnTo>
                    <a:pt x="685" y="243"/>
                  </a:lnTo>
                  <a:lnTo>
                    <a:pt x="685" y="237"/>
                  </a:lnTo>
                  <a:lnTo>
                    <a:pt x="692" y="230"/>
                  </a:lnTo>
                  <a:lnTo>
                    <a:pt x="692" y="223"/>
                  </a:lnTo>
                  <a:lnTo>
                    <a:pt x="692" y="217"/>
                  </a:lnTo>
                  <a:lnTo>
                    <a:pt x="692" y="210"/>
                  </a:lnTo>
                  <a:lnTo>
                    <a:pt x="698" y="210"/>
                  </a:lnTo>
                  <a:lnTo>
                    <a:pt x="705" y="204"/>
                  </a:lnTo>
                  <a:lnTo>
                    <a:pt x="712" y="197"/>
                  </a:lnTo>
                  <a:lnTo>
                    <a:pt x="718" y="197"/>
                  </a:lnTo>
                  <a:lnTo>
                    <a:pt x="725" y="190"/>
                  </a:lnTo>
                  <a:lnTo>
                    <a:pt x="731" y="184"/>
                  </a:lnTo>
                  <a:lnTo>
                    <a:pt x="731" y="177"/>
                  </a:lnTo>
                  <a:lnTo>
                    <a:pt x="738" y="177"/>
                  </a:lnTo>
                  <a:lnTo>
                    <a:pt x="744" y="171"/>
                  </a:lnTo>
                  <a:lnTo>
                    <a:pt x="751" y="164"/>
                  </a:lnTo>
                  <a:lnTo>
                    <a:pt x="764" y="164"/>
                  </a:lnTo>
                  <a:lnTo>
                    <a:pt x="771" y="158"/>
                  </a:lnTo>
                  <a:lnTo>
                    <a:pt x="777" y="158"/>
                  </a:lnTo>
                  <a:lnTo>
                    <a:pt x="784" y="164"/>
                  </a:lnTo>
                  <a:lnTo>
                    <a:pt x="791" y="171"/>
                  </a:lnTo>
                  <a:lnTo>
                    <a:pt x="797" y="177"/>
                  </a:lnTo>
                  <a:lnTo>
                    <a:pt x="804" y="177"/>
                  </a:lnTo>
                  <a:lnTo>
                    <a:pt x="810" y="184"/>
                  </a:lnTo>
                  <a:lnTo>
                    <a:pt x="817" y="190"/>
                  </a:lnTo>
                  <a:lnTo>
                    <a:pt x="817" y="190"/>
                  </a:lnTo>
                  <a:lnTo>
                    <a:pt x="824" y="197"/>
                  </a:lnTo>
                  <a:lnTo>
                    <a:pt x="830" y="204"/>
                  </a:lnTo>
                  <a:lnTo>
                    <a:pt x="837" y="210"/>
                  </a:lnTo>
                  <a:lnTo>
                    <a:pt x="837" y="210"/>
                  </a:lnTo>
                  <a:lnTo>
                    <a:pt x="843" y="217"/>
                  </a:lnTo>
                  <a:lnTo>
                    <a:pt x="850" y="223"/>
                  </a:lnTo>
                  <a:lnTo>
                    <a:pt x="857" y="230"/>
                  </a:lnTo>
                  <a:lnTo>
                    <a:pt x="857" y="237"/>
                  </a:lnTo>
                  <a:lnTo>
                    <a:pt x="863" y="243"/>
                  </a:lnTo>
                  <a:lnTo>
                    <a:pt x="863" y="243"/>
                  </a:lnTo>
                  <a:lnTo>
                    <a:pt x="870" y="243"/>
                  </a:lnTo>
                  <a:lnTo>
                    <a:pt x="876" y="237"/>
                  </a:lnTo>
                  <a:lnTo>
                    <a:pt x="883" y="230"/>
                  </a:lnTo>
                  <a:lnTo>
                    <a:pt x="896" y="230"/>
                  </a:lnTo>
                  <a:lnTo>
                    <a:pt x="903" y="223"/>
                  </a:lnTo>
                  <a:lnTo>
                    <a:pt x="909" y="223"/>
                  </a:lnTo>
                  <a:lnTo>
                    <a:pt x="916" y="217"/>
                  </a:lnTo>
                  <a:lnTo>
                    <a:pt x="916" y="210"/>
                  </a:lnTo>
                  <a:lnTo>
                    <a:pt x="929" y="204"/>
                  </a:lnTo>
                  <a:lnTo>
                    <a:pt x="936" y="204"/>
                  </a:lnTo>
                  <a:lnTo>
                    <a:pt x="942" y="204"/>
                  </a:lnTo>
                  <a:lnTo>
                    <a:pt x="949" y="197"/>
                  </a:lnTo>
                  <a:lnTo>
                    <a:pt x="955" y="190"/>
                  </a:lnTo>
                  <a:lnTo>
                    <a:pt x="962" y="184"/>
                  </a:lnTo>
                  <a:lnTo>
                    <a:pt x="955" y="177"/>
                  </a:lnTo>
                  <a:lnTo>
                    <a:pt x="955" y="171"/>
                  </a:lnTo>
                  <a:lnTo>
                    <a:pt x="949" y="171"/>
                  </a:lnTo>
                  <a:lnTo>
                    <a:pt x="942" y="164"/>
                  </a:lnTo>
                  <a:lnTo>
                    <a:pt x="929" y="164"/>
                  </a:lnTo>
                  <a:lnTo>
                    <a:pt x="922" y="164"/>
                  </a:lnTo>
                  <a:lnTo>
                    <a:pt x="916" y="158"/>
                  </a:lnTo>
                  <a:lnTo>
                    <a:pt x="916" y="151"/>
                  </a:lnTo>
                  <a:lnTo>
                    <a:pt x="916" y="144"/>
                  </a:lnTo>
                  <a:lnTo>
                    <a:pt x="909" y="138"/>
                  </a:lnTo>
                  <a:lnTo>
                    <a:pt x="909" y="131"/>
                  </a:lnTo>
                  <a:lnTo>
                    <a:pt x="903" y="125"/>
                  </a:lnTo>
                  <a:lnTo>
                    <a:pt x="896" y="118"/>
                  </a:lnTo>
                  <a:lnTo>
                    <a:pt x="896" y="118"/>
                  </a:lnTo>
                  <a:lnTo>
                    <a:pt x="896" y="111"/>
                  </a:lnTo>
                  <a:lnTo>
                    <a:pt x="903" y="105"/>
                  </a:lnTo>
                  <a:lnTo>
                    <a:pt x="909" y="98"/>
                  </a:lnTo>
                  <a:lnTo>
                    <a:pt x="916" y="98"/>
                  </a:lnTo>
                  <a:lnTo>
                    <a:pt x="929" y="92"/>
                  </a:lnTo>
                  <a:lnTo>
                    <a:pt x="936" y="92"/>
                  </a:lnTo>
                  <a:lnTo>
                    <a:pt x="936" y="85"/>
                  </a:lnTo>
                  <a:lnTo>
                    <a:pt x="942" y="79"/>
                  </a:lnTo>
                  <a:lnTo>
                    <a:pt x="942" y="72"/>
                  </a:lnTo>
                  <a:lnTo>
                    <a:pt x="936" y="65"/>
                  </a:lnTo>
                  <a:lnTo>
                    <a:pt x="936" y="59"/>
                  </a:lnTo>
                  <a:lnTo>
                    <a:pt x="929" y="52"/>
                  </a:lnTo>
                  <a:lnTo>
                    <a:pt x="922" y="52"/>
                  </a:lnTo>
                  <a:lnTo>
                    <a:pt x="916" y="46"/>
                  </a:lnTo>
                  <a:lnTo>
                    <a:pt x="909" y="39"/>
                  </a:lnTo>
                  <a:lnTo>
                    <a:pt x="903" y="32"/>
                  </a:lnTo>
                  <a:lnTo>
                    <a:pt x="903" y="32"/>
                  </a:lnTo>
                  <a:lnTo>
                    <a:pt x="896" y="26"/>
                  </a:lnTo>
                  <a:lnTo>
                    <a:pt x="889" y="19"/>
                  </a:lnTo>
                  <a:lnTo>
                    <a:pt x="883" y="13"/>
                  </a:lnTo>
                  <a:lnTo>
                    <a:pt x="876" y="13"/>
                  </a:lnTo>
                  <a:lnTo>
                    <a:pt x="870" y="6"/>
                  </a:lnTo>
                  <a:lnTo>
                    <a:pt x="870" y="0"/>
                  </a:lnTo>
                  <a:lnTo>
                    <a:pt x="863" y="0"/>
                  </a:lnTo>
                  <a:lnTo>
                    <a:pt x="837" y="0"/>
                  </a:lnTo>
                  <a:lnTo>
                    <a:pt x="810" y="0"/>
                  </a:lnTo>
                  <a:lnTo>
                    <a:pt x="784" y="0"/>
                  </a:lnTo>
                  <a:lnTo>
                    <a:pt x="751" y="0"/>
                  </a:lnTo>
                  <a:lnTo>
                    <a:pt x="725" y="0"/>
                  </a:lnTo>
                  <a:lnTo>
                    <a:pt x="698" y="0"/>
                  </a:lnTo>
                  <a:lnTo>
                    <a:pt x="672" y="0"/>
                  </a:lnTo>
                  <a:lnTo>
                    <a:pt x="639" y="0"/>
                  </a:lnTo>
                  <a:lnTo>
                    <a:pt x="613" y="26"/>
                  </a:lnTo>
                  <a:lnTo>
                    <a:pt x="586" y="59"/>
                  </a:lnTo>
                  <a:lnTo>
                    <a:pt x="560" y="85"/>
                  </a:lnTo>
                  <a:lnTo>
                    <a:pt x="534" y="111"/>
                  </a:lnTo>
                  <a:lnTo>
                    <a:pt x="520" y="125"/>
                  </a:lnTo>
                  <a:lnTo>
                    <a:pt x="514" y="131"/>
                  </a:lnTo>
                  <a:lnTo>
                    <a:pt x="507" y="138"/>
                  </a:lnTo>
                  <a:lnTo>
                    <a:pt x="507" y="144"/>
                  </a:lnTo>
                  <a:lnTo>
                    <a:pt x="501" y="151"/>
                  </a:lnTo>
                  <a:lnTo>
                    <a:pt x="501" y="158"/>
                  </a:lnTo>
                  <a:lnTo>
                    <a:pt x="494" y="164"/>
                  </a:lnTo>
                  <a:lnTo>
                    <a:pt x="494" y="171"/>
                  </a:lnTo>
                  <a:lnTo>
                    <a:pt x="487" y="177"/>
                  </a:lnTo>
                  <a:lnTo>
                    <a:pt x="481" y="177"/>
                  </a:lnTo>
                  <a:lnTo>
                    <a:pt x="481" y="184"/>
                  </a:lnTo>
                  <a:lnTo>
                    <a:pt x="474" y="190"/>
                  </a:lnTo>
                  <a:lnTo>
                    <a:pt x="468" y="197"/>
                  </a:lnTo>
                  <a:lnTo>
                    <a:pt x="468" y="204"/>
                  </a:lnTo>
                  <a:lnTo>
                    <a:pt x="461" y="210"/>
                  </a:lnTo>
                  <a:lnTo>
                    <a:pt x="455" y="217"/>
                  </a:lnTo>
                  <a:lnTo>
                    <a:pt x="448" y="223"/>
                  </a:lnTo>
                  <a:lnTo>
                    <a:pt x="455" y="230"/>
                  </a:lnTo>
                  <a:lnTo>
                    <a:pt x="455" y="237"/>
                  </a:lnTo>
                  <a:lnTo>
                    <a:pt x="461" y="243"/>
                  </a:lnTo>
                  <a:lnTo>
                    <a:pt x="468" y="250"/>
                  </a:lnTo>
                  <a:lnTo>
                    <a:pt x="474" y="250"/>
                  </a:lnTo>
                  <a:lnTo>
                    <a:pt x="481" y="243"/>
                  </a:lnTo>
                  <a:lnTo>
                    <a:pt x="487" y="237"/>
                  </a:lnTo>
                  <a:lnTo>
                    <a:pt x="494" y="230"/>
                  </a:lnTo>
                  <a:lnTo>
                    <a:pt x="494" y="223"/>
                  </a:lnTo>
                  <a:lnTo>
                    <a:pt x="501" y="217"/>
                  </a:lnTo>
                  <a:lnTo>
                    <a:pt x="507" y="217"/>
                  </a:lnTo>
                  <a:lnTo>
                    <a:pt x="507" y="223"/>
                  </a:lnTo>
                  <a:lnTo>
                    <a:pt x="507" y="230"/>
                  </a:lnTo>
                  <a:lnTo>
                    <a:pt x="501" y="237"/>
                  </a:lnTo>
                  <a:lnTo>
                    <a:pt x="494" y="243"/>
                  </a:lnTo>
                  <a:lnTo>
                    <a:pt x="487" y="250"/>
                  </a:lnTo>
                  <a:lnTo>
                    <a:pt x="481" y="256"/>
                  </a:lnTo>
                  <a:lnTo>
                    <a:pt x="481" y="256"/>
                  </a:lnTo>
                  <a:lnTo>
                    <a:pt x="481" y="269"/>
                  </a:lnTo>
                  <a:lnTo>
                    <a:pt x="481" y="276"/>
                  </a:lnTo>
                  <a:lnTo>
                    <a:pt x="474" y="276"/>
                  </a:lnTo>
                  <a:lnTo>
                    <a:pt x="474" y="283"/>
                  </a:lnTo>
                  <a:lnTo>
                    <a:pt x="468" y="289"/>
                  </a:lnTo>
                  <a:lnTo>
                    <a:pt x="468" y="296"/>
                  </a:lnTo>
                  <a:lnTo>
                    <a:pt x="468" y="302"/>
                  </a:lnTo>
                  <a:lnTo>
                    <a:pt x="461" y="309"/>
                  </a:lnTo>
                  <a:lnTo>
                    <a:pt x="461" y="316"/>
                  </a:lnTo>
                  <a:lnTo>
                    <a:pt x="455" y="322"/>
                  </a:lnTo>
                  <a:lnTo>
                    <a:pt x="455" y="329"/>
                  </a:lnTo>
                  <a:lnTo>
                    <a:pt x="448" y="335"/>
                  </a:lnTo>
                  <a:lnTo>
                    <a:pt x="448" y="342"/>
                  </a:lnTo>
                  <a:lnTo>
                    <a:pt x="441" y="348"/>
                  </a:lnTo>
                  <a:lnTo>
                    <a:pt x="441" y="355"/>
                  </a:lnTo>
                  <a:lnTo>
                    <a:pt x="441" y="362"/>
                  </a:lnTo>
                  <a:lnTo>
                    <a:pt x="435" y="368"/>
                  </a:lnTo>
                  <a:lnTo>
                    <a:pt x="428" y="375"/>
                  </a:lnTo>
                  <a:lnTo>
                    <a:pt x="428" y="381"/>
                  </a:lnTo>
                  <a:lnTo>
                    <a:pt x="422" y="388"/>
                  </a:lnTo>
                  <a:lnTo>
                    <a:pt x="422" y="395"/>
                  </a:lnTo>
                  <a:lnTo>
                    <a:pt x="422" y="401"/>
                  </a:lnTo>
                  <a:lnTo>
                    <a:pt x="428" y="408"/>
                  </a:lnTo>
                  <a:lnTo>
                    <a:pt x="435" y="414"/>
                  </a:lnTo>
                  <a:lnTo>
                    <a:pt x="441" y="421"/>
                  </a:lnTo>
                  <a:lnTo>
                    <a:pt x="448" y="421"/>
                  </a:lnTo>
                  <a:lnTo>
                    <a:pt x="455" y="414"/>
                  </a:lnTo>
                  <a:lnTo>
                    <a:pt x="461" y="408"/>
                  </a:lnTo>
                  <a:lnTo>
                    <a:pt x="468" y="401"/>
                  </a:lnTo>
                  <a:lnTo>
                    <a:pt x="474" y="395"/>
                  </a:lnTo>
                  <a:lnTo>
                    <a:pt x="474" y="395"/>
                  </a:lnTo>
                  <a:lnTo>
                    <a:pt x="481" y="401"/>
                  </a:lnTo>
                  <a:lnTo>
                    <a:pt x="481" y="414"/>
                  </a:lnTo>
                  <a:lnTo>
                    <a:pt x="481" y="421"/>
                  </a:lnTo>
                  <a:lnTo>
                    <a:pt x="481" y="427"/>
                  </a:lnTo>
                  <a:lnTo>
                    <a:pt x="474" y="434"/>
                  </a:lnTo>
                  <a:lnTo>
                    <a:pt x="474" y="441"/>
                  </a:lnTo>
                  <a:lnTo>
                    <a:pt x="468" y="447"/>
                  </a:lnTo>
                  <a:lnTo>
                    <a:pt x="468" y="454"/>
                  </a:lnTo>
                  <a:lnTo>
                    <a:pt x="461" y="460"/>
                  </a:lnTo>
                  <a:lnTo>
                    <a:pt x="461" y="460"/>
                  </a:lnTo>
                  <a:lnTo>
                    <a:pt x="455" y="467"/>
                  </a:lnTo>
                  <a:lnTo>
                    <a:pt x="455" y="480"/>
                  </a:lnTo>
                  <a:lnTo>
                    <a:pt x="455" y="487"/>
                  </a:lnTo>
                  <a:lnTo>
                    <a:pt x="448" y="493"/>
                  </a:lnTo>
                  <a:lnTo>
                    <a:pt x="441" y="493"/>
                  </a:lnTo>
                  <a:lnTo>
                    <a:pt x="435" y="487"/>
                  </a:lnTo>
                  <a:lnTo>
                    <a:pt x="428" y="480"/>
                  </a:lnTo>
                  <a:lnTo>
                    <a:pt x="422" y="474"/>
                  </a:lnTo>
                  <a:lnTo>
                    <a:pt x="422" y="467"/>
                  </a:lnTo>
                  <a:lnTo>
                    <a:pt x="422" y="460"/>
                  </a:lnTo>
                  <a:lnTo>
                    <a:pt x="422" y="454"/>
                  </a:lnTo>
                  <a:lnTo>
                    <a:pt x="428" y="447"/>
                  </a:lnTo>
                  <a:lnTo>
                    <a:pt x="435" y="441"/>
                  </a:lnTo>
                  <a:lnTo>
                    <a:pt x="435" y="441"/>
                  </a:lnTo>
                  <a:lnTo>
                    <a:pt x="441" y="434"/>
                  </a:lnTo>
                  <a:lnTo>
                    <a:pt x="448" y="427"/>
                  </a:lnTo>
                  <a:lnTo>
                    <a:pt x="441" y="421"/>
                  </a:lnTo>
                  <a:lnTo>
                    <a:pt x="441" y="408"/>
                  </a:lnTo>
                  <a:lnTo>
                    <a:pt x="435" y="401"/>
                  </a:lnTo>
                  <a:lnTo>
                    <a:pt x="428" y="395"/>
                  </a:lnTo>
                  <a:lnTo>
                    <a:pt x="422" y="395"/>
                  </a:lnTo>
                  <a:lnTo>
                    <a:pt x="415" y="395"/>
                  </a:lnTo>
                  <a:lnTo>
                    <a:pt x="415" y="401"/>
                  </a:lnTo>
                  <a:lnTo>
                    <a:pt x="408" y="408"/>
                  </a:lnTo>
                  <a:lnTo>
                    <a:pt x="408" y="414"/>
                  </a:lnTo>
                  <a:lnTo>
                    <a:pt x="408" y="427"/>
                  </a:lnTo>
                  <a:lnTo>
                    <a:pt x="408" y="434"/>
                  </a:lnTo>
                  <a:lnTo>
                    <a:pt x="408" y="441"/>
                  </a:lnTo>
                  <a:lnTo>
                    <a:pt x="402" y="447"/>
                  </a:lnTo>
                  <a:lnTo>
                    <a:pt x="395" y="447"/>
                  </a:lnTo>
                  <a:lnTo>
                    <a:pt x="389" y="454"/>
                  </a:lnTo>
                  <a:lnTo>
                    <a:pt x="382" y="460"/>
                  </a:lnTo>
                  <a:lnTo>
                    <a:pt x="382" y="467"/>
                  </a:lnTo>
                  <a:lnTo>
                    <a:pt x="382" y="474"/>
                  </a:lnTo>
                  <a:lnTo>
                    <a:pt x="375" y="480"/>
                  </a:lnTo>
                  <a:lnTo>
                    <a:pt x="375" y="487"/>
                  </a:lnTo>
                  <a:lnTo>
                    <a:pt x="369" y="493"/>
                  </a:lnTo>
                  <a:lnTo>
                    <a:pt x="362" y="493"/>
                  </a:lnTo>
                  <a:lnTo>
                    <a:pt x="356" y="500"/>
                  </a:lnTo>
                  <a:lnTo>
                    <a:pt x="349" y="506"/>
                  </a:lnTo>
                  <a:lnTo>
                    <a:pt x="343" y="506"/>
                  </a:lnTo>
                  <a:lnTo>
                    <a:pt x="329" y="513"/>
                  </a:lnTo>
                  <a:lnTo>
                    <a:pt x="323" y="520"/>
                  </a:lnTo>
                  <a:lnTo>
                    <a:pt x="316" y="526"/>
                  </a:lnTo>
                  <a:lnTo>
                    <a:pt x="310" y="533"/>
                  </a:lnTo>
                  <a:lnTo>
                    <a:pt x="303" y="533"/>
                  </a:lnTo>
                  <a:lnTo>
                    <a:pt x="296" y="526"/>
                  </a:lnTo>
                  <a:lnTo>
                    <a:pt x="296" y="520"/>
                  </a:lnTo>
                  <a:lnTo>
                    <a:pt x="290" y="513"/>
                  </a:lnTo>
                  <a:lnTo>
                    <a:pt x="277" y="506"/>
                  </a:lnTo>
                  <a:lnTo>
                    <a:pt x="270" y="506"/>
                  </a:lnTo>
                  <a:lnTo>
                    <a:pt x="257" y="513"/>
                  </a:lnTo>
                  <a:lnTo>
                    <a:pt x="250" y="520"/>
                  </a:lnTo>
                  <a:lnTo>
                    <a:pt x="244" y="520"/>
                  </a:lnTo>
                  <a:lnTo>
                    <a:pt x="244" y="526"/>
                  </a:lnTo>
                  <a:lnTo>
                    <a:pt x="237" y="533"/>
                  </a:lnTo>
                  <a:lnTo>
                    <a:pt x="231" y="539"/>
                  </a:lnTo>
                  <a:lnTo>
                    <a:pt x="224" y="546"/>
                  </a:lnTo>
                  <a:lnTo>
                    <a:pt x="217" y="546"/>
                  </a:lnTo>
                  <a:lnTo>
                    <a:pt x="204" y="553"/>
                  </a:lnTo>
                  <a:lnTo>
                    <a:pt x="198" y="553"/>
                  </a:lnTo>
                  <a:lnTo>
                    <a:pt x="191" y="559"/>
                  </a:lnTo>
                  <a:lnTo>
                    <a:pt x="191" y="566"/>
                  </a:lnTo>
                  <a:lnTo>
                    <a:pt x="184" y="572"/>
                  </a:lnTo>
                  <a:lnTo>
                    <a:pt x="178" y="579"/>
                  </a:lnTo>
                  <a:lnTo>
                    <a:pt x="165" y="579"/>
                  </a:lnTo>
                  <a:lnTo>
                    <a:pt x="158" y="579"/>
                  </a:lnTo>
                  <a:lnTo>
                    <a:pt x="145" y="572"/>
                  </a:lnTo>
                  <a:lnTo>
                    <a:pt x="138" y="566"/>
                  </a:lnTo>
                  <a:lnTo>
                    <a:pt x="138" y="559"/>
                  </a:lnTo>
                  <a:lnTo>
                    <a:pt x="132" y="559"/>
                  </a:lnTo>
                  <a:lnTo>
                    <a:pt x="125" y="553"/>
                  </a:lnTo>
                  <a:lnTo>
                    <a:pt x="112" y="553"/>
                  </a:lnTo>
                  <a:lnTo>
                    <a:pt x="105" y="553"/>
                  </a:lnTo>
                  <a:lnTo>
                    <a:pt x="92" y="553"/>
                  </a:lnTo>
                  <a:lnTo>
                    <a:pt x="86" y="553"/>
                  </a:lnTo>
                  <a:lnTo>
                    <a:pt x="72" y="546"/>
                  </a:lnTo>
                  <a:lnTo>
                    <a:pt x="66" y="539"/>
                  </a:lnTo>
                  <a:lnTo>
                    <a:pt x="66" y="533"/>
                  </a:lnTo>
                  <a:lnTo>
                    <a:pt x="59" y="526"/>
                  </a:lnTo>
                  <a:lnTo>
                    <a:pt x="59" y="533"/>
                  </a:lnTo>
                  <a:lnTo>
                    <a:pt x="53" y="533"/>
                  </a:lnTo>
                  <a:lnTo>
                    <a:pt x="46" y="533"/>
                  </a:lnTo>
                  <a:lnTo>
                    <a:pt x="39" y="539"/>
                  </a:lnTo>
                  <a:lnTo>
                    <a:pt x="33" y="539"/>
                  </a:lnTo>
                  <a:lnTo>
                    <a:pt x="33" y="546"/>
                  </a:lnTo>
                  <a:lnTo>
                    <a:pt x="26" y="553"/>
                  </a:lnTo>
                  <a:lnTo>
                    <a:pt x="20" y="553"/>
                  </a:lnTo>
                  <a:lnTo>
                    <a:pt x="20" y="559"/>
                  </a:lnTo>
                  <a:lnTo>
                    <a:pt x="20" y="566"/>
                  </a:lnTo>
                  <a:lnTo>
                    <a:pt x="26" y="572"/>
                  </a:lnTo>
                  <a:lnTo>
                    <a:pt x="26" y="572"/>
                  </a:lnTo>
                  <a:lnTo>
                    <a:pt x="33" y="579"/>
                  </a:lnTo>
                  <a:lnTo>
                    <a:pt x="39" y="579"/>
                  </a:lnTo>
                  <a:lnTo>
                    <a:pt x="46" y="585"/>
                  </a:lnTo>
                  <a:lnTo>
                    <a:pt x="53" y="585"/>
                  </a:lnTo>
                  <a:lnTo>
                    <a:pt x="59" y="585"/>
                  </a:lnTo>
                  <a:lnTo>
                    <a:pt x="66" y="592"/>
                  </a:lnTo>
                  <a:lnTo>
                    <a:pt x="72" y="592"/>
                  </a:lnTo>
                  <a:lnTo>
                    <a:pt x="79" y="592"/>
                  </a:lnTo>
                  <a:lnTo>
                    <a:pt x="92" y="592"/>
                  </a:lnTo>
                  <a:lnTo>
                    <a:pt x="99" y="599"/>
                  </a:lnTo>
                  <a:lnTo>
                    <a:pt x="105" y="599"/>
                  </a:lnTo>
                  <a:lnTo>
                    <a:pt x="112" y="599"/>
                  </a:lnTo>
                  <a:lnTo>
                    <a:pt x="118" y="599"/>
                  </a:lnTo>
                  <a:lnTo>
                    <a:pt x="132" y="599"/>
                  </a:lnTo>
                  <a:lnTo>
                    <a:pt x="138" y="605"/>
                  </a:lnTo>
                  <a:lnTo>
                    <a:pt x="138" y="605"/>
                  </a:lnTo>
                  <a:lnTo>
                    <a:pt x="145" y="612"/>
                  </a:lnTo>
                  <a:lnTo>
                    <a:pt x="151" y="612"/>
                  </a:lnTo>
                  <a:lnTo>
                    <a:pt x="158" y="618"/>
                  </a:lnTo>
                  <a:lnTo>
                    <a:pt x="165" y="618"/>
                  </a:lnTo>
                  <a:lnTo>
                    <a:pt x="171" y="618"/>
                  </a:lnTo>
                  <a:lnTo>
                    <a:pt x="178" y="618"/>
                  </a:lnTo>
                  <a:lnTo>
                    <a:pt x="184" y="618"/>
                  </a:lnTo>
                  <a:lnTo>
                    <a:pt x="198" y="618"/>
                  </a:lnTo>
                  <a:lnTo>
                    <a:pt x="204" y="625"/>
                  </a:lnTo>
                  <a:lnTo>
                    <a:pt x="211" y="625"/>
                  </a:lnTo>
                  <a:lnTo>
                    <a:pt x="217" y="625"/>
                  </a:lnTo>
                  <a:lnTo>
                    <a:pt x="224" y="625"/>
                  </a:lnTo>
                  <a:lnTo>
                    <a:pt x="231" y="625"/>
                  </a:lnTo>
                  <a:lnTo>
                    <a:pt x="244" y="618"/>
                  </a:lnTo>
                  <a:lnTo>
                    <a:pt x="250" y="618"/>
                  </a:lnTo>
                  <a:lnTo>
                    <a:pt x="257" y="618"/>
                  </a:lnTo>
                  <a:lnTo>
                    <a:pt x="263" y="625"/>
                  </a:lnTo>
                  <a:lnTo>
                    <a:pt x="270" y="625"/>
                  </a:lnTo>
                  <a:lnTo>
                    <a:pt x="270" y="632"/>
                  </a:lnTo>
                  <a:lnTo>
                    <a:pt x="277" y="638"/>
                  </a:lnTo>
                  <a:lnTo>
                    <a:pt x="277" y="645"/>
                  </a:lnTo>
                  <a:lnTo>
                    <a:pt x="277" y="651"/>
                  </a:lnTo>
                  <a:lnTo>
                    <a:pt x="277" y="651"/>
                  </a:lnTo>
                  <a:lnTo>
                    <a:pt x="277" y="658"/>
                  </a:lnTo>
                  <a:lnTo>
                    <a:pt x="277" y="664"/>
                  </a:lnTo>
                  <a:lnTo>
                    <a:pt x="283" y="664"/>
                  </a:lnTo>
                  <a:lnTo>
                    <a:pt x="290" y="671"/>
                  </a:lnTo>
                  <a:lnTo>
                    <a:pt x="296" y="671"/>
                  </a:lnTo>
                  <a:lnTo>
                    <a:pt x="303" y="671"/>
                  </a:lnTo>
                  <a:lnTo>
                    <a:pt x="310" y="671"/>
                  </a:lnTo>
                  <a:close/>
                  <a:moveTo>
                    <a:pt x="448" y="671"/>
                  </a:moveTo>
                  <a:lnTo>
                    <a:pt x="448" y="671"/>
                  </a:lnTo>
                  <a:lnTo>
                    <a:pt x="448" y="671"/>
                  </a:lnTo>
                  <a:lnTo>
                    <a:pt x="448" y="664"/>
                  </a:lnTo>
                  <a:lnTo>
                    <a:pt x="448" y="664"/>
                  </a:lnTo>
                  <a:lnTo>
                    <a:pt x="448" y="664"/>
                  </a:lnTo>
                  <a:lnTo>
                    <a:pt x="448" y="664"/>
                  </a:lnTo>
                  <a:lnTo>
                    <a:pt x="448" y="664"/>
                  </a:lnTo>
                  <a:lnTo>
                    <a:pt x="448" y="664"/>
                  </a:lnTo>
                  <a:lnTo>
                    <a:pt x="441" y="671"/>
                  </a:lnTo>
                  <a:lnTo>
                    <a:pt x="441" y="671"/>
                  </a:lnTo>
                  <a:lnTo>
                    <a:pt x="441" y="671"/>
                  </a:lnTo>
                  <a:lnTo>
                    <a:pt x="448" y="671"/>
                  </a:lnTo>
                  <a:lnTo>
                    <a:pt x="448" y="671"/>
                  </a:lnTo>
                  <a:lnTo>
                    <a:pt x="448" y="671"/>
                  </a:lnTo>
                  <a:close/>
                  <a:moveTo>
                    <a:pt x="1957" y="645"/>
                  </a:moveTo>
                  <a:lnTo>
                    <a:pt x="1957" y="638"/>
                  </a:lnTo>
                  <a:lnTo>
                    <a:pt x="1964" y="632"/>
                  </a:lnTo>
                  <a:lnTo>
                    <a:pt x="1964" y="625"/>
                  </a:lnTo>
                  <a:lnTo>
                    <a:pt x="1964" y="625"/>
                  </a:lnTo>
                  <a:lnTo>
                    <a:pt x="1964" y="618"/>
                  </a:lnTo>
                  <a:lnTo>
                    <a:pt x="1964" y="612"/>
                  </a:lnTo>
                  <a:lnTo>
                    <a:pt x="1957" y="605"/>
                  </a:lnTo>
                  <a:lnTo>
                    <a:pt x="1950" y="599"/>
                  </a:lnTo>
                  <a:lnTo>
                    <a:pt x="1950" y="599"/>
                  </a:lnTo>
                  <a:lnTo>
                    <a:pt x="1950" y="605"/>
                  </a:lnTo>
                  <a:lnTo>
                    <a:pt x="1944" y="612"/>
                  </a:lnTo>
                  <a:lnTo>
                    <a:pt x="1944" y="618"/>
                  </a:lnTo>
                  <a:lnTo>
                    <a:pt x="1944" y="625"/>
                  </a:lnTo>
                  <a:lnTo>
                    <a:pt x="1944" y="625"/>
                  </a:lnTo>
                  <a:lnTo>
                    <a:pt x="1944" y="632"/>
                  </a:lnTo>
                  <a:lnTo>
                    <a:pt x="1950" y="638"/>
                  </a:lnTo>
                  <a:lnTo>
                    <a:pt x="1950" y="645"/>
                  </a:lnTo>
                  <a:lnTo>
                    <a:pt x="1950" y="651"/>
                  </a:lnTo>
                  <a:lnTo>
                    <a:pt x="1950" y="651"/>
                  </a:lnTo>
                  <a:lnTo>
                    <a:pt x="1957" y="645"/>
                  </a:lnTo>
                  <a:close/>
                  <a:moveTo>
                    <a:pt x="20" y="585"/>
                  </a:moveTo>
                  <a:lnTo>
                    <a:pt x="0" y="579"/>
                  </a:lnTo>
                  <a:lnTo>
                    <a:pt x="0" y="585"/>
                  </a:lnTo>
                  <a:lnTo>
                    <a:pt x="0" y="605"/>
                  </a:lnTo>
                  <a:lnTo>
                    <a:pt x="20" y="585"/>
                  </a:lnTo>
                  <a:close/>
                  <a:moveTo>
                    <a:pt x="1146" y="559"/>
                  </a:moveTo>
                  <a:lnTo>
                    <a:pt x="1146" y="559"/>
                  </a:lnTo>
                  <a:lnTo>
                    <a:pt x="1146" y="559"/>
                  </a:lnTo>
                  <a:lnTo>
                    <a:pt x="1146" y="559"/>
                  </a:lnTo>
                  <a:lnTo>
                    <a:pt x="1140" y="559"/>
                  </a:lnTo>
                  <a:lnTo>
                    <a:pt x="1140" y="559"/>
                  </a:lnTo>
                  <a:lnTo>
                    <a:pt x="1140" y="559"/>
                  </a:lnTo>
                  <a:lnTo>
                    <a:pt x="1140" y="559"/>
                  </a:lnTo>
                  <a:lnTo>
                    <a:pt x="1140" y="559"/>
                  </a:lnTo>
                  <a:lnTo>
                    <a:pt x="1140" y="559"/>
                  </a:lnTo>
                  <a:lnTo>
                    <a:pt x="1140" y="559"/>
                  </a:lnTo>
                  <a:lnTo>
                    <a:pt x="1140" y="559"/>
                  </a:lnTo>
                  <a:lnTo>
                    <a:pt x="1140" y="559"/>
                  </a:lnTo>
                  <a:lnTo>
                    <a:pt x="1146" y="559"/>
                  </a:lnTo>
                  <a:lnTo>
                    <a:pt x="1146" y="559"/>
                  </a:lnTo>
                  <a:close/>
                  <a:moveTo>
                    <a:pt x="1990" y="559"/>
                  </a:moveTo>
                  <a:lnTo>
                    <a:pt x="1996" y="553"/>
                  </a:lnTo>
                  <a:lnTo>
                    <a:pt x="2003" y="546"/>
                  </a:lnTo>
                  <a:lnTo>
                    <a:pt x="2003" y="539"/>
                  </a:lnTo>
                  <a:lnTo>
                    <a:pt x="2003" y="533"/>
                  </a:lnTo>
                  <a:lnTo>
                    <a:pt x="1990" y="520"/>
                  </a:lnTo>
                  <a:lnTo>
                    <a:pt x="1983" y="513"/>
                  </a:lnTo>
                  <a:lnTo>
                    <a:pt x="1977" y="513"/>
                  </a:lnTo>
                  <a:lnTo>
                    <a:pt x="1970" y="520"/>
                  </a:lnTo>
                  <a:lnTo>
                    <a:pt x="1970" y="533"/>
                  </a:lnTo>
                  <a:lnTo>
                    <a:pt x="1970" y="539"/>
                  </a:lnTo>
                  <a:lnTo>
                    <a:pt x="1970" y="546"/>
                  </a:lnTo>
                  <a:lnTo>
                    <a:pt x="1970" y="553"/>
                  </a:lnTo>
                  <a:lnTo>
                    <a:pt x="1977" y="559"/>
                  </a:lnTo>
                  <a:lnTo>
                    <a:pt x="1977" y="572"/>
                  </a:lnTo>
                  <a:lnTo>
                    <a:pt x="1977" y="579"/>
                  </a:lnTo>
                  <a:lnTo>
                    <a:pt x="1977" y="585"/>
                  </a:lnTo>
                  <a:lnTo>
                    <a:pt x="1977" y="585"/>
                  </a:lnTo>
                  <a:lnTo>
                    <a:pt x="1983" y="579"/>
                  </a:lnTo>
                  <a:lnTo>
                    <a:pt x="1983" y="572"/>
                  </a:lnTo>
                  <a:lnTo>
                    <a:pt x="1990" y="559"/>
                  </a:lnTo>
                  <a:close/>
                  <a:moveTo>
                    <a:pt x="2016" y="506"/>
                  </a:moveTo>
                  <a:lnTo>
                    <a:pt x="2016" y="500"/>
                  </a:lnTo>
                  <a:lnTo>
                    <a:pt x="2016" y="493"/>
                  </a:lnTo>
                  <a:lnTo>
                    <a:pt x="2016" y="487"/>
                  </a:lnTo>
                  <a:lnTo>
                    <a:pt x="2016" y="480"/>
                  </a:lnTo>
                  <a:lnTo>
                    <a:pt x="2016" y="480"/>
                  </a:lnTo>
                  <a:lnTo>
                    <a:pt x="2010" y="474"/>
                  </a:lnTo>
                  <a:lnTo>
                    <a:pt x="2003" y="474"/>
                  </a:lnTo>
                  <a:lnTo>
                    <a:pt x="1996" y="474"/>
                  </a:lnTo>
                  <a:lnTo>
                    <a:pt x="1996" y="480"/>
                  </a:lnTo>
                  <a:lnTo>
                    <a:pt x="1996" y="487"/>
                  </a:lnTo>
                  <a:lnTo>
                    <a:pt x="1996" y="493"/>
                  </a:lnTo>
                  <a:lnTo>
                    <a:pt x="1996" y="500"/>
                  </a:lnTo>
                  <a:lnTo>
                    <a:pt x="1996" y="500"/>
                  </a:lnTo>
                  <a:lnTo>
                    <a:pt x="1996" y="506"/>
                  </a:lnTo>
                  <a:lnTo>
                    <a:pt x="2003" y="513"/>
                  </a:lnTo>
                  <a:lnTo>
                    <a:pt x="2003" y="520"/>
                  </a:lnTo>
                  <a:lnTo>
                    <a:pt x="2010" y="520"/>
                  </a:lnTo>
                  <a:lnTo>
                    <a:pt x="2010" y="520"/>
                  </a:lnTo>
                  <a:lnTo>
                    <a:pt x="2010" y="513"/>
                  </a:lnTo>
                  <a:lnTo>
                    <a:pt x="2016" y="506"/>
                  </a:lnTo>
                  <a:close/>
                  <a:moveTo>
                    <a:pt x="323" y="447"/>
                  </a:moveTo>
                  <a:lnTo>
                    <a:pt x="323" y="434"/>
                  </a:lnTo>
                  <a:lnTo>
                    <a:pt x="316" y="427"/>
                  </a:lnTo>
                  <a:lnTo>
                    <a:pt x="310" y="421"/>
                  </a:lnTo>
                  <a:lnTo>
                    <a:pt x="310" y="421"/>
                  </a:lnTo>
                  <a:lnTo>
                    <a:pt x="303" y="427"/>
                  </a:lnTo>
                  <a:lnTo>
                    <a:pt x="296" y="434"/>
                  </a:lnTo>
                  <a:lnTo>
                    <a:pt x="290" y="441"/>
                  </a:lnTo>
                  <a:lnTo>
                    <a:pt x="290" y="447"/>
                  </a:lnTo>
                  <a:lnTo>
                    <a:pt x="296" y="460"/>
                  </a:lnTo>
                  <a:lnTo>
                    <a:pt x="303" y="467"/>
                  </a:lnTo>
                  <a:lnTo>
                    <a:pt x="310" y="467"/>
                  </a:lnTo>
                  <a:lnTo>
                    <a:pt x="316" y="467"/>
                  </a:lnTo>
                  <a:lnTo>
                    <a:pt x="323" y="460"/>
                  </a:lnTo>
                  <a:lnTo>
                    <a:pt x="323" y="447"/>
                  </a:lnTo>
                  <a:close/>
                  <a:moveTo>
                    <a:pt x="349" y="421"/>
                  </a:moveTo>
                  <a:lnTo>
                    <a:pt x="349" y="414"/>
                  </a:lnTo>
                  <a:lnTo>
                    <a:pt x="356" y="408"/>
                  </a:lnTo>
                  <a:lnTo>
                    <a:pt x="356" y="401"/>
                  </a:lnTo>
                  <a:lnTo>
                    <a:pt x="362" y="395"/>
                  </a:lnTo>
                  <a:lnTo>
                    <a:pt x="369" y="395"/>
                  </a:lnTo>
                  <a:lnTo>
                    <a:pt x="369" y="388"/>
                  </a:lnTo>
                  <a:lnTo>
                    <a:pt x="375" y="381"/>
                  </a:lnTo>
                  <a:lnTo>
                    <a:pt x="382" y="375"/>
                  </a:lnTo>
                  <a:lnTo>
                    <a:pt x="389" y="368"/>
                  </a:lnTo>
                  <a:lnTo>
                    <a:pt x="389" y="362"/>
                  </a:lnTo>
                  <a:lnTo>
                    <a:pt x="382" y="355"/>
                  </a:lnTo>
                  <a:lnTo>
                    <a:pt x="375" y="355"/>
                  </a:lnTo>
                  <a:lnTo>
                    <a:pt x="362" y="348"/>
                  </a:lnTo>
                  <a:lnTo>
                    <a:pt x="356" y="355"/>
                  </a:lnTo>
                  <a:lnTo>
                    <a:pt x="356" y="362"/>
                  </a:lnTo>
                  <a:lnTo>
                    <a:pt x="349" y="368"/>
                  </a:lnTo>
                  <a:lnTo>
                    <a:pt x="349" y="375"/>
                  </a:lnTo>
                  <a:lnTo>
                    <a:pt x="343" y="375"/>
                  </a:lnTo>
                  <a:lnTo>
                    <a:pt x="336" y="381"/>
                  </a:lnTo>
                  <a:lnTo>
                    <a:pt x="336" y="388"/>
                  </a:lnTo>
                  <a:lnTo>
                    <a:pt x="329" y="395"/>
                  </a:lnTo>
                  <a:lnTo>
                    <a:pt x="323" y="401"/>
                  </a:lnTo>
                  <a:lnTo>
                    <a:pt x="316" y="401"/>
                  </a:lnTo>
                  <a:lnTo>
                    <a:pt x="316" y="408"/>
                  </a:lnTo>
                  <a:lnTo>
                    <a:pt x="310" y="414"/>
                  </a:lnTo>
                  <a:lnTo>
                    <a:pt x="310" y="421"/>
                  </a:lnTo>
                  <a:lnTo>
                    <a:pt x="316" y="427"/>
                  </a:lnTo>
                  <a:lnTo>
                    <a:pt x="329" y="434"/>
                  </a:lnTo>
                  <a:lnTo>
                    <a:pt x="336" y="434"/>
                  </a:lnTo>
                  <a:lnTo>
                    <a:pt x="343" y="434"/>
                  </a:lnTo>
                  <a:lnTo>
                    <a:pt x="343" y="427"/>
                  </a:lnTo>
                  <a:lnTo>
                    <a:pt x="349" y="421"/>
                  </a:lnTo>
                  <a:close/>
                  <a:moveTo>
                    <a:pt x="2543" y="395"/>
                  </a:moveTo>
                  <a:lnTo>
                    <a:pt x="2543" y="381"/>
                  </a:lnTo>
                  <a:lnTo>
                    <a:pt x="2537" y="375"/>
                  </a:lnTo>
                  <a:lnTo>
                    <a:pt x="2537" y="375"/>
                  </a:lnTo>
                  <a:lnTo>
                    <a:pt x="2537" y="368"/>
                  </a:lnTo>
                  <a:lnTo>
                    <a:pt x="2537" y="368"/>
                  </a:lnTo>
                  <a:lnTo>
                    <a:pt x="2537" y="368"/>
                  </a:lnTo>
                  <a:lnTo>
                    <a:pt x="2530" y="375"/>
                  </a:lnTo>
                  <a:lnTo>
                    <a:pt x="2530" y="381"/>
                  </a:lnTo>
                  <a:lnTo>
                    <a:pt x="2530" y="388"/>
                  </a:lnTo>
                  <a:lnTo>
                    <a:pt x="2530" y="395"/>
                  </a:lnTo>
                  <a:lnTo>
                    <a:pt x="2530" y="401"/>
                  </a:lnTo>
                  <a:lnTo>
                    <a:pt x="2537" y="401"/>
                  </a:lnTo>
                  <a:lnTo>
                    <a:pt x="2537" y="401"/>
                  </a:lnTo>
                  <a:lnTo>
                    <a:pt x="2543" y="395"/>
                  </a:lnTo>
                  <a:close/>
                  <a:moveTo>
                    <a:pt x="408" y="335"/>
                  </a:moveTo>
                  <a:lnTo>
                    <a:pt x="402" y="322"/>
                  </a:lnTo>
                  <a:lnTo>
                    <a:pt x="402" y="316"/>
                  </a:lnTo>
                  <a:lnTo>
                    <a:pt x="395" y="309"/>
                  </a:lnTo>
                  <a:lnTo>
                    <a:pt x="389" y="309"/>
                  </a:lnTo>
                  <a:lnTo>
                    <a:pt x="382" y="316"/>
                  </a:lnTo>
                  <a:lnTo>
                    <a:pt x="375" y="322"/>
                  </a:lnTo>
                  <a:lnTo>
                    <a:pt x="375" y="329"/>
                  </a:lnTo>
                  <a:lnTo>
                    <a:pt x="375" y="342"/>
                  </a:lnTo>
                  <a:lnTo>
                    <a:pt x="382" y="348"/>
                  </a:lnTo>
                  <a:lnTo>
                    <a:pt x="389" y="355"/>
                  </a:lnTo>
                  <a:lnTo>
                    <a:pt x="395" y="362"/>
                  </a:lnTo>
                  <a:lnTo>
                    <a:pt x="402" y="355"/>
                  </a:lnTo>
                  <a:lnTo>
                    <a:pt x="402" y="348"/>
                  </a:lnTo>
                  <a:lnTo>
                    <a:pt x="408" y="335"/>
                  </a:lnTo>
                  <a:close/>
                  <a:moveTo>
                    <a:pt x="428" y="309"/>
                  </a:moveTo>
                  <a:lnTo>
                    <a:pt x="435" y="302"/>
                  </a:lnTo>
                  <a:lnTo>
                    <a:pt x="435" y="296"/>
                  </a:lnTo>
                  <a:lnTo>
                    <a:pt x="441" y="289"/>
                  </a:lnTo>
                  <a:lnTo>
                    <a:pt x="455" y="283"/>
                  </a:lnTo>
                  <a:lnTo>
                    <a:pt x="468" y="283"/>
                  </a:lnTo>
                  <a:lnTo>
                    <a:pt x="474" y="283"/>
                  </a:lnTo>
                  <a:lnTo>
                    <a:pt x="474" y="276"/>
                  </a:lnTo>
                  <a:lnTo>
                    <a:pt x="474" y="269"/>
                  </a:lnTo>
                  <a:lnTo>
                    <a:pt x="474" y="263"/>
                  </a:lnTo>
                  <a:lnTo>
                    <a:pt x="468" y="250"/>
                  </a:lnTo>
                  <a:lnTo>
                    <a:pt x="461" y="243"/>
                  </a:lnTo>
                  <a:lnTo>
                    <a:pt x="455" y="237"/>
                  </a:lnTo>
                  <a:lnTo>
                    <a:pt x="455" y="230"/>
                  </a:lnTo>
                  <a:lnTo>
                    <a:pt x="448" y="230"/>
                  </a:lnTo>
                  <a:lnTo>
                    <a:pt x="441" y="230"/>
                  </a:lnTo>
                  <a:lnTo>
                    <a:pt x="435" y="237"/>
                  </a:lnTo>
                  <a:lnTo>
                    <a:pt x="435" y="250"/>
                  </a:lnTo>
                  <a:lnTo>
                    <a:pt x="428" y="256"/>
                  </a:lnTo>
                  <a:lnTo>
                    <a:pt x="428" y="263"/>
                  </a:lnTo>
                  <a:lnTo>
                    <a:pt x="422" y="269"/>
                  </a:lnTo>
                  <a:lnTo>
                    <a:pt x="415" y="276"/>
                  </a:lnTo>
                  <a:lnTo>
                    <a:pt x="415" y="283"/>
                  </a:lnTo>
                  <a:lnTo>
                    <a:pt x="408" y="289"/>
                  </a:lnTo>
                  <a:lnTo>
                    <a:pt x="402" y="289"/>
                  </a:lnTo>
                  <a:lnTo>
                    <a:pt x="395" y="296"/>
                  </a:lnTo>
                  <a:lnTo>
                    <a:pt x="389" y="302"/>
                  </a:lnTo>
                  <a:lnTo>
                    <a:pt x="395" y="309"/>
                  </a:lnTo>
                  <a:lnTo>
                    <a:pt x="402" y="316"/>
                  </a:lnTo>
                  <a:lnTo>
                    <a:pt x="415" y="322"/>
                  </a:lnTo>
                  <a:lnTo>
                    <a:pt x="422" y="322"/>
                  </a:lnTo>
                  <a:lnTo>
                    <a:pt x="428" y="316"/>
                  </a:lnTo>
                  <a:lnTo>
                    <a:pt x="428" y="309"/>
                  </a:lnTo>
                  <a:close/>
                  <a:moveTo>
                    <a:pt x="343" y="283"/>
                  </a:moveTo>
                  <a:lnTo>
                    <a:pt x="336" y="283"/>
                  </a:lnTo>
                  <a:lnTo>
                    <a:pt x="323" y="296"/>
                  </a:lnTo>
                  <a:lnTo>
                    <a:pt x="323" y="289"/>
                  </a:lnTo>
                  <a:lnTo>
                    <a:pt x="329" y="289"/>
                  </a:lnTo>
                  <a:lnTo>
                    <a:pt x="329" y="289"/>
                  </a:lnTo>
                  <a:lnTo>
                    <a:pt x="329" y="289"/>
                  </a:lnTo>
                  <a:lnTo>
                    <a:pt x="336" y="283"/>
                  </a:lnTo>
                  <a:lnTo>
                    <a:pt x="336" y="283"/>
                  </a:lnTo>
                  <a:lnTo>
                    <a:pt x="336" y="283"/>
                  </a:lnTo>
                  <a:lnTo>
                    <a:pt x="343" y="283"/>
                  </a:lnTo>
                  <a:close/>
                  <a:moveTo>
                    <a:pt x="369" y="250"/>
                  </a:moveTo>
                  <a:lnTo>
                    <a:pt x="362" y="250"/>
                  </a:lnTo>
                  <a:lnTo>
                    <a:pt x="362" y="256"/>
                  </a:lnTo>
                  <a:lnTo>
                    <a:pt x="369" y="250"/>
                  </a:lnTo>
                  <a:close/>
                  <a:moveTo>
                    <a:pt x="395" y="223"/>
                  </a:moveTo>
                  <a:lnTo>
                    <a:pt x="402" y="217"/>
                  </a:lnTo>
                  <a:lnTo>
                    <a:pt x="389" y="223"/>
                  </a:lnTo>
                  <a:lnTo>
                    <a:pt x="389" y="223"/>
                  </a:lnTo>
                  <a:lnTo>
                    <a:pt x="395" y="223"/>
                  </a:lnTo>
                  <a:close/>
                  <a:moveTo>
                    <a:pt x="455" y="171"/>
                  </a:moveTo>
                  <a:lnTo>
                    <a:pt x="448" y="171"/>
                  </a:lnTo>
                  <a:lnTo>
                    <a:pt x="435" y="184"/>
                  </a:lnTo>
                  <a:lnTo>
                    <a:pt x="435" y="177"/>
                  </a:lnTo>
                  <a:lnTo>
                    <a:pt x="441" y="177"/>
                  </a:lnTo>
                  <a:lnTo>
                    <a:pt x="441" y="177"/>
                  </a:lnTo>
                  <a:lnTo>
                    <a:pt x="441" y="177"/>
                  </a:lnTo>
                  <a:lnTo>
                    <a:pt x="441" y="171"/>
                  </a:lnTo>
                  <a:lnTo>
                    <a:pt x="448" y="171"/>
                  </a:lnTo>
                  <a:lnTo>
                    <a:pt x="448" y="171"/>
                  </a:lnTo>
                  <a:lnTo>
                    <a:pt x="455" y="171"/>
                  </a:lnTo>
                  <a:close/>
                  <a:moveTo>
                    <a:pt x="982" y="171"/>
                  </a:moveTo>
                  <a:lnTo>
                    <a:pt x="982" y="164"/>
                  </a:lnTo>
                  <a:lnTo>
                    <a:pt x="982" y="158"/>
                  </a:lnTo>
                  <a:lnTo>
                    <a:pt x="975" y="158"/>
                  </a:lnTo>
                  <a:lnTo>
                    <a:pt x="969" y="158"/>
                  </a:lnTo>
                  <a:lnTo>
                    <a:pt x="962" y="158"/>
                  </a:lnTo>
                  <a:lnTo>
                    <a:pt x="955" y="164"/>
                  </a:lnTo>
                  <a:lnTo>
                    <a:pt x="949" y="164"/>
                  </a:lnTo>
                  <a:lnTo>
                    <a:pt x="949" y="171"/>
                  </a:lnTo>
                  <a:lnTo>
                    <a:pt x="955" y="177"/>
                  </a:lnTo>
                  <a:lnTo>
                    <a:pt x="962" y="177"/>
                  </a:lnTo>
                  <a:lnTo>
                    <a:pt x="969" y="177"/>
                  </a:lnTo>
                  <a:lnTo>
                    <a:pt x="975" y="177"/>
                  </a:lnTo>
                  <a:lnTo>
                    <a:pt x="982" y="177"/>
                  </a:lnTo>
                  <a:lnTo>
                    <a:pt x="982" y="171"/>
                  </a:lnTo>
                  <a:close/>
                  <a:moveTo>
                    <a:pt x="494" y="138"/>
                  </a:moveTo>
                  <a:lnTo>
                    <a:pt x="474" y="138"/>
                  </a:lnTo>
                  <a:lnTo>
                    <a:pt x="474" y="158"/>
                  </a:lnTo>
                  <a:lnTo>
                    <a:pt x="494" y="138"/>
                  </a:lnTo>
                  <a:close/>
                  <a:moveTo>
                    <a:pt x="2675" y="111"/>
                  </a:moveTo>
                  <a:lnTo>
                    <a:pt x="2655" y="111"/>
                  </a:lnTo>
                  <a:lnTo>
                    <a:pt x="2675" y="131"/>
                  </a:lnTo>
                  <a:lnTo>
                    <a:pt x="2675" y="111"/>
                  </a:lnTo>
                  <a:close/>
                  <a:moveTo>
                    <a:pt x="771" y="85"/>
                  </a:moveTo>
                  <a:lnTo>
                    <a:pt x="771" y="79"/>
                  </a:lnTo>
                  <a:lnTo>
                    <a:pt x="777" y="79"/>
                  </a:lnTo>
                  <a:lnTo>
                    <a:pt x="777" y="72"/>
                  </a:lnTo>
                  <a:lnTo>
                    <a:pt x="784" y="72"/>
                  </a:lnTo>
                  <a:lnTo>
                    <a:pt x="784" y="79"/>
                  </a:lnTo>
                  <a:lnTo>
                    <a:pt x="791" y="79"/>
                  </a:lnTo>
                  <a:lnTo>
                    <a:pt x="791" y="85"/>
                  </a:lnTo>
                  <a:lnTo>
                    <a:pt x="791" y="85"/>
                  </a:lnTo>
                  <a:lnTo>
                    <a:pt x="784" y="92"/>
                  </a:lnTo>
                  <a:lnTo>
                    <a:pt x="784" y="92"/>
                  </a:lnTo>
                  <a:lnTo>
                    <a:pt x="777" y="92"/>
                  </a:lnTo>
                  <a:lnTo>
                    <a:pt x="777" y="92"/>
                  </a:lnTo>
                  <a:lnTo>
                    <a:pt x="771" y="92"/>
                  </a:lnTo>
                  <a:lnTo>
                    <a:pt x="771" y="85"/>
                  </a:lnTo>
                  <a:close/>
                  <a:moveTo>
                    <a:pt x="2649" y="85"/>
                  </a:moveTo>
                  <a:lnTo>
                    <a:pt x="2616" y="85"/>
                  </a:lnTo>
                  <a:lnTo>
                    <a:pt x="2616" y="85"/>
                  </a:lnTo>
                  <a:lnTo>
                    <a:pt x="2616" y="85"/>
                  </a:lnTo>
                  <a:lnTo>
                    <a:pt x="2622" y="92"/>
                  </a:lnTo>
                  <a:lnTo>
                    <a:pt x="2622" y="92"/>
                  </a:lnTo>
                  <a:lnTo>
                    <a:pt x="2629" y="92"/>
                  </a:lnTo>
                  <a:lnTo>
                    <a:pt x="2629" y="98"/>
                  </a:lnTo>
                  <a:lnTo>
                    <a:pt x="2636" y="98"/>
                  </a:lnTo>
                  <a:lnTo>
                    <a:pt x="2642" y="98"/>
                  </a:lnTo>
                  <a:lnTo>
                    <a:pt x="2649" y="98"/>
                  </a:lnTo>
                  <a:lnTo>
                    <a:pt x="2649" y="85"/>
                  </a:lnTo>
                  <a:close/>
                  <a:moveTo>
                    <a:pt x="2477" y="26"/>
                  </a:moveTo>
                  <a:lnTo>
                    <a:pt x="2477" y="26"/>
                  </a:lnTo>
                  <a:lnTo>
                    <a:pt x="2477" y="26"/>
                  </a:lnTo>
                  <a:lnTo>
                    <a:pt x="2477" y="26"/>
                  </a:lnTo>
                  <a:lnTo>
                    <a:pt x="2477" y="26"/>
                  </a:lnTo>
                  <a:lnTo>
                    <a:pt x="2477" y="26"/>
                  </a:lnTo>
                  <a:lnTo>
                    <a:pt x="2477" y="26"/>
                  </a:lnTo>
                  <a:lnTo>
                    <a:pt x="2477" y="26"/>
                  </a:lnTo>
                  <a:lnTo>
                    <a:pt x="2477" y="26"/>
                  </a:lnTo>
                  <a:lnTo>
                    <a:pt x="2477" y="26"/>
                  </a:lnTo>
                  <a:lnTo>
                    <a:pt x="2477" y="26"/>
                  </a:lnTo>
                  <a:close/>
                  <a:moveTo>
                    <a:pt x="2339" y="0"/>
                  </a:moveTo>
                  <a:lnTo>
                    <a:pt x="2313" y="0"/>
                  </a:lnTo>
                  <a:lnTo>
                    <a:pt x="2286" y="0"/>
                  </a:lnTo>
                  <a:lnTo>
                    <a:pt x="2280" y="0"/>
                  </a:lnTo>
                  <a:lnTo>
                    <a:pt x="2286" y="0"/>
                  </a:lnTo>
                  <a:lnTo>
                    <a:pt x="2293" y="0"/>
                  </a:lnTo>
                  <a:lnTo>
                    <a:pt x="2300" y="0"/>
                  </a:lnTo>
                  <a:lnTo>
                    <a:pt x="2300" y="6"/>
                  </a:lnTo>
                  <a:lnTo>
                    <a:pt x="2306" y="6"/>
                  </a:lnTo>
                  <a:lnTo>
                    <a:pt x="2313" y="6"/>
                  </a:lnTo>
                  <a:lnTo>
                    <a:pt x="2319" y="6"/>
                  </a:lnTo>
                  <a:lnTo>
                    <a:pt x="2319" y="6"/>
                  </a:lnTo>
                  <a:lnTo>
                    <a:pt x="2326" y="6"/>
                  </a:lnTo>
                  <a:lnTo>
                    <a:pt x="2333" y="0"/>
                  </a:lnTo>
                  <a:lnTo>
                    <a:pt x="2339" y="0"/>
                  </a:lnTo>
                  <a:close/>
                  <a:moveTo>
                    <a:pt x="2339" y="1731"/>
                  </a:moveTo>
                  <a:lnTo>
                    <a:pt x="2365" y="1705"/>
                  </a:lnTo>
                  <a:lnTo>
                    <a:pt x="2398" y="1705"/>
                  </a:lnTo>
                  <a:lnTo>
                    <a:pt x="2425" y="1705"/>
                  </a:lnTo>
                  <a:lnTo>
                    <a:pt x="2451" y="1705"/>
                  </a:lnTo>
                  <a:lnTo>
                    <a:pt x="2477" y="1705"/>
                  </a:lnTo>
                  <a:lnTo>
                    <a:pt x="2510" y="1705"/>
                  </a:lnTo>
                  <a:lnTo>
                    <a:pt x="2537" y="1705"/>
                  </a:lnTo>
                  <a:lnTo>
                    <a:pt x="2563" y="1678"/>
                  </a:lnTo>
                  <a:lnTo>
                    <a:pt x="2563" y="1652"/>
                  </a:lnTo>
                  <a:lnTo>
                    <a:pt x="2563" y="1619"/>
                  </a:lnTo>
                  <a:lnTo>
                    <a:pt x="2563" y="1593"/>
                  </a:lnTo>
                  <a:lnTo>
                    <a:pt x="2590" y="1566"/>
                  </a:lnTo>
                  <a:lnTo>
                    <a:pt x="2590" y="1540"/>
                  </a:lnTo>
                  <a:lnTo>
                    <a:pt x="2590" y="1507"/>
                  </a:lnTo>
                  <a:lnTo>
                    <a:pt x="2590" y="1481"/>
                  </a:lnTo>
                  <a:lnTo>
                    <a:pt x="2616" y="1455"/>
                  </a:lnTo>
                  <a:lnTo>
                    <a:pt x="2616" y="1428"/>
                  </a:lnTo>
                  <a:lnTo>
                    <a:pt x="2616" y="1395"/>
                  </a:lnTo>
                  <a:lnTo>
                    <a:pt x="2616" y="1369"/>
                  </a:lnTo>
                  <a:lnTo>
                    <a:pt x="2649" y="1343"/>
                  </a:lnTo>
                  <a:lnTo>
                    <a:pt x="2649" y="1316"/>
                  </a:lnTo>
                  <a:lnTo>
                    <a:pt x="2649" y="1283"/>
                  </a:lnTo>
                  <a:lnTo>
                    <a:pt x="2649" y="1257"/>
                  </a:lnTo>
                  <a:lnTo>
                    <a:pt x="2675" y="1231"/>
                  </a:lnTo>
                  <a:lnTo>
                    <a:pt x="2675" y="1204"/>
                  </a:lnTo>
                  <a:lnTo>
                    <a:pt x="2675" y="1171"/>
                  </a:lnTo>
                  <a:lnTo>
                    <a:pt x="2675" y="1145"/>
                  </a:lnTo>
                  <a:lnTo>
                    <a:pt x="2702" y="1119"/>
                  </a:lnTo>
                  <a:lnTo>
                    <a:pt x="2702" y="1092"/>
                  </a:lnTo>
                  <a:lnTo>
                    <a:pt x="2702" y="1060"/>
                  </a:lnTo>
                  <a:lnTo>
                    <a:pt x="2702" y="1033"/>
                  </a:lnTo>
                  <a:lnTo>
                    <a:pt x="2702" y="1007"/>
                  </a:lnTo>
                  <a:lnTo>
                    <a:pt x="2702" y="981"/>
                  </a:lnTo>
                  <a:lnTo>
                    <a:pt x="2702" y="948"/>
                  </a:lnTo>
                  <a:lnTo>
                    <a:pt x="2702" y="921"/>
                  </a:lnTo>
                  <a:lnTo>
                    <a:pt x="2702" y="895"/>
                  </a:lnTo>
                  <a:lnTo>
                    <a:pt x="2702" y="869"/>
                  </a:lnTo>
                  <a:lnTo>
                    <a:pt x="2702" y="842"/>
                  </a:lnTo>
                  <a:lnTo>
                    <a:pt x="2702" y="809"/>
                  </a:lnTo>
                  <a:lnTo>
                    <a:pt x="2702" y="783"/>
                  </a:lnTo>
                  <a:lnTo>
                    <a:pt x="2702" y="757"/>
                  </a:lnTo>
                  <a:lnTo>
                    <a:pt x="2702" y="730"/>
                  </a:lnTo>
                  <a:lnTo>
                    <a:pt x="2702" y="697"/>
                  </a:lnTo>
                  <a:lnTo>
                    <a:pt x="2702" y="671"/>
                  </a:lnTo>
                  <a:lnTo>
                    <a:pt x="2702" y="645"/>
                  </a:lnTo>
                  <a:lnTo>
                    <a:pt x="2702" y="618"/>
                  </a:lnTo>
                  <a:lnTo>
                    <a:pt x="2702" y="585"/>
                  </a:lnTo>
                  <a:lnTo>
                    <a:pt x="2702" y="559"/>
                  </a:lnTo>
                  <a:lnTo>
                    <a:pt x="2702" y="533"/>
                  </a:lnTo>
                  <a:lnTo>
                    <a:pt x="2702" y="506"/>
                  </a:lnTo>
                  <a:lnTo>
                    <a:pt x="2702" y="474"/>
                  </a:lnTo>
                  <a:lnTo>
                    <a:pt x="2702" y="447"/>
                  </a:lnTo>
                  <a:lnTo>
                    <a:pt x="2702" y="421"/>
                  </a:lnTo>
                  <a:lnTo>
                    <a:pt x="2702" y="395"/>
                  </a:lnTo>
                  <a:lnTo>
                    <a:pt x="2702" y="362"/>
                  </a:lnTo>
                  <a:lnTo>
                    <a:pt x="2702" y="335"/>
                  </a:lnTo>
                  <a:lnTo>
                    <a:pt x="2702" y="309"/>
                  </a:lnTo>
                  <a:lnTo>
                    <a:pt x="2702" y="283"/>
                  </a:lnTo>
                  <a:lnTo>
                    <a:pt x="2702" y="250"/>
                  </a:lnTo>
                  <a:lnTo>
                    <a:pt x="2675" y="223"/>
                  </a:lnTo>
                  <a:lnTo>
                    <a:pt x="2675" y="197"/>
                  </a:lnTo>
                  <a:lnTo>
                    <a:pt x="2675" y="171"/>
                  </a:lnTo>
                  <a:lnTo>
                    <a:pt x="2675" y="138"/>
                  </a:lnTo>
                  <a:lnTo>
                    <a:pt x="2675" y="111"/>
                  </a:lnTo>
                  <a:lnTo>
                    <a:pt x="2649" y="85"/>
                  </a:lnTo>
                  <a:lnTo>
                    <a:pt x="2616" y="85"/>
                  </a:lnTo>
                  <a:lnTo>
                    <a:pt x="2590" y="85"/>
                  </a:lnTo>
                  <a:lnTo>
                    <a:pt x="2563" y="59"/>
                  </a:lnTo>
                  <a:lnTo>
                    <a:pt x="2537" y="59"/>
                  </a:lnTo>
                  <a:lnTo>
                    <a:pt x="2510" y="59"/>
                  </a:lnTo>
                  <a:lnTo>
                    <a:pt x="2477" y="26"/>
                  </a:lnTo>
                  <a:lnTo>
                    <a:pt x="2451" y="26"/>
                  </a:lnTo>
                  <a:lnTo>
                    <a:pt x="2425" y="26"/>
                  </a:lnTo>
                  <a:lnTo>
                    <a:pt x="2398" y="0"/>
                  </a:lnTo>
                  <a:lnTo>
                    <a:pt x="2365" y="0"/>
                  </a:lnTo>
                  <a:lnTo>
                    <a:pt x="2339" y="0"/>
                  </a:lnTo>
                  <a:lnTo>
                    <a:pt x="2313" y="0"/>
                  </a:lnTo>
                  <a:lnTo>
                    <a:pt x="2286" y="0"/>
                  </a:lnTo>
                  <a:lnTo>
                    <a:pt x="2253" y="0"/>
                  </a:lnTo>
                  <a:lnTo>
                    <a:pt x="2227" y="0"/>
                  </a:lnTo>
                  <a:lnTo>
                    <a:pt x="2201" y="0"/>
                  </a:lnTo>
                  <a:lnTo>
                    <a:pt x="2174" y="0"/>
                  </a:lnTo>
                  <a:lnTo>
                    <a:pt x="2148" y="0"/>
                  </a:lnTo>
                  <a:lnTo>
                    <a:pt x="2115" y="0"/>
                  </a:lnTo>
                  <a:lnTo>
                    <a:pt x="2089" y="0"/>
                  </a:lnTo>
                  <a:lnTo>
                    <a:pt x="2069" y="0"/>
                  </a:lnTo>
                  <a:lnTo>
                    <a:pt x="2076" y="0"/>
                  </a:lnTo>
                  <a:lnTo>
                    <a:pt x="2082" y="6"/>
                  </a:lnTo>
                  <a:lnTo>
                    <a:pt x="2089" y="6"/>
                  </a:lnTo>
                  <a:lnTo>
                    <a:pt x="2095" y="6"/>
                  </a:lnTo>
                  <a:lnTo>
                    <a:pt x="2108" y="13"/>
                  </a:lnTo>
                  <a:lnTo>
                    <a:pt x="2115" y="13"/>
                  </a:lnTo>
                  <a:lnTo>
                    <a:pt x="2122" y="13"/>
                  </a:lnTo>
                  <a:lnTo>
                    <a:pt x="2135" y="13"/>
                  </a:lnTo>
                  <a:lnTo>
                    <a:pt x="2141" y="13"/>
                  </a:lnTo>
                  <a:lnTo>
                    <a:pt x="2148" y="13"/>
                  </a:lnTo>
                  <a:lnTo>
                    <a:pt x="2161" y="19"/>
                  </a:lnTo>
                  <a:lnTo>
                    <a:pt x="2168" y="19"/>
                  </a:lnTo>
                  <a:lnTo>
                    <a:pt x="2174" y="19"/>
                  </a:lnTo>
                  <a:lnTo>
                    <a:pt x="2181" y="19"/>
                  </a:lnTo>
                  <a:lnTo>
                    <a:pt x="2194" y="19"/>
                  </a:lnTo>
                  <a:lnTo>
                    <a:pt x="2201" y="26"/>
                  </a:lnTo>
                  <a:lnTo>
                    <a:pt x="2207" y="26"/>
                  </a:lnTo>
                  <a:lnTo>
                    <a:pt x="2221" y="26"/>
                  </a:lnTo>
                  <a:lnTo>
                    <a:pt x="2227" y="26"/>
                  </a:lnTo>
                  <a:lnTo>
                    <a:pt x="2234" y="26"/>
                  </a:lnTo>
                  <a:lnTo>
                    <a:pt x="2240" y="32"/>
                  </a:lnTo>
                  <a:lnTo>
                    <a:pt x="2240" y="39"/>
                  </a:lnTo>
                  <a:lnTo>
                    <a:pt x="2240" y="46"/>
                  </a:lnTo>
                  <a:lnTo>
                    <a:pt x="2240" y="52"/>
                  </a:lnTo>
                  <a:lnTo>
                    <a:pt x="2247" y="59"/>
                  </a:lnTo>
                  <a:lnTo>
                    <a:pt x="2253" y="59"/>
                  </a:lnTo>
                  <a:lnTo>
                    <a:pt x="2267" y="59"/>
                  </a:lnTo>
                  <a:lnTo>
                    <a:pt x="2273" y="59"/>
                  </a:lnTo>
                  <a:lnTo>
                    <a:pt x="2280" y="65"/>
                  </a:lnTo>
                  <a:lnTo>
                    <a:pt x="2293" y="65"/>
                  </a:lnTo>
                  <a:lnTo>
                    <a:pt x="2300" y="65"/>
                  </a:lnTo>
                  <a:lnTo>
                    <a:pt x="2306" y="65"/>
                  </a:lnTo>
                  <a:lnTo>
                    <a:pt x="2313" y="65"/>
                  </a:lnTo>
                  <a:lnTo>
                    <a:pt x="2319" y="72"/>
                  </a:lnTo>
                  <a:lnTo>
                    <a:pt x="2319" y="79"/>
                  </a:lnTo>
                  <a:lnTo>
                    <a:pt x="2326" y="85"/>
                  </a:lnTo>
                  <a:lnTo>
                    <a:pt x="2333" y="92"/>
                  </a:lnTo>
                  <a:lnTo>
                    <a:pt x="2339" y="92"/>
                  </a:lnTo>
                  <a:lnTo>
                    <a:pt x="2346" y="92"/>
                  </a:lnTo>
                  <a:lnTo>
                    <a:pt x="2352" y="92"/>
                  </a:lnTo>
                  <a:lnTo>
                    <a:pt x="2359" y="85"/>
                  </a:lnTo>
                  <a:lnTo>
                    <a:pt x="2365" y="85"/>
                  </a:lnTo>
                  <a:lnTo>
                    <a:pt x="2365" y="79"/>
                  </a:lnTo>
                  <a:lnTo>
                    <a:pt x="2359" y="72"/>
                  </a:lnTo>
                  <a:lnTo>
                    <a:pt x="2359" y="65"/>
                  </a:lnTo>
                  <a:lnTo>
                    <a:pt x="2359" y="59"/>
                  </a:lnTo>
                  <a:lnTo>
                    <a:pt x="2365" y="52"/>
                  </a:lnTo>
                  <a:lnTo>
                    <a:pt x="2372" y="59"/>
                  </a:lnTo>
                  <a:lnTo>
                    <a:pt x="2379" y="65"/>
                  </a:lnTo>
                  <a:lnTo>
                    <a:pt x="2379" y="72"/>
                  </a:lnTo>
                  <a:lnTo>
                    <a:pt x="2385" y="79"/>
                  </a:lnTo>
                  <a:lnTo>
                    <a:pt x="2385" y="79"/>
                  </a:lnTo>
                  <a:lnTo>
                    <a:pt x="2392" y="85"/>
                  </a:lnTo>
                  <a:lnTo>
                    <a:pt x="2398" y="85"/>
                  </a:lnTo>
                  <a:lnTo>
                    <a:pt x="2405" y="92"/>
                  </a:lnTo>
                  <a:lnTo>
                    <a:pt x="2405" y="98"/>
                  </a:lnTo>
                  <a:lnTo>
                    <a:pt x="2405" y="105"/>
                  </a:lnTo>
                  <a:lnTo>
                    <a:pt x="2405" y="111"/>
                  </a:lnTo>
                  <a:lnTo>
                    <a:pt x="2405" y="118"/>
                  </a:lnTo>
                  <a:lnTo>
                    <a:pt x="2412" y="118"/>
                  </a:lnTo>
                  <a:lnTo>
                    <a:pt x="2412" y="125"/>
                  </a:lnTo>
                  <a:lnTo>
                    <a:pt x="2412" y="131"/>
                  </a:lnTo>
                  <a:lnTo>
                    <a:pt x="2412" y="138"/>
                  </a:lnTo>
                  <a:lnTo>
                    <a:pt x="2418" y="144"/>
                  </a:lnTo>
                  <a:lnTo>
                    <a:pt x="2412" y="151"/>
                  </a:lnTo>
                  <a:lnTo>
                    <a:pt x="2412" y="158"/>
                  </a:lnTo>
                  <a:lnTo>
                    <a:pt x="2418" y="164"/>
                  </a:lnTo>
                  <a:lnTo>
                    <a:pt x="2418" y="164"/>
                  </a:lnTo>
                  <a:lnTo>
                    <a:pt x="2425" y="171"/>
                  </a:lnTo>
                  <a:lnTo>
                    <a:pt x="2431" y="171"/>
                  </a:lnTo>
                  <a:lnTo>
                    <a:pt x="2438" y="177"/>
                  </a:lnTo>
                  <a:lnTo>
                    <a:pt x="2445" y="184"/>
                  </a:lnTo>
                  <a:lnTo>
                    <a:pt x="2445" y="190"/>
                  </a:lnTo>
                  <a:lnTo>
                    <a:pt x="2451" y="197"/>
                  </a:lnTo>
                  <a:lnTo>
                    <a:pt x="2458" y="197"/>
                  </a:lnTo>
                  <a:lnTo>
                    <a:pt x="2464" y="204"/>
                  </a:lnTo>
                  <a:lnTo>
                    <a:pt x="2471" y="204"/>
                  </a:lnTo>
                  <a:lnTo>
                    <a:pt x="2484" y="204"/>
                  </a:lnTo>
                  <a:lnTo>
                    <a:pt x="2484" y="210"/>
                  </a:lnTo>
                  <a:lnTo>
                    <a:pt x="2491" y="210"/>
                  </a:lnTo>
                  <a:lnTo>
                    <a:pt x="2497" y="217"/>
                  </a:lnTo>
                  <a:lnTo>
                    <a:pt x="2497" y="223"/>
                  </a:lnTo>
                  <a:lnTo>
                    <a:pt x="2504" y="230"/>
                  </a:lnTo>
                  <a:lnTo>
                    <a:pt x="2510" y="230"/>
                  </a:lnTo>
                  <a:lnTo>
                    <a:pt x="2517" y="237"/>
                  </a:lnTo>
                  <a:lnTo>
                    <a:pt x="2530" y="237"/>
                  </a:lnTo>
                  <a:lnTo>
                    <a:pt x="2537" y="237"/>
                  </a:lnTo>
                  <a:lnTo>
                    <a:pt x="2537" y="243"/>
                  </a:lnTo>
                  <a:lnTo>
                    <a:pt x="2543" y="250"/>
                  </a:lnTo>
                  <a:lnTo>
                    <a:pt x="2550" y="256"/>
                  </a:lnTo>
                  <a:lnTo>
                    <a:pt x="2557" y="256"/>
                  </a:lnTo>
                  <a:lnTo>
                    <a:pt x="2557" y="263"/>
                  </a:lnTo>
                  <a:lnTo>
                    <a:pt x="2570" y="263"/>
                  </a:lnTo>
                  <a:lnTo>
                    <a:pt x="2576" y="269"/>
                  </a:lnTo>
                  <a:lnTo>
                    <a:pt x="2583" y="269"/>
                  </a:lnTo>
                  <a:lnTo>
                    <a:pt x="2590" y="276"/>
                  </a:lnTo>
                  <a:lnTo>
                    <a:pt x="2590" y="283"/>
                  </a:lnTo>
                  <a:lnTo>
                    <a:pt x="2583" y="283"/>
                  </a:lnTo>
                  <a:lnTo>
                    <a:pt x="2583" y="289"/>
                  </a:lnTo>
                  <a:lnTo>
                    <a:pt x="2576" y="296"/>
                  </a:lnTo>
                  <a:lnTo>
                    <a:pt x="2576" y="302"/>
                  </a:lnTo>
                  <a:lnTo>
                    <a:pt x="2570" y="309"/>
                  </a:lnTo>
                  <a:lnTo>
                    <a:pt x="2570" y="309"/>
                  </a:lnTo>
                  <a:lnTo>
                    <a:pt x="2563" y="316"/>
                  </a:lnTo>
                  <a:lnTo>
                    <a:pt x="2557" y="316"/>
                  </a:lnTo>
                  <a:lnTo>
                    <a:pt x="2543" y="316"/>
                  </a:lnTo>
                  <a:lnTo>
                    <a:pt x="2537" y="316"/>
                  </a:lnTo>
                  <a:lnTo>
                    <a:pt x="2530" y="309"/>
                  </a:lnTo>
                  <a:lnTo>
                    <a:pt x="2517" y="309"/>
                  </a:lnTo>
                  <a:lnTo>
                    <a:pt x="2510" y="309"/>
                  </a:lnTo>
                  <a:lnTo>
                    <a:pt x="2504" y="309"/>
                  </a:lnTo>
                  <a:lnTo>
                    <a:pt x="2497" y="309"/>
                  </a:lnTo>
                  <a:lnTo>
                    <a:pt x="2484" y="316"/>
                  </a:lnTo>
                  <a:lnTo>
                    <a:pt x="2477" y="316"/>
                  </a:lnTo>
                  <a:lnTo>
                    <a:pt x="2464" y="316"/>
                  </a:lnTo>
                  <a:lnTo>
                    <a:pt x="2458" y="316"/>
                  </a:lnTo>
                  <a:lnTo>
                    <a:pt x="2451" y="309"/>
                  </a:lnTo>
                  <a:lnTo>
                    <a:pt x="2445" y="302"/>
                  </a:lnTo>
                  <a:lnTo>
                    <a:pt x="2438" y="302"/>
                  </a:lnTo>
                  <a:lnTo>
                    <a:pt x="2431" y="302"/>
                  </a:lnTo>
                  <a:lnTo>
                    <a:pt x="2425" y="296"/>
                  </a:lnTo>
                  <a:lnTo>
                    <a:pt x="2412" y="296"/>
                  </a:lnTo>
                  <a:lnTo>
                    <a:pt x="2405" y="302"/>
                  </a:lnTo>
                  <a:lnTo>
                    <a:pt x="2398" y="302"/>
                  </a:lnTo>
                  <a:lnTo>
                    <a:pt x="2385" y="302"/>
                  </a:lnTo>
                  <a:lnTo>
                    <a:pt x="2379" y="302"/>
                  </a:lnTo>
                  <a:lnTo>
                    <a:pt x="2372" y="302"/>
                  </a:lnTo>
                  <a:lnTo>
                    <a:pt x="2365" y="296"/>
                  </a:lnTo>
                  <a:lnTo>
                    <a:pt x="2359" y="289"/>
                  </a:lnTo>
                  <a:lnTo>
                    <a:pt x="2352" y="289"/>
                  </a:lnTo>
                  <a:lnTo>
                    <a:pt x="2346" y="283"/>
                  </a:lnTo>
                  <a:lnTo>
                    <a:pt x="2339" y="276"/>
                  </a:lnTo>
                  <a:lnTo>
                    <a:pt x="2333" y="276"/>
                  </a:lnTo>
                  <a:lnTo>
                    <a:pt x="2326" y="276"/>
                  </a:lnTo>
                  <a:lnTo>
                    <a:pt x="2319" y="276"/>
                  </a:lnTo>
                  <a:lnTo>
                    <a:pt x="2306" y="283"/>
                  </a:lnTo>
                  <a:lnTo>
                    <a:pt x="2319" y="283"/>
                  </a:lnTo>
                  <a:lnTo>
                    <a:pt x="2326" y="289"/>
                  </a:lnTo>
                  <a:lnTo>
                    <a:pt x="2326" y="296"/>
                  </a:lnTo>
                  <a:lnTo>
                    <a:pt x="2333" y="302"/>
                  </a:lnTo>
                  <a:lnTo>
                    <a:pt x="2333" y="302"/>
                  </a:lnTo>
                  <a:lnTo>
                    <a:pt x="2339" y="309"/>
                  </a:lnTo>
                  <a:lnTo>
                    <a:pt x="2339" y="316"/>
                  </a:lnTo>
                  <a:lnTo>
                    <a:pt x="2346" y="316"/>
                  </a:lnTo>
                  <a:lnTo>
                    <a:pt x="2359" y="322"/>
                  </a:lnTo>
                  <a:lnTo>
                    <a:pt x="2365" y="322"/>
                  </a:lnTo>
                  <a:lnTo>
                    <a:pt x="2372" y="329"/>
                  </a:lnTo>
                  <a:lnTo>
                    <a:pt x="2379" y="329"/>
                  </a:lnTo>
                  <a:lnTo>
                    <a:pt x="2379" y="335"/>
                  </a:lnTo>
                  <a:lnTo>
                    <a:pt x="2385" y="342"/>
                  </a:lnTo>
                  <a:lnTo>
                    <a:pt x="2392" y="348"/>
                  </a:lnTo>
                  <a:lnTo>
                    <a:pt x="2392" y="348"/>
                  </a:lnTo>
                  <a:lnTo>
                    <a:pt x="2398" y="355"/>
                  </a:lnTo>
                  <a:lnTo>
                    <a:pt x="2405" y="362"/>
                  </a:lnTo>
                  <a:lnTo>
                    <a:pt x="2405" y="368"/>
                  </a:lnTo>
                  <a:lnTo>
                    <a:pt x="2412" y="368"/>
                  </a:lnTo>
                  <a:lnTo>
                    <a:pt x="2412" y="375"/>
                  </a:lnTo>
                  <a:lnTo>
                    <a:pt x="2418" y="381"/>
                  </a:lnTo>
                  <a:lnTo>
                    <a:pt x="2418" y="388"/>
                  </a:lnTo>
                  <a:lnTo>
                    <a:pt x="2425" y="388"/>
                  </a:lnTo>
                  <a:lnTo>
                    <a:pt x="2431" y="395"/>
                  </a:lnTo>
                  <a:lnTo>
                    <a:pt x="2425" y="401"/>
                  </a:lnTo>
                  <a:lnTo>
                    <a:pt x="2418" y="408"/>
                  </a:lnTo>
                  <a:lnTo>
                    <a:pt x="2412" y="408"/>
                  </a:lnTo>
                  <a:lnTo>
                    <a:pt x="2405" y="408"/>
                  </a:lnTo>
                  <a:lnTo>
                    <a:pt x="2398" y="414"/>
                  </a:lnTo>
                  <a:lnTo>
                    <a:pt x="2392" y="414"/>
                  </a:lnTo>
                  <a:lnTo>
                    <a:pt x="2385" y="421"/>
                  </a:lnTo>
                  <a:lnTo>
                    <a:pt x="2379" y="427"/>
                  </a:lnTo>
                  <a:lnTo>
                    <a:pt x="2379" y="434"/>
                  </a:lnTo>
                  <a:lnTo>
                    <a:pt x="2379" y="434"/>
                  </a:lnTo>
                  <a:lnTo>
                    <a:pt x="2379" y="441"/>
                  </a:lnTo>
                  <a:lnTo>
                    <a:pt x="2379" y="447"/>
                  </a:lnTo>
                  <a:lnTo>
                    <a:pt x="2372" y="454"/>
                  </a:lnTo>
                  <a:lnTo>
                    <a:pt x="2372" y="460"/>
                  </a:lnTo>
                  <a:lnTo>
                    <a:pt x="2372" y="467"/>
                  </a:lnTo>
                  <a:lnTo>
                    <a:pt x="2365" y="467"/>
                  </a:lnTo>
                  <a:lnTo>
                    <a:pt x="2365" y="474"/>
                  </a:lnTo>
                  <a:lnTo>
                    <a:pt x="2359" y="480"/>
                  </a:lnTo>
                  <a:lnTo>
                    <a:pt x="2352" y="487"/>
                  </a:lnTo>
                  <a:lnTo>
                    <a:pt x="2346" y="487"/>
                  </a:lnTo>
                  <a:lnTo>
                    <a:pt x="2339" y="493"/>
                  </a:lnTo>
                  <a:lnTo>
                    <a:pt x="2333" y="493"/>
                  </a:lnTo>
                  <a:lnTo>
                    <a:pt x="2326" y="500"/>
                  </a:lnTo>
                  <a:lnTo>
                    <a:pt x="2319" y="500"/>
                  </a:lnTo>
                  <a:lnTo>
                    <a:pt x="2313" y="506"/>
                  </a:lnTo>
                  <a:lnTo>
                    <a:pt x="2306" y="506"/>
                  </a:lnTo>
                  <a:lnTo>
                    <a:pt x="2293" y="506"/>
                  </a:lnTo>
                  <a:lnTo>
                    <a:pt x="2286" y="506"/>
                  </a:lnTo>
                  <a:lnTo>
                    <a:pt x="2280" y="506"/>
                  </a:lnTo>
                  <a:lnTo>
                    <a:pt x="2273" y="506"/>
                  </a:lnTo>
                  <a:lnTo>
                    <a:pt x="2267" y="500"/>
                  </a:lnTo>
                  <a:lnTo>
                    <a:pt x="2253" y="500"/>
                  </a:lnTo>
                  <a:lnTo>
                    <a:pt x="2247" y="493"/>
                  </a:lnTo>
                  <a:lnTo>
                    <a:pt x="2240" y="493"/>
                  </a:lnTo>
                  <a:lnTo>
                    <a:pt x="2234" y="487"/>
                  </a:lnTo>
                  <a:lnTo>
                    <a:pt x="2227" y="487"/>
                  </a:lnTo>
                  <a:lnTo>
                    <a:pt x="2221" y="480"/>
                  </a:lnTo>
                  <a:lnTo>
                    <a:pt x="2214" y="480"/>
                  </a:lnTo>
                  <a:lnTo>
                    <a:pt x="2207" y="474"/>
                  </a:lnTo>
                  <a:lnTo>
                    <a:pt x="2194" y="474"/>
                  </a:lnTo>
                  <a:lnTo>
                    <a:pt x="2188" y="474"/>
                  </a:lnTo>
                  <a:lnTo>
                    <a:pt x="2181" y="467"/>
                  </a:lnTo>
                  <a:lnTo>
                    <a:pt x="2174" y="467"/>
                  </a:lnTo>
                  <a:lnTo>
                    <a:pt x="2168" y="460"/>
                  </a:lnTo>
                  <a:lnTo>
                    <a:pt x="2161" y="460"/>
                  </a:lnTo>
                  <a:lnTo>
                    <a:pt x="2148" y="454"/>
                  </a:lnTo>
                  <a:lnTo>
                    <a:pt x="2148" y="454"/>
                  </a:lnTo>
                  <a:lnTo>
                    <a:pt x="2141" y="447"/>
                  </a:lnTo>
                  <a:lnTo>
                    <a:pt x="2135" y="441"/>
                  </a:lnTo>
                  <a:lnTo>
                    <a:pt x="2128" y="434"/>
                  </a:lnTo>
                  <a:lnTo>
                    <a:pt x="2128" y="434"/>
                  </a:lnTo>
                  <a:lnTo>
                    <a:pt x="2122" y="427"/>
                  </a:lnTo>
                  <a:lnTo>
                    <a:pt x="2108" y="427"/>
                  </a:lnTo>
                  <a:lnTo>
                    <a:pt x="2102" y="434"/>
                  </a:lnTo>
                  <a:lnTo>
                    <a:pt x="2095" y="434"/>
                  </a:lnTo>
                  <a:lnTo>
                    <a:pt x="2082" y="434"/>
                  </a:lnTo>
                  <a:lnTo>
                    <a:pt x="2076" y="441"/>
                  </a:lnTo>
                  <a:lnTo>
                    <a:pt x="2069" y="441"/>
                  </a:lnTo>
                  <a:lnTo>
                    <a:pt x="2062" y="441"/>
                  </a:lnTo>
                  <a:lnTo>
                    <a:pt x="2049" y="441"/>
                  </a:lnTo>
                  <a:lnTo>
                    <a:pt x="2043" y="441"/>
                  </a:lnTo>
                  <a:lnTo>
                    <a:pt x="2036" y="441"/>
                  </a:lnTo>
                  <a:lnTo>
                    <a:pt x="2023" y="441"/>
                  </a:lnTo>
                  <a:lnTo>
                    <a:pt x="2016" y="447"/>
                  </a:lnTo>
                  <a:lnTo>
                    <a:pt x="2010" y="447"/>
                  </a:lnTo>
                  <a:lnTo>
                    <a:pt x="2003" y="447"/>
                  </a:lnTo>
                  <a:lnTo>
                    <a:pt x="1996" y="454"/>
                  </a:lnTo>
                  <a:lnTo>
                    <a:pt x="1990" y="460"/>
                  </a:lnTo>
                  <a:lnTo>
                    <a:pt x="1983" y="460"/>
                  </a:lnTo>
                  <a:lnTo>
                    <a:pt x="1977" y="467"/>
                  </a:lnTo>
                  <a:lnTo>
                    <a:pt x="1970" y="467"/>
                  </a:lnTo>
                  <a:lnTo>
                    <a:pt x="1964" y="474"/>
                  </a:lnTo>
                  <a:lnTo>
                    <a:pt x="1957" y="480"/>
                  </a:lnTo>
                  <a:lnTo>
                    <a:pt x="1957" y="487"/>
                  </a:lnTo>
                  <a:lnTo>
                    <a:pt x="1950" y="493"/>
                  </a:lnTo>
                  <a:lnTo>
                    <a:pt x="1950" y="493"/>
                  </a:lnTo>
                  <a:lnTo>
                    <a:pt x="1944" y="493"/>
                  </a:lnTo>
                  <a:lnTo>
                    <a:pt x="1944" y="487"/>
                  </a:lnTo>
                  <a:lnTo>
                    <a:pt x="1937" y="480"/>
                  </a:lnTo>
                  <a:lnTo>
                    <a:pt x="1937" y="474"/>
                  </a:lnTo>
                  <a:lnTo>
                    <a:pt x="1937" y="467"/>
                  </a:lnTo>
                  <a:lnTo>
                    <a:pt x="1944" y="460"/>
                  </a:lnTo>
                  <a:lnTo>
                    <a:pt x="1950" y="454"/>
                  </a:lnTo>
                  <a:lnTo>
                    <a:pt x="1950" y="454"/>
                  </a:lnTo>
                  <a:lnTo>
                    <a:pt x="1950" y="447"/>
                  </a:lnTo>
                  <a:lnTo>
                    <a:pt x="1944" y="441"/>
                  </a:lnTo>
                  <a:lnTo>
                    <a:pt x="1937" y="441"/>
                  </a:lnTo>
                  <a:lnTo>
                    <a:pt x="1924" y="447"/>
                  </a:lnTo>
                  <a:lnTo>
                    <a:pt x="1917" y="447"/>
                  </a:lnTo>
                  <a:lnTo>
                    <a:pt x="1917" y="454"/>
                  </a:lnTo>
                  <a:lnTo>
                    <a:pt x="1911" y="460"/>
                  </a:lnTo>
                  <a:lnTo>
                    <a:pt x="1911" y="467"/>
                  </a:lnTo>
                  <a:lnTo>
                    <a:pt x="1911" y="474"/>
                  </a:lnTo>
                  <a:lnTo>
                    <a:pt x="1911" y="474"/>
                  </a:lnTo>
                  <a:lnTo>
                    <a:pt x="1911" y="480"/>
                  </a:lnTo>
                  <a:lnTo>
                    <a:pt x="1911" y="487"/>
                  </a:lnTo>
                  <a:lnTo>
                    <a:pt x="1904" y="493"/>
                  </a:lnTo>
                  <a:lnTo>
                    <a:pt x="1904" y="500"/>
                  </a:lnTo>
                  <a:lnTo>
                    <a:pt x="1904" y="506"/>
                  </a:lnTo>
                  <a:lnTo>
                    <a:pt x="1904" y="513"/>
                  </a:lnTo>
                  <a:lnTo>
                    <a:pt x="1904" y="513"/>
                  </a:lnTo>
                  <a:lnTo>
                    <a:pt x="1898" y="520"/>
                  </a:lnTo>
                  <a:lnTo>
                    <a:pt x="1898" y="526"/>
                  </a:lnTo>
                  <a:lnTo>
                    <a:pt x="1898" y="533"/>
                  </a:lnTo>
                  <a:lnTo>
                    <a:pt x="1891" y="539"/>
                  </a:lnTo>
                  <a:lnTo>
                    <a:pt x="1891" y="546"/>
                  </a:lnTo>
                  <a:lnTo>
                    <a:pt x="1891" y="546"/>
                  </a:lnTo>
                  <a:lnTo>
                    <a:pt x="1891" y="553"/>
                  </a:lnTo>
                  <a:lnTo>
                    <a:pt x="1884" y="559"/>
                  </a:lnTo>
                  <a:lnTo>
                    <a:pt x="1884" y="566"/>
                  </a:lnTo>
                  <a:lnTo>
                    <a:pt x="1884" y="572"/>
                  </a:lnTo>
                  <a:lnTo>
                    <a:pt x="1878" y="579"/>
                  </a:lnTo>
                  <a:lnTo>
                    <a:pt x="1878" y="585"/>
                  </a:lnTo>
                  <a:lnTo>
                    <a:pt x="1878" y="585"/>
                  </a:lnTo>
                  <a:lnTo>
                    <a:pt x="1878" y="592"/>
                  </a:lnTo>
                  <a:lnTo>
                    <a:pt x="1871" y="599"/>
                  </a:lnTo>
                  <a:lnTo>
                    <a:pt x="1871" y="605"/>
                  </a:lnTo>
                  <a:lnTo>
                    <a:pt x="1871" y="612"/>
                  </a:lnTo>
                  <a:lnTo>
                    <a:pt x="1865" y="618"/>
                  </a:lnTo>
                  <a:lnTo>
                    <a:pt x="1865" y="618"/>
                  </a:lnTo>
                  <a:lnTo>
                    <a:pt x="1858" y="625"/>
                  </a:lnTo>
                  <a:lnTo>
                    <a:pt x="1858" y="632"/>
                  </a:lnTo>
                  <a:lnTo>
                    <a:pt x="1851" y="638"/>
                  </a:lnTo>
                  <a:lnTo>
                    <a:pt x="1851" y="645"/>
                  </a:lnTo>
                  <a:lnTo>
                    <a:pt x="1845" y="645"/>
                  </a:lnTo>
                  <a:lnTo>
                    <a:pt x="1851" y="651"/>
                  </a:lnTo>
                  <a:lnTo>
                    <a:pt x="1851" y="658"/>
                  </a:lnTo>
                  <a:lnTo>
                    <a:pt x="1851" y="664"/>
                  </a:lnTo>
                  <a:lnTo>
                    <a:pt x="1851" y="671"/>
                  </a:lnTo>
                  <a:lnTo>
                    <a:pt x="1851" y="678"/>
                  </a:lnTo>
                  <a:lnTo>
                    <a:pt x="1845" y="678"/>
                  </a:lnTo>
                  <a:lnTo>
                    <a:pt x="1838" y="684"/>
                  </a:lnTo>
                  <a:lnTo>
                    <a:pt x="1832" y="684"/>
                  </a:lnTo>
                  <a:lnTo>
                    <a:pt x="1825" y="691"/>
                  </a:lnTo>
                  <a:lnTo>
                    <a:pt x="1812" y="691"/>
                  </a:lnTo>
                  <a:lnTo>
                    <a:pt x="1805" y="691"/>
                  </a:lnTo>
                  <a:lnTo>
                    <a:pt x="1799" y="691"/>
                  </a:lnTo>
                  <a:lnTo>
                    <a:pt x="1786" y="684"/>
                  </a:lnTo>
                  <a:lnTo>
                    <a:pt x="1779" y="684"/>
                  </a:lnTo>
                  <a:lnTo>
                    <a:pt x="1772" y="684"/>
                  </a:lnTo>
                  <a:lnTo>
                    <a:pt x="1759" y="684"/>
                  </a:lnTo>
                  <a:lnTo>
                    <a:pt x="1753" y="684"/>
                  </a:lnTo>
                  <a:lnTo>
                    <a:pt x="1746" y="684"/>
                  </a:lnTo>
                  <a:lnTo>
                    <a:pt x="1733" y="684"/>
                  </a:lnTo>
                  <a:lnTo>
                    <a:pt x="1726" y="684"/>
                  </a:lnTo>
                  <a:lnTo>
                    <a:pt x="1720" y="691"/>
                  </a:lnTo>
                  <a:lnTo>
                    <a:pt x="1707" y="691"/>
                  </a:lnTo>
                  <a:lnTo>
                    <a:pt x="1700" y="691"/>
                  </a:lnTo>
                  <a:lnTo>
                    <a:pt x="1700" y="697"/>
                  </a:lnTo>
                  <a:lnTo>
                    <a:pt x="1693" y="704"/>
                  </a:lnTo>
                  <a:lnTo>
                    <a:pt x="1687" y="711"/>
                  </a:lnTo>
                  <a:lnTo>
                    <a:pt x="1687" y="711"/>
                  </a:lnTo>
                  <a:lnTo>
                    <a:pt x="1680" y="717"/>
                  </a:lnTo>
                  <a:lnTo>
                    <a:pt x="1680" y="724"/>
                  </a:lnTo>
                  <a:lnTo>
                    <a:pt x="1674" y="730"/>
                  </a:lnTo>
                  <a:lnTo>
                    <a:pt x="1674" y="737"/>
                  </a:lnTo>
                  <a:lnTo>
                    <a:pt x="1667" y="737"/>
                  </a:lnTo>
                  <a:lnTo>
                    <a:pt x="1667" y="744"/>
                  </a:lnTo>
                  <a:lnTo>
                    <a:pt x="1660" y="750"/>
                  </a:lnTo>
                  <a:lnTo>
                    <a:pt x="1654" y="757"/>
                  </a:lnTo>
                  <a:lnTo>
                    <a:pt x="1654" y="757"/>
                  </a:lnTo>
                  <a:lnTo>
                    <a:pt x="1647" y="763"/>
                  </a:lnTo>
                  <a:lnTo>
                    <a:pt x="1647" y="770"/>
                  </a:lnTo>
                  <a:lnTo>
                    <a:pt x="1641" y="776"/>
                  </a:lnTo>
                  <a:lnTo>
                    <a:pt x="1641" y="783"/>
                  </a:lnTo>
                  <a:lnTo>
                    <a:pt x="1634" y="783"/>
                  </a:lnTo>
                  <a:lnTo>
                    <a:pt x="1634" y="790"/>
                  </a:lnTo>
                  <a:lnTo>
                    <a:pt x="1627" y="796"/>
                  </a:lnTo>
                  <a:lnTo>
                    <a:pt x="1621" y="803"/>
                  </a:lnTo>
                  <a:lnTo>
                    <a:pt x="1621" y="809"/>
                  </a:lnTo>
                  <a:lnTo>
                    <a:pt x="1614" y="809"/>
                  </a:lnTo>
                  <a:lnTo>
                    <a:pt x="1614" y="816"/>
                  </a:lnTo>
                  <a:lnTo>
                    <a:pt x="1614" y="823"/>
                  </a:lnTo>
                  <a:lnTo>
                    <a:pt x="1608" y="829"/>
                  </a:lnTo>
                  <a:lnTo>
                    <a:pt x="1608" y="836"/>
                  </a:lnTo>
                  <a:lnTo>
                    <a:pt x="1608" y="842"/>
                  </a:lnTo>
                  <a:lnTo>
                    <a:pt x="1608" y="842"/>
                  </a:lnTo>
                  <a:lnTo>
                    <a:pt x="1608" y="849"/>
                  </a:lnTo>
                  <a:lnTo>
                    <a:pt x="1608" y="855"/>
                  </a:lnTo>
                  <a:lnTo>
                    <a:pt x="1601" y="862"/>
                  </a:lnTo>
                  <a:lnTo>
                    <a:pt x="1601" y="869"/>
                  </a:lnTo>
                  <a:lnTo>
                    <a:pt x="1595" y="875"/>
                  </a:lnTo>
                  <a:lnTo>
                    <a:pt x="1588" y="875"/>
                  </a:lnTo>
                  <a:lnTo>
                    <a:pt x="1581" y="869"/>
                  </a:lnTo>
                  <a:lnTo>
                    <a:pt x="1575" y="862"/>
                  </a:lnTo>
                  <a:lnTo>
                    <a:pt x="1575" y="862"/>
                  </a:lnTo>
                  <a:lnTo>
                    <a:pt x="1568" y="855"/>
                  </a:lnTo>
                  <a:lnTo>
                    <a:pt x="1568" y="849"/>
                  </a:lnTo>
                  <a:lnTo>
                    <a:pt x="1568" y="842"/>
                  </a:lnTo>
                  <a:lnTo>
                    <a:pt x="1568" y="836"/>
                  </a:lnTo>
                  <a:lnTo>
                    <a:pt x="1568" y="836"/>
                  </a:lnTo>
                  <a:lnTo>
                    <a:pt x="1568" y="829"/>
                  </a:lnTo>
                  <a:lnTo>
                    <a:pt x="1568" y="823"/>
                  </a:lnTo>
                  <a:lnTo>
                    <a:pt x="1568" y="816"/>
                  </a:lnTo>
                  <a:lnTo>
                    <a:pt x="1562" y="809"/>
                  </a:lnTo>
                  <a:lnTo>
                    <a:pt x="1562" y="803"/>
                  </a:lnTo>
                  <a:lnTo>
                    <a:pt x="1562" y="803"/>
                  </a:lnTo>
                  <a:lnTo>
                    <a:pt x="1562" y="809"/>
                  </a:lnTo>
                  <a:lnTo>
                    <a:pt x="1562" y="816"/>
                  </a:lnTo>
                  <a:lnTo>
                    <a:pt x="1562" y="823"/>
                  </a:lnTo>
                  <a:lnTo>
                    <a:pt x="1562" y="829"/>
                  </a:lnTo>
                  <a:lnTo>
                    <a:pt x="1562" y="836"/>
                  </a:lnTo>
                  <a:lnTo>
                    <a:pt x="1555" y="836"/>
                  </a:lnTo>
                  <a:lnTo>
                    <a:pt x="1555" y="842"/>
                  </a:lnTo>
                  <a:lnTo>
                    <a:pt x="1555" y="849"/>
                  </a:lnTo>
                  <a:lnTo>
                    <a:pt x="1555" y="855"/>
                  </a:lnTo>
                  <a:lnTo>
                    <a:pt x="1555" y="862"/>
                  </a:lnTo>
                  <a:lnTo>
                    <a:pt x="1555" y="869"/>
                  </a:lnTo>
                  <a:lnTo>
                    <a:pt x="1555" y="875"/>
                  </a:lnTo>
                  <a:lnTo>
                    <a:pt x="1562" y="882"/>
                  </a:lnTo>
                  <a:lnTo>
                    <a:pt x="1562" y="882"/>
                  </a:lnTo>
                  <a:lnTo>
                    <a:pt x="1562" y="888"/>
                  </a:lnTo>
                  <a:lnTo>
                    <a:pt x="1555" y="895"/>
                  </a:lnTo>
                  <a:lnTo>
                    <a:pt x="1548" y="902"/>
                  </a:lnTo>
                  <a:lnTo>
                    <a:pt x="1542" y="902"/>
                  </a:lnTo>
                  <a:lnTo>
                    <a:pt x="1529" y="902"/>
                  </a:lnTo>
                  <a:lnTo>
                    <a:pt x="1522" y="902"/>
                  </a:lnTo>
                  <a:lnTo>
                    <a:pt x="1515" y="895"/>
                  </a:lnTo>
                  <a:lnTo>
                    <a:pt x="1502" y="895"/>
                  </a:lnTo>
                  <a:lnTo>
                    <a:pt x="1496" y="895"/>
                  </a:lnTo>
                  <a:lnTo>
                    <a:pt x="1489" y="902"/>
                  </a:lnTo>
                  <a:lnTo>
                    <a:pt x="1482" y="902"/>
                  </a:lnTo>
                  <a:lnTo>
                    <a:pt x="1476" y="902"/>
                  </a:lnTo>
                  <a:lnTo>
                    <a:pt x="1463" y="908"/>
                  </a:lnTo>
                  <a:lnTo>
                    <a:pt x="1456" y="908"/>
                  </a:lnTo>
                  <a:lnTo>
                    <a:pt x="1450" y="915"/>
                  </a:lnTo>
                  <a:lnTo>
                    <a:pt x="1443" y="915"/>
                  </a:lnTo>
                  <a:lnTo>
                    <a:pt x="1436" y="921"/>
                  </a:lnTo>
                  <a:lnTo>
                    <a:pt x="1436" y="928"/>
                  </a:lnTo>
                  <a:lnTo>
                    <a:pt x="1430" y="934"/>
                  </a:lnTo>
                  <a:lnTo>
                    <a:pt x="1430" y="934"/>
                  </a:lnTo>
                  <a:lnTo>
                    <a:pt x="1423" y="941"/>
                  </a:lnTo>
                  <a:lnTo>
                    <a:pt x="1423" y="948"/>
                  </a:lnTo>
                  <a:lnTo>
                    <a:pt x="1423" y="954"/>
                  </a:lnTo>
                  <a:lnTo>
                    <a:pt x="1417" y="954"/>
                  </a:lnTo>
                  <a:lnTo>
                    <a:pt x="1410" y="961"/>
                  </a:lnTo>
                  <a:lnTo>
                    <a:pt x="1397" y="954"/>
                  </a:lnTo>
                  <a:lnTo>
                    <a:pt x="1384" y="954"/>
                  </a:lnTo>
                  <a:lnTo>
                    <a:pt x="1377" y="954"/>
                  </a:lnTo>
                  <a:lnTo>
                    <a:pt x="1370" y="954"/>
                  </a:lnTo>
                  <a:lnTo>
                    <a:pt x="1364" y="948"/>
                  </a:lnTo>
                  <a:lnTo>
                    <a:pt x="1357" y="941"/>
                  </a:lnTo>
                  <a:lnTo>
                    <a:pt x="1357" y="941"/>
                  </a:lnTo>
                  <a:lnTo>
                    <a:pt x="1351" y="934"/>
                  </a:lnTo>
                  <a:lnTo>
                    <a:pt x="1344" y="928"/>
                  </a:lnTo>
                  <a:lnTo>
                    <a:pt x="1338" y="928"/>
                  </a:lnTo>
                  <a:lnTo>
                    <a:pt x="1331" y="921"/>
                  </a:lnTo>
                  <a:lnTo>
                    <a:pt x="1331" y="915"/>
                  </a:lnTo>
                  <a:lnTo>
                    <a:pt x="1324" y="915"/>
                  </a:lnTo>
                  <a:lnTo>
                    <a:pt x="1318" y="908"/>
                  </a:lnTo>
                  <a:lnTo>
                    <a:pt x="1311" y="902"/>
                  </a:lnTo>
                  <a:lnTo>
                    <a:pt x="1305" y="902"/>
                  </a:lnTo>
                  <a:lnTo>
                    <a:pt x="1298" y="895"/>
                  </a:lnTo>
                  <a:lnTo>
                    <a:pt x="1291" y="888"/>
                  </a:lnTo>
                  <a:lnTo>
                    <a:pt x="1285" y="882"/>
                  </a:lnTo>
                  <a:lnTo>
                    <a:pt x="1285" y="882"/>
                  </a:lnTo>
                  <a:lnTo>
                    <a:pt x="1278" y="882"/>
                  </a:lnTo>
                  <a:lnTo>
                    <a:pt x="1278" y="888"/>
                  </a:lnTo>
                  <a:lnTo>
                    <a:pt x="1278" y="902"/>
                  </a:lnTo>
                  <a:lnTo>
                    <a:pt x="1278" y="908"/>
                  </a:lnTo>
                  <a:lnTo>
                    <a:pt x="1278" y="908"/>
                  </a:lnTo>
                  <a:lnTo>
                    <a:pt x="1278" y="915"/>
                  </a:lnTo>
                  <a:lnTo>
                    <a:pt x="1278" y="921"/>
                  </a:lnTo>
                  <a:lnTo>
                    <a:pt x="1285" y="928"/>
                  </a:lnTo>
                  <a:lnTo>
                    <a:pt x="1285" y="928"/>
                  </a:lnTo>
                  <a:lnTo>
                    <a:pt x="1291" y="934"/>
                  </a:lnTo>
                  <a:lnTo>
                    <a:pt x="1298" y="941"/>
                  </a:lnTo>
                  <a:lnTo>
                    <a:pt x="1298" y="948"/>
                  </a:lnTo>
                  <a:lnTo>
                    <a:pt x="1305" y="954"/>
                  </a:lnTo>
                  <a:lnTo>
                    <a:pt x="1305" y="954"/>
                  </a:lnTo>
                  <a:lnTo>
                    <a:pt x="1311" y="961"/>
                  </a:lnTo>
                  <a:lnTo>
                    <a:pt x="1311" y="967"/>
                  </a:lnTo>
                  <a:lnTo>
                    <a:pt x="1318" y="974"/>
                  </a:lnTo>
                  <a:lnTo>
                    <a:pt x="1324" y="974"/>
                  </a:lnTo>
                  <a:lnTo>
                    <a:pt x="1324" y="981"/>
                  </a:lnTo>
                  <a:lnTo>
                    <a:pt x="1324" y="987"/>
                  </a:lnTo>
                  <a:lnTo>
                    <a:pt x="1331" y="994"/>
                  </a:lnTo>
                  <a:lnTo>
                    <a:pt x="1331" y="1000"/>
                  </a:lnTo>
                  <a:lnTo>
                    <a:pt x="1331" y="1007"/>
                  </a:lnTo>
                  <a:lnTo>
                    <a:pt x="1338" y="1007"/>
                  </a:lnTo>
                  <a:lnTo>
                    <a:pt x="1338" y="1013"/>
                  </a:lnTo>
                  <a:lnTo>
                    <a:pt x="1344" y="1020"/>
                  </a:lnTo>
                  <a:lnTo>
                    <a:pt x="1344" y="1027"/>
                  </a:lnTo>
                  <a:lnTo>
                    <a:pt x="1351" y="1033"/>
                  </a:lnTo>
                  <a:lnTo>
                    <a:pt x="1351" y="1033"/>
                  </a:lnTo>
                  <a:lnTo>
                    <a:pt x="1357" y="1040"/>
                  </a:lnTo>
                  <a:lnTo>
                    <a:pt x="1357" y="1046"/>
                  </a:lnTo>
                  <a:lnTo>
                    <a:pt x="1364" y="1053"/>
                  </a:lnTo>
                  <a:lnTo>
                    <a:pt x="1370" y="1060"/>
                  </a:lnTo>
                  <a:lnTo>
                    <a:pt x="1370" y="1060"/>
                  </a:lnTo>
                  <a:lnTo>
                    <a:pt x="1377" y="1066"/>
                  </a:lnTo>
                  <a:lnTo>
                    <a:pt x="1377" y="1073"/>
                  </a:lnTo>
                  <a:lnTo>
                    <a:pt x="1370" y="1079"/>
                  </a:lnTo>
                  <a:lnTo>
                    <a:pt x="1370" y="1086"/>
                  </a:lnTo>
                  <a:lnTo>
                    <a:pt x="1364" y="1086"/>
                  </a:lnTo>
                  <a:lnTo>
                    <a:pt x="1357" y="1092"/>
                  </a:lnTo>
                  <a:lnTo>
                    <a:pt x="1351" y="1099"/>
                  </a:lnTo>
                  <a:lnTo>
                    <a:pt x="1351" y="1099"/>
                  </a:lnTo>
                  <a:lnTo>
                    <a:pt x="1344" y="1106"/>
                  </a:lnTo>
                  <a:lnTo>
                    <a:pt x="1338" y="1112"/>
                  </a:lnTo>
                  <a:lnTo>
                    <a:pt x="1331" y="1112"/>
                  </a:lnTo>
                  <a:lnTo>
                    <a:pt x="1324" y="1119"/>
                  </a:lnTo>
                  <a:lnTo>
                    <a:pt x="1318" y="1119"/>
                  </a:lnTo>
                  <a:lnTo>
                    <a:pt x="1311" y="1125"/>
                  </a:lnTo>
                  <a:lnTo>
                    <a:pt x="1298" y="1125"/>
                  </a:lnTo>
                  <a:lnTo>
                    <a:pt x="1291" y="1125"/>
                  </a:lnTo>
                  <a:lnTo>
                    <a:pt x="1285" y="1132"/>
                  </a:lnTo>
                  <a:lnTo>
                    <a:pt x="1272" y="1132"/>
                  </a:lnTo>
                  <a:lnTo>
                    <a:pt x="1265" y="1132"/>
                  </a:lnTo>
                  <a:lnTo>
                    <a:pt x="1258" y="1132"/>
                  </a:lnTo>
                  <a:lnTo>
                    <a:pt x="1252" y="1132"/>
                  </a:lnTo>
                  <a:lnTo>
                    <a:pt x="1239" y="1132"/>
                  </a:lnTo>
                  <a:lnTo>
                    <a:pt x="1232" y="1132"/>
                  </a:lnTo>
                  <a:lnTo>
                    <a:pt x="1226" y="1132"/>
                  </a:lnTo>
                  <a:lnTo>
                    <a:pt x="1212" y="1132"/>
                  </a:lnTo>
                  <a:lnTo>
                    <a:pt x="1206" y="1139"/>
                  </a:lnTo>
                  <a:lnTo>
                    <a:pt x="1199" y="1139"/>
                  </a:lnTo>
                  <a:lnTo>
                    <a:pt x="1193" y="1145"/>
                  </a:lnTo>
                  <a:lnTo>
                    <a:pt x="1193" y="1152"/>
                  </a:lnTo>
                  <a:lnTo>
                    <a:pt x="1193" y="1158"/>
                  </a:lnTo>
                  <a:lnTo>
                    <a:pt x="1193" y="1158"/>
                  </a:lnTo>
                  <a:lnTo>
                    <a:pt x="1193" y="1165"/>
                  </a:lnTo>
                  <a:lnTo>
                    <a:pt x="1186" y="1171"/>
                  </a:lnTo>
                  <a:lnTo>
                    <a:pt x="1186" y="1178"/>
                  </a:lnTo>
                  <a:lnTo>
                    <a:pt x="1186" y="1185"/>
                  </a:lnTo>
                  <a:lnTo>
                    <a:pt x="1186" y="1191"/>
                  </a:lnTo>
                  <a:lnTo>
                    <a:pt x="1179" y="1191"/>
                  </a:lnTo>
                  <a:lnTo>
                    <a:pt x="1179" y="1198"/>
                  </a:lnTo>
                  <a:lnTo>
                    <a:pt x="1179" y="1204"/>
                  </a:lnTo>
                  <a:lnTo>
                    <a:pt x="1173" y="1211"/>
                  </a:lnTo>
                  <a:lnTo>
                    <a:pt x="1173" y="1218"/>
                  </a:lnTo>
                  <a:lnTo>
                    <a:pt x="1166" y="1218"/>
                  </a:lnTo>
                  <a:lnTo>
                    <a:pt x="1160" y="1211"/>
                  </a:lnTo>
                  <a:lnTo>
                    <a:pt x="1146" y="1211"/>
                  </a:lnTo>
                  <a:lnTo>
                    <a:pt x="1140" y="1204"/>
                  </a:lnTo>
                  <a:lnTo>
                    <a:pt x="1133" y="1204"/>
                  </a:lnTo>
                  <a:lnTo>
                    <a:pt x="1120" y="1204"/>
                  </a:lnTo>
                  <a:lnTo>
                    <a:pt x="1113" y="1204"/>
                  </a:lnTo>
                  <a:lnTo>
                    <a:pt x="1107" y="1211"/>
                  </a:lnTo>
                  <a:lnTo>
                    <a:pt x="1100" y="1211"/>
                  </a:lnTo>
                  <a:lnTo>
                    <a:pt x="1087" y="1211"/>
                  </a:lnTo>
                  <a:lnTo>
                    <a:pt x="1081" y="1211"/>
                  </a:lnTo>
                  <a:lnTo>
                    <a:pt x="1074" y="1211"/>
                  </a:lnTo>
                  <a:lnTo>
                    <a:pt x="1061" y="1218"/>
                  </a:lnTo>
                  <a:lnTo>
                    <a:pt x="1054" y="1218"/>
                  </a:lnTo>
                  <a:lnTo>
                    <a:pt x="1054" y="1224"/>
                  </a:lnTo>
                  <a:lnTo>
                    <a:pt x="1054" y="1231"/>
                  </a:lnTo>
                  <a:lnTo>
                    <a:pt x="1054" y="1237"/>
                  </a:lnTo>
                  <a:lnTo>
                    <a:pt x="1061" y="1244"/>
                  </a:lnTo>
                  <a:lnTo>
                    <a:pt x="1061" y="1244"/>
                  </a:lnTo>
                  <a:lnTo>
                    <a:pt x="1067" y="1250"/>
                  </a:lnTo>
                  <a:lnTo>
                    <a:pt x="1067" y="1257"/>
                  </a:lnTo>
                  <a:lnTo>
                    <a:pt x="1074" y="1264"/>
                  </a:lnTo>
                  <a:lnTo>
                    <a:pt x="1074" y="1270"/>
                  </a:lnTo>
                  <a:lnTo>
                    <a:pt x="1081" y="1270"/>
                  </a:lnTo>
                  <a:lnTo>
                    <a:pt x="1081" y="1277"/>
                  </a:lnTo>
                  <a:lnTo>
                    <a:pt x="1087" y="1283"/>
                  </a:lnTo>
                  <a:lnTo>
                    <a:pt x="1087" y="1290"/>
                  </a:lnTo>
                  <a:lnTo>
                    <a:pt x="1081" y="1290"/>
                  </a:lnTo>
                  <a:lnTo>
                    <a:pt x="1081" y="1283"/>
                  </a:lnTo>
                  <a:lnTo>
                    <a:pt x="1074" y="1277"/>
                  </a:lnTo>
                  <a:lnTo>
                    <a:pt x="1067" y="1270"/>
                  </a:lnTo>
                  <a:lnTo>
                    <a:pt x="1061" y="1270"/>
                  </a:lnTo>
                  <a:lnTo>
                    <a:pt x="1054" y="1264"/>
                  </a:lnTo>
                  <a:lnTo>
                    <a:pt x="1048" y="1264"/>
                  </a:lnTo>
                  <a:lnTo>
                    <a:pt x="1041" y="1257"/>
                  </a:lnTo>
                  <a:lnTo>
                    <a:pt x="1034" y="1257"/>
                  </a:lnTo>
                  <a:lnTo>
                    <a:pt x="1028" y="1250"/>
                  </a:lnTo>
                  <a:lnTo>
                    <a:pt x="1021" y="1244"/>
                  </a:lnTo>
                  <a:lnTo>
                    <a:pt x="1015" y="1244"/>
                  </a:lnTo>
                  <a:lnTo>
                    <a:pt x="1008" y="1237"/>
                  </a:lnTo>
                  <a:lnTo>
                    <a:pt x="1001" y="1237"/>
                  </a:lnTo>
                  <a:lnTo>
                    <a:pt x="995" y="1237"/>
                  </a:lnTo>
                  <a:lnTo>
                    <a:pt x="982" y="1231"/>
                  </a:lnTo>
                  <a:lnTo>
                    <a:pt x="975" y="1231"/>
                  </a:lnTo>
                  <a:lnTo>
                    <a:pt x="969" y="1231"/>
                  </a:lnTo>
                  <a:lnTo>
                    <a:pt x="962" y="1224"/>
                  </a:lnTo>
                  <a:lnTo>
                    <a:pt x="955" y="1224"/>
                  </a:lnTo>
                  <a:lnTo>
                    <a:pt x="942" y="1224"/>
                  </a:lnTo>
                  <a:lnTo>
                    <a:pt x="936" y="1218"/>
                  </a:lnTo>
                  <a:lnTo>
                    <a:pt x="929" y="1218"/>
                  </a:lnTo>
                  <a:lnTo>
                    <a:pt x="922" y="1218"/>
                  </a:lnTo>
                  <a:lnTo>
                    <a:pt x="909" y="1211"/>
                  </a:lnTo>
                  <a:lnTo>
                    <a:pt x="903" y="1211"/>
                  </a:lnTo>
                  <a:lnTo>
                    <a:pt x="896" y="1211"/>
                  </a:lnTo>
                  <a:lnTo>
                    <a:pt x="889" y="1204"/>
                  </a:lnTo>
                  <a:lnTo>
                    <a:pt x="876" y="1204"/>
                  </a:lnTo>
                  <a:lnTo>
                    <a:pt x="870" y="1204"/>
                  </a:lnTo>
                  <a:lnTo>
                    <a:pt x="863" y="1198"/>
                  </a:lnTo>
                  <a:lnTo>
                    <a:pt x="857" y="1198"/>
                  </a:lnTo>
                  <a:lnTo>
                    <a:pt x="850" y="1198"/>
                  </a:lnTo>
                  <a:lnTo>
                    <a:pt x="837" y="1191"/>
                  </a:lnTo>
                  <a:lnTo>
                    <a:pt x="830" y="1191"/>
                  </a:lnTo>
                  <a:lnTo>
                    <a:pt x="824" y="1191"/>
                  </a:lnTo>
                  <a:lnTo>
                    <a:pt x="810" y="1191"/>
                  </a:lnTo>
                  <a:lnTo>
                    <a:pt x="804" y="1191"/>
                  </a:lnTo>
                  <a:lnTo>
                    <a:pt x="797" y="1185"/>
                  </a:lnTo>
                  <a:lnTo>
                    <a:pt x="791" y="1185"/>
                  </a:lnTo>
                  <a:lnTo>
                    <a:pt x="777" y="1185"/>
                  </a:lnTo>
                  <a:lnTo>
                    <a:pt x="771" y="1185"/>
                  </a:lnTo>
                  <a:lnTo>
                    <a:pt x="758" y="1191"/>
                  </a:lnTo>
                  <a:lnTo>
                    <a:pt x="751" y="1191"/>
                  </a:lnTo>
                  <a:lnTo>
                    <a:pt x="751" y="1198"/>
                  </a:lnTo>
                  <a:lnTo>
                    <a:pt x="744" y="1204"/>
                  </a:lnTo>
                  <a:lnTo>
                    <a:pt x="744" y="1204"/>
                  </a:lnTo>
                  <a:lnTo>
                    <a:pt x="738" y="1211"/>
                  </a:lnTo>
                  <a:lnTo>
                    <a:pt x="731" y="1218"/>
                  </a:lnTo>
                  <a:lnTo>
                    <a:pt x="731" y="1224"/>
                  </a:lnTo>
                  <a:lnTo>
                    <a:pt x="725" y="1224"/>
                  </a:lnTo>
                  <a:lnTo>
                    <a:pt x="725" y="1231"/>
                  </a:lnTo>
                  <a:lnTo>
                    <a:pt x="725" y="1237"/>
                  </a:lnTo>
                  <a:lnTo>
                    <a:pt x="725" y="1244"/>
                  </a:lnTo>
                  <a:lnTo>
                    <a:pt x="725" y="1250"/>
                  </a:lnTo>
                  <a:lnTo>
                    <a:pt x="725" y="1257"/>
                  </a:lnTo>
                  <a:lnTo>
                    <a:pt x="718" y="1264"/>
                  </a:lnTo>
                  <a:lnTo>
                    <a:pt x="718" y="1264"/>
                  </a:lnTo>
                  <a:lnTo>
                    <a:pt x="718" y="1270"/>
                  </a:lnTo>
                  <a:lnTo>
                    <a:pt x="718" y="1277"/>
                  </a:lnTo>
                  <a:lnTo>
                    <a:pt x="718" y="1283"/>
                  </a:lnTo>
                  <a:lnTo>
                    <a:pt x="718" y="1290"/>
                  </a:lnTo>
                  <a:lnTo>
                    <a:pt x="718" y="1297"/>
                  </a:lnTo>
                  <a:lnTo>
                    <a:pt x="718" y="1303"/>
                  </a:lnTo>
                  <a:lnTo>
                    <a:pt x="712" y="1303"/>
                  </a:lnTo>
                  <a:lnTo>
                    <a:pt x="712" y="1310"/>
                  </a:lnTo>
                  <a:lnTo>
                    <a:pt x="712" y="1316"/>
                  </a:lnTo>
                  <a:lnTo>
                    <a:pt x="712" y="1323"/>
                  </a:lnTo>
                  <a:lnTo>
                    <a:pt x="712" y="1329"/>
                  </a:lnTo>
                  <a:lnTo>
                    <a:pt x="712" y="1336"/>
                  </a:lnTo>
                  <a:lnTo>
                    <a:pt x="712" y="1343"/>
                  </a:lnTo>
                  <a:lnTo>
                    <a:pt x="705" y="1343"/>
                  </a:lnTo>
                  <a:lnTo>
                    <a:pt x="705" y="1349"/>
                  </a:lnTo>
                  <a:lnTo>
                    <a:pt x="705" y="1356"/>
                  </a:lnTo>
                  <a:lnTo>
                    <a:pt x="705" y="1362"/>
                  </a:lnTo>
                  <a:lnTo>
                    <a:pt x="705" y="1369"/>
                  </a:lnTo>
                  <a:lnTo>
                    <a:pt x="705" y="1376"/>
                  </a:lnTo>
                  <a:lnTo>
                    <a:pt x="705" y="1382"/>
                  </a:lnTo>
                  <a:lnTo>
                    <a:pt x="705" y="1382"/>
                  </a:lnTo>
                  <a:lnTo>
                    <a:pt x="698" y="1389"/>
                  </a:lnTo>
                  <a:lnTo>
                    <a:pt x="698" y="1395"/>
                  </a:lnTo>
                  <a:lnTo>
                    <a:pt x="698" y="1402"/>
                  </a:lnTo>
                  <a:lnTo>
                    <a:pt x="698" y="1408"/>
                  </a:lnTo>
                  <a:lnTo>
                    <a:pt x="698" y="1415"/>
                  </a:lnTo>
                  <a:lnTo>
                    <a:pt x="698" y="1422"/>
                  </a:lnTo>
                  <a:lnTo>
                    <a:pt x="698" y="1422"/>
                  </a:lnTo>
                  <a:lnTo>
                    <a:pt x="698" y="1428"/>
                  </a:lnTo>
                  <a:lnTo>
                    <a:pt x="725" y="1455"/>
                  </a:lnTo>
                  <a:lnTo>
                    <a:pt x="751" y="1481"/>
                  </a:lnTo>
                  <a:lnTo>
                    <a:pt x="784" y="1507"/>
                  </a:lnTo>
                  <a:lnTo>
                    <a:pt x="810" y="1540"/>
                  </a:lnTo>
                  <a:lnTo>
                    <a:pt x="837" y="1540"/>
                  </a:lnTo>
                  <a:lnTo>
                    <a:pt x="863" y="1566"/>
                  </a:lnTo>
                  <a:lnTo>
                    <a:pt x="889" y="1593"/>
                  </a:lnTo>
                  <a:lnTo>
                    <a:pt x="922" y="1619"/>
                  </a:lnTo>
                  <a:lnTo>
                    <a:pt x="949" y="1652"/>
                  </a:lnTo>
                  <a:lnTo>
                    <a:pt x="975" y="1678"/>
                  </a:lnTo>
                  <a:lnTo>
                    <a:pt x="1001" y="1705"/>
                  </a:lnTo>
                  <a:lnTo>
                    <a:pt x="1034" y="1731"/>
                  </a:lnTo>
                  <a:lnTo>
                    <a:pt x="1061" y="1731"/>
                  </a:lnTo>
                  <a:lnTo>
                    <a:pt x="1087" y="1731"/>
                  </a:lnTo>
                  <a:lnTo>
                    <a:pt x="1113" y="1731"/>
                  </a:lnTo>
                  <a:lnTo>
                    <a:pt x="1140" y="1731"/>
                  </a:lnTo>
                  <a:lnTo>
                    <a:pt x="1173" y="1731"/>
                  </a:lnTo>
                  <a:lnTo>
                    <a:pt x="1199" y="1731"/>
                  </a:lnTo>
                  <a:lnTo>
                    <a:pt x="1226" y="1731"/>
                  </a:lnTo>
                  <a:lnTo>
                    <a:pt x="1252" y="1731"/>
                  </a:lnTo>
                  <a:lnTo>
                    <a:pt x="1285" y="1731"/>
                  </a:lnTo>
                  <a:lnTo>
                    <a:pt x="1311" y="1731"/>
                  </a:lnTo>
                  <a:lnTo>
                    <a:pt x="1338" y="1731"/>
                  </a:lnTo>
                  <a:lnTo>
                    <a:pt x="1364" y="1731"/>
                  </a:lnTo>
                  <a:lnTo>
                    <a:pt x="1397" y="1731"/>
                  </a:lnTo>
                  <a:lnTo>
                    <a:pt x="1423" y="1731"/>
                  </a:lnTo>
                  <a:lnTo>
                    <a:pt x="1450" y="1731"/>
                  </a:lnTo>
                  <a:lnTo>
                    <a:pt x="1476" y="1731"/>
                  </a:lnTo>
                  <a:lnTo>
                    <a:pt x="1502" y="1731"/>
                  </a:lnTo>
                  <a:lnTo>
                    <a:pt x="1535" y="1731"/>
                  </a:lnTo>
                  <a:lnTo>
                    <a:pt x="1562" y="1731"/>
                  </a:lnTo>
                  <a:lnTo>
                    <a:pt x="1588" y="1731"/>
                  </a:lnTo>
                  <a:lnTo>
                    <a:pt x="1614" y="1731"/>
                  </a:lnTo>
                  <a:lnTo>
                    <a:pt x="1647" y="1731"/>
                  </a:lnTo>
                  <a:lnTo>
                    <a:pt x="1674" y="1731"/>
                  </a:lnTo>
                  <a:lnTo>
                    <a:pt x="1700" y="1731"/>
                  </a:lnTo>
                  <a:lnTo>
                    <a:pt x="1726" y="1731"/>
                  </a:lnTo>
                  <a:lnTo>
                    <a:pt x="1753" y="1731"/>
                  </a:lnTo>
                  <a:lnTo>
                    <a:pt x="1786" y="1731"/>
                  </a:lnTo>
                  <a:lnTo>
                    <a:pt x="1812" y="1731"/>
                  </a:lnTo>
                  <a:lnTo>
                    <a:pt x="1838" y="1731"/>
                  </a:lnTo>
                  <a:lnTo>
                    <a:pt x="1865" y="1731"/>
                  </a:lnTo>
                  <a:lnTo>
                    <a:pt x="1898" y="1731"/>
                  </a:lnTo>
                  <a:lnTo>
                    <a:pt x="1924" y="1731"/>
                  </a:lnTo>
                  <a:lnTo>
                    <a:pt x="1950" y="1731"/>
                  </a:lnTo>
                  <a:lnTo>
                    <a:pt x="1977" y="1731"/>
                  </a:lnTo>
                  <a:lnTo>
                    <a:pt x="2003" y="1731"/>
                  </a:lnTo>
                  <a:lnTo>
                    <a:pt x="2036" y="1731"/>
                  </a:lnTo>
                  <a:lnTo>
                    <a:pt x="2062" y="1731"/>
                  </a:lnTo>
                  <a:lnTo>
                    <a:pt x="2089" y="1731"/>
                  </a:lnTo>
                  <a:lnTo>
                    <a:pt x="2115" y="1731"/>
                  </a:lnTo>
                  <a:lnTo>
                    <a:pt x="2148" y="1731"/>
                  </a:lnTo>
                  <a:lnTo>
                    <a:pt x="2174" y="1731"/>
                  </a:lnTo>
                  <a:lnTo>
                    <a:pt x="2201" y="1731"/>
                  </a:lnTo>
                  <a:lnTo>
                    <a:pt x="2227" y="1731"/>
                  </a:lnTo>
                  <a:lnTo>
                    <a:pt x="2253" y="1731"/>
                  </a:lnTo>
                  <a:lnTo>
                    <a:pt x="2286" y="1731"/>
                  </a:lnTo>
                  <a:lnTo>
                    <a:pt x="2313" y="1731"/>
                  </a:lnTo>
                  <a:lnTo>
                    <a:pt x="2339" y="1731"/>
                  </a:lnTo>
                  <a:close/>
                  <a:moveTo>
                    <a:pt x="1252" y="1204"/>
                  </a:moveTo>
                  <a:lnTo>
                    <a:pt x="1245" y="1198"/>
                  </a:lnTo>
                  <a:lnTo>
                    <a:pt x="1245" y="1191"/>
                  </a:lnTo>
                  <a:lnTo>
                    <a:pt x="1239" y="1185"/>
                  </a:lnTo>
                  <a:lnTo>
                    <a:pt x="1239" y="1185"/>
                  </a:lnTo>
                  <a:lnTo>
                    <a:pt x="1239" y="1178"/>
                  </a:lnTo>
                  <a:lnTo>
                    <a:pt x="1245" y="1171"/>
                  </a:lnTo>
                  <a:lnTo>
                    <a:pt x="1245" y="1165"/>
                  </a:lnTo>
                  <a:lnTo>
                    <a:pt x="1252" y="1158"/>
                  </a:lnTo>
                  <a:lnTo>
                    <a:pt x="1258" y="1158"/>
                  </a:lnTo>
                  <a:lnTo>
                    <a:pt x="1265" y="1158"/>
                  </a:lnTo>
                  <a:lnTo>
                    <a:pt x="1272" y="1165"/>
                  </a:lnTo>
                  <a:lnTo>
                    <a:pt x="1272" y="1171"/>
                  </a:lnTo>
                  <a:lnTo>
                    <a:pt x="1278" y="1178"/>
                  </a:lnTo>
                  <a:lnTo>
                    <a:pt x="1278" y="1185"/>
                  </a:lnTo>
                  <a:lnTo>
                    <a:pt x="1272" y="1185"/>
                  </a:lnTo>
                  <a:lnTo>
                    <a:pt x="1272" y="1191"/>
                  </a:lnTo>
                  <a:lnTo>
                    <a:pt x="1265" y="1198"/>
                  </a:lnTo>
                  <a:lnTo>
                    <a:pt x="1258" y="1204"/>
                  </a:lnTo>
                  <a:lnTo>
                    <a:pt x="1252" y="1204"/>
                  </a:lnTo>
                  <a:lnTo>
                    <a:pt x="1252" y="1204"/>
                  </a:lnTo>
                  <a:close/>
                  <a:moveTo>
                    <a:pt x="1917" y="895"/>
                  </a:moveTo>
                  <a:lnTo>
                    <a:pt x="1924" y="888"/>
                  </a:lnTo>
                  <a:lnTo>
                    <a:pt x="1924" y="882"/>
                  </a:lnTo>
                  <a:lnTo>
                    <a:pt x="1931" y="875"/>
                  </a:lnTo>
                  <a:lnTo>
                    <a:pt x="1931" y="875"/>
                  </a:lnTo>
                  <a:lnTo>
                    <a:pt x="1931" y="869"/>
                  </a:lnTo>
                  <a:lnTo>
                    <a:pt x="1937" y="862"/>
                  </a:lnTo>
                  <a:lnTo>
                    <a:pt x="1944" y="855"/>
                  </a:lnTo>
                  <a:lnTo>
                    <a:pt x="1950" y="849"/>
                  </a:lnTo>
                  <a:lnTo>
                    <a:pt x="1950" y="842"/>
                  </a:lnTo>
                  <a:lnTo>
                    <a:pt x="1957" y="842"/>
                  </a:lnTo>
                  <a:lnTo>
                    <a:pt x="1957" y="836"/>
                  </a:lnTo>
                  <a:lnTo>
                    <a:pt x="1957" y="829"/>
                  </a:lnTo>
                  <a:lnTo>
                    <a:pt x="1957" y="823"/>
                  </a:lnTo>
                  <a:lnTo>
                    <a:pt x="1950" y="816"/>
                  </a:lnTo>
                  <a:lnTo>
                    <a:pt x="1950" y="809"/>
                  </a:lnTo>
                  <a:lnTo>
                    <a:pt x="1957" y="809"/>
                  </a:lnTo>
                  <a:lnTo>
                    <a:pt x="1964" y="803"/>
                  </a:lnTo>
                  <a:lnTo>
                    <a:pt x="1964" y="796"/>
                  </a:lnTo>
                  <a:lnTo>
                    <a:pt x="1970" y="790"/>
                  </a:lnTo>
                  <a:lnTo>
                    <a:pt x="1970" y="783"/>
                  </a:lnTo>
                  <a:lnTo>
                    <a:pt x="1977" y="783"/>
                  </a:lnTo>
                  <a:lnTo>
                    <a:pt x="1983" y="776"/>
                  </a:lnTo>
                  <a:lnTo>
                    <a:pt x="1990" y="770"/>
                  </a:lnTo>
                  <a:lnTo>
                    <a:pt x="1996" y="763"/>
                  </a:lnTo>
                  <a:lnTo>
                    <a:pt x="2003" y="757"/>
                  </a:lnTo>
                  <a:lnTo>
                    <a:pt x="2003" y="757"/>
                  </a:lnTo>
                  <a:lnTo>
                    <a:pt x="2003" y="750"/>
                  </a:lnTo>
                  <a:lnTo>
                    <a:pt x="2003" y="744"/>
                  </a:lnTo>
                  <a:lnTo>
                    <a:pt x="2003" y="737"/>
                  </a:lnTo>
                  <a:lnTo>
                    <a:pt x="2003" y="730"/>
                  </a:lnTo>
                  <a:lnTo>
                    <a:pt x="2003" y="724"/>
                  </a:lnTo>
                  <a:lnTo>
                    <a:pt x="2003" y="717"/>
                  </a:lnTo>
                  <a:lnTo>
                    <a:pt x="2010" y="711"/>
                  </a:lnTo>
                  <a:lnTo>
                    <a:pt x="2010" y="704"/>
                  </a:lnTo>
                  <a:lnTo>
                    <a:pt x="2010" y="704"/>
                  </a:lnTo>
                  <a:lnTo>
                    <a:pt x="2016" y="697"/>
                  </a:lnTo>
                  <a:lnTo>
                    <a:pt x="2016" y="691"/>
                  </a:lnTo>
                  <a:lnTo>
                    <a:pt x="2016" y="684"/>
                  </a:lnTo>
                  <a:lnTo>
                    <a:pt x="2023" y="678"/>
                  </a:lnTo>
                  <a:lnTo>
                    <a:pt x="2023" y="671"/>
                  </a:lnTo>
                  <a:lnTo>
                    <a:pt x="2023" y="664"/>
                  </a:lnTo>
                  <a:lnTo>
                    <a:pt x="2023" y="658"/>
                  </a:lnTo>
                  <a:lnTo>
                    <a:pt x="2029" y="651"/>
                  </a:lnTo>
                  <a:lnTo>
                    <a:pt x="2029" y="651"/>
                  </a:lnTo>
                  <a:lnTo>
                    <a:pt x="2036" y="645"/>
                  </a:lnTo>
                  <a:lnTo>
                    <a:pt x="2043" y="638"/>
                  </a:lnTo>
                  <a:lnTo>
                    <a:pt x="2049" y="632"/>
                  </a:lnTo>
                  <a:lnTo>
                    <a:pt x="2049" y="625"/>
                  </a:lnTo>
                  <a:lnTo>
                    <a:pt x="2056" y="625"/>
                  </a:lnTo>
                  <a:lnTo>
                    <a:pt x="2056" y="618"/>
                  </a:lnTo>
                  <a:lnTo>
                    <a:pt x="2056" y="612"/>
                  </a:lnTo>
                  <a:lnTo>
                    <a:pt x="2056" y="605"/>
                  </a:lnTo>
                  <a:lnTo>
                    <a:pt x="2056" y="599"/>
                  </a:lnTo>
                  <a:lnTo>
                    <a:pt x="2056" y="592"/>
                  </a:lnTo>
                  <a:lnTo>
                    <a:pt x="2056" y="585"/>
                  </a:lnTo>
                  <a:lnTo>
                    <a:pt x="2062" y="579"/>
                  </a:lnTo>
                  <a:lnTo>
                    <a:pt x="2062" y="572"/>
                  </a:lnTo>
                  <a:lnTo>
                    <a:pt x="2069" y="572"/>
                  </a:lnTo>
                  <a:lnTo>
                    <a:pt x="2069" y="566"/>
                  </a:lnTo>
                  <a:lnTo>
                    <a:pt x="2076" y="559"/>
                  </a:lnTo>
                  <a:lnTo>
                    <a:pt x="2076" y="553"/>
                  </a:lnTo>
                  <a:lnTo>
                    <a:pt x="2076" y="546"/>
                  </a:lnTo>
                  <a:lnTo>
                    <a:pt x="2076" y="539"/>
                  </a:lnTo>
                  <a:lnTo>
                    <a:pt x="2076" y="533"/>
                  </a:lnTo>
                  <a:lnTo>
                    <a:pt x="2076" y="526"/>
                  </a:lnTo>
                  <a:lnTo>
                    <a:pt x="2076" y="520"/>
                  </a:lnTo>
                  <a:lnTo>
                    <a:pt x="2076" y="513"/>
                  </a:lnTo>
                  <a:lnTo>
                    <a:pt x="2076" y="513"/>
                  </a:lnTo>
                  <a:lnTo>
                    <a:pt x="2076" y="506"/>
                  </a:lnTo>
                  <a:lnTo>
                    <a:pt x="2082" y="500"/>
                  </a:lnTo>
                  <a:lnTo>
                    <a:pt x="2089" y="493"/>
                  </a:lnTo>
                  <a:lnTo>
                    <a:pt x="2095" y="493"/>
                  </a:lnTo>
                  <a:lnTo>
                    <a:pt x="2108" y="493"/>
                  </a:lnTo>
                  <a:lnTo>
                    <a:pt x="2115" y="500"/>
                  </a:lnTo>
                  <a:lnTo>
                    <a:pt x="2122" y="500"/>
                  </a:lnTo>
                  <a:lnTo>
                    <a:pt x="2128" y="506"/>
                  </a:lnTo>
                  <a:lnTo>
                    <a:pt x="2135" y="513"/>
                  </a:lnTo>
                  <a:lnTo>
                    <a:pt x="2141" y="520"/>
                  </a:lnTo>
                  <a:lnTo>
                    <a:pt x="2148" y="520"/>
                  </a:lnTo>
                  <a:lnTo>
                    <a:pt x="2155" y="520"/>
                  </a:lnTo>
                  <a:lnTo>
                    <a:pt x="2161" y="526"/>
                  </a:lnTo>
                  <a:lnTo>
                    <a:pt x="2174" y="526"/>
                  </a:lnTo>
                  <a:lnTo>
                    <a:pt x="2181" y="533"/>
                  </a:lnTo>
                  <a:lnTo>
                    <a:pt x="2181" y="533"/>
                  </a:lnTo>
                  <a:lnTo>
                    <a:pt x="2188" y="539"/>
                  </a:lnTo>
                  <a:lnTo>
                    <a:pt x="2188" y="546"/>
                  </a:lnTo>
                  <a:lnTo>
                    <a:pt x="2194" y="553"/>
                  </a:lnTo>
                  <a:lnTo>
                    <a:pt x="2201" y="559"/>
                  </a:lnTo>
                  <a:lnTo>
                    <a:pt x="2214" y="559"/>
                  </a:lnTo>
                  <a:lnTo>
                    <a:pt x="2214" y="559"/>
                  </a:lnTo>
                  <a:lnTo>
                    <a:pt x="2207" y="566"/>
                  </a:lnTo>
                  <a:lnTo>
                    <a:pt x="2201" y="572"/>
                  </a:lnTo>
                  <a:lnTo>
                    <a:pt x="2194" y="579"/>
                  </a:lnTo>
                  <a:lnTo>
                    <a:pt x="2188" y="579"/>
                  </a:lnTo>
                  <a:lnTo>
                    <a:pt x="2181" y="585"/>
                  </a:lnTo>
                  <a:lnTo>
                    <a:pt x="2181" y="592"/>
                  </a:lnTo>
                  <a:lnTo>
                    <a:pt x="2174" y="599"/>
                  </a:lnTo>
                  <a:lnTo>
                    <a:pt x="2168" y="599"/>
                  </a:lnTo>
                  <a:lnTo>
                    <a:pt x="2161" y="605"/>
                  </a:lnTo>
                  <a:lnTo>
                    <a:pt x="2155" y="612"/>
                  </a:lnTo>
                  <a:lnTo>
                    <a:pt x="2148" y="612"/>
                  </a:lnTo>
                  <a:lnTo>
                    <a:pt x="2141" y="618"/>
                  </a:lnTo>
                  <a:lnTo>
                    <a:pt x="2141" y="625"/>
                  </a:lnTo>
                  <a:lnTo>
                    <a:pt x="2141" y="632"/>
                  </a:lnTo>
                  <a:lnTo>
                    <a:pt x="2141" y="638"/>
                  </a:lnTo>
                  <a:lnTo>
                    <a:pt x="2141" y="645"/>
                  </a:lnTo>
                  <a:lnTo>
                    <a:pt x="2141" y="651"/>
                  </a:lnTo>
                  <a:lnTo>
                    <a:pt x="2141" y="658"/>
                  </a:lnTo>
                  <a:lnTo>
                    <a:pt x="2141" y="664"/>
                  </a:lnTo>
                  <a:lnTo>
                    <a:pt x="2148" y="664"/>
                  </a:lnTo>
                  <a:lnTo>
                    <a:pt x="2148" y="671"/>
                  </a:lnTo>
                  <a:lnTo>
                    <a:pt x="2148" y="678"/>
                  </a:lnTo>
                  <a:lnTo>
                    <a:pt x="2148" y="684"/>
                  </a:lnTo>
                  <a:lnTo>
                    <a:pt x="2148" y="691"/>
                  </a:lnTo>
                  <a:lnTo>
                    <a:pt x="2148" y="697"/>
                  </a:lnTo>
                  <a:lnTo>
                    <a:pt x="2148" y="704"/>
                  </a:lnTo>
                  <a:lnTo>
                    <a:pt x="2148" y="711"/>
                  </a:lnTo>
                  <a:lnTo>
                    <a:pt x="2148" y="717"/>
                  </a:lnTo>
                  <a:lnTo>
                    <a:pt x="2148" y="724"/>
                  </a:lnTo>
                  <a:lnTo>
                    <a:pt x="2155" y="730"/>
                  </a:lnTo>
                  <a:lnTo>
                    <a:pt x="2155" y="730"/>
                  </a:lnTo>
                  <a:lnTo>
                    <a:pt x="2155" y="737"/>
                  </a:lnTo>
                  <a:lnTo>
                    <a:pt x="2161" y="744"/>
                  </a:lnTo>
                  <a:lnTo>
                    <a:pt x="2161" y="750"/>
                  </a:lnTo>
                  <a:lnTo>
                    <a:pt x="2161" y="757"/>
                  </a:lnTo>
                  <a:lnTo>
                    <a:pt x="2161" y="763"/>
                  </a:lnTo>
                  <a:lnTo>
                    <a:pt x="2155" y="770"/>
                  </a:lnTo>
                  <a:lnTo>
                    <a:pt x="2155" y="776"/>
                  </a:lnTo>
                  <a:lnTo>
                    <a:pt x="2148" y="783"/>
                  </a:lnTo>
                  <a:lnTo>
                    <a:pt x="2148" y="790"/>
                  </a:lnTo>
                  <a:lnTo>
                    <a:pt x="2155" y="796"/>
                  </a:lnTo>
                  <a:lnTo>
                    <a:pt x="2155" y="796"/>
                  </a:lnTo>
                  <a:lnTo>
                    <a:pt x="2155" y="803"/>
                  </a:lnTo>
                  <a:lnTo>
                    <a:pt x="2148" y="809"/>
                  </a:lnTo>
                  <a:lnTo>
                    <a:pt x="2141" y="816"/>
                  </a:lnTo>
                  <a:lnTo>
                    <a:pt x="2141" y="823"/>
                  </a:lnTo>
                  <a:lnTo>
                    <a:pt x="2135" y="829"/>
                  </a:lnTo>
                  <a:lnTo>
                    <a:pt x="2135" y="836"/>
                  </a:lnTo>
                  <a:lnTo>
                    <a:pt x="2135" y="836"/>
                  </a:lnTo>
                  <a:lnTo>
                    <a:pt x="2135" y="842"/>
                  </a:lnTo>
                  <a:lnTo>
                    <a:pt x="2135" y="849"/>
                  </a:lnTo>
                  <a:lnTo>
                    <a:pt x="2135" y="855"/>
                  </a:lnTo>
                  <a:lnTo>
                    <a:pt x="2135" y="862"/>
                  </a:lnTo>
                  <a:lnTo>
                    <a:pt x="2135" y="869"/>
                  </a:lnTo>
                  <a:lnTo>
                    <a:pt x="2128" y="875"/>
                  </a:lnTo>
                  <a:lnTo>
                    <a:pt x="2128" y="882"/>
                  </a:lnTo>
                  <a:lnTo>
                    <a:pt x="2122" y="888"/>
                  </a:lnTo>
                  <a:lnTo>
                    <a:pt x="2115" y="888"/>
                  </a:lnTo>
                  <a:lnTo>
                    <a:pt x="2108" y="895"/>
                  </a:lnTo>
                  <a:lnTo>
                    <a:pt x="2102" y="895"/>
                  </a:lnTo>
                  <a:lnTo>
                    <a:pt x="2089" y="895"/>
                  </a:lnTo>
                  <a:lnTo>
                    <a:pt x="2082" y="895"/>
                  </a:lnTo>
                  <a:lnTo>
                    <a:pt x="2069" y="895"/>
                  </a:lnTo>
                  <a:lnTo>
                    <a:pt x="2062" y="895"/>
                  </a:lnTo>
                  <a:lnTo>
                    <a:pt x="2056" y="895"/>
                  </a:lnTo>
                  <a:lnTo>
                    <a:pt x="2043" y="895"/>
                  </a:lnTo>
                  <a:lnTo>
                    <a:pt x="2036" y="895"/>
                  </a:lnTo>
                  <a:lnTo>
                    <a:pt x="2023" y="895"/>
                  </a:lnTo>
                  <a:lnTo>
                    <a:pt x="2016" y="895"/>
                  </a:lnTo>
                  <a:lnTo>
                    <a:pt x="2010" y="895"/>
                  </a:lnTo>
                  <a:lnTo>
                    <a:pt x="1996" y="895"/>
                  </a:lnTo>
                  <a:lnTo>
                    <a:pt x="1990" y="895"/>
                  </a:lnTo>
                  <a:lnTo>
                    <a:pt x="1977" y="895"/>
                  </a:lnTo>
                  <a:lnTo>
                    <a:pt x="1970" y="895"/>
                  </a:lnTo>
                  <a:lnTo>
                    <a:pt x="1964" y="895"/>
                  </a:lnTo>
                  <a:lnTo>
                    <a:pt x="1950" y="902"/>
                  </a:lnTo>
                  <a:lnTo>
                    <a:pt x="1944" y="902"/>
                  </a:lnTo>
                  <a:lnTo>
                    <a:pt x="1931" y="902"/>
                  </a:lnTo>
                  <a:lnTo>
                    <a:pt x="1924" y="902"/>
                  </a:lnTo>
                  <a:lnTo>
                    <a:pt x="1917" y="895"/>
                  </a:lnTo>
                  <a:close/>
                  <a:moveTo>
                    <a:pt x="1265" y="869"/>
                  </a:moveTo>
                  <a:lnTo>
                    <a:pt x="1265" y="862"/>
                  </a:lnTo>
                  <a:lnTo>
                    <a:pt x="1265" y="855"/>
                  </a:lnTo>
                  <a:lnTo>
                    <a:pt x="1265" y="849"/>
                  </a:lnTo>
                  <a:lnTo>
                    <a:pt x="1265" y="842"/>
                  </a:lnTo>
                  <a:lnTo>
                    <a:pt x="1265" y="836"/>
                  </a:lnTo>
                  <a:lnTo>
                    <a:pt x="1265" y="836"/>
                  </a:lnTo>
                  <a:lnTo>
                    <a:pt x="1265" y="829"/>
                  </a:lnTo>
                  <a:lnTo>
                    <a:pt x="1265" y="823"/>
                  </a:lnTo>
                  <a:lnTo>
                    <a:pt x="1265" y="816"/>
                  </a:lnTo>
                  <a:lnTo>
                    <a:pt x="1265" y="809"/>
                  </a:lnTo>
                  <a:lnTo>
                    <a:pt x="1258" y="803"/>
                  </a:lnTo>
                  <a:lnTo>
                    <a:pt x="1252" y="803"/>
                  </a:lnTo>
                  <a:lnTo>
                    <a:pt x="1252" y="803"/>
                  </a:lnTo>
                  <a:lnTo>
                    <a:pt x="1245" y="809"/>
                  </a:lnTo>
                  <a:lnTo>
                    <a:pt x="1245" y="816"/>
                  </a:lnTo>
                  <a:lnTo>
                    <a:pt x="1239" y="823"/>
                  </a:lnTo>
                  <a:lnTo>
                    <a:pt x="1232" y="829"/>
                  </a:lnTo>
                  <a:lnTo>
                    <a:pt x="1232" y="836"/>
                  </a:lnTo>
                  <a:lnTo>
                    <a:pt x="1232" y="836"/>
                  </a:lnTo>
                  <a:lnTo>
                    <a:pt x="1232" y="842"/>
                  </a:lnTo>
                  <a:lnTo>
                    <a:pt x="1239" y="849"/>
                  </a:lnTo>
                  <a:lnTo>
                    <a:pt x="1239" y="855"/>
                  </a:lnTo>
                  <a:lnTo>
                    <a:pt x="1245" y="855"/>
                  </a:lnTo>
                  <a:lnTo>
                    <a:pt x="1252" y="862"/>
                  </a:lnTo>
                  <a:lnTo>
                    <a:pt x="1252" y="869"/>
                  </a:lnTo>
                  <a:lnTo>
                    <a:pt x="1265" y="869"/>
                  </a:lnTo>
                  <a:close/>
                  <a:moveTo>
                    <a:pt x="1812" y="869"/>
                  </a:moveTo>
                  <a:lnTo>
                    <a:pt x="1819" y="869"/>
                  </a:lnTo>
                  <a:lnTo>
                    <a:pt x="1825" y="862"/>
                  </a:lnTo>
                  <a:lnTo>
                    <a:pt x="1832" y="862"/>
                  </a:lnTo>
                  <a:lnTo>
                    <a:pt x="1838" y="862"/>
                  </a:lnTo>
                  <a:lnTo>
                    <a:pt x="1845" y="862"/>
                  </a:lnTo>
                  <a:lnTo>
                    <a:pt x="1851" y="862"/>
                  </a:lnTo>
                  <a:lnTo>
                    <a:pt x="1858" y="862"/>
                  </a:lnTo>
                  <a:lnTo>
                    <a:pt x="1865" y="855"/>
                  </a:lnTo>
                  <a:lnTo>
                    <a:pt x="1871" y="855"/>
                  </a:lnTo>
                  <a:lnTo>
                    <a:pt x="1878" y="855"/>
                  </a:lnTo>
                  <a:lnTo>
                    <a:pt x="1878" y="849"/>
                  </a:lnTo>
                  <a:lnTo>
                    <a:pt x="1884" y="849"/>
                  </a:lnTo>
                  <a:lnTo>
                    <a:pt x="1884" y="842"/>
                  </a:lnTo>
                  <a:lnTo>
                    <a:pt x="1891" y="836"/>
                  </a:lnTo>
                  <a:lnTo>
                    <a:pt x="1898" y="836"/>
                  </a:lnTo>
                  <a:lnTo>
                    <a:pt x="1904" y="836"/>
                  </a:lnTo>
                  <a:lnTo>
                    <a:pt x="1911" y="836"/>
                  </a:lnTo>
                  <a:lnTo>
                    <a:pt x="1917" y="836"/>
                  </a:lnTo>
                  <a:lnTo>
                    <a:pt x="1917" y="842"/>
                  </a:lnTo>
                  <a:lnTo>
                    <a:pt x="1911" y="842"/>
                  </a:lnTo>
                  <a:lnTo>
                    <a:pt x="1904" y="849"/>
                  </a:lnTo>
                  <a:lnTo>
                    <a:pt x="1898" y="849"/>
                  </a:lnTo>
                  <a:lnTo>
                    <a:pt x="1891" y="855"/>
                  </a:lnTo>
                  <a:lnTo>
                    <a:pt x="1891" y="855"/>
                  </a:lnTo>
                  <a:lnTo>
                    <a:pt x="1884" y="862"/>
                  </a:lnTo>
                  <a:lnTo>
                    <a:pt x="1884" y="869"/>
                  </a:lnTo>
                  <a:lnTo>
                    <a:pt x="1878" y="869"/>
                  </a:lnTo>
                  <a:lnTo>
                    <a:pt x="1878" y="875"/>
                  </a:lnTo>
                  <a:lnTo>
                    <a:pt x="1871" y="875"/>
                  </a:lnTo>
                  <a:lnTo>
                    <a:pt x="1865" y="875"/>
                  </a:lnTo>
                  <a:lnTo>
                    <a:pt x="1858" y="875"/>
                  </a:lnTo>
                  <a:lnTo>
                    <a:pt x="1851" y="875"/>
                  </a:lnTo>
                  <a:lnTo>
                    <a:pt x="1845" y="875"/>
                  </a:lnTo>
                  <a:lnTo>
                    <a:pt x="1838" y="875"/>
                  </a:lnTo>
                  <a:lnTo>
                    <a:pt x="1832" y="869"/>
                  </a:lnTo>
                  <a:lnTo>
                    <a:pt x="1825" y="869"/>
                  </a:lnTo>
                  <a:lnTo>
                    <a:pt x="1819" y="869"/>
                  </a:lnTo>
                  <a:lnTo>
                    <a:pt x="1812" y="869"/>
                  </a:lnTo>
                  <a:close/>
                  <a:moveTo>
                    <a:pt x="422" y="842"/>
                  </a:moveTo>
                  <a:lnTo>
                    <a:pt x="428" y="836"/>
                  </a:lnTo>
                  <a:lnTo>
                    <a:pt x="435" y="829"/>
                  </a:lnTo>
                  <a:lnTo>
                    <a:pt x="435" y="823"/>
                  </a:lnTo>
                  <a:lnTo>
                    <a:pt x="441" y="823"/>
                  </a:lnTo>
                  <a:lnTo>
                    <a:pt x="441" y="816"/>
                  </a:lnTo>
                  <a:lnTo>
                    <a:pt x="435" y="809"/>
                  </a:lnTo>
                  <a:lnTo>
                    <a:pt x="435" y="803"/>
                  </a:lnTo>
                  <a:lnTo>
                    <a:pt x="428" y="803"/>
                  </a:lnTo>
                  <a:lnTo>
                    <a:pt x="422" y="803"/>
                  </a:lnTo>
                  <a:lnTo>
                    <a:pt x="408" y="803"/>
                  </a:lnTo>
                  <a:lnTo>
                    <a:pt x="402" y="803"/>
                  </a:lnTo>
                  <a:lnTo>
                    <a:pt x="402" y="809"/>
                  </a:lnTo>
                  <a:lnTo>
                    <a:pt x="395" y="816"/>
                  </a:lnTo>
                  <a:lnTo>
                    <a:pt x="395" y="823"/>
                  </a:lnTo>
                  <a:lnTo>
                    <a:pt x="402" y="823"/>
                  </a:lnTo>
                  <a:lnTo>
                    <a:pt x="402" y="829"/>
                  </a:lnTo>
                  <a:lnTo>
                    <a:pt x="408" y="836"/>
                  </a:lnTo>
                  <a:lnTo>
                    <a:pt x="415" y="836"/>
                  </a:lnTo>
                  <a:lnTo>
                    <a:pt x="422" y="842"/>
                  </a:lnTo>
                  <a:lnTo>
                    <a:pt x="422" y="842"/>
                  </a:lnTo>
                  <a:close/>
                  <a:moveTo>
                    <a:pt x="1977" y="809"/>
                  </a:moveTo>
                  <a:lnTo>
                    <a:pt x="1983" y="803"/>
                  </a:lnTo>
                  <a:lnTo>
                    <a:pt x="1983" y="803"/>
                  </a:lnTo>
                  <a:lnTo>
                    <a:pt x="1977" y="796"/>
                  </a:lnTo>
                  <a:lnTo>
                    <a:pt x="1977" y="796"/>
                  </a:lnTo>
                  <a:lnTo>
                    <a:pt x="1970" y="796"/>
                  </a:lnTo>
                  <a:lnTo>
                    <a:pt x="1964" y="803"/>
                  </a:lnTo>
                  <a:lnTo>
                    <a:pt x="1964" y="803"/>
                  </a:lnTo>
                  <a:lnTo>
                    <a:pt x="1957" y="809"/>
                  </a:lnTo>
                  <a:lnTo>
                    <a:pt x="1957" y="809"/>
                  </a:lnTo>
                  <a:lnTo>
                    <a:pt x="1957" y="816"/>
                  </a:lnTo>
                  <a:lnTo>
                    <a:pt x="1964" y="816"/>
                  </a:lnTo>
                  <a:lnTo>
                    <a:pt x="1970" y="816"/>
                  </a:lnTo>
                  <a:lnTo>
                    <a:pt x="1977" y="816"/>
                  </a:lnTo>
                  <a:lnTo>
                    <a:pt x="1977" y="809"/>
                  </a:lnTo>
                  <a:close/>
                  <a:moveTo>
                    <a:pt x="1482" y="783"/>
                  </a:moveTo>
                  <a:lnTo>
                    <a:pt x="1476" y="770"/>
                  </a:lnTo>
                  <a:lnTo>
                    <a:pt x="1476" y="763"/>
                  </a:lnTo>
                  <a:lnTo>
                    <a:pt x="1476" y="763"/>
                  </a:lnTo>
                  <a:lnTo>
                    <a:pt x="1476" y="763"/>
                  </a:lnTo>
                  <a:lnTo>
                    <a:pt x="1476" y="763"/>
                  </a:lnTo>
                  <a:lnTo>
                    <a:pt x="1476" y="770"/>
                  </a:lnTo>
                  <a:lnTo>
                    <a:pt x="1476" y="783"/>
                  </a:lnTo>
                  <a:lnTo>
                    <a:pt x="1476" y="790"/>
                  </a:lnTo>
                  <a:lnTo>
                    <a:pt x="1476" y="796"/>
                  </a:lnTo>
                  <a:lnTo>
                    <a:pt x="1476" y="803"/>
                  </a:lnTo>
                  <a:lnTo>
                    <a:pt x="1476" y="803"/>
                  </a:lnTo>
                  <a:lnTo>
                    <a:pt x="1476" y="803"/>
                  </a:lnTo>
                  <a:lnTo>
                    <a:pt x="1476" y="796"/>
                  </a:lnTo>
                  <a:lnTo>
                    <a:pt x="1482" y="783"/>
                  </a:lnTo>
                  <a:close/>
                  <a:moveTo>
                    <a:pt x="1595" y="783"/>
                  </a:moveTo>
                  <a:lnTo>
                    <a:pt x="1595" y="776"/>
                  </a:lnTo>
                  <a:lnTo>
                    <a:pt x="1601" y="770"/>
                  </a:lnTo>
                  <a:lnTo>
                    <a:pt x="1601" y="763"/>
                  </a:lnTo>
                  <a:lnTo>
                    <a:pt x="1601" y="757"/>
                  </a:lnTo>
                  <a:lnTo>
                    <a:pt x="1601" y="750"/>
                  </a:lnTo>
                  <a:lnTo>
                    <a:pt x="1601" y="744"/>
                  </a:lnTo>
                  <a:lnTo>
                    <a:pt x="1601" y="737"/>
                  </a:lnTo>
                  <a:lnTo>
                    <a:pt x="1595" y="730"/>
                  </a:lnTo>
                  <a:lnTo>
                    <a:pt x="1595" y="724"/>
                  </a:lnTo>
                  <a:lnTo>
                    <a:pt x="1595" y="717"/>
                  </a:lnTo>
                  <a:lnTo>
                    <a:pt x="1595" y="711"/>
                  </a:lnTo>
                  <a:lnTo>
                    <a:pt x="1595" y="704"/>
                  </a:lnTo>
                  <a:lnTo>
                    <a:pt x="1588" y="697"/>
                  </a:lnTo>
                  <a:lnTo>
                    <a:pt x="1588" y="691"/>
                  </a:lnTo>
                  <a:lnTo>
                    <a:pt x="1588" y="684"/>
                  </a:lnTo>
                  <a:lnTo>
                    <a:pt x="1588" y="691"/>
                  </a:lnTo>
                  <a:lnTo>
                    <a:pt x="1588" y="697"/>
                  </a:lnTo>
                  <a:lnTo>
                    <a:pt x="1581" y="704"/>
                  </a:lnTo>
                  <a:lnTo>
                    <a:pt x="1581" y="711"/>
                  </a:lnTo>
                  <a:lnTo>
                    <a:pt x="1581" y="717"/>
                  </a:lnTo>
                  <a:lnTo>
                    <a:pt x="1581" y="724"/>
                  </a:lnTo>
                  <a:lnTo>
                    <a:pt x="1575" y="730"/>
                  </a:lnTo>
                  <a:lnTo>
                    <a:pt x="1575" y="737"/>
                  </a:lnTo>
                  <a:lnTo>
                    <a:pt x="1575" y="744"/>
                  </a:lnTo>
                  <a:lnTo>
                    <a:pt x="1575" y="750"/>
                  </a:lnTo>
                  <a:lnTo>
                    <a:pt x="1568" y="757"/>
                  </a:lnTo>
                  <a:lnTo>
                    <a:pt x="1568" y="763"/>
                  </a:lnTo>
                  <a:lnTo>
                    <a:pt x="1568" y="770"/>
                  </a:lnTo>
                  <a:lnTo>
                    <a:pt x="1575" y="776"/>
                  </a:lnTo>
                  <a:lnTo>
                    <a:pt x="1575" y="783"/>
                  </a:lnTo>
                  <a:lnTo>
                    <a:pt x="1588" y="790"/>
                  </a:lnTo>
                  <a:lnTo>
                    <a:pt x="1595" y="783"/>
                  </a:lnTo>
                  <a:close/>
                  <a:moveTo>
                    <a:pt x="389" y="730"/>
                  </a:moveTo>
                  <a:lnTo>
                    <a:pt x="402" y="724"/>
                  </a:lnTo>
                  <a:lnTo>
                    <a:pt x="408" y="724"/>
                  </a:lnTo>
                  <a:lnTo>
                    <a:pt x="415" y="717"/>
                  </a:lnTo>
                  <a:lnTo>
                    <a:pt x="422" y="711"/>
                  </a:lnTo>
                  <a:lnTo>
                    <a:pt x="422" y="711"/>
                  </a:lnTo>
                  <a:lnTo>
                    <a:pt x="428" y="704"/>
                  </a:lnTo>
                  <a:lnTo>
                    <a:pt x="435" y="697"/>
                  </a:lnTo>
                  <a:lnTo>
                    <a:pt x="441" y="697"/>
                  </a:lnTo>
                  <a:lnTo>
                    <a:pt x="448" y="691"/>
                  </a:lnTo>
                  <a:lnTo>
                    <a:pt x="455" y="691"/>
                  </a:lnTo>
                  <a:lnTo>
                    <a:pt x="461" y="684"/>
                  </a:lnTo>
                  <a:lnTo>
                    <a:pt x="468" y="678"/>
                  </a:lnTo>
                  <a:lnTo>
                    <a:pt x="468" y="678"/>
                  </a:lnTo>
                  <a:lnTo>
                    <a:pt x="474" y="671"/>
                  </a:lnTo>
                  <a:lnTo>
                    <a:pt x="474" y="664"/>
                  </a:lnTo>
                  <a:lnTo>
                    <a:pt x="481" y="658"/>
                  </a:lnTo>
                  <a:lnTo>
                    <a:pt x="487" y="658"/>
                  </a:lnTo>
                  <a:lnTo>
                    <a:pt x="494" y="651"/>
                  </a:lnTo>
                  <a:lnTo>
                    <a:pt x="494" y="645"/>
                  </a:lnTo>
                  <a:lnTo>
                    <a:pt x="494" y="638"/>
                  </a:lnTo>
                  <a:lnTo>
                    <a:pt x="501" y="638"/>
                  </a:lnTo>
                  <a:lnTo>
                    <a:pt x="501" y="632"/>
                  </a:lnTo>
                  <a:lnTo>
                    <a:pt x="507" y="625"/>
                  </a:lnTo>
                  <a:lnTo>
                    <a:pt x="520" y="625"/>
                  </a:lnTo>
                  <a:lnTo>
                    <a:pt x="527" y="625"/>
                  </a:lnTo>
                  <a:lnTo>
                    <a:pt x="534" y="625"/>
                  </a:lnTo>
                  <a:lnTo>
                    <a:pt x="540" y="632"/>
                  </a:lnTo>
                  <a:lnTo>
                    <a:pt x="547" y="638"/>
                  </a:lnTo>
                  <a:lnTo>
                    <a:pt x="547" y="645"/>
                  </a:lnTo>
                  <a:lnTo>
                    <a:pt x="547" y="651"/>
                  </a:lnTo>
                  <a:lnTo>
                    <a:pt x="553" y="651"/>
                  </a:lnTo>
                  <a:lnTo>
                    <a:pt x="553" y="658"/>
                  </a:lnTo>
                  <a:lnTo>
                    <a:pt x="553" y="664"/>
                  </a:lnTo>
                  <a:lnTo>
                    <a:pt x="553" y="671"/>
                  </a:lnTo>
                  <a:lnTo>
                    <a:pt x="560" y="678"/>
                  </a:lnTo>
                  <a:lnTo>
                    <a:pt x="567" y="678"/>
                  </a:lnTo>
                  <a:lnTo>
                    <a:pt x="573" y="671"/>
                  </a:lnTo>
                  <a:lnTo>
                    <a:pt x="580" y="671"/>
                  </a:lnTo>
                  <a:lnTo>
                    <a:pt x="586" y="664"/>
                  </a:lnTo>
                  <a:lnTo>
                    <a:pt x="593" y="664"/>
                  </a:lnTo>
                  <a:lnTo>
                    <a:pt x="600" y="658"/>
                  </a:lnTo>
                  <a:lnTo>
                    <a:pt x="600" y="651"/>
                  </a:lnTo>
                  <a:lnTo>
                    <a:pt x="600" y="645"/>
                  </a:lnTo>
                  <a:lnTo>
                    <a:pt x="600" y="638"/>
                  </a:lnTo>
                  <a:lnTo>
                    <a:pt x="600" y="632"/>
                  </a:lnTo>
                  <a:lnTo>
                    <a:pt x="600" y="625"/>
                  </a:lnTo>
                  <a:lnTo>
                    <a:pt x="600" y="625"/>
                  </a:lnTo>
                  <a:lnTo>
                    <a:pt x="600" y="618"/>
                  </a:lnTo>
                  <a:lnTo>
                    <a:pt x="600" y="612"/>
                  </a:lnTo>
                  <a:lnTo>
                    <a:pt x="600" y="605"/>
                  </a:lnTo>
                  <a:lnTo>
                    <a:pt x="600" y="599"/>
                  </a:lnTo>
                  <a:lnTo>
                    <a:pt x="600" y="592"/>
                  </a:lnTo>
                  <a:lnTo>
                    <a:pt x="600" y="585"/>
                  </a:lnTo>
                  <a:lnTo>
                    <a:pt x="600" y="585"/>
                  </a:lnTo>
                  <a:lnTo>
                    <a:pt x="606" y="579"/>
                  </a:lnTo>
                  <a:lnTo>
                    <a:pt x="606" y="572"/>
                  </a:lnTo>
                  <a:lnTo>
                    <a:pt x="613" y="566"/>
                  </a:lnTo>
                  <a:lnTo>
                    <a:pt x="619" y="566"/>
                  </a:lnTo>
                  <a:lnTo>
                    <a:pt x="619" y="559"/>
                  </a:lnTo>
                  <a:lnTo>
                    <a:pt x="619" y="553"/>
                  </a:lnTo>
                  <a:lnTo>
                    <a:pt x="626" y="546"/>
                  </a:lnTo>
                  <a:lnTo>
                    <a:pt x="619" y="539"/>
                  </a:lnTo>
                  <a:lnTo>
                    <a:pt x="619" y="533"/>
                  </a:lnTo>
                  <a:lnTo>
                    <a:pt x="619" y="533"/>
                  </a:lnTo>
                  <a:lnTo>
                    <a:pt x="619" y="526"/>
                  </a:lnTo>
                  <a:lnTo>
                    <a:pt x="613" y="520"/>
                  </a:lnTo>
                  <a:lnTo>
                    <a:pt x="613" y="513"/>
                  </a:lnTo>
                  <a:lnTo>
                    <a:pt x="613" y="506"/>
                  </a:lnTo>
                  <a:lnTo>
                    <a:pt x="613" y="500"/>
                  </a:lnTo>
                  <a:lnTo>
                    <a:pt x="606" y="493"/>
                  </a:lnTo>
                  <a:lnTo>
                    <a:pt x="606" y="493"/>
                  </a:lnTo>
                  <a:lnTo>
                    <a:pt x="613" y="487"/>
                  </a:lnTo>
                  <a:lnTo>
                    <a:pt x="613" y="480"/>
                  </a:lnTo>
                  <a:lnTo>
                    <a:pt x="619" y="480"/>
                  </a:lnTo>
                  <a:lnTo>
                    <a:pt x="626" y="474"/>
                  </a:lnTo>
                  <a:lnTo>
                    <a:pt x="632" y="467"/>
                  </a:lnTo>
                  <a:lnTo>
                    <a:pt x="632" y="467"/>
                  </a:lnTo>
                  <a:lnTo>
                    <a:pt x="639" y="460"/>
                  </a:lnTo>
                  <a:lnTo>
                    <a:pt x="639" y="454"/>
                  </a:lnTo>
                  <a:lnTo>
                    <a:pt x="639" y="447"/>
                  </a:lnTo>
                  <a:lnTo>
                    <a:pt x="646" y="441"/>
                  </a:lnTo>
                  <a:lnTo>
                    <a:pt x="646" y="441"/>
                  </a:lnTo>
                  <a:lnTo>
                    <a:pt x="659" y="434"/>
                  </a:lnTo>
                  <a:lnTo>
                    <a:pt x="665" y="427"/>
                  </a:lnTo>
                  <a:lnTo>
                    <a:pt x="672" y="427"/>
                  </a:lnTo>
                  <a:lnTo>
                    <a:pt x="672" y="421"/>
                  </a:lnTo>
                  <a:lnTo>
                    <a:pt x="679" y="414"/>
                  </a:lnTo>
                  <a:lnTo>
                    <a:pt x="685" y="414"/>
                  </a:lnTo>
                  <a:lnTo>
                    <a:pt x="692" y="408"/>
                  </a:lnTo>
                  <a:lnTo>
                    <a:pt x="698" y="408"/>
                  </a:lnTo>
                  <a:lnTo>
                    <a:pt x="705" y="401"/>
                  </a:lnTo>
                  <a:lnTo>
                    <a:pt x="705" y="395"/>
                  </a:lnTo>
                  <a:lnTo>
                    <a:pt x="712" y="395"/>
                  </a:lnTo>
                  <a:lnTo>
                    <a:pt x="718" y="388"/>
                  </a:lnTo>
                  <a:lnTo>
                    <a:pt x="725" y="381"/>
                  </a:lnTo>
                  <a:lnTo>
                    <a:pt x="731" y="381"/>
                  </a:lnTo>
                  <a:lnTo>
                    <a:pt x="738" y="375"/>
                  </a:lnTo>
                  <a:lnTo>
                    <a:pt x="744" y="368"/>
                  </a:lnTo>
                  <a:lnTo>
                    <a:pt x="751" y="368"/>
                  </a:lnTo>
                  <a:lnTo>
                    <a:pt x="751" y="362"/>
                  </a:lnTo>
                  <a:lnTo>
                    <a:pt x="758" y="362"/>
                  </a:lnTo>
                  <a:lnTo>
                    <a:pt x="764" y="355"/>
                  </a:lnTo>
                  <a:lnTo>
                    <a:pt x="771" y="348"/>
                  </a:lnTo>
                  <a:lnTo>
                    <a:pt x="777" y="348"/>
                  </a:lnTo>
                  <a:lnTo>
                    <a:pt x="777" y="342"/>
                  </a:lnTo>
                  <a:lnTo>
                    <a:pt x="784" y="335"/>
                  </a:lnTo>
                  <a:lnTo>
                    <a:pt x="791" y="335"/>
                  </a:lnTo>
                  <a:lnTo>
                    <a:pt x="797" y="329"/>
                  </a:lnTo>
                  <a:lnTo>
                    <a:pt x="804" y="322"/>
                  </a:lnTo>
                  <a:lnTo>
                    <a:pt x="804" y="322"/>
                  </a:lnTo>
                  <a:lnTo>
                    <a:pt x="810" y="316"/>
                  </a:lnTo>
                  <a:lnTo>
                    <a:pt x="817" y="309"/>
                  </a:lnTo>
                  <a:lnTo>
                    <a:pt x="824" y="309"/>
                  </a:lnTo>
                  <a:lnTo>
                    <a:pt x="830" y="302"/>
                  </a:lnTo>
                  <a:lnTo>
                    <a:pt x="837" y="296"/>
                  </a:lnTo>
                  <a:lnTo>
                    <a:pt x="843" y="296"/>
                  </a:lnTo>
                  <a:lnTo>
                    <a:pt x="850" y="289"/>
                  </a:lnTo>
                  <a:lnTo>
                    <a:pt x="857" y="289"/>
                  </a:lnTo>
                  <a:lnTo>
                    <a:pt x="863" y="289"/>
                  </a:lnTo>
                  <a:lnTo>
                    <a:pt x="870" y="283"/>
                  </a:lnTo>
                  <a:lnTo>
                    <a:pt x="876" y="283"/>
                  </a:lnTo>
                  <a:lnTo>
                    <a:pt x="883" y="276"/>
                  </a:lnTo>
                  <a:lnTo>
                    <a:pt x="896" y="276"/>
                  </a:lnTo>
                  <a:lnTo>
                    <a:pt x="896" y="269"/>
                  </a:lnTo>
                  <a:lnTo>
                    <a:pt x="903" y="263"/>
                  </a:lnTo>
                  <a:lnTo>
                    <a:pt x="909" y="263"/>
                  </a:lnTo>
                  <a:lnTo>
                    <a:pt x="916" y="256"/>
                  </a:lnTo>
                  <a:lnTo>
                    <a:pt x="916" y="250"/>
                  </a:lnTo>
                  <a:lnTo>
                    <a:pt x="922" y="250"/>
                  </a:lnTo>
                  <a:lnTo>
                    <a:pt x="929" y="243"/>
                  </a:lnTo>
                  <a:lnTo>
                    <a:pt x="936" y="237"/>
                  </a:lnTo>
                  <a:lnTo>
                    <a:pt x="942" y="237"/>
                  </a:lnTo>
                  <a:lnTo>
                    <a:pt x="942" y="230"/>
                  </a:lnTo>
                  <a:lnTo>
                    <a:pt x="949" y="223"/>
                  </a:lnTo>
                  <a:lnTo>
                    <a:pt x="955" y="223"/>
                  </a:lnTo>
                  <a:lnTo>
                    <a:pt x="962" y="217"/>
                  </a:lnTo>
                  <a:lnTo>
                    <a:pt x="962" y="210"/>
                  </a:lnTo>
                  <a:lnTo>
                    <a:pt x="969" y="210"/>
                  </a:lnTo>
                  <a:lnTo>
                    <a:pt x="975" y="204"/>
                  </a:lnTo>
                  <a:lnTo>
                    <a:pt x="982" y="197"/>
                  </a:lnTo>
                  <a:lnTo>
                    <a:pt x="982" y="190"/>
                  </a:lnTo>
                  <a:lnTo>
                    <a:pt x="988" y="190"/>
                  </a:lnTo>
                  <a:lnTo>
                    <a:pt x="988" y="184"/>
                  </a:lnTo>
                  <a:lnTo>
                    <a:pt x="995" y="177"/>
                  </a:lnTo>
                  <a:lnTo>
                    <a:pt x="995" y="171"/>
                  </a:lnTo>
                  <a:lnTo>
                    <a:pt x="995" y="164"/>
                  </a:lnTo>
                  <a:lnTo>
                    <a:pt x="1001" y="158"/>
                  </a:lnTo>
                  <a:lnTo>
                    <a:pt x="1001" y="158"/>
                  </a:lnTo>
                  <a:lnTo>
                    <a:pt x="1008" y="151"/>
                  </a:lnTo>
                  <a:lnTo>
                    <a:pt x="1015" y="151"/>
                  </a:lnTo>
                  <a:lnTo>
                    <a:pt x="1028" y="151"/>
                  </a:lnTo>
                  <a:lnTo>
                    <a:pt x="1034" y="151"/>
                  </a:lnTo>
                  <a:lnTo>
                    <a:pt x="1041" y="144"/>
                  </a:lnTo>
                  <a:lnTo>
                    <a:pt x="1048" y="144"/>
                  </a:lnTo>
                  <a:lnTo>
                    <a:pt x="1061" y="144"/>
                  </a:lnTo>
                  <a:lnTo>
                    <a:pt x="1067" y="138"/>
                  </a:lnTo>
                  <a:lnTo>
                    <a:pt x="1074" y="138"/>
                  </a:lnTo>
                  <a:lnTo>
                    <a:pt x="1081" y="131"/>
                  </a:lnTo>
                  <a:lnTo>
                    <a:pt x="1087" y="131"/>
                  </a:lnTo>
                  <a:lnTo>
                    <a:pt x="1094" y="125"/>
                  </a:lnTo>
                  <a:lnTo>
                    <a:pt x="1100" y="125"/>
                  </a:lnTo>
                  <a:lnTo>
                    <a:pt x="1107" y="125"/>
                  </a:lnTo>
                  <a:lnTo>
                    <a:pt x="1120" y="118"/>
                  </a:lnTo>
                  <a:lnTo>
                    <a:pt x="1127" y="118"/>
                  </a:lnTo>
                  <a:lnTo>
                    <a:pt x="1133" y="118"/>
                  </a:lnTo>
                  <a:lnTo>
                    <a:pt x="1140" y="118"/>
                  </a:lnTo>
                  <a:lnTo>
                    <a:pt x="1153" y="118"/>
                  </a:lnTo>
                  <a:lnTo>
                    <a:pt x="1160" y="111"/>
                  </a:lnTo>
                  <a:lnTo>
                    <a:pt x="1166" y="111"/>
                  </a:lnTo>
                  <a:lnTo>
                    <a:pt x="1173" y="105"/>
                  </a:lnTo>
                  <a:lnTo>
                    <a:pt x="1179" y="98"/>
                  </a:lnTo>
                  <a:lnTo>
                    <a:pt x="1186" y="98"/>
                  </a:lnTo>
                  <a:lnTo>
                    <a:pt x="1193" y="92"/>
                  </a:lnTo>
                  <a:lnTo>
                    <a:pt x="1199" y="92"/>
                  </a:lnTo>
                  <a:lnTo>
                    <a:pt x="1206" y="92"/>
                  </a:lnTo>
                  <a:lnTo>
                    <a:pt x="1212" y="85"/>
                  </a:lnTo>
                  <a:lnTo>
                    <a:pt x="1219" y="85"/>
                  </a:lnTo>
                  <a:lnTo>
                    <a:pt x="1232" y="85"/>
                  </a:lnTo>
                  <a:lnTo>
                    <a:pt x="1239" y="79"/>
                  </a:lnTo>
                  <a:lnTo>
                    <a:pt x="1245" y="79"/>
                  </a:lnTo>
                  <a:lnTo>
                    <a:pt x="1252" y="72"/>
                  </a:lnTo>
                  <a:lnTo>
                    <a:pt x="1252" y="65"/>
                  </a:lnTo>
                  <a:lnTo>
                    <a:pt x="1258" y="65"/>
                  </a:lnTo>
                  <a:lnTo>
                    <a:pt x="1265" y="59"/>
                  </a:lnTo>
                  <a:lnTo>
                    <a:pt x="1272" y="59"/>
                  </a:lnTo>
                  <a:lnTo>
                    <a:pt x="1278" y="52"/>
                  </a:lnTo>
                  <a:lnTo>
                    <a:pt x="1278" y="46"/>
                  </a:lnTo>
                  <a:lnTo>
                    <a:pt x="1285" y="39"/>
                  </a:lnTo>
                  <a:lnTo>
                    <a:pt x="1291" y="39"/>
                  </a:lnTo>
                  <a:lnTo>
                    <a:pt x="1298" y="32"/>
                  </a:lnTo>
                  <a:lnTo>
                    <a:pt x="1298" y="26"/>
                  </a:lnTo>
                  <a:lnTo>
                    <a:pt x="1298" y="26"/>
                  </a:lnTo>
                  <a:lnTo>
                    <a:pt x="1291" y="19"/>
                  </a:lnTo>
                  <a:lnTo>
                    <a:pt x="1285" y="13"/>
                  </a:lnTo>
                  <a:lnTo>
                    <a:pt x="1278" y="6"/>
                  </a:lnTo>
                  <a:lnTo>
                    <a:pt x="1272" y="6"/>
                  </a:lnTo>
                  <a:lnTo>
                    <a:pt x="1265" y="0"/>
                  </a:lnTo>
                  <a:lnTo>
                    <a:pt x="1252" y="0"/>
                  </a:lnTo>
                  <a:lnTo>
                    <a:pt x="1226" y="0"/>
                  </a:lnTo>
                  <a:lnTo>
                    <a:pt x="1199" y="0"/>
                  </a:lnTo>
                  <a:lnTo>
                    <a:pt x="1173" y="0"/>
                  </a:lnTo>
                  <a:lnTo>
                    <a:pt x="1140" y="0"/>
                  </a:lnTo>
                  <a:lnTo>
                    <a:pt x="1113" y="0"/>
                  </a:lnTo>
                  <a:lnTo>
                    <a:pt x="1087" y="0"/>
                  </a:lnTo>
                  <a:lnTo>
                    <a:pt x="1061" y="0"/>
                  </a:lnTo>
                  <a:lnTo>
                    <a:pt x="1034" y="0"/>
                  </a:lnTo>
                  <a:lnTo>
                    <a:pt x="1001" y="0"/>
                  </a:lnTo>
                  <a:lnTo>
                    <a:pt x="975" y="0"/>
                  </a:lnTo>
                  <a:lnTo>
                    <a:pt x="949" y="0"/>
                  </a:lnTo>
                  <a:lnTo>
                    <a:pt x="922" y="0"/>
                  </a:lnTo>
                  <a:lnTo>
                    <a:pt x="889" y="0"/>
                  </a:lnTo>
                  <a:lnTo>
                    <a:pt x="863" y="0"/>
                  </a:lnTo>
                  <a:lnTo>
                    <a:pt x="837" y="0"/>
                  </a:lnTo>
                  <a:lnTo>
                    <a:pt x="810" y="0"/>
                  </a:lnTo>
                  <a:lnTo>
                    <a:pt x="784" y="0"/>
                  </a:lnTo>
                  <a:lnTo>
                    <a:pt x="751" y="0"/>
                  </a:lnTo>
                  <a:lnTo>
                    <a:pt x="725" y="0"/>
                  </a:lnTo>
                  <a:lnTo>
                    <a:pt x="698" y="0"/>
                  </a:lnTo>
                  <a:lnTo>
                    <a:pt x="672" y="0"/>
                  </a:lnTo>
                  <a:lnTo>
                    <a:pt x="639" y="0"/>
                  </a:lnTo>
                  <a:lnTo>
                    <a:pt x="613" y="26"/>
                  </a:lnTo>
                  <a:lnTo>
                    <a:pt x="586" y="59"/>
                  </a:lnTo>
                  <a:lnTo>
                    <a:pt x="560" y="85"/>
                  </a:lnTo>
                  <a:lnTo>
                    <a:pt x="534" y="111"/>
                  </a:lnTo>
                  <a:lnTo>
                    <a:pt x="501" y="138"/>
                  </a:lnTo>
                  <a:lnTo>
                    <a:pt x="474" y="138"/>
                  </a:lnTo>
                  <a:lnTo>
                    <a:pt x="448" y="171"/>
                  </a:lnTo>
                  <a:lnTo>
                    <a:pt x="422" y="197"/>
                  </a:lnTo>
                  <a:lnTo>
                    <a:pt x="389" y="223"/>
                  </a:lnTo>
                  <a:lnTo>
                    <a:pt x="362" y="250"/>
                  </a:lnTo>
                  <a:lnTo>
                    <a:pt x="362" y="276"/>
                  </a:lnTo>
                  <a:lnTo>
                    <a:pt x="369" y="283"/>
                  </a:lnTo>
                  <a:lnTo>
                    <a:pt x="362" y="289"/>
                  </a:lnTo>
                  <a:lnTo>
                    <a:pt x="356" y="289"/>
                  </a:lnTo>
                  <a:lnTo>
                    <a:pt x="356" y="296"/>
                  </a:lnTo>
                  <a:lnTo>
                    <a:pt x="349" y="302"/>
                  </a:lnTo>
                  <a:lnTo>
                    <a:pt x="349" y="309"/>
                  </a:lnTo>
                  <a:lnTo>
                    <a:pt x="343" y="309"/>
                  </a:lnTo>
                  <a:lnTo>
                    <a:pt x="343" y="316"/>
                  </a:lnTo>
                  <a:lnTo>
                    <a:pt x="336" y="322"/>
                  </a:lnTo>
                  <a:lnTo>
                    <a:pt x="329" y="322"/>
                  </a:lnTo>
                  <a:lnTo>
                    <a:pt x="329" y="329"/>
                  </a:lnTo>
                  <a:lnTo>
                    <a:pt x="323" y="335"/>
                  </a:lnTo>
                  <a:lnTo>
                    <a:pt x="323" y="342"/>
                  </a:lnTo>
                  <a:lnTo>
                    <a:pt x="316" y="342"/>
                  </a:lnTo>
                  <a:lnTo>
                    <a:pt x="310" y="348"/>
                  </a:lnTo>
                  <a:lnTo>
                    <a:pt x="310" y="355"/>
                  </a:lnTo>
                  <a:lnTo>
                    <a:pt x="303" y="355"/>
                  </a:lnTo>
                  <a:lnTo>
                    <a:pt x="296" y="362"/>
                  </a:lnTo>
                  <a:lnTo>
                    <a:pt x="296" y="368"/>
                  </a:lnTo>
                  <a:lnTo>
                    <a:pt x="290" y="368"/>
                  </a:lnTo>
                  <a:lnTo>
                    <a:pt x="290" y="375"/>
                  </a:lnTo>
                  <a:lnTo>
                    <a:pt x="283" y="381"/>
                  </a:lnTo>
                  <a:lnTo>
                    <a:pt x="277" y="388"/>
                  </a:lnTo>
                  <a:lnTo>
                    <a:pt x="277" y="388"/>
                  </a:lnTo>
                  <a:lnTo>
                    <a:pt x="270" y="395"/>
                  </a:lnTo>
                  <a:lnTo>
                    <a:pt x="270" y="401"/>
                  </a:lnTo>
                  <a:lnTo>
                    <a:pt x="263" y="401"/>
                  </a:lnTo>
                  <a:lnTo>
                    <a:pt x="263" y="408"/>
                  </a:lnTo>
                  <a:lnTo>
                    <a:pt x="257" y="414"/>
                  </a:lnTo>
                  <a:lnTo>
                    <a:pt x="250" y="421"/>
                  </a:lnTo>
                  <a:lnTo>
                    <a:pt x="250" y="421"/>
                  </a:lnTo>
                  <a:lnTo>
                    <a:pt x="244" y="427"/>
                  </a:lnTo>
                  <a:lnTo>
                    <a:pt x="244" y="434"/>
                  </a:lnTo>
                  <a:lnTo>
                    <a:pt x="237" y="441"/>
                  </a:lnTo>
                  <a:lnTo>
                    <a:pt x="231" y="441"/>
                  </a:lnTo>
                  <a:lnTo>
                    <a:pt x="231" y="447"/>
                  </a:lnTo>
                  <a:lnTo>
                    <a:pt x="224" y="447"/>
                  </a:lnTo>
                  <a:lnTo>
                    <a:pt x="217" y="454"/>
                  </a:lnTo>
                  <a:lnTo>
                    <a:pt x="211" y="460"/>
                  </a:lnTo>
                  <a:lnTo>
                    <a:pt x="211" y="460"/>
                  </a:lnTo>
                  <a:lnTo>
                    <a:pt x="204" y="467"/>
                  </a:lnTo>
                  <a:lnTo>
                    <a:pt x="204" y="474"/>
                  </a:lnTo>
                  <a:lnTo>
                    <a:pt x="204" y="480"/>
                  </a:lnTo>
                  <a:lnTo>
                    <a:pt x="204" y="487"/>
                  </a:lnTo>
                  <a:lnTo>
                    <a:pt x="204" y="493"/>
                  </a:lnTo>
                  <a:lnTo>
                    <a:pt x="204" y="500"/>
                  </a:lnTo>
                  <a:lnTo>
                    <a:pt x="204" y="500"/>
                  </a:lnTo>
                  <a:lnTo>
                    <a:pt x="198" y="506"/>
                  </a:lnTo>
                  <a:lnTo>
                    <a:pt x="191" y="506"/>
                  </a:lnTo>
                  <a:lnTo>
                    <a:pt x="184" y="513"/>
                  </a:lnTo>
                  <a:lnTo>
                    <a:pt x="184" y="520"/>
                  </a:lnTo>
                  <a:lnTo>
                    <a:pt x="184" y="526"/>
                  </a:lnTo>
                  <a:lnTo>
                    <a:pt x="184" y="533"/>
                  </a:lnTo>
                  <a:lnTo>
                    <a:pt x="184" y="533"/>
                  </a:lnTo>
                  <a:lnTo>
                    <a:pt x="184" y="539"/>
                  </a:lnTo>
                  <a:lnTo>
                    <a:pt x="184" y="546"/>
                  </a:lnTo>
                  <a:lnTo>
                    <a:pt x="178" y="553"/>
                  </a:lnTo>
                  <a:lnTo>
                    <a:pt x="178" y="559"/>
                  </a:lnTo>
                  <a:lnTo>
                    <a:pt x="171" y="566"/>
                  </a:lnTo>
                  <a:lnTo>
                    <a:pt x="171" y="566"/>
                  </a:lnTo>
                  <a:lnTo>
                    <a:pt x="165" y="559"/>
                  </a:lnTo>
                  <a:lnTo>
                    <a:pt x="158" y="559"/>
                  </a:lnTo>
                  <a:lnTo>
                    <a:pt x="151" y="553"/>
                  </a:lnTo>
                  <a:lnTo>
                    <a:pt x="151" y="546"/>
                  </a:lnTo>
                  <a:lnTo>
                    <a:pt x="145" y="539"/>
                  </a:lnTo>
                  <a:lnTo>
                    <a:pt x="145" y="539"/>
                  </a:lnTo>
                  <a:lnTo>
                    <a:pt x="138" y="533"/>
                  </a:lnTo>
                  <a:lnTo>
                    <a:pt x="125" y="533"/>
                  </a:lnTo>
                  <a:lnTo>
                    <a:pt x="118" y="533"/>
                  </a:lnTo>
                  <a:lnTo>
                    <a:pt x="112" y="533"/>
                  </a:lnTo>
                  <a:lnTo>
                    <a:pt x="99" y="533"/>
                  </a:lnTo>
                  <a:lnTo>
                    <a:pt x="92" y="533"/>
                  </a:lnTo>
                  <a:lnTo>
                    <a:pt x="86" y="533"/>
                  </a:lnTo>
                  <a:lnTo>
                    <a:pt x="79" y="526"/>
                  </a:lnTo>
                  <a:lnTo>
                    <a:pt x="79" y="526"/>
                  </a:lnTo>
                  <a:lnTo>
                    <a:pt x="79" y="520"/>
                  </a:lnTo>
                  <a:lnTo>
                    <a:pt x="79" y="513"/>
                  </a:lnTo>
                  <a:lnTo>
                    <a:pt x="59" y="533"/>
                  </a:lnTo>
                  <a:lnTo>
                    <a:pt x="26" y="533"/>
                  </a:lnTo>
                  <a:lnTo>
                    <a:pt x="6" y="553"/>
                  </a:lnTo>
                  <a:lnTo>
                    <a:pt x="6" y="553"/>
                  </a:lnTo>
                  <a:lnTo>
                    <a:pt x="6" y="559"/>
                  </a:lnTo>
                  <a:lnTo>
                    <a:pt x="6" y="559"/>
                  </a:lnTo>
                  <a:lnTo>
                    <a:pt x="6" y="559"/>
                  </a:lnTo>
                  <a:lnTo>
                    <a:pt x="6" y="559"/>
                  </a:lnTo>
                  <a:lnTo>
                    <a:pt x="0" y="559"/>
                  </a:lnTo>
                  <a:lnTo>
                    <a:pt x="0" y="559"/>
                  </a:lnTo>
                  <a:lnTo>
                    <a:pt x="0" y="559"/>
                  </a:lnTo>
                  <a:lnTo>
                    <a:pt x="0" y="585"/>
                  </a:lnTo>
                  <a:lnTo>
                    <a:pt x="0" y="618"/>
                  </a:lnTo>
                  <a:lnTo>
                    <a:pt x="0" y="632"/>
                  </a:lnTo>
                  <a:lnTo>
                    <a:pt x="6" y="625"/>
                  </a:lnTo>
                  <a:lnTo>
                    <a:pt x="13" y="618"/>
                  </a:lnTo>
                  <a:lnTo>
                    <a:pt x="13" y="618"/>
                  </a:lnTo>
                  <a:lnTo>
                    <a:pt x="20" y="612"/>
                  </a:lnTo>
                  <a:lnTo>
                    <a:pt x="26" y="605"/>
                  </a:lnTo>
                  <a:lnTo>
                    <a:pt x="26" y="599"/>
                  </a:lnTo>
                  <a:lnTo>
                    <a:pt x="33" y="599"/>
                  </a:lnTo>
                  <a:lnTo>
                    <a:pt x="39" y="605"/>
                  </a:lnTo>
                  <a:lnTo>
                    <a:pt x="46" y="612"/>
                  </a:lnTo>
                  <a:lnTo>
                    <a:pt x="53" y="618"/>
                  </a:lnTo>
                  <a:lnTo>
                    <a:pt x="53" y="625"/>
                  </a:lnTo>
                  <a:lnTo>
                    <a:pt x="53" y="632"/>
                  </a:lnTo>
                  <a:lnTo>
                    <a:pt x="53" y="638"/>
                  </a:lnTo>
                  <a:lnTo>
                    <a:pt x="59" y="638"/>
                  </a:lnTo>
                  <a:lnTo>
                    <a:pt x="59" y="638"/>
                  </a:lnTo>
                  <a:lnTo>
                    <a:pt x="72" y="638"/>
                  </a:lnTo>
                  <a:lnTo>
                    <a:pt x="79" y="638"/>
                  </a:lnTo>
                  <a:lnTo>
                    <a:pt x="92" y="632"/>
                  </a:lnTo>
                  <a:lnTo>
                    <a:pt x="99" y="632"/>
                  </a:lnTo>
                  <a:lnTo>
                    <a:pt x="105" y="632"/>
                  </a:lnTo>
                  <a:lnTo>
                    <a:pt x="112" y="632"/>
                  </a:lnTo>
                  <a:lnTo>
                    <a:pt x="118" y="632"/>
                  </a:lnTo>
                  <a:lnTo>
                    <a:pt x="118" y="638"/>
                  </a:lnTo>
                  <a:lnTo>
                    <a:pt x="118" y="645"/>
                  </a:lnTo>
                  <a:lnTo>
                    <a:pt x="118" y="651"/>
                  </a:lnTo>
                  <a:lnTo>
                    <a:pt x="118" y="658"/>
                  </a:lnTo>
                  <a:lnTo>
                    <a:pt x="112" y="664"/>
                  </a:lnTo>
                  <a:lnTo>
                    <a:pt x="105" y="664"/>
                  </a:lnTo>
                  <a:lnTo>
                    <a:pt x="99" y="664"/>
                  </a:lnTo>
                  <a:lnTo>
                    <a:pt x="92" y="664"/>
                  </a:lnTo>
                  <a:lnTo>
                    <a:pt x="79" y="664"/>
                  </a:lnTo>
                  <a:lnTo>
                    <a:pt x="66" y="664"/>
                  </a:lnTo>
                  <a:lnTo>
                    <a:pt x="59" y="671"/>
                  </a:lnTo>
                  <a:lnTo>
                    <a:pt x="59" y="671"/>
                  </a:lnTo>
                  <a:lnTo>
                    <a:pt x="66" y="671"/>
                  </a:lnTo>
                  <a:lnTo>
                    <a:pt x="72" y="678"/>
                  </a:lnTo>
                  <a:lnTo>
                    <a:pt x="86" y="678"/>
                  </a:lnTo>
                  <a:lnTo>
                    <a:pt x="92" y="678"/>
                  </a:lnTo>
                  <a:lnTo>
                    <a:pt x="99" y="678"/>
                  </a:lnTo>
                  <a:lnTo>
                    <a:pt x="112" y="678"/>
                  </a:lnTo>
                  <a:lnTo>
                    <a:pt x="118" y="678"/>
                  </a:lnTo>
                  <a:lnTo>
                    <a:pt x="125" y="684"/>
                  </a:lnTo>
                  <a:lnTo>
                    <a:pt x="132" y="684"/>
                  </a:lnTo>
                  <a:lnTo>
                    <a:pt x="138" y="684"/>
                  </a:lnTo>
                  <a:lnTo>
                    <a:pt x="145" y="684"/>
                  </a:lnTo>
                  <a:lnTo>
                    <a:pt x="151" y="684"/>
                  </a:lnTo>
                  <a:lnTo>
                    <a:pt x="158" y="678"/>
                  </a:lnTo>
                  <a:lnTo>
                    <a:pt x="165" y="671"/>
                  </a:lnTo>
                  <a:lnTo>
                    <a:pt x="165" y="664"/>
                  </a:lnTo>
                  <a:lnTo>
                    <a:pt x="171" y="664"/>
                  </a:lnTo>
                  <a:lnTo>
                    <a:pt x="171" y="658"/>
                  </a:lnTo>
                  <a:lnTo>
                    <a:pt x="171" y="651"/>
                  </a:lnTo>
                  <a:lnTo>
                    <a:pt x="171" y="645"/>
                  </a:lnTo>
                  <a:lnTo>
                    <a:pt x="178" y="638"/>
                  </a:lnTo>
                  <a:lnTo>
                    <a:pt x="184" y="638"/>
                  </a:lnTo>
                  <a:lnTo>
                    <a:pt x="191" y="638"/>
                  </a:lnTo>
                  <a:lnTo>
                    <a:pt x="198" y="638"/>
                  </a:lnTo>
                  <a:lnTo>
                    <a:pt x="211" y="638"/>
                  </a:lnTo>
                  <a:lnTo>
                    <a:pt x="217" y="645"/>
                  </a:lnTo>
                  <a:lnTo>
                    <a:pt x="224" y="645"/>
                  </a:lnTo>
                  <a:lnTo>
                    <a:pt x="231" y="645"/>
                  </a:lnTo>
                  <a:lnTo>
                    <a:pt x="244" y="638"/>
                  </a:lnTo>
                  <a:lnTo>
                    <a:pt x="250" y="638"/>
                  </a:lnTo>
                  <a:lnTo>
                    <a:pt x="257" y="645"/>
                  </a:lnTo>
                  <a:lnTo>
                    <a:pt x="257" y="651"/>
                  </a:lnTo>
                  <a:lnTo>
                    <a:pt x="257" y="658"/>
                  </a:lnTo>
                  <a:lnTo>
                    <a:pt x="257" y="658"/>
                  </a:lnTo>
                  <a:lnTo>
                    <a:pt x="257" y="664"/>
                  </a:lnTo>
                  <a:lnTo>
                    <a:pt x="257" y="671"/>
                  </a:lnTo>
                  <a:lnTo>
                    <a:pt x="257" y="678"/>
                  </a:lnTo>
                  <a:lnTo>
                    <a:pt x="257" y="684"/>
                  </a:lnTo>
                  <a:lnTo>
                    <a:pt x="250" y="691"/>
                  </a:lnTo>
                  <a:lnTo>
                    <a:pt x="250" y="691"/>
                  </a:lnTo>
                  <a:lnTo>
                    <a:pt x="250" y="697"/>
                  </a:lnTo>
                  <a:lnTo>
                    <a:pt x="250" y="704"/>
                  </a:lnTo>
                  <a:lnTo>
                    <a:pt x="257" y="711"/>
                  </a:lnTo>
                  <a:lnTo>
                    <a:pt x="263" y="711"/>
                  </a:lnTo>
                  <a:lnTo>
                    <a:pt x="270" y="717"/>
                  </a:lnTo>
                  <a:lnTo>
                    <a:pt x="277" y="717"/>
                  </a:lnTo>
                  <a:lnTo>
                    <a:pt x="290" y="724"/>
                  </a:lnTo>
                  <a:lnTo>
                    <a:pt x="296" y="724"/>
                  </a:lnTo>
                  <a:lnTo>
                    <a:pt x="303" y="724"/>
                  </a:lnTo>
                  <a:lnTo>
                    <a:pt x="310" y="724"/>
                  </a:lnTo>
                  <a:lnTo>
                    <a:pt x="316" y="724"/>
                  </a:lnTo>
                  <a:lnTo>
                    <a:pt x="323" y="717"/>
                  </a:lnTo>
                  <a:lnTo>
                    <a:pt x="336" y="717"/>
                  </a:lnTo>
                  <a:lnTo>
                    <a:pt x="343" y="711"/>
                  </a:lnTo>
                  <a:lnTo>
                    <a:pt x="349" y="711"/>
                  </a:lnTo>
                  <a:lnTo>
                    <a:pt x="356" y="704"/>
                  </a:lnTo>
                  <a:lnTo>
                    <a:pt x="362" y="704"/>
                  </a:lnTo>
                  <a:lnTo>
                    <a:pt x="369" y="711"/>
                  </a:lnTo>
                  <a:lnTo>
                    <a:pt x="375" y="711"/>
                  </a:lnTo>
                  <a:lnTo>
                    <a:pt x="382" y="717"/>
                  </a:lnTo>
                  <a:lnTo>
                    <a:pt x="382" y="724"/>
                  </a:lnTo>
                  <a:lnTo>
                    <a:pt x="389" y="730"/>
                  </a:lnTo>
                  <a:close/>
                  <a:moveTo>
                    <a:pt x="1436" y="697"/>
                  </a:moveTo>
                  <a:lnTo>
                    <a:pt x="1443" y="697"/>
                  </a:lnTo>
                  <a:lnTo>
                    <a:pt x="1450" y="697"/>
                  </a:lnTo>
                  <a:lnTo>
                    <a:pt x="1463" y="697"/>
                  </a:lnTo>
                  <a:lnTo>
                    <a:pt x="1469" y="697"/>
                  </a:lnTo>
                  <a:lnTo>
                    <a:pt x="1482" y="697"/>
                  </a:lnTo>
                  <a:lnTo>
                    <a:pt x="1489" y="697"/>
                  </a:lnTo>
                  <a:lnTo>
                    <a:pt x="1502" y="697"/>
                  </a:lnTo>
                  <a:lnTo>
                    <a:pt x="1509" y="691"/>
                  </a:lnTo>
                  <a:lnTo>
                    <a:pt x="1509" y="691"/>
                  </a:lnTo>
                  <a:lnTo>
                    <a:pt x="1515" y="684"/>
                  </a:lnTo>
                  <a:lnTo>
                    <a:pt x="1515" y="678"/>
                  </a:lnTo>
                  <a:lnTo>
                    <a:pt x="1515" y="671"/>
                  </a:lnTo>
                  <a:lnTo>
                    <a:pt x="1515" y="664"/>
                  </a:lnTo>
                  <a:lnTo>
                    <a:pt x="1515" y="658"/>
                  </a:lnTo>
                  <a:lnTo>
                    <a:pt x="1515" y="651"/>
                  </a:lnTo>
                  <a:lnTo>
                    <a:pt x="1515" y="645"/>
                  </a:lnTo>
                  <a:lnTo>
                    <a:pt x="1515" y="638"/>
                  </a:lnTo>
                  <a:lnTo>
                    <a:pt x="1522" y="632"/>
                  </a:lnTo>
                  <a:lnTo>
                    <a:pt x="1522" y="625"/>
                  </a:lnTo>
                  <a:lnTo>
                    <a:pt x="1522" y="618"/>
                  </a:lnTo>
                  <a:lnTo>
                    <a:pt x="1522" y="612"/>
                  </a:lnTo>
                  <a:lnTo>
                    <a:pt x="1529" y="612"/>
                  </a:lnTo>
                  <a:lnTo>
                    <a:pt x="1529" y="605"/>
                  </a:lnTo>
                  <a:lnTo>
                    <a:pt x="1535" y="599"/>
                  </a:lnTo>
                  <a:lnTo>
                    <a:pt x="1535" y="592"/>
                  </a:lnTo>
                  <a:lnTo>
                    <a:pt x="1542" y="585"/>
                  </a:lnTo>
                  <a:lnTo>
                    <a:pt x="1542" y="579"/>
                  </a:lnTo>
                  <a:lnTo>
                    <a:pt x="1548" y="572"/>
                  </a:lnTo>
                  <a:lnTo>
                    <a:pt x="1548" y="572"/>
                  </a:lnTo>
                  <a:lnTo>
                    <a:pt x="1555" y="566"/>
                  </a:lnTo>
                  <a:lnTo>
                    <a:pt x="1555" y="559"/>
                  </a:lnTo>
                  <a:lnTo>
                    <a:pt x="1555" y="553"/>
                  </a:lnTo>
                  <a:lnTo>
                    <a:pt x="1562" y="546"/>
                  </a:lnTo>
                  <a:lnTo>
                    <a:pt x="1562" y="539"/>
                  </a:lnTo>
                  <a:lnTo>
                    <a:pt x="1568" y="533"/>
                  </a:lnTo>
                  <a:lnTo>
                    <a:pt x="1568" y="526"/>
                  </a:lnTo>
                  <a:lnTo>
                    <a:pt x="1575" y="526"/>
                  </a:lnTo>
                  <a:lnTo>
                    <a:pt x="1575" y="520"/>
                  </a:lnTo>
                  <a:lnTo>
                    <a:pt x="1581" y="513"/>
                  </a:lnTo>
                  <a:lnTo>
                    <a:pt x="1581" y="506"/>
                  </a:lnTo>
                  <a:lnTo>
                    <a:pt x="1575" y="500"/>
                  </a:lnTo>
                  <a:lnTo>
                    <a:pt x="1568" y="493"/>
                  </a:lnTo>
                  <a:lnTo>
                    <a:pt x="1562" y="493"/>
                  </a:lnTo>
                  <a:lnTo>
                    <a:pt x="1555" y="493"/>
                  </a:lnTo>
                  <a:lnTo>
                    <a:pt x="1542" y="493"/>
                  </a:lnTo>
                  <a:lnTo>
                    <a:pt x="1535" y="500"/>
                  </a:lnTo>
                  <a:lnTo>
                    <a:pt x="1529" y="500"/>
                  </a:lnTo>
                  <a:lnTo>
                    <a:pt x="1522" y="506"/>
                  </a:lnTo>
                  <a:lnTo>
                    <a:pt x="1515" y="506"/>
                  </a:lnTo>
                  <a:lnTo>
                    <a:pt x="1509" y="513"/>
                  </a:lnTo>
                  <a:lnTo>
                    <a:pt x="1502" y="520"/>
                  </a:lnTo>
                  <a:lnTo>
                    <a:pt x="1496" y="526"/>
                  </a:lnTo>
                  <a:lnTo>
                    <a:pt x="1489" y="526"/>
                  </a:lnTo>
                  <a:lnTo>
                    <a:pt x="1489" y="533"/>
                  </a:lnTo>
                  <a:lnTo>
                    <a:pt x="1482" y="539"/>
                  </a:lnTo>
                  <a:lnTo>
                    <a:pt x="1482" y="546"/>
                  </a:lnTo>
                  <a:lnTo>
                    <a:pt x="1476" y="553"/>
                  </a:lnTo>
                  <a:lnTo>
                    <a:pt x="1476" y="559"/>
                  </a:lnTo>
                  <a:lnTo>
                    <a:pt x="1469" y="559"/>
                  </a:lnTo>
                  <a:lnTo>
                    <a:pt x="1469" y="566"/>
                  </a:lnTo>
                  <a:lnTo>
                    <a:pt x="1469" y="572"/>
                  </a:lnTo>
                  <a:lnTo>
                    <a:pt x="1463" y="579"/>
                  </a:lnTo>
                  <a:lnTo>
                    <a:pt x="1456" y="585"/>
                  </a:lnTo>
                  <a:lnTo>
                    <a:pt x="1443" y="585"/>
                  </a:lnTo>
                  <a:lnTo>
                    <a:pt x="1436" y="585"/>
                  </a:lnTo>
                  <a:lnTo>
                    <a:pt x="1423" y="585"/>
                  </a:lnTo>
                  <a:lnTo>
                    <a:pt x="1417" y="592"/>
                  </a:lnTo>
                  <a:lnTo>
                    <a:pt x="1417" y="592"/>
                  </a:lnTo>
                  <a:lnTo>
                    <a:pt x="1410" y="599"/>
                  </a:lnTo>
                  <a:lnTo>
                    <a:pt x="1410" y="605"/>
                  </a:lnTo>
                  <a:lnTo>
                    <a:pt x="1410" y="612"/>
                  </a:lnTo>
                  <a:lnTo>
                    <a:pt x="1410" y="618"/>
                  </a:lnTo>
                  <a:lnTo>
                    <a:pt x="1410" y="625"/>
                  </a:lnTo>
                  <a:lnTo>
                    <a:pt x="1410" y="632"/>
                  </a:lnTo>
                  <a:lnTo>
                    <a:pt x="1410" y="638"/>
                  </a:lnTo>
                  <a:lnTo>
                    <a:pt x="1410" y="645"/>
                  </a:lnTo>
                  <a:lnTo>
                    <a:pt x="1410" y="651"/>
                  </a:lnTo>
                  <a:lnTo>
                    <a:pt x="1410" y="651"/>
                  </a:lnTo>
                  <a:lnTo>
                    <a:pt x="1410" y="658"/>
                  </a:lnTo>
                  <a:lnTo>
                    <a:pt x="1410" y="664"/>
                  </a:lnTo>
                  <a:lnTo>
                    <a:pt x="1403" y="671"/>
                  </a:lnTo>
                  <a:lnTo>
                    <a:pt x="1403" y="678"/>
                  </a:lnTo>
                  <a:lnTo>
                    <a:pt x="1397" y="684"/>
                  </a:lnTo>
                  <a:lnTo>
                    <a:pt x="1397" y="691"/>
                  </a:lnTo>
                  <a:lnTo>
                    <a:pt x="1390" y="697"/>
                  </a:lnTo>
                  <a:lnTo>
                    <a:pt x="1390" y="704"/>
                  </a:lnTo>
                  <a:lnTo>
                    <a:pt x="1390" y="711"/>
                  </a:lnTo>
                  <a:lnTo>
                    <a:pt x="1397" y="711"/>
                  </a:lnTo>
                  <a:lnTo>
                    <a:pt x="1403" y="711"/>
                  </a:lnTo>
                  <a:lnTo>
                    <a:pt x="1417" y="704"/>
                  </a:lnTo>
                  <a:lnTo>
                    <a:pt x="1423" y="704"/>
                  </a:lnTo>
                  <a:lnTo>
                    <a:pt x="1436" y="697"/>
                  </a:lnTo>
                  <a:close/>
                  <a:moveTo>
                    <a:pt x="1113" y="618"/>
                  </a:moveTo>
                  <a:lnTo>
                    <a:pt x="1113" y="612"/>
                  </a:lnTo>
                  <a:lnTo>
                    <a:pt x="1113" y="605"/>
                  </a:lnTo>
                  <a:lnTo>
                    <a:pt x="1113" y="605"/>
                  </a:lnTo>
                  <a:lnTo>
                    <a:pt x="1113" y="599"/>
                  </a:lnTo>
                  <a:lnTo>
                    <a:pt x="1113" y="599"/>
                  </a:lnTo>
                  <a:lnTo>
                    <a:pt x="1113" y="592"/>
                  </a:lnTo>
                  <a:lnTo>
                    <a:pt x="1113" y="585"/>
                  </a:lnTo>
                  <a:lnTo>
                    <a:pt x="1113" y="585"/>
                  </a:lnTo>
                  <a:lnTo>
                    <a:pt x="1113" y="585"/>
                  </a:lnTo>
                  <a:lnTo>
                    <a:pt x="1113" y="592"/>
                  </a:lnTo>
                  <a:lnTo>
                    <a:pt x="1113" y="599"/>
                  </a:lnTo>
                  <a:lnTo>
                    <a:pt x="1113" y="599"/>
                  </a:lnTo>
                  <a:lnTo>
                    <a:pt x="1113" y="605"/>
                  </a:lnTo>
                  <a:lnTo>
                    <a:pt x="1113" y="605"/>
                  </a:lnTo>
                  <a:lnTo>
                    <a:pt x="1113" y="612"/>
                  </a:lnTo>
                  <a:lnTo>
                    <a:pt x="1113" y="612"/>
                  </a:lnTo>
                  <a:lnTo>
                    <a:pt x="1113" y="618"/>
                  </a:lnTo>
                  <a:lnTo>
                    <a:pt x="1113" y="625"/>
                  </a:lnTo>
                  <a:lnTo>
                    <a:pt x="1113" y="618"/>
                  </a:lnTo>
                  <a:lnTo>
                    <a:pt x="1113" y="618"/>
                  </a:lnTo>
                  <a:close/>
                  <a:moveTo>
                    <a:pt x="1146" y="559"/>
                  </a:moveTo>
                  <a:lnTo>
                    <a:pt x="1146" y="553"/>
                  </a:lnTo>
                  <a:lnTo>
                    <a:pt x="1146" y="546"/>
                  </a:lnTo>
                  <a:lnTo>
                    <a:pt x="1146" y="539"/>
                  </a:lnTo>
                  <a:lnTo>
                    <a:pt x="1146" y="539"/>
                  </a:lnTo>
                  <a:lnTo>
                    <a:pt x="1140" y="539"/>
                  </a:lnTo>
                  <a:lnTo>
                    <a:pt x="1133" y="539"/>
                  </a:lnTo>
                  <a:lnTo>
                    <a:pt x="1127" y="546"/>
                  </a:lnTo>
                  <a:lnTo>
                    <a:pt x="1120" y="553"/>
                  </a:lnTo>
                  <a:lnTo>
                    <a:pt x="1120" y="559"/>
                  </a:lnTo>
                  <a:lnTo>
                    <a:pt x="1127" y="566"/>
                  </a:lnTo>
                  <a:lnTo>
                    <a:pt x="1133" y="566"/>
                  </a:lnTo>
                  <a:lnTo>
                    <a:pt x="1140" y="566"/>
                  </a:lnTo>
                  <a:lnTo>
                    <a:pt x="1146" y="566"/>
                  </a:lnTo>
                  <a:lnTo>
                    <a:pt x="1146" y="559"/>
                  </a:lnTo>
                  <a:close/>
                  <a:moveTo>
                    <a:pt x="698" y="506"/>
                  </a:moveTo>
                  <a:lnTo>
                    <a:pt x="698" y="500"/>
                  </a:lnTo>
                  <a:lnTo>
                    <a:pt x="698" y="500"/>
                  </a:lnTo>
                  <a:lnTo>
                    <a:pt x="698" y="500"/>
                  </a:lnTo>
                  <a:lnTo>
                    <a:pt x="698" y="500"/>
                  </a:lnTo>
                  <a:lnTo>
                    <a:pt x="698" y="500"/>
                  </a:lnTo>
                  <a:lnTo>
                    <a:pt x="692" y="500"/>
                  </a:lnTo>
                  <a:lnTo>
                    <a:pt x="692" y="500"/>
                  </a:lnTo>
                  <a:lnTo>
                    <a:pt x="692" y="506"/>
                  </a:lnTo>
                  <a:lnTo>
                    <a:pt x="692" y="506"/>
                  </a:lnTo>
                  <a:lnTo>
                    <a:pt x="698" y="506"/>
                  </a:lnTo>
                  <a:lnTo>
                    <a:pt x="698" y="506"/>
                  </a:lnTo>
                  <a:lnTo>
                    <a:pt x="698" y="506"/>
                  </a:lnTo>
                  <a:lnTo>
                    <a:pt x="698" y="506"/>
                  </a:lnTo>
                  <a:lnTo>
                    <a:pt x="698" y="506"/>
                  </a:lnTo>
                  <a:close/>
                  <a:moveTo>
                    <a:pt x="922" y="506"/>
                  </a:moveTo>
                  <a:lnTo>
                    <a:pt x="922" y="500"/>
                  </a:lnTo>
                  <a:lnTo>
                    <a:pt x="916" y="493"/>
                  </a:lnTo>
                  <a:lnTo>
                    <a:pt x="909" y="493"/>
                  </a:lnTo>
                  <a:lnTo>
                    <a:pt x="909" y="487"/>
                  </a:lnTo>
                  <a:lnTo>
                    <a:pt x="903" y="480"/>
                  </a:lnTo>
                  <a:lnTo>
                    <a:pt x="896" y="480"/>
                  </a:lnTo>
                  <a:lnTo>
                    <a:pt x="896" y="480"/>
                  </a:lnTo>
                  <a:lnTo>
                    <a:pt x="889" y="480"/>
                  </a:lnTo>
                  <a:lnTo>
                    <a:pt x="889" y="487"/>
                  </a:lnTo>
                  <a:lnTo>
                    <a:pt x="889" y="487"/>
                  </a:lnTo>
                  <a:lnTo>
                    <a:pt x="889" y="493"/>
                  </a:lnTo>
                  <a:lnTo>
                    <a:pt x="889" y="500"/>
                  </a:lnTo>
                  <a:lnTo>
                    <a:pt x="889" y="506"/>
                  </a:lnTo>
                  <a:lnTo>
                    <a:pt x="889" y="506"/>
                  </a:lnTo>
                  <a:lnTo>
                    <a:pt x="896" y="513"/>
                  </a:lnTo>
                  <a:lnTo>
                    <a:pt x="903" y="513"/>
                  </a:lnTo>
                  <a:lnTo>
                    <a:pt x="909" y="513"/>
                  </a:lnTo>
                  <a:lnTo>
                    <a:pt x="916" y="513"/>
                  </a:lnTo>
                  <a:lnTo>
                    <a:pt x="922" y="506"/>
                  </a:lnTo>
                  <a:lnTo>
                    <a:pt x="922" y="506"/>
                  </a:lnTo>
                  <a:close/>
                  <a:moveTo>
                    <a:pt x="1173" y="506"/>
                  </a:moveTo>
                  <a:lnTo>
                    <a:pt x="1173" y="500"/>
                  </a:lnTo>
                  <a:lnTo>
                    <a:pt x="1173" y="500"/>
                  </a:lnTo>
                  <a:lnTo>
                    <a:pt x="1173" y="500"/>
                  </a:lnTo>
                  <a:lnTo>
                    <a:pt x="1173" y="500"/>
                  </a:lnTo>
                  <a:lnTo>
                    <a:pt x="1173" y="500"/>
                  </a:lnTo>
                  <a:lnTo>
                    <a:pt x="1173" y="500"/>
                  </a:lnTo>
                  <a:lnTo>
                    <a:pt x="1173" y="500"/>
                  </a:lnTo>
                  <a:lnTo>
                    <a:pt x="1173" y="500"/>
                  </a:lnTo>
                  <a:lnTo>
                    <a:pt x="1173" y="506"/>
                  </a:lnTo>
                  <a:lnTo>
                    <a:pt x="1173" y="506"/>
                  </a:lnTo>
                  <a:lnTo>
                    <a:pt x="1173" y="506"/>
                  </a:lnTo>
                  <a:lnTo>
                    <a:pt x="1173" y="506"/>
                  </a:lnTo>
                  <a:lnTo>
                    <a:pt x="1173" y="506"/>
                  </a:lnTo>
                  <a:lnTo>
                    <a:pt x="1173" y="506"/>
                  </a:lnTo>
                  <a:close/>
                  <a:moveTo>
                    <a:pt x="158" y="447"/>
                  </a:moveTo>
                  <a:lnTo>
                    <a:pt x="138" y="447"/>
                  </a:lnTo>
                  <a:lnTo>
                    <a:pt x="125" y="460"/>
                  </a:lnTo>
                  <a:lnTo>
                    <a:pt x="132" y="460"/>
                  </a:lnTo>
                  <a:lnTo>
                    <a:pt x="138" y="460"/>
                  </a:lnTo>
                  <a:lnTo>
                    <a:pt x="145" y="460"/>
                  </a:lnTo>
                  <a:lnTo>
                    <a:pt x="145" y="460"/>
                  </a:lnTo>
                  <a:lnTo>
                    <a:pt x="151" y="460"/>
                  </a:lnTo>
                  <a:lnTo>
                    <a:pt x="151" y="454"/>
                  </a:lnTo>
                  <a:lnTo>
                    <a:pt x="158" y="454"/>
                  </a:lnTo>
                  <a:lnTo>
                    <a:pt x="158" y="447"/>
                  </a:lnTo>
                  <a:close/>
                  <a:moveTo>
                    <a:pt x="896" y="447"/>
                  </a:moveTo>
                  <a:lnTo>
                    <a:pt x="896" y="441"/>
                  </a:lnTo>
                  <a:lnTo>
                    <a:pt x="889" y="434"/>
                  </a:lnTo>
                  <a:lnTo>
                    <a:pt x="889" y="434"/>
                  </a:lnTo>
                  <a:lnTo>
                    <a:pt x="883" y="427"/>
                  </a:lnTo>
                  <a:lnTo>
                    <a:pt x="883" y="421"/>
                  </a:lnTo>
                  <a:lnTo>
                    <a:pt x="883" y="414"/>
                  </a:lnTo>
                  <a:lnTo>
                    <a:pt x="883" y="408"/>
                  </a:lnTo>
                  <a:lnTo>
                    <a:pt x="883" y="401"/>
                  </a:lnTo>
                  <a:lnTo>
                    <a:pt x="883" y="401"/>
                  </a:lnTo>
                  <a:lnTo>
                    <a:pt x="883" y="395"/>
                  </a:lnTo>
                  <a:lnTo>
                    <a:pt x="883" y="388"/>
                  </a:lnTo>
                  <a:lnTo>
                    <a:pt x="870" y="381"/>
                  </a:lnTo>
                  <a:lnTo>
                    <a:pt x="863" y="381"/>
                  </a:lnTo>
                  <a:lnTo>
                    <a:pt x="857" y="381"/>
                  </a:lnTo>
                  <a:lnTo>
                    <a:pt x="850" y="388"/>
                  </a:lnTo>
                  <a:lnTo>
                    <a:pt x="843" y="388"/>
                  </a:lnTo>
                  <a:lnTo>
                    <a:pt x="837" y="395"/>
                  </a:lnTo>
                  <a:lnTo>
                    <a:pt x="830" y="395"/>
                  </a:lnTo>
                  <a:lnTo>
                    <a:pt x="824" y="401"/>
                  </a:lnTo>
                  <a:lnTo>
                    <a:pt x="817" y="408"/>
                  </a:lnTo>
                  <a:lnTo>
                    <a:pt x="810" y="414"/>
                  </a:lnTo>
                  <a:lnTo>
                    <a:pt x="810" y="414"/>
                  </a:lnTo>
                  <a:lnTo>
                    <a:pt x="804" y="421"/>
                  </a:lnTo>
                  <a:lnTo>
                    <a:pt x="797" y="427"/>
                  </a:lnTo>
                  <a:lnTo>
                    <a:pt x="797" y="434"/>
                  </a:lnTo>
                  <a:lnTo>
                    <a:pt x="791" y="434"/>
                  </a:lnTo>
                  <a:lnTo>
                    <a:pt x="791" y="441"/>
                  </a:lnTo>
                  <a:lnTo>
                    <a:pt x="784" y="447"/>
                  </a:lnTo>
                  <a:lnTo>
                    <a:pt x="784" y="454"/>
                  </a:lnTo>
                  <a:lnTo>
                    <a:pt x="791" y="454"/>
                  </a:lnTo>
                  <a:lnTo>
                    <a:pt x="797" y="460"/>
                  </a:lnTo>
                  <a:lnTo>
                    <a:pt x="804" y="467"/>
                  </a:lnTo>
                  <a:lnTo>
                    <a:pt x="810" y="467"/>
                  </a:lnTo>
                  <a:lnTo>
                    <a:pt x="817" y="467"/>
                  </a:lnTo>
                  <a:lnTo>
                    <a:pt x="824" y="460"/>
                  </a:lnTo>
                  <a:lnTo>
                    <a:pt x="830" y="460"/>
                  </a:lnTo>
                  <a:lnTo>
                    <a:pt x="837" y="454"/>
                  </a:lnTo>
                  <a:lnTo>
                    <a:pt x="850" y="454"/>
                  </a:lnTo>
                  <a:lnTo>
                    <a:pt x="857" y="447"/>
                  </a:lnTo>
                  <a:lnTo>
                    <a:pt x="863" y="447"/>
                  </a:lnTo>
                  <a:lnTo>
                    <a:pt x="870" y="454"/>
                  </a:lnTo>
                  <a:lnTo>
                    <a:pt x="876" y="460"/>
                  </a:lnTo>
                  <a:lnTo>
                    <a:pt x="883" y="467"/>
                  </a:lnTo>
                  <a:lnTo>
                    <a:pt x="889" y="467"/>
                  </a:lnTo>
                  <a:lnTo>
                    <a:pt x="889" y="474"/>
                  </a:lnTo>
                  <a:lnTo>
                    <a:pt x="896" y="474"/>
                  </a:lnTo>
                  <a:lnTo>
                    <a:pt x="896" y="474"/>
                  </a:lnTo>
                  <a:lnTo>
                    <a:pt x="896" y="467"/>
                  </a:lnTo>
                  <a:lnTo>
                    <a:pt x="896" y="460"/>
                  </a:lnTo>
                  <a:lnTo>
                    <a:pt x="896" y="447"/>
                  </a:lnTo>
                  <a:close/>
                  <a:moveTo>
                    <a:pt x="171" y="421"/>
                  </a:moveTo>
                  <a:lnTo>
                    <a:pt x="171" y="421"/>
                  </a:lnTo>
                  <a:lnTo>
                    <a:pt x="171" y="434"/>
                  </a:lnTo>
                  <a:lnTo>
                    <a:pt x="171" y="421"/>
                  </a:lnTo>
                  <a:close/>
                  <a:moveTo>
                    <a:pt x="2148" y="421"/>
                  </a:moveTo>
                  <a:lnTo>
                    <a:pt x="2148" y="414"/>
                  </a:lnTo>
                  <a:lnTo>
                    <a:pt x="2141" y="414"/>
                  </a:lnTo>
                  <a:lnTo>
                    <a:pt x="2135" y="414"/>
                  </a:lnTo>
                  <a:lnTo>
                    <a:pt x="2135" y="421"/>
                  </a:lnTo>
                  <a:lnTo>
                    <a:pt x="2135" y="427"/>
                  </a:lnTo>
                  <a:lnTo>
                    <a:pt x="2135" y="427"/>
                  </a:lnTo>
                  <a:lnTo>
                    <a:pt x="2135" y="434"/>
                  </a:lnTo>
                  <a:lnTo>
                    <a:pt x="2141" y="434"/>
                  </a:lnTo>
                  <a:lnTo>
                    <a:pt x="2148" y="441"/>
                  </a:lnTo>
                  <a:lnTo>
                    <a:pt x="2148" y="441"/>
                  </a:lnTo>
                  <a:lnTo>
                    <a:pt x="2148" y="434"/>
                  </a:lnTo>
                  <a:lnTo>
                    <a:pt x="2148" y="434"/>
                  </a:lnTo>
                  <a:lnTo>
                    <a:pt x="2148" y="427"/>
                  </a:lnTo>
                  <a:lnTo>
                    <a:pt x="2148" y="421"/>
                  </a:lnTo>
                  <a:close/>
                  <a:moveTo>
                    <a:pt x="198" y="395"/>
                  </a:moveTo>
                  <a:lnTo>
                    <a:pt x="198" y="395"/>
                  </a:lnTo>
                  <a:lnTo>
                    <a:pt x="198" y="395"/>
                  </a:lnTo>
                  <a:lnTo>
                    <a:pt x="198" y="395"/>
                  </a:lnTo>
                  <a:close/>
                  <a:moveTo>
                    <a:pt x="237" y="362"/>
                  </a:moveTo>
                  <a:lnTo>
                    <a:pt x="224" y="362"/>
                  </a:lnTo>
                  <a:lnTo>
                    <a:pt x="224" y="368"/>
                  </a:lnTo>
                  <a:lnTo>
                    <a:pt x="237" y="362"/>
                  </a:lnTo>
                  <a:close/>
                  <a:moveTo>
                    <a:pt x="277" y="335"/>
                  </a:moveTo>
                  <a:lnTo>
                    <a:pt x="250" y="335"/>
                  </a:lnTo>
                  <a:lnTo>
                    <a:pt x="250" y="348"/>
                  </a:lnTo>
                  <a:lnTo>
                    <a:pt x="277" y="335"/>
                  </a:lnTo>
                  <a:close/>
                  <a:moveTo>
                    <a:pt x="329" y="309"/>
                  </a:moveTo>
                  <a:lnTo>
                    <a:pt x="310" y="309"/>
                  </a:lnTo>
                  <a:lnTo>
                    <a:pt x="283" y="335"/>
                  </a:lnTo>
                  <a:lnTo>
                    <a:pt x="290" y="329"/>
                  </a:lnTo>
                  <a:lnTo>
                    <a:pt x="296" y="329"/>
                  </a:lnTo>
                  <a:lnTo>
                    <a:pt x="303" y="329"/>
                  </a:lnTo>
                  <a:lnTo>
                    <a:pt x="310" y="322"/>
                  </a:lnTo>
                  <a:lnTo>
                    <a:pt x="316" y="322"/>
                  </a:lnTo>
                  <a:lnTo>
                    <a:pt x="323" y="316"/>
                  </a:lnTo>
                  <a:lnTo>
                    <a:pt x="323" y="316"/>
                  </a:lnTo>
                  <a:lnTo>
                    <a:pt x="329" y="309"/>
                  </a:lnTo>
                  <a:close/>
                  <a:moveTo>
                    <a:pt x="362" y="283"/>
                  </a:moveTo>
                  <a:lnTo>
                    <a:pt x="336" y="283"/>
                  </a:lnTo>
                  <a:lnTo>
                    <a:pt x="336" y="302"/>
                  </a:lnTo>
                  <a:lnTo>
                    <a:pt x="362" y="283"/>
                  </a:lnTo>
                  <a:close/>
                </a:path>
              </a:pathLst>
            </a:custGeom>
            <a:solidFill>
              <a:srgbClr val="c0e2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1" name=""/>
            <p:cNvSpPr/>
            <p:nvPr/>
          </p:nvSpPr>
          <p:spPr>
            <a:xfrm>
              <a:off x="2295360" y="2711520"/>
              <a:ext cx="4289760" cy="2747880"/>
            </a:xfrm>
            <a:custGeom>
              <a:avLst/>
              <a:gdLst/>
              <a:ahLst/>
              <a:rect l="l" t="t" r="r" b="b"/>
              <a:pathLst>
                <a:path w="2702" h="1731">
                  <a:moveTo>
                    <a:pt x="2339" y="1731"/>
                  </a:moveTo>
                  <a:lnTo>
                    <a:pt x="2365" y="1705"/>
                  </a:lnTo>
                  <a:lnTo>
                    <a:pt x="2398" y="1705"/>
                  </a:lnTo>
                  <a:lnTo>
                    <a:pt x="2425" y="1705"/>
                  </a:lnTo>
                  <a:lnTo>
                    <a:pt x="2451" y="1705"/>
                  </a:lnTo>
                  <a:lnTo>
                    <a:pt x="2477" y="1705"/>
                  </a:lnTo>
                  <a:lnTo>
                    <a:pt x="2510" y="1705"/>
                  </a:lnTo>
                  <a:lnTo>
                    <a:pt x="2537" y="1705"/>
                  </a:lnTo>
                  <a:lnTo>
                    <a:pt x="2563" y="1678"/>
                  </a:lnTo>
                  <a:lnTo>
                    <a:pt x="2563" y="1652"/>
                  </a:lnTo>
                  <a:lnTo>
                    <a:pt x="2563" y="1619"/>
                  </a:lnTo>
                  <a:lnTo>
                    <a:pt x="2563" y="1593"/>
                  </a:lnTo>
                  <a:lnTo>
                    <a:pt x="2590" y="1566"/>
                  </a:lnTo>
                  <a:lnTo>
                    <a:pt x="2590" y="1540"/>
                  </a:lnTo>
                  <a:lnTo>
                    <a:pt x="2590" y="1507"/>
                  </a:lnTo>
                  <a:lnTo>
                    <a:pt x="2590" y="1481"/>
                  </a:lnTo>
                  <a:lnTo>
                    <a:pt x="2616" y="1455"/>
                  </a:lnTo>
                  <a:lnTo>
                    <a:pt x="2616" y="1428"/>
                  </a:lnTo>
                  <a:lnTo>
                    <a:pt x="2616" y="1395"/>
                  </a:lnTo>
                  <a:lnTo>
                    <a:pt x="2616" y="1369"/>
                  </a:lnTo>
                  <a:lnTo>
                    <a:pt x="2649" y="1343"/>
                  </a:lnTo>
                  <a:lnTo>
                    <a:pt x="2649" y="1316"/>
                  </a:lnTo>
                  <a:lnTo>
                    <a:pt x="2649" y="1283"/>
                  </a:lnTo>
                  <a:lnTo>
                    <a:pt x="2649" y="1257"/>
                  </a:lnTo>
                  <a:lnTo>
                    <a:pt x="2675" y="1231"/>
                  </a:lnTo>
                  <a:lnTo>
                    <a:pt x="2675" y="1204"/>
                  </a:lnTo>
                  <a:lnTo>
                    <a:pt x="2675" y="1171"/>
                  </a:lnTo>
                  <a:lnTo>
                    <a:pt x="2675" y="1145"/>
                  </a:lnTo>
                  <a:lnTo>
                    <a:pt x="2702" y="1119"/>
                  </a:lnTo>
                  <a:lnTo>
                    <a:pt x="2702" y="1092"/>
                  </a:lnTo>
                  <a:lnTo>
                    <a:pt x="2702" y="1060"/>
                  </a:lnTo>
                  <a:lnTo>
                    <a:pt x="2702" y="1033"/>
                  </a:lnTo>
                  <a:lnTo>
                    <a:pt x="2702" y="1007"/>
                  </a:lnTo>
                  <a:lnTo>
                    <a:pt x="2702" y="981"/>
                  </a:lnTo>
                  <a:lnTo>
                    <a:pt x="2702" y="948"/>
                  </a:lnTo>
                  <a:lnTo>
                    <a:pt x="2702" y="921"/>
                  </a:lnTo>
                  <a:lnTo>
                    <a:pt x="2702" y="895"/>
                  </a:lnTo>
                  <a:lnTo>
                    <a:pt x="2702" y="869"/>
                  </a:lnTo>
                  <a:lnTo>
                    <a:pt x="2702" y="842"/>
                  </a:lnTo>
                  <a:lnTo>
                    <a:pt x="2702" y="809"/>
                  </a:lnTo>
                  <a:lnTo>
                    <a:pt x="2702" y="783"/>
                  </a:lnTo>
                  <a:lnTo>
                    <a:pt x="2702" y="757"/>
                  </a:lnTo>
                  <a:lnTo>
                    <a:pt x="2702" y="730"/>
                  </a:lnTo>
                  <a:lnTo>
                    <a:pt x="2702" y="697"/>
                  </a:lnTo>
                  <a:lnTo>
                    <a:pt x="2702" y="671"/>
                  </a:lnTo>
                  <a:lnTo>
                    <a:pt x="2702" y="645"/>
                  </a:lnTo>
                  <a:lnTo>
                    <a:pt x="2702" y="618"/>
                  </a:lnTo>
                  <a:lnTo>
                    <a:pt x="2702" y="585"/>
                  </a:lnTo>
                  <a:lnTo>
                    <a:pt x="2702" y="559"/>
                  </a:lnTo>
                  <a:lnTo>
                    <a:pt x="2702" y="533"/>
                  </a:lnTo>
                  <a:lnTo>
                    <a:pt x="2702" y="506"/>
                  </a:lnTo>
                  <a:lnTo>
                    <a:pt x="2702" y="474"/>
                  </a:lnTo>
                  <a:lnTo>
                    <a:pt x="2702" y="447"/>
                  </a:lnTo>
                  <a:lnTo>
                    <a:pt x="2702" y="421"/>
                  </a:lnTo>
                  <a:lnTo>
                    <a:pt x="2702" y="395"/>
                  </a:lnTo>
                  <a:lnTo>
                    <a:pt x="2702" y="362"/>
                  </a:lnTo>
                  <a:lnTo>
                    <a:pt x="2702" y="335"/>
                  </a:lnTo>
                  <a:lnTo>
                    <a:pt x="2702" y="309"/>
                  </a:lnTo>
                  <a:lnTo>
                    <a:pt x="2702" y="283"/>
                  </a:lnTo>
                  <a:lnTo>
                    <a:pt x="2702" y="250"/>
                  </a:lnTo>
                  <a:lnTo>
                    <a:pt x="2675" y="223"/>
                  </a:lnTo>
                  <a:lnTo>
                    <a:pt x="2675" y="197"/>
                  </a:lnTo>
                  <a:lnTo>
                    <a:pt x="2675" y="171"/>
                  </a:lnTo>
                  <a:lnTo>
                    <a:pt x="2675" y="138"/>
                  </a:lnTo>
                  <a:lnTo>
                    <a:pt x="2675" y="111"/>
                  </a:lnTo>
                  <a:lnTo>
                    <a:pt x="2649" y="85"/>
                  </a:lnTo>
                  <a:lnTo>
                    <a:pt x="2616" y="85"/>
                  </a:lnTo>
                  <a:lnTo>
                    <a:pt x="2590" y="85"/>
                  </a:lnTo>
                  <a:lnTo>
                    <a:pt x="2563" y="59"/>
                  </a:lnTo>
                  <a:lnTo>
                    <a:pt x="2537" y="59"/>
                  </a:lnTo>
                  <a:lnTo>
                    <a:pt x="2510" y="59"/>
                  </a:lnTo>
                  <a:lnTo>
                    <a:pt x="2477" y="26"/>
                  </a:lnTo>
                  <a:lnTo>
                    <a:pt x="2451" y="26"/>
                  </a:lnTo>
                  <a:lnTo>
                    <a:pt x="2425" y="26"/>
                  </a:lnTo>
                  <a:lnTo>
                    <a:pt x="2398" y="0"/>
                  </a:lnTo>
                  <a:lnTo>
                    <a:pt x="2365" y="0"/>
                  </a:lnTo>
                  <a:lnTo>
                    <a:pt x="2339" y="0"/>
                  </a:lnTo>
                  <a:lnTo>
                    <a:pt x="2313" y="0"/>
                  </a:lnTo>
                  <a:lnTo>
                    <a:pt x="2286" y="0"/>
                  </a:lnTo>
                  <a:lnTo>
                    <a:pt x="2253" y="0"/>
                  </a:lnTo>
                  <a:lnTo>
                    <a:pt x="2227" y="0"/>
                  </a:lnTo>
                  <a:lnTo>
                    <a:pt x="2201" y="0"/>
                  </a:lnTo>
                  <a:lnTo>
                    <a:pt x="2174" y="0"/>
                  </a:lnTo>
                  <a:lnTo>
                    <a:pt x="2148" y="0"/>
                  </a:lnTo>
                  <a:lnTo>
                    <a:pt x="2115" y="0"/>
                  </a:lnTo>
                  <a:lnTo>
                    <a:pt x="2089" y="0"/>
                  </a:lnTo>
                  <a:lnTo>
                    <a:pt x="2069" y="0"/>
                  </a:lnTo>
                  <a:lnTo>
                    <a:pt x="2076" y="0"/>
                  </a:lnTo>
                  <a:lnTo>
                    <a:pt x="2082" y="6"/>
                  </a:lnTo>
                  <a:lnTo>
                    <a:pt x="2089" y="6"/>
                  </a:lnTo>
                  <a:lnTo>
                    <a:pt x="2095" y="6"/>
                  </a:lnTo>
                  <a:lnTo>
                    <a:pt x="2108" y="13"/>
                  </a:lnTo>
                  <a:lnTo>
                    <a:pt x="2115" y="13"/>
                  </a:lnTo>
                  <a:lnTo>
                    <a:pt x="2122" y="13"/>
                  </a:lnTo>
                  <a:lnTo>
                    <a:pt x="2135" y="13"/>
                  </a:lnTo>
                  <a:lnTo>
                    <a:pt x="2141" y="13"/>
                  </a:lnTo>
                  <a:lnTo>
                    <a:pt x="2148" y="13"/>
                  </a:lnTo>
                  <a:lnTo>
                    <a:pt x="2161" y="19"/>
                  </a:lnTo>
                  <a:lnTo>
                    <a:pt x="2168" y="19"/>
                  </a:lnTo>
                  <a:lnTo>
                    <a:pt x="2174" y="19"/>
                  </a:lnTo>
                  <a:lnTo>
                    <a:pt x="2181" y="19"/>
                  </a:lnTo>
                  <a:lnTo>
                    <a:pt x="2194" y="19"/>
                  </a:lnTo>
                  <a:lnTo>
                    <a:pt x="2201" y="26"/>
                  </a:lnTo>
                  <a:lnTo>
                    <a:pt x="2207" y="26"/>
                  </a:lnTo>
                  <a:lnTo>
                    <a:pt x="2221" y="26"/>
                  </a:lnTo>
                  <a:lnTo>
                    <a:pt x="2227" y="26"/>
                  </a:lnTo>
                  <a:lnTo>
                    <a:pt x="2234" y="26"/>
                  </a:lnTo>
                  <a:lnTo>
                    <a:pt x="2240" y="32"/>
                  </a:lnTo>
                  <a:lnTo>
                    <a:pt x="2240" y="39"/>
                  </a:lnTo>
                  <a:lnTo>
                    <a:pt x="2240" y="46"/>
                  </a:lnTo>
                  <a:lnTo>
                    <a:pt x="2240" y="52"/>
                  </a:lnTo>
                  <a:lnTo>
                    <a:pt x="2247" y="59"/>
                  </a:lnTo>
                  <a:lnTo>
                    <a:pt x="2253" y="59"/>
                  </a:lnTo>
                  <a:lnTo>
                    <a:pt x="2267" y="59"/>
                  </a:lnTo>
                  <a:lnTo>
                    <a:pt x="2273" y="59"/>
                  </a:lnTo>
                  <a:lnTo>
                    <a:pt x="2280" y="65"/>
                  </a:lnTo>
                  <a:lnTo>
                    <a:pt x="2293" y="65"/>
                  </a:lnTo>
                  <a:lnTo>
                    <a:pt x="2300" y="65"/>
                  </a:lnTo>
                  <a:lnTo>
                    <a:pt x="2306" y="65"/>
                  </a:lnTo>
                  <a:lnTo>
                    <a:pt x="2313" y="65"/>
                  </a:lnTo>
                  <a:lnTo>
                    <a:pt x="2319" y="72"/>
                  </a:lnTo>
                  <a:lnTo>
                    <a:pt x="2319" y="79"/>
                  </a:lnTo>
                  <a:lnTo>
                    <a:pt x="2326" y="85"/>
                  </a:lnTo>
                  <a:lnTo>
                    <a:pt x="2333" y="92"/>
                  </a:lnTo>
                  <a:lnTo>
                    <a:pt x="2339" y="92"/>
                  </a:lnTo>
                  <a:lnTo>
                    <a:pt x="2346" y="92"/>
                  </a:lnTo>
                  <a:lnTo>
                    <a:pt x="2352" y="92"/>
                  </a:lnTo>
                  <a:lnTo>
                    <a:pt x="2359" y="85"/>
                  </a:lnTo>
                  <a:lnTo>
                    <a:pt x="2365" y="85"/>
                  </a:lnTo>
                  <a:lnTo>
                    <a:pt x="2365" y="79"/>
                  </a:lnTo>
                  <a:lnTo>
                    <a:pt x="2359" y="72"/>
                  </a:lnTo>
                  <a:lnTo>
                    <a:pt x="2359" y="65"/>
                  </a:lnTo>
                  <a:lnTo>
                    <a:pt x="2359" y="59"/>
                  </a:lnTo>
                  <a:lnTo>
                    <a:pt x="2365" y="52"/>
                  </a:lnTo>
                  <a:lnTo>
                    <a:pt x="2372" y="59"/>
                  </a:lnTo>
                  <a:lnTo>
                    <a:pt x="2379" y="65"/>
                  </a:lnTo>
                  <a:lnTo>
                    <a:pt x="2379" y="72"/>
                  </a:lnTo>
                  <a:lnTo>
                    <a:pt x="2385" y="79"/>
                  </a:lnTo>
                  <a:lnTo>
                    <a:pt x="2385" y="79"/>
                  </a:lnTo>
                  <a:lnTo>
                    <a:pt x="2392" y="85"/>
                  </a:lnTo>
                  <a:lnTo>
                    <a:pt x="2398" y="85"/>
                  </a:lnTo>
                  <a:lnTo>
                    <a:pt x="2405" y="92"/>
                  </a:lnTo>
                  <a:lnTo>
                    <a:pt x="2405" y="98"/>
                  </a:lnTo>
                  <a:lnTo>
                    <a:pt x="2405" y="105"/>
                  </a:lnTo>
                  <a:lnTo>
                    <a:pt x="2405" y="111"/>
                  </a:lnTo>
                  <a:lnTo>
                    <a:pt x="2405" y="118"/>
                  </a:lnTo>
                  <a:lnTo>
                    <a:pt x="2412" y="118"/>
                  </a:lnTo>
                  <a:lnTo>
                    <a:pt x="2412" y="125"/>
                  </a:lnTo>
                  <a:lnTo>
                    <a:pt x="2412" y="131"/>
                  </a:lnTo>
                  <a:lnTo>
                    <a:pt x="2412" y="138"/>
                  </a:lnTo>
                  <a:lnTo>
                    <a:pt x="2418" y="144"/>
                  </a:lnTo>
                  <a:lnTo>
                    <a:pt x="2412" y="151"/>
                  </a:lnTo>
                  <a:lnTo>
                    <a:pt x="2412" y="158"/>
                  </a:lnTo>
                  <a:lnTo>
                    <a:pt x="2418" y="164"/>
                  </a:lnTo>
                  <a:lnTo>
                    <a:pt x="2418" y="164"/>
                  </a:lnTo>
                  <a:lnTo>
                    <a:pt x="2425" y="171"/>
                  </a:lnTo>
                  <a:lnTo>
                    <a:pt x="2431" y="171"/>
                  </a:lnTo>
                  <a:lnTo>
                    <a:pt x="2438" y="177"/>
                  </a:lnTo>
                  <a:lnTo>
                    <a:pt x="2445" y="184"/>
                  </a:lnTo>
                  <a:lnTo>
                    <a:pt x="2445" y="190"/>
                  </a:lnTo>
                  <a:lnTo>
                    <a:pt x="2451" y="197"/>
                  </a:lnTo>
                  <a:lnTo>
                    <a:pt x="2458" y="197"/>
                  </a:lnTo>
                  <a:lnTo>
                    <a:pt x="2464" y="204"/>
                  </a:lnTo>
                  <a:lnTo>
                    <a:pt x="2471" y="204"/>
                  </a:lnTo>
                  <a:lnTo>
                    <a:pt x="2484" y="204"/>
                  </a:lnTo>
                  <a:lnTo>
                    <a:pt x="2484" y="210"/>
                  </a:lnTo>
                  <a:lnTo>
                    <a:pt x="2491" y="210"/>
                  </a:lnTo>
                  <a:lnTo>
                    <a:pt x="2497" y="217"/>
                  </a:lnTo>
                  <a:lnTo>
                    <a:pt x="2497" y="223"/>
                  </a:lnTo>
                  <a:lnTo>
                    <a:pt x="2504" y="230"/>
                  </a:lnTo>
                  <a:lnTo>
                    <a:pt x="2510" y="230"/>
                  </a:lnTo>
                  <a:lnTo>
                    <a:pt x="2517" y="237"/>
                  </a:lnTo>
                  <a:lnTo>
                    <a:pt x="2530" y="237"/>
                  </a:lnTo>
                  <a:lnTo>
                    <a:pt x="2537" y="237"/>
                  </a:lnTo>
                  <a:lnTo>
                    <a:pt x="2537" y="243"/>
                  </a:lnTo>
                  <a:lnTo>
                    <a:pt x="2543" y="250"/>
                  </a:lnTo>
                  <a:lnTo>
                    <a:pt x="2550" y="256"/>
                  </a:lnTo>
                  <a:lnTo>
                    <a:pt x="2557" y="256"/>
                  </a:lnTo>
                  <a:lnTo>
                    <a:pt x="2557" y="263"/>
                  </a:lnTo>
                  <a:lnTo>
                    <a:pt x="2570" y="263"/>
                  </a:lnTo>
                  <a:lnTo>
                    <a:pt x="2576" y="269"/>
                  </a:lnTo>
                  <a:lnTo>
                    <a:pt x="2583" y="269"/>
                  </a:lnTo>
                  <a:lnTo>
                    <a:pt x="2590" y="276"/>
                  </a:lnTo>
                  <a:lnTo>
                    <a:pt x="2590" y="283"/>
                  </a:lnTo>
                  <a:lnTo>
                    <a:pt x="2583" y="283"/>
                  </a:lnTo>
                  <a:lnTo>
                    <a:pt x="2583" y="289"/>
                  </a:lnTo>
                  <a:lnTo>
                    <a:pt x="2576" y="296"/>
                  </a:lnTo>
                  <a:lnTo>
                    <a:pt x="2576" y="302"/>
                  </a:lnTo>
                  <a:lnTo>
                    <a:pt x="2570" y="309"/>
                  </a:lnTo>
                  <a:lnTo>
                    <a:pt x="2570" y="309"/>
                  </a:lnTo>
                  <a:lnTo>
                    <a:pt x="2563" y="316"/>
                  </a:lnTo>
                  <a:lnTo>
                    <a:pt x="2557" y="316"/>
                  </a:lnTo>
                  <a:lnTo>
                    <a:pt x="2543" y="316"/>
                  </a:lnTo>
                  <a:lnTo>
                    <a:pt x="2537" y="316"/>
                  </a:lnTo>
                  <a:lnTo>
                    <a:pt x="2530" y="309"/>
                  </a:lnTo>
                  <a:lnTo>
                    <a:pt x="2517" y="309"/>
                  </a:lnTo>
                  <a:lnTo>
                    <a:pt x="2510" y="309"/>
                  </a:lnTo>
                  <a:lnTo>
                    <a:pt x="2504" y="309"/>
                  </a:lnTo>
                  <a:lnTo>
                    <a:pt x="2497" y="309"/>
                  </a:lnTo>
                  <a:lnTo>
                    <a:pt x="2484" y="316"/>
                  </a:lnTo>
                  <a:lnTo>
                    <a:pt x="2477" y="316"/>
                  </a:lnTo>
                  <a:lnTo>
                    <a:pt x="2464" y="316"/>
                  </a:lnTo>
                  <a:lnTo>
                    <a:pt x="2458" y="316"/>
                  </a:lnTo>
                  <a:lnTo>
                    <a:pt x="2451" y="309"/>
                  </a:lnTo>
                  <a:lnTo>
                    <a:pt x="2445" y="302"/>
                  </a:lnTo>
                  <a:lnTo>
                    <a:pt x="2438" y="302"/>
                  </a:lnTo>
                  <a:lnTo>
                    <a:pt x="2431" y="302"/>
                  </a:lnTo>
                  <a:lnTo>
                    <a:pt x="2425" y="296"/>
                  </a:lnTo>
                  <a:lnTo>
                    <a:pt x="2412" y="296"/>
                  </a:lnTo>
                  <a:lnTo>
                    <a:pt x="2405" y="302"/>
                  </a:lnTo>
                  <a:lnTo>
                    <a:pt x="2398" y="302"/>
                  </a:lnTo>
                  <a:lnTo>
                    <a:pt x="2385" y="302"/>
                  </a:lnTo>
                  <a:lnTo>
                    <a:pt x="2379" y="302"/>
                  </a:lnTo>
                  <a:lnTo>
                    <a:pt x="2372" y="302"/>
                  </a:lnTo>
                  <a:lnTo>
                    <a:pt x="2365" y="296"/>
                  </a:lnTo>
                  <a:lnTo>
                    <a:pt x="2359" y="289"/>
                  </a:lnTo>
                  <a:lnTo>
                    <a:pt x="2352" y="289"/>
                  </a:lnTo>
                  <a:lnTo>
                    <a:pt x="2346" y="283"/>
                  </a:lnTo>
                  <a:lnTo>
                    <a:pt x="2339" y="276"/>
                  </a:lnTo>
                  <a:lnTo>
                    <a:pt x="2333" y="276"/>
                  </a:lnTo>
                  <a:lnTo>
                    <a:pt x="2326" y="276"/>
                  </a:lnTo>
                  <a:lnTo>
                    <a:pt x="2319" y="276"/>
                  </a:lnTo>
                  <a:lnTo>
                    <a:pt x="2306" y="283"/>
                  </a:lnTo>
                  <a:lnTo>
                    <a:pt x="2319" y="283"/>
                  </a:lnTo>
                  <a:lnTo>
                    <a:pt x="2326" y="289"/>
                  </a:lnTo>
                  <a:lnTo>
                    <a:pt x="2326" y="296"/>
                  </a:lnTo>
                  <a:lnTo>
                    <a:pt x="2333" y="302"/>
                  </a:lnTo>
                  <a:lnTo>
                    <a:pt x="2333" y="302"/>
                  </a:lnTo>
                  <a:lnTo>
                    <a:pt x="2339" y="309"/>
                  </a:lnTo>
                  <a:lnTo>
                    <a:pt x="2339" y="316"/>
                  </a:lnTo>
                  <a:lnTo>
                    <a:pt x="2346" y="316"/>
                  </a:lnTo>
                  <a:lnTo>
                    <a:pt x="2359" y="322"/>
                  </a:lnTo>
                  <a:lnTo>
                    <a:pt x="2365" y="322"/>
                  </a:lnTo>
                  <a:lnTo>
                    <a:pt x="2372" y="329"/>
                  </a:lnTo>
                  <a:lnTo>
                    <a:pt x="2379" y="329"/>
                  </a:lnTo>
                  <a:lnTo>
                    <a:pt x="2379" y="335"/>
                  </a:lnTo>
                  <a:lnTo>
                    <a:pt x="2385" y="342"/>
                  </a:lnTo>
                  <a:lnTo>
                    <a:pt x="2392" y="348"/>
                  </a:lnTo>
                  <a:lnTo>
                    <a:pt x="2392" y="348"/>
                  </a:lnTo>
                  <a:lnTo>
                    <a:pt x="2398" y="355"/>
                  </a:lnTo>
                  <a:lnTo>
                    <a:pt x="2405" y="362"/>
                  </a:lnTo>
                  <a:lnTo>
                    <a:pt x="2405" y="368"/>
                  </a:lnTo>
                  <a:lnTo>
                    <a:pt x="2412" y="368"/>
                  </a:lnTo>
                  <a:lnTo>
                    <a:pt x="2412" y="375"/>
                  </a:lnTo>
                  <a:lnTo>
                    <a:pt x="2418" y="381"/>
                  </a:lnTo>
                  <a:lnTo>
                    <a:pt x="2418" y="388"/>
                  </a:lnTo>
                  <a:lnTo>
                    <a:pt x="2425" y="388"/>
                  </a:lnTo>
                  <a:lnTo>
                    <a:pt x="2431" y="395"/>
                  </a:lnTo>
                  <a:lnTo>
                    <a:pt x="2425" y="401"/>
                  </a:lnTo>
                  <a:lnTo>
                    <a:pt x="2418" y="408"/>
                  </a:lnTo>
                  <a:lnTo>
                    <a:pt x="2412" y="408"/>
                  </a:lnTo>
                  <a:lnTo>
                    <a:pt x="2405" y="408"/>
                  </a:lnTo>
                  <a:lnTo>
                    <a:pt x="2398" y="414"/>
                  </a:lnTo>
                  <a:lnTo>
                    <a:pt x="2392" y="414"/>
                  </a:lnTo>
                  <a:lnTo>
                    <a:pt x="2385" y="421"/>
                  </a:lnTo>
                  <a:lnTo>
                    <a:pt x="2379" y="427"/>
                  </a:lnTo>
                  <a:lnTo>
                    <a:pt x="2379" y="434"/>
                  </a:lnTo>
                  <a:lnTo>
                    <a:pt x="2379" y="434"/>
                  </a:lnTo>
                  <a:lnTo>
                    <a:pt x="2379" y="441"/>
                  </a:lnTo>
                  <a:lnTo>
                    <a:pt x="2379" y="447"/>
                  </a:lnTo>
                  <a:lnTo>
                    <a:pt x="2372" y="454"/>
                  </a:lnTo>
                  <a:lnTo>
                    <a:pt x="2372" y="460"/>
                  </a:lnTo>
                  <a:lnTo>
                    <a:pt x="2372" y="467"/>
                  </a:lnTo>
                  <a:lnTo>
                    <a:pt x="2365" y="467"/>
                  </a:lnTo>
                  <a:lnTo>
                    <a:pt x="2365" y="474"/>
                  </a:lnTo>
                  <a:lnTo>
                    <a:pt x="2359" y="480"/>
                  </a:lnTo>
                  <a:lnTo>
                    <a:pt x="2352" y="487"/>
                  </a:lnTo>
                  <a:lnTo>
                    <a:pt x="2346" y="487"/>
                  </a:lnTo>
                  <a:lnTo>
                    <a:pt x="2339" y="493"/>
                  </a:lnTo>
                  <a:lnTo>
                    <a:pt x="2333" y="493"/>
                  </a:lnTo>
                  <a:lnTo>
                    <a:pt x="2326" y="500"/>
                  </a:lnTo>
                  <a:lnTo>
                    <a:pt x="2319" y="500"/>
                  </a:lnTo>
                  <a:lnTo>
                    <a:pt x="2313" y="506"/>
                  </a:lnTo>
                  <a:lnTo>
                    <a:pt x="2306" y="506"/>
                  </a:lnTo>
                  <a:lnTo>
                    <a:pt x="2293" y="506"/>
                  </a:lnTo>
                  <a:lnTo>
                    <a:pt x="2286" y="506"/>
                  </a:lnTo>
                  <a:lnTo>
                    <a:pt x="2280" y="506"/>
                  </a:lnTo>
                  <a:lnTo>
                    <a:pt x="2273" y="506"/>
                  </a:lnTo>
                  <a:lnTo>
                    <a:pt x="2267" y="500"/>
                  </a:lnTo>
                  <a:lnTo>
                    <a:pt x="2253" y="500"/>
                  </a:lnTo>
                  <a:lnTo>
                    <a:pt x="2247" y="493"/>
                  </a:lnTo>
                  <a:lnTo>
                    <a:pt x="2240" y="493"/>
                  </a:lnTo>
                  <a:lnTo>
                    <a:pt x="2234" y="487"/>
                  </a:lnTo>
                  <a:lnTo>
                    <a:pt x="2227" y="487"/>
                  </a:lnTo>
                  <a:lnTo>
                    <a:pt x="2221" y="480"/>
                  </a:lnTo>
                  <a:lnTo>
                    <a:pt x="2214" y="480"/>
                  </a:lnTo>
                  <a:lnTo>
                    <a:pt x="2207" y="474"/>
                  </a:lnTo>
                  <a:lnTo>
                    <a:pt x="2194" y="474"/>
                  </a:lnTo>
                  <a:lnTo>
                    <a:pt x="2188" y="474"/>
                  </a:lnTo>
                  <a:lnTo>
                    <a:pt x="2181" y="467"/>
                  </a:lnTo>
                  <a:lnTo>
                    <a:pt x="2174" y="467"/>
                  </a:lnTo>
                  <a:lnTo>
                    <a:pt x="2168" y="460"/>
                  </a:lnTo>
                  <a:lnTo>
                    <a:pt x="2161" y="460"/>
                  </a:lnTo>
                  <a:lnTo>
                    <a:pt x="2148" y="454"/>
                  </a:lnTo>
                  <a:lnTo>
                    <a:pt x="2148" y="454"/>
                  </a:lnTo>
                  <a:lnTo>
                    <a:pt x="2141" y="447"/>
                  </a:lnTo>
                  <a:lnTo>
                    <a:pt x="2135" y="441"/>
                  </a:lnTo>
                  <a:lnTo>
                    <a:pt x="2128" y="434"/>
                  </a:lnTo>
                  <a:lnTo>
                    <a:pt x="2128" y="434"/>
                  </a:lnTo>
                  <a:lnTo>
                    <a:pt x="2122" y="427"/>
                  </a:lnTo>
                  <a:lnTo>
                    <a:pt x="2108" y="427"/>
                  </a:lnTo>
                  <a:lnTo>
                    <a:pt x="2102" y="434"/>
                  </a:lnTo>
                  <a:lnTo>
                    <a:pt x="2095" y="434"/>
                  </a:lnTo>
                  <a:lnTo>
                    <a:pt x="2082" y="434"/>
                  </a:lnTo>
                  <a:lnTo>
                    <a:pt x="2076" y="441"/>
                  </a:lnTo>
                  <a:lnTo>
                    <a:pt x="2069" y="441"/>
                  </a:lnTo>
                  <a:lnTo>
                    <a:pt x="2062" y="441"/>
                  </a:lnTo>
                  <a:lnTo>
                    <a:pt x="2049" y="441"/>
                  </a:lnTo>
                  <a:lnTo>
                    <a:pt x="2043" y="441"/>
                  </a:lnTo>
                  <a:lnTo>
                    <a:pt x="2036" y="441"/>
                  </a:lnTo>
                  <a:lnTo>
                    <a:pt x="2023" y="441"/>
                  </a:lnTo>
                  <a:lnTo>
                    <a:pt x="2016" y="447"/>
                  </a:lnTo>
                  <a:lnTo>
                    <a:pt x="2010" y="447"/>
                  </a:lnTo>
                  <a:lnTo>
                    <a:pt x="2003" y="447"/>
                  </a:lnTo>
                  <a:lnTo>
                    <a:pt x="1996" y="454"/>
                  </a:lnTo>
                  <a:lnTo>
                    <a:pt x="1990" y="460"/>
                  </a:lnTo>
                  <a:lnTo>
                    <a:pt x="1983" y="460"/>
                  </a:lnTo>
                  <a:lnTo>
                    <a:pt x="1977" y="467"/>
                  </a:lnTo>
                  <a:lnTo>
                    <a:pt x="1970" y="467"/>
                  </a:lnTo>
                  <a:lnTo>
                    <a:pt x="1964" y="474"/>
                  </a:lnTo>
                  <a:lnTo>
                    <a:pt x="1957" y="480"/>
                  </a:lnTo>
                  <a:lnTo>
                    <a:pt x="1957" y="487"/>
                  </a:lnTo>
                  <a:lnTo>
                    <a:pt x="1950" y="493"/>
                  </a:lnTo>
                  <a:lnTo>
                    <a:pt x="1950" y="493"/>
                  </a:lnTo>
                  <a:lnTo>
                    <a:pt x="1944" y="493"/>
                  </a:lnTo>
                  <a:lnTo>
                    <a:pt x="1944" y="487"/>
                  </a:lnTo>
                  <a:lnTo>
                    <a:pt x="1937" y="480"/>
                  </a:lnTo>
                  <a:lnTo>
                    <a:pt x="1937" y="474"/>
                  </a:lnTo>
                  <a:lnTo>
                    <a:pt x="1937" y="467"/>
                  </a:lnTo>
                  <a:lnTo>
                    <a:pt x="1944" y="460"/>
                  </a:lnTo>
                  <a:lnTo>
                    <a:pt x="1950" y="454"/>
                  </a:lnTo>
                  <a:lnTo>
                    <a:pt x="1950" y="454"/>
                  </a:lnTo>
                  <a:lnTo>
                    <a:pt x="1950" y="447"/>
                  </a:lnTo>
                  <a:lnTo>
                    <a:pt x="1944" y="441"/>
                  </a:lnTo>
                  <a:lnTo>
                    <a:pt x="1937" y="441"/>
                  </a:lnTo>
                  <a:lnTo>
                    <a:pt x="1924" y="447"/>
                  </a:lnTo>
                  <a:lnTo>
                    <a:pt x="1917" y="447"/>
                  </a:lnTo>
                  <a:lnTo>
                    <a:pt x="1917" y="454"/>
                  </a:lnTo>
                  <a:lnTo>
                    <a:pt x="1911" y="460"/>
                  </a:lnTo>
                  <a:lnTo>
                    <a:pt x="1911" y="467"/>
                  </a:lnTo>
                  <a:lnTo>
                    <a:pt x="1911" y="474"/>
                  </a:lnTo>
                  <a:lnTo>
                    <a:pt x="1911" y="474"/>
                  </a:lnTo>
                  <a:lnTo>
                    <a:pt x="1911" y="480"/>
                  </a:lnTo>
                  <a:lnTo>
                    <a:pt x="1911" y="487"/>
                  </a:lnTo>
                  <a:lnTo>
                    <a:pt x="1904" y="493"/>
                  </a:lnTo>
                  <a:lnTo>
                    <a:pt x="1904" y="500"/>
                  </a:lnTo>
                  <a:lnTo>
                    <a:pt x="1904" y="506"/>
                  </a:lnTo>
                  <a:lnTo>
                    <a:pt x="1904" y="513"/>
                  </a:lnTo>
                  <a:lnTo>
                    <a:pt x="1904" y="513"/>
                  </a:lnTo>
                  <a:lnTo>
                    <a:pt x="1898" y="520"/>
                  </a:lnTo>
                  <a:lnTo>
                    <a:pt x="1898" y="526"/>
                  </a:lnTo>
                  <a:lnTo>
                    <a:pt x="1898" y="533"/>
                  </a:lnTo>
                  <a:lnTo>
                    <a:pt x="1891" y="539"/>
                  </a:lnTo>
                  <a:lnTo>
                    <a:pt x="1891" y="546"/>
                  </a:lnTo>
                  <a:lnTo>
                    <a:pt x="1891" y="546"/>
                  </a:lnTo>
                  <a:lnTo>
                    <a:pt x="1891" y="553"/>
                  </a:lnTo>
                  <a:lnTo>
                    <a:pt x="1884" y="559"/>
                  </a:lnTo>
                  <a:lnTo>
                    <a:pt x="1884" y="566"/>
                  </a:lnTo>
                  <a:lnTo>
                    <a:pt x="1884" y="572"/>
                  </a:lnTo>
                  <a:lnTo>
                    <a:pt x="1878" y="579"/>
                  </a:lnTo>
                  <a:lnTo>
                    <a:pt x="1878" y="585"/>
                  </a:lnTo>
                  <a:lnTo>
                    <a:pt x="1878" y="585"/>
                  </a:lnTo>
                  <a:lnTo>
                    <a:pt x="1878" y="592"/>
                  </a:lnTo>
                  <a:lnTo>
                    <a:pt x="1871" y="599"/>
                  </a:lnTo>
                  <a:lnTo>
                    <a:pt x="1871" y="605"/>
                  </a:lnTo>
                  <a:lnTo>
                    <a:pt x="1871" y="612"/>
                  </a:lnTo>
                  <a:lnTo>
                    <a:pt x="1865" y="618"/>
                  </a:lnTo>
                  <a:lnTo>
                    <a:pt x="1865" y="618"/>
                  </a:lnTo>
                  <a:lnTo>
                    <a:pt x="1858" y="625"/>
                  </a:lnTo>
                  <a:lnTo>
                    <a:pt x="1858" y="632"/>
                  </a:lnTo>
                  <a:lnTo>
                    <a:pt x="1851" y="638"/>
                  </a:lnTo>
                  <a:lnTo>
                    <a:pt x="1851" y="645"/>
                  </a:lnTo>
                  <a:lnTo>
                    <a:pt x="1845" y="645"/>
                  </a:lnTo>
                  <a:lnTo>
                    <a:pt x="1851" y="651"/>
                  </a:lnTo>
                  <a:lnTo>
                    <a:pt x="1851" y="658"/>
                  </a:lnTo>
                  <a:lnTo>
                    <a:pt x="1851" y="664"/>
                  </a:lnTo>
                  <a:lnTo>
                    <a:pt x="1851" y="671"/>
                  </a:lnTo>
                  <a:lnTo>
                    <a:pt x="1851" y="678"/>
                  </a:lnTo>
                  <a:lnTo>
                    <a:pt x="1845" y="678"/>
                  </a:lnTo>
                  <a:lnTo>
                    <a:pt x="1838" y="684"/>
                  </a:lnTo>
                  <a:lnTo>
                    <a:pt x="1832" y="684"/>
                  </a:lnTo>
                  <a:lnTo>
                    <a:pt x="1825" y="691"/>
                  </a:lnTo>
                  <a:lnTo>
                    <a:pt x="1812" y="691"/>
                  </a:lnTo>
                  <a:lnTo>
                    <a:pt x="1805" y="691"/>
                  </a:lnTo>
                  <a:lnTo>
                    <a:pt x="1799" y="691"/>
                  </a:lnTo>
                  <a:lnTo>
                    <a:pt x="1786" y="684"/>
                  </a:lnTo>
                  <a:lnTo>
                    <a:pt x="1779" y="684"/>
                  </a:lnTo>
                  <a:lnTo>
                    <a:pt x="1772" y="684"/>
                  </a:lnTo>
                  <a:lnTo>
                    <a:pt x="1759" y="684"/>
                  </a:lnTo>
                  <a:lnTo>
                    <a:pt x="1753" y="684"/>
                  </a:lnTo>
                  <a:lnTo>
                    <a:pt x="1746" y="684"/>
                  </a:lnTo>
                  <a:lnTo>
                    <a:pt x="1733" y="684"/>
                  </a:lnTo>
                  <a:lnTo>
                    <a:pt x="1726" y="684"/>
                  </a:lnTo>
                  <a:lnTo>
                    <a:pt x="1720" y="691"/>
                  </a:lnTo>
                  <a:lnTo>
                    <a:pt x="1707" y="691"/>
                  </a:lnTo>
                  <a:lnTo>
                    <a:pt x="1700" y="691"/>
                  </a:lnTo>
                  <a:lnTo>
                    <a:pt x="1700" y="697"/>
                  </a:lnTo>
                  <a:lnTo>
                    <a:pt x="1693" y="704"/>
                  </a:lnTo>
                  <a:lnTo>
                    <a:pt x="1687" y="711"/>
                  </a:lnTo>
                  <a:lnTo>
                    <a:pt x="1687" y="711"/>
                  </a:lnTo>
                  <a:lnTo>
                    <a:pt x="1680" y="717"/>
                  </a:lnTo>
                  <a:lnTo>
                    <a:pt x="1680" y="724"/>
                  </a:lnTo>
                  <a:lnTo>
                    <a:pt x="1674" y="730"/>
                  </a:lnTo>
                  <a:lnTo>
                    <a:pt x="1674" y="737"/>
                  </a:lnTo>
                  <a:lnTo>
                    <a:pt x="1667" y="737"/>
                  </a:lnTo>
                  <a:lnTo>
                    <a:pt x="1667" y="744"/>
                  </a:lnTo>
                  <a:lnTo>
                    <a:pt x="1660" y="750"/>
                  </a:lnTo>
                  <a:lnTo>
                    <a:pt x="1654" y="757"/>
                  </a:lnTo>
                  <a:lnTo>
                    <a:pt x="1654" y="757"/>
                  </a:lnTo>
                  <a:lnTo>
                    <a:pt x="1647" y="763"/>
                  </a:lnTo>
                  <a:lnTo>
                    <a:pt x="1647" y="770"/>
                  </a:lnTo>
                  <a:lnTo>
                    <a:pt x="1641" y="776"/>
                  </a:lnTo>
                  <a:lnTo>
                    <a:pt x="1641" y="783"/>
                  </a:lnTo>
                  <a:lnTo>
                    <a:pt x="1634" y="783"/>
                  </a:lnTo>
                  <a:lnTo>
                    <a:pt x="1634" y="790"/>
                  </a:lnTo>
                  <a:lnTo>
                    <a:pt x="1627" y="796"/>
                  </a:lnTo>
                  <a:lnTo>
                    <a:pt x="1621" y="803"/>
                  </a:lnTo>
                  <a:lnTo>
                    <a:pt x="1621" y="809"/>
                  </a:lnTo>
                  <a:lnTo>
                    <a:pt x="1614" y="809"/>
                  </a:lnTo>
                  <a:lnTo>
                    <a:pt x="1614" y="816"/>
                  </a:lnTo>
                  <a:lnTo>
                    <a:pt x="1614" y="823"/>
                  </a:lnTo>
                  <a:lnTo>
                    <a:pt x="1608" y="829"/>
                  </a:lnTo>
                  <a:lnTo>
                    <a:pt x="1608" y="836"/>
                  </a:lnTo>
                  <a:lnTo>
                    <a:pt x="1608" y="842"/>
                  </a:lnTo>
                  <a:lnTo>
                    <a:pt x="1608" y="842"/>
                  </a:lnTo>
                  <a:lnTo>
                    <a:pt x="1608" y="849"/>
                  </a:lnTo>
                  <a:lnTo>
                    <a:pt x="1608" y="855"/>
                  </a:lnTo>
                  <a:lnTo>
                    <a:pt x="1601" y="862"/>
                  </a:lnTo>
                  <a:lnTo>
                    <a:pt x="1601" y="869"/>
                  </a:lnTo>
                  <a:lnTo>
                    <a:pt x="1595" y="875"/>
                  </a:lnTo>
                  <a:lnTo>
                    <a:pt x="1588" y="875"/>
                  </a:lnTo>
                  <a:lnTo>
                    <a:pt x="1581" y="869"/>
                  </a:lnTo>
                  <a:lnTo>
                    <a:pt x="1575" y="862"/>
                  </a:lnTo>
                  <a:lnTo>
                    <a:pt x="1575" y="862"/>
                  </a:lnTo>
                  <a:lnTo>
                    <a:pt x="1568" y="855"/>
                  </a:lnTo>
                  <a:lnTo>
                    <a:pt x="1568" y="849"/>
                  </a:lnTo>
                  <a:lnTo>
                    <a:pt x="1568" y="842"/>
                  </a:lnTo>
                  <a:lnTo>
                    <a:pt x="1568" y="836"/>
                  </a:lnTo>
                  <a:lnTo>
                    <a:pt x="1568" y="836"/>
                  </a:lnTo>
                  <a:lnTo>
                    <a:pt x="1568" y="829"/>
                  </a:lnTo>
                  <a:lnTo>
                    <a:pt x="1568" y="823"/>
                  </a:lnTo>
                  <a:lnTo>
                    <a:pt x="1568" y="816"/>
                  </a:lnTo>
                  <a:lnTo>
                    <a:pt x="1562" y="809"/>
                  </a:lnTo>
                  <a:lnTo>
                    <a:pt x="1562" y="803"/>
                  </a:lnTo>
                  <a:lnTo>
                    <a:pt x="1562" y="803"/>
                  </a:lnTo>
                  <a:lnTo>
                    <a:pt x="1562" y="809"/>
                  </a:lnTo>
                  <a:lnTo>
                    <a:pt x="1562" y="816"/>
                  </a:lnTo>
                  <a:lnTo>
                    <a:pt x="1562" y="823"/>
                  </a:lnTo>
                  <a:lnTo>
                    <a:pt x="1562" y="829"/>
                  </a:lnTo>
                  <a:lnTo>
                    <a:pt x="1562" y="836"/>
                  </a:lnTo>
                  <a:lnTo>
                    <a:pt x="1555" y="836"/>
                  </a:lnTo>
                  <a:lnTo>
                    <a:pt x="1555" y="842"/>
                  </a:lnTo>
                  <a:lnTo>
                    <a:pt x="1555" y="849"/>
                  </a:lnTo>
                  <a:lnTo>
                    <a:pt x="1555" y="855"/>
                  </a:lnTo>
                  <a:lnTo>
                    <a:pt x="1555" y="862"/>
                  </a:lnTo>
                  <a:lnTo>
                    <a:pt x="1555" y="869"/>
                  </a:lnTo>
                  <a:lnTo>
                    <a:pt x="1555" y="875"/>
                  </a:lnTo>
                  <a:lnTo>
                    <a:pt x="1562" y="882"/>
                  </a:lnTo>
                  <a:lnTo>
                    <a:pt x="1562" y="882"/>
                  </a:lnTo>
                  <a:lnTo>
                    <a:pt x="1562" y="888"/>
                  </a:lnTo>
                  <a:lnTo>
                    <a:pt x="1555" y="895"/>
                  </a:lnTo>
                  <a:lnTo>
                    <a:pt x="1548" y="902"/>
                  </a:lnTo>
                  <a:lnTo>
                    <a:pt x="1542" y="902"/>
                  </a:lnTo>
                  <a:lnTo>
                    <a:pt x="1529" y="902"/>
                  </a:lnTo>
                  <a:lnTo>
                    <a:pt x="1522" y="902"/>
                  </a:lnTo>
                  <a:lnTo>
                    <a:pt x="1515" y="895"/>
                  </a:lnTo>
                  <a:lnTo>
                    <a:pt x="1502" y="895"/>
                  </a:lnTo>
                  <a:lnTo>
                    <a:pt x="1496" y="895"/>
                  </a:lnTo>
                  <a:lnTo>
                    <a:pt x="1489" y="902"/>
                  </a:lnTo>
                  <a:lnTo>
                    <a:pt x="1482" y="902"/>
                  </a:lnTo>
                  <a:lnTo>
                    <a:pt x="1476" y="902"/>
                  </a:lnTo>
                  <a:lnTo>
                    <a:pt x="1463" y="908"/>
                  </a:lnTo>
                  <a:lnTo>
                    <a:pt x="1456" y="908"/>
                  </a:lnTo>
                  <a:lnTo>
                    <a:pt x="1450" y="915"/>
                  </a:lnTo>
                  <a:lnTo>
                    <a:pt x="1443" y="915"/>
                  </a:lnTo>
                  <a:lnTo>
                    <a:pt x="1436" y="921"/>
                  </a:lnTo>
                  <a:lnTo>
                    <a:pt x="1436" y="928"/>
                  </a:lnTo>
                  <a:lnTo>
                    <a:pt x="1430" y="934"/>
                  </a:lnTo>
                  <a:lnTo>
                    <a:pt x="1430" y="934"/>
                  </a:lnTo>
                  <a:lnTo>
                    <a:pt x="1423" y="941"/>
                  </a:lnTo>
                  <a:lnTo>
                    <a:pt x="1423" y="948"/>
                  </a:lnTo>
                  <a:lnTo>
                    <a:pt x="1423" y="954"/>
                  </a:lnTo>
                  <a:lnTo>
                    <a:pt x="1417" y="954"/>
                  </a:lnTo>
                  <a:lnTo>
                    <a:pt x="1410" y="961"/>
                  </a:lnTo>
                  <a:lnTo>
                    <a:pt x="1397" y="954"/>
                  </a:lnTo>
                  <a:lnTo>
                    <a:pt x="1384" y="954"/>
                  </a:lnTo>
                  <a:lnTo>
                    <a:pt x="1377" y="954"/>
                  </a:lnTo>
                  <a:lnTo>
                    <a:pt x="1370" y="954"/>
                  </a:lnTo>
                  <a:lnTo>
                    <a:pt x="1364" y="948"/>
                  </a:lnTo>
                  <a:lnTo>
                    <a:pt x="1357" y="941"/>
                  </a:lnTo>
                  <a:lnTo>
                    <a:pt x="1357" y="941"/>
                  </a:lnTo>
                  <a:lnTo>
                    <a:pt x="1351" y="934"/>
                  </a:lnTo>
                  <a:lnTo>
                    <a:pt x="1344" y="928"/>
                  </a:lnTo>
                  <a:lnTo>
                    <a:pt x="1338" y="928"/>
                  </a:lnTo>
                  <a:lnTo>
                    <a:pt x="1331" y="921"/>
                  </a:lnTo>
                  <a:lnTo>
                    <a:pt x="1331" y="915"/>
                  </a:lnTo>
                  <a:lnTo>
                    <a:pt x="1324" y="915"/>
                  </a:lnTo>
                  <a:lnTo>
                    <a:pt x="1318" y="908"/>
                  </a:lnTo>
                  <a:lnTo>
                    <a:pt x="1311" y="902"/>
                  </a:lnTo>
                  <a:lnTo>
                    <a:pt x="1305" y="902"/>
                  </a:lnTo>
                  <a:lnTo>
                    <a:pt x="1298" y="895"/>
                  </a:lnTo>
                  <a:lnTo>
                    <a:pt x="1291" y="888"/>
                  </a:lnTo>
                  <a:lnTo>
                    <a:pt x="1285" y="882"/>
                  </a:lnTo>
                  <a:lnTo>
                    <a:pt x="1285" y="882"/>
                  </a:lnTo>
                  <a:lnTo>
                    <a:pt x="1278" y="882"/>
                  </a:lnTo>
                  <a:lnTo>
                    <a:pt x="1278" y="888"/>
                  </a:lnTo>
                  <a:lnTo>
                    <a:pt x="1278" y="902"/>
                  </a:lnTo>
                  <a:lnTo>
                    <a:pt x="1278" y="908"/>
                  </a:lnTo>
                  <a:lnTo>
                    <a:pt x="1278" y="908"/>
                  </a:lnTo>
                  <a:lnTo>
                    <a:pt x="1278" y="915"/>
                  </a:lnTo>
                  <a:lnTo>
                    <a:pt x="1278" y="921"/>
                  </a:lnTo>
                  <a:lnTo>
                    <a:pt x="1285" y="928"/>
                  </a:lnTo>
                  <a:lnTo>
                    <a:pt x="1285" y="928"/>
                  </a:lnTo>
                  <a:lnTo>
                    <a:pt x="1291" y="934"/>
                  </a:lnTo>
                  <a:lnTo>
                    <a:pt x="1298" y="941"/>
                  </a:lnTo>
                  <a:lnTo>
                    <a:pt x="1298" y="948"/>
                  </a:lnTo>
                  <a:lnTo>
                    <a:pt x="1305" y="954"/>
                  </a:lnTo>
                  <a:lnTo>
                    <a:pt x="1305" y="954"/>
                  </a:lnTo>
                  <a:lnTo>
                    <a:pt x="1311" y="961"/>
                  </a:lnTo>
                  <a:lnTo>
                    <a:pt x="1311" y="967"/>
                  </a:lnTo>
                  <a:lnTo>
                    <a:pt x="1318" y="974"/>
                  </a:lnTo>
                  <a:lnTo>
                    <a:pt x="1324" y="974"/>
                  </a:lnTo>
                  <a:lnTo>
                    <a:pt x="1324" y="981"/>
                  </a:lnTo>
                  <a:lnTo>
                    <a:pt x="1324" y="987"/>
                  </a:lnTo>
                  <a:lnTo>
                    <a:pt x="1331" y="994"/>
                  </a:lnTo>
                  <a:lnTo>
                    <a:pt x="1331" y="1000"/>
                  </a:lnTo>
                  <a:lnTo>
                    <a:pt x="1331" y="1007"/>
                  </a:lnTo>
                  <a:lnTo>
                    <a:pt x="1338" y="1007"/>
                  </a:lnTo>
                  <a:lnTo>
                    <a:pt x="1338" y="1013"/>
                  </a:lnTo>
                  <a:lnTo>
                    <a:pt x="1344" y="1020"/>
                  </a:lnTo>
                  <a:lnTo>
                    <a:pt x="1344" y="1027"/>
                  </a:lnTo>
                  <a:lnTo>
                    <a:pt x="1351" y="1033"/>
                  </a:lnTo>
                  <a:lnTo>
                    <a:pt x="1351" y="1033"/>
                  </a:lnTo>
                  <a:lnTo>
                    <a:pt x="1357" y="1040"/>
                  </a:lnTo>
                  <a:lnTo>
                    <a:pt x="1357" y="1046"/>
                  </a:lnTo>
                  <a:lnTo>
                    <a:pt x="1364" y="1053"/>
                  </a:lnTo>
                  <a:lnTo>
                    <a:pt x="1370" y="1060"/>
                  </a:lnTo>
                  <a:lnTo>
                    <a:pt x="1370" y="1060"/>
                  </a:lnTo>
                  <a:lnTo>
                    <a:pt x="1377" y="1066"/>
                  </a:lnTo>
                  <a:lnTo>
                    <a:pt x="1377" y="1073"/>
                  </a:lnTo>
                  <a:lnTo>
                    <a:pt x="1370" y="1079"/>
                  </a:lnTo>
                  <a:lnTo>
                    <a:pt x="1370" y="1086"/>
                  </a:lnTo>
                  <a:lnTo>
                    <a:pt x="1364" y="1086"/>
                  </a:lnTo>
                  <a:lnTo>
                    <a:pt x="1357" y="1092"/>
                  </a:lnTo>
                  <a:lnTo>
                    <a:pt x="1351" y="1099"/>
                  </a:lnTo>
                  <a:lnTo>
                    <a:pt x="1351" y="1099"/>
                  </a:lnTo>
                  <a:lnTo>
                    <a:pt x="1344" y="1106"/>
                  </a:lnTo>
                  <a:lnTo>
                    <a:pt x="1338" y="1112"/>
                  </a:lnTo>
                  <a:lnTo>
                    <a:pt x="1331" y="1112"/>
                  </a:lnTo>
                  <a:lnTo>
                    <a:pt x="1324" y="1119"/>
                  </a:lnTo>
                  <a:lnTo>
                    <a:pt x="1318" y="1119"/>
                  </a:lnTo>
                  <a:lnTo>
                    <a:pt x="1311" y="1125"/>
                  </a:lnTo>
                  <a:lnTo>
                    <a:pt x="1298" y="1125"/>
                  </a:lnTo>
                  <a:lnTo>
                    <a:pt x="1291" y="1125"/>
                  </a:lnTo>
                  <a:lnTo>
                    <a:pt x="1285" y="1132"/>
                  </a:lnTo>
                  <a:lnTo>
                    <a:pt x="1272" y="1132"/>
                  </a:lnTo>
                  <a:lnTo>
                    <a:pt x="1265" y="1132"/>
                  </a:lnTo>
                  <a:lnTo>
                    <a:pt x="1258" y="1132"/>
                  </a:lnTo>
                  <a:lnTo>
                    <a:pt x="1252" y="1132"/>
                  </a:lnTo>
                  <a:lnTo>
                    <a:pt x="1239" y="1132"/>
                  </a:lnTo>
                  <a:lnTo>
                    <a:pt x="1232" y="1132"/>
                  </a:lnTo>
                  <a:lnTo>
                    <a:pt x="1226" y="1132"/>
                  </a:lnTo>
                  <a:lnTo>
                    <a:pt x="1212" y="1132"/>
                  </a:lnTo>
                  <a:lnTo>
                    <a:pt x="1206" y="1139"/>
                  </a:lnTo>
                  <a:lnTo>
                    <a:pt x="1199" y="1139"/>
                  </a:lnTo>
                  <a:lnTo>
                    <a:pt x="1193" y="1145"/>
                  </a:lnTo>
                  <a:lnTo>
                    <a:pt x="1193" y="1152"/>
                  </a:lnTo>
                  <a:lnTo>
                    <a:pt x="1193" y="1158"/>
                  </a:lnTo>
                  <a:lnTo>
                    <a:pt x="1193" y="1158"/>
                  </a:lnTo>
                  <a:lnTo>
                    <a:pt x="1193" y="1165"/>
                  </a:lnTo>
                  <a:lnTo>
                    <a:pt x="1186" y="1171"/>
                  </a:lnTo>
                  <a:lnTo>
                    <a:pt x="1186" y="1178"/>
                  </a:lnTo>
                  <a:lnTo>
                    <a:pt x="1186" y="1185"/>
                  </a:lnTo>
                  <a:lnTo>
                    <a:pt x="1186" y="1191"/>
                  </a:lnTo>
                  <a:lnTo>
                    <a:pt x="1179" y="1191"/>
                  </a:lnTo>
                  <a:lnTo>
                    <a:pt x="1179" y="1198"/>
                  </a:lnTo>
                  <a:lnTo>
                    <a:pt x="1179" y="1204"/>
                  </a:lnTo>
                  <a:lnTo>
                    <a:pt x="1173" y="1211"/>
                  </a:lnTo>
                  <a:lnTo>
                    <a:pt x="1173" y="1218"/>
                  </a:lnTo>
                  <a:lnTo>
                    <a:pt x="1166" y="1218"/>
                  </a:lnTo>
                  <a:lnTo>
                    <a:pt x="1160" y="1211"/>
                  </a:lnTo>
                  <a:lnTo>
                    <a:pt x="1146" y="1211"/>
                  </a:lnTo>
                  <a:lnTo>
                    <a:pt x="1140" y="1204"/>
                  </a:lnTo>
                  <a:lnTo>
                    <a:pt x="1133" y="1204"/>
                  </a:lnTo>
                  <a:lnTo>
                    <a:pt x="1120" y="1204"/>
                  </a:lnTo>
                  <a:lnTo>
                    <a:pt x="1113" y="1204"/>
                  </a:lnTo>
                  <a:lnTo>
                    <a:pt x="1107" y="1211"/>
                  </a:lnTo>
                  <a:lnTo>
                    <a:pt x="1100" y="1211"/>
                  </a:lnTo>
                  <a:lnTo>
                    <a:pt x="1087" y="1211"/>
                  </a:lnTo>
                  <a:lnTo>
                    <a:pt x="1081" y="1211"/>
                  </a:lnTo>
                  <a:lnTo>
                    <a:pt x="1074" y="1211"/>
                  </a:lnTo>
                  <a:lnTo>
                    <a:pt x="1061" y="1218"/>
                  </a:lnTo>
                  <a:lnTo>
                    <a:pt x="1054" y="1218"/>
                  </a:lnTo>
                  <a:lnTo>
                    <a:pt x="1054" y="1224"/>
                  </a:lnTo>
                  <a:lnTo>
                    <a:pt x="1054" y="1231"/>
                  </a:lnTo>
                  <a:lnTo>
                    <a:pt x="1054" y="1237"/>
                  </a:lnTo>
                  <a:lnTo>
                    <a:pt x="1061" y="1244"/>
                  </a:lnTo>
                  <a:lnTo>
                    <a:pt x="1061" y="1244"/>
                  </a:lnTo>
                  <a:lnTo>
                    <a:pt x="1067" y="1250"/>
                  </a:lnTo>
                  <a:lnTo>
                    <a:pt x="1067" y="1257"/>
                  </a:lnTo>
                  <a:lnTo>
                    <a:pt x="1074" y="1264"/>
                  </a:lnTo>
                  <a:lnTo>
                    <a:pt x="1074" y="1270"/>
                  </a:lnTo>
                  <a:lnTo>
                    <a:pt x="1081" y="1270"/>
                  </a:lnTo>
                  <a:lnTo>
                    <a:pt x="1081" y="1277"/>
                  </a:lnTo>
                  <a:lnTo>
                    <a:pt x="1087" y="1283"/>
                  </a:lnTo>
                  <a:lnTo>
                    <a:pt x="1087" y="1290"/>
                  </a:lnTo>
                  <a:lnTo>
                    <a:pt x="1081" y="1290"/>
                  </a:lnTo>
                  <a:lnTo>
                    <a:pt x="1081" y="1283"/>
                  </a:lnTo>
                  <a:lnTo>
                    <a:pt x="1074" y="1277"/>
                  </a:lnTo>
                  <a:lnTo>
                    <a:pt x="1067" y="1270"/>
                  </a:lnTo>
                  <a:lnTo>
                    <a:pt x="1061" y="1270"/>
                  </a:lnTo>
                  <a:lnTo>
                    <a:pt x="1054" y="1264"/>
                  </a:lnTo>
                  <a:lnTo>
                    <a:pt x="1048" y="1264"/>
                  </a:lnTo>
                  <a:lnTo>
                    <a:pt x="1041" y="1257"/>
                  </a:lnTo>
                  <a:lnTo>
                    <a:pt x="1034" y="1257"/>
                  </a:lnTo>
                  <a:lnTo>
                    <a:pt x="1028" y="1250"/>
                  </a:lnTo>
                  <a:lnTo>
                    <a:pt x="1021" y="1244"/>
                  </a:lnTo>
                  <a:lnTo>
                    <a:pt x="1015" y="1244"/>
                  </a:lnTo>
                  <a:lnTo>
                    <a:pt x="1008" y="1237"/>
                  </a:lnTo>
                  <a:lnTo>
                    <a:pt x="1001" y="1237"/>
                  </a:lnTo>
                  <a:lnTo>
                    <a:pt x="995" y="1237"/>
                  </a:lnTo>
                  <a:lnTo>
                    <a:pt x="982" y="1231"/>
                  </a:lnTo>
                  <a:lnTo>
                    <a:pt x="975" y="1231"/>
                  </a:lnTo>
                  <a:lnTo>
                    <a:pt x="969" y="1231"/>
                  </a:lnTo>
                  <a:lnTo>
                    <a:pt x="962" y="1224"/>
                  </a:lnTo>
                  <a:lnTo>
                    <a:pt x="955" y="1224"/>
                  </a:lnTo>
                  <a:lnTo>
                    <a:pt x="942" y="1224"/>
                  </a:lnTo>
                  <a:lnTo>
                    <a:pt x="936" y="1218"/>
                  </a:lnTo>
                  <a:lnTo>
                    <a:pt x="929" y="1218"/>
                  </a:lnTo>
                  <a:lnTo>
                    <a:pt x="922" y="1218"/>
                  </a:lnTo>
                  <a:lnTo>
                    <a:pt x="909" y="1211"/>
                  </a:lnTo>
                  <a:lnTo>
                    <a:pt x="903" y="1211"/>
                  </a:lnTo>
                  <a:lnTo>
                    <a:pt x="896" y="1211"/>
                  </a:lnTo>
                  <a:lnTo>
                    <a:pt x="889" y="1204"/>
                  </a:lnTo>
                  <a:lnTo>
                    <a:pt x="876" y="1204"/>
                  </a:lnTo>
                  <a:lnTo>
                    <a:pt x="870" y="1204"/>
                  </a:lnTo>
                  <a:lnTo>
                    <a:pt x="863" y="1198"/>
                  </a:lnTo>
                  <a:lnTo>
                    <a:pt x="857" y="1198"/>
                  </a:lnTo>
                  <a:lnTo>
                    <a:pt x="850" y="1198"/>
                  </a:lnTo>
                  <a:lnTo>
                    <a:pt x="837" y="1191"/>
                  </a:lnTo>
                  <a:lnTo>
                    <a:pt x="830" y="1191"/>
                  </a:lnTo>
                  <a:lnTo>
                    <a:pt x="824" y="1191"/>
                  </a:lnTo>
                  <a:lnTo>
                    <a:pt x="810" y="1191"/>
                  </a:lnTo>
                  <a:lnTo>
                    <a:pt x="804" y="1191"/>
                  </a:lnTo>
                  <a:lnTo>
                    <a:pt x="797" y="1185"/>
                  </a:lnTo>
                  <a:lnTo>
                    <a:pt x="791" y="1185"/>
                  </a:lnTo>
                  <a:lnTo>
                    <a:pt x="777" y="1185"/>
                  </a:lnTo>
                  <a:lnTo>
                    <a:pt x="771" y="1185"/>
                  </a:lnTo>
                  <a:lnTo>
                    <a:pt x="758" y="1191"/>
                  </a:lnTo>
                  <a:lnTo>
                    <a:pt x="751" y="1191"/>
                  </a:lnTo>
                  <a:lnTo>
                    <a:pt x="751" y="1198"/>
                  </a:lnTo>
                  <a:lnTo>
                    <a:pt x="744" y="1204"/>
                  </a:lnTo>
                  <a:lnTo>
                    <a:pt x="744" y="1204"/>
                  </a:lnTo>
                  <a:lnTo>
                    <a:pt x="738" y="1211"/>
                  </a:lnTo>
                  <a:lnTo>
                    <a:pt x="731" y="1218"/>
                  </a:lnTo>
                  <a:lnTo>
                    <a:pt x="731" y="1224"/>
                  </a:lnTo>
                  <a:lnTo>
                    <a:pt x="725" y="1224"/>
                  </a:lnTo>
                  <a:lnTo>
                    <a:pt x="725" y="1231"/>
                  </a:lnTo>
                  <a:lnTo>
                    <a:pt x="725" y="1237"/>
                  </a:lnTo>
                  <a:lnTo>
                    <a:pt x="725" y="1244"/>
                  </a:lnTo>
                  <a:lnTo>
                    <a:pt x="725" y="1250"/>
                  </a:lnTo>
                  <a:lnTo>
                    <a:pt x="725" y="1257"/>
                  </a:lnTo>
                  <a:lnTo>
                    <a:pt x="718" y="1264"/>
                  </a:lnTo>
                  <a:lnTo>
                    <a:pt x="718" y="1264"/>
                  </a:lnTo>
                  <a:lnTo>
                    <a:pt x="718" y="1270"/>
                  </a:lnTo>
                  <a:lnTo>
                    <a:pt x="718" y="1277"/>
                  </a:lnTo>
                  <a:lnTo>
                    <a:pt x="718" y="1283"/>
                  </a:lnTo>
                  <a:lnTo>
                    <a:pt x="718" y="1290"/>
                  </a:lnTo>
                  <a:lnTo>
                    <a:pt x="718" y="1297"/>
                  </a:lnTo>
                  <a:lnTo>
                    <a:pt x="718" y="1303"/>
                  </a:lnTo>
                  <a:lnTo>
                    <a:pt x="712" y="1303"/>
                  </a:lnTo>
                  <a:lnTo>
                    <a:pt x="712" y="1310"/>
                  </a:lnTo>
                  <a:lnTo>
                    <a:pt x="712" y="1316"/>
                  </a:lnTo>
                  <a:lnTo>
                    <a:pt x="712" y="1323"/>
                  </a:lnTo>
                  <a:lnTo>
                    <a:pt x="712" y="1329"/>
                  </a:lnTo>
                  <a:lnTo>
                    <a:pt x="712" y="1336"/>
                  </a:lnTo>
                  <a:lnTo>
                    <a:pt x="712" y="1343"/>
                  </a:lnTo>
                  <a:lnTo>
                    <a:pt x="705" y="1343"/>
                  </a:lnTo>
                  <a:lnTo>
                    <a:pt x="705" y="1349"/>
                  </a:lnTo>
                  <a:lnTo>
                    <a:pt x="705" y="1356"/>
                  </a:lnTo>
                  <a:lnTo>
                    <a:pt x="705" y="1362"/>
                  </a:lnTo>
                  <a:lnTo>
                    <a:pt x="705" y="1369"/>
                  </a:lnTo>
                  <a:lnTo>
                    <a:pt x="705" y="1376"/>
                  </a:lnTo>
                  <a:lnTo>
                    <a:pt x="705" y="1382"/>
                  </a:lnTo>
                  <a:lnTo>
                    <a:pt x="705" y="1382"/>
                  </a:lnTo>
                  <a:lnTo>
                    <a:pt x="698" y="1389"/>
                  </a:lnTo>
                  <a:lnTo>
                    <a:pt x="698" y="1395"/>
                  </a:lnTo>
                  <a:lnTo>
                    <a:pt x="698" y="1402"/>
                  </a:lnTo>
                  <a:lnTo>
                    <a:pt x="698" y="1408"/>
                  </a:lnTo>
                  <a:lnTo>
                    <a:pt x="698" y="1415"/>
                  </a:lnTo>
                  <a:lnTo>
                    <a:pt x="698" y="1422"/>
                  </a:lnTo>
                  <a:lnTo>
                    <a:pt x="698" y="1422"/>
                  </a:lnTo>
                  <a:lnTo>
                    <a:pt x="698" y="1428"/>
                  </a:lnTo>
                  <a:lnTo>
                    <a:pt x="725" y="1455"/>
                  </a:lnTo>
                  <a:lnTo>
                    <a:pt x="751" y="1481"/>
                  </a:lnTo>
                  <a:lnTo>
                    <a:pt x="784" y="1507"/>
                  </a:lnTo>
                  <a:lnTo>
                    <a:pt x="810" y="1540"/>
                  </a:lnTo>
                  <a:lnTo>
                    <a:pt x="837" y="1540"/>
                  </a:lnTo>
                  <a:lnTo>
                    <a:pt x="863" y="1566"/>
                  </a:lnTo>
                  <a:lnTo>
                    <a:pt x="889" y="1593"/>
                  </a:lnTo>
                  <a:lnTo>
                    <a:pt x="922" y="1619"/>
                  </a:lnTo>
                  <a:lnTo>
                    <a:pt x="949" y="1652"/>
                  </a:lnTo>
                  <a:lnTo>
                    <a:pt x="975" y="1678"/>
                  </a:lnTo>
                  <a:lnTo>
                    <a:pt x="1001" y="1705"/>
                  </a:lnTo>
                  <a:lnTo>
                    <a:pt x="1034" y="1731"/>
                  </a:lnTo>
                  <a:lnTo>
                    <a:pt x="1061" y="1731"/>
                  </a:lnTo>
                  <a:lnTo>
                    <a:pt x="1087" y="1731"/>
                  </a:lnTo>
                  <a:lnTo>
                    <a:pt x="1113" y="1731"/>
                  </a:lnTo>
                  <a:lnTo>
                    <a:pt x="1140" y="1731"/>
                  </a:lnTo>
                  <a:lnTo>
                    <a:pt x="1173" y="1731"/>
                  </a:lnTo>
                  <a:lnTo>
                    <a:pt x="1199" y="1731"/>
                  </a:lnTo>
                  <a:lnTo>
                    <a:pt x="1226" y="1731"/>
                  </a:lnTo>
                  <a:lnTo>
                    <a:pt x="1252" y="1731"/>
                  </a:lnTo>
                  <a:lnTo>
                    <a:pt x="1285" y="1731"/>
                  </a:lnTo>
                  <a:lnTo>
                    <a:pt x="1311" y="1731"/>
                  </a:lnTo>
                  <a:lnTo>
                    <a:pt x="1338" y="1731"/>
                  </a:lnTo>
                  <a:lnTo>
                    <a:pt x="1364" y="1731"/>
                  </a:lnTo>
                  <a:lnTo>
                    <a:pt x="1397" y="1731"/>
                  </a:lnTo>
                  <a:lnTo>
                    <a:pt x="1423" y="1731"/>
                  </a:lnTo>
                  <a:lnTo>
                    <a:pt x="1450" y="1731"/>
                  </a:lnTo>
                  <a:lnTo>
                    <a:pt x="1476" y="1731"/>
                  </a:lnTo>
                  <a:lnTo>
                    <a:pt x="1502" y="1731"/>
                  </a:lnTo>
                  <a:lnTo>
                    <a:pt x="1535" y="1731"/>
                  </a:lnTo>
                  <a:lnTo>
                    <a:pt x="1562" y="1731"/>
                  </a:lnTo>
                  <a:lnTo>
                    <a:pt x="1588" y="1731"/>
                  </a:lnTo>
                  <a:lnTo>
                    <a:pt x="1614" y="1731"/>
                  </a:lnTo>
                  <a:lnTo>
                    <a:pt x="1647" y="1731"/>
                  </a:lnTo>
                  <a:lnTo>
                    <a:pt x="1674" y="1731"/>
                  </a:lnTo>
                  <a:lnTo>
                    <a:pt x="1700" y="1731"/>
                  </a:lnTo>
                  <a:lnTo>
                    <a:pt x="1726" y="1731"/>
                  </a:lnTo>
                  <a:lnTo>
                    <a:pt x="1753" y="1731"/>
                  </a:lnTo>
                  <a:lnTo>
                    <a:pt x="1786" y="1731"/>
                  </a:lnTo>
                  <a:lnTo>
                    <a:pt x="1812" y="1731"/>
                  </a:lnTo>
                  <a:lnTo>
                    <a:pt x="1838" y="1731"/>
                  </a:lnTo>
                  <a:lnTo>
                    <a:pt x="1865" y="1731"/>
                  </a:lnTo>
                  <a:lnTo>
                    <a:pt x="1898" y="1731"/>
                  </a:lnTo>
                  <a:lnTo>
                    <a:pt x="1924" y="1731"/>
                  </a:lnTo>
                  <a:lnTo>
                    <a:pt x="1950" y="1731"/>
                  </a:lnTo>
                  <a:lnTo>
                    <a:pt x="1977" y="1731"/>
                  </a:lnTo>
                  <a:lnTo>
                    <a:pt x="2003" y="1731"/>
                  </a:lnTo>
                  <a:lnTo>
                    <a:pt x="2036" y="1731"/>
                  </a:lnTo>
                  <a:lnTo>
                    <a:pt x="2062" y="1731"/>
                  </a:lnTo>
                  <a:lnTo>
                    <a:pt x="2089" y="1731"/>
                  </a:lnTo>
                  <a:lnTo>
                    <a:pt x="2115" y="1731"/>
                  </a:lnTo>
                  <a:lnTo>
                    <a:pt x="2148" y="1731"/>
                  </a:lnTo>
                  <a:lnTo>
                    <a:pt x="2174" y="1731"/>
                  </a:lnTo>
                  <a:lnTo>
                    <a:pt x="2201" y="1731"/>
                  </a:lnTo>
                  <a:lnTo>
                    <a:pt x="2227" y="1731"/>
                  </a:lnTo>
                  <a:lnTo>
                    <a:pt x="2253" y="1731"/>
                  </a:lnTo>
                  <a:lnTo>
                    <a:pt x="2286" y="1731"/>
                  </a:lnTo>
                  <a:lnTo>
                    <a:pt x="2313" y="1731"/>
                  </a:lnTo>
                  <a:lnTo>
                    <a:pt x="2339" y="1731"/>
                  </a:lnTo>
                  <a:close/>
                  <a:moveTo>
                    <a:pt x="1252" y="1204"/>
                  </a:moveTo>
                  <a:lnTo>
                    <a:pt x="1245" y="1198"/>
                  </a:lnTo>
                  <a:lnTo>
                    <a:pt x="1245" y="1191"/>
                  </a:lnTo>
                  <a:lnTo>
                    <a:pt x="1239" y="1185"/>
                  </a:lnTo>
                  <a:lnTo>
                    <a:pt x="1239" y="1185"/>
                  </a:lnTo>
                  <a:lnTo>
                    <a:pt x="1239" y="1178"/>
                  </a:lnTo>
                  <a:lnTo>
                    <a:pt x="1245" y="1171"/>
                  </a:lnTo>
                  <a:lnTo>
                    <a:pt x="1245" y="1165"/>
                  </a:lnTo>
                  <a:lnTo>
                    <a:pt x="1252" y="1158"/>
                  </a:lnTo>
                  <a:lnTo>
                    <a:pt x="1258" y="1158"/>
                  </a:lnTo>
                  <a:lnTo>
                    <a:pt x="1265" y="1158"/>
                  </a:lnTo>
                  <a:lnTo>
                    <a:pt x="1272" y="1165"/>
                  </a:lnTo>
                  <a:lnTo>
                    <a:pt x="1272" y="1171"/>
                  </a:lnTo>
                  <a:lnTo>
                    <a:pt x="1278" y="1178"/>
                  </a:lnTo>
                  <a:lnTo>
                    <a:pt x="1278" y="1185"/>
                  </a:lnTo>
                  <a:lnTo>
                    <a:pt x="1272" y="1185"/>
                  </a:lnTo>
                  <a:lnTo>
                    <a:pt x="1272" y="1191"/>
                  </a:lnTo>
                  <a:lnTo>
                    <a:pt x="1265" y="1198"/>
                  </a:lnTo>
                  <a:lnTo>
                    <a:pt x="1258" y="1204"/>
                  </a:lnTo>
                  <a:lnTo>
                    <a:pt x="1252" y="1204"/>
                  </a:lnTo>
                  <a:lnTo>
                    <a:pt x="1252" y="1204"/>
                  </a:lnTo>
                  <a:close/>
                  <a:moveTo>
                    <a:pt x="1917" y="895"/>
                  </a:moveTo>
                  <a:lnTo>
                    <a:pt x="1924" y="888"/>
                  </a:lnTo>
                  <a:lnTo>
                    <a:pt x="1924" y="882"/>
                  </a:lnTo>
                  <a:lnTo>
                    <a:pt x="1931" y="875"/>
                  </a:lnTo>
                  <a:lnTo>
                    <a:pt x="1931" y="875"/>
                  </a:lnTo>
                  <a:lnTo>
                    <a:pt x="1931" y="869"/>
                  </a:lnTo>
                  <a:lnTo>
                    <a:pt x="1937" y="862"/>
                  </a:lnTo>
                  <a:lnTo>
                    <a:pt x="1944" y="855"/>
                  </a:lnTo>
                  <a:lnTo>
                    <a:pt x="1950" y="849"/>
                  </a:lnTo>
                  <a:lnTo>
                    <a:pt x="1950" y="842"/>
                  </a:lnTo>
                  <a:lnTo>
                    <a:pt x="1957" y="842"/>
                  </a:lnTo>
                  <a:lnTo>
                    <a:pt x="1957" y="836"/>
                  </a:lnTo>
                  <a:lnTo>
                    <a:pt x="1957" y="829"/>
                  </a:lnTo>
                  <a:lnTo>
                    <a:pt x="1957" y="823"/>
                  </a:lnTo>
                  <a:lnTo>
                    <a:pt x="1950" y="816"/>
                  </a:lnTo>
                  <a:lnTo>
                    <a:pt x="1950" y="809"/>
                  </a:lnTo>
                  <a:lnTo>
                    <a:pt x="1957" y="809"/>
                  </a:lnTo>
                  <a:lnTo>
                    <a:pt x="1964" y="803"/>
                  </a:lnTo>
                  <a:lnTo>
                    <a:pt x="1964" y="796"/>
                  </a:lnTo>
                  <a:lnTo>
                    <a:pt x="1970" y="790"/>
                  </a:lnTo>
                  <a:lnTo>
                    <a:pt x="1970" y="783"/>
                  </a:lnTo>
                  <a:lnTo>
                    <a:pt x="1977" y="783"/>
                  </a:lnTo>
                  <a:lnTo>
                    <a:pt x="1983" y="776"/>
                  </a:lnTo>
                  <a:lnTo>
                    <a:pt x="1990" y="770"/>
                  </a:lnTo>
                  <a:lnTo>
                    <a:pt x="1996" y="763"/>
                  </a:lnTo>
                  <a:lnTo>
                    <a:pt x="2003" y="757"/>
                  </a:lnTo>
                  <a:lnTo>
                    <a:pt x="2003" y="757"/>
                  </a:lnTo>
                  <a:lnTo>
                    <a:pt x="2003" y="750"/>
                  </a:lnTo>
                  <a:lnTo>
                    <a:pt x="2003" y="744"/>
                  </a:lnTo>
                  <a:lnTo>
                    <a:pt x="2003" y="737"/>
                  </a:lnTo>
                  <a:lnTo>
                    <a:pt x="2003" y="730"/>
                  </a:lnTo>
                  <a:lnTo>
                    <a:pt x="2003" y="724"/>
                  </a:lnTo>
                  <a:lnTo>
                    <a:pt x="2003" y="717"/>
                  </a:lnTo>
                  <a:lnTo>
                    <a:pt x="2010" y="711"/>
                  </a:lnTo>
                  <a:lnTo>
                    <a:pt x="2010" y="704"/>
                  </a:lnTo>
                  <a:lnTo>
                    <a:pt x="2010" y="704"/>
                  </a:lnTo>
                  <a:lnTo>
                    <a:pt x="2016" y="697"/>
                  </a:lnTo>
                  <a:lnTo>
                    <a:pt x="2016" y="691"/>
                  </a:lnTo>
                  <a:lnTo>
                    <a:pt x="2016" y="684"/>
                  </a:lnTo>
                  <a:lnTo>
                    <a:pt x="2023" y="678"/>
                  </a:lnTo>
                  <a:lnTo>
                    <a:pt x="2023" y="671"/>
                  </a:lnTo>
                  <a:lnTo>
                    <a:pt x="2023" y="664"/>
                  </a:lnTo>
                  <a:lnTo>
                    <a:pt x="2023" y="658"/>
                  </a:lnTo>
                  <a:lnTo>
                    <a:pt x="2029" y="651"/>
                  </a:lnTo>
                  <a:lnTo>
                    <a:pt x="2029" y="651"/>
                  </a:lnTo>
                  <a:lnTo>
                    <a:pt x="2036" y="645"/>
                  </a:lnTo>
                  <a:lnTo>
                    <a:pt x="2043" y="638"/>
                  </a:lnTo>
                  <a:lnTo>
                    <a:pt x="2049" y="632"/>
                  </a:lnTo>
                  <a:lnTo>
                    <a:pt x="2049" y="625"/>
                  </a:lnTo>
                  <a:lnTo>
                    <a:pt x="2056" y="625"/>
                  </a:lnTo>
                  <a:lnTo>
                    <a:pt x="2056" y="618"/>
                  </a:lnTo>
                  <a:lnTo>
                    <a:pt x="2056" y="612"/>
                  </a:lnTo>
                  <a:lnTo>
                    <a:pt x="2056" y="605"/>
                  </a:lnTo>
                  <a:lnTo>
                    <a:pt x="2056" y="599"/>
                  </a:lnTo>
                  <a:lnTo>
                    <a:pt x="2056" y="592"/>
                  </a:lnTo>
                  <a:lnTo>
                    <a:pt x="2056" y="585"/>
                  </a:lnTo>
                  <a:lnTo>
                    <a:pt x="2062" y="579"/>
                  </a:lnTo>
                  <a:lnTo>
                    <a:pt x="2062" y="572"/>
                  </a:lnTo>
                  <a:lnTo>
                    <a:pt x="2069" y="572"/>
                  </a:lnTo>
                  <a:lnTo>
                    <a:pt x="2069" y="566"/>
                  </a:lnTo>
                  <a:lnTo>
                    <a:pt x="2076" y="559"/>
                  </a:lnTo>
                  <a:lnTo>
                    <a:pt x="2076" y="553"/>
                  </a:lnTo>
                  <a:lnTo>
                    <a:pt x="2076" y="546"/>
                  </a:lnTo>
                  <a:lnTo>
                    <a:pt x="2076" y="539"/>
                  </a:lnTo>
                  <a:lnTo>
                    <a:pt x="2076" y="533"/>
                  </a:lnTo>
                  <a:lnTo>
                    <a:pt x="2076" y="526"/>
                  </a:lnTo>
                  <a:lnTo>
                    <a:pt x="2076" y="520"/>
                  </a:lnTo>
                  <a:lnTo>
                    <a:pt x="2076" y="513"/>
                  </a:lnTo>
                  <a:lnTo>
                    <a:pt x="2076" y="513"/>
                  </a:lnTo>
                  <a:lnTo>
                    <a:pt x="2076" y="506"/>
                  </a:lnTo>
                  <a:lnTo>
                    <a:pt x="2082" y="500"/>
                  </a:lnTo>
                  <a:lnTo>
                    <a:pt x="2089" y="493"/>
                  </a:lnTo>
                  <a:lnTo>
                    <a:pt x="2095" y="493"/>
                  </a:lnTo>
                  <a:lnTo>
                    <a:pt x="2108" y="493"/>
                  </a:lnTo>
                  <a:lnTo>
                    <a:pt x="2115" y="500"/>
                  </a:lnTo>
                  <a:lnTo>
                    <a:pt x="2122" y="500"/>
                  </a:lnTo>
                  <a:lnTo>
                    <a:pt x="2128" y="506"/>
                  </a:lnTo>
                  <a:lnTo>
                    <a:pt x="2135" y="513"/>
                  </a:lnTo>
                  <a:lnTo>
                    <a:pt x="2141" y="520"/>
                  </a:lnTo>
                  <a:lnTo>
                    <a:pt x="2148" y="520"/>
                  </a:lnTo>
                  <a:lnTo>
                    <a:pt x="2155" y="520"/>
                  </a:lnTo>
                  <a:lnTo>
                    <a:pt x="2161" y="526"/>
                  </a:lnTo>
                  <a:lnTo>
                    <a:pt x="2174" y="526"/>
                  </a:lnTo>
                  <a:lnTo>
                    <a:pt x="2181" y="533"/>
                  </a:lnTo>
                  <a:lnTo>
                    <a:pt x="2181" y="533"/>
                  </a:lnTo>
                  <a:lnTo>
                    <a:pt x="2188" y="539"/>
                  </a:lnTo>
                  <a:lnTo>
                    <a:pt x="2188" y="546"/>
                  </a:lnTo>
                  <a:lnTo>
                    <a:pt x="2194" y="553"/>
                  </a:lnTo>
                  <a:lnTo>
                    <a:pt x="2201" y="559"/>
                  </a:lnTo>
                  <a:lnTo>
                    <a:pt x="2214" y="559"/>
                  </a:lnTo>
                  <a:lnTo>
                    <a:pt x="2214" y="559"/>
                  </a:lnTo>
                  <a:lnTo>
                    <a:pt x="2207" y="566"/>
                  </a:lnTo>
                  <a:lnTo>
                    <a:pt x="2201" y="572"/>
                  </a:lnTo>
                  <a:lnTo>
                    <a:pt x="2194" y="579"/>
                  </a:lnTo>
                  <a:lnTo>
                    <a:pt x="2188" y="579"/>
                  </a:lnTo>
                  <a:lnTo>
                    <a:pt x="2181" y="585"/>
                  </a:lnTo>
                  <a:lnTo>
                    <a:pt x="2181" y="592"/>
                  </a:lnTo>
                  <a:lnTo>
                    <a:pt x="2174" y="599"/>
                  </a:lnTo>
                  <a:lnTo>
                    <a:pt x="2168" y="599"/>
                  </a:lnTo>
                  <a:lnTo>
                    <a:pt x="2161" y="605"/>
                  </a:lnTo>
                  <a:lnTo>
                    <a:pt x="2155" y="612"/>
                  </a:lnTo>
                  <a:lnTo>
                    <a:pt x="2148" y="612"/>
                  </a:lnTo>
                  <a:lnTo>
                    <a:pt x="2141" y="618"/>
                  </a:lnTo>
                  <a:lnTo>
                    <a:pt x="2141" y="625"/>
                  </a:lnTo>
                  <a:lnTo>
                    <a:pt x="2141" y="632"/>
                  </a:lnTo>
                  <a:lnTo>
                    <a:pt x="2141" y="638"/>
                  </a:lnTo>
                  <a:lnTo>
                    <a:pt x="2141" y="645"/>
                  </a:lnTo>
                  <a:lnTo>
                    <a:pt x="2141" y="651"/>
                  </a:lnTo>
                  <a:lnTo>
                    <a:pt x="2141" y="658"/>
                  </a:lnTo>
                  <a:lnTo>
                    <a:pt x="2141" y="664"/>
                  </a:lnTo>
                  <a:lnTo>
                    <a:pt x="2148" y="664"/>
                  </a:lnTo>
                  <a:lnTo>
                    <a:pt x="2148" y="671"/>
                  </a:lnTo>
                  <a:lnTo>
                    <a:pt x="2148" y="678"/>
                  </a:lnTo>
                  <a:lnTo>
                    <a:pt x="2148" y="684"/>
                  </a:lnTo>
                  <a:lnTo>
                    <a:pt x="2148" y="691"/>
                  </a:lnTo>
                  <a:lnTo>
                    <a:pt x="2148" y="697"/>
                  </a:lnTo>
                  <a:lnTo>
                    <a:pt x="2148" y="704"/>
                  </a:lnTo>
                  <a:lnTo>
                    <a:pt x="2148" y="711"/>
                  </a:lnTo>
                  <a:lnTo>
                    <a:pt x="2148" y="717"/>
                  </a:lnTo>
                  <a:lnTo>
                    <a:pt x="2148" y="724"/>
                  </a:lnTo>
                  <a:lnTo>
                    <a:pt x="2155" y="730"/>
                  </a:lnTo>
                  <a:lnTo>
                    <a:pt x="2155" y="730"/>
                  </a:lnTo>
                  <a:lnTo>
                    <a:pt x="2155" y="737"/>
                  </a:lnTo>
                  <a:lnTo>
                    <a:pt x="2161" y="744"/>
                  </a:lnTo>
                  <a:lnTo>
                    <a:pt x="2161" y="750"/>
                  </a:lnTo>
                  <a:lnTo>
                    <a:pt x="2161" y="757"/>
                  </a:lnTo>
                  <a:lnTo>
                    <a:pt x="2161" y="763"/>
                  </a:lnTo>
                  <a:lnTo>
                    <a:pt x="2155" y="770"/>
                  </a:lnTo>
                  <a:lnTo>
                    <a:pt x="2155" y="776"/>
                  </a:lnTo>
                  <a:lnTo>
                    <a:pt x="2148" y="783"/>
                  </a:lnTo>
                  <a:lnTo>
                    <a:pt x="2148" y="790"/>
                  </a:lnTo>
                  <a:lnTo>
                    <a:pt x="2155" y="796"/>
                  </a:lnTo>
                  <a:lnTo>
                    <a:pt x="2155" y="796"/>
                  </a:lnTo>
                  <a:lnTo>
                    <a:pt x="2155" y="803"/>
                  </a:lnTo>
                  <a:lnTo>
                    <a:pt x="2148" y="809"/>
                  </a:lnTo>
                  <a:lnTo>
                    <a:pt x="2141" y="816"/>
                  </a:lnTo>
                  <a:lnTo>
                    <a:pt x="2141" y="823"/>
                  </a:lnTo>
                  <a:lnTo>
                    <a:pt x="2135" y="829"/>
                  </a:lnTo>
                  <a:lnTo>
                    <a:pt x="2135" y="836"/>
                  </a:lnTo>
                  <a:lnTo>
                    <a:pt x="2135" y="836"/>
                  </a:lnTo>
                  <a:lnTo>
                    <a:pt x="2135" y="842"/>
                  </a:lnTo>
                  <a:lnTo>
                    <a:pt x="2135" y="849"/>
                  </a:lnTo>
                  <a:lnTo>
                    <a:pt x="2135" y="855"/>
                  </a:lnTo>
                  <a:lnTo>
                    <a:pt x="2135" y="862"/>
                  </a:lnTo>
                  <a:lnTo>
                    <a:pt x="2135" y="869"/>
                  </a:lnTo>
                  <a:lnTo>
                    <a:pt x="2128" y="875"/>
                  </a:lnTo>
                  <a:lnTo>
                    <a:pt x="2128" y="882"/>
                  </a:lnTo>
                  <a:lnTo>
                    <a:pt x="2122" y="888"/>
                  </a:lnTo>
                  <a:lnTo>
                    <a:pt x="2115" y="888"/>
                  </a:lnTo>
                  <a:lnTo>
                    <a:pt x="2108" y="895"/>
                  </a:lnTo>
                  <a:lnTo>
                    <a:pt x="2102" y="895"/>
                  </a:lnTo>
                  <a:lnTo>
                    <a:pt x="2089" y="895"/>
                  </a:lnTo>
                  <a:lnTo>
                    <a:pt x="2082" y="895"/>
                  </a:lnTo>
                  <a:lnTo>
                    <a:pt x="2069" y="895"/>
                  </a:lnTo>
                  <a:lnTo>
                    <a:pt x="2062" y="895"/>
                  </a:lnTo>
                  <a:lnTo>
                    <a:pt x="2056" y="895"/>
                  </a:lnTo>
                  <a:lnTo>
                    <a:pt x="2043" y="895"/>
                  </a:lnTo>
                  <a:lnTo>
                    <a:pt x="2036" y="895"/>
                  </a:lnTo>
                  <a:lnTo>
                    <a:pt x="2023" y="895"/>
                  </a:lnTo>
                  <a:lnTo>
                    <a:pt x="2016" y="895"/>
                  </a:lnTo>
                  <a:lnTo>
                    <a:pt x="2010" y="895"/>
                  </a:lnTo>
                  <a:lnTo>
                    <a:pt x="1996" y="895"/>
                  </a:lnTo>
                  <a:lnTo>
                    <a:pt x="1990" y="895"/>
                  </a:lnTo>
                  <a:lnTo>
                    <a:pt x="1977" y="895"/>
                  </a:lnTo>
                  <a:lnTo>
                    <a:pt x="1970" y="895"/>
                  </a:lnTo>
                  <a:lnTo>
                    <a:pt x="1964" y="895"/>
                  </a:lnTo>
                  <a:lnTo>
                    <a:pt x="1950" y="902"/>
                  </a:lnTo>
                  <a:lnTo>
                    <a:pt x="1944" y="902"/>
                  </a:lnTo>
                  <a:lnTo>
                    <a:pt x="1931" y="902"/>
                  </a:lnTo>
                  <a:lnTo>
                    <a:pt x="1924" y="902"/>
                  </a:lnTo>
                  <a:lnTo>
                    <a:pt x="1917" y="895"/>
                  </a:lnTo>
                  <a:close/>
                  <a:moveTo>
                    <a:pt x="1265" y="869"/>
                  </a:moveTo>
                  <a:lnTo>
                    <a:pt x="1265" y="862"/>
                  </a:lnTo>
                  <a:lnTo>
                    <a:pt x="1265" y="855"/>
                  </a:lnTo>
                  <a:lnTo>
                    <a:pt x="1265" y="849"/>
                  </a:lnTo>
                  <a:lnTo>
                    <a:pt x="1265" y="842"/>
                  </a:lnTo>
                  <a:lnTo>
                    <a:pt x="1265" y="836"/>
                  </a:lnTo>
                  <a:lnTo>
                    <a:pt x="1265" y="836"/>
                  </a:lnTo>
                  <a:lnTo>
                    <a:pt x="1265" y="829"/>
                  </a:lnTo>
                  <a:lnTo>
                    <a:pt x="1265" y="823"/>
                  </a:lnTo>
                  <a:lnTo>
                    <a:pt x="1265" y="816"/>
                  </a:lnTo>
                  <a:lnTo>
                    <a:pt x="1265" y="809"/>
                  </a:lnTo>
                  <a:lnTo>
                    <a:pt x="1258" y="803"/>
                  </a:lnTo>
                  <a:lnTo>
                    <a:pt x="1252" y="803"/>
                  </a:lnTo>
                  <a:lnTo>
                    <a:pt x="1252" y="803"/>
                  </a:lnTo>
                  <a:lnTo>
                    <a:pt x="1245" y="809"/>
                  </a:lnTo>
                  <a:lnTo>
                    <a:pt x="1245" y="816"/>
                  </a:lnTo>
                  <a:lnTo>
                    <a:pt x="1239" y="823"/>
                  </a:lnTo>
                  <a:lnTo>
                    <a:pt x="1232" y="829"/>
                  </a:lnTo>
                  <a:lnTo>
                    <a:pt x="1232" y="836"/>
                  </a:lnTo>
                  <a:lnTo>
                    <a:pt x="1232" y="836"/>
                  </a:lnTo>
                  <a:lnTo>
                    <a:pt x="1232" y="842"/>
                  </a:lnTo>
                  <a:lnTo>
                    <a:pt x="1239" y="849"/>
                  </a:lnTo>
                  <a:lnTo>
                    <a:pt x="1239" y="855"/>
                  </a:lnTo>
                  <a:lnTo>
                    <a:pt x="1245" y="855"/>
                  </a:lnTo>
                  <a:lnTo>
                    <a:pt x="1252" y="862"/>
                  </a:lnTo>
                  <a:lnTo>
                    <a:pt x="1252" y="869"/>
                  </a:lnTo>
                  <a:lnTo>
                    <a:pt x="1265" y="869"/>
                  </a:lnTo>
                  <a:close/>
                  <a:moveTo>
                    <a:pt x="1812" y="869"/>
                  </a:moveTo>
                  <a:lnTo>
                    <a:pt x="1819" y="869"/>
                  </a:lnTo>
                  <a:lnTo>
                    <a:pt x="1825" y="862"/>
                  </a:lnTo>
                  <a:lnTo>
                    <a:pt x="1832" y="862"/>
                  </a:lnTo>
                  <a:lnTo>
                    <a:pt x="1838" y="862"/>
                  </a:lnTo>
                  <a:lnTo>
                    <a:pt x="1845" y="862"/>
                  </a:lnTo>
                  <a:lnTo>
                    <a:pt x="1851" y="862"/>
                  </a:lnTo>
                  <a:lnTo>
                    <a:pt x="1858" y="862"/>
                  </a:lnTo>
                  <a:lnTo>
                    <a:pt x="1865" y="855"/>
                  </a:lnTo>
                  <a:lnTo>
                    <a:pt x="1871" y="855"/>
                  </a:lnTo>
                  <a:lnTo>
                    <a:pt x="1878" y="855"/>
                  </a:lnTo>
                  <a:lnTo>
                    <a:pt x="1878" y="849"/>
                  </a:lnTo>
                  <a:lnTo>
                    <a:pt x="1884" y="849"/>
                  </a:lnTo>
                  <a:lnTo>
                    <a:pt x="1884" y="842"/>
                  </a:lnTo>
                  <a:lnTo>
                    <a:pt x="1891" y="836"/>
                  </a:lnTo>
                  <a:lnTo>
                    <a:pt x="1898" y="836"/>
                  </a:lnTo>
                  <a:lnTo>
                    <a:pt x="1904" y="836"/>
                  </a:lnTo>
                  <a:lnTo>
                    <a:pt x="1911" y="836"/>
                  </a:lnTo>
                  <a:lnTo>
                    <a:pt x="1917" y="836"/>
                  </a:lnTo>
                  <a:lnTo>
                    <a:pt x="1917" y="842"/>
                  </a:lnTo>
                  <a:lnTo>
                    <a:pt x="1911" y="842"/>
                  </a:lnTo>
                  <a:lnTo>
                    <a:pt x="1904" y="849"/>
                  </a:lnTo>
                  <a:lnTo>
                    <a:pt x="1898" y="849"/>
                  </a:lnTo>
                  <a:lnTo>
                    <a:pt x="1891" y="855"/>
                  </a:lnTo>
                  <a:lnTo>
                    <a:pt x="1891" y="855"/>
                  </a:lnTo>
                  <a:lnTo>
                    <a:pt x="1884" y="862"/>
                  </a:lnTo>
                  <a:lnTo>
                    <a:pt x="1884" y="869"/>
                  </a:lnTo>
                  <a:lnTo>
                    <a:pt x="1878" y="869"/>
                  </a:lnTo>
                  <a:lnTo>
                    <a:pt x="1878" y="875"/>
                  </a:lnTo>
                  <a:lnTo>
                    <a:pt x="1871" y="875"/>
                  </a:lnTo>
                  <a:lnTo>
                    <a:pt x="1865" y="875"/>
                  </a:lnTo>
                  <a:lnTo>
                    <a:pt x="1858" y="875"/>
                  </a:lnTo>
                  <a:lnTo>
                    <a:pt x="1851" y="875"/>
                  </a:lnTo>
                  <a:lnTo>
                    <a:pt x="1845" y="875"/>
                  </a:lnTo>
                  <a:lnTo>
                    <a:pt x="1838" y="875"/>
                  </a:lnTo>
                  <a:lnTo>
                    <a:pt x="1832" y="869"/>
                  </a:lnTo>
                  <a:lnTo>
                    <a:pt x="1825" y="869"/>
                  </a:lnTo>
                  <a:lnTo>
                    <a:pt x="1819" y="869"/>
                  </a:lnTo>
                  <a:lnTo>
                    <a:pt x="1812" y="869"/>
                  </a:lnTo>
                  <a:close/>
                  <a:moveTo>
                    <a:pt x="422" y="842"/>
                  </a:moveTo>
                  <a:lnTo>
                    <a:pt x="428" y="836"/>
                  </a:lnTo>
                  <a:lnTo>
                    <a:pt x="435" y="829"/>
                  </a:lnTo>
                  <a:lnTo>
                    <a:pt x="435" y="823"/>
                  </a:lnTo>
                  <a:lnTo>
                    <a:pt x="441" y="823"/>
                  </a:lnTo>
                  <a:lnTo>
                    <a:pt x="441" y="816"/>
                  </a:lnTo>
                  <a:lnTo>
                    <a:pt x="435" y="809"/>
                  </a:lnTo>
                  <a:lnTo>
                    <a:pt x="435" y="803"/>
                  </a:lnTo>
                  <a:lnTo>
                    <a:pt x="428" y="803"/>
                  </a:lnTo>
                  <a:lnTo>
                    <a:pt x="422" y="803"/>
                  </a:lnTo>
                  <a:lnTo>
                    <a:pt x="408" y="803"/>
                  </a:lnTo>
                  <a:lnTo>
                    <a:pt x="402" y="803"/>
                  </a:lnTo>
                  <a:lnTo>
                    <a:pt x="402" y="809"/>
                  </a:lnTo>
                  <a:lnTo>
                    <a:pt x="395" y="816"/>
                  </a:lnTo>
                  <a:lnTo>
                    <a:pt x="395" y="823"/>
                  </a:lnTo>
                  <a:lnTo>
                    <a:pt x="402" y="823"/>
                  </a:lnTo>
                  <a:lnTo>
                    <a:pt x="402" y="829"/>
                  </a:lnTo>
                  <a:lnTo>
                    <a:pt x="408" y="836"/>
                  </a:lnTo>
                  <a:lnTo>
                    <a:pt x="415" y="836"/>
                  </a:lnTo>
                  <a:lnTo>
                    <a:pt x="422" y="842"/>
                  </a:lnTo>
                  <a:lnTo>
                    <a:pt x="422" y="842"/>
                  </a:lnTo>
                  <a:close/>
                  <a:moveTo>
                    <a:pt x="1977" y="809"/>
                  </a:moveTo>
                  <a:lnTo>
                    <a:pt x="1983" y="803"/>
                  </a:lnTo>
                  <a:lnTo>
                    <a:pt x="1983" y="803"/>
                  </a:lnTo>
                  <a:lnTo>
                    <a:pt x="1977" y="796"/>
                  </a:lnTo>
                  <a:lnTo>
                    <a:pt x="1977" y="796"/>
                  </a:lnTo>
                  <a:lnTo>
                    <a:pt x="1970" y="796"/>
                  </a:lnTo>
                  <a:lnTo>
                    <a:pt x="1964" y="803"/>
                  </a:lnTo>
                  <a:lnTo>
                    <a:pt x="1964" y="803"/>
                  </a:lnTo>
                  <a:lnTo>
                    <a:pt x="1957" y="809"/>
                  </a:lnTo>
                  <a:lnTo>
                    <a:pt x="1957" y="809"/>
                  </a:lnTo>
                  <a:lnTo>
                    <a:pt x="1957" y="816"/>
                  </a:lnTo>
                  <a:lnTo>
                    <a:pt x="1964" y="816"/>
                  </a:lnTo>
                  <a:lnTo>
                    <a:pt x="1970" y="816"/>
                  </a:lnTo>
                  <a:lnTo>
                    <a:pt x="1977" y="816"/>
                  </a:lnTo>
                  <a:lnTo>
                    <a:pt x="1977" y="809"/>
                  </a:lnTo>
                  <a:close/>
                  <a:moveTo>
                    <a:pt x="1482" y="783"/>
                  </a:moveTo>
                  <a:lnTo>
                    <a:pt x="1476" y="770"/>
                  </a:lnTo>
                  <a:lnTo>
                    <a:pt x="1476" y="763"/>
                  </a:lnTo>
                  <a:lnTo>
                    <a:pt x="1476" y="763"/>
                  </a:lnTo>
                  <a:lnTo>
                    <a:pt x="1476" y="763"/>
                  </a:lnTo>
                  <a:lnTo>
                    <a:pt x="1476" y="763"/>
                  </a:lnTo>
                  <a:lnTo>
                    <a:pt x="1476" y="770"/>
                  </a:lnTo>
                  <a:lnTo>
                    <a:pt x="1476" y="783"/>
                  </a:lnTo>
                  <a:lnTo>
                    <a:pt x="1476" y="790"/>
                  </a:lnTo>
                  <a:lnTo>
                    <a:pt x="1476" y="796"/>
                  </a:lnTo>
                  <a:lnTo>
                    <a:pt x="1476" y="803"/>
                  </a:lnTo>
                  <a:lnTo>
                    <a:pt x="1476" y="803"/>
                  </a:lnTo>
                  <a:lnTo>
                    <a:pt x="1476" y="803"/>
                  </a:lnTo>
                  <a:lnTo>
                    <a:pt x="1476" y="796"/>
                  </a:lnTo>
                  <a:lnTo>
                    <a:pt x="1482" y="783"/>
                  </a:lnTo>
                  <a:close/>
                  <a:moveTo>
                    <a:pt x="1595" y="783"/>
                  </a:moveTo>
                  <a:lnTo>
                    <a:pt x="1595" y="776"/>
                  </a:lnTo>
                  <a:lnTo>
                    <a:pt x="1601" y="770"/>
                  </a:lnTo>
                  <a:lnTo>
                    <a:pt x="1601" y="763"/>
                  </a:lnTo>
                  <a:lnTo>
                    <a:pt x="1601" y="757"/>
                  </a:lnTo>
                  <a:lnTo>
                    <a:pt x="1601" y="750"/>
                  </a:lnTo>
                  <a:lnTo>
                    <a:pt x="1601" y="744"/>
                  </a:lnTo>
                  <a:lnTo>
                    <a:pt x="1601" y="737"/>
                  </a:lnTo>
                  <a:lnTo>
                    <a:pt x="1595" y="730"/>
                  </a:lnTo>
                  <a:lnTo>
                    <a:pt x="1595" y="724"/>
                  </a:lnTo>
                  <a:lnTo>
                    <a:pt x="1595" y="717"/>
                  </a:lnTo>
                  <a:lnTo>
                    <a:pt x="1595" y="711"/>
                  </a:lnTo>
                  <a:lnTo>
                    <a:pt x="1595" y="704"/>
                  </a:lnTo>
                  <a:lnTo>
                    <a:pt x="1588" y="697"/>
                  </a:lnTo>
                  <a:lnTo>
                    <a:pt x="1588" y="691"/>
                  </a:lnTo>
                  <a:lnTo>
                    <a:pt x="1588" y="684"/>
                  </a:lnTo>
                  <a:lnTo>
                    <a:pt x="1588" y="691"/>
                  </a:lnTo>
                  <a:lnTo>
                    <a:pt x="1588" y="697"/>
                  </a:lnTo>
                  <a:lnTo>
                    <a:pt x="1581" y="704"/>
                  </a:lnTo>
                  <a:lnTo>
                    <a:pt x="1581" y="711"/>
                  </a:lnTo>
                  <a:lnTo>
                    <a:pt x="1581" y="717"/>
                  </a:lnTo>
                  <a:lnTo>
                    <a:pt x="1581" y="724"/>
                  </a:lnTo>
                  <a:lnTo>
                    <a:pt x="1575" y="730"/>
                  </a:lnTo>
                  <a:lnTo>
                    <a:pt x="1575" y="737"/>
                  </a:lnTo>
                  <a:lnTo>
                    <a:pt x="1575" y="744"/>
                  </a:lnTo>
                  <a:lnTo>
                    <a:pt x="1575" y="750"/>
                  </a:lnTo>
                  <a:lnTo>
                    <a:pt x="1568" y="757"/>
                  </a:lnTo>
                  <a:lnTo>
                    <a:pt x="1568" y="763"/>
                  </a:lnTo>
                  <a:lnTo>
                    <a:pt x="1568" y="770"/>
                  </a:lnTo>
                  <a:lnTo>
                    <a:pt x="1575" y="776"/>
                  </a:lnTo>
                  <a:lnTo>
                    <a:pt x="1575" y="783"/>
                  </a:lnTo>
                  <a:lnTo>
                    <a:pt x="1588" y="790"/>
                  </a:lnTo>
                  <a:lnTo>
                    <a:pt x="1595" y="783"/>
                  </a:lnTo>
                  <a:close/>
                  <a:moveTo>
                    <a:pt x="389" y="730"/>
                  </a:moveTo>
                  <a:lnTo>
                    <a:pt x="402" y="724"/>
                  </a:lnTo>
                  <a:lnTo>
                    <a:pt x="408" y="724"/>
                  </a:lnTo>
                  <a:lnTo>
                    <a:pt x="415" y="717"/>
                  </a:lnTo>
                  <a:lnTo>
                    <a:pt x="422" y="711"/>
                  </a:lnTo>
                  <a:lnTo>
                    <a:pt x="422" y="711"/>
                  </a:lnTo>
                  <a:lnTo>
                    <a:pt x="428" y="704"/>
                  </a:lnTo>
                  <a:lnTo>
                    <a:pt x="435" y="697"/>
                  </a:lnTo>
                  <a:lnTo>
                    <a:pt x="441" y="697"/>
                  </a:lnTo>
                  <a:lnTo>
                    <a:pt x="448" y="691"/>
                  </a:lnTo>
                  <a:lnTo>
                    <a:pt x="455" y="691"/>
                  </a:lnTo>
                  <a:lnTo>
                    <a:pt x="461" y="684"/>
                  </a:lnTo>
                  <a:lnTo>
                    <a:pt x="468" y="678"/>
                  </a:lnTo>
                  <a:lnTo>
                    <a:pt x="468" y="678"/>
                  </a:lnTo>
                  <a:lnTo>
                    <a:pt x="474" y="671"/>
                  </a:lnTo>
                  <a:lnTo>
                    <a:pt x="474" y="664"/>
                  </a:lnTo>
                  <a:lnTo>
                    <a:pt x="481" y="658"/>
                  </a:lnTo>
                  <a:lnTo>
                    <a:pt x="487" y="658"/>
                  </a:lnTo>
                  <a:lnTo>
                    <a:pt x="494" y="651"/>
                  </a:lnTo>
                  <a:lnTo>
                    <a:pt x="494" y="645"/>
                  </a:lnTo>
                  <a:lnTo>
                    <a:pt x="494" y="638"/>
                  </a:lnTo>
                  <a:lnTo>
                    <a:pt x="501" y="638"/>
                  </a:lnTo>
                  <a:lnTo>
                    <a:pt x="501" y="632"/>
                  </a:lnTo>
                  <a:lnTo>
                    <a:pt x="507" y="625"/>
                  </a:lnTo>
                  <a:lnTo>
                    <a:pt x="520" y="625"/>
                  </a:lnTo>
                  <a:lnTo>
                    <a:pt x="527" y="625"/>
                  </a:lnTo>
                  <a:lnTo>
                    <a:pt x="534" y="625"/>
                  </a:lnTo>
                  <a:lnTo>
                    <a:pt x="540" y="632"/>
                  </a:lnTo>
                  <a:lnTo>
                    <a:pt x="547" y="638"/>
                  </a:lnTo>
                  <a:lnTo>
                    <a:pt x="547" y="645"/>
                  </a:lnTo>
                  <a:lnTo>
                    <a:pt x="547" y="651"/>
                  </a:lnTo>
                  <a:lnTo>
                    <a:pt x="553" y="651"/>
                  </a:lnTo>
                  <a:lnTo>
                    <a:pt x="553" y="658"/>
                  </a:lnTo>
                  <a:lnTo>
                    <a:pt x="553" y="664"/>
                  </a:lnTo>
                  <a:lnTo>
                    <a:pt x="553" y="671"/>
                  </a:lnTo>
                  <a:lnTo>
                    <a:pt x="560" y="678"/>
                  </a:lnTo>
                  <a:lnTo>
                    <a:pt x="567" y="678"/>
                  </a:lnTo>
                  <a:lnTo>
                    <a:pt x="573" y="671"/>
                  </a:lnTo>
                  <a:lnTo>
                    <a:pt x="580" y="671"/>
                  </a:lnTo>
                  <a:lnTo>
                    <a:pt x="586" y="664"/>
                  </a:lnTo>
                  <a:lnTo>
                    <a:pt x="593" y="664"/>
                  </a:lnTo>
                  <a:lnTo>
                    <a:pt x="600" y="658"/>
                  </a:lnTo>
                  <a:lnTo>
                    <a:pt x="600" y="651"/>
                  </a:lnTo>
                  <a:lnTo>
                    <a:pt x="600" y="645"/>
                  </a:lnTo>
                  <a:lnTo>
                    <a:pt x="600" y="638"/>
                  </a:lnTo>
                  <a:lnTo>
                    <a:pt x="600" y="632"/>
                  </a:lnTo>
                  <a:lnTo>
                    <a:pt x="600" y="625"/>
                  </a:lnTo>
                  <a:lnTo>
                    <a:pt x="600" y="625"/>
                  </a:lnTo>
                  <a:lnTo>
                    <a:pt x="600" y="618"/>
                  </a:lnTo>
                  <a:lnTo>
                    <a:pt x="600" y="612"/>
                  </a:lnTo>
                  <a:lnTo>
                    <a:pt x="600" y="605"/>
                  </a:lnTo>
                  <a:lnTo>
                    <a:pt x="600" y="599"/>
                  </a:lnTo>
                  <a:lnTo>
                    <a:pt x="600" y="592"/>
                  </a:lnTo>
                  <a:lnTo>
                    <a:pt x="600" y="585"/>
                  </a:lnTo>
                  <a:lnTo>
                    <a:pt x="600" y="585"/>
                  </a:lnTo>
                  <a:lnTo>
                    <a:pt x="606" y="579"/>
                  </a:lnTo>
                  <a:lnTo>
                    <a:pt x="606" y="572"/>
                  </a:lnTo>
                  <a:lnTo>
                    <a:pt x="613" y="566"/>
                  </a:lnTo>
                  <a:lnTo>
                    <a:pt x="619" y="566"/>
                  </a:lnTo>
                  <a:lnTo>
                    <a:pt x="619" y="559"/>
                  </a:lnTo>
                  <a:lnTo>
                    <a:pt x="619" y="553"/>
                  </a:lnTo>
                  <a:lnTo>
                    <a:pt x="626" y="546"/>
                  </a:lnTo>
                  <a:lnTo>
                    <a:pt x="619" y="539"/>
                  </a:lnTo>
                  <a:lnTo>
                    <a:pt x="619" y="533"/>
                  </a:lnTo>
                  <a:lnTo>
                    <a:pt x="619" y="533"/>
                  </a:lnTo>
                  <a:lnTo>
                    <a:pt x="619" y="526"/>
                  </a:lnTo>
                  <a:lnTo>
                    <a:pt x="613" y="520"/>
                  </a:lnTo>
                  <a:lnTo>
                    <a:pt x="613" y="513"/>
                  </a:lnTo>
                  <a:lnTo>
                    <a:pt x="613" y="506"/>
                  </a:lnTo>
                  <a:lnTo>
                    <a:pt x="613" y="500"/>
                  </a:lnTo>
                  <a:lnTo>
                    <a:pt x="606" y="493"/>
                  </a:lnTo>
                  <a:lnTo>
                    <a:pt x="606" y="493"/>
                  </a:lnTo>
                  <a:lnTo>
                    <a:pt x="613" y="487"/>
                  </a:lnTo>
                  <a:lnTo>
                    <a:pt x="613" y="480"/>
                  </a:lnTo>
                  <a:lnTo>
                    <a:pt x="619" y="480"/>
                  </a:lnTo>
                  <a:lnTo>
                    <a:pt x="626" y="474"/>
                  </a:lnTo>
                  <a:lnTo>
                    <a:pt x="632" y="467"/>
                  </a:lnTo>
                  <a:lnTo>
                    <a:pt x="632" y="467"/>
                  </a:lnTo>
                  <a:lnTo>
                    <a:pt x="639" y="460"/>
                  </a:lnTo>
                  <a:lnTo>
                    <a:pt x="639" y="454"/>
                  </a:lnTo>
                  <a:lnTo>
                    <a:pt x="639" y="447"/>
                  </a:lnTo>
                  <a:lnTo>
                    <a:pt x="646" y="441"/>
                  </a:lnTo>
                  <a:lnTo>
                    <a:pt x="646" y="441"/>
                  </a:lnTo>
                  <a:lnTo>
                    <a:pt x="659" y="434"/>
                  </a:lnTo>
                  <a:lnTo>
                    <a:pt x="665" y="427"/>
                  </a:lnTo>
                  <a:lnTo>
                    <a:pt x="672" y="427"/>
                  </a:lnTo>
                  <a:lnTo>
                    <a:pt x="672" y="421"/>
                  </a:lnTo>
                  <a:lnTo>
                    <a:pt x="679" y="414"/>
                  </a:lnTo>
                  <a:lnTo>
                    <a:pt x="685" y="414"/>
                  </a:lnTo>
                  <a:lnTo>
                    <a:pt x="692" y="408"/>
                  </a:lnTo>
                  <a:lnTo>
                    <a:pt x="698" y="408"/>
                  </a:lnTo>
                  <a:lnTo>
                    <a:pt x="705" y="401"/>
                  </a:lnTo>
                  <a:lnTo>
                    <a:pt x="705" y="395"/>
                  </a:lnTo>
                  <a:lnTo>
                    <a:pt x="712" y="395"/>
                  </a:lnTo>
                  <a:lnTo>
                    <a:pt x="718" y="388"/>
                  </a:lnTo>
                  <a:lnTo>
                    <a:pt x="725" y="381"/>
                  </a:lnTo>
                  <a:lnTo>
                    <a:pt x="731" y="381"/>
                  </a:lnTo>
                  <a:lnTo>
                    <a:pt x="738" y="375"/>
                  </a:lnTo>
                  <a:lnTo>
                    <a:pt x="744" y="368"/>
                  </a:lnTo>
                  <a:lnTo>
                    <a:pt x="751" y="368"/>
                  </a:lnTo>
                  <a:lnTo>
                    <a:pt x="751" y="362"/>
                  </a:lnTo>
                  <a:lnTo>
                    <a:pt x="758" y="362"/>
                  </a:lnTo>
                  <a:lnTo>
                    <a:pt x="764" y="355"/>
                  </a:lnTo>
                  <a:lnTo>
                    <a:pt x="771" y="348"/>
                  </a:lnTo>
                  <a:lnTo>
                    <a:pt x="777" y="348"/>
                  </a:lnTo>
                  <a:lnTo>
                    <a:pt x="777" y="342"/>
                  </a:lnTo>
                  <a:lnTo>
                    <a:pt x="784" y="335"/>
                  </a:lnTo>
                  <a:lnTo>
                    <a:pt x="791" y="335"/>
                  </a:lnTo>
                  <a:lnTo>
                    <a:pt x="797" y="329"/>
                  </a:lnTo>
                  <a:lnTo>
                    <a:pt x="804" y="322"/>
                  </a:lnTo>
                  <a:lnTo>
                    <a:pt x="804" y="322"/>
                  </a:lnTo>
                  <a:lnTo>
                    <a:pt x="810" y="316"/>
                  </a:lnTo>
                  <a:lnTo>
                    <a:pt x="817" y="309"/>
                  </a:lnTo>
                  <a:lnTo>
                    <a:pt x="824" y="309"/>
                  </a:lnTo>
                  <a:lnTo>
                    <a:pt x="830" y="302"/>
                  </a:lnTo>
                  <a:lnTo>
                    <a:pt x="837" y="296"/>
                  </a:lnTo>
                  <a:lnTo>
                    <a:pt x="843" y="296"/>
                  </a:lnTo>
                  <a:lnTo>
                    <a:pt x="850" y="289"/>
                  </a:lnTo>
                  <a:lnTo>
                    <a:pt x="857" y="289"/>
                  </a:lnTo>
                  <a:lnTo>
                    <a:pt x="863" y="289"/>
                  </a:lnTo>
                  <a:lnTo>
                    <a:pt x="870" y="283"/>
                  </a:lnTo>
                  <a:lnTo>
                    <a:pt x="876" y="283"/>
                  </a:lnTo>
                  <a:lnTo>
                    <a:pt x="883" y="276"/>
                  </a:lnTo>
                  <a:lnTo>
                    <a:pt x="896" y="276"/>
                  </a:lnTo>
                  <a:lnTo>
                    <a:pt x="896" y="269"/>
                  </a:lnTo>
                  <a:lnTo>
                    <a:pt x="903" y="263"/>
                  </a:lnTo>
                  <a:lnTo>
                    <a:pt x="909" y="263"/>
                  </a:lnTo>
                  <a:lnTo>
                    <a:pt x="916" y="256"/>
                  </a:lnTo>
                  <a:lnTo>
                    <a:pt x="916" y="250"/>
                  </a:lnTo>
                  <a:lnTo>
                    <a:pt x="922" y="250"/>
                  </a:lnTo>
                  <a:lnTo>
                    <a:pt x="929" y="243"/>
                  </a:lnTo>
                  <a:lnTo>
                    <a:pt x="936" y="237"/>
                  </a:lnTo>
                  <a:lnTo>
                    <a:pt x="942" y="237"/>
                  </a:lnTo>
                  <a:lnTo>
                    <a:pt x="942" y="230"/>
                  </a:lnTo>
                  <a:lnTo>
                    <a:pt x="949" y="223"/>
                  </a:lnTo>
                  <a:lnTo>
                    <a:pt x="955" y="223"/>
                  </a:lnTo>
                  <a:lnTo>
                    <a:pt x="962" y="217"/>
                  </a:lnTo>
                  <a:lnTo>
                    <a:pt x="962" y="210"/>
                  </a:lnTo>
                  <a:lnTo>
                    <a:pt x="969" y="210"/>
                  </a:lnTo>
                  <a:lnTo>
                    <a:pt x="975" y="204"/>
                  </a:lnTo>
                  <a:lnTo>
                    <a:pt x="982" y="197"/>
                  </a:lnTo>
                  <a:lnTo>
                    <a:pt x="982" y="190"/>
                  </a:lnTo>
                  <a:lnTo>
                    <a:pt x="988" y="190"/>
                  </a:lnTo>
                  <a:lnTo>
                    <a:pt x="988" y="184"/>
                  </a:lnTo>
                  <a:lnTo>
                    <a:pt x="995" y="177"/>
                  </a:lnTo>
                  <a:lnTo>
                    <a:pt x="995" y="171"/>
                  </a:lnTo>
                  <a:lnTo>
                    <a:pt x="995" y="164"/>
                  </a:lnTo>
                  <a:lnTo>
                    <a:pt x="1001" y="158"/>
                  </a:lnTo>
                  <a:lnTo>
                    <a:pt x="1001" y="158"/>
                  </a:lnTo>
                  <a:lnTo>
                    <a:pt x="1008" y="151"/>
                  </a:lnTo>
                  <a:lnTo>
                    <a:pt x="1015" y="151"/>
                  </a:lnTo>
                  <a:lnTo>
                    <a:pt x="1028" y="151"/>
                  </a:lnTo>
                  <a:lnTo>
                    <a:pt x="1034" y="151"/>
                  </a:lnTo>
                  <a:lnTo>
                    <a:pt x="1041" y="144"/>
                  </a:lnTo>
                  <a:lnTo>
                    <a:pt x="1048" y="144"/>
                  </a:lnTo>
                  <a:lnTo>
                    <a:pt x="1061" y="144"/>
                  </a:lnTo>
                  <a:lnTo>
                    <a:pt x="1067" y="138"/>
                  </a:lnTo>
                  <a:lnTo>
                    <a:pt x="1074" y="138"/>
                  </a:lnTo>
                  <a:lnTo>
                    <a:pt x="1081" y="131"/>
                  </a:lnTo>
                  <a:lnTo>
                    <a:pt x="1087" y="131"/>
                  </a:lnTo>
                  <a:lnTo>
                    <a:pt x="1094" y="125"/>
                  </a:lnTo>
                  <a:lnTo>
                    <a:pt x="1100" y="125"/>
                  </a:lnTo>
                  <a:lnTo>
                    <a:pt x="1107" y="125"/>
                  </a:lnTo>
                  <a:lnTo>
                    <a:pt x="1120" y="118"/>
                  </a:lnTo>
                  <a:lnTo>
                    <a:pt x="1127" y="118"/>
                  </a:lnTo>
                  <a:lnTo>
                    <a:pt x="1133" y="118"/>
                  </a:lnTo>
                  <a:lnTo>
                    <a:pt x="1140" y="118"/>
                  </a:lnTo>
                  <a:lnTo>
                    <a:pt x="1153" y="118"/>
                  </a:lnTo>
                  <a:lnTo>
                    <a:pt x="1160" y="111"/>
                  </a:lnTo>
                  <a:lnTo>
                    <a:pt x="1166" y="111"/>
                  </a:lnTo>
                  <a:lnTo>
                    <a:pt x="1173" y="105"/>
                  </a:lnTo>
                  <a:lnTo>
                    <a:pt x="1179" y="98"/>
                  </a:lnTo>
                  <a:lnTo>
                    <a:pt x="1186" y="98"/>
                  </a:lnTo>
                  <a:lnTo>
                    <a:pt x="1193" y="92"/>
                  </a:lnTo>
                  <a:lnTo>
                    <a:pt x="1199" y="92"/>
                  </a:lnTo>
                  <a:lnTo>
                    <a:pt x="1206" y="92"/>
                  </a:lnTo>
                  <a:lnTo>
                    <a:pt x="1212" y="85"/>
                  </a:lnTo>
                  <a:lnTo>
                    <a:pt x="1219" y="85"/>
                  </a:lnTo>
                  <a:lnTo>
                    <a:pt x="1232" y="85"/>
                  </a:lnTo>
                  <a:lnTo>
                    <a:pt x="1239" y="79"/>
                  </a:lnTo>
                  <a:lnTo>
                    <a:pt x="1245" y="79"/>
                  </a:lnTo>
                  <a:lnTo>
                    <a:pt x="1252" y="72"/>
                  </a:lnTo>
                  <a:lnTo>
                    <a:pt x="1252" y="65"/>
                  </a:lnTo>
                  <a:lnTo>
                    <a:pt x="1258" y="65"/>
                  </a:lnTo>
                  <a:lnTo>
                    <a:pt x="1265" y="59"/>
                  </a:lnTo>
                  <a:lnTo>
                    <a:pt x="1272" y="59"/>
                  </a:lnTo>
                  <a:lnTo>
                    <a:pt x="1278" y="52"/>
                  </a:lnTo>
                  <a:lnTo>
                    <a:pt x="1278" y="46"/>
                  </a:lnTo>
                  <a:lnTo>
                    <a:pt x="1285" y="39"/>
                  </a:lnTo>
                  <a:lnTo>
                    <a:pt x="1291" y="39"/>
                  </a:lnTo>
                  <a:lnTo>
                    <a:pt x="1298" y="32"/>
                  </a:lnTo>
                  <a:lnTo>
                    <a:pt x="1298" y="26"/>
                  </a:lnTo>
                  <a:lnTo>
                    <a:pt x="1298" y="26"/>
                  </a:lnTo>
                  <a:lnTo>
                    <a:pt x="1291" y="19"/>
                  </a:lnTo>
                  <a:lnTo>
                    <a:pt x="1285" y="13"/>
                  </a:lnTo>
                  <a:lnTo>
                    <a:pt x="1278" y="6"/>
                  </a:lnTo>
                  <a:lnTo>
                    <a:pt x="1272" y="6"/>
                  </a:lnTo>
                  <a:lnTo>
                    <a:pt x="1265" y="0"/>
                  </a:lnTo>
                  <a:lnTo>
                    <a:pt x="1252" y="0"/>
                  </a:lnTo>
                  <a:lnTo>
                    <a:pt x="1226" y="0"/>
                  </a:lnTo>
                  <a:lnTo>
                    <a:pt x="1199" y="0"/>
                  </a:lnTo>
                  <a:lnTo>
                    <a:pt x="1173" y="0"/>
                  </a:lnTo>
                  <a:lnTo>
                    <a:pt x="1140" y="0"/>
                  </a:lnTo>
                  <a:lnTo>
                    <a:pt x="1113" y="0"/>
                  </a:lnTo>
                  <a:lnTo>
                    <a:pt x="1087" y="0"/>
                  </a:lnTo>
                  <a:lnTo>
                    <a:pt x="1061" y="0"/>
                  </a:lnTo>
                  <a:lnTo>
                    <a:pt x="1034" y="0"/>
                  </a:lnTo>
                  <a:lnTo>
                    <a:pt x="1001" y="0"/>
                  </a:lnTo>
                  <a:lnTo>
                    <a:pt x="975" y="0"/>
                  </a:lnTo>
                  <a:lnTo>
                    <a:pt x="949" y="0"/>
                  </a:lnTo>
                  <a:lnTo>
                    <a:pt x="922" y="0"/>
                  </a:lnTo>
                  <a:lnTo>
                    <a:pt x="889" y="0"/>
                  </a:lnTo>
                  <a:lnTo>
                    <a:pt x="863" y="0"/>
                  </a:lnTo>
                  <a:lnTo>
                    <a:pt x="837" y="0"/>
                  </a:lnTo>
                  <a:lnTo>
                    <a:pt x="810" y="0"/>
                  </a:lnTo>
                  <a:lnTo>
                    <a:pt x="784" y="0"/>
                  </a:lnTo>
                  <a:lnTo>
                    <a:pt x="751" y="0"/>
                  </a:lnTo>
                  <a:lnTo>
                    <a:pt x="725" y="0"/>
                  </a:lnTo>
                  <a:lnTo>
                    <a:pt x="698" y="0"/>
                  </a:lnTo>
                  <a:lnTo>
                    <a:pt x="672" y="0"/>
                  </a:lnTo>
                  <a:lnTo>
                    <a:pt x="639" y="0"/>
                  </a:lnTo>
                  <a:lnTo>
                    <a:pt x="613" y="26"/>
                  </a:lnTo>
                  <a:lnTo>
                    <a:pt x="586" y="59"/>
                  </a:lnTo>
                  <a:lnTo>
                    <a:pt x="560" y="85"/>
                  </a:lnTo>
                  <a:lnTo>
                    <a:pt x="534" y="111"/>
                  </a:lnTo>
                  <a:lnTo>
                    <a:pt x="501" y="138"/>
                  </a:lnTo>
                  <a:lnTo>
                    <a:pt x="474" y="138"/>
                  </a:lnTo>
                  <a:lnTo>
                    <a:pt x="448" y="171"/>
                  </a:lnTo>
                  <a:lnTo>
                    <a:pt x="422" y="197"/>
                  </a:lnTo>
                  <a:lnTo>
                    <a:pt x="389" y="223"/>
                  </a:lnTo>
                  <a:lnTo>
                    <a:pt x="362" y="250"/>
                  </a:lnTo>
                  <a:lnTo>
                    <a:pt x="362" y="276"/>
                  </a:lnTo>
                  <a:lnTo>
                    <a:pt x="369" y="283"/>
                  </a:lnTo>
                  <a:lnTo>
                    <a:pt x="362" y="289"/>
                  </a:lnTo>
                  <a:lnTo>
                    <a:pt x="356" y="289"/>
                  </a:lnTo>
                  <a:lnTo>
                    <a:pt x="356" y="296"/>
                  </a:lnTo>
                  <a:lnTo>
                    <a:pt x="349" y="302"/>
                  </a:lnTo>
                  <a:lnTo>
                    <a:pt x="349" y="309"/>
                  </a:lnTo>
                  <a:lnTo>
                    <a:pt x="343" y="309"/>
                  </a:lnTo>
                  <a:lnTo>
                    <a:pt x="343" y="316"/>
                  </a:lnTo>
                  <a:lnTo>
                    <a:pt x="336" y="322"/>
                  </a:lnTo>
                  <a:lnTo>
                    <a:pt x="329" y="322"/>
                  </a:lnTo>
                  <a:lnTo>
                    <a:pt x="329" y="329"/>
                  </a:lnTo>
                  <a:lnTo>
                    <a:pt x="323" y="335"/>
                  </a:lnTo>
                  <a:lnTo>
                    <a:pt x="323" y="342"/>
                  </a:lnTo>
                  <a:lnTo>
                    <a:pt x="316" y="342"/>
                  </a:lnTo>
                  <a:lnTo>
                    <a:pt x="310" y="348"/>
                  </a:lnTo>
                  <a:lnTo>
                    <a:pt x="310" y="355"/>
                  </a:lnTo>
                  <a:lnTo>
                    <a:pt x="303" y="355"/>
                  </a:lnTo>
                  <a:lnTo>
                    <a:pt x="296" y="362"/>
                  </a:lnTo>
                  <a:lnTo>
                    <a:pt x="296" y="368"/>
                  </a:lnTo>
                  <a:lnTo>
                    <a:pt x="290" y="368"/>
                  </a:lnTo>
                  <a:lnTo>
                    <a:pt x="290" y="375"/>
                  </a:lnTo>
                  <a:lnTo>
                    <a:pt x="283" y="381"/>
                  </a:lnTo>
                  <a:lnTo>
                    <a:pt x="277" y="388"/>
                  </a:lnTo>
                  <a:lnTo>
                    <a:pt x="277" y="388"/>
                  </a:lnTo>
                  <a:lnTo>
                    <a:pt x="270" y="395"/>
                  </a:lnTo>
                  <a:lnTo>
                    <a:pt x="270" y="401"/>
                  </a:lnTo>
                  <a:lnTo>
                    <a:pt x="263" y="401"/>
                  </a:lnTo>
                  <a:lnTo>
                    <a:pt x="263" y="408"/>
                  </a:lnTo>
                  <a:lnTo>
                    <a:pt x="257" y="414"/>
                  </a:lnTo>
                  <a:lnTo>
                    <a:pt x="250" y="421"/>
                  </a:lnTo>
                  <a:lnTo>
                    <a:pt x="250" y="421"/>
                  </a:lnTo>
                  <a:lnTo>
                    <a:pt x="244" y="427"/>
                  </a:lnTo>
                  <a:lnTo>
                    <a:pt x="244" y="434"/>
                  </a:lnTo>
                  <a:lnTo>
                    <a:pt x="237" y="441"/>
                  </a:lnTo>
                  <a:lnTo>
                    <a:pt x="231" y="441"/>
                  </a:lnTo>
                  <a:lnTo>
                    <a:pt x="231" y="447"/>
                  </a:lnTo>
                  <a:lnTo>
                    <a:pt x="224" y="447"/>
                  </a:lnTo>
                  <a:lnTo>
                    <a:pt x="217" y="454"/>
                  </a:lnTo>
                  <a:lnTo>
                    <a:pt x="211" y="460"/>
                  </a:lnTo>
                  <a:lnTo>
                    <a:pt x="211" y="460"/>
                  </a:lnTo>
                  <a:lnTo>
                    <a:pt x="204" y="467"/>
                  </a:lnTo>
                  <a:lnTo>
                    <a:pt x="204" y="474"/>
                  </a:lnTo>
                  <a:lnTo>
                    <a:pt x="204" y="480"/>
                  </a:lnTo>
                  <a:lnTo>
                    <a:pt x="204" y="487"/>
                  </a:lnTo>
                  <a:lnTo>
                    <a:pt x="204" y="493"/>
                  </a:lnTo>
                  <a:lnTo>
                    <a:pt x="204" y="500"/>
                  </a:lnTo>
                  <a:lnTo>
                    <a:pt x="204" y="500"/>
                  </a:lnTo>
                  <a:lnTo>
                    <a:pt x="198" y="506"/>
                  </a:lnTo>
                  <a:lnTo>
                    <a:pt x="191" y="506"/>
                  </a:lnTo>
                  <a:lnTo>
                    <a:pt x="184" y="513"/>
                  </a:lnTo>
                  <a:lnTo>
                    <a:pt x="184" y="520"/>
                  </a:lnTo>
                  <a:lnTo>
                    <a:pt x="184" y="526"/>
                  </a:lnTo>
                  <a:lnTo>
                    <a:pt x="184" y="533"/>
                  </a:lnTo>
                  <a:lnTo>
                    <a:pt x="184" y="533"/>
                  </a:lnTo>
                  <a:lnTo>
                    <a:pt x="184" y="539"/>
                  </a:lnTo>
                  <a:lnTo>
                    <a:pt x="184" y="546"/>
                  </a:lnTo>
                  <a:lnTo>
                    <a:pt x="178" y="553"/>
                  </a:lnTo>
                  <a:lnTo>
                    <a:pt x="178" y="559"/>
                  </a:lnTo>
                  <a:lnTo>
                    <a:pt x="171" y="566"/>
                  </a:lnTo>
                  <a:lnTo>
                    <a:pt x="171" y="566"/>
                  </a:lnTo>
                  <a:lnTo>
                    <a:pt x="165" y="559"/>
                  </a:lnTo>
                  <a:lnTo>
                    <a:pt x="158" y="559"/>
                  </a:lnTo>
                  <a:lnTo>
                    <a:pt x="151" y="553"/>
                  </a:lnTo>
                  <a:lnTo>
                    <a:pt x="151" y="546"/>
                  </a:lnTo>
                  <a:lnTo>
                    <a:pt x="145" y="539"/>
                  </a:lnTo>
                  <a:lnTo>
                    <a:pt x="145" y="539"/>
                  </a:lnTo>
                  <a:lnTo>
                    <a:pt x="138" y="533"/>
                  </a:lnTo>
                  <a:lnTo>
                    <a:pt x="125" y="533"/>
                  </a:lnTo>
                  <a:lnTo>
                    <a:pt x="118" y="533"/>
                  </a:lnTo>
                  <a:lnTo>
                    <a:pt x="112" y="533"/>
                  </a:lnTo>
                  <a:lnTo>
                    <a:pt x="99" y="533"/>
                  </a:lnTo>
                  <a:lnTo>
                    <a:pt x="92" y="533"/>
                  </a:lnTo>
                  <a:lnTo>
                    <a:pt x="86" y="533"/>
                  </a:lnTo>
                  <a:lnTo>
                    <a:pt x="79" y="526"/>
                  </a:lnTo>
                  <a:lnTo>
                    <a:pt x="79" y="526"/>
                  </a:lnTo>
                  <a:lnTo>
                    <a:pt x="79" y="520"/>
                  </a:lnTo>
                  <a:lnTo>
                    <a:pt x="79" y="513"/>
                  </a:lnTo>
                  <a:lnTo>
                    <a:pt x="59" y="533"/>
                  </a:lnTo>
                  <a:lnTo>
                    <a:pt x="26" y="533"/>
                  </a:lnTo>
                  <a:lnTo>
                    <a:pt x="6" y="553"/>
                  </a:lnTo>
                  <a:lnTo>
                    <a:pt x="6" y="553"/>
                  </a:lnTo>
                  <a:lnTo>
                    <a:pt x="6" y="559"/>
                  </a:lnTo>
                  <a:lnTo>
                    <a:pt x="6" y="559"/>
                  </a:lnTo>
                  <a:lnTo>
                    <a:pt x="6" y="559"/>
                  </a:lnTo>
                  <a:lnTo>
                    <a:pt x="6" y="559"/>
                  </a:lnTo>
                  <a:lnTo>
                    <a:pt x="0" y="559"/>
                  </a:lnTo>
                  <a:lnTo>
                    <a:pt x="0" y="559"/>
                  </a:lnTo>
                  <a:lnTo>
                    <a:pt x="0" y="559"/>
                  </a:lnTo>
                  <a:lnTo>
                    <a:pt x="0" y="585"/>
                  </a:lnTo>
                  <a:lnTo>
                    <a:pt x="0" y="618"/>
                  </a:lnTo>
                  <a:lnTo>
                    <a:pt x="0" y="632"/>
                  </a:lnTo>
                  <a:lnTo>
                    <a:pt x="6" y="625"/>
                  </a:lnTo>
                  <a:lnTo>
                    <a:pt x="13" y="618"/>
                  </a:lnTo>
                  <a:lnTo>
                    <a:pt x="13" y="618"/>
                  </a:lnTo>
                  <a:lnTo>
                    <a:pt x="20" y="612"/>
                  </a:lnTo>
                  <a:lnTo>
                    <a:pt x="26" y="605"/>
                  </a:lnTo>
                  <a:lnTo>
                    <a:pt x="26" y="599"/>
                  </a:lnTo>
                  <a:lnTo>
                    <a:pt x="33" y="599"/>
                  </a:lnTo>
                  <a:lnTo>
                    <a:pt x="39" y="605"/>
                  </a:lnTo>
                  <a:lnTo>
                    <a:pt x="46" y="612"/>
                  </a:lnTo>
                  <a:lnTo>
                    <a:pt x="53" y="618"/>
                  </a:lnTo>
                  <a:lnTo>
                    <a:pt x="53" y="625"/>
                  </a:lnTo>
                  <a:lnTo>
                    <a:pt x="53" y="632"/>
                  </a:lnTo>
                  <a:lnTo>
                    <a:pt x="53" y="638"/>
                  </a:lnTo>
                  <a:lnTo>
                    <a:pt x="59" y="638"/>
                  </a:lnTo>
                  <a:lnTo>
                    <a:pt x="59" y="638"/>
                  </a:lnTo>
                  <a:lnTo>
                    <a:pt x="72" y="638"/>
                  </a:lnTo>
                  <a:lnTo>
                    <a:pt x="79" y="638"/>
                  </a:lnTo>
                  <a:lnTo>
                    <a:pt x="92" y="632"/>
                  </a:lnTo>
                  <a:lnTo>
                    <a:pt x="99" y="632"/>
                  </a:lnTo>
                  <a:lnTo>
                    <a:pt x="105" y="632"/>
                  </a:lnTo>
                  <a:lnTo>
                    <a:pt x="112" y="632"/>
                  </a:lnTo>
                  <a:lnTo>
                    <a:pt x="118" y="632"/>
                  </a:lnTo>
                  <a:lnTo>
                    <a:pt x="118" y="638"/>
                  </a:lnTo>
                  <a:lnTo>
                    <a:pt x="118" y="645"/>
                  </a:lnTo>
                  <a:lnTo>
                    <a:pt x="118" y="651"/>
                  </a:lnTo>
                  <a:lnTo>
                    <a:pt x="118" y="658"/>
                  </a:lnTo>
                  <a:lnTo>
                    <a:pt x="112" y="664"/>
                  </a:lnTo>
                  <a:lnTo>
                    <a:pt x="105" y="664"/>
                  </a:lnTo>
                  <a:lnTo>
                    <a:pt x="99" y="664"/>
                  </a:lnTo>
                  <a:lnTo>
                    <a:pt x="92" y="664"/>
                  </a:lnTo>
                  <a:lnTo>
                    <a:pt x="79" y="664"/>
                  </a:lnTo>
                  <a:lnTo>
                    <a:pt x="66" y="664"/>
                  </a:lnTo>
                  <a:lnTo>
                    <a:pt x="59" y="671"/>
                  </a:lnTo>
                  <a:lnTo>
                    <a:pt x="59" y="671"/>
                  </a:lnTo>
                  <a:lnTo>
                    <a:pt x="66" y="671"/>
                  </a:lnTo>
                  <a:lnTo>
                    <a:pt x="72" y="678"/>
                  </a:lnTo>
                  <a:lnTo>
                    <a:pt x="86" y="678"/>
                  </a:lnTo>
                  <a:lnTo>
                    <a:pt x="92" y="678"/>
                  </a:lnTo>
                  <a:lnTo>
                    <a:pt x="99" y="678"/>
                  </a:lnTo>
                  <a:lnTo>
                    <a:pt x="112" y="678"/>
                  </a:lnTo>
                  <a:lnTo>
                    <a:pt x="118" y="678"/>
                  </a:lnTo>
                  <a:lnTo>
                    <a:pt x="125" y="684"/>
                  </a:lnTo>
                  <a:lnTo>
                    <a:pt x="132" y="684"/>
                  </a:lnTo>
                  <a:lnTo>
                    <a:pt x="138" y="684"/>
                  </a:lnTo>
                  <a:lnTo>
                    <a:pt x="145" y="684"/>
                  </a:lnTo>
                  <a:lnTo>
                    <a:pt x="151" y="684"/>
                  </a:lnTo>
                  <a:lnTo>
                    <a:pt x="158" y="678"/>
                  </a:lnTo>
                  <a:lnTo>
                    <a:pt x="165" y="671"/>
                  </a:lnTo>
                  <a:lnTo>
                    <a:pt x="165" y="664"/>
                  </a:lnTo>
                  <a:lnTo>
                    <a:pt x="171" y="664"/>
                  </a:lnTo>
                  <a:lnTo>
                    <a:pt x="171" y="658"/>
                  </a:lnTo>
                  <a:lnTo>
                    <a:pt x="171" y="651"/>
                  </a:lnTo>
                  <a:lnTo>
                    <a:pt x="171" y="645"/>
                  </a:lnTo>
                  <a:lnTo>
                    <a:pt x="178" y="638"/>
                  </a:lnTo>
                  <a:lnTo>
                    <a:pt x="184" y="638"/>
                  </a:lnTo>
                  <a:lnTo>
                    <a:pt x="191" y="638"/>
                  </a:lnTo>
                  <a:lnTo>
                    <a:pt x="198" y="638"/>
                  </a:lnTo>
                  <a:lnTo>
                    <a:pt x="211" y="638"/>
                  </a:lnTo>
                  <a:lnTo>
                    <a:pt x="217" y="645"/>
                  </a:lnTo>
                  <a:lnTo>
                    <a:pt x="224" y="645"/>
                  </a:lnTo>
                  <a:lnTo>
                    <a:pt x="231" y="645"/>
                  </a:lnTo>
                  <a:lnTo>
                    <a:pt x="244" y="638"/>
                  </a:lnTo>
                  <a:lnTo>
                    <a:pt x="250" y="638"/>
                  </a:lnTo>
                  <a:lnTo>
                    <a:pt x="257" y="645"/>
                  </a:lnTo>
                  <a:lnTo>
                    <a:pt x="257" y="651"/>
                  </a:lnTo>
                  <a:lnTo>
                    <a:pt x="257" y="658"/>
                  </a:lnTo>
                  <a:lnTo>
                    <a:pt x="257" y="658"/>
                  </a:lnTo>
                  <a:lnTo>
                    <a:pt x="257" y="664"/>
                  </a:lnTo>
                  <a:lnTo>
                    <a:pt x="257" y="671"/>
                  </a:lnTo>
                  <a:lnTo>
                    <a:pt x="257" y="678"/>
                  </a:lnTo>
                  <a:lnTo>
                    <a:pt x="257" y="684"/>
                  </a:lnTo>
                  <a:lnTo>
                    <a:pt x="250" y="691"/>
                  </a:lnTo>
                  <a:lnTo>
                    <a:pt x="250" y="691"/>
                  </a:lnTo>
                  <a:lnTo>
                    <a:pt x="250" y="697"/>
                  </a:lnTo>
                  <a:lnTo>
                    <a:pt x="250" y="704"/>
                  </a:lnTo>
                  <a:lnTo>
                    <a:pt x="257" y="711"/>
                  </a:lnTo>
                  <a:lnTo>
                    <a:pt x="263" y="711"/>
                  </a:lnTo>
                  <a:lnTo>
                    <a:pt x="270" y="717"/>
                  </a:lnTo>
                  <a:lnTo>
                    <a:pt x="277" y="717"/>
                  </a:lnTo>
                  <a:lnTo>
                    <a:pt x="290" y="724"/>
                  </a:lnTo>
                  <a:lnTo>
                    <a:pt x="296" y="724"/>
                  </a:lnTo>
                  <a:lnTo>
                    <a:pt x="303" y="724"/>
                  </a:lnTo>
                  <a:lnTo>
                    <a:pt x="310" y="724"/>
                  </a:lnTo>
                  <a:lnTo>
                    <a:pt x="316" y="724"/>
                  </a:lnTo>
                  <a:lnTo>
                    <a:pt x="323" y="717"/>
                  </a:lnTo>
                  <a:lnTo>
                    <a:pt x="336" y="717"/>
                  </a:lnTo>
                  <a:lnTo>
                    <a:pt x="343" y="711"/>
                  </a:lnTo>
                  <a:lnTo>
                    <a:pt x="349" y="711"/>
                  </a:lnTo>
                  <a:lnTo>
                    <a:pt x="356" y="704"/>
                  </a:lnTo>
                  <a:lnTo>
                    <a:pt x="362" y="704"/>
                  </a:lnTo>
                  <a:lnTo>
                    <a:pt x="369" y="711"/>
                  </a:lnTo>
                  <a:lnTo>
                    <a:pt x="375" y="711"/>
                  </a:lnTo>
                  <a:lnTo>
                    <a:pt x="382" y="717"/>
                  </a:lnTo>
                  <a:lnTo>
                    <a:pt x="382" y="724"/>
                  </a:lnTo>
                  <a:lnTo>
                    <a:pt x="389" y="730"/>
                  </a:lnTo>
                  <a:close/>
                  <a:moveTo>
                    <a:pt x="1436" y="697"/>
                  </a:moveTo>
                  <a:lnTo>
                    <a:pt x="1443" y="697"/>
                  </a:lnTo>
                  <a:lnTo>
                    <a:pt x="1450" y="697"/>
                  </a:lnTo>
                  <a:lnTo>
                    <a:pt x="1463" y="697"/>
                  </a:lnTo>
                  <a:lnTo>
                    <a:pt x="1469" y="697"/>
                  </a:lnTo>
                  <a:lnTo>
                    <a:pt x="1482" y="697"/>
                  </a:lnTo>
                  <a:lnTo>
                    <a:pt x="1489" y="697"/>
                  </a:lnTo>
                  <a:lnTo>
                    <a:pt x="1502" y="697"/>
                  </a:lnTo>
                  <a:lnTo>
                    <a:pt x="1509" y="691"/>
                  </a:lnTo>
                  <a:lnTo>
                    <a:pt x="1509" y="691"/>
                  </a:lnTo>
                  <a:lnTo>
                    <a:pt x="1515" y="684"/>
                  </a:lnTo>
                  <a:lnTo>
                    <a:pt x="1515" y="678"/>
                  </a:lnTo>
                  <a:lnTo>
                    <a:pt x="1515" y="671"/>
                  </a:lnTo>
                  <a:lnTo>
                    <a:pt x="1515" y="664"/>
                  </a:lnTo>
                  <a:lnTo>
                    <a:pt x="1515" y="658"/>
                  </a:lnTo>
                  <a:lnTo>
                    <a:pt x="1515" y="651"/>
                  </a:lnTo>
                  <a:lnTo>
                    <a:pt x="1515" y="645"/>
                  </a:lnTo>
                  <a:lnTo>
                    <a:pt x="1515" y="638"/>
                  </a:lnTo>
                  <a:lnTo>
                    <a:pt x="1522" y="632"/>
                  </a:lnTo>
                  <a:lnTo>
                    <a:pt x="1522" y="625"/>
                  </a:lnTo>
                  <a:lnTo>
                    <a:pt x="1522" y="618"/>
                  </a:lnTo>
                  <a:lnTo>
                    <a:pt x="1522" y="612"/>
                  </a:lnTo>
                  <a:lnTo>
                    <a:pt x="1529" y="612"/>
                  </a:lnTo>
                  <a:lnTo>
                    <a:pt x="1529" y="605"/>
                  </a:lnTo>
                  <a:lnTo>
                    <a:pt x="1535" y="599"/>
                  </a:lnTo>
                  <a:lnTo>
                    <a:pt x="1535" y="592"/>
                  </a:lnTo>
                  <a:lnTo>
                    <a:pt x="1542" y="585"/>
                  </a:lnTo>
                  <a:lnTo>
                    <a:pt x="1542" y="579"/>
                  </a:lnTo>
                  <a:lnTo>
                    <a:pt x="1548" y="572"/>
                  </a:lnTo>
                  <a:lnTo>
                    <a:pt x="1548" y="572"/>
                  </a:lnTo>
                  <a:lnTo>
                    <a:pt x="1555" y="566"/>
                  </a:lnTo>
                  <a:lnTo>
                    <a:pt x="1555" y="559"/>
                  </a:lnTo>
                  <a:lnTo>
                    <a:pt x="1555" y="553"/>
                  </a:lnTo>
                  <a:lnTo>
                    <a:pt x="1562" y="546"/>
                  </a:lnTo>
                  <a:lnTo>
                    <a:pt x="1562" y="539"/>
                  </a:lnTo>
                  <a:lnTo>
                    <a:pt x="1568" y="533"/>
                  </a:lnTo>
                  <a:lnTo>
                    <a:pt x="1568" y="526"/>
                  </a:lnTo>
                  <a:lnTo>
                    <a:pt x="1575" y="526"/>
                  </a:lnTo>
                  <a:lnTo>
                    <a:pt x="1575" y="520"/>
                  </a:lnTo>
                  <a:lnTo>
                    <a:pt x="1581" y="513"/>
                  </a:lnTo>
                  <a:lnTo>
                    <a:pt x="1581" y="506"/>
                  </a:lnTo>
                  <a:lnTo>
                    <a:pt x="1575" y="500"/>
                  </a:lnTo>
                  <a:lnTo>
                    <a:pt x="1568" y="493"/>
                  </a:lnTo>
                  <a:lnTo>
                    <a:pt x="1562" y="493"/>
                  </a:lnTo>
                  <a:lnTo>
                    <a:pt x="1555" y="493"/>
                  </a:lnTo>
                  <a:lnTo>
                    <a:pt x="1542" y="493"/>
                  </a:lnTo>
                  <a:lnTo>
                    <a:pt x="1535" y="500"/>
                  </a:lnTo>
                  <a:lnTo>
                    <a:pt x="1529" y="500"/>
                  </a:lnTo>
                  <a:lnTo>
                    <a:pt x="1522" y="506"/>
                  </a:lnTo>
                  <a:lnTo>
                    <a:pt x="1515" y="506"/>
                  </a:lnTo>
                  <a:lnTo>
                    <a:pt x="1509" y="513"/>
                  </a:lnTo>
                  <a:lnTo>
                    <a:pt x="1502" y="520"/>
                  </a:lnTo>
                  <a:lnTo>
                    <a:pt x="1496" y="526"/>
                  </a:lnTo>
                  <a:lnTo>
                    <a:pt x="1489" y="526"/>
                  </a:lnTo>
                  <a:lnTo>
                    <a:pt x="1489" y="533"/>
                  </a:lnTo>
                  <a:lnTo>
                    <a:pt x="1482" y="539"/>
                  </a:lnTo>
                  <a:lnTo>
                    <a:pt x="1482" y="546"/>
                  </a:lnTo>
                  <a:lnTo>
                    <a:pt x="1476" y="553"/>
                  </a:lnTo>
                  <a:lnTo>
                    <a:pt x="1476" y="559"/>
                  </a:lnTo>
                  <a:lnTo>
                    <a:pt x="1469" y="559"/>
                  </a:lnTo>
                  <a:lnTo>
                    <a:pt x="1469" y="566"/>
                  </a:lnTo>
                  <a:lnTo>
                    <a:pt x="1469" y="572"/>
                  </a:lnTo>
                  <a:lnTo>
                    <a:pt x="1463" y="579"/>
                  </a:lnTo>
                  <a:lnTo>
                    <a:pt x="1456" y="585"/>
                  </a:lnTo>
                  <a:lnTo>
                    <a:pt x="1443" y="585"/>
                  </a:lnTo>
                  <a:lnTo>
                    <a:pt x="1436" y="585"/>
                  </a:lnTo>
                  <a:lnTo>
                    <a:pt x="1423" y="585"/>
                  </a:lnTo>
                  <a:lnTo>
                    <a:pt x="1417" y="592"/>
                  </a:lnTo>
                  <a:lnTo>
                    <a:pt x="1417" y="592"/>
                  </a:lnTo>
                  <a:lnTo>
                    <a:pt x="1410" y="599"/>
                  </a:lnTo>
                  <a:lnTo>
                    <a:pt x="1410" y="605"/>
                  </a:lnTo>
                  <a:lnTo>
                    <a:pt x="1410" y="612"/>
                  </a:lnTo>
                  <a:lnTo>
                    <a:pt x="1410" y="618"/>
                  </a:lnTo>
                  <a:lnTo>
                    <a:pt x="1410" y="625"/>
                  </a:lnTo>
                  <a:lnTo>
                    <a:pt x="1410" y="632"/>
                  </a:lnTo>
                  <a:lnTo>
                    <a:pt x="1410" y="638"/>
                  </a:lnTo>
                  <a:lnTo>
                    <a:pt x="1410" y="645"/>
                  </a:lnTo>
                  <a:lnTo>
                    <a:pt x="1410" y="651"/>
                  </a:lnTo>
                  <a:lnTo>
                    <a:pt x="1410" y="651"/>
                  </a:lnTo>
                  <a:lnTo>
                    <a:pt x="1410" y="658"/>
                  </a:lnTo>
                  <a:lnTo>
                    <a:pt x="1410" y="664"/>
                  </a:lnTo>
                  <a:lnTo>
                    <a:pt x="1403" y="671"/>
                  </a:lnTo>
                  <a:lnTo>
                    <a:pt x="1403" y="678"/>
                  </a:lnTo>
                  <a:lnTo>
                    <a:pt x="1397" y="684"/>
                  </a:lnTo>
                  <a:lnTo>
                    <a:pt x="1397" y="691"/>
                  </a:lnTo>
                  <a:lnTo>
                    <a:pt x="1390" y="697"/>
                  </a:lnTo>
                  <a:lnTo>
                    <a:pt x="1390" y="704"/>
                  </a:lnTo>
                  <a:lnTo>
                    <a:pt x="1390" y="711"/>
                  </a:lnTo>
                  <a:lnTo>
                    <a:pt x="1397" y="711"/>
                  </a:lnTo>
                  <a:lnTo>
                    <a:pt x="1403" y="711"/>
                  </a:lnTo>
                  <a:lnTo>
                    <a:pt x="1417" y="704"/>
                  </a:lnTo>
                  <a:lnTo>
                    <a:pt x="1423" y="704"/>
                  </a:lnTo>
                  <a:lnTo>
                    <a:pt x="1436" y="697"/>
                  </a:lnTo>
                  <a:close/>
                  <a:moveTo>
                    <a:pt x="1113" y="618"/>
                  </a:moveTo>
                  <a:lnTo>
                    <a:pt x="1113" y="612"/>
                  </a:lnTo>
                  <a:lnTo>
                    <a:pt x="1113" y="605"/>
                  </a:lnTo>
                  <a:lnTo>
                    <a:pt x="1113" y="605"/>
                  </a:lnTo>
                  <a:lnTo>
                    <a:pt x="1113" y="599"/>
                  </a:lnTo>
                  <a:lnTo>
                    <a:pt x="1113" y="599"/>
                  </a:lnTo>
                  <a:lnTo>
                    <a:pt x="1113" y="592"/>
                  </a:lnTo>
                  <a:lnTo>
                    <a:pt x="1113" y="585"/>
                  </a:lnTo>
                  <a:lnTo>
                    <a:pt x="1113" y="585"/>
                  </a:lnTo>
                  <a:lnTo>
                    <a:pt x="1113" y="585"/>
                  </a:lnTo>
                  <a:lnTo>
                    <a:pt x="1113" y="592"/>
                  </a:lnTo>
                  <a:lnTo>
                    <a:pt x="1113" y="599"/>
                  </a:lnTo>
                  <a:lnTo>
                    <a:pt x="1113" y="599"/>
                  </a:lnTo>
                  <a:lnTo>
                    <a:pt x="1113" y="605"/>
                  </a:lnTo>
                  <a:lnTo>
                    <a:pt x="1113" y="605"/>
                  </a:lnTo>
                  <a:lnTo>
                    <a:pt x="1113" y="612"/>
                  </a:lnTo>
                  <a:lnTo>
                    <a:pt x="1113" y="612"/>
                  </a:lnTo>
                  <a:lnTo>
                    <a:pt x="1113" y="618"/>
                  </a:lnTo>
                  <a:lnTo>
                    <a:pt x="1113" y="625"/>
                  </a:lnTo>
                  <a:lnTo>
                    <a:pt x="1113" y="618"/>
                  </a:lnTo>
                  <a:lnTo>
                    <a:pt x="1113" y="618"/>
                  </a:lnTo>
                  <a:close/>
                  <a:moveTo>
                    <a:pt x="1146" y="559"/>
                  </a:moveTo>
                  <a:lnTo>
                    <a:pt x="1146" y="553"/>
                  </a:lnTo>
                  <a:lnTo>
                    <a:pt x="1146" y="546"/>
                  </a:lnTo>
                  <a:lnTo>
                    <a:pt x="1146" y="539"/>
                  </a:lnTo>
                  <a:lnTo>
                    <a:pt x="1146" y="539"/>
                  </a:lnTo>
                  <a:lnTo>
                    <a:pt x="1140" y="539"/>
                  </a:lnTo>
                  <a:lnTo>
                    <a:pt x="1133" y="539"/>
                  </a:lnTo>
                  <a:lnTo>
                    <a:pt x="1127" y="546"/>
                  </a:lnTo>
                  <a:lnTo>
                    <a:pt x="1120" y="553"/>
                  </a:lnTo>
                  <a:lnTo>
                    <a:pt x="1120" y="559"/>
                  </a:lnTo>
                  <a:lnTo>
                    <a:pt x="1127" y="566"/>
                  </a:lnTo>
                  <a:lnTo>
                    <a:pt x="1133" y="566"/>
                  </a:lnTo>
                  <a:lnTo>
                    <a:pt x="1140" y="566"/>
                  </a:lnTo>
                  <a:lnTo>
                    <a:pt x="1146" y="566"/>
                  </a:lnTo>
                  <a:lnTo>
                    <a:pt x="1146" y="559"/>
                  </a:lnTo>
                  <a:close/>
                  <a:moveTo>
                    <a:pt x="698" y="506"/>
                  </a:moveTo>
                  <a:lnTo>
                    <a:pt x="698" y="500"/>
                  </a:lnTo>
                  <a:lnTo>
                    <a:pt x="698" y="500"/>
                  </a:lnTo>
                  <a:lnTo>
                    <a:pt x="698" y="500"/>
                  </a:lnTo>
                  <a:lnTo>
                    <a:pt x="698" y="500"/>
                  </a:lnTo>
                  <a:lnTo>
                    <a:pt x="698" y="500"/>
                  </a:lnTo>
                  <a:lnTo>
                    <a:pt x="692" y="500"/>
                  </a:lnTo>
                  <a:lnTo>
                    <a:pt x="692" y="500"/>
                  </a:lnTo>
                  <a:lnTo>
                    <a:pt x="692" y="506"/>
                  </a:lnTo>
                  <a:lnTo>
                    <a:pt x="692" y="506"/>
                  </a:lnTo>
                  <a:lnTo>
                    <a:pt x="698" y="506"/>
                  </a:lnTo>
                  <a:lnTo>
                    <a:pt x="698" y="506"/>
                  </a:lnTo>
                  <a:lnTo>
                    <a:pt x="698" y="506"/>
                  </a:lnTo>
                  <a:lnTo>
                    <a:pt x="698" y="506"/>
                  </a:lnTo>
                  <a:lnTo>
                    <a:pt x="698" y="506"/>
                  </a:lnTo>
                  <a:close/>
                  <a:moveTo>
                    <a:pt x="922" y="506"/>
                  </a:moveTo>
                  <a:lnTo>
                    <a:pt x="922" y="500"/>
                  </a:lnTo>
                  <a:lnTo>
                    <a:pt x="916" y="493"/>
                  </a:lnTo>
                  <a:lnTo>
                    <a:pt x="909" y="493"/>
                  </a:lnTo>
                  <a:lnTo>
                    <a:pt x="909" y="487"/>
                  </a:lnTo>
                  <a:lnTo>
                    <a:pt x="903" y="480"/>
                  </a:lnTo>
                  <a:lnTo>
                    <a:pt x="896" y="480"/>
                  </a:lnTo>
                  <a:lnTo>
                    <a:pt x="896" y="480"/>
                  </a:lnTo>
                  <a:lnTo>
                    <a:pt x="889" y="480"/>
                  </a:lnTo>
                  <a:lnTo>
                    <a:pt x="889" y="487"/>
                  </a:lnTo>
                  <a:lnTo>
                    <a:pt x="889" y="487"/>
                  </a:lnTo>
                  <a:lnTo>
                    <a:pt x="889" y="493"/>
                  </a:lnTo>
                  <a:lnTo>
                    <a:pt x="889" y="500"/>
                  </a:lnTo>
                  <a:lnTo>
                    <a:pt x="889" y="506"/>
                  </a:lnTo>
                  <a:lnTo>
                    <a:pt x="889" y="506"/>
                  </a:lnTo>
                  <a:lnTo>
                    <a:pt x="896" y="513"/>
                  </a:lnTo>
                  <a:lnTo>
                    <a:pt x="903" y="513"/>
                  </a:lnTo>
                  <a:lnTo>
                    <a:pt x="909" y="513"/>
                  </a:lnTo>
                  <a:lnTo>
                    <a:pt x="916" y="513"/>
                  </a:lnTo>
                  <a:lnTo>
                    <a:pt x="922" y="506"/>
                  </a:lnTo>
                  <a:lnTo>
                    <a:pt x="922" y="506"/>
                  </a:lnTo>
                  <a:close/>
                  <a:moveTo>
                    <a:pt x="1173" y="506"/>
                  </a:moveTo>
                  <a:lnTo>
                    <a:pt x="1173" y="500"/>
                  </a:lnTo>
                  <a:lnTo>
                    <a:pt x="1173" y="500"/>
                  </a:lnTo>
                  <a:lnTo>
                    <a:pt x="1173" y="500"/>
                  </a:lnTo>
                  <a:lnTo>
                    <a:pt x="1173" y="500"/>
                  </a:lnTo>
                  <a:lnTo>
                    <a:pt x="1173" y="500"/>
                  </a:lnTo>
                  <a:lnTo>
                    <a:pt x="1173" y="500"/>
                  </a:lnTo>
                  <a:lnTo>
                    <a:pt x="1173" y="500"/>
                  </a:lnTo>
                  <a:lnTo>
                    <a:pt x="1173" y="500"/>
                  </a:lnTo>
                  <a:lnTo>
                    <a:pt x="1173" y="506"/>
                  </a:lnTo>
                  <a:lnTo>
                    <a:pt x="1173" y="506"/>
                  </a:lnTo>
                  <a:lnTo>
                    <a:pt x="1173" y="506"/>
                  </a:lnTo>
                  <a:lnTo>
                    <a:pt x="1173" y="506"/>
                  </a:lnTo>
                  <a:lnTo>
                    <a:pt x="1173" y="506"/>
                  </a:lnTo>
                  <a:lnTo>
                    <a:pt x="1173" y="506"/>
                  </a:lnTo>
                  <a:close/>
                  <a:moveTo>
                    <a:pt x="158" y="447"/>
                  </a:moveTo>
                  <a:lnTo>
                    <a:pt x="138" y="447"/>
                  </a:lnTo>
                  <a:lnTo>
                    <a:pt x="125" y="460"/>
                  </a:lnTo>
                  <a:lnTo>
                    <a:pt x="132" y="460"/>
                  </a:lnTo>
                  <a:lnTo>
                    <a:pt x="138" y="460"/>
                  </a:lnTo>
                  <a:lnTo>
                    <a:pt x="145" y="460"/>
                  </a:lnTo>
                  <a:lnTo>
                    <a:pt x="145" y="460"/>
                  </a:lnTo>
                  <a:lnTo>
                    <a:pt x="151" y="460"/>
                  </a:lnTo>
                  <a:lnTo>
                    <a:pt x="151" y="454"/>
                  </a:lnTo>
                  <a:lnTo>
                    <a:pt x="158" y="454"/>
                  </a:lnTo>
                  <a:lnTo>
                    <a:pt x="158" y="447"/>
                  </a:lnTo>
                  <a:close/>
                  <a:moveTo>
                    <a:pt x="896" y="447"/>
                  </a:moveTo>
                  <a:lnTo>
                    <a:pt x="896" y="441"/>
                  </a:lnTo>
                  <a:lnTo>
                    <a:pt x="889" y="434"/>
                  </a:lnTo>
                  <a:lnTo>
                    <a:pt x="889" y="434"/>
                  </a:lnTo>
                  <a:lnTo>
                    <a:pt x="883" y="427"/>
                  </a:lnTo>
                  <a:lnTo>
                    <a:pt x="883" y="421"/>
                  </a:lnTo>
                  <a:lnTo>
                    <a:pt x="883" y="414"/>
                  </a:lnTo>
                  <a:lnTo>
                    <a:pt x="883" y="408"/>
                  </a:lnTo>
                  <a:lnTo>
                    <a:pt x="883" y="401"/>
                  </a:lnTo>
                  <a:lnTo>
                    <a:pt x="883" y="401"/>
                  </a:lnTo>
                  <a:lnTo>
                    <a:pt x="883" y="395"/>
                  </a:lnTo>
                  <a:lnTo>
                    <a:pt x="883" y="388"/>
                  </a:lnTo>
                  <a:lnTo>
                    <a:pt x="870" y="381"/>
                  </a:lnTo>
                  <a:lnTo>
                    <a:pt x="863" y="381"/>
                  </a:lnTo>
                  <a:lnTo>
                    <a:pt x="857" y="381"/>
                  </a:lnTo>
                  <a:lnTo>
                    <a:pt x="850" y="388"/>
                  </a:lnTo>
                  <a:lnTo>
                    <a:pt x="843" y="388"/>
                  </a:lnTo>
                  <a:lnTo>
                    <a:pt x="837" y="395"/>
                  </a:lnTo>
                  <a:lnTo>
                    <a:pt x="830" y="395"/>
                  </a:lnTo>
                  <a:lnTo>
                    <a:pt x="824" y="401"/>
                  </a:lnTo>
                  <a:lnTo>
                    <a:pt x="817" y="408"/>
                  </a:lnTo>
                  <a:lnTo>
                    <a:pt x="810" y="414"/>
                  </a:lnTo>
                  <a:lnTo>
                    <a:pt x="810" y="414"/>
                  </a:lnTo>
                  <a:lnTo>
                    <a:pt x="804" y="421"/>
                  </a:lnTo>
                  <a:lnTo>
                    <a:pt x="797" y="427"/>
                  </a:lnTo>
                  <a:lnTo>
                    <a:pt x="797" y="434"/>
                  </a:lnTo>
                  <a:lnTo>
                    <a:pt x="791" y="434"/>
                  </a:lnTo>
                  <a:lnTo>
                    <a:pt x="791" y="441"/>
                  </a:lnTo>
                  <a:lnTo>
                    <a:pt x="784" y="447"/>
                  </a:lnTo>
                  <a:lnTo>
                    <a:pt x="784" y="454"/>
                  </a:lnTo>
                  <a:lnTo>
                    <a:pt x="791" y="454"/>
                  </a:lnTo>
                  <a:lnTo>
                    <a:pt x="797" y="460"/>
                  </a:lnTo>
                  <a:lnTo>
                    <a:pt x="804" y="467"/>
                  </a:lnTo>
                  <a:lnTo>
                    <a:pt x="810" y="467"/>
                  </a:lnTo>
                  <a:lnTo>
                    <a:pt x="817" y="467"/>
                  </a:lnTo>
                  <a:lnTo>
                    <a:pt x="824" y="460"/>
                  </a:lnTo>
                  <a:lnTo>
                    <a:pt x="830" y="460"/>
                  </a:lnTo>
                  <a:lnTo>
                    <a:pt x="837" y="454"/>
                  </a:lnTo>
                  <a:lnTo>
                    <a:pt x="850" y="454"/>
                  </a:lnTo>
                  <a:lnTo>
                    <a:pt x="857" y="447"/>
                  </a:lnTo>
                  <a:lnTo>
                    <a:pt x="863" y="447"/>
                  </a:lnTo>
                  <a:lnTo>
                    <a:pt x="870" y="454"/>
                  </a:lnTo>
                  <a:lnTo>
                    <a:pt x="876" y="460"/>
                  </a:lnTo>
                  <a:lnTo>
                    <a:pt x="883" y="467"/>
                  </a:lnTo>
                  <a:lnTo>
                    <a:pt x="889" y="467"/>
                  </a:lnTo>
                  <a:lnTo>
                    <a:pt x="889" y="474"/>
                  </a:lnTo>
                  <a:lnTo>
                    <a:pt x="896" y="474"/>
                  </a:lnTo>
                  <a:lnTo>
                    <a:pt x="896" y="474"/>
                  </a:lnTo>
                  <a:lnTo>
                    <a:pt x="896" y="467"/>
                  </a:lnTo>
                  <a:lnTo>
                    <a:pt x="896" y="460"/>
                  </a:lnTo>
                  <a:lnTo>
                    <a:pt x="896" y="447"/>
                  </a:lnTo>
                  <a:close/>
                  <a:moveTo>
                    <a:pt x="171" y="421"/>
                  </a:moveTo>
                  <a:lnTo>
                    <a:pt x="171" y="421"/>
                  </a:lnTo>
                  <a:lnTo>
                    <a:pt x="171" y="434"/>
                  </a:lnTo>
                  <a:lnTo>
                    <a:pt x="171" y="421"/>
                  </a:lnTo>
                  <a:close/>
                  <a:moveTo>
                    <a:pt x="2148" y="421"/>
                  </a:moveTo>
                  <a:lnTo>
                    <a:pt x="2148" y="414"/>
                  </a:lnTo>
                  <a:lnTo>
                    <a:pt x="2141" y="414"/>
                  </a:lnTo>
                  <a:lnTo>
                    <a:pt x="2135" y="414"/>
                  </a:lnTo>
                  <a:lnTo>
                    <a:pt x="2135" y="421"/>
                  </a:lnTo>
                  <a:lnTo>
                    <a:pt x="2135" y="427"/>
                  </a:lnTo>
                  <a:lnTo>
                    <a:pt x="2135" y="427"/>
                  </a:lnTo>
                  <a:lnTo>
                    <a:pt x="2135" y="434"/>
                  </a:lnTo>
                  <a:lnTo>
                    <a:pt x="2141" y="434"/>
                  </a:lnTo>
                  <a:lnTo>
                    <a:pt x="2148" y="441"/>
                  </a:lnTo>
                  <a:lnTo>
                    <a:pt x="2148" y="441"/>
                  </a:lnTo>
                  <a:lnTo>
                    <a:pt x="2148" y="434"/>
                  </a:lnTo>
                  <a:lnTo>
                    <a:pt x="2148" y="434"/>
                  </a:lnTo>
                  <a:lnTo>
                    <a:pt x="2148" y="427"/>
                  </a:lnTo>
                  <a:lnTo>
                    <a:pt x="2148" y="421"/>
                  </a:lnTo>
                  <a:close/>
                  <a:moveTo>
                    <a:pt x="198" y="395"/>
                  </a:moveTo>
                  <a:lnTo>
                    <a:pt x="198" y="395"/>
                  </a:lnTo>
                  <a:lnTo>
                    <a:pt x="198" y="395"/>
                  </a:lnTo>
                  <a:lnTo>
                    <a:pt x="198" y="395"/>
                  </a:lnTo>
                  <a:close/>
                  <a:moveTo>
                    <a:pt x="237" y="362"/>
                  </a:moveTo>
                  <a:lnTo>
                    <a:pt x="224" y="362"/>
                  </a:lnTo>
                  <a:lnTo>
                    <a:pt x="224" y="368"/>
                  </a:lnTo>
                  <a:lnTo>
                    <a:pt x="237" y="362"/>
                  </a:lnTo>
                  <a:close/>
                  <a:moveTo>
                    <a:pt x="277" y="335"/>
                  </a:moveTo>
                  <a:lnTo>
                    <a:pt x="250" y="335"/>
                  </a:lnTo>
                  <a:lnTo>
                    <a:pt x="250" y="348"/>
                  </a:lnTo>
                  <a:lnTo>
                    <a:pt x="277" y="335"/>
                  </a:lnTo>
                  <a:close/>
                  <a:moveTo>
                    <a:pt x="329" y="309"/>
                  </a:moveTo>
                  <a:lnTo>
                    <a:pt x="310" y="309"/>
                  </a:lnTo>
                  <a:lnTo>
                    <a:pt x="283" y="335"/>
                  </a:lnTo>
                  <a:lnTo>
                    <a:pt x="290" y="329"/>
                  </a:lnTo>
                  <a:lnTo>
                    <a:pt x="296" y="329"/>
                  </a:lnTo>
                  <a:lnTo>
                    <a:pt x="303" y="329"/>
                  </a:lnTo>
                  <a:lnTo>
                    <a:pt x="310" y="322"/>
                  </a:lnTo>
                  <a:lnTo>
                    <a:pt x="316" y="322"/>
                  </a:lnTo>
                  <a:lnTo>
                    <a:pt x="323" y="316"/>
                  </a:lnTo>
                  <a:lnTo>
                    <a:pt x="323" y="316"/>
                  </a:lnTo>
                  <a:lnTo>
                    <a:pt x="329" y="309"/>
                  </a:lnTo>
                  <a:close/>
                  <a:moveTo>
                    <a:pt x="362" y="283"/>
                  </a:moveTo>
                  <a:lnTo>
                    <a:pt x="336" y="283"/>
                  </a:lnTo>
                  <a:lnTo>
                    <a:pt x="336" y="302"/>
                  </a:lnTo>
                  <a:lnTo>
                    <a:pt x="362" y="283"/>
                  </a:lnTo>
                  <a:close/>
                  <a:moveTo>
                    <a:pt x="2339" y="1731"/>
                  </a:moveTo>
                  <a:lnTo>
                    <a:pt x="2365" y="1705"/>
                  </a:lnTo>
                  <a:lnTo>
                    <a:pt x="2398" y="1705"/>
                  </a:lnTo>
                  <a:lnTo>
                    <a:pt x="2425" y="1705"/>
                  </a:lnTo>
                  <a:lnTo>
                    <a:pt x="2451" y="1705"/>
                  </a:lnTo>
                  <a:lnTo>
                    <a:pt x="2477" y="1705"/>
                  </a:lnTo>
                  <a:lnTo>
                    <a:pt x="2510" y="1705"/>
                  </a:lnTo>
                  <a:lnTo>
                    <a:pt x="2537" y="1705"/>
                  </a:lnTo>
                  <a:lnTo>
                    <a:pt x="2563" y="1678"/>
                  </a:lnTo>
                  <a:lnTo>
                    <a:pt x="2563" y="1652"/>
                  </a:lnTo>
                  <a:lnTo>
                    <a:pt x="2563" y="1619"/>
                  </a:lnTo>
                  <a:lnTo>
                    <a:pt x="2563" y="1593"/>
                  </a:lnTo>
                  <a:lnTo>
                    <a:pt x="2590" y="1566"/>
                  </a:lnTo>
                  <a:lnTo>
                    <a:pt x="2590" y="1540"/>
                  </a:lnTo>
                  <a:lnTo>
                    <a:pt x="2590" y="1507"/>
                  </a:lnTo>
                  <a:lnTo>
                    <a:pt x="2590" y="1481"/>
                  </a:lnTo>
                  <a:lnTo>
                    <a:pt x="2616" y="1455"/>
                  </a:lnTo>
                  <a:lnTo>
                    <a:pt x="2616" y="1428"/>
                  </a:lnTo>
                  <a:lnTo>
                    <a:pt x="2616" y="1395"/>
                  </a:lnTo>
                  <a:lnTo>
                    <a:pt x="2616" y="1369"/>
                  </a:lnTo>
                  <a:lnTo>
                    <a:pt x="2649" y="1343"/>
                  </a:lnTo>
                  <a:lnTo>
                    <a:pt x="2649" y="1316"/>
                  </a:lnTo>
                  <a:lnTo>
                    <a:pt x="2649" y="1283"/>
                  </a:lnTo>
                  <a:lnTo>
                    <a:pt x="2649" y="1257"/>
                  </a:lnTo>
                  <a:lnTo>
                    <a:pt x="2675" y="1231"/>
                  </a:lnTo>
                  <a:lnTo>
                    <a:pt x="2675" y="1204"/>
                  </a:lnTo>
                  <a:lnTo>
                    <a:pt x="2675" y="1171"/>
                  </a:lnTo>
                  <a:lnTo>
                    <a:pt x="2675" y="1145"/>
                  </a:lnTo>
                  <a:lnTo>
                    <a:pt x="2702" y="1119"/>
                  </a:lnTo>
                  <a:lnTo>
                    <a:pt x="2702" y="1092"/>
                  </a:lnTo>
                  <a:lnTo>
                    <a:pt x="2702" y="1060"/>
                  </a:lnTo>
                  <a:lnTo>
                    <a:pt x="2702" y="1033"/>
                  </a:lnTo>
                  <a:lnTo>
                    <a:pt x="2702" y="1007"/>
                  </a:lnTo>
                  <a:lnTo>
                    <a:pt x="2702" y="981"/>
                  </a:lnTo>
                  <a:lnTo>
                    <a:pt x="2702" y="948"/>
                  </a:lnTo>
                  <a:lnTo>
                    <a:pt x="2702" y="921"/>
                  </a:lnTo>
                  <a:lnTo>
                    <a:pt x="2702" y="895"/>
                  </a:lnTo>
                  <a:lnTo>
                    <a:pt x="2702" y="869"/>
                  </a:lnTo>
                  <a:lnTo>
                    <a:pt x="2702" y="842"/>
                  </a:lnTo>
                  <a:lnTo>
                    <a:pt x="2702" y="809"/>
                  </a:lnTo>
                  <a:lnTo>
                    <a:pt x="2702" y="783"/>
                  </a:lnTo>
                  <a:lnTo>
                    <a:pt x="2702" y="757"/>
                  </a:lnTo>
                  <a:lnTo>
                    <a:pt x="2702" y="730"/>
                  </a:lnTo>
                  <a:lnTo>
                    <a:pt x="2702" y="697"/>
                  </a:lnTo>
                  <a:lnTo>
                    <a:pt x="2702" y="671"/>
                  </a:lnTo>
                  <a:lnTo>
                    <a:pt x="2702" y="645"/>
                  </a:lnTo>
                  <a:lnTo>
                    <a:pt x="2702" y="618"/>
                  </a:lnTo>
                  <a:lnTo>
                    <a:pt x="2702" y="585"/>
                  </a:lnTo>
                  <a:lnTo>
                    <a:pt x="2702" y="559"/>
                  </a:lnTo>
                  <a:lnTo>
                    <a:pt x="2702" y="533"/>
                  </a:lnTo>
                  <a:lnTo>
                    <a:pt x="2702" y="506"/>
                  </a:lnTo>
                  <a:lnTo>
                    <a:pt x="2702" y="474"/>
                  </a:lnTo>
                  <a:lnTo>
                    <a:pt x="2702" y="447"/>
                  </a:lnTo>
                  <a:lnTo>
                    <a:pt x="2702" y="421"/>
                  </a:lnTo>
                  <a:lnTo>
                    <a:pt x="2702" y="395"/>
                  </a:lnTo>
                  <a:lnTo>
                    <a:pt x="2702" y="362"/>
                  </a:lnTo>
                  <a:lnTo>
                    <a:pt x="2702" y="335"/>
                  </a:lnTo>
                  <a:lnTo>
                    <a:pt x="2702" y="309"/>
                  </a:lnTo>
                  <a:lnTo>
                    <a:pt x="2702" y="283"/>
                  </a:lnTo>
                  <a:lnTo>
                    <a:pt x="2702" y="250"/>
                  </a:lnTo>
                  <a:lnTo>
                    <a:pt x="2675" y="223"/>
                  </a:lnTo>
                  <a:lnTo>
                    <a:pt x="2675" y="197"/>
                  </a:lnTo>
                  <a:lnTo>
                    <a:pt x="2675" y="171"/>
                  </a:lnTo>
                  <a:lnTo>
                    <a:pt x="2675" y="138"/>
                  </a:lnTo>
                  <a:lnTo>
                    <a:pt x="2675" y="111"/>
                  </a:lnTo>
                  <a:lnTo>
                    <a:pt x="2649" y="85"/>
                  </a:lnTo>
                  <a:lnTo>
                    <a:pt x="2616" y="85"/>
                  </a:lnTo>
                  <a:lnTo>
                    <a:pt x="2590" y="85"/>
                  </a:lnTo>
                  <a:lnTo>
                    <a:pt x="2563" y="59"/>
                  </a:lnTo>
                  <a:lnTo>
                    <a:pt x="2537" y="59"/>
                  </a:lnTo>
                  <a:lnTo>
                    <a:pt x="2510" y="59"/>
                  </a:lnTo>
                  <a:lnTo>
                    <a:pt x="2477" y="26"/>
                  </a:lnTo>
                  <a:lnTo>
                    <a:pt x="2451" y="26"/>
                  </a:lnTo>
                  <a:lnTo>
                    <a:pt x="2425" y="26"/>
                  </a:lnTo>
                  <a:lnTo>
                    <a:pt x="2398" y="0"/>
                  </a:lnTo>
                  <a:lnTo>
                    <a:pt x="2365" y="0"/>
                  </a:lnTo>
                  <a:lnTo>
                    <a:pt x="2339" y="0"/>
                  </a:lnTo>
                  <a:lnTo>
                    <a:pt x="2313" y="0"/>
                  </a:lnTo>
                  <a:lnTo>
                    <a:pt x="2286" y="0"/>
                  </a:lnTo>
                  <a:lnTo>
                    <a:pt x="2253" y="0"/>
                  </a:lnTo>
                  <a:lnTo>
                    <a:pt x="2227" y="0"/>
                  </a:lnTo>
                  <a:lnTo>
                    <a:pt x="2201" y="0"/>
                  </a:lnTo>
                  <a:lnTo>
                    <a:pt x="2174" y="0"/>
                  </a:lnTo>
                  <a:lnTo>
                    <a:pt x="2148" y="0"/>
                  </a:lnTo>
                  <a:lnTo>
                    <a:pt x="2115" y="0"/>
                  </a:lnTo>
                  <a:lnTo>
                    <a:pt x="2089" y="0"/>
                  </a:lnTo>
                  <a:lnTo>
                    <a:pt x="2062" y="0"/>
                  </a:lnTo>
                  <a:lnTo>
                    <a:pt x="2036" y="0"/>
                  </a:lnTo>
                  <a:lnTo>
                    <a:pt x="2003" y="0"/>
                  </a:lnTo>
                  <a:lnTo>
                    <a:pt x="1977" y="0"/>
                  </a:lnTo>
                  <a:lnTo>
                    <a:pt x="1950" y="0"/>
                  </a:lnTo>
                  <a:lnTo>
                    <a:pt x="1924" y="0"/>
                  </a:lnTo>
                  <a:lnTo>
                    <a:pt x="1898" y="0"/>
                  </a:lnTo>
                  <a:lnTo>
                    <a:pt x="1865" y="0"/>
                  </a:lnTo>
                  <a:lnTo>
                    <a:pt x="1838" y="0"/>
                  </a:lnTo>
                  <a:lnTo>
                    <a:pt x="1825" y="0"/>
                  </a:lnTo>
                  <a:lnTo>
                    <a:pt x="1838" y="6"/>
                  </a:lnTo>
                  <a:lnTo>
                    <a:pt x="1845" y="6"/>
                  </a:lnTo>
                  <a:lnTo>
                    <a:pt x="1851" y="6"/>
                  </a:lnTo>
                  <a:lnTo>
                    <a:pt x="1865" y="6"/>
                  </a:lnTo>
                  <a:lnTo>
                    <a:pt x="1871" y="6"/>
                  </a:lnTo>
                  <a:lnTo>
                    <a:pt x="1878" y="6"/>
                  </a:lnTo>
                  <a:lnTo>
                    <a:pt x="1884" y="13"/>
                  </a:lnTo>
                  <a:lnTo>
                    <a:pt x="1898" y="13"/>
                  </a:lnTo>
                  <a:lnTo>
                    <a:pt x="1904" y="19"/>
                  </a:lnTo>
                  <a:lnTo>
                    <a:pt x="1911" y="19"/>
                  </a:lnTo>
                  <a:lnTo>
                    <a:pt x="1917" y="26"/>
                  </a:lnTo>
                  <a:lnTo>
                    <a:pt x="1924" y="26"/>
                  </a:lnTo>
                  <a:lnTo>
                    <a:pt x="1937" y="32"/>
                  </a:lnTo>
                  <a:lnTo>
                    <a:pt x="1944" y="32"/>
                  </a:lnTo>
                  <a:lnTo>
                    <a:pt x="1950" y="32"/>
                  </a:lnTo>
                  <a:lnTo>
                    <a:pt x="1957" y="39"/>
                  </a:lnTo>
                  <a:lnTo>
                    <a:pt x="1970" y="39"/>
                  </a:lnTo>
                  <a:lnTo>
                    <a:pt x="1977" y="39"/>
                  </a:lnTo>
                  <a:lnTo>
                    <a:pt x="1983" y="46"/>
                  </a:lnTo>
                  <a:lnTo>
                    <a:pt x="1996" y="46"/>
                  </a:lnTo>
                  <a:lnTo>
                    <a:pt x="2003" y="46"/>
                  </a:lnTo>
                  <a:lnTo>
                    <a:pt x="2010" y="52"/>
                  </a:lnTo>
                  <a:lnTo>
                    <a:pt x="2016" y="52"/>
                  </a:lnTo>
                  <a:lnTo>
                    <a:pt x="2029" y="52"/>
                  </a:lnTo>
                  <a:lnTo>
                    <a:pt x="2036" y="59"/>
                  </a:lnTo>
                  <a:lnTo>
                    <a:pt x="2043" y="59"/>
                  </a:lnTo>
                  <a:lnTo>
                    <a:pt x="2049" y="65"/>
                  </a:lnTo>
                  <a:lnTo>
                    <a:pt x="2062" y="65"/>
                  </a:lnTo>
                  <a:lnTo>
                    <a:pt x="2069" y="65"/>
                  </a:lnTo>
                  <a:lnTo>
                    <a:pt x="2076" y="65"/>
                  </a:lnTo>
                  <a:lnTo>
                    <a:pt x="2089" y="72"/>
                  </a:lnTo>
                  <a:lnTo>
                    <a:pt x="2095" y="72"/>
                  </a:lnTo>
                  <a:lnTo>
                    <a:pt x="2102" y="79"/>
                  </a:lnTo>
                  <a:lnTo>
                    <a:pt x="2108" y="79"/>
                  </a:lnTo>
                  <a:lnTo>
                    <a:pt x="2122" y="79"/>
                  </a:lnTo>
                  <a:lnTo>
                    <a:pt x="2128" y="85"/>
                  </a:lnTo>
                  <a:lnTo>
                    <a:pt x="2135" y="85"/>
                  </a:lnTo>
                  <a:lnTo>
                    <a:pt x="2141" y="85"/>
                  </a:lnTo>
                  <a:lnTo>
                    <a:pt x="2155" y="92"/>
                  </a:lnTo>
                  <a:lnTo>
                    <a:pt x="2161" y="92"/>
                  </a:lnTo>
                  <a:lnTo>
                    <a:pt x="2168" y="92"/>
                  </a:lnTo>
                  <a:lnTo>
                    <a:pt x="2174" y="98"/>
                  </a:lnTo>
                  <a:lnTo>
                    <a:pt x="2188" y="98"/>
                  </a:lnTo>
                  <a:lnTo>
                    <a:pt x="2194" y="98"/>
                  </a:lnTo>
                  <a:lnTo>
                    <a:pt x="2201" y="105"/>
                  </a:lnTo>
                  <a:lnTo>
                    <a:pt x="2214" y="105"/>
                  </a:lnTo>
                  <a:lnTo>
                    <a:pt x="2221" y="105"/>
                  </a:lnTo>
                  <a:lnTo>
                    <a:pt x="2227" y="111"/>
                  </a:lnTo>
                  <a:lnTo>
                    <a:pt x="2234" y="111"/>
                  </a:lnTo>
                  <a:lnTo>
                    <a:pt x="2247" y="111"/>
                  </a:lnTo>
                  <a:lnTo>
                    <a:pt x="2253" y="118"/>
                  </a:lnTo>
                  <a:lnTo>
                    <a:pt x="2260" y="118"/>
                  </a:lnTo>
                  <a:lnTo>
                    <a:pt x="2267" y="125"/>
                  </a:lnTo>
                  <a:lnTo>
                    <a:pt x="2280" y="125"/>
                  </a:lnTo>
                  <a:lnTo>
                    <a:pt x="2286" y="125"/>
                  </a:lnTo>
                  <a:lnTo>
                    <a:pt x="2293" y="125"/>
                  </a:lnTo>
                  <a:lnTo>
                    <a:pt x="2300" y="131"/>
                  </a:lnTo>
                  <a:lnTo>
                    <a:pt x="2306" y="138"/>
                  </a:lnTo>
                  <a:lnTo>
                    <a:pt x="2313" y="138"/>
                  </a:lnTo>
                  <a:lnTo>
                    <a:pt x="2319" y="144"/>
                  </a:lnTo>
                  <a:lnTo>
                    <a:pt x="2326" y="151"/>
                  </a:lnTo>
                  <a:lnTo>
                    <a:pt x="2333" y="158"/>
                  </a:lnTo>
                  <a:lnTo>
                    <a:pt x="2339" y="158"/>
                  </a:lnTo>
                  <a:lnTo>
                    <a:pt x="2346" y="164"/>
                  </a:lnTo>
                  <a:lnTo>
                    <a:pt x="2352" y="164"/>
                  </a:lnTo>
                  <a:lnTo>
                    <a:pt x="2359" y="171"/>
                  </a:lnTo>
                  <a:lnTo>
                    <a:pt x="2365" y="171"/>
                  </a:lnTo>
                  <a:lnTo>
                    <a:pt x="2365" y="177"/>
                  </a:lnTo>
                  <a:lnTo>
                    <a:pt x="2372" y="184"/>
                  </a:lnTo>
                  <a:lnTo>
                    <a:pt x="2379" y="190"/>
                  </a:lnTo>
                  <a:lnTo>
                    <a:pt x="2385" y="190"/>
                  </a:lnTo>
                  <a:lnTo>
                    <a:pt x="2398" y="190"/>
                  </a:lnTo>
                  <a:lnTo>
                    <a:pt x="2405" y="197"/>
                  </a:lnTo>
                  <a:lnTo>
                    <a:pt x="2412" y="204"/>
                  </a:lnTo>
                  <a:lnTo>
                    <a:pt x="2412" y="210"/>
                  </a:lnTo>
                  <a:lnTo>
                    <a:pt x="2418" y="210"/>
                  </a:lnTo>
                  <a:lnTo>
                    <a:pt x="2418" y="217"/>
                  </a:lnTo>
                  <a:lnTo>
                    <a:pt x="2425" y="223"/>
                  </a:lnTo>
                  <a:lnTo>
                    <a:pt x="2431" y="223"/>
                  </a:lnTo>
                  <a:lnTo>
                    <a:pt x="2445" y="223"/>
                  </a:lnTo>
                  <a:lnTo>
                    <a:pt x="2451" y="230"/>
                  </a:lnTo>
                  <a:lnTo>
                    <a:pt x="2458" y="237"/>
                  </a:lnTo>
                  <a:lnTo>
                    <a:pt x="2458" y="237"/>
                  </a:lnTo>
                  <a:lnTo>
                    <a:pt x="2464" y="243"/>
                  </a:lnTo>
                  <a:lnTo>
                    <a:pt x="2471" y="250"/>
                  </a:lnTo>
                  <a:lnTo>
                    <a:pt x="2477" y="256"/>
                  </a:lnTo>
                  <a:lnTo>
                    <a:pt x="2484" y="256"/>
                  </a:lnTo>
                  <a:lnTo>
                    <a:pt x="2491" y="263"/>
                  </a:lnTo>
                  <a:lnTo>
                    <a:pt x="2491" y="263"/>
                  </a:lnTo>
                  <a:lnTo>
                    <a:pt x="2497" y="269"/>
                  </a:lnTo>
                  <a:lnTo>
                    <a:pt x="2510" y="276"/>
                  </a:lnTo>
                  <a:lnTo>
                    <a:pt x="2517" y="276"/>
                  </a:lnTo>
                  <a:lnTo>
                    <a:pt x="2510" y="283"/>
                  </a:lnTo>
                  <a:lnTo>
                    <a:pt x="2497" y="283"/>
                  </a:lnTo>
                  <a:lnTo>
                    <a:pt x="2491" y="283"/>
                  </a:lnTo>
                  <a:lnTo>
                    <a:pt x="2484" y="283"/>
                  </a:lnTo>
                  <a:lnTo>
                    <a:pt x="2471" y="289"/>
                  </a:lnTo>
                  <a:lnTo>
                    <a:pt x="2464" y="289"/>
                  </a:lnTo>
                  <a:lnTo>
                    <a:pt x="2458" y="289"/>
                  </a:lnTo>
                  <a:lnTo>
                    <a:pt x="2445" y="283"/>
                  </a:lnTo>
                  <a:lnTo>
                    <a:pt x="2438" y="283"/>
                  </a:lnTo>
                  <a:lnTo>
                    <a:pt x="2425" y="283"/>
                  </a:lnTo>
                  <a:lnTo>
                    <a:pt x="2418" y="283"/>
                  </a:lnTo>
                  <a:lnTo>
                    <a:pt x="2412" y="283"/>
                  </a:lnTo>
                  <a:lnTo>
                    <a:pt x="2398" y="283"/>
                  </a:lnTo>
                  <a:lnTo>
                    <a:pt x="2392" y="283"/>
                  </a:lnTo>
                  <a:lnTo>
                    <a:pt x="2385" y="276"/>
                  </a:lnTo>
                  <a:lnTo>
                    <a:pt x="2372" y="276"/>
                  </a:lnTo>
                  <a:lnTo>
                    <a:pt x="2365" y="276"/>
                  </a:lnTo>
                  <a:lnTo>
                    <a:pt x="2359" y="269"/>
                  </a:lnTo>
                  <a:lnTo>
                    <a:pt x="2352" y="269"/>
                  </a:lnTo>
                  <a:lnTo>
                    <a:pt x="2346" y="263"/>
                  </a:lnTo>
                  <a:lnTo>
                    <a:pt x="2333" y="263"/>
                  </a:lnTo>
                  <a:lnTo>
                    <a:pt x="2326" y="263"/>
                  </a:lnTo>
                  <a:lnTo>
                    <a:pt x="2319" y="263"/>
                  </a:lnTo>
                  <a:lnTo>
                    <a:pt x="2306" y="263"/>
                  </a:lnTo>
                  <a:lnTo>
                    <a:pt x="2300" y="269"/>
                  </a:lnTo>
                  <a:lnTo>
                    <a:pt x="2293" y="269"/>
                  </a:lnTo>
                  <a:lnTo>
                    <a:pt x="2286" y="276"/>
                  </a:lnTo>
                  <a:lnTo>
                    <a:pt x="2280" y="283"/>
                  </a:lnTo>
                  <a:lnTo>
                    <a:pt x="2280" y="289"/>
                  </a:lnTo>
                  <a:lnTo>
                    <a:pt x="2280" y="296"/>
                  </a:lnTo>
                  <a:lnTo>
                    <a:pt x="2286" y="296"/>
                  </a:lnTo>
                  <a:lnTo>
                    <a:pt x="2300" y="302"/>
                  </a:lnTo>
                  <a:lnTo>
                    <a:pt x="2306" y="302"/>
                  </a:lnTo>
                  <a:lnTo>
                    <a:pt x="2313" y="309"/>
                  </a:lnTo>
                  <a:lnTo>
                    <a:pt x="2313" y="316"/>
                  </a:lnTo>
                  <a:lnTo>
                    <a:pt x="2313" y="322"/>
                  </a:lnTo>
                  <a:lnTo>
                    <a:pt x="2313" y="322"/>
                  </a:lnTo>
                  <a:lnTo>
                    <a:pt x="2306" y="329"/>
                  </a:lnTo>
                  <a:lnTo>
                    <a:pt x="2306" y="335"/>
                  </a:lnTo>
                  <a:lnTo>
                    <a:pt x="2300" y="342"/>
                  </a:lnTo>
                  <a:lnTo>
                    <a:pt x="2300" y="348"/>
                  </a:lnTo>
                  <a:lnTo>
                    <a:pt x="2293" y="348"/>
                  </a:lnTo>
                  <a:lnTo>
                    <a:pt x="2286" y="355"/>
                  </a:lnTo>
                  <a:lnTo>
                    <a:pt x="2280" y="362"/>
                  </a:lnTo>
                  <a:lnTo>
                    <a:pt x="2273" y="362"/>
                  </a:lnTo>
                  <a:lnTo>
                    <a:pt x="2267" y="368"/>
                  </a:lnTo>
                  <a:lnTo>
                    <a:pt x="2260" y="368"/>
                  </a:lnTo>
                  <a:lnTo>
                    <a:pt x="2253" y="375"/>
                  </a:lnTo>
                  <a:lnTo>
                    <a:pt x="2247" y="381"/>
                  </a:lnTo>
                  <a:lnTo>
                    <a:pt x="2240" y="381"/>
                  </a:lnTo>
                  <a:lnTo>
                    <a:pt x="2234" y="388"/>
                  </a:lnTo>
                  <a:lnTo>
                    <a:pt x="2221" y="388"/>
                  </a:lnTo>
                  <a:lnTo>
                    <a:pt x="2214" y="395"/>
                  </a:lnTo>
                  <a:lnTo>
                    <a:pt x="2207" y="401"/>
                  </a:lnTo>
                  <a:lnTo>
                    <a:pt x="2201" y="401"/>
                  </a:lnTo>
                  <a:lnTo>
                    <a:pt x="2194" y="408"/>
                  </a:lnTo>
                  <a:lnTo>
                    <a:pt x="2188" y="408"/>
                  </a:lnTo>
                  <a:lnTo>
                    <a:pt x="2174" y="408"/>
                  </a:lnTo>
                  <a:lnTo>
                    <a:pt x="2168" y="408"/>
                  </a:lnTo>
                  <a:lnTo>
                    <a:pt x="2161" y="401"/>
                  </a:lnTo>
                  <a:lnTo>
                    <a:pt x="2155" y="401"/>
                  </a:lnTo>
                  <a:lnTo>
                    <a:pt x="2148" y="395"/>
                  </a:lnTo>
                  <a:lnTo>
                    <a:pt x="2135" y="395"/>
                  </a:lnTo>
                  <a:lnTo>
                    <a:pt x="2128" y="395"/>
                  </a:lnTo>
                  <a:lnTo>
                    <a:pt x="2122" y="401"/>
                  </a:lnTo>
                  <a:lnTo>
                    <a:pt x="2108" y="401"/>
                  </a:lnTo>
                  <a:lnTo>
                    <a:pt x="2102" y="408"/>
                  </a:lnTo>
                  <a:lnTo>
                    <a:pt x="2095" y="408"/>
                  </a:lnTo>
                  <a:lnTo>
                    <a:pt x="2089" y="414"/>
                  </a:lnTo>
                  <a:lnTo>
                    <a:pt x="2082" y="414"/>
                  </a:lnTo>
                  <a:lnTo>
                    <a:pt x="2069" y="408"/>
                  </a:lnTo>
                  <a:lnTo>
                    <a:pt x="2062" y="414"/>
                  </a:lnTo>
                  <a:lnTo>
                    <a:pt x="2056" y="414"/>
                  </a:lnTo>
                  <a:lnTo>
                    <a:pt x="2049" y="421"/>
                  </a:lnTo>
                  <a:lnTo>
                    <a:pt x="2036" y="421"/>
                  </a:lnTo>
                  <a:lnTo>
                    <a:pt x="2029" y="421"/>
                  </a:lnTo>
                  <a:lnTo>
                    <a:pt x="2023" y="421"/>
                  </a:lnTo>
                  <a:lnTo>
                    <a:pt x="2016" y="414"/>
                  </a:lnTo>
                  <a:lnTo>
                    <a:pt x="2010" y="414"/>
                  </a:lnTo>
                  <a:lnTo>
                    <a:pt x="1996" y="414"/>
                  </a:lnTo>
                  <a:lnTo>
                    <a:pt x="1990" y="414"/>
                  </a:lnTo>
                  <a:lnTo>
                    <a:pt x="1977" y="414"/>
                  </a:lnTo>
                  <a:lnTo>
                    <a:pt x="1970" y="414"/>
                  </a:lnTo>
                  <a:lnTo>
                    <a:pt x="1964" y="414"/>
                  </a:lnTo>
                  <a:lnTo>
                    <a:pt x="1950" y="414"/>
                  </a:lnTo>
                  <a:lnTo>
                    <a:pt x="1944" y="414"/>
                  </a:lnTo>
                  <a:lnTo>
                    <a:pt x="1937" y="414"/>
                  </a:lnTo>
                  <a:lnTo>
                    <a:pt x="1924" y="414"/>
                  </a:lnTo>
                  <a:lnTo>
                    <a:pt x="1917" y="414"/>
                  </a:lnTo>
                  <a:lnTo>
                    <a:pt x="1904" y="414"/>
                  </a:lnTo>
                  <a:lnTo>
                    <a:pt x="1898" y="421"/>
                  </a:lnTo>
                  <a:lnTo>
                    <a:pt x="1891" y="421"/>
                  </a:lnTo>
                  <a:lnTo>
                    <a:pt x="1884" y="427"/>
                  </a:lnTo>
                  <a:lnTo>
                    <a:pt x="1878" y="427"/>
                  </a:lnTo>
                  <a:lnTo>
                    <a:pt x="1871" y="434"/>
                  </a:lnTo>
                  <a:lnTo>
                    <a:pt x="1865" y="434"/>
                  </a:lnTo>
                  <a:lnTo>
                    <a:pt x="1858" y="441"/>
                  </a:lnTo>
                  <a:lnTo>
                    <a:pt x="1851" y="447"/>
                  </a:lnTo>
                  <a:lnTo>
                    <a:pt x="1845" y="447"/>
                  </a:lnTo>
                  <a:lnTo>
                    <a:pt x="1838" y="454"/>
                  </a:lnTo>
                  <a:lnTo>
                    <a:pt x="1838" y="460"/>
                  </a:lnTo>
                  <a:lnTo>
                    <a:pt x="1832" y="467"/>
                  </a:lnTo>
                  <a:lnTo>
                    <a:pt x="1832" y="474"/>
                  </a:lnTo>
                  <a:lnTo>
                    <a:pt x="1832" y="480"/>
                  </a:lnTo>
                  <a:lnTo>
                    <a:pt x="1832" y="480"/>
                  </a:lnTo>
                  <a:lnTo>
                    <a:pt x="1838" y="487"/>
                  </a:lnTo>
                  <a:lnTo>
                    <a:pt x="1845" y="493"/>
                  </a:lnTo>
                  <a:lnTo>
                    <a:pt x="1851" y="500"/>
                  </a:lnTo>
                  <a:lnTo>
                    <a:pt x="1858" y="500"/>
                  </a:lnTo>
                  <a:lnTo>
                    <a:pt x="1858" y="506"/>
                  </a:lnTo>
                  <a:lnTo>
                    <a:pt x="1858" y="513"/>
                  </a:lnTo>
                  <a:lnTo>
                    <a:pt x="1851" y="520"/>
                  </a:lnTo>
                  <a:lnTo>
                    <a:pt x="1851" y="526"/>
                  </a:lnTo>
                  <a:lnTo>
                    <a:pt x="1845" y="533"/>
                  </a:lnTo>
                  <a:lnTo>
                    <a:pt x="1845" y="539"/>
                  </a:lnTo>
                  <a:lnTo>
                    <a:pt x="1845" y="539"/>
                  </a:lnTo>
                  <a:lnTo>
                    <a:pt x="1838" y="546"/>
                  </a:lnTo>
                  <a:lnTo>
                    <a:pt x="1838" y="553"/>
                  </a:lnTo>
                  <a:lnTo>
                    <a:pt x="1838" y="559"/>
                  </a:lnTo>
                  <a:lnTo>
                    <a:pt x="1838" y="566"/>
                  </a:lnTo>
                  <a:lnTo>
                    <a:pt x="1832" y="572"/>
                  </a:lnTo>
                  <a:lnTo>
                    <a:pt x="1832" y="579"/>
                  </a:lnTo>
                  <a:lnTo>
                    <a:pt x="1832" y="585"/>
                  </a:lnTo>
                  <a:lnTo>
                    <a:pt x="1825" y="585"/>
                  </a:lnTo>
                  <a:lnTo>
                    <a:pt x="1825" y="592"/>
                  </a:lnTo>
                  <a:lnTo>
                    <a:pt x="1819" y="599"/>
                  </a:lnTo>
                  <a:lnTo>
                    <a:pt x="1819" y="605"/>
                  </a:lnTo>
                  <a:lnTo>
                    <a:pt x="1812" y="612"/>
                  </a:lnTo>
                  <a:lnTo>
                    <a:pt x="1799" y="612"/>
                  </a:lnTo>
                  <a:lnTo>
                    <a:pt x="1792" y="618"/>
                  </a:lnTo>
                  <a:lnTo>
                    <a:pt x="1792" y="618"/>
                  </a:lnTo>
                  <a:lnTo>
                    <a:pt x="1786" y="625"/>
                  </a:lnTo>
                  <a:lnTo>
                    <a:pt x="1779" y="625"/>
                  </a:lnTo>
                  <a:lnTo>
                    <a:pt x="1766" y="632"/>
                  </a:lnTo>
                  <a:lnTo>
                    <a:pt x="1759" y="632"/>
                  </a:lnTo>
                  <a:lnTo>
                    <a:pt x="1746" y="632"/>
                  </a:lnTo>
                  <a:lnTo>
                    <a:pt x="1739" y="632"/>
                  </a:lnTo>
                  <a:lnTo>
                    <a:pt x="1733" y="632"/>
                  </a:lnTo>
                  <a:lnTo>
                    <a:pt x="1720" y="632"/>
                  </a:lnTo>
                  <a:lnTo>
                    <a:pt x="1713" y="625"/>
                  </a:lnTo>
                  <a:lnTo>
                    <a:pt x="1707" y="625"/>
                  </a:lnTo>
                  <a:lnTo>
                    <a:pt x="1700" y="618"/>
                  </a:lnTo>
                  <a:lnTo>
                    <a:pt x="1693" y="618"/>
                  </a:lnTo>
                  <a:lnTo>
                    <a:pt x="1687" y="612"/>
                  </a:lnTo>
                  <a:lnTo>
                    <a:pt x="1680" y="605"/>
                  </a:lnTo>
                  <a:lnTo>
                    <a:pt x="1680" y="599"/>
                  </a:lnTo>
                  <a:lnTo>
                    <a:pt x="1674" y="592"/>
                  </a:lnTo>
                  <a:lnTo>
                    <a:pt x="1674" y="585"/>
                  </a:lnTo>
                  <a:lnTo>
                    <a:pt x="1674" y="585"/>
                  </a:lnTo>
                  <a:lnTo>
                    <a:pt x="1674" y="579"/>
                  </a:lnTo>
                  <a:lnTo>
                    <a:pt x="1674" y="572"/>
                  </a:lnTo>
                  <a:lnTo>
                    <a:pt x="1674" y="566"/>
                  </a:lnTo>
                  <a:lnTo>
                    <a:pt x="1674" y="559"/>
                  </a:lnTo>
                  <a:lnTo>
                    <a:pt x="1667" y="553"/>
                  </a:lnTo>
                  <a:lnTo>
                    <a:pt x="1660" y="546"/>
                  </a:lnTo>
                  <a:lnTo>
                    <a:pt x="1654" y="546"/>
                  </a:lnTo>
                  <a:lnTo>
                    <a:pt x="1647" y="539"/>
                  </a:lnTo>
                  <a:lnTo>
                    <a:pt x="1641" y="539"/>
                  </a:lnTo>
                  <a:lnTo>
                    <a:pt x="1634" y="533"/>
                  </a:lnTo>
                  <a:lnTo>
                    <a:pt x="1627" y="533"/>
                  </a:lnTo>
                  <a:lnTo>
                    <a:pt x="1621" y="526"/>
                  </a:lnTo>
                  <a:lnTo>
                    <a:pt x="1614" y="520"/>
                  </a:lnTo>
                  <a:lnTo>
                    <a:pt x="1614" y="513"/>
                  </a:lnTo>
                  <a:lnTo>
                    <a:pt x="1614" y="506"/>
                  </a:lnTo>
                  <a:lnTo>
                    <a:pt x="1614" y="500"/>
                  </a:lnTo>
                  <a:lnTo>
                    <a:pt x="1614" y="500"/>
                  </a:lnTo>
                  <a:lnTo>
                    <a:pt x="1621" y="493"/>
                  </a:lnTo>
                  <a:lnTo>
                    <a:pt x="1621" y="487"/>
                  </a:lnTo>
                  <a:lnTo>
                    <a:pt x="1627" y="480"/>
                  </a:lnTo>
                  <a:lnTo>
                    <a:pt x="1627" y="474"/>
                  </a:lnTo>
                  <a:lnTo>
                    <a:pt x="1634" y="467"/>
                  </a:lnTo>
                  <a:lnTo>
                    <a:pt x="1634" y="467"/>
                  </a:lnTo>
                  <a:lnTo>
                    <a:pt x="1641" y="460"/>
                  </a:lnTo>
                  <a:lnTo>
                    <a:pt x="1641" y="454"/>
                  </a:lnTo>
                  <a:lnTo>
                    <a:pt x="1647" y="447"/>
                  </a:lnTo>
                  <a:lnTo>
                    <a:pt x="1647" y="441"/>
                  </a:lnTo>
                  <a:lnTo>
                    <a:pt x="1654" y="434"/>
                  </a:lnTo>
                  <a:lnTo>
                    <a:pt x="1654" y="427"/>
                  </a:lnTo>
                  <a:lnTo>
                    <a:pt x="1654" y="421"/>
                  </a:lnTo>
                  <a:lnTo>
                    <a:pt x="1654" y="421"/>
                  </a:lnTo>
                  <a:lnTo>
                    <a:pt x="1641" y="414"/>
                  </a:lnTo>
                  <a:lnTo>
                    <a:pt x="1634" y="421"/>
                  </a:lnTo>
                  <a:lnTo>
                    <a:pt x="1627" y="427"/>
                  </a:lnTo>
                  <a:lnTo>
                    <a:pt x="1627" y="434"/>
                  </a:lnTo>
                  <a:lnTo>
                    <a:pt x="1621" y="441"/>
                  </a:lnTo>
                  <a:lnTo>
                    <a:pt x="1614" y="441"/>
                  </a:lnTo>
                  <a:lnTo>
                    <a:pt x="1608" y="441"/>
                  </a:lnTo>
                  <a:lnTo>
                    <a:pt x="1601" y="441"/>
                  </a:lnTo>
                  <a:lnTo>
                    <a:pt x="1588" y="441"/>
                  </a:lnTo>
                  <a:lnTo>
                    <a:pt x="1581" y="447"/>
                  </a:lnTo>
                  <a:lnTo>
                    <a:pt x="1581" y="454"/>
                  </a:lnTo>
                  <a:lnTo>
                    <a:pt x="1575" y="454"/>
                  </a:lnTo>
                  <a:lnTo>
                    <a:pt x="1568" y="460"/>
                  </a:lnTo>
                  <a:lnTo>
                    <a:pt x="1562" y="467"/>
                  </a:lnTo>
                  <a:lnTo>
                    <a:pt x="1555" y="467"/>
                  </a:lnTo>
                  <a:lnTo>
                    <a:pt x="1548" y="474"/>
                  </a:lnTo>
                  <a:lnTo>
                    <a:pt x="1542" y="474"/>
                  </a:lnTo>
                  <a:lnTo>
                    <a:pt x="1535" y="480"/>
                  </a:lnTo>
                  <a:lnTo>
                    <a:pt x="1529" y="487"/>
                  </a:lnTo>
                  <a:lnTo>
                    <a:pt x="1522" y="487"/>
                  </a:lnTo>
                  <a:lnTo>
                    <a:pt x="1515" y="493"/>
                  </a:lnTo>
                  <a:lnTo>
                    <a:pt x="1509" y="493"/>
                  </a:lnTo>
                  <a:lnTo>
                    <a:pt x="1502" y="500"/>
                  </a:lnTo>
                  <a:lnTo>
                    <a:pt x="1496" y="506"/>
                  </a:lnTo>
                  <a:lnTo>
                    <a:pt x="1489" y="506"/>
                  </a:lnTo>
                  <a:lnTo>
                    <a:pt x="1482" y="513"/>
                  </a:lnTo>
                  <a:lnTo>
                    <a:pt x="1476" y="520"/>
                  </a:lnTo>
                  <a:lnTo>
                    <a:pt x="1469" y="526"/>
                  </a:lnTo>
                  <a:lnTo>
                    <a:pt x="1463" y="526"/>
                  </a:lnTo>
                  <a:lnTo>
                    <a:pt x="1463" y="533"/>
                  </a:lnTo>
                  <a:lnTo>
                    <a:pt x="1456" y="539"/>
                  </a:lnTo>
                  <a:lnTo>
                    <a:pt x="1456" y="546"/>
                  </a:lnTo>
                  <a:lnTo>
                    <a:pt x="1456" y="553"/>
                  </a:lnTo>
                  <a:lnTo>
                    <a:pt x="1456" y="559"/>
                  </a:lnTo>
                  <a:lnTo>
                    <a:pt x="1450" y="559"/>
                  </a:lnTo>
                  <a:lnTo>
                    <a:pt x="1443" y="566"/>
                  </a:lnTo>
                  <a:lnTo>
                    <a:pt x="1436" y="566"/>
                  </a:lnTo>
                  <a:lnTo>
                    <a:pt x="1423" y="559"/>
                  </a:lnTo>
                  <a:lnTo>
                    <a:pt x="1417" y="559"/>
                  </a:lnTo>
                  <a:lnTo>
                    <a:pt x="1410" y="566"/>
                  </a:lnTo>
                  <a:lnTo>
                    <a:pt x="1403" y="572"/>
                  </a:lnTo>
                  <a:lnTo>
                    <a:pt x="1403" y="579"/>
                  </a:lnTo>
                  <a:lnTo>
                    <a:pt x="1397" y="585"/>
                  </a:lnTo>
                  <a:lnTo>
                    <a:pt x="1397" y="592"/>
                  </a:lnTo>
                  <a:lnTo>
                    <a:pt x="1397" y="599"/>
                  </a:lnTo>
                  <a:lnTo>
                    <a:pt x="1390" y="605"/>
                  </a:lnTo>
                  <a:lnTo>
                    <a:pt x="1390" y="605"/>
                  </a:lnTo>
                  <a:lnTo>
                    <a:pt x="1384" y="612"/>
                  </a:lnTo>
                  <a:lnTo>
                    <a:pt x="1384" y="618"/>
                  </a:lnTo>
                  <a:lnTo>
                    <a:pt x="1384" y="625"/>
                  </a:lnTo>
                  <a:lnTo>
                    <a:pt x="1384" y="632"/>
                  </a:lnTo>
                  <a:lnTo>
                    <a:pt x="1384" y="638"/>
                  </a:lnTo>
                  <a:lnTo>
                    <a:pt x="1384" y="645"/>
                  </a:lnTo>
                  <a:lnTo>
                    <a:pt x="1384" y="651"/>
                  </a:lnTo>
                  <a:lnTo>
                    <a:pt x="1377" y="658"/>
                  </a:lnTo>
                  <a:lnTo>
                    <a:pt x="1377" y="658"/>
                  </a:lnTo>
                  <a:lnTo>
                    <a:pt x="1377" y="664"/>
                  </a:lnTo>
                  <a:lnTo>
                    <a:pt x="1377" y="671"/>
                  </a:lnTo>
                  <a:lnTo>
                    <a:pt x="1377" y="678"/>
                  </a:lnTo>
                  <a:lnTo>
                    <a:pt x="1370" y="684"/>
                  </a:lnTo>
                  <a:lnTo>
                    <a:pt x="1370" y="691"/>
                  </a:lnTo>
                  <a:lnTo>
                    <a:pt x="1370" y="697"/>
                  </a:lnTo>
                  <a:lnTo>
                    <a:pt x="1370" y="704"/>
                  </a:lnTo>
                  <a:lnTo>
                    <a:pt x="1370" y="711"/>
                  </a:lnTo>
                  <a:lnTo>
                    <a:pt x="1370" y="711"/>
                  </a:lnTo>
                  <a:lnTo>
                    <a:pt x="1370" y="717"/>
                  </a:lnTo>
                  <a:lnTo>
                    <a:pt x="1370" y="724"/>
                  </a:lnTo>
                  <a:lnTo>
                    <a:pt x="1377" y="730"/>
                  </a:lnTo>
                  <a:lnTo>
                    <a:pt x="1377" y="737"/>
                  </a:lnTo>
                  <a:lnTo>
                    <a:pt x="1377" y="744"/>
                  </a:lnTo>
                  <a:lnTo>
                    <a:pt x="1377" y="750"/>
                  </a:lnTo>
                  <a:lnTo>
                    <a:pt x="1377" y="757"/>
                  </a:lnTo>
                  <a:lnTo>
                    <a:pt x="1377" y="763"/>
                  </a:lnTo>
                  <a:lnTo>
                    <a:pt x="1384" y="763"/>
                  </a:lnTo>
                  <a:lnTo>
                    <a:pt x="1384" y="770"/>
                  </a:lnTo>
                  <a:lnTo>
                    <a:pt x="1384" y="776"/>
                  </a:lnTo>
                  <a:lnTo>
                    <a:pt x="1377" y="783"/>
                  </a:lnTo>
                  <a:lnTo>
                    <a:pt x="1377" y="790"/>
                  </a:lnTo>
                  <a:lnTo>
                    <a:pt x="1377" y="796"/>
                  </a:lnTo>
                  <a:lnTo>
                    <a:pt x="1370" y="803"/>
                  </a:lnTo>
                  <a:lnTo>
                    <a:pt x="1370" y="809"/>
                  </a:lnTo>
                  <a:lnTo>
                    <a:pt x="1364" y="809"/>
                  </a:lnTo>
                  <a:lnTo>
                    <a:pt x="1357" y="816"/>
                  </a:lnTo>
                  <a:lnTo>
                    <a:pt x="1351" y="823"/>
                  </a:lnTo>
                  <a:lnTo>
                    <a:pt x="1344" y="829"/>
                  </a:lnTo>
                  <a:lnTo>
                    <a:pt x="1344" y="829"/>
                  </a:lnTo>
                  <a:lnTo>
                    <a:pt x="1338" y="836"/>
                  </a:lnTo>
                  <a:lnTo>
                    <a:pt x="1344" y="842"/>
                  </a:lnTo>
                  <a:lnTo>
                    <a:pt x="1351" y="849"/>
                  </a:lnTo>
                  <a:lnTo>
                    <a:pt x="1357" y="855"/>
                  </a:lnTo>
                  <a:lnTo>
                    <a:pt x="1364" y="855"/>
                  </a:lnTo>
                  <a:lnTo>
                    <a:pt x="1370" y="855"/>
                  </a:lnTo>
                  <a:lnTo>
                    <a:pt x="1377" y="849"/>
                  </a:lnTo>
                  <a:lnTo>
                    <a:pt x="1384" y="842"/>
                  </a:lnTo>
                  <a:lnTo>
                    <a:pt x="1384" y="836"/>
                  </a:lnTo>
                  <a:lnTo>
                    <a:pt x="1390" y="829"/>
                  </a:lnTo>
                  <a:lnTo>
                    <a:pt x="1390" y="823"/>
                  </a:lnTo>
                  <a:lnTo>
                    <a:pt x="1397" y="823"/>
                  </a:lnTo>
                  <a:lnTo>
                    <a:pt x="1403" y="829"/>
                  </a:lnTo>
                  <a:lnTo>
                    <a:pt x="1403" y="836"/>
                  </a:lnTo>
                  <a:lnTo>
                    <a:pt x="1410" y="842"/>
                  </a:lnTo>
                  <a:lnTo>
                    <a:pt x="1403" y="849"/>
                  </a:lnTo>
                  <a:lnTo>
                    <a:pt x="1397" y="849"/>
                  </a:lnTo>
                  <a:lnTo>
                    <a:pt x="1397" y="855"/>
                  </a:lnTo>
                  <a:lnTo>
                    <a:pt x="1390" y="862"/>
                  </a:lnTo>
                  <a:lnTo>
                    <a:pt x="1384" y="869"/>
                  </a:lnTo>
                  <a:lnTo>
                    <a:pt x="1377" y="875"/>
                  </a:lnTo>
                  <a:lnTo>
                    <a:pt x="1370" y="875"/>
                  </a:lnTo>
                  <a:lnTo>
                    <a:pt x="1364" y="875"/>
                  </a:lnTo>
                  <a:lnTo>
                    <a:pt x="1357" y="869"/>
                  </a:lnTo>
                  <a:lnTo>
                    <a:pt x="1357" y="862"/>
                  </a:lnTo>
                  <a:lnTo>
                    <a:pt x="1351" y="862"/>
                  </a:lnTo>
                  <a:lnTo>
                    <a:pt x="1351" y="855"/>
                  </a:lnTo>
                  <a:lnTo>
                    <a:pt x="1344" y="849"/>
                  </a:lnTo>
                  <a:lnTo>
                    <a:pt x="1344" y="842"/>
                  </a:lnTo>
                  <a:lnTo>
                    <a:pt x="1338" y="836"/>
                  </a:lnTo>
                  <a:lnTo>
                    <a:pt x="1331" y="836"/>
                  </a:lnTo>
                  <a:lnTo>
                    <a:pt x="1324" y="829"/>
                  </a:lnTo>
                  <a:lnTo>
                    <a:pt x="1324" y="823"/>
                  </a:lnTo>
                  <a:lnTo>
                    <a:pt x="1318" y="816"/>
                  </a:lnTo>
                  <a:lnTo>
                    <a:pt x="1318" y="809"/>
                  </a:lnTo>
                  <a:lnTo>
                    <a:pt x="1311" y="809"/>
                  </a:lnTo>
                  <a:lnTo>
                    <a:pt x="1311" y="803"/>
                  </a:lnTo>
                  <a:lnTo>
                    <a:pt x="1305" y="796"/>
                  </a:lnTo>
                  <a:lnTo>
                    <a:pt x="1305" y="790"/>
                  </a:lnTo>
                  <a:lnTo>
                    <a:pt x="1305" y="783"/>
                  </a:lnTo>
                  <a:lnTo>
                    <a:pt x="1305" y="776"/>
                  </a:lnTo>
                  <a:lnTo>
                    <a:pt x="1305" y="770"/>
                  </a:lnTo>
                  <a:lnTo>
                    <a:pt x="1305" y="763"/>
                  </a:lnTo>
                  <a:lnTo>
                    <a:pt x="1298" y="763"/>
                  </a:lnTo>
                  <a:lnTo>
                    <a:pt x="1298" y="757"/>
                  </a:lnTo>
                  <a:lnTo>
                    <a:pt x="1298" y="750"/>
                  </a:lnTo>
                  <a:lnTo>
                    <a:pt x="1298" y="744"/>
                  </a:lnTo>
                  <a:lnTo>
                    <a:pt x="1298" y="737"/>
                  </a:lnTo>
                  <a:lnTo>
                    <a:pt x="1291" y="730"/>
                  </a:lnTo>
                  <a:lnTo>
                    <a:pt x="1291" y="724"/>
                  </a:lnTo>
                  <a:lnTo>
                    <a:pt x="1291" y="724"/>
                  </a:lnTo>
                  <a:lnTo>
                    <a:pt x="1285" y="717"/>
                  </a:lnTo>
                  <a:lnTo>
                    <a:pt x="1285" y="711"/>
                  </a:lnTo>
                  <a:lnTo>
                    <a:pt x="1285" y="704"/>
                  </a:lnTo>
                  <a:lnTo>
                    <a:pt x="1285" y="697"/>
                  </a:lnTo>
                  <a:lnTo>
                    <a:pt x="1285" y="691"/>
                  </a:lnTo>
                  <a:lnTo>
                    <a:pt x="1285" y="684"/>
                  </a:lnTo>
                  <a:lnTo>
                    <a:pt x="1278" y="691"/>
                  </a:lnTo>
                  <a:lnTo>
                    <a:pt x="1278" y="697"/>
                  </a:lnTo>
                  <a:lnTo>
                    <a:pt x="1272" y="704"/>
                  </a:lnTo>
                  <a:lnTo>
                    <a:pt x="1258" y="704"/>
                  </a:lnTo>
                  <a:lnTo>
                    <a:pt x="1252" y="711"/>
                  </a:lnTo>
                  <a:lnTo>
                    <a:pt x="1245" y="711"/>
                  </a:lnTo>
                  <a:lnTo>
                    <a:pt x="1245" y="717"/>
                  </a:lnTo>
                  <a:lnTo>
                    <a:pt x="1245" y="724"/>
                  </a:lnTo>
                  <a:lnTo>
                    <a:pt x="1239" y="730"/>
                  </a:lnTo>
                  <a:lnTo>
                    <a:pt x="1239" y="737"/>
                  </a:lnTo>
                  <a:lnTo>
                    <a:pt x="1232" y="744"/>
                  </a:lnTo>
                  <a:lnTo>
                    <a:pt x="1232" y="744"/>
                  </a:lnTo>
                  <a:lnTo>
                    <a:pt x="1226" y="750"/>
                  </a:lnTo>
                  <a:lnTo>
                    <a:pt x="1219" y="757"/>
                  </a:lnTo>
                  <a:lnTo>
                    <a:pt x="1219" y="763"/>
                  </a:lnTo>
                  <a:lnTo>
                    <a:pt x="1212" y="770"/>
                  </a:lnTo>
                  <a:lnTo>
                    <a:pt x="1206" y="770"/>
                  </a:lnTo>
                  <a:lnTo>
                    <a:pt x="1206" y="776"/>
                  </a:lnTo>
                  <a:lnTo>
                    <a:pt x="1199" y="783"/>
                  </a:lnTo>
                  <a:lnTo>
                    <a:pt x="1193" y="790"/>
                  </a:lnTo>
                  <a:lnTo>
                    <a:pt x="1193" y="790"/>
                  </a:lnTo>
                  <a:lnTo>
                    <a:pt x="1186" y="796"/>
                  </a:lnTo>
                  <a:lnTo>
                    <a:pt x="1179" y="803"/>
                  </a:lnTo>
                  <a:lnTo>
                    <a:pt x="1173" y="809"/>
                  </a:lnTo>
                  <a:lnTo>
                    <a:pt x="1173" y="809"/>
                  </a:lnTo>
                  <a:lnTo>
                    <a:pt x="1166" y="816"/>
                  </a:lnTo>
                  <a:lnTo>
                    <a:pt x="1166" y="823"/>
                  </a:lnTo>
                  <a:lnTo>
                    <a:pt x="1160" y="829"/>
                  </a:lnTo>
                  <a:lnTo>
                    <a:pt x="1160" y="836"/>
                  </a:lnTo>
                  <a:lnTo>
                    <a:pt x="1160" y="842"/>
                  </a:lnTo>
                  <a:lnTo>
                    <a:pt x="1166" y="849"/>
                  </a:lnTo>
                  <a:lnTo>
                    <a:pt x="1166" y="849"/>
                  </a:lnTo>
                  <a:lnTo>
                    <a:pt x="1173" y="855"/>
                  </a:lnTo>
                  <a:lnTo>
                    <a:pt x="1186" y="862"/>
                  </a:lnTo>
                  <a:lnTo>
                    <a:pt x="1193" y="862"/>
                  </a:lnTo>
                  <a:lnTo>
                    <a:pt x="1199" y="862"/>
                  </a:lnTo>
                  <a:lnTo>
                    <a:pt x="1206" y="869"/>
                  </a:lnTo>
                  <a:lnTo>
                    <a:pt x="1212" y="875"/>
                  </a:lnTo>
                  <a:lnTo>
                    <a:pt x="1206" y="875"/>
                  </a:lnTo>
                  <a:lnTo>
                    <a:pt x="1199" y="882"/>
                  </a:lnTo>
                  <a:lnTo>
                    <a:pt x="1199" y="888"/>
                  </a:lnTo>
                  <a:lnTo>
                    <a:pt x="1199" y="895"/>
                  </a:lnTo>
                  <a:lnTo>
                    <a:pt x="1199" y="902"/>
                  </a:lnTo>
                  <a:lnTo>
                    <a:pt x="1199" y="908"/>
                  </a:lnTo>
                  <a:lnTo>
                    <a:pt x="1199" y="915"/>
                  </a:lnTo>
                  <a:lnTo>
                    <a:pt x="1206" y="921"/>
                  </a:lnTo>
                  <a:lnTo>
                    <a:pt x="1206" y="928"/>
                  </a:lnTo>
                  <a:lnTo>
                    <a:pt x="1206" y="928"/>
                  </a:lnTo>
                  <a:lnTo>
                    <a:pt x="1206" y="934"/>
                  </a:lnTo>
                  <a:lnTo>
                    <a:pt x="1206" y="941"/>
                  </a:lnTo>
                  <a:lnTo>
                    <a:pt x="1206" y="948"/>
                  </a:lnTo>
                  <a:lnTo>
                    <a:pt x="1206" y="954"/>
                  </a:lnTo>
                  <a:lnTo>
                    <a:pt x="1206" y="961"/>
                  </a:lnTo>
                  <a:lnTo>
                    <a:pt x="1206" y="967"/>
                  </a:lnTo>
                  <a:lnTo>
                    <a:pt x="1212" y="974"/>
                  </a:lnTo>
                  <a:lnTo>
                    <a:pt x="1212" y="981"/>
                  </a:lnTo>
                  <a:lnTo>
                    <a:pt x="1212" y="987"/>
                  </a:lnTo>
                  <a:lnTo>
                    <a:pt x="1212" y="987"/>
                  </a:lnTo>
                  <a:lnTo>
                    <a:pt x="1212" y="994"/>
                  </a:lnTo>
                  <a:lnTo>
                    <a:pt x="1212" y="1000"/>
                  </a:lnTo>
                  <a:lnTo>
                    <a:pt x="1219" y="1007"/>
                  </a:lnTo>
                  <a:lnTo>
                    <a:pt x="1219" y="1013"/>
                  </a:lnTo>
                  <a:lnTo>
                    <a:pt x="1219" y="1020"/>
                  </a:lnTo>
                  <a:lnTo>
                    <a:pt x="1219" y="1027"/>
                  </a:lnTo>
                  <a:lnTo>
                    <a:pt x="1219" y="1033"/>
                  </a:lnTo>
                  <a:lnTo>
                    <a:pt x="1226" y="1040"/>
                  </a:lnTo>
                  <a:lnTo>
                    <a:pt x="1226" y="1040"/>
                  </a:lnTo>
                  <a:lnTo>
                    <a:pt x="1226" y="1046"/>
                  </a:lnTo>
                  <a:lnTo>
                    <a:pt x="1226" y="1053"/>
                  </a:lnTo>
                  <a:lnTo>
                    <a:pt x="1226" y="1060"/>
                  </a:lnTo>
                  <a:lnTo>
                    <a:pt x="1232" y="1066"/>
                  </a:lnTo>
                  <a:lnTo>
                    <a:pt x="1232" y="1073"/>
                  </a:lnTo>
                  <a:lnTo>
                    <a:pt x="1239" y="1079"/>
                  </a:lnTo>
                  <a:lnTo>
                    <a:pt x="1239" y="1086"/>
                  </a:lnTo>
                  <a:lnTo>
                    <a:pt x="1232" y="1092"/>
                  </a:lnTo>
                  <a:lnTo>
                    <a:pt x="1226" y="1092"/>
                  </a:lnTo>
                  <a:lnTo>
                    <a:pt x="1219" y="1092"/>
                  </a:lnTo>
                  <a:lnTo>
                    <a:pt x="1206" y="1092"/>
                  </a:lnTo>
                  <a:lnTo>
                    <a:pt x="1199" y="1099"/>
                  </a:lnTo>
                  <a:lnTo>
                    <a:pt x="1193" y="1099"/>
                  </a:lnTo>
                  <a:lnTo>
                    <a:pt x="1186" y="1099"/>
                  </a:lnTo>
                  <a:lnTo>
                    <a:pt x="1179" y="1106"/>
                  </a:lnTo>
                  <a:lnTo>
                    <a:pt x="1173" y="1112"/>
                  </a:lnTo>
                  <a:lnTo>
                    <a:pt x="1173" y="1119"/>
                  </a:lnTo>
                  <a:lnTo>
                    <a:pt x="1166" y="1112"/>
                  </a:lnTo>
                  <a:lnTo>
                    <a:pt x="1160" y="1106"/>
                  </a:lnTo>
                  <a:lnTo>
                    <a:pt x="1160" y="1099"/>
                  </a:lnTo>
                  <a:lnTo>
                    <a:pt x="1153" y="1099"/>
                  </a:lnTo>
                  <a:lnTo>
                    <a:pt x="1153" y="1092"/>
                  </a:lnTo>
                  <a:lnTo>
                    <a:pt x="1153" y="1086"/>
                  </a:lnTo>
                  <a:lnTo>
                    <a:pt x="1153" y="1079"/>
                  </a:lnTo>
                  <a:lnTo>
                    <a:pt x="1146" y="1079"/>
                  </a:lnTo>
                  <a:lnTo>
                    <a:pt x="1153" y="1073"/>
                  </a:lnTo>
                  <a:lnTo>
                    <a:pt x="1153" y="1066"/>
                  </a:lnTo>
                  <a:lnTo>
                    <a:pt x="1153" y="1060"/>
                  </a:lnTo>
                  <a:lnTo>
                    <a:pt x="1153" y="1053"/>
                  </a:lnTo>
                  <a:lnTo>
                    <a:pt x="1153" y="1046"/>
                  </a:lnTo>
                  <a:lnTo>
                    <a:pt x="1153" y="1040"/>
                  </a:lnTo>
                  <a:lnTo>
                    <a:pt x="1153" y="1033"/>
                  </a:lnTo>
                  <a:lnTo>
                    <a:pt x="1153" y="1027"/>
                  </a:lnTo>
                  <a:lnTo>
                    <a:pt x="1160" y="1020"/>
                  </a:lnTo>
                  <a:lnTo>
                    <a:pt x="1160" y="1020"/>
                  </a:lnTo>
                  <a:lnTo>
                    <a:pt x="1160" y="1013"/>
                  </a:lnTo>
                  <a:lnTo>
                    <a:pt x="1160" y="1007"/>
                  </a:lnTo>
                  <a:lnTo>
                    <a:pt x="1160" y="1000"/>
                  </a:lnTo>
                  <a:lnTo>
                    <a:pt x="1153" y="994"/>
                  </a:lnTo>
                  <a:lnTo>
                    <a:pt x="1146" y="987"/>
                  </a:lnTo>
                  <a:lnTo>
                    <a:pt x="1140" y="987"/>
                  </a:lnTo>
                  <a:lnTo>
                    <a:pt x="1140" y="981"/>
                  </a:lnTo>
                  <a:lnTo>
                    <a:pt x="1140" y="974"/>
                  </a:lnTo>
                  <a:lnTo>
                    <a:pt x="1146" y="974"/>
                  </a:lnTo>
                  <a:lnTo>
                    <a:pt x="1153" y="974"/>
                  </a:lnTo>
                  <a:lnTo>
                    <a:pt x="1153" y="981"/>
                  </a:lnTo>
                  <a:lnTo>
                    <a:pt x="1160" y="987"/>
                  </a:lnTo>
                  <a:lnTo>
                    <a:pt x="1166" y="994"/>
                  </a:lnTo>
                  <a:lnTo>
                    <a:pt x="1173" y="994"/>
                  </a:lnTo>
                  <a:lnTo>
                    <a:pt x="1179" y="994"/>
                  </a:lnTo>
                  <a:lnTo>
                    <a:pt x="1179" y="987"/>
                  </a:lnTo>
                  <a:lnTo>
                    <a:pt x="1186" y="981"/>
                  </a:lnTo>
                  <a:lnTo>
                    <a:pt x="1193" y="974"/>
                  </a:lnTo>
                  <a:lnTo>
                    <a:pt x="1193" y="967"/>
                  </a:lnTo>
                  <a:lnTo>
                    <a:pt x="1193" y="961"/>
                  </a:lnTo>
                  <a:lnTo>
                    <a:pt x="1193" y="954"/>
                  </a:lnTo>
                  <a:lnTo>
                    <a:pt x="1193" y="948"/>
                  </a:lnTo>
                  <a:lnTo>
                    <a:pt x="1186" y="948"/>
                  </a:lnTo>
                  <a:lnTo>
                    <a:pt x="1173" y="941"/>
                  </a:lnTo>
                  <a:lnTo>
                    <a:pt x="1166" y="941"/>
                  </a:lnTo>
                  <a:lnTo>
                    <a:pt x="1160" y="934"/>
                  </a:lnTo>
                  <a:lnTo>
                    <a:pt x="1153" y="934"/>
                  </a:lnTo>
                  <a:lnTo>
                    <a:pt x="1146" y="928"/>
                  </a:lnTo>
                  <a:lnTo>
                    <a:pt x="1140" y="928"/>
                  </a:lnTo>
                  <a:lnTo>
                    <a:pt x="1133" y="921"/>
                  </a:lnTo>
                  <a:lnTo>
                    <a:pt x="1120" y="921"/>
                  </a:lnTo>
                  <a:lnTo>
                    <a:pt x="1113" y="921"/>
                  </a:lnTo>
                  <a:lnTo>
                    <a:pt x="1107" y="928"/>
                  </a:lnTo>
                  <a:lnTo>
                    <a:pt x="1107" y="934"/>
                  </a:lnTo>
                  <a:lnTo>
                    <a:pt x="1100" y="934"/>
                  </a:lnTo>
                  <a:lnTo>
                    <a:pt x="1100" y="941"/>
                  </a:lnTo>
                  <a:lnTo>
                    <a:pt x="1094" y="948"/>
                  </a:lnTo>
                  <a:lnTo>
                    <a:pt x="1094" y="954"/>
                  </a:lnTo>
                  <a:lnTo>
                    <a:pt x="1094" y="961"/>
                  </a:lnTo>
                  <a:lnTo>
                    <a:pt x="1087" y="967"/>
                  </a:lnTo>
                  <a:lnTo>
                    <a:pt x="1087" y="974"/>
                  </a:lnTo>
                  <a:lnTo>
                    <a:pt x="1087" y="974"/>
                  </a:lnTo>
                  <a:lnTo>
                    <a:pt x="1081" y="981"/>
                  </a:lnTo>
                  <a:lnTo>
                    <a:pt x="1074" y="987"/>
                  </a:lnTo>
                  <a:lnTo>
                    <a:pt x="1067" y="994"/>
                  </a:lnTo>
                  <a:lnTo>
                    <a:pt x="1067" y="994"/>
                  </a:lnTo>
                  <a:lnTo>
                    <a:pt x="1061" y="1000"/>
                  </a:lnTo>
                  <a:lnTo>
                    <a:pt x="1054" y="1007"/>
                  </a:lnTo>
                  <a:lnTo>
                    <a:pt x="1054" y="1013"/>
                  </a:lnTo>
                  <a:lnTo>
                    <a:pt x="1048" y="1020"/>
                  </a:lnTo>
                  <a:lnTo>
                    <a:pt x="1041" y="1020"/>
                  </a:lnTo>
                  <a:lnTo>
                    <a:pt x="1034" y="1027"/>
                  </a:lnTo>
                  <a:lnTo>
                    <a:pt x="1028" y="1027"/>
                  </a:lnTo>
                  <a:lnTo>
                    <a:pt x="1015" y="1027"/>
                  </a:lnTo>
                  <a:lnTo>
                    <a:pt x="1008" y="1027"/>
                  </a:lnTo>
                  <a:lnTo>
                    <a:pt x="1001" y="1027"/>
                  </a:lnTo>
                  <a:lnTo>
                    <a:pt x="988" y="1027"/>
                  </a:lnTo>
                  <a:lnTo>
                    <a:pt x="982" y="1027"/>
                  </a:lnTo>
                  <a:lnTo>
                    <a:pt x="969" y="1033"/>
                  </a:lnTo>
                  <a:lnTo>
                    <a:pt x="962" y="1033"/>
                  </a:lnTo>
                  <a:lnTo>
                    <a:pt x="955" y="1033"/>
                  </a:lnTo>
                  <a:lnTo>
                    <a:pt x="949" y="1033"/>
                  </a:lnTo>
                  <a:lnTo>
                    <a:pt x="942" y="1027"/>
                  </a:lnTo>
                  <a:lnTo>
                    <a:pt x="942" y="1020"/>
                  </a:lnTo>
                  <a:lnTo>
                    <a:pt x="936" y="1013"/>
                  </a:lnTo>
                  <a:lnTo>
                    <a:pt x="936" y="1007"/>
                  </a:lnTo>
                  <a:lnTo>
                    <a:pt x="936" y="1000"/>
                  </a:lnTo>
                  <a:lnTo>
                    <a:pt x="929" y="994"/>
                  </a:lnTo>
                  <a:lnTo>
                    <a:pt x="929" y="987"/>
                  </a:lnTo>
                  <a:lnTo>
                    <a:pt x="922" y="987"/>
                  </a:lnTo>
                  <a:lnTo>
                    <a:pt x="922" y="981"/>
                  </a:lnTo>
                  <a:lnTo>
                    <a:pt x="922" y="974"/>
                  </a:lnTo>
                  <a:lnTo>
                    <a:pt x="916" y="974"/>
                  </a:lnTo>
                  <a:lnTo>
                    <a:pt x="903" y="974"/>
                  </a:lnTo>
                  <a:lnTo>
                    <a:pt x="896" y="981"/>
                  </a:lnTo>
                  <a:lnTo>
                    <a:pt x="883" y="981"/>
                  </a:lnTo>
                  <a:lnTo>
                    <a:pt x="876" y="981"/>
                  </a:lnTo>
                  <a:lnTo>
                    <a:pt x="870" y="981"/>
                  </a:lnTo>
                  <a:lnTo>
                    <a:pt x="857" y="987"/>
                  </a:lnTo>
                  <a:lnTo>
                    <a:pt x="850" y="987"/>
                  </a:lnTo>
                  <a:lnTo>
                    <a:pt x="843" y="987"/>
                  </a:lnTo>
                  <a:lnTo>
                    <a:pt x="830" y="994"/>
                  </a:lnTo>
                  <a:lnTo>
                    <a:pt x="824" y="994"/>
                  </a:lnTo>
                  <a:lnTo>
                    <a:pt x="817" y="994"/>
                  </a:lnTo>
                  <a:lnTo>
                    <a:pt x="804" y="994"/>
                  </a:lnTo>
                  <a:lnTo>
                    <a:pt x="797" y="994"/>
                  </a:lnTo>
                  <a:lnTo>
                    <a:pt x="791" y="994"/>
                  </a:lnTo>
                  <a:lnTo>
                    <a:pt x="777" y="994"/>
                  </a:lnTo>
                  <a:lnTo>
                    <a:pt x="771" y="994"/>
                  </a:lnTo>
                  <a:lnTo>
                    <a:pt x="764" y="987"/>
                  </a:lnTo>
                  <a:lnTo>
                    <a:pt x="758" y="987"/>
                  </a:lnTo>
                  <a:lnTo>
                    <a:pt x="744" y="981"/>
                  </a:lnTo>
                  <a:lnTo>
                    <a:pt x="738" y="981"/>
                  </a:lnTo>
                  <a:lnTo>
                    <a:pt x="731" y="974"/>
                  </a:lnTo>
                  <a:lnTo>
                    <a:pt x="725" y="974"/>
                  </a:lnTo>
                  <a:lnTo>
                    <a:pt x="718" y="967"/>
                  </a:lnTo>
                  <a:lnTo>
                    <a:pt x="712" y="967"/>
                  </a:lnTo>
                  <a:lnTo>
                    <a:pt x="705" y="961"/>
                  </a:lnTo>
                  <a:lnTo>
                    <a:pt x="698" y="954"/>
                  </a:lnTo>
                  <a:lnTo>
                    <a:pt x="698" y="948"/>
                  </a:lnTo>
                  <a:lnTo>
                    <a:pt x="698" y="941"/>
                  </a:lnTo>
                  <a:lnTo>
                    <a:pt x="692" y="941"/>
                  </a:lnTo>
                  <a:lnTo>
                    <a:pt x="692" y="934"/>
                  </a:lnTo>
                  <a:lnTo>
                    <a:pt x="692" y="928"/>
                  </a:lnTo>
                  <a:lnTo>
                    <a:pt x="692" y="921"/>
                  </a:lnTo>
                  <a:lnTo>
                    <a:pt x="692" y="915"/>
                  </a:lnTo>
                  <a:lnTo>
                    <a:pt x="692" y="908"/>
                  </a:lnTo>
                  <a:lnTo>
                    <a:pt x="692" y="902"/>
                  </a:lnTo>
                  <a:lnTo>
                    <a:pt x="692" y="895"/>
                  </a:lnTo>
                  <a:lnTo>
                    <a:pt x="685" y="888"/>
                  </a:lnTo>
                  <a:lnTo>
                    <a:pt x="685" y="882"/>
                  </a:lnTo>
                  <a:lnTo>
                    <a:pt x="685" y="882"/>
                  </a:lnTo>
                  <a:lnTo>
                    <a:pt x="685" y="875"/>
                  </a:lnTo>
                  <a:lnTo>
                    <a:pt x="685" y="869"/>
                  </a:lnTo>
                  <a:lnTo>
                    <a:pt x="685" y="862"/>
                  </a:lnTo>
                  <a:lnTo>
                    <a:pt x="685" y="855"/>
                  </a:lnTo>
                  <a:lnTo>
                    <a:pt x="685" y="849"/>
                  </a:lnTo>
                  <a:lnTo>
                    <a:pt x="685" y="842"/>
                  </a:lnTo>
                  <a:lnTo>
                    <a:pt x="685" y="836"/>
                  </a:lnTo>
                  <a:lnTo>
                    <a:pt x="685" y="829"/>
                  </a:lnTo>
                  <a:lnTo>
                    <a:pt x="685" y="829"/>
                  </a:lnTo>
                  <a:lnTo>
                    <a:pt x="685" y="823"/>
                  </a:lnTo>
                  <a:lnTo>
                    <a:pt x="685" y="816"/>
                  </a:lnTo>
                  <a:lnTo>
                    <a:pt x="685" y="809"/>
                  </a:lnTo>
                  <a:lnTo>
                    <a:pt x="685" y="803"/>
                  </a:lnTo>
                  <a:lnTo>
                    <a:pt x="685" y="796"/>
                  </a:lnTo>
                  <a:lnTo>
                    <a:pt x="685" y="790"/>
                  </a:lnTo>
                  <a:lnTo>
                    <a:pt x="685" y="783"/>
                  </a:lnTo>
                  <a:lnTo>
                    <a:pt x="685" y="776"/>
                  </a:lnTo>
                  <a:lnTo>
                    <a:pt x="685" y="770"/>
                  </a:lnTo>
                  <a:lnTo>
                    <a:pt x="685" y="770"/>
                  </a:lnTo>
                  <a:lnTo>
                    <a:pt x="679" y="763"/>
                  </a:lnTo>
                  <a:lnTo>
                    <a:pt x="679" y="757"/>
                  </a:lnTo>
                  <a:lnTo>
                    <a:pt x="679" y="750"/>
                  </a:lnTo>
                  <a:lnTo>
                    <a:pt x="679" y="744"/>
                  </a:lnTo>
                  <a:lnTo>
                    <a:pt x="679" y="737"/>
                  </a:lnTo>
                  <a:lnTo>
                    <a:pt x="679" y="730"/>
                  </a:lnTo>
                  <a:lnTo>
                    <a:pt x="679" y="724"/>
                  </a:lnTo>
                  <a:lnTo>
                    <a:pt x="672" y="717"/>
                  </a:lnTo>
                  <a:lnTo>
                    <a:pt x="672" y="717"/>
                  </a:lnTo>
                  <a:lnTo>
                    <a:pt x="665" y="717"/>
                  </a:lnTo>
                  <a:lnTo>
                    <a:pt x="659" y="724"/>
                  </a:lnTo>
                  <a:lnTo>
                    <a:pt x="652" y="730"/>
                  </a:lnTo>
                  <a:lnTo>
                    <a:pt x="652" y="737"/>
                  </a:lnTo>
                  <a:lnTo>
                    <a:pt x="652" y="744"/>
                  </a:lnTo>
                  <a:lnTo>
                    <a:pt x="652" y="750"/>
                  </a:lnTo>
                  <a:lnTo>
                    <a:pt x="652" y="750"/>
                  </a:lnTo>
                  <a:lnTo>
                    <a:pt x="646" y="757"/>
                  </a:lnTo>
                  <a:lnTo>
                    <a:pt x="646" y="763"/>
                  </a:lnTo>
                  <a:lnTo>
                    <a:pt x="646" y="770"/>
                  </a:lnTo>
                  <a:lnTo>
                    <a:pt x="639" y="776"/>
                  </a:lnTo>
                  <a:lnTo>
                    <a:pt x="632" y="776"/>
                  </a:lnTo>
                  <a:lnTo>
                    <a:pt x="626" y="783"/>
                  </a:lnTo>
                  <a:lnTo>
                    <a:pt x="626" y="790"/>
                  </a:lnTo>
                  <a:lnTo>
                    <a:pt x="626" y="796"/>
                  </a:lnTo>
                  <a:lnTo>
                    <a:pt x="626" y="803"/>
                  </a:lnTo>
                  <a:lnTo>
                    <a:pt x="626" y="809"/>
                  </a:lnTo>
                  <a:lnTo>
                    <a:pt x="626" y="816"/>
                  </a:lnTo>
                  <a:lnTo>
                    <a:pt x="626" y="823"/>
                  </a:lnTo>
                  <a:lnTo>
                    <a:pt x="619" y="829"/>
                  </a:lnTo>
                  <a:lnTo>
                    <a:pt x="619" y="829"/>
                  </a:lnTo>
                  <a:lnTo>
                    <a:pt x="619" y="836"/>
                  </a:lnTo>
                  <a:lnTo>
                    <a:pt x="619" y="842"/>
                  </a:lnTo>
                  <a:lnTo>
                    <a:pt x="619" y="849"/>
                  </a:lnTo>
                  <a:lnTo>
                    <a:pt x="619" y="855"/>
                  </a:lnTo>
                  <a:lnTo>
                    <a:pt x="619" y="862"/>
                  </a:lnTo>
                  <a:lnTo>
                    <a:pt x="613" y="869"/>
                  </a:lnTo>
                  <a:lnTo>
                    <a:pt x="613" y="875"/>
                  </a:lnTo>
                  <a:lnTo>
                    <a:pt x="613" y="882"/>
                  </a:lnTo>
                  <a:lnTo>
                    <a:pt x="613" y="882"/>
                  </a:lnTo>
                  <a:lnTo>
                    <a:pt x="613" y="888"/>
                  </a:lnTo>
                  <a:lnTo>
                    <a:pt x="613" y="895"/>
                  </a:lnTo>
                  <a:lnTo>
                    <a:pt x="613" y="902"/>
                  </a:lnTo>
                  <a:lnTo>
                    <a:pt x="606" y="908"/>
                  </a:lnTo>
                  <a:lnTo>
                    <a:pt x="606" y="915"/>
                  </a:lnTo>
                  <a:lnTo>
                    <a:pt x="606" y="921"/>
                  </a:lnTo>
                  <a:lnTo>
                    <a:pt x="606" y="928"/>
                  </a:lnTo>
                  <a:lnTo>
                    <a:pt x="606" y="934"/>
                  </a:lnTo>
                  <a:lnTo>
                    <a:pt x="606" y="934"/>
                  </a:lnTo>
                  <a:lnTo>
                    <a:pt x="606" y="941"/>
                  </a:lnTo>
                  <a:lnTo>
                    <a:pt x="600" y="948"/>
                  </a:lnTo>
                  <a:lnTo>
                    <a:pt x="600" y="954"/>
                  </a:lnTo>
                  <a:lnTo>
                    <a:pt x="600" y="961"/>
                  </a:lnTo>
                  <a:lnTo>
                    <a:pt x="600" y="967"/>
                  </a:lnTo>
                  <a:lnTo>
                    <a:pt x="600" y="974"/>
                  </a:lnTo>
                  <a:lnTo>
                    <a:pt x="600" y="981"/>
                  </a:lnTo>
                  <a:lnTo>
                    <a:pt x="593" y="981"/>
                  </a:lnTo>
                  <a:lnTo>
                    <a:pt x="586" y="987"/>
                  </a:lnTo>
                  <a:lnTo>
                    <a:pt x="580" y="994"/>
                  </a:lnTo>
                  <a:lnTo>
                    <a:pt x="573" y="1000"/>
                  </a:lnTo>
                  <a:lnTo>
                    <a:pt x="573" y="1000"/>
                  </a:lnTo>
                  <a:lnTo>
                    <a:pt x="567" y="1007"/>
                  </a:lnTo>
                  <a:lnTo>
                    <a:pt x="573" y="1013"/>
                  </a:lnTo>
                  <a:lnTo>
                    <a:pt x="580" y="1020"/>
                  </a:lnTo>
                  <a:lnTo>
                    <a:pt x="580" y="1027"/>
                  </a:lnTo>
                  <a:lnTo>
                    <a:pt x="586" y="1027"/>
                  </a:lnTo>
                  <a:lnTo>
                    <a:pt x="593" y="1033"/>
                  </a:lnTo>
                  <a:lnTo>
                    <a:pt x="600" y="1040"/>
                  </a:lnTo>
                  <a:lnTo>
                    <a:pt x="606" y="1046"/>
                  </a:lnTo>
                  <a:lnTo>
                    <a:pt x="606" y="1053"/>
                  </a:lnTo>
                  <a:lnTo>
                    <a:pt x="613" y="1053"/>
                  </a:lnTo>
                  <a:lnTo>
                    <a:pt x="613" y="1060"/>
                  </a:lnTo>
                  <a:lnTo>
                    <a:pt x="613" y="1066"/>
                  </a:lnTo>
                  <a:lnTo>
                    <a:pt x="606" y="1073"/>
                  </a:lnTo>
                  <a:lnTo>
                    <a:pt x="600" y="1073"/>
                  </a:lnTo>
                  <a:lnTo>
                    <a:pt x="593" y="1079"/>
                  </a:lnTo>
                  <a:lnTo>
                    <a:pt x="586" y="1079"/>
                  </a:lnTo>
                  <a:lnTo>
                    <a:pt x="573" y="1086"/>
                  </a:lnTo>
                  <a:lnTo>
                    <a:pt x="567" y="1086"/>
                  </a:lnTo>
                  <a:lnTo>
                    <a:pt x="560" y="1092"/>
                  </a:lnTo>
                  <a:lnTo>
                    <a:pt x="560" y="1099"/>
                  </a:lnTo>
                  <a:lnTo>
                    <a:pt x="553" y="1099"/>
                  </a:lnTo>
                  <a:lnTo>
                    <a:pt x="540" y="1106"/>
                  </a:lnTo>
                  <a:lnTo>
                    <a:pt x="534" y="1106"/>
                  </a:lnTo>
                  <a:lnTo>
                    <a:pt x="527" y="1112"/>
                  </a:lnTo>
                  <a:lnTo>
                    <a:pt x="520" y="1119"/>
                  </a:lnTo>
                  <a:lnTo>
                    <a:pt x="520" y="1119"/>
                  </a:lnTo>
                  <a:lnTo>
                    <a:pt x="514" y="1125"/>
                  </a:lnTo>
                  <a:lnTo>
                    <a:pt x="507" y="1132"/>
                  </a:lnTo>
                  <a:lnTo>
                    <a:pt x="501" y="1139"/>
                  </a:lnTo>
                  <a:lnTo>
                    <a:pt x="501" y="1139"/>
                  </a:lnTo>
                  <a:lnTo>
                    <a:pt x="494" y="1145"/>
                  </a:lnTo>
                  <a:lnTo>
                    <a:pt x="487" y="1152"/>
                  </a:lnTo>
                  <a:lnTo>
                    <a:pt x="481" y="1152"/>
                  </a:lnTo>
                  <a:lnTo>
                    <a:pt x="468" y="1158"/>
                  </a:lnTo>
                  <a:lnTo>
                    <a:pt x="461" y="1158"/>
                  </a:lnTo>
                  <a:lnTo>
                    <a:pt x="455" y="1165"/>
                  </a:lnTo>
                  <a:lnTo>
                    <a:pt x="455" y="1171"/>
                  </a:lnTo>
                  <a:lnTo>
                    <a:pt x="448" y="1178"/>
                  </a:lnTo>
                  <a:lnTo>
                    <a:pt x="474" y="1204"/>
                  </a:lnTo>
                  <a:lnTo>
                    <a:pt x="501" y="1231"/>
                  </a:lnTo>
                  <a:lnTo>
                    <a:pt x="534" y="1257"/>
                  </a:lnTo>
                  <a:lnTo>
                    <a:pt x="560" y="1283"/>
                  </a:lnTo>
                  <a:lnTo>
                    <a:pt x="586" y="1316"/>
                  </a:lnTo>
                  <a:lnTo>
                    <a:pt x="613" y="1343"/>
                  </a:lnTo>
                  <a:lnTo>
                    <a:pt x="639" y="1369"/>
                  </a:lnTo>
                  <a:lnTo>
                    <a:pt x="672" y="1395"/>
                  </a:lnTo>
                  <a:lnTo>
                    <a:pt x="698" y="1428"/>
                  </a:lnTo>
                  <a:lnTo>
                    <a:pt x="725" y="1455"/>
                  </a:lnTo>
                  <a:lnTo>
                    <a:pt x="751" y="1481"/>
                  </a:lnTo>
                  <a:lnTo>
                    <a:pt x="784" y="1507"/>
                  </a:lnTo>
                  <a:lnTo>
                    <a:pt x="810" y="1540"/>
                  </a:lnTo>
                  <a:lnTo>
                    <a:pt x="837" y="1540"/>
                  </a:lnTo>
                  <a:lnTo>
                    <a:pt x="863" y="1566"/>
                  </a:lnTo>
                  <a:lnTo>
                    <a:pt x="889" y="1593"/>
                  </a:lnTo>
                  <a:lnTo>
                    <a:pt x="922" y="1619"/>
                  </a:lnTo>
                  <a:lnTo>
                    <a:pt x="949" y="1652"/>
                  </a:lnTo>
                  <a:lnTo>
                    <a:pt x="975" y="1678"/>
                  </a:lnTo>
                  <a:lnTo>
                    <a:pt x="1001" y="1705"/>
                  </a:lnTo>
                  <a:lnTo>
                    <a:pt x="1034" y="1731"/>
                  </a:lnTo>
                  <a:lnTo>
                    <a:pt x="1061" y="1731"/>
                  </a:lnTo>
                  <a:lnTo>
                    <a:pt x="1087" y="1731"/>
                  </a:lnTo>
                  <a:lnTo>
                    <a:pt x="1113" y="1731"/>
                  </a:lnTo>
                  <a:lnTo>
                    <a:pt x="1140" y="1731"/>
                  </a:lnTo>
                  <a:lnTo>
                    <a:pt x="1173" y="1731"/>
                  </a:lnTo>
                  <a:lnTo>
                    <a:pt x="1199" y="1731"/>
                  </a:lnTo>
                  <a:lnTo>
                    <a:pt x="1226" y="1731"/>
                  </a:lnTo>
                  <a:lnTo>
                    <a:pt x="1252" y="1731"/>
                  </a:lnTo>
                  <a:lnTo>
                    <a:pt x="1285" y="1731"/>
                  </a:lnTo>
                  <a:lnTo>
                    <a:pt x="1311" y="1731"/>
                  </a:lnTo>
                  <a:lnTo>
                    <a:pt x="1338" y="1731"/>
                  </a:lnTo>
                  <a:lnTo>
                    <a:pt x="1364" y="1731"/>
                  </a:lnTo>
                  <a:lnTo>
                    <a:pt x="1397" y="1731"/>
                  </a:lnTo>
                  <a:lnTo>
                    <a:pt x="1423" y="1731"/>
                  </a:lnTo>
                  <a:lnTo>
                    <a:pt x="1450" y="1731"/>
                  </a:lnTo>
                  <a:lnTo>
                    <a:pt x="1476" y="1731"/>
                  </a:lnTo>
                  <a:lnTo>
                    <a:pt x="1502" y="1731"/>
                  </a:lnTo>
                  <a:lnTo>
                    <a:pt x="1535" y="1731"/>
                  </a:lnTo>
                  <a:lnTo>
                    <a:pt x="1562" y="1731"/>
                  </a:lnTo>
                  <a:lnTo>
                    <a:pt x="1588" y="1731"/>
                  </a:lnTo>
                  <a:lnTo>
                    <a:pt x="1614" y="1731"/>
                  </a:lnTo>
                  <a:lnTo>
                    <a:pt x="1647" y="1731"/>
                  </a:lnTo>
                  <a:lnTo>
                    <a:pt x="1674" y="1731"/>
                  </a:lnTo>
                  <a:lnTo>
                    <a:pt x="1700" y="1731"/>
                  </a:lnTo>
                  <a:lnTo>
                    <a:pt x="1726" y="1731"/>
                  </a:lnTo>
                  <a:lnTo>
                    <a:pt x="1753" y="1731"/>
                  </a:lnTo>
                  <a:lnTo>
                    <a:pt x="1786" y="1731"/>
                  </a:lnTo>
                  <a:lnTo>
                    <a:pt x="1812" y="1731"/>
                  </a:lnTo>
                  <a:lnTo>
                    <a:pt x="1838" y="1731"/>
                  </a:lnTo>
                  <a:lnTo>
                    <a:pt x="1865" y="1731"/>
                  </a:lnTo>
                  <a:lnTo>
                    <a:pt x="1898" y="1731"/>
                  </a:lnTo>
                  <a:lnTo>
                    <a:pt x="1924" y="1731"/>
                  </a:lnTo>
                  <a:lnTo>
                    <a:pt x="1950" y="1731"/>
                  </a:lnTo>
                  <a:lnTo>
                    <a:pt x="1977" y="1731"/>
                  </a:lnTo>
                  <a:lnTo>
                    <a:pt x="2003" y="1731"/>
                  </a:lnTo>
                  <a:lnTo>
                    <a:pt x="2036" y="1731"/>
                  </a:lnTo>
                  <a:lnTo>
                    <a:pt x="2062" y="1731"/>
                  </a:lnTo>
                  <a:lnTo>
                    <a:pt x="2089" y="1731"/>
                  </a:lnTo>
                  <a:lnTo>
                    <a:pt x="2115" y="1731"/>
                  </a:lnTo>
                  <a:lnTo>
                    <a:pt x="2148" y="1731"/>
                  </a:lnTo>
                  <a:lnTo>
                    <a:pt x="2174" y="1731"/>
                  </a:lnTo>
                  <a:lnTo>
                    <a:pt x="2201" y="1731"/>
                  </a:lnTo>
                  <a:lnTo>
                    <a:pt x="2227" y="1731"/>
                  </a:lnTo>
                  <a:lnTo>
                    <a:pt x="2253" y="1731"/>
                  </a:lnTo>
                  <a:lnTo>
                    <a:pt x="2286" y="1731"/>
                  </a:lnTo>
                  <a:lnTo>
                    <a:pt x="2313" y="1731"/>
                  </a:lnTo>
                  <a:lnTo>
                    <a:pt x="2339" y="1731"/>
                  </a:lnTo>
                  <a:close/>
                  <a:moveTo>
                    <a:pt x="428" y="1145"/>
                  </a:moveTo>
                  <a:lnTo>
                    <a:pt x="422" y="1139"/>
                  </a:lnTo>
                  <a:lnTo>
                    <a:pt x="422" y="1145"/>
                  </a:lnTo>
                  <a:lnTo>
                    <a:pt x="448" y="1171"/>
                  </a:lnTo>
                  <a:lnTo>
                    <a:pt x="428" y="1145"/>
                  </a:lnTo>
                  <a:close/>
                  <a:moveTo>
                    <a:pt x="402" y="1119"/>
                  </a:moveTo>
                  <a:lnTo>
                    <a:pt x="389" y="1106"/>
                  </a:lnTo>
                  <a:lnTo>
                    <a:pt x="389" y="1119"/>
                  </a:lnTo>
                  <a:lnTo>
                    <a:pt x="402" y="1119"/>
                  </a:lnTo>
                  <a:close/>
                  <a:moveTo>
                    <a:pt x="375" y="1092"/>
                  </a:moveTo>
                  <a:lnTo>
                    <a:pt x="362" y="1073"/>
                  </a:lnTo>
                  <a:lnTo>
                    <a:pt x="362" y="1092"/>
                  </a:lnTo>
                  <a:lnTo>
                    <a:pt x="375" y="1092"/>
                  </a:lnTo>
                  <a:close/>
                  <a:moveTo>
                    <a:pt x="356" y="1060"/>
                  </a:moveTo>
                  <a:lnTo>
                    <a:pt x="336" y="1040"/>
                  </a:lnTo>
                  <a:lnTo>
                    <a:pt x="336" y="1060"/>
                  </a:lnTo>
                  <a:lnTo>
                    <a:pt x="356" y="1060"/>
                  </a:lnTo>
                  <a:close/>
                  <a:moveTo>
                    <a:pt x="876" y="1060"/>
                  </a:moveTo>
                  <a:lnTo>
                    <a:pt x="883" y="1060"/>
                  </a:lnTo>
                  <a:lnTo>
                    <a:pt x="889" y="1060"/>
                  </a:lnTo>
                  <a:lnTo>
                    <a:pt x="896" y="1060"/>
                  </a:lnTo>
                  <a:lnTo>
                    <a:pt x="896" y="1053"/>
                  </a:lnTo>
                  <a:lnTo>
                    <a:pt x="903" y="1060"/>
                  </a:lnTo>
                  <a:lnTo>
                    <a:pt x="909" y="1060"/>
                  </a:lnTo>
                  <a:lnTo>
                    <a:pt x="916" y="1060"/>
                  </a:lnTo>
                  <a:lnTo>
                    <a:pt x="922" y="1060"/>
                  </a:lnTo>
                  <a:lnTo>
                    <a:pt x="929" y="1060"/>
                  </a:lnTo>
                  <a:lnTo>
                    <a:pt x="936" y="1060"/>
                  </a:lnTo>
                  <a:lnTo>
                    <a:pt x="942" y="1060"/>
                  </a:lnTo>
                  <a:lnTo>
                    <a:pt x="949" y="1060"/>
                  </a:lnTo>
                  <a:lnTo>
                    <a:pt x="949" y="1060"/>
                  </a:lnTo>
                  <a:lnTo>
                    <a:pt x="942" y="1066"/>
                  </a:lnTo>
                  <a:lnTo>
                    <a:pt x="936" y="1066"/>
                  </a:lnTo>
                  <a:lnTo>
                    <a:pt x="936" y="1066"/>
                  </a:lnTo>
                  <a:lnTo>
                    <a:pt x="929" y="1066"/>
                  </a:lnTo>
                  <a:lnTo>
                    <a:pt x="922" y="1066"/>
                  </a:lnTo>
                  <a:lnTo>
                    <a:pt x="916" y="1066"/>
                  </a:lnTo>
                  <a:lnTo>
                    <a:pt x="909" y="1066"/>
                  </a:lnTo>
                  <a:lnTo>
                    <a:pt x="903" y="1073"/>
                  </a:lnTo>
                  <a:lnTo>
                    <a:pt x="903" y="1073"/>
                  </a:lnTo>
                  <a:lnTo>
                    <a:pt x="896" y="1066"/>
                  </a:lnTo>
                  <a:lnTo>
                    <a:pt x="889" y="1066"/>
                  </a:lnTo>
                  <a:lnTo>
                    <a:pt x="883" y="1066"/>
                  </a:lnTo>
                  <a:lnTo>
                    <a:pt x="876" y="1060"/>
                  </a:lnTo>
                  <a:close/>
                  <a:moveTo>
                    <a:pt x="329" y="1033"/>
                  </a:moveTo>
                  <a:lnTo>
                    <a:pt x="329" y="1033"/>
                  </a:lnTo>
                  <a:lnTo>
                    <a:pt x="323" y="1027"/>
                  </a:lnTo>
                  <a:lnTo>
                    <a:pt x="323" y="1027"/>
                  </a:lnTo>
                  <a:lnTo>
                    <a:pt x="323" y="1020"/>
                  </a:lnTo>
                  <a:lnTo>
                    <a:pt x="316" y="1020"/>
                  </a:lnTo>
                  <a:lnTo>
                    <a:pt x="316" y="1013"/>
                  </a:lnTo>
                  <a:lnTo>
                    <a:pt x="310" y="1007"/>
                  </a:lnTo>
                  <a:lnTo>
                    <a:pt x="310" y="1007"/>
                  </a:lnTo>
                  <a:lnTo>
                    <a:pt x="310" y="1007"/>
                  </a:lnTo>
                  <a:lnTo>
                    <a:pt x="310" y="1033"/>
                  </a:lnTo>
                  <a:lnTo>
                    <a:pt x="329" y="1033"/>
                  </a:lnTo>
                  <a:close/>
                  <a:moveTo>
                    <a:pt x="283" y="981"/>
                  </a:moveTo>
                  <a:lnTo>
                    <a:pt x="283" y="974"/>
                  </a:lnTo>
                  <a:lnTo>
                    <a:pt x="283" y="981"/>
                  </a:lnTo>
                  <a:lnTo>
                    <a:pt x="283" y="981"/>
                  </a:lnTo>
                  <a:close/>
                  <a:moveTo>
                    <a:pt x="263" y="948"/>
                  </a:moveTo>
                  <a:lnTo>
                    <a:pt x="250" y="934"/>
                  </a:lnTo>
                  <a:lnTo>
                    <a:pt x="250" y="948"/>
                  </a:lnTo>
                  <a:lnTo>
                    <a:pt x="263" y="948"/>
                  </a:lnTo>
                  <a:close/>
                  <a:moveTo>
                    <a:pt x="244" y="921"/>
                  </a:moveTo>
                  <a:lnTo>
                    <a:pt x="224" y="902"/>
                  </a:lnTo>
                  <a:lnTo>
                    <a:pt x="224" y="921"/>
                  </a:lnTo>
                  <a:lnTo>
                    <a:pt x="244" y="921"/>
                  </a:lnTo>
                  <a:close/>
                  <a:moveTo>
                    <a:pt x="949" y="921"/>
                  </a:moveTo>
                  <a:lnTo>
                    <a:pt x="949" y="921"/>
                  </a:lnTo>
                  <a:lnTo>
                    <a:pt x="949" y="921"/>
                  </a:lnTo>
                  <a:lnTo>
                    <a:pt x="949" y="921"/>
                  </a:lnTo>
                  <a:lnTo>
                    <a:pt x="942" y="928"/>
                  </a:lnTo>
                  <a:lnTo>
                    <a:pt x="942" y="928"/>
                  </a:lnTo>
                  <a:lnTo>
                    <a:pt x="949" y="934"/>
                  </a:lnTo>
                  <a:lnTo>
                    <a:pt x="949" y="934"/>
                  </a:lnTo>
                  <a:lnTo>
                    <a:pt x="949" y="941"/>
                  </a:lnTo>
                  <a:lnTo>
                    <a:pt x="949" y="941"/>
                  </a:lnTo>
                  <a:lnTo>
                    <a:pt x="949" y="941"/>
                  </a:lnTo>
                  <a:lnTo>
                    <a:pt x="949" y="934"/>
                  </a:lnTo>
                  <a:lnTo>
                    <a:pt x="949" y="934"/>
                  </a:lnTo>
                  <a:lnTo>
                    <a:pt x="949" y="928"/>
                  </a:lnTo>
                  <a:lnTo>
                    <a:pt x="949" y="921"/>
                  </a:lnTo>
                  <a:close/>
                  <a:moveTo>
                    <a:pt x="217" y="895"/>
                  </a:moveTo>
                  <a:lnTo>
                    <a:pt x="217" y="888"/>
                  </a:lnTo>
                  <a:lnTo>
                    <a:pt x="211" y="888"/>
                  </a:lnTo>
                  <a:lnTo>
                    <a:pt x="211" y="882"/>
                  </a:lnTo>
                  <a:lnTo>
                    <a:pt x="204" y="875"/>
                  </a:lnTo>
                  <a:lnTo>
                    <a:pt x="198" y="869"/>
                  </a:lnTo>
                  <a:lnTo>
                    <a:pt x="198" y="869"/>
                  </a:lnTo>
                  <a:lnTo>
                    <a:pt x="191" y="862"/>
                  </a:lnTo>
                  <a:lnTo>
                    <a:pt x="191" y="855"/>
                  </a:lnTo>
                  <a:lnTo>
                    <a:pt x="184" y="849"/>
                  </a:lnTo>
                  <a:lnTo>
                    <a:pt x="178" y="849"/>
                  </a:lnTo>
                  <a:lnTo>
                    <a:pt x="178" y="842"/>
                  </a:lnTo>
                  <a:lnTo>
                    <a:pt x="171" y="836"/>
                  </a:lnTo>
                  <a:lnTo>
                    <a:pt x="171" y="829"/>
                  </a:lnTo>
                  <a:lnTo>
                    <a:pt x="165" y="829"/>
                  </a:lnTo>
                  <a:lnTo>
                    <a:pt x="158" y="823"/>
                  </a:lnTo>
                  <a:lnTo>
                    <a:pt x="158" y="816"/>
                  </a:lnTo>
                  <a:lnTo>
                    <a:pt x="151" y="809"/>
                  </a:lnTo>
                  <a:lnTo>
                    <a:pt x="151" y="809"/>
                  </a:lnTo>
                  <a:lnTo>
                    <a:pt x="145" y="803"/>
                  </a:lnTo>
                  <a:lnTo>
                    <a:pt x="138" y="796"/>
                  </a:lnTo>
                  <a:lnTo>
                    <a:pt x="138" y="809"/>
                  </a:lnTo>
                  <a:lnTo>
                    <a:pt x="138" y="842"/>
                  </a:lnTo>
                  <a:lnTo>
                    <a:pt x="171" y="869"/>
                  </a:lnTo>
                  <a:lnTo>
                    <a:pt x="198" y="895"/>
                  </a:lnTo>
                  <a:lnTo>
                    <a:pt x="217" y="895"/>
                  </a:lnTo>
                  <a:close/>
                  <a:moveTo>
                    <a:pt x="995" y="895"/>
                  </a:moveTo>
                  <a:lnTo>
                    <a:pt x="995" y="888"/>
                  </a:lnTo>
                  <a:lnTo>
                    <a:pt x="1001" y="882"/>
                  </a:lnTo>
                  <a:lnTo>
                    <a:pt x="1008" y="882"/>
                  </a:lnTo>
                  <a:lnTo>
                    <a:pt x="1021" y="888"/>
                  </a:lnTo>
                  <a:lnTo>
                    <a:pt x="1028" y="888"/>
                  </a:lnTo>
                  <a:lnTo>
                    <a:pt x="1034" y="888"/>
                  </a:lnTo>
                  <a:lnTo>
                    <a:pt x="1041" y="888"/>
                  </a:lnTo>
                  <a:lnTo>
                    <a:pt x="1048" y="882"/>
                  </a:lnTo>
                  <a:lnTo>
                    <a:pt x="1054" y="875"/>
                  </a:lnTo>
                  <a:lnTo>
                    <a:pt x="1054" y="869"/>
                  </a:lnTo>
                  <a:lnTo>
                    <a:pt x="1054" y="862"/>
                  </a:lnTo>
                  <a:lnTo>
                    <a:pt x="1054" y="855"/>
                  </a:lnTo>
                  <a:lnTo>
                    <a:pt x="1048" y="855"/>
                  </a:lnTo>
                  <a:lnTo>
                    <a:pt x="1041" y="849"/>
                  </a:lnTo>
                  <a:lnTo>
                    <a:pt x="1041" y="842"/>
                  </a:lnTo>
                  <a:lnTo>
                    <a:pt x="1034" y="836"/>
                  </a:lnTo>
                  <a:lnTo>
                    <a:pt x="1034" y="829"/>
                  </a:lnTo>
                  <a:lnTo>
                    <a:pt x="1034" y="829"/>
                  </a:lnTo>
                  <a:lnTo>
                    <a:pt x="1034" y="823"/>
                  </a:lnTo>
                  <a:lnTo>
                    <a:pt x="1034" y="816"/>
                  </a:lnTo>
                  <a:lnTo>
                    <a:pt x="1034" y="809"/>
                  </a:lnTo>
                  <a:lnTo>
                    <a:pt x="1028" y="803"/>
                  </a:lnTo>
                  <a:lnTo>
                    <a:pt x="1028" y="796"/>
                  </a:lnTo>
                  <a:lnTo>
                    <a:pt x="1021" y="790"/>
                  </a:lnTo>
                  <a:lnTo>
                    <a:pt x="1021" y="783"/>
                  </a:lnTo>
                  <a:lnTo>
                    <a:pt x="1021" y="783"/>
                  </a:lnTo>
                  <a:lnTo>
                    <a:pt x="1015" y="776"/>
                  </a:lnTo>
                  <a:lnTo>
                    <a:pt x="1015" y="770"/>
                  </a:lnTo>
                  <a:lnTo>
                    <a:pt x="1015" y="763"/>
                  </a:lnTo>
                  <a:lnTo>
                    <a:pt x="1015" y="757"/>
                  </a:lnTo>
                  <a:lnTo>
                    <a:pt x="1015" y="750"/>
                  </a:lnTo>
                  <a:lnTo>
                    <a:pt x="1015" y="744"/>
                  </a:lnTo>
                  <a:lnTo>
                    <a:pt x="1008" y="744"/>
                  </a:lnTo>
                  <a:lnTo>
                    <a:pt x="1008" y="737"/>
                  </a:lnTo>
                  <a:lnTo>
                    <a:pt x="1008" y="730"/>
                  </a:lnTo>
                  <a:lnTo>
                    <a:pt x="1008" y="724"/>
                  </a:lnTo>
                  <a:lnTo>
                    <a:pt x="1008" y="717"/>
                  </a:lnTo>
                  <a:lnTo>
                    <a:pt x="1008" y="711"/>
                  </a:lnTo>
                  <a:lnTo>
                    <a:pt x="1008" y="704"/>
                  </a:lnTo>
                  <a:lnTo>
                    <a:pt x="1008" y="697"/>
                  </a:lnTo>
                  <a:lnTo>
                    <a:pt x="1008" y="697"/>
                  </a:lnTo>
                  <a:lnTo>
                    <a:pt x="1001" y="691"/>
                  </a:lnTo>
                  <a:lnTo>
                    <a:pt x="1001" y="684"/>
                  </a:lnTo>
                  <a:lnTo>
                    <a:pt x="1001" y="678"/>
                  </a:lnTo>
                  <a:lnTo>
                    <a:pt x="995" y="671"/>
                  </a:lnTo>
                  <a:lnTo>
                    <a:pt x="995" y="664"/>
                  </a:lnTo>
                  <a:lnTo>
                    <a:pt x="995" y="658"/>
                  </a:lnTo>
                  <a:lnTo>
                    <a:pt x="988" y="658"/>
                  </a:lnTo>
                  <a:lnTo>
                    <a:pt x="988" y="651"/>
                  </a:lnTo>
                  <a:lnTo>
                    <a:pt x="988" y="645"/>
                  </a:lnTo>
                  <a:lnTo>
                    <a:pt x="988" y="638"/>
                  </a:lnTo>
                  <a:lnTo>
                    <a:pt x="982" y="632"/>
                  </a:lnTo>
                  <a:lnTo>
                    <a:pt x="982" y="625"/>
                  </a:lnTo>
                  <a:lnTo>
                    <a:pt x="982" y="618"/>
                  </a:lnTo>
                  <a:lnTo>
                    <a:pt x="982" y="612"/>
                  </a:lnTo>
                  <a:lnTo>
                    <a:pt x="982" y="612"/>
                  </a:lnTo>
                  <a:lnTo>
                    <a:pt x="982" y="605"/>
                  </a:lnTo>
                  <a:lnTo>
                    <a:pt x="982" y="599"/>
                  </a:lnTo>
                  <a:lnTo>
                    <a:pt x="982" y="592"/>
                  </a:lnTo>
                  <a:lnTo>
                    <a:pt x="982" y="585"/>
                  </a:lnTo>
                  <a:lnTo>
                    <a:pt x="975" y="579"/>
                  </a:lnTo>
                  <a:lnTo>
                    <a:pt x="975" y="572"/>
                  </a:lnTo>
                  <a:lnTo>
                    <a:pt x="969" y="572"/>
                  </a:lnTo>
                  <a:lnTo>
                    <a:pt x="969" y="566"/>
                  </a:lnTo>
                  <a:lnTo>
                    <a:pt x="969" y="559"/>
                  </a:lnTo>
                  <a:lnTo>
                    <a:pt x="969" y="553"/>
                  </a:lnTo>
                  <a:lnTo>
                    <a:pt x="962" y="546"/>
                  </a:lnTo>
                  <a:lnTo>
                    <a:pt x="962" y="539"/>
                  </a:lnTo>
                  <a:lnTo>
                    <a:pt x="962" y="533"/>
                  </a:lnTo>
                  <a:lnTo>
                    <a:pt x="955" y="533"/>
                  </a:lnTo>
                  <a:lnTo>
                    <a:pt x="955" y="526"/>
                  </a:lnTo>
                  <a:lnTo>
                    <a:pt x="949" y="520"/>
                  </a:lnTo>
                  <a:lnTo>
                    <a:pt x="942" y="513"/>
                  </a:lnTo>
                  <a:lnTo>
                    <a:pt x="942" y="506"/>
                  </a:lnTo>
                  <a:lnTo>
                    <a:pt x="936" y="506"/>
                  </a:lnTo>
                  <a:lnTo>
                    <a:pt x="936" y="500"/>
                  </a:lnTo>
                  <a:lnTo>
                    <a:pt x="929" y="493"/>
                  </a:lnTo>
                  <a:lnTo>
                    <a:pt x="929" y="487"/>
                  </a:lnTo>
                  <a:lnTo>
                    <a:pt x="929" y="480"/>
                  </a:lnTo>
                  <a:lnTo>
                    <a:pt x="922" y="480"/>
                  </a:lnTo>
                  <a:lnTo>
                    <a:pt x="922" y="474"/>
                  </a:lnTo>
                  <a:lnTo>
                    <a:pt x="929" y="480"/>
                  </a:lnTo>
                  <a:lnTo>
                    <a:pt x="936" y="480"/>
                  </a:lnTo>
                  <a:lnTo>
                    <a:pt x="949" y="487"/>
                  </a:lnTo>
                  <a:lnTo>
                    <a:pt x="955" y="487"/>
                  </a:lnTo>
                  <a:lnTo>
                    <a:pt x="962" y="493"/>
                  </a:lnTo>
                  <a:lnTo>
                    <a:pt x="962" y="493"/>
                  </a:lnTo>
                  <a:lnTo>
                    <a:pt x="969" y="500"/>
                  </a:lnTo>
                  <a:lnTo>
                    <a:pt x="975" y="506"/>
                  </a:lnTo>
                  <a:lnTo>
                    <a:pt x="982" y="506"/>
                  </a:lnTo>
                  <a:lnTo>
                    <a:pt x="988" y="506"/>
                  </a:lnTo>
                  <a:lnTo>
                    <a:pt x="995" y="500"/>
                  </a:lnTo>
                  <a:lnTo>
                    <a:pt x="995" y="493"/>
                  </a:lnTo>
                  <a:lnTo>
                    <a:pt x="988" y="487"/>
                  </a:lnTo>
                  <a:lnTo>
                    <a:pt x="988" y="480"/>
                  </a:lnTo>
                  <a:lnTo>
                    <a:pt x="982" y="474"/>
                  </a:lnTo>
                  <a:lnTo>
                    <a:pt x="982" y="467"/>
                  </a:lnTo>
                  <a:lnTo>
                    <a:pt x="975" y="467"/>
                  </a:lnTo>
                  <a:lnTo>
                    <a:pt x="975" y="460"/>
                  </a:lnTo>
                  <a:lnTo>
                    <a:pt x="975" y="454"/>
                  </a:lnTo>
                  <a:lnTo>
                    <a:pt x="975" y="447"/>
                  </a:lnTo>
                  <a:lnTo>
                    <a:pt x="975" y="441"/>
                  </a:lnTo>
                  <a:lnTo>
                    <a:pt x="969" y="434"/>
                  </a:lnTo>
                  <a:lnTo>
                    <a:pt x="969" y="427"/>
                  </a:lnTo>
                  <a:lnTo>
                    <a:pt x="969" y="427"/>
                  </a:lnTo>
                  <a:lnTo>
                    <a:pt x="969" y="421"/>
                  </a:lnTo>
                  <a:lnTo>
                    <a:pt x="969" y="414"/>
                  </a:lnTo>
                  <a:lnTo>
                    <a:pt x="962" y="408"/>
                  </a:lnTo>
                  <a:lnTo>
                    <a:pt x="962" y="401"/>
                  </a:lnTo>
                  <a:lnTo>
                    <a:pt x="962" y="395"/>
                  </a:lnTo>
                  <a:lnTo>
                    <a:pt x="962" y="388"/>
                  </a:lnTo>
                  <a:lnTo>
                    <a:pt x="955" y="381"/>
                  </a:lnTo>
                  <a:lnTo>
                    <a:pt x="955" y="381"/>
                  </a:lnTo>
                  <a:lnTo>
                    <a:pt x="955" y="375"/>
                  </a:lnTo>
                  <a:lnTo>
                    <a:pt x="949" y="368"/>
                  </a:lnTo>
                  <a:lnTo>
                    <a:pt x="955" y="362"/>
                  </a:lnTo>
                  <a:lnTo>
                    <a:pt x="955" y="355"/>
                  </a:lnTo>
                  <a:lnTo>
                    <a:pt x="955" y="348"/>
                  </a:lnTo>
                  <a:lnTo>
                    <a:pt x="962" y="348"/>
                  </a:lnTo>
                  <a:lnTo>
                    <a:pt x="962" y="342"/>
                  </a:lnTo>
                  <a:lnTo>
                    <a:pt x="969" y="335"/>
                  </a:lnTo>
                  <a:lnTo>
                    <a:pt x="969" y="329"/>
                  </a:lnTo>
                  <a:lnTo>
                    <a:pt x="969" y="322"/>
                  </a:lnTo>
                  <a:lnTo>
                    <a:pt x="962" y="316"/>
                  </a:lnTo>
                  <a:lnTo>
                    <a:pt x="962" y="309"/>
                  </a:lnTo>
                  <a:lnTo>
                    <a:pt x="962" y="302"/>
                  </a:lnTo>
                  <a:lnTo>
                    <a:pt x="962" y="302"/>
                  </a:lnTo>
                  <a:lnTo>
                    <a:pt x="962" y="296"/>
                  </a:lnTo>
                  <a:lnTo>
                    <a:pt x="962" y="289"/>
                  </a:lnTo>
                  <a:lnTo>
                    <a:pt x="962" y="283"/>
                  </a:lnTo>
                  <a:lnTo>
                    <a:pt x="955" y="276"/>
                  </a:lnTo>
                  <a:lnTo>
                    <a:pt x="949" y="276"/>
                  </a:lnTo>
                  <a:lnTo>
                    <a:pt x="942" y="283"/>
                  </a:lnTo>
                  <a:lnTo>
                    <a:pt x="942" y="289"/>
                  </a:lnTo>
                  <a:lnTo>
                    <a:pt x="942" y="296"/>
                  </a:lnTo>
                  <a:lnTo>
                    <a:pt x="942" y="302"/>
                  </a:lnTo>
                  <a:lnTo>
                    <a:pt x="942" y="309"/>
                  </a:lnTo>
                  <a:lnTo>
                    <a:pt x="936" y="309"/>
                  </a:lnTo>
                  <a:lnTo>
                    <a:pt x="929" y="316"/>
                  </a:lnTo>
                  <a:lnTo>
                    <a:pt x="922" y="316"/>
                  </a:lnTo>
                  <a:lnTo>
                    <a:pt x="916" y="322"/>
                  </a:lnTo>
                  <a:lnTo>
                    <a:pt x="909" y="322"/>
                  </a:lnTo>
                  <a:lnTo>
                    <a:pt x="903" y="329"/>
                  </a:lnTo>
                  <a:lnTo>
                    <a:pt x="896" y="335"/>
                  </a:lnTo>
                  <a:lnTo>
                    <a:pt x="889" y="335"/>
                  </a:lnTo>
                  <a:lnTo>
                    <a:pt x="889" y="329"/>
                  </a:lnTo>
                  <a:lnTo>
                    <a:pt x="896" y="322"/>
                  </a:lnTo>
                  <a:lnTo>
                    <a:pt x="896" y="316"/>
                  </a:lnTo>
                  <a:lnTo>
                    <a:pt x="896" y="316"/>
                  </a:lnTo>
                  <a:lnTo>
                    <a:pt x="896" y="309"/>
                  </a:lnTo>
                  <a:lnTo>
                    <a:pt x="896" y="302"/>
                  </a:lnTo>
                  <a:lnTo>
                    <a:pt x="896" y="296"/>
                  </a:lnTo>
                  <a:lnTo>
                    <a:pt x="903" y="289"/>
                  </a:lnTo>
                  <a:lnTo>
                    <a:pt x="903" y="283"/>
                  </a:lnTo>
                  <a:lnTo>
                    <a:pt x="909" y="276"/>
                  </a:lnTo>
                  <a:lnTo>
                    <a:pt x="909" y="276"/>
                  </a:lnTo>
                  <a:lnTo>
                    <a:pt x="916" y="269"/>
                  </a:lnTo>
                  <a:lnTo>
                    <a:pt x="922" y="263"/>
                  </a:lnTo>
                  <a:lnTo>
                    <a:pt x="929" y="263"/>
                  </a:lnTo>
                  <a:lnTo>
                    <a:pt x="936" y="256"/>
                  </a:lnTo>
                  <a:lnTo>
                    <a:pt x="942" y="250"/>
                  </a:lnTo>
                  <a:lnTo>
                    <a:pt x="942" y="250"/>
                  </a:lnTo>
                  <a:lnTo>
                    <a:pt x="949" y="243"/>
                  </a:lnTo>
                  <a:lnTo>
                    <a:pt x="955" y="237"/>
                  </a:lnTo>
                  <a:lnTo>
                    <a:pt x="962" y="230"/>
                  </a:lnTo>
                  <a:lnTo>
                    <a:pt x="962" y="230"/>
                  </a:lnTo>
                  <a:lnTo>
                    <a:pt x="969" y="223"/>
                  </a:lnTo>
                  <a:lnTo>
                    <a:pt x="975" y="217"/>
                  </a:lnTo>
                  <a:lnTo>
                    <a:pt x="982" y="210"/>
                  </a:lnTo>
                  <a:lnTo>
                    <a:pt x="988" y="210"/>
                  </a:lnTo>
                  <a:lnTo>
                    <a:pt x="988" y="204"/>
                  </a:lnTo>
                  <a:lnTo>
                    <a:pt x="995" y="197"/>
                  </a:lnTo>
                  <a:lnTo>
                    <a:pt x="1001" y="197"/>
                  </a:lnTo>
                  <a:lnTo>
                    <a:pt x="1001" y="190"/>
                  </a:lnTo>
                  <a:lnTo>
                    <a:pt x="1001" y="184"/>
                  </a:lnTo>
                  <a:lnTo>
                    <a:pt x="1008" y="177"/>
                  </a:lnTo>
                  <a:lnTo>
                    <a:pt x="1021" y="177"/>
                  </a:lnTo>
                  <a:lnTo>
                    <a:pt x="1028" y="171"/>
                  </a:lnTo>
                  <a:lnTo>
                    <a:pt x="1034" y="171"/>
                  </a:lnTo>
                  <a:lnTo>
                    <a:pt x="1041" y="171"/>
                  </a:lnTo>
                  <a:lnTo>
                    <a:pt x="1054" y="164"/>
                  </a:lnTo>
                  <a:lnTo>
                    <a:pt x="1061" y="164"/>
                  </a:lnTo>
                  <a:lnTo>
                    <a:pt x="1067" y="164"/>
                  </a:lnTo>
                  <a:lnTo>
                    <a:pt x="1074" y="158"/>
                  </a:lnTo>
                  <a:lnTo>
                    <a:pt x="1087" y="158"/>
                  </a:lnTo>
                  <a:lnTo>
                    <a:pt x="1094" y="151"/>
                  </a:lnTo>
                  <a:lnTo>
                    <a:pt x="1100" y="151"/>
                  </a:lnTo>
                  <a:lnTo>
                    <a:pt x="1107" y="151"/>
                  </a:lnTo>
                  <a:lnTo>
                    <a:pt x="1120" y="151"/>
                  </a:lnTo>
                  <a:lnTo>
                    <a:pt x="1127" y="151"/>
                  </a:lnTo>
                  <a:lnTo>
                    <a:pt x="1133" y="144"/>
                  </a:lnTo>
                  <a:lnTo>
                    <a:pt x="1146" y="144"/>
                  </a:lnTo>
                  <a:lnTo>
                    <a:pt x="1146" y="138"/>
                  </a:lnTo>
                  <a:lnTo>
                    <a:pt x="1160" y="138"/>
                  </a:lnTo>
                  <a:lnTo>
                    <a:pt x="1166" y="138"/>
                  </a:lnTo>
                  <a:lnTo>
                    <a:pt x="1173" y="131"/>
                  </a:lnTo>
                  <a:lnTo>
                    <a:pt x="1179" y="131"/>
                  </a:lnTo>
                  <a:lnTo>
                    <a:pt x="1193" y="125"/>
                  </a:lnTo>
                  <a:lnTo>
                    <a:pt x="1199" y="125"/>
                  </a:lnTo>
                  <a:lnTo>
                    <a:pt x="1206" y="125"/>
                  </a:lnTo>
                  <a:lnTo>
                    <a:pt x="1212" y="125"/>
                  </a:lnTo>
                  <a:lnTo>
                    <a:pt x="1226" y="125"/>
                  </a:lnTo>
                  <a:lnTo>
                    <a:pt x="1232" y="118"/>
                  </a:lnTo>
                  <a:lnTo>
                    <a:pt x="1239" y="118"/>
                  </a:lnTo>
                  <a:lnTo>
                    <a:pt x="1245" y="111"/>
                  </a:lnTo>
                  <a:lnTo>
                    <a:pt x="1252" y="111"/>
                  </a:lnTo>
                  <a:lnTo>
                    <a:pt x="1265" y="111"/>
                  </a:lnTo>
                  <a:lnTo>
                    <a:pt x="1272" y="105"/>
                  </a:lnTo>
                  <a:lnTo>
                    <a:pt x="1278" y="105"/>
                  </a:lnTo>
                  <a:lnTo>
                    <a:pt x="1285" y="98"/>
                  </a:lnTo>
                  <a:lnTo>
                    <a:pt x="1298" y="98"/>
                  </a:lnTo>
                  <a:lnTo>
                    <a:pt x="1305" y="98"/>
                  </a:lnTo>
                  <a:lnTo>
                    <a:pt x="1311" y="98"/>
                  </a:lnTo>
                  <a:lnTo>
                    <a:pt x="1324" y="98"/>
                  </a:lnTo>
                  <a:lnTo>
                    <a:pt x="1331" y="105"/>
                  </a:lnTo>
                  <a:lnTo>
                    <a:pt x="1338" y="105"/>
                  </a:lnTo>
                  <a:lnTo>
                    <a:pt x="1344" y="98"/>
                  </a:lnTo>
                  <a:lnTo>
                    <a:pt x="1344" y="92"/>
                  </a:lnTo>
                  <a:lnTo>
                    <a:pt x="1351" y="85"/>
                  </a:lnTo>
                  <a:lnTo>
                    <a:pt x="1357" y="85"/>
                  </a:lnTo>
                  <a:lnTo>
                    <a:pt x="1364" y="79"/>
                  </a:lnTo>
                  <a:lnTo>
                    <a:pt x="1370" y="79"/>
                  </a:lnTo>
                  <a:lnTo>
                    <a:pt x="1377" y="72"/>
                  </a:lnTo>
                  <a:lnTo>
                    <a:pt x="1390" y="72"/>
                  </a:lnTo>
                  <a:lnTo>
                    <a:pt x="1397" y="72"/>
                  </a:lnTo>
                  <a:lnTo>
                    <a:pt x="1403" y="72"/>
                  </a:lnTo>
                  <a:lnTo>
                    <a:pt x="1410" y="72"/>
                  </a:lnTo>
                  <a:lnTo>
                    <a:pt x="1423" y="79"/>
                  </a:lnTo>
                  <a:lnTo>
                    <a:pt x="1430" y="79"/>
                  </a:lnTo>
                  <a:lnTo>
                    <a:pt x="1436" y="79"/>
                  </a:lnTo>
                  <a:lnTo>
                    <a:pt x="1443" y="85"/>
                  </a:lnTo>
                  <a:lnTo>
                    <a:pt x="1450" y="85"/>
                  </a:lnTo>
                  <a:lnTo>
                    <a:pt x="1463" y="85"/>
                  </a:lnTo>
                  <a:lnTo>
                    <a:pt x="1463" y="79"/>
                  </a:lnTo>
                  <a:lnTo>
                    <a:pt x="1463" y="72"/>
                  </a:lnTo>
                  <a:lnTo>
                    <a:pt x="1456" y="65"/>
                  </a:lnTo>
                  <a:lnTo>
                    <a:pt x="1456" y="59"/>
                  </a:lnTo>
                  <a:lnTo>
                    <a:pt x="1456" y="59"/>
                  </a:lnTo>
                  <a:lnTo>
                    <a:pt x="1456" y="52"/>
                  </a:lnTo>
                  <a:lnTo>
                    <a:pt x="1469" y="46"/>
                  </a:lnTo>
                  <a:lnTo>
                    <a:pt x="1476" y="46"/>
                  </a:lnTo>
                  <a:lnTo>
                    <a:pt x="1482" y="46"/>
                  </a:lnTo>
                  <a:lnTo>
                    <a:pt x="1496" y="46"/>
                  </a:lnTo>
                  <a:lnTo>
                    <a:pt x="1502" y="46"/>
                  </a:lnTo>
                  <a:lnTo>
                    <a:pt x="1509" y="46"/>
                  </a:lnTo>
                  <a:lnTo>
                    <a:pt x="1515" y="52"/>
                  </a:lnTo>
                  <a:lnTo>
                    <a:pt x="1529" y="52"/>
                  </a:lnTo>
                  <a:lnTo>
                    <a:pt x="1535" y="59"/>
                  </a:lnTo>
                  <a:lnTo>
                    <a:pt x="1542" y="52"/>
                  </a:lnTo>
                  <a:lnTo>
                    <a:pt x="1542" y="46"/>
                  </a:lnTo>
                  <a:lnTo>
                    <a:pt x="1548" y="39"/>
                  </a:lnTo>
                  <a:lnTo>
                    <a:pt x="1548" y="39"/>
                  </a:lnTo>
                  <a:lnTo>
                    <a:pt x="1555" y="32"/>
                  </a:lnTo>
                  <a:lnTo>
                    <a:pt x="1555" y="26"/>
                  </a:lnTo>
                  <a:lnTo>
                    <a:pt x="1562" y="19"/>
                  </a:lnTo>
                  <a:lnTo>
                    <a:pt x="1568" y="19"/>
                  </a:lnTo>
                  <a:lnTo>
                    <a:pt x="1575" y="13"/>
                  </a:lnTo>
                  <a:lnTo>
                    <a:pt x="1588" y="13"/>
                  </a:lnTo>
                  <a:lnTo>
                    <a:pt x="1595" y="13"/>
                  </a:lnTo>
                  <a:lnTo>
                    <a:pt x="1601" y="13"/>
                  </a:lnTo>
                  <a:lnTo>
                    <a:pt x="1608" y="13"/>
                  </a:lnTo>
                  <a:lnTo>
                    <a:pt x="1621" y="13"/>
                  </a:lnTo>
                  <a:lnTo>
                    <a:pt x="1627" y="13"/>
                  </a:lnTo>
                  <a:lnTo>
                    <a:pt x="1634" y="6"/>
                  </a:lnTo>
                  <a:lnTo>
                    <a:pt x="1641" y="6"/>
                  </a:lnTo>
                  <a:lnTo>
                    <a:pt x="1647" y="0"/>
                  </a:lnTo>
                  <a:lnTo>
                    <a:pt x="1647" y="0"/>
                  </a:lnTo>
                  <a:lnTo>
                    <a:pt x="1614" y="0"/>
                  </a:lnTo>
                  <a:lnTo>
                    <a:pt x="1588" y="0"/>
                  </a:lnTo>
                  <a:lnTo>
                    <a:pt x="1562" y="0"/>
                  </a:lnTo>
                  <a:lnTo>
                    <a:pt x="1535" y="0"/>
                  </a:lnTo>
                  <a:lnTo>
                    <a:pt x="1502" y="0"/>
                  </a:lnTo>
                  <a:lnTo>
                    <a:pt x="1476" y="0"/>
                  </a:lnTo>
                  <a:lnTo>
                    <a:pt x="1450" y="0"/>
                  </a:lnTo>
                  <a:lnTo>
                    <a:pt x="1423" y="0"/>
                  </a:lnTo>
                  <a:lnTo>
                    <a:pt x="1397" y="0"/>
                  </a:lnTo>
                  <a:lnTo>
                    <a:pt x="1364" y="0"/>
                  </a:lnTo>
                  <a:lnTo>
                    <a:pt x="1338" y="0"/>
                  </a:lnTo>
                  <a:lnTo>
                    <a:pt x="1311" y="0"/>
                  </a:lnTo>
                  <a:lnTo>
                    <a:pt x="1285" y="0"/>
                  </a:lnTo>
                  <a:lnTo>
                    <a:pt x="1252" y="0"/>
                  </a:lnTo>
                  <a:lnTo>
                    <a:pt x="1226" y="0"/>
                  </a:lnTo>
                  <a:lnTo>
                    <a:pt x="1199" y="0"/>
                  </a:lnTo>
                  <a:lnTo>
                    <a:pt x="1173" y="0"/>
                  </a:lnTo>
                  <a:lnTo>
                    <a:pt x="1140" y="0"/>
                  </a:lnTo>
                  <a:lnTo>
                    <a:pt x="1113" y="0"/>
                  </a:lnTo>
                  <a:lnTo>
                    <a:pt x="1087" y="0"/>
                  </a:lnTo>
                  <a:lnTo>
                    <a:pt x="1061" y="0"/>
                  </a:lnTo>
                  <a:lnTo>
                    <a:pt x="1034" y="0"/>
                  </a:lnTo>
                  <a:lnTo>
                    <a:pt x="1001" y="0"/>
                  </a:lnTo>
                  <a:lnTo>
                    <a:pt x="975" y="0"/>
                  </a:lnTo>
                  <a:lnTo>
                    <a:pt x="949" y="0"/>
                  </a:lnTo>
                  <a:lnTo>
                    <a:pt x="922" y="0"/>
                  </a:lnTo>
                  <a:lnTo>
                    <a:pt x="889" y="0"/>
                  </a:lnTo>
                  <a:lnTo>
                    <a:pt x="863" y="0"/>
                  </a:lnTo>
                  <a:lnTo>
                    <a:pt x="837" y="0"/>
                  </a:lnTo>
                  <a:lnTo>
                    <a:pt x="810" y="0"/>
                  </a:lnTo>
                  <a:lnTo>
                    <a:pt x="784" y="0"/>
                  </a:lnTo>
                  <a:lnTo>
                    <a:pt x="751" y="0"/>
                  </a:lnTo>
                  <a:lnTo>
                    <a:pt x="725" y="0"/>
                  </a:lnTo>
                  <a:lnTo>
                    <a:pt x="698" y="0"/>
                  </a:lnTo>
                  <a:lnTo>
                    <a:pt x="672" y="0"/>
                  </a:lnTo>
                  <a:lnTo>
                    <a:pt x="639" y="0"/>
                  </a:lnTo>
                  <a:lnTo>
                    <a:pt x="613" y="26"/>
                  </a:lnTo>
                  <a:lnTo>
                    <a:pt x="586" y="59"/>
                  </a:lnTo>
                  <a:lnTo>
                    <a:pt x="560" y="85"/>
                  </a:lnTo>
                  <a:lnTo>
                    <a:pt x="534" y="111"/>
                  </a:lnTo>
                  <a:lnTo>
                    <a:pt x="501" y="138"/>
                  </a:lnTo>
                  <a:lnTo>
                    <a:pt x="474" y="138"/>
                  </a:lnTo>
                  <a:lnTo>
                    <a:pt x="448" y="171"/>
                  </a:lnTo>
                  <a:lnTo>
                    <a:pt x="422" y="197"/>
                  </a:lnTo>
                  <a:lnTo>
                    <a:pt x="389" y="223"/>
                  </a:lnTo>
                  <a:lnTo>
                    <a:pt x="362" y="250"/>
                  </a:lnTo>
                  <a:lnTo>
                    <a:pt x="336" y="283"/>
                  </a:lnTo>
                  <a:lnTo>
                    <a:pt x="310" y="309"/>
                  </a:lnTo>
                  <a:lnTo>
                    <a:pt x="283" y="335"/>
                  </a:lnTo>
                  <a:lnTo>
                    <a:pt x="250" y="335"/>
                  </a:lnTo>
                  <a:lnTo>
                    <a:pt x="224" y="362"/>
                  </a:lnTo>
                  <a:lnTo>
                    <a:pt x="224" y="381"/>
                  </a:lnTo>
                  <a:lnTo>
                    <a:pt x="237" y="388"/>
                  </a:lnTo>
                  <a:lnTo>
                    <a:pt x="244" y="388"/>
                  </a:lnTo>
                  <a:lnTo>
                    <a:pt x="244" y="395"/>
                  </a:lnTo>
                  <a:lnTo>
                    <a:pt x="244" y="395"/>
                  </a:lnTo>
                  <a:lnTo>
                    <a:pt x="244" y="401"/>
                  </a:lnTo>
                  <a:lnTo>
                    <a:pt x="237" y="408"/>
                  </a:lnTo>
                  <a:lnTo>
                    <a:pt x="231" y="414"/>
                  </a:lnTo>
                  <a:lnTo>
                    <a:pt x="224" y="414"/>
                  </a:lnTo>
                  <a:lnTo>
                    <a:pt x="217" y="421"/>
                  </a:lnTo>
                  <a:lnTo>
                    <a:pt x="211" y="427"/>
                  </a:lnTo>
                  <a:lnTo>
                    <a:pt x="211" y="434"/>
                  </a:lnTo>
                  <a:lnTo>
                    <a:pt x="204" y="434"/>
                  </a:lnTo>
                  <a:lnTo>
                    <a:pt x="198" y="441"/>
                  </a:lnTo>
                  <a:lnTo>
                    <a:pt x="191" y="441"/>
                  </a:lnTo>
                  <a:lnTo>
                    <a:pt x="191" y="434"/>
                  </a:lnTo>
                  <a:lnTo>
                    <a:pt x="184" y="427"/>
                  </a:lnTo>
                  <a:lnTo>
                    <a:pt x="184" y="421"/>
                  </a:lnTo>
                  <a:lnTo>
                    <a:pt x="171" y="421"/>
                  </a:lnTo>
                  <a:lnTo>
                    <a:pt x="138" y="447"/>
                  </a:lnTo>
                  <a:lnTo>
                    <a:pt x="112" y="474"/>
                  </a:lnTo>
                  <a:lnTo>
                    <a:pt x="86" y="506"/>
                  </a:lnTo>
                  <a:lnTo>
                    <a:pt x="59" y="533"/>
                  </a:lnTo>
                  <a:lnTo>
                    <a:pt x="26" y="533"/>
                  </a:lnTo>
                  <a:lnTo>
                    <a:pt x="0" y="559"/>
                  </a:lnTo>
                  <a:lnTo>
                    <a:pt x="0" y="585"/>
                  </a:lnTo>
                  <a:lnTo>
                    <a:pt x="0" y="618"/>
                  </a:lnTo>
                  <a:lnTo>
                    <a:pt x="0" y="645"/>
                  </a:lnTo>
                  <a:lnTo>
                    <a:pt x="26" y="645"/>
                  </a:lnTo>
                  <a:lnTo>
                    <a:pt x="26" y="645"/>
                  </a:lnTo>
                  <a:lnTo>
                    <a:pt x="26" y="638"/>
                  </a:lnTo>
                  <a:lnTo>
                    <a:pt x="26" y="638"/>
                  </a:lnTo>
                  <a:lnTo>
                    <a:pt x="26" y="638"/>
                  </a:lnTo>
                  <a:lnTo>
                    <a:pt x="26" y="638"/>
                  </a:lnTo>
                  <a:lnTo>
                    <a:pt x="33" y="638"/>
                  </a:lnTo>
                  <a:lnTo>
                    <a:pt x="33" y="638"/>
                  </a:lnTo>
                  <a:lnTo>
                    <a:pt x="33" y="645"/>
                  </a:lnTo>
                  <a:lnTo>
                    <a:pt x="33" y="645"/>
                  </a:lnTo>
                  <a:lnTo>
                    <a:pt x="33" y="645"/>
                  </a:lnTo>
                  <a:lnTo>
                    <a:pt x="26" y="645"/>
                  </a:lnTo>
                  <a:lnTo>
                    <a:pt x="26" y="671"/>
                  </a:lnTo>
                  <a:lnTo>
                    <a:pt x="26" y="697"/>
                  </a:lnTo>
                  <a:lnTo>
                    <a:pt x="59" y="730"/>
                  </a:lnTo>
                  <a:lnTo>
                    <a:pt x="86" y="757"/>
                  </a:lnTo>
                  <a:lnTo>
                    <a:pt x="105" y="757"/>
                  </a:lnTo>
                  <a:lnTo>
                    <a:pt x="112" y="750"/>
                  </a:lnTo>
                  <a:lnTo>
                    <a:pt x="118" y="744"/>
                  </a:lnTo>
                  <a:lnTo>
                    <a:pt x="118" y="744"/>
                  </a:lnTo>
                  <a:lnTo>
                    <a:pt x="125" y="737"/>
                  </a:lnTo>
                  <a:lnTo>
                    <a:pt x="125" y="730"/>
                  </a:lnTo>
                  <a:lnTo>
                    <a:pt x="132" y="724"/>
                  </a:lnTo>
                  <a:lnTo>
                    <a:pt x="138" y="724"/>
                  </a:lnTo>
                  <a:lnTo>
                    <a:pt x="151" y="724"/>
                  </a:lnTo>
                  <a:lnTo>
                    <a:pt x="158" y="724"/>
                  </a:lnTo>
                  <a:lnTo>
                    <a:pt x="165" y="724"/>
                  </a:lnTo>
                  <a:lnTo>
                    <a:pt x="178" y="724"/>
                  </a:lnTo>
                  <a:lnTo>
                    <a:pt x="184" y="724"/>
                  </a:lnTo>
                  <a:lnTo>
                    <a:pt x="191" y="724"/>
                  </a:lnTo>
                  <a:lnTo>
                    <a:pt x="198" y="724"/>
                  </a:lnTo>
                  <a:lnTo>
                    <a:pt x="204" y="730"/>
                  </a:lnTo>
                  <a:lnTo>
                    <a:pt x="211" y="737"/>
                  </a:lnTo>
                  <a:lnTo>
                    <a:pt x="211" y="744"/>
                  </a:lnTo>
                  <a:lnTo>
                    <a:pt x="217" y="750"/>
                  </a:lnTo>
                  <a:lnTo>
                    <a:pt x="217" y="750"/>
                  </a:lnTo>
                  <a:lnTo>
                    <a:pt x="224" y="757"/>
                  </a:lnTo>
                  <a:lnTo>
                    <a:pt x="231" y="750"/>
                  </a:lnTo>
                  <a:lnTo>
                    <a:pt x="237" y="750"/>
                  </a:lnTo>
                  <a:lnTo>
                    <a:pt x="250" y="750"/>
                  </a:lnTo>
                  <a:lnTo>
                    <a:pt x="257" y="750"/>
                  </a:lnTo>
                  <a:lnTo>
                    <a:pt x="257" y="757"/>
                  </a:lnTo>
                  <a:lnTo>
                    <a:pt x="250" y="763"/>
                  </a:lnTo>
                  <a:lnTo>
                    <a:pt x="244" y="770"/>
                  </a:lnTo>
                  <a:lnTo>
                    <a:pt x="244" y="770"/>
                  </a:lnTo>
                  <a:lnTo>
                    <a:pt x="237" y="776"/>
                  </a:lnTo>
                  <a:lnTo>
                    <a:pt x="237" y="783"/>
                  </a:lnTo>
                  <a:lnTo>
                    <a:pt x="244" y="790"/>
                  </a:lnTo>
                  <a:lnTo>
                    <a:pt x="250" y="796"/>
                  </a:lnTo>
                  <a:lnTo>
                    <a:pt x="257" y="796"/>
                  </a:lnTo>
                  <a:lnTo>
                    <a:pt x="263" y="796"/>
                  </a:lnTo>
                  <a:lnTo>
                    <a:pt x="270" y="790"/>
                  </a:lnTo>
                  <a:lnTo>
                    <a:pt x="277" y="790"/>
                  </a:lnTo>
                  <a:lnTo>
                    <a:pt x="283" y="783"/>
                  </a:lnTo>
                  <a:lnTo>
                    <a:pt x="290" y="783"/>
                  </a:lnTo>
                  <a:lnTo>
                    <a:pt x="296" y="776"/>
                  </a:lnTo>
                  <a:lnTo>
                    <a:pt x="303" y="770"/>
                  </a:lnTo>
                  <a:lnTo>
                    <a:pt x="310" y="770"/>
                  </a:lnTo>
                  <a:lnTo>
                    <a:pt x="316" y="770"/>
                  </a:lnTo>
                  <a:lnTo>
                    <a:pt x="323" y="770"/>
                  </a:lnTo>
                  <a:lnTo>
                    <a:pt x="336" y="770"/>
                  </a:lnTo>
                  <a:lnTo>
                    <a:pt x="343" y="770"/>
                  </a:lnTo>
                  <a:lnTo>
                    <a:pt x="349" y="770"/>
                  </a:lnTo>
                  <a:lnTo>
                    <a:pt x="362" y="770"/>
                  </a:lnTo>
                  <a:lnTo>
                    <a:pt x="369" y="770"/>
                  </a:lnTo>
                  <a:lnTo>
                    <a:pt x="375" y="776"/>
                  </a:lnTo>
                  <a:lnTo>
                    <a:pt x="382" y="783"/>
                  </a:lnTo>
                  <a:lnTo>
                    <a:pt x="382" y="783"/>
                  </a:lnTo>
                  <a:lnTo>
                    <a:pt x="382" y="790"/>
                  </a:lnTo>
                  <a:lnTo>
                    <a:pt x="382" y="796"/>
                  </a:lnTo>
                  <a:lnTo>
                    <a:pt x="375" y="803"/>
                  </a:lnTo>
                  <a:lnTo>
                    <a:pt x="369" y="803"/>
                  </a:lnTo>
                  <a:lnTo>
                    <a:pt x="362" y="809"/>
                  </a:lnTo>
                  <a:lnTo>
                    <a:pt x="362" y="816"/>
                  </a:lnTo>
                  <a:lnTo>
                    <a:pt x="362" y="823"/>
                  </a:lnTo>
                  <a:lnTo>
                    <a:pt x="362" y="829"/>
                  </a:lnTo>
                  <a:lnTo>
                    <a:pt x="356" y="829"/>
                  </a:lnTo>
                  <a:lnTo>
                    <a:pt x="356" y="836"/>
                  </a:lnTo>
                  <a:lnTo>
                    <a:pt x="356" y="842"/>
                  </a:lnTo>
                  <a:lnTo>
                    <a:pt x="362" y="849"/>
                  </a:lnTo>
                  <a:lnTo>
                    <a:pt x="369" y="849"/>
                  </a:lnTo>
                  <a:lnTo>
                    <a:pt x="369" y="855"/>
                  </a:lnTo>
                  <a:lnTo>
                    <a:pt x="375" y="862"/>
                  </a:lnTo>
                  <a:lnTo>
                    <a:pt x="382" y="869"/>
                  </a:lnTo>
                  <a:lnTo>
                    <a:pt x="382" y="869"/>
                  </a:lnTo>
                  <a:lnTo>
                    <a:pt x="389" y="875"/>
                  </a:lnTo>
                  <a:lnTo>
                    <a:pt x="395" y="875"/>
                  </a:lnTo>
                  <a:lnTo>
                    <a:pt x="408" y="882"/>
                  </a:lnTo>
                  <a:lnTo>
                    <a:pt x="415" y="875"/>
                  </a:lnTo>
                  <a:lnTo>
                    <a:pt x="422" y="875"/>
                  </a:lnTo>
                  <a:lnTo>
                    <a:pt x="428" y="869"/>
                  </a:lnTo>
                  <a:lnTo>
                    <a:pt x="435" y="869"/>
                  </a:lnTo>
                  <a:lnTo>
                    <a:pt x="441" y="862"/>
                  </a:lnTo>
                  <a:lnTo>
                    <a:pt x="441" y="855"/>
                  </a:lnTo>
                  <a:lnTo>
                    <a:pt x="448" y="855"/>
                  </a:lnTo>
                  <a:lnTo>
                    <a:pt x="455" y="849"/>
                  </a:lnTo>
                  <a:lnTo>
                    <a:pt x="461" y="849"/>
                  </a:lnTo>
                  <a:lnTo>
                    <a:pt x="468" y="842"/>
                  </a:lnTo>
                  <a:lnTo>
                    <a:pt x="474" y="836"/>
                  </a:lnTo>
                  <a:lnTo>
                    <a:pt x="481" y="836"/>
                  </a:lnTo>
                  <a:lnTo>
                    <a:pt x="481" y="829"/>
                  </a:lnTo>
                  <a:lnTo>
                    <a:pt x="487" y="823"/>
                  </a:lnTo>
                  <a:lnTo>
                    <a:pt x="494" y="823"/>
                  </a:lnTo>
                  <a:lnTo>
                    <a:pt x="501" y="816"/>
                  </a:lnTo>
                  <a:lnTo>
                    <a:pt x="507" y="816"/>
                  </a:lnTo>
                  <a:lnTo>
                    <a:pt x="514" y="809"/>
                  </a:lnTo>
                  <a:lnTo>
                    <a:pt x="520" y="809"/>
                  </a:lnTo>
                  <a:lnTo>
                    <a:pt x="527" y="803"/>
                  </a:lnTo>
                  <a:lnTo>
                    <a:pt x="540" y="803"/>
                  </a:lnTo>
                  <a:lnTo>
                    <a:pt x="547" y="803"/>
                  </a:lnTo>
                  <a:lnTo>
                    <a:pt x="553" y="803"/>
                  </a:lnTo>
                  <a:lnTo>
                    <a:pt x="560" y="796"/>
                  </a:lnTo>
                  <a:lnTo>
                    <a:pt x="573" y="796"/>
                  </a:lnTo>
                  <a:lnTo>
                    <a:pt x="580" y="790"/>
                  </a:lnTo>
                  <a:lnTo>
                    <a:pt x="586" y="790"/>
                  </a:lnTo>
                  <a:lnTo>
                    <a:pt x="593" y="783"/>
                  </a:lnTo>
                  <a:lnTo>
                    <a:pt x="600" y="783"/>
                  </a:lnTo>
                  <a:lnTo>
                    <a:pt x="606" y="776"/>
                  </a:lnTo>
                  <a:lnTo>
                    <a:pt x="613" y="776"/>
                  </a:lnTo>
                  <a:lnTo>
                    <a:pt x="619" y="770"/>
                  </a:lnTo>
                  <a:lnTo>
                    <a:pt x="626" y="770"/>
                  </a:lnTo>
                  <a:lnTo>
                    <a:pt x="626" y="763"/>
                  </a:lnTo>
                  <a:lnTo>
                    <a:pt x="632" y="757"/>
                  </a:lnTo>
                  <a:lnTo>
                    <a:pt x="632" y="750"/>
                  </a:lnTo>
                  <a:lnTo>
                    <a:pt x="632" y="750"/>
                  </a:lnTo>
                  <a:lnTo>
                    <a:pt x="632" y="744"/>
                  </a:lnTo>
                  <a:lnTo>
                    <a:pt x="626" y="737"/>
                  </a:lnTo>
                  <a:lnTo>
                    <a:pt x="626" y="730"/>
                  </a:lnTo>
                  <a:lnTo>
                    <a:pt x="626" y="724"/>
                  </a:lnTo>
                  <a:lnTo>
                    <a:pt x="626" y="717"/>
                  </a:lnTo>
                  <a:lnTo>
                    <a:pt x="632" y="717"/>
                  </a:lnTo>
                  <a:lnTo>
                    <a:pt x="632" y="711"/>
                  </a:lnTo>
                  <a:lnTo>
                    <a:pt x="639" y="704"/>
                  </a:lnTo>
                  <a:lnTo>
                    <a:pt x="639" y="697"/>
                  </a:lnTo>
                  <a:lnTo>
                    <a:pt x="639" y="691"/>
                  </a:lnTo>
                  <a:lnTo>
                    <a:pt x="639" y="684"/>
                  </a:lnTo>
                  <a:lnTo>
                    <a:pt x="639" y="684"/>
                  </a:lnTo>
                  <a:lnTo>
                    <a:pt x="639" y="678"/>
                  </a:lnTo>
                  <a:lnTo>
                    <a:pt x="639" y="671"/>
                  </a:lnTo>
                  <a:lnTo>
                    <a:pt x="639" y="664"/>
                  </a:lnTo>
                  <a:lnTo>
                    <a:pt x="639" y="658"/>
                  </a:lnTo>
                  <a:lnTo>
                    <a:pt x="646" y="658"/>
                  </a:lnTo>
                  <a:lnTo>
                    <a:pt x="659" y="651"/>
                  </a:lnTo>
                  <a:lnTo>
                    <a:pt x="665" y="651"/>
                  </a:lnTo>
                  <a:lnTo>
                    <a:pt x="672" y="651"/>
                  </a:lnTo>
                  <a:lnTo>
                    <a:pt x="679" y="658"/>
                  </a:lnTo>
                  <a:lnTo>
                    <a:pt x="679" y="658"/>
                  </a:lnTo>
                  <a:lnTo>
                    <a:pt x="685" y="664"/>
                  </a:lnTo>
                  <a:lnTo>
                    <a:pt x="685" y="671"/>
                  </a:lnTo>
                  <a:lnTo>
                    <a:pt x="692" y="678"/>
                  </a:lnTo>
                  <a:lnTo>
                    <a:pt x="692" y="684"/>
                  </a:lnTo>
                  <a:lnTo>
                    <a:pt x="698" y="684"/>
                  </a:lnTo>
                  <a:lnTo>
                    <a:pt x="705" y="691"/>
                  </a:lnTo>
                  <a:lnTo>
                    <a:pt x="705" y="697"/>
                  </a:lnTo>
                  <a:lnTo>
                    <a:pt x="712" y="704"/>
                  </a:lnTo>
                  <a:lnTo>
                    <a:pt x="712" y="704"/>
                  </a:lnTo>
                  <a:lnTo>
                    <a:pt x="712" y="711"/>
                  </a:lnTo>
                  <a:lnTo>
                    <a:pt x="712" y="717"/>
                  </a:lnTo>
                  <a:lnTo>
                    <a:pt x="718" y="724"/>
                  </a:lnTo>
                  <a:lnTo>
                    <a:pt x="718" y="730"/>
                  </a:lnTo>
                  <a:lnTo>
                    <a:pt x="718" y="737"/>
                  </a:lnTo>
                  <a:lnTo>
                    <a:pt x="725" y="737"/>
                  </a:lnTo>
                  <a:lnTo>
                    <a:pt x="731" y="737"/>
                  </a:lnTo>
                  <a:lnTo>
                    <a:pt x="744" y="737"/>
                  </a:lnTo>
                  <a:lnTo>
                    <a:pt x="751" y="737"/>
                  </a:lnTo>
                  <a:lnTo>
                    <a:pt x="758" y="744"/>
                  </a:lnTo>
                  <a:lnTo>
                    <a:pt x="764" y="750"/>
                  </a:lnTo>
                  <a:lnTo>
                    <a:pt x="764" y="750"/>
                  </a:lnTo>
                  <a:lnTo>
                    <a:pt x="771" y="757"/>
                  </a:lnTo>
                  <a:lnTo>
                    <a:pt x="777" y="763"/>
                  </a:lnTo>
                  <a:lnTo>
                    <a:pt x="784" y="763"/>
                  </a:lnTo>
                  <a:lnTo>
                    <a:pt x="791" y="770"/>
                  </a:lnTo>
                  <a:lnTo>
                    <a:pt x="791" y="776"/>
                  </a:lnTo>
                  <a:lnTo>
                    <a:pt x="797" y="776"/>
                  </a:lnTo>
                  <a:lnTo>
                    <a:pt x="804" y="783"/>
                  </a:lnTo>
                  <a:lnTo>
                    <a:pt x="810" y="783"/>
                  </a:lnTo>
                  <a:lnTo>
                    <a:pt x="817" y="790"/>
                  </a:lnTo>
                  <a:lnTo>
                    <a:pt x="824" y="796"/>
                  </a:lnTo>
                  <a:lnTo>
                    <a:pt x="830" y="796"/>
                  </a:lnTo>
                  <a:lnTo>
                    <a:pt x="837" y="803"/>
                  </a:lnTo>
                  <a:lnTo>
                    <a:pt x="843" y="803"/>
                  </a:lnTo>
                  <a:lnTo>
                    <a:pt x="843" y="809"/>
                  </a:lnTo>
                  <a:lnTo>
                    <a:pt x="850" y="816"/>
                  </a:lnTo>
                  <a:lnTo>
                    <a:pt x="857" y="816"/>
                  </a:lnTo>
                  <a:lnTo>
                    <a:pt x="863" y="823"/>
                  </a:lnTo>
                  <a:lnTo>
                    <a:pt x="870" y="829"/>
                  </a:lnTo>
                  <a:lnTo>
                    <a:pt x="876" y="829"/>
                  </a:lnTo>
                  <a:lnTo>
                    <a:pt x="876" y="836"/>
                  </a:lnTo>
                  <a:lnTo>
                    <a:pt x="883" y="842"/>
                  </a:lnTo>
                  <a:lnTo>
                    <a:pt x="889" y="842"/>
                  </a:lnTo>
                  <a:lnTo>
                    <a:pt x="896" y="849"/>
                  </a:lnTo>
                  <a:lnTo>
                    <a:pt x="903" y="849"/>
                  </a:lnTo>
                  <a:lnTo>
                    <a:pt x="909" y="855"/>
                  </a:lnTo>
                  <a:lnTo>
                    <a:pt x="916" y="862"/>
                  </a:lnTo>
                  <a:lnTo>
                    <a:pt x="916" y="862"/>
                  </a:lnTo>
                  <a:lnTo>
                    <a:pt x="922" y="869"/>
                  </a:lnTo>
                  <a:lnTo>
                    <a:pt x="929" y="875"/>
                  </a:lnTo>
                  <a:lnTo>
                    <a:pt x="936" y="875"/>
                  </a:lnTo>
                  <a:lnTo>
                    <a:pt x="942" y="882"/>
                  </a:lnTo>
                  <a:lnTo>
                    <a:pt x="949" y="888"/>
                  </a:lnTo>
                  <a:lnTo>
                    <a:pt x="949" y="888"/>
                  </a:lnTo>
                  <a:lnTo>
                    <a:pt x="955" y="895"/>
                  </a:lnTo>
                  <a:lnTo>
                    <a:pt x="962" y="902"/>
                  </a:lnTo>
                  <a:lnTo>
                    <a:pt x="969" y="902"/>
                  </a:lnTo>
                  <a:lnTo>
                    <a:pt x="975" y="908"/>
                  </a:lnTo>
                  <a:lnTo>
                    <a:pt x="982" y="908"/>
                  </a:lnTo>
                  <a:lnTo>
                    <a:pt x="988" y="902"/>
                  </a:lnTo>
                  <a:lnTo>
                    <a:pt x="995" y="895"/>
                  </a:lnTo>
                  <a:close/>
                  <a:moveTo>
                    <a:pt x="1153" y="895"/>
                  </a:moveTo>
                  <a:lnTo>
                    <a:pt x="1153" y="888"/>
                  </a:lnTo>
                  <a:lnTo>
                    <a:pt x="1153" y="882"/>
                  </a:lnTo>
                  <a:lnTo>
                    <a:pt x="1153" y="875"/>
                  </a:lnTo>
                  <a:lnTo>
                    <a:pt x="1153" y="875"/>
                  </a:lnTo>
                  <a:lnTo>
                    <a:pt x="1153" y="869"/>
                  </a:lnTo>
                  <a:lnTo>
                    <a:pt x="1146" y="862"/>
                  </a:lnTo>
                  <a:lnTo>
                    <a:pt x="1140" y="862"/>
                  </a:lnTo>
                  <a:lnTo>
                    <a:pt x="1133" y="869"/>
                  </a:lnTo>
                  <a:lnTo>
                    <a:pt x="1133" y="875"/>
                  </a:lnTo>
                  <a:lnTo>
                    <a:pt x="1133" y="882"/>
                  </a:lnTo>
                  <a:lnTo>
                    <a:pt x="1133" y="888"/>
                  </a:lnTo>
                  <a:lnTo>
                    <a:pt x="1133" y="888"/>
                  </a:lnTo>
                  <a:lnTo>
                    <a:pt x="1140" y="895"/>
                  </a:lnTo>
                  <a:lnTo>
                    <a:pt x="1140" y="902"/>
                  </a:lnTo>
                  <a:lnTo>
                    <a:pt x="1140" y="908"/>
                  </a:lnTo>
                  <a:lnTo>
                    <a:pt x="1140" y="915"/>
                  </a:lnTo>
                  <a:lnTo>
                    <a:pt x="1146" y="915"/>
                  </a:lnTo>
                  <a:lnTo>
                    <a:pt x="1146" y="915"/>
                  </a:lnTo>
                  <a:lnTo>
                    <a:pt x="1146" y="908"/>
                  </a:lnTo>
                  <a:lnTo>
                    <a:pt x="1153" y="895"/>
                  </a:lnTo>
                  <a:close/>
                  <a:moveTo>
                    <a:pt x="132" y="783"/>
                  </a:moveTo>
                  <a:lnTo>
                    <a:pt x="112" y="763"/>
                  </a:lnTo>
                  <a:lnTo>
                    <a:pt x="112" y="783"/>
                  </a:lnTo>
                  <a:lnTo>
                    <a:pt x="132" y="783"/>
                  </a:lnTo>
                  <a:close/>
                  <a:moveTo>
                    <a:pt x="1087" y="783"/>
                  </a:moveTo>
                  <a:lnTo>
                    <a:pt x="1087" y="776"/>
                  </a:lnTo>
                  <a:lnTo>
                    <a:pt x="1087" y="770"/>
                  </a:lnTo>
                  <a:lnTo>
                    <a:pt x="1094" y="763"/>
                  </a:lnTo>
                  <a:lnTo>
                    <a:pt x="1094" y="763"/>
                  </a:lnTo>
                  <a:lnTo>
                    <a:pt x="1094" y="757"/>
                  </a:lnTo>
                  <a:lnTo>
                    <a:pt x="1094" y="750"/>
                  </a:lnTo>
                  <a:lnTo>
                    <a:pt x="1094" y="744"/>
                  </a:lnTo>
                  <a:lnTo>
                    <a:pt x="1094" y="737"/>
                  </a:lnTo>
                  <a:lnTo>
                    <a:pt x="1094" y="730"/>
                  </a:lnTo>
                  <a:lnTo>
                    <a:pt x="1100" y="724"/>
                  </a:lnTo>
                  <a:lnTo>
                    <a:pt x="1100" y="717"/>
                  </a:lnTo>
                  <a:lnTo>
                    <a:pt x="1100" y="717"/>
                  </a:lnTo>
                  <a:lnTo>
                    <a:pt x="1100" y="711"/>
                  </a:lnTo>
                  <a:lnTo>
                    <a:pt x="1094" y="704"/>
                  </a:lnTo>
                  <a:lnTo>
                    <a:pt x="1094" y="697"/>
                  </a:lnTo>
                  <a:lnTo>
                    <a:pt x="1087" y="691"/>
                  </a:lnTo>
                  <a:lnTo>
                    <a:pt x="1087" y="697"/>
                  </a:lnTo>
                  <a:lnTo>
                    <a:pt x="1081" y="704"/>
                  </a:lnTo>
                  <a:lnTo>
                    <a:pt x="1081" y="711"/>
                  </a:lnTo>
                  <a:lnTo>
                    <a:pt x="1081" y="717"/>
                  </a:lnTo>
                  <a:lnTo>
                    <a:pt x="1081" y="724"/>
                  </a:lnTo>
                  <a:lnTo>
                    <a:pt x="1081" y="724"/>
                  </a:lnTo>
                  <a:lnTo>
                    <a:pt x="1081" y="730"/>
                  </a:lnTo>
                  <a:lnTo>
                    <a:pt x="1081" y="737"/>
                  </a:lnTo>
                  <a:lnTo>
                    <a:pt x="1081" y="744"/>
                  </a:lnTo>
                  <a:lnTo>
                    <a:pt x="1081" y="750"/>
                  </a:lnTo>
                  <a:lnTo>
                    <a:pt x="1081" y="757"/>
                  </a:lnTo>
                  <a:lnTo>
                    <a:pt x="1081" y="763"/>
                  </a:lnTo>
                  <a:lnTo>
                    <a:pt x="1081" y="763"/>
                  </a:lnTo>
                  <a:lnTo>
                    <a:pt x="1081" y="770"/>
                  </a:lnTo>
                  <a:lnTo>
                    <a:pt x="1087" y="776"/>
                  </a:lnTo>
                  <a:lnTo>
                    <a:pt x="1087" y="783"/>
                  </a:lnTo>
                  <a:close/>
                  <a:moveTo>
                    <a:pt x="2036" y="783"/>
                  </a:moveTo>
                  <a:lnTo>
                    <a:pt x="2036" y="776"/>
                  </a:lnTo>
                  <a:lnTo>
                    <a:pt x="2043" y="776"/>
                  </a:lnTo>
                  <a:lnTo>
                    <a:pt x="2043" y="770"/>
                  </a:lnTo>
                  <a:lnTo>
                    <a:pt x="2049" y="763"/>
                  </a:lnTo>
                  <a:lnTo>
                    <a:pt x="2056" y="763"/>
                  </a:lnTo>
                  <a:lnTo>
                    <a:pt x="2056" y="757"/>
                  </a:lnTo>
                  <a:lnTo>
                    <a:pt x="2056" y="750"/>
                  </a:lnTo>
                  <a:lnTo>
                    <a:pt x="2056" y="744"/>
                  </a:lnTo>
                  <a:lnTo>
                    <a:pt x="2056" y="737"/>
                  </a:lnTo>
                  <a:lnTo>
                    <a:pt x="2056" y="737"/>
                  </a:lnTo>
                  <a:lnTo>
                    <a:pt x="2056" y="730"/>
                  </a:lnTo>
                  <a:lnTo>
                    <a:pt x="2056" y="724"/>
                  </a:lnTo>
                  <a:lnTo>
                    <a:pt x="2056" y="717"/>
                  </a:lnTo>
                  <a:lnTo>
                    <a:pt x="2056" y="717"/>
                  </a:lnTo>
                  <a:lnTo>
                    <a:pt x="2056" y="711"/>
                  </a:lnTo>
                  <a:lnTo>
                    <a:pt x="2056" y="704"/>
                  </a:lnTo>
                  <a:lnTo>
                    <a:pt x="2062" y="697"/>
                  </a:lnTo>
                  <a:lnTo>
                    <a:pt x="2062" y="704"/>
                  </a:lnTo>
                  <a:lnTo>
                    <a:pt x="2062" y="711"/>
                  </a:lnTo>
                  <a:lnTo>
                    <a:pt x="2069" y="717"/>
                  </a:lnTo>
                  <a:lnTo>
                    <a:pt x="2069" y="717"/>
                  </a:lnTo>
                  <a:lnTo>
                    <a:pt x="2069" y="724"/>
                  </a:lnTo>
                  <a:lnTo>
                    <a:pt x="2069" y="730"/>
                  </a:lnTo>
                  <a:lnTo>
                    <a:pt x="2069" y="730"/>
                  </a:lnTo>
                  <a:lnTo>
                    <a:pt x="2069" y="737"/>
                  </a:lnTo>
                  <a:lnTo>
                    <a:pt x="2069" y="744"/>
                  </a:lnTo>
                  <a:lnTo>
                    <a:pt x="2069" y="750"/>
                  </a:lnTo>
                  <a:lnTo>
                    <a:pt x="2069" y="750"/>
                  </a:lnTo>
                  <a:lnTo>
                    <a:pt x="2069" y="757"/>
                  </a:lnTo>
                  <a:lnTo>
                    <a:pt x="2069" y="763"/>
                  </a:lnTo>
                  <a:lnTo>
                    <a:pt x="2069" y="770"/>
                  </a:lnTo>
                  <a:lnTo>
                    <a:pt x="2069" y="776"/>
                  </a:lnTo>
                  <a:lnTo>
                    <a:pt x="2062" y="776"/>
                  </a:lnTo>
                  <a:lnTo>
                    <a:pt x="2062" y="783"/>
                  </a:lnTo>
                  <a:lnTo>
                    <a:pt x="2056" y="790"/>
                  </a:lnTo>
                  <a:lnTo>
                    <a:pt x="2043" y="790"/>
                  </a:lnTo>
                  <a:lnTo>
                    <a:pt x="2036" y="790"/>
                  </a:lnTo>
                  <a:lnTo>
                    <a:pt x="2036" y="783"/>
                  </a:lnTo>
                  <a:close/>
                  <a:moveTo>
                    <a:pt x="184" y="757"/>
                  </a:moveTo>
                  <a:lnTo>
                    <a:pt x="184" y="744"/>
                  </a:lnTo>
                  <a:lnTo>
                    <a:pt x="178" y="737"/>
                  </a:lnTo>
                  <a:lnTo>
                    <a:pt x="178" y="730"/>
                  </a:lnTo>
                  <a:lnTo>
                    <a:pt x="171" y="730"/>
                  </a:lnTo>
                  <a:lnTo>
                    <a:pt x="165" y="730"/>
                  </a:lnTo>
                  <a:lnTo>
                    <a:pt x="158" y="737"/>
                  </a:lnTo>
                  <a:lnTo>
                    <a:pt x="158" y="744"/>
                  </a:lnTo>
                  <a:lnTo>
                    <a:pt x="151" y="750"/>
                  </a:lnTo>
                  <a:lnTo>
                    <a:pt x="158" y="757"/>
                  </a:lnTo>
                  <a:lnTo>
                    <a:pt x="158" y="763"/>
                  </a:lnTo>
                  <a:lnTo>
                    <a:pt x="171" y="770"/>
                  </a:lnTo>
                  <a:lnTo>
                    <a:pt x="171" y="770"/>
                  </a:lnTo>
                  <a:lnTo>
                    <a:pt x="178" y="763"/>
                  </a:lnTo>
                  <a:lnTo>
                    <a:pt x="184" y="757"/>
                  </a:lnTo>
                  <a:close/>
                  <a:moveTo>
                    <a:pt x="441" y="730"/>
                  </a:moveTo>
                  <a:lnTo>
                    <a:pt x="448" y="724"/>
                  </a:lnTo>
                  <a:lnTo>
                    <a:pt x="448" y="724"/>
                  </a:lnTo>
                  <a:lnTo>
                    <a:pt x="455" y="724"/>
                  </a:lnTo>
                  <a:lnTo>
                    <a:pt x="461" y="724"/>
                  </a:lnTo>
                  <a:lnTo>
                    <a:pt x="461" y="724"/>
                  </a:lnTo>
                  <a:lnTo>
                    <a:pt x="461" y="730"/>
                  </a:lnTo>
                  <a:lnTo>
                    <a:pt x="461" y="730"/>
                  </a:lnTo>
                  <a:lnTo>
                    <a:pt x="455" y="730"/>
                  </a:lnTo>
                  <a:lnTo>
                    <a:pt x="455" y="737"/>
                  </a:lnTo>
                  <a:lnTo>
                    <a:pt x="448" y="737"/>
                  </a:lnTo>
                  <a:lnTo>
                    <a:pt x="448" y="737"/>
                  </a:lnTo>
                  <a:lnTo>
                    <a:pt x="441" y="737"/>
                  </a:lnTo>
                  <a:lnTo>
                    <a:pt x="441" y="730"/>
                  </a:lnTo>
                  <a:lnTo>
                    <a:pt x="441" y="730"/>
                  </a:lnTo>
                  <a:close/>
                  <a:moveTo>
                    <a:pt x="540" y="730"/>
                  </a:moveTo>
                  <a:lnTo>
                    <a:pt x="547" y="717"/>
                  </a:lnTo>
                  <a:lnTo>
                    <a:pt x="547" y="717"/>
                  </a:lnTo>
                  <a:lnTo>
                    <a:pt x="553" y="711"/>
                  </a:lnTo>
                  <a:lnTo>
                    <a:pt x="560" y="711"/>
                  </a:lnTo>
                  <a:lnTo>
                    <a:pt x="567" y="717"/>
                  </a:lnTo>
                  <a:lnTo>
                    <a:pt x="573" y="724"/>
                  </a:lnTo>
                  <a:lnTo>
                    <a:pt x="580" y="724"/>
                  </a:lnTo>
                  <a:lnTo>
                    <a:pt x="573" y="730"/>
                  </a:lnTo>
                  <a:lnTo>
                    <a:pt x="567" y="737"/>
                  </a:lnTo>
                  <a:lnTo>
                    <a:pt x="560" y="737"/>
                  </a:lnTo>
                  <a:lnTo>
                    <a:pt x="553" y="737"/>
                  </a:lnTo>
                  <a:lnTo>
                    <a:pt x="547" y="737"/>
                  </a:lnTo>
                  <a:lnTo>
                    <a:pt x="547" y="737"/>
                  </a:lnTo>
                  <a:lnTo>
                    <a:pt x="540" y="730"/>
                  </a:lnTo>
                  <a:close/>
                  <a:moveTo>
                    <a:pt x="1113" y="671"/>
                  </a:moveTo>
                  <a:lnTo>
                    <a:pt x="1113" y="664"/>
                  </a:lnTo>
                  <a:lnTo>
                    <a:pt x="1120" y="658"/>
                  </a:lnTo>
                  <a:lnTo>
                    <a:pt x="1120" y="651"/>
                  </a:lnTo>
                  <a:lnTo>
                    <a:pt x="1120" y="645"/>
                  </a:lnTo>
                  <a:lnTo>
                    <a:pt x="1120" y="638"/>
                  </a:lnTo>
                  <a:lnTo>
                    <a:pt x="1120" y="632"/>
                  </a:lnTo>
                  <a:lnTo>
                    <a:pt x="1127" y="625"/>
                  </a:lnTo>
                  <a:lnTo>
                    <a:pt x="1127" y="618"/>
                  </a:lnTo>
                  <a:lnTo>
                    <a:pt x="1127" y="612"/>
                  </a:lnTo>
                  <a:lnTo>
                    <a:pt x="1120" y="599"/>
                  </a:lnTo>
                  <a:lnTo>
                    <a:pt x="1120" y="592"/>
                  </a:lnTo>
                  <a:lnTo>
                    <a:pt x="1127" y="585"/>
                  </a:lnTo>
                  <a:lnTo>
                    <a:pt x="1133" y="585"/>
                  </a:lnTo>
                  <a:lnTo>
                    <a:pt x="1140" y="579"/>
                  </a:lnTo>
                  <a:lnTo>
                    <a:pt x="1146" y="572"/>
                  </a:lnTo>
                  <a:lnTo>
                    <a:pt x="1153" y="566"/>
                  </a:lnTo>
                  <a:lnTo>
                    <a:pt x="1153" y="559"/>
                  </a:lnTo>
                  <a:lnTo>
                    <a:pt x="1153" y="553"/>
                  </a:lnTo>
                  <a:lnTo>
                    <a:pt x="1153" y="546"/>
                  </a:lnTo>
                  <a:lnTo>
                    <a:pt x="1153" y="539"/>
                  </a:lnTo>
                  <a:lnTo>
                    <a:pt x="1146" y="533"/>
                  </a:lnTo>
                  <a:lnTo>
                    <a:pt x="1146" y="520"/>
                  </a:lnTo>
                  <a:lnTo>
                    <a:pt x="1146" y="513"/>
                  </a:lnTo>
                  <a:lnTo>
                    <a:pt x="1146" y="506"/>
                  </a:lnTo>
                  <a:lnTo>
                    <a:pt x="1140" y="506"/>
                  </a:lnTo>
                  <a:lnTo>
                    <a:pt x="1140" y="506"/>
                  </a:lnTo>
                  <a:lnTo>
                    <a:pt x="1140" y="513"/>
                  </a:lnTo>
                  <a:lnTo>
                    <a:pt x="1140" y="526"/>
                  </a:lnTo>
                  <a:lnTo>
                    <a:pt x="1133" y="533"/>
                  </a:lnTo>
                  <a:lnTo>
                    <a:pt x="1127" y="539"/>
                  </a:lnTo>
                  <a:lnTo>
                    <a:pt x="1120" y="546"/>
                  </a:lnTo>
                  <a:lnTo>
                    <a:pt x="1120" y="553"/>
                  </a:lnTo>
                  <a:lnTo>
                    <a:pt x="1113" y="559"/>
                  </a:lnTo>
                  <a:lnTo>
                    <a:pt x="1107" y="566"/>
                  </a:lnTo>
                  <a:lnTo>
                    <a:pt x="1107" y="572"/>
                  </a:lnTo>
                  <a:lnTo>
                    <a:pt x="1107" y="579"/>
                  </a:lnTo>
                  <a:lnTo>
                    <a:pt x="1107" y="585"/>
                  </a:lnTo>
                  <a:lnTo>
                    <a:pt x="1107" y="592"/>
                  </a:lnTo>
                  <a:lnTo>
                    <a:pt x="1107" y="599"/>
                  </a:lnTo>
                  <a:lnTo>
                    <a:pt x="1107" y="605"/>
                  </a:lnTo>
                  <a:lnTo>
                    <a:pt x="1107" y="612"/>
                  </a:lnTo>
                  <a:lnTo>
                    <a:pt x="1107" y="618"/>
                  </a:lnTo>
                  <a:lnTo>
                    <a:pt x="1107" y="625"/>
                  </a:lnTo>
                  <a:lnTo>
                    <a:pt x="1107" y="632"/>
                  </a:lnTo>
                  <a:lnTo>
                    <a:pt x="1107" y="638"/>
                  </a:lnTo>
                  <a:lnTo>
                    <a:pt x="1107" y="645"/>
                  </a:lnTo>
                  <a:lnTo>
                    <a:pt x="1107" y="651"/>
                  </a:lnTo>
                  <a:lnTo>
                    <a:pt x="1107" y="658"/>
                  </a:lnTo>
                  <a:lnTo>
                    <a:pt x="1107" y="664"/>
                  </a:lnTo>
                  <a:lnTo>
                    <a:pt x="1113" y="671"/>
                  </a:lnTo>
                  <a:close/>
                  <a:moveTo>
                    <a:pt x="718" y="645"/>
                  </a:moveTo>
                  <a:lnTo>
                    <a:pt x="712" y="638"/>
                  </a:lnTo>
                  <a:lnTo>
                    <a:pt x="705" y="632"/>
                  </a:lnTo>
                  <a:lnTo>
                    <a:pt x="705" y="618"/>
                  </a:lnTo>
                  <a:lnTo>
                    <a:pt x="712" y="612"/>
                  </a:lnTo>
                  <a:lnTo>
                    <a:pt x="718" y="605"/>
                  </a:lnTo>
                  <a:lnTo>
                    <a:pt x="718" y="592"/>
                  </a:lnTo>
                  <a:lnTo>
                    <a:pt x="725" y="592"/>
                  </a:lnTo>
                  <a:lnTo>
                    <a:pt x="731" y="599"/>
                  </a:lnTo>
                  <a:lnTo>
                    <a:pt x="731" y="605"/>
                  </a:lnTo>
                  <a:lnTo>
                    <a:pt x="731" y="618"/>
                  </a:lnTo>
                  <a:lnTo>
                    <a:pt x="731" y="625"/>
                  </a:lnTo>
                  <a:lnTo>
                    <a:pt x="738" y="632"/>
                  </a:lnTo>
                  <a:lnTo>
                    <a:pt x="738" y="638"/>
                  </a:lnTo>
                  <a:lnTo>
                    <a:pt x="731" y="651"/>
                  </a:lnTo>
                  <a:lnTo>
                    <a:pt x="731" y="658"/>
                  </a:lnTo>
                  <a:lnTo>
                    <a:pt x="731" y="664"/>
                  </a:lnTo>
                  <a:lnTo>
                    <a:pt x="725" y="671"/>
                  </a:lnTo>
                  <a:lnTo>
                    <a:pt x="718" y="664"/>
                  </a:lnTo>
                  <a:lnTo>
                    <a:pt x="718" y="658"/>
                  </a:lnTo>
                  <a:lnTo>
                    <a:pt x="718" y="645"/>
                  </a:lnTo>
                  <a:close/>
                  <a:moveTo>
                    <a:pt x="777" y="645"/>
                  </a:moveTo>
                  <a:lnTo>
                    <a:pt x="777" y="638"/>
                  </a:lnTo>
                  <a:lnTo>
                    <a:pt x="777" y="638"/>
                  </a:lnTo>
                  <a:lnTo>
                    <a:pt x="777" y="638"/>
                  </a:lnTo>
                  <a:lnTo>
                    <a:pt x="784" y="638"/>
                  </a:lnTo>
                  <a:lnTo>
                    <a:pt x="784" y="638"/>
                  </a:lnTo>
                  <a:lnTo>
                    <a:pt x="784" y="638"/>
                  </a:lnTo>
                  <a:lnTo>
                    <a:pt x="784" y="645"/>
                  </a:lnTo>
                  <a:lnTo>
                    <a:pt x="784" y="645"/>
                  </a:lnTo>
                  <a:lnTo>
                    <a:pt x="784" y="645"/>
                  </a:lnTo>
                  <a:lnTo>
                    <a:pt x="784" y="651"/>
                  </a:lnTo>
                  <a:lnTo>
                    <a:pt x="784" y="651"/>
                  </a:lnTo>
                  <a:lnTo>
                    <a:pt x="777" y="651"/>
                  </a:lnTo>
                  <a:lnTo>
                    <a:pt x="777" y="645"/>
                  </a:lnTo>
                  <a:lnTo>
                    <a:pt x="777" y="645"/>
                  </a:lnTo>
                  <a:close/>
                  <a:moveTo>
                    <a:pt x="804" y="585"/>
                  </a:moveTo>
                  <a:lnTo>
                    <a:pt x="804" y="579"/>
                  </a:lnTo>
                  <a:lnTo>
                    <a:pt x="804" y="579"/>
                  </a:lnTo>
                  <a:lnTo>
                    <a:pt x="804" y="572"/>
                  </a:lnTo>
                  <a:lnTo>
                    <a:pt x="804" y="566"/>
                  </a:lnTo>
                  <a:lnTo>
                    <a:pt x="804" y="559"/>
                  </a:lnTo>
                  <a:lnTo>
                    <a:pt x="804" y="553"/>
                  </a:lnTo>
                  <a:lnTo>
                    <a:pt x="804" y="546"/>
                  </a:lnTo>
                  <a:lnTo>
                    <a:pt x="804" y="546"/>
                  </a:lnTo>
                  <a:lnTo>
                    <a:pt x="810" y="539"/>
                  </a:lnTo>
                  <a:lnTo>
                    <a:pt x="817" y="539"/>
                  </a:lnTo>
                  <a:lnTo>
                    <a:pt x="824" y="533"/>
                  </a:lnTo>
                  <a:lnTo>
                    <a:pt x="830" y="533"/>
                  </a:lnTo>
                  <a:lnTo>
                    <a:pt x="837" y="526"/>
                  </a:lnTo>
                  <a:lnTo>
                    <a:pt x="837" y="526"/>
                  </a:lnTo>
                  <a:lnTo>
                    <a:pt x="837" y="520"/>
                  </a:lnTo>
                  <a:lnTo>
                    <a:pt x="837" y="513"/>
                  </a:lnTo>
                  <a:lnTo>
                    <a:pt x="837" y="506"/>
                  </a:lnTo>
                  <a:lnTo>
                    <a:pt x="843" y="506"/>
                  </a:lnTo>
                  <a:lnTo>
                    <a:pt x="843" y="513"/>
                  </a:lnTo>
                  <a:lnTo>
                    <a:pt x="843" y="520"/>
                  </a:lnTo>
                  <a:lnTo>
                    <a:pt x="843" y="526"/>
                  </a:lnTo>
                  <a:lnTo>
                    <a:pt x="837" y="526"/>
                  </a:lnTo>
                  <a:lnTo>
                    <a:pt x="837" y="533"/>
                  </a:lnTo>
                  <a:lnTo>
                    <a:pt x="837" y="539"/>
                  </a:lnTo>
                  <a:lnTo>
                    <a:pt x="837" y="546"/>
                  </a:lnTo>
                  <a:lnTo>
                    <a:pt x="837" y="553"/>
                  </a:lnTo>
                  <a:lnTo>
                    <a:pt x="837" y="559"/>
                  </a:lnTo>
                  <a:lnTo>
                    <a:pt x="837" y="559"/>
                  </a:lnTo>
                  <a:lnTo>
                    <a:pt x="830" y="566"/>
                  </a:lnTo>
                  <a:lnTo>
                    <a:pt x="830" y="572"/>
                  </a:lnTo>
                  <a:lnTo>
                    <a:pt x="824" y="572"/>
                  </a:lnTo>
                  <a:lnTo>
                    <a:pt x="817" y="579"/>
                  </a:lnTo>
                  <a:lnTo>
                    <a:pt x="810" y="585"/>
                  </a:lnTo>
                  <a:lnTo>
                    <a:pt x="810" y="592"/>
                  </a:lnTo>
                  <a:lnTo>
                    <a:pt x="810" y="599"/>
                  </a:lnTo>
                  <a:lnTo>
                    <a:pt x="810" y="599"/>
                  </a:lnTo>
                  <a:lnTo>
                    <a:pt x="810" y="599"/>
                  </a:lnTo>
                  <a:lnTo>
                    <a:pt x="804" y="585"/>
                  </a:lnTo>
                  <a:close/>
                  <a:moveTo>
                    <a:pt x="1700" y="559"/>
                  </a:moveTo>
                  <a:lnTo>
                    <a:pt x="1700" y="559"/>
                  </a:lnTo>
                  <a:lnTo>
                    <a:pt x="1700" y="559"/>
                  </a:lnTo>
                  <a:lnTo>
                    <a:pt x="1693" y="559"/>
                  </a:lnTo>
                  <a:lnTo>
                    <a:pt x="1693" y="559"/>
                  </a:lnTo>
                  <a:lnTo>
                    <a:pt x="1687" y="559"/>
                  </a:lnTo>
                  <a:lnTo>
                    <a:pt x="1687" y="559"/>
                  </a:lnTo>
                  <a:lnTo>
                    <a:pt x="1680" y="559"/>
                  </a:lnTo>
                  <a:lnTo>
                    <a:pt x="1680" y="559"/>
                  </a:lnTo>
                  <a:lnTo>
                    <a:pt x="1687" y="559"/>
                  </a:lnTo>
                  <a:lnTo>
                    <a:pt x="1687" y="559"/>
                  </a:lnTo>
                  <a:lnTo>
                    <a:pt x="1693" y="559"/>
                  </a:lnTo>
                  <a:lnTo>
                    <a:pt x="1693" y="559"/>
                  </a:lnTo>
                  <a:lnTo>
                    <a:pt x="1700" y="559"/>
                  </a:lnTo>
                  <a:lnTo>
                    <a:pt x="1700" y="559"/>
                  </a:lnTo>
                  <a:close/>
                  <a:moveTo>
                    <a:pt x="1687" y="533"/>
                  </a:moveTo>
                  <a:lnTo>
                    <a:pt x="1680" y="520"/>
                  </a:lnTo>
                  <a:lnTo>
                    <a:pt x="1680" y="520"/>
                  </a:lnTo>
                  <a:lnTo>
                    <a:pt x="1667" y="513"/>
                  </a:lnTo>
                  <a:lnTo>
                    <a:pt x="1660" y="520"/>
                  </a:lnTo>
                  <a:lnTo>
                    <a:pt x="1654" y="526"/>
                  </a:lnTo>
                  <a:lnTo>
                    <a:pt x="1654" y="533"/>
                  </a:lnTo>
                  <a:lnTo>
                    <a:pt x="1654" y="546"/>
                  </a:lnTo>
                  <a:lnTo>
                    <a:pt x="1660" y="553"/>
                  </a:lnTo>
                  <a:lnTo>
                    <a:pt x="1667" y="559"/>
                  </a:lnTo>
                  <a:lnTo>
                    <a:pt x="1674" y="559"/>
                  </a:lnTo>
                  <a:lnTo>
                    <a:pt x="1680" y="559"/>
                  </a:lnTo>
                  <a:lnTo>
                    <a:pt x="1680" y="553"/>
                  </a:lnTo>
                  <a:lnTo>
                    <a:pt x="1687" y="546"/>
                  </a:lnTo>
                  <a:lnTo>
                    <a:pt x="1687" y="533"/>
                  </a:lnTo>
                  <a:close/>
                  <a:moveTo>
                    <a:pt x="1733" y="533"/>
                  </a:moveTo>
                  <a:lnTo>
                    <a:pt x="1733" y="533"/>
                  </a:lnTo>
                  <a:lnTo>
                    <a:pt x="1726" y="533"/>
                  </a:lnTo>
                  <a:lnTo>
                    <a:pt x="1726" y="533"/>
                  </a:lnTo>
                  <a:lnTo>
                    <a:pt x="1726" y="533"/>
                  </a:lnTo>
                  <a:lnTo>
                    <a:pt x="1726" y="533"/>
                  </a:lnTo>
                  <a:lnTo>
                    <a:pt x="1726" y="533"/>
                  </a:lnTo>
                  <a:lnTo>
                    <a:pt x="1726" y="533"/>
                  </a:lnTo>
                  <a:lnTo>
                    <a:pt x="1726" y="533"/>
                  </a:lnTo>
                  <a:lnTo>
                    <a:pt x="1726" y="533"/>
                  </a:lnTo>
                  <a:lnTo>
                    <a:pt x="1726" y="533"/>
                  </a:lnTo>
                  <a:lnTo>
                    <a:pt x="1726" y="533"/>
                  </a:lnTo>
                  <a:lnTo>
                    <a:pt x="1726" y="533"/>
                  </a:lnTo>
                  <a:lnTo>
                    <a:pt x="1733" y="533"/>
                  </a:lnTo>
                  <a:lnTo>
                    <a:pt x="1733" y="533"/>
                  </a:lnTo>
                  <a:close/>
                  <a:moveTo>
                    <a:pt x="1179" y="506"/>
                  </a:moveTo>
                  <a:lnTo>
                    <a:pt x="1179" y="500"/>
                  </a:lnTo>
                  <a:lnTo>
                    <a:pt x="1179" y="493"/>
                  </a:lnTo>
                  <a:lnTo>
                    <a:pt x="1173" y="493"/>
                  </a:lnTo>
                  <a:lnTo>
                    <a:pt x="1173" y="487"/>
                  </a:lnTo>
                  <a:lnTo>
                    <a:pt x="1173" y="480"/>
                  </a:lnTo>
                  <a:lnTo>
                    <a:pt x="1173" y="474"/>
                  </a:lnTo>
                  <a:lnTo>
                    <a:pt x="1173" y="474"/>
                  </a:lnTo>
                  <a:lnTo>
                    <a:pt x="1166" y="480"/>
                  </a:lnTo>
                  <a:lnTo>
                    <a:pt x="1166" y="480"/>
                  </a:lnTo>
                  <a:lnTo>
                    <a:pt x="1160" y="487"/>
                  </a:lnTo>
                  <a:lnTo>
                    <a:pt x="1153" y="493"/>
                  </a:lnTo>
                  <a:lnTo>
                    <a:pt x="1146" y="493"/>
                  </a:lnTo>
                  <a:lnTo>
                    <a:pt x="1140" y="500"/>
                  </a:lnTo>
                  <a:lnTo>
                    <a:pt x="1146" y="500"/>
                  </a:lnTo>
                  <a:lnTo>
                    <a:pt x="1146" y="506"/>
                  </a:lnTo>
                  <a:lnTo>
                    <a:pt x="1153" y="506"/>
                  </a:lnTo>
                  <a:lnTo>
                    <a:pt x="1160" y="513"/>
                  </a:lnTo>
                  <a:lnTo>
                    <a:pt x="1173" y="513"/>
                  </a:lnTo>
                  <a:lnTo>
                    <a:pt x="1173" y="506"/>
                  </a:lnTo>
                  <a:lnTo>
                    <a:pt x="1179" y="506"/>
                  </a:lnTo>
                  <a:close/>
                  <a:moveTo>
                    <a:pt x="1377" y="506"/>
                  </a:moveTo>
                  <a:lnTo>
                    <a:pt x="1370" y="500"/>
                  </a:lnTo>
                  <a:lnTo>
                    <a:pt x="1370" y="493"/>
                  </a:lnTo>
                  <a:lnTo>
                    <a:pt x="1370" y="493"/>
                  </a:lnTo>
                  <a:lnTo>
                    <a:pt x="1364" y="493"/>
                  </a:lnTo>
                  <a:lnTo>
                    <a:pt x="1364" y="493"/>
                  </a:lnTo>
                  <a:lnTo>
                    <a:pt x="1364" y="493"/>
                  </a:lnTo>
                  <a:lnTo>
                    <a:pt x="1364" y="493"/>
                  </a:lnTo>
                  <a:lnTo>
                    <a:pt x="1364" y="500"/>
                  </a:lnTo>
                  <a:lnTo>
                    <a:pt x="1364" y="500"/>
                  </a:lnTo>
                  <a:lnTo>
                    <a:pt x="1364" y="506"/>
                  </a:lnTo>
                  <a:lnTo>
                    <a:pt x="1364" y="506"/>
                  </a:lnTo>
                  <a:lnTo>
                    <a:pt x="1370" y="506"/>
                  </a:lnTo>
                  <a:lnTo>
                    <a:pt x="1370" y="506"/>
                  </a:lnTo>
                  <a:lnTo>
                    <a:pt x="1377" y="506"/>
                  </a:lnTo>
                  <a:close/>
                  <a:moveTo>
                    <a:pt x="1713" y="506"/>
                  </a:moveTo>
                  <a:lnTo>
                    <a:pt x="1707" y="500"/>
                  </a:lnTo>
                  <a:lnTo>
                    <a:pt x="1707" y="493"/>
                  </a:lnTo>
                  <a:lnTo>
                    <a:pt x="1700" y="493"/>
                  </a:lnTo>
                  <a:lnTo>
                    <a:pt x="1693" y="493"/>
                  </a:lnTo>
                  <a:lnTo>
                    <a:pt x="1687" y="500"/>
                  </a:lnTo>
                  <a:lnTo>
                    <a:pt x="1687" y="500"/>
                  </a:lnTo>
                  <a:lnTo>
                    <a:pt x="1687" y="506"/>
                  </a:lnTo>
                  <a:lnTo>
                    <a:pt x="1687" y="513"/>
                  </a:lnTo>
                  <a:lnTo>
                    <a:pt x="1693" y="520"/>
                  </a:lnTo>
                  <a:lnTo>
                    <a:pt x="1700" y="520"/>
                  </a:lnTo>
                  <a:lnTo>
                    <a:pt x="1700" y="520"/>
                  </a:lnTo>
                  <a:lnTo>
                    <a:pt x="1707" y="513"/>
                  </a:lnTo>
                  <a:lnTo>
                    <a:pt x="1707" y="513"/>
                  </a:lnTo>
                  <a:lnTo>
                    <a:pt x="1713" y="506"/>
                  </a:lnTo>
                  <a:close/>
                  <a:moveTo>
                    <a:pt x="1812" y="506"/>
                  </a:moveTo>
                  <a:lnTo>
                    <a:pt x="1812" y="500"/>
                  </a:lnTo>
                  <a:lnTo>
                    <a:pt x="1812" y="500"/>
                  </a:lnTo>
                  <a:lnTo>
                    <a:pt x="1805" y="500"/>
                  </a:lnTo>
                  <a:lnTo>
                    <a:pt x="1805" y="500"/>
                  </a:lnTo>
                  <a:lnTo>
                    <a:pt x="1805" y="500"/>
                  </a:lnTo>
                  <a:lnTo>
                    <a:pt x="1799" y="500"/>
                  </a:lnTo>
                  <a:lnTo>
                    <a:pt x="1799" y="506"/>
                  </a:lnTo>
                  <a:lnTo>
                    <a:pt x="1799" y="506"/>
                  </a:lnTo>
                  <a:lnTo>
                    <a:pt x="1805" y="506"/>
                  </a:lnTo>
                  <a:lnTo>
                    <a:pt x="1805" y="506"/>
                  </a:lnTo>
                  <a:lnTo>
                    <a:pt x="1805" y="506"/>
                  </a:lnTo>
                  <a:lnTo>
                    <a:pt x="1812" y="506"/>
                  </a:lnTo>
                  <a:lnTo>
                    <a:pt x="1812" y="506"/>
                  </a:lnTo>
                  <a:lnTo>
                    <a:pt x="1812" y="506"/>
                  </a:lnTo>
                  <a:close/>
                  <a:moveTo>
                    <a:pt x="1423" y="474"/>
                  </a:moveTo>
                  <a:lnTo>
                    <a:pt x="1430" y="474"/>
                  </a:lnTo>
                  <a:lnTo>
                    <a:pt x="1436" y="467"/>
                  </a:lnTo>
                  <a:lnTo>
                    <a:pt x="1436" y="460"/>
                  </a:lnTo>
                  <a:lnTo>
                    <a:pt x="1443" y="454"/>
                  </a:lnTo>
                  <a:lnTo>
                    <a:pt x="1450" y="454"/>
                  </a:lnTo>
                  <a:lnTo>
                    <a:pt x="1456" y="447"/>
                  </a:lnTo>
                  <a:lnTo>
                    <a:pt x="1456" y="441"/>
                  </a:lnTo>
                  <a:lnTo>
                    <a:pt x="1456" y="434"/>
                  </a:lnTo>
                  <a:lnTo>
                    <a:pt x="1450" y="427"/>
                  </a:lnTo>
                  <a:lnTo>
                    <a:pt x="1443" y="427"/>
                  </a:lnTo>
                  <a:lnTo>
                    <a:pt x="1436" y="427"/>
                  </a:lnTo>
                  <a:lnTo>
                    <a:pt x="1430" y="427"/>
                  </a:lnTo>
                  <a:lnTo>
                    <a:pt x="1417" y="427"/>
                  </a:lnTo>
                  <a:lnTo>
                    <a:pt x="1410" y="427"/>
                  </a:lnTo>
                  <a:lnTo>
                    <a:pt x="1397" y="434"/>
                  </a:lnTo>
                  <a:lnTo>
                    <a:pt x="1390" y="434"/>
                  </a:lnTo>
                  <a:lnTo>
                    <a:pt x="1384" y="434"/>
                  </a:lnTo>
                  <a:lnTo>
                    <a:pt x="1384" y="441"/>
                  </a:lnTo>
                  <a:lnTo>
                    <a:pt x="1377" y="447"/>
                  </a:lnTo>
                  <a:lnTo>
                    <a:pt x="1377" y="454"/>
                  </a:lnTo>
                  <a:lnTo>
                    <a:pt x="1377" y="460"/>
                  </a:lnTo>
                  <a:lnTo>
                    <a:pt x="1377" y="467"/>
                  </a:lnTo>
                  <a:lnTo>
                    <a:pt x="1377" y="467"/>
                  </a:lnTo>
                  <a:lnTo>
                    <a:pt x="1377" y="474"/>
                  </a:lnTo>
                  <a:lnTo>
                    <a:pt x="1384" y="480"/>
                  </a:lnTo>
                  <a:lnTo>
                    <a:pt x="1390" y="487"/>
                  </a:lnTo>
                  <a:lnTo>
                    <a:pt x="1397" y="487"/>
                  </a:lnTo>
                  <a:lnTo>
                    <a:pt x="1403" y="493"/>
                  </a:lnTo>
                  <a:lnTo>
                    <a:pt x="1410" y="487"/>
                  </a:lnTo>
                  <a:lnTo>
                    <a:pt x="1423" y="487"/>
                  </a:lnTo>
                  <a:lnTo>
                    <a:pt x="1423" y="480"/>
                  </a:lnTo>
                  <a:lnTo>
                    <a:pt x="1423" y="474"/>
                  </a:lnTo>
                  <a:close/>
                  <a:moveTo>
                    <a:pt x="1746" y="474"/>
                  </a:moveTo>
                  <a:lnTo>
                    <a:pt x="1739" y="474"/>
                  </a:lnTo>
                  <a:lnTo>
                    <a:pt x="1733" y="467"/>
                  </a:lnTo>
                  <a:lnTo>
                    <a:pt x="1733" y="467"/>
                  </a:lnTo>
                  <a:lnTo>
                    <a:pt x="1726" y="467"/>
                  </a:lnTo>
                  <a:lnTo>
                    <a:pt x="1720" y="467"/>
                  </a:lnTo>
                  <a:lnTo>
                    <a:pt x="1720" y="474"/>
                  </a:lnTo>
                  <a:lnTo>
                    <a:pt x="1720" y="480"/>
                  </a:lnTo>
                  <a:lnTo>
                    <a:pt x="1720" y="480"/>
                  </a:lnTo>
                  <a:lnTo>
                    <a:pt x="1726" y="487"/>
                  </a:lnTo>
                  <a:lnTo>
                    <a:pt x="1726" y="487"/>
                  </a:lnTo>
                  <a:lnTo>
                    <a:pt x="1733" y="487"/>
                  </a:lnTo>
                  <a:lnTo>
                    <a:pt x="1733" y="487"/>
                  </a:lnTo>
                  <a:lnTo>
                    <a:pt x="1739" y="480"/>
                  </a:lnTo>
                  <a:lnTo>
                    <a:pt x="1746" y="474"/>
                  </a:lnTo>
                  <a:close/>
                  <a:moveTo>
                    <a:pt x="1311" y="447"/>
                  </a:moveTo>
                  <a:lnTo>
                    <a:pt x="1311" y="447"/>
                  </a:lnTo>
                  <a:lnTo>
                    <a:pt x="1311" y="447"/>
                  </a:lnTo>
                  <a:lnTo>
                    <a:pt x="1311" y="447"/>
                  </a:lnTo>
                  <a:lnTo>
                    <a:pt x="1311" y="447"/>
                  </a:lnTo>
                  <a:lnTo>
                    <a:pt x="1311" y="447"/>
                  </a:lnTo>
                  <a:lnTo>
                    <a:pt x="1311" y="447"/>
                  </a:lnTo>
                  <a:lnTo>
                    <a:pt x="1311" y="447"/>
                  </a:lnTo>
                  <a:lnTo>
                    <a:pt x="1311" y="447"/>
                  </a:lnTo>
                  <a:lnTo>
                    <a:pt x="1311" y="447"/>
                  </a:lnTo>
                  <a:lnTo>
                    <a:pt x="1311" y="447"/>
                  </a:lnTo>
                  <a:lnTo>
                    <a:pt x="1311" y="447"/>
                  </a:lnTo>
                  <a:lnTo>
                    <a:pt x="1311" y="447"/>
                  </a:lnTo>
                  <a:lnTo>
                    <a:pt x="1311" y="447"/>
                  </a:lnTo>
                  <a:lnTo>
                    <a:pt x="1311" y="447"/>
                  </a:lnTo>
                  <a:close/>
                  <a:moveTo>
                    <a:pt x="1707" y="447"/>
                  </a:moveTo>
                  <a:lnTo>
                    <a:pt x="1707" y="447"/>
                  </a:lnTo>
                  <a:lnTo>
                    <a:pt x="1700" y="441"/>
                  </a:lnTo>
                  <a:lnTo>
                    <a:pt x="1700" y="441"/>
                  </a:lnTo>
                  <a:lnTo>
                    <a:pt x="1700" y="441"/>
                  </a:lnTo>
                  <a:lnTo>
                    <a:pt x="1693" y="447"/>
                  </a:lnTo>
                  <a:lnTo>
                    <a:pt x="1693" y="447"/>
                  </a:lnTo>
                  <a:lnTo>
                    <a:pt x="1693" y="447"/>
                  </a:lnTo>
                  <a:lnTo>
                    <a:pt x="1693" y="454"/>
                  </a:lnTo>
                  <a:lnTo>
                    <a:pt x="1700" y="454"/>
                  </a:lnTo>
                  <a:lnTo>
                    <a:pt x="1700" y="454"/>
                  </a:lnTo>
                  <a:lnTo>
                    <a:pt x="1700" y="454"/>
                  </a:lnTo>
                  <a:lnTo>
                    <a:pt x="1700" y="454"/>
                  </a:lnTo>
                  <a:lnTo>
                    <a:pt x="1707" y="454"/>
                  </a:lnTo>
                  <a:lnTo>
                    <a:pt x="1707" y="447"/>
                  </a:lnTo>
                  <a:close/>
                  <a:moveTo>
                    <a:pt x="1845" y="421"/>
                  </a:moveTo>
                  <a:lnTo>
                    <a:pt x="1838" y="421"/>
                  </a:lnTo>
                  <a:lnTo>
                    <a:pt x="1838" y="414"/>
                  </a:lnTo>
                  <a:lnTo>
                    <a:pt x="1832" y="414"/>
                  </a:lnTo>
                  <a:lnTo>
                    <a:pt x="1825" y="414"/>
                  </a:lnTo>
                  <a:lnTo>
                    <a:pt x="1819" y="414"/>
                  </a:lnTo>
                  <a:lnTo>
                    <a:pt x="1812" y="421"/>
                  </a:lnTo>
                  <a:lnTo>
                    <a:pt x="1805" y="421"/>
                  </a:lnTo>
                  <a:lnTo>
                    <a:pt x="1805" y="421"/>
                  </a:lnTo>
                  <a:lnTo>
                    <a:pt x="1812" y="421"/>
                  </a:lnTo>
                  <a:lnTo>
                    <a:pt x="1819" y="421"/>
                  </a:lnTo>
                  <a:lnTo>
                    <a:pt x="1825" y="427"/>
                  </a:lnTo>
                  <a:lnTo>
                    <a:pt x="1832" y="427"/>
                  </a:lnTo>
                  <a:lnTo>
                    <a:pt x="1832" y="434"/>
                  </a:lnTo>
                  <a:lnTo>
                    <a:pt x="1838" y="434"/>
                  </a:lnTo>
                  <a:lnTo>
                    <a:pt x="1838" y="434"/>
                  </a:lnTo>
                  <a:lnTo>
                    <a:pt x="1838" y="434"/>
                  </a:lnTo>
                  <a:lnTo>
                    <a:pt x="1845" y="434"/>
                  </a:lnTo>
                  <a:lnTo>
                    <a:pt x="1845" y="427"/>
                  </a:lnTo>
                  <a:lnTo>
                    <a:pt x="1845" y="427"/>
                  </a:lnTo>
                  <a:lnTo>
                    <a:pt x="1845" y="421"/>
                  </a:lnTo>
                  <a:close/>
                  <a:moveTo>
                    <a:pt x="211" y="395"/>
                  </a:moveTo>
                  <a:lnTo>
                    <a:pt x="198" y="395"/>
                  </a:lnTo>
                  <a:lnTo>
                    <a:pt x="198" y="408"/>
                  </a:lnTo>
                  <a:lnTo>
                    <a:pt x="211" y="395"/>
                  </a:lnTo>
                  <a:close/>
                  <a:moveTo>
                    <a:pt x="1680" y="395"/>
                  </a:moveTo>
                  <a:lnTo>
                    <a:pt x="1674" y="388"/>
                  </a:lnTo>
                  <a:lnTo>
                    <a:pt x="1674" y="388"/>
                  </a:lnTo>
                  <a:lnTo>
                    <a:pt x="1674" y="388"/>
                  </a:lnTo>
                  <a:lnTo>
                    <a:pt x="1667" y="388"/>
                  </a:lnTo>
                  <a:lnTo>
                    <a:pt x="1667" y="395"/>
                  </a:lnTo>
                  <a:lnTo>
                    <a:pt x="1667" y="395"/>
                  </a:lnTo>
                  <a:lnTo>
                    <a:pt x="1667" y="401"/>
                  </a:lnTo>
                  <a:lnTo>
                    <a:pt x="1674" y="401"/>
                  </a:lnTo>
                  <a:lnTo>
                    <a:pt x="1674" y="401"/>
                  </a:lnTo>
                  <a:lnTo>
                    <a:pt x="1674" y="401"/>
                  </a:lnTo>
                  <a:lnTo>
                    <a:pt x="1674" y="401"/>
                  </a:lnTo>
                  <a:lnTo>
                    <a:pt x="1674" y="401"/>
                  </a:lnTo>
                  <a:lnTo>
                    <a:pt x="1680" y="395"/>
                  </a:lnTo>
                  <a:lnTo>
                    <a:pt x="1680" y="395"/>
                  </a:lnTo>
                  <a:close/>
                  <a:moveTo>
                    <a:pt x="1015" y="309"/>
                  </a:moveTo>
                  <a:lnTo>
                    <a:pt x="1015" y="302"/>
                  </a:lnTo>
                  <a:lnTo>
                    <a:pt x="1021" y="296"/>
                  </a:lnTo>
                  <a:lnTo>
                    <a:pt x="1028" y="296"/>
                  </a:lnTo>
                  <a:lnTo>
                    <a:pt x="1034" y="289"/>
                  </a:lnTo>
                  <a:lnTo>
                    <a:pt x="1041" y="289"/>
                  </a:lnTo>
                  <a:lnTo>
                    <a:pt x="1048" y="283"/>
                  </a:lnTo>
                  <a:lnTo>
                    <a:pt x="1054" y="283"/>
                  </a:lnTo>
                  <a:lnTo>
                    <a:pt x="1067" y="283"/>
                  </a:lnTo>
                  <a:lnTo>
                    <a:pt x="1074" y="283"/>
                  </a:lnTo>
                  <a:lnTo>
                    <a:pt x="1081" y="283"/>
                  </a:lnTo>
                  <a:lnTo>
                    <a:pt x="1087" y="283"/>
                  </a:lnTo>
                  <a:lnTo>
                    <a:pt x="1094" y="276"/>
                  </a:lnTo>
                  <a:lnTo>
                    <a:pt x="1100" y="269"/>
                  </a:lnTo>
                  <a:lnTo>
                    <a:pt x="1100" y="263"/>
                  </a:lnTo>
                  <a:lnTo>
                    <a:pt x="1107" y="263"/>
                  </a:lnTo>
                  <a:lnTo>
                    <a:pt x="1113" y="256"/>
                  </a:lnTo>
                  <a:lnTo>
                    <a:pt x="1120" y="256"/>
                  </a:lnTo>
                  <a:lnTo>
                    <a:pt x="1133" y="256"/>
                  </a:lnTo>
                  <a:lnTo>
                    <a:pt x="1140" y="256"/>
                  </a:lnTo>
                  <a:lnTo>
                    <a:pt x="1146" y="250"/>
                  </a:lnTo>
                  <a:lnTo>
                    <a:pt x="1153" y="250"/>
                  </a:lnTo>
                  <a:lnTo>
                    <a:pt x="1153" y="243"/>
                  </a:lnTo>
                  <a:lnTo>
                    <a:pt x="1160" y="237"/>
                  </a:lnTo>
                  <a:lnTo>
                    <a:pt x="1160" y="230"/>
                  </a:lnTo>
                  <a:lnTo>
                    <a:pt x="1166" y="223"/>
                  </a:lnTo>
                  <a:lnTo>
                    <a:pt x="1173" y="223"/>
                  </a:lnTo>
                  <a:lnTo>
                    <a:pt x="1179" y="217"/>
                  </a:lnTo>
                  <a:lnTo>
                    <a:pt x="1186" y="217"/>
                  </a:lnTo>
                  <a:lnTo>
                    <a:pt x="1193" y="210"/>
                  </a:lnTo>
                  <a:lnTo>
                    <a:pt x="1199" y="210"/>
                  </a:lnTo>
                  <a:lnTo>
                    <a:pt x="1206" y="210"/>
                  </a:lnTo>
                  <a:lnTo>
                    <a:pt x="1212" y="210"/>
                  </a:lnTo>
                  <a:lnTo>
                    <a:pt x="1226" y="210"/>
                  </a:lnTo>
                  <a:lnTo>
                    <a:pt x="1226" y="204"/>
                  </a:lnTo>
                  <a:lnTo>
                    <a:pt x="1232" y="204"/>
                  </a:lnTo>
                  <a:lnTo>
                    <a:pt x="1232" y="197"/>
                  </a:lnTo>
                  <a:lnTo>
                    <a:pt x="1232" y="190"/>
                  </a:lnTo>
                  <a:lnTo>
                    <a:pt x="1239" y="184"/>
                  </a:lnTo>
                  <a:lnTo>
                    <a:pt x="1239" y="177"/>
                  </a:lnTo>
                  <a:lnTo>
                    <a:pt x="1245" y="177"/>
                  </a:lnTo>
                  <a:lnTo>
                    <a:pt x="1258" y="171"/>
                  </a:lnTo>
                  <a:lnTo>
                    <a:pt x="1265" y="171"/>
                  </a:lnTo>
                  <a:lnTo>
                    <a:pt x="1272" y="171"/>
                  </a:lnTo>
                  <a:lnTo>
                    <a:pt x="1278" y="171"/>
                  </a:lnTo>
                  <a:lnTo>
                    <a:pt x="1278" y="164"/>
                  </a:lnTo>
                  <a:lnTo>
                    <a:pt x="1278" y="158"/>
                  </a:lnTo>
                  <a:lnTo>
                    <a:pt x="1272" y="151"/>
                  </a:lnTo>
                  <a:lnTo>
                    <a:pt x="1265" y="144"/>
                  </a:lnTo>
                  <a:lnTo>
                    <a:pt x="1258" y="144"/>
                  </a:lnTo>
                  <a:lnTo>
                    <a:pt x="1252" y="144"/>
                  </a:lnTo>
                  <a:lnTo>
                    <a:pt x="1245" y="144"/>
                  </a:lnTo>
                  <a:lnTo>
                    <a:pt x="1239" y="151"/>
                  </a:lnTo>
                  <a:lnTo>
                    <a:pt x="1232" y="151"/>
                  </a:lnTo>
                  <a:lnTo>
                    <a:pt x="1226" y="158"/>
                  </a:lnTo>
                  <a:lnTo>
                    <a:pt x="1219" y="158"/>
                  </a:lnTo>
                  <a:lnTo>
                    <a:pt x="1206" y="158"/>
                  </a:lnTo>
                  <a:lnTo>
                    <a:pt x="1199" y="164"/>
                  </a:lnTo>
                  <a:lnTo>
                    <a:pt x="1193" y="158"/>
                  </a:lnTo>
                  <a:lnTo>
                    <a:pt x="1179" y="158"/>
                  </a:lnTo>
                  <a:lnTo>
                    <a:pt x="1173" y="164"/>
                  </a:lnTo>
                  <a:lnTo>
                    <a:pt x="1166" y="164"/>
                  </a:lnTo>
                  <a:lnTo>
                    <a:pt x="1166" y="171"/>
                  </a:lnTo>
                  <a:lnTo>
                    <a:pt x="1160" y="177"/>
                  </a:lnTo>
                  <a:lnTo>
                    <a:pt x="1153" y="177"/>
                  </a:lnTo>
                  <a:lnTo>
                    <a:pt x="1146" y="184"/>
                  </a:lnTo>
                  <a:lnTo>
                    <a:pt x="1133" y="184"/>
                  </a:lnTo>
                  <a:lnTo>
                    <a:pt x="1127" y="184"/>
                  </a:lnTo>
                  <a:lnTo>
                    <a:pt x="1120" y="190"/>
                  </a:lnTo>
                  <a:lnTo>
                    <a:pt x="1113" y="190"/>
                  </a:lnTo>
                  <a:lnTo>
                    <a:pt x="1100" y="190"/>
                  </a:lnTo>
                  <a:lnTo>
                    <a:pt x="1094" y="190"/>
                  </a:lnTo>
                  <a:lnTo>
                    <a:pt x="1087" y="190"/>
                  </a:lnTo>
                  <a:lnTo>
                    <a:pt x="1087" y="197"/>
                  </a:lnTo>
                  <a:lnTo>
                    <a:pt x="1087" y="204"/>
                  </a:lnTo>
                  <a:lnTo>
                    <a:pt x="1087" y="210"/>
                  </a:lnTo>
                  <a:lnTo>
                    <a:pt x="1087" y="210"/>
                  </a:lnTo>
                  <a:lnTo>
                    <a:pt x="1094" y="217"/>
                  </a:lnTo>
                  <a:lnTo>
                    <a:pt x="1100" y="223"/>
                  </a:lnTo>
                  <a:lnTo>
                    <a:pt x="1094" y="230"/>
                  </a:lnTo>
                  <a:lnTo>
                    <a:pt x="1087" y="230"/>
                  </a:lnTo>
                  <a:lnTo>
                    <a:pt x="1081" y="237"/>
                  </a:lnTo>
                  <a:lnTo>
                    <a:pt x="1074" y="237"/>
                  </a:lnTo>
                  <a:lnTo>
                    <a:pt x="1067" y="243"/>
                  </a:lnTo>
                  <a:lnTo>
                    <a:pt x="1061" y="243"/>
                  </a:lnTo>
                  <a:lnTo>
                    <a:pt x="1054" y="250"/>
                  </a:lnTo>
                  <a:lnTo>
                    <a:pt x="1048" y="250"/>
                  </a:lnTo>
                  <a:lnTo>
                    <a:pt x="1041" y="256"/>
                  </a:lnTo>
                  <a:lnTo>
                    <a:pt x="1034" y="256"/>
                  </a:lnTo>
                  <a:lnTo>
                    <a:pt x="1028" y="263"/>
                  </a:lnTo>
                  <a:lnTo>
                    <a:pt x="1021" y="263"/>
                  </a:lnTo>
                  <a:lnTo>
                    <a:pt x="1015" y="269"/>
                  </a:lnTo>
                  <a:lnTo>
                    <a:pt x="1008" y="276"/>
                  </a:lnTo>
                  <a:lnTo>
                    <a:pt x="1001" y="276"/>
                  </a:lnTo>
                  <a:lnTo>
                    <a:pt x="995" y="283"/>
                  </a:lnTo>
                  <a:lnTo>
                    <a:pt x="988" y="283"/>
                  </a:lnTo>
                  <a:lnTo>
                    <a:pt x="982" y="289"/>
                  </a:lnTo>
                  <a:lnTo>
                    <a:pt x="982" y="296"/>
                  </a:lnTo>
                  <a:lnTo>
                    <a:pt x="975" y="302"/>
                  </a:lnTo>
                  <a:lnTo>
                    <a:pt x="982" y="309"/>
                  </a:lnTo>
                  <a:lnTo>
                    <a:pt x="982" y="309"/>
                  </a:lnTo>
                  <a:lnTo>
                    <a:pt x="995" y="316"/>
                  </a:lnTo>
                  <a:lnTo>
                    <a:pt x="1001" y="316"/>
                  </a:lnTo>
                  <a:lnTo>
                    <a:pt x="1008" y="316"/>
                  </a:lnTo>
                  <a:lnTo>
                    <a:pt x="1015" y="309"/>
                  </a:lnTo>
                  <a:close/>
                  <a:moveTo>
                    <a:pt x="2286" y="171"/>
                  </a:moveTo>
                  <a:lnTo>
                    <a:pt x="2286" y="164"/>
                  </a:lnTo>
                  <a:lnTo>
                    <a:pt x="2280" y="164"/>
                  </a:lnTo>
                  <a:lnTo>
                    <a:pt x="2273" y="164"/>
                  </a:lnTo>
                  <a:lnTo>
                    <a:pt x="2267" y="164"/>
                  </a:lnTo>
                  <a:lnTo>
                    <a:pt x="2267" y="158"/>
                  </a:lnTo>
                  <a:lnTo>
                    <a:pt x="2260" y="158"/>
                  </a:lnTo>
                  <a:lnTo>
                    <a:pt x="2253" y="158"/>
                  </a:lnTo>
                  <a:lnTo>
                    <a:pt x="2247" y="158"/>
                  </a:lnTo>
                  <a:lnTo>
                    <a:pt x="2240" y="158"/>
                  </a:lnTo>
                  <a:lnTo>
                    <a:pt x="2234" y="158"/>
                  </a:lnTo>
                  <a:lnTo>
                    <a:pt x="2227" y="158"/>
                  </a:lnTo>
                  <a:lnTo>
                    <a:pt x="2227" y="158"/>
                  </a:lnTo>
                  <a:lnTo>
                    <a:pt x="2227" y="164"/>
                  </a:lnTo>
                  <a:lnTo>
                    <a:pt x="2227" y="171"/>
                  </a:lnTo>
                  <a:lnTo>
                    <a:pt x="2227" y="171"/>
                  </a:lnTo>
                  <a:lnTo>
                    <a:pt x="2234" y="171"/>
                  </a:lnTo>
                  <a:lnTo>
                    <a:pt x="2240" y="177"/>
                  </a:lnTo>
                  <a:lnTo>
                    <a:pt x="2240" y="177"/>
                  </a:lnTo>
                  <a:lnTo>
                    <a:pt x="2247" y="177"/>
                  </a:lnTo>
                  <a:lnTo>
                    <a:pt x="2253" y="177"/>
                  </a:lnTo>
                  <a:lnTo>
                    <a:pt x="2260" y="171"/>
                  </a:lnTo>
                  <a:lnTo>
                    <a:pt x="2267" y="171"/>
                  </a:lnTo>
                  <a:lnTo>
                    <a:pt x="2273" y="171"/>
                  </a:lnTo>
                  <a:lnTo>
                    <a:pt x="2280" y="171"/>
                  </a:lnTo>
                  <a:lnTo>
                    <a:pt x="2280" y="171"/>
                  </a:lnTo>
                  <a:lnTo>
                    <a:pt x="2286" y="171"/>
                  </a:lnTo>
                  <a:close/>
                  <a:moveTo>
                    <a:pt x="1344" y="138"/>
                  </a:moveTo>
                  <a:lnTo>
                    <a:pt x="1344" y="131"/>
                  </a:lnTo>
                  <a:lnTo>
                    <a:pt x="1338" y="131"/>
                  </a:lnTo>
                  <a:lnTo>
                    <a:pt x="1331" y="125"/>
                  </a:lnTo>
                  <a:lnTo>
                    <a:pt x="1324" y="125"/>
                  </a:lnTo>
                  <a:lnTo>
                    <a:pt x="1318" y="131"/>
                  </a:lnTo>
                  <a:lnTo>
                    <a:pt x="1305" y="131"/>
                  </a:lnTo>
                  <a:lnTo>
                    <a:pt x="1298" y="131"/>
                  </a:lnTo>
                  <a:lnTo>
                    <a:pt x="1291" y="131"/>
                  </a:lnTo>
                  <a:lnTo>
                    <a:pt x="1278" y="131"/>
                  </a:lnTo>
                  <a:lnTo>
                    <a:pt x="1272" y="131"/>
                  </a:lnTo>
                  <a:lnTo>
                    <a:pt x="1265" y="138"/>
                  </a:lnTo>
                  <a:lnTo>
                    <a:pt x="1258" y="138"/>
                  </a:lnTo>
                  <a:lnTo>
                    <a:pt x="1258" y="144"/>
                  </a:lnTo>
                  <a:lnTo>
                    <a:pt x="1258" y="151"/>
                  </a:lnTo>
                  <a:lnTo>
                    <a:pt x="1265" y="158"/>
                  </a:lnTo>
                  <a:lnTo>
                    <a:pt x="1272" y="158"/>
                  </a:lnTo>
                  <a:lnTo>
                    <a:pt x="1278" y="164"/>
                  </a:lnTo>
                  <a:lnTo>
                    <a:pt x="1291" y="164"/>
                  </a:lnTo>
                  <a:lnTo>
                    <a:pt x="1298" y="164"/>
                  </a:lnTo>
                  <a:lnTo>
                    <a:pt x="1305" y="164"/>
                  </a:lnTo>
                  <a:lnTo>
                    <a:pt x="1311" y="164"/>
                  </a:lnTo>
                  <a:lnTo>
                    <a:pt x="1318" y="158"/>
                  </a:lnTo>
                  <a:lnTo>
                    <a:pt x="1324" y="151"/>
                  </a:lnTo>
                  <a:lnTo>
                    <a:pt x="1331" y="144"/>
                  </a:lnTo>
                  <a:lnTo>
                    <a:pt x="1338" y="144"/>
                  </a:lnTo>
                  <a:lnTo>
                    <a:pt x="1344" y="138"/>
                  </a:lnTo>
                  <a:close/>
                  <a:moveTo>
                    <a:pt x="2161" y="138"/>
                  </a:moveTo>
                  <a:lnTo>
                    <a:pt x="2155" y="138"/>
                  </a:lnTo>
                  <a:lnTo>
                    <a:pt x="2155" y="138"/>
                  </a:lnTo>
                  <a:lnTo>
                    <a:pt x="2155" y="138"/>
                  </a:lnTo>
                  <a:lnTo>
                    <a:pt x="2148" y="138"/>
                  </a:lnTo>
                  <a:lnTo>
                    <a:pt x="2148" y="138"/>
                  </a:lnTo>
                  <a:lnTo>
                    <a:pt x="2141" y="138"/>
                  </a:lnTo>
                  <a:lnTo>
                    <a:pt x="2141" y="138"/>
                  </a:lnTo>
                  <a:lnTo>
                    <a:pt x="2141" y="138"/>
                  </a:lnTo>
                  <a:lnTo>
                    <a:pt x="2148" y="138"/>
                  </a:lnTo>
                  <a:lnTo>
                    <a:pt x="2148" y="138"/>
                  </a:lnTo>
                  <a:lnTo>
                    <a:pt x="2155" y="138"/>
                  </a:lnTo>
                  <a:lnTo>
                    <a:pt x="2155" y="138"/>
                  </a:lnTo>
                  <a:lnTo>
                    <a:pt x="2155" y="138"/>
                  </a:lnTo>
                  <a:lnTo>
                    <a:pt x="2161" y="138"/>
                  </a:lnTo>
                  <a:close/>
                  <a:moveTo>
                    <a:pt x="1410" y="111"/>
                  </a:moveTo>
                  <a:lnTo>
                    <a:pt x="1403" y="111"/>
                  </a:lnTo>
                  <a:lnTo>
                    <a:pt x="1397" y="111"/>
                  </a:lnTo>
                  <a:lnTo>
                    <a:pt x="1390" y="105"/>
                  </a:lnTo>
                  <a:lnTo>
                    <a:pt x="1384" y="105"/>
                  </a:lnTo>
                  <a:lnTo>
                    <a:pt x="1377" y="105"/>
                  </a:lnTo>
                  <a:lnTo>
                    <a:pt x="1370" y="98"/>
                  </a:lnTo>
                  <a:lnTo>
                    <a:pt x="1364" y="98"/>
                  </a:lnTo>
                  <a:lnTo>
                    <a:pt x="1357" y="105"/>
                  </a:lnTo>
                  <a:lnTo>
                    <a:pt x="1357" y="105"/>
                  </a:lnTo>
                  <a:lnTo>
                    <a:pt x="1351" y="111"/>
                  </a:lnTo>
                  <a:lnTo>
                    <a:pt x="1351" y="111"/>
                  </a:lnTo>
                  <a:lnTo>
                    <a:pt x="1357" y="118"/>
                  </a:lnTo>
                  <a:lnTo>
                    <a:pt x="1364" y="118"/>
                  </a:lnTo>
                  <a:lnTo>
                    <a:pt x="1370" y="118"/>
                  </a:lnTo>
                  <a:lnTo>
                    <a:pt x="1377" y="118"/>
                  </a:lnTo>
                  <a:lnTo>
                    <a:pt x="1384" y="118"/>
                  </a:lnTo>
                  <a:lnTo>
                    <a:pt x="1390" y="118"/>
                  </a:lnTo>
                  <a:lnTo>
                    <a:pt x="1397" y="118"/>
                  </a:lnTo>
                  <a:lnTo>
                    <a:pt x="1403" y="118"/>
                  </a:lnTo>
                  <a:lnTo>
                    <a:pt x="1410" y="111"/>
                  </a:lnTo>
                  <a:close/>
                </a:path>
              </a:pathLst>
            </a:custGeom>
            <a:solidFill>
              <a:srgbClr val="9fd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2" name=""/>
            <p:cNvSpPr/>
            <p:nvPr/>
          </p:nvSpPr>
          <p:spPr>
            <a:xfrm>
              <a:off x="2295360" y="2711520"/>
              <a:ext cx="4289760" cy="2747880"/>
            </a:xfrm>
            <a:custGeom>
              <a:avLst/>
              <a:gdLst/>
              <a:ahLst/>
              <a:rect l="l" t="t" r="r" b="b"/>
              <a:pathLst>
                <a:path w="2702" h="1731">
                  <a:moveTo>
                    <a:pt x="2339" y="1731"/>
                  </a:moveTo>
                  <a:lnTo>
                    <a:pt x="2365" y="1705"/>
                  </a:lnTo>
                  <a:lnTo>
                    <a:pt x="2398" y="1705"/>
                  </a:lnTo>
                  <a:lnTo>
                    <a:pt x="2425" y="1705"/>
                  </a:lnTo>
                  <a:lnTo>
                    <a:pt x="2451" y="1705"/>
                  </a:lnTo>
                  <a:lnTo>
                    <a:pt x="2477" y="1705"/>
                  </a:lnTo>
                  <a:lnTo>
                    <a:pt x="2510" y="1705"/>
                  </a:lnTo>
                  <a:lnTo>
                    <a:pt x="2537" y="1705"/>
                  </a:lnTo>
                  <a:lnTo>
                    <a:pt x="2563" y="1678"/>
                  </a:lnTo>
                  <a:lnTo>
                    <a:pt x="2563" y="1652"/>
                  </a:lnTo>
                  <a:lnTo>
                    <a:pt x="2563" y="1619"/>
                  </a:lnTo>
                  <a:lnTo>
                    <a:pt x="2563" y="1593"/>
                  </a:lnTo>
                  <a:lnTo>
                    <a:pt x="2590" y="1566"/>
                  </a:lnTo>
                  <a:lnTo>
                    <a:pt x="2590" y="1540"/>
                  </a:lnTo>
                  <a:lnTo>
                    <a:pt x="2590" y="1507"/>
                  </a:lnTo>
                  <a:lnTo>
                    <a:pt x="2590" y="1481"/>
                  </a:lnTo>
                  <a:lnTo>
                    <a:pt x="2616" y="1455"/>
                  </a:lnTo>
                  <a:lnTo>
                    <a:pt x="2616" y="1428"/>
                  </a:lnTo>
                  <a:lnTo>
                    <a:pt x="2616" y="1395"/>
                  </a:lnTo>
                  <a:lnTo>
                    <a:pt x="2616" y="1369"/>
                  </a:lnTo>
                  <a:lnTo>
                    <a:pt x="2649" y="1343"/>
                  </a:lnTo>
                  <a:lnTo>
                    <a:pt x="2649" y="1316"/>
                  </a:lnTo>
                  <a:lnTo>
                    <a:pt x="2649" y="1283"/>
                  </a:lnTo>
                  <a:lnTo>
                    <a:pt x="2649" y="1257"/>
                  </a:lnTo>
                  <a:lnTo>
                    <a:pt x="2675" y="1231"/>
                  </a:lnTo>
                  <a:lnTo>
                    <a:pt x="2675" y="1204"/>
                  </a:lnTo>
                  <a:lnTo>
                    <a:pt x="2675" y="1171"/>
                  </a:lnTo>
                  <a:lnTo>
                    <a:pt x="2675" y="1145"/>
                  </a:lnTo>
                  <a:lnTo>
                    <a:pt x="2702" y="1119"/>
                  </a:lnTo>
                  <a:lnTo>
                    <a:pt x="2702" y="1092"/>
                  </a:lnTo>
                  <a:lnTo>
                    <a:pt x="2702" y="1060"/>
                  </a:lnTo>
                  <a:lnTo>
                    <a:pt x="2702" y="1033"/>
                  </a:lnTo>
                  <a:lnTo>
                    <a:pt x="2702" y="1007"/>
                  </a:lnTo>
                  <a:lnTo>
                    <a:pt x="2702" y="981"/>
                  </a:lnTo>
                  <a:lnTo>
                    <a:pt x="2702" y="948"/>
                  </a:lnTo>
                  <a:lnTo>
                    <a:pt x="2702" y="921"/>
                  </a:lnTo>
                  <a:lnTo>
                    <a:pt x="2702" y="895"/>
                  </a:lnTo>
                  <a:lnTo>
                    <a:pt x="2702" y="869"/>
                  </a:lnTo>
                  <a:lnTo>
                    <a:pt x="2702" y="842"/>
                  </a:lnTo>
                  <a:lnTo>
                    <a:pt x="2702" y="809"/>
                  </a:lnTo>
                  <a:lnTo>
                    <a:pt x="2702" y="783"/>
                  </a:lnTo>
                  <a:lnTo>
                    <a:pt x="2702" y="757"/>
                  </a:lnTo>
                  <a:lnTo>
                    <a:pt x="2702" y="730"/>
                  </a:lnTo>
                  <a:lnTo>
                    <a:pt x="2702" y="697"/>
                  </a:lnTo>
                  <a:lnTo>
                    <a:pt x="2702" y="671"/>
                  </a:lnTo>
                  <a:lnTo>
                    <a:pt x="2702" y="645"/>
                  </a:lnTo>
                  <a:lnTo>
                    <a:pt x="2702" y="618"/>
                  </a:lnTo>
                  <a:lnTo>
                    <a:pt x="2702" y="585"/>
                  </a:lnTo>
                  <a:lnTo>
                    <a:pt x="2702" y="559"/>
                  </a:lnTo>
                  <a:lnTo>
                    <a:pt x="2702" y="533"/>
                  </a:lnTo>
                  <a:lnTo>
                    <a:pt x="2702" y="506"/>
                  </a:lnTo>
                  <a:lnTo>
                    <a:pt x="2702" y="474"/>
                  </a:lnTo>
                  <a:lnTo>
                    <a:pt x="2702" y="447"/>
                  </a:lnTo>
                  <a:lnTo>
                    <a:pt x="2702" y="421"/>
                  </a:lnTo>
                  <a:lnTo>
                    <a:pt x="2702" y="395"/>
                  </a:lnTo>
                  <a:lnTo>
                    <a:pt x="2702" y="362"/>
                  </a:lnTo>
                  <a:lnTo>
                    <a:pt x="2702" y="335"/>
                  </a:lnTo>
                  <a:lnTo>
                    <a:pt x="2702" y="309"/>
                  </a:lnTo>
                  <a:lnTo>
                    <a:pt x="2702" y="283"/>
                  </a:lnTo>
                  <a:lnTo>
                    <a:pt x="2702" y="250"/>
                  </a:lnTo>
                  <a:lnTo>
                    <a:pt x="2675" y="223"/>
                  </a:lnTo>
                  <a:lnTo>
                    <a:pt x="2675" y="197"/>
                  </a:lnTo>
                  <a:lnTo>
                    <a:pt x="2675" y="171"/>
                  </a:lnTo>
                  <a:lnTo>
                    <a:pt x="2675" y="138"/>
                  </a:lnTo>
                  <a:lnTo>
                    <a:pt x="2675" y="111"/>
                  </a:lnTo>
                  <a:lnTo>
                    <a:pt x="2649" y="85"/>
                  </a:lnTo>
                  <a:lnTo>
                    <a:pt x="2616" y="85"/>
                  </a:lnTo>
                  <a:lnTo>
                    <a:pt x="2590" y="85"/>
                  </a:lnTo>
                  <a:lnTo>
                    <a:pt x="2563" y="59"/>
                  </a:lnTo>
                  <a:lnTo>
                    <a:pt x="2537" y="59"/>
                  </a:lnTo>
                  <a:lnTo>
                    <a:pt x="2510" y="59"/>
                  </a:lnTo>
                  <a:lnTo>
                    <a:pt x="2477" y="26"/>
                  </a:lnTo>
                  <a:lnTo>
                    <a:pt x="2451" y="26"/>
                  </a:lnTo>
                  <a:lnTo>
                    <a:pt x="2425" y="26"/>
                  </a:lnTo>
                  <a:lnTo>
                    <a:pt x="2398" y="0"/>
                  </a:lnTo>
                  <a:lnTo>
                    <a:pt x="2365" y="0"/>
                  </a:lnTo>
                  <a:lnTo>
                    <a:pt x="2339" y="0"/>
                  </a:lnTo>
                  <a:lnTo>
                    <a:pt x="2313" y="0"/>
                  </a:lnTo>
                  <a:lnTo>
                    <a:pt x="2286" y="0"/>
                  </a:lnTo>
                  <a:lnTo>
                    <a:pt x="2253" y="0"/>
                  </a:lnTo>
                  <a:lnTo>
                    <a:pt x="2227" y="0"/>
                  </a:lnTo>
                  <a:lnTo>
                    <a:pt x="2201" y="0"/>
                  </a:lnTo>
                  <a:lnTo>
                    <a:pt x="2174" y="0"/>
                  </a:lnTo>
                  <a:lnTo>
                    <a:pt x="2148" y="0"/>
                  </a:lnTo>
                  <a:lnTo>
                    <a:pt x="2115" y="0"/>
                  </a:lnTo>
                  <a:lnTo>
                    <a:pt x="2089" y="0"/>
                  </a:lnTo>
                  <a:lnTo>
                    <a:pt x="2062" y="0"/>
                  </a:lnTo>
                  <a:lnTo>
                    <a:pt x="2036" y="0"/>
                  </a:lnTo>
                  <a:lnTo>
                    <a:pt x="2003" y="0"/>
                  </a:lnTo>
                  <a:lnTo>
                    <a:pt x="1977" y="0"/>
                  </a:lnTo>
                  <a:lnTo>
                    <a:pt x="1950" y="0"/>
                  </a:lnTo>
                  <a:lnTo>
                    <a:pt x="1924" y="0"/>
                  </a:lnTo>
                  <a:lnTo>
                    <a:pt x="1898" y="0"/>
                  </a:lnTo>
                  <a:lnTo>
                    <a:pt x="1865" y="0"/>
                  </a:lnTo>
                  <a:lnTo>
                    <a:pt x="1838" y="0"/>
                  </a:lnTo>
                  <a:lnTo>
                    <a:pt x="1825" y="0"/>
                  </a:lnTo>
                  <a:lnTo>
                    <a:pt x="1838" y="6"/>
                  </a:lnTo>
                  <a:lnTo>
                    <a:pt x="1845" y="6"/>
                  </a:lnTo>
                  <a:lnTo>
                    <a:pt x="1851" y="6"/>
                  </a:lnTo>
                  <a:lnTo>
                    <a:pt x="1865" y="6"/>
                  </a:lnTo>
                  <a:lnTo>
                    <a:pt x="1871" y="6"/>
                  </a:lnTo>
                  <a:lnTo>
                    <a:pt x="1878" y="6"/>
                  </a:lnTo>
                  <a:lnTo>
                    <a:pt x="1884" y="13"/>
                  </a:lnTo>
                  <a:lnTo>
                    <a:pt x="1898" y="13"/>
                  </a:lnTo>
                  <a:lnTo>
                    <a:pt x="1904" y="19"/>
                  </a:lnTo>
                  <a:lnTo>
                    <a:pt x="1911" y="19"/>
                  </a:lnTo>
                  <a:lnTo>
                    <a:pt x="1917" y="26"/>
                  </a:lnTo>
                  <a:lnTo>
                    <a:pt x="1924" y="26"/>
                  </a:lnTo>
                  <a:lnTo>
                    <a:pt x="1937" y="32"/>
                  </a:lnTo>
                  <a:lnTo>
                    <a:pt x="1944" y="32"/>
                  </a:lnTo>
                  <a:lnTo>
                    <a:pt x="1950" y="32"/>
                  </a:lnTo>
                  <a:lnTo>
                    <a:pt x="1957" y="39"/>
                  </a:lnTo>
                  <a:lnTo>
                    <a:pt x="1970" y="39"/>
                  </a:lnTo>
                  <a:lnTo>
                    <a:pt x="1977" y="39"/>
                  </a:lnTo>
                  <a:lnTo>
                    <a:pt x="1983" y="46"/>
                  </a:lnTo>
                  <a:lnTo>
                    <a:pt x="1996" y="46"/>
                  </a:lnTo>
                  <a:lnTo>
                    <a:pt x="2003" y="46"/>
                  </a:lnTo>
                  <a:lnTo>
                    <a:pt x="2010" y="52"/>
                  </a:lnTo>
                  <a:lnTo>
                    <a:pt x="2016" y="52"/>
                  </a:lnTo>
                  <a:lnTo>
                    <a:pt x="2029" y="52"/>
                  </a:lnTo>
                  <a:lnTo>
                    <a:pt x="2036" y="59"/>
                  </a:lnTo>
                  <a:lnTo>
                    <a:pt x="2043" y="59"/>
                  </a:lnTo>
                  <a:lnTo>
                    <a:pt x="2049" y="65"/>
                  </a:lnTo>
                  <a:lnTo>
                    <a:pt x="2062" y="65"/>
                  </a:lnTo>
                  <a:lnTo>
                    <a:pt x="2069" y="65"/>
                  </a:lnTo>
                  <a:lnTo>
                    <a:pt x="2076" y="65"/>
                  </a:lnTo>
                  <a:lnTo>
                    <a:pt x="2089" y="72"/>
                  </a:lnTo>
                  <a:lnTo>
                    <a:pt x="2095" y="72"/>
                  </a:lnTo>
                  <a:lnTo>
                    <a:pt x="2102" y="79"/>
                  </a:lnTo>
                  <a:lnTo>
                    <a:pt x="2108" y="79"/>
                  </a:lnTo>
                  <a:lnTo>
                    <a:pt x="2122" y="79"/>
                  </a:lnTo>
                  <a:lnTo>
                    <a:pt x="2128" y="85"/>
                  </a:lnTo>
                  <a:lnTo>
                    <a:pt x="2135" y="85"/>
                  </a:lnTo>
                  <a:lnTo>
                    <a:pt x="2141" y="85"/>
                  </a:lnTo>
                  <a:lnTo>
                    <a:pt x="2155" y="92"/>
                  </a:lnTo>
                  <a:lnTo>
                    <a:pt x="2161" y="92"/>
                  </a:lnTo>
                  <a:lnTo>
                    <a:pt x="2168" y="92"/>
                  </a:lnTo>
                  <a:lnTo>
                    <a:pt x="2174" y="98"/>
                  </a:lnTo>
                  <a:lnTo>
                    <a:pt x="2188" y="98"/>
                  </a:lnTo>
                  <a:lnTo>
                    <a:pt x="2194" y="98"/>
                  </a:lnTo>
                  <a:lnTo>
                    <a:pt x="2201" y="105"/>
                  </a:lnTo>
                  <a:lnTo>
                    <a:pt x="2214" y="105"/>
                  </a:lnTo>
                  <a:lnTo>
                    <a:pt x="2221" y="105"/>
                  </a:lnTo>
                  <a:lnTo>
                    <a:pt x="2227" y="111"/>
                  </a:lnTo>
                  <a:lnTo>
                    <a:pt x="2234" y="111"/>
                  </a:lnTo>
                  <a:lnTo>
                    <a:pt x="2247" y="111"/>
                  </a:lnTo>
                  <a:lnTo>
                    <a:pt x="2253" y="118"/>
                  </a:lnTo>
                  <a:lnTo>
                    <a:pt x="2260" y="118"/>
                  </a:lnTo>
                  <a:lnTo>
                    <a:pt x="2267" y="125"/>
                  </a:lnTo>
                  <a:lnTo>
                    <a:pt x="2280" y="125"/>
                  </a:lnTo>
                  <a:lnTo>
                    <a:pt x="2286" y="125"/>
                  </a:lnTo>
                  <a:lnTo>
                    <a:pt x="2293" y="125"/>
                  </a:lnTo>
                  <a:lnTo>
                    <a:pt x="2300" y="131"/>
                  </a:lnTo>
                  <a:lnTo>
                    <a:pt x="2306" y="138"/>
                  </a:lnTo>
                  <a:lnTo>
                    <a:pt x="2313" y="138"/>
                  </a:lnTo>
                  <a:lnTo>
                    <a:pt x="2319" y="144"/>
                  </a:lnTo>
                  <a:lnTo>
                    <a:pt x="2326" y="151"/>
                  </a:lnTo>
                  <a:lnTo>
                    <a:pt x="2333" y="158"/>
                  </a:lnTo>
                  <a:lnTo>
                    <a:pt x="2339" y="158"/>
                  </a:lnTo>
                  <a:lnTo>
                    <a:pt x="2346" y="164"/>
                  </a:lnTo>
                  <a:lnTo>
                    <a:pt x="2352" y="164"/>
                  </a:lnTo>
                  <a:lnTo>
                    <a:pt x="2359" y="171"/>
                  </a:lnTo>
                  <a:lnTo>
                    <a:pt x="2365" y="171"/>
                  </a:lnTo>
                  <a:lnTo>
                    <a:pt x="2365" y="177"/>
                  </a:lnTo>
                  <a:lnTo>
                    <a:pt x="2372" y="184"/>
                  </a:lnTo>
                  <a:lnTo>
                    <a:pt x="2379" y="190"/>
                  </a:lnTo>
                  <a:lnTo>
                    <a:pt x="2385" y="190"/>
                  </a:lnTo>
                  <a:lnTo>
                    <a:pt x="2398" y="190"/>
                  </a:lnTo>
                  <a:lnTo>
                    <a:pt x="2405" y="197"/>
                  </a:lnTo>
                  <a:lnTo>
                    <a:pt x="2412" y="204"/>
                  </a:lnTo>
                  <a:lnTo>
                    <a:pt x="2412" y="210"/>
                  </a:lnTo>
                  <a:lnTo>
                    <a:pt x="2418" y="210"/>
                  </a:lnTo>
                  <a:lnTo>
                    <a:pt x="2418" y="217"/>
                  </a:lnTo>
                  <a:lnTo>
                    <a:pt x="2425" y="223"/>
                  </a:lnTo>
                  <a:lnTo>
                    <a:pt x="2431" y="223"/>
                  </a:lnTo>
                  <a:lnTo>
                    <a:pt x="2445" y="223"/>
                  </a:lnTo>
                  <a:lnTo>
                    <a:pt x="2451" y="230"/>
                  </a:lnTo>
                  <a:lnTo>
                    <a:pt x="2458" y="237"/>
                  </a:lnTo>
                  <a:lnTo>
                    <a:pt x="2458" y="237"/>
                  </a:lnTo>
                  <a:lnTo>
                    <a:pt x="2464" y="243"/>
                  </a:lnTo>
                  <a:lnTo>
                    <a:pt x="2471" y="250"/>
                  </a:lnTo>
                  <a:lnTo>
                    <a:pt x="2477" y="256"/>
                  </a:lnTo>
                  <a:lnTo>
                    <a:pt x="2484" y="256"/>
                  </a:lnTo>
                  <a:lnTo>
                    <a:pt x="2491" y="263"/>
                  </a:lnTo>
                  <a:lnTo>
                    <a:pt x="2491" y="263"/>
                  </a:lnTo>
                  <a:lnTo>
                    <a:pt x="2497" y="269"/>
                  </a:lnTo>
                  <a:lnTo>
                    <a:pt x="2510" y="276"/>
                  </a:lnTo>
                  <a:lnTo>
                    <a:pt x="2517" y="276"/>
                  </a:lnTo>
                  <a:lnTo>
                    <a:pt x="2510" y="283"/>
                  </a:lnTo>
                  <a:lnTo>
                    <a:pt x="2497" y="283"/>
                  </a:lnTo>
                  <a:lnTo>
                    <a:pt x="2491" y="283"/>
                  </a:lnTo>
                  <a:lnTo>
                    <a:pt x="2484" y="283"/>
                  </a:lnTo>
                  <a:lnTo>
                    <a:pt x="2471" y="289"/>
                  </a:lnTo>
                  <a:lnTo>
                    <a:pt x="2464" y="289"/>
                  </a:lnTo>
                  <a:lnTo>
                    <a:pt x="2458" y="289"/>
                  </a:lnTo>
                  <a:lnTo>
                    <a:pt x="2445" y="283"/>
                  </a:lnTo>
                  <a:lnTo>
                    <a:pt x="2438" y="283"/>
                  </a:lnTo>
                  <a:lnTo>
                    <a:pt x="2425" y="283"/>
                  </a:lnTo>
                  <a:lnTo>
                    <a:pt x="2418" y="283"/>
                  </a:lnTo>
                  <a:lnTo>
                    <a:pt x="2412" y="283"/>
                  </a:lnTo>
                  <a:lnTo>
                    <a:pt x="2398" y="283"/>
                  </a:lnTo>
                  <a:lnTo>
                    <a:pt x="2392" y="283"/>
                  </a:lnTo>
                  <a:lnTo>
                    <a:pt x="2385" y="276"/>
                  </a:lnTo>
                  <a:lnTo>
                    <a:pt x="2372" y="276"/>
                  </a:lnTo>
                  <a:lnTo>
                    <a:pt x="2365" y="276"/>
                  </a:lnTo>
                  <a:lnTo>
                    <a:pt x="2359" y="269"/>
                  </a:lnTo>
                  <a:lnTo>
                    <a:pt x="2352" y="269"/>
                  </a:lnTo>
                  <a:lnTo>
                    <a:pt x="2346" y="263"/>
                  </a:lnTo>
                  <a:lnTo>
                    <a:pt x="2333" y="263"/>
                  </a:lnTo>
                  <a:lnTo>
                    <a:pt x="2326" y="263"/>
                  </a:lnTo>
                  <a:lnTo>
                    <a:pt x="2319" y="263"/>
                  </a:lnTo>
                  <a:lnTo>
                    <a:pt x="2306" y="263"/>
                  </a:lnTo>
                  <a:lnTo>
                    <a:pt x="2300" y="269"/>
                  </a:lnTo>
                  <a:lnTo>
                    <a:pt x="2293" y="269"/>
                  </a:lnTo>
                  <a:lnTo>
                    <a:pt x="2286" y="276"/>
                  </a:lnTo>
                  <a:lnTo>
                    <a:pt x="2280" y="283"/>
                  </a:lnTo>
                  <a:lnTo>
                    <a:pt x="2280" y="289"/>
                  </a:lnTo>
                  <a:lnTo>
                    <a:pt x="2280" y="296"/>
                  </a:lnTo>
                  <a:lnTo>
                    <a:pt x="2286" y="296"/>
                  </a:lnTo>
                  <a:lnTo>
                    <a:pt x="2300" y="302"/>
                  </a:lnTo>
                  <a:lnTo>
                    <a:pt x="2306" y="302"/>
                  </a:lnTo>
                  <a:lnTo>
                    <a:pt x="2313" y="309"/>
                  </a:lnTo>
                  <a:lnTo>
                    <a:pt x="2313" y="316"/>
                  </a:lnTo>
                  <a:lnTo>
                    <a:pt x="2313" y="322"/>
                  </a:lnTo>
                  <a:lnTo>
                    <a:pt x="2313" y="322"/>
                  </a:lnTo>
                  <a:lnTo>
                    <a:pt x="2306" y="329"/>
                  </a:lnTo>
                  <a:lnTo>
                    <a:pt x="2306" y="335"/>
                  </a:lnTo>
                  <a:lnTo>
                    <a:pt x="2300" y="342"/>
                  </a:lnTo>
                  <a:lnTo>
                    <a:pt x="2300" y="348"/>
                  </a:lnTo>
                  <a:lnTo>
                    <a:pt x="2293" y="348"/>
                  </a:lnTo>
                  <a:lnTo>
                    <a:pt x="2286" y="355"/>
                  </a:lnTo>
                  <a:lnTo>
                    <a:pt x="2280" y="362"/>
                  </a:lnTo>
                  <a:lnTo>
                    <a:pt x="2273" y="362"/>
                  </a:lnTo>
                  <a:lnTo>
                    <a:pt x="2267" y="368"/>
                  </a:lnTo>
                  <a:lnTo>
                    <a:pt x="2260" y="368"/>
                  </a:lnTo>
                  <a:lnTo>
                    <a:pt x="2253" y="375"/>
                  </a:lnTo>
                  <a:lnTo>
                    <a:pt x="2247" y="381"/>
                  </a:lnTo>
                  <a:lnTo>
                    <a:pt x="2240" y="381"/>
                  </a:lnTo>
                  <a:lnTo>
                    <a:pt x="2234" y="388"/>
                  </a:lnTo>
                  <a:lnTo>
                    <a:pt x="2221" y="388"/>
                  </a:lnTo>
                  <a:lnTo>
                    <a:pt x="2214" y="395"/>
                  </a:lnTo>
                  <a:lnTo>
                    <a:pt x="2207" y="401"/>
                  </a:lnTo>
                  <a:lnTo>
                    <a:pt x="2201" y="401"/>
                  </a:lnTo>
                  <a:lnTo>
                    <a:pt x="2194" y="408"/>
                  </a:lnTo>
                  <a:lnTo>
                    <a:pt x="2188" y="408"/>
                  </a:lnTo>
                  <a:lnTo>
                    <a:pt x="2174" y="408"/>
                  </a:lnTo>
                  <a:lnTo>
                    <a:pt x="2168" y="408"/>
                  </a:lnTo>
                  <a:lnTo>
                    <a:pt x="2161" y="401"/>
                  </a:lnTo>
                  <a:lnTo>
                    <a:pt x="2155" y="401"/>
                  </a:lnTo>
                  <a:lnTo>
                    <a:pt x="2148" y="395"/>
                  </a:lnTo>
                  <a:lnTo>
                    <a:pt x="2135" y="395"/>
                  </a:lnTo>
                  <a:lnTo>
                    <a:pt x="2128" y="395"/>
                  </a:lnTo>
                  <a:lnTo>
                    <a:pt x="2122" y="401"/>
                  </a:lnTo>
                  <a:lnTo>
                    <a:pt x="2108" y="401"/>
                  </a:lnTo>
                  <a:lnTo>
                    <a:pt x="2102" y="408"/>
                  </a:lnTo>
                  <a:lnTo>
                    <a:pt x="2095" y="408"/>
                  </a:lnTo>
                  <a:lnTo>
                    <a:pt x="2089" y="414"/>
                  </a:lnTo>
                  <a:lnTo>
                    <a:pt x="2082" y="414"/>
                  </a:lnTo>
                  <a:lnTo>
                    <a:pt x="2069" y="408"/>
                  </a:lnTo>
                  <a:lnTo>
                    <a:pt x="2062" y="414"/>
                  </a:lnTo>
                  <a:lnTo>
                    <a:pt x="2056" y="414"/>
                  </a:lnTo>
                  <a:lnTo>
                    <a:pt x="2049" y="421"/>
                  </a:lnTo>
                  <a:lnTo>
                    <a:pt x="2036" y="421"/>
                  </a:lnTo>
                  <a:lnTo>
                    <a:pt x="2029" y="421"/>
                  </a:lnTo>
                  <a:lnTo>
                    <a:pt x="2023" y="421"/>
                  </a:lnTo>
                  <a:lnTo>
                    <a:pt x="2016" y="414"/>
                  </a:lnTo>
                  <a:lnTo>
                    <a:pt x="2010" y="414"/>
                  </a:lnTo>
                  <a:lnTo>
                    <a:pt x="1996" y="414"/>
                  </a:lnTo>
                  <a:lnTo>
                    <a:pt x="1990" y="414"/>
                  </a:lnTo>
                  <a:lnTo>
                    <a:pt x="1977" y="414"/>
                  </a:lnTo>
                  <a:lnTo>
                    <a:pt x="1970" y="414"/>
                  </a:lnTo>
                  <a:lnTo>
                    <a:pt x="1964" y="414"/>
                  </a:lnTo>
                  <a:lnTo>
                    <a:pt x="1950" y="414"/>
                  </a:lnTo>
                  <a:lnTo>
                    <a:pt x="1944" y="414"/>
                  </a:lnTo>
                  <a:lnTo>
                    <a:pt x="1937" y="414"/>
                  </a:lnTo>
                  <a:lnTo>
                    <a:pt x="1924" y="414"/>
                  </a:lnTo>
                  <a:lnTo>
                    <a:pt x="1917" y="414"/>
                  </a:lnTo>
                  <a:lnTo>
                    <a:pt x="1904" y="414"/>
                  </a:lnTo>
                  <a:lnTo>
                    <a:pt x="1898" y="421"/>
                  </a:lnTo>
                  <a:lnTo>
                    <a:pt x="1891" y="421"/>
                  </a:lnTo>
                  <a:lnTo>
                    <a:pt x="1884" y="427"/>
                  </a:lnTo>
                  <a:lnTo>
                    <a:pt x="1878" y="427"/>
                  </a:lnTo>
                  <a:lnTo>
                    <a:pt x="1871" y="434"/>
                  </a:lnTo>
                  <a:lnTo>
                    <a:pt x="1865" y="434"/>
                  </a:lnTo>
                  <a:lnTo>
                    <a:pt x="1858" y="441"/>
                  </a:lnTo>
                  <a:lnTo>
                    <a:pt x="1851" y="447"/>
                  </a:lnTo>
                  <a:lnTo>
                    <a:pt x="1845" y="447"/>
                  </a:lnTo>
                  <a:lnTo>
                    <a:pt x="1838" y="454"/>
                  </a:lnTo>
                  <a:lnTo>
                    <a:pt x="1838" y="460"/>
                  </a:lnTo>
                  <a:lnTo>
                    <a:pt x="1832" y="467"/>
                  </a:lnTo>
                  <a:lnTo>
                    <a:pt x="1832" y="474"/>
                  </a:lnTo>
                  <a:lnTo>
                    <a:pt x="1832" y="480"/>
                  </a:lnTo>
                  <a:lnTo>
                    <a:pt x="1832" y="480"/>
                  </a:lnTo>
                  <a:lnTo>
                    <a:pt x="1838" y="487"/>
                  </a:lnTo>
                  <a:lnTo>
                    <a:pt x="1845" y="493"/>
                  </a:lnTo>
                  <a:lnTo>
                    <a:pt x="1851" y="500"/>
                  </a:lnTo>
                  <a:lnTo>
                    <a:pt x="1858" y="500"/>
                  </a:lnTo>
                  <a:lnTo>
                    <a:pt x="1858" y="506"/>
                  </a:lnTo>
                  <a:lnTo>
                    <a:pt x="1858" y="513"/>
                  </a:lnTo>
                  <a:lnTo>
                    <a:pt x="1851" y="520"/>
                  </a:lnTo>
                  <a:lnTo>
                    <a:pt x="1851" y="526"/>
                  </a:lnTo>
                  <a:lnTo>
                    <a:pt x="1845" y="533"/>
                  </a:lnTo>
                  <a:lnTo>
                    <a:pt x="1845" y="539"/>
                  </a:lnTo>
                  <a:lnTo>
                    <a:pt x="1845" y="539"/>
                  </a:lnTo>
                  <a:lnTo>
                    <a:pt x="1838" y="546"/>
                  </a:lnTo>
                  <a:lnTo>
                    <a:pt x="1838" y="553"/>
                  </a:lnTo>
                  <a:lnTo>
                    <a:pt x="1838" y="559"/>
                  </a:lnTo>
                  <a:lnTo>
                    <a:pt x="1838" y="566"/>
                  </a:lnTo>
                  <a:lnTo>
                    <a:pt x="1832" y="572"/>
                  </a:lnTo>
                  <a:lnTo>
                    <a:pt x="1832" y="579"/>
                  </a:lnTo>
                  <a:lnTo>
                    <a:pt x="1832" y="585"/>
                  </a:lnTo>
                  <a:lnTo>
                    <a:pt x="1825" y="585"/>
                  </a:lnTo>
                  <a:lnTo>
                    <a:pt x="1825" y="592"/>
                  </a:lnTo>
                  <a:lnTo>
                    <a:pt x="1819" y="599"/>
                  </a:lnTo>
                  <a:lnTo>
                    <a:pt x="1819" y="605"/>
                  </a:lnTo>
                  <a:lnTo>
                    <a:pt x="1812" y="612"/>
                  </a:lnTo>
                  <a:lnTo>
                    <a:pt x="1799" y="612"/>
                  </a:lnTo>
                  <a:lnTo>
                    <a:pt x="1792" y="618"/>
                  </a:lnTo>
                  <a:lnTo>
                    <a:pt x="1792" y="618"/>
                  </a:lnTo>
                  <a:lnTo>
                    <a:pt x="1786" y="625"/>
                  </a:lnTo>
                  <a:lnTo>
                    <a:pt x="1779" y="625"/>
                  </a:lnTo>
                  <a:lnTo>
                    <a:pt x="1766" y="632"/>
                  </a:lnTo>
                  <a:lnTo>
                    <a:pt x="1759" y="632"/>
                  </a:lnTo>
                  <a:lnTo>
                    <a:pt x="1746" y="632"/>
                  </a:lnTo>
                  <a:lnTo>
                    <a:pt x="1739" y="632"/>
                  </a:lnTo>
                  <a:lnTo>
                    <a:pt x="1733" y="632"/>
                  </a:lnTo>
                  <a:lnTo>
                    <a:pt x="1720" y="632"/>
                  </a:lnTo>
                  <a:lnTo>
                    <a:pt x="1713" y="625"/>
                  </a:lnTo>
                  <a:lnTo>
                    <a:pt x="1707" y="625"/>
                  </a:lnTo>
                  <a:lnTo>
                    <a:pt x="1700" y="618"/>
                  </a:lnTo>
                  <a:lnTo>
                    <a:pt x="1693" y="618"/>
                  </a:lnTo>
                  <a:lnTo>
                    <a:pt x="1687" y="612"/>
                  </a:lnTo>
                  <a:lnTo>
                    <a:pt x="1680" y="605"/>
                  </a:lnTo>
                  <a:lnTo>
                    <a:pt x="1680" y="599"/>
                  </a:lnTo>
                  <a:lnTo>
                    <a:pt x="1674" y="592"/>
                  </a:lnTo>
                  <a:lnTo>
                    <a:pt x="1674" y="585"/>
                  </a:lnTo>
                  <a:lnTo>
                    <a:pt x="1674" y="585"/>
                  </a:lnTo>
                  <a:lnTo>
                    <a:pt x="1674" y="579"/>
                  </a:lnTo>
                  <a:lnTo>
                    <a:pt x="1674" y="572"/>
                  </a:lnTo>
                  <a:lnTo>
                    <a:pt x="1674" y="566"/>
                  </a:lnTo>
                  <a:lnTo>
                    <a:pt x="1674" y="559"/>
                  </a:lnTo>
                  <a:lnTo>
                    <a:pt x="1667" y="553"/>
                  </a:lnTo>
                  <a:lnTo>
                    <a:pt x="1660" y="546"/>
                  </a:lnTo>
                  <a:lnTo>
                    <a:pt x="1654" y="546"/>
                  </a:lnTo>
                  <a:lnTo>
                    <a:pt x="1647" y="539"/>
                  </a:lnTo>
                  <a:lnTo>
                    <a:pt x="1641" y="539"/>
                  </a:lnTo>
                  <a:lnTo>
                    <a:pt x="1634" y="533"/>
                  </a:lnTo>
                  <a:lnTo>
                    <a:pt x="1627" y="533"/>
                  </a:lnTo>
                  <a:lnTo>
                    <a:pt x="1621" y="526"/>
                  </a:lnTo>
                  <a:lnTo>
                    <a:pt x="1614" y="520"/>
                  </a:lnTo>
                  <a:lnTo>
                    <a:pt x="1614" y="513"/>
                  </a:lnTo>
                  <a:lnTo>
                    <a:pt x="1614" y="506"/>
                  </a:lnTo>
                  <a:lnTo>
                    <a:pt x="1614" y="500"/>
                  </a:lnTo>
                  <a:lnTo>
                    <a:pt x="1614" y="500"/>
                  </a:lnTo>
                  <a:lnTo>
                    <a:pt x="1621" y="493"/>
                  </a:lnTo>
                  <a:lnTo>
                    <a:pt x="1621" y="487"/>
                  </a:lnTo>
                  <a:lnTo>
                    <a:pt x="1627" y="480"/>
                  </a:lnTo>
                  <a:lnTo>
                    <a:pt x="1627" y="474"/>
                  </a:lnTo>
                  <a:lnTo>
                    <a:pt x="1634" y="467"/>
                  </a:lnTo>
                  <a:lnTo>
                    <a:pt x="1634" y="467"/>
                  </a:lnTo>
                  <a:lnTo>
                    <a:pt x="1641" y="460"/>
                  </a:lnTo>
                  <a:lnTo>
                    <a:pt x="1641" y="454"/>
                  </a:lnTo>
                  <a:lnTo>
                    <a:pt x="1647" y="447"/>
                  </a:lnTo>
                  <a:lnTo>
                    <a:pt x="1647" y="441"/>
                  </a:lnTo>
                  <a:lnTo>
                    <a:pt x="1654" y="434"/>
                  </a:lnTo>
                  <a:lnTo>
                    <a:pt x="1654" y="427"/>
                  </a:lnTo>
                  <a:lnTo>
                    <a:pt x="1654" y="421"/>
                  </a:lnTo>
                  <a:lnTo>
                    <a:pt x="1654" y="421"/>
                  </a:lnTo>
                  <a:lnTo>
                    <a:pt x="1641" y="414"/>
                  </a:lnTo>
                  <a:lnTo>
                    <a:pt x="1634" y="421"/>
                  </a:lnTo>
                  <a:lnTo>
                    <a:pt x="1627" y="427"/>
                  </a:lnTo>
                  <a:lnTo>
                    <a:pt x="1627" y="434"/>
                  </a:lnTo>
                  <a:lnTo>
                    <a:pt x="1621" y="441"/>
                  </a:lnTo>
                  <a:lnTo>
                    <a:pt x="1614" y="441"/>
                  </a:lnTo>
                  <a:lnTo>
                    <a:pt x="1608" y="441"/>
                  </a:lnTo>
                  <a:lnTo>
                    <a:pt x="1601" y="441"/>
                  </a:lnTo>
                  <a:lnTo>
                    <a:pt x="1588" y="441"/>
                  </a:lnTo>
                  <a:lnTo>
                    <a:pt x="1581" y="447"/>
                  </a:lnTo>
                  <a:lnTo>
                    <a:pt x="1581" y="454"/>
                  </a:lnTo>
                  <a:lnTo>
                    <a:pt x="1575" y="454"/>
                  </a:lnTo>
                  <a:lnTo>
                    <a:pt x="1568" y="460"/>
                  </a:lnTo>
                  <a:lnTo>
                    <a:pt x="1562" y="467"/>
                  </a:lnTo>
                  <a:lnTo>
                    <a:pt x="1555" y="467"/>
                  </a:lnTo>
                  <a:lnTo>
                    <a:pt x="1548" y="474"/>
                  </a:lnTo>
                  <a:lnTo>
                    <a:pt x="1542" y="474"/>
                  </a:lnTo>
                  <a:lnTo>
                    <a:pt x="1535" y="480"/>
                  </a:lnTo>
                  <a:lnTo>
                    <a:pt x="1529" y="487"/>
                  </a:lnTo>
                  <a:lnTo>
                    <a:pt x="1522" y="487"/>
                  </a:lnTo>
                  <a:lnTo>
                    <a:pt x="1515" y="493"/>
                  </a:lnTo>
                  <a:lnTo>
                    <a:pt x="1509" y="493"/>
                  </a:lnTo>
                  <a:lnTo>
                    <a:pt x="1502" y="500"/>
                  </a:lnTo>
                  <a:lnTo>
                    <a:pt x="1496" y="506"/>
                  </a:lnTo>
                  <a:lnTo>
                    <a:pt x="1489" y="506"/>
                  </a:lnTo>
                  <a:lnTo>
                    <a:pt x="1482" y="513"/>
                  </a:lnTo>
                  <a:lnTo>
                    <a:pt x="1476" y="520"/>
                  </a:lnTo>
                  <a:lnTo>
                    <a:pt x="1469" y="526"/>
                  </a:lnTo>
                  <a:lnTo>
                    <a:pt x="1463" y="526"/>
                  </a:lnTo>
                  <a:lnTo>
                    <a:pt x="1463" y="533"/>
                  </a:lnTo>
                  <a:lnTo>
                    <a:pt x="1456" y="539"/>
                  </a:lnTo>
                  <a:lnTo>
                    <a:pt x="1456" y="546"/>
                  </a:lnTo>
                  <a:lnTo>
                    <a:pt x="1456" y="553"/>
                  </a:lnTo>
                  <a:lnTo>
                    <a:pt x="1456" y="559"/>
                  </a:lnTo>
                  <a:lnTo>
                    <a:pt x="1450" y="559"/>
                  </a:lnTo>
                  <a:lnTo>
                    <a:pt x="1443" y="566"/>
                  </a:lnTo>
                  <a:lnTo>
                    <a:pt x="1436" y="566"/>
                  </a:lnTo>
                  <a:lnTo>
                    <a:pt x="1423" y="559"/>
                  </a:lnTo>
                  <a:lnTo>
                    <a:pt x="1417" y="559"/>
                  </a:lnTo>
                  <a:lnTo>
                    <a:pt x="1410" y="566"/>
                  </a:lnTo>
                  <a:lnTo>
                    <a:pt x="1403" y="572"/>
                  </a:lnTo>
                  <a:lnTo>
                    <a:pt x="1403" y="579"/>
                  </a:lnTo>
                  <a:lnTo>
                    <a:pt x="1397" y="585"/>
                  </a:lnTo>
                  <a:lnTo>
                    <a:pt x="1397" y="592"/>
                  </a:lnTo>
                  <a:lnTo>
                    <a:pt x="1397" y="599"/>
                  </a:lnTo>
                  <a:lnTo>
                    <a:pt x="1390" y="605"/>
                  </a:lnTo>
                  <a:lnTo>
                    <a:pt x="1390" y="605"/>
                  </a:lnTo>
                  <a:lnTo>
                    <a:pt x="1384" y="612"/>
                  </a:lnTo>
                  <a:lnTo>
                    <a:pt x="1384" y="618"/>
                  </a:lnTo>
                  <a:lnTo>
                    <a:pt x="1384" y="625"/>
                  </a:lnTo>
                  <a:lnTo>
                    <a:pt x="1384" y="632"/>
                  </a:lnTo>
                  <a:lnTo>
                    <a:pt x="1384" y="638"/>
                  </a:lnTo>
                  <a:lnTo>
                    <a:pt x="1384" y="645"/>
                  </a:lnTo>
                  <a:lnTo>
                    <a:pt x="1384" y="651"/>
                  </a:lnTo>
                  <a:lnTo>
                    <a:pt x="1377" y="658"/>
                  </a:lnTo>
                  <a:lnTo>
                    <a:pt x="1377" y="658"/>
                  </a:lnTo>
                  <a:lnTo>
                    <a:pt x="1377" y="664"/>
                  </a:lnTo>
                  <a:lnTo>
                    <a:pt x="1377" y="671"/>
                  </a:lnTo>
                  <a:lnTo>
                    <a:pt x="1377" y="678"/>
                  </a:lnTo>
                  <a:lnTo>
                    <a:pt x="1370" y="684"/>
                  </a:lnTo>
                  <a:lnTo>
                    <a:pt x="1370" y="691"/>
                  </a:lnTo>
                  <a:lnTo>
                    <a:pt x="1370" y="697"/>
                  </a:lnTo>
                  <a:lnTo>
                    <a:pt x="1370" y="704"/>
                  </a:lnTo>
                  <a:lnTo>
                    <a:pt x="1370" y="711"/>
                  </a:lnTo>
                  <a:lnTo>
                    <a:pt x="1370" y="711"/>
                  </a:lnTo>
                  <a:lnTo>
                    <a:pt x="1370" y="717"/>
                  </a:lnTo>
                  <a:lnTo>
                    <a:pt x="1370" y="724"/>
                  </a:lnTo>
                  <a:lnTo>
                    <a:pt x="1377" y="730"/>
                  </a:lnTo>
                  <a:lnTo>
                    <a:pt x="1377" y="737"/>
                  </a:lnTo>
                  <a:lnTo>
                    <a:pt x="1377" y="744"/>
                  </a:lnTo>
                  <a:lnTo>
                    <a:pt x="1377" y="750"/>
                  </a:lnTo>
                  <a:lnTo>
                    <a:pt x="1377" y="757"/>
                  </a:lnTo>
                  <a:lnTo>
                    <a:pt x="1377" y="763"/>
                  </a:lnTo>
                  <a:lnTo>
                    <a:pt x="1384" y="763"/>
                  </a:lnTo>
                  <a:lnTo>
                    <a:pt x="1384" y="770"/>
                  </a:lnTo>
                  <a:lnTo>
                    <a:pt x="1384" y="776"/>
                  </a:lnTo>
                  <a:lnTo>
                    <a:pt x="1377" y="783"/>
                  </a:lnTo>
                  <a:lnTo>
                    <a:pt x="1377" y="790"/>
                  </a:lnTo>
                  <a:lnTo>
                    <a:pt x="1377" y="796"/>
                  </a:lnTo>
                  <a:lnTo>
                    <a:pt x="1370" y="803"/>
                  </a:lnTo>
                  <a:lnTo>
                    <a:pt x="1370" y="809"/>
                  </a:lnTo>
                  <a:lnTo>
                    <a:pt x="1364" y="809"/>
                  </a:lnTo>
                  <a:lnTo>
                    <a:pt x="1357" y="816"/>
                  </a:lnTo>
                  <a:lnTo>
                    <a:pt x="1351" y="823"/>
                  </a:lnTo>
                  <a:lnTo>
                    <a:pt x="1344" y="829"/>
                  </a:lnTo>
                  <a:lnTo>
                    <a:pt x="1344" y="829"/>
                  </a:lnTo>
                  <a:lnTo>
                    <a:pt x="1338" y="836"/>
                  </a:lnTo>
                  <a:lnTo>
                    <a:pt x="1344" y="842"/>
                  </a:lnTo>
                  <a:lnTo>
                    <a:pt x="1351" y="849"/>
                  </a:lnTo>
                  <a:lnTo>
                    <a:pt x="1357" y="855"/>
                  </a:lnTo>
                  <a:lnTo>
                    <a:pt x="1364" y="855"/>
                  </a:lnTo>
                  <a:lnTo>
                    <a:pt x="1370" y="855"/>
                  </a:lnTo>
                  <a:lnTo>
                    <a:pt x="1377" y="849"/>
                  </a:lnTo>
                  <a:lnTo>
                    <a:pt x="1384" y="842"/>
                  </a:lnTo>
                  <a:lnTo>
                    <a:pt x="1384" y="836"/>
                  </a:lnTo>
                  <a:lnTo>
                    <a:pt x="1390" y="829"/>
                  </a:lnTo>
                  <a:lnTo>
                    <a:pt x="1390" y="823"/>
                  </a:lnTo>
                  <a:lnTo>
                    <a:pt x="1397" y="823"/>
                  </a:lnTo>
                  <a:lnTo>
                    <a:pt x="1403" y="829"/>
                  </a:lnTo>
                  <a:lnTo>
                    <a:pt x="1403" y="836"/>
                  </a:lnTo>
                  <a:lnTo>
                    <a:pt x="1410" y="842"/>
                  </a:lnTo>
                  <a:lnTo>
                    <a:pt x="1403" y="849"/>
                  </a:lnTo>
                  <a:lnTo>
                    <a:pt x="1397" y="849"/>
                  </a:lnTo>
                  <a:lnTo>
                    <a:pt x="1397" y="855"/>
                  </a:lnTo>
                  <a:lnTo>
                    <a:pt x="1390" y="862"/>
                  </a:lnTo>
                  <a:lnTo>
                    <a:pt x="1384" y="869"/>
                  </a:lnTo>
                  <a:lnTo>
                    <a:pt x="1377" y="875"/>
                  </a:lnTo>
                  <a:lnTo>
                    <a:pt x="1370" y="875"/>
                  </a:lnTo>
                  <a:lnTo>
                    <a:pt x="1364" y="875"/>
                  </a:lnTo>
                  <a:lnTo>
                    <a:pt x="1357" y="869"/>
                  </a:lnTo>
                  <a:lnTo>
                    <a:pt x="1357" y="862"/>
                  </a:lnTo>
                  <a:lnTo>
                    <a:pt x="1351" y="862"/>
                  </a:lnTo>
                  <a:lnTo>
                    <a:pt x="1351" y="855"/>
                  </a:lnTo>
                  <a:lnTo>
                    <a:pt x="1344" y="849"/>
                  </a:lnTo>
                  <a:lnTo>
                    <a:pt x="1344" y="842"/>
                  </a:lnTo>
                  <a:lnTo>
                    <a:pt x="1338" y="836"/>
                  </a:lnTo>
                  <a:lnTo>
                    <a:pt x="1331" y="836"/>
                  </a:lnTo>
                  <a:lnTo>
                    <a:pt x="1324" y="829"/>
                  </a:lnTo>
                  <a:lnTo>
                    <a:pt x="1324" y="823"/>
                  </a:lnTo>
                  <a:lnTo>
                    <a:pt x="1318" y="816"/>
                  </a:lnTo>
                  <a:lnTo>
                    <a:pt x="1318" y="809"/>
                  </a:lnTo>
                  <a:lnTo>
                    <a:pt x="1311" y="809"/>
                  </a:lnTo>
                  <a:lnTo>
                    <a:pt x="1311" y="803"/>
                  </a:lnTo>
                  <a:lnTo>
                    <a:pt x="1305" y="796"/>
                  </a:lnTo>
                  <a:lnTo>
                    <a:pt x="1305" y="790"/>
                  </a:lnTo>
                  <a:lnTo>
                    <a:pt x="1305" y="783"/>
                  </a:lnTo>
                  <a:lnTo>
                    <a:pt x="1305" y="776"/>
                  </a:lnTo>
                  <a:lnTo>
                    <a:pt x="1305" y="770"/>
                  </a:lnTo>
                  <a:lnTo>
                    <a:pt x="1305" y="763"/>
                  </a:lnTo>
                  <a:lnTo>
                    <a:pt x="1298" y="763"/>
                  </a:lnTo>
                  <a:lnTo>
                    <a:pt x="1298" y="757"/>
                  </a:lnTo>
                  <a:lnTo>
                    <a:pt x="1298" y="750"/>
                  </a:lnTo>
                  <a:lnTo>
                    <a:pt x="1298" y="744"/>
                  </a:lnTo>
                  <a:lnTo>
                    <a:pt x="1298" y="737"/>
                  </a:lnTo>
                  <a:lnTo>
                    <a:pt x="1291" y="730"/>
                  </a:lnTo>
                  <a:lnTo>
                    <a:pt x="1291" y="724"/>
                  </a:lnTo>
                  <a:lnTo>
                    <a:pt x="1291" y="724"/>
                  </a:lnTo>
                  <a:lnTo>
                    <a:pt x="1285" y="717"/>
                  </a:lnTo>
                  <a:lnTo>
                    <a:pt x="1285" y="711"/>
                  </a:lnTo>
                  <a:lnTo>
                    <a:pt x="1285" y="704"/>
                  </a:lnTo>
                  <a:lnTo>
                    <a:pt x="1285" y="697"/>
                  </a:lnTo>
                  <a:lnTo>
                    <a:pt x="1285" y="691"/>
                  </a:lnTo>
                  <a:lnTo>
                    <a:pt x="1285" y="684"/>
                  </a:lnTo>
                  <a:lnTo>
                    <a:pt x="1278" y="691"/>
                  </a:lnTo>
                  <a:lnTo>
                    <a:pt x="1278" y="697"/>
                  </a:lnTo>
                  <a:lnTo>
                    <a:pt x="1272" y="704"/>
                  </a:lnTo>
                  <a:lnTo>
                    <a:pt x="1258" y="704"/>
                  </a:lnTo>
                  <a:lnTo>
                    <a:pt x="1252" y="711"/>
                  </a:lnTo>
                  <a:lnTo>
                    <a:pt x="1245" y="711"/>
                  </a:lnTo>
                  <a:lnTo>
                    <a:pt x="1245" y="717"/>
                  </a:lnTo>
                  <a:lnTo>
                    <a:pt x="1245" y="724"/>
                  </a:lnTo>
                  <a:lnTo>
                    <a:pt x="1239" y="730"/>
                  </a:lnTo>
                  <a:lnTo>
                    <a:pt x="1239" y="737"/>
                  </a:lnTo>
                  <a:lnTo>
                    <a:pt x="1232" y="744"/>
                  </a:lnTo>
                  <a:lnTo>
                    <a:pt x="1232" y="744"/>
                  </a:lnTo>
                  <a:lnTo>
                    <a:pt x="1226" y="750"/>
                  </a:lnTo>
                  <a:lnTo>
                    <a:pt x="1219" y="757"/>
                  </a:lnTo>
                  <a:lnTo>
                    <a:pt x="1219" y="763"/>
                  </a:lnTo>
                  <a:lnTo>
                    <a:pt x="1212" y="770"/>
                  </a:lnTo>
                  <a:lnTo>
                    <a:pt x="1206" y="770"/>
                  </a:lnTo>
                  <a:lnTo>
                    <a:pt x="1206" y="776"/>
                  </a:lnTo>
                  <a:lnTo>
                    <a:pt x="1199" y="783"/>
                  </a:lnTo>
                  <a:lnTo>
                    <a:pt x="1193" y="790"/>
                  </a:lnTo>
                  <a:lnTo>
                    <a:pt x="1193" y="790"/>
                  </a:lnTo>
                  <a:lnTo>
                    <a:pt x="1186" y="796"/>
                  </a:lnTo>
                  <a:lnTo>
                    <a:pt x="1179" y="803"/>
                  </a:lnTo>
                  <a:lnTo>
                    <a:pt x="1173" y="809"/>
                  </a:lnTo>
                  <a:lnTo>
                    <a:pt x="1173" y="809"/>
                  </a:lnTo>
                  <a:lnTo>
                    <a:pt x="1166" y="816"/>
                  </a:lnTo>
                  <a:lnTo>
                    <a:pt x="1166" y="823"/>
                  </a:lnTo>
                  <a:lnTo>
                    <a:pt x="1160" y="829"/>
                  </a:lnTo>
                  <a:lnTo>
                    <a:pt x="1160" y="836"/>
                  </a:lnTo>
                  <a:lnTo>
                    <a:pt x="1160" y="842"/>
                  </a:lnTo>
                  <a:lnTo>
                    <a:pt x="1166" y="849"/>
                  </a:lnTo>
                  <a:lnTo>
                    <a:pt x="1166" y="849"/>
                  </a:lnTo>
                  <a:lnTo>
                    <a:pt x="1173" y="855"/>
                  </a:lnTo>
                  <a:lnTo>
                    <a:pt x="1186" y="862"/>
                  </a:lnTo>
                  <a:lnTo>
                    <a:pt x="1193" y="862"/>
                  </a:lnTo>
                  <a:lnTo>
                    <a:pt x="1199" y="862"/>
                  </a:lnTo>
                  <a:lnTo>
                    <a:pt x="1206" y="869"/>
                  </a:lnTo>
                  <a:lnTo>
                    <a:pt x="1212" y="875"/>
                  </a:lnTo>
                  <a:lnTo>
                    <a:pt x="1206" y="875"/>
                  </a:lnTo>
                  <a:lnTo>
                    <a:pt x="1199" y="882"/>
                  </a:lnTo>
                  <a:lnTo>
                    <a:pt x="1199" y="888"/>
                  </a:lnTo>
                  <a:lnTo>
                    <a:pt x="1199" y="895"/>
                  </a:lnTo>
                  <a:lnTo>
                    <a:pt x="1199" y="902"/>
                  </a:lnTo>
                  <a:lnTo>
                    <a:pt x="1199" y="908"/>
                  </a:lnTo>
                  <a:lnTo>
                    <a:pt x="1199" y="915"/>
                  </a:lnTo>
                  <a:lnTo>
                    <a:pt x="1206" y="921"/>
                  </a:lnTo>
                  <a:lnTo>
                    <a:pt x="1206" y="928"/>
                  </a:lnTo>
                  <a:lnTo>
                    <a:pt x="1206" y="928"/>
                  </a:lnTo>
                  <a:lnTo>
                    <a:pt x="1206" y="934"/>
                  </a:lnTo>
                  <a:lnTo>
                    <a:pt x="1206" y="941"/>
                  </a:lnTo>
                  <a:lnTo>
                    <a:pt x="1206" y="948"/>
                  </a:lnTo>
                  <a:lnTo>
                    <a:pt x="1206" y="954"/>
                  </a:lnTo>
                  <a:lnTo>
                    <a:pt x="1206" y="961"/>
                  </a:lnTo>
                  <a:lnTo>
                    <a:pt x="1206" y="967"/>
                  </a:lnTo>
                  <a:lnTo>
                    <a:pt x="1212" y="974"/>
                  </a:lnTo>
                  <a:lnTo>
                    <a:pt x="1212" y="981"/>
                  </a:lnTo>
                  <a:lnTo>
                    <a:pt x="1212" y="987"/>
                  </a:lnTo>
                  <a:lnTo>
                    <a:pt x="1212" y="987"/>
                  </a:lnTo>
                  <a:lnTo>
                    <a:pt x="1212" y="994"/>
                  </a:lnTo>
                  <a:lnTo>
                    <a:pt x="1212" y="1000"/>
                  </a:lnTo>
                  <a:lnTo>
                    <a:pt x="1219" y="1007"/>
                  </a:lnTo>
                  <a:lnTo>
                    <a:pt x="1219" y="1013"/>
                  </a:lnTo>
                  <a:lnTo>
                    <a:pt x="1219" y="1020"/>
                  </a:lnTo>
                  <a:lnTo>
                    <a:pt x="1219" y="1027"/>
                  </a:lnTo>
                  <a:lnTo>
                    <a:pt x="1219" y="1033"/>
                  </a:lnTo>
                  <a:lnTo>
                    <a:pt x="1226" y="1040"/>
                  </a:lnTo>
                  <a:lnTo>
                    <a:pt x="1226" y="1040"/>
                  </a:lnTo>
                  <a:lnTo>
                    <a:pt x="1226" y="1046"/>
                  </a:lnTo>
                  <a:lnTo>
                    <a:pt x="1226" y="1053"/>
                  </a:lnTo>
                  <a:lnTo>
                    <a:pt x="1226" y="1060"/>
                  </a:lnTo>
                  <a:lnTo>
                    <a:pt x="1232" y="1066"/>
                  </a:lnTo>
                  <a:lnTo>
                    <a:pt x="1232" y="1073"/>
                  </a:lnTo>
                  <a:lnTo>
                    <a:pt x="1239" y="1079"/>
                  </a:lnTo>
                  <a:lnTo>
                    <a:pt x="1239" y="1086"/>
                  </a:lnTo>
                  <a:lnTo>
                    <a:pt x="1232" y="1092"/>
                  </a:lnTo>
                  <a:lnTo>
                    <a:pt x="1226" y="1092"/>
                  </a:lnTo>
                  <a:lnTo>
                    <a:pt x="1219" y="1092"/>
                  </a:lnTo>
                  <a:lnTo>
                    <a:pt x="1206" y="1092"/>
                  </a:lnTo>
                  <a:lnTo>
                    <a:pt x="1199" y="1099"/>
                  </a:lnTo>
                  <a:lnTo>
                    <a:pt x="1193" y="1099"/>
                  </a:lnTo>
                  <a:lnTo>
                    <a:pt x="1186" y="1099"/>
                  </a:lnTo>
                  <a:lnTo>
                    <a:pt x="1179" y="1106"/>
                  </a:lnTo>
                  <a:lnTo>
                    <a:pt x="1173" y="1112"/>
                  </a:lnTo>
                  <a:lnTo>
                    <a:pt x="1173" y="1119"/>
                  </a:lnTo>
                  <a:lnTo>
                    <a:pt x="1166" y="1112"/>
                  </a:lnTo>
                  <a:lnTo>
                    <a:pt x="1160" y="1106"/>
                  </a:lnTo>
                  <a:lnTo>
                    <a:pt x="1160" y="1099"/>
                  </a:lnTo>
                  <a:lnTo>
                    <a:pt x="1153" y="1099"/>
                  </a:lnTo>
                  <a:lnTo>
                    <a:pt x="1153" y="1092"/>
                  </a:lnTo>
                  <a:lnTo>
                    <a:pt x="1153" y="1086"/>
                  </a:lnTo>
                  <a:lnTo>
                    <a:pt x="1153" y="1079"/>
                  </a:lnTo>
                  <a:lnTo>
                    <a:pt x="1146" y="1079"/>
                  </a:lnTo>
                  <a:lnTo>
                    <a:pt x="1153" y="1073"/>
                  </a:lnTo>
                  <a:lnTo>
                    <a:pt x="1153" y="1066"/>
                  </a:lnTo>
                  <a:lnTo>
                    <a:pt x="1153" y="1060"/>
                  </a:lnTo>
                  <a:lnTo>
                    <a:pt x="1153" y="1053"/>
                  </a:lnTo>
                  <a:lnTo>
                    <a:pt x="1153" y="1046"/>
                  </a:lnTo>
                  <a:lnTo>
                    <a:pt x="1153" y="1040"/>
                  </a:lnTo>
                  <a:lnTo>
                    <a:pt x="1153" y="1033"/>
                  </a:lnTo>
                  <a:lnTo>
                    <a:pt x="1153" y="1027"/>
                  </a:lnTo>
                  <a:lnTo>
                    <a:pt x="1160" y="1020"/>
                  </a:lnTo>
                  <a:lnTo>
                    <a:pt x="1160" y="1020"/>
                  </a:lnTo>
                  <a:lnTo>
                    <a:pt x="1160" y="1013"/>
                  </a:lnTo>
                  <a:lnTo>
                    <a:pt x="1160" y="1007"/>
                  </a:lnTo>
                  <a:lnTo>
                    <a:pt x="1160" y="1000"/>
                  </a:lnTo>
                  <a:lnTo>
                    <a:pt x="1153" y="994"/>
                  </a:lnTo>
                  <a:lnTo>
                    <a:pt x="1146" y="987"/>
                  </a:lnTo>
                  <a:lnTo>
                    <a:pt x="1140" y="987"/>
                  </a:lnTo>
                  <a:lnTo>
                    <a:pt x="1140" y="981"/>
                  </a:lnTo>
                  <a:lnTo>
                    <a:pt x="1140" y="974"/>
                  </a:lnTo>
                  <a:lnTo>
                    <a:pt x="1146" y="974"/>
                  </a:lnTo>
                  <a:lnTo>
                    <a:pt x="1153" y="974"/>
                  </a:lnTo>
                  <a:lnTo>
                    <a:pt x="1153" y="981"/>
                  </a:lnTo>
                  <a:lnTo>
                    <a:pt x="1160" y="987"/>
                  </a:lnTo>
                  <a:lnTo>
                    <a:pt x="1166" y="994"/>
                  </a:lnTo>
                  <a:lnTo>
                    <a:pt x="1173" y="994"/>
                  </a:lnTo>
                  <a:lnTo>
                    <a:pt x="1179" y="994"/>
                  </a:lnTo>
                  <a:lnTo>
                    <a:pt x="1179" y="987"/>
                  </a:lnTo>
                  <a:lnTo>
                    <a:pt x="1186" y="981"/>
                  </a:lnTo>
                  <a:lnTo>
                    <a:pt x="1193" y="974"/>
                  </a:lnTo>
                  <a:lnTo>
                    <a:pt x="1193" y="967"/>
                  </a:lnTo>
                  <a:lnTo>
                    <a:pt x="1193" y="961"/>
                  </a:lnTo>
                  <a:lnTo>
                    <a:pt x="1193" y="954"/>
                  </a:lnTo>
                  <a:lnTo>
                    <a:pt x="1193" y="948"/>
                  </a:lnTo>
                  <a:lnTo>
                    <a:pt x="1186" y="948"/>
                  </a:lnTo>
                  <a:lnTo>
                    <a:pt x="1173" y="941"/>
                  </a:lnTo>
                  <a:lnTo>
                    <a:pt x="1166" y="941"/>
                  </a:lnTo>
                  <a:lnTo>
                    <a:pt x="1160" y="934"/>
                  </a:lnTo>
                  <a:lnTo>
                    <a:pt x="1153" y="934"/>
                  </a:lnTo>
                  <a:lnTo>
                    <a:pt x="1146" y="928"/>
                  </a:lnTo>
                  <a:lnTo>
                    <a:pt x="1140" y="928"/>
                  </a:lnTo>
                  <a:lnTo>
                    <a:pt x="1133" y="921"/>
                  </a:lnTo>
                  <a:lnTo>
                    <a:pt x="1120" y="921"/>
                  </a:lnTo>
                  <a:lnTo>
                    <a:pt x="1113" y="921"/>
                  </a:lnTo>
                  <a:lnTo>
                    <a:pt x="1107" y="928"/>
                  </a:lnTo>
                  <a:lnTo>
                    <a:pt x="1107" y="934"/>
                  </a:lnTo>
                  <a:lnTo>
                    <a:pt x="1100" y="934"/>
                  </a:lnTo>
                  <a:lnTo>
                    <a:pt x="1100" y="941"/>
                  </a:lnTo>
                  <a:lnTo>
                    <a:pt x="1094" y="948"/>
                  </a:lnTo>
                  <a:lnTo>
                    <a:pt x="1094" y="954"/>
                  </a:lnTo>
                  <a:lnTo>
                    <a:pt x="1094" y="961"/>
                  </a:lnTo>
                  <a:lnTo>
                    <a:pt x="1087" y="967"/>
                  </a:lnTo>
                  <a:lnTo>
                    <a:pt x="1087" y="974"/>
                  </a:lnTo>
                  <a:lnTo>
                    <a:pt x="1087" y="974"/>
                  </a:lnTo>
                  <a:lnTo>
                    <a:pt x="1081" y="981"/>
                  </a:lnTo>
                  <a:lnTo>
                    <a:pt x="1074" y="987"/>
                  </a:lnTo>
                  <a:lnTo>
                    <a:pt x="1067" y="994"/>
                  </a:lnTo>
                  <a:lnTo>
                    <a:pt x="1067" y="994"/>
                  </a:lnTo>
                  <a:lnTo>
                    <a:pt x="1061" y="1000"/>
                  </a:lnTo>
                  <a:lnTo>
                    <a:pt x="1054" y="1007"/>
                  </a:lnTo>
                  <a:lnTo>
                    <a:pt x="1054" y="1013"/>
                  </a:lnTo>
                  <a:lnTo>
                    <a:pt x="1048" y="1020"/>
                  </a:lnTo>
                  <a:lnTo>
                    <a:pt x="1041" y="1020"/>
                  </a:lnTo>
                  <a:lnTo>
                    <a:pt x="1034" y="1027"/>
                  </a:lnTo>
                  <a:lnTo>
                    <a:pt x="1028" y="1027"/>
                  </a:lnTo>
                  <a:lnTo>
                    <a:pt x="1015" y="1027"/>
                  </a:lnTo>
                  <a:lnTo>
                    <a:pt x="1008" y="1027"/>
                  </a:lnTo>
                  <a:lnTo>
                    <a:pt x="1001" y="1027"/>
                  </a:lnTo>
                  <a:lnTo>
                    <a:pt x="988" y="1027"/>
                  </a:lnTo>
                  <a:lnTo>
                    <a:pt x="982" y="1027"/>
                  </a:lnTo>
                  <a:lnTo>
                    <a:pt x="969" y="1033"/>
                  </a:lnTo>
                  <a:lnTo>
                    <a:pt x="962" y="1033"/>
                  </a:lnTo>
                  <a:lnTo>
                    <a:pt x="955" y="1033"/>
                  </a:lnTo>
                  <a:lnTo>
                    <a:pt x="949" y="1033"/>
                  </a:lnTo>
                  <a:lnTo>
                    <a:pt x="942" y="1027"/>
                  </a:lnTo>
                  <a:lnTo>
                    <a:pt x="942" y="1020"/>
                  </a:lnTo>
                  <a:lnTo>
                    <a:pt x="936" y="1013"/>
                  </a:lnTo>
                  <a:lnTo>
                    <a:pt x="936" y="1007"/>
                  </a:lnTo>
                  <a:lnTo>
                    <a:pt x="936" y="1000"/>
                  </a:lnTo>
                  <a:lnTo>
                    <a:pt x="929" y="994"/>
                  </a:lnTo>
                  <a:lnTo>
                    <a:pt x="929" y="987"/>
                  </a:lnTo>
                  <a:lnTo>
                    <a:pt x="922" y="987"/>
                  </a:lnTo>
                  <a:lnTo>
                    <a:pt x="922" y="981"/>
                  </a:lnTo>
                  <a:lnTo>
                    <a:pt x="922" y="974"/>
                  </a:lnTo>
                  <a:lnTo>
                    <a:pt x="916" y="974"/>
                  </a:lnTo>
                  <a:lnTo>
                    <a:pt x="903" y="974"/>
                  </a:lnTo>
                  <a:lnTo>
                    <a:pt x="896" y="981"/>
                  </a:lnTo>
                  <a:lnTo>
                    <a:pt x="883" y="981"/>
                  </a:lnTo>
                  <a:lnTo>
                    <a:pt x="876" y="981"/>
                  </a:lnTo>
                  <a:lnTo>
                    <a:pt x="870" y="981"/>
                  </a:lnTo>
                  <a:lnTo>
                    <a:pt x="857" y="987"/>
                  </a:lnTo>
                  <a:lnTo>
                    <a:pt x="850" y="987"/>
                  </a:lnTo>
                  <a:lnTo>
                    <a:pt x="843" y="987"/>
                  </a:lnTo>
                  <a:lnTo>
                    <a:pt x="830" y="994"/>
                  </a:lnTo>
                  <a:lnTo>
                    <a:pt x="824" y="994"/>
                  </a:lnTo>
                  <a:lnTo>
                    <a:pt x="817" y="994"/>
                  </a:lnTo>
                  <a:lnTo>
                    <a:pt x="804" y="994"/>
                  </a:lnTo>
                  <a:lnTo>
                    <a:pt x="797" y="994"/>
                  </a:lnTo>
                  <a:lnTo>
                    <a:pt x="791" y="994"/>
                  </a:lnTo>
                  <a:lnTo>
                    <a:pt x="777" y="994"/>
                  </a:lnTo>
                  <a:lnTo>
                    <a:pt x="771" y="994"/>
                  </a:lnTo>
                  <a:lnTo>
                    <a:pt x="764" y="987"/>
                  </a:lnTo>
                  <a:lnTo>
                    <a:pt x="758" y="987"/>
                  </a:lnTo>
                  <a:lnTo>
                    <a:pt x="744" y="981"/>
                  </a:lnTo>
                  <a:lnTo>
                    <a:pt x="738" y="981"/>
                  </a:lnTo>
                  <a:lnTo>
                    <a:pt x="731" y="974"/>
                  </a:lnTo>
                  <a:lnTo>
                    <a:pt x="725" y="974"/>
                  </a:lnTo>
                  <a:lnTo>
                    <a:pt x="718" y="967"/>
                  </a:lnTo>
                  <a:lnTo>
                    <a:pt x="712" y="967"/>
                  </a:lnTo>
                  <a:lnTo>
                    <a:pt x="705" y="961"/>
                  </a:lnTo>
                  <a:lnTo>
                    <a:pt x="698" y="954"/>
                  </a:lnTo>
                  <a:lnTo>
                    <a:pt x="698" y="948"/>
                  </a:lnTo>
                  <a:lnTo>
                    <a:pt x="698" y="941"/>
                  </a:lnTo>
                  <a:lnTo>
                    <a:pt x="692" y="941"/>
                  </a:lnTo>
                  <a:lnTo>
                    <a:pt x="692" y="934"/>
                  </a:lnTo>
                  <a:lnTo>
                    <a:pt x="692" y="928"/>
                  </a:lnTo>
                  <a:lnTo>
                    <a:pt x="692" y="921"/>
                  </a:lnTo>
                  <a:lnTo>
                    <a:pt x="692" y="915"/>
                  </a:lnTo>
                  <a:lnTo>
                    <a:pt x="692" y="908"/>
                  </a:lnTo>
                  <a:lnTo>
                    <a:pt x="692" y="902"/>
                  </a:lnTo>
                  <a:lnTo>
                    <a:pt x="692" y="895"/>
                  </a:lnTo>
                  <a:lnTo>
                    <a:pt x="685" y="888"/>
                  </a:lnTo>
                  <a:lnTo>
                    <a:pt x="685" y="882"/>
                  </a:lnTo>
                  <a:lnTo>
                    <a:pt x="685" y="882"/>
                  </a:lnTo>
                  <a:lnTo>
                    <a:pt x="685" y="875"/>
                  </a:lnTo>
                  <a:lnTo>
                    <a:pt x="685" y="869"/>
                  </a:lnTo>
                  <a:lnTo>
                    <a:pt x="685" y="862"/>
                  </a:lnTo>
                  <a:lnTo>
                    <a:pt x="685" y="855"/>
                  </a:lnTo>
                  <a:lnTo>
                    <a:pt x="685" y="849"/>
                  </a:lnTo>
                  <a:lnTo>
                    <a:pt x="685" y="842"/>
                  </a:lnTo>
                  <a:lnTo>
                    <a:pt x="685" y="836"/>
                  </a:lnTo>
                  <a:lnTo>
                    <a:pt x="685" y="829"/>
                  </a:lnTo>
                  <a:lnTo>
                    <a:pt x="685" y="829"/>
                  </a:lnTo>
                  <a:lnTo>
                    <a:pt x="685" y="823"/>
                  </a:lnTo>
                  <a:lnTo>
                    <a:pt x="685" y="816"/>
                  </a:lnTo>
                  <a:lnTo>
                    <a:pt x="685" y="809"/>
                  </a:lnTo>
                  <a:lnTo>
                    <a:pt x="685" y="803"/>
                  </a:lnTo>
                  <a:lnTo>
                    <a:pt x="685" y="796"/>
                  </a:lnTo>
                  <a:lnTo>
                    <a:pt x="685" y="790"/>
                  </a:lnTo>
                  <a:lnTo>
                    <a:pt x="685" y="783"/>
                  </a:lnTo>
                  <a:lnTo>
                    <a:pt x="685" y="776"/>
                  </a:lnTo>
                  <a:lnTo>
                    <a:pt x="685" y="770"/>
                  </a:lnTo>
                  <a:lnTo>
                    <a:pt x="685" y="770"/>
                  </a:lnTo>
                  <a:lnTo>
                    <a:pt x="679" y="763"/>
                  </a:lnTo>
                  <a:lnTo>
                    <a:pt x="679" y="757"/>
                  </a:lnTo>
                  <a:lnTo>
                    <a:pt x="679" y="750"/>
                  </a:lnTo>
                  <a:lnTo>
                    <a:pt x="679" y="744"/>
                  </a:lnTo>
                  <a:lnTo>
                    <a:pt x="679" y="737"/>
                  </a:lnTo>
                  <a:lnTo>
                    <a:pt x="679" y="730"/>
                  </a:lnTo>
                  <a:lnTo>
                    <a:pt x="679" y="724"/>
                  </a:lnTo>
                  <a:lnTo>
                    <a:pt x="672" y="717"/>
                  </a:lnTo>
                  <a:lnTo>
                    <a:pt x="672" y="717"/>
                  </a:lnTo>
                  <a:lnTo>
                    <a:pt x="665" y="717"/>
                  </a:lnTo>
                  <a:lnTo>
                    <a:pt x="659" y="724"/>
                  </a:lnTo>
                  <a:lnTo>
                    <a:pt x="652" y="730"/>
                  </a:lnTo>
                  <a:lnTo>
                    <a:pt x="652" y="737"/>
                  </a:lnTo>
                  <a:lnTo>
                    <a:pt x="652" y="744"/>
                  </a:lnTo>
                  <a:lnTo>
                    <a:pt x="652" y="750"/>
                  </a:lnTo>
                  <a:lnTo>
                    <a:pt x="652" y="750"/>
                  </a:lnTo>
                  <a:lnTo>
                    <a:pt x="646" y="757"/>
                  </a:lnTo>
                  <a:lnTo>
                    <a:pt x="646" y="763"/>
                  </a:lnTo>
                  <a:lnTo>
                    <a:pt x="646" y="770"/>
                  </a:lnTo>
                  <a:lnTo>
                    <a:pt x="639" y="776"/>
                  </a:lnTo>
                  <a:lnTo>
                    <a:pt x="632" y="776"/>
                  </a:lnTo>
                  <a:lnTo>
                    <a:pt x="626" y="783"/>
                  </a:lnTo>
                  <a:lnTo>
                    <a:pt x="626" y="790"/>
                  </a:lnTo>
                  <a:lnTo>
                    <a:pt x="626" y="796"/>
                  </a:lnTo>
                  <a:lnTo>
                    <a:pt x="626" y="803"/>
                  </a:lnTo>
                  <a:lnTo>
                    <a:pt x="626" y="809"/>
                  </a:lnTo>
                  <a:lnTo>
                    <a:pt x="626" y="816"/>
                  </a:lnTo>
                  <a:lnTo>
                    <a:pt x="626" y="823"/>
                  </a:lnTo>
                  <a:lnTo>
                    <a:pt x="619" y="829"/>
                  </a:lnTo>
                  <a:lnTo>
                    <a:pt x="619" y="829"/>
                  </a:lnTo>
                  <a:lnTo>
                    <a:pt x="619" y="836"/>
                  </a:lnTo>
                  <a:lnTo>
                    <a:pt x="619" y="842"/>
                  </a:lnTo>
                  <a:lnTo>
                    <a:pt x="619" y="849"/>
                  </a:lnTo>
                  <a:lnTo>
                    <a:pt x="619" y="855"/>
                  </a:lnTo>
                  <a:lnTo>
                    <a:pt x="619" y="862"/>
                  </a:lnTo>
                  <a:lnTo>
                    <a:pt x="613" y="869"/>
                  </a:lnTo>
                  <a:lnTo>
                    <a:pt x="613" y="875"/>
                  </a:lnTo>
                  <a:lnTo>
                    <a:pt x="613" y="882"/>
                  </a:lnTo>
                  <a:lnTo>
                    <a:pt x="613" y="882"/>
                  </a:lnTo>
                  <a:lnTo>
                    <a:pt x="613" y="888"/>
                  </a:lnTo>
                  <a:lnTo>
                    <a:pt x="613" y="895"/>
                  </a:lnTo>
                  <a:lnTo>
                    <a:pt x="613" y="902"/>
                  </a:lnTo>
                  <a:lnTo>
                    <a:pt x="606" y="908"/>
                  </a:lnTo>
                  <a:lnTo>
                    <a:pt x="606" y="915"/>
                  </a:lnTo>
                  <a:lnTo>
                    <a:pt x="606" y="921"/>
                  </a:lnTo>
                  <a:lnTo>
                    <a:pt x="606" y="928"/>
                  </a:lnTo>
                  <a:lnTo>
                    <a:pt x="606" y="934"/>
                  </a:lnTo>
                  <a:lnTo>
                    <a:pt x="606" y="934"/>
                  </a:lnTo>
                  <a:lnTo>
                    <a:pt x="606" y="941"/>
                  </a:lnTo>
                  <a:lnTo>
                    <a:pt x="600" y="948"/>
                  </a:lnTo>
                  <a:lnTo>
                    <a:pt x="600" y="954"/>
                  </a:lnTo>
                  <a:lnTo>
                    <a:pt x="600" y="961"/>
                  </a:lnTo>
                  <a:lnTo>
                    <a:pt x="600" y="967"/>
                  </a:lnTo>
                  <a:lnTo>
                    <a:pt x="600" y="974"/>
                  </a:lnTo>
                  <a:lnTo>
                    <a:pt x="600" y="981"/>
                  </a:lnTo>
                  <a:lnTo>
                    <a:pt x="593" y="981"/>
                  </a:lnTo>
                  <a:lnTo>
                    <a:pt x="586" y="987"/>
                  </a:lnTo>
                  <a:lnTo>
                    <a:pt x="580" y="994"/>
                  </a:lnTo>
                  <a:lnTo>
                    <a:pt x="573" y="1000"/>
                  </a:lnTo>
                  <a:lnTo>
                    <a:pt x="573" y="1000"/>
                  </a:lnTo>
                  <a:lnTo>
                    <a:pt x="567" y="1007"/>
                  </a:lnTo>
                  <a:lnTo>
                    <a:pt x="573" y="1013"/>
                  </a:lnTo>
                  <a:lnTo>
                    <a:pt x="580" y="1020"/>
                  </a:lnTo>
                  <a:lnTo>
                    <a:pt x="580" y="1027"/>
                  </a:lnTo>
                  <a:lnTo>
                    <a:pt x="586" y="1027"/>
                  </a:lnTo>
                  <a:lnTo>
                    <a:pt x="593" y="1033"/>
                  </a:lnTo>
                  <a:lnTo>
                    <a:pt x="600" y="1040"/>
                  </a:lnTo>
                  <a:lnTo>
                    <a:pt x="606" y="1046"/>
                  </a:lnTo>
                  <a:lnTo>
                    <a:pt x="606" y="1053"/>
                  </a:lnTo>
                  <a:lnTo>
                    <a:pt x="613" y="1053"/>
                  </a:lnTo>
                  <a:lnTo>
                    <a:pt x="613" y="1060"/>
                  </a:lnTo>
                  <a:lnTo>
                    <a:pt x="613" y="1066"/>
                  </a:lnTo>
                  <a:lnTo>
                    <a:pt x="606" y="1073"/>
                  </a:lnTo>
                  <a:lnTo>
                    <a:pt x="600" y="1073"/>
                  </a:lnTo>
                  <a:lnTo>
                    <a:pt x="593" y="1079"/>
                  </a:lnTo>
                  <a:lnTo>
                    <a:pt x="586" y="1079"/>
                  </a:lnTo>
                  <a:lnTo>
                    <a:pt x="573" y="1086"/>
                  </a:lnTo>
                  <a:lnTo>
                    <a:pt x="567" y="1086"/>
                  </a:lnTo>
                  <a:lnTo>
                    <a:pt x="560" y="1092"/>
                  </a:lnTo>
                  <a:lnTo>
                    <a:pt x="560" y="1099"/>
                  </a:lnTo>
                  <a:lnTo>
                    <a:pt x="553" y="1099"/>
                  </a:lnTo>
                  <a:lnTo>
                    <a:pt x="540" y="1106"/>
                  </a:lnTo>
                  <a:lnTo>
                    <a:pt x="534" y="1106"/>
                  </a:lnTo>
                  <a:lnTo>
                    <a:pt x="527" y="1112"/>
                  </a:lnTo>
                  <a:lnTo>
                    <a:pt x="520" y="1119"/>
                  </a:lnTo>
                  <a:lnTo>
                    <a:pt x="520" y="1119"/>
                  </a:lnTo>
                  <a:lnTo>
                    <a:pt x="514" y="1125"/>
                  </a:lnTo>
                  <a:lnTo>
                    <a:pt x="507" y="1132"/>
                  </a:lnTo>
                  <a:lnTo>
                    <a:pt x="501" y="1139"/>
                  </a:lnTo>
                  <a:lnTo>
                    <a:pt x="501" y="1139"/>
                  </a:lnTo>
                  <a:lnTo>
                    <a:pt x="494" y="1145"/>
                  </a:lnTo>
                  <a:lnTo>
                    <a:pt x="487" y="1152"/>
                  </a:lnTo>
                  <a:lnTo>
                    <a:pt x="481" y="1152"/>
                  </a:lnTo>
                  <a:lnTo>
                    <a:pt x="468" y="1158"/>
                  </a:lnTo>
                  <a:lnTo>
                    <a:pt x="461" y="1158"/>
                  </a:lnTo>
                  <a:lnTo>
                    <a:pt x="455" y="1165"/>
                  </a:lnTo>
                  <a:lnTo>
                    <a:pt x="455" y="1171"/>
                  </a:lnTo>
                  <a:lnTo>
                    <a:pt x="448" y="1178"/>
                  </a:lnTo>
                  <a:lnTo>
                    <a:pt x="474" y="1204"/>
                  </a:lnTo>
                  <a:lnTo>
                    <a:pt x="501" y="1231"/>
                  </a:lnTo>
                  <a:lnTo>
                    <a:pt x="534" y="1257"/>
                  </a:lnTo>
                  <a:lnTo>
                    <a:pt x="560" y="1283"/>
                  </a:lnTo>
                  <a:lnTo>
                    <a:pt x="586" y="1316"/>
                  </a:lnTo>
                  <a:lnTo>
                    <a:pt x="613" y="1343"/>
                  </a:lnTo>
                  <a:lnTo>
                    <a:pt x="639" y="1369"/>
                  </a:lnTo>
                  <a:lnTo>
                    <a:pt x="672" y="1395"/>
                  </a:lnTo>
                  <a:lnTo>
                    <a:pt x="698" y="1428"/>
                  </a:lnTo>
                  <a:lnTo>
                    <a:pt x="725" y="1455"/>
                  </a:lnTo>
                  <a:lnTo>
                    <a:pt x="751" y="1481"/>
                  </a:lnTo>
                  <a:lnTo>
                    <a:pt x="784" y="1507"/>
                  </a:lnTo>
                  <a:lnTo>
                    <a:pt x="810" y="1540"/>
                  </a:lnTo>
                  <a:lnTo>
                    <a:pt x="837" y="1540"/>
                  </a:lnTo>
                  <a:lnTo>
                    <a:pt x="863" y="1566"/>
                  </a:lnTo>
                  <a:lnTo>
                    <a:pt x="889" y="1593"/>
                  </a:lnTo>
                  <a:lnTo>
                    <a:pt x="922" y="1619"/>
                  </a:lnTo>
                  <a:lnTo>
                    <a:pt x="949" y="1652"/>
                  </a:lnTo>
                  <a:lnTo>
                    <a:pt x="975" y="1678"/>
                  </a:lnTo>
                  <a:lnTo>
                    <a:pt x="1001" y="1705"/>
                  </a:lnTo>
                  <a:lnTo>
                    <a:pt x="1034" y="1731"/>
                  </a:lnTo>
                  <a:lnTo>
                    <a:pt x="1061" y="1731"/>
                  </a:lnTo>
                  <a:lnTo>
                    <a:pt x="1087" y="1731"/>
                  </a:lnTo>
                  <a:lnTo>
                    <a:pt x="1113" y="1731"/>
                  </a:lnTo>
                  <a:lnTo>
                    <a:pt x="1140" y="1731"/>
                  </a:lnTo>
                  <a:lnTo>
                    <a:pt x="1173" y="1731"/>
                  </a:lnTo>
                  <a:lnTo>
                    <a:pt x="1199" y="1731"/>
                  </a:lnTo>
                  <a:lnTo>
                    <a:pt x="1226" y="1731"/>
                  </a:lnTo>
                  <a:lnTo>
                    <a:pt x="1252" y="1731"/>
                  </a:lnTo>
                  <a:lnTo>
                    <a:pt x="1285" y="1731"/>
                  </a:lnTo>
                  <a:lnTo>
                    <a:pt x="1311" y="1731"/>
                  </a:lnTo>
                  <a:lnTo>
                    <a:pt x="1338" y="1731"/>
                  </a:lnTo>
                  <a:lnTo>
                    <a:pt x="1364" y="1731"/>
                  </a:lnTo>
                  <a:lnTo>
                    <a:pt x="1397" y="1731"/>
                  </a:lnTo>
                  <a:lnTo>
                    <a:pt x="1423" y="1731"/>
                  </a:lnTo>
                  <a:lnTo>
                    <a:pt x="1450" y="1731"/>
                  </a:lnTo>
                  <a:lnTo>
                    <a:pt x="1476" y="1731"/>
                  </a:lnTo>
                  <a:lnTo>
                    <a:pt x="1502" y="1731"/>
                  </a:lnTo>
                  <a:lnTo>
                    <a:pt x="1535" y="1731"/>
                  </a:lnTo>
                  <a:lnTo>
                    <a:pt x="1562" y="1731"/>
                  </a:lnTo>
                  <a:lnTo>
                    <a:pt x="1588" y="1731"/>
                  </a:lnTo>
                  <a:lnTo>
                    <a:pt x="1614" y="1731"/>
                  </a:lnTo>
                  <a:lnTo>
                    <a:pt x="1647" y="1731"/>
                  </a:lnTo>
                  <a:lnTo>
                    <a:pt x="1674" y="1731"/>
                  </a:lnTo>
                  <a:lnTo>
                    <a:pt x="1700" y="1731"/>
                  </a:lnTo>
                  <a:lnTo>
                    <a:pt x="1726" y="1731"/>
                  </a:lnTo>
                  <a:lnTo>
                    <a:pt x="1753" y="1731"/>
                  </a:lnTo>
                  <a:lnTo>
                    <a:pt x="1786" y="1731"/>
                  </a:lnTo>
                  <a:lnTo>
                    <a:pt x="1812" y="1731"/>
                  </a:lnTo>
                  <a:lnTo>
                    <a:pt x="1838" y="1731"/>
                  </a:lnTo>
                  <a:lnTo>
                    <a:pt x="1865" y="1731"/>
                  </a:lnTo>
                  <a:lnTo>
                    <a:pt x="1898" y="1731"/>
                  </a:lnTo>
                  <a:lnTo>
                    <a:pt x="1924" y="1731"/>
                  </a:lnTo>
                  <a:lnTo>
                    <a:pt x="1950" y="1731"/>
                  </a:lnTo>
                  <a:lnTo>
                    <a:pt x="1977" y="1731"/>
                  </a:lnTo>
                  <a:lnTo>
                    <a:pt x="2003" y="1731"/>
                  </a:lnTo>
                  <a:lnTo>
                    <a:pt x="2036" y="1731"/>
                  </a:lnTo>
                  <a:lnTo>
                    <a:pt x="2062" y="1731"/>
                  </a:lnTo>
                  <a:lnTo>
                    <a:pt x="2089" y="1731"/>
                  </a:lnTo>
                  <a:lnTo>
                    <a:pt x="2115" y="1731"/>
                  </a:lnTo>
                  <a:lnTo>
                    <a:pt x="2148" y="1731"/>
                  </a:lnTo>
                  <a:lnTo>
                    <a:pt x="2174" y="1731"/>
                  </a:lnTo>
                  <a:lnTo>
                    <a:pt x="2201" y="1731"/>
                  </a:lnTo>
                  <a:lnTo>
                    <a:pt x="2227" y="1731"/>
                  </a:lnTo>
                  <a:lnTo>
                    <a:pt x="2253" y="1731"/>
                  </a:lnTo>
                  <a:lnTo>
                    <a:pt x="2286" y="1731"/>
                  </a:lnTo>
                  <a:lnTo>
                    <a:pt x="2313" y="1731"/>
                  </a:lnTo>
                  <a:lnTo>
                    <a:pt x="2339" y="1731"/>
                  </a:lnTo>
                  <a:close/>
                  <a:moveTo>
                    <a:pt x="428" y="1145"/>
                  </a:moveTo>
                  <a:lnTo>
                    <a:pt x="422" y="1139"/>
                  </a:lnTo>
                  <a:lnTo>
                    <a:pt x="422" y="1145"/>
                  </a:lnTo>
                  <a:lnTo>
                    <a:pt x="448" y="1171"/>
                  </a:lnTo>
                  <a:lnTo>
                    <a:pt x="428" y="1145"/>
                  </a:lnTo>
                  <a:close/>
                  <a:moveTo>
                    <a:pt x="402" y="1119"/>
                  </a:moveTo>
                  <a:lnTo>
                    <a:pt x="389" y="1106"/>
                  </a:lnTo>
                  <a:lnTo>
                    <a:pt x="389" y="1119"/>
                  </a:lnTo>
                  <a:lnTo>
                    <a:pt x="402" y="1119"/>
                  </a:lnTo>
                  <a:close/>
                  <a:moveTo>
                    <a:pt x="375" y="1092"/>
                  </a:moveTo>
                  <a:lnTo>
                    <a:pt x="362" y="1073"/>
                  </a:lnTo>
                  <a:lnTo>
                    <a:pt x="362" y="1092"/>
                  </a:lnTo>
                  <a:lnTo>
                    <a:pt x="375" y="1092"/>
                  </a:lnTo>
                  <a:close/>
                  <a:moveTo>
                    <a:pt x="356" y="1060"/>
                  </a:moveTo>
                  <a:lnTo>
                    <a:pt x="336" y="1040"/>
                  </a:lnTo>
                  <a:lnTo>
                    <a:pt x="336" y="1060"/>
                  </a:lnTo>
                  <a:lnTo>
                    <a:pt x="356" y="1060"/>
                  </a:lnTo>
                  <a:close/>
                  <a:moveTo>
                    <a:pt x="876" y="1060"/>
                  </a:moveTo>
                  <a:lnTo>
                    <a:pt x="883" y="1060"/>
                  </a:lnTo>
                  <a:lnTo>
                    <a:pt x="889" y="1060"/>
                  </a:lnTo>
                  <a:lnTo>
                    <a:pt x="896" y="1060"/>
                  </a:lnTo>
                  <a:lnTo>
                    <a:pt x="896" y="1053"/>
                  </a:lnTo>
                  <a:lnTo>
                    <a:pt x="903" y="1060"/>
                  </a:lnTo>
                  <a:lnTo>
                    <a:pt x="909" y="1060"/>
                  </a:lnTo>
                  <a:lnTo>
                    <a:pt x="916" y="1060"/>
                  </a:lnTo>
                  <a:lnTo>
                    <a:pt x="922" y="1060"/>
                  </a:lnTo>
                  <a:lnTo>
                    <a:pt x="929" y="1060"/>
                  </a:lnTo>
                  <a:lnTo>
                    <a:pt x="936" y="1060"/>
                  </a:lnTo>
                  <a:lnTo>
                    <a:pt x="942" y="1060"/>
                  </a:lnTo>
                  <a:lnTo>
                    <a:pt x="949" y="1060"/>
                  </a:lnTo>
                  <a:lnTo>
                    <a:pt x="949" y="1060"/>
                  </a:lnTo>
                  <a:lnTo>
                    <a:pt x="942" y="1066"/>
                  </a:lnTo>
                  <a:lnTo>
                    <a:pt x="936" y="1066"/>
                  </a:lnTo>
                  <a:lnTo>
                    <a:pt x="936" y="1066"/>
                  </a:lnTo>
                  <a:lnTo>
                    <a:pt x="929" y="1066"/>
                  </a:lnTo>
                  <a:lnTo>
                    <a:pt x="922" y="1066"/>
                  </a:lnTo>
                  <a:lnTo>
                    <a:pt x="916" y="1066"/>
                  </a:lnTo>
                  <a:lnTo>
                    <a:pt x="909" y="1066"/>
                  </a:lnTo>
                  <a:lnTo>
                    <a:pt x="903" y="1073"/>
                  </a:lnTo>
                  <a:lnTo>
                    <a:pt x="903" y="1073"/>
                  </a:lnTo>
                  <a:lnTo>
                    <a:pt x="896" y="1066"/>
                  </a:lnTo>
                  <a:lnTo>
                    <a:pt x="889" y="1066"/>
                  </a:lnTo>
                  <a:lnTo>
                    <a:pt x="883" y="1066"/>
                  </a:lnTo>
                  <a:lnTo>
                    <a:pt x="876" y="1060"/>
                  </a:lnTo>
                  <a:close/>
                  <a:moveTo>
                    <a:pt x="329" y="1033"/>
                  </a:moveTo>
                  <a:lnTo>
                    <a:pt x="329" y="1033"/>
                  </a:lnTo>
                  <a:lnTo>
                    <a:pt x="323" y="1027"/>
                  </a:lnTo>
                  <a:lnTo>
                    <a:pt x="323" y="1027"/>
                  </a:lnTo>
                  <a:lnTo>
                    <a:pt x="323" y="1020"/>
                  </a:lnTo>
                  <a:lnTo>
                    <a:pt x="316" y="1020"/>
                  </a:lnTo>
                  <a:lnTo>
                    <a:pt x="316" y="1013"/>
                  </a:lnTo>
                  <a:lnTo>
                    <a:pt x="310" y="1007"/>
                  </a:lnTo>
                  <a:lnTo>
                    <a:pt x="310" y="1007"/>
                  </a:lnTo>
                  <a:lnTo>
                    <a:pt x="310" y="1007"/>
                  </a:lnTo>
                  <a:lnTo>
                    <a:pt x="310" y="1033"/>
                  </a:lnTo>
                  <a:lnTo>
                    <a:pt x="329" y="1033"/>
                  </a:lnTo>
                  <a:close/>
                  <a:moveTo>
                    <a:pt x="283" y="981"/>
                  </a:moveTo>
                  <a:lnTo>
                    <a:pt x="283" y="974"/>
                  </a:lnTo>
                  <a:lnTo>
                    <a:pt x="283" y="981"/>
                  </a:lnTo>
                  <a:lnTo>
                    <a:pt x="283" y="981"/>
                  </a:lnTo>
                  <a:close/>
                  <a:moveTo>
                    <a:pt x="263" y="948"/>
                  </a:moveTo>
                  <a:lnTo>
                    <a:pt x="250" y="934"/>
                  </a:lnTo>
                  <a:lnTo>
                    <a:pt x="250" y="948"/>
                  </a:lnTo>
                  <a:lnTo>
                    <a:pt x="263" y="948"/>
                  </a:lnTo>
                  <a:close/>
                  <a:moveTo>
                    <a:pt x="244" y="921"/>
                  </a:moveTo>
                  <a:lnTo>
                    <a:pt x="224" y="902"/>
                  </a:lnTo>
                  <a:lnTo>
                    <a:pt x="224" y="921"/>
                  </a:lnTo>
                  <a:lnTo>
                    <a:pt x="244" y="921"/>
                  </a:lnTo>
                  <a:close/>
                  <a:moveTo>
                    <a:pt x="949" y="921"/>
                  </a:moveTo>
                  <a:lnTo>
                    <a:pt x="949" y="921"/>
                  </a:lnTo>
                  <a:lnTo>
                    <a:pt x="949" y="921"/>
                  </a:lnTo>
                  <a:lnTo>
                    <a:pt x="949" y="921"/>
                  </a:lnTo>
                  <a:lnTo>
                    <a:pt x="942" y="928"/>
                  </a:lnTo>
                  <a:lnTo>
                    <a:pt x="942" y="928"/>
                  </a:lnTo>
                  <a:lnTo>
                    <a:pt x="949" y="934"/>
                  </a:lnTo>
                  <a:lnTo>
                    <a:pt x="949" y="934"/>
                  </a:lnTo>
                  <a:lnTo>
                    <a:pt x="949" y="941"/>
                  </a:lnTo>
                  <a:lnTo>
                    <a:pt x="949" y="941"/>
                  </a:lnTo>
                  <a:lnTo>
                    <a:pt x="949" y="941"/>
                  </a:lnTo>
                  <a:lnTo>
                    <a:pt x="949" y="934"/>
                  </a:lnTo>
                  <a:lnTo>
                    <a:pt x="949" y="934"/>
                  </a:lnTo>
                  <a:lnTo>
                    <a:pt x="949" y="928"/>
                  </a:lnTo>
                  <a:lnTo>
                    <a:pt x="949" y="921"/>
                  </a:lnTo>
                  <a:close/>
                  <a:moveTo>
                    <a:pt x="217" y="895"/>
                  </a:moveTo>
                  <a:lnTo>
                    <a:pt x="217" y="888"/>
                  </a:lnTo>
                  <a:lnTo>
                    <a:pt x="211" y="888"/>
                  </a:lnTo>
                  <a:lnTo>
                    <a:pt x="211" y="882"/>
                  </a:lnTo>
                  <a:lnTo>
                    <a:pt x="204" y="875"/>
                  </a:lnTo>
                  <a:lnTo>
                    <a:pt x="198" y="869"/>
                  </a:lnTo>
                  <a:lnTo>
                    <a:pt x="198" y="869"/>
                  </a:lnTo>
                  <a:lnTo>
                    <a:pt x="191" y="862"/>
                  </a:lnTo>
                  <a:lnTo>
                    <a:pt x="191" y="855"/>
                  </a:lnTo>
                  <a:lnTo>
                    <a:pt x="184" y="849"/>
                  </a:lnTo>
                  <a:lnTo>
                    <a:pt x="178" y="849"/>
                  </a:lnTo>
                  <a:lnTo>
                    <a:pt x="178" y="842"/>
                  </a:lnTo>
                  <a:lnTo>
                    <a:pt x="171" y="836"/>
                  </a:lnTo>
                  <a:lnTo>
                    <a:pt x="171" y="829"/>
                  </a:lnTo>
                  <a:lnTo>
                    <a:pt x="165" y="829"/>
                  </a:lnTo>
                  <a:lnTo>
                    <a:pt x="158" y="823"/>
                  </a:lnTo>
                  <a:lnTo>
                    <a:pt x="158" y="816"/>
                  </a:lnTo>
                  <a:lnTo>
                    <a:pt x="151" y="809"/>
                  </a:lnTo>
                  <a:lnTo>
                    <a:pt x="151" y="809"/>
                  </a:lnTo>
                  <a:lnTo>
                    <a:pt x="145" y="803"/>
                  </a:lnTo>
                  <a:lnTo>
                    <a:pt x="138" y="796"/>
                  </a:lnTo>
                  <a:lnTo>
                    <a:pt x="138" y="809"/>
                  </a:lnTo>
                  <a:lnTo>
                    <a:pt x="138" y="842"/>
                  </a:lnTo>
                  <a:lnTo>
                    <a:pt x="171" y="869"/>
                  </a:lnTo>
                  <a:lnTo>
                    <a:pt x="198" y="895"/>
                  </a:lnTo>
                  <a:lnTo>
                    <a:pt x="217" y="895"/>
                  </a:lnTo>
                  <a:close/>
                  <a:moveTo>
                    <a:pt x="995" y="895"/>
                  </a:moveTo>
                  <a:lnTo>
                    <a:pt x="995" y="888"/>
                  </a:lnTo>
                  <a:lnTo>
                    <a:pt x="1001" y="882"/>
                  </a:lnTo>
                  <a:lnTo>
                    <a:pt x="1008" y="882"/>
                  </a:lnTo>
                  <a:lnTo>
                    <a:pt x="1021" y="888"/>
                  </a:lnTo>
                  <a:lnTo>
                    <a:pt x="1028" y="888"/>
                  </a:lnTo>
                  <a:lnTo>
                    <a:pt x="1034" y="888"/>
                  </a:lnTo>
                  <a:lnTo>
                    <a:pt x="1041" y="888"/>
                  </a:lnTo>
                  <a:lnTo>
                    <a:pt x="1048" y="882"/>
                  </a:lnTo>
                  <a:lnTo>
                    <a:pt x="1054" y="875"/>
                  </a:lnTo>
                  <a:lnTo>
                    <a:pt x="1054" y="869"/>
                  </a:lnTo>
                  <a:lnTo>
                    <a:pt x="1054" y="862"/>
                  </a:lnTo>
                  <a:lnTo>
                    <a:pt x="1054" y="855"/>
                  </a:lnTo>
                  <a:lnTo>
                    <a:pt x="1048" y="855"/>
                  </a:lnTo>
                  <a:lnTo>
                    <a:pt x="1041" y="849"/>
                  </a:lnTo>
                  <a:lnTo>
                    <a:pt x="1041" y="842"/>
                  </a:lnTo>
                  <a:lnTo>
                    <a:pt x="1034" y="836"/>
                  </a:lnTo>
                  <a:lnTo>
                    <a:pt x="1034" y="829"/>
                  </a:lnTo>
                  <a:lnTo>
                    <a:pt x="1034" y="829"/>
                  </a:lnTo>
                  <a:lnTo>
                    <a:pt x="1034" y="823"/>
                  </a:lnTo>
                  <a:lnTo>
                    <a:pt x="1034" y="816"/>
                  </a:lnTo>
                  <a:lnTo>
                    <a:pt x="1034" y="809"/>
                  </a:lnTo>
                  <a:lnTo>
                    <a:pt x="1028" y="803"/>
                  </a:lnTo>
                  <a:lnTo>
                    <a:pt x="1028" y="796"/>
                  </a:lnTo>
                  <a:lnTo>
                    <a:pt x="1021" y="790"/>
                  </a:lnTo>
                  <a:lnTo>
                    <a:pt x="1021" y="783"/>
                  </a:lnTo>
                  <a:lnTo>
                    <a:pt x="1021" y="783"/>
                  </a:lnTo>
                  <a:lnTo>
                    <a:pt x="1015" y="776"/>
                  </a:lnTo>
                  <a:lnTo>
                    <a:pt x="1015" y="770"/>
                  </a:lnTo>
                  <a:lnTo>
                    <a:pt x="1015" y="763"/>
                  </a:lnTo>
                  <a:lnTo>
                    <a:pt x="1015" y="757"/>
                  </a:lnTo>
                  <a:lnTo>
                    <a:pt x="1015" y="750"/>
                  </a:lnTo>
                  <a:lnTo>
                    <a:pt x="1015" y="744"/>
                  </a:lnTo>
                  <a:lnTo>
                    <a:pt x="1008" y="744"/>
                  </a:lnTo>
                  <a:lnTo>
                    <a:pt x="1008" y="737"/>
                  </a:lnTo>
                  <a:lnTo>
                    <a:pt x="1008" y="730"/>
                  </a:lnTo>
                  <a:lnTo>
                    <a:pt x="1008" y="724"/>
                  </a:lnTo>
                  <a:lnTo>
                    <a:pt x="1008" y="717"/>
                  </a:lnTo>
                  <a:lnTo>
                    <a:pt x="1008" y="711"/>
                  </a:lnTo>
                  <a:lnTo>
                    <a:pt x="1008" y="704"/>
                  </a:lnTo>
                  <a:lnTo>
                    <a:pt x="1008" y="697"/>
                  </a:lnTo>
                  <a:lnTo>
                    <a:pt x="1008" y="697"/>
                  </a:lnTo>
                  <a:lnTo>
                    <a:pt x="1001" y="691"/>
                  </a:lnTo>
                  <a:lnTo>
                    <a:pt x="1001" y="684"/>
                  </a:lnTo>
                  <a:lnTo>
                    <a:pt x="1001" y="678"/>
                  </a:lnTo>
                  <a:lnTo>
                    <a:pt x="995" y="671"/>
                  </a:lnTo>
                  <a:lnTo>
                    <a:pt x="995" y="664"/>
                  </a:lnTo>
                  <a:lnTo>
                    <a:pt x="995" y="658"/>
                  </a:lnTo>
                  <a:lnTo>
                    <a:pt x="988" y="658"/>
                  </a:lnTo>
                  <a:lnTo>
                    <a:pt x="988" y="651"/>
                  </a:lnTo>
                  <a:lnTo>
                    <a:pt x="988" y="645"/>
                  </a:lnTo>
                  <a:lnTo>
                    <a:pt x="988" y="638"/>
                  </a:lnTo>
                  <a:lnTo>
                    <a:pt x="982" y="632"/>
                  </a:lnTo>
                  <a:lnTo>
                    <a:pt x="982" y="625"/>
                  </a:lnTo>
                  <a:lnTo>
                    <a:pt x="982" y="618"/>
                  </a:lnTo>
                  <a:lnTo>
                    <a:pt x="982" y="612"/>
                  </a:lnTo>
                  <a:lnTo>
                    <a:pt x="982" y="612"/>
                  </a:lnTo>
                  <a:lnTo>
                    <a:pt x="982" y="605"/>
                  </a:lnTo>
                  <a:lnTo>
                    <a:pt x="982" y="599"/>
                  </a:lnTo>
                  <a:lnTo>
                    <a:pt x="982" y="592"/>
                  </a:lnTo>
                  <a:lnTo>
                    <a:pt x="982" y="585"/>
                  </a:lnTo>
                  <a:lnTo>
                    <a:pt x="975" y="579"/>
                  </a:lnTo>
                  <a:lnTo>
                    <a:pt x="975" y="572"/>
                  </a:lnTo>
                  <a:lnTo>
                    <a:pt x="969" y="572"/>
                  </a:lnTo>
                  <a:lnTo>
                    <a:pt x="969" y="566"/>
                  </a:lnTo>
                  <a:lnTo>
                    <a:pt x="969" y="559"/>
                  </a:lnTo>
                  <a:lnTo>
                    <a:pt x="969" y="553"/>
                  </a:lnTo>
                  <a:lnTo>
                    <a:pt x="962" y="546"/>
                  </a:lnTo>
                  <a:lnTo>
                    <a:pt x="962" y="539"/>
                  </a:lnTo>
                  <a:lnTo>
                    <a:pt x="962" y="533"/>
                  </a:lnTo>
                  <a:lnTo>
                    <a:pt x="955" y="533"/>
                  </a:lnTo>
                  <a:lnTo>
                    <a:pt x="955" y="526"/>
                  </a:lnTo>
                  <a:lnTo>
                    <a:pt x="949" y="520"/>
                  </a:lnTo>
                  <a:lnTo>
                    <a:pt x="942" y="513"/>
                  </a:lnTo>
                  <a:lnTo>
                    <a:pt x="942" y="506"/>
                  </a:lnTo>
                  <a:lnTo>
                    <a:pt x="936" y="506"/>
                  </a:lnTo>
                  <a:lnTo>
                    <a:pt x="936" y="500"/>
                  </a:lnTo>
                  <a:lnTo>
                    <a:pt x="929" y="493"/>
                  </a:lnTo>
                  <a:lnTo>
                    <a:pt x="929" y="487"/>
                  </a:lnTo>
                  <a:lnTo>
                    <a:pt x="929" y="480"/>
                  </a:lnTo>
                  <a:lnTo>
                    <a:pt x="922" y="480"/>
                  </a:lnTo>
                  <a:lnTo>
                    <a:pt x="922" y="474"/>
                  </a:lnTo>
                  <a:lnTo>
                    <a:pt x="929" y="480"/>
                  </a:lnTo>
                  <a:lnTo>
                    <a:pt x="936" y="480"/>
                  </a:lnTo>
                  <a:lnTo>
                    <a:pt x="949" y="487"/>
                  </a:lnTo>
                  <a:lnTo>
                    <a:pt x="955" y="487"/>
                  </a:lnTo>
                  <a:lnTo>
                    <a:pt x="962" y="493"/>
                  </a:lnTo>
                  <a:lnTo>
                    <a:pt x="962" y="493"/>
                  </a:lnTo>
                  <a:lnTo>
                    <a:pt x="969" y="500"/>
                  </a:lnTo>
                  <a:lnTo>
                    <a:pt x="975" y="506"/>
                  </a:lnTo>
                  <a:lnTo>
                    <a:pt x="982" y="506"/>
                  </a:lnTo>
                  <a:lnTo>
                    <a:pt x="988" y="506"/>
                  </a:lnTo>
                  <a:lnTo>
                    <a:pt x="995" y="500"/>
                  </a:lnTo>
                  <a:lnTo>
                    <a:pt x="995" y="493"/>
                  </a:lnTo>
                  <a:lnTo>
                    <a:pt x="988" y="487"/>
                  </a:lnTo>
                  <a:lnTo>
                    <a:pt x="988" y="480"/>
                  </a:lnTo>
                  <a:lnTo>
                    <a:pt x="982" y="474"/>
                  </a:lnTo>
                  <a:lnTo>
                    <a:pt x="982" y="467"/>
                  </a:lnTo>
                  <a:lnTo>
                    <a:pt x="975" y="467"/>
                  </a:lnTo>
                  <a:lnTo>
                    <a:pt x="975" y="460"/>
                  </a:lnTo>
                  <a:lnTo>
                    <a:pt x="975" y="454"/>
                  </a:lnTo>
                  <a:lnTo>
                    <a:pt x="975" y="447"/>
                  </a:lnTo>
                  <a:lnTo>
                    <a:pt x="975" y="441"/>
                  </a:lnTo>
                  <a:lnTo>
                    <a:pt x="969" y="434"/>
                  </a:lnTo>
                  <a:lnTo>
                    <a:pt x="969" y="427"/>
                  </a:lnTo>
                  <a:lnTo>
                    <a:pt x="969" y="427"/>
                  </a:lnTo>
                  <a:lnTo>
                    <a:pt x="969" y="421"/>
                  </a:lnTo>
                  <a:lnTo>
                    <a:pt x="969" y="414"/>
                  </a:lnTo>
                  <a:lnTo>
                    <a:pt x="962" y="408"/>
                  </a:lnTo>
                  <a:lnTo>
                    <a:pt x="962" y="401"/>
                  </a:lnTo>
                  <a:lnTo>
                    <a:pt x="962" y="395"/>
                  </a:lnTo>
                  <a:lnTo>
                    <a:pt x="962" y="388"/>
                  </a:lnTo>
                  <a:lnTo>
                    <a:pt x="955" y="381"/>
                  </a:lnTo>
                  <a:lnTo>
                    <a:pt x="955" y="381"/>
                  </a:lnTo>
                  <a:lnTo>
                    <a:pt x="955" y="375"/>
                  </a:lnTo>
                  <a:lnTo>
                    <a:pt x="949" y="368"/>
                  </a:lnTo>
                  <a:lnTo>
                    <a:pt x="955" y="362"/>
                  </a:lnTo>
                  <a:lnTo>
                    <a:pt x="955" y="355"/>
                  </a:lnTo>
                  <a:lnTo>
                    <a:pt x="955" y="348"/>
                  </a:lnTo>
                  <a:lnTo>
                    <a:pt x="962" y="348"/>
                  </a:lnTo>
                  <a:lnTo>
                    <a:pt x="962" y="342"/>
                  </a:lnTo>
                  <a:lnTo>
                    <a:pt x="969" y="335"/>
                  </a:lnTo>
                  <a:lnTo>
                    <a:pt x="969" y="329"/>
                  </a:lnTo>
                  <a:lnTo>
                    <a:pt x="969" y="322"/>
                  </a:lnTo>
                  <a:lnTo>
                    <a:pt x="962" y="316"/>
                  </a:lnTo>
                  <a:lnTo>
                    <a:pt x="962" y="309"/>
                  </a:lnTo>
                  <a:lnTo>
                    <a:pt x="962" y="302"/>
                  </a:lnTo>
                  <a:lnTo>
                    <a:pt x="962" y="302"/>
                  </a:lnTo>
                  <a:lnTo>
                    <a:pt x="962" y="296"/>
                  </a:lnTo>
                  <a:lnTo>
                    <a:pt x="962" y="289"/>
                  </a:lnTo>
                  <a:lnTo>
                    <a:pt x="962" y="283"/>
                  </a:lnTo>
                  <a:lnTo>
                    <a:pt x="955" y="276"/>
                  </a:lnTo>
                  <a:lnTo>
                    <a:pt x="949" y="276"/>
                  </a:lnTo>
                  <a:lnTo>
                    <a:pt x="942" y="283"/>
                  </a:lnTo>
                  <a:lnTo>
                    <a:pt x="942" y="289"/>
                  </a:lnTo>
                  <a:lnTo>
                    <a:pt x="942" y="296"/>
                  </a:lnTo>
                  <a:lnTo>
                    <a:pt x="942" y="302"/>
                  </a:lnTo>
                  <a:lnTo>
                    <a:pt x="942" y="309"/>
                  </a:lnTo>
                  <a:lnTo>
                    <a:pt x="936" y="309"/>
                  </a:lnTo>
                  <a:lnTo>
                    <a:pt x="929" y="316"/>
                  </a:lnTo>
                  <a:lnTo>
                    <a:pt x="922" y="316"/>
                  </a:lnTo>
                  <a:lnTo>
                    <a:pt x="916" y="322"/>
                  </a:lnTo>
                  <a:lnTo>
                    <a:pt x="909" y="322"/>
                  </a:lnTo>
                  <a:lnTo>
                    <a:pt x="903" y="329"/>
                  </a:lnTo>
                  <a:lnTo>
                    <a:pt x="896" y="335"/>
                  </a:lnTo>
                  <a:lnTo>
                    <a:pt x="889" y="335"/>
                  </a:lnTo>
                  <a:lnTo>
                    <a:pt x="889" y="329"/>
                  </a:lnTo>
                  <a:lnTo>
                    <a:pt x="896" y="322"/>
                  </a:lnTo>
                  <a:lnTo>
                    <a:pt x="896" y="316"/>
                  </a:lnTo>
                  <a:lnTo>
                    <a:pt x="896" y="316"/>
                  </a:lnTo>
                  <a:lnTo>
                    <a:pt x="896" y="309"/>
                  </a:lnTo>
                  <a:lnTo>
                    <a:pt x="896" y="302"/>
                  </a:lnTo>
                  <a:lnTo>
                    <a:pt x="896" y="296"/>
                  </a:lnTo>
                  <a:lnTo>
                    <a:pt x="903" y="289"/>
                  </a:lnTo>
                  <a:lnTo>
                    <a:pt x="903" y="283"/>
                  </a:lnTo>
                  <a:lnTo>
                    <a:pt x="909" y="276"/>
                  </a:lnTo>
                  <a:lnTo>
                    <a:pt x="909" y="276"/>
                  </a:lnTo>
                  <a:lnTo>
                    <a:pt x="916" y="269"/>
                  </a:lnTo>
                  <a:lnTo>
                    <a:pt x="922" y="263"/>
                  </a:lnTo>
                  <a:lnTo>
                    <a:pt x="929" y="263"/>
                  </a:lnTo>
                  <a:lnTo>
                    <a:pt x="936" y="256"/>
                  </a:lnTo>
                  <a:lnTo>
                    <a:pt x="942" y="250"/>
                  </a:lnTo>
                  <a:lnTo>
                    <a:pt x="942" y="250"/>
                  </a:lnTo>
                  <a:lnTo>
                    <a:pt x="949" y="243"/>
                  </a:lnTo>
                  <a:lnTo>
                    <a:pt x="955" y="237"/>
                  </a:lnTo>
                  <a:lnTo>
                    <a:pt x="962" y="230"/>
                  </a:lnTo>
                  <a:lnTo>
                    <a:pt x="962" y="230"/>
                  </a:lnTo>
                  <a:lnTo>
                    <a:pt x="969" y="223"/>
                  </a:lnTo>
                  <a:lnTo>
                    <a:pt x="975" y="217"/>
                  </a:lnTo>
                  <a:lnTo>
                    <a:pt x="982" y="210"/>
                  </a:lnTo>
                  <a:lnTo>
                    <a:pt x="988" y="210"/>
                  </a:lnTo>
                  <a:lnTo>
                    <a:pt x="988" y="204"/>
                  </a:lnTo>
                  <a:lnTo>
                    <a:pt x="995" y="197"/>
                  </a:lnTo>
                  <a:lnTo>
                    <a:pt x="1001" y="197"/>
                  </a:lnTo>
                  <a:lnTo>
                    <a:pt x="1001" y="190"/>
                  </a:lnTo>
                  <a:lnTo>
                    <a:pt x="1001" y="184"/>
                  </a:lnTo>
                  <a:lnTo>
                    <a:pt x="1008" y="177"/>
                  </a:lnTo>
                  <a:lnTo>
                    <a:pt x="1021" y="177"/>
                  </a:lnTo>
                  <a:lnTo>
                    <a:pt x="1028" y="171"/>
                  </a:lnTo>
                  <a:lnTo>
                    <a:pt x="1034" y="171"/>
                  </a:lnTo>
                  <a:lnTo>
                    <a:pt x="1041" y="171"/>
                  </a:lnTo>
                  <a:lnTo>
                    <a:pt x="1054" y="164"/>
                  </a:lnTo>
                  <a:lnTo>
                    <a:pt x="1061" y="164"/>
                  </a:lnTo>
                  <a:lnTo>
                    <a:pt x="1067" y="164"/>
                  </a:lnTo>
                  <a:lnTo>
                    <a:pt x="1074" y="158"/>
                  </a:lnTo>
                  <a:lnTo>
                    <a:pt x="1087" y="158"/>
                  </a:lnTo>
                  <a:lnTo>
                    <a:pt x="1094" y="151"/>
                  </a:lnTo>
                  <a:lnTo>
                    <a:pt x="1100" y="151"/>
                  </a:lnTo>
                  <a:lnTo>
                    <a:pt x="1107" y="151"/>
                  </a:lnTo>
                  <a:lnTo>
                    <a:pt x="1120" y="151"/>
                  </a:lnTo>
                  <a:lnTo>
                    <a:pt x="1127" y="151"/>
                  </a:lnTo>
                  <a:lnTo>
                    <a:pt x="1133" y="144"/>
                  </a:lnTo>
                  <a:lnTo>
                    <a:pt x="1146" y="144"/>
                  </a:lnTo>
                  <a:lnTo>
                    <a:pt x="1146" y="138"/>
                  </a:lnTo>
                  <a:lnTo>
                    <a:pt x="1160" y="138"/>
                  </a:lnTo>
                  <a:lnTo>
                    <a:pt x="1166" y="138"/>
                  </a:lnTo>
                  <a:lnTo>
                    <a:pt x="1173" y="131"/>
                  </a:lnTo>
                  <a:lnTo>
                    <a:pt x="1179" y="131"/>
                  </a:lnTo>
                  <a:lnTo>
                    <a:pt x="1193" y="125"/>
                  </a:lnTo>
                  <a:lnTo>
                    <a:pt x="1199" y="125"/>
                  </a:lnTo>
                  <a:lnTo>
                    <a:pt x="1206" y="125"/>
                  </a:lnTo>
                  <a:lnTo>
                    <a:pt x="1212" y="125"/>
                  </a:lnTo>
                  <a:lnTo>
                    <a:pt x="1226" y="125"/>
                  </a:lnTo>
                  <a:lnTo>
                    <a:pt x="1232" y="118"/>
                  </a:lnTo>
                  <a:lnTo>
                    <a:pt x="1239" y="118"/>
                  </a:lnTo>
                  <a:lnTo>
                    <a:pt x="1245" y="111"/>
                  </a:lnTo>
                  <a:lnTo>
                    <a:pt x="1252" y="111"/>
                  </a:lnTo>
                  <a:lnTo>
                    <a:pt x="1265" y="111"/>
                  </a:lnTo>
                  <a:lnTo>
                    <a:pt x="1272" y="105"/>
                  </a:lnTo>
                  <a:lnTo>
                    <a:pt x="1278" y="105"/>
                  </a:lnTo>
                  <a:lnTo>
                    <a:pt x="1285" y="98"/>
                  </a:lnTo>
                  <a:lnTo>
                    <a:pt x="1298" y="98"/>
                  </a:lnTo>
                  <a:lnTo>
                    <a:pt x="1305" y="98"/>
                  </a:lnTo>
                  <a:lnTo>
                    <a:pt x="1311" y="98"/>
                  </a:lnTo>
                  <a:lnTo>
                    <a:pt x="1324" y="98"/>
                  </a:lnTo>
                  <a:lnTo>
                    <a:pt x="1331" y="105"/>
                  </a:lnTo>
                  <a:lnTo>
                    <a:pt x="1338" y="105"/>
                  </a:lnTo>
                  <a:lnTo>
                    <a:pt x="1344" y="98"/>
                  </a:lnTo>
                  <a:lnTo>
                    <a:pt x="1344" y="92"/>
                  </a:lnTo>
                  <a:lnTo>
                    <a:pt x="1351" y="85"/>
                  </a:lnTo>
                  <a:lnTo>
                    <a:pt x="1357" y="85"/>
                  </a:lnTo>
                  <a:lnTo>
                    <a:pt x="1364" y="79"/>
                  </a:lnTo>
                  <a:lnTo>
                    <a:pt x="1370" y="79"/>
                  </a:lnTo>
                  <a:lnTo>
                    <a:pt x="1377" y="72"/>
                  </a:lnTo>
                  <a:lnTo>
                    <a:pt x="1390" y="72"/>
                  </a:lnTo>
                  <a:lnTo>
                    <a:pt x="1397" y="72"/>
                  </a:lnTo>
                  <a:lnTo>
                    <a:pt x="1403" y="72"/>
                  </a:lnTo>
                  <a:lnTo>
                    <a:pt x="1410" y="72"/>
                  </a:lnTo>
                  <a:lnTo>
                    <a:pt x="1423" y="79"/>
                  </a:lnTo>
                  <a:lnTo>
                    <a:pt x="1430" y="79"/>
                  </a:lnTo>
                  <a:lnTo>
                    <a:pt x="1436" y="79"/>
                  </a:lnTo>
                  <a:lnTo>
                    <a:pt x="1443" y="85"/>
                  </a:lnTo>
                  <a:lnTo>
                    <a:pt x="1450" y="85"/>
                  </a:lnTo>
                  <a:lnTo>
                    <a:pt x="1463" y="85"/>
                  </a:lnTo>
                  <a:lnTo>
                    <a:pt x="1463" y="79"/>
                  </a:lnTo>
                  <a:lnTo>
                    <a:pt x="1463" y="72"/>
                  </a:lnTo>
                  <a:lnTo>
                    <a:pt x="1456" y="65"/>
                  </a:lnTo>
                  <a:lnTo>
                    <a:pt x="1456" y="59"/>
                  </a:lnTo>
                  <a:lnTo>
                    <a:pt x="1456" y="59"/>
                  </a:lnTo>
                  <a:lnTo>
                    <a:pt x="1456" y="52"/>
                  </a:lnTo>
                  <a:lnTo>
                    <a:pt x="1469" y="46"/>
                  </a:lnTo>
                  <a:lnTo>
                    <a:pt x="1476" y="46"/>
                  </a:lnTo>
                  <a:lnTo>
                    <a:pt x="1482" y="46"/>
                  </a:lnTo>
                  <a:lnTo>
                    <a:pt x="1496" y="46"/>
                  </a:lnTo>
                  <a:lnTo>
                    <a:pt x="1502" y="46"/>
                  </a:lnTo>
                  <a:lnTo>
                    <a:pt x="1509" y="46"/>
                  </a:lnTo>
                  <a:lnTo>
                    <a:pt x="1515" y="52"/>
                  </a:lnTo>
                  <a:lnTo>
                    <a:pt x="1529" y="52"/>
                  </a:lnTo>
                  <a:lnTo>
                    <a:pt x="1535" y="59"/>
                  </a:lnTo>
                  <a:lnTo>
                    <a:pt x="1542" y="52"/>
                  </a:lnTo>
                  <a:lnTo>
                    <a:pt x="1542" y="46"/>
                  </a:lnTo>
                  <a:lnTo>
                    <a:pt x="1548" y="39"/>
                  </a:lnTo>
                  <a:lnTo>
                    <a:pt x="1548" y="39"/>
                  </a:lnTo>
                  <a:lnTo>
                    <a:pt x="1555" y="32"/>
                  </a:lnTo>
                  <a:lnTo>
                    <a:pt x="1555" y="26"/>
                  </a:lnTo>
                  <a:lnTo>
                    <a:pt x="1562" y="19"/>
                  </a:lnTo>
                  <a:lnTo>
                    <a:pt x="1568" y="19"/>
                  </a:lnTo>
                  <a:lnTo>
                    <a:pt x="1575" y="13"/>
                  </a:lnTo>
                  <a:lnTo>
                    <a:pt x="1588" y="13"/>
                  </a:lnTo>
                  <a:lnTo>
                    <a:pt x="1595" y="13"/>
                  </a:lnTo>
                  <a:lnTo>
                    <a:pt x="1601" y="13"/>
                  </a:lnTo>
                  <a:lnTo>
                    <a:pt x="1608" y="13"/>
                  </a:lnTo>
                  <a:lnTo>
                    <a:pt x="1621" y="13"/>
                  </a:lnTo>
                  <a:lnTo>
                    <a:pt x="1627" y="13"/>
                  </a:lnTo>
                  <a:lnTo>
                    <a:pt x="1634" y="6"/>
                  </a:lnTo>
                  <a:lnTo>
                    <a:pt x="1641" y="6"/>
                  </a:lnTo>
                  <a:lnTo>
                    <a:pt x="1647" y="0"/>
                  </a:lnTo>
                  <a:lnTo>
                    <a:pt x="1647" y="0"/>
                  </a:lnTo>
                  <a:lnTo>
                    <a:pt x="1614" y="0"/>
                  </a:lnTo>
                  <a:lnTo>
                    <a:pt x="1588" y="0"/>
                  </a:lnTo>
                  <a:lnTo>
                    <a:pt x="1562" y="0"/>
                  </a:lnTo>
                  <a:lnTo>
                    <a:pt x="1535" y="0"/>
                  </a:lnTo>
                  <a:lnTo>
                    <a:pt x="1502" y="0"/>
                  </a:lnTo>
                  <a:lnTo>
                    <a:pt x="1476" y="0"/>
                  </a:lnTo>
                  <a:lnTo>
                    <a:pt x="1450" y="0"/>
                  </a:lnTo>
                  <a:lnTo>
                    <a:pt x="1423" y="0"/>
                  </a:lnTo>
                  <a:lnTo>
                    <a:pt x="1397" y="0"/>
                  </a:lnTo>
                  <a:lnTo>
                    <a:pt x="1364" y="0"/>
                  </a:lnTo>
                  <a:lnTo>
                    <a:pt x="1338" y="0"/>
                  </a:lnTo>
                  <a:lnTo>
                    <a:pt x="1311" y="0"/>
                  </a:lnTo>
                  <a:lnTo>
                    <a:pt x="1285" y="0"/>
                  </a:lnTo>
                  <a:lnTo>
                    <a:pt x="1252" y="0"/>
                  </a:lnTo>
                  <a:lnTo>
                    <a:pt x="1226" y="0"/>
                  </a:lnTo>
                  <a:lnTo>
                    <a:pt x="1199" y="0"/>
                  </a:lnTo>
                  <a:lnTo>
                    <a:pt x="1173" y="0"/>
                  </a:lnTo>
                  <a:lnTo>
                    <a:pt x="1140" y="0"/>
                  </a:lnTo>
                  <a:lnTo>
                    <a:pt x="1113" y="0"/>
                  </a:lnTo>
                  <a:lnTo>
                    <a:pt x="1087" y="0"/>
                  </a:lnTo>
                  <a:lnTo>
                    <a:pt x="1061" y="0"/>
                  </a:lnTo>
                  <a:lnTo>
                    <a:pt x="1034" y="0"/>
                  </a:lnTo>
                  <a:lnTo>
                    <a:pt x="1001" y="0"/>
                  </a:lnTo>
                  <a:lnTo>
                    <a:pt x="975" y="0"/>
                  </a:lnTo>
                  <a:lnTo>
                    <a:pt x="949" y="0"/>
                  </a:lnTo>
                  <a:lnTo>
                    <a:pt x="922" y="0"/>
                  </a:lnTo>
                  <a:lnTo>
                    <a:pt x="889" y="0"/>
                  </a:lnTo>
                  <a:lnTo>
                    <a:pt x="863" y="0"/>
                  </a:lnTo>
                  <a:lnTo>
                    <a:pt x="837" y="0"/>
                  </a:lnTo>
                  <a:lnTo>
                    <a:pt x="810" y="0"/>
                  </a:lnTo>
                  <a:lnTo>
                    <a:pt x="784" y="0"/>
                  </a:lnTo>
                  <a:lnTo>
                    <a:pt x="751" y="0"/>
                  </a:lnTo>
                  <a:lnTo>
                    <a:pt x="725" y="0"/>
                  </a:lnTo>
                  <a:lnTo>
                    <a:pt x="698" y="0"/>
                  </a:lnTo>
                  <a:lnTo>
                    <a:pt x="672" y="0"/>
                  </a:lnTo>
                  <a:lnTo>
                    <a:pt x="639" y="0"/>
                  </a:lnTo>
                  <a:lnTo>
                    <a:pt x="613" y="26"/>
                  </a:lnTo>
                  <a:lnTo>
                    <a:pt x="586" y="59"/>
                  </a:lnTo>
                  <a:lnTo>
                    <a:pt x="560" y="85"/>
                  </a:lnTo>
                  <a:lnTo>
                    <a:pt x="534" y="111"/>
                  </a:lnTo>
                  <a:lnTo>
                    <a:pt x="501" y="138"/>
                  </a:lnTo>
                  <a:lnTo>
                    <a:pt x="474" y="138"/>
                  </a:lnTo>
                  <a:lnTo>
                    <a:pt x="448" y="171"/>
                  </a:lnTo>
                  <a:lnTo>
                    <a:pt x="422" y="197"/>
                  </a:lnTo>
                  <a:lnTo>
                    <a:pt x="389" y="223"/>
                  </a:lnTo>
                  <a:lnTo>
                    <a:pt x="362" y="250"/>
                  </a:lnTo>
                  <a:lnTo>
                    <a:pt x="336" y="283"/>
                  </a:lnTo>
                  <a:lnTo>
                    <a:pt x="310" y="309"/>
                  </a:lnTo>
                  <a:lnTo>
                    <a:pt x="283" y="335"/>
                  </a:lnTo>
                  <a:lnTo>
                    <a:pt x="250" y="335"/>
                  </a:lnTo>
                  <a:lnTo>
                    <a:pt x="224" y="362"/>
                  </a:lnTo>
                  <a:lnTo>
                    <a:pt x="224" y="381"/>
                  </a:lnTo>
                  <a:lnTo>
                    <a:pt x="237" y="388"/>
                  </a:lnTo>
                  <a:lnTo>
                    <a:pt x="244" y="388"/>
                  </a:lnTo>
                  <a:lnTo>
                    <a:pt x="244" y="395"/>
                  </a:lnTo>
                  <a:lnTo>
                    <a:pt x="244" y="395"/>
                  </a:lnTo>
                  <a:lnTo>
                    <a:pt x="244" y="401"/>
                  </a:lnTo>
                  <a:lnTo>
                    <a:pt x="237" y="408"/>
                  </a:lnTo>
                  <a:lnTo>
                    <a:pt x="231" y="414"/>
                  </a:lnTo>
                  <a:lnTo>
                    <a:pt x="224" y="414"/>
                  </a:lnTo>
                  <a:lnTo>
                    <a:pt x="217" y="421"/>
                  </a:lnTo>
                  <a:lnTo>
                    <a:pt x="211" y="427"/>
                  </a:lnTo>
                  <a:lnTo>
                    <a:pt x="211" y="434"/>
                  </a:lnTo>
                  <a:lnTo>
                    <a:pt x="204" y="434"/>
                  </a:lnTo>
                  <a:lnTo>
                    <a:pt x="198" y="441"/>
                  </a:lnTo>
                  <a:lnTo>
                    <a:pt x="191" y="441"/>
                  </a:lnTo>
                  <a:lnTo>
                    <a:pt x="191" y="434"/>
                  </a:lnTo>
                  <a:lnTo>
                    <a:pt x="184" y="427"/>
                  </a:lnTo>
                  <a:lnTo>
                    <a:pt x="184" y="421"/>
                  </a:lnTo>
                  <a:lnTo>
                    <a:pt x="171" y="421"/>
                  </a:lnTo>
                  <a:lnTo>
                    <a:pt x="138" y="447"/>
                  </a:lnTo>
                  <a:lnTo>
                    <a:pt x="112" y="474"/>
                  </a:lnTo>
                  <a:lnTo>
                    <a:pt x="86" y="506"/>
                  </a:lnTo>
                  <a:lnTo>
                    <a:pt x="59" y="533"/>
                  </a:lnTo>
                  <a:lnTo>
                    <a:pt x="26" y="533"/>
                  </a:lnTo>
                  <a:lnTo>
                    <a:pt x="0" y="559"/>
                  </a:lnTo>
                  <a:lnTo>
                    <a:pt x="0" y="585"/>
                  </a:lnTo>
                  <a:lnTo>
                    <a:pt x="0" y="618"/>
                  </a:lnTo>
                  <a:lnTo>
                    <a:pt x="0" y="645"/>
                  </a:lnTo>
                  <a:lnTo>
                    <a:pt x="26" y="645"/>
                  </a:lnTo>
                  <a:lnTo>
                    <a:pt x="26" y="645"/>
                  </a:lnTo>
                  <a:lnTo>
                    <a:pt x="26" y="638"/>
                  </a:lnTo>
                  <a:lnTo>
                    <a:pt x="26" y="638"/>
                  </a:lnTo>
                  <a:lnTo>
                    <a:pt x="26" y="638"/>
                  </a:lnTo>
                  <a:lnTo>
                    <a:pt x="26" y="638"/>
                  </a:lnTo>
                  <a:lnTo>
                    <a:pt x="33" y="638"/>
                  </a:lnTo>
                  <a:lnTo>
                    <a:pt x="33" y="638"/>
                  </a:lnTo>
                  <a:lnTo>
                    <a:pt x="33" y="645"/>
                  </a:lnTo>
                  <a:lnTo>
                    <a:pt x="33" y="645"/>
                  </a:lnTo>
                  <a:lnTo>
                    <a:pt x="33" y="645"/>
                  </a:lnTo>
                  <a:lnTo>
                    <a:pt x="26" y="645"/>
                  </a:lnTo>
                  <a:lnTo>
                    <a:pt x="26" y="671"/>
                  </a:lnTo>
                  <a:lnTo>
                    <a:pt x="26" y="697"/>
                  </a:lnTo>
                  <a:lnTo>
                    <a:pt x="59" y="730"/>
                  </a:lnTo>
                  <a:lnTo>
                    <a:pt x="86" y="757"/>
                  </a:lnTo>
                  <a:lnTo>
                    <a:pt x="105" y="757"/>
                  </a:lnTo>
                  <a:lnTo>
                    <a:pt x="112" y="750"/>
                  </a:lnTo>
                  <a:lnTo>
                    <a:pt x="118" y="744"/>
                  </a:lnTo>
                  <a:lnTo>
                    <a:pt x="118" y="744"/>
                  </a:lnTo>
                  <a:lnTo>
                    <a:pt x="125" y="737"/>
                  </a:lnTo>
                  <a:lnTo>
                    <a:pt x="125" y="730"/>
                  </a:lnTo>
                  <a:lnTo>
                    <a:pt x="132" y="724"/>
                  </a:lnTo>
                  <a:lnTo>
                    <a:pt x="138" y="724"/>
                  </a:lnTo>
                  <a:lnTo>
                    <a:pt x="151" y="724"/>
                  </a:lnTo>
                  <a:lnTo>
                    <a:pt x="158" y="724"/>
                  </a:lnTo>
                  <a:lnTo>
                    <a:pt x="165" y="724"/>
                  </a:lnTo>
                  <a:lnTo>
                    <a:pt x="178" y="724"/>
                  </a:lnTo>
                  <a:lnTo>
                    <a:pt x="184" y="724"/>
                  </a:lnTo>
                  <a:lnTo>
                    <a:pt x="191" y="724"/>
                  </a:lnTo>
                  <a:lnTo>
                    <a:pt x="198" y="724"/>
                  </a:lnTo>
                  <a:lnTo>
                    <a:pt x="204" y="730"/>
                  </a:lnTo>
                  <a:lnTo>
                    <a:pt x="211" y="737"/>
                  </a:lnTo>
                  <a:lnTo>
                    <a:pt x="211" y="744"/>
                  </a:lnTo>
                  <a:lnTo>
                    <a:pt x="217" y="750"/>
                  </a:lnTo>
                  <a:lnTo>
                    <a:pt x="217" y="750"/>
                  </a:lnTo>
                  <a:lnTo>
                    <a:pt x="224" y="757"/>
                  </a:lnTo>
                  <a:lnTo>
                    <a:pt x="231" y="750"/>
                  </a:lnTo>
                  <a:lnTo>
                    <a:pt x="237" y="750"/>
                  </a:lnTo>
                  <a:lnTo>
                    <a:pt x="250" y="750"/>
                  </a:lnTo>
                  <a:lnTo>
                    <a:pt x="257" y="750"/>
                  </a:lnTo>
                  <a:lnTo>
                    <a:pt x="257" y="757"/>
                  </a:lnTo>
                  <a:lnTo>
                    <a:pt x="250" y="763"/>
                  </a:lnTo>
                  <a:lnTo>
                    <a:pt x="244" y="770"/>
                  </a:lnTo>
                  <a:lnTo>
                    <a:pt x="244" y="770"/>
                  </a:lnTo>
                  <a:lnTo>
                    <a:pt x="237" y="776"/>
                  </a:lnTo>
                  <a:lnTo>
                    <a:pt x="237" y="783"/>
                  </a:lnTo>
                  <a:lnTo>
                    <a:pt x="244" y="790"/>
                  </a:lnTo>
                  <a:lnTo>
                    <a:pt x="250" y="796"/>
                  </a:lnTo>
                  <a:lnTo>
                    <a:pt x="257" y="796"/>
                  </a:lnTo>
                  <a:lnTo>
                    <a:pt x="263" y="796"/>
                  </a:lnTo>
                  <a:lnTo>
                    <a:pt x="270" y="790"/>
                  </a:lnTo>
                  <a:lnTo>
                    <a:pt x="277" y="790"/>
                  </a:lnTo>
                  <a:lnTo>
                    <a:pt x="283" y="783"/>
                  </a:lnTo>
                  <a:lnTo>
                    <a:pt x="290" y="783"/>
                  </a:lnTo>
                  <a:lnTo>
                    <a:pt x="296" y="776"/>
                  </a:lnTo>
                  <a:lnTo>
                    <a:pt x="303" y="770"/>
                  </a:lnTo>
                  <a:lnTo>
                    <a:pt x="310" y="770"/>
                  </a:lnTo>
                  <a:lnTo>
                    <a:pt x="316" y="770"/>
                  </a:lnTo>
                  <a:lnTo>
                    <a:pt x="323" y="770"/>
                  </a:lnTo>
                  <a:lnTo>
                    <a:pt x="336" y="770"/>
                  </a:lnTo>
                  <a:lnTo>
                    <a:pt x="343" y="770"/>
                  </a:lnTo>
                  <a:lnTo>
                    <a:pt x="349" y="770"/>
                  </a:lnTo>
                  <a:lnTo>
                    <a:pt x="362" y="770"/>
                  </a:lnTo>
                  <a:lnTo>
                    <a:pt x="369" y="770"/>
                  </a:lnTo>
                  <a:lnTo>
                    <a:pt x="375" y="776"/>
                  </a:lnTo>
                  <a:lnTo>
                    <a:pt x="382" y="783"/>
                  </a:lnTo>
                  <a:lnTo>
                    <a:pt x="382" y="783"/>
                  </a:lnTo>
                  <a:lnTo>
                    <a:pt x="382" y="790"/>
                  </a:lnTo>
                  <a:lnTo>
                    <a:pt x="382" y="796"/>
                  </a:lnTo>
                  <a:lnTo>
                    <a:pt x="375" y="803"/>
                  </a:lnTo>
                  <a:lnTo>
                    <a:pt x="369" y="803"/>
                  </a:lnTo>
                  <a:lnTo>
                    <a:pt x="362" y="809"/>
                  </a:lnTo>
                  <a:lnTo>
                    <a:pt x="362" y="816"/>
                  </a:lnTo>
                  <a:lnTo>
                    <a:pt x="362" y="823"/>
                  </a:lnTo>
                  <a:lnTo>
                    <a:pt x="362" y="829"/>
                  </a:lnTo>
                  <a:lnTo>
                    <a:pt x="356" y="829"/>
                  </a:lnTo>
                  <a:lnTo>
                    <a:pt x="356" y="836"/>
                  </a:lnTo>
                  <a:lnTo>
                    <a:pt x="356" y="842"/>
                  </a:lnTo>
                  <a:lnTo>
                    <a:pt x="362" y="849"/>
                  </a:lnTo>
                  <a:lnTo>
                    <a:pt x="369" y="849"/>
                  </a:lnTo>
                  <a:lnTo>
                    <a:pt x="369" y="855"/>
                  </a:lnTo>
                  <a:lnTo>
                    <a:pt x="375" y="862"/>
                  </a:lnTo>
                  <a:lnTo>
                    <a:pt x="382" y="869"/>
                  </a:lnTo>
                  <a:lnTo>
                    <a:pt x="382" y="869"/>
                  </a:lnTo>
                  <a:lnTo>
                    <a:pt x="389" y="875"/>
                  </a:lnTo>
                  <a:lnTo>
                    <a:pt x="395" y="875"/>
                  </a:lnTo>
                  <a:lnTo>
                    <a:pt x="408" y="882"/>
                  </a:lnTo>
                  <a:lnTo>
                    <a:pt x="415" y="875"/>
                  </a:lnTo>
                  <a:lnTo>
                    <a:pt x="422" y="875"/>
                  </a:lnTo>
                  <a:lnTo>
                    <a:pt x="428" y="869"/>
                  </a:lnTo>
                  <a:lnTo>
                    <a:pt x="435" y="869"/>
                  </a:lnTo>
                  <a:lnTo>
                    <a:pt x="441" y="862"/>
                  </a:lnTo>
                  <a:lnTo>
                    <a:pt x="441" y="855"/>
                  </a:lnTo>
                  <a:lnTo>
                    <a:pt x="448" y="855"/>
                  </a:lnTo>
                  <a:lnTo>
                    <a:pt x="455" y="849"/>
                  </a:lnTo>
                  <a:lnTo>
                    <a:pt x="461" y="849"/>
                  </a:lnTo>
                  <a:lnTo>
                    <a:pt x="468" y="842"/>
                  </a:lnTo>
                  <a:lnTo>
                    <a:pt x="474" y="836"/>
                  </a:lnTo>
                  <a:lnTo>
                    <a:pt x="481" y="836"/>
                  </a:lnTo>
                  <a:lnTo>
                    <a:pt x="481" y="829"/>
                  </a:lnTo>
                  <a:lnTo>
                    <a:pt x="487" y="823"/>
                  </a:lnTo>
                  <a:lnTo>
                    <a:pt x="494" y="823"/>
                  </a:lnTo>
                  <a:lnTo>
                    <a:pt x="501" y="816"/>
                  </a:lnTo>
                  <a:lnTo>
                    <a:pt x="507" y="816"/>
                  </a:lnTo>
                  <a:lnTo>
                    <a:pt x="514" y="809"/>
                  </a:lnTo>
                  <a:lnTo>
                    <a:pt x="520" y="809"/>
                  </a:lnTo>
                  <a:lnTo>
                    <a:pt x="527" y="803"/>
                  </a:lnTo>
                  <a:lnTo>
                    <a:pt x="540" y="803"/>
                  </a:lnTo>
                  <a:lnTo>
                    <a:pt x="547" y="803"/>
                  </a:lnTo>
                  <a:lnTo>
                    <a:pt x="553" y="803"/>
                  </a:lnTo>
                  <a:lnTo>
                    <a:pt x="560" y="796"/>
                  </a:lnTo>
                  <a:lnTo>
                    <a:pt x="573" y="796"/>
                  </a:lnTo>
                  <a:lnTo>
                    <a:pt x="580" y="790"/>
                  </a:lnTo>
                  <a:lnTo>
                    <a:pt x="586" y="790"/>
                  </a:lnTo>
                  <a:lnTo>
                    <a:pt x="593" y="783"/>
                  </a:lnTo>
                  <a:lnTo>
                    <a:pt x="600" y="783"/>
                  </a:lnTo>
                  <a:lnTo>
                    <a:pt x="606" y="776"/>
                  </a:lnTo>
                  <a:lnTo>
                    <a:pt x="613" y="776"/>
                  </a:lnTo>
                  <a:lnTo>
                    <a:pt x="619" y="770"/>
                  </a:lnTo>
                  <a:lnTo>
                    <a:pt x="626" y="770"/>
                  </a:lnTo>
                  <a:lnTo>
                    <a:pt x="626" y="763"/>
                  </a:lnTo>
                  <a:lnTo>
                    <a:pt x="632" y="757"/>
                  </a:lnTo>
                  <a:lnTo>
                    <a:pt x="632" y="750"/>
                  </a:lnTo>
                  <a:lnTo>
                    <a:pt x="632" y="750"/>
                  </a:lnTo>
                  <a:lnTo>
                    <a:pt x="632" y="744"/>
                  </a:lnTo>
                  <a:lnTo>
                    <a:pt x="626" y="737"/>
                  </a:lnTo>
                  <a:lnTo>
                    <a:pt x="626" y="730"/>
                  </a:lnTo>
                  <a:lnTo>
                    <a:pt x="626" y="724"/>
                  </a:lnTo>
                  <a:lnTo>
                    <a:pt x="626" y="717"/>
                  </a:lnTo>
                  <a:lnTo>
                    <a:pt x="632" y="717"/>
                  </a:lnTo>
                  <a:lnTo>
                    <a:pt x="632" y="711"/>
                  </a:lnTo>
                  <a:lnTo>
                    <a:pt x="639" y="704"/>
                  </a:lnTo>
                  <a:lnTo>
                    <a:pt x="639" y="697"/>
                  </a:lnTo>
                  <a:lnTo>
                    <a:pt x="639" y="691"/>
                  </a:lnTo>
                  <a:lnTo>
                    <a:pt x="639" y="684"/>
                  </a:lnTo>
                  <a:lnTo>
                    <a:pt x="639" y="684"/>
                  </a:lnTo>
                  <a:lnTo>
                    <a:pt x="639" y="678"/>
                  </a:lnTo>
                  <a:lnTo>
                    <a:pt x="639" y="671"/>
                  </a:lnTo>
                  <a:lnTo>
                    <a:pt x="639" y="664"/>
                  </a:lnTo>
                  <a:lnTo>
                    <a:pt x="639" y="658"/>
                  </a:lnTo>
                  <a:lnTo>
                    <a:pt x="646" y="658"/>
                  </a:lnTo>
                  <a:lnTo>
                    <a:pt x="659" y="651"/>
                  </a:lnTo>
                  <a:lnTo>
                    <a:pt x="665" y="651"/>
                  </a:lnTo>
                  <a:lnTo>
                    <a:pt x="672" y="651"/>
                  </a:lnTo>
                  <a:lnTo>
                    <a:pt x="679" y="658"/>
                  </a:lnTo>
                  <a:lnTo>
                    <a:pt x="679" y="658"/>
                  </a:lnTo>
                  <a:lnTo>
                    <a:pt x="685" y="664"/>
                  </a:lnTo>
                  <a:lnTo>
                    <a:pt x="685" y="671"/>
                  </a:lnTo>
                  <a:lnTo>
                    <a:pt x="692" y="678"/>
                  </a:lnTo>
                  <a:lnTo>
                    <a:pt x="692" y="684"/>
                  </a:lnTo>
                  <a:lnTo>
                    <a:pt x="698" y="684"/>
                  </a:lnTo>
                  <a:lnTo>
                    <a:pt x="705" y="691"/>
                  </a:lnTo>
                  <a:lnTo>
                    <a:pt x="705" y="697"/>
                  </a:lnTo>
                  <a:lnTo>
                    <a:pt x="712" y="704"/>
                  </a:lnTo>
                  <a:lnTo>
                    <a:pt x="712" y="704"/>
                  </a:lnTo>
                  <a:lnTo>
                    <a:pt x="712" y="711"/>
                  </a:lnTo>
                  <a:lnTo>
                    <a:pt x="712" y="717"/>
                  </a:lnTo>
                  <a:lnTo>
                    <a:pt x="718" y="724"/>
                  </a:lnTo>
                  <a:lnTo>
                    <a:pt x="718" y="730"/>
                  </a:lnTo>
                  <a:lnTo>
                    <a:pt x="718" y="737"/>
                  </a:lnTo>
                  <a:lnTo>
                    <a:pt x="725" y="737"/>
                  </a:lnTo>
                  <a:lnTo>
                    <a:pt x="731" y="737"/>
                  </a:lnTo>
                  <a:lnTo>
                    <a:pt x="744" y="737"/>
                  </a:lnTo>
                  <a:lnTo>
                    <a:pt x="751" y="737"/>
                  </a:lnTo>
                  <a:lnTo>
                    <a:pt x="758" y="744"/>
                  </a:lnTo>
                  <a:lnTo>
                    <a:pt x="764" y="750"/>
                  </a:lnTo>
                  <a:lnTo>
                    <a:pt x="764" y="750"/>
                  </a:lnTo>
                  <a:lnTo>
                    <a:pt x="771" y="757"/>
                  </a:lnTo>
                  <a:lnTo>
                    <a:pt x="777" y="763"/>
                  </a:lnTo>
                  <a:lnTo>
                    <a:pt x="784" y="763"/>
                  </a:lnTo>
                  <a:lnTo>
                    <a:pt x="791" y="770"/>
                  </a:lnTo>
                  <a:lnTo>
                    <a:pt x="791" y="776"/>
                  </a:lnTo>
                  <a:lnTo>
                    <a:pt x="797" y="776"/>
                  </a:lnTo>
                  <a:lnTo>
                    <a:pt x="804" y="783"/>
                  </a:lnTo>
                  <a:lnTo>
                    <a:pt x="810" y="783"/>
                  </a:lnTo>
                  <a:lnTo>
                    <a:pt x="817" y="790"/>
                  </a:lnTo>
                  <a:lnTo>
                    <a:pt x="824" y="796"/>
                  </a:lnTo>
                  <a:lnTo>
                    <a:pt x="830" y="796"/>
                  </a:lnTo>
                  <a:lnTo>
                    <a:pt x="837" y="803"/>
                  </a:lnTo>
                  <a:lnTo>
                    <a:pt x="843" y="803"/>
                  </a:lnTo>
                  <a:lnTo>
                    <a:pt x="843" y="809"/>
                  </a:lnTo>
                  <a:lnTo>
                    <a:pt x="850" y="816"/>
                  </a:lnTo>
                  <a:lnTo>
                    <a:pt x="857" y="816"/>
                  </a:lnTo>
                  <a:lnTo>
                    <a:pt x="863" y="823"/>
                  </a:lnTo>
                  <a:lnTo>
                    <a:pt x="870" y="829"/>
                  </a:lnTo>
                  <a:lnTo>
                    <a:pt x="876" y="829"/>
                  </a:lnTo>
                  <a:lnTo>
                    <a:pt x="876" y="836"/>
                  </a:lnTo>
                  <a:lnTo>
                    <a:pt x="883" y="842"/>
                  </a:lnTo>
                  <a:lnTo>
                    <a:pt x="889" y="842"/>
                  </a:lnTo>
                  <a:lnTo>
                    <a:pt x="896" y="849"/>
                  </a:lnTo>
                  <a:lnTo>
                    <a:pt x="903" y="849"/>
                  </a:lnTo>
                  <a:lnTo>
                    <a:pt x="909" y="855"/>
                  </a:lnTo>
                  <a:lnTo>
                    <a:pt x="916" y="862"/>
                  </a:lnTo>
                  <a:lnTo>
                    <a:pt x="916" y="862"/>
                  </a:lnTo>
                  <a:lnTo>
                    <a:pt x="922" y="869"/>
                  </a:lnTo>
                  <a:lnTo>
                    <a:pt x="929" y="875"/>
                  </a:lnTo>
                  <a:lnTo>
                    <a:pt x="936" y="875"/>
                  </a:lnTo>
                  <a:lnTo>
                    <a:pt x="942" y="882"/>
                  </a:lnTo>
                  <a:lnTo>
                    <a:pt x="949" y="888"/>
                  </a:lnTo>
                  <a:lnTo>
                    <a:pt x="949" y="888"/>
                  </a:lnTo>
                  <a:lnTo>
                    <a:pt x="955" y="895"/>
                  </a:lnTo>
                  <a:lnTo>
                    <a:pt x="962" y="902"/>
                  </a:lnTo>
                  <a:lnTo>
                    <a:pt x="969" y="902"/>
                  </a:lnTo>
                  <a:lnTo>
                    <a:pt x="975" y="908"/>
                  </a:lnTo>
                  <a:lnTo>
                    <a:pt x="982" y="908"/>
                  </a:lnTo>
                  <a:lnTo>
                    <a:pt x="988" y="902"/>
                  </a:lnTo>
                  <a:lnTo>
                    <a:pt x="995" y="895"/>
                  </a:lnTo>
                  <a:close/>
                  <a:moveTo>
                    <a:pt x="1153" y="895"/>
                  </a:moveTo>
                  <a:lnTo>
                    <a:pt x="1153" y="888"/>
                  </a:lnTo>
                  <a:lnTo>
                    <a:pt x="1153" y="882"/>
                  </a:lnTo>
                  <a:lnTo>
                    <a:pt x="1153" y="875"/>
                  </a:lnTo>
                  <a:lnTo>
                    <a:pt x="1153" y="875"/>
                  </a:lnTo>
                  <a:lnTo>
                    <a:pt x="1153" y="869"/>
                  </a:lnTo>
                  <a:lnTo>
                    <a:pt x="1146" y="862"/>
                  </a:lnTo>
                  <a:lnTo>
                    <a:pt x="1140" y="862"/>
                  </a:lnTo>
                  <a:lnTo>
                    <a:pt x="1133" y="869"/>
                  </a:lnTo>
                  <a:lnTo>
                    <a:pt x="1133" y="875"/>
                  </a:lnTo>
                  <a:lnTo>
                    <a:pt x="1133" y="882"/>
                  </a:lnTo>
                  <a:lnTo>
                    <a:pt x="1133" y="888"/>
                  </a:lnTo>
                  <a:lnTo>
                    <a:pt x="1133" y="888"/>
                  </a:lnTo>
                  <a:lnTo>
                    <a:pt x="1140" y="895"/>
                  </a:lnTo>
                  <a:lnTo>
                    <a:pt x="1140" y="902"/>
                  </a:lnTo>
                  <a:lnTo>
                    <a:pt x="1140" y="908"/>
                  </a:lnTo>
                  <a:lnTo>
                    <a:pt x="1140" y="915"/>
                  </a:lnTo>
                  <a:lnTo>
                    <a:pt x="1146" y="915"/>
                  </a:lnTo>
                  <a:lnTo>
                    <a:pt x="1146" y="915"/>
                  </a:lnTo>
                  <a:lnTo>
                    <a:pt x="1146" y="908"/>
                  </a:lnTo>
                  <a:lnTo>
                    <a:pt x="1153" y="895"/>
                  </a:lnTo>
                  <a:close/>
                  <a:moveTo>
                    <a:pt x="132" y="783"/>
                  </a:moveTo>
                  <a:lnTo>
                    <a:pt x="112" y="763"/>
                  </a:lnTo>
                  <a:lnTo>
                    <a:pt x="112" y="783"/>
                  </a:lnTo>
                  <a:lnTo>
                    <a:pt x="132" y="783"/>
                  </a:lnTo>
                  <a:close/>
                  <a:moveTo>
                    <a:pt x="1087" y="783"/>
                  </a:moveTo>
                  <a:lnTo>
                    <a:pt x="1087" y="776"/>
                  </a:lnTo>
                  <a:lnTo>
                    <a:pt x="1087" y="770"/>
                  </a:lnTo>
                  <a:lnTo>
                    <a:pt x="1094" y="763"/>
                  </a:lnTo>
                  <a:lnTo>
                    <a:pt x="1094" y="763"/>
                  </a:lnTo>
                  <a:lnTo>
                    <a:pt x="1094" y="757"/>
                  </a:lnTo>
                  <a:lnTo>
                    <a:pt x="1094" y="750"/>
                  </a:lnTo>
                  <a:lnTo>
                    <a:pt x="1094" y="744"/>
                  </a:lnTo>
                  <a:lnTo>
                    <a:pt x="1094" y="737"/>
                  </a:lnTo>
                  <a:lnTo>
                    <a:pt x="1094" y="730"/>
                  </a:lnTo>
                  <a:lnTo>
                    <a:pt x="1100" y="724"/>
                  </a:lnTo>
                  <a:lnTo>
                    <a:pt x="1100" y="717"/>
                  </a:lnTo>
                  <a:lnTo>
                    <a:pt x="1100" y="717"/>
                  </a:lnTo>
                  <a:lnTo>
                    <a:pt x="1100" y="711"/>
                  </a:lnTo>
                  <a:lnTo>
                    <a:pt x="1094" y="704"/>
                  </a:lnTo>
                  <a:lnTo>
                    <a:pt x="1094" y="697"/>
                  </a:lnTo>
                  <a:lnTo>
                    <a:pt x="1087" y="691"/>
                  </a:lnTo>
                  <a:lnTo>
                    <a:pt x="1087" y="697"/>
                  </a:lnTo>
                  <a:lnTo>
                    <a:pt x="1081" y="704"/>
                  </a:lnTo>
                  <a:lnTo>
                    <a:pt x="1081" y="711"/>
                  </a:lnTo>
                  <a:lnTo>
                    <a:pt x="1081" y="717"/>
                  </a:lnTo>
                  <a:lnTo>
                    <a:pt x="1081" y="724"/>
                  </a:lnTo>
                  <a:lnTo>
                    <a:pt x="1081" y="724"/>
                  </a:lnTo>
                  <a:lnTo>
                    <a:pt x="1081" y="730"/>
                  </a:lnTo>
                  <a:lnTo>
                    <a:pt x="1081" y="737"/>
                  </a:lnTo>
                  <a:lnTo>
                    <a:pt x="1081" y="744"/>
                  </a:lnTo>
                  <a:lnTo>
                    <a:pt x="1081" y="750"/>
                  </a:lnTo>
                  <a:lnTo>
                    <a:pt x="1081" y="757"/>
                  </a:lnTo>
                  <a:lnTo>
                    <a:pt x="1081" y="763"/>
                  </a:lnTo>
                  <a:lnTo>
                    <a:pt x="1081" y="763"/>
                  </a:lnTo>
                  <a:lnTo>
                    <a:pt x="1081" y="770"/>
                  </a:lnTo>
                  <a:lnTo>
                    <a:pt x="1087" y="776"/>
                  </a:lnTo>
                  <a:lnTo>
                    <a:pt x="1087" y="783"/>
                  </a:lnTo>
                  <a:close/>
                  <a:moveTo>
                    <a:pt x="2036" y="783"/>
                  </a:moveTo>
                  <a:lnTo>
                    <a:pt x="2036" y="776"/>
                  </a:lnTo>
                  <a:lnTo>
                    <a:pt x="2043" y="776"/>
                  </a:lnTo>
                  <a:lnTo>
                    <a:pt x="2043" y="770"/>
                  </a:lnTo>
                  <a:lnTo>
                    <a:pt x="2049" y="763"/>
                  </a:lnTo>
                  <a:lnTo>
                    <a:pt x="2056" y="763"/>
                  </a:lnTo>
                  <a:lnTo>
                    <a:pt x="2056" y="757"/>
                  </a:lnTo>
                  <a:lnTo>
                    <a:pt x="2056" y="750"/>
                  </a:lnTo>
                  <a:lnTo>
                    <a:pt x="2056" y="744"/>
                  </a:lnTo>
                  <a:lnTo>
                    <a:pt x="2056" y="737"/>
                  </a:lnTo>
                  <a:lnTo>
                    <a:pt x="2056" y="737"/>
                  </a:lnTo>
                  <a:lnTo>
                    <a:pt x="2056" y="730"/>
                  </a:lnTo>
                  <a:lnTo>
                    <a:pt x="2056" y="724"/>
                  </a:lnTo>
                  <a:lnTo>
                    <a:pt x="2056" y="717"/>
                  </a:lnTo>
                  <a:lnTo>
                    <a:pt x="2056" y="717"/>
                  </a:lnTo>
                  <a:lnTo>
                    <a:pt x="2056" y="711"/>
                  </a:lnTo>
                  <a:lnTo>
                    <a:pt x="2056" y="704"/>
                  </a:lnTo>
                  <a:lnTo>
                    <a:pt x="2062" y="697"/>
                  </a:lnTo>
                  <a:lnTo>
                    <a:pt x="2062" y="704"/>
                  </a:lnTo>
                  <a:lnTo>
                    <a:pt x="2062" y="711"/>
                  </a:lnTo>
                  <a:lnTo>
                    <a:pt x="2069" y="717"/>
                  </a:lnTo>
                  <a:lnTo>
                    <a:pt x="2069" y="717"/>
                  </a:lnTo>
                  <a:lnTo>
                    <a:pt x="2069" y="724"/>
                  </a:lnTo>
                  <a:lnTo>
                    <a:pt x="2069" y="730"/>
                  </a:lnTo>
                  <a:lnTo>
                    <a:pt x="2069" y="730"/>
                  </a:lnTo>
                  <a:lnTo>
                    <a:pt x="2069" y="737"/>
                  </a:lnTo>
                  <a:lnTo>
                    <a:pt x="2069" y="744"/>
                  </a:lnTo>
                  <a:lnTo>
                    <a:pt x="2069" y="750"/>
                  </a:lnTo>
                  <a:lnTo>
                    <a:pt x="2069" y="750"/>
                  </a:lnTo>
                  <a:lnTo>
                    <a:pt x="2069" y="757"/>
                  </a:lnTo>
                  <a:lnTo>
                    <a:pt x="2069" y="763"/>
                  </a:lnTo>
                  <a:lnTo>
                    <a:pt x="2069" y="770"/>
                  </a:lnTo>
                  <a:lnTo>
                    <a:pt x="2069" y="776"/>
                  </a:lnTo>
                  <a:lnTo>
                    <a:pt x="2062" y="776"/>
                  </a:lnTo>
                  <a:lnTo>
                    <a:pt x="2062" y="783"/>
                  </a:lnTo>
                  <a:lnTo>
                    <a:pt x="2056" y="790"/>
                  </a:lnTo>
                  <a:lnTo>
                    <a:pt x="2043" y="790"/>
                  </a:lnTo>
                  <a:lnTo>
                    <a:pt x="2036" y="790"/>
                  </a:lnTo>
                  <a:lnTo>
                    <a:pt x="2036" y="783"/>
                  </a:lnTo>
                  <a:close/>
                  <a:moveTo>
                    <a:pt x="184" y="757"/>
                  </a:moveTo>
                  <a:lnTo>
                    <a:pt x="184" y="744"/>
                  </a:lnTo>
                  <a:lnTo>
                    <a:pt x="178" y="737"/>
                  </a:lnTo>
                  <a:lnTo>
                    <a:pt x="178" y="730"/>
                  </a:lnTo>
                  <a:lnTo>
                    <a:pt x="171" y="730"/>
                  </a:lnTo>
                  <a:lnTo>
                    <a:pt x="165" y="730"/>
                  </a:lnTo>
                  <a:lnTo>
                    <a:pt x="158" y="737"/>
                  </a:lnTo>
                  <a:lnTo>
                    <a:pt x="158" y="744"/>
                  </a:lnTo>
                  <a:lnTo>
                    <a:pt x="151" y="750"/>
                  </a:lnTo>
                  <a:lnTo>
                    <a:pt x="158" y="757"/>
                  </a:lnTo>
                  <a:lnTo>
                    <a:pt x="158" y="763"/>
                  </a:lnTo>
                  <a:lnTo>
                    <a:pt x="171" y="770"/>
                  </a:lnTo>
                  <a:lnTo>
                    <a:pt x="171" y="770"/>
                  </a:lnTo>
                  <a:lnTo>
                    <a:pt x="178" y="763"/>
                  </a:lnTo>
                  <a:lnTo>
                    <a:pt x="184" y="757"/>
                  </a:lnTo>
                  <a:close/>
                  <a:moveTo>
                    <a:pt x="441" y="730"/>
                  </a:moveTo>
                  <a:lnTo>
                    <a:pt x="448" y="724"/>
                  </a:lnTo>
                  <a:lnTo>
                    <a:pt x="448" y="724"/>
                  </a:lnTo>
                  <a:lnTo>
                    <a:pt x="455" y="724"/>
                  </a:lnTo>
                  <a:lnTo>
                    <a:pt x="461" y="724"/>
                  </a:lnTo>
                  <a:lnTo>
                    <a:pt x="461" y="724"/>
                  </a:lnTo>
                  <a:lnTo>
                    <a:pt x="461" y="730"/>
                  </a:lnTo>
                  <a:lnTo>
                    <a:pt x="461" y="730"/>
                  </a:lnTo>
                  <a:lnTo>
                    <a:pt x="455" y="730"/>
                  </a:lnTo>
                  <a:lnTo>
                    <a:pt x="455" y="737"/>
                  </a:lnTo>
                  <a:lnTo>
                    <a:pt x="448" y="737"/>
                  </a:lnTo>
                  <a:lnTo>
                    <a:pt x="448" y="737"/>
                  </a:lnTo>
                  <a:lnTo>
                    <a:pt x="441" y="737"/>
                  </a:lnTo>
                  <a:lnTo>
                    <a:pt x="441" y="730"/>
                  </a:lnTo>
                  <a:lnTo>
                    <a:pt x="441" y="730"/>
                  </a:lnTo>
                  <a:close/>
                  <a:moveTo>
                    <a:pt x="540" y="730"/>
                  </a:moveTo>
                  <a:lnTo>
                    <a:pt x="547" y="717"/>
                  </a:lnTo>
                  <a:lnTo>
                    <a:pt x="547" y="717"/>
                  </a:lnTo>
                  <a:lnTo>
                    <a:pt x="553" y="711"/>
                  </a:lnTo>
                  <a:lnTo>
                    <a:pt x="560" y="711"/>
                  </a:lnTo>
                  <a:lnTo>
                    <a:pt x="567" y="717"/>
                  </a:lnTo>
                  <a:lnTo>
                    <a:pt x="573" y="724"/>
                  </a:lnTo>
                  <a:lnTo>
                    <a:pt x="580" y="724"/>
                  </a:lnTo>
                  <a:lnTo>
                    <a:pt x="573" y="730"/>
                  </a:lnTo>
                  <a:lnTo>
                    <a:pt x="567" y="737"/>
                  </a:lnTo>
                  <a:lnTo>
                    <a:pt x="560" y="737"/>
                  </a:lnTo>
                  <a:lnTo>
                    <a:pt x="553" y="737"/>
                  </a:lnTo>
                  <a:lnTo>
                    <a:pt x="547" y="737"/>
                  </a:lnTo>
                  <a:lnTo>
                    <a:pt x="547" y="737"/>
                  </a:lnTo>
                  <a:lnTo>
                    <a:pt x="540" y="730"/>
                  </a:lnTo>
                  <a:close/>
                  <a:moveTo>
                    <a:pt x="1113" y="671"/>
                  </a:moveTo>
                  <a:lnTo>
                    <a:pt x="1113" y="664"/>
                  </a:lnTo>
                  <a:lnTo>
                    <a:pt x="1120" y="658"/>
                  </a:lnTo>
                  <a:lnTo>
                    <a:pt x="1120" y="651"/>
                  </a:lnTo>
                  <a:lnTo>
                    <a:pt x="1120" y="645"/>
                  </a:lnTo>
                  <a:lnTo>
                    <a:pt x="1120" y="638"/>
                  </a:lnTo>
                  <a:lnTo>
                    <a:pt x="1120" y="632"/>
                  </a:lnTo>
                  <a:lnTo>
                    <a:pt x="1127" y="625"/>
                  </a:lnTo>
                  <a:lnTo>
                    <a:pt x="1127" y="618"/>
                  </a:lnTo>
                  <a:lnTo>
                    <a:pt x="1127" y="612"/>
                  </a:lnTo>
                  <a:lnTo>
                    <a:pt x="1120" y="599"/>
                  </a:lnTo>
                  <a:lnTo>
                    <a:pt x="1120" y="592"/>
                  </a:lnTo>
                  <a:lnTo>
                    <a:pt x="1127" y="585"/>
                  </a:lnTo>
                  <a:lnTo>
                    <a:pt x="1133" y="585"/>
                  </a:lnTo>
                  <a:lnTo>
                    <a:pt x="1140" y="579"/>
                  </a:lnTo>
                  <a:lnTo>
                    <a:pt x="1146" y="572"/>
                  </a:lnTo>
                  <a:lnTo>
                    <a:pt x="1153" y="566"/>
                  </a:lnTo>
                  <a:lnTo>
                    <a:pt x="1153" y="559"/>
                  </a:lnTo>
                  <a:lnTo>
                    <a:pt x="1153" y="553"/>
                  </a:lnTo>
                  <a:lnTo>
                    <a:pt x="1153" y="546"/>
                  </a:lnTo>
                  <a:lnTo>
                    <a:pt x="1153" y="539"/>
                  </a:lnTo>
                  <a:lnTo>
                    <a:pt x="1146" y="533"/>
                  </a:lnTo>
                  <a:lnTo>
                    <a:pt x="1146" y="520"/>
                  </a:lnTo>
                  <a:lnTo>
                    <a:pt x="1146" y="513"/>
                  </a:lnTo>
                  <a:lnTo>
                    <a:pt x="1146" y="506"/>
                  </a:lnTo>
                  <a:lnTo>
                    <a:pt x="1140" y="506"/>
                  </a:lnTo>
                  <a:lnTo>
                    <a:pt x="1140" y="506"/>
                  </a:lnTo>
                  <a:lnTo>
                    <a:pt x="1140" y="513"/>
                  </a:lnTo>
                  <a:lnTo>
                    <a:pt x="1140" y="526"/>
                  </a:lnTo>
                  <a:lnTo>
                    <a:pt x="1133" y="533"/>
                  </a:lnTo>
                  <a:lnTo>
                    <a:pt x="1127" y="539"/>
                  </a:lnTo>
                  <a:lnTo>
                    <a:pt x="1120" y="546"/>
                  </a:lnTo>
                  <a:lnTo>
                    <a:pt x="1120" y="553"/>
                  </a:lnTo>
                  <a:lnTo>
                    <a:pt x="1113" y="559"/>
                  </a:lnTo>
                  <a:lnTo>
                    <a:pt x="1107" y="566"/>
                  </a:lnTo>
                  <a:lnTo>
                    <a:pt x="1107" y="572"/>
                  </a:lnTo>
                  <a:lnTo>
                    <a:pt x="1107" y="579"/>
                  </a:lnTo>
                  <a:lnTo>
                    <a:pt x="1107" y="585"/>
                  </a:lnTo>
                  <a:lnTo>
                    <a:pt x="1107" y="592"/>
                  </a:lnTo>
                  <a:lnTo>
                    <a:pt x="1107" y="599"/>
                  </a:lnTo>
                  <a:lnTo>
                    <a:pt x="1107" y="605"/>
                  </a:lnTo>
                  <a:lnTo>
                    <a:pt x="1107" y="612"/>
                  </a:lnTo>
                  <a:lnTo>
                    <a:pt x="1107" y="618"/>
                  </a:lnTo>
                  <a:lnTo>
                    <a:pt x="1107" y="625"/>
                  </a:lnTo>
                  <a:lnTo>
                    <a:pt x="1107" y="632"/>
                  </a:lnTo>
                  <a:lnTo>
                    <a:pt x="1107" y="638"/>
                  </a:lnTo>
                  <a:lnTo>
                    <a:pt x="1107" y="645"/>
                  </a:lnTo>
                  <a:lnTo>
                    <a:pt x="1107" y="651"/>
                  </a:lnTo>
                  <a:lnTo>
                    <a:pt x="1107" y="658"/>
                  </a:lnTo>
                  <a:lnTo>
                    <a:pt x="1107" y="664"/>
                  </a:lnTo>
                  <a:lnTo>
                    <a:pt x="1113" y="671"/>
                  </a:lnTo>
                  <a:close/>
                  <a:moveTo>
                    <a:pt x="718" y="645"/>
                  </a:moveTo>
                  <a:lnTo>
                    <a:pt x="712" y="638"/>
                  </a:lnTo>
                  <a:lnTo>
                    <a:pt x="705" y="632"/>
                  </a:lnTo>
                  <a:lnTo>
                    <a:pt x="705" y="618"/>
                  </a:lnTo>
                  <a:lnTo>
                    <a:pt x="712" y="612"/>
                  </a:lnTo>
                  <a:lnTo>
                    <a:pt x="718" y="605"/>
                  </a:lnTo>
                  <a:lnTo>
                    <a:pt x="718" y="592"/>
                  </a:lnTo>
                  <a:lnTo>
                    <a:pt x="725" y="592"/>
                  </a:lnTo>
                  <a:lnTo>
                    <a:pt x="731" y="599"/>
                  </a:lnTo>
                  <a:lnTo>
                    <a:pt x="731" y="605"/>
                  </a:lnTo>
                  <a:lnTo>
                    <a:pt x="731" y="618"/>
                  </a:lnTo>
                  <a:lnTo>
                    <a:pt x="731" y="625"/>
                  </a:lnTo>
                  <a:lnTo>
                    <a:pt x="738" y="632"/>
                  </a:lnTo>
                  <a:lnTo>
                    <a:pt x="738" y="638"/>
                  </a:lnTo>
                  <a:lnTo>
                    <a:pt x="731" y="651"/>
                  </a:lnTo>
                  <a:lnTo>
                    <a:pt x="731" y="658"/>
                  </a:lnTo>
                  <a:lnTo>
                    <a:pt x="731" y="664"/>
                  </a:lnTo>
                  <a:lnTo>
                    <a:pt x="725" y="671"/>
                  </a:lnTo>
                  <a:lnTo>
                    <a:pt x="718" y="664"/>
                  </a:lnTo>
                  <a:lnTo>
                    <a:pt x="718" y="658"/>
                  </a:lnTo>
                  <a:lnTo>
                    <a:pt x="718" y="645"/>
                  </a:lnTo>
                  <a:close/>
                  <a:moveTo>
                    <a:pt x="777" y="645"/>
                  </a:moveTo>
                  <a:lnTo>
                    <a:pt x="777" y="638"/>
                  </a:lnTo>
                  <a:lnTo>
                    <a:pt x="777" y="638"/>
                  </a:lnTo>
                  <a:lnTo>
                    <a:pt x="777" y="638"/>
                  </a:lnTo>
                  <a:lnTo>
                    <a:pt x="784" y="638"/>
                  </a:lnTo>
                  <a:lnTo>
                    <a:pt x="784" y="638"/>
                  </a:lnTo>
                  <a:lnTo>
                    <a:pt x="784" y="638"/>
                  </a:lnTo>
                  <a:lnTo>
                    <a:pt x="784" y="645"/>
                  </a:lnTo>
                  <a:lnTo>
                    <a:pt x="784" y="645"/>
                  </a:lnTo>
                  <a:lnTo>
                    <a:pt x="784" y="645"/>
                  </a:lnTo>
                  <a:lnTo>
                    <a:pt x="784" y="651"/>
                  </a:lnTo>
                  <a:lnTo>
                    <a:pt x="784" y="651"/>
                  </a:lnTo>
                  <a:lnTo>
                    <a:pt x="777" y="651"/>
                  </a:lnTo>
                  <a:lnTo>
                    <a:pt x="777" y="645"/>
                  </a:lnTo>
                  <a:lnTo>
                    <a:pt x="777" y="645"/>
                  </a:lnTo>
                  <a:close/>
                  <a:moveTo>
                    <a:pt x="804" y="585"/>
                  </a:moveTo>
                  <a:lnTo>
                    <a:pt x="804" y="579"/>
                  </a:lnTo>
                  <a:lnTo>
                    <a:pt x="804" y="579"/>
                  </a:lnTo>
                  <a:lnTo>
                    <a:pt x="804" y="572"/>
                  </a:lnTo>
                  <a:lnTo>
                    <a:pt x="804" y="566"/>
                  </a:lnTo>
                  <a:lnTo>
                    <a:pt x="804" y="559"/>
                  </a:lnTo>
                  <a:lnTo>
                    <a:pt x="804" y="553"/>
                  </a:lnTo>
                  <a:lnTo>
                    <a:pt x="804" y="546"/>
                  </a:lnTo>
                  <a:lnTo>
                    <a:pt x="804" y="546"/>
                  </a:lnTo>
                  <a:lnTo>
                    <a:pt x="810" y="539"/>
                  </a:lnTo>
                  <a:lnTo>
                    <a:pt x="817" y="539"/>
                  </a:lnTo>
                  <a:lnTo>
                    <a:pt x="824" y="533"/>
                  </a:lnTo>
                  <a:lnTo>
                    <a:pt x="830" y="533"/>
                  </a:lnTo>
                  <a:lnTo>
                    <a:pt x="837" y="526"/>
                  </a:lnTo>
                  <a:lnTo>
                    <a:pt x="837" y="526"/>
                  </a:lnTo>
                  <a:lnTo>
                    <a:pt x="837" y="520"/>
                  </a:lnTo>
                  <a:lnTo>
                    <a:pt x="837" y="513"/>
                  </a:lnTo>
                  <a:lnTo>
                    <a:pt x="837" y="506"/>
                  </a:lnTo>
                  <a:lnTo>
                    <a:pt x="843" y="506"/>
                  </a:lnTo>
                  <a:lnTo>
                    <a:pt x="843" y="513"/>
                  </a:lnTo>
                  <a:lnTo>
                    <a:pt x="843" y="520"/>
                  </a:lnTo>
                  <a:lnTo>
                    <a:pt x="843" y="526"/>
                  </a:lnTo>
                  <a:lnTo>
                    <a:pt x="837" y="526"/>
                  </a:lnTo>
                  <a:lnTo>
                    <a:pt x="837" y="533"/>
                  </a:lnTo>
                  <a:lnTo>
                    <a:pt x="837" y="539"/>
                  </a:lnTo>
                  <a:lnTo>
                    <a:pt x="837" y="546"/>
                  </a:lnTo>
                  <a:lnTo>
                    <a:pt x="837" y="553"/>
                  </a:lnTo>
                  <a:lnTo>
                    <a:pt x="837" y="559"/>
                  </a:lnTo>
                  <a:lnTo>
                    <a:pt x="837" y="559"/>
                  </a:lnTo>
                  <a:lnTo>
                    <a:pt x="830" y="566"/>
                  </a:lnTo>
                  <a:lnTo>
                    <a:pt x="830" y="572"/>
                  </a:lnTo>
                  <a:lnTo>
                    <a:pt x="824" y="572"/>
                  </a:lnTo>
                  <a:lnTo>
                    <a:pt x="817" y="579"/>
                  </a:lnTo>
                  <a:lnTo>
                    <a:pt x="810" y="585"/>
                  </a:lnTo>
                  <a:lnTo>
                    <a:pt x="810" y="592"/>
                  </a:lnTo>
                  <a:lnTo>
                    <a:pt x="810" y="599"/>
                  </a:lnTo>
                  <a:lnTo>
                    <a:pt x="810" y="599"/>
                  </a:lnTo>
                  <a:lnTo>
                    <a:pt x="810" y="599"/>
                  </a:lnTo>
                  <a:lnTo>
                    <a:pt x="804" y="585"/>
                  </a:lnTo>
                  <a:close/>
                  <a:moveTo>
                    <a:pt x="1700" y="559"/>
                  </a:moveTo>
                  <a:lnTo>
                    <a:pt x="1700" y="559"/>
                  </a:lnTo>
                  <a:lnTo>
                    <a:pt x="1700" y="559"/>
                  </a:lnTo>
                  <a:lnTo>
                    <a:pt x="1693" y="559"/>
                  </a:lnTo>
                  <a:lnTo>
                    <a:pt x="1693" y="559"/>
                  </a:lnTo>
                  <a:lnTo>
                    <a:pt x="1687" y="559"/>
                  </a:lnTo>
                  <a:lnTo>
                    <a:pt x="1687" y="559"/>
                  </a:lnTo>
                  <a:lnTo>
                    <a:pt x="1680" y="559"/>
                  </a:lnTo>
                  <a:lnTo>
                    <a:pt x="1680" y="559"/>
                  </a:lnTo>
                  <a:lnTo>
                    <a:pt x="1687" y="559"/>
                  </a:lnTo>
                  <a:lnTo>
                    <a:pt x="1687" y="559"/>
                  </a:lnTo>
                  <a:lnTo>
                    <a:pt x="1693" y="559"/>
                  </a:lnTo>
                  <a:lnTo>
                    <a:pt x="1693" y="559"/>
                  </a:lnTo>
                  <a:lnTo>
                    <a:pt x="1700" y="559"/>
                  </a:lnTo>
                  <a:lnTo>
                    <a:pt x="1700" y="559"/>
                  </a:lnTo>
                  <a:close/>
                  <a:moveTo>
                    <a:pt x="1687" y="533"/>
                  </a:moveTo>
                  <a:lnTo>
                    <a:pt x="1680" y="520"/>
                  </a:lnTo>
                  <a:lnTo>
                    <a:pt x="1680" y="520"/>
                  </a:lnTo>
                  <a:lnTo>
                    <a:pt x="1667" y="513"/>
                  </a:lnTo>
                  <a:lnTo>
                    <a:pt x="1660" y="520"/>
                  </a:lnTo>
                  <a:lnTo>
                    <a:pt x="1654" y="526"/>
                  </a:lnTo>
                  <a:lnTo>
                    <a:pt x="1654" y="533"/>
                  </a:lnTo>
                  <a:lnTo>
                    <a:pt x="1654" y="546"/>
                  </a:lnTo>
                  <a:lnTo>
                    <a:pt x="1660" y="553"/>
                  </a:lnTo>
                  <a:lnTo>
                    <a:pt x="1667" y="559"/>
                  </a:lnTo>
                  <a:lnTo>
                    <a:pt x="1674" y="559"/>
                  </a:lnTo>
                  <a:lnTo>
                    <a:pt x="1680" y="559"/>
                  </a:lnTo>
                  <a:lnTo>
                    <a:pt x="1680" y="553"/>
                  </a:lnTo>
                  <a:lnTo>
                    <a:pt x="1687" y="546"/>
                  </a:lnTo>
                  <a:lnTo>
                    <a:pt x="1687" y="533"/>
                  </a:lnTo>
                  <a:close/>
                  <a:moveTo>
                    <a:pt x="1733" y="533"/>
                  </a:moveTo>
                  <a:lnTo>
                    <a:pt x="1733" y="533"/>
                  </a:lnTo>
                  <a:lnTo>
                    <a:pt x="1726" y="533"/>
                  </a:lnTo>
                  <a:lnTo>
                    <a:pt x="1726" y="533"/>
                  </a:lnTo>
                  <a:lnTo>
                    <a:pt x="1726" y="533"/>
                  </a:lnTo>
                  <a:lnTo>
                    <a:pt x="1726" y="533"/>
                  </a:lnTo>
                  <a:lnTo>
                    <a:pt x="1726" y="533"/>
                  </a:lnTo>
                  <a:lnTo>
                    <a:pt x="1726" y="533"/>
                  </a:lnTo>
                  <a:lnTo>
                    <a:pt x="1726" y="533"/>
                  </a:lnTo>
                  <a:lnTo>
                    <a:pt x="1726" y="533"/>
                  </a:lnTo>
                  <a:lnTo>
                    <a:pt x="1726" y="533"/>
                  </a:lnTo>
                  <a:lnTo>
                    <a:pt x="1726" y="533"/>
                  </a:lnTo>
                  <a:lnTo>
                    <a:pt x="1726" y="533"/>
                  </a:lnTo>
                  <a:lnTo>
                    <a:pt x="1733" y="533"/>
                  </a:lnTo>
                  <a:lnTo>
                    <a:pt x="1733" y="533"/>
                  </a:lnTo>
                  <a:close/>
                  <a:moveTo>
                    <a:pt x="1179" y="506"/>
                  </a:moveTo>
                  <a:lnTo>
                    <a:pt x="1179" y="500"/>
                  </a:lnTo>
                  <a:lnTo>
                    <a:pt x="1179" y="493"/>
                  </a:lnTo>
                  <a:lnTo>
                    <a:pt x="1173" y="493"/>
                  </a:lnTo>
                  <a:lnTo>
                    <a:pt x="1173" y="487"/>
                  </a:lnTo>
                  <a:lnTo>
                    <a:pt x="1173" y="480"/>
                  </a:lnTo>
                  <a:lnTo>
                    <a:pt x="1173" y="474"/>
                  </a:lnTo>
                  <a:lnTo>
                    <a:pt x="1173" y="474"/>
                  </a:lnTo>
                  <a:lnTo>
                    <a:pt x="1166" y="480"/>
                  </a:lnTo>
                  <a:lnTo>
                    <a:pt x="1166" y="480"/>
                  </a:lnTo>
                  <a:lnTo>
                    <a:pt x="1160" y="487"/>
                  </a:lnTo>
                  <a:lnTo>
                    <a:pt x="1153" y="493"/>
                  </a:lnTo>
                  <a:lnTo>
                    <a:pt x="1146" y="493"/>
                  </a:lnTo>
                  <a:lnTo>
                    <a:pt x="1140" y="500"/>
                  </a:lnTo>
                  <a:lnTo>
                    <a:pt x="1146" y="500"/>
                  </a:lnTo>
                  <a:lnTo>
                    <a:pt x="1146" y="506"/>
                  </a:lnTo>
                  <a:lnTo>
                    <a:pt x="1153" y="506"/>
                  </a:lnTo>
                  <a:lnTo>
                    <a:pt x="1160" y="513"/>
                  </a:lnTo>
                  <a:lnTo>
                    <a:pt x="1173" y="513"/>
                  </a:lnTo>
                  <a:lnTo>
                    <a:pt x="1173" y="506"/>
                  </a:lnTo>
                  <a:lnTo>
                    <a:pt x="1179" y="506"/>
                  </a:lnTo>
                  <a:close/>
                  <a:moveTo>
                    <a:pt x="1377" y="506"/>
                  </a:moveTo>
                  <a:lnTo>
                    <a:pt x="1370" y="500"/>
                  </a:lnTo>
                  <a:lnTo>
                    <a:pt x="1370" y="493"/>
                  </a:lnTo>
                  <a:lnTo>
                    <a:pt x="1370" y="493"/>
                  </a:lnTo>
                  <a:lnTo>
                    <a:pt x="1364" y="493"/>
                  </a:lnTo>
                  <a:lnTo>
                    <a:pt x="1364" y="493"/>
                  </a:lnTo>
                  <a:lnTo>
                    <a:pt x="1364" y="493"/>
                  </a:lnTo>
                  <a:lnTo>
                    <a:pt x="1364" y="493"/>
                  </a:lnTo>
                  <a:lnTo>
                    <a:pt x="1364" y="500"/>
                  </a:lnTo>
                  <a:lnTo>
                    <a:pt x="1364" y="500"/>
                  </a:lnTo>
                  <a:lnTo>
                    <a:pt x="1364" y="506"/>
                  </a:lnTo>
                  <a:lnTo>
                    <a:pt x="1364" y="506"/>
                  </a:lnTo>
                  <a:lnTo>
                    <a:pt x="1370" y="506"/>
                  </a:lnTo>
                  <a:lnTo>
                    <a:pt x="1370" y="506"/>
                  </a:lnTo>
                  <a:lnTo>
                    <a:pt x="1377" y="506"/>
                  </a:lnTo>
                  <a:close/>
                  <a:moveTo>
                    <a:pt x="1713" y="506"/>
                  </a:moveTo>
                  <a:lnTo>
                    <a:pt x="1707" y="500"/>
                  </a:lnTo>
                  <a:lnTo>
                    <a:pt x="1707" y="493"/>
                  </a:lnTo>
                  <a:lnTo>
                    <a:pt x="1700" y="493"/>
                  </a:lnTo>
                  <a:lnTo>
                    <a:pt x="1693" y="493"/>
                  </a:lnTo>
                  <a:lnTo>
                    <a:pt x="1687" y="500"/>
                  </a:lnTo>
                  <a:lnTo>
                    <a:pt x="1687" y="500"/>
                  </a:lnTo>
                  <a:lnTo>
                    <a:pt x="1687" y="506"/>
                  </a:lnTo>
                  <a:lnTo>
                    <a:pt x="1687" y="513"/>
                  </a:lnTo>
                  <a:lnTo>
                    <a:pt x="1693" y="520"/>
                  </a:lnTo>
                  <a:lnTo>
                    <a:pt x="1700" y="520"/>
                  </a:lnTo>
                  <a:lnTo>
                    <a:pt x="1700" y="520"/>
                  </a:lnTo>
                  <a:lnTo>
                    <a:pt x="1707" y="513"/>
                  </a:lnTo>
                  <a:lnTo>
                    <a:pt x="1707" y="513"/>
                  </a:lnTo>
                  <a:lnTo>
                    <a:pt x="1713" y="506"/>
                  </a:lnTo>
                  <a:close/>
                  <a:moveTo>
                    <a:pt x="1812" y="506"/>
                  </a:moveTo>
                  <a:lnTo>
                    <a:pt x="1812" y="500"/>
                  </a:lnTo>
                  <a:lnTo>
                    <a:pt x="1812" y="500"/>
                  </a:lnTo>
                  <a:lnTo>
                    <a:pt x="1805" y="500"/>
                  </a:lnTo>
                  <a:lnTo>
                    <a:pt x="1805" y="500"/>
                  </a:lnTo>
                  <a:lnTo>
                    <a:pt x="1805" y="500"/>
                  </a:lnTo>
                  <a:lnTo>
                    <a:pt x="1799" y="500"/>
                  </a:lnTo>
                  <a:lnTo>
                    <a:pt x="1799" y="506"/>
                  </a:lnTo>
                  <a:lnTo>
                    <a:pt x="1799" y="506"/>
                  </a:lnTo>
                  <a:lnTo>
                    <a:pt x="1805" y="506"/>
                  </a:lnTo>
                  <a:lnTo>
                    <a:pt x="1805" y="506"/>
                  </a:lnTo>
                  <a:lnTo>
                    <a:pt x="1805" y="506"/>
                  </a:lnTo>
                  <a:lnTo>
                    <a:pt x="1812" y="506"/>
                  </a:lnTo>
                  <a:lnTo>
                    <a:pt x="1812" y="506"/>
                  </a:lnTo>
                  <a:lnTo>
                    <a:pt x="1812" y="506"/>
                  </a:lnTo>
                  <a:close/>
                  <a:moveTo>
                    <a:pt x="1423" y="474"/>
                  </a:moveTo>
                  <a:lnTo>
                    <a:pt x="1430" y="474"/>
                  </a:lnTo>
                  <a:lnTo>
                    <a:pt x="1436" y="467"/>
                  </a:lnTo>
                  <a:lnTo>
                    <a:pt x="1436" y="460"/>
                  </a:lnTo>
                  <a:lnTo>
                    <a:pt x="1443" y="454"/>
                  </a:lnTo>
                  <a:lnTo>
                    <a:pt x="1450" y="454"/>
                  </a:lnTo>
                  <a:lnTo>
                    <a:pt x="1456" y="447"/>
                  </a:lnTo>
                  <a:lnTo>
                    <a:pt x="1456" y="441"/>
                  </a:lnTo>
                  <a:lnTo>
                    <a:pt x="1456" y="434"/>
                  </a:lnTo>
                  <a:lnTo>
                    <a:pt x="1450" y="427"/>
                  </a:lnTo>
                  <a:lnTo>
                    <a:pt x="1443" y="427"/>
                  </a:lnTo>
                  <a:lnTo>
                    <a:pt x="1436" y="427"/>
                  </a:lnTo>
                  <a:lnTo>
                    <a:pt x="1430" y="427"/>
                  </a:lnTo>
                  <a:lnTo>
                    <a:pt x="1417" y="427"/>
                  </a:lnTo>
                  <a:lnTo>
                    <a:pt x="1410" y="427"/>
                  </a:lnTo>
                  <a:lnTo>
                    <a:pt x="1397" y="434"/>
                  </a:lnTo>
                  <a:lnTo>
                    <a:pt x="1390" y="434"/>
                  </a:lnTo>
                  <a:lnTo>
                    <a:pt x="1384" y="434"/>
                  </a:lnTo>
                  <a:lnTo>
                    <a:pt x="1384" y="441"/>
                  </a:lnTo>
                  <a:lnTo>
                    <a:pt x="1377" y="447"/>
                  </a:lnTo>
                  <a:lnTo>
                    <a:pt x="1377" y="454"/>
                  </a:lnTo>
                  <a:lnTo>
                    <a:pt x="1377" y="460"/>
                  </a:lnTo>
                  <a:lnTo>
                    <a:pt x="1377" y="467"/>
                  </a:lnTo>
                  <a:lnTo>
                    <a:pt x="1377" y="467"/>
                  </a:lnTo>
                  <a:lnTo>
                    <a:pt x="1377" y="474"/>
                  </a:lnTo>
                  <a:lnTo>
                    <a:pt x="1384" y="480"/>
                  </a:lnTo>
                  <a:lnTo>
                    <a:pt x="1390" y="487"/>
                  </a:lnTo>
                  <a:lnTo>
                    <a:pt x="1397" y="487"/>
                  </a:lnTo>
                  <a:lnTo>
                    <a:pt x="1403" y="493"/>
                  </a:lnTo>
                  <a:lnTo>
                    <a:pt x="1410" y="487"/>
                  </a:lnTo>
                  <a:lnTo>
                    <a:pt x="1423" y="487"/>
                  </a:lnTo>
                  <a:lnTo>
                    <a:pt x="1423" y="480"/>
                  </a:lnTo>
                  <a:lnTo>
                    <a:pt x="1423" y="474"/>
                  </a:lnTo>
                  <a:close/>
                  <a:moveTo>
                    <a:pt x="1746" y="474"/>
                  </a:moveTo>
                  <a:lnTo>
                    <a:pt x="1739" y="474"/>
                  </a:lnTo>
                  <a:lnTo>
                    <a:pt x="1733" y="467"/>
                  </a:lnTo>
                  <a:lnTo>
                    <a:pt x="1733" y="467"/>
                  </a:lnTo>
                  <a:lnTo>
                    <a:pt x="1726" y="467"/>
                  </a:lnTo>
                  <a:lnTo>
                    <a:pt x="1720" y="467"/>
                  </a:lnTo>
                  <a:lnTo>
                    <a:pt x="1720" y="474"/>
                  </a:lnTo>
                  <a:lnTo>
                    <a:pt x="1720" y="480"/>
                  </a:lnTo>
                  <a:lnTo>
                    <a:pt x="1720" y="480"/>
                  </a:lnTo>
                  <a:lnTo>
                    <a:pt x="1726" y="487"/>
                  </a:lnTo>
                  <a:lnTo>
                    <a:pt x="1726" y="487"/>
                  </a:lnTo>
                  <a:lnTo>
                    <a:pt x="1733" y="487"/>
                  </a:lnTo>
                  <a:lnTo>
                    <a:pt x="1733" y="487"/>
                  </a:lnTo>
                  <a:lnTo>
                    <a:pt x="1739" y="480"/>
                  </a:lnTo>
                  <a:lnTo>
                    <a:pt x="1746" y="474"/>
                  </a:lnTo>
                  <a:close/>
                  <a:moveTo>
                    <a:pt x="1311" y="447"/>
                  </a:moveTo>
                  <a:lnTo>
                    <a:pt x="1311" y="447"/>
                  </a:lnTo>
                  <a:lnTo>
                    <a:pt x="1311" y="447"/>
                  </a:lnTo>
                  <a:lnTo>
                    <a:pt x="1311" y="447"/>
                  </a:lnTo>
                  <a:lnTo>
                    <a:pt x="1311" y="447"/>
                  </a:lnTo>
                  <a:lnTo>
                    <a:pt x="1311" y="447"/>
                  </a:lnTo>
                  <a:lnTo>
                    <a:pt x="1311" y="447"/>
                  </a:lnTo>
                  <a:lnTo>
                    <a:pt x="1311" y="447"/>
                  </a:lnTo>
                  <a:lnTo>
                    <a:pt x="1311" y="447"/>
                  </a:lnTo>
                  <a:lnTo>
                    <a:pt x="1311" y="447"/>
                  </a:lnTo>
                  <a:lnTo>
                    <a:pt x="1311" y="447"/>
                  </a:lnTo>
                  <a:lnTo>
                    <a:pt x="1311" y="447"/>
                  </a:lnTo>
                  <a:lnTo>
                    <a:pt x="1311" y="447"/>
                  </a:lnTo>
                  <a:lnTo>
                    <a:pt x="1311" y="447"/>
                  </a:lnTo>
                  <a:lnTo>
                    <a:pt x="1311" y="447"/>
                  </a:lnTo>
                  <a:close/>
                  <a:moveTo>
                    <a:pt x="1707" y="447"/>
                  </a:moveTo>
                  <a:lnTo>
                    <a:pt x="1707" y="447"/>
                  </a:lnTo>
                  <a:lnTo>
                    <a:pt x="1700" y="441"/>
                  </a:lnTo>
                  <a:lnTo>
                    <a:pt x="1700" y="441"/>
                  </a:lnTo>
                  <a:lnTo>
                    <a:pt x="1700" y="441"/>
                  </a:lnTo>
                  <a:lnTo>
                    <a:pt x="1693" y="447"/>
                  </a:lnTo>
                  <a:lnTo>
                    <a:pt x="1693" y="447"/>
                  </a:lnTo>
                  <a:lnTo>
                    <a:pt x="1693" y="447"/>
                  </a:lnTo>
                  <a:lnTo>
                    <a:pt x="1693" y="454"/>
                  </a:lnTo>
                  <a:lnTo>
                    <a:pt x="1700" y="454"/>
                  </a:lnTo>
                  <a:lnTo>
                    <a:pt x="1700" y="454"/>
                  </a:lnTo>
                  <a:lnTo>
                    <a:pt x="1700" y="454"/>
                  </a:lnTo>
                  <a:lnTo>
                    <a:pt x="1700" y="454"/>
                  </a:lnTo>
                  <a:lnTo>
                    <a:pt x="1707" y="454"/>
                  </a:lnTo>
                  <a:lnTo>
                    <a:pt x="1707" y="447"/>
                  </a:lnTo>
                  <a:close/>
                  <a:moveTo>
                    <a:pt x="1845" y="421"/>
                  </a:moveTo>
                  <a:lnTo>
                    <a:pt x="1838" y="421"/>
                  </a:lnTo>
                  <a:lnTo>
                    <a:pt x="1838" y="414"/>
                  </a:lnTo>
                  <a:lnTo>
                    <a:pt x="1832" y="414"/>
                  </a:lnTo>
                  <a:lnTo>
                    <a:pt x="1825" y="414"/>
                  </a:lnTo>
                  <a:lnTo>
                    <a:pt x="1819" y="414"/>
                  </a:lnTo>
                  <a:lnTo>
                    <a:pt x="1812" y="421"/>
                  </a:lnTo>
                  <a:lnTo>
                    <a:pt x="1805" y="421"/>
                  </a:lnTo>
                  <a:lnTo>
                    <a:pt x="1805" y="421"/>
                  </a:lnTo>
                  <a:lnTo>
                    <a:pt x="1812" y="421"/>
                  </a:lnTo>
                  <a:lnTo>
                    <a:pt x="1819" y="421"/>
                  </a:lnTo>
                  <a:lnTo>
                    <a:pt x="1825" y="427"/>
                  </a:lnTo>
                  <a:lnTo>
                    <a:pt x="1832" y="427"/>
                  </a:lnTo>
                  <a:lnTo>
                    <a:pt x="1832" y="434"/>
                  </a:lnTo>
                  <a:lnTo>
                    <a:pt x="1838" y="434"/>
                  </a:lnTo>
                  <a:lnTo>
                    <a:pt x="1838" y="434"/>
                  </a:lnTo>
                  <a:lnTo>
                    <a:pt x="1838" y="434"/>
                  </a:lnTo>
                  <a:lnTo>
                    <a:pt x="1845" y="434"/>
                  </a:lnTo>
                  <a:lnTo>
                    <a:pt x="1845" y="427"/>
                  </a:lnTo>
                  <a:lnTo>
                    <a:pt x="1845" y="427"/>
                  </a:lnTo>
                  <a:lnTo>
                    <a:pt x="1845" y="421"/>
                  </a:lnTo>
                  <a:close/>
                  <a:moveTo>
                    <a:pt x="211" y="395"/>
                  </a:moveTo>
                  <a:lnTo>
                    <a:pt x="198" y="395"/>
                  </a:lnTo>
                  <a:lnTo>
                    <a:pt x="198" y="408"/>
                  </a:lnTo>
                  <a:lnTo>
                    <a:pt x="211" y="395"/>
                  </a:lnTo>
                  <a:close/>
                  <a:moveTo>
                    <a:pt x="1680" y="395"/>
                  </a:moveTo>
                  <a:lnTo>
                    <a:pt x="1674" y="388"/>
                  </a:lnTo>
                  <a:lnTo>
                    <a:pt x="1674" y="388"/>
                  </a:lnTo>
                  <a:lnTo>
                    <a:pt x="1674" y="388"/>
                  </a:lnTo>
                  <a:lnTo>
                    <a:pt x="1667" y="388"/>
                  </a:lnTo>
                  <a:lnTo>
                    <a:pt x="1667" y="395"/>
                  </a:lnTo>
                  <a:lnTo>
                    <a:pt x="1667" y="395"/>
                  </a:lnTo>
                  <a:lnTo>
                    <a:pt x="1667" y="401"/>
                  </a:lnTo>
                  <a:lnTo>
                    <a:pt x="1674" y="401"/>
                  </a:lnTo>
                  <a:lnTo>
                    <a:pt x="1674" y="401"/>
                  </a:lnTo>
                  <a:lnTo>
                    <a:pt x="1674" y="401"/>
                  </a:lnTo>
                  <a:lnTo>
                    <a:pt x="1674" y="401"/>
                  </a:lnTo>
                  <a:lnTo>
                    <a:pt x="1674" y="401"/>
                  </a:lnTo>
                  <a:lnTo>
                    <a:pt x="1680" y="395"/>
                  </a:lnTo>
                  <a:lnTo>
                    <a:pt x="1680" y="395"/>
                  </a:lnTo>
                  <a:close/>
                  <a:moveTo>
                    <a:pt x="1015" y="309"/>
                  </a:moveTo>
                  <a:lnTo>
                    <a:pt x="1015" y="302"/>
                  </a:lnTo>
                  <a:lnTo>
                    <a:pt x="1021" y="296"/>
                  </a:lnTo>
                  <a:lnTo>
                    <a:pt x="1028" y="296"/>
                  </a:lnTo>
                  <a:lnTo>
                    <a:pt x="1034" y="289"/>
                  </a:lnTo>
                  <a:lnTo>
                    <a:pt x="1041" y="289"/>
                  </a:lnTo>
                  <a:lnTo>
                    <a:pt x="1048" y="283"/>
                  </a:lnTo>
                  <a:lnTo>
                    <a:pt x="1054" y="283"/>
                  </a:lnTo>
                  <a:lnTo>
                    <a:pt x="1067" y="283"/>
                  </a:lnTo>
                  <a:lnTo>
                    <a:pt x="1074" y="283"/>
                  </a:lnTo>
                  <a:lnTo>
                    <a:pt x="1081" y="283"/>
                  </a:lnTo>
                  <a:lnTo>
                    <a:pt x="1087" y="283"/>
                  </a:lnTo>
                  <a:lnTo>
                    <a:pt x="1094" y="276"/>
                  </a:lnTo>
                  <a:lnTo>
                    <a:pt x="1100" y="269"/>
                  </a:lnTo>
                  <a:lnTo>
                    <a:pt x="1100" y="263"/>
                  </a:lnTo>
                  <a:lnTo>
                    <a:pt x="1107" y="263"/>
                  </a:lnTo>
                  <a:lnTo>
                    <a:pt x="1113" y="256"/>
                  </a:lnTo>
                  <a:lnTo>
                    <a:pt x="1120" y="256"/>
                  </a:lnTo>
                  <a:lnTo>
                    <a:pt x="1133" y="256"/>
                  </a:lnTo>
                  <a:lnTo>
                    <a:pt x="1140" y="256"/>
                  </a:lnTo>
                  <a:lnTo>
                    <a:pt x="1146" y="250"/>
                  </a:lnTo>
                  <a:lnTo>
                    <a:pt x="1153" y="250"/>
                  </a:lnTo>
                  <a:lnTo>
                    <a:pt x="1153" y="243"/>
                  </a:lnTo>
                  <a:lnTo>
                    <a:pt x="1160" y="237"/>
                  </a:lnTo>
                  <a:lnTo>
                    <a:pt x="1160" y="230"/>
                  </a:lnTo>
                  <a:lnTo>
                    <a:pt x="1166" y="223"/>
                  </a:lnTo>
                  <a:lnTo>
                    <a:pt x="1173" y="223"/>
                  </a:lnTo>
                  <a:lnTo>
                    <a:pt x="1179" y="217"/>
                  </a:lnTo>
                  <a:lnTo>
                    <a:pt x="1186" y="217"/>
                  </a:lnTo>
                  <a:lnTo>
                    <a:pt x="1193" y="210"/>
                  </a:lnTo>
                  <a:lnTo>
                    <a:pt x="1199" y="210"/>
                  </a:lnTo>
                  <a:lnTo>
                    <a:pt x="1206" y="210"/>
                  </a:lnTo>
                  <a:lnTo>
                    <a:pt x="1212" y="210"/>
                  </a:lnTo>
                  <a:lnTo>
                    <a:pt x="1226" y="210"/>
                  </a:lnTo>
                  <a:lnTo>
                    <a:pt x="1226" y="204"/>
                  </a:lnTo>
                  <a:lnTo>
                    <a:pt x="1232" y="204"/>
                  </a:lnTo>
                  <a:lnTo>
                    <a:pt x="1232" y="197"/>
                  </a:lnTo>
                  <a:lnTo>
                    <a:pt x="1232" y="190"/>
                  </a:lnTo>
                  <a:lnTo>
                    <a:pt x="1239" y="184"/>
                  </a:lnTo>
                  <a:lnTo>
                    <a:pt x="1239" y="177"/>
                  </a:lnTo>
                  <a:lnTo>
                    <a:pt x="1245" y="177"/>
                  </a:lnTo>
                  <a:lnTo>
                    <a:pt x="1258" y="171"/>
                  </a:lnTo>
                  <a:lnTo>
                    <a:pt x="1265" y="171"/>
                  </a:lnTo>
                  <a:lnTo>
                    <a:pt x="1272" y="171"/>
                  </a:lnTo>
                  <a:lnTo>
                    <a:pt x="1278" y="171"/>
                  </a:lnTo>
                  <a:lnTo>
                    <a:pt x="1278" y="164"/>
                  </a:lnTo>
                  <a:lnTo>
                    <a:pt x="1278" y="158"/>
                  </a:lnTo>
                  <a:lnTo>
                    <a:pt x="1272" y="151"/>
                  </a:lnTo>
                  <a:lnTo>
                    <a:pt x="1265" y="144"/>
                  </a:lnTo>
                  <a:lnTo>
                    <a:pt x="1258" y="144"/>
                  </a:lnTo>
                  <a:lnTo>
                    <a:pt x="1252" y="144"/>
                  </a:lnTo>
                  <a:lnTo>
                    <a:pt x="1245" y="144"/>
                  </a:lnTo>
                  <a:lnTo>
                    <a:pt x="1239" y="151"/>
                  </a:lnTo>
                  <a:lnTo>
                    <a:pt x="1232" y="151"/>
                  </a:lnTo>
                  <a:lnTo>
                    <a:pt x="1226" y="158"/>
                  </a:lnTo>
                  <a:lnTo>
                    <a:pt x="1219" y="158"/>
                  </a:lnTo>
                  <a:lnTo>
                    <a:pt x="1206" y="158"/>
                  </a:lnTo>
                  <a:lnTo>
                    <a:pt x="1199" y="164"/>
                  </a:lnTo>
                  <a:lnTo>
                    <a:pt x="1193" y="158"/>
                  </a:lnTo>
                  <a:lnTo>
                    <a:pt x="1179" y="158"/>
                  </a:lnTo>
                  <a:lnTo>
                    <a:pt x="1173" y="164"/>
                  </a:lnTo>
                  <a:lnTo>
                    <a:pt x="1166" y="164"/>
                  </a:lnTo>
                  <a:lnTo>
                    <a:pt x="1166" y="171"/>
                  </a:lnTo>
                  <a:lnTo>
                    <a:pt x="1160" y="177"/>
                  </a:lnTo>
                  <a:lnTo>
                    <a:pt x="1153" y="177"/>
                  </a:lnTo>
                  <a:lnTo>
                    <a:pt x="1146" y="184"/>
                  </a:lnTo>
                  <a:lnTo>
                    <a:pt x="1133" y="184"/>
                  </a:lnTo>
                  <a:lnTo>
                    <a:pt x="1127" y="184"/>
                  </a:lnTo>
                  <a:lnTo>
                    <a:pt x="1120" y="190"/>
                  </a:lnTo>
                  <a:lnTo>
                    <a:pt x="1113" y="190"/>
                  </a:lnTo>
                  <a:lnTo>
                    <a:pt x="1100" y="190"/>
                  </a:lnTo>
                  <a:lnTo>
                    <a:pt x="1094" y="190"/>
                  </a:lnTo>
                  <a:lnTo>
                    <a:pt x="1087" y="190"/>
                  </a:lnTo>
                  <a:lnTo>
                    <a:pt x="1087" y="197"/>
                  </a:lnTo>
                  <a:lnTo>
                    <a:pt x="1087" y="204"/>
                  </a:lnTo>
                  <a:lnTo>
                    <a:pt x="1087" y="210"/>
                  </a:lnTo>
                  <a:lnTo>
                    <a:pt x="1087" y="210"/>
                  </a:lnTo>
                  <a:lnTo>
                    <a:pt x="1094" y="217"/>
                  </a:lnTo>
                  <a:lnTo>
                    <a:pt x="1100" y="223"/>
                  </a:lnTo>
                  <a:lnTo>
                    <a:pt x="1094" y="230"/>
                  </a:lnTo>
                  <a:lnTo>
                    <a:pt x="1087" y="230"/>
                  </a:lnTo>
                  <a:lnTo>
                    <a:pt x="1081" y="237"/>
                  </a:lnTo>
                  <a:lnTo>
                    <a:pt x="1074" y="237"/>
                  </a:lnTo>
                  <a:lnTo>
                    <a:pt x="1067" y="243"/>
                  </a:lnTo>
                  <a:lnTo>
                    <a:pt x="1061" y="243"/>
                  </a:lnTo>
                  <a:lnTo>
                    <a:pt x="1054" y="250"/>
                  </a:lnTo>
                  <a:lnTo>
                    <a:pt x="1048" y="250"/>
                  </a:lnTo>
                  <a:lnTo>
                    <a:pt x="1041" y="256"/>
                  </a:lnTo>
                  <a:lnTo>
                    <a:pt x="1034" y="256"/>
                  </a:lnTo>
                  <a:lnTo>
                    <a:pt x="1028" y="263"/>
                  </a:lnTo>
                  <a:lnTo>
                    <a:pt x="1021" y="263"/>
                  </a:lnTo>
                  <a:lnTo>
                    <a:pt x="1015" y="269"/>
                  </a:lnTo>
                  <a:lnTo>
                    <a:pt x="1008" y="276"/>
                  </a:lnTo>
                  <a:lnTo>
                    <a:pt x="1001" y="276"/>
                  </a:lnTo>
                  <a:lnTo>
                    <a:pt x="995" y="283"/>
                  </a:lnTo>
                  <a:lnTo>
                    <a:pt x="988" y="283"/>
                  </a:lnTo>
                  <a:lnTo>
                    <a:pt x="982" y="289"/>
                  </a:lnTo>
                  <a:lnTo>
                    <a:pt x="982" y="296"/>
                  </a:lnTo>
                  <a:lnTo>
                    <a:pt x="975" y="302"/>
                  </a:lnTo>
                  <a:lnTo>
                    <a:pt x="982" y="309"/>
                  </a:lnTo>
                  <a:lnTo>
                    <a:pt x="982" y="309"/>
                  </a:lnTo>
                  <a:lnTo>
                    <a:pt x="995" y="316"/>
                  </a:lnTo>
                  <a:lnTo>
                    <a:pt x="1001" y="316"/>
                  </a:lnTo>
                  <a:lnTo>
                    <a:pt x="1008" y="316"/>
                  </a:lnTo>
                  <a:lnTo>
                    <a:pt x="1015" y="309"/>
                  </a:lnTo>
                  <a:close/>
                  <a:moveTo>
                    <a:pt x="2286" y="171"/>
                  </a:moveTo>
                  <a:lnTo>
                    <a:pt x="2286" y="164"/>
                  </a:lnTo>
                  <a:lnTo>
                    <a:pt x="2280" y="164"/>
                  </a:lnTo>
                  <a:lnTo>
                    <a:pt x="2273" y="164"/>
                  </a:lnTo>
                  <a:lnTo>
                    <a:pt x="2267" y="164"/>
                  </a:lnTo>
                  <a:lnTo>
                    <a:pt x="2267" y="158"/>
                  </a:lnTo>
                  <a:lnTo>
                    <a:pt x="2260" y="158"/>
                  </a:lnTo>
                  <a:lnTo>
                    <a:pt x="2253" y="158"/>
                  </a:lnTo>
                  <a:lnTo>
                    <a:pt x="2247" y="158"/>
                  </a:lnTo>
                  <a:lnTo>
                    <a:pt x="2240" y="158"/>
                  </a:lnTo>
                  <a:lnTo>
                    <a:pt x="2234" y="158"/>
                  </a:lnTo>
                  <a:lnTo>
                    <a:pt x="2227" y="158"/>
                  </a:lnTo>
                  <a:lnTo>
                    <a:pt x="2227" y="158"/>
                  </a:lnTo>
                  <a:lnTo>
                    <a:pt x="2227" y="164"/>
                  </a:lnTo>
                  <a:lnTo>
                    <a:pt x="2227" y="171"/>
                  </a:lnTo>
                  <a:lnTo>
                    <a:pt x="2227" y="171"/>
                  </a:lnTo>
                  <a:lnTo>
                    <a:pt x="2234" y="171"/>
                  </a:lnTo>
                  <a:lnTo>
                    <a:pt x="2240" y="177"/>
                  </a:lnTo>
                  <a:lnTo>
                    <a:pt x="2240" y="177"/>
                  </a:lnTo>
                  <a:lnTo>
                    <a:pt x="2247" y="177"/>
                  </a:lnTo>
                  <a:lnTo>
                    <a:pt x="2253" y="177"/>
                  </a:lnTo>
                  <a:lnTo>
                    <a:pt x="2260" y="171"/>
                  </a:lnTo>
                  <a:lnTo>
                    <a:pt x="2267" y="171"/>
                  </a:lnTo>
                  <a:lnTo>
                    <a:pt x="2273" y="171"/>
                  </a:lnTo>
                  <a:lnTo>
                    <a:pt x="2280" y="171"/>
                  </a:lnTo>
                  <a:lnTo>
                    <a:pt x="2280" y="171"/>
                  </a:lnTo>
                  <a:lnTo>
                    <a:pt x="2286" y="171"/>
                  </a:lnTo>
                  <a:close/>
                  <a:moveTo>
                    <a:pt x="1344" y="138"/>
                  </a:moveTo>
                  <a:lnTo>
                    <a:pt x="1344" y="131"/>
                  </a:lnTo>
                  <a:lnTo>
                    <a:pt x="1338" y="131"/>
                  </a:lnTo>
                  <a:lnTo>
                    <a:pt x="1331" y="125"/>
                  </a:lnTo>
                  <a:lnTo>
                    <a:pt x="1324" y="125"/>
                  </a:lnTo>
                  <a:lnTo>
                    <a:pt x="1318" y="131"/>
                  </a:lnTo>
                  <a:lnTo>
                    <a:pt x="1305" y="131"/>
                  </a:lnTo>
                  <a:lnTo>
                    <a:pt x="1298" y="131"/>
                  </a:lnTo>
                  <a:lnTo>
                    <a:pt x="1291" y="131"/>
                  </a:lnTo>
                  <a:lnTo>
                    <a:pt x="1278" y="131"/>
                  </a:lnTo>
                  <a:lnTo>
                    <a:pt x="1272" y="131"/>
                  </a:lnTo>
                  <a:lnTo>
                    <a:pt x="1265" y="138"/>
                  </a:lnTo>
                  <a:lnTo>
                    <a:pt x="1258" y="138"/>
                  </a:lnTo>
                  <a:lnTo>
                    <a:pt x="1258" y="144"/>
                  </a:lnTo>
                  <a:lnTo>
                    <a:pt x="1258" y="151"/>
                  </a:lnTo>
                  <a:lnTo>
                    <a:pt x="1265" y="158"/>
                  </a:lnTo>
                  <a:lnTo>
                    <a:pt x="1272" y="158"/>
                  </a:lnTo>
                  <a:lnTo>
                    <a:pt x="1278" y="164"/>
                  </a:lnTo>
                  <a:lnTo>
                    <a:pt x="1291" y="164"/>
                  </a:lnTo>
                  <a:lnTo>
                    <a:pt x="1298" y="164"/>
                  </a:lnTo>
                  <a:lnTo>
                    <a:pt x="1305" y="164"/>
                  </a:lnTo>
                  <a:lnTo>
                    <a:pt x="1311" y="164"/>
                  </a:lnTo>
                  <a:lnTo>
                    <a:pt x="1318" y="158"/>
                  </a:lnTo>
                  <a:lnTo>
                    <a:pt x="1324" y="151"/>
                  </a:lnTo>
                  <a:lnTo>
                    <a:pt x="1331" y="144"/>
                  </a:lnTo>
                  <a:lnTo>
                    <a:pt x="1338" y="144"/>
                  </a:lnTo>
                  <a:lnTo>
                    <a:pt x="1344" y="138"/>
                  </a:lnTo>
                  <a:close/>
                  <a:moveTo>
                    <a:pt x="2161" y="138"/>
                  </a:moveTo>
                  <a:lnTo>
                    <a:pt x="2155" y="138"/>
                  </a:lnTo>
                  <a:lnTo>
                    <a:pt x="2155" y="138"/>
                  </a:lnTo>
                  <a:lnTo>
                    <a:pt x="2155" y="138"/>
                  </a:lnTo>
                  <a:lnTo>
                    <a:pt x="2148" y="138"/>
                  </a:lnTo>
                  <a:lnTo>
                    <a:pt x="2148" y="138"/>
                  </a:lnTo>
                  <a:lnTo>
                    <a:pt x="2141" y="138"/>
                  </a:lnTo>
                  <a:lnTo>
                    <a:pt x="2141" y="138"/>
                  </a:lnTo>
                  <a:lnTo>
                    <a:pt x="2141" y="138"/>
                  </a:lnTo>
                  <a:lnTo>
                    <a:pt x="2148" y="138"/>
                  </a:lnTo>
                  <a:lnTo>
                    <a:pt x="2148" y="138"/>
                  </a:lnTo>
                  <a:lnTo>
                    <a:pt x="2155" y="138"/>
                  </a:lnTo>
                  <a:lnTo>
                    <a:pt x="2155" y="138"/>
                  </a:lnTo>
                  <a:lnTo>
                    <a:pt x="2155" y="138"/>
                  </a:lnTo>
                  <a:lnTo>
                    <a:pt x="2161" y="138"/>
                  </a:lnTo>
                  <a:close/>
                  <a:moveTo>
                    <a:pt x="1410" y="111"/>
                  </a:moveTo>
                  <a:lnTo>
                    <a:pt x="1403" y="111"/>
                  </a:lnTo>
                  <a:lnTo>
                    <a:pt x="1397" y="111"/>
                  </a:lnTo>
                  <a:lnTo>
                    <a:pt x="1390" y="105"/>
                  </a:lnTo>
                  <a:lnTo>
                    <a:pt x="1384" y="105"/>
                  </a:lnTo>
                  <a:lnTo>
                    <a:pt x="1377" y="105"/>
                  </a:lnTo>
                  <a:lnTo>
                    <a:pt x="1370" y="98"/>
                  </a:lnTo>
                  <a:lnTo>
                    <a:pt x="1364" y="98"/>
                  </a:lnTo>
                  <a:lnTo>
                    <a:pt x="1357" y="105"/>
                  </a:lnTo>
                  <a:lnTo>
                    <a:pt x="1357" y="105"/>
                  </a:lnTo>
                  <a:lnTo>
                    <a:pt x="1351" y="111"/>
                  </a:lnTo>
                  <a:lnTo>
                    <a:pt x="1351" y="111"/>
                  </a:lnTo>
                  <a:lnTo>
                    <a:pt x="1357" y="118"/>
                  </a:lnTo>
                  <a:lnTo>
                    <a:pt x="1364" y="118"/>
                  </a:lnTo>
                  <a:lnTo>
                    <a:pt x="1370" y="118"/>
                  </a:lnTo>
                  <a:lnTo>
                    <a:pt x="1377" y="118"/>
                  </a:lnTo>
                  <a:lnTo>
                    <a:pt x="1384" y="118"/>
                  </a:lnTo>
                  <a:lnTo>
                    <a:pt x="1390" y="118"/>
                  </a:lnTo>
                  <a:lnTo>
                    <a:pt x="1397" y="118"/>
                  </a:lnTo>
                  <a:lnTo>
                    <a:pt x="1403" y="118"/>
                  </a:lnTo>
                  <a:lnTo>
                    <a:pt x="1410" y="111"/>
                  </a:lnTo>
                  <a:close/>
                  <a:moveTo>
                    <a:pt x="2339" y="1731"/>
                  </a:moveTo>
                  <a:lnTo>
                    <a:pt x="2365" y="1705"/>
                  </a:lnTo>
                  <a:lnTo>
                    <a:pt x="2398" y="1705"/>
                  </a:lnTo>
                  <a:lnTo>
                    <a:pt x="2425" y="1705"/>
                  </a:lnTo>
                  <a:lnTo>
                    <a:pt x="2451" y="1705"/>
                  </a:lnTo>
                  <a:lnTo>
                    <a:pt x="2477" y="1705"/>
                  </a:lnTo>
                  <a:lnTo>
                    <a:pt x="2510" y="1705"/>
                  </a:lnTo>
                  <a:lnTo>
                    <a:pt x="2537" y="1705"/>
                  </a:lnTo>
                  <a:lnTo>
                    <a:pt x="2563" y="1678"/>
                  </a:lnTo>
                  <a:lnTo>
                    <a:pt x="2563" y="1652"/>
                  </a:lnTo>
                  <a:lnTo>
                    <a:pt x="2563" y="1619"/>
                  </a:lnTo>
                  <a:lnTo>
                    <a:pt x="2563" y="1593"/>
                  </a:lnTo>
                  <a:lnTo>
                    <a:pt x="2590" y="1566"/>
                  </a:lnTo>
                  <a:lnTo>
                    <a:pt x="2590" y="1540"/>
                  </a:lnTo>
                  <a:lnTo>
                    <a:pt x="2590" y="1507"/>
                  </a:lnTo>
                  <a:lnTo>
                    <a:pt x="2590" y="1481"/>
                  </a:lnTo>
                  <a:lnTo>
                    <a:pt x="2616" y="1455"/>
                  </a:lnTo>
                  <a:lnTo>
                    <a:pt x="2616" y="1428"/>
                  </a:lnTo>
                  <a:lnTo>
                    <a:pt x="2616" y="1395"/>
                  </a:lnTo>
                  <a:lnTo>
                    <a:pt x="2616" y="1369"/>
                  </a:lnTo>
                  <a:lnTo>
                    <a:pt x="2649" y="1343"/>
                  </a:lnTo>
                  <a:lnTo>
                    <a:pt x="2649" y="1316"/>
                  </a:lnTo>
                  <a:lnTo>
                    <a:pt x="2649" y="1283"/>
                  </a:lnTo>
                  <a:lnTo>
                    <a:pt x="2649" y="1257"/>
                  </a:lnTo>
                  <a:lnTo>
                    <a:pt x="2675" y="1231"/>
                  </a:lnTo>
                  <a:lnTo>
                    <a:pt x="2675" y="1204"/>
                  </a:lnTo>
                  <a:lnTo>
                    <a:pt x="2675" y="1171"/>
                  </a:lnTo>
                  <a:lnTo>
                    <a:pt x="2675" y="1145"/>
                  </a:lnTo>
                  <a:lnTo>
                    <a:pt x="2702" y="1119"/>
                  </a:lnTo>
                  <a:lnTo>
                    <a:pt x="2702" y="1092"/>
                  </a:lnTo>
                  <a:lnTo>
                    <a:pt x="2702" y="1060"/>
                  </a:lnTo>
                  <a:lnTo>
                    <a:pt x="2702" y="1033"/>
                  </a:lnTo>
                  <a:lnTo>
                    <a:pt x="2702" y="1007"/>
                  </a:lnTo>
                  <a:lnTo>
                    <a:pt x="2702" y="981"/>
                  </a:lnTo>
                  <a:lnTo>
                    <a:pt x="2702" y="948"/>
                  </a:lnTo>
                  <a:lnTo>
                    <a:pt x="2702" y="921"/>
                  </a:lnTo>
                  <a:lnTo>
                    <a:pt x="2702" y="895"/>
                  </a:lnTo>
                  <a:lnTo>
                    <a:pt x="2702" y="869"/>
                  </a:lnTo>
                  <a:lnTo>
                    <a:pt x="2702" y="842"/>
                  </a:lnTo>
                  <a:lnTo>
                    <a:pt x="2702" y="809"/>
                  </a:lnTo>
                  <a:lnTo>
                    <a:pt x="2702" y="783"/>
                  </a:lnTo>
                  <a:lnTo>
                    <a:pt x="2702" y="757"/>
                  </a:lnTo>
                  <a:lnTo>
                    <a:pt x="2702" y="730"/>
                  </a:lnTo>
                  <a:lnTo>
                    <a:pt x="2702" y="697"/>
                  </a:lnTo>
                  <a:lnTo>
                    <a:pt x="2702" y="671"/>
                  </a:lnTo>
                  <a:lnTo>
                    <a:pt x="2702" y="645"/>
                  </a:lnTo>
                  <a:lnTo>
                    <a:pt x="2702" y="618"/>
                  </a:lnTo>
                  <a:lnTo>
                    <a:pt x="2702" y="585"/>
                  </a:lnTo>
                  <a:lnTo>
                    <a:pt x="2702" y="559"/>
                  </a:lnTo>
                  <a:lnTo>
                    <a:pt x="2702" y="533"/>
                  </a:lnTo>
                  <a:lnTo>
                    <a:pt x="2702" y="506"/>
                  </a:lnTo>
                  <a:lnTo>
                    <a:pt x="2702" y="474"/>
                  </a:lnTo>
                  <a:lnTo>
                    <a:pt x="2702" y="447"/>
                  </a:lnTo>
                  <a:lnTo>
                    <a:pt x="2702" y="421"/>
                  </a:lnTo>
                  <a:lnTo>
                    <a:pt x="2702" y="395"/>
                  </a:lnTo>
                  <a:lnTo>
                    <a:pt x="2702" y="362"/>
                  </a:lnTo>
                  <a:lnTo>
                    <a:pt x="2702" y="335"/>
                  </a:lnTo>
                  <a:lnTo>
                    <a:pt x="2702" y="309"/>
                  </a:lnTo>
                  <a:lnTo>
                    <a:pt x="2702" y="283"/>
                  </a:lnTo>
                  <a:lnTo>
                    <a:pt x="2702" y="250"/>
                  </a:lnTo>
                  <a:lnTo>
                    <a:pt x="2675" y="223"/>
                  </a:lnTo>
                  <a:lnTo>
                    <a:pt x="2675" y="197"/>
                  </a:lnTo>
                  <a:lnTo>
                    <a:pt x="2675" y="171"/>
                  </a:lnTo>
                  <a:lnTo>
                    <a:pt x="2675" y="138"/>
                  </a:lnTo>
                  <a:lnTo>
                    <a:pt x="2675" y="111"/>
                  </a:lnTo>
                  <a:lnTo>
                    <a:pt x="2649" y="85"/>
                  </a:lnTo>
                  <a:lnTo>
                    <a:pt x="2616" y="85"/>
                  </a:lnTo>
                  <a:lnTo>
                    <a:pt x="2590" y="85"/>
                  </a:lnTo>
                  <a:lnTo>
                    <a:pt x="2563" y="59"/>
                  </a:lnTo>
                  <a:lnTo>
                    <a:pt x="2537" y="59"/>
                  </a:lnTo>
                  <a:lnTo>
                    <a:pt x="2510" y="59"/>
                  </a:lnTo>
                  <a:lnTo>
                    <a:pt x="2477" y="26"/>
                  </a:lnTo>
                  <a:lnTo>
                    <a:pt x="2451" y="26"/>
                  </a:lnTo>
                  <a:lnTo>
                    <a:pt x="2425" y="26"/>
                  </a:lnTo>
                  <a:lnTo>
                    <a:pt x="2398" y="0"/>
                  </a:lnTo>
                  <a:lnTo>
                    <a:pt x="2365" y="0"/>
                  </a:lnTo>
                  <a:lnTo>
                    <a:pt x="2339" y="0"/>
                  </a:lnTo>
                  <a:lnTo>
                    <a:pt x="2313" y="0"/>
                  </a:lnTo>
                  <a:lnTo>
                    <a:pt x="2286" y="0"/>
                  </a:lnTo>
                  <a:lnTo>
                    <a:pt x="2253" y="0"/>
                  </a:lnTo>
                  <a:lnTo>
                    <a:pt x="2227" y="0"/>
                  </a:lnTo>
                  <a:lnTo>
                    <a:pt x="2201" y="0"/>
                  </a:lnTo>
                  <a:lnTo>
                    <a:pt x="2174" y="0"/>
                  </a:lnTo>
                  <a:lnTo>
                    <a:pt x="2148" y="0"/>
                  </a:lnTo>
                  <a:lnTo>
                    <a:pt x="2115" y="0"/>
                  </a:lnTo>
                  <a:lnTo>
                    <a:pt x="2089" y="0"/>
                  </a:lnTo>
                  <a:lnTo>
                    <a:pt x="2062" y="0"/>
                  </a:lnTo>
                  <a:lnTo>
                    <a:pt x="2036" y="0"/>
                  </a:lnTo>
                  <a:lnTo>
                    <a:pt x="2003" y="0"/>
                  </a:lnTo>
                  <a:lnTo>
                    <a:pt x="1977" y="0"/>
                  </a:lnTo>
                  <a:lnTo>
                    <a:pt x="1950" y="0"/>
                  </a:lnTo>
                  <a:lnTo>
                    <a:pt x="1924" y="0"/>
                  </a:lnTo>
                  <a:lnTo>
                    <a:pt x="1898" y="0"/>
                  </a:lnTo>
                  <a:lnTo>
                    <a:pt x="1865" y="0"/>
                  </a:lnTo>
                  <a:lnTo>
                    <a:pt x="1838" y="0"/>
                  </a:lnTo>
                  <a:lnTo>
                    <a:pt x="1812" y="0"/>
                  </a:lnTo>
                  <a:lnTo>
                    <a:pt x="1786" y="0"/>
                  </a:lnTo>
                  <a:lnTo>
                    <a:pt x="1753" y="0"/>
                  </a:lnTo>
                  <a:lnTo>
                    <a:pt x="1726" y="0"/>
                  </a:lnTo>
                  <a:lnTo>
                    <a:pt x="1700" y="0"/>
                  </a:lnTo>
                  <a:lnTo>
                    <a:pt x="1674" y="0"/>
                  </a:lnTo>
                  <a:lnTo>
                    <a:pt x="1647" y="0"/>
                  </a:lnTo>
                  <a:lnTo>
                    <a:pt x="1614" y="0"/>
                  </a:lnTo>
                  <a:lnTo>
                    <a:pt x="1588" y="0"/>
                  </a:lnTo>
                  <a:lnTo>
                    <a:pt x="1562" y="0"/>
                  </a:lnTo>
                  <a:lnTo>
                    <a:pt x="1535" y="0"/>
                  </a:lnTo>
                  <a:lnTo>
                    <a:pt x="1502" y="0"/>
                  </a:lnTo>
                  <a:lnTo>
                    <a:pt x="1476" y="0"/>
                  </a:lnTo>
                  <a:lnTo>
                    <a:pt x="1450" y="0"/>
                  </a:lnTo>
                  <a:lnTo>
                    <a:pt x="1423" y="0"/>
                  </a:lnTo>
                  <a:lnTo>
                    <a:pt x="1397" y="0"/>
                  </a:lnTo>
                  <a:lnTo>
                    <a:pt x="1364" y="0"/>
                  </a:lnTo>
                  <a:lnTo>
                    <a:pt x="1338" y="0"/>
                  </a:lnTo>
                  <a:lnTo>
                    <a:pt x="1311" y="0"/>
                  </a:lnTo>
                  <a:lnTo>
                    <a:pt x="1285" y="0"/>
                  </a:lnTo>
                  <a:lnTo>
                    <a:pt x="1252" y="0"/>
                  </a:lnTo>
                  <a:lnTo>
                    <a:pt x="1226" y="0"/>
                  </a:lnTo>
                  <a:lnTo>
                    <a:pt x="1199" y="0"/>
                  </a:lnTo>
                  <a:lnTo>
                    <a:pt x="1173" y="0"/>
                  </a:lnTo>
                  <a:lnTo>
                    <a:pt x="1140" y="0"/>
                  </a:lnTo>
                  <a:lnTo>
                    <a:pt x="1113" y="0"/>
                  </a:lnTo>
                  <a:lnTo>
                    <a:pt x="1087" y="0"/>
                  </a:lnTo>
                  <a:lnTo>
                    <a:pt x="1061" y="0"/>
                  </a:lnTo>
                  <a:lnTo>
                    <a:pt x="1034" y="0"/>
                  </a:lnTo>
                  <a:lnTo>
                    <a:pt x="1001" y="0"/>
                  </a:lnTo>
                  <a:lnTo>
                    <a:pt x="975" y="0"/>
                  </a:lnTo>
                  <a:lnTo>
                    <a:pt x="949" y="0"/>
                  </a:lnTo>
                  <a:lnTo>
                    <a:pt x="922" y="0"/>
                  </a:lnTo>
                  <a:lnTo>
                    <a:pt x="889" y="0"/>
                  </a:lnTo>
                  <a:lnTo>
                    <a:pt x="863" y="0"/>
                  </a:lnTo>
                  <a:lnTo>
                    <a:pt x="837" y="0"/>
                  </a:lnTo>
                  <a:lnTo>
                    <a:pt x="810" y="0"/>
                  </a:lnTo>
                  <a:lnTo>
                    <a:pt x="784" y="0"/>
                  </a:lnTo>
                  <a:lnTo>
                    <a:pt x="751" y="0"/>
                  </a:lnTo>
                  <a:lnTo>
                    <a:pt x="725" y="0"/>
                  </a:lnTo>
                  <a:lnTo>
                    <a:pt x="698" y="0"/>
                  </a:lnTo>
                  <a:lnTo>
                    <a:pt x="672" y="0"/>
                  </a:lnTo>
                  <a:lnTo>
                    <a:pt x="639" y="0"/>
                  </a:lnTo>
                  <a:lnTo>
                    <a:pt x="613" y="26"/>
                  </a:lnTo>
                  <a:lnTo>
                    <a:pt x="586" y="59"/>
                  </a:lnTo>
                  <a:lnTo>
                    <a:pt x="560" y="85"/>
                  </a:lnTo>
                  <a:lnTo>
                    <a:pt x="534" y="111"/>
                  </a:lnTo>
                  <a:lnTo>
                    <a:pt x="501" y="138"/>
                  </a:lnTo>
                  <a:lnTo>
                    <a:pt x="474" y="138"/>
                  </a:lnTo>
                  <a:lnTo>
                    <a:pt x="448" y="171"/>
                  </a:lnTo>
                  <a:lnTo>
                    <a:pt x="422" y="197"/>
                  </a:lnTo>
                  <a:lnTo>
                    <a:pt x="389" y="223"/>
                  </a:lnTo>
                  <a:lnTo>
                    <a:pt x="362" y="250"/>
                  </a:lnTo>
                  <a:lnTo>
                    <a:pt x="336" y="283"/>
                  </a:lnTo>
                  <a:lnTo>
                    <a:pt x="310" y="309"/>
                  </a:lnTo>
                  <a:lnTo>
                    <a:pt x="283" y="335"/>
                  </a:lnTo>
                  <a:lnTo>
                    <a:pt x="250" y="335"/>
                  </a:lnTo>
                  <a:lnTo>
                    <a:pt x="224" y="362"/>
                  </a:lnTo>
                  <a:lnTo>
                    <a:pt x="198" y="395"/>
                  </a:lnTo>
                  <a:lnTo>
                    <a:pt x="171" y="421"/>
                  </a:lnTo>
                  <a:lnTo>
                    <a:pt x="138" y="447"/>
                  </a:lnTo>
                  <a:lnTo>
                    <a:pt x="112" y="474"/>
                  </a:lnTo>
                  <a:lnTo>
                    <a:pt x="86" y="506"/>
                  </a:lnTo>
                  <a:lnTo>
                    <a:pt x="59" y="533"/>
                  </a:lnTo>
                  <a:lnTo>
                    <a:pt x="26" y="533"/>
                  </a:lnTo>
                  <a:lnTo>
                    <a:pt x="0" y="559"/>
                  </a:lnTo>
                  <a:lnTo>
                    <a:pt x="0" y="585"/>
                  </a:lnTo>
                  <a:lnTo>
                    <a:pt x="0" y="618"/>
                  </a:lnTo>
                  <a:lnTo>
                    <a:pt x="0" y="645"/>
                  </a:lnTo>
                  <a:lnTo>
                    <a:pt x="26" y="671"/>
                  </a:lnTo>
                  <a:lnTo>
                    <a:pt x="26" y="697"/>
                  </a:lnTo>
                  <a:lnTo>
                    <a:pt x="59" y="730"/>
                  </a:lnTo>
                  <a:lnTo>
                    <a:pt x="86" y="757"/>
                  </a:lnTo>
                  <a:lnTo>
                    <a:pt x="112" y="783"/>
                  </a:lnTo>
                  <a:lnTo>
                    <a:pt x="138" y="809"/>
                  </a:lnTo>
                  <a:lnTo>
                    <a:pt x="138" y="842"/>
                  </a:lnTo>
                  <a:lnTo>
                    <a:pt x="171" y="869"/>
                  </a:lnTo>
                  <a:lnTo>
                    <a:pt x="198" y="895"/>
                  </a:lnTo>
                  <a:lnTo>
                    <a:pt x="224" y="921"/>
                  </a:lnTo>
                  <a:lnTo>
                    <a:pt x="250" y="948"/>
                  </a:lnTo>
                  <a:lnTo>
                    <a:pt x="283" y="981"/>
                  </a:lnTo>
                  <a:lnTo>
                    <a:pt x="310" y="1007"/>
                  </a:lnTo>
                  <a:lnTo>
                    <a:pt x="310" y="1033"/>
                  </a:lnTo>
                  <a:lnTo>
                    <a:pt x="336" y="1060"/>
                  </a:lnTo>
                  <a:lnTo>
                    <a:pt x="362" y="1092"/>
                  </a:lnTo>
                  <a:lnTo>
                    <a:pt x="389" y="1119"/>
                  </a:lnTo>
                  <a:lnTo>
                    <a:pt x="422" y="1145"/>
                  </a:lnTo>
                  <a:lnTo>
                    <a:pt x="448" y="1171"/>
                  </a:lnTo>
                  <a:lnTo>
                    <a:pt x="474" y="1204"/>
                  </a:lnTo>
                  <a:lnTo>
                    <a:pt x="501" y="1231"/>
                  </a:lnTo>
                  <a:lnTo>
                    <a:pt x="534" y="1257"/>
                  </a:lnTo>
                  <a:lnTo>
                    <a:pt x="560" y="1283"/>
                  </a:lnTo>
                  <a:lnTo>
                    <a:pt x="586" y="1316"/>
                  </a:lnTo>
                  <a:lnTo>
                    <a:pt x="613" y="1343"/>
                  </a:lnTo>
                  <a:lnTo>
                    <a:pt x="639" y="1369"/>
                  </a:lnTo>
                  <a:lnTo>
                    <a:pt x="672" y="1395"/>
                  </a:lnTo>
                  <a:lnTo>
                    <a:pt x="698" y="1428"/>
                  </a:lnTo>
                  <a:lnTo>
                    <a:pt x="725" y="1455"/>
                  </a:lnTo>
                  <a:lnTo>
                    <a:pt x="751" y="1481"/>
                  </a:lnTo>
                  <a:lnTo>
                    <a:pt x="784" y="1507"/>
                  </a:lnTo>
                  <a:lnTo>
                    <a:pt x="810" y="1540"/>
                  </a:lnTo>
                  <a:lnTo>
                    <a:pt x="837" y="1540"/>
                  </a:lnTo>
                  <a:lnTo>
                    <a:pt x="863" y="1566"/>
                  </a:lnTo>
                  <a:lnTo>
                    <a:pt x="889" y="1593"/>
                  </a:lnTo>
                  <a:lnTo>
                    <a:pt x="922" y="1619"/>
                  </a:lnTo>
                  <a:lnTo>
                    <a:pt x="949" y="1652"/>
                  </a:lnTo>
                  <a:lnTo>
                    <a:pt x="975" y="1678"/>
                  </a:lnTo>
                  <a:lnTo>
                    <a:pt x="1001" y="1705"/>
                  </a:lnTo>
                  <a:lnTo>
                    <a:pt x="1034" y="1731"/>
                  </a:lnTo>
                  <a:lnTo>
                    <a:pt x="1061" y="1731"/>
                  </a:lnTo>
                  <a:lnTo>
                    <a:pt x="1087" y="1731"/>
                  </a:lnTo>
                  <a:lnTo>
                    <a:pt x="1113" y="1731"/>
                  </a:lnTo>
                  <a:lnTo>
                    <a:pt x="1140" y="1731"/>
                  </a:lnTo>
                  <a:lnTo>
                    <a:pt x="1173" y="1731"/>
                  </a:lnTo>
                  <a:lnTo>
                    <a:pt x="1199" y="1731"/>
                  </a:lnTo>
                  <a:lnTo>
                    <a:pt x="1226" y="1731"/>
                  </a:lnTo>
                  <a:lnTo>
                    <a:pt x="1252" y="1731"/>
                  </a:lnTo>
                  <a:lnTo>
                    <a:pt x="1285" y="1731"/>
                  </a:lnTo>
                  <a:lnTo>
                    <a:pt x="1311" y="1731"/>
                  </a:lnTo>
                  <a:lnTo>
                    <a:pt x="1338" y="1731"/>
                  </a:lnTo>
                  <a:lnTo>
                    <a:pt x="1364" y="1731"/>
                  </a:lnTo>
                  <a:lnTo>
                    <a:pt x="1397" y="1731"/>
                  </a:lnTo>
                  <a:lnTo>
                    <a:pt x="1423" y="1731"/>
                  </a:lnTo>
                  <a:lnTo>
                    <a:pt x="1450" y="1731"/>
                  </a:lnTo>
                  <a:lnTo>
                    <a:pt x="1476" y="1731"/>
                  </a:lnTo>
                  <a:lnTo>
                    <a:pt x="1502" y="1731"/>
                  </a:lnTo>
                  <a:lnTo>
                    <a:pt x="1535" y="1731"/>
                  </a:lnTo>
                  <a:lnTo>
                    <a:pt x="1562" y="1731"/>
                  </a:lnTo>
                  <a:lnTo>
                    <a:pt x="1588" y="1731"/>
                  </a:lnTo>
                  <a:lnTo>
                    <a:pt x="1614" y="1731"/>
                  </a:lnTo>
                  <a:lnTo>
                    <a:pt x="1647" y="1731"/>
                  </a:lnTo>
                  <a:lnTo>
                    <a:pt x="1674" y="1731"/>
                  </a:lnTo>
                  <a:lnTo>
                    <a:pt x="1700" y="1731"/>
                  </a:lnTo>
                  <a:lnTo>
                    <a:pt x="1726" y="1731"/>
                  </a:lnTo>
                  <a:lnTo>
                    <a:pt x="1753" y="1731"/>
                  </a:lnTo>
                  <a:lnTo>
                    <a:pt x="1786" y="1731"/>
                  </a:lnTo>
                  <a:lnTo>
                    <a:pt x="1812" y="1731"/>
                  </a:lnTo>
                  <a:lnTo>
                    <a:pt x="1838" y="1731"/>
                  </a:lnTo>
                  <a:lnTo>
                    <a:pt x="1865" y="1731"/>
                  </a:lnTo>
                  <a:lnTo>
                    <a:pt x="1898" y="1731"/>
                  </a:lnTo>
                  <a:lnTo>
                    <a:pt x="1924" y="1731"/>
                  </a:lnTo>
                  <a:lnTo>
                    <a:pt x="1950" y="1731"/>
                  </a:lnTo>
                  <a:lnTo>
                    <a:pt x="1977" y="1731"/>
                  </a:lnTo>
                  <a:lnTo>
                    <a:pt x="2003" y="1731"/>
                  </a:lnTo>
                  <a:lnTo>
                    <a:pt x="2036" y="1731"/>
                  </a:lnTo>
                  <a:lnTo>
                    <a:pt x="2062" y="1731"/>
                  </a:lnTo>
                  <a:lnTo>
                    <a:pt x="2089" y="1731"/>
                  </a:lnTo>
                  <a:lnTo>
                    <a:pt x="2115" y="1731"/>
                  </a:lnTo>
                  <a:lnTo>
                    <a:pt x="2148" y="1731"/>
                  </a:lnTo>
                  <a:lnTo>
                    <a:pt x="2174" y="1731"/>
                  </a:lnTo>
                  <a:lnTo>
                    <a:pt x="2201" y="1731"/>
                  </a:lnTo>
                  <a:lnTo>
                    <a:pt x="2227" y="1731"/>
                  </a:lnTo>
                  <a:lnTo>
                    <a:pt x="2253" y="1731"/>
                  </a:lnTo>
                  <a:lnTo>
                    <a:pt x="2286" y="1731"/>
                  </a:lnTo>
                  <a:lnTo>
                    <a:pt x="2313" y="1731"/>
                  </a:lnTo>
                  <a:lnTo>
                    <a:pt x="2339" y="1731"/>
                  </a:lnTo>
                  <a:close/>
                </a:path>
              </a:pathLst>
            </a:custGeom>
            <a:solidFill>
              <a:srgbClr val="7fdb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3" name=""/>
            <p:cNvSpPr/>
            <p:nvPr/>
          </p:nvSpPr>
          <p:spPr>
            <a:xfrm>
              <a:off x="3309840" y="3003480"/>
              <a:ext cx="11160" cy="31680"/>
            </a:xfrm>
            <a:custGeom>
              <a:avLst/>
              <a:gdLst/>
              <a:ahLst/>
              <a:rect l="l" t="t" r="r" b="b"/>
              <a:pathLst>
                <a:path w="7" h="20">
                  <a:moveTo>
                    <a:pt x="7" y="13"/>
                  </a:moveTo>
                  <a:lnTo>
                    <a:pt x="7" y="6"/>
                  </a:lnTo>
                  <a:lnTo>
                    <a:pt x="7" y="6"/>
                  </a:lnTo>
                  <a:lnTo>
                    <a:pt x="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7" y="20"/>
                  </a:lnTo>
                  <a:lnTo>
                    <a:pt x="7" y="13"/>
                  </a:lnTo>
                  <a:lnTo>
                    <a:pt x="7" y="1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4" name=""/>
            <p:cNvSpPr/>
            <p:nvPr/>
          </p:nvSpPr>
          <p:spPr>
            <a:xfrm>
              <a:off x="3656160" y="2930400"/>
              <a:ext cx="20520" cy="52560"/>
            </a:xfrm>
            <a:custGeom>
              <a:avLst/>
              <a:gdLst/>
              <a:ahLst/>
              <a:rect l="l" t="t" r="r" b="b"/>
              <a:pathLst>
                <a:path w="13" h="33">
                  <a:moveTo>
                    <a:pt x="6" y="33"/>
                  </a:moveTo>
                  <a:lnTo>
                    <a:pt x="6" y="26"/>
                  </a:lnTo>
                  <a:lnTo>
                    <a:pt x="13" y="20"/>
                  </a:lnTo>
                  <a:lnTo>
                    <a:pt x="13" y="20"/>
                  </a:lnTo>
                  <a:lnTo>
                    <a:pt x="13" y="13"/>
                  </a:lnTo>
                  <a:lnTo>
                    <a:pt x="13" y="13"/>
                  </a:lnTo>
                  <a:lnTo>
                    <a:pt x="13" y="6"/>
                  </a:lnTo>
                  <a:lnTo>
                    <a:pt x="13" y="6"/>
                  </a:lnTo>
                  <a:lnTo>
                    <a:pt x="13" y="6"/>
                  </a:lnTo>
                  <a:lnTo>
                    <a:pt x="6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6" y="26"/>
                  </a:lnTo>
                  <a:lnTo>
                    <a:pt x="6" y="33"/>
                  </a:lnTo>
                  <a:lnTo>
                    <a:pt x="6" y="33"/>
                  </a:lnTo>
                  <a:lnTo>
                    <a:pt x="6" y="3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5" name=""/>
            <p:cNvSpPr/>
            <p:nvPr/>
          </p:nvSpPr>
          <p:spPr>
            <a:xfrm>
              <a:off x="3341520" y="2878200"/>
              <a:ext cx="20880" cy="73080"/>
            </a:xfrm>
            <a:custGeom>
              <a:avLst/>
              <a:gdLst/>
              <a:ahLst/>
              <a:rect l="l" t="t" r="r" b="b"/>
              <a:pathLst>
                <a:path w="13" h="46">
                  <a:moveTo>
                    <a:pt x="13" y="33"/>
                  </a:moveTo>
                  <a:lnTo>
                    <a:pt x="13" y="33"/>
                  </a:lnTo>
                  <a:lnTo>
                    <a:pt x="13" y="26"/>
                  </a:lnTo>
                  <a:lnTo>
                    <a:pt x="13" y="26"/>
                  </a:lnTo>
                  <a:lnTo>
                    <a:pt x="13" y="20"/>
                  </a:lnTo>
                  <a:lnTo>
                    <a:pt x="13" y="13"/>
                  </a:lnTo>
                  <a:lnTo>
                    <a:pt x="13" y="13"/>
                  </a:lnTo>
                  <a:lnTo>
                    <a:pt x="13" y="6"/>
                  </a:lnTo>
                  <a:lnTo>
                    <a:pt x="13" y="0"/>
                  </a:lnTo>
                  <a:lnTo>
                    <a:pt x="6" y="6"/>
                  </a:lnTo>
                  <a:lnTo>
                    <a:pt x="6" y="13"/>
                  </a:lnTo>
                  <a:lnTo>
                    <a:pt x="6" y="13"/>
                  </a:lnTo>
                  <a:lnTo>
                    <a:pt x="0" y="20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6" y="39"/>
                  </a:lnTo>
                  <a:lnTo>
                    <a:pt x="6" y="39"/>
                  </a:lnTo>
                  <a:lnTo>
                    <a:pt x="13" y="46"/>
                  </a:lnTo>
                  <a:lnTo>
                    <a:pt x="13" y="39"/>
                  </a:lnTo>
                  <a:lnTo>
                    <a:pt x="13" y="3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6" name=""/>
            <p:cNvSpPr/>
            <p:nvPr/>
          </p:nvSpPr>
          <p:spPr>
            <a:xfrm>
              <a:off x="3362400" y="2793960"/>
              <a:ext cx="52200" cy="52560"/>
            </a:xfrm>
            <a:custGeom>
              <a:avLst/>
              <a:gdLst/>
              <a:ahLst/>
              <a:rect l="l" t="t" r="r" b="b"/>
              <a:pathLst>
                <a:path w="33" h="33">
                  <a:moveTo>
                    <a:pt x="26" y="33"/>
                  </a:moveTo>
                  <a:lnTo>
                    <a:pt x="26" y="27"/>
                  </a:lnTo>
                  <a:lnTo>
                    <a:pt x="33" y="20"/>
                  </a:lnTo>
                  <a:lnTo>
                    <a:pt x="33" y="20"/>
                  </a:lnTo>
                  <a:lnTo>
                    <a:pt x="33" y="13"/>
                  </a:lnTo>
                  <a:lnTo>
                    <a:pt x="33" y="7"/>
                  </a:lnTo>
                  <a:lnTo>
                    <a:pt x="33" y="7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0" y="0"/>
                  </a:lnTo>
                  <a:lnTo>
                    <a:pt x="7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7" y="20"/>
                  </a:lnTo>
                  <a:lnTo>
                    <a:pt x="13" y="27"/>
                  </a:lnTo>
                  <a:lnTo>
                    <a:pt x="20" y="33"/>
                  </a:lnTo>
                  <a:lnTo>
                    <a:pt x="26" y="33"/>
                  </a:lnTo>
                  <a:lnTo>
                    <a:pt x="26" y="3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7" name=""/>
            <p:cNvSpPr/>
            <p:nvPr/>
          </p:nvSpPr>
          <p:spPr>
            <a:xfrm>
              <a:off x="3351240" y="2732040"/>
              <a:ext cx="11160" cy="61920"/>
            </a:xfrm>
            <a:custGeom>
              <a:avLst/>
              <a:gdLst/>
              <a:ahLst/>
              <a:rect l="l" t="t" r="r" b="b"/>
              <a:pathLst>
                <a:path w="7" h="39">
                  <a:moveTo>
                    <a:pt x="7" y="13"/>
                  </a:moveTo>
                  <a:lnTo>
                    <a:pt x="7" y="6"/>
                  </a:lnTo>
                  <a:lnTo>
                    <a:pt x="7" y="0"/>
                  </a:lnTo>
                  <a:lnTo>
                    <a:pt x="7" y="0"/>
                  </a:lnTo>
                  <a:lnTo>
                    <a:pt x="0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0" y="39"/>
                  </a:lnTo>
                  <a:lnTo>
                    <a:pt x="7" y="39"/>
                  </a:lnTo>
                  <a:lnTo>
                    <a:pt x="7" y="39"/>
                  </a:lnTo>
                  <a:lnTo>
                    <a:pt x="7" y="33"/>
                  </a:lnTo>
                  <a:lnTo>
                    <a:pt x="7" y="26"/>
                  </a:lnTo>
                  <a:lnTo>
                    <a:pt x="7" y="1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8" name=""/>
            <p:cNvSpPr/>
            <p:nvPr/>
          </p:nvSpPr>
          <p:spPr>
            <a:xfrm>
              <a:off x="4262400" y="5345280"/>
              <a:ext cx="146160" cy="114120"/>
            </a:xfrm>
            <a:custGeom>
              <a:avLst/>
              <a:gdLst/>
              <a:ahLst/>
              <a:rect l="l" t="t" r="r" b="b"/>
              <a:pathLst>
                <a:path w="92" h="72">
                  <a:moveTo>
                    <a:pt x="0" y="72"/>
                  </a:moveTo>
                  <a:lnTo>
                    <a:pt x="0" y="72"/>
                  </a:lnTo>
                  <a:lnTo>
                    <a:pt x="6" y="65"/>
                  </a:lnTo>
                  <a:lnTo>
                    <a:pt x="13" y="59"/>
                  </a:lnTo>
                  <a:lnTo>
                    <a:pt x="13" y="52"/>
                  </a:lnTo>
                  <a:lnTo>
                    <a:pt x="19" y="52"/>
                  </a:lnTo>
                  <a:lnTo>
                    <a:pt x="26" y="46"/>
                  </a:lnTo>
                  <a:lnTo>
                    <a:pt x="26" y="39"/>
                  </a:lnTo>
                  <a:lnTo>
                    <a:pt x="33" y="33"/>
                  </a:lnTo>
                  <a:lnTo>
                    <a:pt x="33" y="26"/>
                  </a:lnTo>
                  <a:lnTo>
                    <a:pt x="39" y="26"/>
                  </a:lnTo>
                  <a:lnTo>
                    <a:pt x="46" y="19"/>
                  </a:lnTo>
                  <a:lnTo>
                    <a:pt x="52" y="19"/>
                  </a:lnTo>
                  <a:lnTo>
                    <a:pt x="59" y="19"/>
                  </a:lnTo>
                  <a:lnTo>
                    <a:pt x="66" y="13"/>
                  </a:lnTo>
                  <a:lnTo>
                    <a:pt x="66" y="6"/>
                  </a:lnTo>
                  <a:lnTo>
                    <a:pt x="72" y="0"/>
                  </a:lnTo>
                  <a:lnTo>
                    <a:pt x="79" y="0"/>
                  </a:lnTo>
                  <a:lnTo>
                    <a:pt x="85" y="6"/>
                  </a:lnTo>
                  <a:lnTo>
                    <a:pt x="92" y="13"/>
                  </a:lnTo>
                  <a:lnTo>
                    <a:pt x="92" y="19"/>
                  </a:lnTo>
                  <a:lnTo>
                    <a:pt x="92" y="19"/>
                  </a:lnTo>
                  <a:lnTo>
                    <a:pt x="79" y="26"/>
                  </a:lnTo>
                  <a:lnTo>
                    <a:pt x="72" y="26"/>
                  </a:lnTo>
                  <a:lnTo>
                    <a:pt x="66" y="33"/>
                  </a:lnTo>
                  <a:lnTo>
                    <a:pt x="66" y="33"/>
                  </a:lnTo>
                  <a:lnTo>
                    <a:pt x="66" y="39"/>
                  </a:lnTo>
                  <a:lnTo>
                    <a:pt x="66" y="46"/>
                  </a:lnTo>
                  <a:lnTo>
                    <a:pt x="66" y="52"/>
                  </a:lnTo>
                  <a:lnTo>
                    <a:pt x="66" y="59"/>
                  </a:lnTo>
                  <a:lnTo>
                    <a:pt x="66" y="65"/>
                  </a:lnTo>
                  <a:lnTo>
                    <a:pt x="72" y="72"/>
                  </a:lnTo>
                  <a:lnTo>
                    <a:pt x="72" y="7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9" name=""/>
            <p:cNvSpPr/>
            <p:nvPr/>
          </p:nvSpPr>
          <p:spPr>
            <a:xfrm flipH="1">
              <a:off x="6532560" y="2962440"/>
              <a:ext cx="93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0" name=""/>
            <p:cNvSpPr/>
            <p:nvPr/>
          </p:nvSpPr>
          <p:spPr>
            <a:xfrm>
              <a:off x="6145200" y="2962440"/>
              <a:ext cx="387360" cy="877680"/>
            </a:xfrm>
            <a:custGeom>
              <a:avLst/>
              <a:gdLst/>
              <a:ahLst/>
              <a:rect l="l" t="t" r="r" b="b"/>
              <a:pathLst>
                <a:path w="244" h="553">
                  <a:moveTo>
                    <a:pt x="244" y="0"/>
                  </a:moveTo>
                  <a:lnTo>
                    <a:pt x="237" y="6"/>
                  </a:lnTo>
                  <a:lnTo>
                    <a:pt x="237" y="13"/>
                  </a:lnTo>
                  <a:lnTo>
                    <a:pt x="230" y="19"/>
                  </a:lnTo>
                  <a:lnTo>
                    <a:pt x="237" y="26"/>
                  </a:lnTo>
                  <a:lnTo>
                    <a:pt x="237" y="32"/>
                  </a:lnTo>
                  <a:lnTo>
                    <a:pt x="237" y="39"/>
                  </a:lnTo>
                  <a:lnTo>
                    <a:pt x="244" y="46"/>
                  </a:lnTo>
                  <a:lnTo>
                    <a:pt x="244" y="52"/>
                  </a:lnTo>
                  <a:lnTo>
                    <a:pt x="244" y="52"/>
                  </a:lnTo>
                  <a:lnTo>
                    <a:pt x="244" y="59"/>
                  </a:lnTo>
                  <a:lnTo>
                    <a:pt x="244" y="65"/>
                  </a:lnTo>
                  <a:lnTo>
                    <a:pt x="237" y="72"/>
                  </a:lnTo>
                  <a:lnTo>
                    <a:pt x="237" y="79"/>
                  </a:lnTo>
                  <a:lnTo>
                    <a:pt x="230" y="79"/>
                  </a:lnTo>
                  <a:lnTo>
                    <a:pt x="224" y="85"/>
                  </a:lnTo>
                  <a:lnTo>
                    <a:pt x="217" y="92"/>
                  </a:lnTo>
                  <a:lnTo>
                    <a:pt x="204" y="92"/>
                  </a:lnTo>
                  <a:lnTo>
                    <a:pt x="197" y="98"/>
                  </a:lnTo>
                  <a:lnTo>
                    <a:pt x="197" y="105"/>
                  </a:lnTo>
                  <a:lnTo>
                    <a:pt x="191" y="111"/>
                  </a:lnTo>
                  <a:lnTo>
                    <a:pt x="191" y="111"/>
                  </a:lnTo>
                  <a:lnTo>
                    <a:pt x="191" y="118"/>
                  </a:lnTo>
                  <a:lnTo>
                    <a:pt x="184" y="125"/>
                  </a:lnTo>
                  <a:lnTo>
                    <a:pt x="184" y="131"/>
                  </a:lnTo>
                  <a:lnTo>
                    <a:pt x="178" y="138"/>
                  </a:lnTo>
                  <a:lnTo>
                    <a:pt x="171" y="138"/>
                  </a:lnTo>
                  <a:lnTo>
                    <a:pt x="165" y="144"/>
                  </a:lnTo>
                  <a:lnTo>
                    <a:pt x="165" y="151"/>
                  </a:lnTo>
                  <a:lnTo>
                    <a:pt x="158" y="158"/>
                  </a:lnTo>
                  <a:lnTo>
                    <a:pt x="158" y="164"/>
                  </a:lnTo>
                  <a:lnTo>
                    <a:pt x="158" y="171"/>
                  </a:lnTo>
                  <a:lnTo>
                    <a:pt x="165" y="177"/>
                  </a:lnTo>
                  <a:lnTo>
                    <a:pt x="171" y="177"/>
                  </a:lnTo>
                  <a:lnTo>
                    <a:pt x="165" y="184"/>
                  </a:lnTo>
                  <a:lnTo>
                    <a:pt x="165" y="177"/>
                  </a:lnTo>
                  <a:lnTo>
                    <a:pt x="158" y="171"/>
                  </a:lnTo>
                  <a:lnTo>
                    <a:pt x="151" y="171"/>
                  </a:lnTo>
                  <a:lnTo>
                    <a:pt x="138" y="171"/>
                  </a:lnTo>
                  <a:lnTo>
                    <a:pt x="125" y="177"/>
                  </a:lnTo>
                  <a:lnTo>
                    <a:pt x="118" y="177"/>
                  </a:lnTo>
                  <a:lnTo>
                    <a:pt x="112" y="177"/>
                  </a:lnTo>
                  <a:lnTo>
                    <a:pt x="112" y="184"/>
                  </a:lnTo>
                  <a:lnTo>
                    <a:pt x="112" y="190"/>
                  </a:lnTo>
                  <a:lnTo>
                    <a:pt x="112" y="197"/>
                  </a:lnTo>
                  <a:lnTo>
                    <a:pt x="118" y="204"/>
                  </a:lnTo>
                  <a:lnTo>
                    <a:pt x="125" y="210"/>
                  </a:lnTo>
                  <a:lnTo>
                    <a:pt x="138" y="210"/>
                  </a:lnTo>
                  <a:lnTo>
                    <a:pt x="145" y="210"/>
                  </a:lnTo>
                  <a:lnTo>
                    <a:pt x="151" y="217"/>
                  </a:lnTo>
                  <a:lnTo>
                    <a:pt x="151" y="223"/>
                  </a:lnTo>
                  <a:lnTo>
                    <a:pt x="158" y="230"/>
                  </a:lnTo>
                  <a:lnTo>
                    <a:pt x="158" y="237"/>
                  </a:lnTo>
                  <a:lnTo>
                    <a:pt x="158" y="243"/>
                  </a:lnTo>
                  <a:lnTo>
                    <a:pt x="151" y="243"/>
                  </a:lnTo>
                  <a:lnTo>
                    <a:pt x="145" y="250"/>
                  </a:lnTo>
                  <a:lnTo>
                    <a:pt x="138" y="256"/>
                  </a:lnTo>
                  <a:lnTo>
                    <a:pt x="132" y="263"/>
                  </a:lnTo>
                  <a:lnTo>
                    <a:pt x="132" y="263"/>
                  </a:lnTo>
                  <a:lnTo>
                    <a:pt x="125" y="269"/>
                  </a:lnTo>
                  <a:lnTo>
                    <a:pt x="125" y="276"/>
                  </a:lnTo>
                  <a:lnTo>
                    <a:pt x="118" y="283"/>
                  </a:lnTo>
                  <a:lnTo>
                    <a:pt x="118" y="289"/>
                  </a:lnTo>
                  <a:lnTo>
                    <a:pt x="118" y="296"/>
                  </a:lnTo>
                  <a:lnTo>
                    <a:pt x="112" y="302"/>
                  </a:lnTo>
                  <a:lnTo>
                    <a:pt x="112" y="302"/>
                  </a:lnTo>
                  <a:lnTo>
                    <a:pt x="112" y="309"/>
                  </a:lnTo>
                  <a:lnTo>
                    <a:pt x="112" y="316"/>
                  </a:lnTo>
                  <a:lnTo>
                    <a:pt x="105" y="322"/>
                  </a:lnTo>
                  <a:lnTo>
                    <a:pt x="105" y="329"/>
                  </a:lnTo>
                  <a:lnTo>
                    <a:pt x="105" y="335"/>
                  </a:lnTo>
                  <a:lnTo>
                    <a:pt x="99" y="342"/>
                  </a:lnTo>
                  <a:lnTo>
                    <a:pt x="99" y="348"/>
                  </a:lnTo>
                  <a:lnTo>
                    <a:pt x="92" y="348"/>
                  </a:lnTo>
                  <a:lnTo>
                    <a:pt x="92" y="355"/>
                  </a:lnTo>
                  <a:lnTo>
                    <a:pt x="92" y="362"/>
                  </a:lnTo>
                  <a:lnTo>
                    <a:pt x="92" y="368"/>
                  </a:lnTo>
                  <a:lnTo>
                    <a:pt x="92" y="375"/>
                  </a:lnTo>
                  <a:lnTo>
                    <a:pt x="92" y="381"/>
                  </a:lnTo>
                  <a:lnTo>
                    <a:pt x="85" y="388"/>
                  </a:lnTo>
                  <a:lnTo>
                    <a:pt x="85" y="395"/>
                  </a:lnTo>
                  <a:lnTo>
                    <a:pt x="85" y="401"/>
                  </a:lnTo>
                  <a:lnTo>
                    <a:pt x="79" y="408"/>
                  </a:lnTo>
                  <a:lnTo>
                    <a:pt x="79" y="408"/>
                  </a:lnTo>
                  <a:lnTo>
                    <a:pt x="79" y="414"/>
                  </a:lnTo>
                  <a:lnTo>
                    <a:pt x="79" y="421"/>
                  </a:lnTo>
                  <a:lnTo>
                    <a:pt x="79" y="427"/>
                  </a:lnTo>
                  <a:lnTo>
                    <a:pt x="85" y="434"/>
                  </a:lnTo>
                  <a:lnTo>
                    <a:pt x="92" y="441"/>
                  </a:lnTo>
                  <a:lnTo>
                    <a:pt x="99" y="441"/>
                  </a:lnTo>
                  <a:lnTo>
                    <a:pt x="99" y="447"/>
                  </a:lnTo>
                  <a:lnTo>
                    <a:pt x="105" y="454"/>
                  </a:lnTo>
                  <a:lnTo>
                    <a:pt x="105" y="460"/>
                  </a:lnTo>
                  <a:lnTo>
                    <a:pt x="99" y="467"/>
                  </a:lnTo>
                  <a:lnTo>
                    <a:pt x="99" y="474"/>
                  </a:lnTo>
                  <a:lnTo>
                    <a:pt x="92" y="480"/>
                  </a:lnTo>
                  <a:lnTo>
                    <a:pt x="92" y="487"/>
                  </a:lnTo>
                  <a:lnTo>
                    <a:pt x="99" y="487"/>
                  </a:lnTo>
                  <a:lnTo>
                    <a:pt x="105" y="493"/>
                  </a:lnTo>
                  <a:lnTo>
                    <a:pt x="112" y="493"/>
                  </a:lnTo>
                  <a:lnTo>
                    <a:pt x="118" y="500"/>
                  </a:lnTo>
                  <a:lnTo>
                    <a:pt x="125" y="506"/>
                  </a:lnTo>
                  <a:lnTo>
                    <a:pt x="125" y="513"/>
                  </a:lnTo>
                  <a:lnTo>
                    <a:pt x="125" y="520"/>
                  </a:lnTo>
                  <a:lnTo>
                    <a:pt x="125" y="526"/>
                  </a:lnTo>
                  <a:lnTo>
                    <a:pt x="118" y="533"/>
                  </a:lnTo>
                  <a:lnTo>
                    <a:pt x="112" y="539"/>
                  </a:lnTo>
                  <a:lnTo>
                    <a:pt x="105" y="539"/>
                  </a:lnTo>
                  <a:lnTo>
                    <a:pt x="99" y="533"/>
                  </a:lnTo>
                  <a:lnTo>
                    <a:pt x="92" y="526"/>
                  </a:lnTo>
                  <a:lnTo>
                    <a:pt x="85" y="526"/>
                  </a:lnTo>
                  <a:lnTo>
                    <a:pt x="79" y="526"/>
                  </a:lnTo>
                  <a:lnTo>
                    <a:pt x="79" y="526"/>
                  </a:lnTo>
                  <a:lnTo>
                    <a:pt x="72" y="533"/>
                  </a:lnTo>
                  <a:lnTo>
                    <a:pt x="72" y="546"/>
                  </a:lnTo>
                  <a:lnTo>
                    <a:pt x="66" y="553"/>
                  </a:lnTo>
                  <a:lnTo>
                    <a:pt x="59" y="553"/>
                  </a:lnTo>
                  <a:lnTo>
                    <a:pt x="52" y="553"/>
                  </a:lnTo>
                  <a:lnTo>
                    <a:pt x="46" y="553"/>
                  </a:lnTo>
                  <a:lnTo>
                    <a:pt x="46" y="546"/>
                  </a:lnTo>
                  <a:lnTo>
                    <a:pt x="39" y="539"/>
                  </a:lnTo>
                  <a:lnTo>
                    <a:pt x="33" y="533"/>
                  </a:lnTo>
                  <a:lnTo>
                    <a:pt x="26" y="526"/>
                  </a:lnTo>
                  <a:lnTo>
                    <a:pt x="26" y="526"/>
                  </a:lnTo>
                  <a:lnTo>
                    <a:pt x="26" y="520"/>
                  </a:lnTo>
                  <a:lnTo>
                    <a:pt x="20" y="513"/>
                  </a:lnTo>
                  <a:lnTo>
                    <a:pt x="20" y="506"/>
                  </a:lnTo>
                  <a:lnTo>
                    <a:pt x="20" y="500"/>
                  </a:lnTo>
                  <a:lnTo>
                    <a:pt x="20" y="493"/>
                  </a:lnTo>
                  <a:lnTo>
                    <a:pt x="20" y="487"/>
                  </a:lnTo>
                  <a:lnTo>
                    <a:pt x="20" y="480"/>
                  </a:lnTo>
                  <a:lnTo>
                    <a:pt x="13" y="474"/>
                  </a:lnTo>
                  <a:lnTo>
                    <a:pt x="13" y="467"/>
                  </a:lnTo>
                  <a:lnTo>
                    <a:pt x="6" y="460"/>
                  </a:lnTo>
                  <a:lnTo>
                    <a:pt x="0" y="46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1" name=""/>
            <p:cNvSpPr/>
            <p:nvPr/>
          </p:nvSpPr>
          <p:spPr>
            <a:xfrm>
              <a:off x="6145200" y="3692520"/>
              <a:ext cx="14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2" name=""/>
            <p:cNvSpPr/>
            <p:nvPr/>
          </p:nvSpPr>
          <p:spPr>
            <a:xfrm>
              <a:off x="6040440" y="3735360"/>
              <a:ext cx="61920" cy="61920"/>
            </a:xfrm>
            <a:custGeom>
              <a:avLst/>
              <a:gdLst/>
              <a:ahLst/>
              <a:rect l="l" t="t" r="r" b="b"/>
              <a:pathLst>
                <a:path w="39" h="39">
                  <a:moveTo>
                    <a:pt x="20" y="0"/>
                  </a:moveTo>
                  <a:lnTo>
                    <a:pt x="20" y="6"/>
                  </a:lnTo>
                  <a:lnTo>
                    <a:pt x="20" y="6"/>
                  </a:lnTo>
                  <a:lnTo>
                    <a:pt x="13" y="6"/>
                  </a:lnTo>
                  <a:lnTo>
                    <a:pt x="13" y="6"/>
                  </a:lnTo>
                  <a:lnTo>
                    <a:pt x="13" y="6"/>
                  </a:lnTo>
                  <a:lnTo>
                    <a:pt x="13" y="6"/>
                  </a:lnTo>
                  <a:lnTo>
                    <a:pt x="13" y="6"/>
                  </a:lnTo>
                  <a:lnTo>
                    <a:pt x="13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13"/>
                  </a:lnTo>
                  <a:lnTo>
                    <a:pt x="6" y="13"/>
                  </a:lnTo>
                  <a:lnTo>
                    <a:pt x="6" y="13"/>
                  </a:lnTo>
                  <a:lnTo>
                    <a:pt x="6" y="13"/>
                  </a:lnTo>
                  <a:lnTo>
                    <a:pt x="6" y="19"/>
                  </a:lnTo>
                  <a:lnTo>
                    <a:pt x="13" y="19"/>
                  </a:lnTo>
                  <a:lnTo>
                    <a:pt x="13" y="19"/>
                  </a:lnTo>
                  <a:lnTo>
                    <a:pt x="13" y="26"/>
                  </a:lnTo>
                  <a:lnTo>
                    <a:pt x="13" y="19"/>
                  </a:lnTo>
                  <a:lnTo>
                    <a:pt x="13" y="19"/>
                  </a:lnTo>
                  <a:lnTo>
                    <a:pt x="13" y="19"/>
                  </a:lnTo>
                  <a:lnTo>
                    <a:pt x="13" y="19"/>
                  </a:lnTo>
                  <a:lnTo>
                    <a:pt x="13" y="19"/>
                  </a:lnTo>
                  <a:lnTo>
                    <a:pt x="13" y="13"/>
                  </a:lnTo>
                  <a:lnTo>
                    <a:pt x="13" y="13"/>
                  </a:lnTo>
                  <a:lnTo>
                    <a:pt x="20" y="13"/>
                  </a:lnTo>
                  <a:lnTo>
                    <a:pt x="20" y="13"/>
                  </a:lnTo>
                  <a:lnTo>
                    <a:pt x="20" y="13"/>
                  </a:lnTo>
                  <a:lnTo>
                    <a:pt x="26" y="6"/>
                  </a:lnTo>
                  <a:lnTo>
                    <a:pt x="26" y="6"/>
                  </a:lnTo>
                  <a:lnTo>
                    <a:pt x="26" y="6"/>
                  </a:lnTo>
                  <a:lnTo>
                    <a:pt x="33" y="13"/>
                  </a:lnTo>
                  <a:lnTo>
                    <a:pt x="33" y="13"/>
                  </a:lnTo>
                  <a:lnTo>
                    <a:pt x="33" y="13"/>
                  </a:lnTo>
                  <a:lnTo>
                    <a:pt x="39" y="13"/>
                  </a:lnTo>
                  <a:lnTo>
                    <a:pt x="39" y="19"/>
                  </a:lnTo>
                  <a:lnTo>
                    <a:pt x="39" y="19"/>
                  </a:lnTo>
                  <a:lnTo>
                    <a:pt x="39" y="19"/>
                  </a:lnTo>
                  <a:lnTo>
                    <a:pt x="39" y="19"/>
                  </a:lnTo>
                  <a:lnTo>
                    <a:pt x="39" y="26"/>
                  </a:lnTo>
                  <a:lnTo>
                    <a:pt x="39" y="26"/>
                  </a:lnTo>
                  <a:lnTo>
                    <a:pt x="39" y="26"/>
                  </a:lnTo>
                  <a:lnTo>
                    <a:pt x="39" y="26"/>
                  </a:lnTo>
                  <a:lnTo>
                    <a:pt x="39" y="33"/>
                  </a:lnTo>
                  <a:lnTo>
                    <a:pt x="39" y="33"/>
                  </a:lnTo>
                  <a:lnTo>
                    <a:pt x="39" y="33"/>
                  </a:lnTo>
                  <a:lnTo>
                    <a:pt x="33" y="33"/>
                  </a:lnTo>
                  <a:lnTo>
                    <a:pt x="33" y="39"/>
                  </a:lnTo>
                  <a:lnTo>
                    <a:pt x="26" y="39"/>
                  </a:lnTo>
                  <a:lnTo>
                    <a:pt x="26" y="39"/>
                  </a:lnTo>
                  <a:lnTo>
                    <a:pt x="20" y="39"/>
                  </a:lnTo>
                  <a:lnTo>
                    <a:pt x="20" y="33"/>
                  </a:lnTo>
                  <a:lnTo>
                    <a:pt x="13" y="33"/>
                  </a:lnTo>
                  <a:lnTo>
                    <a:pt x="13" y="26"/>
                  </a:lnTo>
                  <a:lnTo>
                    <a:pt x="6" y="26"/>
                  </a:lnTo>
                  <a:lnTo>
                    <a:pt x="6" y="19"/>
                  </a:lnTo>
                  <a:lnTo>
                    <a:pt x="0" y="19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20" y="0"/>
                  </a:lnTo>
                  <a:close/>
                  <a:moveTo>
                    <a:pt x="20" y="26"/>
                  </a:moveTo>
                  <a:lnTo>
                    <a:pt x="20" y="33"/>
                  </a:lnTo>
                  <a:lnTo>
                    <a:pt x="20" y="33"/>
                  </a:lnTo>
                  <a:lnTo>
                    <a:pt x="26" y="33"/>
                  </a:lnTo>
                  <a:lnTo>
                    <a:pt x="26" y="33"/>
                  </a:lnTo>
                  <a:lnTo>
                    <a:pt x="26" y="33"/>
                  </a:lnTo>
                  <a:lnTo>
                    <a:pt x="26" y="33"/>
                  </a:lnTo>
                  <a:lnTo>
                    <a:pt x="26" y="33"/>
                  </a:lnTo>
                  <a:lnTo>
                    <a:pt x="26" y="33"/>
                  </a:lnTo>
                  <a:lnTo>
                    <a:pt x="33" y="33"/>
                  </a:lnTo>
                  <a:lnTo>
                    <a:pt x="33" y="33"/>
                  </a:lnTo>
                  <a:lnTo>
                    <a:pt x="33" y="33"/>
                  </a:lnTo>
                  <a:lnTo>
                    <a:pt x="33" y="33"/>
                  </a:lnTo>
                  <a:lnTo>
                    <a:pt x="33" y="26"/>
                  </a:lnTo>
                  <a:lnTo>
                    <a:pt x="33" y="26"/>
                  </a:lnTo>
                  <a:lnTo>
                    <a:pt x="33" y="26"/>
                  </a:lnTo>
                  <a:lnTo>
                    <a:pt x="33" y="26"/>
                  </a:lnTo>
                  <a:lnTo>
                    <a:pt x="33" y="19"/>
                  </a:lnTo>
                  <a:lnTo>
                    <a:pt x="33" y="19"/>
                  </a:lnTo>
                  <a:lnTo>
                    <a:pt x="33" y="19"/>
                  </a:lnTo>
                  <a:lnTo>
                    <a:pt x="33" y="19"/>
                  </a:lnTo>
                  <a:lnTo>
                    <a:pt x="33" y="13"/>
                  </a:lnTo>
                  <a:lnTo>
                    <a:pt x="26" y="13"/>
                  </a:lnTo>
                  <a:lnTo>
                    <a:pt x="26" y="13"/>
                  </a:lnTo>
                  <a:lnTo>
                    <a:pt x="26" y="13"/>
                  </a:lnTo>
                  <a:lnTo>
                    <a:pt x="26" y="13"/>
                  </a:lnTo>
                  <a:lnTo>
                    <a:pt x="20" y="13"/>
                  </a:lnTo>
                  <a:lnTo>
                    <a:pt x="20" y="13"/>
                  </a:lnTo>
                  <a:lnTo>
                    <a:pt x="20" y="19"/>
                  </a:lnTo>
                  <a:lnTo>
                    <a:pt x="20" y="19"/>
                  </a:lnTo>
                  <a:lnTo>
                    <a:pt x="20" y="19"/>
                  </a:lnTo>
                  <a:lnTo>
                    <a:pt x="20" y="19"/>
                  </a:lnTo>
                  <a:lnTo>
                    <a:pt x="20" y="26"/>
                  </a:lnTo>
                  <a:lnTo>
                    <a:pt x="20" y="26"/>
                  </a:lnTo>
                  <a:lnTo>
                    <a:pt x="20" y="26"/>
                  </a:lnTo>
                  <a:lnTo>
                    <a:pt x="20" y="26"/>
                  </a:lnTo>
                  <a:lnTo>
                    <a:pt x="20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3" name=""/>
            <p:cNvSpPr/>
            <p:nvPr/>
          </p:nvSpPr>
          <p:spPr>
            <a:xfrm>
              <a:off x="6081840" y="3692520"/>
              <a:ext cx="63360" cy="63360"/>
            </a:xfrm>
            <a:custGeom>
              <a:avLst/>
              <a:gdLst/>
              <a:ahLst/>
              <a:rect l="l" t="t" r="r" b="b"/>
              <a:pathLst>
                <a:path w="40" h="40">
                  <a:moveTo>
                    <a:pt x="7" y="33"/>
                  </a:moveTo>
                  <a:lnTo>
                    <a:pt x="7" y="27"/>
                  </a:lnTo>
                  <a:lnTo>
                    <a:pt x="7" y="27"/>
                  </a:lnTo>
                  <a:lnTo>
                    <a:pt x="0" y="27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20" y="7"/>
                  </a:lnTo>
                  <a:lnTo>
                    <a:pt x="20" y="7"/>
                  </a:lnTo>
                  <a:lnTo>
                    <a:pt x="20" y="7"/>
                  </a:lnTo>
                  <a:lnTo>
                    <a:pt x="20" y="7"/>
                  </a:lnTo>
                  <a:lnTo>
                    <a:pt x="27" y="7"/>
                  </a:lnTo>
                  <a:lnTo>
                    <a:pt x="27" y="7"/>
                  </a:lnTo>
                  <a:lnTo>
                    <a:pt x="27" y="14"/>
                  </a:lnTo>
                  <a:lnTo>
                    <a:pt x="33" y="14"/>
                  </a:lnTo>
                  <a:lnTo>
                    <a:pt x="33" y="20"/>
                  </a:lnTo>
                  <a:lnTo>
                    <a:pt x="33" y="20"/>
                  </a:lnTo>
                  <a:lnTo>
                    <a:pt x="33" y="20"/>
                  </a:lnTo>
                  <a:lnTo>
                    <a:pt x="33" y="27"/>
                  </a:lnTo>
                  <a:lnTo>
                    <a:pt x="40" y="27"/>
                  </a:lnTo>
                  <a:lnTo>
                    <a:pt x="40" y="27"/>
                  </a:lnTo>
                  <a:lnTo>
                    <a:pt x="40" y="27"/>
                  </a:lnTo>
                  <a:lnTo>
                    <a:pt x="40" y="33"/>
                  </a:lnTo>
                  <a:lnTo>
                    <a:pt x="33" y="33"/>
                  </a:lnTo>
                  <a:lnTo>
                    <a:pt x="33" y="33"/>
                  </a:lnTo>
                  <a:lnTo>
                    <a:pt x="33" y="40"/>
                  </a:lnTo>
                  <a:lnTo>
                    <a:pt x="33" y="40"/>
                  </a:lnTo>
                  <a:lnTo>
                    <a:pt x="27" y="40"/>
                  </a:lnTo>
                  <a:lnTo>
                    <a:pt x="27" y="40"/>
                  </a:lnTo>
                  <a:lnTo>
                    <a:pt x="27" y="40"/>
                  </a:lnTo>
                  <a:lnTo>
                    <a:pt x="20" y="40"/>
                  </a:lnTo>
                  <a:lnTo>
                    <a:pt x="13" y="40"/>
                  </a:lnTo>
                  <a:lnTo>
                    <a:pt x="13" y="33"/>
                  </a:lnTo>
                  <a:lnTo>
                    <a:pt x="7" y="33"/>
                  </a:lnTo>
                  <a:close/>
                  <a:moveTo>
                    <a:pt x="13" y="27"/>
                  </a:moveTo>
                  <a:lnTo>
                    <a:pt x="13" y="33"/>
                  </a:lnTo>
                  <a:lnTo>
                    <a:pt x="20" y="33"/>
                  </a:lnTo>
                  <a:lnTo>
                    <a:pt x="20" y="33"/>
                  </a:lnTo>
                  <a:lnTo>
                    <a:pt x="27" y="33"/>
                  </a:lnTo>
                  <a:lnTo>
                    <a:pt x="27" y="33"/>
                  </a:lnTo>
                  <a:lnTo>
                    <a:pt x="27" y="33"/>
                  </a:lnTo>
                  <a:lnTo>
                    <a:pt x="27" y="33"/>
                  </a:lnTo>
                  <a:lnTo>
                    <a:pt x="33" y="33"/>
                  </a:lnTo>
                  <a:lnTo>
                    <a:pt x="33" y="33"/>
                  </a:lnTo>
                  <a:lnTo>
                    <a:pt x="33" y="33"/>
                  </a:lnTo>
                  <a:lnTo>
                    <a:pt x="33" y="27"/>
                  </a:lnTo>
                  <a:lnTo>
                    <a:pt x="33" y="27"/>
                  </a:lnTo>
                  <a:lnTo>
                    <a:pt x="33" y="27"/>
                  </a:lnTo>
                  <a:lnTo>
                    <a:pt x="27" y="20"/>
                  </a:lnTo>
                  <a:lnTo>
                    <a:pt x="27" y="20"/>
                  </a:lnTo>
                  <a:lnTo>
                    <a:pt x="27" y="14"/>
                  </a:lnTo>
                  <a:lnTo>
                    <a:pt x="20" y="14"/>
                  </a:lnTo>
                  <a:lnTo>
                    <a:pt x="20" y="7"/>
                  </a:lnTo>
                  <a:lnTo>
                    <a:pt x="13" y="7"/>
                  </a:lnTo>
                  <a:lnTo>
                    <a:pt x="13" y="7"/>
                  </a:lnTo>
                  <a:lnTo>
                    <a:pt x="13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14"/>
                  </a:lnTo>
                  <a:lnTo>
                    <a:pt x="7" y="14"/>
                  </a:lnTo>
                  <a:lnTo>
                    <a:pt x="0" y="14"/>
                  </a:lnTo>
                  <a:lnTo>
                    <a:pt x="7" y="14"/>
                  </a:lnTo>
                  <a:lnTo>
                    <a:pt x="7" y="20"/>
                  </a:lnTo>
                  <a:lnTo>
                    <a:pt x="7" y="20"/>
                  </a:lnTo>
                  <a:lnTo>
                    <a:pt x="7" y="27"/>
                  </a:lnTo>
                  <a:lnTo>
                    <a:pt x="13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4" name=""/>
            <p:cNvSpPr/>
            <p:nvPr/>
          </p:nvSpPr>
          <p:spPr>
            <a:xfrm flipH="1">
              <a:off x="6028920" y="3797280"/>
              <a:ext cx="11160" cy="11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5" name=""/>
            <p:cNvSpPr/>
            <p:nvPr/>
          </p:nvSpPr>
          <p:spPr>
            <a:xfrm>
              <a:off x="4618080" y="3808440"/>
              <a:ext cx="1411200" cy="1003320"/>
            </a:xfrm>
            <a:custGeom>
              <a:avLst/>
              <a:gdLst/>
              <a:ahLst/>
              <a:rect l="l" t="t" r="r" b="b"/>
              <a:pathLst>
                <a:path w="889" h="632">
                  <a:moveTo>
                    <a:pt x="889" y="0"/>
                  </a:moveTo>
                  <a:lnTo>
                    <a:pt x="883" y="0"/>
                  </a:lnTo>
                  <a:lnTo>
                    <a:pt x="883" y="6"/>
                  </a:lnTo>
                  <a:lnTo>
                    <a:pt x="876" y="13"/>
                  </a:lnTo>
                  <a:lnTo>
                    <a:pt x="870" y="20"/>
                  </a:lnTo>
                  <a:lnTo>
                    <a:pt x="863" y="20"/>
                  </a:lnTo>
                  <a:lnTo>
                    <a:pt x="856" y="26"/>
                  </a:lnTo>
                  <a:lnTo>
                    <a:pt x="850" y="26"/>
                  </a:lnTo>
                  <a:lnTo>
                    <a:pt x="843" y="33"/>
                  </a:lnTo>
                  <a:lnTo>
                    <a:pt x="837" y="39"/>
                  </a:lnTo>
                  <a:lnTo>
                    <a:pt x="830" y="39"/>
                  </a:lnTo>
                  <a:lnTo>
                    <a:pt x="823" y="46"/>
                  </a:lnTo>
                  <a:lnTo>
                    <a:pt x="823" y="53"/>
                  </a:lnTo>
                  <a:lnTo>
                    <a:pt x="817" y="59"/>
                  </a:lnTo>
                  <a:lnTo>
                    <a:pt x="810" y="59"/>
                  </a:lnTo>
                  <a:lnTo>
                    <a:pt x="804" y="66"/>
                  </a:lnTo>
                  <a:lnTo>
                    <a:pt x="797" y="66"/>
                  </a:lnTo>
                  <a:lnTo>
                    <a:pt x="790" y="72"/>
                  </a:lnTo>
                  <a:lnTo>
                    <a:pt x="784" y="79"/>
                  </a:lnTo>
                  <a:lnTo>
                    <a:pt x="777" y="85"/>
                  </a:lnTo>
                  <a:lnTo>
                    <a:pt x="771" y="85"/>
                  </a:lnTo>
                  <a:lnTo>
                    <a:pt x="771" y="92"/>
                  </a:lnTo>
                  <a:lnTo>
                    <a:pt x="771" y="99"/>
                  </a:lnTo>
                  <a:lnTo>
                    <a:pt x="771" y="105"/>
                  </a:lnTo>
                  <a:lnTo>
                    <a:pt x="771" y="112"/>
                  </a:lnTo>
                  <a:lnTo>
                    <a:pt x="764" y="118"/>
                  </a:lnTo>
                  <a:lnTo>
                    <a:pt x="764" y="125"/>
                  </a:lnTo>
                  <a:lnTo>
                    <a:pt x="764" y="132"/>
                  </a:lnTo>
                  <a:lnTo>
                    <a:pt x="764" y="138"/>
                  </a:lnTo>
                  <a:lnTo>
                    <a:pt x="764" y="145"/>
                  </a:lnTo>
                  <a:lnTo>
                    <a:pt x="764" y="145"/>
                  </a:lnTo>
                  <a:lnTo>
                    <a:pt x="764" y="151"/>
                  </a:lnTo>
                  <a:lnTo>
                    <a:pt x="758" y="158"/>
                  </a:lnTo>
                  <a:lnTo>
                    <a:pt x="758" y="164"/>
                  </a:lnTo>
                  <a:lnTo>
                    <a:pt x="758" y="171"/>
                  </a:lnTo>
                  <a:lnTo>
                    <a:pt x="758" y="178"/>
                  </a:lnTo>
                  <a:lnTo>
                    <a:pt x="758" y="184"/>
                  </a:lnTo>
                  <a:lnTo>
                    <a:pt x="758" y="191"/>
                  </a:lnTo>
                  <a:lnTo>
                    <a:pt x="758" y="197"/>
                  </a:lnTo>
                  <a:lnTo>
                    <a:pt x="758" y="204"/>
                  </a:lnTo>
                  <a:lnTo>
                    <a:pt x="751" y="211"/>
                  </a:lnTo>
                  <a:lnTo>
                    <a:pt x="751" y="211"/>
                  </a:lnTo>
                  <a:lnTo>
                    <a:pt x="751" y="217"/>
                  </a:lnTo>
                  <a:lnTo>
                    <a:pt x="751" y="224"/>
                  </a:lnTo>
                  <a:lnTo>
                    <a:pt x="744" y="230"/>
                  </a:lnTo>
                  <a:lnTo>
                    <a:pt x="744" y="237"/>
                  </a:lnTo>
                  <a:lnTo>
                    <a:pt x="744" y="243"/>
                  </a:lnTo>
                  <a:lnTo>
                    <a:pt x="744" y="250"/>
                  </a:lnTo>
                  <a:lnTo>
                    <a:pt x="751" y="257"/>
                  </a:lnTo>
                  <a:lnTo>
                    <a:pt x="751" y="263"/>
                  </a:lnTo>
                  <a:lnTo>
                    <a:pt x="744" y="270"/>
                  </a:lnTo>
                  <a:lnTo>
                    <a:pt x="744" y="270"/>
                  </a:lnTo>
                  <a:lnTo>
                    <a:pt x="744" y="276"/>
                  </a:lnTo>
                  <a:lnTo>
                    <a:pt x="744" y="283"/>
                  </a:lnTo>
                  <a:lnTo>
                    <a:pt x="751" y="290"/>
                  </a:lnTo>
                  <a:lnTo>
                    <a:pt x="751" y="296"/>
                  </a:lnTo>
                  <a:lnTo>
                    <a:pt x="758" y="303"/>
                  </a:lnTo>
                  <a:lnTo>
                    <a:pt x="758" y="309"/>
                  </a:lnTo>
                  <a:lnTo>
                    <a:pt x="764" y="316"/>
                  </a:lnTo>
                  <a:lnTo>
                    <a:pt x="764" y="316"/>
                  </a:lnTo>
                  <a:lnTo>
                    <a:pt x="764" y="322"/>
                  </a:lnTo>
                  <a:lnTo>
                    <a:pt x="764" y="329"/>
                  </a:lnTo>
                  <a:lnTo>
                    <a:pt x="764" y="336"/>
                  </a:lnTo>
                  <a:lnTo>
                    <a:pt x="758" y="342"/>
                  </a:lnTo>
                  <a:lnTo>
                    <a:pt x="751" y="349"/>
                  </a:lnTo>
                  <a:lnTo>
                    <a:pt x="738" y="349"/>
                  </a:lnTo>
                  <a:lnTo>
                    <a:pt x="731" y="349"/>
                  </a:lnTo>
                  <a:lnTo>
                    <a:pt x="725" y="349"/>
                  </a:lnTo>
                  <a:lnTo>
                    <a:pt x="711" y="349"/>
                  </a:lnTo>
                  <a:lnTo>
                    <a:pt x="705" y="349"/>
                  </a:lnTo>
                  <a:lnTo>
                    <a:pt x="692" y="349"/>
                  </a:lnTo>
                  <a:lnTo>
                    <a:pt x="685" y="349"/>
                  </a:lnTo>
                  <a:lnTo>
                    <a:pt x="678" y="349"/>
                  </a:lnTo>
                  <a:lnTo>
                    <a:pt x="665" y="349"/>
                  </a:lnTo>
                  <a:lnTo>
                    <a:pt x="659" y="349"/>
                  </a:lnTo>
                  <a:lnTo>
                    <a:pt x="652" y="349"/>
                  </a:lnTo>
                  <a:lnTo>
                    <a:pt x="639" y="349"/>
                  </a:lnTo>
                  <a:lnTo>
                    <a:pt x="632" y="355"/>
                  </a:lnTo>
                  <a:lnTo>
                    <a:pt x="626" y="355"/>
                  </a:lnTo>
                  <a:lnTo>
                    <a:pt x="619" y="362"/>
                  </a:lnTo>
                  <a:lnTo>
                    <a:pt x="613" y="362"/>
                  </a:lnTo>
                  <a:lnTo>
                    <a:pt x="606" y="369"/>
                  </a:lnTo>
                  <a:lnTo>
                    <a:pt x="599" y="375"/>
                  </a:lnTo>
                  <a:lnTo>
                    <a:pt x="593" y="375"/>
                  </a:lnTo>
                  <a:lnTo>
                    <a:pt x="593" y="382"/>
                  </a:lnTo>
                  <a:lnTo>
                    <a:pt x="593" y="388"/>
                  </a:lnTo>
                  <a:lnTo>
                    <a:pt x="593" y="395"/>
                  </a:lnTo>
                  <a:lnTo>
                    <a:pt x="593" y="401"/>
                  </a:lnTo>
                  <a:lnTo>
                    <a:pt x="586" y="408"/>
                  </a:lnTo>
                  <a:lnTo>
                    <a:pt x="580" y="408"/>
                  </a:lnTo>
                  <a:lnTo>
                    <a:pt x="573" y="415"/>
                  </a:lnTo>
                  <a:lnTo>
                    <a:pt x="560" y="415"/>
                  </a:lnTo>
                  <a:lnTo>
                    <a:pt x="553" y="421"/>
                  </a:lnTo>
                  <a:lnTo>
                    <a:pt x="547" y="421"/>
                  </a:lnTo>
                  <a:lnTo>
                    <a:pt x="533" y="421"/>
                  </a:lnTo>
                  <a:lnTo>
                    <a:pt x="527" y="428"/>
                  </a:lnTo>
                  <a:lnTo>
                    <a:pt x="527" y="428"/>
                  </a:lnTo>
                  <a:lnTo>
                    <a:pt x="527" y="434"/>
                  </a:lnTo>
                  <a:lnTo>
                    <a:pt x="527" y="441"/>
                  </a:lnTo>
                  <a:lnTo>
                    <a:pt x="527" y="448"/>
                  </a:lnTo>
                  <a:lnTo>
                    <a:pt x="527" y="454"/>
                  </a:lnTo>
                  <a:lnTo>
                    <a:pt x="520" y="461"/>
                  </a:lnTo>
                  <a:lnTo>
                    <a:pt x="514" y="461"/>
                  </a:lnTo>
                  <a:lnTo>
                    <a:pt x="507" y="467"/>
                  </a:lnTo>
                  <a:lnTo>
                    <a:pt x="494" y="467"/>
                  </a:lnTo>
                  <a:lnTo>
                    <a:pt x="487" y="474"/>
                  </a:lnTo>
                  <a:lnTo>
                    <a:pt x="481" y="474"/>
                  </a:lnTo>
                  <a:lnTo>
                    <a:pt x="474" y="474"/>
                  </a:lnTo>
                  <a:lnTo>
                    <a:pt x="461" y="480"/>
                  </a:lnTo>
                  <a:lnTo>
                    <a:pt x="454" y="480"/>
                  </a:lnTo>
                  <a:lnTo>
                    <a:pt x="454" y="487"/>
                  </a:lnTo>
                  <a:lnTo>
                    <a:pt x="468" y="487"/>
                  </a:lnTo>
                  <a:lnTo>
                    <a:pt x="474" y="494"/>
                  </a:lnTo>
                  <a:lnTo>
                    <a:pt x="481" y="494"/>
                  </a:lnTo>
                  <a:lnTo>
                    <a:pt x="487" y="500"/>
                  </a:lnTo>
                  <a:lnTo>
                    <a:pt x="494" y="507"/>
                  </a:lnTo>
                  <a:lnTo>
                    <a:pt x="501" y="507"/>
                  </a:lnTo>
                  <a:lnTo>
                    <a:pt x="501" y="513"/>
                  </a:lnTo>
                  <a:lnTo>
                    <a:pt x="507" y="520"/>
                  </a:lnTo>
                  <a:lnTo>
                    <a:pt x="507" y="527"/>
                  </a:lnTo>
                  <a:lnTo>
                    <a:pt x="507" y="533"/>
                  </a:lnTo>
                  <a:lnTo>
                    <a:pt x="514" y="540"/>
                  </a:lnTo>
                  <a:lnTo>
                    <a:pt x="514" y="546"/>
                  </a:lnTo>
                  <a:lnTo>
                    <a:pt x="520" y="546"/>
                  </a:lnTo>
                  <a:lnTo>
                    <a:pt x="527" y="553"/>
                  </a:lnTo>
                  <a:lnTo>
                    <a:pt x="527" y="559"/>
                  </a:lnTo>
                  <a:lnTo>
                    <a:pt x="533" y="566"/>
                  </a:lnTo>
                  <a:lnTo>
                    <a:pt x="527" y="573"/>
                  </a:lnTo>
                  <a:lnTo>
                    <a:pt x="520" y="579"/>
                  </a:lnTo>
                  <a:lnTo>
                    <a:pt x="514" y="579"/>
                  </a:lnTo>
                  <a:lnTo>
                    <a:pt x="507" y="573"/>
                  </a:lnTo>
                  <a:lnTo>
                    <a:pt x="501" y="566"/>
                  </a:lnTo>
                  <a:lnTo>
                    <a:pt x="494" y="566"/>
                  </a:lnTo>
                  <a:lnTo>
                    <a:pt x="487" y="559"/>
                  </a:lnTo>
                  <a:lnTo>
                    <a:pt x="481" y="559"/>
                  </a:lnTo>
                  <a:lnTo>
                    <a:pt x="468" y="566"/>
                  </a:lnTo>
                  <a:lnTo>
                    <a:pt x="461" y="566"/>
                  </a:lnTo>
                  <a:lnTo>
                    <a:pt x="454" y="573"/>
                  </a:lnTo>
                  <a:lnTo>
                    <a:pt x="448" y="573"/>
                  </a:lnTo>
                  <a:lnTo>
                    <a:pt x="441" y="579"/>
                  </a:lnTo>
                  <a:lnTo>
                    <a:pt x="435" y="586"/>
                  </a:lnTo>
                  <a:lnTo>
                    <a:pt x="428" y="586"/>
                  </a:lnTo>
                  <a:lnTo>
                    <a:pt x="421" y="592"/>
                  </a:lnTo>
                  <a:lnTo>
                    <a:pt x="415" y="592"/>
                  </a:lnTo>
                  <a:lnTo>
                    <a:pt x="402" y="592"/>
                  </a:lnTo>
                  <a:lnTo>
                    <a:pt x="395" y="586"/>
                  </a:lnTo>
                  <a:lnTo>
                    <a:pt x="382" y="586"/>
                  </a:lnTo>
                  <a:lnTo>
                    <a:pt x="375" y="592"/>
                  </a:lnTo>
                  <a:lnTo>
                    <a:pt x="369" y="599"/>
                  </a:lnTo>
                  <a:lnTo>
                    <a:pt x="362" y="599"/>
                  </a:lnTo>
                  <a:lnTo>
                    <a:pt x="362" y="606"/>
                  </a:lnTo>
                  <a:lnTo>
                    <a:pt x="356" y="612"/>
                  </a:lnTo>
                  <a:lnTo>
                    <a:pt x="349" y="619"/>
                  </a:lnTo>
                  <a:lnTo>
                    <a:pt x="342" y="619"/>
                  </a:lnTo>
                  <a:lnTo>
                    <a:pt x="342" y="625"/>
                  </a:lnTo>
                  <a:lnTo>
                    <a:pt x="329" y="632"/>
                  </a:lnTo>
                  <a:lnTo>
                    <a:pt x="323" y="632"/>
                  </a:lnTo>
                  <a:lnTo>
                    <a:pt x="316" y="632"/>
                  </a:lnTo>
                  <a:lnTo>
                    <a:pt x="303" y="632"/>
                  </a:lnTo>
                  <a:lnTo>
                    <a:pt x="296" y="625"/>
                  </a:lnTo>
                  <a:lnTo>
                    <a:pt x="290" y="625"/>
                  </a:lnTo>
                  <a:lnTo>
                    <a:pt x="283" y="619"/>
                  </a:lnTo>
                  <a:lnTo>
                    <a:pt x="276" y="619"/>
                  </a:lnTo>
                  <a:lnTo>
                    <a:pt x="270" y="612"/>
                  </a:lnTo>
                  <a:lnTo>
                    <a:pt x="263" y="606"/>
                  </a:lnTo>
                  <a:lnTo>
                    <a:pt x="257" y="606"/>
                  </a:lnTo>
                  <a:lnTo>
                    <a:pt x="250" y="599"/>
                  </a:lnTo>
                  <a:lnTo>
                    <a:pt x="244" y="592"/>
                  </a:lnTo>
                  <a:lnTo>
                    <a:pt x="244" y="586"/>
                  </a:lnTo>
                  <a:lnTo>
                    <a:pt x="237" y="586"/>
                  </a:lnTo>
                  <a:lnTo>
                    <a:pt x="224" y="586"/>
                  </a:lnTo>
                  <a:lnTo>
                    <a:pt x="217" y="592"/>
                  </a:lnTo>
                  <a:lnTo>
                    <a:pt x="211" y="592"/>
                  </a:lnTo>
                  <a:lnTo>
                    <a:pt x="204" y="592"/>
                  </a:lnTo>
                  <a:lnTo>
                    <a:pt x="204" y="586"/>
                  </a:lnTo>
                  <a:lnTo>
                    <a:pt x="197" y="579"/>
                  </a:lnTo>
                  <a:lnTo>
                    <a:pt x="197" y="566"/>
                  </a:lnTo>
                  <a:lnTo>
                    <a:pt x="197" y="559"/>
                  </a:lnTo>
                  <a:lnTo>
                    <a:pt x="191" y="559"/>
                  </a:lnTo>
                  <a:lnTo>
                    <a:pt x="184" y="553"/>
                  </a:lnTo>
                  <a:lnTo>
                    <a:pt x="178" y="553"/>
                  </a:lnTo>
                  <a:lnTo>
                    <a:pt x="164" y="546"/>
                  </a:lnTo>
                  <a:lnTo>
                    <a:pt x="158" y="546"/>
                  </a:lnTo>
                  <a:lnTo>
                    <a:pt x="151" y="546"/>
                  </a:lnTo>
                  <a:lnTo>
                    <a:pt x="145" y="553"/>
                  </a:lnTo>
                  <a:lnTo>
                    <a:pt x="138" y="553"/>
                  </a:lnTo>
                  <a:lnTo>
                    <a:pt x="132" y="559"/>
                  </a:lnTo>
                  <a:lnTo>
                    <a:pt x="125" y="566"/>
                  </a:lnTo>
                  <a:lnTo>
                    <a:pt x="118" y="573"/>
                  </a:lnTo>
                  <a:lnTo>
                    <a:pt x="118" y="566"/>
                  </a:lnTo>
                  <a:lnTo>
                    <a:pt x="125" y="566"/>
                  </a:lnTo>
                  <a:lnTo>
                    <a:pt x="138" y="566"/>
                  </a:lnTo>
                  <a:lnTo>
                    <a:pt x="145" y="559"/>
                  </a:lnTo>
                  <a:lnTo>
                    <a:pt x="151" y="553"/>
                  </a:lnTo>
                  <a:lnTo>
                    <a:pt x="151" y="546"/>
                  </a:lnTo>
                  <a:lnTo>
                    <a:pt x="151" y="540"/>
                  </a:lnTo>
                  <a:lnTo>
                    <a:pt x="145" y="533"/>
                  </a:lnTo>
                  <a:lnTo>
                    <a:pt x="145" y="527"/>
                  </a:lnTo>
                  <a:lnTo>
                    <a:pt x="138" y="527"/>
                  </a:lnTo>
                  <a:lnTo>
                    <a:pt x="132" y="520"/>
                  </a:lnTo>
                  <a:lnTo>
                    <a:pt x="125" y="513"/>
                  </a:lnTo>
                  <a:lnTo>
                    <a:pt x="118" y="507"/>
                  </a:lnTo>
                  <a:lnTo>
                    <a:pt x="118" y="507"/>
                  </a:lnTo>
                  <a:lnTo>
                    <a:pt x="112" y="500"/>
                  </a:lnTo>
                  <a:lnTo>
                    <a:pt x="112" y="494"/>
                  </a:lnTo>
                  <a:lnTo>
                    <a:pt x="105" y="487"/>
                  </a:lnTo>
                  <a:lnTo>
                    <a:pt x="105" y="480"/>
                  </a:lnTo>
                  <a:lnTo>
                    <a:pt x="99" y="480"/>
                  </a:lnTo>
                  <a:lnTo>
                    <a:pt x="92" y="474"/>
                  </a:lnTo>
                  <a:lnTo>
                    <a:pt x="92" y="467"/>
                  </a:lnTo>
                  <a:lnTo>
                    <a:pt x="85" y="461"/>
                  </a:lnTo>
                  <a:lnTo>
                    <a:pt x="85" y="454"/>
                  </a:lnTo>
                  <a:lnTo>
                    <a:pt x="79" y="448"/>
                  </a:lnTo>
                  <a:lnTo>
                    <a:pt x="79" y="441"/>
                  </a:lnTo>
                  <a:lnTo>
                    <a:pt x="72" y="434"/>
                  </a:lnTo>
                  <a:lnTo>
                    <a:pt x="72" y="434"/>
                  </a:lnTo>
                  <a:lnTo>
                    <a:pt x="66" y="434"/>
                  </a:lnTo>
                  <a:lnTo>
                    <a:pt x="59" y="441"/>
                  </a:lnTo>
                  <a:lnTo>
                    <a:pt x="52" y="448"/>
                  </a:lnTo>
                  <a:lnTo>
                    <a:pt x="46" y="454"/>
                  </a:lnTo>
                  <a:lnTo>
                    <a:pt x="46" y="461"/>
                  </a:lnTo>
                  <a:lnTo>
                    <a:pt x="46" y="467"/>
                  </a:lnTo>
                  <a:lnTo>
                    <a:pt x="46" y="467"/>
                  </a:lnTo>
                  <a:lnTo>
                    <a:pt x="52" y="474"/>
                  </a:lnTo>
                  <a:lnTo>
                    <a:pt x="52" y="480"/>
                  </a:lnTo>
                  <a:lnTo>
                    <a:pt x="59" y="487"/>
                  </a:lnTo>
                  <a:lnTo>
                    <a:pt x="59" y="494"/>
                  </a:lnTo>
                  <a:lnTo>
                    <a:pt x="59" y="500"/>
                  </a:lnTo>
                  <a:lnTo>
                    <a:pt x="59" y="507"/>
                  </a:lnTo>
                  <a:lnTo>
                    <a:pt x="66" y="513"/>
                  </a:lnTo>
                  <a:lnTo>
                    <a:pt x="66" y="513"/>
                  </a:lnTo>
                  <a:lnTo>
                    <a:pt x="72" y="520"/>
                  </a:lnTo>
                  <a:lnTo>
                    <a:pt x="79" y="527"/>
                  </a:lnTo>
                  <a:lnTo>
                    <a:pt x="79" y="533"/>
                  </a:lnTo>
                  <a:lnTo>
                    <a:pt x="79" y="540"/>
                  </a:lnTo>
                  <a:lnTo>
                    <a:pt x="79" y="546"/>
                  </a:lnTo>
                  <a:lnTo>
                    <a:pt x="79" y="553"/>
                  </a:lnTo>
                  <a:lnTo>
                    <a:pt x="79" y="559"/>
                  </a:lnTo>
                  <a:lnTo>
                    <a:pt x="72" y="559"/>
                  </a:lnTo>
                  <a:lnTo>
                    <a:pt x="66" y="559"/>
                  </a:lnTo>
                  <a:lnTo>
                    <a:pt x="59" y="559"/>
                  </a:lnTo>
                  <a:lnTo>
                    <a:pt x="52" y="553"/>
                  </a:lnTo>
                  <a:lnTo>
                    <a:pt x="46" y="546"/>
                  </a:lnTo>
                  <a:lnTo>
                    <a:pt x="39" y="540"/>
                  </a:lnTo>
                  <a:lnTo>
                    <a:pt x="33" y="540"/>
                  </a:lnTo>
                  <a:lnTo>
                    <a:pt x="26" y="540"/>
                  </a:lnTo>
                  <a:lnTo>
                    <a:pt x="13" y="540"/>
                  </a:lnTo>
                  <a:lnTo>
                    <a:pt x="6" y="540"/>
                  </a:lnTo>
                  <a:lnTo>
                    <a:pt x="6" y="546"/>
                  </a:lnTo>
                  <a:lnTo>
                    <a:pt x="6" y="553"/>
                  </a:lnTo>
                  <a:lnTo>
                    <a:pt x="6" y="559"/>
                  </a:lnTo>
                  <a:lnTo>
                    <a:pt x="6" y="566"/>
                  </a:lnTo>
                  <a:lnTo>
                    <a:pt x="6" y="573"/>
                  </a:lnTo>
                  <a:lnTo>
                    <a:pt x="6" y="579"/>
                  </a:lnTo>
                  <a:lnTo>
                    <a:pt x="6" y="586"/>
                  </a:lnTo>
                  <a:lnTo>
                    <a:pt x="0" y="592"/>
                  </a:lnTo>
                  <a:lnTo>
                    <a:pt x="6" y="599"/>
                  </a:lnTo>
                  <a:lnTo>
                    <a:pt x="13" y="599"/>
                  </a:lnTo>
                  <a:lnTo>
                    <a:pt x="19" y="599"/>
                  </a:lnTo>
                  <a:lnTo>
                    <a:pt x="26" y="592"/>
                  </a:lnTo>
                  <a:lnTo>
                    <a:pt x="33" y="592"/>
                  </a:lnTo>
                  <a:lnTo>
                    <a:pt x="39" y="592"/>
                  </a:lnTo>
                  <a:lnTo>
                    <a:pt x="52" y="586"/>
                  </a:lnTo>
                  <a:lnTo>
                    <a:pt x="59" y="586"/>
                  </a:lnTo>
                  <a:lnTo>
                    <a:pt x="66" y="58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6" name=""/>
            <p:cNvSpPr/>
            <p:nvPr/>
          </p:nvSpPr>
          <p:spPr>
            <a:xfrm>
              <a:off x="4722840" y="4738680"/>
              <a:ext cx="14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7" name=""/>
            <p:cNvSpPr/>
            <p:nvPr/>
          </p:nvSpPr>
          <p:spPr>
            <a:xfrm>
              <a:off x="4722840" y="4748040"/>
              <a:ext cx="61920" cy="63720"/>
            </a:xfrm>
            <a:custGeom>
              <a:avLst/>
              <a:gdLst/>
              <a:ahLst/>
              <a:rect l="l" t="t" r="r" b="b"/>
              <a:pathLst>
                <a:path w="39" h="40">
                  <a:moveTo>
                    <a:pt x="39" y="20"/>
                  </a:moveTo>
                  <a:lnTo>
                    <a:pt x="33" y="20"/>
                  </a:lnTo>
                  <a:lnTo>
                    <a:pt x="33" y="20"/>
                  </a:lnTo>
                  <a:lnTo>
                    <a:pt x="33" y="14"/>
                  </a:lnTo>
                  <a:lnTo>
                    <a:pt x="39" y="14"/>
                  </a:lnTo>
                  <a:lnTo>
                    <a:pt x="39" y="14"/>
                  </a:lnTo>
                  <a:lnTo>
                    <a:pt x="39" y="14"/>
                  </a:lnTo>
                  <a:lnTo>
                    <a:pt x="39" y="14"/>
                  </a:lnTo>
                  <a:lnTo>
                    <a:pt x="33" y="14"/>
                  </a:lnTo>
                  <a:lnTo>
                    <a:pt x="33" y="7"/>
                  </a:lnTo>
                  <a:lnTo>
                    <a:pt x="33" y="7"/>
                  </a:lnTo>
                  <a:lnTo>
                    <a:pt x="33" y="7"/>
                  </a:lnTo>
                  <a:lnTo>
                    <a:pt x="33" y="7"/>
                  </a:lnTo>
                  <a:lnTo>
                    <a:pt x="33" y="7"/>
                  </a:lnTo>
                  <a:lnTo>
                    <a:pt x="33" y="7"/>
                  </a:lnTo>
                  <a:lnTo>
                    <a:pt x="26" y="7"/>
                  </a:lnTo>
                  <a:lnTo>
                    <a:pt x="26" y="7"/>
                  </a:lnTo>
                  <a:lnTo>
                    <a:pt x="26" y="7"/>
                  </a:lnTo>
                  <a:lnTo>
                    <a:pt x="19" y="7"/>
                  </a:lnTo>
                  <a:lnTo>
                    <a:pt x="19" y="7"/>
                  </a:lnTo>
                  <a:lnTo>
                    <a:pt x="19" y="7"/>
                  </a:lnTo>
                  <a:lnTo>
                    <a:pt x="13" y="14"/>
                  </a:lnTo>
                  <a:lnTo>
                    <a:pt x="19" y="14"/>
                  </a:lnTo>
                  <a:lnTo>
                    <a:pt x="19" y="14"/>
                  </a:lnTo>
                  <a:lnTo>
                    <a:pt x="19" y="14"/>
                  </a:lnTo>
                  <a:lnTo>
                    <a:pt x="19" y="14"/>
                  </a:lnTo>
                  <a:lnTo>
                    <a:pt x="26" y="14"/>
                  </a:lnTo>
                  <a:lnTo>
                    <a:pt x="26" y="14"/>
                  </a:lnTo>
                  <a:lnTo>
                    <a:pt x="26" y="14"/>
                  </a:lnTo>
                  <a:lnTo>
                    <a:pt x="26" y="14"/>
                  </a:lnTo>
                  <a:lnTo>
                    <a:pt x="26" y="20"/>
                  </a:lnTo>
                  <a:lnTo>
                    <a:pt x="26" y="20"/>
                  </a:lnTo>
                  <a:lnTo>
                    <a:pt x="26" y="20"/>
                  </a:lnTo>
                  <a:lnTo>
                    <a:pt x="26" y="27"/>
                  </a:lnTo>
                  <a:lnTo>
                    <a:pt x="26" y="27"/>
                  </a:lnTo>
                  <a:lnTo>
                    <a:pt x="26" y="33"/>
                  </a:lnTo>
                  <a:lnTo>
                    <a:pt x="26" y="33"/>
                  </a:lnTo>
                  <a:lnTo>
                    <a:pt x="26" y="33"/>
                  </a:lnTo>
                  <a:lnTo>
                    <a:pt x="19" y="33"/>
                  </a:lnTo>
                  <a:lnTo>
                    <a:pt x="19" y="33"/>
                  </a:lnTo>
                  <a:lnTo>
                    <a:pt x="19" y="40"/>
                  </a:lnTo>
                  <a:lnTo>
                    <a:pt x="19" y="40"/>
                  </a:lnTo>
                  <a:lnTo>
                    <a:pt x="13" y="40"/>
                  </a:lnTo>
                  <a:lnTo>
                    <a:pt x="13" y="40"/>
                  </a:lnTo>
                  <a:lnTo>
                    <a:pt x="13" y="40"/>
                  </a:lnTo>
                  <a:lnTo>
                    <a:pt x="6" y="40"/>
                  </a:lnTo>
                  <a:lnTo>
                    <a:pt x="6" y="33"/>
                  </a:lnTo>
                  <a:lnTo>
                    <a:pt x="6" y="33"/>
                  </a:lnTo>
                  <a:lnTo>
                    <a:pt x="6" y="33"/>
                  </a:lnTo>
                  <a:lnTo>
                    <a:pt x="6" y="33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6" y="14"/>
                  </a:lnTo>
                  <a:lnTo>
                    <a:pt x="6" y="14"/>
                  </a:lnTo>
                  <a:lnTo>
                    <a:pt x="13" y="7"/>
                  </a:lnTo>
                  <a:lnTo>
                    <a:pt x="13" y="7"/>
                  </a:lnTo>
                  <a:lnTo>
                    <a:pt x="19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9" y="7"/>
                  </a:lnTo>
                  <a:lnTo>
                    <a:pt x="39" y="7"/>
                  </a:lnTo>
                  <a:lnTo>
                    <a:pt x="39" y="7"/>
                  </a:lnTo>
                  <a:lnTo>
                    <a:pt x="39" y="14"/>
                  </a:lnTo>
                  <a:lnTo>
                    <a:pt x="39" y="14"/>
                  </a:lnTo>
                  <a:lnTo>
                    <a:pt x="39" y="14"/>
                  </a:lnTo>
                  <a:lnTo>
                    <a:pt x="39" y="20"/>
                  </a:lnTo>
                  <a:lnTo>
                    <a:pt x="39" y="20"/>
                  </a:lnTo>
                  <a:lnTo>
                    <a:pt x="39" y="20"/>
                  </a:lnTo>
                  <a:lnTo>
                    <a:pt x="39" y="20"/>
                  </a:lnTo>
                  <a:close/>
                  <a:moveTo>
                    <a:pt x="13" y="14"/>
                  </a:moveTo>
                  <a:lnTo>
                    <a:pt x="6" y="20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6" y="27"/>
                  </a:lnTo>
                  <a:lnTo>
                    <a:pt x="6" y="27"/>
                  </a:lnTo>
                  <a:lnTo>
                    <a:pt x="6" y="27"/>
                  </a:lnTo>
                  <a:lnTo>
                    <a:pt x="6" y="27"/>
                  </a:lnTo>
                  <a:lnTo>
                    <a:pt x="6" y="27"/>
                  </a:lnTo>
                  <a:lnTo>
                    <a:pt x="6" y="27"/>
                  </a:lnTo>
                  <a:lnTo>
                    <a:pt x="6" y="33"/>
                  </a:lnTo>
                  <a:lnTo>
                    <a:pt x="6" y="33"/>
                  </a:lnTo>
                  <a:lnTo>
                    <a:pt x="13" y="33"/>
                  </a:lnTo>
                  <a:lnTo>
                    <a:pt x="13" y="33"/>
                  </a:lnTo>
                  <a:lnTo>
                    <a:pt x="13" y="33"/>
                  </a:lnTo>
                  <a:lnTo>
                    <a:pt x="13" y="33"/>
                  </a:lnTo>
                  <a:lnTo>
                    <a:pt x="19" y="33"/>
                  </a:lnTo>
                  <a:lnTo>
                    <a:pt x="19" y="33"/>
                  </a:lnTo>
                  <a:lnTo>
                    <a:pt x="19" y="27"/>
                  </a:lnTo>
                  <a:lnTo>
                    <a:pt x="19" y="27"/>
                  </a:lnTo>
                  <a:lnTo>
                    <a:pt x="26" y="27"/>
                  </a:lnTo>
                  <a:lnTo>
                    <a:pt x="26" y="27"/>
                  </a:lnTo>
                  <a:lnTo>
                    <a:pt x="26" y="20"/>
                  </a:lnTo>
                  <a:lnTo>
                    <a:pt x="26" y="20"/>
                  </a:lnTo>
                  <a:lnTo>
                    <a:pt x="26" y="20"/>
                  </a:lnTo>
                  <a:lnTo>
                    <a:pt x="19" y="20"/>
                  </a:lnTo>
                  <a:lnTo>
                    <a:pt x="19" y="14"/>
                  </a:lnTo>
                  <a:lnTo>
                    <a:pt x="19" y="14"/>
                  </a:lnTo>
                  <a:lnTo>
                    <a:pt x="19" y="14"/>
                  </a:lnTo>
                  <a:lnTo>
                    <a:pt x="19" y="14"/>
                  </a:lnTo>
                  <a:lnTo>
                    <a:pt x="13" y="14"/>
                  </a:lnTo>
                  <a:lnTo>
                    <a:pt x="13" y="14"/>
                  </a:lnTo>
                  <a:lnTo>
                    <a:pt x="13" y="14"/>
                  </a:lnTo>
                  <a:lnTo>
                    <a:pt x="13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8" name=""/>
            <p:cNvSpPr/>
            <p:nvPr/>
          </p:nvSpPr>
          <p:spPr>
            <a:xfrm>
              <a:off x="4753080" y="4791240"/>
              <a:ext cx="63360" cy="61920"/>
            </a:xfrm>
            <a:custGeom>
              <a:avLst/>
              <a:gdLst/>
              <a:ahLst/>
              <a:rect l="l" t="t" r="r" b="b"/>
              <a:pathLst>
                <a:path w="40" h="39">
                  <a:moveTo>
                    <a:pt x="14" y="6"/>
                  </a:moveTo>
                  <a:lnTo>
                    <a:pt x="14" y="6"/>
                  </a:lnTo>
                  <a:lnTo>
                    <a:pt x="20" y="6"/>
                  </a:lnTo>
                  <a:lnTo>
                    <a:pt x="20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40" y="6"/>
                  </a:lnTo>
                  <a:lnTo>
                    <a:pt x="40" y="6"/>
                  </a:lnTo>
                  <a:lnTo>
                    <a:pt x="40" y="6"/>
                  </a:lnTo>
                  <a:lnTo>
                    <a:pt x="40" y="6"/>
                  </a:lnTo>
                  <a:lnTo>
                    <a:pt x="40" y="6"/>
                  </a:lnTo>
                  <a:lnTo>
                    <a:pt x="40" y="13"/>
                  </a:lnTo>
                  <a:lnTo>
                    <a:pt x="40" y="13"/>
                  </a:lnTo>
                  <a:lnTo>
                    <a:pt x="40" y="13"/>
                  </a:lnTo>
                  <a:lnTo>
                    <a:pt x="40" y="13"/>
                  </a:lnTo>
                  <a:lnTo>
                    <a:pt x="40" y="19"/>
                  </a:lnTo>
                  <a:lnTo>
                    <a:pt x="40" y="19"/>
                  </a:lnTo>
                  <a:lnTo>
                    <a:pt x="40" y="19"/>
                  </a:lnTo>
                  <a:lnTo>
                    <a:pt x="40" y="19"/>
                  </a:lnTo>
                  <a:lnTo>
                    <a:pt x="40" y="19"/>
                  </a:lnTo>
                  <a:lnTo>
                    <a:pt x="33" y="26"/>
                  </a:lnTo>
                  <a:lnTo>
                    <a:pt x="33" y="26"/>
                  </a:lnTo>
                  <a:lnTo>
                    <a:pt x="33" y="26"/>
                  </a:lnTo>
                  <a:lnTo>
                    <a:pt x="27" y="33"/>
                  </a:lnTo>
                  <a:lnTo>
                    <a:pt x="27" y="33"/>
                  </a:lnTo>
                  <a:lnTo>
                    <a:pt x="27" y="33"/>
                  </a:lnTo>
                  <a:lnTo>
                    <a:pt x="20" y="33"/>
                  </a:lnTo>
                  <a:lnTo>
                    <a:pt x="20" y="33"/>
                  </a:lnTo>
                  <a:lnTo>
                    <a:pt x="20" y="39"/>
                  </a:lnTo>
                  <a:lnTo>
                    <a:pt x="14" y="39"/>
                  </a:lnTo>
                  <a:lnTo>
                    <a:pt x="14" y="39"/>
                  </a:lnTo>
                  <a:lnTo>
                    <a:pt x="14" y="39"/>
                  </a:lnTo>
                  <a:lnTo>
                    <a:pt x="7" y="33"/>
                  </a:lnTo>
                  <a:lnTo>
                    <a:pt x="7" y="33"/>
                  </a:lnTo>
                  <a:lnTo>
                    <a:pt x="7" y="33"/>
                  </a:lnTo>
                  <a:lnTo>
                    <a:pt x="7" y="33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7" y="13"/>
                  </a:lnTo>
                  <a:lnTo>
                    <a:pt x="7" y="13"/>
                  </a:lnTo>
                  <a:lnTo>
                    <a:pt x="14" y="6"/>
                  </a:lnTo>
                  <a:close/>
                  <a:moveTo>
                    <a:pt x="14" y="13"/>
                  </a:moveTo>
                  <a:lnTo>
                    <a:pt x="14" y="13"/>
                  </a:lnTo>
                  <a:lnTo>
                    <a:pt x="7" y="19"/>
                  </a:lnTo>
                  <a:lnTo>
                    <a:pt x="7" y="19"/>
                  </a:lnTo>
                  <a:lnTo>
                    <a:pt x="7" y="19"/>
                  </a:lnTo>
                  <a:lnTo>
                    <a:pt x="7" y="26"/>
                  </a:lnTo>
                  <a:lnTo>
                    <a:pt x="7" y="26"/>
                  </a:lnTo>
                  <a:lnTo>
                    <a:pt x="7" y="26"/>
                  </a:lnTo>
                  <a:lnTo>
                    <a:pt x="7" y="26"/>
                  </a:lnTo>
                  <a:lnTo>
                    <a:pt x="7" y="33"/>
                  </a:lnTo>
                  <a:lnTo>
                    <a:pt x="7" y="33"/>
                  </a:lnTo>
                  <a:lnTo>
                    <a:pt x="14" y="33"/>
                  </a:lnTo>
                  <a:lnTo>
                    <a:pt x="14" y="33"/>
                  </a:lnTo>
                  <a:lnTo>
                    <a:pt x="14" y="33"/>
                  </a:lnTo>
                  <a:lnTo>
                    <a:pt x="20" y="33"/>
                  </a:lnTo>
                  <a:lnTo>
                    <a:pt x="20" y="26"/>
                  </a:lnTo>
                  <a:lnTo>
                    <a:pt x="27" y="26"/>
                  </a:lnTo>
                  <a:lnTo>
                    <a:pt x="33" y="19"/>
                  </a:lnTo>
                  <a:lnTo>
                    <a:pt x="33" y="19"/>
                  </a:lnTo>
                  <a:lnTo>
                    <a:pt x="33" y="19"/>
                  </a:lnTo>
                  <a:lnTo>
                    <a:pt x="33" y="13"/>
                  </a:lnTo>
                  <a:lnTo>
                    <a:pt x="40" y="13"/>
                  </a:lnTo>
                  <a:lnTo>
                    <a:pt x="40" y="13"/>
                  </a:lnTo>
                  <a:lnTo>
                    <a:pt x="33" y="6"/>
                  </a:lnTo>
                  <a:lnTo>
                    <a:pt x="33" y="6"/>
                  </a:lnTo>
                  <a:lnTo>
                    <a:pt x="33" y="6"/>
                  </a:lnTo>
                  <a:lnTo>
                    <a:pt x="33" y="6"/>
                  </a:lnTo>
                  <a:lnTo>
                    <a:pt x="33" y="6"/>
                  </a:lnTo>
                  <a:lnTo>
                    <a:pt x="27" y="6"/>
                  </a:lnTo>
                  <a:lnTo>
                    <a:pt x="27" y="6"/>
                  </a:lnTo>
                  <a:lnTo>
                    <a:pt x="27" y="6"/>
                  </a:lnTo>
                  <a:lnTo>
                    <a:pt x="20" y="6"/>
                  </a:lnTo>
                  <a:lnTo>
                    <a:pt x="14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9" name=""/>
            <p:cNvSpPr/>
            <p:nvPr/>
          </p:nvSpPr>
          <p:spPr>
            <a:xfrm>
              <a:off x="4816440" y="4853160"/>
              <a:ext cx="1800" cy="10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0" name=""/>
            <p:cNvSpPr/>
            <p:nvPr/>
          </p:nvSpPr>
          <p:spPr>
            <a:xfrm>
              <a:off x="4189320" y="4863960"/>
              <a:ext cx="889200" cy="595440"/>
            </a:xfrm>
            <a:custGeom>
              <a:avLst/>
              <a:gdLst/>
              <a:ahLst/>
              <a:rect l="l" t="t" r="r" b="b"/>
              <a:pathLst>
                <a:path w="560" h="375">
                  <a:moveTo>
                    <a:pt x="395" y="0"/>
                  </a:moveTo>
                  <a:lnTo>
                    <a:pt x="402" y="0"/>
                  </a:lnTo>
                  <a:lnTo>
                    <a:pt x="402" y="6"/>
                  </a:lnTo>
                  <a:lnTo>
                    <a:pt x="408" y="13"/>
                  </a:lnTo>
                  <a:lnTo>
                    <a:pt x="408" y="20"/>
                  </a:lnTo>
                  <a:lnTo>
                    <a:pt x="415" y="26"/>
                  </a:lnTo>
                  <a:lnTo>
                    <a:pt x="421" y="33"/>
                  </a:lnTo>
                  <a:lnTo>
                    <a:pt x="421" y="33"/>
                  </a:lnTo>
                  <a:lnTo>
                    <a:pt x="428" y="39"/>
                  </a:lnTo>
                  <a:lnTo>
                    <a:pt x="428" y="46"/>
                  </a:lnTo>
                  <a:lnTo>
                    <a:pt x="434" y="52"/>
                  </a:lnTo>
                  <a:lnTo>
                    <a:pt x="441" y="59"/>
                  </a:lnTo>
                  <a:lnTo>
                    <a:pt x="441" y="59"/>
                  </a:lnTo>
                  <a:lnTo>
                    <a:pt x="448" y="66"/>
                  </a:lnTo>
                  <a:lnTo>
                    <a:pt x="454" y="72"/>
                  </a:lnTo>
                  <a:lnTo>
                    <a:pt x="461" y="79"/>
                  </a:lnTo>
                  <a:lnTo>
                    <a:pt x="461" y="85"/>
                  </a:lnTo>
                  <a:lnTo>
                    <a:pt x="467" y="92"/>
                  </a:lnTo>
                  <a:lnTo>
                    <a:pt x="474" y="92"/>
                  </a:lnTo>
                  <a:lnTo>
                    <a:pt x="481" y="99"/>
                  </a:lnTo>
                  <a:lnTo>
                    <a:pt x="487" y="92"/>
                  </a:lnTo>
                  <a:lnTo>
                    <a:pt x="487" y="92"/>
                  </a:lnTo>
                  <a:lnTo>
                    <a:pt x="494" y="85"/>
                  </a:lnTo>
                  <a:lnTo>
                    <a:pt x="500" y="79"/>
                  </a:lnTo>
                  <a:lnTo>
                    <a:pt x="500" y="72"/>
                  </a:lnTo>
                  <a:lnTo>
                    <a:pt x="507" y="66"/>
                  </a:lnTo>
                  <a:lnTo>
                    <a:pt x="514" y="59"/>
                  </a:lnTo>
                  <a:lnTo>
                    <a:pt x="520" y="59"/>
                  </a:lnTo>
                  <a:lnTo>
                    <a:pt x="533" y="59"/>
                  </a:lnTo>
                  <a:lnTo>
                    <a:pt x="540" y="59"/>
                  </a:lnTo>
                  <a:lnTo>
                    <a:pt x="546" y="59"/>
                  </a:lnTo>
                  <a:lnTo>
                    <a:pt x="553" y="66"/>
                  </a:lnTo>
                  <a:lnTo>
                    <a:pt x="560" y="72"/>
                  </a:lnTo>
                  <a:lnTo>
                    <a:pt x="560" y="72"/>
                  </a:lnTo>
                  <a:lnTo>
                    <a:pt x="553" y="79"/>
                  </a:lnTo>
                  <a:lnTo>
                    <a:pt x="540" y="79"/>
                  </a:lnTo>
                  <a:lnTo>
                    <a:pt x="533" y="79"/>
                  </a:lnTo>
                  <a:lnTo>
                    <a:pt x="520" y="79"/>
                  </a:lnTo>
                  <a:lnTo>
                    <a:pt x="514" y="79"/>
                  </a:lnTo>
                  <a:lnTo>
                    <a:pt x="507" y="79"/>
                  </a:lnTo>
                  <a:lnTo>
                    <a:pt x="500" y="85"/>
                  </a:lnTo>
                  <a:lnTo>
                    <a:pt x="494" y="85"/>
                  </a:lnTo>
                  <a:lnTo>
                    <a:pt x="487" y="92"/>
                  </a:lnTo>
                  <a:lnTo>
                    <a:pt x="481" y="99"/>
                  </a:lnTo>
                  <a:lnTo>
                    <a:pt x="474" y="105"/>
                  </a:lnTo>
                  <a:lnTo>
                    <a:pt x="467" y="105"/>
                  </a:lnTo>
                  <a:lnTo>
                    <a:pt x="461" y="112"/>
                  </a:lnTo>
                  <a:lnTo>
                    <a:pt x="454" y="112"/>
                  </a:lnTo>
                  <a:lnTo>
                    <a:pt x="448" y="118"/>
                  </a:lnTo>
                  <a:lnTo>
                    <a:pt x="441" y="118"/>
                  </a:lnTo>
                  <a:lnTo>
                    <a:pt x="434" y="125"/>
                  </a:lnTo>
                  <a:lnTo>
                    <a:pt x="421" y="125"/>
                  </a:lnTo>
                  <a:lnTo>
                    <a:pt x="415" y="131"/>
                  </a:lnTo>
                  <a:lnTo>
                    <a:pt x="408" y="131"/>
                  </a:lnTo>
                  <a:lnTo>
                    <a:pt x="402" y="131"/>
                  </a:lnTo>
                  <a:lnTo>
                    <a:pt x="395" y="138"/>
                  </a:lnTo>
                  <a:lnTo>
                    <a:pt x="388" y="145"/>
                  </a:lnTo>
                  <a:lnTo>
                    <a:pt x="382" y="151"/>
                  </a:lnTo>
                  <a:lnTo>
                    <a:pt x="375" y="151"/>
                  </a:lnTo>
                  <a:lnTo>
                    <a:pt x="369" y="158"/>
                  </a:lnTo>
                  <a:lnTo>
                    <a:pt x="362" y="158"/>
                  </a:lnTo>
                  <a:lnTo>
                    <a:pt x="355" y="164"/>
                  </a:lnTo>
                  <a:lnTo>
                    <a:pt x="342" y="164"/>
                  </a:lnTo>
                  <a:lnTo>
                    <a:pt x="336" y="164"/>
                  </a:lnTo>
                  <a:lnTo>
                    <a:pt x="329" y="164"/>
                  </a:lnTo>
                  <a:lnTo>
                    <a:pt x="316" y="164"/>
                  </a:lnTo>
                  <a:lnTo>
                    <a:pt x="309" y="171"/>
                  </a:lnTo>
                  <a:lnTo>
                    <a:pt x="303" y="171"/>
                  </a:lnTo>
                  <a:lnTo>
                    <a:pt x="296" y="178"/>
                  </a:lnTo>
                  <a:lnTo>
                    <a:pt x="289" y="184"/>
                  </a:lnTo>
                  <a:lnTo>
                    <a:pt x="283" y="184"/>
                  </a:lnTo>
                  <a:lnTo>
                    <a:pt x="276" y="191"/>
                  </a:lnTo>
                  <a:lnTo>
                    <a:pt x="270" y="191"/>
                  </a:lnTo>
                  <a:lnTo>
                    <a:pt x="263" y="197"/>
                  </a:lnTo>
                  <a:lnTo>
                    <a:pt x="250" y="197"/>
                  </a:lnTo>
                  <a:lnTo>
                    <a:pt x="243" y="204"/>
                  </a:lnTo>
                  <a:lnTo>
                    <a:pt x="237" y="210"/>
                  </a:lnTo>
                  <a:lnTo>
                    <a:pt x="237" y="210"/>
                  </a:lnTo>
                  <a:lnTo>
                    <a:pt x="230" y="217"/>
                  </a:lnTo>
                  <a:lnTo>
                    <a:pt x="224" y="224"/>
                  </a:lnTo>
                  <a:lnTo>
                    <a:pt x="224" y="230"/>
                  </a:lnTo>
                  <a:lnTo>
                    <a:pt x="217" y="237"/>
                  </a:lnTo>
                  <a:lnTo>
                    <a:pt x="217" y="237"/>
                  </a:lnTo>
                  <a:lnTo>
                    <a:pt x="210" y="243"/>
                  </a:lnTo>
                  <a:lnTo>
                    <a:pt x="210" y="250"/>
                  </a:lnTo>
                  <a:lnTo>
                    <a:pt x="204" y="257"/>
                  </a:lnTo>
                  <a:lnTo>
                    <a:pt x="197" y="263"/>
                  </a:lnTo>
                  <a:lnTo>
                    <a:pt x="191" y="263"/>
                  </a:lnTo>
                  <a:lnTo>
                    <a:pt x="184" y="270"/>
                  </a:lnTo>
                  <a:lnTo>
                    <a:pt x="184" y="270"/>
                  </a:lnTo>
                  <a:lnTo>
                    <a:pt x="184" y="276"/>
                  </a:lnTo>
                  <a:lnTo>
                    <a:pt x="184" y="283"/>
                  </a:lnTo>
                  <a:lnTo>
                    <a:pt x="177" y="289"/>
                  </a:lnTo>
                  <a:lnTo>
                    <a:pt x="177" y="296"/>
                  </a:lnTo>
                  <a:lnTo>
                    <a:pt x="171" y="303"/>
                  </a:lnTo>
                  <a:lnTo>
                    <a:pt x="164" y="296"/>
                  </a:lnTo>
                  <a:lnTo>
                    <a:pt x="158" y="289"/>
                  </a:lnTo>
                  <a:lnTo>
                    <a:pt x="158" y="283"/>
                  </a:lnTo>
                  <a:lnTo>
                    <a:pt x="151" y="276"/>
                  </a:lnTo>
                  <a:lnTo>
                    <a:pt x="151" y="270"/>
                  </a:lnTo>
                  <a:lnTo>
                    <a:pt x="145" y="270"/>
                  </a:lnTo>
                  <a:lnTo>
                    <a:pt x="138" y="270"/>
                  </a:lnTo>
                  <a:lnTo>
                    <a:pt x="131" y="276"/>
                  </a:lnTo>
                  <a:lnTo>
                    <a:pt x="125" y="276"/>
                  </a:lnTo>
                  <a:lnTo>
                    <a:pt x="112" y="283"/>
                  </a:lnTo>
                  <a:lnTo>
                    <a:pt x="105" y="283"/>
                  </a:lnTo>
                  <a:lnTo>
                    <a:pt x="98" y="289"/>
                  </a:lnTo>
                  <a:lnTo>
                    <a:pt x="92" y="289"/>
                  </a:lnTo>
                  <a:lnTo>
                    <a:pt x="79" y="289"/>
                  </a:lnTo>
                  <a:lnTo>
                    <a:pt x="72" y="296"/>
                  </a:lnTo>
                  <a:lnTo>
                    <a:pt x="65" y="296"/>
                  </a:lnTo>
                  <a:lnTo>
                    <a:pt x="52" y="303"/>
                  </a:lnTo>
                  <a:lnTo>
                    <a:pt x="46" y="303"/>
                  </a:lnTo>
                  <a:lnTo>
                    <a:pt x="39" y="303"/>
                  </a:lnTo>
                  <a:lnTo>
                    <a:pt x="33" y="309"/>
                  </a:lnTo>
                  <a:lnTo>
                    <a:pt x="19" y="309"/>
                  </a:lnTo>
                  <a:lnTo>
                    <a:pt x="13" y="316"/>
                  </a:lnTo>
                  <a:lnTo>
                    <a:pt x="6" y="316"/>
                  </a:lnTo>
                  <a:lnTo>
                    <a:pt x="6" y="322"/>
                  </a:lnTo>
                  <a:lnTo>
                    <a:pt x="6" y="329"/>
                  </a:lnTo>
                  <a:lnTo>
                    <a:pt x="6" y="336"/>
                  </a:lnTo>
                  <a:lnTo>
                    <a:pt x="0" y="342"/>
                  </a:lnTo>
                  <a:lnTo>
                    <a:pt x="0" y="349"/>
                  </a:lnTo>
                  <a:lnTo>
                    <a:pt x="0" y="355"/>
                  </a:lnTo>
                  <a:lnTo>
                    <a:pt x="0" y="362"/>
                  </a:lnTo>
                  <a:lnTo>
                    <a:pt x="0" y="368"/>
                  </a:lnTo>
                  <a:lnTo>
                    <a:pt x="0" y="375"/>
                  </a:lnTo>
                  <a:lnTo>
                    <a:pt x="0" y="37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1" name=""/>
            <p:cNvSpPr/>
            <p:nvPr/>
          </p:nvSpPr>
          <p:spPr>
            <a:xfrm>
              <a:off x="4314960" y="5448240"/>
              <a:ext cx="52200" cy="11160"/>
            </a:xfrm>
            <a:custGeom>
              <a:avLst/>
              <a:gdLst/>
              <a:ahLst/>
              <a:rect l="l" t="t" r="r" b="b"/>
              <a:pathLst>
                <a:path w="33" h="7">
                  <a:moveTo>
                    <a:pt x="33" y="7"/>
                  </a:moveTo>
                  <a:lnTo>
                    <a:pt x="26" y="7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6" y="0"/>
                  </a:lnTo>
                  <a:lnTo>
                    <a:pt x="6" y="7"/>
                  </a:lnTo>
                  <a:lnTo>
                    <a:pt x="0" y="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2" name=""/>
            <p:cNvSpPr/>
            <p:nvPr/>
          </p:nvSpPr>
          <p:spPr>
            <a:xfrm>
              <a:off x="4575240" y="5272200"/>
              <a:ext cx="31680" cy="29880"/>
            </a:xfrm>
            <a:custGeom>
              <a:avLst/>
              <a:gdLst/>
              <a:ahLst/>
              <a:rect l="l" t="t" r="r" b="b"/>
              <a:pathLst>
                <a:path w="20" h="19">
                  <a:moveTo>
                    <a:pt x="0" y="6"/>
                  </a:moveTo>
                  <a:lnTo>
                    <a:pt x="0" y="6"/>
                  </a:lnTo>
                  <a:lnTo>
                    <a:pt x="7" y="0"/>
                  </a:lnTo>
                  <a:lnTo>
                    <a:pt x="7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20" y="6"/>
                  </a:lnTo>
                  <a:lnTo>
                    <a:pt x="20" y="6"/>
                  </a:lnTo>
                  <a:lnTo>
                    <a:pt x="20" y="13"/>
                  </a:lnTo>
                  <a:lnTo>
                    <a:pt x="20" y="13"/>
                  </a:lnTo>
                  <a:lnTo>
                    <a:pt x="14" y="13"/>
                  </a:lnTo>
                  <a:lnTo>
                    <a:pt x="7" y="19"/>
                  </a:lnTo>
                  <a:lnTo>
                    <a:pt x="7" y="13"/>
                  </a:lnTo>
                  <a:lnTo>
                    <a:pt x="0" y="13"/>
                  </a:lnTo>
                  <a:lnTo>
                    <a:pt x="0" y="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3" name=""/>
            <p:cNvSpPr/>
            <p:nvPr/>
          </p:nvSpPr>
          <p:spPr>
            <a:xfrm>
              <a:off x="4775040" y="4998960"/>
              <a:ext cx="61920" cy="42840"/>
            </a:xfrm>
            <a:custGeom>
              <a:avLst/>
              <a:gdLst/>
              <a:ahLst/>
              <a:rect l="l" t="t" r="r" b="b"/>
              <a:pathLst>
                <a:path w="39" h="27">
                  <a:moveTo>
                    <a:pt x="39" y="14"/>
                  </a:moveTo>
                  <a:lnTo>
                    <a:pt x="33" y="7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6" y="7"/>
                  </a:lnTo>
                  <a:lnTo>
                    <a:pt x="6" y="7"/>
                  </a:lnTo>
                  <a:lnTo>
                    <a:pt x="0" y="14"/>
                  </a:lnTo>
                  <a:lnTo>
                    <a:pt x="6" y="20"/>
                  </a:lnTo>
                  <a:lnTo>
                    <a:pt x="13" y="27"/>
                  </a:lnTo>
                  <a:lnTo>
                    <a:pt x="19" y="27"/>
                  </a:lnTo>
                  <a:lnTo>
                    <a:pt x="26" y="27"/>
                  </a:lnTo>
                  <a:lnTo>
                    <a:pt x="33" y="27"/>
                  </a:lnTo>
                  <a:lnTo>
                    <a:pt x="33" y="20"/>
                  </a:lnTo>
                  <a:lnTo>
                    <a:pt x="39" y="1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4" name=""/>
            <p:cNvSpPr/>
            <p:nvPr/>
          </p:nvSpPr>
          <p:spPr>
            <a:xfrm>
              <a:off x="5140440" y="4905360"/>
              <a:ext cx="63360" cy="41400"/>
            </a:xfrm>
            <a:custGeom>
              <a:avLst/>
              <a:gdLst/>
              <a:ahLst/>
              <a:rect l="l" t="t" r="r" b="b"/>
              <a:pathLst>
                <a:path w="40" h="26">
                  <a:moveTo>
                    <a:pt x="0" y="13"/>
                  </a:moveTo>
                  <a:lnTo>
                    <a:pt x="0" y="7"/>
                  </a:lnTo>
                  <a:lnTo>
                    <a:pt x="7" y="0"/>
                  </a:lnTo>
                  <a:lnTo>
                    <a:pt x="13" y="0"/>
                  </a:lnTo>
                  <a:lnTo>
                    <a:pt x="20" y="0"/>
                  </a:lnTo>
                  <a:lnTo>
                    <a:pt x="27" y="0"/>
                  </a:lnTo>
                  <a:lnTo>
                    <a:pt x="33" y="7"/>
                  </a:lnTo>
                  <a:lnTo>
                    <a:pt x="40" y="7"/>
                  </a:lnTo>
                  <a:lnTo>
                    <a:pt x="40" y="13"/>
                  </a:lnTo>
                  <a:lnTo>
                    <a:pt x="40" y="20"/>
                  </a:lnTo>
                  <a:lnTo>
                    <a:pt x="27" y="20"/>
                  </a:lnTo>
                  <a:lnTo>
                    <a:pt x="20" y="26"/>
                  </a:lnTo>
                  <a:lnTo>
                    <a:pt x="13" y="26"/>
                  </a:lnTo>
                  <a:lnTo>
                    <a:pt x="7" y="20"/>
                  </a:lnTo>
                  <a:lnTo>
                    <a:pt x="0" y="1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5" name=""/>
            <p:cNvSpPr/>
            <p:nvPr/>
          </p:nvSpPr>
          <p:spPr>
            <a:xfrm>
              <a:off x="6270480" y="4613400"/>
              <a:ext cx="20880" cy="3168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0" y="6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6" y="0"/>
                  </a:lnTo>
                  <a:lnTo>
                    <a:pt x="13" y="0"/>
                  </a:lnTo>
                  <a:lnTo>
                    <a:pt x="13" y="6"/>
                  </a:lnTo>
                  <a:lnTo>
                    <a:pt x="13" y="13"/>
                  </a:lnTo>
                  <a:lnTo>
                    <a:pt x="13" y="13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6" name=""/>
            <p:cNvSpPr/>
            <p:nvPr/>
          </p:nvSpPr>
          <p:spPr>
            <a:xfrm>
              <a:off x="4900680" y="4570560"/>
              <a:ext cx="9360" cy="1080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6" y="0"/>
                  </a:move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7" name=""/>
            <p:cNvSpPr/>
            <p:nvPr/>
          </p:nvSpPr>
          <p:spPr>
            <a:xfrm>
              <a:off x="4827600" y="4519440"/>
              <a:ext cx="41400" cy="30240"/>
            </a:xfrm>
            <a:custGeom>
              <a:avLst/>
              <a:gdLst/>
              <a:ahLst/>
              <a:rect l="l" t="t" r="r" b="b"/>
              <a:pathLst>
                <a:path w="26" h="19">
                  <a:moveTo>
                    <a:pt x="26" y="6"/>
                  </a:moveTo>
                  <a:lnTo>
                    <a:pt x="26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13"/>
                  </a:lnTo>
                  <a:lnTo>
                    <a:pt x="6" y="19"/>
                  </a:lnTo>
                  <a:lnTo>
                    <a:pt x="13" y="19"/>
                  </a:lnTo>
                  <a:lnTo>
                    <a:pt x="19" y="19"/>
                  </a:lnTo>
                  <a:lnTo>
                    <a:pt x="26" y="19"/>
                  </a:lnTo>
                  <a:lnTo>
                    <a:pt x="26" y="13"/>
                  </a:lnTo>
                  <a:lnTo>
                    <a:pt x="26" y="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8" name=""/>
            <p:cNvSpPr/>
            <p:nvPr/>
          </p:nvSpPr>
          <p:spPr>
            <a:xfrm>
              <a:off x="4753080" y="4371840"/>
              <a:ext cx="63360" cy="63720"/>
            </a:xfrm>
            <a:custGeom>
              <a:avLst/>
              <a:gdLst/>
              <a:ahLst/>
              <a:rect l="l" t="t" r="r" b="b"/>
              <a:pathLst>
                <a:path w="40" h="40">
                  <a:moveTo>
                    <a:pt x="33" y="27"/>
                  </a:moveTo>
                  <a:lnTo>
                    <a:pt x="33" y="20"/>
                  </a:lnTo>
                  <a:lnTo>
                    <a:pt x="33" y="20"/>
                  </a:lnTo>
                  <a:lnTo>
                    <a:pt x="33" y="20"/>
                  </a:lnTo>
                  <a:lnTo>
                    <a:pt x="33" y="20"/>
                  </a:lnTo>
                  <a:lnTo>
                    <a:pt x="33" y="14"/>
                  </a:lnTo>
                  <a:lnTo>
                    <a:pt x="33" y="14"/>
                  </a:lnTo>
                  <a:lnTo>
                    <a:pt x="33" y="14"/>
                  </a:lnTo>
                  <a:lnTo>
                    <a:pt x="33" y="14"/>
                  </a:lnTo>
                  <a:lnTo>
                    <a:pt x="33" y="14"/>
                  </a:lnTo>
                  <a:lnTo>
                    <a:pt x="33" y="7"/>
                  </a:lnTo>
                  <a:lnTo>
                    <a:pt x="33" y="7"/>
                  </a:lnTo>
                  <a:lnTo>
                    <a:pt x="33" y="7"/>
                  </a:lnTo>
                  <a:lnTo>
                    <a:pt x="33" y="7"/>
                  </a:lnTo>
                  <a:lnTo>
                    <a:pt x="27" y="7"/>
                  </a:lnTo>
                  <a:lnTo>
                    <a:pt x="27" y="7"/>
                  </a:lnTo>
                  <a:lnTo>
                    <a:pt x="27" y="7"/>
                  </a:lnTo>
                  <a:lnTo>
                    <a:pt x="27" y="7"/>
                  </a:lnTo>
                  <a:lnTo>
                    <a:pt x="20" y="7"/>
                  </a:lnTo>
                  <a:lnTo>
                    <a:pt x="20" y="7"/>
                  </a:lnTo>
                  <a:lnTo>
                    <a:pt x="20" y="14"/>
                  </a:lnTo>
                  <a:lnTo>
                    <a:pt x="14" y="14"/>
                  </a:lnTo>
                  <a:lnTo>
                    <a:pt x="20" y="14"/>
                  </a:lnTo>
                  <a:lnTo>
                    <a:pt x="20" y="14"/>
                  </a:lnTo>
                  <a:lnTo>
                    <a:pt x="20" y="14"/>
                  </a:lnTo>
                  <a:lnTo>
                    <a:pt x="20" y="14"/>
                  </a:lnTo>
                  <a:lnTo>
                    <a:pt x="20" y="14"/>
                  </a:lnTo>
                  <a:lnTo>
                    <a:pt x="27" y="14"/>
                  </a:lnTo>
                  <a:lnTo>
                    <a:pt x="27" y="14"/>
                  </a:lnTo>
                  <a:lnTo>
                    <a:pt x="27" y="20"/>
                  </a:lnTo>
                  <a:lnTo>
                    <a:pt x="27" y="20"/>
                  </a:lnTo>
                  <a:lnTo>
                    <a:pt x="27" y="20"/>
                  </a:lnTo>
                  <a:lnTo>
                    <a:pt x="27" y="27"/>
                  </a:lnTo>
                  <a:lnTo>
                    <a:pt x="27" y="27"/>
                  </a:lnTo>
                  <a:lnTo>
                    <a:pt x="27" y="27"/>
                  </a:lnTo>
                  <a:lnTo>
                    <a:pt x="27" y="33"/>
                  </a:lnTo>
                  <a:lnTo>
                    <a:pt x="27" y="33"/>
                  </a:lnTo>
                  <a:lnTo>
                    <a:pt x="20" y="33"/>
                  </a:lnTo>
                  <a:lnTo>
                    <a:pt x="20" y="40"/>
                  </a:lnTo>
                  <a:lnTo>
                    <a:pt x="20" y="40"/>
                  </a:lnTo>
                  <a:lnTo>
                    <a:pt x="14" y="40"/>
                  </a:lnTo>
                  <a:lnTo>
                    <a:pt x="14" y="40"/>
                  </a:lnTo>
                  <a:lnTo>
                    <a:pt x="14" y="40"/>
                  </a:lnTo>
                  <a:lnTo>
                    <a:pt x="14" y="40"/>
                  </a:lnTo>
                  <a:lnTo>
                    <a:pt x="7" y="40"/>
                  </a:lnTo>
                  <a:lnTo>
                    <a:pt x="7" y="40"/>
                  </a:lnTo>
                  <a:lnTo>
                    <a:pt x="7" y="40"/>
                  </a:lnTo>
                  <a:lnTo>
                    <a:pt x="7" y="33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14"/>
                  </a:lnTo>
                  <a:lnTo>
                    <a:pt x="7" y="14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20" y="7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33" y="0"/>
                  </a:lnTo>
                  <a:lnTo>
                    <a:pt x="33" y="7"/>
                  </a:lnTo>
                  <a:lnTo>
                    <a:pt x="33" y="7"/>
                  </a:lnTo>
                  <a:lnTo>
                    <a:pt x="40" y="7"/>
                  </a:lnTo>
                  <a:lnTo>
                    <a:pt x="40" y="14"/>
                  </a:lnTo>
                  <a:lnTo>
                    <a:pt x="40" y="14"/>
                  </a:lnTo>
                  <a:lnTo>
                    <a:pt x="40" y="14"/>
                  </a:lnTo>
                  <a:lnTo>
                    <a:pt x="40" y="20"/>
                  </a:lnTo>
                  <a:lnTo>
                    <a:pt x="40" y="20"/>
                  </a:lnTo>
                  <a:lnTo>
                    <a:pt x="40" y="20"/>
                  </a:lnTo>
                  <a:lnTo>
                    <a:pt x="40" y="20"/>
                  </a:lnTo>
                  <a:lnTo>
                    <a:pt x="33" y="27"/>
                  </a:lnTo>
                  <a:close/>
                  <a:moveTo>
                    <a:pt x="7" y="20"/>
                  </a:moveTo>
                  <a:lnTo>
                    <a:pt x="7" y="20"/>
                  </a:lnTo>
                  <a:lnTo>
                    <a:pt x="7" y="20"/>
                  </a:lnTo>
                  <a:lnTo>
                    <a:pt x="7" y="20"/>
                  </a:lnTo>
                  <a:lnTo>
                    <a:pt x="7" y="20"/>
                  </a:lnTo>
                  <a:lnTo>
                    <a:pt x="7" y="20"/>
                  </a:lnTo>
                  <a:lnTo>
                    <a:pt x="7" y="27"/>
                  </a:lnTo>
                  <a:lnTo>
                    <a:pt x="7" y="27"/>
                  </a:lnTo>
                  <a:lnTo>
                    <a:pt x="7" y="27"/>
                  </a:lnTo>
                  <a:lnTo>
                    <a:pt x="7" y="27"/>
                  </a:lnTo>
                  <a:lnTo>
                    <a:pt x="7" y="27"/>
                  </a:lnTo>
                  <a:lnTo>
                    <a:pt x="7" y="27"/>
                  </a:lnTo>
                  <a:lnTo>
                    <a:pt x="7" y="33"/>
                  </a:lnTo>
                  <a:lnTo>
                    <a:pt x="7" y="33"/>
                  </a:lnTo>
                  <a:lnTo>
                    <a:pt x="7" y="33"/>
                  </a:lnTo>
                  <a:lnTo>
                    <a:pt x="7" y="33"/>
                  </a:lnTo>
                  <a:lnTo>
                    <a:pt x="14" y="33"/>
                  </a:lnTo>
                  <a:lnTo>
                    <a:pt x="14" y="33"/>
                  </a:lnTo>
                  <a:lnTo>
                    <a:pt x="14" y="33"/>
                  </a:lnTo>
                  <a:lnTo>
                    <a:pt x="14" y="33"/>
                  </a:lnTo>
                  <a:lnTo>
                    <a:pt x="20" y="33"/>
                  </a:lnTo>
                  <a:lnTo>
                    <a:pt x="20" y="33"/>
                  </a:lnTo>
                  <a:lnTo>
                    <a:pt x="20" y="27"/>
                  </a:lnTo>
                  <a:lnTo>
                    <a:pt x="20" y="27"/>
                  </a:lnTo>
                  <a:lnTo>
                    <a:pt x="20" y="27"/>
                  </a:lnTo>
                  <a:lnTo>
                    <a:pt x="20" y="27"/>
                  </a:lnTo>
                  <a:lnTo>
                    <a:pt x="20" y="20"/>
                  </a:lnTo>
                  <a:lnTo>
                    <a:pt x="20" y="20"/>
                  </a:lnTo>
                  <a:lnTo>
                    <a:pt x="20" y="20"/>
                  </a:lnTo>
                  <a:lnTo>
                    <a:pt x="20" y="20"/>
                  </a:lnTo>
                  <a:lnTo>
                    <a:pt x="20" y="20"/>
                  </a:lnTo>
                  <a:lnTo>
                    <a:pt x="20" y="14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7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9" name=""/>
            <p:cNvSpPr/>
            <p:nvPr/>
          </p:nvSpPr>
          <p:spPr>
            <a:xfrm>
              <a:off x="4784760" y="4414680"/>
              <a:ext cx="63360" cy="61920"/>
            </a:xfrm>
            <a:custGeom>
              <a:avLst/>
              <a:gdLst/>
              <a:ahLst/>
              <a:rect l="l" t="t" r="r" b="b"/>
              <a:pathLst>
                <a:path w="40" h="39">
                  <a:moveTo>
                    <a:pt x="13" y="6"/>
                  </a:moveTo>
                  <a:lnTo>
                    <a:pt x="13" y="6"/>
                  </a:lnTo>
                  <a:lnTo>
                    <a:pt x="13" y="6"/>
                  </a:lnTo>
                  <a:lnTo>
                    <a:pt x="20" y="6"/>
                  </a:lnTo>
                  <a:lnTo>
                    <a:pt x="20" y="6"/>
                  </a:lnTo>
                  <a:lnTo>
                    <a:pt x="27" y="6"/>
                  </a:lnTo>
                  <a:lnTo>
                    <a:pt x="27" y="0"/>
                  </a:lnTo>
                  <a:lnTo>
                    <a:pt x="27" y="6"/>
                  </a:lnTo>
                  <a:lnTo>
                    <a:pt x="27" y="6"/>
                  </a:lnTo>
                  <a:lnTo>
                    <a:pt x="33" y="6"/>
                  </a:lnTo>
                  <a:lnTo>
                    <a:pt x="33" y="6"/>
                  </a:lnTo>
                  <a:lnTo>
                    <a:pt x="33" y="6"/>
                  </a:lnTo>
                  <a:lnTo>
                    <a:pt x="33" y="6"/>
                  </a:lnTo>
                  <a:lnTo>
                    <a:pt x="40" y="13"/>
                  </a:lnTo>
                  <a:lnTo>
                    <a:pt x="40" y="13"/>
                  </a:lnTo>
                  <a:lnTo>
                    <a:pt x="40" y="13"/>
                  </a:lnTo>
                  <a:lnTo>
                    <a:pt x="40" y="13"/>
                  </a:lnTo>
                  <a:lnTo>
                    <a:pt x="40" y="13"/>
                  </a:lnTo>
                  <a:lnTo>
                    <a:pt x="40" y="19"/>
                  </a:lnTo>
                  <a:lnTo>
                    <a:pt x="40" y="19"/>
                  </a:lnTo>
                  <a:lnTo>
                    <a:pt x="40" y="19"/>
                  </a:lnTo>
                  <a:lnTo>
                    <a:pt x="40" y="19"/>
                  </a:lnTo>
                  <a:lnTo>
                    <a:pt x="33" y="26"/>
                  </a:lnTo>
                  <a:lnTo>
                    <a:pt x="33" y="26"/>
                  </a:lnTo>
                  <a:lnTo>
                    <a:pt x="33" y="26"/>
                  </a:lnTo>
                  <a:lnTo>
                    <a:pt x="33" y="26"/>
                  </a:lnTo>
                  <a:lnTo>
                    <a:pt x="33" y="26"/>
                  </a:lnTo>
                  <a:lnTo>
                    <a:pt x="27" y="33"/>
                  </a:lnTo>
                  <a:lnTo>
                    <a:pt x="27" y="33"/>
                  </a:lnTo>
                  <a:lnTo>
                    <a:pt x="20" y="33"/>
                  </a:lnTo>
                  <a:lnTo>
                    <a:pt x="20" y="33"/>
                  </a:lnTo>
                  <a:lnTo>
                    <a:pt x="20" y="39"/>
                  </a:lnTo>
                  <a:lnTo>
                    <a:pt x="13" y="39"/>
                  </a:lnTo>
                  <a:lnTo>
                    <a:pt x="13" y="39"/>
                  </a:lnTo>
                  <a:lnTo>
                    <a:pt x="13" y="39"/>
                  </a:lnTo>
                  <a:lnTo>
                    <a:pt x="7" y="39"/>
                  </a:lnTo>
                  <a:lnTo>
                    <a:pt x="7" y="39"/>
                  </a:lnTo>
                  <a:lnTo>
                    <a:pt x="7" y="39"/>
                  </a:lnTo>
                  <a:lnTo>
                    <a:pt x="0" y="39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13"/>
                  </a:lnTo>
                  <a:lnTo>
                    <a:pt x="7" y="13"/>
                  </a:lnTo>
                  <a:lnTo>
                    <a:pt x="13" y="6"/>
                  </a:lnTo>
                  <a:close/>
                  <a:moveTo>
                    <a:pt x="13" y="13"/>
                  </a:moveTo>
                  <a:lnTo>
                    <a:pt x="7" y="19"/>
                  </a:lnTo>
                  <a:lnTo>
                    <a:pt x="7" y="19"/>
                  </a:lnTo>
                  <a:lnTo>
                    <a:pt x="7" y="19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7" y="33"/>
                  </a:lnTo>
                  <a:lnTo>
                    <a:pt x="7" y="33"/>
                  </a:lnTo>
                  <a:lnTo>
                    <a:pt x="7" y="33"/>
                  </a:lnTo>
                  <a:lnTo>
                    <a:pt x="7" y="33"/>
                  </a:lnTo>
                  <a:lnTo>
                    <a:pt x="7" y="33"/>
                  </a:lnTo>
                  <a:lnTo>
                    <a:pt x="13" y="33"/>
                  </a:lnTo>
                  <a:lnTo>
                    <a:pt x="13" y="33"/>
                  </a:lnTo>
                  <a:lnTo>
                    <a:pt x="20" y="33"/>
                  </a:lnTo>
                  <a:lnTo>
                    <a:pt x="20" y="26"/>
                  </a:lnTo>
                  <a:lnTo>
                    <a:pt x="27" y="26"/>
                  </a:lnTo>
                  <a:lnTo>
                    <a:pt x="27" y="19"/>
                  </a:lnTo>
                  <a:lnTo>
                    <a:pt x="33" y="19"/>
                  </a:lnTo>
                  <a:lnTo>
                    <a:pt x="33" y="19"/>
                  </a:lnTo>
                  <a:lnTo>
                    <a:pt x="33" y="13"/>
                  </a:lnTo>
                  <a:lnTo>
                    <a:pt x="33" y="13"/>
                  </a:lnTo>
                  <a:lnTo>
                    <a:pt x="33" y="13"/>
                  </a:lnTo>
                  <a:lnTo>
                    <a:pt x="33" y="13"/>
                  </a:lnTo>
                  <a:lnTo>
                    <a:pt x="33" y="6"/>
                  </a:lnTo>
                  <a:lnTo>
                    <a:pt x="33" y="6"/>
                  </a:lnTo>
                  <a:lnTo>
                    <a:pt x="27" y="6"/>
                  </a:lnTo>
                  <a:lnTo>
                    <a:pt x="27" y="6"/>
                  </a:lnTo>
                  <a:lnTo>
                    <a:pt x="27" y="6"/>
                  </a:lnTo>
                  <a:lnTo>
                    <a:pt x="20" y="6"/>
                  </a:lnTo>
                  <a:lnTo>
                    <a:pt x="20" y="13"/>
                  </a:lnTo>
                  <a:lnTo>
                    <a:pt x="13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0" name=""/>
            <p:cNvSpPr/>
            <p:nvPr/>
          </p:nvSpPr>
          <p:spPr>
            <a:xfrm>
              <a:off x="4753080" y="4362480"/>
              <a:ext cx="14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1" name=""/>
            <p:cNvSpPr/>
            <p:nvPr/>
          </p:nvSpPr>
          <p:spPr>
            <a:xfrm>
              <a:off x="4606920" y="4246560"/>
              <a:ext cx="230040" cy="282600"/>
            </a:xfrm>
            <a:custGeom>
              <a:avLst/>
              <a:gdLst/>
              <a:ahLst/>
              <a:rect l="l" t="t" r="r" b="b"/>
              <a:pathLst>
                <a:path w="145" h="178">
                  <a:moveTo>
                    <a:pt x="92" y="73"/>
                  </a:moveTo>
                  <a:lnTo>
                    <a:pt x="92" y="66"/>
                  </a:lnTo>
                  <a:lnTo>
                    <a:pt x="86" y="60"/>
                  </a:lnTo>
                  <a:lnTo>
                    <a:pt x="79" y="60"/>
                  </a:lnTo>
                  <a:lnTo>
                    <a:pt x="79" y="53"/>
                  </a:lnTo>
                  <a:lnTo>
                    <a:pt x="73" y="46"/>
                  </a:lnTo>
                  <a:lnTo>
                    <a:pt x="73" y="40"/>
                  </a:lnTo>
                  <a:lnTo>
                    <a:pt x="66" y="33"/>
                  </a:lnTo>
                  <a:lnTo>
                    <a:pt x="66" y="27"/>
                  </a:lnTo>
                  <a:lnTo>
                    <a:pt x="59" y="20"/>
                  </a:lnTo>
                  <a:lnTo>
                    <a:pt x="53" y="20"/>
                  </a:lnTo>
                  <a:lnTo>
                    <a:pt x="53" y="14"/>
                  </a:lnTo>
                  <a:lnTo>
                    <a:pt x="46" y="7"/>
                  </a:lnTo>
                  <a:lnTo>
                    <a:pt x="40" y="0"/>
                  </a:lnTo>
                  <a:lnTo>
                    <a:pt x="26" y="0"/>
                  </a:lnTo>
                  <a:lnTo>
                    <a:pt x="20" y="0"/>
                  </a:lnTo>
                  <a:lnTo>
                    <a:pt x="20" y="7"/>
                  </a:lnTo>
                  <a:lnTo>
                    <a:pt x="13" y="14"/>
                  </a:lnTo>
                  <a:lnTo>
                    <a:pt x="7" y="20"/>
                  </a:lnTo>
                  <a:lnTo>
                    <a:pt x="7" y="27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0" y="40"/>
                  </a:lnTo>
                  <a:lnTo>
                    <a:pt x="0" y="46"/>
                  </a:lnTo>
                  <a:lnTo>
                    <a:pt x="13" y="46"/>
                  </a:lnTo>
                  <a:lnTo>
                    <a:pt x="20" y="53"/>
                  </a:lnTo>
                  <a:lnTo>
                    <a:pt x="26" y="60"/>
                  </a:lnTo>
                  <a:lnTo>
                    <a:pt x="33" y="60"/>
                  </a:lnTo>
                  <a:lnTo>
                    <a:pt x="33" y="66"/>
                  </a:lnTo>
                  <a:lnTo>
                    <a:pt x="40" y="73"/>
                  </a:lnTo>
                  <a:lnTo>
                    <a:pt x="46" y="79"/>
                  </a:lnTo>
                  <a:lnTo>
                    <a:pt x="53" y="79"/>
                  </a:lnTo>
                  <a:lnTo>
                    <a:pt x="59" y="86"/>
                  </a:lnTo>
                  <a:lnTo>
                    <a:pt x="66" y="93"/>
                  </a:lnTo>
                  <a:lnTo>
                    <a:pt x="66" y="99"/>
                  </a:lnTo>
                  <a:lnTo>
                    <a:pt x="73" y="106"/>
                  </a:lnTo>
                  <a:lnTo>
                    <a:pt x="73" y="112"/>
                  </a:lnTo>
                  <a:lnTo>
                    <a:pt x="79" y="112"/>
                  </a:lnTo>
                  <a:lnTo>
                    <a:pt x="79" y="119"/>
                  </a:lnTo>
                  <a:lnTo>
                    <a:pt x="86" y="125"/>
                  </a:lnTo>
                  <a:lnTo>
                    <a:pt x="86" y="132"/>
                  </a:lnTo>
                  <a:lnTo>
                    <a:pt x="86" y="139"/>
                  </a:lnTo>
                  <a:lnTo>
                    <a:pt x="86" y="145"/>
                  </a:lnTo>
                  <a:lnTo>
                    <a:pt x="92" y="152"/>
                  </a:lnTo>
                  <a:lnTo>
                    <a:pt x="92" y="152"/>
                  </a:lnTo>
                  <a:lnTo>
                    <a:pt x="106" y="158"/>
                  </a:lnTo>
                  <a:lnTo>
                    <a:pt x="112" y="158"/>
                  </a:lnTo>
                  <a:lnTo>
                    <a:pt x="119" y="165"/>
                  </a:lnTo>
                  <a:lnTo>
                    <a:pt x="125" y="172"/>
                  </a:lnTo>
                  <a:lnTo>
                    <a:pt x="132" y="178"/>
                  </a:lnTo>
                  <a:lnTo>
                    <a:pt x="132" y="178"/>
                  </a:lnTo>
                  <a:lnTo>
                    <a:pt x="139" y="178"/>
                  </a:lnTo>
                  <a:lnTo>
                    <a:pt x="139" y="172"/>
                  </a:lnTo>
                  <a:lnTo>
                    <a:pt x="145" y="165"/>
                  </a:lnTo>
                  <a:lnTo>
                    <a:pt x="145" y="15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2" name=""/>
            <p:cNvSpPr/>
            <p:nvPr/>
          </p:nvSpPr>
          <p:spPr>
            <a:xfrm>
              <a:off x="4659480" y="4435560"/>
              <a:ext cx="41040" cy="31680"/>
            </a:xfrm>
            <a:custGeom>
              <a:avLst/>
              <a:gdLst/>
              <a:ahLst/>
              <a:rect l="l" t="t" r="r" b="b"/>
              <a:pathLst>
                <a:path w="26" h="20">
                  <a:moveTo>
                    <a:pt x="26" y="6"/>
                  </a:moveTo>
                  <a:lnTo>
                    <a:pt x="26" y="0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7" y="13"/>
                  </a:lnTo>
                  <a:lnTo>
                    <a:pt x="7" y="13"/>
                  </a:lnTo>
                  <a:lnTo>
                    <a:pt x="13" y="20"/>
                  </a:lnTo>
                  <a:lnTo>
                    <a:pt x="20" y="20"/>
                  </a:lnTo>
                  <a:lnTo>
                    <a:pt x="20" y="20"/>
                  </a:lnTo>
                  <a:lnTo>
                    <a:pt x="26" y="13"/>
                  </a:lnTo>
                  <a:lnTo>
                    <a:pt x="26" y="13"/>
                  </a:lnTo>
                  <a:lnTo>
                    <a:pt x="26" y="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3" name=""/>
            <p:cNvSpPr/>
            <p:nvPr/>
          </p:nvSpPr>
          <p:spPr>
            <a:xfrm>
              <a:off x="4618080" y="4383000"/>
              <a:ext cx="30240" cy="41400"/>
            </a:xfrm>
            <a:custGeom>
              <a:avLst/>
              <a:gdLst/>
              <a:ahLst/>
              <a:rect l="l" t="t" r="r" b="b"/>
              <a:pathLst>
                <a:path w="19" h="26">
                  <a:moveTo>
                    <a:pt x="19" y="7"/>
                  </a:moveTo>
                  <a:lnTo>
                    <a:pt x="19" y="7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6" y="7"/>
                  </a:lnTo>
                  <a:lnTo>
                    <a:pt x="0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6" y="26"/>
                  </a:lnTo>
                  <a:lnTo>
                    <a:pt x="13" y="26"/>
                  </a:lnTo>
                  <a:lnTo>
                    <a:pt x="13" y="26"/>
                  </a:lnTo>
                  <a:lnTo>
                    <a:pt x="19" y="26"/>
                  </a:lnTo>
                  <a:lnTo>
                    <a:pt x="19" y="26"/>
                  </a:lnTo>
                  <a:lnTo>
                    <a:pt x="19" y="20"/>
                  </a:lnTo>
                  <a:lnTo>
                    <a:pt x="19" y="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4" name=""/>
            <p:cNvSpPr/>
            <p:nvPr/>
          </p:nvSpPr>
          <p:spPr>
            <a:xfrm>
              <a:off x="6207120" y="4111560"/>
              <a:ext cx="31680" cy="316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13"/>
                  </a:moveTo>
                  <a:lnTo>
                    <a:pt x="7" y="6"/>
                  </a:lnTo>
                  <a:lnTo>
                    <a:pt x="7" y="6"/>
                  </a:lnTo>
                  <a:lnTo>
                    <a:pt x="13" y="6"/>
                  </a:lnTo>
                  <a:lnTo>
                    <a:pt x="13" y="0"/>
                  </a:lnTo>
                  <a:lnTo>
                    <a:pt x="13" y="6"/>
                  </a:lnTo>
                  <a:lnTo>
                    <a:pt x="20" y="6"/>
                  </a:lnTo>
                  <a:lnTo>
                    <a:pt x="20" y="6"/>
                  </a:lnTo>
                  <a:lnTo>
                    <a:pt x="20" y="13"/>
                  </a:lnTo>
                  <a:lnTo>
                    <a:pt x="20" y="13"/>
                  </a:lnTo>
                  <a:lnTo>
                    <a:pt x="20" y="20"/>
                  </a:lnTo>
                  <a:lnTo>
                    <a:pt x="13" y="20"/>
                  </a:lnTo>
                  <a:lnTo>
                    <a:pt x="13" y="20"/>
                  </a:lnTo>
                  <a:lnTo>
                    <a:pt x="7" y="20"/>
                  </a:lnTo>
                  <a:lnTo>
                    <a:pt x="0" y="1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5" name=""/>
            <p:cNvSpPr/>
            <p:nvPr/>
          </p:nvSpPr>
          <p:spPr>
            <a:xfrm>
              <a:off x="5946840" y="3943440"/>
              <a:ext cx="20520" cy="21960"/>
            </a:xfrm>
            <a:custGeom>
              <a:avLst/>
              <a:gdLst/>
              <a:ahLst/>
              <a:rect l="l" t="t" r="r" b="b"/>
              <a:pathLst>
                <a:path w="13" h="14">
                  <a:moveTo>
                    <a:pt x="0" y="7"/>
                  </a:moveTo>
                  <a:lnTo>
                    <a:pt x="6" y="7"/>
                  </a:lnTo>
                  <a:lnTo>
                    <a:pt x="6" y="7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7"/>
                  </a:lnTo>
                  <a:lnTo>
                    <a:pt x="13" y="7"/>
                  </a:lnTo>
                  <a:lnTo>
                    <a:pt x="13" y="7"/>
                  </a:lnTo>
                  <a:lnTo>
                    <a:pt x="13" y="7"/>
                  </a:lnTo>
                  <a:lnTo>
                    <a:pt x="13" y="14"/>
                  </a:lnTo>
                  <a:lnTo>
                    <a:pt x="13" y="14"/>
                  </a:lnTo>
                  <a:lnTo>
                    <a:pt x="6" y="14"/>
                  </a:lnTo>
                  <a:lnTo>
                    <a:pt x="6" y="14"/>
                  </a:lnTo>
                  <a:lnTo>
                    <a:pt x="6" y="7"/>
                  </a:lnTo>
                  <a:lnTo>
                    <a:pt x="0" y="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6" name=""/>
            <p:cNvSpPr/>
            <p:nvPr/>
          </p:nvSpPr>
          <p:spPr>
            <a:xfrm flipV="1">
              <a:off x="2787480" y="3765240"/>
              <a:ext cx="9720" cy="11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7" name=""/>
            <p:cNvSpPr/>
            <p:nvPr/>
          </p:nvSpPr>
          <p:spPr>
            <a:xfrm>
              <a:off x="2797200" y="3567240"/>
              <a:ext cx="376200" cy="198360"/>
            </a:xfrm>
            <a:custGeom>
              <a:avLst/>
              <a:gdLst/>
              <a:ahLst/>
              <a:rect l="l" t="t" r="r" b="b"/>
              <a:pathLst>
                <a:path w="237" h="125">
                  <a:moveTo>
                    <a:pt x="0" y="125"/>
                  </a:moveTo>
                  <a:lnTo>
                    <a:pt x="0" y="119"/>
                  </a:lnTo>
                  <a:lnTo>
                    <a:pt x="7" y="112"/>
                  </a:lnTo>
                  <a:lnTo>
                    <a:pt x="7" y="112"/>
                  </a:lnTo>
                  <a:lnTo>
                    <a:pt x="7" y="106"/>
                  </a:lnTo>
                  <a:lnTo>
                    <a:pt x="7" y="99"/>
                  </a:lnTo>
                  <a:lnTo>
                    <a:pt x="13" y="93"/>
                  </a:lnTo>
                  <a:lnTo>
                    <a:pt x="13" y="86"/>
                  </a:lnTo>
                  <a:lnTo>
                    <a:pt x="20" y="79"/>
                  </a:lnTo>
                  <a:lnTo>
                    <a:pt x="33" y="79"/>
                  </a:lnTo>
                  <a:lnTo>
                    <a:pt x="40" y="79"/>
                  </a:lnTo>
                  <a:lnTo>
                    <a:pt x="53" y="79"/>
                  </a:lnTo>
                  <a:lnTo>
                    <a:pt x="59" y="86"/>
                  </a:lnTo>
                  <a:lnTo>
                    <a:pt x="66" y="86"/>
                  </a:lnTo>
                  <a:lnTo>
                    <a:pt x="79" y="86"/>
                  </a:lnTo>
                  <a:lnTo>
                    <a:pt x="86" y="93"/>
                  </a:lnTo>
                  <a:lnTo>
                    <a:pt x="92" y="99"/>
                  </a:lnTo>
                  <a:lnTo>
                    <a:pt x="99" y="99"/>
                  </a:lnTo>
                  <a:lnTo>
                    <a:pt x="99" y="106"/>
                  </a:lnTo>
                  <a:lnTo>
                    <a:pt x="106" y="112"/>
                  </a:lnTo>
                  <a:lnTo>
                    <a:pt x="112" y="106"/>
                  </a:lnTo>
                  <a:lnTo>
                    <a:pt x="119" y="106"/>
                  </a:lnTo>
                  <a:lnTo>
                    <a:pt x="132" y="99"/>
                  </a:lnTo>
                  <a:lnTo>
                    <a:pt x="139" y="99"/>
                  </a:lnTo>
                  <a:lnTo>
                    <a:pt x="145" y="99"/>
                  </a:lnTo>
                  <a:lnTo>
                    <a:pt x="158" y="93"/>
                  </a:lnTo>
                  <a:lnTo>
                    <a:pt x="158" y="93"/>
                  </a:lnTo>
                  <a:lnTo>
                    <a:pt x="165" y="86"/>
                  </a:lnTo>
                  <a:lnTo>
                    <a:pt x="165" y="79"/>
                  </a:lnTo>
                  <a:lnTo>
                    <a:pt x="165" y="73"/>
                  </a:lnTo>
                  <a:lnTo>
                    <a:pt x="171" y="66"/>
                  </a:lnTo>
                  <a:lnTo>
                    <a:pt x="171" y="60"/>
                  </a:lnTo>
                  <a:lnTo>
                    <a:pt x="171" y="53"/>
                  </a:lnTo>
                  <a:lnTo>
                    <a:pt x="171" y="46"/>
                  </a:lnTo>
                  <a:lnTo>
                    <a:pt x="178" y="40"/>
                  </a:lnTo>
                  <a:lnTo>
                    <a:pt x="178" y="33"/>
                  </a:lnTo>
                  <a:lnTo>
                    <a:pt x="185" y="27"/>
                  </a:lnTo>
                  <a:lnTo>
                    <a:pt x="185" y="27"/>
                  </a:lnTo>
                  <a:lnTo>
                    <a:pt x="191" y="20"/>
                  </a:lnTo>
                  <a:lnTo>
                    <a:pt x="198" y="14"/>
                  </a:lnTo>
                  <a:lnTo>
                    <a:pt x="204" y="14"/>
                  </a:lnTo>
                  <a:lnTo>
                    <a:pt x="218" y="14"/>
                  </a:lnTo>
                  <a:lnTo>
                    <a:pt x="224" y="14"/>
                  </a:lnTo>
                  <a:lnTo>
                    <a:pt x="237" y="7"/>
                  </a:lnTo>
                  <a:lnTo>
                    <a:pt x="237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8" name=""/>
            <p:cNvSpPr/>
            <p:nvPr/>
          </p:nvSpPr>
          <p:spPr>
            <a:xfrm>
              <a:off x="3173400" y="3567240"/>
              <a:ext cx="14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9" name=""/>
            <p:cNvSpPr/>
            <p:nvPr/>
          </p:nvSpPr>
          <p:spPr>
            <a:xfrm>
              <a:off x="3164040" y="3505320"/>
              <a:ext cx="61920" cy="52200"/>
            </a:xfrm>
            <a:custGeom>
              <a:avLst/>
              <a:gdLst/>
              <a:ahLst/>
              <a:rect l="l" t="t" r="r" b="b"/>
              <a:pathLst>
                <a:path w="39" h="33">
                  <a:moveTo>
                    <a:pt x="13" y="0"/>
                  </a:moveTo>
                  <a:lnTo>
                    <a:pt x="13" y="0"/>
                  </a:lnTo>
                  <a:lnTo>
                    <a:pt x="13" y="0"/>
                  </a:lnTo>
                  <a:lnTo>
                    <a:pt x="6" y="0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6" y="13"/>
                  </a:lnTo>
                  <a:lnTo>
                    <a:pt x="6" y="13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13" y="20"/>
                  </a:lnTo>
                  <a:lnTo>
                    <a:pt x="13" y="20"/>
                  </a:lnTo>
                  <a:lnTo>
                    <a:pt x="13" y="20"/>
                  </a:lnTo>
                  <a:lnTo>
                    <a:pt x="13" y="20"/>
                  </a:lnTo>
                  <a:lnTo>
                    <a:pt x="13" y="20"/>
                  </a:lnTo>
                  <a:lnTo>
                    <a:pt x="13" y="20"/>
                  </a:lnTo>
                  <a:lnTo>
                    <a:pt x="13" y="20"/>
                  </a:lnTo>
                  <a:lnTo>
                    <a:pt x="13" y="13"/>
                  </a:lnTo>
                  <a:lnTo>
                    <a:pt x="13" y="13"/>
                  </a:lnTo>
                  <a:lnTo>
                    <a:pt x="13" y="13"/>
                  </a:lnTo>
                  <a:lnTo>
                    <a:pt x="13" y="13"/>
                  </a:lnTo>
                  <a:lnTo>
                    <a:pt x="13" y="6"/>
                  </a:lnTo>
                  <a:lnTo>
                    <a:pt x="13" y="6"/>
                  </a:lnTo>
                  <a:lnTo>
                    <a:pt x="20" y="6"/>
                  </a:lnTo>
                  <a:lnTo>
                    <a:pt x="20" y="6"/>
                  </a:lnTo>
                  <a:lnTo>
                    <a:pt x="20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33" y="6"/>
                  </a:lnTo>
                  <a:lnTo>
                    <a:pt x="33" y="6"/>
                  </a:lnTo>
                  <a:lnTo>
                    <a:pt x="33" y="6"/>
                  </a:lnTo>
                  <a:lnTo>
                    <a:pt x="33" y="6"/>
                  </a:lnTo>
                  <a:lnTo>
                    <a:pt x="39" y="6"/>
                  </a:lnTo>
                  <a:lnTo>
                    <a:pt x="39" y="6"/>
                  </a:lnTo>
                  <a:lnTo>
                    <a:pt x="39" y="13"/>
                  </a:lnTo>
                  <a:lnTo>
                    <a:pt x="39" y="13"/>
                  </a:lnTo>
                  <a:lnTo>
                    <a:pt x="39" y="13"/>
                  </a:lnTo>
                  <a:lnTo>
                    <a:pt x="39" y="13"/>
                  </a:lnTo>
                  <a:lnTo>
                    <a:pt x="39" y="20"/>
                  </a:lnTo>
                  <a:lnTo>
                    <a:pt x="39" y="20"/>
                  </a:lnTo>
                  <a:lnTo>
                    <a:pt x="39" y="20"/>
                  </a:lnTo>
                  <a:lnTo>
                    <a:pt x="39" y="26"/>
                  </a:lnTo>
                  <a:lnTo>
                    <a:pt x="39" y="26"/>
                  </a:lnTo>
                  <a:lnTo>
                    <a:pt x="33" y="26"/>
                  </a:lnTo>
                  <a:lnTo>
                    <a:pt x="33" y="26"/>
                  </a:lnTo>
                  <a:lnTo>
                    <a:pt x="26" y="33"/>
                  </a:lnTo>
                  <a:lnTo>
                    <a:pt x="26" y="33"/>
                  </a:lnTo>
                  <a:lnTo>
                    <a:pt x="20" y="26"/>
                  </a:lnTo>
                  <a:lnTo>
                    <a:pt x="13" y="26"/>
                  </a:lnTo>
                  <a:lnTo>
                    <a:pt x="13" y="26"/>
                  </a:lnTo>
                  <a:lnTo>
                    <a:pt x="6" y="26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13" y="0"/>
                  </a:lnTo>
                  <a:lnTo>
                    <a:pt x="13" y="0"/>
                  </a:lnTo>
                  <a:close/>
                  <a:moveTo>
                    <a:pt x="26" y="26"/>
                  </a:moveTo>
                  <a:lnTo>
                    <a:pt x="26" y="26"/>
                  </a:lnTo>
                  <a:lnTo>
                    <a:pt x="26" y="26"/>
                  </a:lnTo>
                  <a:lnTo>
                    <a:pt x="26" y="26"/>
                  </a:lnTo>
                  <a:lnTo>
                    <a:pt x="26" y="26"/>
                  </a:lnTo>
                  <a:lnTo>
                    <a:pt x="33" y="26"/>
                  </a:lnTo>
                  <a:lnTo>
                    <a:pt x="33" y="26"/>
                  </a:lnTo>
                  <a:lnTo>
                    <a:pt x="33" y="26"/>
                  </a:lnTo>
                  <a:lnTo>
                    <a:pt x="33" y="26"/>
                  </a:lnTo>
                  <a:lnTo>
                    <a:pt x="33" y="20"/>
                  </a:lnTo>
                  <a:lnTo>
                    <a:pt x="33" y="20"/>
                  </a:lnTo>
                  <a:lnTo>
                    <a:pt x="33" y="20"/>
                  </a:lnTo>
                  <a:lnTo>
                    <a:pt x="33" y="20"/>
                  </a:lnTo>
                  <a:lnTo>
                    <a:pt x="39" y="20"/>
                  </a:lnTo>
                  <a:lnTo>
                    <a:pt x="39" y="20"/>
                  </a:lnTo>
                  <a:lnTo>
                    <a:pt x="33" y="13"/>
                  </a:lnTo>
                  <a:lnTo>
                    <a:pt x="33" y="13"/>
                  </a:lnTo>
                  <a:lnTo>
                    <a:pt x="33" y="13"/>
                  </a:lnTo>
                  <a:lnTo>
                    <a:pt x="33" y="13"/>
                  </a:lnTo>
                  <a:lnTo>
                    <a:pt x="33" y="6"/>
                  </a:lnTo>
                  <a:lnTo>
                    <a:pt x="26" y="6"/>
                  </a:lnTo>
                  <a:lnTo>
                    <a:pt x="26" y="6"/>
                  </a:lnTo>
                  <a:lnTo>
                    <a:pt x="26" y="6"/>
                  </a:lnTo>
                  <a:lnTo>
                    <a:pt x="26" y="6"/>
                  </a:lnTo>
                  <a:lnTo>
                    <a:pt x="20" y="6"/>
                  </a:lnTo>
                  <a:lnTo>
                    <a:pt x="20" y="6"/>
                  </a:lnTo>
                  <a:lnTo>
                    <a:pt x="20" y="13"/>
                  </a:lnTo>
                  <a:lnTo>
                    <a:pt x="20" y="13"/>
                  </a:lnTo>
                  <a:lnTo>
                    <a:pt x="20" y="13"/>
                  </a:lnTo>
                  <a:lnTo>
                    <a:pt x="20" y="13"/>
                  </a:lnTo>
                  <a:lnTo>
                    <a:pt x="20" y="20"/>
                  </a:lnTo>
                  <a:lnTo>
                    <a:pt x="20" y="20"/>
                  </a:lnTo>
                  <a:lnTo>
                    <a:pt x="20" y="20"/>
                  </a:lnTo>
                  <a:lnTo>
                    <a:pt x="20" y="20"/>
                  </a:lnTo>
                  <a:lnTo>
                    <a:pt x="20" y="20"/>
                  </a:lnTo>
                  <a:lnTo>
                    <a:pt x="20" y="26"/>
                  </a:lnTo>
                  <a:lnTo>
                    <a:pt x="26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0" name=""/>
            <p:cNvSpPr/>
            <p:nvPr/>
          </p:nvSpPr>
          <p:spPr>
            <a:xfrm>
              <a:off x="3173400" y="3452760"/>
              <a:ext cx="74520" cy="52560"/>
            </a:xfrm>
            <a:custGeom>
              <a:avLst/>
              <a:gdLst/>
              <a:ahLst/>
              <a:rect l="l" t="t" r="r" b="b"/>
              <a:pathLst>
                <a:path w="47" h="33">
                  <a:moveTo>
                    <a:pt x="20" y="26"/>
                  </a:moveTo>
                  <a:lnTo>
                    <a:pt x="14" y="26"/>
                  </a:lnTo>
                  <a:lnTo>
                    <a:pt x="14" y="26"/>
                  </a:lnTo>
                  <a:lnTo>
                    <a:pt x="14" y="26"/>
                  </a:lnTo>
                  <a:lnTo>
                    <a:pt x="7" y="26"/>
                  </a:lnTo>
                  <a:lnTo>
                    <a:pt x="7" y="20"/>
                  </a:lnTo>
                  <a:lnTo>
                    <a:pt x="7" y="20"/>
                  </a:lnTo>
                  <a:lnTo>
                    <a:pt x="7" y="20"/>
                  </a:lnTo>
                  <a:lnTo>
                    <a:pt x="0" y="20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0"/>
                  </a:lnTo>
                  <a:lnTo>
                    <a:pt x="7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33" y="7"/>
                  </a:lnTo>
                  <a:lnTo>
                    <a:pt x="33" y="7"/>
                  </a:lnTo>
                  <a:lnTo>
                    <a:pt x="40" y="7"/>
                  </a:lnTo>
                  <a:lnTo>
                    <a:pt x="40" y="7"/>
                  </a:lnTo>
                  <a:lnTo>
                    <a:pt x="40" y="13"/>
                  </a:lnTo>
                  <a:lnTo>
                    <a:pt x="40" y="13"/>
                  </a:lnTo>
                  <a:lnTo>
                    <a:pt x="47" y="13"/>
                  </a:lnTo>
                  <a:lnTo>
                    <a:pt x="47" y="13"/>
                  </a:lnTo>
                  <a:lnTo>
                    <a:pt x="47" y="20"/>
                  </a:lnTo>
                  <a:lnTo>
                    <a:pt x="47" y="20"/>
                  </a:lnTo>
                  <a:lnTo>
                    <a:pt x="47" y="20"/>
                  </a:lnTo>
                  <a:lnTo>
                    <a:pt x="47" y="26"/>
                  </a:lnTo>
                  <a:lnTo>
                    <a:pt x="47" y="26"/>
                  </a:lnTo>
                  <a:lnTo>
                    <a:pt x="40" y="26"/>
                  </a:lnTo>
                  <a:lnTo>
                    <a:pt x="40" y="33"/>
                  </a:lnTo>
                  <a:lnTo>
                    <a:pt x="40" y="33"/>
                  </a:lnTo>
                  <a:lnTo>
                    <a:pt x="33" y="33"/>
                  </a:lnTo>
                  <a:lnTo>
                    <a:pt x="27" y="33"/>
                  </a:lnTo>
                  <a:lnTo>
                    <a:pt x="27" y="33"/>
                  </a:lnTo>
                  <a:lnTo>
                    <a:pt x="20" y="26"/>
                  </a:lnTo>
                  <a:close/>
                  <a:moveTo>
                    <a:pt x="20" y="26"/>
                  </a:moveTo>
                  <a:lnTo>
                    <a:pt x="27" y="26"/>
                  </a:lnTo>
                  <a:lnTo>
                    <a:pt x="27" y="26"/>
                  </a:lnTo>
                  <a:lnTo>
                    <a:pt x="33" y="26"/>
                  </a:lnTo>
                  <a:lnTo>
                    <a:pt x="33" y="26"/>
                  </a:lnTo>
                  <a:lnTo>
                    <a:pt x="40" y="26"/>
                  </a:lnTo>
                  <a:lnTo>
                    <a:pt x="40" y="26"/>
                  </a:lnTo>
                  <a:lnTo>
                    <a:pt x="40" y="26"/>
                  </a:lnTo>
                  <a:lnTo>
                    <a:pt x="40" y="20"/>
                  </a:lnTo>
                  <a:lnTo>
                    <a:pt x="40" y="20"/>
                  </a:lnTo>
                  <a:lnTo>
                    <a:pt x="40" y="20"/>
                  </a:lnTo>
                  <a:lnTo>
                    <a:pt x="40" y="20"/>
                  </a:lnTo>
                  <a:lnTo>
                    <a:pt x="40" y="13"/>
                  </a:lnTo>
                  <a:lnTo>
                    <a:pt x="40" y="13"/>
                  </a:lnTo>
                  <a:lnTo>
                    <a:pt x="33" y="13"/>
                  </a:lnTo>
                  <a:lnTo>
                    <a:pt x="33" y="7"/>
                  </a:lnTo>
                  <a:lnTo>
                    <a:pt x="27" y="7"/>
                  </a:lnTo>
                  <a:lnTo>
                    <a:pt x="20" y="7"/>
                  </a:lnTo>
                  <a:lnTo>
                    <a:pt x="20" y="7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13"/>
                  </a:lnTo>
                  <a:lnTo>
                    <a:pt x="7" y="13"/>
                  </a:lnTo>
                  <a:lnTo>
                    <a:pt x="7" y="13"/>
                  </a:lnTo>
                  <a:lnTo>
                    <a:pt x="7" y="13"/>
                  </a:lnTo>
                  <a:lnTo>
                    <a:pt x="7" y="20"/>
                  </a:lnTo>
                  <a:lnTo>
                    <a:pt x="14" y="20"/>
                  </a:lnTo>
                  <a:lnTo>
                    <a:pt x="14" y="20"/>
                  </a:lnTo>
                  <a:lnTo>
                    <a:pt x="14" y="20"/>
                  </a:lnTo>
                  <a:lnTo>
                    <a:pt x="20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1" name=""/>
            <p:cNvSpPr/>
            <p:nvPr/>
          </p:nvSpPr>
          <p:spPr>
            <a:xfrm>
              <a:off x="3225960" y="3432240"/>
              <a:ext cx="14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2" name=""/>
            <p:cNvSpPr/>
            <p:nvPr/>
          </p:nvSpPr>
          <p:spPr>
            <a:xfrm>
              <a:off x="3225960" y="2711520"/>
              <a:ext cx="596880" cy="720720"/>
            </a:xfrm>
            <a:custGeom>
              <a:avLst/>
              <a:gdLst/>
              <a:ahLst/>
              <a:rect l="l" t="t" r="r" b="b"/>
              <a:pathLst>
                <a:path w="376" h="454">
                  <a:moveTo>
                    <a:pt x="0" y="454"/>
                  </a:moveTo>
                  <a:lnTo>
                    <a:pt x="0" y="447"/>
                  </a:lnTo>
                  <a:lnTo>
                    <a:pt x="7" y="441"/>
                  </a:lnTo>
                  <a:lnTo>
                    <a:pt x="7" y="434"/>
                  </a:lnTo>
                  <a:lnTo>
                    <a:pt x="7" y="427"/>
                  </a:lnTo>
                  <a:lnTo>
                    <a:pt x="14" y="421"/>
                  </a:lnTo>
                  <a:lnTo>
                    <a:pt x="14" y="421"/>
                  </a:lnTo>
                  <a:lnTo>
                    <a:pt x="20" y="414"/>
                  </a:lnTo>
                  <a:lnTo>
                    <a:pt x="20" y="408"/>
                  </a:lnTo>
                  <a:lnTo>
                    <a:pt x="27" y="401"/>
                  </a:lnTo>
                  <a:lnTo>
                    <a:pt x="27" y="395"/>
                  </a:lnTo>
                  <a:lnTo>
                    <a:pt x="33" y="388"/>
                  </a:lnTo>
                  <a:lnTo>
                    <a:pt x="33" y="381"/>
                  </a:lnTo>
                  <a:lnTo>
                    <a:pt x="33" y="375"/>
                  </a:lnTo>
                  <a:lnTo>
                    <a:pt x="33" y="368"/>
                  </a:lnTo>
                  <a:lnTo>
                    <a:pt x="40" y="368"/>
                  </a:lnTo>
                  <a:lnTo>
                    <a:pt x="40" y="362"/>
                  </a:lnTo>
                  <a:lnTo>
                    <a:pt x="40" y="355"/>
                  </a:lnTo>
                  <a:lnTo>
                    <a:pt x="46" y="348"/>
                  </a:lnTo>
                  <a:lnTo>
                    <a:pt x="46" y="342"/>
                  </a:lnTo>
                  <a:lnTo>
                    <a:pt x="53" y="335"/>
                  </a:lnTo>
                  <a:lnTo>
                    <a:pt x="53" y="329"/>
                  </a:lnTo>
                  <a:lnTo>
                    <a:pt x="60" y="322"/>
                  </a:lnTo>
                  <a:lnTo>
                    <a:pt x="60" y="316"/>
                  </a:lnTo>
                  <a:lnTo>
                    <a:pt x="66" y="316"/>
                  </a:lnTo>
                  <a:lnTo>
                    <a:pt x="66" y="309"/>
                  </a:lnTo>
                  <a:lnTo>
                    <a:pt x="66" y="302"/>
                  </a:lnTo>
                  <a:lnTo>
                    <a:pt x="73" y="296"/>
                  </a:lnTo>
                  <a:lnTo>
                    <a:pt x="73" y="289"/>
                  </a:lnTo>
                  <a:lnTo>
                    <a:pt x="73" y="283"/>
                  </a:lnTo>
                  <a:lnTo>
                    <a:pt x="73" y="276"/>
                  </a:lnTo>
                  <a:lnTo>
                    <a:pt x="79" y="269"/>
                  </a:lnTo>
                  <a:lnTo>
                    <a:pt x="79" y="263"/>
                  </a:lnTo>
                  <a:lnTo>
                    <a:pt x="86" y="256"/>
                  </a:lnTo>
                  <a:lnTo>
                    <a:pt x="86" y="256"/>
                  </a:lnTo>
                  <a:lnTo>
                    <a:pt x="93" y="250"/>
                  </a:lnTo>
                  <a:lnTo>
                    <a:pt x="99" y="243"/>
                  </a:lnTo>
                  <a:lnTo>
                    <a:pt x="99" y="237"/>
                  </a:lnTo>
                  <a:lnTo>
                    <a:pt x="106" y="230"/>
                  </a:lnTo>
                  <a:lnTo>
                    <a:pt x="106" y="223"/>
                  </a:lnTo>
                  <a:lnTo>
                    <a:pt x="106" y="217"/>
                  </a:lnTo>
                  <a:lnTo>
                    <a:pt x="106" y="210"/>
                  </a:lnTo>
                  <a:lnTo>
                    <a:pt x="112" y="210"/>
                  </a:lnTo>
                  <a:lnTo>
                    <a:pt x="119" y="204"/>
                  </a:lnTo>
                  <a:lnTo>
                    <a:pt x="126" y="197"/>
                  </a:lnTo>
                  <a:lnTo>
                    <a:pt x="132" y="197"/>
                  </a:lnTo>
                  <a:lnTo>
                    <a:pt x="139" y="190"/>
                  </a:lnTo>
                  <a:lnTo>
                    <a:pt x="145" y="184"/>
                  </a:lnTo>
                  <a:lnTo>
                    <a:pt x="145" y="177"/>
                  </a:lnTo>
                  <a:lnTo>
                    <a:pt x="152" y="177"/>
                  </a:lnTo>
                  <a:lnTo>
                    <a:pt x="158" y="171"/>
                  </a:lnTo>
                  <a:lnTo>
                    <a:pt x="165" y="164"/>
                  </a:lnTo>
                  <a:lnTo>
                    <a:pt x="178" y="164"/>
                  </a:lnTo>
                  <a:lnTo>
                    <a:pt x="185" y="158"/>
                  </a:lnTo>
                  <a:lnTo>
                    <a:pt x="191" y="158"/>
                  </a:lnTo>
                  <a:lnTo>
                    <a:pt x="198" y="164"/>
                  </a:lnTo>
                  <a:lnTo>
                    <a:pt x="205" y="171"/>
                  </a:lnTo>
                  <a:lnTo>
                    <a:pt x="211" y="177"/>
                  </a:lnTo>
                  <a:lnTo>
                    <a:pt x="218" y="177"/>
                  </a:lnTo>
                  <a:lnTo>
                    <a:pt x="224" y="184"/>
                  </a:lnTo>
                  <a:lnTo>
                    <a:pt x="231" y="190"/>
                  </a:lnTo>
                  <a:lnTo>
                    <a:pt x="231" y="190"/>
                  </a:lnTo>
                  <a:lnTo>
                    <a:pt x="238" y="197"/>
                  </a:lnTo>
                  <a:lnTo>
                    <a:pt x="244" y="204"/>
                  </a:lnTo>
                  <a:lnTo>
                    <a:pt x="251" y="210"/>
                  </a:lnTo>
                  <a:lnTo>
                    <a:pt x="251" y="210"/>
                  </a:lnTo>
                  <a:lnTo>
                    <a:pt x="257" y="217"/>
                  </a:lnTo>
                  <a:lnTo>
                    <a:pt x="264" y="223"/>
                  </a:lnTo>
                  <a:lnTo>
                    <a:pt x="271" y="230"/>
                  </a:lnTo>
                  <a:lnTo>
                    <a:pt x="271" y="237"/>
                  </a:lnTo>
                  <a:lnTo>
                    <a:pt x="277" y="243"/>
                  </a:lnTo>
                  <a:lnTo>
                    <a:pt x="277" y="243"/>
                  </a:lnTo>
                  <a:lnTo>
                    <a:pt x="284" y="243"/>
                  </a:lnTo>
                  <a:lnTo>
                    <a:pt x="290" y="237"/>
                  </a:lnTo>
                  <a:lnTo>
                    <a:pt x="297" y="230"/>
                  </a:lnTo>
                  <a:lnTo>
                    <a:pt x="310" y="230"/>
                  </a:lnTo>
                  <a:lnTo>
                    <a:pt x="317" y="223"/>
                  </a:lnTo>
                  <a:lnTo>
                    <a:pt x="323" y="223"/>
                  </a:lnTo>
                  <a:lnTo>
                    <a:pt x="330" y="217"/>
                  </a:lnTo>
                  <a:lnTo>
                    <a:pt x="330" y="210"/>
                  </a:lnTo>
                  <a:lnTo>
                    <a:pt x="343" y="204"/>
                  </a:lnTo>
                  <a:lnTo>
                    <a:pt x="350" y="204"/>
                  </a:lnTo>
                  <a:lnTo>
                    <a:pt x="356" y="204"/>
                  </a:lnTo>
                  <a:lnTo>
                    <a:pt x="363" y="197"/>
                  </a:lnTo>
                  <a:lnTo>
                    <a:pt x="369" y="190"/>
                  </a:lnTo>
                  <a:lnTo>
                    <a:pt x="376" y="184"/>
                  </a:lnTo>
                  <a:lnTo>
                    <a:pt x="369" y="177"/>
                  </a:lnTo>
                  <a:lnTo>
                    <a:pt x="369" y="171"/>
                  </a:lnTo>
                  <a:lnTo>
                    <a:pt x="363" y="171"/>
                  </a:lnTo>
                  <a:lnTo>
                    <a:pt x="356" y="164"/>
                  </a:lnTo>
                  <a:lnTo>
                    <a:pt x="343" y="164"/>
                  </a:lnTo>
                  <a:lnTo>
                    <a:pt x="336" y="164"/>
                  </a:lnTo>
                  <a:lnTo>
                    <a:pt x="330" y="158"/>
                  </a:lnTo>
                  <a:lnTo>
                    <a:pt x="330" y="151"/>
                  </a:lnTo>
                  <a:lnTo>
                    <a:pt x="330" y="144"/>
                  </a:lnTo>
                  <a:lnTo>
                    <a:pt x="323" y="138"/>
                  </a:lnTo>
                  <a:lnTo>
                    <a:pt x="323" y="131"/>
                  </a:lnTo>
                  <a:lnTo>
                    <a:pt x="317" y="125"/>
                  </a:lnTo>
                  <a:lnTo>
                    <a:pt x="310" y="118"/>
                  </a:lnTo>
                  <a:lnTo>
                    <a:pt x="310" y="118"/>
                  </a:lnTo>
                  <a:lnTo>
                    <a:pt x="310" y="111"/>
                  </a:lnTo>
                  <a:lnTo>
                    <a:pt x="317" y="105"/>
                  </a:lnTo>
                  <a:lnTo>
                    <a:pt x="323" y="98"/>
                  </a:lnTo>
                  <a:lnTo>
                    <a:pt x="330" y="98"/>
                  </a:lnTo>
                  <a:lnTo>
                    <a:pt x="343" y="92"/>
                  </a:lnTo>
                  <a:lnTo>
                    <a:pt x="350" y="92"/>
                  </a:lnTo>
                  <a:lnTo>
                    <a:pt x="350" y="85"/>
                  </a:lnTo>
                  <a:lnTo>
                    <a:pt x="356" y="79"/>
                  </a:lnTo>
                  <a:lnTo>
                    <a:pt x="356" y="72"/>
                  </a:lnTo>
                  <a:lnTo>
                    <a:pt x="350" y="65"/>
                  </a:lnTo>
                  <a:lnTo>
                    <a:pt x="350" y="59"/>
                  </a:lnTo>
                  <a:lnTo>
                    <a:pt x="343" y="52"/>
                  </a:lnTo>
                  <a:lnTo>
                    <a:pt x="336" y="52"/>
                  </a:lnTo>
                  <a:lnTo>
                    <a:pt x="330" y="46"/>
                  </a:lnTo>
                  <a:lnTo>
                    <a:pt x="323" y="39"/>
                  </a:lnTo>
                  <a:lnTo>
                    <a:pt x="317" y="32"/>
                  </a:lnTo>
                  <a:lnTo>
                    <a:pt x="317" y="32"/>
                  </a:lnTo>
                  <a:lnTo>
                    <a:pt x="310" y="26"/>
                  </a:lnTo>
                  <a:lnTo>
                    <a:pt x="303" y="19"/>
                  </a:lnTo>
                  <a:lnTo>
                    <a:pt x="297" y="13"/>
                  </a:lnTo>
                  <a:lnTo>
                    <a:pt x="290" y="13"/>
                  </a:lnTo>
                  <a:lnTo>
                    <a:pt x="284" y="6"/>
                  </a:lnTo>
                  <a:lnTo>
                    <a:pt x="28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3" name=""/>
            <p:cNvSpPr/>
            <p:nvPr/>
          </p:nvSpPr>
          <p:spPr>
            <a:xfrm flipH="1">
              <a:off x="3111120" y="2909880"/>
              <a:ext cx="9720" cy="9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4" name=""/>
            <p:cNvSpPr/>
            <p:nvPr/>
          </p:nvSpPr>
          <p:spPr>
            <a:xfrm>
              <a:off x="3006720" y="2919240"/>
              <a:ext cx="104760" cy="189000"/>
            </a:xfrm>
            <a:custGeom>
              <a:avLst/>
              <a:gdLst/>
              <a:ahLst/>
              <a:rect l="l" t="t" r="r" b="b"/>
              <a:pathLst>
                <a:path w="66" h="119">
                  <a:moveTo>
                    <a:pt x="66" y="0"/>
                  </a:moveTo>
                  <a:lnTo>
                    <a:pt x="59" y="7"/>
                  </a:lnTo>
                  <a:lnTo>
                    <a:pt x="59" y="13"/>
                  </a:lnTo>
                  <a:lnTo>
                    <a:pt x="53" y="20"/>
                  </a:lnTo>
                  <a:lnTo>
                    <a:pt x="53" y="27"/>
                  </a:lnTo>
                  <a:lnTo>
                    <a:pt x="46" y="33"/>
                  </a:lnTo>
                  <a:lnTo>
                    <a:pt x="46" y="40"/>
                  </a:lnTo>
                  <a:lnTo>
                    <a:pt x="39" y="46"/>
                  </a:lnTo>
                  <a:lnTo>
                    <a:pt x="33" y="46"/>
                  </a:lnTo>
                  <a:lnTo>
                    <a:pt x="33" y="53"/>
                  </a:lnTo>
                  <a:lnTo>
                    <a:pt x="26" y="59"/>
                  </a:lnTo>
                  <a:lnTo>
                    <a:pt x="20" y="66"/>
                  </a:lnTo>
                  <a:lnTo>
                    <a:pt x="20" y="73"/>
                  </a:lnTo>
                  <a:lnTo>
                    <a:pt x="13" y="79"/>
                  </a:lnTo>
                  <a:lnTo>
                    <a:pt x="7" y="86"/>
                  </a:lnTo>
                  <a:lnTo>
                    <a:pt x="0" y="92"/>
                  </a:lnTo>
                  <a:lnTo>
                    <a:pt x="7" y="99"/>
                  </a:lnTo>
                  <a:lnTo>
                    <a:pt x="7" y="106"/>
                  </a:lnTo>
                  <a:lnTo>
                    <a:pt x="13" y="112"/>
                  </a:lnTo>
                  <a:lnTo>
                    <a:pt x="20" y="119"/>
                  </a:lnTo>
                  <a:lnTo>
                    <a:pt x="26" y="119"/>
                  </a:lnTo>
                  <a:lnTo>
                    <a:pt x="33" y="112"/>
                  </a:lnTo>
                  <a:lnTo>
                    <a:pt x="39" y="106"/>
                  </a:lnTo>
                  <a:lnTo>
                    <a:pt x="46" y="99"/>
                  </a:lnTo>
                  <a:lnTo>
                    <a:pt x="46" y="92"/>
                  </a:lnTo>
                  <a:lnTo>
                    <a:pt x="53" y="86"/>
                  </a:lnTo>
                  <a:lnTo>
                    <a:pt x="59" y="86"/>
                  </a:lnTo>
                  <a:lnTo>
                    <a:pt x="59" y="92"/>
                  </a:lnTo>
                  <a:lnTo>
                    <a:pt x="59" y="99"/>
                  </a:lnTo>
                  <a:lnTo>
                    <a:pt x="53" y="106"/>
                  </a:lnTo>
                  <a:lnTo>
                    <a:pt x="46" y="112"/>
                  </a:lnTo>
                  <a:lnTo>
                    <a:pt x="39" y="11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5" name=""/>
            <p:cNvSpPr/>
            <p:nvPr/>
          </p:nvSpPr>
          <p:spPr>
            <a:xfrm>
              <a:off x="3068640" y="3108240"/>
              <a:ext cx="14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6" name=""/>
            <p:cNvSpPr/>
            <p:nvPr/>
          </p:nvSpPr>
          <p:spPr>
            <a:xfrm>
              <a:off x="2995560" y="3170160"/>
              <a:ext cx="63720" cy="52560"/>
            </a:xfrm>
            <a:custGeom>
              <a:avLst/>
              <a:gdLst/>
              <a:ahLst/>
              <a:rect l="l" t="t" r="r" b="b"/>
              <a:pathLst>
                <a:path w="40" h="33">
                  <a:moveTo>
                    <a:pt x="14" y="0"/>
                  </a:moveTo>
                  <a:lnTo>
                    <a:pt x="14" y="7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13"/>
                  </a:lnTo>
                  <a:lnTo>
                    <a:pt x="7" y="13"/>
                  </a:lnTo>
                  <a:lnTo>
                    <a:pt x="7" y="13"/>
                  </a:lnTo>
                  <a:lnTo>
                    <a:pt x="7" y="13"/>
                  </a:lnTo>
                  <a:lnTo>
                    <a:pt x="7" y="13"/>
                  </a:lnTo>
                  <a:lnTo>
                    <a:pt x="7" y="13"/>
                  </a:lnTo>
                  <a:lnTo>
                    <a:pt x="7" y="20"/>
                  </a:lnTo>
                  <a:lnTo>
                    <a:pt x="7" y="20"/>
                  </a:lnTo>
                  <a:lnTo>
                    <a:pt x="7" y="20"/>
                  </a:lnTo>
                  <a:lnTo>
                    <a:pt x="14" y="20"/>
                  </a:lnTo>
                  <a:lnTo>
                    <a:pt x="14" y="20"/>
                  </a:lnTo>
                  <a:lnTo>
                    <a:pt x="14" y="27"/>
                  </a:lnTo>
                  <a:lnTo>
                    <a:pt x="14" y="20"/>
                  </a:lnTo>
                  <a:lnTo>
                    <a:pt x="14" y="20"/>
                  </a:lnTo>
                  <a:lnTo>
                    <a:pt x="14" y="20"/>
                  </a:lnTo>
                  <a:lnTo>
                    <a:pt x="14" y="20"/>
                  </a:lnTo>
                  <a:lnTo>
                    <a:pt x="14" y="20"/>
                  </a:lnTo>
                  <a:lnTo>
                    <a:pt x="14" y="13"/>
                  </a:lnTo>
                  <a:lnTo>
                    <a:pt x="14" y="13"/>
                  </a:lnTo>
                  <a:lnTo>
                    <a:pt x="14" y="13"/>
                  </a:lnTo>
                  <a:lnTo>
                    <a:pt x="14" y="13"/>
                  </a:lnTo>
                  <a:lnTo>
                    <a:pt x="20" y="7"/>
                  </a:lnTo>
                  <a:lnTo>
                    <a:pt x="20" y="7"/>
                  </a:lnTo>
                  <a:lnTo>
                    <a:pt x="20" y="7"/>
                  </a:lnTo>
                  <a:lnTo>
                    <a:pt x="27" y="7"/>
                  </a:lnTo>
                  <a:lnTo>
                    <a:pt x="27" y="7"/>
                  </a:lnTo>
                  <a:lnTo>
                    <a:pt x="27" y="7"/>
                  </a:lnTo>
                  <a:lnTo>
                    <a:pt x="33" y="7"/>
                  </a:lnTo>
                  <a:lnTo>
                    <a:pt x="33" y="7"/>
                  </a:lnTo>
                  <a:lnTo>
                    <a:pt x="33" y="7"/>
                  </a:lnTo>
                  <a:lnTo>
                    <a:pt x="40" y="7"/>
                  </a:lnTo>
                  <a:lnTo>
                    <a:pt x="40" y="13"/>
                  </a:lnTo>
                  <a:lnTo>
                    <a:pt x="40" y="13"/>
                  </a:lnTo>
                  <a:lnTo>
                    <a:pt x="40" y="13"/>
                  </a:lnTo>
                  <a:lnTo>
                    <a:pt x="40" y="13"/>
                  </a:lnTo>
                  <a:lnTo>
                    <a:pt x="40" y="20"/>
                  </a:lnTo>
                  <a:lnTo>
                    <a:pt x="40" y="20"/>
                  </a:lnTo>
                  <a:lnTo>
                    <a:pt x="40" y="20"/>
                  </a:lnTo>
                  <a:lnTo>
                    <a:pt x="40" y="20"/>
                  </a:lnTo>
                  <a:lnTo>
                    <a:pt x="40" y="27"/>
                  </a:lnTo>
                  <a:lnTo>
                    <a:pt x="40" y="27"/>
                  </a:lnTo>
                  <a:lnTo>
                    <a:pt x="40" y="27"/>
                  </a:lnTo>
                  <a:lnTo>
                    <a:pt x="33" y="33"/>
                  </a:lnTo>
                  <a:lnTo>
                    <a:pt x="33" y="33"/>
                  </a:lnTo>
                  <a:lnTo>
                    <a:pt x="27" y="33"/>
                  </a:lnTo>
                  <a:lnTo>
                    <a:pt x="27" y="33"/>
                  </a:lnTo>
                  <a:lnTo>
                    <a:pt x="20" y="33"/>
                  </a:lnTo>
                  <a:lnTo>
                    <a:pt x="14" y="33"/>
                  </a:lnTo>
                  <a:lnTo>
                    <a:pt x="14" y="27"/>
                  </a:lnTo>
                  <a:lnTo>
                    <a:pt x="7" y="27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14" y="0"/>
                  </a:lnTo>
                  <a:lnTo>
                    <a:pt x="14" y="0"/>
                  </a:lnTo>
                  <a:close/>
                  <a:moveTo>
                    <a:pt x="27" y="27"/>
                  </a:moveTo>
                  <a:lnTo>
                    <a:pt x="27" y="27"/>
                  </a:lnTo>
                  <a:lnTo>
                    <a:pt x="27" y="27"/>
                  </a:lnTo>
                  <a:lnTo>
                    <a:pt x="27" y="27"/>
                  </a:lnTo>
                  <a:lnTo>
                    <a:pt x="27" y="27"/>
                  </a:lnTo>
                  <a:lnTo>
                    <a:pt x="33" y="27"/>
                  </a:lnTo>
                  <a:lnTo>
                    <a:pt x="33" y="27"/>
                  </a:lnTo>
                  <a:lnTo>
                    <a:pt x="33" y="27"/>
                  </a:lnTo>
                  <a:lnTo>
                    <a:pt x="33" y="27"/>
                  </a:lnTo>
                  <a:lnTo>
                    <a:pt x="33" y="27"/>
                  </a:lnTo>
                  <a:lnTo>
                    <a:pt x="33" y="27"/>
                  </a:lnTo>
                  <a:lnTo>
                    <a:pt x="33" y="27"/>
                  </a:lnTo>
                  <a:lnTo>
                    <a:pt x="33" y="20"/>
                  </a:lnTo>
                  <a:lnTo>
                    <a:pt x="40" y="20"/>
                  </a:lnTo>
                  <a:lnTo>
                    <a:pt x="40" y="20"/>
                  </a:lnTo>
                  <a:lnTo>
                    <a:pt x="40" y="20"/>
                  </a:lnTo>
                  <a:lnTo>
                    <a:pt x="33" y="13"/>
                  </a:lnTo>
                  <a:lnTo>
                    <a:pt x="33" y="13"/>
                  </a:lnTo>
                  <a:lnTo>
                    <a:pt x="33" y="13"/>
                  </a:lnTo>
                  <a:lnTo>
                    <a:pt x="33" y="13"/>
                  </a:lnTo>
                  <a:lnTo>
                    <a:pt x="33" y="13"/>
                  </a:lnTo>
                  <a:lnTo>
                    <a:pt x="27" y="13"/>
                  </a:lnTo>
                  <a:lnTo>
                    <a:pt x="27" y="13"/>
                  </a:lnTo>
                  <a:lnTo>
                    <a:pt x="27" y="13"/>
                  </a:lnTo>
                  <a:lnTo>
                    <a:pt x="20" y="13"/>
                  </a:lnTo>
                  <a:lnTo>
                    <a:pt x="20" y="13"/>
                  </a:lnTo>
                  <a:lnTo>
                    <a:pt x="20" y="13"/>
                  </a:lnTo>
                  <a:lnTo>
                    <a:pt x="20" y="13"/>
                  </a:lnTo>
                  <a:lnTo>
                    <a:pt x="20" y="13"/>
                  </a:lnTo>
                  <a:lnTo>
                    <a:pt x="20" y="20"/>
                  </a:lnTo>
                  <a:lnTo>
                    <a:pt x="20" y="20"/>
                  </a:lnTo>
                  <a:lnTo>
                    <a:pt x="20" y="20"/>
                  </a:lnTo>
                  <a:lnTo>
                    <a:pt x="20" y="20"/>
                  </a:lnTo>
                  <a:lnTo>
                    <a:pt x="20" y="27"/>
                  </a:lnTo>
                  <a:lnTo>
                    <a:pt x="20" y="27"/>
                  </a:lnTo>
                  <a:lnTo>
                    <a:pt x="20" y="27"/>
                  </a:lnTo>
                  <a:lnTo>
                    <a:pt x="27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7" name=""/>
            <p:cNvSpPr/>
            <p:nvPr/>
          </p:nvSpPr>
          <p:spPr>
            <a:xfrm>
              <a:off x="3017880" y="3117960"/>
              <a:ext cx="61920" cy="52200"/>
            </a:xfrm>
            <a:custGeom>
              <a:avLst/>
              <a:gdLst/>
              <a:ahLst/>
              <a:rect l="l" t="t" r="r" b="b"/>
              <a:pathLst>
                <a:path w="39" h="33">
                  <a:moveTo>
                    <a:pt x="13" y="33"/>
                  </a:moveTo>
                  <a:lnTo>
                    <a:pt x="13" y="33"/>
                  </a:lnTo>
                  <a:lnTo>
                    <a:pt x="6" y="27"/>
                  </a:lnTo>
                  <a:lnTo>
                    <a:pt x="6" y="27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9" y="0"/>
                  </a:lnTo>
                  <a:lnTo>
                    <a:pt x="19" y="7"/>
                  </a:lnTo>
                  <a:lnTo>
                    <a:pt x="19" y="7"/>
                  </a:lnTo>
                  <a:lnTo>
                    <a:pt x="26" y="7"/>
                  </a:lnTo>
                  <a:lnTo>
                    <a:pt x="26" y="7"/>
                  </a:lnTo>
                  <a:lnTo>
                    <a:pt x="32" y="7"/>
                  </a:lnTo>
                  <a:lnTo>
                    <a:pt x="32" y="13"/>
                  </a:lnTo>
                  <a:lnTo>
                    <a:pt x="32" y="13"/>
                  </a:lnTo>
                  <a:lnTo>
                    <a:pt x="39" y="13"/>
                  </a:lnTo>
                  <a:lnTo>
                    <a:pt x="39" y="13"/>
                  </a:lnTo>
                  <a:lnTo>
                    <a:pt x="39" y="20"/>
                  </a:lnTo>
                  <a:lnTo>
                    <a:pt x="39" y="20"/>
                  </a:lnTo>
                  <a:lnTo>
                    <a:pt x="39" y="20"/>
                  </a:lnTo>
                  <a:lnTo>
                    <a:pt x="39" y="20"/>
                  </a:lnTo>
                  <a:lnTo>
                    <a:pt x="39" y="27"/>
                  </a:lnTo>
                  <a:lnTo>
                    <a:pt x="39" y="27"/>
                  </a:lnTo>
                  <a:lnTo>
                    <a:pt x="39" y="27"/>
                  </a:lnTo>
                  <a:lnTo>
                    <a:pt x="32" y="33"/>
                  </a:lnTo>
                  <a:lnTo>
                    <a:pt x="32" y="33"/>
                  </a:lnTo>
                  <a:lnTo>
                    <a:pt x="32" y="33"/>
                  </a:lnTo>
                  <a:lnTo>
                    <a:pt x="26" y="33"/>
                  </a:lnTo>
                  <a:lnTo>
                    <a:pt x="26" y="33"/>
                  </a:lnTo>
                  <a:lnTo>
                    <a:pt x="19" y="33"/>
                  </a:lnTo>
                  <a:lnTo>
                    <a:pt x="13" y="33"/>
                  </a:lnTo>
                  <a:close/>
                  <a:moveTo>
                    <a:pt x="13" y="27"/>
                  </a:moveTo>
                  <a:lnTo>
                    <a:pt x="19" y="27"/>
                  </a:lnTo>
                  <a:lnTo>
                    <a:pt x="26" y="27"/>
                  </a:lnTo>
                  <a:lnTo>
                    <a:pt x="26" y="33"/>
                  </a:lnTo>
                  <a:lnTo>
                    <a:pt x="32" y="27"/>
                  </a:lnTo>
                  <a:lnTo>
                    <a:pt x="32" y="27"/>
                  </a:lnTo>
                  <a:lnTo>
                    <a:pt x="32" y="27"/>
                  </a:lnTo>
                  <a:lnTo>
                    <a:pt x="32" y="27"/>
                  </a:lnTo>
                  <a:lnTo>
                    <a:pt x="32" y="27"/>
                  </a:lnTo>
                  <a:lnTo>
                    <a:pt x="32" y="27"/>
                  </a:lnTo>
                  <a:lnTo>
                    <a:pt x="32" y="20"/>
                  </a:lnTo>
                  <a:lnTo>
                    <a:pt x="32" y="20"/>
                  </a:lnTo>
                  <a:lnTo>
                    <a:pt x="32" y="20"/>
                  </a:lnTo>
                  <a:lnTo>
                    <a:pt x="32" y="13"/>
                  </a:lnTo>
                  <a:lnTo>
                    <a:pt x="32" y="13"/>
                  </a:lnTo>
                  <a:lnTo>
                    <a:pt x="26" y="13"/>
                  </a:lnTo>
                  <a:lnTo>
                    <a:pt x="19" y="13"/>
                  </a:lnTo>
                  <a:lnTo>
                    <a:pt x="19" y="7"/>
                  </a:lnTo>
                  <a:lnTo>
                    <a:pt x="13" y="7"/>
                  </a:lnTo>
                  <a:lnTo>
                    <a:pt x="13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13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13" y="27"/>
                  </a:lnTo>
                  <a:lnTo>
                    <a:pt x="13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8" name=""/>
            <p:cNvSpPr/>
            <p:nvPr/>
          </p:nvSpPr>
          <p:spPr>
            <a:xfrm>
              <a:off x="3006720" y="3243240"/>
              <a:ext cx="14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9" name=""/>
            <p:cNvSpPr/>
            <p:nvPr/>
          </p:nvSpPr>
          <p:spPr>
            <a:xfrm>
              <a:off x="2389320" y="3243240"/>
              <a:ext cx="669960" cy="387360"/>
            </a:xfrm>
            <a:custGeom>
              <a:avLst/>
              <a:gdLst/>
              <a:ahLst/>
              <a:rect l="l" t="t" r="r" b="b"/>
              <a:pathLst>
                <a:path w="422" h="244">
                  <a:moveTo>
                    <a:pt x="389" y="0"/>
                  </a:moveTo>
                  <a:lnTo>
                    <a:pt x="389" y="7"/>
                  </a:lnTo>
                  <a:lnTo>
                    <a:pt x="382" y="13"/>
                  </a:lnTo>
                  <a:lnTo>
                    <a:pt x="382" y="20"/>
                  </a:lnTo>
                  <a:lnTo>
                    <a:pt x="382" y="27"/>
                  </a:lnTo>
                  <a:lnTo>
                    <a:pt x="376" y="33"/>
                  </a:lnTo>
                  <a:lnTo>
                    <a:pt x="369" y="40"/>
                  </a:lnTo>
                  <a:lnTo>
                    <a:pt x="369" y="46"/>
                  </a:lnTo>
                  <a:lnTo>
                    <a:pt x="363" y="53"/>
                  </a:lnTo>
                  <a:lnTo>
                    <a:pt x="363" y="60"/>
                  </a:lnTo>
                  <a:lnTo>
                    <a:pt x="363" y="66"/>
                  </a:lnTo>
                  <a:lnTo>
                    <a:pt x="369" y="73"/>
                  </a:lnTo>
                  <a:lnTo>
                    <a:pt x="376" y="79"/>
                  </a:lnTo>
                  <a:lnTo>
                    <a:pt x="382" y="86"/>
                  </a:lnTo>
                  <a:lnTo>
                    <a:pt x="389" y="86"/>
                  </a:lnTo>
                  <a:lnTo>
                    <a:pt x="396" y="79"/>
                  </a:lnTo>
                  <a:lnTo>
                    <a:pt x="402" y="73"/>
                  </a:lnTo>
                  <a:lnTo>
                    <a:pt x="409" y="66"/>
                  </a:lnTo>
                  <a:lnTo>
                    <a:pt x="415" y="60"/>
                  </a:lnTo>
                  <a:lnTo>
                    <a:pt x="415" y="60"/>
                  </a:lnTo>
                  <a:lnTo>
                    <a:pt x="422" y="66"/>
                  </a:lnTo>
                  <a:lnTo>
                    <a:pt x="422" y="79"/>
                  </a:lnTo>
                  <a:lnTo>
                    <a:pt x="422" y="86"/>
                  </a:lnTo>
                  <a:lnTo>
                    <a:pt x="422" y="92"/>
                  </a:lnTo>
                  <a:lnTo>
                    <a:pt x="415" y="99"/>
                  </a:lnTo>
                  <a:lnTo>
                    <a:pt x="415" y="106"/>
                  </a:lnTo>
                  <a:lnTo>
                    <a:pt x="409" y="112"/>
                  </a:lnTo>
                  <a:lnTo>
                    <a:pt x="409" y="119"/>
                  </a:lnTo>
                  <a:lnTo>
                    <a:pt x="402" y="125"/>
                  </a:lnTo>
                  <a:lnTo>
                    <a:pt x="402" y="125"/>
                  </a:lnTo>
                  <a:lnTo>
                    <a:pt x="396" y="132"/>
                  </a:lnTo>
                  <a:lnTo>
                    <a:pt x="396" y="145"/>
                  </a:lnTo>
                  <a:lnTo>
                    <a:pt x="396" y="152"/>
                  </a:lnTo>
                  <a:lnTo>
                    <a:pt x="389" y="158"/>
                  </a:lnTo>
                  <a:lnTo>
                    <a:pt x="382" y="158"/>
                  </a:lnTo>
                  <a:lnTo>
                    <a:pt x="376" y="152"/>
                  </a:lnTo>
                  <a:lnTo>
                    <a:pt x="369" y="145"/>
                  </a:lnTo>
                  <a:lnTo>
                    <a:pt x="363" y="139"/>
                  </a:lnTo>
                  <a:lnTo>
                    <a:pt x="363" y="132"/>
                  </a:lnTo>
                  <a:lnTo>
                    <a:pt x="363" y="125"/>
                  </a:lnTo>
                  <a:lnTo>
                    <a:pt x="363" y="119"/>
                  </a:lnTo>
                  <a:lnTo>
                    <a:pt x="369" y="112"/>
                  </a:lnTo>
                  <a:lnTo>
                    <a:pt x="376" y="106"/>
                  </a:lnTo>
                  <a:lnTo>
                    <a:pt x="376" y="106"/>
                  </a:lnTo>
                  <a:lnTo>
                    <a:pt x="382" y="99"/>
                  </a:lnTo>
                  <a:lnTo>
                    <a:pt x="389" y="92"/>
                  </a:lnTo>
                  <a:lnTo>
                    <a:pt x="382" y="86"/>
                  </a:lnTo>
                  <a:lnTo>
                    <a:pt x="382" y="73"/>
                  </a:lnTo>
                  <a:lnTo>
                    <a:pt x="376" y="66"/>
                  </a:lnTo>
                  <a:lnTo>
                    <a:pt x="369" y="60"/>
                  </a:lnTo>
                  <a:lnTo>
                    <a:pt x="363" y="60"/>
                  </a:lnTo>
                  <a:lnTo>
                    <a:pt x="356" y="60"/>
                  </a:lnTo>
                  <a:lnTo>
                    <a:pt x="356" y="66"/>
                  </a:lnTo>
                  <a:lnTo>
                    <a:pt x="349" y="73"/>
                  </a:lnTo>
                  <a:lnTo>
                    <a:pt x="349" y="79"/>
                  </a:lnTo>
                  <a:lnTo>
                    <a:pt x="349" y="92"/>
                  </a:lnTo>
                  <a:lnTo>
                    <a:pt x="349" y="99"/>
                  </a:lnTo>
                  <a:lnTo>
                    <a:pt x="349" y="106"/>
                  </a:lnTo>
                  <a:lnTo>
                    <a:pt x="343" y="112"/>
                  </a:lnTo>
                  <a:lnTo>
                    <a:pt x="336" y="112"/>
                  </a:lnTo>
                  <a:lnTo>
                    <a:pt x="330" y="119"/>
                  </a:lnTo>
                  <a:lnTo>
                    <a:pt x="323" y="125"/>
                  </a:lnTo>
                  <a:lnTo>
                    <a:pt x="323" y="132"/>
                  </a:lnTo>
                  <a:lnTo>
                    <a:pt x="323" y="139"/>
                  </a:lnTo>
                  <a:lnTo>
                    <a:pt x="316" y="145"/>
                  </a:lnTo>
                  <a:lnTo>
                    <a:pt x="316" y="152"/>
                  </a:lnTo>
                  <a:lnTo>
                    <a:pt x="310" y="158"/>
                  </a:lnTo>
                  <a:lnTo>
                    <a:pt x="303" y="158"/>
                  </a:lnTo>
                  <a:lnTo>
                    <a:pt x="297" y="165"/>
                  </a:lnTo>
                  <a:lnTo>
                    <a:pt x="290" y="171"/>
                  </a:lnTo>
                  <a:lnTo>
                    <a:pt x="284" y="171"/>
                  </a:lnTo>
                  <a:lnTo>
                    <a:pt x="270" y="178"/>
                  </a:lnTo>
                  <a:lnTo>
                    <a:pt x="264" y="185"/>
                  </a:lnTo>
                  <a:lnTo>
                    <a:pt x="257" y="191"/>
                  </a:lnTo>
                  <a:lnTo>
                    <a:pt x="251" y="198"/>
                  </a:lnTo>
                  <a:lnTo>
                    <a:pt x="244" y="198"/>
                  </a:lnTo>
                  <a:lnTo>
                    <a:pt x="237" y="191"/>
                  </a:lnTo>
                  <a:lnTo>
                    <a:pt x="237" y="185"/>
                  </a:lnTo>
                  <a:lnTo>
                    <a:pt x="231" y="178"/>
                  </a:lnTo>
                  <a:lnTo>
                    <a:pt x="218" y="171"/>
                  </a:lnTo>
                  <a:lnTo>
                    <a:pt x="211" y="171"/>
                  </a:lnTo>
                  <a:lnTo>
                    <a:pt x="198" y="178"/>
                  </a:lnTo>
                  <a:lnTo>
                    <a:pt x="191" y="185"/>
                  </a:lnTo>
                  <a:lnTo>
                    <a:pt x="185" y="185"/>
                  </a:lnTo>
                  <a:lnTo>
                    <a:pt x="185" y="191"/>
                  </a:lnTo>
                  <a:lnTo>
                    <a:pt x="178" y="198"/>
                  </a:lnTo>
                  <a:lnTo>
                    <a:pt x="172" y="204"/>
                  </a:lnTo>
                  <a:lnTo>
                    <a:pt x="165" y="211"/>
                  </a:lnTo>
                  <a:lnTo>
                    <a:pt x="158" y="211"/>
                  </a:lnTo>
                  <a:lnTo>
                    <a:pt x="145" y="218"/>
                  </a:lnTo>
                  <a:lnTo>
                    <a:pt x="139" y="218"/>
                  </a:lnTo>
                  <a:lnTo>
                    <a:pt x="132" y="224"/>
                  </a:lnTo>
                  <a:lnTo>
                    <a:pt x="132" y="231"/>
                  </a:lnTo>
                  <a:lnTo>
                    <a:pt x="125" y="237"/>
                  </a:lnTo>
                  <a:lnTo>
                    <a:pt x="119" y="244"/>
                  </a:lnTo>
                  <a:lnTo>
                    <a:pt x="106" y="244"/>
                  </a:lnTo>
                  <a:lnTo>
                    <a:pt x="99" y="244"/>
                  </a:lnTo>
                  <a:lnTo>
                    <a:pt x="86" y="237"/>
                  </a:lnTo>
                  <a:lnTo>
                    <a:pt x="79" y="231"/>
                  </a:lnTo>
                  <a:lnTo>
                    <a:pt x="79" y="224"/>
                  </a:lnTo>
                  <a:lnTo>
                    <a:pt x="73" y="224"/>
                  </a:lnTo>
                  <a:lnTo>
                    <a:pt x="66" y="218"/>
                  </a:lnTo>
                  <a:lnTo>
                    <a:pt x="53" y="218"/>
                  </a:lnTo>
                  <a:lnTo>
                    <a:pt x="46" y="218"/>
                  </a:lnTo>
                  <a:lnTo>
                    <a:pt x="33" y="218"/>
                  </a:lnTo>
                  <a:lnTo>
                    <a:pt x="27" y="218"/>
                  </a:lnTo>
                  <a:lnTo>
                    <a:pt x="13" y="211"/>
                  </a:lnTo>
                  <a:lnTo>
                    <a:pt x="7" y="204"/>
                  </a:lnTo>
                  <a:lnTo>
                    <a:pt x="7" y="198"/>
                  </a:lnTo>
                  <a:lnTo>
                    <a:pt x="0" y="19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0" name=""/>
            <p:cNvSpPr/>
            <p:nvPr/>
          </p:nvSpPr>
          <p:spPr>
            <a:xfrm>
              <a:off x="2327400" y="3557520"/>
              <a:ext cx="460080" cy="219240"/>
            </a:xfrm>
            <a:custGeom>
              <a:avLst/>
              <a:gdLst/>
              <a:ahLst/>
              <a:rect l="l" t="t" r="r" b="b"/>
              <a:pathLst>
                <a:path w="290" h="138">
                  <a:moveTo>
                    <a:pt x="33" y="0"/>
                  </a:moveTo>
                  <a:lnTo>
                    <a:pt x="26" y="0"/>
                  </a:lnTo>
                  <a:lnTo>
                    <a:pt x="19" y="6"/>
                  </a:lnTo>
                  <a:lnTo>
                    <a:pt x="13" y="6"/>
                  </a:lnTo>
                  <a:lnTo>
                    <a:pt x="13" y="13"/>
                  </a:lnTo>
                  <a:lnTo>
                    <a:pt x="6" y="20"/>
                  </a:lnTo>
                  <a:lnTo>
                    <a:pt x="0" y="20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6" y="39"/>
                  </a:lnTo>
                  <a:lnTo>
                    <a:pt x="6" y="39"/>
                  </a:lnTo>
                  <a:lnTo>
                    <a:pt x="13" y="46"/>
                  </a:lnTo>
                  <a:lnTo>
                    <a:pt x="19" y="46"/>
                  </a:lnTo>
                  <a:lnTo>
                    <a:pt x="26" y="52"/>
                  </a:lnTo>
                  <a:lnTo>
                    <a:pt x="33" y="52"/>
                  </a:lnTo>
                  <a:lnTo>
                    <a:pt x="39" y="52"/>
                  </a:lnTo>
                  <a:lnTo>
                    <a:pt x="46" y="59"/>
                  </a:lnTo>
                  <a:lnTo>
                    <a:pt x="52" y="59"/>
                  </a:lnTo>
                  <a:lnTo>
                    <a:pt x="59" y="59"/>
                  </a:lnTo>
                  <a:lnTo>
                    <a:pt x="72" y="59"/>
                  </a:lnTo>
                  <a:lnTo>
                    <a:pt x="79" y="66"/>
                  </a:lnTo>
                  <a:lnTo>
                    <a:pt x="85" y="66"/>
                  </a:lnTo>
                  <a:lnTo>
                    <a:pt x="92" y="66"/>
                  </a:lnTo>
                  <a:lnTo>
                    <a:pt x="98" y="66"/>
                  </a:lnTo>
                  <a:lnTo>
                    <a:pt x="112" y="66"/>
                  </a:lnTo>
                  <a:lnTo>
                    <a:pt x="118" y="72"/>
                  </a:lnTo>
                  <a:lnTo>
                    <a:pt x="118" y="72"/>
                  </a:lnTo>
                  <a:lnTo>
                    <a:pt x="125" y="79"/>
                  </a:lnTo>
                  <a:lnTo>
                    <a:pt x="131" y="79"/>
                  </a:lnTo>
                  <a:lnTo>
                    <a:pt x="138" y="85"/>
                  </a:lnTo>
                  <a:lnTo>
                    <a:pt x="145" y="85"/>
                  </a:lnTo>
                  <a:lnTo>
                    <a:pt x="151" y="85"/>
                  </a:lnTo>
                  <a:lnTo>
                    <a:pt x="158" y="85"/>
                  </a:lnTo>
                  <a:lnTo>
                    <a:pt x="164" y="85"/>
                  </a:lnTo>
                  <a:lnTo>
                    <a:pt x="178" y="85"/>
                  </a:lnTo>
                  <a:lnTo>
                    <a:pt x="184" y="92"/>
                  </a:lnTo>
                  <a:lnTo>
                    <a:pt x="191" y="92"/>
                  </a:lnTo>
                  <a:lnTo>
                    <a:pt x="197" y="92"/>
                  </a:lnTo>
                  <a:lnTo>
                    <a:pt x="204" y="92"/>
                  </a:lnTo>
                  <a:lnTo>
                    <a:pt x="211" y="92"/>
                  </a:lnTo>
                  <a:lnTo>
                    <a:pt x="224" y="85"/>
                  </a:lnTo>
                  <a:lnTo>
                    <a:pt x="230" y="85"/>
                  </a:lnTo>
                  <a:lnTo>
                    <a:pt x="237" y="85"/>
                  </a:lnTo>
                  <a:lnTo>
                    <a:pt x="243" y="92"/>
                  </a:lnTo>
                  <a:lnTo>
                    <a:pt x="250" y="92"/>
                  </a:lnTo>
                  <a:lnTo>
                    <a:pt x="250" y="99"/>
                  </a:lnTo>
                  <a:lnTo>
                    <a:pt x="257" y="105"/>
                  </a:lnTo>
                  <a:lnTo>
                    <a:pt x="257" y="112"/>
                  </a:lnTo>
                  <a:lnTo>
                    <a:pt x="257" y="118"/>
                  </a:lnTo>
                  <a:lnTo>
                    <a:pt x="257" y="118"/>
                  </a:lnTo>
                  <a:lnTo>
                    <a:pt x="257" y="125"/>
                  </a:lnTo>
                  <a:lnTo>
                    <a:pt x="257" y="131"/>
                  </a:lnTo>
                  <a:lnTo>
                    <a:pt x="263" y="131"/>
                  </a:lnTo>
                  <a:lnTo>
                    <a:pt x="270" y="138"/>
                  </a:lnTo>
                  <a:lnTo>
                    <a:pt x="276" y="138"/>
                  </a:lnTo>
                  <a:lnTo>
                    <a:pt x="283" y="138"/>
                  </a:lnTo>
                  <a:lnTo>
                    <a:pt x="290" y="13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1" name=""/>
            <p:cNvSpPr/>
            <p:nvPr/>
          </p:nvSpPr>
          <p:spPr>
            <a:xfrm>
              <a:off x="2995560" y="376560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7"/>
                  </a:moveTo>
                  <a:lnTo>
                    <a:pt x="7" y="7"/>
                  </a:lnTo>
                  <a:lnTo>
                    <a:pt x="7" y="7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2" name=""/>
            <p:cNvSpPr/>
            <p:nvPr/>
          </p:nvSpPr>
          <p:spPr>
            <a:xfrm>
              <a:off x="5381640" y="3662280"/>
              <a:ext cx="31680" cy="82800"/>
            </a:xfrm>
            <a:custGeom>
              <a:avLst/>
              <a:gdLst/>
              <a:ahLst/>
              <a:rect l="l" t="t" r="r" b="b"/>
              <a:pathLst>
                <a:path w="20" h="52">
                  <a:moveTo>
                    <a:pt x="13" y="46"/>
                  </a:moveTo>
                  <a:lnTo>
                    <a:pt x="13" y="39"/>
                  </a:lnTo>
                  <a:lnTo>
                    <a:pt x="20" y="33"/>
                  </a:lnTo>
                  <a:lnTo>
                    <a:pt x="20" y="26"/>
                  </a:lnTo>
                  <a:lnTo>
                    <a:pt x="20" y="26"/>
                  </a:lnTo>
                  <a:lnTo>
                    <a:pt x="20" y="19"/>
                  </a:lnTo>
                  <a:lnTo>
                    <a:pt x="20" y="13"/>
                  </a:lnTo>
                  <a:lnTo>
                    <a:pt x="13" y="6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6" y="39"/>
                  </a:lnTo>
                  <a:lnTo>
                    <a:pt x="6" y="46"/>
                  </a:lnTo>
                  <a:lnTo>
                    <a:pt x="6" y="52"/>
                  </a:lnTo>
                  <a:lnTo>
                    <a:pt x="6" y="52"/>
                  </a:lnTo>
                  <a:lnTo>
                    <a:pt x="13" y="4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3" name=""/>
            <p:cNvSpPr/>
            <p:nvPr/>
          </p:nvSpPr>
          <p:spPr>
            <a:xfrm flipH="1" flipV="1">
              <a:off x="2295000" y="3630600"/>
              <a:ext cx="32040" cy="9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4" name=""/>
            <p:cNvSpPr/>
            <p:nvPr/>
          </p:nvSpPr>
          <p:spPr>
            <a:xfrm flipV="1">
              <a:off x="2295360" y="3639600"/>
              <a:ext cx="32040" cy="32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5" name=""/>
            <p:cNvSpPr/>
            <p:nvPr/>
          </p:nvSpPr>
          <p:spPr>
            <a:xfrm>
              <a:off x="4105440" y="3598920"/>
              <a:ext cx="9360" cy="144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6" y="0"/>
                  </a:move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6" y="0"/>
                  </a:lnTo>
                  <a:lnTo>
                    <a:pt x="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6" name=""/>
            <p:cNvSpPr/>
            <p:nvPr/>
          </p:nvSpPr>
          <p:spPr>
            <a:xfrm>
              <a:off x="5423040" y="3525840"/>
              <a:ext cx="52200" cy="114120"/>
            </a:xfrm>
            <a:custGeom>
              <a:avLst/>
              <a:gdLst/>
              <a:ahLst/>
              <a:rect l="l" t="t" r="r" b="b"/>
              <a:pathLst>
                <a:path w="33" h="72">
                  <a:moveTo>
                    <a:pt x="20" y="46"/>
                  </a:moveTo>
                  <a:lnTo>
                    <a:pt x="26" y="40"/>
                  </a:lnTo>
                  <a:lnTo>
                    <a:pt x="33" y="33"/>
                  </a:lnTo>
                  <a:lnTo>
                    <a:pt x="33" y="26"/>
                  </a:lnTo>
                  <a:lnTo>
                    <a:pt x="33" y="20"/>
                  </a:lnTo>
                  <a:lnTo>
                    <a:pt x="20" y="7"/>
                  </a:lnTo>
                  <a:lnTo>
                    <a:pt x="13" y="0"/>
                  </a:lnTo>
                  <a:lnTo>
                    <a:pt x="7" y="0"/>
                  </a:lnTo>
                  <a:lnTo>
                    <a:pt x="0" y="7"/>
                  </a:lnTo>
                  <a:lnTo>
                    <a:pt x="0" y="20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0" y="40"/>
                  </a:lnTo>
                  <a:lnTo>
                    <a:pt x="7" y="46"/>
                  </a:lnTo>
                  <a:lnTo>
                    <a:pt x="7" y="59"/>
                  </a:lnTo>
                  <a:lnTo>
                    <a:pt x="7" y="66"/>
                  </a:lnTo>
                  <a:lnTo>
                    <a:pt x="7" y="72"/>
                  </a:lnTo>
                  <a:lnTo>
                    <a:pt x="7" y="72"/>
                  </a:lnTo>
                  <a:lnTo>
                    <a:pt x="13" y="66"/>
                  </a:lnTo>
                  <a:lnTo>
                    <a:pt x="13" y="59"/>
                  </a:lnTo>
                  <a:lnTo>
                    <a:pt x="20" y="4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7" name=""/>
            <p:cNvSpPr/>
            <p:nvPr/>
          </p:nvSpPr>
          <p:spPr>
            <a:xfrm>
              <a:off x="5464080" y="3463920"/>
              <a:ext cx="31680" cy="73080"/>
            </a:xfrm>
            <a:custGeom>
              <a:avLst/>
              <a:gdLst/>
              <a:ahLst/>
              <a:rect l="l" t="t" r="r" b="b"/>
              <a:pathLst>
                <a:path w="20" h="46">
                  <a:moveTo>
                    <a:pt x="20" y="32"/>
                  </a:moveTo>
                  <a:lnTo>
                    <a:pt x="20" y="26"/>
                  </a:lnTo>
                  <a:lnTo>
                    <a:pt x="20" y="19"/>
                  </a:lnTo>
                  <a:lnTo>
                    <a:pt x="20" y="13"/>
                  </a:lnTo>
                  <a:lnTo>
                    <a:pt x="20" y="6"/>
                  </a:lnTo>
                  <a:lnTo>
                    <a:pt x="20" y="6"/>
                  </a:lnTo>
                  <a:lnTo>
                    <a:pt x="14" y="0"/>
                  </a:lnTo>
                  <a:lnTo>
                    <a:pt x="7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7" y="39"/>
                  </a:lnTo>
                  <a:lnTo>
                    <a:pt x="7" y="46"/>
                  </a:lnTo>
                  <a:lnTo>
                    <a:pt x="14" y="46"/>
                  </a:lnTo>
                  <a:lnTo>
                    <a:pt x="14" y="46"/>
                  </a:lnTo>
                  <a:lnTo>
                    <a:pt x="14" y="39"/>
                  </a:lnTo>
                  <a:lnTo>
                    <a:pt x="20" y="3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8" name=""/>
            <p:cNvSpPr/>
            <p:nvPr/>
          </p:nvSpPr>
          <p:spPr>
            <a:xfrm>
              <a:off x="2755800" y="3379680"/>
              <a:ext cx="52560" cy="73080"/>
            </a:xfrm>
            <a:custGeom>
              <a:avLst/>
              <a:gdLst/>
              <a:ahLst/>
              <a:rect l="l" t="t" r="r" b="b"/>
              <a:pathLst>
                <a:path w="33" h="46">
                  <a:moveTo>
                    <a:pt x="33" y="26"/>
                  </a:moveTo>
                  <a:lnTo>
                    <a:pt x="33" y="13"/>
                  </a:lnTo>
                  <a:lnTo>
                    <a:pt x="26" y="6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13" y="6"/>
                  </a:lnTo>
                  <a:lnTo>
                    <a:pt x="6" y="13"/>
                  </a:lnTo>
                  <a:lnTo>
                    <a:pt x="0" y="20"/>
                  </a:lnTo>
                  <a:lnTo>
                    <a:pt x="0" y="26"/>
                  </a:lnTo>
                  <a:lnTo>
                    <a:pt x="6" y="39"/>
                  </a:lnTo>
                  <a:lnTo>
                    <a:pt x="13" y="46"/>
                  </a:lnTo>
                  <a:lnTo>
                    <a:pt x="20" y="46"/>
                  </a:lnTo>
                  <a:lnTo>
                    <a:pt x="26" y="46"/>
                  </a:lnTo>
                  <a:lnTo>
                    <a:pt x="33" y="39"/>
                  </a:lnTo>
                  <a:lnTo>
                    <a:pt x="33" y="2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9" name=""/>
            <p:cNvSpPr/>
            <p:nvPr/>
          </p:nvSpPr>
          <p:spPr>
            <a:xfrm>
              <a:off x="2787480" y="3263760"/>
              <a:ext cx="125640" cy="136800"/>
            </a:xfrm>
            <a:custGeom>
              <a:avLst/>
              <a:gdLst/>
              <a:ahLst/>
              <a:rect l="l" t="t" r="r" b="b"/>
              <a:pathLst>
                <a:path w="79" h="86">
                  <a:moveTo>
                    <a:pt x="39" y="73"/>
                  </a:moveTo>
                  <a:lnTo>
                    <a:pt x="39" y="66"/>
                  </a:lnTo>
                  <a:lnTo>
                    <a:pt x="46" y="60"/>
                  </a:lnTo>
                  <a:lnTo>
                    <a:pt x="46" y="53"/>
                  </a:lnTo>
                  <a:lnTo>
                    <a:pt x="52" y="47"/>
                  </a:lnTo>
                  <a:lnTo>
                    <a:pt x="59" y="47"/>
                  </a:lnTo>
                  <a:lnTo>
                    <a:pt x="59" y="40"/>
                  </a:lnTo>
                  <a:lnTo>
                    <a:pt x="65" y="33"/>
                  </a:lnTo>
                  <a:lnTo>
                    <a:pt x="72" y="27"/>
                  </a:lnTo>
                  <a:lnTo>
                    <a:pt x="79" y="20"/>
                  </a:lnTo>
                  <a:lnTo>
                    <a:pt x="79" y="14"/>
                  </a:lnTo>
                  <a:lnTo>
                    <a:pt x="72" y="7"/>
                  </a:lnTo>
                  <a:lnTo>
                    <a:pt x="65" y="7"/>
                  </a:lnTo>
                  <a:lnTo>
                    <a:pt x="52" y="0"/>
                  </a:lnTo>
                  <a:lnTo>
                    <a:pt x="46" y="7"/>
                  </a:lnTo>
                  <a:lnTo>
                    <a:pt x="46" y="14"/>
                  </a:lnTo>
                  <a:lnTo>
                    <a:pt x="39" y="20"/>
                  </a:lnTo>
                  <a:lnTo>
                    <a:pt x="39" y="27"/>
                  </a:lnTo>
                  <a:lnTo>
                    <a:pt x="33" y="27"/>
                  </a:lnTo>
                  <a:lnTo>
                    <a:pt x="26" y="33"/>
                  </a:lnTo>
                  <a:lnTo>
                    <a:pt x="26" y="40"/>
                  </a:lnTo>
                  <a:lnTo>
                    <a:pt x="19" y="47"/>
                  </a:lnTo>
                  <a:lnTo>
                    <a:pt x="13" y="53"/>
                  </a:lnTo>
                  <a:lnTo>
                    <a:pt x="6" y="53"/>
                  </a:lnTo>
                  <a:lnTo>
                    <a:pt x="6" y="60"/>
                  </a:lnTo>
                  <a:lnTo>
                    <a:pt x="0" y="66"/>
                  </a:lnTo>
                  <a:lnTo>
                    <a:pt x="0" y="73"/>
                  </a:lnTo>
                  <a:lnTo>
                    <a:pt x="6" y="79"/>
                  </a:lnTo>
                  <a:lnTo>
                    <a:pt x="19" y="86"/>
                  </a:lnTo>
                  <a:lnTo>
                    <a:pt x="26" y="86"/>
                  </a:lnTo>
                  <a:lnTo>
                    <a:pt x="33" y="86"/>
                  </a:lnTo>
                  <a:lnTo>
                    <a:pt x="33" y="79"/>
                  </a:lnTo>
                  <a:lnTo>
                    <a:pt x="39" y="7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0" name=""/>
            <p:cNvSpPr/>
            <p:nvPr/>
          </p:nvSpPr>
          <p:spPr>
            <a:xfrm>
              <a:off x="6311880" y="3295800"/>
              <a:ext cx="20520" cy="52200"/>
            </a:xfrm>
            <a:custGeom>
              <a:avLst/>
              <a:gdLst/>
              <a:ahLst/>
              <a:rect l="l" t="t" r="r" b="b"/>
              <a:pathLst>
                <a:path w="13" h="33">
                  <a:moveTo>
                    <a:pt x="13" y="27"/>
                  </a:moveTo>
                  <a:lnTo>
                    <a:pt x="13" y="13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0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7" y="33"/>
                  </a:lnTo>
                  <a:lnTo>
                    <a:pt x="7" y="33"/>
                  </a:lnTo>
                  <a:lnTo>
                    <a:pt x="13" y="2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1" name=""/>
            <p:cNvSpPr/>
            <p:nvPr/>
          </p:nvSpPr>
          <p:spPr>
            <a:xfrm>
              <a:off x="2890800" y="3201840"/>
              <a:ext cx="52560" cy="84240"/>
            </a:xfrm>
            <a:custGeom>
              <a:avLst/>
              <a:gdLst/>
              <a:ahLst/>
              <a:rect l="l" t="t" r="r" b="b"/>
              <a:pathLst>
                <a:path w="33" h="53">
                  <a:moveTo>
                    <a:pt x="33" y="26"/>
                  </a:moveTo>
                  <a:lnTo>
                    <a:pt x="27" y="13"/>
                  </a:lnTo>
                  <a:lnTo>
                    <a:pt x="27" y="7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33"/>
                  </a:lnTo>
                  <a:lnTo>
                    <a:pt x="7" y="39"/>
                  </a:lnTo>
                  <a:lnTo>
                    <a:pt x="14" y="46"/>
                  </a:lnTo>
                  <a:lnTo>
                    <a:pt x="20" y="53"/>
                  </a:lnTo>
                  <a:lnTo>
                    <a:pt x="27" y="46"/>
                  </a:lnTo>
                  <a:lnTo>
                    <a:pt x="27" y="39"/>
                  </a:lnTo>
                  <a:lnTo>
                    <a:pt x="33" y="2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2" name=""/>
            <p:cNvSpPr/>
            <p:nvPr/>
          </p:nvSpPr>
          <p:spPr>
            <a:xfrm>
              <a:off x="2913120" y="3076560"/>
              <a:ext cx="135000" cy="146160"/>
            </a:xfrm>
            <a:custGeom>
              <a:avLst/>
              <a:gdLst/>
              <a:ahLst/>
              <a:rect l="l" t="t" r="r" b="b"/>
              <a:pathLst>
                <a:path w="85" h="92">
                  <a:moveTo>
                    <a:pt x="39" y="79"/>
                  </a:moveTo>
                  <a:lnTo>
                    <a:pt x="46" y="72"/>
                  </a:lnTo>
                  <a:lnTo>
                    <a:pt x="46" y="66"/>
                  </a:lnTo>
                  <a:lnTo>
                    <a:pt x="52" y="59"/>
                  </a:lnTo>
                  <a:lnTo>
                    <a:pt x="66" y="53"/>
                  </a:lnTo>
                  <a:lnTo>
                    <a:pt x="79" y="53"/>
                  </a:lnTo>
                  <a:lnTo>
                    <a:pt x="85" y="53"/>
                  </a:lnTo>
                  <a:lnTo>
                    <a:pt x="85" y="46"/>
                  </a:lnTo>
                  <a:lnTo>
                    <a:pt x="85" y="39"/>
                  </a:lnTo>
                  <a:lnTo>
                    <a:pt x="85" y="33"/>
                  </a:lnTo>
                  <a:lnTo>
                    <a:pt x="79" y="20"/>
                  </a:lnTo>
                  <a:lnTo>
                    <a:pt x="72" y="13"/>
                  </a:lnTo>
                  <a:lnTo>
                    <a:pt x="66" y="7"/>
                  </a:lnTo>
                  <a:lnTo>
                    <a:pt x="66" y="0"/>
                  </a:lnTo>
                  <a:lnTo>
                    <a:pt x="59" y="0"/>
                  </a:lnTo>
                  <a:lnTo>
                    <a:pt x="52" y="0"/>
                  </a:lnTo>
                  <a:lnTo>
                    <a:pt x="46" y="7"/>
                  </a:lnTo>
                  <a:lnTo>
                    <a:pt x="46" y="20"/>
                  </a:lnTo>
                  <a:lnTo>
                    <a:pt x="39" y="26"/>
                  </a:lnTo>
                  <a:lnTo>
                    <a:pt x="39" y="33"/>
                  </a:lnTo>
                  <a:lnTo>
                    <a:pt x="33" y="39"/>
                  </a:lnTo>
                  <a:lnTo>
                    <a:pt x="26" y="46"/>
                  </a:lnTo>
                  <a:lnTo>
                    <a:pt x="26" y="53"/>
                  </a:lnTo>
                  <a:lnTo>
                    <a:pt x="19" y="59"/>
                  </a:lnTo>
                  <a:lnTo>
                    <a:pt x="13" y="59"/>
                  </a:lnTo>
                  <a:lnTo>
                    <a:pt x="6" y="66"/>
                  </a:lnTo>
                  <a:lnTo>
                    <a:pt x="0" y="72"/>
                  </a:lnTo>
                  <a:lnTo>
                    <a:pt x="6" y="79"/>
                  </a:lnTo>
                  <a:lnTo>
                    <a:pt x="13" y="86"/>
                  </a:lnTo>
                  <a:lnTo>
                    <a:pt x="26" y="92"/>
                  </a:lnTo>
                  <a:lnTo>
                    <a:pt x="33" y="92"/>
                  </a:lnTo>
                  <a:lnTo>
                    <a:pt x="39" y="86"/>
                  </a:lnTo>
                  <a:lnTo>
                    <a:pt x="39" y="7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3" name=""/>
            <p:cNvSpPr/>
            <p:nvPr/>
          </p:nvSpPr>
          <p:spPr>
            <a:xfrm>
              <a:off x="2808360" y="3160800"/>
              <a:ext cx="31680" cy="20520"/>
            </a:xfrm>
            <a:custGeom>
              <a:avLst/>
              <a:gdLst/>
              <a:ahLst/>
              <a:rect l="l" t="t" r="r" b="b"/>
              <a:pathLst>
                <a:path w="20" h="13">
                  <a:moveTo>
                    <a:pt x="0" y="13"/>
                  </a:move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2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4" name=""/>
            <p:cNvSpPr/>
            <p:nvPr/>
          </p:nvSpPr>
          <p:spPr>
            <a:xfrm flipV="1">
              <a:off x="2870280" y="3107880"/>
              <a:ext cx="11160" cy="9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5" name=""/>
            <p:cNvSpPr/>
            <p:nvPr/>
          </p:nvSpPr>
          <p:spPr>
            <a:xfrm flipV="1">
              <a:off x="2922480" y="3056040"/>
              <a:ext cx="11160" cy="9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6" name=""/>
            <p:cNvSpPr/>
            <p:nvPr/>
          </p:nvSpPr>
          <p:spPr>
            <a:xfrm>
              <a:off x="2913120" y="3065400"/>
              <a:ext cx="93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7" name=""/>
            <p:cNvSpPr/>
            <p:nvPr/>
          </p:nvSpPr>
          <p:spPr>
            <a:xfrm>
              <a:off x="2986200" y="2982960"/>
              <a:ext cx="31680" cy="20520"/>
            </a:xfrm>
            <a:custGeom>
              <a:avLst/>
              <a:gdLst/>
              <a:ahLst/>
              <a:rect l="l" t="t" r="r" b="b"/>
              <a:pathLst>
                <a:path w="20" h="13">
                  <a:moveTo>
                    <a:pt x="0" y="13"/>
                  </a:move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2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8" name=""/>
            <p:cNvSpPr/>
            <p:nvPr/>
          </p:nvSpPr>
          <p:spPr>
            <a:xfrm>
              <a:off x="3801960" y="2962440"/>
              <a:ext cx="52560" cy="29880"/>
            </a:xfrm>
            <a:custGeom>
              <a:avLst/>
              <a:gdLst/>
              <a:ahLst/>
              <a:rect l="l" t="t" r="r" b="b"/>
              <a:pathLst>
                <a:path w="33" h="19">
                  <a:moveTo>
                    <a:pt x="33" y="13"/>
                  </a:moveTo>
                  <a:lnTo>
                    <a:pt x="33" y="6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6" y="6"/>
                  </a:lnTo>
                  <a:lnTo>
                    <a:pt x="0" y="6"/>
                  </a:lnTo>
                  <a:lnTo>
                    <a:pt x="0" y="13"/>
                  </a:lnTo>
                  <a:lnTo>
                    <a:pt x="6" y="19"/>
                  </a:lnTo>
                  <a:lnTo>
                    <a:pt x="13" y="19"/>
                  </a:lnTo>
                  <a:lnTo>
                    <a:pt x="20" y="19"/>
                  </a:lnTo>
                  <a:lnTo>
                    <a:pt x="26" y="19"/>
                  </a:lnTo>
                  <a:lnTo>
                    <a:pt x="33" y="19"/>
                  </a:lnTo>
                  <a:lnTo>
                    <a:pt x="33" y="1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9" name=""/>
            <p:cNvSpPr/>
            <p:nvPr/>
          </p:nvSpPr>
          <p:spPr>
            <a:xfrm flipV="1">
              <a:off x="3048120" y="2930040"/>
              <a:ext cx="31680" cy="32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0" name=""/>
            <p:cNvSpPr/>
            <p:nvPr/>
          </p:nvSpPr>
          <p:spPr>
            <a:xfrm>
              <a:off x="6510240" y="2887560"/>
              <a:ext cx="31680" cy="31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1" name=""/>
            <p:cNvSpPr/>
            <p:nvPr/>
          </p:nvSpPr>
          <p:spPr>
            <a:xfrm>
              <a:off x="3519360" y="2825640"/>
              <a:ext cx="32040" cy="3204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13"/>
                  </a:moveTo>
                  <a:lnTo>
                    <a:pt x="0" y="7"/>
                  </a:lnTo>
                  <a:lnTo>
                    <a:pt x="6" y="7"/>
                  </a:lnTo>
                  <a:lnTo>
                    <a:pt x="6" y="0"/>
                  </a:lnTo>
                  <a:lnTo>
                    <a:pt x="13" y="0"/>
                  </a:lnTo>
                  <a:lnTo>
                    <a:pt x="13" y="7"/>
                  </a:lnTo>
                  <a:lnTo>
                    <a:pt x="20" y="7"/>
                  </a:lnTo>
                  <a:lnTo>
                    <a:pt x="20" y="13"/>
                  </a:lnTo>
                  <a:lnTo>
                    <a:pt x="20" y="13"/>
                  </a:lnTo>
                  <a:lnTo>
                    <a:pt x="13" y="20"/>
                  </a:lnTo>
                  <a:lnTo>
                    <a:pt x="13" y="20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0" y="20"/>
                  </a:lnTo>
                  <a:lnTo>
                    <a:pt x="0" y="1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2" name=""/>
            <p:cNvSpPr/>
            <p:nvPr/>
          </p:nvSpPr>
          <p:spPr>
            <a:xfrm>
              <a:off x="6448320" y="2846520"/>
              <a:ext cx="52560" cy="20520"/>
            </a:xfrm>
            <a:custGeom>
              <a:avLst/>
              <a:gdLst/>
              <a:ahLst/>
              <a:rect l="l" t="t" r="r" b="b"/>
              <a:pathLst>
                <a:path w="33" h="13">
                  <a:moveTo>
                    <a:pt x="0" y="0"/>
                  </a:moveTo>
                  <a:lnTo>
                    <a:pt x="0" y="0"/>
                  </a:lnTo>
                  <a:lnTo>
                    <a:pt x="6" y="7"/>
                  </a:lnTo>
                  <a:lnTo>
                    <a:pt x="6" y="7"/>
                  </a:lnTo>
                  <a:lnTo>
                    <a:pt x="13" y="7"/>
                  </a:lnTo>
                  <a:lnTo>
                    <a:pt x="13" y="13"/>
                  </a:lnTo>
                  <a:lnTo>
                    <a:pt x="20" y="13"/>
                  </a:lnTo>
                  <a:lnTo>
                    <a:pt x="26" y="13"/>
                  </a:lnTo>
                  <a:lnTo>
                    <a:pt x="33" y="1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3" name=""/>
            <p:cNvSpPr/>
            <p:nvPr/>
          </p:nvSpPr>
          <p:spPr>
            <a:xfrm>
              <a:off x="6227640" y="2752560"/>
              <a:ext cx="180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4" name=""/>
            <p:cNvSpPr/>
            <p:nvPr/>
          </p:nvSpPr>
          <p:spPr>
            <a:xfrm>
              <a:off x="5915160" y="2711520"/>
              <a:ext cx="93600" cy="9360"/>
            </a:xfrm>
            <a:custGeom>
              <a:avLst/>
              <a:gdLst/>
              <a:ahLst/>
              <a:rect l="l" t="t" r="r" b="b"/>
              <a:pathLst>
                <a:path w="59" h="6">
                  <a:moveTo>
                    <a:pt x="0" y="0"/>
                  </a:moveTo>
                  <a:lnTo>
                    <a:pt x="6" y="0"/>
                  </a:lnTo>
                  <a:lnTo>
                    <a:pt x="13" y="0"/>
                  </a:lnTo>
                  <a:lnTo>
                    <a:pt x="20" y="0"/>
                  </a:lnTo>
                  <a:lnTo>
                    <a:pt x="20" y="6"/>
                  </a:lnTo>
                  <a:lnTo>
                    <a:pt x="26" y="6"/>
                  </a:lnTo>
                  <a:lnTo>
                    <a:pt x="33" y="6"/>
                  </a:lnTo>
                  <a:lnTo>
                    <a:pt x="39" y="6"/>
                  </a:lnTo>
                  <a:lnTo>
                    <a:pt x="39" y="6"/>
                  </a:lnTo>
                  <a:lnTo>
                    <a:pt x="46" y="6"/>
                  </a:lnTo>
                  <a:lnTo>
                    <a:pt x="53" y="0"/>
                  </a:lnTo>
                  <a:lnTo>
                    <a:pt x="59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5" name=""/>
            <p:cNvSpPr/>
            <p:nvPr/>
          </p:nvSpPr>
          <p:spPr>
            <a:xfrm>
              <a:off x="3403440" y="2711520"/>
              <a:ext cx="3003840" cy="2257200"/>
            </a:xfrm>
            <a:custGeom>
              <a:avLst/>
              <a:gdLst/>
              <a:ahLst/>
              <a:rect l="l" t="t" r="r" b="b"/>
              <a:pathLst>
                <a:path w="1892" h="1422">
                  <a:moveTo>
                    <a:pt x="1371" y="0"/>
                  </a:moveTo>
                  <a:lnTo>
                    <a:pt x="1378" y="0"/>
                  </a:lnTo>
                  <a:lnTo>
                    <a:pt x="1384" y="6"/>
                  </a:lnTo>
                  <a:lnTo>
                    <a:pt x="1391" y="6"/>
                  </a:lnTo>
                  <a:lnTo>
                    <a:pt x="1397" y="6"/>
                  </a:lnTo>
                  <a:lnTo>
                    <a:pt x="1410" y="13"/>
                  </a:lnTo>
                  <a:lnTo>
                    <a:pt x="1417" y="13"/>
                  </a:lnTo>
                  <a:lnTo>
                    <a:pt x="1424" y="13"/>
                  </a:lnTo>
                  <a:lnTo>
                    <a:pt x="1437" y="13"/>
                  </a:lnTo>
                  <a:lnTo>
                    <a:pt x="1443" y="13"/>
                  </a:lnTo>
                  <a:lnTo>
                    <a:pt x="1450" y="13"/>
                  </a:lnTo>
                  <a:lnTo>
                    <a:pt x="1463" y="19"/>
                  </a:lnTo>
                  <a:lnTo>
                    <a:pt x="1470" y="19"/>
                  </a:lnTo>
                  <a:lnTo>
                    <a:pt x="1476" y="19"/>
                  </a:lnTo>
                  <a:lnTo>
                    <a:pt x="1483" y="19"/>
                  </a:lnTo>
                  <a:lnTo>
                    <a:pt x="1496" y="19"/>
                  </a:lnTo>
                  <a:lnTo>
                    <a:pt x="1503" y="26"/>
                  </a:lnTo>
                  <a:lnTo>
                    <a:pt x="1509" y="26"/>
                  </a:lnTo>
                  <a:lnTo>
                    <a:pt x="1523" y="26"/>
                  </a:lnTo>
                  <a:lnTo>
                    <a:pt x="1529" y="26"/>
                  </a:lnTo>
                  <a:lnTo>
                    <a:pt x="1536" y="26"/>
                  </a:lnTo>
                  <a:lnTo>
                    <a:pt x="1542" y="32"/>
                  </a:lnTo>
                  <a:lnTo>
                    <a:pt x="1542" y="39"/>
                  </a:lnTo>
                  <a:lnTo>
                    <a:pt x="1542" y="46"/>
                  </a:lnTo>
                  <a:lnTo>
                    <a:pt x="1542" y="52"/>
                  </a:lnTo>
                  <a:lnTo>
                    <a:pt x="1549" y="59"/>
                  </a:lnTo>
                  <a:lnTo>
                    <a:pt x="1555" y="59"/>
                  </a:lnTo>
                  <a:lnTo>
                    <a:pt x="1569" y="59"/>
                  </a:lnTo>
                  <a:lnTo>
                    <a:pt x="1575" y="59"/>
                  </a:lnTo>
                  <a:lnTo>
                    <a:pt x="1582" y="65"/>
                  </a:lnTo>
                  <a:lnTo>
                    <a:pt x="1595" y="65"/>
                  </a:lnTo>
                  <a:lnTo>
                    <a:pt x="1602" y="65"/>
                  </a:lnTo>
                  <a:lnTo>
                    <a:pt x="1608" y="65"/>
                  </a:lnTo>
                  <a:lnTo>
                    <a:pt x="1615" y="65"/>
                  </a:lnTo>
                  <a:lnTo>
                    <a:pt x="1621" y="72"/>
                  </a:lnTo>
                  <a:lnTo>
                    <a:pt x="1621" y="79"/>
                  </a:lnTo>
                  <a:lnTo>
                    <a:pt x="1628" y="85"/>
                  </a:lnTo>
                  <a:lnTo>
                    <a:pt x="1635" y="92"/>
                  </a:lnTo>
                  <a:lnTo>
                    <a:pt x="1641" y="92"/>
                  </a:lnTo>
                  <a:lnTo>
                    <a:pt x="1648" y="92"/>
                  </a:lnTo>
                  <a:lnTo>
                    <a:pt x="1654" y="92"/>
                  </a:lnTo>
                  <a:lnTo>
                    <a:pt x="1661" y="85"/>
                  </a:lnTo>
                  <a:lnTo>
                    <a:pt x="1667" y="85"/>
                  </a:lnTo>
                  <a:lnTo>
                    <a:pt x="1667" y="79"/>
                  </a:lnTo>
                  <a:lnTo>
                    <a:pt x="1661" y="72"/>
                  </a:lnTo>
                  <a:lnTo>
                    <a:pt x="1661" y="65"/>
                  </a:lnTo>
                  <a:lnTo>
                    <a:pt x="1661" y="59"/>
                  </a:lnTo>
                  <a:lnTo>
                    <a:pt x="1667" y="52"/>
                  </a:lnTo>
                  <a:lnTo>
                    <a:pt x="1674" y="59"/>
                  </a:lnTo>
                  <a:lnTo>
                    <a:pt x="1681" y="65"/>
                  </a:lnTo>
                  <a:lnTo>
                    <a:pt x="1681" y="72"/>
                  </a:lnTo>
                  <a:lnTo>
                    <a:pt x="1687" y="79"/>
                  </a:lnTo>
                  <a:lnTo>
                    <a:pt x="1687" y="79"/>
                  </a:lnTo>
                  <a:lnTo>
                    <a:pt x="1694" y="85"/>
                  </a:lnTo>
                  <a:lnTo>
                    <a:pt x="1700" y="85"/>
                  </a:lnTo>
                  <a:lnTo>
                    <a:pt x="1707" y="92"/>
                  </a:lnTo>
                  <a:lnTo>
                    <a:pt x="1707" y="98"/>
                  </a:lnTo>
                  <a:lnTo>
                    <a:pt x="1707" y="105"/>
                  </a:lnTo>
                  <a:lnTo>
                    <a:pt x="1707" y="111"/>
                  </a:lnTo>
                  <a:lnTo>
                    <a:pt x="1707" y="118"/>
                  </a:lnTo>
                  <a:lnTo>
                    <a:pt x="1714" y="118"/>
                  </a:lnTo>
                  <a:lnTo>
                    <a:pt x="1714" y="125"/>
                  </a:lnTo>
                  <a:lnTo>
                    <a:pt x="1714" y="131"/>
                  </a:lnTo>
                  <a:lnTo>
                    <a:pt x="1714" y="138"/>
                  </a:lnTo>
                  <a:lnTo>
                    <a:pt x="1720" y="144"/>
                  </a:lnTo>
                  <a:lnTo>
                    <a:pt x="1714" y="151"/>
                  </a:lnTo>
                  <a:lnTo>
                    <a:pt x="1714" y="158"/>
                  </a:lnTo>
                  <a:lnTo>
                    <a:pt x="1720" y="164"/>
                  </a:lnTo>
                  <a:lnTo>
                    <a:pt x="1720" y="164"/>
                  </a:lnTo>
                  <a:lnTo>
                    <a:pt x="1727" y="171"/>
                  </a:lnTo>
                  <a:lnTo>
                    <a:pt x="1733" y="171"/>
                  </a:lnTo>
                  <a:lnTo>
                    <a:pt x="1740" y="177"/>
                  </a:lnTo>
                  <a:lnTo>
                    <a:pt x="1747" y="184"/>
                  </a:lnTo>
                  <a:lnTo>
                    <a:pt x="1747" y="190"/>
                  </a:lnTo>
                  <a:lnTo>
                    <a:pt x="1753" y="197"/>
                  </a:lnTo>
                  <a:lnTo>
                    <a:pt x="1760" y="197"/>
                  </a:lnTo>
                  <a:lnTo>
                    <a:pt x="1766" y="204"/>
                  </a:lnTo>
                  <a:lnTo>
                    <a:pt x="1773" y="204"/>
                  </a:lnTo>
                  <a:lnTo>
                    <a:pt x="1786" y="204"/>
                  </a:lnTo>
                  <a:lnTo>
                    <a:pt x="1786" y="210"/>
                  </a:lnTo>
                  <a:lnTo>
                    <a:pt x="1793" y="210"/>
                  </a:lnTo>
                  <a:lnTo>
                    <a:pt x="1799" y="217"/>
                  </a:lnTo>
                  <a:lnTo>
                    <a:pt x="1799" y="223"/>
                  </a:lnTo>
                  <a:lnTo>
                    <a:pt x="1806" y="230"/>
                  </a:lnTo>
                  <a:lnTo>
                    <a:pt x="1812" y="230"/>
                  </a:lnTo>
                  <a:lnTo>
                    <a:pt x="1819" y="237"/>
                  </a:lnTo>
                  <a:lnTo>
                    <a:pt x="1832" y="237"/>
                  </a:lnTo>
                  <a:lnTo>
                    <a:pt x="1839" y="237"/>
                  </a:lnTo>
                  <a:lnTo>
                    <a:pt x="1839" y="243"/>
                  </a:lnTo>
                  <a:lnTo>
                    <a:pt x="1845" y="250"/>
                  </a:lnTo>
                  <a:lnTo>
                    <a:pt x="1852" y="256"/>
                  </a:lnTo>
                  <a:lnTo>
                    <a:pt x="1859" y="256"/>
                  </a:lnTo>
                  <a:lnTo>
                    <a:pt x="1859" y="263"/>
                  </a:lnTo>
                  <a:lnTo>
                    <a:pt x="1872" y="263"/>
                  </a:lnTo>
                  <a:lnTo>
                    <a:pt x="1878" y="269"/>
                  </a:lnTo>
                  <a:lnTo>
                    <a:pt x="1885" y="269"/>
                  </a:lnTo>
                  <a:lnTo>
                    <a:pt x="1892" y="276"/>
                  </a:lnTo>
                  <a:lnTo>
                    <a:pt x="1892" y="283"/>
                  </a:lnTo>
                  <a:lnTo>
                    <a:pt x="1885" y="283"/>
                  </a:lnTo>
                  <a:lnTo>
                    <a:pt x="1885" y="289"/>
                  </a:lnTo>
                  <a:lnTo>
                    <a:pt x="1878" y="296"/>
                  </a:lnTo>
                  <a:lnTo>
                    <a:pt x="1878" y="302"/>
                  </a:lnTo>
                  <a:lnTo>
                    <a:pt x="1872" y="309"/>
                  </a:lnTo>
                  <a:lnTo>
                    <a:pt x="1872" y="309"/>
                  </a:lnTo>
                  <a:lnTo>
                    <a:pt x="1865" y="316"/>
                  </a:lnTo>
                  <a:lnTo>
                    <a:pt x="1859" y="316"/>
                  </a:lnTo>
                  <a:lnTo>
                    <a:pt x="1845" y="316"/>
                  </a:lnTo>
                  <a:lnTo>
                    <a:pt x="1839" y="316"/>
                  </a:lnTo>
                  <a:lnTo>
                    <a:pt x="1832" y="309"/>
                  </a:lnTo>
                  <a:lnTo>
                    <a:pt x="1819" y="309"/>
                  </a:lnTo>
                  <a:lnTo>
                    <a:pt x="1812" y="309"/>
                  </a:lnTo>
                  <a:lnTo>
                    <a:pt x="1806" y="309"/>
                  </a:lnTo>
                  <a:lnTo>
                    <a:pt x="1799" y="309"/>
                  </a:lnTo>
                  <a:lnTo>
                    <a:pt x="1786" y="316"/>
                  </a:lnTo>
                  <a:lnTo>
                    <a:pt x="1779" y="316"/>
                  </a:lnTo>
                  <a:lnTo>
                    <a:pt x="1766" y="316"/>
                  </a:lnTo>
                  <a:lnTo>
                    <a:pt x="1760" y="316"/>
                  </a:lnTo>
                  <a:lnTo>
                    <a:pt x="1753" y="309"/>
                  </a:lnTo>
                  <a:lnTo>
                    <a:pt x="1747" y="302"/>
                  </a:lnTo>
                  <a:lnTo>
                    <a:pt x="1740" y="302"/>
                  </a:lnTo>
                  <a:lnTo>
                    <a:pt x="1733" y="302"/>
                  </a:lnTo>
                  <a:lnTo>
                    <a:pt x="1727" y="296"/>
                  </a:lnTo>
                  <a:lnTo>
                    <a:pt x="1714" y="296"/>
                  </a:lnTo>
                  <a:lnTo>
                    <a:pt x="1707" y="302"/>
                  </a:lnTo>
                  <a:lnTo>
                    <a:pt x="1700" y="302"/>
                  </a:lnTo>
                  <a:lnTo>
                    <a:pt x="1687" y="302"/>
                  </a:lnTo>
                  <a:lnTo>
                    <a:pt x="1681" y="302"/>
                  </a:lnTo>
                  <a:lnTo>
                    <a:pt x="1674" y="302"/>
                  </a:lnTo>
                  <a:lnTo>
                    <a:pt x="1667" y="296"/>
                  </a:lnTo>
                  <a:lnTo>
                    <a:pt x="1661" y="289"/>
                  </a:lnTo>
                  <a:lnTo>
                    <a:pt x="1654" y="289"/>
                  </a:lnTo>
                  <a:lnTo>
                    <a:pt x="1648" y="283"/>
                  </a:lnTo>
                  <a:lnTo>
                    <a:pt x="1641" y="276"/>
                  </a:lnTo>
                  <a:lnTo>
                    <a:pt x="1635" y="276"/>
                  </a:lnTo>
                  <a:lnTo>
                    <a:pt x="1628" y="276"/>
                  </a:lnTo>
                  <a:lnTo>
                    <a:pt x="1621" y="276"/>
                  </a:lnTo>
                  <a:lnTo>
                    <a:pt x="1608" y="283"/>
                  </a:lnTo>
                  <a:lnTo>
                    <a:pt x="1621" y="283"/>
                  </a:lnTo>
                  <a:lnTo>
                    <a:pt x="1628" y="289"/>
                  </a:lnTo>
                  <a:lnTo>
                    <a:pt x="1628" y="296"/>
                  </a:lnTo>
                  <a:lnTo>
                    <a:pt x="1635" y="302"/>
                  </a:lnTo>
                  <a:lnTo>
                    <a:pt x="1635" y="302"/>
                  </a:lnTo>
                  <a:lnTo>
                    <a:pt x="1641" y="309"/>
                  </a:lnTo>
                  <a:lnTo>
                    <a:pt x="1641" y="316"/>
                  </a:lnTo>
                  <a:lnTo>
                    <a:pt x="1648" y="316"/>
                  </a:lnTo>
                  <a:lnTo>
                    <a:pt x="1661" y="322"/>
                  </a:lnTo>
                  <a:lnTo>
                    <a:pt x="1667" y="322"/>
                  </a:lnTo>
                  <a:lnTo>
                    <a:pt x="1674" y="329"/>
                  </a:lnTo>
                  <a:lnTo>
                    <a:pt x="1681" y="329"/>
                  </a:lnTo>
                  <a:lnTo>
                    <a:pt x="1681" y="335"/>
                  </a:lnTo>
                  <a:lnTo>
                    <a:pt x="1687" y="342"/>
                  </a:lnTo>
                  <a:lnTo>
                    <a:pt x="1694" y="348"/>
                  </a:lnTo>
                  <a:lnTo>
                    <a:pt x="1694" y="348"/>
                  </a:lnTo>
                  <a:lnTo>
                    <a:pt x="1700" y="355"/>
                  </a:lnTo>
                  <a:lnTo>
                    <a:pt x="1707" y="362"/>
                  </a:lnTo>
                  <a:lnTo>
                    <a:pt x="1707" y="368"/>
                  </a:lnTo>
                  <a:lnTo>
                    <a:pt x="1714" y="368"/>
                  </a:lnTo>
                  <a:lnTo>
                    <a:pt x="1714" y="375"/>
                  </a:lnTo>
                  <a:lnTo>
                    <a:pt x="1720" y="381"/>
                  </a:lnTo>
                  <a:lnTo>
                    <a:pt x="1720" y="388"/>
                  </a:lnTo>
                  <a:lnTo>
                    <a:pt x="1727" y="388"/>
                  </a:lnTo>
                  <a:lnTo>
                    <a:pt x="1733" y="395"/>
                  </a:lnTo>
                  <a:lnTo>
                    <a:pt x="1727" y="401"/>
                  </a:lnTo>
                  <a:lnTo>
                    <a:pt x="1720" y="408"/>
                  </a:lnTo>
                  <a:lnTo>
                    <a:pt x="1714" y="408"/>
                  </a:lnTo>
                  <a:lnTo>
                    <a:pt x="1707" y="408"/>
                  </a:lnTo>
                  <a:lnTo>
                    <a:pt x="1700" y="414"/>
                  </a:lnTo>
                  <a:lnTo>
                    <a:pt x="1694" y="414"/>
                  </a:lnTo>
                  <a:lnTo>
                    <a:pt x="1687" y="421"/>
                  </a:lnTo>
                  <a:lnTo>
                    <a:pt x="1681" y="427"/>
                  </a:lnTo>
                  <a:lnTo>
                    <a:pt x="1681" y="434"/>
                  </a:lnTo>
                  <a:lnTo>
                    <a:pt x="1681" y="434"/>
                  </a:lnTo>
                  <a:lnTo>
                    <a:pt x="1681" y="441"/>
                  </a:lnTo>
                  <a:lnTo>
                    <a:pt x="1681" y="447"/>
                  </a:lnTo>
                  <a:lnTo>
                    <a:pt x="1674" y="454"/>
                  </a:lnTo>
                  <a:lnTo>
                    <a:pt x="1674" y="460"/>
                  </a:lnTo>
                  <a:lnTo>
                    <a:pt x="1674" y="467"/>
                  </a:lnTo>
                  <a:lnTo>
                    <a:pt x="1667" y="467"/>
                  </a:lnTo>
                  <a:lnTo>
                    <a:pt x="1667" y="474"/>
                  </a:lnTo>
                  <a:lnTo>
                    <a:pt x="1661" y="480"/>
                  </a:lnTo>
                  <a:lnTo>
                    <a:pt x="1654" y="487"/>
                  </a:lnTo>
                  <a:lnTo>
                    <a:pt x="1648" y="487"/>
                  </a:lnTo>
                  <a:lnTo>
                    <a:pt x="1641" y="493"/>
                  </a:lnTo>
                  <a:lnTo>
                    <a:pt x="1635" y="493"/>
                  </a:lnTo>
                  <a:lnTo>
                    <a:pt x="1628" y="500"/>
                  </a:lnTo>
                  <a:lnTo>
                    <a:pt x="1621" y="500"/>
                  </a:lnTo>
                  <a:lnTo>
                    <a:pt x="1615" y="506"/>
                  </a:lnTo>
                  <a:lnTo>
                    <a:pt x="1608" y="506"/>
                  </a:lnTo>
                  <a:lnTo>
                    <a:pt x="1595" y="506"/>
                  </a:lnTo>
                  <a:lnTo>
                    <a:pt x="1588" y="506"/>
                  </a:lnTo>
                  <a:lnTo>
                    <a:pt x="1582" y="506"/>
                  </a:lnTo>
                  <a:lnTo>
                    <a:pt x="1575" y="506"/>
                  </a:lnTo>
                  <a:lnTo>
                    <a:pt x="1569" y="500"/>
                  </a:lnTo>
                  <a:lnTo>
                    <a:pt x="1555" y="500"/>
                  </a:lnTo>
                  <a:lnTo>
                    <a:pt x="1549" y="493"/>
                  </a:lnTo>
                  <a:lnTo>
                    <a:pt x="1542" y="493"/>
                  </a:lnTo>
                  <a:lnTo>
                    <a:pt x="1536" y="487"/>
                  </a:lnTo>
                  <a:lnTo>
                    <a:pt x="1529" y="487"/>
                  </a:lnTo>
                  <a:lnTo>
                    <a:pt x="1523" y="480"/>
                  </a:lnTo>
                  <a:lnTo>
                    <a:pt x="1516" y="480"/>
                  </a:lnTo>
                  <a:lnTo>
                    <a:pt x="1509" y="474"/>
                  </a:lnTo>
                  <a:lnTo>
                    <a:pt x="1496" y="474"/>
                  </a:lnTo>
                  <a:lnTo>
                    <a:pt x="1490" y="474"/>
                  </a:lnTo>
                  <a:lnTo>
                    <a:pt x="1483" y="467"/>
                  </a:lnTo>
                  <a:lnTo>
                    <a:pt x="1476" y="467"/>
                  </a:lnTo>
                  <a:lnTo>
                    <a:pt x="1470" y="460"/>
                  </a:lnTo>
                  <a:lnTo>
                    <a:pt x="1463" y="460"/>
                  </a:lnTo>
                  <a:lnTo>
                    <a:pt x="1450" y="454"/>
                  </a:lnTo>
                  <a:lnTo>
                    <a:pt x="1450" y="454"/>
                  </a:lnTo>
                  <a:lnTo>
                    <a:pt x="1443" y="447"/>
                  </a:lnTo>
                  <a:lnTo>
                    <a:pt x="1437" y="441"/>
                  </a:lnTo>
                  <a:lnTo>
                    <a:pt x="1430" y="434"/>
                  </a:lnTo>
                  <a:lnTo>
                    <a:pt x="1430" y="434"/>
                  </a:lnTo>
                  <a:lnTo>
                    <a:pt x="1424" y="427"/>
                  </a:lnTo>
                  <a:lnTo>
                    <a:pt x="1410" y="427"/>
                  </a:lnTo>
                  <a:lnTo>
                    <a:pt x="1404" y="434"/>
                  </a:lnTo>
                  <a:lnTo>
                    <a:pt x="1397" y="434"/>
                  </a:lnTo>
                  <a:lnTo>
                    <a:pt x="1384" y="434"/>
                  </a:lnTo>
                  <a:lnTo>
                    <a:pt x="1378" y="441"/>
                  </a:lnTo>
                  <a:lnTo>
                    <a:pt x="1371" y="441"/>
                  </a:lnTo>
                  <a:lnTo>
                    <a:pt x="1364" y="441"/>
                  </a:lnTo>
                  <a:lnTo>
                    <a:pt x="1351" y="441"/>
                  </a:lnTo>
                  <a:lnTo>
                    <a:pt x="1345" y="441"/>
                  </a:lnTo>
                  <a:lnTo>
                    <a:pt x="1338" y="441"/>
                  </a:lnTo>
                  <a:lnTo>
                    <a:pt x="1325" y="441"/>
                  </a:lnTo>
                  <a:lnTo>
                    <a:pt x="1318" y="447"/>
                  </a:lnTo>
                  <a:lnTo>
                    <a:pt x="1312" y="447"/>
                  </a:lnTo>
                  <a:lnTo>
                    <a:pt x="1305" y="447"/>
                  </a:lnTo>
                  <a:lnTo>
                    <a:pt x="1298" y="454"/>
                  </a:lnTo>
                  <a:lnTo>
                    <a:pt x="1292" y="460"/>
                  </a:lnTo>
                  <a:lnTo>
                    <a:pt x="1285" y="460"/>
                  </a:lnTo>
                  <a:lnTo>
                    <a:pt x="1279" y="467"/>
                  </a:lnTo>
                  <a:lnTo>
                    <a:pt x="1272" y="467"/>
                  </a:lnTo>
                  <a:lnTo>
                    <a:pt x="1266" y="474"/>
                  </a:lnTo>
                  <a:lnTo>
                    <a:pt x="1259" y="480"/>
                  </a:lnTo>
                  <a:lnTo>
                    <a:pt x="1259" y="487"/>
                  </a:lnTo>
                  <a:lnTo>
                    <a:pt x="1252" y="493"/>
                  </a:lnTo>
                  <a:lnTo>
                    <a:pt x="1252" y="493"/>
                  </a:lnTo>
                  <a:lnTo>
                    <a:pt x="1246" y="493"/>
                  </a:lnTo>
                  <a:lnTo>
                    <a:pt x="1246" y="487"/>
                  </a:lnTo>
                  <a:lnTo>
                    <a:pt x="1239" y="480"/>
                  </a:lnTo>
                  <a:lnTo>
                    <a:pt x="1239" y="474"/>
                  </a:lnTo>
                  <a:lnTo>
                    <a:pt x="1239" y="467"/>
                  </a:lnTo>
                  <a:lnTo>
                    <a:pt x="1246" y="460"/>
                  </a:lnTo>
                  <a:lnTo>
                    <a:pt x="1252" y="454"/>
                  </a:lnTo>
                  <a:lnTo>
                    <a:pt x="1252" y="454"/>
                  </a:lnTo>
                  <a:lnTo>
                    <a:pt x="1252" y="447"/>
                  </a:lnTo>
                  <a:lnTo>
                    <a:pt x="1246" y="441"/>
                  </a:lnTo>
                  <a:lnTo>
                    <a:pt x="1239" y="441"/>
                  </a:lnTo>
                  <a:lnTo>
                    <a:pt x="1226" y="447"/>
                  </a:lnTo>
                  <a:lnTo>
                    <a:pt x="1219" y="447"/>
                  </a:lnTo>
                  <a:lnTo>
                    <a:pt x="1219" y="454"/>
                  </a:lnTo>
                  <a:lnTo>
                    <a:pt x="1213" y="460"/>
                  </a:lnTo>
                  <a:lnTo>
                    <a:pt x="1213" y="467"/>
                  </a:lnTo>
                  <a:lnTo>
                    <a:pt x="1213" y="474"/>
                  </a:lnTo>
                  <a:lnTo>
                    <a:pt x="1213" y="474"/>
                  </a:lnTo>
                  <a:lnTo>
                    <a:pt x="1213" y="480"/>
                  </a:lnTo>
                  <a:lnTo>
                    <a:pt x="1213" y="487"/>
                  </a:lnTo>
                  <a:lnTo>
                    <a:pt x="1206" y="493"/>
                  </a:lnTo>
                  <a:lnTo>
                    <a:pt x="1206" y="500"/>
                  </a:lnTo>
                  <a:lnTo>
                    <a:pt x="1206" y="506"/>
                  </a:lnTo>
                  <a:lnTo>
                    <a:pt x="1206" y="513"/>
                  </a:lnTo>
                  <a:lnTo>
                    <a:pt x="1206" y="513"/>
                  </a:lnTo>
                  <a:lnTo>
                    <a:pt x="1200" y="520"/>
                  </a:lnTo>
                  <a:lnTo>
                    <a:pt x="1200" y="526"/>
                  </a:lnTo>
                  <a:lnTo>
                    <a:pt x="1200" y="533"/>
                  </a:lnTo>
                  <a:lnTo>
                    <a:pt x="1193" y="539"/>
                  </a:lnTo>
                  <a:lnTo>
                    <a:pt x="1193" y="546"/>
                  </a:lnTo>
                  <a:lnTo>
                    <a:pt x="1193" y="546"/>
                  </a:lnTo>
                  <a:lnTo>
                    <a:pt x="1193" y="553"/>
                  </a:lnTo>
                  <a:lnTo>
                    <a:pt x="1186" y="559"/>
                  </a:lnTo>
                  <a:lnTo>
                    <a:pt x="1186" y="566"/>
                  </a:lnTo>
                  <a:lnTo>
                    <a:pt x="1186" y="572"/>
                  </a:lnTo>
                  <a:lnTo>
                    <a:pt x="1180" y="579"/>
                  </a:lnTo>
                  <a:lnTo>
                    <a:pt x="1180" y="585"/>
                  </a:lnTo>
                  <a:lnTo>
                    <a:pt x="1180" y="585"/>
                  </a:lnTo>
                  <a:lnTo>
                    <a:pt x="1180" y="592"/>
                  </a:lnTo>
                  <a:lnTo>
                    <a:pt x="1173" y="599"/>
                  </a:lnTo>
                  <a:lnTo>
                    <a:pt x="1173" y="605"/>
                  </a:lnTo>
                  <a:lnTo>
                    <a:pt x="1173" y="612"/>
                  </a:lnTo>
                  <a:lnTo>
                    <a:pt x="1167" y="618"/>
                  </a:lnTo>
                  <a:lnTo>
                    <a:pt x="1167" y="618"/>
                  </a:lnTo>
                  <a:lnTo>
                    <a:pt x="1160" y="625"/>
                  </a:lnTo>
                  <a:lnTo>
                    <a:pt x="1160" y="632"/>
                  </a:lnTo>
                  <a:lnTo>
                    <a:pt x="1153" y="638"/>
                  </a:lnTo>
                  <a:lnTo>
                    <a:pt x="1153" y="645"/>
                  </a:lnTo>
                  <a:lnTo>
                    <a:pt x="1147" y="645"/>
                  </a:lnTo>
                  <a:lnTo>
                    <a:pt x="1153" y="651"/>
                  </a:lnTo>
                  <a:lnTo>
                    <a:pt x="1153" y="658"/>
                  </a:lnTo>
                  <a:lnTo>
                    <a:pt x="1153" y="664"/>
                  </a:lnTo>
                  <a:lnTo>
                    <a:pt x="1153" y="671"/>
                  </a:lnTo>
                  <a:lnTo>
                    <a:pt x="1153" y="678"/>
                  </a:lnTo>
                  <a:lnTo>
                    <a:pt x="1147" y="678"/>
                  </a:lnTo>
                  <a:lnTo>
                    <a:pt x="1140" y="684"/>
                  </a:lnTo>
                  <a:lnTo>
                    <a:pt x="1134" y="684"/>
                  </a:lnTo>
                  <a:lnTo>
                    <a:pt x="1127" y="691"/>
                  </a:lnTo>
                  <a:lnTo>
                    <a:pt x="1114" y="691"/>
                  </a:lnTo>
                  <a:lnTo>
                    <a:pt x="1107" y="691"/>
                  </a:lnTo>
                  <a:lnTo>
                    <a:pt x="1101" y="691"/>
                  </a:lnTo>
                  <a:lnTo>
                    <a:pt x="1088" y="684"/>
                  </a:lnTo>
                  <a:lnTo>
                    <a:pt x="1081" y="684"/>
                  </a:lnTo>
                  <a:lnTo>
                    <a:pt x="1074" y="684"/>
                  </a:lnTo>
                  <a:lnTo>
                    <a:pt x="1061" y="684"/>
                  </a:lnTo>
                  <a:lnTo>
                    <a:pt x="1055" y="684"/>
                  </a:lnTo>
                  <a:lnTo>
                    <a:pt x="1048" y="684"/>
                  </a:lnTo>
                  <a:lnTo>
                    <a:pt x="1035" y="684"/>
                  </a:lnTo>
                  <a:lnTo>
                    <a:pt x="1028" y="684"/>
                  </a:lnTo>
                  <a:lnTo>
                    <a:pt x="1022" y="691"/>
                  </a:lnTo>
                  <a:lnTo>
                    <a:pt x="1009" y="691"/>
                  </a:lnTo>
                  <a:lnTo>
                    <a:pt x="1002" y="691"/>
                  </a:lnTo>
                  <a:lnTo>
                    <a:pt x="1002" y="697"/>
                  </a:lnTo>
                  <a:lnTo>
                    <a:pt x="995" y="704"/>
                  </a:lnTo>
                  <a:lnTo>
                    <a:pt x="989" y="711"/>
                  </a:lnTo>
                  <a:lnTo>
                    <a:pt x="989" y="711"/>
                  </a:lnTo>
                  <a:lnTo>
                    <a:pt x="982" y="717"/>
                  </a:lnTo>
                  <a:lnTo>
                    <a:pt x="982" y="724"/>
                  </a:lnTo>
                  <a:lnTo>
                    <a:pt x="976" y="730"/>
                  </a:lnTo>
                  <a:lnTo>
                    <a:pt x="976" y="737"/>
                  </a:lnTo>
                  <a:lnTo>
                    <a:pt x="969" y="737"/>
                  </a:lnTo>
                  <a:lnTo>
                    <a:pt x="969" y="744"/>
                  </a:lnTo>
                  <a:lnTo>
                    <a:pt x="962" y="750"/>
                  </a:lnTo>
                  <a:lnTo>
                    <a:pt x="956" y="757"/>
                  </a:lnTo>
                  <a:lnTo>
                    <a:pt x="956" y="757"/>
                  </a:lnTo>
                  <a:lnTo>
                    <a:pt x="949" y="763"/>
                  </a:lnTo>
                  <a:lnTo>
                    <a:pt x="949" y="770"/>
                  </a:lnTo>
                  <a:lnTo>
                    <a:pt x="943" y="776"/>
                  </a:lnTo>
                  <a:lnTo>
                    <a:pt x="943" y="783"/>
                  </a:lnTo>
                  <a:lnTo>
                    <a:pt x="936" y="783"/>
                  </a:lnTo>
                  <a:lnTo>
                    <a:pt x="936" y="790"/>
                  </a:lnTo>
                  <a:lnTo>
                    <a:pt x="929" y="796"/>
                  </a:lnTo>
                  <a:lnTo>
                    <a:pt x="923" y="803"/>
                  </a:lnTo>
                  <a:lnTo>
                    <a:pt x="923" y="809"/>
                  </a:lnTo>
                  <a:lnTo>
                    <a:pt x="916" y="809"/>
                  </a:lnTo>
                  <a:lnTo>
                    <a:pt x="916" y="816"/>
                  </a:lnTo>
                  <a:lnTo>
                    <a:pt x="916" y="823"/>
                  </a:lnTo>
                  <a:lnTo>
                    <a:pt x="910" y="829"/>
                  </a:lnTo>
                  <a:lnTo>
                    <a:pt x="910" y="836"/>
                  </a:lnTo>
                  <a:lnTo>
                    <a:pt x="910" y="842"/>
                  </a:lnTo>
                  <a:lnTo>
                    <a:pt x="910" y="842"/>
                  </a:lnTo>
                  <a:lnTo>
                    <a:pt x="910" y="849"/>
                  </a:lnTo>
                  <a:lnTo>
                    <a:pt x="910" y="855"/>
                  </a:lnTo>
                  <a:lnTo>
                    <a:pt x="903" y="862"/>
                  </a:lnTo>
                  <a:lnTo>
                    <a:pt x="903" y="869"/>
                  </a:lnTo>
                  <a:lnTo>
                    <a:pt x="897" y="875"/>
                  </a:lnTo>
                  <a:lnTo>
                    <a:pt x="890" y="875"/>
                  </a:lnTo>
                  <a:lnTo>
                    <a:pt x="883" y="869"/>
                  </a:lnTo>
                  <a:lnTo>
                    <a:pt x="877" y="862"/>
                  </a:lnTo>
                  <a:lnTo>
                    <a:pt x="877" y="862"/>
                  </a:lnTo>
                  <a:lnTo>
                    <a:pt x="870" y="855"/>
                  </a:lnTo>
                  <a:lnTo>
                    <a:pt x="870" y="849"/>
                  </a:lnTo>
                  <a:lnTo>
                    <a:pt x="870" y="842"/>
                  </a:lnTo>
                  <a:lnTo>
                    <a:pt x="870" y="836"/>
                  </a:lnTo>
                  <a:lnTo>
                    <a:pt x="870" y="836"/>
                  </a:lnTo>
                  <a:lnTo>
                    <a:pt x="870" y="829"/>
                  </a:lnTo>
                  <a:lnTo>
                    <a:pt x="870" y="823"/>
                  </a:lnTo>
                  <a:lnTo>
                    <a:pt x="870" y="816"/>
                  </a:lnTo>
                  <a:lnTo>
                    <a:pt x="864" y="809"/>
                  </a:lnTo>
                  <a:lnTo>
                    <a:pt x="864" y="803"/>
                  </a:lnTo>
                  <a:lnTo>
                    <a:pt x="864" y="803"/>
                  </a:lnTo>
                  <a:lnTo>
                    <a:pt x="864" y="809"/>
                  </a:lnTo>
                  <a:lnTo>
                    <a:pt x="864" y="816"/>
                  </a:lnTo>
                  <a:lnTo>
                    <a:pt x="864" y="823"/>
                  </a:lnTo>
                  <a:lnTo>
                    <a:pt x="864" y="829"/>
                  </a:lnTo>
                  <a:lnTo>
                    <a:pt x="864" y="836"/>
                  </a:lnTo>
                  <a:lnTo>
                    <a:pt x="857" y="836"/>
                  </a:lnTo>
                  <a:lnTo>
                    <a:pt x="857" y="842"/>
                  </a:lnTo>
                  <a:lnTo>
                    <a:pt x="857" y="849"/>
                  </a:lnTo>
                  <a:lnTo>
                    <a:pt x="857" y="855"/>
                  </a:lnTo>
                  <a:lnTo>
                    <a:pt x="857" y="862"/>
                  </a:lnTo>
                  <a:lnTo>
                    <a:pt x="857" y="869"/>
                  </a:lnTo>
                  <a:lnTo>
                    <a:pt x="857" y="875"/>
                  </a:lnTo>
                  <a:lnTo>
                    <a:pt x="864" y="882"/>
                  </a:lnTo>
                  <a:lnTo>
                    <a:pt x="864" y="882"/>
                  </a:lnTo>
                  <a:lnTo>
                    <a:pt x="864" y="888"/>
                  </a:lnTo>
                  <a:lnTo>
                    <a:pt x="857" y="895"/>
                  </a:lnTo>
                  <a:lnTo>
                    <a:pt x="850" y="902"/>
                  </a:lnTo>
                  <a:lnTo>
                    <a:pt x="844" y="902"/>
                  </a:lnTo>
                  <a:lnTo>
                    <a:pt x="831" y="902"/>
                  </a:lnTo>
                  <a:lnTo>
                    <a:pt x="824" y="902"/>
                  </a:lnTo>
                  <a:lnTo>
                    <a:pt x="817" y="895"/>
                  </a:lnTo>
                  <a:lnTo>
                    <a:pt x="804" y="895"/>
                  </a:lnTo>
                  <a:lnTo>
                    <a:pt x="798" y="895"/>
                  </a:lnTo>
                  <a:lnTo>
                    <a:pt x="791" y="902"/>
                  </a:lnTo>
                  <a:lnTo>
                    <a:pt x="784" y="902"/>
                  </a:lnTo>
                  <a:lnTo>
                    <a:pt x="778" y="902"/>
                  </a:lnTo>
                  <a:lnTo>
                    <a:pt x="765" y="908"/>
                  </a:lnTo>
                  <a:lnTo>
                    <a:pt x="758" y="908"/>
                  </a:lnTo>
                  <a:lnTo>
                    <a:pt x="752" y="915"/>
                  </a:lnTo>
                  <a:lnTo>
                    <a:pt x="745" y="915"/>
                  </a:lnTo>
                  <a:lnTo>
                    <a:pt x="738" y="921"/>
                  </a:lnTo>
                  <a:lnTo>
                    <a:pt x="738" y="928"/>
                  </a:lnTo>
                  <a:lnTo>
                    <a:pt x="732" y="934"/>
                  </a:lnTo>
                  <a:lnTo>
                    <a:pt x="732" y="934"/>
                  </a:lnTo>
                  <a:lnTo>
                    <a:pt x="725" y="941"/>
                  </a:lnTo>
                  <a:lnTo>
                    <a:pt x="725" y="948"/>
                  </a:lnTo>
                  <a:lnTo>
                    <a:pt x="725" y="954"/>
                  </a:lnTo>
                  <a:lnTo>
                    <a:pt x="719" y="954"/>
                  </a:lnTo>
                  <a:lnTo>
                    <a:pt x="712" y="961"/>
                  </a:lnTo>
                  <a:lnTo>
                    <a:pt x="699" y="954"/>
                  </a:lnTo>
                  <a:lnTo>
                    <a:pt x="686" y="954"/>
                  </a:lnTo>
                  <a:lnTo>
                    <a:pt x="679" y="954"/>
                  </a:lnTo>
                  <a:lnTo>
                    <a:pt x="672" y="954"/>
                  </a:lnTo>
                  <a:lnTo>
                    <a:pt x="666" y="948"/>
                  </a:lnTo>
                  <a:lnTo>
                    <a:pt x="659" y="941"/>
                  </a:lnTo>
                  <a:lnTo>
                    <a:pt x="659" y="941"/>
                  </a:lnTo>
                  <a:lnTo>
                    <a:pt x="653" y="934"/>
                  </a:lnTo>
                  <a:lnTo>
                    <a:pt x="646" y="928"/>
                  </a:lnTo>
                  <a:lnTo>
                    <a:pt x="640" y="928"/>
                  </a:lnTo>
                  <a:lnTo>
                    <a:pt x="633" y="921"/>
                  </a:lnTo>
                  <a:lnTo>
                    <a:pt x="633" y="915"/>
                  </a:lnTo>
                  <a:lnTo>
                    <a:pt x="626" y="915"/>
                  </a:lnTo>
                  <a:lnTo>
                    <a:pt x="620" y="908"/>
                  </a:lnTo>
                  <a:lnTo>
                    <a:pt x="613" y="902"/>
                  </a:lnTo>
                  <a:lnTo>
                    <a:pt x="607" y="902"/>
                  </a:lnTo>
                  <a:lnTo>
                    <a:pt x="600" y="895"/>
                  </a:lnTo>
                  <a:lnTo>
                    <a:pt x="593" y="888"/>
                  </a:lnTo>
                  <a:lnTo>
                    <a:pt x="587" y="882"/>
                  </a:lnTo>
                  <a:lnTo>
                    <a:pt x="587" y="882"/>
                  </a:lnTo>
                  <a:lnTo>
                    <a:pt x="580" y="882"/>
                  </a:lnTo>
                  <a:lnTo>
                    <a:pt x="580" y="888"/>
                  </a:lnTo>
                  <a:lnTo>
                    <a:pt x="580" y="902"/>
                  </a:lnTo>
                  <a:lnTo>
                    <a:pt x="580" y="908"/>
                  </a:lnTo>
                  <a:lnTo>
                    <a:pt x="580" y="908"/>
                  </a:lnTo>
                  <a:lnTo>
                    <a:pt x="580" y="915"/>
                  </a:lnTo>
                  <a:lnTo>
                    <a:pt x="580" y="921"/>
                  </a:lnTo>
                  <a:lnTo>
                    <a:pt x="587" y="928"/>
                  </a:lnTo>
                  <a:lnTo>
                    <a:pt x="587" y="928"/>
                  </a:lnTo>
                  <a:lnTo>
                    <a:pt x="593" y="934"/>
                  </a:lnTo>
                  <a:lnTo>
                    <a:pt x="600" y="941"/>
                  </a:lnTo>
                  <a:lnTo>
                    <a:pt x="600" y="948"/>
                  </a:lnTo>
                  <a:lnTo>
                    <a:pt x="607" y="954"/>
                  </a:lnTo>
                  <a:lnTo>
                    <a:pt x="607" y="954"/>
                  </a:lnTo>
                  <a:lnTo>
                    <a:pt x="613" y="961"/>
                  </a:lnTo>
                  <a:lnTo>
                    <a:pt x="613" y="967"/>
                  </a:lnTo>
                  <a:lnTo>
                    <a:pt x="620" y="974"/>
                  </a:lnTo>
                  <a:lnTo>
                    <a:pt x="626" y="974"/>
                  </a:lnTo>
                  <a:lnTo>
                    <a:pt x="626" y="981"/>
                  </a:lnTo>
                  <a:lnTo>
                    <a:pt x="626" y="987"/>
                  </a:lnTo>
                  <a:lnTo>
                    <a:pt x="633" y="994"/>
                  </a:lnTo>
                  <a:lnTo>
                    <a:pt x="633" y="1000"/>
                  </a:lnTo>
                  <a:lnTo>
                    <a:pt x="633" y="1007"/>
                  </a:lnTo>
                  <a:lnTo>
                    <a:pt x="640" y="1007"/>
                  </a:lnTo>
                  <a:lnTo>
                    <a:pt x="640" y="1013"/>
                  </a:lnTo>
                  <a:lnTo>
                    <a:pt x="646" y="1020"/>
                  </a:lnTo>
                  <a:lnTo>
                    <a:pt x="646" y="1027"/>
                  </a:lnTo>
                  <a:lnTo>
                    <a:pt x="653" y="1033"/>
                  </a:lnTo>
                  <a:lnTo>
                    <a:pt x="653" y="1033"/>
                  </a:lnTo>
                  <a:lnTo>
                    <a:pt x="659" y="1040"/>
                  </a:lnTo>
                  <a:lnTo>
                    <a:pt x="659" y="1046"/>
                  </a:lnTo>
                  <a:lnTo>
                    <a:pt x="666" y="1053"/>
                  </a:lnTo>
                  <a:lnTo>
                    <a:pt x="672" y="1060"/>
                  </a:lnTo>
                  <a:lnTo>
                    <a:pt x="672" y="1060"/>
                  </a:lnTo>
                  <a:lnTo>
                    <a:pt x="679" y="1066"/>
                  </a:lnTo>
                  <a:lnTo>
                    <a:pt x="679" y="1073"/>
                  </a:lnTo>
                  <a:lnTo>
                    <a:pt x="672" y="1079"/>
                  </a:lnTo>
                  <a:lnTo>
                    <a:pt x="672" y="1086"/>
                  </a:lnTo>
                  <a:lnTo>
                    <a:pt x="666" y="1086"/>
                  </a:lnTo>
                  <a:lnTo>
                    <a:pt x="659" y="1092"/>
                  </a:lnTo>
                  <a:lnTo>
                    <a:pt x="653" y="1099"/>
                  </a:lnTo>
                  <a:lnTo>
                    <a:pt x="653" y="1099"/>
                  </a:lnTo>
                  <a:lnTo>
                    <a:pt x="646" y="1106"/>
                  </a:lnTo>
                  <a:lnTo>
                    <a:pt x="640" y="1112"/>
                  </a:lnTo>
                  <a:lnTo>
                    <a:pt x="633" y="1112"/>
                  </a:lnTo>
                  <a:lnTo>
                    <a:pt x="626" y="1119"/>
                  </a:lnTo>
                  <a:lnTo>
                    <a:pt x="620" y="1119"/>
                  </a:lnTo>
                  <a:lnTo>
                    <a:pt x="613" y="1125"/>
                  </a:lnTo>
                  <a:lnTo>
                    <a:pt x="600" y="1125"/>
                  </a:lnTo>
                  <a:lnTo>
                    <a:pt x="593" y="1125"/>
                  </a:lnTo>
                  <a:lnTo>
                    <a:pt x="587" y="1132"/>
                  </a:lnTo>
                  <a:lnTo>
                    <a:pt x="574" y="1132"/>
                  </a:lnTo>
                  <a:lnTo>
                    <a:pt x="567" y="1132"/>
                  </a:lnTo>
                  <a:lnTo>
                    <a:pt x="560" y="1132"/>
                  </a:lnTo>
                  <a:lnTo>
                    <a:pt x="554" y="1132"/>
                  </a:lnTo>
                  <a:lnTo>
                    <a:pt x="541" y="1132"/>
                  </a:lnTo>
                  <a:lnTo>
                    <a:pt x="534" y="1132"/>
                  </a:lnTo>
                  <a:lnTo>
                    <a:pt x="528" y="1132"/>
                  </a:lnTo>
                  <a:lnTo>
                    <a:pt x="514" y="1132"/>
                  </a:lnTo>
                  <a:lnTo>
                    <a:pt x="508" y="1139"/>
                  </a:lnTo>
                  <a:lnTo>
                    <a:pt x="501" y="1139"/>
                  </a:lnTo>
                  <a:lnTo>
                    <a:pt x="495" y="1145"/>
                  </a:lnTo>
                  <a:lnTo>
                    <a:pt x="495" y="1152"/>
                  </a:lnTo>
                  <a:lnTo>
                    <a:pt x="495" y="1158"/>
                  </a:lnTo>
                  <a:lnTo>
                    <a:pt x="495" y="1158"/>
                  </a:lnTo>
                  <a:lnTo>
                    <a:pt x="495" y="1165"/>
                  </a:lnTo>
                  <a:lnTo>
                    <a:pt x="488" y="1171"/>
                  </a:lnTo>
                  <a:lnTo>
                    <a:pt x="488" y="1178"/>
                  </a:lnTo>
                  <a:lnTo>
                    <a:pt x="488" y="1185"/>
                  </a:lnTo>
                  <a:lnTo>
                    <a:pt x="488" y="1191"/>
                  </a:lnTo>
                  <a:lnTo>
                    <a:pt x="481" y="1191"/>
                  </a:lnTo>
                  <a:lnTo>
                    <a:pt x="481" y="1198"/>
                  </a:lnTo>
                  <a:lnTo>
                    <a:pt x="481" y="1204"/>
                  </a:lnTo>
                  <a:lnTo>
                    <a:pt x="475" y="1211"/>
                  </a:lnTo>
                  <a:lnTo>
                    <a:pt x="475" y="1218"/>
                  </a:lnTo>
                  <a:lnTo>
                    <a:pt x="468" y="1218"/>
                  </a:lnTo>
                  <a:lnTo>
                    <a:pt x="462" y="1211"/>
                  </a:lnTo>
                  <a:lnTo>
                    <a:pt x="448" y="1211"/>
                  </a:lnTo>
                  <a:lnTo>
                    <a:pt x="442" y="1204"/>
                  </a:lnTo>
                  <a:lnTo>
                    <a:pt x="435" y="1204"/>
                  </a:lnTo>
                  <a:lnTo>
                    <a:pt x="422" y="1204"/>
                  </a:lnTo>
                  <a:lnTo>
                    <a:pt x="415" y="1204"/>
                  </a:lnTo>
                  <a:lnTo>
                    <a:pt x="409" y="1211"/>
                  </a:lnTo>
                  <a:lnTo>
                    <a:pt x="402" y="1211"/>
                  </a:lnTo>
                  <a:lnTo>
                    <a:pt x="389" y="1211"/>
                  </a:lnTo>
                  <a:lnTo>
                    <a:pt x="383" y="1211"/>
                  </a:lnTo>
                  <a:lnTo>
                    <a:pt x="376" y="1211"/>
                  </a:lnTo>
                  <a:lnTo>
                    <a:pt x="363" y="1218"/>
                  </a:lnTo>
                  <a:lnTo>
                    <a:pt x="356" y="1218"/>
                  </a:lnTo>
                  <a:lnTo>
                    <a:pt x="356" y="1224"/>
                  </a:lnTo>
                  <a:lnTo>
                    <a:pt x="356" y="1231"/>
                  </a:lnTo>
                  <a:lnTo>
                    <a:pt x="356" y="1237"/>
                  </a:lnTo>
                  <a:lnTo>
                    <a:pt x="363" y="1244"/>
                  </a:lnTo>
                  <a:lnTo>
                    <a:pt x="363" y="1244"/>
                  </a:lnTo>
                  <a:lnTo>
                    <a:pt x="369" y="1250"/>
                  </a:lnTo>
                  <a:lnTo>
                    <a:pt x="369" y="1257"/>
                  </a:lnTo>
                  <a:lnTo>
                    <a:pt x="376" y="1264"/>
                  </a:lnTo>
                  <a:lnTo>
                    <a:pt x="376" y="1270"/>
                  </a:lnTo>
                  <a:lnTo>
                    <a:pt x="383" y="1270"/>
                  </a:lnTo>
                  <a:lnTo>
                    <a:pt x="383" y="1277"/>
                  </a:lnTo>
                  <a:lnTo>
                    <a:pt x="389" y="1283"/>
                  </a:lnTo>
                  <a:lnTo>
                    <a:pt x="389" y="1290"/>
                  </a:lnTo>
                  <a:lnTo>
                    <a:pt x="383" y="1290"/>
                  </a:lnTo>
                  <a:lnTo>
                    <a:pt x="383" y="1283"/>
                  </a:lnTo>
                  <a:lnTo>
                    <a:pt x="376" y="1277"/>
                  </a:lnTo>
                  <a:lnTo>
                    <a:pt x="369" y="1270"/>
                  </a:lnTo>
                  <a:lnTo>
                    <a:pt x="363" y="1270"/>
                  </a:lnTo>
                  <a:lnTo>
                    <a:pt x="356" y="1264"/>
                  </a:lnTo>
                  <a:lnTo>
                    <a:pt x="350" y="1264"/>
                  </a:lnTo>
                  <a:lnTo>
                    <a:pt x="343" y="1257"/>
                  </a:lnTo>
                  <a:lnTo>
                    <a:pt x="336" y="1257"/>
                  </a:lnTo>
                  <a:lnTo>
                    <a:pt x="330" y="1250"/>
                  </a:lnTo>
                  <a:lnTo>
                    <a:pt x="323" y="1244"/>
                  </a:lnTo>
                  <a:lnTo>
                    <a:pt x="317" y="1244"/>
                  </a:lnTo>
                  <a:lnTo>
                    <a:pt x="310" y="1237"/>
                  </a:lnTo>
                  <a:lnTo>
                    <a:pt x="303" y="1237"/>
                  </a:lnTo>
                  <a:lnTo>
                    <a:pt x="297" y="1237"/>
                  </a:lnTo>
                  <a:lnTo>
                    <a:pt x="284" y="1231"/>
                  </a:lnTo>
                  <a:lnTo>
                    <a:pt x="277" y="1231"/>
                  </a:lnTo>
                  <a:lnTo>
                    <a:pt x="271" y="1231"/>
                  </a:lnTo>
                  <a:lnTo>
                    <a:pt x="264" y="1224"/>
                  </a:lnTo>
                  <a:lnTo>
                    <a:pt x="257" y="1224"/>
                  </a:lnTo>
                  <a:lnTo>
                    <a:pt x="244" y="1224"/>
                  </a:lnTo>
                  <a:lnTo>
                    <a:pt x="238" y="1218"/>
                  </a:lnTo>
                  <a:lnTo>
                    <a:pt x="231" y="1218"/>
                  </a:lnTo>
                  <a:lnTo>
                    <a:pt x="224" y="1218"/>
                  </a:lnTo>
                  <a:lnTo>
                    <a:pt x="211" y="1211"/>
                  </a:lnTo>
                  <a:lnTo>
                    <a:pt x="205" y="1211"/>
                  </a:lnTo>
                  <a:lnTo>
                    <a:pt x="198" y="1211"/>
                  </a:lnTo>
                  <a:lnTo>
                    <a:pt x="191" y="1204"/>
                  </a:lnTo>
                  <a:lnTo>
                    <a:pt x="178" y="1204"/>
                  </a:lnTo>
                  <a:lnTo>
                    <a:pt x="172" y="1204"/>
                  </a:lnTo>
                  <a:lnTo>
                    <a:pt x="165" y="1198"/>
                  </a:lnTo>
                  <a:lnTo>
                    <a:pt x="159" y="1198"/>
                  </a:lnTo>
                  <a:lnTo>
                    <a:pt x="152" y="1198"/>
                  </a:lnTo>
                  <a:lnTo>
                    <a:pt x="139" y="1191"/>
                  </a:lnTo>
                  <a:lnTo>
                    <a:pt x="132" y="1191"/>
                  </a:lnTo>
                  <a:lnTo>
                    <a:pt x="126" y="1191"/>
                  </a:lnTo>
                  <a:lnTo>
                    <a:pt x="112" y="1191"/>
                  </a:lnTo>
                  <a:lnTo>
                    <a:pt x="106" y="1191"/>
                  </a:lnTo>
                  <a:lnTo>
                    <a:pt x="99" y="1185"/>
                  </a:lnTo>
                  <a:lnTo>
                    <a:pt x="93" y="1185"/>
                  </a:lnTo>
                  <a:lnTo>
                    <a:pt x="79" y="1185"/>
                  </a:lnTo>
                  <a:lnTo>
                    <a:pt x="73" y="1185"/>
                  </a:lnTo>
                  <a:lnTo>
                    <a:pt x="60" y="1191"/>
                  </a:lnTo>
                  <a:lnTo>
                    <a:pt x="53" y="1191"/>
                  </a:lnTo>
                  <a:lnTo>
                    <a:pt x="53" y="1198"/>
                  </a:lnTo>
                  <a:lnTo>
                    <a:pt x="46" y="1204"/>
                  </a:lnTo>
                  <a:lnTo>
                    <a:pt x="46" y="1204"/>
                  </a:lnTo>
                  <a:lnTo>
                    <a:pt x="40" y="1211"/>
                  </a:lnTo>
                  <a:lnTo>
                    <a:pt x="33" y="1218"/>
                  </a:lnTo>
                  <a:lnTo>
                    <a:pt x="33" y="1224"/>
                  </a:lnTo>
                  <a:lnTo>
                    <a:pt x="27" y="1224"/>
                  </a:lnTo>
                  <a:lnTo>
                    <a:pt x="27" y="1231"/>
                  </a:lnTo>
                  <a:lnTo>
                    <a:pt x="27" y="1237"/>
                  </a:lnTo>
                  <a:lnTo>
                    <a:pt x="27" y="1244"/>
                  </a:lnTo>
                  <a:lnTo>
                    <a:pt x="27" y="1250"/>
                  </a:lnTo>
                  <a:lnTo>
                    <a:pt x="27" y="1257"/>
                  </a:lnTo>
                  <a:lnTo>
                    <a:pt x="20" y="1264"/>
                  </a:lnTo>
                  <a:lnTo>
                    <a:pt x="20" y="1264"/>
                  </a:lnTo>
                  <a:lnTo>
                    <a:pt x="20" y="1270"/>
                  </a:lnTo>
                  <a:lnTo>
                    <a:pt x="20" y="1277"/>
                  </a:lnTo>
                  <a:lnTo>
                    <a:pt x="20" y="1283"/>
                  </a:lnTo>
                  <a:lnTo>
                    <a:pt x="20" y="1290"/>
                  </a:lnTo>
                  <a:lnTo>
                    <a:pt x="20" y="1297"/>
                  </a:lnTo>
                  <a:lnTo>
                    <a:pt x="20" y="1303"/>
                  </a:lnTo>
                  <a:lnTo>
                    <a:pt x="14" y="1303"/>
                  </a:lnTo>
                  <a:lnTo>
                    <a:pt x="14" y="1310"/>
                  </a:lnTo>
                  <a:lnTo>
                    <a:pt x="14" y="1316"/>
                  </a:lnTo>
                  <a:lnTo>
                    <a:pt x="14" y="1323"/>
                  </a:lnTo>
                  <a:lnTo>
                    <a:pt x="14" y="1329"/>
                  </a:lnTo>
                  <a:lnTo>
                    <a:pt x="14" y="1336"/>
                  </a:lnTo>
                  <a:lnTo>
                    <a:pt x="14" y="1343"/>
                  </a:lnTo>
                  <a:lnTo>
                    <a:pt x="7" y="1343"/>
                  </a:lnTo>
                  <a:lnTo>
                    <a:pt x="7" y="1349"/>
                  </a:lnTo>
                  <a:lnTo>
                    <a:pt x="7" y="1356"/>
                  </a:lnTo>
                  <a:lnTo>
                    <a:pt x="7" y="1362"/>
                  </a:lnTo>
                  <a:lnTo>
                    <a:pt x="7" y="1369"/>
                  </a:lnTo>
                  <a:lnTo>
                    <a:pt x="7" y="1376"/>
                  </a:lnTo>
                  <a:lnTo>
                    <a:pt x="7" y="1382"/>
                  </a:lnTo>
                  <a:lnTo>
                    <a:pt x="7" y="1382"/>
                  </a:lnTo>
                  <a:lnTo>
                    <a:pt x="0" y="1389"/>
                  </a:lnTo>
                  <a:lnTo>
                    <a:pt x="0" y="1395"/>
                  </a:lnTo>
                  <a:lnTo>
                    <a:pt x="0" y="1402"/>
                  </a:lnTo>
                  <a:lnTo>
                    <a:pt x="0" y="1408"/>
                  </a:lnTo>
                  <a:lnTo>
                    <a:pt x="0" y="1415"/>
                  </a:lnTo>
                  <a:lnTo>
                    <a:pt x="0" y="1422"/>
                  </a:lnTo>
                  <a:lnTo>
                    <a:pt x="0" y="142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6" name=""/>
            <p:cNvSpPr/>
            <p:nvPr/>
          </p:nvSpPr>
          <p:spPr>
            <a:xfrm>
              <a:off x="4262400" y="4549680"/>
              <a:ext cx="61920" cy="73080"/>
            </a:xfrm>
            <a:custGeom>
              <a:avLst/>
              <a:gdLst/>
              <a:ahLst/>
              <a:rect l="l" t="t" r="r" b="b"/>
              <a:pathLst>
                <a:path w="39" h="46">
                  <a:moveTo>
                    <a:pt x="13" y="46"/>
                  </a:moveTo>
                  <a:lnTo>
                    <a:pt x="6" y="40"/>
                  </a:lnTo>
                  <a:lnTo>
                    <a:pt x="6" y="33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0" y="20"/>
                  </a:lnTo>
                  <a:lnTo>
                    <a:pt x="6" y="13"/>
                  </a:lnTo>
                  <a:lnTo>
                    <a:pt x="6" y="7"/>
                  </a:lnTo>
                  <a:lnTo>
                    <a:pt x="13" y="0"/>
                  </a:lnTo>
                  <a:lnTo>
                    <a:pt x="19" y="0"/>
                  </a:lnTo>
                  <a:lnTo>
                    <a:pt x="26" y="0"/>
                  </a:lnTo>
                  <a:lnTo>
                    <a:pt x="33" y="7"/>
                  </a:lnTo>
                  <a:lnTo>
                    <a:pt x="33" y="13"/>
                  </a:lnTo>
                  <a:lnTo>
                    <a:pt x="39" y="20"/>
                  </a:lnTo>
                  <a:lnTo>
                    <a:pt x="39" y="27"/>
                  </a:lnTo>
                  <a:lnTo>
                    <a:pt x="33" y="27"/>
                  </a:lnTo>
                  <a:lnTo>
                    <a:pt x="33" y="33"/>
                  </a:lnTo>
                  <a:lnTo>
                    <a:pt x="26" y="40"/>
                  </a:lnTo>
                  <a:lnTo>
                    <a:pt x="19" y="46"/>
                  </a:lnTo>
                  <a:lnTo>
                    <a:pt x="13" y="46"/>
                  </a:lnTo>
                  <a:lnTo>
                    <a:pt x="13" y="4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7" name=""/>
            <p:cNvSpPr/>
            <p:nvPr/>
          </p:nvSpPr>
          <p:spPr>
            <a:xfrm>
              <a:off x="5338800" y="3494160"/>
              <a:ext cx="471600" cy="649080"/>
            </a:xfrm>
            <a:custGeom>
              <a:avLst/>
              <a:gdLst/>
              <a:ahLst/>
              <a:rect l="l" t="t" r="r" b="b"/>
              <a:pathLst>
                <a:path w="297" h="409">
                  <a:moveTo>
                    <a:pt x="0" y="402"/>
                  </a:moveTo>
                  <a:lnTo>
                    <a:pt x="7" y="395"/>
                  </a:lnTo>
                  <a:lnTo>
                    <a:pt x="7" y="389"/>
                  </a:lnTo>
                  <a:lnTo>
                    <a:pt x="14" y="382"/>
                  </a:lnTo>
                  <a:lnTo>
                    <a:pt x="14" y="382"/>
                  </a:lnTo>
                  <a:lnTo>
                    <a:pt x="14" y="376"/>
                  </a:lnTo>
                  <a:lnTo>
                    <a:pt x="20" y="369"/>
                  </a:lnTo>
                  <a:lnTo>
                    <a:pt x="27" y="362"/>
                  </a:lnTo>
                  <a:lnTo>
                    <a:pt x="33" y="356"/>
                  </a:lnTo>
                  <a:lnTo>
                    <a:pt x="33" y="349"/>
                  </a:lnTo>
                  <a:lnTo>
                    <a:pt x="40" y="349"/>
                  </a:lnTo>
                  <a:lnTo>
                    <a:pt x="40" y="343"/>
                  </a:lnTo>
                  <a:lnTo>
                    <a:pt x="40" y="336"/>
                  </a:lnTo>
                  <a:lnTo>
                    <a:pt x="40" y="330"/>
                  </a:lnTo>
                  <a:lnTo>
                    <a:pt x="33" y="323"/>
                  </a:lnTo>
                  <a:lnTo>
                    <a:pt x="33" y="316"/>
                  </a:lnTo>
                  <a:lnTo>
                    <a:pt x="40" y="316"/>
                  </a:lnTo>
                  <a:lnTo>
                    <a:pt x="47" y="310"/>
                  </a:lnTo>
                  <a:lnTo>
                    <a:pt x="47" y="303"/>
                  </a:lnTo>
                  <a:lnTo>
                    <a:pt x="53" y="297"/>
                  </a:lnTo>
                  <a:lnTo>
                    <a:pt x="53" y="290"/>
                  </a:lnTo>
                  <a:lnTo>
                    <a:pt x="60" y="290"/>
                  </a:lnTo>
                  <a:lnTo>
                    <a:pt x="66" y="283"/>
                  </a:lnTo>
                  <a:lnTo>
                    <a:pt x="73" y="277"/>
                  </a:lnTo>
                  <a:lnTo>
                    <a:pt x="79" y="270"/>
                  </a:lnTo>
                  <a:lnTo>
                    <a:pt x="86" y="264"/>
                  </a:lnTo>
                  <a:lnTo>
                    <a:pt x="86" y="264"/>
                  </a:lnTo>
                  <a:lnTo>
                    <a:pt x="86" y="257"/>
                  </a:lnTo>
                  <a:lnTo>
                    <a:pt x="86" y="251"/>
                  </a:lnTo>
                  <a:lnTo>
                    <a:pt x="86" y="244"/>
                  </a:lnTo>
                  <a:lnTo>
                    <a:pt x="86" y="237"/>
                  </a:lnTo>
                  <a:lnTo>
                    <a:pt x="86" y="231"/>
                  </a:lnTo>
                  <a:lnTo>
                    <a:pt x="86" y="224"/>
                  </a:lnTo>
                  <a:lnTo>
                    <a:pt x="93" y="218"/>
                  </a:lnTo>
                  <a:lnTo>
                    <a:pt x="93" y="211"/>
                  </a:lnTo>
                  <a:lnTo>
                    <a:pt x="93" y="211"/>
                  </a:lnTo>
                  <a:lnTo>
                    <a:pt x="99" y="204"/>
                  </a:lnTo>
                  <a:lnTo>
                    <a:pt x="99" y="198"/>
                  </a:lnTo>
                  <a:lnTo>
                    <a:pt x="99" y="191"/>
                  </a:lnTo>
                  <a:lnTo>
                    <a:pt x="106" y="185"/>
                  </a:lnTo>
                  <a:lnTo>
                    <a:pt x="106" y="178"/>
                  </a:lnTo>
                  <a:lnTo>
                    <a:pt x="106" y="171"/>
                  </a:lnTo>
                  <a:lnTo>
                    <a:pt x="106" y="165"/>
                  </a:lnTo>
                  <a:lnTo>
                    <a:pt x="112" y="158"/>
                  </a:lnTo>
                  <a:lnTo>
                    <a:pt x="112" y="158"/>
                  </a:lnTo>
                  <a:lnTo>
                    <a:pt x="119" y="152"/>
                  </a:lnTo>
                  <a:lnTo>
                    <a:pt x="126" y="145"/>
                  </a:lnTo>
                  <a:lnTo>
                    <a:pt x="132" y="139"/>
                  </a:lnTo>
                  <a:lnTo>
                    <a:pt x="132" y="132"/>
                  </a:lnTo>
                  <a:lnTo>
                    <a:pt x="139" y="132"/>
                  </a:lnTo>
                  <a:lnTo>
                    <a:pt x="139" y="125"/>
                  </a:lnTo>
                  <a:lnTo>
                    <a:pt x="139" y="119"/>
                  </a:lnTo>
                  <a:lnTo>
                    <a:pt x="139" y="112"/>
                  </a:lnTo>
                  <a:lnTo>
                    <a:pt x="139" y="106"/>
                  </a:lnTo>
                  <a:lnTo>
                    <a:pt x="139" y="99"/>
                  </a:lnTo>
                  <a:lnTo>
                    <a:pt x="139" y="92"/>
                  </a:lnTo>
                  <a:lnTo>
                    <a:pt x="145" y="86"/>
                  </a:lnTo>
                  <a:lnTo>
                    <a:pt x="145" y="79"/>
                  </a:lnTo>
                  <a:lnTo>
                    <a:pt x="152" y="79"/>
                  </a:lnTo>
                  <a:lnTo>
                    <a:pt x="152" y="73"/>
                  </a:lnTo>
                  <a:lnTo>
                    <a:pt x="159" y="66"/>
                  </a:lnTo>
                  <a:lnTo>
                    <a:pt x="159" y="60"/>
                  </a:lnTo>
                  <a:lnTo>
                    <a:pt x="159" y="53"/>
                  </a:lnTo>
                  <a:lnTo>
                    <a:pt x="159" y="46"/>
                  </a:lnTo>
                  <a:lnTo>
                    <a:pt x="159" y="40"/>
                  </a:lnTo>
                  <a:lnTo>
                    <a:pt x="159" y="33"/>
                  </a:lnTo>
                  <a:lnTo>
                    <a:pt x="159" y="27"/>
                  </a:lnTo>
                  <a:lnTo>
                    <a:pt x="159" y="20"/>
                  </a:lnTo>
                  <a:lnTo>
                    <a:pt x="159" y="20"/>
                  </a:lnTo>
                  <a:lnTo>
                    <a:pt x="159" y="13"/>
                  </a:lnTo>
                  <a:lnTo>
                    <a:pt x="165" y="7"/>
                  </a:lnTo>
                  <a:lnTo>
                    <a:pt x="172" y="0"/>
                  </a:lnTo>
                  <a:lnTo>
                    <a:pt x="178" y="0"/>
                  </a:lnTo>
                  <a:lnTo>
                    <a:pt x="191" y="0"/>
                  </a:lnTo>
                  <a:lnTo>
                    <a:pt x="198" y="7"/>
                  </a:lnTo>
                  <a:lnTo>
                    <a:pt x="205" y="7"/>
                  </a:lnTo>
                  <a:lnTo>
                    <a:pt x="211" y="13"/>
                  </a:lnTo>
                  <a:lnTo>
                    <a:pt x="218" y="20"/>
                  </a:lnTo>
                  <a:lnTo>
                    <a:pt x="224" y="27"/>
                  </a:lnTo>
                  <a:lnTo>
                    <a:pt x="231" y="27"/>
                  </a:lnTo>
                  <a:lnTo>
                    <a:pt x="238" y="27"/>
                  </a:lnTo>
                  <a:lnTo>
                    <a:pt x="244" y="33"/>
                  </a:lnTo>
                  <a:lnTo>
                    <a:pt x="257" y="33"/>
                  </a:lnTo>
                  <a:lnTo>
                    <a:pt x="264" y="40"/>
                  </a:lnTo>
                  <a:lnTo>
                    <a:pt x="264" y="40"/>
                  </a:lnTo>
                  <a:lnTo>
                    <a:pt x="271" y="46"/>
                  </a:lnTo>
                  <a:lnTo>
                    <a:pt x="271" y="53"/>
                  </a:lnTo>
                  <a:lnTo>
                    <a:pt x="277" y="60"/>
                  </a:lnTo>
                  <a:lnTo>
                    <a:pt x="284" y="66"/>
                  </a:lnTo>
                  <a:lnTo>
                    <a:pt x="297" y="66"/>
                  </a:lnTo>
                  <a:lnTo>
                    <a:pt x="297" y="66"/>
                  </a:lnTo>
                  <a:lnTo>
                    <a:pt x="290" y="73"/>
                  </a:lnTo>
                  <a:lnTo>
                    <a:pt x="284" y="79"/>
                  </a:lnTo>
                  <a:lnTo>
                    <a:pt x="277" y="86"/>
                  </a:lnTo>
                  <a:lnTo>
                    <a:pt x="271" y="86"/>
                  </a:lnTo>
                  <a:lnTo>
                    <a:pt x="264" y="92"/>
                  </a:lnTo>
                  <a:lnTo>
                    <a:pt x="264" y="99"/>
                  </a:lnTo>
                  <a:lnTo>
                    <a:pt x="257" y="106"/>
                  </a:lnTo>
                  <a:lnTo>
                    <a:pt x="251" y="106"/>
                  </a:lnTo>
                  <a:lnTo>
                    <a:pt x="244" y="112"/>
                  </a:lnTo>
                  <a:lnTo>
                    <a:pt x="238" y="119"/>
                  </a:lnTo>
                  <a:lnTo>
                    <a:pt x="231" y="119"/>
                  </a:lnTo>
                  <a:lnTo>
                    <a:pt x="224" y="125"/>
                  </a:lnTo>
                  <a:lnTo>
                    <a:pt x="224" y="132"/>
                  </a:lnTo>
                  <a:lnTo>
                    <a:pt x="224" y="139"/>
                  </a:lnTo>
                  <a:lnTo>
                    <a:pt x="224" y="145"/>
                  </a:lnTo>
                  <a:lnTo>
                    <a:pt x="224" y="152"/>
                  </a:lnTo>
                  <a:lnTo>
                    <a:pt x="224" y="158"/>
                  </a:lnTo>
                  <a:lnTo>
                    <a:pt x="224" y="165"/>
                  </a:lnTo>
                  <a:lnTo>
                    <a:pt x="224" y="171"/>
                  </a:lnTo>
                  <a:lnTo>
                    <a:pt x="231" y="171"/>
                  </a:lnTo>
                  <a:lnTo>
                    <a:pt x="231" y="178"/>
                  </a:lnTo>
                  <a:lnTo>
                    <a:pt x="231" y="185"/>
                  </a:lnTo>
                  <a:lnTo>
                    <a:pt x="231" y="191"/>
                  </a:lnTo>
                  <a:lnTo>
                    <a:pt x="231" y="198"/>
                  </a:lnTo>
                  <a:lnTo>
                    <a:pt x="231" y="204"/>
                  </a:lnTo>
                  <a:lnTo>
                    <a:pt x="231" y="211"/>
                  </a:lnTo>
                  <a:lnTo>
                    <a:pt x="231" y="218"/>
                  </a:lnTo>
                  <a:lnTo>
                    <a:pt x="231" y="224"/>
                  </a:lnTo>
                  <a:lnTo>
                    <a:pt x="231" y="231"/>
                  </a:lnTo>
                  <a:lnTo>
                    <a:pt x="238" y="237"/>
                  </a:lnTo>
                  <a:lnTo>
                    <a:pt x="238" y="237"/>
                  </a:lnTo>
                  <a:lnTo>
                    <a:pt x="238" y="244"/>
                  </a:lnTo>
                  <a:lnTo>
                    <a:pt x="244" y="251"/>
                  </a:lnTo>
                  <a:lnTo>
                    <a:pt x="244" y="257"/>
                  </a:lnTo>
                  <a:lnTo>
                    <a:pt x="244" y="264"/>
                  </a:lnTo>
                  <a:lnTo>
                    <a:pt x="244" y="270"/>
                  </a:lnTo>
                  <a:lnTo>
                    <a:pt x="238" y="277"/>
                  </a:lnTo>
                  <a:lnTo>
                    <a:pt x="238" y="283"/>
                  </a:lnTo>
                  <a:lnTo>
                    <a:pt x="231" y="290"/>
                  </a:lnTo>
                  <a:lnTo>
                    <a:pt x="231" y="297"/>
                  </a:lnTo>
                  <a:lnTo>
                    <a:pt x="238" y="303"/>
                  </a:lnTo>
                  <a:lnTo>
                    <a:pt x="238" y="303"/>
                  </a:lnTo>
                  <a:lnTo>
                    <a:pt x="238" y="310"/>
                  </a:lnTo>
                  <a:lnTo>
                    <a:pt x="231" y="316"/>
                  </a:lnTo>
                  <a:lnTo>
                    <a:pt x="224" y="323"/>
                  </a:lnTo>
                  <a:lnTo>
                    <a:pt x="224" y="330"/>
                  </a:lnTo>
                  <a:lnTo>
                    <a:pt x="218" y="336"/>
                  </a:lnTo>
                  <a:lnTo>
                    <a:pt x="218" y="343"/>
                  </a:lnTo>
                  <a:lnTo>
                    <a:pt x="218" y="343"/>
                  </a:lnTo>
                  <a:lnTo>
                    <a:pt x="218" y="349"/>
                  </a:lnTo>
                  <a:lnTo>
                    <a:pt x="218" y="356"/>
                  </a:lnTo>
                  <a:lnTo>
                    <a:pt x="218" y="362"/>
                  </a:lnTo>
                  <a:lnTo>
                    <a:pt x="218" y="369"/>
                  </a:lnTo>
                  <a:lnTo>
                    <a:pt x="218" y="376"/>
                  </a:lnTo>
                  <a:lnTo>
                    <a:pt x="211" y="382"/>
                  </a:lnTo>
                  <a:lnTo>
                    <a:pt x="211" y="389"/>
                  </a:lnTo>
                  <a:lnTo>
                    <a:pt x="205" y="395"/>
                  </a:lnTo>
                  <a:lnTo>
                    <a:pt x="198" y="395"/>
                  </a:lnTo>
                  <a:lnTo>
                    <a:pt x="191" y="402"/>
                  </a:lnTo>
                  <a:lnTo>
                    <a:pt x="185" y="402"/>
                  </a:lnTo>
                  <a:lnTo>
                    <a:pt x="172" y="402"/>
                  </a:lnTo>
                  <a:lnTo>
                    <a:pt x="165" y="402"/>
                  </a:lnTo>
                  <a:lnTo>
                    <a:pt x="152" y="402"/>
                  </a:lnTo>
                  <a:lnTo>
                    <a:pt x="145" y="402"/>
                  </a:lnTo>
                  <a:lnTo>
                    <a:pt x="139" y="402"/>
                  </a:lnTo>
                  <a:lnTo>
                    <a:pt x="126" y="402"/>
                  </a:lnTo>
                  <a:lnTo>
                    <a:pt x="119" y="402"/>
                  </a:lnTo>
                  <a:lnTo>
                    <a:pt x="106" y="402"/>
                  </a:lnTo>
                  <a:lnTo>
                    <a:pt x="99" y="402"/>
                  </a:lnTo>
                  <a:lnTo>
                    <a:pt x="93" y="402"/>
                  </a:lnTo>
                  <a:lnTo>
                    <a:pt x="79" y="402"/>
                  </a:lnTo>
                  <a:lnTo>
                    <a:pt x="73" y="402"/>
                  </a:lnTo>
                  <a:lnTo>
                    <a:pt x="60" y="402"/>
                  </a:lnTo>
                  <a:lnTo>
                    <a:pt x="53" y="402"/>
                  </a:lnTo>
                  <a:lnTo>
                    <a:pt x="47" y="402"/>
                  </a:lnTo>
                  <a:lnTo>
                    <a:pt x="33" y="409"/>
                  </a:lnTo>
                  <a:lnTo>
                    <a:pt x="27" y="409"/>
                  </a:lnTo>
                  <a:lnTo>
                    <a:pt x="14" y="409"/>
                  </a:lnTo>
                  <a:lnTo>
                    <a:pt x="7" y="409"/>
                  </a:lnTo>
                  <a:lnTo>
                    <a:pt x="0" y="40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8" name=""/>
            <p:cNvSpPr/>
            <p:nvPr/>
          </p:nvSpPr>
          <p:spPr>
            <a:xfrm>
              <a:off x="4251240" y="3986280"/>
              <a:ext cx="52560" cy="104760"/>
            </a:xfrm>
            <a:custGeom>
              <a:avLst/>
              <a:gdLst/>
              <a:ahLst/>
              <a:rect l="l" t="t" r="r" b="b"/>
              <a:pathLst>
                <a:path w="33" h="66">
                  <a:moveTo>
                    <a:pt x="33" y="66"/>
                  </a:moveTo>
                  <a:lnTo>
                    <a:pt x="33" y="59"/>
                  </a:lnTo>
                  <a:lnTo>
                    <a:pt x="33" y="52"/>
                  </a:lnTo>
                  <a:lnTo>
                    <a:pt x="33" y="46"/>
                  </a:lnTo>
                  <a:lnTo>
                    <a:pt x="33" y="39"/>
                  </a:lnTo>
                  <a:lnTo>
                    <a:pt x="33" y="33"/>
                  </a:lnTo>
                  <a:lnTo>
                    <a:pt x="33" y="33"/>
                  </a:lnTo>
                  <a:lnTo>
                    <a:pt x="33" y="26"/>
                  </a:lnTo>
                  <a:lnTo>
                    <a:pt x="33" y="20"/>
                  </a:lnTo>
                  <a:lnTo>
                    <a:pt x="33" y="13"/>
                  </a:lnTo>
                  <a:lnTo>
                    <a:pt x="33" y="6"/>
                  </a:lnTo>
                  <a:lnTo>
                    <a:pt x="26" y="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13" y="6"/>
                  </a:lnTo>
                  <a:lnTo>
                    <a:pt x="13" y="13"/>
                  </a:lnTo>
                  <a:lnTo>
                    <a:pt x="7" y="20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0" y="39"/>
                  </a:lnTo>
                  <a:lnTo>
                    <a:pt x="7" y="46"/>
                  </a:lnTo>
                  <a:lnTo>
                    <a:pt x="7" y="52"/>
                  </a:lnTo>
                  <a:lnTo>
                    <a:pt x="13" y="52"/>
                  </a:lnTo>
                  <a:lnTo>
                    <a:pt x="20" y="59"/>
                  </a:lnTo>
                  <a:lnTo>
                    <a:pt x="20" y="66"/>
                  </a:lnTo>
                  <a:lnTo>
                    <a:pt x="33" y="6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9" name=""/>
            <p:cNvSpPr/>
            <p:nvPr/>
          </p:nvSpPr>
          <p:spPr>
            <a:xfrm>
              <a:off x="5172120" y="4038480"/>
              <a:ext cx="166680" cy="61920"/>
            </a:xfrm>
            <a:custGeom>
              <a:avLst/>
              <a:gdLst/>
              <a:ahLst/>
              <a:rect l="l" t="t" r="r" b="b"/>
              <a:pathLst>
                <a:path w="105" h="39">
                  <a:moveTo>
                    <a:pt x="0" y="33"/>
                  </a:moveTo>
                  <a:lnTo>
                    <a:pt x="7" y="33"/>
                  </a:lnTo>
                  <a:lnTo>
                    <a:pt x="13" y="26"/>
                  </a:lnTo>
                  <a:lnTo>
                    <a:pt x="20" y="26"/>
                  </a:lnTo>
                  <a:lnTo>
                    <a:pt x="26" y="26"/>
                  </a:lnTo>
                  <a:lnTo>
                    <a:pt x="33" y="26"/>
                  </a:lnTo>
                  <a:lnTo>
                    <a:pt x="39" y="26"/>
                  </a:lnTo>
                  <a:lnTo>
                    <a:pt x="46" y="26"/>
                  </a:lnTo>
                  <a:lnTo>
                    <a:pt x="53" y="19"/>
                  </a:lnTo>
                  <a:lnTo>
                    <a:pt x="59" y="19"/>
                  </a:lnTo>
                  <a:lnTo>
                    <a:pt x="66" y="19"/>
                  </a:lnTo>
                  <a:lnTo>
                    <a:pt x="66" y="13"/>
                  </a:lnTo>
                  <a:lnTo>
                    <a:pt x="72" y="13"/>
                  </a:lnTo>
                  <a:lnTo>
                    <a:pt x="72" y="6"/>
                  </a:lnTo>
                  <a:lnTo>
                    <a:pt x="79" y="0"/>
                  </a:lnTo>
                  <a:lnTo>
                    <a:pt x="86" y="0"/>
                  </a:lnTo>
                  <a:lnTo>
                    <a:pt x="92" y="0"/>
                  </a:lnTo>
                  <a:lnTo>
                    <a:pt x="99" y="0"/>
                  </a:lnTo>
                  <a:lnTo>
                    <a:pt x="105" y="0"/>
                  </a:lnTo>
                  <a:lnTo>
                    <a:pt x="105" y="6"/>
                  </a:lnTo>
                  <a:lnTo>
                    <a:pt x="99" y="6"/>
                  </a:lnTo>
                  <a:lnTo>
                    <a:pt x="92" y="13"/>
                  </a:lnTo>
                  <a:lnTo>
                    <a:pt x="86" y="13"/>
                  </a:lnTo>
                  <a:lnTo>
                    <a:pt x="79" y="19"/>
                  </a:lnTo>
                  <a:lnTo>
                    <a:pt x="79" y="19"/>
                  </a:lnTo>
                  <a:lnTo>
                    <a:pt x="72" y="26"/>
                  </a:lnTo>
                  <a:lnTo>
                    <a:pt x="72" y="33"/>
                  </a:lnTo>
                  <a:lnTo>
                    <a:pt x="66" y="33"/>
                  </a:lnTo>
                  <a:lnTo>
                    <a:pt x="66" y="39"/>
                  </a:lnTo>
                  <a:lnTo>
                    <a:pt x="59" y="39"/>
                  </a:lnTo>
                  <a:lnTo>
                    <a:pt x="53" y="39"/>
                  </a:lnTo>
                  <a:lnTo>
                    <a:pt x="46" y="39"/>
                  </a:lnTo>
                  <a:lnTo>
                    <a:pt x="39" y="39"/>
                  </a:lnTo>
                  <a:lnTo>
                    <a:pt x="33" y="39"/>
                  </a:lnTo>
                  <a:lnTo>
                    <a:pt x="26" y="39"/>
                  </a:lnTo>
                  <a:lnTo>
                    <a:pt x="20" y="33"/>
                  </a:lnTo>
                  <a:lnTo>
                    <a:pt x="13" y="33"/>
                  </a:lnTo>
                  <a:lnTo>
                    <a:pt x="7" y="33"/>
                  </a:lnTo>
                  <a:lnTo>
                    <a:pt x="0" y="3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0" name=""/>
            <p:cNvSpPr/>
            <p:nvPr/>
          </p:nvSpPr>
          <p:spPr>
            <a:xfrm>
              <a:off x="2922480" y="3986280"/>
              <a:ext cx="73080" cy="61920"/>
            </a:xfrm>
            <a:custGeom>
              <a:avLst/>
              <a:gdLst/>
              <a:ahLst/>
              <a:rect l="l" t="t" r="r" b="b"/>
              <a:pathLst>
                <a:path w="46" h="39">
                  <a:moveTo>
                    <a:pt x="27" y="39"/>
                  </a:moveTo>
                  <a:lnTo>
                    <a:pt x="33" y="33"/>
                  </a:lnTo>
                  <a:lnTo>
                    <a:pt x="40" y="26"/>
                  </a:lnTo>
                  <a:lnTo>
                    <a:pt x="40" y="20"/>
                  </a:lnTo>
                  <a:lnTo>
                    <a:pt x="46" y="20"/>
                  </a:lnTo>
                  <a:lnTo>
                    <a:pt x="46" y="13"/>
                  </a:lnTo>
                  <a:lnTo>
                    <a:pt x="40" y="6"/>
                  </a:lnTo>
                  <a:lnTo>
                    <a:pt x="40" y="0"/>
                  </a:lnTo>
                  <a:lnTo>
                    <a:pt x="33" y="0"/>
                  </a:lnTo>
                  <a:lnTo>
                    <a:pt x="27" y="0"/>
                  </a:lnTo>
                  <a:lnTo>
                    <a:pt x="13" y="0"/>
                  </a:lnTo>
                  <a:lnTo>
                    <a:pt x="7" y="0"/>
                  </a:lnTo>
                  <a:lnTo>
                    <a:pt x="7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7" y="20"/>
                  </a:lnTo>
                  <a:lnTo>
                    <a:pt x="7" y="26"/>
                  </a:lnTo>
                  <a:lnTo>
                    <a:pt x="13" y="33"/>
                  </a:lnTo>
                  <a:lnTo>
                    <a:pt x="20" y="33"/>
                  </a:lnTo>
                  <a:lnTo>
                    <a:pt x="27" y="39"/>
                  </a:lnTo>
                  <a:lnTo>
                    <a:pt x="27" y="3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1" name=""/>
            <p:cNvSpPr/>
            <p:nvPr/>
          </p:nvSpPr>
          <p:spPr>
            <a:xfrm>
              <a:off x="5402160" y="3975120"/>
              <a:ext cx="41400" cy="31680"/>
            </a:xfrm>
            <a:custGeom>
              <a:avLst/>
              <a:gdLst/>
              <a:ahLst/>
              <a:rect l="l" t="t" r="r" b="b"/>
              <a:pathLst>
                <a:path w="26" h="20">
                  <a:moveTo>
                    <a:pt x="20" y="13"/>
                  </a:moveTo>
                  <a:lnTo>
                    <a:pt x="26" y="7"/>
                  </a:lnTo>
                  <a:lnTo>
                    <a:pt x="26" y="7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7"/>
                  </a:lnTo>
                  <a:lnTo>
                    <a:pt x="7" y="7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7" y="20"/>
                  </a:lnTo>
                  <a:lnTo>
                    <a:pt x="13" y="20"/>
                  </a:lnTo>
                  <a:lnTo>
                    <a:pt x="20" y="20"/>
                  </a:lnTo>
                  <a:lnTo>
                    <a:pt x="20" y="1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2" name=""/>
            <p:cNvSpPr/>
            <p:nvPr/>
          </p:nvSpPr>
          <p:spPr>
            <a:xfrm>
              <a:off x="4638600" y="3922560"/>
              <a:ext cx="9720" cy="63720"/>
            </a:xfrm>
            <a:custGeom>
              <a:avLst/>
              <a:gdLst/>
              <a:ahLst/>
              <a:rect l="l" t="t" r="r" b="b"/>
              <a:pathLst>
                <a:path w="6" h="40">
                  <a:moveTo>
                    <a:pt x="6" y="20"/>
                  </a:moveTo>
                  <a:lnTo>
                    <a:pt x="0" y="7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20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0" y="33"/>
                  </a:lnTo>
                  <a:lnTo>
                    <a:pt x="6" y="2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3" name=""/>
            <p:cNvSpPr/>
            <p:nvPr/>
          </p:nvSpPr>
          <p:spPr>
            <a:xfrm>
              <a:off x="4784760" y="3797280"/>
              <a:ext cx="52200" cy="168120"/>
            </a:xfrm>
            <a:custGeom>
              <a:avLst/>
              <a:gdLst/>
              <a:ahLst/>
              <a:rect l="l" t="t" r="r" b="b"/>
              <a:pathLst>
                <a:path w="33" h="106">
                  <a:moveTo>
                    <a:pt x="27" y="99"/>
                  </a:moveTo>
                  <a:lnTo>
                    <a:pt x="27" y="92"/>
                  </a:lnTo>
                  <a:lnTo>
                    <a:pt x="33" y="86"/>
                  </a:lnTo>
                  <a:lnTo>
                    <a:pt x="33" y="79"/>
                  </a:lnTo>
                  <a:lnTo>
                    <a:pt x="33" y="73"/>
                  </a:lnTo>
                  <a:lnTo>
                    <a:pt x="33" y="66"/>
                  </a:lnTo>
                  <a:lnTo>
                    <a:pt x="33" y="60"/>
                  </a:lnTo>
                  <a:lnTo>
                    <a:pt x="33" y="53"/>
                  </a:lnTo>
                  <a:lnTo>
                    <a:pt x="27" y="46"/>
                  </a:lnTo>
                  <a:lnTo>
                    <a:pt x="27" y="40"/>
                  </a:lnTo>
                  <a:lnTo>
                    <a:pt x="27" y="33"/>
                  </a:lnTo>
                  <a:lnTo>
                    <a:pt x="27" y="27"/>
                  </a:lnTo>
                  <a:lnTo>
                    <a:pt x="27" y="20"/>
                  </a:lnTo>
                  <a:lnTo>
                    <a:pt x="20" y="13"/>
                  </a:lnTo>
                  <a:lnTo>
                    <a:pt x="20" y="7"/>
                  </a:lnTo>
                  <a:lnTo>
                    <a:pt x="20" y="0"/>
                  </a:lnTo>
                  <a:lnTo>
                    <a:pt x="20" y="7"/>
                  </a:lnTo>
                  <a:lnTo>
                    <a:pt x="20" y="13"/>
                  </a:lnTo>
                  <a:lnTo>
                    <a:pt x="13" y="20"/>
                  </a:lnTo>
                  <a:lnTo>
                    <a:pt x="13" y="27"/>
                  </a:lnTo>
                  <a:lnTo>
                    <a:pt x="13" y="33"/>
                  </a:lnTo>
                  <a:lnTo>
                    <a:pt x="13" y="40"/>
                  </a:lnTo>
                  <a:lnTo>
                    <a:pt x="7" y="46"/>
                  </a:lnTo>
                  <a:lnTo>
                    <a:pt x="7" y="53"/>
                  </a:lnTo>
                  <a:lnTo>
                    <a:pt x="7" y="60"/>
                  </a:lnTo>
                  <a:lnTo>
                    <a:pt x="7" y="66"/>
                  </a:lnTo>
                  <a:lnTo>
                    <a:pt x="0" y="73"/>
                  </a:lnTo>
                  <a:lnTo>
                    <a:pt x="0" y="79"/>
                  </a:lnTo>
                  <a:lnTo>
                    <a:pt x="0" y="86"/>
                  </a:lnTo>
                  <a:lnTo>
                    <a:pt x="7" y="92"/>
                  </a:lnTo>
                  <a:lnTo>
                    <a:pt x="7" y="99"/>
                  </a:lnTo>
                  <a:lnTo>
                    <a:pt x="20" y="106"/>
                  </a:lnTo>
                  <a:lnTo>
                    <a:pt x="27" y="9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4" name=""/>
            <p:cNvSpPr/>
            <p:nvPr/>
          </p:nvSpPr>
          <p:spPr>
            <a:xfrm>
              <a:off x="2913120" y="2711520"/>
              <a:ext cx="1442880" cy="1158840"/>
            </a:xfrm>
            <a:custGeom>
              <a:avLst/>
              <a:gdLst/>
              <a:ahLst/>
              <a:rect l="l" t="t" r="r" b="b"/>
              <a:pathLst>
                <a:path w="909" h="730">
                  <a:moveTo>
                    <a:pt x="0" y="730"/>
                  </a:moveTo>
                  <a:lnTo>
                    <a:pt x="13" y="724"/>
                  </a:lnTo>
                  <a:lnTo>
                    <a:pt x="19" y="724"/>
                  </a:lnTo>
                  <a:lnTo>
                    <a:pt x="26" y="717"/>
                  </a:lnTo>
                  <a:lnTo>
                    <a:pt x="33" y="711"/>
                  </a:lnTo>
                  <a:lnTo>
                    <a:pt x="33" y="711"/>
                  </a:lnTo>
                  <a:lnTo>
                    <a:pt x="39" y="704"/>
                  </a:lnTo>
                  <a:lnTo>
                    <a:pt x="46" y="697"/>
                  </a:lnTo>
                  <a:lnTo>
                    <a:pt x="52" y="697"/>
                  </a:lnTo>
                  <a:lnTo>
                    <a:pt x="59" y="691"/>
                  </a:lnTo>
                  <a:lnTo>
                    <a:pt x="66" y="691"/>
                  </a:lnTo>
                  <a:lnTo>
                    <a:pt x="72" y="684"/>
                  </a:lnTo>
                  <a:lnTo>
                    <a:pt x="79" y="678"/>
                  </a:lnTo>
                  <a:lnTo>
                    <a:pt x="79" y="678"/>
                  </a:lnTo>
                  <a:lnTo>
                    <a:pt x="85" y="671"/>
                  </a:lnTo>
                  <a:lnTo>
                    <a:pt x="85" y="664"/>
                  </a:lnTo>
                  <a:lnTo>
                    <a:pt x="92" y="658"/>
                  </a:lnTo>
                  <a:lnTo>
                    <a:pt x="98" y="658"/>
                  </a:lnTo>
                  <a:lnTo>
                    <a:pt x="105" y="651"/>
                  </a:lnTo>
                  <a:lnTo>
                    <a:pt x="105" y="645"/>
                  </a:lnTo>
                  <a:lnTo>
                    <a:pt x="105" y="638"/>
                  </a:lnTo>
                  <a:lnTo>
                    <a:pt x="112" y="638"/>
                  </a:lnTo>
                  <a:lnTo>
                    <a:pt x="112" y="632"/>
                  </a:lnTo>
                  <a:lnTo>
                    <a:pt x="118" y="625"/>
                  </a:lnTo>
                  <a:lnTo>
                    <a:pt x="131" y="625"/>
                  </a:lnTo>
                  <a:lnTo>
                    <a:pt x="138" y="625"/>
                  </a:lnTo>
                  <a:lnTo>
                    <a:pt x="145" y="625"/>
                  </a:lnTo>
                  <a:lnTo>
                    <a:pt x="151" y="632"/>
                  </a:lnTo>
                  <a:lnTo>
                    <a:pt x="158" y="638"/>
                  </a:lnTo>
                  <a:lnTo>
                    <a:pt x="158" y="645"/>
                  </a:lnTo>
                  <a:lnTo>
                    <a:pt x="158" y="651"/>
                  </a:lnTo>
                  <a:lnTo>
                    <a:pt x="164" y="651"/>
                  </a:lnTo>
                  <a:lnTo>
                    <a:pt x="164" y="658"/>
                  </a:lnTo>
                  <a:lnTo>
                    <a:pt x="164" y="664"/>
                  </a:lnTo>
                  <a:lnTo>
                    <a:pt x="164" y="671"/>
                  </a:lnTo>
                  <a:lnTo>
                    <a:pt x="171" y="678"/>
                  </a:lnTo>
                  <a:lnTo>
                    <a:pt x="178" y="678"/>
                  </a:lnTo>
                  <a:lnTo>
                    <a:pt x="184" y="671"/>
                  </a:lnTo>
                  <a:lnTo>
                    <a:pt x="191" y="671"/>
                  </a:lnTo>
                  <a:lnTo>
                    <a:pt x="197" y="664"/>
                  </a:lnTo>
                  <a:lnTo>
                    <a:pt x="204" y="664"/>
                  </a:lnTo>
                  <a:lnTo>
                    <a:pt x="211" y="658"/>
                  </a:lnTo>
                  <a:lnTo>
                    <a:pt x="211" y="651"/>
                  </a:lnTo>
                  <a:lnTo>
                    <a:pt x="211" y="645"/>
                  </a:lnTo>
                  <a:lnTo>
                    <a:pt x="211" y="638"/>
                  </a:lnTo>
                  <a:lnTo>
                    <a:pt x="211" y="632"/>
                  </a:lnTo>
                  <a:lnTo>
                    <a:pt x="211" y="625"/>
                  </a:lnTo>
                  <a:lnTo>
                    <a:pt x="211" y="625"/>
                  </a:lnTo>
                  <a:lnTo>
                    <a:pt x="211" y="618"/>
                  </a:lnTo>
                  <a:lnTo>
                    <a:pt x="211" y="612"/>
                  </a:lnTo>
                  <a:lnTo>
                    <a:pt x="211" y="605"/>
                  </a:lnTo>
                  <a:lnTo>
                    <a:pt x="211" y="599"/>
                  </a:lnTo>
                  <a:lnTo>
                    <a:pt x="211" y="592"/>
                  </a:lnTo>
                  <a:lnTo>
                    <a:pt x="211" y="585"/>
                  </a:lnTo>
                  <a:lnTo>
                    <a:pt x="211" y="585"/>
                  </a:lnTo>
                  <a:lnTo>
                    <a:pt x="217" y="579"/>
                  </a:lnTo>
                  <a:lnTo>
                    <a:pt x="217" y="572"/>
                  </a:lnTo>
                  <a:lnTo>
                    <a:pt x="224" y="566"/>
                  </a:lnTo>
                  <a:lnTo>
                    <a:pt x="230" y="566"/>
                  </a:lnTo>
                  <a:lnTo>
                    <a:pt x="230" y="559"/>
                  </a:lnTo>
                  <a:lnTo>
                    <a:pt x="230" y="553"/>
                  </a:lnTo>
                  <a:lnTo>
                    <a:pt x="237" y="546"/>
                  </a:lnTo>
                  <a:lnTo>
                    <a:pt x="230" y="539"/>
                  </a:lnTo>
                  <a:lnTo>
                    <a:pt x="230" y="533"/>
                  </a:lnTo>
                  <a:lnTo>
                    <a:pt x="230" y="533"/>
                  </a:lnTo>
                  <a:lnTo>
                    <a:pt x="230" y="526"/>
                  </a:lnTo>
                  <a:lnTo>
                    <a:pt x="224" y="520"/>
                  </a:lnTo>
                  <a:lnTo>
                    <a:pt x="224" y="513"/>
                  </a:lnTo>
                  <a:lnTo>
                    <a:pt x="224" y="506"/>
                  </a:lnTo>
                  <a:lnTo>
                    <a:pt x="224" y="500"/>
                  </a:lnTo>
                  <a:lnTo>
                    <a:pt x="217" y="493"/>
                  </a:lnTo>
                  <a:lnTo>
                    <a:pt x="217" y="493"/>
                  </a:lnTo>
                  <a:lnTo>
                    <a:pt x="224" y="487"/>
                  </a:lnTo>
                  <a:lnTo>
                    <a:pt x="224" y="480"/>
                  </a:lnTo>
                  <a:lnTo>
                    <a:pt x="230" y="480"/>
                  </a:lnTo>
                  <a:lnTo>
                    <a:pt x="237" y="474"/>
                  </a:lnTo>
                  <a:lnTo>
                    <a:pt x="243" y="467"/>
                  </a:lnTo>
                  <a:lnTo>
                    <a:pt x="243" y="467"/>
                  </a:lnTo>
                  <a:lnTo>
                    <a:pt x="250" y="460"/>
                  </a:lnTo>
                  <a:lnTo>
                    <a:pt x="250" y="454"/>
                  </a:lnTo>
                  <a:lnTo>
                    <a:pt x="250" y="447"/>
                  </a:lnTo>
                  <a:lnTo>
                    <a:pt x="257" y="441"/>
                  </a:lnTo>
                  <a:lnTo>
                    <a:pt x="257" y="441"/>
                  </a:lnTo>
                  <a:lnTo>
                    <a:pt x="270" y="434"/>
                  </a:lnTo>
                  <a:lnTo>
                    <a:pt x="276" y="427"/>
                  </a:lnTo>
                  <a:lnTo>
                    <a:pt x="283" y="427"/>
                  </a:lnTo>
                  <a:lnTo>
                    <a:pt x="283" y="421"/>
                  </a:lnTo>
                  <a:lnTo>
                    <a:pt x="290" y="414"/>
                  </a:lnTo>
                  <a:lnTo>
                    <a:pt x="296" y="414"/>
                  </a:lnTo>
                  <a:lnTo>
                    <a:pt x="303" y="408"/>
                  </a:lnTo>
                  <a:lnTo>
                    <a:pt x="309" y="408"/>
                  </a:lnTo>
                  <a:lnTo>
                    <a:pt x="316" y="401"/>
                  </a:lnTo>
                  <a:lnTo>
                    <a:pt x="316" y="395"/>
                  </a:lnTo>
                  <a:lnTo>
                    <a:pt x="323" y="395"/>
                  </a:lnTo>
                  <a:lnTo>
                    <a:pt x="329" y="388"/>
                  </a:lnTo>
                  <a:lnTo>
                    <a:pt x="336" y="381"/>
                  </a:lnTo>
                  <a:lnTo>
                    <a:pt x="342" y="381"/>
                  </a:lnTo>
                  <a:lnTo>
                    <a:pt x="349" y="375"/>
                  </a:lnTo>
                  <a:lnTo>
                    <a:pt x="355" y="368"/>
                  </a:lnTo>
                  <a:lnTo>
                    <a:pt x="362" y="368"/>
                  </a:lnTo>
                  <a:lnTo>
                    <a:pt x="362" y="362"/>
                  </a:lnTo>
                  <a:lnTo>
                    <a:pt x="369" y="362"/>
                  </a:lnTo>
                  <a:lnTo>
                    <a:pt x="375" y="355"/>
                  </a:lnTo>
                  <a:lnTo>
                    <a:pt x="382" y="348"/>
                  </a:lnTo>
                  <a:lnTo>
                    <a:pt x="388" y="348"/>
                  </a:lnTo>
                  <a:lnTo>
                    <a:pt x="388" y="342"/>
                  </a:lnTo>
                  <a:lnTo>
                    <a:pt x="395" y="335"/>
                  </a:lnTo>
                  <a:lnTo>
                    <a:pt x="402" y="335"/>
                  </a:lnTo>
                  <a:lnTo>
                    <a:pt x="408" y="329"/>
                  </a:lnTo>
                  <a:lnTo>
                    <a:pt x="415" y="322"/>
                  </a:lnTo>
                  <a:lnTo>
                    <a:pt x="415" y="322"/>
                  </a:lnTo>
                  <a:lnTo>
                    <a:pt x="421" y="316"/>
                  </a:lnTo>
                  <a:lnTo>
                    <a:pt x="428" y="309"/>
                  </a:lnTo>
                  <a:lnTo>
                    <a:pt x="435" y="309"/>
                  </a:lnTo>
                  <a:lnTo>
                    <a:pt x="441" y="302"/>
                  </a:lnTo>
                  <a:lnTo>
                    <a:pt x="448" y="296"/>
                  </a:lnTo>
                  <a:lnTo>
                    <a:pt x="454" y="296"/>
                  </a:lnTo>
                  <a:lnTo>
                    <a:pt x="461" y="289"/>
                  </a:lnTo>
                  <a:lnTo>
                    <a:pt x="468" y="289"/>
                  </a:lnTo>
                  <a:lnTo>
                    <a:pt x="474" y="289"/>
                  </a:lnTo>
                  <a:lnTo>
                    <a:pt x="481" y="283"/>
                  </a:lnTo>
                  <a:lnTo>
                    <a:pt x="487" y="283"/>
                  </a:lnTo>
                  <a:lnTo>
                    <a:pt x="494" y="276"/>
                  </a:lnTo>
                  <a:lnTo>
                    <a:pt x="507" y="276"/>
                  </a:lnTo>
                  <a:lnTo>
                    <a:pt x="507" y="269"/>
                  </a:lnTo>
                  <a:lnTo>
                    <a:pt x="514" y="263"/>
                  </a:lnTo>
                  <a:lnTo>
                    <a:pt x="520" y="263"/>
                  </a:lnTo>
                  <a:lnTo>
                    <a:pt x="527" y="256"/>
                  </a:lnTo>
                  <a:lnTo>
                    <a:pt x="527" y="250"/>
                  </a:lnTo>
                  <a:lnTo>
                    <a:pt x="533" y="250"/>
                  </a:lnTo>
                  <a:lnTo>
                    <a:pt x="540" y="243"/>
                  </a:lnTo>
                  <a:lnTo>
                    <a:pt x="547" y="237"/>
                  </a:lnTo>
                  <a:lnTo>
                    <a:pt x="553" y="237"/>
                  </a:lnTo>
                  <a:lnTo>
                    <a:pt x="553" y="230"/>
                  </a:lnTo>
                  <a:lnTo>
                    <a:pt x="560" y="223"/>
                  </a:lnTo>
                  <a:lnTo>
                    <a:pt x="566" y="223"/>
                  </a:lnTo>
                  <a:lnTo>
                    <a:pt x="573" y="217"/>
                  </a:lnTo>
                  <a:lnTo>
                    <a:pt x="573" y="210"/>
                  </a:lnTo>
                  <a:lnTo>
                    <a:pt x="580" y="210"/>
                  </a:lnTo>
                  <a:lnTo>
                    <a:pt x="586" y="204"/>
                  </a:lnTo>
                  <a:lnTo>
                    <a:pt x="593" y="197"/>
                  </a:lnTo>
                  <a:lnTo>
                    <a:pt x="593" y="190"/>
                  </a:lnTo>
                  <a:lnTo>
                    <a:pt x="599" y="190"/>
                  </a:lnTo>
                  <a:lnTo>
                    <a:pt x="599" y="184"/>
                  </a:lnTo>
                  <a:lnTo>
                    <a:pt x="606" y="177"/>
                  </a:lnTo>
                  <a:lnTo>
                    <a:pt x="606" y="171"/>
                  </a:lnTo>
                  <a:lnTo>
                    <a:pt x="606" y="164"/>
                  </a:lnTo>
                  <a:lnTo>
                    <a:pt x="612" y="158"/>
                  </a:lnTo>
                  <a:lnTo>
                    <a:pt x="612" y="158"/>
                  </a:lnTo>
                  <a:lnTo>
                    <a:pt x="619" y="151"/>
                  </a:lnTo>
                  <a:lnTo>
                    <a:pt x="626" y="151"/>
                  </a:lnTo>
                  <a:lnTo>
                    <a:pt x="639" y="151"/>
                  </a:lnTo>
                  <a:lnTo>
                    <a:pt x="645" y="151"/>
                  </a:lnTo>
                  <a:lnTo>
                    <a:pt x="652" y="144"/>
                  </a:lnTo>
                  <a:lnTo>
                    <a:pt x="659" y="144"/>
                  </a:lnTo>
                  <a:lnTo>
                    <a:pt x="672" y="144"/>
                  </a:lnTo>
                  <a:lnTo>
                    <a:pt x="678" y="138"/>
                  </a:lnTo>
                  <a:lnTo>
                    <a:pt x="685" y="138"/>
                  </a:lnTo>
                  <a:lnTo>
                    <a:pt x="692" y="131"/>
                  </a:lnTo>
                  <a:lnTo>
                    <a:pt x="698" y="131"/>
                  </a:lnTo>
                  <a:lnTo>
                    <a:pt x="705" y="125"/>
                  </a:lnTo>
                  <a:lnTo>
                    <a:pt x="711" y="125"/>
                  </a:lnTo>
                  <a:lnTo>
                    <a:pt x="718" y="125"/>
                  </a:lnTo>
                  <a:lnTo>
                    <a:pt x="731" y="118"/>
                  </a:lnTo>
                  <a:lnTo>
                    <a:pt x="738" y="118"/>
                  </a:lnTo>
                  <a:lnTo>
                    <a:pt x="744" y="118"/>
                  </a:lnTo>
                  <a:lnTo>
                    <a:pt x="751" y="118"/>
                  </a:lnTo>
                  <a:lnTo>
                    <a:pt x="764" y="118"/>
                  </a:lnTo>
                  <a:lnTo>
                    <a:pt x="771" y="111"/>
                  </a:lnTo>
                  <a:lnTo>
                    <a:pt x="777" y="111"/>
                  </a:lnTo>
                  <a:lnTo>
                    <a:pt x="784" y="105"/>
                  </a:lnTo>
                  <a:lnTo>
                    <a:pt x="790" y="98"/>
                  </a:lnTo>
                  <a:lnTo>
                    <a:pt x="797" y="98"/>
                  </a:lnTo>
                  <a:lnTo>
                    <a:pt x="804" y="92"/>
                  </a:lnTo>
                  <a:lnTo>
                    <a:pt x="810" y="92"/>
                  </a:lnTo>
                  <a:lnTo>
                    <a:pt x="817" y="92"/>
                  </a:lnTo>
                  <a:lnTo>
                    <a:pt x="823" y="85"/>
                  </a:lnTo>
                  <a:lnTo>
                    <a:pt x="830" y="85"/>
                  </a:lnTo>
                  <a:lnTo>
                    <a:pt x="843" y="85"/>
                  </a:lnTo>
                  <a:lnTo>
                    <a:pt x="850" y="79"/>
                  </a:lnTo>
                  <a:lnTo>
                    <a:pt x="856" y="79"/>
                  </a:lnTo>
                  <a:lnTo>
                    <a:pt x="863" y="72"/>
                  </a:lnTo>
                  <a:lnTo>
                    <a:pt x="863" y="65"/>
                  </a:lnTo>
                  <a:lnTo>
                    <a:pt x="869" y="65"/>
                  </a:lnTo>
                  <a:lnTo>
                    <a:pt x="876" y="59"/>
                  </a:lnTo>
                  <a:lnTo>
                    <a:pt x="883" y="59"/>
                  </a:lnTo>
                  <a:lnTo>
                    <a:pt x="889" y="52"/>
                  </a:lnTo>
                  <a:lnTo>
                    <a:pt x="889" y="46"/>
                  </a:lnTo>
                  <a:lnTo>
                    <a:pt x="896" y="39"/>
                  </a:lnTo>
                  <a:lnTo>
                    <a:pt x="902" y="39"/>
                  </a:lnTo>
                  <a:lnTo>
                    <a:pt x="909" y="32"/>
                  </a:lnTo>
                  <a:lnTo>
                    <a:pt x="909" y="26"/>
                  </a:lnTo>
                  <a:lnTo>
                    <a:pt x="909" y="26"/>
                  </a:lnTo>
                  <a:lnTo>
                    <a:pt x="902" y="19"/>
                  </a:lnTo>
                  <a:lnTo>
                    <a:pt x="896" y="13"/>
                  </a:lnTo>
                  <a:lnTo>
                    <a:pt x="889" y="6"/>
                  </a:lnTo>
                  <a:lnTo>
                    <a:pt x="883" y="6"/>
                  </a:lnTo>
                  <a:lnTo>
                    <a:pt x="87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5" name=""/>
            <p:cNvSpPr/>
            <p:nvPr/>
          </p:nvSpPr>
          <p:spPr>
            <a:xfrm>
              <a:off x="2421000" y="3149640"/>
              <a:ext cx="460440" cy="460440"/>
            </a:xfrm>
            <a:custGeom>
              <a:avLst/>
              <a:gdLst/>
              <a:ahLst/>
              <a:rect l="l" t="t" r="r" b="b"/>
              <a:pathLst>
                <a:path w="290" h="290">
                  <a:moveTo>
                    <a:pt x="283" y="0"/>
                  </a:moveTo>
                  <a:lnTo>
                    <a:pt x="290" y="7"/>
                  </a:lnTo>
                  <a:lnTo>
                    <a:pt x="283" y="13"/>
                  </a:lnTo>
                  <a:lnTo>
                    <a:pt x="277" y="13"/>
                  </a:lnTo>
                  <a:lnTo>
                    <a:pt x="277" y="20"/>
                  </a:lnTo>
                  <a:lnTo>
                    <a:pt x="270" y="26"/>
                  </a:lnTo>
                  <a:lnTo>
                    <a:pt x="270" y="33"/>
                  </a:lnTo>
                  <a:lnTo>
                    <a:pt x="264" y="33"/>
                  </a:lnTo>
                  <a:lnTo>
                    <a:pt x="264" y="40"/>
                  </a:lnTo>
                  <a:lnTo>
                    <a:pt x="257" y="46"/>
                  </a:lnTo>
                  <a:lnTo>
                    <a:pt x="250" y="46"/>
                  </a:lnTo>
                  <a:lnTo>
                    <a:pt x="250" y="53"/>
                  </a:lnTo>
                  <a:lnTo>
                    <a:pt x="244" y="59"/>
                  </a:lnTo>
                  <a:lnTo>
                    <a:pt x="244" y="66"/>
                  </a:lnTo>
                  <a:lnTo>
                    <a:pt x="237" y="66"/>
                  </a:lnTo>
                  <a:lnTo>
                    <a:pt x="231" y="72"/>
                  </a:lnTo>
                  <a:lnTo>
                    <a:pt x="231" y="79"/>
                  </a:lnTo>
                  <a:lnTo>
                    <a:pt x="224" y="79"/>
                  </a:lnTo>
                  <a:lnTo>
                    <a:pt x="217" y="86"/>
                  </a:lnTo>
                  <a:lnTo>
                    <a:pt x="217" y="92"/>
                  </a:lnTo>
                  <a:lnTo>
                    <a:pt x="211" y="92"/>
                  </a:lnTo>
                  <a:lnTo>
                    <a:pt x="211" y="99"/>
                  </a:lnTo>
                  <a:lnTo>
                    <a:pt x="204" y="105"/>
                  </a:lnTo>
                  <a:lnTo>
                    <a:pt x="198" y="112"/>
                  </a:lnTo>
                  <a:lnTo>
                    <a:pt x="198" y="112"/>
                  </a:lnTo>
                  <a:lnTo>
                    <a:pt x="191" y="119"/>
                  </a:lnTo>
                  <a:lnTo>
                    <a:pt x="191" y="125"/>
                  </a:lnTo>
                  <a:lnTo>
                    <a:pt x="184" y="125"/>
                  </a:lnTo>
                  <a:lnTo>
                    <a:pt x="184" y="132"/>
                  </a:lnTo>
                  <a:lnTo>
                    <a:pt x="178" y="138"/>
                  </a:lnTo>
                  <a:lnTo>
                    <a:pt x="171" y="145"/>
                  </a:lnTo>
                  <a:lnTo>
                    <a:pt x="171" y="145"/>
                  </a:lnTo>
                  <a:lnTo>
                    <a:pt x="165" y="151"/>
                  </a:lnTo>
                  <a:lnTo>
                    <a:pt x="165" y="158"/>
                  </a:lnTo>
                  <a:lnTo>
                    <a:pt x="158" y="165"/>
                  </a:lnTo>
                  <a:lnTo>
                    <a:pt x="152" y="165"/>
                  </a:lnTo>
                  <a:lnTo>
                    <a:pt x="152" y="171"/>
                  </a:lnTo>
                  <a:lnTo>
                    <a:pt x="145" y="171"/>
                  </a:lnTo>
                  <a:lnTo>
                    <a:pt x="138" y="178"/>
                  </a:lnTo>
                  <a:lnTo>
                    <a:pt x="132" y="184"/>
                  </a:lnTo>
                  <a:lnTo>
                    <a:pt x="132" y="184"/>
                  </a:lnTo>
                  <a:lnTo>
                    <a:pt x="125" y="191"/>
                  </a:lnTo>
                  <a:lnTo>
                    <a:pt x="125" y="198"/>
                  </a:lnTo>
                  <a:lnTo>
                    <a:pt x="125" y="204"/>
                  </a:lnTo>
                  <a:lnTo>
                    <a:pt x="125" y="211"/>
                  </a:lnTo>
                  <a:lnTo>
                    <a:pt x="125" y="217"/>
                  </a:lnTo>
                  <a:lnTo>
                    <a:pt x="125" y="224"/>
                  </a:lnTo>
                  <a:lnTo>
                    <a:pt x="125" y="224"/>
                  </a:lnTo>
                  <a:lnTo>
                    <a:pt x="119" y="230"/>
                  </a:lnTo>
                  <a:lnTo>
                    <a:pt x="112" y="230"/>
                  </a:lnTo>
                  <a:lnTo>
                    <a:pt x="105" y="237"/>
                  </a:lnTo>
                  <a:lnTo>
                    <a:pt x="105" y="244"/>
                  </a:lnTo>
                  <a:lnTo>
                    <a:pt x="105" y="250"/>
                  </a:lnTo>
                  <a:lnTo>
                    <a:pt x="105" y="257"/>
                  </a:lnTo>
                  <a:lnTo>
                    <a:pt x="105" y="257"/>
                  </a:lnTo>
                  <a:lnTo>
                    <a:pt x="105" y="263"/>
                  </a:lnTo>
                  <a:lnTo>
                    <a:pt x="105" y="270"/>
                  </a:lnTo>
                  <a:lnTo>
                    <a:pt x="99" y="277"/>
                  </a:lnTo>
                  <a:lnTo>
                    <a:pt x="99" y="283"/>
                  </a:lnTo>
                  <a:lnTo>
                    <a:pt x="92" y="290"/>
                  </a:lnTo>
                  <a:lnTo>
                    <a:pt x="92" y="290"/>
                  </a:lnTo>
                  <a:lnTo>
                    <a:pt x="86" y="283"/>
                  </a:lnTo>
                  <a:lnTo>
                    <a:pt x="79" y="283"/>
                  </a:lnTo>
                  <a:lnTo>
                    <a:pt x="72" y="277"/>
                  </a:lnTo>
                  <a:lnTo>
                    <a:pt x="72" y="270"/>
                  </a:lnTo>
                  <a:lnTo>
                    <a:pt x="66" y="263"/>
                  </a:lnTo>
                  <a:lnTo>
                    <a:pt x="66" y="263"/>
                  </a:lnTo>
                  <a:lnTo>
                    <a:pt x="59" y="257"/>
                  </a:lnTo>
                  <a:lnTo>
                    <a:pt x="46" y="257"/>
                  </a:lnTo>
                  <a:lnTo>
                    <a:pt x="39" y="257"/>
                  </a:lnTo>
                  <a:lnTo>
                    <a:pt x="33" y="257"/>
                  </a:lnTo>
                  <a:lnTo>
                    <a:pt x="20" y="257"/>
                  </a:lnTo>
                  <a:lnTo>
                    <a:pt x="13" y="257"/>
                  </a:lnTo>
                  <a:lnTo>
                    <a:pt x="7" y="257"/>
                  </a:lnTo>
                  <a:lnTo>
                    <a:pt x="0" y="250"/>
                  </a:lnTo>
                  <a:lnTo>
                    <a:pt x="0" y="250"/>
                  </a:lnTo>
                  <a:lnTo>
                    <a:pt x="0" y="244"/>
                  </a:lnTo>
                  <a:lnTo>
                    <a:pt x="0" y="23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6" name=""/>
            <p:cNvSpPr/>
            <p:nvPr/>
          </p:nvSpPr>
          <p:spPr>
            <a:xfrm>
              <a:off x="2295360" y="3589200"/>
              <a:ext cx="972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0"/>
                  </a:moveTo>
                  <a:lnTo>
                    <a:pt x="6" y="0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7" name=""/>
            <p:cNvSpPr/>
            <p:nvPr/>
          </p:nvSpPr>
          <p:spPr>
            <a:xfrm>
              <a:off x="2295360" y="3662280"/>
              <a:ext cx="617760" cy="208080"/>
            </a:xfrm>
            <a:custGeom>
              <a:avLst/>
              <a:gdLst/>
              <a:ahLst/>
              <a:rect l="l" t="t" r="r" b="b"/>
              <a:pathLst>
                <a:path w="389" h="131">
                  <a:moveTo>
                    <a:pt x="0" y="33"/>
                  </a:moveTo>
                  <a:lnTo>
                    <a:pt x="6" y="26"/>
                  </a:lnTo>
                  <a:lnTo>
                    <a:pt x="13" y="19"/>
                  </a:lnTo>
                  <a:lnTo>
                    <a:pt x="13" y="19"/>
                  </a:lnTo>
                  <a:lnTo>
                    <a:pt x="20" y="13"/>
                  </a:lnTo>
                  <a:lnTo>
                    <a:pt x="26" y="6"/>
                  </a:lnTo>
                  <a:lnTo>
                    <a:pt x="26" y="0"/>
                  </a:lnTo>
                  <a:lnTo>
                    <a:pt x="33" y="0"/>
                  </a:lnTo>
                  <a:lnTo>
                    <a:pt x="39" y="6"/>
                  </a:lnTo>
                  <a:lnTo>
                    <a:pt x="46" y="13"/>
                  </a:lnTo>
                  <a:lnTo>
                    <a:pt x="53" y="19"/>
                  </a:lnTo>
                  <a:lnTo>
                    <a:pt x="53" y="26"/>
                  </a:lnTo>
                  <a:lnTo>
                    <a:pt x="53" y="33"/>
                  </a:lnTo>
                  <a:lnTo>
                    <a:pt x="53" y="39"/>
                  </a:lnTo>
                  <a:lnTo>
                    <a:pt x="59" y="39"/>
                  </a:lnTo>
                  <a:lnTo>
                    <a:pt x="59" y="39"/>
                  </a:lnTo>
                  <a:lnTo>
                    <a:pt x="72" y="39"/>
                  </a:lnTo>
                  <a:lnTo>
                    <a:pt x="79" y="39"/>
                  </a:lnTo>
                  <a:lnTo>
                    <a:pt x="92" y="33"/>
                  </a:lnTo>
                  <a:lnTo>
                    <a:pt x="99" y="33"/>
                  </a:lnTo>
                  <a:lnTo>
                    <a:pt x="105" y="33"/>
                  </a:lnTo>
                  <a:lnTo>
                    <a:pt x="112" y="33"/>
                  </a:lnTo>
                  <a:lnTo>
                    <a:pt x="118" y="33"/>
                  </a:lnTo>
                  <a:lnTo>
                    <a:pt x="118" y="39"/>
                  </a:lnTo>
                  <a:lnTo>
                    <a:pt x="118" y="46"/>
                  </a:lnTo>
                  <a:lnTo>
                    <a:pt x="118" y="52"/>
                  </a:lnTo>
                  <a:lnTo>
                    <a:pt x="118" y="59"/>
                  </a:lnTo>
                  <a:lnTo>
                    <a:pt x="112" y="65"/>
                  </a:lnTo>
                  <a:lnTo>
                    <a:pt x="105" y="65"/>
                  </a:lnTo>
                  <a:lnTo>
                    <a:pt x="99" y="65"/>
                  </a:lnTo>
                  <a:lnTo>
                    <a:pt x="92" y="65"/>
                  </a:lnTo>
                  <a:lnTo>
                    <a:pt x="79" y="65"/>
                  </a:lnTo>
                  <a:lnTo>
                    <a:pt x="66" y="65"/>
                  </a:lnTo>
                  <a:lnTo>
                    <a:pt x="59" y="72"/>
                  </a:lnTo>
                  <a:lnTo>
                    <a:pt x="59" y="72"/>
                  </a:lnTo>
                  <a:lnTo>
                    <a:pt x="66" y="72"/>
                  </a:lnTo>
                  <a:lnTo>
                    <a:pt x="72" y="79"/>
                  </a:lnTo>
                  <a:lnTo>
                    <a:pt x="86" y="79"/>
                  </a:lnTo>
                  <a:lnTo>
                    <a:pt x="92" y="79"/>
                  </a:lnTo>
                  <a:lnTo>
                    <a:pt x="99" y="79"/>
                  </a:lnTo>
                  <a:lnTo>
                    <a:pt x="112" y="79"/>
                  </a:lnTo>
                  <a:lnTo>
                    <a:pt x="118" y="79"/>
                  </a:lnTo>
                  <a:lnTo>
                    <a:pt x="125" y="85"/>
                  </a:lnTo>
                  <a:lnTo>
                    <a:pt x="132" y="85"/>
                  </a:lnTo>
                  <a:lnTo>
                    <a:pt x="138" y="85"/>
                  </a:lnTo>
                  <a:lnTo>
                    <a:pt x="145" y="85"/>
                  </a:lnTo>
                  <a:lnTo>
                    <a:pt x="151" y="85"/>
                  </a:lnTo>
                  <a:lnTo>
                    <a:pt x="158" y="79"/>
                  </a:lnTo>
                  <a:lnTo>
                    <a:pt x="165" y="72"/>
                  </a:lnTo>
                  <a:lnTo>
                    <a:pt x="165" y="65"/>
                  </a:lnTo>
                  <a:lnTo>
                    <a:pt x="171" y="65"/>
                  </a:lnTo>
                  <a:lnTo>
                    <a:pt x="171" y="59"/>
                  </a:lnTo>
                  <a:lnTo>
                    <a:pt x="171" y="52"/>
                  </a:lnTo>
                  <a:lnTo>
                    <a:pt x="171" y="46"/>
                  </a:lnTo>
                  <a:lnTo>
                    <a:pt x="178" y="39"/>
                  </a:lnTo>
                  <a:lnTo>
                    <a:pt x="184" y="39"/>
                  </a:lnTo>
                  <a:lnTo>
                    <a:pt x="191" y="39"/>
                  </a:lnTo>
                  <a:lnTo>
                    <a:pt x="198" y="39"/>
                  </a:lnTo>
                  <a:lnTo>
                    <a:pt x="211" y="39"/>
                  </a:lnTo>
                  <a:lnTo>
                    <a:pt x="217" y="46"/>
                  </a:lnTo>
                  <a:lnTo>
                    <a:pt x="224" y="46"/>
                  </a:lnTo>
                  <a:lnTo>
                    <a:pt x="231" y="46"/>
                  </a:lnTo>
                  <a:lnTo>
                    <a:pt x="244" y="39"/>
                  </a:lnTo>
                  <a:lnTo>
                    <a:pt x="250" y="39"/>
                  </a:lnTo>
                  <a:lnTo>
                    <a:pt x="257" y="46"/>
                  </a:lnTo>
                  <a:lnTo>
                    <a:pt x="257" y="52"/>
                  </a:lnTo>
                  <a:lnTo>
                    <a:pt x="257" y="59"/>
                  </a:lnTo>
                  <a:lnTo>
                    <a:pt x="257" y="59"/>
                  </a:lnTo>
                  <a:lnTo>
                    <a:pt x="257" y="65"/>
                  </a:lnTo>
                  <a:lnTo>
                    <a:pt x="257" y="72"/>
                  </a:lnTo>
                  <a:lnTo>
                    <a:pt x="257" y="79"/>
                  </a:lnTo>
                  <a:lnTo>
                    <a:pt x="257" y="85"/>
                  </a:lnTo>
                  <a:lnTo>
                    <a:pt x="250" y="92"/>
                  </a:lnTo>
                  <a:lnTo>
                    <a:pt x="250" y="92"/>
                  </a:lnTo>
                  <a:lnTo>
                    <a:pt x="250" y="98"/>
                  </a:lnTo>
                  <a:lnTo>
                    <a:pt x="250" y="105"/>
                  </a:lnTo>
                  <a:lnTo>
                    <a:pt x="257" y="112"/>
                  </a:lnTo>
                  <a:lnTo>
                    <a:pt x="263" y="112"/>
                  </a:lnTo>
                  <a:lnTo>
                    <a:pt x="270" y="118"/>
                  </a:lnTo>
                  <a:lnTo>
                    <a:pt x="277" y="118"/>
                  </a:lnTo>
                  <a:lnTo>
                    <a:pt x="290" y="125"/>
                  </a:lnTo>
                  <a:lnTo>
                    <a:pt x="296" y="125"/>
                  </a:lnTo>
                  <a:lnTo>
                    <a:pt x="303" y="125"/>
                  </a:lnTo>
                  <a:lnTo>
                    <a:pt x="310" y="125"/>
                  </a:lnTo>
                  <a:lnTo>
                    <a:pt x="316" y="125"/>
                  </a:lnTo>
                  <a:lnTo>
                    <a:pt x="323" y="118"/>
                  </a:lnTo>
                  <a:lnTo>
                    <a:pt x="336" y="118"/>
                  </a:lnTo>
                  <a:lnTo>
                    <a:pt x="343" y="112"/>
                  </a:lnTo>
                  <a:lnTo>
                    <a:pt x="349" y="112"/>
                  </a:lnTo>
                  <a:lnTo>
                    <a:pt x="356" y="105"/>
                  </a:lnTo>
                  <a:lnTo>
                    <a:pt x="362" y="105"/>
                  </a:lnTo>
                  <a:lnTo>
                    <a:pt x="369" y="112"/>
                  </a:lnTo>
                  <a:lnTo>
                    <a:pt x="375" y="112"/>
                  </a:lnTo>
                  <a:lnTo>
                    <a:pt x="382" y="118"/>
                  </a:lnTo>
                  <a:lnTo>
                    <a:pt x="382" y="125"/>
                  </a:lnTo>
                  <a:lnTo>
                    <a:pt x="389" y="13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8" name=""/>
            <p:cNvSpPr/>
            <p:nvPr/>
          </p:nvSpPr>
          <p:spPr>
            <a:xfrm>
              <a:off x="4502160" y="3494160"/>
              <a:ext cx="303120" cy="345960"/>
            </a:xfrm>
            <a:custGeom>
              <a:avLst/>
              <a:gdLst/>
              <a:ahLst/>
              <a:rect l="l" t="t" r="r" b="b"/>
              <a:pathLst>
                <a:path w="191" h="218">
                  <a:moveTo>
                    <a:pt x="46" y="204"/>
                  </a:moveTo>
                  <a:lnTo>
                    <a:pt x="53" y="204"/>
                  </a:lnTo>
                  <a:lnTo>
                    <a:pt x="60" y="204"/>
                  </a:lnTo>
                  <a:lnTo>
                    <a:pt x="73" y="204"/>
                  </a:lnTo>
                  <a:lnTo>
                    <a:pt x="79" y="204"/>
                  </a:lnTo>
                  <a:lnTo>
                    <a:pt x="92" y="204"/>
                  </a:lnTo>
                  <a:lnTo>
                    <a:pt x="99" y="204"/>
                  </a:lnTo>
                  <a:lnTo>
                    <a:pt x="112" y="204"/>
                  </a:lnTo>
                  <a:lnTo>
                    <a:pt x="119" y="198"/>
                  </a:lnTo>
                  <a:lnTo>
                    <a:pt x="119" y="198"/>
                  </a:lnTo>
                  <a:lnTo>
                    <a:pt x="125" y="191"/>
                  </a:lnTo>
                  <a:lnTo>
                    <a:pt x="125" y="185"/>
                  </a:lnTo>
                  <a:lnTo>
                    <a:pt x="125" y="178"/>
                  </a:lnTo>
                  <a:lnTo>
                    <a:pt x="125" y="171"/>
                  </a:lnTo>
                  <a:lnTo>
                    <a:pt x="125" y="165"/>
                  </a:lnTo>
                  <a:lnTo>
                    <a:pt x="125" y="158"/>
                  </a:lnTo>
                  <a:lnTo>
                    <a:pt x="125" y="152"/>
                  </a:lnTo>
                  <a:lnTo>
                    <a:pt x="125" y="145"/>
                  </a:lnTo>
                  <a:lnTo>
                    <a:pt x="132" y="139"/>
                  </a:lnTo>
                  <a:lnTo>
                    <a:pt x="132" y="132"/>
                  </a:lnTo>
                  <a:lnTo>
                    <a:pt x="132" y="125"/>
                  </a:lnTo>
                  <a:lnTo>
                    <a:pt x="132" y="119"/>
                  </a:lnTo>
                  <a:lnTo>
                    <a:pt x="139" y="119"/>
                  </a:lnTo>
                  <a:lnTo>
                    <a:pt x="139" y="112"/>
                  </a:lnTo>
                  <a:lnTo>
                    <a:pt x="145" y="106"/>
                  </a:lnTo>
                  <a:lnTo>
                    <a:pt x="145" y="99"/>
                  </a:lnTo>
                  <a:lnTo>
                    <a:pt x="152" y="92"/>
                  </a:lnTo>
                  <a:lnTo>
                    <a:pt x="152" y="86"/>
                  </a:lnTo>
                  <a:lnTo>
                    <a:pt x="158" y="79"/>
                  </a:lnTo>
                  <a:lnTo>
                    <a:pt x="158" y="79"/>
                  </a:lnTo>
                  <a:lnTo>
                    <a:pt x="165" y="73"/>
                  </a:lnTo>
                  <a:lnTo>
                    <a:pt x="165" y="66"/>
                  </a:lnTo>
                  <a:lnTo>
                    <a:pt x="165" y="60"/>
                  </a:lnTo>
                  <a:lnTo>
                    <a:pt x="172" y="53"/>
                  </a:lnTo>
                  <a:lnTo>
                    <a:pt x="172" y="46"/>
                  </a:lnTo>
                  <a:lnTo>
                    <a:pt x="178" y="40"/>
                  </a:lnTo>
                  <a:lnTo>
                    <a:pt x="178" y="33"/>
                  </a:lnTo>
                  <a:lnTo>
                    <a:pt x="185" y="33"/>
                  </a:lnTo>
                  <a:lnTo>
                    <a:pt x="185" y="27"/>
                  </a:lnTo>
                  <a:lnTo>
                    <a:pt x="191" y="20"/>
                  </a:lnTo>
                  <a:lnTo>
                    <a:pt x="191" y="13"/>
                  </a:lnTo>
                  <a:lnTo>
                    <a:pt x="185" y="7"/>
                  </a:lnTo>
                  <a:lnTo>
                    <a:pt x="178" y="0"/>
                  </a:lnTo>
                  <a:lnTo>
                    <a:pt x="172" y="0"/>
                  </a:lnTo>
                  <a:lnTo>
                    <a:pt x="165" y="0"/>
                  </a:lnTo>
                  <a:lnTo>
                    <a:pt x="152" y="0"/>
                  </a:lnTo>
                  <a:lnTo>
                    <a:pt x="145" y="7"/>
                  </a:lnTo>
                  <a:lnTo>
                    <a:pt x="139" y="7"/>
                  </a:lnTo>
                  <a:lnTo>
                    <a:pt x="132" y="13"/>
                  </a:lnTo>
                  <a:lnTo>
                    <a:pt x="125" y="13"/>
                  </a:lnTo>
                  <a:lnTo>
                    <a:pt x="119" y="20"/>
                  </a:lnTo>
                  <a:lnTo>
                    <a:pt x="112" y="27"/>
                  </a:lnTo>
                  <a:lnTo>
                    <a:pt x="106" y="33"/>
                  </a:lnTo>
                  <a:lnTo>
                    <a:pt x="99" y="33"/>
                  </a:lnTo>
                  <a:lnTo>
                    <a:pt x="99" y="40"/>
                  </a:lnTo>
                  <a:lnTo>
                    <a:pt x="92" y="46"/>
                  </a:lnTo>
                  <a:lnTo>
                    <a:pt x="92" y="53"/>
                  </a:lnTo>
                  <a:lnTo>
                    <a:pt x="86" y="60"/>
                  </a:lnTo>
                  <a:lnTo>
                    <a:pt x="86" y="66"/>
                  </a:lnTo>
                  <a:lnTo>
                    <a:pt x="79" y="66"/>
                  </a:lnTo>
                  <a:lnTo>
                    <a:pt x="79" y="73"/>
                  </a:lnTo>
                  <a:lnTo>
                    <a:pt x="79" y="79"/>
                  </a:lnTo>
                  <a:lnTo>
                    <a:pt x="73" y="86"/>
                  </a:lnTo>
                  <a:lnTo>
                    <a:pt x="66" y="92"/>
                  </a:lnTo>
                  <a:lnTo>
                    <a:pt x="53" y="92"/>
                  </a:lnTo>
                  <a:lnTo>
                    <a:pt x="46" y="92"/>
                  </a:lnTo>
                  <a:lnTo>
                    <a:pt x="33" y="92"/>
                  </a:lnTo>
                  <a:lnTo>
                    <a:pt x="27" y="99"/>
                  </a:lnTo>
                  <a:lnTo>
                    <a:pt x="27" y="99"/>
                  </a:lnTo>
                  <a:lnTo>
                    <a:pt x="20" y="106"/>
                  </a:lnTo>
                  <a:lnTo>
                    <a:pt x="20" y="112"/>
                  </a:lnTo>
                  <a:lnTo>
                    <a:pt x="20" y="119"/>
                  </a:lnTo>
                  <a:lnTo>
                    <a:pt x="20" y="125"/>
                  </a:lnTo>
                  <a:lnTo>
                    <a:pt x="20" y="132"/>
                  </a:lnTo>
                  <a:lnTo>
                    <a:pt x="20" y="139"/>
                  </a:lnTo>
                  <a:lnTo>
                    <a:pt x="20" y="145"/>
                  </a:lnTo>
                  <a:lnTo>
                    <a:pt x="20" y="152"/>
                  </a:lnTo>
                  <a:lnTo>
                    <a:pt x="20" y="158"/>
                  </a:lnTo>
                  <a:lnTo>
                    <a:pt x="20" y="158"/>
                  </a:lnTo>
                  <a:lnTo>
                    <a:pt x="20" y="165"/>
                  </a:lnTo>
                  <a:lnTo>
                    <a:pt x="20" y="171"/>
                  </a:lnTo>
                  <a:lnTo>
                    <a:pt x="13" y="178"/>
                  </a:lnTo>
                  <a:lnTo>
                    <a:pt x="13" y="185"/>
                  </a:lnTo>
                  <a:lnTo>
                    <a:pt x="7" y="191"/>
                  </a:lnTo>
                  <a:lnTo>
                    <a:pt x="7" y="198"/>
                  </a:lnTo>
                  <a:lnTo>
                    <a:pt x="0" y="204"/>
                  </a:lnTo>
                  <a:lnTo>
                    <a:pt x="0" y="211"/>
                  </a:lnTo>
                  <a:lnTo>
                    <a:pt x="0" y="218"/>
                  </a:lnTo>
                  <a:lnTo>
                    <a:pt x="7" y="218"/>
                  </a:lnTo>
                  <a:lnTo>
                    <a:pt x="13" y="218"/>
                  </a:lnTo>
                  <a:lnTo>
                    <a:pt x="27" y="211"/>
                  </a:lnTo>
                  <a:lnTo>
                    <a:pt x="33" y="211"/>
                  </a:lnTo>
                  <a:lnTo>
                    <a:pt x="46" y="20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9" name=""/>
            <p:cNvSpPr/>
            <p:nvPr/>
          </p:nvSpPr>
          <p:spPr>
            <a:xfrm>
              <a:off x="4062240" y="3639960"/>
              <a:ext cx="1800" cy="63720"/>
            </a:xfrm>
            <a:custGeom>
              <a:avLst/>
              <a:gdLst/>
              <a:ahLst/>
              <a:rect l="l" t="t" r="r" b="b"/>
              <a:pathLst>
                <a:path w="0" h="40">
                  <a:moveTo>
                    <a:pt x="0" y="33"/>
                  </a:moveTo>
                  <a:lnTo>
                    <a:pt x="0" y="27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7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0" y="40"/>
                  </a:lnTo>
                  <a:lnTo>
                    <a:pt x="0" y="33"/>
                  </a:lnTo>
                  <a:lnTo>
                    <a:pt x="0" y="3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0" name=""/>
            <p:cNvSpPr/>
            <p:nvPr/>
          </p:nvSpPr>
          <p:spPr>
            <a:xfrm>
              <a:off x="4073400" y="3567240"/>
              <a:ext cx="41400" cy="42840"/>
            </a:xfrm>
            <a:custGeom>
              <a:avLst/>
              <a:gdLst/>
              <a:ahLst/>
              <a:rect l="l" t="t" r="r" b="b"/>
              <a:pathLst>
                <a:path w="26" h="27">
                  <a:moveTo>
                    <a:pt x="26" y="20"/>
                  </a:moveTo>
                  <a:lnTo>
                    <a:pt x="26" y="14"/>
                  </a:lnTo>
                  <a:lnTo>
                    <a:pt x="26" y="7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7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7" y="27"/>
                  </a:lnTo>
                  <a:lnTo>
                    <a:pt x="13" y="27"/>
                  </a:lnTo>
                  <a:lnTo>
                    <a:pt x="20" y="27"/>
                  </a:lnTo>
                  <a:lnTo>
                    <a:pt x="26" y="27"/>
                  </a:lnTo>
                  <a:lnTo>
                    <a:pt x="26" y="2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1" name=""/>
            <p:cNvSpPr/>
            <p:nvPr/>
          </p:nvSpPr>
          <p:spPr>
            <a:xfrm>
              <a:off x="3394080" y="350532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2" name=""/>
            <p:cNvSpPr/>
            <p:nvPr/>
          </p:nvSpPr>
          <p:spPr>
            <a:xfrm>
              <a:off x="3706920" y="3473280"/>
              <a:ext cx="52200" cy="52560"/>
            </a:xfrm>
            <a:custGeom>
              <a:avLst/>
              <a:gdLst/>
              <a:ahLst/>
              <a:rect l="l" t="t" r="r" b="b"/>
              <a:pathLst>
                <a:path w="33" h="33">
                  <a:moveTo>
                    <a:pt x="33" y="26"/>
                  </a:moveTo>
                  <a:lnTo>
                    <a:pt x="33" y="20"/>
                  </a:lnTo>
                  <a:lnTo>
                    <a:pt x="27" y="13"/>
                  </a:lnTo>
                  <a:lnTo>
                    <a:pt x="20" y="13"/>
                  </a:lnTo>
                  <a:lnTo>
                    <a:pt x="20" y="7"/>
                  </a:lnTo>
                  <a:lnTo>
                    <a:pt x="14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7" y="33"/>
                  </a:lnTo>
                  <a:lnTo>
                    <a:pt x="14" y="33"/>
                  </a:lnTo>
                  <a:lnTo>
                    <a:pt x="20" y="33"/>
                  </a:lnTo>
                  <a:lnTo>
                    <a:pt x="27" y="33"/>
                  </a:lnTo>
                  <a:lnTo>
                    <a:pt x="33" y="26"/>
                  </a:lnTo>
                  <a:lnTo>
                    <a:pt x="33" y="2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3" name=""/>
            <p:cNvSpPr/>
            <p:nvPr/>
          </p:nvSpPr>
          <p:spPr>
            <a:xfrm>
              <a:off x="4157640" y="3505320"/>
              <a:ext cx="1440" cy="9360"/>
            </a:xfrm>
            <a:custGeom>
              <a:avLst/>
              <a:gdLst/>
              <a:ahLst/>
              <a:rect l="l" t="t" r="r" b="b"/>
              <a:pathLst>
                <a:path w="0" h="6">
                  <a:moveTo>
                    <a:pt x="0" y="6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4" name=""/>
            <p:cNvSpPr/>
            <p:nvPr/>
          </p:nvSpPr>
          <p:spPr>
            <a:xfrm>
              <a:off x="2494080" y="3421080"/>
              <a:ext cx="52200" cy="20520"/>
            </a:xfrm>
            <a:custGeom>
              <a:avLst/>
              <a:gdLst/>
              <a:ahLst/>
              <a:rect l="l" t="t" r="r" b="b"/>
              <a:pathLst>
                <a:path w="33" h="13">
                  <a:moveTo>
                    <a:pt x="0" y="13"/>
                  </a:moveTo>
                  <a:lnTo>
                    <a:pt x="7" y="13"/>
                  </a:lnTo>
                  <a:lnTo>
                    <a:pt x="13" y="13"/>
                  </a:lnTo>
                  <a:lnTo>
                    <a:pt x="20" y="13"/>
                  </a:lnTo>
                  <a:lnTo>
                    <a:pt x="20" y="13"/>
                  </a:lnTo>
                  <a:lnTo>
                    <a:pt x="26" y="13"/>
                  </a:lnTo>
                  <a:lnTo>
                    <a:pt x="26" y="7"/>
                  </a:lnTo>
                  <a:lnTo>
                    <a:pt x="33" y="7"/>
                  </a:lnTo>
                  <a:lnTo>
                    <a:pt x="33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5" name=""/>
            <p:cNvSpPr/>
            <p:nvPr/>
          </p:nvSpPr>
          <p:spPr>
            <a:xfrm>
              <a:off x="3540240" y="3316320"/>
              <a:ext cx="177840" cy="147600"/>
            </a:xfrm>
            <a:custGeom>
              <a:avLst/>
              <a:gdLst/>
              <a:ahLst/>
              <a:rect l="l" t="t" r="r" b="b"/>
              <a:pathLst>
                <a:path w="112" h="93">
                  <a:moveTo>
                    <a:pt x="112" y="66"/>
                  </a:moveTo>
                  <a:lnTo>
                    <a:pt x="112" y="60"/>
                  </a:lnTo>
                  <a:lnTo>
                    <a:pt x="105" y="53"/>
                  </a:lnTo>
                  <a:lnTo>
                    <a:pt x="105" y="53"/>
                  </a:lnTo>
                  <a:lnTo>
                    <a:pt x="99" y="46"/>
                  </a:lnTo>
                  <a:lnTo>
                    <a:pt x="99" y="40"/>
                  </a:lnTo>
                  <a:lnTo>
                    <a:pt x="99" y="33"/>
                  </a:lnTo>
                  <a:lnTo>
                    <a:pt x="99" y="27"/>
                  </a:lnTo>
                  <a:lnTo>
                    <a:pt x="99" y="20"/>
                  </a:lnTo>
                  <a:lnTo>
                    <a:pt x="99" y="20"/>
                  </a:lnTo>
                  <a:lnTo>
                    <a:pt x="99" y="14"/>
                  </a:lnTo>
                  <a:lnTo>
                    <a:pt x="99" y="7"/>
                  </a:lnTo>
                  <a:lnTo>
                    <a:pt x="86" y="0"/>
                  </a:lnTo>
                  <a:lnTo>
                    <a:pt x="79" y="0"/>
                  </a:lnTo>
                  <a:lnTo>
                    <a:pt x="73" y="0"/>
                  </a:lnTo>
                  <a:lnTo>
                    <a:pt x="66" y="7"/>
                  </a:lnTo>
                  <a:lnTo>
                    <a:pt x="59" y="7"/>
                  </a:lnTo>
                  <a:lnTo>
                    <a:pt x="53" y="14"/>
                  </a:lnTo>
                  <a:lnTo>
                    <a:pt x="46" y="14"/>
                  </a:lnTo>
                  <a:lnTo>
                    <a:pt x="40" y="20"/>
                  </a:lnTo>
                  <a:lnTo>
                    <a:pt x="33" y="27"/>
                  </a:lnTo>
                  <a:lnTo>
                    <a:pt x="26" y="33"/>
                  </a:lnTo>
                  <a:lnTo>
                    <a:pt x="26" y="33"/>
                  </a:lnTo>
                  <a:lnTo>
                    <a:pt x="20" y="40"/>
                  </a:lnTo>
                  <a:lnTo>
                    <a:pt x="13" y="46"/>
                  </a:lnTo>
                  <a:lnTo>
                    <a:pt x="13" y="53"/>
                  </a:lnTo>
                  <a:lnTo>
                    <a:pt x="7" y="53"/>
                  </a:lnTo>
                  <a:lnTo>
                    <a:pt x="7" y="60"/>
                  </a:lnTo>
                  <a:lnTo>
                    <a:pt x="0" y="66"/>
                  </a:lnTo>
                  <a:lnTo>
                    <a:pt x="0" y="73"/>
                  </a:lnTo>
                  <a:lnTo>
                    <a:pt x="7" y="73"/>
                  </a:lnTo>
                  <a:lnTo>
                    <a:pt x="13" y="79"/>
                  </a:lnTo>
                  <a:lnTo>
                    <a:pt x="20" y="86"/>
                  </a:lnTo>
                  <a:lnTo>
                    <a:pt x="26" y="86"/>
                  </a:lnTo>
                  <a:lnTo>
                    <a:pt x="33" y="86"/>
                  </a:lnTo>
                  <a:lnTo>
                    <a:pt x="40" y="79"/>
                  </a:lnTo>
                  <a:lnTo>
                    <a:pt x="46" y="79"/>
                  </a:lnTo>
                  <a:lnTo>
                    <a:pt x="53" y="73"/>
                  </a:lnTo>
                  <a:lnTo>
                    <a:pt x="66" y="73"/>
                  </a:lnTo>
                  <a:lnTo>
                    <a:pt x="73" y="66"/>
                  </a:lnTo>
                  <a:lnTo>
                    <a:pt x="79" y="66"/>
                  </a:lnTo>
                  <a:lnTo>
                    <a:pt x="86" y="73"/>
                  </a:lnTo>
                  <a:lnTo>
                    <a:pt x="92" y="79"/>
                  </a:lnTo>
                  <a:lnTo>
                    <a:pt x="99" y="86"/>
                  </a:lnTo>
                  <a:lnTo>
                    <a:pt x="105" y="86"/>
                  </a:lnTo>
                  <a:lnTo>
                    <a:pt x="105" y="93"/>
                  </a:lnTo>
                  <a:lnTo>
                    <a:pt x="112" y="93"/>
                  </a:lnTo>
                  <a:lnTo>
                    <a:pt x="112" y="93"/>
                  </a:lnTo>
                  <a:lnTo>
                    <a:pt x="112" y="86"/>
                  </a:lnTo>
                  <a:lnTo>
                    <a:pt x="112" y="79"/>
                  </a:lnTo>
                  <a:lnTo>
                    <a:pt x="112" y="6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6" name=""/>
            <p:cNvSpPr/>
            <p:nvPr/>
          </p:nvSpPr>
          <p:spPr>
            <a:xfrm flipV="1">
              <a:off x="2567160" y="3379680"/>
              <a:ext cx="1440" cy="20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7" name=""/>
            <p:cNvSpPr/>
            <p:nvPr/>
          </p:nvSpPr>
          <p:spPr>
            <a:xfrm>
              <a:off x="5684760" y="3368520"/>
              <a:ext cx="20880" cy="42840"/>
            </a:xfrm>
            <a:custGeom>
              <a:avLst/>
              <a:gdLst/>
              <a:ahLst/>
              <a:rect l="l" t="t" r="r" b="b"/>
              <a:pathLst>
                <a:path w="13" h="27">
                  <a:moveTo>
                    <a:pt x="13" y="7"/>
                  </a:moveTo>
                  <a:lnTo>
                    <a:pt x="13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6" y="20"/>
                  </a:lnTo>
                  <a:lnTo>
                    <a:pt x="13" y="27"/>
                  </a:lnTo>
                  <a:lnTo>
                    <a:pt x="13" y="27"/>
                  </a:lnTo>
                  <a:lnTo>
                    <a:pt x="13" y="20"/>
                  </a:lnTo>
                  <a:lnTo>
                    <a:pt x="13" y="20"/>
                  </a:lnTo>
                  <a:lnTo>
                    <a:pt x="13" y="13"/>
                  </a:lnTo>
                  <a:lnTo>
                    <a:pt x="13" y="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8" name=""/>
            <p:cNvSpPr/>
            <p:nvPr/>
          </p:nvSpPr>
          <p:spPr>
            <a:xfrm>
              <a:off x="2610000" y="3338640"/>
              <a:ext cx="14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9" name=""/>
            <p:cNvSpPr/>
            <p:nvPr/>
          </p:nvSpPr>
          <p:spPr>
            <a:xfrm flipV="1">
              <a:off x="2651040" y="3285720"/>
              <a:ext cx="20880" cy="9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0" name=""/>
            <p:cNvSpPr/>
            <p:nvPr/>
          </p:nvSpPr>
          <p:spPr>
            <a:xfrm flipV="1">
              <a:off x="2692440" y="3242880"/>
              <a:ext cx="42840" cy="20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1" name=""/>
            <p:cNvSpPr/>
            <p:nvPr/>
          </p:nvSpPr>
          <p:spPr>
            <a:xfrm>
              <a:off x="2744640" y="3201840"/>
              <a:ext cx="73080" cy="41400"/>
            </a:xfrm>
            <a:custGeom>
              <a:avLst/>
              <a:gdLst/>
              <a:ahLst/>
              <a:rect l="l" t="t" r="r" b="b"/>
              <a:pathLst>
                <a:path w="46" h="26">
                  <a:moveTo>
                    <a:pt x="0" y="26"/>
                  </a:moveTo>
                  <a:lnTo>
                    <a:pt x="7" y="20"/>
                  </a:lnTo>
                  <a:lnTo>
                    <a:pt x="13" y="20"/>
                  </a:lnTo>
                  <a:lnTo>
                    <a:pt x="20" y="20"/>
                  </a:lnTo>
                  <a:lnTo>
                    <a:pt x="27" y="13"/>
                  </a:lnTo>
                  <a:lnTo>
                    <a:pt x="33" y="13"/>
                  </a:lnTo>
                  <a:lnTo>
                    <a:pt x="40" y="7"/>
                  </a:lnTo>
                  <a:lnTo>
                    <a:pt x="40" y="7"/>
                  </a:lnTo>
                  <a:lnTo>
                    <a:pt x="4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2" name=""/>
            <p:cNvSpPr/>
            <p:nvPr/>
          </p:nvSpPr>
          <p:spPr>
            <a:xfrm flipV="1">
              <a:off x="2828880" y="3160800"/>
              <a:ext cx="41400" cy="30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3" name=""/>
            <p:cNvSpPr/>
            <p:nvPr/>
          </p:nvSpPr>
          <p:spPr>
            <a:xfrm>
              <a:off x="5192640" y="2711520"/>
              <a:ext cx="20880" cy="9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4" name=""/>
            <p:cNvSpPr/>
            <p:nvPr/>
          </p:nvSpPr>
          <p:spPr>
            <a:xfrm>
              <a:off x="5213520" y="2720880"/>
              <a:ext cx="1077840" cy="449280"/>
            </a:xfrm>
            <a:custGeom>
              <a:avLst/>
              <a:gdLst/>
              <a:ahLst/>
              <a:rect l="l" t="t" r="r" b="b"/>
              <a:pathLst>
                <a:path w="679" h="283">
                  <a:moveTo>
                    <a:pt x="0" y="0"/>
                  </a:moveTo>
                  <a:lnTo>
                    <a:pt x="7" y="0"/>
                  </a:lnTo>
                  <a:lnTo>
                    <a:pt x="13" y="0"/>
                  </a:lnTo>
                  <a:lnTo>
                    <a:pt x="27" y="0"/>
                  </a:lnTo>
                  <a:lnTo>
                    <a:pt x="33" y="0"/>
                  </a:lnTo>
                  <a:lnTo>
                    <a:pt x="40" y="0"/>
                  </a:lnTo>
                  <a:lnTo>
                    <a:pt x="46" y="7"/>
                  </a:lnTo>
                  <a:lnTo>
                    <a:pt x="60" y="7"/>
                  </a:lnTo>
                  <a:lnTo>
                    <a:pt x="66" y="13"/>
                  </a:lnTo>
                  <a:lnTo>
                    <a:pt x="73" y="13"/>
                  </a:lnTo>
                  <a:lnTo>
                    <a:pt x="79" y="20"/>
                  </a:lnTo>
                  <a:lnTo>
                    <a:pt x="86" y="20"/>
                  </a:lnTo>
                  <a:lnTo>
                    <a:pt x="99" y="26"/>
                  </a:lnTo>
                  <a:lnTo>
                    <a:pt x="106" y="26"/>
                  </a:lnTo>
                  <a:lnTo>
                    <a:pt x="112" y="26"/>
                  </a:lnTo>
                  <a:lnTo>
                    <a:pt x="119" y="33"/>
                  </a:lnTo>
                  <a:lnTo>
                    <a:pt x="132" y="33"/>
                  </a:lnTo>
                  <a:lnTo>
                    <a:pt x="139" y="33"/>
                  </a:lnTo>
                  <a:lnTo>
                    <a:pt x="145" y="40"/>
                  </a:lnTo>
                  <a:lnTo>
                    <a:pt x="158" y="40"/>
                  </a:lnTo>
                  <a:lnTo>
                    <a:pt x="165" y="40"/>
                  </a:lnTo>
                  <a:lnTo>
                    <a:pt x="172" y="46"/>
                  </a:lnTo>
                  <a:lnTo>
                    <a:pt x="178" y="46"/>
                  </a:lnTo>
                  <a:lnTo>
                    <a:pt x="191" y="46"/>
                  </a:lnTo>
                  <a:lnTo>
                    <a:pt x="198" y="53"/>
                  </a:lnTo>
                  <a:lnTo>
                    <a:pt x="205" y="53"/>
                  </a:lnTo>
                  <a:lnTo>
                    <a:pt x="211" y="59"/>
                  </a:lnTo>
                  <a:lnTo>
                    <a:pt x="224" y="59"/>
                  </a:lnTo>
                  <a:lnTo>
                    <a:pt x="231" y="59"/>
                  </a:lnTo>
                  <a:lnTo>
                    <a:pt x="238" y="59"/>
                  </a:lnTo>
                  <a:lnTo>
                    <a:pt x="251" y="66"/>
                  </a:lnTo>
                  <a:lnTo>
                    <a:pt x="257" y="66"/>
                  </a:lnTo>
                  <a:lnTo>
                    <a:pt x="264" y="73"/>
                  </a:lnTo>
                  <a:lnTo>
                    <a:pt x="270" y="73"/>
                  </a:lnTo>
                  <a:lnTo>
                    <a:pt x="284" y="73"/>
                  </a:lnTo>
                  <a:lnTo>
                    <a:pt x="290" y="79"/>
                  </a:lnTo>
                  <a:lnTo>
                    <a:pt x="297" y="79"/>
                  </a:lnTo>
                  <a:lnTo>
                    <a:pt x="303" y="79"/>
                  </a:lnTo>
                  <a:lnTo>
                    <a:pt x="317" y="86"/>
                  </a:lnTo>
                  <a:lnTo>
                    <a:pt x="323" y="86"/>
                  </a:lnTo>
                  <a:lnTo>
                    <a:pt x="330" y="86"/>
                  </a:lnTo>
                  <a:lnTo>
                    <a:pt x="336" y="92"/>
                  </a:lnTo>
                  <a:lnTo>
                    <a:pt x="350" y="92"/>
                  </a:lnTo>
                  <a:lnTo>
                    <a:pt x="356" y="92"/>
                  </a:lnTo>
                  <a:lnTo>
                    <a:pt x="363" y="99"/>
                  </a:lnTo>
                  <a:lnTo>
                    <a:pt x="376" y="99"/>
                  </a:lnTo>
                  <a:lnTo>
                    <a:pt x="383" y="99"/>
                  </a:lnTo>
                  <a:lnTo>
                    <a:pt x="389" y="105"/>
                  </a:lnTo>
                  <a:lnTo>
                    <a:pt x="396" y="105"/>
                  </a:lnTo>
                  <a:lnTo>
                    <a:pt x="409" y="105"/>
                  </a:lnTo>
                  <a:lnTo>
                    <a:pt x="415" y="112"/>
                  </a:lnTo>
                  <a:lnTo>
                    <a:pt x="422" y="112"/>
                  </a:lnTo>
                  <a:lnTo>
                    <a:pt x="429" y="119"/>
                  </a:lnTo>
                  <a:lnTo>
                    <a:pt x="442" y="119"/>
                  </a:lnTo>
                  <a:lnTo>
                    <a:pt x="448" y="119"/>
                  </a:lnTo>
                  <a:lnTo>
                    <a:pt x="455" y="119"/>
                  </a:lnTo>
                  <a:lnTo>
                    <a:pt x="462" y="125"/>
                  </a:lnTo>
                  <a:lnTo>
                    <a:pt x="468" y="132"/>
                  </a:lnTo>
                  <a:lnTo>
                    <a:pt x="475" y="132"/>
                  </a:lnTo>
                  <a:lnTo>
                    <a:pt x="481" y="138"/>
                  </a:lnTo>
                  <a:lnTo>
                    <a:pt x="488" y="145"/>
                  </a:lnTo>
                  <a:lnTo>
                    <a:pt x="495" y="152"/>
                  </a:lnTo>
                  <a:lnTo>
                    <a:pt x="501" y="152"/>
                  </a:lnTo>
                  <a:lnTo>
                    <a:pt x="508" y="158"/>
                  </a:lnTo>
                  <a:lnTo>
                    <a:pt x="514" y="158"/>
                  </a:lnTo>
                  <a:lnTo>
                    <a:pt x="521" y="165"/>
                  </a:lnTo>
                  <a:lnTo>
                    <a:pt x="527" y="165"/>
                  </a:lnTo>
                  <a:lnTo>
                    <a:pt x="527" y="171"/>
                  </a:lnTo>
                  <a:lnTo>
                    <a:pt x="534" y="178"/>
                  </a:lnTo>
                  <a:lnTo>
                    <a:pt x="541" y="184"/>
                  </a:lnTo>
                  <a:lnTo>
                    <a:pt x="547" y="184"/>
                  </a:lnTo>
                  <a:lnTo>
                    <a:pt x="560" y="184"/>
                  </a:lnTo>
                  <a:lnTo>
                    <a:pt x="567" y="191"/>
                  </a:lnTo>
                  <a:lnTo>
                    <a:pt x="574" y="198"/>
                  </a:lnTo>
                  <a:lnTo>
                    <a:pt x="574" y="204"/>
                  </a:lnTo>
                  <a:lnTo>
                    <a:pt x="580" y="204"/>
                  </a:lnTo>
                  <a:lnTo>
                    <a:pt x="580" y="211"/>
                  </a:lnTo>
                  <a:lnTo>
                    <a:pt x="587" y="217"/>
                  </a:lnTo>
                  <a:lnTo>
                    <a:pt x="593" y="217"/>
                  </a:lnTo>
                  <a:lnTo>
                    <a:pt x="607" y="217"/>
                  </a:lnTo>
                  <a:lnTo>
                    <a:pt x="613" y="224"/>
                  </a:lnTo>
                  <a:lnTo>
                    <a:pt x="620" y="231"/>
                  </a:lnTo>
                  <a:lnTo>
                    <a:pt x="620" y="231"/>
                  </a:lnTo>
                  <a:lnTo>
                    <a:pt x="626" y="237"/>
                  </a:lnTo>
                  <a:lnTo>
                    <a:pt x="633" y="244"/>
                  </a:lnTo>
                  <a:lnTo>
                    <a:pt x="639" y="250"/>
                  </a:lnTo>
                  <a:lnTo>
                    <a:pt x="646" y="250"/>
                  </a:lnTo>
                  <a:lnTo>
                    <a:pt x="653" y="257"/>
                  </a:lnTo>
                  <a:lnTo>
                    <a:pt x="653" y="257"/>
                  </a:lnTo>
                  <a:lnTo>
                    <a:pt x="659" y="263"/>
                  </a:lnTo>
                  <a:lnTo>
                    <a:pt x="672" y="270"/>
                  </a:lnTo>
                  <a:lnTo>
                    <a:pt x="679" y="270"/>
                  </a:lnTo>
                  <a:lnTo>
                    <a:pt x="672" y="277"/>
                  </a:lnTo>
                  <a:lnTo>
                    <a:pt x="659" y="277"/>
                  </a:lnTo>
                  <a:lnTo>
                    <a:pt x="653" y="277"/>
                  </a:lnTo>
                  <a:lnTo>
                    <a:pt x="646" y="277"/>
                  </a:lnTo>
                  <a:lnTo>
                    <a:pt x="633" y="283"/>
                  </a:lnTo>
                  <a:lnTo>
                    <a:pt x="626" y="283"/>
                  </a:lnTo>
                  <a:lnTo>
                    <a:pt x="620" y="28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5" name=""/>
            <p:cNvSpPr/>
            <p:nvPr/>
          </p:nvSpPr>
          <p:spPr>
            <a:xfrm>
              <a:off x="6197760" y="3170160"/>
              <a:ext cx="14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6" name=""/>
            <p:cNvSpPr/>
            <p:nvPr/>
          </p:nvSpPr>
          <p:spPr>
            <a:xfrm>
              <a:off x="6029280" y="3108240"/>
              <a:ext cx="31680" cy="61920"/>
            </a:xfrm>
            <a:custGeom>
              <a:avLst/>
              <a:gdLst/>
              <a:ahLst/>
              <a:rect l="l" t="t" r="r" b="b"/>
              <a:pathLst>
                <a:path w="20" h="39">
                  <a:moveTo>
                    <a:pt x="7" y="39"/>
                  </a:moveTo>
                  <a:lnTo>
                    <a:pt x="7" y="39"/>
                  </a:lnTo>
                  <a:lnTo>
                    <a:pt x="13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13"/>
                  </a:lnTo>
                  <a:lnTo>
                    <a:pt x="0" y="6"/>
                  </a:lnTo>
                  <a:lnTo>
                    <a:pt x="0" y="6"/>
                  </a:lnTo>
                  <a:lnTo>
                    <a:pt x="7" y="6"/>
                  </a:lnTo>
                  <a:lnTo>
                    <a:pt x="7" y="0"/>
                  </a:lnTo>
                  <a:lnTo>
                    <a:pt x="7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20" y="0"/>
                  </a:lnTo>
                  <a:lnTo>
                    <a:pt x="7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7" name=""/>
            <p:cNvSpPr/>
            <p:nvPr/>
          </p:nvSpPr>
          <p:spPr>
            <a:xfrm>
              <a:off x="6072120" y="3108240"/>
              <a:ext cx="41400" cy="73080"/>
            </a:xfrm>
            <a:custGeom>
              <a:avLst/>
              <a:gdLst/>
              <a:ahLst/>
              <a:rect l="l" t="t" r="r" b="b"/>
              <a:pathLst>
                <a:path w="26" h="46">
                  <a:moveTo>
                    <a:pt x="26" y="13"/>
                  </a:moveTo>
                  <a:lnTo>
                    <a:pt x="26" y="13"/>
                  </a:lnTo>
                  <a:lnTo>
                    <a:pt x="26" y="13"/>
                  </a:lnTo>
                  <a:lnTo>
                    <a:pt x="26" y="13"/>
                  </a:lnTo>
                  <a:lnTo>
                    <a:pt x="26" y="13"/>
                  </a:lnTo>
                  <a:lnTo>
                    <a:pt x="19" y="13"/>
                  </a:lnTo>
                  <a:lnTo>
                    <a:pt x="19" y="6"/>
                  </a:lnTo>
                  <a:lnTo>
                    <a:pt x="19" y="6"/>
                  </a:lnTo>
                  <a:lnTo>
                    <a:pt x="19" y="6"/>
                  </a:lnTo>
                  <a:lnTo>
                    <a:pt x="19" y="6"/>
                  </a:lnTo>
                  <a:lnTo>
                    <a:pt x="19" y="6"/>
                  </a:lnTo>
                  <a:lnTo>
                    <a:pt x="13" y="6"/>
                  </a:lnTo>
                  <a:lnTo>
                    <a:pt x="13" y="6"/>
                  </a:lnTo>
                  <a:lnTo>
                    <a:pt x="13" y="6"/>
                  </a:lnTo>
                  <a:lnTo>
                    <a:pt x="13" y="6"/>
                  </a:lnTo>
                  <a:lnTo>
                    <a:pt x="13" y="6"/>
                  </a:lnTo>
                  <a:lnTo>
                    <a:pt x="13" y="13"/>
                  </a:lnTo>
                  <a:lnTo>
                    <a:pt x="6" y="13"/>
                  </a:lnTo>
                  <a:lnTo>
                    <a:pt x="6" y="13"/>
                  </a:lnTo>
                  <a:lnTo>
                    <a:pt x="6" y="13"/>
                  </a:lnTo>
                  <a:lnTo>
                    <a:pt x="6" y="19"/>
                  </a:lnTo>
                  <a:lnTo>
                    <a:pt x="6" y="19"/>
                  </a:lnTo>
                  <a:lnTo>
                    <a:pt x="6" y="19"/>
                  </a:lnTo>
                  <a:lnTo>
                    <a:pt x="6" y="19"/>
                  </a:lnTo>
                  <a:lnTo>
                    <a:pt x="6" y="19"/>
                  </a:lnTo>
                  <a:lnTo>
                    <a:pt x="13" y="19"/>
                  </a:lnTo>
                  <a:lnTo>
                    <a:pt x="13" y="19"/>
                  </a:lnTo>
                  <a:lnTo>
                    <a:pt x="13" y="19"/>
                  </a:lnTo>
                  <a:lnTo>
                    <a:pt x="13" y="19"/>
                  </a:lnTo>
                  <a:lnTo>
                    <a:pt x="19" y="19"/>
                  </a:lnTo>
                  <a:lnTo>
                    <a:pt x="19" y="19"/>
                  </a:lnTo>
                  <a:lnTo>
                    <a:pt x="19" y="19"/>
                  </a:lnTo>
                  <a:lnTo>
                    <a:pt x="26" y="19"/>
                  </a:lnTo>
                  <a:lnTo>
                    <a:pt x="26" y="26"/>
                  </a:lnTo>
                  <a:lnTo>
                    <a:pt x="26" y="26"/>
                  </a:lnTo>
                  <a:lnTo>
                    <a:pt x="26" y="26"/>
                  </a:lnTo>
                  <a:lnTo>
                    <a:pt x="26" y="33"/>
                  </a:lnTo>
                  <a:lnTo>
                    <a:pt x="26" y="33"/>
                  </a:lnTo>
                  <a:lnTo>
                    <a:pt x="26" y="33"/>
                  </a:lnTo>
                  <a:lnTo>
                    <a:pt x="26" y="39"/>
                  </a:lnTo>
                  <a:lnTo>
                    <a:pt x="26" y="39"/>
                  </a:lnTo>
                  <a:lnTo>
                    <a:pt x="26" y="39"/>
                  </a:lnTo>
                  <a:lnTo>
                    <a:pt x="19" y="39"/>
                  </a:lnTo>
                  <a:lnTo>
                    <a:pt x="19" y="46"/>
                  </a:lnTo>
                  <a:lnTo>
                    <a:pt x="19" y="46"/>
                  </a:lnTo>
                  <a:lnTo>
                    <a:pt x="19" y="46"/>
                  </a:lnTo>
                  <a:lnTo>
                    <a:pt x="13" y="46"/>
                  </a:lnTo>
                  <a:lnTo>
                    <a:pt x="13" y="46"/>
                  </a:lnTo>
                  <a:lnTo>
                    <a:pt x="13" y="46"/>
                  </a:lnTo>
                  <a:lnTo>
                    <a:pt x="13" y="46"/>
                  </a:lnTo>
                  <a:lnTo>
                    <a:pt x="6" y="46"/>
                  </a:lnTo>
                  <a:lnTo>
                    <a:pt x="6" y="46"/>
                  </a:lnTo>
                  <a:lnTo>
                    <a:pt x="0" y="39"/>
                  </a:lnTo>
                  <a:lnTo>
                    <a:pt x="0" y="39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0" y="26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13"/>
                  </a:lnTo>
                  <a:lnTo>
                    <a:pt x="6" y="6"/>
                  </a:lnTo>
                  <a:lnTo>
                    <a:pt x="6" y="6"/>
                  </a:lnTo>
                  <a:lnTo>
                    <a:pt x="13" y="6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9" y="0"/>
                  </a:lnTo>
                  <a:lnTo>
                    <a:pt x="19" y="6"/>
                  </a:lnTo>
                  <a:lnTo>
                    <a:pt x="26" y="6"/>
                  </a:lnTo>
                  <a:lnTo>
                    <a:pt x="26" y="6"/>
                  </a:lnTo>
                  <a:lnTo>
                    <a:pt x="26" y="6"/>
                  </a:lnTo>
                  <a:lnTo>
                    <a:pt x="26" y="6"/>
                  </a:lnTo>
                  <a:lnTo>
                    <a:pt x="26" y="13"/>
                  </a:lnTo>
                  <a:lnTo>
                    <a:pt x="26" y="13"/>
                  </a:lnTo>
                  <a:lnTo>
                    <a:pt x="26" y="13"/>
                  </a:lnTo>
                  <a:close/>
                  <a:moveTo>
                    <a:pt x="6" y="33"/>
                  </a:moveTo>
                  <a:lnTo>
                    <a:pt x="6" y="33"/>
                  </a:lnTo>
                  <a:lnTo>
                    <a:pt x="6" y="33"/>
                  </a:lnTo>
                  <a:lnTo>
                    <a:pt x="6" y="33"/>
                  </a:lnTo>
                  <a:lnTo>
                    <a:pt x="6" y="33"/>
                  </a:lnTo>
                  <a:lnTo>
                    <a:pt x="6" y="39"/>
                  </a:lnTo>
                  <a:lnTo>
                    <a:pt x="6" y="39"/>
                  </a:lnTo>
                  <a:lnTo>
                    <a:pt x="6" y="39"/>
                  </a:lnTo>
                  <a:lnTo>
                    <a:pt x="6" y="39"/>
                  </a:lnTo>
                  <a:lnTo>
                    <a:pt x="6" y="39"/>
                  </a:lnTo>
                  <a:lnTo>
                    <a:pt x="6" y="39"/>
                  </a:lnTo>
                  <a:lnTo>
                    <a:pt x="13" y="39"/>
                  </a:lnTo>
                  <a:lnTo>
                    <a:pt x="13" y="39"/>
                  </a:lnTo>
                  <a:lnTo>
                    <a:pt x="13" y="39"/>
                  </a:lnTo>
                  <a:lnTo>
                    <a:pt x="13" y="39"/>
                  </a:lnTo>
                  <a:lnTo>
                    <a:pt x="13" y="39"/>
                  </a:lnTo>
                  <a:lnTo>
                    <a:pt x="19" y="39"/>
                  </a:lnTo>
                  <a:lnTo>
                    <a:pt x="19" y="39"/>
                  </a:lnTo>
                  <a:lnTo>
                    <a:pt x="19" y="39"/>
                  </a:lnTo>
                  <a:lnTo>
                    <a:pt x="19" y="33"/>
                  </a:lnTo>
                  <a:lnTo>
                    <a:pt x="19" y="33"/>
                  </a:lnTo>
                  <a:lnTo>
                    <a:pt x="19" y="33"/>
                  </a:lnTo>
                  <a:lnTo>
                    <a:pt x="19" y="26"/>
                  </a:lnTo>
                  <a:lnTo>
                    <a:pt x="19" y="26"/>
                  </a:lnTo>
                  <a:lnTo>
                    <a:pt x="19" y="26"/>
                  </a:lnTo>
                  <a:lnTo>
                    <a:pt x="19" y="26"/>
                  </a:lnTo>
                  <a:lnTo>
                    <a:pt x="19" y="26"/>
                  </a:lnTo>
                  <a:lnTo>
                    <a:pt x="19" y="19"/>
                  </a:lnTo>
                  <a:lnTo>
                    <a:pt x="13" y="19"/>
                  </a:lnTo>
                  <a:lnTo>
                    <a:pt x="13" y="19"/>
                  </a:lnTo>
                  <a:lnTo>
                    <a:pt x="13" y="19"/>
                  </a:lnTo>
                  <a:lnTo>
                    <a:pt x="13" y="19"/>
                  </a:lnTo>
                  <a:lnTo>
                    <a:pt x="6" y="26"/>
                  </a:lnTo>
                  <a:lnTo>
                    <a:pt x="6" y="26"/>
                  </a:lnTo>
                  <a:lnTo>
                    <a:pt x="6" y="26"/>
                  </a:lnTo>
                  <a:lnTo>
                    <a:pt x="6" y="26"/>
                  </a:lnTo>
                  <a:lnTo>
                    <a:pt x="6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8" name=""/>
            <p:cNvSpPr/>
            <p:nvPr/>
          </p:nvSpPr>
          <p:spPr>
            <a:xfrm>
              <a:off x="6124680" y="3117960"/>
              <a:ext cx="41040" cy="73080"/>
            </a:xfrm>
            <a:custGeom>
              <a:avLst/>
              <a:gdLst/>
              <a:ahLst/>
              <a:rect l="l" t="t" r="r" b="b"/>
              <a:pathLst>
                <a:path w="26" h="46">
                  <a:moveTo>
                    <a:pt x="0" y="20"/>
                  </a:moveTo>
                  <a:lnTo>
                    <a:pt x="0" y="20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13" y="7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9" y="7"/>
                  </a:lnTo>
                  <a:lnTo>
                    <a:pt x="19" y="7"/>
                  </a:lnTo>
                  <a:lnTo>
                    <a:pt x="26" y="7"/>
                  </a:lnTo>
                  <a:lnTo>
                    <a:pt x="26" y="7"/>
                  </a:lnTo>
                  <a:lnTo>
                    <a:pt x="26" y="7"/>
                  </a:lnTo>
                  <a:lnTo>
                    <a:pt x="26" y="7"/>
                  </a:lnTo>
                  <a:lnTo>
                    <a:pt x="26" y="7"/>
                  </a:lnTo>
                  <a:lnTo>
                    <a:pt x="26" y="13"/>
                  </a:lnTo>
                  <a:lnTo>
                    <a:pt x="26" y="13"/>
                  </a:lnTo>
                  <a:lnTo>
                    <a:pt x="26" y="13"/>
                  </a:lnTo>
                  <a:lnTo>
                    <a:pt x="26" y="20"/>
                  </a:lnTo>
                  <a:lnTo>
                    <a:pt x="26" y="20"/>
                  </a:lnTo>
                  <a:lnTo>
                    <a:pt x="26" y="20"/>
                  </a:lnTo>
                  <a:lnTo>
                    <a:pt x="26" y="27"/>
                  </a:lnTo>
                  <a:lnTo>
                    <a:pt x="26" y="27"/>
                  </a:lnTo>
                  <a:lnTo>
                    <a:pt x="26" y="33"/>
                  </a:lnTo>
                  <a:lnTo>
                    <a:pt x="26" y="33"/>
                  </a:lnTo>
                  <a:lnTo>
                    <a:pt x="26" y="33"/>
                  </a:lnTo>
                  <a:lnTo>
                    <a:pt x="26" y="40"/>
                  </a:lnTo>
                  <a:lnTo>
                    <a:pt x="19" y="40"/>
                  </a:lnTo>
                  <a:lnTo>
                    <a:pt x="19" y="40"/>
                  </a:lnTo>
                  <a:lnTo>
                    <a:pt x="19" y="46"/>
                  </a:lnTo>
                  <a:lnTo>
                    <a:pt x="19" y="46"/>
                  </a:lnTo>
                  <a:lnTo>
                    <a:pt x="13" y="46"/>
                  </a:lnTo>
                  <a:lnTo>
                    <a:pt x="13" y="46"/>
                  </a:lnTo>
                  <a:lnTo>
                    <a:pt x="13" y="46"/>
                  </a:lnTo>
                  <a:lnTo>
                    <a:pt x="6" y="46"/>
                  </a:lnTo>
                  <a:lnTo>
                    <a:pt x="6" y="46"/>
                  </a:lnTo>
                  <a:lnTo>
                    <a:pt x="6" y="46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0" y="27"/>
                  </a:lnTo>
                  <a:lnTo>
                    <a:pt x="0" y="20"/>
                  </a:lnTo>
                  <a:close/>
                  <a:moveTo>
                    <a:pt x="6" y="20"/>
                  </a:moveTo>
                  <a:lnTo>
                    <a:pt x="6" y="27"/>
                  </a:lnTo>
                  <a:lnTo>
                    <a:pt x="6" y="33"/>
                  </a:lnTo>
                  <a:lnTo>
                    <a:pt x="6" y="33"/>
                  </a:lnTo>
                  <a:lnTo>
                    <a:pt x="6" y="40"/>
                  </a:lnTo>
                  <a:lnTo>
                    <a:pt x="6" y="40"/>
                  </a:lnTo>
                  <a:lnTo>
                    <a:pt x="6" y="40"/>
                  </a:lnTo>
                  <a:lnTo>
                    <a:pt x="6" y="40"/>
                  </a:lnTo>
                  <a:lnTo>
                    <a:pt x="13" y="40"/>
                  </a:lnTo>
                  <a:lnTo>
                    <a:pt x="13" y="40"/>
                  </a:lnTo>
                  <a:lnTo>
                    <a:pt x="13" y="40"/>
                  </a:lnTo>
                  <a:lnTo>
                    <a:pt x="13" y="40"/>
                  </a:lnTo>
                  <a:lnTo>
                    <a:pt x="19" y="40"/>
                  </a:lnTo>
                  <a:lnTo>
                    <a:pt x="19" y="40"/>
                  </a:lnTo>
                  <a:lnTo>
                    <a:pt x="19" y="33"/>
                  </a:lnTo>
                  <a:lnTo>
                    <a:pt x="19" y="33"/>
                  </a:lnTo>
                  <a:lnTo>
                    <a:pt x="19" y="27"/>
                  </a:lnTo>
                  <a:lnTo>
                    <a:pt x="19" y="20"/>
                  </a:lnTo>
                  <a:lnTo>
                    <a:pt x="26" y="20"/>
                  </a:lnTo>
                  <a:lnTo>
                    <a:pt x="26" y="13"/>
                  </a:lnTo>
                  <a:lnTo>
                    <a:pt x="19" y="13"/>
                  </a:lnTo>
                  <a:lnTo>
                    <a:pt x="19" y="7"/>
                  </a:lnTo>
                  <a:lnTo>
                    <a:pt x="19" y="7"/>
                  </a:lnTo>
                  <a:lnTo>
                    <a:pt x="19" y="7"/>
                  </a:lnTo>
                  <a:lnTo>
                    <a:pt x="19" y="7"/>
                  </a:lnTo>
                  <a:lnTo>
                    <a:pt x="13" y="7"/>
                  </a:lnTo>
                  <a:lnTo>
                    <a:pt x="13" y="7"/>
                  </a:lnTo>
                  <a:lnTo>
                    <a:pt x="13" y="7"/>
                  </a:lnTo>
                  <a:lnTo>
                    <a:pt x="13" y="7"/>
                  </a:lnTo>
                  <a:lnTo>
                    <a:pt x="6" y="13"/>
                  </a:lnTo>
                  <a:lnTo>
                    <a:pt x="6" y="13"/>
                  </a:lnTo>
                  <a:lnTo>
                    <a:pt x="6" y="20"/>
                  </a:lnTo>
                  <a:lnTo>
                    <a:pt x="6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9" name=""/>
            <p:cNvSpPr/>
            <p:nvPr/>
          </p:nvSpPr>
          <p:spPr>
            <a:xfrm flipH="1">
              <a:off x="5987520" y="3129120"/>
              <a:ext cx="11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0" name=""/>
            <p:cNvSpPr/>
            <p:nvPr/>
          </p:nvSpPr>
          <p:spPr>
            <a:xfrm>
              <a:off x="4836960" y="3129120"/>
              <a:ext cx="1150920" cy="585720"/>
            </a:xfrm>
            <a:custGeom>
              <a:avLst/>
              <a:gdLst/>
              <a:ahLst/>
              <a:rect l="l" t="t" r="r" b="b"/>
              <a:pathLst>
                <a:path w="725" h="369">
                  <a:moveTo>
                    <a:pt x="725" y="0"/>
                  </a:moveTo>
                  <a:lnTo>
                    <a:pt x="718" y="0"/>
                  </a:lnTo>
                  <a:lnTo>
                    <a:pt x="705" y="0"/>
                  </a:lnTo>
                  <a:lnTo>
                    <a:pt x="699" y="6"/>
                  </a:lnTo>
                  <a:lnTo>
                    <a:pt x="692" y="6"/>
                  </a:lnTo>
                  <a:lnTo>
                    <a:pt x="685" y="13"/>
                  </a:lnTo>
                  <a:lnTo>
                    <a:pt x="679" y="20"/>
                  </a:lnTo>
                  <a:lnTo>
                    <a:pt x="679" y="26"/>
                  </a:lnTo>
                  <a:lnTo>
                    <a:pt x="679" y="33"/>
                  </a:lnTo>
                  <a:lnTo>
                    <a:pt x="685" y="33"/>
                  </a:lnTo>
                  <a:lnTo>
                    <a:pt x="699" y="39"/>
                  </a:lnTo>
                  <a:lnTo>
                    <a:pt x="705" y="39"/>
                  </a:lnTo>
                  <a:lnTo>
                    <a:pt x="712" y="46"/>
                  </a:lnTo>
                  <a:lnTo>
                    <a:pt x="712" y="53"/>
                  </a:lnTo>
                  <a:lnTo>
                    <a:pt x="712" y="59"/>
                  </a:lnTo>
                  <a:lnTo>
                    <a:pt x="712" y="59"/>
                  </a:lnTo>
                  <a:lnTo>
                    <a:pt x="705" y="66"/>
                  </a:lnTo>
                  <a:lnTo>
                    <a:pt x="705" y="72"/>
                  </a:lnTo>
                  <a:lnTo>
                    <a:pt x="699" y="79"/>
                  </a:lnTo>
                  <a:lnTo>
                    <a:pt x="699" y="85"/>
                  </a:lnTo>
                  <a:lnTo>
                    <a:pt x="692" y="85"/>
                  </a:lnTo>
                  <a:lnTo>
                    <a:pt x="685" y="92"/>
                  </a:lnTo>
                  <a:lnTo>
                    <a:pt x="679" y="99"/>
                  </a:lnTo>
                  <a:lnTo>
                    <a:pt x="672" y="99"/>
                  </a:lnTo>
                  <a:lnTo>
                    <a:pt x="666" y="105"/>
                  </a:lnTo>
                  <a:lnTo>
                    <a:pt x="659" y="105"/>
                  </a:lnTo>
                  <a:lnTo>
                    <a:pt x="652" y="112"/>
                  </a:lnTo>
                  <a:lnTo>
                    <a:pt x="646" y="118"/>
                  </a:lnTo>
                  <a:lnTo>
                    <a:pt x="639" y="118"/>
                  </a:lnTo>
                  <a:lnTo>
                    <a:pt x="633" y="125"/>
                  </a:lnTo>
                  <a:lnTo>
                    <a:pt x="620" y="125"/>
                  </a:lnTo>
                  <a:lnTo>
                    <a:pt x="613" y="132"/>
                  </a:lnTo>
                  <a:lnTo>
                    <a:pt x="606" y="138"/>
                  </a:lnTo>
                  <a:lnTo>
                    <a:pt x="600" y="138"/>
                  </a:lnTo>
                  <a:lnTo>
                    <a:pt x="593" y="145"/>
                  </a:lnTo>
                  <a:lnTo>
                    <a:pt x="587" y="145"/>
                  </a:lnTo>
                  <a:lnTo>
                    <a:pt x="573" y="145"/>
                  </a:lnTo>
                  <a:lnTo>
                    <a:pt x="567" y="145"/>
                  </a:lnTo>
                  <a:lnTo>
                    <a:pt x="560" y="138"/>
                  </a:lnTo>
                  <a:lnTo>
                    <a:pt x="554" y="138"/>
                  </a:lnTo>
                  <a:lnTo>
                    <a:pt x="547" y="132"/>
                  </a:lnTo>
                  <a:lnTo>
                    <a:pt x="534" y="132"/>
                  </a:lnTo>
                  <a:lnTo>
                    <a:pt x="527" y="132"/>
                  </a:lnTo>
                  <a:lnTo>
                    <a:pt x="521" y="138"/>
                  </a:lnTo>
                  <a:lnTo>
                    <a:pt x="507" y="138"/>
                  </a:lnTo>
                  <a:lnTo>
                    <a:pt x="501" y="145"/>
                  </a:lnTo>
                  <a:lnTo>
                    <a:pt x="494" y="145"/>
                  </a:lnTo>
                  <a:lnTo>
                    <a:pt x="488" y="151"/>
                  </a:lnTo>
                  <a:lnTo>
                    <a:pt x="481" y="151"/>
                  </a:lnTo>
                  <a:lnTo>
                    <a:pt x="468" y="145"/>
                  </a:lnTo>
                  <a:lnTo>
                    <a:pt x="461" y="151"/>
                  </a:lnTo>
                  <a:lnTo>
                    <a:pt x="455" y="151"/>
                  </a:lnTo>
                  <a:lnTo>
                    <a:pt x="448" y="158"/>
                  </a:lnTo>
                  <a:lnTo>
                    <a:pt x="435" y="158"/>
                  </a:lnTo>
                  <a:lnTo>
                    <a:pt x="428" y="158"/>
                  </a:lnTo>
                  <a:lnTo>
                    <a:pt x="422" y="158"/>
                  </a:lnTo>
                  <a:lnTo>
                    <a:pt x="415" y="151"/>
                  </a:lnTo>
                  <a:lnTo>
                    <a:pt x="409" y="151"/>
                  </a:lnTo>
                  <a:lnTo>
                    <a:pt x="395" y="151"/>
                  </a:lnTo>
                  <a:lnTo>
                    <a:pt x="389" y="151"/>
                  </a:lnTo>
                  <a:lnTo>
                    <a:pt x="376" y="151"/>
                  </a:lnTo>
                  <a:lnTo>
                    <a:pt x="369" y="151"/>
                  </a:lnTo>
                  <a:lnTo>
                    <a:pt x="363" y="151"/>
                  </a:lnTo>
                  <a:lnTo>
                    <a:pt x="349" y="151"/>
                  </a:lnTo>
                  <a:lnTo>
                    <a:pt x="343" y="151"/>
                  </a:lnTo>
                  <a:lnTo>
                    <a:pt x="336" y="151"/>
                  </a:lnTo>
                  <a:lnTo>
                    <a:pt x="323" y="151"/>
                  </a:lnTo>
                  <a:lnTo>
                    <a:pt x="316" y="151"/>
                  </a:lnTo>
                  <a:lnTo>
                    <a:pt x="303" y="151"/>
                  </a:lnTo>
                  <a:lnTo>
                    <a:pt x="297" y="158"/>
                  </a:lnTo>
                  <a:lnTo>
                    <a:pt x="290" y="158"/>
                  </a:lnTo>
                  <a:lnTo>
                    <a:pt x="283" y="164"/>
                  </a:lnTo>
                  <a:lnTo>
                    <a:pt x="277" y="164"/>
                  </a:lnTo>
                  <a:lnTo>
                    <a:pt x="270" y="171"/>
                  </a:lnTo>
                  <a:lnTo>
                    <a:pt x="264" y="171"/>
                  </a:lnTo>
                  <a:lnTo>
                    <a:pt x="257" y="178"/>
                  </a:lnTo>
                  <a:lnTo>
                    <a:pt x="250" y="184"/>
                  </a:lnTo>
                  <a:lnTo>
                    <a:pt x="244" y="184"/>
                  </a:lnTo>
                  <a:lnTo>
                    <a:pt x="237" y="191"/>
                  </a:lnTo>
                  <a:lnTo>
                    <a:pt x="237" y="197"/>
                  </a:lnTo>
                  <a:lnTo>
                    <a:pt x="231" y="204"/>
                  </a:lnTo>
                  <a:lnTo>
                    <a:pt x="231" y="211"/>
                  </a:lnTo>
                  <a:lnTo>
                    <a:pt x="231" y="217"/>
                  </a:lnTo>
                  <a:lnTo>
                    <a:pt x="231" y="217"/>
                  </a:lnTo>
                  <a:lnTo>
                    <a:pt x="237" y="224"/>
                  </a:lnTo>
                  <a:lnTo>
                    <a:pt x="244" y="230"/>
                  </a:lnTo>
                  <a:lnTo>
                    <a:pt x="250" y="237"/>
                  </a:lnTo>
                  <a:lnTo>
                    <a:pt x="257" y="237"/>
                  </a:lnTo>
                  <a:lnTo>
                    <a:pt x="257" y="243"/>
                  </a:lnTo>
                  <a:lnTo>
                    <a:pt x="257" y="250"/>
                  </a:lnTo>
                  <a:lnTo>
                    <a:pt x="250" y="257"/>
                  </a:lnTo>
                  <a:lnTo>
                    <a:pt x="250" y="263"/>
                  </a:lnTo>
                  <a:lnTo>
                    <a:pt x="244" y="270"/>
                  </a:lnTo>
                  <a:lnTo>
                    <a:pt x="244" y="276"/>
                  </a:lnTo>
                  <a:lnTo>
                    <a:pt x="244" y="276"/>
                  </a:lnTo>
                  <a:lnTo>
                    <a:pt x="237" y="283"/>
                  </a:lnTo>
                  <a:lnTo>
                    <a:pt x="237" y="290"/>
                  </a:lnTo>
                  <a:lnTo>
                    <a:pt x="237" y="296"/>
                  </a:lnTo>
                  <a:lnTo>
                    <a:pt x="237" y="303"/>
                  </a:lnTo>
                  <a:lnTo>
                    <a:pt x="231" y="309"/>
                  </a:lnTo>
                  <a:lnTo>
                    <a:pt x="231" y="316"/>
                  </a:lnTo>
                  <a:lnTo>
                    <a:pt x="231" y="322"/>
                  </a:lnTo>
                  <a:lnTo>
                    <a:pt x="224" y="322"/>
                  </a:lnTo>
                  <a:lnTo>
                    <a:pt x="224" y="329"/>
                  </a:lnTo>
                  <a:lnTo>
                    <a:pt x="218" y="336"/>
                  </a:lnTo>
                  <a:lnTo>
                    <a:pt x="218" y="342"/>
                  </a:lnTo>
                  <a:lnTo>
                    <a:pt x="211" y="349"/>
                  </a:lnTo>
                  <a:lnTo>
                    <a:pt x="198" y="349"/>
                  </a:lnTo>
                  <a:lnTo>
                    <a:pt x="191" y="355"/>
                  </a:lnTo>
                  <a:lnTo>
                    <a:pt x="191" y="355"/>
                  </a:lnTo>
                  <a:lnTo>
                    <a:pt x="185" y="362"/>
                  </a:lnTo>
                  <a:lnTo>
                    <a:pt x="178" y="362"/>
                  </a:lnTo>
                  <a:lnTo>
                    <a:pt x="165" y="369"/>
                  </a:lnTo>
                  <a:lnTo>
                    <a:pt x="158" y="369"/>
                  </a:lnTo>
                  <a:lnTo>
                    <a:pt x="145" y="369"/>
                  </a:lnTo>
                  <a:lnTo>
                    <a:pt x="138" y="369"/>
                  </a:lnTo>
                  <a:lnTo>
                    <a:pt x="132" y="369"/>
                  </a:lnTo>
                  <a:lnTo>
                    <a:pt x="119" y="369"/>
                  </a:lnTo>
                  <a:lnTo>
                    <a:pt x="112" y="362"/>
                  </a:lnTo>
                  <a:lnTo>
                    <a:pt x="106" y="362"/>
                  </a:lnTo>
                  <a:lnTo>
                    <a:pt x="99" y="355"/>
                  </a:lnTo>
                  <a:lnTo>
                    <a:pt x="92" y="355"/>
                  </a:lnTo>
                  <a:lnTo>
                    <a:pt x="86" y="349"/>
                  </a:lnTo>
                  <a:lnTo>
                    <a:pt x="79" y="342"/>
                  </a:lnTo>
                  <a:lnTo>
                    <a:pt x="79" y="336"/>
                  </a:lnTo>
                  <a:lnTo>
                    <a:pt x="73" y="329"/>
                  </a:lnTo>
                  <a:lnTo>
                    <a:pt x="73" y="322"/>
                  </a:lnTo>
                  <a:lnTo>
                    <a:pt x="73" y="322"/>
                  </a:lnTo>
                  <a:lnTo>
                    <a:pt x="73" y="316"/>
                  </a:lnTo>
                  <a:lnTo>
                    <a:pt x="73" y="309"/>
                  </a:lnTo>
                  <a:lnTo>
                    <a:pt x="73" y="303"/>
                  </a:lnTo>
                  <a:lnTo>
                    <a:pt x="73" y="296"/>
                  </a:lnTo>
                  <a:lnTo>
                    <a:pt x="66" y="290"/>
                  </a:lnTo>
                  <a:lnTo>
                    <a:pt x="59" y="283"/>
                  </a:lnTo>
                  <a:lnTo>
                    <a:pt x="53" y="283"/>
                  </a:lnTo>
                  <a:lnTo>
                    <a:pt x="46" y="276"/>
                  </a:lnTo>
                  <a:lnTo>
                    <a:pt x="40" y="276"/>
                  </a:lnTo>
                  <a:lnTo>
                    <a:pt x="33" y="270"/>
                  </a:lnTo>
                  <a:lnTo>
                    <a:pt x="26" y="270"/>
                  </a:lnTo>
                  <a:lnTo>
                    <a:pt x="20" y="263"/>
                  </a:lnTo>
                  <a:lnTo>
                    <a:pt x="13" y="257"/>
                  </a:lnTo>
                  <a:lnTo>
                    <a:pt x="13" y="250"/>
                  </a:lnTo>
                  <a:lnTo>
                    <a:pt x="13" y="243"/>
                  </a:lnTo>
                  <a:lnTo>
                    <a:pt x="13" y="237"/>
                  </a:lnTo>
                  <a:lnTo>
                    <a:pt x="13" y="237"/>
                  </a:lnTo>
                  <a:lnTo>
                    <a:pt x="20" y="230"/>
                  </a:lnTo>
                  <a:lnTo>
                    <a:pt x="20" y="224"/>
                  </a:lnTo>
                  <a:lnTo>
                    <a:pt x="26" y="217"/>
                  </a:lnTo>
                  <a:lnTo>
                    <a:pt x="26" y="211"/>
                  </a:lnTo>
                  <a:lnTo>
                    <a:pt x="33" y="204"/>
                  </a:lnTo>
                  <a:lnTo>
                    <a:pt x="33" y="204"/>
                  </a:lnTo>
                  <a:lnTo>
                    <a:pt x="40" y="197"/>
                  </a:lnTo>
                  <a:lnTo>
                    <a:pt x="40" y="191"/>
                  </a:lnTo>
                  <a:lnTo>
                    <a:pt x="46" y="184"/>
                  </a:lnTo>
                  <a:lnTo>
                    <a:pt x="46" y="178"/>
                  </a:lnTo>
                  <a:lnTo>
                    <a:pt x="53" y="171"/>
                  </a:lnTo>
                  <a:lnTo>
                    <a:pt x="53" y="164"/>
                  </a:lnTo>
                  <a:lnTo>
                    <a:pt x="53" y="158"/>
                  </a:lnTo>
                  <a:lnTo>
                    <a:pt x="53" y="158"/>
                  </a:lnTo>
                  <a:lnTo>
                    <a:pt x="40" y="151"/>
                  </a:lnTo>
                  <a:lnTo>
                    <a:pt x="33" y="158"/>
                  </a:lnTo>
                  <a:lnTo>
                    <a:pt x="26" y="164"/>
                  </a:lnTo>
                  <a:lnTo>
                    <a:pt x="26" y="171"/>
                  </a:lnTo>
                  <a:lnTo>
                    <a:pt x="20" y="178"/>
                  </a:lnTo>
                  <a:lnTo>
                    <a:pt x="13" y="178"/>
                  </a:lnTo>
                  <a:lnTo>
                    <a:pt x="7" y="178"/>
                  </a:lnTo>
                  <a:lnTo>
                    <a:pt x="0" y="17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1" name=""/>
            <p:cNvSpPr/>
            <p:nvPr/>
          </p:nvSpPr>
          <p:spPr>
            <a:xfrm>
              <a:off x="4836960" y="3411360"/>
              <a:ext cx="18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2" name=""/>
            <p:cNvSpPr/>
            <p:nvPr/>
          </p:nvSpPr>
          <p:spPr>
            <a:xfrm>
              <a:off x="4680000" y="3452760"/>
              <a:ext cx="42840" cy="61920"/>
            </a:xfrm>
            <a:custGeom>
              <a:avLst/>
              <a:gdLst/>
              <a:ahLst/>
              <a:rect l="l" t="t" r="r" b="b"/>
              <a:pathLst>
                <a:path w="27" h="39">
                  <a:moveTo>
                    <a:pt x="27" y="39"/>
                  </a:moveTo>
                  <a:lnTo>
                    <a:pt x="27" y="39"/>
                  </a:lnTo>
                  <a:lnTo>
                    <a:pt x="7" y="13"/>
                  </a:lnTo>
                  <a:lnTo>
                    <a:pt x="7" y="13"/>
                  </a:lnTo>
                  <a:lnTo>
                    <a:pt x="7" y="13"/>
                  </a:lnTo>
                  <a:lnTo>
                    <a:pt x="7" y="20"/>
                  </a:lnTo>
                  <a:lnTo>
                    <a:pt x="7" y="20"/>
                  </a:lnTo>
                  <a:lnTo>
                    <a:pt x="7" y="20"/>
                  </a:lnTo>
                  <a:lnTo>
                    <a:pt x="7" y="20"/>
                  </a:lnTo>
                  <a:lnTo>
                    <a:pt x="0" y="20"/>
                  </a:lnTo>
                  <a:lnTo>
                    <a:pt x="0" y="26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0"/>
                  </a:lnTo>
                  <a:lnTo>
                    <a:pt x="27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3" name=""/>
            <p:cNvSpPr/>
            <p:nvPr/>
          </p:nvSpPr>
          <p:spPr>
            <a:xfrm>
              <a:off x="4722840" y="3432240"/>
              <a:ext cx="52200" cy="61920"/>
            </a:xfrm>
            <a:custGeom>
              <a:avLst/>
              <a:gdLst/>
              <a:ahLst/>
              <a:rect l="l" t="t" r="r" b="b"/>
              <a:pathLst>
                <a:path w="33" h="39">
                  <a:moveTo>
                    <a:pt x="19" y="0"/>
                  </a:moveTo>
                  <a:lnTo>
                    <a:pt x="19" y="6"/>
                  </a:lnTo>
                  <a:lnTo>
                    <a:pt x="13" y="6"/>
                  </a:lnTo>
                  <a:lnTo>
                    <a:pt x="13" y="6"/>
                  </a:lnTo>
                  <a:lnTo>
                    <a:pt x="13" y="6"/>
                  </a:lnTo>
                  <a:lnTo>
                    <a:pt x="13" y="6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13"/>
                  </a:lnTo>
                  <a:lnTo>
                    <a:pt x="6" y="13"/>
                  </a:lnTo>
                  <a:lnTo>
                    <a:pt x="6" y="13"/>
                  </a:lnTo>
                  <a:lnTo>
                    <a:pt x="6" y="13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6" y="26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13" y="13"/>
                  </a:lnTo>
                  <a:lnTo>
                    <a:pt x="13" y="13"/>
                  </a:lnTo>
                  <a:lnTo>
                    <a:pt x="13" y="13"/>
                  </a:lnTo>
                  <a:lnTo>
                    <a:pt x="13" y="13"/>
                  </a:lnTo>
                  <a:lnTo>
                    <a:pt x="13" y="13"/>
                  </a:lnTo>
                  <a:lnTo>
                    <a:pt x="19" y="13"/>
                  </a:lnTo>
                  <a:lnTo>
                    <a:pt x="19" y="13"/>
                  </a:lnTo>
                  <a:lnTo>
                    <a:pt x="19" y="13"/>
                  </a:lnTo>
                  <a:lnTo>
                    <a:pt x="26" y="13"/>
                  </a:lnTo>
                  <a:lnTo>
                    <a:pt x="26" y="13"/>
                  </a:lnTo>
                  <a:lnTo>
                    <a:pt x="26" y="13"/>
                  </a:lnTo>
                  <a:lnTo>
                    <a:pt x="33" y="20"/>
                  </a:lnTo>
                  <a:lnTo>
                    <a:pt x="33" y="20"/>
                  </a:lnTo>
                  <a:lnTo>
                    <a:pt x="33" y="20"/>
                  </a:lnTo>
                  <a:lnTo>
                    <a:pt x="33" y="26"/>
                  </a:lnTo>
                  <a:lnTo>
                    <a:pt x="33" y="26"/>
                  </a:lnTo>
                  <a:lnTo>
                    <a:pt x="33" y="26"/>
                  </a:lnTo>
                  <a:lnTo>
                    <a:pt x="33" y="26"/>
                  </a:lnTo>
                  <a:lnTo>
                    <a:pt x="33" y="33"/>
                  </a:lnTo>
                  <a:lnTo>
                    <a:pt x="33" y="33"/>
                  </a:lnTo>
                  <a:lnTo>
                    <a:pt x="33" y="33"/>
                  </a:lnTo>
                  <a:lnTo>
                    <a:pt x="33" y="33"/>
                  </a:lnTo>
                  <a:lnTo>
                    <a:pt x="26" y="39"/>
                  </a:lnTo>
                  <a:lnTo>
                    <a:pt x="26" y="39"/>
                  </a:lnTo>
                  <a:lnTo>
                    <a:pt x="26" y="39"/>
                  </a:lnTo>
                  <a:lnTo>
                    <a:pt x="19" y="39"/>
                  </a:lnTo>
                  <a:lnTo>
                    <a:pt x="19" y="39"/>
                  </a:lnTo>
                  <a:lnTo>
                    <a:pt x="13" y="39"/>
                  </a:lnTo>
                  <a:lnTo>
                    <a:pt x="13" y="39"/>
                  </a:lnTo>
                  <a:lnTo>
                    <a:pt x="6" y="33"/>
                  </a:lnTo>
                  <a:lnTo>
                    <a:pt x="6" y="33"/>
                  </a:lnTo>
                  <a:lnTo>
                    <a:pt x="6" y="26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9" y="0"/>
                  </a:lnTo>
                  <a:close/>
                  <a:moveTo>
                    <a:pt x="13" y="33"/>
                  </a:moveTo>
                  <a:lnTo>
                    <a:pt x="13" y="33"/>
                  </a:lnTo>
                  <a:lnTo>
                    <a:pt x="13" y="33"/>
                  </a:lnTo>
                  <a:lnTo>
                    <a:pt x="13" y="33"/>
                  </a:lnTo>
                  <a:lnTo>
                    <a:pt x="13" y="33"/>
                  </a:lnTo>
                  <a:lnTo>
                    <a:pt x="19" y="33"/>
                  </a:lnTo>
                  <a:lnTo>
                    <a:pt x="19" y="33"/>
                  </a:lnTo>
                  <a:lnTo>
                    <a:pt x="19" y="33"/>
                  </a:lnTo>
                  <a:lnTo>
                    <a:pt x="19" y="33"/>
                  </a:lnTo>
                  <a:lnTo>
                    <a:pt x="19" y="33"/>
                  </a:lnTo>
                  <a:lnTo>
                    <a:pt x="19" y="33"/>
                  </a:lnTo>
                  <a:lnTo>
                    <a:pt x="26" y="33"/>
                  </a:lnTo>
                  <a:lnTo>
                    <a:pt x="26" y="33"/>
                  </a:lnTo>
                  <a:lnTo>
                    <a:pt x="26" y="33"/>
                  </a:lnTo>
                  <a:lnTo>
                    <a:pt x="26" y="33"/>
                  </a:lnTo>
                  <a:lnTo>
                    <a:pt x="26" y="33"/>
                  </a:lnTo>
                  <a:lnTo>
                    <a:pt x="26" y="26"/>
                  </a:lnTo>
                  <a:lnTo>
                    <a:pt x="26" y="26"/>
                  </a:lnTo>
                  <a:lnTo>
                    <a:pt x="26" y="26"/>
                  </a:lnTo>
                  <a:lnTo>
                    <a:pt x="26" y="26"/>
                  </a:lnTo>
                  <a:lnTo>
                    <a:pt x="26" y="20"/>
                  </a:lnTo>
                  <a:lnTo>
                    <a:pt x="26" y="20"/>
                  </a:lnTo>
                  <a:lnTo>
                    <a:pt x="26" y="20"/>
                  </a:lnTo>
                  <a:lnTo>
                    <a:pt x="19" y="20"/>
                  </a:lnTo>
                  <a:lnTo>
                    <a:pt x="19" y="20"/>
                  </a:lnTo>
                  <a:lnTo>
                    <a:pt x="19" y="13"/>
                  </a:lnTo>
                  <a:lnTo>
                    <a:pt x="19" y="20"/>
                  </a:lnTo>
                  <a:lnTo>
                    <a:pt x="13" y="20"/>
                  </a:lnTo>
                  <a:lnTo>
                    <a:pt x="13" y="20"/>
                  </a:lnTo>
                  <a:lnTo>
                    <a:pt x="13" y="20"/>
                  </a:lnTo>
                  <a:lnTo>
                    <a:pt x="13" y="20"/>
                  </a:lnTo>
                  <a:lnTo>
                    <a:pt x="13" y="20"/>
                  </a:lnTo>
                  <a:lnTo>
                    <a:pt x="13" y="20"/>
                  </a:lnTo>
                  <a:lnTo>
                    <a:pt x="13" y="26"/>
                  </a:lnTo>
                  <a:lnTo>
                    <a:pt x="13" y="26"/>
                  </a:lnTo>
                  <a:lnTo>
                    <a:pt x="13" y="26"/>
                  </a:lnTo>
                  <a:lnTo>
                    <a:pt x="13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4" name=""/>
            <p:cNvSpPr/>
            <p:nvPr/>
          </p:nvSpPr>
          <p:spPr>
            <a:xfrm>
              <a:off x="4764240" y="3400560"/>
              <a:ext cx="52200" cy="72720"/>
            </a:xfrm>
            <a:custGeom>
              <a:avLst/>
              <a:gdLst/>
              <a:ahLst/>
              <a:rect l="l" t="t" r="r" b="b"/>
              <a:pathLst>
                <a:path w="33" h="46">
                  <a:moveTo>
                    <a:pt x="7" y="26"/>
                  </a:moveTo>
                  <a:lnTo>
                    <a:pt x="7" y="26"/>
                  </a:lnTo>
                  <a:lnTo>
                    <a:pt x="0" y="26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0"/>
                  </a:lnTo>
                  <a:lnTo>
                    <a:pt x="7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20" y="7"/>
                  </a:lnTo>
                  <a:lnTo>
                    <a:pt x="20" y="7"/>
                  </a:lnTo>
                  <a:lnTo>
                    <a:pt x="20" y="7"/>
                  </a:lnTo>
                  <a:lnTo>
                    <a:pt x="26" y="7"/>
                  </a:lnTo>
                  <a:lnTo>
                    <a:pt x="26" y="7"/>
                  </a:lnTo>
                  <a:lnTo>
                    <a:pt x="26" y="13"/>
                  </a:lnTo>
                  <a:lnTo>
                    <a:pt x="26" y="13"/>
                  </a:lnTo>
                  <a:lnTo>
                    <a:pt x="33" y="13"/>
                  </a:lnTo>
                  <a:lnTo>
                    <a:pt x="33" y="20"/>
                  </a:lnTo>
                  <a:lnTo>
                    <a:pt x="33" y="20"/>
                  </a:lnTo>
                  <a:lnTo>
                    <a:pt x="33" y="26"/>
                  </a:lnTo>
                  <a:lnTo>
                    <a:pt x="33" y="26"/>
                  </a:lnTo>
                  <a:lnTo>
                    <a:pt x="33" y="26"/>
                  </a:lnTo>
                  <a:lnTo>
                    <a:pt x="33" y="33"/>
                  </a:lnTo>
                  <a:lnTo>
                    <a:pt x="33" y="33"/>
                  </a:lnTo>
                  <a:lnTo>
                    <a:pt x="33" y="33"/>
                  </a:lnTo>
                  <a:lnTo>
                    <a:pt x="33" y="40"/>
                  </a:lnTo>
                  <a:lnTo>
                    <a:pt x="33" y="40"/>
                  </a:lnTo>
                  <a:lnTo>
                    <a:pt x="33" y="40"/>
                  </a:lnTo>
                  <a:lnTo>
                    <a:pt x="26" y="40"/>
                  </a:lnTo>
                  <a:lnTo>
                    <a:pt x="26" y="40"/>
                  </a:lnTo>
                  <a:lnTo>
                    <a:pt x="26" y="46"/>
                  </a:lnTo>
                  <a:lnTo>
                    <a:pt x="20" y="46"/>
                  </a:lnTo>
                  <a:lnTo>
                    <a:pt x="20" y="40"/>
                  </a:lnTo>
                  <a:lnTo>
                    <a:pt x="13" y="40"/>
                  </a:lnTo>
                  <a:lnTo>
                    <a:pt x="13" y="40"/>
                  </a:lnTo>
                  <a:lnTo>
                    <a:pt x="7" y="33"/>
                  </a:lnTo>
                  <a:lnTo>
                    <a:pt x="7" y="26"/>
                  </a:lnTo>
                  <a:close/>
                  <a:moveTo>
                    <a:pt x="13" y="26"/>
                  </a:moveTo>
                  <a:lnTo>
                    <a:pt x="13" y="33"/>
                  </a:lnTo>
                  <a:lnTo>
                    <a:pt x="13" y="33"/>
                  </a:lnTo>
                  <a:lnTo>
                    <a:pt x="20" y="33"/>
                  </a:lnTo>
                  <a:lnTo>
                    <a:pt x="20" y="40"/>
                  </a:lnTo>
                  <a:lnTo>
                    <a:pt x="20" y="40"/>
                  </a:lnTo>
                  <a:lnTo>
                    <a:pt x="26" y="40"/>
                  </a:lnTo>
                  <a:lnTo>
                    <a:pt x="26" y="40"/>
                  </a:lnTo>
                  <a:lnTo>
                    <a:pt x="26" y="40"/>
                  </a:lnTo>
                  <a:lnTo>
                    <a:pt x="26" y="33"/>
                  </a:lnTo>
                  <a:lnTo>
                    <a:pt x="26" y="33"/>
                  </a:lnTo>
                  <a:lnTo>
                    <a:pt x="33" y="33"/>
                  </a:lnTo>
                  <a:lnTo>
                    <a:pt x="33" y="33"/>
                  </a:lnTo>
                  <a:lnTo>
                    <a:pt x="33" y="26"/>
                  </a:lnTo>
                  <a:lnTo>
                    <a:pt x="26" y="26"/>
                  </a:lnTo>
                  <a:lnTo>
                    <a:pt x="26" y="20"/>
                  </a:lnTo>
                  <a:lnTo>
                    <a:pt x="26" y="20"/>
                  </a:lnTo>
                  <a:lnTo>
                    <a:pt x="20" y="13"/>
                  </a:lnTo>
                  <a:lnTo>
                    <a:pt x="20" y="13"/>
                  </a:lnTo>
                  <a:lnTo>
                    <a:pt x="20" y="7"/>
                  </a:lnTo>
                  <a:lnTo>
                    <a:pt x="13" y="7"/>
                  </a:lnTo>
                  <a:lnTo>
                    <a:pt x="13" y="7"/>
                  </a:lnTo>
                  <a:lnTo>
                    <a:pt x="13" y="7"/>
                  </a:lnTo>
                  <a:lnTo>
                    <a:pt x="13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13"/>
                  </a:lnTo>
                  <a:lnTo>
                    <a:pt x="7" y="13"/>
                  </a:lnTo>
                  <a:lnTo>
                    <a:pt x="7" y="13"/>
                  </a:lnTo>
                  <a:lnTo>
                    <a:pt x="7" y="20"/>
                  </a:lnTo>
                  <a:lnTo>
                    <a:pt x="7" y="20"/>
                  </a:lnTo>
                  <a:lnTo>
                    <a:pt x="13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5" name=""/>
            <p:cNvSpPr/>
            <p:nvPr/>
          </p:nvSpPr>
          <p:spPr>
            <a:xfrm>
              <a:off x="4659480" y="3514680"/>
              <a:ext cx="14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6" name=""/>
            <p:cNvSpPr/>
            <p:nvPr/>
          </p:nvSpPr>
          <p:spPr>
            <a:xfrm>
              <a:off x="4137120" y="3514680"/>
              <a:ext cx="522360" cy="628560"/>
            </a:xfrm>
            <a:custGeom>
              <a:avLst/>
              <a:gdLst/>
              <a:ahLst/>
              <a:rect l="l" t="t" r="r" b="b"/>
              <a:pathLst>
                <a:path w="329" h="396">
                  <a:moveTo>
                    <a:pt x="329" y="0"/>
                  </a:moveTo>
                  <a:lnTo>
                    <a:pt x="322" y="7"/>
                  </a:lnTo>
                  <a:lnTo>
                    <a:pt x="316" y="14"/>
                  </a:lnTo>
                  <a:lnTo>
                    <a:pt x="309" y="20"/>
                  </a:lnTo>
                  <a:lnTo>
                    <a:pt x="303" y="20"/>
                  </a:lnTo>
                  <a:lnTo>
                    <a:pt x="303" y="27"/>
                  </a:lnTo>
                  <a:lnTo>
                    <a:pt x="296" y="33"/>
                  </a:lnTo>
                  <a:lnTo>
                    <a:pt x="296" y="40"/>
                  </a:lnTo>
                  <a:lnTo>
                    <a:pt x="296" y="47"/>
                  </a:lnTo>
                  <a:lnTo>
                    <a:pt x="296" y="53"/>
                  </a:lnTo>
                  <a:lnTo>
                    <a:pt x="290" y="53"/>
                  </a:lnTo>
                  <a:lnTo>
                    <a:pt x="283" y="60"/>
                  </a:lnTo>
                  <a:lnTo>
                    <a:pt x="276" y="60"/>
                  </a:lnTo>
                  <a:lnTo>
                    <a:pt x="263" y="53"/>
                  </a:lnTo>
                  <a:lnTo>
                    <a:pt x="257" y="53"/>
                  </a:lnTo>
                  <a:lnTo>
                    <a:pt x="250" y="60"/>
                  </a:lnTo>
                  <a:lnTo>
                    <a:pt x="243" y="66"/>
                  </a:lnTo>
                  <a:lnTo>
                    <a:pt x="243" y="73"/>
                  </a:lnTo>
                  <a:lnTo>
                    <a:pt x="237" y="79"/>
                  </a:lnTo>
                  <a:lnTo>
                    <a:pt x="237" y="86"/>
                  </a:lnTo>
                  <a:lnTo>
                    <a:pt x="237" y="93"/>
                  </a:lnTo>
                  <a:lnTo>
                    <a:pt x="230" y="99"/>
                  </a:lnTo>
                  <a:lnTo>
                    <a:pt x="230" y="99"/>
                  </a:lnTo>
                  <a:lnTo>
                    <a:pt x="224" y="106"/>
                  </a:lnTo>
                  <a:lnTo>
                    <a:pt x="224" y="112"/>
                  </a:lnTo>
                  <a:lnTo>
                    <a:pt x="224" y="119"/>
                  </a:lnTo>
                  <a:lnTo>
                    <a:pt x="224" y="126"/>
                  </a:lnTo>
                  <a:lnTo>
                    <a:pt x="224" y="132"/>
                  </a:lnTo>
                  <a:lnTo>
                    <a:pt x="224" y="139"/>
                  </a:lnTo>
                  <a:lnTo>
                    <a:pt x="224" y="145"/>
                  </a:lnTo>
                  <a:lnTo>
                    <a:pt x="217" y="152"/>
                  </a:lnTo>
                  <a:lnTo>
                    <a:pt x="217" y="152"/>
                  </a:lnTo>
                  <a:lnTo>
                    <a:pt x="217" y="158"/>
                  </a:lnTo>
                  <a:lnTo>
                    <a:pt x="217" y="165"/>
                  </a:lnTo>
                  <a:lnTo>
                    <a:pt x="217" y="172"/>
                  </a:lnTo>
                  <a:lnTo>
                    <a:pt x="210" y="178"/>
                  </a:lnTo>
                  <a:lnTo>
                    <a:pt x="210" y="185"/>
                  </a:lnTo>
                  <a:lnTo>
                    <a:pt x="210" y="191"/>
                  </a:lnTo>
                  <a:lnTo>
                    <a:pt x="210" y="198"/>
                  </a:lnTo>
                  <a:lnTo>
                    <a:pt x="210" y="205"/>
                  </a:lnTo>
                  <a:lnTo>
                    <a:pt x="210" y="205"/>
                  </a:lnTo>
                  <a:lnTo>
                    <a:pt x="210" y="211"/>
                  </a:lnTo>
                  <a:lnTo>
                    <a:pt x="210" y="218"/>
                  </a:lnTo>
                  <a:lnTo>
                    <a:pt x="217" y="224"/>
                  </a:lnTo>
                  <a:lnTo>
                    <a:pt x="217" y="231"/>
                  </a:lnTo>
                  <a:lnTo>
                    <a:pt x="217" y="238"/>
                  </a:lnTo>
                  <a:lnTo>
                    <a:pt x="217" y="244"/>
                  </a:lnTo>
                  <a:lnTo>
                    <a:pt x="217" y="251"/>
                  </a:lnTo>
                  <a:lnTo>
                    <a:pt x="217" y="257"/>
                  </a:lnTo>
                  <a:lnTo>
                    <a:pt x="224" y="257"/>
                  </a:lnTo>
                  <a:lnTo>
                    <a:pt x="224" y="264"/>
                  </a:lnTo>
                  <a:lnTo>
                    <a:pt x="224" y="270"/>
                  </a:lnTo>
                  <a:lnTo>
                    <a:pt x="217" y="277"/>
                  </a:lnTo>
                  <a:lnTo>
                    <a:pt x="217" y="284"/>
                  </a:lnTo>
                  <a:lnTo>
                    <a:pt x="217" y="290"/>
                  </a:lnTo>
                  <a:lnTo>
                    <a:pt x="210" y="297"/>
                  </a:lnTo>
                  <a:lnTo>
                    <a:pt x="210" y="303"/>
                  </a:lnTo>
                  <a:lnTo>
                    <a:pt x="204" y="303"/>
                  </a:lnTo>
                  <a:lnTo>
                    <a:pt x="197" y="310"/>
                  </a:lnTo>
                  <a:lnTo>
                    <a:pt x="191" y="317"/>
                  </a:lnTo>
                  <a:lnTo>
                    <a:pt x="184" y="323"/>
                  </a:lnTo>
                  <a:lnTo>
                    <a:pt x="184" y="323"/>
                  </a:lnTo>
                  <a:lnTo>
                    <a:pt x="178" y="330"/>
                  </a:lnTo>
                  <a:lnTo>
                    <a:pt x="184" y="336"/>
                  </a:lnTo>
                  <a:lnTo>
                    <a:pt x="191" y="343"/>
                  </a:lnTo>
                  <a:lnTo>
                    <a:pt x="197" y="349"/>
                  </a:lnTo>
                  <a:lnTo>
                    <a:pt x="204" y="349"/>
                  </a:lnTo>
                  <a:lnTo>
                    <a:pt x="210" y="349"/>
                  </a:lnTo>
                  <a:lnTo>
                    <a:pt x="217" y="343"/>
                  </a:lnTo>
                  <a:lnTo>
                    <a:pt x="224" y="336"/>
                  </a:lnTo>
                  <a:lnTo>
                    <a:pt x="224" y="330"/>
                  </a:lnTo>
                  <a:lnTo>
                    <a:pt x="230" y="323"/>
                  </a:lnTo>
                  <a:lnTo>
                    <a:pt x="230" y="317"/>
                  </a:lnTo>
                  <a:lnTo>
                    <a:pt x="237" y="317"/>
                  </a:lnTo>
                  <a:lnTo>
                    <a:pt x="243" y="323"/>
                  </a:lnTo>
                  <a:lnTo>
                    <a:pt x="243" y="330"/>
                  </a:lnTo>
                  <a:lnTo>
                    <a:pt x="250" y="336"/>
                  </a:lnTo>
                  <a:lnTo>
                    <a:pt x="243" y="343"/>
                  </a:lnTo>
                  <a:lnTo>
                    <a:pt x="237" y="343"/>
                  </a:lnTo>
                  <a:lnTo>
                    <a:pt x="237" y="349"/>
                  </a:lnTo>
                  <a:lnTo>
                    <a:pt x="230" y="356"/>
                  </a:lnTo>
                  <a:lnTo>
                    <a:pt x="224" y="363"/>
                  </a:lnTo>
                  <a:lnTo>
                    <a:pt x="217" y="369"/>
                  </a:lnTo>
                  <a:lnTo>
                    <a:pt x="210" y="369"/>
                  </a:lnTo>
                  <a:lnTo>
                    <a:pt x="204" y="369"/>
                  </a:lnTo>
                  <a:lnTo>
                    <a:pt x="197" y="363"/>
                  </a:lnTo>
                  <a:lnTo>
                    <a:pt x="197" y="356"/>
                  </a:lnTo>
                  <a:lnTo>
                    <a:pt x="191" y="356"/>
                  </a:lnTo>
                  <a:lnTo>
                    <a:pt x="191" y="349"/>
                  </a:lnTo>
                  <a:lnTo>
                    <a:pt x="184" y="343"/>
                  </a:lnTo>
                  <a:lnTo>
                    <a:pt x="184" y="336"/>
                  </a:lnTo>
                  <a:lnTo>
                    <a:pt x="178" y="330"/>
                  </a:lnTo>
                  <a:lnTo>
                    <a:pt x="171" y="330"/>
                  </a:lnTo>
                  <a:lnTo>
                    <a:pt x="164" y="323"/>
                  </a:lnTo>
                  <a:lnTo>
                    <a:pt x="164" y="317"/>
                  </a:lnTo>
                  <a:lnTo>
                    <a:pt x="158" y="310"/>
                  </a:lnTo>
                  <a:lnTo>
                    <a:pt x="158" y="303"/>
                  </a:lnTo>
                  <a:lnTo>
                    <a:pt x="151" y="303"/>
                  </a:lnTo>
                  <a:lnTo>
                    <a:pt x="151" y="297"/>
                  </a:lnTo>
                  <a:lnTo>
                    <a:pt x="145" y="290"/>
                  </a:lnTo>
                  <a:lnTo>
                    <a:pt x="145" y="284"/>
                  </a:lnTo>
                  <a:lnTo>
                    <a:pt x="145" y="277"/>
                  </a:lnTo>
                  <a:lnTo>
                    <a:pt x="145" y="270"/>
                  </a:lnTo>
                  <a:lnTo>
                    <a:pt x="145" y="264"/>
                  </a:lnTo>
                  <a:lnTo>
                    <a:pt x="145" y="257"/>
                  </a:lnTo>
                  <a:lnTo>
                    <a:pt x="138" y="257"/>
                  </a:lnTo>
                  <a:lnTo>
                    <a:pt x="138" y="251"/>
                  </a:lnTo>
                  <a:lnTo>
                    <a:pt x="138" y="244"/>
                  </a:lnTo>
                  <a:lnTo>
                    <a:pt x="138" y="238"/>
                  </a:lnTo>
                  <a:lnTo>
                    <a:pt x="138" y="231"/>
                  </a:lnTo>
                  <a:lnTo>
                    <a:pt x="131" y="224"/>
                  </a:lnTo>
                  <a:lnTo>
                    <a:pt x="131" y="218"/>
                  </a:lnTo>
                  <a:lnTo>
                    <a:pt x="131" y="218"/>
                  </a:lnTo>
                  <a:lnTo>
                    <a:pt x="125" y="211"/>
                  </a:lnTo>
                  <a:lnTo>
                    <a:pt x="125" y="205"/>
                  </a:lnTo>
                  <a:lnTo>
                    <a:pt x="125" y="198"/>
                  </a:lnTo>
                  <a:lnTo>
                    <a:pt x="125" y="191"/>
                  </a:lnTo>
                  <a:lnTo>
                    <a:pt x="125" y="185"/>
                  </a:lnTo>
                  <a:lnTo>
                    <a:pt x="125" y="178"/>
                  </a:lnTo>
                  <a:lnTo>
                    <a:pt x="118" y="185"/>
                  </a:lnTo>
                  <a:lnTo>
                    <a:pt x="118" y="191"/>
                  </a:lnTo>
                  <a:lnTo>
                    <a:pt x="112" y="198"/>
                  </a:lnTo>
                  <a:lnTo>
                    <a:pt x="98" y="198"/>
                  </a:lnTo>
                  <a:lnTo>
                    <a:pt x="92" y="205"/>
                  </a:lnTo>
                  <a:lnTo>
                    <a:pt x="85" y="205"/>
                  </a:lnTo>
                  <a:lnTo>
                    <a:pt x="85" y="211"/>
                  </a:lnTo>
                  <a:lnTo>
                    <a:pt x="85" y="218"/>
                  </a:lnTo>
                  <a:lnTo>
                    <a:pt x="79" y="224"/>
                  </a:lnTo>
                  <a:lnTo>
                    <a:pt x="79" y="231"/>
                  </a:lnTo>
                  <a:lnTo>
                    <a:pt x="72" y="238"/>
                  </a:lnTo>
                  <a:lnTo>
                    <a:pt x="72" y="238"/>
                  </a:lnTo>
                  <a:lnTo>
                    <a:pt x="66" y="244"/>
                  </a:lnTo>
                  <a:lnTo>
                    <a:pt x="59" y="251"/>
                  </a:lnTo>
                  <a:lnTo>
                    <a:pt x="59" y="257"/>
                  </a:lnTo>
                  <a:lnTo>
                    <a:pt x="52" y="264"/>
                  </a:lnTo>
                  <a:lnTo>
                    <a:pt x="46" y="264"/>
                  </a:lnTo>
                  <a:lnTo>
                    <a:pt x="46" y="270"/>
                  </a:lnTo>
                  <a:lnTo>
                    <a:pt x="39" y="277"/>
                  </a:lnTo>
                  <a:lnTo>
                    <a:pt x="33" y="284"/>
                  </a:lnTo>
                  <a:lnTo>
                    <a:pt x="33" y="284"/>
                  </a:lnTo>
                  <a:lnTo>
                    <a:pt x="26" y="290"/>
                  </a:lnTo>
                  <a:lnTo>
                    <a:pt x="19" y="297"/>
                  </a:lnTo>
                  <a:lnTo>
                    <a:pt x="13" y="303"/>
                  </a:lnTo>
                  <a:lnTo>
                    <a:pt x="13" y="303"/>
                  </a:lnTo>
                  <a:lnTo>
                    <a:pt x="6" y="310"/>
                  </a:lnTo>
                  <a:lnTo>
                    <a:pt x="6" y="317"/>
                  </a:lnTo>
                  <a:lnTo>
                    <a:pt x="0" y="323"/>
                  </a:lnTo>
                  <a:lnTo>
                    <a:pt x="0" y="330"/>
                  </a:lnTo>
                  <a:lnTo>
                    <a:pt x="0" y="336"/>
                  </a:lnTo>
                  <a:lnTo>
                    <a:pt x="6" y="343"/>
                  </a:lnTo>
                  <a:lnTo>
                    <a:pt x="6" y="343"/>
                  </a:lnTo>
                  <a:lnTo>
                    <a:pt x="13" y="349"/>
                  </a:lnTo>
                  <a:lnTo>
                    <a:pt x="26" y="356"/>
                  </a:lnTo>
                  <a:lnTo>
                    <a:pt x="33" y="356"/>
                  </a:lnTo>
                  <a:lnTo>
                    <a:pt x="39" y="356"/>
                  </a:lnTo>
                  <a:lnTo>
                    <a:pt x="46" y="363"/>
                  </a:lnTo>
                  <a:lnTo>
                    <a:pt x="52" y="369"/>
                  </a:lnTo>
                  <a:lnTo>
                    <a:pt x="46" y="369"/>
                  </a:lnTo>
                  <a:lnTo>
                    <a:pt x="39" y="376"/>
                  </a:lnTo>
                  <a:lnTo>
                    <a:pt x="39" y="382"/>
                  </a:lnTo>
                  <a:lnTo>
                    <a:pt x="39" y="389"/>
                  </a:lnTo>
                  <a:lnTo>
                    <a:pt x="39" y="39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7" name=""/>
            <p:cNvSpPr/>
            <p:nvPr/>
          </p:nvSpPr>
          <p:spPr>
            <a:xfrm>
              <a:off x="4199040" y="4143240"/>
              <a:ext cx="14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8" name=""/>
            <p:cNvSpPr/>
            <p:nvPr/>
          </p:nvSpPr>
          <p:spPr>
            <a:xfrm>
              <a:off x="4167360" y="4173480"/>
              <a:ext cx="74520" cy="31680"/>
            </a:xfrm>
            <a:custGeom>
              <a:avLst/>
              <a:gdLst/>
              <a:ahLst/>
              <a:rect l="l" t="t" r="r" b="b"/>
              <a:pathLst>
                <a:path w="47" h="20">
                  <a:moveTo>
                    <a:pt x="7" y="20"/>
                  </a:moveTo>
                  <a:lnTo>
                    <a:pt x="0" y="13"/>
                  </a:lnTo>
                  <a:lnTo>
                    <a:pt x="33" y="7"/>
                  </a:lnTo>
                  <a:lnTo>
                    <a:pt x="33" y="7"/>
                  </a:lnTo>
                  <a:lnTo>
                    <a:pt x="33" y="7"/>
                  </a:lnTo>
                  <a:lnTo>
                    <a:pt x="33" y="7"/>
                  </a:lnTo>
                  <a:lnTo>
                    <a:pt x="33" y="7"/>
                  </a:lnTo>
                  <a:lnTo>
                    <a:pt x="33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40" y="0"/>
                  </a:lnTo>
                  <a:lnTo>
                    <a:pt x="40" y="7"/>
                  </a:lnTo>
                  <a:lnTo>
                    <a:pt x="40" y="7"/>
                  </a:lnTo>
                  <a:lnTo>
                    <a:pt x="40" y="7"/>
                  </a:lnTo>
                  <a:lnTo>
                    <a:pt x="47" y="7"/>
                  </a:lnTo>
                  <a:lnTo>
                    <a:pt x="47" y="7"/>
                  </a:lnTo>
                  <a:lnTo>
                    <a:pt x="47" y="13"/>
                  </a:lnTo>
                  <a:lnTo>
                    <a:pt x="7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9" name=""/>
            <p:cNvSpPr/>
            <p:nvPr/>
          </p:nvSpPr>
          <p:spPr>
            <a:xfrm>
              <a:off x="4178160" y="4216320"/>
              <a:ext cx="73080" cy="52560"/>
            </a:xfrm>
            <a:custGeom>
              <a:avLst/>
              <a:gdLst/>
              <a:ahLst/>
              <a:rect l="l" t="t" r="r" b="b"/>
              <a:pathLst>
                <a:path w="46" h="33">
                  <a:moveTo>
                    <a:pt x="40" y="26"/>
                  </a:moveTo>
                  <a:lnTo>
                    <a:pt x="33" y="19"/>
                  </a:lnTo>
                  <a:lnTo>
                    <a:pt x="40" y="19"/>
                  </a:lnTo>
                  <a:lnTo>
                    <a:pt x="40" y="19"/>
                  </a:lnTo>
                  <a:lnTo>
                    <a:pt x="40" y="19"/>
                  </a:lnTo>
                  <a:lnTo>
                    <a:pt x="40" y="19"/>
                  </a:lnTo>
                  <a:lnTo>
                    <a:pt x="40" y="19"/>
                  </a:lnTo>
                  <a:lnTo>
                    <a:pt x="40" y="19"/>
                  </a:lnTo>
                  <a:lnTo>
                    <a:pt x="40" y="13"/>
                  </a:lnTo>
                  <a:lnTo>
                    <a:pt x="40" y="13"/>
                  </a:lnTo>
                  <a:lnTo>
                    <a:pt x="40" y="13"/>
                  </a:lnTo>
                  <a:lnTo>
                    <a:pt x="40" y="13"/>
                  </a:lnTo>
                  <a:lnTo>
                    <a:pt x="40" y="13"/>
                  </a:lnTo>
                  <a:lnTo>
                    <a:pt x="40" y="6"/>
                  </a:lnTo>
                  <a:lnTo>
                    <a:pt x="40" y="6"/>
                  </a:lnTo>
                  <a:lnTo>
                    <a:pt x="33" y="6"/>
                  </a:lnTo>
                  <a:lnTo>
                    <a:pt x="33" y="6"/>
                  </a:lnTo>
                  <a:lnTo>
                    <a:pt x="33" y="6"/>
                  </a:lnTo>
                  <a:lnTo>
                    <a:pt x="33" y="6"/>
                  </a:lnTo>
                  <a:lnTo>
                    <a:pt x="26" y="6"/>
                  </a:lnTo>
                  <a:lnTo>
                    <a:pt x="26" y="6"/>
                  </a:lnTo>
                  <a:lnTo>
                    <a:pt x="20" y="6"/>
                  </a:lnTo>
                  <a:lnTo>
                    <a:pt x="26" y="6"/>
                  </a:lnTo>
                  <a:lnTo>
                    <a:pt x="26" y="6"/>
                  </a:lnTo>
                  <a:lnTo>
                    <a:pt x="26" y="6"/>
                  </a:lnTo>
                  <a:lnTo>
                    <a:pt x="26" y="13"/>
                  </a:lnTo>
                  <a:lnTo>
                    <a:pt x="26" y="13"/>
                  </a:lnTo>
                  <a:lnTo>
                    <a:pt x="26" y="13"/>
                  </a:lnTo>
                  <a:lnTo>
                    <a:pt x="26" y="13"/>
                  </a:lnTo>
                  <a:lnTo>
                    <a:pt x="33" y="13"/>
                  </a:lnTo>
                  <a:lnTo>
                    <a:pt x="33" y="19"/>
                  </a:lnTo>
                  <a:lnTo>
                    <a:pt x="33" y="19"/>
                  </a:lnTo>
                  <a:lnTo>
                    <a:pt x="26" y="26"/>
                  </a:lnTo>
                  <a:lnTo>
                    <a:pt x="26" y="26"/>
                  </a:lnTo>
                  <a:lnTo>
                    <a:pt x="26" y="26"/>
                  </a:lnTo>
                  <a:lnTo>
                    <a:pt x="26" y="26"/>
                  </a:lnTo>
                  <a:lnTo>
                    <a:pt x="20" y="33"/>
                  </a:lnTo>
                  <a:lnTo>
                    <a:pt x="20" y="33"/>
                  </a:lnTo>
                  <a:lnTo>
                    <a:pt x="20" y="33"/>
                  </a:lnTo>
                  <a:lnTo>
                    <a:pt x="13" y="33"/>
                  </a:lnTo>
                  <a:lnTo>
                    <a:pt x="13" y="33"/>
                  </a:lnTo>
                  <a:lnTo>
                    <a:pt x="13" y="33"/>
                  </a:lnTo>
                  <a:lnTo>
                    <a:pt x="7" y="33"/>
                  </a:lnTo>
                  <a:lnTo>
                    <a:pt x="7" y="26"/>
                  </a:lnTo>
                  <a:lnTo>
                    <a:pt x="7" y="26"/>
                  </a:lnTo>
                  <a:lnTo>
                    <a:pt x="7" y="26"/>
                  </a:lnTo>
                  <a:lnTo>
                    <a:pt x="7" y="26"/>
                  </a:lnTo>
                  <a:lnTo>
                    <a:pt x="0" y="26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7" y="6"/>
                  </a:lnTo>
                  <a:lnTo>
                    <a:pt x="7" y="6"/>
                  </a:lnTo>
                  <a:lnTo>
                    <a:pt x="13" y="6"/>
                  </a:lnTo>
                  <a:lnTo>
                    <a:pt x="13" y="6"/>
                  </a:lnTo>
                  <a:lnTo>
                    <a:pt x="20" y="0"/>
                  </a:lnTo>
                  <a:lnTo>
                    <a:pt x="26" y="0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40" y="6"/>
                  </a:lnTo>
                  <a:lnTo>
                    <a:pt x="40" y="6"/>
                  </a:lnTo>
                  <a:lnTo>
                    <a:pt x="40" y="6"/>
                  </a:lnTo>
                  <a:lnTo>
                    <a:pt x="46" y="13"/>
                  </a:lnTo>
                  <a:lnTo>
                    <a:pt x="46" y="13"/>
                  </a:lnTo>
                  <a:lnTo>
                    <a:pt x="46" y="13"/>
                  </a:lnTo>
                  <a:lnTo>
                    <a:pt x="46" y="19"/>
                  </a:lnTo>
                  <a:lnTo>
                    <a:pt x="46" y="19"/>
                  </a:lnTo>
                  <a:lnTo>
                    <a:pt x="46" y="19"/>
                  </a:lnTo>
                  <a:lnTo>
                    <a:pt x="40" y="26"/>
                  </a:lnTo>
                  <a:lnTo>
                    <a:pt x="40" y="26"/>
                  </a:lnTo>
                  <a:lnTo>
                    <a:pt x="40" y="26"/>
                  </a:lnTo>
                  <a:lnTo>
                    <a:pt x="40" y="26"/>
                  </a:lnTo>
                  <a:close/>
                  <a:moveTo>
                    <a:pt x="13" y="6"/>
                  </a:moveTo>
                  <a:lnTo>
                    <a:pt x="13" y="6"/>
                  </a:lnTo>
                  <a:lnTo>
                    <a:pt x="13" y="13"/>
                  </a:lnTo>
                  <a:lnTo>
                    <a:pt x="13" y="13"/>
                  </a:lnTo>
                  <a:lnTo>
                    <a:pt x="7" y="13"/>
                  </a:lnTo>
                  <a:lnTo>
                    <a:pt x="7" y="13"/>
                  </a:lnTo>
                  <a:lnTo>
                    <a:pt x="7" y="13"/>
                  </a:lnTo>
                  <a:lnTo>
                    <a:pt x="7" y="13"/>
                  </a:lnTo>
                  <a:lnTo>
                    <a:pt x="7" y="13"/>
                  </a:lnTo>
                  <a:lnTo>
                    <a:pt x="7" y="19"/>
                  </a:lnTo>
                  <a:lnTo>
                    <a:pt x="7" y="19"/>
                  </a:lnTo>
                  <a:lnTo>
                    <a:pt x="7" y="19"/>
                  </a:lnTo>
                  <a:lnTo>
                    <a:pt x="7" y="19"/>
                  </a:lnTo>
                  <a:lnTo>
                    <a:pt x="7" y="19"/>
                  </a:lnTo>
                  <a:lnTo>
                    <a:pt x="7" y="19"/>
                  </a:lnTo>
                  <a:lnTo>
                    <a:pt x="7" y="26"/>
                  </a:lnTo>
                  <a:lnTo>
                    <a:pt x="7" y="26"/>
                  </a:lnTo>
                  <a:lnTo>
                    <a:pt x="13" y="26"/>
                  </a:lnTo>
                  <a:lnTo>
                    <a:pt x="13" y="26"/>
                  </a:lnTo>
                  <a:lnTo>
                    <a:pt x="13" y="26"/>
                  </a:lnTo>
                  <a:lnTo>
                    <a:pt x="20" y="26"/>
                  </a:lnTo>
                  <a:lnTo>
                    <a:pt x="20" y="26"/>
                  </a:lnTo>
                  <a:lnTo>
                    <a:pt x="20" y="26"/>
                  </a:lnTo>
                  <a:lnTo>
                    <a:pt x="20" y="26"/>
                  </a:lnTo>
                  <a:lnTo>
                    <a:pt x="26" y="19"/>
                  </a:lnTo>
                  <a:lnTo>
                    <a:pt x="26" y="19"/>
                  </a:lnTo>
                  <a:lnTo>
                    <a:pt x="26" y="19"/>
                  </a:lnTo>
                  <a:lnTo>
                    <a:pt x="26" y="19"/>
                  </a:lnTo>
                  <a:lnTo>
                    <a:pt x="26" y="13"/>
                  </a:lnTo>
                  <a:lnTo>
                    <a:pt x="26" y="13"/>
                  </a:lnTo>
                  <a:lnTo>
                    <a:pt x="26" y="13"/>
                  </a:lnTo>
                  <a:lnTo>
                    <a:pt x="20" y="13"/>
                  </a:lnTo>
                  <a:lnTo>
                    <a:pt x="20" y="13"/>
                  </a:lnTo>
                  <a:lnTo>
                    <a:pt x="20" y="6"/>
                  </a:lnTo>
                  <a:lnTo>
                    <a:pt x="20" y="6"/>
                  </a:lnTo>
                  <a:lnTo>
                    <a:pt x="20" y="6"/>
                  </a:lnTo>
                  <a:lnTo>
                    <a:pt x="13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0" name=""/>
            <p:cNvSpPr/>
            <p:nvPr/>
          </p:nvSpPr>
          <p:spPr>
            <a:xfrm>
              <a:off x="4189320" y="4268880"/>
              <a:ext cx="73080" cy="50760"/>
            </a:xfrm>
            <a:custGeom>
              <a:avLst/>
              <a:gdLst/>
              <a:ahLst/>
              <a:rect l="l" t="t" r="r" b="b"/>
              <a:pathLst>
                <a:path w="46" h="32">
                  <a:moveTo>
                    <a:pt x="19" y="0"/>
                  </a:moveTo>
                  <a:lnTo>
                    <a:pt x="26" y="0"/>
                  </a:lnTo>
                  <a:lnTo>
                    <a:pt x="26" y="0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9" y="0"/>
                  </a:lnTo>
                  <a:lnTo>
                    <a:pt x="39" y="6"/>
                  </a:lnTo>
                  <a:lnTo>
                    <a:pt x="39" y="6"/>
                  </a:lnTo>
                  <a:lnTo>
                    <a:pt x="39" y="6"/>
                  </a:lnTo>
                  <a:lnTo>
                    <a:pt x="39" y="6"/>
                  </a:lnTo>
                  <a:lnTo>
                    <a:pt x="46" y="6"/>
                  </a:lnTo>
                  <a:lnTo>
                    <a:pt x="46" y="13"/>
                  </a:lnTo>
                  <a:lnTo>
                    <a:pt x="46" y="13"/>
                  </a:lnTo>
                  <a:lnTo>
                    <a:pt x="46" y="13"/>
                  </a:lnTo>
                  <a:lnTo>
                    <a:pt x="46" y="19"/>
                  </a:lnTo>
                  <a:lnTo>
                    <a:pt x="46" y="19"/>
                  </a:lnTo>
                  <a:lnTo>
                    <a:pt x="46" y="19"/>
                  </a:lnTo>
                  <a:lnTo>
                    <a:pt x="39" y="19"/>
                  </a:lnTo>
                  <a:lnTo>
                    <a:pt x="39" y="19"/>
                  </a:lnTo>
                  <a:lnTo>
                    <a:pt x="39" y="19"/>
                  </a:lnTo>
                  <a:lnTo>
                    <a:pt x="39" y="26"/>
                  </a:lnTo>
                  <a:lnTo>
                    <a:pt x="39" y="26"/>
                  </a:lnTo>
                  <a:lnTo>
                    <a:pt x="39" y="26"/>
                  </a:lnTo>
                  <a:lnTo>
                    <a:pt x="33" y="26"/>
                  </a:lnTo>
                  <a:lnTo>
                    <a:pt x="33" y="26"/>
                  </a:lnTo>
                  <a:lnTo>
                    <a:pt x="33" y="26"/>
                  </a:lnTo>
                  <a:lnTo>
                    <a:pt x="26" y="26"/>
                  </a:lnTo>
                  <a:lnTo>
                    <a:pt x="26" y="26"/>
                  </a:lnTo>
                  <a:lnTo>
                    <a:pt x="19" y="32"/>
                  </a:lnTo>
                  <a:lnTo>
                    <a:pt x="19" y="32"/>
                  </a:lnTo>
                  <a:lnTo>
                    <a:pt x="13" y="32"/>
                  </a:lnTo>
                  <a:lnTo>
                    <a:pt x="13" y="32"/>
                  </a:lnTo>
                  <a:lnTo>
                    <a:pt x="13" y="32"/>
                  </a:lnTo>
                  <a:lnTo>
                    <a:pt x="6" y="26"/>
                  </a:lnTo>
                  <a:lnTo>
                    <a:pt x="6" y="26"/>
                  </a:lnTo>
                  <a:lnTo>
                    <a:pt x="6" y="26"/>
                  </a:lnTo>
                  <a:lnTo>
                    <a:pt x="6" y="26"/>
                  </a:lnTo>
                  <a:lnTo>
                    <a:pt x="0" y="26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6" y="6"/>
                  </a:lnTo>
                  <a:lnTo>
                    <a:pt x="6" y="6"/>
                  </a:lnTo>
                  <a:lnTo>
                    <a:pt x="13" y="6"/>
                  </a:lnTo>
                  <a:lnTo>
                    <a:pt x="13" y="6"/>
                  </a:lnTo>
                  <a:lnTo>
                    <a:pt x="19" y="0"/>
                  </a:lnTo>
                  <a:close/>
                  <a:moveTo>
                    <a:pt x="19" y="6"/>
                  </a:moveTo>
                  <a:lnTo>
                    <a:pt x="13" y="6"/>
                  </a:lnTo>
                  <a:lnTo>
                    <a:pt x="13" y="6"/>
                  </a:lnTo>
                  <a:lnTo>
                    <a:pt x="6" y="13"/>
                  </a:lnTo>
                  <a:lnTo>
                    <a:pt x="6" y="13"/>
                  </a:lnTo>
                  <a:lnTo>
                    <a:pt x="6" y="13"/>
                  </a:lnTo>
                  <a:lnTo>
                    <a:pt x="6" y="13"/>
                  </a:lnTo>
                  <a:lnTo>
                    <a:pt x="6" y="19"/>
                  </a:lnTo>
                  <a:lnTo>
                    <a:pt x="6" y="19"/>
                  </a:lnTo>
                  <a:lnTo>
                    <a:pt x="6" y="19"/>
                  </a:lnTo>
                  <a:lnTo>
                    <a:pt x="6" y="19"/>
                  </a:lnTo>
                  <a:lnTo>
                    <a:pt x="6" y="26"/>
                  </a:lnTo>
                  <a:lnTo>
                    <a:pt x="13" y="26"/>
                  </a:lnTo>
                  <a:lnTo>
                    <a:pt x="13" y="26"/>
                  </a:lnTo>
                  <a:lnTo>
                    <a:pt x="13" y="26"/>
                  </a:lnTo>
                  <a:lnTo>
                    <a:pt x="19" y="26"/>
                  </a:lnTo>
                  <a:lnTo>
                    <a:pt x="26" y="26"/>
                  </a:lnTo>
                  <a:lnTo>
                    <a:pt x="26" y="26"/>
                  </a:lnTo>
                  <a:lnTo>
                    <a:pt x="33" y="19"/>
                  </a:lnTo>
                  <a:lnTo>
                    <a:pt x="33" y="19"/>
                  </a:lnTo>
                  <a:lnTo>
                    <a:pt x="39" y="19"/>
                  </a:lnTo>
                  <a:lnTo>
                    <a:pt x="39" y="19"/>
                  </a:lnTo>
                  <a:lnTo>
                    <a:pt x="39" y="13"/>
                  </a:lnTo>
                  <a:lnTo>
                    <a:pt x="39" y="13"/>
                  </a:lnTo>
                  <a:lnTo>
                    <a:pt x="39" y="13"/>
                  </a:lnTo>
                  <a:lnTo>
                    <a:pt x="39" y="13"/>
                  </a:lnTo>
                  <a:lnTo>
                    <a:pt x="39" y="6"/>
                  </a:lnTo>
                  <a:lnTo>
                    <a:pt x="39" y="6"/>
                  </a:lnTo>
                  <a:lnTo>
                    <a:pt x="33" y="6"/>
                  </a:lnTo>
                  <a:lnTo>
                    <a:pt x="33" y="6"/>
                  </a:lnTo>
                  <a:lnTo>
                    <a:pt x="33" y="6"/>
                  </a:lnTo>
                  <a:lnTo>
                    <a:pt x="26" y="6"/>
                  </a:lnTo>
                  <a:lnTo>
                    <a:pt x="19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1" name=""/>
            <p:cNvSpPr/>
            <p:nvPr/>
          </p:nvSpPr>
          <p:spPr>
            <a:xfrm>
              <a:off x="4230720" y="4341960"/>
              <a:ext cx="1440" cy="9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2" name=""/>
            <p:cNvSpPr/>
            <p:nvPr/>
          </p:nvSpPr>
          <p:spPr>
            <a:xfrm>
              <a:off x="3382920" y="4111560"/>
              <a:ext cx="879480" cy="376200"/>
            </a:xfrm>
            <a:custGeom>
              <a:avLst/>
              <a:gdLst/>
              <a:ahLst/>
              <a:rect l="l" t="t" r="r" b="b"/>
              <a:pathLst>
                <a:path w="554" h="237">
                  <a:moveTo>
                    <a:pt x="534" y="151"/>
                  </a:moveTo>
                  <a:lnTo>
                    <a:pt x="541" y="158"/>
                  </a:lnTo>
                  <a:lnTo>
                    <a:pt x="541" y="158"/>
                  </a:lnTo>
                  <a:lnTo>
                    <a:pt x="541" y="164"/>
                  </a:lnTo>
                  <a:lnTo>
                    <a:pt x="541" y="171"/>
                  </a:lnTo>
                  <a:lnTo>
                    <a:pt x="541" y="178"/>
                  </a:lnTo>
                  <a:lnTo>
                    <a:pt x="547" y="184"/>
                  </a:lnTo>
                  <a:lnTo>
                    <a:pt x="547" y="191"/>
                  </a:lnTo>
                  <a:lnTo>
                    <a:pt x="554" y="197"/>
                  </a:lnTo>
                  <a:lnTo>
                    <a:pt x="554" y="204"/>
                  </a:lnTo>
                  <a:lnTo>
                    <a:pt x="547" y="210"/>
                  </a:lnTo>
                  <a:lnTo>
                    <a:pt x="541" y="210"/>
                  </a:lnTo>
                  <a:lnTo>
                    <a:pt x="534" y="210"/>
                  </a:lnTo>
                  <a:lnTo>
                    <a:pt x="521" y="210"/>
                  </a:lnTo>
                  <a:lnTo>
                    <a:pt x="514" y="217"/>
                  </a:lnTo>
                  <a:lnTo>
                    <a:pt x="508" y="217"/>
                  </a:lnTo>
                  <a:lnTo>
                    <a:pt x="501" y="217"/>
                  </a:lnTo>
                  <a:lnTo>
                    <a:pt x="494" y="224"/>
                  </a:lnTo>
                  <a:lnTo>
                    <a:pt x="488" y="230"/>
                  </a:lnTo>
                  <a:lnTo>
                    <a:pt x="488" y="237"/>
                  </a:lnTo>
                  <a:lnTo>
                    <a:pt x="481" y="230"/>
                  </a:lnTo>
                  <a:lnTo>
                    <a:pt x="475" y="224"/>
                  </a:lnTo>
                  <a:lnTo>
                    <a:pt x="475" y="217"/>
                  </a:lnTo>
                  <a:lnTo>
                    <a:pt x="468" y="217"/>
                  </a:lnTo>
                  <a:lnTo>
                    <a:pt x="468" y="210"/>
                  </a:lnTo>
                  <a:lnTo>
                    <a:pt x="468" y="204"/>
                  </a:lnTo>
                  <a:lnTo>
                    <a:pt x="468" y="197"/>
                  </a:lnTo>
                  <a:lnTo>
                    <a:pt x="461" y="197"/>
                  </a:lnTo>
                  <a:lnTo>
                    <a:pt x="468" y="191"/>
                  </a:lnTo>
                  <a:lnTo>
                    <a:pt x="468" y="184"/>
                  </a:lnTo>
                  <a:lnTo>
                    <a:pt x="468" y="178"/>
                  </a:lnTo>
                  <a:lnTo>
                    <a:pt x="468" y="171"/>
                  </a:lnTo>
                  <a:lnTo>
                    <a:pt x="468" y="164"/>
                  </a:lnTo>
                  <a:lnTo>
                    <a:pt x="468" y="158"/>
                  </a:lnTo>
                  <a:lnTo>
                    <a:pt x="468" y="151"/>
                  </a:lnTo>
                  <a:lnTo>
                    <a:pt x="468" y="145"/>
                  </a:lnTo>
                  <a:lnTo>
                    <a:pt x="475" y="138"/>
                  </a:lnTo>
                  <a:lnTo>
                    <a:pt x="475" y="138"/>
                  </a:lnTo>
                  <a:lnTo>
                    <a:pt x="475" y="131"/>
                  </a:lnTo>
                  <a:lnTo>
                    <a:pt x="475" y="125"/>
                  </a:lnTo>
                  <a:lnTo>
                    <a:pt x="475" y="118"/>
                  </a:lnTo>
                  <a:lnTo>
                    <a:pt x="468" y="112"/>
                  </a:lnTo>
                  <a:lnTo>
                    <a:pt x="461" y="105"/>
                  </a:lnTo>
                  <a:lnTo>
                    <a:pt x="455" y="105"/>
                  </a:lnTo>
                  <a:lnTo>
                    <a:pt x="455" y="99"/>
                  </a:lnTo>
                  <a:lnTo>
                    <a:pt x="455" y="92"/>
                  </a:lnTo>
                  <a:lnTo>
                    <a:pt x="461" y="92"/>
                  </a:lnTo>
                  <a:lnTo>
                    <a:pt x="468" y="92"/>
                  </a:lnTo>
                  <a:lnTo>
                    <a:pt x="468" y="99"/>
                  </a:lnTo>
                  <a:lnTo>
                    <a:pt x="475" y="105"/>
                  </a:lnTo>
                  <a:lnTo>
                    <a:pt x="481" y="112"/>
                  </a:lnTo>
                  <a:lnTo>
                    <a:pt x="488" y="112"/>
                  </a:lnTo>
                  <a:lnTo>
                    <a:pt x="494" y="112"/>
                  </a:lnTo>
                  <a:lnTo>
                    <a:pt x="494" y="105"/>
                  </a:lnTo>
                  <a:lnTo>
                    <a:pt x="501" y="99"/>
                  </a:lnTo>
                  <a:lnTo>
                    <a:pt x="508" y="92"/>
                  </a:lnTo>
                  <a:lnTo>
                    <a:pt x="508" y="85"/>
                  </a:lnTo>
                  <a:lnTo>
                    <a:pt x="508" y="79"/>
                  </a:lnTo>
                  <a:lnTo>
                    <a:pt x="508" y="72"/>
                  </a:lnTo>
                  <a:lnTo>
                    <a:pt x="508" y="66"/>
                  </a:lnTo>
                  <a:lnTo>
                    <a:pt x="501" y="66"/>
                  </a:lnTo>
                  <a:lnTo>
                    <a:pt x="488" y="59"/>
                  </a:lnTo>
                  <a:lnTo>
                    <a:pt x="481" y="59"/>
                  </a:lnTo>
                  <a:lnTo>
                    <a:pt x="475" y="52"/>
                  </a:lnTo>
                  <a:lnTo>
                    <a:pt x="468" y="52"/>
                  </a:lnTo>
                  <a:lnTo>
                    <a:pt x="461" y="46"/>
                  </a:lnTo>
                  <a:lnTo>
                    <a:pt x="455" y="46"/>
                  </a:lnTo>
                  <a:lnTo>
                    <a:pt x="448" y="39"/>
                  </a:lnTo>
                  <a:lnTo>
                    <a:pt x="435" y="39"/>
                  </a:lnTo>
                  <a:lnTo>
                    <a:pt x="428" y="39"/>
                  </a:lnTo>
                  <a:lnTo>
                    <a:pt x="422" y="46"/>
                  </a:lnTo>
                  <a:lnTo>
                    <a:pt x="422" y="52"/>
                  </a:lnTo>
                  <a:lnTo>
                    <a:pt x="415" y="52"/>
                  </a:lnTo>
                  <a:lnTo>
                    <a:pt x="415" y="59"/>
                  </a:lnTo>
                  <a:lnTo>
                    <a:pt x="409" y="66"/>
                  </a:lnTo>
                  <a:lnTo>
                    <a:pt x="409" y="72"/>
                  </a:lnTo>
                  <a:lnTo>
                    <a:pt x="409" y="79"/>
                  </a:lnTo>
                  <a:lnTo>
                    <a:pt x="402" y="85"/>
                  </a:lnTo>
                  <a:lnTo>
                    <a:pt x="402" y="92"/>
                  </a:lnTo>
                  <a:lnTo>
                    <a:pt x="402" y="92"/>
                  </a:lnTo>
                  <a:lnTo>
                    <a:pt x="396" y="99"/>
                  </a:lnTo>
                  <a:lnTo>
                    <a:pt x="389" y="105"/>
                  </a:lnTo>
                  <a:lnTo>
                    <a:pt x="382" y="112"/>
                  </a:lnTo>
                  <a:lnTo>
                    <a:pt x="382" y="112"/>
                  </a:lnTo>
                  <a:lnTo>
                    <a:pt x="376" y="118"/>
                  </a:lnTo>
                  <a:lnTo>
                    <a:pt x="369" y="125"/>
                  </a:lnTo>
                  <a:lnTo>
                    <a:pt x="369" y="131"/>
                  </a:lnTo>
                  <a:lnTo>
                    <a:pt x="363" y="138"/>
                  </a:lnTo>
                  <a:lnTo>
                    <a:pt x="356" y="138"/>
                  </a:lnTo>
                  <a:lnTo>
                    <a:pt x="349" y="145"/>
                  </a:lnTo>
                  <a:lnTo>
                    <a:pt x="343" y="145"/>
                  </a:lnTo>
                  <a:lnTo>
                    <a:pt x="330" y="145"/>
                  </a:lnTo>
                  <a:lnTo>
                    <a:pt x="323" y="145"/>
                  </a:lnTo>
                  <a:lnTo>
                    <a:pt x="316" y="145"/>
                  </a:lnTo>
                  <a:lnTo>
                    <a:pt x="303" y="145"/>
                  </a:lnTo>
                  <a:lnTo>
                    <a:pt x="297" y="145"/>
                  </a:lnTo>
                  <a:lnTo>
                    <a:pt x="284" y="151"/>
                  </a:lnTo>
                  <a:lnTo>
                    <a:pt x="277" y="151"/>
                  </a:lnTo>
                  <a:lnTo>
                    <a:pt x="270" y="151"/>
                  </a:lnTo>
                  <a:lnTo>
                    <a:pt x="264" y="151"/>
                  </a:lnTo>
                  <a:lnTo>
                    <a:pt x="257" y="145"/>
                  </a:lnTo>
                  <a:lnTo>
                    <a:pt x="257" y="138"/>
                  </a:lnTo>
                  <a:lnTo>
                    <a:pt x="251" y="131"/>
                  </a:lnTo>
                  <a:lnTo>
                    <a:pt x="251" y="125"/>
                  </a:lnTo>
                  <a:lnTo>
                    <a:pt x="251" y="118"/>
                  </a:lnTo>
                  <a:lnTo>
                    <a:pt x="244" y="112"/>
                  </a:lnTo>
                  <a:lnTo>
                    <a:pt x="244" y="105"/>
                  </a:lnTo>
                  <a:lnTo>
                    <a:pt x="237" y="105"/>
                  </a:lnTo>
                  <a:lnTo>
                    <a:pt x="237" y="99"/>
                  </a:lnTo>
                  <a:lnTo>
                    <a:pt x="237" y="92"/>
                  </a:lnTo>
                  <a:lnTo>
                    <a:pt x="231" y="92"/>
                  </a:lnTo>
                  <a:lnTo>
                    <a:pt x="218" y="92"/>
                  </a:lnTo>
                  <a:lnTo>
                    <a:pt x="211" y="99"/>
                  </a:lnTo>
                  <a:lnTo>
                    <a:pt x="198" y="99"/>
                  </a:lnTo>
                  <a:lnTo>
                    <a:pt x="191" y="99"/>
                  </a:lnTo>
                  <a:lnTo>
                    <a:pt x="185" y="99"/>
                  </a:lnTo>
                  <a:lnTo>
                    <a:pt x="172" y="105"/>
                  </a:lnTo>
                  <a:lnTo>
                    <a:pt x="165" y="105"/>
                  </a:lnTo>
                  <a:lnTo>
                    <a:pt x="158" y="105"/>
                  </a:lnTo>
                  <a:lnTo>
                    <a:pt x="145" y="112"/>
                  </a:lnTo>
                  <a:lnTo>
                    <a:pt x="139" y="112"/>
                  </a:lnTo>
                  <a:lnTo>
                    <a:pt x="132" y="112"/>
                  </a:lnTo>
                  <a:lnTo>
                    <a:pt x="119" y="112"/>
                  </a:lnTo>
                  <a:lnTo>
                    <a:pt x="112" y="112"/>
                  </a:lnTo>
                  <a:lnTo>
                    <a:pt x="106" y="112"/>
                  </a:lnTo>
                  <a:lnTo>
                    <a:pt x="92" y="112"/>
                  </a:lnTo>
                  <a:lnTo>
                    <a:pt x="86" y="112"/>
                  </a:lnTo>
                  <a:lnTo>
                    <a:pt x="79" y="105"/>
                  </a:lnTo>
                  <a:lnTo>
                    <a:pt x="73" y="105"/>
                  </a:lnTo>
                  <a:lnTo>
                    <a:pt x="59" y="99"/>
                  </a:lnTo>
                  <a:lnTo>
                    <a:pt x="53" y="99"/>
                  </a:lnTo>
                  <a:lnTo>
                    <a:pt x="46" y="92"/>
                  </a:lnTo>
                  <a:lnTo>
                    <a:pt x="40" y="92"/>
                  </a:lnTo>
                  <a:lnTo>
                    <a:pt x="33" y="85"/>
                  </a:lnTo>
                  <a:lnTo>
                    <a:pt x="27" y="85"/>
                  </a:lnTo>
                  <a:lnTo>
                    <a:pt x="20" y="79"/>
                  </a:lnTo>
                  <a:lnTo>
                    <a:pt x="13" y="72"/>
                  </a:lnTo>
                  <a:lnTo>
                    <a:pt x="13" y="66"/>
                  </a:lnTo>
                  <a:lnTo>
                    <a:pt x="13" y="59"/>
                  </a:lnTo>
                  <a:lnTo>
                    <a:pt x="7" y="59"/>
                  </a:lnTo>
                  <a:lnTo>
                    <a:pt x="7" y="52"/>
                  </a:lnTo>
                  <a:lnTo>
                    <a:pt x="7" y="46"/>
                  </a:lnTo>
                  <a:lnTo>
                    <a:pt x="7" y="39"/>
                  </a:lnTo>
                  <a:lnTo>
                    <a:pt x="7" y="33"/>
                  </a:lnTo>
                  <a:lnTo>
                    <a:pt x="7" y="26"/>
                  </a:lnTo>
                  <a:lnTo>
                    <a:pt x="7" y="20"/>
                  </a:lnTo>
                  <a:lnTo>
                    <a:pt x="7" y="13"/>
                  </a:lnTo>
                  <a:lnTo>
                    <a:pt x="0" y="6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3" name=""/>
            <p:cNvSpPr/>
            <p:nvPr/>
          </p:nvSpPr>
          <p:spPr>
            <a:xfrm>
              <a:off x="3382920" y="4111560"/>
              <a:ext cx="18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4" name=""/>
            <p:cNvSpPr/>
            <p:nvPr/>
          </p:nvSpPr>
          <p:spPr>
            <a:xfrm>
              <a:off x="3341520" y="3943440"/>
              <a:ext cx="73080" cy="31680"/>
            </a:xfrm>
            <a:custGeom>
              <a:avLst/>
              <a:gdLst/>
              <a:ahLst/>
              <a:rect l="l" t="t" r="r" b="b"/>
              <a:pathLst>
                <a:path w="46" h="20">
                  <a:moveTo>
                    <a:pt x="0" y="20"/>
                  </a:moveTo>
                  <a:lnTo>
                    <a:pt x="0" y="14"/>
                  </a:lnTo>
                  <a:lnTo>
                    <a:pt x="33" y="14"/>
                  </a:lnTo>
                  <a:lnTo>
                    <a:pt x="33" y="14"/>
                  </a:lnTo>
                  <a:lnTo>
                    <a:pt x="33" y="14"/>
                  </a:lnTo>
                  <a:lnTo>
                    <a:pt x="33" y="7"/>
                  </a:lnTo>
                  <a:lnTo>
                    <a:pt x="33" y="7"/>
                  </a:lnTo>
                  <a:lnTo>
                    <a:pt x="33" y="7"/>
                  </a:lnTo>
                  <a:lnTo>
                    <a:pt x="33" y="7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33" y="0"/>
                  </a:lnTo>
                  <a:lnTo>
                    <a:pt x="33" y="7"/>
                  </a:lnTo>
                  <a:lnTo>
                    <a:pt x="39" y="7"/>
                  </a:lnTo>
                  <a:lnTo>
                    <a:pt x="39" y="7"/>
                  </a:lnTo>
                  <a:lnTo>
                    <a:pt x="39" y="7"/>
                  </a:lnTo>
                  <a:lnTo>
                    <a:pt x="39" y="14"/>
                  </a:lnTo>
                  <a:lnTo>
                    <a:pt x="39" y="14"/>
                  </a:lnTo>
                  <a:lnTo>
                    <a:pt x="46" y="14"/>
                  </a:lnTo>
                  <a:lnTo>
                    <a:pt x="46" y="14"/>
                  </a:lnTo>
                  <a:lnTo>
                    <a:pt x="46" y="2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5" name=""/>
            <p:cNvSpPr/>
            <p:nvPr/>
          </p:nvSpPr>
          <p:spPr>
            <a:xfrm>
              <a:off x="3351240" y="3995640"/>
              <a:ext cx="63360" cy="42840"/>
            </a:xfrm>
            <a:custGeom>
              <a:avLst/>
              <a:gdLst/>
              <a:ahLst/>
              <a:rect l="l" t="t" r="r" b="b"/>
              <a:pathLst>
                <a:path w="40" h="27">
                  <a:moveTo>
                    <a:pt x="33" y="27"/>
                  </a:moveTo>
                  <a:lnTo>
                    <a:pt x="33" y="20"/>
                  </a:lnTo>
                  <a:lnTo>
                    <a:pt x="33" y="20"/>
                  </a:lnTo>
                  <a:lnTo>
                    <a:pt x="33" y="20"/>
                  </a:lnTo>
                  <a:lnTo>
                    <a:pt x="33" y="20"/>
                  </a:lnTo>
                  <a:lnTo>
                    <a:pt x="33" y="20"/>
                  </a:lnTo>
                  <a:lnTo>
                    <a:pt x="33" y="20"/>
                  </a:lnTo>
                  <a:lnTo>
                    <a:pt x="33" y="14"/>
                  </a:lnTo>
                  <a:lnTo>
                    <a:pt x="40" y="14"/>
                  </a:lnTo>
                  <a:lnTo>
                    <a:pt x="40" y="14"/>
                  </a:lnTo>
                  <a:lnTo>
                    <a:pt x="40" y="14"/>
                  </a:lnTo>
                  <a:lnTo>
                    <a:pt x="33" y="14"/>
                  </a:lnTo>
                  <a:lnTo>
                    <a:pt x="33" y="7"/>
                  </a:lnTo>
                  <a:lnTo>
                    <a:pt x="33" y="7"/>
                  </a:lnTo>
                  <a:lnTo>
                    <a:pt x="33" y="7"/>
                  </a:lnTo>
                  <a:lnTo>
                    <a:pt x="33" y="7"/>
                  </a:lnTo>
                  <a:lnTo>
                    <a:pt x="33" y="7"/>
                  </a:lnTo>
                  <a:lnTo>
                    <a:pt x="27" y="7"/>
                  </a:lnTo>
                  <a:lnTo>
                    <a:pt x="27" y="7"/>
                  </a:lnTo>
                  <a:lnTo>
                    <a:pt x="27" y="7"/>
                  </a:lnTo>
                  <a:lnTo>
                    <a:pt x="20" y="7"/>
                  </a:lnTo>
                  <a:lnTo>
                    <a:pt x="20" y="7"/>
                  </a:lnTo>
                  <a:lnTo>
                    <a:pt x="20" y="7"/>
                  </a:lnTo>
                  <a:lnTo>
                    <a:pt x="20" y="7"/>
                  </a:lnTo>
                  <a:lnTo>
                    <a:pt x="27" y="7"/>
                  </a:lnTo>
                  <a:lnTo>
                    <a:pt x="27" y="7"/>
                  </a:lnTo>
                  <a:lnTo>
                    <a:pt x="27" y="7"/>
                  </a:lnTo>
                  <a:lnTo>
                    <a:pt x="27" y="14"/>
                  </a:lnTo>
                  <a:lnTo>
                    <a:pt x="27" y="14"/>
                  </a:lnTo>
                  <a:lnTo>
                    <a:pt x="27" y="14"/>
                  </a:lnTo>
                  <a:lnTo>
                    <a:pt x="27" y="14"/>
                  </a:lnTo>
                  <a:lnTo>
                    <a:pt x="27" y="20"/>
                  </a:lnTo>
                  <a:lnTo>
                    <a:pt x="27" y="20"/>
                  </a:lnTo>
                  <a:lnTo>
                    <a:pt x="20" y="20"/>
                  </a:lnTo>
                  <a:lnTo>
                    <a:pt x="20" y="27"/>
                  </a:lnTo>
                  <a:lnTo>
                    <a:pt x="20" y="27"/>
                  </a:lnTo>
                  <a:lnTo>
                    <a:pt x="14" y="27"/>
                  </a:lnTo>
                  <a:lnTo>
                    <a:pt x="14" y="27"/>
                  </a:lnTo>
                  <a:lnTo>
                    <a:pt x="14" y="27"/>
                  </a:lnTo>
                  <a:lnTo>
                    <a:pt x="7" y="27"/>
                  </a:lnTo>
                  <a:lnTo>
                    <a:pt x="7" y="27"/>
                  </a:lnTo>
                  <a:lnTo>
                    <a:pt x="7" y="27"/>
                  </a:lnTo>
                  <a:lnTo>
                    <a:pt x="7" y="27"/>
                  </a:lnTo>
                  <a:lnTo>
                    <a:pt x="0" y="27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7" y="0"/>
                  </a:lnTo>
                  <a:lnTo>
                    <a:pt x="7" y="0"/>
                  </a:lnTo>
                  <a:lnTo>
                    <a:pt x="14" y="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27" y="0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40" y="7"/>
                  </a:lnTo>
                  <a:lnTo>
                    <a:pt x="40" y="7"/>
                  </a:lnTo>
                  <a:lnTo>
                    <a:pt x="40" y="7"/>
                  </a:lnTo>
                  <a:lnTo>
                    <a:pt x="40" y="14"/>
                  </a:lnTo>
                  <a:lnTo>
                    <a:pt x="40" y="14"/>
                  </a:lnTo>
                  <a:lnTo>
                    <a:pt x="40" y="20"/>
                  </a:lnTo>
                  <a:lnTo>
                    <a:pt x="40" y="20"/>
                  </a:lnTo>
                  <a:lnTo>
                    <a:pt x="40" y="20"/>
                  </a:lnTo>
                  <a:lnTo>
                    <a:pt x="40" y="20"/>
                  </a:lnTo>
                  <a:lnTo>
                    <a:pt x="33" y="27"/>
                  </a:lnTo>
                  <a:lnTo>
                    <a:pt x="33" y="27"/>
                  </a:lnTo>
                  <a:lnTo>
                    <a:pt x="33" y="27"/>
                  </a:lnTo>
                  <a:close/>
                  <a:moveTo>
                    <a:pt x="14" y="7"/>
                  </a:moveTo>
                  <a:lnTo>
                    <a:pt x="14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0" y="7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7" y="20"/>
                  </a:lnTo>
                  <a:lnTo>
                    <a:pt x="7" y="20"/>
                  </a:lnTo>
                  <a:lnTo>
                    <a:pt x="7" y="20"/>
                  </a:lnTo>
                  <a:lnTo>
                    <a:pt x="7" y="20"/>
                  </a:lnTo>
                  <a:lnTo>
                    <a:pt x="14" y="20"/>
                  </a:lnTo>
                  <a:lnTo>
                    <a:pt x="14" y="20"/>
                  </a:lnTo>
                  <a:lnTo>
                    <a:pt x="14" y="20"/>
                  </a:lnTo>
                  <a:lnTo>
                    <a:pt x="14" y="20"/>
                  </a:lnTo>
                  <a:lnTo>
                    <a:pt x="20" y="20"/>
                  </a:lnTo>
                  <a:lnTo>
                    <a:pt x="20" y="20"/>
                  </a:lnTo>
                  <a:lnTo>
                    <a:pt x="20" y="20"/>
                  </a:lnTo>
                  <a:lnTo>
                    <a:pt x="20" y="14"/>
                  </a:lnTo>
                  <a:lnTo>
                    <a:pt x="20" y="14"/>
                  </a:lnTo>
                  <a:lnTo>
                    <a:pt x="20" y="14"/>
                  </a:lnTo>
                  <a:lnTo>
                    <a:pt x="20" y="14"/>
                  </a:lnTo>
                  <a:lnTo>
                    <a:pt x="20" y="7"/>
                  </a:lnTo>
                  <a:lnTo>
                    <a:pt x="20" y="7"/>
                  </a:lnTo>
                  <a:lnTo>
                    <a:pt x="20" y="7"/>
                  </a:lnTo>
                  <a:lnTo>
                    <a:pt x="20" y="7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4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6" name=""/>
            <p:cNvSpPr/>
            <p:nvPr/>
          </p:nvSpPr>
          <p:spPr>
            <a:xfrm>
              <a:off x="3351240" y="4048200"/>
              <a:ext cx="74520" cy="42840"/>
            </a:xfrm>
            <a:custGeom>
              <a:avLst/>
              <a:gdLst/>
              <a:ahLst/>
              <a:rect l="l" t="t" r="r" b="b"/>
              <a:pathLst>
                <a:path w="47" h="27">
                  <a:moveTo>
                    <a:pt x="20" y="0"/>
                  </a:moveTo>
                  <a:lnTo>
                    <a:pt x="27" y="0"/>
                  </a:lnTo>
                  <a:lnTo>
                    <a:pt x="27" y="0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40" y="7"/>
                  </a:lnTo>
                  <a:lnTo>
                    <a:pt x="40" y="7"/>
                  </a:lnTo>
                  <a:lnTo>
                    <a:pt x="40" y="7"/>
                  </a:lnTo>
                  <a:lnTo>
                    <a:pt x="40" y="7"/>
                  </a:lnTo>
                  <a:lnTo>
                    <a:pt x="47" y="13"/>
                  </a:lnTo>
                  <a:lnTo>
                    <a:pt x="47" y="13"/>
                  </a:lnTo>
                  <a:lnTo>
                    <a:pt x="40" y="13"/>
                  </a:lnTo>
                  <a:lnTo>
                    <a:pt x="40" y="13"/>
                  </a:lnTo>
                  <a:lnTo>
                    <a:pt x="40" y="20"/>
                  </a:lnTo>
                  <a:lnTo>
                    <a:pt x="40" y="20"/>
                  </a:lnTo>
                  <a:lnTo>
                    <a:pt x="40" y="20"/>
                  </a:lnTo>
                  <a:lnTo>
                    <a:pt x="40" y="20"/>
                  </a:lnTo>
                  <a:lnTo>
                    <a:pt x="40" y="20"/>
                  </a:lnTo>
                  <a:lnTo>
                    <a:pt x="40" y="20"/>
                  </a:lnTo>
                  <a:lnTo>
                    <a:pt x="33" y="27"/>
                  </a:lnTo>
                  <a:lnTo>
                    <a:pt x="33" y="27"/>
                  </a:lnTo>
                  <a:lnTo>
                    <a:pt x="33" y="27"/>
                  </a:lnTo>
                  <a:lnTo>
                    <a:pt x="33" y="27"/>
                  </a:lnTo>
                  <a:lnTo>
                    <a:pt x="27" y="27"/>
                  </a:lnTo>
                  <a:lnTo>
                    <a:pt x="27" y="27"/>
                  </a:lnTo>
                  <a:lnTo>
                    <a:pt x="20" y="27"/>
                  </a:lnTo>
                  <a:lnTo>
                    <a:pt x="20" y="27"/>
                  </a:lnTo>
                  <a:lnTo>
                    <a:pt x="14" y="27"/>
                  </a:lnTo>
                  <a:lnTo>
                    <a:pt x="14" y="27"/>
                  </a:lnTo>
                  <a:lnTo>
                    <a:pt x="7" y="27"/>
                  </a:lnTo>
                  <a:lnTo>
                    <a:pt x="7" y="27"/>
                  </a:lnTo>
                  <a:lnTo>
                    <a:pt x="7" y="27"/>
                  </a:lnTo>
                  <a:lnTo>
                    <a:pt x="7" y="27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7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20" y="0"/>
                  </a:lnTo>
                  <a:close/>
                  <a:moveTo>
                    <a:pt x="20" y="7"/>
                  </a:moveTo>
                  <a:lnTo>
                    <a:pt x="14" y="7"/>
                  </a:lnTo>
                  <a:lnTo>
                    <a:pt x="14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13"/>
                  </a:lnTo>
                  <a:lnTo>
                    <a:pt x="7" y="13"/>
                  </a:lnTo>
                  <a:lnTo>
                    <a:pt x="7" y="13"/>
                  </a:lnTo>
                  <a:lnTo>
                    <a:pt x="7" y="13"/>
                  </a:lnTo>
                  <a:lnTo>
                    <a:pt x="7" y="20"/>
                  </a:lnTo>
                  <a:lnTo>
                    <a:pt x="7" y="20"/>
                  </a:lnTo>
                  <a:lnTo>
                    <a:pt x="7" y="20"/>
                  </a:lnTo>
                  <a:lnTo>
                    <a:pt x="7" y="20"/>
                  </a:lnTo>
                  <a:lnTo>
                    <a:pt x="14" y="20"/>
                  </a:lnTo>
                  <a:lnTo>
                    <a:pt x="20" y="20"/>
                  </a:lnTo>
                  <a:lnTo>
                    <a:pt x="20" y="20"/>
                  </a:lnTo>
                  <a:lnTo>
                    <a:pt x="27" y="20"/>
                  </a:lnTo>
                  <a:lnTo>
                    <a:pt x="33" y="20"/>
                  </a:lnTo>
                  <a:lnTo>
                    <a:pt x="33" y="20"/>
                  </a:lnTo>
                  <a:lnTo>
                    <a:pt x="33" y="20"/>
                  </a:lnTo>
                  <a:lnTo>
                    <a:pt x="40" y="20"/>
                  </a:lnTo>
                  <a:lnTo>
                    <a:pt x="40" y="13"/>
                  </a:lnTo>
                  <a:lnTo>
                    <a:pt x="40" y="13"/>
                  </a:lnTo>
                  <a:lnTo>
                    <a:pt x="40" y="13"/>
                  </a:lnTo>
                  <a:lnTo>
                    <a:pt x="40" y="13"/>
                  </a:lnTo>
                  <a:lnTo>
                    <a:pt x="40" y="7"/>
                  </a:lnTo>
                  <a:lnTo>
                    <a:pt x="40" y="7"/>
                  </a:lnTo>
                  <a:lnTo>
                    <a:pt x="33" y="7"/>
                  </a:lnTo>
                  <a:lnTo>
                    <a:pt x="33" y="7"/>
                  </a:lnTo>
                  <a:lnTo>
                    <a:pt x="27" y="7"/>
                  </a:lnTo>
                  <a:lnTo>
                    <a:pt x="27" y="7"/>
                  </a:lnTo>
                  <a:lnTo>
                    <a:pt x="2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7" name=""/>
            <p:cNvSpPr/>
            <p:nvPr/>
          </p:nvSpPr>
          <p:spPr>
            <a:xfrm>
              <a:off x="3373560" y="3913200"/>
              <a:ext cx="14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8" name=""/>
            <p:cNvSpPr/>
            <p:nvPr/>
          </p:nvSpPr>
          <p:spPr>
            <a:xfrm>
              <a:off x="3006720" y="3849840"/>
              <a:ext cx="366840" cy="731520"/>
            </a:xfrm>
            <a:custGeom>
              <a:avLst/>
              <a:gdLst/>
              <a:ahLst/>
              <a:rect l="l" t="t" r="r" b="b"/>
              <a:pathLst>
                <a:path w="231" h="461">
                  <a:moveTo>
                    <a:pt x="231" y="40"/>
                  </a:moveTo>
                  <a:lnTo>
                    <a:pt x="231" y="33"/>
                  </a:lnTo>
                  <a:lnTo>
                    <a:pt x="231" y="27"/>
                  </a:lnTo>
                  <a:lnTo>
                    <a:pt x="231" y="20"/>
                  </a:lnTo>
                  <a:lnTo>
                    <a:pt x="231" y="13"/>
                  </a:lnTo>
                  <a:lnTo>
                    <a:pt x="231" y="7"/>
                  </a:lnTo>
                  <a:lnTo>
                    <a:pt x="224" y="0"/>
                  </a:lnTo>
                  <a:lnTo>
                    <a:pt x="224" y="0"/>
                  </a:lnTo>
                  <a:lnTo>
                    <a:pt x="217" y="0"/>
                  </a:lnTo>
                  <a:lnTo>
                    <a:pt x="211" y="7"/>
                  </a:lnTo>
                  <a:lnTo>
                    <a:pt x="204" y="13"/>
                  </a:lnTo>
                  <a:lnTo>
                    <a:pt x="204" y="20"/>
                  </a:lnTo>
                  <a:lnTo>
                    <a:pt x="204" y="27"/>
                  </a:lnTo>
                  <a:lnTo>
                    <a:pt x="204" y="33"/>
                  </a:lnTo>
                  <a:lnTo>
                    <a:pt x="204" y="33"/>
                  </a:lnTo>
                  <a:lnTo>
                    <a:pt x="198" y="40"/>
                  </a:lnTo>
                  <a:lnTo>
                    <a:pt x="198" y="46"/>
                  </a:lnTo>
                  <a:lnTo>
                    <a:pt x="198" y="53"/>
                  </a:lnTo>
                  <a:lnTo>
                    <a:pt x="191" y="59"/>
                  </a:lnTo>
                  <a:lnTo>
                    <a:pt x="184" y="59"/>
                  </a:lnTo>
                  <a:lnTo>
                    <a:pt x="178" y="66"/>
                  </a:lnTo>
                  <a:lnTo>
                    <a:pt x="178" y="73"/>
                  </a:lnTo>
                  <a:lnTo>
                    <a:pt x="178" y="79"/>
                  </a:lnTo>
                  <a:lnTo>
                    <a:pt x="178" y="86"/>
                  </a:lnTo>
                  <a:lnTo>
                    <a:pt x="178" y="92"/>
                  </a:lnTo>
                  <a:lnTo>
                    <a:pt x="178" y="99"/>
                  </a:lnTo>
                  <a:lnTo>
                    <a:pt x="178" y="106"/>
                  </a:lnTo>
                  <a:lnTo>
                    <a:pt x="171" y="112"/>
                  </a:lnTo>
                  <a:lnTo>
                    <a:pt x="171" y="112"/>
                  </a:lnTo>
                  <a:lnTo>
                    <a:pt x="171" y="119"/>
                  </a:lnTo>
                  <a:lnTo>
                    <a:pt x="171" y="125"/>
                  </a:lnTo>
                  <a:lnTo>
                    <a:pt x="171" y="132"/>
                  </a:lnTo>
                  <a:lnTo>
                    <a:pt x="171" y="138"/>
                  </a:lnTo>
                  <a:lnTo>
                    <a:pt x="171" y="145"/>
                  </a:lnTo>
                  <a:lnTo>
                    <a:pt x="165" y="152"/>
                  </a:lnTo>
                  <a:lnTo>
                    <a:pt x="165" y="158"/>
                  </a:lnTo>
                  <a:lnTo>
                    <a:pt x="165" y="165"/>
                  </a:lnTo>
                  <a:lnTo>
                    <a:pt x="165" y="165"/>
                  </a:lnTo>
                  <a:lnTo>
                    <a:pt x="165" y="171"/>
                  </a:lnTo>
                  <a:lnTo>
                    <a:pt x="165" y="178"/>
                  </a:lnTo>
                  <a:lnTo>
                    <a:pt x="165" y="185"/>
                  </a:lnTo>
                  <a:lnTo>
                    <a:pt x="158" y="191"/>
                  </a:lnTo>
                  <a:lnTo>
                    <a:pt x="158" y="198"/>
                  </a:lnTo>
                  <a:lnTo>
                    <a:pt x="158" y="204"/>
                  </a:lnTo>
                  <a:lnTo>
                    <a:pt x="158" y="211"/>
                  </a:lnTo>
                  <a:lnTo>
                    <a:pt x="158" y="217"/>
                  </a:lnTo>
                  <a:lnTo>
                    <a:pt x="158" y="217"/>
                  </a:lnTo>
                  <a:lnTo>
                    <a:pt x="158" y="224"/>
                  </a:lnTo>
                  <a:lnTo>
                    <a:pt x="152" y="231"/>
                  </a:lnTo>
                  <a:lnTo>
                    <a:pt x="152" y="237"/>
                  </a:lnTo>
                  <a:lnTo>
                    <a:pt x="152" y="244"/>
                  </a:lnTo>
                  <a:lnTo>
                    <a:pt x="152" y="250"/>
                  </a:lnTo>
                  <a:lnTo>
                    <a:pt x="152" y="257"/>
                  </a:lnTo>
                  <a:lnTo>
                    <a:pt x="152" y="264"/>
                  </a:lnTo>
                  <a:lnTo>
                    <a:pt x="145" y="264"/>
                  </a:lnTo>
                  <a:lnTo>
                    <a:pt x="138" y="270"/>
                  </a:lnTo>
                  <a:lnTo>
                    <a:pt x="132" y="277"/>
                  </a:lnTo>
                  <a:lnTo>
                    <a:pt x="125" y="283"/>
                  </a:lnTo>
                  <a:lnTo>
                    <a:pt x="125" y="283"/>
                  </a:lnTo>
                  <a:lnTo>
                    <a:pt x="119" y="290"/>
                  </a:lnTo>
                  <a:lnTo>
                    <a:pt x="125" y="296"/>
                  </a:lnTo>
                  <a:lnTo>
                    <a:pt x="132" y="303"/>
                  </a:lnTo>
                  <a:lnTo>
                    <a:pt x="132" y="310"/>
                  </a:lnTo>
                  <a:lnTo>
                    <a:pt x="138" y="310"/>
                  </a:lnTo>
                  <a:lnTo>
                    <a:pt x="145" y="316"/>
                  </a:lnTo>
                  <a:lnTo>
                    <a:pt x="152" y="323"/>
                  </a:lnTo>
                  <a:lnTo>
                    <a:pt x="158" y="329"/>
                  </a:lnTo>
                  <a:lnTo>
                    <a:pt x="158" y="336"/>
                  </a:lnTo>
                  <a:lnTo>
                    <a:pt x="165" y="336"/>
                  </a:lnTo>
                  <a:lnTo>
                    <a:pt x="165" y="343"/>
                  </a:lnTo>
                  <a:lnTo>
                    <a:pt x="165" y="349"/>
                  </a:lnTo>
                  <a:lnTo>
                    <a:pt x="158" y="356"/>
                  </a:lnTo>
                  <a:lnTo>
                    <a:pt x="152" y="356"/>
                  </a:lnTo>
                  <a:lnTo>
                    <a:pt x="145" y="362"/>
                  </a:lnTo>
                  <a:lnTo>
                    <a:pt x="138" y="362"/>
                  </a:lnTo>
                  <a:lnTo>
                    <a:pt x="125" y="369"/>
                  </a:lnTo>
                  <a:lnTo>
                    <a:pt x="119" y="369"/>
                  </a:lnTo>
                  <a:lnTo>
                    <a:pt x="112" y="375"/>
                  </a:lnTo>
                  <a:lnTo>
                    <a:pt x="112" y="382"/>
                  </a:lnTo>
                  <a:lnTo>
                    <a:pt x="105" y="382"/>
                  </a:lnTo>
                  <a:lnTo>
                    <a:pt x="92" y="389"/>
                  </a:lnTo>
                  <a:lnTo>
                    <a:pt x="86" y="389"/>
                  </a:lnTo>
                  <a:lnTo>
                    <a:pt x="79" y="395"/>
                  </a:lnTo>
                  <a:lnTo>
                    <a:pt x="72" y="402"/>
                  </a:lnTo>
                  <a:lnTo>
                    <a:pt x="72" y="402"/>
                  </a:lnTo>
                  <a:lnTo>
                    <a:pt x="66" y="408"/>
                  </a:lnTo>
                  <a:lnTo>
                    <a:pt x="59" y="415"/>
                  </a:lnTo>
                  <a:lnTo>
                    <a:pt x="53" y="422"/>
                  </a:lnTo>
                  <a:lnTo>
                    <a:pt x="53" y="422"/>
                  </a:lnTo>
                  <a:lnTo>
                    <a:pt x="46" y="428"/>
                  </a:lnTo>
                  <a:lnTo>
                    <a:pt x="39" y="435"/>
                  </a:lnTo>
                  <a:lnTo>
                    <a:pt x="33" y="435"/>
                  </a:lnTo>
                  <a:lnTo>
                    <a:pt x="20" y="441"/>
                  </a:lnTo>
                  <a:lnTo>
                    <a:pt x="13" y="441"/>
                  </a:lnTo>
                  <a:lnTo>
                    <a:pt x="7" y="448"/>
                  </a:lnTo>
                  <a:lnTo>
                    <a:pt x="7" y="454"/>
                  </a:lnTo>
                  <a:lnTo>
                    <a:pt x="0" y="46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9" name=""/>
            <p:cNvSpPr/>
            <p:nvPr/>
          </p:nvSpPr>
          <p:spPr>
            <a:xfrm flipH="1" flipV="1">
              <a:off x="2964960" y="4519080"/>
              <a:ext cx="9720" cy="9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0" name=""/>
            <p:cNvSpPr/>
            <p:nvPr/>
          </p:nvSpPr>
          <p:spPr>
            <a:xfrm flipH="1" flipV="1">
              <a:off x="2975040" y="4528800"/>
              <a:ext cx="3168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1" name=""/>
            <p:cNvSpPr/>
            <p:nvPr/>
          </p:nvSpPr>
          <p:spPr>
            <a:xfrm flipH="1" flipV="1">
              <a:off x="2912760" y="4466880"/>
              <a:ext cx="20520" cy="20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2" name=""/>
            <p:cNvSpPr/>
            <p:nvPr/>
          </p:nvSpPr>
          <p:spPr>
            <a:xfrm flipH="1" flipV="1">
              <a:off x="2869920" y="4414680"/>
              <a:ext cx="20520" cy="30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3" name=""/>
            <p:cNvSpPr/>
            <p:nvPr/>
          </p:nvSpPr>
          <p:spPr>
            <a:xfrm flipH="1" flipV="1">
              <a:off x="2828880" y="4362480"/>
              <a:ext cx="31680" cy="31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4" name=""/>
            <p:cNvSpPr/>
            <p:nvPr/>
          </p:nvSpPr>
          <p:spPr>
            <a:xfrm>
              <a:off x="3686040" y="4383000"/>
              <a:ext cx="115920" cy="31680"/>
            </a:xfrm>
            <a:custGeom>
              <a:avLst/>
              <a:gdLst/>
              <a:ahLst/>
              <a:rect l="l" t="t" r="r" b="b"/>
              <a:pathLst>
                <a:path w="73" h="20">
                  <a:moveTo>
                    <a:pt x="0" y="7"/>
                  </a:moveTo>
                  <a:lnTo>
                    <a:pt x="7" y="7"/>
                  </a:lnTo>
                  <a:lnTo>
                    <a:pt x="13" y="7"/>
                  </a:lnTo>
                  <a:lnTo>
                    <a:pt x="20" y="7"/>
                  </a:lnTo>
                  <a:lnTo>
                    <a:pt x="20" y="0"/>
                  </a:lnTo>
                  <a:lnTo>
                    <a:pt x="27" y="7"/>
                  </a:lnTo>
                  <a:lnTo>
                    <a:pt x="33" y="7"/>
                  </a:lnTo>
                  <a:lnTo>
                    <a:pt x="40" y="7"/>
                  </a:lnTo>
                  <a:lnTo>
                    <a:pt x="46" y="7"/>
                  </a:lnTo>
                  <a:lnTo>
                    <a:pt x="53" y="7"/>
                  </a:lnTo>
                  <a:lnTo>
                    <a:pt x="60" y="7"/>
                  </a:lnTo>
                  <a:lnTo>
                    <a:pt x="66" y="7"/>
                  </a:lnTo>
                  <a:lnTo>
                    <a:pt x="73" y="7"/>
                  </a:lnTo>
                  <a:lnTo>
                    <a:pt x="73" y="7"/>
                  </a:lnTo>
                  <a:lnTo>
                    <a:pt x="66" y="13"/>
                  </a:lnTo>
                  <a:lnTo>
                    <a:pt x="60" y="13"/>
                  </a:lnTo>
                  <a:lnTo>
                    <a:pt x="60" y="13"/>
                  </a:lnTo>
                  <a:lnTo>
                    <a:pt x="53" y="13"/>
                  </a:lnTo>
                  <a:lnTo>
                    <a:pt x="46" y="13"/>
                  </a:lnTo>
                  <a:lnTo>
                    <a:pt x="40" y="13"/>
                  </a:lnTo>
                  <a:lnTo>
                    <a:pt x="33" y="13"/>
                  </a:lnTo>
                  <a:lnTo>
                    <a:pt x="27" y="20"/>
                  </a:lnTo>
                  <a:lnTo>
                    <a:pt x="27" y="20"/>
                  </a:lnTo>
                  <a:lnTo>
                    <a:pt x="20" y="13"/>
                  </a:lnTo>
                  <a:lnTo>
                    <a:pt x="13" y="13"/>
                  </a:lnTo>
                  <a:lnTo>
                    <a:pt x="7" y="13"/>
                  </a:lnTo>
                  <a:lnTo>
                    <a:pt x="0" y="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5" name=""/>
            <p:cNvSpPr/>
            <p:nvPr/>
          </p:nvSpPr>
          <p:spPr>
            <a:xfrm>
              <a:off x="2787480" y="4309920"/>
              <a:ext cx="30240" cy="41400"/>
            </a:xfrm>
            <a:custGeom>
              <a:avLst/>
              <a:gdLst/>
              <a:ahLst/>
              <a:rect l="l" t="t" r="r" b="b"/>
              <a:pathLst>
                <a:path w="19" h="26">
                  <a:moveTo>
                    <a:pt x="19" y="26"/>
                  </a:moveTo>
                  <a:lnTo>
                    <a:pt x="19" y="26"/>
                  </a:lnTo>
                  <a:lnTo>
                    <a:pt x="13" y="20"/>
                  </a:lnTo>
                  <a:lnTo>
                    <a:pt x="13" y="20"/>
                  </a:lnTo>
                  <a:lnTo>
                    <a:pt x="13" y="13"/>
                  </a:lnTo>
                  <a:lnTo>
                    <a:pt x="6" y="13"/>
                  </a:lnTo>
                  <a:lnTo>
                    <a:pt x="6" y="6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6" name=""/>
            <p:cNvSpPr/>
            <p:nvPr/>
          </p:nvSpPr>
          <p:spPr>
            <a:xfrm flipV="1">
              <a:off x="2744640" y="4257360"/>
              <a:ext cx="1800" cy="11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7" name=""/>
            <p:cNvSpPr/>
            <p:nvPr/>
          </p:nvSpPr>
          <p:spPr>
            <a:xfrm flipH="1" flipV="1">
              <a:off x="2692080" y="4194000"/>
              <a:ext cx="20520" cy="22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8" name=""/>
            <p:cNvSpPr/>
            <p:nvPr/>
          </p:nvSpPr>
          <p:spPr>
            <a:xfrm flipH="1" flipV="1">
              <a:off x="2651040" y="4143240"/>
              <a:ext cx="31680" cy="30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9" name=""/>
            <p:cNvSpPr/>
            <p:nvPr/>
          </p:nvSpPr>
          <p:spPr>
            <a:xfrm>
              <a:off x="3790800" y="4173480"/>
              <a:ext cx="11160" cy="31680"/>
            </a:xfrm>
            <a:custGeom>
              <a:avLst/>
              <a:gdLst/>
              <a:ahLst/>
              <a:rect l="l" t="t" r="r" b="b"/>
              <a:pathLst>
                <a:path w="7" h="20">
                  <a:moveTo>
                    <a:pt x="7" y="0"/>
                  </a:move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0" y="7"/>
                  </a:lnTo>
                  <a:lnTo>
                    <a:pt x="0" y="7"/>
                  </a:lnTo>
                  <a:lnTo>
                    <a:pt x="7" y="13"/>
                  </a:lnTo>
                  <a:lnTo>
                    <a:pt x="7" y="13"/>
                  </a:lnTo>
                  <a:lnTo>
                    <a:pt x="7" y="20"/>
                  </a:lnTo>
                  <a:lnTo>
                    <a:pt x="7" y="20"/>
                  </a:lnTo>
                  <a:lnTo>
                    <a:pt x="7" y="20"/>
                  </a:lnTo>
                  <a:lnTo>
                    <a:pt x="7" y="13"/>
                  </a:lnTo>
                  <a:lnTo>
                    <a:pt x="7" y="13"/>
                  </a:lnTo>
                  <a:lnTo>
                    <a:pt x="7" y="7"/>
                  </a:lnTo>
                  <a:lnTo>
                    <a:pt x="7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0" name=""/>
            <p:cNvSpPr/>
            <p:nvPr/>
          </p:nvSpPr>
          <p:spPr>
            <a:xfrm>
              <a:off x="2514600" y="3975120"/>
              <a:ext cx="125280" cy="157320"/>
            </a:xfrm>
            <a:custGeom>
              <a:avLst/>
              <a:gdLst/>
              <a:ahLst/>
              <a:rect l="l" t="t" r="r" b="b"/>
              <a:pathLst>
                <a:path w="79" h="99">
                  <a:moveTo>
                    <a:pt x="79" y="99"/>
                  </a:moveTo>
                  <a:lnTo>
                    <a:pt x="79" y="92"/>
                  </a:lnTo>
                  <a:lnTo>
                    <a:pt x="73" y="92"/>
                  </a:lnTo>
                  <a:lnTo>
                    <a:pt x="73" y="86"/>
                  </a:lnTo>
                  <a:lnTo>
                    <a:pt x="66" y="79"/>
                  </a:lnTo>
                  <a:lnTo>
                    <a:pt x="60" y="73"/>
                  </a:lnTo>
                  <a:lnTo>
                    <a:pt x="60" y="73"/>
                  </a:lnTo>
                  <a:lnTo>
                    <a:pt x="53" y="66"/>
                  </a:lnTo>
                  <a:lnTo>
                    <a:pt x="53" y="59"/>
                  </a:lnTo>
                  <a:lnTo>
                    <a:pt x="46" y="53"/>
                  </a:lnTo>
                  <a:lnTo>
                    <a:pt x="40" y="53"/>
                  </a:lnTo>
                  <a:lnTo>
                    <a:pt x="40" y="46"/>
                  </a:lnTo>
                  <a:lnTo>
                    <a:pt x="33" y="40"/>
                  </a:lnTo>
                  <a:lnTo>
                    <a:pt x="33" y="33"/>
                  </a:lnTo>
                  <a:lnTo>
                    <a:pt x="27" y="33"/>
                  </a:lnTo>
                  <a:lnTo>
                    <a:pt x="20" y="27"/>
                  </a:lnTo>
                  <a:lnTo>
                    <a:pt x="20" y="20"/>
                  </a:lnTo>
                  <a:lnTo>
                    <a:pt x="13" y="13"/>
                  </a:lnTo>
                  <a:lnTo>
                    <a:pt x="13" y="13"/>
                  </a:lnTo>
                  <a:lnTo>
                    <a:pt x="7" y="7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1" name=""/>
            <p:cNvSpPr/>
            <p:nvPr/>
          </p:nvSpPr>
          <p:spPr>
            <a:xfrm flipV="1">
              <a:off x="3875040" y="4120920"/>
              <a:ext cx="1800" cy="11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2" name=""/>
            <p:cNvSpPr/>
            <p:nvPr/>
          </p:nvSpPr>
          <p:spPr>
            <a:xfrm>
              <a:off x="3875040" y="4048200"/>
              <a:ext cx="93600" cy="73080"/>
            </a:xfrm>
            <a:custGeom>
              <a:avLst/>
              <a:gdLst/>
              <a:ahLst/>
              <a:rect l="l" t="t" r="r" b="b"/>
              <a:pathLst>
                <a:path w="59" h="46">
                  <a:moveTo>
                    <a:pt x="0" y="46"/>
                  </a:moveTo>
                  <a:lnTo>
                    <a:pt x="6" y="40"/>
                  </a:lnTo>
                  <a:lnTo>
                    <a:pt x="13" y="40"/>
                  </a:lnTo>
                  <a:lnTo>
                    <a:pt x="26" y="46"/>
                  </a:lnTo>
                  <a:lnTo>
                    <a:pt x="33" y="46"/>
                  </a:lnTo>
                  <a:lnTo>
                    <a:pt x="39" y="46"/>
                  </a:lnTo>
                  <a:lnTo>
                    <a:pt x="46" y="46"/>
                  </a:lnTo>
                  <a:lnTo>
                    <a:pt x="53" y="40"/>
                  </a:lnTo>
                  <a:lnTo>
                    <a:pt x="59" y="33"/>
                  </a:lnTo>
                  <a:lnTo>
                    <a:pt x="59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3" y="13"/>
                  </a:lnTo>
                  <a:lnTo>
                    <a:pt x="46" y="7"/>
                  </a:lnTo>
                  <a:lnTo>
                    <a:pt x="4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3" name=""/>
            <p:cNvSpPr/>
            <p:nvPr/>
          </p:nvSpPr>
          <p:spPr>
            <a:xfrm>
              <a:off x="3948120" y="4048200"/>
              <a:ext cx="14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4" name=""/>
            <p:cNvSpPr/>
            <p:nvPr/>
          </p:nvSpPr>
          <p:spPr>
            <a:xfrm>
              <a:off x="3875040" y="3881520"/>
              <a:ext cx="73080" cy="31680"/>
            </a:xfrm>
            <a:custGeom>
              <a:avLst/>
              <a:gdLst/>
              <a:ahLst/>
              <a:rect l="l" t="t" r="r" b="b"/>
              <a:pathLst>
                <a:path w="46" h="20">
                  <a:moveTo>
                    <a:pt x="0" y="20"/>
                  </a:moveTo>
                  <a:lnTo>
                    <a:pt x="0" y="20"/>
                  </a:lnTo>
                  <a:lnTo>
                    <a:pt x="33" y="7"/>
                  </a:lnTo>
                  <a:lnTo>
                    <a:pt x="33" y="7"/>
                  </a:lnTo>
                  <a:lnTo>
                    <a:pt x="33" y="7"/>
                  </a:lnTo>
                  <a:lnTo>
                    <a:pt x="26" y="7"/>
                  </a:lnTo>
                  <a:lnTo>
                    <a:pt x="26" y="7"/>
                  </a:lnTo>
                  <a:lnTo>
                    <a:pt x="26" y="7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3" y="7"/>
                  </a:lnTo>
                  <a:lnTo>
                    <a:pt x="33" y="7"/>
                  </a:lnTo>
                  <a:lnTo>
                    <a:pt x="39" y="7"/>
                  </a:lnTo>
                  <a:lnTo>
                    <a:pt x="39" y="7"/>
                  </a:lnTo>
                  <a:lnTo>
                    <a:pt x="39" y="7"/>
                  </a:lnTo>
                  <a:lnTo>
                    <a:pt x="39" y="7"/>
                  </a:lnTo>
                  <a:lnTo>
                    <a:pt x="46" y="13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5" name=""/>
            <p:cNvSpPr/>
            <p:nvPr/>
          </p:nvSpPr>
          <p:spPr>
            <a:xfrm>
              <a:off x="3884760" y="3922560"/>
              <a:ext cx="74520" cy="52560"/>
            </a:xfrm>
            <a:custGeom>
              <a:avLst/>
              <a:gdLst/>
              <a:ahLst/>
              <a:rect l="l" t="t" r="r" b="b"/>
              <a:pathLst>
                <a:path w="47" h="33">
                  <a:moveTo>
                    <a:pt x="40" y="27"/>
                  </a:moveTo>
                  <a:lnTo>
                    <a:pt x="33" y="20"/>
                  </a:lnTo>
                  <a:lnTo>
                    <a:pt x="33" y="20"/>
                  </a:lnTo>
                  <a:lnTo>
                    <a:pt x="40" y="20"/>
                  </a:lnTo>
                  <a:lnTo>
                    <a:pt x="40" y="20"/>
                  </a:lnTo>
                  <a:lnTo>
                    <a:pt x="40" y="20"/>
                  </a:lnTo>
                  <a:lnTo>
                    <a:pt x="40" y="20"/>
                  </a:lnTo>
                  <a:lnTo>
                    <a:pt x="40" y="20"/>
                  </a:lnTo>
                  <a:lnTo>
                    <a:pt x="40" y="13"/>
                  </a:lnTo>
                  <a:lnTo>
                    <a:pt x="40" y="13"/>
                  </a:lnTo>
                  <a:lnTo>
                    <a:pt x="40" y="13"/>
                  </a:lnTo>
                  <a:lnTo>
                    <a:pt x="40" y="13"/>
                  </a:lnTo>
                  <a:lnTo>
                    <a:pt x="40" y="13"/>
                  </a:lnTo>
                  <a:lnTo>
                    <a:pt x="40" y="13"/>
                  </a:lnTo>
                  <a:lnTo>
                    <a:pt x="33" y="7"/>
                  </a:lnTo>
                  <a:lnTo>
                    <a:pt x="33" y="7"/>
                  </a:lnTo>
                  <a:lnTo>
                    <a:pt x="33" y="7"/>
                  </a:lnTo>
                  <a:lnTo>
                    <a:pt x="33" y="7"/>
                  </a:lnTo>
                  <a:lnTo>
                    <a:pt x="27" y="7"/>
                  </a:lnTo>
                  <a:lnTo>
                    <a:pt x="27" y="7"/>
                  </a:lnTo>
                  <a:lnTo>
                    <a:pt x="27" y="7"/>
                  </a:lnTo>
                  <a:lnTo>
                    <a:pt x="20" y="7"/>
                  </a:lnTo>
                  <a:lnTo>
                    <a:pt x="20" y="7"/>
                  </a:lnTo>
                  <a:lnTo>
                    <a:pt x="27" y="13"/>
                  </a:lnTo>
                  <a:lnTo>
                    <a:pt x="27" y="13"/>
                  </a:lnTo>
                  <a:lnTo>
                    <a:pt x="27" y="13"/>
                  </a:lnTo>
                  <a:lnTo>
                    <a:pt x="27" y="13"/>
                  </a:lnTo>
                  <a:lnTo>
                    <a:pt x="27" y="13"/>
                  </a:lnTo>
                  <a:lnTo>
                    <a:pt x="27" y="13"/>
                  </a:lnTo>
                  <a:lnTo>
                    <a:pt x="27" y="20"/>
                  </a:lnTo>
                  <a:lnTo>
                    <a:pt x="27" y="20"/>
                  </a:lnTo>
                  <a:lnTo>
                    <a:pt x="27" y="20"/>
                  </a:lnTo>
                  <a:lnTo>
                    <a:pt x="27" y="27"/>
                  </a:lnTo>
                  <a:lnTo>
                    <a:pt x="27" y="27"/>
                  </a:lnTo>
                  <a:lnTo>
                    <a:pt x="27" y="27"/>
                  </a:lnTo>
                  <a:lnTo>
                    <a:pt x="27" y="33"/>
                  </a:lnTo>
                  <a:lnTo>
                    <a:pt x="20" y="33"/>
                  </a:lnTo>
                  <a:lnTo>
                    <a:pt x="20" y="33"/>
                  </a:lnTo>
                  <a:lnTo>
                    <a:pt x="20" y="33"/>
                  </a:lnTo>
                  <a:lnTo>
                    <a:pt x="14" y="33"/>
                  </a:lnTo>
                  <a:lnTo>
                    <a:pt x="14" y="33"/>
                  </a:lnTo>
                  <a:lnTo>
                    <a:pt x="14" y="33"/>
                  </a:lnTo>
                  <a:lnTo>
                    <a:pt x="7" y="33"/>
                  </a:lnTo>
                  <a:lnTo>
                    <a:pt x="7" y="33"/>
                  </a:lnTo>
                  <a:lnTo>
                    <a:pt x="7" y="33"/>
                  </a:lnTo>
                  <a:lnTo>
                    <a:pt x="7" y="33"/>
                  </a:lnTo>
                  <a:lnTo>
                    <a:pt x="7" y="27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13"/>
                  </a:lnTo>
                  <a:lnTo>
                    <a:pt x="7" y="13"/>
                  </a:lnTo>
                  <a:lnTo>
                    <a:pt x="7" y="7"/>
                  </a:lnTo>
                  <a:lnTo>
                    <a:pt x="7" y="7"/>
                  </a:lnTo>
                  <a:lnTo>
                    <a:pt x="14" y="7"/>
                  </a:lnTo>
                  <a:lnTo>
                    <a:pt x="20" y="7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33" y="0"/>
                  </a:lnTo>
                  <a:lnTo>
                    <a:pt x="40" y="7"/>
                  </a:lnTo>
                  <a:lnTo>
                    <a:pt x="40" y="7"/>
                  </a:lnTo>
                  <a:lnTo>
                    <a:pt x="40" y="7"/>
                  </a:lnTo>
                  <a:lnTo>
                    <a:pt x="40" y="13"/>
                  </a:lnTo>
                  <a:lnTo>
                    <a:pt x="47" y="13"/>
                  </a:lnTo>
                  <a:lnTo>
                    <a:pt x="47" y="13"/>
                  </a:lnTo>
                  <a:lnTo>
                    <a:pt x="47" y="20"/>
                  </a:lnTo>
                  <a:lnTo>
                    <a:pt x="47" y="20"/>
                  </a:lnTo>
                  <a:lnTo>
                    <a:pt x="47" y="20"/>
                  </a:lnTo>
                  <a:lnTo>
                    <a:pt x="40" y="27"/>
                  </a:lnTo>
                  <a:lnTo>
                    <a:pt x="40" y="27"/>
                  </a:lnTo>
                  <a:lnTo>
                    <a:pt x="40" y="27"/>
                  </a:lnTo>
                  <a:lnTo>
                    <a:pt x="40" y="27"/>
                  </a:lnTo>
                  <a:close/>
                  <a:moveTo>
                    <a:pt x="14" y="13"/>
                  </a:moveTo>
                  <a:lnTo>
                    <a:pt x="14" y="13"/>
                  </a:lnTo>
                  <a:lnTo>
                    <a:pt x="14" y="13"/>
                  </a:lnTo>
                  <a:lnTo>
                    <a:pt x="7" y="13"/>
                  </a:lnTo>
                  <a:lnTo>
                    <a:pt x="7" y="13"/>
                  </a:lnTo>
                  <a:lnTo>
                    <a:pt x="7" y="13"/>
                  </a:lnTo>
                  <a:lnTo>
                    <a:pt x="7" y="13"/>
                  </a:lnTo>
                  <a:lnTo>
                    <a:pt x="7" y="20"/>
                  </a:lnTo>
                  <a:lnTo>
                    <a:pt x="7" y="20"/>
                  </a:lnTo>
                  <a:lnTo>
                    <a:pt x="7" y="20"/>
                  </a:lnTo>
                  <a:lnTo>
                    <a:pt x="7" y="20"/>
                  </a:lnTo>
                  <a:lnTo>
                    <a:pt x="7" y="20"/>
                  </a:lnTo>
                  <a:lnTo>
                    <a:pt x="7" y="20"/>
                  </a:lnTo>
                  <a:lnTo>
                    <a:pt x="7" y="27"/>
                  </a:lnTo>
                  <a:lnTo>
                    <a:pt x="7" y="27"/>
                  </a:lnTo>
                  <a:lnTo>
                    <a:pt x="7" y="27"/>
                  </a:lnTo>
                  <a:lnTo>
                    <a:pt x="7" y="27"/>
                  </a:lnTo>
                  <a:lnTo>
                    <a:pt x="14" y="27"/>
                  </a:lnTo>
                  <a:lnTo>
                    <a:pt x="14" y="27"/>
                  </a:lnTo>
                  <a:lnTo>
                    <a:pt x="14" y="27"/>
                  </a:lnTo>
                  <a:lnTo>
                    <a:pt x="20" y="27"/>
                  </a:lnTo>
                  <a:lnTo>
                    <a:pt x="20" y="27"/>
                  </a:lnTo>
                  <a:lnTo>
                    <a:pt x="20" y="27"/>
                  </a:lnTo>
                  <a:lnTo>
                    <a:pt x="20" y="27"/>
                  </a:lnTo>
                  <a:lnTo>
                    <a:pt x="27" y="27"/>
                  </a:lnTo>
                  <a:lnTo>
                    <a:pt x="27" y="20"/>
                  </a:lnTo>
                  <a:lnTo>
                    <a:pt x="27" y="20"/>
                  </a:lnTo>
                  <a:lnTo>
                    <a:pt x="27" y="20"/>
                  </a:lnTo>
                  <a:lnTo>
                    <a:pt x="27" y="20"/>
                  </a:lnTo>
                  <a:lnTo>
                    <a:pt x="27" y="13"/>
                  </a:lnTo>
                  <a:lnTo>
                    <a:pt x="20" y="13"/>
                  </a:lnTo>
                  <a:lnTo>
                    <a:pt x="20" y="13"/>
                  </a:lnTo>
                  <a:lnTo>
                    <a:pt x="20" y="13"/>
                  </a:lnTo>
                  <a:lnTo>
                    <a:pt x="20" y="13"/>
                  </a:lnTo>
                  <a:lnTo>
                    <a:pt x="20" y="13"/>
                  </a:lnTo>
                  <a:lnTo>
                    <a:pt x="14" y="13"/>
                  </a:lnTo>
                  <a:lnTo>
                    <a:pt x="14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6" name=""/>
            <p:cNvSpPr/>
            <p:nvPr/>
          </p:nvSpPr>
          <p:spPr>
            <a:xfrm>
              <a:off x="3895560" y="3975120"/>
              <a:ext cx="73080" cy="52200"/>
            </a:xfrm>
            <a:custGeom>
              <a:avLst/>
              <a:gdLst/>
              <a:ahLst/>
              <a:rect l="l" t="t" r="r" b="b"/>
              <a:pathLst>
                <a:path w="46" h="33">
                  <a:moveTo>
                    <a:pt x="20" y="7"/>
                  </a:moveTo>
                  <a:lnTo>
                    <a:pt x="26" y="0"/>
                  </a:lnTo>
                  <a:lnTo>
                    <a:pt x="26" y="0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40" y="0"/>
                  </a:lnTo>
                  <a:lnTo>
                    <a:pt x="40" y="7"/>
                  </a:lnTo>
                  <a:lnTo>
                    <a:pt x="40" y="7"/>
                  </a:lnTo>
                  <a:lnTo>
                    <a:pt x="40" y="7"/>
                  </a:lnTo>
                  <a:lnTo>
                    <a:pt x="46" y="7"/>
                  </a:lnTo>
                  <a:lnTo>
                    <a:pt x="46" y="7"/>
                  </a:lnTo>
                  <a:lnTo>
                    <a:pt x="46" y="13"/>
                  </a:lnTo>
                  <a:lnTo>
                    <a:pt x="46" y="13"/>
                  </a:lnTo>
                  <a:lnTo>
                    <a:pt x="46" y="13"/>
                  </a:lnTo>
                  <a:lnTo>
                    <a:pt x="46" y="20"/>
                  </a:lnTo>
                  <a:lnTo>
                    <a:pt x="46" y="20"/>
                  </a:lnTo>
                  <a:lnTo>
                    <a:pt x="46" y="20"/>
                  </a:lnTo>
                  <a:lnTo>
                    <a:pt x="46" y="20"/>
                  </a:lnTo>
                  <a:lnTo>
                    <a:pt x="46" y="20"/>
                  </a:lnTo>
                  <a:lnTo>
                    <a:pt x="40" y="20"/>
                  </a:lnTo>
                  <a:lnTo>
                    <a:pt x="40" y="27"/>
                  </a:lnTo>
                  <a:lnTo>
                    <a:pt x="40" y="27"/>
                  </a:lnTo>
                  <a:lnTo>
                    <a:pt x="40" y="27"/>
                  </a:lnTo>
                  <a:lnTo>
                    <a:pt x="40" y="27"/>
                  </a:lnTo>
                  <a:lnTo>
                    <a:pt x="33" y="27"/>
                  </a:lnTo>
                  <a:lnTo>
                    <a:pt x="33" y="27"/>
                  </a:lnTo>
                  <a:lnTo>
                    <a:pt x="33" y="33"/>
                  </a:lnTo>
                  <a:lnTo>
                    <a:pt x="26" y="33"/>
                  </a:lnTo>
                  <a:lnTo>
                    <a:pt x="26" y="33"/>
                  </a:lnTo>
                  <a:lnTo>
                    <a:pt x="20" y="33"/>
                  </a:lnTo>
                  <a:lnTo>
                    <a:pt x="20" y="33"/>
                  </a:lnTo>
                  <a:lnTo>
                    <a:pt x="13" y="33"/>
                  </a:lnTo>
                  <a:lnTo>
                    <a:pt x="13" y="33"/>
                  </a:lnTo>
                  <a:lnTo>
                    <a:pt x="13" y="33"/>
                  </a:lnTo>
                  <a:lnTo>
                    <a:pt x="7" y="33"/>
                  </a:lnTo>
                  <a:lnTo>
                    <a:pt x="7" y="27"/>
                  </a:lnTo>
                  <a:lnTo>
                    <a:pt x="7" y="27"/>
                  </a:lnTo>
                  <a:lnTo>
                    <a:pt x="7" y="27"/>
                  </a:lnTo>
                  <a:lnTo>
                    <a:pt x="0" y="27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13"/>
                  </a:lnTo>
                  <a:lnTo>
                    <a:pt x="7" y="13"/>
                  </a:lnTo>
                  <a:lnTo>
                    <a:pt x="7" y="7"/>
                  </a:lnTo>
                  <a:lnTo>
                    <a:pt x="13" y="7"/>
                  </a:lnTo>
                  <a:lnTo>
                    <a:pt x="13" y="7"/>
                  </a:lnTo>
                  <a:lnTo>
                    <a:pt x="20" y="7"/>
                  </a:lnTo>
                  <a:close/>
                  <a:moveTo>
                    <a:pt x="20" y="7"/>
                  </a:moveTo>
                  <a:lnTo>
                    <a:pt x="20" y="13"/>
                  </a:lnTo>
                  <a:lnTo>
                    <a:pt x="13" y="13"/>
                  </a:lnTo>
                  <a:lnTo>
                    <a:pt x="13" y="13"/>
                  </a:lnTo>
                  <a:lnTo>
                    <a:pt x="7" y="13"/>
                  </a:lnTo>
                  <a:lnTo>
                    <a:pt x="7" y="13"/>
                  </a:lnTo>
                  <a:lnTo>
                    <a:pt x="7" y="20"/>
                  </a:lnTo>
                  <a:lnTo>
                    <a:pt x="7" y="20"/>
                  </a:lnTo>
                  <a:lnTo>
                    <a:pt x="7" y="20"/>
                  </a:lnTo>
                  <a:lnTo>
                    <a:pt x="7" y="20"/>
                  </a:lnTo>
                  <a:lnTo>
                    <a:pt x="7" y="27"/>
                  </a:lnTo>
                  <a:lnTo>
                    <a:pt x="7" y="27"/>
                  </a:lnTo>
                  <a:lnTo>
                    <a:pt x="13" y="27"/>
                  </a:lnTo>
                  <a:lnTo>
                    <a:pt x="13" y="27"/>
                  </a:lnTo>
                  <a:lnTo>
                    <a:pt x="20" y="27"/>
                  </a:lnTo>
                  <a:lnTo>
                    <a:pt x="20" y="27"/>
                  </a:lnTo>
                  <a:lnTo>
                    <a:pt x="26" y="27"/>
                  </a:lnTo>
                  <a:lnTo>
                    <a:pt x="33" y="27"/>
                  </a:lnTo>
                  <a:lnTo>
                    <a:pt x="33" y="20"/>
                  </a:lnTo>
                  <a:lnTo>
                    <a:pt x="40" y="20"/>
                  </a:lnTo>
                  <a:lnTo>
                    <a:pt x="40" y="20"/>
                  </a:lnTo>
                  <a:lnTo>
                    <a:pt x="40" y="20"/>
                  </a:lnTo>
                  <a:lnTo>
                    <a:pt x="40" y="13"/>
                  </a:lnTo>
                  <a:lnTo>
                    <a:pt x="40" y="13"/>
                  </a:lnTo>
                  <a:lnTo>
                    <a:pt x="40" y="13"/>
                  </a:lnTo>
                  <a:lnTo>
                    <a:pt x="40" y="13"/>
                  </a:lnTo>
                  <a:lnTo>
                    <a:pt x="40" y="7"/>
                  </a:lnTo>
                  <a:lnTo>
                    <a:pt x="40" y="7"/>
                  </a:lnTo>
                  <a:lnTo>
                    <a:pt x="40" y="7"/>
                  </a:lnTo>
                  <a:lnTo>
                    <a:pt x="33" y="7"/>
                  </a:lnTo>
                  <a:lnTo>
                    <a:pt x="33" y="7"/>
                  </a:lnTo>
                  <a:lnTo>
                    <a:pt x="26" y="7"/>
                  </a:lnTo>
                  <a:lnTo>
                    <a:pt x="2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7" name=""/>
            <p:cNvSpPr/>
            <p:nvPr/>
          </p:nvSpPr>
          <p:spPr>
            <a:xfrm>
              <a:off x="3895560" y="3849840"/>
              <a:ext cx="18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8" name=""/>
            <p:cNvSpPr/>
            <p:nvPr/>
          </p:nvSpPr>
          <p:spPr>
            <a:xfrm>
              <a:off x="3706920" y="2711520"/>
              <a:ext cx="1203120" cy="1138320"/>
            </a:xfrm>
            <a:custGeom>
              <a:avLst/>
              <a:gdLst/>
              <a:ahLst/>
              <a:rect l="l" t="t" r="r" b="b"/>
              <a:pathLst>
                <a:path w="758" h="717">
                  <a:moveTo>
                    <a:pt x="119" y="717"/>
                  </a:moveTo>
                  <a:lnTo>
                    <a:pt x="119" y="711"/>
                  </a:lnTo>
                  <a:lnTo>
                    <a:pt x="119" y="704"/>
                  </a:lnTo>
                  <a:lnTo>
                    <a:pt x="119" y="697"/>
                  </a:lnTo>
                  <a:lnTo>
                    <a:pt x="119" y="697"/>
                  </a:lnTo>
                  <a:lnTo>
                    <a:pt x="112" y="691"/>
                  </a:lnTo>
                  <a:lnTo>
                    <a:pt x="112" y="684"/>
                  </a:lnTo>
                  <a:lnTo>
                    <a:pt x="112" y="678"/>
                  </a:lnTo>
                  <a:lnTo>
                    <a:pt x="106" y="671"/>
                  </a:lnTo>
                  <a:lnTo>
                    <a:pt x="106" y="664"/>
                  </a:lnTo>
                  <a:lnTo>
                    <a:pt x="106" y="658"/>
                  </a:lnTo>
                  <a:lnTo>
                    <a:pt x="99" y="658"/>
                  </a:lnTo>
                  <a:lnTo>
                    <a:pt x="99" y="651"/>
                  </a:lnTo>
                  <a:lnTo>
                    <a:pt x="99" y="645"/>
                  </a:lnTo>
                  <a:lnTo>
                    <a:pt x="99" y="638"/>
                  </a:lnTo>
                  <a:lnTo>
                    <a:pt x="93" y="632"/>
                  </a:lnTo>
                  <a:lnTo>
                    <a:pt x="93" y="625"/>
                  </a:lnTo>
                  <a:lnTo>
                    <a:pt x="93" y="618"/>
                  </a:lnTo>
                  <a:lnTo>
                    <a:pt x="93" y="612"/>
                  </a:lnTo>
                  <a:lnTo>
                    <a:pt x="93" y="612"/>
                  </a:lnTo>
                  <a:lnTo>
                    <a:pt x="93" y="605"/>
                  </a:lnTo>
                  <a:lnTo>
                    <a:pt x="93" y="599"/>
                  </a:lnTo>
                  <a:lnTo>
                    <a:pt x="93" y="592"/>
                  </a:lnTo>
                  <a:lnTo>
                    <a:pt x="93" y="585"/>
                  </a:lnTo>
                  <a:lnTo>
                    <a:pt x="86" y="579"/>
                  </a:lnTo>
                  <a:lnTo>
                    <a:pt x="86" y="572"/>
                  </a:lnTo>
                  <a:lnTo>
                    <a:pt x="80" y="572"/>
                  </a:lnTo>
                  <a:lnTo>
                    <a:pt x="80" y="566"/>
                  </a:lnTo>
                  <a:lnTo>
                    <a:pt x="80" y="559"/>
                  </a:lnTo>
                  <a:lnTo>
                    <a:pt x="80" y="553"/>
                  </a:lnTo>
                  <a:lnTo>
                    <a:pt x="73" y="546"/>
                  </a:lnTo>
                  <a:lnTo>
                    <a:pt x="73" y="539"/>
                  </a:lnTo>
                  <a:lnTo>
                    <a:pt x="73" y="533"/>
                  </a:lnTo>
                  <a:lnTo>
                    <a:pt x="66" y="533"/>
                  </a:lnTo>
                  <a:lnTo>
                    <a:pt x="66" y="526"/>
                  </a:lnTo>
                  <a:lnTo>
                    <a:pt x="60" y="520"/>
                  </a:lnTo>
                  <a:lnTo>
                    <a:pt x="53" y="513"/>
                  </a:lnTo>
                  <a:lnTo>
                    <a:pt x="53" y="506"/>
                  </a:lnTo>
                  <a:lnTo>
                    <a:pt x="47" y="506"/>
                  </a:lnTo>
                  <a:lnTo>
                    <a:pt x="47" y="500"/>
                  </a:lnTo>
                  <a:lnTo>
                    <a:pt x="40" y="493"/>
                  </a:lnTo>
                  <a:lnTo>
                    <a:pt x="40" y="487"/>
                  </a:lnTo>
                  <a:lnTo>
                    <a:pt x="40" y="480"/>
                  </a:lnTo>
                  <a:lnTo>
                    <a:pt x="33" y="480"/>
                  </a:lnTo>
                  <a:lnTo>
                    <a:pt x="33" y="474"/>
                  </a:lnTo>
                  <a:lnTo>
                    <a:pt x="40" y="480"/>
                  </a:lnTo>
                  <a:lnTo>
                    <a:pt x="47" y="480"/>
                  </a:lnTo>
                  <a:lnTo>
                    <a:pt x="60" y="487"/>
                  </a:lnTo>
                  <a:lnTo>
                    <a:pt x="66" y="487"/>
                  </a:lnTo>
                  <a:lnTo>
                    <a:pt x="73" y="493"/>
                  </a:lnTo>
                  <a:lnTo>
                    <a:pt x="73" y="493"/>
                  </a:lnTo>
                  <a:lnTo>
                    <a:pt x="80" y="500"/>
                  </a:lnTo>
                  <a:lnTo>
                    <a:pt x="86" y="506"/>
                  </a:lnTo>
                  <a:lnTo>
                    <a:pt x="93" y="506"/>
                  </a:lnTo>
                  <a:lnTo>
                    <a:pt x="99" y="506"/>
                  </a:lnTo>
                  <a:lnTo>
                    <a:pt x="106" y="500"/>
                  </a:lnTo>
                  <a:lnTo>
                    <a:pt x="106" y="493"/>
                  </a:lnTo>
                  <a:lnTo>
                    <a:pt x="99" y="487"/>
                  </a:lnTo>
                  <a:lnTo>
                    <a:pt x="99" y="480"/>
                  </a:lnTo>
                  <a:lnTo>
                    <a:pt x="93" y="474"/>
                  </a:lnTo>
                  <a:lnTo>
                    <a:pt x="93" y="467"/>
                  </a:lnTo>
                  <a:lnTo>
                    <a:pt x="86" y="467"/>
                  </a:lnTo>
                  <a:lnTo>
                    <a:pt x="86" y="460"/>
                  </a:lnTo>
                  <a:lnTo>
                    <a:pt x="86" y="454"/>
                  </a:lnTo>
                  <a:lnTo>
                    <a:pt x="86" y="447"/>
                  </a:lnTo>
                  <a:lnTo>
                    <a:pt x="86" y="441"/>
                  </a:lnTo>
                  <a:lnTo>
                    <a:pt x="80" y="434"/>
                  </a:lnTo>
                  <a:lnTo>
                    <a:pt x="80" y="427"/>
                  </a:lnTo>
                  <a:lnTo>
                    <a:pt x="80" y="427"/>
                  </a:lnTo>
                  <a:lnTo>
                    <a:pt x="80" y="421"/>
                  </a:lnTo>
                  <a:lnTo>
                    <a:pt x="80" y="414"/>
                  </a:lnTo>
                  <a:lnTo>
                    <a:pt x="73" y="408"/>
                  </a:lnTo>
                  <a:lnTo>
                    <a:pt x="73" y="401"/>
                  </a:lnTo>
                  <a:lnTo>
                    <a:pt x="73" y="395"/>
                  </a:lnTo>
                  <a:lnTo>
                    <a:pt x="73" y="388"/>
                  </a:lnTo>
                  <a:lnTo>
                    <a:pt x="66" y="381"/>
                  </a:lnTo>
                  <a:lnTo>
                    <a:pt x="66" y="381"/>
                  </a:lnTo>
                  <a:lnTo>
                    <a:pt x="66" y="375"/>
                  </a:lnTo>
                  <a:lnTo>
                    <a:pt x="60" y="368"/>
                  </a:lnTo>
                  <a:lnTo>
                    <a:pt x="66" y="362"/>
                  </a:lnTo>
                  <a:lnTo>
                    <a:pt x="66" y="355"/>
                  </a:lnTo>
                  <a:lnTo>
                    <a:pt x="66" y="348"/>
                  </a:lnTo>
                  <a:lnTo>
                    <a:pt x="73" y="348"/>
                  </a:lnTo>
                  <a:lnTo>
                    <a:pt x="73" y="342"/>
                  </a:lnTo>
                  <a:lnTo>
                    <a:pt x="80" y="335"/>
                  </a:lnTo>
                  <a:lnTo>
                    <a:pt x="80" y="329"/>
                  </a:lnTo>
                  <a:lnTo>
                    <a:pt x="80" y="322"/>
                  </a:lnTo>
                  <a:lnTo>
                    <a:pt x="73" y="316"/>
                  </a:lnTo>
                  <a:lnTo>
                    <a:pt x="73" y="309"/>
                  </a:lnTo>
                  <a:lnTo>
                    <a:pt x="73" y="302"/>
                  </a:lnTo>
                  <a:lnTo>
                    <a:pt x="73" y="302"/>
                  </a:lnTo>
                  <a:lnTo>
                    <a:pt x="73" y="296"/>
                  </a:lnTo>
                  <a:lnTo>
                    <a:pt x="73" y="289"/>
                  </a:lnTo>
                  <a:lnTo>
                    <a:pt x="73" y="283"/>
                  </a:lnTo>
                  <a:lnTo>
                    <a:pt x="66" y="276"/>
                  </a:lnTo>
                  <a:lnTo>
                    <a:pt x="60" y="276"/>
                  </a:lnTo>
                  <a:lnTo>
                    <a:pt x="53" y="283"/>
                  </a:lnTo>
                  <a:lnTo>
                    <a:pt x="53" y="289"/>
                  </a:lnTo>
                  <a:lnTo>
                    <a:pt x="53" y="296"/>
                  </a:lnTo>
                  <a:lnTo>
                    <a:pt x="53" y="302"/>
                  </a:lnTo>
                  <a:lnTo>
                    <a:pt x="53" y="309"/>
                  </a:lnTo>
                  <a:lnTo>
                    <a:pt x="47" y="309"/>
                  </a:lnTo>
                  <a:lnTo>
                    <a:pt x="40" y="316"/>
                  </a:lnTo>
                  <a:lnTo>
                    <a:pt x="33" y="316"/>
                  </a:lnTo>
                  <a:lnTo>
                    <a:pt x="27" y="322"/>
                  </a:lnTo>
                  <a:lnTo>
                    <a:pt x="20" y="322"/>
                  </a:lnTo>
                  <a:lnTo>
                    <a:pt x="14" y="329"/>
                  </a:lnTo>
                  <a:lnTo>
                    <a:pt x="7" y="335"/>
                  </a:lnTo>
                  <a:lnTo>
                    <a:pt x="0" y="335"/>
                  </a:lnTo>
                  <a:lnTo>
                    <a:pt x="0" y="329"/>
                  </a:lnTo>
                  <a:lnTo>
                    <a:pt x="7" y="322"/>
                  </a:lnTo>
                  <a:lnTo>
                    <a:pt x="7" y="316"/>
                  </a:lnTo>
                  <a:lnTo>
                    <a:pt x="7" y="316"/>
                  </a:lnTo>
                  <a:lnTo>
                    <a:pt x="7" y="309"/>
                  </a:lnTo>
                  <a:lnTo>
                    <a:pt x="7" y="302"/>
                  </a:lnTo>
                  <a:lnTo>
                    <a:pt x="7" y="296"/>
                  </a:lnTo>
                  <a:lnTo>
                    <a:pt x="14" y="289"/>
                  </a:lnTo>
                  <a:lnTo>
                    <a:pt x="14" y="283"/>
                  </a:lnTo>
                  <a:lnTo>
                    <a:pt x="20" y="276"/>
                  </a:lnTo>
                  <a:lnTo>
                    <a:pt x="20" y="276"/>
                  </a:lnTo>
                  <a:lnTo>
                    <a:pt x="27" y="269"/>
                  </a:lnTo>
                  <a:lnTo>
                    <a:pt x="33" y="263"/>
                  </a:lnTo>
                  <a:lnTo>
                    <a:pt x="40" y="263"/>
                  </a:lnTo>
                  <a:lnTo>
                    <a:pt x="47" y="256"/>
                  </a:lnTo>
                  <a:lnTo>
                    <a:pt x="53" y="250"/>
                  </a:lnTo>
                  <a:lnTo>
                    <a:pt x="53" y="250"/>
                  </a:lnTo>
                  <a:lnTo>
                    <a:pt x="60" y="243"/>
                  </a:lnTo>
                  <a:lnTo>
                    <a:pt x="66" y="237"/>
                  </a:lnTo>
                  <a:lnTo>
                    <a:pt x="73" y="230"/>
                  </a:lnTo>
                  <a:lnTo>
                    <a:pt x="73" y="230"/>
                  </a:lnTo>
                  <a:lnTo>
                    <a:pt x="80" y="223"/>
                  </a:lnTo>
                  <a:lnTo>
                    <a:pt x="86" y="217"/>
                  </a:lnTo>
                  <a:lnTo>
                    <a:pt x="93" y="210"/>
                  </a:lnTo>
                  <a:lnTo>
                    <a:pt x="99" y="210"/>
                  </a:lnTo>
                  <a:lnTo>
                    <a:pt x="99" y="204"/>
                  </a:lnTo>
                  <a:lnTo>
                    <a:pt x="106" y="197"/>
                  </a:lnTo>
                  <a:lnTo>
                    <a:pt x="112" y="197"/>
                  </a:lnTo>
                  <a:lnTo>
                    <a:pt x="112" y="190"/>
                  </a:lnTo>
                  <a:lnTo>
                    <a:pt x="112" y="184"/>
                  </a:lnTo>
                  <a:lnTo>
                    <a:pt x="119" y="177"/>
                  </a:lnTo>
                  <a:lnTo>
                    <a:pt x="132" y="177"/>
                  </a:lnTo>
                  <a:lnTo>
                    <a:pt x="139" y="171"/>
                  </a:lnTo>
                  <a:lnTo>
                    <a:pt x="145" y="171"/>
                  </a:lnTo>
                  <a:lnTo>
                    <a:pt x="152" y="171"/>
                  </a:lnTo>
                  <a:lnTo>
                    <a:pt x="165" y="164"/>
                  </a:lnTo>
                  <a:lnTo>
                    <a:pt x="172" y="164"/>
                  </a:lnTo>
                  <a:lnTo>
                    <a:pt x="178" y="164"/>
                  </a:lnTo>
                  <a:lnTo>
                    <a:pt x="185" y="158"/>
                  </a:lnTo>
                  <a:lnTo>
                    <a:pt x="198" y="158"/>
                  </a:lnTo>
                  <a:lnTo>
                    <a:pt x="205" y="151"/>
                  </a:lnTo>
                  <a:lnTo>
                    <a:pt x="211" y="151"/>
                  </a:lnTo>
                  <a:lnTo>
                    <a:pt x="218" y="151"/>
                  </a:lnTo>
                  <a:lnTo>
                    <a:pt x="231" y="151"/>
                  </a:lnTo>
                  <a:lnTo>
                    <a:pt x="238" y="151"/>
                  </a:lnTo>
                  <a:lnTo>
                    <a:pt x="244" y="144"/>
                  </a:lnTo>
                  <a:lnTo>
                    <a:pt x="257" y="144"/>
                  </a:lnTo>
                  <a:lnTo>
                    <a:pt x="257" y="138"/>
                  </a:lnTo>
                  <a:lnTo>
                    <a:pt x="271" y="138"/>
                  </a:lnTo>
                  <a:lnTo>
                    <a:pt x="277" y="138"/>
                  </a:lnTo>
                  <a:lnTo>
                    <a:pt x="284" y="131"/>
                  </a:lnTo>
                  <a:lnTo>
                    <a:pt x="290" y="131"/>
                  </a:lnTo>
                  <a:lnTo>
                    <a:pt x="304" y="125"/>
                  </a:lnTo>
                  <a:lnTo>
                    <a:pt x="310" y="125"/>
                  </a:lnTo>
                  <a:lnTo>
                    <a:pt x="317" y="125"/>
                  </a:lnTo>
                  <a:lnTo>
                    <a:pt x="323" y="125"/>
                  </a:lnTo>
                  <a:lnTo>
                    <a:pt x="337" y="125"/>
                  </a:lnTo>
                  <a:lnTo>
                    <a:pt x="343" y="118"/>
                  </a:lnTo>
                  <a:lnTo>
                    <a:pt x="350" y="118"/>
                  </a:lnTo>
                  <a:lnTo>
                    <a:pt x="356" y="111"/>
                  </a:lnTo>
                  <a:lnTo>
                    <a:pt x="363" y="111"/>
                  </a:lnTo>
                  <a:lnTo>
                    <a:pt x="376" y="111"/>
                  </a:lnTo>
                  <a:lnTo>
                    <a:pt x="383" y="105"/>
                  </a:lnTo>
                  <a:lnTo>
                    <a:pt x="389" y="105"/>
                  </a:lnTo>
                  <a:lnTo>
                    <a:pt x="396" y="98"/>
                  </a:lnTo>
                  <a:lnTo>
                    <a:pt x="409" y="98"/>
                  </a:lnTo>
                  <a:lnTo>
                    <a:pt x="416" y="98"/>
                  </a:lnTo>
                  <a:lnTo>
                    <a:pt x="422" y="98"/>
                  </a:lnTo>
                  <a:lnTo>
                    <a:pt x="435" y="98"/>
                  </a:lnTo>
                  <a:lnTo>
                    <a:pt x="442" y="105"/>
                  </a:lnTo>
                  <a:lnTo>
                    <a:pt x="449" y="105"/>
                  </a:lnTo>
                  <a:lnTo>
                    <a:pt x="455" y="98"/>
                  </a:lnTo>
                  <a:lnTo>
                    <a:pt x="455" y="92"/>
                  </a:lnTo>
                  <a:lnTo>
                    <a:pt x="462" y="85"/>
                  </a:lnTo>
                  <a:lnTo>
                    <a:pt x="468" y="85"/>
                  </a:lnTo>
                  <a:lnTo>
                    <a:pt x="475" y="79"/>
                  </a:lnTo>
                  <a:lnTo>
                    <a:pt x="481" y="79"/>
                  </a:lnTo>
                  <a:lnTo>
                    <a:pt x="488" y="72"/>
                  </a:lnTo>
                  <a:lnTo>
                    <a:pt x="501" y="72"/>
                  </a:lnTo>
                  <a:lnTo>
                    <a:pt x="508" y="72"/>
                  </a:lnTo>
                  <a:lnTo>
                    <a:pt x="514" y="72"/>
                  </a:lnTo>
                  <a:lnTo>
                    <a:pt x="521" y="72"/>
                  </a:lnTo>
                  <a:lnTo>
                    <a:pt x="534" y="79"/>
                  </a:lnTo>
                  <a:lnTo>
                    <a:pt x="541" y="79"/>
                  </a:lnTo>
                  <a:lnTo>
                    <a:pt x="547" y="79"/>
                  </a:lnTo>
                  <a:lnTo>
                    <a:pt x="554" y="85"/>
                  </a:lnTo>
                  <a:lnTo>
                    <a:pt x="561" y="85"/>
                  </a:lnTo>
                  <a:lnTo>
                    <a:pt x="574" y="85"/>
                  </a:lnTo>
                  <a:lnTo>
                    <a:pt x="574" y="79"/>
                  </a:lnTo>
                  <a:lnTo>
                    <a:pt x="574" y="72"/>
                  </a:lnTo>
                  <a:lnTo>
                    <a:pt x="567" y="65"/>
                  </a:lnTo>
                  <a:lnTo>
                    <a:pt x="567" y="59"/>
                  </a:lnTo>
                  <a:lnTo>
                    <a:pt x="567" y="59"/>
                  </a:lnTo>
                  <a:lnTo>
                    <a:pt x="567" y="52"/>
                  </a:lnTo>
                  <a:lnTo>
                    <a:pt x="580" y="46"/>
                  </a:lnTo>
                  <a:lnTo>
                    <a:pt x="587" y="46"/>
                  </a:lnTo>
                  <a:lnTo>
                    <a:pt x="593" y="46"/>
                  </a:lnTo>
                  <a:lnTo>
                    <a:pt x="607" y="46"/>
                  </a:lnTo>
                  <a:lnTo>
                    <a:pt x="613" y="46"/>
                  </a:lnTo>
                  <a:lnTo>
                    <a:pt x="620" y="46"/>
                  </a:lnTo>
                  <a:lnTo>
                    <a:pt x="626" y="52"/>
                  </a:lnTo>
                  <a:lnTo>
                    <a:pt x="640" y="52"/>
                  </a:lnTo>
                  <a:lnTo>
                    <a:pt x="646" y="59"/>
                  </a:lnTo>
                  <a:lnTo>
                    <a:pt x="653" y="52"/>
                  </a:lnTo>
                  <a:lnTo>
                    <a:pt x="653" y="46"/>
                  </a:lnTo>
                  <a:lnTo>
                    <a:pt x="659" y="39"/>
                  </a:lnTo>
                  <a:lnTo>
                    <a:pt x="659" y="39"/>
                  </a:lnTo>
                  <a:lnTo>
                    <a:pt x="666" y="32"/>
                  </a:lnTo>
                  <a:lnTo>
                    <a:pt x="666" y="26"/>
                  </a:lnTo>
                  <a:lnTo>
                    <a:pt x="673" y="19"/>
                  </a:lnTo>
                  <a:lnTo>
                    <a:pt x="679" y="19"/>
                  </a:lnTo>
                  <a:lnTo>
                    <a:pt x="686" y="13"/>
                  </a:lnTo>
                  <a:lnTo>
                    <a:pt x="699" y="13"/>
                  </a:lnTo>
                  <a:lnTo>
                    <a:pt x="706" y="13"/>
                  </a:lnTo>
                  <a:lnTo>
                    <a:pt x="712" y="13"/>
                  </a:lnTo>
                  <a:lnTo>
                    <a:pt x="719" y="13"/>
                  </a:lnTo>
                  <a:lnTo>
                    <a:pt x="732" y="13"/>
                  </a:lnTo>
                  <a:lnTo>
                    <a:pt x="738" y="13"/>
                  </a:lnTo>
                  <a:lnTo>
                    <a:pt x="745" y="6"/>
                  </a:lnTo>
                  <a:lnTo>
                    <a:pt x="752" y="6"/>
                  </a:lnTo>
                  <a:lnTo>
                    <a:pt x="75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9" name=""/>
            <p:cNvSpPr/>
            <p:nvPr/>
          </p:nvSpPr>
          <p:spPr>
            <a:xfrm>
              <a:off x="2587680" y="3316320"/>
              <a:ext cx="95040" cy="9504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40" y="0"/>
                  </a:moveTo>
                  <a:lnTo>
                    <a:pt x="53" y="7"/>
                  </a:lnTo>
                  <a:lnTo>
                    <a:pt x="60" y="7"/>
                  </a:lnTo>
                  <a:lnTo>
                    <a:pt x="60" y="14"/>
                  </a:lnTo>
                  <a:lnTo>
                    <a:pt x="60" y="14"/>
                  </a:lnTo>
                  <a:lnTo>
                    <a:pt x="60" y="20"/>
                  </a:lnTo>
                  <a:lnTo>
                    <a:pt x="53" y="27"/>
                  </a:lnTo>
                  <a:lnTo>
                    <a:pt x="47" y="33"/>
                  </a:lnTo>
                  <a:lnTo>
                    <a:pt x="40" y="33"/>
                  </a:lnTo>
                  <a:lnTo>
                    <a:pt x="33" y="40"/>
                  </a:lnTo>
                  <a:lnTo>
                    <a:pt x="27" y="46"/>
                  </a:lnTo>
                  <a:lnTo>
                    <a:pt x="27" y="53"/>
                  </a:lnTo>
                  <a:lnTo>
                    <a:pt x="20" y="53"/>
                  </a:lnTo>
                  <a:lnTo>
                    <a:pt x="14" y="60"/>
                  </a:lnTo>
                  <a:lnTo>
                    <a:pt x="7" y="60"/>
                  </a:lnTo>
                  <a:lnTo>
                    <a:pt x="7" y="53"/>
                  </a:lnTo>
                  <a:lnTo>
                    <a:pt x="0" y="46"/>
                  </a:lnTo>
                  <a:lnTo>
                    <a:pt x="0" y="4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0" name=""/>
            <p:cNvSpPr/>
            <p:nvPr/>
          </p:nvSpPr>
          <p:spPr>
            <a:xfrm>
              <a:off x="2336760" y="372420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0" y="7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0" y="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1" name=""/>
            <p:cNvSpPr/>
            <p:nvPr/>
          </p:nvSpPr>
          <p:spPr>
            <a:xfrm flipV="1">
              <a:off x="2462040" y="3901680"/>
              <a:ext cx="11160" cy="11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2" name=""/>
            <p:cNvSpPr/>
            <p:nvPr/>
          </p:nvSpPr>
          <p:spPr>
            <a:xfrm>
              <a:off x="2473200" y="3860640"/>
              <a:ext cx="470160" cy="250920"/>
            </a:xfrm>
            <a:custGeom>
              <a:avLst/>
              <a:gdLst/>
              <a:ahLst/>
              <a:rect l="l" t="t" r="r" b="b"/>
              <a:pathLst>
                <a:path w="296" h="158">
                  <a:moveTo>
                    <a:pt x="0" y="26"/>
                  </a:moveTo>
                  <a:lnTo>
                    <a:pt x="6" y="20"/>
                  </a:lnTo>
                  <a:lnTo>
                    <a:pt x="6" y="20"/>
                  </a:lnTo>
                  <a:lnTo>
                    <a:pt x="13" y="13"/>
                  </a:lnTo>
                  <a:lnTo>
                    <a:pt x="13" y="6"/>
                  </a:lnTo>
                  <a:lnTo>
                    <a:pt x="20" y="0"/>
                  </a:lnTo>
                  <a:lnTo>
                    <a:pt x="26" y="0"/>
                  </a:lnTo>
                  <a:lnTo>
                    <a:pt x="39" y="0"/>
                  </a:lnTo>
                  <a:lnTo>
                    <a:pt x="46" y="0"/>
                  </a:lnTo>
                  <a:lnTo>
                    <a:pt x="53" y="0"/>
                  </a:lnTo>
                  <a:lnTo>
                    <a:pt x="66" y="0"/>
                  </a:lnTo>
                  <a:lnTo>
                    <a:pt x="72" y="0"/>
                  </a:lnTo>
                  <a:lnTo>
                    <a:pt x="79" y="0"/>
                  </a:lnTo>
                  <a:lnTo>
                    <a:pt x="86" y="0"/>
                  </a:lnTo>
                  <a:lnTo>
                    <a:pt x="92" y="6"/>
                  </a:lnTo>
                  <a:lnTo>
                    <a:pt x="99" y="13"/>
                  </a:lnTo>
                  <a:lnTo>
                    <a:pt x="99" y="20"/>
                  </a:lnTo>
                  <a:lnTo>
                    <a:pt x="105" y="26"/>
                  </a:lnTo>
                  <a:lnTo>
                    <a:pt x="105" y="26"/>
                  </a:lnTo>
                  <a:lnTo>
                    <a:pt x="112" y="33"/>
                  </a:lnTo>
                  <a:lnTo>
                    <a:pt x="119" y="26"/>
                  </a:lnTo>
                  <a:lnTo>
                    <a:pt x="125" y="26"/>
                  </a:lnTo>
                  <a:lnTo>
                    <a:pt x="138" y="26"/>
                  </a:lnTo>
                  <a:lnTo>
                    <a:pt x="145" y="26"/>
                  </a:lnTo>
                  <a:lnTo>
                    <a:pt x="145" y="33"/>
                  </a:lnTo>
                  <a:lnTo>
                    <a:pt x="138" y="39"/>
                  </a:lnTo>
                  <a:lnTo>
                    <a:pt x="132" y="46"/>
                  </a:lnTo>
                  <a:lnTo>
                    <a:pt x="132" y="46"/>
                  </a:lnTo>
                  <a:lnTo>
                    <a:pt x="125" y="52"/>
                  </a:lnTo>
                  <a:lnTo>
                    <a:pt x="125" y="59"/>
                  </a:lnTo>
                  <a:lnTo>
                    <a:pt x="132" y="66"/>
                  </a:lnTo>
                  <a:lnTo>
                    <a:pt x="138" y="72"/>
                  </a:lnTo>
                  <a:lnTo>
                    <a:pt x="145" y="72"/>
                  </a:lnTo>
                  <a:lnTo>
                    <a:pt x="151" y="72"/>
                  </a:lnTo>
                  <a:lnTo>
                    <a:pt x="158" y="66"/>
                  </a:lnTo>
                  <a:lnTo>
                    <a:pt x="165" y="66"/>
                  </a:lnTo>
                  <a:lnTo>
                    <a:pt x="171" y="59"/>
                  </a:lnTo>
                  <a:lnTo>
                    <a:pt x="178" y="59"/>
                  </a:lnTo>
                  <a:lnTo>
                    <a:pt x="184" y="52"/>
                  </a:lnTo>
                  <a:lnTo>
                    <a:pt x="191" y="46"/>
                  </a:lnTo>
                  <a:lnTo>
                    <a:pt x="198" y="46"/>
                  </a:lnTo>
                  <a:lnTo>
                    <a:pt x="204" y="46"/>
                  </a:lnTo>
                  <a:lnTo>
                    <a:pt x="211" y="46"/>
                  </a:lnTo>
                  <a:lnTo>
                    <a:pt x="224" y="46"/>
                  </a:lnTo>
                  <a:lnTo>
                    <a:pt x="231" y="46"/>
                  </a:lnTo>
                  <a:lnTo>
                    <a:pt x="237" y="46"/>
                  </a:lnTo>
                  <a:lnTo>
                    <a:pt x="250" y="46"/>
                  </a:lnTo>
                  <a:lnTo>
                    <a:pt x="257" y="46"/>
                  </a:lnTo>
                  <a:lnTo>
                    <a:pt x="263" y="52"/>
                  </a:lnTo>
                  <a:lnTo>
                    <a:pt x="270" y="59"/>
                  </a:lnTo>
                  <a:lnTo>
                    <a:pt x="270" y="59"/>
                  </a:lnTo>
                  <a:lnTo>
                    <a:pt x="270" y="66"/>
                  </a:lnTo>
                  <a:lnTo>
                    <a:pt x="270" y="72"/>
                  </a:lnTo>
                  <a:lnTo>
                    <a:pt x="263" y="79"/>
                  </a:lnTo>
                  <a:lnTo>
                    <a:pt x="257" y="79"/>
                  </a:lnTo>
                  <a:lnTo>
                    <a:pt x="250" y="85"/>
                  </a:lnTo>
                  <a:lnTo>
                    <a:pt x="250" y="92"/>
                  </a:lnTo>
                  <a:lnTo>
                    <a:pt x="250" y="99"/>
                  </a:lnTo>
                  <a:lnTo>
                    <a:pt x="250" y="105"/>
                  </a:lnTo>
                  <a:lnTo>
                    <a:pt x="244" y="105"/>
                  </a:lnTo>
                  <a:lnTo>
                    <a:pt x="244" y="112"/>
                  </a:lnTo>
                  <a:lnTo>
                    <a:pt x="244" y="118"/>
                  </a:lnTo>
                  <a:lnTo>
                    <a:pt x="250" y="125"/>
                  </a:lnTo>
                  <a:lnTo>
                    <a:pt x="257" y="125"/>
                  </a:lnTo>
                  <a:lnTo>
                    <a:pt x="257" y="131"/>
                  </a:lnTo>
                  <a:lnTo>
                    <a:pt x="263" y="138"/>
                  </a:lnTo>
                  <a:lnTo>
                    <a:pt x="270" y="145"/>
                  </a:lnTo>
                  <a:lnTo>
                    <a:pt x="270" y="145"/>
                  </a:lnTo>
                  <a:lnTo>
                    <a:pt x="277" y="151"/>
                  </a:lnTo>
                  <a:lnTo>
                    <a:pt x="283" y="151"/>
                  </a:lnTo>
                  <a:lnTo>
                    <a:pt x="296" y="15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3" name=""/>
            <p:cNvSpPr/>
            <p:nvPr/>
          </p:nvSpPr>
          <p:spPr>
            <a:xfrm>
              <a:off x="2943360" y="4111560"/>
              <a:ext cx="14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4" name=""/>
            <p:cNvSpPr/>
            <p:nvPr/>
          </p:nvSpPr>
          <p:spPr>
            <a:xfrm>
              <a:off x="2954160" y="4048200"/>
              <a:ext cx="52560" cy="63360"/>
            </a:xfrm>
            <a:custGeom>
              <a:avLst/>
              <a:gdLst/>
              <a:ahLst/>
              <a:rect l="l" t="t" r="r" b="b"/>
              <a:pathLst>
                <a:path w="33" h="40">
                  <a:moveTo>
                    <a:pt x="33" y="33"/>
                  </a:moveTo>
                  <a:lnTo>
                    <a:pt x="26" y="40"/>
                  </a:lnTo>
                  <a:lnTo>
                    <a:pt x="7" y="13"/>
                  </a:lnTo>
                  <a:lnTo>
                    <a:pt x="7" y="13"/>
                  </a:lnTo>
                  <a:lnTo>
                    <a:pt x="7" y="13"/>
                  </a:lnTo>
                  <a:lnTo>
                    <a:pt x="7" y="13"/>
                  </a:lnTo>
                  <a:lnTo>
                    <a:pt x="7" y="13"/>
                  </a:lnTo>
                  <a:lnTo>
                    <a:pt x="7" y="20"/>
                  </a:lnTo>
                  <a:lnTo>
                    <a:pt x="7" y="20"/>
                  </a:lnTo>
                  <a:lnTo>
                    <a:pt x="7" y="20"/>
                  </a:lnTo>
                  <a:lnTo>
                    <a:pt x="7" y="20"/>
                  </a:lnTo>
                  <a:lnTo>
                    <a:pt x="0" y="20"/>
                  </a:lnTo>
                  <a:lnTo>
                    <a:pt x="0" y="13"/>
                  </a:lnTo>
                  <a:lnTo>
                    <a:pt x="7" y="13"/>
                  </a:lnTo>
                  <a:lnTo>
                    <a:pt x="7" y="13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33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5" name=""/>
            <p:cNvSpPr/>
            <p:nvPr/>
          </p:nvSpPr>
          <p:spPr>
            <a:xfrm>
              <a:off x="2995560" y="4017960"/>
              <a:ext cx="52560" cy="73080"/>
            </a:xfrm>
            <a:custGeom>
              <a:avLst/>
              <a:gdLst/>
              <a:ahLst/>
              <a:rect l="l" t="t" r="r" b="b"/>
              <a:pathLst>
                <a:path w="33" h="46">
                  <a:moveTo>
                    <a:pt x="20" y="6"/>
                  </a:moveTo>
                  <a:lnTo>
                    <a:pt x="20" y="13"/>
                  </a:lnTo>
                  <a:lnTo>
                    <a:pt x="20" y="6"/>
                  </a:lnTo>
                  <a:lnTo>
                    <a:pt x="20" y="6"/>
                  </a:lnTo>
                  <a:lnTo>
                    <a:pt x="14" y="6"/>
                  </a:lnTo>
                  <a:lnTo>
                    <a:pt x="14" y="6"/>
                  </a:lnTo>
                  <a:lnTo>
                    <a:pt x="14" y="6"/>
                  </a:lnTo>
                  <a:lnTo>
                    <a:pt x="14" y="6"/>
                  </a:lnTo>
                  <a:lnTo>
                    <a:pt x="14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13"/>
                  </a:lnTo>
                  <a:lnTo>
                    <a:pt x="7" y="13"/>
                  </a:lnTo>
                  <a:lnTo>
                    <a:pt x="7" y="13"/>
                  </a:lnTo>
                  <a:lnTo>
                    <a:pt x="7" y="13"/>
                  </a:lnTo>
                  <a:lnTo>
                    <a:pt x="7" y="13"/>
                  </a:lnTo>
                  <a:lnTo>
                    <a:pt x="7" y="19"/>
                  </a:lnTo>
                  <a:lnTo>
                    <a:pt x="7" y="19"/>
                  </a:lnTo>
                  <a:lnTo>
                    <a:pt x="7" y="19"/>
                  </a:lnTo>
                  <a:lnTo>
                    <a:pt x="7" y="26"/>
                  </a:lnTo>
                  <a:lnTo>
                    <a:pt x="7" y="26"/>
                  </a:lnTo>
                  <a:lnTo>
                    <a:pt x="7" y="26"/>
                  </a:lnTo>
                  <a:lnTo>
                    <a:pt x="7" y="26"/>
                  </a:lnTo>
                  <a:lnTo>
                    <a:pt x="14" y="19"/>
                  </a:lnTo>
                  <a:lnTo>
                    <a:pt x="14" y="19"/>
                  </a:lnTo>
                  <a:lnTo>
                    <a:pt x="14" y="19"/>
                  </a:lnTo>
                  <a:lnTo>
                    <a:pt x="14" y="19"/>
                  </a:lnTo>
                  <a:lnTo>
                    <a:pt x="14" y="19"/>
                  </a:lnTo>
                  <a:lnTo>
                    <a:pt x="14" y="19"/>
                  </a:lnTo>
                  <a:lnTo>
                    <a:pt x="20" y="13"/>
                  </a:lnTo>
                  <a:lnTo>
                    <a:pt x="20" y="13"/>
                  </a:lnTo>
                  <a:lnTo>
                    <a:pt x="20" y="13"/>
                  </a:lnTo>
                  <a:lnTo>
                    <a:pt x="27" y="13"/>
                  </a:lnTo>
                  <a:lnTo>
                    <a:pt x="27" y="19"/>
                  </a:lnTo>
                  <a:lnTo>
                    <a:pt x="27" y="19"/>
                  </a:lnTo>
                  <a:lnTo>
                    <a:pt x="33" y="19"/>
                  </a:lnTo>
                  <a:lnTo>
                    <a:pt x="33" y="19"/>
                  </a:lnTo>
                  <a:lnTo>
                    <a:pt x="33" y="26"/>
                  </a:lnTo>
                  <a:lnTo>
                    <a:pt x="33" y="26"/>
                  </a:lnTo>
                  <a:lnTo>
                    <a:pt x="33" y="26"/>
                  </a:lnTo>
                  <a:lnTo>
                    <a:pt x="33" y="32"/>
                  </a:lnTo>
                  <a:lnTo>
                    <a:pt x="33" y="32"/>
                  </a:lnTo>
                  <a:lnTo>
                    <a:pt x="33" y="32"/>
                  </a:lnTo>
                  <a:lnTo>
                    <a:pt x="33" y="32"/>
                  </a:lnTo>
                  <a:lnTo>
                    <a:pt x="33" y="39"/>
                  </a:lnTo>
                  <a:lnTo>
                    <a:pt x="33" y="39"/>
                  </a:lnTo>
                  <a:lnTo>
                    <a:pt x="33" y="39"/>
                  </a:lnTo>
                  <a:lnTo>
                    <a:pt x="33" y="39"/>
                  </a:lnTo>
                  <a:lnTo>
                    <a:pt x="27" y="39"/>
                  </a:lnTo>
                  <a:lnTo>
                    <a:pt x="27" y="46"/>
                  </a:lnTo>
                  <a:lnTo>
                    <a:pt x="27" y="46"/>
                  </a:lnTo>
                  <a:lnTo>
                    <a:pt x="20" y="46"/>
                  </a:lnTo>
                  <a:lnTo>
                    <a:pt x="20" y="46"/>
                  </a:lnTo>
                  <a:lnTo>
                    <a:pt x="14" y="39"/>
                  </a:lnTo>
                  <a:lnTo>
                    <a:pt x="14" y="39"/>
                  </a:lnTo>
                  <a:lnTo>
                    <a:pt x="7" y="32"/>
                  </a:lnTo>
                  <a:lnTo>
                    <a:pt x="7" y="32"/>
                  </a:lnTo>
                  <a:lnTo>
                    <a:pt x="0" y="26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20" y="0"/>
                  </a:lnTo>
                  <a:lnTo>
                    <a:pt x="20" y="6"/>
                  </a:lnTo>
                  <a:lnTo>
                    <a:pt x="20" y="6"/>
                  </a:lnTo>
                  <a:lnTo>
                    <a:pt x="20" y="6"/>
                  </a:lnTo>
                  <a:close/>
                  <a:moveTo>
                    <a:pt x="14" y="32"/>
                  </a:moveTo>
                  <a:lnTo>
                    <a:pt x="14" y="32"/>
                  </a:lnTo>
                  <a:lnTo>
                    <a:pt x="14" y="32"/>
                  </a:lnTo>
                  <a:lnTo>
                    <a:pt x="20" y="39"/>
                  </a:lnTo>
                  <a:lnTo>
                    <a:pt x="20" y="39"/>
                  </a:lnTo>
                  <a:lnTo>
                    <a:pt x="20" y="39"/>
                  </a:lnTo>
                  <a:lnTo>
                    <a:pt x="20" y="39"/>
                  </a:lnTo>
                  <a:lnTo>
                    <a:pt x="20" y="39"/>
                  </a:lnTo>
                  <a:lnTo>
                    <a:pt x="20" y="39"/>
                  </a:lnTo>
                  <a:lnTo>
                    <a:pt x="27" y="39"/>
                  </a:lnTo>
                  <a:lnTo>
                    <a:pt x="27" y="39"/>
                  </a:lnTo>
                  <a:lnTo>
                    <a:pt x="27" y="39"/>
                  </a:lnTo>
                  <a:lnTo>
                    <a:pt x="27" y="39"/>
                  </a:lnTo>
                  <a:lnTo>
                    <a:pt x="27" y="39"/>
                  </a:lnTo>
                  <a:lnTo>
                    <a:pt x="27" y="32"/>
                  </a:lnTo>
                  <a:lnTo>
                    <a:pt x="33" y="32"/>
                  </a:lnTo>
                  <a:lnTo>
                    <a:pt x="33" y="32"/>
                  </a:lnTo>
                  <a:lnTo>
                    <a:pt x="33" y="32"/>
                  </a:lnTo>
                  <a:lnTo>
                    <a:pt x="33" y="26"/>
                  </a:lnTo>
                  <a:lnTo>
                    <a:pt x="33" y="26"/>
                  </a:lnTo>
                  <a:lnTo>
                    <a:pt x="27" y="26"/>
                  </a:lnTo>
                  <a:lnTo>
                    <a:pt x="27" y="26"/>
                  </a:lnTo>
                  <a:lnTo>
                    <a:pt x="27" y="19"/>
                  </a:lnTo>
                  <a:lnTo>
                    <a:pt x="27" y="19"/>
                  </a:lnTo>
                  <a:lnTo>
                    <a:pt x="27" y="19"/>
                  </a:lnTo>
                  <a:lnTo>
                    <a:pt x="20" y="19"/>
                  </a:lnTo>
                  <a:lnTo>
                    <a:pt x="20" y="19"/>
                  </a:lnTo>
                  <a:lnTo>
                    <a:pt x="20" y="19"/>
                  </a:lnTo>
                  <a:lnTo>
                    <a:pt x="20" y="19"/>
                  </a:lnTo>
                  <a:lnTo>
                    <a:pt x="14" y="19"/>
                  </a:lnTo>
                  <a:lnTo>
                    <a:pt x="14" y="26"/>
                  </a:lnTo>
                  <a:lnTo>
                    <a:pt x="14" y="26"/>
                  </a:lnTo>
                  <a:lnTo>
                    <a:pt x="14" y="26"/>
                  </a:lnTo>
                  <a:lnTo>
                    <a:pt x="14" y="26"/>
                  </a:lnTo>
                  <a:lnTo>
                    <a:pt x="14" y="32"/>
                  </a:lnTo>
                  <a:lnTo>
                    <a:pt x="14" y="32"/>
                  </a:lnTo>
                  <a:lnTo>
                    <a:pt x="14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6" name=""/>
            <p:cNvSpPr/>
            <p:nvPr/>
          </p:nvSpPr>
          <p:spPr>
            <a:xfrm>
              <a:off x="3038400" y="3995640"/>
              <a:ext cx="61920" cy="63720"/>
            </a:xfrm>
            <a:custGeom>
              <a:avLst/>
              <a:gdLst/>
              <a:ahLst/>
              <a:rect l="l" t="t" r="r" b="b"/>
              <a:pathLst>
                <a:path w="39" h="40">
                  <a:moveTo>
                    <a:pt x="6" y="27"/>
                  </a:moveTo>
                  <a:lnTo>
                    <a:pt x="6" y="27"/>
                  </a:lnTo>
                  <a:lnTo>
                    <a:pt x="6" y="20"/>
                  </a:lnTo>
                  <a:lnTo>
                    <a:pt x="0" y="20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7"/>
                  </a:lnTo>
                  <a:lnTo>
                    <a:pt x="0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26" y="0"/>
                  </a:lnTo>
                  <a:lnTo>
                    <a:pt x="26" y="7"/>
                  </a:lnTo>
                  <a:lnTo>
                    <a:pt x="26" y="7"/>
                  </a:lnTo>
                  <a:lnTo>
                    <a:pt x="26" y="7"/>
                  </a:lnTo>
                  <a:lnTo>
                    <a:pt x="33" y="7"/>
                  </a:lnTo>
                  <a:lnTo>
                    <a:pt x="33" y="14"/>
                  </a:lnTo>
                  <a:lnTo>
                    <a:pt x="33" y="14"/>
                  </a:lnTo>
                  <a:lnTo>
                    <a:pt x="33" y="20"/>
                  </a:lnTo>
                  <a:lnTo>
                    <a:pt x="33" y="20"/>
                  </a:lnTo>
                  <a:lnTo>
                    <a:pt x="39" y="27"/>
                  </a:lnTo>
                  <a:lnTo>
                    <a:pt x="39" y="27"/>
                  </a:lnTo>
                  <a:lnTo>
                    <a:pt x="39" y="27"/>
                  </a:lnTo>
                  <a:lnTo>
                    <a:pt x="39" y="33"/>
                  </a:lnTo>
                  <a:lnTo>
                    <a:pt x="33" y="33"/>
                  </a:lnTo>
                  <a:lnTo>
                    <a:pt x="33" y="33"/>
                  </a:lnTo>
                  <a:lnTo>
                    <a:pt x="33" y="33"/>
                  </a:lnTo>
                  <a:lnTo>
                    <a:pt x="33" y="40"/>
                  </a:lnTo>
                  <a:lnTo>
                    <a:pt x="33" y="40"/>
                  </a:lnTo>
                  <a:lnTo>
                    <a:pt x="26" y="40"/>
                  </a:lnTo>
                  <a:lnTo>
                    <a:pt x="26" y="40"/>
                  </a:lnTo>
                  <a:lnTo>
                    <a:pt x="19" y="40"/>
                  </a:lnTo>
                  <a:lnTo>
                    <a:pt x="19" y="40"/>
                  </a:lnTo>
                  <a:lnTo>
                    <a:pt x="19" y="40"/>
                  </a:lnTo>
                  <a:lnTo>
                    <a:pt x="13" y="33"/>
                  </a:lnTo>
                  <a:lnTo>
                    <a:pt x="13" y="33"/>
                  </a:lnTo>
                  <a:lnTo>
                    <a:pt x="6" y="27"/>
                  </a:lnTo>
                  <a:close/>
                  <a:moveTo>
                    <a:pt x="13" y="27"/>
                  </a:moveTo>
                  <a:lnTo>
                    <a:pt x="13" y="27"/>
                  </a:lnTo>
                  <a:lnTo>
                    <a:pt x="19" y="33"/>
                  </a:lnTo>
                  <a:lnTo>
                    <a:pt x="19" y="33"/>
                  </a:lnTo>
                  <a:lnTo>
                    <a:pt x="19" y="33"/>
                  </a:lnTo>
                  <a:lnTo>
                    <a:pt x="26" y="33"/>
                  </a:lnTo>
                  <a:lnTo>
                    <a:pt x="26" y="33"/>
                  </a:lnTo>
                  <a:lnTo>
                    <a:pt x="26" y="33"/>
                  </a:lnTo>
                  <a:lnTo>
                    <a:pt x="26" y="33"/>
                  </a:lnTo>
                  <a:lnTo>
                    <a:pt x="33" y="33"/>
                  </a:lnTo>
                  <a:lnTo>
                    <a:pt x="33" y="33"/>
                  </a:lnTo>
                  <a:lnTo>
                    <a:pt x="33" y="33"/>
                  </a:lnTo>
                  <a:lnTo>
                    <a:pt x="33" y="27"/>
                  </a:lnTo>
                  <a:lnTo>
                    <a:pt x="33" y="27"/>
                  </a:lnTo>
                  <a:lnTo>
                    <a:pt x="33" y="20"/>
                  </a:lnTo>
                  <a:lnTo>
                    <a:pt x="26" y="20"/>
                  </a:lnTo>
                  <a:lnTo>
                    <a:pt x="26" y="14"/>
                  </a:lnTo>
                  <a:lnTo>
                    <a:pt x="26" y="14"/>
                  </a:lnTo>
                  <a:lnTo>
                    <a:pt x="19" y="7"/>
                  </a:lnTo>
                  <a:lnTo>
                    <a:pt x="19" y="7"/>
                  </a:lnTo>
                  <a:lnTo>
                    <a:pt x="19" y="7"/>
                  </a:lnTo>
                  <a:lnTo>
                    <a:pt x="13" y="7"/>
                  </a:lnTo>
                  <a:lnTo>
                    <a:pt x="13" y="7"/>
                  </a:lnTo>
                  <a:lnTo>
                    <a:pt x="13" y="7"/>
                  </a:lnTo>
                  <a:lnTo>
                    <a:pt x="13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14"/>
                  </a:lnTo>
                  <a:lnTo>
                    <a:pt x="6" y="14"/>
                  </a:lnTo>
                  <a:lnTo>
                    <a:pt x="6" y="14"/>
                  </a:lnTo>
                  <a:lnTo>
                    <a:pt x="6" y="20"/>
                  </a:lnTo>
                  <a:lnTo>
                    <a:pt x="13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7" name=""/>
            <p:cNvSpPr/>
            <p:nvPr/>
          </p:nvSpPr>
          <p:spPr>
            <a:xfrm flipV="1">
              <a:off x="3111480" y="3995280"/>
              <a:ext cx="1440" cy="11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8" name=""/>
            <p:cNvSpPr/>
            <p:nvPr/>
          </p:nvSpPr>
          <p:spPr>
            <a:xfrm>
              <a:off x="3111480" y="3745080"/>
              <a:ext cx="763560" cy="407880"/>
            </a:xfrm>
            <a:custGeom>
              <a:avLst/>
              <a:gdLst/>
              <a:ahLst/>
              <a:rect l="l" t="t" r="r" b="b"/>
              <a:pathLst>
                <a:path w="481" h="257">
                  <a:moveTo>
                    <a:pt x="0" y="158"/>
                  </a:moveTo>
                  <a:lnTo>
                    <a:pt x="6" y="158"/>
                  </a:lnTo>
                  <a:lnTo>
                    <a:pt x="13" y="152"/>
                  </a:lnTo>
                  <a:lnTo>
                    <a:pt x="26" y="152"/>
                  </a:lnTo>
                  <a:lnTo>
                    <a:pt x="33" y="152"/>
                  </a:lnTo>
                  <a:lnTo>
                    <a:pt x="39" y="152"/>
                  </a:lnTo>
                  <a:lnTo>
                    <a:pt x="46" y="145"/>
                  </a:lnTo>
                  <a:lnTo>
                    <a:pt x="59" y="145"/>
                  </a:lnTo>
                  <a:lnTo>
                    <a:pt x="66" y="139"/>
                  </a:lnTo>
                  <a:lnTo>
                    <a:pt x="72" y="139"/>
                  </a:lnTo>
                  <a:lnTo>
                    <a:pt x="79" y="132"/>
                  </a:lnTo>
                  <a:lnTo>
                    <a:pt x="86" y="132"/>
                  </a:lnTo>
                  <a:lnTo>
                    <a:pt x="92" y="125"/>
                  </a:lnTo>
                  <a:lnTo>
                    <a:pt x="99" y="125"/>
                  </a:lnTo>
                  <a:lnTo>
                    <a:pt x="105" y="119"/>
                  </a:lnTo>
                  <a:lnTo>
                    <a:pt x="112" y="119"/>
                  </a:lnTo>
                  <a:lnTo>
                    <a:pt x="112" y="112"/>
                  </a:lnTo>
                  <a:lnTo>
                    <a:pt x="118" y="106"/>
                  </a:lnTo>
                  <a:lnTo>
                    <a:pt x="118" y="99"/>
                  </a:lnTo>
                  <a:lnTo>
                    <a:pt x="118" y="99"/>
                  </a:lnTo>
                  <a:lnTo>
                    <a:pt x="118" y="93"/>
                  </a:lnTo>
                  <a:lnTo>
                    <a:pt x="112" y="86"/>
                  </a:lnTo>
                  <a:lnTo>
                    <a:pt x="112" y="79"/>
                  </a:lnTo>
                  <a:lnTo>
                    <a:pt x="112" y="73"/>
                  </a:lnTo>
                  <a:lnTo>
                    <a:pt x="112" y="66"/>
                  </a:lnTo>
                  <a:lnTo>
                    <a:pt x="118" y="66"/>
                  </a:lnTo>
                  <a:lnTo>
                    <a:pt x="118" y="60"/>
                  </a:lnTo>
                  <a:lnTo>
                    <a:pt x="125" y="53"/>
                  </a:lnTo>
                  <a:lnTo>
                    <a:pt x="125" y="46"/>
                  </a:lnTo>
                  <a:lnTo>
                    <a:pt x="125" y="40"/>
                  </a:lnTo>
                  <a:lnTo>
                    <a:pt x="125" y="33"/>
                  </a:lnTo>
                  <a:lnTo>
                    <a:pt x="125" y="33"/>
                  </a:lnTo>
                  <a:lnTo>
                    <a:pt x="125" y="27"/>
                  </a:lnTo>
                  <a:lnTo>
                    <a:pt x="125" y="20"/>
                  </a:lnTo>
                  <a:lnTo>
                    <a:pt x="125" y="13"/>
                  </a:lnTo>
                  <a:lnTo>
                    <a:pt x="125" y="7"/>
                  </a:lnTo>
                  <a:lnTo>
                    <a:pt x="132" y="7"/>
                  </a:lnTo>
                  <a:lnTo>
                    <a:pt x="145" y="0"/>
                  </a:lnTo>
                  <a:lnTo>
                    <a:pt x="151" y="0"/>
                  </a:lnTo>
                  <a:lnTo>
                    <a:pt x="158" y="0"/>
                  </a:lnTo>
                  <a:lnTo>
                    <a:pt x="165" y="7"/>
                  </a:lnTo>
                  <a:lnTo>
                    <a:pt x="165" y="7"/>
                  </a:lnTo>
                  <a:lnTo>
                    <a:pt x="171" y="13"/>
                  </a:lnTo>
                  <a:lnTo>
                    <a:pt x="171" y="20"/>
                  </a:lnTo>
                  <a:lnTo>
                    <a:pt x="178" y="27"/>
                  </a:lnTo>
                  <a:lnTo>
                    <a:pt x="178" y="33"/>
                  </a:lnTo>
                  <a:lnTo>
                    <a:pt x="184" y="33"/>
                  </a:lnTo>
                  <a:lnTo>
                    <a:pt x="191" y="40"/>
                  </a:lnTo>
                  <a:lnTo>
                    <a:pt x="191" y="46"/>
                  </a:lnTo>
                  <a:lnTo>
                    <a:pt x="198" y="53"/>
                  </a:lnTo>
                  <a:lnTo>
                    <a:pt x="198" y="53"/>
                  </a:lnTo>
                  <a:lnTo>
                    <a:pt x="198" y="60"/>
                  </a:lnTo>
                  <a:lnTo>
                    <a:pt x="198" y="66"/>
                  </a:lnTo>
                  <a:lnTo>
                    <a:pt x="204" y="73"/>
                  </a:lnTo>
                  <a:lnTo>
                    <a:pt x="204" y="79"/>
                  </a:lnTo>
                  <a:lnTo>
                    <a:pt x="204" y="86"/>
                  </a:lnTo>
                  <a:lnTo>
                    <a:pt x="211" y="86"/>
                  </a:lnTo>
                  <a:lnTo>
                    <a:pt x="217" y="86"/>
                  </a:lnTo>
                  <a:lnTo>
                    <a:pt x="230" y="86"/>
                  </a:lnTo>
                  <a:lnTo>
                    <a:pt x="237" y="86"/>
                  </a:lnTo>
                  <a:lnTo>
                    <a:pt x="244" y="93"/>
                  </a:lnTo>
                  <a:lnTo>
                    <a:pt x="250" y="99"/>
                  </a:lnTo>
                  <a:lnTo>
                    <a:pt x="250" y="99"/>
                  </a:lnTo>
                  <a:lnTo>
                    <a:pt x="257" y="106"/>
                  </a:lnTo>
                  <a:lnTo>
                    <a:pt x="263" y="112"/>
                  </a:lnTo>
                  <a:lnTo>
                    <a:pt x="270" y="112"/>
                  </a:lnTo>
                  <a:lnTo>
                    <a:pt x="277" y="119"/>
                  </a:lnTo>
                  <a:lnTo>
                    <a:pt x="277" y="125"/>
                  </a:lnTo>
                  <a:lnTo>
                    <a:pt x="283" y="125"/>
                  </a:lnTo>
                  <a:lnTo>
                    <a:pt x="290" y="132"/>
                  </a:lnTo>
                  <a:lnTo>
                    <a:pt x="296" y="132"/>
                  </a:lnTo>
                  <a:lnTo>
                    <a:pt x="303" y="139"/>
                  </a:lnTo>
                  <a:lnTo>
                    <a:pt x="310" y="145"/>
                  </a:lnTo>
                  <a:lnTo>
                    <a:pt x="316" y="145"/>
                  </a:lnTo>
                  <a:lnTo>
                    <a:pt x="323" y="152"/>
                  </a:lnTo>
                  <a:lnTo>
                    <a:pt x="329" y="152"/>
                  </a:lnTo>
                  <a:lnTo>
                    <a:pt x="329" y="158"/>
                  </a:lnTo>
                  <a:lnTo>
                    <a:pt x="336" y="165"/>
                  </a:lnTo>
                  <a:lnTo>
                    <a:pt x="343" y="165"/>
                  </a:lnTo>
                  <a:lnTo>
                    <a:pt x="349" y="172"/>
                  </a:lnTo>
                  <a:lnTo>
                    <a:pt x="356" y="178"/>
                  </a:lnTo>
                  <a:lnTo>
                    <a:pt x="362" y="178"/>
                  </a:lnTo>
                  <a:lnTo>
                    <a:pt x="362" y="185"/>
                  </a:lnTo>
                  <a:lnTo>
                    <a:pt x="369" y="191"/>
                  </a:lnTo>
                  <a:lnTo>
                    <a:pt x="375" y="191"/>
                  </a:lnTo>
                  <a:lnTo>
                    <a:pt x="382" y="198"/>
                  </a:lnTo>
                  <a:lnTo>
                    <a:pt x="389" y="198"/>
                  </a:lnTo>
                  <a:lnTo>
                    <a:pt x="395" y="204"/>
                  </a:lnTo>
                  <a:lnTo>
                    <a:pt x="402" y="211"/>
                  </a:lnTo>
                  <a:lnTo>
                    <a:pt x="402" y="211"/>
                  </a:lnTo>
                  <a:lnTo>
                    <a:pt x="408" y="218"/>
                  </a:lnTo>
                  <a:lnTo>
                    <a:pt x="415" y="224"/>
                  </a:lnTo>
                  <a:lnTo>
                    <a:pt x="422" y="224"/>
                  </a:lnTo>
                  <a:lnTo>
                    <a:pt x="428" y="231"/>
                  </a:lnTo>
                  <a:lnTo>
                    <a:pt x="435" y="237"/>
                  </a:lnTo>
                  <a:lnTo>
                    <a:pt x="435" y="237"/>
                  </a:lnTo>
                  <a:lnTo>
                    <a:pt x="441" y="244"/>
                  </a:lnTo>
                  <a:lnTo>
                    <a:pt x="448" y="251"/>
                  </a:lnTo>
                  <a:lnTo>
                    <a:pt x="455" y="251"/>
                  </a:lnTo>
                  <a:lnTo>
                    <a:pt x="461" y="257"/>
                  </a:lnTo>
                  <a:lnTo>
                    <a:pt x="468" y="257"/>
                  </a:lnTo>
                  <a:lnTo>
                    <a:pt x="474" y="251"/>
                  </a:lnTo>
                  <a:lnTo>
                    <a:pt x="481" y="24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9" name=""/>
            <p:cNvSpPr/>
            <p:nvPr/>
          </p:nvSpPr>
          <p:spPr>
            <a:xfrm>
              <a:off x="4094280" y="4079880"/>
              <a:ext cx="31680" cy="84240"/>
            </a:xfrm>
            <a:custGeom>
              <a:avLst/>
              <a:gdLst/>
              <a:ahLst/>
              <a:rect l="l" t="t" r="r" b="b"/>
              <a:pathLst>
                <a:path w="20" h="53">
                  <a:moveTo>
                    <a:pt x="20" y="33"/>
                  </a:moveTo>
                  <a:lnTo>
                    <a:pt x="20" y="26"/>
                  </a:lnTo>
                  <a:lnTo>
                    <a:pt x="20" y="20"/>
                  </a:lnTo>
                  <a:lnTo>
                    <a:pt x="20" y="13"/>
                  </a:lnTo>
                  <a:lnTo>
                    <a:pt x="20" y="13"/>
                  </a:lnTo>
                  <a:lnTo>
                    <a:pt x="20" y="7"/>
                  </a:lnTo>
                  <a:lnTo>
                    <a:pt x="13" y="0"/>
                  </a:lnTo>
                  <a:lnTo>
                    <a:pt x="7" y="0"/>
                  </a:lnTo>
                  <a:lnTo>
                    <a:pt x="0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7" y="33"/>
                  </a:lnTo>
                  <a:lnTo>
                    <a:pt x="7" y="40"/>
                  </a:lnTo>
                  <a:lnTo>
                    <a:pt x="7" y="46"/>
                  </a:lnTo>
                  <a:lnTo>
                    <a:pt x="7" y="53"/>
                  </a:lnTo>
                  <a:lnTo>
                    <a:pt x="13" y="53"/>
                  </a:lnTo>
                  <a:lnTo>
                    <a:pt x="13" y="53"/>
                  </a:lnTo>
                  <a:lnTo>
                    <a:pt x="13" y="46"/>
                  </a:lnTo>
                  <a:lnTo>
                    <a:pt x="20" y="3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0" name=""/>
            <p:cNvSpPr/>
            <p:nvPr/>
          </p:nvSpPr>
          <p:spPr>
            <a:xfrm flipH="1" flipV="1">
              <a:off x="2472840" y="3922200"/>
              <a:ext cx="32040" cy="32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1" name=""/>
            <p:cNvSpPr/>
            <p:nvPr/>
          </p:nvSpPr>
          <p:spPr>
            <a:xfrm>
              <a:off x="4011480" y="3808440"/>
              <a:ext cx="30240" cy="146160"/>
            </a:xfrm>
            <a:custGeom>
              <a:avLst/>
              <a:gdLst/>
              <a:ahLst/>
              <a:rect l="l" t="t" r="r" b="b"/>
              <a:pathLst>
                <a:path w="19" h="92">
                  <a:moveTo>
                    <a:pt x="6" y="92"/>
                  </a:moveTo>
                  <a:lnTo>
                    <a:pt x="6" y="85"/>
                  </a:lnTo>
                  <a:lnTo>
                    <a:pt x="6" y="79"/>
                  </a:lnTo>
                  <a:lnTo>
                    <a:pt x="13" y="72"/>
                  </a:lnTo>
                  <a:lnTo>
                    <a:pt x="13" y="72"/>
                  </a:lnTo>
                  <a:lnTo>
                    <a:pt x="13" y="66"/>
                  </a:lnTo>
                  <a:lnTo>
                    <a:pt x="13" y="59"/>
                  </a:lnTo>
                  <a:lnTo>
                    <a:pt x="13" y="53"/>
                  </a:lnTo>
                  <a:lnTo>
                    <a:pt x="13" y="46"/>
                  </a:lnTo>
                  <a:lnTo>
                    <a:pt x="13" y="39"/>
                  </a:lnTo>
                  <a:lnTo>
                    <a:pt x="19" y="33"/>
                  </a:lnTo>
                  <a:lnTo>
                    <a:pt x="19" y="26"/>
                  </a:lnTo>
                  <a:lnTo>
                    <a:pt x="19" y="26"/>
                  </a:lnTo>
                  <a:lnTo>
                    <a:pt x="19" y="20"/>
                  </a:lnTo>
                  <a:lnTo>
                    <a:pt x="13" y="13"/>
                  </a:lnTo>
                  <a:lnTo>
                    <a:pt x="13" y="6"/>
                  </a:lnTo>
                  <a:lnTo>
                    <a:pt x="6" y="0"/>
                  </a:lnTo>
                  <a:lnTo>
                    <a:pt x="6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0" y="39"/>
                  </a:lnTo>
                  <a:lnTo>
                    <a:pt x="0" y="46"/>
                  </a:lnTo>
                  <a:lnTo>
                    <a:pt x="0" y="53"/>
                  </a:lnTo>
                  <a:lnTo>
                    <a:pt x="0" y="59"/>
                  </a:lnTo>
                  <a:lnTo>
                    <a:pt x="0" y="66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0" y="79"/>
                  </a:lnTo>
                  <a:lnTo>
                    <a:pt x="6" y="85"/>
                  </a:lnTo>
                  <a:lnTo>
                    <a:pt x="6" y="9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2" name=""/>
            <p:cNvSpPr/>
            <p:nvPr/>
          </p:nvSpPr>
          <p:spPr>
            <a:xfrm>
              <a:off x="5527800" y="3817800"/>
              <a:ext cx="52200" cy="147600"/>
            </a:xfrm>
            <a:custGeom>
              <a:avLst/>
              <a:gdLst/>
              <a:ahLst/>
              <a:rect l="l" t="t" r="r" b="b"/>
              <a:pathLst>
                <a:path w="33" h="93">
                  <a:moveTo>
                    <a:pt x="0" y="86"/>
                  </a:moveTo>
                  <a:lnTo>
                    <a:pt x="0" y="79"/>
                  </a:lnTo>
                  <a:lnTo>
                    <a:pt x="7" y="79"/>
                  </a:lnTo>
                  <a:lnTo>
                    <a:pt x="7" y="73"/>
                  </a:lnTo>
                  <a:lnTo>
                    <a:pt x="13" y="66"/>
                  </a:lnTo>
                  <a:lnTo>
                    <a:pt x="20" y="66"/>
                  </a:lnTo>
                  <a:lnTo>
                    <a:pt x="20" y="60"/>
                  </a:lnTo>
                  <a:lnTo>
                    <a:pt x="20" y="53"/>
                  </a:lnTo>
                  <a:lnTo>
                    <a:pt x="20" y="47"/>
                  </a:lnTo>
                  <a:lnTo>
                    <a:pt x="20" y="40"/>
                  </a:lnTo>
                  <a:lnTo>
                    <a:pt x="20" y="40"/>
                  </a:lnTo>
                  <a:lnTo>
                    <a:pt x="20" y="33"/>
                  </a:lnTo>
                  <a:lnTo>
                    <a:pt x="20" y="27"/>
                  </a:lnTo>
                  <a:lnTo>
                    <a:pt x="20" y="20"/>
                  </a:lnTo>
                  <a:lnTo>
                    <a:pt x="20" y="20"/>
                  </a:lnTo>
                  <a:lnTo>
                    <a:pt x="20" y="14"/>
                  </a:lnTo>
                  <a:lnTo>
                    <a:pt x="20" y="7"/>
                  </a:lnTo>
                  <a:lnTo>
                    <a:pt x="26" y="0"/>
                  </a:lnTo>
                  <a:lnTo>
                    <a:pt x="26" y="7"/>
                  </a:lnTo>
                  <a:lnTo>
                    <a:pt x="26" y="14"/>
                  </a:lnTo>
                  <a:lnTo>
                    <a:pt x="33" y="20"/>
                  </a:lnTo>
                  <a:lnTo>
                    <a:pt x="33" y="20"/>
                  </a:lnTo>
                  <a:lnTo>
                    <a:pt x="33" y="27"/>
                  </a:lnTo>
                  <a:lnTo>
                    <a:pt x="33" y="33"/>
                  </a:lnTo>
                  <a:lnTo>
                    <a:pt x="33" y="33"/>
                  </a:lnTo>
                  <a:lnTo>
                    <a:pt x="33" y="40"/>
                  </a:lnTo>
                  <a:lnTo>
                    <a:pt x="33" y="47"/>
                  </a:lnTo>
                  <a:lnTo>
                    <a:pt x="33" y="53"/>
                  </a:lnTo>
                  <a:lnTo>
                    <a:pt x="33" y="53"/>
                  </a:lnTo>
                  <a:lnTo>
                    <a:pt x="33" y="60"/>
                  </a:lnTo>
                  <a:lnTo>
                    <a:pt x="33" y="66"/>
                  </a:lnTo>
                  <a:lnTo>
                    <a:pt x="33" y="73"/>
                  </a:lnTo>
                  <a:lnTo>
                    <a:pt x="33" y="79"/>
                  </a:lnTo>
                  <a:lnTo>
                    <a:pt x="26" y="79"/>
                  </a:lnTo>
                  <a:lnTo>
                    <a:pt x="26" y="86"/>
                  </a:lnTo>
                  <a:lnTo>
                    <a:pt x="20" y="93"/>
                  </a:lnTo>
                  <a:lnTo>
                    <a:pt x="7" y="93"/>
                  </a:lnTo>
                  <a:lnTo>
                    <a:pt x="0" y="93"/>
                  </a:lnTo>
                  <a:lnTo>
                    <a:pt x="0" y="8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3" name=""/>
            <p:cNvSpPr/>
            <p:nvPr/>
          </p:nvSpPr>
          <p:spPr>
            <a:xfrm>
              <a:off x="2535120" y="3870360"/>
              <a:ext cx="52560" cy="63360"/>
            </a:xfrm>
            <a:custGeom>
              <a:avLst/>
              <a:gdLst/>
              <a:ahLst/>
              <a:rect l="l" t="t" r="r" b="b"/>
              <a:pathLst>
                <a:path w="33" h="40">
                  <a:moveTo>
                    <a:pt x="33" y="27"/>
                  </a:moveTo>
                  <a:lnTo>
                    <a:pt x="33" y="14"/>
                  </a:lnTo>
                  <a:lnTo>
                    <a:pt x="27" y="7"/>
                  </a:lnTo>
                  <a:lnTo>
                    <a:pt x="27" y="0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7"/>
                  </a:lnTo>
                  <a:lnTo>
                    <a:pt x="7" y="14"/>
                  </a:lnTo>
                  <a:lnTo>
                    <a:pt x="0" y="20"/>
                  </a:lnTo>
                  <a:lnTo>
                    <a:pt x="7" y="27"/>
                  </a:lnTo>
                  <a:lnTo>
                    <a:pt x="7" y="33"/>
                  </a:lnTo>
                  <a:lnTo>
                    <a:pt x="20" y="40"/>
                  </a:lnTo>
                  <a:lnTo>
                    <a:pt x="20" y="40"/>
                  </a:lnTo>
                  <a:lnTo>
                    <a:pt x="27" y="33"/>
                  </a:lnTo>
                  <a:lnTo>
                    <a:pt x="33" y="2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4" name=""/>
            <p:cNvSpPr/>
            <p:nvPr/>
          </p:nvSpPr>
          <p:spPr>
            <a:xfrm>
              <a:off x="2995560" y="3860640"/>
              <a:ext cx="31680" cy="20880"/>
            </a:xfrm>
            <a:custGeom>
              <a:avLst/>
              <a:gdLst/>
              <a:ahLst/>
              <a:rect l="l" t="t" r="r" b="b"/>
              <a:pathLst>
                <a:path w="20" h="13">
                  <a:moveTo>
                    <a:pt x="0" y="6"/>
                  </a:moveTo>
                  <a:lnTo>
                    <a:pt x="7" y="0"/>
                  </a:lnTo>
                  <a:lnTo>
                    <a:pt x="7" y="0"/>
                  </a:lnTo>
                  <a:lnTo>
                    <a:pt x="14" y="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20" y="6"/>
                  </a:lnTo>
                  <a:lnTo>
                    <a:pt x="20" y="6"/>
                  </a:lnTo>
                  <a:lnTo>
                    <a:pt x="14" y="6"/>
                  </a:lnTo>
                  <a:lnTo>
                    <a:pt x="14" y="13"/>
                  </a:lnTo>
                  <a:lnTo>
                    <a:pt x="7" y="13"/>
                  </a:lnTo>
                  <a:lnTo>
                    <a:pt x="7" y="13"/>
                  </a:lnTo>
                  <a:lnTo>
                    <a:pt x="0" y="13"/>
                  </a:lnTo>
                  <a:lnTo>
                    <a:pt x="0" y="6"/>
                  </a:lnTo>
                  <a:lnTo>
                    <a:pt x="0" y="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5" name=""/>
            <p:cNvSpPr/>
            <p:nvPr/>
          </p:nvSpPr>
          <p:spPr>
            <a:xfrm>
              <a:off x="3152880" y="3840120"/>
              <a:ext cx="63360" cy="41400"/>
            </a:xfrm>
            <a:custGeom>
              <a:avLst/>
              <a:gdLst/>
              <a:ahLst/>
              <a:rect l="l" t="t" r="r" b="b"/>
              <a:pathLst>
                <a:path w="40" h="26">
                  <a:moveTo>
                    <a:pt x="0" y="19"/>
                  </a:moveTo>
                  <a:lnTo>
                    <a:pt x="7" y="6"/>
                  </a:lnTo>
                  <a:lnTo>
                    <a:pt x="7" y="6"/>
                  </a:lnTo>
                  <a:lnTo>
                    <a:pt x="13" y="0"/>
                  </a:lnTo>
                  <a:lnTo>
                    <a:pt x="20" y="0"/>
                  </a:lnTo>
                  <a:lnTo>
                    <a:pt x="27" y="6"/>
                  </a:lnTo>
                  <a:lnTo>
                    <a:pt x="33" y="13"/>
                  </a:lnTo>
                  <a:lnTo>
                    <a:pt x="40" y="13"/>
                  </a:lnTo>
                  <a:lnTo>
                    <a:pt x="33" y="19"/>
                  </a:lnTo>
                  <a:lnTo>
                    <a:pt x="27" y="26"/>
                  </a:lnTo>
                  <a:lnTo>
                    <a:pt x="20" y="26"/>
                  </a:lnTo>
                  <a:lnTo>
                    <a:pt x="13" y="26"/>
                  </a:lnTo>
                  <a:lnTo>
                    <a:pt x="7" y="26"/>
                  </a:lnTo>
                  <a:lnTo>
                    <a:pt x="7" y="26"/>
                  </a:lnTo>
                  <a:lnTo>
                    <a:pt x="0" y="1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6" name=""/>
            <p:cNvSpPr/>
            <p:nvPr/>
          </p:nvSpPr>
          <p:spPr>
            <a:xfrm>
              <a:off x="4052880" y="3514680"/>
              <a:ext cx="73080" cy="262080"/>
            </a:xfrm>
            <a:custGeom>
              <a:avLst/>
              <a:gdLst/>
              <a:ahLst/>
              <a:rect l="l" t="t" r="r" b="b"/>
              <a:pathLst>
                <a:path w="46" h="165">
                  <a:moveTo>
                    <a:pt x="6" y="165"/>
                  </a:moveTo>
                  <a:lnTo>
                    <a:pt x="6" y="158"/>
                  </a:lnTo>
                  <a:lnTo>
                    <a:pt x="13" y="152"/>
                  </a:lnTo>
                  <a:lnTo>
                    <a:pt x="13" y="145"/>
                  </a:lnTo>
                  <a:lnTo>
                    <a:pt x="13" y="139"/>
                  </a:lnTo>
                  <a:lnTo>
                    <a:pt x="13" y="132"/>
                  </a:lnTo>
                  <a:lnTo>
                    <a:pt x="13" y="126"/>
                  </a:lnTo>
                  <a:lnTo>
                    <a:pt x="20" y="119"/>
                  </a:lnTo>
                  <a:lnTo>
                    <a:pt x="20" y="112"/>
                  </a:lnTo>
                  <a:lnTo>
                    <a:pt x="20" y="106"/>
                  </a:lnTo>
                  <a:lnTo>
                    <a:pt x="13" y="93"/>
                  </a:lnTo>
                  <a:lnTo>
                    <a:pt x="13" y="86"/>
                  </a:lnTo>
                  <a:lnTo>
                    <a:pt x="20" y="79"/>
                  </a:lnTo>
                  <a:lnTo>
                    <a:pt x="26" y="79"/>
                  </a:lnTo>
                  <a:lnTo>
                    <a:pt x="33" y="73"/>
                  </a:lnTo>
                  <a:lnTo>
                    <a:pt x="39" y="66"/>
                  </a:lnTo>
                  <a:lnTo>
                    <a:pt x="46" y="60"/>
                  </a:lnTo>
                  <a:lnTo>
                    <a:pt x="46" y="53"/>
                  </a:lnTo>
                  <a:lnTo>
                    <a:pt x="46" y="47"/>
                  </a:lnTo>
                  <a:lnTo>
                    <a:pt x="46" y="40"/>
                  </a:lnTo>
                  <a:lnTo>
                    <a:pt x="46" y="33"/>
                  </a:lnTo>
                  <a:lnTo>
                    <a:pt x="39" y="27"/>
                  </a:lnTo>
                  <a:lnTo>
                    <a:pt x="39" y="14"/>
                  </a:lnTo>
                  <a:lnTo>
                    <a:pt x="39" y="7"/>
                  </a:lnTo>
                  <a:lnTo>
                    <a:pt x="39" y="0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3" y="7"/>
                  </a:lnTo>
                  <a:lnTo>
                    <a:pt x="33" y="20"/>
                  </a:lnTo>
                  <a:lnTo>
                    <a:pt x="26" y="27"/>
                  </a:lnTo>
                  <a:lnTo>
                    <a:pt x="20" y="33"/>
                  </a:lnTo>
                  <a:lnTo>
                    <a:pt x="13" y="40"/>
                  </a:lnTo>
                  <a:lnTo>
                    <a:pt x="13" y="47"/>
                  </a:lnTo>
                  <a:lnTo>
                    <a:pt x="6" y="53"/>
                  </a:lnTo>
                  <a:lnTo>
                    <a:pt x="0" y="60"/>
                  </a:lnTo>
                  <a:lnTo>
                    <a:pt x="0" y="66"/>
                  </a:lnTo>
                  <a:lnTo>
                    <a:pt x="0" y="73"/>
                  </a:lnTo>
                  <a:lnTo>
                    <a:pt x="0" y="79"/>
                  </a:lnTo>
                  <a:lnTo>
                    <a:pt x="0" y="86"/>
                  </a:lnTo>
                  <a:lnTo>
                    <a:pt x="0" y="93"/>
                  </a:lnTo>
                  <a:lnTo>
                    <a:pt x="0" y="99"/>
                  </a:lnTo>
                  <a:lnTo>
                    <a:pt x="0" y="106"/>
                  </a:lnTo>
                  <a:lnTo>
                    <a:pt x="0" y="112"/>
                  </a:lnTo>
                  <a:lnTo>
                    <a:pt x="0" y="119"/>
                  </a:lnTo>
                  <a:lnTo>
                    <a:pt x="0" y="126"/>
                  </a:lnTo>
                  <a:lnTo>
                    <a:pt x="0" y="132"/>
                  </a:lnTo>
                  <a:lnTo>
                    <a:pt x="0" y="139"/>
                  </a:lnTo>
                  <a:lnTo>
                    <a:pt x="0" y="145"/>
                  </a:lnTo>
                  <a:lnTo>
                    <a:pt x="0" y="152"/>
                  </a:lnTo>
                  <a:lnTo>
                    <a:pt x="0" y="158"/>
                  </a:lnTo>
                  <a:lnTo>
                    <a:pt x="6" y="16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7" name=""/>
            <p:cNvSpPr/>
            <p:nvPr/>
          </p:nvSpPr>
          <p:spPr>
            <a:xfrm>
              <a:off x="3414600" y="3651120"/>
              <a:ext cx="52560" cy="125640"/>
            </a:xfrm>
            <a:custGeom>
              <a:avLst/>
              <a:gdLst/>
              <a:ahLst/>
              <a:rect l="l" t="t" r="r" b="b"/>
              <a:pathLst>
                <a:path w="33" h="79">
                  <a:moveTo>
                    <a:pt x="13" y="53"/>
                  </a:moveTo>
                  <a:lnTo>
                    <a:pt x="7" y="46"/>
                  </a:lnTo>
                  <a:lnTo>
                    <a:pt x="0" y="40"/>
                  </a:lnTo>
                  <a:lnTo>
                    <a:pt x="0" y="26"/>
                  </a:lnTo>
                  <a:lnTo>
                    <a:pt x="7" y="20"/>
                  </a:lnTo>
                  <a:lnTo>
                    <a:pt x="13" y="13"/>
                  </a:lnTo>
                  <a:lnTo>
                    <a:pt x="13" y="0"/>
                  </a:lnTo>
                  <a:lnTo>
                    <a:pt x="20" y="0"/>
                  </a:lnTo>
                  <a:lnTo>
                    <a:pt x="26" y="7"/>
                  </a:lnTo>
                  <a:lnTo>
                    <a:pt x="26" y="13"/>
                  </a:lnTo>
                  <a:lnTo>
                    <a:pt x="26" y="26"/>
                  </a:lnTo>
                  <a:lnTo>
                    <a:pt x="26" y="33"/>
                  </a:lnTo>
                  <a:lnTo>
                    <a:pt x="33" y="40"/>
                  </a:lnTo>
                  <a:lnTo>
                    <a:pt x="33" y="46"/>
                  </a:lnTo>
                  <a:lnTo>
                    <a:pt x="26" y="59"/>
                  </a:lnTo>
                  <a:lnTo>
                    <a:pt x="26" y="66"/>
                  </a:lnTo>
                  <a:lnTo>
                    <a:pt x="26" y="72"/>
                  </a:lnTo>
                  <a:lnTo>
                    <a:pt x="20" y="79"/>
                  </a:lnTo>
                  <a:lnTo>
                    <a:pt x="13" y="72"/>
                  </a:lnTo>
                  <a:lnTo>
                    <a:pt x="13" y="66"/>
                  </a:lnTo>
                  <a:lnTo>
                    <a:pt x="13" y="5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8" name=""/>
            <p:cNvSpPr/>
            <p:nvPr/>
          </p:nvSpPr>
          <p:spPr>
            <a:xfrm>
              <a:off x="3529080" y="3724200"/>
              <a:ext cx="11160" cy="20880"/>
            </a:xfrm>
            <a:custGeom>
              <a:avLst/>
              <a:gdLst/>
              <a:ahLst/>
              <a:rect l="l" t="t" r="r" b="b"/>
              <a:pathLst>
                <a:path w="7" h="13">
                  <a:moveTo>
                    <a:pt x="0" y="7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13"/>
                  </a:lnTo>
                  <a:lnTo>
                    <a:pt x="7" y="13"/>
                  </a:lnTo>
                  <a:lnTo>
                    <a:pt x="0" y="13"/>
                  </a:lnTo>
                  <a:lnTo>
                    <a:pt x="0" y="7"/>
                  </a:lnTo>
                  <a:lnTo>
                    <a:pt x="0" y="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9" name=""/>
            <p:cNvSpPr/>
            <p:nvPr/>
          </p:nvSpPr>
          <p:spPr>
            <a:xfrm>
              <a:off x="3571920" y="3514680"/>
              <a:ext cx="61920" cy="147600"/>
            </a:xfrm>
            <a:custGeom>
              <a:avLst/>
              <a:gdLst/>
              <a:ahLst/>
              <a:rect l="l" t="t" r="r" b="b"/>
              <a:pathLst>
                <a:path w="39" h="93">
                  <a:moveTo>
                    <a:pt x="0" y="79"/>
                  </a:moveTo>
                  <a:lnTo>
                    <a:pt x="0" y="73"/>
                  </a:lnTo>
                  <a:lnTo>
                    <a:pt x="0" y="73"/>
                  </a:lnTo>
                  <a:lnTo>
                    <a:pt x="0" y="66"/>
                  </a:lnTo>
                  <a:lnTo>
                    <a:pt x="0" y="60"/>
                  </a:lnTo>
                  <a:lnTo>
                    <a:pt x="0" y="53"/>
                  </a:lnTo>
                  <a:lnTo>
                    <a:pt x="0" y="47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6" y="33"/>
                  </a:lnTo>
                  <a:lnTo>
                    <a:pt x="13" y="33"/>
                  </a:lnTo>
                  <a:lnTo>
                    <a:pt x="20" y="27"/>
                  </a:lnTo>
                  <a:lnTo>
                    <a:pt x="26" y="27"/>
                  </a:lnTo>
                  <a:lnTo>
                    <a:pt x="33" y="20"/>
                  </a:lnTo>
                  <a:lnTo>
                    <a:pt x="33" y="20"/>
                  </a:lnTo>
                  <a:lnTo>
                    <a:pt x="33" y="14"/>
                  </a:lnTo>
                  <a:lnTo>
                    <a:pt x="33" y="7"/>
                  </a:lnTo>
                  <a:lnTo>
                    <a:pt x="33" y="0"/>
                  </a:lnTo>
                  <a:lnTo>
                    <a:pt x="39" y="0"/>
                  </a:lnTo>
                  <a:lnTo>
                    <a:pt x="39" y="7"/>
                  </a:lnTo>
                  <a:lnTo>
                    <a:pt x="39" y="14"/>
                  </a:lnTo>
                  <a:lnTo>
                    <a:pt x="39" y="20"/>
                  </a:lnTo>
                  <a:lnTo>
                    <a:pt x="33" y="20"/>
                  </a:lnTo>
                  <a:lnTo>
                    <a:pt x="33" y="27"/>
                  </a:lnTo>
                  <a:lnTo>
                    <a:pt x="33" y="33"/>
                  </a:lnTo>
                  <a:lnTo>
                    <a:pt x="33" y="40"/>
                  </a:lnTo>
                  <a:lnTo>
                    <a:pt x="33" y="47"/>
                  </a:lnTo>
                  <a:lnTo>
                    <a:pt x="33" y="53"/>
                  </a:lnTo>
                  <a:lnTo>
                    <a:pt x="33" y="53"/>
                  </a:lnTo>
                  <a:lnTo>
                    <a:pt x="26" y="60"/>
                  </a:lnTo>
                  <a:lnTo>
                    <a:pt x="26" y="66"/>
                  </a:lnTo>
                  <a:lnTo>
                    <a:pt x="20" y="66"/>
                  </a:lnTo>
                  <a:lnTo>
                    <a:pt x="13" y="73"/>
                  </a:lnTo>
                  <a:lnTo>
                    <a:pt x="6" y="79"/>
                  </a:lnTo>
                  <a:lnTo>
                    <a:pt x="6" y="86"/>
                  </a:lnTo>
                  <a:lnTo>
                    <a:pt x="6" y="93"/>
                  </a:lnTo>
                  <a:lnTo>
                    <a:pt x="6" y="93"/>
                  </a:lnTo>
                  <a:lnTo>
                    <a:pt x="6" y="93"/>
                  </a:lnTo>
                  <a:lnTo>
                    <a:pt x="0" y="7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0" name=""/>
            <p:cNvSpPr/>
            <p:nvPr/>
          </p:nvSpPr>
          <p:spPr>
            <a:xfrm>
              <a:off x="4962600" y="3598920"/>
              <a:ext cx="31680" cy="1440"/>
            </a:xfrm>
            <a:custGeom>
              <a:avLst/>
              <a:gdLst/>
              <a:ahLst/>
              <a:rect l="l" t="t" r="r" b="b"/>
              <a:pathLst>
                <a:path w="20" h="0">
                  <a:moveTo>
                    <a:pt x="20" y="0"/>
                  </a:moveTo>
                  <a:lnTo>
                    <a:pt x="20" y="0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20" y="0"/>
                  </a:lnTo>
                  <a:lnTo>
                    <a:pt x="2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1" name=""/>
            <p:cNvSpPr/>
            <p:nvPr/>
          </p:nvSpPr>
          <p:spPr>
            <a:xfrm>
              <a:off x="4921200" y="3525840"/>
              <a:ext cx="52560" cy="73080"/>
            </a:xfrm>
            <a:custGeom>
              <a:avLst/>
              <a:gdLst/>
              <a:ahLst/>
              <a:rect l="l" t="t" r="r" b="b"/>
              <a:pathLst>
                <a:path w="33" h="46">
                  <a:moveTo>
                    <a:pt x="33" y="20"/>
                  </a:moveTo>
                  <a:lnTo>
                    <a:pt x="26" y="7"/>
                  </a:lnTo>
                  <a:lnTo>
                    <a:pt x="26" y="7"/>
                  </a:lnTo>
                  <a:lnTo>
                    <a:pt x="13" y="0"/>
                  </a:lnTo>
                  <a:lnTo>
                    <a:pt x="6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33"/>
                  </a:lnTo>
                  <a:lnTo>
                    <a:pt x="6" y="40"/>
                  </a:lnTo>
                  <a:lnTo>
                    <a:pt x="13" y="46"/>
                  </a:lnTo>
                  <a:lnTo>
                    <a:pt x="20" y="46"/>
                  </a:lnTo>
                  <a:lnTo>
                    <a:pt x="26" y="46"/>
                  </a:lnTo>
                  <a:lnTo>
                    <a:pt x="26" y="40"/>
                  </a:lnTo>
                  <a:lnTo>
                    <a:pt x="33" y="33"/>
                  </a:lnTo>
                  <a:lnTo>
                    <a:pt x="33" y="2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2" name=""/>
            <p:cNvSpPr/>
            <p:nvPr/>
          </p:nvSpPr>
          <p:spPr>
            <a:xfrm>
              <a:off x="5035680" y="3557520"/>
              <a:ext cx="11160" cy="1800"/>
            </a:xfrm>
            <a:custGeom>
              <a:avLst/>
              <a:gdLst/>
              <a:ahLst/>
              <a:rect l="l" t="t" r="r" b="b"/>
              <a:pathLst>
                <a:path w="7" h="0">
                  <a:moveTo>
                    <a:pt x="7" y="0"/>
                  </a:moveTo>
                  <a:lnTo>
                    <a:pt x="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" y="0"/>
                  </a:lnTo>
                  <a:lnTo>
                    <a:pt x="7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3" name=""/>
            <p:cNvSpPr/>
            <p:nvPr/>
          </p:nvSpPr>
          <p:spPr>
            <a:xfrm>
              <a:off x="4105440" y="3463920"/>
              <a:ext cx="61920" cy="61920"/>
            </a:xfrm>
            <a:custGeom>
              <a:avLst/>
              <a:gdLst/>
              <a:ahLst/>
              <a:rect l="l" t="t" r="r" b="b"/>
              <a:pathLst>
                <a:path w="39" h="39">
                  <a:moveTo>
                    <a:pt x="39" y="32"/>
                  </a:moveTo>
                  <a:lnTo>
                    <a:pt x="39" y="26"/>
                  </a:lnTo>
                  <a:lnTo>
                    <a:pt x="39" y="19"/>
                  </a:lnTo>
                  <a:lnTo>
                    <a:pt x="33" y="19"/>
                  </a:lnTo>
                  <a:lnTo>
                    <a:pt x="33" y="13"/>
                  </a:lnTo>
                  <a:lnTo>
                    <a:pt x="33" y="6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26" y="6"/>
                  </a:lnTo>
                  <a:lnTo>
                    <a:pt x="26" y="6"/>
                  </a:lnTo>
                  <a:lnTo>
                    <a:pt x="20" y="13"/>
                  </a:lnTo>
                  <a:lnTo>
                    <a:pt x="13" y="19"/>
                  </a:lnTo>
                  <a:lnTo>
                    <a:pt x="6" y="19"/>
                  </a:lnTo>
                  <a:lnTo>
                    <a:pt x="0" y="26"/>
                  </a:lnTo>
                  <a:lnTo>
                    <a:pt x="6" y="26"/>
                  </a:lnTo>
                  <a:lnTo>
                    <a:pt x="6" y="32"/>
                  </a:lnTo>
                  <a:lnTo>
                    <a:pt x="13" y="32"/>
                  </a:lnTo>
                  <a:lnTo>
                    <a:pt x="20" y="39"/>
                  </a:lnTo>
                  <a:lnTo>
                    <a:pt x="33" y="39"/>
                  </a:lnTo>
                  <a:lnTo>
                    <a:pt x="33" y="32"/>
                  </a:lnTo>
                  <a:lnTo>
                    <a:pt x="39" y="3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4" name=""/>
            <p:cNvSpPr/>
            <p:nvPr/>
          </p:nvSpPr>
          <p:spPr>
            <a:xfrm>
              <a:off x="4460760" y="3494160"/>
              <a:ext cx="20880" cy="2052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13" y="13"/>
                  </a:moveTo>
                  <a:lnTo>
                    <a:pt x="6" y="7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6" y="13"/>
                  </a:lnTo>
                  <a:lnTo>
                    <a:pt x="6" y="13"/>
                  </a:lnTo>
                  <a:lnTo>
                    <a:pt x="13" y="1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5" name=""/>
            <p:cNvSpPr/>
            <p:nvPr/>
          </p:nvSpPr>
          <p:spPr>
            <a:xfrm>
              <a:off x="4973760" y="3494160"/>
              <a:ext cx="41040" cy="42840"/>
            </a:xfrm>
            <a:custGeom>
              <a:avLst/>
              <a:gdLst/>
              <a:ahLst/>
              <a:rect l="l" t="t" r="r" b="b"/>
              <a:pathLst>
                <a:path w="26" h="27">
                  <a:moveTo>
                    <a:pt x="26" y="13"/>
                  </a:moveTo>
                  <a:lnTo>
                    <a:pt x="20" y="7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6" y="0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6" y="27"/>
                  </a:lnTo>
                  <a:lnTo>
                    <a:pt x="13" y="27"/>
                  </a:lnTo>
                  <a:lnTo>
                    <a:pt x="13" y="27"/>
                  </a:lnTo>
                  <a:lnTo>
                    <a:pt x="20" y="20"/>
                  </a:lnTo>
                  <a:lnTo>
                    <a:pt x="20" y="20"/>
                  </a:lnTo>
                  <a:lnTo>
                    <a:pt x="26" y="1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6" name=""/>
            <p:cNvSpPr/>
            <p:nvPr/>
          </p:nvSpPr>
          <p:spPr>
            <a:xfrm>
              <a:off x="5151600" y="3505320"/>
              <a:ext cx="20520" cy="9360"/>
            </a:xfrm>
            <a:custGeom>
              <a:avLst/>
              <a:gdLst/>
              <a:ahLst/>
              <a:rect l="l" t="t" r="r" b="b"/>
              <a:pathLst>
                <a:path w="13" h="6">
                  <a:moveTo>
                    <a:pt x="13" y="6"/>
                  </a:moveTo>
                  <a:lnTo>
                    <a:pt x="13" y="0"/>
                  </a:lnTo>
                  <a:lnTo>
                    <a:pt x="13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13" y="6"/>
                  </a:lnTo>
                  <a:lnTo>
                    <a:pt x="13" y="6"/>
                  </a:lnTo>
                  <a:lnTo>
                    <a:pt x="13" y="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7" name=""/>
            <p:cNvSpPr/>
            <p:nvPr/>
          </p:nvSpPr>
          <p:spPr>
            <a:xfrm>
              <a:off x="4481640" y="3389400"/>
              <a:ext cx="125280" cy="104760"/>
            </a:xfrm>
            <a:custGeom>
              <a:avLst/>
              <a:gdLst/>
              <a:ahLst/>
              <a:rect l="l" t="t" r="r" b="b"/>
              <a:pathLst>
                <a:path w="79" h="66">
                  <a:moveTo>
                    <a:pt x="46" y="47"/>
                  </a:moveTo>
                  <a:lnTo>
                    <a:pt x="53" y="47"/>
                  </a:lnTo>
                  <a:lnTo>
                    <a:pt x="59" y="40"/>
                  </a:lnTo>
                  <a:lnTo>
                    <a:pt x="59" y="33"/>
                  </a:lnTo>
                  <a:lnTo>
                    <a:pt x="66" y="27"/>
                  </a:lnTo>
                  <a:lnTo>
                    <a:pt x="73" y="27"/>
                  </a:lnTo>
                  <a:lnTo>
                    <a:pt x="79" y="20"/>
                  </a:lnTo>
                  <a:lnTo>
                    <a:pt x="79" y="14"/>
                  </a:lnTo>
                  <a:lnTo>
                    <a:pt x="79" y="7"/>
                  </a:lnTo>
                  <a:lnTo>
                    <a:pt x="73" y="0"/>
                  </a:lnTo>
                  <a:lnTo>
                    <a:pt x="66" y="0"/>
                  </a:lnTo>
                  <a:lnTo>
                    <a:pt x="59" y="0"/>
                  </a:lnTo>
                  <a:lnTo>
                    <a:pt x="53" y="0"/>
                  </a:lnTo>
                  <a:lnTo>
                    <a:pt x="40" y="0"/>
                  </a:lnTo>
                  <a:lnTo>
                    <a:pt x="33" y="0"/>
                  </a:lnTo>
                  <a:lnTo>
                    <a:pt x="20" y="7"/>
                  </a:lnTo>
                  <a:lnTo>
                    <a:pt x="13" y="7"/>
                  </a:lnTo>
                  <a:lnTo>
                    <a:pt x="7" y="7"/>
                  </a:lnTo>
                  <a:lnTo>
                    <a:pt x="7" y="14"/>
                  </a:lnTo>
                  <a:lnTo>
                    <a:pt x="0" y="20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0" y="47"/>
                  </a:lnTo>
                  <a:lnTo>
                    <a:pt x="7" y="53"/>
                  </a:lnTo>
                  <a:lnTo>
                    <a:pt x="13" y="60"/>
                  </a:lnTo>
                  <a:lnTo>
                    <a:pt x="20" y="60"/>
                  </a:lnTo>
                  <a:lnTo>
                    <a:pt x="26" y="66"/>
                  </a:lnTo>
                  <a:lnTo>
                    <a:pt x="33" y="60"/>
                  </a:lnTo>
                  <a:lnTo>
                    <a:pt x="46" y="60"/>
                  </a:lnTo>
                  <a:lnTo>
                    <a:pt x="46" y="53"/>
                  </a:lnTo>
                  <a:lnTo>
                    <a:pt x="46" y="4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8" name=""/>
            <p:cNvSpPr/>
            <p:nvPr/>
          </p:nvSpPr>
          <p:spPr>
            <a:xfrm>
              <a:off x="5025960" y="3452760"/>
              <a:ext cx="41400" cy="31680"/>
            </a:xfrm>
            <a:custGeom>
              <a:avLst/>
              <a:gdLst/>
              <a:ahLst/>
              <a:rect l="l" t="t" r="r" b="b"/>
              <a:pathLst>
                <a:path w="26" h="20">
                  <a:moveTo>
                    <a:pt x="26" y="7"/>
                  </a:moveTo>
                  <a:lnTo>
                    <a:pt x="19" y="7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13" y="20"/>
                  </a:lnTo>
                  <a:lnTo>
                    <a:pt x="13" y="20"/>
                  </a:lnTo>
                  <a:lnTo>
                    <a:pt x="19" y="13"/>
                  </a:lnTo>
                  <a:lnTo>
                    <a:pt x="26" y="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9" name=""/>
            <p:cNvSpPr/>
            <p:nvPr/>
          </p:nvSpPr>
          <p:spPr>
            <a:xfrm>
              <a:off x="4376880" y="3421080"/>
              <a:ext cx="1440" cy="144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0" name=""/>
            <p:cNvSpPr/>
            <p:nvPr/>
          </p:nvSpPr>
          <p:spPr>
            <a:xfrm>
              <a:off x="4983120" y="3411360"/>
              <a:ext cx="22320" cy="20880"/>
            </a:xfrm>
            <a:custGeom>
              <a:avLst/>
              <a:gdLst/>
              <a:ahLst/>
              <a:rect l="l" t="t" r="r" b="b"/>
              <a:pathLst>
                <a:path w="14" h="13">
                  <a:moveTo>
                    <a:pt x="14" y="6"/>
                  </a:moveTo>
                  <a:lnTo>
                    <a:pt x="14" y="6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13"/>
                  </a:lnTo>
                  <a:lnTo>
                    <a:pt x="7" y="13"/>
                  </a:lnTo>
                  <a:lnTo>
                    <a:pt x="7" y="13"/>
                  </a:lnTo>
                  <a:lnTo>
                    <a:pt x="7" y="13"/>
                  </a:lnTo>
                  <a:lnTo>
                    <a:pt x="7" y="13"/>
                  </a:lnTo>
                  <a:lnTo>
                    <a:pt x="14" y="13"/>
                  </a:lnTo>
                  <a:lnTo>
                    <a:pt x="14" y="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1" name=""/>
            <p:cNvSpPr/>
            <p:nvPr/>
          </p:nvSpPr>
          <p:spPr>
            <a:xfrm>
              <a:off x="5160960" y="3368520"/>
              <a:ext cx="63360" cy="32040"/>
            </a:xfrm>
            <a:custGeom>
              <a:avLst/>
              <a:gdLst/>
              <a:ahLst/>
              <a:rect l="l" t="t" r="r" b="b"/>
              <a:pathLst>
                <a:path w="40" h="20">
                  <a:moveTo>
                    <a:pt x="40" y="7"/>
                  </a:moveTo>
                  <a:lnTo>
                    <a:pt x="33" y="7"/>
                  </a:lnTo>
                  <a:lnTo>
                    <a:pt x="33" y="0"/>
                  </a:lnTo>
                  <a:lnTo>
                    <a:pt x="27" y="0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7" y="7"/>
                  </a:lnTo>
                  <a:lnTo>
                    <a:pt x="14" y="7"/>
                  </a:lnTo>
                  <a:lnTo>
                    <a:pt x="20" y="13"/>
                  </a:lnTo>
                  <a:lnTo>
                    <a:pt x="27" y="13"/>
                  </a:lnTo>
                  <a:lnTo>
                    <a:pt x="27" y="20"/>
                  </a:lnTo>
                  <a:lnTo>
                    <a:pt x="33" y="20"/>
                  </a:lnTo>
                  <a:lnTo>
                    <a:pt x="33" y="20"/>
                  </a:lnTo>
                  <a:lnTo>
                    <a:pt x="33" y="20"/>
                  </a:lnTo>
                  <a:lnTo>
                    <a:pt x="40" y="20"/>
                  </a:lnTo>
                  <a:lnTo>
                    <a:pt x="40" y="13"/>
                  </a:lnTo>
                  <a:lnTo>
                    <a:pt x="40" y="13"/>
                  </a:lnTo>
                  <a:lnTo>
                    <a:pt x="40" y="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2" name=""/>
            <p:cNvSpPr/>
            <p:nvPr/>
          </p:nvSpPr>
          <p:spPr>
            <a:xfrm flipV="1">
              <a:off x="2610000" y="3338280"/>
              <a:ext cx="20520" cy="20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3" name=""/>
            <p:cNvSpPr/>
            <p:nvPr/>
          </p:nvSpPr>
          <p:spPr>
            <a:xfrm>
              <a:off x="4941720" y="3327480"/>
              <a:ext cx="20880" cy="2052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13" y="7"/>
                  </a:move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13"/>
                  </a:lnTo>
                  <a:lnTo>
                    <a:pt x="7" y="13"/>
                  </a:lnTo>
                  <a:lnTo>
                    <a:pt x="7" y="13"/>
                  </a:lnTo>
                  <a:lnTo>
                    <a:pt x="7" y="13"/>
                  </a:lnTo>
                  <a:lnTo>
                    <a:pt x="7" y="13"/>
                  </a:lnTo>
                  <a:lnTo>
                    <a:pt x="7" y="13"/>
                  </a:lnTo>
                  <a:lnTo>
                    <a:pt x="13" y="7"/>
                  </a:lnTo>
                  <a:lnTo>
                    <a:pt x="13" y="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4" name=""/>
            <p:cNvSpPr/>
            <p:nvPr/>
          </p:nvSpPr>
          <p:spPr>
            <a:xfrm>
              <a:off x="3843360" y="2940120"/>
              <a:ext cx="480960" cy="272880"/>
            </a:xfrm>
            <a:custGeom>
              <a:avLst/>
              <a:gdLst/>
              <a:ahLst/>
              <a:rect l="l" t="t" r="r" b="b"/>
              <a:pathLst>
                <a:path w="303" h="172">
                  <a:moveTo>
                    <a:pt x="40" y="165"/>
                  </a:moveTo>
                  <a:lnTo>
                    <a:pt x="40" y="158"/>
                  </a:lnTo>
                  <a:lnTo>
                    <a:pt x="46" y="152"/>
                  </a:lnTo>
                  <a:lnTo>
                    <a:pt x="53" y="152"/>
                  </a:lnTo>
                  <a:lnTo>
                    <a:pt x="59" y="145"/>
                  </a:lnTo>
                  <a:lnTo>
                    <a:pt x="66" y="145"/>
                  </a:lnTo>
                  <a:lnTo>
                    <a:pt x="73" y="139"/>
                  </a:lnTo>
                  <a:lnTo>
                    <a:pt x="79" y="139"/>
                  </a:lnTo>
                  <a:lnTo>
                    <a:pt x="92" y="139"/>
                  </a:lnTo>
                  <a:lnTo>
                    <a:pt x="99" y="139"/>
                  </a:lnTo>
                  <a:lnTo>
                    <a:pt x="106" y="139"/>
                  </a:lnTo>
                  <a:lnTo>
                    <a:pt x="112" y="139"/>
                  </a:lnTo>
                  <a:lnTo>
                    <a:pt x="119" y="132"/>
                  </a:lnTo>
                  <a:lnTo>
                    <a:pt x="125" y="125"/>
                  </a:lnTo>
                  <a:lnTo>
                    <a:pt x="125" y="119"/>
                  </a:lnTo>
                  <a:lnTo>
                    <a:pt x="132" y="119"/>
                  </a:lnTo>
                  <a:lnTo>
                    <a:pt x="138" y="112"/>
                  </a:lnTo>
                  <a:lnTo>
                    <a:pt x="145" y="112"/>
                  </a:lnTo>
                  <a:lnTo>
                    <a:pt x="158" y="112"/>
                  </a:lnTo>
                  <a:lnTo>
                    <a:pt x="165" y="112"/>
                  </a:lnTo>
                  <a:lnTo>
                    <a:pt x="171" y="106"/>
                  </a:lnTo>
                  <a:lnTo>
                    <a:pt x="178" y="106"/>
                  </a:lnTo>
                  <a:lnTo>
                    <a:pt x="178" y="99"/>
                  </a:lnTo>
                  <a:lnTo>
                    <a:pt x="185" y="93"/>
                  </a:lnTo>
                  <a:lnTo>
                    <a:pt x="185" y="86"/>
                  </a:lnTo>
                  <a:lnTo>
                    <a:pt x="191" y="79"/>
                  </a:lnTo>
                  <a:lnTo>
                    <a:pt x="198" y="79"/>
                  </a:lnTo>
                  <a:lnTo>
                    <a:pt x="204" y="73"/>
                  </a:lnTo>
                  <a:lnTo>
                    <a:pt x="211" y="73"/>
                  </a:lnTo>
                  <a:lnTo>
                    <a:pt x="218" y="66"/>
                  </a:lnTo>
                  <a:lnTo>
                    <a:pt x="224" y="66"/>
                  </a:lnTo>
                  <a:lnTo>
                    <a:pt x="231" y="66"/>
                  </a:lnTo>
                  <a:lnTo>
                    <a:pt x="237" y="66"/>
                  </a:lnTo>
                  <a:lnTo>
                    <a:pt x="251" y="66"/>
                  </a:lnTo>
                  <a:lnTo>
                    <a:pt x="251" y="60"/>
                  </a:lnTo>
                  <a:lnTo>
                    <a:pt x="257" y="60"/>
                  </a:lnTo>
                  <a:lnTo>
                    <a:pt x="257" y="53"/>
                  </a:lnTo>
                  <a:lnTo>
                    <a:pt x="257" y="46"/>
                  </a:lnTo>
                  <a:lnTo>
                    <a:pt x="264" y="40"/>
                  </a:lnTo>
                  <a:lnTo>
                    <a:pt x="264" y="33"/>
                  </a:lnTo>
                  <a:lnTo>
                    <a:pt x="270" y="33"/>
                  </a:lnTo>
                  <a:lnTo>
                    <a:pt x="283" y="27"/>
                  </a:lnTo>
                  <a:lnTo>
                    <a:pt x="290" y="27"/>
                  </a:lnTo>
                  <a:lnTo>
                    <a:pt x="297" y="27"/>
                  </a:lnTo>
                  <a:lnTo>
                    <a:pt x="303" y="27"/>
                  </a:lnTo>
                  <a:lnTo>
                    <a:pt x="303" y="20"/>
                  </a:lnTo>
                  <a:lnTo>
                    <a:pt x="303" y="14"/>
                  </a:lnTo>
                  <a:lnTo>
                    <a:pt x="297" y="7"/>
                  </a:lnTo>
                  <a:lnTo>
                    <a:pt x="290" y="0"/>
                  </a:lnTo>
                  <a:lnTo>
                    <a:pt x="283" y="0"/>
                  </a:lnTo>
                  <a:lnTo>
                    <a:pt x="277" y="0"/>
                  </a:lnTo>
                  <a:lnTo>
                    <a:pt x="270" y="0"/>
                  </a:lnTo>
                  <a:lnTo>
                    <a:pt x="264" y="7"/>
                  </a:lnTo>
                  <a:lnTo>
                    <a:pt x="257" y="7"/>
                  </a:lnTo>
                  <a:lnTo>
                    <a:pt x="251" y="14"/>
                  </a:lnTo>
                  <a:lnTo>
                    <a:pt x="244" y="14"/>
                  </a:lnTo>
                  <a:lnTo>
                    <a:pt x="231" y="14"/>
                  </a:lnTo>
                  <a:lnTo>
                    <a:pt x="224" y="20"/>
                  </a:lnTo>
                  <a:lnTo>
                    <a:pt x="218" y="14"/>
                  </a:lnTo>
                  <a:lnTo>
                    <a:pt x="204" y="14"/>
                  </a:lnTo>
                  <a:lnTo>
                    <a:pt x="198" y="20"/>
                  </a:lnTo>
                  <a:lnTo>
                    <a:pt x="191" y="20"/>
                  </a:lnTo>
                  <a:lnTo>
                    <a:pt x="191" y="27"/>
                  </a:lnTo>
                  <a:lnTo>
                    <a:pt x="185" y="33"/>
                  </a:lnTo>
                  <a:lnTo>
                    <a:pt x="178" y="33"/>
                  </a:lnTo>
                  <a:lnTo>
                    <a:pt x="171" y="40"/>
                  </a:lnTo>
                  <a:lnTo>
                    <a:pt x="158" y="40"/>
                  </a:lnTo>
                  <a:lnTo>
                    <a:pt x="152" y="40"/>
                  </a:lnTo>
                  <a:lnTo>
                    <a:pt x="145" y="46"/>
                  </a:lnTo>
                  <a:lnTo>
                    <a:pt x="138" y="46"/>
                  </a:lnTo>
                  <a:lnTo>
                    <a:pt x="125" y="46"/>
                  </a:lnTo>
                  <a:lnTo>
                    <a:pt x="119" y="46"/>
                  </a:lnTo>
                  <a:lnTo>
                    <a:pt x="112" y="46"/>
                  </a:lnTo>
                  <a:lnTo>
                    <a:pt x="112" y="53"/>
                  </a:lnTo>
                  <a:lnTo>
                    <a:pt x="112" y="60"/>
                  </a:lnTo>
                  <a:lnTo>
                    <a:pt x="112" y="66"/>
                  </a:lnTo>
                  <a:lnTo>
                    <a:pt x="112" y="66"/>
                  </a:lnTo>
                  <a:lnTo>
                    <a:pt x="119" y="73"/>
                  </a:lnTo>
                  <a:lnTo>
                    <a:pt x="125" y="79"/>
                  </a:lnTo>
                  <a:lnTo>
                    <a:pt x="119" y="86"/>
                  </a:lnTo>
                  <a:lnTo>
                    <a:pt x="112" y="86"/>
                  </a:lnTo>
                  <a:lnTo>
                    <a:pt x="106" y="93"/>
                  </a:lnTo>
                  <a:lnTo>
                    <a:pt x="99" y="93"/>
                  </a:lnTo>
                  <a:lnTo>
                    <a:pt x="92" y="99"/>
                  </a:lnTo>
                  <a:lnTo>
                    <a:pt x="86" y="99"/>
                  </a:lnTo>
                  <a:lnTo>
                    <a:pt x="79" y="106"/>
                  </a:lnTo>
                  <a:lnTo>
                    <a:pt x="73" y="106"/>
                  </a:lnTo>
                  <a:lnTo>
                    <a:pt x="66" y="112"/>
                  </a:lnTo>
                  <a:lnTo>
                    <a:pt x="59" y="112"/>
                  </a:lnTo>
                  <a:lnTo>
                    <a:pt x="53" y="119"/>
                  </a:lnTo>
                  <a:lnTo>
                    <a:pt x="46" y="119"/>
                  </a:lnTo>
                  <a:lnTo>
                    <a:pt x="40" y="125"/>
                  </a:lnTo>
                  <a:lnTo>
                    <a:pt x="33" y="132"/>
                  </a:lnTo>
                  <a:lnTo>
                    <a:pt x="26" y="132"/>
                  </a:lnTo>
                  <a:lnTo>
                    <a:pt x="20" y="139"/>
                  </a:lnTo>
                  <a:lnTo>
                    <a:pt x="13" y="139"/>
                  </a:lnTo>
                  <a:lnTo>
                    <a:pt x="7" y="145"/>
                  </a:lnTo>
                  <a:lnTo>
                    <a:pt x="7" y="152"/>
                  </a:lnTo>
                  <a:lnTo>
                    <a:pt x="0" y="158"/>
                  </a:lnTo>
                  <a:lnTo>
                    <a:pt x="7" y="165"/>
                  </a:lnTo>
                  <a:lnTo>
                    <a:pt x="7" y="165"/>
                  </a:lnTo>
                  <a:lnTo>
                    <a:pt x="20" y="172"/>
                  </a:lnTo>
                  <a:lnTo>
                    <a:pt x="26" y="172"/>
                  </a:lnTo>
                  <a:lnTo>
                    <a:pt x="33" y="172"/>
                  </a:lnTo>
                  <a:lnTo>
                    <a:pt x="40" y="16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5" name=""/>
            <p:cNvSpPr/>
            <p:nvPr/>
          </p:nvSpPr>
          <p:spPr>
            <a:xfrm>
              <a:off x="5830920" y="2962440"/>
              <a:ext cx="93600" cy="29880"/>
            </a:xfrm>
            <a:custGeom>
              <a:avLst/>
              <a:gdLst/>
              <a:ahLst/>
              <a:rect l="l" t="t" r="r" b="b"/>
              <a:pathLst>
                <a:path w="59" h="19">
                  <a:moveTo>
                    <a:pt x="59" y="13"/>
                  </a:moveTo>
                  <a:lnTo>
                    <a:pt x="59" y="6"/>
                  </a:lnTo>
                  <a:lnTo>
                    <a:pt x="53" y="6"/>
                  </a:lnTo>
                  <a:lnTo>
                    <a:pt x="46" y="6"/>
                  </a:lnTo>
                  <a:lnTo>
                    <a:pt x="40" y="6"/>
                  </a:lnTo>
                  <a:lnTo>
                    <a:pt x="40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7" y="13"/>
                  </a:lnTo>
                  <a:lnTo>
                    <a:pt x="13" y="19"/>
                  </a:lnTo>
                  <a:lnTo>
                    <a:pt x="13" y="19"/>
                  </a:lnTo>
                  <a:lnTo>
                    <a:pt x="20" y="19"/>
                  </a:lnTo>
                  <a:lnTo>
                    <a:pt x="26" y="19"/>
                  </a:lnTo>
                  <a:lnTo>
                    <a:pt x="33" y="13"/>
                  </a:lnTo>
                  <a:lnTo>
                    <a:pt x="40" y="13"/>
                  </a:lnTo>
                  <a:lnTo>
                    <a:pt x="46" y="13"/>
                  </a:lnTo>
                  <a:lnTo>
                    <a:pt x="53" y="13"/>
                  </a:lnTo>
                  <a:lnTo>
                    <a:pt x="53" y="13"/>
                  </a:lnTo>
                  <a:lnTo>
                    <a:pt x="59" y="1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6" name=""/>
            <p:cNvSpPr/>
            <p:nvPr/>
          </p:nvSpPr>
          <p:spPr>
            <a:xfrm>
              <a:off x="4292640" y="2909880"/>
              <a:ext cx="136440" cy="61920"/>
            </a:xfrm>
            <a:custGeom>
              <a:avLst/>
              <a:gdLst/>
              <a:ahLst/>
              <a:rect l="l" t="t" r="r" b="b"/>
              <a:pathLst>
                <a:path w="86" h="39">
                  <a:moveTo>
                    <a:pt x="86" y="13"/>
                  </a:moveTo>
                  <a:lnTo>
                    <a:pt x="86" y="6"/>
                  </a:lnTo>
                  <a:lnTo>
                    <a:pt x="80" y="6"/>
                  </a:lnTo>
                  <a:lnTo>
                    <a:pt x="73" y="0"/>
                  </a:lnTo>
                  <a:lnTo>
                    <a:pt x="66" y="0"/>
                  </a:lnTo>
                  <a:lnTo>
                    <a:pt x="60" y="6"/>
                  </a:lnTo>
                  <a:lnTo>
                    <a:pt x="47" y="6"/>
                  </a:lnTo>
                  <a:lnTo>
                    <a:pt x="40" y="6"/>
                  </a:lnTo>
                  <a:lnTo>
                    <a:pt x="33" y="6"/>
                  </a:lnTo>
                  <a:lnTo>
                    <a:pt x="20" y="6"/>
                  </a:lnTo>
                  <a:lnTo>
                    <a:pt x="14" y="6"/>
                  </a:lnTo>
                  <a:lnTo>
                    <a:pt x="7" y="13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0" y="26"/>
                  </a:lnTo>
                  <a:lnTo>
                    <a:pt x="7" y="33"/>
                  </a:lnTo>
                  <a:lnTo>
                    <a:pt x="14" y="33"/>
                  </a:lnTo>
                  <a:lnTo>
                    <a:pt x="20" y="39"/>
                  </a:lnTo>
                  <a:lnTo>
                    <a:pt x="33" y="39"/>
                  </a:lnTo>
                  <a:lnTo>
                    <a:pt x="40" y="39"/>
                  </a:lnTo>
                  <a:lnTo>
                    <a:pt x="47" y="39"/>
                  </a:lnTo>
                  <a:lnTo>
                    <a:pt x="53" y="39"/>
                  </a:lnTo>
                  <a:lnTo>
                    <a:pt x="60" y="33"/>
                  </a:lnTo>
                  <a:lnTo>
                    <a:pt x="66" y="26"/>
                  </a:lnTo>
                  <a:lnTo>
                    <a:pt x="73" y="19"/>
                  </a:lnTo>
                  <a:lnTo>
                    <a:pt x="80" y="19"/>
                  </a:lnTo>
                  <a:lnTo>
                    <a:pt x="86" y="1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7" name=""/>
            <p:cNvSpPr/>
            <p:nvPr/>
          </p:nvSpPr>
          <p:spPr>
            <a:xfrm>
              <a:off x="5694480" y="2930400"/>
              <a:ext cx="31680" cy="1800"/>
            </a:xfrm>
            <a:custGeom>
              <a:avLst/>
              <a:gdLst/>
              <a:ahLst/>
              <a:rect l="l" t="t" r="r" b="b"/>
              <a:pathLst>
                <a:path w="20" h="0">
                  <a:moveTo>
                    <a:pt x="20" y="0"/>
                  </a:move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2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8" name=""/>
            <p:cNvSpPr/>
            <p:nvPr/>
          </p:nvSpPr>
          <p:spPr>
            <a:xfrm>
              <a:off x="4440240" y="2867040"/>
              <a:ext cx="93600" cy="31680"/>
            </a:xfrm>
            <a:custGeom>
              <a:avLst/>
              <a:gdLst/>
              <a:ahLst/>
              <a:rect l="l" t="t" r="r" b="b"/>
              <a:pathLst>
                <a:path w="59" h="20">
                  <a:moveTo>
                    <a:pt x="59" y="13"/>
                  </a:moveTo>
                  <a:lnTo>
                    <a:pt x="52" y="13"/>
                  </a:lnTo>
                  <a:lnTo>
                    <a:pt x="46" y="13"/>
                  </a:lnTo>
                  <a:lnTo>
                    <a:pt x="39" y="7"/>
                  </a:lnTo>
                  <a:lnTo>
                    <a:pt x="33" y="7"/>
                  </a:lnTo>
                  <a:lnTo>
                    <a:pt x="26" y="7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7"/>
                  </a:lnTo>
                  <a:lnTo>
                    <a:pt x="6" y="7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6" y="20"/>
                  </a:lnTo>
                  <a:lnTo>
                    <a:pt x="13" y="20"/>
                  </a:lnTo>
                  <a:lnTo>
                    <a:pt x="19" y="20"/>
                  </a:lnTo>
                  <a:lnTo>
                    <a:pt x="26" y="20"/>
                  </a:lnTo>
                  <a:lnTo>
                    <a:pt x="33" y="20"/>
                  </a:lnTo>
                  <a:lnTo>
                    <a:pt x="39" y="20"/>
                  </a:lnTo>
                  <a:lnTo>
                    <a:pt x="46" y="20"/>
                  </a:lnTo>
                  <a:lnTo>
                    <a:pt x="52" y="20"/>
                  </a:lnTo>
                  <a:lnTo>
                    <a:pt x="59" y="1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9" name=""/>
            <p:cNvSpPr/>
            <p:nvPr/>
          </p:nvSpPr>
          <p:spPr>
            <a:xfrm>
              <a:off x="3173400" y="1382760"/>
              <a:ext cx="3557520" cy="5018040"/>
            </a:xfrm>
            <a:custGeom>
              <a:avLst/>
              <a:gdLst/>
              <a:ahLst/>
              <a:rect l="l" t="t" r="r" b="b"/>
              <a:pathLst>
                <a:path w="2241" h="3161">
                  <a:moveTo>
                    <a:pt x="943" y="3161"/>
                  </a:moveTo>
                  <a:lnTo>
                    <a:pt x="976" y="3128"/>
                  </a:lnTo>
                  <a:lnTo>
                    <a:pt x="1009" y="3128"/>
                  </a:lnTo>
                  <a:lnTo>
                    <a:pt x="1042" y="3095"/>
                  </a:lnTo>
                  <a:lnTo>
                    <a:pt x="1074" y="3095"/>
                  </a:lnTo>
                  <a:lnTo>
                    <a:pt x="1107" y="3095"/>
                  </a:lnTo>
                  <a:lnTo>
                    <a:pt x="1134" y="3062"/>
                  </a:lnTo>
                  <a:lnTo>
                    <a:pt x="1167" y="3062"/>
                  </a:lnTo>
                  <a:lnTo>
                    <a:pt x="1200" y="3029"/>
                  </a:lnTo>
                  <a:lnTo>
                    <a:pt x="1233" y="3029"/>
                  </a:lnTo>
                  <a:lnTo>
                    <a:pt x="1266" y="2996"/>
                  </a:lnTo>
                  <a:lnTo>
                    <a:pt x="1298" y="2996"/>
                  </a:lnTo>
                  <a:lnTo>
                    <a:pt x="1331" y="2996"/>
                  </a:lnTo>
                  <a:lnTo>
                    <a:pt x="1331" y="2963"/>
                  </a:lnTo>
                  <a:lnTo>
                    <a:pt x="1364" y="2930"/>
                  </a:lnTo>
                  <a:lnTo>
                    <a:pt x="1364" y="2897"/>
                  </a:lnTo>
                  <a:lnTo>
                    <a:pt x="1397" y="2864"/>
                  </a:lnTo>
                  <a:lnTo>
                    <a:pt x="1397" y="2831"/>
                  </a:lnTo>
                  <a:lnTo>
                    <a:pt x="1430" y="2805"/>
                  </a:lnTo>
                  <a:lnTo>
                    <a:pt x="1430" y="2772"/>
                  </a:lnTo>
                  <a:lnTo>
                    <a:pt x="1463" y="2739"/>
                  </a:lnTo>
                  <a:lnTo>
                    <a:pt x="1496" y="2706"/>
                  </a:lnTo>
                  <a:lnTo>
                    <a:pt x="1496" y="2673"/>
                  </a:lnTo>
                  <a:lnTo>
                    <a:pt x="1529" y="2640"/>
                  </a:lnTo>
                  <a:lnTo>
                    <a:pt x="1529" y="2608"/>
                  </a:lnTo>
                  <a:lnTo>
                    <a:pt x="1555" y="2575"/>
                  </a:lnTo>
                  <a:lnTo>
                    <a:pt x="1555" y="2542"/>
                  </a:lnTo>
                  <a:lnTo>
                    <a:pt x="1588" y="2509"/>
                  </a:lnTo>
                  <a:lnTo>
                    <a:pt x="1588" y="2476"/>
                  </a:lnTo>
                  <a:lnTo>
                    <a:pt x="1621" y="2443"/>
                  </a:lnTo>
                  <a:lnTo>
                    <a:pt x="1621" y="2410"/>
                  </a:lnTo>
                  <a:lnTo>
                    <a:pt x="1654" y="2377"/>
                  </a:lnTo>
                  <a:lnTo>
                    <a:pt x="1654" y="2344"/>
                  </a:lnTo>
                  <a:lnTo>
                    <a:pt x="1687" y="2311"/>
                  </a:lnTo>
                  <a:lnTo>
                    <a:pt x="1687" y="2278"/>
                  </a:lnTo>
                  <a:lnTo>
                    <a:pt x="1720" y="2245"/>
                  </a:lnTo>
                  <a:lnTo>
                    <a:pt x="1753" y="2213"/>
                  </a:lnTo>
                  <a:lnTo>
                    <a:pt x="1753" y="2186"/>
                  </a:lnTo>
                  <a:lnTo>
                    <a:pt x="1786" y="2153"/>
                  </a:lnTo>
                  <a:lnTo>
                    <a:pt x="1786" y="2120"/>
                  </a:lnTo>
                  <a:lnTo>
                    <a:pt x="1819" y="2087"/>
                  </a:lnTo>
                  <a:lnTo>
                    <a:pt x="1819" y="2055"/>
                  </a:lnTo>
                  <a:lnTo>
                    <a:pt x="1852" y="2022"/>
                  </a:lnTo>
                  <a:lnTo>
                    <a:pt x="1852" y="1989"/>
                  </a:lnTo>
                  <a:lnTo>
                    <a:pt x="1885" y="1956"/>
                  </a:lnTo>
                  <a:lnTo>
                    <a:pt x="1885" y="1923"/>
                  </a:lnTo>
                  <a:lnTo>
                    <a:pt x="1918" y="1890"/>
                  </a:lnTo>
                  <a:lnTo>
                    <a:pt x="1918" y="1857"/>
                  </a:lnTo>
                  <a:lnTo>
                    <a:pt x="1944" y="1824"/>
                  </a:lnTo>
                  <a:lnTo>
                    <a:pt x="1944" y="1791"/>
                  </a:lnTo>
                  <a:lnTo>
                    <a:pt x="1944" y="1785"/>
                  </a:lnTo>
                  <a:lnTo>
                    <a:pt x="1938" y="1785"/>
                  </a:lnTo>
                  <a:lnTo>
                    <a:pt x="1931" y="1791"/>
                  </a:lnTo>
                  <a:lnTo>
                    <a:pt x="1924" y="1798"/>
                  </a:lnTo>
                  <a:lnTo>
                    <a:pt x="1918" y="1798"/>
                  </a:lnTo>
                  <a:lnTo>
                    <a:pt x="1911" y="1798"/>
                  </a:lnTo>
                  <a:lnTo>
                    <a:pt x="1905" y="1791"/>
                  </a:lnTo>
                  <a:lnTo>
                    <a:pt x="1905" y="1778"/>
                  </a:lnTo>
                  <a:lnTo>
                    <a:pt x="1905" y="1771"/>
                  </a:lnTo>
                  <a:lnTo>
                    <a:pt x="1911" y="1758"/>
                  </a:lnTo>
                  <a:lnTo>
                    <a:pt x="1911" y="1745"/>
                  </a:lnTo>
                  <a:lnTo>
                    <a:pt x="1911" y="1739"/>
                  </a:lnTo>
                  <a:lnTo>
                    <a:pt x="1918" y="1725"/>
                  </a:lnTo>
                  <a:lnTo>
                    <a:pt x="1918" y="1719"/>
                  </a:lnTo>
                  <a:lnTo>
                    <a:pt x="1924" y="1706"/>
                  </a:lnTo>
                  <a:lnTo>
                    <a:pt x="1924" y="1699"/>
                  </a:lnTo>
                  <a:lnTo>
                    <a:pt x="1924" y="1692"/>
                  </a:lnTo>
                  <a:lnTo>
                    <a:pt x="1918" y="1679"/>
                  </a:lnTo>
                  <a:lnTo>
                    <a:pt x="1911" y="1673"/>
                  </a:lnTo>
                  <a:lnTo>
                    <a:pt x="1905" y="1673"/>
                  </a:lnTo>
                  <a:lnTo>
                    <a:pt x="1898" y="1673"/>
                  </a:lnTo>
                  <a:lnTo>
                    <a:pt x="1892" y="1679"/>
                  </a:lnTo>
                  <a:lnTo>
                    <a:pt x="1885" y="1679"/>
                  </a:lnTo>
                  <a:lnTo>
                    <a:pt x="1878" y="1686"/>
                  </a:lnTo>
                  <a:lnTo>
                    <a:pt x="1872" y="1692"/>
                  </a:lnTo>
                  <a:lnTo>
                    <a:pt x="1865" y="1692"/>
                  </a:lnTo>
                  <a:lnTo>
                    <a:pt x="1859" y="1699"/>
                  </a:lnTo>
                  <a:lnTo>
                    <a:pt x="1852" y="1706"/>
                  </a:lnTo>
                  <a:lnTo>
                    <a:pt x="1845" y="1706"/>
                  </a:lnTo>
                  <a:lnTo>
                    <a:pt x="1839" y="1706"/>
                  </a:lnTo>
                  <a:lnTo>
                    <a:pt x="1832" y="1712"/>
                  </a:lnTo>
                  <a:lnTo>
                    <a:pt x="1819" y="1712"/>
                  </a:lnTo>
                  <a:lnTo>
                    <a:pt x="1812" y="1712"/>
                  </a:lnTo>
                  <a:lnTo>
                    <a:pt x="1806" y="1712"/>
                  </a:lnTo>
                  <a:lnTo>
                    <a:pt x="1799" y="1712"/>
                  </a:lnTo>
                  <a:lnTo>
                    <a:pt x="1793" y="1712"/>
                  </a:lnTo>
                  <a:lnTo>
                    <a:pt x="1786" y="1712"/>
                  </a:lnTo>
                  <a:lnTo>
                    <a:pt x="1780" y="1712"/>
                  </a:lnTo>
                  <a:lnTo>
                    <a:pt x="1766" y="1712"/>
                  </a:lnTo>
                  <a:lnTo>
                    <a:pt x="1760" y="1712"/>
                  </a:lnTo>
                  <a:lnTo>
                    <a:pt x="1753" y="1712"/>
                  </a:lnTo>
                  <a:lnTo>
                    <a:pt x="1747" y="1712"/>
                  </a:lnTo>
                  <a:lnTo>
                    <a:pt x="1740" y="1712"/>
                  </a:lnTo>
                  <a:lnTo>
                    <a:pt x="1733" y="1712"/>
                  </a:lnTo>
                  <a:lnTo>
                    <a:pt x="1727" y="1712"/>
                  </a:lnTo>
                  <a:lnTo>
                    <a:pt x="1714" y="1712"/>
                  </a:lnTo>
                  <a:lnTo>
                    <a:pt x="1707" y="1712"/>
                  </a:lnTo>
                  <a:lnTo>
                    <a:pt x="1700" y="1712"/>
                  </a:lnTo>
                  <a:lnTo>
                    <a:pt x="1694" y="1712"/>
                  </a:lnTo>
                  <a:lnTo>
                    <a:pt x="1687" y="1712"/>
                  </a:lnTo>
                  <a:lnTo>
                    <a:pt x="1681" y="1712"/>
                  </a:lnTo>
                  <a:lnTo>
                    <a:pt x="1668" y="1712"/>
                  </a:lnTo>
                  <a:lnTo>
                    <a:pt x="1661" y="1712"/>
                  </a:lnTo>
                  <a:lnTo>
                    <a:pt x="1654" y="1706"/>
                  </a:lnTo>
                  <a:lnTo>
                    <a:pt x="1654" y="1699"/>
                  </a:lnTo>
                  <a:lnTo>
                    <a:pt x="1648" y="1692"/>
                  </a:lnTo>
                  <a:lnTo>
                    <a:pt x="1641" y="1679"/>
                  </a:lnTo>
                  <a:lnTo>
                    <a:pt x="1641" y="1673"/>
                  </a:lnTo>
                  <a:lnTo>
                    <a:pt x="1635" y="1666"/>
                  </a:lnTo>
                  <a:lnTo>
                    <a:pt x="1635" y="1653"/>
                  </a:lnTo>
                  <a:lnTo>
                    <a:pt x="1628" y="1653"/>
                  </a:lnTo>
                  <a:lnTo>
                    <a:pt x="1621" y="1646"/>
                  </a:lnTo>
                  <a:lnTo>
                    <a:pt x="1615" y="1640"/>
                  </a:lnTo>
                  <a:lnTo>
                    <a:pt x="1608" y="1633"/>
                  </a:lnTo>
                  <a:lnTo>
                    <a:pt x="1602" y="1627"/>
                  </a:lnTo>
                  <a:lnTo>
                    <a:pt x="1595" y="1620"/>
                  </a:lnTo>
                  <a:lnTo>
                    <a:pt x="1588" y="1620"/>
                  </a:lnTo>
                  <a:lnTo>
                    <a:pt x="1582" y="1620"/>
                  </a:lnTo>
                  <a:lnTo>
                    <a:pt x="1575" y="1627"/>
                  </a:lnTo>
                  <a:lnTo>
                    <a:pt x="1569" y="1633"/>
                  </a:lnTo>
                  <a:lnTo>
                    <a:pt x="1569" y="1646"/>
                  </a:lnTo>
                  <a:lnTo>
                    <a:pt x="1569" y="1660"/>
                  </a:lnTo>
                  <a:lnTo>
                    <a:pt x="1569" y="1666"/>
                  </a:lnTo>
                  <a:lnTo>
                    <a:pt x="1562" y="1679"/>
                  </a:lnTo>
                  <a:lnTo>
                    <a:pt x="1555" y="1686"/>
                  </a:lnTo>
                  <a:lnTo>
                    <a:pt x="1549" y="1692"/>
                  </a:lnTo>
                  <a:lnTo>
                    <a:pt x="1542" y="1692"/>
                  </a:lnTo>
                  <a:lnTo>
                    <a:pt x="1536" y="1692"/>
                  </a:lnTo>
                  <a:lnTo>
                    <a:pt x="1529" y="1692"/>
                  </a:lnTo>
                  <a:lnTo>
                    <a:pt x="1523" y="1699"/>
                  </a:lnTo>
                  <a:lnTo>
                    <a:pt x="1516" y="1699"/>
                  </a:lnTo>
                  <a:lnTo>
                    <a:pt x="1503" y="1699"/>
                  </a:lnTo>
                  <a:lnTo>
                    <a:pt x="1496" y="1699"/>
                  </a:lnTo>
                  <a:lnTo>
                    <a:pt x="1490" y="1706"/>
                  </a:lnTo>
                  <a:lnTo>
                    <a:pt x="1483" y="1706"/>
                  </a:lnTo>
                  <a:lnTo>
                    <a:pt x="1476" y="1706"/>
                  </a:lnTo>
                  <a:lnTo>
                    <a:pt x="1470" y="1706"/>
                  </a:lnTo>
                  <a:lnTo>
                    <a:pt x="1463" y="1712"/>
                  </a:lnTo>
                  <a:lnTo>
                    <a:pt x="1457" y="1712"/>
                  </a:lnTo>
                  <a:lnTo>
                    <a:pt x="1450" y="1712"/>
                  </a:lnTo>
                  <a:lnTo>
                    <a:pt x="1437" y="1719"/>
                  </a:lnTo>
                  <a:lnTo>
                    <a:pt x="1430" y="1719"/>
                  </a:lnTo>
                  <a:lnTo>
                    <a:pt x="1424" y="1712"/>
                  </a:lnTo>
                  <a:lnTo>
                    <a:pt x="1417" y="1712"/>
                  </a:lnTo>
                  <a:lnTo>
                    <a:pt x="1411" y="1706"/>
                  </a:lnTo>
                  <a:lnTo>
                    <a:pt x="1404" y="1692"/>
                  </a:lnTo>
                  <a:lnTo>
                    <a:pt x="1404" y="1686"/>
                  </a:lnTo>
                  <a:lnTo>
                    <a:pt x="1411" y="1673"/>
                  </a:lnTo>
                  <a:lnTo>
                    <a:pt x="1411" y="1666"/>
                  </a:lnTo>
                  <a:lnTo>
                    <a:pt x="1411" y="1653"/>
                  </a:lnTo>
                  <a:lnTo>
                    <a:pt x="1404" y="1646"/>
                  </a:lnTo>
                  <a:lnTo>
                    <a:pt x="1397" y="1640"/>
                  </a:lnTo>
                  <a:lnTo>
                    <a:pt x="1391" y="1633"/>
                  </a:lnTo>
                  <a:lnTo>
                    <a:pt x="1384" y="1633"/>
                  </a:lnTo>
                  <a:lnTo>
                    <a:pt x="1378" y="1640"/>
                  </a:lnTo>
                  <a:lnTo>
                    <a:pt x="1371" y="1640"/>
                  </a:lnTo>
                  <a:lnTo>
                    <a:pt x="1364" y="1633"/>
                  </a:lnTo>
                  <a:lnTo>
                    <a:pt x="1358" y="1627"/>
                  </a:lnTo>
                  <a:lnTo>
                    <a:pt x="1351" y="1627"/>
                  </a:lnTo>
                  <a:lnTo>
                    <a:pt x="1345" y="1620"/>
                  </a:lnTo>
                  <a:lnTo>
                    <a:pt x="1338" y="1613"/>
                  </a:lnTo>
                  <a:lnTo>
                    <a:pt x="1331" y="1607"/>
                  </a:lnTo>
                  <a:lnTo>
                    <a:pt x="1325" y="1607"/>
                  </a:lnTo>
                  <a:lnTo>
                    <a:pt x="1318" y="1600"/>
                  </a:lnTo>
                  <a:lnTo>
                    <a:pt x="1312" y="1594"/>
                  </a:lnTo>
                  <a:lnTo>
                    <a:pt x="1298" y="1594"/>
                  </a:lnTo>
                  <a:lnTo>
                    <a:pt x="1292" y="1594"/>
                  </a:lnTo>
                  <a:lnTo>
                    <a:pt x="1285" y="1587"/>
                  </a:lnTo>
                  <a:lnTo>
                    <a:pt x="1279" y="1581"/>
                  </a:lnTo>
                  <a:lnTo>
                    <a:pt x="1272" y="1581"/>
                  </a:lnTo>
                  <a:lnTo>
                    <a:pt x="1266" y="1574"/>
                  </a:lnTo>
                  <a:lnTo>
                    <a:pt x="1259" y="1574"/>
                  </a:lnTo>
                  <a:lnTo>
                    <a:pt x="1252" y="1574"/>
                  </a:lnTo>
                  <a:lnTo>
                    <a:pt x="1246" y="1574"/>
                  </a:lnTo>
                  <a:lnTo>
                    <a:pt x="1239" y="1581"/>
                  </a:lnTo>
                  <a:lnTo>
                    <a:pt x="1233" y="1587"/>
                  </a:lnTo>
                  <a:lnTo>
                    <a:pt x="1226" y="1587"/>
                  </a:lnTo>
                  <a:lnTo>
                    <a:pt x="1213" y="1594"/>
                  </a:lnTo>
                  <a:lnTo>
                    <a:pt x="1206" y="1600"/>
                  </a:lnTo>
                  <a:lnTo>
                    <a:pt x="1200" y="1600"/>
                  </a:lnTo>
                  <a:lnTo>
                    <a:pt x="1193" y="1600"/>
                  </a:lnTo>
                  <a:lnTo>
                    <a:pt x="1186" y="1607"/>
                  </a:lnTo>
                  <a:lnTo>
                    <a:pt x="1180" y="1607"/>
                  </a:lnTo>
                  <a:lnTo>
                    <a:pt x="1173" y="1607"/>
                  </a:lnTo>
                  <a:lnTo>
                    <a:pt x="1167" y="1607"/>
                  </a:lnTo>
                  <a:lnTo>
                    <a:pt x="1160" y="1607"/>
                  </a:lnTo>
                  <a:lnTo>
                    <a:pt x="1147" y="1607"/>
                  </a:lnTo>
                  <a:lnTo>
                    <a:pt x="1140" y="1613"/>
                  </a:lnTo>
                  <a:lnTo>
                    <a:pt x="1134" y="1613"/>
                  </a:lnTo>
                  <a:lnTo>
                    <a:pt x="1127" y="1613"/>
                  </a:lnTo>
                  <a:lnTo>
                    <a:pt x="1121" y="1620"/>
                  </a:lnTo>
                  <a:lnTo>
                    <a:pt x="1114" y="1627"/>
                  </a:lnTo>
                  <a:lnTo>
                    <a:pt x="1107" y="1633"/>
                  </a:lnTo>
                  <a:lnTo>
                    <a:pt x="1107" y="1640"/>
                  </a:lnTo>
                  <a:lnTo>
                    <a:pt x="1101" y="1653"/>
                  </a:lnTo>
                  <a:lnTo>
                    <a:pt x="1094" y="1660"/>
                  </a:lnTo>
                  <a:lnTo>
                    <a:pt x="1088" y="1666"/>
                  </a:lnTo>
                  <a:lnTo>
                    <a:pt x="1081" y="1673"/>
                  </a:lnTo>
                  <a:lnTo>
                    <a:pt x="1081" y="1679"/>
                  </a:lnTo>
                  <a:lnTo>
                    <a:pt x="1074" y="1692"/>
                  </a:lnTo>
                  <a:lnTo>
                    <a:pt x="1074" y="1699"/>
                  </a:lnTo>
                  <a:lnTo>
                    <a:pt x="1074" y="1712"/>
                  </a:lnTo>
                  <a:lnTo>
                    <a:pt x="1081" y="1725"/>
                  </a:lnTo>
                  <a:lnTo>
                    <a:pt x="1088" y="1732"/>
                  </a:lnTo>
                  <a:lnTo>
                    <a:pt x="1094" y="1732"/>
                  </a:lnTo>
                  <a:lnTo>
                    <a:pt x="1101" y="1739"/>
                  </a:lnTo>
                  <a:lnTo>
                    <a:pt x="1107" y="1739"/>
                  </a:lnTo>
                  <a:lnTo>
                    <a:pt x="1114" y="1745"/>
                  </a:lnTo>
                  <a:lnTo>
                    <a:pt x="1121" y="1745"/>
                  </a:lnTo>
                  <a:lnTo>
                    <a:pt x="1127" y="1752"/>
                  </a:lnTo>
                  <a:lnTo>
                    <a:pt x="1134" y="1752"/>
                  </a:lnTo>
                  <a:lnTo>
                    <a:pt x="1140" y="1752"/>
                  </a:lnTo>
                  <a:lnTo>
                    <a:pt x="1154" y="1752"/>
                  </a:lnTo>
                  <a:lnTo>
                    <a:pt x="1160" y="1752"/>
                  </a:lnTo>
                  <a:lnTo>
                    <a:pt x="1167" y="1752"/>
                  </a:lnTo>
                  <a:lnTo>
                    <a:pt x="1173" y="1752"/>
                  </a:lnTo>
                  <a:lnTo>
                    <a:pt x="1180" y="1752"/>
                  </a:lnTo>
                  <a:lnTo>
                    <a:pt x="1186" y="1752"/>
                  </a:lnTo>
                  <a:lnTo>
                    <a:pt x="1193" y="1752"/>
                  </a:lnTo>
                  <a:lnTo>
                    <a:pt x="1200" y="1745"/>
                  </a:lnTo>
                  <a:lnTo>
                    <a:pt x="1213" y="1745"/>
                  </a:lnTo>
                  <a:lnTo>
                    <a:pt x="1219" y="1745"/>
                  </a:lnTo>
                  <a:lnTo>
                    <a:pt x="1226" y="1739"/>
                  </a:lnTo>
                  <a:lnTo>
                    <a:pt x="1233" y="1745"/>
                  </a:lnTo>
                  <a:lnTo>
                    <a:pt x="1239" y="1745"/>
                  </a:lnTo>
                  <a:lnTo>
                    <a:pt x="1246" y="1752"/>
                  </a:lnTo>
                  <a:lnTo>
                    <a:pt x="1252" y="1758"/>
                  </a:lnTo>
                  <a:lnTo>
                    <a:pt x="1259" y="1765"/>
                  </a:lnTo>
                  <a:lnTo>
                    <a:pt x="1266" y="1771"/>
                  </a:lnTo>
                  <a:lnTo>
                    <a:pt x="1272" y="1778"/>
                  </a:lnTo>
                  <a:lnTo>
                    <a:pt x="1279" y="1785"/>
                  </a:lnTo>
                  <a:lnTo>
                    <a:pt x="1285" y="1785"/>
                  </a:lnTo>
                  <a:lnTo>
                    <a:pt x="1292" y="1791"/>
                  </a:lnTo>
                  <a:lnTo>
                    <a:pt x="1285" y="1798"/>
                  </a:lnTo>
                  <a:lnTo>
                    <a:pt x="1279" y="1804"/>
                  </a:lnTo>
                  <a:lnTo>
                    <a:pt x="1272" y="1811"/>
                  </a:lnTo>
                  <a:lnTo>
                    <a:pt x="1266" y="1818"/>
                  </a:lnTo>
                  <a:lnTo>
                    <a:pt x="1259" y="1824"/>
                  </a:lnTo>
                  <a:lnTo>
                    <a:pt x="1252" y="1831"/>
                  </a:lnTo>
                  <a:lnTo>
                    <a:pt x="1259" y="1844"/>
                  </a:lnTo>
                  <a:lnTo>
                    <a:pt x="1259" y="1850"/>
                  </a:lnTo>
                  <a:lnTo>
                    <a:pt x="1259" y="1864"/>
                  </a:lnTo>
                  <a:lnTo>
                    <a:pt x="1266" y="1877"/>
                  </a:lnTo>
                  <a:lnTo>
                    <a:pt x="1272" y="1870"/>
                  </a:lnTo>
                  <a:lnTo>
                    <a:pt x="1272" y="1864"/>
                  </a:lnTo>
                  <a:lnTo>
                    <a:pt x="1279" y="1850"/>
                  </a:lnTo>
                  <a:lnTo>
                    <a:pt x="1285" y="1844"/>
                  </a:lnTo>
                  <a:lnTo>
                    <a:pt x="1292" y="1844"/>
                  </a:lnTo>
                  <a:lnTo>
                    <a:pt x="1298" y="1844"/>
                  </a:lnTo>
                  <a:lnTo>
                    <a:pt x="1305" y="1850"/>
                  </a:lnTo>
                  <a:lnTo>
                    <a:pt x="1305" y="1864"/>
                  </a:lnTo>
                  <a:lnTo>
                    <a:pt x="1298" y="1870"/>
                  </a:lnTo>
                  <a:lnTo>
                    <a:pt x="1292" y="1877"/>
                  </a:lnTo>
                  <a:lnTo>
                    <a:pt x="1285" y="1883"/>
                  </a:lnTo>
                  <a:lnTo>
                    <a:pt x="1279" y="1883"/>
                  </a:lnTo>
                  <a:lnTo>
                    <a:pt x="1272" y="1890"/>
                  </a:lnTo>
                  <a:lnTo>
                    <a:pt x="1279" y="1897"/>
                  </a:lnTo>
                  <a:lnTo>
                    <a:pt x="1285" y="1910"/>
                  </a:lnTo>
                  <a:lnTo>
                    <a:pt x="1285" y="1916"/>
                  </a:lnTo>
                  <a:lnTo>
                    <a:pt x="1285" y="1929"/>
                  </a:lnTo>
                  <a:lnTo>
                    <a:pt x="1285" y="1936"/>
                  </a:lnTo>
                  <a:lnTo>
                    <a:pt x="1279" y="1949"/>
                  </a:lnTo>
                  <a:lnTo>
                    <a:pt x="1279" y="1962"/>
                  </a:lnTo>
                  <a:lnTo>
                    <a:pt x="1279" y="1969"/>
                  </a:lnTo>
                  <a:lnTo>
                    <a:pt x="1285" y="1982"/>
                  </a:lnTo>
                  <a:lnTo>
                    <a:pt x="1292" y="1989"/>
                  </a:lnTo>
                  <a:lnTo>
                    <a:pt x="1292" y="1995"/>
                  </a:lnTo>
                  <a:lnTo>
                    <a:pt x="1298" y="2002"/>
                  </a:lnTo>
                  <a:lnTo>
                    <a:pt x="1312" y="2008"/>
                  </a:lnTo>
                  <a:lnTo>
                    <a:pt x="1318" y="2008"/>
                  </a:lnTo>
                  <a:lnTo>
                    <a:pt x="1325" y="2015"/>
                  </a:lnTo>
                  <a:lnTo>
                    <a:pt x="1325" y="2022"/>
                  </a:lnTo>
                  <a:lnTo>
                    <a:pt x="1318" y="2035"/>
                  </a:lnTo>
                  <a:lnTo>
                    <a:pt x="1318" y="2041"/>
                  </a:lnTo>
                  <a:lnTo>
                    <a:pt x="1312" y="2055"/>
                  </a:lnTo>
                  <a:lnTo>
                    <a:pt x="1312" y="2061"/>
                  </a:lnTo>
                  <a:lnTo>
                    <a:pt x="1305" y="2074"/>
                  </a:lnTo>
                  <a:lnTo>
                    <a:pt x="1305" y="2081"/>
                  </a:lnTo>
                  <a:lnTo>
                    <a:pt x="1298" y="2087"/>
                  </a:lnTo>
                  <a:lnTo>
                    <a:pt x="1292" y="2081"/>
                  </a:lnTo>
                  <a:lnTo>
                    <a:pt x="1285" y="2074"/>
                  </a:lnTo>
                  <a:lnTo>
                    <a:pt x="1279" y="2074"/>
                  </a:lnTo>
                  <a:lnTo>
                    <a:pt x="1266" y="2074"/>
                  </a:lnTo>
                  <a:lnTo>
                    <a:pt x="1259" y="2074"/>
                  </a:lnTo>
                  <a:lnTo>
                    <a:pt x="1252" y="2074"/>
                  </a:lnTo>
                  <a:lnTo>
                    <a:pt x="1246" y="2074"/>
                  </a:lnTo>
                  <a:lnTo>
                    <a:pt x="1239" y="2074"/>
                  </a:lnTo>
                  <a:lnTo>
                    <a:pt x="1233" y="2074"/>
                  </a:lnTo>
                  <a:lnTo>
                    <a:pt x="1226" y="2068"/>
                  </a:lnTo>
                  <a:lnTo>
                    <a:pt x="1219" y="2068"/>
                  </a:lnTo>
                  <a:lnTo>
                    <a:pt x="1213" y="2068"/>
                  </a:lnTo>
                  <a:lnTo>
                    <a:pt x="1200" y="2068"/>
                  </a:lnTo>
                  <a:lnTo>
                    <a:pt x="1193" y="2061"/>
                  </a:lnTo>
                  <a:lnTo>
                    <a:pt x="1186" y="2061"/>
                  </a:lnTo>
                  <a:lnTo>
                    <a:pt x="1180" y="2061"/>
                  </a:lnTo>
                  <a:lnTo>
                    <a:pt x="1173" y="2048"/>
                  </a:lnTo>
                  <a:lnTo>
                    <a:pt x="1173" y="2041"/>
                  </a:lnTo>
                  <a:lnTo>
                    <a:pt x="1167" y="2035"/>
                  </a:lnTo>
                  <a:lnTo>
                    <a:pt x="1160" y="2028"/>
                  </a:lnTo>
                  <a:lnTo>
                    <a:pt x="1154" y="2022"/>
                  </a:lnTo>
                  <a:lnTo>
                    <a:pt x="1154" y="2015"/>
                  </a:lnTo>
                  <a:lnTo>
                    <a:pt x="1160" y="2008"/>
                  </a:lnTo>
                  <a:lnTo>
                    <a:pt x="1167" y="2002"/>
                  </a:lnTo>
                  <a:lnTo>
                    <a:pt x="1173" y="1989"/>
                  </a:lnTo>
                  <a:lnTo>
                    <a:pt x="1167" y="1982"/>
                  </a:lnTo>
                  <a:lnTo>
                    <a:pt x="1160" y="1976"/>
                  </a:lnTo>
                  <a:lnTo>
                    <a:pt x="1160" y="1969"/>
                  </a:lnTo>
                  <a:lnTo>
                    <a:pt x="1154" y="1956"/>
                  </a:lnTo>
                  <a:lnTo>
                    <a:pt x="1147" y="1949"/>
                  </a:lnTo>
                  <a:lnTo>
                    <a:pt x="1140" y="1943"/>
                  </a:lnTo>
                  <a:lnTo>
                    <a:pt x="1140" y="1936"/>
                  </a:lnTo>
                  <a:lnTo>
                    <a:pt x="1134" y="1929"/>
                  </a:lnTo>
                  <a:lnTo>
                    <a:pt x="1127" y="1916"/>
                  </a:lnTo>
                  <a:lnTo>
                    <a:pt x="1127" y="1910"/>
                  </a:lnTo>
                  <a:lnTo>
                    <a:pt x="1121" y="1903"/>
                  </a:lnTo>
                  <a:lnTo>
                    <a:pt x="1114" y="1890"/>
                  </a:lnTo>
                  <a:lnTo>
                    <a:pt x="1114" y="1883"/>
                  </a:lnTo>
                  <a:lnTo>
                    <a:pt x="1107" y="1877"/>
                  </a:lnTo>
                  <a:lnTo>
                    <a:pt x="1101" y="1870"/>
                  </a:lnTo>
                  <a:lnTo>
                    <a:pt x="1101" y="1857"/>
                  </a:lnTo>
                  <a:lnTo>
                    <a:pt x="1094" y="1850"/>
                  </a:lnTo>
                  <a:lnTo>
                    <a:pt x="1088" y="1850"/>
                  </a:lnTo>
                  <a:lnTo>
                    <a:pt x="1081" y="1850"/>
                  </a:lnTo>
                  <a:lnTo>
                    <a:pt x="1068" y="1850"/>
                  </a:lnTo>
                  <a:lnTo>
                    <a:pt x="1061" y="1850"/>
                  </a:lnTo>
                  <a:lnTo>
                    <a:pt x="1055" y="1850"/>
                  </a:lnTo>
                  <a:lnTo>
                    <a:pt x="1048" y="1850"/>
                  </a:lnTo>
                  <a:lnTo>
                    <a:pt x="1042" y="1850"/>
                  </a:lnTo>
                  <a:lnTo>
                    <a:pt x="1035" y="1850"/>
                  </a:lnTo>
                  <a:lnTo>
                    <a:pt x="1028" y="1850"/>
                  </a:lnTo>
                  <a:lnTo>
                    <a:pt x="1015" y="1857"/>
                  </a:lnTo>
                  <a:lnTo>
                    <a:pt x="1009" y="1857"/>
                  </a:lnTo>
                  <a:lnTo>
                    <a:pt x="1002" y="1864"/>
                  </a:lnTo>
                  <a:lnTo>
                    <a:pt x="995" y="1864"/>
                  </a:lnTo>
                  <a:lnTo>
                    <a:pt x="989" y="1864"/>
                  </a:lnTo>
                  <a:lnTo>
                    <a:pt x="982" y="1870"/>
                  </a:lnTo>
                  <a:lnTo>
                    <a:pt x="976" y="1870"/>
                  </a:lnTo>
                  <a:lnTo>
                    <a:pt x="969" y="1877"/>
                  </a:lnTo>
                  <a:lnTo>
                    <a:pt x="962" y="1877"/>
                  </a:lnTo>
                  <a:lnTo>
                    <a:pt x="956" y="1883"/>
                  </a:lnTo>
                  <a:lnTo>
                    <a:pt x="949" y="1883"/>
                  </a:lnTo>
                  <a:lnTo>
                    <a:pt x="936" y="1883"/>
                  </a:lnTo>
                  <a:lnTo>
                    <a:pt x="929" y="1890"/>
                  </a:lnTo>
                  <a:lnTo>
                    <a:pt x="923" y="1890"/>
                  </a:lnTo>
                  <a:lnTo>
                    <a:pt x="916" y="1890"/>
                  </a:lnTo>
                  <a:lnTo>
                    <a:pt x="910" y="1890"/>
                  </a:lnTo>
                  <a:lnTo>
                    <a:pt x="903" y="1890"/>
                  </a:lnTo>
                  <a:lnTo>
                    <a:pt x="897" y="1890"/>
                  </a:lnTo>
                  <a:lnTo>
                    <a:pt x="883" y="1883"/>
                  </a:lnTo>
                  <a:lnTo>
                    <a:pt x="877" y="1883"/>
                  </a:lnTo>
                  <a:lnTo>
                    <a:pt x="870" y="1883"/>
                  </a:lnTo>
                  <a:lnTo>
                    <a:pt x="864" y="1883"/>
                  </a:lnTo>
                  <a:lnTo>
                    <a:pt x="857" y="1883"/>
                  </a:lnTo>
                  <a:lnTo>
                    <a:pt x="850" y="1877"/>
                  </a:lnTo>
                  <a:lnTo>
                    <a:pt x="844" y="1877"/>
                  </a:lnTo>
                  <a:lnTo>
                    <a:pt x="837" y="1877"/>
                  </a:lnTo>
                  <a:lnTo>
                    <a:pt x="831" y="1870"/>
                  </a:lnTo>
                  <a:lnTo>
                    <a:pt x="824" y="1870"/>
                  </a:lnTo>
                  <a:lnTo>
                    <a:pt x="811" y="1864"/>
                  </a:lnTo>
                  <a:lnTo>
                    <a:pt x="804" y="1857"/>
                  </a:lnTo>
                  <a:lnTo>
                    <a:pt x="804" y="1850"/>
                  </a:lnTo>
                  <a:lnTo>
                    <a:pt x="804" y="1844"/>
                  </a:lnTo>
                  <a:lnTo>
                    <a:pt x="804" y="1831"/>
                  </a:lnTo>
                  <a:lnTo>
                    <a:pt x="804" y="1818"/>
                  </a:lnTo>
                  <a:lnTo>
                    <a:pt x="804" y="1811"/>
                  </a:lnTo>
                  <a:lnTo>
                    <a:pt x="798" y="1798"/>
                  </a:lnTo>
                  <a:lnTo>
                    <a:pt x="791" y="1798"/>
                  </a:lnTo>
                  <a:lnTo>
                    <a:pt x="785" y="1791"/>
                  </a:lnTo>
                  <a:lnTo>
                    <a:pt x="778" y="1791"/>
                  </a:lnTo>
                  <a:lnTo>
                    <a:pt x="765" y="1791"/>
                  </a:lnTo>
                  <a:lnTo>
                    <a:pt x="758" y="1791"/>
                  </a:lnTo>
                  <a:lnTo>
                    <a:pt x="752" y="1791"/>
                  </a:lnTo>
                  <a:lnTo>
                    <a:pt x="745" y="1791"/>
                  </a:lnTo>
                  <a:lnTo>
                    <a:pt x="738" y="1791"/>
                  </a:lnTo>
                  <a:lnTo>
                    <a:pt x="732" y="1791"/>
                  </a:lnTo>
                  <a:lnTo>
                    <a:pt x="725" y="1791"/>
                  </a:lnTo>
                  <a:lnTo>
                    <a:pt x="712" y="1791"/>
                  </a:lnTo>
                  <a:lnTo>
                    <a:pt x="705" y="1791"/>
                  </a:lnTo>
                  <a:lnTo>
                    <a:pt x="699" y="1791"/>
                  </a:lnTo>
                  <a:lnTo>
                    <a:pt x="692" y="1791"/>
                  </a:lnTo>
                  <a:lnTo>
                    <a:pt x="686" y="1791"/>
                  </a:lnTo>
                  <a:lnTo>
                    <a:pt x="679" y="1791"/>
                  </a:lnTo>
                  <a:lnTo>
                    <a:pt x="673" y="1791"/>
                  </a:lnTo>
                  <a:lnTo>
                    <a:pt x="666" y="1798"/>
                  </a:lnTo>
                  <a:lnTo>
                    <a:pt x="659" y="1804"/>
                  </a:lnTo>
                  <a:lnTo>
                    <a:pt x="653" y="1818"/>
                  </a:lnTo>
                  <a:lnTo>
                    <a:pt x="653" y="1824"/>
                  </a:lnTo>
                  <a:lnTo>
                    <a:pt x="653" y="1837"/>
                  </a:lnTo>
                  <a:lnTo>
                    <a:pt x="653" y="1850"/>
                  </a:lnTo>
                  <a:lnTo>
                    <a:pt x="653" y="1857"/>
                  </a:lnTo>
                  <a:lnTo>
                    <a:pt x="653" y="1870"/>
                  </a:lnTo>
                  <a:lnTo>
                    <a:pt x="653" y="1877"/>
                  </a:lnTo>
                  <a:lnTo>
                    <a:pt x="653" y="1890"/>
                  </a:lnTo>
                  <a:lnTo>
                    <a:pt x="646" y="1903"/>
                  </a:lnTo>
                  <a:lnTo>
                    <a:pt x="646" y="1910"/>
                  </a:lnTo>
                  <a:lnTo>
                    <a:pt x="653" y="1923"/>
                  </a:lnTo>
                  <a:lnTo>
                    <a:pt x="653" y="1929"/>
                  </a:lnTo>
                  <a:lnTo>
                    <a:pt x="659" y="1936"/>
                  </a:lnTo>
                  <a:lnTo>
                    <a:pt x="666" y="1943"/>
                  </a:lnTo>
                  <a:lnTo>
                    <a:pt x="673" y="1949"/>
                  </a:lnTo>
                  <a:lnTo>
                    <a:pt x="673" y="1962"/>
                  </a:lnTo>
                  <a:lnTo>
                    <a:pt x="666" y="1969"/>
                  </a:lnTo>
                  <a:lnTo>
                    <a:pt x="659" y="1976"/>
                  </a:lnTo>
                  <a:lnTo>
                    <a:pt x="659" y="1989"/>
                  </a:lnTo>
                  <a:lnTo>
                    <a:pt x="659" y="1995"/>
                  </a:lnTo>
                  <a:lnTo>
                    <a:pt x="659" y="2002"/>
                  </a:lnTo>
                  <a:lnTo>
                    <a:pt x="666" y="2015"/>
                  </a:lnTo>
                  <a:lnTo>
                    <a:pt x="673" y="2022"/>
                  </a:lnTo>
                  <a:lnTo>
                    <a:pt x="679" y="2035"/>
                  </a:lnTo>
                  <a:lnTo>
                    <a:pt x="679" y="2048"/>
                  </a:lnTo>
                  <a:lnTo>
                    <a:pt x="679" y="2055"/>
                  </a:lnTo>
                  <a:lnTo>
                    <a:pt x="673" y="2055"/>
                  </a:lnTo>
                  <a:lnTo>
                    <a:pt x="666" y="2061"/>
                  </a:lnTo>
                  <a:lnTo>
                    <a:pt x="653" y="2061"/>
                  </a:lnTo>
                  <a:lnTo>
                    <a:pt x="646" y="2055"/>
                  </a:lnTo>
                  <a:lnTo>
                    <a:pt x="640" y="2061"/>
                  </a:lnTo>
                  <a:lnTo>
                    <a:pt x="633" y="2061"/>
                  </a:lnTo>
                  <a:lnTo>
                    <a:pt x="626" y="2061"/>
                  </a:lnTo>
                  <a:lnTo>
                    <a:pt x="613" y="2061"/>
                  </a:lnTo>
                  <a:lnTo>
                    <a:pt x="607" y="2068"/>
                  </a:lnTo>
                  <a:lnTo>
                    <a:pt x="600" y="2068"/>
                  </a:lnTo>
                  <a:lnTo>
                    <a:pt x="593" y="2068"/>
                  </a:lnTo>
                  <a:lnTo>
                    <a:pt x="587" y="2068"/>
                  </a:lnTo>
                  <a:lnTo>
                    <a:pt x="580" y="2068"/>
                  </a:lnTo>
                  <a:lnTo>
                    <a:pt x="574" y="2061"/>
                  </a:lnTo>
                  <a:lnTo>
                    <a:pt x="567" y="2055"/>
                  </a:lnTo>
                  <a:lnTo>
                    <a:pt x="560" y="2048"/>
                  </a:lnTo>
                  <a:lnTo>
                    <a:pt x="554" y="2048"/>
                  </a:lnTo>
                  <a:lnTo>
                    <a:pt x="547" y="2041"/>
                  </a:lnTo>
                  <a:lnTo>
                    <a:pt x="541" y="2035"/>
                  </a:lnTo>
                  <a:lnTo>
                    <a:pt x="534" y="2028"/>
                  </a:lnTo>
                  <a:lnTo>
                    <a:pt x="528" y="2028"/>
                  </a:lnTo>
                  <a:lnTo>
                    <a:pt x="521" y="2022"/>
                  </a:lnTo>
                  <a:lnTo>
                    <a:pt x="514" y="2022"/>
                  </a:lnTo>
                  <a:lnTo>
                    <a:pt x="508" y="2008"/>
                  </a:lnTo>
                  <a:lnTo>
                    <a:pt x="514" y="1995"/>
                  </a:lnTo>
                  <a:lnTo>
                    <a:pt x="514" y="1989"/>
                  </a:lnTo>
                  <a:lnTo>
                    <a:pt x="521" y="1976"/>
                  </a:lnTo>
                  <a:lnTo>
                    <a:pt x="521" y="1969"/>
                  </a:lnTo>
                  <a:lnTo>
                    <a:pt x="528" y="1962"/>
                  </a:lnTo>
                  <a:lnTo>
                    <a:pt x="528" y="1949"/>
                  </a:lnTo>
                  <a:lnTo>
                    <a:pt x="528" y="1936"/>
                  </a:lnTo>
                  <a:lnTo>
                    <a:pt x="528" y="1929"/>
                  </a:lnTo>
                  <a:lnTo>
                    <a:pt x="528" y="1916"/>
                  </a:lnTo>
                  <a:lnTo>
                    <a:pt x="528" y="1910"/>
                  </a:lnTo>
                  <a:lnTo>
                    <a:pt x="528" y="1897"/>
                  </a:lnTo>
                  <a:lnTo>
                    <a:pt x="528" y="1890"/>
                  </a:lnTo>
                  <a:lnTo>
                    <a:pt x="521" y="1877"/>
                  </a:lnTo>
                  <a:lnTo>
                    <a:pt x="521" y="1864"/>
                  </a:lnTo>
                  <a:lnTo>
                    <a:pt x="521" y="1857"/>
                  </a:lnTo>
                  <a:lnTo>
                    <a:pt x="514" y="1844"/>
                  </a:lnTo>
                  <a:lnTo>
                    <a:pt x="514" y="1837"/>
                  </a:lnTo>
                  <a:lnTo>
                    <a:pt x="508" y="1831"/>
                  </a:lnTo>
                  <a:lnTo>
                    <a:pt x="508" y="1818"/>
                  </a:lnTo>
                  <a:lnTo>
                    <a:pt x="501" y="1811"/>
                  </a:lnTo>
                  <a:lnTo>
                    <a:pt x="495" y="1804"/>
                  </a:lnTo>
                  <a:lnTo>
                    <a:pt x="488" y="1798"/>
                  </a:lnTo>
                  <a:lnTo>
                    <a:pt x="481" y="1791"/>
                  </a:lnTo>
                  <a:lnTo>
                    <a:pt x="475" y="1785"/>
                  </a:lnTo>
                  <a:lnTo>
                    <a:pt x="468" y="1778"/>
                  </a:lnTo>
                  <a:lnTo>
                    <a:pt x="462" y="1778"/>
                  </a:lnTo>
                  <a:lnTo>
                    <a:pt x="455" y="1771"/>
                  </a:lnTo>
                  <a:lnTo>
                    <a:pt x="455" y="1765"/>
                  </a:lnTo>
                  <a:lnTo>
                    <a:pt x="448" y="1752"/>
                  </a:lnTo>
                  <a:lnTo>
                    <a:pt x="442" y="1745"/>
                  </a:lnTo>
                  <a:lnTo>
                    <a:pt x="442" y="1739"/>
                  </a:lnTo>
                  <a:lnTo>
                    <a:pt x="435" y="1725"/>
                  </a:lnTo>
                  <a:lnTo>
                    <a:pt x="429" y="1719"/>
                  </a:lnTo>
                  <a:lnTo>
                    <a:pt x="422" y="1712"/>
                  </a:lnTo>
                  <a:lnTo>
                    <a:pt x="416" y="1706"/>
                  </a:lnTo>
                  <a:lnTo>
                    <a:pt x="416" y="1692"/>
                  </a:lnTo>
                  <a:lnTo>
                    <a:pt x="416" y="1686"/>
                  </a:lnTo>
                  <a:lnTo>
                    <a:pt x="422" y="1679"/>
                  </a:lnTo>
                  <a:lnTo>
                    <a:pt x="429" y="1666"/>
                  </a:lnTo>
                  <a:lnTo>
                    <a:pt x="429" y="1660"/>
                  </a:lnTo>
                  <a:lnTo>
                    <a:pt x="435" y="1653"/>
                  </a:lnTo>
                  <a:lnTo>
                    <a:pt x="435" y="1640"/>
                  </a:lnTo>
                  <a:lnTo>
                    <a:pt x="442" y="1633"/>
                  </a:lnTo>
                  <a:lnTo>
                    <a:pt x="442" y="1620"/>
                  </a:lnTo>
                  <a:lnTo>
                    <a:pt x="448" y="1613"/>
                  </a:lnTo>
                  <a:lnTo>
                    <a:pt x="448" y="1607"/>
                  </a:lnTo>
                  <a:lnTo>
                    <a:pt x="455" y="1594"/>
                  </a:lnTo>
                  <a:lnTo>
                    <a:pt x="462" y="1587"/>
                  </a:lnTo>
                  <a:lnTo>
                    <a:pt x="462" y="1574"/>
                  </a:lnTo>
                  <a:lnTo>
                    <a:pt x="468" y="1567"/>
                  </a:lnTo>
                  <a:lnTo>
                    <a:pt x="468" y="1561"/>
                  </a:lnTo>
                  <a:lnTo>
                    <a:pt x="475" y="1548"/>
                  </a:lnTo>
                  <a:lnTo>
                    <a:pt x="475" y="1541"/>
                  </a:lnTo>
                  <a:lnTo>
                    <a:pt x="481" y="1528"/>
                  </a:lnTo>
                  <a:lnTo>
                    <a:pt x="481" y="1521"/>
                  </a:lnTo>
                  <a:lnTo>
                    <a:pt x="488" y="1515"/>
                  </a:lnTo>
                  <a:lnTo>
                    <a:pt x="495" y="1508"/>
                  </a:lnTo>
                  <a:lnTo>
                    <a:pt x="501" y="1515"/>
                  </a:lnTo>
                  <a:lnTo>
                    <a:pt x="508" y="1515"/>
                  </a:lnTo>
                  <a:lnTo>
                    <a:pt x="514" y="1521"/>
                  </a:lnTo>
                  <a:lnTo>
                    <a:pt x="521" y="1515"/>
                  </a:lnTo>
                  <a:lnTo>
                    <a:pt x="528" y="1508"/>
                  </a:lnTo>
                  <a:lnTo>
                    <a:pt x="528" y="1495"/>
                  </a:lnTo>
                  <a:lnTo>
                    <a:pt x="528" y="1482"/>
                  </a:lnTo>
                  <a:lnTo>
                    <a:pt x="528" y="1475"/>
                  </a:lnTo>
                  <a:lnTo>
                    <a:pt x="528" y="1462"/>
                  </a:lnTo>
                  <a:lnTo>
                    <a:pt x="528" y="1455"/>
                  </a:lnTo>
                  <a:lnTo>
                    <a:pt x="521" y="1442"/>
                  </a:lnTo>
                  <a:lnTo>
                    <a:pt x="514" y="1436"/>
                  </a:lnTo>
                  <a:lnTo>
                    <a:pt x="514" y="1429"/>
                  </a:lnTo>
                  <a:lnTo>
                    <a:pt x="514" y="1416"/>
                  </a:lnTo>
                  <a:lnTo>
                    <a:pt x="514" y="1409"/>
                  </a:lnTo>
                  <a:lnTo>
                    <a:pt x="521" y="1396"/>
                  </a:lnTo>
                  <a:lnTo>
                    <a:pt x="521" y="1390"/>
                  </a:lnTo>
                  <a:lnTo>
                    <a:pt x="521" y="1376"/>
                  </a:lnTo>
                  <a:lnTo>
                    <a:pt x="521" y="1363"/>
                  </a:lnTo>
                  <a:lnTo>
                    <a:pt x="528" y="1357"/>
                  </a:lnTo>
                  <a:lnTo>
                    <a:pt x="528" y="1343"/>
                  </a:lnTo>
                  <a:lnTo>
                    <a:pt x="528" y="1337"/>
                  </a:lnTo>
                  <a:lnTo>
                    <a:pt x="528" y="1324"/>
                  </a:lnTo>
                  <a:lnTo>
                    <a:pt x="528" y="1317"/>
                  </a:lnTo>
                  <a:lnTo>
                    <a:pt x="534" y="1304"/>
                  </a:lnTo>
                  <a:lnTo>
                    <a:pt x="534" y="1291"/>
                  </a:lnTo>
                  <a:lnTo>
                    <a:pt x="534" y="1284"/>
                  </a:lnTo>
                  <a:lnTo>
                    <a:pt x="534" y="1271"/>
                  </a:lnTo>
                  <a:lnTo>
                    <a:pt x="541" y="1264"/>
                  </a:lnTo>
                  <a:lnTo>
                    <a:pt x="541" y="1251"/>
                  </a:lnTo>
                  <a:lnTo>
                    <a:pt x="541" y="1245"/>
                  </a:lnTo>
                  <a:lnTo>
                    <a:pt x="547" y="1232"/>
                  </a:lnTo>
                  <a:lnTo>
                    <a:pt x="547" y="1225"/>
                  </a:lnTo>
                  <a:lnTo>
                    <a:pt x="554" y="1218"/>
                  </a:lnTo>
                  <a:lnTo>
                    <a:pt x="560" y="1212"/>
                  </a:lnTo>
                  <a:lnTo>
                    <a:pt x="567" y="1218"/>
                  </a:lnTo>
                  <a:lnTo>
                    <a:pt x="574" y="1225"/>
                  </a:lnTo>
                  <a:lnTo>
                    <a:pt x="580" y="1232"/>
                  </a:lnTo>
                  <a:lnTo>
                    <a:pt x="587" y="1232"/>
                  </a:lnTo>
                  <a:lnTo>
                    <a:pt x="600" y="1238"/>
                  </a:lnTo>
                  <a:lnTo>
                    <a:pt x="607" y="1238"/>
                  </a:lnTo>
                  <a:lnTo>
                    <a:pt x="613" y="1245"/>
                  </a:lnTo>
                  <a:lnTo>
                    <a:pt x="620" y="1245"/>
                  </a:lnTo>
                  <a:lnTo>
                    <a:pt x="626" y="1245"/>
                  </a:lnTo>
                  <a:lnTo>
                    <a:pt x="633" y="1251"/>
                  </a:lnTo>
                  <a:lnTo>
                    <a:pt x="640" y="1251"/>
                  </a:lnTo>
                  <a:lnTo>
                    <a:pt x="646" y="1251"/>
                  </a:lnTo>
                  <a:lnTo>
                    <a:pt x="653" y="1258"/>
                  </a:lnTo>
                  <a:lnTo>
                    <a:pt x="659" y="1264"/>
                  </a:lnTo>
                  <a:lnTo>
                    <a:pt x="666" y="1271"/>
                  </a:lnTo>
                  <a:lnTo>
                    <a:pt x="673" y="1284"/>
                  </a:lnTo>
                  <a:lnTo>
                    <a:pt x="673" y="1291"/>
                  </a:lnTo>
                  <a:lnTo>
                    <a:pt x="673" y="1304"/>
                  </a:lnTo>
                  <a:lnTo>
                    <a:pt x="679" y="1311"/>
                  </a:lnTo>
                  <a:lnTo>
                    <a:pt x="679" y="1324"/>
                  </a:lnTo>
                  <a:lnTo>
                    <a:pt x="679" y="1330"/>
                  </a:lnTo>
                  <a:lnTo>
                    <a:pt x="679" y="1343"/>
                  </a:lnTo>
                  <a:lnTo>
                    <a:pt x="679" y="1357"/>
                  </a:lnTo>
                  <a:lnTo>
                    <a:pt x="679" y="1363"/>
                  </a:lnTo>
                  <a:lnTo>
                    <a:pt x="686" y="1370"/>
                  </a:lnTo>
                  <a:lnTo>
                    <a:pt x="692" y="1376"/>
                  </a:lnTo>
                  <a:lnTo>
                    <a:pt x="699" y="1383"/>
                  </a:lnTo>
                  <a:lnTo>
                    <a:pt x="705" y="1383"/>
                  </a:lnTo>
                  <a:lnTo>
                    <a:pt x="712" y="1383"/>
                  </a:lnTo>
                  <a:lnTo>
                    <a:pt x="719" y="1376"/>
                  </a:lnTo>
                  <a:lnTo>
                    <a:pt x="725" y="1370"/>
                  </a:lnTo>
                  <a:lnTo>
                    <a:pt x="732" y="1363"/>
                  </a:lnTo>
                  <a:lnTo>
                    <a:pt x="738" y="1357"/>
                  </a:lnTo>
                  <a:lnTo>
                    <a:pt x="738" y="1350"/>
                  </a:lnTo>
                  <a:lnTo>
                    <a:pt x="745" y="1337"/>
                  </a:lnTo>
                  <a:lnTo>
                    <a:pt x="745" y="1324"/>
                  </a:lnTo>
                  <a:lnTo>
                    <a:pt x="745" y="1317"/>
                  </a:lnTo>
                  <a:lnTo>
                    <a:pt x="738" y="1304"/>
                  </a:lnTo>
                  <a:lnTo>
                    <a:pt x="738" y="1297"/>
                  </a:lnTo>
                  <a:lnTo>
                    <a:pt x="738" y="1284"/>
                  </a:lnTo>
                  <a:lnTo>
                    <a:pt x="738" y="1271"/>
                  </a:lnTo>
                  <a:lnTo>
                    <a:pt x="738" y="1264"/>
                  </a:lnTo>
                  <a:lnTo>
                    <a:pt x="738" y="1251"/>
                  </a:lnTo>
                  <a:lnTo>
                    <a:pt x="738" y="1245"/>
                  </a:lnTo>
                  <a:lnTo>
                    <a:pt x="738" y="1232"/>
                  </a:lnTo>
                  <a:lnTo>
                    <a:pt x="738" y="1218"/>
                  </a:lnTo>
                  <a:lnTo>
                    <a:pt x="738" y="1212"/>
                  </a:lnTo>
                  <a:lnTo>
                    <a:pt x="745" y="1205"/>
                  </a:lnTo>
                  <a:lnTo>
                    <a:pt x="752" y="1199"/>
                  </a:lnTo>
                  <a:lnTo>
                    <a:pt x="758" y="1192"/>
                  </a:lnTo>
                  <a:lnTo>
                    <a:pt x="765" y="1192"/>
                  </a:lnTo>
                  <a:lnTo>
                    <a:pt x="771" y="1185"/>
                  </a:lnTo>
                  <a:lnTo>
                    <a:pt x="778" y="1185"/>
                  </a:lnTo>
                  <a:lnTo>
                    <a:pt x="791" y="1179"/>
                  </a:lnTo>
                  <a:lnTo>
                    <a:pt x="798" y="1179"/>
                  </a:lnTo>
                  <a:lnTo>
                    <a:pt x="804" y="1172"/>
                  </a:lnTo>
                  <a:lnTo>
                    <a:pt x="811" y="1172"/>
                  </a:lnTo>
                  <a:lnTo>
                    <a:pt x="817" y="1172"/>
                  </a:lnTo>
                  <a:lnTo>
                    <a:pt x="824" y="1179"/>
                  </a:lnTo>
                  <a:lnTo>
                    <a:pt x="831" y="1185"/>
                  </a:lnTo>
                  <a:lnTo>
                    <a:pt x="837" y="1185"/>
                  </a:lnTo>
                  <a:lnTo>
                    <a:pt x="844" y="1192"/>
                  </a:lnTo>
                  <a:lnTo>
                    <a:pt x="850" y="1199"/>
                  </a:lnTo>
                  <a:lnTo>
                    <a:pt x="857" y="1199"/>
                  </a:lnTo>
                  <a:lnTo>
                    <a:pt x="864" y="1205"/>
                  </a:lnTo>
                  <a:lnTo>
                    <a:pt x="870" y="1212"/>
                  </a:lnTo>
                  <a:lnTo>
                    <a:pt x="877" y="1212"/>
                  </a:lnTo>
                  <a:lnTo>
                    <a:pt x="883" y="1218"/>
                  </a:lnTo>
                  <a:lnTo>
                    <a:pt x="897" y="1218"/>
                  </a:lnTo>
                  <a:lnTo>
                    <a:pt x="903" y="1225"/>
                  </a:lnTo>
                  <a:lnTo>
                    <a:pt x="910" y="1218"/>
                  </a:lnTo>
                  <a:lnTo>
                    <a:pt x="916" y="1218"/>
                  </a:lnTo>
                  <a:lnTo>
                    <a:pt x="923" y="1212"/>
                  </a:lnTo>
                  <a:lnTo>
                    <a:pt x="929" y="1212"/>
                  </a:lnTo>
                  <a:lnTo>
                    <a:pt x="936" y="1205"/>
                  </a:lnTo>
                  <a:lnTo>
                    <a:pt x="943" y="1205"/>
                  </a:lnTo>
                  <a:lnTo>
                    <a:pt x="949" y="1205"/>
                  </a:lnTo>
                  <a:lnTo>
                    <a:pt x="956" y="1212"/>
                  </a:lnTo>
                  <a:lnTo>
                    <a:pt x="962" y="1218"/>
                  </a:lnTo>
                  <a:lnTo>
                    <a:pt x="969" y="1225"/>
                  </a:lnTo>
                  <a:lnTo>
                    <a:pt x="982" y="1225"/>
                  </a:lnTo>
                  <a:lnTo>
                    <a:pt x="989" y="1232"/>
                  </a:lnTo>
                  <a:lnTo>
                    <a:pt x="995" y="1238"/>
                  </a:lnTo>
                  <a:lnTo>
                    <a:pt x="1002" y="1245"/>
                  </a:lnTo>
                  <a:lnTo>
                    <a:pt x="1002" y="1245"/>
                  </a:lnTo>
                  <a:lnTo>
                    <a:pt x="1015" y="1251"/>
                  </a:lnTo>
                  <a:lnTo>
                    <a:pt x="1022" y="1258"/>
                  </a:lnTo>
                  <a:lnTo>
                    <a:pt x="1028" y="1258"/>
                  </a:lnTo>
                  <a:lnTo>
                    <a:pt x="1035" y="1258"/>
                  </a:lnTo>
                  <a:lnTo>
                    <a:pt x="1042" y="1258"/>
                  </a:lnTo>
                  <a:lnTo>
                    <a:pt x="1048" y="1264"/>
                  </a:lnTo>
                  <a:lnTo>
                    <a:pt x="1055" y="1264"/>
                  </a:lnTo>
                  <a:lnTo>
                    <a:pt x="1061" y="1264"/>
                  </a:lnTo>
                  <a:lnTo>
                    <a:pt x="1068" y="1271"/>
                  </a:lnTo>
                  <a:lnTo>
                    <a:pt x="1081" y="1271"/>
                  </a:lnTo>
                  <a:lnTo>
                    <a:pt x="1081" y="1278"/>
                  </a:lnTo>
                  <a:lnTo>
                    <a:pt x="1088" y="1291"/>
                  </a:lnTo>
                  <a:lnTo>
                    <a:pt x="1094" y="1297"/>
                  </a:lnTo>
                  <a:lnTo>
                    <a:pt x="1094" y="1304"/>
                  </a:lnTo>
                  <a:lnTo>
                    <a:pt x="1107" y="1304"/>
                  </a:lnTo>
                  <a:lnTo>
                    <a:pt x="1114" y="1311"/>
                  </a:lnTo>
                  <a:lnTo>
                    <a:pt x="1121" y="1317"/>
                  </a:lnTo>
                  <a:lnTo>
                    <a:pt x="1127" y="1317"/>
                  </a:lnTo>
                  <a:lnTo>
                    <a:pt x="1134" y="1324"/>
                  </a:lnTo>
                  <a:lnTo>
                    <a:pt x="1140" y="1330"/>
                  </a:lnTo>
                  <a:lnTo>
                    <a:pt x="1140" y="1337"/>
                  </a:lnTo>
                  <a:lnTo>
                    <a:pt x="1147" y="1343"/>
                  </a:lnTo>
                  <a:lnTo>
                    <a:pt x="1147" y="1357"/>
                  </a:lnTo>
                  <a:lnTo>
                    <a:pt x="1154" y="1363"/>
                  </a:lnTo>
                  <a:lnTo>
                    <a:pt x="1160" y="1376"/>
                  </a:lnTo>
                  <a:lnTo>
                    <a:pt x="1167" y="1376"/>
                  </a:lnTo>
                  <a:lnTo>
                    <a:pt x="1173" y="1383"/>
                  </a:lnTo>
                  <a:lnTo>
                    <a:pt x="1180" y="1390"/>
                  </a:lnTo>
                  <a:lnTo>
                    <a:pt x="1180" y="1396"/>
                  </a:lnTo>
                  <a:lnTo>
                    <a:pt x="1186" y="1403"/>
                  </a:lnTo>
                  <a:lnTo>
                    <a:pt x="1193" y="1416"/>
                  </a:lnTo>
                  <a:lnTo>
                    <a:pt x="1193" y="1422"/>
                  </a:lnTo>
                  <a:lnTo>
                    <a:pt x="1193" y="1436"/>
                  </a:lnTo>
                  <a:lnTo>
                    <a:pt x="1193" y="1442"/>
                  </a:lnTo>
                  <a:lnTo>
                    <a:pt x="1186" y="1449"/>
                  </a:lnTo>
                  <a:lnTo>
                    <a:pt x="1180" y="1455"/>
                  </a:lnTo>
                  <a:lnTo>
                    <a:pt x="1173" y="1462"/>
                  </a:lnTo>
                  <a:lnTo>
                    <a:pt x="1167" y="1469"/>
                  </a:lnTo>
                  <a:lnTo>
                    <a:pt x="1167" y="1475"/>
                  </a:lnTo>
                  <a:lnTo>
                    <a:pt x="1167" y="1488"/>
                  </a:lnTo>
                  <a:lnTo>
                    <a:pt x="1173" y="1495"/>
                  </a:lnTo>
                  <a:lnTo>
                    <a:pt x="1180" y="1495"/>
                  </a:lnTo>
                  <a:lnTo>
                    <a:pt x="1186" y="1501"/>
                  </a:lnTo>
                  <a:lnTo>
                    <a:pt x="1193" y="1508"/>
                  </a:lnTo>
                  <a:lnTo>
                    <a:pt x="1206" y="1508"/>
                  </a:lnTo>
                  <a:lnTo>
                    <a:pt x="1213" y="1501"/>
                  </a:lnTo>
                  <a:lnTo>
                    <a:pt x="1219" y="1495"/>
                  </a:lnTo>
                  <a:lnTo>
                    <a:pt x="1226" y="1488"/>
                  </a:lnTo>
                  <a:lnTo>
                    <a:pt x="1233" y="1488"/>
                  </a:lnTo>
                  <a:lnTo>
                    <a:pt x="1239" y="1482"/>
                  </a:lnTo>
                  <a:lnTo>
                    <a:pt x="1246" y="1482"/>
                  </a:lnTo>
                  <a:lnTo>
                    <a:pt x="1252" y="1475"/>
                  </a:lnTo>
                  <a:lnTo>
                    <a:pt x="1252" y="1462"/>
                  </a:lnTo>
                  <a:lnTo>
                    <a:pt x="1252" y="1455"/>
                  </a:lnTo>
                  <a:lnTo>
                    <a:pt x="1252" y="1442"/>
                  </a:lnTo>
                  <a:lnTo>
                    <a:pt x="1252" y="1436"/>
                  </a:lnTo>
                  <a:lnTo>
                    <a:pt x="1259" y="1429"/>
                  </a:lnTo>
                  <a:lnTo>
                    <a:pt x="1266" y="1422"/>
                  </a:lnTo>
                  <a:lnTo>
                    <a:pt x="1272" y="1416"/>
                  </a:lnTo>
                  <a:lnTo>
                    <a:pt x="1279" y="1416"/>
                  </a:lnTo>
                  <a:lnTo>
                    <a:pt x="1292" y="1416"/>
                  </a:lnTo>
                  <a:lnTo>
                    <a:pt x="1298" y="1416"/>
                  </a:lnTo>
                  <a:lnTo>
                    <a:pt x="1305" y="1416"/>
                  </a:lnTo>
                  <a:lnTo>
                    <a:pt x="1312" y="1422"/>
                  </a:lnTo>
                  <a:lnTo>
                    <a:pt x="1318" y="1422"/>
                  </a:lnTo>
                  <a:lnTo>
                    <a:pt x="1325" y="1429"/>
                  </a:lnTo>
                  <a:lnTo>
                    <a:pt x="1331" y="1436"/>
                  </a:lnTo>
                  <a:lnTo>
                    <a:pt x="1338" y="1436"/>
                  </a:lnTo>
                  <a:lnTo>
                    <a:pt x="1345" y="1442"/>
                  </a:lnTo>
                  <a:lnTo>
                    <a:pt x="1351" y="1442"/>
                  </a:lnTo>
                  <a:lnTo>
                    <a:pt x="1358" y="1442"/>
                  </a:lnTo>
                  <a:lnTo>
                    <a:pt x="1364" y="1442"/>
                  </a:lnTo>
                  <a:lnTo>
                    <a:pt x="1371" y="1442"/>
                  </a:lnTo>
                  <a:lnTo>
                    <a:pt x="1384" y="1449"/>
                  </a:lnTo>
                  <a:lnTo>
                    <a:pt x="1391" y="1449"/>
                  </a:lnTo>
                  <a:lnTo>
                    <a:pt x="1397" y="1455"/>
                  </a:lnTo>
                  <a:lnTo>
                    <a:pt x="1404" y="1455"/>
                  </a:lnTo>
                  <a:lnTo>
                    <a:pt x="1411" y="1462"/>
                  </a:lnTo>
                  <a:lnTo>
                    <a:pt x="1417" y="1469"/>
                  </a:lnTo>
                  <a:lnTo>
                    <a:pt x="1424" y="1475"/>
                  </a:lnTo>
                  <a:lnTo>
                    <a:pt x="1430" y="1475"/>
                  </a:lnTo>
                  <a:lnTo>
                    <a:pt x="1437" y="1482"/>
                  </a:lnTo>
                  <a:lnTo>
                    <a:pt x="1443" y="1488"/>
                  </a:lnTo>
                  <a:lnTo>
                    <a:pt x="1450" y="1495"/>
                  </a:lnTo>
                  <a:lnTo>
                    <a:pt x="1457" y="1501"/>
                  </a:lnTo>
                  <a:lnTo>
                    <a:pt x="1463" y="1508"/>
                  </a:lnTo>
                  <a:lnTo>
                    <a:pt x="1470" y="1508"/>
                  </a:lnTo>
                  <a:lnTo>
                    <a:pt x="1476" y="1515"/>
                  </a:lnTo>
                  <a:lnTo>
                    <a:pt x="1483" y="1521"/>
                  </a:lnTo>
                  <a:lnTo>
                    <a:pt x="1490" y="1521"/>
                  </a:lnTo>
                  <a:lnTo>
                    <a:pt x="1496" y="1521"/>
                  </a:lnTo>
                  <a:lnTo>
                    <a:pt x="1503" y="1528"/>
                  </a:lnTo>
                  <a:lnTo>
                    <a:pt x="1509" y="1528"/>
                  </a:lnTo>
                  <a:lnTo>
                    <a:pt x="1516" y="1534"/>
                  </a:lnTo>
                  <a:lnTo>
                    <a:pt x="1523" y="1534"/>
                  </a:lnTo>
                  <a:lnTo>
                    <a:pt x="1529" y="1534"/>
                  </a:lnTo>
                  <a:lnTo>
                    <a:pt x="1542" y="1534"/>
                  </a:lnTo>
                  <a:lnTo>
                    <a:pt x="1549" y="1534"/>
                  </a:lnTo>
                  <a:lnTo>
                    <a:pt x="1555" y="1534"/>
                  </a:lnTo>
                  <a:lnTo>
                    <a:pt x="1562" y="1534"/>
                  </a:lnTo>
                  <a:lnTo>
                    <a:pt x="1569" y="1534"/>
                  </a:lnTo>
                  <a:lnTo>
                    <a:pt x="1575" y="1534"/>
                  </a:lnTo>
                  <a:lnTo>
                    <a:pt x="1582" y="1534"/>
                  </a:lnTo>
                  <a:lnTo>
                    <a:pt x="1595" y="1534"/>
                  </a:lnTo>
                  <a:lnTo>
                    <a:pt x="1602" y="1534"/>
                  </a:lnTo>
                  <a:lnTo>
                    <a:pt x="1608" y="1534"/>
                  </a:lnTo>
                  <a:lnTo>
                    <a:pt x="1615" y="1534"/>
                  </a:lnTo>
                  <a:lnTo>
                    <a:pt x="1621" y="1534"/>
                  </a:lnTo>
                  <a:lnTo>
                    <a:pt x="1628" y="1534"/>
                  </a:lnTo>
                  <a:lnTo>
                    <a:pt x="1635" y="1534"/>
                  </a:lnTo>
                  <a:lnTo>
                    <a:pt x="1641" y="1541"/>
                  </a:lnTo>
                  <a:lnTo>
                    <a:pt x="1648" y="1541"/>
                  </a:lnTo>
                  <a:lnTo>
                    <a:pt x="1661" y="1548"/>
                  </a:lnTo>
                  <a:lnTo>
                    <a:pt x="1668" y="1554"/>
                  </a:lnTo>
                  <a:lnTo>
                    <a:pt x="1674" y="1554"/>
                  </a:lnTo>
                  <a:lnTo>
                    <a:pt x="1681" y="1554"/>
                  </a:lnTo>
                  <a:lnTo>
                    <a:pt x="1687" y="1554"/>
                  </a:lnTo>
                  <a:lnTo>
                    <a:pt x="1694" y="1554"/>
                  </a:lnTo>
                  <a:lnTo>
                    <a:pt x="1700" y="1548"/>
                  </a:lnTo>
                  <a:lnTo>
                    <a:pt x="1707" y="1541"/>
                  </a:lnTo>
                  <a:lnTo>
                    <a:pt x="1714" y="1534"/>
                  </a:lnTo>
                  <a:lnTo>
                    <a:pt x="1720" y="1534"/>
                  </a:lnTo>
                  <a:lnTo>
                    <a:pt x="1727" y="1528"/>
                  </a:lnTo>
                  <a:lnTo>
                    <a:pt x="1733" y="1528"/>
                  </a:lnTo>
                  <a:lnTo>
                    <a:pt x="1740" y="1534"/>
                  </a:lnTo>
                  <a:lnTo>
                    <a:pt x="1753" y="1534"/>
                  </a:lnTo>
                  <a:lnTo>
                    <a:pt x="1760" y="1534"/>
                  </a:lnTo>
                  <a:lnTo>
                    <a:pt x="1766" y="1534"/>
                  </a:lnTo>
                  <a:lnTo>
                    <a:pt x="1773" y="1541"/>
                  </a:lnTo>
                  <a:lnTo>
                    <a:pt x="1780" y="1541"/>
                  </a:lnTo>
                  <a:lnTo>
                    <a:pt x="1786" y="1541"/>
                  </a:lnTo>
                  <a:lnTo>
                    <a:pt x="1793" y="1548"/>
                  </a:lnTo>
                  <a:lnTo>
                    <a:pt x="1799" y="1548"/>
                  </a:lnTo>
                  <a:lnTo>
                    <a:pt x="1806" y="1554"/>
                  </a:lnTo>
                  <a:lnTo>
                    <a:pt x="1812" y="1554"/>
                  </a:lnTo>
                  <a:lnTo>
                    <a:pt x="1826" y="1561"/>
                  </a:lnTo>
                  <a:lnTo>
                    <a:pt x="1832" y="1567"/>
                  </a:lnTo>
                  <a:lnTo>
                    <a:pt x="1839" y="1567"/>
                  </a:lnTo>
                  <a:lnTo>
                    <a:pt x="1845" y="1574"/>
                  </a:lnTo>
                  <a:lnTo>
                    <a:pt x="1852" y="1581"/>
                  </a:lnTo>
                  <a:lnTo>
                    <a:pt x="1859" y="1587"/>
                  </a:lnTo>
                  <a:lnTo>
                    <a:pt x="1865" y="1594"/>
                  </a:lnTo>
                  <a:lnTo>
                    <a:pt x="1865" y="1594"/>
                  </a:lnTo>
                  <a:lnTo>
                    <a:pt x="1872" y="1600"/>
                  </a:lnTo>
                  <a:lnTo>
                    <a:pt x="1878" y="1607"/>
                  </a:lnTo>
                  <a:lnTo>
                    <a:pt x="1885" y="1613"/>
                  </a:lnTo>
                  <a:lnTo>
                    <a:pt x="1892" y="1620"/>
                  </a:lnTo>
                  <a:lnTo>
                    <a:pt x="1898" y="1627"/>
                  </a:lnTo>
                  <a:lnTo>
                    <a:pt x="1905" y="1633"/>
                  </a:lnTo>
                  <a:lnTo>
                    <a:pt x="1911" y="1640"/>
                  </a:lnTo>
                  <a:lnTo>
                    <a:pt x="1911" y="1653"/>
                  </a:lnTo>
                  <a:lnTo>
                    <a:pt x="1918" y="1660"/>
                  </a:lnTo>
                  <a:lnTo>
                    <a:pt x="1924" y="1660"/>
                  </a:lnTo>
                  <a:lnTo>
                    <a:pt x="1931" y="1666"/>
                  </a:lnTo>
                  <a:lnTo>
                    <a:pt x="1938" y="1673"/>
                  </a:lnTo>
                  <a:lnTo>
                    <a:pt x="1944" y="1673"/>
                  </a:lnTo>
                  <a:lnTo>
                    <a:pt x="1951" y="1673"/>
                  </a:lnTo>
                  <a:lnTo>
                    <a:pt x="1957" y="1666"/>
                  </a:lnTo>
                  <a:lnTo>
                    <a:pt x="1964" y="1653"/>
                  </a:lnTo>
                  <a:lnTo>
                    <a:pt x="1971" y="1646"/>
                  </a:lnTo>
                  <a:lnTo>
                    <a:pt x="1977" y="1640"/>
                  </a:lnTo>
                  <a:lnTo>
                    <a:pt x="1984" y="1633"/>
                  </a:lnTo>
                  <a:lnTo>
                    <a:pt x="1990" y="1640"/>
                  </a:lnTo>
                  <a:lnTo>
                    <a:pt x="1997" y="1646"/>
                  </a:lnTo>
                  <a:lnTo>
                    <a:pt x="2010" y="1627"/>
                  </a:lnTo>
                  <a:lnTo>
                    <a:pt x="2010" y="1594"/>
                  </a:lnTo>
                  <a:lnTo>
                    <a:pt x="2010" y="1567"/>
                  </a:lnTo>
                  <a:lnTo>
                    <a:pt x="2010" y="1534"/>
                  </a:lnTo>
                  <a:lnTo>
                    <a:pt x="2043" y="1501"/>
                  </a:lnTo>
                  <a:lnTo>
                    <a:pt x="2043" y="1469"/>
                  </a:lnTo>
                  <a:lnTo>
                    <a:pt x="2043" y="1436"/>
                  </a:lnTo>
                  <a:lnTo>
                    <a:pt x="2043" y="1403"/>
                  </a:lnTo>
                  <a:lnTo>
                    <a:pt x="2043" y="1370"/>
                  </a:lnTo>
                  <a:lnTo>
                    <a:pt x="2043" y="1337"/>
                  </a:lnTo>
                  <a:lnTo>
                    <a:pt x="2076" y="1304"/>
                  </a:lnTo>
                  <a:lnTo>
                    <a:pt x="2076" y="1271"/>
                  </a:lnTo>
                  <a:lnTo>
                    <a:pt x="2076" y="1238"/>
                  </a:lnTo>
                  <a:lnTo>
                    <a:pt x="2076" y="1205"/>
                  </a:lnTo>
                  <a:lnTo>
                    <a:pt x="2076" y="1172"/>
                  </a:lnTo>
                  <a:lnTo>
                    <a:pt x="2076" y="1139"/>
                  </a:lnTo>
                  <a:lnTo>
                    <a:pt x="2076" y="1106"/>
                  </a:lnTo>
                  <a:lnTo>
                    <a:pt x="2109" y="1074"/>
                  </a:lnTo>
                  <a:lnTo>
                    <a:pt x="2109" y="1041"/>
                  </a:lnTo>
                  <a:lnTo>
                    <a:pt x="2109" y="1008"/>
                  </a:lnTo>
                  <a:lnTo>
                    <a:pt x="2109" y="975"/>
                  </a:lnTo>
                  <a:lnTo>
                    <a:pt x="2109" y="948"/>
                  </a:lnTo>
                  <a:lnTo>
                    <a:pt x="2109" y="916"/>
                  </a:lnTo>
                  <a:lnTo>
                    <a:pt x="2109" y="883"/>
                  </a:lnTo>
                  <a:lnTo>
                    <a:pt x="2142" y="850"/>
                  </a:lnTo>
                  <a:lnTo>
                    <a:pt x="2142" y="817"/>
                  </a:lnTo>
                  <a:lnTo>
                    <a:pt x="2142" y="784"/>
                  </a:lnTo>
                  <a:lnTo>
                    <a:pt x="2142" y="751"/>
                  </a:lnTo>
                  <a:lnTo>
                    <a:pt x="2142" y="718"/>
                  </a:lnTo>
                  <a:lnTo>
                    <a:pt x="2142" y="685"/>
                  </a:lnTo>
                  <a:lnTo>
                    <a:pt x="2142" y="652"/>
                  </a:lnTo>
                  <a:lnTo>
                    <a:pt x="2175" y="619"/>
                  </a:lnTo>
                  <a:lnTo>
                    <a:pt x="2175" y="586"/>
                  </a:lnTo>
                  <a:lnTo>
                    <a:pt x="2175" y="553"/>
                  </a:lnTo>
                  <a:lnTo>
                    <a:pt x="2175" y="521"/>
                  </a:lnTo>
                  <a:lnTo>
                    <a:pt x="2175" y="488"/>
                  </a:lnTo>
                  <a:lnTo>
                    <a:pt x="2175" y="455"/>
                  </a:lnTo>
                  <a:lnTo>
                    <a:pt x="2175" y="422"/>
                  </a:lnTo>
                  <a:lnTo>
                    <a:pt x="2208" y="389"/>
                  </a:lnTo>
                  <a:lnTo>
                    <a:pt x="2208" y="356"/>
                  </a:lnTo>
                  <a:lnTo>
                    <a:pt x="2208" y="330"/>
                  </a:lnTo>
                  <a:lnTo>
                    <a:pt x="2208" y="297"/>
                  </a:lnTo>
                  <a:lnTo>
                    <a:pt x="2208" y="264"/>
                  </a:lnTo>
                  <a:lnTo>
                    <a:pt x="2208" y="231"/>
                  </a:lnTo>
                  <a:lnTo>
                    <a:pt x="2208" y="198"/>
                  </a:lnTo>
                  <a:lnTo>
                    <a:pt x="2241" y="165"/>
                  </a:lnTo>
                  <a:lnTo>
                    <a:pt x="2241" y="132"/>
                  </a:lnTo>
                  <a:lnTo>
                    <a:pt x="2241" y="99"/>
                  </a:lnTo>
                  <a:lnTo>
                    <a:pt x="2241" y="66"/>
                  </a:lnTo>
                  <a:lnTo>
                    <a:pt x="2241" y="33"/>
                  </a:lnTo>
                  <a:lnTo>
                    <a:pt x="2241" y="0"/>
                  </a:lnTo>
                  <a:lnTo>
                    <a:pt x="2221" y="0"/>
                  </a:lnTo>
                  <a:lnTo>
                    <a:pt x="2214" y="7"/>
                  </a:lnTo>
                  <a:lnTo>
                    <a:pt x="2208" y="14"/>
                  </a:lnTo>
                  <a:lnTo>
                    <a:pt x="2208" y="27"/>
                  </a:lnTo>
                  <a:lnTo>
                    <a:pt x="2201" y="33"/>
                  </a:lnTo>
                  <a:lnTo>
                    <a:pt x="2201" y="40"/>
                  </a:lnTo>
                  <a:lnTo>
                    <a:pt x="2195" y="47"/>
                  </a:lnTo>
                  <a:lnTo>
                    <a:pt x="2188" y="53"/>
                  </a:lnTo>
                  <a:lnTo>
                    <a:pt x="2188" y="66"/>
                  </a:lnTo>
                  <a:lnTo>
                    <a:pt x="2181" y="73"/>
                  </a:lnTo>
                  <a:lnTo>
                    <a:pt x="2181" y="79"/>
                  </a:lnTo>
                  <a:lnTo>
                    <a:pt x="2175" y="86"/>
                  </a:lnTo>
                  <a:lnTo>
                    <a:pt x="2168" y="93"/>
                  </a:lnTo>
                  <a:lnTo>
                    <a:pt x="2168" y="99"/>
                  </a:lnTo>
                  <a:lnTo>
                    <a:pt x="2162" y="112"/>
                  </a:lnTo>
                  <a:lnTo>
                    <a:pt x="2155" y="119"/>
                  </a:lnTo>
                  <a:lnTo>
                    <a:pt x="2155" y="126"/>
                  </a:lnTo>
                  <a:lnTo>
                    <a:pt x="2149" y="132"/>
                  </a:lnTo>
                  <a:lnTo>
                    <a:pt x="2149" y="139"/>
                  </a:lnTo>
                  <a:lnTo>
                    <a:pt x="2142" y="152"/>
                  </a:lnTo>
                  <a:lnTo>
                    <a:pt x="2135" y="152"/>
                  </a:lnTo>
                  <a:lnTo>
                    <a:pt x="2129" y="158"/>
                  </a:lnTo>
                  <a:lnTo>
                    <a:pt x="2122" y="158"/>
                  </a:lnTo>
                  <a:lnTo>
                    <a:pt x="2116" y="158"/>
                  </a:lnTo>
                  <a:lnTo>
                    <a:pt x="2109" y="158"/>
                  </a:lnTo>
                  <a:lnTo>
                    <a:pt x="2102" y="158"/>
                  </a:lnTo>
                  <a:lnTo>
                    <a:pt x="2096" y="152"/>
                  </a:lnTo>
                  <a:lnTo>
                    <a:pt x="2089" y="145"/>
                  </a:lnTo>
                  <a:lnTo>
                    <a:pt x="2083" y="139"/>
                  </a:lnTo>
                  <a:lnTo>
                    <a:pt x="2076" y="132"/>
                  </a:lnTo>
                  <a:lnTo>
                    <a:pt x="2076" y="132"/>
                  </a:lnTo>
                  <a:lnTo>
                    <a:pt x="2069" y="145"/>
                  </a:lnTo>
                  <a:lnTo>
                    <a:pt x="2063" y="152"/>
                  </a:lnTo>
                  <a:lnTo>
                    <a:pt x="2063" y="158"/>
                  </a:lnTo>
                  <a:lnTo>
                    <a:pt x="2056" y="165"/>
                  </a:lnTo>
                  <a:lnTo>
                    <a:pt x="2050" y="165"/>
                  </a:lnTo>
                  <a:lnTo>
                    <a:pt x="2043" y="172"/>
                  </a:lnTo>
                  <a:lnTo>
                    <a:pt x="2037" y="172"/>
                  </a:lnTo>
                  <a:lnTo>
                    <a:pt x="2030" y="178"/>
                  </a:lnTo>
                  <a:lnTo>
                    <a:pt x="2023" y="178"/>
                  </a:lnTo>
                  <a:lnTo>
                    <a:pt x="2017" y="185"/>
                  </a:lnTo>
                  <a:lnTo>
                    <a:pt x="2010" y="185"/>
                  </a:lnTo>
                  <a:lnTo>
                    <a:pt x="2004" y="191"/>
                  </a:lnTo>
                  <a:lnTo>
                    <a:pt x="1997" y="191"/>
                  </a:lnTo>
                  <a:lnTo>
                    <a:pt x="1990" y="198"/>
                  </a:lnTo>
                  <a:lnTo>
                    <a:pt x="1984" y="205"/>
                  </a:lnTo>
                  <a:lnTo>
                    <a:pt x="1977" y="205"/>
                  </a:lnTo>
                  <a:lnTo>
                    <a:pt x="1971" y="211"/>
                  </a:lnTo>
                  <a:lnTo>
                    <a:pt x="1964" y="218"/>
                  </a:lnTo>
                  <a:lnTo>
                    <a:pt x="1957" y="218"/>
                  </a:lnTo>
                  <a:lnTo>
                    <a:pt x="1951" y="218"/>
                  </a:lnTo>
                  <a:lnTo>
                    <a:pt x="1944" y="218"/>
                  </a:lnTo>
                  <a:lnTo>
                    <a:pt x="1938" y="218"/>
                  </a:lnTo>
                  <a:lnTo>
                    <a:pt x="1938" y="211"/>
                  </a:lnTo>
                  <a:lnTo>
                    <a:pt x="1931" y="198"/>
                  </a:lnTo>
                  <a:lnTo>
                    <a:pt x="1924" y="191"/>
                  </a:lnTo>
                  <a:lnTo>
                    <a:pt x="1924" y="178"/>
                  </a:lnTo>
                  <a:lnTo>
                    <a:pt x="1918" y="172"/>
                  </a:lnTo>
                  <a:lnTo>
                    <a:pt x="1918" y="165"/>
                  </a:lnTo>
                  <a:lnTo>
                    <a:pt x="1911" y="165"/>
                  </a:lnTo>
                  <a:lnTo>
                    <a:pt x="1905" y="165"/>
                  </a:lnTo>
                  <a:lnTo>
                    <a:pt x="1898" y="165"/>
                  </a:lnTo>
                  <a:lnTo>
                    <a:pt x="1892" y="165"/>
                  </a:lnTo>
                  <a:lnTo>
                    <a:pt x="1878" y="165"/>
                  </a:lnTo>
                  <a:lnTo>
                    <a:pt x="1872" y="165"/>
                  </a:lnTo>
                  <a:lnTo>
                    <a:pt x="1865" y="165"/>
                  </a:lnTo>
                  <a:lnTo>
                    <a:pt x="1859" y="165"/>
                  </a:lnTo>
                  <a:lnTo>
                    <a:pt x="1852" y="165"/>
                  </a:lnTo>
                  <a:lnTo>
                    <a:pt x="1845" y="165"/>
                  </a:lnTo>
                  <a:lnTo>
                    <a:pt x="1839" y="172"/>
                  </a:lnTo>
                  <a:lnTo>
                    <a:pt x="1832" y="172"/>
                  </a:lnTo>
                  <a:lnTo>
                    <a:pt x="1826" y="172"/>
                  </a:lnTo>
                  <a:lnTo>
                    <a:pt x="1819" y="165"/>
                  </a:lnTo>
                  <a:lnTo>
                    <a:pt x="1812" y="158"/>
                  </a:lnTo>
                  <a:lnTo>
                    <a:pt x="1819" y="152"/>
                  </a:lnTo>
                  <a:lnTo>
                    <a:pt x="1826" y="152"/>
                  </a:lnTo>
                  <a:lnTo>
                    <a:pt x="1832" y="152"/>
                  </a:lnTo>
                  <a:lnTo>
                    <a:pt x="1839" y="158"/>
                  </a:lnTo>
                  <a:lnTo>
                    <a:pt x="1845" y="158"/>
                  </a:lnTo>
                  <a:lnTo>
                    <a:pt x="1852" y="152"/>
                  </a:lnTo>
                  <a:lnTo>
                    <a:pt x="1859" y="145"/>
                  </a:lnTo>
                  <a:lnTo>
                    <a:pt x="1859" y="132"/>
                  </a:lnTo>
                  <a:lnTo>
                    <a:pt x="1852" y="126"/>
                  </a:lnTo>
                  <a:lnTo>
                    <a:pt x="1852" y="119"/>
                  </a:lnTo>
                  <a:lnTo>
                    <a:pt x="1845" y="119"/>
                  </a:lnTo>
                  <a:lnTo>
                    <a:pt x="1839" y="119"/>
                  </a:lnTo>
                  <a:lnTo>
                    <a:pt x="1826" y="119"/>
                  </a:lnTo>
                  <a:lnTo>
                    <a:pt x="1819" y="132"/>
                  </a:lnTo>
                  <a:lnTo>
                    <a:pt x="1786" y="132"/>
                  </a:lnTo>
                  <a:lnTo>
                    <a:pt x="1773" y="132"/>
                  </a:lnTo>
                  <a:lnTo>
                    <a:pt x="1773" y="132"/>
                  </a:lnTo>
                  <a:lnTo>
                    <a:pt x="1766" y="132"/>
                  </a:lnTo>
                  <a:lnTo>
                    <a:pt x="1766" y="132"/>
                  </a:lnTo>
                  <a:lnTo>
                    <a:pt x="1760" y="132"/>
                  </a:lnTo>
                  <a:lnTo>
                    <a:pt x="1760" y="132"/>
                  </a:lnTo>
                  <a:lnTo>
                    <a:pt x="1753" y="132"/>
                  </a:lnTo>
                  <a:lnTo>
                    <a:pt x="1753" y="139"/>
                  </a:lnTo>
                  <a:lnTo>
                    <a:pt x="1747" y="139"/>
                  </a:lnTo>
                  <a:lnTo>
                    <a:pt x="1720" y="165"/>
                  </a:lnTo>
                  <a:lnTo>
                    <a:pt x="1687" y="165"/>
                  </a:lnTo>
                  <a:lnTo>
                    <a:pt x="1654" y="165"/>
                  </a:lnTo>
                  <a:lnTo>
                    <a:pt x="1621" y="198"/>
                  </a:lnTo>
                  <a:lnTo>
                    <a:pt x="1588" y="198"/>
                  </a:lnTo>
                  <a:lnTo>
                    <a:pt x="1555" y="198"/>
                  </a:lnTo>
                  <a:lnTo>
                    <a:pt x="1529" y="231"/>
                  </a:lnTo>
                  <a:lnTo>
                    <a:pt x="1496" y="231"/>
                  </a:lnTo>
                  <a:lnTo>
                    <a:pt x="1463" y="231"/>
                  </a:lnTo>
                  <a:lnTo>
                    <a:pt x="1430" y="264"/>
                  </a:lnTo>
                  <a:lnTo>
                    <a:pt x="1397" y="264"/>
                  </a:lnTo>
                  <a:lnTo>
                    <a:pt x="1364" y="264"/>
                  </a:lnTo>
                  <a:lnTo>
                    <a:pt x="1331" y="297"/>
                  </a:lnTo>
                  <a:lnTo>
                    <a:pt x="1298" y="297"/>
                  </a:lnTo>
                  <a:lnTo>
                    <a:pt x="1266" y="297"/>
                  </a:lnTo>
                  <a:lnTo>
                    <a:pt x="1233" y="330"/>
                  </a:lnTo>
                  <a:lnTo>
                    <a:pt x="1200" y="330"/>
                  </a:lnTo>
                  <a:lnTo>
                    <a:pt x="1167" y="356"/>
                  </a:lnTo>
                  <a:lnTo>
                    <a:pt x="1134" y="356"/>
                  </a:lnTo>
                  <a:lnTo>
                    <a:pt x="1107" y="356"/>
                  </a:lnTo>
                  <a:lnTo>
                    <a:pt x="1074" y="389"/>
                  </a:lnTo>
                  <a:lnTo>
                    <a:pt x="1042" y="389"/>
                  </a:lnTo>
                  <a:lnTo>
                    <a:pt x="1009" y="389"/>
                  </a:lnTo>
                  <a:lnTo>
                    <a:pt x="976" y="422"/>
                  </a:lnTo>
                  <a:lnTo>
                    <a:pt x="943" y="422"/>
                  </a:lnTo>
                  <a:lnTo>
                    <a:pt x="910" y="422"/>
                  </a:lnTo>
                  <a:lnTo>
                    <a:pt x="877" y="455"/>
                  </a:lnTo>
                  <a:lnTo>
                    <a:pt x="844" y="455"/>
                  </a:lnTo>
                  <a:lnTo>
                    <a:pt x="811" y="455"/>
                  </a:lnTo>
                  <a:lnTo>
                    <a:pt x="778" y="488"/>
                  </a:lnTo>
                  <a:lnTo>
                    <a:pt x="745" y="488"/>
                  </a:lnTo>
                  <a:lnTo>
                    <a:pt x="712" y="488"/>
                  </a:lnTo>
                  <a:lnTo>
                    <a:pt x="686" y="521"/>
                  </a:lnTo>
                  <a:lnTo>
                    <a:pt x="653" y="521"/>
                  </a:lnTo>
                  <a:lnTo>
                    <a:pt x="620" y="521"/>
                  </a:lnTo>
                  <a:lnTo>
                    <a:pt x="587" y="553"/>
                  </a:lnTo>
                  <a:lnTo>
                    <a:pt x="554" y="553"/>
                  </a:lnTo>
                  <a:lnTo>
                    <a:pt x="521" y="553"/>
                  </a:lnTo>
                  <a:lnTo>
                    <a:pt x="488" y="586"/>
                  </a:lnTo>
                  <a:lnTo>
                    <a:pt x="455" y="586"/>
                  </a:lnTo>
                  <a:lnTo>
                    <a:pt x="422" y="619"/>
                  </a:lnTo>
                  <a:lnTo>
                    <a:pt x="389" y="619"/>
                  </a:lnTo>
                  <a:lnTo>
                    <a:pt x="356" y="619"/>
                  </a:lnTo>
                  <a:lnTo>
                    <a:pt x="323" y="652"/>
                  </a:lnTo>
                  <a:lnTo>
                    <a:pt x="290" y="652"/>
                  </a:lnTo>
                  <a:lnTo>
                    <a:pt x="264" y="652"/>
                  </a:lnTo>
                  <a:lnTo>
                    <a:pt x="231" y="685"/>
                  </a:lnTo>
                  <a:lnTo>
                    <a:pt x="198" y="685"/>
                  </a:lnTo>
                  <a:lnTo>
                    <a:pt x="165" y="685"/>
                  </a:lnTo>
                  <a:lnTo>
                    <a:pt x="132" y="718"/>
                  </a:lnTo>
                  <a:lnTo>
                    <a:pt x="99" y="718"/>
                  </a:lnTo>
                  <a:lnTo>
                    <a:pt x="99" y="751"/>
                  </a:lnTo>
                  <a:lnTo>
                    <a:pt x="99" y="784"/>
                  </a:lnTo>
                  <a:lnTo>
                    <a:pt x="99" y="817"/>
                  </a:lnTo>
                  <a:lnTo>
                    <a:pt x="99" y="850"/>
                  </a:lnTo>
                  <a:lnTo>
                    <a:pt x="99" y="883"/>
                  </a:lnTo>
                  <a:lnTo>
                    <a:pt x="66" y="916"/>
                  </a:lnTo>
                  <a:lnTo>
                    <a:pt x="66" y="948"/>
                  </a:lnTo>
                  <a:lnTo>
                    <a:pt x="66" y="975"/>
                  </a:lnTo>
                  <a:lnTo>
                    <a:pt x="66" y="1008"/>
                  </a:lnTo>
                  <a:lnTo>
                    <a:pt x="66" y="1041"/>
                  </a:lnTo>
                  <a:lnTo>
                    <a:pt x="66" y="1074"/>
                  </a:lnTo>
                  <a:lnTo>
                    <a:pt x="66" y="1106"/>
                  </a:lnTo>
                  <a:lnTo>
                    <a:pt x="66" y="1139"/>
                  </a:lnTo>
                  <a:lnTo>
                    <a:pt x="66" y="1172"/>
                  </a:lnTo>
                  <a:lnTo>
                    <a:pt x="66" y="1205"/>
                  </a:lnTo>
                  <a:lnTo>
                    <a:pt x="66" y="1238"/>
                  </a:lnTo>
                  <a:lnTo>
                    <a:pt x="66" y="1271"/>
                  </a:lnTo>
                  <a:lnTo>
                    <a:pt x="66" y="1304"/>
                  </a:lnTo>
                  <a:lnTo>
                    <a:pt x="66" y="1337"/>
                  </a:lnTo>
                  <a:lnTo>
                    <a:pt x="66" y="1370"/>
                  </a:lnTo>
                  <a:lnTo>
                    <a:pt x="66" y="1403"/>
                  </a:lnTo>
                  <a:lnTo>
                    <a:pt x="66" y="1436"/>
                  </a:lnTo>
                  <a:lnTo>
                    <a:pt x="66" y="1469"/>
                  </a:lnTo>
                  <a:lnTo>
                    <a:pt x="33" y="1501"/>
                  </a:lnTo>
                  <a:lnTo>
                    <a:pt x="33" y="1534"/>
                  </a:lnTo>
                  <a:lnTo>
                    <a:pt x="33" y="1567"/>
                  </a:lnTo>
                  <a:lnTo>
                    <a:pt x="33" y="1594"/>
                  </a:lnTo>
                  <a:lnTo>
                    <a:pt x="33" y="1627"/>
                  </a:lnTo>
                  <a:lnTo>
                    <a:pt x="33" y="1660"/>
                  </a:lnTo>
                  <a:lnTo>
                    <a:pt x="33" y="1692"/>
                  </a:lnTo>
                  <a:lnTo>
                    <a:pt x="33" y="1725"/>
                  </a:lnTo>
                  <a:lnTo>
                    <a:pt x="33" y="1758"/>
                  </a:lnTo>
                  <a:lnTo>
                    <a:pt x="33" y="1791"/>
                  </a:lnTo>
                  <a:lnTo>
                    <a:pt x="33" y="1824"/>
                  </a:lnTo>
                  <a:lnTo>
                    <a:pt x="33" y="1857"/>
                  </a:lnTo>
                  <a:lnTo>
                    <a:pt x="33" y="1890"/>
                  </a:lnTo>
                  <a:lnTo>
                    <a:pt x="33" y="1923"/>
                  </a:lnTo>
                  <a:lnTo>
                    <a:pt x="33" y="1956"/>
                  </a:lnTo>
                  <a:lnTo>
                    <a:pt x="33" y="1989"/>
                  </a:lnTo>
                  <a:lnTo>
                    <a:pt x="33" y="2022"/>
                  </a:lnTo>
                  <a:lnTo>
                    <a:pt x="0" y="2055"/>
                  </a:lnTo>
                  <a:lnTo>
                    <a:pt x="0" y="2087"/>
                  </a:lnTo>
                  <a:lnTo>
                    <a:pt x="0" y="2120"/>
                  </a:lnTo>
                  <a:lnTo>
                    <a:pt x="0" y="2153"/>
                  </a:lnTo>
                  <a:lnTo>
                    <a:pt x="0" y="2186"/>
                  </a:lnTo>
                  <a:lnTo>
                    <a:pt x="0" y="2213"/>
                  </a:lnTo>
                  <a:lnTo>
                    <a:pt x="0" y="2245"/>
                  </a:lnTo>
                  <a:lnTo>
                    <a:pt x="0" y="2278"/>
                  </a:lnTo>
                  <a:lnTo>
                    <a:pt x="0" y="2311"/>
                  </a:lnTo>
                  <a:lnTo>
                    <a:pt x="0" y="2344"/>
                  </a:lnTo>
                  <a:lnTo>
                    <a:pt x="0" y="2377"/>
                  </a:lnTo>
                  <a:lnTo>
                    <a:pt x="0" y="2410"/>
                  </a:lnTo>
                  <a:lnTo>
                    <a:pt x="0" y="2443"/>
                  </a:lnTo>
                  <a:lnTo>
                    <a:pt x="0" y="2476"/>
                  </a:lnTo>
                  <a:lnTo>
                    <a:pt x="0" y="2509"/>
                  </a:lnTo>
                  <a:lnTo>
                    <a:pt x="0" y="2542"/>
                  </a:lnTo>
                  <a:lnTo>
                    <a:pt x="0" y="2575"/>
                  </a:lnTo>
                  <a:lnTo>
                    <a:pt x="0" y="2608"/>
                  </a:lnTo>
                  <a:lnTo>
                    <a:pt x="0" y="2640"/>
                  </a:lnTo>
                  <a:lnTo>
                    <a:pt x="33" y="2640"/>
                  </a:lnTo>
                  <a:lnTo>
                    <a:pt x="66" y="2673"/>
                  </a:lnTo>
                  <a:lnTo>
                    <a:pt x="99" y="2673"/>
                  </a:lnTo>
                  <a:lnTo>
                    <a:pt x="132" y="2706"/>
                  </a:lnTo>
                  <a:lnTo>
                    <a:pt x="165" y="2739"/>
                  </a:lnTo>
                  <a:lnTo>
                    <a:pt x="198" y="2739"/>
                  </a:lnTo>
                  <a:lnTo>
                    <a:pt x="231" y="2772"/>
                  </a:lnTo>
                  <a:lnTo>
                    <a:pt x="264" y="2805"/>
                  </a:lnTo>
                  <a:lnTo>
                    <a:pt x="290" y="2805"/>
                  </a:lnTo>
                  <a:lnTo>
                    <a:pt x="323" y="2831"/>
                  </a:lnTo>
                  <a:lnTo>
                    <a:pt x="356" y="2864"/>
                  </a:lnTo>
                  <a:lnTo>
                    <a:pt x="389" y="2864"/>
                  </a:lnTo>
                  <a:lnTo>
                    <a:pt x="422" y="2897"/>
                  </a:lnTo>
                  <a:lnTo>
                    <a:pt x="455" y="2930"/>
                  </a:lnTo>
                  <a:lnTo>
                    <a:pt x="488" y="2930"/>
                  </a:lnTo>
                  <a:lnTo>
                    <a:pt x="521" y="2963"/>
                  </a:lnTo>
                  <a:lnTo>
                    <a:pt x="554" y="2963"/>
                  </a:lnTo>
                  <a:lnTo>
                    <a:pt x="587" y="2996"/>
                  </a:lnTo>
                  <a:lnTo>
                    <a:pt x="620" y="3029"/>
                  </a:lnTo>
                  <a:lnTo>
                    <a:pt x="653" y="3029"/>
                  </a:lnTo>
                  <a:lnTo>
                    <a:pt x="686" y="3062"/>
                  </a:lnTo>
                  <a:lnTo>
                    <a:pt x="712" y="3095"/>
                  </a:lnTo>
                  <a:lnTo>
                    <a:pt x="745" y="3095"/>
                  </a:lnTo>
                  <a:lnTo>
                    <a:pt x="778" y="3128"/>
                  </a:lnTo>
                  <a:lnTo>
                    <a:pt x="811" y="3128"/>
                  </a:lnTo>
                  <a:lnTo>
                    <a:pt x="844" y="3161"/>
                  </a:lnTo>
                  <a:lnTo>
                    <a:pt x="877" y="3161"/>
                  </a:lnTo>
                  <a:lnTo>
                    <a:pt x="910" y="3161"/>
                  </a:lnTo>
                  <a:lnTo>
                    <a:pt x="943" y="3161"/>
                  </a:lnTo>
                  <a:close/>
                  <a:moveTo>
                    <a:pt x="1042" y="2087"/>
                  </a:moveTo>
                  <a:lnTo>
                    <a:pt x="1035" y="2081"/>
                  </a:lnTo>
                  <a:lnTo>
                    <a:pt x="1022" y="2081"/>
                  </a:lnTo>
                  <a:lnTo>
                    <a:pt x="1015" y="2074"/>
                  </a:lnTo>
                  <a:lnTo>
                    <a:pt x="1015" y="2061"/>
                  </a:lnTo>
                  <a:lnTo>
                    <a:pt x="1009" y="2055"/>
                  </a:lnTo>
                  <a:lnTo>
                    <a:pt x="1015" y="2048"/>
                  </a:lnTo>
                  <a:lnTo>
                    <a:pt x="1015" y="2041"/>
                  </a:lnTo>
                  <a:lnTo>
                    <a:pt x="1022" y="2035"/>
                  </a:lnTo>
                  <a:lnTo>
                    <a:pt x="1028" y="2028"/>
                  </a:lnTo>
                  <a:lnTo>
                    <a:pt x="1035" y="2015"/>
                  </a:lnTo>
                  <a:lnTo>
                    <a:pt x="1042" y="2008"/>
                  </a:lnTo>
                  <a:lnTo>
                    <a:pt x="1042" y="2002"/>
                  </a:lnTo>
                  <a:lnTo>
                    <a:pt x="1048" y="2002"/>
                  </a:lnTo>
                  <a:lnTo>
                    <a:pt x="1055" y="1995"/>
                  </a:lnTo>
                  <a:lnTo>
                    <a:pt x="1061" y="1982"/>
                  </a:lnTo>
                  <a:lnTo>
                    <a:pt x="1068" y="1976"/>
                  </a:lnTo>
                  <a:lnTo>
                    <a:pt x="1068" y="1962"/>
                  </a:lnTo>
                  <a:lnTo>
                    <a:pt x="1074" y="1962"/>
                  </a:lnTo>
                  <a:lnTo>
                    <a:pt x="1074" y="1969"/>
                  </a:lnTo>
                  <a:lnTo>
                    <a:pt x="1081" y="1976"/>
                  </a:lnTo>
                  <a:lnTo>
                    <a:pt x="1088" y="1989"/>
                  </a:lnTo>
                  <a:lnTo>
                    <a:pt x="1094" y="1995"/>
                  </a:lnTo>
                  <a:lnTo>
                    <a:pt x="1094" y="2002"/>
                  </a:lnTo>
                  <a:lnTo>
                    <a:pt x="1101" y="2008"/>
                  </a:lnTo>
                  <a:lnTo>
                    <a:pt x="1101" y="2015"/>
                  </a:lnTo>
                  <a:lnTo>
                    <a:pt x="1101" y="2028"/>
                  </a:lnTo>
                  <a:lnTo>
                    <a:pt x="1101" y="2035"/>
                  </a:lnTo>
                  <a:lnTo>
                    <a:pt x="1094" y="2048"/>
                  </a:lnTo>
                  <a:lnTo>
                    <a:pt x="1094" y="2055"/>
                  </a:lnTo>
                  <a:lnTo>
                    <a:pt x="1088" y="2061"/>
                  </a:lnTo>
                  <a:lnTo>
                    <a:pt x="1081" y="2068"/>
                  </a:lnTo>
                  <a:lnTo>
                    <a:pt x="1081" y="2074"/>
                  </a:lnTo>
                  <a:lnTo>
                    <a:pt x="1074" y="2087"/>
                  </a:lnTo>
                  <a:lnTo>
                    <a:pt x="1068" y="2094"/>
                  </a:lnTo>
                  <a:lnTo>
                    <a:pt x="1061" y="2094"/>
                  </a:lnTo>
                  <a:lnTo>
                    <a:pt x="1055" y="2094"/>
                  </a:lnTo>
                  <a:lnTo>
                    <a:pt x="1048" y="2087"/>
                  </a:lnTo>
                  <a:lnTo>
                    <a:pt x="1042" y="2087"/>
                  </a:lnTo>
                  <a:close/>
                  <a:moveTo>
                    <a:pt x="1977" y="1758"/>
                  </a:moveTo>
                  <a:lnTo>
                    <a:pt x="1977" y="1752"/>
                  </a:lnTo>
                  <a:lnTo>
                    <a:pt x="1977" y="1758"/>
                  </a:lnTo>
                  <a:lnTo>
                    <a:pt x="1977" y="1758"/>
                  </a:lnTo>
                  <a:close/>
                  <a:moveTo>
                    <a:pt x="593" y="1594"/>
                  </a:moveTo>
                  <a:lnTo>
                    <a:pt x="593" y="1587"/>
                  </a:lnTo>
                  <a:lnTo>
                    <a:pt x="593" y="1581"/>
                  </a:lnTo>
                  <a:lnTo>
                    <a:pt x="593" y="1574"/>
                  </a:lnTo>
                  <a:lnTo>
                    <a:pt x="587" y="1567"/>
                  </a:lnTo>
                  <a:lnTo>
                    <a:pt x="587" y="1567"/>
                  </a:lnTo>
                  <a:lnTo>
                    <a:pt x="580" y="1561"/>
                  </a:lnTo>
                  <a:lnTo>
                    <a:pt x="580" y="1554"/>
                  </a:lnTo>
                  <a:lnTo>
                    <a:pt x="574" y="1554"/>
                  </a:lnTo>
                  <a:lnTo>
                    <a:pt x="574" y="1548"/>
                  </a:lnTo>
                  <a:lnTo>
                    <a:pt x="567" y="1548"/>
                  </a:lnTo>
                  <a:lnTo>
                    <a:pt x="560" y="1541"/>
                  </a:lnTo>
                  <a:lnTo>
                    <a:pt x="560" y="1541"/>
                  </a:lnTo>
                  <a:lnTo>
                    <a:pt x="554" y="1534"/>
                  </a:lnTo>
                  <a:lnTo>
                    <a:pt x="554" y="1534"/>
                  </a:lnTo>
                  <a:lnTo>
                    <a:pt x="547" y="1534"/>
                  </a:lnTo>
                  <a:lnTo>
                    <a:pt x="547" y="1541"/>
                  </a:lnTo>
                  <a:lnTo>
                    <a:pt x="541" y="1554"/>
                  </a:lnTo>
                  <a:lnTo>
                    <a:pt x="541" y="1561"/>
                  </a:lnTo>
                  <a:lnTo>
                    <a:pt x="541" y="1567"/>
                  </a:lnTo>
                  <a:lnTo>
                    <a:pt x="547" y="1574"/>
                  </a:lnTo>
                  <a:lnTo>
                    <a:pt x="547" y="1574"/>
                  </a:lnTo>
                  <a:lnTo>
                    <a:pt x="554" y="1581"/>
                  </a:lnTo>
                  <a:lnTo>
                    <a:pt x="554" y="1587"/>
                  </a:lnTo>
                  <a:lnTo>
                    <a:pt x="560" y="1594"/>
                  </a:lnTo>
                  <a:lnTo>
                    <a:pt x="560" y="1594"/>
                  </a:lnTo>
                  <a:lnTo>
                    <a:pt x="567" y="1600"/>
                  </a:lnTo>
                  <a:lnTo>
                    <a:pt x="574" y="1600"/>
                  </a:lnTo>
                  <a:lnTo>
                    <a:pt x="580" y="1600"/>
                  </a:lnTo>
                  <a:lnTo>
                    <a:pt x="580" y="1600"/>
                  </a:lnTo>
                  <a:lnTo>
                    <a:pt x="587" y="1600"/>
                  </a:lnTo>
                  <a:lnTo>
                    <a:pt x="593" y="1600"/>
                  </a:lnTo>
                  <a:lnTo>
                    <a:pt x="593" y="1594"/>
                  </a:lnTo>
                  <a:close/>
                  <a:moveTo>
                    <a:pt x="890" y="1594"/>
                  </a:moveTo>
                  <a:lnTo>
                    <a:pt x="897" y="1594"/>
                  </a:lnTo>
                  <a:lnTo>
                    <a:pt x="903" y="1587"/>
                  </a:lnTo>
                  <a:lnTo>
                    <a:pt x="910" y="1587"/>
                  </a:lnTo>
                  <a:lnTo>
                    <a:pt x="916" y="1581"/>
                  </a:lnTo>
                  <a:lnTo>
                    <a:pt x="923" y="1574"/>
                  </a:lnTo>
                  <a:lnTo>
                    <a:pt x="929" y="1574"/>
                  </a:lnTo>
                  <a:lnTo>
                    <a:pt x="936" y="1567"/>
                  </a:lnTo>
                  <a:lnTo>
                    <a:pt x="936" y="1561"/>
                  </a:lnTo>
                  <a:lnTo>
                    <a:pt x="936" y="1561"/>
                  </a:lnTo>
                  <a:lnTo>
                    <a:pt x="929" y="1554"/>
                  </a:lnTo>
                  <a:lnTo>
                    <a:pt x="916" y="1554"/>
                  </a:lnTo>
                  <a:lnTo>
                    <a:pt x="910" y="1548"/>
                  </a:lnTo>
                  <a:lnTo>
                    <a:pt x="903" y="1541"/>
                  </a:lnTo>
                  <a:lnTo>
                    <a:pt x="903" y="1534"/>
                  </a:lnTo>
                  <a:lnTo>
                    <a:pt x="897" y="1528"/>
                  </a:lnTo>
                  <a:lnTo>
                    <a:pt x="897" y="1521"/>
                  </a:lnTo>
                  <a:lnTo>
                    <a:pt x="890" y="1508"/>
                  </a:lnTo>
                  <a:lnTo>
                    <a:pt x="890" y="1501"/>
                  </a:lnTo>
                  <a:lnTo>
                    <a:pt x="883" y="1495"/>
                  </a:lnTo>
                  <a:lnTo>
                    <a:pt x="877" y="1488"/>
                  </a:lnTo>
                  <a:lnTo>
                    <a:pt x="870" y="1495"/>
                  </a:lnTo>
                  <a:lnTo>
                    <a:pt x="864" y="1495"/>
                  </a:lnTo>
                  <a:lnTo>
                    <a:pt x="857" y="1501"/>
                  </a:lnTo>
                  <a:lnTo>
                    <a:pt x="850" y="1501"/>
                  </a:lnTo>
                  <a:lnTo>
                    <a:pt x="844" y="1508"/>
                  </a:lnTo>
                  <a:lnTo>
                    <a:pt x="837" y="1515"/>
                  </a:lnTo>
                  <a:lnTo>
                    <a:pt x="831" y="1515"/>
                  </a:lnTo>
                  <a:lnTo>
                    <a:pt x="831" y="1521"/>
                  </a:lnTo>
                  <a:lnTo>
                    <a:pt x="824" y="1534"/>
                  </a:lnTo>
                  <a:lnTo>
                    <a:pt x="817" y="1541"/>
                  </a:lnTo>
                  <a:lnTo>
                    <a:pt x="817" y="1548"/>
                  </a:lnTo>
                  <a:lnTo>
                    <a:pt x="817" y="1554"/>
                  </a:lnTo>
                  <a:lnTo>
                    <a:pt x="811" y="1567"/>
                  </a:lnTo>
                  <a:lnTo>
                    <a:pt x="811" y="1574"/>
                  </a:lnTo>
                  <a:lnTo>
                    <a:pt x="804" y="1587"/>
                  </a:lnTo>
                  <a:lnTo>
                    <a:pt x="804" y="1594"/>
                  </a:lnTo>
                  <a:lnTo>
                    <a:pt x="804" y="1600"/>
                  </a:lnTo>
                  <a:lnTo>
                    <a:pt x="811" y="1607"/>
                  </a:lnTo>
                  <a:lnTo>
                    <a:pt x="817" y="1613"/>
                  </a:lnTo>
                  <a:lnTo>
                    <a:pt x="824" y="1613"/>
                  </a:lnTo>
                  <a:lnTo>
                    <a:pt x="831" y="1613"/>
                  </a:lnTo>
                  <a:lnTo>
                    <a:pt x="837" y="1613"/>
                  </a:lnTo>
                  <a:lnTo>
                    <a:pt x="844" y="1613"/>
                  </a:lnTo>
                  <a:lnTo>
                    <a:pt x="850" y="1613"/>
                  </a:lnTo>
                  <a:lnTo>
                    <a:pt x="857" y="1613"/>
                  </a:lnTo>
                  <a:lnTo>
                    <a:pt x="864" y="1607"/>
                  </a:lnTo>
                  <a:lnTo>
                    <a:pt x="870" y="1607"/>
                  </a:lnTo>
                  <a:lnTo>
                    <a:pt x="877" y="1607"/>
                  </a:lnTo>
                  <a:lnTo>
                    <a:pt x="883" y="1600"/>
                  </a:lnTo>
                  <a:lnTo>
                    <a:pt x="890" y="1594"/>
                  </a:lnTo>
                  <a:close/>
                  <a:moveTo>
                    <a:pt x="1088" y="1074"/>
                  </a:moveTo>
                  <a:lnTo>
                    <a:pt x="1088" y="1067"/>
                  </a:lnTo>
                  <a:lnTo>
                    <a:pt x="1088" y="1060"/>
                  </a:lnTo>
                  <a:lnTo>
                    <a:pt x="1081" y="1054"/>
                  </a:lnTo>
                  <a:lnTo>
                    <a:pt x="1081" y="1047"/>
                  </a:lnTo>
                  <a:lnTo>
                    <a:pt x="1074" y="1041"/>
                  </a:lnTo>
                  <a:lnTo>
                    <a:pt x="1074" y="1034"/>
                  </a:lnTo>
                  <a:lnTo>
                    <a:pt x="1068" y="1027"/>
                  </a:lnTo>
                  <a:lnTo>
                    <a:pt x="1061" y="1021"/>
                  </a:lnTo>
                  <a:lnTo>
                    <a:pt x="1061" y="1014"/>
                  </a:lnTo>
                  <a:lnTo>
                    <a:pt x="1061" y="1001"/>
                  </a:lnTo>
                  <a:lnTo>
                    <a:pt x="1061" y="995"/>
                  </a:lnTo>
                  <a:lnTo>
                    <a:pt x="1068" y="988"/>
                  </a:lnTo>
                  <a:lnTo>
                    <a:pt x="1074" y="988"/>
                  </a:lnTo>
                  <a:lnTo>
                    <a:pt x="1081" y="995"/>
                  </a:lnTo>
                  <a:lnTo>
                    <a:pt x="1081" y="1001"/>
                  </a:lnTo>
                  <a:lnTo>
                    <a:pt x="1088" y="1008"/>
                  </a:lnTo>
                  <a:lnTo>
                    <a:pt x="1094" y="1014"/>
                  </a:lnTo>
                  <a:lnTo>
                    <a:pt x="1101" y="1014"/>
                  </a:lnTo>
                  <a:lnTo>
                    <a:pt x="1107" y="1021"/>
                  </a:lnTo>
                  <a:lnTo>
                    <a:pt x="1107" y="1021"/>
                  </a:lnTo>
                  <a:lnTo>
                    <a:pt x="1114" y="1027"/>
                  </a:lnTo>
                  <a:lnTo>
                    <a:pt x="1121" y="1034"/>
                  </a:lnTo>
                  <a:lnTo>
                    <a:pt x="1121" y="1041"/>
                  </a:lnTo>
                  <a:lnTo>
                    <a:pt x="1121" y="1047"/>
                  </a:lnTo>
                  <a:lnTo>
                    <a:pt x="1121" y="1060"/>
                  </a:lnTo>
                  <a:lnTo>
                    <a:pt x="1114" y="1067"/>
                  </a:lnTo>
                  <a:lnTo>
                    <a:pt x="1114" y="1074"/>
                  </a:lnTo>
                  <a:lnTo>
                    <a:pt x="1107" y="1080"/>
                  </a:lnTo>
                  <a:lnTo>
                    <a:pt x="1107" y="1087"/>
                  </a:lnTo>
                  <a:lnTo>
                    <a:pt x="1101" y="1087"/>
                  </a:lnTo>
                  <a:lnTo>
                    <a:pt x="1094" y="1087"/>
                  </a:lnTo>
                  <a:lnTo>
                    <a:pt x="1088" y="1074"/>
                  </a:lnTo>
                  <a:close/>
                  <a:moveTo>
                    <a:pt x="831" y="883"/>
                  </a:moveTo>
                  <a:lnTo>
                    <a:pt x="824" y="876"/>
                  </a:lnTo>
                  <a:lnTo>
                    <a:pt x="817" y="869"/>
                  </a:lnTo>
                  <a:lnTo>
                    <a:pt x="811" y="863"/>
                  </a:lnTo>
                  <a:lnTo>
                    <a:pt x="804" y="856"/>
                  </a:lnTo>
                  <a:lnTo>
                    <a:pt x="798" y="850"/>
                  </a:lnTo>
                  <a:lnTo>
                    <a:pt x="791" y="843"/>
                  </a:lnTo>
                  <a:lnTo>
                    <a:pt x="785" y="837"/>
                  </a:lnTo>
                  <a:lnTo>
                    <a:pt x="771" y="837"/>
                  </a:lnTo>
                  <a:lnTo>
                    <a:pt x="765" y="837"/>
                  </a:lnTo>
                  <a:lnTo>
                    <a:pt x="758" y="830"/>
                  </a:lnTo>
                  <a:lnTo>
                    <a:pt x="752" y="830"/>
                  </a:lnTo>
                  <a:lnTo>
                    <a:pt x="745" y="830"/>
                  </a:lnTo>
                  <a:lnTo>
                    <a:pt x="732" y="823"/>
                  </a:lnTo>
                  <a:lnTo>
                    <a:pt x="725" y="823"/>
                  </a:lnTo>
                  <a:lnTo>
                    <a:pt x="719" y="823"/>
                  </a:lnTo>
                  <a:lnTo>
                    <a:pt x="712" y="823"/>
                  </a:lnTo>
                  <a:lnTo>
                    <a:pt x="699" y="823"/>
                  </a:lnTo>
                  <a:lnTo>
                    <a:pt x="692" y="817"/>
                  </a:lnTo>
                  <a:lnTo>
                    <a:pt x="686" y="810"/>
                  </a:lnTo>
                  <a:lnTo>
                    <a:pt x="679" y="804"/>
                  </a:lnTo>
                  <a:lnTo>
                    <a:pt x="673" y="804"/>
                  </a:lnTo>
                  <a:lnTo>
                    <a:pt x="666" y="797"/>
                  </a:lnTo>
                  <a:lnTo>
                    <a:pt x="659" y="797"/>
                  </a:lnTo>
                  <a:lnTo>
                    <a:pt x="646" y="790"/>
                  </a:lnTo>
                  <a:lnTo>
                    <a:pt x="640" y="790"/>
                  </a:lnTo>
                  <a:lnTo>
                    <a:pt x="633" y="790"/>
                  </a:lnTo>
                  <a:lnTo>
                    <a:pt x="626" y="790"/>
                  </a:lnTo>
                  <a:lnTo>
                    <a:pt x="620" y="790"/>
                  </a:lnTo>
                  <a:lnTo>
                    <a:pt x="607" y="790"/>
                  </a:lnTo>
                  <a:lnTo>
                    <a:pt x="600" y="790"/>
                  </a:lnTo>
                  <a:lnTo>
                    <a:pt x="593" y="784"/>
                  </a:lnTo>
                  <a:lnTo>
                    <a:pt x="587" y="784"/>
                  </a:lnTo>
                  <a:lnTo>
                    <a:pt x="574" y="784"/>
                  </a:lnTo>
                  <a:lnTo>
                    <a:pt x="567" y="784"/>
                  </a:lnTo>
                  <a:lnTo>
                    <a:pt x="560" y="784"/>
                  </a:lnTo>
                  <a:lnTo>
                    <a:pt x="567" y="777"/>
                  </a:lnTo>
                  <a:lnTo>
                    <a:pt x="580" y="777"/>
                  </a:lnTo>
                  <a:lnTo>
                    <a:pt x="587" y="777"/>
                  </a:lnTo>
                  <a:lnTo>
                    <a:pt x="600" y="777"/>
                  </a:lnTo>
                  <a:lnTo>
                    <a:pt x="607" y="777"/>
                  </a:lnTo>
                  <a:lnTo>
                    <a:pt x="613" y="777"/>
                  </a:lnTo>
                  <a:lnTo>
                    <a:pt x="620" y="777"/>
                  </a:lnTo>
                  <a:lnTo>
                    <a:pt x="626" y="771"/>
                  </a:lnTo>
                  <a:lnTo>
                    <a:pt x="640" y="771"/>
                  </a:lnTo>
                  <a:lnTo>
                    <a:pt x="646" y="771"/>
                  </a:lnTo>
                  <a:lnTo>
                    <a:pt x="653" y="771"/>
                  </a:lnTo>
                  <a:lnTo>
                    <a:pt x="659" y="771"/>
                  </a:lnTo>
                  <a:lnTo>
                    <a:pt x="673" y="771"/>
                  </a:lnTo>
                  <a:lnTo>
                    <a:pt x="679" y="771"/>
                  </a:lnTo>
                  <a:lnTo>
                    <a:pt x="686" y="771"/>
                  </a:lnTo>
                  <a:lnTo>
                    <a:pt x="692" y="771"/>
                  </a:lnTo>
                  <a:lnTo>
                    <a:pt x="699" y="771"/>
                  </a:lnTo>
                  <a:lnTo>
                    <a:pt x="712" y="771"/>
                  </a:lnTo>
                  <a:lnTo>
                    <a:pt x="719" y="771"/>
                  </a:lnTo>
                  <a:lnTo>
                    <a:pt x="725" y="771"/>
                  </a:lnTo>
                  <a:lnTo>
                    <a:pt x="732" y="771"/>
                  </a:lnTo>
                  <a:lnTo>
                    <a:pt x="745" y="771"/>
                  </a:lnTo>
                  <a:lnTo>
                    <a:pt x="752" y="771"/>
                  </a:lnTo>
                  <a:lnTo>
                    <a:pt x="758" y="764"/>
                  </a:lnTo>
                  <a:lnTo>
                    <a:pt x="765" y="764"/>
                  </a:lnTo>
                  <a:lnTo>
                    <a:pt x="778" y="764"/>
                  </a:lnTo>
                  <a:lnTo>
                    <a:pt x="785" y="764"/>
                  </a:lnTo>
                  <a:lnTo>
                    <a:pt x="791" y="764"/>
                  </a:lnTo>
                  <a:lnTo>
                    <a:pt x="798" y="764"/>
                  </a:lnTo>
                  <a:lnTo>
                    <a:pt x="804" y="764"/>
                  </a:lnTo>
                  <a:lnTo>
                    <a:pt x="817" y="764"/>
                  </a:lnTo>
                  <a:lnTo>
                    <a:pt x="824" y="764"/>
                  </a:lnTo>
                  <a:lnTo>
                    <a:pt x="831" y="764"/>
                  </a:lnTo>
                  <a:lnTo>
                    <a:pt x="837" y="758"/>
                  </a:lnTo>
                  <a:lnTo>
                    <a:pt x="850" y="758"/>
                  </a:lnTo>
                  <a:lnTo>
                    <a:pt x="857" y="751"/>
                  </a:lnTo>
                  <a:lnTo>
                    <a:pt x="864" y="744"/>
                  </a:lnTo>
                  <a:lnTo>
                    <a:pt x="870" y="731"/>
                  </a:lnTo>
                  <a:lnTo>
                    <a:pt x="877" y="731"/>
                  </a:lnTo>
                  <a:lnTo>
                    <a:pt x="883" y="731"/>
                  </a:lnTo>
                  <a:lnTo>
                    <a:pt x="890" y="738"/>
                  </a:lnTo>
                  <a:lnTo>
                    <a:pt x="897" y="744"/>
                  </a:lnTo>
                  <a:lnTo>
                    <a:pt x="903" y="758"/>
                  </a:lnTo>
                  <a:lnTo>
                    <a:pt x="903" y="764"/>
                  </a:lnTo>
                  <a:lnTo>
                    <a:pt x="910" y="771"/>
                  </a:lnTo>
                  <a:lnTo>
                    <a:pt x="916" y="777"/>
                  </a:lnTo>
                  <a:lnTo>
                    <a:pt x="923" y="790"/>
                  </a:lnTo>
                  <a:lnTo>
                    <a:pt x="923" y="804"/>
                  </a:lnTo>
                  <a:lnTo>
                    <a:pt x="923" y="817"/>
                  </a:lnTo>
                  <a:lnTo>
                    <a:pt x="916" y="823"/>
                  </a:lnTo>
                  <a:lnTo>
                    <a:pt x="910" y="830"/>
                  </a:lnTo>
                  <a:lnTo>
                    <a:pt x="903" y="837"/>
                  </a:lnTo>
                  <a:lnTo>
                    <a:pt x="897" y="843"/>
                  </a:lnTo>
                  <a:lnTo>
                    <a:pt x="890" y="850"/>
                  </a:lnTo>
                  <a:lnTo>
                    <a:pt x="883" y="856"/>
                  </a:lnTo>
                  <a:lnTo>
                    <a:pt x="877" y="863"/>
                  </a:lnTo>
                  <a:lnTo>
                    <a:pt x="870" y="869"/>
                  </a:lnTo>
                  <a:lnTo>
                    <a:pt x="864" y="876"/>
                  </a:lnTo>
                  <a:lnTo>
                    <a:pt x="857" y="883"/>
                  </a:lnTo>
                  <a:lnTo>
                    <a:pt x="850" y="889"/>
                  </a:lnTo>
                  <a:lnTo>
                    <a:pt x="844" y="896"/>
                  </a:lnTo>
                  <a:lnTo>
                    <a:pt x="837" y="889"/>
                  </a:lnTo>
                  <a:lnTo>
                    <a:pt x="831" y="883"/>
                  </a:lnTo>
                  <a:close/>
                  <a:moveTo>
                    <a:pt x="1345" y="751"/>
                  </a:moveTo>
                  <a:lnTo>
                    <a:pt x="1345" y="738"/>
                  </a:lnTo>
                  <a:lnTo>
                    <a:pt x="1351" y="731"/>
                  </a:lnTo>
                  <a:lnTo>
                    <a:pt x="1351" y="718"/>
                  </a:lnTo>
                  <a:lnTo>
                    <a:pt x="1351" y="705"/>
                  </a:lnTo>
                  <a:lnTo>
                    <a:pt x="1358" y="698"/>
                  </a:lnTo>
                  <a:lnTo>
                    <a:pt x="1358" y="685"/>
                  </a:lnTo>
                  <a:lnTo>
                    <a:pt x="1364" y="679"/>
                  </a:lnTo>
                  <a:lnTo>
                    <a:pt x="1364" y="665"/>
                  </a:lnTo>
                  <a:lnTo>
                    <a:pt x="1371" y="652"/>
                  </a:lnTo>
                  <a:lnTo>
                    <a:pt x="1371" y="646"/>
                  </a:lnTo>
                  <a:lnTo>
                    <a:pt x="1378" y="632"/>
                  </a:lnTo>
                  <a:lnTo>
                    <a:pt x="1378" y="626"/>
                  </a:lnTo>
                  <a:lnTo>
                    <a:pt x="1384" y="613"/>
                  </a:lnTo>
                  <a:lnTo>
                    <a:pt x="1384" y="606"/>
                  </a:lnTo>
                  <a:lnTo>
                    <a:pt x="1391" y="593"/>
                  </a:lnTo>
                  <a:lnTo>
                    <a:pt x="1397" y="586"/>
                  </a:lnTo>
                  <a:lnTo>
                    <a:pt x="1404" y="580"/>
                  </a:lnTo>
                  <a:lnTo>
                    <a:pt x="1411" y="580"/>
                  </a:lnTo>
                  <a:lnTo>
                    <a:pt x="1424" y="580"/>
                  </a:lnTo>
                  <a:lnTo>
                    <a:pt x="1430" y="580"/>
                  </a:lnTo>
                  <a:lnTo>
                    <a:pt x="1437" y="580"/>
                  </a:lnTo>
                  <a:lnTo>
                    <a:pt x="1450" y="573"/>
                  </a:lnTo>
                  <a:lnTo>
                    <a:pt x="1457" y="573"/>
                  </a:lnTo>
                  <a:lnTo>
                    <a:pt x="1463" y="573"/>
                  </a:lnTo>
                  <a:lnTo>
                    <a:pt x="1470" y="567"/>
                  </a:lnTo>
                  <a:lnTo>
                    <a:pt x="1476" y="567"/>
                  </a:lnTo>
                  <a:lnTo>
                    <a:pt x="1490" y="567"/>
                  </a:lnTo>
                  <a:lnTo>
                    <a:pt x="1496" y="560"/>
                  </a:lnTo>
                  <a:lnTo>
                    <a:pt x="1503" y="560"/>
                  </a:lnTo>
                  <a:lnTo>
                    <a:pt x="1509" y="560"/>
                  </a:lnTo>
                  <a:lnTo>
                    <a:pt x="1516" y="553"/>
                  </a:lnTo>
                  <a:lnTo>
                    <a:pt x="1529" y="553"/>
                  </a:lnTo>
                  <a:lnTo>
                    <a:pt x="1536" y="553"/>
                  </a:lnTo>
                  <a:lnTo>
                    <a:pt x="1542" y="547"/>
                  </a:lnTo>
                  <a:lnTo>
                    <a:pt x="1549" y="547"/>
                  </a:lnTo>
                  <a:lnTo>
                    <a:pt x="1555" y="547"/>
                  </a:lnTo>
                  <a:lnTo>
                    <a:pt x="1569" y="547"/>
                  </a:lnTo>
                  <a:lnTo>
                    <a:pt x="1575" y="540"/>
                  </a:lnTo>
                  <a:lnTo>
                    <a:pt x="1582" y="540"/>
                  </a:lnTo>
                  <a:lnTo>
                    <a:pt x="1588" y="540"/>
                  </a:lnTo>
                  <a:lnTo>
                    <a:pt x="1602" y="540"/>
                  </a:lnTo>
                  <a:lnTo>
                    <a:pt x="1608" y="534"/>
                  </a:lnTo>
                  <a:lnTo>
                    <a:pt x="1615" y="534"/>
                  </a:lnTo>
                  <a:lnTo>
                    <a:pt x="1621" y="534"/>
                  </a:lnTo>
                  <a:lnTo>
                    <a:pt x="1635" y="527"/>
                  </a:lnTo>
                  <a:lnTo>
                    <a:pt x="1641" y="527"/>
                  </a:lnTo>
                  <a:lnTo>
                    <a:pt x="1648" y="527"/>
                  </a:lnTo>
                  <a:lnTo>
                    <a:pt x="1654" y="527"/>
                  </a:lnTo>
                  <a:lnTo>
                    <a:pt x="1661" y="534"/>
                  </a:lnTo>
                  <a:lnTo>
                    <a:pt x="1668" y="540"/>
                  </a:lnTo>
                  <a:lnTo>
                    <a:pt x="1674" y="547"/>
                  </a:lnTo>
                  <a:lnTo>
                    <a:pt x="1681" y="553"/>
                  </a:lnTo>
                  <a:lnTo>
                    <a:pt x="1687" y="560"/>
                  </a:lnTo>
                  <a:lnTo>
                    <a:pt x="1694" y="567"/>
                  </a:lnTo>
                  <a:lnTo>
                    <a:pt x="1700" y="573"/>
                  </a:lnTo>
                  <a:lnTo>
                    <a:pt x="1707" y="580"/>
                  </a:lnTo>
                  <a:lnTo>
                    <a:pt x="1714" y="593"/>
                  </a:lnTo>
                  <a:lnTo>
                    <a:pt x="1707" y="600"/>
                  </a:lnTo>
                  <a:lnTo>
                    <a:pt x="1707" y="613"/>
                  </a:lnTo>
                  <a:lnTo>
                    <a:pt x="1707" y="626"/>
                  </a:lnTo>
                  <a:lnTo>
                    <a:pt x="1700" y="639"/>
                  </a:lnTo>
                  <a:lnTo>
                    <a:pt x="1700" y="646"/>
                  </a:lnTo>
                  <a:lnTo>
                    <a:pt x="1694" y="659"/>
                  </a:lnTo>
                  <a:lnTo>
                    <a:pt x="1687" y="665"/>
                  </a:lnTo>
                  <a:lnTo>
                    <a:pt x="1681" y="672"/>
                  </a:lnTo>
                  <a:lnTo>
                    <a:pt x="1674" y="672"/>
                  </a:lnTo>
                  <a:lnTo>
                    <a:pt x="1668" y="679"/>
                  </a:lnTo>
                  <a:lnTo>
                    <a:pt x="1661" y="685"/>
                  </a:lnTo>
                  <a:lnTo>
                    <a:pt x="1654" y="692"/>
                  </a:lnTo>
                  <a:lnTo>
                    <a:pt x="1648" y="698"/>
                  </a:lnTo>
                  <a:lnTo>
                    <a:pt x="1641" y="705"/>
                  </a:lnTo>
                  <a:lnTo>
                    <a:pt x="1635" y="711"/>
                  </a:lnTo>
                  <a:lnTo>
                    <a:pt x="1628" y="718"/>
                  </a:lnTo>
                  <a:lnTo>
                    <a:pt x="1621" y="725"/>
                  </a:lnTo>
                  <a:lnTo>
                    <a:pt x="1615" y="731"/>
                  </a:lnTo>
                  <a:lnTo>
                    <a:pt x="1608" y="738"/>
                  </a:lnTo>
                  <a:lnTo>
                    <a:pt x="1602" y="751"/>
                  </a:lnTo>
                  <a:lnTo>
                    <a:pt x="1595" y="758"/>
                  </a:lnTo>
                  <a:lnTo>
                    <a:pt x="1588" y="758"/>
                  </a:lnTo>
                  <a:lnTo>
                    <a:pt x="1582" y="764"/>
                  </a:lnTo>
                  <a:lnTo>
                    <a:pt x="1575" y="764"/>
                  </a:lnTo>
                  <a:lnTo>
                    <a:pt x="1569" y="764"/>
                  </a:lnTo>
                  <a:lnTo>
                    <a:pt x="1555" y="764"/>
                  </a:lnTo>
                  <a:lnTo>
                    <a:pt x="1549" y="764"/>
                  </a:lnTo>
                  <a:lnTo>
                    <a:pt x="1542" y="764"/>
                  </a:lnTo>
                  <a:lnTo>
                    <a:pt x="1536" y="764"/>
                  </a:lnTo>
                  <a:lnTo>
                    <a:pt x="1523" y="764"/>
                  </a:lnTo>
                  <a:lnTo>
                    <a:pt x="1516" y="764"/>
                  </a:lnTo>
                  <a:lnTo>
                    <a:pt x="1509" y="764"/>
                  </a:lnTo>
                  <a:lnTo>
                    <a:pt x="1503" y="764"/>
                  </a:lnTo>
                  <a:lnTo>
                    <a:pt x="1490" y="764"/>
                  </a:lnTo>
                  <a:lnTo>
                    <a:pt x="1483" y="764"/>
                  </a:lnTo>
                  <a:lnTo>
                    <a:pt x="1476" y="764"/>
                  </a:lnTo>
                  <a:lnTo>
                    <a:pt x="1470" y="764"/>
                  </a:lnTo>
                  <a:lnTo>
                    <a:pt x="1457" y="764"/>
                  </a:lnTo>
                  <a:lnTo>
                    <a:pt x="1450" y="771"/>
                  </a:lnTo>
                  <a:lnTo>
                    <a:pt x="1443" y="771"/>
                  </a:lnTo>
                  <a:lnTo>
                    <a:pt x="1437" y="771"/>
                  </a:lnTo>
                  <a:lnTo>
                    <a:pt x="1430" y="771"/>
                  </a:lnTo>
                  <a:lnTo>
                    <a:pt x="1417" y="771"/>
                  </a:lnTo>
                  <a:lnTo>
                    <a:pt x="1411" y="771"/>
                  </a:lnTo>
                  <a:lnTo>
                    <a:pt x="1404" y="771"/>
                  </a:lnTo>
                  <a:lnTo>
                    <a:pt x="1397" y="771"/>
                  </a:lnTo>
                  <a:lnTo>
                    <a:pt x="1384" y="771"/>
                  </a:lnTo>
                  <a:lnTo>
                    <a:pt x="1378" y="771"/>
                  </a:lnTo>
                  <a:lnTo>
                    <a:pt x="1371" y="771"/>
                  </a:lnTo>
                  <a:lnTo>
                    <a:pt x="1364" y="771"/>
                  </a:lnTo>
                  <a:lnTo>
                    <a:pt x="1358" y="764"/>
                  </a:lnTo>
                  <a:lnTo>
                    <a:pt x="1351" y="758"/>
                  </a:lnTo>
                  <a:lnTo>
                    <a:pt x="1345" y="751"/>
                  </a:lnTo>
                  <a:close/>
                  <a:moveTo>
                    <a:pt x="1094" y="619"/>
                  </a:moveTo>
                  <a:lnTo>
                    <a:pt x="1101" y="619"/>
                  </a:lnTo>
                  <a:lnTo>
                    <a:pt x="1101" y="613"/>
                  </a:lnTo>
                  <a:lnTo>
                    <a:pt x="1101" y="613"/>
                  </a:lnTo>
                  <a:lnTo>
                    <a:pt x="1107" y="613"/>
                  </a:lnTo>
                  <a:lnTo>
                    <a:pt x="1107" y="613"/>
                  </a:lnTo>
                  <a:lnTo>
                    <a:pt x="1114" y="619"/>
                  </a:lnTo>
                  <a:lnTo>
                    <a:pt x="1114" y="619"/>
                  </a:lnTo>
                  <a:lnTo>
                    <a:pt x="1114" y="619"/>
                  </a:lnTo>
                  <a:lnTo>
                    <a:pt x="1114" y="626"/>
                  </a:lnTo>
                  <a:lnTo>
                    <a:pt x="1107" y="626"/>
                  </a:lnTo>
                  <a:lnTo>
                    <a:pt x="1101" y="626"/>
                  </a:lnTo>
                  <a:lnTo>
                    <a:pt x="1101" y="626"/>
                  </a:lnTo>
                  <a:lnTo>
                    <a:pt x="1101" y="626"/>
                  </a:lnTo>
                  <a:lnTo>
                    <a:pt x="1094" y="619"/>
                  </a:lnTo>
                  <a:close/>
                  <a:moveTo>
                    <a:pt x="943" y="3161"/>
                  </a:moveTo>
                  <a:lnTo>
                    <a:pt x="976" y="3128"/>
                  </a:lnTo>
                  <a:lnTo>
                    <a:pt x="1009" y="3128"/>
                  </a:lnTo>
                  <a:lnTo>
                    <a:pt x="1042" y="3095"/>
                  </a:lnTo>
                  <a:lnTo>
                    <a:pt x="1074" y="3095"/>
                  </a:lnTo>
                  <a:lnTo>
                    <a:pt x="1107" y="3095"/>
                  </a:lnTo>
                  <a:lnTo>
                    <a:pt x="1134" y="3062"/>
                  </a:lnTo>
                  <a:lnTo>
                    <a:pt x="1167" y="3062"/>
                  </a:lnTo>
                  <a:lnTo>
                    <a:pt x="1200" y="3029"/>
                  </a:lnTo>
                  <a:lnTo>
                    <a:pt x="1233" y="3029"/>
                  </a:lnTo>
                  <a:lnTo>
                    <a:pt x="1266" y="2996"/>
                  </a:lnTo>
                  <a:lnTo>
                    <a:pt x="1298" y="2996"/>
                  </a:lnTo>
                  <a:lnTo>
                    <a:pt x="1331" y="2996"/>
                  </a:lnTo>
                  <a:lnTo>
                    <a:pt x="1331" y="2963"/>
                  </a:lnTo>
                  <a:lnTo>
                    <a:pt x="1364" y="2930"/>
                  </a:lnTo>
                  <a:lnTo>
                    <a:pt x="1364" y="2897"/>
                  </a:lnTo>
                  <a:lnTo>
                    <a:pt x="1397" y="2864"/>
                  </a:lnTo>
                  <a:lnTo>
                    <a:pt x="1397" y="2831"/>
                  </a:lnTo>
                  <a:lnTo>
                    <a:pt x="1430" y="2805"/>
                  </a:lnTo>
                  <a:lnTo>
                    <a:pt x="1430" y="2772"/>
                  </a:lnTo>
                  <a:lnTo>
                    <a:pt x="1463" y="2739"/>
                  </a:lnTo>
                  <a:lnTo>
                    <a:pt x="1496" y="2706"/>
                  </a:lnTo>
                  <a:lnTo>
                    <a:pt x="1496" y="2673"/>
                  </a:lnTo>
                  <a:lnTo>
                    <a:pt x="1529" y="2640"/>
                  </a:lnTo>
                  <a:lnTo>
                    <a:pt x="1529" y="2608"/>
                  </a:lnTo>
                  <a:lnTo>
                    <a:pt x="1555" y="2575"/>
                  </a:lnTo>
                  <a:lnTo>
                    <a:pt x="1555" y="2542"/>
                  </a:lnTo>
                  <a:lnTo>
                    <a:pt x="1588" y="2509"/>
                  </a:lnTo>
                  <a:lnTo>
                    <a:pt x="1588" y="2476"/>
                  </a:lnTo>
                  <a:lnTo>
                    <a:pt x="1621" y="2443"/>
                  </a:lnTo>
                  <a:lnTo>
                    <a:pt x="1621" y="2410"/>
                  </a:lnTo>
                  <a:lnTo>
                    <a:pt x="1654" y="2377"/>
                  </a:lnTo>
                  <a:lnTo>
                    <a:pt x="1654" y="2344"/>
                  </a:lnTo>
                  <a:lnTo>
                    <a:pt x="1687" y="2311"/>
                  </a:lnTo>
                  <a:lnTo>
                    <a:pt x="1687" y="2278"/>
                  </a:lnTo>
                  <a:lnTo>
                    <a:pt x="1720" y="2245"/>
                  </a:lnTo>
                  <a:lnTo>
                    <a:pt x="1753" y="2213"/>
                  </a:lnTo>
                  <a:lnTo>
                    <a:pt x="1753" y="2186"/>
                  </a:lnTo>
                  <a:lnTo>
                    <a:pt x="1786" y="2153"/>
                  </a:lnTo>
                  <a:lnTo>
                    <a:pt x="1786" y="2120"/>
                  </a:lnTo>
                  <a:lnTo>
                    <a:pt x="1819" y="2087"/>
                  </a:lnTo>
                  <a:lnTo>
                    <a:pt x="1819" y="2055"/>
                  </a:lnTo>
                  <a:lnTo>
                    <a:pt x="1852" y="2022"/>
                  </a:lnTo>
                  <a:lnTo>
                    <a:pt x="1852" y="1989"/>
                  </a:lnTo>
                  <a:lnTo>
                    <a:pt x="1885" y="1956"/>
                  </a:lnTo>
                  <a:lnTo>
                    <a:pt x="1885" y="1923"/>
                  </a:lnTo>
                  <a:lnTo>
                    <a:pt x="1918" y="1890"/>
                  </a:lnTo>
                  <a:lnTo>
                    <a:pt x="1918" y="1857"/>
                  </a:lnTo>
                  <a:lnTo>
                    <a:pt x="1944" y="1824"/>
                  </a:lnTo>
                  <a:lnTo>
                    <a:pt x="1944" y="1791"/>
                  </a:lnTo>
                  <a:lnTo>
                    <a:pt x="1977" y="1758"/>
                  </a:lnTo>
                  <a:lnTo>
                    <a:pt x="1977" y="1725"/>
                  </a:lnTo>
                  <a:lnTo>
                    <a:pt x="1977" y="1692"/>
                  </a:lnTo>
                  <a:lnTo>
                    <a:pt x="1977" y="1660"/>
                  </a:lnTo>
                  <a:lnTo>
                    <a:pt x="2010" y="1627"/>
                  </a:lnTo>
                  <a:lnTo>
                    <a:pt x="2010" y="1594"/>
                  </a:lnTo>
                  <a:lnTo>
                    <a:pt x="2010" y="1567"/>
                  </a:lnTo>
                  <a:lnTo>
                    <a:pt x="2010" y="1534"/>
                  </a:lnTo>
                  <a:lnTo>
                    <a:pt x="2043" y="1501"/>
                  </a:lnTo>
                  <a:lnTo>
                    <a:pt x="2043" y="1469"/>
                  </a:lnTo>
                  <a:lnTo>
                    <a:pt x="2043" y="1436"/>
                  </a:lnTo>
                  <a:lnTo>
                    <a:pt x="2043" y="1403"/>
                  </a:lnTo>
                  <a:lnTo>
                    <a:pt x="2043" y="1370"/>
                  </a:lnTo>
                  <a:lnTo>
                    <a:pt x="2043" y="1337"/>
                  </a:lnTo>
                  <a:lnTo>
                    <a:pt x="2076" y="1304"/>
                  </a:lnTo>
                  <a:lnTo>
                    <a:pt x="2076" y="1271"/>
                  </a:lnTo>
                  <a:lnTo>
                    <a:pt x="2076" y="1238"/>
                  </a:lnTo>
                  <a:lnTo>
                    <a:pt x="2076" y="1205"/>
                  </a:lnTo>
                  <a:lnTo>
                    <a:pt x="2076" y="1172"/>
                  </a:lnTo>
                  <a:lnTo>
                    <a:pt x="2076" y="1139"/>
                  </a:lnTo>
                  <a:lnTo>
                    <a:pt x="2076" y="1106"/>
                  </a:lnTo>
                  <a:lnTo>
                    <a:pt x="2109" y="1074"/>
                  </a:lnTo>
                  <a:lnTo>
                    <a:pt x="2109" y="1041"/>
                  </a:lnTo>
                  <a:lnTo>
                    <a:pt x="2109" y="1008"/>
                  </a:lnTo>
                  <a:lnTo>
                    <a:pt x="2109" y="975"/>
                  </a:lnTo>
                  <a:lnTo>
                    <a:pt x="2109" y="948"/>
                  </a:lnTo>
                  <a:lnTo>
                    <a:pt x="2109" y="916"/>
                  </a:lnTo>
                  <a:lnTo>
                    <a:pt x="2109" y="883"/>
                  </a:lnTo>
                  <a:lnTo>
                    <a:pt x="2142" y="850"/>
                  </a:lnTo>
                  <a:lnTo>
                    <a:pt x="2142" y="817"/>
                  </a:lnTo>
                  <a:lnTo>
                    <a:pt x="2142" y="784"/>
                  </a:lnTo>
                  <a:lnTo>
                    <a:pt x="2142" y="751"/>
                  </a:lnTo>
                  <a:lnTo>
                    <a:pt x="2142" y="718"/>
                  </a:lnTo>
                  <a:lnTo>
                    <a:pt x="2142" y="685"/>
                  </a:lnTo>
                  <a:lnTo>
                    <a:pt x="2142" y="652"/>
                  </a:lnTo>
                  <a:lnTo>
                    <a:pt x="2175" y="619"/>
                  </a:lnTo>
                  <a:lnTo>
                    <a:pt x="2175" y="586"/>
                  </a:lnTo>
                  <a:lnTo>
                    <a:pt x="2175" y="553"/>
                  </a:lnTo>
                  <a:lnTo>
                    <a:pt x="2175" y="521"/>
                  </a:lnTo>
                  <a:lnTo>
                    <a:pt x="2175" y="488"/>
                  </a:lnTo>
                  <a:lnTo>
                    <a:pt x="2175" y="455"/>
                  </a:lnTo>
                  <a:lnTo>
                    <a:pt x="2175" y="422"/>
                  </a:lnTo>
                  <a:lnTo>
                    <a:pt x="2208" y="389"/>
                  </a:lnTo>
                  <a:lnTo>
                    <a:pt x="2208" y="356"/>
                  </a:lnTo>
                  <a:lnTo>
                    <a:pt x="2208" y="330"/>
                  </a:lnTo>
                  <a:lnTo>
                    <a:pt x="2208" y="297"/>
                  </a:lnTo>
                  <a:lnTo>
                    <a:pt x="2208" y="264"/>
                  </a:lnTo>
                  <a:lnTo>
                    <a:pt x="2208" y="231"/>
                  </a:lnTo>
                  <a:lnTo>
                    <a:pt x="2208" y="198"/>
                  </a:lnTo>
                  <a:lnTo>
                    <a:pt x="2241" y="165"/>
                  </a:lnTo>
                  <a:lnTo>
                    <a:pt x="2241" y="132"/>
                  </a:lnTo>
                  <a:lnTo>
                    <a:pt x="2241" y="99"/>
                  </a:lnTo>
                  <a:lnTo>
                    <a:pt x="2241" y="66"/>
                  </a:lnTo>
                  <a:lnTo>
                    <a:pt x="2241" y="33"/>
                  </a:lnTo>
                  <a:lnTo>
                    <a:pt x="2241" y="0"/>
                  </a:lnTo>
                  <a:lnTo>
                    <a:pt x="2208" y="0"/>
                  </a:lnTo>
                  <a:lnTo>
                    <a:pt x="2175" y="0"/>
                  </a:lnTo>
                  <a:lnTo>
                    <a:pt x="2142" y="0"/>
                  </a:lnTo>
                  <a:lnTo>
                    <a:pt x="2109" y="0"/>
                  </a:lnTo>
                  <a:lnTo>
                    <a:pt x="2076" y="33"/>
                  </a:lnTo>
                  <a:lnTo>
                    <a:pt x="2043" y="33"/>
                  </a:lnTo>
                  <a:lnTo>
                    <a:pt x="2010" y="33"/>
                  </a:lnTo>
                  <a:lnTo>
                    <a:pt x="1977" y="66"/>
                  </a:lnTo>
                  <a:lnTo>
                    <a:pt x="1944" y="66"/>
                  </a:lnTo>
                  <a:lnTo>
                    <a:pt x="1918" y="66"/>
                  </a:lnTo>
                  <a:lnTo>
                    <a:pt x="1885" y="99"/>
                  </a:lnTo>
                  <a:lnTo>
                    <a:pt x="1852" y="99"/>
                  </a:lnTo>
                  <a:lnTo>
                    <a:pt x="1819" y="132"/>
                  </a:lnTo>
                  <a:lnTo>
                    <a:pt x="1786" y="132"/>
                  </a:lnTo>
                  <a:lnTo>
                    <a:pt x="1753" y="132"/>
                  </a:lnTo>
                  <a:lnTo>
                    <a:pt x="1720" y="165"/>
                  </a:lnTo>
                  <a:lnTo>
                    <a:pt x="1687" y="165"/>
                  </a:lnTo>
                  <a:lnTo>
                    <a:pt x="1654" y="165"/>
                  </a:lnTo>
                  <a:lnTo>
                    <a:pt x="1621" y="198"/>
                  </a:lnTo>
                  <a:lnTo>
                    <a:pt x="1588" y="198"/>
                  </a:lnTo>
                  <a:lnTo>
                    <a:pt x="1555" y="198"/>
                  </a:lnTo>
                  <a:lnTo>
                    <a:pt x="1529" y="231"/>
                  </a:lnTo>
                  <a:lnTo>
                    <a:pt x="1496" y="231"/>
                  </a:lnTo>
                  <a:lnTo>
                    <a:pt x="1463" y="231"/>
                  </a:lnTo>
                  <a:lnTo>
                    <a:pt x="1430" y="264"/>
                  </a:lnTo>
                  <a:lnTo>
                    <a:pt x="1397" y="264"/>
                  </a:lnTo>
                  <a:lnTo>
                    <a:pt x="1364" y="264"/>
                  </a:lnTo>
                  <a:lnTo>
                    <a:pt x="1331" y="297"/>
                  </a:lnTo>
                  <a:lnTo>
                    <a:pt x="1298" y="297"/>
                  </a:lnTo>
                  <a:lnTo>
                    <a:pt x="1266" y="297"/>
                  </a:lnTo>
                  <a:lnTo>
                    <a:pt x="1233" y="330"/>
                  </a:lnTo>
                  <a:lnTo>
                    <a:pt x="1200" y="330"/>
                  </a:lnTo>
                  <a:lnTo>
                    <a:pt x="1167" y="356"/>
                  </a:lnTo>
                  <a:lnTo>
                    <a:pt x="1134" y="356"/>
                  </a:lnTo>
                  <a:lnTo>
                    <a:pt x="1107" y="356"/>
                  </a:lnTo>
                  <a:lnTo>
                    <a:pt x="1074" y="389"/>
                  </a:lnTo>
                  <a:lnTo>
                    <a:pt x="1042" y="389"/>
                  </a:lnTo>
                  <a:lnTo>
                    <a:pt x="1009" y="389"/>
                  </a:lnTo>
                  <a:lnTo>
                    <a:pt x="976" y="422"/>
                  </a:lnTo>
                  <a:lnTo>
                    <a:pt x="943" y="422"/>
                  </a:lnTo>
                  <a:lnTo>
                    <a:pt x="910" y="422"/>
                  </a:lnTo>
                  <a:lnTo>
                    <a:pt x="877" y="455"/>
                  </a:lnTo>
                  <a:lnTo>
                    <a:pt x="844" y="455"/>
                  </a:lnTo>
                  <a:lnTo>
                    <a:pt x="811" y="455"/>
                  </a:lnTo>
                  <a:lnTo>
                    <a:pt x="778" y="488"/>
                  </a:lnTo>
                  <a:lnTo>
                    <a:pt x="745" y="488"/>
                  </a:lnTo>
                  <a:lnTo>
                    <a:pt x="712" y="488"/>
                  </a:lnTo>
                  <a:lnTo>
                    <a:pt x="686" y="521"/>
                  </a:lnTo>
                  <a:lnTo>
                    <a:pt x="653" y="521"/>
                  </a:lnTo>
                  <a:lnTo>
                    <a:pt x="620" y="521"/>
                  </a:lnTo>
                  <a:lnTo>
                    <a:pt x="587" y="553"/>
                  </a:lnTo>
                  <a:lnTo>
                    <a:pt x="554" y="553"/>
                  </a:lnTo>
                  <a:lnTo>
                    <a:pt x="521" y="553"/>
                  </a:lnTo>
                  <a:lnTo>
                    <a:pt x="488" y="586"/>
                  </a:lnTo>
                  <a:lnTo>
                    <a:pt x="455" y="586"/>
                  </a:lnTo>
                  <a:lnTo>
                    <a:pt x="422" y="619"/>
                  </a:lnTo>
                  <a:lnTo>
                    <a:pt x="389" y="619"/>
                  </a:lnTo>
                  <a:lnTo>
                    <a:pt x="356" y="619"/>
                  </a:lnTo>
                  <a:lnTo>
                    <a:pt x="323" y="652"/>
                  </a:lnTo>
                  <a:lnTo>
                    <a:pt x="290" y="652"/>
                  </a:lnTo>
                  <a:lnTo>
                    <a:pt x="264" y="652"/>
                  </a:lnTo>
                  <a:lnTo>
                    <a:pt x="231" y="685"/>
                  </a:lnTo>
                  <a:lnTo>
                    <a:pt x="198" y="685"/>
                  </a:lnTo>
                  <a:lnTo>
                    <a:pt x="165" y="685"/>
                  </a:lnTo>
                  <a:lnTo>
                    <a:pt x="132" y="718"/>
                  </a:lnTo>
                  <a:lnTo>
                    <a:pt x="99" y="718"/>
                  </a:lnTo>
                  <a:lnTo>
                    <a:pt x="99" y="751"/>
                  </a:lnTo>
                  <a:lnTo>
                    <a:pt x="99" y="784"/>
                  </a:lnTo>
                  <a:lnTo>
                    <a:pt x="99" y="817"/>
                  </a:lnTo>
                  <a:lnTo>
                    <a:pt x="99" y="850"/>
                  </a:lnTo>
                  <a:lnTo>
                    <a:pt x="99" y="883"/>
                  </a:lnTo>
                  <a:lnTo>
                    <a:pt x="66" y="916"/>
                  </a:lnTo>
                  <a:lnTo>
                    <a:pt x="66" y="948"/>
                  </a:lnTo>
                  <a:lnTo>
                    <a:pt x="66" y="975"/>
                  </a:lnTo>
                  <a:lnTo>
                    <a:pt x="66" y="1008"/>
                  </a:lnTo>
                  <a:lnTo>
                    <a:pt x="66" y="1041"/>
                  </a:lnTo>
                  <a:lnTo>
                    <a:pt x="66" y="1074"/>
                  </a:lnTo>
                  <a:lnTo>
                    <a:pt x="66" y="1106"/>
                  </a:lnTo>
                  <a:lnTo>
                    <a:pt x="66" y="1139"/>
                  </a:lnTo>
                  <a:lnTo>
                    <a:pt x="66" y="1172"/>
                  </a:lnTo>
                  <a:lnTo>
                    <a:pt x="66" y="1205"/>
                  </a:lnTo>
                  <a:lnTo>
                    <a:pt x="66" y="1238"/>
                  </a:lnTo>
                  <a:lnTo>
                    <a:pt x="66" y="1271"/>
                  </a:lnTo>
                  <a:lnTo>
                    <a:pt x="66" y="1304"/>
                  </a:lnTo>
                  <a:lnTo>
                    <a:pt x="66" y="1337"/>
                  </a:lnTo>
                  <a:lnTo>
                    <a:pt x="66" y="1370"/>
                  </a:lnTo>
                  <a:lnTo>
                    <a:pt x="66" y="1403"/>
                  </a:lnTo>
                  <a:lnTo>
                    <a:pt x="66" y="1436"/>
                  </a:lnTo>
                  <a:lnTo>
                    <a:pt x="66" y="1469"/>
                  </a:lnTo>
                  <a:lnTo>
                    <a:pt x="33" y="1501"/>
                  </a:lnTo>
                  <a:lnTo>
                    <a:pt x="33" y="1534"/>
                  </a:lnTo>
                  <a:lnTo>
                    <a:pt x="33" y="1567"/>
                  </a:lnTo>
                  <a:lnTo>
                    <a:pt x="33" y="1594"/>
                  </a:lnTo>
                  <a:lnTo>
                    <a:pt x="33" y="1627"/>
                  </a:lnTo>
                  <a:lnTo>
                    <a:pt x="33" y="1660"/>
                  </a:lnTo>
                  <a:lnTo>
                    <a:pt x="33" y="1692"/>
                  </a:lnTo>
                  <a:lnTo>
                    <a:pt x="33" y="1725"/>
                  </a:lnTo>
                  <a:lnTo>
                    <a:pt x="33" y="1758"/>
                  </a:lnTo>
                  <a:lnTo>
                    <a:pt x="33" y="1791"/>
                  </a:lnTo>
                  <a:lnTo>
                    <a:pt x="33" y="1824"/>
                  </a:lnTo>
                  <a:lnTo>
                    <a:pt x="33" y="1857"/>
                  </a:lnTo>
                  <a:lnTo>
                    <a:pt x="33" y="1890"/>
                  </a:lnTo>
                  <a:lnTo>
                    <a:pt x="33" y="1923"/>
                  </a:lnTo>
                  <a:lnTo>
                    <a:pt x="33" y="1956"/>
                  </a:lnTo>
                  <a:lnTo>
                    <a:pt x="33" y="1989"/>
                  </a:lnTo>
                  <a:lnTo>
                    <a:pt x="33" y="2022"/>
                  </a:lnTo>
                  <a:lnTo>
                    <a:pt x="0" y="2055"/>
                  </a:lnTo>
                  <a:lnTo>
                    <a:pt x="0" y="2087"/>
                  </a:lnTo>
                  <a:lnTo>
                    <a:pt x="0" y="2120"/>
                  </a:lnTo>
                  <a:lnTo>
                    <a:pt x="0" y="2153"/>
                  </a:lnTo>
                  <a:lnTo>
                    <a:pt x="0" y="2186"/>
                  </a:lnTo>
                  <a:lnTo>
                    <a:pt x="0" y="2213"/>
                  </a:lnTo>
                  <a:lnTo>
                    <a:pt x="0" y="2245"/>
                  </a:lnTo>
                  <a:lnTo>
                    <a:pt x="0" y="2278"/>
                  </a:lnTo>
                  <a:lnTo>
                    <a:pt x="0" y="2311"/>
                  </a:lnTo>
                  <a:lnTo>
                    <a:pt x="0" y="2344"/>
                  </a:lnTo>
                  <a:lnTo>
                    <a:pt x="0" y="2377"/>
                  </a:lnTo>
                  <a:lnTo>
                    <a:pt x="0" y="2410"/>
                  </a:lnTo>
                  <a:lnTo>
                    <a:pt x="0" y="2443"/>
                  </a:lnTo>
                  <a:lnTo>
                    <a:pt x="0" y="2476"/>
                  </a:lnTo>
                  <a:lnTo>
                    <a:pt x="0" y="2509"/>
                  </a:lnTo>
                  <a:lnTo>
                    <a:pt x="0" y="2542"/>
                  </a:lnTo>
                  <a:lnTo>
                    <a:pt x="0" y="2575"/>
                  </a:lnTo>
                  <a:lnTo>
                    <a:pt x="0" y="2608"/>
                  </a:lnTo>
                  <a:lnTo>
                    <a:pt x="0" y="2640"/>
                  </a:lnTo>
                  <a:lnTo>
                    <a:pt x="33" y="2640"/>
                  </a:lnTo>
                  <a:lnTo>
                    <a:pt x="66" y="2673"/>
                  </a:lnTo>
                  <a:lnTo>
                    <a:pt x="99" y="2673"/>
                  </a:lnTo>
                  <a:lnTo>
                    <a:pt x="132" y="2706"/>
                  </a:lnTo>
                  <a:lnTo>
                    <a:pt x="165" y="2739"/>
                  </a:lnTo>
                  <a:lnTo>
                    <a:pt x="198" y="2739"/>
                  </a:lnTo>
                  <a:lnTo>
                    <a:pt x="231" y="2772"/>
                  </a:lnTo>
                  <a:lnTo>
                    <a:pt x="264" y="2805"/>
                  </a:lnTo>
                  <a:lnTo>
                    <a:pt x="290" y="2805"/>
                  </a:lnTo>
                  <a:lnTo>
                    <a:pt x="323" y="2831"/>
                  </a:lnTo>
                  <a:lnTo>
                    <a:pt x="356" y="2864"/>
                  </a:lnTo>
                  <a:lnTo>
                    <a:pt x="389" y="2864"/>
                  </a:lnTo>
                  <a:lnTo>
                    <a:pt x="422" y="2897"/>
                  </a:lnTo>
                  <a:lnTo>
                    <a:pt x="455" y="2930"/>
                  </a:lnTo>
                  <a:lnTo>
                    <a:pt x="488" y="2930"/>
                  </a:lnTo>
                  <a:lnTo>
                    <a:pt x="521" y="2963"/>
                  </a:lnTo>
                  <a:lnTo>
                    <a:pt x="554" y="2963"/>
                  </a:lnTo>
                  <a:lnTo>
                    <a:pt x="587" y="2996"/>
                  </a:lnTo>
                  <a:lnTo>
                    <a:pt x="620" y="3029"/>
                  </a:lnTo>
                  <a:lnTo>
                    <a:pt x="653" y="3029"/>
                  </a:lnTo>
                  <a:lnTo>
                    <a:pt x="686" y="3062"/>
                  </a:lnTo>
                  <a:lnTo>
                    <a:pt x="712" y="3095"/>
                  </a:lnTo>
                  <a:lnTo>
                    <a:pt x="745" y="3095"/>
                  </a:lnTo>
                  <a:lnTo>
                    <a:pt x="778" y="3128"/>
                  </a:lnTo>
                  <a:lnTo>
                    <a:pt x="811" y="3128"/>
                  </a:lnTo>
                  <a:lnTo>
                    <a:pt x="844" y="3161"/>
                  </a:lnTo>
                  <a:lnTo>
                    <a:pt x="877" y="3161"/>
                  </a:lnTo>
                  <a:lnTo>
                    <a:pt x="910" y="3161"/>
                  </a:lnTo>
                  <a:lnTo>
                    <a:pt x="943" y="3161"/>
                  </a:lnTo>
                  <a:close/>
                  <a:moveTo>
                    <a:pt x="857" y="1824"/>
                  </a:moveTo>
                  <a:lnTo>
                    <a:pt x="857" y="1818"/>
                  </a:lnTo>
                  <a:lnTo>
                    <a:pt x="864" y="1811"/>
                  </a:lnTo>
                  <a:lnTo>
                    <a:pt x="864" y="1798"/>
                  </a:lnTo>
                  <a:lnTo>
                    <a:pt x="864" y="1791"/>
                  </a:lnTo>
                  <a:lnTo>
                    <a:pt x="870" y="1778"/>
                  </a:lnTo>
                  <a:lnTo>
                    <a:pt x="870" y="1771"/>
                  </a:lnTo>
                  <a:lnTo>
                    <a:pt x="870" y="1758"/>
                  </a:lnTo>
                  <a:lnTo>
                    <a:pt x="864" y="1752"/>
                  </a:lnTo>
                  <a:lnTo>
                    <a:pt x="864" y="1745"/>
                  </a:lnTo>
                  <a:lnTo>
                    <a:pt x="857" y="1732"/>
                  </a:lnTo>
                  <a:lnTo>
                    <a:pt x="857" y="1725"/>
                  </a:lnTo>
                  <a:lnTo>
                    <a:pt x="850" y="1719"/>
                  </a:lnTo>
                  <a:lnTo>
                    <a:pt x="850" y="1706"/>
                  </a:lnTo>
                  <a:lnTo>
                    <a:pt x="844" y="1699"/>
                  </a:lnTo>
                  <a:lnTo>
                    <a:pt x="844" y="1692"/>
                  </a:lnTo>
                  <a:lnTo>
                    <a:pt x="850" y="1679"/>
                  </a:lnTo>
                  <a:lnTo>
                    <a:pt x="850" y="1673"/>
                  </a:lnTo>
                  <a:lnTo>
                    <a:pt x="850" y="1666"/>
                  </a:lnTo>
                  <a:lnTo>
                    <a:pt x="857" y="1660"/>
                  </a:lnTo>
                  <a:lnTo>
                    <a:pt x="864" y="1653"/>
                  </a:lnTo>
                  <a:lnTo>
                    <a:pt x="870" y="1646"/>
                  </a:lnTo>
                  <a:lnTo>
                    <a:pt x="877" y="1646"/>
                  </a:lnTo>
                  <a:lnTo>
                    <a:pt x="883" y="1646"/>
                  </a:lnTo>
                  <a:lnTo>
                    <a:pt x="890" y="1646"/>
                  </a:lnTo>
                  <a:lnTo>
                    <a:pt x="897" y="1640"/>
                  </a:lnTo>
                  <a:lnTo>
                    <a:pt x="903" y="1640"/>
                  </a:lnTo>
                  <a:lnTo>
                    <a:pt x="910" y="1640"/>
                  </a:lnTo>
                  <a:lnTo>
                    <a:pt x="916" y="1640"/>
                  </a:lnTo>
                  <a:lnTo>
                    <a:pt x="923" y="1640"/>
                  </a:lnTo>
                  <a:lnTo>
                    <a:pt x="929" y="1640"/>
                  </a:lnTo>
                  <a:lnTo>
                    <a:pt x="936" y="1640"/>
                  </a:lnTo>
                  <a:lnTo>
                    <a:pt x="949" y="1640"/>
                  </a:lnTo>
                  <a:lnTo>
                    <a:pt x="956" y="1640"/>
                  </a:lnTo>
                  <a:lnTo>
                    <a:pt x="962" y="1646"/>
                  </a:lnTo>
                  <a:lnTo>
                    <a:pt x="969" y="1646"/>
                  </a:lnTo>
                  <a:lnTo>
                    <a:pt x="969" y="1653"/>
                  </a:lnTo>
                  <a:lnTo>
                    <a:pt x="976" y="1660"/>
                  </a:lnTo>
                  <a:lnTo>
                    <a:pt x="982" y="1666"/>
                  </a:lnTo>
                  <a:lnTo>
                    <a:pt x="989" y="1673"/>
                  </a:lnTo>
                  <a:lnTo>
                    <a:pt x="989" y="1686"/>
                  </a:lnTo>
                  <a:lnTo>
                    <a:pt x="995" y="1692"/>
                  </a:lnTo>
                  <a:lnTo>
                    <a:pt x="995" y="1699"/>
                  </a:lnTo>
                  <a:lnTo>
                    <a:pt x="995" y="1712"/>
                  </a:lnTo>
                  <a:lnTo>
                    <a:pt x="1002" y="1719"/>
                  </a:lnTo>
                  <a:lnTo>
                    <a:pt x="1002" y="1732"/>
                  </a:lnTo>
                  <a:lnTo>
                    <a:pt x="1009" y="1739"/>
                  </a:lnTo>
                  <a:lnTo>
                    <a:pt x="1015" y="1739"/>
                  </a:lnTo>
                  <a:lnTo>
                    <a:pt x="1022" y="1745"/>
                  </a:lnTo>
                  <a:lnTo>
                    <a:pt x="1028" y="1745"/>
                  </a:lnTo>
                  <a:lnTo>
                    <a:pt x="1035" y="1752"/>
                  </a:lnTo>
                  <a:lnTo>
                    <a:pt x="1042" y="1752"/>
                  </a:lnTo>
                  <a:lnTo>
                    <a:pt x="1048" y="1758"/>
                  </a:lnTo>
                  <a:lnTo>
                    <a:pt x="1055" y="1765"/>
                  </a:lnTo>
                  <a:lnTo>
                    <a:pt x="1055" y="1771"/>
                  </a:lnTo>
                  <a:lnTo>
                    <a:pt x="1061" y="1785"/>
                  </a:lnTo>
                  <a:lnTo>
                    <a:pt x="1061" y="1791"/>
                  </a:lnTo>
                  <a:lnTo>
                    <a:pt x="1055" y="1798"/>
                  </a:lnTo>
                  <a:lnTo>
                    <a:pt x="1048" y="1804"/>
                  </a:lnTo>
                  <a:lnTo>
                    <a:pt x="1042" y="1804"/>
                  </a:lnTo>
                  <a:lnTo>
                    <a:pt x="1035" y="1804"/>
                  </a:lnTo>
                  <a:lnTo>
                    <a:pt x="1022" y="1804"/>
                  </a:lnTo>
                  <a:lnTo>
                    <a:pt x="1015" y="1811"/>
                  </a:lnTo>
                  <a:lnTo>
                    <a:pt x="1009" y="1811"/>
                  </a:lnTo>
                  <a:lnTo>
                    <a:pt x="1002" y="1811"/>
                  </a:lnTo>
                  <a:lnTo>
                    <a:pt x="995" y="1811"/>
                  </a:lnTo>
                  <a:lnTo>
                    <a:pt x="989" y="1804"/>
                  </a:lnTo>
                  <a:lnTo>
                    <a:pt x="982" y="1804"/>
                  </a:lnTo>
                  <a:lnTo>
                    <a:pt x="976" y="1804"/>
                  </a:lnTo>
                  <a:lnTo>
                    <a:pt x="969" y="1798"/>
                  </a:lnTo>
                  <a:lnTo>
                    <a:pt x="962" y="1798"/>
                  </a:lnTo>
                  <a:lnTo>
                    <a:pt x="956" y="1798"/>
                  </a:lnTo>
                  <a:lnTo>
                    <a:pt x="949" y="1791"/>
                  </a:lnTo>
                  <a:lnTo>
                    <a:pt x="943" y="1791"/>
                  </a:lnTo>
                  <a:lnTo>
                    <a:pt x="936" y="1791"/>
                  </a:lnTo>
                  <a:lnTo>
                    <a:pt x="929" y="1791"/>
                  </a:lnTo>
                  <a:lnTo>
                    <a:pt x="923" y="1791"/>
                  </a:lnTo>
                  <a:lnTo>
                    <a:pt x="916" y="1791"/>
                  </a:lnTo>
                  <a:lnTo>
                    <a:pt x="910" y="1791"/>
                  </a:lnTo>
                  <a:lnTo>
                    <a:pt x="916" y="1804"/>
                  </a:lnTo>
                  <a:lnTo>
                    <a:pt x="923" y="1818"/>
                  </a:lnTo>
                  <a:lnTo>
                    <a:pt x="923" y="1824"/>
                  </a:lnTo>
                  <a:lnTo>
                    <a:pt x="923" y="1824"/>
                  </a:lnTo>
                  <a:lnTo>
                    <a:pt x="916" y="1824"/>
                  </a:lnTo>
                  <a:lnTo>
                    <a:pt x="910" y="1831"/>
                  </a:lnTo>
                  <a:lnTo>
                    <a:pt x="897" y="1831"/>
                  </a:lnTo>
                  <a:lnTo>
                    <a:pt x="890" y="1831"/>
                  </a:lnTo>
                  <a:lnTo>
                    <a:pt x="883" y="1837"/>
                  </a:lnTo>
                  <a:lnTo>
                    <a:pt x="877" y="1837"/>
                  </a:lnTo>
                  <a:lnTo>
                    <a:pt x="870" y="1837"/>
                  </a:lnTo>
                  <a:lnTo>
                    <a:pt x="864" y="1837"/>
                  </a:lnTo>
                  <a:lnTo>
                    <a:pt x="864" y="1831"/>
                  </a:lnTo>
                  <a:lnTo>
                    <a:pt x="857" y="1824"/>
                  </a:lnTo>
                  <a:close/>
                  <a:moveTo>
                    <a:pt x="547" y="1791"/>
                  </a:moveTo>
                  <a:lnTo>
                    <a:pt x="547" y="1785"/>
                  </a:lnTo>
                  <a:lnTo>
                    <a:pt x="547" y="1771"/>
                  </a:lnTo>
                  <a:lnTo>
                    <a:pt x="541" y="1765"/>
                  </a:lnTo>
                  <a:lnTo>
                    <a:pt x="541" y="1758"/>
                  </a:lnTo>
                  <a:lnTo>
                    <a:pt x="534" y="1752"/>
                  </a:lnTo>
                  <a:lnTo>
                    <a:pt x="534" y="1739"/>
                  </a:lnTo>
                  <a:lnTo>
                    <a:pt x="528" y="1732"/>
                  </a:lnTo>
                  <a:lnTo>
                    <a:pt x="521" y="1725"/>
                  </a:lnTo>
                  <a:lnTo>
                    <a:pt x="521" y="1719"/>
                  </a:lnTo>
                  <a:lnTo>
                    <a:pt x="514" y="1712"/>
                  </a:lnTo>
                  <a:lnTo>
                    <a:pt x="508" y="1706"/>
                  </a:lnTo>
                  <a:lnTo>
                    <a:pt x="508" y="1699"/>
                  </a:lnTo>
                  <a:lnTo>
                    <a:pt x="501" y="1692"/>
                  </a:lnTo>
                  <a:lnTo>
                    <a:pt x="495" y="1686"/>
                  </a:lnTo>
                  <a:lnTo>
                    <a:pt x="495" y="1673"/>
                  </a:lnTo>
                  <a:lnTo>
                    <a:pt x="488" y="1666"/>
                  </a:lnTo>
                  <a:lnTo>
                    <a:pt x="488" y="1660"/>
                  </a:lnTo>
                  <a:lnTo>
                    <a:pt x="495" y="1653"/>
                  </a:lnTo>
                  <a:lnTo>
                    <a:pt x="501" y="1653"/>
                  </a:lnTo>
                  <a:lnTo>
                    <a:pt x="508" y="1653"/>
                  </a:lnTo>
                  <a:lnTo>
                    <a:pt x="514" y="1653"/>
                  </a:lnTo>
                  <a:lnTo>
                    <a:pt x="521" y="1653"/>
                  </a:lnTo>
                  <a:lnTo>
                    <a:pt x="528" y="1653"/>
                  </a:lnTo>
                  <a:lnTo>
                    <a:pt x="534" y="1653"/>
                  </a:lnTo>
                  <a:lnTo>
                    <a:pt x="541" y="1653"/>
                  </a:lnTo>
                  <a:lnTo>
                    <a:pt x="547" y="1653"/>
                  </a:lnTo>
                  <a:lnTo>
                    <a:pt x="554" y="1646"/>
                  </a:lnTo>
                  <a:lnTo>
                    <a:pt x="560" y="1646"/>
                  </a:lnTo>
                  <a:lnTo>
                    <a:pt x="567" y="1646"/>
                  </a:lnTo>
                  <a:lnTo>
                    <a:pt x="574" y="1646"/>
                  </a:lnTo>
                  <a:lnTo>
                    <a:pt x="580" y="1646"/>
                  </a:lnTo>
                  <a:lnTo>
                    <a:pt x="587" y="1646"/>
                  </a:lnTo>
                  <a:lnTo>
                    <a:pt x="593" y="1646"/>
                  </a:lnTo>
                  <a:lnTo>
                    <a:pt x="600" y="1653"/>
                  </a:lnTo>
                  <a:lnTo>
                    <a:pt x="607" y="1653"/>
                  </a:lnTo>
                  <a:lnTo>
                    <a:pt x="613" y="1653"/>
                  </a:lnTo>
                  <a:lnTo>
                    <a:pt x="620" y="1653"/>
                  </a:lnTo>
                  <a:lnTo>
                    <a:pt x="626" y="1653"/>
                  </a:lnTo>
                  <a:lnTo>
                    <a:pt x="633" y="1660"/>
                  </a:lnTo>
                  <a:lnTo>
                    <a:pt x="640" y="1660"/>
                  </a:lnTo>
                  <a:lnTo>
                    <a:pt x="646" y="1660"/>
                  </a:lnTo>
                  <a:lnTo>
                    <a:pt x="653" y="1660"/>
                  </a:lnTo>
                  <a:lnTo>
                    <a:pt x="659" y="1653"/>
                  </a:lnTo>
                  <a:lnTo>
                    <a:pt x="666" y="1646"/>
                  </a:lnTo>
                  <a:lnTo>
                    <a:pt x="673" y="1640"/>
                  </a:lnTo>
                  <a:lnTo>
                    <a:pt x="673" y="1633"/>
                  </a:lnTo>
                  <a:lnTo>
                    <a:pt x="679" y="1627"/>
                  </a:lnTo>
                  <a:lnTo>
                    <a:pt x="679" y="1620"/>
                  </a:lnTo>
                  <a:lnTo>
                    <a:pt x="679" y="1607"/>
                  </a:lnTo>
                  <a:lnTo>
                    <a:pt x="679" y="1600"/>
                  </a:lnTo>
                  <a:lnTo>
                    <a:pt x="686" y="1587"/>
                  </a:lnTo>
                  <a:lnTo>
                    <a:pt x="686" y="1581"/>
                  </a:lnTo>
                  <a:lnTo>
                    <a:pt x="686" y="1574"/>
                  </a:lnTo>
                  <a:lnTo>
                    <a:pt x="686" y="1561"/>
                  </a:lnTo>
                  <a:lnTo>
                    <a:pt x="686" y="1554"/>
                  </a:lnTo>
                  <a:lnTo>
                    <a:pt x="692" y="1541"/>
                  </a:lnTo>
                  <a:lnTo>
                    <a:pt x="692" y="1534"/>
                  </a:lnTo>
                  <a:lnTo>
                    <a:pt x="692" y="1528"/>
                  </a:lnTo>
                  <a:lnTo>
                    <a:pt x="692" y="1515"/>
                  </a:lnTo>
                  <a:lnTo>
                    <a:pt x="692" y="1508"/>
                  </a:lnTo>
                  <a:lnTo>
                    <a:pt x="699" y="1495"/>
                  </a:lnTo>
                  <a:lnTo>
                    <a:pt x="699" y="1488"/>
                  </a:lnTo>
                  <a:lnTo>
                    <a:pt x="699" y="1475"/>
                  </a:lnTo>
                  <a:lnTo>
                    <a:pt x="699" y="1469"/>
                  </a:lnTo>
                  <a:lnTo>
                    <a:pt x="692" y="1462"/>
                  </a:lnTo>
                  <a:lnTo>
                    <a:pt x="686" y="1455"/>
                  </a:lnTo>
                  <a:lnTo>
                    <a:pt x="679" y="1455"/>
                  </a:lnTo>
                  <a:lnTo>
                    <a:pt x="673" y="1462"/>
                  </a:lnTo>
                  <a:lnTo>
                    <a:pt x="666" y="1462"/>
                  </a:lnTo>
                  <a:lnTo>
                    <a:pt x="659" y="1469"/>
                  </a:lnTo>
                  <a:lnTo>
                    <a:pt x="653" y="1475"/>
                  </a:lnTo>
                  <a:lnTo>
                    <a:pt x="646" y="1475"/>
                  </a:lnTo>
                  <a:lnTo>
                    <a:pt x="646" y="1482"/>
                  </a:lnTo>
                  <a:lnTo>
                    <a:pt x="640" y="1488"/>
                  </a:lnTo>
                  <a:lnTo>
                    <a:pt x="633" y="1488"/>
                  </a:lnTo>
                  <a:lnTo>
                    <a:pt x="626" y="1495"/>
                  </a:lnTo>
                  <a:lnTo>
                    <a:pt x="620" y="1501"/>
                  </a:lnTo>
                  <a:lnTo>
                    <a:pt x="613" y="1501"/>
                  </a:lnTo>
                  <a:lnTo>
                    <a:pt x="607" y="1495"/>
                  </a:lnTo>
                  <a:lnTo>
                    <a:pt x="600" y="1488"/>
                  </a:lnTo>
                  <a:lnTo>
                    <a:pt x="593" y="1488"/>
                  </a:lnTo>
                  <a:lnTo>
                    <a:pt x="587" y="1482"/>
                  </a:lnTo>
                  <a:lnTo>
                    <a:pt x="580" y="1482"/>
                  </a:lnTo>
                  <a:lnTo>
                    <a:pt x="580" y="1475"/>
                  </a:lnTo>
                  <a:lnTo>
                    <a:pt x="574" y="1469"/>
                  </a:lnTo>
                  <a:lnTo>
                    <a:pt x="567" y="1462"/>
                  </a:lnTo>
                  <a:lnTo>
                    <a:pt x="560" y="1455"/>
                  </a:lnTo>
                  <a:lnTo>
                    <a:pt x="554" y="1449"/>
                  </a:lnTo>
                  <a:lnTo>
                    <a:pt x="547" y="1442"/>
                  </a:lnTo>
                  <a:lnTo>
                    <a:pt x="547" y="1436"/>
                  </a:lnTo>
                  <a:lnTo>
                    <a:pt x="547" y="1429"/>
                  </a:lnTo>
                  <a:lnTo>
                    <a:pt x="554" y="1416"/>
                  </a:lnTo>
                  <a:lnTo>
                    <a:pt x="554" y="1409"/>
                  </a:lnTo>
                  <a:lnTo>
                    <a:pt x="560" y="1403"/>
                  </a:lnTo>
                  <a:lnTo>
                    <a:pt x="567" y="1396"/>
                  </a:lnTo>
                  <a:lnTo>
                    <a:pt x="567" y="1390"/>
                  </a:lnTo>
                  <a:lnTo>
                    <a:pt x="574" y="1383"/>
                  </a:lnTo>
                  <a:lnTo>
                    <a:pt x="580" y="1376"/>
                  </a:lnTo>
                  <a:lnTo>
                    <a:pt x="587" y="1370"/>
                  </a:lnTo>
                  <a:lnTo>
                    <a:pt x="593" y="1370"/>
                  </a:lnTo>
                  <a:lnTo>
                    <a:pt x="600" y="1363"/>
                  </a:lnTo>
                  <a:lnTo>
                    <a:pt x="607" y="1357"/>
                  </a:lnTo>
                  <a:lnTo>
                    <a:pt x="607" y="1350"/>
                  </a:lnTo>
                  <a:lnTo>
                    <a:pt x="613" y="1343"/>
                  </a:lnTo>
                  <a:lnTo>
                    <a:pt x="620" y="1343"/>
                  </a:lnTo>
                  <a:lnTo>
                    <a:pt x="626" y="1350"/>
                  </a:lnTo>
                  <a:lnTo>
                    <a:pt x="633" y="1357"/>
                  </a:lnTo>
                  <a:lnTo>
                    <a:pt x="640" y="1357"/>
                  </a:lnTo>
                  <a:lnTo>
                    <a:pt x="646" y="1363"/>
                  </a:lnTo>
                  <a:lnTo>
                    <a:pt x="653" y="1370"/>
                  </a:lnTo>
                  <a:lnTo>
                    <a:pt x="659" y="1376"/>
                  </a:lnTo>
                  <a:lnTo>
                    <a:pt x="659" y="1383"/>
                  </a:lnTo>
                  <a:lnTo>
                    <a:pt x="666" y="1390"/>
                  </a:lnTo>
                  <a:lnTo>
                    <a:pt x="673" y="1390"/>
                  </a:lnTo>
                  <a:lnTo>
                    <a:pt x="679" y="1396"/>
                  </a:lnTo>
                  <a:lnTo>
                    <a:pt x="686" y="1403"/>
                  </a:lnTo>
                  <a:lnTo>
                    <a:pt x="692" y="1403"/>
                  </a:lnTo>
                  <a:lnTo>
                    <a:pt x="699" y="1409"/>
                  </a:lnTo>
                  <a:lnTo>
                    <a:pt x="705" y="1416"/>
                  </a:lnTo>
                  <a:lnTo>
                    <a:pt x="705" y="1422"/>
                  </a:lnTo>
                  <a:lnTo>
                    <a:pt x="712" y="1429"/>
                  </a:lnTo>
                  <a:lnTo>
                    <a:pt x="719" y="1429"/>
                  </a:lnTo>
                  <a:lnTo>
                    <a:pt x="725" y="1422"/>
                  </a:lnTo>
                  <a:lnTo>
                    <a:pt x="732" y="1422"/>
                  </a:lnTo>
                  <a:lnTo>
                    <a:pt x="738" y="1416"/>
                  </a:lnTo>
                  <a:lnTo>
                    <a:pt x="745" y="1409"/>
                  </a:lnTo>
                  <a:lnTo>
                    <a:pt x="752" y="1409"/>
                  </a:lnTo>
                  <a:lnTo>
                    <a:pt x="758" y="1403"/>
                  </a:lnTo>
                  <a:lnTo>
                    <a:pt x="765" y="1396"/>
                  </a:lnTo>
                  <a:lnTo>
                    <a:pt x="765" y="1390"/>
                  </a:lnTo>
                  <a:lnTo>
                    <a:pt x="771" y="1376"/>
                  </a:lnTo>
                  <a:lnTo>
                    <a:pt x="771" y="1370"/>
                  </a:lnTo>
                  <a:lnTo>
                    <a:pt x="771" y="1357"/>
                  </a:lnTo>
                  <a:lnTo>
                    <a:pt x="778" y="1350"/>
                  </a:lnTo>
                  <a:lnTo>
                    <a:pt x="785" y="1343"/>
                  </a:lnTo>
                  <a:lnTo>
                    <a:pt x="785" y="1343"/>
                  </a:lnTo>
                  <a:lnTo>
                    <a:pt x="798" y="1343"/>
                  </a:lnTo>
                  <a:lnTo>
                    <a:pt x="804" y="1337"/>
                  </a:lnTo>
                  <a:lnTo>
                    <a:pt x="811" y="1330"/>
                  </a:lnTo>
                  <a:lnTo>
                    <a:pt x="811" y="1330"/>
                  </a:lnTo>
                  <a:lnTo>
                    <a:pt x="817" y="1337"/>
                  </a:lnTo>
                  <a:lnTo>
                    <a:pt x="824" y="1337"/>
                  </a:lnTo>
                  <a:lnTo>
                    <a:pt x="831" y="1343"/>
                  </a:lnTo>
                  <a:lnTo>
                    <a:pt x="837" y="1343"/>
                  </a:lnTo>
                  <a:lnTo>
                    <a:pt x="844" y="1350"/>
                  </a:lnTo>
                  <a:lnTo>
                    <a:pt x="850" y="1357"/>
                  </a:lnTo>
                  <a:lnTo>
                    <a:pt x="850" y="1370"/>
                  </a:lnTo>
                  <a:lnTo>
                    <a:pt x="857" y="1376"/>
                  </a:lnTo>
                  <a:lnTo>
                    <a:pt x="857" y="1383"/>
                  </a:lnTo>
                  <a:lnTo>
                    <a:pt x="857" y="1396"/>
                  </a:lnTo>
                  <a:lnTo>
                    <a:pt x="857" y="1403"/>
                  </a:lnTo>
                  <a:lnTo>
                    <a:pt x="857" y="1416"/>
                  </a:lnTo>
                  <a:lnTo>
                    <a:pt x="850" y="1422"/>
                  </a:lnTo>
                  <a:lnTo>
                    <a:pt x="850" y="1429"/>
                  </a:lnTo>
                  <a:lnTo>
                    <a:pt x="844" y="1436"/>
                  </a:lnTo>
                  <a:lnTo>
                    <a:pt x="837" y="1442"/>
                  </a:lnTo>
                  <a:lnTo>
                    <a:pt x="837" y="1449"/>
                  </a:lnTo>
                  <a:lnTo>
                    <a:pt x="831" y="1462"/>
                  </a:lnTo>
                  <a:lnTo>
                    <a:pt x="824" y="1462"/>
                  </a:lnTo>
                  <a:lnTo>
                    <a:pt x="817" y="1469"/>
                  </a:lnTo>
                  <a:lnTo>
                    <a:pt x="811" y="1475"/>
                  </a:lnTo>
                  <a:lnTo>
                    <a:pt x="804" y="1475"/>
                  </a:lnTo>
                  <a:lnTo>
                    <a:pt x="804" y="1482"/>
                  </a:lnTo>
                  <a:lnTo>
                    <a:pt x="798" y="1488"/>
                  </a:lnTo>
                  <a:lnTo>
                    <a:pt x="791" y="1495"/>
                  </a:lnTo>
                  <a:lnTo>
                    <a:pt x="785" y="1501"/>
                  </a:lnTo>
                  <a:lnTo>
                    <a:pt x="785" y="1515"/>
                  </a:lnTo>
                  <a:lnTo>
                    <a:pt x="785" y="1521"/>
                  </a:lnTo>
                  <a:lnTo>
                    <a:pt x="778" y="1528"/>
                  </a:lnTo>
                  <a:lnTo>
                    <a:pt x="778" y="1541"/>
                  </a:lnTo>
                  <a:lnTo>
                    <a:pt x="771" y="1548"/>
                  </a:lnTo>
                  <a:lnTo>
                    <a:pt x="771" y="1554"/>
                  </a:lnTo>
                  <a:lnTo>
                    <a:pt x="771" y="1567"/>
                  </a:lnTo>
                  <a:lnTo>
                    <a:pt x="765" y="1574"/>
                  </a:lnTo>
                  <a:lnTo>
                    <a:pt x="765" y="1581"/>
                  </a:lnTo>
                  <a:lnTo>
                    <a:pt x="758" y="1594"/>
                  </a:lnTo>
                  <a:lnTo>
                    <a:pt x="758" y="1600"/>
                  </a:lnTo>
                  <a:lnTo>
                    <a:pt x="758" y="1607"/>
                  </a:lnTo>
                  <a:lnTo>
                    <a:pt x="752" y="1620"/>
                  </a:lnTo>
                  <a:lnTo>
                    <a:pt x="752" y="1627"/>
                  </a:lnTo>
                  <a:lnTo>
                    <a:pt x="752" y="1633"/>
                  </a:lnTo>
                  <a:lnTo>
                    <a:pt x="745" y="1646"/>
                  </a:lnTo>
                  <a:lnTo>
                    <a:pt x="745" y="1653"/>
                  </a:lnTo>
                  <a:lnTo>
                    <a:pt x="745" y="1660"/>
                  </a:lnTo>
                  <a:lnTo>
                    <a:pt x="745" y="1673"/>
                  </a:lnTo>
                  <a:lnTo>
                    <a:pt x="752" y="1679"/>
                  </a:lnTo>
                  <a:lnTo>
                    <a:pt x="758" y="1686"/>
                  </a:lnTo>
                  <a:lnTo>
                    <a:pt x="765" y="1692"/>
                  </a:lnTo>
                  <a:lnTo>
                    <a:pt x="765" y="1692"/>
                  </a:lnTo>
                  <a:lnTo>
                    <a:pt x="758" y="1699"/>
                  </a:lnTo>
                  <a:lnTo>
                    <a:pt x="752" y="1706"/>
                  </a:lnTo>
                  <a:lnTo>
                    <a:pt x="745" y="1712"/>
                  </a:lnTo>
                  <a:lnTo>
                    <a:pt x="738" y="1712"/>
                  </a:lnTo>
                  <a:lnTo>
                    <a:pt x="732" y="1712"/>
                  </a:lnTo>
                  <a:lnTo>
                    <a:pt x="725" y="1712"/>
                  </a:lnTo>
                  <a:lnTo>
                    <a:pt x="719" y="1712"/>
                  </a:lnTo>
                  <a:lnTo>
                    <a:pt x="712" y="1719"/>
                  </a:lnTo>
                  <a:lnTo>
                    <a:pt x="705" y="1719"/>
                  </a:lnTo>
                  <a:lnTo>
                    <a:pt x="699" y="1719"/>
                  </a:lnTo>
                  <a:lnTo>
                    <a:pt x="692" y="1719"/>
                  </a:lnTo>
                  <a:lnTo>
                    <a:pt x="686" y="1719"/>
                  </a:lnTo>
                  <a:lnTo>
                    <a:pt x="679" y="1719"/>
                  </a:lnTo>
                  <a:lnTo>
                    <a:pt x="673" y="1719"/>
                  </a:lnTo>
                  <a:lnTo>
                    <a:pt x="666" y="1712"/>
                  </a:lnTo>
                  <a:lnTo>
                    <a:pt x="659" y="1712"/>
                  </a:lnTo>
                  <a:lnTo>
                    <a:pt x="653" y="1706"/>
                  </a:lnTo>
                  <a:lnTo>
                    <a:pt x="646" y="1706"/>
                  </a:lnTo>
                  <a:lnTo>
                    <a:pt x="640" y="1699"/>
                  </a:lnTo>
                  <a:lnTo>
                    <a:pt x="633" y="1699"/>
                  </a:lnTo>
                  <a:lnTo>
                    <a:pt x="626" y="1692"/>
                  </a:lnTo>
                  <a:lnTo>
                    <a:pt x="626" y="1679"/>
                  </a:lnTo>
                  <a:lnTo>
                    <a:pt x="620" y="1679"/>
                  </a:lnTo>
                  <a:lnTo>
                    <a:pt x="613" y="1679"/>
                  </a:lnTo>
                  <a:lnTo>
                    <a:pt x="607" y="1686"/>
                  </a:lnTo>
                  <a:lnTo>
                    <a:pt x="607" y="1699"/>
                  </a:lnTo>
                  <a:lnTo>
                    <a:pt x="600" y="1706"/>
                  </a:lnTo>
                  <a:lnTo>
                    <a:pt x="600" y="1712"/>
                  </a:lnTo>
                  <a:lnTo>
                    <a:pt x="600" y="1725"/>
                  </a:lnTo>
                  <a:lnTo>
                    <a:pt x="593" y="1732"/>
                  </a:lnTo>
                  <a:lnTo>
                    <a:pt x="593" y="1739"/>
                  </a:lnTo>
                  <a:lnTo>
                    <a:pt x="593" y="1752"/>
                  </a:lnTo>
                  <a:lnTo>
                    <a:pt x="593" y="1758"/>
                  </a:lnTo>
                  <a:lnTo>
                    <a:pt x="593" y="1771"/>
                  </a:lnTo>
                  <a:lnTo>
                    <a:pt x="593" y="1778"/>
                  </a:lnTo>
                  <a:lnTo>
                    <a:pt x="593" y="1791"/>
                  </a:lnTo>
                  <a:lnTo>
                    <a:pt x="593" y="1798"/>
                  </a:lnTo>
                  <a:lnTo>
                    <a:pt x="593" y="1811"/>
                  </a:lnTo>
                  <a:lnTo>
                    <a:pt x="587" y="1818"/>
                  </a:lnTo>
                  <a:lnTo>
                    <a:pt x="587" y="1824"/>
                  </a:lnTo>
                  <a:lnTo>
                    <a:pt x="580" y="1831"/>
                  </a:lnTo>
                  <a:lnTo>
                    <a:pt x="574" y="1824"/>
                  </a:lnTo>
                  <a:lnTo>
                    <a:pt x="560" y="1824"/>
                  </a:lnTo>
                  <a:lnTo>
                    <a:pt x="554" y="1818"/>
                  </a:lnTo>
                  <a:lnTo>
                    <a:pt x="554" y="1811"/>
                  </a:lnTo>
                  <a:lnTo>
                    <a:pt x="547" y="1804"/>
                  </a:lnTo>
                  <a:lnTo>
                    <a:pt x="547" y="1791"/>
                  </a:lnTo>
                  <a:close/>
                  <a:moveTo>
                    <a:pt x="1780" y="1660"/>
                  </a:moveTo>
                  <a:lnTo>
                    <a:pt x="1773" y="1653"/>
                  </a:lnTo>
                  <a:lnTo>
                    <a:pt x="1766" y="1646"/>
                  </a:lnTo>
                  <a:lnTo>
                    <a:pt x="1760" y="1646"/>
                  </a:lnTo>
                  <a:lnTo>
                    <a:pt x="1753" y="1640"/>
                  </a:lnTo>
                  <a:lnTo>
                    <a:pt x="1747" y="1640"/>
                  </a:lnTo>
                  <a:lnTo>
                    <a:pt x="1740" y="1640"/>
                  </a:lnTo>
                  <a:lnTo>
                    <a:pt x="1733" y="1640"/>
                  </a:lnTo>
                  <a:lnTo>
                    <a:pt x="1727" y="1640"/>
                  </a:lnTo>
                  <a:lnTo>
                    <a:pt x="1720" y="1633"/>
                  </a:lnTo>
                  <a:lnTo>
                    <a:pt x="1714" y="1627"/>
                  </a:lnTo>
                  <a:lnTo>
                    <a:pt x="1714" y="1620"/>
                  </a:lnTo>
                  <a:lnTo>
                    <a:pt x="1720" y="1613"/>
                  </a:lnTo>
                  <a:lnTo>
                    <a:pt x="1733" y="1613"/>
                  </a:lnTo>
                  <a:lnTo>
                    <a:pt x="1740" y="1613"/>
                  </a:lnTo>
                  <a:lnTo>
                    <a:pt x="1747" y="1613"/>
                  </a:lnTo>
                  <a:lnTo>
                    <a:pt x="1753" y="1620"/>
                  </a:lnTo>
                  <a:lnTo>
                    <a:pt x="1760" y="1620"/>
                  </a:lnTo>
                  <a:lnTo>
                    <a:pt x="1766" y="1620"/>
                  </a:lnTo>
                  <a:lnTo>
                    <a:pt x="1773" y="1620"/>
                  </a:lnTo>
                  <a:lnTo>
                    <a:pt x="1780" y="1620"/>
                  </a:lnTo>
                  <a:lnTo>
                    <a:pt x="1786" y="1620"/>
                  </a:lnTo>
                  <a:lnTo>
                    <a:pt x="1799" y="1620"/>
                  </a:lnTo>
                  <a:lnTo>
                    <a:pt x="1806" y="1620"/>
                  </a:lnTo>
                  <a:lnTo>
                    <a:pt x="1812" y="1627"/>
                  </a:lnTo>
                  <a:lnTo>
                    <a:pt x="1819" y="1633"/>
                  </a:lnTo>
                  <a:lnTo>
                    <a:pt x="1826" y="1640"/>
                  </a:lnTo>
                  <a:lnTo>
                    <a:pt x="1832" y="1653"/>
                  </a:lnTo>
                  <a:lnTo>
                    <a:pt x="1832" y="1660"/>
                  </a:lnTo>
                  <a:lnTo>
                    <a:pt x="1826" y="1666"/>
                  </a:lnTo>
                  <a:lnTo>
                    <a:pt x="1819" y="1666"/>
                  </a:lnTo>
                  <a:lnTo>
                    <a:pt x="1812" y="1666"/>
                  </a:lnTo>
                  <a:lnTo>
                    <a:pt x="1799" y="1666"/>
                  </a:lnTo>
                  <a:lnTo>
                    <a:pt x="1793" y="1666"/>
                  </a:lnTo>
                  <a:lnTo>
                    <a:pt x="1786" y="1666"/>
                  </a:lnTo>
                  <a:lnTo>
                    <a:pt x="1780" y="1660"/>
                  </a:lnTo>
                  <a:close/>
                  <a:moveTo>
                    <a:pt x="1424" y="1594"/>
                  </a:moveTo>
                  <a:lnTo>
                    <a:pt x="1417" y="1594"/>
                  </a:lnTo>
                  <a:lnTo>
                    <a:pt x="1411" y="1594"/>
                  </a:lnTo>
                  <a:lnTo>
                    <a:pt x="1404" y="1594"/>
                  </a:lnTo>
                  <a:lnTo>
                    <a:pt x="1397" y="1594"/>
                  </a:lnTo>
                  <a:lnTo>
                    <a:pt x="1391" y="1594"/>
                  </a:lnTo>
                  <a:lnTo>
                    <a:pt x="1384" y="1594"/>
                  </a:lnTo>
                  <a:lnTo>
                    <a:pt x="1378" y="1587"/>
                  </a:lnTo>
                  <a:lnTo>
                    <a:pt x="1371" y="1587"/>
                  </a:lnTo>
                  <a:lnTo>
                    <a:pt x="1364" y="1587"/>
                  </a:lnTo>
                  <a:lnTo>
                    <a:pt x="1358" y="1587"/>
                  </a:lnTo>
                  <a:lnTo>
                    <a:pt x="1351" y="1581"/>
                  </a:lnTo>
                  <a:lnTo>
                    <a:pt x="1345" y="1581"/>
                  </a:lnTo>
                  <a:lnTo>
                    <a:pt x="1338" y="1581"/>
                  </a:lnTo>
                  <a:lnTo>
                    <a:pt x="1331" y="1581"/>
                  </a:lnTo>
                  <a:lnTo>
                    <a:pt x="1318" y="1574"/>
                  </a:lnTo>
                  <a:lnTo>
                    <a:pt x="1312" y="1574"/>
                  </a:lnTo>
                  <a:lnTo>
                    <a:pt x="1305" y="1567"/>
                  </a:lnTo>
                  <a:lnTo>
                    <a:pt x="1305" y="1561"/>
                  </a:lnTo>
                  <a:lnTo>
                    <a:pt x="1305" y="1554"/>
                  </a:lnTo>
                  <a:lnTo>
                    <a:pt x="1305" y="1541"/>
                  </a:lnTo>
                  <a:lnTo>
                    <a:pt x="1305" y="1534"/>
                  </a:lnTo>
                  <a:lnTo>
                    <a:pt x="1305" y="1521"/>
                  </a:lnTo>
                  <a:lnTo>
                    <a:pt x="1305" y="1515"/>
                  </a:lnTo>
                  <a:lnTo>
                    <a:pt x="1305" y="1501"/>
                  </a:lnTo>
                  <a:lnTo>
                    <a:pt x="1305" y="1495"/>
                  </a:lnTo>
                  <a:lnTo>
                    <a:pt x="1298" y="1482"/>
                  </a:lnTo>
                  <a:lnTo>
                    <a:pt x="1298" y="1475"/>
                  </a:lnTo>
                  <a:lnTo>
                    <a:pt x="1292" y="1469"/>
                  </a:lnTo>
                  <a:lnTo>
                    <a:pt x="1298" y="1462"/>
                  </a:lnTo>
                  <a:lnTo>
                    <a:pt x="1305" y="1455"/>
                  </a:lnTo>
                  <a:lnTo>
                    <a:pt x="1312" y="1455"/>
                  </a:lnTo>
                  <a:lnTo>
                    <a:pt x="1318" y="1455"/>
                  </a:lnTo>
                  <a:lnTo>
                    <a:pt x="1325" y="1462"/>
                  </a:lnTo>
                  <a:lnTo>
                    <a:pt x="1331" y="1469"/>
                  </a:lnTo>
                  <a:lnTo>
                    <a:pt x="1338" y="1469"/>
                  </a:lnTo>
                  <a:lnTo>
                    <a:pt x="1345" y="1462"/>
                  </a:lnTo>
                  <a:lnTo>
                    <a:pt x="1351" y="1462"/>
                  </a:lnTo>
                  <a:lnTo>
                    <a:pt x="1358" y="1462"/>
                  </a:lnTo>
                  <a:lnTo>
                    <a:pt x="1364" y="1462"/>
                  </a:lnTo>
                  <a:lnTo>
                    <a:pt x="1371" y="1462"/>
                  </a:lnTo>
                  <a:lnTo>
                    <a:pt x="1378" y="1469"/>
                  </a:lnTo>
                  <a:lnTo>
                    <a:pt x="1384" y="1469"/>
                  </a:lnTo>
                  <a:lnTo>
                    <a:pt x="1391" y="1475"/>
                  </a:lnTo>
                  <a:lnTo>
                    <a:pt x="1397" y="1475"/>
                  </a:lnTo>
                  <a:lnTo>
                    <a:pt x="1404" y="1482"/>
                  </a:lnTo>
                  <a:lnTo>
                    <a:pt x="1411" y="1482"/>
                  </a:lnTo>
                  <a:lnTo>
                    <a:pt x="1417" y="1488"/>
                  </a:lnTo>
                  <a:lnTo>
                    <a:pt x="1424" y="1495"/>
                  </a:lnTo>
                  <a:lnTo>
                    <a:pt x="1430" y="1501"/>
                  </a:lnTo>
                  <a:lnTo>
                    <a:pt x="1430" y="1508"/>
                  </a:lnTo>
                  <a:lnTo>
                    <a:pt x="1437" y="1515"/>
                  </a:lnTo>
                  <a:lnTo>
                    <a:pt x="1443" y="1521"/>
                  </a:lnTo>
                  <a:lnTo>
                    <a:pt x="1450" y="1528"/>
                  </a:lnTo>
                  <a:lnTo>
                    <a:pt x="1457" y="1534"/>
                  </a:lnTo>
                  <a:lnTo>
                    <a:pt x="1457" y="1541"/>
                  </a:lnTo>
                  <a:lnTo>
                    <a:pt x="1463" y="1548"/>
                  </a:lnTo>
                  <a:lnTo>
                    <a:pt x="1470" y="1554"/>
                  </a:lnTo>
                  <a:lnTo>
                    <a:pt x="1476" y="1561"/>
                  </a:lnTo>
                  <a:lnTo>
                    <a:pt x="1483" y="1561"/>
                  </a:lnTo>
                  <a:lnTo>
                    <a:pt x="1483" y="1567"/>
                  </a:lnTo>
                  <a:lnTo>
                    <a:pt x="1476" y="1574"/>
                  </a:lnTo>
                  <a:lnTo>
                    <a:pt x="1470" y="1581"/>
                  </a:lnTo>
                  <a:lnTo>
                    <a:pt x="1457" y="1581"/>
                  </a:lnTo>
                  <a:lnTo>
                    <a:pt x="1450" y="1587"/>
                  </a:lnTo>
                  <a:lnTo>
                    <a:pt x="1443" y="1594"/>
                  </a:lnTo>
                  <a:lnTo>
                    <a:pt x="1437" y="1594"/>
                  </a:lnTo>
                  <a:lnTo>
                    <a:pt x="1430" y="1594"/>
                  </a:lnTo>
                  <a:lnTo>
                    <a:pt x="1424" y="1594"/>
                  </a:lnTo>
                  <a:close/>
                  <a:moveTo>
                    <a:pt x="949" y="1534"/>
                  </a:moveTo>
                  <a:lnTo>
                    <a:pt x="943" y="1521"/>
                  </a:lnTo>
                  <a:lnTo>
                    <a:pt x="936" y="1515"/>
                  </a:lnTo>
                  <a:lnTo>
                    <a:pt x="936" y="1508"/>
                  </a:lnTo>
                  <a:lnTo>
                    <a:pt x="936" y="1495"/>
                  </a:lnTo>
                  <a:lnTo>
                    <a:pt x="936" y="1488"/>
                  </a:lnTo>
                  <a:lnTo>
                    <a:pt x="936" y="1475"/>
                  </a:lnTo>
                  <a:lnTo>
                    <a:pt x="936" y="1469"/>
                  </a:lnTo>
                  <a:lnTo>
                    <a:pt x="943" y="1462"/>
                  </a:lnTo>
                  <a:lnTo>
                    <a:pt x="943" y="1455"/>
                  </a:lnTo>
                  <a:lnTo>
                    <a:pt x="949" y="1442"/>
                  </a:lnTo>
                  <a:lnTo>
                    <a:pt x="956" y="1436"/>
                  </a:lnTo>
                  <a:lnTo>
                    <a:pt x="956" y="1429"/>
                  </a:lnTo>
                  <a:lnTo>
                    <a:pt x="962" y="1422"/>
                  </a:lnTo>
                  <a:lnTo>
                    <a:pt x="969" y="1416"/>
                  </a:lnTo>
                  <a:lnTo>
                    <a:pt x="969" y="1409"/>
                  </a:lnTo>
                  <a:lnTo>
                    <a:pt x="976" y="1396"/>
                  </a:lnTo>
                  <a:lnTo>
                    <a:pt x="982" y="1390"/>
                  </a:lnTo>
                  <a:lnTo>
                    <a:pt x="982" y="1383"/>
                  </a:lnTo>
                  <a:lnTo>
                    <a:pt x="989" y="1376"/>
                  </a:lnTo>
                  <a:lnTo>
                    <a:pt x="989" y="1370"/>
                  </a:lnTo>
                  <a:lnTo>
                    <a:pt x="995" y="1357"/>
                  </a:lnTo>
                  <a:lnTo>
                    <a:pt x="995" y="1350"/>
                  </a:lnTo>
                  <a:lnTo>
                    <a:pt x="1002" y="1337"/>
                  </a:lnTo>
                  <a:lnTo>
                    <a:pt x="1002" y="1330"/>
                  </a:lnTo>
                  <a:lnTo>
                    <a:pt x="1009" y="1324"/>
                  </a:lnTo>
                  <a:lnTo>
                    <a:pt x="1015" y="1317"/>
                  </a:lnTo>
                  <a:lnTo>
                    <a:pt x="1022" y="1317"/>
                  </a:lnTo>
                  <a:lnTo>
                    <a:pt x="1028" y="1317"/>
                  </a:lnTo>
                  <a:lnTo>
                    <a:pt x="1035" y="1317"/>
                  </a:lnTo>
                  <a:lnTo>
                    <a:pt x="1042" y="1324"/>
                  </a:lnTo>
                  <a:lnTo>
                    <a:pt x="1048" y="1324"/>
                  </a:lnTo>
                  <a:lnTo>
                    <a:pt x="1055" y="1324"/>
                  </a:lnTo>
                  <a:lnTo>
                    <a:pt x="1061" y="1330"/>
                  </a:lnTo>
                  <a:lnTo>
                    <a:pt x="1068" y="1337"/>
                  </a:lnTo>
                  <a:lnTo>
                    <a:pt x="1074" y="1343"/>
                  </a:lnTo>
                  <a:lnTo>
                    <a:pt x="1081" y="1350"/>
                  </a:lnTo>
                  <a:lnTo>
                    <a:pt x="1088" y="1357"/>
                  </a:lnTo>
                  <a:lnTo>
                    <a:pt x="1088" y="1363"/>
                  </a:lnTo>
                  <a:lnTo>
                    <a:pt x="1094" y="1370"/>
                  </a:lnTo>
                  <a:lnTo>
                    <a:pt x="1094" y="1376"/>
                  </a:lnTo>
                  <a:lnTo>
                    <a:pt x="1094" y="1390"/>
                  </a:lnTo>
                  <a:lnTo>
                    <a:pt x="1094" y="1396"/>
                  </a:lnTo>
                  <a:lnTo>
                    <a:pt x="1101" y="1409"/>
                  </a:lnTo>
                  <a:lnTo>
                    <a:pt x="1101" y="1416"/>
                  </a:lnTo>
                  <a:lnTo>
                    <a:pt x="1107" y="1422"/>
                  </a:lnTo>
                  <a:lnTo>
                    <a:pt x="1114" y="1429"/>
                  </a:lnTo>
                  <a:lnTo>
                    <a:pt x="1121" y="1429"/>
                  </a:lnTo>
                  <a:lnTo>
                    <a:pt x="1121" y="1436"/>
                  </a:lnTo>
                  <a:lnTo>
                    <a:pt x="1121" y="1442"/>
                  </a:lnTo>
                  <a:lnTo>
                    <a:pt x="1114" y="1449"/>
                  </a:lnTo>
                  <a:lnTo>
                    <a:pt x="1101" y="1449"/>
                  </a:lnTo>
                  <a:lnTo>
                    <a:pt x="1094" y="1449"/>
                  </a:lnTo>
                  <a:lnTo>
                    <a:pt x="1088" y="1455"/>
                  </a:lnTo>
                  <a:lnTo>
                    <a:pt x="1081" y="1455"/>
                  </a:lnTo>
                  <a:lnTo>
                    <a:pt x="1074" y="1455"/>
                  </a:lnTo>
                  <a:lnTo>
                    <a:pt x="1068" y="1462"/>
                  </a:lnTo>
                  <a:lnTo>
                    <a:pt x="1061" y="1469"/>
                  </a:lnTo>
                  <a:lnTo>
                    <a:pt x="1061" y="1475"/>
                  </a:lnTo>
                  <a:lnTo>
                    <a:pt x="1055" y="1482"/>
                  </a:lnTo>
                  <a:lnTo>
                    <a:pt x="1048" y="1495"/>
                  </a:lnTo>
                  <a:lnTo>
                    <a:pt x="1048" y="1501"/>
                  </a:lnTo>
                  <a:lnTo>
                    <a:pt x="1048" y="1508"/>
                  </a:lnTo>
                  <a:lnTo>
                    <a:pt x="1048" y="1521"/>
                  </a:lnTo>
                  <a:lnTo>
                    <a:pt x="1048" y="1528"/>
                  </a:lnTo>
                  <a:lnTo>
                    <a:pt x="1042" y="1541"/>
                  </a:lnTo>
                  <a:lnTo>
                    <a:pt x="1042" y="1548"/>
                  </a:lnTo>
                  <a:lnTo>
                    <a:pt x="1035" y="1554"/>
                  </a:lnTo>
                  <a:lnTo>
                    <a:pt x="1028" y="1554"/>
                  </a:lnTo>
                  <a:lnTo>
                    <a:pt x="1022" y="1561"/>
                  </a:lnTo>
                  <a:lnTo>
                    <a:pt x="1015" y="1561"/>
                  </a:lnTo>
                  <a:lnTo>
                    <a:pt x="1009" y="1554"/>
                  </a:lnTo>
                  <a:lnTo>
                    <a:pt x="1002" y="1554"/>
                  </a:lnTo>
                  <a:lnTo>
                    <a:pt x="989" y="1554"/>
                  </a:lnTo>
                  <a:lnTo>
                    <a:pt x="982" y="1554"/>
                  </a:lnTo>
                  <a:lnTo>
                    <a:pt x="976" y="1554"/>
                  </a:lnTo>
                  <a:lnTo>
                    <a:pt x="969" y="1548"/>
                  </a:lnTo>
                  <a:lnTo>
                    <a:pt x="969" y="1548"/>
                  </a:lnTo>
                  <a:lnTo>
                    <a:pt x="962" y="1541"/>
                  </a:lnTo>
                  <a:lnTo>
                    <a:pt x="956" y="1534"/>
                  </a:lnTo>
                  <a:lnTo>
                    <a:pt x="949" y="1534"/>
                  </a:lnTo>
                  <a:close/>
                  <a:moveTo>
                    <a:pt x="804" y="1271"/>
                  </a:moveTo>
                  <a:lnTo>
                    <a:pt x="804" y="1264"/>
                  </a:lnTo>
                  <a:lnTo>
                    <a:pt x="811" y="1258"/>
                  </a:lnTo>
                  <a:lnTo>
                    <a:pt x="817" y="1258"/>
                  </a:lnTo>
                  <a:lnTo>
                    <a:pt x="824" y="1258"/>
                  </a:lnTo>
                  <a:lnTo>
                    <a:pt x="831" y="1258"/>
                  </a:lnTo>
                  <a:lnTo>
                    <a:pt x="837" y="1258"/>
                  </a:lnTo>
                  <a:lnTo>
                    <a:pt x="844" y="1258"/>
                  </a:lnTo>
                  <a:lnTo>
                    <a:pt x="850" y="1264"/>
                  </a:lnTo>
                  <a:lnTo>
                    <a:pt x="857" y="1264"/>
                  </a:lnTo>
                  <a:lnTo>
                    <a:pt x="857" y="1271"/>
                  </a:lnTo>
                  <a:lnTo>
                    <a:pt x="857" y="1278"/>
                  </a:lnTo>
                  <a:lnTo>
                    <a:pt x="850" y="1284"/>
                  </a:lnTo>
                  <a:lnTo>
                    <a:pt x="844" y="1291"/>
                  </a:lnTo>
                  <a:lnTo>
                    <a:pt x="837" y="1291"/>
                  </a:lnTo>
                  <a:lnTo>
                    <a:pt x="831" y="1291"/>
                  </a:lnTo>
                  <a:lnTo>
                    <a:pt x="824" y="1291"/>
                  </a:lnTo>
                  <a:lnTo>
                    <a:pt x="817" y="1284"/>
                  </a:lnTo>
                  <a:lnTo>
                    <a:pt x="811" y="1284"/>
                  </a:lnTo>
                  <a:lnTo>
                    <a:pt x="804" y="1278"/>
                  </a:lnTo>
                  <a:lnTo>
                    <a:pt x="804" y="1271"/>
                  </a:lnTo>
                  <a:close/>
                  <a:moveTo>
                    <a:pt x="1424" y="718"/>
                  </a:moveTo>
                  <a:lnTo>
                    <a:pt x="1430" y="705"/>
                  </a:lnTo>
                  <a:lnTo>
                    <a:pt x="1430" y="698"/>
                  </a:lnTo>
                  <a:lnTo>
                    <a:pt x="1437" y="685"/>
                  </a:lnTo>
                  <a:lnTo>
                    <a:pt x="1437" y="679"/>
                  </a:lnTo>
                  <a:lnTo>
                    <a:pt x="1443" y="665"/>
                  </a:lnTo>
                  <a:lnTo>
                    <a:pt x="1443" y="659"/>
                  </a:lnTo>
                  <a:lnTo>
                    <a:pt x="1443" y="646"/>
                  </a:lnTo>
                  <a:lnTo>
                    <a:pt x="1450" y="639"/>
                  </a:lnTo>
                  <a:lnTo>
                    <a:pt x="1450" y="626"/>
                  </a:lnTo>
                  <a:lnTo>
                    <a:pt x="1457" y="619"/>
                  </a:lnTo>
                  <a:lnTo>
                    <a:pt x="1463" y="613"/>
                  </a:lnTo>
                  <a:lnTo>
                    <a:pt x="1470" y="606"/>
                  </a:lnTo>
                  <a:lnTo>
                    <a:pt x="1476" y="600"/>
                  </a:lnTo>
                  <a:lnTo>
                    <a:pt x="1483" y="593"/>
                  </a:lnTo>
                  <a:lnTo>
                    <a:pt x="1483" y="586"/>
                  </a:lnTo>
                  <a:lnTo>
                    <a:pt x="1496" y="586"/>
                  </a:lnTo>
                  <a:lnTo>
                    <a:pt x="1503" y="580"/>
                  </a:lnTo>
                  <a:lnTo>
                    <a:pt x="1509" y="580"/>
                  </a:lnTo>
                  <a:lnTo>
                    <a:pt x="1516" y="580"/>
                  </a:lnTo>
                  <a:lnTo>
                    <a:pt x="1523" y="580"/>
                  </a:lnTo>
                  <a:lnTo>
                    <a:pt x="1529" y="573"/>
                  </a:lnTo>
                  <a:lnTo>
                    <a:pt x="1536" y="573"/>
                  </a:lnTo>
                  <a:lnTo>
                    <a:pt x="1549" y="573"/>
                  </a:lnTo>
                  <a:lnTo>
                    <a:pt x="1555" y="573"/>
                  </a:lnTo>
                  <a:lnTo>
                    <a:pt x="1562" y="567"/>
                  </a:lnTo>
                  <a:lnTo>
                    <a:pt x="1569" y="567"/>
                  </a:lnTo>
                  <a:lnTo>
                    <a:pt x="1575" y="567"/>
                  </a:lnTo>
                  <a:lnTo>
                    <a:pt x="1582" y="567"/>
                  </a:lnTo>
                  <a:lnTo>
                    <a:pt x="1588" y="560"/>
                  </a:lnTo>
                  <a:lnTo>
                    <a:pt x="1602" y="560"/>
                  </a:lnTo>
                  <a:lnTo>
                    <a:pt x="1608" y="560"/>
                  </a:lnTo>
                  <a:lnTo>
                    <a:pt x="1615" y="553"/>
                  </a:lnTo>
                  <a:lnTo>
                    <a:pt x="1621" y="560"/>
                  </a:lnTo>
                  <a:lnTo>
                    <a:pt x="1628" y="567"/>
                  </a:lnTo>
                  <a:lnTo>
                    <a:pt x="1635" y="573"/>
                  </a:lnTo>
                  <a:lnTo>
                    <a:pt x="1635" y="580"/>
                  </a:lnTo>
                  <a:lnTo>
                    <a:pt x="1641" y="593"/>
                  </a:lnTo>
                  <a:lnTo>
                    <a:pt x="1648" y="600"/>
                  </a:lnTo>
                  <a:lnTo>
                    <a:pt x="1648" y="613"/>
                  </a:lnTo>
                  <a:lnTo>
                    <a:pt x="1654" y="619"/>
                  </a:lnTo>
                  <a:lnTo>
                    <a:pt x="1654" y="626"/>
                  </a:lnTo>
                  <a:lnTo>
                    <a:pt x="1648" y="639"/>
                  </a:lnTo>
                  <a:lnTo>
                    <a:pt x="1641" y="646"/>
                  </a:lnTo>
                  <a:lnTo>
                    <a:pt x="1635" y="652"/>
                  </a:lnTo>
                  <a:lnTo>
                    <a:pt x="1628" y="659"/>
                  </a:lnTo>
                  <a:lnTo>
                    <a:pt x="1621" y="659"/>
                  </a:lnTo>
                  <a:lnTo>
                    <a:pt x="1615" y="665"/>
                  </a:lnTo>
                  <a:lnTo>
                    <a:pt x="1608" y="672"/>
                  </a:lnTo>
                  <a:lnTo>
                    <a:pt x="1602" y="685"/>
                  </a:lnTo>
                  <a:lnTo>
                    <a:pt x="1602" y="692"/>
                  </a:lnTo>
                  <a:lnTo>
                    <a:pt x="1595" y="705"/>
                  </a:lnTo>
                  <a:lnTo>
                    <a:pt x="1595" y="711"/>
                  </a:lnTo>
                  <a:lnTo>
                    <a:pt x="1588" y="718"/>
                  </a:lnTo>
                  <a:lnTo>
                    <a:pt x="1582" y="718"/>
                  </a:lnTo>
                  <a:lnTo>
                    <a:pt x="1575" y="718"/>
                  </a:lnTo>
                  <a:lnTo>
                    <a:pt x="1562" y="711"/>
                  </a:lnTo>
                  <a:lnTo>
                    <a:pt x="1555" y="711"/>
                  </a:lnTo>
                  <a:lnTo>
                    <a:pt x="1549" y="711"/>
                  </a:lnTo>
                  <a:lnTo>
                    <a:pt x="1542" y="711"/>
                  </a:lnTo>
                  <a:lnTo>
                    <a:pt x="1536" y="711"/>
                  </a:lnTo>
                  <a:lnTo>
                    <a:pt x="1523" y="711"/>
                  </a:lnTo>
                  <a:lnTo>
                    <a:pt x="1516" y="711"/>
                  </a:lnTo>
                  <a:lnTo>
                    <a:pt x="1509" y="718"/>
                  </a:lnTo>
                  <a:lnTo>
                    <a:pt x="1503" y="718"/>
                  </a:lnTo>
                  <a:lnTo>
                    <a:pt x="1496" y="718"/>
                  </a:lnTo>
                  <a:lnTo>
                    <a:pt x="1490" y="718"/>
                  </a:lnTo>
                  <a:lnTo>
                    <a:pt x="1476" y="718"/>
                  </a:lnTo>
                  <a:lnTo>
                    <a:pt x="1470" y="718"/>
                  </a:lnTo>
                  <a:lnTo>
                    <a:pt x="1463" y="718"/>
                  </a:lnTo>
                  <a:lnTo>
                    <a:pt x="1457" y="718"/>
                  </a:lnTo>
                  <a:lnTo>
                    <a:pt x="1450" y="718"/>
                  </a:lnTo>
                  <a:lnTo>
                    <a:pt x="1443" y="718"/>
                  </a:lnTo>
                  <a:lnTo>
                    <a:pt x="1430" y="718"/>
                  </a:lnTo>
                  <a:lnTo>
                    <a:pt x="1424" y="718"/>
                  </a:lnTo>
                  <a:close/>
                </a:path>
              </a:pathLst>
            </a:custGeom>
            <a:solidFill>
              <a:srgbClr val="d6d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0" name=""/>
            <p:cNvSpPr/>
            <p:nvPr/>
          </p:nvSpPr>
          <p:spPr>
            <a:xfrm>
              <a:off x="3173400" y="1382760"/>
              <a:ext cx="3557520" cy="5018040"/>
            </a:xfrm>
            <a:custGeom>
              <a:avLst/>
              <a:gdLst/>
              <a:ahLst/>
              <a:rect l="l" t="t" r="r" b="b"/>
              <a:pathLst>
                <a:path w="2241" h="3161">
                  <a:moveTo>
                    <a:pt x="943" y="3161"/>
                  </a:moveTo>
                  <a:lnTo>
                    <a:pt x="976" y="3128"/>
                  </a:lnTo>
                  <a:lnTo>
                    <a:pt x="1009" y="3128"/>
                  </a:lnTo>
                  <a:lnTo>
                    <a:pt x="1042" y="3095"/>
                  </a:lnTo>
                  <a:lnTo>
                    <a:pt x="1074" y="3095"/>
                  </a:lnTo>
                  <a:lnTo>
                    <a:pt x="1107" y="3095"/>
                  </a:lnTo>
                  <a:lnTo>
                    <a:pt x="1134" y="3062"/>
                  </a:lnTo>
                  <a:lnTo>
                    <a:pt x="1167" y="3062"/>
                  </a:lnTo>
                  <a:lnTo>
                    <a:pt x="1200" y="3029"/>
                  </a:lnTo>
                  <a:lnTo>
                    <a:pt x="1233" y="3029"/>
                  </a:lnTo>
                  <a:lnTo>
                    <a:pt x="1266" y="2996"/>
                  </a:lnTo>
                  <a:lnTo>
                    <a:pt x="1298" y="2996"/>
                  </a:lnTo>
                  <a:lnTo>
                    <a:pt x="1331" y="2996"/>
                  </a:lnTo>
                  <a:lnTo>
                    <a:pt x="1331" y="2963"/>
                  </a:lnTo>
                  <a:lnTo>
                    <a:pt x="1364" y="2930"/>
                  </a:lnTo>
                  <a:lnTo>
                    <a:pt x="1364" y="2897"/>
                  </a:lnTo>
                  <a:lnTo>
                    <a:pt x="1397" y="2864"/>
                  </a:lnTo>
                  <a:lnTo>
                    <a:pt x="1397" y="2831"/>
                  </a:lnTo>
                  <a:lnTo>
                    <a:pt x="1430" y="2805"/>
                  </a:lnTo>
                  <a:lnTo>
                    <a:pt x="1430" y="2772"/>
                  </a:lnTo>
                  <a:lnTo>
                    <a:pt x="1463" y="2739"/>
                  </a:lnTo>
                  <a:lnTo>
                    <a:pt x="1496" y="2706"/>
                  </a:lnTo>
                  <a:lnTo>
                    <a:pt x="1496" y="2673"/>
                  </a:lnTo>
                  <a:lnTo>
                    <a:pt x="1529" y="2640"/>
                  </a:lnTo>
                  <a:lnTo>
                    <a:pt x="1529" y="2608"/>
                  </a:lnTo>
                  <a:lnTo>
                    <a:pt x="1555" y="2575"/>
                  </a:lnTo>
                  <a:lnTo>
                    <a:pt x="1555" y="2542"/>
                  </a:lnTo>
                  <a:lnTo>
                    <a:pt x="1588" y="2509"/>
                  </a:lnTo>
                  <a:lnTo>
                    <a:pt x="1588" y="2476"/>
                  </a:lnTo>
                  <a:lnTo>
                    <a:pt x="1621" y="2443"/>
                  </a:lnTo>
                  <a:lnTo>
                    <a:pt x="1621" y="2410"/>
                  </a:lnTo>
                  <a:lnTo>
                    <a:pt x="1654" y="2377"/>
                  </a:lnTo>
                  <a:lnTo>
                    <a:pt x="1654" y="2344"/>
                  </a:lnTo>
                  <a:lnTo>
                    <a:pt x="1687" y="2311"/>
                  </a:lnTo>
                  <a:lnTo>
                    <a:pt x="1687" y="2278"/>
                  </a:lnTo>
                  <a:lnTo>
                    <a:pt x="1720" y="2245"/>
                  </a:lnTo>
                  <a:lnTo>
                    <a:pt x="1753" y="2213"/>
                  </a:lnTo>
                  <a:lnTo>
                    <a:pt x="1753" y="2186"/>
                  </a:lnTo>
                  <a:lnTo>
                    <a:pt x="1786" y="2153"/>
                  </a:lnTo>
                  <a:lnTo>
                    <a:pt x="1786" y="2120"/>
                  </a:lnTo>
                  <a:lnTo>
                    <a:pt x="1819" y="2087"/>
                  </a:lnTo>
                  <a:lnTo>
                    <a:pt x="1819" y="2055"/>
                  </a:lnTo>
                  <a:lnTo>
                    <a:pt x="1852" y="2022"/>
                  </a:lnTo>
                  <a:lnTo>
                    <a:pt x="1852" y="1989"/>
                  </a:lnTo>
                  <a:lnTo>
                    <a:pt x="1885" y="1956"/>
                  </a:lnTo>
                  <a:lnTo>
                    <a:pt x="1885" y="1923"/>
                  </a:lnTo>
                  <a:lnTo>
                    <a:pt x="1918" y="1890"/>
                  </a:lnTo>
                  <a:lnTo>
                    <a:pt x="1918" y="1857"/>
                  </a:lnTo>
                  <a:lnTo>
                    <a:pt x="1944" y="1824"/>
                  </a:lnTo>
                  <a:lnTo>
                    <a:pt x="1944" y="1791"/>
                  </a:lnTo>
                  <a:lnTo>
                    <a:pt x="1977" y="1758"/>
                  </a:lnTo>
                  <a:lnTo>
                    <a:pt x="1977" y="1725"/>
                  </a:lnTo>
                  <a:lnTo>
                    <a:pt x="1977" y="1692"/>
                  </a:lnTo>
                  <a:lnTo>
                    <a:pt x="1977" y="1660"/>
                  </a:lnTo>
                  <a:lnTo>
                    <a:pt x="2010" y="1627"/>
                  </a:lnTo>
                  <a:lnTo>
                    <a:pt x="2010" y="1594"/>
                  </a:lnTo>
                  <a:lnTo>
                    <a:pt x="2010" y="1567"/>
                  </a:lnTo>
                  <a:lnTo>
                    <a:pt x="2010" y="1534"/>
                  </a:lnTo>
                  <a:lnTo>
                    <a:pt x="2043" y="1501"/>
                  </a:lnTo>
                  <a:lnTo>
                    <a:pt x="2043" y="1469"/>
                  </a:lnTo>
                  <a:lnTo>
                    <a:pt x="2043" y="1436"/>
                  </a:lnTo>
                  <a:lnTo>
                    <a:pt x="2043" y="1403"/>
                  </a:lnTo>
                  <a:lnTo>
                    <a:pt x="2043" y="1370"/>
                  </a:lnTo>
                  <a:lnTo>
                    <a:pt x="2043" y="1337"/>
                  </a:lnTo>
                  <a:lnTo>
                    <a:pt x="2076" y="1304"/>
                  </a:lnTo>
                  <a:lnTo>
                    <a:pt x="2076" y="1271"/>
                  </a:lnTo>
                  <a:lnTo>
                    <a:pt x="2076" y="1238"/>
                  </a:lnTo>
                  <a:lnTo>
                    <a:pt x="2076" y="1205"/>
                  </a:lnTo>
                  <a:lnTo>
                    <a:pt x="2076" y="1172"/>
                  </a:lnTo>
                  <a:lnTo>
                    <a:pt x="2076" y="1139"/>
                  </a:lnTo>
                  <a:lnTo>
                    <a:pt x="2076" y="1106"/>
                  </a:lnTo>
                  <a:lnTo>
                    <a:pt x="2109" y="1074"/>
                  </a:lnTo>
                  <a:lnTo>
                    <a:pt x="2109" y="1041"/>
                  </a:lnTo>
                  <a:lnTo>
                    <a:pt x="2109" y="1008"/>
                  </a:lnTo>
                  <a:lnTo>
                    <a:pt x="2109" y="975"/>
                  </a:lnTo>
                  <a:lnTo>
                    <a:pt x="2109" y="948"/>
                  </a:lnTo>
                  <a:lnTo>
                    <a:pt x="2109" y="916"/>
                  </a:lnTo>
                  <a:lnTo>
                    <a:pt x="2109" y="883"/>
                  </a:lnTo>
                  <a:lnTo>
                    <a:pt x="2142" y="850"/>
                  </a:lnTo>
                  <a:lnTo>
                    <a:pt x="2142" y="817"/>
                  </a:lnTo>
                  <a:lnTo>
                    <a:pt x="2142" y="784"/>
                  </a:lnTo>
                  <a:lnTo>
                    <a:pt x="2142" y="751"/>
                  </a:lnTo>
                  <a:lnTo>
                    <a:pt x="2142" y="718"/>
                  </a:lnTo>
                  <a:lnTo>
                    <a:pt x="2142" y="685"/>
                  </a:lnTo>
                  <a:lnTo>
                    <a:pt x="2142" y="652"/>
                  </a:lnTo>
                  <a:lnTo>
                    <a:pt x="2175" y="619"/>
                  </a:lnTo>
                  <a:lnTo>
                    <a:pt x="2175" y="586"/>
                  </a:lnTo>
                  <a:lnTo>
                    <a:pt x="2175" y="553"/>
                  </a:lnTo>
                  <a:lnTo>
                    <a:pt x="2175" y="521"/>
                  </a:lnTo>
                  <a:lnTo>
                    <a:pt x="2175" y="488"/>
                  </a:lnTo>
                  <a:lnTo>
                    <a:pt x="2175" y="455"/>
                  </a:lnTo>
                  <a:lnTo>
                    <a:pt x="2175" y="422"/>
                  </a:lnTo>
                  <a:lnTo>
                    <a:pt x="2208" y="389"/>
                  </a:lnTo>
                  <a:lnTo>
                    <a:pt x="2208" y="356"/>
                  </a:lnTo>
                  <a:lnTo>
                    <a:pt x="2208" y="330"/>
                  </a:lnTo>
                  <a:lnTo>
                    <a:pt x="2208" y="297"/>
                  </a:lnTo>
                  <a:lnTo>
                    <a:pt x="2208" y="264"/>
                  </a:lnTo>
                  <a:lnTo>
                    <a:pt x="2208" y="231"/>
                  </a:lnTo>
                  <a:lnTo>
                    <a:pt x="2208" y="198"/>
                  </a:lnTo>
                  <a:lnTo>
                    <a:pt x="2241" y="165"/>
                  </a:lnTo>
                  <a:lnTo>
                    <a:pt x="2241" y="132"/>
                  </a:lnTo>
                  <a:lnTo>
                    <a:pt x="2241" y="99"/>
                  </a:lnTo>
                  <a:lnTo>
                    <a:pt x="2241" y="66"/>
                  </a:lnTo>
                  <a:lnTo>
                    <a:pt x="2241" y="33"/>
                  </a:lnTo>
                  <a:lnTo>
                    <a:pt x="2241" y="0"/>
                  </a:lnTo>
                  <a:lnTo>
                    <a:pt x="2208" y="0"/>
                  </a:lnTo>
                  <a:lnTo>
                    <a:pt x="2175" y="0"/>
                  </a:lnTo>
                  <a:lnTo>
                    <a:pt x="2142" y="0"/>
                  </a:lnTo>
                  <a:lnTo>
                    <a:pt x="2109" y="0"/>
                  </a:lnTo>
                  <a:lnTo>
                    <a:pt x="2076" y="33"/>
                  </a:lnTo>
                  <a:lnTo>
                    <a:pt x="2043" y="33"/>
                  </a:lnTo>
                  <a:lnTo>
                    <a:pt x="2010" y="33"/>
                  </a:lnTo>
                  <a:lnTo>
                    <a:pt x="1977" y="66"/>
                  </a:lnTo>
                  <a:lnTo>
                    <a:pt x="1944" y="66"/>
                  </a:lnTo>
                  <a:lnTo>
                    <a:pt x="1918" y="66"/>
                  </a:lnTo>
                  <a:lnTo>
                    <a:pt x="1885" y="99"/>
                  </a:lnTo>
                  <a:lnTo>
                    <a:pt x="1852" y="99"/>
                  </a:lnTo>
                  <a:lnTo>
                    <a:pt x="1819" y="132"/>
                  </a:lnTo>
                  <a:lnTo>
                    <a:pt x="1786" y="132"/>
                  </a:lnTo>
                  <a:lnTo>
                    <a:pt x="1753" y="132"/>
                  </a:lnTo>
                  <a:lnTo>
                    <a:pt x="1720" y="165"/>
                  </a:lnTo>
                  <a:lnTo>
                    <a:pt x="1687" y="165"/>
                  </a:lnTo>
                  <a:lnTo>
                    <a:pt x="1654" y="165"/>
                  </a:lnTo>
                  <a:lnTo>
                    <a:pt x="1621" y="198"/>
                  </a:lnTo>
                  <a:lnTo>
                    <a:pt x="1588" y="198"/>
                  </a:lnTo>
                  <a:lnTo>
                    <a:pt x="1555" y="198"/>
                  </a:lnTo>
                  <a:lnTo>
                    <a:pt x="1529" y="231"/>
                  </a:lnTo>
                  <a:lnTo>
                    <a:pt x="1496" y="231"/>
                  </a:lnTo>
                  <a:lnTo>
                    <a:pt x="1463" y="231"/>
                  </a:lnTo>
                  <a:lnTo>
                    <a:pt x="1430" y="264"/>
                  </a:lnTo>
                  <a:lnTo>
                    <a:pt x="1397" y="264"/>
                  </a:lnTo>
                  <a:lnTo>
                    <a:pt x="1364" y="264"/>
                  </a:lnTo>
                  <a:lnTo>
                    <a:pt x="1331" y="297"/>
                  </a:lnTo>
                  <a:lnTo>
                    <a:pt x="1298" y="297"/>
                  </a:lnTo>
                  <a:lnTo>
                    <a:pt x="1266" y="297"/>
                  </a:lnTo>
                  <a:lnTo>
                    <a:pt x="1233" y="330"/>
                  </a:lnTo>
                  <a:lnTo>
                    <a:pt x="1200" y="330"/>
                  </a:lnTo>
                  <a:lnTo>
                    <a:pt x="1167" y="356"/>
                  </a:lnTo>
                  <a:lnTo>
                    <a:pt x="1134" y="356"/>
                  </a:lnTo>
                  <a:lnTo>
                    <a:pt x="1107" y="356"/>
                  </a:lnTo>
                  <a:lnTo>
                    <a:pt x="1074" y="389"/>
                  </a:lnTo>
                  <a:lnTo>
                    <a:pt x="1042" y="389"/>
                  </a:lnTo>
                  <a:lnTo>
                    <a:pt x="1009" y="389"/>
                  </a:lnTo>
                  <a:lnTo>
                    <a:pt x="976" y="422"/>
                  </a:lnTo>
                  <a:lnTo>
                    <a:pt x="943" y="422"/>
                  </a:lnTo>
                  <a:lnTo>
                    <a:pt x="910" y="422"/>
                  </a:lnTo>
                  <a:lnTo>
                    <a:pt x="877" y="455"/>
                  </a:lnTo>
                  <a:lnTo>
                    <a:pt x="844" y="455"/>
                  </a:lnTo>
                  <a:lnTo>
                    <a:pt x="811" y="455"/>
                  </a:lnTo>
                  <a:lnTo>
                    <a:pt x="778" y="488"/>
                  </a:lnTo>
                  <a:lnTo>
                    <a:pt x="745" y="488"/>
                  </a:lnTo>
                  <a:lnTo>
                    <a:pt x="712" y="488"/>
                  </a:lnTo>
                  <a:lnTo>
                    <a:pt x="686" y="521"/>
                  </a:lnTo>
                  <a:lnTo>
                    <a:pt x="653" y="521"/>
                  </a:lnTo>
                  <a:lnTo>
                    <a:pt x="620" y="521"/>
                  </a:lnTo>
                  <a:lnTo>
                    <a:pt x="587" y="553"/>
                  </a:lnTo>
                  <a:lnTo>
                    <a:pt x="554" y="553"/>
                  </a:lnTo>
                  <a:lnTo>
                    <a:pt x="521" y="553"/>
                  </a:lnTo>
                  <a:lnTo>
                    <a:pt x="488" y="586"/>
                  </a:lnTo>
                  <a:lnTo>
                    <a:pt x="455" y="586"/>
                  </a:lnTo>
                  <a:lnTo>
                    <a:pt x="422" y="619"/>
                  </a:lnTo>
                  <a:lnTo>
                    <a:pt x="389" y="619"/>
                  </a:lnTo>
                  <a:lnTo>
                    <a:pt x="356" y="619"/>
                  </a:lnTo>
                  <a:lnTo>
                    <a:pt x="323" y="652"/>
                  </a:lnTo>
                  <a:lnTo>
                    <a:pt x="290" y="652"/>
                  </a:lnTo>
                  <a:lnTo>
                    <a:pt x="264" y="652"/>
                  </a:lnTo>
                  <a:lnTo>
                    <a:pt x="231" y="685"/>
                  </a:lnTo>
                  <a:lnTo>
                    <a:pt x="198" y="685"/>
                  </a:lnTo>
                  <a:lnTo>
                    <a:pt x="165" y="685"/>
                  </a:lnTo>
                  <a:lnTo>
                    <a:pt x="132" y="718"/>
                  </a:lnTo>
                  <a:lnTo>
                    <a:pt x="99" y="718"/>
                  </a:lnTo>
                  <a:lnTo>
                    <a:pt x="99" y="751"/>
                  </a:lnTo>
                  <a:lnTo>
                    <a:pt x="99" y="784"/>
                  </a:lnTo>
                  <a:lnTo>
                    <a:pt x="99" y="817"/>
                  </a:lnTo>
                  <a:lnTo>
                    <a:pt x="99" y="850"/>
                  </a:lnTo>
                  <a:lnTo>
                    <a:pt x="99" y="883"/>
                  </a:lnTo>
                  <a:lnTo>
                    <a:pt x="66" y="916"/>
                  </a:lnTo>
                  <a:lnTo>
                    <a:pt x="66" y="948"/>
                  </a:lnTo>
                  <a:lnTo>
                    <a:pt x="66" y="975"/>
                  </a:lnTo>
                  <a:lnTo>
                    <a:pt x="66" y="1008"/>
                  </a:lnTo>
                  <a:lnTo>
                    <a:pt x="66" y="1041"/>
                  </a:lnTo>
                  <a:lnTo>
                    <a:pt x="66" y="1074"/>
                  </a:lnTo>
                  <a:lnTo>
                    <a:pt x="66" y="1106"/>
                  </a:lnTo>
                  <a:lnTo>
                    <a:pt x="66" y="1139"/>
                  </a:lnTo>
                  <a:lnTo>
                    <a:pt x="66" y="1172"/>
                  </a:lnTo>
                  <a:lnTo>
                    <a:pt x="66" y="1205"/>
                  </a:lnTo>
                  <a:lnTo>
                    <a:pt x="66" y="1238"/>
                  </a:lnTo>
                  <a:lnTo>
                    <a:pt x="66" y="1271"/>
                  </a:lnTo>
                  <a:lnTo>
                    <a:pt x="66" y="1304"/>
                  </a:lnTo>
                  <a:lnTo>
                    <a:pt x="66" y="1337"/>
                  </a:lnTo>
                  <a:lnTo>
                    <a:pt x="66" y="1370"/>
                  </a:lnTo>
                  <a:lnTo>
                    <a:pt x="66" y="1403"/>
                  </a:lnTo>
                  <a:lnTo>
                    <a:pt x="66" y="1436"/>
                  </a:lnTo>
                  <a:lnTo>
                    <a:pt x="66" y="1469"/>
                  </a:lnTo>
                  <a:lnTo>
                    <a:pt x="33" y="1501"/>
                  </a:lnTo>
                  <a:lnTo>
                    <a:pt x="33" y="1534"/>
                  </a:lnTo>
                  <a:lnTo>
                    <a:pt x="33" y="1567"/>
                  </a:lnTo>
                  <a:lnTo>
                    <a:pt x="33" y="1594"/>
                  </a:lnTo>
                  <a:lnTo>
                    <a:pt x="33" y="1627"/>
                  </a:lnTo>
                  <a:lnTo>
                    <a:pt x="33" y="1660"/>
                  </a:lnTo>
                  <a:lnTo>
                    <a:pt x="33" y="1692"/>
                  </a:lnTo>
                  <a:lnTo>
                    <a:pt x="33" y="1725"/>
                  </a:lnTo>
                  <a:lnTo>
                    <a:pt x="33" y="1758"/>
                  </a:lnTo>
                  <a:lnTo>
                    <a:pt x="33" y="1791"/>
                  </a:lnTo>
                  <a:lnTo>
                    <a:pt x="33" y="1824"/>
                  </a:lnTo>
                  <a:lnTo>
                    <a:pt x="33" y="1857"/>
                  </a:lnTo>
                  <a:lnTo>
                    <a:pt x="33" y="1890"/>
                  </a:lnTo>
                  <a:lnTo>
                    <a:pt x="33" y="1923"/>
                  </a:lnTo>
                  <a:lnTo>
                    <a:pt x="33" y="1956"/>
                  </a:lnTo>
                  <a:lnTo>
                    <a:pt x="33" y="1989"/>
                  </a:lnTo>
                  <a:lnTo>
                    <a:pt x="33" y="2022"/>
                  </a:lnTo>
                  <a:lnTo>
                    <a:pt x="0" y="2055"/>
                  </a:lnTo>
                  <a:lnTo>
                    <a:pt x="0" y="2087"/>
                  </a:lnTo>
                  <a:lnTo>
                    <a:pt x="0" y="2120"/>
                  </a:lnTo>
                  <a:lnTo>
                    <a:pt x="0" y="2153"/>
                  </a:lnTo>
                  <a:lnTo>
                    <a:pt x="0" y="2186"/>
                  </a:lnTo>
                  <a:lnTo>
                    <a:pt x="0" y="2213"/>
                  </a:lnTo>
                  <a:lnTo>
                    <a:pt x="0" y="2245"/>
                  </a:lnTo>
                  <a:lnTo>
                    <a:pt x="0" y="2278"/>
                  </a:lnTo>
                  <a:lnTo>
                    <a:pt x="0" y="2311"/>
                  </a:lnTo>
                  <a:lnTo>
                    <a:pt x="0" y="2344"/>
                  </a:lnTo>
                  <a:lnTo>
                    <a:pt x="0" y="2377"/>
                  </a:lnTo>
                  <a:lnTo>
                    <a:pt x="0" y="2410"/>
                  </a:lnTo>
                  <a:lnTo>
                    <a:pt x="0" y="2443"/>
                  </a:lnTo>
                  <a:lnTo>
                    <a:pt x="0" y="2476"/>
                  </a:lnTo>
                  <a:lnTo>
                    <a:pt x="0" y="2509"/>
                  </a:lnTo>
                  <a:lnTo>
                    <a:pt x="0" y="2542"/>
                  </a:lnTo>
                  <a:lnTo>
                    <a:pt x="0" y="2575"/>
                  </a:lnTo>
                  <a:lnTo>
                    <a:pt x="0" y="2608"/>
                  </a:lnTo>
                  <a:lnTo>
                    <a:pt x="0" y="2640"/>
                  </a:lnTo>
                  <a:lnTo>
                    <a:pt x="33" y="2640"/>
                  </a:lnTo>
                  <a:lnTo>
                    <a:pt x="66" y="2673"/>
                  </a:lnTo>
                  <a:lnTo>
                    <a:pt x="99" y="2673"/>
                  </a:lnTo>
                  <a:lnTo>
                    <a:pt x="132" y="2706"/>
                  </a:lnTo>
                  <a:lnTo>
                    <a:pt x="165" y="2739"/>
                  </a:lnTo>
                  <a:lnTo>
                    <a:pt x="198" y="2739"/>
                  </a:lnTo>
                  <a:lnTo>
                    <a:pt x="231" y="2772"/>
                  </a:lnTo>
                  <a:lnTo>
                    <a:pt x="264" y="2805"/>
                  </a:lnTo>
                  <a:lnTo>
                    <a:pt x="290" y="2805"/>
                  </a:lnTo>
                  <a:lnTo>
                    <a:pt x="323" y="2831"/>
                  </a:lnTo>
                  <a:lnTo>
                    <a:pt x="356" y="2864"/>
                  </a:lnTo>
                  <a:lnTo>
                    <a:pt x="389" y="2864"/>
                  </a:lnTo>
                  <a:lnTo>
                    <a:pt x="422" y="2897"/>
                  </a:lnTo>
                  <a:lnTo>
                    <a:pt x="455" y="2930"/>
                  </a:lnTo>
                  <a:lnTo>
                    <a:pt x="488" y="2930"/>
                  </a:lnTo>
                  <a:lnTo>
                    <a:pt x="521" y="2963"/>
                  </a:lnTo>
                  <a:lnTo>
                    <a:pt x="554" y="2963"/>
                  </a:lnTo>
                  <a:lnTo>
                    <a:pt x="587" y="2996"/>
                  </a:lnTo>
                  <a:lnTo>
                    <a:pt x="620" y="3029"/>
                  </a:lnTo>
                  <a:lnTo>
                    <a:pt x="653" y="3029"/>
                  </a:lnTo>
                  <a:lnTo>
                    <a:pt x="686" y="3062"/>
                  </a:lnTo>
                  <a:lnTo>
                    <a:pt x="712" y="3095"/>
                  </a:lnTo>
                  <a:lnTo>
                    <a:pt x="745" y="3095"/>
                  </a:lnTo>
                  <a:lnTo>
                    <a:pt x="778" y="3128"/>
                  </a:lnTo>
                  <a:lnTo>
                    <a:pt x="811" y="3128"/>
                  </a:lnTo>
                  <a:lnTo>
                    <a:pt x="844" y="3161"/>
                  </a:lnTo>
                  <a:lnTo>
                    <a:pt x="877" y="3161"/>
                  </a:lnTo>
                  <a:lnTo>
                    <a:pt x="910" y="3161"/>
                  </a:lnTo>
                  <a:lnTo>
                    <a:pt x="943" y="3161"/>
                  </a:lnTo>
                  <a:close/>
                  <a:moveTo>
                    <a:pt x="857" y="1824"/>
                  </a:moveTo>
                  <a:lnTo>
                    <a:pt x="857" y="1818"/>
                  </a:lnTo>
                  <a:lnTo>
                    <a:pt x="864" y="1811"/>
                  </a:lnTo>
                  <a:lnTo>
                    <a:pt x="864" y="1798"/>
                  </a:lnTo>
                  <a:lnTo>
                    <a:pt x="864" y="1791"/>
                  </a:lnTo>
                  <a:lnTo>
                    <a:pt x="870" y="1778"/>
                  </a:lnTo>
                  <a:lnTo>
                    <a:pt x="870" y="1771"/>
                  </a:lnTo>
                  <a:lnTo>
                    <a:pt x="870" y="1758"/>
                  </a:lnTo>
                  <a:lnTo>
                    <a:pt x="864" y="1752"/>
                  </a:lnTo>
                  <a:lnTo>
                    <a:pt x="864" y="1745"/>
                  </a:lnTo>
                  <a:lnTo>
                    <a:pt x="857" y="1732"/>
                  </a:lnTo>
                  <a:lnTo>
                    <a:pt x="857" y="1725"/>
                  </a:lnTo>
                  <a:lnTo>
                    <a:pt x="850" y="1719"/>
                  </a:lnTo>
                  <a:lnTo>
                    <a:pt x="850" y="1706"/>
                  </a:lnTo>
                  <a:lnTo>
                    <a:pt x="844" y="1699"/>
                  </a:lnTo>
                  <a:lnTo>
                    <a:pt x="844" y="1692"/>
                  </a:lnTo>
                  <a:lnTo>
                    <a:pt x="850" y="1679"/>
                  </a:lnTo>
                  <a:lnTo>
                    <a:pt x="850" y="1673"/>
                  </a:lnTo>
                  <a:lnTo>
                    <a:pt x="850" y="1666"/>
                  </a:lnTo>
                  <a:lnTo>
                    <a:pt x="857" y="1660"/>
                  </a:lnTo>
                  <a:lnTo>
                    <a:pt x="864" y="1653"/>
                  </a:lnTo>
                  <a:lnTo>
                    <a:pt x="870" y="1646"/>
                  </a:lnTo>
                  <a:lnTo>
                    <a:pt x="877" y="1646"/>
                  </a:lnTo>
                  <a:lnTo>
                    <a:pt x="883" y="1646"/>
                  </a:lnTo>
                  <a:lnTo>
                    <a:pt x="890" y="1646"/>
                  </a:lnTo>
                  <a:lnTo>
                    <a:pt x="897" y="1640"/>
                  </a:lnTo>
                  <a:lnTo>
                    <a:pt x="903" y="1640"/>
                  </a:lnTo>
                  <a:lnTo>
                    <a:pt x="910" y="1640"/>
                  </a:lnTo>
                  <a:lnTo>
                    <a:pt x="916" y="1640"/>
                  </a:lnTo>
                  <a:lnTo>
                    <a:pt x="923" y="1640"/>
                  </a:lnTo>
                  <a:lnTo>
                    <a:pt x="929" y="1640"/>
                  </a:lnTo>
                  <a:lnTo>
                    <a:pt x="936" y="1640"/>
                  </a:lnTo>
                  <a:lnTo>
                    <a:pt x="949" y="1640"/>
                  </a:lnTo>
                  <a:lnTo>
                    <a:pt x="956" y="1640"/>
                  </a:lnTo>
                  <a:lnTo>
                    <a:pt x="962" y="1646"/>
                  </a:lnTo>
                  <a:lnTo>
                    <a:pt x="969" y="1646"/>
                  </a:lnTo>
                  <a:lnTo>
                    <a:pt x="969" y="1653"/>
                  </a:lnTo>
                  <a:lnTo>
                    <a:pt x="976" y="1660"/>
                  </a:lnTo>
                  <a:lnTo>
                    <a:pt x="982" y="1666"/>
                  </a:lnTo>
                  <a:lnTo>
                    <a:pt x="989" y="1673"/>
                  </a:lnTo>
                  <a:lnTo>
                    <a:pt x="989" y="1686"/>
                  </a:lnTo>
                  <a:lnTo>
                    <a:pt x="995" y="1692"/>
                  </a:lnTo>
                  <a:lnTo>
                    <a:pt x="995" y="1699"/>
                  </a:lnTo>
                  <a:lnTo>
                    <a:pt x="995" y="1712"/>
                  </a:lnTo>
                  <a:lnTo>
                    <a:pt x="1002" y="1719"/>
                  </a:lnTo>
                  <a:lnTo>
                    <a:pt x="1002" y="1732"/>
                  </a:lnTo>
                  <a:lnTo>
                    <a:pt x="1009" y="1739"/>
                  </a:lnTo>
                  <a:lnTo>
                    <a:pt x="1015" y="1739"/>
                  </a:lnTo>
                  <a:lnTo>
                    <a:pt x="1022" y="1745"/>
                  </a:lnTo>
                  <a:lnTo>
                    <a:pt x="1028" y="1745"/>
                  </a:lnTo>
                  <a:lnTo>
                    <a:pt x="1035" y="1752"/>
                  </a:lnTo>
                  <a:lnTo>
                    <a:pt x="1042" y="1752"/>
                  </a:lnTo>
                  <a:lnTo>
                    <a:pt x="1048" y="1758"/>
                  </a:lnTo>
                  <a:lnTo>
                    <a:pt x="1055" y="1765"/>
                  </a:lnTo>
                  <a:lnTo>
                    <a:pt x="1055" y="1771"/>
                  </a:lnTo>
                  <a:lnTo>
                    <a:pt x="1061" y="1785"/>
                  </a:lnTo>
                  <a:lnTo>
                    <a:pt x="1061" y="1791"/>
                  </a:lnTo>
                  <a:lnTo>
                    <a:pt x="1055" y="1798"/>
                  </a:lnTo>
                  <a:lnTo>
                    <a:pt x="1048" y="1804"/>
                  </a:lnTo>
                  <a:lnTo>
                    <a:pt x="1042" y="1804"/>
                  </a:lnTo>
                  <a:lnTo>
                    <a:pt x="1035" y="1804"/>
                  </a:lnTo>
                  <a:lnTo>
                    <a:pt x="1022" y="1804"/>
                  </a:lnTo>
                  <a:lnTo>
                    <a:pt x="1015" y="1811"/>
                  </a:lnTo>
                  <a:lnTo>
                    <a:pt x="1009" y="1811"/>
                  </a:lnTo>
                  <a:lnTo>
                    <a:pt x="1002" y="1811"/>
                  </a:lnTo>
                  <a:lnTo>
                    <a:pt x="995" y="1811"/>
                  </a:lnTo>
                  <a:lnTo>
                    <a:pt x="989" y="1804"/>
                  </a:lnTo>
                  <a:lnTo>
                    <a:pt x="982" y="1804"/>
                  </a:lnTo>
                  <a:lnTo>
                    <a:pt x="976" y="1804"/>
                  </a:lnTo>
                  <a:lnTo>
                    <a:pt x="969" y="1798"/>
                  </a:lnTo>
                  <a:lnTo>
                    <a:pt x="962" y="1798"/>
                  </a:lnTo>
                  <a:lnTo>
                    <a:pt x="956" y="1798"/>
                  </a:lnTo>
                  <a:lnTo>
                    <a:pt x="949" y="1791"/>
                  </a:lnTo>
                  <a:lnTo>
                    <a:pt x="943" y="1791"/>
                  </a:lnTo>
                  <a:lnTo>
                    <a:pt x="936" y="1791"/>
                  </a:lnTo>
                  <a:lnTo>
                    <a:pt x="929" y="1791"/>
                  </a:lnTo>
                  <a:lnTo>
                    <a:pt x="923" y="1791"/>
                  </a:lnTo>
                  <a:lnTo>
                    <a:pt x="916" y="1791"/>
                  </a:lnTo>
                  <a:lnTo>
                    <a:pt x="910" y="1791"/>
                  </a:lnTo>
                  <a:lnTo>
                    <a:pt x="916" y="1804"/>
                  </a:lnTo>
                  <a:lnTo>
                    <a:pt x="923" y="1818"/>
                  </a:lnTo>
                  <a:lnTo>
                    <a:pt x="923" y="1824"/>
                  </a:lnTo>
                  <a:lnTo>
                    <a:pt x="923" y="1824"/>
                  </a:lnTo>
                  <a:lnTo>
                    <a:pt x="916" y="1824"/>
                  </a:lnTo>
                  <a:lnTo>
                    <a:pt x="910" y="1831"/>
                  </a:lnTo>
                  <a:lnTo>
                    <a:pt x="897" y="1831"/>
                  </a:lnTo>
                  <a:lnTo>
                    <a:pt x="890" y="1831"/>
                  </a:lnTo>
                  <a:lnTo>
                    <a:pt x="883" y="1837"/>
                  </a:lnTo>
                  <a:lnTo>
                    <a:pt x="877" y="1837"/>
                  </a:lnTo>
                  <a:lnTo>
                    <a:pt x="870" y="1837"/>
                  </a:lnTo>
                  <a:lnTo>
                    <a:pt x="864" y="1837"/>
                  </a:lnTo>
                  <a:lnTo>
                    <a:pt x="864" y="1831"/>
                  </a:lnTo>
                  <a:lnTo>
                    <a:pt x="857" y="1824"/>
                  </a:lnTo>
                  <a:close/>
                  <a:moveTo>
                    <a:pt x="547" y="1791"/>
                  </a:moveTo>
                  <a:lnTo>
                    <a:pt x="547" y="1785"/>
                  </a:lnTo>
                  <a:lnTo>
                    <a:pt x="547" y="1771"/>
                  </a:lnTo>
                  <a:lnTo>
                    <a:pt x="541" y="1765"/>
                  </a:lnTo>
                  <a:lnTo>
                    <a:pt x="541" y="1758"/>
                  </a:lnTo>
                  <a:lnTo>
                    <a:pt x="534" y="1752"/>
                  </a:lnTo>
                  <a:lnTo>
                    <a:pt x="534" y="1739"/>
                  </a:lnTo>
                  <a:lnTo>
                    <a:pt x="528" y="1732"/>
                  </a:lnTo>
                  <a:lnTo>
                    <a:pt x="521" y="1725"/>
                  </a:lnTo>
                  <a:lnTo>
                    <a:pt x="521" y="1719"/>
                  </a:lnTo>
                  <a:lnTo>
                    <a:pt x="514" y="1712"/>
                  </a:lnTo>
                  <a:lnTo>
                    <a:pt x="508" y="1706"/>
                  </a:lnTo>
                  <a:lnTo>
                    <a:pt x="508" y="1699"/>
                  </a:lnTo>
                  <a:lnTo>
                    <a:pt x="501" y="1692"/>
                  </a:lnTo>
                  <a:lnTo>
                    <a:pt x="495" y="1686"/>
                  </a:lnTo>
                  <a:lnTo>
                    <a:pt x="495" y="1673"/>
                  </a:lnTo>
                  <a:lnTo>
                    <a:pt x="488" y="1666"/>
                  </a:lnTo>
                  <a:lnTo>
                    <a:pt x="488" y="1660"/>
                  </a:lnTo>
                  <a:lnTo>
                    <a:pt x="495" y="1653"/>
                  </a:lnTo>
                  <a:lnTo>
                    <a:pt x="501" y="1653"/>
                  </a:lnTo>
                  <a:lnTo>
                    <a:pt x="508" y="1653"/>
                  </a:lnTo>
                  <a:lnTo>
                    <a:pt x="514" y="1653"/>
                  </a:lnTo>
                  <a:lnTo>
                    <a:pt x="521" y="1653"/>
                  </a:lnTo>
                  <a:lnTo>
                    <a:pt x="528" y="1653"/>
                  </a:lnTo>
                  <a:lnTo>
                    <a:pt x="534" y="1653"/>
                  </a:lnTo>
                  <a:lnTo>
                    <a:pt x="541" y="1653"/>
                  </a:lnTo>
                  <a:lnTo>
                    <a:pt x="547" y="1653"/>
                  </a:lnTo>
                  <a:lnTo>
                    <a:pt x="554" y="1646"/>
                  </a:lnTo>
                  <a:lnTo>
                    <a:pt x="560" y="1646"/>
                  </a:lnTo>
                  <a:lnTo>
                    <a:pt x="567" y="1646"/>
                  </a:lnTo>
                  <a:lnTo>
                    <a:pt x="574" y="1646"/>
                  </a:lnTo>
                  <a:lnTo>
                    <a:pt x="580" y="1646"/>
                  </a:lnTo>
                  <a:lnTo>
                    <a:pt x="587" y="1646"/>
                  </a:lnTo>
                  <a:lnTo>
                    <a:pt x="593" y="1646"/>
                  </a:lnTo>
                  <a:lnTo>
                    <a:pt x="600" y="1653"/>
                  </a:lnTo>
                  <a:lnTo>
                    <a:pt x="607" y="1653"/>
                  </a:lnTo>
                  <a:lnTo>
                    <a:pt x="613" y="1653"/>
                  </a:lnTo>
                  <a:lnTo>
                    <a:pt x="620" y="1653"/>
                  </a:lnTo>
                  <a:lnTo>
                    <a:pt x="626" y="1653"/>
                  </a:lnTo>
                  <a:lnTo>
                    <a:pt x="633" y="1660"/>
                  </a:lnTo>
                  <a:lnTo>
                    <a:pt x="640" y="1660"/>
                  </a:lnTo>
                  <a:lnTo>
                    <a:pt x="646" y="1660"/>
                  </a:lnTo>
                  <a:lnTo>
                    <a:pt x="653" y="1660"/>
                  </a:lnTo>
                  <a:lnTo>
                    <a:pt x="659" y="1653"/>
                  </a:lnTo>
                  <a:lnTo>
                    <a:pt x="666" y="1646"/>
                  </a:lnTo>
                  <a:lnTo>
                    <a:pt x="673" y="1640"/>
                  </a:lnTo>
                  <a:lnTo>
                    <a:pt x="673" y="1633"/>
                  </a:lnTo>
                  <a:lnTo>
                    <a:pt x="679" y="1627"/>
                  </a:lnTo>
                  <a:lnTo>
                    <a:pt x="679" y="1620"/>
                  </a:lnTo>
                  <a:lnTo>
                    <a:pt x="679" y="1607"/>
                  </a:lnTo>
                  <a:lnTo>
                    <a:pt x="679" y="1600"/>
                  </a:lnTo>
                  <a:lnTo>
                    <a:pt x="686" y="1587"/>
                  </a:lnTo>
                  <a:lnTo>
                    <a:pt x="686" y="1581"/>
                  </a:lnTo>
                  <a:lnTo>
                    <a:pt x="686" y="1574"/>
                  </a:lnTo>
                  <a:lnTo>
                    <a:pt x="686" y="1561"/>
                  </a:lnTo>
                  <a:lnTo>
                    <a:pt x="686" y="1554"/>
                  </a:lnTo>
                  <a:lnTo>
                    <a:pt x="692" y="1541"/>
                  </a:lnTo>
                  <a:lnTo>
                    <a:pt x="692" y="1534"/>
                  </a:lnTo>
                  <a:lnTo>
                    <a:pt x="692" y="1528"/>
                  </a:lnTo>
                  <a:lnTo>
                    <a:pt x="692" y="1515"/>
                  </a:lnTo>
                  <a:lnTo>
                    <a:pt x="692" y="1508"/>
                  </a:lnTo>
                  <a:lnTo>
                    <a:pt x="699" y="1495"/>
                  </a:lnTo>
                  <a:lnTo>
                    <a:pt x="699" y="1488"/>
                  </a:lnTo>
                  <a:lnTo>
                    <a:pt x="699" y="1475"/>
                  </a:lnTo>
                  <a:lnTo>
                    <a:pt x="699" y="1469"/>
                  </a:lnTo>
                  <a:lnTo>
                    <a:pt x="692" y="1462"/>
                  </a:lnTo>
                  <a:lnTo>
                    <a:pt x="686" y="1455"/>
                  </a:lnTo>
                  <a:lnTo>
                    <a:pt x="679" y="1455"/>
                  </a:lnTo>
                  <a:lnTo>
                    <a:pt x="673" y="1462"/>
                  </a:lnTo>
                  <a:lnTo>
                    <a:pt x="666" y="1462"/>
                  </a:lnTo>
                  <a:lnTo>
                    <a:pt x="659" y="1469"/>
                  </a:lnTo>
                  <a:lnTo>
                    <a:pt x="653" y="1475"/>
                  </a:lnTo>
                  <a:lnTo>
                    <a:pt x="646" y="1475"/>
                  </a:lnTo>
                  <a:lnTo>
                    <a:pt x="646" y="1482"/>
                  </a:lnTo>
                  <a:lnTo>
                    <a:pt x="640" y="1488"/>
                  </a:lnTo>
                  <a:lnTo>
                    <a:pt x="633" y="1488"/>
                  </a:lnTo>
                  <a:lnTo>
                    <a:pt x="626" y="1495"/>
                  </a:lnTo>
                  <a:lnTo>
                    <a:pt x="620" y="1501"/>
                  </a:lnTo>
                  <a:lnTo>
                    <a:pt x="613" y="1501"/>
                  </a:lnTo>
                  <a:lnTo>
                    <a:pt x="607" y="1495"/>
                  </a:lnTo>
                  <a:lnTo>
                    <a:pt x="600" y="1488"/>
                  </a:lnTo>
                  <a:lnTo>
                    <a:pt x="593" y="1488"/>
                  </a:lnTo>
                  <a:lnTo>
                    <a:pt x="587" y="1482"/>
                  </a:lnTo>
                  <a:lnTo>
                    <a:pt x="580" y="1482"/>
                  </a:lnTo>
                  <a:lnTo>
                    <a:pt x="580" y="1475"/>
                  </a:lnTo>
                  <a:lnTo>
                    <a:pt x="574" y="1469"/>
                  </a:lnTo>
                  <a:lnTo>
                    <a:pt x="567" y="1462"/>
                  </a:lnTo>
                  <a:lnTo>
                    <a:pt x="560" y="1455"/>
                  </a:lnTo>
                  <a:lnTo>
                    <a:pt x="554" y="1449"/>
                  </a:lnTo>
                  <a:lnTo>
                    <a:pt x="547" y="1442"/>
                  </a:lnTo>
                  <a:lnTo>
                    <a:pt x="547" y="1436"/>
                  </a:lnTo>
                  <a:lnTo>
                    <a:pt x="547" y="1429"/>
                  </a:lnTo>
                  <a:lnTo>
                    <a:pt x="554" y="1416"/>
                  </a:lnTo>
                  <a:lnTo>
                    <a:pt x="554" y="1409"/>
                  </a:lnTo>
                  <a:lnTo>
                    <a:pt x="560" y="1403"/>
                  </a:lnTo>
                  <a:lnTo>
                    <a:pt x="567" y="1396"/>
                  </a:lnTo>
                  <a:lnTo>
                    <a:pt x="567" y="1390"/>
                  </a:lnTo>
                  <a:lnTo>
                    <a:pt x="574" y="1383"/>
                  </a:lnTo>
                  <a:lnTo>
                    <a:pt x="580" y="1376"/>
                  </a:lnTo>
                  <a:lnTo>
                    <a:pt x="587" y="1370"/>
                  </a:lnTo>
                  <a:lnTo>
                    <a:pt x="593" y="1370"/>
                  </a:lnTo>
                  <a:lnTo>
                    <a:pt x="600" y="1363"/>
                  </a:lnTo>
                  <a:lnTo>
                    <a:pt x="607" y="1357"/>
                  </a:lnTo>
                  <a:lnTo>
                    <a:pt x="607" y="1350"/>
                  </a:lnTo>
                  <a:lnTo>
                    <a:pt x="613" y="1343"/>
                  </a:lnTo>
                  <a:lnTo>
                    <a:pt x="620" y="1343"/>
                  </a:lnTo>
                  <a:lnTo>
                    <a:pt x="626" y="1350"/>
                  </a:lnTo>
                  <a:lnTo>
                    <a:pt x="633" y="1357"/>
                  </a:lnTo>
                  <a:lnTo>
                    <a:pt x="640" y="1357"/>
                  </a:lnTo>
                  <a:lnTo>
                    <a:pt x="646" y="1363"/>
                  </a:lnTo>
                  <a:lnTo>
                    <a:pt x="653" y="1370"/>
                  </a:lnTo>
                  <a:lnTo>
                    <a:pt x="659" y="1376"/>
                  </a:lnTo>
                  <a:lnTo>
                    <a:pt x="659" y="1383"/>
                  </a:lnTo>
                  <a:lnTo>
                    <a:pt x="666" y="1390"/>
                  </a:lnTo>
                  <a:lnTo>
                    <a:pt x="673" y="1390"/>
                  </a:lnTo>
                  <a:lnTo>
                    <a:pt x="679" y="1396"/>
                  </a:lnTo>
                  <a:lnTo>
                    <a:pt x="686" y="1403"/>
                  </a:lnTo>
                  <a:lnTo>
                    <a:pt x="692" y="1403"/>
                  </a:lnTo>
                  <a:lnTo>
                    <a:pt x="699" y="1409"/>
                  </a:lnTo>
                  <a:lnTo>
                    <a:pt x="705" y="1416"/>
                  </a:lnTo>
                  <a:lnTo>
                    <a:pt x="705" y="1422"/>
                  </a:lnTo>
                  <a:lnTo>
                    <a:pt x="712" y="1429"/>
                  </a:lnTo>
                  <a:lnTo>
                    <a:pt x="719" y="1429"/>
                  </a:lnTo>
                  <a:lnTo>
                    <a:pt x="725" y="1422"/>
                  </a:lnTo>
                  <a:lnTo>
                    <a:pt x="732" y="1422"/>
                  </a:lnTo>
                  <a:lnTo>
                    <a:pt x="738" y="1416"/>
                  </a:lnTo>
                  <a:lnTo>
                    <a:pt x="745" y="1409"/>
                  </a:lnTo>
                  <a:lnTo>
                    <a:pt x="752" y="1409"/>
                  </a:lnTo>
                  <a:lnTo>
                    <a:pt x="758" y="1403"/>
                  </a:lnTo>
                  <a:lnTo>
                    <a:pt x="765" y="1396"/>
                  </a:lnTo>
                  <a:lnTo>
                    <a:pt x="765" y="1390"/>
                  </a:lnTo>
                  <a:lnTo>
                    <a:pt x="771" y="1376"/>
                  </a:lnTo>
                  <a:lnTo>
                    <a:pt x="771" y="1370"/>
                  </a:lnTo>
                  <a:lnTo>
                    <a:pt x="771" y="1357"/>
                  </a:lnTo>
                  <a:lnTo>
                    <a:pt x="778" y="1350"/>
                  </a:lnTo>
                  <a:lnTo>
                    <a:pt x="785" y="1343"/>
                  </a:lnTo>
                  <a:lnTo>
                    <a:pt x="785" y="1343"/>
                  </a:lnTo>
                  <a:lnTo>
                    <a:pt x="798" y="1343"/>
                  </a:lnTo>
                  <a:lnTo>
                    <a:pt x="804" y="1337"/>
                  </a:lnTo>
                  <a:lnTo>
                    <a:pt x="811" y="1330"/>
                  </a:lnTo>
                  <a:lnTo>
                    <a:pt x="811" y="1330"/>
                  </a:lnTo>
                  <a:lnTo>
                    <a:pt x="817" y="1337"/>
                  </a:lnTo>
                  <a:lnTo>
                    <a:pt x="824" y="1337"/>
                  </a:lnTo>
                  <a:lnTo>
                    <a:pt x="831" y="1343"/>
                  </a:lnTo>
                  <a:lnTo>
                    <a:pt x="837" y="1343"/>
                  </a:lnTo>
                  <a:lnTo>
                    <a:pt x="844" y="1350"/>
                  </a:lnTo>
                  <a:lnTo>
                    <a:pt x="850" y="1357"/>
                  </a:lnTo>
                  <a:lnTo>
                    <a:pt x="850" y="1370"/>
                  </a:lnTo>
                  <a:lnTo>
                    <a:pt x="857" y="1376"/>
                  </a:lnTo>
                  <a:lnTo>
                    <a:pt x="857" y="1383"/>
                  </a:lnTo>
                  <a:lnTo>
                    <a:pt x="857" y="1396"/>
                  </a:lnTo>
                  <a:lnTo>
                    <a:pt x="857" y="1403"/>
                  </a:lnTo>
                  <a:lnTo>
                    <a:pt x="857" y="1416"/>
                  </a:lnTo>
                  <a:lnTo>
                    <a:pt x="850" y="1422"/>
                  </a:lnTo>
                  <a:lnTo>
                    <a:pt x="850" y="1429"/>
                  </a:lnTo>
                  <a:lnTo>
                    <a:pt x="844" y="1436"/>
                  </a:lnTo>
                  <a:lnTo>
                    <a:pt x="837" y="1442"/>
                  </a:lnTo>
                  <a:lnTo>
                    <a:pt x="837" y="1449"/>
                  </a:lnTo>
                  <a:lnTo>
                    <a:pt x="831" y="1462"/>
                  </a:lnTo>
                  <a:lnTo>
                    <a:pt x="824" y="1462"/>
                  </a:lnTo>
                  <a:lnTo>
                    <a:pt x="817" y="1469"/>
                  </a:lnTo>
                  <a:lnTo>
                    <a:pt x="811" y="1475"/>
                  </a:lnTo>
                  <a:lnTo>
                    <a:pt x="804" y="1475"/>
                  </a:lnTo>
                  <a:lnTo>
                    <a:pt x="804" y="1482"/>
                  </a:lnTo>
                  <a:lnTo>
                    <a:pt x="798" y="1488"/>
                  </a:lnTo>
                  <a:lnTo>
                    <a:pt x="791" y="1495"/>
                  </a:lnTo>
                  <a:lnTo>
                    <a:pt x="785" y="1501"/>
                  </a:lnTo>
                  <a:lnTo>
                    <a:pt x="785" y="1515"/>
                  </a:lnTo>
                  <a:lnTo>
                    <a:pt x="785" y="1521"/>
                  </a:lnTo>
                  <a:lnTo>
                    <a:pt x="778" y="1528"/>
                  </a:lnTo>
                  <a:lnTo>
                    <a:pt x="778" y="1541"/>
                  </a:lnTo>
                  <a:lnTo>
                    <a:pt x="771" y="1548"/>
                  </a:lnTo>
                  <a:lnTo>
                    <a:pt x="771" y="1554"/>
                  </a:lnTo>
                  <a:lnTo>
                    <a:pt x="771" y="1567"/>
                  </a:lnTo>
                  <a:lnTo>
                    <a:pt x="765" y="1574"/>
                  </a:lnTo>
                  <a:lnTo>
                    <a:pt x="765" y="1581"/>
                  </a:lnTo>
                  <a:lnTo>
                    <a:pt x="758" y="1594"/>
                  </a:lnTo>
                  <a:lnTo>
                    <a:pt x="758" y="1600"/>
                  </a:lnTo>
                  <a:lnTo>
                    <a:pt x="758" y="1607"/>
                  </a:lnTo>
                  <a:lnTo>
                    <a:pt x="752" y="1620"/>
                  </a:lnTo>
                  <a:lnTo>
                    <a:pt x="752" y="1627"/>
                  </a:lnTo>
                  <a:lnTo>
                    <a:pt x="752" y="1633"/>
                  </a:lnTo>
                  <a:lnTo>
                    <a:pt x="745" y="1646"/>
                  </a:lnTo>
                  <a:lnTo>
                    <a:pt x="745" y="1653"/>
                  </a:lnTo>
                  <a:lnTo>
                    <a:pt x="745" y="1660"/>
                  </a:lnTo>
                  <a:lnTo>
                    <a:pt x="745" y="1673"/>
                  </a:lnTo>
                  <a:lnTo>
                    <a:pt x="752" y="1679"/>
                  </a:lnTo>
                  <a:lnTo>
                    <a:pt x="758" y="1686"/>
                  </a:lnTo>
                  <a:lnTo>
                    <a:pt x="765" y="1692"/>
                  </a:lnTo>
                  <a:lnTo>
                    <a:pt x="765" y="1692"/>
                  </a:lnTo>
                  <a:lnTo>
                    <a:pt x="758" y="1699"/>
                  </a:lnTo>
                  <a:lnTo>
                    <a:pt x="752" y="1706"/>
                  </a:lnTo>
                  <a:lnTo>
                    <a:pt x="745" y="1712"/>
                  </a:lnTo>
                  <a:lnTo>
                    <a:pt x="738" y="1712"/>
                  </a:lnTo>
                  <a:lnTo>
                    <a:pt x="732" y="1712"/>
                  </a:lnTo>
                  <a:lnTo>
                    <a:pt x="725" y="1712"/>
                  </a:lnTo>
                  <a:lnTo>
                    <a:pt x="719" y="1712"/>
                  </a:lnTo>
                  <a:lnTo>
                    <a:pt x="712" y="1719"/>
                  </a:lnTo>
                  <a:lnTo>
                    <a:pt x="705" y="1719"/>
                  </a:lnTo>
                  <a:lnTo>
                    <a:pt x="699" y="1719"/>
                  </a:lnTo>
                  <a:lnTo>
                    <a:pt x="692" y="1719"/>
                  </a:lnTo>
                  <a:lnTo>
                    <a:pt x="686" y="1719"/>
                  </a:lnTo>
                  <a:lnTo>
                    <a:pt x="679" y="1719"/>
                  </a:lnTo>
                  <a:lnTo>
                    <a:pt x="673" y="1719"/>
                  </a:lnTo>
                  <a:lnTo>
                    <a:pt x="666" y="1712"/>
                  </a:lnTo>
                  <a:lnTo>
                    <a:pt x="659" y="1712"/>
                  </a:lnTo>
                  <a:lnTo>
                    <a:pt x="653" y="1706"/>
                  </a:lnTo>
                  <a:lnTo>
                    <a:pt x="646" y="1706"/>
                  </a:lnTo>
                  <a:lnTo>
                    <a:pt x="640" y="1699"/>
                  </a:lnTo>
                  <a:lnTo>
                    <a:pt x="633" y="1699"/>
                  </a:lnTo>
                  <a:lnTo>
                    <a:pt x="626" y="1692"/>
                  </a:lnTo>
                  <a:lnTo>
                    <a:pt x="626" y="1679"/>
                  </a:lnTo>
                  <a:lnTo>
                    <a:pt x="620" y="1679"/>
                  </a:lnTo>
                  <a:lnTo>
                    <a:pt x="613" y="1679"/>
                  </a:lnTo>
                  <a:lnTo>
                    <a:pt x="607" y="1686"/>
                  </a:lnTo>
                  <a:lnTo>
                    <a:pt x="607" y="1699"/>
                  </a:lnTo>
                  <a:lnTo>
                    <a:pt x="600" y="1706"/>
                  </a:lnTo>
                  <a:lnTo>
                    <a:pt x="600" y="1712"/>
                  </a:lnTo>
                  <a:lnTo>
                    <a:pt x="600" y="1725"/>
                  </a:lnTo>
                  <a:lnTo>
                    <a:pt x="593" y="1732"/>
                  </a:lnTo>
                  <a:lnTo>
                    <a:pt x="593" y="1739"/>
                  </a:lnTo>
                  <a:lnTo>
                    <a:pt x="593" y="1752"/>
                  </a:lnTo>
                  <a:lnTo>
                    <a:pt x="593" y="1758"/>
                  </a:lnTo>
                  <a:lnTo>
                    <a:pt x="593" y="1771"/>
                  </a:lnTo>
                  <a:lnTo>
                    <a:pt x="593" y="1778"/>
                  </a:lnTo>
                  <a:lnTo>
                    <a:pt x="593" y="1791"/>
                  </a:lnTo>
                  <a:lnTo>
                    <a:pt x="593" y="1798"/>
                  </a:lnTo>
                  <a:lnTo>
                    <a:pt x="593" y="1811"/>
                  </a:lnTo>
                  <a:lnTo>
                    <a:pt x="587" y="1818"/>
                  </a:lnTo>
                  <a:lnTo>
                    <a:pt x="587" y="1824"/>
                  </a:lnTo>
                  <a:lnTo>
                    <a:pt x="580" y="1831"/>
                  </a:lnTo>
                  <a:lnTo>
                    <a:pt x="574" y="1824"/>
                  </a:lnTo>
                  <a:lnTo>
                    <a:pt x="560" y="1824"/>
                  </a:lnTo>
                  <a:lnTo>
                    <a:pt x="554" y="1818"/>
                  </a:lnTo>
                  <a:lnTo>
                    <a:pt x="554" y="1811"/>
                  </a:lnTo>
                  <a:lnTo>
                    <a:pt x="547" y="1804"/>
                  </a:lnTo>
                  <a:lnTo>
                    <a:pt x="547" y="1791"/>
                  </a:lnTo>
                  <a:close/>
                  <a:moveTo>
                    <a:pt x="1780" y="1660"/>
                  </a:moveTo>
                  <a:lnTo>
                    <a:pt x="1773" y="1653"/>
                  </a:lnTo>
                  <a:lnTo>
                    <a:pt x="1766" y="1646"/>
                  </a:lnTo>
                  <a:lnTo>
                    <a:pt x="1760" y="1646"/>
                  </a:lnTo>
                  <a:lnTo>
                    <a:pt x="1753" y="1640"/>
                  </a:lnTo>
                  <a:lnTo>
                    <a:pt x="1747" y="1640"/>
                  </a:lnTo>
                  <a:lnTo>
                    <a:pt x="1740" y="1640"/>
                  </a:lnTo>
                  <a:lnTo>
                    <a:pt x="1733" y="1640"/>
                  </a:lnTo>
                  <a:lnTo>
                    <a:pt x="1727" y="1640"/>
                  </a:lnTo>
                  <a:lnTo>
                    <a:pt x="1720" y="1633"/>
                  </a:lnTo>
                  <a:lnTo>
                    <a:pt x="1714" y="1627"/>
                  </a:lnTo>
                  <a:lnTo>
                    <a:pt x="1714" y="1620"/>
                  </a:lnTo>
                  <a:lnTo>
                    <a:pt x="1720" y="1613"/>
                  </a:lnTo>
                  <a:lnTo>
                    <a:pt x="1733" y="1613"/>
                  </a:lnTo>
                  <a:lnTo>
                    <a:pt x="1740" y="1613"/>
                  </a:lnTo>
                  <a:lnTo>
                    <a:pt x="1747" y="1613"/>
                  </a:lnTo>
                  <a:lnTo>
                    <a:pt x="1753" y="1620"/>
                  </a:lnTo>
                  <a:lnTo>
                    <a:pt x="1760" y="1620"/>
                  </a:lnTo>
                  <a:lnTo>
                    <a:pt x="1766" y="1620"/>
                  </a:lnTo>
                  <a:lnTo>
                    <a:pt x="1773" y="1620"/>
                  </a:lnTo>
                  <a:lnTo>
                    <a:pt x="1780" y="1620"/>
                  </a:lnTo>
                  <a:lnTo>
                    <a:pt x="1786" y="1620"/>
                  </a:lnTo>
                  <a:lnTo>
                    <a:pt x="1799" y="1620"/>
                  </a:lnTo>
                  <a:lnTo>
                    <a:pt x="1806" y="1620"/>
                  </a:lnTo>
                  <a:lnTo>
                    <a:pt x="1812" y="1627"/>
                  </a:lnTo>
                  <a:lnTo>
                    <a:pt x="1819" y="1633"/>
                  </a:lnTo>
                  <a:lnTo>
                    <a:pt x="1826" y="1640"/>
                  </a:lnTo>
                  <a:lnTo>
                    <a:pt x="1832" y="1653"/>
                  </a:lnTo>
                  <a:lnTo>
                    <a:pt x="1832" y="1660"/>
                  </a:lnTo>
                  <a:lnTo>
                    <a:pt x="1826" y="1666"/>
                  </a:lnTo>
                  <a:lnTo>
                    <a:pt x="1819" y="1666"/>
                  </a:lnTo>
                  <a:lnTo>
                    <a:pt x="1812" y="1666"/>
                  </a:lnTo>
                  <a:lnTo>
                    <a:pt x="1799" y="1666"/>
                  </a:lnTo>
                  <a:lnTo>
                    <a:pt x="1793" y="1666"/>
                  </a:lnTo>
                  <a:lnTo>
                    <a:pt x="1786" y="1666"/>
                  </a:lnTo>
                  <a:lnTo>
                    <a:pt x="1780" y="1660"/>
                  </a:lnTo>
                  <a:close/>
                  <a:moveTo>
                    <a:pt x="1424" y="1594"/>
                  </a:moveTo>
                  <a:lnTo>
                    <a:pt x="1417" y="1594"/>
                  </a:lnTo>
                  <a:lnTo>
                    <a:pt x="1411" y="1594"/>
                  </a:lnTo>
                  <a:lnTo>
                    <a:pt x="1404" y="1594"/>
                  </a:lnTo>
                  <a:lnTo>
                    <a:pt x="1397" y="1594"/>
                  </a:lnTo>
                  <a:lnTo>
                    <a:pt x="1391" y="1594"/>
                  </a:lnTo>
                  <a:lnTo>
                    <a:pt x="1384" y="1594"/>
                  </a:lnTo>
                  <a:lnTo>
                    <a:pt x="1378" y="1587"/>
                  </a:lnTo>
                  <a:lnTo>
                    <a:pt x="1371" y="1587"/>
                  </a:lnTo>
                  <a:lnTo>
                    <a:pt x="1364" y="1587"/>
                  </a:lnTo>
                  <a:lnTo>
                    <a:pt x="1358" y="1587"/>
                  </a:lnTo>
                  <a:lnTo>
                    <a:pt x="1351" y="1581"/>
                  </a:lnTo>
                  <a:lnTo>
                    <a:pt x="1345" y="1581"/>
                  </a:lnTo>
                  <a:lnTo>
                    <a:pt x="1338" y="1581"/>
                  </a:lnTo>
                  <a:lnTo>
                    <a:pt x="1331" y="1581"/>
                  </a:lnTo>
                  <a:lnTo>
                    <a:pt x="1318" y="1574"/>
                  </a:lnTo>
                  <a:lnTo>
                    <a:pt x="1312" y="1574"/>
                  </a:lnTo>
                  <a:lnTo>
                    <a:pt x="1305" y="1567"/>
                  </a:lnTo>
                  <a:lnTo>
                    <a:pt x="1305" y="1561"/>
                  </a:lnTo>
                  <a:lnTo>
                    <a:pt x="1305" y="1554"/>
                  </a:lnTo>
                  <a:lnTo>
                    <a:pt x="1305" y="1541"/>
                  </a:lnTo>
                  <a:lnTo>
                    <a:pt x="1305" y="1534"/>
                  </a:lnTo>
                  <a:lnTo>
                    <a:pt x="1305" y="1521"/>
                  </a:lnTo>
                  <a:lnTo>
                    <a:pt x="1305" y="1515"/>
                  </a:lnTo>
                  <a:lnTo>
                    <a:pt x="1305" y="1501"/>
                  </a:lnTo>
                  <a:lnTo>
                    <a:pt x="1305" y="1495"/>
                  </a:lnTo>
                  <a:lnTo>
                    <a:pt x="1298" y="1482"/>
                  </a:lnTo>
                  <a:lnTo>
                    <a:pt x="1298" y="1475"/>
                  </a:lnTo>
                  <a:lnTo>
                    <a:pt x="1292" y="1469"/>
                  </a:lnTo>
                  <a:lnTo>
                    <a:pt x="1298" y="1462"/>
                  </a:lnTo>
                  <a:lnTo>
                    <a:pt x="1305" y="1455"/>
                  </a:lnTo>
                  <a:lnTo>
                    <a:pt x="1312" y="1455"/>
                  </a:lnTo>
                  <a:lnTo>
                    <a:pt x="1318" y="1455"/>
                  </a:lnTo>
                  <a:lnTo>
                    <a:pt x="1325" y="1462"/>
                  </a:lnTo>
                  <a:lnTo>
                    <a:pt x="1331" y="1469"/>
                  </a:lnTo>
                  <a:lnTo>
                    <a:pt x="1338" y="1469"/>
                  </a:lnTo>
                  <a:lnTo>
                    <a:pt x="1345" y="1462"/>
                  </a:lnTo>
                  <a:lnTo>
                    <a:pt x="1351" y="1462"/>
                  </a:lnTo>
                  <a:lnTo>
                    <a:pt x="1358" y="1462"/>
                  </a:lnTo>
                  <a:lnTo>
                    <a:pt x="1364" y="1462"/>
                  </a:lnTo>
                  <a:lnTo>
                    <a:pt x="1371" y="1462"/>
                  </a:lnTo>
                  <a:lnTo>
                    <a:pt x="1378" y="1469"/>
                  </a:lnTo>
                  <a:lnTo>
                    <a:pt x="1384" y="1469"/>
                  </a:lnTo>
                  <a:lnTo>
                    <a:pt x="1391" y="1475"/>
                  </a:lnTo>
                  <a:lnTo>
                    <a:pt x="1397" y="1475"/>
                  </a:lnTo>
                  <a:lnTo>
                    <a:pt x="1404" y="1482"/>
                  </a:lnTo>
                  <a:lnTo>
                    <a:pt x="1411" y="1482"/>
                  </a:lnTo>
                  <a:lnTo>
                    <a:pt x="1417" y="1488"/>
                  </a:lnTo>
                  <a:lnTo>
                    <a:pt x="1424" y="1495"/>
                  </a:lnTo>
                  <a:lnTo>
                    <a:pt x="1430" y="1501"/>
                  </a:lnTo>
                  <a:lnTo>
                    <a:pt x="1430" y="1508"/>
                  </a:lnTo>
                  <a:lnTo>
                    <a:pt x="1437" y="1515"/>
                  </a:lnTo>
                  <a:lnTo>
                    <a:pt x="1443" y="1521"/>
                  </a:lnTo>
                  <a:lnTo>
                    <a:pt x="1450" y="1528"/>
                  </a:lnTo>
                  <a:lnTo>
                    <a:pt x="1457" y="1534"/>
                  </a:lnTo>
                  <a:lnTo>
                    <a:pt x="1457" y="1541"/>
                  </a:lnTo>
                  <a:lnTo>
                    <a:pt x="1463" y="1548"/>
                  </a:lnTo>
                  <a:lnTo>
                    <a:pt x="1470" y="1554"/>
                  </a:lnTo>
                  <a:lnTo>
                    <a:pt x="1476" y="1561"/>
                  </a:lnTo>
                  <a:lnTo>
                    <a:pt x="1483" y="1561"/>
                  </a:lnTo>
                  <a:lnTo>
                    <a:pt x="1483" y="1567"/>
                  </a:lnTo>
                  <a:lnTo>
                    <a:pt x="1476" y="1574"/>
                  </a:lnTo>
                  <a:lnTo>
                    <a:pt x="1470" y="1581"/>
                  </a:lnTo>
                  <a:lnTo>
                    <a:pt x="1457" y="1581"/>
                  </a:lnTo>
                  <a:lnTo>
                    <a:pt x="1450" y="1587"/>
                  </a:lnTo>
                  <a:lnTo>
                    <a:pt x="1443" y="1594"/>
                  </a:lnTo>
                  <a:lnTo>
                    <a:pt x="1437" y="1594"/>
                  </a:lnTo>
                  <a:lnTo>
                    <a:pt x="1430" y="1594"/>
                  </a:lnTo>
                  <a:lnTo>
                    <a:pt x="1424" y="1594"/>
                  </a:lnTo>
                  <a:close/>
                  <a:moveTo>
                    <a:pt x="949" y="1534"/>
                  </a:moveTo>
                  <a:lnTo>
                    <a:pt x="943" y="1521"/>
                  </a:lnTo>
                  <a:lnTo>
                    <a:pt x="936" y="1515"/>
                  </a:lnTo>
                  <a:lnTo>
                    <a:pt x="936" y="1508"/>
                  </a:lnTo>
                  <a:lnTo>
                    <a:pt x="936" y="1495"/>
                  </a:lnTo>
                  <a:lnTo>
                    <a:pt x="936" y="1488"/>
                  </a:lnTo>
                  <a:lnTo>
                    <a:pt x="936" y="1475"/>
                  </a:lnTo>
                  <a:lnTo>
                    <a:pt x="936" y="1469"/>
                  </a:lnTo>
                  <a:lnTo>
                    <a:pt x="943" y="1462"/>
                  </a:lnTo>
                  <a:lnTo>
                    <a:pt x="943" y="1455"/>
                  </a:lnTo>
                  <a:lnTo>
                    <a:pt x="949" y="1442"/>
                  </a:lnTo>
                  <a:lnTo>
                    <a:pt x="956" y="1436"/>
                  </a:lnTo>
                  <a:lnTo>
                    <a:pt x="956" y="1429"/>
                  </a:lnTo>
                  <a:lnTo>
                    <a:pt x="962" y="1422"/>
                  </a:lnTo>
                  <a:lnTo>
                    <a:pt x="969" y="1416"/>
                  </a:lnTo>
                  <a:lnTo>
                    <a:pt x="969" y="1409"/>
                  </a:lnTo>
                  <a:lnTo>
                    <a:pt x="976" y="1396"/>
                  </a:lnTo>
                  <a:lnTo>
                    <a:pt x="982" y="1390"/>
                  </a:lnTo>
                  <a:lnTo>
                    <a:pt x="982" y="1383"/>
                  </a:lnTo>
                  <a:lnTo>
                    <a:pt x="989" y="1376"/>
                  </a:lnTo>
                  <a:lnTo>
                    <a:pt x="989" y="1370"/>
                  </a:lnTo>
                  <a:lnTo>
                    <a:pt x="995" y="1357"/>
                  </a:lnTo>
                  <a:lnTo>
                    <a:pt x="995" y="1350"/>
                  </a:lnTo>
                  <a:lnTo>
                    <a:pt x="1002" y="1337"/>
                  </a:lnTo>
                  <a:lnTo>
                    <a:pt x="1002" y="1330"/>
                  </a:lnTo>
                  <a:lnTo>
                    <a:pt x="1009" y="1324"/>
                  </a:lnTo>
                  <a:lnTo>
                    <a:pt x="1015" y="1317"/>
                  </a:lnTo>
                  <a:lnTo>
                    <a:pt x="1022" y="1317"/>
                  </a:lnTo>
                  <a:lnTo>
                    <a:pt x="1028" y="1317"/>
                  </a:lnTo>
                  <a:lnTo>
                    <a:pt x="1035" y="1317"/>
                  </a:lnTo>
                  <a:lnTo>
                    <a:pt x="1042" y="1324"/>
                  </a:lnTo>
                  <a:lnTo>
                    <a:pt x="1048" y="1324"/>
                  </a:lnTo>
                  <a:lnTo>
                    <a:pt x="1055" y="1324"/>
                  </a:lnTo>
                  <a:lnTo>
                    <a:pt x="1061" y="1330"/>
                  </a:lnTo>
                  <a:lnTo>
                    <a:pt x="1068" y="1337"/>
                  </a:lnTo>
                  <a:lnTo>
                    <a:pt x="1074" y="1343"/>
                  </a:lnTo>
                  <a:lnTo>
                    <a:pt x="1081" y="1350"/>
                  </a:lnTo>
                  <a:lnTo>
                    <a:pt x="1088" y="1357"/>
                  </a:lnTo>
                  <a:lnTo>
                    <a:pt x="1088" y="1363"/>
                  </a:lnTo>
                  <a:lnTo>
                    <a:pt x="1094" y="1370"/>
                  </a:lnTo>
                  <a:lnTo>
                    <a:pt x="1094" y="1376"/>
                  </a:lnTo>
                  <a:lnTo>
                    <a:pt x="1094" y="1390"/>
                  </a:lnTo>
                  <a:lnTo>
                    <a:pt x="1094" y="1396"/>
                  </a:lnTo>
                  <a:lnTo>
                    <a:pt x="1101" y="1409"/>
                  </a:lnTo>
                  <a:lnTo>
                    <a:pt x="1101" y="1416"/>
                  </a:lnTo>
                  <a:lnTo>
                    <a:pt x="1107" y="1422"/>
                  </a:lnTo>
                  <a:lnTo>
                    <a:pt x="1114" y="1429"/>
                  </a:lnTo>
                  <a:lnTo>
                    <a:pt x="1121" y="1429"/>
                  </a:lnTo>
                  <a:lnTo>
                    <a:pt x="1121" y="1436"/>
                  </a:lnTo>
                  <a:lnTo>
                    <a:pt x="1121" y="1442"/>
                  </a:lnTo>
                  <a:lnTo>
                    <a:pt x="1114" y="1449"/>
                  </a:lnTo>
                  <a:lnTo>
                    <a:pt x="1101" y="1449"/>
                  </a:lnTo>
                  <a:lnTo>
                    <a:pt x="1094" y="1449"/>
                  </a:lnTo>
                  <a:lnTo>
                    <a:pt x="1088" y="1455"/>
                  </a:lnTo>
                  <a:lnTo>
                    <a:pt x="1081" y="1455"/>
                  </a:lnTo>
                  <a:lnTo>
                    <a:pt x="1074" y="1455"/>
                  </a:lnTo>
                  <a:lnTo>
                    <a:pt x="1068" y="1462"/>
                  </a:lnTo>
                  <a:lnTo>
                    <a:pt x="1061" y="1469"/>
                  </a:lnTo>
                  <a:lnTo>
                    <a:pt x="1061" y="1475"/>
                  </a:lnTo>
                  <a:lnTo>
                    <a:pt x="1055" y="1482"/>
                  </a:lnTo>
                  <a:lnTo>
                    <a:pt x="1048" y="1495"/>
                  </a:lnTo>
                  <a:lnTo>
                    <a:pt x="1048" y="1501"/>
                  </a:lnTo>
                  <a:lnTo>
                    <a:pt x="1048" y="1508"/>
                  </a:lnTo>
                  <a:lnTo>
                    <a:pt x="1048" y="1521"/>
                  </a:lnTo>
                  <a:lnTo>
                    <a:pt x="1048" y="1528"/>
                  </a:lnTo>
                  <a:lnTo>
                    <a:pt x="1042" y="1541"/>
                  </a:lnTo>
                  <a:lnTo>
                    <a:pt x="1042" y="1548"/>
                  </a:lnTo>
                  <a:lnTo>
                    <a:pt x="1035" y="1554"/>
                  </a:lnTo>
                  <a:lnTo>
                    <a:pt x="1028" y="1554"/>
                  </a:lnTo>
                  <a:lnTo>
                    <a:pt x="1022" y="1561"/>
                  </a:lnTo>
                  <a:lnTo>
                    <a:pt x="1015" y="1561"/>
                  </a:lnTo>
                  <a:lnTo>
                    <a:pt x="1009" y="1554"/>
                  </a:lnTo>
                  <a:lnTo>
                    <a:pt x="1002" y="1554"/>
                  </a:lnTo>
                  <a:lnTo>
                    <a:pt x="989" y="1554"/>
                  </a:lnTo>
                  <a:lnTo>
                    <a:pt x="982" y="1554"/>
                  </a:lnTo>
                  <a:lnTo>
                    <a:pt x="976" y="1554"/>
                  </a:lnTo>
                  <a:lnTo>
                    <a:pt x="969" y="1548"/>
                  </a:lnTo>
                  <a:lnTo>
                    <a:pt x="969" y="1548"/>
                  </a:lnTo>
                  <a:lnTo>
                    <a:pt x="962" y="1541"/>
                  </a:lnTo>
                  <a:lnTo>
                    <a:pt x="956" y="1534"/>
                  </a:lnTo>
                  <a:lnTo>
                    <a:pt x="949" y="1534"/>
                  </a:lnTo>
                  <a:close/>
                  <a:moveTo>
                    <a:pt x="804" y="1271"/>
                  </a:moveTo>
                  <a:lnTo>
                    <a:pt x="804" y="1264"/>
                  </a:lnTo>
                  <a:lnTo>
                    <a:pt x="811" y="1258"/>
                  </a:lnTo>
                  <a:lnTo>
                    <a:pt x="817" y="1258"/>
                  </a:lnTo>
                  <a:lnTo>
                    <a:pt x="824" y="1258"/>
                  </a:lnTo>
                  <a:lnTo>
                    <a:pt x="831" y="1258"/>
                  </a:lnTo>
                  <a:lnTo>
                    <a:pt x="837" y="1258"/>
                  </a:lnTo>
                  <a:lnTo>
                    <a:pt x="844" y="1258"/>
                  </a:lnTo>
                  <a:lnTo>
                    <a:pt x="850" y="1264"/>
                  </a:lnTo>
                  <a:lnTo>
                    <a:pt x="857" y="1264"/>
                  </a:lnTo>
                  <a:lnTo>
                    <a:pt x="857" y="1271"/>
                  </a:lnTo>
                  <a:lnTo>
                    <a:pt x="857" y="1278"/>
                  </a:lnTo>
                  <a:lnTo>
                    <a:pt x="850" y="1284"/>
                  </a:lnTo>
                  <a:lnTo>
                    <a:pt x="844" y="1291"/>
                  </a:lnTo>
                  <a:lnTo>
                    <a:pt x="837" y="1291"/>
                  </a:lnTo>
                  <a:lnTo>
                    <a:pt x="831" y="1291"/>
                  </a:lnTo>
                  <a:lnTo>
                    <a:pt x="824" y="1291"/>
                  </a:lnTo>
                  <a:lnTo>
                    <a:pt x="817" y="1284"/>
                  </a:lnTo>
                  <a:lnTo>
                    <a:pt x="811" y="1284"/>
                  </a:lnTo>
                  <a:lnTo>
                    <a:pt x="804" y="1278"/>
                  </a:lnTo>
                  <a:lnTo>
                    <a:pt x="804" y="1271"/>
                  </a:lnTo>
                  <a:close/>
                  <a:moveTo>
                    <a:pt x="1424" y="718"/>
                  </a:moveTo>
                  <a:lnTo>
                    <a:pt x="1430" y="705"/>
                  </a:lnTo>
                  <a:lnTo>
                    <a:pt x="1430" y="698"/>
                  </a:lnTo>
                  <a:lnTo>
                    <a:pt x="1437" y="685"/>
                  </a:lnTo>
                  <a:lnTo>
                    <a:pt x="1437" y="679"/>
                  </a:lnTo>
                  <a:lnTo>
                    <a:pt x="1443" y="665"/>
                  </a:lnTo>
                  <a:lnTo>
                    <a:pt x="1443" y="659"/>
                  </a:lnTo>
                  <a:lnTo>
                    <a:pt x="1443" y="646"/>
                  </a:lnTo>
                  <a:lnTo>
                    <a:pt x="1450" y="639"/>
                  </a:lnTo>
                  <a:lnTo>
                    <a:pt x="1450" y="626"/>
                  </a:lnTo>
                  <a:lnTo>
                    <a:pt x="1457" y="619"/>
                  </a:lnTo>
                  <a:lnTo>
                    <a:pt x="1463" y="613"/>
                  </a:lnTo>
                  <a:lnTo>
                    <a:pt x="1470" y="606"/>
                  </a:lnTo>
                  <a:lnTo>
                    <a:pt x="1476" y="600"/>
                  </a:lnTo>
                  <a:lnTo>
                    <a:pt x="1483" y="593"/>
                  </a:lnTo>
                  <a:lnTo>
                    <a:pt x="1483" y="586"/>
                  </a:lnTo>
                  <a:lnTo>
                    <a:pt x="1496" y="586"/>
                  </a:lnTo>
                  <a:lnTo>
                    <a:pt x="1503" y="580"/>
                  </a:lnTo>
                  <a:lnTo>
                    <a:pt x="1509" y="580"/>
                  </a:lnTo>
                  <a:lnTo>
                    <a:pt x="1516" y="580"/>
                  </a:lnTo>
                  <a:lnTo>
                    <a:pt x="1523" y="580"/>
                  </a:lnTo>
                  <a:lnTo>
                    <a:pt x="1529" y="573"/>
                  </a:lnTo>
                  <a:lnTo>
                    <a:pt x="1536" y="573"/>
                  </a:lnTo>
                  <a:lnTo>
                    <a:pt x="1549" y="573"/>
                  </a:lnTo>
                  <a:lnTo>
                    <a:pt x="1555" y="573"/>
                  </a:lnTo>
                  <a:lnTo>
                    <a:pt x="1562" y="567"/>
                  </a:lnTo>
                  <a:lnTo>
                    <a:pt x="1569" y="567"/>
                  </a:lnTo>
                  <a:lnTo>
                    <a:pt x="1575" y="567"/>
                  </a:lnTo>
                  <a:lnTo>
                    <a:pt x="1582" y="567"/>
                  </a:lnTo>
                  <a:lnTo>
                    <a:pt x="1588" y="560"/>
                  </a:lnTo>
                  <a:lnTo>
                    <a:pt x="1602" y="560"/>
                  </a:lnTo>
                  <a:lnTo>
                    <a:pt x="1608" y="560"/>
                  </a:lnTo>
                  <a:lnTo>
                    <a:pt x="1615" y="553"/>
                  </a:lnTo>
                  <a:lnTo>
                    <a:pt x="1621" y="560"/>
                  </a:lnTo>
                  <a:lnTo>
                    <a:pt x="1628" y="567"/>
                  </a:lnTo>
                  <a:lnTo>
                    <a:pt x="1635" y="573"/>
                  </a:lnTo>
                  <a:lnTo>
                    <a:pt x="1635" y="580"/>
                  </a:lnTo>
                  <a:lnTo>
                    <a:pt x="1641" y="593"/>
                  </a:lnTo>
                  <a:lnTo>
                    <a:pt x="1648" y="600"/>
                  </a:lnTo>
                  <a:lnTo>
                    <a:pt x="1648" y="613"/>
                  </a:lnTo>
                  <a:lnTo>
                    <a:pt x="1654" y="619"/>
                  </a:lnTo>
                  <a:lnTo>
                    <a:pt x="1654" y="626"/>
                  </a:lnTo>
                  <a:lnTo>
                    <a:pt x="1648" y="639"/>
                  </a:lnTo>
                  <a:lnTo>
                    <a:pt x="1641" y="646"/>
                  </a:lnTo>
                  <a:lnTo>
                    <a:pt x="1635" y="652"/>
                  </a:lnTo>
                  <a:lnTo>
                    <a:pt x="1628" y="659"/>
                  </a:lnTo>
                  <a:lnTo>
                    <a:pt x="1621" y="659"/>
                  </a:lnTo>
                  <a:lnTo>
                    <a:pt x="1615" y="665"/>
                  </a:lnTo>
                  <a:lnTo>
                    <a:pt x="1608" y="672"/>
                  </a:lnTo>
                  <a:lnTo>
                    <a:pt x="1602" y="685"/>
                  </a:lnTo>
                  <a:lnTo>
                    <a:pt x="1602" y="692"/>
                  </a:lnTo>
                  <a:lnTo>
                    <a:pt x="1595" y="705"/>
                  </a:lnTo>
                  <a:lnTo>
                    <a:pt x="1595" y="711"/>
                  </a:lnTo>
                  <a:lnTo>
                    <a:pt x="1588" y="718"/>
                  </a:lnTo>
                  <a:lnTo>
                    <a:pt x="1582" y="718"/>
                  </a:lnTo>
                  <a:lnTo>
                    <a:pt x="1575" y="718"/>
                  </a:lnTo>
                  <a:lnTo>
                    <a:pt x="1562" y="711"/>
                  </a:lnTo>
                  <a:lnTo>
                    <a:pt x="1555" y="711"/>
                  </a:lnTo>
                  <a:lnTo>
                    <a:pt x="1549" y="711"/>
                  </a:lnTo>
                  <a:lnTo>
                    <a:pt x="1542" y="711"/>
                  </a:lnTo>
                  <a:lnTo>
                    <a:pt x="1536" y="711"/>
                  </a:lnTo>
                  <a:lnTo>
                    <a:pt x="1523" y="711"/>
                  </a:lnTo>
                  <a:lnTo>
                    <a:pt x="1516" y="711"/>
                  </a:lnTo>
                  <a:lnTo>
                    <a:pt x="1509" y="718"/>
                  </a:lnTo>
                  <a:lnTo>
                    <a:pt x="1503" y="718"/>
                  </a:lnTo>
                  <a:lnTo>
                    <a:pt x="1496" y="718"/>
                  </a:lnTo>
                  <a:lnTo>
                    <a:pt x="1490" y="718"/>
                  </a:lnTo>
                  <a:lnTo>
                    <a:pt x="1476" y="718"/>
                  </a:lnTo>
                  <a:lnTo>
                    <a:pt x="1470" y="718"/>
                  </a:lnTo>
                  <a:lnTo>
                    <a:pt x="1463" y="718"/>
                  </a:lnTo>
                  <a:lnTo>
                    <a:pt x="1457" y="718"/>
                  </a:lnTo>
                  <a:lnTo>
                    <a:pt x="1450" y="718"/>
                  </a:lnTo>
                  <a:lnTo>
                    <a:pt x="1443" y="718"/>
                  </a:lnTo>
                  <a:lnTo>
                    <a:pt x="1430" y="718"/>
                  </a:lnTo>
                  <a:lnTo>
                    <a:pt x="1424" y="718"/>
                  </a:lnTo>
                  <a:close/>
                  <a:moveTo>
                    <a:pt x="943" y="3161"/>
                  </a:moveTo>
                  <a:lnTo>
                    <a:pt x="976" y="3128"/>
                  </a:lnTo>
                  <a:lnTo>
                    <a:pt x="1009" y="3128"/>
                  </a:lnTo>
                  <a:lnTo>
                    <a:pt x="1042" y="3095"/>
                  </a:lnTo>
                  <a:lnTo>
                    <a:pt x="1074" y="3095"/>
                  </a:lnTo>
                  <a:lnTo>
                    <a:pt x="1107" y="3095"/>
                  </a:lnTo>
                  <a:lnTo>
                    <a:pt x="1134" y="3062"/>
                  </a:lnTo>
                  <a:lnTo>
                    <a:pt x="1167" y="3062"/>
                  </a:lnTo>
                  <a:lnTo>
                    <a:pt x="1200" y="3029"/>
                  </a:lnTo>
                  <a:lnTo>
                    <a:pt x="1233" y="3029"/>
                  </a:lnTo>
                  <a:lnTo>
                    <a:pt x="1266" y="2996"/>
                  </a:lnTo>
                  <a:lnTo>
                    <a:pt x="1298" y="2996"/>
                  </a:lnTo>
                  <a:lnTo>
                    <a:pt x="1331" y="2996"/>
                  </a:lnTo>
                  <a:lnTo>
                    <a:pt x="1331" y="2963"/>
                  </a:lnTo>
                  <a:lnTo>
                    <a:pt x="1364" y="2930"/>
                  </a:lnTo>
                  <a:lnTo>
                    <a:pt x="1364" y="2897"/>
                  </a:lnTo>
                  <a:lnTo>
                    <a:pt x="1397" y="2864"/>
                  </a:lnTo>
                  <a:lnTo>
                    <a:pt x="1397" y="2831"/>
                  </a:lnTo>
                  <a:lnTo>
                    <a:pt x="1430" y="2805"/>
                  </a:lnTo>
                  <a:lnTo>
                    <a:pt x="1430" y="2772"/>
                  </a:lnTo>
                  <a:lnTo>
                    <a:pt x="1463" y="2739"/>
                  </a:lnTo>
                  <a:lnTo>
                    <a:pt x="1496" y="2706"/>
                  </a:lnTo>
                  <a:lnTo>
                    <a:pt x="1496" y="2673"/>
                  </a:lnTo>
                  <a:lnTo>
                    <a:pt x="1529" y="2640"/>
                  </a:lnTo>
                  <a:lnTo>
                    <a:pt x="1529" y="2608"/>
                  </a:lnTo>
                  <a:lnTo>
                    <a:pt x="1555" y="2575"/>
                  </a:lnTo>
                  <a:lnTo>
                    <a:pt x="1555" y="2542"/>
                  </a:lnTo>
                  <a:lnTo>
                    <a:pt x="1588" y="2509"/>
                  </a:lnTo>
                  <a:lnTo>
                    <a:pt x="1588" y="2476"/>
                  </a:lnTo>
                  <a:lnTo>
                    <a:pt x="1621" y="2443"/>
                  </a:lnTo>
                  <a:lnTo>
                    <a:pt x="1621" y="2410"/>
                  </a:lnTo>
                  <a:lnTo>
                    <a:pt x="1654" y="2377"/>
                  </a:lnTo>
                  <a:lnTo>
                    <a:pt x="1654" y="2344"/>
                  </a:lnTo>
                  <a:lnTo>
                    <a:pt x="1687" y="2311"/>
                  </a:lnTo>
                  <a:lnTo>
                    <a:pt x="1687" y="2278"/>
                  </a:lnTo>
                  <a:lnTo>
                    <a:pt x="1720" y="2245"/>
                  </a:lnTo>
                  <a:lnTo>
                    <a:pt x="1753" y="2213"/>
                  </a:lnTo>
                  <a:lnTo>
                    <a:pt x="1753" y="2186"/>
                  </a:lnTo>
                  <a:lnTo>
                    <a:pt x="1786" y="2153"/>
                  </a:lnTo>
                  <a:lnTo>
                    <a:pt x="1786" y="2120"/>
                  </a:lnTo>
                  <a:lnTo>
                    <a:pt x="1819" y="2087"/>
                  </a:lnTo>
                  <a:lnTo>
                    <a:pt x="1819" y="2055"/>
                  </a:lnTo>
                  <a:lnTo>
                    <a:pt x="1852" y="2022"/>
                  </a:lnTo>
                  <a:lnTo>
                    <a:pt x="1852" y="1989"/>
                  </a:lnTo>
                  <a:lnTo>
                    <a:pt x="1885" y="1956"/>
                  </a:lnTo>
                  <a:lnTo>
                    <a:pt x="1885" y="1923"/>
                  </a:lnTo>
                  <a:lnTo>
                    <a:pt x="1918" y="1890"/>
                  </a:lnTo>
                  <a:lnTo>
                    <a:pt x="1918" y="1857"/>
                  </a:lnTo>
                  <a:lnTo>
                    <a:pt x="1944" y="1824"/>
                  </a:lnTo>
                  <a:lnTo>
                    <a:pt x="1944" y="1791"/>
                  </a:lnTo>
                  <a:lnTo>
                    <a:pt x="1977" y="1758"/>
                  </a:lnTo>
                  <a:lnTo>
                    <a:pt x="1977" y="1725"/>
                  </a:lnTo>
                  <a:lnTo>
                    <a:pt x="1977" y="1692"/>
                  </a:lnTo>
                  <a:lnTo>
                    <a:pt x="1977" y="1660"/>
                  </a:lnTo>
                  <a:lnTo>
                    <a:pt x="2010" y="1627"/>
                  </a:lnTo>
                  <a:lnTo>
                    <a:pt x="2010" y="1594"/>
                  </a:lnTo>
                  <a:lnTo>
                    <a:pt x="2010" y="1567"/>
                  </a:lnTo>
                  <a:lnTo>
                    <a:pt x="2010" y="1534"/>
                  </a:lnTo>
                  <a:lnTo>
                    <a:pt x="2043" y="1501"/>
                  </a:lnTo>
                  <a:lnTo>
                    <a:pt x="2043" y="1469"/>
                  </a:lnTo>
                  <a:lnTo>
                    <a:pt x="2043" y="1436"/>
                  </a:lnTo>
                  <a:lnTo>
                    <a:pt x="2043" y="1403"/>
                  </a:lnTo>
                  <a:lnTo>
                    <a:pt x="2043" y="1370"/>
                  </a:lnTo>
                  <a:lnTo>
                    <a:pt x="2043" y="1337"/>
                  </a:lnTo>
                  <a:lnTo>
                    <a:pt x="2076" y="1304"/>
                  </a:lnTo>
                  <a:lnTo>
                    <a:pt x="2076" y="1271"/>
                  </a:lnTo>
                  <a:lnTo>
                    <a:pt x="2076" y="1238"/>
                  </a:lnTo>
                  <a:lnTo>
                    <a:pt x="2076" y="1205"/>
                  </a:lnTo>
                  <a:lnTo>
                    <a:pt x="2076" y="1172"/>
                  </a:lnTo>
                  <a:lnTo>
                    <a:pt x="2076" y="1139"/>
                  </a:lnTo>
                  <a:lnTo>
                    <a:pt x="2076" y="1106"/>
                  </a:lnTo>
                  <a:lnTo>
                    <a:pt x="2109" y="1074"/>
                  </a:lnTo>
                  <a:lnTo>
                    <a:pt x="2109" y="1041"/>
                  </a:lnTo>
                  <a:lnTo>
                    <a:pt x="2109" y="1008"/>
                  </a:lnTo>
                  <a:lnTo>
                    <a:pt x="2109" y="975"/>
                  </a:lnTo>
                  <a:lnTo>
                    <a:pt x="2109" y="948"/>
                  </a:lnTo>
                  <a:lnTo>
                    <a:pt x="2109" y="916"/>
                  </a:lnTo>
                  <a:lnTo>
                    <a:pt x="2109" y="883"/>
                  </a:lnTo>
                  <a:lnTo>
                    <a:pt x="2142" y="850"/>
                  </a:lnTo>
                  <a:lnTo>
                    <a:pt x="2142" y="817"/>
                  </a:lnTo>
                  <a:lnTo>
                    <a:pt x="2142" y="784"/>
                  </a:lnTo>
                  <a:lnTo>
                    <a:pt x="2142" y="751"/>
                  </a:lnTo>
                  <a:lnTo>
                    <a:pt x="2142" y="718"/>
                  </a:lnTo>
                  <a:lnTo>
                    <a:pt x="2142" y="685"/>
                  </a:lnTo>
                  <a:lnTo>
                    <a:pt x="2142" y="652"/>
                  </a:lnTo>
                  <a:lnTo>
                    <a:pt x="2175" y="619"/>
                  </a:lnTo>
                  <a:lnTo>
                    <a:pt x="2175" y="586"/>
                  </a:lnTo>
                  <a:lnTo>
                    <a:pt x="2175" y="553"/>
                  </a:lnTo>
                  <a:lnTo>
                    <a:pt x="2175" y="521"/>
                  </a:lnTo>
                  <a:lnTo>
                    <a:pt x="2175" y="488"/>
                  </a:lnTo>
                  <a:lnTo>
                    <a:pt x="2175" y="455"/>
                  </a:lnTo>
                  <a:lnTo>
                    <a:pt x="2175" y="422"/>
                  </a:lnTo>
                  <a:lnTo>
                    <a:pt x="2208" y="389"/>
                  </a:lnTo>
                  <a:lnTo>
                    <a:pt x="2208" y="356"/>
                  </a:lnTo>
                  <a:lnTo>
                    <a:pt x="2208" y="330"/>
                  </a:lnTo>
                  <a:lnTo>
                    <a:pt x="2208" y="297"/>
                  </a:lnTo>
                  <a:lnTo>
                    <a:pt x="2208" y="264"/>
                  </a:lnTo>
                  <a:lnTo>
                    <a:pt x="2208" y="231"/>
                  </a:lnTo>
                  <a:lnTo>
                    <a:pt x="2208" y="198"/>
                  </a:lnTo>
                  <a:lnTo>
                    <a:pt x="2241" y="165"/>
                  </a:lnTo>
                  <a:lnTo>
                    <a:pt x="2241" y="132"/>
                  </a:lnTo>
                  <a:lnTo>
                    <a:pt x="2241" y="99"/>
                  </a:lnTo>
                  <a:lnTo>
                    <a:pt x="2241" y="66"/>
                  </a:lnTo>
                  <a:lnTo>
                    <a:pt x="2241" y="33"/>
                  </a:lnTo>
                  <a:lnTo>
                    <a:pt x="2241" y="0"/>
                  </a:lnTo>
                  <a:lnTo>
                    <a:pt x="2208" y="0"/>
                  </a:lnTo>
                  <a:lnTo>
                    <a:pt x="2175" y="0"/>
                  </a:lnTo>
                  <a:lnTo>
                    <a:pt x="2142" y="0"/>
                  </a:lnTo>
                  <a:lnTo>
                    <a:pt x="2109" y="0"/>
                  </a:lnTo>
                  <a:lnTo>
                    <a:pt x="2076" y="33"/>
                  </a:lnTo>
                  <a:lnTo>
                    <a:pt x="2043" y="33"/>
                  </a:lnTo>
                  <a:lnTo>
                    <a:pt x="2010" y="33"/>
                  </a:lnTo>
                  <a:lnTo>
                    <a:pt x="1977" y="66"/>
                  </a:lnTo>
                  <a:lnTo>
                    <a:pt x="1944" y="66"/>
                  </a:lnTo>
                  <a:lnTo>
                    <a:pt x="1918" y="66"/>
                  </a:lnTo>
                  <a:lnTo>
                    <a:pt x="1885" y="99"/>
                  </a:lnTo>
                  <a:lnTo>
                    <a:pt x="1852" y="99"/>
                  </a:lnTo>
                  <a:lnTo>
                    <a:pt x="1819" y="132"/>
                  </a:lnTo>
                  <a:lnTo>
                    <a:pt x="1786" y="132"/>
                  </a:lnTo>
                  <a:lnTo>
                    <a:pt x="1753" y="132"/>
                  </a:lnTo>
                  <a:lnTo>
                    <a:pt x="1720" y="165"/>
                  </a:lnTo>
                  <a:lnTo>
                    <a:pt x="1687" y="165"/>
                  </a:lnTo>
                  <a:lnTo>
                    <a:pt x="1654" y="165"/>
                  </a:lnTo>
                  <a:lnTo>
                    <a:pt x="1621" y="198"/>
                  </a:lnTo>
                  <a:lnTo>
                    <a:pt x="1588" y="198"/>
                  </a:lnTo>
                  <a:lnTo>
                    <a:pt x="1555" y="198"/>
                  </a:lnTo>
                  <a:lnTo>
                    <a:pt x="1529" y="231"/>
                  </a:lnTo>
                  <a:lnTo>
                    <a:pt x="1496" y="231"/>
                  </a:lnTo>
                  <a:lnTo>
                    <a:pt x="1463" y="231"/>
                  </a:lnTo>
                  <a:lnTo>
                    <a:pt x="1430" y="264"/>
                  </a:lnTo>
                  <a:lnTo>
                    <a:pt x="1397" y="264"/>
                  </a:lnTo>
                  <a:lnTo>
                    <a:pt x="1364" y="264"/>
                  </a:lnTo>
                  <a:lnTo>
                    <a:pt x="1331" y="297"/>
                  </a:lnTo>
                  <a:lnTo>
                    <a:pt x="1298" y="297"/>
                  </a:lnTo>
                  <a:lnTo>
                    <a:pt x="1266" y="297"/>
                  </a:lnTo>
                  <a:lnTo>
                    <a:pt x="1233" y="330"/>
                  </a:lnTo>
                  <a:lnTo>
                    <a:pt x="1200" y="330"/>
                  </a:lnTo>
                  <a:lnTo>
                    <a:pt x="1167" y="356"/>
                  </a:lnTo>
                  <a:lnTo>
                    <a:pt x="1134" y="356"/>
                  </a:lnTo>
                  <a:lnTo>
                    <a:pt x="1107" y="356"/>
                  </a:lnTo>
                  <a:lnTo>
                    <a:pt x="1074" y="389"/>
                  </a:lnTo>
                  <a:lnTo>
                    <a:pt x="1042" y="389"/>
                  </a:lnTo>
                  <a:lnTo>
                    <a:pt x="1009" y="389"/>
                  </a:lnTo>
                  <a:lnTo>
                    <a:pt x="976" y="422"/>
                  </a:lnTo>
                  <a:lnTo>
                    <a:pt x="943" y="422"/>
                  </a:lnTo>
                  <a:lnTo>
                    <a:pt x="910" y="422"/>
                  </a:lnTo>
                  <a:lnTo>
                    <a:pt x="877" y="455"/>
                  </a:lnTo>
                  <a:lnTo>
                    <a:pt x="844" y="455"/>
                  </a:lnTo>
                  <a:lnTo>
                    <a:pt x="811" y="455"/>
                  </a:lnTo>
                  <a:lnTo>
                    <a:pt x="778" y="488"/>
                  </a:lnTo>
                  <a:lnTo>
                    <a:pt x="745" y="488"/>
                  </a:lnTo>
                  <a:lnTo>
                    <a:pt x="712" y="488"/>
                  </a:lnTo>
                  <a:lnTo>
                    <a:pt x="686" y="521"/>
                  </a:lnTo>
                  <a:lnTo>
                    <a:pt x="653" y="521"/>
                  </a:lnTo>
                  <a:lnTo>
                    <a:pt x="620" y="521"/>
                  </a:lnTo>
                  <a:lnTo>
                    <a:pt x="587" y="553"/>
                  </a:lnTo>
                  <a:lnTo>
                    <a:pt x="554" y="553"/>
                  </a:lnTo>
                  <a:lnTo>
                    <a:pt x="521" y="553"/>
                  </a:lnTo>
                  <a:lnTo>
                    <a:pt x="488" y="586"/>
                  </a:lnTo>
                  <a:lnTo>
                    <a:pt x="455" y="586"/>
                  </a:lnTo>
                  <a:lnTo>
                    <a:pt x="422" y="619"/>
                  </a:lnTo>
                  <a:lnTo>
                    <a:pt x="389" y="619"/>
                  </a:lnTo>
                  <a:lnTo>
                    <a:pt x="356" y="619"/>
                  </a:lnTo>
                  <a:lnTo>
                    <a:pt x="323" y="652"/>
                  </a:lnTo>
                  <a:lnTo>
                    <a:pt x="290" y="652"/>
                  </a:lnTo>
                  <a:lnTo>
                    <a:pt x="264" y="652"/>
                  </a:lnTo>
                  <a:lnTo>
                    <a:pt x="231" y="685"/>
                  </a:lnTo>
                  <a:lnTo>
                    <a:pt x="198" y="685"/>
                  </a:lnTo>
                  <a:lnTo>
                    <a:pt x="165" y="685"/>
                  </a:lnTo>
                  <a:lnTo>
                    <a:pt x="132" y="718"/>
                  </a:lnTo>
                  <a:lnTo>
                    <a:pt x="99" y="718"/>
                  </a:lnTo>
                  <a:lnTo>
                    <a:pt x="99" y="751"/>
                  </a:lnTo>
                  <a:lnTo>
                    <a:pt x="99" y="784"/>
                  </a:lnTo>
                  <a:lnTo>
                    <a:pt x="99" y="817"/>
                  </a:lnTo>
                  <a:lnTo>
                    <a:pt x="99" y="850"/>
                  </a:lnTo>
                  <a:lnTo>
                    <a:pt x="99" y="883"/>
                  </a:lnTo>
                  <a:lnTo>
                    <a:pt x="66" y="916"/>
                  </a:lnTo>
                  <a:lnTo>
                    <a:pt x="66" y="948"/>
                  </a:lnTo>
                  <a:lnTo>
                    <a:pt x="66" y="975"/>
                  </a:lnTo>
                  <a:lnTo>
                    <a:pt x="66" y="1008"/>
                  </a:lnTo>
                  <a:lnTo>
                    <a:pt x="66" y="1041"/>
                  </a:lnTo>
                  <a:lnTo>
                    <a:pt x="66" y="1074"/>
                  </a:lnTo>
                  <a:lnTo>
                    <a:pt x="66" y="1106"/>
                  </a:lnTo>
                  <a:lnTo>
                    <a:pt x="66" y="1139"/>
                  </a:lnTo>
                  <a:lnTo>
                    <a:pt x="66" y="1172"/>
                  </a:lnTo>
                  <a:lnTo>
                    <a:pt x="66" y="1205"/>
                  </a:lnTo>
                  <a:lnTo>
                    <a:pt x="66" y="1238"/>
                  </a:lnTo>
                  <a:lnTo>
                    <a:pt x="66" y="1271"/>
                  </a:lnTo>
                  <a:lnTo>
                    <a:pt x="66" y="1304"/>
                  </a:lnTo>
                  <a:lnTo>
                    <a:pt x="66" y="1337"/>
                  </a:lnTo>
                  <a:lnTo>
                    <a:pt x="66" y="1370"/>
                  </a:lnTo>
                  <a:lnTo>
                    <a:pt x="66" y="1403"/>
                  </a:lnTo>
                  <a:lnTo>
                    <a:pt x="66" y="1436"/>
                  </a:lnTo>
                  <a:lnTo>
                    <a:pt x="66" y="1469"/>
                  </a:lnTo>
                  <a:lnTo>
                    <a:pt x="33" y="1501"/>
                  </a:lnTo>
                  <a:lnTo>
                    <a:pt x="33" y="1534"/>
                  </a:lnTo>
                  <a:lnTo>
                    <a:pt x="33" y="1567"/>
                  </a:lnTo>
                  <a:lnTo>
                    <a:pt x="33" y="1594"/>
                  </a:lnTo>
                  <a:lnTo>
                    <a:pt x="33" y="1627"/>
                  </a:lnTo>
                  <a:lnTo>
                    <a:pt x="33" y="1660"/>
                  </a:lnTo>
                  <a:lnTo>
                    <a:pt x="33" y="1692"/>
                  </a:lnTo>
                  <a:lnTo>
                    <a:pt x="33" y="1725"/>
                  </a:lnTo>
                  <a:lnTo>
                    <a:pt x="33" y="1758"/>
                  </a:lnTo>
                  <a:lnTo>
                    <a:pt x="33" y="1791"/>
                  </a:lnTo>
                  <a:lnTo>
                    <a:pt x="33" y="1824"/>
                  </a:lnTo>
                  <a:lnTo>
                    <a:pt x="33" y="1857"/>
                  </a:lnTo>
                  <a:lnTo>
                    <a:pt x="33" y="1890"/>
                  </a:lnTo>
                  <a:lnTo>
                    <a:pt x="33" y="1923"/>
                  </a:lnTo>
                  <a:lnTo>
                    <a:pt x="33" y="1956"/>
                  </a:lnTo>
                  <a:lnTo>
                    <a:pt x="33" y="1989"/>
                  </a:lnTo>
                  <a:lnTo>
                    <a:pt x="33" y="2022"/>
                  </a:lnTo>
                  <a:lnTo>
                    <a:pt x="0" y="2055"/>
                  </a:lnTo>
                  <a:lnTo>
                    <a:pt x="0" y="2087"/>
                  </a:lnTo>
                  <a:lnTo>
                    <a:pt x="0" y="2120"/>
                  </a:lnTo>
                  <a:lnTo>
                    <a:pt x="0" y="2153"/>
                  </a:lnTo>
                  <a:lnTo>
                    <a:pt x="0" y="2186"/>
                  </a:lnTo>
                  <a:lnTo>
                    <a:pt x="0" y="2213"/>
                  </a:lnTo>
                  <a:lnTo>
                    <a:pt x="0" y="2245"/>
                  </a:lnTo>
                  <a:lnTo>
                    <a:pt x="0" y="2278"/>
                  </a:lnTo>
                  <a:lnTo>
                    <a:pt x="0" y="2311"/>
                  </a:lnTo>
                  <a:lnTo>
                    <a:pt x="0" y="2344"/>
                  </a:lnTo>
                  <a:lnTo>
                    <a:pt x="0" y="2377"/>
                  </a:lnTo>
                  <a:lnTo>
                    <a:pt x="0" y="2410"/>
                  </a:lnTo>
                  <a:lnTo>
                    <a:pt x="0" y="2443"/>
                  </a:lnTo>
                  <a:lnTo>
                    <a:pt x="0" y="2476"/>
                  </a:lnTo>
                  <a:lnTo>
                    <a:pt x="0" y="2509"/>
                  </a:lnTo>
                  <a:lnTo>
                    <a:pt x="0" y="2542"/>
                  </a:lnTo>
                  <a:lnTo>
                    <a:pt x="0" y="2575"/>
                  </a:lnTo>
                  <a:lnTo>
                    <a:pt x="0" y="2608"/>
                  </a:lnTo>
                  <a:lnTo>
                    <a:pt x="0" y="2640"/>
                  </a:lnTo>
                  <a:lnTo>
                    <a:pt x="33" y="2640"/>
                  </a:lnTo>
                  <a:lnTo>
                    <a:pt x="66" y="2673"/>
                  </a:lnTo>
                  <a:lnTo>
                    <a:pt x="99" y="2673"/>
                  </a:lnTo>
                  <a:lnTo>
                    <a:pt x="132" y="2706"/>
                  </a:lnTo>
                  <a:lnTo>
                    <a:pt x="165" y="2739"/>
                  </a:lnTo>
                  <a:lnTo>
                    <a:pt x="198" y="2739"/>
                  </a:lnTo>
                  <a:lnTo>
                    <a:pt x="231" y="2772"/>
                  </a:lnTo>
                  <a:lnTo>
                    <a:pt x="264" y="2805"/>
                  </a:lnTo>
                  <a:lnTo>
                    <a:pt x="290" y="2805"/>
                  </a:lnTo>
                  <a:lnTo>
                    <a:pt x="323" y="2831"/>
                  </a:lnTo>
                  <a:lnTo>
                    <a:pt x="356" y="2864"/>
                  </a:lnTo>
                  <a:lnTo>
                    <a:pt x="389" y="2864"/>
                  </a:lnTo>
                  <a:lnTo>
                    <a:pt x="422" y="2897"/>
                  </a:lnTo>
                  <a:lnTo>
                    <a:pt x="455" y="2930"/>
                  </a:lnTo>
                  <a:lnTo>
                    <a:pt x="488" y="2930"/>
                  </a:lnTo>
                  <a:lnTo>
                    <a:pt x="521" y="2963"/>
                  </a:lnTo>
                  <a:lnTo>
                    <a:pt x="554" y="2963"/>
                  </a:lnTo>
                  <a:lnTo>
                    <a:pt x="587" y="2996"/>
                  </a:lnTo>
                  <a:lnTo>
                    <a:pt x="620" y="3029"/>
                  </a:lnTo>
                  <a:lnTo>
                    <a:pt x="653" y="3029"/>
                  </a:lnTo>
                  <a:lnTo>
                    <a:pt x="686" y="3062"/>
                  </a:lnTo>
                  <a:lnTo>
                    <a:pt x="712" y="3095"/>
                  </a:lnTo>
                  <a:lnTo>
                    <a:pt x="745" y="3095"/>
                  </a:lnTo>
                  <a:lnTo>
                    <a:pt x="778" y="3128"/>
                  </a:lnTo>
                  <a:lnTo>
                    <a:pt x="811" y="3128"/>
                  </a:lnTo>
                  <a:lnTo>
                    <a:pt x="844" y="3161"/>
                  </a:lnTo>
                  <a:lnTo>
                    <a:pt x="877" y="3161"/>
                  </a:lnTo>
                  <a:lnTo>
                    <a:pt x="910" y="3161"/>
                  </a:lnTo>
                  <a:lnTo>
                    <a:pt x="943" y="3161"/>
                  </a:lnTo>
                  <a:close/>
                  <a:moveTo>
                    <a:pt x="910" y="1725"/>
                  </a:moveTo>
                  <a:lnTo>
                    <a:pt x="910" y="1725"/>
                  </a:lnTo>
                  <a:lnTo>
                    <a:pt x="916" y="1725"/>
                  </a:lnTo>
                  <a:lnTo>
                    <a:pt x="916" y="1719"/>
                  </a:lnTo>
                  <a:lnTo>
                    <a:pt x="923" y="1719"/>
                  </a:lnTo>
                  <a:lnTo>
                    <a:pt x="929" y="1719"/>
                  </a:lnTo>
                  <a:lnTo>
                    <a:pt x="929" y="1719"/>
                  </a:lnTo>
                  <a:lnTo>
                    <a:pt x="936" y="1719"/>
                  </a:lnTo>
                  <a:lnTo>
                    <a:pt x="936" y="1719"/>
                  </a:lnTo>
                  <a:lnTo>
                    <a:pt x="943" y="1719"/>
                  </a:lnTo>
                  <a:lnTo>
                    <a:pt x="943" y="1725"/>
                  </a:lnTo>
                  <a:lnTo>
                    <a:pt x="943" y="1732"/>
                  </a:lnTo>
                  <a:lnTo>
                    <a:pt x="936" y="1732"/>
                  </a:lnTo>
                  <a:lnTo>
                    <a:pt x="936" y="1732"/>
                  </a:lnTo>
                  <a:lnTo>
                    <a:pt x="929" y="1732"/>
                  </a:lnTo>
                  <a:lnTo>
                    <a:pt x="929" y="1732"/>
                  </a:lnTo>
                  <a:lnTo>
                    <a:pt x="923" y="1732"/>
                  </a:lnTo>
                  <a:lnTo>
                    <a:pt x="916" y="1732"/>
                  </a:lnTo>
                  <a:lnTo>
                    <a:pt x="916" y="1732"/>
                  </a:lnTo>
                  <a:lnTo>
                    <a:pt x="910" y="1732"/>
                  </a:lnTo>
                  <a:lnTo>
                    <a:pt x="910" y="1725"/>
                  </a:lnTo>
                  <a:close/>
                  <a:moveTo>
                    <a:pt x="1364" y="1567"/>
                  </a:moveTo>
                  <a:lnTo>
                    <a:pt x="1358" y="1561"/>
                  </a:lnTo>
                  <a:lnTo>
                    <a:pt x="1351" y="1561"/>
                  </a:lnTo>
                  <a:lnTo>
                    <a:pt x="1345" y="1561"/>
                  </a:lnTo>
                  <a:lnTo>
                    <a:pt x="1338" y="1561"/>
                  </a:lnTo>
                  <a:lnTo>
                    <a:pt x="1331" y="1554"/>
                  </a:lnTo>
                  <a:lnTo>
                    <a:pt x="1331" y="1548"/>
                  </a:lnTo>
                  <a:lnTo>
                    <a:pt x="1325" y="1541"/>
                  </a:lnTo>
                  <a:lnTo>
                    <a:pt x="1325" y="1528"/>
                  </a:lnTo>
                  <a:lnTo>
                    <a:pt x="1325" y="1521"/>
                  </a:lnTo>
                  <a:lnTo>
                    <a:pt x="1325" y="1508"/>
                  </a:lnTo>
                  <a:lnTo>
                    <a:pt x="1325" y="1501"/>
                  </a:lnTo>
                  <a:lnTo>
                    <a:pt x="1331" y="1495"/>
                  </a:lnTo>
                  <a:lnTo>
                    <a:pt x="1338" y="1488"/>
                  </a:lnTo>
                  <a:lnTo>
                    <a:pt x="1345" y="1488"/>
                  </a:lnTo>
                  <a:lnTo>
                    <a:pt x="1351" y="1488"/>
                  </a:lnTo>
                  <a:lnTo>
                    <a:pt x="1358" y="1482"/>
                  </a:lnTo>
                  <a:lnTo>
                    <a:pt x="1364" y="1482"/>
                  </a:lnTo>
                  <a:lnTo>
                    <a:pt x="1371" y="1482"/>
                  </a:lnTo>
                  <a:lnTo>
                    <a:pt x="1378" y="1488"/>
                  </a:lnTo>
                  <a:lnTo>
                    <a:pt x="1384" y="1488"/>
                  </a:lnTo>
                  <a:lnTo>
                    <a:pt x="1391" y="1488"/>
                  </a:lnTo>
                  <a:lnTo>
                    <a:pt x="1397" y="1495"/>
                  </a:lnTo>
                  <a:lnTo>
                    <a:pt x="1404" y="1495"/>
                  </a:lnTo>
                  <a:lnTo>
                    <a:pt x="1404" y="1501"/>
                  </a:lnTo>
                  <a:lnTo>
                    <a:pt x="1411" y="1508"/>
                  </a:lnTo>
                  <a:lnTo>
                    <a:pt x="1411" y="1521"/>
                  </a:lnTo>
                  <a:lnTo>
                    <a:pt x="1417" y="1528"/>
                  </a:lnTo>
                  <a:lnTo>
                    <a:pt x="1417" y="1541"/>
                  </a:lnTo>
                  <a:lnTo>
                    <a:pt x="1417" y="1548"/>
                  </a:lnTo>
                  <a:lnTo>
                    <a:pt x="1417" y="1561"/>
                  </a:lnTo>
                  <a:lnTo>
                    <a:pt x="1417" y="1567"/>
                  </a:lnTo>
                  <a:lnTo>
                    <a:pt x="1411" y="1567"/>
                  </a:lnTo>
                  <a:lnTo>
                    <a:pt x="1404" y="1567"/>
                  </a:lnTo>
                  <a:lnTo>
                    <a:pt x="1391" y="1567"/>
                  </a:lnTo>
                  <a:lnTo>
                    <a:pt x="1384" y="1567"/>
                  </a:lnTo>
                  <a:lnTo>
                    <a:pt x="1378" y="1567"/>
                  </a:lnTo>
                  <a:lnTo>
                    <a:pt x="1371" y="1567"/>
                  </a:lnTo>
                  <a:lnTo>
                    <a:pt x="1364" y="1567"/>
                  </a:lnTo>
                  <a:close/>
                  <a:moveTo>
                    <a:pt x="1002" y="1501"/>
                  </a:moveTo>
                  <a:lnTo>
                    <a:pt x="1009" y="1501"/>
                  </a:lnTo>
                  <a:lnTo>
                    <a:pt x="1009" y="1495"/>
                  </a:lnTo>
                  <a:lnTo>
                    <a:pt x="1009" y="1495"/>
                  </a:lnTo>
                  <a:lnTo>
                    <a:pt x="1009" y="1495"/>
                  </a:lnTo>
                  <a:lnTo>
                    <a:pt x="1009" y="1495"/>
                  </a:lnTo>
                  <a:lnTo>
                    <a:pt x="1009" y="1495"/>
                  </a:lnTo>
                  <a:lnTo>
                    <a:pt x="1009" y="1501"/>
                  </a:lnTo>
                  <a:lnTo>
                    <a:pt x="1009" y="1501"/>
                  </a:lnTo>
                  <a:lnTo>
                    <a:pt x="1009" y="1501"/>
                  </a:lnTo>
                  <a:lnTo>
                    <a:pt x="1009" y="1501"/>
                  </a:lnTo>
                  <a:lnTo>
                    <a:pt x="1009" y="1501"/>
                  </a:lnTo>
                  <a:lnTo>
                    <a:pt x="1009" y="1501"/>
                  </a:lnTo>
                  <a:lnTo>
                    <a:pt x="1009" y="1501"/>
                  </a:lnTo>
                  <a:lnTo>
                    <a:pt x="1002" y="1501"/>
                  </a:lnTo>
                  <a:close/>
                  <a:moveTo>
                    <a:pt x="1516" y="652"/>
                  </a:moveTo>
                  <a:lnTo>
                    <a:pt x="1523" y="646"/>
                  </a:lnTo>
                  <a:lnTo>
                    <a:pt x="1529" y="639"/>
                  </a:lnTo>
                  <a:lnTo>
                    <a:pt x="1529" y="632"/>
                  </a:lnTo>
                  <a:lnTo>
                    <a:pt x="1536" y="626"/>
                  </a:lnTo>
                  <a:lnTo>
                    <a:pt x="1542" y="613"/>
                  </a:lnTo>
                  <a:lnTo>
                    <a:pt x="1549" y="613"/>
                  </a:lnTo>
                  <a:lnTo>
                    <a:pt x="1549" y="606"/>
                  </a:lnTo>
                  <a:lnTo>
                    <a:pt x="1555" y="600"/>
                  </a:lnTo>
                  <a:lnTo>
                    <a:pt x="1562" y="593"/>
                  </a:lnTo>
                  <a:lnTo>
                    <a:pt x="1569" y="593"/>
                  </a:lnTo>
                  <a:lnTo>
                    <a:pt x="1575" y="586"/>
                  </a:lnTo>
                  <a:lnTo>
                    <a:pt x="1582" y="586"/>
                  </a:lnTo>
                  <a:lnTo>
                    <a:pt x="1588" y="593"/>
                  </a:lnTo>
                  <a:lnTo>
                    <a:pt x="1595" y="593"/>
                  </a:lnTo>
                  <a:lnTo>
                    <a:pt x="1602" y="606"/>
                  </a:lnTo>
                  <a:lnTo>
                    <a:pt x="1608" y="613"/>
                  </a:lnTo>
                  <a:lnTo>
                    <a:pt x="1608" y="619"/>
                  </a:lnTo>
                  <a:lnTo>
                    <a:pt x="1608" y="632"/>
                  </a:lnTo>
                  <a:lnTo>
                    <a:pt x="1602" y="639"/>
                  </a:lnTo>
                  <a:lnTo>
                    <a:pt x="1595" y="646"/>
                  </a:lnTo>
                  <a:lnTo>
                    <a:pt x="1588" y="652"/>
                  </a:lnTo>
                  <a:lnTo>
                    <a:pt x="1588" y="659"/>
                  </a:lnTo>
                  <a:lnTo>
                    <a:pt x="1582" y="659"/>
                  </a:lnTo>
                  <a:lnTo>
                    <a:pt x="1575" y="665"/>
                  </a:lnTo>
                  <a:lnTo>
                    <a:pt x="1562" y="665"/>
                  </a:lnTo>
                  <a:lnTo>
                    <a:pt x="1555" y="665"/>
                  </a:lnTo>
                  <a:lnTo>
                    <a:pt x="1549" y="665"/>
                  </a:lnTo>
                  <a:lnTo>
                    <a:pt x="1542" y="665"/>
                  </a:lnTo>
                  <a:lnTo>
                    <a:pt x="1536" y="665"/>
                  </a:lnTo>
                  <a:lnTo>
                    <a:pt x="1529" y="659"/>
                  </a:lnTo>
                  <a:lnTo>
                    <a:pt x="1523" y="659"/>
                  </a:lnTo>
                  <a:lnTo>
                    <a:pt x="1516" y="652"/>
                  </a:lnTo>
                  <a:close/>
                </a:path>
              </a:pathLst>
            </a:custGeom>
            <a:solidFill>
              <a:srgbClr val="b3b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1" name=""/>
            <p:cNvSpPr/>
            <p:nvPr/>
          </p:nvSpPr>
          <p:spPr>
            <a:xfrm>
              <a:off x="3173400" y="1382760"/>
              <a:ext cx="3557520" cy="5018040"/>
            </a:xfrm>
            <a:custGeom>
              <a:avLst/>
              <a:gdLst/>
              <a:ahLst/>
              <a:rect l="l" t="t" r="r" b="b"/>
              <a:pathLst>
                <a:path w="2241" h="3161">
                  <a:moveTo>
                    <a:pt x="943" y="3161"/>
                  </a:moveTo>
                  <a:lnTo>
                    <a:pt x="976" y="3128"/>
                  </a:lnTo>
                  <a:lnTo>
                    <a:pt x="1009" y="3128"/>
                  </a:lnTo>
                  <a:lnTo>
                    <a:pt x="1042" y="3095"/>
                  </a:lnTo>
                  <a:lnTo>
                    <a:pt x="1074" y="3095"/>
                  </a:lnTo>
                  <a:lnTo>
                    <a:pt x="1107" y="3095"/>
                  </a:lnTo>
                  <a:lnTo>
                    <a:pt x="1134" y="3062"/>
                  </a:lnTo>
                  <a:lnTo>
                    <a:pt x="1167" y="3062"/>
                  </a:lnTo>
                  <a:lnTo>
                    <a:pt x="1200" y="3029"/>
                  </a:lnTo>
                  <a:lnTo>
                    <a:pt x="1233" y="3029"/>
                  </a:lnTo>
                  <a:lnTo>
                    <a:pt x="1266" y="2996"/>
                  </a:lnTo>
                  <a:lnTo>
                    <a:pt x="1298" y="2996"/>
                  </a:lnTo>
                  <a:lnTo>
                    <a:pt x="1331" y="2996"/>
                  </a:lnTo>
                  <a:lnTo>
                    <a:pt x="1331" y="2963"/>
                  </a:lnTo>
                  <a:lnTo>
                    <a:pt x="1364" y="2930"/>
                  </a:lnTo>
                  <a:lnTo>
                    <a:pt x="1364" y="2897"/>
                  </a:lnTo>
                  <a:lnTo>
                    <a:pt x="1397" y="2864"/>
                  </a:lnTo>
                  <a:lnTo>
                    <a:pt x="1397" y="2831"/>
                  </a:lnTo>
                  <a:lnTo>
                    <a:pt x="1430" y="2805"/>
                  </a:lnTo>
                  <a:lnTo>
                    <a:pt x="1430" y="2772"/>
                  </a:lnTo>
                  <a:lnTo>
                    <a:pt x="1463" y="2739"/>
                  </a:lnTo>
                  <a:lnTo>
                    <a:pt x="1496" y="2706"/>
                  </a:lnTo>
                  <a:lnTo>
                    <a:pt x="1496" y="2673"/>
                  </a:lnTo>
                  <a:lnTo>
                    <a:pt x="1529" y="2640"/>
                  </a:lnTo>
                  <a:lnTo>
                    <a:pt x="1529" y="2608"/>
                  </a:lnTo>
                  <a:lnTo>
                    <a:pt x="1555" y="2575"/>
                  </a:lnTo>
                  <a:lnTo>
                    <a:pt x="1555" y="2542"/>
                  </a:lnTo>
                  <a:lnTo>
                    <a:pt x="1588" y="2509"/>
                  </a:lnTo>
                  <a:lnTo>
                    <a:pt x="1588" y="2476"/>
                  </a:lnTo>
                  <a:lnTo>
                    <a:pt x="1621" y="2443"/>
                  </a:lnTo>
                  <a:lnTo>
                    <a:pt x="1621" y="2410"/>
                  </a:lnTo>
                  <a:lnTo>
                    <a:pt x="1654" y="2377"/>
                  </a:lnTo>
                  <a:lnTo>
                    <a:pt x="1654" y="2344"/>
                  </a:lnTo>
                  <a:lnTo>
                    <a:pt x="1687" y="2311"/>
                  </a:lnTo>
                  <a:lnTo>
                    <a:pt x="1687" y="2278"/>
                  </a:lnTo>
                  <a:lnTo>
                    <a:pt x="1720" y="2245"/>
                  </a:lnTo>
                  <a:lnTo>
                    <a:pt x="1753" y="2213"/>
                  </a:lnTo>
                  <a:lnTo>
                    <a:pt x="1753" y="2186"/>
                  </a:lnTo>
                  <a:lnTo>
                    <a:pt x="1786" y="2153"/>
                  </a:lnTo>
                  <a:lnTo>
                    <a:pt x="1786" y="2120"/>
                  </a:lnTo>
                  <a:lnTo>
                    <a:pt x="1819" y="2087"/>
                  </a:lnTo>
                  <a:lnTo>
                    <a:pt x="1819" y="2055"/>
                  </a:lnTo>
                  <a:lnTo>
                    <a:pt x="1852" y="2022"/>
                  </a:lnTo>
                  <a:lnTo>
                    <a:pt x="1852" y="1989"/>
                  </a:lnTo>
                  <a:lnTo>
                    <a:pt x="1885" y="1956"/>
                  </a:lnTo>
                  <a:lnTo>
                    <a:pt x="1885" y="1923"/>
                  </a:lnTo>
                  <a:lnTo>
                    <a:pt x="1918" y="1890"/>
                  </a:lnTo>
                  <a:lnTo>
                    <a:pt x="1918" y="1857"/>
                  </a:lnTo>
                  <a:lnTo>
                    <a:pt x="1944" y="1824"/>
                  </a:lnTo>
                  <a:lnTo>
                    <a:pt x="1944" y="1791"/>
                  </a:lnTo>
                  <a:lnTo>
                    <a:pt x="1977" y="1758"/>
                  </a:lnTo>
                  <a:lnTo>
                    <a:pt x="1977" y="1725"/>
                  </a:lnTo>
                  <a:lnTo>
                    <a:pt x="1977" y="1692"/>
                  </a:lnTo>
                  <a:lnTo>
                    <a:pt x="1977" y="1660"/>
                  </a:lnTo>
                  <a:lnTo>
                    <a:pt x="2010" y="1627"/>
                  </a:lnTo>
                  <a:lnTo>
                    <a:pt x="2010" y="1594"/>
                  </a:lnTo>
                  <a:lnTo>
                    <a:pt x="2010" y="1567"/>
                  </a:lnTo>
                  <a:lnTo>
                    <a:pt x="2010" y="1534"/>
                  </a:lnTo>
                  <a:lnTo>
                    <a:pt x="2043" y="1501"/>
                  </a:lnTo>
                  <a:lnTo>
                    <a:pt x="2043" y="1469"/>
                  </a:lnTo>
                  <a:lnTo>
                    <a:pt x="2043" y="1436"/>
                  </a:lnTo>
                  <a:lnTo>
                    <a:pt x="2043" y="1403"/>
                  </a:lnTo>
                  <a:lnTo>
                    <a:pt x="2043" y="1370"/>
                  </a:lnTo>
                  <a:lnTo>
                    <a:pt x="2043" y="1337"/>
                  </a:lnTo>
                  <a:lnTo>
                    <a:pt x="2076" y="1304"/>
                  </a:lnTo>
                  <a:lnTo>
                    <a:pt x="2076" y="1271"/>
                  </a:lnTo>
                  <a:lnTo>
                    <a:pt x="2076" y="1238"/>
                  </a:lnTo>
                  <a:lnTo>
                    <a:pt x="2076" y="1205"/>
                  </a:lnTo>
                  <a:lnTo>
                    <a:pt x="2076" y="1172"/>
                  </a:lnTo>
                  <a:lnTo>
                    <a:pt x="2076" y="1139"/>
                  </a:lnTo>
                  <a:lnTo>
                    <a:pt x="2076" y="1106"/>
                  </a:lnTo>
                  <a:lnTo>
                    <a:pt x="2109" y="1074"/>
                  </a:lnTo>
                  <a:lnTo>
                    <a:pt x="2109" y="1041"/>
                  </a:lnTo>
                  <a:lnTo>
                    <a:pt x="2109" y="1008"/>
                  </a:lnTo>
                  <a:lnTo>
                    <a:pt x="2109" y="975"/>
                  </a:lnTo>
                  <a:lnTo>
                    <a:pt x="2109" y="948"/>
                  </a:lnTo>
                  <a:lnTo>
                    <a:pt x="2109" y="916"/>
                  </a:lnTo>
                  <a:lnTo>
                    <a:pt x="2109" y="883"/>
                  </a:lnTo>
                  <a:lnTo>
                    <a:pt x="2142" y="850"/>
                  </a:lnTo>
                  <a:lnTo>
                    <a:pt x="2142" y="817"/>
                  </a:lnTo>
                  <a:lnTo>
                    <a:pt x="2142" y="784"/>
                  </a:lnTo>
                  <a:lnTo>
                    <a:pt x="2142" y="751"/>
                  </a:lnTo>
                  <a:lnTo>
                    <a:pt x="2142" y="718"/>
                  </a:lnTo>
                  <a:lnTo>
                    <a:pt x="2142" y="685"/>
                  </a:lnTo>
                  <a:lnTo>
                    <a:pt x="2142" y="652"/>
                  </a:lnTo>
                  <a:lnTo>
                    <a:pt x="2175" y="619"/>
                  </a:lnTo>
                  <a:lnTo>
                    <a:pt x="2175" y="586"/>
                  </a:lnTo>
                  <a:lnTo>
                    <a:pt x="2175" y="553"/>
                  </a:lnTo>
                  <a:lnTo>
                    <a:pt x="2175" y="521"/>
                  </a:lnTo>
                  <a:lnTo>
                    <a:pt x="2175" y="488"/>
                  </a:lnTo>
                  <a:lnTo>
                    <a:pt x="2175" y="455"/>
                  </a:lnTo>
                  <a:lnTo>
                    <a:pt x="2175" y="422"/>
                  </a:lnTo>
                  <a:lnTo>
                    <a:pt x="2208" y="389"/>
                  </a:lnTo>
                  <a:lnTo>
                    <a:pt x="2208" y="356"/>
                  </a:lnTo>
                  <a:lnTo>
                    <a:pt x="2208" y="330"/>
                  </a:lnTo>
                  <a:lnTo>
                    <a:pt x="2208" y="297"/>
                  </a:lnTo>
                  <a:lnTo>
                    <a:pt x="2208" y="264"/>
                  </a:lnTo>
                  <a:lnTo>
                    <a:pt x="2208" y="231"/>
                  </a:lnTo>
                  <a:lnTo>
                    <a:pt x="2208" y="198"/>
                  </a:lnTo>
                  <a:lnTo>
                    <a:pt x="2241" y="165"/>
                  </a:lnTo>
                  <a:lnTo>
                    <a:pt x="2241" y="132"/>
                  </a:lnTo>
                  <a:lnTo>
                    <a:pt x="2241" y="99"/>
                  </a:lnTo>
                  <a:lnTo>
                    <a:pt x="2241" y="66"/>
                  </a:lnTo>
                  <a:lnTo>
                    <a:pt x="2241" y="33"/>
                  </a:lnTo>
                  <a:lnTo>
                    <a:pt x="2241" y="0"/>
                  </a:lnTo>
                  <a:lnTo>
                    <a:pt x="2208" y="0"/>
                  </a:lnTo>
                  <a:lnTo>
                    <a:pt x="2175" y="0"/>
                  </a:lnTo>
                  <a:lnTo>
                    <a:pt x="2142" y="0"/>
                  </a:lnTo>
                  <a:lnTo>
                    <a:pt x="2109" y="0"/>
                  </a:lnTo>
                  <a:lnTo>
                    <a:pt x="2076" y="33"/>
                  </a:lnTo>
                  <a:lnTo>
                    <a:pt x="2043" y="33"/>
                  </a:lnTo>
                  <a:lnTo>
                    <a:pt x="2010" y="33"/>
                  </a:lnTo>
                  <a:lnTo>
                    <a:pt x="1977" y="66"/>
                  </a:lnTo>
                  <a:lnTo>
                    <a:pt x="1944" y="66"/>
                  </a:lnTo>
                  <a:lnTo>
                    <a:pt x="1918" y="66"/>
                  </a:lnTo>
                  <a:lnTo>
                    <a:pt x="1885" y="99"/>
                  </a:lnTo>
                  <a:lnTo>
                    <a:pt x="1852" y="99"/>
                  </a:lnTo>
                  <a:lnTo>
                    <a:pt x="1819" y="132"/>
                  </a:lnTo>
                  <a:lnTo>
                    <a:pt x="1786" y="132"/>
                  </a:lnTo>
                  <a:lnTo>
                    <a:pt x="1753" y="132"/>
                  </a:lnTo>
                  <a:lnTo>
                    <a:pt x="1720" y="165"/>
                  </a:lnTo>
                  <a:lnTo>
                    <a:pt x="1687" y="165"/>
                  </a:lnTo>
                  <a:lnTo>
                    <a:pt x="1654" y="165"/>
                  </a:lnTo>
                  <a:lnTo>
                    <a:pt x="1621" y="198"/>
                  </a:lnTo>
                  <a:lnTo>
                    <a:pt x="1588" y="198"/>
                  </a:lnTo>
                  <a:lnTo>
                    <a:pt x="1555" y="198"/>
                  </a:lnTo>
                  <a:lnTo>
                    <a:pt x="1529" y="231"/>
                  </a:lnTo>
                  <a:lnTo>
                    <a:pt x="1496" y="231"/>
                  </a:lnTo>
                  <a:lnTo>
                    <a:pt x="1463" y="231"/>
                  </a:lnTo>
                  <a:lnTo>
                    <a:pt x="1430" y="264"/>
                  </a:lnTo>
                  <a:lnTo>
                    <a:pt x="1397" y="264"/>
                  </a:lnTo>
                  <a:lnTo>
                    <a:pt x="1364" y="264"/>
                  </a:lnTo>
                  <a:lnTo>
                    <a:pt x="1331" y="297"/>
                  </a:lnTo>
                  <a:lnTo>
                    <a:pt x="1298" y="297"/>
                  </a:lnTo>
                  <a:lnTo>
                    <a:pt x="1266" y="297"/>
                  </a:lnTo>
                  <a:lnTo>
                    <a:pt x="1233" y="330"/>
                  </a:lnTo>
                  <a:lnTo>
                    <a:pt x="1200" y="330"/>
                  </a:lnTo>
                  <a:lnTo>
                    <a:pt x="1167" y="356"/>
                  </a:lnTo>
                  <a:lnTo>
                    <a:pt x="1134" y="356"/>
                  </a:lnTo>
                  <a:lnTo>
                    <a:pt x="1107" y="356"/>
                  </a:lnTo>
                  <a:lnTo>
                    <a:pt x="1074" y="389"/>
                  </a:lnTo>
                  <a:lnTo>
                    <a:pt x="1042" y="389"/>
                  </a:lnTo>
                  <a:lnTo>
                    <a:pt x="1009" y="389"/>
                  </a:lnTo>
                  <a:lnTo>
                    <a:pt x="976" y="422"/>
                  </a:lnTo>
                  <a:lnTo>
                    <a:pt x="943" y="422"/>
                  </a:lnTo>
                  <a:lnTo>
                    <a:pt x="910" y="422"/>
                  </a:lnTo>
                  <a:lnTo>
                    <a:pt x="877" y="455"/>
                  </a:lnTo>
                  <a:lnTo>
                    <a:pt x="844" y="455"/>
                  </a:lnTo>
                  <a:lnTo>
                    <a:pt x="811" y="455"/>
                  </a:lnTo>
                  <a:lnTo>
                    <a:pt x="778" y="488"/>
                  </a:lnTo>
                  <a:lnTo>
                    <a:pt x="745" y="488"/>
                  </a:lnTo>
                  <a:lnTo>
                    <a:pt x="712" y="488"/>
                  </a:lnTo>
                  <a:lnTo>
                    <a:pt x="686" y="521"/>
                  </a:lnTo>
                  <a:lnTo>
                    <a:pt x="653" y="521"/>
                  </a:lnTo>
                  <a:lnTo>
                    <a:pt x="620" y="521"/>
                  </a:lnTo>
                  <a:lnTo>
                    <a:pt x="587" y="553"/>
                  </a:lnTo>
                  <a:lnTo>
                    <a:pt x="554" y="553"/>
                  </a:lnTo>
                  <a:lnTo>
                    <a:pt x="521" y="553"/>
                  </a:lnTo>
                  <a:lnTo>
                    <a:pt x="488" y="586"/>
                  </a:lnTo>
                  <a:lnTo>
                    <a:pt x="455" y="586"/>
                  </a:lnTo>
                  <a:lnTo>
                    <a:pt x="422" y="619"/>
                  </a:lnTo>
                  <a:lnTo>
                    <a:pt x="389" y="619"/>
                  </a:lnTo>
                  <a:lnTo>
                    <a:pt x="356" y="619"/>
                  </a:lnTo>
                  <a:lnTo>
                    <a:pt x="323" y="652"/>
                  </a:lnTo>
                  <a:lnTo>
                    <a:pt x="290" y="652"/>
                  </a:lnTo>
                  <a:lnTo>
                    <a:pt x="264" y="652"/>
                  </a:lnTo>
                  <a:lnTo>
                    <a:pt x="231" y="685"/>
                  </a:lnTo>
                  <a:lnTo>
                    <a:pt x="198" y="685"/>
                  </a:lnTo>
                  <a:lnTo>
                    <a:pt x="165" y="685"/>
                  </a:lnTo>
                  <a:lnTo>
                    <a:pt x="132" y="718"/>
                  </a:lnTo>
                  <a:lnTo>
                    <a:pt x="99" y="718"/>
                  </a:lnTo>
                  <a:lnTo>
                    <a:pt x="99" y="751"/>
                  </a:lnTo>
                  <a:lnTo>
                    <a:pt x="99" y="784"/>
                  </a:lnTo>
                  <a:lnTo>
                    <a:pt x="99" y="817"/>
                  </a:lnTo>
                  <a:lnTo>
                    <a:pt x="99" y="850"/>
                  </a:lnTo>
                  <a:lnTo>
                    <a:pt x="99" y="883"/>
                  </a:lnTo>
                  <a:lnTo>
                    <a:pt x="66" y="916"/>
                  </a:lnTo>
                  <a:lnTo>
                    <a:pt x="66" y="948"/>
                  </a:lnTo>
                  <a:lnTo>
                    <a:pt x="66" y="975"/>
                  </a:lnTo>
                  <a:lnTo>
                    <a:pt x="66" y="1008"/>
                  </a:lnTo>
                  <a:lnTo>
                    <a:pt x="66" y="1041"/>
                  </a:lnTo>
                  <a:lnTo>
                    <a:pt x="66" y="1074"/>
                  </a:lnTo>
                  <a:lnTo>
                    <a:pt x="66" y="1106"/>
                  </a:lnTo>
                  <a:lnTo>
                    <a:pt x="66" y="1139"/>
                  </a:lnTo>
                  <a:lnTo>
                    <a:pt x="66" y="1172"/>
                  </a:lnTo>
                  <a:lnTo>
                    <a:pt x="66" y="1205"/>
                  </a:lnTo>
                  <a:lnTo>
                    <a:pt x="66" y="1238"/>
                  </a:lnTo>
                  <a:lnTo>
                    <a:pt x="66" y="1271"/>
                  </a:lnTo>
                  <a:lnTo>
                    <a:pt x="66" y="1304"/>
                  </a:lnTo>
                  <a:lnTo>
                    <a:pt x="66" y="1337"/>
                  </a:lnTo>
                  <a:lnTo>
                    <a:pt x="66" y="1370"/>
                  </a:lnTo>
                  <a:lnTo>
                    <a:pt x="66" y="1403"/>
                  </a:lnTo>
                  <a:lnTo>
                    <a:pt x="66" y="1436"/>
                  </a:lnTo>
                  <a:lnTo>
                    <a:pt x="66" y="1469"/>
                  </a:lnTo>
                  <a:lnTo>
                    <a:pt x="33" y="1501"/>
                  </a:lnTo>
                  <a:lnTo>
                    <a:pt x="33" y="1534"/>
                  </a:lnTo>
                  <a:lnTo>
                    <a:pt x="33" y="1567"/>
                  </a:lnTo>
                  <a:lnTo>
                    <a:pt x="33" y="1594"/>
                  </a:lnTo>
                  <a:lnTo>
                    <a:pt x="33" y="1627"/>
                  </a:lnTo>
                  <a:lnTo>
                    <a:pt x="33" y="1660"/>
                  </a:lnTo>
                  <a:lnTo>
                    <a:pt x="33" y="1692"/>
                  </a:lnTo>
                  <a:lnTo>
                    <a:pt x="33" y="1725"/>
                  </a:lnTo>
                  <a:lnTo>
                    <a:pt x="33" y="1758"/>
                  </a:lnTo>
                  <a:lnTo>
                    <a:pt x="33" y="1791"/>
                  </a:lnTo>
                  <a:lnTo>
                    <a:pt x="33" y="1824"/>
                  </a:lnTo>
                  <a:lnTo>
                    <a:pt x="33" y="1857"/>
                  </a:lnTo>
                  <a:lnTo>
                    <a:pt x="33" y="1890"/>
                  </a:lnTo>
                  <a:lnTo>
                    <a:pt x="33" y="1923"/>
                  </a:lnTo>
                  <a:lnTo>
                    <a:pt x="33" y="1956"/>
                  </a:lnTo>
                  <a:lnTo>
                    <a:pt x="33" y="1989"/>
                  </a:lnTo>
                  <a:lnTo>
                    <a:pt x="33" y="2022"/>
                  </a:lnTo>
                  <a:lnTo>
                    <a:pt x="0" y="2055"/>
                  </a:lnTo>
                  <a:lnTo>
                    <a:pt x="0" y="2087"/>
                  </a:lnTo>
                  <a:lnTo>
                    <a:pt x="0" y="2120"/>
                  </a:lnTo>
                  <a:lnTo>
                    <a:pt x="0" y="2153"/>
                  </a:lnTo>
                  <a:lnTo>
                    <a:pt x="0" y="2186"/>
                  </a:lnTo>
                  <a:lnTo>
                    <a:pt x="0" y="2213"/>
                  </a:lnTo>
                  <a:lnTo>
                    <a:pt x="0" y="2245"/>
                  </a:lnTo>
                  <a:lnTo>
                    <a:pt x="0" y="2278"/>
                  </a:lnTo>
                  <a:lnTo>
                    <a:pt x="0" y="2311"/>
                  </a:lnTo>
                  <a:lnTo>
                    <a:pt x="0" y="2344"/>
                  </a:lnTo>
                  <a:lnTo>
                    <a:pt x="0" y="2377"/>
                  </a:lnTo>
                  <a:lnTo>
                    <a:pt x="0" y="2410"/>
                  </a:lnTo>
                  <a:lnTo>
                    <a:pt x="0" y="2443"/>
                  </a:lnTo>
                  <a:lnTo>
                    <a:pt x="0" y="2476"/>
                  </a:lnTo>
                  <a:lnTo>
                    <a:pt x="0" y="2509"/>
                  </a:lnTo>
                  <a:lnTo>
                    <a:pt x="0" y="2542"/>
                  </a:lnTo>
                  <a:lnTo>
                    <a:pt x="0" y="2575"/>
                  </a:lnTo>
                  <a:lnTo>
                    <a:pt x="0" y="2608"/>
                  </a:lnTo>
                  <a:lnTo>
                    <a:pt x="0" y="2640"/>
                  </a:lnTo>
                  <a:lnTo>
                    <a:pt x="33" y="2640"/>
                  </a:lnTo>
                  <a:lnTo>
                    <a:pt x="66" y="2673"/>
                  </a:lnTo>
                  <a:lnTo>
                    <a:pt x="99" y="2673"/>
                  </a:lnTo>
                  <a:lnTo>
                    <a:pt x="132" y="2706"/>
                  </a:lnTo>
                  <a:lnTo>
                    <a:pt x="165" y="2739"/>
                  </a:lnTo>
                  <a:lnTo>
                    <a:pt x="198" y="2739"/>
                  </a:lnTo>
                  <a:lnTo>
                    <a:pt x="231" y="2772"/>
                  </a:lnTo>
                  <a:lnTo>
                    <a:pt x="264" y="2805"/>
                  </a:lnTo>
                  <a:lnTo>
                    <a:pt x="290" y="2805"/>
                  </a:lnTo>
                  <a:lnTo>
                    <a:pt x="323" y="2831"/>
                  </a:lnTo>
                  <a:lnTo>
                    <a:pt x="356" y="2864"/>
                  </a:lnTo>
                  <a:lnTo>
                    <a:pt x="389" y="2864"/>
                  </a:lnTo>
                  <a:lnTo>
                    <a:pt x="422" y="2897"/>
                  </a:lnTo>
                  <a:lnTo>
                    <a:pt x="455" y="2930"/>
                  </a:lnTo>
                  <a:lnTo>
                    <a:pt x="488" y="2930"/>
                  </a:lnTo>
                  <a:lnTo>
                    <a:pt x="521" y="2963"/>
                  </a:lnTo>
                  <a:lnTo>
                    <a:pt x="554" y="2963"/>
                  </a:lnTo>
                  <a:lnTo>
                    <a:pt x="587" y="2996"/>
                  </a:lnTo>
                  <a:lnTo>
                    <a:pt x="620" y="3029"/>
                  </a:lnTo>
                  <a:lnTo>
                    <a:pt x="653" y="3029"/>
                  </a:lnTo>
                  <a:lnTo>
                    <a:pt x="686" y="3062"/>
                  </a:lnTo>
                  <a:lnTo>
                    <a:pt x="712" y="3095"/>
                  </a:lnTo>
                  <a:lnTo>
                    <a:pt x="745" y="3095"/>
                  </a:lnTo>
                  <a:lnTo>
                    <a:pt x="778" y="3128"/>
                  </a:lnTo>
                  <a:lnTo>
                    <a:pt x="811" y="3128"/>
                  </a:lnTo>
                  <a:lnTo>
                    <a:pt x="844" y="3161"/>
                  </a:lnTo>
                  <a:lnTo>
                    <a:pt x="877" y="3161"/>
                  </a:lnTo>
                  <a:lnTo>
                    <a:pt x="910" y="3161"/>
                  </a:lnTo>
                  <a:lnTo>
                    <a:pt x="943" y="3161"/>
                  </a:lnTo>
                  <a:close/>
                  <a:moveTo>
                    <a:pt x="910" y="1725"/>
                  </a:moveTo>
                  <a:lnTo>
                    <a:pt x="910" y="1725"/>
                  </a:lnTo>
                  <a:lnTo>
                    <a:pt x="916" y="1725"/>
                  </a:lnTo>
                  <a:lnTo>
                    <a:pt x="916" y="1719"/>
                  </a:lnTo>
                  <a:lnTo>
                    <a:pt x="923" y="1719"/>
                  </a:lnTo>
                  <a:lnTo>
                    <a:pt x="929" y="1719"/>
                  </a:lnTo>
                  <a:lnTo>
                    <a:pt x="929" y="1719"/>
                  </a:lnTo>
                  <a:lnTo>
                    <a:pt x="936" y="1719"/>
                  </a:lnTo>
                  <a:lnTo>
                    <a:pt x="936" y="1719"/>
                  </a:lnTo>
                  <a:lnTo>
                    <a:pt x="943" y="1719"/>
                  </a:lnTo>
                  <a:lnTo>
                    <a:pt x="943" y="1725"/>
                  </a:lnTo>
                  <a:lnTo>
                    <a:pt x="943" y="1732"/>
                  </a:lnTo>
                  <a:lnTo>
                    <a:pt x="936" y="1732"/>
                  </a:lnTo>
                  <a:lnTo>
                    <a:pt x="936" y="1732"/>
                  </a:lnTo>
                  <a:lnTo>
                    <a:pt x="929" y="1732"/>
                  </a:lnTo>
                  <a:lnTo>
                    <a:pt x="929" y="1732"/>
                  </a:lnTo>
                  <a:lnTo>
                    <a:pt x="923" y="1732"/>
                  </a:lnTo>
                  <a:lnTo>
                    <a:pt x="916" y="1732"/>
                  </a:lnTo>
                  <a:lnTo>
                    <a:pt x="916" y="1732"/>
                  </a:lnTo>
                  <a:lnTo>
                    <a:pt x="910" y="1732"/>
                  </a:lnTo>
                  <a:lnTo>
                    <a:pt x="910" y="1725"/>
                  </a:lnTo>
                  <a:close/>
                  <a:moveTo>
                    <a:pt x="1364" y="1567"/>
                  </a:moveTo>
                  <a:lnTo>
                    <a:pt x="1358" y="1561"/>
                  </a:lnTo>
                  <a:lnTo>
                    <a:pt x="1351" y="1561"/>
                  </a:lnTo>
                  <a:lnTo>
                    <a:pt x="1345" y="1561"/>
                  </a:lnTo>
                  <a:lnTo>
                    <a:pt x="1338" y="1561"/>
                  </a:lnTo>
                  <a:lnTo>
                    <a:pt x="1331" y="1554"/>
                  </a:lnTo>
                  <a:lnTo>
                    <a:pt x="1331" y="1548"/>
                  </a:lnTo>
                  <a:lnTo>
                    <a:pt x="1325" y="1541"/>
                  </a:lnTo>
                  <a:lnTo>
                    <a:pt x="1325" y="1528"/>
                  </a:lnTo>
                  <a:lnTo>
                    <a:pt x="1325" y="1521"/>
                  </a:lnTo>
                  <a:lnTo>
                    <a:pt x="1325" y="1508"/>
                  </a:lnTo>
                  <a:lnTo>
                    <a:pt x="1325" y="1501"/>
                  </a:lnTo>
                  <a:lnTo>
                    <a:pt x="1331" y="1495"/>
                  </a:lnTo>
                  <a:lnTo>
                    <a:pt x="1338" y="1488"/>
                  </a:lnTo>
                  <a:lnTo>
                    <a:pt x="1345" y="1488"/>
                  </a:lnTo>
                  <a:lnTo>
                    <a:pt x="1351" y="1488"/>
                  </a:lnTo>
                  <a:lnTo>
                    <a:pt x="1358" y="1482"/>
                  </a:lnTo>
                  <a:lnTo>
                    <a:pt x="1364" y="1482"/>
                  </a:lnTo>
                  <a:lnTo>
                    <a:pt x="1371" y="1482"/>
                  </a:lnTo>
                  <a:lnTo>
                    <a:pt x="1378" y="1488"/>
                  </a:lnTo>
                  <a:lnTo>
                    <a:pt x="1384" y="1488"/>
                  </a:lnTo>
                  <a:lnTo>
                    <a:pt x="1391" y="1488"/>
                  </a:lnTo>
                  <a:lnTo>
                    <a:pt x="1397" y="1495"/>
                  </a:lnTo>
                  <a:lnTo>
                    <a:pt x="1404" y="1495"/>
                  </a:lnTo>
                  <a:lnTo>
                    <a:pt x="1404" y="1501"/>
                  </a:lnTo>
                  <a:lnTo>
                    <a:pt x="1411" y="1508"/>
                  </a:lnTo>
                  <a:lnTo>
                    <a:pt x="1411" y="1521"/>
                  </a:lnTo>
                  <a:lnTo>
                    <a:pt x="1417" y="1528"/>
                  </a:lnTo>
                  <a:lnTo>
                    <a:pt x="1417" y="1541"/>
                  </a:lnTo>
                  <a:lnTo>
                    <a:pt x="1417" y="1548"/>
                  </a:lnTo>
                  <a:lnTo>
                    <a:pt x="1417" y="1561"/>
                  </a:lnTo>
                  <a:lnTo>
                    <a:pt x="1417" y="1567"/>
                  </a:lnTo>
                  <a:lnTo>
                    <a:pt x="1411" y="1567"/>
                  </a:lnTo>
                  <a:lnTo>
                    <a:pt x="1404" y="1567"/>
                  </a:lnTo>
                  <a:lnTo>
                    <a:pt x="1391" y="1567"/>
                  </a:lnTo>
                  <a:lnTo>
                    <a:pt x="1384" y="1567"/>
                  </a:lnTo>
                  <a:lnTo>
                    <a:pt x="1378" y="1567"/>
                  </a:lnTo>
                  <a:lnTo>
                    <a:pt x="1371" y="1567"/>
                  </a:lnTo>
                  <a:lnTo>
                    <a:pt x="1364" y="1567"/>
                  </a:lnTo>
                  <a:close/>
                  <a:moveTo>
                    <a:pt x="1002" y="1501"/>
                  </a:moveTo>
                  <a:lnTo>
                    <a:pt x="1009" y="1501"/>
                  </a:lnTo>
                  <a:lnTo>
                    <a:pt x="1009" y="1495"/>
                  </a:lnTo>
                  <a:lnTo>
                    <a:pt x="1009" y="1495"/>
                  </a:lnTo>
                  <a:lnTo>
                    <a:pt x="1009" y="1495"/>
                  </a:lnTo>
                  <a:lnTo>
                    <a:pt x="1009" y="1495"/>
                  </a:lnTo>
                  <a:lnTo>
                    <a:pt x="1009" y="1495"/>
                  </a:lnTo>
                  <a:lnTo>
                    <a:pt x="1009" y="1501"/>
                  </a:lnTo>
                  <a:lnTo>
                    <a:pt x="1009" y="1501"/>
                  </a:lnTo>
                  <a:lnTo>
                    <a:pt x="1009" y="1501"/>
                  </a:lnTo>
                  <a:lnTo>
                    <a:pt x="1009" y="1501"/>
                  </a:lnTo>
                  <a:lnTo>
                    <a:pt x="1009" y="1501"/>
                  </a:lnTo>
                  <a:lnTo>
                    <a:pt x="1009" y="1501"/>
                  </a:lnTo>
                  <a:lnTo>
                    <a:pt x="1009" y="1501"/>
                  </a:lnTo>
                  <a:lnTo>
                    <a:pt x="1002" y="1501"/>
                  </a:lnTo>
                  <a:close/>
                  <a:moveTo>
                    <a:pt x="1516" y="652"/>
                  </a:moveTo>
                  <a:lnTo>
                    <a:pt x="1523" y="646"/>
                  </a:lnTo>
                  <a:lnTo>
                    <a:pt x="1529" y="639"/>
                  </a:lnTo>
                  <a:lnTo>
                    <a:pt x="1529" y="632"/>
                  </a:lnTo>
                  <a:lnTo>
                    <a:pt x="1536" y="626"/>
                  </a:lnTo>
                  <a:lnTo>
                    <a:pt x="1542" y="613"/>
                  </a:lnTo>
                  <a:lnTo>
                    <a:pt x="1549" y="613"/>
                  </a:lnTo>
                  <a:lnTo>
                    <a:pt x="1549" y="606"/>
                  </a:lnTo>
                  <a:lnTo>
                    <a:pt x="1555" y="600"/>
                  </a:lnTo>
                  <a:lnTo>
                    <a:pt x="1562" y="593"/>
                  </a:lnTo>
                  <a:lnTo>
                    <a:pt x="1569" y="593"/>
                  </a:lnTo>
                  <a:lnTo>
                    <a:pt x="1575" y="586"/>
                  </a:lnTo>
                  <a:lnTo>
                    <a:pt x="1582" y="586"/>
                  </a:lnTo>
                  <a:lnTo>
                    <a:pt x="1588" y="593"/>
                  </a:lnTo>
                  <a:lnTo>
                    <a:pt x="1595" y="593"/>
                  </a:lnTo>
                  <a:lnTo>
                    <a:pt x="1602" y="606"/>
                  </a:lnTo>
                  <a:lnTo>
                    <a:pt x="1608" y="613"/>
                  </a:lnTo>
                  <a:lnTo>
                    <a:pt x="1608" y="619"/>
                  </a:lnTo>
                  <a:lnTo>
                    <a:pt x="1608" y="632"/>
                  </a:lnTo>
                  <a:lnTo>
                    <a:pt x="1602" y="639"/>
                  </a:lnTo>
                  <a:lnTo>
                    <a:pt x="1595" y="646"/>
                  </a:lnTo>
                  <a:lnTo>
                    <a:pt x="1588" y="652"/>
                  </a:lnTo>
                  <a:lnTo>
                    <a:pt x="1588" y="659"/>
                  </a:lnTo>
                  <a:lnTo>
                    <a:pt x="1582" y="659"/>
                  </a:lnTo>
                  <a:lnTo>
                    <a:pt x="1575" y="665"/>
                  </a:lnTo>
                  <a:lnTo>
                    <a:pt x="1562" y="665"/>
                  </a:lnTo>
                  <a:lnTo>
                    <a:pt x="1555" y="665"/>
                  </a:lnTo>
                  <a:lnTo>
                    <a:pt x="1549" y="665"/>
                  </a:lnTo>
                  <a:lnTo>
                    <a:pt x="1542" y="665"/>
                  </a:lnTo>
                  <a:lnTo>
                    <a:pt x="1536" y="665"/>
                  </a:lnTo>
                  <a:lnTo>
                    <a:pt x="1529" y="659"/>
                  </a:lnTo>
                  <a:lnTo>
                    <a:pt x="1523" y="659"/>
                  </a:lnTo>
                  <a:lnTo>
                    <a:pt x="1516" y="652"/>
                  </a:lnTo>
                  <a:close/>
                  <a:moveTo>
                    <a:pt x="943" y="3161"/>
                  </a:moveTo>
                  <a:lnTo>
                    <a:pt x="976" y="3128"/>
                  </a:lnTo>
                  <a:lnTo>
                    <a:pt x="1009" y="3128"/>
                  </a:lnTo>
                  <a:lnTo>
                    <a:pt x="1042" y="3095"/>
                  </a:lnTo>
                  <a:lnTo>
                    <a:pt x="1074" y="3095"/>
                  </a:lnTo>
                  <a:lnTo>
                    <a:pt x="1107" y="3095"/>
                  </a:lnTo>
                  <a:lnTo>
                    <a:pt x="1134" y="3062"/>
                  </a:lnTo>
                  <a:lnTo>
                    <a:pt x="1167" y="3062"/>
                  </a:lnTo>
                  <a:lnTo>
                    <a:pt x="1200" y="3029"/>
                  </a:lnTo>
                  <a:lnTo>
                    <a:pt x="1233" y="3029"/>
                  </a:lnTo>
                  <a:lnTo>
                    <a:pt x="1266" y="2996"/>
                  </a:lnTo>
                  <a:lnTo>
                    <a:pt x="1298" y="2996"/>
                  </a:lnTo>
                  <a:lnTo>
                    <a:pt x="1331" y="2996"/>
                  </a:lnTo>
                  <a:lnTo>
                    <a:pt x="1331" y="2963"/>
                  </a:lnTo>
                  <a:lnTo>
                    <a:pt x="1364" y="2930"/>
                  </a:lnTo>
                  <a:lnTo>
                    <a:pt x="1364" y="2897"/>
                  </a:lnTo>
                  <a:lnTo>
                    <a:pt x="1397" y="2864"/>
                  </a:lnTo>
                  <a:lnTo>
                    <a:pt x="1397" y="2831"/>
                  </a:lnTo>
                  <a:lnTo>
                    <a:pt x="1430" y="2805"/>
                  </a:lnTo>
                  <a:lnTo>
                    <a:pt x="1430" y="2772"/>
                  </a:lnTo>
                  <a:lnTo>
                    <a:pt x="1463" y="2739"/>
                  </a:lnTo>
                  <a:lnTo>
                    <a:pt x="1496" y="2706"/>
                  </a:lnTo>
                  <a:lnTo>
                    <a:pt x="1496" y="2673"/>
                  </a:lnTo>
                  <a:lnTo>
                    <a:pt x="1529" y="2640"/>
                  </a:lnTo>
                  <a:lnTo>
                    <a:pt x="1529" y="2608"/>
                  </a:lnTo>
                  <a:lnTo>
                    <a:pt x="1555" y="2575"/>
                  </a:lnTo>
                  <a:lnTo>
                    <a:pt x="1555" y="2542"/>
                  </a:lnTo>
                  <a:lnTo>
                    <a:pt x="1588" y="2509"/>
                  </a:lnTo>
                  <a:lnTo>
                    <a:pt x="1588" y="2476"/>
                  </a:lnTo>
                  <a:lnTo>
                    <a:pt x="1621" y="2443"/>
                  </a:lnTo>
                  <a:lnTo>
                    <a:pt x="1621" y="2410"/>
                  </a:lnTo>
                  <a:lnTo>
                    <a:pt x="1654" y="2377"/>
                  </a:lnTo>
                  <a:lnTo>
                    <a:pt x="1654" y="2344"/>
                  </a:lnTo>
                  <a:lnTo>
                    <a:pt x="1687" y="2311"/>
                  </a:lnTo>
                  <a:lnTo>
                    <a:pt x="1687" y="2278"/>
                  </a:lnTo>
                  <a:lnTo>
                    <a:pt x="1720" y="2245"/>
                  </a:lnTo>
                  <a:lnTo>
                    <a:pt x="1753" y="2213"/>
                  </a:lnTo>
                  <a:lnTo>
                    <a:pt x="1753" y="2186"/>
                  </a:lnTo>
                  <a:lnTo>
                    <a:pt x="1786" y="2153"/>
                  </a:lnTo>
                  <a:lnTo>
                    <a:pt x="1786" y="2120"/>
                  </a:lnTo>
                  <a:lnTo>
                    <a:pt x="1819" y="2087"/>
                  </a:lnTo>
                  <a:lnTo>
                    <a:pt x="1819" y="2055"/>
                  </a:lnTo>
                  <a:lnTo>
                    <a:pt x="1852" y="2022"/>
                  </a:lnTo>
                  <a:lnTo>
                    <a:pt x="1852" y="1989"/>
                  </a:lnTo>
                  <a:lnTo>
                    <a:pt x="1885" y="1956"/>
                  </a:lnTo>
                  <a:lnTo>
                    <a:pt x="1885" y="1923"/>
                  </a:lnTo>
                  <a:lnTo>
                    <a:pt x="1918" y="1890"/>
                  </a:lnTo>
                  <a:lnTo>
                    <a:pt x="1918" y="1857"/>
                  </a:lnTo>
                  <a:lnTo>
                    <a:pt x="1944" y="1824"/>
                  </a:lnTo>
                  <a:lnTo>
                    <a:pt x="1944" y="1791"/>
                  </a:lnTo>
                  <a:lnTo>
                    <a:pt x="1977" y="1758"/>
                  </a:lnTo>
                  <a:lnTo>
                    <a:pt x="1977" y="1725"/>
                  </a:lnTo>
                  <a:lnTo>
                    <a:pt x="1977" y="1692"/>
                  </a:lnTo>
                  <a:lnTo>
                    <a:pt x="1977" y="1660"/>
                  </a:lnTo>
                  <a:lnTo>
                    <a:pt x="2010" y="1627"/>
                  </a:lnTo>
                  <a:lnTo>
                    <a:pt x="2010" y="1594"/>
                  </a:lnTo>
                  <a:lnTo>
                    <a:pt x="2010" y="1567"/>
                  </a:lnTo>
                  <a:lnTo>
                    <a:pt x="2010" y="1534"/>
                  </a:lnTo>
                  <a:lnTo>
                    <a:pt x="2043" y="1501"/>
                  </a:lnTo>
                  <a:lnTo>
                    <a:pt x="2043" y="1469"/>
                  </a:lnTo>
                  <a:lnTo>
                    <a:pt x="2043" y="1436"/>
                  </a:lnTo>
                  <a:lnTo>
                    <a:pt x="2043" y="1403"/>
                  </a:lnTo>
                  <a:lnTo>
                    <a:pt x="2043" y="1370"/>
                  </a:lnTo>
                  <a:lnTo>
                    <a:pt x="2043" y="1337"/>
                  </a:lnTo>
                  <a:lnTo>
                    <a:pt x="2076" y="1304"/>
                  </a:lnTo>
                  <a:lnTo>
                    <a:pt x="2076" y="1271"/>
                  </a:lnTo>
                  <a:lnTo>
                    <a:pt x="2076" y="1238"/>
                  </a:lnTo>
                  <a:lnTo>
                    <a:pt x="2076" y="1205"/>
                  </a:lnTo>
                  <a:lnTo>
                    <a:pt x="2076" y="1172"/>
                  </a:lnTo>
                  <a:lnTo>
                    <a:pt x="2076" y="1139"/>
                  </a:lnTo>
                  <a:lnTo>
                    <a:pt x="2076" y="1106"/>
                  </a:lnTo>
                  <a:lnTo>
                    <a:pt x="2109" y="1074"/>
                  </a:lnTo>
                  <a:lnTo>
                    <a:pt x="2109" y="1041"/>
                  </a:lnTo>
                  <a:lnTo>
                    <a:pt x="2109" y="1008"/>
                  </a:lnTo>
                  <a:lnTo>
                    <a:pt x="2109" y="975"/>
                  </a:lnTo>
                  <a:lnTo>
                    <a:pt x="2109" y="948"/>
                  </a:lnTo>
                  <a:lnTo>
                    <a:pt x="2109" y="916"/>
                  </a:lnTo>
                  <a:lnTo>
                    <a:pt x="2109" y="883"/>
                  </a:lnTo>
                  <a:lnTo>
                    <a:pt x="2142" y="850"/>
                  </a:lnTo>
                  <a:lnTo>
                    <a:pt x="2142" y="817"/>
                  </a:lnTo>
                  <a:lnTo>
                    <a:pt x="2142" y="784"/>
                  </a:lnTo>
                  <a:lnTo>
                    <a:pt x="2142" y="751"/>
                  </a:lnTo>
                  <a:lnTo>
                    <a:pt x="2142" y="718"/>
                  </a:lnTo>
                  <a:lnTo>
                    <a:pt x="2142" y="685"/>
                  </a:lnTo>
                  <a:lnTo>
                    <a:pt x="2142" y="652"/>
                  </a:lnTo>
                  <a:lnTo>
                    <a:pt x="2175" y="619"/>
                  </a:lnTo>
                  <a:lnTo>
                    <a:pt x="2175" y="586"/>
                  </a:lnTo>
                  <a:lnTo>
                    <a:pt x="2175" y="553"/>
                  </a:lnTo>
                  <a:lnTo>
                    <a:pt x="2175" y="521"/>
                  </a:lnTo>
                  <a:lnTo>
                    <a:pt x="2175" y="488"/>
                  </a:lnTo>
                  <a:lnTo>
                    <a:pt x="2175" y="455"/>
                  </a:lnTo>
                  <a:lnTo>
                    <a:pt x="2175" y="422"/>
                  </a:lnTo>
                  <a:lnTo>
                    <a:pt x="2208" y="389"/>
                  </a:lnTo>
                  <a:lnTo>
                    <a:pt x="2208" y="356"/>
                  </a:lnTo>
                  <a:lnTo>
                    <a:pt x="2208" y="330"/>
                  </a:lnTo>
                  <a:lnTo>
                    <a:pt x="2208" y="297"/>
                  </a:lnTo>
                  <a:lnTo>
                    <a:pt x="2208" y="264"/>
                  </a:lnTo>
                  <a:lnTo>
                    <a:pt x="2208" y="231"/>
                  </a:lnTo>
                  <a:lnTo>
                    <a:pt x="2208" y="198"/>
                  </a:lnTo>
                  <a:lnTo>
                    <a:pt x="2241" y="165"/>
                  </a:lnTo>
                  <a:lnTo>
                    <a:pt x="2241" y="132"/>
                  </a:lnTo>
                  <a:lnTo>
                    <a:pt x="2241" y="99"/>
                  </a:lnTo>
                  <a:lnTo>
                    <a:pt x="2241" y="66"/>
                  </a:lnTo>
                  <a:lnTo>
                    <a:pt x="2241" y="33"/>
                  </a:lnTo>
                  <a:lnTo>
                    <a:pt x="2241" y="0"/>
                  </a:lnTo>
                  <a:lnTo>
                    <a:pt x="2208" y="0"/>
                  </a:lnTo>
                  <a:lnTo>
                    <a:pt x="2175" y="0"/>
                  </a:lnTo>
                  <a:lnTo>
                    <a:pt x="2142" y="0"/>
                  </a:lnTo>
                  <a:lnTo>
                    <a:pt x="2109" y="0"/>
                  </a:lnTo>
                  <a:lnTo>
                    <a:pt x="2076" y="33"/>
                  </a:lnTo>
                  <a:lnTo>
                    <a:pt x="2043" y="33"/>
                  </a:lnTo>
                  <a:lnTo>
                    <a:pt x="2010" y="33"/>
                  </a:lnTo>
                  <a:lnTo>
                    <a:pt x="1977" y="66"/>
                  </a:lnTo>
                  <a:lnTo>
                    <a:pt x="1944" y="66"/>
                  </a:lnTo>
                  <a:lnTo>
                    <a:pt x="1918" y="66"/>
                  </a:lnTo>
                  <a:lnTo>
                    <a:pt x="1885" y="99"/>
                  </a:lnTo>
                  <a:lnTo>
                    <a:pt x="1852" y="99"/>
                  </a:lnTo>
                  <a:lnTo>
                    <a:pt x="1819" y="132"/>
                  </a:lnTo>
                  <a:lnTo>
                    <a:pt x="1786" y="132"/>
                  </a:lnTo>
                  <a:lnTo>
                    <a:pt x="1753" y="132"/>
                  </a:lnTo>
                  <a:lnTo>
                    <a:pt x="1720" y="165"/>
                  </a:lnTo>
                  <a:lnTo>
                    <a:pt x="1687" y="165"/>
                  </a:lnTo>
                  <a:lnTo>
                    <a:pt x="1654" y="165"/>
                  </a:lnTo>
                  <a:lnTo>
                    <a:pt x="1621" y="198"/>
                  </a:lnTo>
                  <a:lnTo>
                    <a:pt x="1588" y="198"/>
                  </a:lnTo>
                  <a:lnTo>
                    <a:pt x="1555" y="198"/>
                  </a:lnTo>
                  <a:lnTo>
                    <a:pt x="1529" y="231"/>
                  </a:lnTo>
                  <a:lnTo>
                    <a:pt x="1496" y="231"/>
                  </a:lnTo>
                  <a:lnTo>
                    <a:pt x="1463" y="231"/>
                  </a:lnTo>
                  <a:lnTo>
                    <a:pt x="1430" y="264"/>
                  </a:lnTo>
                  <a:lnTo>
                    <a:pt x="1397" y="264"/>
                  </a:lnTo>
                  <a:lnTo>
                    <a:pt x="1364" y="264"/>
                  </a:lnTo>
                  <a:lnTo>
                    <a:pt x="1331" y="297"/>
                  </a:lnTo>
                  <a:lnTo>
                    <a:pt x="1298" y="297"/>
                  </a:lnTo>
                  <a:lnTo>
                    <a:pt x="1266" y="297"/>
                  </a:lnTo>
                  <a:lnTo>
                    <a:pt x="1233" y="330"/>
                  </a:lnTo>
                  <a:lnTo>
                    <a:pt x="1200" y="330"/>
                  </a:lnTo>
                  <a:lnTo>
                    <a:pt x="1167" y="356"/>
                  </a:lnTo>
                  <a:lnTo>
                    <a:pt x="1134" y="356"/>
                  </a:lnTo>
                  <a:lnTo>
                    <a:pt x="1107" y="356"/>
                  </a:lnTo>
                  <a:lnTo>
                    <a:pt x="1074" y="389"/>
                  </a:lnTo>
                  <a:lnTo>
                    <a:pt x="1042" y="389"/>
                  </a:lnTo>
                  <a:lnTo>
                    <a:pt x="1009" y="389"/>
                  </a:lnTo>
                  <a:lnTo>
                    <a:pt x="976" y="422"/>
                  </a:lnTo>
                  <a:lnTo>
                    <a:pt x="943" y="422"/>
                  </a:lnTo>
                  <a:lnTo>
                    <a:pt x="910" y="422"/>
                  </a:lnTo>
                  <a:lnTo>
                    <a:pt x="877" y="455"/>
                  </a:lnTo>
                  <a:lnTo>
                    <a:pt x="844" y="455"/>
                  </a:lnTo>
                  <a:lnTo>
                    <a:pt x="811" y="455"/>
                  </a:lnTo>
                  <a:lnTo>
                    <a:pt x="778" y="488"/>
                  </a:lnTo>
                  <a:lnTo>
                    <a:pt x="745" y="488"/>
                  </a:lnTo>
                  <a:lnTo>
                    <a:pt x="712" y="488"/>
                  </a:lnTo>
                  <a:lnTo>
                    <a:pt x="686" y="521"/>
                  </a:lnTo>
                  <a:lnTo>
                    <a:pt x="653" y="521"/>
                  </a:lnTo>
                  <a:lnTo>
                    <a:pt x="620" y="521"/>
                  </a:lnTo>
                  <a:lnTo>
                    <a:pt x="587" y="553"/>
                  </a:lnTo>
                  <a:lnTo>
                    <a:pt x="554" y="553"/>
                  </a:lnTo>
                  <a:lnTo>
                    <a:pt x="521" y="553"/>
                  </a:lnTo>
                  <a:lnTo>
                    <a:pt x="488" y="586"/>
                  </a:lnTo>
                  <a:lnTo>
                    <a:pt x="455" y="586"/>
                  </a:lnTo>
                  <a:lnTo>
                    <a:pt x="422" y="619"/>
                  </a:lnTo>
                  <a:lnTo>
                    <a:pt x="389" y="619"/>
                  </a:lnTo>
                  <a:lnTo>
                    <a:pt x="356" y="619"/>
                  </a:lnTo>
                  <a:lnTo>
                    <a:pt x="323" y="652"/>
                  </a:lnTo>
                  <a:lnTo>
                    <a:pt x="290" y="652"/>
                  </a:lnTo>
                  <a:lnTo>
                    <a:pt x="264" y="652"/>
                  </a:lnTo>
                  <a:lnTo>
                    <a:pt x="231" y="685"/>
                  </a:lnTo>
                  <a:lnTo>
                    <a:pt x="198" y="685"/>
                  </a:lnTo>
                  <a:lnTo>
                    <a:pt x="165" y="685"/>
                  </a:lnTo>
                  <a:lnTo>
                    <a:pt x="132" y="718"/>
                  </a:lnTo>
                  <a:lnTo>
                    <a:pt x="99" y="718"/>
                  </a:lnTo>
                  <a:lnTo>
                    <a:pt x="99" y="751"/>
                  </a:lnTo>
                  <a:lnTo>
                    <a:pt x="99" y="784"/>
                  </a:lnTo>
                  <a:lnTo>
                    <a:pt x="99" y="817"/>
                  </a:lnTo>
                  <a:lnTo>
                    <a:pt x="99" y="850"/>
                  </a:lnTo>
                  <a:lnTo>
                    <a:pt x="99" y="883"/>
                  </a:lnTo>
                  <a:lnTo>
                    <a:pt x="66" y="916"/>
                  </a:lnTo>
                  <a:lnTo>
                    <a:pt x="66" y="948"/>
                  </a:lnTo>
                  <a:lnTo>
                    <a:pt x="66" y="975"/>
                  </a:lnTo>
                  <a:lnTo>
                    <a:pt x="66" y="1008"/>
                  </a:lnTo>
                  <a:lnTo>
                    <a:pt x="66" y="1041"/>
                  </a:lnTo>
                  <a:lnTo>
                    <a:pt x="66" y="1074"/>
                  </a:lnTo>
                  <a:lnTo>
                    <a:pt x="66" y="1106"/>
                  </a:lnTo>
                  <a:lnTo>
                    <a:pt x="66" y="1139"/>
                  </a:lnTo>
                  <a:lnTo>
                    <a:pt x="66" y="1172"/>
                  </a:lnTo>
                  <a:lnTo>
                    <a:pt x="66" y="1205"/>
                  </a:lnTo>
                  <a:lnTo>
                    <a:pt x="66" y="1238"/>
                  </a:lnTo>
                  <a:lnTo>
                    <a:pt x="66" y="1271"/>
                  </a:lnTo>
                  <a:lnTo>
                    <a:pt x="66" y="1304"/>
                  </a:lnTo>
                  <a:lnTo>
                    <a:pt x="66" y="1337"/>
                  </a:lnTo>
                  <a:lnTo>
                    <a:pt x="66" y="1370"/>
                  </a:lnTo>
                  <a:lnTo>
                    <a:pt x="66" y="1403"/>
                  </a:lnTo>
                  <a:lnTo>
                    <a:pt x="66" y="1436"/>
                  </a:lnTo>
                  <a:lnTo>
                    <a:pt x="66" y="1469"/>
                  </a:lnTo>
                  <a:lnTo>
                    <a:pt x="33" y="1501"/>
                  </a:lnTo>
                  <a:lnTo>
                    <a:pt x="33" y="1534"/>
                  </a:lnTo>
                  <a:lnTo>
                    <a:pt x="33" y="1567"/>
                  </a:lnTo>
                  <a:lnTo>
                    <a:pt x="33" y="1594"/>
                  </a:lnTo>
                  <a:lnTo>
                    <a:pt x="33" y="1627"/>
                  </a:lnTo>
                  <a:lnTo>
                    <a:pt x="33" y="1660"/>
                  </a:lnTo>
                  <a:lnTo>
                    <a:pt x="33" y="1692"/>
                  </a:lnTo>
                  <a:lnTo>
                    <a:pt x="33" y="1725"/>
                  </a:lnTo>
                  <a:lnTo>
                    <a:pt x="33" y="1758"/>
                  </a:lnTo>
                  <a:lnTo>
                    <a:pt x="33" y="1791"/>
                  </a:lnTo>
                  <a:lnTo>
                    <a:pt x="33" y="1824"/>
                  </a:lnTo>
                  <a:lnTo>
                    <a:pt x="33" y="1857"/>
                  </a:lnTo>
                  <a:lnTo>
                    <a:pt x="33" y="1890"/>
                  </a:lnTo>
                  <a:lnTo>
                    <a:pt x="33" y="1923"/>
                  </a:lnTo>
                  <a:lnTo>
                    <a:pt x="33" y="1956"/>
                  </a:lnTo>
                  <a:lnTo>
                    <a:pt x="33" y="1989"/>
                  </a:lnTo>
                  <a:lnTo>
                    <a:pt x="33" y="2022"/>
                  </a:lnTo>
                  <a:lnTo>
                    <a:pt x="0" y="2055"/>
                  </a:lnTo>
                  <a:lnTo>
                    <a:pt x="0" y="2087"/>
                  </a:lnTo>
                  <a:lnTo>
                    <a:pt x="0" y="2120"/>
                  </a:lnTo>
                  <a:lnTo>
                    <a:pt x="0" y="2153"/>
                  </a:lnTo>
                  <a:lnTo>
                    <a:pt x="0" y="2186"/>
                  </a:lnTo>
                  <a:lnTo>
                    <a:pt x="0" y="2213"/>
                  </a:lnTo>
                  <a:lnTo>
                    <a:pt x="0" y="2245"/>
                  </a:lnTo>
                  <a:lnTo>
                    <a:pt x="0" y="2278"/>
                  </a:lnTo>
                  <a:lnTo>
                    <a:pt x="0" y="2311"/>
                  </a:lnTo>
                  <a:lnTo>
                    <a:pt x="0" y="2344"/>
                  </a:lnTo>
                  <a:lnTo>
                    <a:pt x="0" y="2377"/>
                  </a:lnTo>
                  <a:lnTo>
                    <a:pt x="0" y="2410"/>
                  </a:lnTo>
                  <a:lnTo>
                    <a:pt x="0" y="2443"/>
                  </a:lnTo>
                  <a:lnTo>
                    <a:pt x="0" y="2476"/>
                  </a:lnTo>
                  <a:lnTo>
                    <a:pt x="0" y="2509"/>
                  </a:lnTo>
                  <a:lnTo>
                    <a:pt x="0" y="2542"/>
                  </a:lnTo>
                  <a:lnTo>
                    <a:pt x="0" y="2575"/>
                  </a:lnTo>
                  <a:lnTo>
                    <a:pt x="0" y="2608"/>
                  </a:lnTo>
                  <a:lnTo>
                    <a:pt x="0" y="2640"/>
                  </a:lnTo>
                  <a:lnTo>
                    <a:pt x="33" y="2640"/>
                  </a:lnTo>
                  <a:lnTo>
                    <a:pt x="66" y="2673"/>
                  </a:lnTo>
                  <a:lnTo>
                    <a:pt x="99" y="2673"/>
                  </a:lnTo>
                  <a:lnTo>
                    <a:pt x="132" y="2706"/>
                  </a:lnTo>
                  <a:lnTo>
                    <a:pt x="165" y="2739"/>
                  </a:lnTo>
                  <a:lnTo>
                    <a:pt x="198" y="2739"/>
                  </a:lnTo>
                  <a:lnTo>
                    <a:pt x="231" y="2772"/>
                  </a:lnTo>
                  <a:lnTo>
                    <a:pt x="264" y="2805"/>
                  </a:lnTo>
                  <a:lnTo>
                    <a:pt x="290" y="2805"/>
                  </a:lnTo>
                  <a:lnTo>
                    <a:pt x="323" y="2831"/>
                  </a:lnTo>
                  <a:lnTo>
                    <a:pt x="356" y="2864"/>
                  </a:lnTo>
                  <a:lnTo>
                    <a:pt x="389" y="2864"/>
                  </a:lnTo>
                  <a:lnTo>
                    <a:pt x="422" y="2897"/>
                  </a:lnTo>
                  <a:lnTo>
                    <a:pt x="455" y="2930"/>
                  </a:lnTo>
                  <a:lnTo>
                    <a:pt x="488" y="2930"/>
                  </a:lnTo>
                  <a:lnTo>
                    <a:pt x="521" y="2963"/>
                  </a:lnTo>
                  <a:lnTo>
                    <a:pt x="554" y="2963"/>
                  </a:lnTo>
                  <a:lnTo>
                    <a:pt x="587" y="2996"/>
                  </a:lnTo>
                  <a:lnTo>
                    <a:pt x="620" y="3029"/>
                  </a:lnTo>
                  <a:lnTo>
                    <a:pt x="653" y="3029"/>
                  </a:lnTo>
                  <a:lnTo>
                    <a:pt x="686" y="3062"/>
                  </a:lnTo>
                  <a:lnTo>
                    <a:pt x="712" y="3095"/>
                  </a:lnTo>
                  <a:lnTo>
                    <a:pt x="745" y="3095"/>
                  </a:lnTo>
                  <a:lnTo>
                    <a:pt x="778" y="3128"/>
                  </a:lnTo>
                  <a:lnTo>
                    <a:pt x="811" y="3128"/>
                  </a:lnTo>
                  <a:lnTo>
                    <a:pt x="844" y="3161"/>
                  </a:lnTo>
                  <a:lnTo>
                    <a:pt x="877" y="3161"/>
                  </a:lnTo>
                  <a:lnTo>
                    <a:pt x="910" y="3161"/>
                  </a:lnTo>
                  <a:lnTo>
                    <a:pt x="943" y="3161"/>
                  </a:lnTo>
                  <a:close/>
                  <a:moveTo>
                    <a:pt x="1358" y="1534"/>
                  </a:moveTo>
                  <a:lnTo>
                    <a:pt x="1358" y="1528"/>
                  </a:lnTo>
                  <a:lnTo>
                    <a:pt x="1364" y="1528"/>
                  </a:lnTo>
                  <a:lnTo>
                    <a:pt x="1364" y="1521"/>
                  </a:lnTo>
                  <a:lnTo>
                    <a:pt x="1364" y="1521"/>
                  </a:lnTo>
                  <a:lnTo>
                    <a:pt x="1371" y="1528"/>
                  </a:lnTo>
                  <a:lnTo>
                    <a:pt x="1371" y="1528"/>
                  </a:lnTo>
                  <a:lnTo>
                    <a:pt x="1378" y="1528"/>
                  </a:lnTo>
                  <a:lnTo>
                    <a:pt x="1378" y="1534"/>
                  </a:lnTo>
                  <a:lnTo>
                    <a:pt x="1371" y="1534"/>
                  </a:lnTo>
                  <a:lnTo>
                    <a:pt x="1371" y="1534"/>
                  </a:lnTo>
                  <a:lnTo>
                    <a:pt x="1364" y="1534"/>
                  </a:lnTo>
                  <a:lnTo>
                    <a:pt x="1364" y="1534"/>
                  </a:lnTo>
                  <a:lnTo>
                    <a:pt x="1358" y="1534"/>
                  </a:lnTo>
                  <a:lnTo>
                    <a:pt x="1358" y="1534"/>
                  </a:lnTo>
                  <a:close/>
                </a:path>
              </a:pathLst>
            </a:custGeom>
            <a:solidFill>
              <a:srgbClr val="9090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2" name=""/>
            <p:cNvSpPr/>
            <p:nvPr/>
          </p:nvSpPr>
          <p:spPr>
            <a:xfrm>
              <a:off x="3173400" y="1382760"/>
              <a:ext cx="3557520" cy="5018040"/>
            </a:xfrm>
            <a:custGeom>
              <a:avLst/>
              <a:gdLst/>
              <a:ahLst/>
              <a:rect l="l" t="t" r="r" b="b"/>
              <a:pathLst>
                <a:path w="2241" h="3161">
                  <a:moveTo>
                    <a:pt x="943" y="3161"/>
                  </a:moveTo>
                  <a:lnTo>
                    <a:pt x="976" y="3128"/>
                  </a:lnTo>
                  <a:lnTo>
                    <a:pt x="1009" y="3128"/>
                  </a:lnTo>
                  <a:lnTo>
                    <a:pt x="1042" y="3095"/>
                  </a:lnTo>
                  <a:lnTo>
                    <a:pt x="1074" y="3095"/>
                  </a:lnTo>
                  <a:lnTo>
                    <a:pt x="1107" y="3095"/>
                  </a:lnTo>
                  <a:lnTo>
                    <a:pt x="1134" y="3062"/>
                  </a:lnTo>
                  <a:lnTo>
                    <a:pt x="1167" y="3062"/>
                  </a:lnTo>
                  <a:lnTo>
                    <a:pt x="1200" y="3029"/>
                  </a:lnTo>
                  <a:lnTo>
                    <a:pt x="1233" y="3029"/>
                  </a:lnTo>
                  <a:lnTo>
                    <a:pt x="1266" y="2996"/>
                  </a:lnTo>
                  <a:lnTo>
                    <a:pt x="1298" y="2996"/>
                  </a:lnTo>
                  <a:lnTo>
                    <a:pt x="1331" y="2996"/>
                  </a:lnTo>
                  <a:lnTo>
                    <a:pt x="1331" y="2963"/>
                  </a:lnTo>
                  <a:lnTo>
                    <a:pt x="1364" y="2930"/>
                  </a:lnTo>
                  <a:lnTo>
                    <a:pt x="1364" y="2897"/>
                  </a:lnTo>
                  <a:lnTo>
                    <a:pt x="1397" y="2864"/>
                  </a:lnTo>
                  <a:lnTo>
                    <a:pt x="1397" y="2831"/>
                  </a:lnTo>
                  <a:lnTo>
                    <a:pt x="1430" y="2805"/>
                  </a:lnTo>
                  <a:lnTo>
                    <a:pt x="1430" y="2772"/>
                  </a:lnTo>
                  <a:lnTo>
                    <a:pt x="1463" y="2739"/>
                  </a:lnTo>
                  <a:lnTo>
                    <a:pt x="1496" y="2706"/>
                  </a:lnTo>
                  <a:lnTo>
                    <a:pt x="1496" y="2673"/>
                  </a:lnTo>
                  <a:lnTo>
                    <a:pt x="1529" y="2640"/>
                  </a:lnTo>
                  <a:lnTo>
                    <a:pt x="1529" y="2608"/>
                  </a:lnTo>
                  <a:lnTo>
                    <a:pt x="1555" y="2575"/>
                  </a:lnTo>
                  <a:lnTo>
                    <a:pt x="1555" y="2542"/>
                  </a:lnTo>
                  <a:lnTo>
                    <a:pt x="1588" y="2509"/>
                  </a:lnTo>
                  <a:lnTo>
                    <a:pt x="1588" y="2476"/>
                  </a:lnTo>
                  <a:lnTo>
                    <a:pt x="1621" y="2443"/>
                  </a:lnTo>
                  <a:lnTo>
                    <a:pt x="1621" y="2410"/>
                  </a:lnTo>
                  <a:lnTo>
                    <a:pt x="1654" y="2377"/>
                  </a:lnTo>
                  <a:lnTo>
                    <a:pt x="1654" y="2344"/>
                  </a:lnTo>
                  <a:lnTo>
                    <a:pt x="1687" y="2311"/>
                  </a:lnTo>
                  <a:lnTo>
                    <a:pt x="1687" y="2278"/>
                  </a:lnTo>
                  <a:lnTo>
                    <a:pt x="1720" y="2245"/>
                  </a:lnTo>
                  <a:lnTo>
                    <a:pt x="1753" y="2213"/>
                  </a:lnTo>
                  <a:lnTo>
                    <a:pt x="1753" y="2186"/>
                  </a:lnTo>
                  <a:lnTo>
                    <a:pt x="1786" y="2153"/>
                  </a:lnTo>
                  <a:lnTo>
                    <a:pt x="1786" y="2120"/>
                  </a:lnTo>
                  <a:lnTo>
                    <a:pt x="1819" y="2087"/>
                  </a:lnTo>
                  <a:lnTo>
                    <a:pt x="1819" y="2055"/>
                  </a:lnTo>
                  <a:lnTo>
                    <a:pt x="1852" y="2022"/>
                  </a:lnTo>
                  <a:lnTo>
                    <a:pt x="1852" y="1989"/>
                  </a:lnTo>
                  <a:lnTo>
                    <a:pt x="1885" y="1956"/>
                  </a:lnTo>
                  <a:lnTo>
                    <a:pt x="1885" y="1923"/>
                  </a:lnTo>
                  <a:lnTo>
                    <a:pt x="1918" y="1890"/>
                  </a:lnTo>
                  <a:lnTo>
                    <a:pt x="1918" y="1857"/>
                  </a:lnTo>
                  <a:lnTo>
                    <a:pt x="1944" y="1824"/>
                  </a:lnTo>
                  <a:lnTo>
                    <a:pt x="1944" y="1791"/>
                  </a:lnTo>
                  <a:lnTo>
                    <a:pt x="1977" y="1758"/>
                  </a:lnTo>
                  <a:lnTo>
                    <a:pt x="1977" y="1725"/>
                  </a:lnTo>
                  <a:lnTo>
                    <a:pt x="1977" y="1692"/>
                  </a:lnTo>
                  <a:lnTo>
                    <a:pt x="1977" y="1660"/>
                  </a:lnTo>
                  <a:lnTo>
                    <a:pt x="2010" y="1627"/>
                  </a:lnTo>
                  <a:lnTo>
                    <a:pt x="2010" y="1594"/>
                  </a:lnTo>
                  <a:lnTo>
                    <a:pt x="2010" y="1567"/>
                  </a:lnTo>
                  <a:lnTo>
                    <a:pt x="2010" y="1534"/>
                  </a:lnTo>
                  <a:lnTo>
                    <a:pt x="2043" y="1501"/>
                  </a:lnTo>
                  <a:lnTo>
                    <a:pt x="2043" y="1469"/>
                  </a:lnTo>
                  <a:lnTo>
                    <a:pt x="2043" y="1436"/>
                  </a:lnTo>
                  <a:lnTo>
                    <a:pt x="2043" y="1403"/>
                  </a:lnTo>
                  <a:lnTo>
                    <a:pt x="2043" y="1370"/>
                  </a:lnTo>
                  <a:lnTo>
                    <a:pt x="2043" y="1337"/>
                  </a:lnTo>
                  <a:lnTo>
                    <a:pt x="2076" y="1304"/>
                  </a:lnTo>
                  <a:lnTo>
                    <a:pt x="2076" y="1271"/>
                  </a:lnTo>
                  <a:lnTo>
                    <a:pt x="2076" y="1238"/>
                  </a:lnTo>
                  <a:lnTo>
                    <a:pt x="2076" y="1205"/>
                  </a:lnTo>
                  <a:lnTo>
                    <a:pt x="2076" y="1172"/>
                  </a:lnTo>
                  <a:lnTo>
                    <a:pt x="2076" y="1139"/>
                  </a:lnTo>
                  <a:lnTo>
                    <a:pt x="2076" y="1106"/>
                  </a:lnTo>
                  <a:lnTo>
                    <a:pt x="2109" y="1074"/>
                  </a:lnTo>
                  <a:lnTo>
                    <a:pt x="2109" y="1041"/>
                  </a:lnTo>
                  <a:lnTo>
                    <a:pt x="2109" y="1008"/>
                  </a:lnTo>
                  <a:lnTo>
                    <a:pt x="2109" y="975"/>
                  </a:lnTo>
                  <a:lnTo>
                    <a:pt x="2109" y="948"/>
                  </a:lnTo>
                  <a:lnTo>
                    <a:pt x="2109" y="916"/>
                  </a:lnTo>
                  <a:lnTo>
                    <a:pt x="2109" y="883"/>
                  </a:lnTo>
                  <a:lnTo>
                    <a:pt x="2142" y="850"/>
                  </a:lnTo>
                  <a:lnTo>
                    <a:pt x="2142" y="817"/>
                  </a:lnTo>
                  <a:lnTo>
                    <a:pt x="2142" y="784"/>
                  </a:lnTo>
                  <a:lnTo>
                    <a:pt x="2142" y="751"/>
                  </a:lnTo>
                  <a:lnTo>
                    <a:pt x="2142" y="718"/>
                  </a:lnTo>
                  <a:lnTo>
                    <a:pt x="2142" y="685"/>
                  </a:lnTo>
                  <a:lnTo>
                    <a:pt x="2142" y="652"/>
                  </a:lnTo>
                  <a:lnTo>
                    <a:pt x="2175" y="619"/>
                  </a:lnTo>
                  <a:lnTo>
                    <a:pt x="2175" y="586"/>
                  </a:lnTo>
                  <a:lnTo>
                    <a:pt x="2175" y="553"/>
                  </a:lnTo>
                  <a:lnTo>
                    <a:pt x="2175" y="521"/>
                  </a:lnTo>
                  <a:lnTo>
                    <a:pt x="2175" y="488"/>
                  </a:lnTo>
                  <a:lnTo>
                    <a:pt x="2175" y="455"/>
                  </a:lnTo>
                  <a:lnTo>
                    <a:pt x="2175" y="422"/>
                  </a:lnTo>
                  <a:lnTo>
                    <a:pt x="2208" y="389"/>
                  </a:lnTo>
                  <a:lnTo>
                    <a:pt x="2208" y="356"/>
                  </a:lnTo>
                  <a:lnTo>
                    <a:pt x="2208" y="330"/>
                  </a:lnTo>
                  <a:lnTo>
                    <a:pt x="2208" y="297"/>
                  </a:lnTo>
                  <a:lnTo>
                    <a:pt x="2208" y="264"/>
                  </a:lnTo>
                  <a:lnTo>
                    <a:pt x="2208" y="231"/>
                  </a:lnTo>
                  <a:lnTo>
                    <a:pt x="2208" y="198"/>
                  </a:lnTo>
                  <a:lnTo>
                    <a:pt x="2241" y="165"/>
                  </a:lnTo>
                  <a:lnTo>
                    <a:pt x="2241" y="132"/>
                  </a:lnTo>
                  <a:lnTo>
                    <a:pt x="2241" y="99"/>
                  </a:lnTo>
                  <a:lnTo>
                    <a:pt x="2241" y="66"/>
                  </a:lnTo>
                  <a:lnTo>
                    <a:pt x="2241" y="33"/>
                  </a:lnTo>
                  <a:lnTo>
                    <a:pt x="2241" y="0"/>
                  </a:lnTo>
                  <a:lnTo>
                    <a:pt x="2208" y="0"/>
                  </a:lnTo>
                  <a:lnTo>
                    <a:pt x="2175" y="0"/>
                  </a:lnTo>
                  <a:lnTo>
                    <a:pt x="2142" y="0"/>
                  </a:lnTo>
                  <a:lnTo>
                    <a:pt x="2109" y="0"/>
                  </a:lnTo>
                  <a:lnTo>
                    <a:pt x="2076" y="33"/>
                  </a:lnTo>
                  <a:lnTo>
                    <a:pt x="2043" y="33"/>
                  </a:lnTo>
                  <a:lnTo>
                    <a:pt x="2010" y="33"/>
                  </a:lnTo>
                  <a:lnTo>
                    <a:pt x="1977" y="66"/>
                  </a:lnTo>
                  <a:lnTo>
                    <a:pt x="1944" y="66"/>
                  </a:lnTo>
                  <a:lnTo>
                    <a:pt x="1918" y="66"/>
                  </a:lnTo>
                  <a:lnTo>
                    <a:pt x="1885" y="99"/>
                  </a:lnTo>
                  <a:lnTo>
                    <a:pt x="1852" y="99"/>
                  </a:lnTo>
                  <a:lnTo>
                    <a:pt x="1819" y="132"/>
                  </a:lnTo>
                  <a:lnTo>
                    <a:pt x="1786" y="132"/>
                  </a:lnTo>
                  <a:lnTo>
                    <a:pt x="1753" y="132"/>
                  </a:lnTo>
                  <a:lnTo>
                    <a:pt x="1720" y="165"/>
                  </a:lnTo>
                  <a:lnTo>
                    <a:pt x="1687" y="165"/>
                  </a:lnTo>
                  <a:lnTo>
                    <a:pt x="1654" y="165"/>
                  </a:lnTo>
                  <a:lnTo>
                    <a:pt x="1621" y="198"/>
                  </a:lnTo>
                  <a:lnTo>
                    <a:pt x="1588" y="198"/>
                  </a:lnTo>
                  <a:lnTo>
                    <a:pt x="1555" y="198"/>
                  </a:lnTo>
                  <a:lnTo>
                    <a:pt x="1529" y="231"/>
                  </a:lnTo>
                  <a:lnTo>
                    <a:pt x="1496" y="231"/>
                  </a:lnTo>
                  <a:lnTo>
                    <a:pt x="1463" y="231"/>
                  </a:lnTo>
                  <a:lnTo>
                    <a:pt x="1430" y="264"/>
                  </a:lnTo>
                  <a:lnTo>
                    <a:pt x="1397" y="264"/>
                  </a:lnTo>
                  <a:lnTo>
                    <a:pt x="1364" y="264"/>
                  </a:lnTo>
                  <a:lnTo>
                    <a:pt x="1331" y="297"/>
                  </a:lnTo>
                  <a:lnTo>
                    <a:pt x="1298" y="297"/>
                  </a:lnTo>
                  <a:lnTo>
                    <a:pt x="1266" y="297"/>
                  </a:lnTo>
                  <a:lnTo>
                    <a:pt x="1233" y="330"/>
                  </a:lnTo>
                  <a:lnTo>
                    <a:pt x="1200" y="330"/>
                  </a:lnTo>
                  <a:lnTo>
                    <a:pt x="1167" y="356"/>
                  </a:lnTo>
                  <a:lnTo>
                    <a:pt x="1134" y="356"/>
                  </a:lnTo>
                  <a:lnTo>
                    <a:pt x="1107" y="356"/>
                  </a:lnTo>
                  <a:lnTo>
                    <a:pt x="1074" y="389"/>
                  </a:lnTo>
                  <a:lnTo>
                    <a:pt x="1042" y="389"/>
                  </a:lnTo>
                  <a:lnTo>
                    <a:pt x="1009" y="389"/>
                  </a:lnTo>
                  <a:lnTo>
                    <a:pt x="976" y="422"/>
                  </a:lnTo>
                  <a:lnTo>
                    <a:pt x="943" y="422"/>
                  </a:lnTo>
                  <a:lnTo>
                    <a:pt x="910" y="422"/>
                  </a:lnTo>
                  <a:lnTo>
                    <a:pt x="877" y="455"/>
                  </a:lnTo>
                  <a:lnTo>
                    <a:pt x="844" y="455"/>
                  </a:lnTo>
                  <a:lnTo>
                    <a:pt x="811" y="455"/>
                  </a:lnTo>
                  <a:lnTo>
                    <a:pt x="778" y="488"/>
                  </a:lnTo>
                  <a:lnTo>
                    <a:pt x="745" y="488"/>
                  </a:lnTo>
                  <a:lnTo>
                    <a:pt x="712" y="488"/>
                  </a:lnTo>
                  <a:lnTo>
                    <a:pt x="686" y="521"/>
                  </a:lnTo>
                  <a:lnTo>
                    <a:pt x="653" y="521"/>
                  </a:lnTo>
                  <a:lnTo>
                    <a:pt x="620" y="521"/>
                  </a:lnTo>
                  <a:lnTo>
                    <a:pt x="587" y="553"/>
                  </a:lnTo>
                  <a:lnTo>
                    <a:pt x="554" y="553"/>
                  </a:lnTo>
                  <a:lnTo>
                    <a:pt x="521" y="553"/>
                  </a:lnTo>
                  <a:lnTo>
                    <a:pt x="488" y="586"/>
                  </a:lnTo>
                  <a:lnTo>
                    <a:pt x="455" y="586"/>
                  </a:lnTo>
                  <a:lnTo>
                    <a:pt x="422" y="619"/>
                  </a:lnTo>
                  <a:lnTo>
                    <a:pt x="389" y="619"/>
                  </a:lnTo>
                  <a:lnTo>
                    <a:pt x="356" y="619"/>
                  </a:lnTo>
                  <a:lnTo>
                    <a:pt x="323" y="652"/>
                  </a:lnTo>
                  <a:lnTo>
                    <a:pt x="290" y="652"/>
                  </a:lnTo>
                  <a:lnTo>
                    <a:pt x="264" y="652"/>
                  </a:lnTo>
                  <a:lnTo>
                    <a:pt x="231" y="685"/>
                  </a:lnTo>
                  <a:lnTo>
                    <a:pt x="198" y="685"/>
                  </a:lnTo>
                  <a:lnTo>
                    <a:pt x="165" y="685"/>
                  </a:lnTo>
                  <a:lnTo>
                    <a:pt x="132" y="718"/>
                  </a:lnTo>
                  <a:lnTo>
                    <a:pt x="99" y="718"/>
                  </a:lnTo>
                  <a:lnTo>
                    <a:pt x="99" y="751"/>
                  </a:lnTo>
                  <a:lnTo>
                    <a:pt x="99" y="784"/>
                  </a:lnTo>
                  <a:lnTo>
                    <a:pt x="99" y="817"/>
                  </a:lnTo>
                  <a:lnTo>
                    <a:pt x="99" y="850"/>
                  </a:lnTo>
                  <a:lnTo>
                    <a:pt x="99" y="883"/>
                  </a:lnTo>
                  <a:lnTo>
                    <a:pt x="66" y="916"/>
                  </a:lnTo>
                  <a:lnTo>
                    <a:pt x="66" y="948"/>
                  </a:lnTo>
                  <a:lnTo>
                    <a:pt x="66" y="975"/>
                  </a:lnTo>
                  <a:lnTo>
                    <a:pt x="66" y="1008"/>
                  </a:lnTo>
                  <a:lnTo>
                    <a:pt x="66" y="1041"/>
                  </a:lnTo>
                  <a:lnTo>
                    <a:pt x="66" y="1074"/>
                  </a:lnTo>
                  <a:lnTo>
                    <a:pt x="66" y="1106"/>
                  </a:lnTo>
                  <a:lnTo>
                    <a:pt x="66" y="1139"/>
                  </a:lnTo>
                  <a:lnTo>
                    <a:pt x="66" y="1172"/>
                  </a:lnTo>
                  <a:lnTo>
                    <a:pt x="66" y="1205"/>
                  </a:lnTo>
                  <a:lnTo>
                    <a:pt x="66" y="1238"/>
                  </a:lnTo>
                  <a:lnTo>
                    <a:pt x="66" y="1271"/>
                  </a:lnTo>
                  <a:lnTo>
                    <a:pt x="66" y="1304"/>
                  </a:lnTo>
                  <a:lnTo>
                    <a:pt x="66" y="1337"/>
                  </a:lnTo>
                  <a:lnTo>
                    <a:pt x="66" y="1370"/>
                  </a:lnTo>
                  <a:lnTo>
                    <a:pt x="66" y="1403"/>
                  </a:lnTo>
                  <a:lnTo>
                    <a:pt x="66" y="1436"/>
                  </a:lnTo>
                  <a:lnTo>
                    <a:pt x="66" y="1469"/>
                  </a:lnTo>
                  <a:lnTo>
                    <a:pt x="33" y="1501"/>
                  </a:lnTo>
                  <a:lnTo>
                    <a:pt x="33" y="1534"/>
                  </a:lnTo>
                  <a:lnTo>
                    <a:pt x="33" y="1567"/>
                  </a:lnTo>
                  <a:lnTo>
                    <a:pt x="33" y="1594"/>
                  </a:lnTo>
                  <a:lnTo>
                    <a:pt x="33" y="1627"/>
                  </a:lnTo>
                  <a:lnTo>
                    <a:pt x="33" y="1660"/>
                  </a:lnTo>
                  <a:lnTo>
                    <a:pt x="33" y="1692"/>
                  </a:lnTo>
                  <a:lnTo>
                    <a:pt x="33" y="1725"/>
                  </a:lnTo>
                  <a:lnTo>
                    <a:pt x="33" y="1758"/>
                  </a:lnTo>
                  <a:lnTo>
                    <a:pt x="33" y="1791"/>
                  </a:lnTo>
                  <a:lnTo>
                    <a:pt x="33" y="1824"/>
                  </a:lnTo>
                  <a:lnTo>
                    <a:pt x="33" y="1857"/>
                  </a:lnTo>
                  <a:lnTo>
                    <a:pt x="33" y="1890"/>
                  </a:lnTo>
                  <a:lnTo>
                    <a:pt x="33" y="1923"/>
                  </a:lnTo>
                  <a:lnTo>
                    <a:pt x="33" y="1956"/>
                  </a:lnTo>
                  <a:lnTo>
                    <a:pt x="33" y="1989"/>
                  </a:lnTo>
                  <a:lnTo>
                    <a:pt x="33" y="2022"/>
                  </a:lnTo>
                  <a:lnTo>
                    <a:pt x="0" y="2055"/>
                  </a:lnTo>
                  <a:lnTo>
                    <a:pt x="0" y="2087"/>
                  </a:lnTo>
                  <a:lnTo>
                    <a:pt x="0" y="2120"/>
                  </a:lnTo>
                  <a:lnTo>
                    <a:pt x="0" y="2153"/>
                  </a:lnTo>
                  <a:lnTo>
                    <a:pt x="0" y="2186"/>
                  </a:lnTo>
                  <a:lnTo>
                    <a:pt x="0" y="2213"/>
                  </a:lnTo>
                  <a:lnTo>
                    <a:pt x="0" y="2245"/>
                  </a:lnTo>
                  <a:lnTo>
                    <a:pt x="0" y="2278"/>
                  </a:lnTo>
                  <a:lnTo>
                    <a:pt x="0" y="2311"/>
                  </a:lnTo>
                  <a:lnTo>
                    <a:pt x="0" y="2344"/>
                  </a:lnTo>
                  <a:lnTo>
                    <a:pt x="0" y="2377"/>
                  </a:lnTo>
                  <a:lnTo>
                    <a:pt x="0" y="2410"/>
                  </a:lnTo>
                  <a:lnTo>
                    <a:pt x="0" y="2443"/>
                  </a:lnTo>
                  <a:lnTo>
                    <a:pt x="0" y="2476"/>
                  </a:lnTo>
                  <a:lnTo>
                    <a:pt x="0" y="2509"/>
                  </a:lnTo>
                  <a:lnTo>
                    <a:pt x="0" y="2542"/>
                  </a:lnTo>
                  <a:lnTo>
                    <a:pt x="0" y="2575"/>
                  </a:lnTo>
                  <a:lnTo>
                    <a:pt x="0" y="2608"/>
                  </a:lnTo>
                  <a:lnTo>
                    <a:pt x="0" y="2640"/>
                  </a:lnTo>
                  <a:lnTo>
                    <a:pt x="33" y="2640"/>
                  </a:lnTo>
                  <a:lnTo>
                    <a:pt x="66" y="2673"/>
                  </a:lnTo>
                  <a:lnTo>
                    <a:pt x="99" y="2673"/>
                  </a:lnTo>
                  <a:lnTo>
                    <a:pt x="132" y="2706"/>
                  </a:lnTo>
                  <a:lnTo>
                    <a:pt x="165" y="2739"/>
                  </a:lnTo>
                  <a:lnTo>
                    <a:pt x="198" y="2739"/>
                  </a:lnTo>
                  <a:lnTo>
                    <a:pt x="231" y="2772"/>
                  </a:lnTo>
                  <a:lnTo>
                    <a:pt x="264" y="2805"/>
                  </a:lnTo>
                  <a:lnTo>
                    <a:pt x="290" y="2805"/>
                  </a:lnTo>
                  <a:lnTo>
                    <a:pt x="323" y="2831"/>
                  </a:lnTo>
                  <a:lnTo>
                    <a:pt x="356" y="2864"/>
                  </a:lnTo>
                  <a:lnTo>
                    <a:pt x="389" y="2864"/>
                  </a:lnTo>
                  <a:lnTo>
                    <a:pt x="422" y="2897"/>
                  </a:lnTo>
                  <a:lnTo>
                    <a:pt x="455" y="2930"/>
                  </a:lnTo>
                  <a:lnTo>
                    <a:pt x="488" y="2930"/>
                  </a:lnTo>
                  <a:lnTo>
                    <a:pt x="521" y="2963"/>
                  </a:lnTo>
                  <a:lnTo>
                    <a:pt x="554" y="2963"/>
                  </a:lnTo>
                  <a:lnTo>
                    <a:pt x="587" y="2996"/>
                  </a:lnTo>
                  <a:lnTo>
                    <a:pt x="620" y="3029"/>
                  </a:lnTo>
                  <a:lnTo>
                    <a:pt x="653" y="3029"/>
                  </a:lnTo>
                  <a:lnTo>
                    <a:pt x="686" y="3062"/>
                  </a:lnTo>
                  <a:lnTo>
                    <a:pt x="712" y="3095"/>
                  </a:lnTo>
                  <a:lnTo>
                    <a:pt x="745" y="3095"/>
                  </a:lnTo>
                  <a:lnTo>
                    <a:pt x="778" y="3128"/>
                  </a:lnTo>
                  <a:lnTo>
                    <a:pt x="811" y="3128"/>
                  </a:lnTo>
                  <a:lnTo>
                    <a:pt x="844" y="3161"/>
                  </a:lnTo>
                  <a:lnTo>
                    <a:pt x="877" y="3161"/>
                  </a:lnTo>
                  <a:lnTo>
                    <a:pt x="910" y="3161"/>
                  </a:lnTo>
                  <a:lnTo>
                    <a:pt x="943" y="3161"/>
                  </a:lnTo>
                  <a:close/>
                  <a:moveTo>
                    <a:pt x="1358" y="1534"/>
                  </a:moveTo>
                  <a:lnTo>
                    <a:pt x="1358" y="1528"/>
                  </a:lnTo>
                  <a:lnTo>
                    <a:pt x="1364" y="1528"/>
                  </a:lnTo>
                  <a:lnTo>
                    <a:pt x="1364" y="1521"/>
                  </a:lnTo>
                  <a:lnTo>
                    <a:pt x="1364" y="1521"/>
                  </a:lnTo>
                  <a:lnTo>
                    <a:pt x="1371" y="1528"/>
                  </a:lnTo>
                  <a:lnTo>
                    <a:pt x="1371" y="1528"/>
                  </a:lnTo>
                  <a:lnTo>
                    <a:pt x="1378" y="1528"/>
                  </a:lnTo>
                  <a:lnTo>
                    <a:pt x="1378" y="1534"/>
                  </a:lnTo>
                  <a:lnTo>
                    <a:pt x="1371" y="1534"/>
                  </a:lnTo>
                  <a:lnTo>
                    <a:pt x="1371" y="1534"/>
                  </a:lnTo>
                  <a:lnTo>
                    <a:pt x="1364" y="1534"/>
                  </a:lnTo>
                  <a:lnTo>
                    <a:pt x="1364" y="1534"/>
                  </a:lnTo>
                  <a:lnTo>
                    <a:pt x="1358" y="1534"/>
                  </a:lnTo>
                  <a:lnTo>
                    <a:pt x="1358" y="1534"/>
                  </a:lnTo>
                  <a:close/>
                  <a:moveTo>
                    <a:pt x="943" y="3161"/>
                  </a:moveTo>
                  <a:lnTo>
                    <a:pt x="976" y="3128"/>
                  </a:lnTo>
                  <a:lnTo>
                    <a:pt x="1009" y="3128"/>
                  </a:lnTo>
                  <a:lnTo>
                    <a:pt x="1042" y="3095"/>
                  </a:lnTo>
                  <a:lnTo>
                    <a:pt x="1074" y="3095"/>
                  </a:lnTo>
                  <a:lnTo>
                    <a:pt x="1107" y="3095"/>
                  </a:lnTo>
                  <a:lnTo>
                    <a:pt x="1134" y="3062"/>
                  </a:lnTo>
                  <a:lnTo>
                    <a:pt x="1167" y="3062"/>
                  </a:lnTo>
                  <a:lnTo>
                    <a:pt x="1200" y="3029"/>
                  </a:lnTo>
                  <a:lnTo>
                    <a:pt x="1233" y="3029"/>
                  </a:lnTo>
                  <a:lnTo>
                    <a:pt x="1266" y="2996"/>
                  </a:lnTo>
                  <a:lnTo>
                    <a:pt x="1298" y="2996"/>
                  </a:lnTo>
                  <a:lnTo>
                    <a:pt x="1331" y="2996"/>
                  </a:lnTo>
                  <a:lnTo>
                    <a:pt x="1331" y="2963"/>
                  </a:lnTo>
                  <a:lnTo>
                    <a:pt x="1364" y="2930"/>
                  </a:lnTo>
                  <a:lnTo>
                    <a:pt x="1364" y="2897"/>
                  </a:lnTo>
                  <a:lnTo>
                    <a:pt x="1397" y="2864"/>
                  </a:lnTo>
                  <a:lnTo>
                    <a:pt x="1397" y="2831"/>
                  </a:lnTo>
                  <a:lnTo>
                    <a:pt x="1430" y="2805"/>
                  </a:lnTo>
                  <a:lnTo>
                    <a:pt x="1430" y="2772"/>
                  </a:lnTo>
                  <a:lnTo>
                    <a:pt x="1463" y="2739"/>
                  </a:lnTo>
                  <a:lnTo>
                    <a:pt x="1496" y="2706"/>
                  </a:lnTo>
                  <a:lnTo>
                    <a:pt x="1496" y="2673"/>
                  </a:lnTo>
                  <a:lnTo>
                    <a:pt x="1529" y="2640"/>
                  </a:lnTo>
                  <a:lnTo>
                    <a:pt x="1529" y="2608"/>
                  </a:lnTo>
                  <a:lnTo>
                    <a:pt x="1555" y="2575"/>
                  </a:lnTo>
                  <a:lnTo>
                    <a:pt x="1555" y="2542"/>
                  </a:lnTo>
                  <a:lnTo>
                    <a:pt x="1588" y="2509"/>
                  </a:lnTo>
                  <a:lnTo>
                    <a:pt x="1588" y="2476"/>
                  </a:lnTo>
                  <a:lnTo>
                    <a:pt x="1621" y="2443"/>
                  </a:lnTo>
                  <a:lnTo>
                    <a:pt x="1621" y="2410"/>
                  </a:lnTo>
                  <a:lnTo>
                    <a:pt x="1654" y="2377"/>
                  </a:lnTo>
                  <a:lnTo>
                    <a:pt x="1654" y="2344"/>
                  </a:lnTo>
                  <a:lnTo>
                    <a:pt x="1687" y="2311"/>
                  </a:lnTo>
                  <a:lnTo>
                    <a:pt x="1687" y="2278"/>
                  </a:lnTo>
                  <a:lnTo>
                    <a:pt x="1720" y="2245"/>
                  </a:lnTo>
                  <a:lnTo>
                    <a:pt x="1753" y="2213"/>
                  </a:lnTo>
                  <a:lnTo>
                    <a:pt x="1753" y="2186"/>
                  </a:lnTo>
                  <a:lnTo>
                    <a:pt x="1786" y="2153"/>
                  </a:lnTo>
                  <a:lnTo>
                    <a:pt x="1786" y="2120"/>
                  </a:lnTo>
                  <a:lnTo>
                    <a:pt x="1819" y="2087"/>
                  </a:lnTo>
                  <a:lnTo>
                    <a:pt x="1819" y="2055"/>
                  </a:lnTo>
                  <a:lnTo>
                    <a:pt x="1852" y="2022"/>
                  </a:lnTo>
                  <a:lnTo>
                    <a:pt x="1852" y="1989"/>
                  </a:lnTo>
                  <a:lnTo>
                    <a:pt x="1885" y="1956"/>
                  </a:lnTo>
                  <a:lnTo>
                    <a:pt x="1885" y="1923"/>
                  </a:lnTo>
                  <a:lnTo>
                    <a:pt x="1918" y="1890"/>
                  </a:lnTo>
                  <a:lnTo>
                    <a:pt x="1918" y="1857"/>
                  </a:lnTo>
                  <a:lnTo>
                    <a:pt x="1944" y="1824"/>
                  </a:lnTo>
                  <a:lnTo>
                    <a:pt x="1944" y="1791"/>
                  </a:lnTo>
                  <a:lnTo>
                    <a:pt x="1977" y="1758"/>
                  </a:lnTo>
                  <a:lnTo>
                    <a:pt x="1977" y="1725"/>
                  </a:lnTo>
                  <a:lnTo>
                    <a:pt x="1977" y="1692"/>
                  </a:lnTo>
                  <a:lnTo>
                    <a:pt x="1977" y="1660"/>
                  </a:lnTo>
                  <a:lnTo>
                    <a:pt x="2010" y="1627"/>
                  </a:lnTo>
                  <a:lnTo>
                    <a:pt x="2010" y="1594"/>
                  </a:lnTo>
                  <a:lnTo>
                    <a:pt x="2010" y="1567"/>
                  </a:lnTo>
                  <a:lnTo>
                    <a:pt x="2010" y="1534"/>
                  </a:lnTo>
                  <a:lnTo>
                    <a:pt x="2043" y="1501"/>
                  </a:lnTo>
                  <a:lnTo>
                    <a:pt x="2043" y="1469"/>
                  </a:lnTo>
                  <a:lnTo>
                    <a:pt x="2043" y="1436"/>
                  </a:lnTo>
                  <a:lnTo>
                    <a:pt x="2043" y="1403"/>
                  </a:lnTo>
                  <a:lnTo>
                    <a:pt x="2043" y="1370"/>
                  </a:lnTo>
                  <a:lnTo>
                    <a:pt x="2043" y="1337"/>
                  </a:lnTo>
                  <a:lnTo>
                    <a:pt x="2076" y="1304"/>
                  </a:lnTo>
                  <a:lnTo>
                    <a:pt x="2076" y="1271"/>
                  </a:lnTo>
                  <a:lnTo>
                    <a:pt x="2076" y="1238"/>
                  </a:lnTo>
                  <a:lnTo>
                    <a:pt x="2076" y="1205"/>
                  </a:lnTo>
                  <a:lnTo>
                    <a:pt x="2076" y="1172"/>
                  </a:lnTo>
                  <a:lnTo>
                    <a:pt x="2076" y="1139"/>
                  </a:lnTo>
                  <a:lnTo>
                    <a:pt x="2076" y="1106"/>
                  </a:lnTo>
                  <a:lnTo>
                    <a:pt x="2109" y="1074"/>
                  </a:lnTo>
                  <a:lnTo>
                    <a:pt x="2109" y="1041"/>
                  </a:lnTo>
                  <a:lnTo>
                    <a:pt x="2109" y="1008"/>
                  </a:lnTo>
                  <a:lnTo>
                    <a:pt x="2109" y="975"/>
                  </a:lnTo>
                  <a:lnTo>
                    <a:pt x="2109" y="948"/>
                  </a:lnTo>
                  <a:lnTo>
                    <a:pt x="2109" y="916"/>
                  </a:lnTo>
                  <a:lnTo>
                    <a:pt x="2109" y="883"/>
                  </a:lnTo>
                  <a:lnTo>
                    <a:pt x="2142" y="850"/>
                  </a:lnTo>
                  <a:lnTo>
                    <a:pt x="2142" y="817"/>
                  </a:lnTo>
                  <a:lnTo>
                    <a:pt x="2142" y="784"/>
                  </a:lnTo>
                  <a:lnTo>
                    <a:pt x="2142" y="751"/>
                  </a:lnTo>
                  <a:lnTo>
                    <a:pt x="2142" y="718"/>
                  </a:lnTo>
                  <a:lnTo>
                    <a:pt x="2142" y="685"/>
                  </a:lnTo>
                  <a:lnTo>
                    <a:pt x="2142" y="652"/>
                  </a:lnTo>
                  <a:lnTo>
                    <a:pt x="2175" y="619"/>
                  </a:lnTo>
                  <a:lnTo>
                    <a:pt x="2175" y="586"/>
                  </a:lnTo>
                  <a:lnTo>
                    <a:pt x="2175" y="553"/>
                  </a:lnTo>
                  <a:lnTo>
                    <a:pt x="2175" y="521"/>
                  </a:lnTo>
                  <a:lnTo>
                    <a:pt x="2175" y="488"/>
                  </a:lnTo>
                  <a:lnTo>
                    <a:pt x="2175" y="455"/>
                  </a:lnTo>
                  <a:lnTo>
                    <a:pt x="2175" y="422"/>
                  </a:lnTo>
                  <a:lnTo>
                    <a:pt x="2208" y="389"/>
                  </a:lnTo>
                  <a:lnTo>
                    <a:pt x="2208" y="356"/>
                  </a:lnTo>
                  <a:lnTo>
                    <a:pt x="2208" y="330"/>
                  </a:lnTo>
                  <a:lnTo>
                    <a:pt x="2208" y="297"/>
                  </a:lnTo>
                  <a:lnTo>
                    <a:pt x="2208" y="264"/>
                  </a:lnTo>
                  <a:lnTo>
                    <a:pt x="2208" y="231"/>
                  </a:lnTo>
                  <a:lnTo>
                    <a:pt x="2208" y="198"/>
                  </a:lnTo>
                  <a:lnTo>
                    <a:pt x="2241" y="165"/>
                  </a:lnTo>
                  <a:lnTo>
                    <a:pt x="2241" y="132"/>
                  </a:lnTo>
                  <a:lnTo>
                    <a:pt x="2241" y="99"/>
                  </a:lnTo>
                  <a:lnTo>
                    <a:pt x="2241" y="66"/>
                  </a:lnTo>
                  <a:lnTo>
                    <a:pt x="2241" y="33"/>
                  </a:lnTo>
                  <a:lnTo>
                    <a:pt x="2241" y="0"/>
                  </a:lnTo>
                  <a:lnTo>
                    <a:pt x="2208" y="0"/>
                  </a:lnTo>
                  <a:lnTo>
                    <a:pt x="2175" y="0"/>
                  </a:lnTo>
                  <a:lnTo>
                    <a:pt x="2142" y="0"/>
                  </a:lnTo>
                  <a:lnTo>
                    <a:pt x="2109" y="0"/>
                  </a:lnTo>
                  <a:lnTo>
                    <a:pt x="2076" y="33"/>
                  </a:lnTo>
                  <a:lnTo>
                    <a:pt x="2043" y="33"/>
                  </a:lnTo>
                  <a:lnTo>
                    <a:pt x="2010" y="33"/>
                  </a:lnTo>
                  <a:lnTo>
                    <a:pt x="1977" y="66"/>
                  </a:lnTo>
                  <a:lnTo>
                    <a:pt x="1944" y="66"/>
                  </a:lnTo>
                  <a:lnTo>
                    <a:pt x="1918" y="66"/>
                  </a:lnTo>
                  <a:lnTo>
                    <a:pt x="1885" y="99"/>
                  </a:lnTo>
                  <a:lnTo>
                    <a:pt x="1852" y="99"/>
                  </a:lnTo>
                  <a:lnTo>
                    <a:pt x="1819" y="132"/>
                  </a:lnTo>
                  <a:lnTo>
                    <a:pt x="1786" y="132"/>
                  </a:lnTo>
                  <a:lnTo>
                    <a:pt x="1753" y="132"/>
                  </a:lnTo>
                  <a:lnTo>
                    <a:pt x="1720" y="165"/>
                  </a:lnTo>
                  <a:lnTo>
                    <a:pt x="1687" y="165"/>
                  </a:lnTo>
                  <a:lnTo>
                    <a:pt x="1654" y="165"/>
                  </a:lnTo>
                  <a:lnTo>
                    <a:pt x="1621" y="198"/>
                  </a:lnTo>
                  <a:lnTo>
                    <a:pt x="1588" y="198"/>
                  </a:lnTo>
                  <a:lnTo>
                    <a:pt x="1555" y="198"/>
                  </a:lnTo>
                  <a:lnTo>
                    <a:pt x="1529" y="231"/>
                  </a:lnTo>
                  <a:lnTo>
                    <a:pt x="1496" y="231"/>
                  </a:lnTo>
                  <a:lnTo>
                    <a:pt x="1463" y="231"/>
                  </a:lnTo>
                  <a:lnTo>
                    <a:pt x="1430" y="264"/>
                  </a:lnTo>
                  <a:lnTo>
                    <a:pt x="1397" y="264"/>
                  </a:lnTo>
                  <a:lnTo>
                    <a:pt x="1364" y="264"/>
                  </a:lnTo>
                  <a:lnTo>
                    <a:pt x="1331" y="297"/>
                  </a:lnTo>
                  <a:lnTo>
                    <a:pt x="1298" y="297"/>
                  </a:lnTo>
                  <a:lnTo>
                    <a:pt x="1266" y="297"/>
                  </a:lnTo>
                  <a:lnTo>
                    <a:pt x="1233" y="330"/>
                  </a:lnTo>
                  <a:lnTo>
                    <a:pt x="1200" y="330"/>
                  </a:lnTo>
                  <a:lnTo>
                    <a:pt x="1167" y="356"/>
                  </a:lnTo>
                  <a:lnTo>
                    <a:pt x="1134" y="356"/>
                  </a:lnTo>
                  <a:lnTo>
                    <a:pt x="1107" y="356"/>
                  </a:lnTo>
                  <a:lnTo>
                    <a:pt x="1074" y="389"/>
                  </a:lnTo>
                  <a:lnTo>
                    <a:pt x="1042" y="389"/>
                  </a:lnTo>
                  <a:lnTo>
                    <a:pt x="1009" y="389"/>
                  </a:lnTo>
                  <a:lnTo>
                    <a:pt x="976" y="422"/>
                  </a:lnTo>
                  <a:lnTo>
                    <a:pt x="943" y="422"/>
                  </a:lnTo>
                  <a:lnTo>
                    <a:pt x="910" y="422"/>
                  </a:lnTo>
                  <a:lnTo>
                    <a:pt x="877" y="455"/>
                  </a:lnTo>
                  <a:lnTo>
                    <a:pt x="844" y="455"/>
                  </a:lnTo>
                  <a:lnTo>
                    <a:pt x="811" y="455"/>
                  </a:lnTo>
                  <a:lnTo>
                    <a:pt x="778" y="488"/>
                  </a:lnTo>
                  <a:lnTo>
                    <a:pt x="745" y="488"/>
                  </a:lnTo>
                  <a:lnTo>
                    <a:pt x="712" y="488"/>
                  </a:lnTo>
                  <a:lnTo>
                    <a:pt x="686" y="521"/>
                  </a:lnTo>
                  <a:lnTo>
                    <a:pt x="653" y="521"/>
                  </a:lnTo>
                  <a:lnTo>
                    <a:pt x="620" y="521"/>
                  </a:lnTo>
                  <a:lnTo>
                    <a:pt x="587" y="553"/>
                  </a:lnTo>
                  <a:lnTo>
                    <a:pt x="554" y="553"/>
                  </a:lnTo>
                  <a:lnTo>
                    <a:pt x="521" y="553"/>
                  </a:lnTo>
                  <a:lnTo>
                    <a:pt x="488" y="586"/>
                  </a:lnTo>
                  <a:lnTo>
                    <a:pt x="455" y="586"/>
                  </a:lnTo>
                  <a:lnTo>
                    <a:pt x="422" y="619"/>
                  </a:lnTo>
                  <a:lnTo>
                    <a:pt x="389" y="619"/>
                  </a:lnTo>
                  <a:lnTo>
                    <a:pt x="356" y="619"/>
                  </a:lnTo>
                  <a:lnTo>
                    <a:pt x="323" y="652"/>
                  </a:lnTo>
                  <a:lnTo>
                    <a:pt x="290" y="652"/>
                  </a:lnTo>
                  <a:lnTo>
                    <a:pt x="264" y="652"/>
                  </a:lnTo>
                  <a:lnTo>
                    <a:pt x="231" y="685"/>
                  </a:lnTo>
                  <a:lnTo>
                    <a:pt x="198" y="685"/>
                  </a:lnTo>
                  <a:lnTo>
                    <a:pt x="165" y="685"/>
                  </a:lnTo>
                  <a:lnTo>
                    <a:pt x="132" y="718"/>
                  </a:lnTo>
                  <a:lnTo>
                    <a:pt x="99" y="718"/>
                  </a:lnTo>
                  <a:lnTo>
                    <a:pt x="99" y="751"/>
                  </a:lnTo>
                  <a:lnTo>
                    <a:pt x="99" y="784"/>
                  </a:lnTo>
                  <a:lnTo>
                    <a:pt x="99" y="817"/>
                  </a:lnTo>
                  <a:lnTo>
                    <a:pt x="99" y="850"/>
                  </a:lnTo>
                  <a:lnTo>
                    <a:pt x="99" y="883"/>
                  </a:lnTo>
                  <a:lnTo>
                    <a:pt x="66" y="916"/>
                  </a:lnTo>
                  <a:lnTo>
                    <a:pt x="66" y="948"/>
                  </a:lnTo>
                  <a:lnTo>
                    <a:pt x="66" y="975"/>
                  </a:lnTo>
                  <a:lnTo>
                    <a:pt x="66" y="1008"/>
                  </a:lnTo>
                  <a:lnTo>
                    <a:pt x="66" y="1041"/>
                  </a:lnTo>
                  <a:lnTo>
                    <a:pt x="66" y="1074"/>
                  </a:lnTo>
                  <a:lnTo>
                    <a:pt x="66" y="1106"/>
                  </a:lnTo>
                  <a:lnTo>
                    <a:pt x="66" y="1139"/>
                  </a:lnTo>
                  <a:lnTo>
                    <a:pt x="66" y="1172"/>
                  </a:lnTo>
                  <a:lnTo>
                    <a:pt x="66" y="1205"/>
                  </a:lnTo>
                  <a:lnTo>
                    <a:pt x="66" y="1238"/>
                  </a:lnTo>
                  <a:lnTo>
                    <a:pt x="66" y="1271"/>
                  </a:lnTo>
                  <a:lnTo>
                    <a:pt x="66" y="1304"/>
                  </a:lnTo>
                  <a:lnTo>
                    <a:pt x="66" y="1337"/>
                  </a:lnTo>
                  <a:lnTo>
                    <a:pt x="66" y="1370"/>
                  </a:lnTo>
                  <a:lnTo>
                    <a:pt x="66" y="1403"/>
                  </a:lnTo>
                  <a:lnTo>
                    <a:pt x="66" y="1436"/>
                  </a:lnTo>
                  <a:lnTo>
                    <a:pt x="66" y="1469"/>
                  </a:lnTo>
                  <a:lnTo>
                    <a:pt x="33" y="1501"/>
                  </a:lnTo>
                  <a:lnTo>
                    <a:pt x="33" y="1534"/>
                  </a:lnTo>
                  <a:lnTo>
                    <a:pt x="33" y="1567"/>
                  </a:lnTo>
                  <a:lnTo>
                    <a:pt x="33" y="1594"/>
                  </a:lnTo>
                  <a:lnTo>
                    <a:pt x="33" y="1627"/>
                  </a:lnTo>
                  <a:lnTo>
                    <a:pt x="33" y="1660"/>
                  </a:lnTo>
                  <a:lnTo>
                    <a:pt x="33" y="1692"/>
                  </a:lnTo>
                  <a:lnTo>
                    <a:pt x="33" y="1725"/>
                  </a:lnTo>
                  <a:lnTo>
                    <a:pt x="33" y="1758"/>
                  </a:lnTo>
                  <a:lnTo>
                    <a:pt x="33" y="1791"/>
                  </a:lnTo>
                  <a:lnTo>
                    <a:pt x="33" y="1824"/>
                  </a:lnTo>
                  <a:lnTo>
                    <a:pt x="33" y="1857"/>
                  </a:lnTo>
                  <a:lnTo>
                    <a:pt x="33" y="1890"/>
                  </a:lnTo>
                  <a:lnTo>
                    <a:pt x="33" y="1923"/>
                  </a:lnTo>
                  <a:lnTo>
                    <a:pt x="33" y="1956"/>
                  </a:lnTo>
                  <a:lnTo>
                    <a:pt x="33" y="1989"/>
                  </a:lnTo>
                  <a:lnTo>
                    <a:pt x="33" y="2022"/>
                  </a:lnTo>
                  <a:lnTo>
                    <a:pt x="0" y="2055"/>
                  </a:lnTo>
                  <a:lnTo>
                    <a:pt x="0" y="2087"/>
                  </a:lnTo>
                  <a:lnTo>
                    <a:pt x="0" y="2120"/>
                  </a:lnTo>
                  <a:lnTo>
                    <a:pt x="0" y="2153"/>
                  </a:lnTo>
                  <a:lnTo>
                    <a:pt x="0" y="2186"/>
                  </a:lnTo>
                  <a:lnTo>
                    <a:pt x="0" y="2213"/>
                  </a:lnTo>
                  <a:lnTo>
                    <a:pt x="0" y="2245"/>
                  </a:lnTo>
                  <a:lnTo>
                    <a:pt x="0" y="2278"/>
                  </a:lnTo>
                  <a:lnTo>
                    <a:pt x="0" y="2311"/>
                  </a:lnTo>
                  <a:lnTo>
                    <a:pt x="0" y="2344"/>
                  </a:lnTo>
                  <a:lnTo>
                    <a:pt x="0" y="2377"/>
                  </a:lnTo>
                  <a:lnTo>
                    <a:pt x="0" y="2410"/>
                  </a:lnTo>
                  <a:lnTo>
                    <a:pt x="0" y="2443"/>
                  </a:lnTo>
                  <a:lnTo>
                    <a:pt x="0" y="2476"/>
                  </a:lnTo>
                  <a:lnTo>
                    <a:pt x="0" y="2509"/>
                  </a:lnTo>
                  <a:lnTo>
                    <a:pt x="0" y="2542"/>
                  </a:lnTo>
                  <a:lnTo>
                    <a:pt x="0" y="2575"/>
                  </a:lnTo>
                  <a:lnTo>
                    <a:pt x="0" y="2608"/>
                  </a:lnTo>
                  <a:lnTo>
                    <a:pt x="0" y="2640"/>
                  </a:lnTo>
                  <a:lnTo>
                    <a:pt x="33" y="2640"/>
                  </a:lnTo>
                  <a:lnTo>
                    <a:pt x="66" y="2673"/>
                  </a:lnTo>
                  <a:lnTo>
                    <a:pt x="99" y="2673"/>
                  </a:lnTo>
                  <a:lnTo>
                    <a:pt x="132" y="2706"/>
                  </a:lnTo>
                  <a:lnTo>
                    <a:pt x="165" y="2739"/>
                  </a:lnTo>
                  <a:lnTo>
                    <a:pt x="198" y="2739"/>
                  </a:lnTo>
                  <a:lnTo>
                    <a:pt x="231" y="2772"/>
                  </a:lnTo>
                  <a:lnTo>
                    <a:pt x="264" y="2805"/>
                  </a:lnTo>
                  <a:lnTo>
                    <a:pt x="290" y="2805"/>
                  </a:lnTo>
                  <a:lnTo>
                    <a:pt x="323" y="2831"/>
                  </a:lnTo>
                  <a:lnTo>
                    <a:pt x="356" y="2864"/>
                  </a:lnTo>
                  <a:lnTo>
                    <a:pt x="389" y="2864"/>
                  </a:lnTo>
                  <a:lnTo>
                    <a:pt x="422" y="2897"/>
                  </a:lnTo>
                  <a:lnTo>
                    <a:pt x="455" y="2930"/>
                  </a:lnTo>
                  <a:lnTo>
                    <a:pt x="488" y="2930"/>
                  </a:lnTo>
                  <a:lnTo>
                    <a:pt x="521" y="2963"/>
                  </a:lnTo>
                  <a:lnTo>
                    <a:pt x="554" y="2963"/>
                  </a:lnTo>
                  <a:lnTo>
                    <a:pt x="587" y="2996"/>
                  </a:lnTo>
                  <a:lnTo>
                    <a:pt x="620" y="3029"/>
                  </a:lnTo>
                  <a:lnTo>
                    <a:pt x="653" y="3029"/>
                  </a:lnTo>
                  <a:lnTo>
                    <a:pt x="686" y="3062"/>
                  </a:lnTo>
                  <a:lnTo>
                    <a:pt x="712" y="3095"/>
                  </a:lnTo>
                  <a:lnTo>
                    <a:pt x="745" y="3095"/>
                  </a:lnTo>
                  <a:lnTo>
                    <a:pt x="778" y="3128"/>
                  </a:lnTo>
                  <a:lnTo>
                    <a:pt x="811" y="3128"/>
                  </a:lnTo>
                  <a:lnTo>
                    <a:pt x="844" y="3161"/>
                  </a:lnTo>
                  <a:lnTo>
                    <a:pt x="877" y="3161"/>
                  </a:lnTo>
                  <a:lnTo>
                    <a:pt x="910" y="3161"/>
                  </a:lnTo>
                  <a:lnTo>
                    <a:pt x="943" y="3161"/>
                  </a:lnTo>
                  <a:close/>
                </a:path>
              </a:pathLst>
            </a:custGeom>
            <a:solidFill>
              <a:srgbClr val="6d6d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3" name=""/>
            <p:cNvSpPr/>
            <p:nvPr/>
          </p:nvSpPr>
          <p:spPr>
            <a:xfrm>
              <a:off x="2149560" y="2084400"/>
              <a:ext cx="82440" cy="82440"/>
            </a:xfrm>
            <a:custGeom>
              <a:avLst/>
              <a:gdLst/>
              <a:ahLst/>
              <a:rect l="l" t="t" r="r" b="b"/>
              <a:pathLst>
                <a:path w="52" h="52">
                  <a:moveTo>
                    <a:pt x="26" y="52"/>
                  </a:moveTo>
                  <a:lnTo>
                    <a:pt x="26" y="52"/>
                  </a:lnTo>
                  <a:lnTo>
                    <a:pt x="26" y="32"/>
                  </a:lnTo>
                  <a:lnTo>
                    <a:pt x="52" y="32"/>
                  </a:lnTo>
                  <a:lnTo>
                    <a:pt x="52" y="26"/>
                  </a:lnTo>
                  <a:lnTo>
                    <a:pt x="26" y="26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6" y="26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26" y="32"/>
                  </a:lnTo>
                  <a:lnTo>
                    <a:pt x="26" y="52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4" name=""/>
            <p:cNvSpPr/>
            <p:nvPr/>
          </p:nvSpPr>
          <p:spPr>
            <a:xfrm>
              <a:off x="7034040" y="2084400"/>
              <a:ext cx="93960" cy="8244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26" y="52"/>
                  </a:moveTo>
                  <a:lnTo>
                    <a:pt x="33" y="52"/>
                  </a:lnTo>
                  <a:lnTo>
                    <a:pt x="33" y="32"/>
                  </a:lnTo>
                  <a:lnTo>
                    <a:pt x="59" y="32"/>
                  </a:lnTo>
                  <a:lnTo>
                    <a:pt x="59" y="26"/>
                  </a:lnTo>
                  <a:lnTo>
                    <a:pt x="33" y="26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6" y="26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26" y="32"/>
                  </a:lnTo>
                  <a:lnTo>
                    <a:pt x="26" y="52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5" name=""/>
            <p:cNvSpPr/>
            <p:nvPr/>
          </p:nvSpPr>
          <p:spPr>
            <a:xfrm>
              <a:off x="7043760" y="5553000"/>
              <a:ext cx="84240" cy="84240"/>
            </a:xfrm>
            <a:custGeom>
              <a:avLst/>
              <a:gdLst/>
              <a:ahLst/>
              <a:rect l="l" t="t" r="r" b="b"/>
              <a:pathLst>
                <a:path w="53" h="53">
                  <a:moveTo>
                    <a:pt x="27" y="53"/>
                  </a:moveTo>
                  <a:lnTo>
                    <a:pt x="33" y="53"/>
                  </a:lnTo>
                  <a:lnTo>
                    <a:pt x="33" y="27"/>
                  </a:lnTo>
                  <a:lnTo>
                    <a:pt x="53" y="27"/>
                  </a:lnTo>
                  <a:lnTo>
                    <a:pt x="53" y="20"/>
                  </a:lnTo>
                  <a:lnTo>
                    <a:pt x="33" y="20"/>
                  </a:lnTo>
                  <a:lnTo>
                    <a:pt x="33" y="0"/>
                  </a:lnTo>
                  <a:lnTo>
                    <a:pt x="27" y="0"/>
                  </a:lnTo>
                  <a:lnTo>
                    <a:pt x="27" y="20"/>
                  </a:lnTo>
                  <a:lnTo>
                    <a:pt x="0" y="20"/>
                  </a:lnTo>
                  <a:lnTo>
                    <a:pt x="0" y="27"/>
                  </a:lnTo>
                  <a:lnTo>
                    <a:pt x="27" y="27"/>
                  </a:lnTo>
                  <a:lnTo>
                    <a:pt x="27" y="53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6" name=""/>
            <p:cNvSpPr/>
            <p:nvPr/>
          </p:nvSpPr>
          <p:spPr>
            <a:xfrm>
              <a:off x="2149560" y="5553000"/>
              <a:ext cx="82440" cy="84240"/>
            </a:xfrm>
            <a:custGeom>
              <a:avLst/>
              <a:gdLst/>
              <a:ahLst/>
              <a:rect l="l" t="t" r="r" b="b"/>
              <a:pathLst>
                <a:path w="52" h="53">
                  <a:moveTo>
                    <a:pt x="26" y="53"/>
                  </a:moveTo>
                  <a:lnTo>
                    <a:pt x="26" y="53"/>
                  </a:lnTo>
                  <a:lnTo>
                    <a:pt x="26" y="27"/>
                  </a:lnTo>
                  <a:lnTo>
                    <a:pt x="52" y="27"/>
                  </a:lnTo>
                  <a:lnTo>
                    <a:pt x="52" y="20"/>
                  </a:lnTo>
                  <a:lnTo>
                    <a:pt x="26" y="2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6" y="20"/>
                  </a:lnTo>
                  <a:lnTo>
                    <a:pt x="0" y="20"/>
                  </a:lnTo>
                  <a:lnTo>
                    <a:pt x="0" y="27"/>
                  </a:lnTo>
                  <a:lnTo>
                    <a:pt x="26" y="27"/>
                  </a:lnTo>
                  <a:lnTo>
                    <a:pt x="26" y="53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47" name=""/>
          <p:cNvSpPr/>
          <p:nvPr/>
        </p:nvSpPr>
        <p:spPr>
          <a:xfrm>
            <a:off x="3173400" y="1382760"/>
            <a:ext cx="3557520" cy="4537080"/>
          </a:xfrm>
          <a:custGeom>
            <a:avLst/>
            <a:gdLst/>
            <a:ahLst/>
            <a:rect l="l" t="t" r="r" b="b"/>
            <a:pathLst>
              <a:path w="2241" h="2858">
                <a:moveTo>
                  <a:pt x="501" y="2858"/>
                </a:moveTo>
                <a:lnTo>
                  <a:pt x="528" y="2831"/>
                </a:lnTo>
                <a:lnTo>
                  <a:pt x="560" y="2831"/>
                </a:lnTo>
                <a:lnTo>
                  <a:pt x="587" y="2798"/>
                </a:lnTo>
                <a:lnTo>
                  <a:pt x="620" y="2772"/>
                </a:lnTo>
                <a:lnTo>
                  <a:pt x="646" y="2739"/>
                </a:lnTo>
                <a:lnTo>
                  <a:pt x="679" y="2739"/>
                </a:lnTo>
                <a:lnTo>
                  <a:pt x="705" y="2713"/>
                </a:lnTo>
                <a:lnTo>
                  <a:pt x="738" y="2680"/>
                </a:lnTo>
                <a:lnTo>
                  <a:pt x="765" y="2680"/>
                </a:lnTo>
                <a:lnTo>
                  <a:pt x="798" y="2654"/>
                </a:lnTo>
                <a:lnTo>
                  <a:pt x="824" y="2621"/>
                </a:lnTo>
                <a:lnTo>
                  <a:pt x="857" y="2621"/>
                </a:lnTo>
                <a:lnTo>
                  <a:pt x="883" y="2594"/>
                </a:lnTo>
                <a:lnTo>
                  <a:pt x="916" y="2561"/>
                </a:lnTo>
                <a:lnTo>
                  <a:pt x="943" y="2535"/>
                </a:lnTo>
                <a:lnTo>
                  <a:pt x="976" y="2535"/>
                </a:lnTo>
                <a:lnTo>
                  <a:pt x="1002" y="2502"/>
                </a:lnTo>
                <a:lnTo>
                  <a:pt x="1035" y="2476"/>
                </a:lnTo>
                <a:lnTo>
                  <a:pt x="1061" y="2476"/>
                </a:lnTo>
                <a:lnTo>
                  <a:pt x="1094" y="2450"/>
                </a:lnTo>
                <a:lnTo>
                  <a:pt x="1121" y="2417"/>
                </a:lnTo>
                <a:lnTo>
                  <a:pt x="1147" y="2390"/>
                </a:lnTo>
                <a:lnTo>
                  <a:pt x="1180" y="2390"/>
                </a:lnTo>
                <a:lnTo>
                  <a:pt x="1206" y="2357"/>
                </a:lnTo>
                <a:lnTo>
                  <a:pt x="1239" y="2331"/>
                </a:lnTo>
                <a:lnTo>
                  <a:pt x="1266" y="2331"/>
                </a:lnTo>
                <a:lnTo>
                  <a:pt x="1298" y="2298"/>
                </a:lnTo>
                <a:lnTo>
                  <a:pt x="1325" y="2272"/>
                </a:lnTo>
                <a:lnTo>
                  <a:pt x="1358" y="2239"/>
                </a:lnTo>
                <a:lnTo>
                  <a:pt x="1384" y="2239"/>
                </a:lnTo>
                <a:lnTo>
                  <a:pt x="1384" y="2239"/>
                </a:lnTo>
                <a:lnTo>
                  <a:pt x="1384" y="2239"/>
                </a:lnTo>
                <a:lnTo>
                  <a:pt x="1384" y="2239"/>
                </a:lnTo>
                <a:lnTo>
                  <a:pt x="1384" y="2239"/>
                </a:lnTo>
                <a:lnTo>
                  <a:pt x="1384" y="2239"/>
                </a:lnTo>
                <a:lnTo>
                  <a:pt x="1391" y="2239"/>
                </a:lnTo>
                <a:lnTo>
                  <a:pt x="1391" y="2239"/>
                </a:lnTo>
                <a:lnTo>
                  <a:pt x="1391" y="2239"/>
                </a:lnTo>
                <a:lnTo>
                  <a:pt x="1417" y="2213"/>
                </a:lnTo>
                <a:lnTo>
                  <a:pt x="1443" y="2180"/>
                </a:lnTo>
                <a:lnTo>
                  <a:pt x="1463" y="2180"/>
                </a:lnTo>
                <a:lnTo>
                  <a:pt x="1470" y="2180"/>
                </a:lnTo>
                <a:lnTo>
                  <a:pt x="1470" y="2173"/>
                </a:lnTo>
                <a:lnTo>
                  <a:pt x="1470" y="2173"/>
                </a:lnTo>
                <a:lnTo>
                  <a:pt x="1476" y="2173"/>
                </a:lnTo>
                <a:lnTo>
                  <a:pt x="1483" y="2166"/>
                </a:lnTo>
                <a:lnTo>
                  <a:pt x="1483" y="2166"/>
                </a:lnTo>
                <a:lnTo>
                  <a:pt x="1490" y="2166"/>
                </a:lnTo>
                <a:lnTo>
                  <a:pt x="1490" y="2160"/>
                </a:lnTo>
                <a:lnTo>
                  <a:pt x="1496" y="2160"/>
                </a:lnTo>
                <a:lnTo>
                  <a:pt x="1496" y="2153"/>
                </a:lnTo>
                <a:lnTo>
                  <a:pt x="1503" y="2153"/>
                </a:lnTo>
                <a:lnTo>
                  <a:pt x="1503" y="2153"/>
                </a:lnTo>
                <a:lnTo>
                  <a:pt x="1509" y="2147"/>
                </a:lnTo>
                <a:lnTo>
                  <a:pt x="1509" y="2147"/>
                </a:lnTo>
                <a:lnTo>
                  <a:pt x="1536" y="2120"/>
                </a:lnTo>
                <a:lnTo>
                  <a:pt x="1562" y="2094"/>
                </a:lnTo>
                <a:lnTo>
                  <a:pt x="1582" y="2094"/>
                </a:lnTo>
                <a:lnTo>
                  <a:pt x="1582" y="2087"/>
                </a:lnTo>
                <a:lnTo>
                  <a:pt x="1588" y="2081"/>
                </a:lnTo>
                <a:lnTo>
                  <a:pt x="1595" y="2081"/>
                </a:lnTo>
                <a:lnTo>
                  <a:pt x="1595" y="2074"/>
                </a:lnTo>
                <a:lnTo>
                  <a:pt x="1602" y="2074"/>
                </a:lnTo>
                <a:lnTo>
                  <a:pt x="1608" y="2074"/>
                </a:lnTo>
                <a:lnTo>
                  <a:pt x="1615" y="2068"/>
                </a:lnTo>
                <a:lnTo>
                  <a:pt x="1615" y="2068"/>
                </a:lnTo>
                <a:lnTo>
                  <a:pt x="1621" y="2061"/>
                </a:lnTo>
                <a:lnTo>
                  <a:pt x="1621" y="2055"/>
                </a:lnTo>
                <a:lnTo>
                  <a:pt x="1628" y="2048"/>
                </a:lnTo>
                <a:lnTo>
                  <a:pt x="1628" y="2048"/>
                </a:lnTo>
                <a:lnTo>
                  <a:pt x="1635" y="2041"/>
                </a:lnTo>
                <a:lnTo>
                  <a:pt x="1641" y="2041"/>
                </a:lnTo>
                <a:lnTo>
                  <a:pt x="1654" y="2035"/>
                </a:lnTo>
                <a:lnTo>
                  <a:pt x="1654" y="2035"/>
                </a:lnTo>
                <a:lnTo>
                  <a:pt x="1654" y="2022"/>
                </a:lnTo>
                <a:lnTo>
                  <a:pt x="1654" y="2015"/>
                </a:lnTo>
                <a:lnTo>
                  <a:pt x="1648" y="2008"/>
                </a:lnTo>
                <a:lnTo>
                  <a:pt x="1648" y="2002"/>
                </a:lnTo>
                <a:lnTo>
                  <a:pt x="1648" y="1995"/>
                </a:lnTo>
                <a:lnTo>
                  <a:pt x="1641" y="1982"/>
                </a:lnTo>
                <a:lnTo>
                  <a:pt x="1641" y="1976"/>
                </a:lnTo>
                <a:lnTo>
                  <a:pt x="1635" y="1969"/>
                </a:lnTo>
                <a:lnTo>
                  <a:pt x="1628" y="1962"/>
                </a:lnTo>
                <a:lnTo>
                  <a:pt x="1628" y="1949"/>
                </a:lnTo>
                <a:lnTo>
                  <a:pt x="1628" y="1943"/>
                </a:lnTo>
                <a:lnTo>
                  <a:pt x="1628" y="1936"/>
                </a:lnTo>
                <a:lnTo>
                  <a:pt x="1635" y="1929"/>
                </a:lnTo>
                <a:lnTo>
                  <a:pt x="1641" y="1929"/>
                </a:lnTo>
                <a:lnTo>
                  <a:pt x="1648" y="1923"/>
                </a:lnTo>
                <a:lnTo>
                  <a:pt x="1654" y="1916"/>
                </a:lnTo>
                <a:lnTo>
                  <a:pt x="1661" y="1910"/>
                </a:lnTo>
                <a:lnTo>
                  <a:pt x="1668" y="1910"/>
                </a:lnTo>
                <a:lnTo>
                  <a:pt x="1674" y="1903"/>
                </a:lnTo>
                <a:lnTo>
                  <a:pt x="1674" y="1897"/>
                </a:lnTo>
                <a:lnTo>
                  <a:pt x="1681" y="1897"/>
                </a:lnTo>
                <a:lnTo>
                  <a:pt x="1687" y="1890"/>
                </a:lnTo>
                <a:lnTo>
                  <a:pt x="1694" y="1883"/>
                </a:lnTo>
                <a:lnTo>
                  <a:pt x="1700" y="1877"/>
                </a:lnTo>
                <a:lnTo>
                  <a:pt x="1707" y="1877"/>
                </a:lnTo>
                <a:lnTo>
                  <a:pt x="1714" y="1870"/>
                </a:lnTo>
                <a:lnTo>
                  <a:pt x="1720" y="1864"/>
                </a:lnTo>
                <a:lnTo>
                  <a:pt x="1720" y="1857"/>
                </a:lnTo>
                <a:lnTo>
                  <a:pt x="1727" y="1850"/>
                </a:lnTo>
                <a:lnTo>
                  <a:pt x="1727" y="1844"/>
                </a:lnTo>
                <a:lnTo>
                  <a:pt x="1733" y="1837"/>
                </a:lnTo>
                <a:lnTo>
                  <a:pt x="1733" y="1824"/>
                </a:lnTo>
                <a:lnTo>
                  <a:pt x="1733" y="1818"/>
                </a:lnTo>
                <a:lnTo>
                  <a:pt x="1733" y="1811"/>
                </a:lnTo>
                <a:lnTo>
                  <a:pt x="1733" y="1798"/>
                </a:lnTo>
                <a:lnTo>
                  <a:pt x="1733" y="1791"/>
                </a:lnTo>
                <a:lnTo>
                  <a:pt x="1733" y="1785"/>
                </a:lnTo>
                <a:lnTo>
                  <a:pt x="1733" y="1771"/>
                </a:lnTo>
                <a:lnTo>
                  <a:pt x="1733" y="1765"/>
                </a:lnTo>
                <a:lnTo>
                  <a:pt x="1727" y="1758"/>
                </a:lnTo>
                <a:lnTo>
                  <a:pt x="1720" y="1752"/>
                </a:lnTo>
                <a:lnTo>
                  <a:pt x="1714" y="1745"/>
                </a:lnTo>
                <a:lnTo>
                  <a:pt x="1707" y="1745"/>
                </a:lnTo>
                <a:lnTo>
                  <a:pt x="1700" y="1745"/>
                </a:lnTo>
                <a:lnTo>
                  <a:pt x="1694" y="1752"/>
                </a:lnTo>
                <a:lnTo>
                  <a:pt x="1694" y="1758"/>
                </a:lnTo>
                <a:lnTo>
                  <a:pt x="1687" y="1765"/>
                </a:lnTo>
                <a:lnTo>
                  <a:pt x="1681" y="1765"/>
                </a:lnTo>
                <a:lnTo>
                  <a:pt x="1674" y="1771"/>
                </a:lnTo>
                <a:lnTo>
                  <a:pt x="1668" y="1778"/>
                </a:lnTo>
                <a:lnTo>
                  <a:pt x="1661" y="1785"/>
                </a:lnTo>
                <a:lnTo>
                  <a:pt x="1661" y="1791"/>
                </a:lnTo>
                <a:lnTo>
                  <a:pt x="1654" y="1798"/>
                </a:lnTo>
                <a:lnTo>
                  <a:pt x="1648" y="1804"/>
                </a:lnTo>
                <a:lnTo>
                  <a:pt x="1641" y="1811"/>
                </a:lnTo>
                <a:lnTo>
                  <a:pt x="1641" y="1818"/>
                </a:lnTo>
                <a:lnTo>
                  <a:pt x="1635" y="1818"/>
                </a:lnTo>
                <a:lnTo>
                  <a:pt x="1628" y="1824"/>
                </a:lnTo>
                <a:lnTo>
                  <a:pt x="1621" y="1831"/>
                </a:lnTo>
                <a:lnTo>
                  <a:pt x="1621" y="1837"/>
                </a:lnTo>
                <a:lnTo>
                  <a:pt x="1615" y="1844"/>
                </a:lnTo>
                <a:lnTo>
                  <a:pt x="1608" y="1850"/>
                </a:lnTo>
                <a:lnTo>
                  <a:pt x="1608" y="1857"/>
                </a:lnTo>
                <a:lnTo>
                  <a:pt x="1602" y="1864"/>
                </a:lnTo>
                <a:lnTo>
                  <a:pt x="1595" y="1870"/>
                </a:lnTo>
                <a:lnTo>
                  <a:pt x="1588" y="1877"/>
                </a:lnTo>
                <a:lnTo>
                  <a:pt x="1588" y="1883"/>
                </a:lnTo>
                <a:lnTo>
                  <a:pt x="1582" y="1883"/>
                </a:lnTo>
                <a:lnTo>
                  <a:pt x="1575" y="1890"/>
                </a:lnTo>
                <a:lnTo>
                  <a:pt x="1569" y="1897"/>
                </a:lnTo>
                <a:lnTo>
                  <a:pt x="1562" y="1903"/>
                </a:lnTo>
                <a:lnTo>
                  <a:pt x="1555" y="1903"/>
                </a:lnTo>
                <a:lnTo>
                  <a:pt x="1549" y="1903"/>
                </a:lnTo>
                <a:lnTo>
                  <a:pt x="1542" y="1903"/>
                </a:lnTo>
                <a:lnTo>
                  <a:pt x="1536" y="1903"/>
                </a:lnTo>
                <a:lnTo>
                  <a:pt x="1529" y="1903"/>
                </a:lnTo>
                <a:lnTo>
                  <a:pt x="1523" y="1903"/>
                </a:lnTo>
                <a:lnTo>
                  <a:pt x="1516" y="1903"/>
                </a:lnTo>
                <a:lnTo>
                  <a:pt x="1509" y="1903"/>
                </a:lnTo>
                <a:lnTo>
                  <a:pt x="1503" y="1903"/>
                </a:lnTo>
                <a:lnTo>
                  <a:pt x="1496" y="1903"/>
                </a:lnTo>
                <a:lnTo>
                  <a:pt x="1490" y="1910"/>
                </a:lnTo>
                <a:lnTo>
                  <a:pt x="1483" y="1910"/>
                </a:lnTo>
                <a:lnTo>
                  <a:pt x="1476" y="1916"/>
                </a:lnTo>
                <a:lnTo>
                  <a:pt x="1476" y="1916"/>
                </a:lnTo>
                <a:lnTo>
                  <a:pt x="1483" y="1923"/>
                </a:lnTo>
                <a:lnTo>
                  <a:pt x="1490" y="1923"/>
                </a:lnTo>
                <a:lnTo>
                  <a:pt x="1496" y="1923"/>
                </a:lnTo>
                <a:lnTo>
                  <a:pt x="1503" y="1929"/>
                </a:lnTo>
                <a:lnTo>
                  <a:pt x="1509" y="1929"/>
                </a:lnTo>
                <a:lnTo>
                  <a:pt x="1523" y="1936"/>
                </a:lnTo>
                <a:lnTo>
                  <a:pt x="1529" y="1943"/>
                </a:lnTo>
                <a:lnTo>
                  <a:pt x="1529" y="1943"/>
                </a:lnTo>
                <a:lnTo>
                  <a:pt x="1529" y="1949"/>
                </a:lnTo>
                <a:lnTo>
                  <a:pt x="1523" y="1949"/>
                </a:lnTo>
                <a:lnTo>
                  <a:pt x="1509" y="1956"/>
                </a:lnTo>
                <a:lnTo>
                  <a:pt x="1503" y="1956"/>
                </a:lnTo>
                <a:lnTo>
                  <a:pt x="1496" y="1962"/>
                </a:lnTo>
                <a:lnTo>
                  <a:pt x="1490" y="1969"/>
                </a:lnTo>
                <a:lnTo>
                  <a:pt x="1490" y="1969"/>
                </a:lnTo>
                <a:lnTo>
                  <a:pt x="1483" y="1976"/>
                </a:lnTo>
                <a:lnTo>
                  <a:pt x="1476" y="1982"/>
                </a:lnTo>
                <a:lnTo>
                  <a:pt x="1470" y="1989"/>
                </a:lnTo>
                <a:lnTo>
                  <a:pt x="1463" y="1989"/>
                </a:lnTo>
                <a:lnTo>
                  <a:pt x="1457" y="1995"/>
                </a:lnTo>
                <a:lnTo>
                  <a:pt x="1450" y="1995"/>
                </a:lnTo>
                <a:lnTo>
                  <a:pt x="1443" y="2002"/>
                </a:lnTo>
                <a:lnTo>
                  <a:pt x="1437" y="2002"/>
                </a:lnTo>
                <a:lnTo>
                  <a:pt x="1430" y="2008"/>
                </a:lnTo>
                <a:lnTo>
                  <a:pt x="1430" y="2015"/>
                </a:lnTo>
                <a:lnTo>
                  <a:pt x="1424" y="2022"/>
                </a:lnTo>
                <a:lnTo>
                  <a:pt x="1424" y="2035"/>
                </a:lnTo>
                <a:lnTo>
                  <a:pt x="1430" y="2041"/>
                </a:lnTo>
                <a:lnTo>
                  <a:pt x="1437" y="2048"/>
                </a:lnTo>
                <a:lnTo>
                  <a:pt x="1443" y="2055"/>
                </a:lnTo>
                <a:lnTo>
                  <a:pt x="1443" y="2055"/>
                </a:lnTo>
                <a:lnTo>
                  <a:pt x="1450" y="2061"/>
                </a:lnTo>
                <a:lnTo>
                  <a:pt x="1457" y="2068"/>
                </a:lnTo>
                <a:lnTo>
                  <a:pt x="1463" y="2074"/>
                </a:lnTo>
                <a:lnTo>
                  <a:pt x="1470" y="2081"/>
                </a:lnTo>
                <a:lnTo>
                  <a:pt x="1476" y="2087"/>
                </a:lnTo>
                <a:lnTo>
                  <a:pt x="1476" y="2094"/>
                </a:lnTo>
                <a:lnTo>
                  <a:pt x="1470" y="2101"/>
                </a:lnTo>
                <a:lnTo>
                  <a:pt x="1463" y="2101"/>
                </a:lnTo>
                <a:lnTo>
                  <a:pt x="1457" y="2107"/>
                </a:lnTo>
                <a:lnTo>
                  <a:pt x="1450" y="2114"/>
                </a:lnTo>
                <a:lnTo>
                  <a:pt x="1443" y="2114"/>
                </a:lnTo>
                <a:lnTo>
                  <a:pt x="1437" y="2120"/>
                </a:lnTo>
                <a:lnTo>
                  <a:pt x="1430" y="2127"/>
                </a:lnTo>
                <a:lnTo>
                  <a:pt x="1424" y="2127"/>
                </a:lnTo>
                <a:lnTo>
                  <a:pt x="1417" y="2134"/>
                </a:lnTo>
                <a:lnTo>
                  <a:pt x="1411" y="2134"/>
                </a:lnTo>
                <a:lnTo>
                  <a:pt x="1404" y="2140"/>
                </a:lnTo>
                <a:lnTo>
                  <a:pt x="1397" y="2147"/>
                </a:lnTo>
                <a:lnTo>
                  <a:pt x="1391" y="2147"/>
                </a:lnTo>
                <a:lnTo>
                  <a:pt x="1384" y="2153"/>
                </a:lnTo>
                <a:lnTo>
                  <a:pt x="1384" y="2153"/>
                </a:lnTo>
                <a:lnTo>
                  <a:pt x="1378" y="2160"/>
                </a:lnTo>
                <a:lnTo>
                  <a:pt x="1371" y="2160"/>
                </a:lnTo>
                <a:lnTo>
                  <a:pt x="1364" y="2166"/>
                </a:lnTo>
                <a:lnTo>
                  <a:pt x="1358" y="2173"/>
                </a:lnTo>
                <a:lnTo>
                  <a:pt x="1351" y="2173"/>
                </a:lnTo>
                <a:lnTo>
                  <a:pt x="1345" y="2180"/>
                </a:lnTo>
                <a:lnTo>
                  <a:pt x="1338" y="2180"/>
                </a:lnTo>
                <a:lnTo>
                  <a:pt x="1331" y="2186"/>
                </a:lnTo>
                <a:lnTo>
                  <a:pt x="1325" y="2186"/>
                </a:lnTo>
                <a:lnTo>
                  <a:pt x="1318" y="2193"/>
                </a:lnTo>
                <a:lnTo>
                  <a:pt x="1312" y="2199"/>
                </a:lnTo>
                <a:lnTo>
                  <a:pt x="1305" y="2199"/>
                </a:lnTo>
                <a:lnTo>
                  <a:pt x="1298" y="2206"/>
                </a:lnTo>
                <a:lnTo>
                  <a:pt x="1292" y="2213"/>
                </a:lnTo>
                <a:lnTo>
                  <a:pt x="1292" y="2213"/>
                </a:lnTo>
                <a:lnTo>
                  <a:pt x="1285" y="2219"/>
                </a:lnTo>
                <a:lnTo>
                  <a:pt x="1279" y="2219"/>
                </a:lnTo>
                <a:lnTo>
                  <a:pt x="1272" y="2226"/>
                </a:lnTo>
                <a:lnTo>
                  <a:pt x="1266" y="2232"/>
                </a:lnTo>
                <a:lnTo>
                  <a:pt x="1259" y="2232"/>
                </a:lnTo>
                <a:lnTo>
                  <a:pt x="1252" y="2239"/>
                </a:lnTo>
                <a:lnTo>
                  <a:pt x="1246" y="2245"/>
                </a:lnTo>
                <a:lnTo>
                  <a:pt x="1239" y="2245"/>
                </a:lnTo>
                <a:lnTo>
                  <a:pt x="1233" y="2252"/>
                </a:lnTo>
                <a:lnTo>
                  <a:pt x="1226" y="2259"/>
                </a:lnTo>
                <a:lnTo>
                  <a:pt x="1219" y="2259"/>
                </a:lnTo>
                <a:lnTo>
                  <a:pt x="1213" y="2265"/>
                </a:lnTo>
                <a:lnTo>
                  <a:pt x="1206" y="2265"/>
                </a:lnTo>
                <a:lnTo>
                  <a:pt x="1200" y="2272"/>
                </a:lnTo>
                <a:lnTo>
                  <a:pt x="1193" y="2272"/>
                </a:lnTo>
                <a:lnTo>
                  <a:pt x="1186" y="2272"/>
                </a:lnTo>
                <a:lnTo>
                  <a:pt x="1180" y="2272"/>
                </a:lnTo>
                <a:lnTo>
                  <a:pt x="1173" y="2278"/>
                </a:lnTo>
                <a:lnTo>
                  <a:pt x="1167" y="2278"/>
                </a:lnTo>
                <a:lnTo>
                  <a:pt x="1160" y="2285"/>
                </a:lnTo>
                <a:lnTo>
                  <a:pt x="1154" y="2285"/>
                </a:lnTo>
                <a:lnTo>
                  <a:pt x="1147" y="2285"/>
                </a:lnTo>
                <a:lnTo>
                  <a:pt x="1140" y="2285"/>
                </a:lnTo>
                <a:lnTo>
                  <a:pt x="1134" y="2292"/>
                </a:lnTo>
                <a:lnTo>
                  <a:pt x="1127" y="2292"/>
                </a:lnTo>
                <a:lnTo>
                  <a:pt x="1121" y="2292"/>
                </a:lnTo>
                <a:lnTo>
                  <a:pt x="1114" y="2292"/>
                </a:lnTo>
                <a:lnTo>
                  <a:pt x="1107" y="2292"/>
                </a:lnTo>
                <a:lnTo>
                  <a:pt x="1101" y="2298"/>
                </a:lnTo>
                <a:lnTo>
                  <a:pt x="1094" y="2298"/>
                </a:lnTo>
                <a:lnTo>
                  <a:pt x="1088" y="2298"/>
                </a:lnTo>
                <a:lnTo>
                  <a:pt x="1081" y="2305"/>
                </a:lnTo>
                <a:lnTo>
                  <a:pt x="1074" y="2305"/>
                </a:lnTo>
                <a:lnTo>
                  <a:pt x="1068" y="2305"/>
                </a:lnTo>
                <a:lnTo>
                  <a:pt x="1061" y="2311"/>
                </a:lnTo>
                <a:lnTo>
                  <a:pt x="1055" y="2311"/>
                </a:lnTo>
                <a:lnTo>
                  <a:pt x="1048" y="2311"/>
                </a:lnTo>
                <a:lnTo>
                  <a:pt x="1042" y="2318"/>
                </a:lnTo>
                <a:lnTo>
                  <a:pt x="1035" y="2318"/>
                </a:lnTo>
                <a:lnTo>
                  <a:pt x="1028" y="2318"/>
                </a:lnTo>
                <a:lnTo>
                  <a:pt x="1022" y="2324"/>
                </a:lnTo>
                <a:lnTo>
                  <a:pt x="1015" y="2324"/>
                </a:lnTo>
                <a:lnTo>
                  <a:pt x="1009" y="2324"/>
                </a:lnTo>
                <a:lnTo>
                  <a:pt x="1002" y="2331"/>
                </a:lnTo>
                <a:lnTo>
                  <a:pt x="995" y="2331"/>
                </a:lnTo>
                <a:lnTo>
                  <a:pt x="989" y="2331"/>
                </a:lnTo>
                <a:lnTo>
                  <a:pt x="982" y="2338"/>
                </a:lnTo>
                <a:lnTo>
                  <a:pt x="976" y="2338"/>
                </a:lnTo>
                <a:lnTo>
                  <a:pt x="969" y="2338"/>
                </a:lnTo>
                <a:lnTo>
                  <a:pt x="956" y="2338"/>
                </a:lnTo>
                <a:lnTo>
                  <a:pt x="949" y="2338"/>
                </a:lnTo>
                <a:lnTo>
                  <a:pt x="949" y="2331"/>
                </a:lnTo>
                <a:lnTo>
                  <a:pt x="943" y="2324"/>
                </a:lnTo>
                <a:lnTo>
                  <a:pt x="949" y="2318"/>
                </a:lnTo>
                <a:lnTo>
                  <a:pt x="949" y="2305"/>
                </a:lnTo>
                <a:lnTo>
                  <a:pt x="956" y="2298"/>
                </a:lnTo>
                <a:lnTo>
                  <a:pt x="962" y="2292"/>
                </a:lnTo>
                <a:lnTo>
                  <a:pt x="962" y="2278"/>
                </a:lnTo>
                <a:lnTo>
                  <a:pt x="962" y="2272"/>
                </a:lnTo>
                <a:lnTo>
                  <a:pt x="962" y="2265"/>
                </a:lnTo>
                <a:lnTo>
                  <a:pt x="956" y="2259"/>
                </a:lnTo>
                <a:lnTo>
                  <a:pt x="949" y="2259"/>
                </a:lnTo>
                <a:lnTo>
                  <a:pt x="943" y="2252"/>
                </a:lnTo>
                <a:lnTo>
                  <a:pt x="936" y="2245"/>
                </a:lnTo>
                <a:lnTo>
                  <a:pt x="936" y="2239"/>
                </a:lnTo>
                <a:lnTo>
                  <a:pt x="929" y="2232"/>
                </a:lnTo>
                <a:lnTo>
                  <a:pt x="923" y="2226"/>
                </a:lnTo>
                <a:lnTo>
                  <a:pt x="916" y="2226"/>
                </a:lnTo>
                <a:lnTo>
                  <a:pt x="910" y="2219"/>
                </a:lnTo>
                <a:lnTo>
                  <a:pt x="903" y="2213"/>
                </a:lnTo>
                <a:lnTo>
                  <a:pt x="903" y="2206"/>
                </a:lnTo>
                <a:lnTo>
                  <a:pt x="897" y="2199"/>
                </a:lnTo>
                <a:lnTo>
                  <a:pt x="890" y="2193"/>
                </a:lnTo>
                <a:lnTo>
                  <a:pt x="883" y="2193"/>
                </a:lnTo>
                <a:lnTo>
                  <a:pt x="877" y="2186"/>
                </a:lnTo>
                <a:lnTo>
                  <a:pt x="870" y="2186"/>
                </a:lnTo>
                <a:lnTo>
                  <a:pt x="864" y="2186"/>
                </a:lnTo>
                <a:lnTo>
                  <a:pt x="857" y="2186"/>
                </a:lnTo>
                <a:lnTo>
                  <a:pt x="850" y="2186"/>
                </a:lnTo>
                <a:lnTo>
                  <a:pt x="844" y="2186"/>
                </a:lnTo>
                <a:lnTo>
                  <a:pt x="837" y="2180"/>
                </a:lnTo>
                <a:lnTo>
                  <a:pt x="831" y="2180"/>
                </a:lnTo>
                <a:lnTo>
                  <a:pt x="824" y="2173"/>
                </a:lnTo>
                <a:lnTo>
                  <a:pt x="817" y="2173"/>
                </a:lnTo>
                <a:lnTo>
                  <a:pt x="811" y="2166"/>
                </a:lnTo>
                <a:lnTo>
                  <a:pt x="804" y="2166"/>
                </a:lnTo>
                <a:lnTo>
                  <a:pt x="798" y="2160"/>
                </a:lnTo>
                <a:lnTo>
                  <a:pt x="791" y="2160"/>
                </a:lnTo>
                <a:lnTo>
                  <a:pt x="785" y="2153"/>
                </a:lnTo>
                <a:lnTo>
                  <a:pt x="785" y="2147"/>
                </a:lnTo>
                <a:lnTo>
                  <a:pt x="785" y="2140"/>
                </a:lnTo>
                <a:lnTo>
                  <a:pt x="785" y="2127"/>
                </a:lnTo>
                <a:lnTo>
                  <a:pt x="785" y="2120"/>
                </a:lnTo>
                <a:lnTo>
                  <a:pt x="791" y="2107"/>
                </a:lnTo>
                <a:lnTo>
                  <a:pt x="791" y="2101"/>
                </a:lnTo>
                <a:lnTo>
                  <a:pt x="791" y="2094"/>
                </a:lnTo>
                <a:lnTo>
                  <a:pt x="791" y="2087"/>
                </a:lnTo>
                <a:lnTo>
                  <a:pt x="791" y="2074"/>
                </a:lnTo>
                <a:lnTo>
                  <a:pt x="785" y="2068"/>
                </a:lnTo>
                <a:lnTo>
                  <a:pt x="785" y="2061"/>
                </a:lnTo>
                <a:lnTo>
                  <a:pt x="785" y="2048"/>
                </a:lnTo>
                <a:lnTo>
                  <a:pt x="778" y="2041"/>
                </a:lnTo>
                <a:lnTo>
                  <a:pt x="778" y="2035"/>
                </a:lnTo>
                <a:lnTo>
                  <a:pt x="778" y="2028"/>
                </a:lnTo>
                <a:lnTo>
                  <a:pt x="771" y="2015"/>
                </a:lnTo>
                <a:lnTo>
                  <a:pt x="771" y="2008"/>
                </a:lnTo>
                <a:lnTo>
                  <a:pt x="765" y="2002"/>
                </a:lnTo>
                <a:lnTo>
                  <a:pt x="758" y="2008"/>
                </a:lnTo>
                <a:lnTo>
                  <a:pt x="752" y="2008"/>
                </a:lnTo>
                <a:lnTo>
                  <a:pt x="745" y="2015"/>
                </a:lnTo>
                <a:lnTo>
                  <a:pt x="738" y="2015"/>
                </a:lnTo>
                <a:lnTo>
                  <a:pt x="732" y="2015"/>
                </a:lnTo>
                <a:lnTo>
                  <a:pt x="725" y="2022"/>
                </a:lnTo>
                <a:lnTo>
                  <a:pt x="719" y="2022"/>
                </a:lnTo>
                <a:lnTo>
                  <a:pt x="712" y="2028"/>
                </a:lnTo>
                <a:lnTo>
                  <a:pt x="705" y="2028"/>
                </a:lnTo>
                <a:lnTo>
                  <a:pt x="699" y="2035"/>
                </a:lnTo>
                <a:lnTo>
                  <a:pt x="692" y="2035"/>
                </a:lnTo>
                <a:lnTo>
                  <a:pt x="686" y="2035"/>
                </a:lnTo>
                <a:lnTo>
                  <a:pt x="679" y="2035"/>
                </a:lnTo>
                <a:lnTo>
                  <a:pt x="673" y="2035"/>
                </a:lnTo>
                <a:lnTo>
                  <a:pt x="666" y="2035"/>
                </a:lnTo>
                <a:lnTo>
                  <a:pt x="659" y="2041"/>
                </a:lnTo>
                <a:lnTo>
                  <a:pt x="653" y="2041"/>
                </a:lnTo>
                <a:lnTo>
                  <a:pt x="646" y="2041"/>
                </a:lnTo>
                <a:lnTo>
                  <a:pt x="640" y="2041"/>
                </a:lnTo>
                <a:lnTo>
                  <a:pt x="633" y="2041"/>
                </a:lnTo>
                <a:lnTo>
                  <a:pt x="626" y="2041"/>
                </a:lnTo>
                <a:lnTo>
                  <a:pt x="620" y="2048"/>
                </a:lnTo>
                <a:lnTo>
                  <a:pt x="613" y="2048"/>
                </a:lnTo>
                <a:lnTo>
                  <a:pt x="607" y="2055"/>
                </a:lnTo>
                <a:lnTo>
                  <a:pt x="600" y="2055"/>
                </a:lnTo>
                <a:lnTo>
                  <a:pt x="593" y="2055"/>
                </a:lnTo>
                <a:lnTo>
                  <a:pt x="587" y="2055"/>
                </a:lnTo>
                <a:lnTo>
                  <a:pt x="580" y="2055"/>
                </a:lnTo>
                <a:lnTo>
                  <a:pt x="574" y="2055"/>
                </a:lnTo>
                <a:lnTo>
                  <a:pt x="567" y="2048"/>
                </a:lnTo>
                <a:lnTo>
                  <a:pt x="560" y="2041"/>
                </a:lnTo>
                <a:lnTo>
                  <a:pt x="554" y="2035"/>
                </a:lnTo>
                <a:lnTo>
                  <a:pt x="554" y="2028"/>
                </a:lnTo>
                <a:lnTo>
                  <a:pt x="547" y="2022"/>
                </a:lnTo>
                <a:lnTo>
                  <a:pt x="541" y="2022"/>
                </a:lnTo>
                <a:lnTo>
                  <a:pt x="534" y="2015"/>
                </a:lnTo>
                <a:lnTo>
                  <a:pt x="528" y="2008"/>
                </a:lnTo>
                <a:lnTo>
                  <a:pt x="521" y="2002"/>
                </a:lnTo>
                <a:lnTo>
                  <a:pt x="521" y="1995"/>
                </a:lnTo>
                <a:lnTo>
                  <a:pt x="521" y="1989"/>
                </a:lnTo>
                <a:lnTo>
                  <a:pt x="521" y="1976"/>
                </a:lnTo>
                <a:lnTo>
                  <a:pt x="521" y="1969"/>
                </a:lnTo>
                <a:lnTo>
                  <a:pt x="521" y="1962"/>
                </a:lnTo>
                <a:lnTo>
                  <a:pt x="521" y="1949"/>
                </a:lnTo>
                <a:lnTo>
                  <a:pt x="528" y="1943"/>
                </a:lnTo>
                <a:lnTo>
                  <a:pt x="528" y="1936"/>
                </a:lnTo>
                <a:lnTo>
                  <a:pt x="534" y="1929"/>
                </a:lnTo>
                <a:lnTo>
                  <a:pt x="534" y="1923"/>
                </a:lnTo>
                <a:lnTo>
                  <a:pt x="541" y="1916"/>
                </a:lnTo>
                <a:lnTo>
                  <a:pt x="547" y="1910"/>
                </a:lnTo>
                <a:lnTo>
                  <a:pt x="547" y="1897"/>
                </a:lnTo>
                <a:lnTo>
                  <a:pt x="547" y="1890"/>
                </a:lnTo>
                <a:lnTo>
                  <a:pt x="547" y="1883"/>
                </a:lnTo>
                <a:lnTo>
                  <a:pt x="547" y="1870"/>
                </a:lnTo>
                <a:lnTo>
                  <a:pt x="547" y="1864"/>
                </a:lnTo>
                <a:lnTo>
                  <a:pt x="547" y="1857"/>
                </a:lnTo>
                <a:lnTo>
                  <a:pt x="547" y="1844"/>
                </a:lnTo>
                <a:lnTo>
                  <a:pt x="547" y="1837"/>
                </a:lnTo>
                <a:lnTo>
                  <a:pt x="547" y="1831"/>
                </a:lnTo>
                <a:lnTo>
                  <a:pt x="547" y="1818"/>
                </a:lnTo>
                <a:lnTo>
                  <a:pt x="547" y="1811"/>
                </a:lnTo>
                <a:lnTo>
                  <a:pt x="547" y="1804"/>
                </a:lnTo>
                <a:lnTo>
                  <a:pt x="547" y="1791"/>
                </a:lnTo>
                <a:lnTo>
                  <a:pt x="541" y="1785"/>
                </a:lnTo>
                <a:lnTo>
                  <a:pt x="541" y="1778"/>
                </a:lnTo>
                <a:lnTo>
                  <a:pt x="541" y="1765"/>
                </a:lnTo>
                <a:lnTo>
                  <a:pt x="541" y="1758"/>
                </a:lnTo>
                <a:lnTo>
                  <a:pt x="541" y="1752"/>
                </a:lnTo>
                <a:lnTo>
                  <a:pt x="541" y="1739"/>
                </a:lnTo>
                <a:lnTo>
                  <a:pt x="541" y="1732"/>
                </a:lnTo>
                <a:lnTo>
                  <a:pt x="541" y="1725"/>
                </a:lnTo>
                <a:lnTo>
                  <a:pt x="541" y="1719"/>
                </a:lnTo>
                <a:lnTo>
                  <a:pt x="541" y="1706"/>
                </a:lnTo>
                <a:lnTo>
                  <a:pt x="534" y="1699"/>
                </a:lnTo>
                <a:lnTo>
                  <a:pt x="528" y="1692"/>
                </a:lnTo>
                <a:lnTo>
                  <a:pt x="528" y="1699"/>
                </a:lnTo>
                <a:lnTo>
                  <a:pt x="521" y="1706"/>
                </a:lnTo>
                <a:lnTo>
                  <a:pt x="514" y="1712"/>
                </a:lnTo>
                <a:lnTo>
                  <a:pt x="508" y="1719"/>
                </a:lnTo>
                <a:lnTo>
                  <a:pt x="501" y="1719"/>
                </a:lnTo>
                <a:lnTo>
                  <a:pt x="495" y="1719"/>
                </a:lnTo>
                <a:lnTo>
                  <a:pt x="488" y="1719"/>
                </a:lnTo>
                <a:lnTo>
                  <a:pt x="481" y="1719"/>
                </a:lnTo>
                <a:lnTo>
                  <a:pt x="475" y="1719"/>
                </a:lnTo>
                <a:lnTo>
                  <a:pt x="468" y="1719"/>
                </a:lnTo>
                <a:lnTo>
                  <a:pt x="462" y="1719"/>
                </a:lnTo>
                <a:lnTo>
                  <a:pt x="455" y="1719"/>
                </a:lnTo>
                <a:lnTo>
                  <a:pt x="448" y="1719"/>
                </a:lnTo>
                <a:lnTo>
                  <a:pt x="442" y="1719"/>
                </a:lnTo>
                <a:lnTo>
                  <a:pt x="429" y="1719"/>
                </a:lnTo>
                <a:lnTo>
                  <a:pt x="422" y="1725"/>
                </a:lnTo>
                <a:lnTo>
                  <a:pt x="416" y="1725"/>
                </a:lnTo>
                <a:lnTo>
                  <a:pt x="416" y="1732"/>
                </a:lnTo>
                <a:lnTo>
                  <a:pt x="409" y="1739"/>
                </a:lnTo>
                <a:lnTo>
                  <a:pt x="416" y="1752"/>
                </a:lnTo>
                <a:lnTo>
                  <a:pt x="416" y="1758"/>
                </a:lnTo>
                <a:lnTo>
                  <a:pt x="416" y="1765"/>
                </a:lnTo>
                <a:lnTo>
                  <a:pt x="409" y="1771"/>
                </a:lnTo>
                <a:lnTo>
                  <a:pt x="402" y="1771"/>
                </a:lnTo>
                <a:lnTo>
                  <a:pt x="402" y="1765"/>
                </a:lnTo>
                <a:lnTo>
                  <a:pt x="402" y="1758"/>
                </a:lnTo>
                <a:lnTo>
                  <a:pt x="409" y="1745"/>
                </a:lnTo>
                <a:lnTo>
                  <a:pt x="409" y="1739"/>
                </a:lnTo>
                <a:lnTo>
                  <a:pt x="416" y="1732"/>
                </a:lnTo>
                <a:lnTo>
                  <a:pt x="416" y="1725"/>
                </a:lnTo>
                <a:lnTo>
                  <a:pt x="422" y="1712"/>
                </a:lnTo>
                <a:lnTo>
                  <a:pt x="422" y="1706"/>
                </a:lnTo>
                <a:lnTo>
                  <a:pt x="429" y="1699"/>
                </a:lnTo>
                <a:lnTo>
                  <a:pt x="429" y="1692"/>
                </a:lnTo>
                <a:lnTo>
                  <a:pt x="429" y="1686"/>
                </a:lnTo>
                <a:lnTo>
                  <a:pt x="435" y="1673"/>
                </a:lnTo>
                <a:lnTo>
                  <a:pt x="435" y="1666"/>
                </a:lnTo>
                <a:lnTo>
                  <a:pt x="442" y="1660"/>
                </a:lnTo>
                <a:lnTo>
                  <a:pt x="442" y="1653"/>
                </a:lnTo>
                <a:lnTo>
                  <a:pt x="442" y="1640"/>
                </a:lnTo>
                <a:lnTo>
                  <a:pt x="448" y="1633"/>
                </a:lnTo>
                <a:lnTo>
                  <a:pt x="448" y="1627"/>
                </a:lnTo>
                <a:lnTo>
                  <a:pt x="455" y="1620"/>
                </a:lnTo>
                <a:lnTo>
                  <a:pt x="462" y="1613"/>
                </a:lnTo>
                <a:lnTo>
                  <a:pt x="462" y="1607"/>
                </a:lnTo>
                <a:lnTo>
                  <a:pt x="462" y="1594"/>
                </a:lnTo>
                <a:lnTo>
                  <a:pt x="468" y="1587"/>
                </a:lnTo>
                <a:lnTo>
                  <a:pt x="468" y="1581"/>
                </a:lnTo>
                <a:lnTo>
                  <a:pt x="475" y="1574"/>
                </a:lnTo>
                <a:lnTo>
                  <a:pt x="475" y="1567"/>
                </a:lnTo>
                <a:lnTo>
                  <a:pt x="481" y="1561"/>
                </a:lnTo>
                <a:lnTo>
                  <a:pt x="481" y="1548"/>
                </a:lnTo>
                <a:lnTo>
                  <a:pt x="488" y="1541"/>
                </a:lnTo>
                <a:lnTo>
                  <a:pt x="488" y="1534"/>
                </a:lnTo>
                <a:lnTo>
                  <a:pt x="495" y="1528"/>
                </a:lnTo>
                <a:lnTo>
                  <a:pt x="501" y="1521"/>
                </a:lnTo>
                <a:lnTo>
                  <a:pt x="501" y="1515"/>
                </a:lnTo>
                <a:lnTo>
                  <a:pt x="501" y="1501"/>
                </a:lnTo>
                <a:lnTo>
                  <a:pt x="501" y="1495"/>
                </a:lnTo>
                <a:lnTo>
                  <a:pt x="508" y="1488"/>
                </a:lnTo>
                <a:lnTo>
                  <a:pt x="514" y="1482"/>
                </a:lnTo>
                <a:lnTo>
                  <a:pt x="521" y="1475"/>
                </a:lnTo>
                <a:lnTo>
                  <a:pt x="521" y="1469"/>
                </a:lnTo>
                <a:lnTo>
                  <a:pt x="528" y="1462"/>
                </a:lnTo>
                <a:lnTo>
                  <a:pt x="528" y="1455"/>
                </a:lnTo>
                <a:lnTo>
                  <a:pt x="528" y="1449"/>
                </a:lnTo>
                <a:lnTo>
                  <a:pt x="534" y="1436"/>
                </a:lnTo>
                <a:lnTo>
                  <a:pt x="534" y="1429"/>
                </a:lnTo>
                <a:lnTo>
                  <a:pt x="534" y="1422"/>
                </a:lnTo>
                <a:lnTo>
                  <a:pt x="534" y="1409"/>
                </a:lnTo>
                <a:lnTo>
                  <a:pt x="541" y="1403"/>
                </a:lnTo>
                <a:lnTo>
                  <a:pt x="541" y="1396"/>
                </a:lnTo>
                <a:lnTo>
                  <a:pt x="547" y="1390"/>
                </a:lnTo>
                <a:lnTo>
                  <a:pt x="547" y="1383"/>
                </a:lnTo>
                <a:lnTo>
                  <a:pt x="547" y="1370"/>
                </a:lnTo>
                <a:lnTo>
                  <a:pt x="547" y="1363"/>
                </a:lnTo>
                <a:lnTo>
                  <a:pt x="547" y="1357"/>
                </a:lnTo>
                <a:lnTo>
                  <a:pt x="547" y="1343"/>
                </a:lnTo>
                <a:lnTo>
                  <a:pt x="547" y="1337"/>
                </a:lnTo>
                <a:lnTo>
                  <a:pt x="547" y="1330"/>
                </a:lnTo>
                <a:lnTo>
                  <a:pt x="554" y="1317"/>
                </a:lnTo>
                <a:lnTo>
                  <a:pt x="554" y="1311"/>
                </a:lnTo>
                <a:lnTo>
                  <a:pt x="554" y="1304"/>
                </a:lnTo>
                <a:lnTo>
                  <a:pt x="554" y="1291"/>
                </a:lnTo>
                <a:lnTo>
                  <a:pt x="554" y="1284"/>
                </a:lnTo>
                <a:lnTo>
                  <a:pt x="560" y="1278"/>
                </a:lnTo>
                <a:lnTo>
                  <a:pt x="560" y="1271"/>
                </a:lnTo>
                <a:lnTo>
                  <a:pt x="560" y="1258"/>
                </a:lnTo>
                <a:lnTo>
                  <a:pt x="560" y="1251"/>
                </a:lnTo>
                <a:lnTo>
                  <a:pt x="567" y="1245"/>
                </a:lnTo>
                <a:lnTo>
                  <a:pt x="567" y="1232"/>
                </a:lnTo>
                <a:lnTo>
                  <a:pt x="567" y="1225"/>
                </a:lnTo>
                <a:lnTo>
                  <a:pt x="567" y="1218"/>
                </a:lnTo>
                <a:lnTo>
                  <a:pt x="574" y="1212"/>
                </a:lnTo>
                <a:lnTo>
                  <a:pt x="574" y="1199"/>
                </a:lnTo>
                <a:lnTo>
                  <a:pt x="574" y="1192"/>
                </a:lnTo>
                <a:lnTo>
                  <a:pt x="580" y="1185"/>
                </a:lnTo>
                <a:lnTo>
                  <a:pt x="580" y="1172"/>
                </a:lnTo>
                <a:lnTo>
                  <a:pt x="580" y="1166"/>
                </a:lnTo>
                <a:lnTo>
                  <a:pt x="580" y="1159"/>
                </a:lnTo>
                <a:lnTo>
                  <a:pt x="587" y="1153"/>
                </a:lnTo>
                <a:lnTo>
                  <a:pt x="587" y="1139"/>
                </a:lnTo>
                <a:lnTo>
                  <a:pt x="587" y="1133"/>
                </a:lnTo>
                <a:lnTo>
                  <a:pt x="593" y="1126"/>
                </a:lnTo>
                <a:lnTo>
                  <a:pt x="593" y="1120"/>
                </a:lnTo>
                <a:lnTo>
                  <a:pt x="600" y="1113"/>
                </a:lnTo>
                <a:lnTo>
                  <a:pt x="607" y="1106"/>
                </a:lnTo>
                <a:lnTo>
                  <a:pt x="613" y="1100"/>
                </a:lnTo>
                <a:lnTo>
                  <a:pt x="620" y="1100"/>
                </a:lnTo>
                <a:lnTo>
                  <a:pt x="626" y="1100"/>
                </a:lnTo>
                <a:lnTo>
                  <a:pt x="633" y="1100"/>
                </a:lnTo>
                <a:lnTo>
                  <a:pt x="640" y="1100"/>
                </a:lnTo>
                <a:lnTo>
                  <a:pt x="646" y="1100"/>
                </a:lnTo>
                <a:lnTo>
                  <a:pt x="653" y="1100"/>
                </a:lnTo>
                <a:lnTo>
                  <a:pt x="659" y="1100"/>
                </a:lnTo>
                <a:lnTo>
                  <a:pt x="666" y="1100"/>
                </a:lnTo>
                <a:lnTo>
                  <a:pt x="673" y="1100"/>
                </a:lnTo>
                <a:lnTo>
                  <a:pt x="679" y="1100"/>
                </a:lnTo>
                <a:lnTo>
                  <a:pt x="686" y="1100"/>
                </a:lnTo>
                <a:lnTo>
                  <a:pt x="692" y="1100"/>
                </a:lnTo>
                <a:lnTo>
                  <a:pt x="699" y="1100"/>
                </a:lnTo>
                <a:lnTo>
                  <a:pt x="705" y="1100"/>
                </a:lnTo>
                <a:lnTo>
                  <a:pt x="712" y="1100"/>
                </a:lnTo>
                <a:lnTo>
                  <a:pt x="719" y="1100"/>
                </a:lnTo>
                <a:lnTo>
                  <a:pt x="725" y="1106"/>
                </a:lnTo>
                <a:lnTo>
                  <a:pt x="732" y="1113"/>
                </a:lnTo>
                <a:lnTo>
                  <a:pt x="738" y="1120"/>
                </a:lnTo>
                <a:lnTo>
                  <a:pt x="745" y="1126"/>
                </a:lnTo>
                <a:lnTo>
                  <a:pt x="745" y="1133"/>
                </a:lnTo>
                <a:lnTo>
                  <a:pt x="752" y="1139"/>
                </a:lnTo>
                <a:lnTo>
                  <a:pt x="752" y="1146"/>
                </a:lnTo>
                <a:lnTo>
                  <a:pt x="752" y="1153"/>
                </a:lnTo>
                <a:lnTo>
                  <a:pt x="758" y="1166"/>
                </a:lnTo>
                <a:lnTo>
                  <a:pt x="758" y="1172"/>
                </a:lnTo>
                <a:lnTo>
                  <a:pt x="765" y="1179"/>
                </a:lnTo>
                <a:lnTo>
                  <a:pt x="765" y="1185"/>
                </a:lnTo>
                <a:lnTo>
                  <a:pt x="771" y="1192"/>
                </a:lnTo>
                <a:lnTo>
                  <a:pt x="771" y="1205"/>
                </a:lnTo>
                <a:lnTo>
                  <a:pt x="771" y="1212"/>
                </a:lnTo>
                <a:lnTo>
                  <a:pt x="771" y="1218"/>
                </a:lnTo>
                <a:lnTo>
                  <a:pt x="765" y="1225"/>
                </a:lnTo>
                <a:lnTo>
                  <a:pt x="758" y="1232"/>
                </a:lnTo>
                <a:lnTo>
                  <a:pt x="758" y="1238"/>
                </a:lnTo>
                <a:lnTo>
                  <a:pt x="758" y="1245"/>
                </a:lnTo>
                <a:lnTo>
                  <a:pt x="752" y="1258"/>
                </a:lnTo>
                <a:lnTo>
                  <a:pt x="752" y="1264"/>
                </a:lnTo>
                <a:lnTo>
                  <a:pt x="758" y="1271"/>
                </a:lnTo>
                <a:lnTo>
                  <a:pt x="758" y="1284"/>
                </a:lnTo>
                <a:lnTo>
                  <a:pt x="758" y="1291"/>
                </a:lnTo>
                <a:lnTo>
                  <a:pt x="765" y="1297"/>
                </a:lnTo>
                <a:lnTo>
                  <a:pt x="771" y="1297"/>
                </a:lnTo>
                <a:lnTo>
                  <a:pt x="778" y="1304"/>
                </a:lnTo>
                <a:lnTo>
                  <a:pt x="785" y="1304"/>
                </a:lnTo>
                <a:lnTo>
                  <a:pt x="791" y="1304"/>
                </a:lnTo>
                <a:lnTo>
                  <a:pt x="798" y="1304"/>
                </a:lnTo>
                <a:lnTo>
                  <a:pt x="804" y="1304"/>
                </a:lnTo>
                <a:lnTo>
                  <a:pt x="811" y="1304"/>
                </a:lnTo>
                <a:lnTo>
                  <a:pt x="817" y="1304"/>
                </a:lnTo>
                <a:lnTo>
                  <a:pt x="824" y="1311"/>
                </a:lnTo>
                <a:lnTo>
                  <a:pt x="831" y="1311"/>
                </a:lnTo>
                <a:lnTo>
                  <a:pt x="837" y="1317"/>
                </a:lnTo>
                <a:lnTo>
                  <a:pt x="844" y="1317"/>
                </a:lnTo>
                <a:lnTo>
                  <a:pt x="850" y="1324"/>
                </a:lnTo>
                <a:lnTo>
                  <a:pt x="857" y="1330"/>
                </a:lnTo>
                <a:lnTo>
                  <a:pt x="864" y="1337"/>
                </a:lnTo>
                <a:lnTo>
                  <a:pt x="864" y="1343"/>
                </a:lnTo>
                <a:lnTo>
                  <a:pt x="864" y="1350"/>
                </a:lnTo>
                <a:lnTo>
                  <a:pt x="864" y="1357"/>
                </a:lnTo>
                <a:lnTo>
                  <a:pt x="857" y="1363"/>
                </a:lnTo>
                <a:lnTo>
                  <a:pt x="850" y="1370"/>
                </a:lnTo>
                <a:lnTo>
                  <a:pt x="844" y="1376"/>
                </a:lnTo>
                <a:lnTo>
                  <a:pt x="844" y="1383"/>
                </a:lnTo>
                <a:lnTo>
                  <a:pt x="837" y="1390"/>
                </a:lnTo>
                <a:lnTo>
                  <a:pt x="837" y="1403"/>
                </a:lnTo>
                <a:lnTo>
                  <a:pt x="831" y="1409"/>
                </a:lnTo>
                <a:lnTo>
                  <a:pt x="824" y="1416"/>
                </a:lnTo>
                <a:lnTo>
                  <a:pt x="817" y="1422"/>
                </a:lnTo>
                <a:lnTo>
                  <a:pt x="817" y="1429"/>
                </a:lnTo>
                <a:lnTo>
                  <a:pt x="811" y="1436"/>
                </a:lnTo>
                <a:lnTo>
                  <a:pt x="811" y="1442"/>
                </a:lnTo>
                <a:lnTo>
                  <a:pt x="811" y="1449"/>
                </a:lnTo>
                <a:lnTo>
                  <a:pt x="811" y="1455"/>
                </a:lnTo>
                <a:lnTo>
                  <a:pt x="817" y="1462"/>
                </a:lnTo>
                <a:lnTo>
                  <a:pt x="824" y="1469"/>
                </a:lnTo>
                <a:lnTo>
                  <a:pt x="831" y="1469"/>
                </a:lnTo>
                <a:lnTo>
                  <a:pt x="837" y="1475"/>
                </a:lnTo>
                <a:lnTo>
                  <a:pt x="837" y="1482"/>
                </a:lnTo>
                <a:lnTo>
                  <a:pt x="844" y="1488"/>
                </a:lnTo>
                <a:lnTo>
                  <a:pt x="850" y="1495"/>
                </a:lnTo>
                <a:lnTo>
                  <a:pt x="857" y="1501"/>
                </a:lnTo>
                <a:lnTo>
                  <a:pt x="857" y="1501"/>
                </a:lnTo>
                <a:lnTo>
                  <a:pt x="864" y="1495"/>
                </a:lnTo>
                <a:lnTo>
                  <a:pt x="870" y="1482"/>
                </a:lnTo>
                <a:lnTo>
                  <a:pt x="870" y="1475"/>
                </a:lnTo>
                <a:lnTo>
                  <a:pt x="877" y="1469"/>
                </a:lnTo>
                <a:lnTo>
                  <a:pt x="877" y="1462"/>
                </a:lnTo>
                <a:lnTo>
                  <a:pt x="877" y="1455"/>
                </a:lnTo>
                <a:lnTo>
                  <a:pt x="877" y="1442"/>
                </a:lnTo>
                <a:lnTo>
                  <a:pt x="877" y="1436"/>
                </a:lnTo>
                <a:lnTo>
                  <a:pt x="877" y="1429"/>
                </a:lnTo>
                <a:lnTo>
                  <a:pt x="877" y="1416"/>
                </a:lnTo>
                <a:lnTo>
                  <a:pt x="877" y="1409"/>
                </a:lnTo>
                <a:lnTo>
                  <a:pt x="883" y="1403"/>
                </a:lnTo>
                <a:lnTo>
                  <a:pt x="890" y="1396"/>
                </a:lnTo>
                <a:lnTo>
                  <a:pt x="890" y="1390"/>
                </a:lnTo>
                <a:lnTo>
                  <a:pt x="897" y="1390"/>
                </a:lnTo>
                <a:lnTo>
                  <a:pt x="903" y="1383"/>
                </a:lnTo>
                <a:lnTo>
                  <a:pt x="910" y="1370"/>
                </a:lnTo>
                <a:lnTo>
                  <a:pt x="910" y="1363"/>
                </a:lnTo>
                <a:lnTo>
                  <a:pt x="916" y="1363"/>
                </a:lnTo>
                <a:lnTo>
                  <a:pt x="916" y="1376"/>
                </a:lnTo>
                <a:lnTo>
                  <a:pt x="923" y="1383"/>
                </a:lnTo>
                <a:lnTo>
                  <a:pt x="923" y="1396"/>
                </a:lnTo>
                <a:lnTo>
                  <a:pt x="916" y="1403"/>
                </a:lnTo>
                <a:lnTo>
                  <a:pt x="916" y="1409"/>
                </a:lnTo>
                <a:lnTo>
                  <a:pt x="916" y="1416"/>
                </a:lnTo>
                <a:lnTo>
                  <a:pt x="910" y="1429"/>
                </a:lnTo>
                <a:lnTo>
                  <a:pt x="910" y="1436"/>
                </a:lnTo>
                <a:lnTo>
                  <a:pt x="910" y="1442"/>
                </a:lnTo>
                <a:lnTo>
                  <a:pt x="910" y="1455"/>
                </a:lnTo>
                <a:lnTo>
                  <a:pt x="910" y="1462"/>
                </a:lnTo>
                <a:lnTo>
                  <a:pt x="916" y="1469"/>
                </a:lnTo>
                <a:lnTo>
                  <a:pt x="916" y="1475"/>
                </a:lnTo>
                <a:lnTo>
                  <a:pt x="916" y="1488"/>
                </a:lnTo>
                <a:lnTo>
                  <a:pt x="916" y="1495"/>
                </a:lnTo>
                <a:lnTo>
                  <a:pt x="916" y="1501"/>
                </a:lnTo>
                <a:lnTo>
                  <a:pt x="916" y="1508"/>
                </a:lnTo>
                <a:lnTo>
                  <a:pt x="910" y="1521"/>
                </a:lnTo>
                <a:lnTo>
                  <a:pt x="910" y="1528"/>
                </a:lnTo>
                <a:lnTo>
                  <a:pt x="903" y="1534"/>
                </a:lnTo>
                <a:lnTo>
                  <a:pt x="903" y="1541"/>
                </a:lnTo>
                <a:lnTo>
                  <a:pt x="903" y="1548"/>
                </a:lnTo>
                <a:lnTo>
                  <a:pt x="903" y="1561"/>
                </a:lnTo>
                <a:lnTo>
                  <a:pt x="903" y="1567"/>
                </a:lnTo>
                <a:lnTo>
                  <a:pt x="897" y="1581"/>
                </a:lnTo>
                <a:lnTo>
                  <a:pt x="897" y="1587"/>
                </a:lnTo>
                <a:lnTo>
                  <a:pt x="903" y="1594"/>
                </a:lnTo>
                <a:lnTo>
                  <a:pt x="903" y="1600"/>
                </a:lnTo>
                <a:lnTo>
                  <a:pt x="910" y="1600"/>
                </a:lnTo>
                <a:lnTo>
                  <a:pt x="916" y="1607"/>
                </a:lnTo>
                <a:lnTo>
                  <a:pt x="929" y="1607"/>
                </a:lnTo>
                <a:lnTo>
                  <a:pt x="936" y="1607"/>
                </a:lnTo>
                <a:lnTo>
                  <a:pt x="943" y="1607"/>
                </a:lnTo>
                <a:lnTo>
                  <a:pt x="943" y="1600"/>
                </a:lnTo>
                <a:lnTo>
                  <a:pt x="949" y="1594"/>
                </a:lnTo>
                <a:lnTo>
                  <a:pt x="949" y="1587"/>
                </a:lnTo>
                <a:lnTo>
                  <a:pt x="956" y="1581"/>
                </a:lnTo>
                <a:lnTo>
                  <a:pt x="962" y="1574"/>
                </a:lnTo>
                <a:lnTo>
                  <a:pt x="962" y="1567"/>
                </a:lnTo>
                <a:lnTo>
                  <a:pt x="969" y="1561"/>
                </a:lnTo>
                <a:lnTo>
                  <a:pt x="976" y="1554"/>
                </a:lnTo>
                <a:lnTo>
                  <a:pt x="982" y="1548"/>
                </a:lnTo>
                <a:lnTo>
                  <a:pt x="982" y="1541"/>
                </a:lnTo>
                <a:lnTo>
                  <a:pt x="989" y="1534"/>
                </a:lnTo>
                <a:lnTo>
                  <a:pt x="995" y="1528"/>
                </a:lnTo>
                <a:lnTo>
                  <a:pt x="1002" y="1528"/>
                </a:lnTo>
                <a:lnTo>
                  <a:pt x="1009" y="1521"/>
                </a:lnTo>
                <a:lnTo>
                  <a:pt x="1009" y="1521"/>
                </a:lnTo>
                <a:lnTo>
                  <a:pt x="1015" y="1515"/>
                </a:lnTo>
                <a:lnTo>
                  <a:pt x="1022" y="1508"/>
                </a:lnTo>
                <a:lnTo>
                  <a:pt x="1028" y="1501"/>
                </a:lnTo>
                <a:lnTo>
                  <a:pt x="1035" y="1501"/>
                </a:lnTo>
                <a:lnTo>
                  <a:pt x="1042" y="1495"/>
                </a:lnTo>
                <a:lnTo>
                  <a:pt x="1048" y="1488"/>
                </a:lnTo>
                <a:lnTo>
                  <a:pt x="1055" y="1482"/>
                </a:lnTo>
                <a:lnTo>
                  <a:pt x="1055" y="1482"/>
                </a:lnTo>
                <a:lnTo>
                  <a:pt x="1061" y="1469"/>
                </a:lnTo>
                <a:lnTo>
                  <a:pt x="1068" y="1462"/>
                </a:lnTo>
                <a:lnTo>
                  <a:pt x="1074" y="1455"/>
                </a:lnTo>
                <a:lnTo>
                  <a:pt x="1081" y="1455"/>
                </a:lnTo>
                <a:lnTo>
                  <a:pt x="1081" y="1449"/>
                </a:lnTo>
                <a:lnTo>
                  <a:pt x="1088" y="1442"/>
                </a:lnTo>
                <a:lnTo>
                  <a:pt x="1081" y="1436"/>
                </a:lnTo>
                <a:lnTo>
                  <a:pt x="1074" y="1429"/>
                </a:lnTo>
                <a:lnTo>
                  <a:pt x="1074" y="1416"/>
                </a:lnTo>
                <a:lnTo>
                  <a:pt x="1068" y="1409"/>
                </a:lnTo>
                <a:lnTo>
                  <a:pt x="1074" y="1409"/>
                </a:lnTo>
                <a:lnTo>
                  <a:pt x="1081" y="1403"/>
                </a:lnTo>
                <a:lnTo>
                  <a:pt x="1088" y="1403"/>
                </a:lnTo>
                <a:lnTo>
                  <a:pt x="1101" y="1403"/>
                </a:lnTo>
                <a:lnTo>
                  <a:pt x="1107" y="1396"/>
                </a:lnTo>
                <a:lnTo>
                  <a:pt x="1114" y="1396"/>
                </a:lnTo>
                <a:lnTo>
                  <a:pt x="1121" y="1396"/>
                </a:lnTo>
                <a:lnTo>
                  <a:pt x="1127" y="1396"/>
                </a:lnTo>
                <a:lnTo>
                  <a:pt x="1134" y="1390"/>
                </a:lnTo>
                <a:lnTo>
                  <a:pt x="1140" y="1390"/>
                </a:lnTo>
                <a:lnTo>
                  <a:pt x="1147" y="1390"/>
                </a:lnTo>
                <a:lnTo>
                  <a:pt x="1154" y="1383"/>
                </a:lnTo>
                <a:lnTo>
                  <a:pt x="1160" y="1383"/>
                </a:lnTo>
                <a:lnTo>
                  <a:pt x="1167" y="1383"/>
                </a:lnTo>
                <a:lnTo>
                  <a:pt x="1173" y="1383"/>
                </a:lnTo>
                <a:lnTo>
                  <a:pt x="1180" y="1383"/>
                </a:lnTo>
                <a:lnTo>
                  <a:pt x="1186" y="1390"/>
                </a:lnTo>
                <a:lnTo>
                  <a:pt x="1193" y="1390"/>
                </a:lnTo>
                <a:lnTo>
                  <a:pt x="1200" y="1390"/>
                </a:lnTo>
                <a:lnTo>
                  <a:pt x="1206" y="1390"/>
                </a:lnTo>
                <a:lnTo>
                  <a:pt x="1213" y="1390"/>
                </a:lnTo>
                <a:lnTo>
                  <a:pt x="1219" y="1390"/>
                </a:lnTo>
                <a:lnTo>
                  <a:pt x="1226" y="1390"/>
                </a:lnTo>
                <a:lnTo>
                  <a:pt x="1233" y="1396"/>
                </a:lnTo>
                <a:lnTo>
                  <a:pt x="1239" y="1403"/>
                </a:lnTo>
                <a:lnTo>
                  <a:pt x="1246" y="1409"/>
                </a:lnTo>
                <a:lnTo>
                  <a:pt x="1246" y="1416"/>
                </a:lnTo>
                <a:lnTo>
                  <a:pt x="1246" y="1422"/>
                </a:lnTo>
                <a:lnTo>
                  <a:pt x="1246" y="1429"/>
                </a:lnTo>
                <a:lnTo>
                  <a:pt x="1246" y="1442"/>
                </a:lnTo>
                <a:lnTo>
                  <a:pt x="1246" y="1449"/>
                </a:lnTo>
                <a:lnTo>
                  <a:pt x="1246" y="1462"/>
                </a:lnTo>
                <a:lnTo>
                  <a:pt x="1246" y="1469"/>
                </a:lnTo>
                <a:lnTo>
                  <a:pt x="1246" y="1475"/>
                </a:lnTo>
                <a:lnTo>
                  <a:pt x="1239" y="1482"/>
                </a:lnTo>
                <a:lnTo>
                  <a:pt x="1233" y="1488"/>
                </a:lnTo>
                <a:lnTo>
                  <a:pt x="1226" y="1488"/>
                </a:lnTo>
                <a:lnTo>
                  <a:pt x="1219" y="1495"/>
                </a:lnTo>
                <a:lnTo>
                  <a:pt x="1213" y="1501"/>
                </a:lnTo>
                <a:lnTo>
                  <a:pt x="1213" y="1508"/>
                </a:lnTo>
                <a:lnTo>
                  <a:pt x="1213" y="1521"/>
                </a:lnTo>
                <a:lnTo>
                  <a:pt x="1213" y="1528"/>
                </a:lnTo>
                <a:lnTo>
                  <a:pt x="1219" y="1534"/>
                </a:lnTo>
                <a:lnTo>
                  <a:pt x="1226" y="1534"/>
                </a:lnTo>
                <a:lnTo>
                  <a:pt x="1233" y="1541"/>
                </a:lnTo>
                <a:lnTo>
                  <a:pt x="1239" y="1541"/>
                </a:lnTo>
                <a:lnTo>
                  <a:pt x="1246" y="1541"/>
                </a:lnTo>
                <a:lnTo>
                  <a:pt x="1252" y="1541"/>
                </a:lnTo>
                <a:lnTo>
                  <a:pt x="1259" y="1541"/>
                </a:lnTo>
                <a:lnTo>
                  <a:pt x="1266" y="1541"/>
                </a:lnTo>
                <a:lnTo>
                  <a:pt x="1279" y="1541"/>
                </a:lnTo>
                <a:lnTo>
                  <a:pt x="1285" y="1541"/>
                </a:lnTo>
                <a:lnTo>
                  <a:pt x="1292" y="1548"/>
                </a:lnTo>
                <a:lnTo>
                  <a:pt x="1298" y="1548"/>
                </a:lnTo>
                <a:lnTo>
                  <a:pt x="1305" y="1548"/>
                </a:lnTo>
                <a:lnTo>
                  <a:pt x="1312" y="1548"/>
                </a:lnTo>
                <a:lnTo>
                  <a:pt x="1318" y="1548"/>
                </a:lnTo>
                <a:lnTo>
                  <a:pt x="1325" y="1541"/>
                </a:lnTo>
                <a:lnTo>
                  <a:pt x="1331" y="1541"/>
                </a:lnTo>
                <a:lnTo>
                  <a:pt x="1338" y="1534"/>
                </a:lnTo>
                <a:lnTo>
                  <a:pt x="1338" y="1528"/>
                </a:lnTo>
                <a:lnTo>
                  <a:pt x="1331" y="1528"/>
                </a:lnTo>
                <a:lnTo>
                  <a:pt x="1318" y="1521"/>
                </a:lnTo>
                <a:lnTo>
                  <a:pt x="1312" y="1515"/>
                </a:lnTo>
                <a:lnTo>
                  <a:pt x="1312" y="1508"/>
                </a:lnTo>
                <a:lnTo>
                  <a:pt x="1305" y="1501"/>
                </a:lnTo>
                <a:lnTo>
                  <a:pt x="1305" y="1495"/>
                </a:lnTo>
                <a:lnTo>
                  <a:pt x="1312" y="1488"/>
                </a:lnTo>
                <a:lnTo>
                  <a:pt x="1312" y="1475"/>
                </a:lnTo>
                <a:lnTo>
                  <a:pt x="1305" y="1469"/>
                </a:lnTo>
                <a:lnTo>
                  <a:pt x="1305" y="1462"/>
                </a:lnTo>
                <a:lnTo>
                  <a:pt x="1305" y="1449"/>
                </a:lnTo>
                <a:lnTo>
                  <a:pt x="1305" y="1442"/>
                </a:lnTo>
                <a:lnTo>
                  <a:pt x="1305" y="1436"/>
                </a:lnTo>
                <a:lnTo>
                  <a:pt x="1305" y="1422"/>
                </a:lnTo>
                <a:lnTo>
                  <a:pt x="1305" y="1416"/>
                </a:lnTo>
                <a:lnTo>
                  <a:pt x="1305" y="1409"/>
                </a:lnTo>
                <a:lnTo>
                  <a:pt x="1305" y="1403"/>
                </a:lnTo>
                <a:lnTo>
                  <a:pt x="1298" y="1390"/>
                </a:lnTo>
                <a:lnTo>
                  <a:pt x="1298" y="1383"/>
                </a:lnTo>
                <a:lnTo>
                  <a:pt x="1298" y="1376"/>
                </a:lnTo>
                <a:lnTo>
                  <a:pt x="1298" y="1363"/>
                </a:lnTo>
                <a:lnTo>
                  <a:pt x="1292" y="1357"/>
                </a:lnTo>
                <a:lnTo>
                  <a:pt x="1292" y="1350"/>
                </a:lnTo>
                <a:lnTo>
                  <a:pt x="1285" y="1343"/>
                </a:lnTo>
                <a:lnTo>
                  <a:pt x="1279" y="1337"/>
                </a:lnTo>
                <a:lnTo>
                  <a:pt x="1272" y="1330"/>
                </a:lnTo>
                <a:lnTo>
                  <a:pt x="1266" y="1330"/>
                </a:lnTo>
                <a:lnTo>
                  <a:pt x="1259" y="1330"/>
                </a:lnTo>
                <a:lnTo>
                  <a:pt x="1259" y="1337"/>
                </a:lnTo>
                <a:lnTo>
                  <a:pt x="1252" y="1343"/>
                </a:lnTo>
                <a:lnTo>
                  <a:pt x="1246" y="1343"/>
                </a:lnTo>
                <a:lnTo>
                  <a:pt x="1239" y="1350"/>
                </a:lnTo>
                <a:lnTo>
                  <a:pt x="1233" y="1350"/>
                </a:lnTo>
                <a:lnTo>
                  <a:pt x="1226" y="1357"/>
                </a:lnTo>
                <a:lnTo>
                  <a:pt x="1219" y="1357"/>
                </a:lnTo>
                <a:lnTo>
                  <a:pt x="1213" y="1357"/>
                </a:lnTo>
                <a:lnTo>
                  <a:pt x="1206" y="1363"/>
                </a:lnTo>
                <a:lnTo>
                  <a:pt x="1200" y="1363"/>
                </a:lnTo>
                <a:lnTo>
                  <a:pt x="1193" y="1370"/>
                </a:lnTo>
                <a:lnTo>
                  <a:pt x="1186" y="1370"/>
                </a:lnTo>
                <a:lnTo>
                  <a:pt x="1180" y="1370"/>
                </a:lnTo>
                <a:lnTo>
                  <a:pt x="1173" y="1376"/>
                </a:lnTo>
                <a:lnTo>
                  <a:pt x="1167" y="1376"/>
                </a:lnTo>
                <a:lnTo>
                  <a:pt x="1160" y="1383"/>
                </a:lnTo>
                <a:lnTo>
                  <a:pt x="1154" y="1383"/>
                </a:lnTo>
                <a:lnTo>
                  <a:pt x="1147" y="1376"/>
                </a:lnTo>
                <a:lnTo>
                  <a:pt x="1140" y="1376"/>
                </a:lnTo>
                <a:lnTo>
                  <a:pt x="1134" y="1370"/>
                </a:lnTo>
                <a:lnTo>
                  <a:pt x="1127" y="1363"/>
                </a:lnTo>
                <a:lnTo>
                  <a:pt x="1121" y="1363"/>
                </a:lnTo>
                <a:lnTo>
                  <a:pt x="1114" y="1357"/>
                </a:lnTo>
                <a:lnTo>
                  <a:pt x="1107" y="1357"/>
                </a:lnTo>
                <a:lnTo>
                  <a:pt x="1101" y="1357"/>
                </a:lnTo>
                <a:lnTo>
                  <a:pt x="1094" y="1350"/>
                </a:lnTo>
                <a:lnTo>
                  <a:pt x="1088" y="1343"/>
                </a:lnTo>
                <a:lnTo>
                  <a:pt x="1088" y="1337"/>
                </a:lnTo>
                <a:lnTo>
                  <a:pt x="1081" y="1330"/>
                </a:lnTo>
                <a:lnTo>
                  <a:pt x="1081" y="1317"/>
                </a:lnTo>
                <a:lnTo>
                  <a:pt x="1088" y="1311"/>
                </a:lnTo>
                <a:lnTo>
                  <a:pt x="1088" y="1304"/>
                </a:lnTo>
                <a:lnTo>
                  <a:pt x="1088" y="1297"/>
                </a:lnTo>
                <a:lnTo>
                  <a:pt x="1081" y="1291"/>
                </a:lnTo>
                <a:lnTo>
                  <a:pt x="1074" y="1284"/>
                </a:lnTo>
                <a:lnTo>
                  <a:pt x="1068" y="1278"/>
                </a:lnTo>
                <a:lnTo>
                  <a:pt x="1061" y="1278"/>
                </a:lnTo>
                <a:lnTo>
                  <a:pt x="1055" y="1271"/>
                </a:lnTo>
                <a:lnTo>
                  <a:pt x="1048" y="1271"/>
                </a:lnTo>
                <a:lnTo>
                  <a:pt x="1042" y="1271"/>
                </a:lnTo>
                <a:lnTo>
                  <a:pt x="1035" y="1278"/>
                </a:lnTo>
                <a:lnTo>
                  <a:pt x="1028" y="1278"/>
                </a:lnTo>
                <a:lnTo>
                  <a:pt x="1022" y="1271"/>
                </a:lnTo>
                <a:lnTo>
                  <a:pt x="1015" y="1271"/>
                </a:lnTo>
                <a:lnTo>
                  <a:pt x="1009" y="1258"/>
                </a:lnTo>
                <a:lnTo>
                  <a:pt x="1009" y="1251"/>
                </a:lnTo>
                <a:lnTo>
                  <a:pt x="1002" y="1245"/>
                </a:lnTo>
                <a:lnTo>
                  <a:pt x="1002" y="1245"/>
                </a:lnTo>
                <a:lnTo>
                  <a:pt x="1002" y="1251"/>
                </a:lnTo>
                <a:lnTo>
                  <a:pt x="1002" y="1258"/>
                </a:lnTo>
                <a:lnTo>
                  <a:pt x="1002" y="1271"/>
                </a:lnTo>
                <a:lnTo>
                  <a:pt x="995" y="1278"/>
                </a:lnTo>
                <a:lnTo>
                  <a:pt x="989" y="1284"/>
                </a:lnTo>
                <a:lnTo>
                  <a:pt x="982" y="1291"/>
                </a:lnTo>
                <a:lnTo>
                  <a:pt x="976" y="1291"/>
                </a:lnTo>
                <a:lnTo>
                  <a:pt x="969" y="1291"/>
                </a:lnTo>
                <a:lnTo>
                  <a:pt x="962" y="1291"/>
                </a:lnTo>
                <a:lnTo>
                  <a:pt x="956" y="1297"/>
                </a:lnTo>
                <a:lnTo>
                  <a:pt x="949" y="1297"/>
                </a:lnTo>
                <a:lnTo>
                  <a:pt x="943" y="1304"/>
                </a:lnTo>
                <a:lnTo>
                  <a:pt x="936" y="1311"/>
                </a:lnTo>
                <a:lnTo>
                  <a:pt x="929" y="1317"/>
                </a:lnTo>
                <a:lnTo>
                  <a:pt x="923" y="1317"/>
                </a:lnTo>
                <a:lnTo>
                  <a:pt x="916" y="1317"/>
                </a:lnTo>
                <a:lnTo>
                  <a:pt x="910" y="1317"/>
                </a:lnTo>
                <a:lnTo>
                  <a:pt x="910" y="1311"/>
                </a:lnTo>
                <a:lnTo>
                  <a:pt x="903" y="1311"/>
                </a:lnTo>
                <a:lnTo>
                  <a:pt x="897" y="1297"/>
                </a:lnTo>
                <a:lnTo>
                  <a:pt x="890" y="1291"/>
                </a:lnTo>
                <a:lnTo>
                  <a:pt x="890" y="1291"/>
                </a:lnTo>
                <a:lnTo>
                  <a:pt x="883" y="1284"/>
                </a:lnTo>
                <a:lnTo>
                  <a:pt x="877" y="1284"/>
                </a:lnTo>
                <a:lnTo>
                  <a:pt x="870" y="1278"/>
                </a:lnTo>
                <a:lnTo>
                  <a:pt x="864" y="1278"/>
                </a:lnTo>
                <a:lnTo>
                  <a:pt x="857" y="1271"/>
                </a:lnTo>
                <a:lnTo>
                  <a:pt x="850" y="1264"/>
                </a:lnTo>
                <a:lnTo>
                  <a:pt x="844" y="1258"/>
                </a:lnTo>
                <a:lnTo>
                  <a:pt x="844" y="1258"/>
                </a:lnTo>
                <a:lnTo>
                  <a:pt x="837" y="1251"/>
                </a:lnTo>
                <a:lnTo>
                  <a:pt x="831" y="1245"/>
                </a:lnTo>
                <a:lnTo>
                  <a:pt x="817" y="1245"/>
                </a:lnTo>
                <a:lnTo>
                  <a:pt x="817" y="1238"/>
                </a:lnTo>
                <a:lnTo>
                  <a:pt x="824" y="1232"/>
                </a:lnTo>
                <a:lnTo>
                  <a:pt x="831" y="1225"/>
                </a:lnTo>
                <a:lnTo>
                  <a:pt x="837" y="1218"/>
                </a:lnTo>
                <a:lnTo>
                  <a:pt x="844" y="1218"/>
                </a:lnTo>
                <a:lnTo>
                  <a:pt x="850" y="1218"/>
                </a:lnTo>
                <a:lnTo>
                  <a:pt x="850" y="1212"/>
                </a:lnTo>
                <a:lnTo>
                  <a:pt x="857" y="1212"/>
                </a:lnTo>
                <a:lnTo>
                  <a:pt x="864" y="1205"/>
                </a:lnTo>
                <a:lnTo>
                  <a:pt x="870" y="1199"/>
                </a:lnTo>
                <a:lnTo>
                  <a:pt x="877" y="1192"/>
                </a:lnTo>
                <a:lnTo>
                  <a:pt x="883" y="1192"/>
                </a:lnTo>
                <a:lnTo>
                  <a:pt x="890" y="1185"/>
                </a:lnTo>
                <a:lnTo>
                  <a:pt x="897" y="1185"/>
                </a:lnTo>
                <a:lnTo>
                  <a:pt x="903" y="1179"/>
                </a:lnTo>
                <a:lnTo>
                  <a:pt x="910" y="1179"/>
                </a:lnTo>
                <a:lnTo>
                  <a:pt x="916" y="1172"/>
                </a:lnTo>
                <a:lnTo>
                  <a:pt x="923" y="1166"/>
                </a:lnTo>
                <a:lnTo>
                  <a:pt x="923" y="1166"/>
                </a:lnTo>
                <a:lnTo>
                  <a:pt x="929" y="1159"/>
                </a:lnTo>
                <a:lnTo>
                  <a:pt x="936" y="1153"/>
                </a:lnTo>
                <a:lnTo>
                  <a:pt x="943" y="1153"/>
                </a:lnTo>
                <a:lnTo>
                  <a:pt x="949" y="1153"/>
                </a:lnTo>
                <a:lnTo>
                  <a:pt x="962" y="1153"/>
                </a:lnTo>
                <a:lnTo>
                  <a:pt x="962" y="1146"/>
                </a:lnTo>
                <a:lnTo>
                  <a:pt x="969" y="1146"/>
                </a:lnTo>
                <a:lnTo>
                  <a:pt x="976" y="1139"/>
                </a:lnTo>
                <a:lnTo>
                  <a:pt x="982" y="1133"/>
                </a:lnTo>
                <a:lnTo>
                  <a:pt x="989" y="1126"/>
                </a:lnTo>
                <a:lnTo>
                  <a:pt x="995" y="1126"/>
                </a:lnTo>
                <a:lnTo>
                  <a:pt x="1002" y="1120"/>
                </a:lnTo>
                <a:lnTo>
                  <a:pt x="1009" y="1120"/>
                </a:lnTo>
                <a:lnTo>
                  <a:pt x="1015" y="1113"/>
                </a:lnTo>
                <a:lnTo>
                  <a:pt x="1022" y="1113"/>
                </a:lnTo>
                <a:lnTo>
                  <a:pt x="1028" y="1106"/>
                </a:lnTo>
                <a:lnTo>
                  <a:pt x="1035" y="1100"/>
                </a:lnTo>
                <a:lnTo>
                  <a:pt x="1035" y="1100"/>
                </a:lnTo>
                <a:lnTo>
                  <a:pt x="1042" y="1093"/>
                </a:lnTo>
                <a:lnTo>
                  <a:pt x="1048" y="1087"/>
                </a:lnTo>
                <a:lnTo>
                  <a:pt x="1055" y="1087"/>
                </a:lnTo>
                <a:lnTo>
                  <a:pt x="1061" y="1080"/>
                </a:lnTo>
                <a:lnTo>
                  <a:pt x="1068" y="1074"/>
                </a:lnTo>
                <a:lnTo>
                  <a:pt x="1074" y="1067"/>
                </a:lnTo>
                <a:lnTo>
                  <a:pt x="1081" y="1060"/>
                </a:lnTo>
                <a:lnTo>
                  <a:pt x="1088" y="1060"/>
                </a:lnTo>
                <a:lnTo>
                  <a:pt x="1094" y="1060"/>
                </a:lnTo>
                <a:lnTo>
                  <a:pt x="1101" y="1060"/>
                </a:lnTo>
                <a:lnTo>
                  <a:pt x="1107" y="1060"/>
                </a:lnTo>
                <a:lnTo>
                  <a:pt x="1114" y="1060"/>
                </a:lnTo>
                <a:lnTo>
                  <a:pt x="1121" y="1054"/>
                </a:lnTo>
                <a:lnTo>
                  <a:pt x="1127" y="1054"/>
                </a:lnTo>
                <a:lnTo>
                  <a:pt x="1134" y="1054"/>
                </a:lnTo>
                <a:lnTo>
                  <a:pt x="1140" y="1060"/>
                </a:lnTo>
                <a:lnTo>
                  <a:pt x="1147" y="1060"/>
                </a:lnTo>
                <a:lnTo>
                  <a:pt x="1154" y="1060"/>
                </a:lnTo>
                <a:lnTo>
                  <a:pt x="1160" y="1060"/>
                </a:lnTo>
                <a:lnTo>
                  <a:pt x="1167" y="1060"/>
                </a:lnTo>
                <a:lnTo>
                  <a:pt x="1173" y="1060"/>
                </a:lnTo>
                <a:lnTo>
                  <a:pt x="1180" y="1060"/>
                </a:lnTo>
                <a:lnTo>
                  <a:pt x="1186" y="1060"/>
                </a:lnTo>
                <a:lnTo>
                  <a:pt x="1193" y="1060"/>
                </a:lnTo>
                <a:lnTo>
                  <a:pt x="1200" y="1060"/>
                </a:lnTo>
                <a:lnTo>
                  <a:pt x="1206" y="1067"/>
                </a:lnTo>
                <a:lnTo>
                  <a:pt x="1213" y="1074"/>
                </a:lnTo>
                <a:lnTo>
                  <a:pt x="1219" y="1080"/>
                </a:lnTo>
                <a:lnTo>
                  <a:pt x="1219" y="1087"/>
                </a:lnTo>
                <a:lnTo>
                  <a:pt x="1219" y="1093"/>
                </a:lnTo>
                <a:lnTo>
                  <a:pt x="1219" y="1106"/>
                </a:lnTo>
                <a:lnTo>
                  <a:pt x="1226" y="1113"/>
                </a:lnTo>
                <a:lnTo>
                  <a:pt x="1226" y="1120"/>
                </a:lnTo>
                <a:lnTo>
                  <a:pt x="1226" y="1133"/>
                </a:lnTo>
                <a:lnTo>
                  <a:pt x="1233" y="1139"/>
                </a:lnTo>
                <a:lnTo>
                  <a:pt x="1239" y="1146"/>
                </a:lnTo>
                <a:lnTo>
                  <a:pt x="1246" y="1146"/>
                </a:lnTo>
                <a:lnTo>
                  <a:pt x="1252" y="1146"/>
                </a:lnTo>
                <a:lnTo>
                  <a:pt x="1259" y="1146"/>
                </a:lnTo>
                <a:lnTo>
                  <a:pt x="1266" y="1146"/>
                </a:lnTo>
                <a:lnTo>
                  <a:pt x="1272" y="1153"/>
                </a:lnTo>
                <a:lnTo>
                  <a:pt x="1279" y="1153"/>
                </a:lnTo>
                <a:lnTo>
                  <a:pt x="1285" y="1153"/>
                </a:lnTo>
                <a:lnTo>
                  <a:pt x="1292" y="1153"/>
                </a:lnTo>
                <a:lnTo>
                  <a:pt x="1298" y="1153"/>
                </a:lnTo>
                <a:lnTo>
                  <a:pt x="1305" y="1153"/>
                </a:lnTo>
                <a:lnTo>
                  <a:pt x="1312" y="1159"/>
                </a:lnTo>
                <a:lnTo>
                  <a:pt x="1318" y="1159"/>
                </a:lnTo>
                <a:lnTo>
                  <a:pt x="1325" y="1159"/>
                </a:lnTo>
                <a:lnTo>
                  <a:pt x="1331" y="1159"/>
                </a:lnTo>
                <a:lnTo>
                  <a:pt x="1338" y="1153"/>
                </a:lnTo>
                <a:lnTo>
                  <a:pt x="1345" y="1153"/>
                </a:lnTo>
                <a:lnTo>
                  <a:pt x="1351" y="1146"/>
                </a:lnTo>
                <a:lnTo>
                  <a:pt x="1351" y="1139"/>
                </a:lnTo>
                <a:lnTo>
                  <a:pt x="1351" y="1126"/>
                </a:lnTo>
                <a:lnTo>
                  <a:pt x="1358" y="1120"/>
                </a:lnTo>
                <a:lnTo>
                  <a:pt x="1358" y="1113"/>
                </a:lnTo>
                <a:lnTo>
                  <a:pt x="1358" y="1100"/>
                </a:lnTo>
                <a:lnTo>
                  <a:pt x="1358" y="1093"/>
                </a:lnTo>
                <a:lnTo>
                  <a:pt x="1358" y="1087"/>
                </a:lnTo>
                <a:lnTo>
                  <a:pt x="1358" y="1080"/>
                </a:lnTo>
                <a:lnTo>
                  <a:pt x="1364" y="1074"/>
                </a:lnTo>
                <a:lnTo>
                  <a:pt x="1371" y="1067"/>
                </a:lnTo>
                <a:lnTo>
                  <a:pt x="1378" y="1060"/>
                </a:lnTo>
                <a:lnTo>
                  <a:pt x="1384" y="1060"/>
                </a:lnTo>
                <a:lnTo>
                  <a:pt x="1384" y="1067"/>
                </a:lnTo>
                <a:lnTo>
                  <a:pt x="1384" y="1074"/>
                </a:lnTo>
                <a:lnTo>
                  <a:pt x="1378" y="1080"/>
                </a:lnTo>
                <a:lnTo>
                  <a:pt x="1371" y="1080"/>
                </a:lnTo>
                <a:lnTo>
                  <a:pt x="1364" y="1087"/>
                </a:lnTo>
                <a:lnTo>
                  <a:pt x="1358" y="1087"/>
                </a:lnTo>
                <a:lnTo>
                  <a:pt x="1358" y="1093"/>
                </a:lnTo>
                <a:lnTo>
                  <a:pt x="1364" y="1106"/>
                </a:lnTo>
                <a:lnTo>
                  <a:pt x="1364" y="1113"/>
                </a:lnTo>
                <a:lnTo>
                  <a:pt x="1371" y="1120"/>
                </a:lnTo>
                <a:lnTo>
                  <a:pt x="1371" y="1133"/>
                </a:lnTo>
                <a:lnTo>
                  <a:pt x="1378" y="1139"/>
                </a:lnTo>
                <a:lnTo>
                  <a:pt x="1378" y="1146"/>
                </a:lnTo>
                <a:lnTo>
                  <a:pt x="1378" y="1153"/>
                </a:lnTo>
                <a:lnTo>
                  <a:pt x="1384" y="1159"/>
                </a:lnTo>
                <a:lnTo>
                  <a:pt x="1384" y="1172"/>
                </a:lnTo>
                <a:lnTo>
                  <a:pt x="1384" y="1179"/>
                </a:lnTo>
                <a:lnTo>
                  <a:pt x="1391" y="1185"/>
                </a:lnTo>
                <a:lnTo>
                  <a:pt x="1391" y="1199"/>
                </a:lnTo>
                <a:lnTo>
                  <a:pt x="1391" y="1205"/>
                </a:lnTo>
                <a:lnTo>
                  <a:pt x="1391" y="1212"/>
                </a:lnTo>
                <a:lnTo>
                  <a:pt x="1391" y="1218"/>
                </a:lnTo>
                <a:lnTo>
                  <a:pt x="1391" y="1232"/>
                </a:lnTo>
                <a:lnTo>
                  <a:pt x="1384" y="1238"/>
                </a:lnTo>
                <a:lnTo>
                  <a:pt x="1384" y="1245"/>
                </a:lnTo>
                <a:lnTo>
                  <a:pt x="1384" y="1258"/>
                </a:lnTo>
                <a:lnTo>
                  <a:pt x="1384" y="1264"/>
                </a:lnTo>
                <a:lnTo>
                  <a:pt x="1384" y="1271"/>
                </a:lnTo>
                <a:lnTo>
                  <a:pt x="1391" y="1278"/>
                </a:lnTo>
                <a:lnTo>
                  <a:pt x="1397" y="1291"/>
                </a:lnTo>
                <a:lnTo>
                  <a:pt x="1397" y="1297"/>
                </a:lnTo>
                <a:lnTo>
                  <a:pt x="1404" y="1297"/>
                </a:lnTo>
                <a:lnTo>
                  <a:pt x="1411" y="1297"/>
                </a:lnTo>
                <a:lnTo>
                  <a:pt x="1417" y="1304"/>
                </a:lnTo>
                <a:lnTo>
                  <a:pt x="1424" y="1304"/>
                </a:lnTo>
                <a:lnTo>
                  <a:pt x="1430" y="1311"/>
                </a:lnTo>
                <a:lnTo>
                  <a:pt x="1437" y="1317"/>
                </a:lnTo>
                <a:lnTo>
                  <a:pt x="1443" y="1324"/>
                </a:lnTo>
                <a:lnTo>
                  <a:pt x="1443" y="1330"/>
                </a:lnTo>
                <a:lnTo>
                  <a:pt x="1450" y="1337"/>
                </a:lnTo>
                <a:lnTo>
                  <a:pt x="1450" y="1343"/>
                </a:lnTo>
                <a:lnTo>
                  <a:pt x="1457" y="1350"/>
                </a:lnTo>
                <a:lnTo>
                  <a:pt x="1463" y="1357"/>
                </a:lnTo>
                <a:lnTo>
                  <a:pt x="1463" y="1363"/>
                </a:lnTo>
                <a:lnTo>
                  <a:pt x="1470" y="1370"/>
                </a:lnTo>
                <a:lnTo>
                  <a:pt x="1470" y="1383"/>
                </a:lnTo>
                <a:lnTo>
                  <a:pt x="1476" y="1390"/>
                </a:lnTo>
                <a:lnTo>
                  <a:pt x="1483" y="1390"/>
                </a:lnTo>
                <a:lnTo>
                  <a:pt x="1490" y="1396"/>
                </a:lnTo>
                <a:lnTo>
                  <a:pt x="1496" y="1396"/>
                </a:lnTo>
                <a:lnTo>
                  <a:pt x="1503" y="1390"/>
                </a:lnTo>
                <a:lnTo>
                  <a:pt x="1509" y="1390"/>
                </a:lnTo>
                <a:lnTo>
                  <a:pt x="1516" y="1396"/>
                </a:lnTo>
                <a:lnTo>
                  <a:pt x="1523" y="1396"/>
                </a:lnTo>
                <a:lnTo>
                  <a:pt x="1529" y="1396"/>
                </a:lnTo>
                <a:lnTo>
                  <a:pt x="1536" y="1396"/>
                </a:lnTo>
                <a:lnTo>
                  <a:pt x="1542" y="1403"/>
                </a:lnTo>
                <a:lnTo>
                  <a:pt x="1549" y="1403"/>
                </a:lnTo>
                <a:lnTo>
                  <a:pt x="1555" y="1403"/>
                </a:lnTo>
                <a:lnTo>
                  <a:pt x="1562" y="1403"/>
                </a:lnTo>
                <a:lnTo>
                  <a:pt x="1569" y="1403"/>
                </a:lnTo>
                <a:lnTo>
                  <a:pt x="1575" y="1403"/>
                </a:lnTo>
                <a:lnTo>
                  <a:pt x="1582" y="1409"/>
                </a:lnTo>
                <a:lnTo>
                  <a:pt x="1588" y="1409"/>
                </a:lnTo>
                <a:lnTo>
                  <a:pt x="1602" y="1409"/>
                </a:lnTo>
                <a:lnTo>
                  <a:pt x="1608" y="1409"/>
                </a:lnTo>
                <a:lnTo>
                  <a:pt x="1615" y="1409"/>
                </a:lnTo>
                <a:lnTo>
                  <a:pt x="1621" y="1416"/>
                </a:lnTo>
                <a:lnTo>
                  <a:pt x="1628" y="1416"/>
                </a:lnTo>
                <a:lnTo>
                  <a:pt x="1635" y="1416"/>
                </a:lnTo>
                <a:lnTo>
                  <a:pt x="1641" y="1416"/>
                </a:lnTo>
                <a:lnTo>
                  <a:pt x="1648" y="1416"/>
                </a:lnTo>
                <a:lnTo>
                  <a:pt x="1654" y="1416"/>
                </a:lnTo>
                <a:lnTo>
                  <a:pt x="1661" y="1416"/>
                </a:lnTo>
                <a:lnTo>
                  <a:pt x="1668" y="1416"/>
                </a:lnTo>
                <a:lnTo>
                  <a:pt x="1674" y="1416"/>
                </a:lnTo>
                <a:lnTo>
                  <a:pt x="1681" y="1416"/>
                </a:lnTo>
                <a:lnTo>
                  <a:pt x="1687" y="1409"/>
                </a:lnTo>
                <a:lnTo>
                  <a:pt x="1694" y="1409"/>
                </a:lnTo>
                <a:lnTo>
                  <a:pt x="1700" y="1409"/>
                </a:lnTo>
                <a:lnTo>
                  <a:pt x="1707" y="1409"/>
                </a:lnTo>
                <a:lnTo>
                  <a:pt x="1707" y="1416"/>
                </a:lnTo>
                <a:lnTo>
                  <a:pt x="1700" y="1422"/>
                </a:lnTo>
                <a:lnTo>
                  <a:pt x="1700" y="1429"/>
                </a:lnTo>
                <a:lnTo>
                  <a:pt x="1694" y="1436"/>
                </a:lnTo>
                <a:lnTo>
                  <a:pt x="1687" y="1442"/>
                </a:lnTo>
                <a:lnTo>
                  <a:pt x="1687" y="1449"/>
                </a:lnTo>
                <a:lnTo>
                  <a:pt x="1681" y="1455"/>
                </a:lnTo>
                <a:lnTo>
                  <a:pt x="1674" y="1462"/>
                </a:lnTo>
                <a:lnTo>
                  <a:pt x="1668" y="1469"/>
                </a:lnTo>
                <a:lnTo>
                  <a:pt x="1668" y="1475"/>
                </a:lnTo>
                <a:lnTo>
                  <a:pt x="1661" y="1482"/>
                </a:lnTo>
                <a:lnTo>
                  <a:pt x="1654" y="1488"/>
                </a:lnTo>
                <a:lnTo>
                  <a:pt x="1654" y="1495"/>
                </a:lnTo>
                <a:lnTo>
                  <a:pt x="1648" y="1501"/>
                </a:lnTo>
                <a:lnTo>
                  <a:pt x="1641" y="1508"/>
                </a:lnTo>
                <a:lnTo>
                  <a:pt x="1635" y="1515"/>
                </a:lnTo>
                <a:lnTo>
                  <a:pt x="1635" y="1521"/>
                </a:lnTo>
                <a:lnTo>
                  <a:pt x="1628" y="1528"/>
                </a:lnTo>
                <a:lnTo>
                  <a:pt x="1621" y="1534"/>
                </a:lnTo>
                <a:lnTo>
                  <a:pt x="1615" y="1541"/>
                </a:lnTo>
                <a:lnTo>
                  <a:pt x="1615" y="1548"/>
                </a:lnTo>
                <a:lnTo>
                  <a:pt x="1608" y="1554"/>
                </a:lnTo>
                <a:lnTo>
                  <a:pt x="1602" y="1561"/>
                </a:lnTo>
                <a:lnTo>
                  <a:pt x="1602" y="1561"/>
                </a:lnTo>
                <a:lnTo>
                  <a:pt x="1595" y="1567"/>
                </a:lnTo>
                <a:lnTo>
                  <a:pt x="1588" y="1567"/>
                </a:lnTo>
                <a:lnTo>
                  <a:pt x="1582" y="1574"/>
                </a:lnTo>
                <a:lnTo>
                  <a:pt x="1575" y="1581"/>
                </a:lnTo>
                <a:lnTo>
                  <a:pt x="1569" y="1587"/>
                </a:lnTo>
                <a:lnTo>
                  <a:pt x="1562" y="1594"/>
                </a:lnTo>
                <a:lnTo>
                  <a:pt x="1562" y="1600"/>
                </a:lnTo>
                <a:lnTo>
                  <a:pt x="1555" y="1607"/>
                </a:lnTo>
                <a:lnTo>
                  <a:pt x="1549" y="1613"/>
                </a:lnTo>
                <a:lnTo>
                  <a:pt x="1549" y="1620"/>
                </a:lnTo>
                <a:lnTo>
                  <a:pt x="1549" y="1627"/>
                </a:lnTo>
                <a:lnTo>
                  <a:pt x="1555" y="1627"/>
                </a:lnTo>
                <a:lnTo>
                  <a:pt x="1562" y="1633"/>
                </a:lnTo>
                <a:lnTo>
                  <a:pt x="1569" y="1640"/>
                </a:lnTo>
                <a:lnTo>
                  <a:pt x="1575" y="1646"/>
                </a:lnTo>
                <a:lnTo>
                  <a:pt x="1575" y="1653"/>
                </a:lnTo>
                <a:lnTo>
                  <a:pt x="1582" y="1660"/>
                </a:lnTo>
                <a:lnTo>
                  <a:pt x="1588" y="1660"/>
                </a:lnTo>
                <a:lnTo>
                  <a:pt x="1595" y="1666"/>
                </a:lnTo>
                <a:lnTo>
                  <a:pt x="1602" y="1673"/>
                </a:lnTo>
                <a:lnTo>
                  <a:pt x="1608" y="1679"/>
                </a:lnTo>
                <a:lnTo>
                  <a:pt x="1608" y="1686"/>
                </a:lnTo>
                <a:lnTo>
                  <a:pt x="1615" y="1692"/>
                </a:lnTo>
                <a:lnTo>
                  <a:pt x="1615" y="1699"/>
                </a:lnTo>
                <a:lnTo>
                  <a:pt x="1615" y="1712"/>
                </a:lnTo>
                <a:lnTo>
                  <a:pt x="1615" y="1719"/>
                </a:lnTo>
                <a:lnTo>
                  <a:pt x="1615" y="1725"/>
                </a:lnTo>
                <a:lnTo>
                  <a:pt x="1621" y="1732"/>
                </a:lnTo>
                <a:lnTo>
                  <a:pt x="1621" y="1739"/>
                </a:lnTo>
                <a:lnTo>
                  <a:pt x="1628" y="1732"/>
                </a:lnTo>
                <a:lnTo>
                  <a:pt x="1635" y="1725"/>
                </a:lnTo>
                <a:lnTo>
                  <a:pt x="1635" y="1719"/>
                </a:lnTo>
                <a:lnTo>
                  <a:pt x="1641" y="1712"/>
                </a:lnTo>
                <a:lnTo>
                  <a:pt x="1648" y="1706"/>
                </a:lnTo>
                <a:lnTo>
                  <a:pt x="1648" y="1699"/>
                </a:lnTo>
                <a:lnTo>
                  <a:pt x="1654" y="1699"/>
                </a:lnTo>
                <a:lnTo>
                  <a:pt x="1661" y="1692"/>
                </a:lnTo>
                <a:lnTo>
                  <a:pt x="1668" y="1692"/>
                </a:lnTo>
                <a:lnTo>
                  <a:pt x="1681" y="1699"/>
                </a:lnTo>
                <a:lnTo>
                  <a:pt x="1687" y="1699"/>
                </a:lnTo>
                <a:lnTo>
                  <a:pt x="1694" y="1692"/>
                </a:lnTo>
                <a:lnTo>
                  <a:pt x="1700" y="1692"/>
                </a:lnTo>
                <a:lnTo>
                  <a:pt x="1707" y="1692"/>
                </a:lnTo>
                <a:lnTo>
                  <a:pt x="1714" y="1692"/>
                </a:lnTo>
                <a:lnTo>
                  <a:pt x="1720" y="1692"/>
                </a:lnTo>
                <a:lnTo>
                  <a:pt x="1727" y="1692"/>
                </a:lnTo>
                <a:lnTo>
                  <a:pt x="1733" y="1699"/>
                </a:lnTo>
                <a:lnTo>
                  <a:pt x="1740" y="1699"/>
                </a:lnTo>
                <a:lnTo>
                  <a:pt x="1747" y="1699"/>
                </a:lnTo>
                <a:lnTo>
                  <a:pt x="1753" y="1699"/>
                </a:lnTo>
                <a:lnTo>
                  <a:pt x="1760" y="1706"/>
                </a:lnTo>
                <a:lnTo>
                  <a:pt x="1766" y="1706"/>
                </a:lnTo>
                <a:lnTo>
                  <a:pt x="1773" y="1706"/>
                </a:lnTo>
                <a:lnTo>
                  <a:pt x="1780" y="1712"/>
                </a:lnTo>
                <a:lnTo>
                  <a:pt x="1780" y="1719"/>
                </a:lnTo>
                <a:lnTo>
                  <a:pt x="1786" y="1732"/>
                </a:lnTo>
                <a:lnTo>
                  <a:pt x="1786" y="1739"/>
                </a:lnTo>
                <a:lnTo>
                  <a:pt x="1793" y="1745"/>
                </a:lnTo>
                <a:lnTo>
                  <a:pt x="1799" y="1752"/>
                </a:lnTo>
                <a:lnTo>
                  <a:pt x="1799" y="1758"/>
                </a:lnTo>
                <a:lnTo>
                  <a:pt x="1806" y="1765"/>
                </a:lnTo>
                <a:lnTo>
                  <a:pt x="1806" y="1771"/>
                </a:lnTo>
                <a:lnTo>
                  <a:pt x="1812" y="1778"/>
                </a:lnTo>
                <a:lnTo>
                  <a:pt x="1819" y="1785"/>
                </a:lnTo>
                <a:lnTo>
                  <a:pt x="1819" y="1791"/>
                </a:lnTo>
                <a:lnTo>
                  <a:pt x="1826" y="1804"/>
                </a:lnTo>
                <a:lnTo>
                  <a:pt x="1826" y="1811"/>
                </a:lnTo>
                <a:lnTo>
                  <a:pt x="1832" y="1818"/>
                </a:lnTo>
                <a:lnTo>
                  <a:pt x="1839" y="1824"/>
                </a:lnTo>
                <a:lnTo>
                  <a:pt x="1839" y="1831"/>
                </a:lnTo>
                <a:lnTo>
                  <a:pt x="1845" y="1837"/>
                </a:lnTo>
                <a:lnTo>
                  <a:pt x="1845" y="1844"/>
                </a:lnTo>
                <a:lnTo>
                  <a:pt x="1852" y="1850"/>
                </a:lnTo>
                <a:lnTo>
                  <a:pt x="1859" y="1857"/>
                </a:lnTo>
                <a:lnTo>
                  <a:pt x="1859" y="1857"/>
                </a:lnTo>
                <a:lnTo>
                  <a:pt x="1859" y="1824"/>
                </a:lnTo>
                <a:lnTo>
                  <a:pt x="1885" y="1798"/>
                </a:lnTo>
                <a:lnTo>
                  <a:pt x="1918" y="1765"/>
                </a:lnTo>
                <a:lnTo>
                  <a:pt x="1918" y="1739"/>
                </a:lnTo>
                <a:lnTo>
                  <a:pt x="1944" y="1706"/>
                </a:lnTo>
                <a:lnTo>
                  <a:pt x="1977" y="1679"/>
                </a:lnTo>
                <a:lnTo>
                  <a:pt x="1977" y="1653"/>
                </a:lnTo>
                <a:lnTo>
                  <a:pt x="1977" y="1620"/>
                </a:lnTo>
                <a:lnTo>
                  <a:pt x="2004" y="1594"/>
                </a:lnTo>
                <a:lnTo>
                  <a:pt x="2004" y="1561"/>
                </a:lnTo>
                <a:lnTo>
                  <a:pt x="2004" y="1534"/>
                </a:lnTo>
                <a:lnTo>
                  <a:pt x="2037" y="1501"/>
                </a:lnTo>
                <a:lnTo>
                  <a:pt x="2037" y="1475"/>
                </a:lnTo>
                <a:lnTo>
                  <a:pt x="2037" y="1442"/>
                </a:lnTo>
                <a:lnTo>
                  <a:pt x="2037" y="1416"/>
                </a:lnTo>
                <a:lnTo>
                  <a:pt x="2063" y="1383"/>
                </a:lnTo>
                <a:lnTo>
                  <a:pt x="2063" y="1376"/>
                </a:lnTo>
                <a:lnTo>
                  <a:pt x="2063" y="1363"/>
                </a:lnTo>
                <a:lnTo>
                  <a:pt x="2063" y="1357"/>
                </a:lnTo>
                <a:lnTo>
                  <a:pt x="2063" y="1350"/>
                </a:lnTo>
                <a:lnTo>
                  <a:pt x="2063" y="1337"/>
                </a:lnTo>
                <a:lnTo>
                  <a:pt x="2063" y="1330"/>
                </a:lnTo>
                <a:lnTo>
                  <a:pt x="2063" y="1324"/>
                </a:lnTo>
                <a:lnTo>
                  <a:pt x="2063" y="1311"/>
                </a:lnTo>
                <a:lnTo>
                  <a:pt x="2063" y="1304"/>
                </a:lnTo>
                <a:lnTo>
                  <a:pt x="2063" y="1297"/>
                </a:lnTo>
                <a:lnTo>
                  <a:pt x="2063" y="1284"/>
                </a:lnTo>
                <a:lnTo>
                  <a:pt x="2063" y="1278"/>
                </a:lnTo>
                <a:lnTo>
                  <a:pt x="2063" y="1264"/>
                </a:lnTo>
                <a:lnTo>
                  <a:pt x="2063" y="1258"/>
                </a:lnTo>
                <a:lnTo>
                  <a:pt x="2063" y="1251"/>
                </a:lnTo>
                <a:lnTo>
                  <a:pt x="2063" y="1238"/>
                </a:lnTo>
                <a:lnTo>
                  <a:pt x="2063" y="1232"/>
                </a:lnTo>
                <a:lnTo>
                  <a:pt x="2063" y="1225"/>
                </a:lnTo>
                <a:lnTo>
                  <a:pt x="2063" y="1212"/>
                </a:lnTo>
                <a:lnTo>
                  <a:pt x="2063" y="1205"/>
                </a:lnTo>
                <a:lnTo>
                  <a:pt x="2063" y="1192"/>
                </a:lnTo>
                <a:lnTo>
                  <a:pt x="2063" y="1185"/>
                </a:lnTo>
                <a:lnTo>
                  <a:pt x="2063" y="1179"/>
                </a:lnTo>
                <a:lnTo>
                  <a:pt x="2063" y="1166"/>
                </a:lnTo>
                <a:lnTo>
                  <a:pt x="2063" y="1159"/>
                </a:lnTo>
                <a:lnTo>
                  <a:pt x="2063" y="1153"/>
                </a:lnTo>
                <a:lnTo>
                  <a:pt x="2063" y="1139"/>
                </a:lnTo>
                <a:lnTo>
                  <a:pt x="2063" y="1133"/>
                </a:lnTo>
                <a:lnTo>
                  <a:pt x="2063" y="1120"/>
                </a:lnTo>
                <a:lnTo>
                  <a:pt x="2063" y="1113"/>
                </a:lnTo>
                <a:lnTo>
                  <a:pt x="2063" y="1106"/>
                </a:lnTo>
                <a:lnTo>
                  <a:pt x="2063" y="1093"/>
                </a:lnTo>
                <a:lnTo>
                  <a:pt x="2063" y="1087"/>
                </a:lnTo>
                <a:lnTo>
                  <a:pt x="2063" y="1080"/>
                </a:lnTo>
                <a:lnTo>
                  <a:pt x="2063" y="1067"/>
                </a:lnTo>
                <a:lnTo>
                  <a:pt x="2063" y="1060"/>
                </a:lnTo>
                <a:lnTo>
                  <a:pt x="2063" y="1047"/>
                </a:lnTo>
                <a:lnTo>
                  <a:pt x="2063" y="1041"/>
                </a:lnTo>
                <a:lnTo>
                  <a:pt x="2063" y="1034"/>
                </a:lnTo>
                <a:lnTo>
                  <a:pt x="2063" y="1021"/>
                </a:lnTo>
                <a:lnTo>
                  <a:pt x="2063" y="1014"/>
                </a:lnTo>
                <a:lnTo>
                  <a:pt x="2063" y="1008"/>
                </a:lnTo>
                <a:lnTo>
                  <a:pt x="2063" y="995"/>
                </a:lnTo>
                <a:lnTo>
                  <a:pt x="2063" y="988"/>
                </a:lnTo>
                <a:lnTo>
                  <a:pt x="2063" y="975"/>
                </a:lnTo>
                <a:lnTo>
                  <a:pt x="2063" y="968"/>
                </a:lnTo>
                <a:lnTo>
                  <a:pt x="2063" y="962"/>
                </a:lnTo>
                <a:lnTo>
                  <a:pt x="2063" y="948"/>
                </a:lnTo>
                <a:lnTo>
                  <a:pt x="2063" y="942"/>
                </a:lnTo>
                <a:lnTo>
                  <a:pt x="2063" y="935"/>
                </a:lnTo>
                <a:lnTo>
                  <a:pt x="2063" y="922"/>
                </a:lnTo>
                <a:lnTo>
                  <a:pt x="2063" y="916"/>
                </a:lnTo>
                <a:lnTo>
                  <a:pt x="2063" y="902"/>
                </a:lnTo>
                <a:lnTo>
                  <a:pt x="2063" y="896"/>
                </a:lnTo>
                <a:lnTo>
                  <a:pt x="2063" y="889"/>
                </a:lnTo>
                <a:lnTo>
                  <a:pt x="2063" y="876"/>
                </a:lnTo>
                <a:lnTo>
                  <a:pt x="2063" y="869"/>
                </a:lnTo>
                <a:lnTo>
                  <a:pt x="2063" y="863"/>
                </a:lnTo>
                <a:lnTo>
                  <a:pt x="2063" y="850"/>
                </a:lnTo>
                <a:lnTo>
                  <a:pt x="2063" y="843"/>
                </a:lnTo>
                <a:lnTo>
                  <a:pt x="2063" y="830"/>
                </a:lnTo>
                <a:lnTo>
                  <a:pt x="2063" y="823"/>
                </a:lnTo>
                <a:lnTo>
                  <a:pt x="2063" y="817"/>
                </a:lnTo>
                <a:lnTo>
                  <a:pt x="2063" y="804"/>
                </a:lnTo>
                <a:lnTo>
                  <a:pt x="2063" y="797"/>
                </a:lnTo>
                <a:lnTo>
                  <a:pt x="2063" y="790"/>
                </a:lnTo>
                <a:lnTo>
                  <a:pt x="2063" y="777"/>
                </a:lnTo>
                <a:lnTo>
                  <a:pt x="2063" y="771"/>
                </a:lnTo>
                <a:lnTo>
                  <a:pt x="2063" y="758"/>
                </a:lnTo>
                <a:lnTo>
                  <a:pt x="2063" y="751"/>
                </a:lnTo>
                <a:lnTo>
                  <a:pt x="2063" y="744"/>
                </a:lnTo>
                <a:lnTo>
                  <a:pt x="2063" y="731"/>
                </a:lnTo>
                <a:lnTo>
                  <a:pt x="2063" y="725"/>
                </a:lnTo>
                <a:lnTo>
                  <a:pt x="2063" y="718"/>
                </a:lnTo>
                <a:lnTo>
                  <a:pt x="2063" y="705"/>
                </a:lnTo>
                <a:lnTo>
                  <a:pt x="2063" y="698"/>
                </a:lnTo>
                <a:lnTo>
                  <a:pt x="2063" y="685"/>
                </a:lnTo>
                <a:lnTo>
                  <a:pt x="2063" y="679"/>
                </a:lnTo>
                <a:lnTo>
                  <a:pt x="2063" y="672"/>
                </a:lnTo>
                <a:lnTo>
                  <a:pt x="2063" y="659"/>
                </a:lnTo>
                <a:lnTo>
                  <a:pt x="2063" y="652"/>
                </a:lnTo>
                <a:lnTo>
                  <a:pt x="2063" y="646"/>
                </a:lnTo>
                <a:lnTo>
                  <a:pt x="2063" y="632"/>
                </a:lnTo>
                <a:lnTo>
                  <a:pt x="2063" y="626"/>
                </a:lnTo>
                <a:lnTo>
                  <a:pt x="2063" y="613"/>
                </a:lnTo>
                <a:lnTo>
                  <a:pt x="2063" y="606"/>
                </a:lnTo>
                <a:lnTo>
                  <a:pt x="2063" y="600"/>
                </a:lnTo>
                <a:lnTo>
                  <a:pt x="2063" y="586"/>
                </a:lnTo>
                <a:lnTo>
                  <a:pt x="2063" y="580"/>
                </a:lnTo>
                <a:lnTo>
                  <a:pt x="2063" y="573"/>
                </a:lnTo>
                <a:lnTo>
                  <a:pt x="2063" y="560"/>
                </a:lnTo>
                <a:lnTo>
                  <a:pt x="2063" y="553"/>
                </a:lnTo>
                <a:lnTo>
                  <a:pt x="2063" y="540"/>
                </a:lnTo>
                <a:lnTo>
                  <a:pt x="2063" y="534"/>
                </a:lnTo>
                <a:lnTo>
                  <a:pt x="2063" y="527"/>
                </a:lnTo>
                <a:lnTo>
                  <a:pt x="2063" y="514"/>
                </a:lnTo>
                <a:lnTo>
                  <a:pt x="2063" y="507"/>
                </a:lnTo>
                <a:lnTo>
                  <a:pt x="2063" y="501"/>
                </a:lnTo>
                <a:lnTo>
                  <a:pt x="2063" y="488"/>
                </a:lnTo>
                <a:lnTo>
                  <a:pt x="2063" y="481"/>
                </a:lnTo>
                <a:lnTo>
                  <a:pt x="2063" y="468"/>
                </a:lnTo>
                <a:lnTo>
                  <a:pt x="2063" y="461"/>
                </a:lnTo>
                <a:lnTo>
                  <a:pt x="2063" y="455"/>
                </a:lnTo>
                <a:lnTo>
                  <a:pt x="2063" y="442"/>
                </a:lnTo>
                <a:lnTo>
                  <a:pt x="2063" y="435"/>
                </a:lnTo>
                <a:lnTo>
                  <a:pt x="2063" y="428"/>
                </a:lnTo>
                <a:lnTo>
                  <a:pt x="2063" y="415"/>
                </a:lnTo>
                <a:lnTo>
                  <a:pt x="2063" y="409"/>
                </a:lnTo>
                <a:lnTo>
                  <a:pt x="2063" y="395"/>
                </a:lnTo>
                <a:lnTo>
                  <a:pt x="2063" y="389"/>
                </a:lnTo>
                <a:lnTo>
                  <a:pt x="2063" y="382"/>
                </a:lnTo>
                <a:lnTo>
                  <a:pt x="2063" y="369"/>
                </a:lnTo>
                <a:lnTo>
                  <a:pt x="2063" y="363"/>
                </a:lnTo>
                <a:lnTo>
                  <a:pt x="2063" y="356"/>
                </a:lnTo>
                <a:lnTo>
                  <a:pt x="2063" y="343"/>
                </a:lnTo>
                <a:lnTo>
                  <a:pt x="2063" y="336"/>
                </a:lnTo>
                <a:lnTo>
                  <a:pt x="2063" y="330"/>
                </a:lnTo>
                <a:lnTo>
                  <a:pt x="2069" y="316"/>
                </a:lnTo>
                <a:lnTo>
                  <a:pt x="2069" y="310"/>
                </a:lnTo>
                <a:lnTo>
                  <a:pt x="2076" y="303"/>
                </a:lnTo>
                <a:lnTo>
                  <a:pt x="2083" y="297"/>
                </a:lnTo>
                <a:lnTo>
                  <a:pt x="2089" y="290"/>
                </a:lnTo>
                <a:lnTo>
                  <a:pt x="2089" y="284"/>
                </a:lnTo>
                <a:lnTo>
                  <a:pt x="2096" y="277"/>
                </a:lnTo>
                <a:lnTo>
                  <a:pt x="2102" y="270"/>
                </a:lnTo>
                <a:lnTo>
                  <a:pt x="2109" y="264"/>
                </a:lnTo>
                <a:lnTo>
                  <a:pt x="2109" y="257"/>
                </a:lnTo>
                <a:lnTo>
                  <a:pt x="2116" y="251"/>
                </a:lnTo>
                <a:lnTo>
                  <a:pt x="2122" y="244"/>
                </a:lnTo>
                <a:lnTo>
                  <a:pt x="2129" y="237"/>
                </a:lnTo>
                <a:lnTo>
                  <a:pt x="2135" y="237"/>
                </a:lnTo>
                <a:lnTo>
                  <a:pt x="2135" y="231"/>
                </a:lnTo>
                <a:lnTo>
                  <a:pt x="2142" y="224"/>
                </a:lnTo>
                <a:lnTo>
                  <a:pt x="2142" y="218"/>
                </a:lnTo>
                <a:lnTo>
                  <a:pt x="2142" y="205"/>
                </a:lnTo>
                <a:lnTo>
                  <a:pt x="2149" y="191"/>
                </a:lnTo>
                <a:lnTo>
                  <a:pt x="2155" y="191"/>
                </a:lnTo>
                <a:lnTo>
                  <a:pt x="2155" y="198"/>
                </a:lnTo>
                <a:lnTo>
                  <a:pt x="2162" y="211"/>
                </a:lnTo>
                <a:lnTo>
                  <a:pt x="2162" y="218"/>
                </a:lnTo>
                <a:lnTo>
                  <a:pt x="2162" y="224"/>
                </a:lnTo>
                <a:lnTo>
                  <a:pt x="2162" y="237"/>
                </a:lnTo>
                <a:lnTo>
                  <a:pt x="2162" y="244"/>
                </a:lnTo>
                <a:lnTo>
                  <a:pt x="2155" y="251"/>
                </a:lnTo>
                <a:lnTo>
                  <a:pt x="2155" y="264"/>
                </a:lnTo>
                <a:lnTo>
                  <a:pt x="2155" y="270"/>
                </a:lnTo>
                <a:lnTo>
                  <a:pt x="2155" y="284"/>
                </a:lnTo>
                <a:lnTo>
                  <a:pt x="2155" y="290"/>
                </a:lnTo>
                <a:lnTo>
                  <a:pt x="2155" y="297"/>
                </a:lnTo>
                <a:lnTo>
                  <a:pt x="2155" y="310"/>
                </a:lnTo>
                <a:lnTo>
                  <a:pt x="2155" y="316"/>
                </a:lnTo>
                <a:lnTo>
                  <a:pt x="2149" y="323"/>
                </a:lnTo>
                <a:lnTo>
                  <a:pt x="2149" y="336"/>
                </a:lnTo>
                <a:lnTo>
                  <a:pt x="2149" y="343"/>
                </a:lnTo>
                <a:lnTo>
                  <a:pt x="2149" y="349"/>
                </a:lnTo>
                <a:lnTo>
                  <a:pt x="2149" y="363"/>
                </a:lnTo>
                <a:lnTo>
                  <a:pt x="2142" y="369"/>
                </a:lnTo>
                <a:lnTo>
                  <a:pt x="2142" y="376"/>
                </a:lnTo>
                <a:lnTo>
                  <a:pt x="2142" y="389"/>
                </a:lnTo>
                <a:lnTo>
                  <a:pt x="2142" y="395"/>
                </a:lnTo>
                <a:lnTo>
                  <a:pt x="2142" y="409"/>
                </a:lnTo>
                <a:lnTo>
                  <a:pt x="2142" y="415"/>
                </a:lnTo>
                <a:lnTo>
                  <a:pt x="2142" y="422"/>
                </a:lnTo>
                <a:lnTo>
                  <a:pt x="2142" y="435"/>
                </a:lnTo>
                <a:lnTo>
                  <a:pt x="2142" y="442"/>
                </a:lnTo>
                <a:lnTo>
                  <a:pt x="2142" y="448"/>
                </a:lnTo>
                <a:lnTo>
                  <a:pt x="2142" y="461"/>
                </a:lnTo>
                <a:lnTo>
                  <a:pt x="2135" y="468"/>
                </a:lnTo>
                <a:lnTo>
                  <a:pt x="2135" y="481"/>
                </a:lnTo>
                <a:lnTo>
                  <a:pt x="2135" y="488"/>
                </a:lnTo>
                <a:lnTo>
                  <a:pt x="2135" y="494"/>
                </a:lnTo>
                <a:lnTo>
                  <a:pt x="2135" y="507"/>
                </a:lnTo>
                <a:lnTo>
                  <a:pt x="2135" y="514"/>
                </a:lnTo>
                <a:lnTo>
                  <a:pt x="2135" y="521"/>
                </a:lnTo>
                <a:lnTo>
                  <a:pt x="2135" y="534"/>
                </a:lnTo>
                <a:lnTo>
                  <a:pt x="2135" y="540"/>
                </a:lnTo>
                <a:lnTo>
                  <a:pt x="2135" y="547"/>
                </a:lnTo>
                <a:lnTo>
                  <a:pt x="2135" y="560"/>
                </a:lnTo>
                <a:lnTo>
                  <a:pt x="2135" y="567"/>
                </a:lnTo>
                <a:lnTo>
                  <a:pt x="2129" y="580"/>
                </a:lnTo>
                <a:lnTo>
                  <a:pt x="2129" y="586"/>
                </a:lnTo>
                <a:lnTo>
                  <a:pt x="2129" y="593"/>
                </a:lnTo>
                <a:lnTo>
                  <a:pt x="2129" y="606"/>
                </a:lnTo>
                <a:lnTo>
                  <a:pt x="2129" y="613"/>
                </a:lnTo>
                <a:lnTo>
                  <a:pt x="2129" y="619"/>
                </a:lnTo>
                <a:lnTo>
                  <a:pt x="2129" y="632"/>
                </a:lnTo>
                <a:lnTo>
                  <a:pt x="2129" y="639"/>
                </a:lnTo>
                <a:lnTo>
                  <a:pt x="2129" y="652"/>
                </a:lnTo>
                <a:lnTo>
                  <a:pt x="2122" y="659"/>
                </a:lnTo>
                <a:lnTo>
                  <a:pt x="2122" y="665"/>
                </a:lnTo>
                <a:lnTo>
                  <a:pt x="2122" y="672"/>
                </a:lnTo>
                <a:lnTo>
                  <a:pt x="2116" y="685"/>
                </a:lnTo>
                <a:lnTo>
                  <a:pt x="2116" y="692"/>
                </a:lnTo>
                <a:lnTo>
                  <a:pt x="2116" y="698"/>
                </a:lnTo>
                <a:lnTo>
                  <a:pt x="2116" y="711"/>
                </a:lnTo>
                <a:lnTo>
                  <a:pt x="2116" y="718"/>
                </a:lnTo>
                <a:lnTo>
                  <a:pt x="2109" y="731"/>
                </a:lnTo>
                <a:lnTo>
                  <a:pt x="2109" y="738"/>
                </a:lnTo>
                <a:lnTo>
                  <a:pt x="2109" y="744"/>
                </a:lnTo>
                <a:lnTo>
                  <a:pt x="2109" y="758"/>
                </a:lnTo>
                <a:lnTo>
                  <a:pt x="2109" y="764"/>
                </a:lnTo>
                <a:lnTo>
                  <a:pt x="2109" y="771"/>
                </a:lnTo>
                <a:lnTo>
                  <a:pt x="2109" y="784"/>
                </a:lnTo>
                <a:lnTo>
                  <a:pt x="2109" y="790"/>
                </a:lnTo>
                <a:lnTo>
                  <a:pt x="2109" y="797"/>
                </a:lnTo>
                <a:lnTo>
                  <a:pt x="2102" y="810"/>
                </a:lnTo>
                <a:lnTo>
                  <a:pt x="2102" y="817"/>
                </a:lnTo>
                <a:lnTo>
                  <a:pt x="2102" y="830"/>
                </a:lnTo>
                <a:lnTo>
                  <a:pt x="2102" y="837"/>
                </a:lnTo>
                <a:lnTo>
                  <a:pt x="2102" y="843"/>
                </a:lnTo>
                <a:lnTo>
                  <a:pt x="2102" y="856"/>
                </a:lnTo>
                <a:lnTo>
                  <a:pt x="2102" y="863"/>
                </a:lnTo>
                <a:lnTo>
                  <a:pt x="2102" y="869"/>
                </a:lnTo>
                <a:lnTo>
                  <a:pt x="2102" y="883"/>
                </a:lnTo>
                <a:lnTo>
                  <a:pt x="2102" y="889"/>
                </a:lnTo>
                <a:lnTo>
                  <a:pt x="2102" y="902"/>
                </a:lnTo>
                <a:lnTo>
                  <a:pt x="2102" y="909"/>
                </a:lnTo>
                <a:lnTo>
                  <a:pt x="2102" y="916"/>
                </a:lnTo>
                <a:lnTo>
                  <a:pt x="2102" y="929"/>
                </a:lnTo>
                <a:lnTo>
                  <a:pt x="2102" y="935"/>
                </a:lnTo>
                <a:lnTo>
                  <a:pt x="2102" y="942"/>
                </a:lnTo>
                <a:lnTo>
                  <a:pt x="2102" y="955"/>
                </a:lnTo>
                <a:lnTo>
                  <a:pt x="2102" y="962"/>
                </a:lnTo>
                <a:lnTo>
                  <a:pt x="2096" y="975"/>
                </a:lnTo>
                <a:lnTo>
                  <a:pt x="2096" y="981"/>
                </a:lnTo>
                <a:lnTo>
                  <a:pt x="2096" y="988"/>
                </a:lnTo>
                <a:lnTo>
                  <a:pt x="2096" y="1001"/>
                </a:lnTo>
                <a:lnTo>
                  <a:pt x="2122" y="968"/>
                </a:lnTo>
                <a:lnTo>
                  <a:pt x="2122" y="942"/>
                </a:lnTo>
                <a:lnTo>
                  <a:pt x="2122" y="916"/>
                </a:lnTo>
                <a:lnTo>
                  <a:pt x="2122" y="883"/>
                </a:lnTo>
                <a:lnTo>
                  <a:pt x="2122" y="856"/>
                </a:lnTo>
                <a:lnTo>
                  <a:pt x="2122" y="823"/>
                </a:lnTo>
                <a:lnTo>
                  <a:pt x="2122" y="797"/>
                </a:lnTo>
                <a:lnTo>
                  <a:pt x="2155" y="764"/>
                </a:lnTo>
                <a:lnTo>
                  <a:pt x="2155" y="738"/>
                </a:lnTo>
                <a:lnTo>
                  <a:pt x="2155" y="705"/>
                </a:lnTo>
                <a:lnTo>
                  <a:pt x="2155" y="679"/>
                </a:lnTo>
                <a:lnTo>
                  <a:pt x="2155" y="646"/>
                </a:lnTo>
                <a:lnTo>
                  <a:pt x="2155" y="619"/>
                </a:lnTo>
                <a:lnTo>
                  <a:pt x="2155" y="586"/>
                </a:lnTo>
                <a:lnTo>
                  <a:pt x="2181" y="560"/>
                </a:lnTo>
                <a:lnTo>
                  <a:pt x="2181" y="527"/>
                </a:lnTo>
                <a:lnTo>
                  <a:pt x="2181" y="501"/>
                </a:lnTo>
                <a:lnTo>
                  <a:pt x="2181" y="468"/>
                </a:lnTo>
                <a:lnTo>
                  <a:pt x="2181" y="442"/>
                </a:lnTo>
                <a:lnTo>
                  <a:pt x="2181" y="409"/>
                </a:lnTo>
                <a:lnTo>
                  <a:pt x="2181" y="382"/>
                </a:lnTo>
                <a:lnTo>
                  <a:pt x="2214" y="349"/>
                </a:lnTo>
                <a:lnTo>
                  <a:pt x="2214" y="323"/>
                </a:lnTo>
                <a:lnTo>
                  <a:pt x="2214" y="290"/>
                </a:lnTo>
                <a:lnTo>
                  <a:pt x="2214" y="264"/>
                </a:lnTo>
                <a:lnTo>
                  <a:pt x="2214" y="231"/>
                </a:lnTo>
                <a:lnTo>
                  <a:pt x="2214" y="205"/>
                </a:lnTo>
                <a:lnTo>
                  <a:pt x="2214" y="172"/>
                </a:lnTo>
                <a:lnTo>
                  <a:pt x="2241" y="145"/>
                </a:lnTo>
                <a:lnTo>
                  <a:pt x="2241" y="119"/>
                </a:lnTo>
                <a:lnTo>
                  <a:pt x="2241" y="86"/>
                </a:lnTo>
                <a:lnTo>
                  <a:pt x="2241" y="60"/>
                </a:lnTo>
                <a:lnTo>
                  <a:pt x="2241" y="27"/>
                </a:lnTo>
                <a:lnTo>
                  <a:pt x="2241" y="0"/>
                </a:lnTo>
                <a:lnTo>
                  <a:pt x="2214" y="0"/>
                </a:lnTo>
                <a:lnTo>
                  <a:pt x="2181" y="0"/>
                </a:lnTo>
                <a:lnTo>
                  <a:pt x="2155" y="0"/>
                </a:lnTo>
                <a:lnTo>
                  <a:pt x="2122" y="0"/>
                </a:lnTo>
                <a:lnTo>
                  <a:pt x="2096" y="27"/>
                </a:lnTo>
                <a:lnTo>
                  <a:pt x="2063" y="27"/>
                </a:lnTo>
                <a:lnTo>
                  <a:pt x="2037" y="27"/>
                </a:lnTo>
                <a:lnTo>
                  <a:pt x="2004" y="60"/>
                </a:lnTo>
                <a:lnTo>
                  <a:pt x="1977" y="60"/>
                </a:lnTo>
                <a:lnTo>
                  <a:pt x="1944" y="86"/>
                </a:lnTo>
                <a:lnTo>
                  <a:pt x="1918" y="86"/>
                </a:lnTo>
                <a:lnTo>
                  <a:pt x="1885" y="86"/>
                </a:lnTo>
                <a:lnTo>
                  <a:pt x="1859" y="119"/>
                </a:lnTo>
                <a:lnTo>
                  <a:pt x="1832" y="119"/>
                </a:lnTo>
                <a:lnTo>
                  <a:pt x="1799" y="145"/>
                </a:lnTo>
                <a:lnTo>
                  <a:pt x="1773" y="145"/>
                </a:lnTo>
                <a:lnTo>
                  <a:pt x="1740" y="145"/>
                </a:lnTo>
                <a:lnTo>
                  <a:pt x="1714" y="172"/>
                </a:lnTo>
                <a:lnTo>
                  <a:pt x="1681" y="172"/>
                </a:lnTo>
                <a:lnTo>
                  <a:pt x="1654" y="205"/>
                </a:lnTo>
                <a:lnTo>
                  <a:pt x="1621" y="205"/>
                </a:lnTo>
                <a:lnTo>
                  <a:pt x="1595" y="205"/>
                </a:lnTo>
                <a:lnTo>
                  <a:pt x="1562" y="231"/>
                </a:lnTo>
                <a:lnTo>
                  <a:pt x="1536" y="231"/>
                </a:lnTo>
                <a:lnTo>
                  <a:pt x="1503" y="264"/>
                </a:lnTo>
                <a:lnTo>
                  <a:pt x="1476" y="264"/>
                </a:lnTo>
                <a:lnTo>
                  <a:pt x="1443" y="264"/>
                </a:lnTo>
                <a:lnTo>
                  <a:pt x="1417" y="290"/>
                </a:lnTo>
                <a:lnTo>
                  <a:pt x="1384" y="290"/>
                </a:lnTo>
                <a:lnTo>
                  <a:pt x="1358" y="323"/>
                </a:lnTo>
                <a:lnTo>
                  <a:pt x="1325" y="323"/>
                </a:lnTo>
                <a:lnTo>
                  <a:pt x="1298" y="323"/>
                </a:lnTo>
                <a:lnTo>
                  <a:pt x="1266" y="349"/>
                </a:lnTo>
                <a:lnTo>
                  <a:pt x="1239" y="349"/>
                </a:lnTo>
                <a:lnTo>
                  <a:pt x="1206" y="382"/>
                </a:lnTo>
                <a:lnTo>
                  <a:pt x="1180" y="382"/>
                </a:lnTo>
                <a:lnTo>
                  <a:pt x="1147" y="382"/>
                </a:lnTo>
                <a:lnTo>
                  <a:pt x="1121" y="409"/>
                </a:lnTo>
                <a:lnTo>
                  <a:pt x="1094" y="409"/>
                </a:lnTo>
                <a:lnTo>
                  <a:pt x="1061" y="442"/>
                </a:lnTo>
                <a:lnTo>
                  <a:pt x="1035" y="442"/>
                </a:lnTo>
                <a:lnTo>
                  <a:pt x="1002" y="442"/>
                </a:lnTo>
                <a:lnTo>
                  <a:pt x="976" y="468"/>
                </a:lnTo>
                <a:lnTo>
                  <a:pt x="943" y="501"/>
                </a:lnTo>
                <a:lnTo>
                  <a:pt x="916" y="527"/>
                </a:lnTo>
                <a:lnTo>
                  <a:pt x="916" y="560"/>
                </a:lnTo>
                <a:lnTo>
                  <a:pt x="883" y="586"/>
                </a:lnTo>
                <a:lnTo>
                  <a:pt x="857" y="619"/>
                </a:lnTo>
                <a:lnTo>
                  <a:pt x="824" y="646"/>
                </a:lnTo>
                <a:lnTo>
                  <a:pt x="824" y="679"/>
                </a:lnTo>
                <a:lnTo>
                  <a:pt x="798" y="705"/>
                </a:lnTo>
                <a:lnTo>
                  <a:pt x="765" y="738"/>
                </a:lnTo>
                <a:lnTo>
                  <a:pt x="738" y="764"/>
                </a:lnTo>
                <a:lnTo>
                  <a:pt x="738" y="797"/>
                </a:lnTo>
                <a:lnTo>
                  <a:pt x="705" y="823"/>
                </a:lnTo>
                <a:lnTo>
                  <a:pt x="679" y="856"/>
                </a:lnTo>
                <a:lnTo>
                  <a:pt x="646" y="883"/>
                </a:lnTo>
                <a:lnTo>
                  <a:pt x="646" y="916"/>
                </a:lnTo>
                <a:lnTo>
                  <a:pt x="620" y="942"/>
                </a:lnTo>
                <a:lnTo>
                  <a:pt x="587" y="968"/>
                </a:lnTo>
                <a:lnTo>
                  <a:pt x="587" y="1001"/>
                </a:lnTo>
                <a:lnTo>
                  <a:pt x="560" y="1027"/>
                </a:lnTo>
                <a:lnTo>
                  <a:pt x="528" y="1060"/>
                </a:lnTo>
                <a:lnTo>
                  <a:pt x="528" y="1087"/>
                </a:lnTo>
                <a:lnTo>
                  <a:pt x="501" y="1120"/>
                </a:lnTo>
                <a:lnTo>
                  <a:pt x="501" y="1146"/>
                </a:lnTo>
                <a:lnTo>
                  <a:pt x="501" y="1179"/>
                </a:lnTo>
                <a:lnTo>
                  <a:pt x="468" y="1205"/>
                </a:lnTo>
                <a:lnTo>
                  <a:pt x="468" y="1238"/>
                </a:lnTo>
                <a:lnTo>
                  <a:pt x="468" y="1264"/>
                </a:lnTo>
                <a:lnTo>
                  <a:pt x="442" y="1297"/>
                </a:lnTo>
                <a:lnTo>
                  <a:pt x="442" y="1324"/>
                </a:lnTo>
                <a:lnTo>
                  <a:pt x="442" y="1357"/>
                </a:lnTo>
                <a:lnTo>
                  <a:pt x="409" y="1383"/>
                </a:lnTo>
                <a:lnTo>
                  <a:pt x="409" y="1416"/>
                </a:lnTo>
                <a:lnTo>
                  <a:pt x="409" y="1442"/>
                </a:lnTo>
                <a:lnTo>
                  <a:pt x="383" y="1475"/>
                </a:lnTo>
                <a:lnTo>
                  <a:pt x="383" y="1501"/>
                </a:lnTo>
                <a:lnTo>
                  <a:pt x="350" y="1534"/>
                </a:lnTo>
                <a:lnTo>
                  <a:pt x="350" y="1561"/>
                </a:lnTo>
                <a:lnTo>
                  <a:pt x="350" y="1594"/>
                </a:lnTo>
                <a:lnTo>
                  <a:pt x="323" y="1620"/>
                </a:lnTo>
                <a:lnTo>
                  <a:pt x="323" y="1653"/>
                </a:lnTo>
                <a:lnTo>
                  <a:pt x="323" y="1679"/>
                </a:lnTo>
                <a:lnTo>
                  <a:pt x="297" y="1706"/>
                </a:lnTo>
                <a:lnTo>
                  <a:pt x="297" y="1739"/>
                </a:lnTo>
                <a:lnTo>
                  <a:pt x="297" y="1765"/>
                </a:lnTo>
                <a:lnTo>
                  <a:pt x="264" y="1798"/>
                </a:lnTo>
                <a:lnTo>
                  <a:pt x="264" y="1824"/>
                </a:lnTo>
                <a:lnTo>
                  <a:pt x="264" y="1857"/>
                </a:lnTo>
                <a:lnTo>
                  <a:pt x="238" y="1883"/>
                </a:lnTo>
                <a:lnTo>
                  <a:pt x="238" y="1916"/>
                </a:lnTo>
                <a:lnTo>
                  <a:pt x="238" y="1943"/>
                </a:lnTo>
                <a:lnTo>
                  <a:pt x="205" y="1976"/>
                </a:lnTo>
                <a:lnTo>
                  <a:pt x="205" y="2002"/>
                </a:lnTo>
                <a:lnTo>
                  <a:pt x="178" y="2035"/>
                </a:lnTo>
                <a:lnTo>
                  <a:pt x="178" y="2061"/>
                </a:lnTo>
                <a:lnTo>
                  <a:pt x="178" y="2094"/>
                </a:lnTo>
                <a:lnTo>
                  <a:pt x="145" y="2120"/>
                </a:lnTo>
                <a:lnTo>
                  <a:pt x="145" y="2153"/>
                </a:lnTo>
                <a:lnTo>
                  <a:pt x="145" y="2180"/>
                </a:lnTo>
                <a:lnTo>
                  <a:pt x="119" y="2213"/>
                </a:lnTo>
                <a:lnTo>
                  <a:pt x="119" y="2239"/>
                </a:lnTo>
                <a:lnTo>
                  <a:pt x="119" y="2272"/>
                </a:lnTo>
                <a:lnTo>
                  <a:pt x="86" y="2298"/>
                </a:lnTo>
                <a:lnTo>
                  <a:pt x="86" y="2331"/>
                </a:lnTo>
                <a:lnTo>
                  <a:pt x="86" y="2357"/>
                </a:lnTo>
                <a:lnTo>
                  <a:pt x="60" y="2390"/>
                </a:lnTo>
                <a:lnTo>
                  <a:pt x="60" y="2417"/>
                </a:lnTo>
                <a:lnTo>
                  <a:pt x="60" y="2450"/>
                </a:lnTo>
                <a:lnTo>
                  <a:pt x="27" y="2476"/>
                </a:lnTo>
                <a:lnTo>
                  <a:pt x="27" y="2502"/>
                </a:lnTo>
                <a:lnTo>
                  <a:pt x="27" y="2535"/>
                </a:lnTo>
                <a:lnTo>
                  <a:pt x="0" y="2561"/>
                </a:lnTo>
                <a:lnTo>
                  <a:pt x="0" y="2594"/>
                </a:lnTo>
                <a:lnTo>
                  <a:pt x="0" y="2621"/>
                </a:lnTo>
                <a:lnTo>
                  <a:pt x="27" y="2621"/>
                </a:lnTo>
                <a:lnTo>
                  <a:pt x="60" y="2654"/>
                </a:lnTo>
                <a:lnTo>
                  <a:pt x="86" y="2654"/>
                </a:lnTo>
                <a:lnTo>
                  <a:pt x="119" y="2680"/>
                </a:lnTo>
                <a:lnTo>
                  <a:pt x="145" y="2713"/>
                </a:lnTo>
                <a:lnTo>
                  <a:pt x="178" y="2713"/>
                </a:lnTo>
                <a:lnTo>
                  <a:pt x="205" y="2739"/>
                </a:lnTo>
                <a:lnTo>
                  <a:pt x="238" y="2739"/>
                </a:lnTo>
                <a:lnTo>
                  <a:pt x="264" y="2772"/>
                </a:lnTo>
                <a:lnTo>
                  <a:pt x="297" y="2772"/>
                </a:lnTo>
                <a:lnTo>
                  <a:pt x="323" y="2798"/>
                </a:lnTo>
                <a:lnTo>
                  <a:pt x="350" y="2798"/>
                </a:lnTo>
                <a:lnTo>
                  <a:pt x="383" y="2831"/>
                </a:lnTo>
                <a:lnTo>
                  <a:pt x="409" y="2831"/>
                </a:lnTo>
                <a:lnTo>
                  <a:pt x="442" y="2858"/>
                </a:lnTo>
                <a:lnTo>
                  <a:pt x="468" y="2858"/>
                </a:lnTo>
                <a:lnTo>
                  <a:pt x="501" y="2858"/>
                </a:lnTo>
                <a:close/>
                <a:moveTo>
                  <a:pt x="1015" y="2094"/>
                </a:moveTo>
                <a:lnTo>
                  <a:pt x="1009" y="2087"/>
                </a:lnTo>
                <a:lnTo>
                  <a:pt x="1002" y="2087"/>
                </a:lnTo>
                <a:lnTo>
                  <a:pt x="1002" y="2087"/>
                </a:lnTo>
                <a:lnTo>
                  <a:pt x="995" y="2087"/>
                </a:lnTo>
                <a:lnTo>
                  <a:pt x="989" y="2087"/>
                </a:lnTo>
                <a:lnTo>
                  <a:pt x="982" y="2087"/>
                </a:lnTo>
                <a:lnTo>
                  <a:pt x="976" y="2087"/>
                </a:lnTo>
                <a:lnTo>
                  <a:pt x="976" y="2087"/>
                </a:lnTo>
                <a:lnTo>
                  <a:pt x="969" y="2094"/>
                </a:lnTo>
                <a:lnTo>
                  <a:pt x="969" y="2101"/>
                </a:lnTo>
                <a:lnTo>
                  <a:pt x="969" y="2107"/>
                </a:lnTo>
                <a:lnTo>
                  <a:pt x="976" y="2114"/>
                </a:lnTo>
                <a:lnTo>
                  <a:pt x="982" y="2114"/>
                </a:lnTo>
                <a:lnTo>
                  <a:pt x="989" y="2114"/>
                </a:lnTo>
                <a:lnTo>
                  <a:pt x="995" y="2114"/>
                </a:lnTo>
                <a:lnTo>
                  <a:pt x="1002" y="2107"/>
                </a:lnTo>
                <a:lnTo>
                  <a:pt x="1002" y="2107"/>
                </a:lnTo>
                <a:lnTo>
                  <a:pt x="1009" y="2101"/>
                </a:lnTo>
                <a:lnTo>
                  <a:pt x="1015" y="2101"/>
                </a:lnTo>
                <a:lnTo>
                  <a:pt x="1015" y="2094"/>
                </a:lnTo>
                <a:close/>
                <a:moveTo>
                  <a:pt x="1371" y="2035"/>
                </a:moveTo>
                <a:lnTo>
                  <a:pt x="1371" y="2022"/>
                </a:lnTo>
                <a:lnTo>
                  <a:pt x="1371" y="2008"/>
                </a:lnTo>
                <a:lnTo>
                  <a:pt x="1371" y="2002"/>
                </a:lnTo>
                <a:lnTo>
                  <a:pt x="1364" y="2002"/>
                </a:lnTo>
                <a:lnTo>
                  <a:pt x="1358" y="2002"/>
                </a:lnTo>
                <a:lnTo>
                  <a:pt x="1351" y="2002"/>
                </a:lnTo>
                <a:lnTo>
                  <a:pt x="1345" y="2002"/>
                </a:lnTo>
                <a:lnTo>
                  <a:pt x="1338" y="1995"/>
                </a:lnTo>
                <a:lnTo>
                  <a:pt x="1331" y="1995"/>
                </a:lnTo>
                <a:lnTo>
                  <a:pt x="1318" y="1995"/>
                </a:lnTo>
                <a:lnTo>
                  <a:pt x="1312" y="1995"/>
                </a:lnTo>
                <a:lnTo>
                  <a:pt x="1305" y="1995"/>
                </a:lnTo>
                <a:lnTo>
                  <a:pt x="1298" y="2002"/>
                </a:lnTo>
                <a:lnTo>
                  <a:pt x="1298" y="2008"/>
                </a:lnTo>
                <a:lnTo>
                  <a:pt x="1292" y="2015"/>
                </a:lnTo>
                <a:lnTo>
                  <a:pt x="1285" y="2022"/>
                </a:lnTo>
                <a:lnTo>
                  <a:pt x="1279" y="2028"/>
                </a:lnTo>
                <a:lnTo>
                  <a:pt x="1279" y="2035"/>
                </a:lnTo>
                <a:lnTo>
                  <a:pt x="1279" y="2041"/>
                </a:lnTo>
                <a:lnTo>
                  <a:pt x="1285" y="2048"/>
                </a:lnTo>
                <a:lnTo>
                  <a:pt x="1298" y="2055"/>
                </a:lnTo>
                <a:lnTo>
                  <a:pt x="1305" y="2055"/>
                </a:lnTo>
                <a:lnTo>
                  <a:pt x="1312" y="2055"/>
                </a:lnTo>
                <a:lnTo>
                  <a:pt x="1318" y="2055"/>
                </a:lnTo>
                <a:lnTo>
                  <a:pt x="1325" y="2055"/>
                </a:lnTo>
                <a:lnTo>
                  <a:pt x="1331" y="2048"/>
                </a:lnTo>
                <a:lnTo>
                  <a:pt x="1338" y="2048"/>
                </a:lnTo>
                <a:lnTo>
                  <a:pt x="1345" y="2041"/>
                </a:lnTo>
                <a:lnTo>
                  <a:pt x="1351" y="2041"/>
                </a:lnTo>
                <a:lnTo>
                  <a:pt x="1358" y="2041"/>
                </a:lnTo>
                <a:lnTo>
                  <a:pt x="1364" y="2035"/>
                </a:lnTo>
                <a:lnTo>
                  <a:pt x="1371" y="2035"/>
                </a:lnTo>
                <a:close/>
                <a:moveTo>
                  <a:pt x="929" y="2002"/>
                </a:moveTo>
                <a:lnTo>
                  <a:pt x="929" y="1995"/>
                </a:lnTo>
                <a:lnTo>
                  <a:pt x="936" y="1989"/>
                </a:lnTo>
                <a:lnTo>
                  <a:pt x="936" y="1982"/>
                </a:lnTo>
                <a:lnTo>
                  <a:pt x="943" y="1976"/>
                </a:lnTo>
                <a:lnTo>
                  <a:pt x="949" y="1976"/>
                </a:lnTo>
                <a:lnTo>
                  <a:pt x="956" y="1976"/>
                </a:lnTo>
                <a:lnTo>
                  <a:pt x="962" y="1976"/>
                </a:lnTo>
                <a:lnTo>
                  <a:pt x="969" y="1982"/>
                </a:lnTo>
                <a:lnTo>
                  <a:pt x="976" y="1982"/>
                </a:lnTo>
                <a:lnTo>
                  <a:pt x="982" y="1982"/>
                </a:lnTo>
                <a:lnTo>
                  <a:pt x="989" y="1989"/>
                </a:lnTo>
                <a:lnTo>
                  <a:pt x="995" y="1989"/>
                </a:lnTo>
                <a:lnTo>
                  <a:pt x="1002" y="1995"/>
                </a:lnTo>
                <a:lnTo>
                  <a:pt x="1009" y="1995"/>
                </a:lnTo>
                <a:lnTo>
                  <a:pt x="1015" y="1995"/>
                </a:lnTo>
                <a:lnTo>
                  <a:pt x="1022" y="2002"/>
                </a:lnTo>
                <a:lnTo>
                  <a:pt x="1028" y="2002"/>
                </a:lnTo>
                <a:lnTo>
                  <a:pt x="1035" y="2002"/>
                </a:lnTo>
                <a:lnTo>
                  <a:pt x="1042" y="2002"/>
                </a:lnTo>
                <a:lnTo>
                  <a:pt x="1048" y="1995"/>
                </a:lnTo>
                <a:lnTo>
                  <a:pt x="1055" y="1995"/>
                </a:lnTo>
                <a:lnTo>
                  <a:pt x="1061" y="1989"/>
                </a:lnTo>
                <a:lnTo>
                  <a:pt x="1068" y="1989"/>
                </a:lnTo>
                <a:lnTo>
                  <a:pt x="1074" y="1982"/>
                </a:lnTo>
                <a:lnTo>
                  <a:pt x="1081" y="1976"/>
                </a:lnTo>
                <a:lnTo>
                  <a:pt x="1088" y="1976"/>
                </a:lnTo>
                <a:lnTo>
                  <a:pt x="1094" y="1969"/>
                </a:lnTo>
                <a:lnTo>
                  <a:pt x="1094" y="1962"/>
                </a:lnTo>
                <a:lnTo>
                  <a:pt x="1101" y="1949"/>
                </a:lnTo>
                <a:lnTo>
                  <a:pt x="1101" y="1943"/>
                </a:lnTo>
                <a:lnTo>
                  <a:pt x="1107" y="1936"/>
                </a:lnTo>
                <a:lnTo>
                  <a:pt x="1107" y="1929"/>
                </a:lnTo>
                <a:lnTo>
                  <a:pt x="1107" y="1916"/>
                </a:lnTo>
                <a:lnTo>
                  <a:pt x="1101" y="1910"/>
                </a:lnTo>
                <a:lnTo>
                  <a:pt x="1101" y="1903"/>
                </a:lnTo>
                <a:lnTo>
                  <a:pt x="1101" y="1890"/>
                </a:lnTo>
                <a:lnTo>
                  <a:pt x="1101" y="1883"/>
                </a:lnTo>
                <a:lnTo>
                  <a:pt x="1101" y="1870"/>
                </a:lnTo>
                <a:lnTo>
                  <a:pt x="1094" y="1864"/>
                </a:lnTo>
                <a:lnTo>
                  <a:pt x="1094" y="1857"/>
                </a:lnTo>
                <a:lnTo>
                  <a:pt x="1088" y="1857"/>
                </a:lnTo>
                <a:lnTo>
                  <a:pt x="1081" y="1857"/>
                </a:lnTo>
                <a:lnTo>
                  <a:pt x="1074" y="1857"/>
                </a:lnTo>
                <a:lnTo>
                  <a:pt x="1068" y="1864"/>
                </a:lnTo>
                <a:lnTo>
                  <a:pt x="1061" y="1857"/>
                </a:lnTo>
                <a:lnTo>
                  <a:pt x="1055" y="1850"/>
                </a:lnTo>
                <a:lnTo>
                  <a:pt x="1048" y="1850"/>
                </a:lnTo>
                <a:lnTo>
                  <a:pt x="1042" y="1844"/>
                </a:lnTo>
                <a:lnTo>
                  <a:pt x="1035" y="1837"/>
                </a:lnTo>
                <a:lnTo>
                  <a:pt x="1028" y="1837"/>
                </a:lnTo>
                <a:lnTo>
                  <a:pt x="1022" y="1837"/>
                </a:lnTo>
                <a:lnTo>
                  <a:pt x="1015" y="1837"/>
                </a:lnTo>
                <a:lnTo>
                  <a:pt x="1009" y="1837"/>
                </a:lnTo>
                <a:lnTo>
                  <a:pt x="1002" y="1837"/>
                </a:lnTo>
                <a:lnTo>
                  <a:pt x="995" y="1837"/>
                </a:lnTo>
                <a:lnTo>
                  <a:pt x="989" y="1844"/>
                </a:lnTo>
                <a:lnTo>
                  <a:pt x="982" y="1844"/>
                </a:lnTo>
                <a:lnTo>
                  <a:pt x="976" y="1844"/>
                </a:lnTo>
                <a:lnTo>
                  <a:pt x="969" y="1844"/>
                </a:lnTo>
                <a:lnTo>
                  <a:pt x="962" y="1844"/>
                </a:lnTo>
                <a:lnTo>
                  <a:pt x="956" y="1850"/>
                </a:lnTo>
                <a:lnTo>
                  <a:pt x="949" y="1850"/>
                </a:lnTo>
                <a:lnTo>
                  <a:pt x="943" y="1857"/>
                </a:lnTo>
                <a:lnTo>
                  <a:pt x="936" y="1857"/>
                </a:lnTo>
                <a:lnTo>
                  <a:pt x="929" y="1864"/>
                </a:lnTo>
                <a:lnTo>
                  <a:pt x="923" y="1870"/>
                </a:lnTo>
                <a:lnTo>
                  <a:pt x="916" y="1877"/>
                </a:lnTo>
                <a:lnTo>
                  <a:pt x="910" y="1877"/>
                </a:lnTo>
                <a:lnTo>
                  <a:pt x="910" y="1883"/>
                </a:lnTo>
                <a:lnTo>
                  <a:pt x="903" y="1890"/>
                </a:lnTo>
                <a:lnTo>
                  <a:pt x="897" y="1897"/>
                </a:lnTo>
                <a:lnTo>
                  <a:pt x="890" y="1897"/>
                </a:lnTo>
                <a:lnTo>
                  <a:pt x="883" y="1903"/>
                </a:lnTo>
                <a:lnTo>
                  <a:pt x="877" y="1910"/>
                </a:lnTo>
                <a:lnTo>
                  <a:pt x="877" y="1916"/>
                </a:lnTo>
                <a:lnTo>
                  <a:pt x="870" y="1923"/>
                </a:lnTo>
                <a:lnTo>
                  <a:pt x="864" y="1929"/>
                </a:lnTo>
                <a:lnTo>
                  <a:pt x="857" y="1936"/>
                </a:lnTo>
                <a:lnTo>
                  <a:pt x="857" y="1943"/>
                </a:lnTo>
                <a:lnTo>
                  <a:pt x="850" y="1949"/>
                </a:lnTo>
                <a:lnTo>
                  <a:pt x="850" y="1956"/>
                </a:lnTo>
                <a:lnTo>
                  <a:pt x="857" y="1962"/>
                </a:lnTo>
                <a:lnTo>
                  <a:pt x="864" y="1969"/>
                </a:lnTo>
                <a:lnTo>
                  <a:pt x="864" y="1976"/>
                </a:lnTo>
                <a:lnTo>
                  <a:pt x="864" y="1982"/>
                </a:lnTo>
                <a:lnTo>
                  <a:pt x="870" y="1995"/>
                </a:lnTo>
                <a:lnTo>
                  <a:pt x="870" y="2002"/>
                </a:lnTo>
                <a:lnTo>
                  <a:pt x="877" y="2008"/>
                </a:lnTo>
                <a:lnTo>
                  <a:pt x="877" y="2022"/>
                </a:lnTo>
                <a:lnTo>
                  <a:pt x="883" y="2028"/>
                </a:lnTo>
                <a:lnTo>
                  <a:pt x="883" y="2028"/>
                </a:lnTo>
                <a:lnTo>
                  <a:pt x="890" y="2035"/>
                </a:lnTo>
                <a:lnTo>
                  <a:pt x="897" y="2035"/>
                </a:lnTo>
                <a:lnTo>
                  <a:pt x="910" y="2028"/>
                </a:lnTo>
                <a:lnTo>
                  <a:pt x="916" y="2022"/>
                </a:lnTo>
                <a:lnTo>
                  <a:pt x="916" y="2022"/>
                </a:lnTo>
                <a:lnTo>
                  <a:pt x="923" y="2015"/>
                </a:lnTo>
                <a:lnTo>
                  <a:pt x="929" y="2002"/>
                </a:lnTo>
                <a:close/>
                <a:moveTo>
                  <a:pt x="593" y="1976"/>
                </a:moveTo>
                <a:lnTo>
                  <a:pt x="587" y="1969"/>
                </a:lnTo>
                <a:lnTo>
                  <a:pt x="587" y="1969"/>
                </a:lnTo>
                <a:lnTo>
                  <a:pt x="580" y="1969"/>
                </a:lnTo>
                <a:lnTo>
                  <a:pt x="574" y="1969"/>
                </a:lnTo>
                <a:lnTo>
                  <a:pt x="574" y="1969"/>
                </a:lnTo>
                <a:lnTo>
                  <a:pt x="567" y="1976"/>
                </a:lnTo>
                <a:lnTo>
                  <a:pt x="567" y="1976"/>
                </a:lnTo>
                <a:lnTo>
                  <a:pt x="567" y="1976"/>
                </a:lnTo>
                <a:lnTo>
                  <a:pt x="574" y="1976"/>
                </a:lnTo>
                <a:lnTo>
                  <a:pt x="574" y="1982"/>
                </a:lnTo>
                <a:lnTo>
                  <a:pt x="580" y="1982"/>
                </a:lnTo>
                <a:lnTo>
                  <a:pt x="587" y="1982"/>
                </a:lnTo>
                <a:lnTo>
                  <a:pt x="587" y="1976"/>
                </a:lnTo>
                <a:lnTo>
                  <a:pt x="593" y="1976"/>
                </a:lnTo>
                <a:close/>
                <a:moveTo>
                  <a:pt x="1285" y="1976"/>
                </a:moveTo>
                <a:lnTo>
                  <a:pt x="1285" y="1969"/>
                </a:lnTo>
                <a:lnTo>
                  <a:pt x="1292" y="1962"/>
                </a:lnTo>
                <a:lnTo>
                  <a:pt x="1292" y="1956"/>
                </a:lnTo>
                <a:lnTo>
                  <a:pt x="1292" y="1943"/>
                </a:lnTo>
                <a:lnTo>
                  <a:pt x="1298" y="1936"/>
                </a:lnTo>
                <a:lnTo>
                  <a:pt x="1298" y="1929"/>
                </a:lnTo>
                <a:lnTo>
                  <a:pt x="1305" y="1923"/>
                </a:lnTo>
                <a:lnTo>
                  <a:pt x="1305" y="1916"/>
                </a:lnTo>
                <a:lnTo>
                  <a:pt x="1298" y="1910"/>
                </a:lnTo>
                <a:lnTo>
                  <a:pt x="1298" y="1903"/>
                </a:lnTo>
                <a:lnTo>
                  <a:pt x="1292" y="1903"/>
                </a:lnTo>
                <a:lnTo>
                  <a:pt x="1285" y="1903"/>
                </a:lnTo>
                <a:lnTo>
                  <a:pt x="1279" y="1903"/>
                </a:lnTo>
                <a:lnTo>
                  <a:pt x="1272" y="1903"/>
                </a:lnTo>
                <a:lnTo>
                  <a:pt x="1266" y="1903"/>
                </a:lnTo>
                <a:lnTo>
                  <a:pt x="1259" y="1897"/>
                </a:lnTo>
                <a:lnTo>
                  <a:pt x="1252" y="1897"/>
                </a:lnTo>
                <a:lnTo>
                  <a:pt x="1246" y="1897"/>
                </a:lnTo>
                <a:lnTo>
                  <a:pt x="1239" y="1897"/>
                </a:lnTo>
                <a:lnTo>
                  <a:pt x="1233" y="1890"/>
                </a:lnTo>
                <a:lnTo>
                  <a:pt x="1226" y="1890"/>
                </a:lnTo>
                <a:lnTo>
                  <a:pt x="1226" y="1883"/>
                </a:lnTo>
                <a:lnTo>
                  <a:pt x="1219" y="1883"/>
                </a:lnTo>
                <a:lnTo>
                  <a:pt x="1213" y="1877"/>
                </a:lnTo>
                <a:lnTo>
                  <a:pt x="1206" y="1883"/>
                </a:lnTo>
                <a:lnTo>
                  <a:pt x="1200" y="1890"/>
                </a:lnTo>
                <a:lnTo>
                  <a:pt x="1200" y="1897"/>
                </a:lnTo>
                <a:lnTo>
                  <a:pt x="1200" y="1903"/>
                </a:lnTo>
                <a:lnTo>
                  <a:pt x="1193" y="1910"/>
                </a:lnTo>
                <a:lnTo>
                  <a:pt x="1193" y="1916"/>
                </a:lnTo>
                <a:lnTo>
                  <a:pt x="1193" y="1923"/>
                </a:lnTo>
                <a:lnTo>
                  <a:pt x="1186" y="1936"/>
                </a:lnTo>
                <a:lnTo>
                  <a:pt x="1186" y="1943"/>
                </a:lnTo>
                <a:lnTo>
                  <a:pt x="1186" y="1949"/>
                </a:lnTo>
                <a:lnTo>
                  <a:pt x="1180" y="1956"/>
                </a:lnTo>
                <a:lnTo>
                  <a:pt x="1180" y="1962"/>
                </a:lnTo>
                <a:lnTo>
                  <a:pt x="1173" y="1969"/>
                </a:lnTo>
                <a:lnTo>
                  <a:pt x="1173" y="1976"/>
                </a:lnTo>
                <a:lnTo>
                  <a:pt x="1180" y="1982"/>
                </a:lnTo>
                <a:lnTo>
                  <a:pt x="1186" y="1982"/>
                </a:lnTo>
                <a:lnTo>
                  <a:pt x="1193" y="1989"/>
                </a:lnTo>
                <a:lnTo>
                  <a:pt x="1200" y="1989"/>
                </a:lnTo>
                <a:lnTo>
                  <a:pt x="1206" y="1989"/>
                </a:lnTo>
                <a:lnTo>
                  <a:pt x="1213" y="1989"/>
                </a:lnTo>
                <a:lnTo>
                  <a:pt x="1219" y="1989"/>
                </a:lnTo>
                <a:lnTo>
                  <a:pt x="1226" y="1989"/>
                </a:lnTo>
                <a:lnTo>
                  <a:pt x="1233" y="1982"/>
                </a:lnTo>
                <a:lnTo>
                  <a:pt x="1239" y="1982"/>
                </a:lnTo>
                <a:lnTo>
                  <a:pt x="1246" y="1982"/>
                </a:lnTo>
                <a:lnTo>
                  <a:pt x="1246" y="1982"/>
                </a:lnTo>
                <a:lnTo>
                  <a:pt x="1252" y="1982"/>
                </a:lnTo>
                <a:lnTo>
                  <a:pt x="1259" y="1982"/>
                </a:lnTo>
                <a:lnTo>
                  <a:pt x="1266" y="1982"/>
                </a:lnTo>
                <a:lnTo>
                  <a:pt x="1272" y="1982"/>
                </a:lnTo>
                <a:lnTo>
                  <a:pt x="1279" y="1976"/>
                </a:lnTo>
                <a:lnTo>
                  <a:pt x="1285" y="1976"/>
                </a:lnTo>
                <a:close/>
                <a:moveTo>
                  <a:pt x="844" y="1883"/>
                </a:moveTo>
                <a:lnTo>
                  <a:pt x="837" y="1877"/>
                </a:lnTo>
                <a:lnTo>
                  <a:pt x="831" y="1870"/>
                </a:lnTo>
                <a:lnTo>
                  <a:pt x="824" y="1870"/>
                </a:lnTo>
                <a:lnTo>
                  <a:pt x="817" y="1870"/>
                </a:lnTo>
                <a:lnTo>
                  <a:pt x="811" y="1870"/>
                </a:lnTo>
                <a:lnTo>
                  <a:pt x="798" y="1870"/>
                </a:lnTo>
                <a:lnTo>
                  <a:pt x="791" y="1870"/>
                </a:lnTo>
                <a:lnTo>
                  <a:pt x="778" y="1877"/>
                </a:lnTo>
                <a:lnTo>
                  <a:pt x="771" y="1883"/>
                </a:lnTo>
                <a:lnTo>
                  <a:pt x="765" y="1883"/>
                </a:lnTo>
                <a:lnTo>
                  <a:pt x="771" y="1890"/>
                </a:lnTo>
                <a:lnTo>
                  <a:pt x="778" y="1897"/>
                </a:lnTo>
                <a:lnTo>
                  <a:pt x="785" y="1903"/>
                </a:lnTo>
                <a:lnTo>
                  <a:pt x="798" y="1910"/>
                </a:lnTo>
                <a:lnTo>
                  <a:pt x="804" y="1903"/>
                </a:lnTo>
                <a:lnTo>
                  <a:pt x="811" y="1903"/>
                </a:lnTo>
                <a:lnTo>
                  <a:pt x="824" y="1897"/>
                </a:lnTo>
                <a:lnTo>
                  <a:pt x="831" y="1897"/>
                </a:lnTo>
                <a:lnTo>
                  <a:pt x="837" y="1890"/>
                </a:lnTo>
                <a:lnTo>
                  <a:pt x="844" y="1883"/>
                </a:lnTo>
                <a:close/>
                <a:moveTo>
                  <a:pt x="778" y="1857"/>
                </a:moveTo>
                <a:lnTo>
                  <a:pt x="778" y="1850"/>
                </a:lnTo>
                <a:lnTo>
                  <a:pt x="778" y="1844"/>
                </a:lnTo>
                <a:lnTo>
                  <a:pt x="771" y="1837"/>
                </a:lnTo>
                <a:lnTo>
                  <a:pt x="771" y="1831"/>
                </a:lnTo>
                <a:lnTo>
                  <a:pt x="765" y="1824"/>
                </a:lnTo>
                <a:lnTo>
                  <a:pt x="758" y="1818"/>
                </a:lnTo>
                <a:lnTo>
                  <a:pt x="758" y="1811"/>
                </a:lnTo>
                <a:lnTo>
                  <a:pt x="752" y="1804"/>
                </a:lnTo>
                <a:lnTo>
                  <a:pt x="752" y="1798"/>
                </a:lnTo>
                <a:lnTo>
                  <a:pt x="745" y="1791"/>
                </a:lnTo>
                <a:lnTo>
                  <a:pt x="745" y="1791"/>
                </a:lnTo>
                <a:lnTo>
                  <a:pt x="738" y="1785"/>
                </a:lnTo>
                <a:lnTo>
                  <a:pt x="732" y="1778"/>
                </a:lnTo>
                <a:lnTo>
                  <a:pt x="732" y="1771"/>
                </a:lnTo>
                <a:lnTo>
                  <a:pt x="725" y="1771"/>
                </a:lnTo>
                <a:lnTo>
                  <a:pt x="719" y="1765"/>
                </a:lnTo>
                <a:lnTo>
                  <a:pt x="719" y="1758"/>
                </a:lnTo>
                <a:lnTo>
                  <a:pt x="712" y="1752"/>
                </a:lnTo>
                <a:lnTo>
                  <a:pt x="712" y="1745"/>
                </a:lnTo>
                <a:lnTo>
                  <a:pt x="705" y="1739"/>
                </a:lnTo>
                <a:lnTo>
                  <a:pt x="705" y="1732"/>
                </a:lnTo>
                <a:lnTo>
                  <a:pt x="699" y="1725"/>
                </a:lnTo>
                <a:lnTo>
                  <a:pt x="699" y="1719"/>
                </a:lnTo>
                <a:lnTo>
                  <a:pt x="692" y="1712"/>
                </a:lnTo>
                <a:lnTo>
                  <a:pt x="686" y="1706"/>
                </a:lnTo>
                <a:lnTo>
                  <a:pt x="686" y="1706"/>
                </a:lnTo>
                <a:lnTo>
                  <a:pt x="679" y="1706"/>
                </a:lnTo>
                <a:lnTo>
                  <a:pt x="673" y="1706"/>
                </a:lnTo>
                <a:lnTo>
                  <a:pt x="666" y="1712"/>
                </a:lnTo>
                <a:lnTo>
                  <a:pt x="666" y="1719"/>
                </a:lnTo>
                <a:lnTo>
                  <a:pt x="666" y="1725"/>
                </a:lnTo>
                <a:lnTo>
                  <a:pt x="673" y="1739"/>
                </a:lnTo>
                <a:lnTo>
                  <a:pt x="673" y="1745"/>
                </a:lnTo>
                <a:lnTo>
                  <a:pt x="673" y="1752"/>
                </a:lnTo>
                <a:lnTo>
                  <a:pt x="673" y="1758"/>
                </a:lnTo>
                <a:lnTo>
                  <a:pt x="679" y="1765"/>
                </a:lnTo>
                <a:lnTo>
                  <a:pt x="679" y="1771"/>
                </a:lnTo>
                <a:lnTo>
                  <a:pt x="686" y="1778"/>
                </a:lnTo>
                <a:lnTo>
                  <a:pt x="692" y="1785"/>
                </a:lnTo>
                <a:lnTo>
                  <a:pt x="692" y="1785"/>
                </a:lnTo>
                <a:lnTo>
                  <a:pt x="699" y="1791"/>
                </a:lnTo>
                <a:lnTo>
                  <a:pt x="699" y="1798"/>
                </a:lnTo>
                <a:lnTo>
                  <a:pt x="705" y="1804"/>
                </a:lnTo>
                <a:lnTo>
                  <a:pt x="712" y="1811"/>
                </a:lnTo>
                <a:lnTo>
                  <a:pt x="712" y="1818"/>
                </a:lnTo>
                <a:lnTo>
                  <a:pt x="719" y="1818"/>
                </a:lnTo>
                <a:lnTo>
                  <a:pt x="725" y="1824"/>
                </a:lnTo>
                <a:lnTo>
                  <a:pt x="725" y="1831"/>
                </a:lnTo>
                <a:lnTo>
                  <a:pt x="732" y="1837"/>
                </a:lnTo>
                <a:lnTo>
                  <a:pt x="732" y="1844"/>
                </a:lnTo>
                <a:lnTo>
                  <a:pt x="738" y="1850"/>
                </a:lnTo>
                <a:lnTo>
                  <a:pt x="745" y="1850"/>
                </a:lnTo>
                <a:lnTo>
                  <a:pt x="745" y="1857"/>
                </a:lnTo>
                <a:lnTo>
                  <a:pt x="752" y="1864"/>
                </a:lnTo>
                <a:lnTo>
                  <a:pt x="758" y="1877"/>
                </a:lnTo>
                <a:lnTo>
                  <a:pt x="758" y="1877"/>
                </a:lnTo>
                <a:lnTo>
                  <a:pt x="765" y="1883"/>
                </a:lnTo>
                <a:lnTo>
                  <a:pt x="765" y="1883"/>
                </a:lnTo>
                <a:lnTo>
                  <a:pt x="771" y="1883"/>
                </a:lnTo>
                <a:lnTo>
                  <a:pt x="771" y="1877"/>
                </a:lnTo>
                <a:lnTo>
                  <a:pt x="778" y="1870"/>
                </a:lnTo>
                <a:lnTo>
                  <a:pt x="778" y="1857"/>
                </a:lnTo>
                <a:close/>
                <a:moveTo>
                  <a:pt x="383" y="1824"/>
                </a:moveTo>
                <a:lnTo>
                  <a:pt x="383" y="1824"/>
                </a:lnTo>
                <a:lnTo>
                  <a:pt x="383" y="1824"/>
                </a:lnTo>
                <a:lnTo>
                  <a:pt x="383" y="1824"/>
                </a:lnTo>
                <a:lnTo>
                  <a:pt x="383" y="1824"/>
                </a:lnTo>
                <a:lnTo>
                  <a:pt x="383" y="1824"/>
                </a:lnTo>
                <a:lnTo>
                  <a:pt x="383" y="1824"/>
                </a:lnTo>
                <a:lnTo>
                  <a:pt x="383" y="1824"/>
                </a:lnTo>
                <a:lnTo>
                  <a:pt x="383" y="1824"/>
                </a:lnTo>
                <a:lnTo>
                  <a:pt x="383" y="1824"/>
                </a:lnTo>
                <a:lnTo>
                  <a:pt x="383" y="1824"/>
                </a:lnTo>
                <a:lnTo>
                  <a:pt x="383" y="1824"/>
                </a:lnTo>
                <a:lnTo>
                  <a:pt x="383" y="1824"/>
                </a:lnTo>
                <a:lnTo>
                  <a:pt x="383" y="1824"/>
                </a:lnTo>
                <a:lnTo>
                  <a:pt x="383" y="1824"/>
                </a:lnTo>
                <a:close/>
                <a:moveTo>
                  <a:pt x="903" y="1739"/>
                </a:moveTo>
                <a:lnTo>
                  <a:pt x="903" y="1732"/>
                </a:lnTo>
                <a:lnTo>
                  <a:pt x="897" y="1725"/>
                </a:lnTo>
                <a:lnTo>
                  <a:pt x="897" y="1719"/>
                </a:lnTo>
                <a:lnTo>
                  <a:pt x="890" y="1706"/>
                </a:lnTo>
                <a:lnTo>
                  <a:pt x="890" y="1699"/>
                </a:lnTo>
                <a:lnTo>
                  <a:pt x="883" y="1699"/>
                </a:lnTo>
                <a:lnTo>
                  <a:pt x="877" y="1699"/>
                </a:lnTo>
                <a:lnTo>
                  <a:pt x="877" y="1699"/>
                </a:lnTo>
                <a:lnTo>
                  <a:pt x="870" y="1706"/>
                </a:lnTo>
                <a:lnTo>
                  <a:pt x="864" y="1719"/>
                </a:lnTo>
                <a:lnTo>
                  <a:pt x="864" y="1725"/>
                </a:lnTo>
                <a:lnTo>
                  <a:pt x="870" y="1732"/>
                </a:lnTo>
                <a:lnTo>
                  <a:pt x="870" y="1739"/>
                </a:lnTo>
                <a:lnTo>
                  <a:pt x="877" y="1745"/>
                </a:lnTo>
                <a:lnTo>
                  <a:pt x="877" y="1752"/>
                </a:lnTo>
                <a:lnTo>
                  <a:pt x="883" y="1758"/>
                </a:lnTo>
                <a:lnTo>
                  <a:pt x="890" y="1758"/>
                </a:lnTo>
                <a:lnTo>
                  <a:pt x="890" y="1758"/>
                </a:lnTo>
                <a:lnTo>
                  <a:pt x="897" y="1745"/>
                </a:lnTo>
                <a:lnTo>
                  <a:pt x="903" y="1739"/>
                </a:lnTo>
                <a:close/>
                <a:moveTo>
                  <a:pt x="1918" y="1594"/>
                </a:moveTo>
                <a:lnTo>
                  <a:pt x="1918" y="1587"/>
                </a:lnTo>
                <a:lnTo>
                  <a:pt x="1918" y="1587"/>
                </a:lnTo>
                <a:lnTo>
                  <a:pt x="1918" y="1587"/>
                </a:lnTo>
                <a:lnTo>
                  <a:pt x="1918" y="1587"/>
                </a:lnTo>
                <a:lnTo>
                  <a:pt x="1918" y="1587"/>
                </a:lnTo>
                <a:lnTo>
                  <a:pt x="1918" y="1587"/>
                </a:lnTo>
                <a:lnTo>
                  <a:pt x="1918" y="1587"/>
                </a:lnTo>
                <a:lnTo>
                  <a:pt x="1918" y="1594"/>
                </a:lnTo>
                <a:lnTo>
                  <a:pt x="1918" y="1594"/>
                </a:lnTo>
                <a:lnTo>
                  <a:pt x="1918" y="1594"/>
                </a:lnTo>
                <a:lnTo>
                  <a:pt x="1918" y="1594"/>
                </a:lnTo>
                <a:lnTo>
                  <a:pt x="1918" y="1594"/>
                </a:lnTo>
                <a:lnTo>
                  <a:pt x="1918" y="1594"/>
                </a:lnTo>
                <a:lnTo>
                  <a:pt x="1918" y="1594"/>
                </a:lnTo>
                <a:close/>
                <a:moveTo>
                  <a:pt x="620" y="1561"/>
                </a:moveTo>
                <a:lnTo>
                  <a:pt x="620" y="1554"/>
                </a:lnTo>
                <a:lnTo>
                  <a:pt x="626" y="1548"/>
                </a:lnTo>
                <a:lnTo>
                  <a:pt x="633" y="1534"/>
                </a:lnTo>
                <a:lnTo>
                  <a:pt x="633" y="1528"/>
                </a:lnTo>
                <a:lnTo>
                  <a:pt x="640" y="1521"/>
                </a:lnTo>
                <a:lnTo>
                  <a:pt x="640" y="1515"/>
                </a:lnTo>
                <a:lnTo>
                  <a:pt x="646" y="1501"/>
                </a:lnTo>
                <a:lnTo>
                  <a:pt x="646" y="1495"/>
                </a:lnTo>
                <a:lnTo>
                  <a:pt x="653" y="1488"/>
                </a:lnTo>
                <a:lnTo>
                  <a:pt x="653" y="1482"/>
                </a:lnTo>
                <a:lnTo>
                  <a:pt x="659" y="1469"/>
                </a:lnTo>
                <a:lnTo>
                  <a:pt x="666" y="1462"/>
                </a:lnTo>
                <a:lnTo>
                  <a:pt x="666" y="1455"/>
                </a:lnTo>
                <a:lnTo>
                  <a:pt x="673" y="1449"/>
                </a:lnTo>
                <a:lnTo>
                  <a:pt x="673" y="1436"/>
                </a:lnTo>
                <a:lnTo>
                  <a:pt x="666" y="1429"/>
                </a:lnTo>
                <a:lnTo>
                  <a:pt x="659" y="1429"/>
                </a:lnTo>
                <a:lnTo>
                  <a:pt x="653" y="1422"/>
                </a:lnTo>
                <a:lnTo>
                  <a:pt x="646" y="1416"/>
                </a:lnTo>
                <a:lnTo>
                  <a:pt x="633" y="1416"/>
                </a:lnTo>
                <a:lnTo>
                  <a:pt x="626" y="1416"/>
                </a:lnTo>
                <a:lnTo>
                  <a:pt x="620" y="1422"/>
                </a:lnTo>
                <a:lnTo>
                  <a:pt x="613" y="1422"/>
                </a:lnTo>
                <a:lnTo>
                  <a:pt x="607" y="1429"/>
                </a:lnTo>
                <a:lnTo>
                  <a:pt x="607" y="1442"/>
                </a:lnTo>
                <a:lnTo>
                  <a:pt x="600" y="1449"/>
                </a:lnTo>
                <a:lnTo>
                  <a:pt x="600" y="1455"/>
                </a:lnTo>
                <a:lnTo>
                  <a:pt x="593" y="1469"/>
                </a:lnTo>
                <a:lnTo>
                  <a:pt x="593" y="1475"/>
                </a:lnTo>
                <a:lnTo>
                  <a:pt x="593" y="1482"/>
                </a:lnTo>
                <a:lnTo>
                  <a:pt x="593" y="1495"/>
                </a:lnTo>
                <a:lnTo>
                  <a:pt x="593" y="1501"/>
                </a:lnTo>
                <a:lnTo>
                  <a:pt x="593" y="1515"/>
                </a:lnTo>
                <a:lnTo>
                  <a:pt x="600" y="1521"/>
                </a:lnTo>
                <a:lnTo>
                  <a:pt x="593" y="1534"/>
                </a:lnTo>
                <a:lnTo>
                  <a:pt x="593" y="1541"/>
                </a:lnTo>
                <a:lnTo>
                  <a:pt x="587" y="1548"/>
                </a:lnTo>
                <a:lnTo>
                  <a:pt x="580" y="1548"/>
                </a:lnTo>
                <a:lnTo>
                  <a:pt x="567" y="1554"/>
                </a:lnTo>
                <a:lnTo>
                  <a:pt x="560" y="1554"/>
                </a:lnTo>
                <a:lnTo>
                  <a:pt x="560" y="1561"/>
                </a:lnTo>
                <a:lnTo>
                  <a:pt x="560" y="1567"/>
                </a:lnTo>
                <a:lnTo>
                  <a:pt x="567" y="1574"/>
                </a:lnTo>
                <a:lnTo>
                  <a:pt x="580" y="1581"/>
                </a:lnTo>
                <a:lnTo>
                  <a:pt x="587" y="1581"/>
                </a:lnTo>
                <a:lnTo>
                  <a:pt x="593" y="1587"/>
                </a:lnTo>
                <a:lnTo>
                  <a:pt x="600" y="1581"/>
                </a:lnTo>
                <a:lnTo>
                  <a:pt x="607" y="1574"/>
                </a:lnTo>
                <a:lnTo>
                  <a:pt x="613" y="1567"/>
                </a:lnTo>
                <a:lnTo>
                  <a:pt x="620" y="1561"/>
                </a:lnTo>
                <a:close/>
                <a:moveTo>
                  <a:pt x="798" y="1475"/>
                </a:moveTo>
                <a:lnTo>
                  <a:pt x="791" y="1469"/>
                </a:lnTo>
                <a:lnTo>
                  <a:pt x="791" y="1469"/>
                </a:lnTo>
                <a:lnTo>
                  <a:pt x="785" y="1462"/>
                </a:lnTo>
                <a:lnTo>
                  <a:pt x="785" y="1462"/>
                </a:lnTo>
                <a:lnTo>
                  <a:pt x="778" y="1455"/>
                </a:lnTo>
                <a:lnTo>
                  <a:pt x="778" y="1449"/>
                </a:lnTo>
                <a:lnTo>
                  <a:pt x="771" y="1442"/>
                </a:lnTo>
                <a:lnTo>
                  <a:pt x="771" y="1442"/>
                </a:lnTo>
                <a:lnTo>
                  <a:pt x="765" y="1442"/>
                </a:lnTo>
                <a:lnTo>
                  <a:pt x="765" y="1449"/>
                </a:lnTo>
                <a:lnTo>
                  <a:pt x="758" y="1449"/>
                </a:lnTo>
                <a:lnTo>
                  <a:pt x="758" y="1455"/>
                </a:lnTo>
                <a:lnTo>
                  <a:pt x="758" y="1462"/>
                </a:lnTo>
                <a:lnTo>
                  <a:pt x="765" y="1469"/>
                </a:lnTo>
                <a:lnTo>
                  <a:pt x="765" y="1475"/>
                </a:lnTo>
                <a:lnTo>
                  <a:pt x="765" y="1482"/>
                </a:lnTo>
                <a:lnTo>
                  <a:pt x="765" y="1488"/>
                </a:lnTo>
                <a:lnTo>
                  <a:pt x="765" y="1495"/>
                </a:lnTo>
                <a:lnTo>
                  <a:pt x="765" y="1495"/>
                </a:lnTo>
                <a:lnTo>
                  <a:pt x="771" y="1495"/>
                </a:lnTo>
                <a:lnTo>
                  <a:pt x="778" y="1495"/>
                </a:lnTo>
                <a:lnTo>
                  <a:pt x="778" y="1488"/>
                </a:lnTo>
                <a:lnTo>
                  <a:pt x="785" y="1488"/>
                </a:lnTo>
                <a:lnTo>
                  <a:pt x="791" y="1482"/>
                </a:lnTo>
                <a:lnTo>
                  <a:pt x="791" y="1475"/>
                </a:lnTo>
                <a:lnTo>
                  <a:pt x="798" y="1475"/>
                </a:lnTo>
                <a:close/>
                <a:moveTo>
                  <a:pt x="956" y="1442"/>
                </a:moveTo>
                <a:lnTo>
                  <a:pt x="962" y="1436"/>
                </a:lnTo>
                <a:lnTo>
                  <a:pt x="962" y="1429"/>
                </a:lnTo>
                <a:lnTo>
                  <a:pt x="969" y="1422"/>
                </a:lnTo>
                <a:lnTo>
                  <a:pt x="976" y="1422"/>
                </a:lnTo>
                <a:lnTo>
                  <a:pt x="982" y="1416"/>
                </a:lnTo>
                <a:lnTo>
                  <a:pt x="989" y="1416"/>
                </a:lnTo>
                <a:lnTo>
                  <a:pt x="995" y="1409"/>
                </a:lnTo>
                <a:lnTo>
                  <a:pt x="995" y="1403"/>
                </a:lnTo>
                <a:lnTo>
                  <a:pt x="995" y="1396"/>
                </a:lnTo>
                <a:lnTo>
                  <a:pt x="995" y="1383"/>
                </a:lnTo>
                <a:lnTo>
                  <a:pt x="1002" y="1376"/>
                </a:lnTo>
                <a:lnTo>
                  <a:pt x="1009" y="1376"/>
                </a:lnTo>
                <a:lnTo>
                  <a:pt x="1015" y="1376"/>
                </a:lnTo>
                <a:lnTo>
                  <a:pt x="1022" y="1376"/>
                </a:lnTo>
                <a:lnTo>
                  <a:pt x="1028" y="1376"/>
                </a:lnTo>
                <a:lnTo>
                  <a:pt x="1035" y="1383"/>
                </a:lnTo>
                <a:lnTo>
                  <a:pt x="1042" y="1383"/>
                </a:lnTo>
                <a:lnTo>
                  <a:pt x="1048" y="1383"/>
                </a:lnTo>
                <a:lnTo>
                  <a:pt x="1048" y="1383"/>
                </a:lnTo>
                <a:lnTo>
                  <a:pt x="1048" y="1390"/>
                </a:lnTo>
                <a:lnTo>
                  <a:pt x="1042" y="1390"/>
                </a:lnTo>
                <a:lnTo>
                  <a:pt x="1028" y="1396"/>
                </a:lnTo>
                <a:lnTo>
                  <a:pt x="1022" y="1403"/>
                </a:lnTo>
                <a:lnTo>
                  <a:pt x="1022" y="1409"/>
                </a:lnTo>
                <a:lnTo>
                  <a:pt x="1015" y="1409"/>
                </a:lnTo>
                <a:lnTo>
                  <a:pt x="1009" y="1416"/>
                </a:lnTo>
                <a:lnTo>
                  <a:pt x="1002" y="1422"/>
                </a:lnTo>
                <a:lnTo>
                  <a:pt x="995" y="1422"/>
                </a:lnTo>
                <a:lnTo>
                  <a:pt x="995" y="1429"/>
                </a:lnTo>
                <a:lnTo>
                  <a:pt x="989" y="1436"/>
                </a:lnTo>
                <a:lnTo>
                  <a:pt x="989" y="1442"/>
                </a:lnTo>
                <a:lnTo>
                  <a:pt x="982" y="1455"/>
                </a:lnTo>
                <a:lnTo>
                  <a:pt x="976" y="1462"/>
                </a:lnTo>
                <a:lnTo>
                  <a:pt x="976" y="1469"/>
                </a:lnTo>
                <a:lnTo>
                  <a:pt x="969" y="1469"/>
                </a:lnTo>
                <a:lnTo>
                  <a:pt x="962" y="1462"/>
                </a:lnTo>
                <a:lnTo>
                  <a:pt x="962" y="1455"/>
                </a:lnTo>
                <a:lnTo>
                  <a:pt x="956" y="1442"/>
                </a:lnTo>
                <a:close/>
                <a:moveTo>
                  <a:pt x="1298" y="1324"/>
                </a:moveTo>
                <a:lnTo>
                  <a:pt x="1298" y="1317"/>
                </a:lnTo>
                <a:lnTo>
                  <a:pt x="1298" y="1311"/>
                </a:lnTo>
                <a:lnTo>
                  <a:pt x="1298" y="1304"/>
                </a:lnTo>
                <a:lnTo>
                  <a:pt x="1298" y="1297"/>
                </a:lnTo>
                <a:lnTo>
                  <a:pt x="1298" y="1297"/>
                </a:lnTo>
                <a:lnTo>
                  <a:pt x="1292" y="1304"/>
                </a:lnTo>
                <a:lnTo>
                  <a:pt x="1285" y="1311"/>
                </a:lnTo>
                <a:lnTo>
                  <a:pt x="1279" y="1311"/>
                </a:lnTo>
                <a:lnTo>
                  <a:pt x="1279" y="1317"/>
                </a:lnTo>
                <a:lnTo>
                  <a:pt x="1272" y="1324"/>
                </a:lnTo>
                <a:lnTo>
                  <a:pt x="1272" y="1324"/>
                </a:lnTo>
                <a:lnTo>
                  <a:pt x="1272" y="1330"/>
                </a:lnTo>
                <a:lnTo>
                  <a:pt x="1279" y="1337"/>
                </a:lnTo>
                <a:lnTo>
                  <a:pt x="1285" y="1343"/>
                </a:lnTo>
                <a:lnTo>
                  <a:pt x="1292" y="1350"/>
                </a:lnTo>
                <a:lnTo>
                  <a:pt x="1298" y="1350"/>
                </a:lnTo>
                <a:lnTo>
                  <a:pt x="1298" y="1350"/>
                </a:lnTo>
                <a:lnTo>
                  <a:pt x="1298" y="1343"/>
                </a:lnTo>
                <a:lnTo>
                  <a:pt x="1298" y="1337"/>
                </a:lnTo>
                <a:lnTo>
                  <a:pt x="1298" y="1324"/>
                </a:lnTo>
                <a:close/>
                <a:moveTo>
                  <a:pt x="1331" y="1264"/>
                </a:moveTo>
                <a:lnTo>
                  <a:pt x="1331" y="1264"/>
                </a:lnTo>
                <a:lnTo>
                  <a:pt x="1325" y="1258"/>
                </a:lnTo>
                <a:lnTo>
                  <a:pt x="1325" y="1258"/>
                </a:lnTo>
                <a:lnTo>
                  <a:pt x="1325" y="1258"/>
                </a:lnTo>
                <a:lnTo>
                  <a:pt x="1325" y="1258"/>
                </a:lnTo>
                <a:lnTo>
                  <a:pt x="1325" y="1258"/>
                </a:lnTo>
                <a:lnTo>
                  <a:pt x="1318" y="1264"/>
                </a:lnTo>
                <a:lnTo>
                  <a:pt x="1318" y="1264"/>
                </a:lnTo>
                <a:lnTo>
                  <a:pt x="1318" y="1271"/>
                </a:lnTo>
                <a:lnTo>
                  <a:pt x="1325" y="1271"/>
                </a:lnTo>
                <a:lnTo>
                  <a:pt x="1325" y="1271"/>
                </a:lnTo>
                <a:lnTo>
                  <a:pt x="1325" y="1271"/>
                </a:lnTo>
                <a:lnTo>
                  <a:pt x="1325" y="1271"/>
                </a:lnTo>
                <a:lnTo>
                  <a:pt x="1331" y="1264"/>
                </a:lnTo>
                <a:close/>
                <a:moveTo>
                  <a:pt x="976" y="1179"/>
                </a:moveTo>
                <a:lnTo>
                  <a:pt x="976" y="1172"/>
                </a:lnTo>
                <a:lnTo>
                  <a:pt x="976" y="1172"/>
                </a:lnTo>
                <a:lnTo>
                  <a:pt x="976" y="1172"/>
                </a:lnTo>
                <a:lnTo>
                  <a:pt x="976" y="1172"/>
                </a:lnTo>
                <a:lnTo>
                  <a:pt x="976" y="1172"/>
                </a:lnTo>
                <a:lnTo>
                  <a:pt x="976" y="1172"/>
                </a:lnTo>
                <a:lnTo>
                  <a:pt x="976" y="1172"/>
                </a:lnTo>
                <a:lnTo>
                  <a:pt x="969" y="1172"/>
                </a:lnTo>
                <a:lnTo>
                  <a:pt x="969" y="1172"/>
                </a:lnTo>
                <a:lnTo>
                  <a:pt x="969" y="1179"/>
                </a:lnTo>
                <a:lnTo>
                  <a:pt x="969" y="1179"/>
                </a:lnTo>
                <a:lnTo>
                  <a:pt x="976" y="1179"/>
                </a:lnTo>
                <a:lnTo>
                  <a:pt x="976" y="1179"/>
                </a:lnTo>
                <a:lnTo>
                  <a:pt x="976" y="1179"/>
                </a:lnTo>
                <a:close/>
                <a:moveTo>
                  <a:pt x="2096" y="1179"/>
                </a:moveTo>
                <a:lnTo>
                  <a:pt x="2096" y="1146"/>
                </a:lnTo>
                <a:lnTo>
                  <a:pt x="2096" y="1120"/>
                </a:lnTo>
                <a:lnTo>
                  <a:pt x="2096" y="1087"/>
                </a:lnTo>
                <a:lnTo>
                  <a:pt x="2096" y="1060"/>
                </a:lnTo>
                <a:lnTo>
                  <a:pt x="2096" y="1027"/>
                </a:lnTo>
                <a:lnTo>
                  <a:pt x="2096" y="1027"/>
                </a:lnTo>
                <a:lnTo>
                  <a:pt x="2089" y="1027"/>
                </a:lnTo>
                <a:lnTo>
                  <a:pt x="2083" y="1027"/>
                </a:lnTo>
                <a:lnTo>
                  <a:pt x="2076" y="1034"/>
                </a:lnTo>
                <a:lnTo>
                  <a:pt x="2076" y="1041"/>
                </a:lnTo>
                <a:lnTo>
                  <a:pt x="2069" y="1054"/>
                </a:lnTo>
                <a:lnTo>
                  <a:pt x="2069" y="1060"/>
                </a:lnTo>
                <a:lnTo>
                  <a:pt x="2069" y="1067"/>
                </a:lnTo>
                <a:lnTo>
                  <a:pt x="2069" y="1080"/>
                </a:lnTo>
                <a:lnTo>
                  <a:pt x="2069" y="1087"/>
                </a:lnTo>
                <a:lnTo>
                  <a:pt x="2069" y="1093"/>
                </a:lnTo>
                <a:lnTo>
                  <a:pt x="2069" y="1106"/>
                </a:lnTo>
                <a:lnTo>
                  <a:pt x="2069" y="1113"/>
                </a:lnTo>
                <a:lnTo>
                  <a:pt x="2069" y="1120"/>
                </a:lnTo>
                <a:lnTo>
                  <a:pt x="2069" y="1126"/>
                </a:lnTo>
                <a:lnTo>
                  <a:pt x="2069" y="1139"/>
                </a:lnTo>
                <a:lnTo>
                  <a:pt x="2069" y="1146"/>
                </a:lnTo>
                <a:lnTo>
                  <a:pt x="2069" y="1153"/>
                </a:lnTo>
                <a:lnTo>
                  <a:pt x="2069" y="1166"/>
                </a:lnTo>
                <a:lnTo>
                  <a:pt x="2069" y="1172"/>
                </a:lnTo>
                <a:lnTo>
                  <a:pt x="2069" y="1179"/>
                </a:lnTo>
                <a:lnTo>
                  <a:pt x="2069" y="1192"/>
                </a:lnTo>
                <a:lnTo>
                  <a:pt x="2069" y="1199"/>
                </a:lnTo>
                <a:lnTo>
                  <a:pt x="2069" y="1205"/>
                </a:lnTo>
                <a:lnTo>
                  <a:pt x="2096" y="1179"/>
                </a:lnTo>
                <a:close/>
                <a:moveTo>
                  <a:pt x="936" y="916"/>
                </a:moveTo>
                <a:lnTo>
                  <a:pt x="936" y="902"/>
                </a:lnTo>
                <a:lnTo>
                  <a:pt x="943" y="896"/>
                </a:lnTo>
                <a:lnTo>
                  <a:pt x="943" y="889"/>
                </a:lnTo>
                <a:lnTo>
                  <a:pt x="949" y="883"/>
                </a:lnTo>
                <a:lnTo>
                  <a:pt x="949" y="876"/>
                </a:lnTo>
                <a:lnTo>
                  <a:pt x="956" y="869"/>
                </a:lnTo>
                <a:lnTo>
                  <a:pt x="956" y="863"/>
                </a:lnTo>
                <a:lnTo>
                  <a:pt x="962" y="856"/>
                </a:lnTo>
                <a:lnTo>
                  <a:pt x="969" y="856"/>
                </a:lnTo>
                <a:lnTo>
                  <a:pt x="969" y="850"/>
                </a:lnTo>
                <a:lnTo>
                  <a:pt x="976" y="843"/>
                </a:lnTo>
                <a:lnTo>
                  <a:pt x="982" y="837"/>
                </a:lnTo>
                <a:lnTo>
                  <a:pt x="989" y="837"/>
                </a:lnTo>
                <a:lnTo>
                  <a:pt x="995" y="837"/>
                </a:lnTo>
                <a:lnTo>
                  <a:pt x="1002" y="830"/>
                </a:lnTo>
                <a:lnTo>
                  <a:pt x="1002" y="830"/>
                </a:lnTo>
                <a:lnTo>
                  <a:pt x="1009" y="823"/>
                </a:lnTo>
                <a:lnTo>
                  <a:pt x="1015" y="817"/>
                </a:lnTo>
                <a:lnTo>
                  <a:pt x="1022" y="817"/>
                </a:lnTo>
                <a:lnTo>
                  <a:pt x="1028" y="810"/>
                </a:lnTo>
                <a:lnTo>
                  <a:pt x="1035" y="804"/>
                </a:lnTo>
                <a:lnTo>
                  <a:pt x="1035" y="804"/>
                </a:lnTo>
                <a:lnTo>
                  <a:pt x="1042" y="797"/>
                </a:lnTo>
                <a:lnTo>
                  <a:pt x="1048" y="797"/>
                </a:lnTo>
                <a:lnTo>
                  <a:pt x="1055" y="790"/>
                </a:lnTo>
                <a:lnTo>
                  <a:pt x="1061" y="790"/>
                </a:lnTo>
                <a:lnTo>
                  <a:pt x="1068" y="790"/>
                </a:lnTo>
                <a:lnTo>
                  <a:pt x="1074" y="797"/>
                </a:lnTo>
                <a:lnTo>
                  <a:pt x="1074" y="804"/>
                </a:lnTo>
                <a:lnTo>
                  <a:pt x="1074" y="810"/>
                </a:lnTo>
                <a:lnTo>
                  <a:pt x="1068" y="817"/>
                </a:lnTo>
                <a:lnTo>
                  <a:pt x="1068" y="823"/>
                </a:lnTo>
                <a:lnTo>
                  <a:pt x="1061" y="830"/>
                </a:lnTo>
                <a:lnTo>
                  <a:pt x="1061" y="837"/>
                </a:lnTo>
                <a:lnTo>
                  <a:pt x="1055" y="843"/>
                </a:lnTo>
                <a:lnTo>
                  <a:pt x="1055" y="850"/>
                </a:lnTo>
                <a:lnTo>
                  <a:pt x="1048" y="856"/>
                </a:lnTo>
                <a:lnTo>
                  <a:pt x="1048" y="869"/>
                </a:lnTo>
                <a:lnTo>
                  <a:pt x="1042" y="876"/>
                </a:lnTo>
                <a:lnTo>
                  <a:pt x="1042" y="883"/>
                </a:lnTo>
                <a:lnTo>
                  <a:pt x="1042" y="889"/>
                </a:lnTo>
                <a:lnTo>
                  <a:pt x="1035" y="896"/>
                </a:lnTo>
                <a:lnTo>
                  <a:pt x="1035" y="902"/>
                </a:lnTo>
                <a:lnTo>
                  <a:pt x="1028" y="909"/>
                </a:lnTo>
                <a:lnTo>
                  <a:pt x="1028" y="916"/>
                </a:lnTo>
                <a:lnTo>
                  <a:pt x="1022" y="922"/>
                </a:lnTo>
                <a:lnTo>
                  <a:pt x="1015" y="929"/>
                </a:lnTo>
                <a:lnTo>
                  <a:pt x="1015" y="935"/>
                </a:lnTo>
                <a:lnTo>
                  <a:pt x="1009" y="935"/>
                </a:lnTo>
                <a:lnTo>
                  <a:pt x="1002" y="942"/>
                </a:lnTo>
                <a:lnTo>
                  <a:pt x="995" y="942"/>
                </a:lnTo>
                <a:lnTo>
                  <a:pt x="989" y="942"/>
                </a:lnTo>
                <a:lnTo>
                  <a:pt x="982" y="942"/>
                </a:lnTo>
                <a:lnTo>
                  <a:pt x="976" y="935"/>
                </a:lnTo>
                <a:lnTo>
                  <a:pt x="969" y="935"/>
                </a:lnTo>
                <a:lnTo>
                  <a:pt x="962" y="935"/>
                </a:lnTo>
                <a:lnTo>
                  <a:pt x="956" y="935"/>
                </a:lnTo>
                <a:lnTo>
                  <a:pt x="949" y="935"/>
                </a:lnTo>
                <a:lnTo>
                  <a:pt x="943" y="929"/>
                </a:lnTo>
                <a:lnTo>
                  <a:pt x="943" y="929"/>
                </a:lnTo>
                <a:lnTo>
                  <a:pt x="936" y="922"/>
                </a:lnTo>
                <a:lnTo>
                  <a:pt x="936" y="916"/>
                </a:lnTo>
                <a:close/>
                <a:moveTo>
                  <a:pt x="1740" y="560"/>
                </a:moveTo>
                <a:lnTo>
                  <a:pt x="1740" y="560"/>
                </a:lnTo>
                <a:lnTo>
                  <a:pt x="1740" y="560"/>
                </a:lnTo>
                <a:lnTo>
                  <a:pt x="1740" y="560"/>
                </a:lnTo>
                <a:lnTo>
                  <a:pt x="1740" y="560"/>
                </a:lnTo>
                <a:lnTo>
                  <a:pt x="1740" y="560"/>
                </a:lnTo>
                <a:lnTo>
                  <a:pt x="1740" y="560"/>
                </a:lnTo>
                <a:lnTo>
                  <a:pt x="1740" y="560"/>
                </a:lnTo>
                <a:lnTo>
                  <a:pt x="1740" y="560"/>
                </a:lnTo>
                <a:lnTo>
                  <a:pt x="1740" y="560"/>
                </a:lnTo>
                <a:lnTo>
                  <a:pt x="1740" y="560"/>
                </a:lnTo>
                <a:lnTo>
                  <a:pt x="1740" y="560"/>
                </a:lnTo>
                <a:lnTo>
                  <a:pt x="1740" y="560"/>
                </a:lnTo>
                <a:lnTo>
                  <a:pt x="1740" y="560"/>
                </a:lnTo>
                <a:lnTo>
                  <a:pt x="1740" y="560"/>
                </a:lnTo>
                <a:close/>
                <a:moveTo>
                  <a:pt x="501" y="2858"/>
                </a:moveTo>
                <a:lnTo>
                  <a:pt x="528" y="2831"/>
                </a:lnTo>
                <a:lnTo>
                  <a:pt x="560" y="2831"/>
                </a:lnTo>
                <a:lnTo>
                  <a:pt x="587" y="2798"/>
                </a:lnTo>
                <a:lnTo>
                  <a:pt x="620" y="2772"/>
                </a:lnTo>
                <a:lnTo>
                  <a:pt x="646" y="2739"/>
                </a:lnTo>
                <a:lnTo>
                  <a:pt x="679" y="2739"/>
                </a:lnTo>
                <a:lnTo>
                  <a:pt x="705" y="2713"/>
                </a:lnTo>
                <a:lnTo>
                  <a:pt x="738" y="2680"/>
                </a:lnTo>
                <a:lnTo>
                  <a:pt x="765" y="2680"/>
                </a:lnTo>
                <a:lnTo>
                  <a:pt x="798" y="2654"/>
                </a:lnTo>
                <a:lnTo>
                  <a:pt x="824" y="2621"/>
                </a:lnTo>
                <a:lnTo>
                  <a:pt x="857" y="2621"/>
                </a:lnTo>
                <a:lnTo>
                  <a:pt x="883" y="2594"/>
                </a:lnTo>
                <a:lnTo>
                  <a:pt x="916" y="2561"/>
                </a:lnTo>
                <a:lnTo>
                  <a:pt x="943" y="2535"/>
                </a:lnTo>
                <a:lnTo>
                  <a:pt x="976" y="2535"/>
                </a:lnTo>
                <a:lnTo>
                  <a:pt x="1002" y="2502"/>
                </a:lnTo>
                <a:lnTo>
                  <a:pt x="1035" y="2476"/>
                </a:lnTo>
                <a:lnTo>
                  <a:pt x="1061" y="2476"/>
                </a:lnTo>
                <a:lnTo>
                  <a:pt x="1094" y="2450"/>
                </a:lnTo>
                <a:lnTo>
                  <a:pt x="1121" y="2417"/>
                </a:lnTo>
                <a:lnTo>
                  <a:pt x="1147" y="2390"/>
                </a:lnTo>
                <a:lnTo>
                  <a:pt x="1180" y="2390"/>
                </a:lnTo>
                <a:lnTo>
                  <a:pt x="1206" y="2357"/>
                </a:lnTo>
                <a:lnTo>
                  <a:pt x="1239" y="2331"/>
                </a:lnTo>
                <a:lnTo>
                  <a:pt x="1266" y="2331"/>
                </a:lnTo>
                <a:lnTo>
                  <a:pt x="1298" y="2298"/>
                </a:lnTo>
                <a:lnTo>
                  <a:pt x="1325" y="2272"/>
                </a:lnTo>
                <a:lnTo>
                  <a:pt x="1358" y="2239"/>
                </a:lnTo>
                <a:lnTo>
                  <a:pt x="1384" y="2239"/>
                </a:lnTo>
                <a:lnTo>
                  <a:pt x="1417" y="2213"/>
                </a:lnTo>
                <a:lnTo>
                  <a:pt x="1443" y="2180"/>
                </a:lnTo>
                <a:lnTo>
                  <a:pt x="1476" y="2180"/>
                </a:lnTo>
                <a:lnTo>
                  <a:pt x="1503" y="2153"/>
                </a:lnTo>
                <a:lnTo>
                  <a:pt x="1536" y="2120"/>
                </a:lnTo>
                <a:lnTo>
                  <a:pt x="1562" y="2094"/>
                </a:lnTo>
                <a:lnTo>
                  <a:pt x="1595" y="2094"/>
                </a:lnTo>
                <a:lnTo>
                  <a:pt x="1621" y="2061"/>
                </a:lnTo>
                <a:lnTo>
                  <a:pt x="1654" y="2035"/>
                </a:lnTo>
                <a:lnTo>
                  <a:pt x="1681" y="2035"/>
                </a:lnTo>
                <a:lnTo>
                  <a:pt x="1714" y="2002"/>
                </a:lnTo>
                <a:lnTo>
                  <a:pt x="1740" y="1976"/>
                </a:lnTo>
                <a:lnTo>
                  <a:pt x="1773" y="1943"/>
                </a:lnTo>
                <a:lnTo>
                  <a:pt x="1799" y="1943"/>
                </a:lnTo>
                <a:lnTo>
                  <a:pt x="1799" y="1916"/>
                </a:lnTo>
                <a:lnTo>
                  <a:pt x="1832" y="1883"/>
                </a:lnTo>
                <a:lnTo>
                  <a:pt x="1859" y="1857"/>
                </a:lnTo>
                <a:lnTo>
                  <a:pt x="1859" y="1824"/>
                </a:lnTo>
                <a:lnTo>
                  <a:pt x="1885" y="1798"/>
                </a:lnTo>
                <a:lnTo>
                  <a:pt x="1918" y="1765"/>
                </a:lnTo>
                <a:lnTo>
                  <a:pt x="1918" y="1739"/>
                </a:lnTo>
                <a:lnTo>
                  <a:pt x="1944" y="1706"/>
                </a:lnTo>
                <a:lnTo>
                  <a:pt x="1977" y="1679"/>
                </a:lnTo>
                <a:lnTo>
                  <a:pt x="1977" y="1653"/>
                </a:lnTo>
                <a:lnTo>
                  <a:pt x="1977" y="1620"/>
                </a:lnTo>
                <a:lnTo>
                  <a:pt x="2004" y="1594"/>
                </a:lnTo>
                <a:lnTo>
                  <a:pt x="2004" y="1561"/>
                </a:lnTo>
                <a:lnTo>
                  <a:pt x="2004" y="1534"/>
                </a:lnTo>
                <a:lnTo>
                  <a:pt x="2037" y="1501"/>
                </a:lnTo>
                <a:lnTo>
                  <a:pt x="2037" y="1475"/>
                </a:lnTo>
                <a:lnTo>
                  <a:pt x="2037" y="1442"/>
                </a:lnTo>
                <a:lnTo>
                  <a:pt x="2037" y="1416"/>
                </a:lnTo>
                <a:lnTo>
                  <a:pt x="2063" y="1383"/>
                </a:lnTo>
                <a:lnTo>
                  <a:pt x="2063" y="1357"/>
                </a:lnTo>
                <a:lnTo>
                  <a:pt x="2063" y="1324"/>
                </a:lnTo>
                <a:lnTo>
                  <a:pt x="2063" y="1297"/>
                </a:lnTo>
                <a:lnTo>
                  <a:pt x="2063" y="1264"/>
                </a:lnTo>
                <a:lnTo>
                  <a:pt x="2063" y="1238"/>
                </a:lnTo>
                <a:lnTo>
                  <a:pt x="2063" y="1205"/>
                </a:lnTo>
                <a:lnTo>
                  <a:pt x="2096" y="1179"/>
                </a:lnTo>
                <a:lnTo>
                  <a:pt x="2096" y="1146"/>
                </a:lnTo>
                <a:lnTo>
                  <a:pt x="2096" y="1120"/>
                </a:lnTo>
                <a:lnTo>
                  <a:pt x="2096" y="1087"/>
                </a:lnTo>
                <a:lnTo>
                  <a:pt x="2096" y="1060"/>
                </a:lnTo>
                <a:lnTo>
                  <a:pt x="2096" y="1027"/>
                </a:lnTo>
                <a:lnTo>
                  <a:pt x="2096" y="1001"/>
                </a:lnTo>
                <a:lnTo>
                  <a:pt x="2122" y="968"/>
                </a:lnTo>
                <a:lnTo>
                  <a:pt x="2122" y="942"/>
                </a:lnTo>
                <a:lnTo>
                  <a:pt x="2122" y="916"/>
                </a:lnTo>
                <a:lnTo>
                  <a:pt x="2122" y="883"/>
                </a:lnTo>
                <a:lnTo>
                  <a:pt x="2122" y="856"/>
                </a:lnTo>
                <a:lnTo>
                  <a:pt x="2122" y="823"/>
                </a:lnTo>
                <a:lnTo>
                  <a:pt x="2122" y="797"/>
                </a:lnTo>
                <a:lnTo>
                  <a:pt x="2155" y="764"/>
                </a:lnTo>
                <a:lnTo>
                  <a:pt x="2155" y="738"/>
                </a:lnTo>
                <a:lnTo>
                  <a:pt x="2155" y="705"/>
                </a:lnTo>
                <a:lnTo>
                  <a:pt x="2155" y="679"/>
                </a:lnTo>
                <a:lnTo>
                  <a:pt x="2155" y="646"/>
                </a:lnTo>
                <a:lnTo>
                  <a:pt x="2155" y="619"/>
                </a:lnTo>
                <a:lnTo>
                  <a:pt x="2155" y="586"/>
                </a:lnTo>
                <a:lnTo>
                  <a:pt x="2181" y="560"/>
                </a:lnTo>
                <a:lnTo>
                  <a:pt x="2181" y="527"/>
                </a:lnTo>
                <a:lnTo>
                  <a:pt x="2181" y="501"/>
                </a:lnTo>
                <a:lnTo>
                  <a:pt x="2181" y="468"/>
                </a:lnTo>
                <a:lnTo>
                  <a:pt x="2181" y="442"/>
                </a:lnTo>
                <a:lnTo>
                  <a:pt x="2181" y="409"/>
                </a:lnTo>
                <a:lnTo>
                  <a:pt x="2181" y="382"/>
                </a:lnTo>
                <a:lnTo>
                  <a:pt x="2214" y="349"/>
                </a:lnTo>
                <a:lnTo>
                  <a:pt x="2214" y="323"/>
                </a:lnTo>
                <a:lnTo>
                  <a:pt x="2214" y="290"/>
                </a:lnTo>
                <a:lnTo>
                  <a:pt x="2214" y="264"/>
                </a:lnTo>
                <a:lnTo>
                  <a:pt x="2214" y="231"/>
                </a:lnTo>
                <a:lnTo>
                  <a:pt x="2214" y="205"/>
                </a:lnTo>
                <a:lnTo>
                  <a:pt x="2214" y="172"/>
                </a:lnTo>
                <a:lnTo>
                  <a:pt x="2241" y="145"/>
                </a:lnTo>
                <a:lnTo>
                  <a:pt x="2241" y="119"/>
                </a:lnTo>
                <a:lnTo>
                  <a:pt x="2241" y="86"/>
                </a:lnTo>
                <a:lnTo>
                  <a:pt x="2241" y="60"/>
                </a:lnTo>
                <a:lnTo>
                  <a:pt x="2241" y="27"/>
                </a:lnTo>
                <a:lnTo>
                  <a:pt x="2241" y="0"/>
                </a:lnTo>
                <a:lnTo>
                  <a:pt x="2214" y="0"/>
                </a:lnTo>
                <a:lnTo>
                  <a:pt x="2181" y="0"/>
                </a:lnTo>
                <a:lnTo>
                  <a:pt x="2155" y="0"/>
                </a:lnTo>
                <a:lnTo>
                  <a:pt x="2122" y="0"/>
                </a:lnTo>
                <a:lnTo>
                  <a:pt x="2096" y="27"/>
                </a:lnTo>
                <a:lnTo>
                  <a:pt x="2063" y="27"/>
                </a:lnTo>
                <a:lnTo>
                  <a:pt x="2037" y="27"/>
                </a:lnTo>
                <a:lnTo>
                  <a:pt x="2004" y="60"/>
                </a:lnTo>
                <a:lnTo>
                  <a:pt x="1977" y="60"/>
                </a:lnTo>
                <a:lnTo>
                  <a:pt x="1944" y="86"/>
                </a:lnTo>
                <a:lnTo>
                  <a:pt x="1918" y="86"/>
                </a:lnTo>
                <a:lnTo>
                  <a:pt x="1885" y="86"/>
                </a:lnTo>
                <a:lnTo>
                  <a:pt x="1859" y="119"/>
                </a:lnTo>
                <a:lnTo>
                  <a:pt x="1832" y="119"/>
                </a:lnTo>
                <a:lnTo>
                  <a:pt x="1799" y="145"/>
                </a:lnTo>
                <a:lnTo>
                  <a:pt x="1773" y="145"/>
                </a:lnTo>
                <a:lnTo>
                  <a:pt x="1740" y="145"/>
                </a:lnTo>
                <a:lnTo>
                  <a:pt x="1714" y="172"/>
                </a:lnTo>
                <a:lnTo>
                  <a:pt x="1681" y="172"/>
                </a:lnTo>
                <a:lnTo>
                  <a:pt x="1654" y="205"/>
                </a:lnTo>
                <a:lnTo>
                  <a:pt x="1621" y="205"/>
                </a:lnTo>
                <a:lnTo>
                  <a:pt x="1595" y="205"/>
                </a:lnTo>
                <a:lnTo>
                  <a:pt x="1562" y="231"/>
                </a:lnTo>
                <a:lnTo>
                  <a:pt x="1536" y="231"/>
                </a:lnTo>
                <a:lnTo>
                  <a:pt x="1503" y="264"/>
                </a:lnTo>
                <a:lnTo>
                  <a:pt x="1476" y="264"/>
                </a:lnTo>
                <a:lnTo>
                  <a:pt x="1443" y="264"/>
                </a:lnTo>
                <a:lnTo>
                  <a:pt x="1417" y="290"/>
                </a:lnTo>
                <a:lnTo>
                  <a:pt x="1384" y="290"/>
                </a:lnTo>
                <a:lnTo>
                  <a:pt x="1358" y="323"/>
                </a:lnTo>
                <a:lnTo>
                  <a:pt x="1325" y="323"/>
                </a:lnTo>
                <a:lnTo>
                  <a:pt x="1298" y="323"/>
                </a:lnTo>
                <a:lnTo>
                  <a:pt x="1266" y="349"/>
                </a:lnTo>
                <a:lnTo>
                  <a:pt x="1239" y="349"/>
                </a:lnTo>
                <a:lnTo>
                  <a:pt x="1206" y="382"/>
                </a:lnTo>
                <a:lnTo>
                  <a:pt x="1180" y="382"/>
                </a:lnTo>
                <a:lnTo>
                  <a:pt x="1147" y="382"/>
                </a:lnTo>
                <a:lnTo>
                  <a:pt x="1121" y="409"/>
                </a:lnTo>
                <a:lnTo>
                  <a:pt x="1094" y="409"/>
                </a:lnTo>
                <a:lnTo>
                  <a:pt x="1061" y="442"/>
                </a:lnTo>
                <a:lnTo>
                  <a:pt x="1035" y="442"/>
                </a:lnTo>
                <a:lnTo>
                  <a:pt x="1002" y="442"/>
                </a:lnTo>
                <a:lnTo>
                  <a:pt x="976" y="468"/>
                </a:lnTo>
                <a:lnTo>
                  <a:pt x="943" y="501"/>
                </a:lnTo>
                <a:lnTo>
                  <a:pt x="916" y="527"/>
                </a:lnTo>
                <a:lnTo>
                  <a:pt x="916" y="560"/>
                </a:lnTo>
                <a:lnTo>
                  <a:pt x="883" y="586"/>
                </a:lnTo>
                <a:lnTo>
                  <a:pt x="857" y="619"/>
                </a:lnTo>
                <a:lnTo>
                  <a:pt x="824" y="646"/>
                </a:lnTo>
                <a:lnTo>
                  <a:pt x="824" y="679"/>
                </a:lnTo>
                <a:lnTo>
                  <a:pt x="798" y="705"/>
                </a:lnTo>
                <a:lnTo>
                  <a:pt x="765" y="738"/>
                </a:lnTo>
                <a:lnTo>
                  <a:pt x="738" y="764"/>
                </a:lnTo>
                <a:lnTo>
                  <a:pt x="738" y="797"/>
                </a:lnTo>
                <a:lnTo>
                  <a:pt x="705" y="823"/>
                </a:lnTo>
                <a:lnTo>
                  <a:pt x="679" y="856"/>
                </a:lnTo>
                <a:lnTo>
                  <a:pt x="646" y="883"/>
                </a:lnTo>
                <a:lnTo>
                  <a:pt x="646" y="916"/>
                </a:lnTo>
                <a:lnTo>
                  <a:pt x="620" y="942"/>
                </a:lnTo>
                <a:lnTo>
                  <a:pt x="587" y="968"/>
                </a:lnTo>
                <a:lnTo>
                  <a:pt x="587" y="1001"/>
                </a:lnTo>
                <a:lnTo>
                  <a:pt x="560" y="1027"/>
                </a:lnTo>
                <a:lnTo>
                  <a:pt x="528" y="1060"/>
                </a:lnTo>
                <a:lnTo>
                  <a:pt x="528" y="1087"/>
                </a:lnTo>
                <a:lnTo>
                  <a:pt x="501" y="1120"/>
                </a:lnTo>
                <a:lnTo>
                  <a:pt x="501" y="1146"/>
                </a:lnTo>
                <a:lnTo>
                  <a:pt x="501" y="1179"/>
                </a:lnTo>
                <a:lnTo>
                  <a:pt x="468" y="1205"/>
                </a:lnTo>
                <a:lnTo>
                  <a:pt x="468" y="1238"/>
                </a:lnTo>
                <a:lnTo>
                  <a:pt x="468" y="1264"/>
                </a:lnTo>
                <a:lnTo>
                  <a:pt x="442" y="1297"/>
                </a:lnTo>
                <a:lnTo>
                  <a:pt x="442" y="1324"/>
                </a:lnTo>
                <a:lnTo>
                  <a:pt x="442" y="1357"/>
                </a:lnTo>
                <a:lnTo>
                  <a:pt x="409" y="1383"/>
                </a:lnTo>
                <a:lnTo>
                  <a:pt x="409" y="1416"/>
                </a:lnTo>
                <a:lnTo>
                  <a:pt x="409" y="1442"/>
                </a:lnTo>
                <a:lnTo>
                  <a:pt x="383" y="1475"/>
                </a:lnTo>
                <a:lnTo>
                  <a:pt x="383" y="1501"/>
                </a:lnTo>
                <a:lnTo>
                  <a:pt x="350" y="1534"/>
                </a:lnTo>
                <a:lnTo>
                  <a:pt x="350" y="1561"/>
                </a:lnTo>
                <a:lnTo>
                  <a:pt x="350" y="1594"/>
                </a:lnTo>
                <a:lnTo>
                  <a:pt x="323" y="1620"/>
                </a:lnTo>
                <a:lnTo>
                  <a:pt x="323" y="1653"/>
                </a:lnTo>
                <a:lnTo>
                  <a:pt x="323" y="1679"/>
                </a:lnTo>
                <a:lnTo>
                  <a:pt x="297" y="1706"/>
                </a:lnTo>
                <a:lnTo>
                  <a:pt x="297" y="1739"/>
                </a:lnTo>
                <a:lnTo>
                  <a:pt x="297" y="1765"/>
                </a:lnTo>
                <a:lnTo>
                  <a:pt x="264" y="1798"/>
                </a:lnTo>
                <a:lnTo>
                  <a:pt x="264" y="1824"/>
                </a:lnTo>
                <a:lnTo>
                  <a:pt x="264" y="1857"/>
                </a:lnTo>
                <a:lnTo>
                  <a:pt x="238" y="1883"/>
                </a:lnTo>
                <a:lnTo>
                  <a:pt x="238" y="1916"/>
                </a:lnTo>
                <a:lnTo>
                  <a:pt x="238" y="1943"/>
                </a:lnTo>
                <a:lnTo>
                  <a:pt x="205" y="1976"/>
                </a:lnTo>
                <a:lnTo>
                  <a:pt x="205" y="2002"/>
                </a:lnTo>
                <a:lnTo>
                  <a:pt x="178" y="2035"/>
                </a:lnTo>
                <a:lnTo>
                  <a:pt x="178" y="2061"/>
                </a:lnTo>
                <a:lnTo>
                  <a:pt x="178" y="2094"/>
                </a:lnTo>
                <a:lnTo>
                  <a:pt x="145" y="2120"/>
                </a:lnTo>
                <a:lnTo>
                  <a:pt x="145" y="2153"/>
                </a:lnTo>
                <a:lnTo>
                  <a:pt x="145" y="2180"/>
                </a:lnTo>
                <a:lnTo>
                  <a:pt x="119" y="2213"/>
                </a:lnTo>
                <a:lnTo>
                  <a:pt x="119" y="2239"/>
                </a:lnTo>
                <a:lnTo>
                  <a:pt x="119" y="2272"/>
                </a:lnTo>
                <a:lnTo>
                  <a:pt x="86" y="2298"/>
                </a:lnTo>
                <a:lnTo>
                  <a:pt x="86" y="2331"/>
                </a:lnTo>
                <a:lnTo>
                  <a:pt x="86" y="2357"/>
                </a:lnTo>
                <a:lnTo>
                  <a:pt x="60" y="2390"/>
                </a:lnTo>
                <a:lnTo>
                  <a:pt x="60" y="2417"/>
                </a:lnTo>
                <a:lnTo>
                  <a:pt x="60" y="2450"/>
                </a:lnTo>
                <a:lnTo>
                  <a:pt x="27" y="2476"/>
                </a:lnTo>
                <a:lnTo>
                  <a:pt x="27" y="2502"/>
                </a:lnTo>
                <a:lnTo>
                  <a:pt x="27" y="2535"/>
                </a:lnTo>
                <a:lnTo>
                  <a:pt x="0" y="2561"/>
                </a:lnTo>
                <a:lnTo>
                  <a:pt x="0" y="2594"/>
                </a:lnTo>
                <a:lnTo>
                  <a:pt x="0" y="2621"/>
                </a:lnTo>
                <a:lnTo>
                  <a:pt x="27" y="2621"/>
                </a:lnTo>
                <a:lnTo>
                  <a:pt x="60" y="2654"/>
                </a:lnTo>
                <a:lnTo>
                  <a:pt x="86" y="2654"/>
                </a:lnTo>
                <a:lnTo>
                  <a:pt x="119" y="2680"/>
                </a:lnTo>
                <a:lnTo>
                  <a:pt x="145" y="2713"/>
                </a:lnTo>
                <a:lnTo>
                  <a:pt x="178" y="2713"/>
                </a:lnTo>
                <a:lnTo>
                  <a:pt x="205" y="2739"/>
                </a:lnTo>
                <a:lnTo>
                  <a:pt x="238" y="2739"/>
                </a:lnTo>
                <a:lnTo>
                  <a:pt x="264" y="2772"/>
                </a:lnTo>
                <a:lnTo>
                  <a:pt x="297" y="2772"/>
                </a:lnTo>
                <a:lnTo>
                  <a:pt x="323" y="2798"/>
                </a:lnTo>
                <a:lnTo>
                  <a:pt x="350" y="2798"/>
                </a:lnTo>
                <a:lnTo>
                  <a:pt x="383" y="2831"/>
                </a:lnTo>
                <a:lnTo>
                  <a:pt x="409" y="2831"/>
                </a:lnTo>
                <a:lnTo>
                  <a:pt x="442" y="2858"/>
                </a:lnTo>
                <a:lnTo>
                  <a:pt x="468" y="2858"/>
                </a:lnTo>
                <a:lnTo>
                  <a:pt x="501" y="2858"/>
                </a:lnTo>
                <a:close/>
                <a:moveTo>
                  <a:pt x="1219" y="2002"/>
                </a:moveTo>
                <a:lnTo>
                  <a:pt x="1219" y="2002"/>
                </a:lnTo>
                <a:lnTo>
                  <a:pt x="1226" y="1995"/>
                </a:lnTo>
                <a:lnTo>
                  <a:pt x="1233" y="1989"/>
                </a:lnTo>
                <a:lnTo>
                  <a:pt x="1239" y="1989"/>
                </a:lnTo>
                <a:lnTo>
                  <a:pt x="1246" y="1989"/>
                </a:lnTo>
                <a:lnTo>
                  <a:pt x="1252" y="1989"/>
                </a:lnTo>
                <a:lnTo>
                  <a:pt x="1259" y="1995"/>
                </a:lnTo>
                <a:lnTo>
                  <a:pt x="1266" y="1995"/>
                </a:lnTo>
                <a:lnTo>
                  <a:pt x="1272" y="2002"/>
                </a:lnTo>
                <a:lnTo>
                  <a:pt x="1272" y="2008"/>
                </a:lnTo>
                <a:lnTo>
                  <a:pt x="1266" y="2008"/>
                </a:lnTo>
                <a:lnTo>
                  <a:pt x="1259" y="2015"/>
                </a:lnTo>
                <a:lnTo>
                  <a:pt x="1252" y="2022"/>
                </a:lnTo>
                <a:lnTo>
                  <a:pt x="1246" y="2022"/>
                </a:lnTo>
                <a:lnTo>
                  <a:pt x="1239" y="2022"/>
                </a:lnTo>
                <a:lnTo>
                  <a:pt x="1239" y="2022"/>
                </a:lnTo>
                <a:lnTo>
                  <a:pt x="1233" y="2022"/>
                </a:lnTo>
                <a:lnTo>
                  <a:pt x="1226" y="2015"/>
                </a:lnTo>
                <a:lnTo>
                  <a:pt x="1219" y="2008"/>
                </a:lnTo>
                <a:lnTo>
                  <a:pt x="1219" y="2002"/>
                </a:lnTo>
                <a:close/>
                <a:moveTo>
                  <a:pt x="1371" y="1976"/>
                </a:moveTo>
                <a:lnTo>
                  <a:pt x="1371" y="1969"/>
                </a:lnTo>
                <a:lnTo>
                  <a:pt x="1378" y="1962"/>
                </a:lnTo>
                <a:lnTo>
                  <a:pt x="1384" y="1956"/>
                </a:lnTo>
                <a:lnTo>
                  <a:pt x="1384" y="1956"/>
                </a:lnTo>
                <a:lnTo>
                  <a:pt x="1391" y="1956"/>
                </a:lnTo>
                <a:lnTo>
                  <a:pt x="1397" y="1956"/>
                </a:lnTo>
                <a:lnTo>
                  <a:pt x="1404" y="1956"/>
                </a:lnTo>
                <a:lnTo>
                  <a:pt x="1404" y="1962"/>
                </a:lnTo>
                <a:lnTo>
                  <a:pt x="1411" y="1969"/>
                </a:lnTo>
                <a:lnTo>
                  <a:pt x="1424" y="1969"/>
                </a:lnTo>
                <a:lnTo>
                  <a:pt x="1424" y="1976"/>
                </a:lnTo>
                <a:lnTo>
                  <a:pt x="1417" y="1976"/>
                </a:lnTo>
                <a:lnTo>
                  <a:pt x="1411" y="1976"/>
                </a:lnTo>
                <a:lnTo>
                  <a:pt x="1404" y="1982"/>
                </a:lnTo>
                <a:lnTo>
                  <a:pt x="1397" y="1982"/>
                </a:lnTo>
                <a:lnTo>
                  <a:pt x="1391" y="1982"/>
                </a:lnTo>
                <a:lnTo>
                  <a:pt x="1384" y="1982"/>
                </a:lnTo>
                <a:lnTo>
                  <a:pt x="1378" y="1976"/>
                </a:lnTo>
                <a:lnTo>
                  <a:pt x="1371" y="1976"/>
                </a:lnTo>
                <a:lnTo>
                  <a:pt x="1371" y="1976"/>
                </a:lnTo>
                <a:close/>
                <a:moveTo>
                  <a:pt x="1259" y="1798"/>
                </a:moveTo>
                <a:lnTo>
                  <a:pt x="1252" y="1785"/>
                </a:lnTo>
                <a:lnTo>
                  <a:pt x="1252" y="1778"/>
                </a:lnTo>
                <a:lnTo>
                  <a:pt x="1252" y="1771"/>
                </a:lnTo>
                <a:lnTo>
                  <a:pt x="1259" y="1765"/>
                </a:lnTo>
                <a:lnTo>
                  <a:pt x="1266" y="1758"/>
                </a:lnTo>
                <a:lnTo>
                  <a:pt x="1272" y="1758"/>
                </a:lnTo>
                <a:lnTo>
                  <a:pt x="1279" y="1758"/>
                </a:lnTo>
                <a:lnTo>
                  <a:pt x="1285" y="1765"/>
                </a:lnTo>
                <a:lnTo>
                  <a:pt x="1292" y="1765"/>
                </a:lnTo>
                <a:lnTo>
                  <a:pt x="1305" y="1771"/>
                </a:lnTo>
                <a:lnTo>
                  <a:pt x="1312" y="1771"/>
                </a:lnTo>
                <a:lnTo>
                  <a:pt x="1318" y="1778"/>
                </a:lnTo>
                <a:lnTo>
                  <a:pt x="1325" y="1778"/>
                </a:lnTo>
                <a:lnTo>
                  <a:pt x="1331" y="1771"/>
                </a:lnTo>
                <a:lnTo>
                  <a:pt x="1338" y="1771"/>
                </a:lnTo>
                <a:lnTo>
                  <a:pt x="1345" y="1765"/>
                </a:lnTo>
                <a:lnTo>
                  <a:pt x="1351" y="1765"/>
                </a:lnTo>
                <a:lnTo>
                  <a:pt x="1358" y="1758"/>
                </a:lnTo>
                <a:lnTo>
                  <a:pt x="1364" y="1758"/>
                </a:lnTo>
                <a:lnTo>
                  <a:pt x="1371" y="1752"/>
                </a:lnTo>
                <a:lnTo>
                  <a:pt x="1378" y="1752"/>
                </a:lnTo>
                <a:lnTo>
                  <a:pt x="1384" y="1745"/>
                </a:lnTo>
                <a:lnTo>
                  <a:pt x="1391" y="1745"/>
                </a:lnTo>
                <a:lnTo>
                  <a:pt x="1397" y="1745"/>
                </a:lnTo>
                <a:lnTo>
                  <a:pt x="1404" y="1739"/>
                </a:lnTo>
                <a:lnTo>
                  <a:pt x="1411" y="1739"/>
                </a:lnTo>
                <a:lnTo>
                  <a:pt x="1417" y="1732"/>
                </a:lnTo>
                <a:lnTo>
                  <a:pt x="1424" y="1732"/>
                </a:lnTo>
                <a:lnTo>
                  <a:pt x="1430" y="1725"/>
                </a:lnTo>
                <a:lnTo>
                  <a:pt x="1437" y="1725"/>
                </a:lnTo>
                <a:lnTo>
                  <a:pt x="1443" y="1725"/>
                </a:lnTo>
                <a:lnTo>
                  <a:pt x="1450" y="1719"/>
                </a:lnTo>
                <a:lnTo>
                  <a:pt x="1457" y="1719"/>
                </a:lnTo>
                <a:lnTo>
                  <a:pt x="1463" y="1712"/>
                </a:lnTo>
                <a:lnTo>
                  <a:pt x="1476" y="1712"/>
                </a:lnTo>
                <a:lnTo>
                  <a:pt x="1483" y="1706"/>
                </a:lnTo>
                <a:lnTo>
                  <a:pt x="1490" y="1706"/>
                </a:lnTo>
                <a:lnTo>
                  <a:pt x="1496" y="1699"/>
                </a:lnTo>
                <a:lnTo>
                  <a:pt x="1503" y="1699"/>
                </a:lnTo>
                <a:lnTo>
                  <a:pt x="1509" y="1699"/>
                </a:lnTo>
                <a:lnTo>
                  <a:pt x="1516" y="1692"/>
                </a:lnTo>
                <a:lnTo>
                  <a:pt x="1523" y="1692"/>
                </a:lnTo>
                <a:lnTo>
                  <a:pt x="1529" y="1686"/>
                </a:lnTo>
                <a:lnTo>
                  <a:pt x="1536" y="1686"/>
                </a:lnTo>
                <a:lnTo>
                  <a:pt x="1542" y="1679"/>
                </a:lnTo>
                <a:lnTo>
                  <a:pt x="1549" y="1679"/>
                </a:lnTo>
                <a:lnTo>
                  <a:pt x="1555" y="1679"/>
                </a:lnTo>
                <a:lnTo>
                  <a:pt x="1562" y="1679"/>
                </a:lnTo>
                <a:lnTo>
                  <a:pt x="1569" y="1679"/>
                </a:lnTo>
                <a:lnTo>
                  <a:pt x="1575" y="1686"/>
                </a:lnTo>
                <a:lnTo>
                  <a:pt x="1582" y="1692"/>
                </a:lnTo>
                <a:lnTo>
                  <a:pt x="1588" y="1699"/>
                </a:lnTo>
                <a:lnTo>
                  <a:pt x="1595" y="1706"/>
                </a:lnTo>
                <a:lnTo>
                  <a:pt x="1595" y="1712"/>
                </a:lnTo>
                <a:lnTo>
                  <a:pt x="1602" y="1719"/>
                </a:lnTo>
                <a:lnTo>
                  <a:pt x="1602" y="1725"/>
                </a:lnTo>
                <a:lnTo>
                  <a:pt x="1602" y="1739"/>
                </a:lnTo>
                <a:lnTo>
                  <a:pt x="1602" y="1745"/>
                </a:lnTo>
                <a:lnTo>
                  <a:pt x="1608" y="1758"/>
                </a:lnTo>
                <a:lnTo>
                  <a:pt x="1608" y="1765"/>
                </a:lnTo>
                <a:lnTo>
                  <a:pt x="1608" y="1771"/>
                </a:lnTo>
                <a:lnTo>
                  <a:pt x="1602" y="1778"/>
                </a:lnTo>
                <a:lnTo>
                  <a:pt x="1595" y="1785"/>
                </a:lnTo>
                <a:lnTo>
                  <a:pt x="1588" y="1785"/>
                </a:lnTo>
                <a:lnTo>
                  <a:pt x="1582" y="1791"/>
                </a:lnTo>
                <a:lnTo>
                  <a:pt x="1575" y="1791"/>
                </a:lnTo>
                <a:lnTo>
                  <a:pt x="1569" y="1791"/>
                </a:lnTo>
                <a:lnTo>
                  <a:pt x="1562" y="1791"/>
                </a:lnTo>
                <a:lnTo>
                  <a:pt x="1549" y="1791"/>
                </a:lnTo>
                <a:lnTo>
                  <a:pt x="1542" y="1791"/>
                </a:lnTo>
                <a:lnTo>
                  <a:pt x="1536" y="1791"/>
                </a:lnTo>
                <a:lnTo>
                  <a:pt x="1529" y="1791"/>
                </a:lnTo>
                <a:lnTo>
                  <a:pt x="1523" y="1791"/>
                </a:lnTo>
                <a:lnTo>
                  <a:pt x="1516" y="1791"/>
                </a:lnTo>
                <a:lnTo>
                  <a:pt x="1509" y="1791"/>
                </a:lnTo>
                <a:lnTo>
                  <a:pt x="1503" y="1791"/>
                </a:lnTo>
                <a:lnTo>
                  <a:pt x="1496" y="1798"/>
                </a:lnTo>
                <a:lnTo>
                  <a:pt x="1490" y="1798"/>
                </a:lnTo>
                <a:lnTo>
                  <a:pt x="1476" y="1798"/>
                </a:lnTo>
                <a:lnTo>
                  <a:pt x="1470" y="1798"/>
                </a:lnTo>
                <a:lnTo>
                  <a:pt x="1463" y="1798"/>
                </a:lnTo>
                <a:lnTo>
                  <a:pt x="1457" y="1798"/>
                </a:lnTo>
                <a:lnTo>
                  <a:pt x="1450" y="1798"/>
                </a:lnTo>
                <a:lnTo>
                  <a:pt x="1443" y="1798"/>
                </a:lnTo>
                <a:lnTo>
                  <a:pt x="1437" y="1798"/>
                </a:lnTo>
                <a:lnTo>
                  <a:pt x="1430" y="1798"/>
                </a:lnTo>
                <a:lnTo>
                  <a:pt x="1424" y="1798"/>
                </a:lnTo>
                <a:lnTo>
                  <a:pt x="1417" y="1798"/>
                </a:lnTo>
                <a:lnTo>
                  <a:pt x="1404" y="1798"/>
                </a:lnTo>
                <a:lnTo>
                  <a:pt x="1397" y="1804"/>
                </a:lnTo>
                <a:lnTo>
                  <a:pt x="1391" y="1804"/>
                </a:lnTo>
                <a:lnTo>
                  <a:pt x="1384" y="1804"/>
                </a:lnTo>
                <a:lnTo>
                  <a:pt x="1378" y="1804"/>
                </a:lnTo>
                <a:lnTo>
                  <a:pt x="1371" y="1804"/>
                </a:lnTo>
                <a:lnTo>
                  <a:pt x="1364" y="1804"/>
                </a:lnTo>
                <a:lnTo>
                  <a:pt x="1358" y="1804"/>
                </a:lnTo>
                <a:lnTo>
                  <a:pt x="1351" y="1804"/>
                </a:lnTo>
                <a:lnTo>
                  <a:pt x="1345" y="1804"/>
                </a:lnTo>
                <a:lnTo>
                  <a:pt x="1338" y="1804"/>
                </a:lnTo>
                <a:lnTo>
                  <a:pt x="1325" y="1804"/>
                </a:lnTo>
                <a:lnTo>
                  <a:pt x="1318" y="1804"/>
                </a:lnTo>
                <a:lnTo>
                  <a:pt x="1312" y="1811"/>
                </a:lnTo>
                <a:lnTo>
                  <a:pt x="1305" y="1811"/>
                </a:lnTo>
                <a:lnTo>
                  <a:pt x="1298" y="1811"/>
                </a:lnTo>
                <a:lnTo>
                  <a:pt x="1292" y="1811"/>
                </a:lnTo>
                <a:lnTo>
                  <a:pt x="1285" y="1804"/>
                </a:lnTo>
                <a:lnTo>
                  <a:pt x="1279" y="1804"/>
                </a:lnTo>
                <a:lnTo>
                  <a:pt x="1272" y="1804"/>
                </a:lnTo>
                <a:lnTo>
                  <a:pt x="1266" y="1798"/>
                </a:lnTo>
                <a:lnTo>
                  <a:pt x="1259" y="1798"/>
                </a:lnTo>
                <a:close/>
                <a:moveTo>
                  <a:pt x="1061" y="1739"/>
                </a:moveTo>
                <a:lnTo>
                  <a:pt x="1061" y="1732"/>
                </a:lnTo>
                <a:lnTo>
                  <a:pt x="1055" y="1719"/>
                </a:lnTo>
                <a:lnTo>
                  <a:pt x="1055" y="1712"/>
                </a:lnTo>
                <a:lnTo>
                  <a:pt x="1055" y="1699"/>
                </a:lnTo>
                <a:lnTo>
                  <a:pt x="1055" y="1686"/>
                </a:lnTo>
                <a:lnTo>
                  <a:pt x="1055" y="1679"/>
                </a:lnTo>
                <a:lnTo>
                  <a:pt x="1061" y="1673"/>
                </a:lnTo>
                <a:lnTo>
                  <a:pt x="1068" y="1673"/>
                </a:lnTo>
                <a:lnTo>
                  <a:pt x="1074" y="1673"/>
                </a:lnTo>
                <a:lnTo>
                  <a:pt x="1088" y="1673"/>
                </a:lnTo>
                <a:lnTo>
                  <a:pt x="1094" y="1673"/>
                </a:lnTo>
                <a:lnTo>
                  <a:pt x="1101" y="1673"/>
                </a:lnTo>
                <a:lnTo>
                  <a:pt x="1107" y="1666"/>
                </a:lnTo>
                <a:lnTo>
                  <a:pt x="1114" y="1666"/>
                </a:lnTo>
                <a:lnTo>
                  <a:pt x="1121" y="1660"/>
                </a:lnTo>
                <a:lnTo>
                  <a:pt x="1127" y="1660"/>
                </a:lnTo>
                <a:lnTo>
                  <a:pt x="1140" y="1666"/>
                </a:lnTo>
                <a:lnTo>
                  <a:pt x="1147" y="1666"/>
                </a:lnTo>
                <a:lnTo>
                  <a:pt x="1154" y="1666"/>
                </a:lnTo>
                <a:lnTo>
                  <a:pt x="1160" y="1666"/>
                </a:lnTo>
                <a:lnTo>
                  <a:pt x="1167" y="1673"/>
                </a:lnTo>
                <a:lnTo>
                  <a:pt x="1173" y="1673"/>
                </a:lnTo>
                <a:lnTo>
                  <a:pt x="1186" y="1673"/>
                </a:lnTo>
                <a:lnTo>
                  <a:pt x="1193" y="1673"/>
                </a:lnTo>
                <a:lnTo>
                  <a:pt x="1200" y="1679"/>
                </a:lnTo>
                <a:lnTo>
                  <a:pt x="1200" y="1686"/>
                </a:lnTo>
                <a:lnTo>
                  <a:pt x="1206" y="1699"/>
                </a:lnTo>
                <a:lnTo>
                  <a:pt x="1206" y="1706"/>
                </a:lnTo>
                <a:lnTo>
                  <a:pt x="1206" y="1719"/>
                </a:lnTo>
                <a:lnTo>
                  <a:pt x="1206" y="1725"/>
                </a:lnTo>
                <a:lnTo>
                  <a:pt x="1200" y="1739"/>
                </a:lnTo>
                <a:lnTo>
                  <a:pt x="1193" y="1739"/>
                </a:lnTo>
                <a:lnTo>
                  <a:pt x="1186" y="1745"/>
                </a:lnTo>
                <a:lnTo>
                  <a:pt x="1180" y="1752"/>
                </a:lnTo>
                <a:lnTo>
                  <a:pt x="1173" y="1752"/>
                </a:lnTo>
                <a:lnTo>
                  <a:pt x="1167" y="1758"/>
                </a:lnTo>
                <a:lnTo>
                  <a:pt x="1160" y="1765"/>
                </a:lnTo>
                <a:lnTo>
                  <a:pt x="1147" y="1765"/>
                </a:lnTo>
                <a:lnTo>
                  <a:pt x="1140" y="1765"/>
                </a:lnTo>
                <a:lnTo>
                  <a:pt x="1134" y="1771"/>
                </a:lnTo>
                <a:lnTo>
                  <a:pt x="1127" y="1771"/>
                </a:lnTo>
                <a:lnTo>
                  <a:pt x="1121" y="1765"/>
                </a:lnTo>
                <a:lnTo>
                  <a:pt x="1114" y="1765"/>
                </a:lnTo>
                <a:lnTo>
                  <a:pt x="1101" y="1765"/>
                </a:lnTo>
                <a:lnTo>
                  <a:pt x="1094" y="1758"/>
                </a:lnTo>
                <a:lnTo>
                  <a:pt x="1088" y="1758"/>
                </a:lnTo>
                <a:lnTo>
                  <a:pt x="1081" y="1758"/>
                </a:lnTo>
                <a:lnTo>
                  <a:pt x="1074" y="1752"/>
                </a:lnTo>
                <a:lnTo>
                  <a:pt x="1068" y="1745"/>
                </a:lnTo>
                <a:lnTo>
                  <a:pt x="1061" y="1739"/>
                </a:lnTo>
                <a:close/>
                <a:moveTo>
                  <a:pt x="1285" y="1620"/>
                </a:moveTo>
                <a:lnTo>
                  <a:pt x="1292" y="1613"/>
                </a:lnTo>
                <a:lnTo>
                  <a:pt x="1292" y="1613"/>
                </a:lnTo>
                <a:lnTo>
                  <a:pt x="1298" y="1607"/>
                </a:lnTo>
                <a:lnTo>
                  <a:pt x="1305" y="1600"/>
                </a:lnTo>
                <a:lnTo>
                  <a:pt x="1312" y="1600"/>
                </a:lnTo>
                <a:lnTo>
                  <a:pt x="1312" y="1594"/>
                </a:lnTo>
                <a:lnTo>
                  <a:pt x="1318" y="1587"/>
                </a:lnTo>
                <a:lnTo>
                  <a:pt x="1325" y="1587"/>
                </a:lnTo>
                <a:lnTo>
                  <a:pt x="1331" y="1587"/>
                </a:lnTo>
                <a:lnTo>
                  <a:pt x="1338" y="1587"/>
                </a:lnTo>
                <a:lnTo>
                  <a:pt x="1345" y="1581"/>
                </a:lnTo>
                <a:lnTo>
                  <a:pt x="1351" y="1581"/>
                </a:lnTo>
                <a:lnTo>
                  <a:pt x="1358" y="1587"/>
                </a:lnTo>
                <a:lnTo>
                  <a:pt x="1364" y="1587"/>
                </a:lnTo>
                <a:lnTo>
                  <a:pt x="1364" y="1587"/>
                </a:lnTo>
                <a:lnTo>
                  <a:pt x="1371" y="1587"/>
                </a:lnTo>
                <a:lnTo>
                  <a:pt x="1378" y="1587"/>
                </a:lnTo>
                <a:lnTo>
                  <a:pt x="1384" y="1587"/>
                </a:lnTo>
                <a:lnTo>
                  <a:pt x="1391" y="1594"/>
                </a:lnTo>
                <a:lnTo>
                  <a:pt x="1391" y="1594"/>
                </a:lnTo>
                <a:lnTo>
                  <a:pt x="1378" y="1594"/>
                </a:lnTo>
                <a:lnTo>
                  <a:pt x="1371" y="1594"/>
                </a:lnTo>
                <a:lnTo>
                  <a:pt x="1371" y="1600"/>
                </a:lnTo>
                <a:lnTo>
                  <a:pt x="1364" y="1600"/>
                </a:lnTo>
                <a:lnTo>
                  <a:pt x="1358" y="1600"/>
                </a:lnTo>
                <a:lnTo>
                  <a:pt x="1351" y="1600"/>
                </a:lnTo>
                <a:lnTo>
                  <a:pt x="1345" y="1600"/>
                </a:lnTo>
                <a:lnTo>
                  <a:pt x="1338" y="1607"/>
                </a:lnTo>
                <a:lnTo>
                  <a:pt x="1331" y="1607"/>
                </a:lnTo>
                <a:lnTo>
                  <a:pt x="1325" y="1613"/>
                </a:lnTo>
                <a:lnTo>
                  <a:pt x="1325" y="1613"/>
                </a:lnTo>
                <a:lnTo>
                  <a:pt x="1318" y="1620"/>
                </a:lnTo>
                <a:lnTo>
                  <a:pt x="1312" y="1627"/>
                </a:lnTo>
                <a:lnTo>
                  <a:pt x="1305" y="1627"/>
                </a:lnTo>
                <a:lnTo>
                  <a:pt x="1298" y="1627"/>
                </a:lnTo>
                <a:lnTo>
                  <a:pt x="1292" y="1627"/>
                </a:lnTo>
                <a:lnTo>
                  <a:pt x="1292" y="1627"/>
                </a:lnTo>
                <a:lnTo>
                  <a:pt x="1285" y="1620"/>
                </a:lnTo>
                <a:close/>
                <a:moveTo>
                  <a:pt x="705" y="1475"/>
                </a:moveTo>
                <a:lnTo>
                  <a:pt x="705" y="1469"/>
                </a:lnTo>
                <a:lnTo>
                  <a:pt x="705" y="1462"/>
                </a:lnTo>
                <a:lnTo>
                  <a:pt x="705" y="1462"/>
                </a:lnTo>
                <a:lnTo>
                  <a:pt x="699" y="1455"/>
                </a:lnTo>
                <a:lnTo>
                  <a:pt x="699" y="1449"/>
                </a:lnTo>
                <a:lnTo>
                  <a:pt x="705" y="1449"/>
                </a:lnTo>
                <a:lnTo>
                  <a:pt x="705" y="1442"/>
                </a:lnTo>
                <a:lnTo>
                  <a:pt x="705" y="1436"/>
                </a:lnTo>
                <a:lnTo>
                  <a:pt x="705" y="1429"/>
                </a:lnTo>
                <a:lnTo>
                  <a:pt x="712" y="1436"/>
                </a:lnTo>
                <a:lnTo>
                  <a:pt x="712" y="1436"/>
                </a:lnTo>
                <a:lnTo>
                  <a:pt x="712" y="1442"/>
                </a:lnTo>
                <a:lnTo>
                  <a:pt x="712" y="1449"/>
                </a:lnTo>
                <a:lnTo>
                  <a:pt x="712" y="1449"/>
                </a:lnTo>
                <a:lnTo>
                  <a:pt x="712" y="1455"/>
                </a:lnTo>
                <a:lnTo>
                  <a:pt x="712" y="1462"/>
                </a:lnTo>
                <a:lnTo>
                  <a:pt x="712" y="1462"/>
                </a:lnTo>
                <a:lnTo>
                  <a:pt x="712" y="1469"/>
                </a:lnTo>
                <a:lnTo>
                  <a:pt x="705" y="1475"/>
                </a:lnTo>
                <a:lnTo>
                  <a:pt x="705" y="1475"/>
                </a:lnTo>
                <a:close/>
                <a:moveTo>
                  <a:pt x="929" y="1264"/>
                </a:moveTo>
                <a:lnTo>
                  <a:pt x="929" y="1258"/>
                </a:lnTo>
                <a:lnTo>
                  <a:pt x="929" y="1258"/>
                </a:lnTo>
                <a:lnTo>
                  <a:pt x="929" y="1251"/>
                </a:lnTo>
                <a:lnTo>
                  <a:pt x="936" y="1245"/>
                </a:lnTo>
                <a:lnTo>
                  <a:pt x="936" y="1238"/>
                </a:lnTo>
                <a:lnTo>
                  <a:pt x="936" y="1238"/>
                </a:lnTo>
                <a:lnTo>
                  <a:pt x="943" y="1232"/>
                </a:lnTo>
                <a:lnTo>
                  <a:pt x="943" y="1232"/>
                </a:lnTo>
                <a:lnTo>
                  <a:pt x="949" y="1238"/>
                </a:lnTo>
                <a:lnTo>
                  <a:pt x="949" y="1245"/>
                </a:lnTo>
                <a:lnTo>
                  <a:pt x="956" y="1251"/>
                </a:lnTo>
                <a:lnTo>
                  <a:pt x="956" y="1258"/>
                </a:lnTo>
                <a:lnTo>
                  <a:pt x="956" y="1264"/>
                </a:lnTo>
                <a:lnTo>
                  <a:pt x="956" y="1264"/>
                </a:lnTo>
                <a:lnTo>
                  <a:pt x="949" y="1271"/>
                </a:lnTo>
                <a:lnTo>
                  <a:pt x="943" y="1271"/>
                </a:lnTo>
                <a:lnTo>
                  <a:pt x="943" y="1271"/>
                </a:lnTo>
                <a:lnTo>
                  <a:pt x="936" y="1271"/>
                </a:lnTo>
                <a:lnTo>
                  <a:pt x="936" y="1271"/>
                </a:lnTo>
                <a:lnTo>
                  <a:pt x="929" y="1264"/>
                </a:lnTo>
                <a:close/>
                <a:moveTo>
                  <a:pt x="1140" y="1205"/>
                </a:moveTo>
                <a:lnTo>
                  <a:pt x="1147" y="1199"/>
                </a:lnTo>
                <a:lnTo>
                  <a:pt x="1147" y="1199"/>
                </a:lnTo>
                <a:lnTo>
                  <a:pt x="1147" y="1192"/>
                </a:lnTo>
                <a:lnTo>
                  <a:pt x="1154" y="1192"/>
                </a:lnTo>
                <a:lnTo>
                  <a:pt x="1160" y="1199"/>
                </a:lnTo>
                <a:lnTo>
                  <a:pt x="1167" y="1199"/>
                </a:lnTo>
                <a:lnTo>
                  <a:pt x="1167" y="1205"/>
                </a:lnTo>
                <a:lnTo>
                  <a:pt x="1167" y="1205"/>
                </a:lnTo>
                <a:lnTo>
                  <a:pt x="1167" y="1212"/>
                </a:lnTo>
                <a:lnTo>
                  <a:pt x="1160" y="1212"/>
                </a:lnTo>
                <a:lnTo>
                  <a:pt x="1160" y="1212"/>
                </a:lnTo>
                <a:lnTo>
                  <a:pt x="1154" y="1212"/>
                </a:lnTo>
                <a:lnTo>
                  <a:pt x="1147" y="1212"/>
                </a:lnTo>
                <a:lnTo>
                  <a:pt x="1140" y="1205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8" name=""/>
          <p:cNvSpPr/>
          <p:nvPr/>
        </p:nvSpPr>
        <p:spPr>
          <a:xfrm>
            <a:off x="3173400" y="1382760"/>
            <a:ext cx="3557520" cy="4537080"/>
          </a:xfrm>
          <a:custGeom>
            <a:avLst/>
            <a:gdLst/>
            <a:ahLst/>
            <a:rect l="l" t="t" r="r" b="b"/>
            <a:pathLst>
              <a:path w="2241" h="2858">
                <a:moveTo>
                  <a:pt x="501" y="2858"/>
                </a:moveTo>
                <a:lnTo>
                  <a:pt x="528" y="2831"/>
                </a:lnTo>
                <a:lnTo>
                  <a:pt x="560" y="2831"/>
                </a:lnTo>
                <a:lnTo>
                  <a:pt x="587" y="2798"/>
                </a:lnTo>
                <a:lnTo>
                  <a:pt x="620" y="2772"/>
                </a:lnTo>
                <a:lnTo>
                  <a:pt x="646" y="2739"/>
                </a:lnTo>
                <a:lnTo>
                  <a:pt x="679" y="2739"/>
                </a:lnTo>
                <a:lnTo>
                  <a:pt x="705" y="2713"/>
                </a:lnTo>
                <a:lnTo>
                  <a:pt x="738" y="2680"/>
                </a:lnTo>
                <a:lnTo>
                  <a:pt x="765" y="2680"/>
                </a:lnTo>
                <a:lnTo>
                  <a:pt x="798" y="2654"/>
                </a:lnTo>
                <a:lnTo>
                  <a:pt x="824" y="2621"/>
                </a:lnTo>
                <a:lnTo>
                  <a:pt x="857" y="2621"/>
                </a:lnTo>
                <a:lnTo>
                  <a:pt x="883" y="2594"/>
                </a:lnTo>
                <a:lnTo>
                  <a:pt x="916" y="2561"/>
                </a:lnTo>
                <a:lnTo>
                  <a:pt x="943" y="2535"/>
                </a:lnTo>
                <a:lnTo>
                  <a:pt x="976" y="2535"/>
                </a:lnTo>
                <a:lnTo>
                  <a:pt x="1002" y="2502"/>
                </a:lnTo>
                <a:lnTo>
                  <a:pt x="1035" y="2476"/>
                </a:lnTo>
                <a:lnTo>
                  <a:pt x="1061" y="2476"/>
                </a:lnTo>
                <a:lnTo>
                  <a:pt x="1094" y="2450"/>
                </a:lnTo>
                <a:lnTo>
                  <a:pt x="1121" y="2417"/>
                </a:lnTo>
                <a:lnTo>
                  <a:pt x="1147" y="2390"/>
                </a:lnTo>
                <a:lnTo>
                  <a:pt x="1180" y="2390"/>
                </a:lnTo>
                <a:lnTo>
                  <a:pt x="1206" y="2357"/>
                </a:lnTo>
                <a:lnTo>
                  <a:pt x="1239" y="2331"/>
                </a:lnTo>
                <a:lnTo>
                  <a:pt x="1266" y="2331"/>
                </a:lnTo>
                <a:lnTo>
                  <a:pt x="1298" y="2298"/>
                </a:lnTo>
                <a:lnTo>
                  <a:pt x="1325" y="2272"/>
                </a:lnTo>
                <a:lnTo>
                  <a:pt x="1358" y="2239"/>
                </a:lnTo>
                <a:lnTo>
                  <a:pt x="1384" y="2239"/>
                </a:lnTo>
                <a:lnTo>
                  <a:pt x="1417" y="2213"/>
                </a:lnTo>
                <a:lnTo>
                  <a:pt x="1443" y="2180"/>
                </a:lnTo>
                <a:lnTo>
                  <a:pt x="1476" y="2180"/>
                </a:lnTo>
                <a:lnTo>
                  <a:pt x="1503" y="2153"/>
                </a:lnTo>
                <a:lnTo>
                  <a:pt x="1536" y="2120"/>
                </a:lnTo>
                <a:lnTo>
                  <a:pt x="1562" y="2094"/>
                </a:lnTo>
                <a:lnTo>
                  <a:pt x="1595" y="2094"/>
                </a:lnTo>
                <a:lnTo>
                  <a:pt x="1621" y="2061"/>
                </a:lnTo>
                <a:lnTo>
                  <a:pt x="1654" y="2035"/>
                </a:lnTo>
                <a:lnTo>
                  <a:pt x="1681" y="2035"/>
                </a:lnTo>
                <a:lnTo>
                  <a:pt x="1714" y="2002"/>
                </a:lnTo>
                <a:lnTo>
                  <a:pt x="1740" y="1976"/>
                </a:lnTo>
                <a:lnTo>
                  <a:pt x="1773" y="1943"/>
                </a:lnTo>
                <a:lnTo>
                  <a:pt x="1799" y="1943"/>
                </a:lnTo>
                <a:lnTo>
                  <a:pt x="1799" y="1916"/>
                </a:lnTo>
                <a:lnTo>
                  <a:pt x="1832" y="1883"/>
                </a:lnTo>
                <a:lnTo>
                  <a:pt x="1859" y="1857"/>
                </a:lnTo>
                <a:lnTo>
                  <a:pt x="1859" y="1824"/>
                </a:lnTo>
                <a:lnTo>
                  <a:pt x="1885" y="1798"/>
                </a:lnTo>
                <a:lnTo>
                  <a:pt x="1918" y="1765"/>
                </a:lnTo>
                <a:lnTo>
                  <a:pt x="1918" y="1739"/>
                </a:lnTo>
                <a:lnTo>
                  <a:pt x="1944" y="1706"/>
                </a:lnTo>
                <a:lnTo>
                  <a:pt x="1977" y="1679"/>
                </a:lnTo>
                <a:lnTo>
                  <a:pt x="1977" y="1653"/>
                </a:lnTo>
                <a:lnTo>
                  <a:pt x="1977" y="1620"/>
                </a:lnTo>
                <a:lnTo>
                  <a:pt x="2004" y="1594"/>
                </a:lnTo>
                <a:lnTo>
                  <a:pt x="2004" y="1561"/>
                </a:lnTo>
                <a:lnTo>
                  <a:pt x="2004" y="1534"/>
                </a:lnTo>
                <a:lnTo>
                  <a:pt x="2037" y="1501"/>
                </a:lnTo>
                <a:lnTo>
                  <a:pt x="2037" y="1475"/>
                </a:lnTo>
                <a:lnTo>
                  <a:pt x="2037" y="1442"/>
                </a:lnTo>
                <a:lnTo>
                  <a:pt x="2037" y="1416"/>
                </a:lnTo>
                <a:lnTo>
                  <a:pt x="2063" y="1383"/>
                </a:lnTo>
                <a:lnTo>
                  <a:pt x="2063" y="1357"/>
                </a:lnTo>
                <a:lnTo>
                  <a:pt x="2063" y="1324"/>
                </a:lnTo>
                <a:lnTo>
                  <a:pt x="2063" y="1297"/>
                </a:lnTo>
                <a:lnTo>
                  <a:pt x="2063" y="1264"/>
                </a:lnTo>
                <a:lnTo>
                  <a:pt x="2063" y="1238"/>
                </a:lnTo>
                <a:lnTo>
                  <a:pt x="2063" y="1205"/>
                </a:lnTo>
                <a:lnTo>
                  <a:pt x="2096" y="1179"/>
                </a:lnTo>
                <a:lnTo>
                  <a:pt x="2096" y="1146"/>
                </a:lnTo>
                <a:lnTo>
                  <a:pt x="2096" y="1120"/>
                </a:lnTo>
                <a:lnTo>
                  <a:pt x="2096" y="1087"/>
                </a:lnTo>
                <a:lnTo>
                  <a:pt x="2096" y="1060"/>
                </a:lnTo>
                <a:lnTo>
                  <a:pt x="2096" y="1027"/>
                </a:lnTo>
                <a:lnTo>
                  <a:pt x="2096" y="1001"/>
                </a:lnTo>
                <a:lnTo>
                  <a:pt x="2122" y="968"/>
                </a:lnTo>
                <a:lnTo>
                  <a:pt x="2122" y="942"/>
                </a:lnTo>
                <a:lnTo>
                  <a:pt x="2122" y="916"/>
                </a:lnTo>
                <a:lnTo>
                  <a:pt x="2122" y="883"/>
                </a:lnTo>
                <a:lnTo>
                  <a:pt x="2122" y="856"/>
                </a:lnTo>
                <a:lnTo>
                  <a:pt x="2122" y="823"/>
                </a:lnTo>
                <a:lnTo>
                  <a:pt x="2122" y="797"/>
                </a:lnTo>
                <a:lnTo>
                  <a:pt x="2155" y="764"/>
                </a:lnTo>
                <a:lnTo>
                  <a:pt x="2155" y="738"/>
                </a:lnTo>
                <a:lnTo>
                  <a:pt x="2155" y="705"/>
                </a:lnTo>
                <a:lnTo>
                  <a:pt x="2155" y="679"/>
                </a:lnTo>
                <a:lnTo>
                  <a:pt x="2155" y="646"/>
                </a:lnTo>
                <a:lnTo>
                  <a:pt x="2155" y="619"/>
                </a:lnTo>
                <a:lnTo>
                  <a:pt x="2155" y="586"/>
                </a:lnTo>
                <a:lnTo>
                  <a:pt x="2181" y="560"/>
                </a:lnTo>
                <a:lnTo>
                  <a:pt x="2181" y="527"/>
                </a:lnTo>
                <a:lnTo>
                  <a:pt x="2181" y="501"/>
                </a:lnTo>
                <a:lnTo>
                  <a:pt x="2181" y="468"/>
                </a:lnTo>
                <a:lnTo>
                  <a:pt x="2181" y="442"/>
                </a:lnTo>
                <a:lnTo>
                  <a:pt x="2181" y="409"/>
                </a:lnTo>
                <a:lnTo>
                  <a:pt x="2181" y="382"/>
                </a:lnTo>
                <a:lnTo>
                  <a:pt x="2214" y="349"/>
                </a:lnTo>
                <a:lnTo>
                  <a:pt x="2214" y="323"/>
                </a:lnTo>
                <a:lnTo>
                  <a:pt x="2214" y="290"/>
                </a:lnTo>
                <a:lnTo>
                  <a:pt x="2214" y="264"/>
                </a:lnTo>
                <a:lnTo>
                  <a:pt x="2214" y="231"/>
                </a:lnTo>
                <a:lnTo>
                  <a:pt x="2214" y="205"/>
                </a:lnTo>
                <a:lnTo>
                  <a:pt x="2214" y="172"/>
                </a:lnTo>
                <a:lnTo>
                  <a:pt x="2241" y="145"/>
                </a:lnTo>
                <a:lnTo>
                  <a:pt x="2241" y="119"/>
                </a:lnTo>
                <a:lnTo>
                  <a:pt x="2241" y="86"/>
                </a:lnTo>
                <a:lnTo>
                  <a:pt x="2241" y="60"/>
                </a:lnTo>
                <a:lnTo>
                  <a:pt x="2241" y="27"/>
                </a:lnTo>
                <a:lnTo>
                  <a:pt x="2241" y="0"/>
                </a:lnTo>
                <a:lnTo>
                  <a:pt x="2214" y="0"/>
                </a:lnTo>
                <a:lnTo>
                  <a:pt x="2181" y="0"/>
                </a:lnTo>
                <a:lnTo>
                  <a:pt x="2155" y="0"/>
                </a:lnTo>
                <a:lnTo>
                  <a:pt x="2122" y="0"/>
                </a:lnTo>
                <a:lnTo>
                  <a:pt x="2096" y="27"/>
                </a:lnTo>
                <a:lnTo>
                  <a:pt x="2063" y="27"/>
                </a:lnTo>
                <a:lnTo>
                  <a:pt x="2037" y="27"/>
                </a:lnTo>
                <a:lnTo>
                  <a:pt x="2004" y="60"/>
                </a:lnTo>
                <a:lnTo>
                  <a:pt x="1977" y="60"/>
                </a:lnTo>
                <a:lnTo>
                  <a:pt x="1944" y="86"/>
                </a:lnTo>
                <a:lnTo>
                  <a:pt x="1918" y="86"/>
                </a:lnTo>
                <a:lnTo>
                  <a:pt x="1885" y="86"/>
                </a:lnTo>
                <a:lnTo>
                  <a:pt x="1859" y="119"/>
                </a:lnTo>
                <a:lnTo>
                  <a:pt x="1832" y="119"/>
                </a:lnTo>
                <a:lnTo>
                  <a:pt x="1799" y="145"/>
                </a:lnTo>
                <a:lnTo>
                  <a:pt x="1773" y="145"/>
                </a:lnTo>
                <a:lnTo>
                  <a:pt x="1740" y="145"/>
                </a:lnTo>
                <a:lnTo>
                  <a:pt x="1714" y="172"/>
                </a:lnTo>
                <a:lnTo>
                  <a:pt x="1681" y="172"/>
                </a:lnTo>
                <a:lnTo>
                  <a:pt x="1654" y="205"/>
                </a:lnTo>
                <a:lnTo>
                  <a:pt x="1621" y="205"/>
                </a:lnTo>
                <a:lnTo>
                  <a:pt x="1595" y="205"/>
                </a:lnTo>
                <a:lnTo>
                  <a:pt x="1562" y="231"/>
                </a:lnTo>
                <a:lnTo>
                  <a:pt x="1536" y="231"/>
                </a:lnTo>
                <a:lnTo>
                  <a:pt x="1503" y="264"/>
                </a:lnTo>
                <a:lnTo>
                  <a:pt x="1476" y="264"/>
                </a:lnTo>
                <a:lnTo>
                  <a:pt x="1443" y="264"/>
                </a:lnTo>
                <a:lnTo>
                  <a:pt x="1417" y="290"/>
                </a:lnTo>
                <a:lnTo>
                  <a:pt x="1384" y="290"/>
                </a:lnTo>
                <a:lnTo>
                  <a:pt x="1358" y="323"/>
                </a:lnTo>
                <a:lnTo>
                  <a:pt x="1325" y="323"/>
                </a:lnTo>
                <a:lnTo>
                  <a:pt x="1298" y="323"/>
                </a:lnTo>
                <a:lnTo>
                  <a:pt x="1266" y="349"/>
                </a:lnTo>
                <a:lnTo>
                  <a:pt x="1239" y="349"/>
                </a:lnTo>
                <a:lnTo>
                  <a:pt x="1206" y="382"/>
                </a:lnTo>
                <a:lnTo>
                  <a:pt x="1180" y="382"/>
                </a:lnTo>
                <a:lnTo>
                  <a:pt x="1147" y="382"/>
                </a:lnTo>
                <a:lnTo>
                  <a:pt x="1121" y="409"/>
                </a:lnTo>
                <a:lnTo>
                  <a:pt x="1094" y="409"/>
                </a:lnTo>
                <a:lnTo>
                  <a:pt x="1061" y="442"/>
                </a:lnTo>
                <a:lnTo>
                  <a:pt x="1035" y="442"/>
                </a:lnTo>
                <a:lnTo>
                  <a:pt x="1002" y="442"/>
                </a:lnTo>
                <a:lnTo>
                  <a:pt x="976" y="468"/>
                </a:lnTo>
                <a:lnTo>
                  <a:pt x="943" y="501"/>
                </a:lnTo>
                <a:lnTo>
                  <a:pt x="916" y="527"/>
                </a:lnTo>
                <a:lnTo>
                  <a:pt x="916" y="560"/>
                </a:lnTo>
                <a:lnTo>
                  <a:pt x="883" y="586"/>
                </a:lnTo>
                <a:lnTo>
                  <a:pt x="857" y="619"/>
                </a:lnTo>
                <a:lnTo>
                  <a:pt x="824" y="646"/>
                </a:lnTo>
                <a:lnTo>
                  <a:pt x="824" y="679"/>
                </a:lnTo>
                <a:lnTo>
                  <a:pt x="798" y="705"/>
                </a:lnTo>
                <a:lnTo>
                  <a:pt x="765" y="738"/>
                </a:lnTo>
                <a:lnTo>
                  <a:pt x="738" y="764"/>
                </a:lnTo>
                <a:lnTo>
                  <a:pt x="738" y="797"/>
                </a:lnTo>
                <a:lnTo>
                  <a:pt x="705" y="823"/>
                </a:lnTo>
                <a:lnTo>
                  <a:pt x="679" y="856"/>
                </a:lnTo>
                <a:lnTo>
                  <a:pt x="646" y="883"/>
                </a:lnTo>
                <a:lnTo>
                  <a:pt x="646" y="916"/>
                </a:lnTo>
                <a:lnTo>
                  <a:pt x="620" y="942"/>
                </a:lnTo>
                <a:lnTo>
                  <a:pt x="587" y="968"/>
                </a:lnTo>
                <a:lnTo>
                  <a:pt x="587" y="1001"/>
                </a:lnTo>
                <a:lnTo>
                  <a:pt x="560" y="1027"/>
                </a:lnTo>
                <a:lnTo>
                  <a:pt x="528" y="1060"/>
                </a:lnTo>
                <a:lnTo>
                  <a:pt x="528" y="1087"/>
                </a:lnTo>
                <a:lnTo>
                  <a:pt x="501" y="1120"/>
                </a:lnTo>
                <a:lnTo>
                  <a:pt x="501" y="1146"/>
                </a:lnTo>
                <a:lnTo>
                  <a:pt x="501" y="1179"/>
                </a:lnTo>
                <a:lnTo>
                  <a:pt x="468" y="1205"/>
                </a:lnTo>
                <a:lnTo>
                  <a:pt x="468" y="1238"/>
                </a:lnTo>
                <a:lnTo>
                  <a:pt x="468" y="1264"/>
                </a:lnTo>
                <a:lnTo>
                  <a:pt x="442" y="1297"/>
                </a:lnTo>
                <a:lnTo>
                  <a:pt x="442" y="1324"/>
                </a:lnTo>
                <a:lnTo>
                  <a:pt x="442" y="1357"/>
                </a:lnTo>
                <a:lnTo>
                  <a:pt x="409" y="1383"/>
                </a:lnTo>
                <a:lnTo>
                  <a:pt x="409" y="1416"/>
                </a:lnTo>
                <a:lnTo>
                  <a:pt x="409" y="1442"/>
                </a:lnTo>
                <a:lnTo>
                  <a:pt x="383" y="1475"/>
                </a:lnTo>
                <a:lnTo>
                  <a:pt x="383" y="1501"/>
                </a:lnTo>
                <a:lnTo>
                  <a:pt x="350" y="1534"/>
                </a:lnTo>
                <a:lnTo>
                  <a:pt x="350" y="1561"/>
                </a:lnTo>
                <a:lnTo>
                  <a:pt x="350" y="1594"/>
                </a:lnTo>
                <a:lnTo>
                  <a:pt x="323" y="1620"/>
                </a:lnTo>
                <a:lnTo>
                  <a:pt x="323" y="1653"/>
                </a:lnTo>
                <a:lnTo>
                  <a:pt x="323" y="1679"/>
                </a:lnTo>
                <a:lnTo>
                  <a:pt x="297" y="1706"/>
                </a:lnTo>
                <a:lnTo>
                  <a:pt x="297" y="1739"/>
                </a:lnTo>
                <a:lnTo>
                  <a:pt x="297" y="1765"/>
                </a:lnTo>
                <a:lnTo>
                  <a:pt x="264" y="1798"/>
                </a:lnTo>
                <a:lnTo>
                  <a:pt x="264" y="1824"/>
                </a:lnTo>
                <a:lnTo>
                  <a:pt x="264" y="1857"/>
                </a:lnTo>
                <a:lnTo>
                  <a:pt x="238" y="1883"/>
                </a:lnTo>
                <a:lnTo>
                  <a:pt x="238" y="1916"/>
                </a:lnTo>
                <a:lnTo>
                  <a:pt x="238" y="1943"/>
                </a:lnTo>
                <a:lnTo>
                  <a:pt x="205" y="1976"/>
                </a:lnTo>
                <a:lnTo>
                  <a:pt x="205" y="2002"/>
                </a:lnTo>
                <a:lnTo>
                  <a:pt x="178" y="2035"/>
                </a:lnTo>
                <a:lnTo>
                  <a:pt x="178" y="2061"/>
                </a:lnTo>
                <a:lnTo>
                  <a:pt x="178" y="2094"/>
                </a:lnTo>
                <a:lnTo>
                  <a:pt x="145" y="2120"/>
                </a:lnTo>
                <a:lnTo>
                  <a:pt x="145" y="2153"/>
                </a:lnTo>
                <a:lnTo>
                  <a:pt x="145" y="2180"/>
                </a:lnTo>
                <a:lnTo>
                  <a:pt x="119" y="2213"/>
                </a:lnTo>
                <a:lnTo>
                  <a:pt x="119" y="2239"/>
                </a:lnTo>
                <a:lnTo>
                  <a:pt x="119" y="2272"/>
                </a:lnTo>
                <a:lnTo>
                  <a:pt x="86" y="2298"/>
                </a:lnTo>
                <a:lnTo>
                  <a:pt x="86" y="2331"/>
                </a:lnTo>
                <a:lnTo>
                  <a:pt x="86" y="2357"/>
                </a:lnTo>
                <a:lnTo>
                  <a:pt x="60" y="2390"/>
                </a:lnTo>
                <a:lnTo>
                  <a:pt x="60" y="2417"/>
                </a:lnTo>
                <a:lnTo>
                  <a:pt x="60" y="2450"/>
                </a:lnTo>
                <a:lnTo>
                  <a:pt x="27" y="2476"/>
                </a:lnTo>
                <a:lnTo>
                  <a:pt x="27" y="2502"/>
                </a:lnTo>
                <a:lnTo>
                  <a:pt x="27" y="2535"/>
                </a:lnTo>
                <a:lnTo>
                  <a:pt x="0" y="2561"/>
                </a:lnTo>
                <a:lnTo>
                  <a:pt x="0" y="2594"/>
                </a:lnTo>
                <a:lnTo>
                  <a:pt x="0" y="2621"/>
                </a:lnTo>
                <a:lnTo>
                  <a:pt x="27" y="2621"/>
                </a:lnTo>
                <a:lnTo>
                  <a:pt x="60" y="2654"/>
                </a:lnTo>
                <a:lnTo>
                  <a:pt x="86" y="2654"/>
                </a:lnTo>
                <a:lnTo>
                  <a:pt x="119" y="2680"/>
                </a:lnTo>
                <a:lnTo>
                  <a:pt x="145" y="2713"/>
                </a:lnTo>
                <a:lnTo>
                  <a:pt x="178" y="2713"/>
                </a:lnTo>
                <a:lnTo>
                  <a:pt x="205" y="2739"/>
                </a:lnTo>
                <a:lnTo>
                  <a:pt x="238" y="2739"/>
                </a:lnTo>
                <a:lnTo>
                  <a:pt x="264" y="2772"/>
                </a:lnTo>
                <a:lnTo>
                  <a:pt x="297" y="2772"/>
                </a:lnTo>
                <a:lnTo>
                  <a:pt x="323" y="2798"/>
                </a:lnTo>
                <a:lnTo>
                  <a:pt x="350" y="2798"/>
                </a:lnTo>
                <a:lnTo>
                  <a:pt x="383" y="2831"/>
                </a:lnTo>
                <a:lnTo>
                  <a:pt x="409" y="2831"/>
                </a:lnTo>
                <a:lnTo>
                  <a:pt x="442" y="2858"/>
                </a:lnTo>
                <a:lnTo>
                  <a:pt x="468" y="2858"/>
                </a:lnTo>
                <a:lnTo>
                  <a:pt x="501" y="2858"/>
                </a:lnTo>
                <a:close/>
                <a:moveTo>
                  <a:pt x="1219" y="2002"/>
                </a:moveTo>
                <a:lnTo>
                  <a:pt x="1219" y="2002"/>
                </a:lnTo>
                <a:lnTo>
                  <a:pt x="1226" y="1995"/>
                </a:lnTo>
                <a:lnTo>
                  <a:pt x="1233" y="1989"/>
                </a:lnTo>
                <a:lnTo>
                  <a:pt x="1239" y="1989"/>
                </a:lnTo>
                <a:lnTo>
                  <a:pt x="1246" y="1989"/>
                </a:lnTo>
                <a:lnTo>
                  <a:pt x="1252" y="1989"/>
                </a:lnTo>
                <a:lnTo>
                  <a:pt x="1259" y="1995"/>
                </a:lnTo>
                <a:lnTo>
                  <a:pt x="1266" y="1995"/>
                </a:lnTo>
                <a:lnTo>
                  <a:pt x="1272" y="2002"/>
                </a:lnTo>
                <a:lnTo>
                  <a:pt x="1272" y="2008"/>
                </a:lnTo>
                <a:lnTo>
                  <a:pt x="1266" y="2008"/>
                </a:lnTo>
                <a:lnTo>
                  <a:pt x="1259" y="2015"/>
                </a:lnTo>
                <a:lnTo>
                  <a:pt x="1252" y="2022"/>
                </a:lnTo>
                <a:lnTo>
                  <a:pt x="1246" y="2022"/>
                </a:lnTo>
                <a:lnTo>
                  <a:pt x="1239" y="2022"/>
                </a:lnTo>
                <a:lnTo>
                  <a:pt x="1239" y="2022"/>
                </a:lnTo>
                <a:lnTo>
                  <a:pt x="1233" y="2022"/>
                </a:lnTo>
                <a:lnTo>
                  <a:pt x="1226" y="2015"/>
                </a:lnTo>
                <a:lnTo>
                  <a:pt x="1219" y="2008"/>
                </a:lnTo>
                <a:lnTo>
                  <a:pt x="1219" y="2002"/>
                </a:lnTo>
                <a:close/>
                <a:moveTo>
                  <a:pt x="1371" y="1976"/>
                </a:moveTo>
                <a:lnTo>
                  <a:pt x="1371" y="1969"/>
                </a:lnTo>
                <a:lnTo>
                  <a:pt x="1378" y="1962"/>
                </a:lnTo>
                <a:lnTo>
                  <a:pt x="1384" y="1956"/>
                </a:lnTo>
                <a:lnTo>
                  <a:pt x="1384" y="1956"/>
                </a:lnTo>
                <a:lnTo>
                  <a:pt x="1391" y="1956"/>
                </a:lnTo>
                <a:lnTo>
                  <a:pt x="1397" y="1956"/>
                </a:lnTo>
                <a:lnTo>
                  <a:pt x="1404" y="1956"/>
                </a:lnTo>
                <a:lnTo>
                  <a:pt x="1404" y="1962"/>
                </a:lnTo>
                <a:lnTo>
                  <a:pt x="1411" y="1969"/>
                </a:lnTo>
                <a:lnTo>
                  <a:pt x="1424" y="1969"/>
                </a:lnTo>
                <a:lnTo>
                  <a:pt x="1424" y="1976"/>
                </a:lnTo>
                <a:lnTo>
                  <a:pt x="1417" y="1976"/>
                </a:lnTo>
                <a:lnTo>
                  <a:pt x="1411" y="1976"/>
                </a:lnTo>
                <a:lnTo>
                  <a:pt x="1404" y="1982"/>
                </a:lnTo>
                <a:lnTo>
                  <a:pt x="1397" y="1982"/>
                </a:lnTo>
                <a:lnTo>
                  <a:pt x="1391" y="1982"/>
                </a:lnTo>
                <a:lnTo>
                  <a:pt x="1384" y="1982"/>
                </a:lnTo>
                <a:lnTo>
                  <a:pt x="1378" y="1976"/>
                </a:lnTo>
                <a:lnTo>
                  <a:pt x="1371" y="1976"/>
                </a:lnTo>
                <a:lnTo>
                  <a:pt x="1371" y="1976"/>
                </a:lnTo>
                <a:close/>
                <a:moveTo>
                  <a:pt x="1259" y="1798"/>
                </a:moveTo>
                <a:lnTo>
                  <a:pt x="1252" y="1785"/>
                </a:lnTo>
                <a:lnTo>
                  <a:pt x="1252" y="1778"/>
                </a:lnTo>
                <a:lnTo>
                  <a:pt x="1252" y="1771"/>
                </a:lnTo>
                <a:lnTo>
                  <a:pt x="1259" y="1765"/>
                </a:lnTo>
                <a:lnTo>
                  <a:pt x="1266" y="1758"/>
                </a:lnTo>
                <a:lnTo>
                  <a:pt x="1272" y="1758"/>
                </a:lnTo>
                <a:lnTo>
                  <a:pt x="1279" y="1758"/>
                </a:lnTo>
                <a:lnTo>
                  <a:pt x="1285" y="1765"/>
                </a:lnTo>
                <a:lnTo>
                  <a:pt x="1292" y="1765"/>
                </a:lnTo>
                <a:lnTo>
                  <a:pt x="1305" y="1771"/>
                </a:lnTo>
                <a:lnTo>
                  <a:pt x="1312" y="1771"/>
                </a:lnTo>
                <a:lnTo>
                  <a:pt x="1318" y="1778"/>
                </a:lnTo>
                <a:lnTo>
                  <a:pt x="1325" y="1778"/>
                </a:lnTo>
                <a:lnTo>
                  <a:pt x="1331" y="1771"/>
                </a:lnTo>
                <a:lnTo>
                  <a:pt x="1338" y="1771"/>
                </a:lnTo>
                <a:lnTo>
                  <a:pt x="1345" y="1765"/>
                </a:lnTo>
                <a:lnTo>
                  <a:pt x="1351" y="1765"/>
                </a:lnTo>
                <a:lnTo>
                  <a:pt x="1358" y="1758"/>
                </a:lnTo>
                <a:lnTo>
                  <a:pt x="1364" y="1758"/>
                </a:lnTo>
                <a:lnTo>
                  <a:pt x="1371" y="1752"/>
                </a:lnTo>
                <a:lnTo>
                  <a:pt x="1378" y="1752"/>
                </a:lnTo>
                <a:lnTo>
                  <a:pt x="1384" y="1745"/>
                </a:lnTo>
                <a:lnTo>
                  <a:pt x="1391" y="1745"/>
                </a:lnTo>
                <a:lnTo>
                  <a:pt x="1397" y="1745"/>
                </a:lnTo>
                <a:lnTo>
                  <a:pt x="1404" y="1739"/>
                </a:lnTo>
                <a:lnTo>
                  <a:pt x="1411" y="1739"/>
                </a:lnTo>
                <a:lnTo>
                  <a:pt x="1417" y="1732"/>
                </a:lnTo>
                <a:lnTo>
                  <a:pt x="1424" y="1732"/>
                </a:lnTo>
                <a:lnTo>
                  <a:pt x="1430" y="1725"/>
                </a:lnTo>
                <a:lnTo>
                  <a:pt x="1437" y="1725"/>
                </a:lnTo>
                <a:lnTo>
                  <a:pt x="1443" y="1725"/>
                </a:lnTo>
                <a:lnTo>
                  <a:pt x="1450" y="1719"/>
                </a:lnTo>
                <a:lnTo>
                  <a:pt x="1457" y="1719"/>
                </a:lnTo>
                <a:lnTo>
                  <a:pt x="1463" y="1712"/>
                </a:lnTo>
                <a:lnTo>
                  <a:pt x="1476" y="1712"/>
                </a:lnTo>
                <a:lnTo>
                  <a:pt x="1483" y="1706"/>
                </a:lnTo>
                <a:lnTo>
                  <a:pt x="1490" y="1706"/>
                </a:lnTo>
                <a:lnTo>
                  <a:pt x="1496" y="1699"/>
                </a:lnTo>
                <a:lnTo>
                  <a:pt x="1503" y="1699"/>
                </a:lnTo>
                <a:lnTo>
                  <a:pt x="1509" y="1699"/>
                </a:lnTo>
                <a:lnTo>
                  <a:pt x="1516" y="1692"/>
                </a:lnTo>
                <a:lnTo>
                  <a:pt x="1523" y="1692"/>
                </a:lnTo>
                <a:lnTo>
                  <a:pt x="1529" y="1686"/>
                </a:lnTo>
                <a:lnTo>
                  <a:pt x="1536" y="1686"/>
                </a:lnTo>
                <a:lnTo>
                  <a:pt x="1542" y="1679"/>
                </a:lnTo>
                <a:lnTo>
                  <a:pt x="1549" y="1679"/>
                </a:lnTo>
                <a:lnTo>
                  <a:pt x="1555" y="1679"/>
                </a:lnTo>
                <a:lnTo>
                  <a:pt x="1562" y="1679"/>
                </a:lnTo>
                <a:lnTo>
                  <a:pt x="1569" y="1679"/>
                </a:lnTo>
                <a:lnTo>
                  <a:pt x="1575" y="1686"/>
                </a:lnTo>
                <a:lnTo>
                  <a:pt x="1582" y="1692"/>
                </a:lnTo>
                <a:lnTo>
                  <a:pt x="1588" y="1699"/>
                </a:lnTo>
                <a:lnTo>
                  <a:pt x="1595" y="1706"/>
                </a:lnTo>
                <a:lnTo>
                  <a:pt x="1595" y="1712"/>
                </a:lnTo>
                <a:lnTo>
                  <a:pt x="1602" y="1719"/>
                </a:lnTo>
                <a:lnTo>
                  <a:pt x="1602" y="1725"/>
                </a:lnTo>
                <a:lnTo>
                  <a:pt x="1602" y="1739"/>
                </a:lnTo>
                <a:lnTo>
                  <a:pt x="1602" y="1745"/>
                </a:lnTo>
                <a:lnTo>
                  <a:pt x="1608" y="1758"/>
                </a:lnTo>
                <a:lnTo>
                  <a:pt x="1608" y="1765"/>
                </a:lnTo>
                <a:lnTo>
                  <a:pt x="1608" y="1771"/>
                </a:lnTo>
                <a:lnTo>
                  <a:pt x="1602" y="1778"/>
                </a:lnTo>
                <a:lnTo>
                  <a:pt x="1595" y="1785"/>
                </a:lnTo>
                <a:lnTo>
                  <a:pt x="1588" y="1785"/>
                </a:lnTo>
                <a:lnTo>
                  <a:pt x="1582" y="1791"/>
                </a:lnTo>
                <a:lnTo>
                  <a:pt x="1575" y="1791"/>
                </a:lnTo>
                <a:lnTo>
                  <a:pt x="1569" y="1791"/>
                </a:lnTo>
                <a:lnTo>
                  <a:pt x="1562" y="1791"/>
                </a:lnTo>
                <a:lnTo>
                  <a:pt x="1549" y="1791"/>
                </a:lnTo>
                <a:lnTo>
                  <a:pt x="1542" y="1791"/>
                </a:lnTo>
                <a:lnTo>
                  <a:pt x="1536" y="1791"/>
                </a:lnTo>
                <a:lnTo>
                  <a:pt x="1529" y="1791"/>
                </a:lnTo>
                <a:lnTo>
                  <a:pt x="1523" y="1791"/>
                </a:lnTo>
                <a:lnTo>
                  <a:pt x="1516" y="1791"/>
                </a:lnTo>
                <a:lnTo>
                  <a:pt x="1509" y="1791"/>
                </a:lnTo>
                <a:lnTo>
                  <a:pt x="1503" y="1791"/>
                </a:lnTo>
                <a:lnTo>
                  <a:pt x="1496" y="1798"/>
                </a:lnTo>
                <a:lnTo>
                  <a:pt x="1490" y="1798"/>
                </a:lnTo>
                <a:lnTo>
                  <a:pt x="1476" y="1798"/>
                </a:lnTo>
                <a:lnTo>
                  <a:pt x="1470" y="1798"/>
                </a:lnTo>
                <a:lnTo>
                  <a:pt x="1463" y="1798"/>
                </a:lnTo>
                <a:lnTo>
                  <a:pt x="1457" y="1798"/>
                </a:lnTo>
                <a:lnTo>
                  <a:pt x="1450" y="1798"/>
                </a:lnTo>
                <a:lnTo>
                  <a:pt x="1443" y="1798"/>
                </a:lnTo>
                <a:lnTo>
                  <a:pt x="1437" y="1798"/>
                </a:lnTo>
                <a:lnTo>
                  <a:pt x="1430" y="1798"/>
                </a:lnTo>
                <a:lnTo>
                  <a:pt x="1424" y="1798"/>
                </a:lnTo>
                <a:lnTo>
                  <a:pt x="1417" y="1798"/>
                </a:lnTo>
                <a:lnTo>
                  <a:pt x="1404" y="1798"/>
                </a:lnTo>
                <a:lnTo>
                  <a:pt x="1397" y="1804"/>
                </a:lnTo>
                <a:lnTo>
                  <a:pt x="1391" y="1804"/>
                </a:lnTo>
                <a:lnTo>
                  <a:pt x="1384" y="1804"/>
                </a:lnTo>
                <a:lnTo>
                  <a:pt x="1378" y="1804"/>
                </a:lnTo>
                <a:lnTo>
                  <a:pt x="1371" y="1804"/>
                </a:lnTo>
                <a:lnTo>
                  <a:pt x="1364" y="1804"/>
                </a:lnTo>
                <a:lnTo>
                  <a:pt x="1358" y="1804"/>
                </a:lnTo>
                <a:lnTo>
                  <a:pt x="1351" y="1804"/>
                </a:lnTo>
                <a:lnTo>
                  <a:pt x="1345" y="1804"/>
                </a:lnTo>
                <a:lnTo>
                  <a:pt x="1338" y="1804"/>
                </a:lnTo>
                <a:lnTo>
                  <a:pt x="1325" y="1804"/>
                </a:lnTo>
                <a:lnTo>
                  <a:pt x="1318" y="1804"/>
                </a:lnTo>
                <a:lnTo>
                  <a:pt x="1312" y="1811"/>
                </a:lnTo>
                <a:lnTo>
                  <a:pt x="1305" y="1811"/>
                </a:lnTo>
                <a:lnTo>
                  <a:pt x="1298" y="1811"/>
                </a:lnTo>
                <a:lnTo>
                  <a:pt x="1292" y="1811"/>
                </a:lnTo>
                <a:lnTo>
                  <a:pt x="1285" y="1804"/>
                </a:lnTo>
                <a:lnTo>
                  <a:pt x="1279" y="1804"/>
                </a:lnTo>
                <a:lnTo>
                  <a:pt x="1272" y="1804"/>
                </a:lnTo>
                <a:lnTo>
                  <a:pt x="1266" y="1798"/>
                </a:lnTo>
                <a:lnTo>
                  <a:pt x="1259" y="1798"/>
                </a:lnTo>
                <a:close/>
                <a:moveTo>
                  <a:pt x="1061" y="1739"/>
                </a:moveTo>
                <a:lnTo>
                  <a:pt x="1061" y="1732"/>
                </a:lnTo>
                <a:lnTo>
                  <a:pt x="1055" y="1719"/>
                </a:lnTo>
                <a:lnTo>
                  <a:pt x="1055" y="1712"/>
                </a:lnTo>
                <a:lnTo>
                  <a:pt x="1055" y="1699"/>
                </a:lnTo>
                <a:lnTo>
                  <a:pt x="1055" y="1686"/>
                </a:lnTo>
                <a:lnTo>
                  <a:pt x="1055" y="1679"/>
                </a:lnTo>
                <a:lnTo>
                  <a:pt x="1061" y="1673"/>
                </a:lnTo>
                <a:lnTo>
                  <a:pt x="1068" y="1673"/>
                </a:lnTo>
                <a:lnTo>
                  <a:pt x="1074" y="1673"/>
                </a:lnTo>
                <a:lnTo>
                  <a:pt x="1088" y="1673"/>
                </a:lnTo>
                <a:lnTo>
                  <a:pt x="1094" y="1673"/>
                </a:lnTo>
                <a:lnTo>
                  <a:pt x="1101" y="1673"/>
                </a:lnTo>
                <a:lnTo>
                  <a:pt x="1107" y="1666"/>
                </a:lnTo>
                <a:lnTo>
                  <a:pt x="1114" y="1666"/>
                </a:lnTo>
                <a:lnTo>
                  <a:pt x="1121" y="1660"/>
                </a:lnTo>
                <a:lnTo>
                  <a:pt x="1127" y="1660"/>
                </a:lnTo>
                <a:lnTo>
                  <a:pt x="1140" y="1666"/>
                </a:lnTo>
                <a:lnTo>
                  <a:pt x="1147" y="1666"/>
                </a:lnTo>
                <a:lnTo>
                  <a:pt x="1154" y="1666"/>
                </a:lnTo>
                <a:lnTo>
                  <a:pt x="1160" y="1666"/>
                </a:lnTo>
                <a:lnTo>
                  <a:pt x="1167" y="1673"/>
                </a:lnTo>
                <a:lnTo>
                  <a:pt x="1173" y="1673"/>
                </a:lnTo>
                <a:lnTo>
                  <a:pt x="1186" y="1673"/>
                </a:lnTo>
                <a:lnTo>
                  <a:pt x="1193" y="1673"/>
                </a:lnTo>
                <a:lnTo>
                  <a:pt x="1200" y="1679"/>
                </a:lnTo>
                <a:lnTo>
                  <a:pt x="1200" y="1686"/>
                </a:lnTo>
                <a:lnTo>
                  <a:pt x="1206" y="1699"/>
                </a:lnTo>
                <a:lnTo>
                  <a:pt x="1206" y="1706"/>
                </a:lnTo>
                <a:lnTo>
                  <a:pt x="1206" y="1719"/>
                </a:lnTo>
                <a:lnTo>
                  <a:pt x="1206" y="1725"/>
                </a:lnTo>
                <a:lnTo>
                  <a:pt x="1200" y="1739"/>
                </a:lnTo>
                <a:lnTo>
                  <a:pt x="1193" y="1739"/>
                </a:lnTo>
                <a:lnTo>
                  <a:pt x="1186" y="1745"/>
                </a:lnTo>
                <a:lnTo>
                  <a:pt x="1180" y="1752"/>
                </a:lnTo>
                <a:lnTo>
                  <a:pt x="1173" y="1752"/>
                </a:lnTo>
                <a:lnTo>
                  <a:pt x="1167" y="1758"/>
                </a:lnTo>
                <a:lnTo>
                  <a:pt x="1160" y="1765"/>
                </a:lnTo>
                <a:lnTo>
                  <a:pt x="1147" y="1765"/>
                </a:lnTo>
                <a:lnTo>
                  <a:pt x="1140" y="1765"/>
                </a:lnTo>
                <a:lnTo>
                  <a:pt x="1134" y="1771"/>
                </a:lnTo>
                <a:lnTo>
                  <a:pt x="1127" y="1771"/>
                </a:lnTo>
                <a:lnTo>
                  <a:pt x="1121" y="1765"/>
                </a:lnTo>
                <a:lnTo>
                  <a:pt x="1114" y="1765"/>
                </a:lnTo>
                <a:lnTo>
                  <a:pt x="1101" y="1765"/>
                </a:lnTo>
                <a:lnTo>
                  <a:pt x="1094" y="1758"/>
                </a:lnTo>
                <a:lnTo>
                  <a:pt x="1088" y="1758"/>
                </a:lnTo>
                <a:lnTo>
                  <a:pt x="1081" y="1758"/>
                </a:lnTo>
                <a:lnTo>
                  <a:pt x="1074" y="1752"/>
                </a:lnTo>
                <a:lnTo>
                  <a:pt x="1068" y="1745"/>
                </a:lnTo>
                <a:lnTo>
                  <a:pt x="1061" y="1739"/>
                </a:lnTo>
                <a:close/>
                <a:moveTo>
                  <a:pt x="1285" y="1620"/>
                </a:moveTo>
                <a:lnTo>
                  <a:pt x="1292" y="1613"/>
                </a:lnTo>
                <a:lnTo>
                  <a:pt x="1292" y="1613"/>
                </a:lnTo>
                <a:lnTo>
                  <a:pt x="1298" y="1607"/>
                </a:lnTo>
                <a:lnTo>
                  <a:pt x="1305" y="1600"/>
                </a:lnTo>
                <a:lnTo>
                  <a:pt x="1312" y="1600"/>
                </a:lnTo>
                <a:lnTo>
                  <a:pt x="1312" y="1594"/>
                </a:lnTo>
                <a:lnTo>
                  <a:pt x="1318" y="1587"/>
                </a:lnTo>
                <a:lnTo>
                  <a:pt x="1325" y="1587"/>
                </a:lnTo>
                <a:lnTo>
                  <a:pt x="1331" y="1587"/>
                </a:lnTo>
                <a:lnTo>
                  <a:pt x="1338" y="1587"/>
                </a:lnTo>
                <a:lnTo>
                  <a:pt x="1345" y="1581"/>
                </a:lnTo>
                <a:lnTo>
                  <a:pt x="1351" y="1581"/>
                </a:lnTo>
                <a:lnTo>
                  <a:pt x="1358" y="1587"/>
                </a:lnTo>
                <a:lnTo>
                  <a:pt x="1364" y="1587"/>
                </a:lnTo>
                <a:lnTo>
                  <a:pt x="1364" y="1587"/>
                </a:lnTo>
                <a:lnTo>
                  <a:pt x="1371" y="1587"/>
                </a:lnTo>
                <a:lnTo>
                  <a:pt x="1378" y="1587"/>
                </a:lnTo>
                <a:lnTo>
                  <a:pt x="1384" y="1587"/>
                </a:lnTo>
                <a:lnTo>
                  <a:pt x="1391" y="1594"/>
                </a:lnTo>
                <a:lnTo>
                  <a:pt x="1391" y="1594"/>
                </a:lnTo>
                <a:lnTo>
                  <a:pt x="1378" y="1594"/>
                </a:lnTo>
                <a:lnTo>
                  <a:pt x="1371" y="1594"/>
                </a:lnTo>
                <a:lnTo>
                  <a:pt x="1371" y="1600"/>
                </a:lnTo>
                <a:lnTo>
                  <a:pt x="1364" y="1600"/>
                </a:lnTo>
                <a:lnTo>
                  <a:pt x="1358" y="1600"/>
                </a:lnTo>
                <a:lnTo>
                  <a:pt x="1351" y="1600"/>
                </a:lnTo>
                <a:lnTo>
                  <a:pt x="1345" y="1600"/>
                </a:lnTo>
                <a:lnTo>
                  <a:pt x="1338" y="1607"/>
                </a:lnTo>
                <a:lnTo>
                  <a:pt x="1331" y="1607"/>
                </a:lnTo>
                <a:lnTo>
                  <a:pt x="1325" y="1613"/>
                </a:lnTo>
                <a:lnTo>
                  <a:pt x="1325" y="1613"/>
                </a:lnTo>
                <a:lnTo>
                  <a:pt x="1318" y="1620"/>
                </a:lnTo>
                <a:lnTo>
                  <a:pt x="1312" y="1627"/>
                </a:lnTo>
                <a:lnTo>
                  <a:pt x="1305" y="1627"/>
                </a:lnTo>
                <a:lnTo>
                  <a:pt x="1298" y="1627"/>
                </a:lnTo>
                <a:lnTo>
                  <a:pt x="1292" y="1627"/>
                </a:lnTo>
                <a:lnTo>
                  <a:pt x="1292" y="1627"/>
                </a:lnTo>
                <a:lnTo>
                  <a:pt x="1285" y="1620"/>
                </a:lnTo>
                <a:close/>
                <a:moveTo>
                  <a:pt x="705" y="1475"/>
                </a:moveTo>
                <a:lnTo>
                  <a:pt x="705" y="1469"/>
                </a:lnTo>
                <a:lnTo>
                  <a:pt x="705" y="1462"/>
                </a:lnTo>
                <a:lnTo>
                  <a:pt x="705" y="1462"/>
                </a:lnTo>
                <a:lnTo>
                  <a:pt x="699" y="1455"/>
                </a:lnTo>
                <a:lnTo>
                  <a:pt x="699" y="1449"/>
                </a:lnTo>
                <a:lnTo>
                  <a:pt x="705" y="1449"/>
                </a:lnTo>
                <a:lnTo>
                  <a:pt x="705" y="1442"/>
                </a:lnTo>
                <a:lnTo>
                  <a:pt x="705" y="1436"/>
                </a:lnTo>
                <a:lnTo>
                  <a:pt x="705" y="1429"/>
                </a:lnTo>
                <a:lnTo>
                  <a:pt x="712" y="1436"/>
                </a:lnTo>
                <a:lnTo>
                  <a:pt x="712" y="1436"/>
                </a:lnTo>
                <a:lnTo>
                  <a:pt x="712" y="1442"/>
                </a:lnTo>
                <a:lnTo>
                  <a:pt x="712" y="1449"/>
                </a:lnTo>
                <a:lnTo>
                  <a:pt x="712" y="1449"/>
                </a:lnTo>
                <a:lnTo>
                  <a:pt x="712" y="1455"/>
                </a:lnTo>
                <a:lnTo>
                  <a:pt x="712" y="1462"/>
                </a:lnTo>
                <a:lnTo>
                  <a:pt x="712" y="1462"/>
                </a:lnTo>
                <a:lnTo>
                  <a:pt x="712" y="1469"/>
                </a:lnTo>
                <a:lnTo>
                  <a:pt x="705" y="1475"/>
                </a:lnTo>
                <a:lnTo>
                  <a:pt x="705" y="1475"/>
                </a:lnTo>
                <a:close/>
                <a:moveTo>
                  <a:pt x="929" y="1264"/>
                </a:moveTo>
                <a:lnTo>
                  <a:pt x="929" y="1258"/>
                </a:lnTo>
                <a:lnTo>
                  <a:pt x="929" y="1258"/>
                </a:lnTo>
                <a:lnTo>
                  <a:pt x="929" y="1251"/>
                </a:lnTo>
                <a:lnTo>
                  <a:pt x="936" y="1245"/>
                </a:lnTo>
                <a:lnTo>
                  <a:pt x="936" y="1238"/>
                </a:lnTo>
                <a:lnTo>
                  <a:pt x="936" y="1238"/>
                </a:lnTo>
                <a:lnTo>
                  <a:pt x="943" y="1232"/>
                </a:lnTo>
                <a:lnTo>
                  <a:pt x="943" y="1232"/>
                </a:lnTo>
                <a:lnTo>
                  <a:pt x="949" y="1238"/>
                </a:lnTo>
                <a:lnTo>
                  <a:pt x="949" y="1245"/>
                </a:lnTo>
                <a:lnTo>
                  <a:pt x="956" y="1251"/>
                </a:lnTo>
                <a:lnTo>
                  <a:pt x="956" y="1258"/>
                </a:lnTo>
                <a:lnTo>
                  <a:pt x="956" y="1264"/>
                </a:lnTo>
                <a:lnTo>
                  <a:pt x="956" y="1264"/>
                </a:lnTo>
                <a:lnTo>
                  <a:pt x="949" y="1271"/>
                </a:lnTo>
                <a:lnTo>
                  <a:pt x="943" y="1271"/>
                </a:lnTo>
                <a:lnTo>
                  <a:pt x="943" y="1271"/>
                </a:lnTo>
                <a:lnTo>
                  <a:pt x="936" y="1271"/>
                </a:lnTo>
                <a:lnTo>
                  <a:pt x="936" y="1271"/>
                </a:lnTo>
                <a:lnTo>
                  <a:pt x="929" y="1264"/>
                </a:lnTo>
                <a:close/>
                <a:moveTo>
                  <a:pt x="1140" y="1205"/>
                </a:moveTo>
                <a:lnTo>
                  <a:pt x="1147" y="1199"/>
                </a:lnTo>
                <a:lnTo>
                  <a:pt x="1147" y="1199"/>
                </a:lnTo>
                <a:lnTo>
                  <a:pt x="1147" y="1192"/>
                </a:lnTo>
                <a:lnTo>
                  <a:pt x="1154" y="1192"/>
                </a:lnTo>
                <a:lnTo>
                  <a:pt x="1160" y="1199"/>
                </a:lnTo>
                <a:lnTo>
                  <a:pt x="1167" y="1199"/>
                </a:lnTo>
                <a:lnTo>
                  <a:pt x="1167" y="1205"/>
                </a:lnTo>
                <a:lnTo>
                  <a:pt x="1167" y="1205"/>
                </a:lnTo>
                <a:lnTo>
                  <a:pt x="1167" y="1212"/>
                </a:lnTo>
                <a:lnTo>
                  <a:pt x="1160" y="1212"/>
                </a:lnTo>
                <a:lnTo>
                  <a:pt x="1160" y="1212"/>
                </a:lnTo>
                <a:lnTo>
                  <a:pt x="1154" y="1212"/>
                </a:lnTo>
                <a:lnTo>
                  <a:pt x="1147" y="1212"/>
                </a:lnTo>
                <a:lnTo>
                  <a:pt x="1140" y="1205"/>
                </a:lnTo>
                <a:close/>
                <a:moveTo>
                  <a:pt x="501" y="2858"/>
                </a:moveTo>
                <a:lnTo>
                  <a:pt x="528" y="2831"/>
                </a:lnTo>
                <a:lnTo>
                  <a:pt x="560" y="2831"/>
                </a:lnTo>
                <a:lnTo>
                  <a:pt x="587" y="2798"/>
                </a:lnTo>
                <a:lnTo>
                  <a:pt x="620" y="2772"/>
                </a:lnTo>
                <a:lnTo>
                  <a:pt x="646" y="2739"/>
                </a:lnTo>
                <a:lnTo>
                  <a:pt x="679" y="2739"/>
                </a:lnTo>
                <a:lnTo>
                  <a:pt x="705" y="2713"/>
                </a:lnTo>
                <a:lnTo>
                  <a:pt x="738" y="2680"/>
                </a:lnTo>
                <a:lnTo>
                  <a:pt x="765" y="2680"/>
                </a:lnTo>
                <a:lnTo>
                  <a:pt x="798" y="2654"/>
                </a:lnTo>
                <a:lnTo>
                  <a:pt x="824" y="2621"/>
                </a:lnTo>
                <a:lnTo>
                  <a:pt x="857" y="2621"/>
                </a:lnTo>
                <a:lnTo>
                  <a:pt x="883" y="2594"/>
                </a:lnTo>
                <a:lnTo>
                  <a:pt x="916" y="2561"/>
                </a:lnTo>
                <a:lnTo>
                  <a:pt x="943" y="2535"/>
                </a:lnTo>
                <a:lnTo>
                  <a:pt x="976" y="2535"/>
                </a:lnTo>
                <a:lnTo>
                  <a:pt x="1002" y="2502"/>
                </a:lnTo>
                <a:lnTo>
                  <a:pt x="1035" y="2476"/>
                </a:lnTo>
                <a:lnTo>
                  <a:pt x="1061" y="2476"/>
                </a:lnTo>
                <a:lnTo>
                  <a:pt x="1094" y="2450"/>
                </a:lnTo>
                <a:lnTo>
                  <a:pt x="1121" y="2417"/>
                </a:lnTo>
                <a:lnTo>
                  <a:pt x="1147" y="2390"/>
                </a:lnTo>
                <a:lnTo>
                  <a:pt x="1180" y="2390"/>
                </a:lnTo>
                <a:lnTo>
                  <a:pt x="1206" y="2357"/>
                </a:lnTo>
                <a:lnTo>
                  <a:pt x="1239" y="2331"/>
                </a:lnTo>
                <a:lnTo>
                  <a:pt x="1266" y="2331"/>
                </a:lnTo>
                <a:lnTo>
                  <a:pt x="1298" y="2298"/>
                </a:lnTo>
                <a:lnTo>
                  <a:pt x="1325" y="2272"/>
                </a:lnTo>
                <a:lnTo>
                  <a:pt x="1358" y="2239"/>
                </a:lnTo>
                <a:lnTo>
                  <a:pt x="1384" y="2239"/>
                </a:lnTo>
                <a:lnTo>
                  <a:pt x="1417" y="2213"/>
                </a:lnTo>
                <a:lnTo>
                  <a:pt x="1443" y="2180"/>
                </a:lnTo>
                <a:lnTo>
                  <a:pt x="1476" y="2180"/>
                </a:lnTo>
                <a:lnTo>
                  <a:pt x="1503" y="2153"/>
                </a:lnTo>
                <a:lnTo>
                  <a:pt x="1536" y="2120"/>
                </a:lnTo>
                <a:lnTo>
                  <a:pt x="1562" y="2094"/>
                </a:lnTo>
                <a:lnTo>
                  <a:pt x="1595" y="2094"/>
                </a:lnTo>
                <a:lnTo>
                  <a:pt x="1621" y="2061"/>
                </a:lnTo>
                <a:lnTo>
                  <a:pt x="1654" y="2035"/>
                </a:lnTo>
                <a:lnTo>
                  <a:pt x="1681" y="2035"/>
                </a:lnTo>
                <a:lnTo>
                  <a:pt x="1714" y="2002"/>
                </a:lnTo>
                <a:lnTo>
                  <a:pt x="1740" y="1976"/>
                </a:lnTo>
                <a:lnTo>
                  <a:pt x="1773" y="1943"/>
                </a:lnTo>
                <a:lnTo>
                  <a:pt x="1799" y="1943"/>
                </a:lnTo>
                <a:lnTo>
                  <a:pt x="1799" y="1916"/>
                </a:lnTo>
                <a:lnTo>
                  <a:pt x="1832" y="1883"/>
                </a:lnTo>
                <a:lnTo>
                  <a:pt x="1859" y="1857"/>
                </a:lnTo>
                <a:lnTo>
                  <a:pt x="1859" y="1824"/>
                </a:lnTo>
                <a:lnTo>
                  <a:pt x="1885" y="1798"/>
                </a:lnTo>
                <a:lnTo>
                  <a:pt x="1918" y="1765"/>
                </a:lnTo>
                <a:lnTo>
                  <a:pt x="1918" y="1739"/>
                </a:lnTo>
                <a:lnTo>
                  <a:pt x="1944" y="1706"/>
                </a:lnTo>
                <a:lnTo>
                  <a:pt x="1977" y="1679"/>
                </a:lnTo>
                <a:lnTo>
                  <a:pt x="1977" y="1653"/>
                </a:lnTo>
                <a:lnTo>
                  <a:pt x="1977" y="1620"/>
                </a:lnTo>
                <a:lnTo>
                  <a:pt x="2004" y="1594"/>
                </a:lnTo>
                <a:lnTo>
                  <a:pt x="2004" y="1561"/>
                </a:lnTo>
                <a:lnTo>
                  <a:pt x="2004" y="1534"/>
                </a:lnTo>
                <a:lnTo>
                  <a:pt x="2037" y="1501"/>
                </a:lnTo>
                <a:lnTo>
                  <a:pt x="2037" y="1475"/>
                </a:lnTo>
                <a:lnTo>
                  <a:pt x="2037" y="1442"/>
                </a:lnTo>
                <a:lnTo>
                  <a:pt x="2037" y="1416"/>
                </a:lnTo>
                <a:lnTo>
                  <a:pt x="2063" y="1383"/>
                </a:lnTo>
                <a:lnTo>
                  <a:pt x="2063" y="1357"/>
                </a:lnTo>
                <a:lnTo>
                  <a:pt x="2063" y="1324"/>
                </a:lnTo>
                <a:lnTo>
                  <a:pt x="2063" y="1297"/>
                </a:lnTo>
                <a:lnTo>
                  <a:pt x="2063" y="1264"/>
                </a:lnTo>
                <a:lnTo>
                  <a:pt x="2063" y="1238"/>
                </a:lnTo>
                <a:lnTo>
                  <a:pt x="2063" y="1205"/>
                </a:lnTo>
                <a:lnTo>
                  <a:pt x="2096" y="1179"/>
                </a:lnTo>
                <a:lnTo>
                  <a:pt x="2096" y="1146"/>
                </a:lnTo>
                <a:lnTo>
                  <a:pt x="2096" y="1120"/>
                </a:lnTo>
                <a:lnTo>
                  <a:pt x="2096" y="1087"/>
                </a:lnTo>
                <a:lnTo>
                  <a:pt x="2096" y="1060"/>
                </a:lnTo>
                <a:lnTo>
                  <a:pt x="2096" y="1027"/>
                </a:lnTo>
                <a:lnTo>
                  <a:pt x="2096" y="1001"/>
                </a:lnTo>
                <a:lnTo>
                  <a:pt x="2122" y="968"/>
                </a:lnTo>
                <a:lnTo>
                  <a:pt x="2122" y="942"/>
                </a:lnTo>
                <a:lnTo>
                  <a:pt x="2122" y="916"/>
                </a:lnTo>
                <a:lnTo>
                  <a:pt x="2122" y="883"/>
                </a:lnTo>
                <a:lnTo>
                  <a:pt x="2122" y="856"/>
                </a:lnTo>
                <a:lnTo>
                  <a:pt x="2122" y="823"/>
                </a:lnTo>
                <a:lnTo>
                  <a:pt x="2122" y="797"/>
                </a:lnTo>
                <a:lnTo>
                  <a:pt x="2155" y="764"/>
                </a:lnTo>
                <a:lnTo>
                  <a:pt x="2155" y="738"/>
                </a:lnTo>
                <a:lnTo>
                  <a:pt x="2155" y="705"/>
                </a:lnTo>
                <a:lnTo>
                  <a:pt x="2155" y="679"/>
                </a:lnTo>
                <a:lnTo>
                  <a:pt x="2155" y="646"/>
                </a:lnTo>
                <a:lnTo>
                  <a:pt x="2155" y="619"/>
                </a:lnTo>
                <a:lnTo>
                  <a:pt x="2155" y="586"/>
                </a:lnTo>
                <a:lnTo>
                  <a:pt x="2181" y="560"/>
                </a:lnTo>
                <a:lnTo>
                  <a:pt x="2181" y="527"/>
                </a:lnTo>
                <a:lnTo>
                  <a:pt x="2181" y="501"/>
                </a:lnTo>
                <a:lnTo>
                  <a:pt x="2181" y="468"/>
                </a:lnTo>
                <a:lnTo>
                  <a:pt x="2181" y="442"/>
                </a:lnTo>
                <a:lnTo>
                  <a:pt x="2181" y="409"/>
                </a:lnTo>
                <a:lnTo>
                  <a:pt x="2181" y="382"/>
                </a:lnTo>
                <a:lnTo>
                  <a:pt x="2214" y="349"/>
                </a:lnTo>
                <a:lnTo>
                  <a:pt x="2214" y="323"/>
                </a:lnTo>
                <a:lnTo>
                  <a:pt x="2214" y="290"/>
                </a:lnTo>
                <a:lnTo>
                  <a:pt x="2214" y="264"/>
                </a:lnTo>
                <a:lnTo>
                  <a:pt x="2214" y="231"/>
                </a:lnTo>
                <a:lnTo>
                  <a:pt x="2214" y="205"/>
                </a:lnTo>
                <a:lnTo>
                  <a:pt x="2214" y="172"/>
                </a:lnTo>
                <a:lnTo>
                  <a:pt x="2241" y="145"/>
                </a:lnTo>
                <a:lnTo>
                  <a:pt x="2241" y="119"/>
                </a:lnTo>
                <a:lnTo>
                  <a:pt x="2241" y="86"/>
                </a:lnTo>
                <a:lnTo>
                  <a:pt x="2241" y="60"/>
                </a:lnTo>
                <a:lnTo>
                  <a:pt x="2241" y="27"/>
                </a:lnTo>
                <a:lnTo>
                  <a:pt x="2241" y="0"/>
                </a:lnTo>
                <a:lnTo>
                  <a:pt x="2214" y="0"/>
                </a:lnTo>
                <a:lnTo>
                  <a:pt x="2181" y="0"/>
                </a:lnTo>
                <a:lnTo>
                  <a:pt x="2155" y="0"/>
                </a:lnTo>
                <a:lnTo>
                  <a:pt x="2122" y="0"/>
                </a:lnTo>
                <a:lnTo>
                  <a:pt x="2096" y="27"/>
                </a:lnTo>
                <a:lnTo>
                  <a:pt x="2063" y="27"/>
                </a:lnTo>
                <a:lnTo>
                  <a:pt x="2037" y="27"/>
                </a:lnTo>
                <a:lnTo>
                  <a:pt x="2004" y="60"/>
                </a:lnTo>
                <a:lnTo>
                  <a:pt x="1977" y="60"/>
                </a:lnTo>
                <a:lnTo>
                  <a:pt x="1944" y="86"/>
                </a:lnTo>
                <a:lnTo>
                  <a:pt x="1918" y="86"/>
                </a:lnTo>
                <a:lnTo>
                  <a:pt x="1885" y="86"/>
                </a:lnTo>
                <a:lnTo>
                  <a:pt x="1859" y="119"/>
                </a:lnTo>
                <a:lnTo>
                  <a:pt x="1832" y="119"/>
                </a:lnTo>
                <a:lnTo>
                  <a:pt x="1799" y="145"/>
                </a:lnTo>
                <a:lnTo>
                  <a:pt x="1773" y="145"/>
                </a:lnTo>
                <a:lnTo>
                  <a:pt x="1740" y="145"/>
                </a:lnTo>
                <a:lnTo>
                  <a:pt x="1714" y="172"/>
                </a:lnTo>
                <a:lnTo>
                  <a:pt x="1681" y="172"/>
                </a:lnTo>
                <a:lnTo>
                  <a:pt x="1654" y="205"/>
                </a:lnTo>
                <a:lnTo>
                  <a:pt x="1621" y="205"/>
                </a:lnTo>
                <a:lnTo>
                  <a:pt x="1595" y="205"/>
                </a:lnTo>
                <a:lnTo>
                  <a:pt x="1562" y="231"/>
                </a:lnTo>
                <a:lnTo>
                  <a:pt x="1536" y="231"/>
                </a:lnTo>
                <a:lnTo>
                  <a:pt x="1503" y="264"/>
                </a:lnTo>
                <a:lnTo>
                  <a:pt x="1476" y="264"/>
                </a:lnTo>
                <a:lnTo>
                  <a:pt x="1443" y="264"/>
                </a:lnTo>
                <a:lnTo>
                  <a:pt x="1417" y="290"/>
                </a:lnTo>
                <a:lnTo>
                  <a:pt x="1384" y="290"/>
                </a:lnTo>
                <a:lnTo>
                  <a:pt x="1358" y="323"/>
                </a:lnTo>
                <a:lnTo>
                  <a:pt x="1325" y="323"/>
                </a:lnTo>
                <a:lnTo>
                  <a:pt x="1298" y="323"/>
                </a:lnTo>
                <a:lnTo>
                  <a:pt x="1266" y="349"/>
                </a:lnTo>
                <a:lnTo>
                  <a:pt x="1239" y="349"/>
                </a:lnTo>
                <a:lnTo>
                  <a:pt x="1206" y="382"/>
                </a:lnTo>
                <a:lnTo>
                  <a:pt x="1180" y="382"/>
                </a:lnTo>
                <a:lnTo>
                  <a:pt x="1147" y="382"/>
                </a:lnTo>
                <a:lnTo>
                  <a:pt x="1121" y="409"/>
                </a:lnTo>
                <a:lnTo>
                  <a:pt x="1094" y="409"/>
                </a:lnTo>
                <a:lnTo>
                  <a:pt x="1061" y="442"/>
                </a:lnTo>
                <a:lnTo>
                  <a:pt x="1035" y="442"/>
                </a:lnTo>
                <a:lnTo>
                  <a:pt x="1002" y="442"/>
                </a:lnTo>
                <a:lnTo>
                  <a:pt x="976" y="468"/>
                </a:lnTo>
                <a:lnTo>
                  <a:pt x="943" y="501"/>
                </a:lnTo>
                <a:lnTo>
                  <a:pt x="916" y="527"/>
                </a:lnTo>
                <a:lnTo>
                  <a:pt x="916" y="560"/>
                </a:lnTo>
                <a:lnTo>
                  <a:pt x="883" y="586"/>
                </a:lnTo>
                <a:lnTo>
                  <a:pt x="857" y="619"/>
                </a:lnTo>
                <a:lnTo>
                  <a:pt x="824" y="646"/>
                </a:lnTo>
                <a:lnTo>
                  <a:pt x="824" y="679"/>
                </a:lnTo>
                <a:lnTo>
                  <a:pt x="798" y="705"/>
                </a:lnTo>
                <a:lnTo>
                  <a:pt x="765" y="738"/>
                </a:lnTo>
                <a:lnTo>
                  <a:pt x="738" y="764"/>
                </a:lnTo>
                <a:lnTo>
                  <a:pt x="738" y="797"/>
                </a:lnTo>
                <a:lnTo>
                  <a:pt x="705" y="823"/>
                </a:lnTo>
                <a:lnTo>
                  <a:pt x="679" y="856"/>
                </a:lnTo>
                <a:lnTo>
                  <a:pt x="646" y="883"/>
                </a:lnTo>
                <a:lnTo>
                  <a:pt x="646" y="916"/>
                </a:lnTo>
                <a:lnTo>
                  <a:pt x="620" y="942"/>
                </a:lnTo>
                <a:lnTo>
                  <a:pt x="587" y="968"/>
                </a:lnTo>
                <a:lnTo>
                  <a:pt x="587" y="1001"/>
                </a:lnTo>
                <a:lnTo>
                  <a:pt x="560" y="1027"/>
                </a:lnTo>
                <a:lnTo>
                  <a:pt x="528" y="1060"/>
                </a:lnTo>
                <a:lnTo>
                  <a:pt x="528" y="1087"/>
                </a:lnTo>
                <a:lnTo>
                  <a:pt x="501" y="1120"/>
                </a:lnTo>
                <a:lnTo>
                  <a:pt x="501" y="1146"/>
                </a:lnTo>
                <a:lnTo>
                  <a:pt x="501" y="1179"/>
                </a:lnTo>
                <a:lnTo>
                  <a:pt x="468" y="1205"/>
                </a:lnTo>
                <a:lnTo>
                  <a:pt x="468" y="1238"/>
                </a:lnTo>
                <a:lnTo>
                  <a:pt x="468" y="1264"/>
                </a:lnTo>
                <a:lnTo>
                  <a:pt x="442" y="1297"/>
                </a:lnTo>
                <a:lnTo>
                  <a:pt x="442" y="1324"/>
                </a:lnTo>
                <a:lnTo>
                  <a:pt x="442" y="1357"/>
                </a:lnTo>
                <a:lnTo>
                  <a:pt x="409" y="1383"/>
                </a:lnTo>
                <a:lnTo>
                  <a:pt x="409" y="1416"/>
                </a:lnTo>
                <a:lnTo>
                  <a:pt x="409" y="1442"/>
                </a:lnTo>
                <a:lnTo>
                  <a:pt x="383" y="1475"/>
                </a:lnTo>
                <a:lnTo>
                  <a:pt x="383" y="1501"/>
                </a:lnTo>
                <a:lnTo>
                  <a:pt x="350" y="1534"/>
                </a:lnTo>
                <a:lnTo>
                  <a:pt x="350" y="1561"/>
                </a:lnTo>
                <a:lnTo>
                  <a:pt x="350" y="1594"/>
                </a:lnTo>
                <a:lnTo>
                  <a:pt x="323" y="1620"/>
                </a:lnTo>
                <a:lnTo>
                  <a:pt x="323" y="1653"/>
                </a:lnTo>
                <a:lnTo>
                  <a:pt x="323" y="1679"/>
                </a:lnTo>
                <a:lnTo>
                  <a:pt x="297" y="1706"/>
                </a:lnTo>
                <a:lnTo>
                  <a:pt x="297" y="1739"/>
                </a:lnTo>
                <a:lnTo>
                  <a:pt x="297" y="1765"/>
                </a:lnTo>
                <a:lnTo>
                  <a:pt x="264" y="1798"/>
                </a:lnTo>
                <a:lnTo>
                  <a:pt x="264" y="1824"/>
                </a:lnTo>
                <a:lnTo>
                  <a:pt x="264" y="1857"/>
                </a:lnTo>
                <a:lnTo>
                  <a:pt x="238" y="1883"/>
                </a:lnTo>
                <a:lnTo>
                  <a:pt x="238" y="1916"/>
                </a:lnTo>
                <a:lnTo>
                  <a:pt x="238" y="1943"/>
                </a:lnTo>
                <a:lnTo>
                  <a:pt x="205" y="1976"/>
                </a:lnTo>
                <a:lnTo>
                  <a:pt x="205" y="2002"/>
                </a:lnTo>
                <a:lnTo>
                  <a:pt x="178" y="2035"/>
                </a:lnTo>
                <a:lnTo>
                  <a:pt x="178" y="2061"/>
                </a:lnTo>
                <a:lnTo>
                  <a:pt x="178" y="2094"/>
                </a:lnTo>
                <a:lnTo>
                  <a:pt x="145" y="2120"/>
                </a:lnTo>
                <a:lnTo>
                  <a:pt x="145" y="2153"/>
                </a:lnTo>
                <a:lnTo>
                  <a:pt x="145" y="2180"/>
                </a:lnTo>
                <a:lnTo>
                  <a:pt x="119" y="2213"/>
                </a:lnTo>
                <a:lnTo>
                  <a:pt x="119" y="2239"/>
                </a:lnTo>
                <a:lnTo>
                  <a:pt x="119" y="2272"/>
                </a:lnTo>
                <a:lnTo>
                  <a:pt x="86" y="2298"/>
                </a:lnTo>
                <a:lnTo>
                  <a:pt x="86" y="2331"/>
                </a:lnTo>
                <a:lnTo>
                  <a:pt x="86" y="2357"/>
                </a:lnTo>
                <a:lnTo>
                  <a:pt x="60" y="2390"/>
                </a:lnTo>
                <a:lnTo>
                  <a:pt x="60" y="2417"/>
                </a:lnTo>
                <a:lnTo>
                  <a:pt x="60" y="2450"/>
                </a:lnTo>
                <a:lnTo>
                  <a:pt x="27" y="2476"/>
                </a:lnTo>
                <a:lnTo>
                  <a:pt x="27" y="2502"/>
                </a:lnTo>
                <a:lnTo>
                  <a:pt x="27" y="2535"/>
                </a:lnTo>
                <a:lnTo>
                  <a:pt x="0" y="2561"/>
                </a:lnTo>
                <a:lnTo>
                  <a:pt x="0" y="2594"/>
                </a:lnTo>
                <a:lnTo>
                  <a:pt x="0" y="2621"/>
                </a:lnTo>
                <a:lnTo>
                  <a:pt x="27" y="2621"/>
                </a:lnTo>
                <a:lnTo>
                  <a:pt x="60" y="2654"/>
                </a:lnTo>
                <a:lnTo>
                  <a:pt x="86" y="2654"/>
                </a:lnTo>
                <a:lnTo>
                  <a:pt x="119" y="2680"/>
                </a:lnTo>
                <a:lnTo>
                  <a:pt x="145" y="2713"/>
                </a:lnTo>
                <a:lnTo>
                  <a:pt x="178" y="2713"/>
                </a:lnTo>
                <a:lnTo>
                  <a:pt x="205" y="2739"/>
                </a:lnTo>
                <a:lnTo>
                  <a:pt x="238" y="2739"/>
                </a:lnTo>
                <a:lnTo>
                  <a:pt x="264" y="2772"/>
                </a:lnTo>
                <a:lnTo>
                  <a:pt x="297" y="2772"/>
                </a:lnTo>
                <a:lnTo>
                  <a:pt x="323" y="2798"/>
                </a:lnTo>
                <a:lnTo>
                  <a:pt x="350" y="2798"/>
                </a:lnTo>
                <a:lnTo>
                  <a:pt x="383" y="2831"/>
                </a:lnTo>
                <a:lnTo>
                  <a:pt x="409" y="2831"/>
                </a:lnTo>
                <a:lnTo>
                  <a:pt x="442" y="2858"/>
                </a:lnTo>
                <a:lnTo>
                  <a:pt x="468" y="2858"/>
                </a:lnTo>
                <a:lnTo>
                  <a:pt x="501" y="2858"/>
                </a:lnTo>
                <a:close/>
                <a:moveTo>
                  <a:pt x="1233" y="2002"/>
                </a:moveTo>
                <a:lnTo>
                  <a:pt x="1233" y="2002"/>
                </a:lnTo>
                <a:lnTo>
                  <a:pt x="1239" y="2002"/>
                </a:lnTo>
                <a:lnTo>
                  <a:pt x="1239" y="2002"/>
                </a:lnTo>
                <a:lnTo>
                  <a:pt x="1246" y="2002"/>
                </a:lnTo>
                <a:lnTo>
                  <a:pt x="1246" y="2002"/>
                </a:lnTo>
                <a:lnTo>
                  <a:pt x="1246" y="2002"/>
                </a:lnTo>
                <a:lnTo>
                  <a:pt x="1252" y="2002"/>
                </a:lnTo>
                <a:lnTo>
                  <a:pt x="1246" y="2008"/>
                </a:lnTo>
                <a:lnTo>
                  <a:pt x="1246" y="2008"/>
                </a:lnTo>
                <a:lnTo>
                  <a:pt x="1239" y="2008"/>
                </a:lnTo>
                <a:lnTo>
                  <a:pt x="1239" y="2008"/>
                </a:lnTo>
                <a:lnTo>
                  <a:pt x="1233" y="2008"/>
                </a:lnTo>
                <a:lnTo>
                  <a:pt x="1233" y="2008"/>
                </a:lnTo>
                <a:lnTo>
                  <a:pt x="1233" y="2002"/>
                </a:lnTo>
                <a:close/>
              </a:path>
            </a:pathLst>
          </a:custGeom>
          <a:solidFill>
            <a:srgbClr val="df7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9" name=""/>
          <p:cNvSpPr/>
          <p:nvPr/>
        </p:nvSpPr>
        <p:spPr>
          <a:xfrm>
            <a:off x="3173400" y="1382760"/>
            <a:ext cx="3557520" cy="4537080"/>
          </a:xfrm>
          <a:custGeom>
            <a:avLst/>
            <a:gdLst/>
            <a:ahLst/>
            <a:rect l="l" t="t" r="r" b="b"/>
            <a:pathLst>
              <a:path w="2241" h="2858">
                <a:moveTo>
                  <a:pt x="501" y="2858"/>
                </a:moveTo>
                <a:lnTo>
                  <a:pt x="528" y="2831"/>
                </a:lnTo>
                <a:lnTo>
                  <a:pt x="560" y="2831"/>
                </a:lnTo>
                <a:lnTo>
                  <a:pt x="587" y="2798"/>
                </a:lnTo>
                <a:lnTo>
                  <a:pt x="620" y="2772"/>
                </a:lnTo>
                <a:lnTo>
                  <a:pt x="646" y="2739"/>
                </a:lnTo>
                <a:lnTo>
                  <a:pt x="679" y="2739"/>
                </a:lnTo>
                <a:lnTo>
                  <a:pt x="705" y="2713"/>
                </a:lnTo>
                <a:lnTo>
                  <a:pt x="738" y="2680"/>
                </a:lnTo>
                <a:lnTo>
                  <a:pt x="765" y="2680"/>
                </a:lnTo>
                <a:lnTo>
                  <a:pt x="798" y="2654"/>
                </a:lnTo>
                <a:lnTo>
                  <a:pt x="824" y="2621"/>
                </a:lnTo>
                <a:lnTo>
                  <a:pt x="857" y="2621"/>
                </a:lnTo>
                <a:lnTo>
                  <a:pt x="883" y="2594"/>
                </a:lnTo>
                <a:lnTo>
                  <a:pt x="916" y="2561"/>
                </a:lnTo>
                <a:lnTo>
                  <a:pt x="943" y="2535"/>
                </a:lnTo>
                <a:lnTo>
                  <a:pt x="976" y="2535"/>
                </a:lnTo>
                <a:lnTo>
                  <a:pt x="1002" y="2502"/>
                </a:lnTo>
                <a:lnTo>
                  <a:pt x="1035" y="2476"/>
                </a:lnTo>
                <a:lnTo>
                  <a:pt x="1061" y="2476"/>
                </a:lnTo>
                <a:lnTo>
                  <a:pt x="1094" y="2450"/>
                </a:lnTo>
                <a:lnTo>
                  <a:pt x="1121" y="2417"/>
                </a:lnTo>
                <a:lnTo>
                  <a:pt x="1147" y="2390"/>
                </a:lnTo>
                <a:lnTo>
                  <a:pt x="1180" y="2390"/>
                </a:lnTo>
                <a:lnTo>
                  <a:pt x="1206" y="2357"/>
                </a:lnTo>
                <a:lnTo>
                  <a:pt x="1239" y="2331"/>
                </a:lnTo>
                <a:lnTo>
                  <a:pt x="1266" y="2331"/>
                </a:lnTo>
                <a:lnTo>
                  <a:pt x="1298" y="2298"/>
                </a:lnTo>
                <a:lnTo>
                  <a:pt x="1325" y="2272"/>
                </a:lnTo>
                <a:lnTo>
                  <a:pt x="1358" y="2239"/>
                </a:lnTo>
                <a:lnTo>
                  <a:pt x="1384" y="2239"/>
                </a:lnTo>
                <a:lnTo>
                  <a:pt x="1417" y="2213"/>
                </a:lnTo>
                <a:lnTo>
                  <a:pt x="1443" y="2180"/>
                </a:lnTo>
                <a:lnTo>
                  <a:pt x="1476" y="2180"/>
                </a:lnTo>
                <a:lnTo>
                  <a:pt x="1503" y="2153"/>
                </a:lnTo>
                <a:lnTo>
                  <a:pt x="1536" y="2120"/>
                </a:lnTo>
                <a:lnTo>
                  <a:pt x="1562" y="2094"/>
                </a:lnTo>
                <a:lnTo>
                  <a:pt x="1595" y="2094"/>
                </a:lnTo>
                <a:lnTo>
                  <a:pt x="1621" y="2061"/>
                </a:lnTo>
                <a:lnTo>
                  <a:pt x="1654" y="2035"/>
                </a:lnTo>
                <a:lnTo>
                  <a:pt x="1681" y="2035"/>
                </a:lnTo>
                <a:lnTo>
                  <a:pt x="1714" y="2002"/>
                </a:lnTo>
                <a:lnTo>
                  <a:pt x="1740" y="1976"/>
                </a:lnTo>
                <a:lnTo>
                  <a:pt x="1773" y="1943"/>
                </a:lnTo>
                <a:lnTo>
                  <a:pt x="1799" y="1943"/>
                </a:lnTo>
                <a:lnTo>
                  <a:pt x="1799" y="1916"/>
                </a:lnTo>
                <a:lnTo>
                  <a:pt x="1832" y="1883"/>
                </a:lnTo>
                <a:lnTo>
                  <a:pt x="1859" y="1857"/>
                </a:lnTo>
                <a:lnTo>
                  <a:pt x="1859" y="1824"/>
                </a:lnTo>
                <a:lnTo>
                  <a:pt x="1885" y="1798"/>
                </a:lnTo>
                <a:lnTo>
                  <a:pt x="1918" y="1765"/>
                </a:lnTo>
                <a:lnTo>
                  <a:pt x="1918" y="1739"/>
                </a:lnTo>
                <a:lnTo>
                  <a:pt x="1944" y="1706"/>
                </a:lnTo>
                <a:lnTo>
                  <a:pt x="1977" y="1679"/>
                </a:lnTo>
                <a:lnTo>
                  <a:pt x="1977" y="1653"/>
                </a:lnTo>
                <a:lnTo>
                  <a:pt x="1977" y="1620"/>
                </a:lnTo>
                <a:lnTo>
                  <a:pt x="2004" y="1594"/>
                </a:lnTo>
                <a:lnTo>
                  <a:pt x="2004" y="1561"/>
                </a:lnTo>
                <a:lnTo>
                  <a:pt x="2004" y="1534"/>
                </a:lnTo>
                <a:lnTo>
                  <a:pt x="2037" y="1501"/>
                </a:lnTo>
                <a:lnTo>
                  <a:pt x="2037" y="1475"/>
                </a:lnTo>
                <a:lnTo>
                  <a:pt x="2037" y="1442"/>
                </a:lnTo>
                <a:lnTo>
                  <a:pt x="2037" y="1416"/>
                </a:lnTo>
                <a:lnTo>
                  <a:pt x="2063" y="1383"/>
                </a:lnTo>
                <a:lnTo>
                  <a:pt x="2063" y="1357"/>
                </a:lnTo>
                <a:lnTo>
                  <a:pt x="2063" y="1324"/>
                </a:lnTo>
                <a:lnTo>
                  <a:pt x="2063" y="1297"/>
                </a:lnTo>
                <a:lnTo>
                  <a:pt x="2063" y="1264"/>
                </a:lnTo>
                <a:lnTo>
                  <a:pt x="2063" y="1238"/>
                </a:lnTo>
                <a:lnTo>
                  <a:pt x="2063" y="1205"/>
                </a:lnTo>
                <a:lnTo>
                  <a:pt x="2096" y="1179"/>
                </a:lnTo>
                <a:lnTo>
                  <a:pt x="2096" y="1146"/>
                </a:lnTo>
                <a:lnTo>
                  <a:pt x="2096" y="1120"/>
                </a:lnTo>
                <a:lnTo>
                  <a:pt x="2096" y="1087"/>
                </a:lnTo>
                <a:lnTo>
                  <a:pt x="2096" y="1060"/>
                </a:lnTo>
                <a:lnTo>
                  <a:pt x="2096" y="1027"/>
                </a:lnTo>
                <a:lnTo>
                  <a:pt x="2096" y="1001"/>
                </a:lnTo>
                <a:lnTo>
                  <a:pt x="2122" y="968"/>
                </a:lnTo>
                <a:lnTo>
                  <a:pt x="2122" y="942"/>
                </a:lnTo>
                <a:lnTo>
                  <a:pt x="2122" y="916"/>
                </a:lnTo>
                <a:lnTo>
                  <a:pt x="2122" y="883"/>
                </a:lnTo>
                <a:lnTo>
                  <a:pt x="2122" y="856"/>
                </a:lnTo>
                <a:lnTo>
                  <a:pt x="2122" y="823"/>
                </a:lnTo>
                <a:lnTo>
                  <a:pt x="2122" y="797"/>
                </a:lnTo>
                <a:lnTo>
                  <a:pt x="2155" y="764"/>
                </a:lnTo>
                <a:lnTo>
                  <a:pt x="2155" y="738"/>
                </a:lnTo>
                <a:lnTo>
                  <a:pt x="2155" y="705"/>
                </a:lnTo>
                <a:lnTo>
                  <a:pt x="2155" y="679"/>
                </a:lnTo>
                <a:lnTo>
                  <a:pt x="2155" y="646"/>
                </a:lnTo>
                <a:lnTo>
                  <a:pt x="2155" y="619"/>
                </a:lnTo>
                <a:lnTo>
                  <a:pt x="2155" y="586"/>
                </a:lnTo>
                <a:lnTo>
                  <a:pt x="2181" y="560"/>
                </a:lnTo>
                <a:lnTo>
                  <a:pt x="2181" y="527"/>
                </a:lnTo>
                <a:lnTo>
                  <a:pt x="2181" y="501"/>
                </a:lnTo>
                <a:lnTo>
                  <a:pt x="2181" y="468"/>
                </a:lnTo>
                <a:lnTo>
                  <a:pt x="2181" y="442"/>
                </a:lnTo>
                <a:lnTo>
                  <a:pt x="2181" y="409"/>
                </a:lnTo>
                <a:lnTo>
                  <a:pt x="2181" y="382"/>
                </a:lnTo>
                <a:lnTo>
                  <a:pt x="2214" y="349"/>
                </a:lnTo>
                <a:lnTo>
                  <a:pt x="2214" y="323"/>
                </a:lnTo>
                <a:lnTo>
                  <a:pt x="2214" y="290"/>
                </a:lnTo>
                <a:lnTo>
                  <a:pt x="2214" y="264"/>
                </a:lnTo>
                <a:lnTo>
                  <a:pt x="2214" y="231"/>
                </a:lnTo>
                <a:lnTo>
                  <a:pt x="2214" y="205"/>
                </a:lnTo>
                <a:lnTo>
                  <a:pt x="2214" y="172"/>
                </a:lnTo>
                <a:lnTo>
                  <a:pt x="2241" y="145"/>
                </a:lnTo>
                <a:lnTo>
                  <a:pt x="2241" y="119"/>
                </a:lnTo>
                <a:lnTo>
                  <a:pt x="2241" y="86"/>
                </a:lnTo>
                <a:lnTo>
                  <a:pt x="2241" y="60"/>
                </a:lnTo>
                <a:lnTo>
                  <a:pt x="2241" y="27"/>
                </a:lnTo>
                <a:lnTo>
                  <a:pt x="2241" y="0"/>
                </a:lnTo>
                <a:lnTo>
                  <a:pt x="2214" y="0"/>
                </a:lnTo>
                <a:lnTo>
                  <a:pt x="2181" y="0"/>
                </a:lnTo>
                <a:lnTo>
                  <a:pt x="2155" y="0"/>
                </a:lnTo>
                <a:lnTo>
                  <a:pt x="2122" y="0"/>
                </a:lnTo>
                <a:lnTo>
                  <a:pt x="2096" y="27"/>
                </a:lnTo>
                <a:lnTo>
                  <a:pt x="2063" y="27"/>
                </a:lnTo>
                <a:lnTo>
                  <a:pt x="2037" y="27"/>
                </a:lnTo>
                <a:lnTo>
                  <a:pt x="2004" y="60"/>
                </a:lnTo>
                <a:lnTo>
                  <a:pt x="1977" y="60"/>
                </a:lnTo>
                <a:lnTo>
                  <a:pt x="1944" y="86"/>
                </a:lnTo>
                <a:lnTo>
                  <a:pt x="1918" y="86"/>
                </a:lnTo>
                <a:lnTo>
                  <a:pt x="1885" y="86"/>
                </a:lnTo>
                <a:lnTo>
                  <a:pt x="1859" y="119"/>
                </a:lnTo>
                <a:lnTo>
                  <a:pt x="1832" y="119"/>
                </a:lnTo>
                <a:lnTo>
                  <a:pt x="1799" y="145"/>
                </a:lnTo>
                <a:lnTo>
                  <a:pt x="1773" y="145"/>
                </a:lnTo>
                <a:lnTo>
                  <a:pt x="1740" y="145"/>
                </a:lnTo>
                <a:lnTo>
                  <a:pt x="1714" y="172"/>
                </a:lnTo>
                <a:lnTo>
                  <a:pt x="1681" y="172"/>
                </a:lnTo>
                <a:lnTo>
                  <a:pt x="1654" y="205"/>
                </a:lnTo>
                <a:lnTo>
                  <a:pt x="1621" y="205"/>
                </a:lnTo>
                <a:lnTo>
                  <a:pt x="1595" y="205"/>
                </a:lnTo>
                <a:lnTo>
                  <a:pt x="1562" y="231"/>
                </a:lnTo>
                <a:lnTo>
                  <a:pt x="1536" y="231"/>
                </a:lnTo>
                <a:lnTo>
                  <a:pt x="1503" y="264"/>
                </a:lnTo>
                <a:lnTo>
                  <a:pt x="1476" y="264"/>
                </a:lnTo>
                <a:lnTo>
                  <a:pt x="1443" y="264"/>
                </a:lnTo>
                <a:lnTo>
                  <a:pt x="1417" y="290"/>
                </a:lnTo>
                <a:lnTo>
                  <a:pt x="1384" y="290"/>
                </a:lnTo>
                <a:lnTo>
                  <a:pt x="1358" y="323"/>
                </a:lnTo>
                <a:lnTo>
                  <a:pt x="1325" y="323"/>
                </a:lnTo>
                <a:lnTo>
                  <a:pt x="1298" y="323"/>
                </a:lnTo>
                <a:lnTo>
                  <a:pt x="1266" y="349"/>
                </a:lnTo>
                <a:lnTo>
                  <a:pt x="1239" y="349"/>
                </a:lnTo>
                <a:lnTo>
                  <a:pt x="1206" y="382"/>
                </a:lnTo>
                <a:lnTo>
                  <a:pt x="1180" y="382"/>
                </a:lnTo>
                <a:lnTo>
                  <a:pt x="1147" y="382"/>
                </a:lnTo>
                <a:lnTo>
                  <a:pt x="1121" y="409"/>
                </a:lnTo>
                <a:lnTo>
                  <a:pt x="1094" y="409"/>
                </a:lnTo>
                <a:lnTo>
                  <a:pt x="1061" y="442"/>
                </a:lnTo>
                <a:lnTo>
                  <a:pt x="1035" y="442"/>
                </a:lnTo>
                <a:lnTo>
                  <a:pt x="1002" y="442"/>
                </a:lnTo>
                <a:lnTo>
                  <a:pt x="976" y="468"/>
                </a:lnTo>
                <a:lnTo>
                  <a:pt x="943" y="501"/>
                </a:lnTo>
                <a:lnTo>
                  <a:pt x="916" y="527"/>
                </a:lnTo>
                <a:lnTo>
                  <a:pt x="916" y="560"/>
                </a:lnTo>
                <a:lnTo>
                  <a:pt x="883" y="586"/>
                </a:lnTo>
                <a:lnTo>
                  <a:pt x="857" y="619"/>
                </a:lnTo>
                <a:lnTo>
                  <a:pt x="824" y="646"/>
                </a:lnTo>
                <a:lnTo>
                  <a:pt x="824" y="679"/>
                </a:lnTo>
                <a:lnTo>
                  <a:pt x="798" y="705"/>
                </a:lnTo>
                <a:lnTo>
                  <a:pt x="765" y="738"/>
                </a:lnTo>
                <a:lnTo>
                  <a:pt x="738" y="764"/>
                </a:lnTo>
                <a:lnTo>
                  <a:pt x="738" y="797"/>
                </a:lnTo>
                <a:lnTo>
                  <a:pt x="705" y="823"/>
                </a:lnTo>
                <a:lnTo>
                  <a:pt x="679" y="856"/>
                </a:lnTo>
                <a:lnTo>
                  <a:pt x="646" y="883"/>
                </a:lnTo>
                <a:lnTo>
                  <a:pt x="646" y="916"/>
                </a:lnTo>
                <a:lnTo>
                  <a:pt x="620" y="942"/>
                </a:lnTo>
                <a:lnTo>
                  <a:pt x="587" y="968"/>
                </a:lnTo>
                <a:lnTo>
                  <a:pt x="587" y="1001"/>
                </a:lnTo>
                <a:lnTo>
                  <a:pt x="560" y="1027"/>
                </a:lnTo>
                <a:lnTo>
                  <a:pt x="528" y="1060"/>
                </a:lnTo>
                <a:lnTo>
                  <a:pt x="528" y="1087"/>
                </a:lnTo>
                <a:lnTo>
                  <a:pt x="501" y="1120"/>
                </a:lnTo>
                <a:lnTo>
                  <a:pt x="501" y="1146"/>
                </a:lnTo>
                <a:lnTo>
                  <a:pt x="501" y="1179"/>
                </a:lnTo>
                <a:lnTo>
                  <a:pt x="468" y="1205"/>
                </a:lnTo>
                <a:lnTo>
                  <a:pt x="468" y="1238"/>
                </a:lnTo>
                <a:lnTo>
                  <a:pt x="468" y="1264"/>
                </a:lnTo>
                <a:lnTo>
                  <a:pt x="442" y="1297"/>
                </a:lnTo>
                <a:lnTo>
                  <a:pt x="442" y="1324"/>
                </a:lnTo>
                <a:lnTo>
                  <a:pt x="442" y="1357"/>
                </a:lnTo>
                <a:lnTo>
                  <a:pt x="409" y="1383"/>
                </a:lnTo>
                <a:lnTo>
                  <a:pt x="409" y="1416"/>
                </a:lnTo>
                <a:lnTo>
                  <a:pt x="409" y="1442"/>
                </a:lnTo>
                <a:lnTo>
                  <a:pt x="383" y="1475"/>
                </a:lnTo>
                <a:lnTo>
                  <a:pt x="383" y="1501"/>
                </a:lnTo>
                <a:lnTo>
                  <a:pt x="350" y="1534"/>
                </a:lnTo>
                <a:lnTo>
                  <a:pt x="350" y="1561"/>
                </a:lnTo>
                <a:lnTo>
                  <a:pt x="350" y="1594"/>
                </a:lnTo>
                <a:lnTo>
                  <a:pt x="323" y="1620"/>
                </a:lnTo>
                <a:lnTo>
                  <a:pt x="323" y="1653"/>
                </a:lnTo>
                <a:lnTo>
                  <a:pt x="323" y="1679"/>
                </a:lnTo>
                <a:lnTo>
                  <a:pt x="297" y="1706"/>
                </a:lnTo>
                <a:lnTo>
                  <a:pt x="297" y="1739"/>
                </a:lnTo>
                <a:lnTo>
                  <a:pt x="297" y="1765"/>
                </a:lnTo>
                <a:lnTo>
                  <a:pt x="264" y="1798"/>
                </a:lnTo>
                <a:lnTo>
                  <a:pt x="264" y="1824"/>
                </a:lnTo>
                <a:lnTo>
                  <a:pt x="264" y="1857"/>
                </a:lnTo>
                <a:lnTo>
                  <a:pt x="238" y="1883"/>
                </a:lnTo>
                <a:lnTo>
                  <a:pt x="238" y="1916"/>
                </a:lnTo>
                <a:lnTo>
                  <a:pt x="238" y="1943"/>
                </a:lnTo>
                <a:lnTo>
                  <a:pt x="205" y="1976"/>
                </a:lnTo>
                <a:lnTo>
                  <a:pt x="205" y="2002"/>
                </a:lnTo>
                <a:lnTo>
                  <a:pt x="178" y="2035"/>
                </a:lnTo>
                <a:lnTo>
                  <a:pt x="178" y="2061"/>
                </a:lnTo>
                <a:lnTo>
                  <a:pt x="178" y="2094"/>
                </a:lnTo>
                <a:lnTo>
                  <a:pt x="145" y="2120"/>
                </a:lnTo>
                <a:lnTo>
                  <a:pt x="145" y="2153"/>
                </a:lnTo>
                <a:lnTo>
                  <a:pt x="145" y="2180"/>
                </a:lnTo>
                <a:lnTo>
                  <a:pt x="119" y="2213"/>
                </a:lnTo>
                <a:lnTo>
                  <a:pt x="119" y="2239"/>
                </a:lnTo>
                <a:lnTo>
                  <a:pt x="119" y="2272"/>
                </a:lnTo>
                <a:lnTo>
                  <a:pt x="86" y="2298"/>
                </a:lnTo>
                <a:lnTo>
                  <a:pt x="86" y="2331"/>
                </a:lnTo>
                <a:lnTo>
                  <a:pt x="86" y="2357"/>
                </a:lnTo>
                <a:lnTo>
                  <a:pt x="60" y="2390"/>
                </a:lnTo>
                <a:lnTo>
                  <a:pt x="60" y="2417"/>
                </a:lnTo>
                <a:lnTo>
                  <a:pt x="60" y="2450"/>
                </a:lnTo>
                <a:lnTo>
                  <a:pt x="27" y="2476"/>
                </a:lnTo>
                <a:lnTo>
                  <a:pt x="27" y="2502"/>
                </a:lnTo>
                <a:lnTo>
                  <a:pt x="27" y="2535"/>
                </a:lnTo>
                <a:lnTo>
                  <a:pt x="0" y="2561"/>
                </a:lnTo>
                <a:lnTo>
                  <a:pt x="0" y="2594"/>
                </a:lnTo>
                <a:lnTo>
                  <a:pt x="0" y="2621"/>
                </a:lnTo>
                <a:lnTo>
                  <a:pt x="27" y="2621"/>
                </a:lnTo>
                <a:lnTo>
                  <a:pt x="60" y="2654"/>
                </a:lnTo>
                <a:lnTo>
                  <a:pt x="86" y="2654"/>
                </a:lnTo>
                <a:lnTo>
                  <a:pt x="119" y="2680"/>
                </a:lnTo>
                <a:lnTo>
                  <a:pt x="145" y="2713"/>
                </a:lnTo>
                <a:lnTo>
                  <a:pt x="178" y="2713"/>
                </a:lnTo>
                <a:lnTo>
                  <a:pt x="205" y="2739"/>
                </a:lnTo>
                <a:lnTo>
                  <a:pt x="238" y="2739"/>
                </a:lnTo>
                <a:lnTo>
                  <a:pt x="264" y="2772"/>
                </a:lnTo>
                <a:lnTo>
                  <a:pt x="297" y="2772"/>
                </a:lnTo>
                <a:lnTo>
                  <a:pt x="323" y="2798"/>
                </a:lnTo>
                <a:lnTo>
                  <a:pt x="350" y="2798"/>
                </a:lnTo>
                <a:lnTo>
                  <a:pt x="383" y="2831"/>
                </a:lnTo>
                <a:lnTo>
                  <a:pt x="409" y="2831"/>
                </a:lnTo>
                <a:lnTo>
                  <a:pt x="442" y="2858"/>
                </a:lnTo>
                <a:lnTo>
                  <a:pt x="468" y="2858"/>
                </a:lnTo>
                <a:lnTo>
                  <a:pt x="501" y="2858"/>
                </a:lnTo>
                <a:close/>
                <a:moveTo>
                  <a:pt x="1233" y="2002"/>
                </a:moveTo>
                <a:lnTo>
                  <a:pt x="1233" y="2002"/>
                </a:lnTo>
                <a:lnTo>
                  <a:pt x="1239" y="2002"/>
                </a:lnTo>
                <a:lnTo>
                  <a:pt x="1239" y="2002"/>
                </a:lnTo>
                <a:lnTo>
                  <a:pt x="1246" y="2002"/>
                </a:lnTo>
                <a:lnTo>
                  <a:pt x="1246" y="2002"/>
                </a:lnTo>
                <a:lnTo>
                  <a:pt x="1246" y="2002"/>
                </a:lnTo>
                <a:lnTo>
                  <a:pt x="1252" y="2002"/>
                </a:lnTo>
                <a:lnTo>
                  <a:pt x="1246" y="2008"/>
                </a:lnTo>
                <a:lnTo>
                  <a:pt x="1246" y="2008"/>
                </a:lnTo>
                <a:lnTo>
                  <a:pt x="1239" y="2008"/>
                </a:lnTo>
                <a:lnTo>
                  <a:pt x="1239" y="2008"/>
                </a:lnTo>
                <a:lnTo>
                  <a:pt x="1233" y="2008"/>
                </a:lnTo>
                <a:lnTo>
                  <a:pt x="1233" y="2008"/>
                </a:lnTo>
                <a:lnTo>
                  <a:pt x="1233" y="2002"/>
                </a:lnTo>
                <a:close/>
                <a:moveTo>
                  <a:pt x="501" y="2858"/>
                </a:moveTo>
                <a:lnTo>
                  <a:pt x="528" y="2831"/>
                </a:lnTo>
                <a:lnTo>
                  <a:pt x="560" y="2831"/>
                </a:lnTo>
                <a:lnTo>
                  <a:pt x="587" y="2798"/>
                </a:lnTo>
                <a:lnTo>
                  <a:pt x="620" y="2772"/>
                </a:lnTo>
                <a:lnTo>
                  <a:pt x="646" y="2739"/>
                </a:lnTo>
                <a:lnTo>
                  <a:pt x="679" y="2739"/>
                </a:lnTo>
                <a:lnTo>
                  <a:pt x="705" y="2713"/>
                </a:lnTo>
                <a:lnTo>
                  <a:pt x="738" y="2680"/>
                </a:lnTo>
                <a:lnTo>
                  <a:pt x="765" y="2680"/>
                </a:lnTo>
                <a:lnTo>
                  <a:pt x="798" y="2654"/>
                </a:lnTo>
                <a:lnTo>
                  <a:pt x="824" y="2621"/>
                </a:lnTo>
                <a:lnTo>
                  <a:pt x="857" y="2621"/>
                </a:lnTo>
                <a:lnTo>
                  <a:pt x="883" y="2594"/>
                </a:lnTo>
                <a:lnTo>
                  <a:pt x="916" y="2561"/>
                </a:lnTo>
                <a:lnTo>
                  <a:pt x="943" y="2535"/>
                </a:lnTo>
                <a:lnTo>
                  <a:pt x="976" y="2535"/>
                </a:lnTo>
                <a:lnTo>
                  <a:pt x="1002" y="2502"/>
                </a:lnTo>
                <a:lnTo>
                  <a:pt x="1035" y="2476"/>
                </a:lnTo>
                <a:lnTo>
                  <a:pt x="1061" y="2476"/>
                </a:lnTo>
                <a:lnTo>
                  <a:pt x="1094" y="2450"/>
                </a:lnTo>
                <a:lnTo>
                  <a:pt x="1121" y="2417"/>
                </a:lnTo>
                <a:lnTo>
                  <a:pt x="1147" y="2390"/>
                </a:lnTo>
                <a:lnTo>
                  <a:pt x="1180" y="2390"/>
                </a:lnTo>
                <a:lnTo>
                  <a:pt x="1206" y="2357"/>
                </a:lnTo>
                <a:lnTo>
                  <a:pt x="1239" y="2331"/>
                </a:lnTo>
                <a:lnTo>
                  <a:pt x="1266" y="2331"/>
                </a:lnTo>
                <a:lnTo>
                  <a:pt x="1298" y="2298"/>
                </a:lnTo>
                <a:lnTo>
                  <a:pt x="1325" y="2272"/>
                </a:lnTo>
                <a:lnTo>
                  <a:pt x="1358" y="2239"/>
                </a:lnTo>
                <a:lnTo>
                  <a:pt x="1384" y="2239"/>
                </a:lnTo>
                <a:lnTo>
                  <a:pt x="1417" y="2213"/>
                </a:lnTo>
                <a:lnTo>
                  <a:pt x="1443" y="2180"/>
                </a:lnTo>
                <a:lnTo>
                  <a:pt x="1476" y="2180"/>
                </a:lnTo>
                <a:lnTo>
                  <a:pt x="1503" y="2153"/>
                </a:lnTo>
                <a:lnTo>
                  <a:pt x="1536" y="2120"/>
                </a:lnTo>
                <a:lnTo>
                  <a:pt x="1562" y="2094"/>
                </a:lnTo>
                <a:lnTo>
                  <a:pt x="1595" y="2094"/>
                </a:lnTo>
                <a:lnTo>
                  <a:pt x="1621" y="2061"/>
                </a:lnTo>
                <a:lnTo>
                  <a:pt x="1654" y="2035"/>
                </a:lnTo>
                <a:lnTo>
                  <a:pt x="1681" y="2035"/>
                </a:lnTo>
                <a:lnTo>
                  <a:pt x="1714" y="2002"/>
                </a:lnTo>
                <a:lnTo>
                  <a:pt x="1740" y="1976"/>
                </a:lnTo>
                <a:lnTo>
                  <a:pt x="1773" y="1943"/>
                </a:lnTo>
                <a:lnTo>
                  <a:pt x="1799" y="1943"/>
                </a:lnTo>
                <a:lnTo>
                  <a:pt x="1799" y="1916"/>
                </a:lnTo>
                <a:lnTo>
                  <a:pt x="1832" y="1883"/>
                </a:lnTo>
                <a:lnTo>
                  <a:pt x="1859" y="1857"/>
                </a:lnTo>
                <a:lnTo>
                  <a:pt x="1859" y="1824"/>
                </a:lnTo>
                <a:lnTo>
                  <a:pt x="1885" y="1798"/>
                </a:lnTo>
                <a:lnTo>
                  <a:pt x="1918" y="1765"/>
                </a:lnTo>
                <a:lnTo>
                  <a:pt x="1918" y="1739"/>
                </a:lnTo>
                <a:lnTo>
                  <a:pt x="1944" y="1706"/>
                </a:lnTo>
                <a:lnTo>
                  <a:pt x="1977" y="1679"/>
                </a:lnTo>
                <a:lnTo>
                  <a:pt x="1977" y="1653"/>
                </a:lnTo>
                <a:lnTo>
                  <a:pt x="1977" y="1620"/>
                </a:lnTo>
                <a:lnTo>
                  <a:pt x="2004" y="1594"/>
                </a:lnTo>
                <a:lnTo>
                  <a:pt x="2004" y="1561"/>
                </a:lnTo>
                <a:lnTo>
                  <a:pt x="2004" y="1534"/>
                </a:lnTo>
                <a:lnTo>
                  <a:pt x="2037" y="1501"/>
                </a:lnTo>
                <a:lnTo>
                  <a:pt x="2037" y="1475"/>
                </a:lnTo>
                <a:lnTo>
                  <a:pt x="2037" y="1442"/>
                </a:lnTo>
                <a:lnTo>
                  <a:pt x="2037" y="1416"/>
                </a:lnTo>
                <a:lnTo>
                  <a:pt x="2063" y="1383"/>
                </a:lnTo>
                <a:lnTo>
                  <a:pt x="2063" y="1357"/>
                </a:lnTo>
                <a:lnTo>
                  <a:pt x="2063" y="1324"/>
                </a:lnTo>
                <a:lnTo>
                  <a:pt x="2063" y="1297"/>
                </a:lnTo>
                <a:lnTo>
                  <a:pt x="2063" y="1264"/>
                </a:lnTo>
                <a:lnTo>
                  <a:pt x="2063" y="1238"/>
                </a:lnTo>
                <a:lnTo>
                  <a:pt x="2063" y="1205"/>
                </a:lnTo>
                <a:lnTo>
                  <a:pt x="2096" y="1179"/>
                </a:lnTo>
                <a:lnTo>
                  <a:pt x="2096" y="1146"/>
                </a:lnTo>
                <a:lnTo>
                  <a:pt x="2096" y="1120"/>
                </a:lnTo>
                <a:lnTo>
                  <a:pt x="2096" y="1087"/>
                </a:lnTo>
                <a:lnTo>
                  <a:pt x="2096" y="1060"/>
                </a:lnTo>
                <a:lnTo>
                  <a:pt x="2096" y="1027"/>
                </a:lnTo>
                <a:lnTo>
                  <a:pt x="2096" y="1001"/>
                </a:lnTo>
                <a:lnTo>
                  <a:pt x="2122" y="968"/>
                </a:lnTo>
                <a:lnTo>
                  <a:pt x="2122" y="942"/>
                </a:lnTo>
                <a:lnTo>
                  <a:pt x="2122" y="916"/>
                </a:lnTo>
                <a:lnTo>
                  <a:pt x="2122" y="883"/>
                </a:lnTo>
                <a:lnTo>
                  <a:pt x="2122" y="856"/>
                </a:lnTo>
                <a:lnTo>
                  <a:pt x="2122" y="823"/>
                </a:lnTo>
                <a:lnTo>
                  <a:pt x="2122" y="797"/>
                </a:lnTo>
                <a:lnTo>
                  <a:pt x="2155" y="764"/>
                </a:lnTo>
                <a:lnTo>
                  <a:pt x="2155" y="738"/>
                </a:lnTo>
                <a:lnTo>
                  <a:pt x="2155" y="705"/>
                </a:lnTo>
                <a:lnTo>
                  <a:pt x="2155" y="679"/>
                </a:lnTo>
                <a:lnTo>
                  <a:pt x="2155" y="646"/>
                </a:lnTo>
                <a:lnTo>
                  <a:pt x="2155" y="619"/>
                </a:lnTo>
                <a:lnTo>
                  <a:pt x="2155" y="586"/>
                </a:lnTo>
                <a:lnTo>
                  <a:pt x="2181" y="560"/>
                </a:lnTo>
                <a:lnTo>
                  <a:pt x="2181" y="527"/>
                </a:lnTo>
                <a:lnTo>
                  <a:pt x="2181" y="501"/>
                </a:lnTo>
                <a:lnTo>
                  <a:pt x="2181" y="468"/>
                </a:lnTo>
                <a:lnTo>
                  <a:pt x="2181" y="442"/>
                </a:lnTo>
                <a:lnTo>
                  <a:pt x="2181" y="409"/>
                </a:lnTo>
                <a:lnTo>
                  <a:pt x="2181" y="382"/>
                </a:lnTo>
                <a:lnTo>
                  <a:pt x="2214" y="349"/>
                </a:lnTo>
                <a:lnTo>
                  <a:pt x="2214" y="323"/>
                </a:lnTo>
                <a:lnTo>
                  <a:pt x="2214" y="290"/>
                </a:lnTo>
                <a:lnTo>
                  <a:pt x="2214" y="264"/>
                </a:lnTo>
                <a:lnTo>
                  <a:pt x="2214" y="231"/>
                </a:lnTo>
                <a:lnTo>
                  <a:pt x="2214" y="205"/>
                </a:lnTo>
                <a:lnTo>
                  <a:pt x="2214" y="172"/>
                </a:lnTo>
                <a:lnTo>
                  <a:pt x="2241" y="145"/>
                </a:lnTo>
                <a:lnTo>
                  <a:pt x="2241" y="119"/>
                </a:lnTo>
                <a:lnTo>
                  <a:pt x="2241" y="86"/>
                </a:lnTo>
                <a:lnTo>
                  <a:pt x="2241" y="60"/>
                </a:lnTo>
                <a:lnTo>
                  <a:pt x="2241" y="27"/>
                </a:lnTo>
                <a:lnTo>
                  <a:pt x="2241" y="0"/>
                </a:lnTo>
                <a:lnTo>
                  <a:pt x="2214" y="0"/>
                </a:lnTo>
                <a:lnTo>
                  <a:pt x="2181" y="0"/>
                </a:lnTo>
                <a:lnTo>
                  <a:pt x="2155" y="0"/>
                </a:lnTo>
                <a:lnTo>
                  <a:pt x="2122" y="0"/>
                </a:lnTo>
                <a:lnTo>
                  <a:pt x="2096" y="27"/>
                </a:lnTo>
                <a:lnTo>
                  <a:pt x="2063" y="27"/>
                </a:lnTo>
                <a:lnTo>
                  <a:pt x="2037" y="27"/>
                </a:lnTo>
                <a:lnTo>
                  <a:pt x="2004" y="60"/>
                </a:lnTo>
                <a:lnTo>
                  <a:pt x="1977" y="60"/>
                </a:lnTo>
                <a:lnTo>
                  <a:pt x="1944" y="86"/>
                </a:lnTo>
                <a:lnTo>
                  <a:pt x="1918" y="86"/>
                </a:lnTo>
                <a:lnTo>
                  <a:pt x="1885" y="86"/>
                </a:lnTo>
                <a:lnTo>
                  <a:pt x="1859" y="119"/>
                </a:lnTo>
                <a:lnTo>
                  <a:pt x="1832" y="119"/>
                </a:lnTo>
                <a:lnTo>
                  <a:pt x="1799" y="145"/>
                </a:lnTo>
                <a:lnTo>
                  <a:pt x="1773" y="145"/>
                </a:lnTo>
                <a:lnTo>
                  <a:pt x="1740" y="145"/>
                </a:lnTo>
                <a:lnTo>
                  <a:pt x="1714" y="172"/>
                </a:lnTo>
                <a:lnTo>
                  <a:pt x="1681" y="172"/>
                </a:lnTo>
                <a:lnTo>
                  <a:pt x="1654" y="205"/>
                </a:lnTo>
                <a:lnTo>
                  <a:pt x="1621" y="205"/>
                </a:lnTo>
                <a:lnTo>
                  <a:pt x="1595" y="205"/>
                </a:lnTo>
                <a:lnTo>
                  <a:pt x="1562" y="231"/>
                </a:lnTo>
                <a:lnTo>
                  <a:pt x="1536" y="231"/>
                </a:lnTo>
                <a:lnTo>
                  <a:pt x="1503" y="264"/>
                </a:lnTo>
                <a:lnTo>
                  <a:pt x="1476" y="264"/>
                </a:lnTo>
                <a:lnTo>
                  <a:pt x="1443" y="264"/>
                </a:lnTo>
                <a:lnTo>
                  <a:pt x="1417" y="290"/>
                </a:lnTo>
                <a:lnTo>
                  <a:pt x="1384" y="290"/>
                </a:lnTo>
                <a:lnTo>
                  <a:pt x="1358" y="323"/>
                </a:lnTo>
                <a:lnTo>
                  <a:pt x="1325" y="323"/>
                </a:lnTo>
                <a:lnTo>
                  <a:pt x="1298" y="323"/>
                </a:lnTo>
                <a:lnTo>
                  <a:pt x="1266" y="349"/>
                </a:lnTo>
                <a:lnTo>
                  <a:pt x="1239" y="349"/>
                </a:lnTo>
                <a:lnTo>
                  <a:pt x="1206" y="382"/>
                </a:lnTo>
                <a:lnTo>
                  <a:pt x="1180" y="382"/>
                </a:lnTo>
                <a:lnTo>
                  <a:pt x="1147" y="382"/>
                </a:lnTo>
                <a:lnTo>
                  <a:pt x="1121" y="409"/>
                </a:lnTo>
                <a:lnTo>
                  <a:pt x="1094" y="409"/>
                </a:lnTo>
                <a:lnTo>
                  <a:pt x="1061" y="442"/>
                </a:lnTo>
                <a:lnTo>
                  <a:pt x="1035" y="442"/>
                </a:lnTo>
                <a:lnTo>
                  <a:pt x="1002" y="442"/>
                </a:lnTo>
                <a:lnTo>
                  <a:pt x="976" y="468"/>
                </a:lnTo>
                <a:lnTo>
                  <a:pt x="943" y="501"/>
                </a:lnTo>
                <a:lnTo>
                  <a:pt x="916" y="527"/>
                </a:lnTo>
                <a:lnTo>
                  <a:pt x="916" y="560"/>
                </a:lnTo>
                <a:lnTo>
                  <a:pt x="883" y="586"/>
                </a:lnTo>
                <a:lnTo>
                  <a:pt x="857" y="619"/>
                </a:lnTo>
                <a:lnTo>
                  <a:pt x="824" y="646"/>
                </a:lnTo>
                <a:lnTo>
                  <a:pt x="824" y="679"/>
                </a:lnTo>
                <a:lnTo>
                  <a:pt x="798" y="705"/>
                </a:lnTo>
                <a:lnTo>
                  <a:pt x="765" y="738"/>
                </a:lnTo>
                <a:lnTo>
                  <a:pt x="738" y="764"/>
                </a:lnTo>
                <a:lnTo>
                  <a:pt x="738" y="797"/>
                </a:lnTo>
                <a:lnTo>
                  <a:pt x="705" y="823"/>
                </a:lnTo>
                <a:lnTo>
                  <a:pt x="679" y="856"/>
                </a:lnTo>
                <a:lnTo>
                  <a:pt x="646" y="883"/>
                </a:lnTo>
                <a:lnTo>
                  <a:pt x="646" y="916"/>
                </a:lnTo>
                <a:lnTo>
                  <a:pt x="620" y="942"/>
                </a:lnTo>
                <a:lnTo>
                  <a:pt x="587" y="968"/>
                </a:lnTo>
                <a:lnTo>
                  <a:pt x="587" y="1001"/>
                </a:lnTo>
                <a:lnTo>
                  <a:pt x="560" y="1027"/>
                </a:lnTo>
                <a:lnTo>
                  <a:pt x="528" y="1060"/>
                </a:lnTo>
                <a:lnTo>
                  <a:pt x="528" y="1087"/>
                </a:lnTo>
                <a:lnTo>
                  <a:pt x="501" y="1120"/>
                </a:lnTo>
                <a:lnTo>
                  <a:pt x="501" y="1146"/>
                </a:lnTo>
                <a:lnTo>
                  <a:pt x="501" y="1179"/>
                </a:lnTo>
                <a:lnTo>
                  <a:pt x="468" y="1205"/>
                </a:lnTo>
                <a:lnTo>
                  <a:pt x="468" y="1238"/>
                </a:lnTo>
                <a:lnTo>
                  <a:pt x="468" y="1264"/>
                </a:lnTo>
                <a:lnTo>
                  <a:pt x="442" y="1297"/>
                </a:lnTo>
                <a:lnTo>
                  <a:pt x="442" y="1324"/>
                </a:lnTo>
                <a:lnTo>
                  <a:pt x="442" y="1357"/>
                </a:lnTo>
                <a:lnTo>
                  <a:pt x="409" y="1383"/>
                </a:lnTo>
                <a:lnTo>
                  <a:pt x="409" y="1416"/>
                </a:lnTo>
                <a:lnTo>
                  <a:pt x="409" y="1442"/>
                </a:lnTo>
                <a:lnTo>
                  <a:pt x="383" y="1475"/>
                </a:lnTo>
                <a:lnTo>
                  <a:pt x="383" y="1501"/>
                </a:lnTo>
                <a:lnTo>
                  <a:pt x="350" y="1534"/>
                </a:lnTo>
                <a:lnTo>
                  <a:pt x="350" y="1561"/>
                </a:lnTo>
                <a:lnTo>
                  <a:pt x="350" y="1594"/>
                </a:lnTo>
                <a:lnTo>
                  <a:pt x="323" y="1620"/>
                </a:lnTo>
                <a:lnTo>
                  <a:pt x="323" y="1653"/>
                </a:lnTo>
                <a:lnTo>
                  <a:pt x="323" y="1679"/>
                </a:lnTo>
                <a:lnTo>
                  <a:pt x="297" y="1706"/>
                </a:lnTo>
                <a:lnTo>
                  <a:pt x="297" y="1739"/>
                </a:lnTo>
                <a:lnTo>
                  <a:pt x="297" y="1765"/>
                </a:lnTo>
                <a:lnTo>
                  <a:pt x="264" y="1798"/>
                </a:lnTo>
                <a:lnTo>
                  <a:pt x="264" y="1824"/>
                </a:lnTo>
                <a:lnTo>
                  <a:pt x="264" y="1857"/>
                </a:lnTo>
                <a:lnTo>
                  <a:pt x="238" y="1883"/>
                </a:lnTo>
                <a:lnTo>
                  <a:pt x="238" y="1916"/>
                </a:lnTo>
                <a:lnTo>
                  <a:pt x="238" y="1943"/>
                </a:lnTo>
                <a:lnTo>
                  <a:pt x="205" y="1976"/>
                </a:lnTo>
                <a:lnTo>
                  <a:pt x="205" y="2002"/>
                </a:lnTo>
                <a:lnTo>
                  <a:pt x="178" y="2035"/>
                </a:lnTo>
                <a:lnTo>
                  <a:pt x="178" y="2061"/>
                </a:lnTo>
                <a:lnTo>
                  <a:pt x="178" y="2094"/>
                </a:lnTo>
                <a:lnTo>
                  <a:pt x="145" y="2120"/>
                </a:lnTo>
                <a:lnTo>
                  <a:pt x="145" y="2153"/>
                </a:lnTo>
                <a:lnTo>
                  <a:pt x="145" y="2180"/>
                </a:lnTo>
                <a:lnTo>
                  <a:pt x="119" y="2213"/>
                </a:lnTo>
                <a:lnTo>
                  <a:pt x="119" y="2239"/>
                </a:lnTo>
                <a:lnTo>
                  <a:pt x="119" y="2272"/>
                </a:lnTo>
                <a:lnTo>
                  <a:pt x="86" y="2298"/>
                </a:lnTo>
                <a:lnTo>
                  <a:pt x="86" y="2331"/>
                </a:lnTo>
                <a:lnTo>
                  <a:pt x="86" y="2357"/>
                </a:lnTo>
                <a:lnTo>
                  <a:pt x="60" y="2390"/>
                </a:lnTo>
                <a:lnTo>
                  <a:pt x="60" y="2417"/>
                </a:lnTo>
                <a:lnTo>
                  <a:pt x="60" y="2450"/>
                </a:lnTo>
                <a:lnTo>
                  <a:pt x="27" y="2476"/>
                </a:lnTo>
                <a:lnTo>
                  <a:pt x="27" y="2502"/>
                </a:lnTo>
                <a:lnTo>
                  <a:pt x="27" y="2535"/>
                </a:lnTo>
                <a:lnTo>
                  <a:pt x="0" y="2561"/>
                </a:lnTo>
                <a:lnTo>
                  <a:pt x="0" y="2594"/>
                </a:lnTo>
                <a:lnTo>
                  <a:pt x="0" y="2621"/>
                </a:lnTo>
                <a:lnTo>
                  <a:pt x="27" y="2621"/>
                </a:lnTo>
                <a:lnTo>
                  <a:pt x="60" y="2654"/>
                </a:lnTo>
                <a:lnTo>
                  <a:pt x="86" y="2654"/>
                </a:lnTo>
                <a:lnTo>
                  <a:pt x="119" y="2680"/>
                </a:lnTo>
                <a:lnTo>
                  <a:pt x="145" y="2713"/>
                </a:lnTo>
                <a:lnTo>
                  <a:pt x="178" y="2713"/>
                </a:lnTo>
                <a:lnTo>
                  <a:pt x="205" y="2739"/>
                </a:lnTo>
                <a:lnTo>
                  <a:pt x="238" y="2739"/>
                </a:lnTo>
                <a:lnTo>
                  <a:pt x="264" y="2772"/>
                </a:lnTo>
                <a:lnTo>
                  <a:pt x="297" y="2772"/>
                </a:lnTo>
                <a:lnTo>
                  <a:pt x="323" y="2798"/>
                </a:lnTo>
                <a:lnTo>
                  <a:pt x="350" y="2798"/>
                </a:lnTo>
                <a:lnTo>
                  <a:pt x="383" y="2831"/>
                </a:lnTo>
                <a:lnTo>
                  <a:pt x="409" y="2831"/>
                </a:lnTo>
                <a:lnTo>
                  <a:pt x="442" y="2858"/>
                </a:lnTo>
                <a:lnTo>
                  <a:pt x="468" y="2858"/>
                </a:lnTo>
                <a:lnTo>
                  <a:pt x="501" y="2858"/>
                </a:lnTo>
                <a:close/>
              </a:path>
            </a:pathLst>
          </a:custGeom>
          <a:solidFill>
            <a:srgbClr val="ff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0" name=""/>
          <p:cNvSpPr/>
          <p:nvPr/>
        </p:nvSpPr>
        <p:spPr>
          <a:xfrm>
            <a:off x="3875040" y="4100400"/>
            <a:ext cx="41400" cy="320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1" name=""/>
          <p:cNvSpPr/>
          <p:nvPr/>
        </p:nvSpPr>
        <p:spPr>
          <a:xfrm>
            <a:off x="3936960" y="4152960"/>
            <a:ext cx="22320" cy="31680"/>
          </a:xfrm>
          <a:custGeom>
            <a:avLst/>
            <a:gdLst/>
            <a:ahLst/>
            <a:rect l="l" t="t" r="r" b="b"/>
            <a:pathLst>
              <a:path w="14" h="20">
                <a:moveTo>
                  <a:pt x="7" y="0"/>
                </a:moveTo>
                <a:lnTo>
                  <a:pt x="14" y="0"/>
                </a:lnTo>
                <a:lnTo>
                  <a:pt x="0" y="20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2" name=""/>
          <p:cNvSpPr/>
          <p:nvPr/>
        </p:nvSpPr>
        <p:spPr>
          <a:xfrm flipH="1">
            <a:off x="3906360" y="4226040"/>
            <a:ext cx="9720" cy="428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3" name=""/>
          <p:cNvSpPr/>
          <p:nvPr/>
        </p:nvSpPr>
        <p:spPr>
          <a:xfrm>
            <a:off x="3936960" y="4299120"/>
            <a:ext cx="31680" cy="2052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4" name=""/>
          <p:cNvSpPr/>
          <p:nvPr/>
        </p:nvSpPr>
        <p:spPr>
          <a:xfrm>
            <a:off x="4000680" y="4341960"/>
            <a:ext cx="41040" cy="2988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5" name=""/>
          <p:cNvSpPr/>
          <p:nvPr/>
        </p:nvSpPr>
        <p:spPr>
          <a:xfrm>
            <a:off x="4073400" y="4394160"/>
            <a:ext cx="32040" cy="30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6" name=""/>
          <p:cNvSpPr/>
          <p:nvPr/>
        </p:nvSpPr>
        <p:spPr>
          <a:xfrm>
            <a:off x="4137120" y="4444920"/>
            <a:ext cx="41040" cy="31680"/>
          </a:xfrm>
          <a:custGeom>
            <a:avLst/>
            <a:gdLst/>
            <a:ahLst/>
            <a:rect l="l" t="t" r="r" b="b"/>
            <a:pathLst>
              <a:path w="26" h="20">
                <a:moveTo>
                  <a:pt x="0" y="0"/>
                </a:moveTo>
                <a:lnTo>
                  <a:pt x="19" y="14"/>
                </a:lnTo>
                <a:lnTo>
                  <a:pt x="26" y="20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7" name=""/>
          <p:cNvSpPr/>
          <p:nvPr/>
        </p:nvSpPr>
        <p:spPr>
          <a:xfrm>
            <a:off x="4210200" y="4497480"/>
            <a:ext cx="31680" cy="21960"/>
          </a:xfrm>
          <a:custGeom>
            <a:avLst/>
            <a:gdLst/>
            <a:ahLst/>
            <a:rect l="l" t="t" r="r" b="b"/>
            <a:pathLst>
              <a:path w="20" h="14">
                <a:moveTo>
                  <a:pt x="0" y="0"/>
                </a:moveTo>
                <a:lnTo>
                  <a:pt x="20" y="14"/>
                </a:lnTo>
                <a:lnTo>
                  <a:pt x="20" y="14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8" name=""/>
          <p:cNvSpPr/>
          <p:nvPr/>
        </p:nvSpPr>
        <p:spPr>
          <a:xfrm>
            <a:off x="4282920" y="4549680"/>
            <a:ext cx="32040" cy="2088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9" name=""/>
          <p:cNvSpPr/>
          <p:nvPr/>
        </p:nvSpPr>
        <p:spPr>
          <a:xfrm>
            <a:off x="5495760" y="4394160"/>
            <a:ext cx="43200" cy="18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0" name=""/>
          <p:cNvSpPr/>
          <p:nvPr/>
        </p:nvSpPr>
        <p:spPr>
          <a:xfrm>
            <a:off x="5538960" y="4435560"/>
            <a:ext cx="29880" cy="9360"/>
          </a:xfrm>
          <a:custGeom>
            <a:avLst/>
            <a:gdLst/>
            <a:ahLst/>
            <a:rect l="l" t="t" r="r" b="b"/>
            <a:pathLst>
              <a:path w="19" h="6">
                <a:moveTo>
                  <a:pt x="0" y="0"/>
                </a:moveTo>
                <a:lnTo>
                  <a:pt x="0" y="0"/>
                </a:lnTo>
                <a:lnTo>
                  <a:pt x="19" y="6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1" name=""/>
          <p:cNvSpPr/>
          <p:nvPr/>
        </p:nvSpPr>
        <p:spPr>
          <a:xfrm>
            <a:off x="5611680" y="4467240"/>
            <a:ext cx="41400" cy="20520"/>
          </a:xfrm>
          <a:custGeom>
            <a:avLst/>
            <a:gdLst/>
            <a:ahLst/>
            <a:rect l="l" t="t" r="r" b="b"/>
            <a:pathLst>
              <a:path w="26" h="13">
                <a:moveTo>
                  <a:pt x="0" y="0"/>
                </a:moveTo>
                <a:lnTo>
                  <a:pt x="19" y="13"/>
                </a:lnTo>
                <a:lnTo>
                  <a:pt x="26" y="13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2" name=""/>
          <p:cNvSpPr/>
          <p:nvPr/>
        </p:nvSpPr>
        <p:spPr>
          <a:xfrm>
            <a:off x="5694480" y="4497480"/>
            <a:ext cx="42840" cy="1116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3" name=""/>
          <p:cNvSpPr/>
          <p:nvPr/>
        </p:nvSpPr>
        <p:spPr>
          <a:xfrm>
            <a:off x="5464080" y="3881520"/>
            <a:ext cx="11160" cy="41040"/>
          </a:xfrm>
          <a:custGeom>
            <a:avLst/>
            <a:gdLst/>
            <a:ahLst/>
            <a:rect l="l" t="t" r="r" b="b"/>
            <a:pathLst>
              <a:path w="7" h="26">
                <a:moveTo>
                  <a:pt x="7" y="0"/>
                </a:moveTo>
                <a:lnTo>
                  <a:pt x="0" y="20"/>
                </a:lnTo>
                <a:lnTo>
                  <a:pt x="0" y="26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4" name=""/>
          <p:cNvSpPr/>
          <p:nvPr/>
        </p:nvSpPr>
        <p:spPr>
          <a:xfrm>
            <a:off x="5464080" y="3965400"/>
            <a:ext cx="1800" cy="414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5" name=""/>
          <p:cNvSpPr/>
          <p:nvPr/>
        </p:nvSpPr>
        <p:spPr>
          <a:xfrm>
            <a:off x="5464080" y="4048200"/>
            <a:ext cx="1800" cy="428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6" name=""/>
          <p:cNvSpPr/>
          <p:nvPr/>
        </p:nvSpPr>
        <p:spPr>
          <a:xfrm>
            <a:off x="5464080" y="4132440"/>
            <a:ext cx="1800" cy="410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7" name=""/>
          <p:cNvSpPr/>
          <p:nvPr/>
        </p:nvSpPr>
        <p:spPr>
          <a:xfrm>
            <a:off x="5464080" y="4226040"/>
            <a:ext cx="22320" cy="11160"/>
          </a:xfrm>
          <a:custGeom>
            <a:avLst/>
            <a:gdLst/>
            <a:ahLst/>
            <a:rect l="l" t="t" r="r" b="b"/>
            <a:pathLst>
              <a:path w="14" h="7">
                <a:moveTo>
                  <a:pt x="0" y="0"/>
                </a:moveTo>
                <a:lnTo>
                  <a:pt x="0" y="7"/>
                </a:lnTo>
                <a:lnTo>
                  <a:pt x="14" y="7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8" name=""/>
          <p:cNvSpPr/>
          <p:nvPr/>
        </p:nvSpPr>
        <p:spPr>
          <a:xfrm>
            <a:off x="5495760" y="4268880"/>
            <a:ext cx="1800" cy="410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9" name=""/>
          <p:cNvSpPr/>
          <p:nvPr/>
        </p:nvSpPr>
        <p:spPr>
          <a:xfrm>
            <a:off x="5486400" y="4362480"/>
            <a:ext cx="1440" cy="31680"/>
          </a:xfrm>
          <a:custGeom>
            <a:avLst/>
            <a:gdLst/>
            <a:ahLst/>
            <a:rect l="l" t="t" r="r" b="b"/>
            <a:pathLst>
              <a:path w="0" h="20">
                <a:moveTo>
                  <a:pt x="0" y="0"/>
                </a:moveTo>
                <a:lnTo>
                  <a:pt x="0" y="20"/>
                </a:lnTo>
                <a:lnTo>
                  <a:pt x="0" y="20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0" name=""/>
          <p:cNvSpPr/>
          <p:nvPr/>
        </p:nvSpPr>
        <p:spPr>
          <a:xfrm>
            <a:off x="4533840" y="4937040"/>
            <a:ext cx="11160" cy="414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1" name=""/>
          <p:cNvSpPr/>
          <p:nvPr/>
        </p:nvSpPr>
        <p:spPr>
          <a:xfrm>
            <a:off x="4545000" y="5021280"/>
            <a:ext cx="9360" cy="414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2" name=""/>
          <p:cNvSpPr/>
          <p:nvPr/>
        </p:nvSpPr>
        <p:spPr>
          <a:xfrm>
            <a:off x="4565520" y="5103720"/>
            <a:ext cx="9720" cy="428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3" name=""/>
          <p:cNvSpPr/>
          <p:nvPr/>
        </p:nvSpPr>
        <p:spPr>
          <a:xfrm>
            <a:off x="4586400" y="5187960"/>
            <a:ext cx="1440" cy="414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4" name=""/>
          <p:cNvSpPr/>
          <p:nvPr/>
        </p:nvSpPr>
        <p:spPr>
          <a:xfrm>
            <a:off x="4597560" y="5272200"/>
            <a:ext cx="9360" cy="410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5" name=""/>
          <p:cNvSpPr/>
          <p:nvPr/>
        </p:nvSpPr>
        <p:spPr>
          <a:xfrm>
            <a:off x="4618080" y="5354640"/>
            <a:ext cx="9360" cy="428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6" name=""/>
          <p:cNvSpPr/>
          <p:nvPr/>
        </p:nvSpPr>
        <p:spPr>
          <a:xfrm>
            <a:off x="4638600" y="5438880"/>
            <a:ext cx="1800" cy="410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7" name=""/>
          <p:cNvSpPr/>
          <p:nvPr/>
        </p:nvSpPr>
        <p:spPr>
          <a:xfrm>
            <a:off x="4554360" y="4925880"/>
            <a:ext cx="20880" cy="428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8" name=""/>
          <p:cNvSpPr/>
          <p:nvPr/>
        </p:nvSpPr>
        <p:spPr>
          <a:xfrm>
            <a:off x="4597560" y="5010120"/>
            <a:ext cx="9360" cy="3168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9" name=""/>
          <p:cNvSpPr/>
          <p:nvPr/>
        </p:nvSpPr>
        <p:spPr>
          <a:xfrm>
            <a:off x="4627440" y="5083200"/>
            <a:ext cx="20880" cy="414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0" name=""/>
          <p:cNvSpPr/>
          <p:nvPr/>
        </p:nvSpPr>
        <p:spPr>
          <a:xfrm>
            <a:off x="4670280" y="5156280"/>
            <a:ext cx="20880" cy="410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1" name=""/>
          <p:cNvSpPr/>
          <p:nvPr/>
        </p:nvSpPr>
        <p:spPr>
          <a:xfrm>
            <a:off x="4700520" y="5229360"/>
            <a:ext cx="22320" cy="428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2" name=""/>
          <p:cNvSpPr/>
          <p:nvPr/>
        </p:nvSpPr>
        <p:spPr>
          <a:xfrm>
            <a:off x="4606920" y="5313240"/>
            <a:ext cx="41400" cy="18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3" name=""/>
          <p:cNvSpPr/>
          <p:nvPr/>
        </p:nvSpPr>
        <p:spPr>
          <a:xfrm>
            <a:off x="4691160" y="5272200"/>
            <a:ext cx="41040" cy="20520"/>
          </a:xfrm>
          <a:custGeom>
            <a:avLst/>
            <a:gdLst/>
            <a:ahLst/>
            <a:rect l="l" t="t" r="r" b="b"/>
            <a:pathLst>
              <a:path w="26" h="13">
                <a:moveTo>
                  <a:pt x="0" y="13"/>
                </a:moveTo>
                <a:lnTo>
                  <a:pt x="13" y="6"/>
                </a:lnTo>
                <a:lnTo>
                  <a:pt x="26" y="0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4" name=""/>
          <p:cNvSpPr/>
          <p:nvPr/>
        </p:nvSpPr>
        <p:spPr>
          <a:xfrm>
            <a:off x="4764240" y="5229360"/>
            <a:ext cx="31680" cy="20520"/>
          </a:xfrm>
          <a:custGeom>
            <a:avLst/>
            <a:gdLst/>
            <a:ahLst/>
            <a:rect l="l" t="t" r="r" b="b"/>
            <a:pathLst>
              <a:path w="20" h="13">
                <a:moveTo>
                  <a:pt x="0" y="13"/>
                </a:moveTo>
                <a:lnTo>
                  <a:pt x="20" y="0"/>
                </a:lnTo>
                <a:lnTo>
                  <a:pt x="20" y="0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5" name=""/>
          <p:cNvSpPr/>
          <p:nvPr/>
        </p:nvSpPr>
        <p:spPr>
          <a:xfrm>
            <a:off x="4836960" y="5219640"/>
            <a:ext cx="41400" cy="1800"/>
          </a:xfrm>
          <a:custGeom>
            <a:avLst/>
            <a:gdLst/>
            <a:ahLst/>
            <a:rect l="l" t="t" r="r" b="b"/>
            <a:pathLst>
              <a:path w="26" h="0">
                <a:moveTo>
                  <a:pt x="0" y="0"/>
                </a:moveTo>
                <a:lnTo>
                  <a:pt x="26" y="0"/>
                </a:lnTo>
                <a:lnTo>
                  <a:pt x="26" y="0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6" name=""/>
          <p:cNvSpPr/>
          <p:nvPr/>
        </p:nvSpPr>
        <p:spPr>
          <a:xfrm>
            <a:off x="4921200" y="5208480"/>
            <a:ext cx="52560" cy="1800"/>
          </a:xfrm>
          <a:custGeom>
            <a:avLst/>
            <a:gdLst/>
            <a:ahLst/>
            <a:rect l="l" t="t" r="r" b="b"/>
            <a:pathLst>
              <a:path w="33" h="0">
                <a:moveTo>
                  <a:pt x="0" y="0"/>
                </a:moveTo>
                <a:lnTo>
                  <a:pt x="13" y="0"/>
                </a:lnTo>
                <a:lnTo>
                  <a:pt x="33" y="0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7" name=""/>
          <p:cNvSpPr/>
          <p:nvPr/>
        </p:nvSpPr>
        <p:spPr>
          <a:xfrm>
            <a:off x="5014800" y="5197320"/>
            <a:ext cx="41400" cy="11160"/>
          </a:xfrm>
          <a:custGeom>
            <a:avLst/>
            <a:gdLst/>
            <a:ahLst/>
            <a:rect l="l" t="t" r="r" b="b"/>
            <a:pathLst>
              <a:path w="26" h="7">
                <a:moveTo>
                  <a:pt x="0" y="7"/>
                </a:moveTo>
                <a:lnTo>
                  <a:pt x="20" y="0"/>
                </a:lnTo>
                <a:lnTo>
                  <a:pt x="26" y="0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8" name=""/>
          <p:cNvSpPr/>
          <p:nvPr/>
        </p:nvSpPr>
        <p:spPr>
          <a:xfrm>
            <a:off x="5078520" y="5219640"/>
            <a:ext cx="1440" cy="414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9" name=""/>
          <p:cNvSpPr/>
          <p:nvPr/>
        </p:nvSpPr>
        <p:spPr>
          <a:xfrm>
            <a:off x="5078520" y="5302080"/>
            <a:ext cx="1440" cy="432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0" name=""/>
          <p:cNvSpPr/>
          <p:nvPr/>
        </p:nvSpPr>
        <p:spPr>
          <a:xfrm>
            <a:off x="5078520" y="5386320"/>
            <a:ext cx="1440" cy="414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1" name=""/>
          <p:cNvSpPr/>
          <p:nvPr/>
        </p:nvSpPr>
        <p:spPr>
          <a:xfrm>
            <a:off x="5078520" y="5470560"/>
            <a:ext cx="1440" cy="2052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2" name=""/>
          <p:cNvSpPr/>
          <p:nvPr/>
        </p:nvSpPr>
        <p:spPr>
          <a:xfrm>
            <a:off x="5256360" y="4540320"/>
            <a:ext cx="41040" cy="936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3" name=""/>
          <p:cNvSpPr/>
          <p:nvPr/>
        </p:nvSpPr>
        <p:spPr>
          <a:xfrm>
            <a:off x="5329080" y="4549680"/>
            <a:ext cx="1800" cy="428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4" name=""/>
          <p:cNvSpPr/>
          <p:nvPr/>
        </p:nvSpPr>
        <p:spPr>
          <a:xfrm>
            <a:off x="5329080" y="4633920"/>
            <a:ext cx="1800" cy="414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5" name=""/>
          <p:cNvSpPr/>
          <p:nvPr/>
        </p:nvSpPr>
        <p:spPr>
          <a:xfrm>
            <a:off x="5318280" y="4718160"/>
            <a:ext cx="10800" cy="41040"/>
          </a:xfrm>
          <a:custGeom>
            <a:avLst/>
            <a:gdLst/>
            <a:ahLst/>
            <a:rect l="l" t="t" r="r" b="b"/>
            <a:pathLst>
              <a:path w="7" h="26">
                <a:moveTo>
                  <a:pt x="0" y="0"/>
                </a:moveTo>
                <a:lnTo>
                  <a:pt x="0" y="6"/>
                </a:lnTo>
                <a:lnTo>
                  <a:pt x="7" y="26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6" name=""/>
          <p:cNvSpPr/>
          <p:nvPr/>
        </p:nvSpPr>
        <p:spPr>
          <a:xfrm>
            <a:off x="5338800" y="4800600"/>
            <a:ext cx="1440" cy="428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7" name=""/>
          <p:cNvSpPr/>
          <p:nvPr/>
        </p:nvSpPr>
        <p:spPr>
          <a:xfrm>
            <a:off x="5349960" y="4884840"/>
            <a:ext cx="11160" cy="410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8" name=""/>
          <p:cNvSpPr/>
          <p:nvPr/>
        </p:nvSpPr>
        <p:spPr>
          <a:xfrm>
            <a:off x="5370480" y="4968720"/>
            <a:ext cx="11160" cy="414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9" name=""/>
          <p:cNvSpPr/>
          <p:nvPr/>
        </p:nvSpPr>
        <p:spPr>
          <a:xfrm>
            <a:off x="5361120" y="5051520"/>
            <a:ext cx="9360" cy="42840"/>
          </a:xfrm>
          <a:custGeom>
            <a:avLst/>
            <a:gdLst/>
            <a:ahLst/>
            <a:rect l="l" t="t" r="r" b="b"/>
            <a:pathLst>
              <a:path w="6" h="27">
                <a:moveTo>
                  <a:pt x="6" y="0"/>
                </a:moveTo>
                <a:lnTo>
                  <a:pt x="6" y="13"/>
                </a:lnTo>
                <a:lnTo>
                  <a:pt x="0" y="27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0" name=""/>
          <p:cNvSpPr/>
          <p:nvPr/>
        </p:nvSpPr>
        <p:spPr>
          <a:xfrm flipH="1">
            <a:off x="5338440" y="5135400"/>
            <a:ext cx="11160" cy="414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1" name=""/>
          <p:cNvSpPr/>
          <p:nvPr/>
        </p:nvSpPr>
        <p:spPr>
          <a:xfrm>
            <a:off x="4094280" y="5146560"/>
            <a:ext cx="42840" cy="1800"/>
          </a:xfrm>
          <a:custGeom>
            <a:avLst/>
            <a:gdLst/>
            <a:ahLst/>
            <a:rect l="l" t="t" r="r" b="b"/>
            <a:pathLst>
              <a:path w="27" h="0">
                <a:moveTo>
                  <a:pt x="0" y="0"/>
                </a:moveTo>
                <a:lnTo>
                  <a:pt x="20" y="0"/>
                </a:lnTo>
                <a:lnTo>
                  <a:pt x="27" y="0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2" name=""/>
          <p:cNvSpPr/>
          <p:nvPr/>
        </p:nvSpPr>
        <p:spPr>
          <a:xfrm>
            <a:off x="4178160" y="5146560"/>
            <a:ext cx="41400" cy="972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3" name=""/>
          <p:cNvSpPr/>
          <p:nvPr/>
        </p:nvSpPr>
        <p:spPr>
          <a:xfrm>
            <a:off x="4262400" y="5114880"/>
            <a:ext cx="1800" cy="41400"/>
          </a:xfrm>
          <a:custGeom>
            <a:avLst/>
            <a:gdLst/>
            <a:ahLst/>
            <a:rect l="l" t="t" r="r" b="b"/>
            <a:pathLst>
              <a:path w="0" h="26">
                <a:moveTo>
                  <a:pt x="0" y="26"/>
                </a:moveTo>
                <a:lnTo>
                  <a:pt x="0" y="6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4" name=""/>
          <p:cNvSpPr/>
          <p:nvPr/>
        </p:nvSpPr>
        <p:spPr>
          <a:xfrm flipV="1">
            <a:off x="4262400" y="5020920"/>
            <a:ext cx="1800" cy="5076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5" name=""/>
          <p:cNvSpPr/>
          <p:nvPr/>
        </p:nvSpPr>
        <p:spPr>
          <a:xfrm flipV="1">
            <a:off x="4282920" y="4989600"/>
            <a:ext cx="41400" cy="936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6" name=""/>
          <p:cNvSpPr/>
          <p:nvPr/>
        </p:nvSpPr>
        <p:spPr>
          <a:xfrm flipV="1">
            <a:off x="4367160" y="4968360"/>
            <a:ext cx="41400" cy="972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7" name=""/>
          <p:cNvSpPr/>
          <p:nvPr/>
        </p:nvSpPr>
        <p:spPr>
          <a:xfrm flipV="1">
            <a:off x="4449600" y="4937040"/>
            <a:ext cx="43200" cy="2088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8" name=""/>
          <p:cNvSpPr/>
          <p:nvPr/>
        </p:nvSpPr>
        <p:spPr>
          <a:xfrm>
            <a:off x="4533840" y="4916520"/>
            <a:ext cx="20520" cy="20520"/>
          </a:xfrm>
          <a:custGeom>
            <a:avLst/>
            <a:gdLst/>
            <a:ahLst/>
            <a:rect l="l" t="t" r="r" b="b"/>
            <a:pathLst>
              <a:path w="13" h="13">
                <a:moveTo>
                  <a:pt x="0" y="13"/>
                </a:moveTo>
                <a:lnTo>
                  <a:pt x="13" y="6"/>
                </a:lnTo>
                <a:lnTo>
                  <a:pt x="7" y="0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9" name=""/>
          <p:cNvSpPr/>
          <p:nvPr/>
        </p:nvSpPr>
        <p:spPr>
          <a:xfrm flipH="1" flipV="1">
            <a:off x="4512960" y="4831920"/>
            <a:ext cx="20520" cy="414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0" name=""/>
          <p:cNvSpPr/>
          <p:nvPr/>
        </p:nvSpPr>
        <p:spPr>
          <a:xfrm flipV="1">
            <a:off x="4502160" y="4779720"/>
            <a:ext cx="42840" cy="2052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1" name=""/>
          <p:cNvSpPr/>
          <p:nvPr/>
        </p:nvSpPr>
        <p:spPr>
          <a:xfrm>
            <a:off x="4586400" y="4748040"/>
            <a:ext cx="31680" cy="22320"/>
          </a:xfrm>
          <a:custGeom>
            <a:avLst/>
            <a:gdLst/>
            <a:ahLst/>
            <a:rect l="l" t="t" r="r" b="b"/>
            <a:pathLst>
              <a:path w="20" h="14">
                <a:moveTo>
                  <a:pt x="0" y="14"/>
                </a:moveTo>
                <a:lnTo>
                  <a:pt x="0" y="7"/>
                </a:lnTo>
                <a:lnTo>
                  <a:pt x="20" y="0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2" name=""/>
          <p:cNvSpPr/>
          <p:nvPr/>
        </p:nvSpPr>
        <p:spPr>
          <a:xfrm>
            <a:off x="4659480" y="4707000"/>
            <a:ext cx="41040" cy="20520"/>
          </a:xfrm>
          <a:custGeom>
            <a:avLst/>
            <a:gdLst/>
            <a:ahLst/>
            <a:rect l="l" t="t" r="r" b="b"/>
            <a:pathLst>
              <a:path w="26" h="13">
                <a:moveTo>
                  <a:pt x="0" y="13"/>
                </a:moveTo>
                <a:lnTo>
                  <a:pt x="7" y="13"/>
                </a:lnTo>
                <a:lnTo>
                  <a:pt x="26" y="0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3" name=""/>
          <p:cNvSpPr/>
          <p:nvPr/>
        </p:nvSpPr>
        <p:spPr>
          <a:xfrm flipV="1">
            <a:off x="4732200" y="4674960"/>
            <a:ext cx="42840" cy="2052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4" name=""/>
          <p:cNvSpPr/>
          <p:nvPr/>
        </p:nvSpPr>
        <p:spPr>
          <a:xfrm flipV="1">
            <a:off x="4816440" y="4645080"/>
            <a:ext cx="41400" cy="936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5" name=""/>
          <p:cNvSpPr/>
          <p:nvPr/>
        </p:nvSpPr>
        <p:spPr>
          <a:xfrm flipV="1">
            <a:off x="4889520" y="4601880"/>
            <a:ext cx="41400" cy="2052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6" name=""/>
          <p:cNvSpPr/>
          <p:nvPr/>
        </p:nvSpPr>
        <p:spPr>
          <a:xfrm flipV="1">
            <a:off x="4973760" y="4570200"/>
            <a:ext cx="31680" cy="2196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7" name=""/>
          <p:cNvSpPr/>
          <p:nvPr/>
        </p:nvSpPr>
        <p:spPr>
          <a:xfrm>
            <a:off x="5046840" y="4540320"/>
            <a:ext cx="41040" cy="9360"/>
          </a:xfrm>
          <a:custGeom>
            <a:avLst/>
            <a:gdLst/>
            <a:ahLst/>
            <a:rect l="l" t="t" r="r" b="b"/>
            <a:pathLst>
              <a:path w="26" h="6">
                <a:moveTo>
                  <a:pt x="0" y="6"/>
                </a:moveTo>
                <a:lnTo>
                  <a:pt x="6" y="6"/>
                </a:lnTo>
                <a:lnTo>
                  <a:pt x="20" y="0"/>
                </a:lnTo>
                <a:lnTo>
                  <a:pt x="26" y="0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8" name=""/>
          <p:cNvSpPr/>
          <p:nvPr/>
        </p:nvSpPr>
        <p:spPr>
          <a:xfrm>
            <a:off x="5130720" y="4549680"/>
            <a:ext cx="41400" cy="18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9" name=""/>
          <p:cNvSpPr/>
          <p:nvPr/>
        </p:nvSpPr>
        <p:spPr>
          <a:xfrm>
            <a:off x="5213520" y="4549680"/>
            <a:ext cx="31680" cy="11160"/>
          </a:xfrm>
          <a:custGeom>
            <a:avLst/>
            <a:gdLst/>
            <a:ahLst/>
            <a:rect l="l" t="t" r="r" b="b"/>
            <a:pathLst>
              <a:path w="20" h="7">
                <a:moveTo>
                  <a:pt x="0" y="0"/>
                </a:moveTo>
                <a:lnTo>
                  <a:pt x="20" y="0"/>
                </a:lnTo>
                <a:lnTo>
                  <a:pt x="13" y="7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0" name=""/>
          <p:cNvSpPr/>
          <p:nvPr/>
        </p:nvSpPr>
        <p:spPr>
          <a:xfrm flipH="1">
            <a:off x="5223960" y="4602240"/>
            <a:ext cx="9720" cy="428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1" name=""/>
          <p:cNvSpPr/>
          <p:nvPr/>
        </p:nvSpPr>
        <p:spPr>
          <a:xfrm flipH="1">
            <a:off x="5192640" y="4686480"/>
            <a:ext cx="20880" cy="410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2" name=""/>
          <p:cNvSpPr/>
          <p:nvPr/>
        </p:nvSpPr>
        <p:spPr>
          <a:xfrm>
            <a:off x="5160960" y="4770360"/>
            <a:ext cx="22320" cy="30240"/>
          </a:xfrm>
          <a:custGeom>
            <a:avLst/>
            <a:gdLst/>
            <a:ahLst/>
            <a:rect l="l" t="t" r="r" b="b"/>
            <a:pathLst>
              <a:path w="14" h="19">
                <a:moveTo>
                  <a:pt x="14" y="0"/>
                </a:moveTo>
                <a:lnTo>
                  <a:pt x="14" y="0"/>
                </a:lnTo>
                <a:lnTo>
                  <a:pt x="14" y="13"/>
                </a:lnTo>
                <a:lnTo>
                  <a:pt x="0" y="19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3" name=""/>
          <p:cNvSpPr/>
          <p:nvPr/>
        </p:nvSpPr>
        <p:spPr>
          <a:xfrm>
            <a:off x="5119560" y="4811760"/>
            <a:ext cx="20880" cy="414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4" name=""/>
          <p:cNvSpPr/>
          <p:nvPr/>
        </p:nvSpPr>
        <p:spPr>
          <a:xfrm>
            <a:off x="5160960" y="4896000"/>
            <a:ext cx="11160" cy="2988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5" name=""/>
          <p:cNvSpPr/>
          <p:nvPr/>
        </p:nvSpPr>
        <p:spPr>
          <a:xfrm>
            <a:off x="5192640" y="4968720"/>
            <a:ext cx="20880" cy="414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6" name=""/>
          <p:cNvSpPr/>
          <p:nvPr/>
        </p:nvSpPr>
        <p:spPr>
          <a:xfrm>
            <a:off x="5224320" y="5051520"/>
            <a:ext cx="20880" cy="3168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7" name=""/>
          <p:cNvSpPr/>
          <p:nvPr/>
        </p:nvSpPr>
        <p:spPr>
          <a:xfrm>
            <a:off x="5265720" y="5124600"/>
            <a:ext cx="11160" cy="428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8" name=""/>
          <p:cNvSpPr/>
          <p:nvPr/>
        </p:nvSpPr>
        <p:spPr>
          <a:xfrm>
            <a:off x="5308560" y="5197320"/>
            <a:ext cx="41400" cy="1800"/>
          </a:xfrm>
          <a:custGeom>
            <a:avLst/>
            <a:gdLst/>
            <a:ahLst/>
            <a:rect l="l" t="t" r="r" b="b"/>
            <a:pathLst>
              <a:path w="26" h="0">
                <a:moveTo>
                  <a:pt x="0" y="0"/>
                </a:moveTo>
                <a:lnTo>
                  <a:pt x="6" y="0"/>
                </a:lnTo>
                <a:lnTo>
                  <a:pt x="26" y="0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9" name=""/>
          <p:cNvSpPr/>
          <p:nvPr/>
        </p:nvSpPr>
        <p:spPr>
          <a:xfrm>
            <a:off x="5391000" y="5197320"/>
            <a:ext cx="42840" cy="1116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0" name=""/>
          <p:cNvSpPr/>
          <p:nvPr/>
        </p:nvSpPr>
        <p:spPr>
          <a:xfrm>
            <a:off x="5475240" y="5208480"/>
            <a:ext cx="41400" cy="11160"/>
          </a:xfrm>
          <a:custGeom>
            <a:avLst/>
            <a:gdLst/>
            <a:ahLst/>
            <a:rect l="l" t="t" r="r" b="b"/>
            <a:pathLst>
              <a:path w="26" h="7">
                <a:moveTo>
                  <a:pt x="0" y="0"/>
                </a:moveTo>
                <a:lnTo>
                  <a:pt x="13" y="0"/>
                </a:lnTo>
                <a:lnTo>
                  <a:pt x="20" y="0"/>
                </a:lnTo>
                <a:lnTo>
                  <a:pt x="26" y="7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1" name=""/>
          <p:cNvSpPr/>
          <p:nvPr/>
        </p:nvSpPr>
        <p:spPr>
          <a:xfrm>
            <a:off x="5548320" y="5240160"/>
            <a:ext cx="42840" cy="2088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2" name=""/>
          <p:cNvSpPr/>
          <p:nvPr/>
        </p:nvSpPr>
        <p:spPr>
          <a:xfrm>
            <a:off x="5621400" y="5281560"/>
            <a:ext cx="42840" cy="2052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3" name=""/>
          <p:cNvSpPr/>
          <p:nvPr/>
        </p:nvSpPr>
        <p:spPr>
          <a:xfrm>
            <a:off x="5694480" y="5322960"/>
            <a:ext cx="42840" cy="3168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4" name=""/>
          <p:cNvSpPr/>
          <p:nvPr/>
        </p:nvSpPr>
        <p:spPr>
          <a:xfrm>
            <a:off x="5769000" y="5375160"/>
            <a:ext cx="20520" cy="32040"/>
          </a:xfrm>
          <a:custGeom>
            <a:avLst/>
            <a:gdLst/>
            <a:ahLst/>
            <a:rect l="l" t="t" r="r" b="b"/>
            <a:pathLst>
              <a:path w="13" h="20">
                <a:moveTo>
                  <a:pt x="0" y="0"/>
                </a:moveTo>
                <a:lnTo>
                  <a:pt x="13" y="0"/>
                </a:lnTo>
                <a:lnTo>
                  <a:pt x="0" y="20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5" name=""/>
          <p:cNvSpPr/>
          <p:nvPr/>
        </p:nvSpPr>
        <p:spPr>
          <a:xfrm>
            <a:off x="5746680" y="5438880"/>
            <a:ext cx="1800" cy="3168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6" name=""/>
          <p:cNvSpPr/>
          <p:nvPr/>
        </p:nvSpPr>
        <p:spPr>
          <a:xfrm>
            <a:off x="2901960" y="3263760"/>
            <a:ext cx="774720" cy="376200"/>
          </a:xfrm>
          <a:custGeom>
            <a:avLst/>
            <a:gdLst/>
            <a:ahLst/>
            <a:rect l="l" t="t" r="r" b="b"/>
            <a:pathLst>
              <a:path w="488" h="237">
                <a:moveTo>
                  <a:pt x="488" y="47"/>
                </a:moveTo>
                <a:lnTo>
                  <a:pt x="442" y="40"/>
                </a:lnTo>
                <a:lnTo>
                  <a:pt x="303" y="20"/>
                </a:lnTo>
                <a:lnTo>
                  <a:pt x="211" y="7"/>
                </a:lnTo>
                <a:lnTo>
                  <a:pt x="152" y="0"/>
                </a:lnTo>
                <a:lnTo>
                  <a:pt x="152" y="60"/>
                </a:lnTo>
                <a:lnTo>
                  <a:pt x="152" y="119"/>
                </a:lnTo>
                <a:lnTo>
                  <a:pt x="145" y="126"/>
                </a:lnTo>
                <a:lnTo>
                  <a:pt x="145" y="145"/>
                </a:lnTo>
                <a:lnTo>
                  <a:pt x="99" y="178"/>
                </a:lnTo>
                <a:lnTo>
                  <a:pt x="40" y="218"/>
                </a:lnTo>
                <a:lnTo>
                  <a:pt x="0" y="237"/>
                </a:lnTo>
              </a:path>
            </a:pathLst>
          </a:custGeom>
          <a:noFill/>
          <a:ln w="11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7" name=""/>
          <p:cNvSpPr/>
          <p:nvPr/>
        </p:nvSpPr>
        <p:spPr>
          <a:xfrm flipH="1">
            <a:off x="4105440" y="4978440"/>
            <a:ext cx="9360" cy="428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8" name=""/>
          <p:cNvSpPr/>
          <p:nvPr/>
        </p:nvSpPr>
        <p:spPr>
          <a:xfrm flipH="1">
            <a:off x="4093920" y="5062680"/>
            <a:ext cx="11160" cy="410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9" name=""/>
          <p:cNvSpPr/>
          <p:nvPr/>
        </p:nvSpPr>
        <p:spPr>
          <a:xfrm flipH="1">
            <a:off x="4084200" y="5146560"/>
            <a:ext cx="9720" cy="414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0" name=""/>
          <p:cNvSpPr/>
          <p:nvPr/>
        </p:nvSpPr>
        <p:spPr>
          <a:xfrm>
            <a:off x="4073400" y="5229360"/>
            <a:ext cx="1800" cy="428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1" name=""/>
          <p:cNvSpPr/>
          <p:nvPr/>
        </p:nvSpPr>
        <p:spPr>
          <a:xfrm flipH="1">
            <a:off x="4052880" y="5313240"/>
            <a:ext cx="9360" cy="414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2" name=""/>
          <p:cNvSpPr/>
          <p:nvPr/>
        </p:nvSpPr>
        <p:spPr>
          <a:xfrm flipH="1">
            <a:off x="4041360" y="5397480"/>
            <a:ext cx="11160" cy="414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3" name=""/>
          <p:cNvSpPr/>
          <p:nvPr/>
        </p:nvSpPr>
        <p:spPr>
          <a:xfrm>
            <a:off x="4032360" y="5479920"/>
            <a:ext cx="1440" cy="320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4" name=""/>
          <p:cNvSpPr/>
          <p:nvPr/>
        </p:nvSpPr>
        <p:spPr>
          <a:xfrm flipV="1">
            <a:off x="4114800" y="4895640"/>
            <a:ext cx="11160" cy="824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5" name=""/>
          <p:cNvSpPr/>
          <p:nvPr/>
        </p:nvSpPr>
        <p:spPr>
          <a:xfrm>
            <a:off x="4146480" y="4748040"/>
            <a:ext cx="52560" cy="63720"/>
          </a:xfrm>
          <a:custGeom>
            <a:avLst/>
            <a:gdLst/>
            <a:ahLst/>
            <a:rect l="l" t="t" r="r" b="b"/>
            <a:pathLst>
              <a:path w="33" h="40">
                <a:moveTo>
                  <a:pt x="0" y="40"/>
                </a:moveTo>
                <a:lnTo>
                  <a:pt x="33" y="0"/>
                </a:lnTo>
                <a:lnTo>
                  <a:pt x="33" y="0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6" name=""/>
          <p:cNvSpPr/>
          <p:nvPr/>
        </p:nvSpPr>
        <p:spPr>
          <a:xfrm flipV="1">
            <a:off x="4262400" y="4622400"/>
            <a:ext cx="52560" cy="6372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7" name=""/>
          <p:cNvSpPr/>
          <p:nvPr/>
        </p:nvSpPr>
        <p:spPr>
          <a:xfrm flipV="1">
            <a:off x="4376880" y="4487760"/>
            <a:ext cx="52200" cy="6192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8" name=""/>
          <p:cNvSpPr/>
          <p:nvPr/>
        </p:nvSpPr>
        <p:spPr>
          <a:xfrm>
            <a:off x="4481640" y="4362480"/>
            <a:ext cx="63360" cy="61920"/>
          </a:xfrm>
          <a:custGeom>
            <a:avLst/>
            <a:gdLst/>
            <a:ahLst/>
            <a:rect l="l" t="t" r="r" b="b"/>
            <a:pathLst>
              <a:path w="40" h="39">
                <a:moveTo>
                  <a:pt x="0" y="39"/>
                </a:moveTo>
                <a:lnTo>
                  <a:pt x="13" y="26"/>
                </a:lnTo>
                <a:lnTo>
                  <a:pt x="40" y="0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9" name=""/>
          <p:cNvSpPr/>
          <p:nvPr/>
        </p:nvSpPr>
        <p:spPr>
          <a:xfrm>
            <a:off x="4597560" y="4257720"/>
            <a:ext cx="72720" cy="41400"/>
          </a:xfrm>
          <a:custGeom>
            <a:avLst/>
            <a:gdLst/>
            <a:ahLst/>
            <a:rect l="l" t="t" r="r" b="b"/>
            <a:pathLst>
              <a:path w="46" h="26">
                <a:moveTo>
                  <a:pt x="0" y="26"/>
                </a:moveTo>
                <a:lnTo>
                  <a:pt x="19" y="0"/>
                </a:lnTo>
                <a:lnTo>
                  <a:pt x="46" y="7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0" name=""/>
          <p:cNvSpPr/>
          <p:nvPr/>
        </p:nvSpPr>
        <p:spPr>
          <a:xfrm flipV="1">
            <a:off x="4743360" y="4237200"/>
            <a:ext cx="31680" cy="936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1" name=""/>
          <p:cNvSpPr/>
          <p:nvPr/>
        </p:nvSpPr>
        <p:spPr>
          <a:xfrm>
            <a:off x="2901960" y="3639960"/>
            <a:ext cx="31680" cy="2232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2" name=""/>
          <p:cNvSpPr/>
          <p:nvPr/>
        </p:nvSpPr>
        <p:spPr>
          <a:xfrm>
            <a:off x="2975040" y="3672000"/>
            <a:ext cx="42840" cy="1116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3" name=""/>
          <p:cNvSpPr/>
          <p:nvPr/>
        </p:nvSpPr>
        <p:spPr>
          <a:xfrm>
            <a:off x="2995560" y="3714840"/>
            <a:ext cx="31680" cy="30240"/>
          </a:xfrm>
          <a:custGeom>
            <a:avLst/>
            <a:gdLst/>
            <a:ahLst/>
            <a:rect l="l" t="t" r="r" b="b"/>
            <a:pathLst>
              <a:path w="20" h="19">
                <a:moveTo>
                  <a:pt x="20" y="0"/>
                </a:moveTo>
                <a:lnTo>
                  <a:pt x="14" y="0"/>
                </a:lnTo>
                <a:lnTo>
                  <a:pt x="0" y="13"/>
                </a:lnTo>
                <a:lnTo>
                  <a:pt x="0" y="19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4" name=""/>
          <p:cNvSpPr/>
          <p:nvPr/>
        </p:nvSpPr>
        <p:spPr>
          <a:xfrm>
            <a:off x="2954160" y="3776760"/>
            <a:ext cx="20880" cy="41040"/>
          </a:xfrm>
          <a:custGeom>
            <a:avLst/>
            <a:gdLst/>
            <a:ahLst/>
            <a:rect l="l" t="t" r="r" b="b"/>
            <a:pathLst>
              <a:path w="13" h="26">
                <a:moveTo>
                  <a:pt x="13" y="0"/>
                </a:moveTo>
                <a:lnTo>
                  <a:pt x="13" y="7"/>
                </a:lnTo>
                <a:lnTo>
                  <a:pt x="7" y="13"/>
                </a:lnTo>
                <a:lnTo>
                  <a:pt x="7" y="20"/>
                </a:lnTo>
                <a:lnTo>
                  <a:pt x="0" y="26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5" name=""/>
          <p:cNvSpPr/>
          <p:nvPr/>
        </p:nvSpPr>
        <p:spPr>
          <a:xfrm>
            <a:off x="2943360" y="3860640"/>
            <a:ext cx="1440" cy="41400"/>
          </a:xfrm>
          <a:custGeom>
            <a:avLst/>
            <a:gdLst/>
            <a:ahLst/>
            <a:rect l="l" t="t" r="r" b="b"/>
            <a:pathLst>
              <a:path w="0" h="26">
                <a:moveTo>
                  <a:pt x="0" y="0"/>
                </a:moveTo>
                <a:lnTo>
                  <a:pt x="0" y="20"/>
                </a:lnTo>
                <a:lnTo>
                  <a:pt x="0" y="26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6" name=""/>
          <p:cNvSpPr/>
          <p:nvPr/>
        </p:nvSpPr>
        <p:spPr>
          <a:xfrm>
            <a:off x="2943360" y="3943440"/>
            <a:ext cx="1440" cy="42840"/>
          </a:xfrm>
          <a:custGeom>
            <a:avLst/>
            <a:gdLst/>
            <a:ahLst/>
            <a:rect l="l" t="t" r="r" b="b"/>
            <a:pathLst>
              <a:path w="0" h="27">
                <a:moveTo>
                  <a:pt x="0" y="0"/>
                </a:moveTo>
                <a:lnTo>
                  <a:pt x="0" y="14"/>
                </a:lnTo>
                <a:lnTo>
                  <a:pt x="0" y="27"/>
                </a:lnTo>
                <a:lnTo>
                  <a:pt x="0" y="27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7" name=""/>
          <p:cNvSpPr/>
          <p:nvPr/>
        </p:nvSpPr>
        <p:spPr>
          <a:xfrm>
            <a:off x="2933640" y="4027320"/>
            <a:ext cx="9720" cy="41400"/>
          </a:xfrm>
          <a:custGeom>
            <a:avLst/>
            <a:gdLst/>
            <a:ahLst/>
            <a:rect l="l" t="t" r="r" b="b"/>
            <a:pathLst>
              <a:path w="6" h="26">
                <a:moveTo>
                  <a:pt x="6" y="0"/>
                </a:moveTo>
                <a:lnTo>
                  <a:pt x="6" y="13"/>
                </a:lnTo>
                <a:lnTo>
                  <a:pt x="0" y="26"/>
                </a:lnTo>
                <a:lnTo>
                  <a:pt x="0" y="26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8" name=""/>
          <p:cNvSpPr/>
          <p:nvPr/>
        </p:nvSpPr>
        <p:spPr>
          <a:xfrm>
            <a:off x="2933640" y="4111560"/>
            <a:ext cx="9720" cy="41400"/>
          </a:xfrm>
          <a:custGeom>
            <a:avLst/>
            <a:gdLst/>
            <a:ahLst/>
            <a:rect l="l" t="t" r="r" b="b"/>
            <a:pathLst>
              <a:path w="6" h="26">
                <a:moveTo>
                  <a:pt x="0" y="0"/>
                </a:moveTo>
                <a:lnTo>
                  <a:pt x="0" y="6"/>
                </a:lnTo>
                <a:lnTo>
                  <a:pt x="6" y="20"/>
                </a:lnTo>
                <a:lnTo>
                  <a:pt x="6" y="26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9" name=""/>
          <p:cNvSpPr/>
          <p:nvPr/>
        </p:nvSpPr>
        <p:spPr>
          <a:xfrm>
            <a:off x="2954160" y="4194000"/>
            <a:ext cx="20880" cy="43200"/>
          </a:xfrm>
          <a:custGeom>
            <a:avLst/>
            <a:gdLst/>
            <a:ahLst/>
            <a:rect l="l" t="t" r="r" b="b"/>
            <a:pathLst>
              <a:path w="13" h="27">
                <a:moveTo>
                  <a:pt x="0" y="0"/>
                </a:moveTo>
                <a:lnTo>
                  <a:pt x="7" y="7"/>
                </a:lnTo>
                <a:lnTo>
                  <a:pt x="13" y="20"/>
                </a:lnTo>
                <a:lnTo>
                  <a:pt x="13" y="27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0" name=""/>
          <p:cNvSpPr/>
          <p:nvPr/>
        </p:nvSpPr>
        <p:spPr>
          <a:xfrm>
            <a:off x="2986200" y="4278240"/>
            <a:ext cx="9360" cy="31680"/>
          </a:xfrm>
          <a:custGeom>
            <a:avLst/>
            <a:gdLst/>
            <a:ahLst/>
            <a:rect l="l" t="t" r="r" b="b"/>
            <a:pathLst>
              <a:path w="6" h="20">
                <a:moveTo>
                  <a:pt x="0" y="0"/>
                </a:moveTo>
                <a:lnTo>
                  <a:pt x="0" y="0"/>
                </a:lnTo>
                <a:lnTo>
                  <a:pt x="0" y="13"/>
                </a:lnTo>
                <a:lnTo>
                  <a:pt x="0" y="20"/>
                </a:lnTo>
                <a:lnTo>
                  <a:pt x="6" y="20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1" name=""/>
          <p:cNvSpPr/>
          <p:nvPr/>
        </p:nvSpPr>
        <p:spPr>
          <a:xfrm>
            <a:off x="3006720" y="4351320"/>
            <a:ext cx="1440" cy="42840"/>
          </a:xfrm>
          <a:custGeom>
            <a:avLst/>
            <a:gdLst/>
            <a:ahLst/>
            <a:rect l="l" t="t" r="r" b="b"/>
            <a:pathLst>
              <a:path w="0" h="27">
                <a:moveTo>
                  <a:pt x="0" y="0"/>
                </a:moveTo>
                <a:lnTo>
                  <a:pt x="0" y="0"/>
                </a:lnTo>
                <a:lnTo>
                  <a:pt x="0" y="27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2" name=""/>
          <p:cNvSpPr/>
          <p:nvPr/>
        </p:nvSpPr>
        <p:spPr>
          <a:xfrm>
            <a:off x="3006720" y="4435560"/>
            <a:ext cx="1440" cy="41040"/>
          </a:xfrm>
          <a:custGeom>
            <a:avLst/>
            <a:gdLst/>
            <a:ahLst/>
            <a:rect l="l" t="t" r="r" b="b"/>
            <a:pathLst>
              <a:path w="0" h="26">
                <a:moveTo>
                  <a:pt x="0" y="0"/>
                </a:moveTo>
                <a:lnTo>
                  <a:pt x="0" y="20"/>
                </a:lnTo>
                <a:lnTo>
                  <a:pt x="0" y="26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3" name=""/>
          <p:cNvSpPr/>
          <p:nvPr/>
        </p:nvSpPr>
        <p:spPr>
          <a:xfrm>
            <a:off x="3006720" y="4519440"/>
            <a:ext cx="11160" cy="41400"/>
          </a:xfrm>
          <a:custGeom>
            <a:avLst/>
            <a:gdLst/>
            <a:ahLst/>
            <a:rect l="l" t="t" r="r" b="b"/>
            <a:pathLst>
              <a:path w="7" h="26">
                <a:moveTo>
                  <a:pt x="0" y="0"/>
                </a:moveTo>
                <a:lnTo>
                  <a:pt x="0" y="6"/>
                </a:lnTo>
                <a:lnTo>
                  <a:pt x="7" y="26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4" name=""/>
          <p:cNvSpPr/>
          <p:nvPr/>
        </p:nvSpPr>
        <p:spPr>
          <a:xfrm>
            <a:off x="3017880" y="4602240"/>
            <a:ext cx="9360" cy="42840"/>
          </a:xfrm>
          <a:custGeom>
            <a:avLst/>
            <a:gdLst/>
            <a:ahLst/>
            <a:rect l="l" t="t" r="r" b="b"/>
            <a:pathLst>
              <a:path w="6" h="27">
                <a:moveTo>
                  <a:pt x="0" y="0"/>
                </a:moveTo>
                <a:lnTo>
                  <a:pt x="0" y="13"/>
                </a:lnTo>
                <a:lnTo>
                  <a:pt x="0" y="27"/>
                </a:lnTo>
                <a:lnTo>
                  <a:pt x="6" y="27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5" name=""/>
          <p:cNvSpPr/>
          <p:nvPr/>
        </p:nvSpPr>
        <p:spPr>
          <a:xfrm>
            <a:off x="3068640" y="4665600"/>
            <a:ext cx="31680" cy="9720"/>
          </a:xfrm>
          <a:custGeom>
            <a:avLst/>
            <a:gdLst/>
            <a:ahLst/>
            <a:rect l="l" t="t" r="r" b="b"/>
            <a:pathLst>
              <a:path w="20" h="6">
                <a:moveTo>
                  <a:pt x="0" y="0"/>
                </a:moveTo>
                <a:lnTo>
                  <a:pt x="7" y="0"/>
                </a:lnTo>
                <a:lnTo>
                  <a:pt x="14" y="6"/>
                </a:lnTo>
                <a:lnTo>
                  <a:pt x="20" y="6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6" name=""/>
          <p:cNvSpPr/>
          <p:nvPr/>
        </p:nvSpPr>
        <p:spPr>
          <a:xfrm>
            <a:off x="3121200" y="4695840"/>
            <a:ext cx="1440" cy="428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7" name=""/>
          <p:cNvSpPr/>
          <p:nvPr/>
        </p:nvSpPr>
        <p:spPr>
          <a:xfrm>
            <a:off x="3143160" y="4780080"/>
            <a:ext cx="41400" cy="11160"/>
          </a:xfrm>
          <a:custGeom>
            <a:avLst/>
            <a:gdLst/>
            <a:ahLst/>
            <a:rect l="l" t="t" r="r" b="b"/>
            <a:pathLst>
              <a:path w="26" h="7">
                <a:moveTo>
                  <a:pt x="0" y="0"/>
                </a:moveTo>
                <a:lnTo>
                  <a:pt x="0" y="0"/>
                </a:lnTo>
                <a:lnTo>
                  <a:pt x="26" y="7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8" name=""/>
          <p:cNvSpPr/>
          <p:nvPr/>
        </p:nvSpPr>
        <p:spPr>
          <a:xfrm>
            <a:off x="3225960" y="4800600"/>
            <a:ext cx="42840" cy="14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9" name=""/>
          <p:cNvSpPr/>
          <p:nvPr/>
        </p:nvSpPr>
        <p:spPr>
          <a:xfrm>
            <a:off x="3309840" y="4811760"/>
            <a:ext cx="41400" cy="936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0" name=""/>
          <p:cNvSpPr/>
          <p:nvPr/>
        </p:nvSpPr>
        <p:spPr>
          <a:xfrm>
            <a:off x="3394080" y="4832280"/>
            <a:ext cx="41400" cy="1800"/>
          </a:xfrm>
          <a:custGeom>
            <a:avLst/>
            <a:gdLst/>
            <a:ahLst/>
            <a:rect l="l" t="t" r="r" b="b"/>
            <a:pathLst>
              <a:path w="26" h="0">
                <a:moveTo>
                  <a:pt x="0" y="0"/>
                </a:moveTo>
                <a:lnTo>
                  <a:pt x="6" y="0"/>
                </a:lnTo>
                <a:lnTo>
                  <a:pt x="26" y="0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1" name=""/>
          <p:cNvSpPr/>
          <p:nvPr/>
        </p:nvSpPr>
        <p:spPr>
          <a:xfrm>
            <a:off x="3476520" y="4843440"/>
            <a:ext cx="42840" cy="972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2" name=""/>
          <p:cNvSpPr/>
          <p:nvPr/>
        </p:nvSpPr>
        <p:spPr>
          <a:xfrm>
            <a:off x="3551400" y="4843440"/>
            <a:ext cx="41040" cy="9720"/>
          </a:xfrm>
          <a:custGeom>
            <a:avLst/>
            <a:gdLst/>
            <a:ahLst/>
            <a:rect l="l" t="t" r="r" b="b"/>
            <a:pathLst>
              <a:path w="26" h="6">
                <a:moveTo>
                  <a:pt x="0" y="0"/>
                </a:moveTo>
                <a:lnTo>
                  <a:pt x="6" y="0"/>
                </a:lnTo>
                <a:lnTo>
                  <a:pt x="19" y="6"/>
                </a:lnTo>
                <a:lnTo>
                  <a:pt x="26" y="6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3" name=""/>
          <p:cNvSpPr/>
          <p:nvPr/>
        </p:nvSpPr>
        <p:spPr>
          <a:xfrm>
            <a:off x="3633840" y="4873680"/>
            <a:ext cx="31680" cy="22320"/>
          </a:xfrm>
          <a:custGeom>
            <a:avLst/>
            <a:gdLst/>
            <a:ahLst/>
            <a:rect l="l" t="t" r="r" b="b"/>
            <a:pathLst>
              <a:path w="20" h="14">
                <a:moveTo>
                  <a:pt x="0" y="0"/>
                </a:moveTo>
                <a:lnTo>
                  <a:pt x="7" y="7"/>
                </a:lnTo>
                <a:lnTo>
                  <a:pt x="20" y="14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4" name=""/>
          <p:cNvSpPr/>
          <p:nvPr/>
        </p:nvSpPr>
        <p:spPr>
          <a:xfrm>
            <a:off x="3697200" y="4916520"/>
            <a:ext cx="9720" cy="41400"/>
          </a:xfrm>
          <a:custGeom>
            <a:avLst/>
            <a:gdLst/>
            <a:ahLst/>
            <a:rect l="l" t="t" r="r" b="b"/>
            <a:pathLst>
              <a:path w="6" h="26">
                <a:moveTo>
                  <a:pt x="6" y="0"/>
                </a:moveTo>
                <a:lnTo>
                  <a:pt x="6" y="6"/>
                </a:lnTo>
                <a:lnTo>
                  <a:pt x="0" y="26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5" name=""/>
          <p:cNvSpPr/>
          <p:nvPr/>
        </p:nvSpPr>
        <p:spPr>
          <a:xfrm flipH="1">
            <a:off x="3685680" y="4998960"/>
            <a:ext cx="11160" cy="428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6" name=""/>
          <p:cNvSpPr/>
          <p:nvPr/>
        </p:nvSpPr>
        <p:spPr>
          <a:xfrm flipH="1">
            <a:off x="3676680" y="5083200"/>
            <a:ext cx="9360" cy="414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7" name=""/>
          <p:cNvSpPr/>
          <p:nvPr/>
        </p:nvSpPr>
        <p:spPr>
          <a:xfrm>
            <a:off x="3656160" y="5167440"/>
            <a:ext cx="9360" cy="41040"/>
          </a:xfrm>
          <a:custGeom>
            <a:avLst/>
            <a:gdLst/>
            <a:ahLst/>
            <a:rect l="l" t="t" r="r" b="b"/>
            <a:pathLst>
              <a:path w="6" h="26">
                <a:moveTo>
                  <a:pt x="6" y="0"/>
                </a:moveTo>
                <a:lnTo>
                  <a:pt x="0" y="6"/>
                </a:lnTo>
                <a:lnTo>
                  <a:pt x="0" y="26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8" name=""/>
          <p:cNvSpPr/>
          <p:nvPr/>
        </p:nvSpPr>
        <p:spPr>
          <a:xfrm>
            <a:off x="3633840" y="5249880"/>
            <a:ext cx="11160" cy="42840"/>
          </a:xfrm>
          <a:custGeom>
            <a:avLst/>
            <a:gdLst/>
            <a:ahLst/>
            <a:rect l="l" t="t" r="r" b="b"/>
            <a:pathLst>
              <a:path w="7" h="27">
                <a:moveTo>
                  <a:pt x="7" y="0"/>
                </a:moveTo>
                <a:lnTo>
                  <a:pt x="7" y="0"/>
                </a:lnTo>
                <a:lnTo>
                  <a:pt x="0" y="27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9" name=""/>
          <p:cNvSpPr/>
          <p:nvPr/>
        </p:nvSpPr>
        <p:spPr>
          <a:xfrm>
            <a:off x="3633840" y="5334120"/>
            <a:ext cx="1440" cy="410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0" name=""/>
          <p:cNvSpPr/>
          <p:nvPr/>
        </p:nvSpPr>
        <p:spPr>
          <a:xfrm>
            <a:off x="3624120" y="5418000"/>
            <a:ext cx="1800" cy="414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1" name=""/>
          <p:cNvSpPr/>
          <p:nvPr/>
        </p:nvSpPr>
        <p:spPr>
          <a:xfrm>
            <a:off x="3613320" y="5500800"/>
            <a:ext cx="1440" cy="1116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2" name=""/>
          <p:cNvSpPr/>
          <p:nvPr/>
        </p:nvSpPr>
        <p:spPr>
          <a:xfrm flipH="1">
            <a:off x="6322680" y="5438880"/>
            <a:ext cx="41400" cy="14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3" name=""/>
          <p:cNvSpPr/>
          <p:nvPr/>
        </p:nvSpPr>
        <p:spPr>
          <a:xfrm flipH="1">
            <a:off x="6227640" y="5438880"/>
            <a:ext cx="52560" cy="14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4" name=""/>
          <p:cNvSpPr/>
          <p:nvPr/>
        </p:nvSpPr>
        <p:spPr>
          <a:xfrm flipH="1">
            <a:off x="6144840" y="5448240"/>
            <a:ext cx="41400" cy="18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5" name=""/>
          <p:cNvSpPr/>
          <p:nvPr/>
        </p:nvSpPr>
        <p:spPr>
          <a:xfrm flipH="1">
            <a:off x="6060600" y="5448240"/>
            <a:ext cx="41400" cy="18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6" name=""/>
          <p:cNvSpPr/>
          <p:nvPr/>
        </p:nvSpPr>
        <p:spPr>
          <a:xfrm flipH="1">
            <a:off x="5976720" y="5459400"/>
            <a:ext cx="42840" cy="14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7" name=""/>
          <p:cNvSpPr/>
          <p:nvPr/>
        </p:nvSpPr>
        <p:spPr>
          <a:xfrm flipH="1">
            <a:off x="5893920" y="5459400"/>
            <a:ext cx="41400" cy="14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8" name=""/>
          <p:cNvSpPr/>
          <p:nvPr/>
        </p:nvSpPr>
        <p:spPr>
          <a:xfrm flipH="1">
            <a:off x="5810400" y="5459400"/>
            <a:ext cx="41040" cy="1116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9" name=""/>
          <p:cNvSpPr/>
          <p:nvPr/>
        </p:nvSpPr>
        <p:spPr>
          <a:xfrm flipH="1">
            <a:off x="5725800" y="5470560"/>
            <a:ext cx="42840" cy="14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0" name=""/>
          <p:cNvSpPr/>
          <p:nvPr/>
        </p:nvSpPr>
        <p:spPr>
          <a:xfrm flipH="1">
            <a:off x="5632200" y="5470560"/>
            <a:ext cx="52200" cy="14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1" name=""/>
          <p:cNvSpPr/>
          <p:nvPr/>
        </p:nvSpPr>
        <p:spPr>
          <a:xfrm flipH="1">
            <a:off x="5547960" y="5470560"/>
            <a:ext cx="42840" cy="936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2" name=""/>
          <p:cNvSpPr/>
          <p:nvPr/>
        </p:nvSpPr>
        <p:spPr>
          <a:xfrm flipH="1">
            <a:off x="5463720" y="5479920"/>
            <a:ext cx="42840" cy="18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3" name=""/>
          <p:cNvSpPr/>
          <p:nvPr/>
        </p:nvSpPr>
        <p:spPr>
          <a:xfrm flipH="1">
            <a:off x="5381280" y="5479920"/>
            <a:ext cx="41400" cy="18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4" name=""/>
          <p:cNvSpPr/>
          <p:nvPr/>
        </p:nvSpPr>
        <p:spPr>
          <a:xfrm flipH="1">
            <a:off x="5297040" y="5479920"/>
            <a:ext cx="41400" cy="18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5" name=""/>
          <p:cNvSpPr/>
          <p:nvPr/>
        </p:nvSpPr>
        <p:spPr>
          <a:xfrm flipH="1">
            <a:off x="5213160" y="5479920"/>
            <a:ext cx="42840" cy="1116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6" name=""/>
          <p:cNvSpPr/>
          <p:nvPr/>
        </p:nvSpPr>
        <p:spPr>
          <a:xfrm flipH="1">
            <a:off x="5130360" y="5491080"/>
            <a:ext cx="41400" cy="18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7" name=""/>
          <p:cNvSpPr/>
          <p:nvPr/>
        </p:nvSpPr>
        <p:spPr>
          <a:xfrm flipH="1">
            <a:off x="5035320" y="5491080"/>
            <a:ext cx="42840" cy="18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8" name=""/>
          <p:cNvSpPr/>
          <p:nvPr/>
        </p:nvSpPr>
        <p:spPr>
          <a:xfrm flipH="1">
            <a:off x="4952520" y="5491080"/>
            <a:ext cx="41400" cy="18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9" name=""/>
          <p:cNvSpPr/>
          <p:nvPr/>
        </p:nvSpPr>
        <p:spPr>
          <a:xfrm flipH="1">
            <a:off x="4869000" y="5491080"/>
            <a:ext cx="41040" cy="972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0" name=""/>
          <p:cNvSpPr/>
          <p:nvPr/>
        </p:nvSpPr>
        <p:spPr>
          <a:xfrm flipH="1">
            <a:off x="4784400" y="5500800"/>
            <a:ext cx="42840" cy="14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1" name=""/>
          <p:cNvSpPr/>
          <p:nvPr/>
        </p:nvSpPr>
        <p:spPr>
          <a:xfrm flipH="1">
            <a:off x="4700160" y="5500800"/>
            <a:ext cx="42840" cy="14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2" name=""/>
          <p:cNvSpPr/>
          <p:nvPr/>
        </p:nvSpPr>
        <p:spPr>
          <a:xfrm flipH="1">
            <a:off x="4617720" y="5500800"/>
            <a:ext cx="41400" cy="14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3" name=""/>
          <p:cNvSpPr/>
          <p:nvPr/>
        </p:nvSpPr>
        <p:spPr>
          <a:xfrm flipH="1">
            <a:off x="4533480" y="5500800"/>
            <a:ext cx="41400" cy="14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4" name=""/>
          <p:cNvSpPr/>
          <p:nvPr/>
        </p:nvSpPr>
        <p:spPr>
          <a:xfrm flipH="1">
            <a:off x="4439880" y="5500800"/>
            <a:ext cx="41400" cy="14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5" name=""/>
          <p:cNvSpPr/>
          <p:nvPr/>
        </p:nvSpPr>
        <p:spPr>
          <a:xfrm flipH="1">
            <a:off x="4355640" y="5500800"/>
            <a:ext cx="41400" cy="14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6" name=""/>
          <p:cNvSpPr/>
          <p:nvPr/>
        </p:nvSpPr>
        <p:spPr>
          <a:xfrm flipH="1">
            <a:off x="4271760" y="5500800"/>
            <a:ext cx="42840" cy="14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7" name=""/>
          <p:cNvSpPr/>
          <p:nvPr/>
        </p:nvSpPr>
        <p:spPr>
          <a:xfrm flipH="1">
            <a:off x="4188960" y="5500800"/>
            <a:ext cx="41400" cy="14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8" name=""/>
          <p:cNvSpPr/>
          <p:nvPr/>
        </p:nvSpPr>
        <p:spPr>
          <a:xfrm flipH="1">
            <a:off x="4105440" y="5500800"/>
            <a:ext cx="41040" cy="14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9" name=""/>
          <p:cNvSpPr/>
          <p:nvPr/>
        </p:nvSpPr>
        <p:spPr>
          <a:xfrm flipH="1">
            <a:off x="4021200" y="5500800"/>
            <a:ext cx="41040" cy="14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0" name=""/>
          <p:cNvSpPr/>
          <p:nvPr/>
        </p:nvSpPr>
        <p:spPr>
          <a:xfrm flipH="1">
            <a:off x="3927600" y="5500800"/>
            <a:ext cx="41040" cy="14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1" name=""/>
          <p:cNvSpPr/>
          <p:nvPr/>
        </p:nvSpPr>
        <p:spPr>
          <a:xfrm flipH="1">
            <a:off x="3843000" y="5500800"/>
            <a:ext cx="41400" cy="1116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2" name=""/>
          <p:cNvSpPr/>
          <p:nvPr/>
        </p:nvSpPr>
        <p:spPr>
          <a:xfrm flipH="1">
            <a:off x="3758760" y="5511960"/>
            <a:ext cx="42840" cy="14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3" name=""/>
          <p:cNvSpPr/>
          <p:nvPr/>
        </p:nvSpPr>
        <p:spPr>
          <a:xfrm flipH="1">
            <a:off x="3676320" y="5511960"/>
            <a:ext cx="41400" cy="14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4" name=""/>
          <p:cNvSpPr/>
          <p:nvPr/>
        </p:nvSpPr>
        <p:spPr>
          <a:xfrm flipH="1">
            <a:off x="3592080" y="5511960"/>
            <a:ext cx="41400" cy="14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5" name=""/>
          <p:cNvSpPr/>
          <p:nvPr/>
        </p:nvSpPr>
        <p:spPr>
          <a:xfrm flipH="1">
            <a:off x="3508200" y="5511960"/>
            <a:ext cx="43200" cy="14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6" name=""/>
          <p:cNvSpPr/>
          <p:nvPr/>
        </p:nvSpPr>
        <p:spPr>
          <a:xfrm flipH="1">
            <a:off x="3425400" y="5511960"/>
            <a:ext cx="41400" cy="108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7" name=""/>
          <p:cNvSpPr/>
          <p:nvPr/>
        </p:nvSpPr>
        <p:spPr>
          <a:xfrm flipH="1">
            <a:off x="3330360" y="5522760"/>
            <a:ext cx="42840" cy="18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8" name=""/>
          <p:cNvSpPr/>
          <p:nvPr/>
        </p:nvSpPr>
        <p:spPr>
          <a:xfrm flipH="1">
            <a:off x="3247560" y="5522760"/>
            <a:ext cx="41400" cy="18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9" name=""/>
          <p:cNvSpPr/>
          <p:nvPr/>
        </p:nvSpPr>
        <p:spPr>
          <a:xfrm flipH="1">
            <a:off x="3164040" y="5522760"/>
            <a:ext cx="41040" cy="18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0" name=""/>
          <p:cNvSpPr/>
          <p:nvPr/>
        </p:nvSpPr>
        <p:spPr>
          <a:xfrm>
            <a:off x="3121200" y="5522760"/>
            <a:ext cx="1440" cy="18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1" name=""/>
          <p:cNvSpPr/>
          <p:nvPr/>
        </p:nvSpPr>
        <p:spPr>
          <a:xfrm flipV="1">
            <a:off x="6354720" y="5397120"/>
            <a:ext cx="9720" cy="414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2" name=""/>
          <p:cNvSpPr/>
          <p:nvPr/>
        </p:nvSpPr>
        <p:spPr>
          <a:xfrm flipV="1">
            <a:off x="6375240" y="5312880"/>
            <a:ext cx="9720" cy="414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3" name=""/>
          <p:cNvSpPr/>
          <p:nvPr/>
        </p:nvSpPr>
        <p:spPr>
          <a:xfrm>
            <a:off x="6396120" y="5229360"/>
            <a:ext cx="11160" cy="42840"/>
          </a:xfrm>
          <a:custGeom>
            <a:avLst/>
            <a:gdLst/>
            <a:ahLst/>
            <a:rect l="l" t="t" r="r" b="b"/>
            <a:pathLst>
              <a:path w="7" h="27">
                <a:moveTo>
                  <a:pt x="7" y="27"/>
                </a:moveTo>
                <a:lnTo>
                  <a:pt x="7" y="27"/>
                </a:lnTo>
                <a:lnTo>
                  <a:pt x="0" y="2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4" name=""/>
          <p:cNvSpPr/>
          <p:nvPr/>
        </p:nvSpPr>
        <p:spPr>
          <a:xfrm>
            <a:off x="6343560" y="5167440"/>
            <a:ext cx="20880" cy="29880"/>
          </a:xfrm>
          <a:custGeom>
            <a:avLst/>
            <a:gdLst/>
            <a:ahLst/>
            <a:rect l="l" t="t" r="r" b="b"/>
            <a:pathLst>
              <a:path w="13" h="19">
                <a:moveTo>
                  <a:pt x="13" y="19"/>
                </a:moveTo>
                <a:lnTo>
                  <a:pt x="7" y="13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5" name=""/>
          <p:cNvSpPr/>
          <p:nvPr/>
        </p:nvSpPr>
        <p:spPr>
          <a:xfrm>
            <a:off x="6291360" y="5094360"/>
            <a:ext cx="31680" cy="41040"/>
          </a:xfrm>
          <a:custGeom>
            <a:avLst/>
            <a:gdLst/>
            <a:ahLst/>
            <a:rect l="l" t="t" r="r" b="b"/>
            <a:pathLst>
              <a:path w="20" h="26">
                <a:moveTo>
                  <a:pt x="20" y="26"/>
                </a:moveTo>
                <a:lnTo>
                  <a:pt x="13" y="19"/>
                </a:lnTo>
                <a:lnTo>
                  <a:pt x="0" y="6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6" name=""/>
          <p:cNvSpPr/>
          <p:nvPr/>
        </p:nvSpPr>
        <p:spPr>
          <a:xfrm>
            <a:off x="6270480" y="5062680"/>
            <a:ext cx="1800" cy="14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7" name=""/>
          <p:cNvSpPr/>
          <p:nvPr/>
        </p:nvSpPr>
        <p:spPr>
          <a:xfrm>
            <a:off x="6291360" y="5062680"/>
            <a:ext cx="11160" cy="41040"/>
          </a:xfrm>
          <a:custGeom>
            <a:avLst/>
            <a:gdLst/>
            <a:ahLst/>
            <a:rect l="l" t="t" r="r" b="b"/>
            <a:pathLst>
              <a:path w="7" h="26">
                <a:moveTo>
                  <a:pt x="0" y="26"/>
                </a:moveTo>
                <a:lnTo>
                  <a:pt x="7" y="0"/>
                </a:lnTo>
                <a:lnTo>
                  <a:pt x="7" y="0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8" name=""/>
          <p:cNvSpPr/>
          <p:nvPr/>
        </p:nvSpPr>
        <p:spPr>
          <a:xfrm>
            <a:off x="6302520" y="4978440"/>
            <a:ext cx="9360" cy="42840"/>
          </a:xfrm>
          <a:custGeom>
            <a:avLst/>
            <a:gdLst/>
            <a:ahLst/>
            <a:rect l="l" t="t" r="r" b="b"/>
            <a:pathLst>
              <a:path w="6" h="27">
                <a:moveTo>
                  <a:pt x="6" y="27"/>
                </a:moveTo>
                <a:lnTo>
                  <a:pt x="0" y="13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9" name=""/>
          <p:cNvSpPr/>
          <p:nvPr/>
        </p:nvSpPr>
        <p:spPr>
          <a:xfrm>
            <a:off x="6259680" y="4905360"/>
            <a:ext cx="20520" cy="31680"/>
          </a:xfrm>
          <a:custGeom>
            <a:avLst/>
            <a:gdLst/>
            <a:ahLst/>
            <a:rect l="l" t="t" r="r" b="b"/>
            <a:pathLst>
              <a:path w="13" h="20">
                <a:moveTo>
                  <a:pt x="13" y="20"/>
                </a:moveTo>
                <a:lnTo>
                  <a:pt x="0" y="7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0" name=""/>
          <p:cNvSpPr/>
          <p:nvPr/>
        </p:nvSpPr>
        <p:spPr>
          <a:xfrm>
            <a:off x="6238800" y="4821120"/>
            <a:ext cx="1800" cy="42840"/>
          </a:xfrm>
          <a:custGeom>
            <a:avLst/>
            <a:gdLst/>
            <a:ahLst/>
            <a:rect l="l" t="t" r="r" b="b"/>
            <a:pathLst>
              <a:path w="0" h="27">
                <a:moveTo>
                  <a:pt x="0" y="27"/>
                </a:moveTo>
                <a:lnTo>
                  <a:pt x="0" y="2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1" name=""/>
          <p:cNvSpPr/>
          <p:nvPr/>
        </p:nvSpPr>
        <p:spPr>
          <a:xfrm>
            <a:off x="6238800" y="4738680"/>
            <a:ext cx="11160" cy="41400"/>
          </a:xfrm>
          <a:custGeom>
            <a:avLst/>
            <a:gdLst/>
            <a:ahLst/>
            <a:rect l="l" t="t" r="r" b="b"/>
            <a:pathLst>
              <a:path w="7" h="26">
                <a:moveTo>
                  <a:pt x="7" y="26"/>
                </a:moveTo>
                <a:lnTo>
                  <a:pt x="7" y="2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2" name=""/>
          <p:cNvSpPr/>
          <p:nvPr/>
        </p:nvSpPr>
        <p:spPr>
          <a:xfrm>
            <a:off x="6238800" y="4654440"/>
            <a:ext cx="11160" cy="41400"/>
          </a:xfrm>
          <a:custGeom>
            <a:avLst/>
            <a:gdLst/>
            <a:ahLst/>
            <a:rect l="l" t="t" r="r" b="b"/>
            <a:pathLst>
              <a:path w="7" h="26">
                <a:moveTo>
                  <a:pt x="0" y="26"/>
                </a:moveTo>
                <a:lnTo>
                  <a:pt x="0" y="20"/>
                </a:lnTo>
                <a:lnTo>
                  <a:pt x="0" y="7"/>
                </a:lnTo>
                <a:lnTo>
                  <a:pt x="7" y="0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3" name=""/>
          <p:cNvSpPr/>
          <p:nvPr/>
        </p:nvSpPr>
        <p:spPr>
          <a:xfrm>
            <a:off x="6270480" y="4570560"/>
            <a:ext cx="9720" cy="42840"/>
          </a:xfrm>
          <a:custGeom>
            <a:avLst/>
            <a:gdLst/>
            <a:ahLst/>
            <a:rect l="l" t="t" r="r" b="b"/>
            <a:pathLst>
              <a:path w="6" h="27">
                <a:moveTo>
                  <a:pt x="0" y="27"/>
                </a:moveTo>
                <a:lnTo>
                  <a:pt x="0" y="7"/>
                </a:lnTo>
                <a:lnTo>
                  <a:pt x="6" y="0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4" name=""/>
          <p:cNvSpPr/>
          <p:nvPr/>
        </p:nvSpPr>
        <p:spPr>
          <a:xfrm>
            <a:off x="6302520" y="4497480"/>
            <a:ext cx="1440" cy="42840"/>
          </a:xfrm>
          <a:custGeom>
            <a:avLst/>
            <a:gdLst/>
            <a:ahLst/>
            <a:rect l="l" t="t" r="r" b="b"/>
            <a:pathLst>
              <a:path w="0" h="27">
                <a:moveTo>
                  <a:pt x="0" y="27"/>
                </a:moveTo>
                <a:lnTo>
                  <a:pt x="0" y="20"/>
                </a:lnTo>
                <a:lnTo>
                  <a:pt x="0" y="7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5" name=""/>
          <p:cNvSpPr/>
          <p:nvPr/>
        </p:nvSpPr>
        <p:spPr>
          <a:xfrm>
            <a:off x="6323040" y="4456080"/>
            <a:ext cx="41400" cy="11160"/>
          </a:xfrm>
          <a:custGeom>
            <a:avLst/>
            <a:gdLst/>
            <a:ahLst/>
            <a:rect l="l" t="t" r="r" b="b"/>
            <a:pathLst>
              <a:path w="26" h="7">
                <a:moveTo>
                  <a:pt x="0" y="7"/>
                </a:moveTo>
                <a:lnTo>
                  <a:pt x="0" y="0"/>
                </a:lnTo>
                <a:lnTo>
                  <a:pt x="20" y="0"/>
                </a:lnTo>
                <a:lnTo>
                  <a:pt x="26" y="0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6" name=""/>
          <p:cNvSpPr/>
          <p:nvPr/>
        </p:nvSpPr>
        <p:spPr>
          <a:xfrm>
            <a:off x="6407280" y="4435560"/>
            <a:ext cx="41040" cy="9360"/>
          </a:xfrm>
          <a:custGeom>
            <a:avLst/>
            <a:gdLst/>
            <a:ahLst/>
            <a:rect l="l" t="t" r="r" b="b"/>
            <a:pathLst>
              <a:path w="26" h="6">
                <a:moveTo>
                  <a:pt x="0" y="6"/>
                </a:moveTo>
                <a:lnTo>
                  <a:pt x="6" y="6"/>
                </a:lnTo>
                <a:lnTo>
                  <a:pt x="26" y="0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7" name=""/>
          <p:cNvSpPr/>
          <p:nvPr/>
        </p:nvSpPr>
        <p:spPr>
          <a:xfrm>
            <a:off x="6480000" y="4394160"/>
            <a:ext cx="41400" cy="20520"/>
          </a:xfrm>
          <a:custGeom>
            <a:avLst/>
            <a:gdLst/>
            <a:ahLst/>
            <a:rect l="l" t="t" r="r" b="b"/>
            <a:pathLst>
              <a:path w="26" h="13">
                <a:moveTo>
                  <a:pt x="0" y="13"/>
                </a:moveTo>
                <a:lnTo>
                  <a:pt x="13" y="6"/>
                </a:lnTo>
                <a:lnTo>
                  <a:pt x="26" y="0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8" name=""/>
          <p:cNvSpPr/>
          <p:nvPr/>
        </p:nvSpPr>
        <p:spPr>
          <a:xfrm>
            <a:off x="6553080" y="4341960"/>
            <a:ext cx="32040" cy="29880"/>
          </a:xfrm>
          <a:custGeom>
            <a:avLst/>
            <a:gdLst/>
            <a:ahLst/>
            <a:rect l="l" t="t" r="r" b="b"/>
            <a:pathLst>
              <a:path w="20" h="19">
                <a:moveTo>
                  <a:pt x="0" y="19"/>
                </a:moveTo>
                <a:lnTo>
                  <a:pt x="13" y="6"/>
                </a:lnTo>
                <a:lnTo>
                  <a:pt x="20" y="0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9" name=""/>
          <p:cNvSpPr/>
          <p:nvPr/>
        </p:nvSpPr>
        <p:spPr>
          <a:xfrm flipV="1">
            <a:off x="6615000" y="4298760"/>
            <a:ext cx="20880" cy="2052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0" name=""/>
          <p:cNvSpPr/>
          <p:nvPr/>
        </p:nvSpPr>
        <p:spPr>
          <a:xfrm>
            <a:off x="5067360" y="3610080"/>
            <a:ext cx="209520" cy="207720"/>
          </a:xfrm>
          <a:custGeom>
            <a:avLst/>
            <a:gdLst/>
            <a:ahLst/>
            <a:rect l="l" t="t" r="r" b="b"/>
            <a:pathLst>
              <a:path w="132" h="131">
                <a:moveTo>
                  <a:pt x="0" y="39"/>
                </a:moveTo>
                <a:lnTo>
                  <a:pt x="13" y="98"/>
                </a:lnTo>
                <a:lnTo>
                  <a:pt x="40" y="125"/>
                </a:lnTo>
                <a:lnTo>
                  <a:pt x="86" y="131"/>
                </a:lnTo>
                <a:lnTo>
                  <a:pt x="125" y="98"/>
                </a:lnTo>
                <a:lnTo>
                  <a:pt x="132" y="46"/>
                </a:lnTo>
                <a:lnTo>
                  <a:pt x="92" y="26"/>
                </a:lnTo>
                <a:lnTo>
                  <a:pt x="59" y="0"/>
                </a:lnTo>
                <a:lnTo>
                  <a:pt x="33" y="13"/>
                </a:lnTo>
                <a:lnTo>
                  <a:pt x="0" y="39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1" name=""/>
          <p:cNvSpPr/>
          <p:nvPr/>
        </p:nvSpPr>
        <p:spPr>
          <a:xfrm>
            <a:off x="4900680" y="4194000"/>
            <a:ext cx="41040" cy="18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2" name=""/>
          <p:cNvSpPr/>
          <p:nvPr/>
        </p:nvSpPr>
        <p:spPr>
          <a:xfrm>
            <a:off x="4983120" y="4205160"/>
            <a:ext cx="42840" cy="1116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3" name=""/>
          <p:cNvSpPr/>
          <p:nvPr/>
        </p:nvSpPr>
        <p:spPr>
          <a:xfrm flipV="1">
            <a:off x="5046840" y="4164120"/>
            <a:ext cx="9360" cy="410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4" name=""/>
          <p:cNvSpPr/>
          <p:nvPr/>
        </p:nvSpPr>
        <p:spPr>
          <a:xfrm flipV="1">
            <a:off x="5067360" y="4079520"/>
            <a:ext cx="1440" cy="414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5" name=""/>
          <p:cNvSpPr/>
          <p:nvPr/>
        </p:nvSpPr>
        <p:spPr>
          <a:xfrm flipV="1">
            <a:off x="5078520" y="3995280"/>
            <a:ext cx="1440" cy="428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6" name=""/>
          <p:cNvSpPr/>
          <p:nvPr/>
        </p:nvSpPr>
        <p:spPr>
          <a:xfrm>
            <a:off x="5087880" y="3902040"/>
            <a:ext cx="1800" cy="41400"/>
          </a:xfrm>
          <a:custGeom>
            <a:avLst/>
            <a:gdLst/>
            <a:ahLst/>
            <a:rect l="l" t="t" r="r" b="b"/>
            <a:pathLst>
              <a:path w="0" h="26">
                <a:moveTo>
                  <a:pt x="0" y="26"/>
                </a:moveTo>
                <a:lnTo>
                  <a:pt x="0" y="7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47" name=""/>
          <p:cNvGrpSpPr/>
          <p:nvPr/>
        </p:nvGrpSpPr>
        <p:grpSpPr>
          <a:xfrm>
            <a:off x="3152880" y="2230200"/>
            <a:ext cx="3535200" cy="3281400"/>
            <a:chOff x="3152880" y="2230200"/>
            <a:chExt cx="3535200" cy="3281400"/>
          </a:xfrm>
        </p:grpSpPr>
        <p:sp>
          <p:nvSpPr>
            <p:cNvPr id="4948" name=""/>
            <p:cNvSpPr/>
            <p:nvPr/>
          </p:nvSpPr>
          <p:spPr>
            <a:xfrm>
              <a:off x="5078520" y="3828960"/>
              <a:ext cx="9360" cy="41400"/>
            </a:xfrm>
            <a:custGeom>
              <a:avLst/>
              <a:gdLst/>
              <a:ahLst/>
              <a:rect l="l" t="t" r="r" b="b"/>
              <a:pathLst>
                <a:path w="6" h="26">
                  <a:moveTo>
                    <a:pt x="0" y="26"/>
                  </a:moveTo>
                  <a:lnTo>
                    <a:pt x="6" y="0"/>
                  </a:lnTo>
                  <a:lnTo>
                    <a:pt x="6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9" name=""/>
            <p:cNvSpPr/>
            <p:nvPr/>
          </p:nvSpPr>
          <p:spPr>
            <a:xfrm>
              <a:off x="5130720" y="3840120"/>
              <a:ext cx="41400" cy="9720"/>
            </a:xfrm>
            <a:custGeom>
              <a:avLst/>
              <a:gdLst/>
              <a:ahLst/>
              <a:rect l="l" t="t" r="r" b="b"/>
              <a:pathLst>
                <a:path w="26" h="6">
                  <a:moveTo>
                    <a:pt x="0" y="0"/>
                  </a:moveTo>
                  <a:lnTo>
                    <a:pt x="6" y="0"/>
                  </a:lnTo>
                  <a:lnTo>
                    <a:pt x="26" y="6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0" name=""/>
            <p:cNvSpPr/>
            <p:nvPr/>
          </p:nvSpPr>
          <p:spPr>
            <a:xfrm>
              <a:off x="5213520" y="3860640"/>
              <a:ext cx="31680" cy="18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1" name=""/>
            <p:cNvSpPr/>
            <p:nvPr/>
          </p:nvSpPr>
          <p:spPr>
            <a:xfrm>
              <a:off x="5245200" y="3735360"/>
              <a:ext cx="1442880" cy="574560"/>
            </a:xfrm>
            <a:custGeom>
              <a:avLst/>
              <a:gdLst/>
              <a:ahLst/>
              <a:rect l="l" t="t" r="r" b="b"/>
              <a:pathLst>
                <a:path w="909" h="362">
                  <a:moveTo>
                    <a:pt x="909" y="362"/>
                  </a:moveTo>
                  <a:lnTo>
                    <a:pt x="791" y="329"/>
                  </a:lnTo>
                  <a:lnTo>
                    <a:pt x="784" y="322"/>
                  </a:lnTo>
                  <a:lnTo>
                    <a:pt x="778" y="322"/>
                  </a:lnTo>
                  <a:lnTo>
                    <a:pt x="764" y="316"/>
                  </a:lnTo>
                  <a:lnTo>
                    <a:pt x="679" y="296"/>
                  </a:lnTo>
                  <a:lnTo>
                    <a:pt x="501" y="158"/>
                  </a:lnTo>
                  <a:lnTo>
                    <a:pt x="475" y="145"/>
                  </a:lnTo>
                  <a:lnTo>
                    <a:pt x="303" y="112"/>
                  </a:lnTo>
                  <a:lnTo>
                    <a:pt x="250" y="99"/>
                  </a:lnTo>
                  <a:lnTo>
                    <a:pt x="152" y="92"/>
                  </a:lnTo>
                  <a:lnTo>
                    <a:pt x="145" y="92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2" name=""/>
            <p:cNvSpPr/>
            <p:nvPr/>
          </p:nvSpPr>
          <p:spPr>
            <a:xfrm>
              <a:off x="5256360" y="3745080"/>
              <a:ext cx="1440" cy="428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3" name=""/>
            <p:cNvSpPr/>
            <p:nvPr/>
          </p:nvSpPr>
          <p:spPr>
            <a:xfrm>
              <a:off x="5245200" y="3828960"/>
              <a:ext cx="1440" cy="414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4" name=""/>
            <p:cNvSpPr/>
            <p:nvPr/>
          </p:nvSpPr>
          <p:spPr>
            <a:xfrm>
              <a:off x="5245200" y="3922560"/>
              <a:ext cx="1440" cy="428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5" name=""/>
            <p:cNvSpPr/>
            <p:nvPr/>
          </p:nvSpPr>
          <p:spPr>
            <a:xfrm>
              <a:off x="5256360" y="4006800"/>
              <a:ext cx="1440" cy="41400"/>
            </a:xfrm>
            <a:custGeom>
              <a:avLst/>
              <a:gdLst/>
              <a:ahLst/>
              <a:rect l="l" t="t" r="r" b="b"/>
              <a:pathLst>
                <a:path w="0" h="26">
                  <a:moveTo>
                    <a:pt x="0" y="0"/>
                  </a:moveTo>
                  <a:lnTo>
                    <a:pt x="0" y="7"/>
                  </a:lnTo>
                  <a:lnTo>
                    <a:pt x="0" y="26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6" name=""/>
            <p:cNvSpPr/>
            <p:nvPr/>
          </p:nvSpPr>
          <p:spPr>
            <a:xfrm>
              <a:off x="5245200" y="4091040"/>
              <a:ext cx="1440" cy="41400"/>
            </a:xfrm>
            <a:custGeom>
              <a:avLst/>
              <a:gdLst/>
              <a:ahLst/>
              <a:rect l="l" t="t" r="r" b="b"/>
              <a:pathLst>
                <a:path w="0" h="26">
                  <a:moveTo>
                    <a:pt x="0" y="0"/>
                  </a:moveTo>
                  <a:lnTo>
                    <a:pt x="0" y="19"/>
                  </a:lnTo>
                  <a:lnTo>
                    <a:pt x="0" y="26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7" name=""/>
            <p:cNvSpPr/>
            <p:nvPr/>
          </p:nvSpPr>
          <p:spPr>
            <a:xfrm>
              <a:off x="5256360" y="4173480"/>
              <a:ext cx="1440" cy="42840"/>
            </a:xfrm>
            <a:custGeom>
              <a:avLst/>
              <a:gdLst/>
              <a:ahLst/>
              <a:rect l="l" t="t" r="r" b="b"/>
              <a:pathLst>
                <a:path w="0" h="27">
                  <a:moveTo>
                    <a:pt x="0" y="0"/>
                  </a:moveTo>
                  <a:lnTo>
                    <a:pt x="0" y="7"/>
                  </a:lnTo>
                  <a:lnTo>
                    <a:pt x="0" y="27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8" name=""/>
            <p:cNvSpPr/>
            <p:nvPr/>
          </p:nvSpPr>
          <p:spPr>
            <a:xfrm>
              <a:off x="5256360" y="4257720"/>
              <a:ext cx="1440" cy="414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9" name=""/>
            <p:cNvSpPr/>
            <p:nvPr/>
          </p:nvSpPr>
          <p:spPr>
            <a:xfrm>
              <a:off x="5256360" y="4341960"/>
              <a:ext cx="1440" cy="410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0" name=""/>
            <p:cNvSpPr/>
            <p:nvPr/>
          </p:nvSpPr>
          <p:spPr>
            <a:xfrm>
              <a:off x="5256360" y="4424400"/>
              <a:ext cx="1440" cy="522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1" name=""/>
            <p:cNvSpPr/>
            <p:nvPr/>
          </p:nvSpPr>
          <p:spPr>
            <a:xfrm>
              <a:off x="5245200" y="4519440"/>
              <a:ext cx="1440" cy="208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2" name=""/>
            <p:cNvSpPr/>
            <p:nvPr/>
          </p:nvSpPr>
          <p:spPr>
            <a:xfrm flipV="1">
              <a:off x="3414600" y="5470200"/>
              <a:ext cx="1800" cy="414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3" name=""/>
            <p:cNvSpPr/>
            <p:nvPr/>
          </p:nvSpPr>
          <p:spPr>
            <a:xfrm>
              <a:off x="3394080" y="5397480"/>
              <a:ext cx="9360" cy="30240"/>
            </a:xfrm>
            <a:custGeom>
              <a:avLst/>
              <a:gdLst/>
              <a:ahLst/>
              <a:rect l="l" t="t" r="r" b="b"/>
              <a:pathLst>
                <a:path w="6" h="19">
                  <a:moveTo>
                    <a:pt x="6" y="19"/>
                  </a:moveTo>
                  <a:lnTo>
                    <a:pt x="0" y="6"/>
                  </a:lnTo>
                  <a:lnTo>
                    <a:pt x="6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4" name=""/>
            <p:cNvSpPr/>
            <p:nvPr/>
          </p:nvSpPr>
          <p:spPr>
            <a:xfrm>
              <a:off x="3425760" y="5313240"/>
              <a:ext cx="20880" cy="41400"/>
            </a:xfrm>
            <a:custGeom>
              <a:avLst/>
              <a:gdLst/>
              <a:ahLst/>
              <a:rect l="l" t="t" r="r" b="b"/>
              <a:pathLst>
                <a:path w="13" h="26">
                  <a:moveTo>
                    <a:pt x="0" y="26"/>
                  </a:moveTo>
                  <a:lnTo>
                    <a:pt x="13" y="6"/>
                  </a:lnTo>
                  <a:lnTo>
                    <a:pt x="13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5" name=""/>
            <p:cNvSpPr/>
            <p:nvPr/>
          </p:nvSpPr>
          <p:spPr>
            <a:xfrm>
              <a:off x="3394080" y="5249880"/>
              <a:ext cx="20520" cy="3168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3" y="20"/>
                  </a:moveTo>
                  <a:lnTo>
                    <a:pt x="6" y="14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6" name=""/>
            <p:cNvSpPr/>
            <p:nvPr/>
          </p:nvSpPr>
          <p:spPr>
            <a:xfrm>
              <a:off x="3341520" y="5176800"/>
              <a:ext cx="32040" cy="316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20" y="20"/>
                  </a:moveTo>
                  <a:lnTo>
                    <a:pt x="6" y="13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7" name=""/>
            <p:cNvSpPr/>
            <p:nvPr/>
          </p:nvSpPr>
          <p:spPr>
            <a:xfrm flipH="1" flipV="1">
              <a:off x="3289320" y="5114880"/>
              <a:ext cx="31680" cy="316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8" name=""/>
            <p:cNvSpPr/>
            <p:nvPr/>
          </p:nvSpPr>
          <p:spPr>
            <a:xfrm flipH="1" flipV="1">
              <a:off x="3236400" y="5041440"/>
              <a:ext cx="32040" cy="414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9" name=""/>
            <p:cNvSpPr/>
            <p:nvPr/>
          </p:nvSpPr>
          <p:spPr>
            <a:xfrm flipV="1">
              <a:off x="3236760" y="4957920"/>
              <a:ext cx="11160" cy="410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0" name=""/>
            <p:cNvSpPr/>
            <p:nvPr/>
          </p:nvSpPr>
          <p:spPr>
            <a:xfrm flipV="1">
              <a:off x="3257640" y="4873320"/>
              <a:ext cx="11160" cy="428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1" name=""/>
            <p:cNvSpPr/>
            <p:nvPr/>
          </p:nvSpPr>
          <p:spPr>
            <a:xfrm flipV="1">
              <a:off x="3278160" y="4791240"/>
              <a:ext cx="1440" cy="410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2" name=""/>
            <p:cNvSpPr/>
            <p:nvPr/>
          </p:nvSpPr>
          <p:spPr>
            <a:xfrm flipV="1">
              <a:off x="3289320" y="4707000"/>
              <a:ext cx="9360" cy="410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3" name=""/>
            <p:cNvSpPr/>
            <p:nvPr/>
          </p:nvSpPr>
          <p:spPr>
            <a:xfrm flipV="1">
              <a:off x="3309840" y="4622400"/>
              <a:ext cx="1800" cy="428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4" name=""/>
            <p:cNvSpPr/>
            <p:nvPr/>
          </p:nvSpPr>
          <p:spPr>
            <a:xfrm>
              <a:off x="3321000" y="4540320"/>
              <a:ext cx="9720" cy="41040"/>
            </a:xfrm>
            <a:custGeom>
              <a:avLst/>
              <a:gdLst/>
              <a:ahLst/>
              <a:rect l="l" t="t" r="r" b="b"/>
              <a:pathLst>
                <a:path w="6" h="26">
                  <a:moveTo>
                    <a:pt x="0" y="26"/>
                  </a:moveTo>
                  <a:lnTo>
                    <a:pt x="6" y="13"/>
                  </a:lnTo>
                  <a:lnTo>
                    <a:pt x="6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5" name=""/>
            <p:cNvSpPr/>
            <p:nvPr/>
          </p:nvSpPr>
          <p:spPr>
            <a:xfrm>
              <a:off x="3341520" y="4467240"/>
              <a:ext cx="20880" cy="41400"/>
            </a:xfrm>
            <a:custGeom>
              <a:avLst/>
              <a:gdLst/>
              <a:ahLst/>
              <a:rect l="l" t="t" r="r" b="b"/>
              <a:pathLst>
                <a:path w="13" h="26">
                  <a:moveTo>
                    <a:pt x="0" y="26"/>
                  </a:moveTo>
                  <a:lnTo>
                    <a:pt x="6" y="6"/>
                  </a:lnTo>
                  <a:lnTo>
                    <a:pt x="13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6" name=""/>
            <p:cNvSpPr/>
            <p:nvPr/>
          </p:nvSpPr>
          <p:spPr>
            <a:xfrm>
              <a:off x="3373560" y="4383000"/>
              <a:ext cx="9360" cy="41400"/>
            </a:xfrm>
            <a:custGeom>
              <a:avLst/>
              <a:gdLst/>
              <a:ahLst/>
              <a:rect l="l" t="t" r="r" b="b"/>
              <a:pathLst>
                <a:path w="6" h="26">
                  <a:moveTo>
                    <a:pt x="0" y="26"/>
                  </a:moveTo>
                  <a:lnTo>
                    <a:pt x="0" y="13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7" name=""/>
            <p:cNvSpPr/>
            <p:nvPr/>
          </p:nvSpPr>
          <p:spPr>
            <a:xfrm>
              <a:off x="3394080" y="4330800"/>
              <a:ext cx="31680" cy="20520"/>
            </a:xfrm>
            <a:custGeom>
              <a:avLst/>
              <a:gdLst/>
              <a:ahLst/>
              <a:rect l="l" t="t" r="r" b="b"/>
              <a:pathLst>
                <a:path w="20" h="13">
                  <a:moveTo>
                    <a:pt x="0" y="13"/>
                  </a:moveTo>
                  <a:lnTo>
                    <a:pt x="0" y="7"/>
                  </a:lnTo>
                  <a:lnTo>
                    <a:pt x="0" y="7"/>
                  </a:lnTo>
                  <a:lnTo>
                    <a:pt x="6" y="0"/>
                  </a:lnTo>
                  <a:lnTo>
                    <a:pt x="13" y="7"/>
                  </a:lnTo>
                  <a:lnTo>
                    <a:pt x="20" y="7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8" name=""/>
            <p:cNvSpPr/>
            <p:nvPr/>
          </p:nvSpPr>
          <p:spPr>
            <a:xfrm>
              <a:off x="3456000" y="4330800"/>
              <a:ext cx="42840" cy="11160"/>
            </a:xfrm>
            <a:custGeom>
              <a:avLst/>
              <a:gdLst/>
              <a:ahLst/>
              <a:rect l="l" t="t" r="r" b="b"/>
              <a:pathLst>
                <a:path w="27" h="7">
                  <a:moveTo>
                    <a:pt x="0" y="7"/>
                  </a:moveTo>
                  <a:lnTo>
                    <a:pt x="13" y="0"/>
                  </a:lnTo>
                  <a:lnTo>
                    <a:pt x="20" y="7"/>
                  </a:lnTo>
                  <a:lnTo>
                    <a:pt x="27" y="7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9" name=""/>
            <p:cNvSpPr/>
            <p:nvPr/>
          </p:nvSpPr>
          <p:spPr>
            <a:xfrm>
              <a:off x="3540240" y="4351320"/>
              <a:ext cx="41040" cy="1440"/>
            </a:xfrm>
            <a:custGeom>
              <a:avLst/>
              <a:gdLst/>
              <a:ahLst/>
              <a:rect l="l" t="t" r="r" b="b"/>
              <a:pathLst>
                <a:path w="26" h="0">
                  <a:moveTo>
                    <a:pt x="0" y="0"/>
                  </a:moveTo>
                  <a:lnTo>
                    <a:pt x="7" y="0"/>
                  </a:lnTo>
                  <a:lnTo>
                    <a:pt x="20" y="0"/>
                  </a:lnTo>
                  <a:lnTo>
                    <a:pt x="26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0" name=""/>
            <p:cNvSpPr/>
            <p:nvPr/>
          </p:nvSpPr>
          <p:spPr>
            <a:xfrm>
              <a:off x="3624120" y="4371840"/>
              <a:ext cx="41400" cy="11160"/>
            </a:xfrm>
            <a:custGeom>
              <a:avLst/>
              <a:gdLst/>
              <a:ahLst/>
              <a:rect l="l" t="t" r="r" b="b"/>
              <a:pathLst>
                <a:path w="26" h="7">
                  <a:moveTo>
                    <a:pt x="0" y="0"/>
                  </a:moveTo>
                  <a:lnTo>
                    <a:pt x="6" y="0"/>
                  </a:lnTo>
                  <a:lnTo>
                    <a:pt x="20" y="0"/>
                  </a:lnTo>
                  <a:lnTo>
                    <a:pt x="26" y="7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1" name=""/>
            <p:cNvSpPr/>
            <p:nvPr/>
          </p:nvSpPr>
          <p:spPr>
            <a:xfrm>
              <a:off x="3697200" y="4362480"/>
              <a:ext cx="20880" cy="3168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0" y="20"/>
                  </a:moveTo>
                  <a:lnTo>
                    <a:pt x="6" y="20"/>
                  </a:lnTo>
                  <a:lnTo>
                    <a:pt x="13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2" name=""/>
            <p:cNvSpPr/>
            <p:nvPr/>
          </p:nvSpPr>
          <p:spPr>
            <a:xfrm flipV="1">
              <a:off x="3749760" y="4289400"/>
              <a:ext cx="20520" cy="302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3" name=""/>
            <p:cNvSpPr/>
            <p:nvPr/>
          </p:nvSpPr>
          <p:spPr>
            <a:xfrm flipV="1">
              <a:off x="3790800" y="4216320"/>
              <a:ext cx="20880" cy="302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4" name=""/>
            <p:cNvSpPr/>
            <p:nvPr/>
          </p:nvSpPr>
          <p:spPr>
            <a:xfrm>
              <a:off x="3833640" y="4143240"/>
              <a:ext cx="20880" cy="30240"/>
            </a:xfrm>
            <a:custGeom>
              <a:avLst/>
              <a:gdLst/>
              <a:ahLst/>
              <a:rect l="l" t="t" r="r" b="b"/>
              <a:pathLst>
                <a:path w="13" h="19">
                  <a:moveTo>
                    <a:pt x="0" y="19"/>
                  </a:moveTo>
                  <a:lnTo>
                    <a:pt x="6" y="13"/>
                  </a:lnTo>
                  <a:lnTo>
                    <a:pt x="13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5" name=""/>
            <p:cNvSpPr/>
            <p:nvPr/>
          </p:nvSpPr>
          <p:spPr>
            <a:xfrm>
              <a:off x="3875040" y="4079880"/>
              <a:ext cx="31680" cy="20520"/>
            </a:xfrm>
            <a:custGeom>
              <a:avLst/>
              <a:gdLst/>
              <a:ahLst/>
              <a:rect l="l" t="t" r="r" b="b"/>
              <a:pathLst>
                <a:path w="20" h="13">
                  <a:moveTo>
                    <a:pt x="0" y="13"/>
                  </a:moveTo>
                  <a:lnTo>
                    <a:pt x="0" y="13"/>
                  </a:lnTo>
                  <a:lnTo>
                    <a:pt x="13" y="7"/>
                  </a:lnTo>
                  <a:lnTo>
                    <a:pt x="2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6" name=""/>
            <p:cNvSpPr/>
            <p:nvPr/>
          </p:nvSpPr>
          <p:spPr>
            <a:xfrm>
              <a:off x="3936960" y="4017960"/>
              <a:ext cx="31680" cy="30240"/>
            </a:xfrm>
            <a:custGeom>
              <a:avLst/>
              <a:gdLst/>
              <a:ahLst/>
              <a:rect l="l" t="t" r="r" b="b"/>
              <a:pathLst>
                <a:path w="20" h="19">
                  <a:moveTo>
                    <a:pt x="0" y="19"/>
                  </a:moveTo>
                  <a:lnTo>
                    <a:pt x="7" y="13"/>
                  </a:lnTo>
                  <a:lnTo>
                    <a:pt x="14" y="6"/>
                  </a:lnTo>
                  <a:lnTo>
                    <a:pt x="2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7" name=""/>
            <p:cNvSpPr/>
            <p:nvPr/>
          </p:nvSpPr>
          <p:spPr>
            <a:xfrm>
              <a:off x="4000680" y="4017960"/>
              <a:ext cx="41040" cy="9360"/>
            </a:xfrm>
            <a:custGeom>
              <a:avLst/>
              <a:gdLst/>
              <a:ahLst/>
              <a:rect l="l" t="t" r="r" b="b"/>
              <a:pathLst>
                <a:path w="26" h="6">
                  <a:moveTo>
                    <a:pt x="0" y="0"/>
                  </a:moveTo>
                  <a:lnTo>
                    <a:pt x="7" y="0"/>
                  </a:lnTo>
                  <a:lnTo>
                    <a:pt x="13" y="6"/>
                  </a:lnTo>
                  <a:lnTo>
                    <a:pt x="20" y="6"/>
                  </a:lnTo>
                  <a:lnTo>
                    <a:pt x="20" y="0"/>
                  </a:lnTo>
                  <a:lnTo>
                    <a:pt x="26" y="6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8" name=""/>
            <p:cNvSpPr/>
            <p:nvPr/>
          </p:nvSpPr>
          <p:spPr>
            <a:xfrm>
              <a:off x="4073400" y="4038480"/>
              <a:ext cx="41400" cy="9720"/>
            </a:xfrm>
            <a:custGeom>
              <a:avLst/>
              <a:gdLst/>
              <a:ahLst/>
              <a:rect l="l" t="t" r="r" b="b"/>
              <a:pathLst>
                <a:path w="26" h="6">
                  <a:moveTo>
                    <a:pt x="0" y="0"/>
                  </a:moveTo>
                  <a:lnTo>
                    <a:pt x="7" y="6"/>
                  </a:lnTo>
                  <a:lnTo>
                    <a:pt x="26" y="6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9" name=""/>
            <p:cNvSpPr/>
            <p:nvPr/>
          </p:nvSpPr>
          <p:spPr>
            <a:xfrm>
              <a:off x="4157640" y="4048200"/>
              <a:ext cx="41400" cy="20520"/>
            </a:xfrm>
            <a:custGeom>
              <a:avLst/>
              <a:gdLst/>
              <a:ahLst/>
              <a:rect l="l" t="t" r="r" b="b"/>
              <a:pathLst>
                <a:path w="26" h="13">
                  <a:moveTo>
                    <a:pt x="0" y="0"/>
                  </a:moveTo>
                  <a:lnTo>
                    <a:pt x="13" y="7"/>
                  </a:lnTo>
                  <a:lnTo>
                    <a:pt x="26" y="13"/>
                  </a:lnTo>
                  <a:lnTo>
                    <a:pt x="26" y="13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0" name=""/>
            <p:cNvSpPr/>
            <p:nvPr/>
          </p:nvSpPr>
          <p:spPr>
            <a:xfrm>
              <a:off x="4241880" y="4048200"/>
              <a:ext cx="41040" cy="20520"/>
            </a:xfrm>
            <a:custGeom>
              <a:avLst/>
              <a:gdLst/>
              <a:ahLst/>
              <a:rect l="l" t="t" r="r" b="b"/>
              <a:pathLst>
                <a:path w="26" h="13">
                  <a:moveTo>
                    <a:pt x="0" y="13"/>
                  </a:moveTo>
                  <a:lnTo>
                    <a:pt x="0" y="13"/>
                  </a:lnTo>
                  <a:lnTo>
                    <a:pt x="13" y="7"/>
                  </a:lnTo>
                  <a:lnTo>
                    <a:pt x="26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1" name=""/>
            <p:cNvSpPr/>
            <p:nvPr/>
          </p:nvSpPr>
          <p:spPr>
            <a:xfrm>
              <a:off x="4314960" y="4027320"/>
              <a:ext cx="41040" cy="1800"/>
            </a:xfrm>
            <a:custGeom>
              <a:avLst/>
              <a:gdLst/>
              <a:ahLst/>
              <a:rect l="l" t="t" r="r" b="b"/>
              <a:pathLst>
                <a:path w="26" h="0">
                  <a:moveTo>
                    <a:pt x="0" y="0"/>
                  </a:moveTo>
                  <a:lnTo>
                    <a:pt x="0" y="0"/>
                  </a:lnTo>
                  <a:lnTo>
                    <a:pt x="26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2" name=""/>
            <p:cNvSpPr/>
            <p:nvPr/>
          </p:nvSpPr>
          <p:spPr>
            <a:xfrm>
              <a:off x="4397400" y="4038480"/>
              <a:ext cx="42840" cy="1800"/>
            </a:xfrm>
            <a:custGeom>
              <a:avLst/>
              <a:gdLst/>
              <a:ahLst/>
              <a:rect l="l" t="t" r="r" b="b"/>
              <a:pathLst>
                <a:path w="27" h="0">
                  <a:moveTo>
                    <a:pt x="0" y="0"/>
                  </a:moveTo>
                  <a:lnTo>
                    <a:pt x="7" y="0"/>
                  </a:lnTo>
                  <a:lnTo>
                    <a:pt x="20" y="0"/>
                  </a:lnTo>
                  <a:lnTo>
                    <a:pt x="27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3" name=""/>
            <p:cNvSpPr/>
            <p:nvPr/>
          </p:nvSpPr>
          <p:spPr>
            <a:xfrm>
              <a:off x="4481640" y="4048200"/>
              <a:ext cx="41040" cy="11160"/>
            </a:xfrm>
            <a:custGeom>
              <a:avLst/>
              <a:gdLst/>
              <a:ahLst/>
              <a:rect l="l" t="t" r="r" b="b"/>
              <a:pathLst>
                <a:path w="26" h="7">
                  <a:moveTo>
                    <a:pt x="0" y="0"/>
                  </a:moveTo>
                  <a:lnTo>
                    <a:pt x="26" y="7"/>
                  </a:lnTo>
                  <a:lnTo>
                    <a:pt x="26" y="7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4" name=""/>
            <p:cNvSpPr/>
            <p:nvPr/>
          </p:nvSpPr>
          <p:spPr>
            <a:xfrm>
              <a:off x="4565520" y="4059360"/>
              <a:ext cx="41400" cy="9360"/>
            </a:xfrm>
            <a:custGeom>
              <a:avLst/>
              <a:gdLst/>
              <a:ahLst/>
              <a:rect l="l" t="t" r="r" b="b"/>
              <a:pathLst>
                <a:path w="26" h="6">
                  <a:moveTo>
                    <a:pt x="0" y="0"/>
                  </a:moveTo>
                  <a:lnTo>
                    <a:pt x="13" y="6"/>
                  </a:lnTo>
                  <a:lnTo>
                    <a:pt x="26" y="6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5" name=""/>
            <p:cNvSpPr/>
            <p:nvPr/>
          </p:nvSpPr>
          <p:spPr>
            <a:xfrm>
              <a:off x="4648320" y="4091040"/>
              <a:ext cx="42840" cy="9360"/>
            </a:xfrm>
            <a:custGeom>
              <a:avLst/>
              <a:gdLst/>
              <a:ahLst/>
              <a:rect l="l" t="t" r="r" b="b"/>
              <a:pathLst>
                <a:path w="27" h="6">
                  <a:moveTo>
                    <a:pt x="0" y="0"/>
                  </a:moveTo>
                  <a:lnTo>
                    <a:pt x="7" y="0"/>
                  </a:lnTo>
                  <a:lnTo>
                    <a:pt x="20" y="6"/>
                  </a:lnTo>
                  <a:lnTo>
                    <a:pt x="27" y="6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6" name=""/>
            <p:cNvSpPr/>
            <p:nvPr/>
          </p:nvSpPr>
          <p:spPr>
            <a:xfrm>
              <a:off x="4732200" y="4100400"/>
              <a:ext cx="42840" cy="1800"/>
            </a:xfrm>
            <a:custGeom>
              <a:avLst/>
              <a:gdLst/>
              <a:ahLst/>
              <a:rect l="l" t="t" r="r" b="b"/>
              <a:pathLst>
                <a:path w="27" h="0">
                  <a:moveTo>
                    <a:pt x="0" y="0"/>
                  </a:moveTo>
                  <a:lnTo>
                    <a:pt x="7" y="0"/>
                  </a:lnTo>
                  <a:lnTo>
                    <a:pt x="27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7" name=""/>
            <p:cNvSpPr/>
            <p:nvPr/>
          </p:nvSpPr>
          <p:spPr>
            <a:xfrm>
              <a:off x="4816440" y="4100400"/>
              <a:ext cx="31680" cy="11160"/>
            </a:xfrm>
            <a:custGeom>
              <a:avLst/>
              <a:gdLst/>
              <a:ahLst/>
              <a:rect l="l" t="t" r="r" b="b"/>
              <a:pathLst>
                <a:path w="20" h="7">
                  <a:moveTo>
                    <a:pt x="0" y="7"/>
                  </a:moveTo>
                  <a:lnTo>
                    <a:pt x="20" y="7"/>
                  </a:lnTo>
                  <a:lnTo>
                    <a:pt x="2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8" name=""/>
            <p:cNvSpPr/>
            <p:nvPr/>
          </p:nvSpPr>
          <p:spPr>
            <a:xfrm flipV="1">
              <a:off x="4857840" y="4017600"/>
              <a:ext cx="11160" cy="414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9" name=""/>
            <p:cNvSpPr/>
            <p:nvPr/>
          </p:nvSpPr>
          <p:spPr>
            <a:xfrm>
              <a:off x="4910040" y="4017960"/>
              <a:ext cx="31680" cy="93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0" name=""/>
            <p:cNvSpPr/>
            <p:nvPr/>
          </p:nvSpPr>
          <p:spPr>
            <a:xfrm>
              <a:off x="4962600" y="3954600"/>
              <a:ext cx="11160" cy="41040"/>
            </a:xfrm>
            <a:custGeom>
              <a:avLst/>
              <a:gdLst/>
              <a:ahLst/>
              <a:rect l="l" t="t" r="r" b="b"/>
              <a:pathLst>
                <a:path w="7" h="26">
                  <a:moveTo>
                    <a:pt x="0" y="26"/>
                  </a:moveTo>
                  <a:lnTo>
                    <a:pt x="0" y="7"/>
                  </a:lnTo>
                  <a:lnTo>
                    <a:pt x="7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1" name=""/>
            <p:cNvSpPr/>
            <p:nvPr/>
          </p:nvSpPr>
          <p:spPr>
            <a:xfrm flipV="1">
              <a:off x="4983120" y="3870000"/>
              <a:ext cx="11160" cy="428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2" name=""/>
            <p:cNvSpPr/>
            <p:nvPr/>
          </p:nvSpPr>
          <p:spPr>
            <a:xfrm flipV="1">
              <a:off x="5005440" y="3787920"/>
              <a:ext cx="20520" cy="410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3" name=""/>
            <p:cNvSpPr/>
            <p:nvPr/>
          </p:nvSpPr>
          <p:spPr>
            <a:xfrm>
              <a:off x="5035680" y="3714840"/>
              <a:ext cx="11160" cy="30240"/>
            </a:xfrm>
            <a:custGeom>
              <a:avLst/>
              <a:gdLst/>
              <a:ahLst/>
              <a:rect l="l" t="t" r="r" b="b"/>
              <a:pathLst>
                <a:path w="7" h="19">
                  <a:moveTo>
                    <a:pt x="0" y="19"/>
                  </a:moveTo>
                  <a:lnTo>
                    <a:pt x="7" y="0"/>
                  </a:lnTo>
                  <a:lnTo>
                    <a:pt x="7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4" name=""/>
            <p:cNvSpPr/>
            <p:nvPr/>
          </p:nvSpPr>
          <p:spPr>
            <a:xfrm>
              <a:off x="5056200" y="3672000"/>
              <a:ext cx="144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5" name=""/>
            <p:cNvSpPr/>
            <p:nvPr/>
          </p:nvSpPr>
          <p:spPr>
            <a:xfrm flipH="1">
              <a:off x="4909680" y="3619440"/>
              <a:ext cx="11160" cy="428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6" name=""/>
            <p:cNvSpPr/>
            <p:nvPr/>
          </p:nvSpPr>
          <p:spPr>
            <a:xfrm>
              <a:off x="4889520" y="3703680"/>
              <a:ext cx="11160" cy="31680"/>
            </a:xfrm>
            <a:custGeom>
              <a:avLst/>
              <a:gdLst/>
              <a:ahLst/>
              <a:rect l="l" t="t" r="r" b="b"/>
              <a:pathLst>
                <a:path w="7" h="20">
                  <a:moveTo>
                    <a:pt x="7" y="0"/>
                  </a:moveTo>
                  <a:lnTo>
                    <a:pt x="7" y="20"/>
                  </a:lnTo>
                  <a:lnTo>
                    <a:pt x="0" y="2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7" name=""/>
            <p:cNvSpPr/>
            <p:nvPr/>
          </p:nvSpPr>
          <p:spPr>
            <a:xfrm flipH="1">
              <a:off x="4804920" y="3724200"/>
              <a:ext cx="42840" cy="18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8" name=""/>
            <p:cNvSpPr/>
            <p:nvPr/>
          </p:nvSpPr>
          <p:spPr>
            <a:xfrm flipH="1">
              <a:off x="4711680" y="3714840"/>
              <a:ext cx="5256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9" name=""/>
            <p:cNvSpPr/>
            <p:nvPr/>
          </p:nvSpPr>
          <p:spPr>
            <a:xfrm flipH="1" flipV="1">
              <a:off x="4627080" y="3692160"/>
              <a:ext cx="42840" cy="111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0" name=""/>
            <p:cNvSpPr/>
            <p:nvPr/>
          </p:nvSpPr>
          <p:spPr>
            <a:xfrm flipH="1" flipV="1">
              <a:off x="4544640" y="3683160"/>
              <a:ext cx="41400" cy="93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1" name=""/>
            <p:cNvSpPr/>
            <p:nvPr/>
          </p:nvSpPr>
          <p:spPr>
            <a:xfrm flipH="1" flipV="1">
              <a:off x="4460400" y="3671640"/>
              <a:ext cx="41400" cy="111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2" name=""/>
            <p:cNvSpPr/>
            <p:nvPr/>
          </p:nvSpPr>
          <p:spPr>
            <a:xfrm flipH="1">
              <a:off x="4376520" y="3662280"/>
              <a:ext cx="42840" cy="18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3" name=""/>
            <p:cNvSpPr/>
            <p:nvPr/>
          </p:nvSpPr>
          <p:spPr>
            <a:xfrm flipH="1">
              <a:off x="4292280" y="3651120"/>
              <a:ext cx="42840" cy="18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4" name=""/>
            <p:cNvSpPr/>
            <p:nvPr/>
          </p:nvSpPr>
          <p:spPr>
            <a:xfrm flipH="1" flipV="1">
              <a:off x="4210200" y="3630600"/>
              <a:ext cx="41040" cy="93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5" name=""/>
            <p:cNvSpPr/>
            <p:nvPr/>
          </p:nvSpPr>
          <p:spPr>
            <a:xfrm flipH="1" flipV="1">
              <a:off x="4125600" y="3619080"/>
              <a:ext cx="41400" cy="111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6" name=""/>
            <p:cNvSpPr/>
            <p:nvPr/>
          </p:nvSpPr>
          <p:spPr>
            <a:xfrm flipH="1" flipV="1">
              <a:off x="4041360" y="3610080"/>
              <a:ext cx="42840" cy="93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7" name=""/>
            <p:cNvSpPr/>
            <p:nvPr/>
          </p:nvSpPr>
          <p:spPr>
            <a:xfrm flipH="1">
              <a:off x="3958920" y="3598920"/>
              <a:ext cx="4140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8" name=""/>
            <p:cNvSpPr/>
            <p:nvPr/>
          </p:nvSpPr>
          <p:spPr>
            <a:xfrm flipH="1">
              <a:off x="3874680" y="3589200"/>
              <a:ext cx="41400" cy="18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9" name=""/>
            <p:cNvSpPr/>
            <p:nvPr/>
          </p:nvSpPr>
          <p:spPr>
            <a:xfrm flipH="1" flipV="1">
              <a:off x="3790440" y="3566880"/>
              <a:ext cx="42840" cy="111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0" name=""/>
            <p:cNvSpPr/>
            <p:nvPr/>
          </p:nvSpPr>
          <p:spPr>
            <a:xfrm flipH="1" flipV="1">
              <a:off x="3706560" y="3557160"/>
              <a:ext cx="42840" cy="9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1" name=""/>
            <p:cNvSpPr/>
            <p:nvPr/>
          </p:nvSpPr>
          <p:spPr>
            <a:xfrm flipH="1" flipV="1">
              <a:off x="3623760" y="3546000"/>
              <a:ext cx="41400" cy="111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2" name=""/>
            <p:cNvSpPr/>
            <p:nvPr/>
          </p:nvSpPr>
          <p:spPr>
            <a:xfrm flipH="1">
              <a:off x="3540240" y="3537000"/>
              <a:ext cx="4104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3" name=""/>
            <p:cNvSpPr/>
            <p:nvPr/>
          </p:nvSpPr>
          <p:spPr>
            <a:xfrm flipH="1">
              <a:off x="3446280" y="3525840"/>
              <a:ext cx="5220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4" name=""/>
            <p:cNvSpPr/>
            <p:nvPr/>
          </p:nvSpPr>
          <p:spPr>
            <a:xfrm flipH="1" flipV="1">
              <a:off x="3362400" y="3505320"/>
              <a:ext cx="41040" cy="93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5" name=""/>
            <p:cNvSpPr/>
            <p:nvPr/>
          </p:nvSpPr>
          <p:spPr>
            <a:xfrm flipH="1" flipV="1">
              <a:off x="3277800" y="3493800"/>
              <a:ext cx="42840" cy="111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6" name=""/>
            <p:cNvSpPr/>
            <p:nvPr/>
          </p:nvSpPr>
          <p:spPr>
            <a:xfrm flipH="1" flipV="1">
              <a:off x="3195720" y="3484080"/>
              <a:ext cx="41040" cy="9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7" name=""/>
            <p:cNvSpPr/>
            <p:nvPr/>
          </p:nvSpPr>
          <p:spPr>
            <a:xfrm>
              <a:off x="3152880" y="3473280"/>
              <a:ext cx="1440" cy="18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8" name=""/>
            <p:cNvSpPr/>
            <p:nvPr/>
          </p:nvSpPr>
          <p:spPr>
            <a:xfrm>
              <a:off x="5276880" y="3087720"/>
              <a:ext cx="4140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9" name=""/>
            <p:cNvSpPr/>
            <p:nvPr/>
          </p:nvSpPr>
          <p:spPr>
            <a:xfrm>
              <a:off x="5297400" y="3286080"/>
              <a:ext cx="41400" cy="20520"/>
            </a:xfrm>
            <a:custGeom>
              <a:avLst/>
              <a:gdLst/>
              <a:ahLst/>
              <a:rect l="l" t="t" r="r" b="b"/>
              <a:pathLst>
                <a:path w="26" h="13">
                  <a:moveTo>
                    <a:pt x="26" y="13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0" name=""/>
            <p:cNvSpPr/>
            <p:nvPr/>
          </p:nvSpPr>
          <p:spPr>
            <a:xfrm flipV="1">
              <a:off x="5286240" y="3201480"/>
              <a:ext cx="1800" cy="414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1" name=""/>
            <p:cNvSpPr/>
            <p:nvPr/>
          </p:nvSpPr>
          <p:spPr>
            <a:xfrm flipH="1" flipV="1">
              <a:off x="5276880" y="3117600"/>
              <a:ext cx="9360" cy="428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2" name=""/>
            <p:cNvSpPr/>
            <p:nvPr/>
          </p:nvSpPr>
          <p:spPr>
            <a:xfrm>
              <a:off x="5265720" y="3035160"/>
              <a:ext cx="11160" cy="41400"/>
            </a:xfrm>
            <a:custGeom>
              <a:avLst/>
              <a:gdLst/>
              <a:ahLst/>
              <a:rect l="l" t="t" r="r" b="b"/>
              <a:pathLst>
                <a:path w="7" h="26">
                  <a:moveTo>
                    <a:pt x="7" y="26"/>
                  </a:moveTo>
                  <a:lnTo>
                    <a:pt x="7" y="13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3" name=""/>
            <p:cNvSpPr/>
            <p:nvPr/>
          </p:nvSpPr>
          <p:spPr>
            <a:xfrm>
              <a:off x="5308560" y="3389400"/>
              <a:ext cx="20520" cy="3168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0" y="20"/>
                  </a:moveTo>
                  <a:lnTo>
                    <a:pt x="6" y="7"/>
                  </a:lnTo>
                  <a:lnTo>
                    <a:pt x="13" y="0"/>
                  </a:lnTo>
                  <a:lnTo>
                    <a:pt x="13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4" name=""/>
            <p:cNvSpPr/>
            <p:nvPr/>
          </p:nvSpPr>
          <p:spPr>
            <a:xfrm flipV="1">
              <a:off x="5329080" y="3306240"/>
              <a:ext cx="9720" cy="414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5" name=""/>
            <p:cNvSpPr/>
            <p:nvPr/>
          </p:nvSpPr>
          <p:spPr>
            <a:xfrm>
              <a:off x="5338800" y="3213000"/>
              <a:ext cx="1440" cy="50760"/>
            </a:xfrm>
            <a:custGeom>
              <a:avLst/>
              <a:gdLst/>
              <a:ahLst/>
              <a:rect l="l" t="t" r="r" b="b"/>
              <a:pathLst>
                <a:path w="0" h="32">
                  <a:moveTo>
                    <a:pt x="0" y="32"/>
                  </a:moveTo>
                  <a:lnTo>
                    <a:pt x="0" y="26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6" name=""/>
            <p:cNvSpPr/>
            <p:nvPr/>
          </p:nvSpPr>
          <p:spPr>
            <a:xfrm flipV="1">
              <a:off x="5338800" y="3129120"/>
              <a:ext cx="11160" cy="410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7" name=""/>
            <p:cNvSpPr/>
            <p:nvPr/>
          </p:nvSpPr>
          <p:spPr>
            <a:xfrm>
              <a:off x="5349960" y="3044880"/>
              <a:ext cx="1440" cy="42840"/>
            </a:xfrm>
            <a:custGeom>
              <a:avLst/>
              <a:gdLst/>
              <a:ahLst/>
              <a:rect l="l" t="t" r="r" b="b"/>
              <a:pathLst>
                <a:path w="0" h="27">
                  <a:moveTo>
                    <a:pt x="0" y="27"/>
                  </a:moveTo>
                  <a:lnTo>
                    <a:pt x="0" y="27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8" name=""/>
            <p:cNvSpPr/>
            <p:nvPr/>
          </p:nvSpPr>
          <p:spPr>
            <a:xfrm>
              <a:off x="5370480" y="3024360"/>
              <a:ext cx="42840" cy="10800"/>
            </a:xfrm>
            <a:custGeom>
              <a:avLst/>
              <a:gdLst/>
              <a:ahLst/>
              <a:rect l="l" t="t" r="r" b="b"/>
              <a:pathLst>
                <a:path w="27" h="7">
                  <a:moveTo>
                    <a:pt x="0" y="0"/>
                  </a:moveTo>
                  <a:lnTo>
                    <a:pt x="20" y="7"/>
                  </a:lnTo>
                  <a:lnTo>
                    <a:pt x="27" y="7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9" name=""/>
            <p:cNvSpPr/>
            <p:nvPr/>
          </p:nvSpPr>
          <p:spPr>
            <a:xfrm>
              <a:off x="5443560" y="2971800"/>
              <a:ext cx="20520" cy="41400"/>
            </a:xfrm>
            <a:custGeom>
              <a:avLst/>
              <a:gdLst/>
              <a:ahLst/>
              <a:rect l="l" t="t" r="r" b="b"/>
              <a:pathLst>
                <a:path w="13" h="26">
                  <a:moveTo>
                    <a:pt x="0" y="26"/>
                  </a:moveTo>
                  <a:lnTo>
                    <a:pt x="7" y="13"/>
                  </a:lnTo>
                  <a:lnTo>
                    <a:pt x="13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0" name=""/>
            <p:cNvSpPr/>
            <p:nvPr/>
          </p:nvSpPr>
          <p:spPr>
            <a:xfrm flipV="1">
              <a:off x="5486400" y="2909520"/>
              <a:ext cx="9360" cy="205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1" name=""/>
            <p:cNvSpPr/>
            <p:nvPr/>
          </p:nvSpPr>
          <p:spPr>
            <a:xfrm>
              <a:off x="6585120" y="2814480"/>
              <a:ext cx="1440" cy="432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2" name=""/>
            <p:cNvSpPr/>
            <p:nvPr/>
          </p:nvSpPr>
          <p:spPr>
            <a:xfrm>
              <a:off x="6553080" y="2898720"/>
              <a:ext cx="9720" cy="31680"/>
            </a:xfrm>
            <a:custGeom>
              <a:avLst/>
              <a:gdLst/>
              <a:ahLst/>
              <a:rect l="l" t="t" r="r" b="b"/>
              <a:pathLst>
                <a:path w="6" h="20">
                  <a:moveTo>
                    <a:pt x="6" y="0"/>
                  </a:moveTo>
                  <a:lnTo>
                    <a:pt x="0" y="20"/>
                  </a:lnTo>
                  <a:lnTo>
                    <a:pt x="0" y="2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3" name=""/>
            <p:cNvSpPr/>
            <p:nvPr/>
          </p:nvSpPr>
          <p:spPr>
            <a:xfrm>
              <a:off x="6532560" y="2971800"/>
              <a:ext cx="9360" cy="41400"/>
            </a:xfrm>
            <a:custGeom>
              <a:avLst/>
              <a:gdLst/>
              <a:ahLst/>
              <a:rect l="l" t="t" r="r" b="b"/>
              <a:pathLst>
                <a:path w="6" h="26">
                  <a:moveTo>
                    <a:pt x="6" y="0"/>
                  </a:moveTo>
                  <a:lnTo>
                    <a:pt x="0" y="26"/>
                  </a:lnTo>
                  <a:lnTo>
                    <a:pt x="0" y="26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4" name=""/>
            <p:cNvSpPr/>
            <p:nvPr/>
          </p:nvSpPr>
          <p:spPr>
            <a:xfrm>
              <a:off x="6500880" y="3056040"/>
              <a:ext cx="20520" cy="41040"/>
            </a:xfrm>
            <a:custGeom>
              <a:avLst/>
              <a:gdLst/>
              <a:ahLst/>
              <a:rect l="l" t="t" r="r" b="b"/>
              <a:pathLst>
                <a:path w="13" h="26">
                  <a:moveTo>
                    <a:pt x="13" y="0"/>
                  </a:moveTo>
                  <a:lnTo>
                    <a:pt x="13" y="6"/>
                  </a:lnTo>
                  <a:lnTo>
                    <a:pt x="6" y="20"/>
                  </a:lnTo>
                  <a:lnTo>
                    <a:pt x="0" y="26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5" name=""/>
            <p:cNvSpPr/>
            <p:nvPr/>
          </p:nvSpPr>
          <p:spPr>
            <a:xfrm>
              <a:off x="6427800" y="3117960"/>
              <a:ext cx="41400" cy="20520"/>
            </a:xfrm>
            <a:custGeom>
              <a:avLst/>
              <a:gdLst/>
              <a:ahLst/>
              <a:rect l="l" t="t" r="r" b="b"/>
              <a:pathLst>
                <a:path w="26" h="13">
                  <a:moveTo>
                    <a:pt x="26" y="0"/>
                  </a:moveTo>
                  <a:lnTo>
                    <a:pt x="6" y="7"/>
                  </a:lnTo>
                  <a:lnTo>
                    <a:pt x="0" y="13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6" name=""/>
            <p:cNvSpPr/>
            <p:nvPr/>
          </p:nvSpPr>
          <p:spPr>
            <a:xfrm>
              <a:off x="6384960" y="3170160"/>
              <a:ext cx="22320" cy="42840"/>
            </a:xfrm>
            <a:custGeom>
              <a:avLst/>
              <a:gdLst/>
              <a:ahLst/>
              <a:rect l="l" t="t" r="r" b="b"/>
              <a:pathLst>
                <a:path w="14" h="27">
                  <a:moveTo>
                    <a:pt x="14" y="0"/>
                  </a:moveTo>
                  <a:lnTo>
                    <a:pt x="7" y="7"/>
                  </a:lnTo>
                  <a:lnTo>
                    <a:pt x="0" y="27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7" name=""/>
            <p:cNvSpPr/>
            <p:nvPr/>
          </p:nvSpPr>
          <p:spPr>
            <a:xfrm>
              <a:off x="6332400" y="3243240"/>
              <a:ext cx="32040" cy="42840"/>
            </a:xfrm>
            <a:custGeom>
              <a:avLst/>
              <a:gdLst/>
              <a:ahLst/>
              <a:rect l="l" t="t" r="r" b="b"/>
              <a:pathLst>
                <a:path w="20" h="27">
                  <a:moveTo>
                    <a:pt x="20" y="0"/>
                  </a:moveTo>
                  <a:lnTo>
                    <a:pt x="14" y="13"/>
                  </a:lnTo>
                  <a:lnTo>
                    <a:pt x="0" y="27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8" name=""/>
            <p:cNvSpPr/>
            <p:nvPr/>
          </p:nvSpPr>
          <p:spPr>
            <a:xfrm>
              <a:off x="6291360" y="3316320"/>
              <a:ext cx="20520" cy="3168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3" y="0"/>
                  </a:moveTo>
                  <a:lnTo>
                    <a:pt x="7" y="7"/>
                  </a:lnTo>
                  <a:lnTo>
                    <a:pt x="0" y="2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9" name=""/>
            <p:cNvSpPr/>
            <p:nvPr/>
          </p:nvSpPr>
          <p:spPr>
            <a:xfrm>
              <a:off x="6259680" y="3389400"/>
              <a:ext cx="10800" cy="42840"/>
            </a:xfrm>
            <a:custGeom>
              <a:avLst/>
              <a:gdLst/>
              <a:ahLst/>
              <a:rect l="l" t="t" r="r" b="b"/>
              <a:pathLst>
                <a:path w="7" h="27">
                  <a:moveTo>
                    <a:pt x="7" y="0"/>
                  </a:moveTo>
                  <a:lnTo>
                    <a:pt x="0" y="20"/>
                  </a:lnTo>
                  <a:lnTo>
                    <a:pt x="0" y="27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0" name=""/>
            <p:cNvSpPr/>
            <p:nvPr/>
          </p:nvSpPr>
          <p:spPr>
            <a:xfrm>
              <a:off x="6249960" y="3473280"/>
              <a:ext cx="9720" cy="41400"/>
            </a:xfrm>
            <a:custGeom>
              <a:avLst/>
              <a:gdLst/>
              <a:ahLst/>
              <a:rect l="l" t="t" r="r" b="b"/>
              <a:pathLst>
                <a:path w="6" h="26">
                  <a:moveTo>
                    <a:pt x="0" y="0"/>
                  </a:moveTo>
                  <a:lnTo>
                    <a:pt x="0" y="0"/>
                  </a:lnTo>
                  <a:lnTo>
                    <a:pt x="6" y="20"/>
                  </a:lnTo>
                  <a:lnTo>
                    <a:pt x="6" y="26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1" name=""/>
            <p:cNvSpPr/>
            <p:nvPr/>
          </p:nvSpPr>
          <p:spPr>
            <a:xfrm>
              <a:off x="6238800" y="3557520"/>
              <a:ext cx="11160" cy="41400"/>
            </a:xfrm>
            <a:custGeom>
              <a:avLst/>
              <a:gdLst/>
              <a:ahLst/>
              <a:rect l="l" t="t" r="r" b="b"/>
              <a:pathLst>
                <a:path w="7" h="26">
                  <a:moveTo>
                    <a:pt x="7" y="0"/>
                  </a:moveTo>
                  <a:lnTo>
                    <a:pt x="7" y="6"/>
                  </a:lnTo>
                  <a:lnTo>
                    <a:pt x="0" y="26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2" name=""/>
            <p:cNvSpPr/>
            <p:nvPr/>
          </p:nvSpPr>
          <p:spPr>
            <a:xfrm>
              <a:off x="6197760" y="3639960"/>
              <a:ext cx="29880" cy="11160"/>
            </a:xfrm>
            <a:custGeom>
              <a:avLst/>
              <a:gdLst/>
              <a:ahLst/>
              <a:rect l="l" t="t" r="r" b="b"/>
              <a:pathLst>
                <a:path w="19" h="7">
                  <a:moveTo>
                    <a:pt x="19" y="0"/>
                  </a:moveTo>
                  <a:lnTo>
                    <a:pt x="19" y="0"/>
                  </a:lnTo>
                  <a:lnTo>
                    <a:pt x="13" y="7"/>
                  </a:lnTo>
                  <a:lnTo>
                    <a:pt x="0" y="7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3" name=""/>
            <p:cNvSpPr/>
            <p:nvPr/>
          </p:nvSpPr>
          <p:spPr>
            <a:xfrm>
              <a:off x="6145200" y="3651120"/>
              <a:ext cx="20520" cy="41400"/>
            </a:xfrm>
            <a:custGeom>
              <a:avLst/>
              <a:gdLst/>
              <a:ahLst/>
              <a:rect l="l" t="t" r="r" b="b"/>
              <a:pathLst>
                <a:path w="13" h="26">
                  <a:moveTo>
                    <a:pt x="13" y="0"/>
                  </a:moveTo>
                  <a:lnTo>
                    <a:pt x="13" y="7"/>
                  </a:lnTo>
                  <a:lnTo>
                    <a:pt x="6" y="20"/>
                  </a:lnTo>
                  <a:lnTo>
                    <a:pt x="0" y="26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4" name=""/>
            <p:cNvSpPr/>
            <p:nvPr/>
          </p:nvSpPr>
          <p:spPr>
            <a:xfrm>
              <a:off x="6145200" y="3735360"/>
              <a:ext cx="9360" cy="41400"/>
            </a:xfrm>
            <a:custGeom>
              <a:avLst/>
              <a:gdLst/>
              <a:ahLst/>
              <a:rect l="l" t="t" r="r" b="b"/>
              <a:pathLst>
                <a:path w="6" h="26">
                  <a:moveTo>
                    <a:pt x="0" y="0"/>
                  </a:moveTo>
                  <a:lnTo>
                    <a:pt x="6" y="19"/>
                  </a:lnTo>
                  <a:lnTo>
                    <a:pt x="0" y="26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5" name=""/>
            <p:cNvSpPr/>
            <p:nvPr/>
          </p:nvSpPr>
          <p:spPr>
            <a:xfrm>
              <a:off x="6134040" y="3817800"/>
              <a:ext cx="1800" cy="42840"/>
            </a:xfrm>
            <a:custGeom>
              <a:avLst/>
              <a:gdLst/>
              <a:ahLst/>
              <a:rect l="l" t="t" r="r" b="b"/>
              <a:pathLst>
                <a:path w="0" h="27">
                  <a:moveTo>
                    <a:pt x="0" y="0"/>
                  </a:moveTo>
                  <a:lnTo>
                    <a:pt x="0" y="20"/>
                  </a:lnTo>
                  <a:lnTo>
                    <a:pt x="0" y="27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6" name=""/>
            <p:cNvSpPr/>
            <p:nvPr/>
          </p:nvSpPr>
          <p:spPr>
            <a:xfrm>
              <a:off x="6124680" y="3902040"/>
              <a:ext cx="1440" cy="41400"/>
            </a:xfrm>
            <a:custGeom>
              <a:avLst/>
              <a:gdLst/>
              <a:ahLst/>
              <a:rect l="l" t="t" r="r" b="b"/>
              <a:pathLst>
                <a:path w="0" h="26">
                  <a:moveTo>
                    <a:pt x="0" y="0"/>
                  </a:moveTo>
                  <a:lnTo>
                    <a:pt x="0" y="20"/>
                  </a:lnTo>
                  <a:lnTo>
                    <a:pt x="0" y="26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7" name=""/>
            <p:cNvSpPr/>
            <p:nvPr/>
          </p:nvSpPr>
          <p:spPr>
            <a:xfrm>
              <a:off x="6093000" y="3975120"/>
              <a:ext cx="20520" cy="2052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13" y="7"/>
                  </a:moveTo>
                  <a:lnTo>
                    <a:pt x="13" y="13"/>
                  </a:lnTo>
                  <a:lnTo>
                    <a:pt x="0" y="0"/>
                  </a:lnTo>
                  <a:lnTo>
                    <a:pt x="0" y="7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8" name=""/>
            <p:cNvSpPr/>
            <p:nvPr/>
          </p:nvSpPr>
          <p:spPr>
            <a:xfrm>
              <a:off x="6029280" y="4017960"/>
              <a:ext cx="31680" cy="30240"/>
            </a:xfrm>
            <a:custGeom>
              <a:avLst/>
              <a:gdLst/>
              <a:ahLst/>
              <a:rect l="l" t="t" r="r" b="b"/>
              <a:pathLst>
                <a:path w="20" h="19">
                  <a:moveTo>
                    <a:pt x="20" y="0"/>
                  </a:moveTo>
                  <a:lnTo>
                    <a:pt x="13" y="6"/>
                  </a:lnTo>
                  <a:lnTo>
                    <a:pt x="0" y="19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9" name=""/>
            <p:cNvSpPr/>
            <p:nvPr/>
          </p:nvSpPr>
          <p:spPr>
            <a:xfrm flipH="1">
              <a:off x="5987880" y="4079880"/>
              <a:ext cx="20880" cy="414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0" name=""/>
            <p:cNvSpPr/>
            <p:nvPr/>
          </p:nvSpPr>
          <p:spPr>
            <a:xfrm flipH="1">
              <a:off x="5935320" y="4152960"/>
              <a:ext cx="20520" cy="316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1" name=""/>
            <p:cNvSpPr/>
            <p:nvPr/>
          </p:nvSpPr>
          <p:spPr>
            <a:xfrm>
              <a:off x="5883120" y="4226040"/>
              <a:ext cx="32040" cy="20520"/>
            </a:xfrm>
            <a:custGeom>
              <a:avLst/>
              <a:gdLst/>
              <a:ahLst/>
              <a:rect l="l" t="t" r="r" b="b"/>
              <a:pathLst>
                <a:path w="20" h="13">
                  <a:moveTo>
                    <a:pt x="20" y="0"/>
                  </a:moveTo>
                  <a:lnTo>
                    <a:pt x="7" y="13"/>
                  </a:lnTo>
                  <a:lnTo>
                    <a:pt x="0" y="13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2" name=""/>
            <p:cNvSpPr/>
            <p:nvPr/>
          </p:nvSpPr>
          <p:spPr>
            <a:xfrm flipH="1">
              <a:off x="5830560" y="4237200"/>
              <a:ext cx="20520" cy="316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3" name=""/>
            <p:cNvSpPr/>
            <p:nvPr/>
          </p:nvSpPr>
          <p:spPr>
            <a:xfrm flipH="1">
              <a:off x="5798880" y="4309920"/>
              <a:ext cx="21960" cy="414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4" name=""/>
            <p:cNvSpPr/>
            <p:nvPr/>
          </p:nvSpPr>
          <p:spPr>
            <a:xfrm flipH="1">
              <a:off x="5778000" y="4394160"/>
              <a:ext cx="11160" cy="414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5" name=""/>
            <p:cNvSpPr/>
            <p:nvPr/>
          </p:nvSpPr>
          <p:spPr>
            <a:xfrm flipH="1">
              <a:off x="5746680" y="4476600"/>
              <a:ext cx="22320" cy="428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6" name=""/>
            <p:cNvSpPr/>
            <p:nvPr/>
          </p:nvSpPr>
          <p:spPr>
            <a:xfrm flipH="1">
              <a:off x="5725800" y="4560840"/>
              <a:ext cx="11160" cy="316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7" name=""/>
            <p:cNvSpPr/>
            <p:nvPr/>
          </p:nvSpPr>
          <p:spPr>
            <a:xfrm flipH="1">
              <a:off x="5694120" y="4633920"/>
              <a:ext cx="11160" cy="414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8" name=""/>
            <p:cNvSpPr/>
            <p:nvPr/>
          </p:nvSpPr>
          <p:spPr>
            <a:xfrm flipH="1">
              <a:off x="5663880" y="4718160"/>
              <a:ext cx="20520" cy="410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9" name=""/>
            <p:cNvSpPr/>
            <p:nvPr/>
          </p:nvSpPr>
          <p:spPr>
            <a:xfrm flipH="1">
              <a:off x="5641560" y="4800600"/>
              <a:ext cx="11160" cy="428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0" name=""/>
            <p:cNvSpPr/>
            <p:nvPr/>
          </p:nvSpPr>
          <p:spPr>
            <a:xfrm flipH="1">
              <a:off x="5621040" y="4873680"/>
              <a:ext cx="11160" cy="316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1" name=""/>
            <p:cNvSpPr/>
            <p:nvPr/>
          </p:nvSpPr>
          <p:spPr>
            <a:xfrm>
              <a:off x="5757840" y="2658960"/>
              <a:ext cx="41400" cy="18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2" name=""/>
            <p:cNvSpPr/>
            <p:nvPr/>
          </p:nvSpPr>
          <p:spPr>
            <a:xfrm>
              <a:off x="5842080" y="2658960"/>
              <a:ext cx="41040" cy="18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3" name=""/>
            <p:cNvSpPr/>
            <p:nvPr/>
          </p:nvSpPr>
          <p:spPr>
            <a:xfrm>
              <a:off x="5924520" y="2658960"/>
              <a:ext cx="42840" cy="9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4" name=""/>
            <p:cNvSpPr/>
            <p:nvPr/>
          </p:nvSpPr>
          <p:spPr>
            <a:xfrm>
              <a:off x="6008760" y="2668680"/>
              <a:ext cx="41040" cy="205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5" name=""/>
            <p:cNvSpPr/>
            <p:nvPr/>
          </p:nvSpPr>
          <p:spPr>
            <a:xfrm>
              <a:off x="6093000" y="2700360"/>
              <a:ext cx="41040" cy="205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6" name=""/>
            <p:cNvSpPr/>
            <p:nvPr/>
          </p:nvSpPr>
          <p:spPr>
            <a:xfrm>
              <a:off x="6165720" y="2741760"/>
              <a:ext cx="41400" cy="108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7" name=""/>
            <p:cNvSpPr/>
            <p:nvPr/>
          </p:nvSpPr>
          <p:spPr>
            <a:xfrm>
              <a:off x="6249960" y="2773440"/>
              <a:ext cx="30240" cy="205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8" name=""/>
            <p:cNvSpPr/>
            <p:nvPr/>
          </p:nvSpPr>
          <p:spPr>
            <a:xfrm>
              <a:off x="6323040" y="2805120"/>
              <a:ext cx="41400" cy="205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9" name=""/>
            <p:cNvSpPr/>
            <p:nvPr/>
          </p:nvSpPr>
          <p:spPr>
            <a:xfrm>
              <a:off x="6407280" y="2846520"/>
              <a:ext cx="29880" cy="111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0" name=""/>
            <p:cNvSpPr/>
            <p:nvPr/>
          </p:nvSpPr>
          <p:spPr>
            <a:xfrm>
              <a:off x="6469200" y="2814480"/>
              <a:ext cx="41040" cy="22320"/>
            </a:xfrm>
            <a:custGeom>
              <a:avLst/>
              <a:gdLst/>
              <a:ahLst/>
              <a:rect l="l" t="t" r="r" b="b"/>
              <a:pathLst>
                <a:path w="26" h="14">
                  <a:moveTo>
                    <a:pt x="0" y="14"/>
                  </a:moveTo>
                  <a:lnTo>
                    <a:pt x="13" y="7"/>
                  </a:lnTo>
                  <a:lnTo>
                    <a:pt x="26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1" name=""/>
            <p:cNvSpPr/>
            <p:nvPr/>
          </p:nvSpPr>
          <p:spPr>
            <a:xfrm>
              <a:off x="6553080" y="2814480"/>
              <a:ext cx="41400" cy="18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2" name=""/>
            <p:cNvSpPr/>
            <p:nvPr/>
          </p:nvSpPr>
          <p:spPr>
            <a:xfrm flipH="1">
              <a:off x="5998680" y="2668680"/>
              <a:ext cx="9720" cy="428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3" name=""/>
            <p:cNvSpPr/>
            <p:nvPr/>
          </p:nvSpPr>
          <p:spPr>
            <a:xfrm>
              <a:off x="5987880" y="2762280"/>
              <a:ext cx="11160" cy="42840"/>
            </a:xfrm>
            <a:custGeom>
              <a:avLst/>
              <a:gdLst/>
              <a:ahLst/>
              <a:rect l="l" t="t" r="r" b="b"/>
              <a:pathLst>
                <a:path w="7" h="27">
                  <a:moveTo>
                    <a:pt x="7" y="0"/>
                  </a:moveTo>
                  <a:lnTo>
                    <a:pt x="0" y="20"/>
                  </a:lnTo>
                  <a:lnTo>
                    <a:pt x="0" y="27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4" name=""/>
            <p:cNvSpPr/>
            <p:nvPr/>
          </p:nvSpPr>
          <p:spPr>
            <a:xfrm>
              <a:off x="5977080" y="2846520"/>
              <a:ext cx="10800" cy="31680"/>
            </a:xfrm>
            <a:custGeom>
              <a:avLst/>
              <a:gdLst/>
              <a:ahLst/>
              <a:rect l="l" t="t" r="r" b="b"/>
              <a:pathLst>
                <a:path w="7" h="20">
                  <a:moveTo>
                    <a:pt x="7" y="0"/>
                  </a:moveTo>
                  <a:lnTo>
                    <a:pt x="0" y="20"/>
                  </a:lnTo>
                  <a:lnTo>
                    <a:pt x="0" y="2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5" name=""/>
            <p:cNvSpPr/>
            <p:nvPr/>
          </p:nvSpPr>
          <p:spPr>
            <a:xfrm>
              <a:off x="5935680" y="2919240"/>
              <a:ext cx="20520" cy="43200"/>
            </a:xfrm>
            <a:custGeom>
              <a:avLst/>
              <a:gdLst/>
              <a:ahLst/>
              <a:rect l="l" t="t" r="r" b="b"/>
              <a:pathLst>
                <a:path w="13" h="27">
                  <a:moveTo>
                    <a:pt x="13" y="0"/>
                  </a:moveTo>
                  <a:lnTo>
                    <a:pt x="13" y="0"/>
                  </a:lnTo>
                  <a:lnTo>
                    <a:pt x="7" y="20"/>
                  </a:lnTo>
                  <a:lnTo>
                    <a:pt x="0" y="27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6" name=""/>
            <p:cNvSpPr/>
            <p:nvPr/>
          </p:nvSpPr>
          <p:spPr>
            <a:xfrm>
              <a:off x="5915160" y="3003480"/>
              <a:ext cx="9360" cy="41400"/>
            </a:xfrm>
            <a:custGeom>
              <a:avLst/>
              <a:gdLst/>
              <a:ahLst/>
              <a:rect l="l" t="t" r="r" b="b"/>
              <a:pathLst>
                <a:path w="6" h="26">
                  <a:moveTo>
                    <a:pt x="6" y="0"/>
                  </a:moveTo>
                  <a:lnTo>
                    <a:pt x="6" y="0"/>
                  </a:lnTo>
                  <a:lnTo>
                    <a:pt x="0" y="20"/>
                  </a:lnTo>
                  <a:lnTo>
                    <a:pt x="6" y="26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7" name=""/>
            <p:cNvSpPr/>
            <p:nvPr/>
          </p:nvSpPr>
          <p:spPr>
            <a:xfrm>
              <a:off x="5924520" y="3087720"/>
              <a:ext cx="11160" cy="30240"/>
            </a:xfrm>
            <a:custGeom>
              <a:avLst/>
              <a:gdLst/>
              <a:ahLst/>
              <a:rect l="l" t="t" r="r" b="b"/>
              <a:pathLst>
                <a:path w="7" h="19">
                  <a:moveTo>
                    <a:pt x="0" y="0"/>
                  </a:moveTo>
                  <a:lnTo>
                    <a:pt x="0" y="0"/>
                  </a:lnTo>
                  <a:lnTo>
                    <a:pt x="7" y="6"/>
                  </a:lnTo>
                  <a:lnTo>
                    <a:pt x="7" y="13"/>
                  </a:lnTo>
                  <a:lnTo>
                    <a:pt x="7" y="13"/>
                  </a:lnTo>
                  <a:lnTo>
                    <a:pt x="7" y="13"/>
                  </a:lnTo>
                  <a:lnTo>
                    <a:pt x="7" y="19"/>
                  </a:lnTo>
                  <a:lnTo>
                    <a:pt x="7" y="19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8" name=""/>
            <p:cNvSpPr/>
            <p:nvPr/>
          </p:nvSpPr>
          <p:spPr>
            <a:xfrm>
              <a:off x="5904000" y="3160800"/>
              <a:ext cx="31680" cy="30240"/>
            </a:xfrm>
            <a:custGeom>
              <a:avLst/>
              <a:gdLst/>
              <a:ahLst/>
              <a:rect l="l" t="t" r="r" b="b"/>
              <a:pathLst>
                <a:path w="20" h="19">
                  <a:moveTo>
                    <a:pt x="20" y="0"/>
                  </a:moveTo>
                  <a:lnTo>
                    <a:pt x="13" y="6"/>
                  </a:lnTo>
                  <a:lnTo>
                    <a:pt x="0" y="13"/>
                  </a:lnTo>
                  <a:lnTo>
                    <a:pt x="0" y="19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9" name=""/>
            <p:cNvSpPr/>
            <p:nvPr/>
          </p:nvSpPr>
          <p:spPr>
            <a:xfrm>
              <a:off x="5842080" y="3222720"/>
              <a:ext cx="41040" cy="11160"/>
            </a:xfrm>
            <a:custGeom>
              <a:avLst/>
              <a:gdLst/>
              <a:ahLst/>
              <a:rect l="l" t="t" r="r" b="b"/>
              <a:pathLst>
                <a:path w="26" h="7">
                  <a:moveTo>
                    <a:pt x="26" y="0"/>
                  </a:moveTo>
                  <a:lnTo>
                    <a:pt x="19" y="7"/>
                  </a:lnTo>
                  <a:lnTo>
                    <a:pt x="0" y="7"/>
                  </a:lnTo>
                  <a:lnTo>
                    <a:pt x="0" y="7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0" name=""/>
            <p:cNvSpPr/>
            <p:nvPr/>
          </p:nvSpPr>
          <p:spPr>
            <a:xfrm>
              <a:off x="5769000" y="3222720"/>
              <a:ext cx="30240" cy="20520"/>
            </a:xfrm>
            <a:custGeom>
              <a:avLst/>
              <a:gdLst/>
              <a:ahLst/>
              <a:rect l="l" t="t" r="r" b="b"/>
              <a:pathLst>
                <a:path w="19" h="13">
                  <a:moveTo>
                    <a:pt x="19" y="0"/>
                  </a:moveTo>
                  <a:lnTo>
                    <a:pt x="19" y="0"/>
                  </a:lnTo>
                  <a:lnTo>
                    <a:pt x="6" y="0"/>
                  </a:lnTo>
                  <a:lnTo>
                    <a:pt x="0" y="13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1" name=""/>
            <p:cNvSpPr/>
            <p:nvPr/>
          </p:nvSpPr>
          <p:spPr>
            <a:xfrm>
              <a:off x="5737320" y="3274920"/>
              <a:ext cx="9360" cy="31680"/>
            </a:xfrm>
            <a:custGeom>
              <a:avLst/>
              <a:gdLst/>
              <a:ahLst/>
              <a:rect l="l" t="t" r="r" b="b"/>
              <a:pathLst>
                <a:path w="6" h="20">
                  <a:moveTo>
                    <a:pt x="6" y="0"/>
                  </a:moveTo>
                  <a:lnTo>
                    <a:pt x="0" y="0"/>
                  </a:lnTo>
                  <a:lnTo>
                    <a:pt x="0" y="13"/>
                  </a:lnTo>
                  <a:lnTo>
                    <a:pt x="0" y="2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2" name=""/>
            <p:cNvSpPr/>
            <p:nvPr/>
          </p:nvSpPr>
          <p:spPr>
            <a:xfrm>
              <a:off x="5716440" y="3348000"/>
              <a:ext cx="30240" cy="20520"/>
            </a:xfrm>
            <a:custGeom>
              <a:avLst/>
              <a:gdLst/>
              <a:ahLst/>
              <a:rect l="l" t="t" r="r" b="b"/>
              <a:pathLst>
                <a:path w="19" h="13">
                  <a:moveTo>
                    <a:pt x="19" y="0"/>
                  </a:moveTo>
                  <a:lnTo>
                    <a:pt x="19" y="13"/>
                  </a:lnTo>
                  <a:lnTo>
                    <a:pt x="0" y="7"/>
                  </a:lnTo>
                  <a:lnTo>
                    <a:pt x="0" y="13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3" name=""/>
            <p:cNvSpPr/>
            <p:nvPr/>
          </p:nvSpPr>
          <p:spPr>
            <a:xfrm>
              <a:off x="5664240" y="3400560"/>
              <a:ext cx="20520" cy="3168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3" y="0"/>
                  </a:moveTo>
                  <a:lnTo>
                    <a:pt x="13" y="0"/>
                  </a:lnTo>
                  <a:lnTo>
                    <a:pt x="0" y="2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4" name=""/>
            <p:cNvSpPr/>
            <p:nvPr/>
          </p:nvSpPr>
          <p:spPr>
            <a:xfrm>
              <a:off x="5621400" y="3473280"/>
              <a:ext cx="20520" cy="3204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3" y="0"/>
                  </a:moveTo>
                  <a:lnTo>
                    <a:pt x="13" y="0"/>
                  </a:lnTo>
                  <a:lnTo>
                    <a:pt x="0" y="13"/>
                  </a:lnTo>
                  <a:lnTo>
                    <a:pt x="0" y="2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5" name=""/>
            <p:cNvSpPr/>
            <p:nvPr/>
          </p:nvSpPr>
          <p:spPr>
            <a:xfrm>
              <a:off x="5568840" y="3463920"/>
              <a:ext cx="22320" cy="41400"/>
            </a:xfrm>
            <a:custGeom>
              <a:avLst/>
              <a:gdLst/>
              <a:ahLst/>
              <a:rect l="l" t="t" r="r" b="b"/>
              <a:pathLst>
                <a:path w="14" h="26">
                  <a:moveTo>
                    <a:pt x="14" y="26"/>
                  </a:moveTo>
                  <a:lnTo>
                    <a:pt x="7" y="19"/>
                  </a:lnTo>
                  <a:lnTo>
                    <a:pt x="0" y="6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6" name=""/>
            <p:cNvSpPr/>
            <p:nvPr/>
          </p:nvSpPr>
          <p:spPr>
            <a:xfrm flipH="1" flipV="1">
              <a:off x="5486040" y="3441240"/>
              <a:ext cx="41400" cy="111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7" name=""/>
            <p:cNvSpPr/>
            <p:nvPr/>
          </p:nvSpPr>
          <p:spPr>
            <a:xfrm flipH="1">
              <a:off x="5401800" y="3441600"/>
              <a:ext cx="41400" cy="18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8" name=""/>
            <p:cNvSpPr/>
            <p:nvPr/>
          </p:nvSpPr>
          <p:spPr>
            <a:xfrm flipH="1">
              <a:off x="5317920" y="3432240"/>
              <a:ext cx="4284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9" name=""/>
            <p:cNvSpPr/>
            <p:nvPr/>
          </p:nvSpPr>
          <p:spPr>
            <a:xfrm>
              <a:off x="5308560" y="3473280"/>
              <a:ext cx="1800" cy="414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0" name=""/>
            <p:cNvSpPr/>
            <p:nvPr/>
          </p:nvSpPr>
          <p:spPr>
            <a:xfrm>
              <a:off x="5265720" y="3525840"/>
              <a:ext cx="20520" cy="2052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13" y="0"/>
                  </a:moveTo>
                  <a:lnTo>
                    <a:pt x="0" y="0"/>
                  </a:lnTo>
                  <a:lnTo>
                    <a:pt x="0" y="13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1" name=""/>
            <p:cNvSpPr/>
            <p:nvPr/>
          </p:nvSpPr>
          <p:spPr>
            <a:xfrm>
              <a:off x="5245200" y="3589200"/>
              <a:ext cx="20520" cy="30240"/>
            </a:xfrm>
            <a:custGeom>
              <a:avLst/>
              <a:gdLst/>
              <a:ahLst/>
              <a:rect l="l" t="t" r="r" b="b"/>
              <a:pathLst>
                <a:path w="13" h="19">
                  <a:moveTo>
                    <a:pt x="13" y="0"/>
                  </a:moveTo>
                  <a:lnTo>
                    <a:pt x="7" y="19"/>
                  </a:lnTo>
                  <a:lnTo>
                    <a:pt x="0" y="19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2" name=""/>
            <p:cNvSpPr/>
            <p:nvPr/>
          </p:nvSpPr>
          <p:spPr>
            <a:xfrm>
              <a:off x="5192640" y="3610080"/>
              <a:ext cx="11160" cy="29880"/>
            </a:xfrm>
            <a:custGeom>
              <a:avLst/>
              <a:gdLst/>
              <a:ahLst/>
              <a:rect l="l" t="t" r="r" b="b"/>
              <a:pathLst>
                <a:path w="7" h="19">
                  <a:moveTo>
                    <a:pt x="7" y="0"/>
                  </a:moveTo>
                  <a:lnTo>
                    <a:pt x="7" y="0"/>
                  </a:lnTo>
                  <a:lnTo>
                    <a:pt x="0" y="19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3" name=""/>
            <p:cNvSpPr/>
            <p:nvPr/>
          </p:nvSpPr>
          <p:spPr>
            <a:xfrm>
              <a:off x="4930920" y="3263760"/>
              <a:ext cx="21960" cy="42840"/>
            </a:xfrm>
            <a:custGeom>
              <a:avLst/>
              <a:gdLst/>
              <a:ahLst/>
              <a:rect l="l" t="t" r="r" b="b"/>
              <a:pathLst>
                <a:path w="14" h="27">
                  <a:moveTo>
                    <a:pt x="14" y="27"/>
                  </a:moveTo>
                  <a:lnTo>
                    <a:pt x="0" y="7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4" name=""/>
            <p:cNvSpPr/>
            <p:nvPr/>
          </p:nvSpPr>
          <p:spPr>
            <a:xfrm>
              <a:off x="4921200" y="3181320"/>
              <a:ext cx="1800" cy="52560"/>
            </a:xfrm>
            <a:custGeom>
              <a:avLst/>
              <a:gdLst/>
              <a:ahLst/>
              <a:rect l="l" t="t" r="r" b="b"/>
              <a:pathLst>
                <a:path w="0" h="33">
                  <a:moveTo>
                    <a:pt x="0" y="33"/>
                  </a:move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5" name=""/>
            <p:cNvSpPr/>
            <p:nvPr/>
          </p:nvSpPr>
          <p:spPr>
            <a:xfrm>
              <a:off x="4921200" y="3097080"/>
              <a:ext cx="1800" cy="41400"/>
            </a:xfrm>
            <a:custGeom>
              <a:avLst/>
              <a:gdLst/>
              <a:ahLst/>
              <a:rect l="l" t="t" r="r" b="b"/>
              <a:pathLst>
                <a:path w="0" h="26">
                  <a:moveTo>
                    <a:pt x="0" y="26"/>
                  </a:moveTo>
                  <a:lnTo>
                    <a:pt x="0" y="26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6" name=""/>
            <p:cNvSpPr/>
            <p:nvPr/>
          </p:nvSpPr>
          <p:spPr>
            <a:xfrm>
              <a:off x="4930920" y="3013200"/>
              <a:ext cx="1440" cy="42840"/>
            </a:xfrm>
            <a:custGeom>
              <a:avLst/>
              <a:gdLst/>
              <a:ahLst/>
              <a:rect l="l" t="t" r="r" b="b"/>
              <a:pathLst>
                <a:path w="0" h="27">
                  <a:moveTo>
                    <a:pt x="0" y="27"/>
                  </a:moveTo>
                  <a:lnTo>
                    <a:pt x="0" y="27"/>
                  </a:lnTo>
                  <a:lnTo>
                    <a:pt x="0" y="14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7" name=""/>
            <p:cNvSpPr/>
            <p:nvPr/>
          </p:nvSpPr>
          <p:spPr>
            <a:xfrm>
              <a:off x="4869000" y="2962440"/>
              <a:ext cx="41040" cy="20520"/>
            </a:xfrm>
            <a:custGeom>
              <a:avLst/>
              <a:gdLst/>
              <a:ahLst/>
              <a:rect l="l" t="t" r="r" b="b"/>
              <a:pathLst>
                <a:path w="26" h="13">
                  <a:moveTo>
                    <a:pt x="26" y="13"/>
                  </a:moveTo>
                  <a:lnTo>
                    <a:pt x="6" y="6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8" name=""/>
            <p:cNvSpPr/>
            <p:nvPr/>
          </p:nvSpPr>
          <p:spPr>
            <a:xfrm>
              <a:off x="4827600" y="2887560"/>
              <a:ext cx="20520" cy="3168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3" y="20"/>
                  </a:moveTo>
                  <a:lnTo>
                    <a:pt x="6" y="7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9" name=""/>
            <p:cNvSpPr/>
            <p:nvPr/>
          </p:nvSpPr>
          <p:spPr>
            <a:xfrm>
              <a:off x="4775040" y="2825640"/>
              <a:ext cx="20880" cy="3204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3" y="20"/>
                  </a:moveTo>
                  <a:lnTo>
                    <a:pt x="13" y="13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0" name=""/>
            <p:cNvSpPr/>
            <p:nvPr/>
          </p:nvSpPr>
          <p:spPr>
            <a:xfrm flipH="1" flipV="1">
              <a:off x="4711680" y="2752200"/>
              <a:ext cx="31680" cy="320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1" name=""/>
            <p:cNvSpPr/>
            <p:nvPr/>
          </p:nvSpPr>
          <p:spPr>
            <a:xfrm>
              <a:off x="4659480" y="2689200"/>
              <a:ext cx="20520" cy="42840"/>
            </a:xfrm>
            <a:custGeom>
              <a:avLst/>
              <a:gdLst/>
              <a:ahLst/>
              <a:rect l="l" t="t" r="r" b="b"/>
              <a:pathLst>
                <a:path w="13" h="27">
                  <a:moveTo>
                    <a:pt x="13" y="27"/>
                  </a:moveTo>
                  <a:lnTo>
                    <a:pt x="7" y="7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2" name=""/>
            <p:cNvSpPr/>
            <p:nvPr/>
          </p:nvSpPr>
          <p:spPr>
            <a:xfrm>
              <a:off x="4597560" y="2647800"/>
              <a:ext cx="41040" cy="11160"/>
            </a:xfrm>
            <a:custGeom>
              <a:avLst/>
              <a:gdLst/>
              <a:ahLst/>
              <a:rect l="l" t="t" r="r" b="b"/>
              <a:pathLst>
                <a:path w="26" h="7">
                  <a:moveTo>
                    <a:pt x="26" y="7"/>
                  </a:moveTo>
                  <a:lnTo>
                    <a:pt x="26" y="0"/>
                  </a:lnTo>
                  <a:lnTo>
                    <a:pt x="6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3" name=""/>
            <p:cNvSpPr/>
            <p:nvPr/>
          </p:nvSpPr>
          <p:spPr>
            <a:xfrm flipH="1" flipV="1">
              <a:off x="5108400" y="3578400"/>
              <a:ext cx="22320" cy="410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4" name=""/>
            <p:cNvSpPr/>
            <p:nvPr/>
          </p:nvSpPr>
          <p:spPr>
            <a:xfrm>
              <a:off x="5067360" y="3505320"/>
              <a:ext cx="20520" cy="3168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3" y="20"/>
                  </a:moveTo>
                  <a:lnTo>
                    <a:pt x="7" y="6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5" name=""/>
            <p:cNvSpPr/>
            <p:nvPr/>
          </p:nvSpPr>
          <p:spPr>
            <a:xfrm>
              <a:off x="5035680" y="3421080"/>
              <a:ext cx="20520" cy="42840"/>
            </a:xfrm>
            <a:custGeom>
              <a:avLst/>
              <a:gdLst/>
              <a:ahLst/>
              <a:rect l="l" t="t" r="r" b="b"/>
              <a:pathLst>
                <a:path w="13" h="27">
                  <a:moveTo>
                    <a:pt x="13" y="27"/>
                  </a:moveTo>
                  <a:lnTo>
                    <a:pt x="7" y="13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6" name=""/>
            <p:cNvSpPr/>
            <p:nvPr/>
          </p:nvSpPr>
          <p:spPr>
            <a:xfrm>
              <a:off x="4994280" y="3348000"/>
              <a:ext cx="20520" cy="41400"/>
            </a:xfrm>
            <a:custGeom>
              <a:avLst/>
              <a:gdLst/>
              <a:ahLst/>
              <a:rect l="l" t="t" r="r" b="b"/>
              <a:pathLst>
                <a:path w="13" h="26">
                  <a:moveTo>
                    <a:pt x="13" y="26"/>
                  </a:moveTo>
                  <a:lnTo>
                    <a:pt x="0" y="7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7" name=""/>
            <p:cNvSpPr/>
            <p:nvPr/>
          </p:nvSpPr>
          <p:spPr>
            <a:xfrm>
              <a:off x="4952880" y="3286080"/>
              <a:ext cx="9720" cy="30240"/>
            </a:xfrm>
            <a:custGeom>
              <a:avLst/>
              <a:gdLst/>
              <a:ahLst/>
              <a:rect l="l" t="t" r="r" b="b"/>
              <a:pathLst>
                <a:path w="6" h="19">
                  <a:moveTo>
                    <a:pt x="6" y="19"/>
                  </a:moveTo>
                  <a:lnTo>
                    <a:pt x="6" y="19"/>
                  </a:lnTo>
                  <a:lnTo>
                    <a:pt x="0" y="6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8" name=""/>
            <p:cNvSpPr/>
            <p:nvPr/>
          </p:nvSpPr>
          <p:spPr>
            <a:xfrm flipV="1">
              <a:off x="4962600" y="3190680"/>
              <a:ext cx="11160" cy="522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9" name=""/>
            <p:cNvSpPr/>
            <p:nvPr/>
          </p:nvSpPr>
          <p:spPr>
            <a:xfrm flipV="1">
              <a:off x="4973760" y="3107880"/>
              <a:ext cx="9360" cy="414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0" name=""/>
            <p:cNvSpPr/>
            <p:nvPr/>
          </p:nvSpPr>
          <p:spPr>
            <a:xfrm flipV="1">
              <a:off x="4983120" y="3024360"/>
              <a:ext cx="11160" cy="410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1" name=""/>
            <p:cNvSpPr/>
            <p:nvPr/>
          </p:nvSpPr>
          <p:spPr>
            <a:xfrm flipV="1">
              <a:off x="5005440" y="2939760"/>
              <a:ext cx="1440" cy="428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2" name=""/>
            <p:cNvSpPr/>
            <p:nvPr/>
          </p:nvSpPr>
          <p:spPr>
            <a:xfrm>
              <a:off x="5014800" y="2857680"/>
              <a:ext cx="1800" cy="41040"/>
            </a:xfrm>
            <a:custGeom>
              <a:avLst/>
              <a:gdLst/>
              <a:ahLst/>
              <a:rect l="l" t="t" r="r" b="b"/>
              <a:pathLst>
                <a:path w="0" h="26">
                  <a:moveTo>
                    <a:pt x="0" y="26"/>
                  </a:moveTo>
                  <a:lnTo>
                    <a:pt x="0" y="26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3" name=""/>
            <p:cNvSpPr/>
            <p:nvPr/>
          </p:nvSpPr>
          <p:spPr>
            <a:xfrm flipV="1">
              <a:off x="5025960" y="2773440"/>
              <a:ext cx="9720" cy="410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4" name=""/>
            <p:cNvSpPr/>
            <p:nvPr/>
          </p:nvSpPr>
          <p:spPr>
            <a:xfrm flipV="1">
              <a:off x="5035680" y="2688840"/>
              <a:ext cx="11160" cy="428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5" name=""/>
            <p:cNvSpPr/>
            <p:nvPr/>
          </p:nvSpPr>
          <p:spPr>
            <a:xfrm flipV="1">
              <a:off x="5046840" y="2606760"/>
              <a:ext cx="9360" cy="410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6" name=""/>
            <p:cNvSpPr/>
            <p:nvPr/>
          </p:nvSpPr>
          <p:spPr>
            <a:xfrm flipV="1">
              <a:off x="5067360" y="2522160"/>
              <a:ext cx="1440" cy="414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7" name=""/>
            <p:cNvSpPr/>
            <p:nvPr/>
          </p:nvSpPr>
          <p:spPr>
            <a:xfrm flipV="1">
              <a:off x="5078520" y="2437920"/>
              <a:ext cx="1440" cy="428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8" name=""/>
            <p:cNvSpPr/>
            <p:nvPr/>
          </p:nvSpPr>
          <p:spPr>
            <a:xfrm flipV="1">
              <a:off x="5087880" y="2355480"/>
              <a:ext cx="1800" cy="414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9" name=""/>
            <p:cNvSpPr/>
            <p:nvPr/>
          </p:nvSpPr>
          <p:spPr>
            <a:xfrm>
              <a:off x="5099040" y="2303640"/>
              <a:ext cx="31680" cy="9360"/>
            </a:xfrm>
            <a:custGeom>
              <a:avLst/>
              <a:gdLst/>
              <a:ahLst/>
              <a:rect l="l" t="t" r="r" b="b"/>
              <a:pathLst>
                <a:path w="20" h="6">
                  <a:moveTo>
                    <a:pt x="0" y="6"/>
                  </a:moveTo>
                  <a:lnTo>
                    <a:pt x="0" y="0"/>
                  </a:lnTo>
                  <a:lnTo>
                    <a:pt x="20" y="6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0" name=""/>
            <p:cNvSpPr/>
            <p:nvPr/>
          </p:nvSpPr>
          <p:spPr>
            <a:xfrm>
              <a:off x="5172120" y="2313000"/>
              <a:ext cx="41400" cy="111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1" name=""/>
            <p:cNvSpPr/>
            <p:nvPr/>
          </p:nvSpPr>
          <p:spPr>
            <a:xfrm flipV="1">
              <a:off x="5256360" y="2292480"/>
              <a:ext cx="29880" cy="316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2" name=""/>
            <p:cNvSpPr/>
            <p:nvPr/>
          </p:nvSpPr>
          <p:spPr>
            <a:xfrm flipV="1">
              <a:off x="5308560" y="2230200"/>
              <a:ext cx="30240" cy="298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3" name=""/>
            <p:cNvSpPr/>
            <p:nvPr/>
          </p:nvSpPr>
          <p:spPr>
            <a:xfrm>
              <a:off x="5370480" y="2230560"/>
              <a:ext cx="42840" cy="93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4" name=""/>
            <p:cNvSpPr/>
            <p:nvPr/>
          </p:nvSpPr>
          <p:spPr>
            <a:xfrm>
              <a:off x="5443560" y="2260440"/>
              <a:ext cx="42840" cy="223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5" name=""/>
            <p:cNvSpPr/>
            <p:nvPr/>
          </p:nvSpPr>
          <p:spPr>
            <a:xfrm>
              <a:off x="5527800" y="2292480"/>
              <a:ext cx="41040" cy="205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6" name=""/>
            <p:cNvSpPr/>
            <p:nvPr/>
          </p:nvSpPr>
          <p:spPr>
            <a:xfrm>
              <a:off x="5600880" y="2335320"/>
              <a:ext cx="41040" cy="9360"/>
            </a:xfrm>
            <a:custGeom>
              <a:avLst/>
              <a:gdLst/>
              <a:ahLst/>
              <a:rect l="l" t="t" r="r" b="b"/>
              <a:pathLst>
                <a:path w="26" h="6">
                  <a:moveTo>
                    <a:pt x="0" y="0"/>
                  </a:moveTo>
                  <a:lnTo>
                    <a:pt x="7" y="0"/>
                  </a:lnTo>
                  <a:lnTo>
                    <a:pt x="26" y="6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7" name=""/>
            <p:cNvSpPr/>
            <p:nvPr/>
          </p:nvSpPr>
          <p:spPr>
            <a:xfrm>
              <a:off x="5684760" y="2365200"/>
              <a:ext cx="41400" cy="20880"/>
            </a:xfrm>
            <a:custGeom>
              <a:avLst/>
              <a:gdLst/>
              <a:ahLst/>
              <a:rect l="l" t="t" r="r" b="b"/>
              <a:pathLst>
                <a:path w="26" h="13">
                  <a:moveTo>
                    <a:pt x="0" y="0"/>
                  </a:moveTo>
                  <a:lnTo>
                    <a:pt x="0" y="0"/>
                  </a:lnTo>
                  <a:lnTo>
                    <a:pt x="26" y="13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8" name=""/>
            <p:cNvSpPr/>
            <p:nvPr/>
          </p:nvSpPr>
          <p:spPr>
            <a:xfrm>
              <a:off x="5757840" y="2397240"/>
              <a:ext cx="11160" cy="410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9" name=""/>
            <p:cNvSpPr/>
            <p:nvPr/>
          </p:nvSpPr>
          <p:spPr>
            <a:xfrm flipH="1">
              <a:off x="5769000" y="2481120"/>
              <a:ext cx="9360" cy="414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0" name=""/>
            <p:cNvSpPr/>
            <p:nvPr/>
          </p:nvSpPr>
          <p:spPr>
            <a:xfrm>
              <a:off x="5757840" y="2563920"/>
              <a:ext cx="1440" cy="42840"/>
            </a:xfrm>
            <a:custGeom>
              <a:avLst/>
              <a:gdLst/>
              <a:ahLst/>
              <a:rect l="l" t="t" r="r" b="b"/>
              <a:pathLst>
                <a:path w="0" h="27">
                  <a:moveTo>
                    <a:pt x="0" y="0"/>
                  </a:moveTo>
                  <a:lnTo>
                    <a:pt x="0" y="20"/>
                  </a:lnTo>
                  <a:lnTo>
                    <a:pt x="0" y="27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1" name=""/>
            <p:cNvSpPr/>
            <p:nvPr/>
          </p:nvSpPr>
          <p:spPr>
            <a:xfrm>
              <a:off x="5757840" y="2647800"/>
              <a:ext cx="1440" cy="11160"/>
            </a:xfrm>
            <a:custGeom>
              <a:avLst/>
              <a:gdLst/>
              <a:ahLst/>
              <a:rect l="l" t="t" r="r" b="b"/>
              <a:pathLst>
                <a:path w="0" h="7">
                  <a:moveTo>
                    <a:pt x="0" y="0"/>
                  </a:moveTo>
                  <a:lnTo>
                    <a:pt x="0" y="7"/>
                  </a:lnTo>
                  <a:lnTo>
                    <a:pt x="0" y="7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2" name=""/>
            <p:cNvSpPr/>
            <p:nvPr/>
          </p:nvSpPr>
          <p:spPr>
            <a:xfrm flipH="1" flipV="1">
              <a:off x="4533480" y="2637000"/>
              <a:ext cx="41400" cy="108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3" name=""/>
            <p:cNvSpPr/>
            <p:nvPr/>
          </p:nvSpPr>
          <p:spPr>
            <a:xfrm>
              <a:off x="4481640" y="2668680"/>
              <a:ext cx="31680" cy="20520"/>
            </a:xfrm>
            <a:custGeom>
              <a:avLst/>
              <a:gdLst/>
              <a:ahLst/>
              <a:rect l="l" t="t" r="r" b="b"/>
              <a:pathLst>
                <a:path w="20" h="13">
                  <a:moveTo>
                    <a:pt x="20" y="0"/>
                  </a:moveTo>
                  <a:lnTo>
                    <a:pt x="7" y="7"/>
                  </a:lnTo>
                  <a:lnTo>
                    <a:pt x="0" y="13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4" name=""/>
            <p:cNvSpPr/>
            <p:nvPr/>
          </p:nvSpPr>
          <p:spPr>
            <a:xfrm>
              <a:off x="4408560" y="2711520"/>
              <a:ext cx="41040" cy="30240"/>
            </a:xfrm>
            <a:custGeom>
              <a:avLst/>
              <a:gdLst/>
              <a:ahLst/>
              <a:rect l="l" t="t" r="r" b="b"/>
              <a:pathLst>
                <a:path w="26" h="19">
                  <a:moveTo>
                    <a:pt x="26" y="0"/>
                  </a:moveTo>
                  <a:lnTo>
                    <a:pt x="13" y="6"/>
                  </a:lnTo>
                  <a:lnTo>
                    <a:pt x="0" y="13"/>
                  </a:lnTo>
                  <a:lnTo>
                    <a:pt x="0" y="19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5" name=""/>
            <p:cNvSpPr/>
            <p:nvPr/>
          </p:nvSpPr>
          <p:spPr>
            <a:xfrm>
              <a:off x="4367160" y="2773440"/>
              <a:ext cx="30240" cy="31680"/>
            </a:xfrm>
            <a:custGeom>
              <a:avLst/>
              <a:gdLst/>
              <a:ahLst/>
              <a:rect l="l" t="t" r="r" b="b"/>
              <a:pathLst>
                <a:path w="19" h="20">
                  <a:moveTo>
                    <a:pt x="19" y="0"/>
                  </a:moveTo>
                  <a:lnTo>
                    <a:pt x="19" y="7"/>
                  </a:lnTo>
                  <a:lnTo>
                    <a:pt x="13" y="13"/>
                  </a:lnTo>
                  <a:lnTo>
                    <a:pt x="0" y="2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6" name=""/>
            <p:cNvSpPr/>
            <p:nvPr/>
          </p:nvSpPr>
          <p:spPr>
            <a:xfrm>
              <a:off x="4303800" y="2836800"/>
              <a:ext cx="31680" cy="20880"/>
            </a:xfrm>
            <a:custGeom>
              <a:avLst/>
              <a:gdLst/>
              <a:ahLst/>
              <a:rect l="l" t="t" r="r" b="b"/>
              <a:pathLst>
                <a:path w="20" h="13">
                  <a:moveTo>
                    <a:pt x="20" y="0"/>
                  </a:moveTo>
                  <a:lnTo>
                    <a:pt x="20" y="0"/>
                  </a:lnTo>
                  <a:lnTo>
                    <a:pt x="0" y="13"/>
                  </a:lnTo>
                  <a:lnTo>
                    <a:pt x="0" y="13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7" name=""/>
            <p:cNvSpPr/>
            <p:nvPr/>
          </p:nvSpPr>
          <p:spPr>
            <a:xfrm flipH="1">
              <a:off x="4241880" y="2887560"/>
              <a:ext cx="30240" cy="223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48" name=""/>
          <p:cNvGrpSpPr/>
          <p:nvPr/>
        </p:nvGrpSpPr>
        <p:grpSpPr>
          <a:xfrm>
            <a:off x="2190600" y="2125440"/>
            <a:ext cx="4896000" cy="3775680"/>
            <a:chOff x="2190600" y="2125440"/>
            <a:chExt cx="4896000" cy="3775680"/>
          </a:xfrm>
        </p:grpSpPr>
        <p:sp>
          <p:nvSpPr>
            <p:cNvPr id="5149" name=""/>
            <p:cNvSpPr/>
            <p:nvPr/>
          </p:nvSpPr>
          <p:spPr>
            <a:xfrm>
              <a:off x="4167360" y="2919240"/>
              <a:ext cx="31680" cy="20880"/>
            </a:xfrm>
            <a:custGeom>
              <a:avLst/>
              <a:gdLst/>
              <a:ahLst/>
              <a:rect l="l" t="t" r="r" b="b"/>
              <a:pathLst>
                <a:path w="20" h="13">
                  <a:moveTo>
                    <a:pt x="20" y="13"/>
                  </a:moveTo>
                  <a:lnTo>
                    <a:pt x="20" y="13"/>
                  </a:lnTo>
                  <a:lnTo>
                    <a:pt x="7" y="13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0" name=""/>
            <p:cNvSpPr/>
            <p:nvPr/>
          </p:nvSpPr>
          <p:spPr>
            <a:xfrm flipH="1" flipV="1">
              <a:off x="4137120" y="2846520"/>
              <a:ext cx="9360" cy="316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1" name=""/>
            <p:cNvSpPr/>
            <p:nvPr/>
          </p:nvSpPr>
          <p:spPr>
            <a:xfrm flipH="1" flipV="1">
              <a:off x="4105440" y="2846160"/>
              <a:ext cx="41040" cy="205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2" name=""/>
            <p:cNvSpPr/>
            <p:nvPr/>
          </p:nvSpPr>
          <p:spPr>
            <a:xfrm flipH="1" flipV="1">
              <a:off x="4041720" y="2793600"/>
              <a:ext cx="31680" cy="205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3" name=""/>
            <p:cNvSpPr/>
            <p:nvPr/>
          </p:nvSpPr>
          <p:spPr>
            <a:xfrm>
              <a:off x="3979800" y="2793960"/>
              <a:ext cx="31680" cy="316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20" y="0"/>
                  </a:moveTo>
                  <a:lnTo>
                    <a:pt x="13" y="7"/>
                  </a:lnTo>
                  <a:lnTo>
                    <a:pt x="0" y="2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4" name=""/>
            <p:cNvSpPr/>
            <p:nvPr/>
          </p:nvSpPr>
          <p:spPr>
            <a:xfrm>
              <a:off x="3906720" y="2846520"/>
              <a:ext cx="30240" cy="31680"/>
            </a:xfrm>
            <a:custGeom>
              <a:avLst/>
              <a:gdLst/>
              <a:ahLst/>
              <a:rect l="l" t="t" r="r" b="b"/>
              <a:pathLst>
                <a:path w="19" h="20">
                  <a:moveTo>
                    <a:pt x="19" y="0"/>
                  </a:moveTo>
                  <a:lnTo>
                    <a:pt x="13" y="7"/>
                  </a:lnTo>
                  <a:lnTo>
                    <a:pt x="0" y="2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5" name=""/>
            <p:cNvSpPr/>
            <p:nvPr/>
          </p:nvSpPr>
          <p:spPr>
            <a:xfrm>
              <a:off x="3843360" y="2898720"/>
              <a:ext cx="31680" cy="316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20" y="0"/>
                  </a:moveTo>
                  <a:lnTo>
                    <a:pt x="7" y="13"/>
                  </a:lnTo>
                  <a:lnTo>
                    <a:pt x="0" y="2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6" name=""/>
            <p:cNvSpPr/>
            <p:nvPr/>
          </p:nvSpPr>
          <p:spPr>
            <a:xfrm flipH="1">
              <a:off x="3801600" y="2951280"/>
              <a:ext cx="9720" cy="111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7" name=""/>
            <p:cNvSpPr/>
            <p:nvPr/>
          </p:nvSpPr>
          <p:spPr>
            <a:xfrm>
              <a:off x="3656160" y="2940120"/>
              <a:ext cx="29880" cy="398520"/>
            </a:xfrm>
            <a:custGeom>
              <a:avLst/>
              <a:gdLst/>
              <a:ahLst/>
              <a:rect l="l" t="t" r="r" b="b"/>
              <a:pathLst>
                <a:path w="19" h="251">
                  <a:moveTo>
                    <a:pt x="19" y="0"/>
                  </a:moveTo>
                  <a:lnTo>
                    <a:pt x="13" y="20"/>
                  </a:lnTo>
                  <a:lnTo>
                    <a:pt x="6" y="33"/>
                  </a:lnTo>
                  <a:lnTo>
                    <a:pt x="6" y="53"/>
                  </a:lnTo>
                  <a:lnTo>
                    <a:pt x="0" y="73"/>
                  </a:lnTo>
                  <a:lnTo>
                    <a:pt x="6" y="93"/>
                  </a:lnTo>
                  <a:lnTo>
                    <a:pt x="6" y="119"/>
                  </a:lnTo>
                  <a:lnTo>
                    <a:pt x="13" y="139"/>
                  </a:lnTo>
                  <a:lnTo>
                    <a:pt x="19" y="158"/>
                  </a:lnTo>
                  <a:lnTo>
                    <a:pt x="19" y="185"/>
                  </a:lnTo>
                  <a:lnTo>
                    <a:pt x="13" y="211"/>
                  </a:lnTo>
                  <a:lnTo>
                    <a:pt x="13" y="224"/>
                  </a:lnTo>
                  <a:lnTo>
                    <a:pt x="13" y="251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8" name=""/>
            <p:cNvSpPr/>
            <p:nvPr/>
          </p:nvSpPr>
          <p:spPr>
            <a:xfrm>
              <a:off x="3686040" y="2940120"/>
              <a:ext cx="1422360" cy="743040"/>
            </a:xfrm>
            <a:custGeom>
              <a:avLst/>
              <a:gdLst/>
              <a:ahLst/>
              <a:rect l="l" t="t" r="r" b="b"/>
              <a:pathLst>
                <a:path w="896" h="468">
                  <a:moveTo>
                    <a:pt x="896" y="468"/>
                  </a:moveTo>
                  <a:lnTo>
                    <a:pt x="824" y="441"/>
                  </a:lnTo>
                  <a:lnTo>
                    <a:pt x="725" y="409"/>
                  </a:lnTo>
                  <a:lnTo>
                    <a:pt x="606" y="362"/>
                  </a:lnTo>
                  <a:lnTo>
                    <a:pt x="560" y="316"/>
                  </a:lnTo>
                  <a:lnTo>
                    <a:pt x="508" y="290"/>
                  </a:lnTo>
                  <a:lnTo>
                    <a:pt x="429" y="237"/>
                  </a:lnTo>
                  <a:lnTo>
                    <a:pt x="356" y="185"/>
                  </a:lnTo>
                  <a:lnTo>
                    <a:pt x="323" y="152"/>
                  </a:lnTo>
                  <a:lnTo>
                    <a:pt x="297" y="132"/>
                  </a:lnTo>
                  <a:lnTo>
                    <a:pt x="244" y="73"/>
                  </a:lnTo>
                  <a:lnTo>
                    <a:pt x="224" y="60"/>
                  </a:lnTo>
                  <a:lnTo>
                    <a:pt x="99" y="27"/>
                  </a:lnTo>
                  <a:lnTo>
                    <a:pt x="60" y="7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9" name=""/>
            <p:cNvSpPr/>
            <p:nvPr/>
          </p:nvSpPr>
          <p:spPr>
            <a:xfrm>
              <a:off x="5338800" y="3286080"/>
              <a:ext cx="42840" cy="18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0" name=""/>
            <p:cNvSpPr/>
            <p:nvPr/>
          </p:nvSpPr>
          <p:spPr>
            <a:xfrm>
              <a:off x="5423040" y="3286080"/>
              <a:ext cx="41040" cy="9720"/>
            </a:xfrm>
            <a:custGeom>
              <a:avLst/>
              <a:gdLst/>
              <a:ahLst/>
              <a:rect l="l" t="t" r="r" b="b"/>
              <a:pathLst>
                <a:path w="26" h="6">
                  <a:moveTo>
                    <a:pt x="0" y="0"/>
                  </a:moveTo>
                  <a:lnTo>
                    <a:pt x="20" y="6"/>
                  </a:lnTo>
                  <a:lnTo>
                    <a:pt x="26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1" name=""/>
            <p:cNvSpPr/>
            <p:nvPr/>
          </p:nvSpPr>
          <p:spPr>
            <a:xfrm>
              <a:off x="5475240" y="3233880"/>
              <a:ext cx="41400" cy="9360"/>
            </a:xfrm>
            <a:custGeom>
              <a:avLst/>
              <a:gdLst/>
              <a:ahLst/>
              <a:rect l="l" t="t" r="r" b="b"/>
              <a:pathLst>
                <a:path w="26" h="6">
                  <a:moveTo>
                    <a:pt x="0" y="6"/>
                  </a:moveTo>
                  <a:lnTo>
                    <a:pt x="13" y="0"/>
                  </a:lnTo>
                  <a:lnTo>
                    <a:pt x="26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2" name=""/>
            <p:cNvSpPr/>
            <p:nvPr/>
          </p:nvSpPr>
          <p:spPr>
            <a:xfrm>
              <a:off x="5265720" y="3024360"/>
              <a:ext cx="4284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3" name=""/>
            <p:cNvSpPr/>
            <p:nvPr/>
          </p:nvSpPr>
          <p:spPr>
            <a:xfrm>
              <a:off x="2639880" y="3619440"/>
              <a:ext cx="262080" cy="63720"/>
            </a:xfrm>
            <a:custGeom>
              <a:avLst/>
              <a:gdLst/>
              <a:ahLst/>
              <a:rect l="l" t="t" r="r" b="b"/>
              <a:pathLst>
                <a:path w="165" h="40">
                  <a:moveTo>
                    <a:pt x="165" y="13"/>
                  </a:moveTo>
                  <a:lnTo>
                    <a:pt x="152" y="13"/>
                  </a:lnTo>
                  <a:lnTo>
                    <a:pt x="139" y="13"/>
                  </a:lnTo>
                  <a:lnTo>
                    <a:pt x="126" y="7"/>
                  </a:lnTo>
                  <a:lnTo>
                    <a:pt x="112" y="0"/>
                  </a:lnTo>
                  <a:lnTo>
                    <a:pt x="106" y="0"/>
                  </a:lnTo>
                  <a:lnTo>
                    <a:pt x="99" y="0"/>
                  </a:lnTo>
                  <a:lnTo>
                    <a:pt x="93" y="7"/>
                  </a:lnTo>
                  <a:lnTo>
                    <a:pt x="86" y="20"/>
                  </a:lnTo>
                  <a:lnTo>
                    <a:pt x="79" y="27"/>
                  </a:lnTo>
                  <a:lnTo>
                    <a:pt x="73" y="27"/>
                  </a:lnTo>
                  <a:lnTo>
                    <a:pt x="53" y="33"/>
                  </a:lnTo>
                  <a:lnTo>
                    <a:pt x="0" y="40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4" name=""/>
            <p:cNvSpPr/>
            <p:nvPr/>
          </p:nvSpPr>
          <p:spPr>
            <a:xfrm>
              <a:off x="4775040" y="4216320"/>
              <a:ext cx="30240" cy="20880"/>
            </a:xfrm>
            <a:custGeom>
              <a:avLst/>
              <a:gdLst/>
              <a:ahLst/>
              <a:rect l="l" t="t" r="r" b="b"/>
              <a:pathLst>
                <a:path w="19" h="13">
                  <a:moveTo>
                    <a:pt x="0" y="13"/>
                  </a:moveTo>
                  <a:lnTo>
                    <a:pt x="19" y="6"/>
                  </a:lnTo>
                  <a:lnTo>
                    <a:pt x="19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5" name=""/>
            <p:cNvSpPr/>
            <p:nvPr/>
          </p:nvSpPr>
          <p:spPr>
            <a:xfrm flipV="1">
              <a:off x="4827600" y="4143240"/>
              <a:ext cx="9360" cy="302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6" name=""/>
            <p:cNvSpPr/>
            <p:nvPr/>
          </p:nvSpPr>
          <p:spPr>
            <a:xfrm>
              <a:off x="4805280" y="4226040"/>
              <a:ext cx="42840" cy="205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7" name=""/>
            <p:cNvSpPr/>
            <p:nvPr/>
          </p:nvSpPr>
          <p:spPr>
            <a:xfrm flipV="1">
              <a:off x="4878360" y="4204800"/>
              <a:ext cx="22320" cy="414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8" name=""/>
            <p:cNvSpPr/>
            <p:nvPr/>
          </p:nvSpPr>
          <p:spPr>
            <a:xfrm flipV="1">
              <a:off x="4910040" y="4120920"/>
              <a:ext cx="11160" cy="428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9" name=""/>
            <p:cNvSpPr/>
            <p:nvPr/>
          </p:nvSpPr>
          <p:spPr>
            <a:xfrm flipV="1">
              <a:off x="4930920" y="4038120"/>
              <a:ext cx="10800" cy="414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0" name=""/>
            <p:cNvSpPr/>
            <p:nvPr/>
          </p:nvSpPr>
          <p:spPr>
            <a:xfrm flipV="1">
              <a:off x="4429080" y="3986280"/>
              <a:ext cx="20520" cy="410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1" name=""/>
            <p:cNvSpPr/>
            <p:nvPr/>
          </p:nvSpPr>
          <p:spPr>
            <a:xfrm flipV="1">
              <a:off x="4460760" y="3912840"/>
              <a:ext cx="9720" cy="414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2" name=""/>
            <p:cNvSpPr/>
            <p:nvPr/>
          </p:nvSpPr>
          <p:spPr>
            <a:xfrm flipV="1">
              <a:off x="4481640" y="3828600"/>
              <a:ext cx="11160" cy="414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3" name=""/>
            <p:cNvSpPr/>
            <p:nvPr/>
          </p:nvSpPr>
          <p:spPr>
            <a:xfrm flipV="1">
              <a:off x="4502160" y="3744720"/>
              <a:ext cx="20520" cy="428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4" name=""/>
            <p:cNvSpPr/>
            <p:nvPr/>
          </p:nvSpPr>
          <p:spPr>
            <a:xfrm flipV="1">
              <a:off x="4533840" y="3682800"/>
              <a:ext cx="1800" cy="205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5" name=""/>
            <p:cNvSpPr/>
            <p:nvPr/>
          </p:nvSpPr>
          <p:spPr>
            <a:xfrm>
              <a:off x="4376880" y="4549680"/>
              <a:ext cx="42840" cy="111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6" name=""/>
            <p:cNvSpPr/>
            <p:nvPr/>
          </p:nvSpPr>
          <p:spPr>
            <a:xfrm flipH="1">
              <a:off x="4440240" y="4581360"/>
              <a:ext cx="9360" cy="414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7" name=""/>
            <p:cNvSpPr/>
            <p:nvPr/>
          </p:nvSpPr>
          <p:spPr>
            <a:xfrm flipH="1">
              <a:off x="4408200" y="4665600"/>
              <a:ext cx="11160" cy="302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8" name=""/>
            <p:cNvSpPr/>
            <p:nvPr/>
          </p:nvSpPr>
          <p:spPr>
            <a:xfrm>
              <a:off x="4440240" y="4727520"/>
              <a:ext cx="30240" cy="20520"/>
            </a:xfrm>
            <a:custGeom>
              <a:avLst/>
              <a:gdLst/>
              <a:ahLst/>
              <a:rect l="l" t="t" r="r" b="b"/>
              <a:pathLst>
                <a:path w="19" h="13">
                  <a:moveTo>
                    <a:pt x="0" y="0"/>
                  </a:moveTo>
                  <a:lnTo>
                    <a:pt x="6" y="0"/>
                  </a:lnTo>
                  <a:lnTo>
                    <a:pt x="19" y="13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9" name=""/>
            <p:cNvSpPr/>
            <p:nvPr/>
          </p:nvSpPr>
          <p:spPr>
            <a:xfrm>
              <a:off x="4502160" y="4770360"/>
              <a:ext cx="20520" cy="2088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7" y="0"/>
                  </a:moveTo>
                  <a:lnTo>
                    <a:pt x="13" y="6"/>
                  </a:lnTo>
                  <a:lnTo>
                    <a:pt x="0" y="13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0" name=""/>
            <p:cNvSpPr/>
            <p:nvPr/>
          </p:nvSpPr>
          <p:spPr>
            <a:xfrm flipV="1">
              <a:off x="4554360" y="4916520"/>
              <a:ext cx="43200" cy="93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1" name=""/>
            <p:cNvSpPr/>
            <p:nvPr/>
          </p:nvSpPr>
          <p:spPr>
            <a:xfrm flipH="1">
              <a:off x="4869000" y="4257720"/>
              <a:ext cx="9360" cy="414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2" name=""/>
            <p:cNvSpPr/>
            <p:nvPr/>
          </p:nvSpPr>
          <p:spPr>
            <a:xfrm flipH="1">
              <a:off x="4836960" y="4330800"/>
              <a:ext cx="20880" cy="410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3" name=""/>
            <p:cNvSpPr/>
            <p:nvPr/>
          </p:nvSpPr>
          <p:spPr>
            <a:xfrm flipH="1">
              <a:off x="4816080" y="4414680"/>
              <a:ext cx="11160" cy="414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4" name=""/>
            <p:cNvSpPr/>
            <p:nvPr/>
          </p:nvSpPr>
          <p:spPr>
            <a:xfrm>
              <a:off x="4805280" y="4497480"/>
              <a:ext cx="1800" cy="42840"/>
            </a:xfrm>
            <a:custGeom>
              <a:avLst/>
              <a:gdLst/>
              <a:ahLst/>
              <a:rect l="l" t="t" r="r" b="b"/>
              <a:pathLst>
                <a:path w="0" h="27">
                  <a:moveTo>
                    <a:pt x="0" y="0"/>
                  </a:moveTo>
                  <a:lnTo>
                    <a:pt x="0" y="20"/>
                  </a:lnTo>
                  <a:lnTo>
                    <a:pt x="0" y="27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5" name=""/>
            <p:cNvSpPr/>
            <p:nvPr/>
          </p:nvSpPr>
          <p:spPr>
            <a:xfrm>
              <a:off x="4827600" y="4581360"/>
              <a:ext cx="9360" cy="414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6" name=""/>
            <p:cNvSpPr/>
            <p:nvPr/>
          </p:nvSpPr>
          <p:spPr>
            <a:xfrm>
              <a:off x="4586400" y="4309920"/>
              <a:ext cx="20520" cy="41400"/>
            </a:xfrm>
            <a:custGeom>
              <a:avLst/>
              <a:gdLst/>
              <a:ahLst/>
              <a:rect l="l" t="t" r="r" b="b"/>
              <a:pathLst>
                <a:path w="13" h="26">
                  <a:moveTo>
                    <a:pt x="0" y="0"/>
                  </a:moveTo>
                  <a:lnTo>
                    <a:pt x="13" y="20"/>
                  </a:lnTo>
                  <a:lnTo>
                    <a:pt x="13" y="26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7" name=""/>
            <p:cNvSpPr/>
            <p:nvPr/>
          </p:nvSpPr>
          <p:spPr>
            <a:xfrm flipH="1">
              <a:off x="4627080" y="4371840"/>
              <a:ext cx="11160" cy="428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8" name=""/>
            <p:cNvSpPr/>
            <p:nvPr/>
          </p:nvSpPr>
          <p:spPr>
            <a:xfrm>
              <a:off x="4648320" y="4444920"/>
              <a:ext cx="42840" cy="111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9" name=""/>
            <p:cNvSpPr/>
            <p:nvPr/>
          </p:nvSpPr>
          <p:spPr>
            <a:xfrm>
              <a:off x="4722840" y="4444920"/>
              <a:ext cx="20520" cy="3168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0" y="20"/>
                  </a:moveTo>
                  <a:lnTo>
                    <a:pt x="6" y="20"/>
                  </a:lnTo>
                  <a:lnTo>
                    <a:pt x="13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0" name=""/>
            <p:cNvSpPr/>
            <p:nvPr/>
          </p:nvSpPr>
          <p:spPr>
            <a:xfrm flipV="1">
              <a:off x="4753080" y="4362120"/>
              <a:ext cx="11160" cy="414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1" name=""/>
            <p:cNvSpPr/>
            <p:nvPr/>
          </p:nvSpPr>
          <p:spPr>
            <a:xfrm flipV="1">
              <a:off x="4775040" y="4277880"/>
              <a:ext cx="20880" cy="414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2" name=""/>
            <p:cNvSpPr/>
            <p:nvPr/>
          </p:nvSpPr>
          <p:spPr>
            <a:xfrm>
              <a:off x="4805280" y="4237200"/>
              <a:ext cx="180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3" name=""/>
            <p:cNvSpPr/>
            <p:nvPr/>
          </p:nvSpPr>
          <p:spPr>
            <a:xfrm flipH="1">
              <a:off x="4522320" y="3295800"/>
              <a:ext cx="11160" cy="428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4" name=""/>
            <p:cNvSpPr/>
            <p:nvPr/>
          </p:nvSpPr>
          <p:spPr>
            <a:xfrm flipH="1">
              <a:off x="4513320" y="3379680"/>
              <a:ext cx="9360" cy="316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5" name=""/>
            <p:cNvSpPr/>
            <p:nvPr/>
          </p:nvSpPr>
          <p:spPr>
            <a:xfrm flipV="1">
              <a:off x="4700520" y="3493800"/>
              <a:ext cx="22320" cy="428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6" name=""/>
            <p:cNvSpPr/>
            <p:nvPr/>
          </p:nvSpPr>
          <p:spPr>
            <a:xfrm flipV="1">
              <a:off x="4722840" y="3411000"/>
              <a:ext cx="9360" cy="414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7" name=""/>
            <p:cNvSpPr/>
            <p:nvPr/>
          </p:nvSpPr>
          <p:spPr>
            <a:xfrm flipV="1">
              <a:off x="4732200" y="3327480"/>
              <a:ext cx="1800" cy="410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8" name=""/>
            <p:cNvSpPr/>
            <p:nvPr/>
          </p:nvSpPr>
          <p:spPr>
            <a:xfrm flipV="1">
              <a:off x="4732200" y="3274560"/>
              <a:ext cx="1800" cy="111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9" name=""/>
            <p:cNvSpPr/>
            <p:nvPr/>
          </p:nvSpPr>
          <p:spPr>
            <a:xfrm flipV="1">
              <a:off x="4586400" y="3411000"/>
              <a:ext cx="1440" cy="414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0" name=""/>
            <p:cNvSpPr/>
            <p:nvPr/>
          </p:nvSpPr>
          <p:spPr>
            <a:xfrm>
              <a:off x="4597560" y="3379680"/>
              <a:ext cx="41040" cy="9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1" name=""/>
            <p:cNvSpPr/>
            <p:nvPr/>
          </p:nvSpPr>
          <p:spPr>
            <a:xfrm>
              <a:off x="4680000" y="3368520"/>
              <a:ext cx="20520" cy="2088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0" y="13"/>
                  </a:moveTo>
                  <a:lnTo>
                    <a:pt x="13" y="13"/>
                  </a:lnTo>
                  <a:lnTo>
                    <a:pt x="13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2" name=""/>
            <p:cNvSpPr/>
            <p:nvPr/>
          </p:nvSpPr>
          <p:spPr>
            <a:xfrm flipV="1">
              <a:off x="4700520" y="3315960"/>
              <a:ext cx="1800" cy="111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3" name=""/>
            <p:cNvSpPr/>
            <p:nvPr/>
          </p:nvSpPr>
          <p:spPr>
            <a:xfrm>
              <a:off x="4167360" y="2930400"/>
              <a:ext cx="42840" cy="20880"/>
            </a:xfrm>
            <a:custGeom>
              <a:avLst/>
              <a:gdLst/>
              <a:ahLst/>
              <a:rect l="l" t="t" r="r" b="b"/>
              <a:pathLst>
                <a:path w="27" h="13">
                  <a:moveTo>
                    <a:pt x="0" y="0"/>
                  </a:moveTo>
                  <a:lnTo>
                    <a:pt x="7" y="13"/>
                  </a:lnTo>
                  <a:lnTo>
                    <a:pt x="14" y="13"/>
                  </a:lnTo>
                  <a:lnTo>
                    <a:pt x="27" y="13"/>
                  </a:lnTo>
                  <a:lnTo>
                    <a:pt x="27" y="6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4" name=""/>
            <p:cNvSpPr/>
            <p:nvPr/>
          </p:nvSpPr>
          <p:spPr>
            <a:xfrm>
              <a:off x="5664240" y="2355840"/>
              <a:ext cx="30240" cy="20520"/>
            </a:xfrm>
            <a:custGeom>
              <a:avLst/>
              <a:gdLst/>
              <a:ahLst/>
              <a:rect l="l" t="t" r="r" b="b"/>
              <a:pathLst>
                <a:path w="19" h="13">
                  <a:moveTo>
                    <a:pt x="0" y="0"/>
                  </a:moveTo>
                  <a:lnTo>
                    <a:pt x="0" y="13"/>
                  </a:lnTo>
                  <a:lnTo>
                    <a:pt x="13" y="13"/>
                  </a:lnTo>
                  <a:lnTo>
                    <a:pt x="19" y="13"/>
                  </a:lnTo>
                  <a:lnTo>
                    <a:pt x="19" y="6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5" name=""/>
            <p:cNvSpPr/>
            <p:nvPr/>
          </p:nvSpPr>
          <p:spPr>
            <a:xfrm>
              <a:off x="6562800" y="2836800"/>
              <a:ext cx="52200" cy="41400"/>
            </a:xfrm>
            <a:custGeom>
              <a:avLst/>
              <a:gdLst/>
              <a:ahLst/>
              <a:rect l="l" t="t" r="r" b="b"/>
              <a:pathLst>
                <a:path w="33" h="26">
                  <a:moveTo>
                    <a:pt x="0" y="6"/>
                  </a:moveTo>
                  <a:lnTo>
                    <a:pt x="7" y="19"/>
                  </a:lnTo>
                  <a:lnTo>
                    <a:pt x="14" y="26"/>
                  </a:lnTo>
                  <a:lnTo>
                    <a:pt x="27" y="19"/>
                  </a:lnTo>
                  <a:lnTo>
                    <a:pt x="33" y="6"/>
                  </a:lnTo>
                  <a:lnTo>
                    <a:pt x="27" y="0"/>
                  </a:lnTo>
                  <a:lnTo>
                    <a:pt x="20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6" name=""/>
            <p:cNvSpPr/>
            <p:nvPr/>
          </p:nvSpPr>
          <p:spPr>
            <a:xfrm>
              <a:off x="6606000" y="2741760"/>
              <a:ext cx="15624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MAISA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7" name=""/>
            <p:cNvSpPr/>
            <p:nvPr/>
          </p:nvSpPr>
          <p:spPr>
            <a:xfrm>
              <a:off x="5992560" y="3160800"/>
              <a:ext cx="24012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Furna Feia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8" name=""/>
            <p:cNvSpPr/>
            <p:nvPr/>
          </p:nvSpPr>
          <p:spPr>
            <a:xfrm>
              <a:off x="5924520" y="3117960"/>
              <a:ext cx="84240" cy="73080"/>
            </a:xfrm>
            <a:custGeom>
              <a:avLst/>
              <a:gdLst/>
              <a:ahLst/>
              <a:rect l="l" t="t" r="r" b="b"/>
              <a:pathLst>
                <a:path w="53" h="46">
                  <a:moveTo>
                    <a:pt x="14" y="27"/>
                  </a:moveTo>
                  <a:lnTo>
                    <a:pt x="0" y="20"/>
                  </a:lnTo>
                  <a:lnTo>
                    <a:pt x="14" y="20"/>
                  </a:lnTo>
                  <a:lnTo>
                    <a:pt x="14" y="13"/>
                  </a:lnTo>
                  <a:lnTo>
                    <a:pt x="20" y="20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3" y="20"/>
                  </a:lnTo>
                  <a:lnTo>
                    <a:pt x="53" y="27"/>
                  </a:lnTo>
                  <a:lnTo>
                    <a:pt x="27" y="33"/>
                  </a:lnTo>
                  <a:lnTo>
                    <a:pt x="33" y="40"/>
                  </a:lnTo>
                  <a:lnTo>
                    <a:pt x="33" y="40"/>
                  </a:lnTo>
                  <a:lnTo>
                    <a:pt x="20" y="33"/>
                  </a:lnTo>
                  <a:lnTo>
                    <a:pt x="14" y="46"/>
                  </a:lnTo>
                  <a:lnTo>
                    <a:pt x="14" y="33"/>
                  </a:lnTo>
                  <a:lnTo>
                    <a:pt x="7" y="33"/>
                  </a:lnTo>
                  <a:lnTo>
                    <a:pt x="14" y="27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9" name=""/>
            <p:cNvSpPr/>
            <p:nvPr/>
          </p:nvSpPr>
          <p:spPr>
            <a:xfrm>
              <a:off x="5475240" y="2867040"/>
              <a:ext cx="52560" cy="31680"/>
            </a:xfrm>
            <a:custGeom>
              <a:avLst/>
              <a:gdLst/>
              <a:ahLst/>
              <a:rect l="l" t="t" r="r" b="b"/>
              <a:pathLst>
                <a:path w="33" h="20">
                  <a:moveTo>
                    <a:pt x="0" y="7"/>
                  </a:moveTo>
                  <a:lnTo>
                    <a:pt x="7" y="13"/>
                  </a:lnTo>
                  <a:lnTo>
                    <a:pt x="20" y="20"/>
                  </a:lnTo>
                  <a:lnTo>
                    <a:pt x="33" y="20"/>
                  </a:lnTo>
                  <a:lnTo>
                    <a:pt x="33" y="7"/>
                  </a:lnTo>
                  <a:lnTo>
                    <a:pt x="26" y="0"/>
                  </a:lnTo>
                  <a:lnTo>
                    <a:pt x="20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0" name=""/>
            <p:cNvSpPr/>
            <p:nvPr/>
          </p:nvSpPr>
          <p:spPr>
            <a:xfrm>
              <a:off x="5288040" y="2773440"/>
              <a:ext cx="21420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Vila Nova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1" name=""/>
            <p:cNvSpPr/>
            <p:nvPr/>
          </p:nvSpPr>
          <p:spPr>
            <a:xfrm>
              <a:off x="5318280" y="3222720"/>
              <a:ext cx="52200" cy="31680"/>
            </a:xfrm>
            <a:custGeom>
              <a:avLst/>
              <a:gdLst/>
              <a:ahLst/>
              <a:rect l="l" t="t" r="r" b="b"/>
              <a:pathLst>
                <a:path w="33" h="20">
                  <a:moveTo>
                    <a:pt x="0" y="7"/>
                  </a:moveTo>
                  <a:lnTo>
                    <a:pt x="0" y="13"/>
                  </a:lnTo>
                  <a:lnTo>
                    <a:pt x="13" y="20"/>
                  </a:lnTo>
                  <a:lnTo>
                    <a:pt x="27" y="20"/>
                  </a:lnTo>
                  <a:lnTo>
                    <a:pt x="33" y="7"/>
                  </a:lnTo>
                  <a:lnTo>
                    <a:pt x="27" y="0"/>
                  </a:lnTo>
                  <a:lnTo>
                    <a:pt x="20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2" name=""/>
            <p:cNvSpPr/>
            <p:nvPr/>
          </p:nvSpPr>
          <p:spPr>
            <a:xfrm>
              <a:off x="5197320" y="3138480"/>
              <a:ext cx="36648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Toca da Raposa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3" name=""/>
            <p:cNvSpPr/>
            <p:nvPr/>
          </p:nvSpPr>
          <p:spPr>
            <a:xfrm>
              <a:off x="6072120" y="3954600"/>
              <a:ext cx="52560" cy="31680"/>
            </a:xfrm>
            <a:custGeom>
              <a:avLst/>
              <a:gdLst/>
              <a:ahLst/>
              <a:rect l="l" t="t" r="r" b="b"/>
              <a:pathLst>
                <a:path w="33" h="20">
                  <a:moveTo>
                    <a:pt x="0" y="7"/>
                  </a:moveTo>
                  <a:lnTo>
                    <a:pt x="0" y="20"/>
                  </a:lnTo>
                  <a:lnTo>
                    <a:pt x="13" y="20"/>
                  </a:lnTo>
                  <a:lnTo>
                    <a:pt x="26" y="20"/>
                  </a:lnTo>
                  <a:lnTo>
                    <a:pt x="33" y="7"/>
                  </a:lnTo>
                  <a:lnTo>
                    <a:pt x="26" y="7"/>
                  </a:lnTo>
                  <a:lnTo>
                    <a:pt x="19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4" name=""/>
            <p:cNvSpPr/>
            <p:nvPr/>
          </p:nvSpPr>
          <p:spPr>
            <a:xfrm>
              <a:off x="6147720" y="3933720"/>
              <a:ext cx="17748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400" spc="-1" strike="noStrike">
                  <a:solidFill>
                    <a:srgbClr val="000000"/>
                  </a:solidFill>
                  <a:latin typeface="Arial"/>
                </a:rPr>
                <a:t>Juremal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5" name=""/>
            <p:cNvSpPr/>
            <p:nvPr/>
          </p:nvSpPr>
          <p:spPr>
            <a:xfrm>
              <a:off x="6387120" y="4079880"/>
              <a:ext cx="21420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Vertentes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6" name=""/>
            <p:cNvSpPr/>
            <p:nvPr/>
          </p:nvSpPr>
          <p:spPr>
            <a:xfrm>
              <a:off x="6311880" y="4143240"/>
              <a:ext cx="63360" cy="30240"/>
            </a:xfrm>
            <a:custGeom>
              <a:avLst/>
              <a:gdLst/>
              <a:ahLst/>
              <a:rect l="l" t="t" r="r" b="b"/>
              <a:pathLst>
                <a:path w="40" h="19">
                  <a:moveTo>
                    <a:pt x="0" y="0"/>
                  </a:moveTo>
                  <a:lnTo>
                    <a:pt x="7" y="19"/>
                  </a:lnTo>
                  <a:lnTo>
                    <a:pt x="20" y="19"/>
                  </a:lnTo>
                  <a:lnTo>
                    <a:pt x="40" y="19"/>
                  </a:lnTo>
                  <a:lnTo>
                    <a:pt x="40" y="6"/>
                  </a:lnTo>
                  <a:lnTo>
                    <a:pt x="40" y="0"/>
                  </a:lnTo>
                  <a:lnTo>
                    <a:pt x="2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7" name=""/>
            <p:cNvSpPr/>
            <p:nvPr/>
          </p:nvSpPr>
          <p:spPr>
            <a:xfrm>
              <a:off x="6343560" y="5197320"/>
              <a:ext cx="84240" cy="52560"/>
            </a:xfrm>
            <a:custGeom>
              <a:avLst/>
              <a:gdLst/>
              <a:ahLst/>
              <a:rect l="l" t="t" r="r" b="b"/>
              <a:pathLst>
                <a:path w="53" h="33">
                  <a:moveTo>
                    <a:pt x="0" y="7"/>
                  </a:moveTo>
                  <a:lnTo>
                    <a:pt x="7" y="27"/>
                  </a:lnTo>
                  <a:lnTo>
                    <a:pt x="26" y="33"/>
                  </a:lnTo>
                  <a:lnTo>
                    <a:pt x="46" y="27"/>
                  </a:lnTo>
                  <a:lnTo>
                    <a:pt x="53" y="14"/>
                  </a:lnTo>
                  <a:lnTo>
                    <a:pt x="46" y="7"/>
                  </a:lnTo>
                  <a:lnTo>
                    <a:pt x="33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8" name=""/>
            <p:cNvSpPr/>
            <p:nvPr/>
          </p:nvSpPr>
          <p:spPr>
            <a:xfrm>
              <a:off x="6402240" y="5124600"/>
              <a:ext cx="40320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Barreira Vermelha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9" name=""/>
            <p:cNvSpPr/>
            <p:nvPr/>
          </p:nvSpPr>
          <p:spPr>
            <a:xfrm>
              <a:off x="3102840" y="5543640"/>
              <a:ext cx="29808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Baixa Branca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0" name=""/>
            <p:cNvSpPr/>
            <p:nvPr/>
          </p:nvSpPr>
          <p:spPr>
            <a:xfrm>
              <a:off x="3195720" y="5500800"/>
              <a:ext cx="52200" cy="31680"/>
            </a:xfrm>
            <a:custGeom>
              <a:avLst/>
              <a:gdLst/>
              <a:ahLst/>
              <a:rect l="l" t="t" r="r" b="b"/>
              <a:pathLst>
                <a:path w="33" h="20">
                  <a:moveTo>
                    <a:pt x="0" y="7"/>
                  </a:moveTo>
                  <a:lnTo>
                    <a:pt x="0" y="20"/>
                  </a:lnTo>
                  <a:lnTo>
                    <a:pt x="13" y="20"/>
                  </a:lnTo>
                  <a:lnTo>
                    <a:pt x="26" y="20"/>
                  </a:lnTo>
                  <a:lnTo>
                    <a:pt x="33" y="7"/>
                  </a:lnTo>
                  <a:lnTo>
                    <a:pt x="26" y="7"/>
                  </a:lnTo>
                  <a:lnTo>
                    <a:pt x="19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1" name=""/>
            <p:cNvSpPr/>
            <p:nvPr/>
          </p:nvSpPr>
          <p:spPr>
            <a:xfrm>
              <a:off x="2986200" y="4613400"/>
              <a:ext cx="52200" cy="31680"/>
            </a:xfrm>
            <a:custGeom>
              <a:avLst/>
              <a:gdLst/>
              <a:ahLst/>
              <a:rect l="l" t="t" r="r" b="b"/>
              <a:pathLst>
                <a:path w="33" h="20">
                  <a:moveTo>
                    <a:pt x="0" y="0"/>
                  </a:moveTo>
                  <a:lnTo>
                    <a:pt x="6" y="13"/>
                  </a:lnTo>
                  <a:lnTo>
                    <a:pt x="20" y="20"/>
                  </a:lnTo>
                  <a:lnTo>
                    <a:pt x="33" y="13"/>
                  </a:lnTo>
                  <a:lnTo>
                    <a:pt x="33" y="6"/>
                  </a:lnTo>
                  <a:lnTo>
                    <a:pt x="26" y="0"/>
                  </a:lnTo>
                  <a:lnTo>
                    <a:pt x="2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2" name=""/>
            <p:cNvSpPr/>
            <p:nvPr/>
          </p:nvSpPr>
          <p:spPr>
            <a:xfrm>
              <a:off x="2954160" y="4216320"/>
              <a:ext cx="52560" cy="41400"/>
            </a:xfrm>
            <a:custGeom>
              <a:avLst/>
              <a:gdLst/>
              <a:ahLst/>
              <a:rect l="l" t="t" r="r" b="b"/>
              <a:pathLst>
                <a:path w="33" h="26">
                  <a:moveTo>
                    <a:pt x="0" y="6"/>
                  </a:moveTo>
                  <a:lnTo>
                    <a:pt x="7" y="19"/>
                  </a:lnTo>
                  <a:lnTo>
                    <a:pt x="20" y="26"/>
                  </a:lnTo>
                  <a:lnTo>
                    <a:pt x="33" y="19"/>
                  </a:lnTo>
                  <a:lnTo>
                    <a:pt x="33" y="13"/>
                  </a:lnTo>
                  <a:lnTo>
                    <a:pt x="33" y="6"/>
                  </a:lnTo>
                  <a:lnTo>
                    <a:pt x="20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3" name=""/>
            <p:cNvSpPr/>
            <p:nvPr/>
          </p:nvSpPr>
          <p:spPr>
            <a:xfrm>
              <a:off x="3028680" y="4164120"/>
              <a:ext cx="13032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400" spc="-1" strike="noStrike">
                  <a:solidFill>
                    <a:srgbClr val="000000"/>
                  </a:solidFill>
                  <a:latin typeface="Arial"/>
                </a:rPr>
                <a:t>Ubaia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4" name=""/>
            <p:cNvSpPr/>
            <p:nvPr/>
          </p:nvSpPr>
          <p:spPr>
            <a:xfrm>
              <a:off x="3039840" y="4549680"/>
              <a:ext cx="15912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Maxixe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5" name=""/>
            <p:cNvSpPr/>
            <p:nvPr/>
          </p:nvSpPr>
          <p:spPr>
            <a:xfrm>
              <a:off x="3008880" y="3181320"/>
              <a:ext cx="30996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Bom Sucesso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6" name=""/>
            <p:cNvSpPr/>
            <p:nvPr/>
          </p:nvSpPr>
          <p:spPr>
            <a:xfrm>
              <a:off x="3068640" y="3254400"/>
              <a:ext cx="52560" cy="31680"/>
            </a:xfrm>
            <a:custGeom>
              <a:avLst/>
              <a:gdLst/>
              <a:ahLst/>
              <a:rect l="l" t="t" r="r" b="b"/>
              <a:pathLst>
                <a:path w="33" h="20">
                  <a:moveTo>
                    <a:pt x="0" y="6"/>
                  </a:moveTo>
                  <a:lnTo>
                    <a:pt x="7" y="20"/>
                  </a:lnTo>
                  <a:lnTo>
                    <a:pt x="14" y="20"/>
                  </a:lnTo>
                  <a:lnTo>
                    <a:pt x="27" y="20"/>
                  </a:lnTo>
                  <a:lnTo>
                    <a:pt x="33" y="13"/>
                  </a:lnTo>
                  <a:lnTo>
                    <a:pt x="27" y="6"/>
                  </a:lnTo>
                  <a:lnTo>
                    <a:pt x="20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7" name=""/>
            <p:cNvSpPr/>
            <p:nvPr/>
          </p:nvSpPr>
          <p:spPr>
            <a:xfrm>
              <a:off x="4597560" y="4237200"/>
              <a:ext cx="50760" cy="31680"/>
            </a:xfrm>
            <a:custGeom>
              <a:avLst/>
              <a:gdLst/>
              <a:ahLst/>
              <a:rect l="l" t="t" r="r" b="b"/>
              <a:pathLst>
                <a:path w="32" h="20">
                  <a:moveTo>
                    <a:pt x="0" y="0"/>
                  </a:moveTo>
                  <a:lnTo>
                    <a:pt x="6" y="13"/>
                  </a:lnTo>
                  <a:lnTo>
                    <a:pt x="19" y="20"/>
                  </a:lnTo>
                  <a:lnTo>
                    <a:pt x="32" y="20"/>
                  </a:lnTo>
                  <a:lnTo>
                    <a:pt x="32" y="6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8" name=""/>
            <p:cNvSpPr/>
            <p:nvPr/>
          </p:nvSpPr>
          <p:spPr>
            <a:xfrm>
              <a:off x="4517280" y="4164120"/>
              <a:ext cx="25380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Catingueira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9" name=""/>
            <p:cNvSpPr/>
            <p:nvPr/>
          </p:nvSpPr>
          <p:spPr>
            <a:xfrm>
              <a:off x="5213520" y="4529160"/>
              <a:ext cx="52200" cy="31680"/>
            </a:xfrm>
            <a:custGeom>
              <a:avLst/>
              <a:gdLst/>
              <a:ahLst/>
              <a:rect l="l" t="t" r="r" b="b"/>
              <a:pathLst>
                <a:path w="33" h="20">
                  <a:moveTo>
                    <a:pt x="0" y="7"/>
                  </a:moveTo>
                  <a:lnTo>
                    <a:pt x="7" y="13"/>
                  </a:lnTo>
                  <a:lnTo>
                    <a:pt x="13" y="20"/>
                  </a:lnTo>
                  <a:lnTo>
                    <a:pt x="27" y="20"/>
                  </a:lnTo>
                  <a:lnTo>
                    <a:pt x="33" y="7"/>
                  </a:lnTo>
                  <a:lnTo>
                    <a:pt x="27" y="0"/>
                  </a:lnTo>
                  <a:lnTo>
                    <a:pt x="20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0" name=""/>
            <p:cNvSpPr/>
            <p:nvPr/>
          </p:nvSpPr>
          <p:spPr>
            <a:xfrm>
              <a:off x="5279400" y="4456080"/>
              <a:ext cx="21852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Boa Água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1" name=""/>
            <p:cNvSpPr/>
            <p:nvPr/>
          </p:nvSpPr>
          <p:spPr>
            <a:xfrm>
              <a:off x="4554360" y="5208480"/>
              <a:ext cx="52560" cy="31680"/>
            </a:xfrm>
            <a:custGeom>
              <a:avLst/>
              <a:gdLst/>
              <a:ahLst/>
              <a:rect l="l" t="t" r="r" b="b"/>
              <a:pathLst>
                <a:path w="33" h="20">
                  <a:moveTo>
                    <a:pt x="0" y="0"/>
                  </a:moveTo>
                  <a:lnTo>
                    <a:pt x="0" y="13"/>
                  </a:lnTo>
                  <a:lnTo>
                    <a:pt x="13" y="20"/>
                  </a:lnTo>
                  <a:lnTo>
                    <a:pt x="27" y="13"/>
                  </a:lnTo>
                  <a:lnTo>
                    <a:pt x="33" y="7"/>
                  </a:lnTo>
                  <a:lnTo>
                    <a:pt x="27" y="0"/>
                  </a:lnTo>
                  <a:lnTo>
                    <a:pt x="2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2" name=""/>
            <p:cNvSpPr/>
            <p:nvPr/>
          </p:nvSpPr>
          <p:spPr>
            <a:xfrm>
              <a:off x="4421520" y="5145120"/>
              <a:ext cx="14688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Canaã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3" name=""/>
            <p:cNvSpPr/>
            <p:nvPr/>
          </p:nvSpPr>
          <p:spPr>
            <a:xfrm>
              <a:off x="4253400" y="3683160"/>
              <a:ext cx="16848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400" spc="-1" strike="noStrike">
                  <a:solidFill>
                    <a:srgbClr val="000000"/>
                  </a:solidFill>
                  <a:latin typeface="Arial"/>
                </a:rPr>
                <a:t>Velame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4" name=""/>
            <p:cNvSpPr/>
            <p:nvPr/>
          </p:nvSpPr>
          <p:spPr>
            <a:xfrm>
              <a:off x="4170960" y="3922560"/>
              <a:ext cx="24012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Sumidouro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5" name=""/>
            <p:cNvSpPr/>
            <p:nvPr/>
          </p:nvSpPr>
          <p:spPr>
            <a:xfrm>
              <a:off x="5644080" y="2271600"/>
              <a:ext cx="28116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Pico Estreito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6" name=""/>
            <p:cNvSpPr/>
            <p:nvPr/>
          </p:nvSpPr>
          <p:spPr>
            <a:xfrm>
              <a:off x="4513320" y="2616120"/>
              <a:ext cx="52200" cy="31680"/>
            </a:xfrm>
            <a:custGeom>
              <a:avLst/>
              <a:gdLst/>
              <a:ahLst/>
              <a:rect l="l" t="t" r="r" b="b"/>
              <a:pathLst>
                <a:path w="33" h="20">
                  <a:moveTo>
                    <a:pt x="0" y="7"/>
                  </a:moveTo>
                  <a:lnTo>
                    <a:pt x="6" y="20"/>
                  </a:lnTo>
                  <a:lnTo>
                    <a:pt x="20" y="20"/>
                  </a:lnTo>
                  <a:lnTo>
                    <a:pt x="33" y="20"/>
                  </a:lnTo>
                  <a:lnTo>
                    <a:pt x="33" y="13"/>
                  </a:lnTo>
                  <a:lnTo>
                    <a:pt x="26" y="7"/>
                  </a:lnTo>
                  <a:lnTo>
                    <a:pt x="20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7" name=""/>
            <p:cNvSpPr/>
            <p:nvPr/>
          </p:nvSpPr>
          <p:spPr>
            <a:xfrm>
              <a:off x="4399920" y="2533680"/>
              <a:ext cx="14868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400" spc="-1" strike="noStrike">
                  <a:solidFill>
                    <a:srgbClr val="000000"/>
                  </a:solidFill>
                  <a:latin typeface="Arial"/>
                </a:rPr>
                <a:t>Lajeiro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8" name=""/>
            <p:cNvSpPr/>
            <p:nvPr/>
          </p:nvSpPr>
          <p:spPr>
            <a:xfrm>
              <a:off x="4900680" y="2992320"/>
              <a:ext cx="52200" cy="32040"/>
            </a:xfrm>
            <a:custGeom>
              <a:avLst/>
              <a:gdLst/>
              <a:ahLst/>
              <a:rect l="l" t="t" r="r" b="b"/>
              <a:pathLst>
                <a:path w="33" h="20">
                  <a:moveTo>
                    <a:pt x="0" y="7"/>
                  </a:moveTo>
                  <a:lnTo>
                    <a:pt x="6" y="13"/>
                  </a:lnTo>
                  <a:lnTo>
                    <a:pt x="19" y="20"/>
                  </a:lnTo>
                  <a:lnTo>
                    <a:pt x="33" y="20"/>
                  </a:lnTo>
                  <a:lnTo>
                    <a:pt x="33" y="7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9" name=""/>
            <p:cNvSpPr/>
            <p:nvPr/>
          </p:nvSpPr>
          <p:spPr>
            <a:xfrm>
              <a:off x="4560480" y="2992320"/>
              <a:ext cx="34524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Furna de Pedra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0" name=""/>
            <p:cNvSpPr/>
            <p:nvPr/>
          </p:nvSpPr>
          <p:spPr>
            <a:xfrm>
              <a:off x="4131000" y="2951280"/>
              <a:ext cx="26424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Formigueiro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1" name=""/>
            <p:cNvSpPr/>
            <p:nvPr/>
          </p:nvSpPr>
          <p:spPr>
            <a:xfrm>
              <a:off x="4429080" y="3359160"/>
              <a:ext cx="52560" cy="30240"/>
            </a:xfrm>
            <a:custGeom>
              <a:avLst/>
              <a:gdLst/>
              <a:ahLst/>
              <a:rect l="l" t="t" r="r" b="b"/>
              <a:pathLst>
                <a:path w="33" h="19">
                  <a:moveTo>
                    <a:pt x="0" y="0"/>
                  </a:moveTo>
                  <a:lnTo>
                    <a:pt x="0" y="13"/>
                  </a:lnTo>
                  <a:lnTo>
                    <a:pt x="13" y="19"/>
                  </a:lnTo>
                  <a:lnTo>
                    <a:pt x="26" y="19"/>
                  </a:lnTo>
                  <a:lnTo>
                    <a:pt x="33" y="6"/>
                  </a:lnTo>
                  <a:lnTo>
                    <a:pt x="26" y="0"/>
                  </a:lnTo>
                  <a:lnTo>
                    <a:pt x="2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2" name=""/>
            <p:cNvSpPr/>
            <p:nvPr/>
          </p:nvSpPr>
          <p:spPr>
            <a:xfrm>
              <a:off x="4304880" y="3400560"/>
              <a:ext cx="16236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Currais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3" name=""/>
            <p:cNvSpPr/>
            <p:nvPr/>
          </p:nvSpPr>
          <p:spPr>
            <a:xfrm>
              <a:off x="3854520" y="4079880"/>
              <a:ext cx="52200" cy="31680"/>
            </a:xfrm>
            <a:custGeom>
              <a:avLst/>
              <a:gdLst/>
              <a:ahLst/>
              <a:rect l="l" t="t" r="r" b="b"/>
              <a:pathLst>
                <a:path w="33" h="20">
                  <a:moveTo>
                    <a:pt x="0" y="0"/>
                  </a:moveTo>
                  <a:lnTo>
                    <a:pt x="6" y="13"/>
                  </a:lnTo>
                  <a:lnTo>
                    <a:pt x="19" y="20"/>
                  </a:lnTo>
                  <a:lnTo>
                    <a:pt x="33" y="13"/>
                  </a:lnTo>
                  <a:lnTo>
                    <a:pt x="33" y="7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4" name=""/>
            <p:cNvSpPr/>
            <p:nvPr/>
          </p:nvSpPr>
          <p:spPr>
            <a:xfrm>
              <a:off x="3689280" y="3986280"/>
              <a:ext cx="20952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Mato Alto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5" name=""/>
            <p:cNvSpPr/>
            <p:nvPr/>
          </p:nvSpPr>
          <p:spPr>
            <a:xfrm>
              <a:off x="4994280" y="4184640"/>
              <a:ext cx="52560" cy="41400"/>
            </a:xfrm>
            <a:custGeom>
              <a:avLst/>
              <a:gdLst/>
              <a:ahLst/>
              <a:rect l="l" t="t" r="r" b="b"/>
              <a:pathLst>
                <a:path w="33" h="26">
                  <a:moveTo>
                    <a:pt x="0" y="6"/>
                  </a:moveTo>
                  <a:lnTo>
                    <a:pt x="7" y="20"/>
                  </a:lnTo>
                  <a:lnTo>
                    <a:pt x="13" y="26"/>
                  </a:lnTo>
                  <a:lnTo>
                    <a:pt x="26" y="20"/>
                  </a:lnTo>
                  <a:lnTo>
                    <a:pt x="33" y="13"/>
                  </a:lnTo>
                  <a:lnTo>
                    <a:pt x="26" y="6"/>
                  </a:lnTo>
                  <a:lnTo>
                    <a:pt x="20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6" name=""/>
            <p:cNvSpPr/>
            <p:nvPr/>
          </p:nvSpPr>
          <p:spPr>
            <a:xfrm>
              <a:off x="4915080" y="4237200"/>
              <a:ext cx="34200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Vereda do Anel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7" name=""/>
            <p:cNvSpPr/>
            <p:nvPr/>
          </p:nvSpPr>
          <p:spPr>
            <a:xfrm>
              <a:off x="5361120" y="3797280"/>
              <a:ext cx="52200" cy="31680"/>
            </a:xfrm>
            <a:custGeom>
              <a:avLst/>
              <a:gdLst/>
              <a:ahLst/>
              <a:rect l="l" t="t" r="r" b="b"/>
              <a:pathLst>
                <a:path w="33" h="20">
                  <a:moveTo>
                    <a:pt x="0" y="0"/>
                  </a:moveTo>
                  <a:lnTo>
                    <a:pt x="6" y="13"/>
                  </a:lnTo>
                  <a:lnTo>
                    <a:pt x="19" y="20"/>
                  </a:lnTo>
                  <a:lnTo>
                    <a:pt x="33" y="20"/>
                  </a:lnTo>
                  <a:lnTo>
                    <a:pt x="33" y="7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8" name=""/>
            <p:cNvSpPr/>
            <p:nvPr/>
          </p:nvSpPr>
          <p:spPr>
            <a:xfrm>
              <a:off x="5406120" y="3724200"/>
              <a:ext cx="29340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Moinho Novo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9" name=""/>
            <p:cNvSpPr/>
            <p:nvPr/>
          </p:nvSpPr>
          <p:spPr>
            <a:xfrm>
              <a:off x="5046840" y="5500800"/>
              <a:ext cx="52200" cy="31680"/>
            </a:xfrm>
            <a:custGeom>
              <a:avLst/>
              <a:gdLst/>
              <a:ahLst/>
              <a:rect l="l" t="t" r="r" b="b"/>
              <a:pathLst>
                <a:path w="33" h="20">
                  <a:moveTo>
                    <a:pt x="0" y="7"/>
                  </a:moveTo>
                  <a:lnTo>
                    <a:pt x="6" y="14"/>
                  </a:lnTo>
                  <a:lnTo>
                    <a:pt x="13" y="20"/>
                  </a:lnTo>
                  <a:lnTo>
                    <a:pt x="26" y="20"/>
                  </a:lnTo>
                  <a:lnTo>
                    <a:pt x="33" y="7"/>
                  </a:lnTo>
                  <a:lnTo>
                    <a:pt x="26" y="0"/>
                  </a:lnTo>
                  <a:lnTo>
                    <a:pt x="20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0" name=""/>
            <p:cNvSpPr/>
            <p:nvPr/>
          </p:nvSpPr>
          <p:spPr>
            <a:xfrm>
              <a:off x="5019120" y="5553000"/>
              <a:ext cx="25992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Trinta e Um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1" name=""/>
            <p:cNvSpPr/>
            <p:nvPr/>
          </p:nvSpPr>
          <p:spPr>
            <a:xfrm>
              <a:off x="3038400" y="3703680"/>
              <a:ext cx="41400" cy="31680"/>
            </a:xfrm>
            <a:custGeom>
              <a:avLst/>
              <a:gdLst/>
              <a:ahLst/>
              <a:rect l="l" t="t" r="r" b="b"/>
              <a:pathLst>
                <a:path w="26" h="20">
                  <a:moveTo>
                    <a:pt x="0" y="7"/>
                  </a:moveTo>
                  <a:lnTo>
                    <a:pt x="0" y="20"/>
                  </a:lnTo>
                  <a:lnTo>
                    <a:pt x="13" y="20"/>
                  </a:lnTo>
                  <a:lnTo>
                    <a:pt x="26" y="20"/>
                  </a:lnTo>
                  <a:lnTo>
                    <a:pt x="26" y="13"/>
                  </a:lnTo>
                  <a:lnTo>
                    <a:pt x="26" y="7"/>
                  </a:lnTo>
                  <a:lnTo>
                    <a:pt x="19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2" name=""/>
            <p:cNvSpPr/>
            <p:nvPr/>
          </p:nvSpPr>
          <p:spPr>
            <a:xfrm>
              <a:off x="3042000" y="3610080"/>
              <a:ext cx="31320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Baixa do Félix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3" name=""/>
            <p:cNvSpPr/>
            <p:nvPr/>
          </p:nvSpPr>
          <p:spPr>
            <a:xfrm>
              <a:off x="3645000" y="2909880"/>
              <a:ext cx="41040" cy="20520"/>
            </a:xfrm>
            <a:custGeom>
              <a:avLst/>
              <a:gdLst/>
              <a:ahLst/>
              <a:rect l="l" t="t" r="r" b="b"/>
              <a:pathLst>
                <a:path w="26" h="13">
                  <a:moveTo>
                    <a:pt x="26" y="13"/>
                  </a:moveTo>
                  <a:lnTo>
                    <a:pt x="7" y="6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4" name=""/>
            <p:cNvSpPr/>
            <p:nvPr/>
          </p:nvSpPr>
          <p:spPr>
            <a:xfrm>
              <a:off x="3581280" y="2857680"/>
              <a:ext cx="32040" cy="20520"/>
            </a:xfrm>
            <a:custGeom>
              <a:avLst/>
              <a:gdLst/>
              <a:ahLst/>
              <a:rect l="l" t="t" r="r" b="b"/>
              <a:pathLst>
                <a:path w="20" h="13">
                  <a:moveTo>
                    <a:pt x="20" y="13"/>
                  </a:moveTo>
                  <a:lnTo>
                    <a:pt x="7" y="6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5" name=""/>
            <p:cNvSpPr/>
            <p:nvPr/>
          </p:nvSpPr>
          <p:spPr>
            <a:xfrm>
              <a:off x="3498840" y="2836800"/>
              <a:ext cx="41400" cy="9720"/>
            </a:xfrm>
            <a:custGeom>
              <a:avLst/>
              <a:gdLst/>
              <a:ahLst/>
              <a:rect l="l" t="t" r="r" b="b"/>
              <a:pathLst>
                <a:path w="26" h="6">
                  <a:moveTo>
                    <a:pt x="26" y="6"/>
                  </a:moveTo>
                  <a:lnTo>
                    <a:pt x="19" y="6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6" name=""/>
            <p:cNvSpPr/>
            <p:nvPr/>
          </p:nvSpPr>
          <p:spPr>
            <a:xfrm>
              <a:off x="3425760" y="2793960"/>
              <a:ext cx="30240" cy="31680"/>
            </a:xfrm>
            <a:custGeom>
              <a:avLst/>
              <a:gdLst/>
              <a:ahLst/>
              <a:rect l="l" t="t" r="r" b="b"/>
              <a:pathLst>
                <a:path w="19" h="20">
                  <a:moveTo>
                    <a:pt x="19" y="20"/>
                  </a:moveTo>
                  <a:lnTo>
                    <a:pt x="19" y="13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7" name=""/>
            <p:cNvSpPr/>
            <p:nvPr/>
          </p:nvSpPr>
          <p:spPr>
            <a:xfrm flipH="1" flipV="1">
              <a:off x="3382560" y="2720880"/>
              <a:ext cx="20520" cy="316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8" name=""/>
            <p:cNvSpPr/>
            <p:nvPr/>
          </p:nvSpPr>
          <p:spPr>
            <a:xfrm flipH="1" flipV="1">
              <a:off x="3341160" y="2679840"/>
              <a:ext cx="9720" cy="93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9" name=""/>
            <p:cNvSpPr/>
            <p:nvPr/>
          </p:nvSpPr>
          <p:spPr>
            <a:xfrm>
              <a:off x="3676680" y="3338640"/>
              <a:ext cx="9360" cy="29880"/>
            </a:xfrm>
            <a:custGeom>
              <a:avLst/>
              <a:gdLst/>
              <a:ahLst/>
              <a:rect l="l" t="t" r="r" b="b"/>
              <a:pathLst>
                <a:path w="6" h="19">
                  <a:moveTo>
                    <a:pt x="0" y="0"/>
                  </a:moveTo>
                  <a:lnTo>
                    <a:pt x="0" y="13"/>
                  </a:lnTo>
                  <a:lnTo>
                    <a:pt x="0" y="19"/>
                  </a:lnTo>
                  <a:lnTo>
                    <a:pt x="6" y="19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0" name=""/>
            <p:cNvSpPr/>
            <p:nvPr/>
          </p:nvSpPr>
          <p:spPr>
            <a:xfrm>
              <a:off x="3728880" y="3359160"/>
              <a:ext cx="41400" cy="9360"/>
            </a:xfrm>
            <a:custGeom>
              <a:avLst/>
              <a:gdLst/>
              <a:ahLst/>
              <a:rect l="l" t="t" r="r" b="b"/>
              <a:pathLst>
                <a:path w="26" h="6">
                  <a:moveTo>
                    <a:pt x="0" y="6"/>
                  </a:moveTo>
                  <a:lnTo>
                    <a:pt x="6" y="6"/>
                  </a:lnTo>
                  <a:lnTo>
                    <a:pt x="26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1" name=""/>
            <p:cNvSpPr/>
            <p:nvPr/>
          </p:nvSpPr>
          <p:spPr>
            <a:xfrm>
              <a:off x="3811680" y="3348000"/>
              <a:ext cx="42840" cy="11160"/>
            </a:xfrm>
            <a:custGeom>
              <a:avLst/>
              <a:gdLst/>
              <a:ahLst/>
              <a:rect l="l" t="t" r="r" b="b"/>
              <a:pathLst>
                <a:path w="27" h="7">
                  <a:moveTo>
                    <a:pt x="0" y="0"/>
                  </a:moveTo>
                  <a:lnTo>
                    <a:pt x="0" y="0"/>
                  </a:lnTo>
                  <a:lnTo>
                    <a:pt x="14" y="0"/>
                  </a:lnTo>
                  <a:lnTo>
                    <a:pt x="27" y="7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2" name=""/>
            <p:cNvSpPr/>
            <p:nvPr/>
          </p:nvSpPr>
          <p:spPr>
            <a:xfrm>
              <a:off x="3895560" y="3368520"/>
              <a:ext cx="41400" cy="11160"/>
            </a:xfrm>
            <a:custGeom>
              <a:avLst/>
              <a:gdLst/>
              <a:ahLst/>
              <a:rect l="l" t="t" r="r" b="b"/>
              <a:pathLst>
                <a:path w="26" h="7">
                  <a:moveTo>
                    <a:pt x="0" y="0"/>
                  </a:moveTo>
                  <a:lnTo>
                    <a:pt x="13" y="0"/>
                  </a:lnTo>
                  <a:lnTo>
                    <a:pt x="26" y="7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3" name=""/>
            <p:cNvSpPr/>
            <p:nvPr/>
          </p:nvSpPr>
          <p:spPr>
            <a:xfrm>
              <a:off x="3979800" y="3359160"/>
              <a:ext cx="41400" cy="9360"/>
            </a:xfrm>
            <a:custGeom>
              <a:avLst/>
              <a:gdLst/>
              <a:ahLst/>
              <a:rect l="l" t="t" r="r" b="b"/>
              <a:pathLst>
                <a:path w="26" h="6">
                  <a:moveTo>
                    <a:pt x="0" y="6"/>
                  </a:moveTo>
                  <a:lnTo>
                    <a:pt x="13" y="6"/>
                  </a:lnTo>
                  <a:lnTo>
                    <a:pt x="26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4" name=""/>
            <p:cNvSpPr/>
            <p:nvPr/>
          </p:nvSpPr>
          <p:spPr>
            <a:xfrm>
              <a:off x="4052880" y="3306600"/>
              <a:ext cx="31680" cy="3204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20"/>
                  </a:moveTo>
                  <a:lnTo>
                    <a:pt x="13" y="6"/>
                  </a:lnTo>
                  <a:lnTo>
                    <a:pt x="2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5" name=""/>
            <p:cNvSpPr/>
            <p:nvPr/>
          </p:nvSpPr>
          <p:spPr>
            <a:xfrm>
              <a:off x="4125960" y="3306600"/>
              <a:ext cx="41400" cy="9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6" name=""/>
            <p:cNvSpPr/>
            <p:nvPr/>
          </p:nvSpPr>
          <p:spPr>
            <a:xfrm>
              <a:off x="4210200" y="3316320"/>
              <a:ext cx="41040" cy="111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7" name=""/>
            <p:cNvSpPr/>
            <p:nvPr/>
          </p:nvSpPr>
          <p:spPr>
            <a:xfrm>
              <a:off x="4292640" y="3338640"/>
              <a:ext cx="4284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8" name=""/>
            <p:cNvSpPr/>
            <p:nvPr/>
          </p:nvSpPr>
          <p:spPr>
            <a:xfrm>
              <a:off x="4376880" y="3348000"/>
              <a:ext cx="31680" cy="18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9" name=""/>
            <p:cNvSpPr/>
            <p:nvPr/>
          </p:nvSpPr>
          <p:spPr>
            <a:xfrm rot="900000">
              <a:off x="6652440" y="4133880"/>
              <a:ext cx="3420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0" name=""/>
            <p:cNvSpPr/>
            <p:nvPr/>
          </p:nvSpPr>
          <p:spPr>
            <a:xfrm rot="900000">
              <a:off x="6686280" y="4132440"/>
              <a:ext cx="1440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1" name=""/>
            <p:cNvSpPr/>
            <p:nvPr/>
          </p:nvSpPr>
          <p:spPr>
            <a:xfrm rot="900000">
              <a:off x="6695640" y="4143240"/>
              <a:ext cx="1440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2" name=""/>
            <p:cNvSpPr/>
            <p:nvPr/>
          </p:nvSpPr>
          <p:spPr>
            <a:xfrm rot="900000">
              <a:off x="6706080" y="4146480"/>
              <a:ext cx="4176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3" name=""/>
            <p:cNvSpPr/>
            <p:nvPr/>
          </p:nvSpPr>
          <p:spPr>
            <a:xfrm rot="900000">
              <a:off x="6746760" y="4155840"/>
              <a:ext cx="2808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4" name=""/>
            <p:cNvSpPr/>
            <p:nvPr/>
          </p:nvSpPr>
          <p:spPr>
            <a:xfrm rot="900000">
              <a:off x="6766560" y="4167000"/>
              <a:ext cx="2664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5" name=""/>
            <p:cNvSpPr/>
            <p:nvPr/>
          </p:nvSpPr>
          <p:spPr>
            <a:xfrm rot="900000">
              <a:off x="6796800" y="4167360"/>
              <a:ext cx="2664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6" name=""/>
            <p:cNvSpPr/>
            <p:nvPr/>
          </p:nvSpPr>
          <p:spPr>
            <a:xfrm rot="900000">
              <a:off x="6819840" y="4176720"/>
              <a:ext cx="2808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7" name=""/>
            <p:cNvSpPr/>
            <p:nvPr/>
          </p:nvSpPr>
          <p:spPr>
            <a:xfrm rot="900000">
              <a:off x="6841800" y="4175280"/>
              <a:ext cx="1764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8" name=""/>
            <p:cNvSpPr/>
            <p:nvPr/>
          </p:nvSpPr>
          <p:spPr>
            <a:xfrm rot="900000">
              <a:off x="6862680" y="4186080"/>
              <a:ext cx="2808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ó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9" name=""/>
            <p:cNvSpPr/>
            <p:nvPr/>
          </p:nvSpPr>
          <p:spPr>
            <a:xfrm rot="900000">
              <a:off x="6884640" y="4195800"/>
              <a:ext cx="1440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0" name=""/>
            <p:cNvSpPr/>
            <p:nvPr/>
          </p:nvSpPr>
          <p:spPr>
            <a:xfrm rot="900000">
              <a:off x="6894000" y="4195800"/>
              <a:ext cx="1764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1" name=""/>
            <p:cNvSpPr/>
            <p:nvPr/>
          </p:nvSpPr>
          <p:spPr>
            <a:xfrm rot="900000">
              <a:off x="6914880" y="4197240"/>
              <a:ext cx="2808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2" name=""/>
            <p:cNvSpPr/>
            <p:nvPr/>
          </p:nvSpPr>
          <p:spPr>
            <a:xfrm rot="900000">
              <a:off x="6935400" y="4208400"/>
              <a:ext cx="2808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3" name=""/>
            <p:cNvSpPr/>
            <p:nvPr/>
          </p:nvSpPr>
          <p:spPr>
            <a:xfrm rot="900000">
              <a:off x="6968880" y="4216320"/>
              <a:ext cx="1440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4" name=""/>
            <p:cNvSpPr/>
            <p:nvPr/>
          </p:nvSpPr>
          <p:spPr>
            <a:xfrm rot="900000">
              <a:off x="6974640" y="4219560"/>
              <a:ext cx="2664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5" name=""/>
            <p:cNvSpPr/>
            <p:nvPr/>
          </p:nvSpPr>
          <p:spPr>
            <a:xfrm rot="900000">
              <a:off x="6999840" y="4219560"/>
              <a:ext cx="4176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6" name=""/>
            <p:cNvSpPr/>
            <p:nvPr/>
          </p:nvSpPr>
          <p:spPr>
            <a:xfrm rot="900000">
              <a:off x="7040160" y="4237200"/>
              <a:ext cx="1764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7" name=""/>
            <p:cNvSpPr/>
            <p:nvPr/>
          </p:nvSpPr>
          <p:spPr>
            <a:xfrm>
              <a:off x="6699240" y="4278240"/>
              <a:ext cx="17784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8" name=""/>
            <p:cNvSpPr/>
            <p:nvPr/>
          </p:nvSpPr>
          <p:spPr>
            <a:xfrm>
              <a:off x="6804000" y="4257720"/>
              <a:ext cx="73080" cy="61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9" name=""/>
            <p:cNvSpPr/>
            <p:nvPr/>
          </p:nvSpPr>
          <p:spPr>
            <a:xfrm flipV="1">
              <a:off x="6783480" y="4319640"/>
              <a:ext cx="93600" cy="22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0" name=""/>
            <p:cNvSpPr/>
            <p:nvPr/>
          </p:nvSpPr>
          <p:spPr>
            <a:xfrm rot="21540000">
              <a:off x="2282400" y="3565440"/>
              <a:ext cx="3420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1" name=""/>
            <p:cNvSpPr/>
            <p:nvPr/>
          </p:nvSpPr>
          <p:spPr>
            <a:xfrm rot="21540000">
              <a:off x="2314440" y="3565080"/>
              <a:ext cx="1440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2" name=""/>
            <p:cNvSpPr/>
            <p:nvPr/>
          </p:nvSpPr>
          <p:spPr>
            <a:xfrm rot="21540000">
              <a:off x="2325600" y="3565080"/>
              <a:ext cx="1440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3" name=""/>
            <p:cNvSpPr/>
            <p:nvPr/>
          </p:nvSpPr>
          <p:spPr>
            <a:xfrm rot="21540000">
              <a:off x="2346120" y="3565440"/>
              <a:ext cx="4032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4" name=""/>
            <p:cNvSpPr/>
            <p:nvPr/>
          </p:nvSpPr>
          <p:spPr>
            <a:xfrm rot="21540000">
              <a:off x="2378160" y="3565440"/>
              <a:ext cx="2808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5" name=""/>
            <p:cNvSpPr/>
            <p:nvPr/>
          </p:nvSpPr>
          <p:spPr>
            <a:xfrm rot="21540000">
              <a:off x="2408040" y="3565080"/>
              <a:ext cx="1152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6" name=""/>
            <p:cNvSpPr/>
            <p:nvPr/>
          </p:nvSpPr>
          <p:spPr>
            <a:xfrm rot="21540000">
              <a:off x="2418840" y="3565440"/>
              <a:ext cx="2664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7" name=""/>
            <p:cNvSpPr/>
            <p:nvPr/>
          </p:nvSpPr>
          <p:spPr>
            <a:xfrm rot="21540000">
              <a:off x="2440080" y="3565440"/>
              <a:ext cx="2808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8" name=""/>
            <p:cNvSpPr/>
            <p:nvPr/>
          </p:nvSpPr>
          <p:spPr>
            <a:xfrm rot="21540000">
              <a:off x="2460600" y="3553920"/>
              <a:ext cx="1764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9" name=""/>
            <p:cNvSpPr/>
            <p:nvPr/>
          </p:nvSpPr>
          <p:spPr>
            <a:xfrm rot="21540000">
              <a:off x="2481480" y="3554280"/>
              <a:ext cx="2808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é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0" name=""/>
            <p:cNvSpPr/>
            <p:nvPr/>
          </p:nvSpPr>
          <p:spPr>
            <a:xfrm rot="21540000">
              <a:off x="2503440" y="3553920"/>
              <a:ext cx="1440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1" name=""/>
            <p:cNvSpPr/>
            <p:nvPr/>
          </p:nvSpPr>
          <p:spPr>
            <a:xfrm rot="21540000">
              <a:off x="2523960" y="3553920"/>
              <a:ext cx="1764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2" name=""/>
            <p:cNvSpPr/>
            <p:nvPr/>
          </p:nvSpPr>
          <p:spPr>
            <a:xfrm rot="21540000">
              <a:off x="2533680" y="3554280"/>
              <a:ext cx="2808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3" name=""/>
            <p:cNvSpPr/>
            <p:nvPr/>
          </p:nvSpPr>
          <p:spPr>
            <a:xfrm rot="21540000">
              <a:off x="2565360" y="3554280"/>
              <a:ext cx="2808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4" name=""/>
            <p:cNvSpPr/>
            <p:nvPr/>
          </p:nvSpPr>
          <p:spPr>
            <a:xfrm rot="21540000">
              <a:off x="2585880" y="3553920"/>
              <a:ext cx="1440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5" name=""/>
            <p:cNvSpPr/>
            <p:nvPr/>
          </p:nvSpPr>
          <p:spPr>
            <a:xfrm rot="21540000">
              <a:off x="2607840" y="3554280"/>
              <a:ext cx="2664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6" name=""/>
            <p:cNvSpPr/>
            <p:nvPr/>
          </p:nvSpPr>
          <p:spPr>
            <a:xfrm rot="21540000">
              <a:off x="2629440" y="3553920"/>
              <a:ext cx="4176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7" name=""/>
            <p:cNvSpPr/>
            <p:nvPr/>
          </p:nvSpPr>
          <p:spPr>
            <a:xfrm rot="21540000">
              <a:off x="2670120" y="3553920"/>
              <a:ext cx="1764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8" name=""/>
            <p:cNvSpPr/>
            <p:nvPr/>
          </p:nvSpPr>
          <p:spPr>
            <a:xfrm>
              <a:off x="2409840" y="3714840"/>
              <a:ext cx="189000" cy="9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9" name=""/>
            <p:cNvSpPr/>
            <p:nvPr/>
          </p:nvSpPr>
          <p:spPr>
            <a:xfrm flipH="1" flipV="1">
              <a:off x="2409840" y="3714480"/>
              <a:ext cx="84240" cy="50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0" name=""/>
            <p:cNvSpPr/>
            <p:nvPr/>
          </p:nvSpPr>
          <p:spPr>
            <a:xfrm flipH="1">
              <a:off x="2409480" y="3683160"/>
              <a:ext cx="95400" cy="31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1" name=""/>
            <p:cNvSpPr/>
            <p:nvPr/>
          </p:nvSpPr>
          <p:spPr>
            <a:xfrm>
              <a:off x="3038400" y="3692520"/>
              <a:ext cx="41400" cy="111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2" name=""/>
            <p:cNvSpPr/>
            <p:nvPr/>
          </p:nvSpPr>
          <p:spPr>
            <a:xfrm>
              <a:off x="3121200" y="3714840"/>
              <a:ext cx="42840" cy="93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3" name=""/>
            <p:cNvSpPr/>
            <p:nvPr/>
          </p:nvSpPr>
          <p:spPr>
            <a:xfrm>
              <a:off x="3205080" y="3735360"/>
              <a:ext cx="20880" cy="9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4" name=""/>
            <p:cNvSpPr/>
            <p:nvPr/>
          </p:nvSpPr>
          <p:spPr>
            <a:xfrm>
              <a:off x="4137120" y="312912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0"/>
                  </a:move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5" name=""/>
            <p:cNvSpPr/>
            <p:nvPr/>
          </p:nvSpPr>
          <p:spPr>
            <a:xfrm>
              <a:off x="3581280" y="3537000"/>
              <a:ext cx="11160" cy="936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7" y="0"/>
                  </a:moveTo>
                  <a:lnTo>
                    <a:pt x="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6" name=""/>
            <p:cNvSpPr/>
            <p:nvPr/>
          </p:nvSpPr>
          <p:spPr>
            <a:xfrm>
              <a:off x="4522680" y="550080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0"/>
                  </a:moveTo>
                  <a:lnTo>
                    <a:pt x="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7" name=""/>
            <p:cNvSpPr/>
            <p:nvPr/>
          </p:nvSpPr>
          <p:spPr>
            <a:xfrm>
              <a:off x="5014800" y="4560840"/>
              <a:ext cx="11160" cy="972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0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8" name=""/>
            <p:cNvSpPr/>
            <p:nvPr/>
          </p:nvSpPr>
          <p:spPr>
            <a:xfrm>
              <a:off x="4502160" y="4394160"/>
              <a:ext cx="11160" cy="972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7" y="0"/>
                  </a:move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9" name=""/>
            <p:cNvSpPr/>
            <p:nvPr/>
          </p:nvSpPr>
          <p:spPr>
            <a:xfrm>
              <a:off x="5904000" y="4216320"/>
              <a:ext cx="11160" cy="1800"/>
            </a:xfrm>
            <a:custGeom>
              <a:avLst/>
              <a:gdLst/>
              <a:ahLst/>
              <a:rect l="l" t="t" r="r" b="b"/>
              <a:pathLst>
                <a:path w="7" h="0">
                  <a:moveTo>
                    <a:pt x="7" y="0"/>
                  </a:move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0" name=""/>
            <p:cNvSpPr/>
            <p:nvPr/>
          </p:nvSpPr>
          <p:spPr>
            <a:xfrm>
              <a:off x="3759120" y="427824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0"/>
                  </a:moveTo>
                  <a:lnTo>
                    <a:pt x="7" y="0"/>
                  </a:lnTo>
                  <a:lnTo>
                    <a:pt x="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1" name=""/>
            <p:cNvSpPr/>
            <p:nvPr/>
          </p:nvSpPr>
          <p:spPr>
            <a:xfrm>
              <a:off x="5737320" y="3274920"/>
              <a:ext cx="936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2" name=""/>
            <p:cNvSpPr/>
            <p:nvPr/>
          </p:nvSpPr>
          <p:spPr>
            <a:xfrm>
              <a:off x="4586400" y="5272200"/>
              <a:ext cx="11160" cy="1440"/>
            </a:xfrm>
            <a:custGeom>
              <a:avLst/>
              <a:gdLst/>
              <a:ahLst/>
              <a:rect l="l" t="t" r="r" b="b"/>
              <a:pathLst>
                <a:path w="7" h="0">
                  <a:moveTo>
                    <a:pt x="7" y="0"/>
                  </a:move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3" name=""/>
            <p:cNvSpPr/>
            <p:nvPr/>
          </p:nvSpPr>
          <p:spPr>
            <a:xfrm>
              <a:off x="2316240" y="3776760"/>
              <a:ext cx="1440" cy="11160"/>
            </a:xfrm>
            <a:custGeom>
              <a:avLst/>
              <a:gdLst/>
              <a:ahLst/>
              <a:rect l="l" t="t" r="r" b="b"/>
              <a:pathLst>
                <a:path w="0" h="7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4" name=""/>
            <p:cNvSpPr/>
            <p:nvPr/>
          </p:nvSpPr>
          <p:spPr>
            <a:xfrm>
              <a:off x="2870280" y="379728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5" name=""/>
            <p:cNvSpPr/>
            <p:nvPr/>
          </p:nvSpPr>
          <p:spPr>
            <a:xfrm>
              <a:off x="2881440" y="3724200"/>
              <a:ext cx="9360" cy="180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6" name=""/>
            <p:cNvSpPr/>
            <p:nvPr/>
          </p:nvSpPr>
          <p:spPr>
            <a:xfrm>
              <a:off x="3446640" y="3849840"/>
              <a:ext cx="1440" cy="10800"/>
            </a:xfrm>
            <a:custGeom>
              <a:avLst/>
              <a:gdLst/>
              <a:ahLst/>
              <a:rect l="l" t="t" r="r" b="b"/>
              <a:pathLst>
                <a:path w="0" h="7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7" name=""/>
            <p:cNvSpPr/>
            <p:nvPr/>
          </p:nvSpPr>
          <p:spPr>
            <a:xfrm>
              <a:off x="2860560" y="3484440"/>
              <a:ext cx="9720" cy="180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8" name=""/>
            <p:cNvSpPr/>
            <p:nvPr/>
          </p:nvSpPr>
          <p:spPr>
            <a:xfrm>
              <a:off x="2190600" y="5595840"/>
              <a:ext cx="48960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9" name=""/>
            <p:cNvSpPr/>
            <p:nvPr/>
          </p:nvSpPr>
          <p:spPr>
            <a:xfrm flipV="1">
              <a:off x="2525760" y="5595840"/>
              <a:ext cx="1440" cy="52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0" name=""/>
            <p:cNvSpPr/>
            <p:nvPr/>
          </p:nvSpPr>
          <p:spPr>
            <a:xfrm flipV="1">
              <a:off x="3090960" y="5595840"/>
              <a:ext cx="1440" cy="52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1" name=""/>
            <p:cNvSpPr/>
            <p:nvPr/>
          </p:nvSpPr>
          <p:spPr>
            <a:xfrm flipV="1">
              <a:off x="3665520" y="5595840"/>
              <a:ext cx="1440" cy="52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2" name=""/>
            <p:cNvSpPr/>
            <p:nvPr/>
          </p:nvSpPr>
          <p:spPr>
            <a:xfrm flipV="1">
              <a:off x="4230720" y="5595840"/>
              <a:ext cx="1440" cy="52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3" name=""/>
            <p:cNvSpPr/>
            <p:nvPr/>
          </p:nvSpPr>
          <p:spPr>
            <a:xfrm flipV="1">
              <a:off x="4805280" y="5595840"/>
              <a:ext cx="1800" cy="52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4" name=""/>
            <p:cNvSpPr/>
            <p:nvPr/>
          </p:nvSpPr>
          <p:spPr>
            <a:xfrm flipV="1">
              <a:off x="5381640" y="5595840"/>
              <a:ext cx="1440" cy="52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5" name=""/>
            <p:cNvSpPr/>
            <p:nvPr/>
          </p:nvSpPr>
          <p:spPr>
            <a:xfrm flipV="1">
              <a:off x="5946840" y="5595840"/>
              <a:ext cx="1440" cy="52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6" name=""/>
            <p:cNvSpPr/>
            <p:nvPr/>
          </p:nvSpPr>
          <p:spPr>
            <a:xfrm flipV="1">
              <a:off x="6521400" y="5595840"/>
              <a:ext cx="1800" cy="52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7" name=""/>
            <p:cNvSpPr/>
            <p:nvPr/>
          </p:nvSpPr>
          <p:spPr>
            <a:xfrm>
              <a:off x="2369520" y="5648400"/>
              <a:ext cx="2934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63000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8" name=""/>
            <p:cNvSpPr/>
            <p:nvPr/>
          </p:nvSpPr>
          <p:spPr>
            <a:xfrm>
              <a:off x="2944080" y="5648400"/>
              <a:ext cx="2934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63500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9" name=""/>
            <p:cNvSpPr/>
            <p:nvPr/>
          </p:nvSpPr>
          <p:spPr>
            <a:xfrm>
              <a:off x="3509280" y="5648400"/>
              <a:ext cx="2934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64000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0" name=""/>
            <p:cNvSpPr/>
            <p:nvPr/>
          </p:nvSpPr>
          <p:spPr>
            <a:xfrm>
              <a:off x="4085280" y="5648400"/>
              <a:ext cx="2934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64500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1" name=""/>
            <p:cNvSpPr/>
            <p:nvPr/>
          </p:nvSpPr>
          <p:spPr>
            <a:xfrm>
              <a:off x="4660200" y="5648400"/>
              <a:ext cx="2934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65000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2" name=""/>
            <p:cNvSpPr/>
            <p:nvPr/>
          </p:nvSpPr>
          <p:spPr>
            <a:xfrm>
              <a:off x="5225400" y="5648400"/>
              <a:ext cx="2934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65500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3" name=""/>
            <p:cNvSpPr/>
            <p:nvPr/>
          </p:nvSpPr>
          <p:spPr>
            <a:xfrm>
              <a:off x="5799960" y="5648400"/>
              <a:ext cx="2934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66000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4" name=""/>
            <p:cNvSpPr/>
            <p:nvPr/>
          </p:nvSpPr>
          <p:spPr>
            <a:xfrm>
              <a:off x="6365160" y="5648400"/>
              <a:ext cx="2934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66500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5" name=""/>
            <p:cNvSpPr/>
            <p:nvPr/>
          </p:nvSpPr>
          <p:spPr>
            <a:xfrm>
              <a:off x="4340160" y="5794200"/>
              <a:ext cx="5860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UTM Leste (m)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6" name=""/>
            <p:cNvSpPr/>
            <p:nvPr/>
          </p:nvSpPr>
          <p:spPr>
            <a:xfrm flipV="1">
              <a:off x="2525760" y="2125440"/>
              <a:ext cx="1440" cy="3470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7" name=""/>
            <p:cNvSpPr/>
            <p:nvPr/>
          </p:nvSpPr>
          <p:spPr>
            <a:xfrm flipV="1">
              <a:off x="3090960" y="2125440"/>
              <a:ext cx="1440" cy="3470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8" name=""/>
            <p:cNvSpPr/>
            <p:nvPr/>
          </p:nvSpPr>
          <p:spPr>
            <a:xfrm flipV="1">
              <a:off x="3665520" y="2125440"/>
              <a:ext cx="1440" cy="3470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49" name=""/>
          <p:cNvSpPr/>
          <p:nvPr/>
        </p:nvSpPr>
        <p:spPr>
          <a:xfrm flipV="1">
            <a:off x="4230720" y="2125440"/>
            <a:ext cx="1440" cy="3470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0" name=""/>
          <p:cNvSpPr/>
          <p:nvPr/>
        </p:nvSpPr>
        <p:spPr>
          <a:xfrm flipV="1">
            <a:off x="4805280" y="2125440"/>
            <a:ext cx="1800" cy="3470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1" name=""/>
          <p:cNvSpPr/>
          <p:nvPr/>
        </p:nvSpPr>
        <p:spPr>
          <a:xfrm flipV="1">
            <a:off x="5381640" y="2125440"/>
            <a:ext cx="1440" cy="3470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2" name=""/>
          <p:cNvSpPr/>
          <p:nvPr/>
        </p:nvSpPr>
        <p:spPr>
          <a:xfrm flipV="1">
            <a:off x="5946840" y="2125440"/>
            <a:ext cx="1440" cy="3470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3" name=""/>
          <p:cNvSpPr/>
          <p:nvPr/>
        </p:nvSpPr>
        <p:spPr>
          <a:xfrm flipV="1">
            <a:off x="6521400" y="2125440"/>
            <a:ext cx="1800" cy="3470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4" name=""/>
          <p:cNvSpPr/>
          <p:nvPr/>
        </p:nvSpPr>
        <p:spPr>
          <a:xfrm>
            <a:off x="2190600" y="2125800"/>
            <a:ext cx="4896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5" name=""/>
          <p:cNvSpPr/>
          <p:nvPr/>
        </p:nvSpPr>
        <p:spPr>
          <a:xfrm flipV="1">
            <a:off x="2525760" y="2061720"/>
            <a:ext cx="1440" cy="63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6" name=""/>
          <p:cNvSpPr/>
          <p:nvPr/>
        </p:nvSpPr>
        <p:spPr>
          <a:xfrm flipV="1">
            <a:off x="3090960" y="2061720"/>
            <a:ext cx="1440" cy="63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7" name=""/>
          <p:cNvSpPr/>
          <p:nvPr/>
        </p:nvSpPr>
        <p:spPr>
          <a:xfrm flipV="1">
            <a:off x="3665520" y="2061720"/>
            <a:ext cx="1440" cy="63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8" name=""/>
          <p:cNvSpPr/>
          <p:nvPr/>
        </p:nvSpPr>
        <p:spPr>
          <a:xfrm flipV="1">
            <a:off x="4230720" y="2061720"/>
            <a:ext cx="1440" cy="63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9" name=""/>
          <p:cNvSpPr/>
          <p:nvPr/>
        </p:nvSpPr>
        <p:spPr>
          <a:xfrm flipV="1">
            <a:off x="4805280" y="2061720"/>
            <a:ext cx="1800" cy="63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0" name=""/>
          <p:cNvSpPr/>
          <p:nvPr/>
        </p:nvSpPr>
        <p:spPr>
          <a:xfrm flipV="1">
            <a:off x="5381640" y="2061720"/>
            <a:ext cx="1440" cy="63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1" name=""/>
          <p:cNvSpPr/>
          <p:nvPr/>
        </p:nvSpPr>
        <p:spPr>
          <a:xfrm flipV="1">
            <a:off x="5946840" y="2061720"/>
            <a:ext cx="1440" cy="63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2" name=""/>
          <p:cNvSpPr/>
          <p:nvPr/>
        </p:nvSpPr>
        <p:spPr>
          <a:xfrm flipV="1">
            <a:off x="6521400" y="2061720"/>
            <a:ext cx="1800" cy="63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3" name=""/>
          <p:cNvSpPr/>
          <p:nvPr/>
        </p:nvSpPr>
        <p:spPr>
          <a:xfrm flipV="1">
            <a:off x="2190600" y="2125440"/>
            <a:ext cx="1800" cy="3470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4" name=""/>
          <p:cNvSpPr/>
          <p:nvPr/>
        </p:nvSpPr>
        <p:spPr>
          <a:xfrm flipH="1">
            <a:off x="2127240" y="5229360"/>
            <a:ext cx="633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5" name=""/>
          <p:cNvSpPr/>
          <p:nvPr/>
        </p:nvSpPr>
        <p:spPr>
          <a:xfrm flipH="1">
            <a:off x="2127240" y="4654440"/>
            <a:ext cx="633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6" name=""/>
          <p:cNvSpPr/>
          <p:nvPr/>
        </p:nvSpPr>
        <p:spPr>
          <a:xfrm flipH="1">
            <a:off x="2127240" y="4091040"/>
            <a:ext cx="633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7" name=""/>
          <p:cNvSpPr/>
          <p:nvPr/>
        </p:nvSpPr>
        <p:spPr>
          <a:xfrm flipH="1">
            <a:off x="2127240" y="3514680"/>
            <a:ext cx="633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8" name=""/>
          <p:cNvSpPr/>
          <p:nvPr/>
        </p:nvSpPr>
        <p:spPr>
          <a:xfrm flipH="1">
            <a:off x="2127240" y="2940120"/>
            <a:ext cx="633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9" name=""/>
          <p:cNvSpPr/>
          <p:nvPr/>
        </p:nvSpPr>
        <p:spPr>
          <a:xfrm flipH="1">
            <a:off x="2127240" y="2376360"/>
            <a:ext cx="633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0" name=""/>
          <p:cNvSpPr/>
          <p:nvPr/>
        </p:nvSpPr>
        <p:spPr>
          <a:xfrm>
            <a:off x="1772640" y="5167440"/>
            <a:ext cx="342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942500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1" name=""/>
          <p:cNvSpPr/>
          <p:nvPr/>
        </p:nvSpPr>
        <p:spPr>
          <a:xfrm>
            <a:off x="1772640" y="4592520"/>
            <a:ext cx="342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943000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2" name=""/>
          <p:cNvSpPr/>
          <p:nvPr/>
        </p:nvSpPr>
        <p:spPr>
          <a:xfrm>
            <a:off x="1772640" y="4027320"/>
            <a:ext cx="342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943500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3" name=""/>
          <p:cNvSpPr/>
          <p:nvPr/>
        </p:nvSpPr>
        <p:spPr>
          <a:xfrm>
            <a:off x="1772640" y="3452760"/>
            <a:ext cx="342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944000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4" name=""/>
          <p:cNvSpPr/>
          <p:nvPr/>
        </p:nvSpPr>
        <p:spPr>
          <a:xfrm>
            <a:off x="1772640" y="2878200"/>
            <a:ext cx="342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944500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5" name=""/>
          <p:cNvSpPr/>
          <p:nvPr/>
        </p:nvSpPr>
        <p:spPr>
          <a:xfrm>
            <a:off x="1772640" y="2314440"/>
            <a:ext cx="342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945000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6" name=""/>
          <p:cNvSpPr/>
          <p:nvPr/>
        </p:nvSpPr>
        <p:spPr>
          <a:xfrm rot="16200000">
            <a:off x="1624320" y="4078080"/>
            <a:ext cx="64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7" name=""/>
          <p:cNvSpPr/>
          <p:nvPr/>
        </p:nvSpPr>
        <p:spPr>
          <a:xfrm rot="16200000">
            <a:off x="1629720" y="4019760"/>
            <a:ext cx="54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8" name=""/>
          <p:cNvSpPr/>
          <p:nvPr/>
        </p:nvSpPr>
        <p:spPr>
          <a:xfrm rot="16200000">
            <a:off x="1620000" y="3947400"/>
            <a:ext cx="7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9" name=""/>
          <p:cNvSpPr/>
          <p:nvPr/>
        </p:nvSpPr>
        <p:spPr>
          <a:xfrm rot="16200000">
            <a:off x="1644120" y="3899160"/>
            <a:ext cx="25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0" name=""/>
          <p:cNvSpPr/>
          <p:nvPr/>
        </p:nvSpPr>
        <p:spPr>
          <a:xfrm rot="16200000">
            <a:off x="1624320" y="3857400"/>
            <a:ext cx="64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1" name=""/>
          <p:cNvSpPr/>
          <p:nvPr/>
        </p:nvSpPr>
        <p:spPr>
          <a:xfrm rot="16200000">
            <a:off x="1632240" y="3791880"/>
            <a:ext cx="4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2" name=""/>
          <p:cNvSpPr/>
          <p:nvPr/>
        </p:nvSpPr>
        <p:spPr>
          <a:xfrm rot="16200000">
            <a:off x="1641960" y="3760200"/>
            <a:ext cx="2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3" name=""/>
          <p:cNvSpPr/>
          <p:nvPr/>
        </p:nvSpPr>
        <p:spPr>
          <a:xfrm rot="16200000">
            <a:off x="1644120" y="3731040"/>
            <a:ext cx="25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4" name=""/>
          <p:cNvSpPr/>
          <p:nvPr/>
        </p:nvSpPr>
        <p:spPr>
          <a:xfrm rot="16200000">
            <a:off x="1632240" y="3687120"/>
            <a:ext cx="4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5" name=""/>
          <p:cNvSpPr/>
          <p:nvPr/>
        </p:nvSpPr>
        <p:spPr>
          <a:xfrm rot="16200000">
            <a:off x="1644120" y="3657960"/>
            <a:ext cx="25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6" name=""/>
          <p:cNvSpPr/>
          <p:nvPr/>
        </p:nvSpPr>
        <p:spPr>
          <a:xfrm rot="16200000">
            <a:off x="1641960" y="3623760"/>
            <a:ext cx="2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7" name=""/>
          <p:cNvSpPr/>
          <p:nvPr/>
        </p:nvSpPr>
        <p:spPr>
          <a:xfrm rot="16200000">
            <a:off x="1620000" y="3571200"/>
            <a:ext cx="7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8" name=""/>
          <p:cNvSpPr/>
          <p:nvPr/>
        </p:nvSpPr>
        <p:spPr>
          <a:xfrm rot="16200000">
            <a:off x="1641960" y="3520440"/>
            <a:ext cx="2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9" name=""/>
          <p:cNvSpPr/>
          <p:nvPr/>
        </p:nvSpPr>
        <p:spPr>
          <a:xfrm>
            <a:off x="2190600" y="5229360"/>
            <a:ext cx="4896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0" name=""/>
          <p:cNvSpPr/>
          <p:nvPr/>
        </p:nvSpPr>
        <p:spPr>
          <a:xfrm>
            <a:off x="2190600" y="4654440"/>
            <a:ext cx="48960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1" name=""/>
          <p:cNvSpPr/>
          <p:nvPr/>
        </p:nvSpPr>
        <p:spPr>
          <a:xfrm>
            <a:off x="2190600" y="4091040"/>
            <a:ext cx="4896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2" name=""/>
          <p:cNvSpPr/>
          <p:nvPr/>
        </p:nvSpPr>
        <p:spPr>
          <a:xfrm>
            <a:off x="2190600" y="3514680"/>
            <a:ext cx="48960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3" name=""/>
          <p:cNvSpPr/>
          <p:nvPr/>
        </p:nvSpPr>
        <p:spPr>
          <a:xfrm>
            <a:off x="2190600" y="2940120"/>
            <a:ext cx="4896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4" name=""/>
          <p:cNvSpPr/>
          <p:nvPr/>
        </p:nvSpPr>
        <p:spPr>
          <a:xfrm>
            <a:off x="2190600" y="2376360"/>
            <a:ext cx="48960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5" name=""/>
          <p:cNvSpPr/>
          <p:nvPr/>
        </p:nvSpPr>
        <p:spPr>
          <a:xfrm flipV="1">
            <a:off x="7086600" y="2125440"/>
            <a:ext cx="1440" cy="3470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6" name=""/>
          <p:cNvSpPr/>
          <p:nvPr/>
        </p:nvSpPr>
        <p:spPr>
          <a:xfrm flipH="1">
            <a:off x="7086600" y="5229360"/>
            <a:ext cx="61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7" name=""/>
          <p:cNvSpPr/>
          <p:nvPr/>
        </p:nvSpPr>
        <p:spPr>
          <a:xfrm flipH="1">
            <a:off x="7086600" y="4654440"/>
            <a:ext cx="61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8" name=""/>
          <p:cNvSpPr/>
          <p:nvPr/>
        </p:nvSpPr>
        <p:spPr>
          <a:xfrm flipH="1">
            <a:off x="7086600" y="4091040"/>
            <a:ext cx="61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9" name=""/>
          <p:cNvSpPr/>
          <p:nvPr/>
        </p:nvSpPr>
        <p:spPr>
          <a:xfrm flipH="1">
            <a:off x="7086600" y="3514680"/>
            <a:ext cx="61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0" name=""/>
          <p:cNvSpPr/>
          <p:nvPr/>
        </p:nvSpPr>
        <p:spPr>
          <a:xfrm flipH="1">
            <a:off x="7086600" y="2940120"/>
            <a:ext cx="61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1" name=""/>
          <p:cNvSpPr/>
          <p:nvPr/>
        </p:nvSpPr>
        <p:spPr>
          <a:xfrm flipH="1">
            <a:off x="7086600" y="2376360"/>
            <a:ext cx="61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2" name=""/>
          <p:cNvSpPr/>
          <p:nvPr/>
        </p:nvSpPr>
        <p:spPr>
          <a:xfrm>
            <a:off x="2170080" y="2104920"/>
            <a:ext cx="41400" cy="52560"/>
          </a:xfrm>
          <a:custGeom>
            <a:avLst/>
            <a:gdLst/>
            <a:ahLst/>
            <a:rect l="l" t="t" r="r" b="b"/>
            <a:pathLst>
              <a:path w="26" h="33">
                <a:moveTo>
                  <a:pt x="13" y="33"/>
                </a:moveTo>
                <a:lnTo>
                  <a:pt x="13" y="33"/>
                </a:lnTo>
                <a:lnTo>
                  <a:pt x="13" y="13"/>
                </a:lnTo>
                <a:lnTo>
                  <a:pt x="26" y="13"/>
                </a:lnTo>
                <a:lnTo>
                  <a:pt x="26" y="13"/>
                </a:lnTo>
                <a:lnTo>
                  <a:pt x="13" y="13"/>
                </a:lnTo>
                <a:lnTo>
                  <a:pt x="13" y="0"/>
                </a:lnTo>
                <a:lnTo>
                  <a:pt x="13" y="0"/>
                </a:lnTo>
                <a:lnTo>
                  <a:pt x="13" y="13"/>
                </a:lnTo>
                <a:lnTo>
                  <a:pt x="0" y="13"/>
                </a:lnTo>
                <a:lnTo>
                  <a:pt x="0" y="13"/>
                </a:lnTo>
                <a:lnTo>
                  <a:pt x="13" y="13"/>
                </a:lnTo>
                <a:lnTo>
                  <a:pt x="13" y="33"/>
                </a:lnTo>
                <a:close/>
              </a:path>
            </a:pathLst>
          </a:custGeom>
          <a:solidFill>
            <a:srgbClr val="ff00ff"/>
          </a:solidFill>
          <a:ln w="0">
            <a:solidFill>
              <a:srgbClr val="ff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3" name=""/>
          <p:cNvSpPr/>
          <p:nvPr/>
        </p:nvSpPr>
        <p:spPr>
          <a:xfrm>
            <a:off x="7054920" y="2104920"/>
            <a:ext cx="52200" cy="52560"/>
          </a:xfrm>
          <a:custGeom>
            <a:avLst/>
            <a:gdLst/>
            <a:ahLst/>
            <a:rect l="l" t="t" r="r" b="b"/>
            <a:pathLst>
              <a:path w="33" h="33">
                <a:moveTo>
                  <a:pt x="13" y="33"/>
                </a:moveTo>
                <a:lnTo>
                  <a:pt x="20" y="33"/>
                </a:lnTo>
                <a:lnTo>
                  <a:pt x="20" y="13"/>
                </a:lnTo>
                <a:lnTo>
                  <a:pt x="33" y="13"/>
                </a:lnTo>
                <a:lnTo>
                  <a:pt x="33" y="13"/>
                </a:lnTo>
                <a:lnTo>
                  <a:pt x="20" y="13"/>
                </a:lnTo>
                <a:lnTo>
                  <a:pt x="20" y="0"/>
                </a:lnTo>
                <a:lnTo>
                  <a:pt x="13" y="0"/>
                </a:lnTo>
                <a:lnTo>
                  <a:pt x="13" y="13"/>
                </a:lnTo>
                <a:lnTo>
                  <a:pt x="0" y="13"/>
                </a:lnTo>
                <a:lnTo>
                  <a:pt x="0" y="13"/>
                </a:lnTo>
                <a:lnTo>
                  <a:pt x="13" y="13"/>
                </a:lnTo>
                <a:lnTo>
                  <a:pt x="13" y="33"/>
                </a:lnTo>
                <a:close/>
              </a:path>
            </a:pathLst>
          </a:custGeom>
          <a:solidFill>
            <a:srgbClr val="ff00ff"/>
          </a:solidFill>
          <a:ln w="0">
            <a:solidFill>
              <a:srgbClr val="ff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4" name=""/>
          <p:cNvSpPr/>
          <p:nvPr/>
        </p:nvSpPr>
        <p:spPr>
          <a:xfrm>
            <a:off x="7066080" y="5564160"/>
            <a:ext cx="52200" cy="52560"/>
          </a:xfrm>
          <a:custGeom>
            <a:avLst/>
            <a:gdLst/>
            <a:ahLst/>
            <a:rect l="l" t="t" r="r" b="b"/>
            <a:pathLst>
              <a:path w="33" h="33">
                <a:moveTo>
                  <a:pt x="13" y="33"/>
                </a:moveTo>
                <a:lnTo>
                  <a:pt x="13" y="33"/>
                </a:lnTo>
                <a:lnTo>
                  <a:pt x="13" y="20"/>
                </a:lnTo>
                <a:lnTo>
                  <a:pt x="33" y="20"/>
                </a:lnTo>
                <a:lnTo>
                  <a:pt x="33" y="20"/>
                </a:lnTo>
                <a:lnTo>
                  <a:pt x="13" y="20"/>
                </a:lnTo>
                <a:lnTo>
                  <a:pt x="13" y="0"/>
                </a:lnTo>
                <a:lnTo>
                  <a:pt x="13" y="0"/>
                </a:lnTo>
                <a:lnTo>
                  <a:pt x="13" y="20"/>
                </a:lnTo>
                <a:lnTo>
                  <a:pt x="0" y="20"/>
                </a:lnTo>
                <a:lnTo>
                  <a:pt x="0" y="20"/>
                </a:lnTo>
                <a:lnTo>
                  <a:pt x="13" y="20"/>
                </a:lnTo>
                <a:lnTo>
                  <a:pt x="13" y="33"/>
                </a:lnTo>
                <a:close/>
              </a:path>
            </a:pathLst>
          </a:custGeom>
          <a:solidFill>
            <a:srgbClr val="ff00ff"/>
          </a:solidFill>
          <a:ln w="0">
            <a:solidFill>
              <a:srgbClr val="ff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5" name=""/>
          <p:cNvSpPr/>
          <p:nvPr/>
        </p:nvSpPr>
        <p:spPr>
          <a:xfrm>
            <a:off x="2170080" y="5564160"/>
            <a:ext cx="41400" cy="52560"/>
          </a:xfrm>
          <a:custGeom>
            <a:avLst/>
            <a:gdLst/>
            <a:ahLst/>
            <a:rect l="l" t="t" r="r" b="b"/>
            <a:pathLst>
              <a:path w="26" h="33">
                <a:moveTo>
                  <a:pt x="13" y="33"/>
                </a:moveTo>
                <a:lnTo>
                  <a:pt x="13" y="33"/>
                </a:lnTo>
                <a:lnTo>
                  <a:pt x="13" y="20"/>
                </a:lnTo>
                <a:lnTo>
                  <a:pt x="26" y="20"/>
                </a:lnTo>
                <a:lnTo>
                  <a:pt x="26" y="20"/>
                </a:lnTo>
                <a:lnTo>
                  <a:pt x="13" y="20"/>
                </a:lnTo>
                <a:lnTo>
                  <a:pt x="13" y="0"/>
                </a:lnTo>
                <a:lnTo>
                  <a:pt x="13" y="0"/>
                </a:lnTo>
                <a:lnTo>
                  <a:pt x="13" y="20"/>
                </a:lnTo>
                <a:lnTo>
                  <a:pt x="0" y="20"/>
                </a:lnTo>
                <a:lnTo>
                  <a:pt x="0" y="20"/>
                </a:lnTo>
                <a:lnTo>
                  <a:pt x="13" y="20"/>
                </a:lnTo>
                <a:lnTo>
                  <a:pt x="13" y="33"/>
                </a:lnTo>
                <a:close/>
              </a:path>
            </a:pathLst>
          </a:custGeom>
          <a:solidFill>
            <a:srgbClr val="ff00ff"/>
          </a:solidFill>
          <a:ln w="0">
            <a:solidFill>
              <a:srgbClr val="ff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6" name=""/>
          <p:cNvSpPr/>
          <p:nvPr/>
        </p:nvSpPr>
        <p:spPr>
          <a:xfrm>
            <a:off x="5297400" y="3608280"/>
            <a:ext cx="328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600" spc="-1" strike="noStrike">
                <a:solidFill>
                  <a:srgbClr val="000000"/>
                </a:solidFill>
                <a:latin typeface="Arial"/>
              </a:rPr>
              <a:t>Barauna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7" name=""/>
          <p:cNvSpPr/>
          <p:nvPr/>
        </p:nvSpPr>
        <p:spPr>
          <a:xfrm flipV="1">
            <a:off x="2817720" y="5427720"/>
            <a:ext cx="73080" cy="1569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8" name=""/>
          <p:cNvSpPr/>
          <p:nvPr/>
        </p:nvSpPr>
        <p:spPr>
          <a:xfrm flipV="1">
            <a:off x="2975040" y="5114520"/>
            <a:ext cx="73080" cy="1573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9" name=""/>
          <p:cNvSpPr/>
          <p:nvPr/>
        </p:nvSpPr>
        <p:spPr>
          <a:xfrm flipV="1">
            <a:off x="3121200" y="4811760"/>
            <a:ext cx="74520" cy="1569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0" name=""/>
          <p:cNvSpPr/>
          <p:nvPr/>
        </p:nvSpPr>
        <p:spPr>
          <a:xfrm flipV="1">
            <a:off x="3268800" y="4508280"/>
            <a:ext cx="72720" cy="145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1" name=""/>
          <p:cNvSpPr/>
          <p:nvPr/>
        </p:nvSpPr>
        <p:spPr>
          <a:xfrm flipV="1">
            <a:off x="3414600" y="4193640"/>
            <a:ext cx="84240" cy="1573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2" name=""/>
          <p:cNvSpPr/>
          <p:nvPr/>
        </p:nvSpPr>
        <p:spPr>
          <a:xfrm flipV="1">
            <a:off x="3571920" y="3892680"/>
            <a:ext cx="73080" cy="1555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3" name=""/>
          <p:cNvSpPr/>
          <p:nvPr/>
        </p:nvSpPr>
        <p:spPr>
          <a:xfrm>
            <a:off x="3718080" y="3578400"/>
            <a:ext cx="72720" cy="156960"/>
          </a:xfrm>
          <a:custGeom>
            <a:avLst/>
            <a:gdLst/>
            <a:ahLst/>
            <a:rect l="l" t="t" r="r" b="b"/>
            <a:pathLst>
              <a:path w="46" h="99">
                <a:moveTo>
                  <a:pt x="0" y="99"/>
                </a:moveTo>
                <a:lnTo>
                  <a:pt x="33" y="26"/>
                </a:lnTo>
                <a:lnTo>
                  <a:pt x="46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4" name=""/>
          <p:cNvSpPr/>
          <p:nvPr/>
        </p:nvSpPr>
        <p:spPr>
          <a:xfrm flipV="1">
            <a:off x="3843360" y="3263400"/>
            <a:ext cx="63360" cy="1573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5" name=""/>
          <p:cNvSpPr/>
          <p:nvPr/>
        </p:nvSpPr>
        <p:spPr>
          <a:xfrm flipV="1">
            <a:off x="3959280" y="2940120"/>
            <a:ext cx="61920" cy="1569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6" name=""/>
          <p:cNvSpPr/>
          <p:nvPr/>
        </p:nvSpPr>
        <p:spPr>
          <a:xfrm flipV="1">
            <a:off x="4073400" y="2616120"/>
            <a:ext cx="63720" cy="1684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7" name=""/>
          <p:cNvSpPr/>
          <p:nvPr/>
        </p:nvSpPr>
        <p:spPr>
          <a:xfrm flipV="1">
            <a:off x="4189320" y="2303640"/>
            <a:ext cx="61920" cy="1569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8" name=""/>
          <p:cNvSpPr/>
          <p:nvPr/>
        </p:nvSpPr>
        <p:spPr>
          <a:xfrm flipV="1">
            <a:off x="4303800" y="2052360"/>
            <a:ext cx="31680" cy="82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9" name=""/>
          <p:cNvSpPr/>
          <p:nvPr/>
        </p:nvSpPr>
        <p:spPr>
          <a:xfrm rot="17760000">
            <a:off x="4060800" y="2252160"/>
            <a:ext cx="831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0" name=""/>
          <p:cNvSpPr/>
          <p:nvPr/>
        </p:nvSpPr>
        <p:spPr>
          <a:xfrm rot="17760000">
            <a:off x="4105440" y="2183760"/>
            <a:ext cx="77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1" name=""/>
          <p:cNvSpPr/>
          <p:nvPr/>
        </p:nvSpPr>
        <p:spPr>
          <a:xfrm rot="17280000">
            <a:off x="4305240" y="2214000"/>
            <a:ext cx="831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2" name=""/>
          <p:cNvSpPr/>
          <p:nvPr/>
        </p:nvSpPr>
        <p:spPr>
          <a:xfrm rot="17280000">
            <a:off x="4336920" y="2140920"/>
            <a:ext cx="831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3" name=""/>
          <p:cNvSpPr/>
          <p:nvPr/>
        </p:nvSpPr>
        <p:spPr>
          <a:xfrm>
            <a:off x="873000" y="4770360"/>
            <a:ext cx="209520" cy="855720"/>
          </a:xfrm>
          <a:prstGeom prst="rect">
            <a:avLst/>
          </a:prstGeom>
          <a:solidFill>
            <a:srgbClr val="d6d61b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4" name=""/>
          <p:cNvSpPr/>
          <p:nvPr/>
        </p:nvSpPr>
        <p:spPr>
          <a:xfrm>
            <a:off x="873000" y="3913200"/>
            <a:ext cx="209520" cy="857160"/>
          </a:xfrm>
          <a:prstGeom prst="rect">
            <a:avLst/>
          </a:prstGeom>
          <a:solidFill>
            <a:srgbClr val="b3b333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5" name=""/>
          <p:cNvSpPr/>
          <p:nvPr/>
        </p:nvSpPr>
        <p:spPr>
          <a:xfrm>
            <a:off x="873000" y="3065400"/>
            <a:ext cx="209520" cy="847800"/>
          </a:xfrm>
          <a:prstGeom prst="rect">
            <a:avLst/>
          </a:prstGeom>
          <a:solidFill>
            <a:srgbClr val="90904a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6" name=""/>
          <p:cNvSpPr/>
          <p:nvPr/>
        </p:nvSpPr>
        <p:spPr>
          <a:xfrm>
            <a:off x="873000" y="2209680"/>
            <a:ext cx="209520" cy="855720"/>
          </a:xfrm>
          <a:prstGeom prst="rect">
            <a:avLst/>
          </a:prstGeom>
          <a:solidFill>
            <a:srgbClr val="6d6d61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7" name=""/>
          <p:cNvSpPr/>
          <p:nvPr/>
        </p:nvSpPr>
        <p:spPr>
          <a:xfrm>
            <a:off x="1112400" y="5554800"/>
            <a:ext cx="64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8" name=""/>
          <p:cNvSpPr/>
          <p:nvPr/>
        </p:nvSpPr>
        <p:spPr>
          <a:xfrm>
            <a:off x="1112040" y="4697280"/>
            <a:ext cx="128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9" name=""/>
          <p:cNvSpPr/>
          <p:nvPr/>
        </p:nvSpPr>
        <p:spPr>
          <a:xfrm>
            <a:off x="1112040" y="3840120"/>
            <a:ext cx="128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0" name=""/>
          <p:cNvSpPr/>
          <p:nvPr/>
        </p:nvSpPr>
        <p:spPr>
          <a:xfrm>
            <a:off x="1112040" y="2994120"/>
            <a:ext cx="128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1" name=""/>
          <p:cNvSpPr/>
          <p:nvPr/>
        </p:nvSpPr>
        <p:spPr>
          <a:xfrm rot="16200000">
            <a:off x="640800" y="4232520"/>
            <a:ext cx="25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2" name=""/>
          <p:cNvSpPr/>
          <p:nvPr/>
        </p:nvSpPr>
        <p:spPr>
          <a:xfrm rot="16200000">
            <a:off x="621000" y="4182840"/>
            <a:ext cx="64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3" name=""/>
          <p:cNvSpPr/>
          <p:nvPr/>
        </p:nvSpPr>
        <p:spPr>
          <a:xfrm rot="16200000">
            <a:off x="623520" y="4110840"/>
            <a:ext cx="60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4" name=""/>
          <p:cNvSpPr/>
          <p:nvPr/>
        </p:nvSpPr>
        <p:spPr>
          <a:xfrm rot="16200000">
            <a:off x="640800" y="4065840"/>
            <a:ext cx="25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5" name=""/>
          <p:cNvSpPr/>
          <p:nvPr/>
        </p:nvSpPr>
        <p:spPr>
          <a:xfrm rot="16200000">
            <a:off x="640800" y="4045320"/>
            <a:ext cx="25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6" name=""/>
          <p:cNvSpPr/>
          <p:nvPr/>
        </p:nvSpPr>
        <p:spPr>
          <a:xfrm rot="16200000">
            <a:off x="638640" y="4011120"/>
            <a:ext cx="2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7" name=""/>
          <p:cNvSpPr/>
          <p:nvPr/>
        </p:nvSpPr>
        <p:spPr>
          <a:xfrm rot="16200000">
            <a:off x="640800" y="3981600"/>
            <a:ext cx="25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8" name=""/>
          <p:cNvSpPr/>
          <p:nvPr/>
        </p:nvSpPr>
        <p:spPr>
          <a:xfrm rot="16200000">
            <a:off x="626400" y="3946320"/>
            <a:ext cx="54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9" name=""/>
          <p:cNvSpPr/>
          <p:nvPr/>
        </p:nvSpPr>
        <p:spPr>
          <a:xfrm rot="16200000">
            <a:off x="628920" y="3887280"/>
            <a:ext cx="4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0" name=""/>
          <p:cNvSpPr/>
          <p:nvPr/>
        </p:nvSpPr>
        <p:spPr>
          <a:xfrm rot="16200000">
            <a:off x="628920" y="3834720"/>
            <a:ext cx="4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1" name=""/>
          <p:cNvSpPr/>
          <p:nvPr/>
        </p:nvSpPr>
        <p:spPr>
          <a:xfrm rot="16200000">
            <a:off x="628920" y="3782520"/>
            <a:ext cx="4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2" name=""/>
          <p:cNvSpPr/>
          <p:nvPr/>
        </p:nvSpPr>
        <p:spPr>
          <a:xfrm rot="16200000">
            <a:off x="631080" y="373104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3" name=""/>
          <p:cNvSpPr/>
          <p:nvPr/>
        </p:nvSpPr>
        <p:spPr>
          <a:xfrm rot="16200000">
            <a:off x="640800" y="3699000"/>
            <a:ext cx="25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4" name=""/>
          <p:cNvSpPr/>
          <p:nvPr/>
        </p:nvSpPr>
        <p:spPr>
          <a:xfrm rot="16200000">
            <a:off x="628920" y="3656880"/>
            <a:ext cx="4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5" name=""/>
          <p:cNvSpPr/>
          <p:nvPr/>
        </p:nvSpPr>
        <p:spPr>
          <a:xfrm rot="16200000">
            <a:off x="631080" y="36054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6" name=""/>
          <p:cNvSpPr/>
          <p:nvPr/>
        </p:nvSpPr>
        <p:spPr>
          <a:xfrm rot="16200000">
            <a:off x="640800" y="3573720"/>
            <a:ext cx="25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7" name=""/>
          <p:cNvSpPr/>
          <p:nvPr/>
        </p:nvSpPr>
        <p:spPr>
          <a:xfrm rot="16200000">
            <a:off x="628920" y="3531600"/>
            <a:ext cx="4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8" name=""/>
          <p:cNvSpPr/>
          <p:nvPr/>
        </p:nvSpPr>
        <p:spPr>
          <a:xfrm rot="16200000">
            <a:off x="628920" y="3479040"/>
            <a:ext cx="4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9" name=""/>
          <p:cNvSpPr/>
          <p:nvPr/>
        </p:nvSpPr>
        <p:spPr>
          <a:xfrm rot="16200000">
            <a:off x="631080" y="342756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ç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0" name=""/>
          <p:cNvSpPr/>
          <p:nvPr/>
        </p:nvSpPr>
        <p:spPr>
          <a:xfrm rot="16200000">
            <a:off x="628920" y="3374280"/>
            <a:ext cx="4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1" name=""/>
          <p:cNvSpPr/>
          <p:nvPr/>
        </p:nvSpPr>
        <p:spPr>
          <a:xfrm rot="16200000">
            <a:off x="631080" y="33228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52" name=""/>
          <p:cNvGrpSpPr/>
          <p:nvPr/>
        </p:nvGrpSpPr>
        <p:grpSpPr>
          <a:xfrm>
            <a:off x="7674120" y="2157480"/>
            <a:ext cx="596160" cy="3471120"/>
            <a:chOff x="7674120" y="2157480"/>
            <a:chExt cx="596160" cy="3471120"/>
          </a:xfrm>
        </p:grpSpPr>
        <p:sp>
          <p:nvSpPr>
            <p:cNvPr id="5453" name=""/>
            <p:cNvSpPr/>
            <p:nvPr/>
          </p:nvSpPr>
          <p:spPr>
            <a:xfrm>
              <a:off x="7902720" y="4718160"/>
              <a:ext cx="218880" cy="8460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4" name=""/>
            <p:cNvSpPr/>
            <p:nvPr/>
          </p:nvSpPr>
          <p:spPr>
            <a:xfrm>
              <a:off x="7902720" y="3860640"/>
              <a:ext cx="218880" cy="8575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5" name=""/>
            <p:cNvSpPr/>
            <p:nvPr/>
          </p:nvSpPr>
          <p:spPr>
            <a:xfrm>
              <a:off x="7902720" y="3013200"/>
              <a:ext cx="218880" cy="847440"/>
            </a:xfrm>
            <a:prstGeom prst="rect">
              <a:avLst/>
            </a:prstGeom>
            <a:solidFill>
              <a:srgbClr val="df7c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6" name=""/>
            <p:cNvSpPr/>
            <p:nvPr/>
          </p:nvSpPr>
          <p:spPr>
            <a:xfrm>
              <a:off x="7902720" y="2157480"/>
              <a:ext cx="218880" cy="855720"/>
            </a:xfrm>
            <a:prstGeom prst="rect">
              <a:avLst/>
            </a:prstGeom>
            <a:solidFill>
              <a:srgbClr val="ff6633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7" name=""/>
            <p:cNvSpPr/>
            <p:nvPr/>
          </p:nvSpPr>
          <p:spPr>
            <a:xfrm>
              <a:off x="8141400" y="5491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8" name=""/>
            <p:cNvSpPr/>
            <p:nvPr/>
          </p:nvSpPr>
          <p:spPr>
            <a:xfrm>
              <a:off x="8141400" y="4645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5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9" name=""/>
            <p:cNvSpPr/>
            <p:nvPr/>
          </p:nvSpPr>
          <p:spPr>
            <a:xfrm>
              <a:off x="8141400" y="378792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0" name=""/>
            <p:cNvSpPr/>
            <p:nvPr/>
          </p:nvSpPr>
          <p:spPr>
            <a:xfrm>
              <a:off x="8141400" y="294156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5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1" name=""/>
            <p:cNvSpPr/>
            <p:nvPr/>
          </p:nvSpPr>
          <p:spPr>
            <a:xfrm rot="16200000">
              <a:off x="7695000" y="4308840"/>
              <a:ext cx="648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2" name=""/>
            <p:cNvSpPr/>
            <p:nvPr/>
          </p:nvSpPr>
          <p:spPr>
            <a:xfrm rot="16200000">
              <a:off x="7714800" y="4264200"/>
              <a:ext cx="25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í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3" name=""/>
            <p:cNvSpPr/>
            <p:nvPr/>
          </p:nvSpPr>
          <p:spPr>
            <a:xfrm rot="16200000">
              <a:off x="7705080" y="4221360"/>
              <a:ext cx="45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4" name=""/>
            <p:cNvSpPr/>
            <p:nvPr/>
          </p:nvSpPr>
          <p:spPr>
            <a:xfrm rot="16200000">
              <a:off x="7702920" y="417924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5" name=""/>
            <p:cNvSpPr/>
            <p:nvPr/>
          </p:nvSpPr>
          <p:spPr>
            <a:xfrm rot="16200000">
              <a:off x="7717320" y="4141800"/>
              <a:ext cx="205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6" name=""/>
            <p:cNvSpPr/>
            <p:nvPr/>
          </p:nvSpPr>
          <p:spPr>
            <a:xfrm rot="16200000">
              <a:off x="7714800" y="4118040"/>
              <a:ext cx="25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7" name=""/>
            <p:cNvSpPr/>
            <p:nvPr/>
          </p:nvSpPr>
          <p:spPr>
            <a:xfrm rot="16200000">
              <a:off x="7697520" y="4069800"/>
              <a:ext cx="601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8" name=""/>
            <p:cNvSpPr/>
            <p:nvPr/>
          </p:nvSpPr>
          <p:spPr>
            <a:xfrm rot="16200000">
              <a:off x="7705080" y="4013280"/>
              <a:ext cx="45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9" name=""/>
            <p:cNvSpPr/>
            <p:nvPr/>
          </p:nvSpPr>
          <p:spPr>
            <a:xfrm rot="16200000">
              <a:off x="7714800" y="3981600"/>
              <a:ext cx="25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0" name=""/>
            <p:cNvSpPr/>
            <p:nvPr/>
          </p:nvSpPr>
          <p:spPr>
            <a:xfrm rot="16200000">
              <a:off x="7702920" y="393948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á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1" name=""/>
            <p:cNvSpPr/>
            <p:nvPr/>
          </p:nvSpPr>
          <p:spPr>
            <a:xfrm rot="16200000">
              <a:off x="7714800" y="3897720"/>
              <a:ext cx="25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2" name=""/>
            <p:cNvSpPr/>
            <p:nvPr/>
          </p:nvSpPr>
          <p:spPr>
            <a:xfrm rot="16200000">
              <a:off x="7717320" y="3878280"/>
              <a:ext cx="205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3" name=""/>
            <p:cNvSpPr/>
            <p:nvPr/>
          </p:nvSpPr>
          <p:spPr>
            <a:xfrm rot="16200000">
              <a:off x="7705080" y="3832560"/>
              <a:ext cx="45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4" name=""/>
            <p:cNvSpPr/>
            <p:nvPr/>
          </p:nvSpPr>
          <p:spPr>
            <a:xfrm rot="16200000">
              <a:off x="7702920" y="378864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5" name=""/>
            <p:cNvSpPr/>
            <p:nvPr/>
          </p:nvSpPr>
          <p:spPr>
            <a:xfrm rot="16200000">
              <a:off x="7714800" y="3748320"/>
              <a:ext cx="25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6" name=""/>
            <p:cNvSpPr/>
            <p:nvPr/>
          </p:nvSpPr>
          <p:spPr>
            <a:xfrm rot="16200000">
              <a:off x="7712640" y="3715920"/>
              <a:ext cx="295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7" name=""/>
            <p:cNvSpPr/>
            <p:nvPr/>
          </p:nvSpPr>
          <p:spPr>
            <a:xfrm rot="16200000">
              <a:off x="7690680" y="3662280"/>
              <a:ext cx="738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8" name=""/>
            <p:cNvSpPr/>
            <p:nvPr/>
          </p:nvSpPr>
          <p:spPr>
            <a:xfrm rot="16200000">
              <a:off x="7702920" y="360144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9" name=""/>
            <p:cNvSpPr/>
            <p:nvPr/>
          </p:nvSpPr>
          <p:spPr>
            <a:xfrm rot="16200000">
              <a:off x="7714800" y="3561120"/>
              <a:ext cx="25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0" name=""/>
            <p:cNvSpPr/>
            <p:nvPr/>
          </p:nvSpPr>
          <p:spPr>
            <a:xfrm rot="16200000">
              <a:off x="7712640" y="3526920"/>
              <a:ext cx="295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1" name=""/>
            <p:cNvSpPr/>
            <p:nvPr/>
          </p:nvSpPr>
          <p:spPr>
            <a:xfrm rot="16200000">
              <a:off x="7702920" y="348552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2" name=""/>
            <p:cNvSpPr/>
            <p:nvPr/>
          </p:nvSpPr>
          <p:spPr>
            <a:xfrm rot="16200000">
              <a:off x="7705080" y="3434040"/>
              <a:ext cx="45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3" name=""/>
            <p:cNvSpPr/>
            <p:nvPr/>
          </p:nvSpPr>
          <p:spPr>
            <a:xfrm rot="16200000">
              <a:off x="7712640" y="3401640"/>
              <a:ext cx="295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84" name=""/>
          <p:cNvSpPr/>
          <p:nvPr/>
        </p:nvSpPr>
        <p:spPr>
          <a:xfrm>
            <a:off x="2432160" y="2344680"/>
            <a:ext cx="480960" cy="469800"/>
          </a:xfrm>
          <a:prstGeom prst="ellipse">
            <a:avLst/>
          </a:pr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5" name=""/>
          <p:cNvSpPr/>
          <p:nvPr/>
        </p:nvSpPr>
        <p:spPr>
          <a:xfrm>
            <a:off x="2598840" y="2449440"/>
            <a:ext cx="135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5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5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47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47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47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47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6" name=""/>
          <p:cNvSpPr/>
          <p:nvPr/>
        </p:nvSpPr>
        <p:spPr>
          <a:xfrm>
            <a:off x="1332000" y="333360"/>
            <a:ext cx="817236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99"/>
                </a:solidFill>
                <a:latin typeface="Tahoma"/>
              </a:rPr>
              <a:t>BARAUNAS – RN</a:t>
            </a:r>
            <a:br>
              <a:rPr sz="2400"/>
            </a:br>
            <a:r>
              <a:rPr b="0" lang="pt-BR" sz="2400" spc="-1" strike="noStrike">
                <a:solidFill>
                  <a:srgbClr val="333399"/>
                </a:solidFill>
                <a:latin typeface="Tahoma"/>
              </a:rPr>
              <a:t>Aquífero Jandaíra – ICP Inativos e 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7" name=""/>
          <p:cNvSpPr/>
          <p:nvPr/>
        </p:nvSpPr>
        <p:spPr>
          <a:xfrm>
            <a:off x="2131920" y="2727360"/>
            <a:ext cx="4543560" cy="2921040"/>
          </a:xfrm>
          <a:custGeom>
            <a:avLst/>
            <a:gdLst/>
            <a:ahLst/>
            <a:rect l="l" t="t" r="r" b="b"/>
            <a:pathLst>
              <a:path w="2862" h="1840">
                <a:moveTo>
                  <a:pt x="683" y="207"/>
                </a:moveTo>
                <a:lnTo>
                  <a:pt x="683" y="200"/>
                </a:lnTo>
                <a:lnTo>
                  <a:pt x="683" y="200"/>
                </a:lnTo>
                <a:lnTo>
                  <a:pt x="683" y="200"/>
                </a:lnTo>
                <a:lnTo>
                  <a:pt x="676" y="193"/>
                </a:lnTo>
                <a:lnTo>
                  <a:pt x="676" y="193"/>
                </a:lnTo>
                <a:lnTo>
                  <a:pt x="676" y="200"/>
                </a:lnTo>
                <a:lnTo>
                  <a:pt x="676" y="200"/>
                </a:lnTo>
                <a:lnTo>
                  <a:pt x="676" y="207"/>
                </a:lnTo>
                <a:lnTo>
                  <a:pt x="676" y="207"/>
                </a:lnTo>
                <a:lnTo>
                  <a:pt x="676" y="214"/>
                </a:lnTo>
                <a:lnTo>
                  <a:pt x="676" y="214"/>
                </a:lnTo>
                <a:lnTo>
                  <a:pt x="676" y="214"/>
                </a:lnTo>
                <a:lnTo>
                  <a:pt x="683" y="214"/>
                </a:lnTo>
                <a:lnTo>
                  <a:pt x="683" y="207"/>
                </a:lnTo>
                <a:close/>
                <a:moveTo>
                  <a:pt x="917" y="179"/>
                </a:moveTo>
                <a:lnTo>
                  <a:pt x="917" y="173"/>
                </a:lnTo>
                <a:lnTo>
                  <a:pt x="917" y="173"/>
                </a:lnTo>
                <a:lnTo>
                  <a:pt x="917" y="166"/>
                </a:lnTo>
                <a:lnTo>
                  <a:pt x="917" y="159"/>
                </a:lnTo>
                <a:lnTo>
                  <a:pt x="917" y="159"/>
                </a:lnTo>
                <a:lnTo>
                  <a:pt x="917" y="159"/>
                </a:lnTo>
                <a:lnTo>
                  <a:pt x="917" y="152"/>
                </a:lnTo>
                <a:lnTo>
                  <a:pt x="917" y="152"/>
                </a:lnTo>
                <a:lnTo>
                  <a:pt x="910" y="145"/>
                </a:lnTo>
                <a:lnTo>
                  <a:pt x="910" y="152"/>
                </a:lnTo>
                <a:lnTo>
                  <a:pt x="904" y="152"/>
                </a:lnTo>
                <a:lnTo>
                  <a:pt x="904" y="152"/>
                </a:lnTo>
                <a:lnTo>
                  <a:pt x="904" y="159"/>
                </a:lnTo>
                <a:lnTo>
                  <a:pt x="904" y="159"/>
                </a:lnTo>
                <a:lnTo>
                  <a:pt x="904" y="166"/>
                </a:lnTo>
                <a:lnTo>
                  <a:pt x="910" y="166"/>
                </a:lnTo>
                <a:lnTo>
                  <a:pt x="910" y="173"/>
                </a:lnTo>
                <a:lnTo>
                  <a:pt x="910" y="179"/>
                </a:lnTo>
                <a:lnTo>
                  <a:pt x="917" y="179"/>
                </a:lnTo>
                <a:lnTo>
                  <a:pt x="917" y="179"/>
                </a:lnTo>
                <a:close/>
                <a:moveTo>
                  <a:pt x="711" y="145"/>
                </a:moveTo>
                <a:lnTo>
                  <a:pt x="711" y="145"/>
                </a:lnTo>
                <a:lnTo>
                  <a:pt x="711" y="138"/>
                </a:lnTo>
                <a:lnTo>
                  <a:pt x="711" y="138"/>
                </a:lnTo>
                <a:lnTo>
                  <a:pt x="711" y="131"/>
                </a:lnTo>
                <a:lnTo>
                  <a:pt x="711" y="124"/>
                </a:lnTo>
                <a:lnTo>
                  <a:pt x="711" y="124"/>
                </a:lnTo>
                <a:lnTo>
                  <a:pt x="711" y="117"/>
                </a:lnTo>
                <a:lnTo>
                  <a:pt x="711" y="111"/>
                </a:lnTo>
                <a:lnTo>
                  <a:pt x="704" y="117"/>
                </a:lnTo>
                <a:lnTo>
                  <a:pt x="704" y="124"/>
                </a:lnTo>
                <a:lnTo>
                  <a:pt x="704" y="131"/>
                </a:lnTo>
                <a:lnTo>
                  <a:pt x="697" y="131"/>
                </a:lnTo>
                <a:lnTo>
                  <a:pt x="697" y="138"/>
                </a:lnTo>
                <a:lnTo>
                  <a:pt x="697" y="138"/>
                </a:lnTo>
                <a:lnTo>
                  <a:pt x="697" y="145"/>
                </a:lnTo>
                <a:lnTo>
                  <a:pt x="704" y="152"/>
                </a:lnTo>
                <a:lnTo>
                  <a:pt x="704" y="152"/>
                </a:lnTo>
                <a:lnTo>
                  <a:pt x="711" y="159"/>
                </a:lnTo>
                <a:lnTo>
                  <a:pt x="711" y="152"/>
                </a:lnTo>
                <a:lnTo>
                  <a:pt x="711" y="145"/>
                </a:lnTo>
                <a:close/>
                <a:moveTo>
                  <a:pt x="738" y="90"/>
                </a:moveTo>
                <a:lnTo>
                  <a:pt x="738" y="83"/>
                </a:lnTo>
                <a:lnTo>
                  <a:pt x="745" y="76"/>
                </a:lnTo>
                <a:lnTo>
                  <a:pt x="745" y="76"/>
                </a:lnTo>
                <a:lnTo>
                  <a:pt x="745" y="69"/>
                </a:lnTo>
                <a:lnTo>
                  <a:pt x="745" y="62"/>
                </a:lnTo>
                <a:lnTo>
                  <a:pt x="745" y="62"/>
                </a:lnTo>
                <a:lnTo>
                  <a:pt x="738" y="55"/>
                </a:lnTo>
                <a:lnTo>
                  <a:pt x="738" y="55"/>
                </a:lnTo>
                <a:lnTo>
                  <a:pt x="731" y="55"/>
                </a:lnTo>
                <a:lnTo>
                  <a:pt x="717" y="55"/>
                </a:lnTo>
                <a:lnTo>
                  <a:pt x="711" y="55"/>
                </a:lnTo>
                <a:lnTo>
                  <a:pt x="711" y="62"/>
                </a:lnTo>
                <a:lnTo>
                  <a:pt x="711" y="62"/>
                </a:lnTo>
                <a:lnTo>
                  <a:pt x="711" y="69"/>
                </a:lnTo>
                <a:lnTo>
                  <a:pt x="711" y="76"/>
                </a:lnTo>
                <a:lnTo>
                  <a:pt x="717" y="76"/>
                </a:lnTo>
                <a:lnTo>
                  <a:pt x="724" y="83"/>
                </a:lnTo>
                <a:lnTo>
                  <a:pt x="731" y="90"/>
                </a:lnTo>
                <a:lnTo>
                  <a:pt x="738" y="90"/>
                </a:lnTo>
                <a:lnTo>
                  <a:pt x="738" y="90"/>
                </a:lnTo>
                <a:close/>
                <a:moveTo>
                  <a:pt x="711" y="28"/>
                </a:moveTo>
                <a:lnTo>
                  <a:pt x="711" y="21"/>
                </a:lnTo>
                <a:lnTo>
                  <a:pt x="711" y="14"/>
                </a:lnTo>
                <a:lnTo>
                  <a:pt x="711" y="14"/>
                </a:lnTo>
                <a:lnTo>
                  <a:pt x="704" y="14"/>
                </a:lnTo>
                <a:lnTo>
                  <a:pt x="704" y="28"/>
                </a:lnTo>
                <a:lnTo>
                  <a:pt x="704" y="35"/>
                </a:lnTo>
                <a:lnTo>
                  <a:pt x="704" y="42"/>
                </a:lnTo>
                <a:lnTo>
                  <a:pt x="704" y="49"/>
                </a:lnTo>
                <a:lnTo>
                  <a:pt x="704" y="55"/>
                </a:lnTo>
                <a:lnTo>
                  <a:pt x="711" y="55"/>
                </a:lnTo>
                <a:lnTo>
                  <a:pt x="711" y="55"/>
                </a:lnTo>
                <a:lnTo>
                  <a:pt x="711" y="49"/>
                </a:lnTo>
                <a:lnTo>
                  <a:pt x="711" y="42"/>
                </a:lnTo>
                <a:lnTo>
                  <a:pt x="711" y="28"/>
                </a:lnTo>
                <a:close/>
                <a:moveTo>
                  <a:pt x="1310" y="1840"/>
                </a:moveTo>
                <a:lnTo>
                  <a:pt x="1317" y="1833"/>
                </a:lnTo>
                <a:lnTo>
                  <a:pt x="1317" y="1826"/>
                </a:lnTo>
                <a:lnTo>
                  <a:pt x="1324" y="1826"/>
                </a:lnTo>
                <a:lnTo>
                  <a:pt x="1331" y="1819"/>
                </a:lnTo>
                <a:lnTo>
                  <a:pt x="1331" y="1812"/>
                </a:lnTo>
                <a:lnTo>
                  <a:pt x="1338" y="1805"/>
                </a:lnTo>
                <a:lnTo>
                  <a:pt x="1338" y="1798"/>
                </a:lnTo>
                <a:lnTo>
                  <a:pt x="1345" y="1798"/>
                </a:lnTo>
                <a:lnTo>
                  <a:pt x="1345" y="1791"/>
                </a:lnTo>
                <a:lnTo>
                  <a:pt x="1352" y="1784"/>
                </a:lnTo>
                <a:lnTo>
                  <a:pt x="1359" y="1784"/>
                </a:lnTo>
                <a:lnTo>
                  <a:pt x="1372" y="1784"/>
                </a:lnTo>
                <a:lnTo>
                  <a:pt x="1379" y="1778"/>
                </a:lnTo>
                <a:lnTo>
                  <a:pt x="1379" y="1771"/>
                </a:lnTo>
                <a:lnTo>
                  <a:pt x="1386" y="1764"/>
                </a:lnTo>
                <a:lnTo>
                  <a:pt x="1386" y="1764"/>
                </a:lnTo>
                <a:lnTo>
                  <a:pt x="1393" y="1764"/>
                </a:lnTo>
                <a:lnTo>
                  <a:pt x="1400" y="1764"/>
                </a:lnTo>
                <a:lnTo>
                  <a:pt x="1407" y="1771"/>
                </a:lnTo>
                <a:lnTo>
                  <a:pt x="1414" y="1778"/>
                </a:lnTo>
                <a:lnTo>
                  <a:pt x="1407" y="1784"/>
                </a:lnTo>
                <a:lnTo>
                  <a:pt x="1400" y="1784"/>
                </a:lnTo>
                <a:lnTo>
                  <a:pt x="1386" y="1784"/>
                </a:lnTo>
                <a:lnTo>
                  <a:pt x="1379" y="1791"/>
                </a:lnTo>
                <a:lnTo>
                  <a:pt x="1379" y="1798"/>
                </a:lnTo>
                <a:lnTo>
                  <a:pt x="1379" y="1805"/>
                </a:lnTo>
                <a:lnTo>
                  <a:pt x="1379" y="1812"/>
                </a:lnTo>
                <a:lnTo>
                  <a:pt x="1379" y="1819"/>
                </a:lnTo>
                <a:lnTo>
                  <a:pt x="1386" y="1819"/>
                </a:lnTo>
                <a:lnTo>
                  <a:pt x="1386" y="1826"/>
                </a:lnTo>
                <a:lnTo>
                  <a:pt x="1386" y="1833"/>
                </a:lnTo>
                <a:lnTo>
                  <a:pt x="1386" y="1840"/>
                </a:lnTo>
                <a:lnTo>
                  <a:pt x="1414" y="1840"/>
                </a:lnTo>
                <a:lnTo>
                  <a:pt x="1448" y="1840"/>
                </a:lnTo>
                <a:lnTo>
                  <a:pt x="1476" y="1840"/>
                </a:lnTo>
                <a:lnTo>
                  <a:pt x="1503" y="1840"/>
                </a:lnTo>
                <a:lnTo>
                  <a:pt x="1538" y="1840"/>
                </a:lnTo>
                <a:lnTo>
                  <a:pt x="1566" y="1840"/>
                </a:lnTo>
                <a:lnTo>
                  <a:pt x="1593" y="1840"/>
                </a:lnTo>
                <a:lnTo>
                  <a:pt x="1621" y="1840"/>
                </a:lnTo>
                <a:lnTo>
                  <a:pt x="1655" y="1840"/>
                </a:lnTo>
                <a:lnTo>
                  <a:pt x="1683" y="1840"/>
                </a:lnTo>
                <a:lnTo>
                  <a:pt x="1710" y="1840"/>
                </a:lnTo>
                <a:lnTo>
                  <a:pt x="1745" y="1840"/>
                </a:lnTo>
                <a:lnTo>
                  <a:pt x="1772" y="1840"/>
                </a:lnTo>
                <a:lnTo>
                  <a:pt x="1800" y="1840"/>
                </a:lnTo>
                <a:lnTo>
                  <a:pt x="1828" y="1840"/>
                </a:lnTo>
                <a:lnTo>
                  <a:pt x="1862" y="1840"/>
                </a:lnTo>
                <a:lnTo>
                  <a:pt x="1890" y="1840"/>
                </a:lnTo>
                <a:lnTo>
                  <a:pt x="1917" y="1840"/>
                </a:lnTo>
                <a:lnTo>
                  <a:pt x="1952" y="1840"/>
                </a:lnTo>
                <a:lnTo>
                  <a:pt x="1979" y="1840"/>
                </a:lnTo>
                <a:lnTo>
                  <a:pt x="2007" y="1840"/>
                </a:lnTo>
                <a:lnTo>
                  <a:pt x="2034" y="1840"/>
                </a:lnTo>
                <a:lnTo>
                  <a:pt x="2069" y="1840"/>
                </a:lnTo>
                <a:lnTo>
                  <a:pt x="2096" y="1840"/>
                </a:lnTo>
                <a:lnTo>
                  <a:pt x="2124" y="1840"/>
                </a:lnTo>
                <a:lnTo>
                  <a:pt x="2158" y="1840"/>
                </a:lnTo>
                <a:lnTo>
                  <a:pt x="2186" y="1840"/>
                </a:lnTo>
                <a:lnTo>
                  <a:pt x="2214" y="1840"/>
                </a:lnTo>
                <a:lnTo>
                  <a:pt x="2241" y="1840"/>
                </a:lnTo>
                <a:lnTo>
                  <a:pt x="2276" y="1840"/>
                </a:lnTo>
                <a:lnTo>
                  <a:pt x="2303" y="1840"/>
                </a:lnTo>
                <a:lnTo>
                  <a:pt x="2331" y="1840"/>
                </a:lnTo>
                <a:lnTo>
                  <a:pt x="2365" y="1840"/>
                </a:lnTo>
                <a:lnTo>
                  <a:pt x="2393" y="1840"/>
                </a:lnTo>
                <a:lnTo>
                  <a:pt x="2420" y="1840"/>
                </a:lnTo>
                <a:lnTo>
                  <a:pt x="2448" y="1840"/>
                </a:lnTo>
                <a:lnTo>
                  <a:pt x="2483" y="1840"/>
                </a:lnTo>
                <a:lnTo>
                  <a:pt x="2510" y="1812"/>
                </a:lnTo>
                <a:lnTo>
                  <a:pt x="2538" y="1812"/>
                </a:lnTo>
                <a:lnTo>
                  <a:pt x="2565" y="1812"/>
                </a:lnTo>
                <a:lnTo>
                  <a:pt x="2600" y="1812"/>
                </a:lnTo>
                <a:lnTo>
                  <a:pt x="2627" y="1812"/>
                </a:lnTo>
                <a:lnTo>
                  <a:pt x="2655" y="1812"/>
                </a:lnTo>
                <a:lnTo>
                  <a:pt x="2689" y="1812"/>
                </a:lnTo>
                <a:lnTo>
                  <a:pt x="2717" y="1778"/>
                </a:lnTo>
                <a:lnTo>
                  <a:pt x="2717" y="1750"/>
                </a:lnTo>
                <a:lnTo>
                  <a:pt x="2717" y="1722"/>
                </a:lnTo>
                <a:lnTo>
                  <a:pt x="2717" y="1688"/>
                </a:lnTo>
                <a:lnTo>
                  <a:pt x="2745" y="1660"/>
                </a:lnTo>
                <a:lnTo>
                  <a:pt x="2745" y="1633"/>
                </a:lnTo>
                <a:lnTo>
                  <a:pt x="2745" y="1599"/>
                </a:lnTo>
                <a:lnTo>
                  <a:pt x="2745" y="1571"/>
                </a:lnTo>
                <a:lnTo>
                  <a:pt x="2772" y="1543"/>
                </a:lnTo>
                <a:lnTo>
                  <a:pt x="2772" y="1516"/>
                </a:lnTo>
                <a:lnTo>
                  <a:pt x="2772" y="1481"/>
                </a:lnTo>
                <a:lnTo>
                  <a:pt x="2772" y="1454"/>
                </a:lnTo>
                <a:lnTo>
                  <a:pt x="2807" y="1426"/>
                </a:lnTo>
                <a:lnTo>
                  <a:pt x="2807" y="1392"/>
                </a:lnTo>
                <a:lnTo>
                  <a:pt x="2807" y="1364"/>
                </a:lnTo>
                <a:lnTo>
                  <a:pt x="2807" y="1337"/>
                </a:lnTo>
                <a:lnTo>
                  <a:pt x="2834" y="1302"/>
                </a:lnTo>
                <a:lnTo>
                  <a:pt x="2834" y="1275"/>
                </a:lnTo>
                <a:lnTo>
                  <a:pt x="2834" y="1247"/>
                </a:lnTo>
                <a:lnTo>
                  <a:pt x="2834" y="1213"/>
                </a:lnTo>
                <a:lnTo>
                  <a:pt x="2862" y="1185"/>
                </a:lnTo>
                <a:lnTo>
                  <a:pt x="2862" y="1158"/>
                </a:lnTo>
                <a:lnTo>
                  <a:pt x="2862" y="1130"/>
                </a:lnTo>
                <a:lnTo>
                  <a:pt x="2862" y="1096"/>
                </a:lnTo>
                <a:lnTo>
                  <a:pt x="2862" y="1068"/>
                </a:lnTo>
                <a:lnTo>
                  <a:pt x="2862" y="1041"/>
                </a:lnTo>
                <a:lnTo>
                  <a:pt x="2862" y="1006"/>
                </a:lnTo>
                <a:lnTo>
                  <a:pt x="2862" y="979"/>
                </a:lnTo>
                <a:lnTo>
                  <a:pt x="2862" y="951"/>
                </a:lnTo>
                <a:lnTo>
                  <a:pt x="2862" y="917"/>
                </a:lnTo>
                <a:lnTo>
                  <a:pt x="2862" y="889"/>
                </a:lnTo>
                <a:lnTo>
                  <a:pt x="2862" y="861"/>
                </a:lnTo>
                <a:lnTo>
                  <a:pt x="2862" y="827"/>
                </a:lnTo>
                <a:lnTo>
                  <a:pt x="2862" y="799"/>
                </a:lnTo>
                <a:lnTo>
                  <a:pt x="2862" y="772"/>
                </a:lnTo>
                <a:lnTo>
                  <a:pt x="2862" y="744"/>
                </a:lnTo>
                <a:lnTo>
                  <a:pt x="2862" y="710"/>
                </a:lnTo>
                <a:lnTo>
                  <a:pt x="2862" y="682"/>
                </a:lnTo>
                <a:lnTo>
                  <a:pt x="2862" y="655"/>
                </a:lnTo>
                <a:lnTo>
                  <a:pt x="2862" y="620"/>
                </a:lnTo>
                <a:lnTo>
                  <a:pt x="2862" y="593"/>
                </a:lnTo>
                <a:lnTo>
                  <a:pt x="2862" y="565"/>
                </a:lnTo>
                <a:lnTo>
                  <a:pt x="2862" y="531"/>
                </a:lnTo>
                <a:lnTo>
                  <a:pt x="2862" y="503"/>
                </a:lnTo>
                <a:lnTo>
                  <a:pt x="2862" y="476"/>
                </a:lnTo>
                <a:lnTo>
                  <a:pt x="2862" y="448"/>
                </a:lnTo>
                <a:lnTo>
                  <a:pt x="2862" y="414"/>
                </a:lnTo>
                <a:lnTo>
                  <a:pt x="2862" y="386"/>
                </a:lnTo>
                <a:lnTo>
                  <a:pt x="2862" y="359"/>
                </a:lnTo>
                <a:lnTo>
                  <a:pt x="2862" y="324"/>
                </a:lnTo>
                <a:lnTo>
                  <a:pt x="2862" y="297"/>
                </a:lnTo>
                <a:lnTo>
                  <a:pt x="2862" y="269"/>
                </a:lnTo>
                <a:lnTo>
                  <a:pt x="2834" y="235"/>
                </a:lnTo>
                <a:lnTo>
                  <a:pt x="2834" y="207"/>
                </a:lnTo>
                <a:lnTo>
                  <a:pt x="2834" y="179"/>
                </a:lnTo>
                <a:lnTo>
                  <a:pt x="2834" y="166"/>
                </a:lnTo>
                <a:lnTo>
                  <a:pt x="2827" y="173"/>
                </a:lnTo>
                <a:lnTo>
                  <a:pt x="2820" y="173"/>
                </a:lnTo>
                <a:lnTo>
                  <a:pt x="2820" y="179"/>
                </a:lnTo>
                <a:lnTo>
                  <a:pt x="2820" y="186"/>
                </a:lnTo>
                <a:lnTo>
                  <a:pt x="2820" y="193"/>
                </a:lnTo>
                <a:lnTo>
                  <a:pt x="2820" y="200"/>
                </a:lnTo>
                <a:lnTo>
                  <a:pt x="2820" y="207"/>
                </a:lnTo>
                <a:lnTo>
                  <a:pt x="2827" y="214"/>
                </a:lnTo>
                <a:lnTo>
                  <a:pt x="2827" y="221"/>
                </a:lnTo>
                <a:lnTo>
                  <a:pt x="2827" y="228"/>
                </a:lnTo>
                <a:lnTo>
                  <a:pt x="2827" y="235"/>
                </a:lnTo>
                <a:lnTo>
                  <a:pt x="2827" y="235"/>
                </a:lnTo>
                <a:lnTo>
                  <a:pt x="2827" y="241"/>
                </a:lnTo>
                <a:lnTo>
                  <a:pt x="2820" y="248"/>
                </a:lnTo>
                <a:lnTo>
                  <a:pt x="2813" y="255"/>
                </a:lnTo>
                <a:lnTo>
                  <a:pt x="2807" y="255"/>
                </a:lnTo>
                <a:lnTo>
                  <a:pt x="2800" y="262"/>
                </a:lnTo>
                <a:lnTo>
                  <a:pt x="2793" y="269"/>
                </a:lnTo>
                <a:lnTo>
                  <a:pt x="2786" y="269"/>
                </a:lnTo>
                <a:lnTo>
                  <a:pt x="2779" y="276"/>
                </a:lnTo>
                <a:lnTo>
                  <a:pt x="2772" y="283"/>
                </a:lnTo>
                <a:lnTo>
                  <a:pt x="2772" y="290"/>
                </a:lnTo>
                <a:lnTo>
                  <a:pt x="2772" y="297"/>
                </a:lnTo>
                <a:lnTo>
                  <a:pt x="2772" y="303"/>
                </a:lnTo>
                <a:lnTo>
                  <a:pt x="2765" y="303"/>
                </a:lnTo>
                <a:lnTo>
                  <a:pt x="2758" y="310"/>
                </a:lnTo>
                <a:lnTo>
                  <a:pt x="2751" y="317"/>
                </a:lnTo>
                <a:lnTo>
                  <a:pt x="2745" y="324"/>
                </a:lnTo>
                <a:lnTo>
                  <a:pt x="2745" y="324"/>
                </a:lnTo>
                <a:lnTo>
                  <a:pt x="2738" y="331"/>
                </a:lnTo>
                <a:lnTo>
                  <a:pt x="2738" y="338"/>
                </a:lnTo>
                <a:lnTo>
                  <a:pt x="2738" y="345"/>
                </a:lnTo>
                <a:lnTo>
                  <a:pt x="2745" y="352"/>
                </a:lnTo>
                <a:lnTo>
                  <a:pt x="2751" y="359"/>
                </a:lnTo>
                <a:lnTo>
                  <a:pt x="2745" y="365"/>
                </a:lnTo>
                <a:lnTo>
                  <a:pt x="2745" y="359"/>
                </a:lnTo>
                <a:lnTo>
                  <a:pt x="2738" y="352"/>
                </a:lnTo>
                <a:lnTo>
                  <a:pt x="2731" y="352"/>
                </a:lnTo>
                <a:lnTo>
                  <a:pt x="2717" y="352"/>
                </a:lnTo>
                <a:lnTo>
                  <a:pt x="2703" y="352"/>
                </a:lnTo>
                <a:lnTo>
                  <a:pt x="2696" y="352"/>
                </a:lnTo>
                <a:lnTo>
                  <a:pt x="2689" y="359"/>
                </a:lnTo>
                <a:lnTo>
                  <a:pt x="2689" y="365"/>
                </a:lnTo>
                <a:lnTo>
                  <a:pt x="2689" y="372"/>
                </a:lnTo>
                <a:lnTo>
                  <a:pt x="2689" y="379"/>
                </a:lnTo>
                <a:lnTo>
                  <a:pt x="2696" y="386"/>
                </a:lnTo>
                <a:lnTo>
                  <a:pt x="2703" y="386"/>
                </a:lnTo>
                <a:lnTo>
                  <a:pt x="2710" y="386"/>
                </a:lnTo>
                <a:lnTo>
                  <a:pt x="2724" y="393"/>
                </a:lnTo>
                <a:lnTo>
                  <a:pt x="2731" y="393"/>
                </a:lnTo>
                <a:lnTo>
                  <a:pt x="2731" y="400"/>
                </a:lnTo>
                <a:lnTo>
                  <a:pt x="2738" y="407"/>
                </a:lnTo>
                <a:lnTo>
                  <a:pt x="2738" y="414"/>
                </a:lnTo>
                <a:lnTo>
                  <a:pt x="2738" y="421"/>
                </a:lnTo>
                <a:lnTo>
                  <a:pt x="2731" y="427"/>
                </a:lnTo>
                <a:lnTo>
                  <a:pt x="2724" y="434"/>
                </a:lnTo>
                <a:lnTo>
                  <a:pt x="2717" y="441"/>
                </a:lnTo>
                <a:lnTo>
                  <a:pt x="2710" y="441"/>
                </a:lnTo>
                <a:lnTo>
                  <a:pt x="2703" y="448"/>
                </a:lnTo>
                <a:lnTo>
                  <a:pt x="2703" y="455"/>
                </a:lnTo>
                <a:lnTo>
                  <a:pt x="2703" y="462"/>
                </a:lnTo>
                <a:lnTo>
                  <a:pt x="2696" y="469"/>
                </a:lnTo>
                <a:lnTo>
                  <a:pt x="2696" y="476"/>
                </a:lnTo>
                <a:lnTo>
                  <a:pt x="2696" y="476"/>
                </a:lnTo>
                <a:lnTo>
                  <a:pt x="2689" y="483"/>
                </a:lnTo>
                <a:lnTo>
                  <a:pt x="2689" y="489"/>
                </a:lnTo>
                <a:lnTo>
                  <a:pt x="2689" y="496"/>
                </a:lnTo>
                <a:lnTo>
                  <a:pt x="2682" y="503"/>
                </a:lnTo>
                <a:lnTo>
                  <a:pt x="2682" y="510"/>
                </a:lnTo>
                <a:lnTo>
                  <a:pt x="2682" y="517"/>
                </a:lnTo>
                <a:lnTo>
                  <a:pt x="2676" y="524"/>
                </a:lnTo>
                <a:lnTo>
                  <a:pt x="2676" y="531"/>
                </a:lnTo>
                <a:lnTo>
                  <a:pt x="2676" y="531"/>
                </a:lnTo>
                <a:lnTo>
                  <a:pt x="2669" y="538"/>
                </a:lnTo>
                <a:lnTo>
                  <a:pt x="2669" y="545"/>
                </a:lnTo>
                <a:lnTo>
                  <a:pt x="2669" y="551"/>
                </a:lnTo>
                <a:lnTo>
                  <a:pt x="2669" y="558"/>
                </a:lnTo>
                <a:lnTo>
                  <a:pt x="2669" y="565"/>
                </a:lnTo>
                <a:lnTo>
                  <a:pt x="2662" y="572"/>
                </a:lnTo>
                <a:lnTo>
                  <a:pt x="2662" y="579"/>
                </a:lnTo>
                <a:lnTo>
                  <a:pt x="2662" y="586"/>
                </a:lnTo>
                <a:lnTo>
                  <a:pt x="2662" y="593"/>
                </a:lnTo>
                <a:lnTo>
                  <a:pt x="2655" y="600"/>
                </a:lnTo>
                <a:lnTo>
                  <a:pt x="2655" y="600"/>
                </a:lnTo>
                <a:lnTo>
                  <a:pt x="2648" y="607"/>
                </a:lnTo>
                <a:lnTo>
                  <a:pt x="2648" y="613"/>
                </a:lnTo>
                <a:lnTo>
                  <a:pt x="2655" y="620"/>
                </a:lnTo>
                <a:lnTo>
                  <a:pt x="2662" y="627"/>
                </a:lnTo>
                <a:lnTo>
                  <a:pt x="2669" y="634"/>
                </a:lnTo>
                <a:lnTo>
                  <a:pt x="2676" y="634"/>
                </a:lnTo>
                <a:lnTo>
                  <a:pt x="2676" y="641"/>
                </a:lnTo>
                <a:lnTo>
                  <a:pt x="2682" y="648"/>
                </a:lnTo>
                <a:lnTo>
                  <a:pt x="2682" y="655"/>
                </a:lnTo>
                <a:lnTo>
                  <a:pt x="2676" y="662"/>
                </a:lnTo>
                <a:lnTo>
                  <a:pt x="2676" y="669"/>
                </a:lnTo>
                <a:lnTo>
                  <a:pt x="2669" y="675"/>
                </a:lnTo>
                <a:lnTo>
                  <a:pt x="2669" y="682"/>
                </a:lnTo>
                <a:lnTo>
                  <a:pt x="2676" y="682"/>
                </a:lnTo>
                <a:lnTo>
                  <a:pt x="2682" y="689"/>
                </a:lnTo>
                <a:lnTo>
                  <a:pt x="2689" y="696"/>
                </a:lnTo>
                <a:lnTo>
                  <a:pt x="2696" y="696"/>
                </a:lnTo>
                <a:lnTo>
                  <a:pt x="2703" y="703"/>
                </a:lnTo>
                <a:lnTo>
                  <a:pt x="2703" y="710"/>
                </a:lnTo>
                <a:lnTo>
                  <a:pt x="2703" y="717"/>
                </a:lnTo>
                <a:lnTo>
                  <a:pt x="2703" y="724"/>
                </a:lnTo>
                <a:lnTo>
                  <a:pt x="2696" y="731"/>
                </a:lnTo>
                <a:lnTo>
                  <a:pt x="2689" y="737"/>
                </a:lnTo>
                <a:lnTo>
                  <a:pt x="2682" y="737"/>
                </a:lnTo>
                <a:lnTo>
                  <a:pt x="2676" y="731"/>
                </a:lnTo>
                <a:lnTo>
                  <a:pt x="2669" y="724"/>
                </a:lnTo>
                <a:lnTo>
                  <a:pt x="2662" y="724"/>
                </a:lnTo>
                <a:lnTo>
                  <a:pt x="2655" y="724"/>
                </a:lnTo>
                <a:lnTo>
                  <a:pt x="2648" y="731"/>
                </a:lnTo>
                <a:lnTo>
                  <a:pt x="2648" y="737"/>
                </a:lnTo>
                <a:lnTo>
                  <a:pt x="2641" y="744"/>
                </a:lnTo>
                <a:lnTo>
                  <a:pt x="2641" y="751"/>
                </a:lnTo>
                <a:lnTo>
                  <a:pt x="2634" y="758"/>
                </a:lnTo>
                <a:lnTo>
                  <a:pt x="2627" y="758"/>
                </a:lnTo>
                <a:lnTo>
                  <a:pt x="2620" y="751"/>
                </a:lnTo>
                <a:lnTo>
                  <a:pt x="2614" y="744"/>
                </a:lnTo>
                <a:lnTo>
                  <a:pt x="2614" y="737"/>
                </a:lnTo>
                <a:lnTo>
                  <a:pt x="2607" y="731"/>
                </a:lnTo>
                <a:lnTo>
                  <a:pt x="2600" y="731"/>
                </a:lnTo>
                <a:lnTo>
                  <a:pt x="2600" y="724"/>
                </a:lnTo>
                <a:lnTo>
                  <a:pt x="2593" y="717"/>
                </a:lnTo>
                <a:lnTo>
                  <a:pt x="2593" y="710"/>
                </a:lnTo>
                <a:lnTo>
                  <a:pt x="2593" y="703"/>
                </a:lnTo>
                <a:lnTo>
                  <a:pt x="2593" y="696"/>
                </a:lnTo>
                <a:lnTo>
                  <a:pt x="2593" y="689"/>
                </a:lnTo>
                <a:lnTo>
                  <a:pt x="2593" y="682"/>
                </a:lnTo>
                <a:lnTo>
                  <a:pt x="2593" y="675"/>
                </a:lnTo>
                <a:lnTo>
                  <a:pt x="2586" y="669"/>
                </a:lnTo>
                <a:lnTo>
                  <a:pt x="2579" y="662"/>
                </a:lnTo>
                <a:lnTo>
                  <a:pt x="2572" y="655"/>
                </a:lnTo>
                <a:lnTo>
                  <a:pt x="2572" y="655"/>
                </a:lnTo>
                <a:lnTo>
                  <a:pt x="2565" y="655"/>
                </a:lnTo>
                <a:lnTo>
                  <a:pt x="2558" y="662"/>
                </a:lnTo>
                <a:lnTo>
                  <a:pt x="2551" y="669"/>
                </a:lnTo>
                <a:lnTo>
                  <a:pt x="2551" y="675"/>
                </a:lnTo>
                <a:lnTo>
                  <a:pt x="2545" y="682"/>
                </a:lnTo>
                <a:lnTo>
                  <a:pt x="2538" y="689"/>
                </a:lnTo>
                <a:lnTo>
                  <a:pt x="2538" y="696"/>
                </a:lnTo>
                <a:lnTo>
                  <a:pt x="2531" y="696"/>
                </a:lnTo>
                <a:lnTo>
                  <a:pt x="2524" y="703"/>
                </a:lnTo>
                <a:lnTo>
                  <a:pt x="2517" y="710"/>
                </a:lnTo>
                <a:lnTo>
                  <a:pt x="2510" y="717"/>
                </a:lnTo>
                <a:lnTo>
                  <a:pt x="2510" y="717"/>
                </a:lnTo>
                <a:lnTo>
                  <a:pt x="2503" y="724"/>
                </a:lnTo>
                <a:lnTo>
                  <a:pt x="2496" y="731"/>
                </a:lnTo>
                <a:lnTo>
                  <a:pt x="2489" y="737"/>
                </a:lnTo>
                <a:lnTo>
                  <a:pt x="2483" y="737"/>
                </a:lnTo>
                <a:lnTo>
                  <a:pt x="2476" y="744"/>
                </a:lnTo>
                <a:lnTo>
                  <a:pt x="2476" y="751"/>
                </a:lnTo>
                <a:lnTo>
                  <a:pt x="2469" y="751"/>
                </a:lnTo>
                <a:lnTo>
                  <a:pt x="2455" y="758"/>
                </a:lnTo>
                <a:lnTo>
                  <a:pt x="2448" y="765"/>
                </a:lnTo>
                <a:lnTo>
                  <a:pt x="2441" y="765"/>
                </a:lnTo>
                <a:lnTo>
                  <a:pt x="2441" y="772"/>
                </a:lnTo>
                <a:lnTo>
                  <a:pt x="2434" y="779"/>
                </a:lnTo>
                <a:lnTo>
                  <a:pt x="2427" y="786"/>
                </a:lnTo>
                <a:lnTo>
                  <a:pt x="2420" y="786"/>
                </a:lnTo>
                <a:lnTo>
                  <a:pt x="2414" y="793"/>
                </a:lnTo>
                <a:lnTo>
                  <a:pt x="2407" y="799"/>
                </a:lnTo>
                <a:lnTo>
                  <a:pt x="2400" y="799"/>
                </a:lnTo>
                <a:lnTo>
                  <a:pt x="2393" y="806"/>
                </a:lnTo>
                <a:lnTo>
                  <a:pt x="2386" y="813"/>
                </a:lnTo>
                <a:lnTo>
                  <a:pt x="2379" y="813"/>
                </a:lnTo>
                <a:lnTo>
                  <a:pt x="2372" y="820"/>
                </a:lnTo>
                <a:lnTo>
                  <a:pt x="2372" y="827"/>
                </a:lnTo>
                <a:lnTo>
                  <a:pt x="2365" y="834"/>
                </a:lnTo>
                <a:lnTo>
                  <a:pt x="2365" y="841"/>
                </a:lnTo>
                <a:lnTo>
                  <a:pt x="2365" y="848"/>
                </a:lnTo>
                <a:lnTo>
                  <a:pt x="2365" y="855"/>
                </a:lnTo>
                <a:lnTo>
                  <a:pt x="2365" y="855"/>
                </a:lnTo>
                <a:lnTo>
                  <a:pt x="2365" y="861"/>
                </a:lnTo>
                <a:lnTo>
                  <a:pt x="2358" y="868"/>
                </a:lnTo>
                <a:lnTo>
                  <a:pt x="2358" y="875"/>
                </a:lnTo>
                <a:lnTo>
                  <a:pt x="2358" y="882"/>
                </a:lnTo>
                <a:lnTo>
                  <a:pt x="2358" y="889"/>
                </a:lnTo>
                <a:lnTo>
                  <a:pt x="2358" y="896"/>
                </a:lnTo>
                <a:lnTo>
                  <a:pt x="2358" y="903"/>
                </a:lnTo>
                <a:lnTo>
                  <a:pt x="2358" y="910"/>
                </a:lnTo>
                <a:lnTo>
                  <a:pt x="2352" y="917"/>
                </a:lnTo>
                <a:lnTo>
                  <a:pt x="2352" y="923"/>
                </a:lnTo>
                <a:lnTo>
                  <a:pt x="2352" y="930"/>
                </a:lnTo>
                <a:lnTo>
                  <a:pt x="2352" y="930"/>
                </a:lnTo>
                <a:lnTo>
                  <a:pt x="2352" y="937"/>
                </a:lnTo>
                <a:lnTo>
                  <a:pt x="2352" y="944"/>
                </a:lnTo>
                <a:lnTo>
                  <a:pt x="2352" y="951"/>
                </a:lnTo>
                <a:lnTo>
                  <a:pt x="2345" y="958"/>
                </a:lnTo>
                <a:lnTo>
                  <a:pt x="2345" y="965"/>
                </a:lnTo>
                <a:lnTo>
                  <a:pt x="2345" y="972"/>
                </a:lnTo>
                <a:lnTo>
                  <a:pt x="2345" y="979"/>
                </a:lnTo>
                <a:lnTo>
                  <a:pt x="2345" y="985"/>
                </a:lnTo>
                <a:lnTo>
                  <a:pt x="2345" y="992"/>
                </a:lnTo>
                <a:lnTo>
                  <a:pt x="2345" y="999"/>
                </a:lnTo>
                <a:lnTo>
                  <a:pt x="2345" y="1006"/>
                </a:lnTo>
                <a:lnTo>
                  <a:pt x="2345" y="1006"/>
                </a:lnTo>
                <a:lnTo>
                  <a:pt x="2345" y="1013"/>
                </a:lnTo>
                <a:lnTo>
                  <a:pt x="2345" y="1020"/>
                </a:lnTo>
                <a:lnTo>
                  <a:pt x="2345" y="1027"/>
                </a:lnTo>
                <a:lnTo>
                  <a:pt x="2345" y="1034"/>
                </a:lnTo>
                <a:lnTo>
                  <a:pt x="2345" y="1041"/>
                </a:lnTo>
                <a:lnTo>
                  <a:pt x="2345" y="1047"/>
                </a:lnTo>
                <a:lnTo>
                  <a:pt x="2352" y="1054"/>
                </a:lnTo>
                <a:lnTo>
                  <a:pt x="2352" y="1061"/>
                </a:lnTo>
                <a:lnTo>
                  <a:pt x="2358" y="1061"/>
                </a:lnTo>
                <a:lnTo>
                  <a:pt x="2358" y="1068"/>
                </a:lnTo>
                <a:lnTo>
                  <a:pt x="2358" y="1075"/>
                </a:lnTo>
                <a:lnTo>
                  <a:pt x="2358" y="1082"/>
                </a:lnTo>
                <a:lnTo>
                  <a:pt x="2358" y="1089"/>
                </a:lnTo>
                <a:lnTo>
                  <a:pt x="2352" y="1096"/>
                </a:lnTo>
                <a:lnTo>
                  <a:pt x="2345" y="1103"/>
                </a:lnTo>
                <a:lnTo>
                  <a:pt x="2338" y="1103"/>
                </a:lnTo>
                <a:lnTo>
                  <a:pt x="2324" y="1103"/>
                </a:lnTo>
                <a:lnTo>
                  <a:pt x="2317" y="1103"/>
                </a:lnTo>
                <a:lnTo>
                  <a:pt x="2303" y="1103"/>
                </a:lnTo>
                <a:lnTo>
                  <a:pt x="2296" y="1103"/>
                </a:lnTo>
                <a:lnTo>
                  <a:pt x="2289" y="1103"/>
                </a:lnTo>
                <a:lnTo>
                  <a:pt x="2276" y="1103"/>
                </a:lnTo>
                <a:lnTo>
                  <a:pt x="2269" y="1103"/>
                </a:lnTo>
                <a:lnTo>
                  <a:pt x="2255" y="1103"/>
                </a:lnTo>
                <a:lnTo>
                  <a:pt x="2248" y="1103"/>
                </a:lnTo>
                <a:lnTo>
                  <a:pt x="2241" y="1103"/>
                </a:lnTo>
                <a:lnTo>
                  <a:pt x="2227" y="1103"/>
                </a:lnTo>
                <a:lnTo>
                  <a:pt x="2221" y="1109"/>
                </a:lnTo>
                <a:lnTo>
                  <a:pt x="2214" y="1109"/>
                </a:lnTo>
                <a:lnTo>
                  <a:pt x="2200" y="1116"/>
                </a:lnTo>
                <a:lnTo>
                  <a:pt x="2193" y="1116"/>
                </a:lnTo>
                <a:lnTo>
                  <a:pt x="2186" y="1123"/>
                </a:lnTo>
                <a:lnTo>
                  <a:pt x="2179" y="1130"/>
                </a:lnTo>
                <a:lnTo>
                  <a:pt x="2179" y="1130"/>
                </a:lnTo>
                <a:lnTo>
                  <a:pt x="2179" y="1137"/>
                </a:lnTo>
                <a:lnTo>
                  <a:pt x="2179" y="1144"/>
                </a:lnTo>
                <a:lnTo>
                  <a:pt x="2179" y="1151"/>
                </a:lnTo>
                <a:lnTo>
                  <a:pt x="2172" y="1158"/>
                </a:lnTo>
                <a:lnTo>
                  <a:pt x="2172" y="1165"/>
                </a:lnTo>
                <a:lnTo>
                  <a:pt x="2165" y="1171"/>
                </a:lnTo>
                <a:lnTo>
                  <a:pt x="2152" y="1171"/>
                </a:lnTo>
                <a:lnTo>
                  <a:pt x="2145" y="1178"/>
                </a:lnTo>
                <a:lnTo>
                  <a:pt x="2138" y="1178"/>
                </a:lnTo>
                <a:lnTo>
                  <a:pt x="2131" y="1178"/>
                </a:lnTo>
                <a:lnTo>
                  <a:pt x="2117" y="1185"/>
                </a:lnTo>
                <a:lnTo>
                  <a:pt x="2110" y="1185"/>
                </a:lnTo>
                <a:lnTo>
                  <a:pt x="2103" y="1192"/>
                </a:lnTo>
                <a:lnTo>
                  <a:pt x="2103" y="1199"/>
                </a:lnTo>
                <a:lnTo>
                  <a:pt x="2110" y="1206"/>
                </a:lnTo>
                <a:lnTo>
                  <a:pt x="2110" y="1213"/>
                </a:lnTo>
                <a:lnTo>
                  <a:pt x="2110" y="1213"/>
                </a:lnTo>
                <a:lnTo>
                  <a:pt x="2103" y="1220"/>
                </a:lnTo>
                <a:lnTo>
                  <a:pt x="2096" y="1227"/>
                </a:lnTo>
                <a:lnTo>
                  <a:pt x="2083" y="1227"/>
                </a:lnTo>
                <a:lnTo>
                  <a:pt x="2076" y="1233"/>
                </a:lnTo>
                <a:lnTo>
                  <a:pt x="2069" y="1233"/>
                </a:lnTo>
                <a:lnTo>
                  <a:pt x="2055" y="1233"/>
                </a:lnTo>
                <a:lnTo>
                  <a:pt x="2048" y="1233"/>
                </a:lnTo>
                <a:lnTo>
                  <a:pt x="2041" y="1240"/>
                </a:lnTo>
                <a:lnTo>
                  <a:pt x="2034" y="1240"/>
                </a:lnTo>
                <a:lnTo>
                  <a:pt x="2034" y="1247"/>
                </a:lnTo>
                <a:lnTo>
                  <a:pt x="2041" y="1254"/>
                </a:lnTo>
                <a:lnTo>
                  <a:pt x="2055" y="1254"/>
                </a:lnTo>
                <a:lnTo>
                  <a:pt x="2062" y="1261"/>
                </a:lnTo>
                <a:lnTo>
                  <a:pt x="2069" y="1261"/>
                </a:lnTo>
                <a:lnTo>
                  <a:pt x="2069" y="1268"/>
                </a:lnTo>
                <a:lnTo>
                  <a:pt x="2076" y="1275"/>
                </a:lnTo>
                <a:lnTo>
                  <a:pt x="2083" y="1282"/>
                </a:lnTo>
                <a:lnTo>
                  <a:pt x="2083" y="1282"/>
                </a:lnTo>
                <a:lnTo>
                  <a:pt x="2090" y="1289"/>
                </a:lnTo>
                <a:lnTo>
                  <a:pt x="2090" y="1295"/>
                </a:lnTo>
                <a:lnTo>
                  <a:pt x="2090" y="1302"/>
                </a:lnTo>
                <a:lnTo>
                  <a:pt x="2096" y="1309"/>
                </a:lnTo>
                <a:lnTo>
                  <a:pt x="2103" y="1316"/>
                </a:lnTo>
                <a:lnTo>
                  <a:pt x="2103" y="1323"/>
                </a:lnTo>
                <a:lnTo>
                  <a:pt x="2110" y="1323"/>
                </a:lnTo>
                <a:lnTo>
                  <a:pt x="2110" y="1330"/>
                </a:lnTo>
                <a:lnTo>
                  <a:pt x="2110" y="1337"/>
                </a:lnTo>
                <a:lnTo>
                  <a:pt x="2103" y="1344"/>
                </a:lnTo>
                <a:lnTo>
                  <a:pt x="2096" y="1344"/>
                </a:lnTo>
                <a:lnTo>
                  <a:pt x="2090" y="1344"/>
                </a:lnTo>
                <a:lnTo>
                  <a:pt x="2083" y="1337"/>
                </a:lnTo>
                <a:lnTo>
                  <a:pt x="2076" y="1330"/>
                </a:lnTo>
                <a:lnTo>
                  <a:pt x="2069" y="1330"/>
                </a:lnTo>
                <a:lnTo>
                  <a:pt x="2055" y="1330"/>
                </a:lnTo>
                <a:lnTo>
                  <a:pt x="2048" y="1330"/>
                </a:lnTo>
                <a:lnTo>
                  <a:pt x="2041" y="1337"/>
                </a:lnTo>
                <a:lnTo>
                  <a:pt x="2034" y="1337"/>
                </a:lnTo>
                <a:lnTo>
                  <a:pt x="2027" y="1344"/>
                </a:lnTo>
                <a:lnTo>
                  <a:pt x="2021" y="1351"/>
                </a:lnTo>
                <a:lnTo>
                  <a:pt x="2014" y="1351"/>
                </a:lnTo>
                <a:lnTo>
                  <a:pt x="2007" y="1357"/>
                </a:lnTo>
                <a:lnTo>
                  <a:pt x="2000" y="1357"/>
                </a:lnTo>
                <a:lnTo>
                  <a:pt x="1986" y="1357"/>
                </a:lnTo>
                <a:lnTo>
                  <a:pt x="1979" y="1357"/>
                </a:lnTo>
                <a:lnTo>
                  <a:pt x="1965" y="1357"/>
                </a:lnTo>
                <a:lnTo>
                  <a:pt x="1959" y="1357"/>
                </a:lnTo>
                <a:lnTo>
                  <a:pt x="1945" y="1357"/>
                </a:lnTo>
                <a:lnTo>
                  <a:pt x="1945" y="1364"/>
                </a:lnTo>
                <a:lnTo>
                  <a:pt x="1938" y="1371"/>
                </a:lnTo>
                <a:lnTo>
                  <a:pt x="1931" y="1378"/>
                </a:lnTo>
                <a:lnTo>
                  <a:pt x="1924" y="1378"/>
                </a:lnTo>
                <a:lnTo>
                  <a:pt x="1924" y="1385"/>
                </a:lnTo>
                <a:lnTo>
                  <a:pt x="1917" y="1392"/>
                </a:lnTo>
                <a:lnTo>
                  <a:pt x="1910" y="1399"/>
                </a:lnTo>
                <a:lnTo>
                  <a:pt x="1903" y="1399"/>
                </a:lnTo>
                <a:lnTo>
                  <a:pt x="1890" y="1406"/>
                </a:lnTo>
                <a:lnTo>
                  <a:pt x="1883" y="1406"/>
                </a:lnTo>
                <a:lnTo>
                  <a:pt x="1876" y="1399"/>
                </a:lnTo>
                <a:lnTo>
                  <a:pt x="1862" y="1399"/>
                </a:lnTo>
                <a:lnTo>
                  <a:pt x="1855" y="1399"/>
                </a:lnTo>
                <a:lnTo>
                  <a:pt x="1848" y="1392"/>
                </a:lnTo>
                <a:lnTo>
                  <a:pt x="1841" y="1385"/>
                </a:lnTo>
                <a:lnTo>
                  <a:pt x="1834" y="1385"/>
                </a:lnTo>
                <a:lnTo>
                  <a:pt x="1828" y="1378"/>
                </a:lnTo>
                <a:lnTo>
                  <a:pt x="1821" y="1371"/>
                </a:lnTo>
                <a:lnTo>
                  <a:pt x="1814" y="1371"/>
                </a:lnTo>
                <a:lnTo>
                  <a:pt x="1807" y="1364"/>
                </a:lnTo>
                <a:lnTo>
                  <a:pt x="1807" y="1357"/>
                </a:lnTo>
                <a:lnTo>
                  <a:pt x="1800" y="1357"/>
                </a:lnTo>
                <a:lnTo>
                  <a:pt x="1786" y="1357"/>
                </a:lnTo>
                <a:lnTo>
                  <a:pt x="1779" y="1357"/>
                </a:lnTo>
                <a:lnTo>
                  <a:pt x="1772" y="1364"/>
                </a:lnTo>
                <a:lnTo>
                  <a:pt x="1765" y="1357"/>
                </a:lnTo>
                <a:lnTo>
                  <a:pt x="1765" y="1351"/>
                </a:lnTo>
                <a:lnTo>
                  <a:pt x="1759" y="1344"/>
                </a:lnTo>
                <a:lnTo>
                  <a:pt x="1759" y="1337"/>
                </a:lnTo>
                <a:lnTo>
                  <a:pt x="1759" y="1330"/>
                </a:lnTo>
                <a:lnTo>
                  <a:pt x="1752" y="1323"/>
                </a:lnTo>
                <a:lnTo>
                  <a:pt x="1745" y="1316"/>
                </a:lnTo>
                <a:lnTo>
                  <a:pt x="1738" y="1316"/>
                </a:lnTo>
                <a:lnTo>
                  <a:pt x="1724" y="1316"/>
                </a:lnTo>
                <a:lnTo>
                  <a:pt x="1717" y="1309"/>
                </a:lnTo>
                <a:lnTo>
                  <a:pt x="1710" y="1316"/>
                </a:lnTo>
                <a:lnTo>
                  <a:pt x="1703" y="1316"/>
                </a:lnTo>
                <a:lnTo>
                  <a:pt x="1697" y="1323"/>
                </a:lnTo>
                <a:lnTo>
                  <a:pt x="1690" y="1330"/>
                </a:lnTo>
                <a:lnTo>
                  <a:pt x="1683" y="1337"/>
                </a:lnTo>
                <a:lnTo>
                  <a:pt x="1676" y="1337"/>
                </a:lnTo>
                <a:lnTo>
                  <a:pt x="1669" y="1337"/>
                </a:lnTo>
                <a:lnTo>
                  <a:pt x="1683" y="1330"/>
                </a:lnTo>
                <a:lnTo>
                  <a:pt x="1697" y="1330"/>
                </a:lnTo>
                <a:lnTo>
                  <a:pt x="1703" y="1323"/>
                </a:lnTo>
                <a:lnTo>
                  <a:pt x="1710" y="1323"/>
                </a:lnTo>
                <a:lnTo>
                  <a:pt x="1710" y="1309"/>
                </a:lnTo>
                <a:lnTo>
                  <a:pt x="1710" y="1302"/>
                </a:lnTo>
                <a:lnTo>
                  <a:pt x="1703" y="1302"/>
                </a:lnTo>
                <a:lnTo>
                  <a:pt x="1703" y="1295"/>
                </a:lnTo>
                <a:lnTo>
                  <a:pt x="1697" y="1289"/>
                </a:lnTo>
                <a:lnTo>
                  <a:pt x="1690" y="1282"/>
                </a:lnTo>
                <a:lnTo>
                  <a:pt x="1683" y="1282"/>
                </a:lnTo>
                <a:lnTo>
                  <a:pt x="1676" y="1275"/>
                </a:lnTo>
                <a:lnTo>
                  <a:pt x="1676" y="1268"/>
                </a:lnTo>
                <a:lnTo>
                  <a:pt x="1669" y="1261"/>
                </a:lnTo>
                <a:lnTo>
                  <a:pt x="1669" y="1254"/>
                </a:lnTo>
                <a:lnTo>
                  <a:pt x="1662" y="1247"/>
                </a:lnTo>
                <a:lnTo>
                  <a:pt x="1662" y="1247"/>
                </a:lnTo>
                <a:lnTo>
                  <a:pt x="1655" y="1240"/>
                </a:lnTo>
                <a:lnTo>
                  <a:pt x="1648" y="1233"/>
                </a:lnTo>
                <a:lnTo>
                  <a:pt x="1641" y="1227"/>
                </a:lnTo>
                <a:lnTo>
                  <a:pt x="1641" y="1220"/>
                </a:lnTo>
                <a:lnTo>
                  <a:pt x="1634" y="1213"/>
                </a:lnTo>
                <a:lnTo>
                  <a:pt x="1634" y="1206"/>
                </a:lnTo>
                <a:lnTo>
                  <a:pt x="1634" y="1199"/>
                </a:lnTo>
                <a:lnTo>
                  <a:pt x="1628" y="1192"/>
                </a:lnTo>
                <a:lnTo>
                  <a:pt x="1621" y="1192"/>
                </a:lnTo>
                <a:lnTo>
                  <a:pt x="1614" y="1192"/>
                </a:lnTo>
                <a:lnTo>
                  <a:pt x="1607" y="1199"/>
                </a:lnTo>
                <a:lnTo>
                  <a:pt x="1600" y="1206"/>
                </a:lnTo>
                <a:lnTo>
                  <a:pt x="1600" y="1213"/>
                </a:lnTo>
                <a:lnTo>
                  <a:pt x="1593" y="1220"/>
                </a:lnTo>
                <a:lnTo>
                  <a:pt x="1600" y="1227"/>
                </a:lnTo>
                <a:lnTo>
                  <a:pt x="1600" y="1233"/>
                </a:lnTo>
                <a:lnTo>
                  <a:pt x="1607" y="1240"/>
                </a:lnTo>
                <a:lnTo>
                  <a:pt x="1607" y="1240"/>
                </a:lnTo>
                <a:lnTo>
                  <a:pt x="1607" y="1247"/>
                </a:lnTo>
                <a:lnTo>
                  <a:pt x="1614" y="1254"/>
                </a:lnTo>
                <a:lnTo>
                  <a:pt x="1614" y="1261"/>
                </a:lnTo>
                <a:lnTo>
                  <a:pt x="1614" y="1268"/>
                </a:lnTo>
                <a:lnTo>
                  <a:pt x="1614" y="1275"/>
                </a:lnTo>
                <a:lnTo>
                  <a:pt x="1621" y="1282"/>
                </a:lnTo>
                <a:lnTo>
                  <a:pt x="1628" y="1282"/>
                </a:lnTo>
                <a:lnTo>
                  <a:pt x="1634" y="1289"/>
                </a:lnTo>
                <a:lnTo>
                  <a:pt x="1634" y="1295"/>
                </a:lnTo>
                <a:lnTo>
                  <a:pt x="1634" y="1302"/>
                </a:lnTo>
                <a:lnTo>
                  <a:pt x="1634" y="1309"/>
                </a:lnTo>
                <a:lnTo>
                  <a:pt x="1634" y="1316"/>
                </a:lnTo>
                <a:lnTo>
                  <a:pt x="1628" y="1323"/>
                </a:lnTo>
                <a:lnTo>
                  <a:pt x="1628" y="1330"/>
                </a:lnTo>
                <a:lnTo>
                  <a:pt x="1621" y="1330"/>
                </a:lnTo>
                <a:lnTo>
                  <a:pt x="1614" y="1323"/>
                </a:lnTo>
                <a:lnTo>
                  <a:pt x="1607" y="1316"/>
                </a:lnTo>
                <a:lnTo>
                  <a:pt x="1600" y="1309"/>
                </a:lnTo>
                <a:lnTo>
                  <a:pt x="1593" y="1309"/>
                </a:lnTo>
                <a:lnTo>
                  <a:pt x="1586" y="1309"/>
                </a:lnTo>
                <a:lnTo>
                  <a:pt x="1572" y="1302"/>
                </a:lnTo>
                <a:lnTo>
                  <a:pt x="1566" y="1302"/>
                </a:lnTo>
                <a:lnTo>
                  <a:pt x="1559" y="1309"/>
                </a:lnTo>
                <a:lnTo>
                  <a:pt x="1559" y="1316"/>
                </a:lnTo>
                <a:lnTo>
                  <a:pt x="1559" y="1323"/>
                </a:lnTo>
                <a:lnTo>
                  <a:pt x="1559" y="1330"/>
                </a:lnTo>
                <a:lnTo>
                  <a:pt x="1559" y="1330"/>
                </a:lnTo>
                <a:lnTo>
                  <a:pt x="1559" y="1337"/>
                </a:lnTo>
                <a:lnTo>
                  <a:pt x="1552" y="1344"/>
                </a:lnTo>
                <a:lnTo>
                  <a:pt x="1552" y="1351"/>
                </a:lnTo>
                <a:lnTo>
                  <a:pt x="1552" y="1357"/>
                </a:lnTo>
                <a:lnTo>
                  <a:pt x="1559" y="1364"/>
                </a:lnTo>
                <a:lnTo>
                  <a:pt x="1559" y="1371"/>
                </a:lnTo>
                <a:lnTo>
                  <a:pt x="1566" y="1371"/>
                </a:lnTo>
                <a:lnTo>
                  <a:pt x="1572" y="1364"/>
                </a:lnTo>
                <a:lnTo>
                  <a:pt x="1579" y="1357"/>
                </a:lnTo>
                <a:lnTo>
                  <a:pt x="1593" y="1357"/>
                </a:lnTo>
                <a:lnTo>
                  <a:pt x="1600" y="1357"/>
                </a:lnTo>
                <a:lnTo>
                  <a:pt x="1614" y="1357"/>
                </a:lnTo>
                <a:lnTo>
                  <a:pt x="1621" y="1357"/>
                </a:lnTo>
                <a:lnTo>
                  <a:pt x="1628" y="1357"/>
                </a:lnTo>
                <a:lnTo>
                  <a:pt x="1628" y="1364"/>
                </a:lnTo>
                <a:lnTo>
                  <a:pt x="1634" y="1371"/>
                </a:lnTo>
                <a:lnTo>
                  <a:pt x="1641" y="1378"/>
                </a:lnTo>
                <a:lnTo>
                  <a:pt x="1641" y="1385"/>
                </a:lnTo>
                <a:lnTo>
                  <a:pt x="1648" y="1392"/>
                </a:lnTo>
                <a:lnTo>
                  <a:pt x="1655" y="1392"/>
                </a:lnTo>
                <a:lnTo>
                  <a:pt x="1655" y="1399"/>
                </a:lnTo>
                <a:lnTo>
                  <a:pt x="1662" y="1406"/>
                </a:lnTo>
                <a:lnTo>
                  <a:pt x="1662" y="1413"/>
                </a:lnTo>
                <a:lnTo>
                  <a:pt x="1669" y="1419"/>
                </a:lnTo>
                <a:lnTo>
                  <a:pt x="1676" y="1426"/>
                </a:lnTo>
                <a:lnTo>
                  <a:pt x="1676" y="1426"/>
                </a:lnTo>
                <a:lnTo>
                  <a:pt x="1683" y="1433"/>
                </a:lnTo>
                <a:lnTo>
                  <a:pt x="1690" y="1440"/>
                </a:lnTo>
                <a:lnTo>
                  <a:pt x="1690" y="1447"/>
                </a:lnTo>
                <a:lnTo>
                  <a:pt x="1697" y="1454"/>
                </a:lnTo>
                <a:lnTo>
                  <a:pt x="1697" y="1461"/>
                </a:lnTo>
                <a:lnTo>
                  <a:pt x="1703" y="1461"/>
                </a:lnTo>
                <a:lnTo>
                  <a:pt x="1710" y="1468"/>
                </a:lnTo>
                <a:lnTo>
                  <a:pt x="1710" y="1475"/>
                </a:lnTo>
                <a:lnTo>
                  <a:pt x="1717" y="1481"/>
                </a:lnTo>
                <a:lnTo>
                  <a:pt x="1717" y="1488"/>
                </a:lnTo>
                <a:lnTo>
                  <a:pt x="1724" y="1495"/>
                </a:lnTo>
                <a:lnTo>
                  <a:pt x="1731" y="1495"/>
                </a:lnTo>
                <a:lnTo>
                  <a:pt x="1731" y="1502"/>
                </a:lnTo>
                <a:lnTo>
                  <a:pt x="1738" y="1509"/>
                </a:lnTo>
                <a:lnTo>
                  <a:pt x="1745" y="1516"/>
                </a:lnTo>
                <a:lnTo>
                  <a:pt x="1752" y="1523"/>
                </a:lnTo>
                <a:lnTo>
                  <a:pt x="1752" y="1530"/>
                </a:lnTo>
                <a:lnTo>
                  <a:pt x="1759" y="1537"/>
                </a:lnTo>
                <a:lnTo>
                  <a:pt x="1765" y="1537"/>
                </a:lnTo>
                <a:lnTo>
                  <a:pt x="1772" y="1543"/>
                </a:lnTo>
                <a:lnTo>
                  <a:pt x="1779" y="1537"/>
                </a:lnTo>
                <a:lnTo>
                  <a:pt x="1786" y="1537"/>
                </a:lnTo>
                <a:lnTo>
                  <a:pt x="1786" y="1530"/>
                </a:lnTo>
                <a:lnTo>
                  <a:pt x="1793" y="1523"/>
                </a:lnTo>
                <a:lnTo>
                  <a:pt x="1800" y="1516"/>
                </a:lnTo>
                <a:lnTo>
                  <a:pt x="1800" y="1509"/>
                </a:lnTo>
                <a:lnTo>
                  <a:pt x="1807" y="1502"/>
                </a:lnTo>
                <a:lnTo>
                  <a:pt x="1814" y="1502"/>
                </a:lnTo>
                <a:lnTo>
                  <a:pt x="1828" y="1495"/>
                </a:lnTo>
                <a:lnTo>
                  <a:pt x="1834" y="1502"/>
                </a:lnTo>
                <a:lnTo>
                  <a:pt x="1841" y="1502"/>
                </a:lnTo>
                <a:lnTo>
                  <a:pt x="1848" y="1509"/>
                </a:lnTo>
                <a:lnTo>
                  <a:pt x="1855" y="1509"/>
                </a:lnTo>
                <a:lnTo>
                  <a:pt x="1855" y="1516"/>
                </a:lnTo>
                <a:lnTo>
                  <a:pt x="1848" y="1523"/>
                </a:lnTo>
                <a:lnTo>
                  <a:pt x="1834" y="1523"/>
                </a:lnTo>
                <a:lnTo>
                  <a:pt x="1828" y="1523"/>
                </a:lnTo>
                <a:lnTo>
                  <a:pt x="1821" y="1523"/>
                </a:lnTo>
                <a:lnTo>
                  <a:pt x="1807" y="1523"/>
                </a:lnTo>
                <a:lnTo>
                  <a:pt x="1800" y="1523"/>
                </a:lnTo>
                <a:lnTo>
                  <a:pt x="1793" y="1523"/>
                </a:lnTo>
                <a:lnTo>
                  <a:pt x="1786" y="1530"/>
                </a:lnTo>
                <a:lnTo>
                  <a:pt x="1779" y="1537"/>
                </a:lnTo>
                <a:lnTo>
                  <a:pt x="1772" y="1543"/>
                </a:lnTo>
                <a:lnTo>
                  <a:pt x="1772" y="1550"/>
                </a:lnTo>
                <a:lnTo>
                  <a:pt x="1759" y="1550"/>
                </a:lnTo>
                <a:lnTo>
                  <a:pt x="1752" y="1557"/>
                </a:lnTo>
                <a:lnTo>
                  <a:pt x="1745" y="1557"/>
                </a:lnTo>
                <a:lnTo>
                  <a:pt x="1738" y="1564"/>
                </a:lnTo>
                <a:lnTo>
                  <a:pt x="1731" y="1564"/>
                </a:lnTo>
                <a:lnTo>
                  <a:pt x="1724" y="1571"/>
                </a:lnTo>
                <a:lnTo>
                  <a:pt x="1710" y="1571"/>
                </a:lnTo>
                <a:lnTo>
                  <a:pt x="1703" y="1578"/>
                </a:lnTo>
                <a:lnTo>
                  <a:pt x="1697" y="1578"/>
                </a:lnTo>
                <a:lnTo>
                  <a:pt x="1690" y="1578"/>
                </a:lnTo>
                <a:lnTo>
                  <a:pt x="1676" y="1585"/>
                </a:lnTo>
                <a:lnTo>
                  <a:pt x="1676" y="1592"/>
                </a:lnTo>
                <a:lnTo>
                  <a:pt x="1669" y="1592"/>
                </a:lnTo>
                <a:lnTo>
                  <a:pt x="1662" y="1599"/>
                </a:lnTo>
                <a:lnTo>
                  <a:pt x="1655" y="1605"/>
                </a:lnTo>
                <a:lnTo>
                  <a:pt x="1648" y="1605"/>
                </a:lnTo>
                <a:lnTo>
                  <a:pt x="1641" y="1612"/>
                </a:lnTo>
                <a:lnTo>
                  <a:pt x="1628" y="1612"/>
                </a:lnTo>
                <a:lnTo>
                  <a:pt x="1621" y="1612"/>
                </a:lnTo>
                <a:lnTo>
                  <a:pt x="1607" y="1612"/>
                </a:lnTo>
                <a:lnTo>
                  <a:pt x="1600" y="1612"/>
                </a:lnTo>
                <a:lnTo>
                  <a:pt x="1593" y="1619"/>
                </a:lnTo>
                <a:lnTo>
                  <a:pt x="1586" y="1619"/>
                </a:lnTo>
                <a:lnTo>
                  <a:pt x="1579" y="1626"/>
                </a:lnTo>
                <a:lnTo>
                  <a:pt x="1572" y="1633"/>
                </a:lnTo>
                <a:lnTo>
                  <a:pt x="1566" y="1633"/>
                </a:lnTo>
                <a:lnTo>
                  <a:pt x="1559" y="1640"/>
                </a:lnTo>
                <a:lnTo>
                  <a:pt x="1545" y="1640"/>
                </a:lnTo>
                <a:lnTo>
                  <a:pt x="1538" y="1647"/>
                </a:lnTo>
                <a:lnTo>
                  <a:pt x="1531" y="1647"/>
                </a:lnTo>
                <a:lnTo>
                  <a:pt x="1524" y="1654"/>
                </a:lnTo>
                <a:lnTo>
                  <a:pt x="1517" y="1660"/>
                </a:lnTo>
                <a:lnTo>
                  <a:pt x="1510" y="1660"/>
                </a:lnTo>
                <a:lnTo>
                  <a:pt x="1503" y="1667"/>
                </a:lnTo>
                <a:lnTo>
                  <a:pt x="1503" y="1674"/>
                </a:lnTo>
                <a:lnTo>
                  <a:pt x="1497" y="1681"/>
                </a:lnTo>
                <a:lnTo>
                  <a:pt x="1497" y="1688"/>
                </a:lnTo>
                <a:lnTo>
                  <a:pt x="1490" y="1695"/>
                </a:lnTo>
                <a:lnTo>
                  <a:pt x="1490" y="1695"/>
                </a:lnTo>
                <a:lnTo>
                  <a:pt x="1483" y="1702"/>
                </a:lnTo>
                <a:lnTo>
                  <a:pt x="1483" y="1709"/>
                </a:lnTo>
                <a:lnTo>
                  <a:pt x="1476" y="1716"/>
                </a:lnTo>
                <a:lnTo>
                  <a:pt x="1462" y="1716"/>
                </a:lnTo>
                <a:lnTo>
                  <a:pt x="1455" y="1722"/>
                </a:lnTo>
                <a:lnTo>
                  <a:pt x="1455" y="1729"/>
                </a:lnTo>
                <a:lnTo>
                  <a:pt x="1455" y="1736"/>
                </a:lnTo>
                <a:lnTo>
                  <a:pt x="1455" y="1736"/>
                </a:lnTo>
                <a:lnTo>
                  <a:pt x="1455" y="1750"/>
                </a:lnTo>
                <a:lnTo>
                  <a:pt x="1448" y="1757"/>
                </a:lnTo>
                <a:lnTo>
                  <a:pt x="1441" y="1757"/>
                </a:lnTo>
                <a:lnTo>
                  <a:pt x="1441" y="1750"/>
                </a:lnTo>
                <a:lnTo>
                  <a:pt x="1434" y="1743"/>
                </a:lnTo>
                <a:lnTo>
                  <a:pt x="1428" y="1736"/>
                </a:lnTo>
                <a:lnTo>
                  <a:pt x="1428" y="1729"/>
                </a:lnTo>
                <a:lnTo>
                  <a:pt x="1421" y="1722"/>
                </a:lnTo>
                <a:lnTo>
                  <a:pt x="1414" y="1722"/>
                </a:lnTo>
                <a:lnTo>
                  <a:pt x="1407" y="1722"/>
                </a:lnTo>
                <a:lnTo>
                  <a:pt x="1400" y="1729"/>
                </a:lnTo>
                <a:lnTo>
                  <a:pt x="1393" y="1736"/>
                </a:lnTo>
                <a:lnTo>
                  <a:pt x="1386" y="1736"/>
                </a:lnTo>
                <a:lnTo>
                  <a:pt x="1372" y="1743"/>
                </a:lnTo>
                <a:lnTo>
                  <a:pt x="1366" y="1743"/>
                </a:lnTo>
                <a:lnTo>
                  <a:pt x="1359" y="1743"/>
                </a:lnTo>
                <a:lnTo>
                  <a:pt x="1352" y="1750"/>
                </a:lnTo>
                <a:lnTo>
                  <a:pt x="1338" y="1750"/>
                </a:lnTo>
                <a:lnTo>
                  <a:pt x="1331" y="1750"/>
                </a:lnTo>
                <a:lnTo>
                  <a:pt x="1324" y="1757"/>
                </a:lnTo>
                <a:lnTo>
                  <a:pt x="1310" y="1757"/>
                </a:lnTo>
                <a:lnTo>
                  <a:pt x="1303" y="1764"/>
                </a:lnTo>
                <a:lnTo>
                  <a:pt x="1297" y="1764"/>
                </a:lnTo>
                <a:lnTo>
                  <a:pt x="1283" y="1764"/>
                </a:lnTo>
                <a:lnTo>
                  <a:pt x="1276" y="1771"/>
                </a:lnTo>
                <a:lnTo>
                  <a:pt x="1269" y="1778"/>
                </a:lnTo>
                <a:lnTo>
                  <a:pt x="1269" y="1784"/>
                </a:lnTo>
                <a:lnTo>
                  <a:pt x="1269" y="1791"/>
                </a:lnTo>
                <a:lnTo>
                  <a:pt x="1269" y="1791"/>
                </a:lnTo>
                <a:lnTo>
                  <a:pt x="1262" y="1798"/>
                </a:lnTo>
                <a:lnTo>
                  <a:pt x="1262" y="1805"/>
                </a:lnTo>
                <a:lnTo>
                  <a:pt x="1262" y="1812"/>
                </a:lnTo>
                <a:lnTo>
                  <a:pt x="1262" y="1819"/>
                </a:lnTo>
                <a:lnTo>
                  <a:pt x="1262" y="1826"/>
                </a:lnTo>
                <a:lnTo>
                  <a:pt x="1262" y="1833"/>
                </a:lnTo>
                <a:lnTo>
                  <a:pt x="1262" y="1840"/>
                </a:lnTo>
                <a:lnTo>
                  <a:pt x="1269" y="1840"/>
                </a:lnTo>
                <a:lnTo>
                  <a:pt x="1297" y="1840"/>
                </a:lnTo>
                <a:lnTo>
                  <a:pt x="1310" y="1840"/>
                </a:lnTo>
                <a:close/>
                <a:moveTo>
                  <a:pt x="1386" y="1840"/>
                </a:moveTo>
                <a:lnTo>
                  <a:pt x="1379" y="1833"/>
                </a:lnTo>
                <a:lnTo>
                  <a:pt x="1372" y="1833"/>
                </a:lnTo>
                <a:lnTo>
                  <a:pt x="1366" y="1833"/>
                </a:lnTo>
                <a:lnTo>
                  <a:pt x="1366" y="1833"/>
                </a:lnTo>
                <a:lnTo>
                  <a:pt x="1359" y="1833"/>
                </a:lnTo>
                <a:lnTo>
                  <a:pt x="1352" y="1833"/>
                </a:lnTo>
                <a:lnTo>
                  <a:pt x="1352" y="1833"/>
                </a:lnTo>
                <a:lnTo>
                  <a:pt x="1345" y="1840"/>
                </a:lnTo>
                <a:lnTo>
                  <a:pt x="1359" y="1840"/>
                </a:lnTo>
                <a:lnTo>
                  <a:pt x="1386" y="1840"/>
                </a:lnTo>
                <a:close/>
                <a:moveTo>
                  <a:pt x="1517" y="1722"/>
                </a:moveTo>
                <a:lnTo>
                  <a:pt x="1524" y="1716"/>
                </a:lnTo>
                <a:lnTo>
                  <a:pt x="1524" y="1716"/>
                </a:lnTo>
                <a:lnTo>
                  <a:pt x="1531" y="1709"/>
                </a:lnTo>
                <a:lnTo>
                  <a:pt x="1538" y="1709"/>
                </a:lnTo>
                <a:lnTo>
                  <a:pt x="1538" y="1716"/>
                </a:lnTo>
                <a:lnTo>
                  <a:pt x="1545" y="1716"/>
                </a:lnTo>
                <a:lnTo>
                  <a:pt x="1545" y="1716"/>
                </a:lnTo>
                <a:lnTo>
                  <a:pt x="1545" y="1722"/>
                </a:lnTo>
                <a:lnTo>
                  <a:pt x="1538" y="1722"/>
                </a:lnTo>
                <a:lnTo>
                  <a:pt x="1538" y="1729"/>
                </a:lnTo>
                <a:lnTo>
                  <a:pt x="1531" y="1729"/>
                </a:lnTo>
                <a:lnTo>
                  <a:pt x="1531" y="1729"/>
                </a:lnTo>
                <a:lnTo>
                  <a:pt x="1524" y="1722"/>
                </a:lnTo>
                <a:lnTo>
                  <a:pt x="1517" y="1722"/>
                </a:lnTo>
                <a:close/>
                <a:moveTo>
                  <a:pt x="1697" y="1543"/>
                </a:moveTo>
                <a:lnTo>
                  <a:pt x="1690" y="1537"/>
                </a:lnTo>
                <a:lnTo>
                  <a:pt x="1690" y="1530"/>
                </a:lnTo>
                <a:lnTo>
                  <a:pt x="1683" y="1530"/>
                </a:lnTo>
                <a:lnTo>
                  <a:pt x="1676" y="1530"/>
                </a:lnTo>
                <a:lnTo>
                  <a:pt x="1662" y="1537"/>
                </a:lnTo>
                <a:lnTo>
                  <a:pt x="1655" y="1537"/>
                </a:lnTo>
                <a:lnTo>
                  <a:pt x="1655" y="1543"/>
                </a:lnTo>
                <a:lnTo>
                  <a:pt x="1662" y="1550"/>
                </a:lnTo>
                <a:lnTo>
                  <a:pt x="1669" y="1557"/>
                </a:lnTo>
                <a:lnTo>
                  <a:pt x="1676" y="1557"/>
                </a:lnTo>
                <a:lnTo>
                  <a:pt x="1683" y="1557"/>
                </a:lnTo>
                <a:lnTo>
                  <a:pt x="1690" y="1557"/>
                </a:lnTo>
                <a:lnTo>
                  <a:pt x="1690" y="1550"/>
                </a:lnTo>
                <a:lnTo>
                  <a:pt x="1697" y="1543"/>
                </a:lnTo>
                <a:close/>
                <a:moveTo>
                  <a:pt x="1896" y="1481"/>
                </a:moveTo>
                <a:lnTo>
                  <a:pt x="1903" y="1475"/>
                </a:lnTo>
                <a:lnTo>
                  <a:pt x="1903" y="1468"/>
                </a:lnTo>
                <a:lnTo>
                  <a:pt x="1910" y="1461"/>
                </a:lnTo>
                <a:lnTo>
                  <a:pt x="1917" y="1461"/>
                </a:lnTo>
                <a:lnTo>
                  <a:pt x="1924" y="1468"/>
                </a:lnTo>
                <a:lnTo>
                  <a:pt x="1931" y="1468"/>
                </a:lnTo>
                <a:lnTo>
                  <a:pt x="1938" y="1475"/>
                </a:lnTo>
                <a:lnTo>
                  <a:pt x="1938" y="1481"/>
                </a:lnTo>
                <a:lnTo>
                  <a:pt x="1938" y="1488"/>
                </a:lnTo>
                <a:lnTo>
                  <a:pt x="1931" y="1488"/>
                </a:lnTo>
                <a:lnTo>
                  <a:pt x="1917" y="1488"/>
                </a:lnTo>
                <a:lnTo>
                  <a:pt x="1910" y="1488"/>
                </a:lnTo>
                <a:lnTo>
                  <a:pt x="1903" y="1488"/>
                </a:lnTo>
                <a:lnTo>
                  <a:pt x="1896" y="1481"/>
                </a:lnTo>
                <a:close/>
                <a:moveTo>
                  <a:pt x="2648" y="1275"/>
                </a:moveTo>
                <a:lnTo>
                  <a:pt x="2655" y="1268"/>
                </a:lnTo>
                <a:lnTo>
                  <a:pt x="2655" y="1268"/>
                </a:lnTo>
                <a:lnTo>
                  <a:pt x="2662" y="1268"/>
                </a:lnTo>
                <a:lnTo>
                  <a:pt x="2662" y="1275"/>
                </a:lnTo>
                <a:lnTo>
                  <a:pt x="2669" y="1275"/>
                </a:lnTo>
                <a:lnTo>
                  <a:pt x="2669" y="1282"/>
                </a:lnTo>
                <a:lnTo>
                  <a:pt x="2662" y="1282"/>
                </a:lnTo>
                <a:lnTo>
                  <a:pt x="2662" y="1289"/>
                </a:lnTo>
                <a:lnTo>
                  <a:pt x="2662" y="1289"/>
                </a:lnTo>
                <a:lnTo>
                  <a:pt x="2655" y="1289"/>
                </a:lnTo>
                <a:lnTo>
                  <a:pt x="2655" y="1289"/>
                </a:lnTo>
                <a:lnTo>
                  <a:pt x="2655" y="1289"/>
                </a:lnTo>
                <a:lnTo>
                  <a:pt x="2655" y="1282"/>
                </a:lnTo>
                <a:lnTo>
                  <a:pt x="2648" y="1275"/>
                </a:lnTo>
                <a:close/>
                <a:moveTo>
                  <a:pt x="1745" y="1247"/>
                </a:moveTo>
                <a:lnTo>
                  <a:pt x="1745" y="1247"/>
                </a:lnTo>
                <a:lnTo>
                  <a:pt x="1745" y="1247"/>
                </a:lnTo>
                <a:lnTo>
                  <a:pt x="1745" y="1247"/>
                </a:lnTo>
                <a:lnTo>
                  <a:pt x="1738" y="1247"/>
                </a:lnTo>
                <a:lnTo>
                  <a:pt x="1738" y="1247"/>
                </a:lnTo>
                <a:lnTo>
                  <a:pt x="1738" y="1247"/>
                </a:lnTo>
                <a:lnTo>
                  <a:pt x="1738" y="1247"/>
                </a:lnTo>
                <a:lnTo>
                  <a:pt x="1738" y="1247"/>
                </a:lnTo>
                <a:lnTo>
                  <a:pt x="1738" y="1247"/>
                </a:lnTo>
                <a:lnTo>
                  <a:pt x="1738" y="1247"/>
                </a:lnTo>
                <a:lnTo>
                  <a:pt x="1745" y="1247"/>
                </a:lnTo>
                <a:lnTo>
                  <a:pt x="1745" y="1247"/>
                </a:lnTo>
                <a:lnTo>
                  <a:pt x="1745" y="1247"/>
                </a:lnTo>
                <a:lnTo>
                  <a:pt x="1745" y="1247"/>
                </a:lnTo>
                <a:close/>
                <a:moveTo>
                  <a:pt x="1717" y="1213"/>
                </a:moveTo>
                <a:lnTo>
                  <a:pt x="1717" y="1213"/>
                </a:lnTo>
                <a:lnTo>
                  <a:pt x="1717" y="1206"/>
                </a:lnTo>
                <a:lnTo>
                  <a:pt x="1710" y="1206"/>
                </a:lnTo>
                <a:lnTo>
                  <a:pt x="1703" y="1206"/>
                </a:lnTo>
                <a:lnTo>
                  <a:pt x="1697" y="1206"/>
                </a:lnTo>
                <a:lnTo>
                  <a:pt x="1690" y="1213"/>
                </a:lnTo>
                <a:lnTo>
                  <a:pt x="1690" y="1220"/>
                </a:lnTo>
                <a:lnTo>
                  <a:pt x="1690" y="1220"/>
                </a:lnTo>
                <a:lnTo>
                  <a:pt x="1697" y="1227"/>
                </a:lnTo>
                <a:lnTo>
                  <a:pt x="1703" y="1227"/>
                </a:lnTo>
                <a:lnTo>
                  <a:pt x="1710" y="1227"/>
                </a:lnTo>
                <a:lnTo>
                  <a:pt x="1717" y="1227"/>
                </a:lnTo>
                <a:lnTo>
                  <a:pt x="1717" y="1220"/>
                </a:lnTo>
                <a:lnTo>
                  <a:pt x="1717" y="1213"/>
                </a:lnTo>
                <a:close/>
                <a:moveTo>
                  <a:pt x="1697" y="1185"/>
                </a:moveTo>
                <a:lnTo>
                  <a:pt x="1697" y="1178"/>
                </a:lnTo>
                <a:lnTo>
                  <a:pt x="1690" y="1171"/>
                </a:lnTo>
                <a:lnTo>
                  <a:pt x="1683" y="1171"/>
                </a:lnTo>
                <a:lnTo>
                  <a:pt x="1683" y="1165"/>
                </a:lnTo>
                <a:lnTo>
                  <a:pt x="1676" y="1158"/>
                </a:lnTo>
                <a:lnTo>
                  <a:pt x="1676" y="1151"/>
                </a:lnTo>
                <a:lnTo>
                  <a:pt x="1669" y="1144"/>
                </a:lnTo>
                <a:lnTo>
                  <a:pt x="1662" y="1137"/>
                </a:lnTo>
                <a:lnTo>
                  <a:pt x="1662" y="1130"/>
                </a:lnTo>
                <a:lnTo>
                  <a:pt x="1655" y="1130"/>
                </a:lnTo>
                <a:lnTo>
                  <a:pt x="1655" y="1123"/>
                </a:lnTo>
                <a:lnTo>
                  <a:pt x="1648" y="1116"/>
                </a:lnTo>
                <a:lnTo>
                  <a:pt x="1648" y="1109"/>
                </a:lnTo>
                <a:lnTo>
                  <a:pt x="1641" y="1103"/>
                </a:lnTo>
                <a:lnTo>
                  <a:pt x="1634" y="1096"/>
                </a:lnTo>
                <a:lnTo>
                  <a:pt x="1634" y="1089"/>
                </a:lnTo>
                <a:lnTo>
                  <a:pt x="1628" y="1089"/>
                </a:lnTo>
                <a:lnTo>
                  <a:pt x="1628" y="1082"/>
                </a:lnTo>
                <a:lnTo>
                  <a:pt x="1621" y="1075"/>
                </a:lnTo>
                <a:lnTo>
                  <a:pt x="1621" y="1068"/>
                </a:lnTo>
                <a:lnTo>
                  <a:pt x="1614" y="1061"/>
                </a:lnTo>
                <a:lnTo>
                  <a:pt x="1607" y="1054"/>
                </a:lnTo>
                <a:lnTo>
                  <a:pt x="1607" y="1047"/>
                </a:lnTo>
                <a:lnTo>
                  <a:pt x="1600" y="1041"/>
                </a:lnTo>
                <a:lnTo>
                  <a:pt x="1600" y="1041"/>
                </a:lnTo>
                <a:lnTo>
                  <a:pt x="1593" y="1034"/>
                </a:lnTo>
                <a:lnTo>
                  <a:pt x="1586" y="1027"/>
                </a:lnTo>
                <a:lnTo>
                  <a:pt x="1572" y="1027"/>
                </a:lnTo>
                <a:lnTo>
                  <a:pt x="1566" y="1027"/>
                </a:lnTo>
                <a:lnTo>
                  <a:pt x="1559" y="1034"/>
                </a:lnTo>
                <a:lnTo>
                  <a:pt x="1559" y="1041"/>
                </a:lnTo>
                <a:lnTo>
                  <a:pt x="1552" y="1047"/>
                </a:lnTo>
                <a:lnTo>
                  <a:pt x="1545" y="1054"/>
                </a:lnTo>
                <a:lnTo>
                  <a:pt x="1545" y="1054"/>
                </a:lnTo>
                <a:lnTo>
                  <a:pt x="1538" y="1061"/>
                </a:lnTo>
                <a:lnTo>
                  <a:pt x="1538" y="1068"/>
                </a:lnTo>
                <a:lnTo>
                  <a:pt x="1545" y="1075"/>
                </a:lnTo>
                <a:lnTo>
                  <a:pt x="1552" y="1075"/>
                </a:lnTo>
                <a:lnTo>
                  <a:pt x="1566" y="1082"/>
                </a:lnTo>
                <a:lnTo>
                  <a:pt x="1572" y="1089"/>
                </a:lnTo>
                <a:lnTo>
                  <a:pt x="1572" y="1089"/>
                </a:lnTo>
                <a:lnTo>
                  <a:pt x="1579" y="1096"/>
                </a:lnTo>
                <a:lnTo>
                  <a:pt x="1586" y="1103"/>
                </a:lnTo>
                <a:lnTo>
                  <a:pt x="1593" y="1109"/>
                </a:lnTo>
                <a:lnTo>
                  <a:pt x="1600" y="1109"/>
                </a:lnTo>
                <a:lnTo>
                  <a:pt x="1607" y="1116"/>
                </a:lnTo>
                <a:lnTo>
                  <a:pt x="1614" y="1123"/>
                </a:lnTo>
                <a:lnTo>
                  <a:pt x="1614" y="1130"/>
                </a:lnTo>
                <a:lnTo>
                  <a:pt x="1614" y="1137"/>
                </a:lnTo>
                <a:lnTo>
                  <a:pt x="1621" y="1144"/>
                </a:lnTo>
                <a:lnTo>
                  <a:pt x="1621" y="1144"/>
                </a:lnTo>
                <a:lnTo>
                  <a:pt x="1628" y="1151"/>
                </a:lnTo>
                <a:lnTo>
                  <a:pt x="1634" y="1158"/>
                </a:lnTo>
                <a:lnTo>
                  <a:pt x="1634" y="1165"/>
                </a:lnTo>
                <a:lnTo>
                  <a:pt x="1634" y="1171"/>
                </a:lnTo>
                <a:lnTo>
                  <a:pt x="1634" y="1178"/>
                </a:lnTo>
                <a:lnTo>
                  <a:pt x="1634" y="1185"/>
                </a:lnTo>
                <a:lnTo>
                  <a:pt x="1641" y="1185"/>
                </a:lnTo>
                <a:lnTo>
                  <a:pt x="1655" y="1192"/>
                </a:lnTo>
                <a:lnTo>
                  <a:pt x="1662" y="1199"/>
                </a:lnTo>
                <a:lnTo>
                  <a:pt x="1669" y="1199"/>
                </a:lnTo>
                <a:lnTo>
                  <a:pt x="1676" y="1206"/>
                </a:lnTo>
                <a:lnTo>
                  <a:pt x="1683" y="1213"/>
                </a:lnTo>
                <a:lnTo>
                  <a:pt x="1683" y="1213"/>
                </a:lnTo>
                <a:lnTo>
                  <a:pt x="1690" y="1213"/>
                </a:lnTo>
                <a:lnTo>
                  <a:pt x="1690" y="1206"/>
                </a:lnTo>
                <a:lnTo>
                  <a:pt x="1697" y="1199"/>
                </a:lnTo>
                <a:lnTo>
                  <a:pt x="1697" y="1185"/>
                </a:lnTo>
                <a:close/>
                <a:moveTo>
                  <a:pt x="1607" y="1158"/>
                </a:moveTo>
                <a:lnTo>
                  <a:pt x="1600" y="1151"/>
                </a:lnTo>
                <a:lnTo>
                  <a:pt x="1600" y="1151"/>
                </a:lnTo>
                <a:lnTo>
                  <a:pt x="1593" y="1151"/>
                </a:lnTo>
                <a:lnTo>
                  <a:pt x="1586" y="1151"/>
                </a:lnTo>
                <a:lnTo>
                  <a:pt x="1579" y="1158"/>
                </a:lnTo>
                <a:lnTo>
                  <a:pt x="1579" y="1158"/>
                </a:lnTo>
                <a:lnTo>
                  <a:pt x="1579" y="1165"/>
                </a:lnTo>
                <a:lnTo>
                  <a:pt x="1586" y="1171"/>
                </a:lnTo>
                <a:lnTo>
                  <a:pt x="1593" y="1171"/>
                </a:lnTo>
                <a:lnTo>
                  <a:pt x="1593" y="1171"/>
                </a:lnTo>
                <a:lnTo>
                  <a:pt x="1600" y="1171"/>
                </a:lnTo>
                <a:lnTo>
                  <a:pt x="1600" y="1165"/>
                </a:lnTo>
                <a:lnTo>
                  <a:pt x="1607" y="1165"/>
                </a:lnTo>
                <a:lnTo>
                  <a:pt x="1607" y="1158"/>
                </a:lnTo>
                <a:close/>
                <a:moveTo>
                  <a:pt x="1572" y="1130"/>
                </a:moveTo>
                <a:lnTo>
                  <a:pt x="1572" y="1123"/>
                </a:lnTo>
                <a:lnTo>
                  <a:pt x="1566" y="1116"/>
                </a:lnTo>
                <a:lnTo>
                  <a:pt x="1559" y="1116"/>
                </a:lnTo>
                <a:lnTo>
                  <a:pt x="1552" y="1123"/>
                </a:lnTo>
                <a:lnTo>
                  <a:pt x="1552" y="1123"/>
                </a:lnTo>
                <a:lnTo>
                  <a:pt x="1552" y="1130"/>
                </a:lnTo>
                <a:lnTo>
                  <a:pt x="1552" y="1137"/>
                </a:lnTo>
                <a:lnTo>
                  <a:pt x="1559" y="1144"/>
                </a:lnTo>
                <a:lnTo>
                  <a:pt x="1559" y="1144"/>
                </a:lnTo>
                <a:lnTo>
                  <a:pt x="1566" y="1144"/>
                </a:lnTo>
                <a:lnTo>
                  <a:pt x="1566" y="1144"/>
                </a:lnTo>
                <a:lnTo>
                  <a:pt x="1572" y="1144"/>
                </a:lnTo>
                <a:lnTo>
                  <a:pt x="1572" y="1137"/>
                </a:lnTo>
                <a:lnTo>
                  <a:pt x="1572" y="1130"/>
                </a:lnTo>
                <a:close/>
                <a:moveTo>
                  <a:pt x="2614" y="951"/>
                </a:moveTo>
                <a:lnTo>
                  <a:pt x="2620" y="944"/>
                </a:lnTo>
                <a:lnTo>
                  <a:pt x="2620" y="944"/>
                </a:lnTo>
                <a:lnTo>
                  <a:pt x="2627" y="937"/>
                </a:lnTo>
                <a:lnTo>
                  <a:pt x="2627" y="937"/>
                </a:lnTo>
                <a:lnTo>
                  <a:pt x="2627" y="937"/>
                </a:lnTo>
                <a:lnTo>
                  <a:pt x="2634" y="944"/>
                </a:lnTo>
                <a:lnTo>
                  <a:pt x="2634" y="944"/>
                </a:lnTo>
                <a:lnTo>
                  <a:pt x="2634" y="951"/>
                </a:lnTo>
                <a:lnTo>
                  <a:pt x="2634" y="951"/>
                </a:lnTo>
                <a:lnTo>
                  <a:pt x="2627" y="951"/>
                </a:lnTo>
                <a:lnTo>
                  <a:pt x="2627" y="958"/>
                </a:lnTo>
                <a:lnTo>
                  <a:pt x="2620" y="951"/>
                </a:lnTo>
                <a:lnTo>
                  <a:pt x="2620" y="951"/>
                </a:lnTo>
                <a:lnTo>
                  <a:pt x="2614" y="951"/>
                </a:lnTo>
                <a:close/>
                <a:moveTo>
                  <a:pt x="2441" y="827"/>
                </a:moveTo>
                <a:lnTo>
                  <a:pt x="2441" y="827"/>
                </a:lnTo>
                <a:lnTo>
                  <a:pt x="2448" y="827"/>
                </a:lnTo>
                <a:lnTo>
                  <a:pt x="2448" y="827"/>
                </a:lnTo>
                <a:lnTo>
                  <a:pt x="2448" y="827"/>
                </a:lnTo>
                <a:lnTo>
                  <a:pt x="2448" y="827"/>
                </a:lnTo>
                <a:lnTo>
                  <a:pt x="2455" y="827"/>
                </a:lnTo>
                <a:lnTo>
                  <a:pt x="2455" y="834"/>
                </a:lnTo>
                <a:lnTo>
                  <a:pt x="2455" y="834"/>
                </a:lnTo>
                <a:lnTo>
                  <a:pt x="2448" y="834"/>
                </a:lnTo>
                <a:lnTo>
                  <a:pt x="2448" y="834"/>
                </a:lnTo>
                <a:lnTo>
                  <a:pt x="2448" y="834"/>
                </a:lnTo>
                <a:lnTo>
                  <a:pt x="2448" y="834"/>
                </a:lnTo>
                <a:lnTo>
                  <a:pt x="2441" y="834"/>
                </a:lnTo>
                <a:lnTo>
                  <a:pt x="2441" y="827"/>
                </a:lnTo>
                <a:close/>
                <a:moveTo>
                  <a:pt x="324" y="710"/>
                </a:moveTo>
                <a:lnTo>
                  <a:pt x="331" y="703"/>
                </a:lnTo>
                <a:lnTo>
                  <a:pt x="331" y="696"/>
                </a:lnTo>
                <a:lnTo>
                  <a:pt x="338" y="696"/>
                </a:lnTo>
                <a:lnTo>
                  <a:pt x="338" y="689"/>
                </a:lnTo>
                <a:lnTo>
                  <a:pt x="338" y="682"/>
                </a:lnTo>
                <a:lnTo>
                  <a:pt x="345" y="675"/>
                </a:lnTo>
                <a:lnTo>
                  <a:pt x="345" y="669"/>
                </a:lnTo>
                <a:lnTo>
                  <a:pt x="352" y="662"/>
                </a:lnTo>
                <a:lnTo>
                  <a:pt x="359" y="655"/>
                </a:lnTo>
                <a:lnTo>
                  <a:pt x="366" y="655"/>
                </a:lnTo>
                <a:lnTo>
                  <a:pt x="373" y="655"/>
                </a:lnTo>
                <a:lnTo>
                  <a:pt x="386" y="655"/>
                </a:lnTo>
                <a:lnTo>
                  <a:pt x="393" y="662"/>
                </a:lnTo>
                <a:lnTo>
                  <a:pt x="407" y="662"/>
                </a:lnTo>
                <a:lnTo>
                  <a:pt x="414" y="669"/>
                </a:lnTo>
                <a:lnTo>
                  <a:pt x="421" y="669"/>
                </a:lnTo>
                <a:lnTo>
                  <a:pt x="428" y="675"/>
                </a:lnTo>
                <a:lnTo>
                  <a:pt x="435" y="682"/>
                </a:lnTo>
                <a:lnTo>
                  <a:pt x="442" y="689"/>
                </a:lnTo>
                <a:lnTo>
                  <a:pt x="442" y="689"/>
                </a:lnTo>
                <a:lnTo>
                  <a:pt x="449" y="689"/>
                </a:lnTo>
                <a:lnTo>
                  <a:pt x="462" y="682"/>
                </a:lnTo>
                <a:lnTo>
                  <a:pt x="469" y="682"/>
                </a:lnTo>
                <a:lnTo>
                  <a:pt x="476" y="675"/>
                </a:lnTo>
                <a:lnTo>
                  <a:pt x="490" y="675"/>
                </a:lnTo>
                <a:lnTo>
                  <a:pt x="497" y="669"/>
                </a:lnTo>
                <a:lnTo>
                  <a:pt x="504" y="669"/>
                </a:lnTo>
                <a:lnTo>
                  <a:pt x="504" y="662"/>
                </a:lnTo>
                <a:lnTo>
                  <a:pt x="511" y="655"/>
                </a:lnTo>
                <a:lnTo>
                  <a:pt x="511" y="648"/>
                </a:lnTo>
                <a:lnTo>
                  <a:pt x="511" y="641"/>
                </a:lnTo>
                <a:lnTo>
                  <a:pt x="511" y="634"/>
                </a:lnTo>
                <a:lnTo>
                  <a:pt x="517" y="627"/>
                </a:lnTo>
                <a:lnTo>
                  <a:pt x="517" y="620"/>
                </a:lnTo>
                <a:lnTo>
                  <a:pt x="517" y="613"/>
                </a:lnTo>
                <a:lnTo>
                  <a:pt x="524" y="607"/>
                </a:lnTo>
                <a:lnTo>
                  <a:pt x="524" y="607"/>
                </a:lnTo>
                <a:lnTo>
                  <a:pt x="531" y="600"/>
                </a:lnTo>
                <a:lnTo>
                  <a:pt x="531" y="593"/>
                </a:lnTo>
                <a:lnTo>
                  <a:pt x="538" y="586"/>
                </a:lnTo>
                <a:lnTo>
                  <a:pt x="552" y="586"/>
                </a:lnTo>
                <a:lnTo>
                  <a:pt x="559" y="586"/>
                </a:lnTo>
                <a:lnTo>
                  <a:pt x="573" y="586"/>
                </a:lnTo>
                <a:lnTo>
                  <a:pt x="580" y="579"/>
                </a:lnTo>
                <a:lnTo>
                  <a:pt x="586" y="572"/>
                </a:lnTo>
                <a:lnTo>
                  <a:pt x="593" y="572"/>
                </a:lnTo>
                <a:lnTo>
                  <a:pt x="593" y="565"/>
                </a:lnTo>
                <a:lnTo>
                  <a:pt x="600" y="558"/>
                </a:lnTo>
                <a:lnTo>
                  <a:pt x="600" y="551"/>
                </a:lnTo>
                <a:lnTo>
                  <a:pt x="607" y="545"/>
                </a:lnTo>
                <a:lnTo>
                  <a:pt x="607" y="538"/>
                </a:lnTo>
                <a:lnTo>
                  <a:pt x="607" y="531"/>
                </a:lnTo>
                <a:lnTo>
                  <a:pt x="607" y="524"/>
                </a:lnTo>
                <a:lnTo>
                  <a:pt x="607" y="517"/>
                </a:lnTo>
                <a:lnTo>
                  <a:pt x="607" y="510"/>
                </a:lnTo>
                <a:lnTo>
                  <a:pt x="614" y="503"/>
                </a:lnTo>
                <a:lnTo>
                  <a:pt x="614" y="496"/>
                </a:lnTo>
                <a:lnTo>
                  <a:pt x="614" y="496"/>
                </a:lnTo>
                <a:lnTo>
                  <a:pt x="621" y="489"/>
                </a:lnTo>
                <a:lnTo>
                  <a:pt x="621" y="483"/>
                </a:lnTo>
                <a:lnTo>
                  <a:pt x="621" y="476"/>
                </a:lnTo>
                <a:lnTo>
                  <a:pt x="628" y="469"/>
                </a:lnTo>
                <a:lnTo>
                  <a:pt x="628" y="462"/>
                </a:lnTo>
                <a:lnTo>
                  <a:pt x="628" y="455"/>
                </a:lnTo>
                <a:lnTo>
                  <a:pt x="635" y="448"/>
                </a:lnTo>
                <a:lnTo>
                  <a:pt x="635" y="441"/>
                </a:lnTo>
                <a:lnTo>
                  <a:pt x="642" y="434"/>
                </a:lnTo>
                <a:lnTo>
                  <a:pt x="642" y="434"/>
                </a:lnTo>
                <a:lnTo>
                  <a:pt x="648" y="427"/>
                </a:lnTo>
                <a:lnTo>
                  <a:pt x="648" y="421"/>
                </a:lnTo>
                <a:lnTo>
                  <a:pt x="648" y="414"/>
                </a:lnTo>
                <a:lnTo>
                  <a:pt x="655" y="407"/>
                </a:lnTo>
                <a:lnTo>
                  <a:pt x="655" y="400"/>
                </a:lnTo>
                <a:lnTo>
                  <a:pt x="655" y="393"/>
                </a:lnTo>
                <a:lnTo>
                  <a:pt x="662" y="386"/>
                </a:lnTo>
                <a:lnTo>
                  <a:pt x="662" y="379"/>
                </a:lnTo>
                <a:lnTo>
                  <a:pt x="662" y="372"/>
                </a:lnTo>
                <a:lnTo>
                  <a:pt x="669" y="365"/>
                </a:lnTo>
                <a:lnTo>
                  <a:pt x="669" y="359"/>
                </a:lnTo>
                <a:lnTo>
                  <a:pt x="676" y="359"/>
                </a:lnTo>
                <a:lnTo>
                  <a:pt x="676" y="352"/>
                </a:lnTo>
                <a:lnTo>
                  <a:pt x="683" y="345"/>
                </a:lnTo>
                <a:lnTo>
                  <a:pt x="683" y="338"/>
                </a:lnTo>
                <a:lnTo>
                  <a:pt x="683" y="331"/>
                </a:lnTo>
                <a:lnTo>
                  <a:pt x="690" y="324"/>
                </a:lnTo>
                <a:lnTo>
                  <a:pt x="690" y="317"/>
                </a:lnTo>
                <a:lnTo>
                  <a:pt x="690" y="310"/>
                </a:lnTo>
                <a:lnTo>
                  <a:pt x="697" y="303"/>
                </a:lnTo>
                <a:lnTo>
                  <a:pt x="697" y="297"/>
                </a:lnTo>
                <a:lnTo>
                  <a:pt x="697" y="290"/>
                </a:lnTo>
                <a:lnTo>
                  <a:pt x="704" y="290"/>
                </a:lnTo>
                <a:lnTo>
                  <a:pt x="704" y="283"/>
                </a:lnTo>
                <a:lnTo>
                  <a:pt x="711" y="276"/>
                </a:lnTo>
                <a:lnTo>
                  <a:pt x="711" y="269"/>
                </a:lnTo>
                <a:lnTo>
                  <a:pt x="717" y="262"/>
                </a:lnTo>
                <a:lnTo>
                  <a:pt x="724" y="255"/>
                </a:lnTo>
                <a:lnTo>
                  <a:pt x="724" y="255"/>
                </a:lnTo>
                <a:lnTo>
                  <a:pt x="731" y="248"/>
                </a:lnTo>
                <a:lnTo>
                  <a:pt x="731" y="241"/>
                </a:lnTo>
                <a:lnTo>
                  <a:pt x="731" y="235"/>
                </a:lnTo>
                <a:lnTo>
                  <a:pt x="731" y="228"/>
                </a:lnTo>
                <a:lnTo>
                  <a:pt x="738" y="221"/>
                </a:lnTo>
                <a:lnTo>
                  <a:pt x="745" y="214"/>
                </a:lnTo>
                <a:lnTo>
                  <a:pt x="752" y="207"/>
                </a:lnTo>
                <a:lnTo>
                  <a:pt x="759" y="207"/>
                </a:lnTo>
                <a:lnTo>
                  <a:pt x="766" y="200"/>
                </a:lnTo>
                <a:lnTo>
                  <a:pt x="773" y="193"/>
                </a:lnTo>
                <a:lnTo>
                  <a:pt x="779" y="193"/>
                </a:lnTo>
                <a:lnTo>
                  <a:pt x="786" y="186"/>
                </a:lnTo>
                <a:lnTo>
                  <a:pt x="793" y="179"/>
                </a:lnTo>
                <a:lnTo>
                  <a:pt x="800" y="179"/>
                </a:lnTo>
                <a:lnTo>
                  <a:pt x="807" y="173"/>
                </a:lnTo>
                <a:lnTo>
                  <a:pt x="814" y="166"/>
                </a:lnTo>
                <a:lnTo>
                  <a:pt x="828" y="166"/>
                </a:lnTo>
                <a:lnTo>
                  <a:pt x="828" y="173"/>
                </a:lnTo>
                <a:lnTo>
                  <a:pt x="835" y="179"/>
                </a:lnTo>
                <a:lnTo>
                  <a:pt x="842" y="186"/>
                </a:lnTo>
                <a:lnTo>
                  <a:pt x="848" y="186"/>
                </a:lnTo>
                <a:lnTo>
                  <a:pt x="855" y="193"/>
                </a:lnTo>
                <a:lnTo>
                  <a:pt x="862" y="200"/>
                </a:lnTo>
                <a:lnTo>
                  <a:pt x="869" y="207"/>
                </a:lnTo>
                <a:lnTo>
                  <a:pt x="869" y="207"/>
                </a:lnTo>
                <a:lnTo>
                  <a:pt x="876" y="214"/>
                </a:lnTo>
                <a:lnTo>
                  <a:pt x="883" y="221"/>
                </a:lnTo>
                <a:lnTo>
                  <a:pt x="890" y="228"/>
                </a:lnTo>
                <a:lnTo>
                  <a:pt x="897" y="228"/>
                </a:lnTo>
                <a:lnTo>
                  <a:pt x="897" y="235"/>
                </a:lnTo>
                <a:lnTo>
                  <a:pt x="904" y="241"/>
                </a:lnTo>
                <a:lnTo>
                  <a:pt x="910" y="248"/>
                </a:lnTo>
                <a:lnTo>
                  <a:pt x="910" y="255"/>
                </a:lnTo>
                <a:lnTo>
                  <a:pt x="917" y="262"/>
                </a:lnTo>
                <a:lnTo>
                  <a:pt x="924" y="255"/>
                </a:lnTo>
                <a:lnTo>
                  <a:pt x="931" y="255"/>
                </a:lnTo>
                <a:lnTo>
                  <a:pt x="938" y="248"/>
                </a:lnTo>
                <a:lnTo>
                  <a:pt x="945" y="241"/>
                </a:lnTo>
                <a:lnTo>
                  <a:pt x="952" y="241"/>
                </a:lnTo>
                <a:lnTo>
                  <a:pt x="959" y="235"/>
                </a:lnTo>
                <a:lnTo>
                  <a:pt x="966" y="228"/>
                </a:lnTo>
                <a:lnTo>
                  <a:pt x="973" y="221"/>
                </a:lnTo>
                <a:lnTo>
                  <a:pt x="979" y="221"/>
                </a:lnTo>
                <a:lnTo>
                  <a:pt x="993" y="214"/>
                </a:lnTo>
                <a:lnTo>
                  <a:pt x="1000" y="214"/>
                </a:lnTo>
                <a:lnTo>
                  <a:pt x="1007" y="207"/>
                </a:lnTo>
                <a:lnTo>
                  <a:pt x="1014" y="207"/>
                </a:lnTo>
                <a:lnTo>
                  <a:pt x="1014" y="200"/>
                </a:lnTo>
                <a:lnTo>
                  <a:pt x="1014" y="193"/>
                </a:lnTo>
                <a:lnTo>
                  <a:pt x="1014" y="186"/>
                </a:lnTo>
                <a:lnTo>
                  <a:pt x="1007" y="179"/>
                </a:lnTo>
                <a:lnTo>
                  <a:pt x="993" y="173"/>
                </a:lnTo>
                <a:lnTo>
                  <a:pt x="986" y="173"/>
                </a:lnTo>
                <a:lnTo>
                  <a:pt x="979" y="173"/>
                </a:lnTo>
                <a:lnTo>
                  <a:pt x="973" y="166"/>
                </a:lnTo>
                <a:lnTo>
                  <a:pt x="966" y="159"/>
                </a:lnTo>
                <a:lnTo>
                  <a:pt x="966" y="152"/>
                </a:lnTo>
                <a:lnTo>
                  <a:pt x="966" y="145"/>
                </a:lnTo>
                <a:lnTo>
                  <a:pt x="959" y="138"/>
                </a:lnTo>
                <a:lnTo>
                  <a:pt x="952" y="131"/>
                </a:lnTo>
                <a:lnTo>
                  <a:pt x="952" y="124"/>
                </a:lnTo>
                <a:lnTo>
                  <a:pt x="945" y="124"/>
                </a:lnTo>
                <a:lnTo>
                  <a:pt x="952" y="117"/>
                </a:lnTo>
                <a:lnTo>
                  <a:pt x="952" y="111"/>
                </a:lnTo>
                <a:lnTo>
                  <a:pt x="966" y="111"/>
                </a:lnTo>
                <a:lnTo>
                  <a:pt x="973" y="104"/>
                </a:lnTo>
                <a:lnTo>
                  <a:pt x="979" y="97"/>
                </a:lnTo>
                <a:lnTo>
                  <a:pt x="986" y="97"/>
                </a:lnTo>
                <a:lnTo>
                  <a:pt x="993" y="90"/>
                </a:lnTo>
                <a:lnTo>
                  <a:pt x="993" y="83"/>
                </a:lnTo>
                <a:lnTo>
                  <a:pt x="993" y="76"/>
                </a:lnTo>
                <a:lnTo>
                  <a:pt x="993" y="69"/>
                </a:lnTo>
                <a:lnTo>
                  <a:pt x="986" y="62"/>
                </a:lnTo>
                <a:lnTo>
                  <a:pt x="979" y="55"/>
                </a:lnTo>
                <a:lnTo>
                  <a:pt x="973" y="55"/>
                </a:lnTo>
                <a:lnTo>
                  <a:pt x="973" y="49"/>
                </a:lnTo>
                <a:lnTo>
                  <a:pt x="966" y="42"/>
                </a:lnTo>
                <a:lnTo>
                  <a:pt x="959" y="35"/>
                </a:lnTo>
                <a:lnTo>
                  <a:pt x="952" y="35"/>
                </a:lnTo>
                <a:lnTo>
                  <a:pt x="945" y="28"/>
                </a:lnTo>
                <a:lnTo>
                  <a:pt x="938" y="21"/>
                </a:lnTo>
                <a:lnTo>
                  <a:pt x="938" y="14"/>
                </a:lnTo>
                <a:lnTo>
                  <a:pt x="931" y="7"/>
                </a:lnTo>
                <a:lnTo>
                  <a:pt x="924" y="7"/>
                </a:lnTo>
                <a:lnTo>
                  <a:pt x="917" y="0"/>
                </a:lnTo>
                <a:lnTo>
                  <a:pt x="917" y="0"/>
                </a:lnTo>
                <a:lnTo>
                  <a:pt x="883" y="0"/>
                </a:lnTo>
                <a:lnTo>
                  <a:pt x="855" y="0"/>
                </a:lnTo>
                <a:lnTo>
                  <a:pt x="828" y="0"/>
                </a:lnTo>
                <a:lnTo>
                  <a:pt x="793" y="0"/>
                </a:lnTo>
                <a:lnTo>
                  <a:pt x="766" y="0"/>
                </a:lnTo>
                <a:lnTo>
                  <a:pt x="738" y="0"/>
                </a:lnTo>
                <a:lnTo>
                  <a:pt x="711" y="0"/>
                </a:lnTo>
                <a:lnTo>
                  <a:pt x="676" y="0"/>
                </a:lnTo>
                <a:lnTo>
                  <a:pt x="648" y="28"/>
                </a:lnTo>
                <a:lnTo>
                  <a:pt x="621" y="62"/>
                </a:lnTo>
                <a:lnTo>
                  <a:pt x="593" y="90"/>
                </a:lnTo>
                <a:lnTo>
                  <a:pt x="559" y="117"/>
                </a:lnTo>
                <a:lnTo>
                  <a:pt x="545" y="131"/>
                </a:lnTo>
                <a:lnTo>
                  <a:pt x="545" y="138"/>
                </a:lnTo>
                <a:lnTo>
                  <a:pt x="538" y="145"/>
                </a:lnTo>
                <a:lnTo>
                  <a:pt x="531" y="152"/>
                </a:lnTo>
                <a:lnTo>
                  <a:pt x="531" y="159"/>
                </a:lnTo>
                <a:lnTo>
                  <a:pt x="531" y="166"/>
                </a:lnTo>
                <a:lnTo>
                  <a:pt x="524" y="173"/>
                </a:lnTo>
                <a:lnTo>
                  <a:pt x="517" y="179"/>
                </a:lnTo>
                <a:lnTo>
                  <a:pt x="517" y="186"/>
                </a:lnTo>
                <a:lnTo>
                  <a:pt x="511" y="193"/>
                </a:lnTo>
                <a:lnTo>
                  <a:pt x="504" y="200"/>
                </a:lnTo>
                <a:lnTo>
                  <a:pt x="504" y="207"/>
                </a:lnTo>
                <a:lnTo>
                  <a:pt x="497" y="207"/>
                </a:lnTo>
                <a:lnTo>
                  <a:pt x="490" y="214"/>
                </a:lnTo>
                <a:lnTo>
                  <a:pt x="483" y="221"/>
                </a:lnTo>
                <a:lnTo>
                  <a:pt x="476" y="228"/>
                </a:lnTo>
                <a:lnTo>
                  <a:pt x="476" y="235"/>
                </a:lnTo>
                <a:lnTo>
                  <a:pt x="476" y="241"/>
                </a:lnTo>
                <a:lnTo>
                  <a:pt x="483" y="248"/>
                </a:lnTo>
                <a:lnTo>
                  <a:pt x="490" y="255"/>
                </a:lnTo>
                <a:lnTo>
                  <a:pt x="497" y="262"/>
                </a:lnTo>
                <a:lnTo>
                  <a:pt x="504" y="262"/>
                </a:lnTo>
                <a:lnTo>
                  <a:pt x="511" y="262"/>
                </a:lnTo>
                <a:lnTo>
                  <a:pt x="517" y="255"/>
                </a:lnTo>
                <a:lnTo>
                  <a:pt x="524" y="248"/>
                </a:lnTo>
                <a:lnTo>
                  <a:pt x="524" y="235"/>
                </a:lnTo>
                <a:lnTo>
                  <a:pt x="531" y="228"/>
                </a:lnTo>
                <a:lnTo>
                  <a:pt x="538" y="228"/>
                </a:lnTo>
                <a:lnTo>
                  <a:pt x="538" y="241"/>
                </a:lnTo>
                <a:lnTo>
                  <a:pt x="531" y="248"/>
                </a:lnTo>
                <a:lnTo>
                  <a:pt x="524" y="248"/>
                </a:lnTo>
                <a:lnTo>
                  <a:pt x="517" y="255"/>
                </a:lnTo>
                <a:lnTo>
                  <a:pt x="511" y="262"/>
                </a:lnTo>
                <a:lnTo>
                  <a:pt x="511" y="269"/>
                </a:lnTo>
                <a:lnTo>
                  <a:pt x="504" y="276"/>
                </a:lnTo>
                <a:lnTo>
                  <a:pt x="504" y="283"/>
                </a:lnTo>
                <a:lnTo>
                  <a:pt x="504" y="290"/>
                </a:lnTo>
                <a:lnTo>
                  <a:pt x="504" y="297"/>
                </a:lnTo>
                <a:lnTo>
                  <a:pt x="497" y="303"/>
                </a:lnTo>
                <a:lnTo>
                  <a:pt x="497" y="310"/>
                </a:lnTo>
                <a:lnTo>
                  <a:pt x="497" y="317"/>
                </a:lnTo>
                <a:lnTo>
                  <a:pt x="490" y="324"/>
                </a:lnTo>
                <a:lnTo>
                  <a:pt x="490" y="331"/>
                </a:lnTo>
                <a:lnTo>
                  <a:pt x="483" y="338"/>
                </a:lnTo>
                <a:lnTo>
                  <a:pt x="483" y="345"/>
                </a:lnTo>
                <a:lnTo>
                  <a:pt x="476" y="352"/>
                </a:lnTo>
                <a:lnTo>
                  <a:pt x="476" y="359"/>
                </a:lnTo>
                <a:lnTo>
                  <a:pt x="469" y="365"/>
                </a:lnTo>
                <a:lnTo>
                  <a:pt x="469" y="372"/>
                </a:lnTo>
                <a:lnTo>
                  <a:pt x="469" y="379"/>
                </a:lnTo>
                <a:lnTo>
                  <a:pt x="462" y="386"/>
                </a:lnTo>
                <a:lnTo>
                  <a:pt x="462" y="386"/>
                </a:lnTo>
                <a:lnTo>
                  <a:pt x="455" y="393"/>
                </a:lnTo>
                <a:lnTo>
                  <a:pt x="449" y="400"/>
                </a:lnTo>
                <a:lnTo>
                  <a:pt x="449" y="407"/>
                </a:lnTo>
                <a:lnTo>
                  <a:pt x="442" y="414"/>
                </a:lnTo>
                <a:lnTo>
                  <a:pt x="449" y="427"/>
                </a:lnTo>
                <a:lnTo>
                  <a:pt x="449" y="434"/>
                </a:lnTo>
                <a:lnTo>
                  <a:pt x="455" y="441"/>
                </a:lnTo>
                <a:lnTo>
                  <a:pt x="462" y="441"/>
                </a:lnTo>
                <a:lnTo>
                  <a:pt x="476" y="441"/>
                </a:lnTo>
                <a:lnTo>
                  <a:pt x="483" y="434"/>
                </a:lnTo>
                <a:lnTo>
                  <a:pt x="490" y="427"/>
                </a:lnTo>
                <a:lnTo>
                  <a:pt x="497" y="421"/>
                </a:lnTo>
                <a:lnTo>
                  <a:pt x="504" y="421"/>
                </a:lnTo>
                <a:lnTo>
                  <a:pt x="504" y="421"/>
                </a:lnTo>
                <a:lnTo>
                  <a:pt x="504" y="427"/>
                </a:lnTo>
                <a:lnTo>
                  <a:pt x="504" y="434"/>
                </a:lnTo>
                <a:lnTo>
                  <a:pt x="504" y="448"/>
                </a:lnTo>
                <a:lnTo>
                  <a:pt x="504" y="455"/>
                </a:lnTo>
                <a:lnTo>
                  <a:pt x="504" y="462"/>
                </a:lnTo>
                <a:lnTo>
                  <a:pt x="497" y="469"/>
                </a:lnTo>
                <a:lnTo>
                  <a:pt x="497" y="476"/>
                </a:lnTo>
                <a:lnTo>
                  <a:pt x="490" y="476"/>
                </a:lnTo>
                <a:lnTo>
                  <a:pt x="490" y="483"/>
                </a:lnTo>
                <a:lnTo>
                  <a:pt x="483" y="489"/>
                </a:lnTo>
                <a:lnTo>
                  <a:pt x="483" y="496"/>
                </a:lnTo>
                <a:lnTo>
                  <a:pt x="476" y="503"/>
                </a:lnTo>
                <a:lnTo>
                  <a:pt x="476" y="517"/>
                </a:lnTo>
                <a:lnTo>
                  <a:pt x="476" y="517"/>
                </a:lnTo>
                <a:lnTo>
                  <a:pt x="469" y="524"/>
                </a:lnTo>
                <a:lnTo>
                  <a:pt x="462" y="517"/>
                </a:lnTo>
                <a:lnTo>
                  <a:pt x="449" y="510"/>
                </a:lnTo>
                <a:lnTo>
                  <a:pt x="442" y="503"/>
                </a:lnTo>
                <a:lnTo>
                  <a:pt x="442" y="496"/>
                </a:lnTo>
                <a:lnTo>
                  <a:pt x="442" y="489"/>
                </a:lnTo>
                <a:lnTo>
                  <a:pt x="449" y="483"/>
                </a:lnTo>
                <a:lnTo>
                  <a:pt x="449" y="476"/>
                </a:lnTo>
                <a:lnTo>
                  <a:pt x="455" y="469"/>
                </a:lnTo>
                <a:lnTo>
                  <a:pt x="462" y="462"/>
                </a:lnTo>
                <a:lnTo>
                  <a:pt x="469" y="455"/>
                </a:lnTo>
                <a:lnTo>
                  <a:pt x="469" y="448"/>
                </a:lnTo>
                <a:lnTo>
                  <a:pt x="469" y="441"/>
                </a:lnTo>
                <a:lnTo>
                  <a:pt x="462" y="434"/>
                </a:lnTo>
                <a:lnTo>
                  <a:pt x="455" y="427"/>
                </a:lnTo>
                <a:lnTo>
                  <a:pt x="449" y="421"/>
                </a:lnTo>
                <a:lnTo>
                  <a:pt x="442" y="421"/>
                </a:lnTo>
                <a:lnTo>
                  <a:pt x="442" y="421"/>
                </a:lnTo>
                <a:lnTo>
                  <a:pt x="435" y="427"/>
                </a:lnTo>
                <a:lnTo>
                  <a:pt x="435" y="434"/>
                </a:lnTo>
                <a:lnTo>
                  <a:pt x="435" y="441"/>
                </a:lnTo>
                <a:lnTo>
                  <a:pt x="435" y="448"/>
                </a:lnTo>
                <a:lnTo>
                  <a:pt x="428" y="462"/>
                </a:lnTo>
                <a:lnTo>
                  <a:pt x="428" y="469"/>
                </a:lnTo>
                <a:lnTo>
                  <a:pt x="421" y="469"/>
                </a:lnTo>
                <a:lnTo>
                  <a:pt x="414" y="476"/>
                </a:lnTo>
                <a:lnTo>
                  <a:pt x="407" y="476"/>
                </a:lnTo>
                <a:lnTo>
                  <a:pt x="400" y="483"/>
                </a:lnTo>
                <a:lnTo>
                  <a:pt x="400" y="489"/>
                </a:lnTo>
                <a:lnTo>
                  <a:pt x="400" y="503"/>
                </a:lnTo>
                <a:lnTo>
                  <a:pt x="400" y="510"/>
                </a:lnTo>
                <a:lnTo>
                  <a:pt x="393" y="517"/>
                </a:lnTo>
                <a:lnTo>
                  <a:pt x="386" y="517"/>
                </a:lnTo>
                <a:lnTo>
                  <a:pt x="380" y="524"/>
                </a:lnTo>
                <a:lnTo>
                  <a:pt x="373" y="531"/>
                </a:lnTo>
                <a:lnTo>
                  <a:pt x="366" y="538"/>
                </a:lnTo>
                <a:lnTo>
                  <a:pt x="359" y="538"/>
                </a:lnTo>
                <a:lnTo>
                  <a:pt x="352" y="545"/>
                </a:lnTo>
                <a:lnTo>
                  <a:pt x="345" y="551"/>
                </a:lnTo>
                <a:lnTo>
                  <a:pt x="331" y="558"/>
                </a:lnTo>
                <a:lnTo>
                  <a:pt x="324" y="565"/>
                </a:lnTo>
                <a:lnTo>
                  <a:pt x="324" y="565"/>
                </a:lnTo>
                <a:lnTo>
                  <a:pt x="318" y="558"/>
                </a:lnTo>
                <a:lnTo>
                  <a:pt x="311" y="551"/>
                </a:lnTo>
                <a:lnTo>
                  <a:pt x="304" y="545"/>
                </a:lnTo>
                <a:lnTo>
                  <a:pt x="297" y="538"/>
                </a:lnTo>
                <a:lnTo>
                  <a:pt x="283" y="538"/>
                </a:lnTo>
                <a:lnTo>
                  <a:pt x="269" y="545"/>
                </a:lnTo>
                <a:lnTo>
                  <a:pt x="262" y="545"/>
                </a:lnTo>
                <a:lnTo>
                  <a:pt x="262" y="551"/>
                </a:lnTo>
                <a:lnTo>
                  <a:pt x="255" y="558"/>
                </a:lnTo>
                <a:lnTo>
                  <a:pt x="249" y="565"/>
                </a:lnTo>
                <a:lnTo>
                  <a:pt x="242" y="572"/>
                </a:lnTo>
                <a:lnTo>
                  <a:pt x="235" y="579"/>
                </a:lnTo>
                <a:lnTo>
                  <a:pt x="228" y="579"/>
                </a:lnTo>
                <a:lnTo>
                  <a:pt x="214" y="586"/>
                </a:lnTo>
                <a:lnTo>
                  <a:pt x="207" y="586"/>
                </a:lnTo>
                <a:lnTo>
                  <a:pt x="200" y="593"/>
                </a:lnTo>
                <a:lnTo>
                  <a:pt x="200" y="600"/>
                </a:lnTo>
                <a:lnTo>
                  <a:pt x="193" y="607"/>
                </a:lnTo>
                <a:lnTo>
                  <a:pt x="187" y="613"/>
                </a:lnTo>
                <a:lnTo>
                  <a:pt x="173" y="613"/>
                </a:lnTo>
                <a:lnTo>
                  <a:pt x="166" y="613"/>
                </a:lnTo>
                <a:lnTo>
                  <a:pt x="152" y="607"/>
                </a:lnTo>
                <a:lnTo>
                  <a:pt x="145" y="600"/>
                </a:lnTo>
                <a:lnTo>
                  <a:pt x="145" y="593"/>
                </a:lnTo>
                <a:lnTo>
                  <a:pt x="138" y="593"/>
                </a:lnTo>
                <a:lnTo>
                  <a:pt x="131" y="586"/>
                </a:lnTo>
                <a:lnTo>
                  <a:pt x="118" y="586"/>
                </a:lnTo>
                <a:lnTo>
                  <a:pt x="104" y="586"/>
                </a:lnTo>
                <a:lnTo>
                  <a:pt x="97" y="586"/>
                </a:lnTo>
                <a:lnTo>
                  <a:pt x="83" y="586"/>
                </a:lnTo>
                <a:lnTo>
                  <a:pt x="76" y="579"/>
                </a:lnTo>
                <a:lnTo>
                  <a:pt x="69" y="572"/>
                </a:lnTo>
                <a:lnTo>
                  <a:pt x="62" y="565"/>
                </a:lnTo>
                <a:lnTo>
                  <a:pt x="62" y="558"/>
                </a:lnTo>
                <a:lnTo>
                  <a:pt x="56" y="565"/>
                </a:lnTo>
                <a:lnTo>
                  <a:pt x="49" y="565"/>
                </a:lnTo>
                <a:lnTo>
                  <a:pt x="49" y="565"/>
                </a:lnTo>
                <a:lnTo>
                  <a:pt x="42" y="572"/>
                </a:lnTo>
                <a:lnTo>
                  <a:pt x="35" y="572"/>
                </a:lnTo>
                <a:lnTo>
                  <a:pt x="28" y="579"/>
                </a:lnTo>
                <a:lnTo>
                  <a:pt x="28" y="586"/>
                </a:lnTo>
                <a:lnTo>
                  <a:pt x="21" y="586"/>
                </a:lnTo>
                <a:lnTo>
                  <a:pt x="21" y="593"/>
                </a:lnTo>
                <a:lnTo>
                  <a:pt x="21" y="600"/>
                </a:lnTo>
                <a:lnTo>
                  <a:pt x="21" y="607"/>
                </a:lnTo>
                <a:lnTo>
                  <a:pt x="28" y="607"/>
                </a:lnTo>
                <a:lnTo>
                  <a:pt x="35" y="613"/>
                </a:lnTo>
                <a:lnTo>
                  <a:pt x="42" y="613"/>
                </a:lnTo>
                <a:lnTo>
                  <a:pt x="49" y="620"/>
                </a:lnTo>
                <a:lnTo>
                  <a:pt x="56" y="620"/>
                </a:lnTo>
                <a:lnTo>
                  <a:pt x="62" y="627"/>
                </a:lnTo>
                <a:lnTo>
                  <a:pt x="69" y="627"/>
                </a:lnTo>
                <a:lnTo>
                  <a:pt x="76" y="627"/>
                </a:lnTo>
                <a:lnTo>
                  <a:pt x="83" y="627"/>
                </a:lnTo>
                <a:lnTo>
                  <a:pt x="90" y="627"/>
                </a:lnTo>
                <a:lnTo>
                  <a:pt x="104" y="634"/>
                </a:lnTo>
                <a:lnTo>
                  <a:pt x="111" y="634"/>
                </a:lnTo>
                <a:lnTo>
                  <a:pt x="118" y="634"/>
                </a:lnTo>
                <a:lnTo>
                  <a:pt x="124" y="634"/>
                </a:lnTo>
                <a:lnTo>
                  <a:pt x="131" y="634"/>
                </a:lnTo>
                <a:lnTo>
                  <a:pt x="138" y="641"/>
                </a:lnTo>
                <a:lnTo>
                  <a:pt x="145" y="641"/>
                </a:lnTo>
                <a:lnTo>
                  <a:pt x="152" y="648"/>
                </a:lnTo>
                <a:lnTo>
                  <a:pt x="159" y="655"/>
                </a:lnTo>
                <a:lnTo>
                  <a:pt x="166" y="655"/>
                </a:lnTo>
                <a:lnTo>
                  <a:pt x="173" y="655"/>
                </a:lnTo>
                <a:lnTo>
                  <a:pt x="180" y="662"/>
                </a:lnTo>
                <a:lnTo>
                  <a:pt x="187" y="662"/>
                </a:lnTo>
                <a:lnTo>
                  <a:pt x="193" y="662"/>
                </a:lnTo>
                <a:lnTo>
                  <a:pt x="207" y="662"/>
                </a:lnTo>
                <a:lnTo>
                  <a:pt x="214" y="662"/>
                </a:lnTo>
                <a:lnTo>
                  <a:pt x="221" y="662"/>
                </a:lnTo>
                <a:lnTo>
                  <a:pt x="228" y="662"/>
                </a:lnTo>
                <a:lnTo>
                  <a:pt x="235" y="662"/>
                </a:lnTo>
                <a:lnTo>
                  <a:pt x="249" y="662"/>
                </a:lnTo>
                <a:lnTo>
                  <a:pt x="255" y="655"/>
                </a:lnTo>
                <a:lnTo>
                  <a:pt x="262" y="655"/>
                </a:lnTo>
                <a:lnTo>
                  <a:pt x="269" y="655"/>
                </a:lnTo>
                <a:lnTo>
                  <a:pt x="276" y="662"/>
                </a:lnTo>
                <a:lnTo>
                  <a:pt x="283" y="662"/>
                </a:lnTo>
                <a:lnTo>
                  <a:pt x="283" y="669"/>
                </a:lnTo>
                <a:lnTo>
                  <a:pt x="290" y="675"/>
                </a:lnTo>
                <a:lnTo>
                  <a:pt x="290" y="682"/>
                </a:lnTo>
                <a:lnTo>
                  <a:pt x="290" y="689"/>
                </a:lnTo>
                <a:lnTo>
                  <a:pt x="290" y="696"/>
                </a:lnTo>
                <a:lnTo>
                  <a:pt x="290" y="696"/>
                </a:lnTo>
                <a:lnTo>
                  <a:pt x="290" y="703"/>
                </a:lnTo>
                <a:lnTo>
                  <a:pt x="297" y="710"/>
                </a:lnTo>
                <a:lnTo>
                  <a:pt x="304" y="710"/>
                </a:lnTo>
                <a:lnTo>
                  <a:pt x="311" y="710"/>
                </a:lnTo>
                <a:lnTo>
                  <a:pt x="324" y="717"/>
                </a:lnTo>
                <a:lnTo>
                  <a:pt x="324" y="710"/>
                </a:lnTo>
                <a:close/>
                <a:moveTo>
                  <a:pt x="469" y="710"/>
                </a:moveTo>
                <a:lnTo>
                  <a:pt x="469" y="710"/>
                </a:lnTo>
                <a:lnTo>
                  <a:pt x="469" y="710"/>
                </a:lnTo>
                <a:lnTo>
                  <a:pt x="469" y="710"/>
                </a:lnTo>
                <a:lnTo>
                  <a:pt x="469" y="710"/>
                </a:lnTo>
                <a:lnTo>
                  <a:pt x="469" y="703"/>
                </a:lnTo>
                <a:lnTo>
                  <a:pt x="469" y="710"/>
                </a:lnTo>
                <a:lnTo>
                  <a:pt x="469" y="710"/>
                </a:lnTo>
                <a:lnTo>
                  <a:pt x="469" y="710"/>
                </a:lnTo>
                <a:lnTo>
                  <a:pt x="469" y="710"/>
                </a:lnTo>
                <a:lnTo>
                  <a:pt x="469" y="710"/>
                </a:lnTo>
                <a:lnTo>
                  <a:pt x="469" y="710"/>
                </a:lnTo>
                <a:lnTo>
                  <a:pt x="469" y="710"/>
                </a:lnTo>
                <a:lnTo>
                  <a:pt x="469" y="710"/>
                </a:lnTo>
                <a:lnTo>
                  <a:pt x="469" y="710"/>
                </a:lnTo>
                <a:close/>
                <a:moveTo>
                  <a:pt x="2069" y="682"/>
                </a:moveTo>
                <a:lnTo>
                  <a:pt x="2076" y="675"/>
                </a:lnTo>
                <a:lnTo>
                  <a:pt x="2083" y="669"/>
                </a:lnTo>
                <a:lnTo>
                  <a:pt x="2083" y="669"/>
                </a:lnTo>
                <a:lnTo>
                  <a:pt x="2083" y="662"/>
                </a:lnTo>
                <a:lnTo>
                  <a:pt x="2083" y="655"/>
                </a:lnTo>
                <a:lnTo>
                  <a:pt x="2076" y="648"/>
                </a:lnTo>
                <a:lnTo>
                  <a:pt x="2076" y="641"/>
                </a:lnTo>
                <a:lnTo>
                  <a:pt x="2069" y="634"/>
                </a:lnTo>
                <a:lnTo>
                  <a:pt x="2062" y="634"/>
                </a:lnTo>
                <a:lnTo>
                  <a:pt x="2062" y="641"/>
                </a:lnTo>
                <a:lnTo>
                  <a:pt x="2062" y="648"/>
                </a:lnTo>
                <a:lnTo>
                  <a:pt x="2062" y="655"/>
                </a:lnTo>
                <a:lnTo>
                  <a:pt x="2062" y="662"/>
                </a:lnTo>
                <a:lnTo>
                  <a:pt x="2062" y="669"/>
                </a:lnTo>
                <a:lnTo>
                  <a:pt x="2062" y="669"/>
                </a:lnTo>
                <a:lnTo>
                  <a:pt x="2062" y="675"/>
                </a:lnTo>
                <a:lnTo>
                  <a:pt x="2062" y="682"/>
                </a:lnTo>
                <a:lnTo>
                  <a:pt x="2069" y="689"/>
                </a:lnTo>
                <a:lnTo>
                  <a:pt x="2069" y="689"/>
                </a:lnTo>
                <a:lnTo>
                  <a:pt x="2069" y="682"/>
                </a:lnTo>
                <a:close/>
                <a:moveTo>
                  <a:pt x="14" y="620"/>
                </a:moveTo>
                <a:lnTo>
                  <a:pt x="0" y="613"/>
                </a:lnTo>
                <a:lnTo>
                  <a:pt x="0" y="620"/>
                </a:lnTo>
                <a:lnTo>
                  <a:pt x="0" y="641"/>
                </a:lnTo>
                <a:lnTo>
                  <a:pt x="14" y="620"/>
                </a:lnTo>
                <a:close/>
                <a:moveTo>
                  <a:pt x="1214" y="593"/>
                </a:moveTo>
                <a:lnTo>
                  <a:pt x="1214" y="593"/>
                </a:lnTo>
                <a:lnTo>
                  <a:pt x="1214" y="593"/>
                </a:lnTo>
                <a:lnTo>
                  <a:pt x="1207" y="593"/>
                </a:lnTo>
                <a:lnTo>
                  <a:pt x="1207" y="593"/>
                </a:lnTo>
                <a:lnTo>
                  <a:pt x="1207" y="593"/>
                </a:lnTo>
                <a:lnTo>
                  <a:pt x="1207" y="593"/>
                </a:lnTo>
                <a:lnTo>
                  <a:pt x="1207" y="593"/>
                </a:lnTo>
                <a:lnTo>
                  <a:pt x="1207" y="593"/>
                </a:lnTo>
                <a:lnTo>
                  <a:pt x="1207" y="593"/>
                </a:lnTo>
                <a:lnTo>
                  <a:pt x="1207" y="593"/>
                </a:lnTo>
                <a:lnTo>
                  <a:pt x="1207" y="593"/>
                </a:lnTo>
                <a:lnTo>
                  <a:pt x="1207" y="593"/>
                </a:lnTo>
                <a:lnTo>
                  <a:pt x="1207" y="593"/>
                </a:lnTo>
                <a:lnTo>
                  <a:pt x="1214" y="593"/>
                </a:lnTo>
                <a:close/>
                <a:moveTo>
                  <a:pt x="2110" y="593"/>
                </a:moveTo>
                <a:lnTo>
                  <a:pt x="2117" y="586"/>
                </a:lnTo>
                <a:lnTo>
                  <a:pt x="2124" y="579"/>
                </a:lnTo>
                <a:lnTo>
                  <a:pt x="2124" y="572"/>
                </a:lnTo>
                <a:lnTo>
                  <a:pt x="2117" y="565"/>
                </a:lnTo>
                <a:lnTo>
                  <a:pt x="2110" y="551"/>
                </a:lnTo>
                <a:lnTo>
                  <a:pt x="2103" y="545"/>
                </a:lnTo>
                <a:lnTo>
                  <a:pt x="2096" y="545"/>
                </a:lnTo>
                <a:lnTo>
                  <a:pt x="2090" y="551"/>
                </a:lnTo>
                <a:lnTo>
                  <a:pt x="2090" y="565"/>
                </a:lnTo>
                <a:lnTo>
                  <a:pt x="2090" y="572"/>
                </a:lnTo>
                <a:lnTo>
                  <a:pt x="2090" y="579"/>
                </a:lnTo>
                <a:lnTo>
                  <a:pt x="2090" y="586"/>
                </a:lnTo>
                <a:lnTo>
                  <a:pt x="2090" y="593"/>
                </a:lnTo>
                <a:lnTo>
                  <a:pt x="2090" y="607"/>
                </a:lnTo>
                <a:lnTo>
                  <a:pt x="2096" y="613"/>
                </a:lnTo>
                <a:lnTo>
                  <a:pt x="2096" y="620"/>
                </a:lnTo>
                <a:lnTo>
                  <a:pt x="2096" y="620"/>
                </a:lnTo>
                <a:lnTo>
                  <a:pt x="2103" y="613"/>
                </a:lnTo>
                <a:lnTo>
                  <a:pt x="2103" y="607"/>
                </a:lnTo>
                <a:lnTo>
                  <a:pt x="2110" y="593"/>
                </a:lnTo>
                <a:close/>
                <a:moveTo>
                  <a:pt x="2131" y="531"/>
                </a:moveTo>
                <a:lnTo>
                  <a:pt x="2131" y="531"/>
                </a:lnTo>
                <a:lnTo>
                  <a:pt x="2138" y="524"/>
                </a:lnTo>
                <a:lnTo>
                  <a:pt x="2138" y="517"/>
                </a:lnTo>
                <a:lnTo>
                  <a:pt x="2138" y="510"/>
                </a:lnTo>
                <a:lnTo>
                  <a:pt x="2131" y="503"/>
                </a:lnTo>
                <a:lnTo>
                  <a:pt x="2131" y="503"/>
                </a:lnTo>
                <a:lnTo>
                  <a:pt x="2124" y="496"/>
                </a:lnTo>
                <a:lnTo>
                  <a:pt x="2117" y="503"/>
                </a:lnTo>
                <a:lnTo>
                  <a:pt x="2110" y="510"/>
                </a:lnTo>
                <a:lnTo>
                  <a:pt x="2110" y="517"/>
                </a:lnTo>
                <a:lnTo>
                  <a:pt x="2110" y="524"/>
                </a:lnTo>
                <a:lnTo>
                  <a:pt x="2110" y="524"/>
                </a:lnTo>
                <a:lnTo>
                  <a:pt x="2117" y="531"/>
                </a:lnTo>
                <a:lnTo>
                  <a:pt x="2117" y="538"/>
                </a:lnTo>
                <a:lnTo>
                  <a:pt x="2124" y="545"/>
                </a:lnTo>
                <a:lnTo>
                  <a:pt x="2124" y="551"/>
                </a:lnTo>
                <a:lnTo>
                  <a:pt x="2124" y="551"/>
                </a:lnTo>
                <a:lnTo>
                  <a:pt x="2131" y="551"/>
                </a:lnTo>
                <a:lnTo>
                  <a:pt x="2131" y="545"/>
                </a:lnTo>
                <a:lnTo>
                  <a:pt x="2131" y="531"/>
                </a:lnTo>
                <a:close/>
                <a:moveTo>
                  <a:pt x="345" y="476"/>
                </a:moveTo>
                <a:lnTo>
                  <a:pt x="338" y="462"/>
                </a:lnTo>
                <a:lnTo>
                  <a:pt x="331" y="455"/>
                </a:lnTo>
                <a:lnTo>
                  <a:pt x="331" y="448"/>
                </a:lnTo>
                <a:lnTo>
                  <a:pt x="324" y="448"/>
                </a:lnTo>
                <a:lnTo>
                  <a:pt x="318" y="455"/>
                </a:lnTo>
                <a:lnTo>
                  <a:pt x="311" y="462"/>
                </a:lnTo>
                <a:lnTo>
                  <a:pt x="304" y="469"/>
                </a:lnTo>
                <a:lnTo>
                  <a:pt x="304" y="476"/>
                </a:lnTo>
                <a:lnTo>
                  <a:pt x="311" y="483"/>
                </a:lnTo>
                <a:lnTo>
                  <a:pt x="318" y="489"/>
                </a:lnTo>
                <a:lnTo>
                  <a:pt x="324" y="496"/>
                </a:lnTo>
                <a:lnTo>
                  <a:pt x="331" y="489"/>
                </a:lnTo>
                <a:lnTo>
                  <a:pt x="338" y="483"/>
                </a:lnTo>
                <a:lnTo>
                  <a:pt x="345" y="476"/>
                </a:lnTo>
                <a:close/>
                <a:moveTo>
                  <a:pt x="366" y="448"/>
                </a:moveTo>
                <a:lnTo>
                  <a:pt x="366" y="441"/>
                </a:lnTo>
                <a:lnTo>
                  <a:pt x="373" y="434"/>
                </a:lnTo>
                <a:lnTo>
                  <a:pt x="380" y="427"/>
                </a:lnTo>
                <a:lnTo>
                  <a:pt x="380" y="421"/>
                </a:lnTo>
                <a:lnTo>
                  <a:pt x="386" y="414"/>
                </a:lnTo>
                <a:lnTo>
                  <a:pt x="393" y="407"/>
                </a:lnTo>
                <a:lnTo>
                  <a:pt x="400" y="407"/>
                </a:lnTo>
                <a:lnTo>
                  <a:pt x="407" y="400"/>
                </a:lnTo>
                <a:lnTo>
                  <a:pt x="407" y="393"/>
                </a:lnTo>
                <a:lnTo>
                  <a:pt x="407" y="386"/>
                </a:lnTo>
                <a:lnTo>
                  <a:pt x="400" y="379"/>
                </a:lnTo>
                <a:lnTo>
                  <a:pt x="393" y="372"/>
                </a:lnTo>
                <a:lnTo>
                  <a:pt x="386" y="372"/>
                </a:lnTo>
                <a:lnTo>
                  <a:pt x="380" y="372"/>
                </a:lnTo>
                <a:lnTo>
                  <a:pt x="373" y="379"/>
                </a:lnTo>
                <a:lnTo>
                  <a:pt x="373" y="386"/>
                </a:lnTo>
                <a:lnTo>
                  <a:pt x="366" y="393"/>
                </a:lnTo>
                <a:lnTo>
                  <a:pt x="359" y="400"/>
                </a:lnTo>
                <a:lnTo>
                  <a:pt x="359" y="407"/>
                </a:lnTo>
                <a:lnTo>
                  <a:pt x="352" y="414"/>
                </a:lnTo>
                <a:lnTo>
                  <a:pt x="345" y="414"/>
                </a:lnTo>
                <a:lnTo>
                  <a:pt x="338" y="421"/>
                </a:lnTo>
                <a:lnTo>
                  <a:pt x="338" y="427"/>
                </a:lnTo>
                <a:lnTo>
                  <a:pt x="331" y="434"/>
                </a:lnTo>
                <a:lnTo>
                  <a:pt x="324" y="441"/>
                </a:lnTo>
                <a:lnTo>
                  <a:pt x="331" y="448"/>
                </a:lnTo>
                <a:lnTo>
                  <a:pt x="338" y="455"/>
                </a:lnTo>
                <a:lnTo>
                  <a:pt x="345" y="455"/>
                </a:lnTo>
                <a:lnTo>
                  <a:pt x="352" y="462"/>
                </a:lnTo>
                <a:lnTo>
                  <a:pt x="359" y="462"/>
                </a:lnTo>
                <a:lnTo>
                  <a:pt x="366" y="455"/>
                </a:lnTo>
                <a:lnTo>
                  <a:pt x="366" y="448"/>
                </a:lnTo>
                <a:close/>
                <a:moveTo>
                  <a:pt x="2696" y="414"/>
                </a:moveTo>
                <a:lnTo>
                  <a:pt x="2689" y="407"/>
                </a:lnTo>
                <a:lnTo>
                  <a:pt x="2689" y="400"/>
                </a:lnTo>
                <a:lnTo>
                  <a:pt x="2689" y="393"/>
                </a:lnTo>
                <a:lnTo>
                  <a:pt x="2689" y="393"/>
                </a:lnTo>
                <a:lnTo>
                  <a:pt x="2689" y="393"/>
                </a:lnTo>
                <a:lnTo>
                  <a:pt x="2682" y="393"/>
                </a:lnTo>
                <a:lnTo>
                  <a:pt x="2682" y="400"/>
                </a:lnTo>
                <a:lnTo>
                  <a:pt x="2682" y="400"/>
                </a:lnTo>
                <a:lnTo>
                  <a:pt x="2682" y="407"/>
                </a:lnTo>
                <a:lnTo>
                  <a:pt x="2682" y="414"/>
                </a:lnTo>
                <a:lnTo>
                  <a:pt x="2682" y="421"/>
                </a:lnTo>
                <a:lnTo>
                  <a:pt x="2689" y="427"/>
                </a:lnTo>
                <a:lnTo>
                  <a:pt x="2689" y="421"/>
                </a:lnTo>
                <a:lnTo>
                  <a:pt x="2696" y="414"/>
                </a:lnTo>
                <a:close/>
                <a:moveTo>
                  <a:pt x="428" y="359"/>
                </a:moveTo>
                <a:lnTo>
                  <a:pt x="428" y="345"/>
                </a:lnTo>
                <a:lnTo>
                  <a:pt x="421" y="331"/>
                </a:lnTo>
                <a:lnTo>
                  <a:pt x="414" y="324"/>
                </a:lnTo>
                <a:lnTo>
                  <a:pt x="414" y="324"/>
                </a:lnTo>
                <a:lnTo>
                  <a:pt x="407" y="331"/>
                </a:lnTo>
                <a:lnTo>
                  <a:pt x="400" y="338"/>
                </a:lnTo>
                <a:lnTo>
                  <a:pt x="393" y="352"/>
                </a:lnTo>
                <a:lnTo>
                  <a:pt x="393" y="365"/>
                </a:lnTo>
                <a:lnTo>
                  <a:pt x="400" y="372"/>
                </a:lnTo>
                <a:lnTo>
                  <a:pt x="407" y="379"/>
                </a:lnTo>
                <a:lnTo>
                  <a:pt x="414" y="379"/>
                </a:lnTo>
                <a:lnTo>
                  <a:pt x="421" y="379"/>
                </a:lnTo>
                <a:lnTo>
                  <a:pt x="428" y="372"/>
                </a:lnTo>
                <a:lnTo>
                  <a:pt x="428" y="359"/>
                </a:lnTo>
                <a:close/>
                <a:moveTo>
                  <a:pt x="455" y="324"/>
                </a:moveTo>
                <a:lnTo>
                  <a:pt x="455" y="317"/>
                </a:lnTo>
                <a:lnTo>
                  <a:pt x="462" y="310"/>
                </a:lnTo>
                <a:lnTo>
                  <a:pt x="469" y="303"/>
                </a:lnTo>
                <a:lnTo>
                  <a:pt x="476" y="303"/>
                </a:lnTo>
                <a:lnTo>
                  <a:pt x="490" y="297"/>
                </a:lnTo>
                <a:lnTo>
                  <a:pt x="497" y="297"/>
                </a:lnTo>
                <a:lnTo>
                  <a:pt x="504" y="290"/>
                </a:lnTo>
                <a:lnTo>
                  <a:pt x="504" y="283"/>
                </a:lnTo>
                <a:lnTo>
                  <a:pt x="497" y="276"/>
                </a:lnTo>
                <a:lnTo>
                  <a:pt x="497" y="269"/>
                </a:lnTo>
                <a:lnTo>
                  <a:pt x="490" y="255"/>
                </a:lnTo>
                <a:lnTo>
                  <a:pt x="483" y="248"/>
                </a:lnTo>
                <a:lnTo>
                  <a:pt x="476" y="241"/>
                </a:lnTo>
                <a:lnTo>
                  <a:pt x="469" y="241"/>
                </a:lnTo>
                <a:lnTo>
                  <a:pt x="469" y="248"/>
                </a:lnTo>
                <a:lnTo>
                  <a:pt x="462" y="255"/>
                </a:lnTo>
                <a:lnTo>
                  <a:pt x="455" y="262"/>
                </a:lnTo>
                <a:lnTo>
                  <a:pt x="455" y="269"/>
                </a:lnTo>
                <a:lnTo>
                  <a:pt x="449" y="276"/>
                </a:lnTo>
                <a:lnTo>
                  <a:pt x="442" y="283"/>
                </a:lnTo>
                <a:lnTo>
                  <a:pt x="442" y="290"/>
                </a:lnTo>
                <a:lnTo>
                  <a:pt x="435" y="297"/>
                </a:lnTo>
                <a:lnTo>
                  <a:pt x="428" y="303"/>
                </a:lnTo>
                <a:lnTo>
                  <a:pt x="421" y="310"/>
                </a:lnTo>
                <a:lnTo>
                  <a:pt x="414" y="317"/>
                </a:lnTo>
                <a:lnTo>
                  <a:pt x="414" y="324"/>
                </a:lnTo>
                <a:lnTo>
                  <a:pt x="414" y="331"/>
                </a:lnTo>
                <a:lnTo>
                  <a:pt x="428" y="338"/>
                </a:lnTo>
                <a:lnTo>
                  <a:pt x="435" y="338"/>
                </a:lnTo>
                <a:lnTo>
                  <a:pt x="442" y="338"/>
                </a:lnTo>
                <a:lnTo>
                  <a:pt x="449" y="338"/>
                </a:lnTo>
                <a:lnTo>
                  <a:pt x="455" y="324"/>
                </a:lnTo>
                <a:close/>
                <a:moveTo>
                  <a:pt x="359" y="297"/>
                </a:moveTo>
                <a:lnTo>
                  <a:pt x="352" y="297"/>
                </a:lnTo>
                <a:lnTo>
                  <a:pt x="338" y="310"/>
                </a:lnTo>
                <a:lnTo>
                  <a:pt x="338" y="310"/>
                </a:lnTo>
                <a:lnTo>
                  <a:pt x="345" y="310"/>
                </a:lnTo>
                <a:lnTo>
                  <a:pt x="345" y="303"/>
                </a:lnTo>
                <a:lnTo>
                  <a:pt x="352" y="303"/>
                </a:lnTo>
                <a:lnTo>
                  <a:pt x="352" y="303"/>
                </a:lnTo>
                <a:lnTo>
                  <a:pt x="352" y="303"/>
                </a:lnTo>
                <a:lnTo>
                  <a:pt x="359" y="297"/>
                </a:lnTo>
                <a:lnTo>
                  <a:pt x="359" y="297"/>
                </a:lnTo>
                <a:close/>
                <a:moveTo>
                  <a:pt x="386" y="269"/>
                </a:moveTo>
                <a:lnTo>
                  <a:pt x="386" y="269"/>
                </a:lnTo>
                <a:lnTo>
                  <a:pt x="386" y="269"/>
                </a:lnTo>
                <a:lnTo>
                  <a:pt x="386" y="269"/>
                </a:lnTo>
                <a:close/>
                <a:moveTo>
                  <a:pt x="414" y="235"/>
                </a:moveTo>
                <a:lnTo>
                  <a:pt x="421" y="228"/>
                </a:lnTo>
                <a:lnTo>
                  <a:pt x="414" y="235"/>
                </a:lnTo>
                <a:lnTo>
                  <a:pt x="414" y="241"/>
                </a:lnTo>
                <a:lnTo>
                  <a:pt x="414" y="235"/>
                </a:lnTo>
                <a:close/>
                <a:moveTo>
                  <a:pt x="476" y="179"/>
                </a:moveTo>
                <a:lnTo>
                  <a:pt x="469" y="179"/>
                </a:lnTo>
                <a:lnTo>
                  <a:pt x="455" y="193"/>
                </a:lnTo>
                <a:lnTo>
                  <a:pt x="462" y="186"/>
                </a:lnTo>
                <a:lnTo>
                  <a:pt x="462" y="186"/>
                </a:lnTo>
                <a:lnTo>
                  <a:pt x="462" y="186"/>
                </a:lnTo>
                <a:lnTo>
                  <a:pt x="469" y="186"/>
                </a:lnTo>
                <a:lnTo>
                  <a:pt x="469" y="179"/>
                </a:lnTo>
                <a:lnTo>
                  <a:pt x="469" y="179"/>
                </a:lnTo>
                <a:lnTo>
                  <a:pt x="476" y="179"/>
                </a:lnTo>
                <a:lnTo>
                  <a:pt x="476" y="179"/>
                </a:lnTo>
                <a:close/>
                <a:moveTo>
                  <a:pt x="1041" y="179"/>
                </a:moveTo>
                <a:lnTo>
                  <a:pt x="1041" y="173"/>
                </a:lnTo>
                <a:lnTo>
                  <a:pt x="1035" y="166"/>
                </a:lnTo>
                <a:lnTo>
                  <a:pt x="1035" y="166"/>
                </a:lnTo>
                <a:lnTo>
                  <a:pt x="1021" y="166"/>
                </a:lnTo>
                <a:lnTo>
                  <a:pt x="1014" y="166"/>
                </a:lnTo>
                <a:lnTo>
                  <a:pt x="1007" y="173"/>
                </a:lnTo>
                <a:lnTo>
                  <a:pt x="1007" y="173"/>
                </a:lnTo>
                <a:lnTo>
                  <a:pt x="1007" y="179"/>
                </a:lnTo>
                <a:lnTo>
                  <a:pt x="1014" y="186"/>
                </a:lnTo>
                <a:lnTo>
                  <a:pt x="1021" y="186"/>
                </a:lnTo>
                <a:lnTo>
                  <a:pt x="1028" y="186"/>
                </a:lnTo>
                <a:lnTo>
                  <a:pt x="1035" y="186"/>
                </a:lnTo>
                <a:lnTo>
                  <a:pt x="1035" y="186"/>
                </a:lnTo>
                <a:lnTo>
                  <a:pt x="1041" y="179"/>
                </a:lnTo>
                <a:close/>
                <a:moveTo>
                  <a:pt x="524" y="145"/>
                </a:moveTo>
                <a:lnTo>
                  <a:pt x="504" y="145"/>
                </a:lnTo>
                <a:lnTo>
                  <a:pt x="504" y="166"/>
                </a:lnTo>
                <a:lnTo>
                  <a:pt x="524" y="145"/>
                </a:lnTo>
                <a:close/>
                <a:moveTo>
                  <a:pt x="2834" y="117"/>
                </a:moveTo>
                <a:lnTo>
                  <a:pt x="2813" y="117"/>
                </a:lnTo>
                <a:lnTo>
                  <a:pt x="2834" y="138"/>
                </a:lnTo>
                <a:lnTo>
                  <a:pt x="2834" y="117"/>
                </a:lnTo>
                <a:close/>
                <a:moveTo>
                  <a:pt x="814" y="90"/>
                </a:moveTo>
                <a:lnTo>
                  <a:pt x="814" y="83"/>
                </a:lnTo>
                <a:lnTo>
                  <a:pt x="821" y="83"/>
                </a:lnTo>
                <a:lnTo>
                  <a:pt x="821" y="76"/>
                </a:lnTo>
                <a:lnTo>
                  <a:pt x="828" y="76"/>
                </a:lnTo>
                <a:lnTo>
                  <a:pt x="828" y="83"/>
                </a:lnTo>
                <a:lnTo>
                  <a:pt x="835" y="83"/>
                </a:lnTo>
                <a:lnTo>
                  <a:pt x="835" y="90"/>
                </a:lnTo>
                <a:lnTo>
                  <a:pt x="835" y="90"/>
                </a:lnTo>
                <a:lnTo>
                  <a:pt x="835" y="97"/>
                </a:lnTo>
                <a:lnTo>
                  <a:pt x="828" y="97"/>
                </a:lnTo>
                <a:lnTo>
                  <a:pt x="821" y="97"/>
                </a:lnTo>
                <a:lnTo>
                  <a:pt x="821" y="97"/>
                </a:lnTo>
                <a:lnTo>
                  <a:pt x="814" y="97"/>
                </a:lnTo>
                <a:lnTo>
                  <a:pt x="814" y="90"/>
                </a:lnTo>
                <a:close/>
                <a:moveTo>
                  <a:pt x="2807" y="90"/>
                </a:moveTo>
                <a:lnTo>
                  <a:pt x="2772" y="90"/>
                </a:lnTo>
                <a:lnTo>
                  <a:pt x="2772" y="90"/>
                </a:lnTo>
                <a:lnTo>
                  <a:pt x="2772" y="90"/>
                </a:lnTo>
                <a:lnTo>
                  <a:pt x="2779" y="97"/>
                </a:lnTo>
                <a:lnTo>
                  <a:pt x="2779" y="97"/>
                </a:lnTo>
                <a:lnTo>
                  <a:pt x="2786" y="97"/>
                </a:lnTo>
                <a:lnTo>
                  <a:pt x="2786" y="104"/>
                </a:lnTo>
                <a:lnTo>
                  <a:pt x="2793" y="104"/>
                </a:lnTo>
                <a:lnTo>
                  <a:pt x="2800" y="104"/>
                </a:lnTo>
                <a:lnTo>
                  <a:pt x="2807" y="104"/>
                </a:lnTo>
                <a:lnTo>
                  <a:pt x="2807" y="90"/>
                </a:lnTo>
                <a:close/>
                <a:moveTo>
                  <a:pt x="2627" y="28"/>
                </a:moveTo>
                <a:lnTo>
                  <a:pt x="2627" y="28"/>
                </a:lnTo>
                <a:lnTo>
                  <a:pt x="2627" y="28"/>
                </a:lnTo>
                <a:lnTo>
                  <a:pt x="2627" y="28"/>
                </a:lnTo>
                <a:lnTo>
                  <a:pt x="2627" y="28"/>
                </a:lnTo>
                <a:lnTo>
                  <a:pt x="2627" y="28"/>
                </a:lnTo>
                <a:lnTo>
                  <a:pt x="2627" y="28"/>
                </a:lnTo>
                <a:lnTo>
                  <a:pt x="2627" y="28"/>
                </a:lnTo>
                <a:lnTo>
                  <a:pt x="2627" y="28"/>
                </a:lnTo>
                <a:lnTo>
                  <a:pt x="2627" y="28"/>
                </a:lnTo>
                <a:lnTo>
                  <a:pt x="2627" y="28"/>
                </a:lnTo>
                <a:close/>
                <a:moveTo>
                  <a:pt x="2476" y="0"/>
                </a:moveTo>
                <a:lnTo>
                  <a:pt x="2448" y="0"/>
                </a:lnTo>
                <a:lnTo>
                  <a:pt x="2420" y="0"/>
                </a:lnTo>
                <a:lnTo>
                  <a:pt x="2420" y="0"/>
                </a:lnTo>
                <a:lnTo>
                  <a:pt x="2420" y="0"/>
                </a:lnTo>
                <a:lnTo>
                  <a:pt x="2427" y="0"/>
                </a:lnTo>
                <a:lnTo>
                  <a:pt x="2434" y="0"/>
                </a:lnTo>
                <a:lnTo>
                  <a:pt x="2441" y="0"/>
                </a:lnTo>
                <a:lnTo>
                  <a:pt x="2441" y="7"/>
                </a:lnTo>
                <a:lnTo>
                  <a:pt x="2448" y="7"/>
                </a:lnTo>
                <a:lnTo>
                  <a:pt x="2455" y="7"/>
                </a:lnTo>
                <a:lnTo>
                  <a:pt x="2462" y="7"/>
                </a:lnTo>
                <a:lnTo>
                  <a:pt x="2462" y="0"/>
                </a:lnTo>
                <a:lnTo>
                  <a:pt x="2469" y="0"/>
                </a:lnTo>
                <a:lnTo>
                  <a:pt x="2476" y="0"/>
                </a:lnTo>
                <a:close/>
              </a:path>
            </a:pathLst>
          </a:custGeom>
          <a:solidFill>
            <a:srgbClr val="e0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8" name=""/>
          <p:cNvSpPr/>
          <p:nvPr/>
        </p:nvSpPr>
        <p:spPr>
          <a:xfrm>
            <a:off x="2131920" y="2727360"/>
            <a:ext cx="4543560" cy="2921040"/>
          </a:xfrm>
          <a:custGeom>
            <a:avLst/>
            <a:gdLst/>
            <a:ahLst/>
            <a:rect l="l" t="t" r="r" b="b"/>
            <a:pathLst>
              <a:path w="2862" h="1840">
                <a:moveTo>
                  <a:pt x="1310" y="1840"/>
                </a:moveTo>
                <a:lnTo>
                  <a:pt x="1317" y="1833"/>
                </a:lnTo>
                <a:lnTo>
                  <a:pt x="1317" y="1826"/>
                </a:lnTo>
                <a:lnTo>
                  <a:pt x="1324" y="1826"/>
                </a:lnTo>
                <a:lnTo>
                  <a:pt x="1331" y="1819"/>
                </a:lnTo>
                <a:lnTo>
                  <a:pt x="1331" y="1812"/>
                </a:lnTo>
                <a:lnTo>
                  <a:pt x="1338" y="1805"/>
                </a:lnTo>
                <a:lnTo>
                  <a:pt x="1338" y="1798"/>
                </a:lnTo>
                <a:lnTo>
                  <a:pt x="1345" y="1798"/>
                </a:lnTo>
                <a:lnTo>
                  <a:pt x="1345" y="1791"/>
                </a:lnTo>
                <a:lnTo>
                  <a:pt x="1352" y="1784"/>
                </a:lnTo>
                <a:lnTo>
                  <a:pt x="1359" y="1784"/>
                </a:lnTo>
                <a:lnTo>
                  <a:pt x="1372" y="1784"/>
                </a:lnTo>
                <a:lnTo>
                  <a:pt x="1379" y="1778"/>
                </a:lnTo>
                <a:lnTo>
                  <a:pt x="1379" y="1771"/>
                </a:lnTo>
                <a:lnTo>
                  <a:pt x="1386" y="1764"/>
                </a:lnTo>
                <a:lnTo>
                  <a:pt x="1386" y="1764"/>
                </a:lnTo>
                <a:lnTo>
                  <a:pt x="1393" y="1764"/>
                </a:lnTo>
                <a:lnTo>
                  <a:pt x="1400" y="1764"/>
                </a:lnTo>
                <a:lnTo>
                  <a:pt x="1407" y="1771"/>
                </a:lnTo>
                <a:lnTo>
                  <a:pt x="1414" y="1778"/>
                </a:lnTo>
                <a:lnTo>
                  <a:pt x="1407" y="1784"/>
                </a:lnTo>
                <a:lnTo>
                  <a:pt x="1400" y="1784"/>
                </a:lnTo>
                <a:lnTo>
                  <a:pt x="1386" y="1784"/>
                </a:lnTo>
                <a:lnTo>
                  <a:pt x="1379" y="1791"/>
                </a:lnTo>
                <a:lnTo>
                  <a:pt x="1379" y="1798"/>
                </a:lnTo>
                <a:lnTo>
                  <a:pt x="1379" y="1805"/>
                </a:lnTo>
                <a:lnTo>
                  <a:pt x="1379" y="1812"/>
                </a:lnTo>
                <a:lnTo>
                  <a:pt x="1379" y="1819"/>
                </a:lnTo>
                <a:lnTo>
                  <a:pt x="1386" y="1819"/>
                </a:lnTo>
                <a:lnTo>
                  <a:pt x="1386" y="1826"/>
                </a:lnTo>
                <a:lnTo>
                  <a:pt x="1386" y="1833"/>
                </a:lnTo>
                <a:lnTo>
                  <a:pt x="1386" y="1840"/>
                </a:lnTo>
                <a:lnTo>
                  <a:pt x="1414" y="1840"/>
                </a:lnTo>
                <a:lnTo>
                  <a:pt x="1448" y="1840"/>
                </a:lnTo>
                <a:lnTo>
                  <a:pt x="1476" y="1840"/>
                </a:lnTo>
                <a:lnTo>
                  <a:pt x="1503" y="1840"/>
                </a:lnTo>
                <a:lnTo>
                  <a:pt x="1538" y="1840"/>
                </a:lnTo>
                <a:lnTo>
                  <a:pt x="1566" y="1840"/>
                </a:lnTo>
                <a:lnTo>
                  <a:pt x="1593" y="1840"/>
                </a:lnTo>
                <a:lnTo>
                  <a:pt x="1621" y="1840"/>
                </a:lnTo>
                <a:lnTo>
                  <a:pt x="1655" y="1840"/>
                </a:lnTo>
                <a:lnTo>
                  <a:pt x="1683" y="1840"/>
                </a:lnTo>
                <a:lnTo>
                  <a:pt x="1710" y="1840"/>
                </a:lnTo>
                <a:lnTo>
                  <a:pt x="1745" y="1840"/>
                </a:lnTo>
                <a:lnTo>
                  <a:pt x="1772" y="1840"/>
                </a:lnTo>
                <a:lnTo>
                  <a:pt x="1800" y="1840"/>
                </a:lnTo>
                <a:lnTo>
                  <a:pt x="1828" y="1840"/>
                </a:lnTo>
                <a:lnTo>
                  <a:pt x="1862" y="1840"/>
                </a:lnTo>
                <a:lnTo>
                  <a:pt x="1890" y="1840"/>
                </a:lnTo>
                <a:lnTo>
                  <a:pt x="1917" y="1840"/>
                </a:lnTo>
                <a:lnTo>
                  <a:pt x="1952" y="1840"/>
                </a:lnTo>
                <a:lnTo>
                  <a:pt x="1979" y="1840"/>
                </a:lnTo>
                <a:lnTo>
                  <a:pt x="2007" y="1840"/>
                </a:lnTo>
                <a:lnTo>
                  <a:pt x="2034" y="1840"/>
                </a:lnTo>
                <a:lnTo>
                  <a:pt x="2069" y="1840"/>
                </a:lnTo>
                <a:lnTo>
                  <a:pt x="2096" y="1840"/>
                </a:lnTo>
                <a:lnTo>
                  <a:pt x="2124" y="1840"/>
                </a:lnTo>
                <a:lnTo>
                  <a:pt x="2158" y="1840"/>
                </a:lnTo>
                <a:lnTo>
                  <a:pt x="2186" y="1840"/>
                </a:lnTo>
                <a:lnTo>
                  <a:pt x="2214" y="1840"/>
                </a:lnTo>
                <a:lnTo>
                  <a:pt x="2241" y="1840"/>
                </a:lnTo>
                <a:lnTo>
                  <a:pt x="2276" y="1840"/>
                </a:lnTo>
                <a:lnTo>
                  <a:pt x="2303" y="1840"/>
                </a:lnTo>
                <a:lnTo>
                  <a:pt x="2331" y="1840"/>
                </a:lnTo>
                <a:lnTo>
                  <a:pt x="2365" y="1840"/>
                </a:lnTo>
                <a:lnTo>
                  <a:pt x="2393" y="1840"/>
                </a:lnTo>
                <a:lnTo>
                  <a:pt x="2420" y="1840"/>
                </a:lnTo>
                <a:lnTo>
                  <a:pt x="2448" y="1840"/>
                </a:lnTo>
                <a:lnTo>
                  <a:pt x="2483" y="1840"/>
                </a:lnTo>
                <a:lnTo>
                  <a:pt x="2510" y="1812"/>
                </a:lnTo>
                <a:lnTo>
                  <a:pt x="2538" y="1812"/>
                </a:lnTo>
                <a:lnTo>
                  <a:pt x="2565" y="1812"/>
                </a:lnTo>
                <a:lnTo>
                  <a:pt x="2600" y="1812"/>
                </a:lnTo>
                <a:lnTo>
                  <a:pt x="2627" y="1812"/>
                </a:lnTo>
                <a:lnTo>
                  <a:pt x="2655" y="1812"/>
                </a:lnTo>
                <a:lnTo>
                  <a:pt x="2689" y="1812"/>
                </a:lnTo>
                <a:lnTo>
                  <a:pt x="2717" y="1778"/>
                </a:lnTo>
                <a:lnTo>
                  <a:pt x="2717" y="1750"/>
                </a:lnTo>
                <a:lnTo>
                  <a:pt x="2717" y="1722"/>
                </a:lnTo>
                <a:lnTo>
                  <a:pt x="2717" y="1688"/>
                </a:lnTo>
                <a:lnTo>
                  <a:pt x="2745" y="1660"/>
                </a:lnTo>
                <a:lnTo>
                  <a:pt x="2745" y="1633"/>
                </a:lnTo>
                <a:lnTo>
                  <a:pt x="2745" y="1599"/>
                </a:lnTo>
                <a:lnTo>
                  <a:pt x="2745" y="1571"/>
                </a:lnTo>
                <a:lnTo>
                  <a:pt x="2772" y="1543"/>
                </a:lnTo>
                <a:lnTo>
                  <a:pt x="2772" y="1516"/>
                </a:lnTo>
                <a:lnTo>
                  <a:pt x="2772" y="1481"/>
                </a:lnTo>
                <a:lnTo>
                  <a:pt x="2772" y="1454"/>
                </a:lnTo>
                <a:lnTo>
                  <a:pt x="2807" y="1426"/>
                </a:lnTo>
                <a:lnTo>
                  <a:pt x="2807" y="1392"/>
                </a:lnTo>
                <a:lnTo>
                  <a:pt x="2807" y="1364"/>
                </a:lnTo>
                <a:lnTo>
                  <a:pt x="2807" y="1337"/>
                </a:lnTo>
                <a:lnTo>
                  <a:pt x="2834" y="1302"/>
                </a:lnTo>
                <a:lnTo>
                  <a:pt x="2834" y="1275"/>
                </a:lnTo>
                <a:lnTo>
                  <a:pt x="2834" y="1247"/>
                </a:lnTo>
                <a:lnTo>
                  <a:pt x="2834" y="1213"/>
                </a:lnTo>
                <a:lnTo>
                  <a:pt x="2862" y="1185"/>
                </a:lnTo>
                <a:lnTo>
                  <a:pt x="2862" y="1158"/>
                </a:lnTo>
                <a:lnTo>
                  <a:pt x="2862" y="1130"/>
                </a:lnTo>
                <a:lnTo>
                  <a:pt x="2862" y="1096"/>
                </a:lnTo>
                <a:lnTo>
                  <a:pt x="2862" y="1068"/>
                </a:lnTo>
                <a:lnTo>
                  <a:pt x="2862" y="1041"/>
                </a:lnTo>
                <a:lnTo>
                  <a:pt x="2862" y="1006"/>
                </a:lnTo>
                <a:lnTo>
                  <a:pt x="2862" y="979"/>
                </a:lnTo>
                <a:lnTo>
                  <a:pt x="2862" y="951"/>
                </a:lnTo>
                <a:lnTo>
                  <a:pt x="2862" y="917"/>
                </a:lnTo>
                <a:lnTo>
                  <a:pt x="2862" y="889"/>
                </a:lnTo>
                <a:lnTo>
                  <a:pt x="2862" y="861"/>
                </a:lnTo>
                <a:lnTo>
                  <a:pt x="2862" y="827"/>
                </a:lnTo>
                <a:lnTo>
                  <a:pt x="2862" y="799"/>
                </a:lnTo>
                <a:lnTo>
                  <a:pt x="2862" y="772"/>
                </a:lnTo>
                <a:lnTo>
                  <a:pt x="2862" y="744"/>
                </a:lnTo>
                <a:lnTo>
                  <a:pt x="2862" y="710"/>
                </a:lnTo>
                <a:lnTo>
                  <a:pt x="2862" y="682"/>
                </a:lnTo>
                <a:lnTo>
                  <a:pt x="2862" y="655"/>
                </a:lnTo>
                <a:lnTo>
                  <a:pt x="2862" y="620"/>
                </a:lnTo>
                <a:lnTo>
                  <a:pt x="2862" y="593"/>
                </a:lnTo>
                <a:lnTo>
                  <a:pt x="2862" y="565"/>
                </a:lnTo>
                <a:lnTo>
                  <a:pt x="2862" y="531"/>
                </a:lnTo>
                <a:lnTo>
                  <a:pt x="2862" y="503"/>
                </a:lnTo>
                <a:lnTo>
                  <a:pt x="2862" y="476"/>
                </a:lnTo>
                <a:lnTo>
                  <a:pt x="2862" y="448"/>
                </a:lnTo>
                <a:lnTo>
                  <a:pt x="2862" y="414"/>
                </a:lnTo>
                <a:lnTo>
                  <a:pt x="2862" y="386"/>
                </a:lnTo>
                <a:lnTo>
                  <a:pt x="2862" y="359"/>
                </a:lnTo>
                <a:lnTo>
                  <a:pt x="2862" y="324"/>
                </a:lnTo>
                <a:lnTo>
                  <a:pt x="2862" y="297"/>
                </a:lnTo>
                <a:lnTo>
                  <a:pt x="2862" y="269"/>
                </a:lnTo>
                <a:lnTo>
                  <a:pt x="2834" y="235"/>
                </a:lnTo>
                <a:lnTo>
                  <a:pt x="2834" y="207"/>
                </a:lnTo>
                <a:lnTo>
                  <a:pt x="2834" y="179"/>
                </a:lnTo>
                <a:lnTo>
                  <a:pt x="2834" y="166"/>
                </a:lnTo>
                <a:lnTo>
                  <a:pt x="2827" y="173"/>
                </a:lnTo>
                <a:lnTo>
                  <a:pt x="2820" y="173"/>
                </a:lnTo>
                <a:lnTo>
                  <a:pt x="2820" y="179"/>
                </a:lnTo>
                <a:lnTo>
                  <a:pt x="2820" y="186"/>
                </a:lnTo>
                <a:lnTo>
                  <a:pt x="2820" y="193"/>
                </a:lnTo>
                <a:lnTo>
                  <a:pt x="2820" y="200"/>
                </a:lnTo>
                <a:lnTo>
                  <a:pt x="2820" y="207"/>
                </a:lnTo>
                <a:lnTo>
                  <a:pt x="2827" y="214"/>
                </a:lnTo>
                <a:lnTo>
                  <a:pt x="2827" y="221"/>
                </a:lnTo>
                <a:lnTo>
                  <a:pt x="2827" y="228"/>
                </a:lnTo>
                <a:lnTo>
                  <a:pt x="2827" y="235"/>
                </a:lnTo>
                <a:lnTo>
                  <a:pt x="2827" y="235"/>
                </a:lnTo>
                <a:lnTo>
                  <a:pt x="2827" y="241"/>
                </a:lnTo>
                <a:lnTo>
                  <a:pt x="2820" y="248"/>
                </a:lnTo>
                <a:lnTo>
                  <a:pt x="2813" y="255"/>
                </a:lnTo>
                <a:lnTo>
                  <a:pt x="2807" y="255"/>
                </a:lnTo>
                <a:lnTo>
                  <a:pt x="2800" y="262"/>
                </a:lnTo>
                <a:lnTo>
                  <a:pt x="2793" y="269"/>
                </a:lnTo>
                <a:lnTo>
                  <a:pt x="2786" y="269"/>
                </a:lnTo>
                <a:lnTo>
                  <a:pt x="2779" y="276"/>
                </a:lnTo>
                <a:lnTo>
                  <a:pt x="2772" y="283"/>
                </a:lnTo>
                <a:lnTo>
                  <a:pt x="2772" y="290"/>
                </a:lnTo>
                <a:lnTo>
                  <a:pt x="2772" y="297"/>
                </a:lnTo>
                <a:lnTo>
                  <a:pt x="2772" y="303"/>
                </a:lnTo>
                <a:lnTo>
                  <a:pt x="2765" y="303"/>
                </a:lnTo>
                <a:lnTo>
                  <a:pt x="2758" y="310"/>
                </a:lnTo>
                <a:lnTo>
                  <a:pt x="2751" y="317"/>
                </a:lnTo>
                <a:lnTo>
                  <a:pt x="2745" y="324"/>
                </a:lnTo>
                <a:lnTo>
                  <a:pt x="2745" y="324"/>
                </a:lnTo>
                <a:lnTo>
                  <a:pt x="2738" y="331"/>
                </a:lnTo>
                <a:lnTo>
                  <a:pt x="2738" y="338"/>
                </a:lnTo>
                <a:lnTo>
                  <a:pt x="2738" y="345"/>
                </a:lnTo>
                <a:lnTo>
                  <a:pt x="2745" y="352"/>
                </a:lnTo>
                <a:lnTo>
                  <a:pt x="2751" y="359"/>
                </a:lnTo>
                <a:lnTo>
                  <a:pt x="2745" y="365"/>
                </a:lnTo>
                <a:lnTo>
                  <a:pt x="2745" y="359"/>
                </a:lnTo>
                <a:lnTo>
                  <a:pt x="2738" y="352"/>
                </a:lnTo>
                <a:lnTo>
                  <a:pt x="2731" y="352"/>
                </a:lnTo>
                <a:lnTo>
                  <a:pt x="2717" y="352"/>
                </a:lnTo>
                <a:lnTo>
                  <a:pt x="2703" y="352"/>
                </a:lnTo>
                <a:lnTo>
                  <a:pt x="2696" y="352"/>
                </a:lnTo>
                <a:lnTo>
                  <a:pt x="2689" y="359"/>
                </a:lnTo>
                <a:lnTo>
                  <a:pt x="2689" y="365"/>
                </a:lnTo>
                <a:lnTo>
                  <a:pt x="2689" y="372"/>
                </a:lnTo>
                <a:lnTo>
                  <a:pt x="2689" y="379"/>
                </a:lnTo>
                <a:lnTo>
                  <a:pt x="2696" y="386"/>
                </a:lnTo>
                <a:lnTo>
                  <a:pt x="2703" y="386"/>
                </a:lnTo>
                <a:lnTo>
                  <a:pt x="2710" y="386"/>
                </a:lnTo>
                <a:lnTo>
                  <a:pt x="2724" y="393"/>
                </a:lnTo>
                <a:lnTo>
                  <a:pt x="2731" y="393"/>
                </a:lnTo>
                <a:lnTo>
                  <a:pt x="2731" y="400"/>
                </a:lnTo>
                <a:lnTo>
                  <a:pt x="2738" y="407"/>
                </a:lnTo>
                <a:lnTo>
                  <a:pt x="2738" y="414"/>
                </a:lnTo>
                <a:lnTo>
                  <a:pt x="2738" y="421"/>
                </a:lnTo>
                <a:lnTo>
                  <a:pt x="2731" y="427"/>
                </a:lnTo>
                <a:lnTo>
                  <a:pt x="2724" y="434"/>
                </a:lnTo>
                <a:lnTo>
                  <a:pt x="2717" y="441"/>
                </a:lnTo>
                <a:lnTo>
                  <a:pt x="2710" y="441"/>
                </a:lnTo>
                <a:lnTo>
                  <a:pt x="2703" y="448"/>
                </a:lnTo>
                <a:lnTo>
                  <a:pt x="2703" y="455"/>
                </a:lnTo>
                <a:lnTo>
                  <a:pt x="2703" y="462"/>
                </a:lnTo>
                <a:lnTo>
                  <a:pt x="2696" y="469"/>
                </a:lnTo>
                <a:lnTo>
                  <a:pt x="2696" y="476"/>
                </a:lnTo>
                <a:lnTo>
                  <a:pt x="2696" y="476"/>
                </a:lnTo>
                <a:lnTo>
                  <a:pt x="2689" y="483"/>
                </a:lnTo>
                <a:lnTo>
                  <a:pt x="2689" y="489"/>
                </a:lnTo>
                <a:lnTo>
                  <a:pt x="2689" y="496"/>
                </a:lnTo>
                <a:lnTo>
                  <a:pt x="2682" y="503"/>
                </a:lnTo>
                <a:lnTo>
                  <a:pt x="2682" y="510"/>
                </a:lnTo>
                <a:lnTo>
                  <a:pt x="2682" y="517"/>
                </a:lnTo>
                <a:lnTo>
                  <a:pt x="2676" y="524"/>
                </a:lnTo>
                <a:lnTo>
                  <a:pt x="2676" y="531"/>
                </a:lnTo>
                <a:lnTo>
                  <a:pt x="2676" y="531"/>
                </a:lnTo>
                <a:lnTo>
                  <a:pt x="2669" y="538"/>
                </a:lnTo>
                <a:lnTo>
                  <a:pt x="2669" y="545"/>
                </a:lnTo>
                <a:lnTo>
                  <a:pt x="2669" y="551"/>
                </a:lnTo>
                <a:lnTo>
                  <a:pt x="2669" y="558"/>
                </a:lnTo>
                <a:lnTo>
                  <a:pt x="2669" y="565"/>
                </a:lnTo>
                <a:lnTo>
                  <a:pt x="2662" y="572"/>
                </a:lnTo>
                <a:lnTo>
                  <a:pt x="2662" y="579"/>
                </a:lnTo>
                <a:lnTo>
                  <a:pt x="2662" y="586"/>
                </a:lnTo>
                <a:lnTo>
                  <a:pt x="2662" y="593"/>
                </a:lnTo>
                <a:lnTo>
                  <a:pt x="2655" y="600"/>
                </a:lnTo>
                <a:lnTo>
                  <a:pt x="2655" y="600"/>
                </a:lnTo>
                <a:lnTo>
                  <a:pt x="2648" y="607"/>
                </a:lnTo>
                <a:lnTo>
                  <a:pt x="2648" y="613"/>
                </a:lnTo>
                <a:lnTo>
                  <a:pt x="2655" y="620"/>
                </a:lnTo>
                <a:lnTo>
                  <a:pt x="2662" y="627"/>
                </a:lnTo>
                <a:lnTo>
                  <a:pt x="2669" y="634"/>
                </a:lnTo>
                <a:lnTo>
                  <a:pt x="2676" y="634"/>
                </a:lnTo>
                <a:lnTo>
                  <a:pt x="2676" y="641"/>
                </a:lnTo>
                <a:lnTo>
                  <a:pt x="2682" y="648"/>
                </a:lnTo>
                <a:lnTo>
                  <a:pt x="2682" y="655"/>
                </a:lnTo>
                <a:lnTo>
                  <a:pt x="2676" y="662"/>
                </a:lnTo>
                <a:lnTo>
                  <a:pt x="2676" y="669"/>
                </a:lnTo>
                <a:lnTo>
                  <a:pt x="2669" y="675"/>
                </a:lnTo>
                <a:lnTo>
                  <a:pt x="2669" y="682"/>
                </a:lnTo>
                <a:lnTo>
                  <a:pt x="2676" y="682"/>
                </a:lnTo>
                <a:lnTo>
                  <a:pt x="2682" y="689"/>
                </a:lnTo>
                <a:lnTo>
                  <a:pt x="2689" y="696"/>
                </a:lnTo>
                <a:lnTo>
                  <a:pt x="2696" y="696"/>
                </a:lnTo>
                <a:lnTo>
                  <a:pt x="2703" y="703"/>
                </a:lnTo>
                <a:lnTo>
                  <a:pt x="2703" y="710"/>
                </a:lnTo>
                <a:lnTo>
                  <a:pt x="2703" y="717"/>
                </a:lnTo>
                <a:lnTo>
                  <a:pt x="2703" y="724"/>
                </a:lnTo>
                <a:lnTo>
                  <a:pt x="2696" y="731"/>
                </a:lnTo>
                <a:lnTo>
                  <a:pt x="2689" y="737"/>
                </a:lnTo>
                <a:lnTo>
                  <a:pt x="2682" y="737"/>
                </a:lnTo>
                <a:lnTo>
                  <a:pt x="2676" y="731"/>
                </a:lnTo>
                <a:lnTo>
                  <a:pt x="2669" y="724"/>
                </a:lnTo>
                <a:lnTo>
                  <a:pt x="2662" y="724"/>
                </a:lnTo>
                <a:lnTo>
                  <a:pt x="2655" y="724"/>
                </a:lnTo>
                <a:lnTo>
                  <a:pt x="2648" y="731"/>
                </a:lnTo>
                <a:lnTo>
                  <a:pt x="2648" y="737"/>
                </a:lnTo>
                <a:lnTo>
                  <a:pt x="2641" y="744"/>
                </a:lnTo>
                <a:lnTo>
                  <a:pt x="2641" y="751"/>
                </a:lnTo>
                <a:lnTo>
                  <a:pt x="2634" y="758"/>
                </a:lnTo>
                <a:lnTo>
                  <a:pt x="2627" y="758"/>
                </a:lnTo>
                <a:lnTo>
                  <a:pt x="2620" y="751"/>
                </a:lnTo>
                <a:lnTo>
                  <a:pt x="2614" y="744"/>
                </a:lnTo>
                <a:lnTo>
                  <a:pt x="2614" y="737"/>
                </a:lnTo>
                <a:lnTo>
                  <a:pt x="2607" y="731"/>
                </a:lnTo>
                <a:lnTo>
                  <a:pt x="2600" y="731"/>
                </a:lnTo>
                <a:lnTo>
                  <a:pt x="2600" y="724"/>
                </a:lnTo>
                <a:lnTo>
                  <a:pt x="2593" y="717"/>
                </a:lnTo>
                <a:lnTo>
                  <a:pt x="2593" y="710"/>
                </a:lnTo>
                <a:lnTo>
                  <a:pt x="2593" y="703"/>
                </a:lnTo>
                <a:lnTo>
                  <a:pt x="2593" y="696"/>
                </a:lnTo>
                <a:lnTo>
                  <a:pt x="2593" y="689"/>
                </a:lnTo>
                <a:lnTo>
                  <a:pt x="2593" y="682"/>
                </a:lnTo>
                <a:lnTo>
                  <a:pt x="2593" y="675"/>
                </a:lnTo>
                <a:lnTo>
                  <a:pt x="2586" y="669"/>
                </a:lnTo>
                <a:lnTo>
                  <a:pt x="2579" y="662"/>
                </a:lnTo>
                <a:lnTo>
                  <a:pt x="2572" y="655"/>
                </a:lnTo>
                <a:lnTo>
                  <a:pt x="2572" y="655"/>
                </a:lnTo>
                <a:lnTo>
                  <a:pt x="2565" y="655"/>
                </a:lnTo>
                <a:lnTo>
                  <a:pt x="2558" y="662"/>
                </a:lnTo>
                <a:lnTo>
                  <a:pt x="2551" y="669"/>
                </a:lnTo>
                <a:lnTo>
                  <a:pt x="2551" y="675"/>
                </a:lnTo>
                <a:lnTo>
                  <a:pt x="2545" y="682"/>
                </a:lnTo>
                <a:lnTo>
                  <a:pt x="2538" y="689"/>
                </a:lnTo>
                <a:lnTo>
                  <a:pt x="2538" y="696"/>
                </a:lnTo>
                <a:lnTo>
                  <a:pt x="2531" y="696"/>
                </a:lnTo>
                <a:lnTo>
                  <a:pt x="2524" y="703"/>
                </a:lnTo>
                <a:lnTo>
                  <a:pt x="2517" y="710"/>
                </a:lnTo>
                <a:lnTo>
                  <a:pt x="2510" y="717"/>
                </a:lnTo>
                <a:lnTo>
                  <a:pt x="2510" y="717"/>
                </a:lnTo>
                <a:lnTo>
                  <a:pt x="2503" y="724"/>
                </a:lnTo>
                <a:lnTo>
                  <a:pt x="2496" y="731"/>
                </a:lnTo>
                <a:lnTo>
                  <a:pt x="2489" y="737"/>
                </a:lnTo>
                <a:lnTo>
                  <a:pt x="2483" y="737"/>
                </a:lnTo>
                <a:lnTo>
                  <a:pt x="2476" y="744"/>
                </a:lnTo>
                <a:lnTo>
                  <a:pt x="2476" y="751"/>
                </a:lnTo>
                <a:lnTo>
                  <a:pt x="2469" y="751"/>
                </a:lnTo>
                <a:lnTo>
                  <a:pt x="2455" y="758"/>
                </a:lnTo>
                <a:lnTo>
                  <a:pt x="2448" y="765"/>
                </a:lnTo>
                <a:lnTo>
                  <a:pt x="2441" y="765"/>
                </a:lnTo>
                <a:lnTo>
                  <a:pt x="2441" y="772"/>
                </a:lnTo>
                <a:lnTo>
                  <a:pt x="2434" y="779"/>
                </a:lnTo>
                <a:lnTo>
                  <a:pt x="2427" y="786"/>
                </a:lnTo>
                <a:lnTo>
                  <a:pt x="2420" y="786"/>
                </a:lnTo>
                <a:lnTo>
                  <a:pt x="2414" y="793"/>
                </a:lnTo>
                <a:lnTo>
                  <a:pt x="2407" y="799"/>
                </a:lnTo>
                <a:lnTo>
                  <a:pt x="2400" y="799"/>
                </a:lnTo>
                <a:lnTo>
                  <a:pt x="2393" y="806"/>
                </a:lnTo>
                <a:lnTo>
                  <a:pt x="2386" y="813"/>
                </a:lnTo>
                <a:lnTo>
                  <a:pt x="2379" y="813"/>
                </a:lnTo>
                <a:lnTo>
                  <a:pt x="2372" y="820"/>
                </a:lnTo>
                <a:lnTo>
                  <a:pt x="2372" y="827"/>
                </a:lnTo>
                <a:lnTo>
                  <a:pt x="2365" y="834"/>
                </a:lnTo>
                <a:lnTo>
                  <a:pt x="2365" y="841"/>
                </a:lnTo>
                <a:lnTo>
                  <a:pt x="2365" y="848"/>
                </a:lnTo>
                <a:lnTo>
                  <a:pt x="2365" y="855"/>
                </a:lnTo>
                <a:lnTo>
                  <a:pt x="2365" y="855"/>
                </a:lnTo>
                <a:lnTo>
                  <a:pt x="2365" y="861"/>
                </a:lnTo>
                <a:lnTo>
                  <a:pt x="2358" y="868"/>
                </a:lnTo>
                <a:lnTo>
                  <a:pt x="2358" y="875"/>
                </a:lnTo>
                <a:lnTo>
                  <a:pt x="2358" y="882"/>
                </a:lnTo>
                <a:lnTo>
                  <a:pt x="2358" y="889"/>
                </a:lnTo>
                <a:lnTo>
                  <a:pt x="2358" y="896"/>
                </a:lnTo>
                <a:lnTo>
                  <a:pt x="2358" y="903"/>
                </a:lnTo>
                <a:lnTo>
                  <a:pt x="2358" y="910"/>
                </a:lnTo>
                <a:lnTo>
                  <a:pt x="2352" y="917"/>
                </a:lnTo>
                <a:lnTo>
                  <a:pt x="2352" y="923"/>
                </a:lnTo>
                <a:lnTo>
                  <a:pt x="2352" y="930"/>
                </a:lnTo>
                <a:lnTo>
                  <a:pt x="2352" y="930"/>
                </a:lnTo>
                <a:lnTo>
                  <a:pt x="2352" y="937"/>
                </a:lnTo>
                <a:lnTo>
                  <a:pt x="2352" y="944"/>
                </a:lnTo>
                <a:lnTo>
                  <a:pt x="2352" y="951"/>
                </a:lnTo>
                <a:lnTo>
                  <a:pt x="2345" y="958"/>
                </a:lnTo>
                <a:lnTo>
                  <a:pt x="2345" y="965"/>
                </a:lnTo>
                <a:lnTo>
                  <a:pt x="2345" y="972"/>
                </a:lnTo>
                <a:lnTo>
                  <a:pt x="2345" y="979"/>
                </a:lnTo>
                <a:lnTo>
                  <a:pt x="2345" y="985"/>
                </a:lnTo>
                <a:lnTo>
                  <a:pt x="2345" y="992"/>
                </a:lnTo>
                <a:lnTo>
                  <a:pt x="2345" y="999"/>
                </a:lnTo>
                <a:lnTo>
                  <a:pt x="2345" y="1006"/>
                </a:lnTo>
                <a:lnTo>
                  <a:pt x="2345" y="1006"/>
                </a:lnTo>
                <a:lnTo>
                  <a:pt x="2345" y="1013"/>
                </a:lnTo>
                <a:lnTo>
                  <a:pt x="2345" y="1020"/>
                </a:lnTo>
                <a:lnTo>
                  <a:pt x="2345" y="1027"/>
                </a:lnTo>
                <a:lnTo>
                  <a:pt x="2345" y="1034"/>
                </a:lnTo>
                <a:lnTo>
                  <a:pt x="2345" y="1041"/>
                </a:lnTo>
                <a:lnTo>
                  <a:pt x="2345" y="1047"/>
                </a:lnTo>
                <a:lnTo>
                  <a:pt x="2352" y="1054"/>
                </a:lnTo>
                <a:lnTo>
                  <a:pt x="2352" y="1061"/>
                </a:lnTo>
                <a:lnTo>
                  <a:pt x="2358" y="1061"/>
                </a:lnTo>
                <a:lnTo>
                  <a:pt x="2358" y="1068"/>
                </a:lnTo>
                <a:lnTo>
                  <a:pt x="2358" y="1075"/>
                </a:lnTo>
                <a:lnTo>
                  <a:pt x="2358" y="1082"/>
                </a:lnTo>
                <a:lnTo>
                  <a:pt x="2358" y="1089"/>
                </a:lnTo>
                <a:lnTo>
                  <a:pt x="2352" y="1096"/>
                </a:lnTo>
                <a:lnTo>
                  <a:pt x="2345" y="1103"/>
                </a:lnTo>
                <a:lnTo>
                  <a:pt x="2338" y="1103"/>
                </a:lnTo>
                <a:lnTo>
                  <a:pt x="2324" y="1103"/>
                </a:lnTo>
                <a:lnTo>
                  <a:pt x="2317" y="1103"/>
                </a:lnTo>
                <a:lnTo>
                  <a:pt x="2303" y="1103"/>
                </a:lnTo>
                <a:lnTo>
                  <a:pt x="2296" y="1103"/>
                </a:lnTo>
                <a:lnTo>
                  <a:pt x="2289" y="1103"/>
                </a:lnTo>
                <a:lnTo>
                  <a:pt x="2276" y="1103"/>
                </a:lnTo>
                <a:lnTo>
                  <a:pt x="2269" y="1103"/>
                </a:lnTo>
                <a:lnTo>
                  <a:pt x="2255" y="1103"/>
                </a:lnTo>
                <a:lnTo>
                  <a:pt x="2248" y="1103"/>
                </a:lnTo>
                <a:lnTo>
                  <a:pt x="2241" y="1103"/>
                </a:lnTo>
                <a:lnTo>
                  <a:pt x="2227" y="1103"/>
                </a:lnTo>
                <a:lnTo>
                  <a:pt x="2221" y="1109"/>
                </a:lnTo>
                <a:lnTo>
                  <a:pt x="2214" y="1109"/>
                </a:lnTo>
                <a:lnTo>
                  <a:pt x="2200" y="1116"/>
                </a:lnTo>
                <a:lnTo>
                  <a:pt x="2193" y="1116"/>
                </a:lnTo>
                <a:lnTo>
                  <a:pt x="2186" y="1123"/>
                </a:lnTo>
                <a:lnTo>
                  <a:pt x="2179" y="1130"/>
                </a:lnTo>
                <a:lnTo>
                  <a:pt x="2179" y="1130"/>
                </a:lnTo>
                <a:lnTo>
                  <a:pt x="2179" y="1137"/>
                </a:lnTo>
                <a:lnTo>
                  <a:pt x="2179" y="1144"/>
                </a:lnTo>
                <a:lnTo>
                  <a:pt x="2179" y="1151"/>
                </a:lnTo>
                <a:lnTo>
                  <a:pt x="2172" y="1158"/>
                </a:lnTo>
                <a:lnTo>
                  <a:pt x="2172" y="1165"/>
                </a:lnTo>
                <a:lnTo>
                  <a:pt x="2165" y="1171"/>
                </a:lnTo>
                <a:lnTo>
                  <a:pt x="2152" y="1171"/>
                </a:lnTo>
                <a:lnTo>
                  <a:pt x="2145" y="1178"/>
                </a:lnTo>
                <a:lnTo>
                  <a:pt x="2138" y="1178"/>
                </a:lnTo>
                <a:lnTo>
                  <a:pt x="2131" y="1178"/>
                </a:lnTo>
                <a:lnTo>
                  <a:pt x="2117" y="1185"/>
                </a:lnTo>
                <a:lnTo>
                  <a:pt x="2110" y="1185"/>
                </a:lnTo>
                <a:lnTo>
                  <a:pt x="2103" y="1192"/>
                </a:lnTo>
                <a:lnTo>
                  <a:pt x="2103" y="1199"/>
                </a:lnTo>
                <a:lnTo>
                  <a:pt x="2110" y="1206"/>
                </a:lnTo>
                <a:lnTo>
                  <a:pt x="2110" y="1213"/>
                </a:lnTo>
                <a:lnTo>
                  <a:pt x="2110" y="1213"/>
                </a:lnTo>
                <a:lnTo>
                  <a:pt x="2103" y="1220"/>
                </a:lnTo>
                <a:lnTo>
                  <a:pt x="2096" y="1227"/>
                </a:lnTo>
                <a:lnTo>
                  <a:pt x="2083" y="1227"/>
                </a:lnTo>
                <a:lnTo>
                  <a:pt x="2076" y="1233"/>
                </a:lnTo>
                <a:lnTo>
                  <a:pt x="2069" y="1233"/>
                </a:lnTo>
                <a:lnTo>
                  <a:pt x="2055" y="1233"/>
                </a:lnTo>
                <a:lnTo>
                  <a:pt x="2048" y="1233"/>
                </a:lnTo>
                <a:lnTo>
                  <a:pt x="2041" y="1240"/>
                </a:lnTo>
                <a:lnTo>
                  <a:pt x="2034" y="1240"/>
                </a:lnTo>
                <a:lnTo>
                  <a:pt x="2034" y="1247"/>
                </a:lnTo>
                <a:lnTo>
                  <a:pt x="2041" y="1254"/>
                </a:lnTo>
                <a:lnTo>
                  <a:pt x="2055" y="1254"/>
                </a:lnTo>
                <a:lnTo>
                  <a:pt x="2062" y="1261"/>
                </a:lnTo>
                <a:lnTo>
                  <a:pt x="2069" y="1261"/>
                </a:lnTo>
                <a:lnTo>
                  <a:pt x="2069" y="1268"/>
                </a:lnTo>
                <a:lnTo>
                  <a:pt x="2076" y="1275"/>
                </a:lnTo>
                <a:lnTo>
                  <a:pt x="2083" y="1282"/>
                </a:lnTo>
                <a:lnTo>
                  <a:pt x="2083" y="1282"/>
                </a:lnTo>
                <a:lnTo>
                  <a:pt x="2090" y="1289"/>
                </a:lnTo>
                <a:lnTo>
                  <a:pt x="2090" y="1295"/>
                </a:lnTo>
                <a:lnTo>
                  <a:pt x="2090" y="1302"/>
                </a:lnTo>
                <a:lnTo>
                  <a:pt x="2096" y="1309"/>
                </a:lnTo>
                <a:lnTo>
                  <a:pt x="2103" y="1316"/>
                </a:lnTo>
                <a:lnTo>
                  <a:pt x="2103" y="1323"/>
                </a:lnTo>
                <a:lnTo>
                  <a:pt x="2110" y="1323"/>
                </a:lnTo>
                <a:lnTo>
                  <a:pt x="2110" y="1330"/>
                </a:lnTo>
                <a:lnTo>
                  <a:pt x="2110" y="1337"/>
                </a:lnTo>
                <a:lnTo>
                  <a:pt x="2103" y="1344"/>
                </a:lnTo>
                <a:lnTo>
                  <a:pt x="2096" y="1344"/>
                </a:lnTo>
                <a:lnTo>
                  <a:pt x="2090" y="1344"/>
                </a:lnTo>
                <a:lnTo>
                  <a:pt x="2083" y="1337"/>
                </a:lnTo>
                <a:lnTo>
                  <a:pt x="2076" y="1330"/>
                </a:lnTo>
                <a:lnTo>
                  <a:pt x="2069" y="1330"/>
                </a:lnTo>
                <a:lnTo>
                  <a:pt x="2055" y="1330"/>
                </a:lnTo>
                <a:lnTo>
                  <a:pt x="2048" y="1330"/>
                </a:lnTo>
                <a:lnTo>
                  <a:pt x="2041" y="1337"/>
                </a:lnTo>
                <a:lnTo>
                  <a:pt x="2034" y="1337"/>
                </a:lnTo>
                <a:lnTo>
                  <a:pt x="2027" y="1344"/>
                </a:lnTo>
                <a:lnTo>
                  <a:pt x="2021" y="1351"/>
                </a:lnTo>
                <a:lnTo>
                  <a:pt x="2014" y="1351"/>
                </a:lnTo>
                <a:lnTo>
                  <a:pt x="2007" y="1357"/>
                </a:lnTo>
                <a:lnTo>
                  <a:pt x="2000" y="1357"/>
                </a:lnTo>
                <a:lnTo>
                  <a:pt x="1986" y="1357"/>
                </a:lnTo>
                <a:lnTo>
                  <a:pt x="1979" y="1357"/>
                </a:lnTo>
                <a:lnTo>
                  <a:pt x="1965" y="1357"/>
                </a:lnTo>
                <a:lnTo>
                  <a:pt x="1959" y="1357"/>
                </a:lnTo>
                <a:lnTo>
                  <a:pt x="1945" y="1357"/>
                </a:lnTo>
                <a:lnTo>
                  <a:pt x="1945" y="1364"/>
                </a:lnTo>
                <a:lnTo>
                  <a:pt x="1938" y="1371"/>
                </a:lnTo>
                <a:lnTo>
                  <a:pt x="1931" y="1378"/>
                </a:lnTo>
                <a:lnTo>
                  <a:pt x="1924" y="1378"/>
                </a:lnTo>
                <a:lnTo>
                  <a:pt x="1924" y="1385"/>
                </a:lnTo>
                <a:lnTo>
                  <a:pt x="1917" y="1392"/>
                </a:lnTo>
                <a:lnTo>
                  <a:pt x="1910" y="1399"/>
                </a:lnTo>
                <a:lnTo>
                  <a:pt x="1903" y="1399"/>
                </a:lnTo>
                <a:lnTo>
                  <a:pt x="1890" y="1406"/>
                </a:lnTo>
                <a:lnTo>
                  <a:pt x="1883" y="1406"/>
                </a:lnTo>
                <a:lnTo>
                  <a:pt x="1876" y="1399"/>
                </a:lnTo>
                <a:lnTo>
                  <a:pt x="1862" y="1399"/>
                </a:lnTo>
                <a:lnTo>
                  <a:pt x="1855" y="1399"/>
                </a:lnTo>
                <a:lnTo>
                  <a:pt x="1848" y="1392"/>
                </a:lnTo>
                <a:lnTo>
                  <a:pt x="1841" y="1385"/>
                </a:lnTo>
                <a:lnTo>
                  <a:pt x="1834" y="1385"/>
                </a:lnTo>
                <a:lnTo>
                  <a:pt x="1828" y="1378"/>
                </a:lnTo>
                <a:lnTo>
                  <a:pt x="1821" y="1371"/>
                </a:lnTo>
                <a:lnTo>
                  <a:pt x="1814" y="1371"/>
                </a:lnTo>
                <a:lnTo>
                  <a:pt x="1807" y="1364"/>
                </a:lnTo>
                <a:lnTo>
                  <a:pt x="1807" y="1357"/>
                </a:lnTo>
                <a:lnTo>
                  <a:pt x="1800" y="1357"/>
                </a:lnTo>
                <a:lnTo>
                  <a:pt x="1786" y="1357"/>
                </a:lnTo>
                <a:lnTo>
                  <a:pt x="1779" y="1357"/>
                </a:lnTo>
                <a:lnTo>
                  <a:pt x="1772" y="1364"/>
                </a:lnTo>
                <a:lnTo>
                  <a:pt x="1765" y="1357"/>
                </a:lnTo>
                <a:lnTo>
                  <a:pt x="1765" y="1351"/>
                </a:lnTo>
                <a:lnTo>
                  <a:pt x="1759" y="1344"/>
                </a:lnTo>
                <a:lnTo>
                  <a:pt x="1759" y="1337"/>
                </a:lnTo>
                <a:lnTo>
                  <a:pt x="1759" y="1330"/>
                </a:lnTo>
                <a:lnTo>
                  <a:pt x="1752" y="1323"/>
                </a:lnTo>
                <a:lnTo>
                  <a:pt x="1745" y="1316"/>
                </a:lnTo>
                <a:lnTo>
                  <a:pt x="1738" y="1316"/>
                </a:lnTo>
                <a:lnTo>
                  <a:pt x="1724" y="1316"/>
                </a:lnTo>
                <a:lnTo>
                  <a:pt x="1717" y="1309"/>
                </a:lnTo>
                <a:lnTo>
                  <a:pt x="1710" y="1316"/>
                </a:lnTo>
                <a:lnTo>
                  <a:pt x="1703" y="1316"/>
                </a:lnTo>
                <a:lnTo>
                  <a:pt x="1697" y="1323"/>
                </a:lnTo>
                <a:lnTo>
                  <a:pt x="1690" y="1330"/>
                </a:lnTo>
                <a:lnTo>
                  <a:pt x="1683" y="1337"/>
                </a:lnTo>
                <a:lnTo>
                  <a:pt x="1676" y="1337"/>
                </a:lnTo>
                <a:lnTo>
                  <a:pt x="1669" y="1337"/>
                </a:lnTo>
                <a:lnTo>
                  <a:pt x="1683" y="1330"/>
                </a:lnTo>
                <a:lnTo>
                  <a:pt x="1697" y="1330"/>
                </a:lnTo>
                <a:lnTo>
                  <a:pt x="1703" y="1323"/>
                </a:lnTo>
                <a:lnTo>
                  <a:pt x="1710" y="1323"/>
                </a:lnTo>
                <a:lnTo>
                  <a:pt x="1710" y="1309"/>
                </a:lnTo>
                <a:lnTo>
                  <a:pt x="1710" y="1302"/>
                </a:lnTo>
                <a:lnTo>
                  <a:pt x="1703" y="1302"/>
                </a:lnTo>
                <a:lnTo>
                  <a:pt x="1703" y="1295"/>
                </a:lnTo>
                <a:lnTo>
                  <a:pt x="1697" y="1289"/>
                </a:lnTo>
                <a:lnTo>
                  <a:pt x="1690" y="1282"/>
                </a:lnTo>
                <a:lnTo>
                  <a:pt x="1683" y="1282"/>
                </a:lnTo>
                <a:lnTo>
                  <a:pt x="1676" y="1275"/>
                </a:lnTo>
                <a:lnTo>
                  <a:pt x="1676" y="1268"/>
                </a:lnTo>
                <a:lnTo>
                  <a:pt x="1669" y="1261"/>
                </a:lnTo>
                <a:lnTo>
                  <a:pt x="1669" y="1254"/>
                </a:lnTo>
                <a:lnTo>
                  <a:pt x="1662" y="1247"/>
                </a:lnTo>
                <a:lnTo>
                  <a:pt x="1662" y="1247"/>
                </a:lnTo>
                <a:lnTo>
                  <a:pt x="1655" y="1240"/>
                </a:lnTo>
                <a:lnTo>
                  <a:pt x="1648" y="1233"/>
                </a:lnTo>
                <a:lnTo>
                  <a:pt x="1641" y="1227"/>
                </a:lnTo>
                <a:lnTo>
                  <a:pt x="1641" y="1220"/>
                </a:lnTo>
                <a:lnTo>
                  <a:pt x="1634" y="1213"/>
                </a:lnTo>
                <a:lnTo>
                  <a:pt x="1634" y="1206"/>
                </a:lnTo>
                <a:lnTo>
                  <a:pt x="1634" y="1199"/>
                </a:lnTo>
                <a:lnTo>
                  <a:pt x="1628" y="1192"/>
                </a:lnTo>
                <a:lnTo>
                  <a:pt x="1621" y="1192"/>
                </a:lnTo>
                <a:lnTo>
                  <a:pt x="1614" y="1192"/>
                </a:lnTo>
                <a:lnTo>
                  <a:pt x="1607" y="1199"/>
                </a:lnTo>
                <a:lnTo>
                  <a:pt x="1600" y="1206"/>
                </a:lnTo>
                <a:lnTo>
                  <a:pt x="1600" y="1213"/>
                </a:lnTo>
                <a:lnTo>
                  <a:pt x="1593" y="1220"/>
                </a:lnTo>
                <a:lnTo>
                  <a:pt x="1600" y="1227"/>
                </a:lnTo>
                <a:lnTo>
                  <a:pt x="1600" y="1233"/>
                </a:lnTo>
                <a:lnTo>
                  <a:pt x="1607" y="1240"/>
                </a:lnTo>
                <a:lnTo>
                  <a:pt x="1607" y="1240"/>
                </a:lnTo>
                <a:lnTo>
                  <a:pt x="1607" y="1247"/>
                </a:lnTo>
                <a:lnTo>
                  <a:pt x="1614" y="1254"/>
                </a:lnTo>
                <a:lnTo>
                  <a:pt x="1614" y="1261"/>
                </a:lnTo>
                <a:lnTo>
                  <a:pt x="1614" y="1268"/>
                </a:lnTo>
                <a:lnTo>
                  <a:pt x="1614" y="1275"/>
                </a:lnTo>
                <a:lnTo>
                  <a:pt x="1621" y="1282"/>
                </a:lnTo>
                <a:lnTo>
                  <a:pt x="1628" y="1282"/>
                </a:lnTo>
                <a:lnTo>
                  <a:pt x="1634" y="1289"/>
                </a:lnTo>
                <a:lnTo>
                  <a:pt x="1634" y="1295"/>
                </a:lnTo>
                <a:lnTo>
                  <a:pt x="1634" y="1302"/>
                </a:lnTo>
                <a:lnTo>
                  <a:pt x="1634" y="1309"/>
                </a:lnTo>
                <a:lnTo>
                  <a:pt x="1634" y="1316"/>
                </a:lnTo>
                <a:lnTo>
                  <a:pt x="1628" y="1323"/>
                </a:lnTo>
                <a:lnTo>
                  <a:pt x="1628" y="1330"/>
                </a:lnTo>
                <a:lnTo>
                  <a:pt x="1621" y="1330"/>
                </a:lnTo>
                <a:lnTo>
                  <a:pt x="1614" y="1323"/>
                </a:lnTo>
                <a:lnTo>
                  <a:pt x="1607" y="1316"/>
                </a:lnTo>
                <a:lnTo>
                  <a:pt x="1600" y="1309"/>
                </a:lnTo>
                <a:lnTo>
                  <a:pt x="1593" y="1309"/>
                </a:lnTo>
                <a:lnTo>
                  <a:pt x="1586" y="1309"/>
                </a:lnTo>
                <a:lnTo>
                  <a:pt x="1572" y="1302"/>
                </a:lnTo>
                <a:lnTo>
                  <a:pt x="1566" y="1302"/>
                </a:lnTo>
                <a:lnTo>
                  <a:pt x="1559" y="1309"/>
                </a:lnTo>
                <a:lnTo>
                  <a:pt x="1559" y="1316"/>
                </a:lnTo>
                <a:lnTo>
                  <a:pt x="1559" y="1323"/>
                </a:lnTo>
                <a:lnTo>
                  <a:pt x="1559" y="1330"/>
                </a:lnTo>
                <a:lnTo>
                  <a:pt x="1559" y="1330"/>
                </a:lnTo>
                <a:lnTo>
                  <a:pt x="1559" y="1337"/>
                </a:lnTo>
                <a:lnTo>
                  <a:pt x="1552" y="1344"/>
                </a:lnTo>
                <a:lnTo>
                  <a:pt x="1552" y="1351"/>
                </a:lnTo>
                <a:lnTo>
                  <a:pt x="1552" y="1357"/>
                </a:lnTo>
                <a:lnTo>
                  <a:pt x="1559" y="1364"/>
                </a:lnTo>
                <a:lnTo>
                  <a:pt x="1559" y="1371"/>
                </a:lnTo>
                <a:lnTo>
                  <a:pt x="1566" y="1371"/>
                </a:lnTo>
                <a:lnTo>
                  <a:pt x="1572" y="1364"/>
                </a:lnTo>
                <a:lnTo>
                  <a:pt x="1579" y="1357"/>
                </a:lnTo>
                <a:lnTo>
                  <a:pt x="1593" y="1357"/>
                </a:lnTo>
                <a:lnTo>
                  <a:pt x="1600" y="1357"/>
                </a:lnTo>
                <a:lnTo>
                  <a:pt x="1614" y="1357"/>
                </a:lnTo>
                <a:lnTo>
                  <a:pt x="1621" y="1357"/>
                </a:lnTo>
                <a:lnTo>
                  <a:pt x="1628" y="1357"/>
                </a:lnTo>
                <a:lnTo>
                  <a:pt x="1628" y="1364"/>
                </a:lnTo>
                <a:lnTo>
                  <a:pt x="1634" y="1371"/>
                </a:lnTo>
                <a:lnTo>
                  <a:pt x="1641" y="1378"/>
                </a:lnTo>
                <a:lnTo>
                  <a:pt x="1641" y="1385"/>
                </a:lnTo>
                <a:lnTo>
                  <a:pt x="1648" y="1392"/>
                </a:lnTo>
                <a:lnTo>
                  <a:pt x="1655" y="1392"/>
                </a:lnTo>
                <a:lnTo>
                  <a:pt x="1655" y="1399"/>
                </a:lnTo>
                <a:lnTo>
                  <a:pt x="1662" y="1406"/>
                </a:lnTo>
                <a:lnTo>
                  <a:pt x="1662" y="1413"/>
                </a:lnTo>
                <a:lnTo>
                  <a:pt x="1669" y="1419"/>
                </a:lnTo>
                <a:lnTo>
                  <a:pt x="1676" y="1426"/>
                </a:lnTo>
                <a:lnTo>
                  <a:pt x="1676" y="1426"/>
                </a:lnTo>
                <a:lnTo>
                  <a:pt x="1683" y="1433"/>
                </a:lnTo>
                <a:lnTo>
                  <a:pt x="1690" y="1440"/>
                </a:lnTo>
                <a:lnTo>
                  <a:pt x="1690" y="1447"/>
                </a:lnTo>
                <a:lnTo>
                  <a:pt x="1697" y="1454"/>
                </a:lnTo>
                <a:lnTo>
                  <a:pt x="1697" y="1461"/>
                </a:lnTo>
                <a:lnTo>
                  <a:pt x="1703" y="1461"/>
                </a:lnTo>
                <a:lnTo>
                  <a:pt x="1710" y="1468"/>
                </a:lnTo>
                <a:lnTo>
                  <a:pt x="1710" y="1475"/>
                </a:lnTo>
                <a:lnTo>
                  <a:pt x="1717" y="1481"/>
                </a:lnTo>
                <a:lnTo>
                  <a:pt x="1717" y="1488"/>
                </a:lnTo>
                <a:lnTo>
                  <a:pt x="1724" y="1495"/>
                </a:lnTo>
                <a:lnTo>
                  <a:pt x="1731" y="1495"/>
                </a:lnTo>
                <a:lnTo>
                  <a:pt x="1731" y="1502"/>
                </a:lnTo>
                <a:lnTo>
                  <a:pt x="1738" y="1509"/>
                </a:lnTo>
                <a:lnTo>
                  <a:pt x="1745" y="1516"/>
                </a:lnTo>
                <a:lnTo>
                  <a:pt x="1752" y="1523"/>
                </a:lnTo>
                <a:lnTo>
                  <a:pt x="1752" y="1530"/>
                </a:lnTo>
                <a:lnTo>
                  <a:pt x="1759" y="1537"/>
                </a:lnTo>
                <a:lnTo>
                  <a:pt x="1765" y="1537"/>
                </a:lnTo>
                <a:lnTo>
                  <a:pt x="1772" y="1543"/>
                </a:lnTo>
                <a:lnTo>
                  <a:pt x="1779" y="1537"/>
                </a:lnTo>
                <a:lnTo>
                  <a:pt x="1786" y="1537"/>
                </a:lnTo>
                <a:lnTo>
                  <a:pt x="1786" y="1530"/>
                </a:lnTo>
                <a:lnTo>
                  <a:pt x="1793" y="1523"/>
                </a:lnTo>
                <a:lnTo>
                  <a:pt x="1800" y="1516"/>
                </a:lnTo>
                <a:lnTo>
                  <a:pt x="1800" y="1509"/>
                </a:lnTo>
                <a:lnTo>
                  <a:pt x="1807" y="1502"/>
                </a:lnTo>
                <a:lnTo>
                  <a:pt x="1814" y="1502"/>
                </a:lnTo>
                <a:lnTo>
                  <a:pt x="1828" y="1495"/>
                </a:lnTo>
                <a:lnTo>
                  <a:pt x="1834" y="1502"/>
                </a:lnTo>
                <a:lnTo>
                  <a:pt x="1841" y="1502"/>
                </a:lnTo>
                <a:lnTo>
                  <a:pt x="1848" y="1509"/>
                </a:lnTo>
                <a:lnTo>
                  <a:pt x="1855" y="1509"/>
                </a:lnTo>
                <a:lnTo>
                  <a:pt x="1855" y="1516"/>
                </a:lnTo>
                <a:lnTo>
                  <a:pt x="1848" y="1523"/>
                </a:lnTo>
                <a:lnTo>
                  <a:pt x="1834" y="1523"/>
                </a:lnTo>
                <a:lnTo>
                  <a:pt x="1828" y="1523"/>
                </a:lnTo>
                <a:lnTo>
                  <a:pt x="1821" y="1523"/>
                </a:lnTo>
                <a:lnTo>
                  <a:pt x="1807" y="1523"/>
                </a:lnTo>
                <a:lnTo>
                  <a:pt x="1800" y="1523"/>
                </a:lnTo>
                <a:lnTo>
                  <a:pt x="1793" y="1523"/>
                </a:lnTo>
                <a:lnTo>
                  <a:pt x="1786" y="1530"/>
                </a:lnTo>
                <a:lnTo>
                  <a:pt x="1779" y="1537"/>
                </a:lnTo>
                <a:lnTo>
                  <a:pt x="1772" y="1543"/>
                </a:lnTo>
                <a:lnTo>
                  <a:pt x="1772" y="1550"/>
                </a:lnTo>
                <a:lnTo>
                  <a:pt x="1759" y="1550"/>
                </a:lnTo>
                <a:lnTo>
                  <a:pt x="1752" y="1557"/>
                </a:lnTo>
                <a:lnTo>
                  <a:pt x="1745" y="1557"/>
                </a:lnTo>
                <a:lnTo>
                  <a:pt x="1738" y="1564"/>
                </a:lnTo>
                <a:lnTo>
                  <a:pt x="1731" y="1564"/>
                </a:lnTo>
                <a:lnTo>
                  <a:pt x="1724" y="1571"/>
                </a:lnTo>
                <a:lnTo>
                  <a:pt x="1710" y="1571"/>
                </a:lnTo>
                <a:lnTo>
                  <a:pt x="1703" y="1578"/>
                </a:lnTo>
                <a:lnTo>
                  <a:pt x="1697" y="1578"/>
                </a:lnTo>
                <a:lnTo>
                  <a:pt x="1690" y="1578"/>
                </a:lnTo>
                <a:lnTo>
                  <a:pt x="1676" y="1585"/>
                </a:lnTo>
                <a:lnTo>
                  <a:pt x="1676" y="1592"/>
                </a:lnTo>
                <a:lnTo>
                  <a:pt x="1669" y="1592"/>
                </a:lnTo>
                <a:lnTo>
                  <a:pt x="1662" y="1599"/>
                </a:lnTo>
                <a:lnTo>
                  <a:pt x="1655" y="1605"/>
                </a:lnTo>
                <a:lnTo>
                  <a:pt x="1648" y="1605"/>
                </a:lnTo>
                <a:lnTo>
                  <a:pt x="1641" y="1612"/>
                </a:lnTo>
                <a:lnTo>
                  <a:pt x="1628" y="1612"/>
                </a:lnTo>
                <a:lnTo>
                  <a:pt x="1621" y="1612"/>
                </a:lnTo>
                <a:lnTo>
                  <a:pt x="1607" y="1612"/>
                </a:lnTo>
                <a:lnTo>
                  <a:pt x="1600" y="1612"/>
                </a:lnTo>
                <a:lnTo>
                  <a:pt x="1593" y="1619"/>
                </a:lnTo>
                <a:lnTo>
                  <a:pt x="1586" y="1619"/>
                </a:lnTo>
                <a:lnTo>
                  <a:pt x="1579" y="1626"/>
                </a:lnTo>
                <a:lnTo>
                  <a:pt x="1572" y="1633"/>
                </a:lnTo>
                <a:lnTo>
                  <a:pt x="1566" y="1633"/>
                </a:lnTo>
                <a:lnTo>
                  <a:pt x="1559" y="1640"/>
                </a:lnTo>
                <a:lnTo>
                  <a:pt x="1545" y="1640"/>
                </a:lnTo>
                <a:lnTo>
                  <a:pt x="1538" y="1647"/>
                </a:lnTo>
                <a:lnTo>
                  <a:pt x="1531" y="1647"/>
                </a:lnTo>
                <a:lnTo>
                  <a:pt x="1524" y="1654"/>
                </a:lnTo>
                <a:lnTo>
                  <a:pt x="1517" y="1660"/>
                </a:lnTo>
                <a:lnTo>
                  <a:pt x="1510" y="1660"/>
                </a:lnTo>
                <a:lnTo>
                  <a:pt x="1503" y="1667"/>
                </a:lnTo>
                <a:lnTo>
                  <a:pt x="1503" y="1674"/>
                </a:lnTo>
                <a:lnTo>
                  <a:pt x="1497" y="1681"/>
                </a:lnTo>
                <a:lnTo>
                  <a:pt x="1497" y="1688"/>
                </a:lnTo>
                <a:lnTo>
                  <a:pt x="1490" y="1695"/>
                </a:lnTo>
                <a:lnTo>
                  <a:pt x="1490" y="1695"/>
                </a:lnTo>
                <a:lnTo>
                  <a:pt x="1483" y="1702"/>
                </a:lnTo>
                <a:lnTo>
                  <a:pt x="1483" y="1709"/>
                </a:lnTo>
                <a:lnTo>
                  <a:pt x="1476" y="1716"/>
                </a:lnTo>
                <a:lnTo>
                  <a:pt x="1462" y="1716"/>
                </a:lnTo>
                <a:lnTo>
                  <a:pt x="1455" y="1722"/>
                </a:lnTo>
                <a:lnTo>
                  <a:pt x="1455" y="1729"/>
                </a:lnTo>
                <a:lnTo>
                  <a:pt x="1455" y="1736"/>
                </a:lnTo>
                <a:lnTo>
                  <a:pt x="1455" y="1736"/>
                </a:lnTo>
                <a:lnTo>
                  <a:pt x="1455" y="1750"/>
                </a:lnTo>
                <a:lnTo>
                  <a:pt x="1448" y="1757"/>
                </a:lnTo>
                <a:lnTo>
                  <a:pt x="1441" y="1757"/>
                </a:lnTo>
                <a:lnTo>
                  <a:pt x="1441" y="1750"/>
                </a:lnTo>
                <a:lnTo>
                  <a:pt x="1434" y="1743"/>
                </a:lnTo>
                <a:lnTo>
                  <a:pt x="1428" y="1736"/>
                </a:lnTo>
                <a:lnTo>
                  <a:pt x="1428" y="1729"/>
                </a:lnTo>
                <a:lnTo>
                  <a:pt x="1421" y="1722"/>
                </a:lnTo>
                <a:lnTo>
                  <a:pt x="1414" y="1722"/>
                </a:lnTo>
                <a:lnTo>
                  <a:pt x="1407" y="1722"/>
                </a:lnTo>
                <a:lnTo>
                  <a:pt x="1400" y="1729"/>
                </a:lnTo>
                <a:lnTo>
                  <a:pt x="1393" y="1736"/>
                </a:lnTo>
                <a:lnTo>
                  <a:pt x="1386" y="1736"/>
                </a:lnTo>
                <a:lnTo>
                  <a:pt x="1372" y="1743"/>
                </a:lnTo>
                <a:lnTo>
                  <a:pt x="1366" y="1743"/>
                </a:lnTo>
                <a:lnTo>
                  <a:pt x="1359" y="1743"/>
                </a:lnTo>
                <a:lnTo>
                  <a:pt x="1352" y="1750"/>
                </a:lnTo>
                <a:lnTo>
                  <a:pt x="1338" y="1750"/>
                </a:lnTo>
                <a:lnTo>
                  <a:pt x="1331" y="1750"/>
                </a:lnTo>
                <a:lnTo>
                  <a:pt x="1324" y="1757"/>
                </a:lnTo>
                <a:lnTo>
                  <a:pt x="1310" y="1757"/>
                </a:lnTo>
                <a:lnTo>
                  <a:pt x="1303" y="1764"/>
                </a:lnTo>
                <a:lnTo>
                  <a:pt x="1297" y="1764"/>
                </a:lnTo>
                <a:lnTo>
                  <a:pt x="1283" y="1764"/>
                </a:lnTo>
                <a:lnTo>
                  <a:pt x="1276" y="1771"/>
                </a:lnTo>
                <a:lnTo>
                  <a:pt x="1269" y="1778"/>
                </a:lnTo>
                <a:lnTo>
                  <a:pt x="1269" y="1784"/>
                </a:lnTo>
                <a:lnTo>
                  <a:pt x="1269" y="1791"/>
                </a:lnTo>
                <a:lnTo>
                  <a:pt x="1269" y="1791"/>
                </a:lnTo>
                <a:lnTo>
                  <a:pt x="1262" y="1798"/>
                </a:lnTo>
                <a:lnTo>
                  <a:pt x="1262" y="1805"/>
                </a:lnTo>
                <a:lnTo>
                  <a:pt x="1262" y="1812"/>
                </a:lnTo>
                <a:lnTo>
                  <a:pt x="1262" y="1819"/>
                </a:lnTo>
                <a:lnTo>
                  <a:pt x="1262" y="1826"/>
                </a:lnTo>
                <a:lnTo>
                  <a:pt x="1262" y="1833"/>
                </a:lnTo>
                <a:lnTo>
                  <a:pt x="1262" y="1840"/>
                </a:lnTo>
                <a:lnTo>
                  <a:pt x="1269" y="1840"/>
                </a:lnTo>
                <a:lnTo>
                  <a:pt x="1297" y="1840"/>
                </a:lnTo>
                <a:lnTo>
                  <a:pt x="1310" y="1840"/>
                </a:lnTo>
                <a:close/>
                <a:moveTo>
                  <a:pt x="1386" y="1840"/>
                </a:moveTo>
                <a:lnTo>
                  <a:pt x="1379" y="1833"/>
                </a:lnTo>
                <a:lnTo>
                  <a:pt x="1372" y="1833"/>
                </a:lnTo>
                <a:lnTo>
                  <a:pt x="1366" y="1833"/>
                </a:lnTo>
                <a:lnTo>
                  <a:pt x="1366" y="1833"/>
                </a:lnTo>
                <a:lnTo>
                  <a:pt x="1359" y="1833"/>
                </a:lnTo>
                <a:lnTo>
                  <a:pt x="1352" y="1833"/>
                </a:lnTo>
                <a:lnTo>
                  <a:pt x="1352" y="1833"/>
                </a:lnTo>
                <a:lnTo>
                  <a:pt x="1345" y="1840"/>
                </a:lnTo>
                <a:lnTo>
                  <a:pt x="1359" y="1840"/>
                </a:lnTo>
                <a:lnTo>
                  <a:pt x="1386" y="1840"/>
                </a:lnTo>
                <a:close/>
                <a:moveTo>
                  <a:pt x="1517" y="1722"/>
                </a:moveTo>
                <a:lnTo>
                  <a:pt x="1524" y="1716"/>
                </a:lnTo>
                <a:lnTo>
                  <a:pt x="1524" y="1716"/>
                </a:lnTo>
                <a:lnTo>
                  <a:pt x="1531" y="1709"/>
                </a:lnTo>
                <a:lnTo>
                  <a:pt x="1538" y="1709"/>
                </a:lnTo>
                <a:lnTo>
                  <a:pt x="1538" y="1716"/>
                </a:lnTo>
                <a:lnTo>
                  <a:pt x="1545" y="1716"/>
                </a:lnTo>
                <a:lnTo>
                  <a:pt x="1545" y="1716"/>
                </a:lnTo>
                <a:lnTo>
                  <a:pt x="1545" y="1722"/>
                </a:lnTo>
                <a:lnTo>
                  <a:pt x="1538" y="1722"/>
                </a:lnTo>
                <a:lnTo>
                  <a:pt x="1538" y="1729"/>
                </a:lnTo>
                <a:lnTo>
                  <a:pt x="1531" y="1729"/>
                </a:lnTo>
                <a:lnTo>
                  <a:pt x="1531" y="1729"/>
                </a:lnTo>
                <a:lnTo>
                  <a:pt x="1524" y="1722"/>
                </a:lnTo>
                <a:lnTo>
                  <a:pt x="1517" y="1722"/>
                </a:lnTo>
                <a:close/>
                <a:moveTo>
                  <a:pt x="1697" y="1543"/>
                </a:moveTo>
                <a:lnTo>
                  <a:pt x="1690" y="1537"/>
                </a:lnTo>
                <a:lnTo>
                  <a:pt x="1690" y="1530"/>
                </a:lnTo>
                <a:lnTo>
                  <a:pt x="1683" y="1530"/>
                </a:lnTo>
                <a:lnTo>
                  <a:pt x="1676" y="1530"/>
                </a:lnTo>
                <a:lnTo>
                  <a:pt x="1662" y="1537"/>
                </a:lnTo>
                <a:lnTo>
                  <a:pt x="1655" y="1537"/>
                </a:lnTo>
                <a:lnTo>
                  <a:pt x="1655" y="1543"/>
                </a:lnTo>
                <a:lnTo>
                  <a:pt x="1662" y="1550"/>
                </a:lnTo>
                <a:lnTo>
                  <a:pt x="1669" y="1557"/>
                </a:lnTo>
                <a:lnTo>
                  <a:pt x="1676" y="1557"/>
                </a:lnTo>
                <a:lnTo>
                  <a:pt x="1683" y="1557"/>
                </a:lnTo>
                <a:lnTo>
                  <a:pt x="1690" y="1557"/>
                </a:lnTo>
                <a:lnTo>
                  <a:pt x="1690" y="1550"/>
                </a:lnTo>
                <a:lnTo>
                  <a:pt x="1697" y="1543"/>
                </a:lnTo>
                <a:close/>
                <a:moveTo>
                  <a:pt x="1896" y="1481"/>
                </a:moveTo>
                <a:lnTo>
                  <a:pt x="1903" y="1475"/>
                </a:lnTo>
                <a:lnTo>
                  <a:pt x="1903" y="1468"/>
                </a:lnTo>
                <a:lnTo>
                  <a:pt x="1910" y="1461"/>
                </a:lnTo>
                <a:lnTo>
                  <a:pt x="1917" y="1461"/>
                </a:lnTo>
                <a:lnTo>
                  <a:pt x="1924" y="1468"/>
                </a:lnTo>
                <a:lnTo>
                  <a:pt x="1931" y="1468"/>
                </a:lnTo>
                <a:lnTo>
                  <a:pt x="1938" y="1475"/>
                </a:lnTo>
                <a:lnTo>
                  <a:pt x="1938" y="1481"/>
                </a:lnTo>
                <a:lnTo>
                  <a:pt x="1938" y="1488"/>
                </a:lnTo>
                <a:lnTo>
                  <a:pt x="1931" y="1488"/>
                </a:lnTo>
                <a:lnTo>
                  <a:pt x="1917" y="1488"/>
                </a:lnTo>
                <a:lnTo>
                  <a:pt x="1910" y="1488"/>
                </a:lnTo>
                <a:lnTo>
                  <a:pt x="1903" y="1488"/>
                </a:lnTo>
                <a:lnTo>
                  <a:pt x="1896" y="1481"/>
                </a:lnTo>
                <a:close/>
                <a:moveTo>
                  <a:pt x="2648" y="1275"/>
                </a:moveTo>
                <a:lnTo>
                  <a:pt x="2655" y="1268"/>
                </a:lnTo>
                <a:lnTo>
                  <a:pt x="2655" y="1268"/>
                </a:lnTo>
                <a:lnTo>
                  <a:pt x="2662" y="1268"/>
                </a:lnTo>
                <a:lnTo>
                  <a:pt x="2662" y="1275"/>
                </a:lnTo>
                <a:lnTo>
                  <a:pt x="2669" y="1275"/>
                </a:lnTo>
                <a:lnTo>
                  <a:pt x="2669" y="1282"/>
                </a:lnTo>
                <a:lnTo>
                  <a:pt x="2662" y="1282"/>
                </a:lnTo>
                <a:lnTo>
                  <a:pt x="2662" y="1289"/>
                </a:lnTo>
                <a:lnTo>
                  <a:pt x="2662" y="1289"/>
                </a:lnTo>
                <a:lnTo>
                  <a:pt x="2655" y="1289"/>
                </a:lnTo>
                <a:lnTo>
                  <a:pt x="2655" y="1289"/>
                </a:lnTo>
                <a:lnTo>
                  <a:pt x="2655" y="1289"/>
                </a:lnTo>
                <a:lnTo>
                  <a:pt x="2655" y="1282"/>
                </a:lnTo>
                <a:lnTo>
                  <a:pt x="2648" y="1275"/>
                </a:lnTo>
                <a:close/>
                <a:moveTo>
                  <a:pt x="1745" y="1247"/>
                </a:moveTo>
                <a:lnTo>
                  <a:pt x="1745" y="1247"/>
                </a:lnTo>
                <a:lnTo>
                  <a:pt x="1745" y="1247"/>
                </a:lnTo>
                <a:lnTo>
                  <a:pt x="1745" y="1247"/>
                </a:lnTo>
                <a:lnTo>
                  <a:pt x="1738" y="1247"/>
                </a:lnTo>
                <a:lnTo>
                  <a:pt x="1738" y="1247"/>
                </a:lnTo>
                <a:lnTo>
                  <a:pt x="1738" y="1247"/>
                </a:lnTo>
                <a:lnTo>
                  <a:pt x="1738" y="1247"/>
                </a:lnTo>
                <a:lnTo>
                  <a:pt x="1738" y="1247"/>
                </a:lnTo>
                <a:lnTo>
                  <a:pt x="1738" y="1247"/>
                </a:lnTo>
                <a:lnTo>
                  <a:pt x="1738" y="1247"/>
                </a:lnTo>
                <a:lnTo>
                  <a:pt x="1745" y="1247"/>
                </a:lnTo>
                <a:lnTo>
                  <a:pt x="1745" y="1247"/>
                </a:lnTo>
                <a:lnTo>
                  <a:pt x="1745" y="1247"/>
                </a:lnTo>
                <a:lnTo>
                  <a:pt x="1745" y="1247"/>
                </a:lnTo>
                <a:close/>
                <a:moveTo>
                  <a:pt x="1717" y="1213"/>
                </a:moveTo>
                <a:lnTo>
                  <a:pt x="1717" y="1213"/>
                </a:lnTo>
                <a:lnTo>
                  <a:pt x="1717" y="1206"/>
                </a:lnTo>
                <a:lnTo>
                  <a:pt x="1710" y="1206"/>
                </a:lnTo>
                <a:lnTo>
                  <a:pt x="1703" y="1206"/>
                </a:lnTo>
                <a:lnTo>
                  <a:pt x="1697" y="1206"/>
                </a:lnTo>
                <a:lnTo>
                  <a:pt x="1690" y="1213"/>
                </a:lnTo>
                <a:lnTo>
                  <a:pt x="1690" y="1220"/>
                </a:lnTo>
                <a:lnTo>
                  <a:pt x="1690" y="1220"/>
                </a:lnTo>
                <a:lnTo>
                  <a:pt x="1697" y="1227"/>
                </a:lnTo>
                <a:lnTo>
                  <a:pt x="1703" y="1227"/>
                </a:lnTo>
                <a:lnTo>
                  <a:pt x="1710" y="1227"/>
                </a:lnTo>
                <a:lnTo>
                  <a:pt x="1717" y="1227"/>
                </a:lnTo>
                <a:lnTo>
                  <a:pt x="1717" y="1220"/>
                </a:lnTo>
                <a:lnTo>
                  <a:pt x="1717" y="1213"/>
                </a:lnTo>
                <a:close/>
                <a:moveTo>
                  <a:pt x="1697" y="1185"/>
                </a:moveTo>
                <a:lnTo>
                  <a:pt x="1697" y="1178"/>
                </a:lnTo>
                <a:lnTo>
                  <a:pt x="1690" y="1171"/>
                </a:lnTo>
                <a:lnTo>
                  <a:pt x="1683" y="1171"/>
                </a:lnTo>
                <a:lnTo>
                  <a:pt x="1683" y="1165"/>
                </a:lnTo>
                <a:lnTo>
                  <a:pt x="1676" y="1158"/>
                </a:lnTo>
                <a:lnTo>
                  <a:pt x="1676" y="1151"/>
                </a:lnTo>
                <a:lnTo>
                  <a:pt x="1669" y="1144"/>
                </a:lnTo>
                <a:lnTo>
                  <a:pt x="1662" y="1137"/>
                </a:lnTo>
                <a:lnTo>
                  <a:pt x="1662" y="1130"/>
                </a:lnTo>
                <a:lnTo>
                  <a:pt x="1655" y="1130"/>
                </a:lnTo>
                <a:lnTo>
                  <a:pt x="1655" y="1123"/>
                </a:lnTo>
                <a:lnTo>
                  <a:pt x="1648" y="1116"/>
                </a:lnTo>
                <a:lnTo>
                  <a:pt x="1648" y="1109"/>
                </a:lnTo>
                <a:lnTo>
                  <a:pt x="1641" y="1103"/>
                </a:lnTo>
                <a:lnTo>
                  <a:pt x="1634" y="1096"/>
                </a:lnTo>
                <a:lnTo>
                  <a:pt x="1634" y="1089"/>
                </a:lnTo>
                <a:lnTo>
                  <a:pt x="1628" y="1089"/>
                </a:lnTo>
                <a:lnTo>
                  <a:pt x="1628" y="1082"/>
                </a:lnTo>
                <a:lnTo>
                  <a:pt x="1621" y="1075"/>
                </a:lnTo>
                <a:lnTo>
                  <a:pt x="1621" y="1068"/>
                </a:lnTo>
                <a:lnTo>
                  <a:pt x="1614" y="1061"/>
                </a:lnTo>
                <a:lnTo>
                  <a:pt x="1607" y="1054"/>
                </a:lnTo>
                <a:lnTo>
                  <a:pt x="1607" y="1047"/>
                </a:lnTo>
                <a:lnTo>
                  <a:pt x="1600" y="1041"/>
                </a:lnTo>
                <a:lnTo>
                  <a:pt x="1600" y="1041"/>
                </a:lnTo>
                <a:lnTo>
                  <a:pt x="1593" y="1034"/>
                </a:lnTo>
                <a:lnTo>
                  <a:pt x="1586" y="1027"/>
                </a:lnTo>
                <a:lnTo>
                  <a:pt x="1572" y="1027"/>
                </a:lnTo>
                <a:lnTo>
                  <a:pt x="1566" y="1027"/>
                </a:lnTo>
                <a:lnTo>
                  <a:pt x="1559" y="1034"/>
                </a:lnTo>
                <a:lnTo>
                  <a:pt x="1559" y="1041"/>
                </a:lnTo>
                <a:lnTo>
                  <a:pt x="1552" y="1047"/>
                </a:lnTo>
                <a:lnTo>
                  <a:pt x="1545" y="1054"/>
                </a:lnTo>
                <a:lnTo>
                  <a:pt x="1545" y="1054"/>
                </a:lnTo>
                <a:lnTo>
                  <a:pt x="1538" y="1061"/>
                </a:lnTo>
                <a:lnTo>
                  <a:pt x="1538" y="1068"/>
                </a:lnTo>
                <a:lnTo>
                  <a:pt x="1545" y="1075"/>
                </a:lnTo>
                <a:lnTo>
                  <a:pt x="1552" y="1075"/>
                </a:lnTo>
                <a:lnTo>
                  <a:pt x="1566" y="1082"/>
                </a:lnTo>
                <a:lnTo>
                  <a:pt x="1572" y="1089"/>
                </a:lnTo>
                <a:lnTo>
                  <a:pt x="1572" y="1089"/>
                </a:lnTo>
                <a:lnTo>
                  <a:pt x="1579" y="1096"/>
                </a:lnTo>
                <a:lnTo>
                  <a:pt x="1586" y="1103"/>
                </a:lnTo>
                <a:lnTo>
                  <a:pt x="1593" y="1109"/>
                </a:lnTo>
                <a:lnTo>
                  <a:pt x="1600" y="1109"/>
                </a:lnTo>
                <a:lnTo>
                  <a:pt x="1607" y="1116"/>
                </a:lnTo>
                <a:lnTo>
                  <a:pt x="1614" y="1123"/>
                </a:lnTo>
                <a:lnTo>
                  <a:pt x="1614" y="1130"/>
                </a:lnTo>
                <a:lnTo>
                  <a:pt x="1614" y="1137"/>
                </a:lnTo>
                <a:lnTo>
                  <a:pt x="1621" y="1144"/>
                </a:lnTo>
                <a:lnTo>
                  <a:pt x="1621" y="1144"/>
                </a:lnTo>
                <a:lnTo>
                  <a:pt x="1628" y="1151"/>
                </a:lnTo>
                <a:lnTo>
                  <a:pt x="1634" y="1158"/>
                </a:lnTo>
                <a:lnTo>
                  <a:pt x="1634" y="1165"/>
                </a:lnTo>
                <a:lnTo>
                  <a:pt x="1634" y="1171"/>
                </a:lnTo>
                <a:lnTo>
                  <a:pt x="1634" y="1178"/>
                </a:lnTo>
                <a:lnTo>
                  <a:pt x="1634" y="1185"/>
                </a:lnTo>
                <a:lnTo>
                  <a:pt x="1641" y="1185"/>
                </a:lnTo>
                <a:lnTo>
                  <a:pt x="1655" y="1192"/>
                </a:lnTo>
                <a:lnTo>
                  <a:pt x="1662" y="1199"/>
                </a:lnTo>
                <a:lnTo>
                  <a:pt x="1669" y="1199"/>
                </a:lnTo>
                <a:lnTo>
                  <a:pt x="1676" y="1206"/>
                </a:lnTo>
                <a:lnTo>
                  <a:pt x="1683" y="1213"/>
                </a:lnTo>
                <a:lnTo>
                  <a:pt x="1683" y="1213"/>
                </a:lnTo>
                <a:lnTo>
                  <a:pt x="1690" y="1213"/>
                </a:lnTo>
                <a:lnTo>
                  <a:pt x="1690" y="1206"/>
                </a:lnTo>
                <a:lnTo>
                  <a:pt x="1697" y="1199"/>
                </a:lnTo>
                <a:lnTo>
                  <a:pt x="1697" y="1185"/>
                </a:lnTo>
                <a:close/>
                <a:moveTo>
                  <a:pt x="1607" y="1158"/>
                </a:moveTo>
                <a:lnTo>
                  <a:pt x="1600" y="1151"/>
                </a:lnTo>
                <a:lnTo>
                  <a:pt x="1600" y="1151"/>
                </a:lnTo>
                <a:lnTo>
                  <a:pt x="1593" y="1151"/>
                </a:lnTo>
                <a:lnTo>
                  <a:pt x="1586" y="1151"/>
                </a:lnTo>
                <a:lnTo>
                  <a:pt x="1579" y="1158"/>
                </a:lnTo>
                <a:lnTo>
                  <a:pt x="1579" y="1158"/>
                </a:lnTo>
                <a:lnTo>
                  <a:pt x="1579" y="1165"/>
                </a:lnTo>
                <a:lnTo>
                  <a:pt x="1586" y="1171"/>
                </a:lnTo>
                <a:lnTo>
                  <a:pt x="1593" y="1171"/>
                </a:lnTo>
                <a:lnTo>
                  <a:pt x="1593" y="1171"/>
                </a:lnTo>
                <a:lnTo>
                  <a:pt x="1600" y="1171"/>
                </a:lnTo>
                <a:lnTo>
                  <a:pt x="1600" y="1165"/>
                </a:lnTo>
                <a:lnTo>
                  <a:pt x="1607" y="1165"/>
                </a:lnTo>
                <a:lnTo>
                  <a:pt x="1607" y="1158"/>
                </a:lnTo>
                <a:close/>
                <a:moveTo>
                  <a:pt x="1572" y="1130"/>
                </a:moveTo>
                <a:lnTo>
                  <a:pt x="1572" y="1123"/>
                </a:lnTo>
                <a:lnTo>
                  <a:pt x="1566" y="1116"/>
                </a:lnTo>
                <a:lnTo>
                  <a:pt x="1559" y="1116"/>
                </a:lnTo>
                <a:lnTo>
                  <a:pt x="1552" y="1123"/>
                </a:lnTo>
                <a:lnTo>
                  <a:pt x="1552" y="1123"/>
                </a:lnTo>
                <a:lnTo>
                  <a:pt x="1552" y="1130"/>
                </a:lnTo>
                <a:lnTo>
                  <a:pt x="1552" y="1137"/>
                </a:lnTo>
                <a:lnTo>
                  <a:pt x="1559" y="1144"/>
                </a:lnTo>
                <a:lnTo>
                  <a:pt x="1559" y="1144"/>
                </a:lnTo>
                <a:lnTo>
                  <a:pt x="1566" y="1144"/>
                </a:lnTo>
                <a:lnTo>
                  <a:pt x="1566" y="1144"/>
                </a:lnTo>
                <a:lnTo>
                  <a:pt x="1572" y="1144"/>
                </a:lnTo>
                <a:lnTo>
                  <a:pt x="1572" y="1137"/>
                </a:lnTo>
                <a:lnTo>
                  <a:pt x="1572" y="1130"/>
                </a:lnTo>
                <a:close/>
                <a:moveTo>
                  <a:pt x="2614" y="951"/>
                </a:moveTo>
                <a:lnTo>
                  <a:pt x="2620" y="944"/>
                </a:lnTo>
                <a:lnTo>
                  <a:pt x="2620" y="944"/>
                </a:lnTo>
                <a:lnTo>
                  <a:pt x="2627" y="937"/>
                </a:lnTo>
                <a:lnTo>
                  <a:pt x="2627" y="937"/>
                </a:lnTo>
                <a:lnTo>
                  <a:pt x="2627" y="937"/>
                </a:lnTo>
                <a:lnTo>
                  <a:pt x="2634" y="944"/>
                </a:lnTo>
                <a:lnTo>
                  <a:pt x="2634" y="944"/>
                </a:lnTo>
                <a:lnTo>
                  <a:pt x="2634" y="951"/>
                </a:lnTo>
                <a:lnTo>
                  <a:pt x="2634" y="951"/>
                </a:lnTo>
                <a:lnTo>
                  <a:pt x="2627" y="951"/>
                </a:lnTo>
                <a:lnTo>
                  <a:pt x="2627" y="958"/>
                </a:lnTo>
                <a:lnTo>
                  <a:pt x="2620" y="951"/>
                </a:lnTo>
                <a:lnTo>
                  <a:pt x="2620" y="951"/>
                </a:lnTo>
                <a:lnTo>
                  <a:pt x="2614" y="951"/>
                </a:lnTo>
                <a:close/>
                <a:moveTo>
                  <a:pt x="2441" y="827"/>
                </a:moveTo>
                <a:lnTo>
                  <a:pt x="2441" y="827"/>
                </a:lnTo>
                <a:lnTo>
                  <a:pt x="2448" y="827"/>
                </a:lnTo>
                <a:lnTo>
                  <a:pt x="2448" y="827"/>
                </a:lnTo>
                <a:lnTo>
                  <a:pt x="2448" y="827"/>
                </a:lnTo>
                <a:lnTo>
                  <a:pt x="2448" y="827"/>
                </a:lnTo>
                <a:lnTo>
                  <a:pt x="2455" y="827"/>
                </a:lnTo>
                <a:lnTo>
                  <a:pt x="2455" y="834"/>
                </a:lnTo>
                <a:lnTo>
                  <a:pt x="2455" y="834"/>
                </a:lnTo>
                <a:lnTo>
                  <a:pt x="2448" y="834"/>
                </a:lnTo>
                <a:lnTo>
                  <a:pt x="2448" y="834"/>
                </a:lnTo>
                <a:lnTo>
                  <a:pt x="2448" y="834"/>
                </a:lnTo>
                <a:lnTo>
                  <a:pt x="2448" y="834"/>
                </a:lnTo>
                <a:lnTo>
                  <a:pt x="2441" y="834"/>
                </a:lnTo>
                <a:lnTo>
                  <a:pt x="2441" y="827"/>
                </a:lnTo>
                <a:close/>
                <a:moveTo>
                  <a:pt x="324" y="710"/>
                </a:moveTo>
                <a:lnTo>
                  <a:pt x="331" y="703"/>
                </a:lnTo>
                <a:lnTo>
                  <a:pt x="331" y="696"/>
                </a:lnTo>
                <a:lnTo>
                  <a:pt x="338" y="696"/>
                </a:lnTo>
                <a:lnTo>
                  <a:pt x="338" y="689"/>
                </a:lnTo>
                <a:lnTo>
                  <a:pt x="338" y="682"/>
                </a:lnTo>
                <a:lnTo>
                  <a:pt x="345" y="675"/>
                </a:lnTo>
                <a:lnTo>
                  <a:pt x="345" y="669"/>
                </a:lnTo>
                <a:lnTo>
                  <a:pt x="352" y="662"/>
                </a:lnTo>
                <a:lnTo>
                  <a:pt x="359" y="655"/>
                </a:lnTo>
                <a:lnTo>
                  <a:pt x="366" y="655"/>
                </a:lnTo>
                <a:lnTo>
                  <a:pt x="373" y="655"/>
                </a:lnTo>
                <a:lnTo>
                  <a:pt x="386" y="655"/>
                </a:lnTo>
                <a:lnTo>
                  <a:pt x="393" y="662"/>
                </a:lnTo>
                <a:lnTo>
                  <a:pt x="407" y="662"/>
                </a:lnTo>
                <a:lnTo>
                  <a:pt x="414" y="669"/>
                </a:lnTo>
                <a:lnTo>
                  <a:pt x="421" y="669"/>
                </a:lnTo>
                <a:lnTo>
                  <a:pt x="428" y="675"/>
                </a:lnTo>
                <a:lnTo>
                  <a:pt x="435" y="682"/>
                </a:lnTo>
                <a:lnTo>
                  <a:pt x="442" y="689"/>
                </a:lnTo>
                <a:lnTo>
                  <a:pt x="442" y="689"/>
                </a:lnTo>
                <a:lnTo>
                  <a:pt x="449" y="689"/>
                </a:lnTo>
                <a:lnTo>
                  <a:pt x="462" y="682"/>
                </a:lnTo>
                <a:lnTo>
                  <a:pt x="469" y="682"/>
                </a:lnTo>
                <a:lnTo>
                  <a:pt x="476" y="675"/>
                </a:lnTo>
                <a:lnTo>
                  <a:pt x="490" y="675"/>
                </a:lnTo>
                <a:lnTo>
                  <a:pt x="497" y="669"/>
                </a:lnTo>
                <a:lnTo>
                  <a:pt x="504" y="669"/>
                </a:lnTo>
                <a:lnTo>
                  <a:pt x="504" y="662"/>
                </a:lnTo>
                <a:lnTo>
                  <a:pt x="511" y="655"/>
                </a:lnTo>
                <a:lnTo>
                  <a:pt x="511" y="648"/>
                </a:lnTo>
                <a:lnTo>
                  <a:pt x="511" y="641"/>
                </a:lnTo>
                <a:lnTo>
                  <a:pt x="511" y="634"/>
                </a:lnTo>
                <a:lnTo>
                  <a:pt x="517" y="627"/>
                </a:lnTo>
                <a:lnTo>
                  <a:pt x="517" y="620"/>
                </a:lnTo>
                <a:lnTo>
                  <a:pt x="517" y="613"/>
                </a:lnTo>
                <a:lnTo>
                  <a:pt x="524" y="607"/>
                </a:lnTo>
                <a:lnTo>
                  <a:pt x="524" y="607"/>
                </a:lnTo>
                <a:lnTo>
                  <a:pt x="531" y="600"/>
                </a:lnTo>
                <a:lnTo>
                  <a:pt x="531" y="593"/>
                </a:lnTo>
                <a:lnTo>
                  <a:pt x="538" y="586"/>
                </a:lnTo>
                <a:lnTo>
                  <a:pt x="552" y="586"/>
                </a:lnTo>
                <a:lnTo>
                  <a:pt x="559" y="586"/>
                </a:lnTo>
                <a:lnTo>
                  <a:pt x="573" y="586"/>
                </a:lnTo>
                <a:lnTo>
                  <a:pt x="580" y="579"/>
                </a:lnTo>
                <a:lnTo>
                  <a:pt x="586" y="572"/>
                </a:lnTo>
                <a:lnTo>
                  <a:pt x="593" y="572"/>
                </a:lnTo>
                <a:lnTo>
                  <a:pt x="593" y="565"/>
                </a:lnTo>
                <a:lnTo>
                  <a:pt x="600" y="558"/>
                </a:lnTo>
                <a:lnTo>
                  <a:pt x="600" y="551"/>
                </a:lnTo>
                <a:lnTo>
                  <a:pt x="607" y="545"/>
                </a:lnTo>
                <a:lnTo>
                  <a:pt x="607" y="538"/>
                </a:lnTo>
                <a:lnTo>
                  <a:pt x="607" y="531"/>
                </a:lnTo>
                <a:lnTo>
                  <a:pt x="607" y="524"/>
                </a:lnTo>
                <a:lnTo>
                  <a:pt x="607" y="517"/>
                </a:lnTo>
                <a:lnTo>
                  <a:pt x="607" y="510"/>
                </a:lnTo>
                <a:lnTo>
                  <a:pt x="614" y="503"/>
                </a:lnTo>
                <a:lnTo>
                  <a:pt x="614" y="496"/>
                </a:lnTo>
                <a:lnTo>
                  <a:pt x="614" y="496"/>
                </a:lnTo>
                <a:lnTo>
                  <a:pt x="621" y="489"/>
                </a:lnTo>
                <a:lnTo>
                  <a:pt x="621" y="483"/>
                </a:lnTo>
                <a:lnTo>
                  <a:pt x="621" y="476"/>
                </a:lnTo>
                <a:lnTo>
                  <a:pt x="628" y="469"/>
                </a:lnTo>
                <a:lnTo>
                  <a:pt x="628" y="462"/>
                </a:lnTo>
                <a:lnTo>
                  <a:pt x="628" y="455"/>
                </a:lnTo>
                <a:lnTo>
                  <a:pt x="635" y="448"/>
                </a:lnTo>
                <a:lnTo>
                  <a:pt x="635" y="441"/>
                </a:lnTo>
                <a:lnTo>
                  <a:pt x="642" y="434"/>
                </a:lnTo>
                <a:lnTo>
                  <a:pt x="642" y="434"/>
                </a:lnTo>
                <a:lnTo>
                  <a:pt x="648" y="427"/>
                </a:lnTo>
                <a:lnTo>
                  <a:pt x="648" y="421"/>
                </a:lnTo>
                <a:lnTo>
                  <a:pt x="648" y="414"/>
                </a:lnTo>
                <a:lnTo>
                  <a:pt x="655" y="407"/>
                </a:lnTo>
                <a:lnTo>
                  <a:pt x="655" y="400"/>
                </a:lnTo>
                <a:lnTo>
                  <a:pt x="655" y="393"/>
                </a:lnTo>
                <a:lnTo>
                  <a:pt x="662" y="386"/>
                </a:lnTo>
                <a:lnTo>
                  <a:pt x="662" y="379"/>
                </a:lnTo>
                <a:lnTo>
                  <a:pt x="662" y="372"/>
                </a:lnTo>
                <a:lnTo>
                  <a:pt x="669" y="365"/>
                </a:lnTo>
                <a:lnTo>
                  <a:pt x="669" y="359"/>
                </a:lnTo>
                <a:lnTo>
                  <a:pt x="676" y="359"/>
                </a:lnTo>
                <a:lnTo>
                  <a:pt x="676" y="352"/>
                </a:lnTo>
                <a:lnTo>
                  <a:pt x="683" y="345"/>
                </a:lnTo>
                <a:lnTo>
                  <a:pt x="683" y="338"/>
                </a:lnTo>
                <a:lnTo>
                  <a:pt x="683" y="331"/>
                </a:lnTo>
                <a:lnTo>
                  <a:pt x="690" y="324"/>
                </a:lnTo>
                <a:lnTo>
                  <a:pt x="690" y="317"/>
                </a:lnTo>
                <a:lnTo>
                  <a:pt x="690" y="310"/>
                </a:lnTo>
                <a:lnTo>
                  <a:pt x="697" y="303"/>
                </a:lnTo>
                <a:lnTo>
                  <a:pt x="697" y="297"/>
                </a:lnTo>
                <a:lnTo>
                  <a:pt x="697" y="290"/>
                </a:lnTo>
                <a:lnTo>
                  <a:pt x="704" y="290"/>
                </a:lnTo>
                <a:lnTo>
                  <a:pt x="704" y="283"/>
                </a:lnTo>
                <a:lnTo>
                  <a:pt x="711" y="276"/>
                </a:lnTo>
                <a:lnTo>
                  <a:pt x="711" y="269"/>
                </a:lnTo>
                <a:lnTo>
                  <a:pt x="717" y="262"/>
                </a:lnTo>
                <a:lnTo>
                  <a:pt x="724" y="255"/>
                </a:lnTo>
                <a:lnTo>
                  <a:pt x="724" y="255"/>
                </a:lnTo>
                <a:lnTo>
                  <a:pt x="731" y="248"/>
                </a:lnTo>
                <a:lnTo>
                  <a:pt x="731" y="241"/>
                </a:lnTo>
                <a:lnTo>
                  <a:pt x="731" y="235"/>
                </a:lnTo>
                <a:lnTo>
                  <a:pt x="731" y="228"/>
                </a:lnTo>
                <a:lnTo>
                  <a:pt x="738" y="221"/>
                </a:lnTo>
                <a:lnTo>
                  <a:pt x="745" y="214"/>
                </a:lnTo>
                <a:lnTo>
                  <a:pt x="752" y="207"/>
                </a:lnTo>
                <a:lnTo>
                  <a:pt x="759" y="207"/>
                </a:lnTo>
                <a:lnTo>
                  <a:pt x="766" y="200"/>
                </a:lnTo>
                <a:lnTo>
                  <a:pt x="773" y="193"/>
                </a:lnTo>
                <a:lnTo>
                  <a:pt x="779" y="193"/>
                </a:lnTo>
                <a:lnTo>
                  <a:pt x="786" y="186"/>
                </a:lnTo>
                <a:lnTo>
                  <a:pt x="793" y="179"/>
                </a:lnTo>
                <a:lnTo>
                  <a:pt x="800" y="179"/>
                </a:lnTo>
                <a:lnTo>
                  <a:pt x="807" y="173"/>
                </a:lnTo>
                <a:lnTo>
                  <a:pt x="814" y="166"/>
                </a:lnTo>
                <a:lnTo>
                  <a:pt x="828" y="166"/>
                </a:lnTo>
                <a:lnTo>
                  <a:pt x="828" y="173"/>
                </a:lnTo>
                <a:lnTo>
                  <a:pt x="835" y="179"/>
                </a:lnTo>
                <a:lnTo>
                  <a:pt x="842" y="186"/>
                </a:lnTo>
                <a:lnTo>
                  <a:pt x="848" y="186"/>
                </a:lnTo>
                <a:lnTo>
                  <a:pt x="855" y="193"/>
                </a:lnTo>
                <a:lnTo>
                  <a:pt x="862" y="200"/>
                </a:lnTo>
                <a:lnTo>
                  <a:pt x="869" y="207"/>
                </a:lnTo>
                <a:lnTo>
                  <a:pt x="869" y="207"/>
                </a:lnTo>
                <a:lnTo>
                  <a:pt x="876" y="214"/>
                </a:lnTo>
                <a:lnTo>
                  <a:pt x="883" y="221"/>
                </a:lnTo>
                <a:lnTo>
                  <a:pt x="890" y="228"/>
                </a:lnTo>
                <a:lnTo>
                  <a:pt x="897" y="228"/>
                </a:lnTo>
                <a:lnTo>
                  <a:pt x="897" y="235"/>
                </a:lnTo>
                <a:lnTo>
                  <a:pt x="904" y="241"/>
                </a:lnTo>
                <a:lnTo>
                  <a:pt x="910" y="248"/>
                </a:lnTo>
                <a:lnTo>
                  <a:pt x="910" y="255"/>
                </a:lnTo>
                <a:lnTo>
                  <a:pt x="917" y="262"/>
                </a:lnTo>
                <a:lnTo>
                  <a:pt x="924" y="255"/>
                </a:lnTo>
                <a:lnTo>
                  <a:pt x="931" y="255"/>
                </a:lnTo>
                <a:lnTo>
                  <a:pt x="938" y="248"/>
                </a:lnTo>
                <a:lnTo>
                  <a:pt x="945" y="241"/>
                </a:lnTo>
                <a:lnTo>
                  <a:pt x="952" y="241"/>
                </a:lnTo>
                <a:lnTo>
                  <a:pt x="959" y="235"/>
                </a:lnTo>
                <a:lnTo>
                  <a:pt x="966" y="228"/>
                </a:lnTo>
                <a:lnTo>
                  <a:pt x="973" y="221"/>
                </a:lnTo>
                <a:lnTo>
                  <a:pt x="979" y="221"/>
                </a:lnTo>
                <a:lnTo>
                  <a:pt x="993" y="214"/>
                </a:lnTo>
                <a:lnTo>
                  <a:pt x="1000" y="214"/>
                </a:lnTo>
                <a:lnTo>
                  <a:pt x="1007" y="207"/>
                </a:lnTo>
                <a:lnTo>
                  <a:pt x="1014" y="207"/>
                </a:lnTo>
                <a:lnTo>
                  <a:pt x="1014" y="200"/>
                </a:lnTo>
                <a:lnTo>
                  <a:pt x="1014" y="193"/>
                </a:lnTo>
                <a:lnTo>
                  <a:pt x="1014" y="186"/>
                </a:lnTo>
                <a:lnTo>
                  <a:pt x="1007" y="179"/>
                </a:lnTo>
                <a:lnTo>
                  <a:pt x="993" y="173"/>
                </a:lnTo>
                <a:lnTo>
                  <a:pt x="986" y="173"/>
                </a:lnTo>
                <a:lnTo>
                  <a:pt x="979" y="173"/>
                </a:lnTo>
                <a:lnTo>
                  <a:pt x="973" y="166"/>
                </a:lnTo>
                <a:lnTo>
                  <a:pt x="966" y="159"/>
                </a:lnTo>
                <a:lnTo>
                  <a:pt x="966" y="152"/>
                </a:lnTo>
                <a:lnTo>
                  <a:pt x="966" y="145"/>
                </a:lnTo>
                <a:lnTo>
                  <a:pt x="959" y="138"/>
                </a:lnTo>
                <a:lnTo>
                  <a:pt x="952" y="131"/>
                </a:lnTo>
                <a:lnTo>
                  <a:pt x="952" y="124"/>
                </a:lnTo>
                <a:lnTo>
                  <a:pt x="945" y="124"/>
                </a:lnTo>
                <a:lnTo>
                  <a:pt x="952" y="117"/>
                </a:lnTo>
                <a:lnTo>
                  <a:pt x="952" y="111"/>
                </a:lnTo>
                <a:lnTo>
                  <a:pt x="966" y="111"/>
                </a:lnTo>
                <a:lnTo>
                  <a:pt x="973" y="104"/>
                </a:lnTo>
                <a:lnTo>
                  <a:pt x="979" y="97"/>
                </a:lnTo>
                <a:lnTo>
                  <a:pt x="986" y="97"/>
                </a:lnTo>
                <a:lnTo>
                  <a:pt x="993" y="90"/>
                </a:lnTo>
                <a:lnTo>
                  <a:pt x="993" y="83"/>
                </a:lnTo>
                <a:lnTo>
                  <a:pt x="993" y="76"/>
                </a:lnTo>
                <a:lnTo>
                  <a:pt x="993" y="69"/>
                </a:lnTo>
                <a:lnTo>
                  <a:pt x="986" y="62"/>
                </a:lnTo>
                <a:lnTo>
                  <a:pt x="979" y="55"/>
                </a:lnTo>
                <a:lnTo>
                  <a:pt x="973" y="55"/>
                </a:lnTo>
                <a:lnTo>
                  <a:pt x="973" y="49"/>
                </a:lnTo>
                <a:lnTo>
                  <a:pt x="966" y="42"/>
                </a:lnTo>
                <a:lnTo>
                  <a:pt x="959" y="35"/>
                </a:lnTo>
                <a:lnTo>
                  <a:pt x="952" y="35"/>
                </a:lnTo>
                <a:lnTo>
                  <a:pt x="945" y="28"/>
                </a:lnTo>
                <a:lnTo>
                  <a:pt x="938" y="21"/>
                </a:lnTo>
                <a:lnTo>
                  <a:pt x="938" y="14"/>
                </a:lnTo>
                <a:lnTo>
                  <a:pt x="931" y="7"/>
                </a:lnTo>
                <a:lnTo>
                  <a:pt x="924" y="7"/>
                </a:lnTo>
                <a:lnTo>
                  <a:pt x="917" y="0"/>
                </a:lnTo>
                <a:lnTo>
                  <a:pt x="917" y="0"/>
                </a:lnTo>
                <a:lnTo>
                  <a:pt x="883" y="0"/>
                </a:lnTo>
                <a:lnTo>
                  <a:pt x="855" y="0"/>
                </a:lnTo>
                <a:lnTo>
                  <a:pt x="828" y="0"/>
                </a:lnTo>
                <a:lnTo>
                  <a:pt x="793" y="0"/>
                </a:lnTo>
                <a:lnTo>
                  <a:pt x="766" y="0"/>
                </a:lnTo>
                <a:lnTo>
                  <a:pt x="738" y="0"/>
                </a:lnTo>
                <a:lnTo>
                  <a:pt x="711" y="0"/>
                </a:lnTo>
                <a:lnTo>
                  <a:pt x="676" y="0"/>
                </a:lnTo>
                <a:lnTo>
                  <a:pt x="648" y="28"/>
                </a:lnTo>
                <a:lnTo>
                  <a:pt x="621" y="62"/>
                </a:lnTo>
                <a:lnTo>
                  <a:pt x="593" y="90"/>
                </a:lnTo>
                <a:lnTo>
                  <a:pt x="559" y="117"/>
                </a:lnTo>
                <a:lnTo>
                  <a:pt x="545" y="131"/>
                </a:lnTo>
                <a:lnTo>
                  <a:pt x="545" y="138"/>
                </a:lnTo>
                <a:lnTo>
                  <a:pt x="538" y="145"/>
                </a:lnTo>
                <a:lnTo>
                  <a:pt x="531" y="152"/>
                </a:lnTo>
                <a:lnTo>
                  <a:pt x="531" y="159"/>
                </a:lnTo>
                <a:lnTo>
                  <a:pt x="531" y="166"/>
                </a:lnTo>
                <a:lnTo>
                  <a:pt x="524" y="173"/>
                </a:lnTo>
                <a:lnTo>
                  <a:pt x="517" y="179"/>
                </a:lnTo>
                <a:lnTo>
                  <a:pt x="517" y="186"/>
                </a:lnTo>
                <a:lnTo>
                  <a:pt x="511" y="193"/>
                </a:lnTo>
                <a:lnTo>
                  <a:pt x="504" y="200"/>
                </a:lnTo>
                <a:lnTo>
                  <a:pt x="504" y="207"/>
                </a:lnTo>
                <a:lnTo>
                  <a:pt x="497" y="207"/>
                </a:lnTo>
                <a:lnTo>
                  <a:pt x="490" y="214"/>
                </a:lnTo>
                <a:lnTo>
                  <a:pt x="483" y="221"/>
                </a:lnTo>
                <a:lnTo>
                  <a:pt x="476" y="228"/>
                </a:lnTo>
                <a:lnTo>
                  <a:pt x="476" y="235"/>
                </a:lnTo>
                <a:lnTo>
                  <a:pt x="476" y="241"/>
                </a:lnTo>
                <a:lnTo>
                  <a:pt x="483" y="248"/>
                </a:lnTo>
                <a:lnTo>
                  <a:pt x="490" y="255"/>
                </a:lnTo>
                <a:lnTo>
                  <a:pt x="497" y="262"/>
                </a:lnTo>
                <a:lnTo>
                  <a:pt x="504" y="262"/>
                </a:lnTo>
                <a:lnTo>
                  <a:pt x="511" y="262"/>
                </a:lnTo>
                <a:lnTo>
                  <a:pt x="517" y="255"/>
                </a:lnTo>
                <a:lnTo>
                  <a:pt x="524" y="248"/>
                </a:lnTo>
                <a:lnTo>
                  <a:pt x="524" y="235"/>
                </a:lnTo>
                <a:lnTo>
                  <a:pt x="531" y="228"/>
                </a:lnTo>
                <a:lnTo>
                  <a:pt x="538" y="228"/>
                </a:lnTo>
                <a:lnTo>
                  <a:pt x="538" y="241"/>
                </a:lnTo>
                <a:lnTo>
                  <a:pt x="531" y="248"/>
                </a:lnTo>
                <a:lnTo>
                  <a:pt x="524" y="248"/>
                </a:lnTo>
                <a:lnTo>
                  <a:pt x="517" y="255"/>
                </a:lnTo>
                <a:lnTo>
                  <a:pt x="511" y="262"/>
                </a:lnTo>
                <a:lnTo>
                  <a:pt x="511" y="269"/>
                </a:lnTo>
                <a:lnTo>
                  <a:pt x="504" y="276"/>
                </a:lnTo>
                <a:lnTo>
                  <a:pt x="504" y="283"/>
                </a:lnTo>
                <a:lnTo>
                  <a:pt x="504" y="290"/>
                </a:lnTo>
                <a:lnTo>
                  <a:pt x="504" y="297"/>
                </a:lnTo>
                <a:lnTo>
                  <a:pt x="497" y="303"/>
                </a:lnTo>
                <a:lnTo>
                  <a:pt x="497" y="310"/>
                </a:lnTo>
                <a:lnTo>
                  <a:pt x="497" y="317"/>
                </a:lnTo>
                <a:lnTo>
                  <a:pt x="490" y="324"/>
                </a:lnTo>
                <a:lnTo>
                  <a:pt x="490" y="331"/>
                </a:lnTo>
                <a:lnTo>
                  <a:pt x="483" y="338"/>
                </a:lnTo>
                <a:lnTo>
                  <a:pt x="483" y="345"/>
                </a:lnTo>
                <a:lnTo>
                  <a:pt x="476" y="352"/>
                </a:lnTo>
                <a:lnTo>
                  <a:pt x="476" y="359"/>
                </a:lnTo>
                <a:lnTo>
                  <a:pt x="469" y="365"/>
                </a:lnTo>
                <a:lnTo>
                  <a:pt x="469" y="372"/>
                </a:lnTo>
                <a:lnTo>
                  <a:pt x="469" y="379"/>
                </a:lnTo>
                <a:lnTo>
                  <a:pt x="462" y="386"/>
                </a:lnTo>
                <a:lnTo>
                  <a:pt x="462" y="386"/>
                </a:lnTo>
                <a:lnTo>
                  <a:pt x="455" y="393"/>
                </a:lnTo>
                <a:lnTo>
                  <a:pt x="449" y="400"/>
                </a:lnTo>
                <a:lnTo>
                  <a:pt x="449" y="407"/>
                </a:lnTo>
                <a:lnTo>
                  <a:pt x="442" y="414"/>
                </a:lnTo>
                <a:lnTo>
                  <a:pt x="449" y="427"/>
                </a:lnTo>
                <a:lnTo>
                  <a:pt x="449" y="434"/>
                </a:lnTo>
                <a:lnTo>
                  <a:pt x="455" y="441"/>
                </a:lnTo>
                <a:lnTo>
                  <a:pt x="462" y="441"/>
                </a:lnTo>
                <a:lnTo>
                  <a:pt x="476" y="441"/>
                </a:lnTo>
                <a:lnTo>
                  <a:pt x="483" y="434"/>
                </a:lnTo>
                <a:lnTo>
                  <a:pt x="490" y="427"/>
                </a:lnTo>
                <a:lnTo>
                  <a:pt x="497" y="421"/>
                </a:lnTo>
                <a:lnTo>
                  <a:pt x="504" y="421"/>
                </a:lnTo>
                <a:lnTo>
                  <a:pt x="504" y="421"/>
                </a:lnTo>
                <a:lnTo>
                  <a:pt x="504" y="427"/>
                </a:lnTo>
                <a:lnTo>
                  <a:pt x="504" y="434"/>
                </a:lnTo>
                <a:lnTo>
                  <a:pt x="504" y="448"/>
                </a:lnTo>
                <a:lnTo>
                  <a:pt x="504" y="455"/>
                </a:lnTo>
                <a:lnTo>
                  <a:pt x="504" y="462"/>
                </a:lnTo>
                <a:lnTo>
                  <a:pt x="497" y="469"/>
                </a:lnTo>
                <a:lnTo>
                  <a:pt x="497" y="476"/>
                </a:lnTo>
                <a:lnTo>
                  <a:pt x="490" y="476"/>
                </a:lnTo>
                <a:lnTo>
                  <a:pt x="490" y="483"/>
                </a:lnTo>
                <a:lnTo>
                  <a:pt x="483" y="489"/>
                </a:lnTo>
                <a:lnTo>
                  <a:pt x="483" y="496"/>
                </a:lnTo>
                <a:lnTo>
                  <a:pt x="476" y="503"/>
                </a:lnTo>
                <a:lnTo>
                  <a:pt x="476" y="517"/>
                </a:lnTo>
                <a:lnTo>
                  <a:pt x="476" y="517"/>
                </a:lnTo>
                <a:lnTo>
                  <a:pt x="469" y="524"/>
                </a:lnTo>
                <a:lnTo>
                  <a:pt x="462" y="517"/>
                </a:lnTo>
                <a:lnTo>
                  <a:pt x="449" y="510"/>
                </a:lnTo>
                <a:lnTo>
                  <a:pt x="442" y="503"/>
                </a:lnTo>
                <a:lnTo>
                  <a:pt x="442" y="496"/>
                </a:lnTo>
                <a:lnTo>
                  <a:pt x="442" y="489"/>
                </a:lnTo>
                <a:lnTo>
                  <a:pt x="449" y="483"/>
                </a:lnTo>
                <a:lnTo>
                  <a:pt x="449" y="476"/>
                </a:lnTo>
                <a:lnTo>
                  <a:pt x="455" y="469"/>
                </a:lnTo>
                <a:lnTo>
                  <a:pt x="462" y="462"/>
                </a:lnTo>
                <a:lnTo>
                  <a:pt x="469" y="455"/>
                </a:lnTo>
                <a:lnTo>
                  <a:pt x="469" y="448"/>
                </a:lnTo>
                <a:lnTo>
                  <a:pt x="469" y="441"/>
                </a:lnTo>
                <a:lnTo>
                  <a:pt x="462" y="434"/>
                </a:lnTo>
                <a:lnTo>
                  <a:pt x="455" y="427"/>
                </a:lnTo>
                <a:lnTo>
                  <a:pt x="449" y="421"/>
                </a:lnTo>
                <a:lnTo>
                  <a:pt x="442" y="421"/>
                </a:lnTo>
                <a:lnTo>
                  <a:pt x="442" y="421"/>
                </a:lnTo>
                <a:lnTo>
                  <a:pt x="435" y="427"/>
                </a:lnTo>
                <a:lnTo>
                  <a:pt x="435" y="434"/>
                </a:lnTo>
                <a:lnTo>
                  <a:pt x="435" y="441"/>
                </a:lnTo>
                <a:lnTo>
                  <a:pt x="435" y="448"/>
                </a:lnTo>
                <a:lnTo>
                  <a:pt x="428" y="462"/>
                </a:lnTo>
                <a:lnTo>
                  <a:pt x="428" y="469"/>
                </a:lnTo>
                <a:lnTo>
                  <a:pt x="421" y="469"/>
                </a:lnTo>
                <a:lnTo>
                  <a:pt x="414" y="476"/>
                </a:lnTo>
                <a:lnTo>
                  <a:pt x="407" y="476"/>
                </a:lnTo>
                <a:lnTo>
                  <a:pt x="400" y="483"/>
                </a:lnTo>
                <a:lnTo>
                  <a:pt x="400" y="489"/>
                </a:lnTo>
                <a:lnTo>
                  <a:pt x="400" y="503"/>
                </a:lnTo>
                <a:lnTo>
                  <a:pt x="400" y="510"/>
                </a:lnTo>
                <a:lnTo>
                  <a:pt x="393" y="517"/>
                </a:lnTo>
                <a:lnTo>
                  <a:pt x="386" y="517"/>
                </a:lnTo>
                <a:lnTo>
                  <a:pt x="380" y="524"/>
                </a:lnTo>
                <a:lnTo>
                  <a:pt x="373" y="531"/>
                </a:lnTo>
                <a:lnTo>
                  <a:pt x="366" y="538"/>
                </a:lnTo>
                <a:lnTo>
                  <a:pt x="359" y="538"/>
                </a:lnTo>
                <a:lnTo>
                  <a:pt x="352" y="545"/>
                </a:lnTo>
                <a:lnTo>
                  <a:pt x="345" y="551"/>
                </a:lnTo>
                <a:lnTo>
                  <a:pt x="331" y="558"/>
                </a:lnTo>
                <a:lnTo>
                  <a:pt x="324" y="565"/>
                </a:lnTo>
                <a:lnTo>
                  <a:pt x="324" y="565"/>
                </a:lnTo>
                <a:lnTo>
                  <a:pt x="318" y="558"/>
                </a:lnTo>
                <a:lnTo>
                  <a:pt x="311" y="551"/>
                </a:lnTo>
                <a:lnTo>
                  <a:pt x="304" y="545"/>
                </a:lnTo>
                <a:lnTo>
                  <a:pt x="297" y="538"/>
                </a:lnTo>
                <a:lnTo>
                  <a:pt x="283" y="538"/>
                </a:lnTo>
                <a:lnTo>
                  <a:pt x="269" y="545"/>
                </a:lnTo>
                <a:lnTo>
                  <a:pt x="262" y="545"/>
                </a:lnTo>
                <a:lnTo>
                  <a:pt x="262" y="551"/>
                </a:lnTo>
                <a:lnTo>
                  <a:pt x="255" y="558"/>
                </a:lnTo>
                <a:lnTo>
                  <a:pt x="249" y="565"/>
                </a:lnTo>
                <a:lnTo>
                  <a:pt x="242" y="572"/>
                </a:lnTo>
                <a:lnTo>
                  <a:pt x="235" y="579"/>
                </a:lnTo>
                <a:lnTo>
                  <a:pt x="228" y="579"/>
                </a:lnTo>
                <a:lnTo>
                  <a:pt x="214" y="586"/>
                </a:lnTo>
                <a:lnTo>
                  <a:pt x="207" y="586"/>
                </a:lnTo>
                <a:lnTo>
                  <a:pt x="200" y="593"/>
                </a:lnTo>
                <a:lnTo>
                  <a:pt x="200" y="600"/>
                </a:lnTo>
                <a:lnTo>
                  <a:pt x="193" y="607"/>
                </a:lnTo>
                <a:lnTo>
                  <a:pt x="187" y="613"/>
                </a:lnTo>
                <a:lnTo>
                  <a:pt x="173" y="613"/>
                </a:lnTo>
                <a:lnTo>
                  <a:pt x="166" y="613"/>
                </a:lnTo>
                <a:lnTo>
                  <a:pt x="152" y="607"/>
                </a:lnTo>
                <a:lnTo>
                  <a:pt x="145" y="600"/>
                </a:lnTo>
                <a:lnTo>
                  <a:pt x="145" y="593"/>
                </a:lnTo>
                <a:lnTo>
                  <a:pt x="138" y="593"/>
                </a:lnTo>
                <a:lnTo>
                  <a:pt x="131" y="586"/>
                </a:lnTo>
                <a:lnTo>
                  <a:pt x="118" y="586"/>
                </a:lnTo>
                <a:lnTo>
                  <a:pt x="104" y="586"/>
                </a:lnTo>
                <a:lnTo>
                  <a:pt x="97" y="586"/>
                </a:lnTo>
                <a:lnTo>
                  <a:pt x="83" y="586"/>
                </a:lnTo>
                <a:lnTo>
                  <a:pt x="76" y="579"/>
                </a:lnTo>
                <a:lnTo>
                  <a:pt x="69" y="572"/>
                </a:lnTo>
                <a:lnTo>
                  <a:pt x="62" y="565"/>
                </a:lnTo>
                <a:lnTo>
                  <a:pt x="62" y="558"/>
                </a:lnTo>
                <a:lnTo>
                  <a:pt x="56" y="565"/>
                </a:lnTo>
                <a:lnTo>
                  <a:pt x="49" y="565"/>
                </a:lnTo>
                <a:lnTo>
                  <a:pt x="49" y="565"/>
                </a:lnTo>
                <a:lnTo>
                  <a:pt x="42" y="572"/>
                </a:lnTo>
                <a:lnTo>
                  <a:pt x="35" y="572"/>
                </a:lnTo>
                <a:lnTo>
                  <a:pt x="28" y="579"/>
                </a:lnTo>
                <a:lnTo>
                  <a:pt x="28" y="586"/>
                </a:lnTo>
                <a:lnTo>
                  <a:pt x="21" y="586"/>
                </a:lnTo>
                <a:lnTo>
                  <a:pt x="21" y="593"/>
                </a:lnTo>
                <a:lnTo>
                  <a:pt x="21" y="600"/>
                </a:lnTo>
                <a:lnTo>
                  <a:pt x="21" y="607"/>
                </a:lnTo>
                <a:lnTo>
                  <a:pt x="28" y="607"/>
                </a:lnTo>
                <a:lnTo>
                  <a:pt x="35" y="613"/>
                </a:lnTo>
                <a:lnTo>
                  <a:pt x="42" y="613"/>
                </a:lnTo>
                <a:lnTo>
                  <a:pt x="49" y="620"/>
                </a:lnTo>
                <a:lnTo>
                  <a:pt x="56" y="620"/>
                </a:lnTo>
                <a:lnTo>
                  <a:pt x="62" y="627"/>
                </a:lnTo>
                <a:lnTo>
                  <a:pt x="69" y="627"/>
                </a:lnTo>
                <a:lnTo>
                  <a:pt x="76" y="627"/>
                </a:lnTo>
                <a:lnTo>
                  <a:pt x="83" y="627"/>
                </a:lnTo>
                <a:lnTo>
                  <a:pt x="90" y="627"/>
                </a:lnTo>
                <a:lnTo>
                  <a:pt x="104" y="634"/>
                </a:lnTo>
                <a:lnTo>
                  <a:pt x="111" y="634"/>
                </a:lnTo>
                <a:lnTo>
                  <a:pt x="118" y="634"/>
                </a:lnTo>
                <a:lnTo>
                  <a:pt x="124" y="634"/>
                </a:lnTo>
                <a:lnTo>
                  <a:pt x="131" y="634"/>
                </a:lnTo>
                <a:lnTo>
                  <a:pt x="138" y="641"/>
                </a:lnTo>
                <a:lnTo>
                  <a:pt x="145" y="641"/>
                </a:lnTo>
                <a:lnTo>
                  <a:pt x="152" y="648"/>
                </a:lnTo>
                <a:lnTo>
                  <a:pt x="159" y="655"/>
                </a:lnTo>
                <a:lnTo>
                  <a:pt x="166" y="655"/>
                </a:lnTo>
                <a:lnTo>
                  <a:pt x="173" y="655"/>
                </a:lnTo>
                <a:lnTo>
                  <a:pt x="180" y="662"/>
                </a:lnTo>
                <a:lnTo>
                  <a:pt x="187" y="662"/>
                </a:lnTo>
                <a:lnTo>
                  <a:pt x="193" y="662"/>
                </a:lnTo>
                <a:lnTo>
                  <a:pt x="207" y="662"/>
                </a:lnTo>
                <a:lnTo>
                  <a:pt x="214" y="662"/>
                </a:lnTo>
                <a:lnTo>
                  <a:pt x="221" y="662"/>
                </a:lnTo>
                <a:lnTo>
                  <a:pt x="228" y="662"/>
                </a:lnTo>
                <a:lnTo>
                  <a:pt x="235" y="662"/>
                </a:lnTo>
                <a:lnTo>
                  <a:pt x="249" y="662"/>
                </a:lnTo>
                <a:lnTo>
                  <a:pt x="255" y="655"/>
                </a:lnTo>
                <a:lnTo>
                  <a:pt x="262" y="655"/>
                </a:lnTo>
                <a:lnTo>
                  <a:pt x="269" y="655"/>
                </a:lnTo>
                <a:lnTo>
                  <a:pt x="276" y="662"/>
                </a:lnTo>
                <a:lnTo>
                  <a:pt x="283" y="662"/>
                </a:lnTo>
                <a:lnTo>
                  <a:pt x="283" y="669"/>
                </a:lnTo>
                <a:lnTo>
                  <a:pt x="290" y="675"/>
                </a:lnTo>
                <a:lnTo>
                  <a:pt x="290" y="682"/>
                </a:lnTo>
                <a:lnTo>
                  <a:pt x="290" y="689"/>
                </a:lnTo>
                <a:lnTo>
                  <a:pt x="290" y="696"/>
                </a:lnTo>
                <a:lnTo>
                  <a:pt x="290" y="696"/>
                </a:lnTo>
                <a:lnTo>
                  <a:pt x="290" y="703"/>
                </a:lnTo>
                <a:lnTo>
                  <a:pt x="297" y="710"/>
                </a:lnTo>
                <a:lnTo>
                  <a:pt x="304" y="710"/>
                </a:lnTo>
                <a:lnTo>
                  <a:pt x="311" y="710"/>
                </a:lnTo>
                <a:lnTo>
                  <a:pt x="324" y="717"/>
                </a:lnTo>
                <a:lnTo>
                  <a:pt x="324" y="710"/>
                </a:lnTo>
                <a:close/>
                <a:moveTo>
                  <a:pt x="469" y="710"/>
                </a:moveTo>
                <a:lnTo>
                  <a:pt x="469" y="710"/>
                </a:lnTo>
                <a:lnTo>
                  <a:pt x="469" y="710"/>
                </a:lnTo>
                <a:lnTo>
                  <a:pt x="469" y="710"/>
                </a:lnTo>
                <a:lnTo>
                  <a:pt x="469" y="710"/>
                </a:lnTo>
                <a:lnTo>
                  <a:pt x="469" y="703"/>
                </a:lnTo>
                <a:lnTo>
                  <a:pt x="469" y="710"/>
                </a:lnTo>
                <a:lnTo>
                  <a:pt x="469" y="710"/>
                </a:lnTo>
                <a:lnTo>
                  <a:pt x="469" y="710"/>
                </a:lnTo>
                <a:lnTo>
                  <a:pt x="469" y="710"/>
                </a:lnTo>
                <a:lnTo>
                  <a:pt x="469" y="710"/>
                </a:lnTo>
                <a:lnTo>
                  <a:pt x="469" y="710"/>
                </a:lnTo>
                <a:lnTo>
                  <a:pt x="469" y="710"/>
                </a:lnTo>
                <a:lnTo>
                  <a:pt x="469" y="710"/>
                </a:lnTo>
                <a:lnTo>
                  <a:pt x="469" y="710"/>
                </a:lnTo>
                <a:close/>
                <a:moveTo>
                  <a:pt x="2069" y="682"/>
                </a:moveTo>
                <a:lnTo>
                  <a:pt x="2076" y="675"/>
                </a:lnTo>
                <a:lnTo>
                  <a:pt x="2083" y="669"/>
                </a:lnTo>
                <a:lnTo>
                  <a:pt x="2083" y="669"/>
                </a:lnTo>
                <a:lnTo>
                  <a:pt x="2083" y="662"/>
                </a:lnTo>
                <a:lnTo>
                  <a:pt x="2083" y="655"/>
                </a:lnTo>
                <a:lnTo>
                  <a:pt x="2076" y="648"/>
                </a:lnTo>
                <a:lnTo>
                  <a:pt x="2076" y="641"/>
                </a:lnTo>
                <a:lnTo>
                  <a:pt x="2069" y="634"/>
                </a:lnTo>
                <a:lnTo>
                  <a:pt x="2062" y="634"/>
                </a:lnTo>
                <a:lnTo>
                  <a:pt x="2062" y="641"/>
                </a:lnTo>
                <a:lnTo>
                  <a:pt x="2062" y="648"/>
                </a:lnTo>
                <a:lnTo>
                  <a:pt x="2062" y="655"/>
                </a:lnTo>
                <a:lnTo>
                  <a:pt x="2062" y="662"/>
                </a:lnTo>
                <a:lnTo>
                  <a:pt x="2062" y="669"/>
                </a:lnTo>
                <a:lnTo>
                  <a:pt x="2062" y="669"/>
                </a:lnTo>
                <a:lnTo>
                  <a:pt x="2062" y="675"/>
                </a:lnTo>
                <a:lnTo>
                  <a:pt x="2062" y="682"/>
                </a:lnTo>
                <a:lnTo>
                  <a:pt x="2069" y="689"/>
                </a:lnTo>
                <a:lnTo>
                  <a:pt x="2069" y="689"/>
                </a:lnTo>
                <a:lnTo>
                  <a:pt x="2069" y="682"/>
                </a:lnTo>
                <a:close/>
                <a:moveTo>
                  <a:pt x="14" y="620"/>
                </a:moveTo>
                <a:lnTo>
                  <a:pt x="0" y="613"/>
                </a:lnTo>
                <a:lnTo>
                  <a:pt x="0" y="620"/>
                </a:lnTo>
                <a:lnTo>
                  <a:pt x="0" y="641"/>
                </a:lnTo>
                <a:lnTo>
                  <a:pt x="14" y="620"/>
                </a:lnTo>
                <a:close/>
                <a:moveTo>
                  <a:pt x="1214" y="593"/>
                </a:moveTo>
                <a:lnTo>
                  <a:pt x="1214" y="593"/>
                </a:lnTo>
                <a:lnTo>
                  <a:pt x="1214" y="593"/>
                </a:lnTo>
                <a:lnTo>
                  <a:pt x="1207" y="593"/>
                </a:lnTo>
                <a:lnTo>
                  <a:pt x="1207" y="593"/>
                </a:lnTo>
                <a:lnTo>
                  <a:pt x="1207" y="593"/>
                </a:lnTo>
                <a:lnTo>
                  <a:pt x="1207" y="593"/>
                </a:lnTo>
                <a:lnTo>
                  <a:pt x="1207" y="593"/>
                </a:lnTo>
                <a:lnTo>
                  <a:pt x="1207" y="593"/>
                </a:lnTo>
                <a:lnTo>
                  <a:pt x="1207" y="593"/>
                </a:lnTo>
                <a:lnTo>
                  <a:pt x="1207" y="593"/>
                </a:lnTo>
                <a:lnTo>
                  <a:pt x="1207" y="593"/>
                </a:lnTo>
                <a:lnTo>
                  <a:pt x="1207" y="593"/>
                </a:lnTo>
                <a:lnTo>
                  <a:pt x="1207" y="593"/>
                </a:lnTo>
                <a:lnTo>
                  <a:pt x="1214" y="593"/>
                </a:lnTo>
                <a:close/>
                <a:moveTo>
                  <a:pt x="2110" y="593"/>
                </a:moveTo>
                <a:lnTo>
                  <a:pt x="2117" y="586"/>
                </a:lnTo>
                <a:lnTo>
                  <a:pt x="2124" y="579"/>
                </a:lnTo>
                <a:lnTo>
                  <a:pt x="2124" y="572"/>
                </a:lnTo>
                <a:lnTo>
                  <a:pt x="2117" y="565"/>
                </a:lnTo>
                <a:lnTo>
                  <a:pt x="2110" y="551"/>
                </a:lnTo>
                <a:lnTo>
                  <a:pt x="2103" y="545"/>
                </a:lnTo>
                <a:lnTo>
                  <a:pt x="2096" y="545"/>
                </a:lnTo>
                <a:lnTo>
                  <a:pt x="2090" y="551"/>
                </a:lnTo>
                <a:lnTo>
                  <a:pt x="2090" y="565"/>
                </a:lnTo>
                <a:lnTo>
                  <a:pt x="2090" y="572"/>
                </a:lnTo>
                <a:lnTo>
                  <a:pt x="2090" y="579"/>
                </a:lnTo>
                <a:lnTo>
                  <a:pt x="2090" y="586"/>
                </a:lnTo>
                <a:lnTo>
                  <a:pt x="2090" y="593"/>
                </a:lnTo>
                <a:lnTo>
                  <a:pt x="2090" y="607"/>
                </a:lnTo>
                <a:lnTo>
                  <a:pt x="2096" y="613"/>
                </a:lnTo>
                <a:lnTo>
                  <a:pt x="2096" y="620"/>
                </a:lnTo>
                <a:lnTo>
                  <a:pt x="2096" y="620"/>
                </a:lnTo>
                <a:lnTo>
                  <a:pt x="2103" y="613"/>
                </a:lnTo>
                <a:lnTo>
                  <a:pt x="2103" y="607"/>
                </a:lnTo>
                <a:lnTo>
                  <a:pt x="2110" y="593"/>
                </a:lnTo>
                <a:close/>
                <a:moveTo>
                  <a:pt x="2131" y="531"/>
                </a:moveTo>
                <a:lnTo>
                  <a:pt x="2131" y="531"/>
                </a:lnTo>
                <a:lnTo>
                  <a:pt x="2138" y="524"/>
                </a:lnTo>
                <a:lnTo>
                  <a:pt x="2138" y="517"/>
                </a:lnTo>
                <a:lnTo>
                  <a:pt x="2138" y="510"/>
                </a:lnTo>
                <a:lnTo>
                  <a:pt x="2131" y="503"/>
                </a:lnTo>
                <a:lnTo>
                  <a:pt x="2131" y="503"/>
                </a:lnTo>
                <a:lnTo>
                  <a:pt x="2124" y="496"/>
                </a:lnTo>
                <a:lnTo>
                  <a:pt x="2117" y="503"/>
                </a:lnTo>
                <a:lnTo>
                  <a:pt x="2110" y="510"/>
                </a:lnTo>
                <a:lnTo>
                  <a:pt x="2110" y="517"/>
                </a:lnTo>
                <a:lnTo>
                  <a:pt x="2110" y="524"/>
                </a:lnTo>
                <a:lnTo>
                  <a:pt x="2110" y="524"/>
                </a:lnTo>
                <a:lnTo>
                  <a:pt x="2117" y="531"/>
                </a:lnTo>
                <a:lnTo>
                  <a:pt x="2117" y="538"/>
                </a:lnTo>
                <a:lnTo>
                  <a:pt x="2124" y="545"/>
                </a:lnTo>
                <a:lnTo>
                  <a:pt x="2124" y="551"/>
                </a:lnTo>
                <a:lnTo>
                  <a:pt x="2124" y="551"/>
                </a:lnTo>
                <a:lnTo>
                  <a:pt x="2131" y="551"/>
                </a:lnTo>
                <a:lnTo>
                  <a:pt x="2131" y="545"/>
                </a:lnTo>
                <a:lnTo>
                  <a:pt x="2131" y="531"/>
                </a:lnTo>
                <a:close/>
                <a:moveTo>
                  <a:pt x="345" y="476"/>
                </a:moveTo>
                <a:lnTo>
                  <a:pt x="338" y="462"/>
                </a:lnTo>
                <a:lnTo>
                  <a:pt x="331" y="455"/>
                </a:lnTo>
                <a:lnTo>
                  <a:pt x="331" y="448"/>
                </a:lnTo>
                <a:lnTo>
                  <a:pt x="324" y="448"/>
                </a:lnTo>
                <a:lnTo>
                  <a:pt x="318" y="455"/>
                </a:lnTo>
                <a:lnTo>
                  <a:pt x="311" y="462"/>
                </a:lnTo>
                <a:lnTo>
                  <a:pt x="304" y="469"/>
                </a:lnTo>
                <a:lnTo>
                  <a:pt x="304" y="476"/>
                </a:lnTo>
                <a:lnTo>
                  <a:pt x="311" y="483"/>
                </a:lnTo>
                <a:lnTo>
                  <a:pt x="318" y="489"/>
                </a:lnTo>
                <a:lnTo>
                  <a:pt x="324" y="496"/>
                </a:lnTo>
                <a:lnTo>
                  <a:pt x="331" y="489"/>
                </a:lnTo>
                <a:lnTo>
                  <a:pt x="338" y="483"/>
                </a:lnTo>
                <a:lnTo>
                  <a:pt x="345" y="476"/>
                </a:lnTo>
                <a:close/>
                <a:moveTo>
                  <a:pt x="366" y="448"/>
                </a:moveTo>
                <a:lnTo>
                  <a:pt x="366" y="441"/>
                </a:lnTo>
                <a:lnTo>
                  <a:pt x="373" y="434"/>
                </a:lnTo>
                <a:lnTo>
                  <a:pt x="380" y="427"/>
                </a:lnTo>
                <a:lnTo>
                  <a:pt x="380" y="421"/>
                </a:lnTo>
                <a:lnTo>
                  <a:pt x="386" y="414"/>
                </a:lnTo>
                <a:lnTo>
                  <a:pt x="393" y="407"/>
                </a:lnTo>
                <a:lnTo>
                  <a:pt x="400" y="407"/>
                </a:lnTo>
                <a:lnTo>
                  <a:pt x="407" y="400"/>
                </a:lnTo>
                <a:lnTo>
                  <a:pt x="407" y="393"/>
                </a:lnTo>
                <a:lnTo>
                  <a:pt x="407" y="386"/>
                </a:lnTo>
                <a:lnTo>
                  <a:pt x="400" y="379"/>
                </a:lnTo>
                <a:lnTo>
                  <a:pt x="393" y="372"/>
                </a:lnTo>
                <a:lnTo>
                  <a:pt x="386" y="372"/>
                </a:lnTo>
                <a:lnTo>
                  <a:pt x="380" y="372"/>
                </a:lnTo>
                <a:lnTo>
                  <a:pt x="373" y="379"/>
                </a:lnTo>
                <a:lnTo>
                  <a:pt x="373" y="386"/>
                </a:lnTo>
                <a:lnTo>
                  <a:pt x="366" y="393"/>
                </a:lnTo>
                <a:lnTo>
                  <a:pt x="359" y="400"/>
                </a:lnTo>
                <a:lnTo>
                  <a:pt x="359" y="407"/>
                </a:lnTo>
                <a:lnTo>
                  <a:pt x="352" y="414"/>
                </a:lnTo>
                <a:lnTo>
                  <a:pt x="345" y="414"/>
                </a:lnTo>
                <a:lnTo>
                  <a:pt x="338" y="421"/>
                </a:lnTo>
                <a:lnTo>
                  <a:pt x="338" y="427"/>
                </a:lnTo>
                <a:lnTo>
                  <a:pt x="331" y="434"/>
                </a:lnTo>
                <a:lnTo>
                  <a:pt x="324" y="441"/>
                </a:lnTo>
                <a:lnTo>
                  <a:pt x="331" y="448"/>
                </a:lnTo>
                <a:lnTo>
                  <a:pt x="338" y="455"/>
                </a:lnTo>
                <a:lnTo>
                  <a:pt x="345" y="455"/>
                </a:lnTo>
                <a:lnTo>
                  <a:pt x="352" y="462"/>
                </a:lnTo>
                <a:lnTo>
                  <a:pt x="359" y="462"/>
                </a:lnTo>
                <a:lnTo>
                  <a:pt x="366" y="455"/>
                </a:lnTo>
                <a:lnTo>
                  <a:pt x="366" y="448"/>
                </a:lnTo>
                <a:close/>
                <a:moveTo>
                  <a:pt x="2696" y="414"/>
                </a:moveTo>
                <a:lnTo>
                  <a:pt x="2689" y="407"/>
                </a:lnTo>
                <a:lnTo>
                  <a:pt x="2689" y="400"/>
                </a:lnTo>
                <a:lnTo>
                  <a:pt x="2689" y="393"/>
                </a:lnTo>
                <a:lnTo>
                  <a:pt x="2689" y="393"/>
                </a:lnTo>
                <a:lnTo>
                  <a:pt x="2689" y="393"/>
                </a:lnTo>
                <a:lnTo>
                  <a:pt x="2682" y="393"/>
                </a:lnTo>
                <a:lnTo>
                  <a:pt x="2682" y="400"/>
                </a:lnTo>
                <a:lnTo>
                  <a:pt x="2682" y="400"/>
                </a:lnTo>
                <a:lnTo>
                  <a:pt x="2682" y="407"/>
                </a:lnTo>
                <a:lnTo>
                  <a:pt x="2682" y="414"/>
                </a:lnTo>
                <a:lnTo>
                  <a:pt x="2682" y="421"/>
                </a:lnTo>
                <a:lnTo>
                  <a:pt x="2689" y="427"/>
                </a:lnTo>
                <a:lnTo>
                  <a:pt x="2689" y="421"/>
                </a:lnTo>
                <a:lnTo>
                  <a:pt x="2696" y="414"/>
                </a:lnTo>
                <a:close/>
                <a:moveTo>
                  <a:pt x="428" y="359"/>
                </a:moveTo>
                <a:lnTo>
                  <a:pt x="428" y="345"/>
                </a:lnTo>
                <a:lnTo>
                  <a:pt x="421" y="331"/>
                </a:lnTo>
                <a:lnTo>
                  <a:pt x="414" y="324"/>
                </a:lnTo>
                <a:lnTo>
                  <a:pt x="414" y="324"/>
                </a:lnTo>
                <a:lnTo>
                  <a:pt x="407" y="331"/>
                </a:lnTo>
                <a:lnTo>
                  <a:pt x="400" y="338"/>
                </a:lnTo>
                <a:lnTo>
                  <a:pt x="393" y="352"/>
                </a:lnTo>
                <a:lnTo>
                  <a:pt x="393" y="365"/>
                </a:lnTo>
                <a:lnTo>
                  <a:pt x="400" y="372"/>
                </a:lnTo>
                <a:lnTo>
                  <a:pt x="407" y="379"/>
                </a:lnTo>
                <a:lnTo>
                  <a:pt x="414" y="379"/>
                </a:lnTo>
                <a:lnTo>
                  <a:pt x="421" y="379"/>
                </a:lnTo>
                <a:lnTo>
                  <a:pt x="428" y="372"/>
                </a:lnTo>
                <a:lnTo>
                  <a:pt x="428" y="359"/>
                </a:lnTo>
                <a:close/>
                <a:moveTo>
                  <a:pt x="455" y="324"/>
                </a:moveTo>
                <a:lnTo>
                  <a:pt x="455" y="317"/>
                </a:lnTo>
                <a:lnTo>
                  <a:pt x="462" y="310"/>
                </a:lnTo>
                <a:lnTo>
                  <a:pt x="469" y="303"/>
                </a:lnTo>
                <a:lnTo>
                  <a:pt x="476" y="303"/>
                </a:lnTo>
                <a:lnTo>
                  <a:pt x="490" y="297"/>
                </a:lnTo>
                <a:lnTo>
                  <a:pt x="497" y="297"/>
                </a:lnTo>
                <a:lnTo>
                  <a:pt x="504" y="290"/>
                </a:lnTo>
                <a:lnTo>
                  <a:pt x="504" y="283"/>
                </a:lnTo>
                <a:lnTo>
                  <a:pt x="497" y="276"/>
                </a:lnTo>
                <a:lnTo>
                  <a:pt x="497" y="269"/>
                </a:lnTo>
                <a:lnTo>
                  <a:pt x="490" y="255"/>
                </a:lnTo>
                <a:lnTo>
                  <a:pt x="483" y="248"/>
                </a:lnTo>
                <a:lnTo>
                  <a:pt x="476" y="241"/>
                </a:lnTo>
                <a:lnTo>
                  <a:pt x="469" y="241"/>
                </a:lnTo>
                <a:lnTo>
                  <a:pt x="469" y="248"/>
                </a:lnTo>
                <a:lnTo>
                  <a:pt x="462" y="255"/>
                </a:lnTo>
                <a:lnTo>
                  <a:pt x="455" y="262"/>
                </a:lnTo>
                <a:lnTo>
                  <a:pt x="455" y="269"/>
                </a:lnTo>
                <a:lnTo>
                  <a:pt x="449" y="276"/>
                </a:lnTo>
                <a:lnTo>
                  <a:pt x="442" y="283"/>
                </a:lnTo>
                <a:lnTo>
                  <a:pt x="442" y="290"/>
                </a:lnTo>
                <a:lnTo>
                  <a:pt x="435" y="297"/>
                </a:lnTo>
                <a:lnTo>
                  <a:pt x="428" y="303"/>
                </a:lnTo>
                <a:lnTo>
                  <a:pt x="421" y="310"/>
                </a:lnTo>
                <a:lnTo>
                  <a:pt x="414" y="317"/>
                </a:lnTo>
                <a:lnTo>
                  <a:pt x="414" y="324"/>
                </a:lnTo>
                <a:lnTo>
                  <a:pt x="414" y="331"/>
                </a:lnTo>
                <a:lnTo>
                  <a:pt x="428" y="338"/>
                </a:lnTo>
                <a:lnTo>
                  <a:pt x="435" y="338"/>
                </a:lnTo>
                <a:lnTo>
                  <a:pt x="442" y="338"/>
                </a:lnTo>
                <a:lnTo>
                  <a:pt x="449" y="338"/>
                </a:lnTo>
                <a:lnTo>
                  <a:pt x="455" y="324"/>
                </a:lnTo>
                <a:close/>
                <a:moveTo>
                  <a:pt x="359" y="297"/>
                </a:moveTo>
                <a:lnTo>
                  <a:pt x="352" y="297"/>
                </a:lnTo>
                <a:lnTo>
                  <a:pt x="338" y="310"/>
                </a:lnTo>
                <a:lnTo>
                  <a:pt x="338" y="310"/>
                </a:lnTo>
                <a:lnTo>
                  <a:pt x="345" y="310"/>
                </a:lnTo>
                <a:lnTo>
                  <a:pt x="345" y="303"/>
                </a:lnTo>
                <a:lnTo>
                  <a:pt x="352" y="303"/>
                </a:lnTo>
                <a:lnTo>
                  <a:pt x="352" y="303"/>
                </a:lnTo>
                <a:lnTo>
                  <a:pt x="352" y="303"/>
                </a:lnTo>
                <a:lnTo>
                  <a:pt x="359" y="297"/>
                </a:lnTo>
                <a:lnTo>
                  <a:pt x="359" y="297"/>
                </a:lnTo>
                <a:close/>
                <a:moveTo>
                  <a:pt x="386" y="269"/>
                </a:moveTo>
                <a:lnTo>
                  <a:pt x="386" y="269"/>
                </a:lnTo>
                <a:lnTo>
                  <a:pt x="386" y="269"/>
                </a:lnTo>
                <a:lnTo>
                  <a:pt x="386" y="269"/>
                </a:lnTo>
                <a:close/>
                <a:moveTo>
                  <a:pt x="414" y="235"/>
                </a:moveTo>
                <a:lnTo>
                  <a:pt x="421" y="228"/>
                </a:lnTo>
                <a:lnTo>
                  <a:pt x="414" y="235"/>
                </a:lnTo>
                <a:lnTo>
                  <a:pt x="414" y="241"/>
                </a:lnTo>
                <a:lnTo>
                  <a:pt x="414" y="235"/>
                </a:lnTo>
                <a:close/>
                <a:moveTo>
                  <a:pt x="476" y="179"/>
                </a:moveTo>
                <a:lnTo>
                  <a:pt x="469" y="179"/>
                </a:lnTo>
                <a:lnTo>
                  <a:pt x="455" y="193"/>
                </a:lnTo>
                <a:lnTo>
                  <a:pt x="462" y="186"/>
                </a:lnTo>
                <a:lnTo>
                  <a:pt x="462" y="186"/>
                </a:lnTo>
                <a:lnTo>
                  <a:pt x="462" y="186"/>
                </a:lnTo>
                <a:lnTo>
                  <a:pt x="469" y="186"/>
                </a:lnTo>
                <a:lnTo>
                  <a:pt x="469" y="179"/>
                </a:lnTo>
                <a:lnTo>
                  <a:pt x="469" y="179"/>
                </a:lnTo>
                <a:lnTo>
                  <a:pt x="476" y="179"/>
                </a:lnTo>
                <a:lnTo>
                  <a:pt x="476" y="179"/>
                </a:lnTo>
                <a:close/>
                <a:moveTo>
                  <a:pt x="1041" y="179"/>
                </a:moveTo>
                <a:lnTo>
                  <a:pt x="1041" y="173"/>
                </a:lnTo>
                <a:lnTo>
                  <a:pt x="1035" y="166"/>
                </a:lnTo>
                <a:lnTo>
                  <a:pt x="1035" y="166"/>
                </a:lnTo>
                <a:lnTo>
                  <a:pt x="1021" y="166"/>
                </a:lnTo>
                <a:lnTo>
                  <a:pt x="1014" y="166"/>
                </a:lnTo>
                <a:lnTo>
                  <a:pt x="1007" y="173"/>
                </a:lnTo>
                <a:lnTo>
                  <a:pt x="1007" y="173"/>
                </a:lnTo>
                <a:lnTo>
                  <a:pt x="1007" y="179"/>
                </a:lnTo>
                <a:lnTo>
                  <a:pt x="1014" y="186"/>
                </a:lnTo>
                <a:lnTo>
                  <a:pt x="1021" y="186"/>
                </a:lnTo>
                <a:lnTo>
                  <a:pt x="1028" y="186"/>
                </a:lnTo>
                <a:lnTo>
                  <a:pt x="1035" y="186"/>
                </a:lnTo>
                <a:lnTo>
                  <a:pt x="1035" y="186"/>
                </a:lnTo>
                <a:lnTo>
                  <a:pt x="1041" y="179"/>
                </a:lnTo>
                <a:close/>
                <a:moveTo>
                  <a:pt x="524" y="145"/>
                </a:moveTo>
                <a:lnTo>
                  <a:pt x="504" y="145"/>
                </a:lnTo>
                <a:lnTo>
                  <a:pt x="504" y="166"/>
                </a:lnTo>
                <a:lnTo>
                  <a:pt x="524" y="145"/>
                </a:lnTo>
                <a:close/>
                <a:moveTo>
                  <a:pt x="2834" y="117"/>
                </a:moveTo>
                <a:lnTo>
                  <a:pt x="2813" y="117"/>
                </a:lnTo>
                <a:lnTo>
                  <a:pt x="2834" y="138"/>
                </a:lnTo>
                <a:lnTo>
                  <a:pt x="2834" y="117"/>
                </a:lnTo>
                <a:close/>
                <a:moveTo>
                  <a:pt x="814" y="90"/>
                </a:moveTo>
                <a:lnTo>
                  <a:pt x="814" y="83"/>
                </a:lnTo>
                <a:lnTo>
                  <a:pt x="821" y="83"/>
                </a:lnTo>
                <a:lnTo>
                  <a:pt x="821" y="76"/>
                </a:lnTo>
                <a:lnTo>
                  <a:pt x="828" y="76"/>
                </a:lnTo>
                <a:lnTo>
                  <a:pt x="828" y="83"/>
                </a:lnTo>
                <a:lnTo>
                  <a:pt x="835" y="83"/>
                </a:lnTo>
                <a:lnTo>
                  <a:pt x="835" y="90"/>
                </a:lnTo>
                <a:lnTo>
                  <a:pt x="835" y="90"/>
                </a:lnTo>
                <a:lnTo>
                  <a:pt x="835" y="97"/>
                </a:lnTo>
                <a:lnTo>
                  <a:pt x="828" y="97"/>
                </a:lnTo>
                <a:lnTo>
                  <a:pt x="821" y="97"/>
                </a:lnTo>
                <a:lnTo>
                  <a:pt x="821" y="97"/>
                </a:lnTo>
                <a:lnTo>
                  <a:pt x="814" y="97"/>
                </a:lnTo>
                <a:lnTo>
                  <a:pt x="814" y="90"/>
                </a:lnTo>
                <a:close/>
                <a:moveTo>
                  <a:pt x="2807" y="90"/>
                </a:moveTo>
                <a:lnTo>
                  <a:pt x="2772" y="90"/>
                </a:lnTo>
                <a:lnTo>
                  <a:pt x="2772" y="90"/>
                </a:lnTo>
                <a:lnTo>
                  <a:pt x="2772" y="90"/>
                </a:lnTo>
                <a:lnTo>
                  <a:pt x="2779" y="97"/>
                </a:lnTo>
                <a:lnTo>
                  <a:pt x="2779" y="97"/>
                </a:lnTo>
                <a:lnTo>
                  <a:pt x="2786" y="97"/>
                </a:lnTo>
                <a:lnTo>
                  <a:pt x="2786" y="104"/>
                </a:lnTo>
                <a:lnTo>
                  <a:pt x="2793" y="104"/>
                </a:lnTo>
                <a:lnTo>
                  <a:pt x="2800" y="104"/>
                </a:lnTo>
                <a:lnTo>
                  <a:pt x="2807" y="104"/>
                </a:lnTo>
                <a:lnTo>
                  <a:pt x="2807" y="90"/>
                </a:lnTo>
                <a:close/>
                <a:moveTo>
                  <a:pt x="2627" y="28"/>
                </a:moveTo>
                <a:lnTo>
                  <a:pt x="2627" y="28"/>
                </a:lnTo>
                <a:lnTo>
                  <a:pt x="2627" y="28"/>
                </a:lnTo>
                <a:lnTo>
                  <a:pt x="2627" y="28"/>
                </a:lnTo>
                <a:lnTo>
                  <a:pt x="2627" y="28"/>
                </a:lnTo>
                <a:lnTo>
                  <a:pt x="2627" y="28"/>
                </a:lnTo>
                <a:lnTo>
                  <a:pt x="2627" y="28"/>
                </a:lnTo>
                <a:lnTo>
                  <a:pt x="2627" y="28"/>
                </a:lnTo>
                <a:lnTo>
                  <a:pt x="2627" y="28"/>
                </a:lnTo>
                <a:lnTo>
                  <a:pt x="2627" y="28"/>
                </a:lnTo>
                <a:lnTo>
                  <a:pt x="2627" y="28"/>
                </a:lnTo>
                <a:close/>
                <a:moveTo>
                  <a:pt x="2476" y="0"/>
                </a:moveTo>
                <a:lnTo>
                  <a:pt x="2448" y="0"/>
                </a:lnTo>
                <a:lnTo>
                  <a:pt x="2420" y="0"/>
                </a:lnTo>
                <a:lnTo>
                  <a:pt x="2420" y="0"/>
                </a:lnTo>
                <a:lnTo>
                  <a:pt x="2420" y="0"/>
                </a:lnTo>
                <a:lnTo>
                  <a:pt x="2427" y="0"/>
                </a:lnTo>
                <a:lnTo>
                  <a:pt x="2434" y="0"/>
                </a:lnTo>
                <a:lnTo>
                  <a:pt x="2441" y="0"/>
                </a:lnTo>
                <a:lnTo>
                  <a:pt x="2441" y="7"/>
                </a:lnTo>
                <a:lnTo>
                  <a:pt x="2448" y="7"/>
                </a:lnTo>
                <a:lnTo>
                  <a:pt x="2455" y="7"/>
                </a:lnTo>
                <a:lnTo>
                  <a:pt x="2462" y="7"/>
                </a:lnTo>
                <a:lnTo>
                  <a:pt x="2462" y="0"/>
                </a:lnTo>
                <a:lnTo>
                  <a:pt x="2469" y="0"/>
                </a:lnTo>
                <a:lnTo>
                  <a:pt x="2476" y="0"/>
                </a:lnTo>
                <a:close/>
                <a:moveTo>
                  <a:pt x="2483" y="1840"/>
                </a:moveTo>
                <a:lnTo>
                  <a:pt x="2510" y="1812"/>
                </a:lnTo>
                <a:lnTo>
                  <a:pt x="2538" y="1812"/>
                </a:lnTo>
                <a:lnTo>
                  <a:pt x="2565" y="1812"/>
                </a:lnTo>
                <a:lnTo>
                  <a:pt x="2600" y="1812"/>
                </a:lnTo>
                <a:lnTo>
                  <a:pt x="2627" y="1812"/>
                </a:lnTo>
                <a:lnTo>
                  <a:pt x="2655" y="1812"/>
                </a:lnTo>
                <a:lnTo>
                  <a:pt x="2689" y="1812"/>
                </a:lnTo>
                <a:lnTo>
                  <a:pt x="2717" y="1778"/>
                </a:lnTo>
                <a:lnTo>
                  <a:pt x="2717" y="1750"/>
                </a:lnTo>
                <a:lnTo>
                  <a:pt x="2717" y="1722"/>
                </a:lnTo>
                <a:lnTo>
                  <a:pt x="2717" y="1688"/>
                </a:lnTo>
                <a:lnTo>
                  <a:pt x="2745" y="1660"/>
                </a:lnTo>
                <a:lnTo>
                  <a:pt x="2745" y="1633"/>
                </a:lnTo>
                <a:lnTo>
                  <a:pt x="2745" y="1599"/>
                </a:lnTo>
                <a:lnTo>
                  <a:pt x="2745" y="1571"/>
                </a:lnTo>
                <a:lnTo>
                  <a:pt x="2772" y="1543"/>
                </a:lnTo>
                <a:lnTo>
                  <a:pt x="2772" y="1516"/>
                </a:lnTo>
                <a:lnTo>
                  <a:pt x="2772" y="1481"/>
                </a:lnTo>
                <a:lnTo>
                  <a:pt x="2772" y="1454"/>
                </a:lnTo>
                <a:lnTo>
                  <a:pt x="2807" y="1426"/>
                </a:lnTo>
                <a:lnTo>
                  <a:pt x="2807" y="1392"/>
                </a:lnTo>
                <a:lnTo>
                  <a:pt x="2807" y="1364"/>
                </a:lnTo>
                <a:lnTo>
                  <a:pt x="2807" y="1337"/>
                </a:lnTo>
                <a:lnTo>
                  <a:pt x="2834" y="1302"/>
                </a:lnTo>
                <a:lnTo>
                  <a:pt x="2834" y="1275"/>
                </a:lnTo>
                <a:lnTo>
                  <a:pt x="2834" y="1247"/>
                </a:lnTo>
                <a:lnTo>
                  <a:pt x="2834" y="1213"/>
                </a:lnTo>
                <a:lnTo>
                  <a:pt x="2862" y="1185"/>
                </a:lnTo>
                <a:lnTo>
                  <a:pt x="2862" y="1158"/>
                </a:lnTo>
                <a:lnTo>
                  <a:pt x="2862" y="1130"/>
                </a:lnTo>
                <a:lnTo>
                  <a:pt x="2862" y="1096"/>
                </a:lnTo>
                <a:lnTo>
                  <a:pt x="2862" y="1068"/>
                </a:lnTo>
                <a:lnTo>
                  <a:pt x="2862" y="1041"/>
                </a:lnTo>
                <a:lnTo>
                  <a:pt x="2862" y="1006"/>
                </a:lnTo>
                <a:lnTo>
                  <a:pt x="2862" y="979"/>
                </a:lnTo>
                <a:lnTo>
                  <a:pt x="2862" y="951"/>
                </a:lnTo>
                <a:lnTo>
                  <a:pt x="2862" y="917"/>
                </a:lnTo>
                <a:lnTo>
                  <a:pt x="2862" y="889"/>
                </a:lnTo>
                <a:lnTo>
                  <a:pt x="2862" y="861"/>
                </a:lnTo>
                <a:lnTo>
                  <a:pt x="2862" y="827"/>
                </a:lnTo>
                <a:lnTo>
                  <a:pt x="2862" y="799"/>
                </a:lnTo>
                <a:lnTo>
                  <a:pt x="2862" y="772"/>
                </a:lnTo>
                <a:lnTo>
                  <a:pt x="2862" y="744"/>
                </a:lnTo>
                <a:lnTo>
                  <a:pt x="2862" y="710"/>
                </a:lnTo>
                <a:lnTo>
                  <a:pt x="2862" y="682"/>
                </a:lnTo>
                <a:lnTo>
                  <a:pt x="2862" y="655"/>
                </a:lnTo>
                <a:lnTo>
                  <a:pt x="2862" y="620"/>
                </a:lnTo>
                <a:lnTo>
                  <a:pt x="2862" y="593"/>
                </a:lnTo>
                <a:lnTo>
                  <a:pt x="2862" y="565"/>
                </a:lnTo>
                <a:lnTo>
                  <a:pt x="2862" y="531"/>
                </a:lnTo>
                <a:lnTo>
                  <a:pt x="2862" y="503"/>
                </a:lnTo>
                <a:lnTo>
                  <a:pt x="2862" y="476"/>
                </a:lnTo>
                <a:lnTo>
                  <a:pt x="2862" y="448"/>
                </a:lnTo>
                <a:lnTo>
                  <a:pt x="2862" y="414"/>
                </a:lnTo>
                <a:lnTo>
                  <a:pt x="2862" y="386"/>
                </a:lnTo>
                <a:lnTo>
                  <a:pt x="2862" y="359"/>
                </a:lnTo>
                <a:lnTo>
                  <a:pt x="2862" y="324"/>
                </a:lnTo>
                <a:lnTo>
                  <a:pt x="2862" y="297"/>
                </a:lnTo>
                <a:lnTo>
                  <a:pt x="2862" y="269"/>
                </a:lnTo>
                <a:lnTo>
                  <a:pt x="2834" y="235"/>
                </a:lnTo>
                <a:lnTo>
                  <a:pt x="2834" y="207"/>
                </a:lnTo>
                <a:lnTo>
                  <a:pt x="2834" y="179"/>
                </a:lnTo>
                <a:lnTo>
                  <a:pt x="2834" y="145"/>
                </a:lnTo>
                <a:lnTo>
                  <a:pt x="2834" y="117"/>
                </a:lnTo>
                <a:lnTo>
                  <a:pt x="2807" y="90"/>
                </a:lnTo>
                <a:lnTo>
                  <a:pt x="2772" y="90"/>
                </a:lnTo>
                <a:lnTo>
                  <a:pt x="2745" y="90"/>
                </a:lnTo>
                <a:lnTo>
                  <a:pt x="2717" y="62"/>
                </a:lnTo>
                <a:lnTo>
                  <a:pt x="2689" y="62"/>
                </a:lnTo>
                <a:lnTo>
                  <a:pt x="2655" y="62"/>
                </a:lnTo>
                <a:lnTo>
                  <a:pt x="2627" y="28"/>
                </a:lnTo>
                <a:lnTo>
                  <a:pt x="2600" y="28"/>
                </a:lnTo>
                <a:lnTo>
                  <a:pt x="2565" y="28"/>
                </a:lnTo>
                <a:lnTo>
                  <a:pt x="2538" y="0"/>
                </a:lnTo>
                <a:lnTo>
                  <a:pt x="2510" y="0"/>
                </a:lnTo>
                <a:lnTo>
                  <a:pt x="2483" y="0"/>
                </a:lnTo>
                <a:lnTo>
                  <a:pt x="2448" y="0"/>
                </a:lnTo>
                <a:lnTo>
                  <a:pt x="2420" y="0"/>
                </a:lnTo>
                <a:lnTo>
                  <a:pt x="2393" y="0"/>
                </a:lnTo>
                <a:lnTo>
                  <a:pt x="2365" y="0"/>
                </a:lnTo>
                <a:lnTo>
                  <a:pt x="2331" y="0"/>
                </a:lnTo>
                <a:lnTo>
                  <a:pt x="2303" y="0"/>
                </a:lnTo>
                <a:lnTo>
                  <a:pt x="2276" y="0"/>
                </a:lnTo>
                <a:lnTo>
                  <a:pt x="2241" y="0"/>
                </a:lnTo>
                <a:lnTo>
                  <a:pt x="2214" y="0"/>
                </a:lnTo>
                <a:lnTo>
                  <a:pt x="2186" y="0"/>
                </a:lnTo>
                <a:lnTo>
                  <a:pt x="2200" y="0"/>
                </a:lnTo>
                <a:lnTo>
                  <a:pt x="2207" y="7"/>
                </a:lnTo>
                <a:lnTo>
                  <a:pt x="2214" y="7"/>
                </a:lnTo>
                <a:lnTo>
                  <a:pt x="2221" y="7"/>
                </a:lnTo>
                <a:lnTo>
                  <a:pt x="2234" y="7"/>
                </a:lnTo>
                <a:lnTo>
                  <a:pt x="2241" y="14"/>
                </a:lnTo>
                <a:lnTo>
                  <a:pt x="2248" y="14"/>
                </a:lnTo>
                <a:lnTo>
                  <a:pt x="2262" y="14"/>
                </a:lnTo>
                <a:lnTo>
                  <a:pt x="2269" y="14"/>
                </a:lnTo>
                <a:lnTo>
                  <a:pt x="2276" y="14"/>
                </a:lnTo>
                <a:lnTo>
                  <a:pt x="2289" y="21"/>
                </a:lnTo>
                <a:lnTo>
                  <a:pt x="2296" y="21"/>
                </a:lnTo>
                <a:lnTo>
                  <a:pt x="2303" y="21"/>
                </a:lnTo>
                <a:lnTo>
                  <a:pt x="2317" y="21"/>
                </a:lnTo>
                <a:lnTo>
                  <a:pt x="2324" y="21"/>
                </a:lnTo>
                <a:lnTo>
                  <a:pt x="2331" y="21"/>
                </a:lnTo>
                <a:lnTo>
                  <a:pt x="2338" y="28"/>
                </a:lnTo>
                <a:lnTo>
                  <a:pt x="2352" y="28"/>
                </a:lnTo>
                <a:lnTo>
                  <a:pt x="2358" y="28"/>
                </a:lnTo>
                <a:lnTo>
                  <a:pt x="2365" y="28"/>
                </a:lnTo>
                <a:lnTo>
                  <a:pt x="2372" y="35"/>
                </a:lnTo>
                <a:lnTo>
                  <a:pt x="2372" y="42"/>
                </a:lnTo>
                <a:lnTo>
                  <a:pt x="2379" y="49"/>
                </a:lnTo>
                <a:lnTo>
                  <a:pt x="2379" y="55"/>
                </a:lnTo>
                <a:lnTo>
                  <a:pt x="2379" y="62"/>
                </a:lnTo>
                <a:lnTo>
                  <a:pt x="2393" y="62"/>
                </a:lnTo>
                <a:lnTo>
                  <a:pt x="2400" y="62"/>
                </a:lnTo>
                <a:lnTo>
                  <a:pt x="2407" y="62"/>
                </a:lnTo>
                <a:lnTo>
                  <a:pt x="2420" y="69"/>
                </a:lnTo>
                <a:lnTo>
                  <a:pt x="2427" y="69"/>
                </a:lnTo>
                <a:lnTo>
                  <a:pt x="2434" y="69"/>
                </a:lnTo>
                <a:lnTo>
                  <a:pt x="2448" y="69"/>
                </a:lnTo>
                <a:lnTo>
                  <a:pt x="2455" y="69"/>
                </a:lnTo>
                <a:lnTo>
                  <a:pt x="2455" y="76"/>
                </a:lnTo>
                <a:lnTo>
                  <a:pt x="2462" y="83"/>
                </a:lnTo>
                <a:lnTo>
                  <a:pt x="2462" y="90"/>
                </a:lnTo>
                <a:lnTo>
                  <a:pt x="2469" y="97"/>
                </a:lnTo>
                <a:lnTo>
                  <a:pt x="2476" y="97"/>
                </a:lnTo>
                <a:lnTo>
                  <a:pt x="2483" y="97"/>
                </a:lnTo>
                <a:lnTo>
                  <a:pt x="2496" y="97"/>
                </a:lnTo>
                <a:lnTo>
                  <a:pt x="2503" y="90"/>
                </a:lnTo>
                <a:lnTo>
                  <a:pt x="2503" y="90"/>
                </a:lnTo>
                <a:lnTo>
                  <a:pt x="2503" y="83"/>
                </a:lnTo>
                <a:lnTo>
                  <a:pt x="2503" y="76"/>
                </a:lnTo>
                <a:lnTo>
                  <a:pt x="2503" y="69"/>
                </a:lnTo>
                <a:lnTo>
                  <a:pt x="2503" y="62"/>
                </a:lnTo>
                <a:lnTo>
                  <a:pt x="2510" y="55"/>
                </a:lnTo>
                <a:lnTo>
                  <a:pt x="2517" y="62"/>
                </a:lnTo>
                <a:lnTo>
                  <a:pt x="2517" y="69"/>
                </a:lnTo>
                <a:lnTo>
                  <a:pt x="2524" y="76"/>
                </a:lnTo>
                <a:lnTo>
                  <a:pt x="2524" y="83"/>
                </a:lnTo>
                <a:lnTo>
                  <a:pt x="2531" y="83"/>
                </a:lnTo>
                <a:lnTo>
                  <a:pt x="2538" y="90"/>
                </a:lnTo>
                <a:lnTo>
                  <a:pt x="2545" y="90"/>
                </a:lnTo>
                <a:lnTo>
                  <a:pt x="2551" y="97"/>
                </a:lnTo>
                <a:lnTo>
                  <a:pt x="2551" y="104"/>
                </a:lnTo>
                <a:lnTo>
                  <a:pt x="2551" y="111"/>
                </a:lnTo>
                <a:lnTo>
                  <a:pt x="2551" y="117"/>
                </a:lnTo>
                <a:lnTo>
                  <a:pt x="2551" y="124"/>
                </a:lnTo>
                <a:lnTo>
                  <a:pt x="2551" y="131"/>
                </a:lnTo>
                <a:lnTo>
                  <a:pt x="2551" y="131"/>
                </a:lnTo>
                <a:lnTo>
                  <a:pt x="2558" y="138"/>
                </a:lnTo>
                <a:lnTo>
                  <a:pt x="2558" y="145"/>
                </a:lnTo>
                <a:lnTo>
                  <a:pt x="2558" y="152"/>
                </a:lnTo>
                <a:lnTo>
                  <a:pt x="2558" y="159"/>
                </a:lnTo>
                <a:lnTo>
                  <a:pt x="2558" y="166"/>
                </a:lnTo>
                <a:lnTo>
                  <a:pt x="2558" y="173"/>
                </a:lnTo>
                <a:lnTo>
                  <a:pt x="2565" y="179"/>
                </a:lnTo>
                <a:lnTo>
                  <a:pt x="2572" y="179"/>
                </a:lnTo>
                <a:lnTo>
                  <a:pt x="2579" y="186"/>
                </a:lnTo>
                <a:lnTo>
                  <a:pt x="2586" y="186"/>
                </a:lnTo>
                <a:lnTo>
                  <a:pt x="2593" y="193"/>
                </a:lnTo>
                <a:lnTo>
                  <a:pt x="2593" y="200"/>
                </a:lnTo>
                <a:lnTo>
                  <a:pt x="2600" y="207"/>
                </a:lnTo>
                <a:lnTo>
                  <a:pt x="2600" y="207"/>
                </a:lnTo>
                <a:lnTo>
                  <a:pt x="2614" y="214"/>
                </a:lnTo>
                <a:lnTo>
                  <a:pt x="2620" y="214"/>
                </a:lnTo>
                <a:lnTo>
                  <a:pt x="2627" y="214"/>
                </a:lnTo>
                <a:lnTo>
                  <a:pt x="2634" y="221"/>
                </a:lnTo>
                <a:lnTo>
                  <a:pt x="2641" y="228"/>
                </a:lnTo>
                <a:lnTo>
                  <a:pt x="2641" y="235"/>
                </a:lnTo>
                <a:lnTo>
                  <a:pt x="2648" y="235"/>
                </a:lnTo>
                <a:lnTo>
                  <a:pt x="2655" y="241"/>
                </a:lnTo>
                <a:lnTo>
                  <a:pt x="2662" y="248"/>
                </a:lnTo>
                <a:lnTo>
                  <a:pt x="2669" y="248"/>
                </a:lnTo>
                <a:lnTo>
                  <a:pt x="2676" y="248"/>
                </a:lnTo>
                <a:lnTo>
                  <a:pt x="2689" y="255"/>
                </a:lnTo>
                <a:lnTo>
                  <a:pt x="2689" y="255"/>
                </a:lnTo>
                <a:lnTo>
                  <a:pt x="2696" y="262"/>
                </a:lnTo>
                <a:lnTo>
                  <a:pt x="2703" y="269"/>
                </a:lnTo>
                <a:lnTo>
                  <a:pt x="2703" y="276"/>
                </a:lnTo>
                <a:lnTo>
                  <a:pt x="2710" y="276"/>
                </a:lnTo>
                <a:lnTo>
                  <a:pt x="2724" y="283"/>
                </a:lnTo>
                <a:lnTo>
                  <a:pt x="2731" y="283"/>
                </a:lnTo>
                <a:lnTo>
                  <a:pt x="2738" y="290"/>
                </a:lnTo>
                <a:lnTo>
                  <a:pt x="2745" y="290"/>
                </a:lnTo>
                <a:lnTo>
                  <a:pt x="2745" y="297"/>
                </a:lnTo>
                <a:lnTo>
                  <a:pt x="2738" y="303"/>
                </a:lnTo>
                <a:lnTo>
                  <a:pt x="2738" y="310"/>
                </a:lnTo>
                <a:lnTo>
                  <a:pt x="2731" y="310"/>
                </a:lnTo>
                <a:lnTo>
                  <a:pt x="2731" y="317"/>
                </a:lnTo>
                <a:lnTo>
                  <a:pt x="2724" y="324"/>
                </a:lnTo>
                <a:lnTo>
                  <a:pt x="2724" y="331"/>
                </a:lnTo>
                <a:lnTo>
                  <a:pt x="2717" y="338"/>
                </a:lnTo>
                <a:lnTo>
                  <a:pt x="2710" y="338"/>
                </a:lnTo>
                <a:lnTo>
                  <a:pt x="2696" y="331"/>
                </a:lnTo>
                <a:lnTo>
                  <a:pt x="2689" y="331"/>
                </a:lnTo>
                <a:lnTo>
                  <a:pt x="2676" y="331"/>
                </a:lnTo>
                <a:lnTo>
                  <a:pt x="2669" y="324"/>
                </a:lnTo>
                <a:lnTo>
                  <a:pt x="2662" y="324"/>
                </a:lnTo>
                <a:lnTo>
                  <a:pt x="2655" y="331"/>
                </a:lnTo>
                <a:lnTo>
                  <a:pt x="2641" y="331"/>
                </a:lnTo>
                <a:lnTo>
                  <a:pt x="2634" y="331"/>
                </a:lnTo>
                <a:lnTo>
                  <a:pt x="2627" y="331"/>
                </a:lnTo>
                <a:lnTo>
                  <a:pt x="2614" y="331"/>
                </a:lnTo>
                <a:lnTo>
                  <a:pt x="2607" y="331"/>
                </a:lnTo>
                <a:lnTo>
                  <a:pt x="2600" y="331"/>
                </a:lnTo>
                <a:lnTo>
                  <a:pt x="2593" y="324"/>
                </a:lnTo>
                <a:lnTo>
                  <a:pt x="2586" y="317"/>
                </a:lnTo>
                <a:lnTo>
                  <a:pt x="2579" y="317"/>
                </a:lnTo>
                <a:lnTo>
                  <a:pt x="2565" y="317"/>
                </a:lnTo>
                <a:lnTo>
                  <a:pt x="2558" y="317"/>
                </a:lnTo>
                <a:lnTo>
                  <a:pt x="2551" y="317"/>
                </a:lnTo>
                <a:lnTo>
                  <a:pt x="2538" y="317"/>
                </a:lnTo>
                <a:lnTo>
                  <a:pt x="2531" y="317"/>
                </a:lnTo>
                <a:lnTo>
                  <a:pt x="2517" y="317"/>
                </a:lnTo>
                <a:lnTo>
                  <a:pt x="2510" y="317"/>
                </a:lnTo>
                <a:lnTo>
                  <a:pt x="2503" y="317"/>
                </a:lnTo>
                <a:lnTo>
                  <a:pt x="2496" y="310"/>
                </a:lnTo>
                <a:lnTo>
                  <a:pt x="2496" y="303"/>
                </a:lnTo>
                <a:lnTo>
                  <a:pt x="2489" y="297"/>
                </a:lnTo>
                <a:lnTo>
                  <a:pt x="2483" y="297"/>
                </a:lnTo>
                <a:lnTo>
                  <a:pt x="2476" y="290"/>
                </a:lnTo>
                <a:lnTo>
                  <a:pt x="2462" y="290"/>
                </a:lnTo>
                <a:lnTo>
                  <a:pt x="2455" y="297"/>
                </a:lnTo>
                <a:lnTo>
                  <a:pt x="2448" y="297"/>
                </a:lnTo>
                <a:lnTo>
                  <a:pt x="2455" y="303"/>
                </a:lnTo>
                <a:lnTo>
                  <a:pt x="2462" y="310"/>
                </a:lnTo>
                <a:lnTo>
                  <a:pt x="2469" y="310"/>
                </a:lnTo>
                <a:lnTo>
                  <a:pt x="2469" y="317"/>
                </a:lnTo>
                <a:lnTo>
                  <a:pt x="2476" y="324"/>
                </a:lnTo>
                <a:lnTo>
                  <a:pt x="2476" y="331"/>
                </a:lnTo>
                <a:lnTo>
                  <a:pt x="2483" y="331"/>
                </a:lnTo>
                <a:lnTo>
                  <a:pt x="2489" y="338"/>
                </a:lnTo>
                <a:lnTo>
                  <a:pt x="2496" y="338"/>
                </a:lnTo>
                <a:lnTo>
                  <a:pt x="2503" y="345"/>
                </a:lnTo>
                <a:lnTo>
                  <a:pt x="2510" y="345"/>
                </a:lnTo>
                <a:lnTo>
                  <a:pt x="2517" y="352"/>
                </a:lnTo>
                <a:lnTo>
                  <a:pt x="2524" y="359"/>
                </a:lnTo>
                <a:lnTo>
                  <a:pt x="2524" y="359"/>
                </a:lnTo>
                <a:lnTo>
                  <a:pt x="2531" y="365"/>
                </a:lnTo>
                <a:lnTo>
                  <a:pt x="2538" y="372"/>
                </a:lnTo>
                <a:lnTo>
                  <a:pt x="2545" y="379"/>
                </a:lnTo>
                <a:lnTo>
                  <a:pt x="2545" y="379"/>
                </a:lnTo>
                <a:lnTo>
                  <a:pt x="2551" y="386"/>
                </a:lnTo>
                <a:lnTo>
                  <a:pt x="2551" y="393"/>
                </a:lnTo>
                <a:lnTo>
                  <a:pt x="2558" y="400"/>
                </a:lnTo>
                <a:lnTo>
                  <a:pt x="2558" y="407"/>
                </a:lnTo>
                <a:lnTo>
                  <a:pt x="2565" y="407"/>
                </a:lnTo>
                <a:lnTo>
                  <a:pt x="2572" y="414"/>
                </a:lnTo>
                <a:lnTo>
                  <a:pt x="2579" y="421"/>
                </a:lnTo>
                <a:lnTo>
                  <a:pt x="2572" y="427"/>
                </a:lnTo>
                <a:lnTo>
                  <a:pt x="2565" y="427"/>
                </a:lnTo>
                <a:lnTo>
                  <a:pt x="2558" y="434"/>
                </a:lnTo>
                <a:lnTo>
                  <a:pt x="2551" y="434"/>
                </a:lnTo>
                <a:lnTo>
                  <a:pt x="2538" y="434"/>
                </a:lnTo>
                <a:lnTo>
                  <a:pt x="2531" y="441"/>
                </a:lnTo>
                <a:lnTo>
                  <a:pt x="2531" y="448"/>
                </a:lnTo>
                <a:lnTo>
                  <a:pt x="2524" y="448"/>
                </a:lnTo>
                <a:lnTo>
                  <a:pt x="2524" y="455"/>
                </a:lnTo>
                <a:lnTo>
                  <a:pt x="2517" y="462"/>
                </a:lnTo>
                <a:lnTo>
                  <a:pt x="2517" y="469"/>
                </a:lnTo>
                <a:lnTo>
                  <a:pt x="2517" y="476"/>
                </a:lnTo>
                <a:lnTo>
                  <a:pt x="2517" y="483"/>
                </a:lnTo>
                <a:lnTo>
                  <a:pt x="2517" y="489"/>
                </a:lnTo>
                <a:lnTo>
                  <a:pt x="2510" y="489"/>
                </a:lnTo>
                <a:lnTo>
                  <a:pt x="2510" y="496"/>
                </a:lnTo>
                <a:lnTo>
                  <a:pt x="2503" y="503"/>
                </a:lnTo>
                <a:lnTo>
                  <a:pt x="2496" y="510"/>
                </a:lnTo>
                <a:lnTo>
                  <a:pt x="2496" y="510"/>
                </a:lnTo>
                <a:lnTo>
                  <a:pt x="2483" y="517"/>
                </a:lnTo>
                <a:lnTo>
                  <a:pt x="2476" y="524"/>
                </a:lnTo>
                <a:lnTo>
                  <a:pt x="2469" y="524"/>
                </a:lnTo>
                <a:lnTo>
                  <a:pt x="2462" y="531"/>
                </a:lnTo>
                <a:lnTo>
                  <a:pt x="2455" y="531"/>
                </a:lnTo>
                <a:lnTo>
                  <a:pt x="2448" y="538"/>
                </a:lnTo>
                <a:lnTo>
                  <a:pt x="2441" y="538"/>
                </a:lnTo>
                <a:lnTo>
                  <a:pt x="2434" y="538"/>
                </a:lnTo>
                <a:lnTo>
                  <a:pt x="2420" y="538"/>
                </a:lnTo>
                <a:lnTo>
                  <a:pt x="2414" y="538"/>
                </a:lnTo>
                <a:lnTo>
                  <a:pt x="2407" y="531"/>
                </a:lnTo>
                <a:lnTo>
                  <a:pt x="2400" y="531"/>
                </a:lnTo>
                <a:lnTo>
                  <a:pt x="2393" y="524"/>
                </a:lnTo>
                <a:lnTo>
                  <a:pt x="2386" y="524"/>
                </a:lnTo>
                <a:lnTo>
                  <a:pt x="2372" y="524"/>
                </a:lnTo>
                <a:lnTo>
                  <a:pt x="2365" y="517"/>
                </a:lnTo>
                <a:lnTo>
                  <a:pt x="2358" y="517"/>
                </a:lnTo>
                <a:lnTo>
                  <a:pt x="2352" y="510"/>
                </a:lnTo>
                <a:lnTo>
                  <a:pt x="2345" y="510"/>
                </a:lnTo>
                <a:lnTo>
                  <a:pt x="2338" y="503"/>
                </a:lnTo>
                <a:lnTo>
                  <a:pt x="2331" y="503"/>
                </a:lnTo>
                <a:lnTo>
                  <a:pt x="2317" y="496"/>
                </a:lnTo>
                <a:lnTo>
                  <a:pt x="2310" y="496"/>
                </a:lnTo>
                <a:lnTo>
                  <a:pt x="2303" y="489"/>
                </a:lnTo>
                <a:lnTo>
                  <a:pt x="2296" y="489"/>
                </a:lnTo>
                <a:lnTo>
                  <a:pt x="2289" y="489"/>
                </a:lnTo>
                <a:lnTo>
                  <a:pt x="2283" y="483"/>
                </a:lnTo>
                <a:lnTo>
                  <a:pt x="2276" y="483"/>
                </a:lnTo>
                <a:lnTo>
                  <a:pt x="2269" y="476"/>
                </a:lnTo>
                <a:lnTo>
                  <a:pt x="2262" y="469"/>
                </a:lnTo>
                <a:lnTo>
                  <a:pt x="2255" y="462"/>
                </a:lnTo>
                <a:lnTo>
                  <a:pt x="2255" y="455"/>
                </a:lnTo>
                <a:lnTo>
                  <a:pt x="2248" y="455"/>
                </a:lnTo>
                <a:lnTo>
                  <a:pt x="2234" y="455"/>
                </a:lnTo>
                <a:lnTo>
                  <a:pt x="2227" y="455"/>
                </a:lnTo>
                <a:lnTo>
                  <a:pt x="2221" y="462"/>
                </a:lnTo>
                <a:lnTo>
                  <a:pt x="2207" y="462"/>
                </a:lnTo>
                <a:lnTo>
                  <a:pt x="2200" y="462"/>
                </a:lnTo>
                <a:lnTo>
                  <a:pt x="2193" y="469"/>
                </a:lnTo>
                <a:lnTo>
                  <a:pt x="2186" y="469"/>
                </a:lnTo>
                <a:lnTo>
                  <a:pt x="2172" y="469"/>
                </a:lnTo>
                <a:lnTo>
                  <a:pt x="2165" y="469"/>
                </a:lnTo>
                <a:lnTo>
                  <a:pt x="2158" y="469"/>
                </a:lnTo>
                <a:lnTo>
                  <a:pt x="2145" y="469"/>
                </a:lnTo>
                <a:lnTo>
                  <a:pt x="2138" y="469"/>
                </a:lnTo>
                <a:lnTo>
                  <a:pt x="2131" y="476"/>
                </a:lnTo>
                <a:lnTo>
                  <a:pt x="2124" y="476"/>
                </a:lnTo>
                <a:lnTo>
                  <a:pt x="2117" y="483"/>
                </a:lnTo>
                <a:lnTo>
                  <a:pt x="2110" y="483"/>
                </a:lnTo>
                <a:lnTo>
                  <a:pt x="2103" y="489"/>
                </a:lnTo>
                <a:lnTo>
                  <a:pt x="2096" y="496"/>
                </a:lnTo>
                <a:lnTo>
                  <a:pt x="2090" y="496"/>
                </a:lnTo>
                <a:lnTo>
                  <a:pt x="2083" y="503"/>
                </a:lnTo>
                <a:lnTo>
                  <a:pt x="2076" y="510"/>
                </a:lnTo>
                <a:lnTo>
                  <a:pt x="2076" y="517"/>
                </a:lnTo>
                <a:lnTo>
                  <a:pt x="2069" y="524"/>
                </a:lnTo>
                <a:lnTo>
                  <a:pt x="2069" y="524"/>
                </a:lnTo>
                <a:lnTo>
                  <a:pt x="2062" y="524"/>
                </a:lnTo>
                <a:lnTo>
                  <a:pt x="2055" y="517"/>
                </a:lnTo>
                <a:lnTo>
                  <a:pt x="2055" y="510"/>
                </a:lnTo>
                <a:lnTo>
                  <a:pt x="2055" y="503"/>
                </a:lnTo>
                <a:lnTo>
                  <a:pt x="2055" y="496"/>
                </a:lnTo>
                <a:lnTo>
                  <a:pt x="2062" y="489"/>
                </a:lnTo>
                <a:lnTo>
                  <a:pt x="2062" y="483"/>
                </a:lnTo>
                <a:lnTo>
                  <a:pt x="2069" y="476"/>
                </a:lnTo>
                <a:lnTo>
                  <a:pt x="2069" y="476"/>
                </a:lnTo>
                <a:lnTo>
                  <a:pt x="2062" y="469"/>
                </a:lnTo>
                <a:lnTo>
                  <a:pt x="2048" y="469"/>
                </a:lnTo>
                <a:lnTo>
                  <a:pt x="2041" y="469"/>
                </a:lnTo>
                <a:lnTo>
                  <a:pt x="2034" y="476"/>
                </a:lnTo>
                <a:lnTo>
                  <a:pt x="2027" y="483"/>
                </a:lnTo>
                <a:lnTo>
                  <a:pt x="2027" y="489"/>
                </a:lnTo>
                <a:lnTo>
                  <a:pt x="2027" y="489"/>
                </a:lnTo>
                <a:lnTo>
                  <a:pt x="2027" y="496"/>
                </a:lnTo>
                <a:lnTo>
                  <a:pt x="2027" y="503"/>
                </a:lnTo>
                <a:lnTo>
                  <a:pt x="2021" y="510"/>
                </a:lnTo>
                <a:lnTo>
                  <a:pt x="2021" y="517"/>
                </a:lnTo>
                <a:lnTo>
                  <a:pt x="2021" y="524"/>
                </a:lnTo>
                <a:lnTo>
                  <a:pt x="2021" y="531"/>
                </a:lnTo>
                <a:lnTo>
                  <a:pt x="2021" y="538"/>
                </a:lnTo>
                <a:lnTo>
                  <a:pt x="2014" y="538"/>
                </a:lnTo>
                <a:lnTo>
                  <a:pt x="2014" y="545"/>
                </a:lnTo>
                <a:lnTo>
                  <a:pt x="2014" y="551"/>
                </a:lnTo>
                <a:lnTo>
                  <a:pt x="2014" y="558"/>
                </a:lnTo>
                <a:lnTo>
                  <a:pt x="2007" y="565"/>
                </a:lnTo>
                <a:lnTo>
                  <a:pt x="2007" y="572"/>
                </a:lnTo>
                <a:lnTo>
                  <a:pt x="2007" y="579"/>
                </a:lnTo>
                <a:lnTo>
                  <a:pt x="2000" y="579"/>
                </a:lnTo>
                <a:lnTo>
                  <a:pt x="2000" y="586"/>
                </a:lnTo>
                <a:lnTo>
                  <a:pt x="2000" y="593"/>
                </a:lnTo>
                <a:lnTo>
                  <a:pt x="2000" y="600"/>
                </a:lnTo>
                <a:lnTo>
                  <a:pt x="1993" y="607"/>
                </a:lnTo>
                <a:lnTo>
                  <a:pt x="1993" y="613"/>
                </a:lnTo>
                <a:lnTo>
                  <a:pt x="1993" y="620"/>
                </a:lnTo>
                <a:lnTo>
                  <a:pt x="1986" y="620"/>
                </a:lnTo>
                <a:lnTo>
                  <a:pt x="1986" y="627"/>
                </a:lnTo>
                <a:lnTo>
                  <a:pt x="1986" y="634"/>
                </a:lnTo>
                <a:lnTo>
                  <a:pt x="1979" y="641"/>
                </a:lnTo>
                <a:lnTo>
                  <a:pt x="1979" y="648"/>
                </a:lnTo>
                <a:lnTo>
                  <a:pt x="1979" y="655"/>
                </a:lnTo>
                <a:lnTo>
                  <a:pt x="1979" y="662"/>
                </a:lnTo>
                <a:lnTo>
                  <a:pt x="1972" y="662"/>
                </a:lnTo>
                <a:lnTo>
                  <a:pt x="1965" y="669"/>
                </a:lnTo>
                <a:lnTo>
                  <a:pt x="1959" y="675"/>
                </a:lnTo>
                <a:lnTo>
                  <a:pt x="1959" y="682"/>
                </a:lnTo>
                <a:lnTo>
                  <a:pt x="1959" y="689"/>
                </a:lnTo>
                <a:lnTo>
                  <a:pt x="1959" y="689"/>
                </a:lnTo>
                <a:lnTo>
                  <a:pt x="1965" y="696"/>
                </a:lnTo>
                <a:lnTo>
                  <a:pt x="1965" y="703"/>
                </a:lnTo>
                <a:lnTo>
                  <a:pt x="1965" y="710"/>
                </a:lnTo>
                <a:lnTo>
                  <a:pt x="1959" y="717"/>
                </a:lnTo>
                <a:lnTo>
                  <a:pt x="1959" y="724"/>
                </a:lnTo>
                <a:lnTo>
                  <a:pt x="1945" y="724"/>
                </a:lnTo>
                <a:lnTo>
                  <a:pt x="1938" y="731"/>
                </a:lnTo>
                <a:lnTo>
                  <a:pt x="1931" y="731"/>
                </a:lnTo>
                <a:lnTo>
                  <a:pt x="1924" y="731"/>
                </a:lnTo>
                <a:lnTo>
                  <a:pt x="1910" y="731"/>
                </a:lnTo>
                <a:lnTo>
                  <a:pt x="1903" y="731"/>
                </a:lnTo>
                <a:lnTo>
                  <a:pt x="1896" y="731"/>
                </a:lnTo>
                <a:lnTo>
                  <a:pt x="1883" y="731"/>
                </a:lnTo>
                <a:lnTo>
                  <a:pt x="1876" y="724"/>
                </a:lnTo>
                <a:lnTo>
                  <a:pt x="1869" y="724"/>
                </a:lnTo>
                <a:lnTo>
                  <a:pt x="1855" y="724"/>
                </a:lnTo>
                <a:lnTo>
                  <a:pt x="1848" y="724"/>
                </a:lnTo>
                <a:lnTo>
                  <a:pt x="1841" y="731"/>
                </a:lnTo>
                <a:lnTo>
                  <a:pt x="1828" y="731"/>
                </a:lnTo>
                <a:lnTo>
                  <a:pt x="1821" y="731"/>
                </a:lnTo>
                <a:lnTo>
                  <a:pt x="1807" y="731"/>
                </a:lnTo>
                <a:lnTo>
                  <a:pt x="1800" y="737"/>
                </a:lnTo>
                <a:lnTo>
                  <a:pt x="1800" y="737"/>
                </a:lnTo>
                <a:lnTo>
                  <a:pt x="1793" y="744"/>
                </a:lnTo>
                <a:lnTo>
                  <a:pt x="1793" y="751"/>
                </a:lnTo>
                <a:lnTo>
                  <a:pt x="1786" y="758"/>
                </a:lnTo>
                <a:lnTo>
                  <a:pt x="1779" y="765"/>
                </a:lnTo>
                <a:lnTo>
                  <a:pt x="1779" y="765"/>
                </a:lnTo>
                <a:lnTo>
                  <a:pt x="1772" y="772"/>
                </a:lnTo>
                <a:lnTo>
                  <a:pt x="1772" y="779"/>
                </a:lnTo>
                <a:lnTo>
                  <a:pt x="1765" y="786"/>
                </a:lnTo>
                <a:lnTo>
                  <a:pt x="1765" y="786"/>
                </a:lnTo>
                <a:lnTo>
                  <a:pt x="1759" y="793"/>
                </a:lnTo>
                <a:lnTo>
                  <a:pt x="1752" y="799"/>
                </a:lnTo>
                <a:lnTo>
                  <a:pt x="1752" y="806"/>
                </a:lnTo>
                <a:lnTo>
                  <a:pt x="1745" y="813"/>
                </a:lnTo>
                <a:lnTo>
                  <a:pt x="1745" y="813"/>
                </a:lnTo>
                <a:lnTo>
                  <a:pt x="1738" y="820"/>
                </a:lnTo>
                <a:lnTo>
                  <a:pt x="1738" y="827"/>
                </a:lnTo>
                <a:lnTo>
                  <a:pt x="1731" y="834"/>
                </a:lnTo>
                <a:lnTo>
                  <a:pt x="1731" y="841"/>
                </a:lnTo>
                <a:lnTo>
                  <a:pt x="1724" y="841"/>
                </a:lnTo>
                <a:lnTo>
                  <a:pt x="1717" y="848"/>
                </a:lnTo>
                <a:lnTo>
                  <a:pt x="1717" y="855"/>
                </a:lnTo>
                <a:lnTo>
                  <a:pt x="1710" y="861"/>
                </a:lnTo>
                <a:lnTo>
                  <a:pt x="1710" y="868"/>
                </a:lnTo>
                <a:lnTo>
                  <a:pt x="1710" y="868"/>
                </a:lnTo>
                <a:lnTo>
                  <a:pt x="1703" y="875"/>
                </a:lnTo>
                <a:lnTo>
                  <a:pt x="1703" y="882"/>
                </a:lnTo>
                <a:lnTo>
                  <a:pt x="1703" y="889"/>
                </a:lnTo>
                <a:lnTo>
                  <a:pt x="1703" y="896"/>
                </a:lnTo>
                <a:lnTo>
                  <a:pt x="1703" y="903"/>
                </a:lnTo>
                <a:lnTo>
                  <a:pt x="1697" y="910"/>
                </a:lnTo>
                <a:lnTo>
                  <a:pt x="1697" y="910"/>
                </a:lnTo>
                <a:lnTo>
                  <a:pt x="1690" y="917"/>
                </a:lnTo>
                <a:lnTo>
                  <a:pt x="1690" y="923"/>
                </a:lnTo>
                <a:lnTo>
                  <a:pt x="1683" y="930"/>
                </a:lnTo>
                <a:lnTo>
                  <a:pt x="1676" y="923"/>
                </a:lnTo>
                <a:lnTo>
                  <a:pt x="1669" y="917"/>
                </a:lnTo>
                <a:lnTo>
                  <a:pt x="1669" y="910"/>
                </a:lnTo>
                <a:lnTo>
                  <a:pt x="1662" y="903"/>
                </a:lnTo>
                <a:lnTo>
                  <a:pt x="1662" y="896"/>
                </a:lnTo>
                <a:lnTo>
                  <a:pt x="1662" y="896"/>
                </a:lnTo>
                <a:lnTo>
                  <a:pt x="1662" y="889"/>
                </a:lnTo>
                <a:lnTo>
                  <a:pt x="1662" y="882"/>
                </a:lnTo>
                <a:lnTo>
                  <a:pt x="1662" y="875"/>
                </a:lnTo>
                <a:lnTo>
                  <a:pt x="1662" y="875"/>
                </a:lnTo>
                <a:lnTo>
                  <a:pt x="1655" y="868"/>
                </a:lnTo>
                <a:lnTo>
                  <a:pt x="1655" y="855"/>
                </a:lnTo>
                <a:lnTo>
                  <a:pt x="1655" y="848"/>
                </a:lnTo>
                <a:lnTo>
                  <a:pt x="1655" y="848"/>
                </a:lnTo>
                <a:lnTo>
                  <a:pt x="1655" y="855"/>
                </a:lnTo>
                <a:lnTo>
                  <a:pt x="1655" y="868"/>
                </a:lnTo>
                <a:lnTo>
                  <a:pt x="1655" y="875"/>
                </a:lnTo>
                <a:lnTo>
                  <a:pt x="1648" y="875"/>
                </a:lnTo>
                <a:lnTo>
                  <a:pt x="1648" y="882"/>
                </a:lnTo>
                <a:lnTo>
                  <a:pt x="1648" y="889"/>
                </a:lnTo>
                <a:lnTo>
                  <a:pt x="1648" y="896"/>
                </a:lnTo>
                <a:lnTo>
                  <a:pt x="1648" y="903"/>
                </a:lnTo>
                <a:lnTo>
                  <a:pt x="1648" y="903"/>
                </a:lnTo>
                <a:lnTo>
                  <a:pt x="1648" y="910"/>
                </a:lnTo>
                <a:lnTo>
                  <a:pt x="1648" y="917"/>
                </a:lnTo>
                <a:lnTo>
                  <a:pt x="1648" y="923"/>
                </a:lnTo>
                <a:lnTo>
                  <a:pt x="1648" y="930"/>
                </a:lnTo>
                <a:lnTo>
                  <a:pt x="1655" y="937"/>
                </a:lnTo>
                <a:lnTo>
                  <a:pt x="1648" y="944"/>
                </a:lnTo>
                <a:lnTo>
                  <a:pt x="1648" y="951"/>
                </a:lnTo>
                <a:lnTo>
                  <a:pt x="1641" y="951"/>
                </a:lnTo>
                <a:lnTo>
                  <a:pt x="1634" y="958"/>
                </a:lnTo>
                <a:lnTo>
                  <a:pt x="1621" y="958"/>
                </a:lnTo>
                <a:lnTo>
                  <a:pt x="1614" y="951"/>
                </a:lnTo>
                <a:lnTo>
                  <a:pt x="1600" y="951"/>
                </a:lnTo>
                <a:lnTo>
                  <a:pt x="1593" y="951"/>
                </a:lnTo>
                <a:lnTo>
                  <a:pt x="1586" y="951"/>
                </a:lnTo>
                <a:lnTo>
                  <a:pt x="1579" y="951"/>
                </a:lnTo>
                <a:lnTo>
                  <a:pt x="1566" y="958"/>
                </a:lnTo>
                <a:lnTo>
                  <a:pt x="1559" y="958"/>
                </a:lnTo>
                <a:lnTo>
                  <a:pt x="1552" y="965"/>
                </a:lnTo>
                <a:lnTo>
                  <a:pt x="1545" y="965"/>
                </a:lnTo>
                <a:lnTo>
                  <a:pt x="1538" y="972"/>
                </a:lnTo>
                <a:lnTo>
                  <a:pt x="1531" y="972"/>
                </a:lnTo>
                <a:lnTo>
                  <a:pt x="1524" y="979"/>
                </a:lnTo>
                <a:lnTo>
                  <a:pt x="1517" y="985"/>
                </a:lnTo>
                <a:lnTo>
                  <a:pt x="1517" y="985"/>
                </a:lnTo>
                <a:lnTo>
                  <a:pt x="1510" y="992"/>
                </a:lnTo>
                <a:lnTo>
                  <a:pt x="1510" y="999"/>
                </a:lnTo>
                <a:lnTo>
                  <a:pt x="1510" y="1006"/>
                </a:lnTo>
                <a:lnTo>
                  <a:pt x="1503" y="1013"/>
                </a:lnTo>
                <a:lnTo>
                  <a:pt x="1497" y="1013"/>
                </a:lnTo>
                <a:lnTo>
                  <a:pt x="1490" y="1013"/>
                </a:lnTo>
                <a:lnTo>
                  <a:pt x="1476" y="1013"/>
                </a:lnTo>
                <a:lnTo>
                  <a:pt x="1469" y="1013"/>
                </a:lnTo>
                <a:lnTo>
                  <a:pt x="1455" y="1013"/>
                </a:lnTo>
                <a:lnTo>
                  <a:pt x="1448" y="1013"/>
                </a:lnTo>
                <a:lnTo>
                  <a:pt x="1448" y="1006"/>
                </a:lnTo>
                <a:lnTo>
                  <a:pt x="1441" y="999"/>
                </a:lnTo>
                <a:lnTo>
                  <a:pt x="1434" y="999"/>
                </a:lnTo>
                <a:lnTo>
                  <a:pt x="1428" y="992"/>
                </a:lnTo>
                <a:lnTo>
                  <a:pt x="1428" y="985"/>
                </a:lnTo>
                <a:lnTo>
                  <a:pt x="1421" y="979"/>
                </a:lnTo>
                <a:lnTo>
                  <a:pt x="1414" y="979"/>
                </a:lnTo>
                <a:lnTo>
                  <a:pt x="1407" y="972"/>
                </a:lnTo>
                <a:lnTo>
                  <a:pt x="1400" y="965"/>
                </a:lnTo>
                <a:lnTo>
                  <a:pt x="1393" y="965"/>
                </a:lnTo>
                <a:lnTo>
                  <a:pt x="1386" y="958"/>
                </a:lnTo>
                <a:lnTo>
                  <a:pt x="1379" y="951"/>
                </a:lnTo>
                <a:lnTo>
                  <a:pt x="1379" y="951"/>
                </a:lnTo>
                <a:lnTo>
                  <a:pt x="1372" y="944"/>
                </a:lnTo>
                <a:lnTo>
                  <a:pt x="1366" y="937"/>
                </a:lnTo>
                <a:lnTo>
                  <a:pt x="1359" y="937"/>
                </a:lnTo>
                <a:lnTo>
                  <a:pt x="1352" y="937"/>
                </a:lnTo>
                <a:lnTo>
                  <a:pt x="1352" y="944"/>
                </a:lnTo>
                <a:lnTo>
                  <a:pt x="1352" y="951"/>
                </a:lnTo>
                <a:lnTo>
                  <a:pt x="1352" y="958"/>
                </a:lnTo>
                <a:lnTo>
                  <a:pt x="1352" y="965"/>
                </a:lnTo>
                <a:lnTo>
                  <a:pt x="1352" y="972"/>
                </a:lnTo>
                <a:lnTo>
                  <a:pt x="1359" y="979"/>
                </a:lnTo>
                <a:lnTo>
                  <a:pt x="1359" y="979"/>
                </a:lnTo>
                <a:lnTo>
                  <a:pt x="1366" y="985"/>
                </a:lnTo>
                <a:lnTo>
                  <a:pt x="1366" y="992"/>
                </a:lnTo>
                <a:lnTo>
                  <a:pt x="1372" y="999"/>
                </a:lnTo>
                <a:lnTo>
                  <a:pt x="1372" y="1006"/>
                </a:lnTo>
                <a:lnTo>
                  <a:pt x="1379" y="1006"/>
                </a:lnTo>
                <a:lnTo>
                  <a:pt x="1379" y="1013"/>
                </a:lnTo>
                <a:lnTo>
                  <a:pt x="1386" y="1020"/>
                </a:lnTo>
                <a:lnTo>
                  <a:pt x="1393" y="1027"/>
                </a:lnTo>
                <a:lnTo>
                  <a:pt x="1393" y="1034"/>
                </a:lnTo>
                <a:lnTo>
                  <a:pt x="1400" y="1034"/>
                </a:lnTo>
                <a:lnTo>
                  <a:pt x="1400" y="1041"/>
                </a:lnTo>
                <a:lnTo>
                  <a:pt x="1407" y="1047"/>
                </a:lnTo>
                <a:lnTo>
                  <a:pt x="1407" y="1054"/>
                </a:lnTo>
                <a:lnTo>
                  <a:pt x="1407" y="1061"/>
                </a:lnTo>
                <a:lnTo>
                  <a:pt x="1407" y="1068"/>
                </a:lnTo>
                <a:lnTo>
                  <a:pt x="1414" y="1068"/>
                </a:lnTo>
                <a:lnTo>
                  <a:pt x="1421" y="1075"/>
                </a:lnTo>
                <a:lnTo>
                  <a:pt x="1421" y="1082"/>
                </a:lnTo>
                <a:lnTo>
                  <a:pt x="1428" y="1089"/>
                </a:lnTo>
                <a:lnTo>
                  <a:pt x="1428" y="1096"/>
                </a:lnTo>
                <a:lnTo>
                  <a:pt x="1434" y="1096"/>
                </a:lnTo>
                <a:lnTo>
                  <a:pt x="1434" y="1103"/>
                </a:lnTo>
                <a:lnTo>
                  <a:pt x="1441" y="1109"/>
                </a:lnTo>
                <a:lnTo>
                  <a:pt x="1441" y="1116"/>
                </a:lnTo>
                <a:lnTo>
                  <a:pt x="1448" y="1123"/>
                </a:lnTo>
                <a:lnTo>
                  <a:pt x="1455" y="1123"/>
                </a:lnTo>
                <a:lnTo>
                  <a:pt x="1455" y="1130"/>
                </a:lnTo>
                <a:lnTo>
                  <a:pt x="1455" y="1137"/>
                </a:lnTo>
                <a:lnTo>
                  <a:pt x="1455" y="1144"/>
                </a:lnTo>
                <a:lnTo>
                  <a:pt x="1448" y="1151"/>
                </a:lnTo>
                <a:lnTo>
                  <a:pt x="1448" y="1158"/>
                </a:lnTo>
                <a:lnTo>
                  <a:pt x="1441" y="1158"/>
                </a:lnTo>
                <a:lnTo>
                  <a:pt x="1434" y="1165"/>
                </a:lnTo>
                <a:lnTo>
                  <a:pt x="1428" y="1171"/>
                </a:lnTo>
                <a:lnTo>
                  <a:pt x="1421" y="1171"/>
                </a:lnTo>
                <a:lnTo>
                  <a:pt x="1414" y="1178"/>
                </a:lnTo>
                <a:lnTo>
                  <a:pt x="1407" y="1178"/>
                </a:lnTo>
                <a:lnTo>
                  <a:pt x="1400" y="1185"/>
                </a:lnTo>
                <a:lnTo>
                  <a:pt x="1393" y="1192"/>
                </a:lnTo>
                <a:lnTo>
                  <a:pt x="1386" y="1192"/>
                </a:lnTo>
                <a:lnTo>
                  <a:pt x="1379" y="1192"/>
                </a:lnTo>
                <a:lnTo>
                  <a:pt x="1366" y="1199"/>
                </a:lnTo>
                <a:lnTo>
                  <a:pt x="1359" y="1199"/>
                </a:lnTo>
                <a:lnTo>
                  <a:pt x="1352" y="1199"/>
                </a:lnTo>
                <a:lnTo>
                  <a:pt x="1338" y="1199"/>
                </a:lnTo>
                <a:lnTo>
                  <a:pt x="1331" y="1199"/>
                </a:lnTo>
                <a:lnTo>
                  <a:pt x="1324" y="1199"/>
                </a:lnTo>
                <a:lnTo>
                  <a:pt x="1310" y="1199"/>
                </a:lnTo>
                <a:lnTo>
                  <a:pt x="1303" y="1199"/>
                </a:lnTo>
                <a:lnTo>
                  <a:pt x="1297" y="1199"/>
                </a:lnTo>
                <a:lnTo>
                  <a:pt x="1283" y="1199"/>
                </a:lnTo>
                <a:lnTo>
                  <a:pt x="1276" y="1206"/>
                </a:lnTo>
                <a:lnTo>
                  <a:pt x="1269" y="1206"/>
                </a:lnTo>
                <a:lnTo>
                  <a:pt x="1262" y="1213"/>
                </a:lnTo>
                <a:lnTo>
                  <a:pt x="1262" y="1220"/>
                </a:lnTo>
                <a:lnTo>
                  <a:pt x="1262" y="1227"/>
                </a:lnTo>
                <a:lnTo>
                  <a:pt x="1262" y="1233"/>
                </a:lnTo>
                <a:lnTo>
                  <a:pt x="1262" y="1240"/>
                </a:lnTo>
                <a:lnTo>
                  <a:pt x="1262" y="1240"/>
                </a:lnTo>
                <a:lnTo>
                  <a:pt x="1255" y="1247"/>
                </a:lnTo>
                <a:lnTo>
                  <a:pt x="1255" y="1254"/>
                </a:lnTo>
                <a:lnTo>
                  <a:pt x="1255" y="1261"/>
                </a:lnTo>
                <a:lnTo>
                  <a:pt x="1248" y="1268"/>
                </a:lnTo>
                <a:lnTo>
                  <a:pt x="1248" y="1275"/>
                </a:lnTo>
                <a:lnTo>
                  <a:pt x="1248" y="1282"/>
                </a:lnTo>
                <a:lnTo>
                  <a:pt x="1241" y="1289"/>
                </a:lnTo>
                <a:lnTo>
                  <a:pt x="1241" y="1289"/>
                </a:lnTo>
                <a:lnTo>
                  <a:pt x="1235" y="1289"/>
                </a:lnTo>
                <a:lnTo>
                  <a:pt x="1228" y="1289"/>
                </a:lnTo>
                <a:lnTo>
                  <a:pt x="1214" y="1282"/>
                </a:lnTo>
                <a:lnTo>
                  <a:pt x="1207" y="1282"/>
                </a:lnTo>
                <a:lnTo>
                  <a:pt x="1200" y="1282"/>
                </a:lnTo>
                <a:lnTo>
                  <a:pt x="1186" y="1282"/>
                </a:lnTo>
                <a:lnTo>
                  <a:pt x="1179" y="1282"/>
                </a:lnTo>
                <a:lnTo>
                  <a:pt x="1172" y="1282"/>
                </a:lnTo>
                <a:lnTo>
                  <a:pt x="1159" y="1282"/>
                </a:lnTo>
                <a:lnTo>
                  <a:pt x="1152" y="1282"/>
                </a:lnTo>
                <a:lnTo>
                  <a:pt x="1145" y="1289"/>
                </a:lnTo>
                <a:lnTo>
                  <a:pt x="1131" y="1289"/>
                </a:lnTo>
                <a:lnTo>
                  <a:pt x="1124" y="1289"/>
                </a:lnTo>
                <a:lnTo>
                  <a:pt x="1117" y="1295"/>
                </a:lnTo>
                <a:lnTo>
                  <a:pt x="1117" y="1295"/>
                </a:lnTo>
                <a:lnTo>
                  <a:pt x="1117" y="1302"/>
                </a:lnTo>
                <a:lnTo>
                  <a:pt x="1117" y="1309"/>
                </a:lnTo>
                <a:lnTo>
                  <a:pt x="1124" y="1316"/>
                </a:lnTo>
                <a:lnTo>
                  <a:pt x="1124" y="1323"/>
                </a:lnTo>
                <a:lnTo>
                  <a:pt x="1131" y="1330"/>
                </a:lnTo>
                <a:lnTo>
                  <a:pt x="1131" y="1330"/>
                </a:lnTo>
                <a:lnTo>
                  <a:pt x="1131" y="1337"/>
                </a:lnTo>
                <a:lnTo>
                  <a:pt x="1138" y="1344"/>
                </a:lnTo>
                <a:lnTo>
                  <a:pt x="1145" y="1351"/>
                </a:lnTo>
                <a:lnTo>
                  <a:pt x="1145" y="1357"/>
                </a:lnTo>
                <a:lnTo>
                  <a:pt x="1152" y="1357"/>
                </a:lnTo>
                <a:lnTo>
                  <a:pt x="1152" y="1364"/>
                </a:lnTo>
                <a:lnTo>
                  <a:pt x="1145" y="1364"/>
                </a:lnTo>
                <a:lnTo>
                  <a:pt x="1138" y="1357"/>
                </a:lnTo>
                <a:lnTo>
                  <a:pt x="1131" y="1357"/>
                </a:lnTo>
                <a:lnTo>
                  <a:pt x="1131" y="1351"/>
                </a:lnTo>
                <a:lnTo>
                  <a:pt x="1124" y="1344"/>
                </a:lnTo>
                <a:lnTo>
                  <a:pt x="1117" y="1344"/>
                </a:lnTo>
                <a:lnTo>
                  <a:pt x="1110" y="1337"/>
                </a:lnTo>
                <a:lnTo>
                  <a:pt x="1104" y="1337"/>
                </a:lnTo>
                <a:lnTo>
                  <a:pt x="1097" y="1330"/>
                </a:lnTo>
                <a:lnTo>
                  <a:pt x="1090" y="1323"/>
                </a:lnTo>
                <a:lnTo>
                  <a:pt x="1083" y="1323"/>
                </a:lnTo>
                <a:lnTo>
                  <a:pt x="1076" y="1316"/>
                </a:lnTo>
                <a:lnTo>
                  <a:pt x="1069" y="1316"/>
                </a:lnTo>
                <a:lnTo>
                  <a:pt x="1062" y="1309"/>
                </a:lnTo>
                <a:lnTo>
                  <a:pt x="1048" y="1309"/>
                </a:lnTo>
                <a:lnTo>
                  <a:pt x="1041" y="1309"/>
                </a:lnTo>
                <a:lnTo>
                  <a:pt x="1035" y="1302"/>
                </a:lnTo>
                <a:lnTo>
                  <a:pt x="1028" y="1302"/>
                </a:lnTo>
                <a:lnTo>
                  <a:pt x="1014" y="1302"/>
                </a:lnTo>
                <a:lnTo>
                  <a:pt x="1007" y="1295"/>
                </a:lnTo>
                <a:lnTo>
                  <a:pt x="1000" y="1295"/>
                </a:lnTo>
                <a:lnTo>
                  <a:pt x="993" y="1295"/>
                </a:lnTo>
                <a:lnTo>
                  <a:pt x="979" y="1289"/>
                </a:lnTo>
                <a:lnTo>
                  <a:pt x="973" y="1289"/>
                </a:lnTo>
                <a:lnTo>
                  <a:pt x="966" y="1289"/>
                </a:lnTo>
                <a:lnTo>
                  <a:pt x="959" y="1282"/>
                </a:lnTo>
                <a:lnTo>
                  <a:pt x="945" y="1282"/>
                </a:lnTo>
                <a:lnTo>
                  <a:pt x="938" y="1282"/>
                </a:lnTo>
                <a:lnTo>
                  <a:pt x="931" y="1275"/>
                </a:lnTo>
                <a:lnTo>
                  <a:pt x="924" y="1275"/>
                </a:lnTo>
                <a:lnTo>
                  <a:pt x="910" y="1275"/>
                </a:lnTo>
                <a:lnTo>
                  <a:pt x="904" y="1268"/>
                </a:lnTo>
                <a:lnTo>
                  <a:pt x="897" y="1268"/>
                </a:lnTo>
                <a:lnTo>
                  <a:pt x="890" y="1268"/>
                </a:lnTo>
                <a:lnTo>
                  <a:pt x="876" y="1268"/>
                </a:lnTo>
                <a:lnTo>
                  <a:pt x="869" y="1261"/>
                </a:lnTo>
                <a:lnTo>
                  <a:pt x="862" y="1261"/>
                </a:lnTo>
                <a:lnTo>
                  <a:pt x="848" y="1261"/>
                </a:lnTo>
                <a:lnTo>
                  <a:pt x="842" y="1261"/>
                </a:lnTo>
                <a:lnTo>
                  <a:pt x="835" y="1261"/>
                </a:lnTo>
                <a:lnTo>
                  <a:pt x="821" y="1261"/>
                </a:lnTo>
                <a:lnTo>
                  <a:pt x="814" y="1261"/>
                </a:lnTo>
                <a:lnTo>
                  <a:pt x="807" y="1261"/>
                </a:lnTo>
                <a:lnTo>
                  <a:pt x="800" y="1261"/>
                </a:lnTo>
                <a:lnTo>
                  <a:pt x="793" y="1268"/>
                </a:lnTo>
                <a:lnTo>
                  <a:pt x="786" y="1275"/>
                </a:lnTo>
                <a:lnTo>
                  <a:pt x="786" y="1282"/>
                </a:lnTo>
                <a:lnTo>
                  <a:pt x="779" y="1289"/>
                </a:lnTo>
                <a:lnTo>
                  <a:pt x="773" y="1289"/>
                </a:lnTo>
                <a:lnTo>
                  <a:pt x="773" y="1295"/>
                </a:lnTo>
                <a:lnTo>
                  <a:pt x="766" y="1302"/>
                </a:lnTo>
                <a:lnTo>
                  <a:pt x="766" y="1309"/>
                </a:lnTo>
                <a:lnTo>
                  <a:pt x="766" y="1316"/>
                </a:lnTo>
                <a:lnTo>
                  <a:pt x="766" y="1316"/>
                </a:lnTo>
                <a:lnTo>
                  <a:pt x="766" y="1323"/>
                </a:lnTo>
                <a:lnTo>
                  <a:pt x="766" y="1330"/>
                </a:lnTo>
                <a:lnTo>
                  <a:pt x="766" y="1337"/>
                </a:lnTo>
                <a:lnTo>
                  <a:pt x="759" y="1344"/>
                </a:lnTo>
                <a:lnTo>
                  <a:pt x="759" y="1351"/>
                </a:lnTo>
                <a:lnTo>
                  <a:pt x="759" y="1357"/>
                </a:lnTo>
                <a:lnTo>
                  <a:pt x="759" y="1364"/>
                </a:lnTo>
                <a:lnTo>
                  <a:pt x="759" y="1364"/>
                </a:lnTo>
                <a:lnTo>
                  <a:pt x="759" y="1371"/>
                </a:lnTo>
                <a:lnTo>
                  <a:pt x="759" y="1378"/>
                </a:lnTo>
                <a:lnTo>
                  <a:pt x="752" y="1385"/>
                </a:lnTo>
                <a:lnTo>
                  <a:pt x="752" y="1392"/>
                </a:lnTo>
                <a:lnTo>
                  <a:pt x="752" y="1399"/>
                </a:lnTo>
                <a:lnTo>
                  <a:pt x="752" y="1406"/>
                </a:lnTo>
                <a:lnTo>
                  <a:pt x="752" y="1413"/>
                </a:lnTo>
                <a:lnTo>
                  <a:pt x="752" y="1413"/>
                </a:lnTo>
                <a:lnTo>
                  <a:pt x="752" y="1419"/>
                </a:lnTo>
                <a:lnTo>
                  <a:pt x="752" y="1426"/>
                </a:lnTo>
                <a:lnTo>
                  <a:pt x="745" y="1433"/>
                </a:lnTo>
                <a:lnTo>
                  <a:pt x="745" y="1440"/>
                </a:lnTo>
                <a:lnTo>
                  <a:pt x="745" y="1447"/>
                </a:lnTo>
                <a:lnTo>
                  <a:pt x="745" y="1454"/>
                </a:lnTo>
                <a:lnTo>
                  <a:pt x="745" y="1454"/>
                </a:lnTo>
                <a:lnTo>
                  <a:pt x="745" y="1461"/>
                </a:lnTo>
                <a:lnTo>
                  <a:pt x="745" y="1468"/>
                </a:lnTo>
                <a:lnTo>
                  <a:pt x="738" y="1475"/>
                </a:lnTo>
                <a:lnTo>
                  <a:pt x="738" y="1481"/>
                </a:lnTo>
                <a:lnTo>
                  <a:pt x="738" y="1488"/>
                </a:lnTo>
                <a:lnTo>
                  <a:pt x="738" y="1495"/>
                </a:lnTo>
                <a:lnTo>
                  <a:pt x="738" y="1502"/>
                </a:lnTo>
                <a:lnTo>
                  <a:pt x="738" y="1502"/>
                </a:lnTo>
                <a:lnTo>
                  <a:pt x="738" y="1509"/>
                </a:lnTo>
                <a:lnTo>
                  <a:pt x="738" y="1516"/>
                </a:lnTo>
                <a:lnTo>
                  <a:pt x="766" y="1543"/>
                </a:lnTo>
                <a:lnTo>
                  <a:pt x="793" y="1571"/>
                </a:lnTo>
                <a:lnTo>
                  <a:pt x="828" y="1599"/>
                </a:lnTo>
                <a:lnTo>
                  <a:pt x="855" y="1633"/>
                </a:lnTo>
                <a:lnTo>
                  <a:pt x="883" y="1633"/>
                </a:lnTo>
                <a:lnTo>
                  <a:pt x="917" y="1660"/>
                </a:lnTo>
                <a:lnTo>
                  <a:pt x="945" y="1688"/>
                </a:lnTo>
                <a:lnTo>
                  <a:pt x="973" y="1722"/>
                </a:lnTo>
                <a:lnTo>
                  <a:pt x="1000" y="1750"/>
                </a:lnTo>
                <a:lnTo>
                  <a:pt x="1035" y="1778"/>
                </a:lnTo>
                <a:lnTo>
                  <a:pt x="1062" y="1812"/>
                </a:lnTo>
                <a:lnTo>
                  <a:pt x="1090" y="1840"/>
                </a:lnTo>
                <a:lnTo>
                  <a:pt x="1124" y="1840"/>
                </a:lnTo>
                <a:lnTo>
                  <a:pt x="1152" y="1840"/>
                </a:lnTo>
                <a:lnTo>
                  <a:pt x="1179" y="1840"/>
                </a:lnTo>
                <a:lnTo>
                  <a:pt x="1207" y="1840"/>
                </a:lnTo>
                <a:lnTo>
                  <a:pt x="1241" y="1840"/>
                </a:lnTo>
                <a:lnTo>
                  <a:pt x="1269" y="1840"/>
                </a:lnTo>
                <a:lnTo>
                  <a:pt x="1297" y="1840"/>
                </a:lnTo>
                <a:lnTo>
                  <a:pt x="1331" y="1840"/>
                </a:lnTo>
                <a:lnTo>
                  <a:pt x="1359" y="1840"/>
                </a:lnTo>
                <a:lnTo>
                  <a:pt x="1386" y="1840"/>
                </a:lnTo>
                <a:lnTo>
                  <a:pt x="1414" y="1840"/>
                </a:lnTo>
                <a:lnTo>
                  <a:pt x="1448" y="1840"/>
                </a:lnTo>
                <a:lnTo>
                  <a:pt x="1476" y="1840"/>
                </a:lnTo>
                <a:lnTo>
                  <a:pt x="1503" y="1840"/>
                </a:lnTo>
                <a:lnTo>
                  <a:pt x="1538" y="1840"/>
                </a:lnTo>
                <a:lnTo>
                  <a:pt x="1566" y="1840"/>
                </a:lnTo>
                <a:lnTo>
                  <a:pt x="1593" y="1840"/>
                </a:lnTo>
                <a:lnTo>
                  <a:pt x="1621" y="1840"/>
                </a:lnTo>
                <a:lnTo>
                  <a:pt x="1655" y="1840"/>
                </a:lnTo>
                <a:lnTo>
                  <a:pt x="1683" y="1840"/>
                </a:lnTo>
                <a:lnTo>
                  <a:pt x="1710" y="1840"/>
                </a:lnTo>
                <a:lnTo>
                  <a:pt x="1745" y="1840"/>
                </a:lnTo>
                <a:lnTo>
                  <a:pt x="1772" y="1840"/>
                </a:lnTo>
                <a:lnTo>
                  <a:pt x="1800" y="1840"/>
                </a:lnTo>
                <a:lnTo>
                  <a:pt x="1828" y="1840"/>
                </a:lnTo>
                <a:lnTo>
                  <a:pt x="1862" y="1840"/>
                </a:lnTo>
                <a:lnTo>
                  <a:pt x="1890" y="1840"/>
                </a:lnTo>
                <a:lnTo>
                  <a:pt x="1917" y="1840"/>
                </a:lnTo>
                <a:lnTo>
                  <a:pt x="1952" y="1840"/>
                </a:lnTo>
                <a:lnTo>
                  <a:pt x="1979" y="1840"/>
                </a:lnTo>
                <a:lnTo>
                  <a:pt x="2007" y="1840"/>
                </a:lnTo>
                <a:lnTo>
                  <a:pt x="2034" y="1840"/>
                </a:lnTo>
                <a:lnTo>
                  <a:pt x="2069" y="1840"/>
                </a:lnTo>
                <a:lnTo>
                  <a:pt x="2096" y="1840"/>
                </a:lnTo>
                <a:lnTo>
                  <a:pt x="2124" y="1840"/>
                </a:lnTo>
                <a:lnTo>
                  <a:pt x="2158" y="1840"/>
                </a:lnTo>
                <a:lnTo>
                  <a:pt x="2186" y="1840"/>
                </a:lnTo>
                <a:lnTo>
                  <a:pt x="2214" y="1840"/>
                </a:lnTo>
                <a:lnTo>
                  <a:pt x="2241" y="1840"/>
                </a:lnTo>
                <a:lnTo>
                  <a:pt x="2276" y="1840"/>
                </a:lnTo>
                <a:lnTo>
                  <a:pt x="2303" y="1840"/>
                </a:lnTo>
                <a:lnTo>
                  <a:pt x="2331" y="1840"/>
                </a:lnTo>
                <a:lnTo>
                  <a:pt x="2365" y="1840"/>
                </a:lnTo>
                <a:lnTo>
                  <a:pt x="2393" y="1840"/>
                </a:lnTo>
                <a:lnTo>
                  <a:pt x="2420" y="1840"/>
                </a:lnTo>
                <a:lnTo>
                  <a:pt x="2448" y="1840"/>
                </a:lnTo>
                <a:lnTo>
                  <a:pt x="2483" y="1840"/>
                </a:lnTo>
                <a:close/>
                <a:moveTo>
                  <a:pt x="1324" y="1275"/>
                </a:moveTo>
                <a:lnTo>
                  <a:pt x="1317" y="1268"/>
                </a:lnTo>
                <a:lnTo>
                  <a:pt x="1317" y="1261"/>
                </a:lnTo>
                <a:lnTo>
                  <a:pt x="1317" y="1261"/>
                </a:lnTo>
                <a:lnTo>
                  <a:pt x="1317" y="1254"/>
                </a:lnTo>
                <a:lnTo>
                  <a:pt x="1317" y="1247"/>
                </a:lnTo>
                <a:lnTo>
                  <a:pt x="1317" y="1240"/>
                </a:lnTo>
                <a:lnTo>
                  <a:pt x="1317" y="1233"/>
                </a:lnTo>
                <a:lnTo>
                  <a:pt x="1324" y="1227"/>
                </a:lnTo>
                <a:lnTo>
                  <a:pt x="1331" y="1227"/>
                </a:lnTo>
                <a:lnTo>
                  <a:pt x="1338" y="1233"/>
                </a:lnTo>
                <a:lnTo>
                  <a:pt x="1345" y="1233"/>
                </a:lnTo>
                <a:lnTo>
                  <a:pt x="1352" y="1240"/>
                </a:lnTo>
                <a:lnTo>
                  <a:pt x="1352" y="1247"/>
                </a:lnTo>
                <a:lnTo>
                  <a:pt x="1352" y="1254"/>
                </a:lnTo>
                <a:lnTo>
                  <a:pt x="1352" y="1261"/>
                </a:lnTo>
                <a:lnTo>
                  <a:pt x="1345" y="1261"/>
                </a:lnTo>
                <a:lnTo>
                  <a:pt x="1338" y="1268"/>
                </a:lnTo>
                <a:lnTo>
                  <a:pt x="1331" y="1275"/>
                </a:lnTo>
                <a:lnTo>
                  <a:pt x="1331" y="1282"/>
                </a:lnTo>
                <a:lnTo>
                  <a:pt x="1324" y="1275"/>
                </a:lnTo>
                <a:close/>
                <a:moveTo>
                  <a:pt x="2034" y="951"/>
                </a:moveTo>
                <a:lnTo>
                  <a:pt x="2034" y="944"/>
                </a:lnTo>
                <a:lnTo>
                  <a:pt x="2041" y="937"/>
                </a:lnTo>
                <a:lnTo>
                  <a:pt x="2041" y="930"/>
                </a:lnTo>
                <a:lnTo>
                  <a:pt x="2048" y="923"/>
                </a:lnTo>
                <a:lnTo>
                  <a:pt x="2048" y="917"/>
                </a:lnTo>
                <a:lnTo>
                  <a:pt x="2055" y="917"/>
                </a:lnTo>
                <a:lnTo>
                  <a:pt x="2055" y="910"/>
                </a:lnTo>
                <a:lnTo>
                  <a:pt x="2062" y="903"/>
                </a:lnTo>
                <a:lnTo>
                  <a:pt x="2069" y="896"/>
                </a:lnTo>
                <a:lnTo>
                  <a:pt x="2069" y="889"/>
                </a:lnTo>
                <a:lnTo>
                  <a:pt x="2076" y="882"/>
                </a:lnTo>
                <a:lnTo>
                  <a:pt x="2076" y="875"/>
                </a:lnTo>
                <a:lnTo>
                  <a:pt x="2076" y="868"/>
                </a:lnTo>
                <a:lnTo>
                  <a:pt x="2069" y="868"/>
                </a:lnTo>
                <a:lnTo>
                  <a:pt x="2069" y="861"/>
                </a:lnTo>
                <a:lnTo>
                  <a:pt x="2076" y="855"/>
                </a:lnTo>
                <a:lnTo>
                  <a:pt x="2083" y="848"/>
                </a:lnTo>
                <a:lnTo>
                  <a:pt x="2083" y="848"/>
                </a:lnTo>
                <a:lnTo>
                  <a:pt x="2090" y="841"/>
                </a:lnTo>
                <a:lnTo>
                  <a:pt x="2090" y="834"/>
                </a:lnTo>
                <a:lnTo>
                  <a:pt x="2096" y="827"/>
                </a:lnTo>
                <a:lnTo>
                  <a:pt x="2103" y="820"/>
                </a:lnTo>
                <a:lnTo>
                  <a:pt x="2110" y="820"/>
                </a:lnTo>
                <a:lnTo>
                  <a:pt x="2117" y="813"/>
                </a:lnTo>
                <a:lnTo>
                  <a:pt x="2117" y="806"/>
                </a:lnTo>
                <a:lnTo>
                  <a:pt x="2124" y="799"/>
                </a:lnTo>
                <a:lnTo>
                  <a:pt x="2124" y="793"/>
                </a:lnTo>
                <a:lnTo>
                  <a:pt x="2124" y="786"/>
                </a:lnTo>
                <a:lnTo>
                  <a:pt x="2124" y="779"/>
                </a:lnTo>
                <a:lnTo>
                  <a:pt x="2124" y="772"/>
                </a:lnTo>
                <a:lnTo>
                  <a:pt x="2124" y="765"/>
                </a:lnTo>
                <a:lnTo>
                  <a:pt x="2124" y="758"/>
                </a:lnTo>
                <a:lnTo>
                  <a:pt x="2124" y="758"/>
                </a:lnTo>
                <a:lnTo>
                  <a:pt x="2131" y="751"/>
                </a:lnTo>
                <a:lnTo>
                  <a:pt x="2131" y="744"/>
                </a:lnTo>
                <a:lnTo>
                  <a:pt x="2131" y="737"/>
                </a:lnTo>
                <a:lnTo>
                  <a:pt x="2138" y="731"/>
                </a:lnTo>
                <a:lnTo>
                  <a:pt x="2138" y="724"/>
                </a:lnTo>
                <a:lnTo>
                  <a:pt x="2145" y="717"/>
                </a:lnTo>
                <a:lnTo>
                  <a:pt x="2145" y="710"/>
                </a:lnTo>
                <a:lnTo>
                  <a:pt x="2145" y="703"/>
                </a:lnTo>
                <a:lnTo>
                  <a:pt x="2145" y="696"/>
                </a:lnTo>
                <a:lnTo>
                  <a:pt x="2152" y="696"/>
                </a:lnTo>
                <a:lnTo>
                  <a:pt x="2152" y="689"/>
                </a:lnTo>
                <a:lnTo>
                  <a:pt x="2158" y="682"/>
                </a:lnTo>
                <a:lnTo>
                  <a:pt x="2165" y="675"/>
                </a:lnTo>
                <a:lnTo>
                  <a:pt x="2172" y="669"/>
                </a:lnTo>
                <a:lnTo>
                  <a:pt x="2172" y="669"/>
                </a:lnTo>
                <a:lnTo>
                  <a:pt x="2179" y="662"/>
                </a:lnTo>
                <a:lnTo>
                  <a:pt x="2179" y="655"/>
                </a:lnTo>
                <a:lnTo>
                  <a:pt x="2179" y="648"/>
                </a:lnTo>
                <a:lnTo>
                  <a:pt x="2179" y="641"/>
                </a:lnTo>
                <a:lnTo>
                  <a:pt x="2179" y="634"/>
                </a:lnTo>
                <a:lnTo>
                  <a:pt x="2179" y="627"/>
                </a:lnTo>
                <a:lnTo>
                  <a:pt x="2179" y="620"/>
                </a:lnTo>
                <a:lnTo>
                  <a:pt x="2186" y="613"/>
                </a:lnTo>
                <a:lnTo>
                  <a:pt x="2186" y="607"/>
                </a:lnTo>
                <a:lnTo>
                  <a:pt x="2193" y="607"/>
                </a:lnTo>
                <a:lnTo>
                  <a:pt x="2193" y="600"/>
                </a:lnTo>
                <a:lnTo>
                  <a:pt x="2200" y="593"/>
                </a:lnTo>
                <a:lnTo>
                  <a:pt x="2200" y="586"/>
                </a:lnTo>
                <a:lnTo>
                  <a:pt x="2200" y="579"/>
                </a:lnTo>
                <a:lnTo>
                  <a:pt x="2200" y="572"/>
                </a:lnTo>
                <a:lnTo>
                  <a:pt x="2200" y="565"/>
                </a:lnTo>
                <a:lnTo>
                  <a:pt x="2200" y="558"/>
                </a:lnTo>
                <a:lnTo>
                  <a:pt x="2200" y="551"/>
                </a:lnTo>
                <a:lnTo>
                  <a:pt x="2200" y="545"/>
                </a:lnTo>
                <a:lnTo>
                  <a:pt x="2200" y="538"/>
                </a:lnTo>
                <a:lnTo>
                  <a:pt x="2200" y="531"/>
                </a:lnTo>
                <a:lnTo>
                  <a:pt x="2207" y="531"/>
                </a:lnTo>
                <a:lnTo>
                  <a:pt x="2214" y="524"/>
                </a:lnTo>
                <a:lnTo>
                  <a:pt x="2221" y="524"/>
                </a:lnTo>
                <a:lnTo>
                  <a:pt x="2234" y="524"/>
                </a:lnTo>
                <a:lnTo>
                  <a:pt x="2241" y="531"/>
                </a:lnTo>
                <a:lnTo>
                  <a:pt x="2248" y="531"/>
                </a:lnTo>
                <a:lnTo>
                  <a:pt x="2255" y="538"/>
                </a:lnTo>
                <a:lnTo>
                  <a:pt x="2262" y="545"/>
                </a:lnTo>
                <a:lnTo>
                  <a:pt x="2269" y="545"/>
                </a:lnTo>
                <a:lnTo>
                  <a:pt x="2276" y="551"/>
                </a:lnTo>
                <a:lnTo>
                  <a:pt x="2283" y="551"/>
                </a:lnTo>
                <a:lnTo>
                  <a:pt x="2289" y="558"/>
                </a:lnTo>
                <a:lnTo>
                  <a:pt x="2303" y="558"/>
                </a:lnTo>
                <a:lnTo>
                  <a:pt x="2310" y="565"/>
                </a:lnTo>
                <a:lnTo>
                  <a:pt x="2317" y="565"/>
                </a:lnTo>
                <a:lnTo>
                  <a:pt x="2317" y="572"/>
                </a:lnTo>
                <a:lnTo>
                  <a:pt x="2317" y="579"/>
                </a:lnTo>
                <a:lnTo>
                  <a:pt x="2324" y="586"/>
                </a:lnTo>
                <a:lnTo>
                  <a:pt x="2331" y="593"/>
                </a:lnTo>
                <a:lnTo>
                  <a:pt x="2345" y="593"/>
                </a:lnTo>
                <a:lnTo>
                  <a:pt x="2345" y="593"/>
                </a:lnTo>
                <a:lnTo>
                  <a:pt x="2338" y="600"/>
                </a:lnTo>
                <a:lnTo>
                  <a:pt x="2331" y="607"/>
                </a:lnTo>
                <a:lnTo>
                  <a:pt x="2324" y="613"/>
                </a:lnTo>
                <a:lnTo>
                  <a:pt x="2317" y="613"/>
                </a:lnTo>
                <a:lnTo>
                  <a:pt x="2317" y="620"/>
                </a:lnTo>
                <a:lnTo>
                  <a:pt x="2310" y="627"/>
                </a:lnTo>
                <a:lnTo>
                  <a:pt x="2303" y="634"/>
                </a:lnTo>
                <a:lnTo>
                  <a:pt x="2296" y="634"/>
                </a:lnTo>
                <a:lnTo>
                  <a:pt x="2289" y="641"/>
                </a:lnTo>
                <a:lnTo>
                  <a:pt x="2283" y="648"/>
                </a:lnTo>
                <a:lnTo>
                  <a:pt x="2276" y="655"/>
                </a:lnTo>
                <a:lnTo>
                  <a:pt x="2276" y="655"/>
                </a:lnTo>
                <a:lnTo>
                  <a:pt x="2269" y="662"/>
                </a:lnTo>
                <a:lnTo>
                  <a:pt x="2269" y="669"/>
                </a:lnTo>
                <a:lnTo>
                  <a:pt x="2269" y="675"/>
                </a:lnTo>
                <a:lnTo>
                  <a:pt x="2269" y="682"/>
                </a:lnTo>
                <a:lnTo>
                  <a:pt x="2269" y="689"/>
                </a:lnTo>
                <a:lnTo>
                  <a:pt x="2269" y="696"/>
                </a:lnTo>
                <a:lnTo>
                  <a:pt x="2276" y="703"/>
                </a:lnTo>
                <a:lnTo>
                  <a:pt x="2276" y="710"/>
                </a:lnTo>
                <a:lnTo>
                  <a:pt x="2276" y="717"/>
                </a:lnTo>
                <a:lnTo>
                  <a:pt x="2276" y="717"/>
                </a:lnTo>
                <a:lnTo>
                  <a:pt x="2276" y="724"/>
                </a:lnTo>
                <a:lnTo>
                  <a:pt x="2276" y="731"/>
                </a:lnTo>
                <a:lnTo>
                  <a:pt x="2276" y="737"/>
                </a:lnTo>
                <a:lnTo>
                  <a:pt x="2276" y="744"/>
                </a:lnTo>
                <a:lnTo>
                  <a:pt x="2276" y="751"/>
                </a:lnTo>
                <a:lnTo>
                  <a:pt x="2276" y="758"/>
                </a:lnTo>
                <a:lnTo>
                  <a:pt x="2283" y="765"/>
                </a:lnTo>
                <a:lnTo>
                  <a:pt x="2283" y="772"/>
                </a:lnTo>
                <a:lnTo>
                  <a:pt x="2283" y="779"/>
                </a:lnTo>
                <a:lnTo>
                  <a:pt x="2289" y="786"/>
                </a:lnTo>
                <a:lnTo>
                  <a:pt x="2289" y="793"/>
                </a:lnTo>
                <a:lnTo>
                  <a:pt x="2289" y="799"/>
                </a:lnTo>
                <a:lnTo>
                  <a:pt x="2289" y="799"/>
                </a:lnTo>
                <a:lnTo>
                  <a:pt x="2289" y="806"/>
                </a:lnTo>
                <a:lnTo>
                  <a:pt x="2283" y="813"/>
                </a:lnTo>
                <a:lnTo>
                  <a:pt x="2283" y="820"/>
                </a:lnTo>
                <a:lnTo>
                  <a:pt x="2283" y="827"/>
                </a:lnTo>
                <a:lnTo>
                  <a:pt x="2283" y="834"/>
                </a:lnTo>
                <a:lnTo>
                  <a:pt x="2283" y="841"/>
                </a:lnTo>
                <a:lnTo>
                  <a:pt x="2283" y="848"/>
                </a:lnTo>
                <a:lnTo>
                  <a:pt x="2283" y="855"/>
                </a:lnTo>
                <a:lnTo>
                  <a:pt x="2276" y="861"/>
                </a:lnTo>
                <a:lnTo>
                  <a:pt x="2269" y="861"/>
                </a:lnTo>
                <a:lnTo>
                  <a:pt x="2269" y="868"/>
                </a:lnTo>
                <a:lnTo>
                  <a:pt x="2262" y="875"/>
                </a:lnTo>
                <a:lnTo>
                  <a:pt x="2262" y="882"/>
                </a:lnTo>
                <a:lnTo>
                  <a:pt x="2262" y="889"/>
                </a:lnTo>
                <a:lnTo>
                  <a:pt x="2262" y="896"/>
                </a:lnTo>
                <a:lnTo>
                  <a:pt x="2262" y="903"/>
                </a:lnTo>
                <a:lnTo>
                  <a:pt x="2262" y="910"/>
                </a:lnTo>
                <a:lnTo>
                  <a:pt x="2262" y="917"/>
                </a:lnTo>
                <a:lnTo>
                  <a:pt x="2262" y="923"/>
                </a:lnTo>
                <a:lnTo>
                  <a:pt x="2255" y="930"/>
                </a:lnTo>
                <a:lnTo>
                  <a:pt x="2255" y="937"/>
                </a:lnTo>
                <a:lnTo>
                  <a:pt x="2248" y="944"/>
                </a:lnTo>
                <a:lnTo>
                  <a:pt x="2241" y="944"/>
                </a:lnTo>
                <a:lnTo>
                  <a:pt x="2234" y="944"/>
                </a:lnTo>
                <a:lnTo>
                  <a:pt x="2227" y="944"/>
                </a:lnTo>
                <a:lnTo>
                  <a:pt x="2214" y="944"/>
                </a:lnTo>
                <a:lnTo>
                  <a:pt x="2207" y="944"/>
                </a:lnTo>
                <a:lnTo>
                  <a:pt x="2193" y="944"/>
                </a:lnTo>
                <a:lnTo>
                  <a:pt x="2186" y="951"/>
                </a:lnTo>
                <a:lnTo>
                  <a:pt x="2172" y="951"/>
                </a:lnTo>
                <a:lnTo>
                  <a:pt x="2165" y="951"/>
                </a:lnTo>
                <a:lnTo>
                  <a:pt x="2158" y="951"/>
                </a:lnTo>
                <a:lnTo>
                  <a:pt x="2145" y="951"/>
                </a:lnTo>
                <a:lnTo>
                  <a:pt x="2138" y="951"/>
                </a:lnTo>
                <a:lnTo>
                  <a:pt x="2124" y="951"/>
                </a:lnTo>
                <a:lnTo>
                  <a:pt x="2117" y="951"/>
                </a:lnTo>
                <a:lnTo>
                  <a:pt x="2103" y="951"/>
                </a:lnTo>
                <a:lnTo>
                  <a:pt x="2096" y="951"/>
                </a:lnTo>
                <a:lnTo>
                  <a:pt x="2090" y="951"/>
                </a:lnTo>
                <a:lnTo>
                  <a:pt x="2076" y="951"/>
                </a:lnTo>
                <a:lnTo>
                  <a:pt x="2069" y="951"/>
                </a:lnTo>
                <a:lnTo>
                  <a:pt x="2055" y="951"/>
                </a:lnTo>
                <a:lnTo>
                  <a:pt x="2048" y="958"/>
                </a:lnTo>
                <a:lnTo>
                  <a:pt x="2034" y="951"/>
                </a:lnTo>
                <a:lnTo>
                  <a:pt x="2034" y="951"/>
                </a:lnTo>
                <a:close/>
                <a:moveTo>
                  <a:pt x="1338" y="917"/>
                </a:moveTo>
                <a:lnTo>
                  <a:pt x="1338" y="917"/>
                </a:lnTo>
                <a:lnTo>
                  <a:pt x="1338" y="910"/>
                </a:lnTo>
                <a:lnTo>
                  <a:pt x="1338" y="903"/>
                </a:lnTo>
                <a:lnTo>
                  <a:pt x="1338" y="896"/>
                </a:lnTo>
                <a:lnTo>
                  <a:pt x="1338" y="889"/>
                </a:lnTo>
                <a:lnTo>
                  <a:pt x="1338" y="882"/>
                </a:lnTo>
                <a:lnTo>
                  <a:pt x="1345" y="875"/>
                </a:lnTo>
                <a:lnTo>
                  <a:pt x="1345" y="868"/>
                </a:lnTo>
                <a:lnTo>
                  <a:pt x="1345" y="868"/>
                </a:lnTo>
                <a:lnTo>
                  <a:pt x="1338" y="861"/>
                </a:lnTo>
                <a:lnTo>
                  <a:pt x="1331" y="855"/>
                </a:lnTo>
                <a:lnTo>
                  <a:pt x="1331" y="848"/>
                </a:lnTo>
                <a:lnTo>
                  <a:pt x="1324" y="855"/>
                </a:lnTo>
                <a:lnTo>
                  <a:pt x="1317" y="861"/>
                </a:lnTo>
                <a:lnTo>
                  <a:pt x="1317" y="868"/>
                </a:lnTo>
                <a:lnTo>
                  <a:pt x="1310" y="875"/>
                </a:lnTo>
                <a:lnTo>
                  <a:pt x="1310" y="882"/>
                </a:lnTo>
                <a:lnTo>
                  <a:pt x="1303" y="882"/>
                </a:lnTo>
                <a:lnTo>
                  <a:pt x="1303" y="889"/>
                </a:lnTo>
                <a:lnTo>
                  <a:pt x="1303" y="896"/>
                </a:lnTo>
                <a:lnTo>
                  <a:pt x="1310" y="896"/>
                </a:lnTo>
                <a:lnTo>
                  <a:pt x="1317" y="903"/>
                </a:lnTo>
                <a:lnTo>
                  <a:pt x="1317" y="910"/>
                </a:lnTo>
                <a:lnTo>
                  <a:pt x="1324" y="917"/>
                </a:lnTo>
                <a:lnTo>
                  <a:pt x="1331" y="923"/>
                </a:lnTo>
                <a:lnTo>
                  <a:pt x="1338" y="917"/>
                </a:lnTo>
                <a:close/>
                <a:moveTo>
                  <a:pt x="1917" y="917"/>
                </a:moveTo>
                <a:lnTo>
                  <a:pt x="1924" y="917"/>
                </a:lnTo>
                <a:lnTo>
                  <a:pt x="1931" y="917"/>
                </a:lnTo>
                <a:lnTo>
                  <a:pt x="1938" y="917"/>
                </a:lnTo>
                <a:lnTo>
                  <a:pt x="1945" y="917"/>
                </a:lnTo>
                <a:lnTo>
                  <a:pt x="1952" y="917"/>
                </a:lnTo>
                <a:lnTo>
                  <a:pt x="1959" y="910"/>
                </a:lnTo>
                <a:lnTo>
                  <a:pt x="1965" y="910"/>
                </a:lnTo>
                <a:lnTo>
                  <a:pt x="1972" y="910"/>
                </a:lnTo>
                <a:lnTo>
                  <a:pt x="1979" y="910"/>
                </a:lnTo>
                <a:lnTo>
                  <a:pt x="1986" y="903"/>
                </a:lnTo>
                <a:lnTo>
                  <a:pt x="1993" y="903"/>
                </a:lnTo>
                <a:lnTo>
                  <a:pt x="1993" y="896"/>
                </a:lnTo>
                <a:lnTo>
                  <a:pt x="2000" y="896"/>
                </a:lnTo>
                <a:lnTo>
                  <a:pt x="2000" y="889"/>
                </a:lnTo>
                <a:lnTo>
                  <a:pt x="2007" y="882"/>
                </a:lnTo>
                <a:lnTo>
                  <a:pt x="2014" y="882"/>
                </a:lnTo>
                <a:lnTo>
                  <a:pt x="2027" y="889"/>
                </a:lnTo>
                <a:lnTo>
                  <a:pt x="2027" y="889"/>
                </a:lnTo>
                <a:lnTo>
                  <a:pt x="2027" y="889"/>
                </a:lnTo>
                <a:lnTo>
                  <a:pt x="2021" y="896"/>
                </a:lnTo>
                <a:lnTo>
                  <a:pt x="2014" y="896"/>
                </a:lnTo>
                <a:lnTo>
                  <a:pt x="2007" y="903"/>
                </a:lnTo>
                <a:lnTo>
                  <a:pt x="2000" y="903"/>
                </a:lnTo>
                <a:lnTo>
                  <a:pt x="2000" y="910"/>
                </a:lnTo>
                <a:lnTo>
                  <a:pt x="2000" y="917"/>
                </a:lnTo>
                <a:lnTo>
                  <a:pt x="1993" y="917"/>
                </a:lnTo>
                <a:lnTo>
                  <a:pt x="1993" y="923"/>
                </a:lnTo>
                <a:lnTo>
                  <a:pt x="1986" y="930"/>
                </a:lnTo>
                <a:lnTo>
                  <a:pt x="1979" y="930"/>
                </a:lnTo>
                <a:lnTo>
                  <a:pt x="1972" y="930"/>
                </a:lnTo>
                <a:lnTo>
                  <a:pt x="1965" y="930"/>
                </a:lnTo>
                <a:lnTo>
                  <a:pt x="1959" y="930"/>
                </a:lnTo>
                <a:lnTo>
                  <a:pt x="1952" y="930"/>
                </a:lnTo>
                <a:lnTo>
                  <a:pt x="1945" y="923"/>
                </a:lnTo>
                <a:lnTo>
                  <a:pt x="1938" y="923"/>
                </a:lnTo>
                <a:lnTo>
                  <a:pt x="1931" y="923"/>
                </a:lnTo>
                <a:lnTo>
                  <a:pt x="1924" y="923"/>
                </a:lnTo>
                <a:lnTo>
                  <a:pt x="1917" y="917"/>
                </a:lnTo>
                <a:close/>
                <a:moveTo>
                  <a:pt x="449" y="889"/>
                </a:moveTo>
                <a:lnTo>
                  <a:pt x="455" y="882"/>
                </a:lnTo>
                <a:lnTo>
                  <a:pt x="455" y="875"/>
                </a:lnTo>
                <a:lnTo>
                  <a:pt x="462" y="875"/>
                </a:lnTo>
                <a:lnTo>
                  <a:pt x="462" y="868"/>
                </a:lnTo>
                <a:lnTo>
                  <a:pt x="462" y="861"/>
                </a:lnTo>
                <a:lnTo>
                  <a:pt x="462" y="861"/>
                </a:lnTo>
                <a:lnTo>
                  <a:pt x="455" y="855"/>
                </a:lnTo>
                <a:lnTo>
                  <a:pt x="449" y="848"/>
                </a:lnTo>
                <a:lnTo>
                  <a:pt x="442" y="848"/>
                </a:lnTo>
                <a:lnTo>
                  <a:pt x="435" y="848"/>
                </a:lnTo>
                <a:lnTo>
                  <a:pt x="428" y="855"/>
                </a:lnTo>
                <a:lnTo>
                  <a:pt x="421" y="861"/>
                </a:lnTo>
                <a:lnTo>
                  <a:pt x="421" y="861"/>
                </a:lnTo>
                <a:lnTo>
                  <a:pt x="421" y="868"/>
                </a:lnTo>
                <a:lnTo>
                  <a:pt x="421" y="875"/>
                </a:lnTo>
                <a:lnTo>
                  <a:pt x="428" y="882"/>
                </a:lnTo>
                <a:lnTo>
                  <a:pt x="428" y="882"/>
                </a:lnTo>
                <a:lnTo>
                  <a:pt x="435" y="889"/>
                </a:lnTo>
                <a:lnTo>
                  <a:pt x="442" y="896"/>
                </a:lnTo>
                <a:lnTo>
                  <a:pt x="449" y="889"/>
                </a:lnTo>
                <a:close/>
                <a:moveTo>
                  <a:pt x="2096" y="861"/>
                </a:moveTo>
                <a:lnTo>
                  <a:pt x="2096" y="855"/>
                </a:lnTo>
                <a:lnTo>
                  <a:pt x="2096" y="848"/>
                </a:lnTo>
                <a:lnTo>
                  <a:pt x="2096" y="848"/>
                </a:lnTo>
                <a:lnTo>
                  <a:pt x="2096" y="848"/>
                </a:lnTo>
                <a:lnTo>
                  <a:pt x="2090" y="848"/>
                </a:lnTo>
                <a:lnTo>
                  <a:pt x="2083" y="848"/>
                </a:lnTo>
                <a:lnTo>
                  <a:pt x="2076" y="855"/>
                </a:lnTo>
                <a:lnTo>
                  <a:pt x="2076" y="855"/>
                </a:lnTo>
                <a:lnTo>
                  <a:pt x="2069" y="861"/>
                </a:lnTo>
                <a:lnTo>
                  <a:pt x="2076" y="861"/>
                </a:lnTo>
                <a:lnTo>
                  <a:pt x="2083" y="861"/>
                </a:lnTo>
                <a:lnTo>
                  <a:pt x="2090" y="861"/>
                </a:lnTo>
                <a:lnTo>
                  <a:pt x="2096" y="861"/>
                </a:lnTo>
                <a:lnTo>
                  <a:pt x="2096" y="861"/>
                </a:lnTo>
                <a:close/>
                <a:moveTo>
                  <a:pt x="1566" y="827"/>
                </a:moveTo>
                <a:lnTo>
                  <a:pt x="1566" y="820"/>
                </a:lnTo>
                <a:lnTo>
                  <a:pt x="1566" y="813"/>
                </a:lnTo>
                <a:lnTo>
                  <a:pt x="1566" y="806"/>
                </a:lnTo>
                <a:lnTo>
                  <a:pt x="1566" y="806"/>
                </a:lnTo>
                <a:lnTo>
                  <a:pt x="1566" y="813"/>
                </a:lnTo>
                <a:lnTo>
                  <a:pt x="1566" y="820"/>
                </a:lnTo>
                <a:lnTo>
                  <a:pt x="1559" y="827"/>
                </a:lnTo>
                <a:lnTo>
                  <a:pt x="1566" y="841"/>
                </a:lnTo>
                <a:lnTo>
                  <a:pt x="1566" y="848"/>
                </a:lnTo>
                <a:lnTo>
                  <a:pt x="1566" y="855"/>
                </a:lnTo>
                <a:lnTo>
                  <a:pt x="1566" y="855"/>
                </a:lnTo>
                <a:lnTo>
                  <a:pt x="1566" y="848"/>
                </a:lnTo>
                <a:lnTo>
                  <a:pt x="1566" y="841"/>
                </a:lnTo>
                <a:lnTo>
                  <a:pt x="1566" y="827"/>
                </a:lnTo>
                <a:close/>
                <a:moveTo>
                  <a:pt x="1690" y="827"/>
                </a:moveTo>
                <a:lnTo>
                  <a:pt x="1690" y="820"/>
                </a:lnTo>
                <a:lnTo>
                  <a:pt x="1697" y="813"/>
                </a:lnTo>
                <a:lnTo>
                  <a:pt x="1697" y="806"/>
                </a:lnTo>
                <a:lnTo>
                  <a:pt x="1697" y="799"/>
                </a:lnTo>
                <a:lnTo>
                  <a:pt x="1697" y="793"/>
                </a:lnTo>
                <a:lnTo>
                  <a:pt x="1697" y="786"/>
                </a:lnTo>
                <a:lnTo>
                  <a:pt x="1697" y="779"/>
                </a:lnTo>
                <a:lnTo>
                  <a:pt x="1690" y="772"/>
                </a:lnTo>
                <a:lnTo>
                  <a:pt x="1690" y="765"/>
                </a:lnTo>
                <a:lnTo>
                  <a:pt x="1690" y="765"/>
                </a:lnTo>
                <a:lnTo>
                  <a:pt x="1690" y="758"/>
                </a:lnTo>
                <a:lnTo>
                  <a:pt x="1690" y="744"/>
                </a:lnTo>
                <a:lnTo>
                  <a:pt x="1683" y="737"/>
                </a:lnTo>
                <a:lnTo>
                  <a:pt x="1683" y="731"/>
                </a:lnTo>
                <a:lnTo>
                  <a:pt x="1683" y="724"/>
                </a:lnTo>
                <a:lnTo>
                  <a:pt x="1683" y="731"/>
                </a:lnTo>
                <a:lnTo>
                  <a:pt x="1683" y="737"/>
                </a:lnTo>
                <a:lnTo>
                  <a:pt x="1676" y="751"/>
                </a:lnTo>
                <a:lnTo>
                  <a:pt x="1676" y="758"/>
                </a:lnTo>
                <a:lnTo>
                  <a:pt x="1676" y="765"/>
                </a:lnTo>
                <a:lnTo>
                  <a:pt x="1669" y="765"/>
                </a:lnTo>
                <a:lnTo>
                  <a:pt x="1669" y="772"/>
                </a:lnTo>
                <a:lnTo>
                  <a:pt x="1669" y="779"/>
                </a:lnTo>
                <a:lnTo>
                  <a:pt x="1669" y="786"/>
                </a:lnTo>
                <a:lnTo>
                  <a:pt x="1662" y="793"/>
                </a:lnTo>
                <a:lnTo>
                  <a:pt x="1662" y="799"/>
                </a:lnTo>
                <a:lnTo>
                  <a:pt x="1662" y="813"/>
                </a:lnTo>
                <a:lnTo>
                  <a:pt x="1662" y="820"/>
                </a:lnTo>
                <a:lnTo>
                  <a:pt x="1662" y="827"/>
                </a:lnTo>
                <a:lnTo>
                  <a:pt x="1669" y="834"/>
                </a:lnTo>
                <a:lnTo>
                  <a:pt x="1683" y="834"/>
                </a:lnTo>
                <a:lnTo>
                  <a:pt x="1690" y="827"/>
                </a:lnTo>
                <a:close/>
                <a:moveTo>
                  <a:pt x="414" y="772"/>
                </a:moveTo>
                <a:lnTo>
                  <a:pt x="421" y="765"/>
                </a:lnTo>
                <a:lnTo>
                  <a:pt x="428" y="765"/>
                </a:lnTo>
                <a:lnTo>
                  <a:pt x="435" y="758"/>
                </a:lnTo>
                <a:lnTo>
                  <a:pt x="442" y="758"/>
                </a:lnTo>
                <a:lnTo>
                  <a:pt x="449" y="751"/>
                </a:lnTo>
                <a:lnTo>
                  <a:pt x="455" y="744"/>
                </a:lnTo>
                <a:lnTo>
                  <a:pt x="455" y="744"/>
                </a:lnTo>
                <a:lnTo>
                  <a:pt x="469" y="737"/>
                </a:lnTo>
                <a:lnTo>
                  <a:pt x="476" y="737"/>
                </a:lnTo>
                <a:lnTo>
                  <a:pt x="483" y="731"/>
                </a:lnTo>
                <a:lnTo>
                  <a:pt x="483" y="724"/>
                </a:lnTo>
                <a:lnTo>
                  <a:pt x="490" y="724"/>
                </a:lnTo>
                <a:lnTo>
                  <a:pt x="497" y="717"/>
                </a:lnTo>
                <a:lnTo>
                  <a:pt x="497" y="710"/>
                </a:lnTo>
                <a:lnTo>
                  <a:pt x="504" y="703"/>
                </a:lnTo>
                <a:lnTo>
                  <a:pt x="511" y="703"/>
                </a:lnTo>
                <a:lnTo>
                  <a:pt x="511" y="696"/>
                </a:lnTo>
                <a:lnTo>
                  <a:pt x="517" y="689"/>
                </a:lnTo>
                <a:lnTo>
                  <a:pt x="524" y="682"/>
                </a:lnTo>
                <a:lnTo>
                  <a:pt x="524" y="682"/>
                </a:lnTo>
                <a:lnTo>
                  <a:pt x="524" y="675"/>
                </a:lnTo>
                <a:lnTo>
                  <a:pt x="531" y="669"/>
                </a:lnTo>
                <a:lnTo>
                  <a:pt x="538" y="662"/>
                </a:lnTo>
                <a:lnTo>
                  <a:pt x="545" y="662"/>
                </a:lnTo>
                <a:lnTo>
                  <a:pt x="559" y="662"/>
                </a:lnTo>
                <a:lnTo>
                  <a:pt x="566" y="662"/>
                </a:lnTo>
                <a:lnTo>
                  <a:pt x="573" y="669"/>
                </a:lnTo>
                <a:lnTo>
                  <a:pt x="573" y="675"/>
                </a:lnTo>
                <a:lnTo>
                  <a:pt x="580" y="682"/>
                </a:lnTo>
                <a:lnTo>
                  <a:pt x="580" y="689"/>
                </a:lnTo>
                <a:lnTo>
                  <a:pt x="580" y="696"/>
                </a:lnTo>
                <a:lnTo>
                  <a:pt x="580" y="696"/>
                </a:lnTo>
                <a:lnTo>
                  <a:pt x="586" y="703"/>
                </a:lnTo>
                <a:lnTo>
                  <a:pt x="586" y="710"/>
                </a:lnTo>
                <a:lnTo>
                  <a:pt x="586" y="717"/>
                </a:lnTo>
                <a:lnTo>
                  <a:pt x="593" y="717"/>
                </a:lnTo>
                <a:lnTo>
                  <a:pt x="607" y="717"/>
                </a:lnTo>
                <a:lnTo>
                  <a:pt x="614" y="710"/>
                </a:lnTo>
                <a:lnTo>
                  <a:pt x="621" y="703"/>
                </a:lnTo>
                <a:lnTo>
                  <a:pt x="628" y="703"/>
                </a:lnTo>
                <a:lnTo>
                  <a:pt x="628" y="696"/>
                </a:lnTo>
                <a:lnTo>
                  <a:pt x="635" y="689"/>
                </a:lnTo>
                <a:lnTo>
                  <a:pt x="635" y="682"/>
                </a:lnTo>
                <a:lnTo>
                  <a:pt x="635" y="675"/>
                </a:lnTo>
                <a:lnTo>
                  <a:pt x="635" y="669"/>
                </a:lnTo>
                <a:lnTo>
                  <a:pt x="635" y="669"/>
                </a:lnTo>
                <a:lnTo>
                  <a:pt x="635" y="662"/>
                </a:lnTo>
                <a:lnTo>
                  <a:pt x="635" y="655"/>
                </a:lnTo>
                <a:lnTo>
                  <a:pt x="635" y="648"/>
                </a:lnTo>
                <a:lnTo>
                  <a:pt x="635" y="641"/>
                </a:lnTo>
                <a:lnTo>
                  <a:pt x="635" y="634"/>
                </a:lnTo>
                <a:lnTo>
                  <a:pt x="635" y="627"/>
                </a:lnTo>
                <a:lnTo>
                  <a:pt x="635" y="627"/>
                </a:lnTo>
                <a:lnTo>
                  <a:pt x="635" y="620"/>
                </a:lnTo>
                <a:lnTo>
                  <a:pt x="642" y="613"/>
                </a:lnTo>
                <a:lnTo>
                  <a:pt x="642" y="607"/>
                </a:lnTo>
                <a:lnTo>
                  <a:pt x="648" y="600"/>
                </a:lnTo>
                <a:lnTo>
                  <a:pt x="655" y="600"/>
                </a:lnTo>
                <a:lnTo>
                  <a:pt x="655" y="593"/>
                </a:lnTo>
                <a:lnTo>
                  <a:pt x="655" y="586"/>
                </a:lnTo>
                <a:lnTo>
                  <a:pt x="655" y="579"/>
                </a:lnTo>
                <a:lnTo>
                  <a:pt x="655" y="572"/>
                </a:lnTo>
                <a:lnTo>
                  <a:pt x="655" y="565"/>
                </a:lnTo>
                <a:lnTo>
                  <a:pt x="655" y="558"/>
                </a:lnTo>
                <a:lnTo>
                  <a:pt x="648" y="558"/>
                </a:lnTo>
                <a:lnTo>
                  <a:pt x="648" y="551"/>
                </a:lnTo>
                <a:lnTo>
                  <a:pt x="648" y="545"/>
                </a:lnTo>
                <a:lnTo>
                  <a:pt x="648" y="538"/>
                </a:lnTo>
                <a:lnTo>
                  <a:pt x="642" y="531"/>
                </a:lnTo>
                <a:lnTo>
                  <a:pt x="642" y="524"/>
                </a:lnTo>
                <a:lnTo>
                  <a:pt x="642" y="517"/>
                </a:lnTo>
                <a:lnTo>
                  <a:pt x="642" y="517"/>
                </a:lnTo>
                <a:lnTo>
                  <a:pt x="648" y="510"/>
                </a:lnTo>
                <a:lnTo>
                  <a:pt x="655" y="503"/>
                </a:lnTo>
                <a:lnTo>
                  <a:pt x="662" y="503"/>
                </a:lnTo>
                <a:lnTo>
                  <a:pt x="669" y="496"/>
                </a:lnTo>
                <a:lnTo>
                  <a:pt x="669" y="489"/>
                </a:lnTo>
                <a:lnTo>
                  <a:pt x="676" y="483"/>
                </a:lnTo>
                <a:lnTo>
                  <a:pt x="676" y="483"/>
                </a:lnTo>
                <a:lnTo>
                  <a:pt x="676" y="476"/>
                </a:lnTo>
                <a:lnTo>
                  <a:pt x="683" y="469"/>
                </a:lnTo>
                <a:lnTo>
                  <a:pt x="683" y="462"/>
                </a:lnTo>
                <a:lnTo>
                  <a:pt x="697" y="462"/>
                </a:lnTo>
                <a:lnTo>
                  <a:pt x="704" y="455"/>
                </a:lnTo>
                <a:lnTo>
                  <a:pt x="711" y="455"/>
                </a:lnTo>
                <a:lnTo>
                  <a:pt x="711" y="448"/>
                </a:lnTo>
                <a:lnTo>
                  <a:pt x="717" y="441"/>
                </a:lnTo>
                <a:lnTo>
                  <a:pt x="724" y="434"/>
                </a:lnTo>
                <a:lnTo>
                  <a:pt x="731" y="434"/>
                </a:lnTo>
                <a:lnTo>
                  <a:pt x="738" y="427"/>
                </a:lnTo>
                <a:lnTo>
                  <a:pt x="745" y="427"/>
                </a:lnTo>
                <a:lnTo>
                  <a:pt x="745" y="421"/>
                </a:lnTo>
                <a:lnTo>
                  <a:pt x="752" y="414"/>
                </a:lnTo>
                <a:lnTo>
                  <a:pt x="759" y="414"/>
                </a:lnTo>
                <a:lnTo>
                  <a:pt x="766" y="407"/>
                </a:lnTo>
                <a:lnTo>
                  <a:pt x="773" y="400"/>
                </a:lnTo>
                <a:lnTo>
                  <a:pt x="779" y="400"/>
                </a:lnTo>
                <a:lnTo>
                  <a:pt x="786" y="393"/>
                </a:lnTo>
                <a:lnTo>
                  <a:pt x="793" y="386"/>
                </a:lnTo>
                <a:lnTo>
                  <a:pt x="800" y="386"/>
                </a:lnTo>
                <a:lnTo>
                  <a:pt x="800" y="379"/>
                </a:lnTo>
                <a:lnTo>
                  <a:pt x="807" y="372"/>
                </a:lnTo>
                <a:lnTo>
                  <a:pt x="814" y="372"/>
                </a:lnTo>
                <a:lnTo>
                  <a:pt x="821" y="365"/>
                </a:lnTo>
                <a:lnTo>
                  <a:pt x="828" y="359"/>
                </a:lnTo>
                <a:lnTo>
                  <a:pt x="828" y="359"/>
                </a:lnTo>
                <a:lnTo>
                  <a:pt x="835" y="352"/>
                </a:lnTo>
                <a:lnTo>
                  <a:pt x="842" y="345"/>
                </a:lnTo>
                <a:lnTo>
                  <a:pt x="848" y="345"/>
                </a:lnTo>
                <a:lnTo>
                  <a:pt x="855" y="338"/>
                </a:lnTo>
                <a:lnTo>
                  <a:pt x="862" y="331"/>
                </a:lnTo>
                <a:lnTo>
                  <a:pt x="869" y="331"/>
                </a:lnTo>
                <a:lnTo>
                  <a:pt x="869" y="324"/>
                </a:lnTo>
                <a:lnTo>
                  <a:pt x="876" y="317"/>
                </a:lnTo>
                <a:lnTo>
                  <a:pt x="883" y="317"/>
                </a:lnTo>
                <a:lnTo>
                  <a:pt x="890" y="310"/>
                </a:lnTo>
                <a:lnTo>
                  <a:pt x="897" y="310"/>
                </a:lnTo>
                <a:lnTo>
                  <a:pt x="904" y="303"/>
                </a:lnTo>
                <a:lnTo>
                  <a:pt x="917" y="303"/>
                </a:lnTo>
                <a:lnTo>
                  <a:pt x="924" y="303"/>
                </a:lnTo>
                <a:lnTo>
                  <a:pt x="931" y="297"/>
                </a:lnTo>
                <a:lnTo>
                  <a:pt x="938" y="297"/>
                </a:lnTo>
                <a:lnTo>
                  <a:pt x="945" y="290"/>
                </a:lnTo>
                <a:lnTo>
                  <a:pt x="952" y="290"/>
                </a:lnTo>
                <a:lnTo>
                  <a:pt x="959" y="283"/>
                </a:lnTo>
                <a:lnTo>
                  <a:pt x="959" y="276"/>
                </a:lnTo>
                <a:lnTo>
                  <a:pt x="966" y="269"/>
                </a:lnTo>
                <a:lnTo>
                  <a:pt x="973" y="269"/>
                </a:lnTo>
                <a:lnTo>
                  <a:pt x="979" y="262"/>
                </a:lnTo>
                <a:lnTo>
                  <a:pt x="986" y="255"/>
                </a:lnTo>
                <a:lnTo>
                  <a:pt x="986" y="255"/>
                </a:lnTo>
                <a:lnTo>
                  <a:pt x="993" y="248"/>
                </a:lnTo>
                <a:lnTo>
                  <a:pt x="1000" y="241"/>
                </a:lnTo>
                <a:lnTo>
                  <a:pt x="1007" y="241"/>
                </a:lnTo>
                <a:lnTo>
                  <a:pt x="1007" y="235"/>
                </a:lnTo>
                <a:lnTo>
                  <a:pt x="1014" y="228"/>
                </a:lnTo>
                <a:lnTo>
                  <a:pt x="1021" y="221"/>
                </a:lnTo>
                <a:lnTo>
                  <a:pt x="1028" y="221"/>
                </a:lnTo>
                <a:lnTo>
                  <a:pt x="1035" y="214"/>
                </a:lnTo>
                <a:lnTo>
                  <a:pt x="1035" y="207"/>
                </a:lnTo>
                <a:lnTo>
                  <a:pt x="1041" y="207"/>
                </a:lnTo>
                <a:lnTo>
                  <a:pt x="1048" y="200"/>
                </a:lnTo>
                <a:lnTo>
                  <a:pt x="1048" y="193"/>
                </a:lnTo>
                <a:lnTo>
                  <a:pt x="1048" y="186"/>
                </a:lnTo>
                <a:lnTo>
                  <a:pt x="1055" y="179"/>
                </a:lnTo>
                <a:lnTo>
                  <a:pt x="1055" y="173"/>
                </a:lnTo>
                <a:lnTo>
                  <a:pt x="1055" y="173"/>
                </a:lnTo>
                <a:lnTo>
                  <a:pt x="1062" y="166"/>
                </a:lnTo>
                <a:lnTo>
                  <a:pt x="1069" y="159"/>
                </a:lnTo>
                <a:lnTo>
                  <a:pt x="1076" y="159"/>
                </a:lnTo>
                <a:lnTo>
                  <a:pt x="1083" y="159"/>
                </a:lnTo>
                <a:lnTo>
                  <a:pt x="1097" y="159"/>
                </a:lnTo>
                <a:lnTo>
                  <a:pt x="1104" y="152"/>
                </a:lnTo>
                <a:lnTo>
                  <a:pt x="1110" y="152"/>
                </a:lnTo>
                <a:lnTo>
                  <a:pt x="1117" y="152"/>
                </a:lnTo>
                <a:lnTo>
                  <a:pt x="1131" y="145"/>
                </a:lnTo>
                <a:lnTo>
                  <a:pt x="1138" y="145"/>
                </a:lnTo>
                <a:lnTo>
                  <a:pt x="1145" y="138"/>
                </a:lnTo>
                <a:lnTo>
                  <a:pt x="1152" y="138"/>
                </a:lnTo>
                <a:lnTo>
                  <a:pt x="1159" y="131"/>
                </a:lnTo>
                <a:lnTo>
                  <a:pt x="1166" y="131"/>
                </a:lnTo>
                <a:lnTo>
                  <a:pt x="1172" y="131"/>
                </a:lnTo>
                <a:lnTo>
                  <a:pt x="1186" y="124"/>
                </a:lnTo>
                <a:lnTo>
                  <a:pt x="1193" y="124"/>
                </a:lnTo>
                <a:lnTo>
                  <a:pt x="1200" y="124"/>
                </a:lnTo>
                <a:lnTo>
                  <a:pt x="1207" y="124"/>
                </a:lnTo>
                <a:lnTo>
                  <a:pt x="1221" y="124"/>
                </a:lnTo>
                <a:lnTo>
                  <a:pt x="1228" y="117"/>
                </a:lnTo>
                <a:lnTo>
                  <a:pt x="1235" y="117"/>
                </a:lnTo>
                <a:lnTo>
                  <a:pt x="1241" y="111"/>
                </a:lnTo>
                <a:lnTo>
                  <a:pt x="1248" y="104"/>
                </a:lnTo>
                <a:lnTo>
                  <a:pt x="1255" y="104"/>
                </a:lnTo>
                <a:lnTo>
                  <a:pt x="1262" y="97"/>
                </a:lnTo>
                <a:lnTo>
                  <a:pt x="1269" y="97"/>
                </a:lnTo>
                <a:lnTo>
                  <a:pt x="1276" y="97"/>
                </a:lnTo>
                <a:lnTo>
                  <a:pt x="1283" y="90"/>
                </a:lnTo>
                <a:lnTo>
                  <a:pt x="1297" y="90"/>
                </a:lnTo>
                <a:lnTo>
                  <a:pt x="1303" y="90"/>
                </a:lnTo>
                <a:lnTo>
                  <a:pt x="1310" y="83"/>
                </a:lnTo>
                <a:lnTo>
                  <a:pt x="1317" y="83"/>
                </a:lnTo>
                <a:lnTo>
                  <a:pt x="1324" y="76"/>
                </a:lnTo>
                <a:lnTo>
                  <a:pt x="1331" y="69"/>
                </a:lnTo>
                <a:lnTo>
                  <a:pt x="1338" y="69"/>
                </a:lnTo>
                <a:lnTo>
                  <a:pt x="1345" y="62"/>
                </a:lnTo>
                <a:lnTo>
                  <a:pt x="1345" y="62"/>
                </a:lnTo>
                <a:lnTo>
                  <a:pt x="1352" y="55"/>
                </a:lnTo>
                <a:lnTo>
                  <a:pt x="1359" y="49"/>
                </a:lnTo>
                <a:lnTo>
                  <a:pt x="1359" y="42"/>
                </a:lnTo>
                <a:lnTo>
                  <a:pt x="1366" y="42"/>
                </a:lnTo>
                <a:lnTo>
                  <a:pt x="1372" y="35"/>
                </a:lnTo>
                <a:lnTo>
                  <a:pt x="1372" y="28"/>
                </a:lnTo>
                <a:lnTo>
                  <a:pt x="1372" y="21"/>
                </a:lnTo>
                <a:lnTo>
                  <a:pt x="1366" y="21"/>
                </a:lnTo>
                <a:lnTo>
                  <a:pt x="1359" y="14"/>
                </a:lnTo>
                <a:lnTo>
                  <a:pt x="1352" y="7"/>
                </a:lnTo>
                <a:lnTo>
                  <a:pt x="1345" y="7"/>
                </a:lnTo>
                <a:lnTo>
                  <a:pt x="1345" y="0"/>
                </a:lnTo>
                <a:lnTo>
                  <a:pt x="1331" y="0"/>
                </a:lnTo>
                <a:lnTo>
                  <a:pt x="1297" y="0"/>
                </a:lnTo>
                <a:lnTo>
                  <a:pt x="1269" y="0"/>
                </a:lnTo>
                <a:lnTo>
                  <a:pt x="1241" y="0"/>
                </a:lnTo>
                <a:lnTo>
                  <a:pt x="1207" y="0"/>
                </a:lnTo>
                <a:lnTo>
                  <a:pt x="1179" y="0"/>
                </a:lnTo>
                <a:lnTo>
                  <a:pt x="1152" y="0"/>
                </a:lnTo>
                <a:lnTo>
                  <a:pt x="1124" y="0"/>
                </a:lnTo>
                <a:lnTo>
                  <a:pt x="1090" y="0"/>
                </a:lnTo>
                <a:lnTo>
                  <a:pt x="1062" y="0"/>
                </a:lnTo>
                <a:lnTo>
                  <a:pt x="1035" y="0"/>
                </a:lnTo>
                <a:lnTo>
                  <a:pt x="1000" y="0"/>
                </a:lnTo>
                <a:lnTo>
                  <a:pt x="973" y="0"/>
                </a:lnTo>
                <a:lnTo>
                  <a:pt x="945" y="0"/>
                </a:lnTo>
                <a:lnTo>
                  <a:pt x="917" y="0"/>
                </a:lnTo>
                <a:lnTo>
                  <a:pt x="883" y="0"/>
                </a:lnTo>
                <a:lnTo>
                  <a:pt x="855" y="0"/>
                </a:lnTo>
                <a:lnTo>
                  <a:pt x="828" y="0"/>
                </a:lnTo>
                <a:lnTo>
                  <a:pt x="793" y="0"/>
                </a:lnTo>
                <a:lnTo>
                  <a:pt x="766" y="0"/>
                </a:lnTo>
                <a:lnTo>
                  <a:pt x="738" y="0"/>
                </a:lnTo>
                <a:lnTo>
                  <a:pt x="711" y="0"/>
                </a:lnTo>
                <a:lnTo>
                  <a:pt x="676" y="0"/>
                </a:lnTo>
                <a:lnTo>
                  <a:pt x="648" y="28"/>
                </a:lnTo>
                <a:lnTo>
                  <a:pt x="621" y="62"/>
                </a:lnTo>
                <a:lnTo>
                  <a:pt x="593" y="90"/>
                </a:lnTo>
                <a:lnTo>
                  <a:pt x="559" y="117"/>
                </a:lnTo>
                <a:lnTo>
                  <a:pt x="531" y="145"/>
                </a:lnTo>
                <a:lnTo>
                  <a:pt x="504" y="145"/>
                </a:lnTo>
                <a:lnTo>
                  <a:pt x="469" y="179"/>
                </a:lnTo>
                <a:lnTo>
                  <a:pt x="442" y="207"/>
                </a:lnTo>
                <a:lnTo>
                  <a:pt x="414" y="235"/>
                </a:lnTo>
                <a:lnTo>
                  <a:pt x="386" y="269"/>
                </a:lnTo>
                <a:lnTo>
                  <a:pt x="386" y="297"/>
                </a:lnTo>
                <a:lnTo>
                  <a:pt x="386" y="297"/>
                </a:lnTo>
                <a:lnTo>
                  <a:pt x="380" y="303"/>
                </a:lnTo>
                <a:lnTo>
                  <a:pt x="373" y="310"/>
                </a:lnTo>
                <a:lnTo>
                  <a:pt x="373" y="317"/>
                </a:lnTo>
                <a:lnTo>
                  <a:pt x="373" y="317"/>
                </a:lnTo>
                <a:lnTo>
                  <a:pt x="366" y="324"/>
                </a:lnTo>
                <a:lnTo>
                  <a:pt x="366" y="331"/>
                </a:lnTo>
                <a:lnTo>
                  <a:pt x="359" y="331"/>
                </a:lnTo>
                <a:lnTo>
                  <a:pt x="352" y="338"/>
                </a:lnTo>
                <a:lnTo>
                  <a:pt x="352" y="345"/>
                </a:lnTo>
                <a:lnTo>
                  <a:pt x="345" y="352"/>
                </a:lnTo>
                <a:lnTo>
                  <a:pt x="338" y="352"/>
                </a:lnTo>
                <a:lnTo>
                  <a:pt x="338" y="359"/>
                </a:lnTo>
                <a:lnTo>
                  <a:pt x="331" y="365"/>
                </a:lnTo>
                <a:lnTo>
                  <a:pt x="324" y="365"/>
                </a:lnTo>
                <a:lnTo>
                  <a:pt x="324" y="372"/>
                </a:lnTo>
                <a:lnTo>
                  <a:pt x="318" y="379"/>
                </a:lnTo>
                <a:lnTo>
                  <a:pt x="318" y="386"/>
                </a:lnTo>
                <a:lnTo>
                  <a:pt x="311" y="386"/>
                </a:lnTo>
                <a:lnTo>
                  <a:pt x="304" y="393"/>
                </a:lnTo>
                <a:lnTo>
                  <a:pt x="304" y="400"/>
                </a:lnTo>
                <a:lnTo>
                  <a:pt x="297" y="407"/>
                </a:lnTo>
                <a:lnTo>
                  <a:pt x="297" y="407"/>
                </a:lnTo>
                <a:lnTo>
                  <a:pt x="290" y="414"/>
                </a:lnTo>
                <a:lnTo>
                  <a:pt x="283" y="421"/>
                </a:lnTo>
                <a:lnTo>
                  <a:pt x="283" y="421"/>
                </a:lnTo>
                <a:lnTo>
                  <a:pt x="276" y="427"/>
                </a:lnTo>
                <a:lnTo>
                  <a:pt x="276" y="434"/>
                </a:lnTo>
                <a:lnTo>
                  <a:pt x="269" y="441"/>
                </a:lnTo>
                <a:lnTo>
                  <a:pt x="262" y="441"/>
                </a:lnTo>
                <a:lnTo>
                  <a:pt x="262" y="448"/>
                </a:lnTo>
                <a:lnTo>
                  <a:pt x="255" y="455"/>
                </a:lnTo>
                <a:lnTo>
                  <a:pt x="255" y="462"/>
                </a:lnTo>
                <a:lnTo>
                  <a:pt x="249" y="462"/>
                </a:lnTo>
                <a:lnTo>
                  <a:pt x="242" y="469"/>
                </a:lnTo>
                <a:lnTo>
                  <a:pt x="242" y="476"/>
                </a:lnTo>
                <a:lnTo>
                  <a:pt x="235" y="476"/>
                </a:lnTo>
                <a:lnTo>
                  <a:pt x="228" y="483"/>
                </a:lnTo>
                <a:lnTo>
                  <a:pt x="221" y="483"/>
                </a:lnTo>
                <a:lnTo>
                  <a:pt x="221" y="489"/>
                </a:lnTo>
                <a:lnTo>
                  <a:pt x="214" y="496"/>
                </a:lnTo>
                <a:lnTo>
                  <a:pt x="214" y="503"/>
                </a:lnTo>
                <a:lnTo>
                  <a:pt x="214" y="510"/>
                </a:lnTo>
                <a:lnTo>
                  <a:pt x="214" y="517"/>
                </a:lnTo>
                <a:lnTo>
                  <a:pt x="214" y="524"/>
                </a:lnTo>
                <a:lnTo>
                  <a:pt x="214" y="524"/>
                </a:lnTo>
                <a:lnTo>
                  <a:pt x="214" y="531"/>
                </a:lnTo>
                <a:lnTo>
                  <a:pt x="207" y="538"/>
                </a:lnTo>
                <a:lnTo>
                  <a:pt x="200" y="538"/>
                </a:lnTo>
                <a:lnTo>
                  <a:pt x="193" y="545"/>
                </a:lnTo>
                <a:lnTo>
                  <a:pt x="193" y="551"/>
                </a:lnTo>
                <a:lnTo>
                  <a:pt x="193" y="558"/>
                </a:lnTo>
                <a:lnTo>
                  <a:pt x="193" y="565"/>
                </a:lnTo>
                <a:lnTo>
                  <a:pt x="193" y="565"/>
                </a:lnTo>
                <a:lnTo>
                  <a:pt x="193" y="572"/>
                </a:lnTo>
                <a:lnTo>
                  <a:pt x="193" y="579"/>
                </a:lnTo>
                <a:lnTo>
                  <a:pt x="187" y="586"/>
                </a:lnTo>
                <a:lnTo>
                  <a:pt x="187" y="593"/>
                </a:lnTo>
                <a:lnTo>
                  <a:pt x="180" y="600"/>
                </a:lnTo>
                <a:lnTo>
                  <a:pt x="173" y="600"/>
                </a:lnTo>
                <a:lnTo>
                  <a:pt x="173" y="593"/>
                </a:lnTo>
                <a:lnTo>
                  <a:pt x="166" y="593"/>
                </a:lnTo>
                <a:lnTo>
                  <a:pt x="159" y="586"/>
                </a:lnTo>
                <a:lnTo>
                  <a:pt x="159" y="579"/>
                </a:lnTo>
                <a:lnTo>
                  <a:pt x="152" y="572"/>
                </a:lnTo>
                <a:lnTo>
                  <a:pt x="145" y="572"/>
                </a:lnTo>
                <a:lnTo>
                  <a:pt x="138" y="565"/>
                </a:lnTo>
                <a:lnTo>
                  <a:pt x="131" y="565"/>
                </a:lnTo>
                <a:lnTo>
                  <a:pt x="124" y="565"/>
                </a:lnTo>
                <a:lnTo>
                  <a:pt x="111" y="565"/>
                </a:lnTo>
                <a:lnTo>
                  <a:pt x="104" y="565"/>
                </a:lnTo>
                <a:lnTo>
                  <a:pt x="97" y="565"/>
                </a:lnTo>
                <a:lnTo>
                  <a:pt x="90" y="565"/>
                </a:lnTo>
                <a:lnTo>
                  <a:pt x="83" y="558"/>
                </a:lnTo>
                <a:lnTo>
                  <a:pt x="83" y="558"/>
                </a:lnTo>
                <a:lnTo>
                  <a:pt x="83" y="551"/>
                </a:lnTo>
                <a:lnTo>
                  <a:pt x="83" y="545"/>
                </a:lnTo>
                <a:lnTo>
                  <a:pt x="56" y="565"/>
                </a:lnTo>
                <a:lnTo>
                  <a:pt x="28" y="565"/>
                </a:lnTo>
                <a:lnTo>
                  <a:pt x="7" y="586"/>
                </a:lnTo>
                <a:lnTo>
                  <a:pt x="7" y="586"/>
                </a:lnTo>
                <a:lnTo>
                  <a:pt x="0" y="593"/>
                </a:lnTo>
                <a:lnTo>
                  <a:pt x="0" y="593"/>
                </a:lnTo>
                <a:lnTo>
                  <a:pt x="0" y="593"/>
                </a:lnTo>
                <a:lnTo>
                  <a:pt x="0" y="593"/>
                </a:lnTo>
                <a:lnTo>
                  <a:pt x="0" y="593"/>
                </a:lnTo>
                <a:lnTo>
                  <a:pt x="0" y="593"/>
                </a:lnTo>
                <a:lnTo>
                  <a:pt x="0" y="593"/>
                </a:lnTo>
                <a:lnTo>
                  <a:pt x="0" y="620"/>
                </a:lnTo>
                <a:lnTo>
                  <a:pt x="0" y="655"/>
                </a:lnTo>
                <a:lnTo>
                  <a:pt x="0" y="669"/>
                </a:lnTo>
                <a:lnTo>
                  <a:pt x="7" y="662"/>
                </a:lnTo>
                <a:lnTo>
                  <a:pt x="7" y="662"/>
                </a:lnTo>
                <a:lnTo>
                  <a:pt x="14" y="655"/>
                </a:lnTo>
                <a:lnTo>
                  <a:pt x="21" y="648"/>
                </a:lnTo>
                <a:lnTo>
                  <a:pt x="21" y="641"/>
                </a:lnTo>
                <a:lnTo>
                  <a:pt x="28" y="634"/>
                </a:lnTo>
                <a:lnTo>
                  <a:pt x="35" y="641"/>
                </a:lnTo>
                <a:lnTo>
                  <a:pt x="42" y="641"/>
                </a:lnTo>
                <a:lnTo>
                  <a:pt x="49" y="648"/>
                </a:lnTo>
                <a:lnTo>
                  <a:pt x="49" y="655"/>
                </a:lnTo>
                <a:lnTo>
                  <a:pt x="56" y="662"/>
                </a:lnTo>
                <a:lnTo>
                  <a:pt x="56" y="669"/>
                </a:lnTo>
                <a:lnTo>
                  <a:pt x="56" y="675"/>
                </a:lnTo>
                <a:lnTo>
                  <a:pt x="56" y="675"/>
                </a:lnTo>
                <a:lnTo>
                  <a:pt x="62" y="675"/>
                </a:lnTo>
                <a:lnTo>
                  <a:pt x="69" y="675"/>
                </a:lnTo>
                <a:lnTo>
                  <a:pt x="83" y="675"/>
                </a:lnTo>
                <a:lnTo>
                  <a:pt x="90" y="669"/>
                </a:lnTo>
                <a:lnTo>
                  <a:pt x="104" y="669"/>
                </a:lnTo>
                <a:lnTo>
                  <a:pt x="111" y="669"/>
                </a:lnTo>
                <a:lnTo>
                  <a:pt x="118" y="669"/>
                </a:lnTo>
                <a:lnTo>
                  <a:pt x="124" y="675"/>
                </a:lnTo>
                <a:lnTo>
                  <a:pt x="124" y="682"/>
                </a:lnTo>
                <a:lnTo>
                  <a:pt x="124" y="689"/>
                </a:lnTo>
                <a:lnTo>
                  <a:pt x="124" y="696"/>
                </a:lnTo>
                <a:lnTo>
                  <a:pt x="124" y="696"/>
                </a:lnTo>
                <a:lnTo>
                  <a:pt x="118" y="703"/>
                </a:lnTo>
                <a:lnTo>
                  <a:pt x="111" y="703"/>
                </a:lnTo>
                <a:lnTo>
                  <a:pt x="104" y="703"/>
                </a:lnTo>
                <a:lnTo>
                  <a:pt x="97" y="703"/>
                </a:lnTo>
                <a:lnTo>
                  <a:pt x="83" y="703"/>
                </a:lnTo>
                <a:lnTo>
                  <a:pt x="69" y="710"/>
                </a:lnTo>
                <a:lnTo>
                  <a:pt x="62" y="710"/>
                </a:lnTo>
                <a:lnTo>
                  <a:pt x="62" y="710"/>
                </a:lnTo>
                <a:lnTo>
                  <a:pt x="62" y="717"/>
                </a:lnTo>
                <a:lnTo>
                  <a:pt x="76" y="717"/>
                </a:lnTo>
                <a:lnTo>
                  <a:pt x="83" y="717"/>
                </a:lnTo>
                <a:lnTo>
                  <a:pt x="97" y="717"/>
                </a:lnTo>
                <a:lnTo>
                  <a:pt x="104" y="717"/>
                </a:lnTo>
                <a:lnTo>
                  <a:pt x="111" y="717"/>
                </a:lnTo>
                <a:lnTo>
                  <a:pt x="124" y="717"/>
                </a:lnTo>
                <a:lnTo>
                  <a:pt x="131" y="724"/>
                </a:lnTo>
                <a:lnTo>
                  <a:pt x="138" y="724"/>
                </a:lnTo>
                <a:lnTo>
                  <a:pt x="145" y="731"/>
                </a:lnTo>
                <a:lnTo>
                  <a:pt x="152" y="731"/>
                </a:lnTo>
                <a:lnTo>
                  <a:pt x="159" y="724"/>
                </a:lnTo>
                <a:lnTo>
                  <a:pt x="166" y="717"/>
                </a:lnTo>
                <a:lnTo>
                  <a:pt x="173" y="710"/>
                </a:lnTo>
                <a:lnTo>
                  <a:pt x="173" y="710"/>
                </a:lnTo>
                <a:lnTo>
                  <a:pt x="180" y="703"/>
                </a:lnTo>
                <a:lnTo>
                  <a:pt x="180" y="696"/>
                </a:lnTo>
                <a:lnTo>
                  <a:pt x="180" y="689"/>
                </a:lnTo>
                <a:lnTo>
                  <a:pt x="180" y="682"/>
                </a:lnTo>
                <a:lnTo>
                  <a:pt x="187" y="682"/>
                </a:lnTo>
                <a:lnTo>
                  <a:pt x="193" y="675"/>
                </a:lnTo>
                <a:lnTo>
                  <a:pt x="200" y="675"/>
                </a:lnTo>
                <a:lnTo>
                  <a:pt x="207" y="675"/>
                </a:lnTo>
                <a:lnTo>
                  <a:pt x="221" y="675"/>
                </a:lnTo>
                <a:lnTo>
                  <a:pt x="228" y="682"/>
                </a:lnTo>
                <a:lnTo>
                  <a:pt x="235" y="682"/>
                </a:lnTo>
                <a:lnTo>
                  <a:pt x="249" y="682"/>
                </a:lnTo>
                <a:lnTo>
                  <a:pt x="255" y="675"/>
                </a:lnTo>
                <a:lnTo>
                  <a:pt x="262" y="675"/>
                </a:lnTo>
                <a:lnTo>
                  <a:pt x="269" y="682"/>
                </a:lnTo>
                <a:lnTo>
                  <a:pt x="269" y="689"/>
                </a:lnTo>
                <a:lnTo>
                  <a:pt x="269" y="696"/>
                </a:lnTo>
                <a:lnTo>
                  <a:pt x="269" y="703"/>
                </a:lnTo>
                <a:lnTo>
                  <a:pt x="269" y="710"/>
                </a:lnTo>
                <a:lnTo>
                  <a:pt x="269" y="710"/>
                </a:lnTo>
                <a:lnTo>
                  <a:pt x="269" y="717"/>
                </a:lnTo>
                <a:lnTo>
                  <a:pt x="269" y="724"/>
                </a:lnTo>
                <a:lnTo>
                  <a:pt x="262" y="731"/>
                </a:lnTo>
                <a:lnTo>
                  <a:pt x="262" y="737"/>
                </a:lnTo>
                <a:lnTo>
                  <a:pt x="262" y="744"/>
                </a:lnTo>
                <a:lnTo>
                  <a:pt x="262" y="744"/>
                </a:lnTo>
                <a:lnTo>
                  <a:pt x="269" y="751"/>
                </a:lnTo>
                <a:lnTo>
                  <a:pt x="276" y="758"/>
                </a:lnTo>
                <a:lnTo>
                  <a:pt x="283" y="758"/>
                </a:lnTo>
                <a:lnTo>
                  <a:pt x="290" y="758"/>
                </a:lnTo>
                <a:lnTo>
                  <a:pt x="304" y="765"/>
                </a:lnTo>
                <a:lnTo>
                  <a:pt x="311" y="765"/>
                </a:lnTo>
                <a:lnTo>
                  <a:pt x="318" y="765"/>
                </a:lnTo>
                <a:lnTo>
                  <a:pt x="324" y="765"/>
                </a:lnTo>
                <a:lnTo>
                  <a:pt x="338" y="765"/>
                </a:lnTo>
                <a:lnTo>
                  <a:pt x="345" y="765"/>
                </a:lnTo>
                <a:lnTo>
                  <a:pt x="352" y="758"/>
                </a:lnTo>
                <a:lnTo>
                  <a:pt x="359" y="758"/>
                </a:lnTo>
                <a:lnTo>
                  <a:pt x="366" y="751"/>
                </a:lnTo>
                <a:lnTo>
                  <a:pt x="380" y="751"/>
                </a:lnTo>
                <a:lnTo>
                  <a:pt x="386" y="751"/>
                </a:lnTo>
                <a:lnTo>
                  <a:pt x="386" y="751"/>
                </a:lnTo>
                <a:lnTo>
                  <a:pt x="393" y="758"/>
                </a:lnTo>
                <a:lnTo>
                  <a:pt x="400" y="765"/>
                </a:lnTo>
                <a:lnTo>
                  <a:pt x="407" y="765"/>
                </a:lnTo>
                <a:lnTo>
                  <a:pt x="414" y="772"/>
                </a:lnTo>
                <a:close/>
                <a:moveTo>
                  <a:pt x="1517" y="744"/>
                </a:moveTo>
                <a:lnTo>
                  <a:pt x="1531" y="737"/>
                </a:lnTo>
                <a:lnTo>
                  <a:pt x="1538" y="737"/>
                </a:lnTo>
                <a:lnTo>
                  <a:pt x="1545" y="737"/>
                </a:lnTo>
                <a:lnTo>
                  <a:pt x="1559" y="737"/>
                </a:lnTo>
                <a:lnTo>
                  <a:pt x="1566" y="737"/>
                </a:lnTo>
                <a:lnTo>
                  <a:pt x="1579" y="737"/>
                </a:lnTo>
                <a:lnTo>
                  <a:pt x="1586" y="737"/>
                </a:lnTo>
                <a:lnTo>
                  <a:pt x="1593" y="737"/>
                </a:lnTo>
                <a:lnTo>
                  <a:pt x="1600" y="731"/>
                </a:lnTo>
                <a:lnTo>
                  <a:pt x="1600" y="724"/>
                </a:lnTo>
                <a:lnTo>
                  <a:pt x="1600" y="717"/>
                </a:lnTo>
                <a:lnTo>
                  <a:pt x="1600" y="710"/>
                </a:lnTo>
                <a:lnTo>
                  <a:pt x="1607" y="703"/>
                </a:lnTo>
                <a:lnTo>
                  <a:pt x="1607" y="696"/>
                </a:lnTo>
                <a:lnTo>
                  <a:pt x="1607" y="689"/>
                </a:lnTo>
                <a:lnTo>
                  <a:pt x="1607" y="682"/>
                </a:lnTo>
                <a:lnTo>
                  <a:pt x="1607" y="675"/>
                </a:lnTo>
                <a:lnTo>
                  <a:pt x="1607" y="669"/>
                </a:lnTo>
                <a:lnTo>
                  <a:pt x="1614" y="662"/>
                </a:lnTo>
                <a:lnTo>
                  <a:pt x="1614" y="655"/>
                </a:lnTo>
                <a:lnTo>
                  <a:pt x="1614" y="655"/>
                </a:lnTo>
                <a:lnTo>
                  <a:pt x="1614" y="648"/>
                </a:lnTo>
                <a:lnTo>
                  <a:pt x="1621" y="641"/>
                </a:lnTo>
                <a:lnTo>
                  <a:pt x="1621" y="634"/>
                </a:lnTo>
                <a:lnTo>
                  <a:pt x="1628" y="627"/>
                </a:lnTo>
                <a:lnTo>
                  <a:pt x="1634" y="620"/>
                </a:lnTo>
                <a:lnTo>
                  <a:pt x="1634" y="613"/>
                </a:lnTo>
                <a:lnTo>
                  <a:pt x="1641" y="607"/>
                </a:lnTo>
                <a:lnTo>
                  <a:pt x="1641" y="607"/>
                </a:lnTo>
                <a:lnTo>
                  <a:pt x="1641" y="600"/>
                </a:lnTo>
                <a:lnTo>
                  <a:pt x="1648" y="593"/>
                </a:lnTo>
                <a:lnTo>
                  <a:pt x="1648" y="586"/>
                </a:lnTo>
                <a:lnTo>
                  <a:pt x="1655" y="579"/>
                </a:lnTo>
                <a:lnTo>
                  <a:pt x="1655" y="572"/>
                </a:lnTo>
                <a:lnTo>
                  <a:pt x="1662" y="565"/>
                </a:lnTo>
                <a:lnTo>
                  <a:pt x="1662" y="558"/>
                </a:lnTo>
                <a:lnTo>
                  <a:pt x="1669" y="551"/>
                </a:lnTo>
                <a:lnTo>
                  <a:pt x="1669" y="551"/>
                </a:lnTo>
                <a:lnTo>
                  <a:pt x="1669" y="545"/>
                </a:lnTo>
                <a:lnTo>
                  <a:pt x="1669" y="538"/>
                </a:lnTo>
                <a:lnTo>
                  <a:pt x="1669" y="531"/>
                </a:lnTo>
                <a:lnTo>
                  <a:pt x="1662" y="524"/>
                </a:lnTo>
                <a:lnTo>
                  <a:pt x="1655" y="517"/>
                </a:lnTo>
                <a:lnTo>
                  <a:pt x="1648" y="524"/>
                </a:lnTo>
                <a:lnTo>
                  <a:pt x="1634" y="524"/>
                </a:lnTo>
                <a:lnTo>
                  <a:pt x="1628" y="524"/>
                </a:lnTo>
                <a:lnTo>
                  <a:pt x="1621" y="531"/>
                </a:lnTo>
                <a:lnTo>
                  <a:pt x="1614" y="538"/>
                </a:lnTo>
                <a:lnTo>
                  <a:pt x="1607" y="538"/>
                </a:lnTo>
                <a:lnTo>
                  <a:pt x="1600" y="545"/>
                </a:lnTo>
                <a:lnTo>
                  <a:pt x="1593" y="551"/>
                </a:lnTo>
                <a:lnTo>
                  <a:pt x="1586" y="551"/>
                </a:lnTo>
                <a:lnTo>
                  <a:pt x="1579" y="558"/>
                </a:lnTo>
                <a:lnTo>
                  <a:pt x="1572" y="565"/>
                </a:lnTo>
                <a:lnTo>
                  <a:pt x="1572" y="572"/>
                </a:lnTo>
                <a:lnTo>
                  <a:pt x="1566" y="579"/>
                </a:lnTo>
                <a:lnTo>
                  <a:pt x="1566" y="586"/>
                </a:lnTo>
                <a:lnTo>
                  <a:pt x="1559" y="593"/>
                </a:lnTo>
                <a:lnTo>
                  <a:pt x="1559" y="593"/>
                </a:lnTo>
                <a:lnTo>
                  <a:pt x="1559" y="607"/>
                </a:lnTo>
                <a:lnTo>
                  <a:pt x="1552" y="607"/>
                </a:lnTo>
                <a:lnTo>
                  <a:pt x="1545" y="613"/>
                </a:lnTo>
                <a:lnTo>
                  <a:pt x="1538" y="620"/>
                </a:lnTo>
                <a:lnTo>
                  <a:pt x="1531" y="620"/>
                </a:lnTo>
                <a:lnTo>
                  <a:pt x="1517" y="620"/>
                </a:lnTo>
                <a:lnTo>
                  <a:pt x="1510" y="620"/>
                </a:lnTo>
                <a:lnTo>
                  <a:pt x="1503" y="627"/>
                </a:lnTo>
                <a:lnTo>
                  <a:pt x="1497" y="627"/>
                </a:lnTo>
                <a:lnTo>
                  <a:pt x="1497" y="634"/>
                </a:lnTo>
                <a:lnTo>
                  <a:pt x="1497" y="641"/>
                </a:lnTo>
                <a:lnTo>
                  <a:pt x="1490" y="648"/>
                </a:lnTo>
                <a:lnTo>
                  <a:pt x="1490" y="655"/>
                </a:lnTo>
                <a:lnTo>
                  <a:pt x="1490" y="662"/>
                </a:lnTo>
                <a:lnTo>
                  <a:pt x="1490" y="669"/>
                </a:lnTo>
                <a:lnTo>
                  <a:pt x="1490" y="675"/>
                </a:lnTo>
                <a:lnTo>
                  <a:pt x="1490" y="682"/>
                </a:lnTo>
                <a:lnTo>
                  <a:pt x="1490" y="689"/>
                </a:lnTo>
                <a:lnTo>
                  <a:pt x="1490" y="696"/>
                </a:lnTo>
                <a:lnTo>
                  <a:pt x="1490" y="703"/>
                </a:lnTo>
                <a:lnTo>
                  <a:pt x="1490" y="710"/>
                </a:lnTo>
                <a:lnTo>
                  <a:pt x="1490" y="710"/>
                </a:lnTo>
                <a:lnTo>
                  <a:pt x="1483" y="717"/>
                </a:lnTo>
                <a:lnTo>
                  <a:pt x="1483" y="724"/>
                </a:lnTo>
                <a:lnTo>
                  <a:pt x="1476" y="731"/>
                </a:lnTo>
                <a:lnTo>
                  <a:pt x="1476" y="737"/>
                </a:lnTo>
                <a:lnTo>
                  <a:pt x="1476" y="744"/>
                </a:lnTo>
                <a:lnTo>
                  <a:pt x="1476" y="751"/>
                </a:lnTo>
                <a:lnTo>
                  <a:pt x="1483" y="751"/>
                </a:lnTo>
                <a:lnTo>
                  <a:pt x="1490" y="751"/>
                </a:lnTo>
                <a:lnTo>
                  <a:pt x="1503" y="744"/>
                </a:lnTo>
                <a:lnTo>
                  <a:pt x="1510" y="744"/>
                </a:lnTo>
                <a:lnTo>
                  <a:pt x="1517" y="744"/>
                </a:lnTo>
                <a:close/>
                <a:moveTo>
                  <a:pt x="1179" y="655"/>
                </a:moveTo>
                <a:lnTo>
                  <a:pt x="1179" y="648"/>
                </a:lnTo>
                <a:lnTo>
                  <a:pt x="1179" y="648"/>
                </a:lnTo>
                <a:lnTo>
                  <a:pt x="1179" y="641"/>
                </a:lnTo>
                <a:lnTo>
                  <a:pt x="1179" y="634"/>
                </a:lnTo>
                <a:lnTo>
                  <a:pt x="1179" y="634"/>
                </a:lnTo>
                <a:lnTo>
                  <a:pt x="1179" y="627"/>
                </a:lnTo>
                <a:lnTo>
                  <a:pt x="1179" y="620"/>
                </a:lnTo>
                <a:lnTo>
                  <a:pt x="1179" y="620"/>
                </a:lnTo>
                <a:lnTo>
                  <a:pt x="1179" y="620"/>
                </a:lnTo>
                <a:lnTo>
                  <a:pt x="1179" y="627"/>
                </a:lnTo>
                <a:lnTo>
                  <a:pt x="1179" y="634"/>
                </a:lnTo>
                <a:lnTo>
                  <a:pt x="1179" y="634"/>
                </a:lnTo>
                <a:lnTo>
                  <a:pt x="1179" y="641"/>
                </a:lnTo>
                <a:lnTo>
                  <a:pt x="1179" y="641"/>
                </a:lnTo>
                <a:lnTo>
                  <a:pt x="1179" y="648"/>
                </a:lnTo>
                <a:lnTo>
                  <a:pt x="1179" y="655"/>
                </a:lnTo>
                <a:lnTo>
                  <a:pt x="1179" y="655"/>
                </a:lnTo>
                <a:lnTo>
                  <a:pt x="1179" y="662"/>
                </a:lnTo>
                <a:lnTo>
                  <a:pt x="1179" y="662"/>
                </a:lnTo>
                <a:lnTo>
                  <a:pt x="1179" y="655"/>
                </a:lnTo>
                <a:close/>
                <a:moveTo>
                  <a:pt x="1214" y="593"/>
                </a:moveTo>
                <a:lnTo>
                  <a:pt x="1214" y="586"/>
                </a:lnTo>
                <a:lnTo>
                  <a:pt x="1214" y="579"/>
                </a:lnTo>
                <a:lnTo>
                  <a:pt x="1214" y="572"/>
                </a:lnTo>
                <a:lnTo>
                  <a:pt x="1214" y="572"/>
                </a:lnTo>
                <a:lnTo>
                  <a:pt x="1207" y="572"/>
                </a:lnTo>
                <a:lnTo>
                  <a:pt x="1200" y="572"/>
                </a:lnTo>
                <a:lnTo>
                  <a:pt x="1193" y="579"/>
                </a:lnTo>
                <a:lnTo>
                  <a:pt x="1186" y="586"/>
                </a:lnTo>
                <a:lnTo>
                  <a:pt x="1186" y="593"/>
                </a:lnTo>
                <a:lnTo>
                  <a:pt x="1193" y="600"/>
                </a:lnTo>
                <a:lnTo>
                  <a:pt x="1200" y="600"/>
                </a:lnTo>
                <a:lnTo>
                  <a:pt x="1207" y="600"/>
                </a:lnTo>
                <a:lnTo>
                  <a:pt x="1214" y="600"/>
                </a:lnTo>
                <a:lnTo>
                  <a:pt x="1214" y="593"/>
                </a:lnTo>
                <a:close/>
                <a:moveTo>
                  <a:pt x="738" y="531"/>
                </a:moveTo>
                <a:lnTo>
                  <a:pt x="738" y="531"/>
                </a:lnTo>
                <a:lnTo>
                  <a:pt x="738" y="531"/>
                </a:lnTo>
                <a:lnTo>
                  <a:pt x="738" y="531"/>
                </a:lnTo>
                <a:lnTo>
                  <a:pt x="738" y="531"/>
                </a:lnTo>
                <a:lnTo>
                  <a:pt x="738" y="531"/>
                </a:lnTo>
                <a:lnTo>
                  <a:pt x="731" y="531"/>
                </a:lnTo>
                <a:lnTo>
                  <a:pt x="731" y="531"/>
                </a:lnTo>
                <a:lnTo>
                  <a:pt x="731" y="531"/>
                </a:lnTo>
                <a:lnTo>
                  <a:pt x="731" y="538"/>
                </a:lnTo>
                <a:lnTo>
                  <a:pt x="738" y="538"/>
                </a:lnTo>
                <a:lnTo>
                  <a:pt x="738" y="538"/>
                </a:lnTo>
                <a:lnTo>
                  <a:pt x="738" y="538"/>
                </a:lnTo>
                <a:lnTo>
                  <a:pt x="738" y="538"/>
                </a:lnTo>
                <a:lnTo>
                  <a:pt x="738" y="531"/>
                </a:lnTo>
                <a:close/>
                <a:moveTo>
                  <a:pt x="973" y="531"/>
                </a:moveTo>
                <a:lnTo>
                  <a:pt x="973" y="531"/>
                </a:lnTo>
                <a:lnTo>
                  <a:pt x="973" y="524"/>
                </a:lnTo>
                <a:lnTo>
                  <a:pt x="966" y="517"/>
                </a:lnTo>
                <a:lnTo>
                  <a:pt x="959" y="517"/>
                </a:lnTo>
                <a:lnTo>
                  <a:pt x="952" y="510"/>
                </a:lnTo>
                <a:lnTo>
                  <a:pt x="952" y="510"/>
                </a:lnTo>
                <a:lnTo>
                  <a:pt x="945" y="510"/>
                </a:lnTo>
                <a:lnTo>
                  <a:pt x="945" y="510"/>
                </a:lnTo>
                <a:lnTo>
                  <a:pt x="938" y="517"/>
                </a:lnTo>
                <a:lnTo>
                  <a:pt x="938" y="517"/>
                </a:lnTo>
                <a:lnTo>
                  <a:pt x="938" y="524"/>
                </a:lnTo>
                <a:lnTo>
                  <a:pt x="945" y="531"/>
                </a:lnTo>
                <a:lnTo>
                  <a:pt x="945" y="538"/>
                </a:lnTo>
                <a:lnTo>
                  <a:pt x="945" y="538"/>
                </a:lnTo>
                <a:lnTo>
                  <a:pt x="945" y="545"/>
                </a:lnTo>
                <a:lnTo>
                  <a:pt x="952" y="545"/>
                </a:lnTo>
                <a:lnTo>
                  <a:pt x="966" y="545"/>
                </a:lnTo>
                <a:lnTo>
                  <a:pt x="973" y="545"/>
                </a:lnTo>
                <a:lnTo>
                  <a:pt x="973" y="538"/>
                </a:lnTo>
                <a:lnTo>
                  <a:pt x="973" y="531"/>
                </a:lnTo>
                <a:close/>
                <a:moveTo>
                  <a:pt x="1241" y="531"/>
                </a:moveTo>
                <a:lnTo>
                  <a:pt x="1241" y="531"/>
                </a:lnTo>
                <a:lnTo>
                  <a:pt x="1241" y="531"/>
                </a:lnTo>
                <a:lnTo>
                  <a:pt x="1241" y="531"/>
                </a:lnTo>
                <a:lnTo>
                  <a:pt x="1241" y="531"/>
                </a:lnTo>
                <a:lnTo>
                  <a:pt x="1241" y="531"/>
                </a:lnTo>
                <a:lnTo>
                  <a:pt x="1241" y="531"/>
                </a:lnTo>
                <a:lnTo>
                  <a:pt x="1241" y="531"/>
                </a:lnTo>
                <a:lnTo>
                  <a:pt x="1241" y="531"/>
                </a:lnTo>
                <a:lnTo>
                  <a:pt x="1241" y="531"/>
                </a:lnTo>
                <a:lnTo>
                  <a:pt x="1241" y="531"/>
                </a:lnTo>
                <a:lnTo>
                  <a:pt x="1241" y="531"/>
                </a:lnTo>
                <a:lnTo>
                  <a:pt x="1241" y="531"/>
                </a:lnTo>
                <a:lnTo>
                  <a:pt x="1241" y="531"/>
                </a:lnTo>
                <a:lnTo>
                  <a:pt x="1241" y="531"/>
                </a:lnTo>
                <a:close/>
                <a:moveTo>
                  <a:pt x="166" y="476"/>
                </a:moveTo>
                <a:lnTo>
                  <a:pt x="145" y="476"/>
                </a:lnTo>
                <a:lnTo>
                  <a:pt x="131" y="489"/>
                </a:lnTo>
                <a:lnTo>
                  <a:pt x="138" y="489"/>
                </a:lnTo>
                <a:lnTo>
                  <a:pt x="145" y="489"/>
                </a:lnTo>
                <a:lnTo>
                  <a:pt x="145" y="489"/>
                </a:lnTo>
                <a:lnTo>
                  <a:pt x="152" y="489"/>
                </a:lnTo>
                <a:lnTo>
                  <a:pt x="159" y="489"/>
                </a:lnTo>
                <a:lnTo>
                  <a:pt x="159" y="483"/>
                </a:lnTo>
                <a:lnTo>
                  <a:pt x="159" y="483"/>
                </a:lnTo>
                <a:lnTo>
                  <a:pt x="166" y="476"/>
                </a:lnTo>
                <a:close/>
                <a:moveTo>
                  <a:pt x="952" y="476"/>
                </a:moveTo>
                <a:lnTo>
                  <a:pt x="945" y="469"/>
                </a:lnTo>
                <a:lnTo>
                  <a:pt x="945" y="462"/>
                </a:lnTo>
                <a:lnTo>
                  <a:pt x="938" y="455"/>
                </a:lnTo>
                <a:lnTo>
                  <a:pt x="938" y="455"/>
                </a:lnTo>
                <a:lnTo>
                  <a:pt x="931" y="448"/>
                </a:lnTo>
                <a:lnTo>
                  <a:pt x="931" y="441"/>
                </a:lnTo>
                <a:lnTo>
                  <a:pt x="931" y="434"/>
                </a:lnTo>
                <a:lnTo>
                  <a:pt x="938" y="427"/>
                </a:lnTo>
                <a:lnTo>
                  <a:pt x="938" y="421"/>
                </a:lnTo>
                <a:lnTo>
                  <a:pt x="938" y="414"/>
                </a:lnTo>
                <a:lnTo>
                  <a:pt x="931" y="414"/>
                </a:lnTo>
                <a:lnTo>
                  <a:pt x="924" y="407"/>
                </a:lnTo>
                <a:lnTo>
                  <a:pt x="917" y="407"/>
                </a:lnTo>
                <a:lnTo>
                  <a:pt x="904" y="407"/>
                </a:lnTo>
                <a:lnTo>
                  <a:pt x="897" y="407"/>
                </a:lnTo>
                <a:lnTo>
                  <a:pt x="890" y="414"/>
                </a:lnTo>
                <a:lnTo>
                  <a:pt x="883" y="414"/>
                </a:lnTo>
                <a:lnTo>
                  <a:pt x="876" y="421"/>
                </a:lnTo>
                <a:lnTo>
                  <a:pt x="869" y="427"/>
                </a:lnTo>
                <a:lnTo>
                  <a:pt x="869" y="434"/>
                </a:lnTo>
                <a:lnTo>
                  <a:pt x="862" y="434"/>
                </a:lnTo>
                <a:lnTo>
                  <a:pt x="855" y="441"/>
                </a:lnTo>
                <a:lnTo>
                  <a:pt x="848" y="448"/>
                </a:lnTo>
                <a:lnTo>
                  <a:pt x="848" y="448"/>
                </a:lnTo>
                <a:lnTo>
                  <a:pt x="842" y="455"/>
                </a:lnTo>
                <a:lnTo>
                  <a:pt x="842" y="462"/>
                </a:lnTo>
                <a:lnTo>
                  <a:pt x="835" y="469"/>
                </a:lnTo>
                <a:lnTo>
                  <a:pt x="828" y="476"/>
                </a:lnTo>
                <a:lnTo>
                  <a:pt x="828" y="476"/>
                </a:lnTo>
                <a:lnTo>
                  <a:pt x="835" y="483"/>
                </a:lnTo>
                <a:lnTo>
                  <a:pt x="842" y="489"/>
                </a:lnTo>
                <a:lnTo>
                  <a:pt x="848" y="489"/>
                </a:lnTo>
                <a:lnTo>
                  <a:pt x="855" y="496"/>
                </a:lnTo>
                <a:lnTo>
                  <a:pt x="862" y="496"/>
                </a:lnTo>
                <a:lnTo>
                  <a:pt x="869" y="489"/>
                </a:lnTo>
                <a:lnTo>
                  <a:pt x="876" y="489"/>
                </a:lnTo>
                <a:lnTo>
                  <a:pt x="890" y="483"/>
                </a:lnTo>
                <a:lnTo>
                  <a:pt x="897" y="483"/>
                </a:lnTo>
                <a:lnTo>
                  <a:pt x="904" y="476"/>
                </a:lnTo>
                <a:lnTo>
                  <a:pt x="910" y="476"/>
                </a:lnTo>
                <a:lnTo>
                  <a:pt x="924" y="483"/>
                </a:lnTo>
                <a:lnTo>
                  <a:pt x="931" y="483"/>
                </a:lnTo>
                <a:lnTo>
                  <a:pt x="931" y="489"/>
                </a:lnTo>
                <a:lnTo>
                  <a:pt x="938" y="496"/>
                </a:lnTo>
                <a:lnTo>
                  <a:pt x="945" y="503"/>
                </a:lnTo>
                <a:lnTo>
                  <a:pt x="945" y="503"/>
                </a:lnTo>
                <a:lnTo>
                  <a:pt x="945" y="496"/>
                </a:lnTo>
                <a:lnTo>
                  <a:pt x="945" y="496"/>
                </a:lnTo>
                <a:lnTo>
                  <a:pt x="952" y="483"/>
                </a:lnTo>
                <a:lnTo>
                  <a:pt x="952" y="476"/>
                </a:lnTo>
                <a:close/>
                <a:moveTo>
                  <a:pt x="180" y="448"/>
                </a:moveTo>
                <a:lnTo>
                  <a:pt x="180" y="448"/>
                </a:lnTo>
                <a:lnTo>
                  <a:pt x="180" y="462"/>
                </a:lnTo>
                <a:lnTo>
                  <a:pt x="180" y="448"/>
                </a:lnTo>
                <a:close/>
                <a:moveTo>
                  <a:pt x="2276" y="448"/>
                </a:moveTo>
                <a:lnTo>
                  <a:pt x="2276" y="441"/>
                </a:lnTo>
                <a:lnTo>
                  <a:pt x="2269" y="441"/>
                </a:lnTo>
                <a:lnTo>
                  <a:pt x="2262" y="441"/>
                </a:lnTo>
                <a:lnTo>
                  <a:pt x="2262" y="448"/>
                </a:lnTo>
                <a:lnTo>
                  <a:pt x="2262" y="448"/>
                </a:lnTo>
                <a:lnTo>
                  <a:pt x="2262" y="455"/>
                </a:lnTo>
                <a:lnTo>
                  <a:pt x="2262" y="462"/>
                </a:lnTo>
                <a:lnTo>
                  <a:pt x="2269" y="462"/>
                </a:lnTo>
                <a:lnTo>
                  <a:pt x="2276" y="462"/>
                </a:lnTo>
                <a:lnTo>
                  <a:pt x="2276" y="462"/>
                </a:lnTo>
                <a:lnTo>
                  <a:pt x="2276" y="462"/>
                </a:lnTo>
                <a:lnTo>
                  <a:pt x="2276" y="455"/>
                </a:lnTo>
                <a:lnTo>
                  <a:pt x="2276" y="455"/>
                </a:lnTo>
                <a:lnTo>
                  <a:pt x="2276" y="448"/>
                </a:lnTo>
                <a:close/>
                <a:moveTo>
                  <a:pt x="207" y="414"/>
                </a:moveTo>
                <a:lnTo>
                  <a:pt x="207" y="414"/>
                </a:lnTo>
                <a:lnTo>
                  <a:pt x="207" y="421"/>
                </a:lnTo>
                <a:lnTo>
                  <a:pt x="207" y="414"/>
                </a:lnTo>
                <a:close/>
                <a:moveTo>
                  <a:pt x="249" y="386"/>
                </a:moveTo>
                <a:lnTo>
                  <a:pt x="235" y="386"/>
                </a:lnTo>
                <a:lnTo>
                  <a:pt x="235" y="393"/>
                </a:lnTo>
                <a:lnTo>
                  <a:pt x="249" y="386"/>
                </a:lnTo>
                <a:close/>
                <a:moveTo>
                  <a:pt x="290" y="359"/>
                </a:moveTo>
                <a:lnTo>
                  <a:pt x="262" y="359"/>
                </a:lnTo>
                <a:lnTo>
                  <a:pt x="262" y="372"/>
                </a:lnTo>
                <a:lnTo>
                  <a:pt x="290" y="359"/>
                </a:lnTo>
                <a:close/>
                <a:moveTo>
                  <a:pt x="345" y="324"/>
                </a:moveTo>
                <a:lnTo>
                  <a:pt x="324" y="324"/>
                </a:lnTo>
                <a:lnTo>
                  <a:pt x="297" y="352"/>
                </a:lnTo>
                <a:lnTo>
                  <a:pt x="304" y="352"/>
                </a:lnTo>
                <a:lnTo>
                  <a:pt x="311" y="352"/>
                </a:lnTo>
                <a:lnTo>
                  <a:pt x="324" y="345"/>
                </a:lnTo>
                <a:lnTo>
                  <a:pt x="324" y="345"/>
                </a:lnTo>
                <a:lnTo>
                  <a:pt x="331" y="338"/>
                </a:lnTo>
                <a:lnTo>
                  <a:pt x="338" y="338"/>
                </a:lnTo>
                <a:lnTo>
                  <a:pt x="345" y="331"/>
                </a:lnTo>
                <a:lnTo>
                  <a:pt x="345" y="324"/>
                </a:lnTo>
                <a:close/>
                <a:moveTo>
                  <a:pt x="380" y="297"/>
                </a:moveTo>
                <a:lnTo>
                  <a:pt x="352" y="297"/>
                </a:lnTo>
                <a:lnTo>
                  <a:pt x="352" y="324"/>
                </a:lnTo>
                <a:lnTo>
                  <a:pt x="380" y="297"/>
                </a:lnTo>
                <a:close/>
              </a:path>
            </a:pathLst>
          </a:custGeom>
          <a:solidFill>
            <a:srgbClr val="c0e2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9" name=""/>
          <p:cNvSpPr/>
          <p:nvPr/>
        </p:nvSpPr>
        <p:spPr>
          <a:xfrm>
            <a:off x="2131920" y="2727360"/>
            <a:ext cx="4543560" cy="2921040"/>
          </a:xfrm>
          <a:custGeom>
            <a:avLst/>
            <a:gdLst/>
            <a:ahLst/>
            <a:rect l="l" t="t" r="r" b="b"/>
            <a:pathLst>
              <a:path w="2862" h="1840">
                <a:moveTo>
                  <a:pt x="2483" y="1840"/>
                </a:moveTo>
                <a:lnTo>
                  <a:pt x="2510" y="1812"/>
                </a:lnTo>
                <a:lnTo>
                  <a:pt x="2538" y="1812"/>
                </a:lnTo>
                <a:lnTo>
                  <a:pt x="2565" y="1812"/>
                </a:lnTo>
                <a:lnTo>
                  <a:pt x="2600" y="1812"/>
                </a:lnTo>
                <a:lnTo>
                  <a:pt x="2627" y="1812"/>
                </a:lnTo>
                <a:lnTo>
                  <a:pt x="2655" y="1812"/>
                </a:lnTo>
                <a:lnTo>
                  <a:pt x="2689" y="1812"/>
                </a:lnTo>
                <a:lnTo>
                  <a:pt x="2717" y="1778"/>
                </a:lnTo>
                <a:lnTo>
                  <a:pt x="2717" y="1750"/>
                </a:lnTo>
                <a:lnTo>
                  <a:pt x="2717" y="1722"/>
                </a:lnTo>
                <a:lnTo>
                  <a:pt x="2717" y="1688"/>
                </a:lnTo>
                <a:lnTo>
                  <a:pt x="2745" y="1660"/>
                </a:lnTo>
                <a:lnTo>
                  <a:pt x="2745" y="1633"/>
                </a:lnTo>
                <a:lnTo>
                  <a:pt x="2745" y="1599"/>
                </a:lnTo>
                <a:lnTo>
                  <a:pt x="2745" y="1571"/>
                </a:lnTo>
                <a:lnTo>
                  <a:pt x="2772" y="1543"/>
                </a:lnTo>
                <a:lnTo>
                  <a:pt x="2772" y="1516"/>
                </a:lnTo>
                <a:lnTo>
                  <a:pt x="2772" y="1481"/>
                </a:lnTo>
                <a:lnTo>
                  <a:pt x="2772" y="1454"/>
                </a:lnTo>
                <a:lnTo>
                  <a:pt x="2807" y="1426"/>
                </a:lnTo>
                <a:lnTo>
                  <a:pt x="2807" y="1392"/>
                </a:lnTo>
                <a:lnTo>
                  <a:pt x="2807" y="1364"/>
                </a:lnTo>
                <a:lnTo>
                  <a:pt x="2807" y="1337"/>
                </a:lnTo>
                <a:lnTo>
                  <a:pt x="2834" y="1302"/>
                </a:lnTo>
                <a:lnTo>
                  <a:pt x="2834" y="1275"/>
                </a:lnTo>
                <a:lnTo>
                  <a:pt x="2834" y="1247"/>
                </a:lnTo>
                <a:lnTo>
                  <a:pt x="2834" y="1213"/>
                </a:lnTo>
                <a:lnTo>
                  <a:pt x="2862" y="1185"/>
                </a:lnTo>
                <a:lnTo>
                  <a:pt x="2862" y="1158"/>
                </a:lnTo>
                <a:lnTo>
                  <a:pt x="2862" y="1130"/>
                </a:lnTo>
                <a:lnTo>
                  <a:pt x="2862" y="1096"/>
                </a:lnTo>
                <a:lnTo>
                  <a:pt x="2862" y="1068"/>
                </a:lnTo>
                <a:lnTo>
                  <a:pt x="2862" y="1041"/>
                </a:lnTo>
                <a:lnTo>
                  <a:pt x="2862" y="1006"/>
                </a:lnTo>
                <a:lnTo>
                  <a:pt x="2862" y="979"/>
                </a:lnTo>
                <a:lnTo>
                  <a:pt x="2862" y="951"/>
                </a:lnTo>
                <a:lnTo>
                  <a:pt x="2862" y="917"/>
                </a:lnTo>
                <a:lnTo>
                  <a:pt x="2862" y="889"/>
                </a:lnTo>
                <a:lnTo>
                  <a:pt x="2862" y="861"/>
                </a:lnTo>
                <a:lnTo>
                  <a:pt x="2862" y="827"/>
                </a:lnTo>
                <a:lnTo>
                  <a:pt x="2862" y="799"/>
                </a:lnTo>
                <a:lnTo>
                  <a:pt x="2862" y="772"/>
                </a:lnTo>
                <a:lnTo>
                  <a:pt x="2862" y="744"/>
                </a:lnTo>
                <a:lnTo>
                  <a:pt x="2862" y="710"/>
                </a:lnTo>
                <a:lnTo>
                  <a:pt x="2862" y="682"/>
                </a:lnTo>
                <a:lnTo>
                  <a:pt x="2862" y="655"/>
                </a:lnTo>
                <a:lnTo>
                  <a:pt x="2862" y="620"/>
                </a:lnTo>
                <a:lnTo>
                  <a:pt x="2862" y="593"/>
                </a:lnTo>
                <a:lnTo>
                  <a:pt x="2862" y="565"/>
                </a:lnTo>
                <a:lnTo>
                  <a:pt x="2862" y="531"/>
                </a:lnTo>
                <a:lnTo>
                  <a:pt x="2862" y="503"/>
                </a:lnTo>
                <a:lnTo>
                  <a:pt x="2862" y="476"/>
                </a:lnTo>
                <a:lnTo>
                  <a:pt x="2862" y="448"/>
                </a:lnTo>
                <a:lnTo>
                  <a:pt x="2862" y="414"/>
                </a:lnTo>
                <a:lnTo>
                  <a:pt x="2862" y="386"/>
                </a:lnTo>
                <a:lnTo>
                  <a:pt x="2862" y="359"/>
                </a:lnTo>
                <a:lnTo>
                  <a:pt x="2862" y="324"/>
                </a:lnTo>
                <a:lnTo>
                  <a:pt x="2862" y="297"/>
                </a:lnTo>
                <a:lnTo>
                  <a:pt x="2862" y="269"/>
                </a:lnTo>
                <a:lnTo>
                  <a:pt x="2834" y="235"/>
                </a:lnTo>
                <a:lnTo>
                  <a:pt x="2834" y="207"/>
                </a:lnTo>
                <a:lnTo>
                  <a:pt x="2834" y="179"/>
                </a:lnTo>
                <a:lnTo>
                  <a:pt x="2834" y="145"/>
                </a:lnTo>
                <a:lnTo>
                  <a:pt x="2834" y="117"/>
                </a:lnTo>
                <a:lnTo>
                  <a:pt x="2807" y="90"/>
                </a:lnTo>
                <a:lnTo>
                  <a:pt x="2772" y="90"/>
                </a:lnTo>
                <a:lnTo>
                  <a:pt x="2745" y="90"/>
                </a:lnTo>
                <a:lnTo>
                  <a:pt x="2717" y="62"/>
                </a:lnTo>
                <a:lnTo>
                  <a:pt x="2689" y="62"/>
                </a:lnTo>
                <a:lnTo>
                  <a:pt x="2655" y="62"/>
                </a:lnTo>
                <a:lnTo>
                  <a:pt x="2627" y="28"/>
                </a:lnTo>
                <a:lnTo>
                  <a:pt x="2600" y="28"/>
                </a:lnTo>
                <a:lnTo>
                  <a:pt x="2565" y="28"/>
                </a:lnTo>
                <a:lnTo>
                  <a:pt x="2538" y="0"/>
                </a:lnTo>
                <a:lnTo>
                  <a:pt x="2510" y="0"/>
                </a:lnTo>
                <a:lnTo>
                  <a:pt x="2483" y="0"/>
                </a:lnTo>
                <a:lnTo>
                  <a:pt x="2448" y="0"/>
                </a:lnTo>
                <a:lnTo>
                  <a:pt x="2420" y="0"/>
                </a:lnTo>
                <a:lnTo>
                  <a:pt x="2393" y="0"/>
                </a:lnTo>
                <a:lnTo>
                  <a:pt x="2365" y="0"/>
                </a:lnTo>
                <a:lnTo>
                  <a:pt x="2331" y="0"/>
                </a:lnTo>
                <a:lnTo>
                  <a:pt x="2303" y="0"/>
                </a:lnTo>
                <a:lnTo>
                  <a:pt x="2276" y="0"/>
                </a:lnTo>
                <a:lnTo>
                  <a:pt x="2241" y="0"/>
                </a:lnTo>
                <a:lnTo>
                  <a:pt x="2214" y="0"/>
                </a:lnTo>
                <a:lnTo>
                  <a:pt x="2186" y="0"/>
                </a:lnTo>
                <a:lnTo>
                  <a:pt x="2200" y="0"/>
                </a:lnTo>
                <a:lnTo>
                  <a:pt x="2207" y="7"/>
                </a:lnTo>
                <a:lnTo>
                  <a:pt x="2214" y="7"/>
                </a:lnTo>
                <a:lnTo>
                  <a:pt x="2221" y="7"/>
                </a:lnTo>
                <a:lnTo>
                  <a:pt x="2234" y="7"/>
                </a:lnTo>
                <a:lnTo>
                  <a:pt x="2241" y="14"/>
                </a:lnTo>
                <a:lnTo>
                  <a:pt x="2248" y="14"/>
                </a:lnTo>
                <a:lnTo>
                  <a:pt x="2262" y="14"/>
                </a:lnTo>
                <a:lnTo>
                  <a:pt x="2269" y="14"/>
                </a:lnTo>
                <a:lnTo>
                  <a:pt x="2276" y="14"/>
                </a:lnTo>
                <a:lnTo>
                  <a:pt x="2289" y="21"/>
                </a:lnTo>
                <a:lnTo>
                  <a:pt x="2296" y="21"/>
                </a:lnTo>
                <a:lnTo>
                  <a:pt x="2303" y="21"/>
                </a:lnTo>
                <a:lnTo>
                  <a:pt x="2317" y="21"/>
                </a:lnTo>
                <a:lnTo>
                  <a:pt x="2324" y="21"/>
                </a:lnTo>
                <a:lnTo>
                  <a:pt x="2331" y="21"/>
                </a:lnTo>
                <a:lnTo>
                  <a:pt x="2338" y="28"/>
                </a:lnTo>
                <a:lnTo>
                  <a:pt x="2352" y="28"/>
                </a:lnTo>
                <a:lnTo>
                  <a:pt x="2358" y="28"/>
                </a:lnTo>
                <a:lnTo>
                  <a:pt x="2365" y="28"/>
                </a:lnTo>
                <a:lnTo>
                  <a:pt x="2372" y="35"/>
                </a:lnTo>
                <a:lnTo>
                  <a:pt x="2372" y="42"/>
                </a:lnTo>
                <a:lnTo>
                  <a:pt x="2379" y="49"/>
                </a:lnTo>
                <a:lnTo>
                  <a:pt x="2379" y="55"/>
                </a:lnTo>
                <a:lnTo>
                  <a:pt x="2379" y="62"/>
                </a:lnTo>
                <a:lnTo>
                  <a:pt x="2393" y="62"/>
                </a:lnTo>
                <a:lnTo>
                  <a:pt x="2400" y="62"/>
                </a:lnTo>
                <a:lnTo>
                  <a:pt x="2407" y="62"/>
                </a:lnTo>
                <a:lnTo>
                  <a:pt x="2420" y="69"/>
                </a:lnTo>
                <a:lnTo>
                  <a:pt x="2427" y="69"/>
                </a:lnTo>
                <a:lnTo>
                  <a:pt x="2434" y="69"/>
                </a:lnTo>
                <a:lnTo>
                  <a:pt x="2448" y="69"/>
                </a:lnTo>
                <a:lnTo>
                  <a:pt x="2455" y="69"/>
                </a:lnTo>
                <a:lnTo>
                  <a:pt x="2455" y="76"/>
                </a:lnTo>
                <a:lnTo>
                  <a:pt x="2462" y="83"/>
                </a:lnTo>
                <a:lnTo>
                  <a:pt x="2462" y="90"/>
                </a:lnTo>
                <a:lnTo>
                  <a:pt x="2469" y="97"/>
                </a:lnTo>
                <a:lnTo>
                  <a:pt x="2476" y="97"/>
                </a:lnTo>
                <a:lnTo>
                  <a:pt x="2483" y="97"/>
                </a:lnTo>
                <a:lnTo>
                  <a:pt x="2496" y="97"/>
                </a:lnTo>
                <a:lnTo>
                  <a:pt x="2503" y="90"/>
                </a:lnTo>
                <a:lnTo>
                  <a:pt x="2503" y="90"/>
                </a:lnTo>
                <a:lnTo>
                  <a:pt x="2503" y="83"/>
                </a:lnTo>
                <a:lnTo>
                  <a:pt x="2503" y="76"/>
                </a:lnTo>
                <a:lnTo>
                  <a:pt x="2503" y="69"/>
                </a:lnTo>
                <a:lnTo>
                  <a:pt x="2503" y="62"/>
                </a:lnTo>
                <a:lnTo>
                  <a:pt x="2510" y="55"/>
                </a:lnTo>
                <a:lnTo>
                  <a:pt x="2517" y="62"/>
                </a:lnTo>
                <a:lnTo>
                  <a:pt x="2517" y="69"/>
                </a:lnTo>
                <a:lnTo>
                  <a:pt x="2524" y="76"/>
                </a:lnTo>
                <a:lnTo>
                  <a:pt x="2524" y="83"/>
                </a:lnTo>
                <a:lnTo>
                  <a:pt x="2531" y="83"/>
                </a:lnTo>
                <a:lnTo>
                  <a:pt x="2538" y="90"/>
                </a:lnTo>
                <a:lnTo>
                  <a:pt x="2545" y="90"/>
                </a:lnTo>
                <a:lnTo>
                  <a:pt x="2551" y="97"/>
                </a:lnTo>
                <a:lnTo>
                  <a:pt x="2551" y="104"/>
                </a:lnTo>
                <a:lnTo>
                  <a:pt x="2551" y="111"/>
                </a:lnTo>
                <a:lnTo>
                  <a:pt x="2551" y="117"/>
                </a:lnTo>
                <a:lnTo>
                  <a:pt x="2551" y="124"/>
                </a:lnTo>
                <a:lnTo>
                  <a:pt x="2551" y="131"/>
                </a:lnTo>
                <a:lnTo>
                  <a:pt x="2551" y="131"/>
                </a:lnTo>
                <a:lnTo>
                  <a:pt x="2558" y="138"/>
                </a:lnTo>
                <a:lnTo>
                  <a:pt x="2558" y="145"/>
                </a:lnTo>
                <a:lnTo>
                  <a:pt x="2558" y="152"/>
                </a:lnTo>
                <a:lnTo>
                  <a:pt x="2558" y="159"/>
                </a:lnTo>
                <a:lnTo>
                  <a:pt x="2558" y="166"/>
                </a:lnTo>
                <a:lnTo>
                  <a:pt x="2558" y="173"/>
                </a:lnTo>
                <a:lnTo>
                  <a:pt x="2565" y="179"/>
                </a:lnTo>
                <a:lnTo>
                  <a:pt x="2572" y="179"/>
                </a:lnTo>
                <a:lnTo>
                  <a:pt x="2579" y="186"/>
                </a:lnTo>
                <a:lnTo>
                  <a:pt x="2586" y="186"/>
                </a:lnTo>
                <a:lnTo>
                  <a:pt x="2593" y="193"/>
                </a:lnTo>
                <a:lnTo>
                  <a:pt x="2593" y="200"/>
                </a:lnTo>
                <a:lnTo>
                  <a:pt x="2600" y="207"/>
                </a:lnTo>
                <a:lnTo>
                  <a:pt x="2600" y="207"/>
                </a:lnTo>
                <a:lnTo>
                  <a:pt x="2614" y="214"/>
                </a:lnTo>
                <a:lnTo>
                  <a:pt x="2620" y="214"/>
                </a:lnTo>
                <a:lnTo>
                  <a:pt x="2627" y="214"/>
                </a:lnTo>
                <a:lnTo>
                  <a:pt x="2634" y="221"/>
                </a:lnTo>
                <a:lnTo>
                  <a:pt x="2641" y="228"/>
                </a:lnTo>
                <a:lnTo>
                  <a:pt x="2641" y="235"/>
                </a:lnTo>
                <a:lnTo>
                  <a:pt x="2648" y="235"/>
                </a:lnTo>
                <a:lnTo>
                  <a:pt x="2655" y="241"/>
                </a:lnTo>
                <a:lnTo>
                  <a:pt x="2662" y="248"/>
                </a:lnTo>
                <a:lnTo>
                  <a:pt x="2669" y="248"/>
                </a:lnTo>
                <a:lnTo>
                  <a:pt x="2676" y="248"/>
                </a:lnTo>
                <a:lnTo>
                  <a:pt x="2689" y="255"/>
                </a:lnTo>
                <a:lnTo>
                  <a:pt x="2689" y="255"/>
                </a:lnTo>
                <a:lnTo>
                  <a:pt x="2696" y="262"/>
                </a:lnTo>
                <a:lnTo>
                  <a:pt x="2703" y="269"/>
                </a:lnTo>
                <a:lnTo>
                  <a:pt x="2703" y="276"/>
                </a:lnTo>
                <a:lnTo>
                  <a:pt x="2710" y="276"/>
                </a:lnTo>
                <a:lnTo>
                  <a:pt x="2724" y="283"/>
                </a:lnTo>
                <a:lnTo>
                  <a:pt x="2731" y="283"/>
                </a:lnTo>
                <a:lnTo>
                  <a:pt x="2738" y="290"/>
                </a:lnTo>
                <a:lnTo>
                  <a:pt x="2745" y="290"/>
                </a:lnTo>
                <a:lnTo>
                  <a:pt x="2745" y="297"/>
                </a:lnTo>
                <a:lnTo>
                  <a:pt x="2738" y="303"/>
                </a:lnTo>
                <a:lnTo>
                  <a:pt x="2738" y="310"/>
                </a:lnTo>
                <a:lnTo>
                  <a:pt x="2731" y="310"/>
                </a:lnTo>
                <a:lnTo>
                  <a:pt x="2731" y="317"/>
                </a:lnTo>
                <a:lnTo>
                  <a:pt x="2724" y="324"/>
                </a:lnTo>
                <a:lnTo>
                  <a:pt x="2724" y="331"/>
                </a:lnTo>
                <a:lnTo>
                  <a:pt x="2717" y="338"/>
                </a:lnTo>
                <a:lnTo>
                  <a:pt x="2710" y="338"/>
                </a:lnTo>
                <a:lnTo>
                  <a:pt x="2696" y="331"/>
                </a:lnTo>
                <a:lnTo>
                  <a:pt x="2689" y="331"/>
                </a:lnTo>
                <a:lnTo>
                  <a:pt x="2676" y="331"/>
                </a:lnTo>
                <a:lnTo>
                  <a:pt x="2669" y="324"/>
                </a:lnTo>
                <a:lnTo>
                  <a:pt x="2662" y="324"/>
                </a:lnTo>
                <a:lnTo>
                  <a:pt x="2655" y="331"/>
                </a:lnTo>
                <a:lnTo>
                  <a:pt x="2641" y="331"/>
                </a:lnTo>
                <a:lnTo>
                  <a:pt x="2634" y="331"/>
                </a:lnTo>
                <a:lnTo>
                  <a:pt x="2627" y="331"/>
                </a:lnTo>
                <a:lnTo>
                  <a:pt x="2614" y="331"/>
                </a:lnTo>
                <a:lnTo>
                  <a:pt x="2607" y="331"/>
                </a:lnTo>
                <a:lnTo>
                  <a:pt x="2600" y="331"/>
                </a:lnTo>
                <a:lnTo>
                  <a:pt x="2593" y="324"/>
                </a:lnTo>
                <a:lnTo>
                  <a:pt x="2586" y="317"/>
                </a:lnTo>
                <a:lnTo>
                  <a:pt x="2579" y="317"/>
                </a:lnTo>
                <a:lnTo>
                  <a:pt x="2565" y="317"/>
                </a:lnTo>
                <a:lnTo>
                  <a:pt x="2558" y="317"/>
                </a:lnTo>
                <a:lnTo>
                  <a:pt x="2551" y="317"/>
                </a:lnTo>
                <a:lnTo>
                  <a:pt x="2538" y="317"/>
                </a:lnTo>
                <a:lnTo>
                  <a:pt x="2531" y="317"/>
                </a:lnTo>
                <a:lnTo>
                  <a:pt x="2517" y="317"/>
                </a:lnTo>
                <a:lnTo>
                  <a:pt x="2510" y="317"/>
                </a:lnTo>
                <a:lnTo>
                  <a:pt x="2503" y="317"/>
                </a:lnTo>
                <a:lnTo>
                  <a:pt x="2496" y="310"/>
                </a:lnTo>
                <a:lnTo>
                  <a:pt x="2496" y="303"/>
                </a:lnTo>
                <a:lnTo>
                  <a:pt x="2489" y="297"/>
                </a:lnTo>
                <a:lnTo>
                  <a:pt x="2483" y="297"/>
                </a:lnTo>
                <a:lnTo>
                  <a:pt x="2476" y="290"/>
                </a:lnTo>
                <a:lnTo>
                  <a:pt x="2462" y="290"/>
                </a:lnTo>
                <a:lnTo>
                  <a:pt x="2455" y="297"/>
                </a:lnTo>
                <a:lnTo>
                  <a:pt x="2448" y="297"/>
                </a:lnTo>
                <a:lnTo>
                  <a:pt x="2455" y="303"/>
                </a:lnTo>
                <a:lnTo>
                  <a:pt x="2462" y="310"/>
                </a:lnTo>
                <a:lnTo>
                  <a:pt x="2469" y="310"/>
                </a:lnTo>
                <a:lnTo>
                  <a:pt x="2469" y="317"/>
                </a:lnTo>
                <a:lnTo>
                  <a:pt x="2476" y="324"/>
                </a:lnTo>
                <a:lnTo>
                  <a:pt x="2476" y="331"/>
                </a:lnTo>
                <a:lnTo>
                  <a:pt x="2483" y="331"/>
                </a:lnTo>
                <a:lnTo>
                  <a:pt x="2489" y="338"/>
                </a:lnTo>
                <a:lnTo>
                  <a:pt x="2496" y="338"/>
                </a:lnTo>
                <a:lnTo>
                  <a:pt x="2503" y="345"/>
                </a:lnTo>
                <a:lnTo>
                  <a:pt x="2510" y="345"/>
                </a:lnTo>
                <a:lnTo>
                  <a:pt x="2517" y="352"/>
                </a:lnTo>
                <a:lnTo>
                  <a:pt x="2524" y="359"/>
                </a:lnTo>
                <a:lnTo>
                  <a:pt x="2524" y="359"/>
                </a:lnTo>
                <a:lnTo>
                  <a:pt x="2531" y="365"/>
                </a:lnTo>
                <a:lnTo>
                  <a:pt x="2538" y="372"/>
                </a:lnTo>
                <a:lnTo>
                  <a:pt x="2545" y="379"/>
                </a:lnTo>
                <a:lnTo>
                  <a:pt x="2545" y="379"/>
                </a:lnTo>
                <a:lnTo>
                  <a:pt x="2551" y="386"/>
                </a:lnTo>
                <a:lnTo>
                  <a:pt x="2551" y="393"/>
                </a:lnTo>
                <a:lnTo>
                  <a:pt x="2558" y="400"/>
                </a:lnTo>
                <a:lnTo>
                  <a:pt x="2558" y="407"/>
                </a:lnTo>
                <a:lnTo>
                  <a:pt x="2565" y="407"/>
                </a:lnTo>
                <a:lnTo>
                  <a:pt x="2572" y="414"/>
                </a:lnTo>
                <a:lnTo>
                  <a:pt x="2579" y="421"/>
                </a:lnTo>
                <a:lnTo>
                  <a:pt x="2572" y="427"/>
                </a:lnTo>
                <a:lnTo>
                  <a:pt x="2565" y="427"/>
                </a:lnTo>
                <a:lnTo>
                  <a:pt x="2558" y="434"/>
                </a:lnTo>
                <a:lnTo>
                  <a:pt x="2551" y="434"/>
                </a:lnTo>
                <a:lnTo>
                  <a:pt x="2538" y="434"/>
                </a:lnTo>
                <a:lnTo>
                  <a:pt x="2531" y="441"/>
                </a:lnTo>
                <a:lnTo>
                  <a:pt x="2531" y="448"/>
                </a:lnTo>
                <a:lnTo>
                  <a:pt x="2524" y="448"/>
                </a:lnTo>
                <a:lnTo>
                  <a:pt x="2524" y="455"/>
                </a:lnTo>
                <a:lnTo>
                  <a:pt x="2517" y="462"/>
                </a:lnTo>
                <a:lnTo>
                  <a:pt x="2517" y="469"/>
                </a:lnTo>
                <a:lnTo>
                  <a:pt x="2517" y="476"/>
                </a:lnTo>
                <a:lnTo>
                  <a:pt x="2517" y="483"/>
                </a:lnTo>
                <a:lnTo>
                  <a:pt x="2517" y="489"/>
                </a:lnTo>
                <a:lnTo>
                  <a:pt x="2510" y="489"/>
                </a:lnTo>
                <a:lnTo>
                  <a:pt x="2510" y="496"/>
                </a:lnTo>
                <a:lnTo>
                  <a:pt x="2503" y="503"/>
                </a:lnTo>
                <a:lnTo>
                  <a:pt x="2496" y="510"/>
                </a:lnTo>
                <a:lnTo>
                  <a:pt x="2496" y="510"/>
                </a:lnTo>
                <a:lnTo>
                  <a:pt x="2483" y="517"/>
                </a:lnTo>
                <a:lnTo>
                  <a:pt x="2476" y="524"/>
                </a:lnTo>
                <a:lnTo>
                  <a:pt x="2469" y="524"/>
                </a:lnTo>
                <a:lnTo>
                  <a:pt x="2462" y="531"/>
                </a:lnTo>
                <a:lnTo>
                  <a:pt x="2455" y="531"/>
                </a:lnTo>
                <a:lnTo>
                  <a:pt x="2448" y="538"/>
                </a:lnTo>
                <a:lnTo>
                  <a:pt x="2441" y="538"/>
                </a:lnTo>
                <a:lnTo>
                  <a:pt x="2434" y="538"/>
                </a:lnTo>
                <a:lnTo>
                  <a:pt x="2420" y="538"/>
                </a:lnTo>
                <a:lnTo>
                  <a:pt x="2414" y="538"/>
                </a:lnTo>
                <a:lnTo>
                  <a:pt x="2407" y="531"/>
                </a:lnTo>
                <a:lnTo>
                  <a:pt x="2400" y="531"/>
                </a:lnTo>
                <a:lnTo>
                  <a:pt x="2393" y="524"/>
                </a:lnTo>
                <a:lnTo>
                  <a:pt x="2386" y="524"/>
                </a:lnTo>
                <a:lnTo>
                  <a:pt x="2372" y="524"/>
                </a:lnTo>
                <a:lnTo>
                  <a:pt x="2365" y="517"/>
                </a:lnTo>
                <a:lnTo>
                  <a:pt x="2358" y="517"/>
                </a:lnTo>
                <a:lnTo>
                  <a:pt x="2352" y="510"/>
                </a:lnTo>
                <a:lnTo>
                  <a:pt x="2345" y="510"/>
                </a:lnTo>
                <a:lnTo>
                  <a:pt x="2338" y="503"/>
                </a:lnTo>
                <a:lnTo>
                  <a:pt x="2331" y="503"/>
                </a:lnTo>
                <a:lnTo>
                  <a:pt x="2317" y="496"/>
                </a:lnTo>
                <a:lnTo>
                  <a:pt x="2310" y="496"/>
                </a:lnTo>
                <a:lnTo>
                  <a:pt x="2303" y="489"/>
                </a:lnTo>
                <a:lnTo>
                  <a:pt x="2296" y="489"/>
                </a:lnTo>
                <a:lnTo>
                  <a:pt x="2289" y="489"/>
                </a:lnTo>
                <a:lnTo>
                  <a:pt x="2283" y="483"/>
                </a:lnTo>
                <a:lnTo>
                  <a:pt x="2276" y="483"/>
                </a:lnTo>
                <a:lnTo>
                  <a:pt x="2269" y="476"/>
                </a:lnTo>
                <a:lnTo>
                  <a:pt x="2262" y="469"/>
                </a:lnTo>
                <a:lnTo>
                  <a:pt x="2255" y="462"/>
                </a:lnTo>
                <a:lnTo>
                  <a:pt x="2255" y="455"/>
                </a:lnTo>
                <a:lnTo>
                  <a:pt x="2248" y="455"/>
                </a:lnTo>
                <a:lnTo>
                  <a:pt x="2234" y="455"/>
                </a:lnTo>
                <a:lnTo>
                  <a:pt x="2227" y="455"/>
                </a:lnTo>
                <a:lnTo>
                  <a:pt x="2221" y="462"/>
                </a:lnTo>
                <a:lnTo>
                  <a:pt x="2207" y="462"/>
                </a:lnTo>
                <a:lnTo>
                  <a:pt x="2200" y="462"/>
                </a:lnTo>
                <a:lnTo>
                  <a:pt x="2193" y="469"/>
                </a:lnTo>
                <a:lnTo>
                  <a:pt x="2186" y="469"/>
                </a:lnTo>
                <a:lnTo>
                  <a:pt x="2172" y="469"/>
                </a:lnTo>
                <a:lnTo>
                  <a:pt x="2165" y="469"/>
                </a:lnTo>
                <a:lnTo>
                  <a:pt x="2158" y="469"/>
                </a:lnTo>
                <a:lnTo>
                  <a:pt x="2145" y="469"/>
                </a:lnTo>
                <a:lnTo>
                  <a:pt x="2138" y="469"/>
                </a:lnTo>
                <a:lnTo>
                  <a:pt x="2131" y="476"/>
                </a:lnTo>
                <a:lnTo>
                  <a:pt x="2124" y="476"/>
                </a:lnTo>
                <a:lnTo>
                  <a:pt x="2117" y="483"/>
                </a:lnTo>
                <a:lnTo>
                  <a:pt x="2110" y="483"/>
                </a:lnTo>
                <a:lnTo>
                  <a:pt x="2103" y="489"/>
                </a:lnTo>
                <a:lnTo>
                  <a:pt x="2096" y="496"/>
                </a:lnTo>
                <a:lnTo>
                  <a:pt x="2090" y="496"/>
                </a:lnTo>
                <a:lnTo>
                  <a:pt x="2083" y="503"/>
                </a:lnTo>
                <a:lnTo>
                  <a:pt x="2076" y="510"/>
                </a:lnTo>
                <a:lnTo>
                  <a:pt x="2076" y="517"/>
                </a:lnTo>
                <a:lnTo>
                  <a:pt x="2069" y="524"/>
                </a:lnTo>
                <a:lnTo>
                  <a:pt x="2069" y="524"/>
                </a:lnTo>
                <a:lnTo>
                  <a:pt x="2062" y="524"/>
                </a:lnTo>
                <a:lnTo>
                  <a:pt x="2055" y="517"/>
                </a:lnTo>
                <a:lnTo>
                  <a:pt x="2055" y="510"/>
                </a:lnTo>
                <a:lnTo>
                  <a:pt x="2055" y="503"/>
                </a:lnTo>
                <a:lnTo>
                  <a:pt x="2055" y="496"/>
                </a:lnTo>
                <a:lnTo>
                  <a:pt x="2062" y="489"/>
                </a:lnTo>
                <a:lnTo>
                  <a:pt x="2062" y="483"/>
                </a:lnTo>
                <a:lnTo>
                  <a:pt x="2069" y="476"/>
                </a:lnTo>
                <a:lnTo>
                  <a:pt x="2069" y="476"/>
                </a:lnTo>
                <a:lnTo>
                  <a:pt x="2062" y="469"/>
                </a:lnTo>
                <a:lnTo>
                  <a:pt x="2048" y="469"/>
                </a:lnTo>
                <a:lnTo>
                  <a:pt x="2041" y="469"/>
                </a:lnTo>
                <a:lnTo>
                  <a:pt x="2034" y="476"/>
                </a:lnTo>
                <a:lnTo>
                  <a:pt x="2027" y="483"/>
                </a:lnTo>
                <a:lnTo>
                  <a:pt x="2027" y="489"/>
                </a:lnTo>
                <a:lnTo>
                  <a:pt x="2027" y="489"/>
                </a:lnTo>
                <a:lnTo>
                  <a:pt x="2027" y="496"/>
                </a:lnTo>
                <a:lnTo>
                  <a:pt x="2027" y="503"/>
                </a:lnTo>
                <a:lnTo>
                  <a:pt x="2021" y="510"/>
                </a:lnTo>
                <a:lnTo>
                  <a:pt x="2021" y="517"/>
                </a:lnTo>
                <a:lnTo>
                  <a:pt x="2021" y="524"/>
                </a:lnTo>
                <a:lnTo>
                  <a:pt x="2021" y="531"/>
                </a:lnTo>
                <a:lnTo>
                  <a:pt x="2021" y="538"/>
                </a:lnTo>
                <a:lnTo>
                  <a:pt x="2014" y="538"/>
                </a:lnTo>
                <a:lnTo>
                  <a:pt x="2014" y="545"/>
                </a:lnTo>
                <a:lnTo>
                  <a:pt x="2014" y="551"/>
                </a:lnTo>
                <a:lnTo>
                  <a:pt x="2014" y="558"/>
                </a:lnTo>
                <a:lnTo>
                  <a:pt x="2007" y="565"/>
                </a:lnTo>
                <a:lnTo>
                  <a:pt x="2007" y="572"/>
                </a:lnTo>
                <a:lnTo>
                  <a:pt x="2007" y="579"/>
                </a:lnTo>
                <a:lnTo>
                  <a:pt x="2000" y="579"/>
                </a:lnTo>
                <a:lnTo>
                  <a:pt x="2000" y="586"/>
                </a:lnTo>
                <a:lnTo>
                  <a:pt x="2000" y="593"/>
                </a:lnTo>
                <a:lnTo>
                  <a:pt x="2000" y="600"/>
                </a:lnTo>
                <a:lnTo>
                  <a:pt x="1993" y="607"/>
                </a:lnTo>
                <a:lnTo>
                  <a:pt x="1993" y="613"/>
                </a:lnTo>
                <a:lnTo>
                  <a:pt x="1993" y="620"/>
                </a:lnTo>
                <a:lnTo>
                  <a:pt x="1986" y="620"/>
                </a:lnTo>
                <a:lnTo>
                  <a:pt x="1986" y="627"/>
                </a:lnTo>
                <a:lnTo>
                  <a:pt x="1986" y="634"/>
                </a:lnTo>
                <a:lnTo>
                  <a:pt x="1979" y="641"/>
                </a:lnTo>
                <a:lnTo>
                  <a:pt x="1979" y="648"/>
                </a:lnTo>
                <a:lnTo>
                  <a:pt x="1979" y="655"/>
                </a:lnTo>
                <a:lnTo>
                  <a:pt x="1979" y="662"/>
                </a:lnTo>
                <a:lnTo>
                  <a:pt x="1972" y="662"/>
                </a:lnTo>
                <a:lnTo>
                  <a:pt x="1965" y="669"/>
                </a:lnTo>
                <a:lnTo>
                  <a:pt x="1959" y="675"/>
                </a:lnTo>
                <a:lnTo>
                  <a:pt x="1959" y="682"/>
                </a:lnTo>
                <a:lnTo>
                  <a:pt x="1959" y="689"/>
                </a:lnTo>
                <a:lnTo>
                  <a:pt x="1959" y="689"/>
                </a:lnTo>
                <a:lnTo>
                  <a:pt x="1965" y="696"/>
                </a:lnTo>
                <a:lnTo>
                  <a:pt x="1965" y="703"/>
                </a:lnTo>
                <a:lnTo>
                  <a:pt x="1965" y="710"/>
                </a:lnTo>
                <a:lnTo>
                  <a:pt x="1959" y="717"/>
                </a:lnTo>
                <a:lnTo>
                  <a:pt x="1959" y="724"/>
                </a:lnTo>
                <a:lnTo>
                  <a:pt x="1945" y="724"/>
                </a:lnTo>
                <a:lnTo>
                  <a:pt x="1938" y="731"/>
                </a:lnTo>
                <a:lnTo>
                  <a:pt x="1931" y="731"/>
                </a:lnTo>
                <a:lnTo>
                  <a:pt x="1924" y="731"/>
                </a:lnTo>
                <a:lnTo>
                  <a:pt x="1910" y="731"/>
                </a:lnTo>
                <a:lnTo>
                  <a:pt x="1903" y="731"/>
                </a:lnTo>
                <a:lnTo>
                  <a:pt x="1896" y="731"/>
                </a:lnTo>
                <a:lnTo>
                  <a:pt x="1883" y="731"/>
                </a:lnTo>
                <a:lnTo>
                  <a:pt x="1876" y="724"/>
                </a:lnTo>
                <a:lnTo>
                  <a:pt x="1869" y="724"/>
                </a:lnTo>
                <a:lnTo>
                  <a:pt x="1855" y="724"/>
                </a:lnTo>
                <a:lnTo>
                  <a:pt x="1848" y="724"/>
                </a:lnTo>
                <a:lnTo>
                  <a:pt x="1841" y="731"/>
                </a:lnTo>
                <a:lnTo>
                  <a:pt x="1828" y="731"/>
                </a:lnTo>
                <a:lnTo>
                  <a:pt x="1821" y="731"/>
                </a:lnTo>
                <a:lnTo>
                  <a:pt x="1807" y="731"/>
                </a:lnTo>
                <a:lnTo>
                  <a:pt x="1800" y="737"/>
                </a:lnTo>
                <a:lnTo>
                  <a:pt x="1800" y="737"/>
                </a:lnTo>
                <a:lnTo>
                  <a:pt x="1793" y="744"/>
                </a:lnTo>
                <a:lnTo>
                  <a:pt x="1793" y="751"/>
                </a:lnTo>
                <a:lnTo>
                  <a:pt x="1786" y="758"/>
                </a:lnTo>
                <a:lnTo>
                  <a:pt x="1779" y="765"/>
                </a:lnTo>
                <a:lnTo>
                  <a:pt x="1779" y="765"/>
                </a:lnTo>
                <a:lnTo>
                  <a:pt x="1772" y="772"/>
                </a:lnTo>
                <a:lnTo>
                  <a:pt x="1772" y="779"/>
                </a:lnTo>
                <a:lnTo>
                  <a:pt x="1765" y="786"/>
                </a:lnTo>
                <a:lnTo>
                  <a:pt x="1765" y="786"/>
                </a:lnTo>
                <a:lnTo>
                  <a:pt x="1759" y="793"/>
                </a:lnTo>
                <a:lnTo>
                  <a:pt x="1752" y="799"/>
                </a:lnTo>
                <a:lnTo>
                  <a:pt x="1752" y="806"/>
                </a:lnTo>
                <a:lnTo>
                  <a:pt x="1745" y="813"/>
                </a:lnTo>
                <a:lnTo>
                  <a:pt x="1745" y="813"/>
                </a:lnTo>
                <a:lnTo>
                  <a:pt x="1738" y="820"/>
                </a:lnTo>
                <a:lnTo>
                  <a:pt x="1738" y="827"/>
                </a:lnTo>
                <a:lnTo>
                  <a:pt x="1731" y="834"/>
                </a:lnTo>
                <a:lnTo>
                  <a:pt x="1731" y="841"/>
                </a:lnTo>
                <a:lnTo>
                  <a:pt x="1724" y="841"/>
                </a:lnTo>
                <a:lnTo>
                  <a:pt x="1717" y="848"/>
                </a:lnTo>
                <a:lnTo>
                  <a:pt x="1717" y="855"/>
                </a:lnTo>
                <a:lnTo>
                  <a:pt x="1710" y="861"/>
                </a:lnTo>
                <a:lnTo>
                  <a:pt x="1710" y="868"/>
                </a:lnTo>
                <a:lnTo>
                  <a:pt x="1710" y="868"/>
                </a:lnTo>
                <a:lnTo>
                  <a:pt x="1703" y="875"/>
                </a:lnTo>
                <a:lnTo>
                  <a:pt x="1703" y="882"/>
                </a:lnTo>
                <a:lnTo>
                  <a:pt x="1703" y="889"/>
                </a:lnTo>
                <a:lnTo>
                  <a:pt x="1703" y="896"/>
                </a:lnTo>
                <a:lnTo>
                  <a:pt x="1703" y="903"/>
                </a:lnTo>
                <a:lnTo>
                  <a:pt x="1697" y="910"/>
                </a:lnTo>
                <a:lnTo>
                  <a:pt x="1697" y="910"/>
                </a:lnTo>
                <a:lnTo>
                  <a:pt x="1690" y="917"/>
                </a:lnTo>
                <a:lnTo>
                  <a:pt x="1690" y="923"/>
                </a:lnTo>
                <a:lnTo>
                  <a:pt x="1683" y="930"/>
                </a:lnTo>
                <a:lnTo>
                  <a:pt x="1676" y="923"/>
                </a:lnTo>
                <a:lnTo>
                  <a:pt x="1669" y="917"/>
                </a:lnTo>
                <a:lnTo>
                  <a:pt x="1669" y="910"/>
                </a:lnTo>
                <a:lnTo>
                  <a:pt x="1662" y="903"/>
                </a:lnTo>
                <a:lnTo>
                  <a:pt x="1662" y="896"/>
                </a:lnTo>
                <a:lnTo>
                  <a:pt x="1662" y="896"/>
                </a:lnTo>
                <a:lnTo>
                  <a:pt x="1662" y="889"/>
                </a:lnTo>
                <a:lnTo>
                  <a:pt x="1662" y="882"/>
                </a:lnTo>
                <a:lnTo>
                  <a:pt x="1662" y="875"/>
                </a:lnTo>
                <a:lnTo>
                  <a:pt x="1662" y="875"/>
                </a:lnTo>
                <a:lnTo>
                  <a:pt x="1655" y="868"/>
                </a:lnTo>
                <a:lnTo>
                  <a:pt x="1655" y="855"/>
                </a:lnTo>
                <a:lnTo>
                  <a:pt x="1655" y="848"/>
                </a:lnTo>
                <a:lnTo>
                  <a:pt x="1655" y="848"/>
                </a:lnTo>
                <a:lnTo>
                  <a:pt x="1655" y="855"/>
                </a:lnTo>
                <a:lnTo>
                  <a:pt x="1655" y="868"/>
                </a:lnTo>
                <a:lnTo>
                  <a:pt x="1655" y="875"/>
                </a:lnTo>
                <a:lnTo>
                  <a:pt x="1648" y="875"/>
                </a:lnTo>
                <a:lnTo>
                  <a:pt x="1648" y="882"/>
                </a:lnTo>
                <a:lnTo>
                  <a:pt x="1648" y="889"/>
                </a:lnTo>
                <a:lnTo>
                  <a:pt x="1648" y="896"/>
                </a:lnTo>
                <a:lnTo>
                  <a:pt x="1648" y="903"/>
                </a:lnTo>
                <a:lnTo>
                  <a:pt x="1648" y="903"/>
                </a:lnTo>
                <a:lnTo>
                  <a:pt x="1648" y="910"/>
                </a:lnTo>
                <a:lnTo>
                  <a:pt x="1648" y="917"/>
                </a:lnTo>
                <a:lnTo>
                  <a:pt x="1648" y="923"/>
                </a:lnTo>
                <a:lnTo>
                  <a:pt x="1648" y="930"/>
                </a:lnTo>
                <a:lnTo>
                  <a:pt x="1655" y="937"/>
                </a:lnTo>
                <a:lnTo>
                  <a:pt x="1648" y="944"/>
                </a:lnTo>
                <a:lnTo>
                  <a:pt x="1648" y="951"/>
                </a:lnTo>
                <a:lnTo>
                  <a:pt x="1641" y="951"/>
                </a:lnTo>
                <a:lnTo>
                  <a:pt x="1634" y="958"/>
                </a:lnTo>
                <a:lnTo>
                  <a:pt x="1621" y="958"/>
                </a:lnTo>
                <a:lnTo>
                  <a:pt x="1614" y="951"/>
                </a:lnTo>
                <a:lnTo>
                  <a:pt x="1600" y="951"/>
                </a:lnTo>
                <a:lnTo>
                  <a:pt x="1593" y="951"/>
                </a:lnTo>
                <a:lnTo>
                  <a:pt x="1586" y="951"/>
                </a:lnTo>
                <a:lnTo>
                  <a:pt x="1579" y="951"/>
                </a:lnTo>
                <a:lnTo>
                  <a:pt x="1566" y="958"/>
                </a:lnTo>
                <a:lnTo>
                  <a:pt x="1559" y="958"/>
                </a:lnTo>
                <a:lnTo>
                  <a:pt x="1552" y="965"/>
                </a:lnTo>
                <a:lnTo>
                  <a:pt x="1545" y="965"/>
                </a:lnTo>
                <a:lnTo>
                  <a:pt x="1538" y="972"/>
                </a:lnTo>
                <a:lnTo>
                  <a:pt x="1531" y="972"/>
                </a:lnTo>
                <a:lnTo>
                  <a:pt x="1524" y="979"/>
                </a:lnTo>
                <a:lnTo>
                  <a:pt x="1517" y="985"/>
                </a:lnTo>
                <a:lnTo>
                  <a:pt x="1517" y="985"/>
                </a:lnTo>
                <a:lnTo>
                  <a:pt x="1510" y="992"/>
                </a:lnTo>
                <a:lnTo>
                  <a:pt x="1510" y="999"/>
                </a:lnTo>
                <a:lnTo>
                  <a:pt x="1510" y="1006"/>
                </a:lnTo>
                <a:lnTo>
                  <a:pt x="1503" y="1013"/>
                </a:lnTo>
                <a:lnTo>
                  <a:pt x="1497" y="1013"/>
                </a:lnTo>
                <a:lnTo>
                  <a:pt x="1490" y="1013"/>
                </a:lnTo>
                <a:lnTo>
                  <a:pt x="1476" y="1013"/>
                </a:lnTo>
                <a:lnTo>
                  <a:pt x="1469" y="1013"/>
                </a:lnTo>
                <a:lnTo>
                  <a:pt x="1455" y="1013"/>
                </a:lnTo>
                <a:lnTo>
                  <a:pt x="1448" y="1013"/>
                </a:lnTo>
                <a:lnTo>
                  <a:pt x="1448" y="1006"/>
                </a:lnTo>
                <a:lnTo>
                  <a:pt x="1441" y="999"/>
                </a:lnTo>
                <a:lnTo>
                  <a:pt x="1434" y="999"/>
                </a:lnTo>
                <a:lnTo>
                  <a:pt x="1428" y="992"/>
                </a:lnTo>
                <a:lnTo>
                  <a:pt x="1428" y="985"/>
                </a:lnTo>
                <a:lnTo>
                  <a:pt x="1421" y="979"/>
                </a:lnTo>
                <a:lnTo>
                  <a:pt x="1414" y="979"/>
                </a:lnTo>
                <a:lnTo>
                  <a:pt x="1407" y="972"/>
                </a:lnTo>
                <a:lnTo>
                  <a:pt x="1400" y="965"/>
                </a:lnTo>
                <a:lnTo>
                  <a:pt x="1393" y="965"/>
                </a:lnTo>
                <a:lnTo>
                  <a:pt x="1386" y="958"/>
                </a:lnTo>
                <a:lnTo>
                  <a:pt x="1379" y="951"/>
                </a:lnTo>
                <a:lnTo>
                  <a:pt x="1379" y="951"/>
                </a:lnTo>
                <a:lnTo>
                  <a:pt x="1372" y="944"/>
                </a:lnTo>
                <a:lnTo>
                  <a:pt x="1366" y="937"/>
                </a:lnTo>
                <a:lnTo>
                  <a:pt x="1359" y="937"/>
                </a:lnTo>
                <a:lnTo>
                  <a:pt x="1352" y="937"/>
                </a:lnTo>
                <a:lnTo>
                  <a:pt x="1352" y="944"/>
                </a:lnTo>
                <a:lnTo>
                  <a:pt x="1352" y="951"/>
                </a:lnTo>
                <a:lnTo>
                  <a:pt x="1352" y="958"/>
                </a:lnTo>
                <a:lnTo>
                  <a:pt x="1352" y="965"/>
                </a:lnTo>
                <a:lnTo>
                  <a:pt x="1352" y="972"/>
                </a:lnTo>
                <a:lnTo>
                  <a:pt x="1359" y="979"/>
                </a:lnTo>
                <a:lnTo>
                  <a:pt x="1359" y="979"/>
                </a:lnTo>
                <a:lnTo>
                  <a:pt x="1366" y="985"/>
                </a:lnTo>
                <a:lnTo>
                  <a:pt x="1366" y="992"/>
                </a:lnTo>
                <a:lnTo>
                  <a:pt x="1372" y="999"/>
                </a:lnTo>
                <a:lnTo>
                  <a:pt x="1372" y="1006"/>
                </a:lnTo>
                <a:lnTo>
                  <a:pt x="1379" y="1006"/>
                </a:lnTo>
                <a:lnTo>
                  <a:pt x="1379" y="1013"/>
                </a:lnTo>
                <a:lnTo>
                  <a:pt x="1386" y="1020"/>
                </a:lnTo>
                <a:lnTo>
                  <a:pt x="1393" y="1027"/>
                </a:lnTo>
                <a:lnTo>
                  <a:pt x="1393" y="1034"/>
                </a:lnTo>
                <a:lnTo>
                  <a:pt x="1400" y="1034"/>
                </a:lnTo>
                <a:lnTo>
                  <a:pt x="1400" y="1041"/>
                </a:lnTo>
                <a:lnTo>
                  <a:pt x="1407" y="1047"/>
                </a:lnTo>
                <a:lnTo>
                  <a:pt x="1407" y="1054"/>
                </a:lnTo>
                <a:lnTo>
                  <a:pt x="1407" y="1061"/>
                </a:lnTo>
                <a:lnTo>
                  <a:pt x="1407" y="1068"/>
                </a:lnTo>
                <a:lnTo>
                  <a:pt x="1414" y="1068"/>
                </a:lnTo>
                <a:lnTo>
                  <a:pt x="1421" y="1075"/>
                </a:lnTo>
                <a:lnTo>
                  <a:pt x="1421" y="1082"/>
                </a:lnTo>
                <a:lnTo>
                  <a:pt x="1428" y="1089"/>
                </a:lnTo>
                <a:lnTo>
                  <a:pt x="1428" y="1096"/>
                </a:lnTo>
                <a:lnTo>
                  <a:pt x="1434" y="1096"/>
                </a:lnTo>
                <a:lnTo>
                  <a:pt x="1434" y="1103"/>
                </a:lnTo>
                <a:lnTo>
                  <a:pt x="1441" y="1109"/>
                </a:lnTo>
                <a:lnTo>
                  <a:pt x="1441" y="1116"/>
                </a:lnTo>
                <a:lnTo>
                  <a:pt x="1448" y="1123"/>
                </a:lnTo>
                <a:lnTo>
                  <a:pt x="1455" y="1123"/>
                </a:lnTo>
                <a:lnTo>
                  <a:pt x="1455" y="1130"/>
                </a:lnTo>
                <a:lnTo>
                  <a:pt x="1455" y="1137"/>
                </a:lnTo>
                <a:lnTo>
                  <a:pt x="1455" y="1144"/>
                </a:lnTo>
                <a:lnTo>
                  <a:pt x="1448" y="1151"/>
                </a:lnTo>
                <a:lnTo>
                  <a:pt x="1448" y="1158"/>
                </a:lnTo>
                <a:lnTo>
                  <a:pt x="1441" y="1158"/>
                </a:lnTo>
                <a:lnTo>
                  <a:pt x="1434" y="1165"/>
                </a:lnTo>
                <a:lnTo>
                  <a:pt x="1428" y="1171"/>
                </a:lnTo>
                <a:lnTo>
                  <a:pt x="1421" y="1171"/>
                </a:lnTo>
                <a:lnTo>
                  <a:pt x="1414" y="1178"/>
                </a:lnTo>
                <a:lnTo>
                  <a:pt x="1407" y="1178"/>
                </a:lnTo>
                <a:lnTo>
                  <a:pt x="1400" y="1185"/>
                </a:lnTo>
                <a:lnTo>
                  <a:pt x="1393" y="1192"/>
                </a:lnTo>
                <a:lnTo>
                  <a:pt x="1386" y="1192"/>
                </a:lnTo>
                <a:lnTo>
                  <a:pt x="1379" y="1192"/>
                </a:lnTo>
                <a:lnTo>
                  <a:pt x="1366" y="1199"/>
                </a:lnTo>
                <a:lnTo>
                  <a:pt x="1359" y="1199"/>
                </a:lnTo>
                <a:lnTo>
                  <a:pt x="1352" y="1199"/>
                </a:lnTo>
                <a:lnTo>
                  <a:pt x="1338" y="1199"/>
                </a:lnTo>
                <a:lnTo>
                  <a:pt x="1331" y="1199"/>
                </a:lnTo>
                <a:lnTo>
                  <a:pt x="1324" y="1199"/>
                </a:lnTo>
                <a:lnTo>
                  <a:pt x="1310" y="1199"/>
                </a:lnTo>
                <a:lnTo>
                  <a:pt x="1303" y="1199"/>
                </a:lnTo>
                <a:lnTo>
                  <a:pt x="1297" y="1199"/>
                </a:lnTo>
                <a:lnTo>
                  <a:pt x="1283" y="1199"/>
                </a:lnTo>
                <a:lnTo>
                  <a:pt x="1276" y="1206"/>
                </a:lnTo>
                <a:lnTo>
                  <a:pt x="1269" y="1206"/>
                </a:lnTo>
                <a:lnTo>
                  <a:pt x="1262" y="1213"/>
                </a:lnTo>
                <a:lnTo>
                  <a:pt x="1262" y="1220"/>
                </a:lnTo>
                <a:lnTo>
                  <a:pt x="1262" y="1227"/>
                </a:lnTo>
                <a:lnTo>
                  <a:pt x="1262" y="1233"/>
                </a:lnTo>
                <a:lnTo>
                  <a:pt x="1262" y="1240"/>
                </a:lnTo>
                <a:lnTo>
                  <a:pt x="1262" y="1240"/>
                </a:lnTo>
                <a:lnTo>
                  <a:pt x="1255" y="1247"/>
                </a:lnTo>
                <a:lnTo>
                  <a:pt x="1255" y="1254"/>
                </a:lnTo>
                <a:lnTo>
                  <a:pt x="1255" y="1261"/>
                </a:lnTo>
                <a:lnTo>
                  <a:pt x="1248" y="1268"/>
                </a:lnTo>
                <a:lnTo>
                  <a:pt x="1248" y="1275"/>
                </a:lnTo>
                <a:lnTo>
                  <a:pt x="1248" y="1282"/>
                </a:lnTo>
                <a:lnTo>
                  <a:pt x="1241" y="1289"/>
                </a:lnTo>
                <a:lnTo>
                  <a:pt x="1241" y="1289"/>
                </a:lnTo>
                <a:lnTo>
                  <a:pt x="1235" y="1289"/>
                </a:lnTo>
                <a:lnTo>
                  <a:pt x="1228" y="1289"/>
                </a:lnTo>
                <a:lnTo>
                  <a:pt x="1214" y="1282"/>
                </a:lnTo>
                <a:lnTo>
                  <a:pt x="1207" y="1282"/>
                </a:lnTo>
                <a:lnTo>
                  <a:pt x="1200" y="1282"/>
                </a:lnTo>
                <a:lnTo>
                  <a:pt x="1186" y="1282"/>
                </a:lnTo>
                <a:lnTo>
                  <a:pt x="1179" y="1282"/>
                </a:lnTo>
                <a:lnTo>
                  <a:pt x="1172" y="1282"/>
                </a:lnTo>
                <a:lnTo>
                  <a:pt x="1159" y="1282"/>
                </a:lnTo>
                <a:lnTo>
                  <a:pt x="1152" y="1282"/>
                </a:lnTo>
                <a:lnTo>
                  <a:pt x="1145" y="1289"/>
                </a:lnTo>
                <a:lnTo>
                  <a:pt x="1131" y="1289"/>
                </a:lnTo>
                <a:lnTo>
                  <a:pt x="1124" y="1289"/>
                </a:lnTo>
                <a:lnTo>
                  <a:pt x="1117" y="1295"/>
                </a:lnTo>
                <a:lnTo>
                  <a:pt x="1117" y="1295"/>
                </a:lnTo>
                <a:lnTo>
                  <a:pt x="1117" y="1302"/>
                </a:lnTo>
                <a:lnTo>
                  <a:pt x="1117" y="1309"/>
                </a:lnTo>
                <a:lnTo>
                  <a:pt x="1124" y="1316"/>
                </a:lnTo>
                <a:lnTo>
                  <a:pt x="1124" y="1323"/>
                </a:lnTo>
                <a:lnTo>
                  <a:pt x="1131" y="1330"/>
                </a:lnTo>
                <a:lnTo>
                  <a:pt x="1131" y="1330"/>
                </a:lnTo>
                <a:lnTo>
                  <a:pt x="1131" y="1337"/>
                </a:lnTo>
                <a:lnTo>
                  <a:pt x="1138" y="1344"/>
                </a:lnTo>
                <a:lnTo>
                  <a:pt x="1145" y="1351"/>
                </a:lnTo>
                <a:lnTo>
                  <a:pt x="1145" y="1357"/>
                </a:lnTo>
                <a:lnTo>
                  <a:pt x="1152" y="1357"/>
                </a:lnTo>
                <a:lnTo>
                  <a:pt x="1152" y="1364"/>
                </a:lnTo>
                <a:lnTo>
                  <a:pt x="1145" y="1364"/>
                </a:lnTo>
                <a:lnTo>
                  <a:pt x="1138" y="1357"/>
                </a:lnTo>
                <a:lnTo>
                  <a:pt x="1131" y="1357"/>
                </a:lnTo>
                <a:lnTo>
                  <a:pt x="1131" y="1351"/>
                </a:lnTo>
                <a:lnTo>
                  <a:pt x="1124" y="1344"/>
                </a:lnTo>
                <a:lnTo>
                  <a:pt x="1117" y="1344"/>
                </a:lnTo>
                <a:lnTo>
                  <a:pt x="1110" y="1337"/>
                </a:lnTo>
                <a:lnTo>
                  <a:pt x="1104" y="1337"/>
                </a:lnTo>
                <a:lnTo>
                  <a:pt x="1097" y="1330"/>
                </a:lnTo>
                <a:lnTo>
                  <a:pt x="1090" y="1323"/>
                </a:lnTo>
                <a:lnTo>
                  <a:pt x="1083" y="1323"/>
                </a:lnTo>
                <a:lnTo>
                  <a:pt x="1076" y="1316"/>
                </a:lnTo>
                <a:lnTo>
                  <a:pt x="1069" y="1316"/>
                </a:lnTo>
                <a:lnTo>
                  <a:pt x="1062" y="1309"/>
                </a:lnTo>
                <a:lnTo>
                  <a:pt x="1048" y="1309"/>
                </a:lnTo>
                <a:lnTo>
                  <a:pt x="1041" y="1309"/>
                </a:lnTo>
                <a:lnTo>
                  <a:pt x="1035" y="1302"/>
                </a:lnTo>
                <a:lnTo>
                  <a:pt x="1028" y="1302"/>
                </a:lnTo>
                <a:lnTo>
                  <a:pt x="1014" y="1302"/>
                </a:lnTo>
                <a:lnTo>
                  <a:pt x="1007" y="1295"/>
                </a:lnTo>
                <a:lnTo>
                  <a:pt x="1000" y="1295"/>
                </a:lnTo>
                <a:lnTo>
                  <a:pt x="993" y="1295"/>
                </a:lnTo>
                <a:lnTo>
                  <a:pt x="979" y="1289"/>
                </a:lnTo>
                <a:lnTo>
                  <a:pt x="973" y="1289"/>
                </a:lnTo>
                <a:lnTo>
                  <a:pt x="966" y="1289"/>
                </a:lnTo>
                <a:lnTo>
                  <a:pt x="959" y="1282"/>
                </a:lnTo>
                <a:lnTo>
                  <a:pt x="945" y="1282"/>
                </a:lnTo>
                <a:lnTo>
                  <a:pt x="938" y="1282"/>
                </a:lnTo>
                <a:lnTo>
                  <a:pt x="931" y="1275"/>
                </a:lnTo>
                <a:lnTo>
                  <a:pt x="924" y="1275"/>
                </a:lnTo>
                <a:lnTo>
                  <a:pt x="910" y="1275"/>
                </a:lnTo>
                <a:lnTo>
                  <a:pt x="904" y="1268"/>
                </a:lnTo>
                <a:lnTo>
                  <a:pt x="897" y="1268"/>
                </a:lnTo>
                <a:lnTo>
                  <a:pt x="890" y="1268"/>
                </a:lnTo>
                <a:lnTo>
                  <a:pt x="876" y="1268"/>
                </a:lnTo>
                <a:lnTo>
                  <a:pt x="869" y="1261"/>
                </a:lnTo>
                <a:lnTo>
                  <a:pt x="862" y="1261"/>
                </a:lnTo>
                <a:lnTo>
                  <a:pt x="848" y="1261"/>
                </a:lnTo>
                <a:lnTo>
                  <a:pt x="842" y="1261"/>
                </a:lnTo>
                <a:lnTo>
                  <a:pt x="835" y="1261"/>
                </a:lnTo>
                <a:lnTo>
                  <a:pt x="821" y="1261"/>
                </a:lnTo>
                <a:lnTo>
                  <a:pt x="814" y="1261"/>
                </a:lnTo>
                <a:lnTo>
                  <a:pt x="807" y="1261"/>
                </a:lnTo>
                <a:lnTo>
                  <a:pt x="800" y="1261"/>
                </a:lnTo>
                <a:lnTo>
                  <a:pt x="793" y="1268"/>
                </a:lnTo>
                <a:lnTo>
                  <a:pt x="786" y="1275"/>
                </a:lnTo>
                <a:lnTo>
                  <a:pt x="786" y="1282"/>
                </a:lnTo>
                <a:lnTo>
                  <a:pt x="779" y="1289"/>
                </a:lnTo>
                <a:lnTo>
                  <a:pt x="773" y="1289"/>
                </a:lnTo>
                <a:lnTo>
                  <a:pt x="773" y="1295"/>
                </a:lnTo>
                <a:lnTo>
                  <a:pt x="766" y="1302"/>
                </a:lnTo>
                <a:lnTo>
                  <a:pt x="766" y="1309"/>
                </a:lnTo>
                <a:lnTo>
                  <a:pt x="766" y="1316"/>
                </a:lnTo>
                <a:lnTo>
                  <a:pt x="766" y="1316"/>
                </a:lnTo>
                <a:lnTo>
                  <a:pt x="766" y="1323"/>
                </a:lnTo>
                <a:lnTo>
                  <a:pt x="766" y="1330"/>
                </a:lnTo>
                <a:lnTo>
                  <a:pt x="766" y="1337"/>
                </a:lnTo>
                <a:lnTo>
                  <a:pt x="759" y="1344"/>
                </a:lnTo>
                <a:lnTo>
                  <a:pt x="759" y="1351"/>
                </a:lnTo>
                <a:lnTo>
                  <a:pt x="759" y="1357"/>
                </a:lnTo>
                <a:lnTo>
                  <a:pt x="759" y="1364"/>
                </a:lnTo>
                <a:lnTo>
                  <a:pt x="759" y="1364"/>
                </a:lnTo>
                <a:lnTo>
                  <a:pt x="759" y="1371"/>
                </a:lnTo>
                <a:lnTo>
                  <a:pt x="759" y="1378"/>
                </a:lnTo>
                <a:lnTo>
                  <a:pt x="752" y="1385"/>
                </a:lnTo>
                <a:lnTo>
                  <a:pt x="752" y="1392"/>
                </a:lnTo>
                <a:lnTo>
                  <a:pt x="752" y="1399"/>
                </a:lnTo>
                <a:lnTo>
                  <a:pt x="752" y="1406"/>
                </a:lnTo>
                <a:lnTo>
                  <a:pt x="752" y="1413"/>
                </a:lnTo>
                <a:lnTo>
                  <a:pt x="752" y="1413"/>
                </a:lnTo>
                <a:lnTo>
                  <a:pt x="752" y="1419"/>
                </a:lnTo>
                <a:lnTo>
                  <a:pt x="752" y="1426"/>
                </a:lnTo>
                <a:lnTo>
                  <a:pt x="745" y="1433"/>
                </a:lnTo>
                <a:lnTo>
                  <a:pt x="745" y="1440"/>
                </a:lnTo>
                <a:lnTo>
                  <a:pt x="745" y="1447"/>
                </a:lnTo>
                <a:lnTo>
                  <a:pt x="745" y="1454"/>
                </a:lnTo>
                <a:lnTo>
                  <a:pt x="745" y="1454"/>
                </a:lnTo>
                <a:lnTo>
                  <a:pt x="745" y="1461"/>
                </a:lnTo>
                <a:lnTo>
                  <a:pt x="745" y="1468"/>
                </a:lnTo>
                <a:lnTo>
                  <a:pt x="738" y="1475"/>
                </a:lnTo>
                <a:lnTo>
                  <a:pt x="738" y="1481"/>
                </a:lnTo>
                <a:lnTo>
                  <a:pt x="738" y="1488"/>
                </a:lnTo>
                <a:lnTo>
                  <a:pt x="738" y="1495"/>
                </a:lnTo>
                <a:lnTo>
                  <a:pt x="738" y="1502"/>
                </a:lnTo>
                <a:lnTo>
                  <a:pt x="738" y="1502"/>
                </a:lnTo>
                <a:lnTo>
                  <a:pt x="738" y="1509"/>
                </a:lnTo>
                <a:lnTo>
                  <a:pt x="738" y="1516"/>
                </a:lnTo>
                <a:lnTo>
                  <a:pt x="766" y="1543"/>
                </a:lnTo>
                <a:lnTo>
                  <a:pt x="793" y="1571"/>
                </a:lnTo>
                <a:lnTo>
                  <a:pt x="828" y="1599"/>
                </a:lnTo>
                <a:lnTo>
                  <a:pt x="855" y="1633"/>
                </a:lnTo>
                <a:lnTo>
                  <a:pt x="883" y="1633"/>
                </a:lnTo>
                <a:lnTo>
                  <a:pt x="917" y="1660"/>
                </a:lnTo>
                <a:lnTo>
                  <a:pt x="945" y="1688"/>
                </a:lnTo>
                <a:lnTo>
                  <a:pt x="973" y="1722"/>
                </a:lnTo>
                <a:lnTo>
                  <a:pt x="1000" y="1750"/>
                </a:lnTo>
                <a:lnTo>
                  <a:pt x="1035" y="1778"/>
                </a:lnTo>
                <a:lnTo>
                  <a:pt x="1062" y="1812"/>
                </a:lnTo>
                <a:lnTo>
                  <a:pt x="1090" y="1840"/>
                </a:lnTo>
                <a:lnTo>
                  <a:pt x="1124" y="1840"/>
                </a:lnTo>
                <a:lnTo>
                  <a:pt x="1152" y="1840"/>
                </a:lnTo>
                <a:lnTo>
                  <a:pt x="1179" y="1840"/>
                </a:lnTo>
                <a:lnTo>
                  <a:pt x="1207" y="1840"/>
                </a:lnTo>
                <a:lnTo>
                  <a:pt x="1241" y="1840"/>
                </a:lnTo>
                <a:lnTo>
                  <a:pt x="1269" y="1840"/>
                </a:lnTo>
                <a:lnTo>
                  <a:pt x="1297" y="1840"/>
                </a:lnTo>
                <a:lnTo>
                  <a:pt x="1331" y="1840"/>
                </a:lnTo>
                <a:lnTo>
                  <a:pt x="1359" y="1840"/>
                </a:lnTo>
                <a:lnTo>
                  <a:pt x="1386" y="1840"/>
                </a:lnTo>
                <a:lnTo>
                  <a:pt x="1414" y="1840"/>
                </a:lnTo>
                <a:lnTo>
                  <a:pt x="1448" y="1840"/>
                </a:lnTo>
                <a:lnTo>
                  <a:pt x="1476" y="1840"/>
                </a:lnTo>
                <a:lnTo>
                  <a:pt x="1503" y="1840"/>
                </a:lnTo>
                <a:lnTo>
                  <a:pt x="1538" y="1840"/>
                </a:lnTo>
                <a:lnTo>
                  <a:pt x="1566" y="1840"/>
                </a:lnTo>
                <a:lnTo>
                  <a:pt x="1593" y="1840"/>
                </a:lnTo>
                <a:lnTo>
                  <a:pt x="1621" y="1840"/>
                </a:lnTo>
                <a:lnTo>
                  <a:pt x="1655" y="1840"/>
                </a:lnTo>
                <a:lnTo>
                  <a:pt x="1683" y="1840"/>
                </a:lnTo>
                <a:lnTo>
                  <a:pt x="1710" y="1840"/>
                </a:lnTo>
                <a:lnTo>
                  <a:pt x="1745" y="1840"/>
                </a:lnTo>
                <a:lnTo>
                  <a:pt x="1772" y="1840"/>
                </a:lnTo>
                <a:lnTo>
                  <a:pt x="1800" y="1840"/>
                </a:lnTo>
                <a:lnTo>
                  <a:pt x="1828" y="1840"/>
                </a:lnTo>
                <a:lnTo>
                  <a:pt x="1862" y="1840"/>
                </a:lnTo>
                <a:lnTo>
                  <a:pt x="1890" y="1840"/>
                </a:lnTo>
                <a:lnTo>
                  <a:pt x="1917" y="1840"/>
                </a:lnTo>
                <a:lnTo>
                  <a:pt x="1952" y="1840"/>
                </a:lnTo>
                <a:lnTo>
                  <a:pt x="1979" y="1840"/>
                </a:lnTo>
                <a:lnTo>
                  <a:pt x="2007" y="1840"/>
                </a:lnTo>
                <a:lnTo>
                  <a:pt x="2034" y="1840"/>
                </a:lnTo>
                <a:lnTo>
                  <a:pt x="2069" y="1840"/>
                </a:lnTo>
                <a:lnTo>
                  <a:pt x="2096" y="1840"/>
                </a:lnTo>
                <a:lnTo>
                  <a:pt x="2124" y="1840"/>
                </a:lnTo>
                <a:lnTo>
                  <a:pt x="2158" y="1840"/>
                </a:lnTo>
                <a:lnTo>
                  <a:pt x="2186" y="1840"/>
                </a:lnTo>
                <a:lnTo>
                  <a:pt x="2214" y="1840"/>
                </a:lnTo>
                <a:lnTo>
                  <a:pt x="2241" y="1840"/>
                </a:lnTo>
                <a:lnTo>
                  <a:pt x="2276" y="1840"/>
                </a:lnTo>
                <a:lnTo>
                  <a:pt x="2303" y="1840"/>
                </a:lnTo>
                <a:lnTo>
                  <a:pt x="2331" y="1840"/>
                </a:lnTo>
                <a:lnTo>
                  <a:pt x="2365" y="1840"/>
                </a:lnTo>
                <a:lnTo>
                  <a:pt x="2393" y="1840"/>
                </a:lnTo>
                <a:lnTo>
                  <a:pt x="2420" y="1840"/>
                </a:lnTo>
                <a:lnTo>
                  <a:pt x="2448" y="1840"/>
                </a:lnTo>
                <a:lnTo>
                  <a:pt x="2483" y="1840"/>
                </a:lnTo>
                <a:close/>
                <a:moveTo>
                  <a:pt x="1324" y="1275"/>
                </a:moveTo>
                <a:lnTo>
                  <a:pt x="1317" y="1268"/>
                </a:lnTo>
                <a:lnTo>
                  <a:pt x="1317" y="1261"/>
                </a:lnTo>
                <a:lnTo>
                  <a:pt x="1317" y="1261"/>
                </a:lnTo>
                <a:lnTo>
                  <a:pt x="1317" y="1254"/>
                </a:lnTo>
                <a:lnTo>
                  <a:pt x="1317" y="1247"/>
                </a:lnTo>
                <a:lnTo>
                  <a:pt x="1317" y="1240"/>
                </a:lnTo>
                <a:lnTo>
                  <a:pt x="1317" y="1233"/>
                </a:lnTo>
                <a:lnTo>
                  <a:pt x="1324" y="1227"/>
                </a:lnTo>
                <a:lnTo>
                  <a:pt x="1331" y="1227"/>
                </a:lnTo>
                <a:lnTo>
                  <a:pt x="1338" y="1233"/>
                </a:lnTo>
                <a:lnTo>
                  <a:pt x="1345" y="1233"/>
                </a:lnTo>
                <a:lnTo>
                  <a:pt x="1352" y="1240"/>
                </a:lnTo>
                <a:lnTo>
                  <a:pt x="1352" y="1247"/>
                </a:lnTo>
                <a:lnTo>
                  <a:pt x="1352" y="1254"/>
                </a:lnTo>
                <a:lnTo>
                  <a:pt x="1352" y="1261"/>
                </a:lnTo>
                <a:lnTo>
                  <a:pt x="1345" y="1261"/>
                </a:lnTo>
                <a:lnTo>
                  <a:pt x="1338" y="1268"/>
                </a:lnTo>
                <a:lnTo>
                  <a:pt x="1331" y="1275"/>
                </a:lnTo>
                <a:lnTo>
                  <a:pt x="1331" y="1282"/>
                </a:lnTo>
                <a:lnTo>
                  <a:pt x="1324" y="1275"/>
                </a:lnTo>
                <a:close/>
                <a:moveTo>
                  <a:pt x="2034" y="951"/>
                </a:moveTo>
                <a:lnTo>
                  <a:pt x="2034" y="944"/>
                </a:lnTo>
                <a:lnTo>
                  <a:pt x="2041" y="937"/>
                </a:lnTo>
                <a:lnTo>
                  <a:pt x="2041" y="930"/>
                </a:lnTo>
                <a:lnTo>
                  <a:pt x="2048" y="923"/>
                </a:lnTo>
                <a:lnTo>
                  <a:pt x="2048" y="917"/>
                </a:lnTo>
                <a:lnTo>
                  <a:pt x="2055" y="917"/>
                </a:lnTo>
                <a:lnTo>
                  <a:pt x="2055" y="910"/>
                </a:lnTo>
                <a:lnTo>
                  <a:pt x="2062" y="903"/>
                </a:lnTo>
                <a:lnTo>
                  <a:pt x="2069" y="896"/>
                </a:lnTo>
                <a:lnTo>
                  <a:pt x="2069" y="889"/>
                </a:lnTo>
                <a:lnTo>
                  <a:pt x="2076" y="882"/>
                </a:lnTo>
                <a:lnTo>
                  <a:pt x="2076" y="875"/>
                </a:lnTo>
                <a:lnTo>
                  <a:pt x="2076" y="868"/>
                </a:lnTo>
                <a:lnTo>
                  <a:pt x="2069" y="868"/>
                </a:lnTo>
                <a:lnTo>
                  <a:pt x="2069" y="861"/>
                </a:lnTo>
                <a:lnTo>
                  <a:pt x="2076" y="855"/>
                </a:lnTo>
                <a:lnTo>
                  <a:pt x="2083" y="848"/>
                </a:lnTo>
                <a:lnTo>
                  <a:pt x="2083" y="848"/>
                </a:lnTo>
                <a:lnTo>
                  <a:pt x="2090" y="841"/>
                </a:lnTo>
                <a:lnTo>
                  <a:pt x="2090" y="834"/>
                </a:lnTo>
                <a:lnTo>
                  <a:pt x="2096" y="827"/>
                </a:lnTo>
                <a:lnTo>
                  <a:pt x="2103" y="820"/>
                </a:lnTo>
                <a:lnTo>
                  <a:pt x="2110" y="820"/>
                </a:lnTo>
                <a:lnTo>
                  <a:pt x="2117" y="813"/>
                </a:lnTo>
                <a:lnTo>
                  <a:pt x="2117" y="806"/>
                </a:lnTo>
                <a:lnTo>
                  <a:pt x="2124" y="799"/>
                </a:lnTo>
                <a:lnTo>
                  <a:pt x="2124" y="793"/>
                </a:lnTo>
                <a:lnTo>
                  <a:pt x="2124" y="786"/>
                </a:lnTo>
                <a:lnTo>
                  <a:pt x="2124" y="779"/>
                </a:lnTo>
                <a:lnTo>
                  <a:pt x="2124" y="772"/>
                </a:lnTo>
                <a:lnTo>
                  <a:pt x="2124" y="765"/>
                </a:lnTo>
                <a:lnTo>
                  <a:pt x="2124" y="758"/>
                </a:lnTo>
                <a:lnTo>
                  <a:pt x="2124" y="758"/>
                </a:lnTo>
                <a:lnTo>
                  <a:pt x="2131" y="751"/>
                </a:lnTo>
                <a:lnTo>
                  <a:pt x="2131" y="744"/>
                </a:lnTo>
                <a:lnTo>
                  <a:pt x="2131" y="737"/>
                </a:lnTo>
                <a:lnTo>
                  <a:pt x="2138" y="731"/>
                </a:lnTo>
                <a:lnTo>
                  <a:pt x="2138" y="724"/>
                </a:lnTo>
                <a:lnTo>
                  <a:pt x="2145" y="717"/>
                </a:lnTo>
                <a:lnTo>
                  <a:pt x="2145" y="710"/>
                </a:lnTo>
                <a:lnTo>
                  <a:pt x="2145" y="703"/>
                </a:lnTo>
                <a:lnTo>
                  <a:pt x="2145" y="696"/>
                </a:lnTo>
                <a:lnTo>
                  <a:pt x="2152" y="696"/>
                </a:lnTo>
                <a:lnTo>
                  <a:pt x="2152" y="689"/>
                </a:lnTo>
                <a:lnTo>
                  <a:pt x="2158" y="682"/>
                </a:lnTo>
                <a:lnTo>
                  <a:pt x="2165" y="675"/>
                </a:lnTo>
                <a:lnTo>
                  <a:pt x="2172" y="669"/>
                </a:lnTo>
                <a:lnTo>
                  <a:pt x="2172" y="669"/>
                </a:lnTo>
                <a:lnTo>
                  <a:pt x="2179" y="662"/>
                </a:lnTo>
                <a:lnTo>
                  <a:pt x="2179" y="655"/>
                </a:lnTo>
                <a:lnTo>
                  <a:pt x="2179" y="648"/>
                </a:lnTo>
                <a:lnTo>
                  <a:pt x="2179" y="641"/>
                </a:lnTo>
                <a:lnTo>
                  <a:pt x="2179" y="634"/>
                </a:lnTo>
                <a:lnTo>
                  <a:pt x="2179" y="627"/>
                </a:lnTo>
                <a:lnTo>
                  <a:pt x="2179" y="620"/>
                </a:lnTo>
                <a:lnTo>
                  <a:pt x="2186" y="613"/>
                </a:lnTo>
                <a:lnTo>
                  <a:pt x="2186" y="607"/>
                </a:lnTo>
                <a:lnTo>
                  <a:pt x="2193" y="607"/>
                </a:lnTo>
                <a:lnTo>
                  <a:pt x="2193" y="600"/>
                </a:lnTo>
                <a:lnTo>
                  <a:pt x="2200" y="593"/>
                </a:lnTo>
                <a:lnTo>
                  <a:pt x="2200" y="586"/>
                </a:lnTo>
                <a:lnTo>
                  <a:pt x="2200" y="579"/>
                </a:lnTo>
                <a:lnTo>
                  <a:pt x="2200" y="572"/>
                </a:lnTo>
                <a:lnTo>
                  <a:pt x="2200" y="565"/>
                </a:lnTo>
                <a:lnTo>
                  <a:pt x="2200" y="558"/>
                </a:lnTo>
                <a:lnTo>
                  <a:pt x="2200" y="551"/>
                </a:lnTo>
                <a:lnTo>
                  <a:pt x="2200" y="545"/>
                </a:lnTo>
                <a:lnTo>
                  <a:pt x="2200" y="538"/>
                </a:lnTo>
                <a:lnTo>
                  <a:pt x="2200" y="531"/>
                </a:lnTo>
                <a:lnTo>
                  <a:pt x="2207" y="531"/>
                </a:lnTo>
                <a:lnTo>
                  <a:pt x="2214" y="524"/>
                </a:lnTo>
                <a:lnTo>
                  <a:pt x="2221" y="524"/>
                </a:lnTo>
                <a:lnTo>
                  <a:pt x="2234" y="524"/>
                </a:lnTo>
                <a:lnTo>
                  <a:pt x="2241" y="531"/>
                </a:lnTo>
                <a:lnTo>
                  <a:pt x="2248" y="531"/>
                </a:lnTo>
                <a:lnTo>
                  <a:pt x="2255" y="538"/>
                </a:lnTo>
                <a:lnTo>
                  <a:pt x="2262" y="545"/>
                </a:lnTo>
                <a:lnTo>
                  <a:pt x="2269" y="545"/>
                </a:lnTo>
                <a:lnTo>
                  <a:pt x="2276" y="551"/>
                </a:lnTo>
                <a:lnTo>
                  <a:pt x="2283" y="551"/>
                </a:lnTo>
                <a:lnTo>
                  <a:pt x="2289" y="558"/>
                </a:lnTo>
                <a:lnTo>
                  <a:pt x="2303" y="558"/>
                </a:lnTo>
                <a:lnTo>
                  <a:pt x="2310" y="565"/>
                </a:lnTo>
                <a:lnTo>
                  <a:pt x="2317" y="565"/>
                </a:lnTo>
                <a:lnTo>
                  <a:pt x="2317" y="572"/>
                </a:lnTo>
                <a:lnTo>
                  <a:pt x="2317" y="579"/>
                </a:lnTo>
                <a:lnTo>
                  <a:pt x="2324" y="586"/>
                </a:lnTo>
                <a:lnTo>
                  <a:pt x="2331" y="593"/>
                </a:lnTo>
                <a:lnTo>
                  <a:pt x="2345" y="593"/>
                </a:lnTo>
                <a:lnTo>
                  <a:pt x="2345" y="593"/>
                </a:lnTo>
                <a:lnTo>
                  <a:pt x="2338" y="600"/>
                </a:lnTo>
                <a:lnTo>
                  <a:pt x="2331" y="607"/>
                </a:lnTo>
                <a:lnTo>
                  <a:pt x="2324" y="613"/>
                </a:lnTo>
                <a:lnTo>
                  <a:pt x="2317" y="613"/>
                </a:lnTo>
                <a:lnTo>
                  <a:pt x="2317" y="620"/>
                </a:lnTo>
                <a:lnTo>
                  <a:pt x="2310" y="627"/>
                </a:lnTo>
                <a:lnTo>
                  <a:pt x="2303" y="634"/>
                </a:lnTo>
                <a:lnTo>
                  <a:pt x="2296" y="634"/>
                </a:lnTo>
                <a:lnTo>
                  <a:pt x="2289" y="641"/>
                </a:lnTo>
                <a:lnTo>
                  <a:pt x="2283" y="648"/>
                </a:lnTo>
                <a:lnTo>
                  <a:pt x="2276" y="655"/>
                </a:lnTo>
                <a:lnTo>
                  <a:pt x="2276" y="655"/>
                </a:lnTo>
                <a:lnTo>
                  <a:pt x="2269" y="662"/>
                </a:lnTo>
                <a:lnTo>
                  <a:pt x="2269" y="669"/>
                </a:lnTo>
                <a:lnTo>
                  <a:pt x="2269" y="675"/>
                </a:lnTo>
                <a:lnTo>
                  <a:pt x="2269" y="682"/>
                </a:lnTo>
                <a:lnTo>
                  <a:pt x="2269" y="689"/>
                </a:lnTo>
                <a:lnTo>
                  <a:pt x="2269" y="696"/>
                </a:lnTo>
                <a:lnTo>
                  <a:pt x="2276" y="703"/>
                </a:lnTo>
                <a:lnTo>
                  <a:pt x="2276" y="710"/>
                </a:lnTo>
                <a:lnTo>
                  <a:pt x="2276" y="717"/>
                </a:lnTo>
                <a:lnTo>
                  <a:pt x="2276" y="717"/>
                </a:lnTo>
                <a:lnTo>
                  <a:pt x="2276" y="724"/>
                </a:lnTo>
                <a:lnTo>
                  <a:pt x="2276" y="731"/>
                </a:lnTo>
                <a:lnTo>
                  <a:pt x="2276" y="737"/>
                </a:lnTo>
                <a:lnTo>
                  <a:pt x="2276" y="744"/>
                </a:lnTo>
                <a:lnTo>
                  <a:pt x="2276" y="751"/>
                </a:lnTo>
                <a:lnTo>
                  <a:pt x="2276" y="758"/>
                </a:lnTo>
                <a:lnTo>
                  <a:pt x="2283" y="765"/>
                </a:lnTo>
                <a:lnTo>
                  <a:pt x="2283" y="772"/>
                </a:lnTo>
                <a:lnTo>
                  <a:pt x="2283" y="779"/>
                </a:lnTo>
                <a:lnTo>
                  <a:pt x="2289" y="786"/>
                </a:lnTo>
                <a:lnTo>
                  <a:pt x="2289" y="793"/>
                </a:lnTo>
                <a:lnTo>
                  <a:pt x="2289" y="799"/>
                </a:lnTo>
                <a:lnTo>
                  <a:pt x="2289" y="799"/>
                </a:lnTo>
                <a:lnTo>
                  <a:pt x="2289" y="806"/>
                </a:lnTo>
                <a:lnTo>
                  <a:pt x="2283" y="813"/>
                </a:lnTo>
                <a:lnTo>
                  <a:pt x="2283" y="820"/>
                </a:lnTo>
                <a:lnTo>
                  <a:pt x="2283" y="827"/>
                </a:lnTo>
                <a:lnTo>
                  <a:pt x="2283" y="834"/>
                </a:lnTo>
                <a:lnTo>
                  <a:pt x="2283" y="841"/>
                </a:lnTo>
                <a:lnTo>
                  <a:pt x="2283" y="848"/>
                </a:lnTo>
                <a:lnTo>
                  <a:pt x="2283" y="855"/>
                </a:lnTo>
                <a:lnTo>
                  <a:pt x="2276" y="861"/>
                </a:lnTo>
                <a:lnTo>
                  <a:pt x="2269" y="861"/>
                </a:lnTo>
                <a:lnTo>
                  <a:pt x="2269" y="868"/>
                </a:lnTo>
                <a:lnTo>
                  <a:pt x="2262" y="875"/>
                </a:lnTo>
                <a:lnTo>
                  <a:pt x="2262" y="882"/>
                </a:lnTo>
                <a:lnTo>
                  <a:pt x="2262" y="889"/>
                </a:lnTo>
                <a:lnTo>
                  <a:pt x="2262" y="896"/>
                </a:lnTo>
                <a:lnTo>
                  <a:pt x="2262" y="903"/>
                </a:lnTo>
                <a:lnTo>
                  <a:pt x="2262" y="910"/>
                </a:lnTo>
                <a:lnTo>
                  <a:pt x="2262" y="917"/>
                </a:lnTo>
                <a:lnTo>
                  <a:pt x="2262" y="923"/>
                </a:lnTo>
                <a:lnTo>
                  <a:pt x="2255" y="930"/>
                </a:lnTo>
                <a:lnTo>
                  <a:pt x="2255" y="937"/>
                </a:lnTo>
                <a:lnTo>
                  <a:pt x="2248" y="944"/>
                </a:lnTo>
                <a:lnTo>
                  <a:pt x="2241" y="944"/>
                </a:lnTo>
                <a:lnTo>
                  <a:pt x="2234" y="944"/>
                </a:lnTo>
                <a:lnTo>
                  <a:pt x="2227" y="944"/>
                </a:lnTo>
                <a:lnTo>
                  <a:pt x="2214" y="944"/>
                </a:lnTo>
                <a:lnTo>
                  <a:pt x="2207" y="944"/>
                </a:lnTo>
                <a:lnTo>
                  <a:pt x="2193" y="944"/>
                </a:lnTo>
                <a:lnTo>
                  <a:pt x="2186" y="951"/>
                </a:lnTo>
                <a:lnTo>
                  <a:pt x="2172" y="951"/>
                </a:lnTo>
                <a:lnTo>
                  <a:pt x="2165" y="951"/>
                </a:lnTo>
                <a:lnTo>
                  <a:pt x="2158" y="951"/>
                </a:lnTo>
                <a:lnTo>
                  <a:pt x="2145" y="951"/>
                </a:lnTo>
                <a:lnTo>
                  <a:pt x="2138" y="951"/>
                </a:lnTo>
                <a:lnTo>
                  <a:pt x="2124" y="951"/>
                </a:lnTo>
                <a:lnTo>
                  <a:pt x="2117" y="951"/>
                </a:lnTo>
                <a:lnTo>
                  <a:pt x="2103" y="951"/>
                </a:lnTo>
                <a:lnTo>
                  <a:pt x="2096" y="951"/>
                </a:lnTo>
                <a:lnTo>
                  <a:pt x="2090" y="951"/>
                </a:lnTo>
                <a:lnTo>
                  <a:pt x="2076" y="951"/>
                </a:lnTo>
                <a:lnTo>
                  <a:pt x="2069" y="951"/>
                </a:lnTo>
                <a:lnTo>
                  <a:pt x="2055" y="951"/>
                </a:lnTo>
                <a:lnTo>
                  <a:pt x="2048" y="958"/>
                </a:lnTo>
                <a:lnTo>
                  <a:pt x="2034" y="951"/>
                </a:lnTo>
                <a:lnTo>
                  <a:pt x="2034" y="951"/>
                </a:lnTo>
                <a:close/>
                <a:moveTo>
                  <a:pt x="1338" y="917"/>
                </a:moveTo>
                <a:lnTo>
                  <a:pt x="1338" y="917"/>
                </a:lnTo>
                <a:lnTo>
                  <a:pt x="1338" y="910"/>
                </a:lnTo>
                <a:lnTo>
                  <a:pt x="1338" y="903"/>
                </a:lnTo>
                <a:lnTo>
                  <a:pt x="1338" y="896"/>
                </a:lnTo>
                <a:lnTo>
                  <a:pt x="1338" y="889"/>
                </a:lnTo>
                <a:lnTo>
                  <a:pt x="1338" y="882"/>
                </a:lnTo>
                <a:lnTo>
                  <a:pt x="1345" y="875"/>
                </a:lnTo>
                <a:lnTo>
                  <a:pt x="1345" y="868"/>
                </a:lnTo>
                <a:lnTo>
                  <a:pt x="1345" y="868"/>
                </a:lnTo>
                <a:lnTo>
                  <a:pt x="1338" y="861"/>
                </a:lnTo>
                <a:lnTo>
                  <a:pt x="1331" y="855"/>
                </a:lnTo>
                <a:lnTo>
                  <a:pt x="1331" y="848"/>
                </a:lnTo>
                <a:lnTo>
                  <a:pt x="1324" y="855"/>
                </a:lnTo>
                <a:lnTo>
                  <a:pt x="1317" y="861"/>
                </a:lnTo>
                <a:lnTo>
                  <a:pt x="1317" y="868"/>
                </a:lnTo>
                <a:lnTo>
                  <a:pt x="1310" y="875"/>
                </a:lnTo>
                <a:lnTo>
                  <a:pt x="1310" y="882"/>
                </a:lnTo>
                <a:lnTo>
                  <a:pt x="1303" y="882"/>
                </a:lnTo>
                <a:lnTo>
                  <a:pt x="1303" y="889"/>
                </a:lnTo>
                <a:lnTo>
                  <a:pt x="1303" y="896"/>
                </a:lnTo>
                <a:lnTo>
                  <a:pt x="1310" y="896"/>
                </a:lnTo>
                <a:lnTo>
                  <a:pt x="1317" y="903"/>
                </a:lnTo>
                <a:lnTo>
                  <a:pt x="1317" y="910"/>
                </a:lnTo>
                <a:lnTo>
                  <a:pt x="1324" y="917"/>
                </a:lnTo>
                <a:lnTo>
                  <a:pt x="1331" y="923"/>
                </a:lnTo>
                <a:lnTo>
                  <a:pt x="1338" y="917"/>
                </a:lnTo>
                <a:close/>
                <a:moveTo>
                  <a:pt x="1917" y="917"/>
                </a:moveTo>
                <a:lnTo>
                  <a:pt x="1924" y="917"/>
                </a:lnTo>
                <a:lnTo>
                  <a:pt x="1931" y="917"/>
                </a:lnTo>
                <a:lnTo>
                  <a:pt x="1938" y="917"/>
                </a:lnTo>
                <a:lnTo>
                  <a:pt x="1945" y="917"/>
                </a:lnTo>
                <a:lnTo>
                  <a:pt x="1952" y="917"/>
                </a:lnTo>
                <a:lnTo>
                  <a:pt x="1959" y="910"/>
                </a:lnTo>
                <a:lnTo>
                  <a:pt x="1965" y="910"/>
                </a:lnTo>
                <a:lnTo>
                  <a:pt x="1972" y="910"/>
                </a:lnTo>
                <a:lnTo>
                  <a:pt x="1979" y="910"/>
                </a:lnTo>
                <a:lnTo>
                  <a:pt x="1986" y="903"/>
                </a:lnTo>
                <a:lnTo>
                  <a:pt x="1993" y="903"/>
                </a:lnTo>
                <a:lnTo>
                  <a:pt x="1993" y="896"/>
                </a:lnTo>
                <a:lnTo>
                  <a:pt x="2000" y="896"/>
                </a:lnTo>
                <a:lnTo>
                  <a:pt x="2000" y="889"/>
                </a:lnTo>
                <a:lnTo>
                  <a:pt x="2007" y="882"/>
                </a:lnTo>
                <a:lnTo>
                  <a:pt x="2014" y="882"/>
                </a:lnTo>
                <a:lnTo>
                  <a:pt x="2027" y="889"/>
                </a:lnTo>
                <a:lnTo>
                  <a:pt x="2027" y="889"/>
                </a:lnTo>
                <a:lnTo>
                  <a:pt x="2027" y="889"/>
                </a:lnTo>
                <a:lnTo>
                  <a:pt x="2021" y="896"/>
                </a:lnTo>
                <a:lnTo>
                  <a:pt x="2014" y="896"/>
                </a:lnTo>
                <a:lnTo>
                  <a:pt x="2007" y="903"/>
                </a:lnTo>
                <a:lnTo>
                  <a:pt x="2000" y="903"/>
                </a:lnTo>
                <a:lnTo>
                  <a:pt x="2000" y="910"/>
                </a:lnTo>
                <a:lnTo>
                  <a:pt x="2000" y="917"/>
                </a:lnTo>
                <a:lnTo>
                  <a:pt x="1993" y="917"/>
                </a:lnTo>
                <a:lnTo>
                  <a:pt x="1993" y="923"/>
                </a:lnTo>
                <a:lnTo>
                  <a:pt x="1986" y="930"/>
                </a:lnTo>
                <a:lnTo>
                  <a:pt x="1979" y="930"/>
                </a:lnTo>
                <a:lnTo>
                  <a:pt x="1972" y="930"/>
                </a:lnTo>
                <a:lnTo>
                  <a:pt x="1965" y="930"/>
                </a:lnTo>
                <a:lnTo>
                  <a:pt x="1959" y="930"/>
                </a:lnTo>
                <a:lnTo>
                  <a:pt x="1952" y="930"/>
                </a:lnTo>
                <a:lnTo>
                  <a:pt x="1945" y="923"/>
                </a:lnTo>
                <a:lnTo>
                  <a:pt x="1938" y="923"/>
                </a:lnTo>
                <a:lnTo>
                  <a:pt x="1931" y="923"/>
                </a:lnTo>
                <a:lnTo>
                  <a:pt x="1924" y="923"/>
                </a:lnTo>
                <a:lnTo>
                  <a:pt x="1917" y="917"/>
                </a:lnTo>
                <a:close/>
                <a:moveTo>
                  <a:pt x="449" y="889"/>
                </a:moveTo>
                <a:lnTo>
                  <a:pt x="455" y="882"/>
                </a:lnTo>
                <a:lnTo>
                  <a:pt x="455" y="875"/>
                </a:lnTo>
                <a:lnTo>
                  <a:pt x="462" y="875"/>
                </a:lnTo>
                <a:lnTo>
                  <a:pt x="462" y="868"/>
                </a:lnTo>
                <a:lnTo>
                  <a:pt x="462" y="861"/>
                </a:lnTo>
                <a:lnTo>
                  <a:pt x="462" y="861"/>
                </a:lnTo>
                <a:lnTo>
                  <a:pt x="455" y="855"/>
                </a:lnTo>
                <a:lnTo>
                  <a:pt x="449" y="848"/>
                </a:lnTo>
                <a:lnTo>
                  <a:pt x="442" y="848"/>
                </a:lnTo>
                <a:lnTo>
                  <a:pt x="435" y="848"/>
                </a:lnTo>
                <a:lnTo>
                  <a:pt x="428" y="855"/>
                </a:lnTo>
                <a:lnTo>
                  <a:pt x="421" y="861"/>
                </a:lnTo>
                <a:lnTo>
                  <a:pt x="421" y="861"/>
                </a:lnTo>
                <a:lnTo>
                  <a:pt x="421" y="868"/>
                </a:lnTo>
                <a:lnTo>
                  <a:pt x="421" y="875"/>
                </a:lnTo>
                <a:lnTo>
                  <a:pt x="428" y="882"/>
                </a:lnTo>
                <a:lnTo>
                  <a:pt x="428" y="882"/>
                </a:lnTo>
                <a:lnTo>
                  <a:pt x="435" y="889"/>
                </a:lnTo>
                <a:lnTo>
                  <a:pt x="442" y="896"/>
                </a:lnTo>
                <a:lnTo>
                  <a:pt x="449" y="889"/>
                </a:lnTo>
                <a:close/>
                <a:moveTo>
                  <a:pt x="2096" y="861"/>
                </a:moveTo>
                <a:lnTo>
                  <a:pt x="2096" y="855"/>
                </a:lnTo>
                <a:lnTo>
                  <a:pt x="2096" y="848"/>
                </a:lnTo>
                <a:lnTo>
                  <a:pt x="2096" y="848"/>
                </a:lnTo>
                <a:lnTo>
                  <a:pt x="2096" y="848"/>
                </a:lnTo>
                <a:lnTo>
                  <a:pt x="2090" y="848"/>
                </a:lnTo>
                <a:lnTo>
                  <a:pt x="2083" y="848"/>
                </a:lnTo>
                <a:lnTo>
                  <a:pt x="2076" y="855"/>
                </a:lnTo>
                <a:lnTo>
                  <a:pt x="2076" y="855"/>
                </a:lnTo>
                <a:lnTo>
                  <a:pt x="2069" y="861"/>
                </a:lnTo>
                <a:lnTo>
                  <a:pt x="2076" y="861"/>
                </a:lnTo>
                <a:lnTo>
                  <a:pt x="2083" y="861"/>
                </a:lnTo>
                <a:lnTo>
                  <a:pt x="2090" y="861"/>
                </a:lnTo>
                <a:lnTo>
                  <a:pt x="2096" y="861"/>
                </a:lnTo>
                <a:lnTo>
                  <a:pt x="2096" y="861"/>
                </a:lnTo>
                <a:close/>
                <a:moveTo>
                  <a:pt x="1566" y="827"/>
                </a:moveTo>
                <a:lnTo>
                  <a:pt x="1566" y="820"/>
                </a:lnTo>
                <a:lnTo>
                  <a:pt x="1566" y="813"/>
                </a:lnTo>
                <a:lnTo>
                  <a:pt x="1566" y="806"/>
                </a:lnTo>
                <a:lnTo>
                  <a:pt x="1566" y="806"/>
                </a:lnTo>
                <a:lnTo>
                  <a:pt x="1566" y="813"/>
                </a:lnTo>
                <a:lnTo>
                  <a:pt x="1566" y="820"/>
                </a:lnTo>
                <a:lnTo>
                  <a:pt x="1559" y="827"/>
                </a:lnTo>
                <a:lnTo>
                  <a:pt x="1566" y="841"/>
                </a:lnTo>
                <a:lnTo>
                  <a:pt x="1566" y="848"/>
                </a:lnTo>
                <a:lnTo>
                  <a:pt x="1566" y="855"/>
                </a:lnTo>
                <a:lnTo>
                  <a:pt x="1566" y="855"/>
                </a:lnTo>
                <a:lnTo>
                  <a:pt x="1566" y="848"/>
                </a:lnTo>
                <a:lnTo>
                  <a:pt x="1566" y="841"/>
                </a:lnTo>
                <a:lnTo>
                  <a:pt x="1566" y="827"/>
                </a:lnTo>
                <a:close/>
                <a:moveTo>
                  <a:pt x="1690" y="827"/>
                </a:moveTo>
                <a:lnTo>
                  <a:pt x="1690" y="820"/>
                </a:lnTo>
                <a:lnTo>
                  <a:pt x="1697" y="813"/>
                </a:lnTo>
                <a:lnTo>
                  <a:pt x="1697" y="806"/>
                </a:lnTo>
                <a:lnTo>
                  <a:pt x="1697" y="799"/>
                </a:lnTo>
                <a:lnTo>
                  <a:pt x="1697" y="793"/>
                </a:lnTo>
                <a:lnTo>
                  <a:pt x="1697" y="786"/>
                </a:lnTo>
                <a:lnTo>
                  <a:pt x="1697" y="779"/>
                </a:lnTo>
                <a:lnTo>
                  <a:pt x="1690" y="772"/>
                </a:lnTo>
                <a:lnTo>
                  <a:pt x="1690" y="765"/>
                </a:lnTo>
                <a:lnTo>
                  <a:pt x="1690" y="765"/>
                </a:lnTo>
                <a:lnTo>
                  <a:pt x="1690" y="758"/>
                </a:lnTo>
                <a:lnTo>
                  <a:pt x="1690" y="744"/>
                </a:lnTo>
                <a:lnTo>
                  <a:pt x="1683" y="737"/>
                </a:lnTo>
                <a:lnTo>
                  <a:pt x="1683" y="731"/>
                </a:lnTo>
                <a:lnTo>
                  <a:pt x="1683" y="724"/>
                </a:lnTo>
                <a:lnTo>
                  <a:pt x="1683" y="731"/>
                </a:lnTo>
                <a:lnTo>
                  <a:pt x="1683" y="737"/>
                </a:lnTo>
                <a:lnTo>
                  <a:pt x="1676" y="751"/>
                </a:lnTo>
                <a:lnTo>
                  <a:pt x="1676" y="758"/>
                </a:lnTo>
                <a:lnTo>
                  <a:pt x="1676" y="765"/>
                </a:lnTo>
                <a:lnTo>
                  <a:pt x="1669" y="765"/>
                </a:lnTo>
                <a:lnTo>
                  <a:pt x="1669" y="772"/>
                </a:lnTo>
                <a:lnTo>
                  <a:pt x="1669" y="779"/>
                </a:lnTo>
                <a:lnTo>
                  <a:pt x="1669" y="786"/>
                </a:lnTo>
                <a:lnTo>
                  <a:pt x="1662" y="793"/>
                </a:lnTo>
                <a:lnTo>
                  <a:pt x="1662" y="799"/>
                </a:lnTo>
                <a:lnTo>
                  <a:pt x="1662" y="813"/>
                </a:lnTo>
                <a:lnTo>
                  <a:pt x="1662" y="820"/>
                </a:lnTo>
                <a:lnTo>
                  <a:pt x="1662" y="827"/>
                </a:lnTo>
                <a:lnTo>
                  <a:pt x="1669" y="834"/>
                </a:lnTo>
                <a:lnTo>
                  <a:pt x="1683" y="834"/>
                </a:lnTo>
                <a:lnTo>
                  <a:pt x="1690" y="827"/>
                </a:lnTo>
                <a:close/>
                <a:moveTo>
                  <a:pt x="414" y="772"/>
                </a:moveTo>
                <a:lnTo>
                  <a:pt x="421" y="765"/>
                </a:lnTo>
                <a:lnTo>
                  <a:pt x="428" y="765"/>
                </a:lnTo>
                <a:lnTo>
                  <a:pt x="435" y="758"/>
                </a:lnTo>
                <a:lnTo>
                  <a:pt x="442" y="758"/>
                </a:lnTo>
                <a:lnTo>
                  <a:pt x="449" y="751"/>
                </a:lnTo>
                <a:lnTo>
                  <a:pt x="455" y="744"/>
                </a:lnTo>
                <a:lnTo>
                  <a:pt x="455" y="744"/>
                </a:lnTo>
                <a:lnTo>
                  <a:pt x="469" y="737"/>
                </a:lnTo>
                <a:lnTo>
                  <a:pt x="476" y="737"/>
                </a:lnTo>
                <a:lnTo>
                  <a:pt x="483" y="731"/>
                </a:lnTo>
                <a:lnTo>
                  <a:pt x="483" y="724"/>
                </a:lnTo>
                <a:lnTo>
                  <a:pt x="490" y="724"/>
                </a:lnTo>
                <a:lnTo>
                  <a:pt x="497" y="717"/>
                </a:lnTo>
                <a:lnTo>
                  <a:pt x="497" y="710"/>
                </a:lnTo>
                <a:lnTo>
                  <a:pt x="504" y="703"/>
                </a:lnTo>
                <a:lnTo>
                  <a:pt x="511" y="703"/>
                </a:lnTo>
                <a:lnTo>
                  <a:pt x="511" y="696"/>
                </a:lnTo>
                <a:lnTo>
                  <a:pt x="517" y="689"/>
                </a:lnTo>
                <a:lnTo>
                  <a:pt x="524" y="682"/>
                </a:lnTo>
                <a:lnTo>
                  <a:pt x="524" y="682"/>
                </a:lnTo>
                <a:lnTo>
                  <a:pt x="524" y="675"/>
                </a:lnTo>
                <a:lnTo>
                  <a:pt x="531" y="669"/>
                </a:lnTo>
                <a:lnTo>
                  <a:pt x="538" y="662"/>
                </a:lnTo>
                <a:lnTo>
                  <a:pt x="545" y="662"/>
                </a:lnTo>
                <a:lnTo>
                  <a:pt x="559" y="662"/>
                </a:lnTo>
                <a:lnTo>
                  <a:pt x="566" y="662"/>
                </a:lnTo>
                <a:lnTo>
                  <a:pt x="573" y="669"/>
                </a:lnTo>
                <a:lnTo>
                  <a:pt x="573" y="675"/>
                </a:lnTo>
                <a:lnTo>
                  <a:pt x="580" y="682"/>
                </a:lnTo>
                <a:lnTo>
                  <a:pt x="580" y="689"/>
                </a:lnTo>
                <a:lnTo>
                  <a:pt x="580" y="696"/>
                </a:lnTo>
                <a:lnTo>
                  <a:pt x="580" y="696"/>
                </a:lnTo>
                <a:lnTo>
                  <a:pt x="586" y="703"/>
                </a:lnTo>
                <a:lnTo>
                  <a:pt x="586" y="710"/>
                </a:lnTo>
                <a:lnTo>
                  <a:pt x="586" y="717"/>
                </a:lnTo>
                <a:lnTo>
                  <a:pt x="593" y="717"/>
                </a:lnTo>
                <a:lnTo>
                  <a:pt x="607" y="717"/>
                </a:lnTo>
                <a:lnTo>
                  <a:pt x="614" y="710"/>
                </a:lnTo>
                <a:lnTo>
                  <a:pt x="621" y="703"/>
                </a:lnTo>
                <a:lnTo>
                  <a:pt x="628" y="703"/>
                </a:lnTo>
                <a:lnTo>
                  <a:pt x="628" y="696"/>
                </a:lnTo>
                <a:lnTo>
                  <a:pt x="635" y="689"/>
                </a:lnTo>
                <a:lnTo>
                  <a:pt x="635" y="682"/>
                </a:lnTo>
                <a:lnTo>
                  <a:pt x="635" y="675"/>
                </a:lnTo>
                <a:lnTo>
                  <a:pt x="635" y="669"/>
                </a:lnTo>
                <a:lnTo>
                  <a:pt x="635" y="669"/>
                </a:lnTo>
                <a:lnTo>
                  <a:pt x="635" y="662"/>
                </a:lnTo>
                <a:lnTo>
                  <a:pt x="635" y="655"/>
                </a:lnTo>
                <a:lnTo>
                  <a:pt x="635" y="648"/>
                </a:lnTo>
                <a:lnTo>
                  <a:pt x="635" y="641"/>
                </a:lnTo>
                <a:lnTo>
                  <a:pt x="635" y="634"/>
                </a:lnTo>
                <a:lnTo>
                  <a:pt x="635" y="627"/>
                </a:lnTo>
                <a:lnTo>
                  <a:pt x="635" y="627"/>
                </a:lnTo>
                <a:lnTo>
                  <a:pt x="635" y="620"/>
                </a:lnTo>
                <a:lnTo>
                  <a:pt x="642" y="613"/>
                </a:lnTo>
                <a:lnTo>
                  <a:pt x="642" y="607"/>
                </a:lnTo>
                <a:lnTo>
                  <a:pt x="648" y="600"/>
                </a:lnTo>
                <a:lnTo>
                  <a:pt x="655" y="600"/>
                </a:lnTo>
                <a:lnTo>
                  <a:pt x="655" y="593"/>
                </a:lnTo>
                <a:lnTo>
                  <a:pt x="655" y="586"/>
                </a:lnTo>
                <a:lnTo>
                  <a:pt x="655" y="579"/>
                </a:lnTo>
                <a:lnTo>
                  <a:pt x="655" y="572"/>
                </a:lnTo>
                <a:lnTo>
                  <a:pt x="655" y="565"/>
                </a:lnTo>
                <a:lnTo>
                  <a:pt x="655" y="558"/>
                </a:lnTo>
                <a:lnTo>
                  <a:pt x="648" y="558"/>
                </a:lnTo>
                <a:lnTo>
                  <a:pt x="648" y="551"/>
                </a:lnTo>
                <a:lnTo>
                  <a:pt x="648" y="545"/>
                </a:lnTo>
                <a:lnTo>
                  <a:pt x="648" y="538"/>
                </a:lnTo>
                <a:lnTo>
                  <a:pt x="642" y="531"/>
                </a:lnTo>
                <a:lnTo>
                  <a:pt x="642" y="524"/>
                </a:lnTo>
                <a:lnTo>
                  <a:pt x="642" y="517"/>
                </a:lnTo>
                <a:lnTo>
                  <a:pt x="642" y="517"/>
                </a:lnTo>
                <a:lnTo>
                  <a:pt x="648" y="510"/>
                </a:lnTo>
                <a:lnTo>
                  <a:pt x="655" y="503"/>
                </a:lnTo>
                <a:lnTo>
                  <a:pt x="662" y="503"/>
                </a:lnTo>
                <a:lnTo>
                  <a:pt x="669" y="496"/>
                </a:lnTo>
                <a:lnTo>
                  <a:pt x="669" y="489"/>
                </a:lnTo>
                <a:lnTo>
                  <a:pt x="676" y="483"/>
                </a:lnTo>
                <a:lnTo>
                  <a:pt x="676" y="483"/>
                </a:lnTo>
                <a:lnTo>
                  <a:pt x="676" y="476"/>
                </a:lnTo>
                <a:lnTo>
                  <a:pt x="683" y="469"/>
                </a:lnTo>
                <a:lnTo>
                  <a:pt x="683" y="462"/>
                </a:lnTo>
                <a:lnTo>
                  <a:pt x="697" y="462"/>
                </a:lnTo>
                <a:lnTo>
                  <a:pt x="704" y="455"/>
                </a:lnTo>
                <a:lnTo>
                  <a:pt x="711" y="455"/>
                </a:lnTo>
                <a:lnTo>
                  <a:pt x="711" y="448"/>
                </a:lnTo>
                <a:lnTo>
                  <a:pt x="717" y="441"/>
                </a:lnTo>
                <a:lnTo>
                  <a:pt x="724" y="434"/>
                </a:lnTo>
                <a:lnTo>
                  <a:pt x="731" y="434"/>
                </a:lnTo>
                <a:lnTo>
                  <a:pt x="738" y="427"/>
                </a:lnTo>
                <a:lnTo>
                  <a:pt x="745" y="427"/>
                </a:lnTo>
                <a:lnTo>
                  <a:pt x="745" y="421"/>
                </a:lnTo>
                <a:lnTo>
                  <a:pt x="752" y="414"/>
                </a:lnTo>
                <a:lnTo>
                  <a:pt x="759" y="414"/>
                </a:lnTo>
                <a:lnTo>
                  <a:pt x="766" y="407"/>
                </a:lnTo>
                <a:lnTo>
                  <a:pt x="773" y="400"/>
                </a:lnTo>
                <a:lnTo>
                  <a:pt x="779" y="400"/>
                </a:lnTo>
                <a:lnTo>
                  <a:pt x="786" y="393"/>
                </a:lnTo>
                <a:lnTo>
                  <a:pt x="793" y="386"/>
                </a:lnTo>
                <a:lnTo>
                  <a:pt x="800" y="386"/>
                </a:lnTo>
                <a:lnTo>
                  <a:pt x="800" y="379"/>
                </a:lnTo>
                <a:lnTo>
                  <a:pt x="807" y="372"/>
                </a:lnTo>
                <a:lnTo>
                  <a:pt x="814" y="372"/>
                </a:lnTo>
                <a:lnTo>
                  <a:pt x="821" y="365"/>
                </a:lnTo>
                <a:lnTo>
                  <a:pt x="828" y="359"/>
                </a:lnTo>
                <a:lnTo>
                  <a:pt x="828" y="359"/>
                </a:lnTo>
                <a:lnTo>
                  <a:pt x="835" y="352"/>
                </a:lnTo>
                <a:lnTo>
                  <a:pt x="842" y="345"/>
                </a:lnTo>
                <a:lnTo>
                  <a:pt x="848" y="345"/>
                </a:lnTo>
                <a:lnTo>
                  <a:pt x="855" y="338"/>
                </a:lnTo>
                <a:lnTo>
                  <a:pt x="862" y="331"/>
                </a:lnTo>
                <a:lnTo>
                  <a:pt x="869" y="331"/>
                </a:lnTo>
                <a:lnTo>
                  <a:pt x="869" y="324"/>
                </a:lnTo>
                <a:lnTo>
                  <a:pt x="876" y="317"/>
                </a:lnTo>
                <a:lnTo>
                  <a:pt x="883" y="317"/>
                </a:lnTo>
                <a:lnTo>
                  <a:pt x="890" y="310"/>
                </a:lnTo>
                <a:lnTo>
                  <a:pt x="897" y="310"/>
                </a:lnTo>
                <a:lnTo>
                  <a:pt x="904" y="303"/>
                </a:lnTo>
                <a:lnTo>
                  <a:pt x="917" y="303"/>
                </a:lnTo>
                <a:lnTo>
                  <a:pt x="924" y="303"/>
                </a:lnTo>
                <a:lnTo>
                  <a:pt x="931" y="297"/>
                </a:lnTo>
                <a:lnTo>
                  <a:pt x="938" y="297"/>
                </a:lnTo>
                <a:lnTo>
                  <a:pt x="945" y="290"/>
                </a:lnTo>
                <a:lnTo>
                  <a:pt x="952" y="290"/>
                </a:lnTo>
                <a:lnTo>
                  <a:pt x="959" y="283"/>
                </a:lnTo>
                <a:lnTo>
                  <a:pt x="959" y="276"/>
                </a:lnTo>
                <a:lnTo>
                  <a:pt x="966" y="269"/>
                </a:lnTo>
                <a:lnTo>
                  <a:pt x="973" y="269"/>
                </a:lnTo>
                <a:lnTo>
                  <a:pt x="979" y="262"/>
                </a:lnTo>
                <a:lnTo>
                  <a:pt x="986" y="255"/>
                </a:lnTo>
                <a:lnTo>
                  <a:pt x="986" y="255"/>
                </a:lnTo>
                <a:lnTo>
                  <a:pt x="993" y="248"/>
                </a:lnTo>
                <a:lnTo>
                  <a:pt x="1000" y="241"/>
                </a:lnTo>
                <a:lnTo>
                  <a:pt x="1007" y="241"/>
                </a:lnTo>
                <a:lnTo>
                  <a:pt x="1007" y="235"/>
                </a:lnTo>
                <a:lnTo>
                  <a:pt x="1014" y="228"/>
                </a:lnTo>
                <a:lnTo>
                  <a:pt x="1021" y="221"/>
                </a:lnTo>
                <a:lnTo>
                  <a:pt x="1028" y="221"/>
                </a:lnTo>
                <a:lnTo>
                  <a:pt x="1035" y="214"/>
                </a:lnTo>
                <a:lnTo>
                  <a:pt x="1035" y="207"/>
                </a:lnTo>
                <a:lnTo>
                  <a:pt x="1041" y="207"/>
                </a:lnTo>
                <a:lnTo>
                  <a:pt x="1048" y="200"/>
                </a:lnTo>
                <a:lnTo>
                  <a:pt x="1048" y="193"/>
                </a:lnTo>
                <a:lnTo>
                  <a:pt x="1048" y="186"/>
                </a:lnTo>
                <a:lnTo>
                  <a:pt x="1055" y="179"/>
                </a:lnTo>
                <a:lnTo>
                  <a:pt x="1055" y="173"/>
                </a:lnTo>
                <a:lnTo>
                  <a:pt x="1055" y="173"/>
                </a:lnTo>
                <a:lnTo>
                  <a:pt x="1062" y="166"/>
                </a:lnTo>
                <a:lnTo>
                  <a:pt x="1069" y="159"/>
                </a:lnTo>
                <a:lnTo>
                  <a:pt x="1076" y="159"/>
                </a:lnTo>
                <a:lnTo>
                  <a:pt x="1083" y="159"/>
                </a:lnTo>
                <a:lnTo>
                  <a:pt x="1097" y="159"/>
                </a:lnTo>
                <a:lnTo>
                  <a:pt x="1104" y="152"/>
                </a:lnTo>
                <a:lnTo>
                  <a:pt x="1110" y="152"/>
                </a:lnTo>
                <a:lnTo>
                  <a:pt x="1117" y="152"/>
                </a:lnTo>
                <a:lnTo>
                  <a:pt x="1131" y="145"/>
                </a:lnTo>
                <a:lnTo>
                  <a:pt x="1138" y="145"/>
                </a:lnTo>
                <a:lnTo>
                  <a:pt x="1145" y="138"/>
                </a:lnTo>
                <a:lnTo>
                  <a:pt x="1152" y="138"/>
                </a:lnTo>
                <a:lnTo>
                  <a:pt x="1159" y="131"/>
                </a:lnTo>
                <a:lnTo>
                  <a:pt x="1166" y="131"/>
                </a:lnTo>
                <a:lnTo>
                  <a:pt x="1172" y="131"/>
                </a:lnTo>
                <a:lnTo>
                  <a:pt x="1186" y="124"/>
                </a:lnTo>
                <a:lnTo>
                  <a:pt x="1193" y="124"/>
                </a:lnTo>
                <a:lnTo>
                  <a:pt x="1200" y="124"/>
                </a:lnTo>
                <a:lnTo>
                  <a:pt x="1207" y="124"/>
                </a:lnTo>
                <a:lnTo>
                  <a:pt x="1221" y="124"/>
                </a:lnTo>
                <a:lnTo>
                  <a:pt x="1228" y="117"/>
                </a:lnTo>
                <a:lnTo>
                  <a:pt x="1235" y="117"/>
                </a:lnTo>
                <a:lnTo>
                  <a:pt x="1241" y="111"/>
                </a:lnTo>
                <a:lnTo>
                  <a:pt x="1248" y="104"/>
                </a:lnTo>
                <a:lnTo>
                  <a:pt x="1255" y="104"/>
                </a:lnTo>
                <a:lnTo>
                  <a:pt x="1262" y="97"/>
                </a:lnTo>
                <a:lnTo>
                  <a:pt x="1269" y="97"/>
                </a:lnTo>
                <a:lnTo>
                  <a:pt x="1276" y="97"/>
                </a:lnTo>
                <a:lnTo>
                  <a:pt x="1283" y="90"/>
                </a:lnTo>
                <a:lnTo>
                  <a:pt x="1297" y="90"/>
                </a:lnTo>
                <a:lnTo>
                  <a:pt x="1303" y="90"/>
                </a:lnTo>
                <a:lnTo>
                  <a:pt x="1310" y="83"/>
                </a:lnTo>
                <a:lnTo>
                  <a:pt x="1317" y="83"/>
                </a:lnTo>
                <a:lnTo>
                  <a:pt x="1324" y="76"/>
                </a:lnTo>
                <a:lnTo>
                  <a:pt x="1331" y="69"/>
                </a:lnTo>
                <a:lnTo>
                  <a:pt x="1338" y="69"/>
                </a:lnTo>
                <a:lnTo>
                  <a:pt x="1345" y="62"/>
                </a:lnTo>
                <a:lnTo>
                  <a:pt x="1345" y="62"/>
                </a:lnTo>
                <a:lnTo>
                  <a:pt x="1352" y="55"/>
                </a:lnTo>
                <a:lnTo>
                  <a:pt x="1359" y="49"/>
                </a:lnTo>
                <a:lnTo>
                  <a:pt x="1359" y="42"/>
                </a:lnTo>
                <a:lnTo>
                  <a:pt x="1366" y="42"/>
                </a:lnTo>
                <a:lnTo>
                  <a:pt x="1372" y="35"/>
                </a:lnTo>
                <a:lnTo>
                  <a:pt x="1372" y="28"/>
                </a:lnTo>
                <a:lnTo>
                  <a:pt x="1372" y="21"/>
                </a:lnTo>
                <a:lnTo>
                  <a:pt x="1366" y="21"/>
                </a:lnTo>
                <a:lnTo>
                  <a:pt x="1359" y="14"/>
                </a:lnTo>
                <a:lnTo>
                  <a:pt x="1352" y="7"/>
                </a:lnTo>
                <a:lnTo>
                  <a:pt x="1345" y="7"/>
                </a:lnTo>
                <a:lnTo>
                  <a:pt x="1345" y="0"/>
                </a:lnTo>
                <a:lnTo>
                  <a:pt x="1331" y="0"/>
                </a:lnTo>
                <a:lnTo>
                  <a:pt x="1297" y="0"/>
                </a:lnTo>
                <a:lnTo>
                  <a:pt x="1269" y="0"/>
                </a:lnTo>
                <a:lnTo>
                  <a:pt x="1241" y="0"/>
                </a:lnTo>
                <a:lnTo>
                  <a:pt x="1207" y="0"/>
                </a:lnTo>
                <a:lnTo>
                  <a:pt x="1179" y="0"/>
                </a:lnTo>
                <a:lnTo>
                  <a:pt x="1152" y="0"/>
                </a:lnTo>
                <a:lnTo>
                  <a:pt x="1124" y="0"/>
                </a:lnTo>
                <a:lnTo>
                  <a:pt x="1090" y="0"/>
                </a:lnTo>
                <a:lnTo>
                  <a:pt x="1062" y="0"/>
                </a:lnTo>
                <a:lnTo>
                  <a:pt x="1035" y="0"/>
                </a:lnTo>
                <a:lnTo>
                  <a:pt x="1000" y="0"/>
                </a:lnTo>
                <a:lnTo>
                  <a:pt x="973" y="0"/>
                </a:lnTo>
                <a:lnTo>
                  <a:pt x="945" y="0"/>
                </a:lnTo>
                <a:lnTo>
                  <a:pt x="917" y="0"/>
                </a:lnTo>
                <a:lnTo>
                  <a:pt x="883" y="0"/>
                </a:lnTo>
                <a:lnTo>
                  <a:pt x="855" y="0"/>
                </a:lnTo>
                <a:lnTo>
                  <a:pt x="828" y="0"/>
                </a:lnTo>
                <a:lnTo>
                  <a:pt x="793" y="0"/>
                </a:lnTo>
                <a:lnTo>
                  <a:pt x="766" y="0"/>
                </a:lnTo>
                <a:lnTo>
                  <a:pt x="738" y="0"/>
                </a:lnTo>
                <a:lnTo>
                  <a:pt x="711" y="0"/>
                </a:lnTo>
                <a:lnTo>
                  <a:pt x="676" y="0"/>
                </a:lnTo>
                <a:lnTo>
                  <a:pt x="648" y="28"/>
                </a:lnTo>
                <a:lnTo>
                  <a:pt x="621" y="62"/>
                </a:lnTo>
                <a:lnTo>
                  <a:pt x="593" y="90"/>
                </a:lnTo>
                <a:lnTo>
                  <a:pt x="559" y="117"/>
                </a:lnTo>
                <a:lnTo>
                  <a:pt x="531" y="145"/>
                </a:lnTo>
                <a:lnTo>
                  <a:pt x="504" y="145"/>
                </a:lnTo>
                <a:lnTo>
                  <a:pt x="469" y="179"/>
                </a:lnTo>
                <a:lnTo>
                  <a:pt x="442" y="207"/>
                </a:lnTo>
                <a:lnTo>
                  <a:pt x="414" y="235"/>
                </a:lnTo>
                <a:lnTo>
                  <a:pt x="386" y="269"/>
                </a:lnTo>
                <a:lnTo>
                  <a:pt x="386" y="297"/>
                </a:lnTo>
                <a:lnTo>
                  <a:pt x="386" y="297"/>
                </a:lnTo>
                <a:lnTo>
                  <a:pt x="380" y="303"/>
                </a:lnTo>
                <a:lnTo>
                  <a:pt x="373" y="310"/>
                </a:lnTo>
                <a:lnTo>
                  <a:pt x="373" y="317"/>
                </a:lnTo>
                <a:lnTo>
                  <a:pt x="373" y="317"/>
                </a:lnTo>
                <a:lnTo>
                  <a:pt x="366" y="324"/>
                </a:lnTo>
                <a:lnTo>
                  <a:pt x="366" y="331"/>
                </a:lnTo>
                <a:lnTo>
                  <a:pt x="359" y="331"/>
                </a:lnTo>
                <a:lnTo>
                  <a:pt x="352" y="338"/>
                </a:lnTo>
                <a:lnTo>
                  <a:pt x="352" y="345"/>
                </a:lnTo>
                <a:lnTo>
                  <a:pt x="345" y="352"/>
                </a:lnTo>
                <a:lnTo>
                  <a:pt x="338" y="352"/>
                </a:lnTo>
                <a:lnTo>
                  <a:pt x="338" y="359"/>
                </a:lnTo>
                <a:lnTo>
                  <a:pt x="331" y="365"/>
                </a:lnTo>
                <a:lnTo>
                  <a:pt x="324" y="365"/>
                </a:lnTo>
                <a:lnTo>
                  <a:pt x="324" y="372"/>
                </a:lnTo>
                <a:lnTo>
                  <a:pt x="318" y="379"/>
                </a:lnTo>
                <a:lnTo>
                  <a:pt x="318" y="386"/>
                </a:lnTo>
                <a:lnTo>
                  <a:pt x="311" y="386"/>
                </a:lnTo>
                <a:lnTo>
                  <a:pt x="304" y="393"/>
                </a:lnTo>
                <a:lnTo>
                  <a:pt x="304" y="400"/>
                </a:lnTo>
                <a:lnTo>
                  <a:pt x="297" y="407"/>
                </a:lnTo>
                <a:lnTo>
                  <a:pt x="297" y="407"/>
                </a:lnTo>
                <a:lnTo>
                  <a:pt x="290" y="414"/>
                </a:lnTo>
                <a:lnTo>
                  <a:pt x="283" y="421"/>
                </a:lnTo>
                <a:lnTo>
                  <a:pt x="283" y="421"/>
                </a:lnTo>
                <a:lnTo>
                  <a:pt x="276" y="427"/>
                </a:lnTo>
                <a:lnTo>
                  <a:pt x="276" y="434"/>
                </a:lnTo>
                <a:lnTo>
                  <a:pt x="269" y="441"/>
                </a:lnTo>
                <a:lnTo>
                  <a:pt x="262" y="441"/>
                </a:lnTo>
                <a:lnTo>
                  <a:pt x="262" y="448"/>
                </a:lnTo>
                <a:lnTo>
                  <a:pt x="255" y="455"/>
                </a:lnTo>
                <a:lnTo>
                  <a:pt x="255" y="462"/>
                </a:lnTo>
                <a:lnTo>
                  <a:pt x="249" y="462"/>
                </a:lnTo>
                <a:lnTo>
                  <a:pt x="242" y="469"/>
                </a:lnTo>
                <a:lnTo>
                  <a:pt x="242" y="476"/>
                </a:lnTo>
                <a:lnTo>
                  <a:pt x="235" y="476"/>
                </a:lnTo>
                <a:lnTo>
                  <a:pt x="228" y="483"/>
                </a:lnTo>
                <a:lnTo>
                  <a:pt x="221" y="483"/>
                </a:lnTo>
                <a:lnTo>
                  <a:pt x="221" y="489"/>
                </a:lnTo>
                <a:lnTo>
                  <a:pt x="214" y="496"/>
                </a:lnTo>
                <a:lnTo>
                  <a:pt x="214" y="503"/>
                </a:lnTo>
                <a:lnTo>
                  <a:pt x="214" y="510"/>
                </a:lnTo>
                <a:lnTo>
                  <a:pt x="214" y="517"/>
                </a:lnTo>
                <a:lnTo>
                  <a:pt x="214" y="524"/>
                </a:lnTo>
                <a:lnTo>
                  <a:pt x="214" y="524"/>
                </a:lnTo>
                <a:lnTo>
                  <a:pt x="214" y="531"/>
                </a:lnTo>
                <a:lnTo>
                  <a:pt x="207" y="538"/>
                </a:lnTo>
                <a:lnTo>
                  <a:pt x="200" y="538"/>
                </a:lnTo>
                <a:lnTo>
                  <a:pt x="193" y="545"/>
                </a:lnTo>
                <a:lnTo>
                  <a:pt x="193" y="551"/>
                </a:lnTo>
                <a:lnTo>
                  <a:pt x="193" y="558"/>
                </a:lnTo>
                <a:lnTo>
                  <a:pt x="193" y="565"/>
                </a:lnTo>
                <a:lnTo>
                  <a:pt x="193" y="565"/>
                </a:lnTo>
                <a:lnTo>
                  <a:pt x="193" y="572"/>
                </a:lnTo>
                <a:lnTo>
                  <a:pt x="193" y="579"/>
                </a:lnTo>
                <a:lnTo>
                  <a:pt x="187" y="586"/>
                </a:lnTo>
                <a:lnTo>
                  <a:pt x="187" y="593"/>
                </a:lnTo>
                <a:lnTo>
                  <a:pt x="180" y="600"/>
                </a:lnTo>
                <a:lnTo>
                  <a:pt x="173" y="600"/>
                </a:lnTo>
                <a:lnTo>
                  <a:pt x="173" y="593"/>
                </a:lnTo>
                <a:lnTo>
                  <a:pt x="166" y="593"/>
                </a:lnTo>
                <a:lnTo>
                  <a:pt x="159" y="586"/>
                </a:lnTo>
                <a:lnTo>
                  <a:pt x="159" y="579"/>
                </a:lnTo>
                <a:lnTo>
                  <a:pt x="152" y="572"/>
                </a:lnTo>
                <a:lnTo>
                  <a:pt x="145" y="572"/>
                </a:lnTo>
                <a:lnTo>
                  <a:pt x="138" y="565"/>
                </a:lnTo>
                <a:lnTo>
                  <a:pt x="131" y="565"/>
                </a:lnTo>
                <a:lnTo>
                  <a:pt x="124" y="565"/>
                </a:lnTo>
                <a:lnTo>
                  <a:pt x="111" y="565"/>
                </a:lnTo>
                <a:lnTo>
                  <a:pt x="104" y="565"/>
                </a:lnTo>
                <a:lnTo>
                  <a:pt x="97" y="565"/>
                </a:lnTo>
                <a:lnTo>
                  <a:pt x="90" y="565"/>
                </a:lnTo>
                <a:lnTo>
                  <a:pt x="83" y="558"/>
                </a:lnTo>
                <a:lnTo>
                  <a:pt x="83" y="558"/>
                </a:lnTo>
                <a:lnTo>
                  <a:pt x="83" y="551"/>
                </a:lnTo>
                <a:lnTo>
                  <a:pt x="83" y="545"/>
                </a:lnTo>
                <a:lnTo>
                  <a:pt x="56" y="565"/>
                </a:lnTo>
                <a:lnTo>
                  <a:pt x="28" y="565"/>
                </a:lnTo>
                <a:lnTo>
                  <a:pt x="7" y="586"/>
                </a:lnTo>
                <a:lnTo>
                  <a:pt x="7" y="586"/>
                </a:lnTo>
                <a:lnTo>
                  <a:pt x="0" y="593"/>
                </a:lnTo>
                <a:lnTo>
                  <a:pt x="0" y="593"/>
                </a:lnTo>
                <a:lnTo>
                  <a:pt x="0" y="593"/>
                </a:lnTo>
                <a:lnTo>
                  <a:pt x="0" y="593"/>
                </a:lnTo>
                <a:lnTo>
                  <a:pt x="0" y="593"/>
                </a:lnTo>
                <a:lnTo>
                  <a:pt x="0" y="593"/>
                </a:lnTo>
                <a:lnTo>
                  <a:pt x="0" y="593"/>
                </a:lnTo>
                <a:lnTo>
                  <a:pt x="0" y="620"/>
                </a:lnTo>
                <a:lnTo>
                  <a:pt x="0" y="655"/>
                </a:lnTo>
                <a:lnTo>
                  <a:pt x="0" y="669"/>
                </a:lnTo>
                <a:lnTo>
                  <a:pt x="7" y="662"/>
                </a:lnTo>
                <a:lnTo>
                  <a:pt x="7" y="662"/>
                </a:lnTo>
                <a:lnTo>
                  <a:pt x="14" y="655"/>
                </a:lnTo>
                <a:lnTo>
                  <a:pt x="21" y="648"/>
                </a:lnTo>
                <a:lnTo>
                  <a:pt x="21" y="641"/>
                </a:lnTo>
                <a:lnTo>
                  <a:pt x="28" y="634"/>
                </a:lnTo>
                <a:lnTo>
                  <a:pt x="35" y="641"/>
                </a:lnTo>
                <a:lnTo>
                  <a:pt x="42" y="641"/>
                </a:lnTo>
                <a:lnTo>
                  <a:pt x="49" y="648"/>
                </a:lnTo>
                <a:lnTo>
                  <a:pt x="49" y="655"/>
                </a:lnTo>
                <a:lnTo>
                  <a:pt x="56" y="662"/>
                </a:lnTo>
                <a:lnTo>
                  <a:pt x="56" y="669"/>
                </a:lnTo>
                <a:lnTo>
                  <a:pt x="56" y="675"/>
                </a:lnTo>
                <a:lnTo>
                  <a:pt x="56" y="675"/>
                </a:lnTo>
                <a:lnTo>
                  <a:pt x="62" y="675"/>
                </a:lnTo>
                <a:lnTo>
                  <a:pt x="69" y="675"/>
                </a:lnTo>
                <a:lnTo>
                  <a:pt x="83" y="675"/>
                </a:lnTo>
                <a:lnTo>
                  <a:pt x="90" y="669"/>
                </a:lnTo>
                <a:lnTo>
                  <a:pt x="104" y="669"/>
                </a:lnTo>
                <a:lnTo>
                  <a:pt x="111" y="669"/>
                </a:lnTo>
                <a:lnTo>
                  <a:pt x="118" y="669"/>
                </a:lnTo>
                <a:lnTo>
                  <a:pt x="124" y="675"/>
                </a:lnTo>
                <a:lnTo>
                  <a:pt x="124" y="682"/>
                </a:lnTo>
                <a:lnTo>
                  <a:pt x="124" y="689"/>
                </a:lnTo>
                <a:lnTo>
                  <a:pt x="124" y="696"/>
                </a:lnTo>
                <a:lnTo>
                  <a:pt x="124" y="696"/>
                </a:lnTo>
                <a:lnTo>
                  <a:pt x="118" y="703"/>
                </a:lnTo>
                <a:lnTo>
                  <a:pt x="111" y="703"/>
                </a:lnTo>
                <a:lnTo>
                  <a:pt x="104" y="703"/>
                </a:lnTo>
                <a:lnTo>
                  <a:pt x="97" y="703"/>
                </a:lnTo>
                <a:lnTo>
                  <a:pt x="83" y="703"/>
                </a:lnTo>
                <a:lnTo>
                  <a:pt x="69" y="710"/>
                </a:lnTo>
                <a:lnTo>
                  <a:pt x="62" y="710"/>
                </a:lnTo>
                <a:lnTo>
                  <a:pt x="62" y="710"/>
                </a:lnTo>
                <a:lnTo>
                  <a:pt x="62" y="717"/>
                </a:lnTo>
                <a:lnTo>
                  <a:pt x="76" y="717"/>
                </a:lnTo>
                <a:lnTo>
                  <a:pt x="83" y="717"/>
                </a:lnTo>
                <a:lnTo>
                  <a:pt x="97" y="717"/>
                </a:lnTo>
                <a:lnTo>
                  <a:pt x="104" y="717"/>
                </a:lnTo>
                <a:lnTo>
                  <a:pt x="111" y="717"/>
                </a:lnTo>
                <a:lnTo>
                  <a:pt x="124" y="717"/>
                </a:lnTo>
                <a:lnTo>
                  <a:pt x="131" y="724"/>
                </a:lnTo>
                <a:lnTo>
                  <a:pt x="138" y="724"/>
                </a:lnTo>
                <a:lnTo>
                  <a:pt x="145" y="731"/>
                </a:lnTo>
                <a:lnTo>
                  <a:pt x="152" y="731"/>
                </a:lnTo>
                <a:lnTo>
                  <a:pt x="159" y="724"/>
                </a:lnTo>
                <a:lnTo>
                  <a:pt x="166" y="717"/>
                </a:lnTo>
                <a:lnTo>
                  <a:pt x="173" y="710"/>
                </a:lnTo>
                <a:lnTo>
                  <a:pt x="173" y="710"/>
                </a:lnTo>
                <a:lnTo>
                  <a:pt x="180" y="703"/>
                </a:lnTo>
                <a:lnTo>
                  <a:pt x="180" y="696"/>
                </a:lnTo>
                <a:lnTo>
                  <a:pt x="180" y="689"/>
                </a:lnTo>
                <a:lnTo>
                  <a:pt x="180" y="682"/>
                </a:lnTo>
                <a:lnTo>
                  <a:pt x="187" y="682"/>
                </a:lnTo>
                <a:lnTo>
                  <a:pt x="193" y="675"/>
                </a:lnTo>
                <a:lnTo>
                  <a:pt x="200" y="675"/>
                </a:lnTo>
                <a:lnTo>
                  <a:pt x="207" y="675"/>
                </a:lnTo>
                <a:lnTo>
                  <a:pt x="221" y="675"/>
                </a:lnTo>
                <a:lnTo>
                  <a:pt x="228" y="682"/>
                </a:lnTo>
                <a:lnTo>
                  <a:pt x="235" y="682"/>
                </a:lnTo>
                <a:lnTo>
                  <a:pt x="249" y="682"/>
                </a:lnTo>
                <a:lnTo>
                  <a:pt x="255" y="675"/>
                </a:lnTo>
                <a:lnTo>
                  <a:pt x="262" y="675"/>
                </a:lnTo>
                <a:lnTo>
                  <a:pt x="269" y="682"/>
                </a:lnTo>
                <a:lnTo>
                  <a:pt x="269" y="689"/>
                </a:lnTo>
                <a:lnTo>
                  <a:pt x="269" y="696"/>
                </a:lnTo>
                <a:lnTo>
                  <a:pt x="269" y="703"/>
                </a:lnTo>
                <a:lnTo>
                  <a:pt x="269" y="710"/>
                </a:lnTo>
                <a:lnTo>
                  <a:pt x="269" y="710"/>
                </a:lnTo>
                <a:lnTo>
                  <a:pt x="269" y="717"/>
                </a:lnTo>
                <a:lnTo>
                  <a:pt x="269" y="724"/>
                </a:lnTo>
                <a:lnTo>
                  <a:pt x="262" y="731"/>
                </a:lnTo>
                <a:lnTo>
                  <a:pt x="262" y="737"/>
                </a:lnTo>
                <a:lnTo>
                  <a:pt x="262" y="744"/>
                </a:lnTo>
                <a:lnTo>
                  <a:pt x="262" y="744"/>
                </a:lnTo>
                <a:lnTo>
                  <a:pt x="269" y="751"/>
                </a:lnTo>
                <a:lnTo>
                  <a:pt x="276" y="758"/>
                </a:lnTo>
                <a:lnTo>
                  <a:pt x="283" y="758"/>
                </a:lnTo>
                <a:lnTo>
                  <a:pt x="290" y="758"/>
                </a:lnTo>
                <a:lnTo>
                  <a:pt x="304" y="765"/>
                </a:lnTo>
                <a:lnTo>
                  <a:pt x="311" y="765"/>
                </a:lnTo>
                <a:lnTo>
                  <a:pt x="318" y="765"/>
                </a:lnTo>
                <a:lnTo>
                  <a:pt x="324" y="765"/>
                </a:lnTo>
                <a:lnTo>
                  <a:pt x="338" y="765"/>
                </a:lnTo>
                <a:lnTo>
                  <a:pt x="345" y="765"/>
                </a:lnTo>
                <a:lnTo>
                  <a:pt x="352" y="758"/>
                </a:lnTo>
                <a:lnTo>
                  <a:pt x="359" y="758"/>
                </a:lnTo>
                <a:lnTo>
                  <a:pt x="366" y="751"/>
                </a:lnTo>
                <a:lnTo>
                  <a:pt x="380" y="751"/>
                </a:lnTo>
                <a:lnTo>
                  <a:pt x="386" y="751"/>
                </a:lnTo>
                <a:lnTo>
                  <a:pt x="386" y="751"/>
                </a:lnTo>
                <a:lnTo>
                  <a:pt x="393" y="758"/>
                </a:lnTo>
                <a:lnTo>
                  <a:pt x="400" y="765"/>
                </a:lnTo>
                <a:lnTo>
                  <a:pt x="407" y="765"/>
                </a:lnTo>
                <a:lnTo>
                  <a:pt x="414" y="772"/>
                </a:lnTo>
                <a:close/>
                <a:moveTo>
                  <a:pt x="1517" y="744"/>
                </a:moveTo>
                <a:lnTo>
                  <a:pt x="1531" y="737"/>
                </a:lnTo>
                <a:lnTo>
                  <a:pt x="1538" y="737"/>
                </a:lnTo>
                <a:lnTo>
                  <a:pt x="1545" y="737"/>
                </a:lnTo>
                <a:lnTo>
                  <a:pt x="1559" y="737"/>
                </a:lnTo>
                <a:lnTo>
                  <a:pt x="1566" y="737"/>
                </a:lnTo>
                <a:lnTo>
                  <a:pt x="1579" y="737"/>
                </a:lnTo>
                <a:lnTo>
                  <a:pt x="1586" y="737"/>
                </a:lnTo>
                <a:lnTo>
                  <a:pt x="1593" y="737"/>
                </a:lnTo>
                <a:lnTo>
                  <a:pt x="1600" y="731"/>
                </a:lnTo>
                <a:lnTo>
                  <a:pt x="1600" y="724"/>
                </a:lnTo>
                <a:lnTo>
                  <a:pt x="1600" y="717"/>
                </a:lnTo>
                <a:lnTo>
                  <a:pt x="1600" y="710"/>
                </a:lnTo>
                <a:lnTo>
                  <a:pt x="1607" y="703"/>
                </a:lnTo>
                <a:lnTo>
                  <a:pt x="1607" y="696"/>
                </a:lnTo>
                <a:lnTo>
                  <a:pt x="1607" y="689"/>
                </a:lnTo>
                <a:lnTo>
                  <a:pt x="1607" y="682"/>
                </a:lnTo>
                <a:lnTo>
                  <a:pt x="1607" y="675"/>
                </a:lnTo>
                <a:lnTo>
                  <a:pt x="1607" y="669"/>
                </a:lnTo>
                <a:lnTo>
                  <a:pt x="1614" y="662"/>
                </a:lnTo>
                <a:lnTo>
                  <a:pt x="1614" y="655"/>
                </a:lnTo>
                <a:lnTo>
                  <a:pt x="1614" y="655"/>
                </a:lnTo>
                <a:lnTo>
                  <a:pt x="1614" y="648"/>
                </a:lnTo>
                <a:lnTo>
                  <a:pt x="1621" y="641"/>
                </a:lnTo>
                <a:lnTo>
                  <a:pt x="1621" y="634"/>
                </a:lnTo>
                <a:lnTo>
                  <a:pt x="1628" y="627"/>
                </a:lnTo>
                <a:lnTo>
                  <a:pt x="1634" y="620"/>
                </a:lnTo>
                <a:lnTo>
                  <a:pt x="1634" y="613"/>
                </a:lnTo>
                <a:lnTo>
                  <a:pt x="1641" y="607"/>
                </a:lnTo>
                <a:lnTo>
                  <a:pt x="1641" y="607"/>
                </a:lnTo>
                <a:lnTo>
                  <a:pt x="1641" y="600"/>
                </a:lnTo>
                <a:lnTo>
                  <a:pt x="1648" y="593"/>
                </a:lnTo>
                <a:lnTo>
                  <a:pt x="1648" y="586"/>
                </a:lnTo>
                <a:lnTo>
                  <a:pt x="1655" y="579"/>
                </a:lnTo>
                <a:lnTo>
                  <a:pt x="1655" y="572"/>
                </a:lnTo>
                <a:lnTo>
                  <a:pt x="1662" y="565"/>
                </a:lnTo>
                <a:lnTo>
                  <a:pt x="1662" y="558"/>
                </a:lnTo>
                <a:lnTo>
                  <a:pt x="1669" y="551"/>
                </a:lnTo>
                <a:lnTo>
                  <a:pt x="1669" y="551"/>
                </a:lnTo>
                <a:lnTo>
                  <a:pt x="1669" y="545"/>
                </a:lnTo>
                <a:lnTo>
                  <a:pt x="1669" y="538"/>
                </a:lnTo>
                <a:lnTo>
                  <a:pt x="1669" y="531"/>
                </a:lnTo>
                <a:lnTo>
                  <a:pt x="1662" y="524"/>
                </a:lnTo>
                <a:lnTo>
                  <a:pt x="1655" y="517"/>
                </a:lnTo>
                <a:lnTo>
                  <a:pt x="1648" y="524"/>
                </a:lnTo>
                <a:lnTo>
                  <a:pt x="1634" y="524"/>
                </a:lnTo>
                <a:lnTo>
                  <a:pt x="1628" y="524"/>
                </a:lnTo>
                <a:lnTo>
                  <a:pt x="1621" y="531"/>
                </a:lnTo>
                <a:lnTo>
                  <a:pt x="1614" y="538"/>
                </a:lnTo>
                <a:lnTo>
                  <a:pt x="1607" y="538"/>
                </a:lnTo>
                <a:lnTo>
                  <a:pt x="1600" y="545"/>
                </a:lnTo>
                <a:lnTo>
                  <a:pt x="1593" y="551"/>
                </a:lnTo>
                <a:lnTo>
                  <a:pt x="1586" y="551"/>
                </a:lnTo>
                <a:lnTo>
                  <a:pt x="1579" y="558"/>
                </a:lnTo>
                <a:lnTo>
                  <a:pt x="1572" y="565"/>
                </a:lnTo>
                <a:lnTo>
                  <a:pt x="1572" y="572"/>
                </a:lnTo>
                <a:lnTo>
                  <a:pt x="1566" y="579"/>
                </a:lnTo>
                <a:lnTo>
                  <a:pt x="1566" y="586"/>
                </a:lnTo>
                <a:lnTo>
                  <a:pt x="1559" y="593"/>
                </a:lnTo>
                <a:lnTo>
                  <a:pt x="1559" y="593"/>
                </a:lnTo>
                <a:lnTo>
                  <a:pt x="1559" y="607"/>
                </a:lnTo>
                <a:lnTo>
                  <a:pt x="1552" y="607"/>
                </a:lnTo>
                <a:lnTo>
                  <a:pt x="1545" y="613"/>
                </a:lnTo>
                <a:lnTo>
                  <a:pt x="1538" y="620"/>
                </a:lnTo>
                <a:lnTo>
                  <a:pt x="1531" y="620"/>
                </a:lnTo>
                <a:lnTo>
                  <a:pt x="1517" y="620"/>
                </a:lnTo>
                <a:lnTo>
                  <a:pt x="1510" y="620"/>
                </a:lnTo>
                <a:lnTo>
                  <a:pt x="1503" y="627"/>
                </a:lnTo>
                <a:lnTo>
                  <a:pt x="1497" y="627"/>
                </a:lnTo>
                <a:lnTo>
                  <a:pt x="1497" y="634"/>
                </a:lnTo>
                <a:lnTo>
                  <a:pt x="1497" y="641"/>
                </a:lnTo>
                <a:lnTo>
                  <a:pt x="1490" y="648"/>
                </a:lnTo>
                <a:lnTo>
                  <a:pt x="1490" y="655"/>
                </a:lnTo>
                <a:lnTo>
                  <a:pt x="1490" y="662"/>
                </a:lnTo>
                <a:lnTo>
                  <a:pt x="1490" y="669"/>
                </a:lnTo>
                <a:lnTo>
                  <a:pt x="1490" y="675"/>
                </a:lnTo>
                <a:lnTo>
                  <a:pt x="1490" y="682"/>
                </a:lnTo>
                <a:lnTo>
                  <a:pt x="1490" y="689"/>
                </a:lnTo>
                <a:lnTo>
                  <a:pt x="1490" y="696"/>
                </a:lnTo>
                <a:lnTo>
                  <a:pt x="1490" y="703"/>
                </a:lnTo>
                <a:lnTo>
                  <a:pt x="1490" y="710"/>
                </a:lnTo>
                <a:lnTo>
                  <a:pt x="1490" y="710"/>
                </a:lnTo>
                <a:lnTo>
                  <a:pt x="1483" y="717"/>
                </a:lnTo>
                <a:lnTo>
                  <a:pt x="1483" y="724"/>
                </a:lnTo>
                <a:lnTo>
                  <a:pt x="1476" y="731"/>
                </a:lnTo>
                <a:lnTo>
                  <a:pt x="1476" y="737"/>
                </a:lnTo>
                <a:lnTo>
                  <a:pt x="1476" y="744"/>
                </a:lnTo>
                <a:lnTo>
                  <a:pt x="1476" y="751"/>
                </a:lnTo>
                <a:lnTo>
                  <a:pt x="1483" y="751"/>
                </a:lnTo>
                <a:lnTo>
                  <a:pt x="1490" y="751"/>
                </a:lnTo>
                <a:lnTo>
                  <a:pt x="1503" y="744"/>
                </a:lnTo>
                <a:lnTo>
                  <a:pt x="1510" y="744"/>
                </a:lnTo>
                <a:lnTo>
                  <a:pt x="1517" y="744"/>
                </a:lnTo>
                <a:close/>
                <a:moveTo>
                  <a:pt x="1179" y="655"/>
                </a:moveTo>
                <a:lnTo>
                  <a:pt x="1179" y="648"/>
                </a:lnTo>
                <a:lnTo>
                  <a:pt x="1179" y="648"/>
                </a:lnTo>
                <a:lnTo>
                  <a:pt x="1179" y="641"/>
                </a:lnTo>
                <a:lnTo>
                  <a:pt x="1179" y="634"/>
                </a:lnTo>
                <a:lnTo>
                  <a:pt x="1179" y="634"/>
                </a:lnTo>
                <a:lnTo>
                  <a:pt x="1179" y="627"/>
                </a:lnTo>
                <a:lnTo>
                  <a:pt x="1179" y="620"/>
                </a:lnTo>
                <a:lnTo>
                  <a:pt x="1179" y="620"/>
                </a:lnTo>
                <a:lnTo>
                  <a:pt x="1179" y="620"/>
                </a:lnTo>
                <a:lnTo>
                  <a:pt x="1179" y="627"/>
                </a:lnTo>
                <a:lnTo>
                  <a:pt x="1179" y="634"/>
                </a:lnTo>
                <a:lnTo>
                  <a:pt x="1179" y="634"/>
                </a:lnTo>
                <a:lnTo>
                  <a:pt x="1179" y="641"/>
                </a:lnTo>
                <a:lnTo>
                  <a:pt x="1179" y="641"/>
                </a:lnTo>
                <a:lnTo>
                  <a:pt x="1179" y="648"/>
                </a:lnTo>
                <a:lnTo>
                  <a:pt x="1179" y="655"/>
                </a:lnTo>
                <a:lnTo>
                  <a:pt x="1179" y="655"/>
                </a:lnTo>
                <a:lnTo>
                  <a:pt x="1179" y="662"/>
                </a:lnTo>
                <a:lnTo>
                  <a:pt x="1179" y="662"/>
                </a:lnTo>
                <a:lnTo>
                  <a:pt x="1179" y="655"/>
                </a:lnTo>
                <a:close/>
                <a:moveTo>
                  <a:pt x="1214" y="593"/>
                </a:moveTo>
                <a:lnTo>
                  <a:pt x="1214" y="586"/>
                </a:lnTo>
                <a:lnTo>
                  <a:pt x="1214" y="579"/>
                </a:lnTo>
                <a:lnTo>
                  <a:pt x="1214" y="572"/>
                </a:lnTo>
                <a:lnTo>
                  <a:pt x="1214" y="572"/>
                </a:lnTo>
                <a:lnTo>
                  <a:pt x="1207" y="572"/>
                </a:lnTo>
                <a:lnTo>
                  <a:pt x="1200" y="572"/>
                </a:lnTo>
                <a:lnTo>
                  <a:pt x="1193" y="579"/>
                </a:lnTo>
                <a:lnTo>
                  <a:pt x="1186" y="586"/>
                </a:lnTo>
                <a:lnTo>
                  <a:pt x="1186" y="593"/>
                </a:lnTo>
                <a:lnTo>
                  <a:pt x="1193" y="600"/>
                </a:lnTo>
                <a:lnTo>
                  <a:pt x="1200" y="600"/>
                </a:lnTo>
                <a:lnTo>
                  <a:pt x="1207" y="600"/>
                </a:lnTo>
                <a:lnTo>
                  <a:pt x="1214" y="600"/>
                </a:lnTo>
                <a:lnTo>
                  <a:pt x="1214" y="593"/>
                </a:lnTo>
                <a:close/>
                <a:moveTo>
                  <a:pt x="738" y="531"/>
                </a:moveTo>
                <a:lnTo>
                  <a:pt x="738" y="531"/>
                </a:lnTo>
                <a:lnTo>
                  <a:pt x="738" y="531"/>
                </a:lnTo>
                <a:lnTo>
                  <a:pt x="738" y="531"/>
                </a:lnTo>
                <a:lnTo>
                  <a:pt x="738" y="531"/>
                </a:lnTo>
                <a:lnTo>
                  <a:pt x="738" y="531"/>
                </a:lnTo>
                <a:lnTo>
                  <a:pt x="731" y="531"/>
                </a:lnTo>
                <a:lnTo>
                  <a:pt x="731" y="531"/>
                </a:lnTo>
                <a:lnTo>
                  <a:pt x="731" y="531"/>
                </a:lnTo>
                <a:lnTo>
                  <a:pt x="731" y="538"/>
                </a:lnTo>
                <a:lnTo>
                  <a:pt x="738" y="538"/>
                </a:lnTo>
                <a:lnTo>
                  <a:pt x="738" y="538"/>
                </a:lnTo>
                <a:lnTo>
                  <a:pt x="738" y="538"/>
                </a:lnTo>
                <a:lnTo>
                  <a:pt x="738" y="538"/>
                </a:lnTo>
                <a:lnTo>
                  <a:pt x="738" y="531"/>
                </a:lnTo>
                <a:close/>
                <a:moveTo>
                  <a:pt x="973" y="531"/>
                </a:moveTo>
                <a:lnTo>
                  <a:pt x="973" y="531"/>
                </a:lnTo>
                <a:lnTo>
                  <a:pt x="973" y="524"/>
                </a:lnTo>
                <a:lnTo>
                  <a:pt x="966" y="517"/>
                </a:lnTo>
                <a:lnTo>
                  <a:pt x="959" y="517"/>
                </a:lnTo>
                <a:lnTo>
                  <a:pt x="952" y="510"/>
                </a:lnTo>
                <a:lnTo>
                  <a:pt x="952" y="510"/>
                </a:lnTo>
                <a:lnTo>
                  <a:pt x="945" y="510"/>
                </a:lnTo>
                <a:lnTo>
                  <a:pt x="945" y="510"/>
                </a:lnTo>
                <a:lnTo>
                  <a:pt x="938" y="517"/>
                </a:lnTo>
                <a:lnTo>
                  <a:pt x="938" y="517"/>
                </a:lnTo>
                <a:lnTo>
                  <a:pt x="938" y="524"/>
                </a:lnTo>
                <a:lnTo>
                  <a:pt x="945" y="531"/>
                </a:lnTo>
                <a:lnTo>
                  <a:pt x="945" y="538"/>
                </a:lnTo>
                <a:lnTo>
                  <a:pt x="945" y="538"/>
                </a:lnTo>
                <a:lnTo>
                  <a:pt x="945" y="545"/>
                </a:lnTo>
                <a:lnTo>
                  <a:pt x="952" y="545"/>
                </a:lnTo>
                <a:lnTo>
                  <a:pt x="966" y="545"/>
                </a:lnTo>
                <a:lnTo>
                  <a:pt x="973" y="545"/>
                </a:lnTo>
                <a:lnTo>
                  <a:pt x="973" y="538"/>
                </a:lnTo>
                <a:lnTo>
                  <a:pt x="973" y="531"/>
                </a:lnTo>
                <a:close/>
                <a:moveTo>
                  <a:pt x="1241" y="531"/>
                </a:moveTo>
                <a:lnTo>
                  <a:pt x="1241" y="531"/>
                </a:lnTo>
                <a:lnTo>
                  <a:pt x="1241" y="531"/>
                </a:lnTo>
                <a:lnTo>
                  <a:pt x="1241" y="531"/>
                </a:lnTo>
                <a:lnTo>
                  <a:pt x="1241" y="531"/>
                </a:lnTo>
                <a:lnTo>
                  <a:pt x="1241" y="531"/>
                </a:lnTo>
                <a:lnTo>
                  <a:pt x="1241" y="531"/>
                </a:lnTo>
                <a:lnTo>
                  <a:pt x="1241" y="531"/>
                </a:lnTo>
                <a:lnTo>
                  <a:pt x="1241" y="531"/>
                </a:lnTo>
                <a:lnTo>
                  <a:pt x="1241" y="531"/>
                </a:lnTo>
                <a:lnTo>
                  <a:pt x="1241" y="531"/>
                </a:lnTo>
                <a:lnTo>
                  <a:pt x="1241" y="531"/>
                </a:lnTo>
                <a:lnTo>
                  <a:pt x="1241" y="531"/>
                </a:lnTo>
                <a:lnTo>
                  <a:pt x="1241" y="531"/>
                </a:lnTo>
                <a:lnTo>
                  <a:pt x="1241" y="531"/>
                </a:lnTo>
                <a:close/>
                <a:moveTo>
                  <a:pt x="166" y="476"/>
                </a:moveTo>
                <a:lnTo>
                  <a:pt x="145" y="476"/>
                </a:lnTo>
                <a:lnTo>
                  <a:pt x="131" y="489"/>
                </a:lnTo>
                <a:lnTo>
                  <a:pt x="138" y="489"/>
                </a:lnTo>
                <a:lnTo>
                  <a:pt x="145" y="489"/>
                </a:lnTo>
                <a:lnTo>
                  <a:pt x="145" y="489"/>
                </a:lnTo>
                <a:lnTo>
                  <a:pt x="152" y="489"/>
                </a:lnTo>
                <a:lnTo>
                  <a:pt x="159" y="489"/>
                </a:lnTo>
                <a:lnTo>
                  <a:pt x="159" y="483"/>
                </a:lnTo>
                <a:lnTo>
                  <a:pt x="159" y="483"/>
                </a:lnTo>
                <a:lnTo>
                  <a:pt x="166" y="476"/>
                </a:lnTo>
                <a:close/>
                <a:moveTo>
                  <a:pt x="952" y="476"/>
                </a:moveTo>
                <a:lnTo>
                  <a:pt x="945" y="469"/>
                </a:lnTo>
                <a:lnTo>
                  <a:pt x="945" y="462"/>
                </a:lnTo>
                <a:lnTo>
                  <a:pt x="938" y="455"/>
                </a:lnTo>
                <a:lnTo>
                  <a:pt x="938" y="455"/>
                </a:lnTo>
                <a:lnTo>
                  <a:pt x="931" y="448"/>
                </a:lnTo>
                <a:lnTo>
                  <a:pt x="931" y="441"/>
                </a:lnTo>
                <a:lnTo>
                  <a:pt x="931" y="434"/>
                </a:lnTo>
                <a:lnTo>
                  <a:pt x="938" y="427"/>
                </a:lnTo>
                <a:lnTo>
                  <a:pt x="938" y="421"/>
                </a:lnTo>
                <a:lnTo>
                  <a:pt x="938" y="414"/>
                </a:lnTo>
                <a:lnTo>
                  <a:pt x="931" y="414"/>
                </a:lnTo>
                <a:lnTo>
                  <a:pt x="924" y="407"/>
                </a:lnTo>
                <a:lnTo>
                  <a:pt x="917" y="407"/>
                </a:lnTo>
                <a:lnTo>
                  <a:pt x="904" y="407"/>
                </a:lnTo>
                <a:lnTo>
                  <a:pt x="897" y="407"/>
                </a:lnTo>
                <a:lnTo>
                  <a:pt x="890" y="414"/>
                </a:lnTo>
                <a:lnTo>
                  <a:pt x="883" y="414"/>
                </a:lnTo>
                <a:lnTo>
                  <a:pt x="876" y="421"/>
                </a:lnTo>
                <a:lnTo>
                  <a:pt x="869" y="427"/>
                </a:lnTo>
                <a:lnTo>
                  <a:pt x="869" y="434"/>
                </a:lnTo>
                <a:lnTo>
                  <a:pt x="862" y="434"/>
                </a:lnTo>
                <a:lnTo>
                  <a:pt x="855" y="441"/>
                </a:lnTo>
                <a:lnTo>
                  <a:pt x="848" y="448"/>
                </a:lnTo>
                <a:lnTo>
                  <a:pt x="848" y="448"/>
                </a:lnTo>
                <a:lnTo>
                  <a:pt x="842" y="455"/>
                </a:lnTo>
                <a:lnTo>
                  <a:pt x="842" y="462"/>
                </a:lnTo>
                <a:lnTo>
                  <a:pt x="835" y="469"/>
                </a:lnTo>
                <a:lnTo>
                  <a:pt x="828" y="476"/>
                </a:lnTo>
                <a:lnTo>
                  <a:pt x="828" y="476"/>
                </a:lnTo>
                <a:lnTo>
                  <a:pt x="835" y="483"/>
                </a:lnTo>
                <a:lnTo>
                  <a:pt x="842" y="489"/>
                </a:lnTo>
                <a:lnTo>
                  <a:pt x="848" y="489"/>
                </a:lnTo>
                <a:lnTo>
                  <a:pt x="855" y="496"/>
                </a:lnTo>
                <a:lnTo>
                  <a:pt x="862" y="496"/>
                </a:lnTo>
                <a:lnTo>
                  <a:pt x="869" y="489"/>
                </a:lnTo>
                <a:lnTo>
                  <a:pt x="876" y="489"/>
                </a:lnTo>
                <a:lnTo>
                  <a:pt x="890" y="483"/>
                </a:lnTo>
                <a:lnTo>
                  <a:pt x="897" y="483"/>
                </a:lnTo>
                <a:lnTo>
                  <a:pt x="904" y="476"/>
                </a:lnTo>
                <a:lnTo>
                  <a:pt x="910" y="476"/>
                </a:lnTo>
                <a:lnTo>
                  <a:pt x="924" y="483"/>
                </a:lnTo>
                <a:lnTo>
                  <a:pt x="931" y="483"/>
                </a:lnTo>
                <a:lnTo>
                  <a:pt x="931" y="489"/>
                </a:lnTo>
                <a:lnTo>
                  <a:pt x="938" y="496"/>
                </a:lnTo>
                <a:lnTo>
                  <a:pt x="945" y="503"/>
                </a:lnTo>
                <a:lnTo>
                  <a:pt x="945" y="503"/>
                </a:lnTo>
                <a:lnTo>
                  <a:pt x="945" y="496"/>
                </a:lnTo>
                <a:lnTo>
                  <a:pt x="945" y="496"/>
                </a:lnTo>
                <a:lnTo>
                  <a:pt x="952" y="483"/>
                </a:lnTo>
                <a:lnTo>
                  <a:pt x="952" y="476"/>
                </a:lnTo>
                <a:close/>
                <a:moveTo>
                  <a:pt x="180" y="448"/>
                </a:moveTo>
                <a:lnTo>
                  <a:pt x="180" y="448"/>
                </a:lnTo>
                <a:lnTo>
                  <a:pt x="180" y="462"/>
                </a:lnTo>
                <a:lnTo>
                  <a:pt x="180" y="448"/>
                </a:lnTo>
                <a:close/>
                <a:moveTo>
                  <a:pt x="2276" y="448"/>
                </a:moveTo>
                <a:lnTo>
                  <a:pt x="2276" y="441"/>
                </a:lnTo>
                <a:lnTo>
                  <a:pt x="2269" y="441"/>
                </a:lnTo>
                <a:lnTo>
                  <a:pt x="2262" y="441"/>
                </a:lnTo>
                <a:lnTo>
                  <a:pt x="2262" y="448"/>
                </a:lnTo>
                <a:lnTo>
                  <a:pt x="2262" y="448"/>
                </a:lnTo>
                <a:lnTo>
                  <a:pt x="2262" y="455"/>
                </a:lnTo>
                <a:lnTo>
                  <a:pt x="2262" y="462"/>
                </a:lnTo>
                <a:lnTo>
                  <a:pt x="2269" y="462"/>
                </a:lnTo>
                <a:lnTo>
                  <a:pt x="2276" y="462"/>
                </a:lnTo>
                <a:lnTo>
                  <a:pt x="2276" y="462"/>
                </a:lnTo>
                <a:lnTo>
                  <a:pt x="2276" y="462"/>
                </a:lnTo>
                <a:lnTo>
                  <a:pt x="2276" y="455"/>
                </a:lnTo>
                <a:lnTo>
                  <a:pt x="2276" y="455"/>
                </a:lnTo>
                <a:lnTo>
                  <a:pt x="2276" y="448"/>
                </a:lnTo>
                <a:close/>
                <a:moveTo>
                  <a:pt x="207" y="414"/>
                </a:moveTo>
                <a:lnTo>
                  <a:pt x="207" y="414"/>
                </a:lnTo>
                <a:lnTo>
                  <a:pt x="207" y="421"/>
                </a:lnTo>
                <a:lnTo>
                  <a:pt x="207" y="414"/>
                </a:lnTo>
                <a:close/>
                <a:moveTo>
                  <a:pt x="249" y="386"/>
                </a:moveTo>
                <a:lnTo>
                  <a:pt x="235" y="386"/>
                </a:lnTo>
                <a:lnTo>
                  <a:pt x="235" y="393"/>
                </a:lnTo>
                <a:lnTo>
                  <a:pt x="249" y="386"/>
                </a:lnTo>
                <a:close/>
                <a:moveTo>
                  <a:pt x="290" y="359"/>
                </a:moveTo>
                <a:lnTo>
                  <a:pt x="262" y="359"/>
                </a:lnTo>
                <a:lnTo>
                  <a:pt x="262" y="372"/>
                </a:lnTo>
                <a:lnTo>
                  <a:pt x="290" y="359"/>
                </a:lnTo>
                <a:close/>
                <a:moveTo>
                  <a:pt x="345" y="324"/>
                </a:moveTo>
                <a:lnTo>
                  <a:pt x="324" y="324"/>
                </a:lnTo>
                <a:lnTo>
                  <a:pt x="297" y="352"/>
                </a:lnTo>
                <a:lnTo>
                  <a:pt x="304" y="352"/>
                </a:lnTo>
                <a:lnTo>
                  <a:pt x="311" y="352"/>
                </a:lnTo>
                <a:lnTo>
                  <a:pt x="324" y="345"/>
                </a:lnTo>
                <a:lnTo>
                  <a:pt x="324" y="345"/>
                </a:lnTo>
                <a:lnTo>
                  <a:pt x="331" y="338"/>
                </a:lnTo>
                <a:lnTo>
                  <a:pt x="338" y="338"/>
                </a:lnTo>
                <a:lnTo>
                  <a:pt x="345" y="331"/>
                </a:lnTo>
                <a:lnTo>
                  <a:pt x="345" y="324"/>
                </a:lnTo>
                <a:close/>
                <a:moveTo>
                  <a:pt x="380" y="297"/>
                </a:moveTo>
                <a:lnTo>
                  <a:pt x="352" y="297"/>
                </a:lnTo>
                <a:lnTo>
                  <a:pt x="352" y="324"/>
                </a:lnTo>
                <a:lnTo>
                  <a:pt x="380" y="297"/>
                </a:lnTo>
                <a:close/>
                <a:moveTo>
                  <a:pt x="2483" y="1840"/>
                </a:moveTo>
                <a:lnTo>
                  <a:pt x="2510" y="1812"/>
                </a:lnTo>
                <a:lnTo>
                  <a:pt x="2538" y="1812"/>
                </a:lnTo>
                <a:lnTo>
                  <a:pt x="2565" y="1812"/>
                </a:lnTo>
                <a:lnTo>
                  <a:pt x="2600" y="1812"/>
                </a:lnTo>
                <a:lnTo>
                  <a:pt x="2627" y="1812"/>
                </a:lnTo>
                <a:lnTo>
                  <a:pt x="2655" y="1812"/>
                </a:lnTo>
                <a:lnTo>
                  <a:pt x="2689" y="1812"/>
                </a:lnTo>
                <a:lnTo>
                  <a:pt x="2717" y="1778"/>
                </a:lnTo>
                <a:lnTo>
                  <a:pt x="2717" y="1750"/>
                </a:lnTo>
                <a:lnTo>
                  <a:pt x="2717" y="1722"/>
                </a:lnTo>
                <a:lnTo>
                  <a:pt x="2717" y="1688"/>
                </a:lnTo>
                <a:lnTo>
                  <a:pt x="2745" y="1660"/>
                </a:lnTo>
                <a:lnTo>
                  <a:pt x="2745" y="1633"/>
                </a:lnTo>
                <a:lnTo>
                  <a:pt x="2745" y="1599"/>
                </a:lnTo>
                <a:lnTo>
                  <a:pt x="2745" y="1571"/>
                </a:lnTo>
                <a:lnTo>
                  <a:pt x="2772" y="1543"/>
                </a:lnTo>
                <a:lnTo>
                  <a:pt x="2772" y="1516"/>
                </a:lnTo>
                <a:lnTo>
                  <a:pt x="2772" y="1481"/>
                </a:lnTo>
                <a:lnTo>
                  <a:pt x="2772" y="1454"/>
                </a:lnTo>
                <a:lnTo>
                  <a:pt x="2807" y="1426"/>
                </a:lnTo>
                <a:lnTo>
                  <a:pt x="2807" y="1392"/>
                </a:lnTo>
                <a:lnTo>
                  <a:pt x="2807" y="1364"/>
                </a:lnTo>
                <a:lnTo>
                  <a:pt x="2807" y="1337"/>
                </a:lnTo>
                <a:lnTo>
                  <a:pt x="2834" y="1302"/>
                </a:lnTo>
                <a:lnTo>
                  <a:pt x="2834" y="1275"/>
                </a:lnTo>
                <a:lnTo>
                  <a:pt x="2834" y="1247"/>
                </a:lnTo>
                <a:lnTo>
                  <a:pt x="2834" y="1213"/>
                </a:lnTo>
                <a:lnTo>
                  <a:pt x="2862" y="1185"/>
                </a:lnTo>
                <a:lnTo>
                  <a:pt x="2862" y="1158"/>
                </a:lnTo>
                <a:lnTo>
                  <a:pt x="2862" y="1130"/>
                </a:lnTo>
                <a:lnTo>
                  <a:pt x="2862" y="1096"/>
                </a:lnTo>
                <a:lnTo>
                  <a:pt x="2862" y="1068"/>
                </a:lnTo>
                <a:lnTo>
                  <a:pt x="2862" y="1041"/>
                </a:lnTo>
                <a:lnTo>
                  <a:pt x="2862" y="1006"/>
                </a:lnTo>
                <a:lnTo>
                  <a:pt x="2862" y="979"/>
                </a:lnTo>
                <a:lnTo>
                  <a:pt x="2862" y="951"/>
                </a:lnTo>
                <a:lnTo>
                  <a:pt x="2862" y="917"/>
                </a:lnTo>
                <a:lnTo>
                  <a:pt x="2862" y="889"/>
                </a:lnTo>
                <a:lnTo>
                  <a:pt x="2862" y="861"/>
                </a:lnTo>
                <a:lnTo>
                  <a:pt x="2862" y="827"/>
                </a:lnTo>
                <a:lnTo>
                  <a:pt x="2862" y="799"/>
                </a:lnTo>
                <a:lnTo>
                  <a:pt x="2862" y="772"/>
                </a:lnTo>
                <a:lnTo>
                  <a:pt x="2862" y="744"/>
                </a:lnTo>
                <a:lnTo>
                  <a:pt x="2862" y="710"/>
                </a:lnTo>
                <a:lnTo>
                  <a:pt x="2862" y="682"/>
                </a:lnTo>
                <a:lnTo>
                  <a:pt x="2862" y="655"/>
                </a:lnTo>
                <a:lnTo>
                  <a:pt x="2862" y="620"/>
                </a:lnTo>
                <a:lnTo>
                  <a:pt x="2862" y="593"/>
                </a:lnTo>
                <a:lnTo>
                  <a:pt x="2862" y="565"/>
                </a:lnTo>
                <a:lnTo>
                  <a:pt x="2862" y="531"/>
                </a:lnTo>
                <a:lnTo>
                  <a:pt x="2862" y="503"/>
                </a:lnTo>
                <a:lnTo>
                  <a:pt x="2862" y="476"/>
                </a:lnTo>
                <a:lnTo>
                  <a:pt x="2862" y="448"/>
                </a:lnTo>
                <a:lnTo>
                  <a:pt x="2862" y="414"/>
                </a:lnTo>
                <a:lnTo>
                  <a:pt x="2862" y="386"/>
                </a:lnTo>
                <a:lnTo>
                  <a:pt x="2862" y="359"/>
                </a:lnTo>
                <a:lnTo>
                  <a:pt x="2862" y="324"/>
                </a:lnTo>
                <a:lnTo>
                  <a:pt x="2862" y="297"/>
                </a:lnTo>
                <a:lnTo>
                  <a:pt x="2862" y="269"/>
                </a:lnTo>
                <a:lnTo>
                  <a:pt x="2834" y="235"/>
                </a:lnTo>
                <a:lnTo>
                  <a:pt x="2834" y="207"/>
                </a:lnTo>
                <a:lnTo>
                  <a:pt x="2834" y="179"/>
                </a:lnTo>
                <a:lnTo>
                  <a:pt x="2834" y="145"/>
                </a:lnTo>
                <a:lnTo>
                  <a:pt x="2834" y="117"/>
                </a:lnTo>
                <a:lnTo>
                  <a:pt x="2807" y="90"/>
                </a:lnTo>
                <a:lnTo>
                  <a:pt x="2772" y="90"/>
                </a:lnTo>
                <a:lnTo>
                  <a:pt x="2745" y="90"/>
                </a:lnTo>
                <a:lnTo>
                  <a:pt x="2717" y="62"/>
                </a:lnTo>
                <a:lnTo>
                  <a:pt x="2689" y="62"/>
                </a:lnTo>
                <a:lnTo>
                  <a:pt x="2655" y="62"/>
                </a:lnTo>
                <a:lnTo>
                  <a:pt x="2627" y="28"/>
                </a:lnTo>
                <a:lnTo>
                  <a:pt x="2600" y="28"/>
                </a:lnTo>
                <a:lnTo>
                  <a:pt x="2565" y="28"/>
                </a:lnTo>
                <a:lnTo>
                  <a:pt x="2538" y="0"/>
                </a:lnTo>
                <a:lnTo>
                  <a:pt x="2510" y="0"/>
                </a:lnTo>
                <a:lnTo>
                  <a:pt x="2483" y="0"/>
                </a:lnTo>
                <a:lnTo>
                  <a:pt x="2448" y="0"/>
                </a:lnTo>
                <a:lnTo>
                  <a:pt x="2420" y="0"/>
                </a:lnTo>
                <a:lnTo>
                  <a:pt x="2393" y="0"/>
                </a:lnTo>
                <a:lnTo>
                  <a:pt x="2365" y="0"/>
                </a:lnTo>
                <a:lnTo>
                  <a:pt x="2331" y="0"/>
                </a:lnTo>
                <a:lnTo>
                  <a:pt x="2303" y="0"/>
                </a:lnTo>
                <a:lnTo>
                  <a:pt x="2276" y="0"/>
                </a:lnTo>
                <a:lnTo>
                  <a:pt x="2241" y="0"/>
                </a:lnTo>
                <a:lnTo>
                  <a:pt x="2214" y="0"/>
                </a:lnTo>
                <a:lnTo>
                  <a:pt x="2186" y="0"/>
                </a:lnTo>
                <a:lnTo>
                  <a:pt x="2158" y="0"/>
                </a:lnTo>
                <a:lnTo>
                  <a:pt x="2124" y="0"/>
                </a:lnTo>
                <a:lnTo>
                  <a:pt x="2096" y="0"/>
                </a:lnTo>
                <a:lnTo>
                  <a:pt x="2069" y="0"/>
                </a:lnTo>
                <a:lnTo>
                  <a:pt x="2034" y="0"/>
                </a:lnTo>
                <a:lnTo>
                  <a:pt x="2007" y="0"/>
                </a:lnTo>
                <a:lnTo>
                  <a:pt x="1979" y="0"/>
                </a:lnTo>
                <a:lnTo>
                  <a:pt x="1952" y="0"/>
                </a:lnTo>
                <a:lnTo>
                  <a:pt x="1938" y="0"/>
                </a:lnTo>
                <a:lnTo>
                  <a:pt x="1945" y="0"/>
                </a:lnTo>
                <a:lnTo>
                  <a:pt x="1952" y="7"/>
                </a:lnTo>
                <a:lnTo>
                  <a:pt x="1965" y="7"/>
                </a:lnTo>
                <a:lnTo>
                  <a:pt x="1972" y="7"/>
                </a:lnTo>
                <a:lnTo>
                  <a:pt x="1979" y="7"/>
                </a:lnTo>
                <a:lnTo>
                  <a:pt x="1993" y="7"/>
                </a:lnTo>
                <a:lnTo>
                  <a:pt x="2000" y="14"/>
                </a:lnTo>
                <a:lnTo>
                  <a:pt x="2007" y="14"/>
                </a:lnTo>
                <a:lnTo>
                  <a:pt x="2014" y="21"/>
                </a:lnTo>
                <a:lnTo>
                  <a:pt x="2027" y="21"/>
                </a:lnTo>
                <a:lnTo>
                  <a:pt x="2034" y="28"/>
                </a:lnTo>
                <a:lnTo>
                  <a:pt x="2041" y="28"/>
                </a:lnTo>
                <a:lnTo>
                  <a:pt x="2048" y="28"/>
                </a:lnTo>
                <a:lnTo>
                  <a:pt x="2055" y="35"/>
                </a:lnTo>
                <a:lnTo>
                  <a:pt x="2069" y="35"/>
                </a:lnTo>
                <a:lnTo>
                  <a:pt x="2076" y="42"/>
                </a:lnTo>
                <a:lnTo>
                  <a:pt x="2083" y="42"/>
                </a:lnTo>
                <a:lnTo>
                  <a:pt x="2096" y="42"/>
                </a:lnTo>
                <a:lnTo>
                  <a:pt x="2103" y="49"/>
                </a:lnTo>
                <a:lnTo>
                  <a:pt x="2110" y="49"/>
                </a:lnTo>
                <a:lnTo>
                  <a:pt x="2124" y="49"/>
                </a:lnTo>
                <a:lnTo>
                  <a:pt x="2131" y="55"/>
                </a:lnTo>
                <a:lnTo>
                  <a:pt x="2138" y="55"/>
                </a:lnTo>
                <a:lnTo>
                  <a:pt x="2145" y="55"/>
                </a:lnTo>
                <a:lnTo>
                  <a:pt x="2158" y="62"/>
                </a:lnTo>
                <a:lnTo>
                  <a:pt x="2165" y="62"/>
                </a:lnTo>
                <a:lnTo>
                  <a:pt x="2172" y="62"/>
                </a:lnTo>
                <a:lnTo>
                  <a:pt x="2186" y="69"/>
                </a:lnTo>
                <a:lnTo>
                  <a:pt x="2193" y="69"/>
                </a:lnTo>
                <a:lnTo>
                  <a:pt x="2200" y="69"/>
                </a:lnTo>
                <a:lnTo>
                  <a:pt x="2207" y="76"/>
                </a:lnTo>
                <a:lnTo>
                  <a:pt x="2221" y="76"/>
                </a:lnTo>
                <a:lnTo>
                  <a:pt x="2227" y="76"/>
                </a:lnTo>
                <a:lnTo>
                  <a:pt x="2234" y="83"/>
                </a:lnTo>
                <a:lnTo>
                  <a:pt x="2248" y="83"/>
                </a:lnTo>
                <a:lnTo>
                  <a:pt x="2255" y="90"/>
                </a:lnTo>
                <a:lnTo>
                  <a:pt x="2262" y="90"/>
                </a:lnTo>
                <a:lnTo>
                  <a:pt x="2269" y="90"/>
                </a:lnTo>
                <a:lnTo>
                  <a:pt x="2283" y="97"/>
                </a:lnTo>
                <a:lnTo>
                  <a:pt x="2289" y="97"/>
                </a:lnTo>
                <a:lnTo>
                  <a:pt x="2296" y="97"/>
                </a:lnTo>
                <a:lnTo>
                  <a:pt x="2310" y="104"/>
                </a:lnTo>
                <a:lnTo>
                  <a:pt x="2317" y="104"/>
                </a:lnTo>
                <a:lnTo>
                  <a:pt x="2324" y="104"/>
                </a:lnTo>
                <a:lnTo>
                  <a:pt x="2338" y="111"/>
                </a:lnTo>
                <a:lnTo>
                  <a:pt x="2345" y="111"/>
                </a:lnTo>
                <a:lnTo>
                  <a:pt x="2352" y="111"/>
                </a:lnTo>
                <a:lnTo>
                  <a:pt x="2358" y="117"/>
                </a:lnTo>
                <a:lnTo>
                  <a:pt x="2372" y="117"/>
                </a:lnTo>
                <a:lnTo>
                  <a:pt x="2379" y="124"/>
                </a:lnTo>
                <a:lnTo>
                  <a:pt x="2386" y="124"/>
                </a:lnTo>
                <a:lnTo>
                  <a:pt x="2393" y="124"/>
                </a:lnTo>
                <a:lnTo>
                  <a:pt x="2407" y="131"/>
                </a:lnTo>
                <a:lnTo>
                  <a:pt x="2414" y="131"/>
                </a:lnTo>
                <a:lnTo>
                  <a:pt x="2420" y="131"/>
                </a:lnTo>
                <a:lnTo>
                  <a:pt x="2434" y="138"/>
                </a:lnTo>
                <a:lnTo>
                  <a:pt x="2441" y="138"/>
                </a:lnTo>
                <a:lnTo>
                  <a:pt x="2448" y="145"/>
                </a:lnTo>
                <a:lnTo>
                  <a:pt x="2455" y="145"/>
                </a:lnTo>
                <a:lnTo>
                  <a:pt x="2462" y="152"/>
                </a:lnTo>
                <a:lnTo>
                  <a:pt x="2462" y="159"/>
                </a:lnTo>
                <a:lnTo>
                  <a:pt x="2469" y="166"/>
                </a:lnTo>
                <a:lnTo>
                  <a:pt x="2476" y="166"/>
                </a:lnTo>
                <a:lnTo>
                  <a:pt x="2483" y="173"/>
                </a:lnTo>
                <a:lnTo>
                  <a:pt x="2496" y="173"/>
                </a:lnTo>
                <a:lnTo>
                  <a:pt x="2503" y="179"/>
                </a:lnTo>
                <a:lnTo>
                  <a:pt x="2503" y="186"/>
                </a:lnTo>
                <a:lnTo>
                  <a:pt x="2510" y="186"/>
                </a:lnTo>
                <a:lnTo>
                  <a:pt x="2517" y="193"/>
                </a:lnTo>
                <a:lnTo>
                  <a:pt x="2524" y="200"/>
                </a:lnTo>
                <a:lnTo>
                  <a:pt x="2531" y="200"/>
                </a:lnTo>
                <a:lnTo>
                  <a:pt x="2538" y="207"/>
                </a:lnTo>
                <a:lnTo>
                  <a:pt x="2545" y="207"/>
                </a:lnTo>
                <a:lnTo>
                  <a:pt x="2551" y="214"/>
                </a:lnTo>
                <a:lnTo>
                  <a:pt x="2558" y="221"/>
                </a:lnTo>
                <a:lnTo>
                  <a:pt x="2558" y="228"/>
                </a:lnTo>
                <a:lnTo>
                  <a:pt x="2565" y="235"/>
                </a:lnTo>
                <a:lnTo>
                  <a:pt x="2572" y="235"/>
                </a:lnTo>
                <a:lnTo>
                  <a:pt x="2579" y="235"/>
                </a:lnTo>
                <a:lnTo>
                  <a:pt x="2586" y="241"/>
                </a:lnTo>
                <a:lnTo>
                  <a:pt x="2600" y="241"/>
                </a:lnTo>
                <a:lnTo>
                  <a:pt x="2600" y="248"/>
                </a:lnTo>
                <a:lnTo>
                  <a:pt x="2607" y="255"/>
                </a:lnTo>
                <a:lnTo>
                  <a:pt x="2614" y="262"/>
                </a:lnTo>
                <a:lnTo>
                  <a:pt x="2620" y="262"/>
                </a:lnTo>
                <a:lnTo>
                  <a:pt x="2620" y="269"/>
                </a:lnTo>
                <a:lnTo>
                  <a:pt x="2627" y="276"/>
                </a:lnTo>
                <a:lnTo>
                  <a:pt x="2634" y="276"/>
                </a:lnTo>
                <a:lnTo>
                  <a:pt x="2641" y="283"/>
                </a:lnTo>
                <a:lnTo>
                  <a:pt x="2648" y="283"/>
                </a:lnTo>
                <a:lnTo>
                  <a:pt x="2662" y="290"/>
                </a:lnTo>
                <a:lnTo>
                  <a:pt x="2669" y="297"/>
                </a:lnTo>
                <a:lnTo>
                  <a:pt x="2662" y="297"/>
                </a:lnTo>
                <a:lnTo>
                  <a:pt x="2648" y="297"/>
                </a:lnTo>
                <a:lnTo>
                  <a:pt x="2641" y="303"/>
                </a:lnTo>
                <a:lnTo>
                  <a:pt x="2627" y="303"/>
                </a:lnTo>
                <a:lnTo>
                  <a:pt x="2620" y="303"/>
                </a:lnTo>
                <a:lnTo>
                  <a:pt x="2614" y="303"/>
                </a:lnTo>
                <a:lnTo>
                  <a:pt x="2600" y="303"/>
                </a:lnTo>
                <a:lnTo>
                  <a:pt x="2593" y="303"/>
                </a:lnTo>
                <a:lnTo>
                  <a:pt x="2579" y="303"/>
                </a:lnTo>
                <a:lnTo>
                  <a:pt x="2572" y="303"/>
                </a:lnTo>
                <a:lnTo>
                  <a:pt x="2565" y="297"/>
                </a:lnTo>
                <a:lnTo>
                  <a:pt x="2551" y="297"/>
                </a:lnTo>
                <a:lnTo>
                  <a:pt x="2545" y="297"/>
                </a:lnTo>
                <a:lnTo>
                  <a:pt x="2538" y="297"/>
                </a:lnTo>
                <a:lnTo>
                  <a:pt x="2524" y="297"/>
                </a:lnTo>
                <a:lnTo>
                  <a:pt x="2517" y="297"/>
                </a:lnTo>
                <a:lnTo>
                  <a:pt x="2510" y="290"/>
                </a:lnTo>
                <a:lnTo>
                  <a:pt x="2496" y="290"/>
                </a:lnTo>
                <a:lnTo>
                  <a:pt x="2489" y="283"/>
                </a:lnTo>
                <a:lnTo>
                  <a:pt x="2483" y="283"/>
                </a:lnTo>
                <a:lnTo>
                  <a:pt x="2476" y="276"/>
                </a:lnTo>
                <a:lnTo>
                  <a:pt x="2469" y="276"/>
                </a:lnTo>
                <a:lnTo>
                  <a:pt x="2455" y="276"/>
                </a:lnTo>
                <a:lnTo>
                  <a:pt x="2448" y="283"/>
                </a:lnTo>
                <a:lnTo>
                  <a:pt x="2434" y="283"/>
                </a:lnTo>
                <a:lnTo>
                  <a:pt x="2427" y="290"/>
                </a:lnTo>
                <a:lnTo>
                  <a:pt x="2420" y="290"/>
                </a:lnTo>
                <a:lnTo>
                  <a:pt x="2420" y="297"/>
                </a:lnTo>
                <a:lnTo>
                  <a:pt x="2414" y="303"/>
                </a:lnTo>
                <a:lnTo>
                  <a:pt x="2420" y="310"/>
                </a:lnTo>
                <a:lnTo>
                  <a:pt x="2427" y="317"/>
                </a:lnTo>
                <a:lnTo>
                  <a:pt x="2434" y="317"/>
                </a:lnTo>
                <a:lnTo>
                  <a:pt x="2441" y="324"/>
                </a:lnTo>
                <a:lnTo>
                  <a:pt x="2448" y="324"/>
                </a:lnTo>
                <a:lnTo>
                  <a:pt x="2448" y="331"/>
                </a:lnTo>
                <a:lnTo>
                  <a:pt x="2448" y="338"/>
                </a:lnTo>
                <a:lnTo>
                  <a:pt x="2448" y="345"/>
                </a:lnTo>
                <a:lnTo>
                  <a:pt x="2448" y="352"/>
                </a:lnTo>
                <a:lnTo>
                  <a:pt x="2448" y="359"/>
                </a:lnTo>
                <a:lnTo>
                  <a:pt x="2441" y="359"/>
                </a:lnTo>
                <a:lnTo>
                  <a:pt x="2434" y="365"/>
                </a:lnTo>
                <a:lnTo>
                  <a:pt x="2427" y="372"/>
                </a:lnTo>
                <a:lnTo>
                  <a:pt x="2420" y="379"/>
                </a:lnTo>
                <a:lnTo>
                  <a:pt x="2414" y="379"/>
                </a:lnTo>
                <a:lnTo>
                  <a:pt x="2407" y="386"/>
                </a:lnTo>
                <a:lnTo>
                  <a:pt x="2400" y="393"/>
                </a:lnTo>
                <a:lnTo>
                  <a:pt x="2393" y="393"/>
                </a:lnTo>
                <a:lnTo>
                  <a:pt x="2386" y="400"/>
                </a:lnTo>
                <a:lnTo>
                  <a:pt x="2379" y="400"/>
                </a:lnTo>
                <a:lnTo>
                  <a:pt x="2372" y="407"/>
                </a:lnTo>
                <a:lnTo>
                  <a:pt x="2365" y="407"/>
                </a:lnTo>
                <a:lnTo>
                  <a:pt x="2358" y="414"/>
                </a:lnTo>
                <a:lnTo>
                  <a:pt x="2352" y="421"/>
                </a:lnTo>
                <a:lnTo>
                  <a:pt x="2345" y="421"/>
                </a:lnTo>
                <a:lnTo>
                  <a:pt x="2338" y="427"/>
                </a:lnTo>
                <a:lnTo>
                  <a:pt x="2324" y="427"/>
                </a:lnTo>
                <a:lnTo>
                  <a:pt x="2317" y="434"/>
                </a:lnTo>
                <a:lnTo>
                  <a:pt x="2310" y="434"/>
                </a:lnTo>
                <a:lnTo>
                  <a:pt x="2296" y="434"/>
                </a:lnTo>
                <a:lnTo>
                  <a:pt x="2289" y="427"/>
                </a:lnTo>
                <a:lnTo>
                  <a:pt x="2283" y="421"/>
                </a:lnTo>
                <a:lnTo>
                  <a:pt x="2276" y="421"/>
                </a:lnTo>
                <a:lnTo>
                  <a:pt x="2269" y="421"/>
                </a:lnTo>
                <a:lnTo>
                  <a:pt x="2255" y="421"/>
                </a:lnTo>
                <a:lnTo>
                  <a:pt x="2248" y="421"/>
                </a:lnTo>
                <a:lnTo>
                  <a:pt x="2234" y="427"/>
                </a:lnTo>
                <a:lnTo>
                  <a:pt x="2227" y="434"/>
                </a:lnTo>
                <a:lnTo>
                  <a:pt x="2221" y="434"/>
                </a:lnTo>
                <a:lnTo>
                  <a:pt x="2214" y="434"/>
                </a:lnTo>
                <a:lnTo>
                  <a:pt x="2207" y="434"/>
                </a:lnTo>
                <a:lnTo>
                  <a:pt x="2193" y="434"/>
                </a:lnTo>
                <a:lnTo>
                  <a:pt x="2186" y="434"/>
                </a:lnTo>
                <a:lnTo>
                  <a:pt x="2179" y="441"/>
                </a:lnTo>
                <a:lnTo>
                  <a:pt x="2172" y="441"/>
                </a:lnTo>
                <a:lnTo>
                  <a:pt x="2158" y="448"/>
                </a:lnTo>
                <a:lnTo>
                  <a:pt x="2152" y="448"/>
                </a:lnTo>
                <a:lnTo>
                  <a:pt x="2145" y="441"/>
                </a:lnTo>
                <a:lnTo>
                  <a:pt x="2131" y="441"/>
                </a:lnTo>
                <a:lnTo>
                  <a:pt x="2124" y="434"/>
                </a:lnTo>
                <a:lnTo>
                  <a:pt x="2117" y="434"/>
                </a:lnTo>
                <a:lnTo>
                  <a:pt x="2110" y="434"/>
                </a:lnTo>
                <a:lnTo>
                  <a:pt x="2096" y="441"/>
                </a:lnTo>
                <a:lnTo>
                  <a:pt x="2090" y="441"/>
                </a:lnTo>
                <a:lnTo>
                  <a:pt x="2076" y="441"/>
                </a:lnTo>
                <a:lnTo>
                  <a:pt x="2069" y="441"/>
                </a:lnTo>
                <a:lnTo>
                  <a:pt x="2062" y="441"/>
                </a:lnTo>
                <a:lnTo>
                  <a:pt x="2048" y="441"/>
                </a:lnTo>
                <a:lnTo>
                  <a:pt x="2041" y="441"/>
                </a:lnTo>
                <a:lnTo>
                  <a:pt x="2027" y="441"/>
                </a:lnTo>
                <a:lnTo>
                  <a:pt x="2021" y="441"/>
                </a:lnTo>
                <a:lnTo>
                  <a:pt x="2014" y="441"/>
                </a:lnTo>
                <a:lnTo>
                  <a:pt x="2000" y="448"/>
                </a:lnTo>
                <a:lnTo>
                  <a:pt x="1993" y="448"/>
                </a:lnTo>
                <a:lnTo>
                  <a:pt x="1986" y="455"/>
                </a:lnTo>
                <a:lnTo>
                  <a:pt x="1979" y="462"/>
                </a:lnTo>
                <a:lnTo>
                  <a:pt x="1972" y="462"/>
                </a:lnTo>
                <a:lnTo>
                  <a:pt x="1965" y="469"/>
                </a:lnTo>
                <a:lnTo>
                  <a:pt x="1959" y="469"/>
                </a:lnTo>
                <a:lnTo>
                  <a:pt x="1952" y="476"/>
                </a:lnTo>
                <a:lnTo>
                  <a:pt x="1945" y="483"/>
                </a:lnTo>
                <a:lnTo>
                  <a:pt x="1945" y="489"/>
                </a:lnTo>
                <a:lnTo>
                  <a:pt x="1938" y="496"/>
                </a:lnTo>
                <a:lnTo>
                  <a:pt x="1938" y="496"/>
                </a:lnTo>
                <a:lnTo>
                  <a:pt x="1938" y="503"/>
                </a:lnTo>
                <a:lnTo>
                  <a:pt x="1945" y="510"/>
                </a:lnTo>
                <a:lnTo>
                  <a:pt x="1945" y="517"/>
                </a:lnTo>
                <a:lnTo>
                  <a:pt x="1952" y="524"/>
                </a:lnTo>
                <a:lnTo>
                  <a:pt x="1959" y="524"/>
                </a:lnTo>
                <a:lnTo>
                  <a:pt x="1965" y="531"/>
                </a:lnTo>
                <a:lnTo>
                  <a:pt x="1965" y="538"/>
                </a:lnTo>
                <a:lnTo>
                  <a:pt x="1965" y="545"/>
                </a:lnTo>
                <a:lnTo>
                  <a:pt x="1965" y="551"/>
                </a:lnTo>
                <a:lnTo>
                  <a:pt x="1959" y="558"/>
                </a:lnTo>
                <a:lnTo>
                  <a:pt x="1959" y="565"/>
                </a:lnTo>
                <a:lnTo>
                  <a:pt x="1952" y="572"/>
                </a:lnTo>
                <a:lnTo>
                  <a:pt x="1952" y="572"/>
                </a:lnTo>
                <a:lnTo>
                  <a:pt x="1952" y="579"/>
                </a:lnTo>
                <a:lnTo>
                  <a:pt x="1952" y="586"/>
                </a:lnTo>
                <a:lnTo>
                  <a:pt x="1945" y="593"/>
                </a:lnTo>
                <a:lnTo>
                  <a:pt x="1945" y="600"/>
                </a:lnTo>
                <a:lnTo>
                  <a:pt x="1945" y="607"/>
                </a:lnTo>
                <a:lnTo>
                  <a:pt x="1938" y="613"/>
                </a:lnTo>
                <a:lnTo>
                  <a:pt x="1938" y="620"/>
                </a:lnTo>
                <a:lnTo>
                  <a:pt x="1938" y="627"/>
                </a:lnTo>
                <a:lnTo>
                  <a:pt x="1931" y="627"/>
                </a:lnTo>
                <a:lnTo>
                  <a:pt x="1931" y="634"/>
                </a:lnTo>
                <a:lnTo>
                  <a:pt x="1924" y="641"/>
                </a:lnTo>
                <a:lnTo>
                  <a:pt x="1917" y="648"/>
                </a:lnTo>
                <a:lnTo>
                  <a:pt x="1910" y="648"/>
                </a:lnTo>
                <a:lnTo>
                  <a:pt x="1903" y="655"/>
                </a:lnTo>
                <a:lnTo>
                  <a:pt x="1896" y="662"/>
                </a:lnTo>
                <a:lnTo>
                  <a:pt x="1890" y="662"/>
                </a:lnTo>
                <a:lnTo>
                  <a:pt x="1883" y="669"/>
                </a:lnTo>
                <a:lnTo>
                  <a:pt x="1869" y="669"/>
                </a:lnTo>
                <a:lnTo>
                  <a:pt x="1862" y="669"/>
                </a:lnTo>
                <a:lnTo>
                  <a:pt x="1855" y="669"/>
                </a:lnTo>
                <a:lnTo>
                  <a:pt x="1841" y="669"/>
                </a:lnTo>
                <a:lnTo>
                  <a:pt x="1834" y="669"/>
                </a:lnTo>
                <a:lnTo>
                  <a:pt x="1821" y="669"/>
                </a:lnTo>
                <a:lnTo>
                  <a:pt x="1814" y="662"/>
                </a:lnTo>
                <a:lnTo>
                  <a:pt x="1807" y="662"/>
                </a:lnTo>
                <a:lnTo>
                  <a:pt x="1800" y="655"/>
                </a:lnTo>
                <a:lnTo>
                  <a:pt x="1793" y="655"/>
                </a:lnTo>
                <a:lnTo>
                  <a:pt x="1786" y="648"/>
                </a:lnTo>
                <a:lnTo>
                  <a:pt x="1779" y="641"/>
                </a:lnTo>
                <a:lnTo>
                  <a:pt x="1779" y="634"/>
                </a:lnTo>
                <a:lnTo>
                  <a:pt x="1779" y="627"/>
                </a:lnTo>
                <a:lnTo>
                  <a:pt x="1772" y="620"/>
                </a:lnTo>
                <a:lnTo>
                  <a:pt x="1772" y="620"/>
                </a:lnTo>
                <a:lnTo>
                  <a:pt x="1772" y="613"/>
                </a:lnTo>
                <a:lnTo>
                  <a:pt x="1772" y="607"/>
                </a:lnTo>
                <a:lnTo>
                  <a:pt x="1772" y="600"/>
                </a:lnTo>
                <a:lnTo>
                  <a:pt x="1772" y="593"/>
                </a:lnTo>
                <a:lnTo>
                  <a:pt x="1765" y="586"/>
                </a:lnTo>
                <a:lnTo>
                  <a:pt x="1759" y="579"/>
                </a:lnTo>
                <a:lnTo>
                  <a:pt x="1752" y="579"/>
                </a:lnTo>
                <a:lnTo>
                  <a:pt x="1745" y="572"/>
                </a:lnTo>
                <a:lnTo>
                  <a:pt x="1738" y="572"/>
                </a:lnTo>
                <a:lnTo>
                  <a:pt x="1724" y="565"/>
                </a:lnTo>
                <a:lnTo>
                  <a:pt x="1717" y="565"/>
                </a:lnTo>
                <a:lnTo>
                  <a:pt x="1717" y="558"/>
                </a:lnTo>
                <a:lnTo>
                  <a:pt x="1710" y="551"/>
                </a:lnTo>
                <a:lnTo>
                  <a:pt x="1710" y="545"/>
                </a:lnTo>
                <a:lnTo>
                  <a:pt x="1710" y="538"/>
                </a:lnTo>
                <a:lnTo>
                  <a:pt x="1710" y="531"/>
                </a:lnTo>
                <a:lnTo>
                  <a:pt x="1710" y="524"/>
                </a:lnTo>
                <a:lnTo>
                  <a:pt x="1717" y="524"/>
                </a:lnTo>
                <a:lnTo>
                  <a:pt x="1717" y="517"/>
                </a:lnTo>
                <a:lnTo>
                  <a:pt x="1724" y="510"/>
                </a:lnTo>
                <a:lnTo>
                  <a:pt x="1724" y="503"/>
                </a:lnTo>
                <a:lnTo>
                  <a:pt x="1731" y="496"/>
                </a:lnTo>
                <a:lnTo>
                  <a:pt x="1731" y="489"/>
                </a:lnTo>
                <a:lnTo>
                  <a:pt x="1738" y="489"/>
                </a:lnTo>
                <a:lnTo>
                  <a:pt x="1738" y="483"/>
                </a:lnTo>
                <a:lnTo>
                  <a:pt x="1745" y="476"/>
                </a:lnTo>
                <a:lnTo>
                  <a:pt x="1745" y="469"/>
                </a:lnTo>
                <a:lnTo>
                  <a:pt x="1752" y="462"/>
                </a:lnTo>
                <a:lnTo>
                  <a:pt x="1752" y="455"/>
                </a:lnTo>
                <a:lnTo>
                  <a:pt x="1752" y="448"/>
                </a:lnTo>
                <a:lnTo>
                  <a:pt x="1752" y="441"/>
                </a:lnTo>
                <a:lnTo>
                  <a:pt x="1738" y="441"/>
                </a:lnTo>
                <a:lnTo>
                  <a:pt x="1731" y="448"/>
                </a:lnTo>
                <a:lnTo>
                  <a:pt x="1724" y="448"/>
                </a:lnTo>
                <a:lnTo>
                  <a:pt x="1724" y="455"/>
                </a:lnTo>
                <a:lnTo>
                  <a:pt x="1717" y="462"/>
                </a:lnTo>
                <a:lnTo>
                  <a:pt x="1710" y="469"/>
                </a:lnTo>
                <a:lnTo>
                  <a:pt x="1703" y="469"/>
                </a:lnTo>
                <a:lnTo>
                  <a:pt x="1697" y="469"/>
                </a:lnTo>
                <a:lnTo>
                  <a:pt x="1683" y="469"/>
                </a:lnTo>
                <a:lnTo>
                  <a:pt x="1676" y="476"/>
                </a:lnTo>
                <a:lnTo>
                  <a:pt x="1669" y="476"/>
                </a:lnTo>
                <a:lnTo>
                  <a:pt x="1669" y="483"/>
                </a:lnTo>
                <a:lnTo>
                  <a:pt x="1662" y="489"/>
                </a:lnTo>
                <a:lnTo>
                  <a:pt x="1655" y="489"/>
                </a:lnTo>
                <a:lnTo>
                  <a:pt x="1641" y="496"/>
                </a:lnTo>
                <a:lnTo>
                  <a:pt x="1634" y="503"/>
                </a:lnTo>
                <a:lnTo>
                  <a:pt x="1628" y="503"/>
                </a:lnTo>
                <a:lnTo>
                  <a:pt x="1621" y="510"/>
                </a:lnTo>
                <a:lnTo>
                  <a:pt x="1614" y="510"/>
                </a:lnTo>
                <a:lnTo>
                  <a:pt x="1607" y="517"/>
                </a:lnTo>
                <a:lnTo>
                  <a:pt x="1600" y="524"/>
                </a:lnTo>
                <a:lnTo>
                  <a:pt x="1593" y="524"/>
                </a:lnTo>
                <a:lnTo>
                  <a:pt x="1586" y="531"/>
                </a:lnTo>
                <a:lnTo>
                  <a:pt x="1579" y="538"/>
                </a:lnTo>
                <a:lnTo>
                  <a:pt x="1572" y="538"/>
                </a:lnTo>
                <a:lnTo>
                  <a:pt x="1572" y="545"/>
                </a:lnTo>
                <a:lnTo>
                  <a:pt x="1566" y="551"/>
                </a:lnTo>
                <a:lnTo>
                  <a:pt x="1559" y="551"/>
                </a:lnTo>
                <a:lnTo>
                  <a:pt x="1552" y="558"/>
                </a:lnTo>
                <a:lnTo>
                  <a:pt x="1545" y="565"/>
                </a:lnTo>
                <a:lnTo>
                  <a:pt x="1545" y="572"/>
                </a:lnTo>
                <a:lnTo>
                  <a:pt x="1545" y="579"/>
                </a:lnTo>
                <a:lnTo>
                  <a:pt x="1545" y="586"/>
                </a:lnTo>
                <a:lnTo>
                  <a:pt x="1538" y="593"/>
                </a:lnTo>
                <a:lnTo>
                  <a:pt x="1538" y="593"/>
                </a:lnTo>
                <a:lnTo>
                  <a:pt x="1531" y="600"/>
                </a:lnTo>
                <a:lnTo>
                  <a:pt x="1517" y="600"/>
                </a:lnTo>
                <a:lnTo>
                  <a:pt x="1510" y="593"/>
                </a:lnTo>
                <a:lnTo>
                  <a:pt x="1497" y="600"/>
                </a:lnTo>
                <a:lnTo>
                  <a:pt x="1490" y="600"/>
                </a:lnTo>
                <a:lnTo>
                  <a:pt x="1490" y="607"/>
                </a:lnTo>
                <a:lnTo>
                  <a:pt x="1483" y="613"/>
                </a:lnTo>
                <a:lnTo>
                  <a:pt x="1483" y="620"/>
                </a:lnTo>
                <a:lnTo>
                  <a:pt x="1483" y="627"/>
                </a:lnTo>
                <a:lnTo>
                  <a:pt x="1476" y="634"/>
                </a:lnTo>
                <a:lnTo>
                  <a:pt x="1476" y="641"/>
                </a:lnTo>
                <a:lnTo>
                  <a:pt x="1469" y="641"/>
                </a:lnTo>
                <a:lnTo>
                  <a:pt x="1469" y="648"/>
                </a:lnTo>
                <a:lnTo>
                  <a:pt x="1462" y="655"/>
                </a:lnTo>
                <a:lnTo>
                  <a:pt x="1462" y="662"/>
                </a:lnTo>
                <a:lnTo>
                  <a:pt x="1462" y="669"/>
                </a:lnTo>
                <a:lnTo>
                  <a:pt x="1462" y="675"/>
                </a:lnTo>
                <a:lnTo>
                  <a:pt x="1462" y="682"/>
                </a:lnTo>
                <a:lnTo>
                  <a:pt x="1462" y="689"/>
                </a:lnTo>
                <a:lnTo>
                  <a:pt x="1462" y="696"/>
                </a:lnTo>
                <a:lnTo>
                  <a:pt x="1462" y="703"/>
                </a:lnTo>
                <a:lnTo>
                  <a:pt x="1462" y="710"/>
                </a:lnTo>
                <a:lnTo>
                  <a:pt x="1455" y="710"/>
                </a:lnTo>
                <a:lnTo>
                  <a:pt x="1455" y="717"/>
                </a:lnTo>
                <a:lnTo>
                  <a:pt x="1455" y="724"/>
                </a:lnTo>
                <a:lnTo>
                  <a:pt x="1455" y="731"/>
                </a:lnTo>
                <a:lnTo>
                  <a:pt x="1455" y="737"/>
                </a:lnTo>
                <a:lnTo>
                  <a:pt x="1455" y="744"/>
                </a:lnTo>
                <a:lnTo>
                  <a:pt x="1455" y="751"/>
                </a:lnTo>
                <a:lnTo>
                  <a:pt x="1455" y="758"/>
                </a:lnTo>
                <a:lnTo>
                  <a:pt x="1455" y="765"/>
                </a:lnTo>
                <a:lnTo>
                  <a:pt x="1455" y="772"/>
                </a:lnTo>
                <a:lnTo>
                  <a:pt x="1455" y="772"/>
                </a:lnTo>
                <a:lnTo>
                  <a:pt x="1455" y="779"/>
                </a:lnTo>
                <a:lnTo>
                  <a:pt x="1455" y="786"/>
                </a:lnTo>
                <a:lnTo>
                  <a:pt x="1462" y="793"/>
                </a:lnTo>
                <a:lnTo>
                  <a:pt x="1462" y="799"/>
                </a:lnTo>
                <a:lnTo>
                  <a:pt x="1462" y="806"/>
                </a:lnTo>
                <a:lnTo>
                  <a:pt x="1462" y="813"/>
                </a:lnTo>
                <a:lnTo>
                  <a:pt x="1462" y="820"/>
                </a:lnTo>
                <a:lnTo>
                  <a:pt x="1462" y="827"/>
                </a:lnTo>
                <a:lnTo>
                  <a:pt x="1462" y="834"/>
                </a:lnTo>
                <a:lnTo>
                  <a:pt x="1462" y="841"/>
                </a:lnTo>
                <a:lnTo>
                  <a:pt x="1455" y="841"/>
                </a:lnTo>
                <a:lnTo>
                  <a:pt x="1455" y="848"/>
                </a:lnTo>
                <a:lnTo>
                  <a:pt x="1448" y="855"/>
                </a:lnTo>
                <a:lnTo>
                  <a:pt x="1441" y="861"/>
                </a:lnTo>
                <a:lnTo>
                  <a:pt x="1441" y="868"/>
                </a:lnTo>
                <a:lnTo>
                  <a:pt x="1428" y="868"/>
                </a:lnTo>
                <a:lnTo>
                  <a:pt x="1428" y="875"/>
                </a:lnTo>
                <a:lnTo>
                  <a:pt x="1421" y="882"/>
                </a:lnTo>
                <a:lnTo>
                  <a:pt x="1421" y="889"/>
                </a:lnTo>
                <a:lnTo>
                  <a:pt x="1421" y="896"/>
                </a:lnTo>
                <a:lnTo>
                  <a:pt x="1428" y="903"/>
                </a:lnTo>
                <a:lnTo>
                  <a:pt x="1434" y="903"/>
                </a:lnTo>
                <a:lnTo>
                  <a:pt x="1448" y="903"/>
                </a:lnTo>
                <a:lnTo>
                  <a:pt x="1455" y="903"/>
                </a:lnTo>
                <a:lnTo>
                  <a:pt x="1462" y="896"/>
                </a:lnTo>
                <a:lnTo>
                  <a:pt x="1462" y="889"/>
                </a:lnTo>
                <a:lnTo>
                  <a:pt x="1469" y="882"/>
                </a:lnTo>
                <a:lnTo>
                  <a:pt x="1469" y="875"/>
                </a:lnTo>
                <a:lnTo>
                  <a:pt x="1476" y="875"/>
                </a:lnTo>
                <a:lnTo>
                  <a:pt x="1476" y="875"/>
                </a:lnTo>
                <a:lnTo>
                  <a:pt x="1483" y="875"/>
                </a:lnTo>
                <a:lnTo>
                  <a:pt x="1490" y="882"/>
                </a:lnTo>
                <a:lnTo>
                  <a:pt x="1490" y="889"/>
                </a:lnTo>
                <a:lnTo>
                  <a:pt x="1490" y="896"/>
                </a:lnTo>
                <a:lnTo>
                  <a:pt x="1483" y="903"/>
                </a:lnTo>
                <a:lnTo>
                  <a:pt x="1476" y="910"/>
                </a:lnTo>
                <a:lnTo>
                  <a:pt x="1476" y="917"/>
                </a:lnTo>
                <a:lnTo>
                  <a:pt x="1469" y="917"/>
                </a:lnTo>
                <a:lnTo>
                  <a:pt x="1462" y="923"/>
                </a:lnTo>
                <a:lnTo>
                  <a:pt x="1455" y="930"/>
                </a:lnTo>
                <a:lnTo>
                  <a:pt x="1448" y="930"/>
                </a:lnTo>
                <a:lnTo>
                  <a:pt x="1441" y="923"/>
                </a:lnTo>
                <a:lnTo>
                  <a:pt x="1434" y="917"/>
                </a:lnTo>
                <a:lnTo>
                  <a:pt x="1434" y="910"/>
                </a:lnTo>
                <a:lnTo>
                  <a:pt x="1428" y="903"/>
                </a:lnTo>
                <a:lnTo>
                  <a:pt x="1428" y="903"/>
                </a:lnTo>
                <a:lnTo>
                  <a:pt x="1421" y="896"/>
                </a:lnTo>
                <a:lnTo>
                  <a:pt x="1414" y="889"/>
                </a:lnTo>
                <a:lnTo>
                  <a:pt x="1407" y="882"/>
                </a:lnTo>
                <a:lnTo>
                  <a:pt x="1407" y="875"/>
                </a:lnTo>
                <a:lnTo>
                  <a:pt x="1400" y="875"/>
                </a:lnTo>
                <a:lnTo>
                  <a:pt x="1400" y="868"/>
                </a:lnTo>
                <a:lnTo>
                  <a:pt x="1393" y="861"/>
                </a:lnTo>
                <a:lnTo>
                  <a:pt x="1393" y="855"/>
                </a:lnTo>
                <a:lnTo>
                  <a:pt x="1386" y="848"/>
                </a:lnTo>
                <a:lnTo>
                  <a:pt x="1386" y="841"/>
                </a:lnTo>
                <a:lnTo>
                  <a:pt x="1386" y="841"/>
                </a:lnTo>
                <a:lnTo>
                  <a:pt x="1379" y="834"/>
                </a:lnTo>
                <a:lnTo>
                  <a:pt x="1379" y="827"/>
                </a:lnTo>
                <a:lnTo>
                  <a:pt x="1379" y="820"/>
                </a:lnTo>
                <a:lnTo>
                  <a:pt x="1379" y="813"/>
                </a:lnTo>
                <a:lnTo>
                  <a:pt x="1379" y="806"/>
                </a:lnTo>
                <a:lnTo>
                  <a:pt x="1372" y="799"/>
                </a:lnTo>
                <a:lnTo>
                  <a:pt x="1372" y="793"/>
                </a:lnTo>
                <a:lnTo>
                  <a:pt x="1372" y="786"/>
                </a:lnTo>
                <a:lnTo>
                  <a:pt x="1372" y="779"/>
                </a:lnTo>
                <a:lnTo>
                  <a:pt x="1372" y="772"/>
                </a:lnTo>
                <a:lnTo>
                  <a:pt x="1366" y="772"/>
                </a:lnTo>
                <a:lnTo>
                  <a:pt x="1366" y="765"/>
                </a:lnTo>
                <a:lnTo>
                  <a:pt x="1366" y="758"/>
                </a:lnTo>
                <a:lnTo>
                  <a:pt x="1366" y="751"/>
                </a:lnTo>
                <a:lnTo>
                  <a:pt x="1359" y="744"/>
                </a:lnTo>
                <a:lnTo>
                  <a:pt x="1359" y="737"/>
                </a:lnTo>
                <a:lnTo>
                  <a:pt x="1359" y="731"/>
                </a:lnTo>
                <a:lnTo>
                  <a:pt x="1359" y="731"/>
                </a:lnTo>
                <a:lnTo>
                  <a:pt x="1352" y="731"/>
                </a:lnTo>
                <a:lnTo>
                  <a:pt x="1352" y="737"/>
                </a:lnTo>
                <a:lnTo>
                  <a:pt x="1345" y="744"/>
                </a:lnTo>
                <a:lnTo>
                  <a:pt x="1331" y="744"/>
                </a:lnTo>
                <a:lnTo>
                  <a:pt x="1324" y="751"/>
                </a:lnTo>
                <a:lnTo>
                  <a:pt x="1324" y="751"/>
                </a:lnTo>
                <a:lnTo>
                  <a:pt x="1317" y="758"/>
                </a:lnTo>
                <a:lnTo>
                  <a:pt x="1317" y="765"/>
                </a:lnTo>
                <a:lnTo>
                  <a:pt x="1310" y="772"/>
                </a:lnTo>
                <a:lnTo>
                  <a:pt x="1310" y="779"/>
                </a:lnTo>
                <a:lnTo>
                  <a:pt x="1303" y="786"/>
                </a:lnTo>
                <a:lnTo>
                  <a:pt x="1303" y="793"/>
                </a:lnTo>
                <a:lnTo>
                  <a:pt x="1297" y="799"/>
                </a:lnTo>
                <a:lnTo>
                  <a:pt x="1290" y="799"/>
                </a:lnTo>
                <a:lnTo>
                  <a:pt x="1290" y="806"/>
                </a:lnTo>
                <a:lnTo>
                  <a:pt x="1283" y="813"/>
                </a:lnTo>
                <a:lnTo>
                  <a:pt x="1283" y="820"/>
                </a:lnTo>
                <a:lnTo>
                  <a:pt x="1276" y="827"/>
                </a:lnTo>
                <a:lnTo>
                  <a:pt x="1269" y="827"/>
                </a:lnTo>
                <a:lnTo>
                  <a:pt x="1269" y="834"/>
                </a:lnTo>
                <a:lnTo>
                  <a:pt x="1262" y="841"/>
                </a:lnTo>
                <a:lnTo>
                  <a:pt x="1255" y="848"/>
                </a:lnTo>
                <a:lnTo>
                  <a:pt x="1248" y="848"/>
                </a:lnTo>
                <a:lnTo>
                  <a:pt x="1241" y="855"/>
                </a:lnTo>
                <a:lnTo>
                  <a:pt x="1241" y="861"/>
                </a:lnTo>
                <a:lnTo>
                  <a:pt x="1235" y="868"/>
                </a:lnTo>
                <a:lnTo>
                  <a:pt x="1235" y="875"/>
                </a:lnTo>
                <a:lnTo>
                  <a:pt x="1228" y="882"/>
                </a:lnTo>
                <a:lnTo>
                  <a:pt x="1228" y="889"/>
                </a:lnTo>
                <a:lnTo>
                  <a:pt x="1228" y="889"/>
                </a:lnTo>
                <a:lnTo>
                  <a:pt x="1235" y="896"/>
                </a:lnTo>
                <a:lnTo>
                  <a:pt x="1235" y="903"/>
                </a:lnTo>
                <a:lnTo>
                  <a:pt x="1241" y="910"/>
                </a:lnTo>
                <a:lnTo>
                  <a:pt x="1255" y="910"/>
                </a:lnTo>
                <a:lnTo>
                  <a:pt x="1262" y="917"/>
                </a:lnTo>
                <a:lnTo>
                  <a:pt x="1269" y="917"/>
                </a:lnTo>
                <a:lnTo>
                  <a:pt x="1276" y="917"/>
                </a:lnTo>
                <a:lnTo>
                  <a:pt x="1283" y="923"/>
                </a:lnTo>
                <a:lnTo>
                  <a:pt x="1276" y="930"/>
                </a:lnTo>
                <a:lnTo>
                  <a:pt x="1276" y="937"/>
                </a:lnTo>
                <a:lnTo>
                  <a:pt x="1269" y="944"/>
                </a:lnTo>
                <a:lnTo>
                  <a:pt x="1269" y="951"/>
                </a:lnTo>
                <a:lnTo>
                  <a:pt x="1269" y="958"/>
                </a:lnTo>
                <a:lnTo>
                  <a:pt x="1269" y="965"/>
                </a:lnTo>
                <a:lnTo>
                  <a:pt x="1269" y="972"/>
                </a:lnTo>
                <a:lnTo>
                  <a:pt x="1276" y="972"/>
                </a:lnTo>
                <a:lnTo>
                  <a:pt x="1276" y="979"/>
                </a:lnTo>
                <a:lnTo>
                  <a:pt x="1276" y="985"/>
                </a:lnTo>
                <a:lnTo>
                  <a:pt x="1276" y="992"/>
                </a:lnTo>
                <a:lnTo>
                  <a:pt x="1276" y="999"/>
                </a:lnTo>
                <a:lnTo>
                  <a:pt x="1276" y="1006"/>
                </a:lnTo>
                <a:lnTo>
                  <a:pt x="1276" y="1013"/>
                </a:lnTo>
                <a:lnTo>
                  <a:pt x="1276" y="1020"/>
                </a:lnTo>
                <a:lnTo>
                  <a:pt x="1276" y="1027"/>
                </a:lnTo>
                <a:lnTo>
                  <a:pt x="1283" y="1034"/>
                </a:lnTo>
                <a:lnTo>
                  <a:pt x="1283" y="1041"/>
                </a:lnTo>
                <a:lnTo>
                  <a:pt x="1283" y="1041"/>
                </a:lnTo>
                <a:lnTo>
                  <a:pt x="1283" y="1047"/>
                </a:lnTo>
                <a:lnTo>
                  <a:pt x="1283" y="1054"/>
                </a:lnTo>
                <a:lnTo>
                  <a:pt x="1290" y="1061"/>
                </a:lnTo>
                <a:lnTo>
                  <a:pt x="1290" y="1068"/>
                </a:lnTo>
                <a:lnTo>
                  <a:pt x="1290" y="1075"/>
                </a:lnTo>
                <a:lnTo>
                  <a:pt x="1290" y="1082"/>
                </a:lnTo>
                <a:lnTo>
                  <a:pt x="1290" y="1089"/>
                </a:lnTo>
                <a:lnTo>
                  <a:pt x="1290" y="1096"/>
                </a:lnTo>
                <a:lnTo>
                  <a:pt x="1297" y="1103"/>
                </a:lnTo>
                <a:lnTo>
                  <a:pt x="1297" y="1103"/>
                </a:lnTo>
                <a:lnTo>
                  <a:pt x="1297" y="1109"/>
                </a:lnTo>
                <a:lnTo>
                  <a:pt x="1297" y="1116"/>
                </a:lnTo>
                <a:lnTo>
                  <a:pt x="1297" y="1123"/>
                </a:lnTo>
                <a:lnTo>
                  <a:pt x="1303" y="1130"/>
                </a:lnTo>
                <a:lnTo>
                  <a:pt x="1303" y="1137"/>
                </a:lnTo>
                <a:lnTo>
                  <a:pt x="1310" y="1144"/>
                </a:lnTo>
                <a:lnTo>
                  <a:pt x="1310" y="1151"/>
                </a:lnTo>
                <a:lnTo>
                  <a:pt x="1310" y="1158"/>
                </a:lnTo>
                <a:lnTo>
                  <a:pt x="1297" y="1158"/>
                </a:lnTo>
                <a:lnTo>
                  <a:pt x="1290" y="1158"/>
                </a:lnTo>
                <a:lnTo>
                  <a:pt x="1283" y="1158"/>
                </a:lnTo>
                <a:lnTo>
                  <a:pt x="1269" y="1165"/>
                </a:lnTo>
                <a:lnTo>
                  <a:pt x="1262" y="1165"/>
                </a:lnTo>
                <a:lnTo>
                  <a:pt x="1255" y="1171"/>
                </a:lnTo>
                <a:lnTo>
                  <a:pt x="1248" y="1171"/>
                </a:lnTo>
                <a:lnTo>
                  <a:pt x="1241" y="1178"/>
                </a:lnTo>
                <a:lnTo>
                  <a:pt x="1241" y="1185"/>
                </a:lnTo>
                <a:lnTo>
                  <a:pt x="1235" y="1178"/>
                </a:lnTo>
                <a:lnTo>
                  <a:pt x="1228" y="1171"/>
                </a:lnTo>
                <a:lnTo>
                  <a:pt x="1228" y="1171"/>
                </a:lnTo>
                <a:lnTo>
                  <a:pt x="1221" y="1165"/>
                </a:lnTo>
                <a:lnTo>
                  <a:pt x="1221" y="1158"/>
                </a:lnTo>
                <a:lnTo>
                  <a:pt x="1221" y="1151"/>
                </a:lnTo>
                <a:lnTo>
                  <a:pt x="1214" y="1151"/>
                </a:lnTo>
                <a:lnTo>
                  <a:pt x="1214" y="1144"/>
                </a:lnTo>
                <a:lnTo>
                  <a:pt x="1221" y="1137"/>
                </a:lnTo>
                <a:lnTo>
                  <a:pt x="1221" y="1130"/>
                </a:lnTo>
                <a:lnTo>
                  <a:pt x="1221" y="1123"/>
                </a:lnTo>
                <a:lnTo>
                  <a:pt x="1221" y="1116"/>
                </a:lnTo>
                <a:lnTo>
                  <a:pt x="1221" y="1109"/>
                </a:lnTo>
                <a:lnTo>
                  <a:pt x="1221" y="1103"/>
                </a:lnTo>
                <a:lnTo>
                  <a:pt x="1221" y="1096"/>
                </a:lnTo>
                <a:lnTo>
                  <a:pt x="1221" y="1089"/>
                </a:lnTo>
                <a:lnTo>
                  <a:pt x="1228" y="1082"/>
                </a:lnTo>
                <a:lnTo>
                  <a:pt x="1228" y="1075"/>
                </a:lnTo>
                <a:lnTo>
                  <a:pt x="1228" y="1075"/>
                </a:lnTo>
                <a:lnTo>
                  <a:pt x="1228" y="1068"/>
                </a:lnTo>
                <a:lnTo>
                  <a:pt x="1228" y="1061"/>
                </a:lnTo>
                <a:lnTo>
                  <a:pt x="1221" y="1054"/>
                </a:lnTo>
                <a:lnTo>
                  <a:pt x="1214" y="1047"/>
                </a:lnTo>
                <a:lnTo>
                  <a:pt x="1207" y="1047"/>
                </a:lnTo>
                <a:lnTo>
                  <a:pt x="1200" y="1041"/>
                </a:lnTo>
                <a:lnTo>
                  <a:pt x="1207" y="1034"/>
                </a:lnTo>
                <a:lnTo>
                  <a:pt x="1214" y="1027"/>
                </a:lnTo>
                <a:lnTo>
                  <a:pt x="1221" y="1034"/>
                </a:lnTo>
                <a:lnTo>
                  <a:pt x="1221" y="1041"/>
                </a:lnTo>
                <a:lnTo>
                  <a:pt x="1228" y="1047"/>
                </a:lnTo>
                <a:lnTo>
                  <a:pt x="1235" y="1054"/>
                </a:lnTo>
                <a:lnTo>
                  <a:pt x="1241" y="1054"/>
                </a:lnTo>
                <a:lnTo>
                  <a:pt x="1248" y="1054"/>
                </a:lnTo>
                <a:lnTo>
                  <a:pt x="1248" y="1047"/>
                </a:lnTo>
                <a:lnTo>
                  <a:pt x="1255" y="1041"/>
                </a:lnTo>
                <a:lnTo>
                  <a:pt x="1262" y="1034"/>
                </a:lnTo>
                <a:lnTo>
                  <a:pt x="1262" y="1027"/>
                </a:lnTo>
                <a:lnTo>
                  <a:pt x="1262" y="1020"/>
                </a:lnTo>
                <a:lnTo>
                  <a:pt x="1262" y="1013"/>
                </a:lnTo>
                <a:lnTo>
                  <a:pt x="1262" y="1006"/>
                </a:lnTo>
                <a:lnTo>
                  <a:pt x="1255" y="1006"/>
                </a:lnTo>
                <a:lnTo>
                  <a:pt x="1248" y="999"/>
                </a:lnTo>
                <a:lnTo>
                  <a:pt x="1235" y="999"/>
                </a:lnTo>
                <a:lnTo>
                  <a:pt x="1228" y="992"/>
                </a:lnTo>
                <a:lnTo>
                  <a:pt x="1221" y="992"/>
                </a:lnTo>
                <a:lnTo>
                  <a:pt x="1214" y="985"/>
                </a:lnTo>
                <a:lnTo>
                  <a:pt x="1207" y="985"/>
                </a:lnTo>
                <a:lnTo>
                  <a:pt x="1200" y="979"/>
                </a:lnTo>
                <a:lnTo>
                  <a:pt x="1186" y="979"/>
                </a:lnTo>
                <a:lnTo>
                  <a:pt x="1179" y="979"/>
                </a:lnTo>
                <a:lnTo>
                  <a:pt x="1172" y="985"/>
                </a:lnTo>
                <a:lnTo>
                  <a:pt x="1172" y="985"/>
                </a:lnTo>
                <a:lnTo>
                  <a:pt x="1166" y="992"/>
                </a:lnTo>
                <a:lnTo>
                  <a:pt x="1166" y="999"/>
                </a:lnTo>
                <a:lnTo>
                  <a:pt x="1159" y="1006"/>
                </a:lnTo>
                <a:lnTo>
                  <a:pt x="1159" y="1013"/>
                </a:lnTo>
                <a:lnTo>
                  <a:pt x="1152" y="1020"/>
                </a:lnTo>
                <a:lnTo>
                  <a:pt x="1152" y="1020"/>
                </a:lnTo>
                <a:lnTo>
                  <a:pt x="1152" y="1027"/>
                </a:lnTo>
                <a:lnTo>
                  <a:pt x="1145" y="1034"/>
                </a:lnTo>
                <a:lnTo>
                  <a:pt x="1145" y="1041"/>
                </a:lnTo>
                <a:lnTo>
                  <a:pt x="1138" y="1047"/>
                </a:lnTo>
                <a:lnTo>
                  <a:pt x="1131" y="1054"/>
                </a:lnTo>
                <a:lnTo>
                  <a:pt x="1124" y="1054"/>
                </a:lnTo>
                <a:lnTo>
                  <a:pt x="1124" y="1061"/>
                </a:lnTo>
                <a:lnTo>
                  <a:pt x="1117" y="1068"/>
                </a:lnTo>
                <a:lnTo>
                  <a:pt x="1110" y="1075"/>
                </a:lnTo>
                <a:lnTo>
                  <a:pt x="1110" y="1082"/>
                </a:lnTo>
                <a:lnTo>
                  <a:pt x="1104" y="1082"/>
                </a:lnTo>
                <a:lnTo>
                  <a:pt x="1097" y="1089"/>
                </a:lnTo>
                <a:lnTo>
                  <a:pt x="1083" y="1089"/>
                </a:lnTo>
                <a:lnTo>
                  <a:pt x="1076" y="1089"/>
                </a:lnTo>
                <a:lnTo>
                  <a:pt x="1069" y="1089"/>
                </a:lnTo>
                <a:lnTo>
                  <a:pt x="1055" y="1089"/>
                </a:lnTo>
                <a:lnTo>
                  <a:pt x="1048" y="1089"/>
                </a:lnTo>
                <a:lnTo>
                  <a:pt x="1035" y="1089"/>
                </a:lnTo>
                <a:lnTo>
                  <a:pt x="1028" y="1096"/>
                </a:lnTo>
                <a:lnTo>
                  <a:pt x="1014" y="1096"/>
                </a:lnTo>
                <a:lnTo>
                  <a:pt x="1007" y="1096"/>
                </a:lnTo>
                <a:lnTo>
                  <a:pt x="1000" y="1096"/>
                </a:lnTo>
                <a:lnTo>
                  <a:pt x="993" y="1089"/>
                </a:lnTo>
                <a:lnTo>
                  <a:pt x="993" y="1082"/>
                </a:lnTo>
                <a:lnTo>
                  <a:pt x="993" y="1075"/>
                </a:lnTo>
                <a:lnTo>
                  <a:pt x="993" y="1068"/>
                </a:lnTo>
                <a:lnTo>
                  <a:pt x="986" y="1061"/>
                </a:lnTo>
                <a:lnTo>
                  <a:pt x="986" y="1054"/>
                </a:lnTo>
                <a:lnTo>
                  <a:pt x="979" y="1047"/>
                </a:lnTo>
                <a:lnTo>
                  <a:pt x="979" y="1047"/>
                </a:lnTo>
                <a:lnTo>
                  <a:pt x="979" y="1041"/>
                </a:lnTo>
                <a:lnTo>
                  <a:pt x="973" y="1034"/>
                </a:lnTo>
                <a:lnTo>
                  <a:pt x="966" y="1034"/>
                </a:lnTo>
                <a:lnTo>
                  <a:pt x="959" y="1034"/>
                </a:lnTo>
                <a:lnTo>
                  <a:pt x="945" y="1041"/>
                </a:lnTo>
                <a:lnTo>
                  <a:pt x="938" y="1041"/>
                </a:lnTo>
                <a:lnTo>
                  <a:pt x="924" y="1041"/>
                </a:lnTo>
                <a:lnTo>
                  <a:pt x="917" y="1041"/>
                </a:lnTo>
                <a:lnTo>
                  <a:pt x="910" y="1041"/>
                </a:lnTo>
                <a:lnTo>
                  <a:pt x="897" y="1047"/>
                </a:lnTo>
                <a:lnTo>
                  <a:pt x="890" y="1047"/>
                </a:lnTo>
                <a:lnTo>
                  <a:pt x="883" y="1047"/>
                </a:lnTo>
                <a:lnTo>
                  <a:pt x="869" y="1054"/>
                </a:lnTo>
                <a:lnTo>
                  <a:pt x="862" y="1054"/>
                </a:lnTo>
                <a:lnTo>
                  <a:pt x="855" y="1054"/>
                </a:lnTo>
                <a:lnTo>
                  <a:pt x="842" y="1054"/>
                </a:lnTo>
                <a:lnTo>
                  <a:pt x="835" y="1054"/>
                </a:lnTo>
                <a:lnTo>
                  <a:pt x="828" y="1054"/>
                </a:lnTo>
                <a:lnTo>
                  <a:pt x="814" y="1054"/>
                </a:lnTo>
                <a:lnTo>
                  <a:pt x="807" y="1047"/>
                </a:lnTo>
                <a:lnTo>
                  <a:pt x="800" y="1047"/>
                </a:lnTo>
                <a:lnTo>
                  <a:pt x="786" y="1041"/>
                </a:lnTo>
                <a:lnTo>
                  <a:pt x="779" y="1041"/>
                </a:lnTo>
                <a:lnTo>
                  <a:pt x="773" y="1034"/>
                </a:lnTo>
                <a:lnTo>
                  <a:pt x="766" y="1034"/>
                </a:lnTo>
                <a:lnTo>
                  <a:pt x="759" y="1027"/>
                </a:lnTo>
                <a:lnTo>
                  <a:pt x="752" y="1020"/>
                </a:lnTo>
                <a:lnTo>
                  <a:pt x="745" y="1020"/>
                </a:lnTo>
                <a:lnTo>
                  <a:pt x="738" y="1013"/>
                </a:lnTo>
                <a:lnTo>
                  <a:pt x="738" y="1006"/>
                </a:lnTo>
                <a:lnTo>
                  <a:pt x="738" y="999"/>
                </a:lnTo>
                <a:lnTo>
                  <a:pt x="731" y="992"/>
                </a:lnTo>
                <a:lnTo>
                  <a:pt x="731" y="985"/>
                </a:lnTo>
                <a:lnTo>
                  <a:pt x="731" y="985"/>
                </a:lnTo>
                <a:lnTo>
                  <a:pt x="731" y="979"/>
                </a:lnTo>
                <a:lnTo>
                  <a:pt x="731" y="972"/>
                </a:lnTo>
                <a:lnTo>
                  <a:pt x="731" y="965"/>
                </a:lnTo>
                <a:lnTo>
                  <a:pt x="731" y="958"/>
                </a:lnTo>
                <a:lnTo>
                  <a:pt x="731" y="951"/>
                </a:lnTo>
                <a:lnTo>
                  <a:pt x="724" y="944"/>
                </a:lnTo>
                <a:lnTo>
                  <a:pt x="724" y="937"/>
                </a:lnTo>
                <a:lnTo>
                  <a:pt x="724" y="930"/>
                </a:lnTo>
                <a:lnTo>
                  <a:pt x="724" y="923"/>
                </a:lnTo>
                <a:lnTo>
                  <a:pt x="724" y="917"/>
                </a:lnTo>
                <a:lnTo>
                  <a:pt x="724" y="917"/>
                </a:lnTo>
                <a:lnTo>
                  <a:pt x="724" y="910"/>
                </a:lnTo>
                <a:lnTo>
                  <a:pt x="724" y="903"/>
                </a:lnTo>
                <a:lnTo>
                  <a:pt x="724" y="896"/>
                </a:lnTo>
                <a:lnTo>
                  <a:pt x="724" y="889"/>
                </a:lnTo>
                <a:lnTo>
                  <a:pt x="724" y="882"/>
                </a:lnTo>
                <a:lnTo>
                  <a:pt x="724" y="875"/>
                </a:lnTo>
                <a:lnTo>
                  <a:pt x="724" y="868"/>
                </a:lnTo>
                <a:lnTo>
                  <a:pt x="724" y="861"/>
                </a:lnTo>
                <a:lnTo>
                  <a:pt x="724" y="855"/>
                </a:lnTo>
                <a:lnTo>
                  <a:pt x="724" y="848"/>
                </a:lnTo>
                <a:lnTo>
                  <a:pt x="724" y="848"/>
                </a:lnTo>
                <a:lnTo>
                  <a:pt x="724" y="841"/>
                </a:lnTo>
                <a:lnTo>
                  <a:pt x="724" y="834"/>
                </a:lnTo>
                <a:lnTo>
                  <a:pt x="724" y="827"/>
                </a:lnTo>
                <a:lnTo>
                  <a:pt x="724" y="820"/>
                </a:lnTo>
                <a:lnTo>
                  <a:pt x="724" y="813"/>
                </a:lnTo>
                <a:lnTo>
                  <a:pt x="717" y="806"/>
                </a:lnTo>
                <a:lnTo>
                  <a:pt x="717" y="799"/>
                </a:lnTo>
                <a:lnTo>
                  <a:pt x="717" y="793"/>
                </a:lnTo>
                <a:lnTo>
                  <a:pt x="717" y="793"/>
                </a:lnTo>
                <a:lnTo>
                  <a:pt x="717" y="786"/>
                </a:lnTo>
                <a:lnTo>
                  <a:pt x="717" y="779"/>
                </a:lnTo>
                <a:lnTo>
                  <a:pt x="717" y="772"/>
                </a:lnTo>
                <a:lnTo>
                  <a:pt x="711" y="765"/>
                </a:lnTo>
                <a:lnTo>
                  <a:pt x="711" y="758"/>
                </a:lnTo>
                <a:lnTo>
                  <a:pt x="704" y="758"/>
                </a:lnTo>
                <a:lnTo>
                  <a:pt x="697" y="765"/>
                </a:lnTo>
                <a:lnTo>
                  <a:pt x="690" y="772"/>
                </a:lnTo>
                <a:lnTo>
                  <a:pt x="690" y="779"/>
                </a:lnTo>
                <a:lnTo>
                  <a:pt x="690" y="786"/>
                </a:lnTo>
                <a:lnTo>
                  <a:pt x="690" y="793"/>
                </a:lnTo>
                <a:lnTo>
                  <a:pt x="690" y="799"/>
                </a:lnTo>
                <a:lnTo>
                  <a:pt x="683" y="806"/>
                </a:lnTo>
                <a:lnTo>
                  <a:pt x="683" y="813"/>
                </a:lnTo>
                <a:lnTo>
                  <a:pt x="676" y="813"/>
                </a:lnTo>
                <a:lnTo>
                  <a:pt x="676" y="820"/>
                </a:lnTo>
                <a:lnTo>
                  <a:pt x="669" y="827"/>
                </a:lnTo>
                <a:lnTo>
                  <a:pt x="662" y="834"/>
                </a:lnTo>
                <a:lnTo>
                  <a:pt x="662" y="841"/>
                </a:lnTo>
                <a:lnTo>
                  <a:pt x="662" y="841"/>
                </a:lnTo>
                <a:lnTo>
                  <a:pt x="662" y="848"/>
                </a:lnTo>
                <a:lnTo>
                  <a:pt x="662" y="855"/>
                </a:lnTo>
                <a:lnTo>
                  <a:pt x="662" y="861"/>
                </a:lnTo>
                <a:lnTo>
                  <a:pt x="662" y="868"/>
                </a:lnTo>
                <a:lnTo>
                  <a:pt x="655" y="875"/>
                </a:lnTo>
                <a:lnTo>
                  <a:pt x="655" y="882"/>
                </a:lnTo>
                <a:lnTo>
                  <a:pt x="655" y="889"/>
                </a:lnTo>
                <a:lnTo>
                  <a:pt x="655" y="896"/>
                </a:lnTo>
                <a:lnTo>
                  <a:pt x="655" y="903"/>
                </a:lnTo>
                <a:lnTo>
                  <a:pt x="655" y="910"/>
                </a:lnTo>
                <a:lnTo>
                  <a:pt x="648" y="917"/>
                </a:lnTo>
                <a:lnTo>
                  <a:pt x="648" y="917"/>
                </a:lnTo>
                <a:lnTo>
                  <a:pt x="648" y="923"/>
                </a:lnTo>
                <a:lnTo>
                  <a:pt x="648" y="930"/>
                </a:lnTo>
                <a:lnTo>
                  <a:pt x="648" y="937"/>
                </a:lnTo>
                <a:lnTo>
                  <a:pt x="648" y="944"/>
                </a:lnTo>
                <a:lnTo>
                  <a:pt x="648" y="951"/>
                </a:lnTo>
                <a:lnTo>
                  <a:pt x="642" y="958"/>
                </a:lnTo>
                <a:lnTo>
                  <a:pt x="642" y="965"/>
                </a:lnTo>
                <a:lnTo>
                  <a:pt x="642" y="972"/>
                </a:lnTo>
                <a:lnTo>
                  <a:pt x="642" y="979"/>
                </a:lnTo>
                <a:lnTo>
                  <a:pt x="642" y="979"/>
                </a:lnTo>
                <a:lnTo>
                  <a:pt x="642" y="985"/>
                </a:lnTo>
                <a:lnTo>
                  <a:pt x="642" y="992"/>
                </a:lnTo>
                <a:lnTo>
                  <a:pt x="635" y="999"/>
                </a:lnTo>
                <a:lnTo>
                  <a:pt x="635" y="1006"/>
                </a:lnTo>
                <a:lnTo>
                  <a:pt x="635" y="1013"/>
                </a:lnTo>
                <a:lnTo>
                  <a:pt x="635" y="1020"/>
                </a:lnTo>
                <a:lnTo>
                  <a:pt x="635" y="1027"/>
                </a:lnTo>
                <a:lnTo>
                  <a:pt x="635" y="1034"/>
                </a:lnTo>
                <a:lnTo>
                  <a:pt x="635" y="1041"/>
                </a:lnTo>
                <a:lnTo>
                  <a:pt x="628" y="1041"/>
                </a:lnTo>
                <a:lnTo>
                  <a:pt x="621" y="1047"/>
                </a:lnTo>
                <a:lnTo>
                  <a:pt x="614" y="1054"/>
                </a:lnTo>
                <a:lnTo>
                  <a:pt x="607" y="1061"/>
                </a:lnTo>
                <a:lnTo>
                  <a:pt x="600" y="1061"/>
                </a:lnTo>
                <a:lnTo>
                  <a:pt x="600" y="1068"/>
                </a:lnTo>
                <a:lnTo>
                  <a:pt x="607" y="1075"/>
                </a:lnTo>
                <a:lnTo>
                  <a:pt x="607" y="1082"/>
                </a:lnTo>
                <a:lnTo>
                  <a:pt x="614" y="1089"/>
                </a:lnTo>
                <a:lnTo>
                  <a:pt x="621" y="1089"/>
                </a:lnTo>
                <a:lnTo>
                  <a:pt x="628" y="1096"/>
                </a:lnTo>
                <a:lnTo>
                  <a:pt x="635" y="1103"/>
                </a:lnTo>
                <a:lnTo>
                  <a:pt x="635" y="1109"/>
                </a:lnTo>
                <a:lnTo>
                  <a:pt x="642" y="1116"/>
                </a:lnTo>
                <a:lnTo>
                  <a:pt x="648" y="1116"/>
                </a:lnTo>
                <a:lnTo>
                  <a:pt x="648" y="1123"/>
                </a:lnTo>
                <a:lnTo>
                  <a:pt x="648" y="1130"/>
                </a:lnTo>
                <a:lnTo>
                  <a:pt x="642" y="1137"/>
                </a:lnTo>
                <a:lnTo>
                  <a:pt x="635" y="1137"/>
                </a:lnTo>
                <a:lnTo>
                  <a:pt x="628" y="1144"/>
                </a:lnTo>
                <a:lnTo>
                  <a:pt x="614" y="1151"/>
                </a:lnTo>
                <a:lnTo>
                  <a:pt x="607" y="1151"/>
                </a:lnTo>
                <a:lnTo>
                  <a:pt x="600" y="1158"/>
                </a:lnTo>
                <a:lnTo>
                  <a:pt x="593" y="1158"/>
                </a:lnTo>
                <a:lnTo>
                  <a:pt x="586" y="1165"/>
                </a:lnTo>
                <a:lnTo>
                  <a:pt x="580" y="1171"/>
                </a:lnTo>
                <a:lnTo>
                  <a:pt x="573" y="1171"/>
                </a:lnTo>
                <a:lnTo>
                  <a:pt x="566" y="1178"/>
                </a:lnTo>
                <a:lnTo>
                  <a:pt x="559" y="1178"/>
                </a:lnTo>
                <a:lnTo>
                  <a:pt x="552" y="1185"/>
                </a:lnTo>
                <a:lnTo>
                  <a:pt x="545" y="1192"/>
                </a:lnTo>
                <a:lnTo>
                  <a:pt x="538" y="1192"/>
                </a:lnTo>
                <a:lnTo>
                  <a:pt x="538" y="1199"/>
                </a:lnTo>
                <a:lnTo>
                  <a:pt x="531" y="1206"/>
                </a:lnTo>
                <a:lnTo>
                  <a:pt x="524" y="1213"/>
                </a:lnTo>
                <a:lnTo>
                  <a:pt x="517" y="1213"/>
                </a:lnTo>
                <a:lnTo>
                  <a:pt x="511" y="1220"/>
                </a:lnTo>
                <a:lnTo>
                  <a:pt x="504" y="1220"/>
                </a:lnTo>
                <a:lnTo>
                  <a:pt x="497" y="1227"/>
                </a:lnTo>
                <a:lnTo>
                  <a:pt x="490" y="1233"/>
                </a:lnTo>
                <a:lnTo>
                  <a:pt x="483" y="1233"/>
                </a:lnTo>
                <a:lnTo>
                  <a:pt x="476" y="1240"/>
                </a:lnTo>
                <a:lnTo>
                  <a:pt x="469" y="1247"/>
                </a:lnTo>
                <a:lnTo>
                  <a:pt x="504" y="1275"/>
                </a:lnTo>
                <a:lnTo>
                  <a:pt x="531" y="1302"/>
                </a:lnTo>
                <a:lnTo>
                  <a:pt x="559" y="1337"/>
                </a:lnTo>
                <a:lnTo>
                  <a:pt x="593" y="1364"/>
                </a:lnTo>
                <a:lnTo>
                  <a:pt x="621" y="1392"/>
                </a:lnTo>
                <a:lnTo>
                  <a:pt x="648" y="1426"/>
                </a:lnTo>
                <a:lnTo>
                  <a:pt x="676" y="1454"/>
                </a:lnTo>
                <a:lnTo>
                  <a:pt x="711" y="1481"/>
                </a:lnTo>
                <a:lnTo>
                  <a:pt x="738" y="1516"/>
                </a:lnTo>
                <a:lnTo>
                  <a:pt x="766" y="1543"/>
                </a:lnTo>
                <a:lnTo>
                  <a:pt x="793" y="1571"/>
                </a:lnTo>
                <a:lnTo>
                  <a:pt x="828" y="1599"/>
                </a:lnTo>
                <a:lnTo>
                  <a:pt x="855" y="1633"/>
                </a:lnTo>
                <a:lnTo>
                  <a:pt x="883" y="1633"/>
                </a:lnTo>
                <a:lnTo>
                  <a:pt x="917" y="1660"/>
                </a:lnTo>
                <a:lnTo>
                  <a:pt x="945" y="1688"/>
                </a:lnTo>
                <a:lnTo>
                  <a:pt x="973" y="1722"/>
                </a:lnTo>
                <a:lnTo>
                  <a:pt x="1000" y="1750"/>
                </a:lnTo>
                <a:lnTo>
                  <a:pt x="1035" y="1778"/>
                </a:lnTo>
                <a:lnTo>
                  <a:pt x="1062" y="1812"/>
                </a:lnTo>
                <a:lnTo>
                  <a:pt x="1090" y="1840"/>
                </a:lnTo>
                <a:lnTo>
                  <a:pt x="1124" y="1840"/>
                </a:lnTo>
                <a:lnTo>
                  <a:pt x="1152" y="1840"/>
                </a:lnTo>
                <a:lnTo>
                  <a:pt x="1179" y="1840"/>
                </a:lnTo>
                <a:lnTo>
                  <a:pt x="1207" y="1840"/>
                </a:lnTo>
                <a:lnTo>
                  <a:pt x="1241" y="1840"/>
                </a:lnTo>
                <a:lnTo>
                  <a:pt x="1269" y="1840"/>
                </a:lnTo>
                <a:lnTo>
                  <a:pt x="1297" y="1840"/>
                </a:lnTo>
                <a:lnTo>
                  <a:pt x="1331" y="1840"/>
                </a:lnTo>
                <a:lnTo>
                  <a:pt x="1359" y="1840"/>
                </a:lnTo>
                <a:lnTo>
                  <a:pt x="1386" y="1840"/>
                </a:lnTo>
                <a:lnTo>
                  <a:pt x="1414" y="1840"/>
                </a:lnTo>
                <a:lnTo>
                  <a:pt x="1448" y="1840"/>
                </a:lnTo>
                <a:lnTo>
                  <a:pt x="1476" y="1840"/>
                </a:lnTo>
                <a:lnTo>
                  <a:pt x="1503" y="1840"/>
                </a:lnTo>
                <a:lnTo>
                  <a:pt x="1538" y="1840"/>
                </a:lnTo>
                <a:lnTo>
                  <a:pt x="1566" y="1840"/>
                </a:lnTo>
                <a:lnTo>
                  <a:pt x="1593" y="1840"/>
                </a:lnTo>
                <a:lnTo>
                  <a:pt x="1621" y="1840"/>
                </a:lnTo>
                <a:lnTo>
                  <a:pt x="1655" y="1840"/>
                </a:lnTo>
                <a:lnTo>
                  <a:pt x="1683" y="1840"/>
                </a:lnTo>
                <a:lnTo>
                  <a:pt x="1710" y="1840"/>
                </a:lnTo>
                <a:lnTo>
                  <a:pt x="1745" y="1840"/>
                </a:lnTo>
                <a:lnTo>
                  <a:pt x="1772" y="1840"/>
                </a:lnTo>
                <a:lnTo>
                  <a:pt x="1800" y="1840"/>
                </a:lnTo>
                <a:lnTo>
                  <a:pt x="1828" y="1840"/>
                </a:lnTo>
                <a:lnTo>
                  <a:pt x="1862" y="1840"/>
                </a:lnTo>
                <a:lnTo>
                  <a:pt x="1890" y="1840"/>
                </a:lnTo>
                <a:lnTo>
                  <a:pt x="1917" y="1840"/>
                </a:lnTo>
                <a:lnTo>
                  <a:pt x="1952" y="1840"/>
                </a:lnTo>
                <a:lnTo>
                  <a:pt x="1979" y="1840"/>
                </a:lnTo>
                <a:lnTo>
                  <a:pt x="2007" y="1840"/>
                </a:lnTo>
                <a:lnTo>
                  <a:pt x="2034" y="1840"/>
                </a:lnTo>
                <a:lnTo>
                  <a:pt x="2069" y="1840"/>
                </a:lnTo>
                <a:lnTo>
                  <a:pt x="2096" y="1840"/>
                </a:lnTo>
                <a:lnTo>
                  <a:pt x="2124" y="1840"/>
                </a:lnTo>
                <a:lnTo>
                  <a:pt x="2158" y="1840"/>
                </a:lnTo>
                <a:lnTo>
                  <a:pt x="2186" y="1840"/>
                </a:lnTo>
                <a:lnTo>
                  <a:pt x="2214" y="1840"/>
                </a:lnTo>
                <a:lnTo>
                  <a:pt x="2241" y="1840"/>
                </a:lnTo>
                <a:lnTo>
                  <a:pt x="2276" y="1840"/>
                </a:lnTo>
                <a:lnTo>
                  <a:pt x="2303" y="1840"/>
                </a:lnTo>
                <a:lnTo>
                  <a:pt x="2331" y="1840"/>
                </a:lnTo>
                <a:lnTo>
                  <a:pt x="2365" y="1840"/>
                </a:lnTo>
                <a:lnTo>
                  <a:pt x="2393" y="1840"/>
                </a:lnTo>
                <a:lnTo>
                  <a:pt x="2420" y="1840"/>
                </a:lnTo>
                <a:lnTo>
                  <a:pt x="2448" y="1840"/>
                </a:lnTo>
                <a:lnTo>
                  <a:pt x="2483" y="1840"/>
                </a:lnTo>
                <a:close/>
                <a:moveTo>
                  <a:pt x="449" y="1213"/>
                </a:moveTo>
                <a:lnTo>
                  <a:pt x="442" y="1213"/>
                </a:lnTo>
                <a:lnTo>
                  <a:pt x="442" y="1213"/>
                </a:lnTo>
                <a:lnTo>
                  <a:pt x="469" y="1247"/>
                </a:lnTo>
                <a:lnTo>
                  <a:pt x="449" y="1213"/>
                </a:lnTo>
                <a:close/>
                <a:moveTo>
                  <a:pt x="421" y="1185"/>
                </a:moveTo>
                <a:lnTo>
                  <a:pt x="414" y="1171"/>
                </a:lnTo>
                <a:lnTo>
                  <a:pt x="414" y="1185"/>
                </a:lnTo>
                <a:lnTo>
                  <a:pt x="421" y="1185"/>
                </a:lnTo>
                <a:close/>
                <a:moveTo>
                  <a:pt x="400" y="1158"/>
                </a:moveTo>
                <a:lnTo>
                  <a:pt x="386" y="1137"/>
                </a:lnTo>
                <a:lnTo>
                  <a:pt x="386" y="1158"/>
                </a:lnTo>
                <a:lnTo>
                  <a:pt x="400" y="1158"/>
                </a:lnTo>
                <a:close/>
                <a:moveTo>
                  <a:pt x="373" y="1130"/>
                </a:moveTo>
                <a:lnTo>
                  <a:pt x="352" y="1103"/>
                </a:lnTo>
                <a:lnTo>
                  <a:pt x="352" y="1130"/>
                </a:lnTo>
                <a:lnTo>
                  <a:pt x="373" y="1130"/>
                </a:lnTo>
                <a:close/>
                <a:moveTo>
                  <a:pt x="931" y="1130"/>
                </a:moveTo>
                <a:lnTo>
                  <a:pt x="938" y="1123"/>
                </a:lnTo>
                <a:lnTo>
                  <a:pt x="938" y="1123"/>
                </a:lnTo>
                <a:lnTo>
                  <a:pt x="945" y="1123"/>
                </a:lnTo>
                <a:lnTo>
                  <a:pt x="952" y="1123"/>
                </a:lnTo>
                <a:lnTo>
                  <a:pt x="959" y="1123"/>
                </a:lnTo>
                <a:lnTo>
                  <a:pt x="966" y="1123"/>
                </a:lnTo>
                <a:lnTo>
                  <a:pt x="973" y="1123"/>
                </a:lnTo>
                <a:lnTo>
                  <a:pt x="979" y="1123"/>
                </a:lnTo>
                <a:lnTo>
                  <a:pt x="979" y="1123"/>
                </a:lnTo>
                <a:lnTo>
                  <a:pt x="986" y="1123"/>
                </a:lnTo>
                <a:lnTo>
                  <a:pt x="993" y="1123"/>
                </a:lnTo>
                <a:lnTo>
                  <a:pt x="1000" y="1123"/>
                </a:lnTo>
                <a:lnTo>
                  <a:pt x="1007" y="1130"/>
                </a:lnTo>
                <a:lnTo>
                  <a:pt x="1000" y="1130"/>
                </a:lnTo>
                <a:lnTo>
                  <a:pt x="993" y="1130"/>
                </a:lnTo>
                <a:lnTo>
                  <a:pt x="986" y="1130"/>
                </a:lnTo>
                <a:lnTo>
                  <a:pt x="979" y="1130"/>
                </a:lnTo>
                <a:lnTo>
                  <a:pt x="979" y="1130"/>
                </a:lnTo>
                <a:lnTo>
                  <a:pt x="973" y="1130"/>
                </a:lnTo>
                <a:lnTo>
                  <a:pt x="966" y="1137"/>
                </a:lnTo>
                <a:lnTo>
                  <a:pt x="959" y="1137"/>
                </a:lnTo>
                <a:lnTo>
                  <a:pt x="952" y="1137"/>
                </a:lnTo>
                <a:lnTo>
                  <a:pt x="945" y="1137"/>
                </a:lnTo>
                <a:lnTo>
                  <a:pt x="938" y="1130"/>
                </a:lnTo>
                <a:lnTo>
                  <a:pt x="938" y="1130"/>
                </a:lnTo>
                <a:lnTo>
                  <a:pt x="931" y="1130"/>
                </a:lnTo>
                <a:close/>
                <a:moveTo>
                  <a:pt x="352" y="1096"/>
                </a:moveTo>
                <a:lnTo>
                  <a:pt x="345" y="1096"/>
                </a:lnTo>
                <a:lnTo>
                  <a:pt x="345" y="1089"/>
                </a:lnTo>
                <a:lnTo>
                  <a:pt x="338" y="1089"/>
                </a:lnTo>
                <a:lnTo>
                  <a:pt x="338" y="1082"/>
                </a:lnTo>
                <a:lnTo>
                  <a:pt x="331" y="1075"/>
                </a:lnTo>
                <a:lnTo>
                  <a:pt x="331" y="1075"/>
                </a:lnTo>
                <a:lnTo>
                  <a:pt x="324" y="1068"/>
                </a:lnTo>
                <a:lnTo>
                  <a:pt x="324" y="1068"/>
                </a:lnTo>
                <a:lnTo>
                  <a:pt x="324" y="1068"/>
                </a:lnTo>
                <a:lnTo>
                  <a:pt x="324" y="1096"/>
                </a:lnTo>
                <a:lnTo>
                  <a:pt x="352" y="1096"/>
                </a:lnTo>
                <a:close/>
                <a:moveTo>
                  <a:pt x="304" y="1041"/>
                </a:moveTo>
                <a:lnTo>
                  <a:pt x="297" y="1027"/>
                </a:lnTo>
                <a:lnTo>
                  <a:pt x="297" y="1041"/>
                </a:lnTo>
                <a:lnTo>
                  <a:pt x="304" y="1041"/>
                </a:lnTo>
                <a:close/>
                <a:moveTo>
                  <a:pt x="276" y="1006"/>
                </a:moveTo>
                <a:lnTo>
                  <a:pt x="262" y="992"/>
                </a:lnTo>
                <a:lnTo>
                  <a:pt x="262" y="1006"/>
                </a:lnTo>
                <a:lnTo>
                  <a:pt x="276" y="1006"/>
                </a:lnTo>
                <a:close/>
                <a:moveTo>
                  <a:pt x="255" y="979"/>
                </a:moveTo>
                <a:lnTo>
                  <a:pt x="235" y="958"/>
                </a:lnTo>
                <a:lnTo>
                  <a:pt x="235" y="979"/>
                </a:lnTo>
                <a:lnTo>
                  <a:pt x="255" y="979"/>
                </a:lnTo>
                <a:close/>
                <a:moveTo>
                  <a:pt x="1007" y="979"/>
                </a:moveTo>
                <a:lnTo>
                  <a:pt x="1007" y="972"/>
                </a:lnTo>
                <a:lnTo>
                  <a:pt x="1000" y="972"/>
                </a:lnTo>
                <a:lnTo>
                  <a:pt x="1000" y="979"/>
                </a:lnTo>
                <a:lnTo>
                  <a:pt x="1000" y="979"/>
                </a:lnTo>
                <a:lnTo>
                  <a:pt x="1000" y="985"/>
                </a:lnTo>
                <a:lnTo>
                  <a:pt x="1000" y="992"/>
                </a:lnTo>
                <a:lnTo>
                  <a:pt x="1000" y="992"/>
                </a:lnTo>
                <a:lnTo>
                  <a:pt x="1000" y="992"/>
                </a:lnTo>
                <a:lnTo>
                  <a:pt x="1007" y="992"/>
                </a:lnTo>
                <a:lnTo>
                  <a:pt x="1007" y="992"/>
                </a:lnTo>
                <a:lnTo>
                  <a:pt x="1007" y="992"/>
                </a:lnTo>
                <a:lnTo>
                  <a:pt x="1007" y="992"/>
                </a:lnTo>
                <a:lnTo>
                  <a:pt x="1007" y="985"/>
                </a:lnTo>
                <a:lnTo>
                  <a:pt x="1007" y="979"/>
                </a:lnTo>
                <a:close/>
                <a:moveTo>
                  <a:pt x="228" y="951"/>
                </a:moveTo>
                <a:lnTo>
                  <a:pt x="228" y="944"/>
                </a:lnTo>
                <a:lnTo>
                  <a:pt x="221" y="937"/>
                </a:lnTo>
                <a:lnTo>
                  <a:pt x="214" y="930"/>
                </a:lnTo>
                <a:lnTo>
                  <a:pt x="214" y="930"/>
                </a:lnTo>
                <a:lnTo>
                  <a:pt x="207" y="923"/>
                </a:lnTo>
                <a:lnTo>
                  <a:pt x="207" y="917"/>
                </a:lnTo>
                <a:lnTo>
                  <a:pt x="200" y="910"/>
                </a:lnTo>
                <a:lnTo>
                  <a:pt x="193" y="910"/>
                </a:lnTo>
                <a:lnTo>
                  <a:pt x="193" y="903"/>
                </a:lnTo>
                <a:lnTo>
                  <a:pt x="187" y="896"/>
                </a:lnTo>
                <a:lnTo>
                  <a:pt x="187" y="889"/>
                </a:lnTo>
                <a:lnTo>
                  <a:pt x="180" y="889"/>
                </a:lnTo>
                <a:lnTo>
                  <a:pt x="173" y="882"/>
                </a:lnTo>
                <a:lnTo>
                  <a:pt x="173" y="875"/>
                </a:lnTo>
                <a:lnTo>
                  <a:pt x="166" y="868"/>
                </a:lnTo>
                <a:lnTo>
                  <a:pt x="166" y="868"/>
                </a:lnTo>
                <a:lnTo>
                  <a:pt x="159" y="861"/>
                </a:lnTo>
                <a:lnTo>
                  <a:pt x="152" y="855"/>
                </a:lnTo>
                <a:lnTo>
                  <a:pt x="152" y="848"/>
                </a:lnTo>
                <a:lnTo>
                  <a:pt x="145" y="848"/>
                </a:lnTo>
                <a:lnTo>
                  <a:pt x="145" y="861"/>
                </a:lnTo>
                <a:lnTo>
                  <a:pt x="145" y="889"/>
                </a:lnTo>
                <a:lnTo>
                  <a:pt x="180" y="917"/>
                </a:lnTo>
                <a:lnTo>
                  <a:pt x="207" y="951"/>
                </a:lnTo>
                <a:lnTo>
                  <a:pt x="228" y="951"/>
                </a:lnTo>
                <a:close/>
                <a:moveTo>
                  <a:pt x="1048" y="951"/>
                </a:moveTo>
                <a:lnTo>
                  <a:pt x="1055" y="944"/>
                </a:lnTo>
                <a:lnTo>
                  <a:pt x="1062" y="937"/>
                </a:lnTo>
                <a:lnTo>
                  <a:pt x="1069" y="937"/>
                </a:lnTo>
                <a:lnTo>
                  <a:pt x="1076" y="937"/>
                </a:lnTo>
                <a:lnTo>
                  <a:pt x="1090" y="944"/>
                </a:lnTo>
                <a:lnTo>
                  <a:pt x="1097" y="944"/>
                </a:lnTo>
                <a:lnTo>
                  <a:pt x="1104" y="944"/>
                </a:lnTo>
                <a:lnTo>
                  <a:pt x="1110" y="937"/>
                </a:lnTo>
                <a:lnTo>
                  <a:pt x="1117" y="930"/>
                </a:lnTo>
                <a:lnTo>
                  <a:pt x="1117" y="923"/>
                </a:lnTo>
                <a:lnTo>
                  <a:pt x="1117" y="917"/>
                </a:lnTo>
                <a:lnTo>
                  <a:pt x="1110" y="910"/>
                </a:lnTo>
                <a:lnTo>
                  <a:pt x="1110" y="903"/>
                </a:lnTo>
                <a:lnTo>
                  <a:pt x="1104" y="896"/>
                </a:lnTo>
                <a:lnTo>
                  <a:pt x="1097" y="896"/>
                </a:lnTo>
                <a:lnTo>
                  <a:pt x="1097" y="889"/>
                </a:lnTo>
                <a:lnTo>
                  <a:pt x="1097" y="882"/>
                </a:lnTo>
                <a:lnTo>
                  <a:pt x="1097" y="875"/>
                </a:lnTo>
                <a:lnTo>
                  <a:pt x="1097" y="868"/>
                </a:lnTo>
                <a:lnTo>
                  <a:pt x="1097" y="861"/>
                </a:lnTo>
                <a:lnTo>
                  <a:pt x="1090" y="855"/>
                </a:lnTo>
                <a:lnTo>
                  <a:pt x="1090" y="848"/>
                </a:lnTo>
                <a:lnTo>
                  <a:pt x="1090" y="848"/>
                </a:lnTo>
                <a:lnTo>
                  <a:pt x="1083" y="841"/>
                </a:lnTo>
                <a:lnTo>
                  <a:pt x="1083" y="834"/>
                </a:lnTo>
                <a:lnTo>
                  <a:pt x="1076" y="827"/>
                </a:lnTo>
                <a:lnTo>
                  <a:pt x="1076" y="820"/>
                </a:lnTo>
                <a:lnTo>
                  <a:pt x="1076" y="813"/>
                </a:lnTo>
                <a:lnTo>
                  <a:pt x="1076" y="806"/>
                </a:lnTo>
                <a:lnTo>
                  <a:pt x="1076" y="806"/>
                </a:lnTo>
                <a:lnTo>
                  <a:pt x="1076" y="799"/>
                </a:lnTo>
                <a:lnTo>
                  <a:pt x="1069" y="793"/>
                </a:lnTo>
                <a:lnTo>
                  <a:pt x="1069" y="786"/>
                </a:lnTo>
                <a:lnTo>
                  <a:pt x="1069" y="779"/>
                </a:lnTo>
                <a:lnTo>
                  <a:pt x="1069" y="772"/>
                </a:lnTo>
                <a:lnTo>
                  <a:pt x="1069" y="765"/>
                </a:lnTo>
                <a:lnTo>
                  <a:pt x="1069" y="758"/>
                </a:lnTo>
                <a:lnTo>
                  <a:pt x="1069" y="751"/>
                </a:lnTo>
                <a:lnTo>
                  <a:pt x="1069" y="751"/>
                </a:lnTo>
                <a:lnTo>
                  <a:pt x="1062" y="744"/>
                </a:lnTo>
                <a:lnTo>
                  <a:pt x="1062" y="737"/>
                </a:lnTo>
                <a:lnTo>
                  <a:pt x="1062" y="731"/>
                </a:lnTo>
                <a:lnTo>
                  <a:pt x="1062" y="724"/>
                </a:lnTo>
                <a:lnTo>
                  <a:pt x="1055" y="717"/>
                </a:lnTo>
                <a:lnTo>
                  <a:pt x="1055" y="710"/>
                </a:lnTo>
                <a:lnTo>
                  <a:pt x="1055" y="703"/>
                </a:lnTo>
                <a:lnTo>
                  <a:pt x="1048" y="703"/>
                </a:lnTo>
                <a:lnTo>
                  <a:pt x="1048" y="696"/>
                </a:lnTo>
                <a:lnTo>
                  <a:pt x="1048" y="689"/>
                </a:lnTo>
                <a:lnTo>
                  <a:pt x="1041" y="682"/>
                </a:lnTo>
                <a:lnTo>
                  <a:pt x="1041" y="675"/>
                </a:lnTo>
                <a:lnTo>
                  <a:pt x="1041" y="669"/>
                </a:lnTo>
                <a:lnTo>
                  <a:pt x="1041" y="662"/>
                </a:lnTo>
                <a:lnTo>
                  <a:pt x="1041" y="655"/>
                </a:lnTo>
                <a:lnTo>
                  <a:pt x="1041" y="655"/>
                </a:lnTo>
                <a:lnTo>
                  <a:pt x="1041" y="648"/>
                </a:lnTo>
                <a:lnTo>
                  <a:pt x="1041" y="641"/>
                </a:lnTo>
                <a:lnTo>
                  <a:pt x="1041" y="634"/>
                </a:lnTo>
                <a:lnTo>
                  <a:pt x="1035" y="627"/>
                </a:lnTo>
                <a:lnTo>
                  <a:pt x="1035" y="620"/>
                </a:lnTo>
                <a:lnTo>
                  <a:pt x="1035" y="613"/>
                </a:lnTo>
                <a:lnTo>
                  <a:pt x="1028" y="607"/>
                </a:lnTo>
                <a:lnTo>
                  <a:pt x="1028" y="607"/>
                </a:lnTo>
                <a:lnTo>
                  <a:pt x="1028" y="600"/>
                </a:lnTo>
                <a:lnTo>
                  <a:pt x="1021" y="593"/>
                </a:lnTo>
                <a:lnTo>
                  <a:pt x="1021" y="586"/>
                </a:lnTo>
                <a:lnTo>
                  <a:pt x="1021" y="579"/>
                </a:lnTo>
                <a:lnTo>
                  <a:pt x="1021" y="572"/>
                </a:lnTo>
                <a:lnTo>
                  <a:pt x="1014" y="565"/>
                </a:lnTo>
                <a:lnTo>
                  <a:pt x="1014" y="558"/>
                </a:lnTo>
                <a:lnTo>
                  <a:pt x="1007" y="558"/>
                </a:lnTo>
                <a:lnTo>
                  <a:pt x="1007" y="551"/>
                </a:lnTo>
                <a:lnTo>
                  <a:pt x="1000" y="545"/>
                </a:lnTo>
                <a:lnTo>
                  <a:pt x="993" y="538"/>
                </a:lnTo>
                <a:lnTo>
                  <a:pt x="993" y="538"/>
                </a:lnTo>
                <a:lnTo>
                  <a:pt x="986" y="531"/>
                </a:lnTo>
                <a:lnTo>
                  <a:pt x="986" y="524"/>
                </a:lnTo>
                <a:lnTo>
                  <a:pt x="986" y="517"/>
                </a:lnTo>
                <a:lnTo>
                  <a:pt x="979" y="510"/>
                </a:lnTo>
                <a:lnTo>
                  <a:pt x="973" y="503"/>
                </a:lnTo>
                <a:lnTo>
                  <a:pt x="979" y="503"/>
                </a:lnTo>
                <a:lnTo>
                  <a:pt x="986" y="510"/>
                </a:lnTo>
                <a:lnTo>
                  <a:pt x="993" y="510"/>
                </a:lnTo>
                <a:lnTo>
                  <a:pt x="1000" y="510"/>
                </a:lnTo>
                <a:lnTo>
                  <a:pt x="1007" y="517"/>
                </a:lnTo>
                <a:lnTo>
                  <a:pt x="1014" y="517"/>
                </a:lnTo>
                <a:lnTo>
                  <a:pt x="1021" y="524"/>
                </a:lnTo>
                <a:lnTo>
                  <a:pt x="1028" y="531"/>
                </a:lnTo>
                <a:lnTo>
                  <a:pt x="1028" y="538"/>
                </a:lnTo>
                <a:lnTo>
                  <a:pt x="1041" y="538"/>
                </a:lnTo>
                <a:lnTo>
                  <a:pt x="1048" y="531"/>
                </a:lnTo>
                <a:lnTo>
                  <a:pt x="1048" y="531"/>
                </a:lnTo>
                <a:lnTo>
                  <a:pt x="1048" y="524"/>
                </a:lnTo>
                <a:lnTo>
                  <a:pt x="1048" y="517"/>
                </a:lnTo>
                <a:lnTo>
                  <a:pt x="1041" y="510"/>
                </a:lnTo>
                <a:lnTo>
                  <a:pt x="1041" y="503"/>
                </a:lnTo>
                <a:lnTo>
                  <a:pt x="1035" y="496"/>
                </a:lnTo>
                <a:lnTo>
                  <a:pt x="1035" y="489"/>
                </a:lnTo>
                <a:lnTo>
                  <a:pt x="1035" y="483"/>
                </a:lnTo>
                <a:lnTo>
                  <a:pt x="1035" y="483"/>
                </a:lnTo>
                <a:lnTo>
                  <a:pt x="1035" y="476"/>
                </a:lnTo>
                <a:lnTo>
                  <a:pt x="1028" y="469"/>
                </a:lnTo>
                <a:lnTo>
                  <a:pt x="1028" y="462"/>
                </a:lnTo>
                <a:lnTo>
                  <a:pt x="1028" y="455"/>
                </a:lnTo>
                <a:lnTo>
                  <a:pt x="1028" y="448"/>
                </a:lnTo>
                <a:lnTo>
                  <a:pt x="1021" y="441"/>
                </a:lnTo>
                <a:lnTo>
                  <a:pt x="1021" y="434"/>
                </a:lnTo>
                <a:lnTo>
                  <a:pt x="1021" y="434"/>
                </a:lnTo>
                <a:lnTo>
                  <a:pt x="1021" y="427"/>
                </a:lnTo>
                <a:lnTo>
                  <a:pt x="1014" y="421"/>
                </a:lnTo>
                <a:lnTo>
                  <a:pt x="1014" y="414"/>
                </a:lnTo>
                <a:lnTo>
                  <a:pt x="1014" y="407"/>
                </a:lnTo>
                <a:lnTo>
                  <a:pt x="1007" y="400"/>
                </a:lnTo>
                <a:lnTo>
                  <a:pt x="1007" y="393"/>
                </a:lnTo>
                <a:lnTo>
                  <a:pt x="1007" y="386"/>
                </a:lnTo>
                <a:lnTo>
                  <a:pt x="1007" y="386"/>
                </a:lnTo>
                <a:lnTo>
                  <a:pt x="1007" y="379"/>
                </a:lnTo>
                <a:lnTo>
                  <a:pt x="1014" y="372"/>
                </a:lnTo>
                <a:lnTo>
                  <a:pt x="1014" y="365"/>
                </a:lnTo>
                <a:lnTo>
                  <a:pt x="1021" y="359"/>
                </a:lnTo>
                <a:lnTo>
                  <a:pt x="1021" y="352"/>
                </a:lnTo>
                <a:lnTo>
                  <a:pt x="1021" y="345"/>
                </a:lnTo>
                <a:lnTo>
                  <a:pt x="1021" y="345"/>
                </a:lnTo>
                <a:lnTo>
                  <a:pt x="1021" y="338"/>
                </a:lnTo>
                <a:lnTo>
                  <a:pt x="1021" y="331"/>
                </a:lnTo>
                <a:lnTo>
                  <a:pt x="1021" y="324"/>
                </a:lnTo>
                <a:lnTo>
                  <a:pt x="1021" y="317"/>
                </a:lnTo>
                <a:lnTo>
                  <a:pt x="1021" y="310"/>
                </a:lnTo>
                <a:lnTo>
                  <a:pt x="1021" y="303"/>
                </a:lnTo>
                <a:lnTo>
                  <a:pt x="1014" y="297"/>
                </a:lnTo>
                <a:lnTo>
                  <a:pt x="1007" y="290"/>
                </a:lnTo>
                <a:lnTo>
                  <a:pt x="1000" y="290"/>
                </a:lnTo>
                <a:lnTo>
                  <a:pt x="1000" y="303"/>
                </a:lnTo>
                <a:lnTo>
                  <a:pt x="1000" y="310"/>
                </a:lnTo>
                <a:lnTo>
                  <a:pt x="1000" y="310"/>
                </a:lnTo>
                <a:lnTo>
                  <a:pt x="1000" y="317"/>
                </a:lnTo>
                <a:lnTo>
                  <a:pt x="1000" y="324"/>
                </a:lnTo>
                <a:lnTo>
                  <a:pt x="993" y="331"/>
                </a:lnTo>
                <a:lnTo>
                  <a:pt x="986" y="331"/>
                </a:lnTo>
                <a:lnTo>
                  <a:pt x="973" y="338"/>
                </a:lnTo>
                <a:lnTo>
                  <a:pt x="966" y="338"/>
                </a:lnTo>
                <a:lnTo>
                  <a:pt x="959" y="345"/>
                </a:lnTo>
                <a:lnTo>
                  <a:pt x="959" y="345"/>
                </a:lnTo>
                <a:lnTo>
                  <a:pt x="952" y="352"/>
                </a:lnTo>
                <a:lnTo>
                  <a:pt x="945" y="359"/>
                </a:lnTo>
                <a:lnTo>
                  <a:pt x="938" y="352"/>
                </a:lnTo>
                <a:lnTo>
                  <a:pt x="945" y="345"/>
                </a:lnTo>
                <a:lnTo>
                  <a:pt x="945" y="338"/>
                </a:lnTo>
                <a:lnTo>
                  <a:pt x="945" y="331"/>
                </a:lnTo>
                <a:lnTo>
                  <a:pt x="945" y="324"/>
                </a:lnTo>
                <a:lnTo>
                  <a:pt x="952" y="317"/>
                </a:lnTo>
                <a:lnTo>
                  <a:pt x="952" y="310"/>
                </a:lnTo>
                <a:lnTo>
                  <a:pt x="952" y="310"/>
                </a:lnTo>
                <a:lnTo>
                  <a:pt x="959" y="303"/>
                </a:lnTo>
                <a:lnTo>
                  <a:pt x="959" y="297"/>
                </a:lnTo>
                <a:lnTo>
                  <a:pt x="966" y="290"/>
                </a:lnTo>
                <a:lnTo>
                  <a:pt x="973" y="283"/>
                </a:lnTo>
                <a:lnTo>
                  <a:pt x="979" y="283"/>
                </a:lnTo>
                <a:lnTo>
                  <a:pt x="979" y="276"/>
                </a:lnTo>
                <a:lnTo>
                  <a:pt x="986" y="269"/>
                </a:lnTo>
                <a:lnTo>
                  <a:pt x="993" y="269"/>
                </a:lnTo>
                <a:lnTo>
                  <a:pt x="1000" y="262"/>
                </a:lnTo>
                <a:lnTo>
                  <a:pt x="1007" y="255"/>
                </a:lnTo>
                <a:lnTo>
                  <a:pt x="1007" y="248"/>
                </a:lnTo>
                <a:lnTo>
                  <a:pt x="1014" y="248"/>
                </a:lnTo>
                <a:lnTo>
                  <a:pt x="1021" y="241"/>
                </a:lnTo>
                <a:lnTo>
                  <a:pt x="1028" y="235"/>
                </a:lnTo>
                <a:lnTo>
                  <a:pt x="1028" y="228"/>
                </a:lnTo>
                <a:lnTo>
                  <a:pt x="1035" y="228"/>
                </a:lnTo>
                <a:lnTo>
                  <a:pt x="1041" y="221"/>
                </a:lnTo>
                <a:lnTo>
                  <a:pt x="1048" y="214"/>
                </a:lnTo>
                <a:lnTo>
                  <a:pt x="1055" y="214"/>
                </a:lnTo>
                <a:lnTo>
                  <a:pt x="1055" y="207"/>
                </a:lnTo>
                <a:lnTo>
                  <a:pt x="1062" y="200"/>
                </a:lnTo>
                <a:lnTo>
                  <a:pt x="1062" y="193"/>
                </a:lnTo>
                <a:lnTo>
                  <a:pt x="1069" y="186"/>
                </a:lnTo>
                <a:lnTo>
                  <a:pt x="1076" y="186"/>
                </a:lnTo>
                <a:lnTo>
                  <a:pt x="1090" y="186"/>
                </a:lnTo>
                <a:lnTo>
                  <a:pt x="1097" y="179"/>
                </a:lnTo>
                <a:lnTo>
                  <a:pt x="1104" y="179"/>
                </a:lnTo>
                <a:lnTo>
                  <a:pt x="1110" y="179"/>
                </a:lnTo>
                <a:lnTo>
                  <a:pt x="1124" y="173"/>
                </a:lnTo>
                <a:lnTo>
                  <a:pt x="1131" y="173"/>
                </a:lnTo>
                <a:lnTo>
                  <a:pt x="1138" y="166"/>
                </a:lnTo>
                <a:lnTo>
                  <a:pt x="1145" y="166"/>
                </a:lnTo>
                <a:lnTo>
                  <a:pt x="1159" y="166"/>
                </a:lnTo>
                <a:lnTo>
                  <a:pt x="1166" y="159"/>
                </a:lnTo>
                <a:lnTo>
                  <a:pt x="1172" y="159"/>
                </a:lnTo>
                <a:lnTo>
                  <a:pt x="1186" y="159"/>
                </a:lnTo>
                <a:lnTo>
                  <a:pt x="1193" y="159"/>
                </a:lnTo>
                <a:lnTo>
                  <a:pt x="1200" y="159"/>
                </a:lnTo>
                <a:lnTo>
                  <a:pt x="1214" y="152"/>
                </a:lnTo>
                <a:lnTo>
                  <a:pt x="1214" y="145"/>
                </a:lnTo>
                <a:lnTo>
                  <a:pt x="1228" y="145"/>
                </a:lnTo>
                <a:lnTo>
                  <a:pt x="1235" y="145"/>
                </a:lnTo>
                <a:lnTo>
                  <a:pt x="1241" y="138"/>
                </a:lnTo>
                <a:lnTo>
                  <a:pt x="1248" y="138"/>
                </a:lnTo>
                <a:lnTo>
                  <a:pt x="1262" y="138"/>
                </a:lnTo>
                <a:lnTo>
                  <a:pt x="1269" y="131"/>
                </a:lnTo>
                <a:lnTo>
                  <a:pt x="1276" y="131"/>
                </a:lnTo>
                <a:lnTo>
                  <a:pt x="1290" y="131"/>
                </a:lnTo>
                <a:lnTo>
                  <a:pt x="1297" y="131"/>
                </a:lnTo>
                <a:lnTo>
                  <a:pt x="1303" y="131"/>
                </a:lnTo>
                <a:lnTo>
                  <a:pt x="1310" y="124"/>
                </a:lnTo>
                <a:lnTo>
                  <a:pt x="1317" y="117"/>
                </a:lnTo>
                <a:lnTo>
                  <a:pt x="1331" y="117"/>
                </a:lnTo>
                <a:lnTo>
                  <a:pt x="1338" y="117"/>
                </a:lnTo>
                <a:lnTo>
                  <a:pt x="1345" y="111"/>
                </a:lnTo>
                <a:lnTo>
                  <a:pt x="1352" y="111"/>
                </a:lnTo>
                <a:lnTo>
                  <a:pt x="1366" y="104"/>
                </a:lnTo>
                <a:lnTo>
                  <a:pt x="1372" y="104"/>
                </a:lnTo>
                <a:lnTo>
                  <a:pt x="1379" y="104"/>
                </a:lnTo>
                <a:lnTo>
                  <a:pt x="1393" y="104"/>
                </a:lnTo>
                <a:lnTo>
                  <a:pt x="1400" y="104"/>
                </a:lnTo>
                <a:lnTo>
                  <a:pt x="1407" y="111"/>
                </a:lnTo>
                <a:lnTo>
                  <a:pt x="1414" y="111"/>
                </a:lnTo>
                <a:lnTo>
                  <a:pt x="1421" y="104"/>
                </a:lnTo>
                <a:lnTo>
                  <a:pt x="1428" y="97"/>
                </a:lnTo>
                <a:lnTo>
                  <a:pt x="1428" y="90"/>
                </a:lnTo>
                <a:lnTo>
                  <a:pt x="1434" y="90"/>
                </a:lnTo>
                <a:lnTo>
                  <a:pt x="1441" y="83"/>
                </a:lnTo>
                <a:lnTo>
                  <a:pt x="1455" y="83"/>
                </a:lnTo>
                <a:lnTo>
                  <a:pt x="1462" y="76"/>
                </a:lnTo>
                <a:lnTo>
                  <a:pt x="1469" y="76"/>
                </a:lnTo>
                <a:lnTo>
                  <a:pt x="1476" y="76"/>
                </a:lnTo>
                <a:lnTo>
                  <a:pt x="1490" y="76"/>
                </a:lnTo>
                <a:lnTo>
                  <a:pt x="1497" y="76"/>
                </a:lnTo>
                <a:lnTo>
                  <a:pt x="1503" y="83"/>
                </a:lnTo>
                <a:lnTo>
                  <a:pt x="1517" y="83"/>
                </a:lnTo>
                <a:lnTo>
                  <a:pt x="1524" y="83"/>
                </a:lnTo>
                <a:lnTo>
                  <a:pt x="1531" y="90"/>
                </a:lnTo>
                <a:lnTo>
                  <a:pt x="1538" y="90"/>
                </a:lnTo>
                <a:lnTo>
                  <a:pt x="1545" y="90"/>
                </a:lnTo>
                <a:lnTo>
                  <a:pt x="1552" y="83"/>
                </a:lnTo>
                <a:lnTo>
                  <a:pt x="1545" y="76"/>
                </a:lnTo>
                <a:lnTo>
                  <a:pt x="1545" y="69"/>
                </a:lnTo>
                <a:lnTo>
                  <a:pt x="1538" y="62"/>
                </a:lnTo>
                <a:lnTo>
                  <a:pt x="1538" y="55"/>
                </a:lnTo>
                <a:lnTo>
                  <a:pt x="1545" y="55"/>
                </a:lnTo>
                <a:lnTo>
                  <a:pt x="1552" y="49"/>
                </a:lnTo>
                <a:lnTo>
                  <a:pt x="1566" y="49"/>
                </a:lnTo>
                <a:lnTo>
                  <a:pt x="1572" y="49"/>
                </a:lnTo>
                <a:lnTo>
                  <a:pt x="1586" y="49"/>
                </a:lnTo>
                <a:lnTo>
                  <a:pt x="1593" y="49"/>
                </a:lnTo>
                <a:lnTo>
                  <a:pt x="1600" y="49"/>
                </a:lnTo>
                <a:lnTo>
                  <a:pt x="1607" y="49"/>
                </a:lnTo>
                <a:lnTo>
                  <a:pt x="1614" y="55"/>
                </a:lnTo>
                <a:lnTo>
                  <a:pt x="1621" y="62"/>
                </a:lnTo>
                <a:lnTo>
                  <a:pt x="1628" y="55"/>
                </a:lnTo>
                <a:lnTo>
                  <a:pt x="1634" y="49"/>
                </a:lnTo>
                <a:lnTo>
                  <a:pt x="1641" y="42"/>
                </a:lnTo>
                <a:lnTo>
                  <a:pt x="1641" y="42"/>
                </a:lnTo>
                <a:lnTo>
                  <a:pt x="1648" y="35"/>
                </a:lnTo>
                <a:lnTo>
                  <a:pt x="1648" y="28"/>
                </a:lnTo>
                <a:lnTo>
                  <a:pt x="1655" y="21"/>
                </a:lnTo>
                <a:lnTo>
                  <a:pt x="1662" y="21"/>
                </a:lnTo>
                <a:lnTo>
                  <a:pt x="1669" y="14"/>
                </a:lnTo>
                <a:lnTo>
                  <a:pt x="1676" y="14"/>
                </a:lnTo>
                <a:lnTo>
                  <a:pt x="1690" y="14"/>
                </a:lnTo>
                <a:lnTo>
                  <a:pt x="1697" y="14"/>
                </a:lnTo>
                <a:lnTo>
                  <a:pt x="1703" y="14"/>
                </a:lnTo>
                <a:lnTo>
                  <a:pt x="1717" y="14"/>
                </a:lnTo>
                <a:lnTo>
                  <a:pt x="1724" y="14"/>
                </a:lnTo>
                <a:lnTo>
                  <a:pt x="1731" y="7"/>
                </a:lnTo>
                <a:lnTo>
                  <a:pt x="1738" y="0"/>
                </a:lnTo>
                <a:lnTo>
                  <a:pt x="1745" y="0"/>
                </a:lnTo>
                <a:lnTo>
                  <a:pt x="1745" y="0"/>
                </a:lnTo>
                <a:lnTo>
                  <a:pt x="1710" y="0"/>
                </a:lnTo>
                <a:lnTo>
                  <a:pt x="1683" y="0"/>
                </a:lnTo>
                <a:lnTo>
                  <a:pt x="1655" y="0"/>
                </a:lnTo>
                <a:lnTo>
                  <a:pt x="1621" y="0"/>
                </a:lnTo>
                <a:lnTo>
                  <a:pt x="1593" y="0"/>
                </a:lnTo>
                <a:lnTo>
                  <a:pt x="1566" y="0"/>
                </a:lnTo>
                <a:lnTo>
                  <a:pt x="1538" y="0"/>
                </a:lnTo>
                <a:lnTo>
                  <a:pt x="1503" y="0"/>
                </a:lnTo>
                <a:lnTo>
                  <a:pt x="1476" y="0"/>
                </a:lnTo>
                <a:lnTo>
                  <a:pt x="1448" y="0"/>
                </a:lnTo>
                <a:lnTo>
                  <a:pt x="1414" y="0"/>
                </a:lnTo>
                <a:lnTo>
                  <a:pt x="1386" y="0"/>
                </a:lnTo>
                <a:lnTo>
                  <a:pt x="1359" y="0"/>
                </a:lnTo>
                <a:lnTo>
                  <a:pt x="1331" y="0"/>
                </a:lnTo>
                <a:lnTo>
                  <a:pt x="1297" y="0"/>
                </a:lnTo>
                <a:lnTo>
                  <a:pt x="1269" y="0"/>
                </a:lnTo>
                <a:lnTo>
                  <a:pt x="1241" y="0"/>
                </a:lnTo>
                <a:lnTo>
                  <a:pt x="1207" y="0"/>
                </a:lnTo>
                <a:lnTo>
                  <a:pt x="1179" y="0"/>
                </a:lnTo>
                <a:lnTo>
                  <a:pt x="1152" y="0"/>
                </a:lnTo>
                <a:lnTo>
                  <a:pt x="1124" y="0"/>
                </a:lnTo>
                <a:lnTo>
                  <a:pt x="1090" y="0"/>
                </a:lnTo>
                <a:lnTo>
                  <a:pt x="1062" y="0"/>
                </a:lnTo>
                <a:lnTo>
                  <a:pt x="1035" y="0"/>
                </a:lnTo>
                <a:lnTo>
                  <a:pt x="1000" y="0"/>
                </a:lnTo>
                <a:lnTo>
                  <a:pt x="973" y="0"/>
                </a:lnTo>
                <a:lnTo>
                  <a:pt x="945" y="0"/>
                </a:lnTo>
                <a:lnTo>
                  <a:pt x="917" y="0"/>
                </a:lnTo>
                <a:lnTo>
                  <a:pt x="883" y="0"/>
                </a:lnTo>
                <a:lnTo>
                  <a:pt x="855" y="0"/>
                </a:lnTo>
                <a:lnTo>
                  <a:pt x="828" y="0"/>
                </a:lnTo>
                <a:lnTo>
                  <a:pt x="793" y="0"/>
                </a:lnTo>
                <a:lnTo>
                  <a:pt x="766" y="0"/>
                </a:lnTo>
                <a:lnTo>
                  <a:pt x="738" y="0"/>
                </a:lnTo>
                <a:lnTo>
                  <a:pt x="711" y="0"/>
                </a:lnTo>
                <a:lnTo>
                  <a:pt x="676" y="0"/>
                </a:lnTo>
                <a:lnTo>
                  <a:pt x="648" y="28"/>
                </a:lnTo>
                <a:lnTo>
                  <a:pt x="621" y="62"/>
                </a:lnTo>
                <a:lnTo>
                  <a:pt x="593" y="90"/>
                </a:lnTo>
                <a:lnTo>
                  <a:pt x="559" y="117"/>
                </a:lnTo>
                <a:lnTo>
                  <a:pt x="531" y="145"/>
                </a:lnTo>
                <a:lnTo>
                  <a:pt x="504" y="145"/>
                </a:lnTo>
                <a:lnTo>
                  <a:pt x="469" y="179"/>
                </a:lnTo>
                <a:lnTo>
                  <a:pt x="442" y="207"/>
                </a:lnTo>
                <a:lnTo>
                  <a:pt x="414" y="235"/>
                </a:lnTo>
                <a:lnTo>
                  <a:pt x="386" y="269"/>
                </a:lnTo>
                <a:lnTo>
                  <a:pt x="352" y="297"/>
                </a:lnTo>
                <a:lnTo>
                  <a:pt x="324" y="324"/>
                </a:lnTo>
                <a:lnTo>
                  <a:pt x="297" y="359"/>
                </a:lnTo>
                <a:lnTo>
                  <a:pt x="262" y="359"/>
                </a:lnTo>
                <a:lnTo>
                  <a:pt x="235" y="386"/>
                </a:lnTo>
                <a:lnTo>
                  <a:pt x="235" y="407"/>
                </a:lnTo>
                <a:lnTo>
                  <a:pt x="249" y="407"/>
                </a:lnTo>
                <a:lnTo>
                  <a:pt x="255" y="414"/>
                </a:lnTo>
                <a:lnTo>
                  <a:pt x="255" y="414"/>
                </a:lnTo>
                <a:lnTo>
                  <a:pt x="255" y="421"/>
                </a:lnTo>
                <a:lnTo>
                  <a:pt x="255" y="427"/>
                </a:lnTo>
                <a:lnTo>
                  <a:pt x="249" y="427"/>
                </a:lnTo>
                <a:lnTo>
                  <a:pt x="242" y="434"/>
                </a:lnTo>
                <a:lnTo>
                  <a:pt x="235" y="441"/>
                </a:lnTo>
                <a:lnTo>
                  <a:pt x="228" y="448"/>
                </a:lnTo>
                <a:lnTo>
                  <a:pt x="221" y="455"/>
                </a:lnTo>
                <a:lnTo>
                  <a:pt x="221" y="455"/>
                </a:lnTo>
                <a:lnTo>
                  <a:pt x="214" y="462"/>
                </a:lnTo>
                <a:lnTo>
                  <a:pt x="207" y="469"/>
                </a:lnTo>
                <a:lnTo>
                  <a:pt x="200" y="462"/>
                </a:lnTo>
                <a:lnTo>
                  <a:pt x="200" y="462"/>
                </a:lnTo>
                <a:lnTo>
                  <a:pt x="193" y="455"/>
                </a:lnTo>
                <a:lnTo>
                  <a:pt x="193" y="448"/>
                </a:lnTo>
                <a:lnTo>
                  <a:pt x="180" y="448"/>
                </a:lnTo>
                <a:lnTo>
                  <a:pt x="145" y="476"/>
                </a:lnTo>
                <a:lnTo>
                  <a:pt x="118" y="503"/>
                </a:lnTo>
                <a:lnTo>
                  <a:pt x="90" y="531"/>
                </a:lnTo>
                <a:lnTo>
                  <a:pt x="56" y="565"/>
                </a:lnTo>
                <a:lnTo>
                  <a:pt x="28" y="565"/>
                </a:lnTo>
                <a:lnTo>
                  <a:pt x="0" y="593"/>
                </a:lnTo>
                <a:lnTo>
                  <a:pt x="0" y="620"/>
                </a:lnTo>
                <a:lnTo>
                  <a:pt x="0" y="655"/>
                </a:lnTo>
                <a:lnTo>
                  <a:pt x="0" y="682"/>
                </a:lnTo>
                <a:lnTo>
                  <a:pt x="21" y="682"/>
                </a:lnTo>
                <a:lnTo>
                  <a:pt x="28" y="682"/>
                </a:lnTo>
                <a:lnTo>
                  <a:pt x="28" y="682"/>
                </a:lnTo>
                <a:lnTo>
                  <a:pt x="28" y="675"/>
                </a:lnTo>
                <a:lnTo>
                  <a:pt x="28" y="675"/>
                </a:lnTo>
                <a:lnTo>
                  <a:pt x="28" y="675"/>
                </a:lnTo>
                <a:lnTo>
                  <a:pt x="28" y="675"/>
                </a:lnTo>
                <a:lnTo>
                  <a:pt x="28" y="682"/>
                </a:lnTo>
                <a:lnTo>
                  <a:pt x="28" y="682"/>
                </a:lnTo>
                <a:lnTo>
                  <a:pt x="28" y="682"/>
                </a:lnTo>
                <a:lnTo>
                  <a:pt x="28" y="682"/>
                </a:lnTo>
                <a:lnTo>
                  <a:pt x="28" y="682"/>
                </a:lnTo>
                <a:lnTo>
                  <a:pt x="28" y="710"/>
                </a:lnTo>
                <a:lnTo>
                  <a:pt x="28" y="744"/>
                </a:lnTo>
                <a:lnTo>
                  <a:pt x="56" y="772"/>
                </a:lnTo>
                <a:lnTo>
                  <a:pt x="90" y="799"/>
                </a:lnTo>
                <a:lnTo>
                  <a:pt x="111" y="799"/>
                </a:lnTo>
                <a:lnTo>
                  <a:pt x="118" y="793"/>
                </a:lnTo>
                <a:lnTo>
                  <a:pt x="118" y="793"/>
                </a:lnTo>
                <a:lnTo>
                  <a:pt x="124" y="786"/>
                </a:lnTo>
                <a:lnTo>
                  <a:pt x="131" y="779"/>
                </a:lnTo>
                <a:lnTo>
                  <a:pt x="131" y="772"/>
                </a:lnTo>
                <a:lnTo>
                  <a:pt x="138" y="772"/>
                </a:lnTo>
                <a:lnTo>
                  <a:pt x="145" y="765"/>
                </a:lnTo>
                <a:lnTo>
                  <a:pt x="152" y="765"/>
                </a:lnTo>
                <a:lnTo>
                  <a:pt x="166" y="765"/>
                </a:lnTo>
                <a:lnTo>
                  <a:pt x="173" y="765"/>
                </a:lnTo>
                <a:lnTo>
                  <a:pt x="187" y="765"/>
                </a:lnTo>
                <a:lnTo>
                  <a:pt x="193" y="765"/>
                </a:lnTo>
                <a:lnTo>
                  <a:pt x="200" y="765"/>
                </a:lnTo>
                <a:lnTo>
                  <a:pt x="207" y="772"/>
                </a:lnTo>
                <a:lnTo>
                  <a:pt x="214" y="772"/>
                </a:lnTo>
                <a:lnTo>
                  <a:pt x="221" y="779"/>
                </a:lnTo>
                <a:lnTo>
                  <a:pt x="221" y="786"/>
                </a:lnTo>
                <a:lnTo>
                  <a:pt x="228" y="793"/>
                </a:lnTo>
                <a:lnTo>
                  <a:pt x="228" y="799"/>
                </a:lnTo>
                <a:lnTo>
                  <a:pt x="235" y="799"/>
                </a:lnTo>
                <a:lnTo>
                  <a:pt x="242" y="799"/>
                </a:lnTo>
                <a:lnTo>
                  <a:pt x="255" y="793"/>
                </a:lnTo>
                <a:lnTo>
                  <a:pt x="262" y="793"/>
                </a:lnTo>
                <a:lnTo>
                  <a:pt x="269" y="799"/>
                </a:lnTo>
                <a:lnTo>
                  <a:pt x="269" y="806"/>
                </a:lnTo>
                <a:lnTo>
                  <a:pt x="262" y="806"/>
                </a:lnTo>
                <a:lnTo>
                  <a:pt x="255" y="813"/>
                </a:lnTo>
                <a:lnTo>
                  <a:pt x="255" y="820"/>
                </a:lnTo>
                <a:lnTo>
                  <a:pt x="249" y="827"/>
                </a:lnTo>
                <a:lnTo>
                  <a:pt x="249" y="827"/>
                </a:lnTo>
                <a:lnTo>
                  <a:pt x="255" y="834"/>
                </a:lnTo>
                <a:lnTo>
                  <a:pt x="262" y="841"/>
                </a:lnTo>
                <a:lnTo>
                  <a:pt x="269" y="841"/>
                </a:lnTo>
                <a:lnTo>
                  <a:pt x="276" y="841"/>
                </a:lnTo>
                <a:lnTo>
                  <a:pt x="283" y="841"/>
                </a:lnTo>
                <a:lnTo>
                  <a:pt x="290" y="834"/>
                </a:lnTo>
                <a:lnTo>
                  <a:pt x="297" y="834"/>
                </a:lnTo>
                <a:lnTo>
                  <a:pt x="304" y="827"/>
                </a:lnTo>
                <a:lnTo>
                  <a:pt x="311" y="820"/>
                </a:lnTo>
                <a:lnTo>
                  <a:pt x="318" y="820"/>
                </a:lnTo>
                <a:lnTo>
                  <a:pt x="324" y="813"/>
                </a:lnTo>
                <a:lnTo>
                  <a:pt x="331" y="813"/>
                </a:lnTo>
                <a:lnTo>
                  <a:pt x="345" y="813"/>
                </a:lnTo>
                <a:lnTo>
                  <a:pt x="352" y="813"/>
                </a:lnTo>
                <a:lnTo>
                  <a:pt x="359" y="813"/>
                </a:lnTo>
                <a:lnTo>
                  <a:pt x="373" y="813"/>
                </a:lnTo>
                <a:lnTo>
                  <a:pt x="380" y="820"/>
                </a:lnTo>
                <a:lnTo>
                  <a:pt x="386" y="820"/>
                </a:lnTo>
                <a:lnTo>
                  <a:pt x="393" y="820"/>
                </a:lnTo>
                <a:lnTo>
                  <a:pt x="400" y="827"/>
                </a:lnTo>
                <a:lnTo>
                  <a:pt x="407" y="834"/>
                </a:lnTo>
                <a:lnTo>
                  <a:pt x="407" y="834"/>
                </a:lnTo>
                <a:lnTo>
                  <a:pt x="400" y="841"/>
                </a:lnTo>
                <a:lnTo>
                  <a:pt x="393" y="848"/>
                </a:lnTo>
                <a:lnTo>
                  <a:pt x="386" y="855"/>
                </a:lnTo>
                <a:lnTo>
                  <a:pt x="386" y="861"/>
                </a:lnTo>
                <a:lnTo>
                  <a:pt x="386" y="861"/>
                </a:lnTo>
                <a:lnTo>
                  <a:pt x="380" y="868"/>
                </a:lnTo>
                <a:lnTo>
                  <a:pt x="380" y="875"/>
                </a:lnTo>
                <a:lnTo>
                  <a:pt x="373" y="882"/>
                </a:lnTo>
                <a:lnTo>
                  <a:pt x="373" y="889"/>
                </a:lnTo>
                <a:lnTo>
                  <a:pt x="380" y="896"/>
                </a:lnTo>
                <a:lnTo>
                  <a:pt x="380" y="896"/>
                </a:lnTo>
                <a:lnTo>
                  <a:pt x="386" y="903"/>
                </a:lnTo>
                <a:lnTo>
                  <a:pt x="393" y="910"/>
                </a:lnTo>
                <a:lnTo>
                  <a:pt x="393" y="917"/>
                </a:lnTo>
                <a:lnTo>
                  <a:pt x="400" y="917"/>
                </a:lnTo>
                <a:lnTo>
                  <a:pt x="407" y="923"/>
                </a:lnTo>
                <a:lnTo>
                  <a:pt x="407" y="930"/>
                </a:lnTo>
                <a:lnTo>
                  <a:pt x="421" y="930"/>
                </a:lnTo>
                <a:lnTo>
                  <a:pt x="428" y="930"/>
                </a:lnTo>
                <a:lnTo>
                  <a:pt x="435" y="930"/>
                </a:lnTo>
                <a:lnTo>
                  <a:pt x="442" y="930"/>
                </a:lnTo>
                <a:lnTo>
                  <a:pt x="449" y="923"/>
                </a:lnTo>
                <a:lnTo>
                  <a:pt x="455" y="917"/>
                </a:lnTo>
                <a:lnTo>
                  <a:pt x="462" y="917"/>
                </a:lnTo>
                <a:lnTo>
                  <a:pt x="469" y="910"/>
                </a:lnTo>
                <a:lnTo>
                  <a:pt x="476" y="903"/>
                </a:lnTo>
                <a:lnTo>
                  <a:pt x="483" y="903"/>
                </a:lnTo>
                <a:lnTo>
                  <a:pt x="490" y="896"/>
                </a:lnTo>
                <a:lnTo>
                  <a:pt x="490" y="896"/>
                </a:lnTo>
                <a:lnTo>
                  <a:pt x="497" y="889"/>
                </a:lnTo>
                <a:lnTo>
                  <a:pt x="504" y="882"/>
                </a:lnTo>
                <a:lnTo>
                  <a:pt x="511" y="882"/>
                </a:lnTo>
                <a:lnTo>
                  <a:pt x="517" y="875"/>
                </a:lnTo>
                <a:lnTo>
                  <a:pt x="524" y="868"/>
                </a:lnTo>
                <a:lnTo>
                  <a:pt x="531" y="868"/>
                </a:lnTo>
                <a:lnTo>
                  <a:pt x="538" y="861"/>
                </a:lnTo>
                <a:lnTo>
                  <a:pt x="545" y="861"/>
                </a:lnTo>
                <a:lnTo>
                  <a:pt x="552" y="855"/>
                </a:lnTo>
                <a:lnTo>
                  <a:pt x="559" y="855"/>
                </a:lnTo>
                <a:lnTo>
                  <a:pt x="566" y="855"/>
                </a:lnTo>
                <a:lnTo>
                  <a:pt x="580" y="848"/>
                </a:lnTo>
                <a:lnTo>
                  <a:pt x="586" y="848"/>
                </a:lnTo>
                <a:lnTo>
                  <a:pt x="593" y="848"/>
                </a:lnTo>
                <a:lnTo>
                  <a:pt x="600" y="841"/>
                </a:lnTo>
                <a:lnTo>
                  <a:pt x="607" y="841"/>
                </a:lnTo>
                <a:lnTo>
                  <a:pt x="614" y="834"/>
                </a:lnTo>
                <a:lnTo>
                  <a:pt x="621" y="834"/>
                </a:lnTo>
                <a:lnTo>
                  <a:pt x="628" y="827"/>
                </a:lnTo>
                <a:lnTo>
                  <a:pt x="642" y="827"/>
                </a:lnTo>
                <a:lnTo>
                  <a:pt x="648" y="820"/>
                </a:lnTo>
                <a:lnTo>
                  <a:pt x="655" y="820"/>
                </a:lnTo>
                <a:lnTo>
                  <a:pt x="655" y="813"/>
                </a:lnTo>
                <a:lnTo>
                  <a:pt x="662" y="806"/>
                </a:lnTo>
                <a:lnTo>
                  <a:pt x="669" y="806"/>
                </a:lnTo>
                <a:lnTo>
                  <a:pt x="669" y="799"/>
                </a:lnTo>
                <a:lnTo>
                  <a:pt x="669" y="793"/>
                </a:lnTo>
                <a:lnTo>
                  <a:pt x="662" y="786"/>
                </a:lnTo>
                <a:lnTo>
                  <a:pt x="662" y="779"/>
                </a:lnTo>
                <a:lnTo>
                  <a:pt x="662" y="772"/>
                </a:lnTo>
                <a:lnTo>
                  <a:pt x="662" y="772"/>
                </a:lnTo>
                <a:lnTo>
                  <a:pt x="662" y="765"/>
                </a:lnTo>
                <a:lnTo>
                  <a:pt x="669" y="758"/>
                </a:lnTo>
                <a:lnTo>
                  <a:pt x="669" y="751"/>
                </a:lnTo>
                <a:lnTo>
                  <a:pt x="669" y="744"/>
                </a:lnTo>
                <a:lnTo>
                  <a:pt x="676" y="737"/>
                </a:lnTo>
                <a:lnTo>
                  <a:pt x="676" y="737"/>
                </a:lnTo>
                <a:lnTo>
                  <a:pt x="676" y="731"/>
                </a:lnTo>
                <a:lnTo>
                  <a:pt x="676" y="724"/>
                </a:lnTo>
                <a:lnTo>
                  <a:pt x="676" y="717"/>
                </a:lnTo>
                <a:lnTo>
                  <a:pt x="676" y="710"/>
                </a:lnTo>
                <a:lnTo>
                  <a:pt x="676" y="703"/>
                </a:lnTo>
                <a:lnTo>
                  <a:pt x="676" y="703"/>
                </a:lnTo>
                <a:lnTo>
                  <a:pt x="683" y="696"/>
                </a:lnTo>
                <a:lnTo>
                  <a:pt x="697" y="689"/>
                </a:lnTo>
                <a:lnTo>
                  <a:pt x="704" y="689"/>
                </a:lnTo>
                <a:lnTo>
                  <a:pt x="711" y="689"/>
                </a:lnTo>
                <a:lnTo>
                  <a:pt x="717" y="696"/>
                </a:lnTo>
                <a:lnTo>
                  <a:pt x="717" y="703"/>
                </a:lnTo>
                <a:lnTo>
                  <a:pt x="724" y="703"/>
                </a:lnTo>
                <a:lnTo>
                  <a:pt x="724" y="710"/>
                </a:lnTo>
                <a:lnTo>
                  <a:pt x="731" y="717"/>
                </a:lnTo>
                <a:lnTo>
                  <a:pt x="731" y="724"/>
                </a:lnTo>
                <a:lnTo>
                  <a:pt x="738" y="731"/>
                </a:lnTo>
                <a:lnTo>
                  <a:pt x="745" y="731"/>
                </a:lnTo>
                <a:lnTo>
                  <a:pt x="752" y="737"/>
                </a:lnTo>
                <a:lnTo>
                  <a:pt x="752" y="744"/>
                </a:lnTo>
                <a:lnTo>
                  <a:pt x="752" y="751"/>
                </a:lnTo>
                <a:lnTo>
                  <a:pt x="752" y="751"/>
                </a:lnTo>
                <a:lnTo>
                  <a:pt x="759" y="758"/>
                </a:lnTo>
                <a:lnTo>
                  <a:pt x="759" y="765"/>
                </a:lnTo>
                <a:lnTo>
                  <a:pt x="759" y="772"/>
                </a:lnTo>
                <a:lnTo>
                  <a:pt x="759" y="779"/>
                </a:lnTo>
                <a:lnTo>
                  <a:pt x="766" y="786"/>
                </a:lnTo>
                <a:lnTo>
                  <a:pt x="773" y="786"/>
                </a:lnTo>
                <a:lnTo>
                  <a:pt x="786" y="786"/>
                </a:lnTo>
                <a:lnTo>
                  <a:pt x="793" y="786"/>
                </a:lnTo>
                <a:lnTo>
                  <a:pt x="800" y="786"/>
                </a:lnTo>
                <a:lnTo>
                  <a:pt x="807" y="793"/>
                </a:lnTo>
                <a:lnTo>
                  <a:pt x="807" y="799"/>
                </a:lnTo>
                <a:lnTo>
                  <a:pt x="814" y="806"/>
                </a:lnTo>
                <a:lnTo>
                  <a:pt x="821" y="806"/>
                </a:lnTo>
                <a:lnTo>
                  <a:pt x="828" y="813"/>
                </a:lnTo>
                <a:lnTo>
                  <a:pt x="835" y="813"/>
                </a:lnTo>
                <a:lnTo>
                  <a:pt x="842" y="820"/>
                </a:lnTo>
                <a:lnTo>
                  <a:pt x="848" y="827"/>
                </a:lnTo>
                <a:lnTo>
                  <a:pt x="848" y="827"/>
                </a:lnTo>
                <a:lnTo>
                  <a:pt x="855" y="834"/>
                </a:lnTo>
                <a:lnTo>
                  <a:pt x="862" y="841"/>
                </a:lnTo>
                <a:lnTo>
                  <a:pt x="869" y="841"/>
                </a:lnTo>
                <a:lnTo>
                  <a:pt x="876" y="848"/>
                </a:lnTo>
                <a:lnTo>
                  <a:pt x="883" y="848"/>
                </a:lnTo>
                <a:lnTo>
                  <a:pt x="890" y="855"/>
                </a:lnTo>
                <a:lnTo>
                  <a:pt x="897" y="861"/>
                </a:lnTo>
                <a:lnTo>
                  <a:pt x="897" y="861"/>
                </a:lnTo>
                <a:lnTo>
                  <a:pt x="904" y="868"/>
                </a:lnTo>
                <a:lnTo>
                  <a:pt x="910" y="875"/>
                </a:lnTo>
                <a:lnTo>
                  <a:pt x="917" y="875"/>
                </a:lnTo>
                <a:lnTo>
                  <a:pt x="924" y="882"/>
                </a:lnTo>
                <a:lnTo>
                  <a:pt x="931" y="889"/>
                </a:lnTo>
                <a:lnTo>
                  <a:pt x="938" y="889"/>
                </a:lnTo>
                <a:lnTo>
                  <a:pt x="938" y="896"/>
                </a:lnTo>
                <a:lnTo>
                  <a:pt x="945" y="896"/>
                </a:lnTo>
                <a:lnTo>
                  <a:pt x="952" y="903"/>
                </a:lnTo>
                <a:lnTo>
                  <a:pt x="959" y="910"/>
                </a:lnTo>
                <a:lnTo>
                  <a:pt x="966" y="910"/>
                </a:lnTo>
                <a:lnTo>
                  <a:pt x="973" y="917"/>
                </a:lnTo>
                <a:lnTo>
                  <a:pt x="979" y="923"/>
                </a:lnTo>
                <a:lnTo>
                  <a:pt x="986" y="923"/>
                </a:lnTo>
                <a:lnTo>
                  <a:pt x="986" y="930"/>
                </a:lnTo>
                <a:lnTo>
                  <a:pt x="993" y="937"/>
                </a:lnTo>
                <a:lnTo>
                  <a:pt x="1000" y="937"/>
                </a:lnTo>
                <a:lnTo>
                  <a:pt x="1007" y="944"/>
                </a:lnTo>
                <a:lnTo>
                  <a:pt x="1014" y="944"/>
                </a:lnTo>
                <a:lnTo>
                  <a:pt x="1021" y="951"/>
                </a:lnTo>
                <a:lnTo>
                  <a:pt x="1028" y="958"/>
                </a:lnTo>
                <a:lnTo>
                  <a:pt x="1035" y="958"/>
                </a:lnTo>
                <a:lnTo>
                  <a:pt x="1041" y="958"/>
                </a:lnTo>
                <a:lnTo>
                  <a:pt x="1041" y="958"/>
                </a:lnTo>
                <a:lnTo>
                  <a:pt x="1048" y="951"/>
                </a:lnTo>
                <a:close/>
                <a:moveTo>
                  <a:pt x="1221" y="951"/>
                </a:moveTo>
                <a:lnTo>
                  <a:pt x="1221" y="944"/>
                </a:lnTo>
                <a:lnTo>
                  <a:pt x="1221" y="937"/>
                </a:lnTo>
                <a:lnTo>
                  <a:pt x="1221" y="930"/>
                </a:lnTo>
                <a:lnTo>
                  <a:pt x="1221" y="923"/>
                </a:lnTo>
                <a:lnTo>
                  <a:pt x="1221" y="917"/>
                </a:lnTo>
                <a:lnTo>
                  <a:pt x="1214" y="917"/>
                </a:lnTo>
                <a:lnTo>
                  <a:pt x="1207" y="917"/>
                </a:lnTo>
                <a:lnTo>
                  <a:pt x="1200" y="923"/>
                </a:lnTo>
                <a:lnTo>
                  <a:pt x="1200" y="930"/>
                </a:lnTo>
                <a:lnTo>
                  <a:pt x="1200" y="930"/>
                </a:lnTo>
                <a:lnTo>
                  <a:pt x="1200" y="937"/>
                </a:lnTo>
                <a:lnTo>
                  <a:pt x="1200" y="944"/>
                </a:lnTo>
                <a:lnTo>
                  <a:pt x="1200" y="951"/>
                </a:lnTo>
                <a:lnTo>
                  <a:pt x="1207" y="958"/>
                </a:lnTo>
                <a:lnTo>
                  <a:pt x="1207" y="965"/>
                </a:lnTo>
                <a:lnTo>
                  <a:pt x="1207" y="972"/>
                </a:lnTo>
                <a:lnTo>
                  <a:pt x="1214" y="972"/>
                </a:lnTo>
                <a:lnTo>
                  <a:pt x="1214" y="965"/>
                </a:lnTo>
                <a:lnTo>
                  <a:pt x="1214" y="958"/>
                </a:lnTo>
                <a:lnTo>
                  <a:pt x="1221" y="951"/>
                </a:lnTo>
                <a:close/>
                <a:moveTo>
                  <a:pt x="138" y="827"/>
                </a:moveTo>
                <a:lnTo>
                  <a:pt x="118" y="806"/>
                </a:lnTo>
                <a:lnTo>
                  <a:pt x="118" y="827"/>
                </a:lnTo>
                <a:lnTo>
                  <a:pt x="138" y="827"/>
                </a:lnTo>
                <a:close/>
                <a:moveTo>
                  <a:pt x="1152" y="827"/>
                </a:moveTo>
                <a:lnTo>
                  <a:pt x="1152" y="827"/>
                </a:lnTo>
                <a:lnTo>
                  <a:pt x="1152" y="820"/>
                </a:lnTo>
                <a:lnTo>
                  <a:pt x="1159" y="813"/>
                </a:lnTo>
                <a:lnTo>
                  <a:pt x="1159" y="806"/>
                </a:lnTo>
                <a:lnTo>
                  <a:pt x="1159" y="799"/>
                </a:lnTo>
                <a:lnTo>
                  <a:pt x="1159" y="793"/>
                </a:lnTo>
                <a:lnTo>
                  <a:pt x="1159" y="786"/>
                </a:lnTo>
                <a:lnTo>
                  <a:pt x="1159" y="779"/>
                </a:lnTo>
                <a:lnTo>
                  <a:pt x="1159" y="772"/>
                </a:lnTo>
                <a:lnTo>
                  <a:pt x="1159" y="772"/>
                </a:lnTo>
                <a:lnTo>
                  <a:pt x="1166" y="765"/>
                </a:lnTo>
                <a:lnTo>
                  <a:pt x="1166" y="758"/>
                </a:lnTo>
                <a:lnTo>
                  <a:pt x="1159" y="751"/>
                </a:lnTo>
                <a:lnTo>
                  <a:pt x="1159" y="744"/>
                </a:lnTo>
                <a:lnTo>
                  <a:pt x="1159" y="737"/>
                </a:lnTo>
                <a:lnTo>
                  <a:pt x="1152" y="731"/>
                </a:lnTo>
                <a:lnTo>
                  <a:pt x="1152" y="737"/>
                </a:lnTo>
                <a:lnTo>
                  <a:pt x="1145" y="744"/>
                </a:lnTo>
                <a:lnTo>
                  <a:pt x="1145" y="751"/>
                </a:lnTo>
                <a:lnTo>
                  <a:pt x="1145" y="758"/>
                </a:lnTo>
                <a:lnTo>
                  <a:pt x="1145" y="765"/>
                </a:lnTo>
                <a:lnTo>
                  <a:pt x="1145" y="772"/>
                </a:lnTo>
                <a:lnTo>
                  <a:pt x="1145" y="779"/>
                </a:lnTo>
                <a:lnTo>
                  <a:pt x="1138" y="779"/>
                </a:lnTo>
                <a:lnTo>
                  <a:pt x="1138" y="786"/>
                </a:lnTo>
                <a:lnTo>
                  <a:pt x="1145" y="793"/>
                </a:lnTo>
                <a:lnTo>
                  <a:pt x="1145" y="799"/>
                </a:lnTo>
                <a:lnTo>
                  <a:pt x="1145" y="806"/>
                </a:lnTo>
                <a:lnTo>
                  <a:pt x="1145" y="813"/>
                </a:lnTo>
                <a:lnTo>
                  <a:pt x="1145" y="820"/>
                </a:lnTo>
                <a:lnTo>
                  <a:pt x="1152" y="820"/>
                </a:lnTo>
                <a:lnTo>
                  <a:pt x="1152" y="827"/>
                </a:lnTo>
                <a:close/>
                <a:moveTo>
                  <a:pt x="2152" y="827"/>
                </a:moveTo>
                <a:lnTo>
                  <a:pt x="2158" y="827"/>
                </a:lnTo>
                <a:lnTo>
                  <a:pt x="2165" y="820"/>
                </a:lnTo>
                <a:lnTo>
                  <a:pt x="2165" y="813"/>
                </a:lnTo>
                <a:lnTo>
                  <a:pt x="2172" y="813"/>
                </a:lnTo>
                <a:lnTo>
                  <a:pt x="2172" y="806"/>
                </a:lnTo>
                <a:lnTo>
                  <a:pt x="2179" y="799"/>
                </a:lnTo>
                <a:lnTo>
                  <a:pt x="2179" y="793"/>
                </a:lnTo>
                <a:lnTo>
                  <a:pt x="2179" y="793"/>
                </a:lnTo>
                <a:lnTo>
                  <a:pt x="2179" y="786"/>
                </a:lnTo>
                <a:lnTo>
                  <a:pt x="2179" y="779"/>
                </a:lnTo>
                <a:lnTo>
                  <a:pt x="2179" y="772"/>
                </a:lnTo>
                <a:lnTo>
                  <a:pt x="2172" y="772"/>
                </a:lnTo>
                <a:lnTo>
                  <a:pt x="2172" y="765"/>
                </a:lnTo>
                <a:lnTo>
                  <a:pt x="2179" y="758"/>
                </a:lnTo>
                <a:lnTo>
                  <a:pt x="2179" y="751"/>
                </a:lnTo>
                <a:lnTo>
                  <a:pt x="2179" y="751"/>
                </a:lnTo>
                <a:lnTo>
                  <a:pt x="2186" y="744"/>
                </a:lnTo>
                <a:lnTo>
                  <a:pt x="2186" y="744"/>
                </a:lnTo>
                <a:lnTo>
                  <a:pt x="2186" y="751"/>
                </a:lnTo>
                <a:lnTo>
                  <a:pt x="2186" y="758"/>
                </a:lnTo>
                <a:lnTo>
                  <a:pt x="2193" y="765"/>
                </a:lnTo>
                <a:lnTo>
                  <a:pt x="2193" y="765"/>
                </a:lnTo>
                <a:lnTo>
                  <a:pt x="2193" y="772"/>
                </a:lnTo>
                <a:lnTo>
                  <a:pt x="2193" y="779"/>
                </a:lnTo>
                <a:lnTo>
                  <a:pt x="2193" y="779"/>
                </a:lnTo>
                <a:lnTo>
                  <a:pt x="2193" y="786"/>
                </a:lnTo>
                <a:lnTo>
                  <a:pt x="2193" y="793"/>
                </a:lnTo>
                <a:lnTo>
                  <a:pt x="2193" y="799"/>
                </a:lnTo>
                <a:lnTo>
                  <a:pt x="2193" y="806"/>
                </a:lnTo>
                <a:lnTo>
                  <a:pt x="2193" y="806"/>
                </a:lnTo>
                <a:lnTo>
                  <a:pt x="2193" y="813"/>
                </a:lnTo>
                <a:lnTo>
                  <a:pt x="2193" y="820"/>
                </a:lnTo>
                <a:lnTo>
                  <a:pt x="2186" y="827"/>
                </a:lnTo>
                <a:lnTo>
                  <a:pt x="2186" y="834"/>
                </a:lnTo>
                <a:lnTo>
                  <a:pt x="2179" y="834"/>
                </a:lnTo>
                <a:lnTo>
                  <a:pt x="2165" y="834"/>
                </a:lnTo>
                <a:lnTo>
                  <a:pt x="2158" y="834"/>
                </a:lnTo>
                <a:lnTo>
                  <a:pt x="2152" y="827"/>
                </a:lnTo>
                <a:close/>
                <a:moveTo>
                  <a:pt x="193" y="799"/>
                </a:moveTo>
                <a:lnTo>
                  <a:pt x="193" y="793"/>
                </a:lnTo>
                <a:lnTo>
                  <a:pt x="187" y="779"/>
                </a:lnTo>
                <a:lnTo>
                  <a:pt x="180" y="779"/>
                </a:lnTo>
                <a:lnTo>
                  <a:pt x="180" y="772"/>
                </a:lnTo>
                <a:lnTo>
                  <a:pt x="173" y="779"/>
                </a:lnTo>
                <a:lnTo>
                  <a:pt x="166" y="779"/>
                </a:lnTo>
                <a:lnTo>
                  <a:pt x="159" y="793"/>
                </a:lnTo>
                <a:lnTo>
                  <a:pt x="159" y="799"/>
                </a:lnTo>
                <a:lnTo>
                  <a:pt x="166" y="806"/>
                </a:lnTo>
                <a:lnTo>
                  <a:pt x="166" y="813"/>
                </a:lnTo>
                <a:lnTo>
                  <a:pt x="173" y="813"/>
                </a:lnTo>
                <a:lnTo>
                  <a:pt x="180" y="813"/>
                </a:lnTo>
                <a:lnTo>
                  <a:pt x="187" y="806"/>
                </a:lnTo>
                <a:lnTo>
                  <a:pt x="193" y="799"/>
                </a:lnTo>
                <a:close/>
                <a:moveTo>
                  <a:pt x="469" y="772"/>
                </a:moveTo>
                <a:lnTo>
                  <a:pt x="469" y="772"/>
                </a:lnTo>
                <a:lnTo>
                  <a:pt x="476" y="765"/>
                </a:lnTo>
                <a:lnTo>
                  <a:pt x="476" y="765"/>
                </a:lnTo>
                <a:lnTo>
                  <a:pt x="483" y="765"/>
                </a:lnTo>
                <a:lnTo>
                  <a:pt x="490" y="772"/>
                </a:lnTo>
                <a:lnTo>
                  <a:pt x="490" y="772"/>
                </a:lnTo>
                <a:lnTo>
                  <a:pt x="490" y="772"/>
                </a:lnTo>
                <a:lnTo>
                  <a:pt x="483" y="779"/>
                </a:lnTo>
                <a:lnTo>
                  <a:pt x="476" y="779"/>
                </a:lnTo>
                <a:lnTo>
                  <a:pt x="476" y="779"/>
                </a:lnTo>
                <a:lnTo>
                  <a:pt x="469" y="779"/>
                </a:lnTo>
                <a:lnTo>
                  <a:pt x="469" y="779"/>
                </a:lnTo>
                <a:lnTo>
                  <a:pt x="469" y="772"/>
                </a:lnTo>
                <a:lnTo>
                  <a:pt x="469" y="772"/>
                </a:lnTo>
                <a:close/>
                <a:moveTo>
                  <a:pt x="573" y="772"/>
                </a:moveTo>
                <a:lnTo>
                  <a:pt x="573" y="765"/>
                </a:lnTo>
                <a:lnTo>
                  <a:pt x="580" y="758"/>
                </a:lnTo>
                <a:lnTo>
                  <a:pt x="586" y="758"/>
                </a:lnTo>
                <a:lnTo>
                  <a:pt x="593" y="758"/>
                </a:lnTo>
                <a:lnTo>
                  <a:pt x="600" y="758"/>
                </a:lnTo>
                <a:lnTo>
                  <a:pt x="607" y="765"/>
                </a:lnTo>
                <a:lnTo>
                  <a:pt x="607" y="772"/>
                </a:lnTo>
                <a:lnTo>
                  <a:pt x="607" y="779"/>
                </a:lnTo>
                <a:lnTo>
                  <a:pt x="600" y="779"/>
                </a:lnTo>
                <a:lnTo>
                  <a:pt x="593" y="786"/>
                </a:lnTo>
                <a:lnTo>
                  <a:pt x="586" y="786"/>
                </a:lnTo>
                <a:lnTo>
                  <a:pt x="580" y="786"/>
                </a:lnTo>
                <a:lnTo>
                  <a:pt x="573" y="779"/>
                </a:lnTo>
                <a:lnTo>
                  <a:pt x="573" y="772"/>
                </a:lnTo>
                <a:close/>
                <a:moveTo>
                  <a:pt x="1179" y="710"/>
                </a:moveTo>
                <a:lnTo>
                  <a:pt x="1179" y="703"/>
                </a:lnTo>
                <a:lnTo>
                  <a:pt x="1186" y="696"/>
                </a:lnTo>
                <a:lnTo>
                  <a:pt x="1186" y="689"/>
                </a:lnTo>
                <a:lnTo>
                  <a:pt x="1186" y="682"/>
                </a:lnTo>
                <a:lnTo>
                  <a:pt x="1186" y="675"/>
                </a:lnTo>
                <a:lnTo>
                  <a:pt x="1186" y="669"/>
                </a:lnTo>
                <a:lnTo>
                  <a:pt x="1193" y="662"/>
                </a:lnTo>
                <a:lnTo>
                  <a:pt x="1193" y="655"/>
                </a:lnTo>
                <a:lnTo>
                  <a:pt x="1186" y="648"/>
                </a:lnTo>
                <a:lnTo>
                  <a:pt x="1186" y="634"/>
                </a:lnTo>
                <a:lnTo>
                  <a:pt x="1186" y="627"/>
                </a:lnTo>
                <a:lnTo>
                  <a:pt x="1193" y="620"/>
                </a:lnTo>
                <a:lnTo>
                  <a:pt x="1200" y="620"/>
                </a:lnTo>
                <a:lnTo>
                  <a:pt x="1207" y="613"/>
                </a:lnTo>
                <a:lnTo>
                  <a:pt x="1214" y="607"/>
                </a:lnTo>
                <a:lnTo>
                  <a:pt x="1221" y="600"/>
                </a:lnTo>
                <a:lnTo>
                  <a:pt x="1221" y="593"/>
                </a:lnTo>
                <a:lnTo>
                  <a:pt x="1221" y="586"/>
                </a:lnTo>
                <a:lnTo>
                  <a:pt x="1221" y="579"/>
                </a:lnTo>
                <a:lnTo>
                  <a:pt x="1221" y="572"/>
                </a:lnTo>
                <a:lnTo>
                  <a:pt x="1214" y="565"/>
                </a:lnTo>
                <a:lnTo>
                  <a:pt x="1214" y="551"/>
                </a:lnTo>
                <a:lnTo>
                  <a:pt x="1214" y="545"/>
                </a:lnTo>
                <a:lnTo>
                  <a:pt x="1214" y="538"/>
                </a:lnTo>
                <a:lnTo>
                  <a:pt x="1207" y="538"/>
                </a:lnTo>
                <a:lnTo>
                  <a:pt x="1207" y="538"/>
                </a:lnTo>
                <a:lnTo>
                  <a:pt x="1207" y="545"/>
                </a:lnTo>
                <a:lnTo>
                  <a:pt x="1207" y="558"/>
                </a:lnTo>
                <a:lnTo>
                  <a:pt x="1200" y="565"/>
                </a:lnTo>
                <a:lnTo>
                  <a:pt x="1193" y="572"/>
                </a:lnTo>
                <a:lnTo>
                  <a:pt x="1186" y="579"/>
                </a:lnTo>
                <a:lnTo>
                  <a:pt x="1179" y="586"/>
                </a:lnTo>
                <a:lnTo>
                  <a:pt x="1179" y="586"/>
                </a:lnTo>
                <a:lnTo>
                  <a:pt x="1172" y="600"/>
                </a:lnTo>
                <a:lnTo>
                  <a:pt x="1172" y="607"/>
                </a:lnTo>
                <a:lnTo>
                  <a:pt x="1172" y="613"/>
                </a:lnTo>
                <a:lnTo>
                  <a:pt x="1172" y="620"/>
                </a:lnTo>
                <a:lnTo>
                  <a:pt x="1172" y="627"/>
                </a:lnTo>
                <a:lnTo>
                  <a:pt x="1172" y="634"/>
                </a:lnTo>
                <a:lnTo>
                  <a:pt x="1172" y="641"/>
                </a:lnTo>
                <a:lnTo>
                  <a:pt x="1172" y="648"/>
                </a:lnTo>
                <a:lnTo>
                  <a:pt x="1172" y="655"/>
                </a:lnTo>
                <a:lnTo>
                  <a:pt x="1172" y="662"/>
                </a:lnTo>
                <a:lnTo>
                  <a:pt x="1172" y="669"/>
                </a:lnTo>
                <a:lnTo>
                  <a:pt x="1172" y="675"/>
                </a:lnTo>
                <a:lnTo>
                  <a:pt x="1172" y="682"/>
                </a:lnTo>
                <a:lnTo>
                  <a:pt x="1172" y="689"/>
                </a:lnTo>
                <a:lnTo>
                  <a:pt x="1172" y="696"/>
                </a:lnTo>
                <a:lnTo>
                  <a:pt x="1172" y="703"/>
                </a:lnTo>
                <a:lnTo>
                  <a:pt x="1179" y="710"/>
                </a:lnTo>
                <a:close/>
                <a:moveTo>
                  <a:pt x="759" y="682"/>
                </a:moveTo>
                <a:lnTo>
                  <a:pt x="752" y="675"/>
                </a:lnTo>
                <a:lnTo>
                  <a:pt x="745" y="669"/>
                </a:lnTo>
                <a:lnTo>
                  <a:pt x="745" y="662"/>
                </a:lnTo>
                <a:lnTo>
                  <a:pt x="752" y="648"/>
                </a:lnTo>
                <a:lnTo>
                  <a:pt x="759" y="641"/>
                </a:lnTo>
                <a:lnTo>
                  <a:pt x="766" y="627"/>
                </a:lnTo>
                <a:lnTo>
                  <a:pt x="766" y="627"/>
                </a:lnTo>
                <a:lnTo>
                  <a:pt x="773" y="634"/>
                </a:lnTo>
                <a:lnTo>
                  <a:pt x="773" y="641"/>
                </a:lnTo>
                <a:lnTo>
                  <a:pt x="773" y="655"/>
                </a:lnTo>
                <a:lnTo>
                  <a:pt x="773" y="662"/>
                </a:lnTo>
                <a:lnTo>
                  <a:pt x="779" y="669"/>
                </a:lnTo>
                <a:lnTo>
                  <a:pt x="779" y="675"/>
                </a:lnTo>
                <a:lnTo>
                  <a:pt x="779" y="689"/>
                </a:lnTo>
                <a:lnTo>
                  <a:pt x="773" y="696"/>
                </a:lnTo>
                <a:lnTo>
                  <a:pt x="773" y="703"/>
                </a:lnTo>
                <a:lnTo>
                  <a:pt x="766" y="710"/>
                </a:lnTo>
                <a:lnTo>
                  <a:pt x="766" y="703"/>
                </a:lnTo>
                <a:lnTo>
                  <a:pt x="759" y="696"/>
                </a:lnTo>
                <a:lnTo>
                  <a:pt x="759" y="682"/>
                </a:lnTo>
                <a:close/>
                <a:moveTo>
                  <a:pt x="821" y="682"/>
                </a:moveTo>
                <a:lnTo>
                  <a:pt x="821" y="675"/>
                </a:lnTo>
                <a:lnTo>
                  <a:pt x="828" y="675"/>
                </a:lnTo>
                <a:lnTo>
                  <a:pt x="828" y="675"/>
                </a:lnTo>
                <a:lnTo>
                  <a:pt x="828" y="675"/>
                </a:lnTo>
                <a:lnTo>
                  <a:pt x="828" y="675"/>
                </a:lnTo>
                <a:lnTo>
                  <a:pt x="828" y="675"/>
                </a:lnTo>
                <a:lnTo>
                  <a:pt x="828" y="682"/>
                </a:lnTo>
                <a:lnTo>
                  <a:pt x="828" y="682"/>
                </a:lnTo>
                <a:lnTo>
                  <a:pt x="828" y="682"/>
                </a:lnTo>
                <a:lnTo>
                  <a:pt x="828" y="689"/>
                </a:lnTo>
                <a:lnTo>
                  <a:pt x="828" y="689"/>
                </a:lnTo>
                <a:lnTo>
                  <a:pt x="828" y="689"/>
                </a:lnTo>
                <a:lnTo>
                  <a:pt x="821" y="682"/>
                </a:lnTo>
                <a:lnTo>
                  <a:pt x="821" y="682"/>
                </a:lnTo>
                <a:close/>
                <a:moveTo>
                  <a:pt x="855" y="620"/>
                </a:moveTo>
                <a:lnTo>
                  <a:pt x="848" y="620"/>
                </a:lnTo>
                <a:lnTo>
                  <a:pt x="848" y="613"/>
                </a:lnTo>
                <a:lnTo>
                  <a:pt x="848" y="607"/>
                </a:lnTo>
                <a:lnTo>
                  <a:pt x="848" y="600"/>
                </a:lnTo>
                <a:lnTo>
                  <a:pt x="848" y="593"/>
                </a:lnTo>
                <a:lnTo>
                  <a:pt x="848" y="586"/>
                </a:lnTo>
                <a:lnTo>
                  <a:pt x="848" y="579"/>
                </a:lnTo>
                <a:lnTo>
                  <a:pt x="848" y="579"/>
                </a:lnTo>
                <a:lnTo>
                  <a:pt x="855" y="572"/>
                </a:lnTo>
                <a:lnTo>
                  <a:pt x="862" y="565"/>
                </a:lnTo>
                <a:lnTo>
                  <a:pt x="869" y="565"/>
                </a:lnTo>
                <a:lnTo>
                  <a:pt x="876" y="565"/>
                </a:lnTo>
                <a:lnTo>
                  <a:pt x="883" y="558"/>
                </a:lnTo>
                <a:lnTo>
                  <a:pt x="883" y="551"/>
                </a:lnTo>
                <a:lnTo>
                  <a:pt x="883" y="551"/>
                </a:lnTo>
                <a:lnTo>
                  <a:pt x="883" y="545"/>
                </a:lnTo>
                <a:lnTo>
                  <a:pt x="883" y="538"/>
                </a:lnTo>
                <a:lnTo>
                  <a:pt x="890" y="538"/>
                </a:lnTo>
                <a:lnTo>
                  <a:pt x="890" y="545"/>
                </a:lnTo>
                <a:lnTo>
                  <a:pt x="890" y="551"/>
                </a:lnTo>
                <a:lnTo>
                  <a:pt x="890" y="558"/>
                </a:lnTo>
                <a:lnTo>
                  <a:pt x="890" y="558"/>
                </a:lnTo>
                <a:lnTo>
                  <a:pt x="890" y="565"/>
                </a:lnTo>
                <a:lnTo>
                  <a:pt x="883" y="572"/>
                </a:lnTo>
                <a:lnTo>
                  <a:pt x="883" y="579"/>
                </a:lnTo>
                <a:lnTo>
                  <a:pt x="883" y="586"/>
                </a:lnTo>
                <a:lnTo>
                  <a:pt x="883" y="593"/>
                </a:lnTo>
                <a:lnTo>
                  <a:pt x="883" y="593"/>
                </a:lnTo>
                <a:lnTo>
                  <a:pt x="883" y="600"/>
                </a:lnTo>
                <a:lnTo>
                  <a:pt x="876" y="607"/>
                </a:lnTo>
                <a:lnTo>
                  <a:pt x="869" y="607"/>
                </a:lnTo>
                <a:lnTo>
                  <a:pt x="862" y="613"/>
                </a:lnTo>
                <a:lnTo>
                  <a:pt x="862" y="620"/>
                </a:lnTo>
                <a:lnTo>
                  <a:pt x="855" y="627"/>
                </a:lnTo>
                <a:lnTo>
                  <a:pt x="855" y="634"/>
                </a:lnTo>
                <a:lnTo>
                  <a:pt x="855" y="634"/>
                </a:lnTo>
                <a:lnTo>
                  <a:pt x="855" y="634"/>
                </a:lnTo>
                <a:lnTo>
                  <a:pt x="855" y="620"/>
                </a:lnTo>
                <a:close/>
                <a:moveTo>
                  <a:pt x="1800" y="593"/>
                </a:moveTo>
                <a:lnTo>
                  <a:pt x="1800" y="593"/>
                </a:lnTo>
                <a:lnTo>
                  <a:pt x="1800" y="593"/>
                </a:lnTo>
                <a:lnTo>
                  <a:pt x="1793" y="593"/>
                </a:lnTo>
                <a:lnTo>
                  <a:pt x="1793" y="593"/>
                </a:lnTo>
                <a:lnTo>
                  <a:pt x="1786" y="593"/>
                </a:lnTo>
                <a:lnTo>
                  <a:pt x="1786" y="593"/>
                </a:lnTo>
                <a:lnTo>
                  <a:pt x="1779" y="593"/>
                </a:lnTo>
                <a:lnTo>
                  <a:pt x="1779" y="593"/>
                </a:lnTo>
                <a:lnTo>
                  <a:pt x="1786" y="593"/>
                </a:lnTo>
                <a:lnTo>
                  <a:pt x="1786" y="593"/>
                </a:lnTo>
                <a:lnTo>
                  <a:pt x="1793" y="593"/>
                </a:lnTo>
                <a:lnTo>
                  <a:pt x="1800" y="593"/>
                </a:lnTo>
                <a:lnTo>
                  <a:pt x="1800" y="593"/>
                </a:lnTo>
                <a:lnTo>
                  <a:pt x="1800" y="593"/>
                </a:lnTo>
                <a:close/>
                <a:moveTo>
                  <a:pt x="1786" y="565"/>
                </a:moveTo>
                <a:lnTo>
                  <a:pt x="1786" y="551"/>
                </a:lnTo>
                <a:lnTo>
                  <a:pt x="1779" y="551"/>
                </a:lnTo>
                <a:lnTo>
                  <a:pt x="1765" y="545"/>
                </a:lnTo>
                <a:lnTo>
                  <a:pt x="1759" y="551"/>
                </a:lnTo>
                <a:lnTo>
                  <a:pt x="1752" y="558"/>
                </a:lnTo>
                <a:lnTo>
                  <a:pt x="1752" y="565"/>
                </a:lnTo>
                <a:lnTo>
                  <a:pt x="1752" y="579"/>
                </a:lnTo>
                <a:lnTo>
                  <a:pt x="1759" y="586"/>
                </a:lnTo>
                <a:lnTo>
                  <a:pt x="1765" y="593"/>
                </a:lnTo>
                <a:lnTo>
                  <a:pt x="1772" y="593"/>
                </a:lnTo>
                <a:lnTo>
                  <a:pt x="1779" y="593"/>
                </a:lnTo>
                <a:lnTo>
                  <a:pt x="1779" y="586"/>
                </a:lnTo>
                <a:lnTo>
                  <a:pt x="1786" y="572"/>
                </a:lnTo>
                <a:lnTo>
                  <a:pt x="1786" y="565"/>
                </a:lnTo>
                <a:close/>
                <a:moveTo>
                  <a:pt x="1834" y="565"/>
                </a:moveTo>
                <a:lnTo>
                  <a:pt x="1834" y="565"/>
                </a:lnTo>
                <a:lnTo>
                  <a:pt x="1834" y="565"/>
                </a:lnTo>
                <a:lnTo>
                  <a:pt x="1828" y="565"/>
                </a:lnTo>
                <a:lnTo>
                  <a:pt x="1828" y="565"/>
                </a:lnTo>
                <a:lnTo>
                  <a:pt x="1828" y="565"/>
                </a:lnTo>
                <a:lnTo>
                  <a:pt x="1828" y="565"/>
                </a:lnTo>
                <a:lnTo>
                  <a:pt x="1828" y="565"/>
                </a:lnTo>
                <a:lnTo>
                  <a:pt x="1828" y="565"/>
                </a:lnTo>
                <a:lnTo>
                  <a:pt x="1828" y="565"/>
                </a:lnTo>
                <a:lnTo>
                  <a:pt x="1828" y="565"/>
                </a:lnTo>
                <a:lnTo>
                  <a:pt x="1834" y="565"/>
                </a:lnTo>
                <a:lnTo>
                  <a:pt x="1834" y="565"/>
                </a:lnTo>
                <a:lnTo>
                  <a:pt x="1834" y="565"/>
                </a:lnTo>
                <a:lnTo>
                  <a:pt x="1834" y="565"/>
                </a:lnTo>
                <a:close/>
                <a:moveTo>
                  <a:pt x="1248" y="531"/>
                </a:moveTo>
                <a:lnTo>
                  <a:pt x="1248" y="531"/>
                </a:lnTo>
                <a:lnTo>
                  <a:pt x="1248" y="524"/>
                </a:lnTo>
                <a:lnTo>
                  <a:pt x="1241" y="517"/>
                </a:lnTo>
                <a:lnTo>
                  <a:pt x="1241" y="517"/>
                </a:lnTo>
                <a:lnTo>
                  <a:pt x="1241" y="510"/>
                </a:lnTo>
                <a:lnTo>
                  <a:pt x="1241" y="503"/>
                </a:lnTo>
                <a:lnTo>
                  <a:pt x="1241" y="496"/>
                </a:lnTo>
                <a:lnTo>
                  <a:pt x="1235" y="503"/>
                </a:lnTo>
                <a:lnTo>
                  <a:pt x="1235" y="510"/>
                </a:lnTo>
                <a:lnTo>
                  <a:pt x="1228" y="517"/>
                </a:lnTo>
                <a:lnTo>
                  <a:pt x="1221" y="524"/>
                </a:lnTo>
                <a:lnTo>
                  <a:pt x="1214" y="524"/>
                </a:lnTo>
                <a:lnTo>
                  <a:pt x="1207" y="531"/>
                </a:lnTo>
                <a:lnTo>
                  <a:pt x="1207" y="531"/>
                </a:lnTo>
                <a:lnTo>
                  <a:pt x="1214" y="538"/>
                </a:lnTo>
                <a:lnTo>
                  <a:pt x="1221" y="538"/>
                </a:lnTo>
                <a:lnTo>
                  <a:pt x="1235" y="545"/>
                </a:lnTo>
                <a:lnTo>
                  <a:pt x="1241" y="545"/>
                </a:lnTo>
                <a:lnTo>
                  <a:pt x="1241" y="538"/>
                </a:lnTo>
                <a:lnTo>
                  <a:pt x="1248" y="531"/>
                </a:lnTo>
                <a:close/>
                <a:moveTo>
                  <a:pt x="1455" y="531"/>
                </a:moveTo>
                <a:lnTo>
                  <a:pt x="1455" y="531"/>
                </a:lnTo>
                <a:lnTo>
                  <a:pt x="1455" y="524"/>
                </a:lnTo>
                <a:lnTo>
                  <a:pt x="1448" y="524"/>
                </a:lnTo>
                <a:lnTo>
                  <a:pt x="1448" y="524"/>
                </a:lnTo>
                <a:lnTo>
                  <a:pt x="1448" y="524"/>
                </a:lnTo>
                <a:lnTo>
                  <a:pt x="1448" y="524"/>
                </a:lnTo>
                <a:lnTo>
                  <a:pt x="1441" y="524"/>
                </a:lnTo>
                <a:lnTo>
                  <a:pt x="1441" y="531"/>
                </a:lnTo>
                <a:lnTo>
                  <a:pt x="1441" y="531"/>
                </a:lnTo>
                <a:lnTo>
                  <a:pt x="1441" y="538"/>
                </a:lnTo>
                <a:lnTo>
                  <a:pt x="1448" y="538"/>
                </a:lnTo>
                <a:lnTo>
                  <a:pt x="1448" y="538"/>
                </a:lnTo>
                <a:lnTo>
                  <a:pt x="1455" y="538"/>
                </a:lnTo>
                <a:lnTo>
                  <a:pt x="1455" y="531"/>
                </a:lnTo>
                <a:close/>
                <a:moveTo>
                  <a:pt x="1814" y="531"/>
                </a:moveTo>
                <a:lnTo>
                  <a:pt x="1807" y="524"/>
                </a:lnTo>
                <a:lnTo>
                  <a:pt x="1807" y="524"/>
                </a:lnTo>
                <a:lnTo>
                  <a:pt x="1800" y="524"/>
                </a:lnTo>
                <a:lnTo>
                  <a:pt x="1793" y="524"/>
                </a:lnTo>
                <a:lnTo>
                  <a:pt x="1786" y="531"/>
                </a:lnTo>
                <a:lnTo>
                  <a:pt x="1786" y="531"/>
                </a:lnTo>
                <a:lnTo>
                  <a:pt x="1786" y="538"/>
                </a:lnTo>
                <a:lnTo>
                  <a:pt x="1786" y="545"/>
                </a:lnTo>
                <a:lnTo>
                  <a:pt x="1793" y="551"/>
                </a:lnTo>
                <a:lnTo>
                  <a:pt x="1800" y="551"/>
                </a:lnTo>
                <a:lnTo>
                  <a:pt x="1807" y="551"/>
                </a:lnTo>
                <a:lnTo>
                  <a:pt x="1807" y="545"/>
                </a:lnTo>
                <a:lnTo>
                  <a:pt x="1807" y="545"/>
                </a:lnTo>
                <a:lnTo>
                  <a:pt x="1814" y="531"/>
                </a:lnTo>
                <a:close/>
                <a:moveTo>
                  <a:pt x="1924" y="531"/>
                </a:moveTo>
                <a:lnTo>
                  <a:pt x="1924" y="531"/>
                </a:lnTo>
                <a:lnTo>
                  <a:pt x="1917" y="531"/>
                </a:lnTo>
                <a:lnTo>
                  <a:pt x="1917" y="531"/>
                </a:lnTo>
                <a:lnTo>
                  <a:pt x="1910" y="531"/>
                </a:lnTo>
                <a:lnTo>
                  <a:pt x="1910" y="531"/>
                </a:lnTo>
                <a:lnTo>
                  <a:pt x="1910" y="531"/>
                </a:lnTo>
                <a:lnTo>
                  <a:pt x="1910" y="531"/>
                </a:lnTo>
                <a:lnTo>
                  <a:pt x="1910" y="538"/>
                </a:lnTo>
                <a:lnTo>
                  <a:pt x="1910" y="538"/>
                </a:lnTo>
                <a:lnTo>
                  <a:pt x="1910" y="538"/>
                </a:lnTo>
                <a:lnTo>
                  <a:pt x="1917" y="538"/>
                </a:lnTo>
                <a:lnTo>
                  <a:pt x="1917" y="538"/>
                </a:lnTo>
                <a:lnTo>
                  <a:pt x="1924" y="538"/>
                </a:lnTo>
                <a:lnTo>
                  <a:pt x="1924" y="531"/>
                </a:lnTo>
                <a:close/>
                <a:moveTo>
                  <a:pt x="1510" y="503"/>
                </a:moveTo>
                <a:lnTo>
                  <a:pt x="1517" y="496"/>
                </a:lnTo>
                <a:lnTo>
                  <a:pt x="1517" y="496"/>
                </a:lnTo>
                <a:lnTo>
                  <a:pt x="1524" y="489"/>
                </a:lnTo>
                <a:lnTo>
                  <a:pt x="1531" y="483"/>
                </a:lnTo>
                <a:lnTo>
                  <a:pt x="1538" y="476"/>
                </a:lnTo>
                <a:lnTo>
                  <a:pt x="1545" y="476"/>
                </a:lnTo>
                <a:lnTo>
                  <a:pt x="1545" y="469"/>
                </a:lnTo>
                <a:lnTo>
                  <a:pt x="1545" y="462"/>
                </a:lnTo>
                <a:lnTo>
                  <a:pt x="1538" y="455"/>
                </a:lnTo>
                <a:lnTo>
                  <a:pt x="1531" y="455"/>
                </a:lnTo>
                <a:lnTo>
                  <a:pt x="1524" y="455"/>
                </a:lnTo>
                <a:lnTo>
                  <a:pt x="1510" y="455"/>
                </a:lnTo>
                <a:lnTo>
                  <a:pt x="1503" y="455"/>
                </a:lnTo>
                <a:lnTo>
                  <a:pt x="1490" y="455"/>
                </a:lnTo>
                <a:lnTo>
                  <a:pt x="1483" y="455"/>
                </a:lnTo>
                <a:lnTo>
                  <a:pt x="1476" y="462"/>
                </a:lnTo>
                <a:lnTo>
                  <a:pt x="1469" y="462"/>
                </a:lnTo>
                <a:lnTo>
                  <a:pt x="1462" y="469"/>
                </a:lnTo>
                <a:lnTo>
                  <a:pt x="1462" y="476"/>
                </a:lnTo>
                <a:lnTo>
                  <a:pt x="1455" y="483"/>
                </a:lnTo>
                <a:lnTo>
                  <a:pt x="1455" y="489"/>
                </a:lnTo>
                <a:lnTo>
                  <a:pt x="1455" y="489"/>
                </a:lnTo>
                <a:lnTo>
                  <a:pt x="1455" y="496"/>
                </a:lnTo>
                <a:lnTo>
                  <a:pt x="1462" y="503"/>
                </a:lnTo>
                <a:lnTo>
                  <a:pt x="1462" y="510"/>
                </a:lnTo>
                <a:lnTo>
                  <a:pt x="1469" y="517"/>
                </a:lnTo>
                <a:lnTo>
                  <a:pt x="1476" y="517"/>
                </a:lnTo>
                <a:lnTo>
                  <a:pt x="1483" y="517"/>
                </a:lnTo>
                <a:lnTo>
                  <a:pt x="1497" y="517"/>
                </a:lnTo>
                <a:lnTo>
                  <a:pt x="1503" y="517"/>
                </a:lnTo>
                <a:lnTo>
                  <a:pt x="1510" y="510"/>
                </a:lnTo>
                <a:lnTo>
                  <a:pt x="1510" y="503"/>
                </a:lnTo>
                <a:close/>
                <a:moveTo>
                  <a:pt x="1848" y="503"/>
                </a:moveTo>
                <a:lnTo>
                  <a:pt x="1841" y="496"/>
                </a:lnTo>
                <a:lnTo>
                  <a:pt x="1834" y="496"/>
                </a:lnTo>
                <a:lnTo>
                  <a:pt x="1834" y="496"/>
                </a:lnTo>
                <a:lnTo>
                  <a:pt x="1828" y="496"/>
                </a:lnTo>
                <a:lnTo>
                  <a:pt x="1821" y="496"/>
                </a:lnTo>
                <a:lnTo>
                  <a:pt x="1821" y="503"/>
                </a:lnTo>
                <a:lnTo>
                  <a:pt x="1821" y="503"/>
                </a:lnTo>
                <a:lnTo>
                  <a:pt x="1821" y="510"/>
                </a:lnTo>
                <a:lnTo>
                  <a:pt x="1828" y="510"/>
                </a:lnTo>
                <a:lnTo>
                  <a:pt x="1828" y="517"/>
                </a:lnTo>
                <a:lnTo>
                  <a:pt x="1834" y="517"/>
                </a:lnTo>
                <a:lnTo>
                  <a:pt x="1841" y="510"/>
                </a:lnTo>
                <a:lnTo>
                  <a:pt x="1841" y="510"/>
                </a:lnTo>
                <a:lnTo>
                  <a:pt x="1848" y="503"/>
                </a:lnTo>
                <a:close/>
                <a:moveTo>
                  <a:pt x="1386" y="476"/>
                </a:moveTo>
                <a:lnTo>
                  <a:pt x="1386" y="476"/>
                </a:lnTo>
                <a:lnTo>
                  <a:pt x="1386" y="476"/>
                </a:lnTo>
                <a:lnTo>
                  <a:pt x="1386" y="476"/>
                </a:lnTo>
                <a:lnTo>
                  <a:pt x="1386" y="476"/>
                </a:lnTo>
                <a:lnTo>
                  <a:pt x="1386" y="476"/>
                </a:lnTo>
                <a:lnTo>
                  <a:pt x="1386" y="476"/>
                </a:lnTo>
                <a:lnTo>
                  <a:pt x="1386" y="476"/>
                </a:lnTo>
                <a:lnTo>
                  <a:pt x="1386" y="476"/>
                </a:lnTo>
                <a:lnTo>
                  <a:pt x="1386" y="476"/>
                </a:lnTo>
                <a:lnTo>
                  <a:pt x="1386" y="476"/>
                </a:lnTo>
                <a:lnTo>
                  <a:pt x="1386" y="476"/>
                </a:lnTo>
                <a:lnTo>
                  <a:pt x="1386" y="476"/>
                </a:lnTo>
                <a:lnTo>
                  <a:pt x="1386" y="476"/>
                </a:lnTo>
                <a:lnTo>
                  <a:pt x="1386" y="476"/>
                </a:lnTo>
                <a:close/>
                <a:moveTo>
                  <a:pt x="1807" y="476"/>
                </a:moveTo>
                <a:lnTo>
                  <a:pt x="1807" y="469"/>
                </a:lnTo>
                <a:lnTo>
                  <a:pt x="1800" y="469"/>
                </a:lnTo>
                <a:lnTo>
                  <a:pt x="1800" y="469"/>
                </a:lnTo>
                <a:lnTo>
                  <a:pt x="1800" y="469"/>
                </a:lnTo>
                <a:lnTo>
                  <a:pt x="1800" y="469"/>
                </a:lnTo>
                <a:lnTo>
                  <a:pt x="1793" y="476"/>
                </a:lnTo>
                <a:lnTo>
                  <a:pt x="1793" y="476"/>
                </a:lnTo>
                <a:lnTo>
                  <a:pt x="1800" y="483"/>
                </a:lnTo>
                <a:lnTo>
                  <a:pt x="1800" y="483"/>
                </a:lnTo>
                <a:lnTo>
                  <a:pt x="1800" y="483"/>
                </a:lnTo>
                <a:lnTo>
                  <a:pt x="1800" y="483"/>
                </a:lnTo>
                <a:lnTo>
                  <a:pt x="1807" y="483"/>
                </a:lnTo>
                <a:lnTo>
                  <a:pt x="1807" y="476"/>
                </a:lnTo>
                <a:lnTo>
                  <a:pt x="1807" y="476"/>
                </a:lnTo>
                <a:close/>
                <a:moveTo>
                  <a:pt x="1952" y="448"/>
                </a:moveTo>
                <a:lnTo>
                  <a:pt x="1952" y="441"/>
                </a:lnTo>
                <a:lnTo>
                  <a:pt x="1945" y="441"/>
                </a:lnTo>
                <a:lnTo>
                  <a:pt x="1938" y="441"/>
                </a:lnTo>
                <a:lnTo>
                  <a:pt x="1938" y="441"/>
                </a:lnTo>
                <a:lnTo>
                  <a:pt x="1931" y="441"/>
                </a:lnTo>
                <a:lnTo>
                  <a:pt x="1924" y="441"/>
                </a:lnTo>
                <a:lnTo>
                  <a:pt x="1917" y="441"/>
                </a:lnTo>
                <a:lnTo>
                  <a:pt x="1917" y="448"/>
                </a:lnTo>
                <a:lnTo>
                  <a:pt x="1924" y="448"/>
                </a:lnTo>
                <a:lnTo>
                  <a:pt x="1931" y="448"/>
                </a:lnTo>
                <a:lnTo>
                  <a:pt x="1931" y="455"/>
                </a:lnTo>
                <a:lnTo>
                  <a:pt x="1938" y="455"/>
                </a:lnTo>
                <a:lnTo>
                  <a:pt x="1945" y="462"/>
                </a:lnTo>
                <a:lnTo>
                  <a:pt x="1945" y="462"/>
                </a:lnTo>
                <a:lnTo>
                  <a:pt x="1945" y="462"/>
                </a:lnTo>
                <a:lnTo>
                  <a:pt x="1952" y="462"/>
                </a:lnTo>
                <a:lnTo>
                  <a:pt x="1952" y="462"/>
                </a:lnTo>
                <a:lnTo>
                  <a:pt x="1952" y="455"/>
                </a:lnTo>
                <a:lnTo>
                  <a:pt x="1952" y="448"/>
                </a:lnTo>
                <a:lnTo>
                  <a:pt x="1952" y="448"/>
                </a:lnTo>
                <a:close/>
                <a:moveTo>
                  <a:pt x="221" y="414"/>
                </a:moveTo>
                <a:lnTo>
                  <a:pt x="207" y="414"/>
                </a:lnTo>
                <a:lnTo>
                  <a:pt x="207" y="434"/>
                </a:lnTo>
                <a:lnTo>
                  <a:pt x="221" y="414"/>
                </a:lnTo>
                <a:close/>
                <a:moveTo>
                  <a:pt x="1779" y="414"/>
                </a:moveTo>
                <a:lnTo>
                  <a:pt x="1772" y="414"/>
                </a:lnTo>
                <a:lnTo>
                  <a:pt x="1772" y="414"/>
                </a:lnTo>
                <a:lnTo>
                  <a:pt x="1772" y="414"/>
                </a:lnTo>
                <a:lnTo>
                  <a:pt x="1765" y="414"/>
                </a:lnTo>
                <a:lnTo>
                  <a:pt x="1765" y="414"/>
                </a:lnTo>
                <a:lnTo>
                  <a:pt x="1765" y="421"/>
                </a:lnTo>
                <a:lnTo>
                  <a:pt x="1765" y="421"/>
                </a:lnTo>
                <a:lnTo>
                  <a:pt x="1772" y="427"/>
                </a:lnTo>
                <a:lnTo>
                  <a:pt x="1772" y="427"/>
                </a:lnTo>
                <a:lnTo>
                  <a:pt x="1772" y="427"/>
                </a:lnTo>
                <a:lnTo>
                  <a:pt x="1772" y="427"/>
                </a:lnTo>
                <a:lnTo>
                  <a:pt x="1772" y="421"/>
                </a:lnTo>
                <a:lnTo>
                  <a:pt x="1779" y="421"/>
                </a:lnTo>
                <a:lnTo>
                  <a:pt x="1779" y="414"/>
                </a:lnTo>
                <a:close/>
                <a:moveTo>
                  <a:pt x="1076" y="324"/>
                </a:moveTo>
                <a:lnTo>
                  <a:pt x="1076" y="324"/>
                </a:lnTo>
                <a:lnTo>
                  <a:pt x="1083" y="317"/>
                </a:lnTo>
                <a:lnTo>
                  <a:pt x="1090" y="310"/>
                </a:lnTo>
                <a:lnTo>
                  <a:pt x="1097" y="310"/>
                </a:lnTo>
                <a:lnTo>
                  <a:pt x="1104" y="303"/>
                </a:lnTo>
                <a:lnTo>
                  <a:pt x="1110" y="297"/>
                </a:lnTo>
                <a:lnTo>
                  <a:pt x="1117" y="297"/>
                </a:lnTo>
                <a:lnTo>
                  <a:pt x="1124" y="297"/>
                </a:lnTo>
                <a:lnTo>
                  <a:pt x="1138" y="297"/>
                </a:lnTo>
                <a:lnTo>
                  <a:pt x="1145" y="297"/>
                </a:lnTo>
                <a:lnTo>
                  <a:pt x="1152" y="297"/>
                </a:lnTo>
                <a:lnTo>
                  <a:pt x="1159" y="290"/>
                </a:lnTo>
                <a:lnTo>
                  <a:pt x="1159" y="283"/>
                </a:lnTo>
                <a:lnTo>
                  <a:pt x="1166" y="283"/>
                </a:lnTo>
                <a:lnTo>
                  <a:pt x="1172" y="276"/>
                </a:lnTo>
                <a:lnTo>
                  <a:pt x="1179" y="276"/>
                </a:lnTo>
                <a:lnTo>
                  <a:pt x="1186" y="269"/>
                </a:lnTo>
                <a:lnTo>
                  <a:pt x="1200" y="269"/>
                </a:lnTo>
                <a:lnTo>
                  <a:pt x="1207" y="269"/>
                </a:lnTo>
                <a:lnTo>
                  <a:pt x="1214" y="269"/>
                </a:lnTo>
                <a:lnTo>
                  <a:pt x="1221" y="262"/>
                </a:lnTo>
                <a:lnTo>
                  <a:pt x="1221" y="255"/>
                </a:lnTo>
                <a:lnTo>
                  <a:pt x="1228" y="248"/>
                </a:lnTo>
                <a:lnTo>
                  <a:pt x="1228" y="241"/>
                </a:lnTo>
                <a:lnTo>
                  <a:pt x="1235" y="241"/>
                </a:lnTo>
                <a:lnTo>
                  <a:pt x="1241" y="235"/>
                </a:lnTo>
                <a:lnTo>
                  <a:pt x="1248" y="235"/>
                </a:lnTo>
                <a:lnTo>
                  <a:pt x="1255" y="228"/>
                </a:lnTo>
                <a:lnTo>
                  <a:pt x="1262" y="221"/>
                </a:lnTo>
                <a:lnTo>
                  <a:pt x="1269" y="221"/>
                </a:lnTo>
                <a:lnTo>
                  <a:pt x="1276" y="221"/>
                </a:lnTo>
                <a:lnTo>
                  <a:pt x="1290" y="221"/>
                </a:lnTo>
                <a:lnTo>
                  <a:pt x="1297" y="221"/>
                </a:lnTo>
                <a:lnTo>
                  <a:pt x="1303" y="221"/>
                </a:lnTo>
                <a:lnTo>
                  <a:pt x="1303" y="214"/>
                </a:lnTo>
                <a:lnTo>
                  <a:pt x="1303" y="207"/>
                </a:lnTo>
                <a:lnTo>
                  <a:pt x="1303" y="200"/>
                </a:lnTo>
                <a:lnTo>
                  <a:pt x="1310" y="193"/>
                </a:lnTo>
                <a:lnTo>
                  <a:pt x="1317" y="186"/>
                </a:lnTo>
                <a:lnTo>
                  <a:pt x="1324" y="186"/>
                </a:lnTo>
                <a:lnTo>
                  <a:pt x="1331" y="179"/>
                </a:lnTo>
                <a:lnTo>
                  <a:pt x="1338" y="179"/>
                </a:lnTo>
                <a:lnTo>
                  <a:pt x="1352" y="179"/>
                </a:lnTo>
                <a:lnTo>
                  <a:pt x="1352" y="179"/>
                </a:lnTo>
                <a:lnTo>
                  <a:pt x="1359" y="173"/>
                </a:lnTo>
                <a:lnTo>
                  <a:pt x="1352" y="166"/>
                </a:lnTo>
                <a:lnTo>
                  <a:pt x="1345" y="159"/>
                </a:lnTo>
                <a:lnTo>
                  <a:pt x="1338" y="152"/>
                </a:lnTo>
                <a:lnTo>
                  <a:pt x="1331" y="152"/>
                </a:lnTo>
                <a:lnTo>
                  <a:pt x="1324" y="152"/>
                </a:lnTo>
                <a:lnTo>
                  <a:pt x="1317" y="152"/>
                </a:lnTo>
                <a:lnTo>
                  <a:pt x="1310" y="159"/>
                </a:lnTo>
                <a:lnTo>
                  <a:pt x="1303" y="159"/>
                </a:lnTo>
                <a:lnTo>
                  <a:pt x="1297" y="166"/>
                </a:lnTo>
                <a:lnTo>
                  <a:pt x="1290" y="166"/>
                </a:lnTo>
                <a:lnTo>
                  <a:pt x="1276" y="173"/>
                </a:lnTo>
                <a:lnTo>
                  <a:pt x="1269" y="173"/>
                </a:lnTo>
                <a:lnTo>
                  <a:pt x="1262" y="173"/>
                </a:lnTo>
                <a:lnTo>
                  <a:pt x="1248" y="173"/>
                </a:lnTo>
                <a:lnTo>
                  <a:pt x="1241" y="173"/>
                </a:lnTo>
                <a:lnTo>
                  <a:pt x="1235" y="179"/>
                </a:lnTo>
                <a:lnTo>
                  <a:pt x="1235" y="179"/>
                </a:lnTo>
                <a:lnTo>
                  <a:pt x="1228" y="186"/>
                </a:lnTo>
                <a:lnTo>
                  <a:pt x="1221" y="186"/>
                </a:lnTo>
                <a:lnTo>
                  <a:pt x="1214" y="193"/>
                </a:lnTo>
                <a:lnTo>
                  <a:pt x="1200" y="193"/>
                </a:lnTo>
                <a:lnTo>
                  <a:pt x="1193" y="200"/>
                </a:lnTo>
                <a:lnTo>
                  <a:pt x="1186" y="200"/>
                </a:lnTo>
                <a:lnTo>
                  <a:pt x="1179" y="200"/>
                </a:lnTo>
                <a:lnTo>
                  <a:pt x="1166" y="200"/>
                </a:lnTo>
                <a:lnTo>
                  <a:pt x="1159" y="200"/>
                </a:lnTo>
                <a:lnTo>
                  <a:pt x="1152" y="200"/>
                </a:lnTo>
                <a:lnTo>
                  <a:pt x="1152" y="207"/>
                </a:lnTo>
                <a:lnTo>
                  <a:pt x="1152" y="214"/>
                </a:lnTo>
                <a:lnTo>
                  <a:pt x="1152" y="221"/>
                </a:lnTo>
                <a:lnTo>
                  <a:pt x="1152" y="228"/>
                </a:lnTo>
                <a:lnTo>
                  <a:pt x="1159" y="228"/>
                </a:lnTo>
                <a:lnTo>
                  <a:pt x="1159" y="235"/>
                </a:lnTo>
                <a:lnTo>
                  <a:pt x="1159" y="241"/>
                </a:lnTo>
                <a:lnTo>
                  <a:pt x="1152" y="248"/>
                </a:lnTo>
                <a:lnTo>
                  <a:pt x="1145" y="248"/>
                </a:lnTo>
                <a:lnTo>
                  <a:pt x="1138" y="255"/>
                </a:lnTo>
                <a:lnTo>
                  <a:pt x="1131" y="255"/>
                </a:lnTo>
                <a:lnTo>
                  <a:pt x="1124" y="262"/>
                </a:lnTo>
                <a:lnTo>
                  <a:pt x="1117" y="262"/>
                </a:lnTo>
                <a:lnTo>
                  <a:pt x="1110" y="269"/>
                </a:lnTo>
                <a:lnTo>
                  <a:pt x="1104" y="269"/>
                </a:lnTo>
                <a:lnTo>
                  <a:pt x="1097" y="276"/>
                </a:lnTo>
                <a:lnTo>
                  <a:pt x="1090" y="276"/>
                </a:lnTo>
                <a:lnTo>
                  <a:pt x="1083" y="283"/>
                </a:lnTo>
                <a:lnTo>
                  <a:pt x="1076" y="283"/>
                </a:lnTo>
                <a:lnTo>
                  <a:pt x="1069" y="290"/>
                </a:lnTo>
                <a:lnTo>
                  <a:pt x="1062" y="290"/>
                </a:lnTo>
                <a:lnTo>
                  <a:pt x="1055" y="297"/>
                </a:lnTo>
                <a:lnTo>
                  <a:pt x="1048" y="303"/>
                </a:lnTo>
                <a:lnTo>
                  <a:pt x="1041" y="303"/>
                </a:lnTo>
                <a:lnTo>
                  <a:pt x="1035" y="310"/>
                </a:lnTo>
                <a:lnTo>
                  <a:pt x="1035" y="317"/>
                </a:lnTo>
                <a:lnTo>
                  <a:pt x="1035" y="324"/>
                </a:lnTo>
                <a:lnTo>
                  <a:pt x="1041" y="331"/>
                </a:lnTo>
                <a:lnTo>
                  <a:pt x="1048" y="331"/>
                </a:lnTo>
                <a:lnTo>
                  <a:pt x="1062" y="331"/>
                </a:lnTo>
                <a:lnTo>
                  <a:pt x="1069" y="331"/>
                </a:lnTo>
                <a:lnTo>
                  <a:pt x="1076" y="324"/>
                </a:lnTo>
                <a:close/>
                <a:moveTo>
                  <a:pt x="2427" y="179"/>
                </a:moveTo>
                <a:lnTo>
                  <a:pt x="2420" y="173"/>
                </a:lnTo>
                <a:lnTo>
                  <a:pt x="2414" y="173"/>
                </a:lnTo>
                <a:lnTo>
                  <a:pt x="2414" y="173"/>
                </a:lnTo>
                <a:lnTo>
                  <a:pt x="2407" y="173"/>
                </a:lnTo>
                <a:lnTo>
                  <a:pt x="2400" y="173"/>
                </a:lnTo>
                <a:lnTo>
                  <a:pt x="2393" y="166"/>
                </a:lnTo>
                <a:lnTo>
                  <a:pt x="2386" y="166"/>
                </a:lnTo>
                <a:lnTo>
                  <a:pt x="2379" y="166"/>
                </a:lnTo>
                <a:lnTo>
                  <a:pt x="2372" y="166"/>
                </a:lnTo>
                <a:lnTo>
                  <a:pt x="2365" y="166"/>
                </a:lnTo>
                <a:lnTo>
                  <a:pt x="2365" y="166"/>
                </a:lnTo>
                <a:lnTo>
                  <a:pt x="2358" y="166"/>
                </a:lnTo>
                <a:lnTo>
                  <a:pt x="2358" y="173"/>
                </a:lnTo>
                <a:lnTo>
                  <a:pt x="2358" y="179"/>
                </a:lnTo>
                <a:lnTo>
                  <a:pt x="2358" y="179"/>
                </a:lnTo>
                <a:lnTo>
                  <a:pt x="2365" y="186"/>
                </a:lnTo>
                <a:lnTo>
                  <a:pt x="2372" y="186"/>
                </a:lnTo>
                <a:lnTo>
                  <a:pt x="2379" y="186"/>
                </a:lnTo>
                <a:lnTo>
                  <a:pt x="2386" y="186"/>
                </a:lnTo>
                <a:lnTo>
                  <a:pt x="2393" y="186"/>
                </a:lnTo>
                <a:lnTo>
                  <a:pt x="2400" y="186"/>
                </a:lnTo>
                <a:lnTo>
                  <a:pt x="2400" y="179"/>
                </a:lnTo>
                <a:lnTo>
                  <a:pt x="2407" y="179"/>
                </a:lnTo>
                <a:lnTo>
                  <a:pt x="2414" y="179"/>
                </a:lnTo>
                <a:lnTo>
                  <a:pt x="2420" y="179"/>
                </a:lnTo>
                <a:lnTo>
                  <a:pt x="2427" y="179"/>
                </a:lnTo>
                <a:close/>
                <a:moveTo>
                  <a:pt x="1421" y="145"/>
                </a:moveTo>
                <a:lnTo>
                  <a:pt x="1421" y="138"/>
                </a:lnTo>
                <a:lnTo>
                  <a:pt x="1421" y="138"/>
                </a:lnTo>
                <a:lnTo>
                  <a:pt x="1414" y="131"/>
                </a:lnTo>
                <a:lnTo>
                  <a:pt x="1400" y="138"/>
                </a:lnTo>
                <a:lnTo>
                  <a:pt x="1393" y="138"/>
                </a:lnTo>
                <a:lnTo>
                  <a:pt x="1379" y="138"/>
                </a:lnTo>
                <a:lnTo>
                  <a:pt x="1372" y="138"/>
                </a:lnTo>
                <a:lnTo>
                  <a:pt x="1366" y="138"/>
                </a:lnTo>
                <a:lnTo>
                  <a:pt x="1359" y="138"/>
                </a:lnTo>
                <a:lnTo>
                  <a:pt x="1345" y="145"/>
                </a:lnTo>
                <a:lnTo>
                  <a:pt x="1338" y="145"/>
                </a:lnTo>
                <a:lnTo>
                  <a:pt x="1331" y="145"/>
                </a:lnTo>
                <a:lnTo>
                  <a:pt x="1331" y="152"/>
                </a:lnTo>
                <a:lnTo>
                  <a:pt x="1331" y="159"/>
                </a:lnTo>
                <a:lnTo>
                  <a:pt x="1338" y="166"/>
                </a:lnTo>
                <a:lnTo>
                  <a:pt x="1345" y="166"/>
                </a:lnTo>
                <a:lnTo>
                  <a:pt x="1359" y="173"/>
                </a:lnTo>
                <a:lnTo>
                  <a:pt x="1366" y="173"/>
                </a:lnTo>
                <a:lnTo>
                  <a:pt x="1379" y="173"/>
                </a:lnTo>
                <a:lnTo>
                  <a:pt x="1386" y="173"/>
                </a:lnTo>
                <a:lnTo>
                  <a:pt x="1393" y="173"/>
                </a:lnTo>
                <a:lnTo>
                  <a:pt x="1400" y="166"/>
                </a:lnTo>
                <a:lnTo>
                  <a:pt x="1400" y="159"/>
                </a:lnTo>
                <a:lnTo>
                  <a:pt x="1407" y="159"/>
                </a:lnTo>
                <a:lnTo>
                  <a:pt x="1414" y="152"/>
                </a:lnTo>
                <a:lnTo>
                  <a:pt x="1421" y="145"/>
                </a:lnTo>
                <a:close/>
                <a:moveTo>
                  <a:pt x="2289" y="145"/>
                </a:moveTo>
                <a:lnTo>
                  <a:pt x="2283" y="145"/>
                </a:lnTo>
                <a:lnTo>
                  <a:pt x="2283" y="145"/>
                </a:lnTo>
                <a:lnTo>
                  <a:pt x="2283" y="145"/>
                </a:lnTo>
                <a:lnTo>
                  <a:pt x="2276" y="145"/>
                </a:lnTo>
                <a:lnTo>
                  <a:pt x="2276" y="145"/>
                </a:lnTo>
                <a:lnTo>
                  <a:pt x="2269" y="145"/>
                </a:lnTo>
                <a:lnTo>
                  <a:pt x="2269" y="145"/>
                </a:lnTo>
                <a:lnTo>
                  <a:pt x="2269" y="145"/>
                </a:lnTo>
                <a:lnTo>
                  <a:pt x="2276" y="152"/>
                </a:lnTo>
                <a:lnTo>
                  <a:pt x="2276" y="152"/>
                </a:lnTo>
                <a:lnTo>
                  <a:pt x="2283" y="152"/>
                </a:lnTo>
                <a:lnTo>
                  <a:pt x="2283" y="152"/>
                </a:lnTo>
                <a:lnTo>
                  <a:pt x="2289" y="145"/>
                </a:lnTo>
                <a:lnTo>
                  <a:pt x="2289" y="145"/>
                </a:lnTo>
                <a:close/>
                <a:moveTo>
                  <a:pt x="1490" y="117"/>
                </a:moveTo>
                <a:lnTo>
                  <a:pt x="1483" y="117"/>
                </a:lnTo>
                <a:lnTo>
                  <a:pt x="1476" y="117"/>
                </a:lnTo>
                <a:lnTo>
                  <a:pt x="1476" y="111"/>
                </a:lnTo>
                <a:lnTo>
                  <a:pt x="1469" y="111"/>
                </a:lnTo>
                <a:lnTo>
                  <a:pt x="1462" y="111"/>
                </a:lnTo>
                <a:lnTo>
                  <a:pt x="1455" y="104"/>
                </a:lnTo>
                <a:lnTo>
                  <a:pt x="1448" y="104"/>
                </a:lnTo>
                <a:lnTo>
                  <a:pt x="1441" y="111"/>
                </a:lnTo>
                <a:lnTo>
                  <a:pt x="1434" y="111"/>
                </a:lnTo>
                <a:lnTo>
                  <a:pt x="1434" y="117"/>
                </a:lnTo>
                <a:lnTo>
                  <a:pt x="1434" y="117"/>
                </a:lnTo>
                <a:lnTo>
                  <a:pt x="1441" y="124"/>
                </a:lnTo>
                <a:lnTo>
                  <a:pt x="1448" y="124"/>
                </a:lnTo>
                <a:lnTo>
                  <a:pt x="1455" y="124"/>
                </a:lnTo>
                <a:lnTo>
                  <a:pt x="1462" y="124"/>
                </a:lnTo>
                <a:lnTo>
                  <a:pt x="1469" y="124"/>
                </a:lnTo>
                <a:lnTo>
                  <a:pt x="1476" y="124"/>
                </a:lnTo>
                <a:lnTo>
                  <a:pt x="1483" y="124"/>
                </a:lnTo>
                <a:lnTo>
                  <a:pt x="1483" y="124"/>
                </a:lnTo>
                <a:lnTo>
                  <a:pt x="1490" y="117"/>
                </a:lnTo>
                <a:close/>
              </a:path>
            </a:pathLst>
          </a:custGeom>
          <a:solidFill>
            <a:srgbClr val="9fde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0" name=""/>
          <p:cNvSpPr/>
          <p:nvPr/>
        </p:nvSpPr>
        <p:spPr>
          <a:xfrm>
            <a:off x="2131920" y="2727360"/>
            <a:ext cx="4543560" cy="2921040"/>
          </a:xfrm>
          <a:custGeom>
            <a:avLst/>
            <a:gdLst/>
            <a:ahLst/>
            <a:rect l="l" t="t" r="r" b="b"/>
            <a:pathLst>
              <a:path w="2862" h="1840">
                <a:moveTo>
                  <a:pt x="2483" y="1840"/>
                </a:moveTo>
                <a:lnTo>
                  <a:pt x="2510" y="1812"/>
                </a:lnTo>
                <a:lnTo>
                  <a:pt x="2538" y="1812"/>
                </a:lnTo>
                <a:lnTo>
                  <a:pt x="2565" y="1812"/>
                </a:lnTo>
                <a:lnTo>
                  <a:pt x="2600" y="1812"/>
                </a:lnTo>
                <a:lnTo>
                  <a:pt x="2627" y="1812"/>
                </a:lnTo>
                <a:lnTo>
                  <a:pt x="2655" y="1812"/>
                </a:lnTo>
                <a:lnTo>
                  <a:pt x="2689" y="1812"/>
                </a:lnTo>
                <a:lnTo>
                  <a:pt x="2717" y="1778"/>
                </a:lnTo>
                <a:lnTo>
                  <a:pt x="2717" y="1750"/>
                </a:lnTo>
                <a:lnTo>
                  <a:pt x="2717" y="1722"/>
                </a:lnTo>
                <a:lnTo>
                  <a:pt x="2717" y="1688"/>
                </a:lnTo>
                <a:lnTo>
                  <a:pt x="2745" y="1660"/>
                </a:lnTo>
                <a:lnTo>
                  <a:pt x="2745" y="1633"/>
                </a:lnTo>
                <a:lnTo>
                  <a:pt x="2745" y="1599"/>
                </a:lnTo>
                <a:lnTo>
                  <a:pt x="2745" y="1571"/>
                </a:lnTo>
                <a:lnTo>
                  <a:pt x="2772" y="1543"/>
                </a:lnTo>
                <a:lnTo>
                  <a:pt x="2772" y="1516"/>
                </a:lnTo>
                <a:lnTo>
                  <a:pt x="2772" y="1481"/>
                </a:lnTo>
                <a:lnTo>
                  <a:pt x="2772" y="1454"/>
                </a:lnTo>
                <a:lnTo>
                  <a:pt x="2807" y="1426"/>
                </a:lnTo>
                <a:lnTo>
                  <a:pt x="2807" y="1392"/>
                </a:lnTo>
                <a:lnTo>
                  <a:pt x="2807" y="1364"/>
                </a:lnTo>
                <a:lnTo>
                  <a:pt x="2807" y="1337"/>
                </a:lnTo>
                <a:lnTo>
                  <a:pt x="2834" y="1302"/>
                </a:lnTo>
                <a:lnTo>
                  <a:pt x="2834" y="1275"/>
                </a:lnTo>
                <a:lnTo>
                  <a:pt x="2834" y="1247"/>
                </a:lnTo>
                <a:lnTo>
                  <a:pt x="2834" y="1213"/>
                </a:lnTo>
                <a:lnTo>
                  <a:pt x="2862" y="1185"/>
                </a:lnTo>
                <a:lnTo>
                  <a:pt x="2862" y="1158"/>
                </a:lnTo>
                <a:lnTo>
                  <a:pt x="2862" y="1130"/>
                </a:lnTo>
                <a:lnTo>
                  <a:pt x="2862" y="1096"/>
                </a:lnTo>
                <a:lnTo>
                  <a:pt x="2862" y="1068"/>
                </a:lnTo>
                <a:lnTo>
                  <a:pt x="2862" y="1041"/>
                </a:lnTo>
                <a:lnTo>
                  <a:pt x="2862" y="1006"/>
                </a:lnTo>
                <a:lnTo>
                  <a:pt x="2862" y="979"/>
                </a:lnTo>
                <a:lnTo>
                  <a:pt x="2862" y="951"/>
                </a:lnTo>
                <a:lnTo>
                  <a:pt x="2862" y="917"/>
                </a:lnTo>
                <a:lnTo>
                  <a:pt x="2862" y="889"/>
                </a:lnTo>
                <a:lnTo>
                  <a:pt x="2862" y="861"/>
                </a:lnTo>
                <a:lnTo>
                  <a:pt x="2862" y="827"/>
                </a:lnTo>
                <a:lnTo>
                  <a:pt x="2862" y="799"/>
                </a:lnTo>
                <a:lnTo>
                  <a:pt x="2862" y="772"/>
                </a:lnTo>
                <a:lnTo>
                  <a:pt x="2862" y="744"/>
                </a:lnTo>
                <a:lnTo>
                  <a:pt x="2862" y="710"/>
                </a:lnTo>
                <a:lnTo>
                  <a:pt x="2862" y="682"/>
                </a:lnTo>
                <a:lnTo>
                  <a:pt x="2862" y="655"/>
                </a:lnTo>
                <a:lnTo>
                  <a:pt x="2862" y="620"/>
                </a:lnTo>
                <a:lnTo>
                  <a:pt x="2862" y="593"/>
                </a:lnTo>
                <a:lnTo>
                  <a:pt x="2862" y="565"/>
                </a:lnTo>
                <a:lnTo>
                  <a:pt x="2862" y="531"/>
                </a:lnTo>
                <a:lnTo>
                  <a:pt x="2862" y="503"/>
                </a:lnTo>
                <a:lnTo>
                  <a:pt x="2862" y="476"/>
                </a:lnTo>
                <a:lnTo>
                  <a:pt x="2862" y="448"/>
                </a:lnTo>
                <a:lnTo>
                  <a:pt x="2862" y="414"/>
                </a:lnTo>
                <a:lnTo>
                  <a:pt x="2862" y="386"/>
                </a:lnTo>
                <a:lnTo>
                  <a:pt x="2862" y="359"/>
                </a:lnTo>
                <a:lnTo>
                  <a:pt x="2862" y="324"/>
                </a:lnTo>
                <a:lnTo>
                  <a:pt x="2862" y="297"/>
                </a:lnTo>
                <a:lnTo>
                  <a:pt x="2862" y="269"/>
                </a:lnTo>
                <a:lnTo>
                  <a:pt x="2834" y="235"/>
                </a:lnTo>
                <a:lnTo>
                  <a:pt x="2834" y="207"/>
                </a:lnTo>
                <a:lnTo>
                  <a:pt x="2834" y="179"/>
                </a:lnTo>
                <a:lnTo>
                  <a:pt x="2834" y="145"/>
                </a:lnTo>
                <a:lnTo>
                  <a:pt x="2834" y="117"/>
                </a:lnTo>
                <a:lnTo>
                  <a:pt x="2807" y="90"/>
                </a:lnTo>
                <a:lnTo>
                  <a:pt x="2772" y="90"/>
                </a:lnTo>
                <a:lnTo>
                  <a:pt x="2745" y="90"/>
                </a:lnTo>
                <a:lnTo>
                  <a:pt x="2717" y="62"/>
                </a:lnTo>
                <a:lnTo>
                  <a:pt x="2689" y="62"/>
                </a:lnTo>
                <a:lnTo>
                  <a:pt x="2655" y="62"/>
                </a:lnTo>
                <a:lnTo>
                  <a:pt x="2627" y="28"/>
                </a:lnTo>
                <a:lnTo>
                  <a:pt x="2600" y="28"/>
                </a:lnTo>
                <a:lnTo>
                  <a:pt x="2565" y="28"/>
                </a:lnTo>
                <a:lnTo>
                  <a:pt x="2538" y="0"/>
                </a:lnTo>
                <a:lnTo>
                  <a:pt x="2510" y="0"/>
                </a:lnTo>
                <a:lnTo>
                  <a:pt x="2483" y="0"/>
                </a:lnTo>
                <a:lnTo>
                  <a:pt x="2448" y="0"/>
                </a:lnTo>
                <a:lnTo>
                  <a:pt x="2420" y="0"/>
                </a:lnTo>
                <a:lnTo>
                  <a:pt x="2393" y="0"/>
                </a:lnTo>
                <a:lnTo>
                  <a:pt x="2365" y="0"/>
                </a:lnTo>
                <a:lnTo>
                  <a:pt x="2331" y="0"/>
                </a:lnTo>
                <a:lnTo>
                  <a:pt x="2303" y="0"/>
                </a:lnTo>
                <a:lnTo>
                  <a:pt x="2276" y="0"/>
                </a:lnTo>
                <a:lnTo>
                  <a:pt x="2241" y="0"/>
                </a:lnTo>
                <a:lnTo>
                  <a:pt x="2214" y="0"/>
                </a:lnTo>
                <a:lnTo>
                  <a:pt x="2186" y="0"/>
                </a:lnTo>
                <a:lnTo>
                  <a:pt x="2158" y="0"/>
                </a:lnTo>
                <a:lnTo>
                  <a:pt x="2124" y="0"/>
                </a:lnTo>
                <a:lnTo>
                  <a:pt x="2096" y="0"/>
                </a:lnTo>
                <a:lnTo>
                  <a:pt x="2069" y="0"/>
                </a:lnTo>
                <a:lnTo>
                  <a:pt x="2034" y="0"/>
                </a:lnTo>
                <a:lnTo>
                  <a:pt x="2007" y="0"/>
                </a:lnTo>
                <a:lnTo>
                  <a:pt x="1979" y="0"/>
                </a:lnTo>
                <a:lnTo>
                  <a:pt x="1952" y="0"/>
                </a:lnTo>
                <a:lnTo>
                  <a:pt x="1938" y="0"/>
                </a:lnTo>
                <a:lnTo>
                  <a:pt x="1945" y="0"/>
                </a:lnTo>
                <a:lnTo>
                  <a:pt x="1952" y="7"/>
                </a:lnTo>
                <a:lnTo>
                  <a:pt x="1965" y="7"/>
                </a:lnTo>
                <a:lnTo>
                  <a:pt x="1972" y="7"/>
                </a:lnTo>
                <a:lnTo>
                  <a:pt x="1979" y="7"/>
                </a:lnTo>
                <a:lnTo>
                  <a:pt x="1993" y="7"/>
                </a:lnTo>
                <a:lnTo>
                  <a:pt x="2000" y="14"/>
                </a:lnTo>
                <a:lnTo>
                  <a:pt x="2007" y="14"/>
                </a:lnTo>
                <a:lnTo>
                  <a:pt x="2014" y="21"/>
                </a:lnTo>
                <a:lnTo>
                  <a:pt x="2027" y="21"/>
                </a:lnTo>
                <a:lnTo>
                  <a:pt x="2034" y="28"/>
                </a:lnTo>
                <a:lnTo>
                  <a:pt x="2041" y="28"/>
                </a:lnTo>
                <a:lnTo>
                  <a:pt x="2048" y="28"/>
                </a:lnTo>
                <a:lnTo>
                  <a:pt x="2055" y="35"/>
                </a:lnTo>
                <a:lnTo>
                  <a:pt x="2069" y="35"/>
                </a:lnTo>
                <a:lnTo>
                  <a:pt x="2076" y="42"/>
                </a:lnTo>
                <a:lnTo>
                  <a:pt x="2083" y="42"/>
                </a:lnTo>
                <a:lnTo>
                  <a:pt x="2096" y="42"/>
                </a:lnTo>
                <a:lnTo>
                  <a:pt x="2103" y="49"/>
                </a:lnTo>
                <a:lnTo>
                  <a:pt x="2110" y="49"/>
                </a:lnTo>
                <a:lnTo>
                  <a:pt x="2124" y="49"/>
                </a:lnTo>
                <a:lnTo>
                  <a:pt x="2131" y="55"/>
                </a:lnTo>
                <a:lnTo>
                  <a:pt x="2138" y="55"/>
                </a:lnTo>
                <a:lnTo>
                  <a:pt x="2145" y="55"/>
                </a:lnTo>
                <a:lnTo>
                  <a:pt x="2158" y="62"/>
                </a:lnTo>
                <a:lnTo>
                  <a:pt x="2165" y="62"/>
                </a:lnTo>
                <a:lnTo>
                  <a:pt x="2172" y="62"/>
                </a:lnTo>
                <a:lnTo>
                  <a:pt x="2186" y="69"/>
                </a:lnTo>
                <a:lnTo>
                  <a:pt x="2193" y="69"/>
                </a:lnTo>
                <a:lnTo>
                  <a:pt x="2200" y="69"/>
                </a:lnTo>
                <a:lnTo>
                  <a:pt x="2207" y="76"/>
                </a:lnTo>
                <a:lnTo>
                  <a:pt x="2221" y="76"/>
                </a:lnTo>
                <a:lnTo>
                  <a:pt x="2227" y="76"/>
                </a:lnTo>
                <a:lnTo>
                  <a:pt x="2234" y="83"/>
                </a:lnTo>
                <a:lnTo>
                  <a:pt x="2248" y="83"/>
                </a:lnTo>
                <a:lnTo>
                  <a:pt x="2255" y="90"/>
                </a:lnTo>
                <a:lnTo>
                  <a:pt x="2262" y="90"/>
                </a:lnTo>
                <a:lnTo>
                  <a:pt x="2269" y="90"/>
                </a:lnTo>
                <a:lnTo>
                  <a:pt x="2283" y="97"/>
                </a:lnTo>
                <a:lnTo>
                  <a:pt x="2289" y="97"/>
                </a:lnTo>
                <a:lnTo>
                  <a:pt x="2296" y="97"/>
                </a:lnTo>
                <a:lnTo>
                  <a:pt x="2310" y="104"/>
                </a:lnTo>
                <a:lnTo>
                  <a:pt x="2317" y="104"/>
                </a:lnTo>
                <a:lnTo>
                  <a:pt x="2324" y="104"/>
                </a:lnTo>
                <a:lnTo>
                  <a:pt x="2338" y="111"/>
                </a:lnTo>
                <a:lnTo>
                  <a:pt x="2345" y="111"/>
                </a:lnTo>
                <a:lnTo>
                  <a:pt x="2352" y="111"/>
                </a:lnTo>
                <a:lnTo>
                  <a:pt x="2358" y="117"/>
                </a:lnTo>
                <a:lnTo>
                  <a:pt x="2372" y="117"/>
                </a:lnTo>
                <a:lnTo>
                  <a:pt x="2379" y="124"/>
                </a:lnTo>
                <a:lnTo>
                  <a:pt x="2386" y="124"/>
                </a:lnTo>
                <a:lnTo>
                  <a:pt x="2393" y="124"/>
                </a:lnTo>
                <a:lnTo>
                  <a:pt x="2407" y="131"/>
                </a:lnTo>
                <a:lnTo>
                  <a:pt x="2414" y="131"/>
                </a:lnTo>
                <a:lnTo>
                  <a:pt x="2420" y="131"/>
                </a:lnTo>
                <a:lnTo>
                  <a:pt x="2434" y="138"/>
                </a:lnTo>
                <a:lnTo>
                  <a:pt x="2441" y="138"/>
                </a:lnTo>
                <a:lnTo>
                  <a:pt x="2448" y="145"/>
                </a:lnTo>
                <a:lnTo>
                  <a:pt x="2455" y="145"/>
                </a:lnTo>
                <a:lnTo>
                  <a:pt x="2462" y="152"/>
                </a:lnTo>
                <a:lnTo>
                  <a:pt x="2462" y="159"/>
                </a:lnTo>
                <a:lnTo>
                  <a:pt x="2469" y="166"/>
                </a:lnTo>
                <a:lnTo>
                  <a:pt x="2476" y="166"/>
                </a:lnTo>
                <a:lnTo>
                  <a:pt x="2483" y="173"/>
                </a:lnTo>
                <a:lnTo>
                  <a:pt x="2496" y="173"/>
                </a:lnTo>
                <a:lnTo>
                  <a:pt x="2503" y="179"/>
                </a:lnTo>
                <a:lnTo>
                  <a:pt x="2503" y="186"/>
                </a:lnTo>
                <a:lnTo>
                  <a:pt x="2510" y="186"/>
                </a:lnTo>
                <a:lnTo>
                  <a:pt x="2517" y="193"/>
                </a:lnTo>
                <a:lnTo>
                  <a:pt x="2524" y="200"/>
                </a:lnTo>
                <a:lnTo>
                  <a:pt x="2531" y="200"/>
                </a:lnTo>
                <a:lnTo>
                  <a:pt x="2538" y="207"/>
                </a:lnTo>
                <a:lnTo>
                  <a:pt x="2545" y="207"/>
                </a:lnTo>
                <a:lnTo>
                  <a:pt x="2551" y="214"/>
                </a:lnTo>
                <a:lnTo>
                  <a:pt x="2558" y="221"/>
                </a:lnTo>
                <a:lnTo>
                  <a:pt x="2558" y="228"/>
                </a:lnTo>
                <a:lnTo>
                  <a:pt x="2565" y="235"/>
                </a:lnTo>
                <a:lnTo>
                  <a:pt x="2572" y="235"/>
                </a:lnTo>
                <a:lnTo>
                  <a:pt x="2579" y="235"/>
                </a:lnTo>
                <a:lnTo>
                  <a:pt x="2586" y="241"/>
                </a:lnTo>
                <a:lnTo>
                  <a:pt x="2600" y="241"/>
                </a:lnTo>
                <a:lnTo>
                  <a:pt x="2600" y="248"/>
                </a:lnTo>
                <a:lnTo>
                  <a:pt x="2607" y="255"/>
                </a:lnTo>
                <a:lnTo>
                  <a:pt x="2614" y="262"/>
                </a:lnTo>
                <a:lnTo>
                  <a:pt x="2620" y="262"/>
                </a:lnTo>
                <a:lnTo>
                  <a:pt x="2620" y="269"/>
                </a:lnTo>
                <a:lnTo>
                  <a:pt x="2627" y="276"/>
                </a:lnTo>
                <a:lnTo>
                  <a:pt x="2634" y="276"/>
                </a:lnTo>
                <a:lnTo>
                  <a:pt x="2641" y="283"/>
                </a:lnTo>
                <a:lnTo>
                  <a:pt x="2648" y="283"/>
                </a:lnTo>
                <a:lnTo>
                  <a:pt x="2662" y="290"/>
                </a:lnTo>
                <a:lnTo>
                  <a:pt x="2669" y="297"/>
                </a:lnTo>
                <a:lnTo>
                  <a:pt x="2662" y="297"/>
                </a:lnTo>
                <a:lnTo>
                  <a:pt x="2648" y="297"/>
                </a:lnTo>
                <a:lnTo>
                  <a:pt x="2641" y="303"/>
                </a:lnTo>
                <a:lnTo>
                  <a:pt x="2627" y="303"/>
                </a:lnTo>
                <a:lnTo>
                  <a:pt x="2620" y="303"/>
                </a:lnTo>
                <a:lnTo>
                  <a:pt x="2614" y="303"/>
                </a:lnTo>
                <a:lnTo>
                  <a:pt x="2600" y="303"/>
                </a:lnTo>
                <a:lnTo>
                  <a:pt x="2593" y="303"/>
                </a:lnTo>
                <a:lnTo>
                  <a:pt x="2579" y="303"/>
                </a:lnTo>
                <a:lnTo>
                  <a:pt x="2572" y="303"/>
                </a:lnTo>
                <a:lnTo>
                  <a:pt x="2565" y="297"/>
                </a:lnTo>
                <a:lnTo>
                  <a:pt x="2551" y="297"/>
                </a:lnTo>
                <a:lnTo>
                  <a:pt x="2545" y="297"/>
                </a:lnTo>
                <a:lnTo>
                  <a:pt x="2538" y="297"/>
                </a:lnTo>
                <a:lnTo>
                  <a:pt x="2524" y="297"/>
                </a:lnTo>
                <a:lnTo>
                  <a:pt x="2517" y="297"/>
                </a:lnTo>
                <a:lnTo>
                  <a:pt x="2510" y="290"/>
                </a:lnTo>
                <a:lnTo>
                  <a:pt x="2496" y="290"/>
                </a:lnTo>
                <a:lnTo>
                  <a:pt x="2489" y="283"/>
                </a:lnTo>
                <a:lnTo>
                  <a:pt x="2483" y="283"/>
                </a:lnTo>
                <a:lnTo>
                  <a:pt x="2476" y="276"/>
                </a:lnTo>
                <a:lnTo>
                  <a:pt x="2469" y="276"/>
                </a:lnTo>
                <a:lnTo>
                  <a:pt x="2455" y="276"/>
                </a:lnTo>
                <a:lnTo>
                  <a:pt x="2448" y="283"/>
                </a:lnTo>
                <a:lnTo>
                  <a:pt x="2434" y="283"/>
                </a:lnTo>
                <a:lnTo>
                  <a:pt x="2427" y="290"/>
                </a:lnTo>
                <a:lnTo>
                  <a:pt x="2420" y="290"/>
                </a:lnTo>
                <a:lnTo>
                  <a:pt x="2420" y="297"/>
                </a:lnTo>
                <a:lnTo>
                  <a:pt x="2414" y="303"/>
                </a:lnTo>
                <a:lnTo>
                  <a:pt x="2420" y="310"/>
                </a:lnTo>
                <a:lnTo>
                  <a:pt x="2427" y="317"/>
                </a:lnTo>
                <a:lnTo>
                  <a:pt x="2434" y="317"/>
                </a:lnTo>
                <a:lnTo>
                  <a:pt x="2441" y="324"/>
                </a:lnTo>
                <a:lnTo>
                  <a:pt x="2448" y="324"/>
                </a:lnTo>
                <a:lnTo>
                  <a:pt x="2448" y="331"/>
                </a:lnTo>
                <a:lnTo>
                  <a:pt x="2448" y="338"/>
                </a:lnTo>
                <a:lnTo>
                  <a:pt x="2448" y="345"/>
                </a:lnTo>
                <a:lnTo>
                  <a:pt x="2448" y="352"/>
                </a:lnTo>
                <a:lnTo>
                  <a:pt x="2448" y="359"/>
                </a:lnTo>
                <a:lnTo>
                  <a:pt x="2441" y="359"/>
                </a:lnTo>
                <a:lnTo>
                  <a:pt x="2434" y="365"/>
                </a:lnTo>
                <a:lnTo>
                  <a:pt x="2427" y="372"/>
                </a:lnTo>
                <a:lnTo>
                  <a:pt x="2420" y="379"/>
                </a:lnTo>
                <a:lnTo>
                  <a:pt x="2414" y="379"/>
                </a:lnTo>
                <a:lnTo>
                  <a:pt x="2407" y="386"/>
                </a:lnTo>
                <a:lnTo>
                  <a:pt x="2400" y="393"/>
                </a:lnTo>
                <a:lnTo>
                  <a:pt x="2393" y="393"/>
                </a:lnTo>
                <a:lnTo>
                  <a:pt x="2386" y="400"/>
                </a:lnTo>
                <a:lnTo>
                  <a:pt x="2379" y="400"/>
                </a:lnTo>
                <a:lnTo>
                  <a:pt x="2372" y="407"/>
                </a:lnTo>
                <a:lnTo>
                  <a:pt x="2365" y="407"/>
                </a:lnTo>
                <a:lnTo>
                  <a:pt x="2358" y="414"/>
                </a:lnTo>
                <a:lnTo>
                  <a:pt x="2352" y="421"/>
                </a:lnTo>
                <a:lnTo>
                  <a:pt x="2345" y="421"/>
                </a:lnTo>
                <a:lnTo>
                  <a:pt x="2338" y="427"/>
                </a:lnTo>
                <a:lnTo>
                  <a:pt x="2324" y="427"/>
                </a:lnTo>
                <a:lnTo>
                  <a:pt x="2317" y="434"/>
                </a:lnTo>
                <a:lnTo>
                  <a:pt x="2310" y="434"/>
                </a:lnTo>
                <a:lnTo>
                  <a:pt x="2296" y="434"/>
                </a:lnTo>
                <a:lnTo>
                  <a:pt x="2289" y="427"/>
                </a:lnTo>
                <a:lnTo>
                  <a:pt x="2283" y="421"/>
                </a:lnTo>
                <a:lnTo>
                  <a:pt x="2276" y="421"/>
                </a:lnTo>
                <a:lnTo>
                  <a:pt x="2269" y="421"/>
                </a:lnTo>
                <a:lnTo>
                  <a:pt x="2255" y="421"/>
                </a:lnTo>
                <a:lnTo>
                  <a:pt x="2248" y="421"/>
                </a:lnTo>
                <a:lnTo>
                  <a:pt x="2234" y="427"/>
                </a:lnTo>
                <a:lnTo>
                  <a:pt x="2227" y="434"/>
                </a:lnTo>
                <a:lnTo>
                  <a:pt x="2221" y="434"/>
                </a:lnTo>
                <a:lnTo>
                  <a:pt x="2214" y="434"/>
                </a:lnTo>
                <a:lnTo>
                  <a:pt x="2207" y="434"/>
                </a:lnTo>
                <a:lnTo>
                  <a:pt x="2193" y="434"/>
                </a:lnTo>
                <a:lnTo>
                  <a:pt x="2186" y="434"/>
                </a:lnTo>
                <a:lnTo>
                  <a:pt x="2179" y="441"/>
                </a:lnTo>
                <a:lnTo>
                  <a:pt x="2172" y="441"/>
                </a:lnTo>
                <a:lnTo>
                  <a:pt x="2158" y="448"/>
                </a:lnTo>
                <a:lnTo>
                  <a:pt x="2152" y="448"/>
                </a:lnTo>
                <a:lnTo>
                  <a:pt x="2145" y="441"/>
                </a:lnTo>
                <a:lnTo>
                  <a:pt x="2131" y="441"/>
                </a:lnTo>
                <a:lnTo>
                  <a:pt x="2124" y="434"/>
                </a:lnTo>
                <a:lnTo>
                  <a:pt x="2117" y="434"/>
                </a:lnTo>
                <a:lnTo>
                  <a:pt x="2110" y="434"/>
                </a:lnTo>
                <a:lnTo>
                  <a:pt x="2096" y="441"/>
                </a:lnTo>
                <a:lnTo>
                  <a:pt x="2090" y="441"/>
                </a:lnTo>
                <a:lnTo>
                  <a:pt x="2076" y="441"/>
                </a:lnTo>
                <a:lnTo>
                  <a:pt x="2069" y="441"/>
                </a:lnTo>
                <a:lnTo>
                  <a:pt x="2062" y="441"/>
                </a:lnTo>
                <a:lnTo>
                  <a:pt x="2048" y="441"/>
                </a:lnTo>
                <a:lnTo>
                  <a:pt x="2041" y="441"/>
                </a:lnTo>
                <a:lnTo>
                  <a:pt x="2027" y="441"/>
                </a:lnTo>
                <a:lnTo>
                  <a:pt x="2021" y="441"/>
                </a:lnTo>
                <a:lnTo>
                  <a:pt x="2014" y="441"/>
                </a:lnTo>
                <a:lnTo>
                  <a:pt x="2000" y="448"/>
                </a:lnTo>
                <a:lnTo>
                  <a:pt x="1993" y="448"/>
                </a:lnTo>
                <a:lnTo>
                  <a:pt x="1986" y="455"/>
                </a:lnTo>
                <a:lnTo>
                  <a:pt x="1979" y="462"/>
                </a:lnTo>
                <a:lnTo>
                  <a:pt x="1972" y="462"/>
                </a:lnTo>
                <a:lnTo>
                  <a:pt x="1965" y="469"/>
                </a:lnTo>
                <a:lnTo>
                  <a:pt x="1959" y="469"/>
                </a:lnTo>
                <a:lnTo>
                  <a:pt x="1952" y="476"/>
                </a:lnTo>
                <a:lnTo>
                  <a:pt x="1945" y="483"/>
                </a:lnTo>
                <a:lnTo>
                  <a:pt x="1945" y="489"/>
                </a:lnTo>
                <a:lnTo>
                  <a:pt x="1938" y="496"/>
                </a:lnTo>
                <a:lnTo>
                  <a:pt x="1938" y="496"/>
                </a:lnTo>
                <a:lnTo>
                  <a:pt x="1938" y="503"/>
                </a:lnTo>
                <a:lnTo>
                  <a:pt x="1945" y="510"/>
                </a:lnTo>
                <a:lnTo>
                  <a:pt x="1945" y="517"/>
                </a:lnTo>
                <a:lnTo>
                  <a:pt x="1952" y="524"/>
                </a:lnTo>
                <a:lnTo>
                  <a:pt x="1959" y="524"/>
                </a:lnTo>
                <a:lnTo>
                  <a:pt x="1965" y="531"/>
                </a:lnTo>
                <a:lnTo>
                  <a:pt x="1965" y="538"/>
                </a:lnTo>
                <a:lnTo>
                  <a:pt x="1965" y="545"/>
                </a:lnTo>
                <a:lnTo>
                  <a:pt x="1965" y="551"/>
                </a:lnTo>
                <a:lnTo>
                  <a:pt x="1959" y="558"/>
                </a:lnTo>
                <a:lnTo>
                  <a:pt x="1959" y="565"/>
                </a:lnTo>
                <a:lnTo>
                  <a:pt x="1952" y="572"/>
                </a:lnTo>
                <a:lnTo>
                  <a:pt x="1952" y="572"/>
                </a:lnTo>
                <a:lnTo>
                  <a:pt x="1952" y="579"/>
                </a:lnTo>
                <a:lnTo>
                  <a:pt x="1952" y="586"/>
                </a:lnTo>
                <a:lnTo>
                  <a:pt x="1945" y="593"/>
                </a:lnTo>
                <a:lnTo>
                  <a:pt x="1945" y="600"/>
                </a:lnTo>
                <a:lnTo>
                  <a:pt x="1945" y="607"/>
                </a:lnTo>
                <a:lnTo>
                  <a:pt x="1938" y="613"/>
                </a:lnTo>
                <a:lnTo>
                  <a:pt x="1938" y="620"/>
                </a:lnTo>
                <a:lnTo>
                  <a:pt x="1938" y="627"/>
                </a:lnTo>
                <a:lnTo>
                  <a:pt x="1931" y="627"/>
                </a:lnTo>
                <a:lnTo>
                  <a:pt x="1931" y="634"/>
                </a:lnTo>
                <a:lnTo>
                  <a:pt x="1924" y="641"/>
                </a:lnTo>
                <a:lnTo>
                  <a:pt x="1917" y="648"/>
                </a:lnTo>
                <a:lnTo>
                  <a:pt x="1910" y="648"/>
                </a:lnTo>
                <a:lnTo>
                  <a:pt x="1903" y="655"/>
                </a:lnTo>
                <a:lnTo>
                  <a:pt x="1896" y="662"/>
                </a:lnTo>
                <a:lnTo>
                  <a:pt x="1890" y="662"/>
                </a:lnTo>
                <a:lnTo>
                  <a:pt x="1883" y="669"/>
                </a:lnTo>
                <a:lnTo>
                  <a:pt x="1869" y="669"/>
                </a:lnTo>
                <a:lnTo>
                  <a:pt x="1862" y="669"/>
                </a:lnTo>
                <a:lnTo>
                  <a:pt x="1855" y="669"/>
                </a:lnTo>
                <a:lnTo>
                  <a:pt x="1841" y="669"/>
                </a:lnTo>
                <a:lnTo>
                  <a:pt x="1834" y="669"/>
                </a:lnTo>
                <a:lnTo>
                  <a:pt x="1821" y="669"/>
                </a:lnTo>
                <a:lnTo>
                  <a:pt x="1814" y="662"/>
                </a:lnTo>
                <a:lnTo>
                  <a:pt x="1807" y="662"/>
                </a:lnTo>
                <a:lnTo>
                  <a:pt x="1800" y="655"/>
                </a:lnTo>
                <a:lnTo>
                  <a:pt x="1793" y="655"/>
                </a:lnTo>
                <a:lnTo>
                  <a:pt x="1786" y="648"/>
                </a:lnTo>
                <a:lnTo>
                  <a:pt x="1779" y="641"/>
                </a:lnTo>
                <a:lnTo>
                  <a:pt x="1779" y="634"/>
                </a:lnTo>
                <a:lnTo>
                  <a:pt x="1779" y="627"/>
                </a:lnTo>
                <a:lnTo>
                  <a:pt x="1772" y="620"/>
                </a:lnTo>
                <a:lnTo>
                  <a:pt x="1772" y="620"/>
                </a:lnTo>
                <a:lnTo>
                  <a:pt x="1772" y="613"/>
                </a:lnTo>
                <a:lnTo>
                  <a:pt x="1772" y="607"/>
                </a:lnTo>
                <a:lnTo>
                  <a:pt x="1772" y="600"/>
                </a:lnTo>
                <a:lnTo>
                  <a:pt x="1772" y="593"/>
                </a:lnTo>
                <a:lnTo>
                  <a:pt x="1765" y="586"/>
                </a:lnTo>
                <a:lnTo>
                  <a:pt x="1759" y="579"/>
                </a:lnTo>
                <a:lnTo>
                  <a:pt x="1752" y="579"/>
                </a:lnTo>
                <a:lnTo>
                  <a:pt x="1745" y="572"/>
                </a:lnTo>
                <a:lnTo>
                  <a:pt x="1738" y="572"/>
                </a:lnTo>
                <a:lnTo>
                  <a:pt x="1724" y="565"/>
                </a:lnTo>
                <a:lnTo>
                  <a:pt x="1717" y="565"/>
                </a:lnTo>
                <a:lnTo>
                  <a:pt x="1717" y="558"/>
                </a:lnTo>
                <a:lnTo>
                  <a:pt x="1710" y="551"/>
                </a:lnTo>
                <a:lnTo>
                  <a:pt x="1710" y="545"/>
                </a:lnTo>
                <a:lnTo>
                  <a:pt x="1710" y="538"/>
                </a:lnTo>
                <a:lnTo>
                  <a:pt x="1710" y="531"/>
                </a:lnTo>
                <a:lnTo>
                  <a:pt x="1710" y="524"/>
                </a:lnTo>
                <a:lnTo>
                  <a:pt x="1717" y="524"/>
                </a:lnTo>
                <a:lnTo>
                  <a:pt x="1717" y="517"/>
                </a:lnTo>
                <a:lnTo>
                  <a:pt x="1724" y="510"/>
                </a:lnTo>
                <a:lnTo>
                  <a:pt x="1724" y="503"/>
                </a:lnTo>
                <a:lnTo>
                  <a:pt x="1731" y="496"/>
                </a:lnTo>
                <a:lnTo>
                  <a:pt x="1731" y="489"/>
                </a:lnTo>
                <a:lnTo>
                  <a:pt x="1738" y="489"/>
                </a:lnTo>
                <a:lnTo>
                  <a:pt x="1738" y="483"/>
                </a:lnTo>
                <a:lnTo>
                  <a:pt x="1745" y="476"/>
                </a:lnTo>
                <a:lnTo>
                  <a:pt x="1745" y="469"/>
                </a:lnTo>
                <a:lnTo>
                  <a:pt x="1752" y="462"/>
                </a:lnTo>
                <a:lnTo>
                  <a:pt x="1752" y="455"/>
                </a:lnTo>
                <a:lnTo>
                  <a:pt x="1752" y="448"/>
                </a:lnTo>
                <a:lnTo>
                  <a:pt x="1752" y="441"/>
                </a:lnTo>
                <a:lnTo>
                  <a:pt x="1738" y="441"/>
                </a:lnTo>
                <a:lnTo>
                  <a:pt x="1731" y="448"/>
                </a:lnTo>
                <a:lnTo>
                  <a:pt x="1724" y="448"/>
                </a:lnTo>
                <a:lnTo>
                  <a:pt x="1724" y="455"/>
                </a:lnTo>
                <a:lnTo>
                  <a:pt x="1717" y="462"/>
                </a:lnTo>
                <a:lnTo>
                  <a:pt x="1710" y="469"/>
                </a:lnTo>
                <a:lnTo>
                  <a:pt x="1703" y="469"/>
                </a:lnTo>
                <a:lnTo>
                  <a:pt x="1697" y="469"/>
                </a:lnTo>
                <a:lnTo>
                  <a:pt x="1683" y="469"/>
                </a:lnTo>
                <a:lnTo>
                  <a:pt x="1676" y="476"/>
                </a:lnTo>
                <a:lnTo>
                  <a:pt x="1669" y="476"/>
                </a:lnTo>
                <a:lnTo>
                  <a:pt x="1669" y="483"/>
                </a:lnTo>
                <a:lnTo>
                  <a:pt x="1662" y="489"/>
                </a:lnTo>
                <a:lnTo>
                  <a:pt x="1655" y="489"/>
                </a:lnTo>
                <a:lnTo>
                  <a:pt x="1641" y="496"/>
                </a:lnTo>
                <a:lnTo>
                  <a:pt x="1634" y="503"/>
                </a:lnTo>
                <a:lnTo>
                  <a:pt x="1628" y="503"/>
                </a:lnTo>
                <a:lnTo>
                  <a:pt x="1621" y="510"/>
                </a:lnTo>
                <a:lnTo>
                  <a:pt x="1614" y="510"/>
                </a:lnTo>
                <a:lnTo>
                  <a:pt x="1607" y="517"/>
                </a:lnTo>
                <a:lnTo>
                  <a:pt x="1600" y="524"/>
                </a:lnTo>
                <a:lnTo>
                  <a:pt x="1593" y="524"/>
                </a:lnTo>
                <a:lnTo>
                  <a:pt x="1586" y="531"/>
                </a:lnTo>
                <a:lnTo>
                  <a:pt x="1579" y="538"/>
                </a:lnTo>
                <a:lnTo>
                  <a:pt x="1572" y="538"/>
                </a:lnTo>
                <a:lnTo>
                  <a:pt x="1572" y="545"/>
                </a:lnTo>
                <a:lnTo>
                  <a:pt x="1566" y="551"/>
                </a:lnTo>
                <a:lnTo>
                  <a:pt x="1559" y="551"/>
                </a:lnTo>
                <a:lnTo>
                  <a:pt x="1552" y="558"/>
                </a:lnTo>
                <a:lnTo>
                  <a:pt x="1545" y="565"/>
                </a:lnTo>
                <a:lnTo>
                  <a:pt x="1545" y="572"/>
                </a:lnTo>
                <a:lnTo>
                  <a:pt x="1545" y="579"/>
                </a:lnTo>
                <a:lnTo>
                  <a:pt x="1545" y="586"/>
                </a:lnTo>
                <a:lnTo>
                  <a:pt x="1538" y="593"/>
                </a:lnTo>
                <a:lnTo>
                  <a:pt x="1538" y="593"/>
                </a:lnTo>
                <a:lnTo>
                  <a:pt x="1531" y="600"/>
                </a:lnTo>
                <a:lnTo>
                  <a:pt x="1517" y="600"/>
                </a:lnTo>
                <a:lnTo>
                  <a:pt x="1510" y="593"/>
                </a:lnTo>
                <a:lnTo>
                  <a:pt x="1497" y="600"/>
                </a:lnTo>
                <a:lnTo>
                  <a:pt x="1490" y="600"/>
                </a:lnTo>
                <a:lnTo>
                  <a:pt x="1490" y="607"/>
                </a:lnTo>
                <a:lnTo>
                  <a:pt x="1483" y="613"/>
                </a:lnTo>
                <a:lnTo>
                  <a:pt x="1483" y="620"/>
                </a:lnTo>
                <a:lnTo>
                  <a:pt x="1483" y="627"/>
                </a:lnTo>
                <a:lnTo>
                  <a:pt x="1476" y="634"/>
                </a:lnTo>
                <a:lnTo>
                  <a:pt x="1476" y="641"/>
                </a:lnTo>
                <a:lnTo>
                  <a:pt x="1469" y="641"/>
                </a:lnTo>
                <a:lnTo>
                  <a:pt x="1469" y="648"/>
                </a:lnTo>
                <a:lnTo>
                  <a:pt x="1462" y="655"/>
                </a:lnTo>
                <a:lnTo>
                  <a:pt x="1462" y="662"/>
                </a:lnTo>
                <a:lnTo>
                  <a:pt x="1462" y="669"/>
                </a:lnTo>
                <a:lnTo>
                  <a:pt x="1462" y="675"/>
                </a:lnTo>
                <a:lnTo>
                  <a:pt x="1462" y="682"/>
                </a:lnTo>
                <a:lnTo>
                  <a:pt x="1462" y="689"/>
                </a:lnTo>
                <a:lnTo>
                  <a:pt x="1462" y="696"/>
                </a:lnTo>
                <a:lnTo>
                  <a:pt x="1462" y="703"/>
                </a:lnTo>
                <a:lnTo>
                  <a:pt x="1462" y="710"/>
                </a:lnTo>
                <a:lnTo>
                  <a:pt x="1455" y="710"/>
                </a:lnTo>
                <a:lnTo>
                  <a:pt x="1455" y="717"/>
                </a:lnTo>
                <a:lnTo>
                  <a:pt x="1455" y="724"/>
                </a:lnTo>
                <a:lnTo>
                  <a:pt x="1455" y="731"/>
                </a:lnTo>
                <a:lnTo>
                  <a:pt x="1455" y="737"/>
                </a:lnTo>
                <a:lnTo>
                  <a:pt x="1455" y="744"/>
                </a:lnTo>
                <a:lnTo>
                  <a:pt x="1455" y="751"/>
                </a:lnTo>
                <a:lnTo>
                  <a:pt x="1455" y="758"/>
                </a:lnTo>
                <a:lnTo>
                  <a:pt x="1455" y="765"/>
                </a:lnTo>
                <a:lnTo>
                  <a:pt x="1455" y="772"/>
                </a:lnTo>
                <a:lnTo>
                  <a:pt x="1455" y="772"/>
                </a:lnTo>
                <a:lnTo>
                  <a:pt x="1455" y="779"/>
                </a:lnTo>
                <a:lnTo>
                  <a:pt x="1455" y="786"/>
                </a:lnTo>
                <a:lnTo>
                  <a:pt x="1462" y="793"/>
                </a:lnTo>
                <a:lnTo>
                  <a:pt x="1462" y="799"/>
                </a:lnTo>
                <a:lnTo>
                  <a:pt x="1462" y="806"/>
                </a:lnTo>
                <a:lnTo>
                  <a:pt x="1462" y="813"/>
                </a:lnTo>
                <a:lnTo>
                  <a:pt x="1462" y="820"/>
                </a:lnTo>
                <a:lnTo>
                  <a:pt x="1462" y="827"/>
                </a:lnTo>
                <a:lnTo>
                  <a:pt x="1462" y="834"/>
                </a:lnTo>
                <a:lnTo>
                  <a:pt x="1462" y="841"/>
                </a:lnTo>
                <a:lnTo>
                  <a:pt x="1455" y="841"/>
                </a:lnTo>
                <a:lnTo>
                  <a:pt x="1455" y="848"/>
                </a:lnTo>
                <a:lnTo>
                  <a:pt x="1448" y="855"/>
                </a:lnTo>
                <a:lnTo>
                  <a:pt x="1441" y="861"/>
                </a:lnTo>
                <a:lnTo>
                  <a:pt x="1441" y="868"/>
                </a:lnTo>
                <a:lnTo>
                  <a:pt x="1428" y="868"/>
                </a:lnTo>
                <a:lnTo>
                  <a:pt x="1428" y="875"/>
                </a:lnTo>
                <a:lnTo>
                  <a:pt x="1421" y="882"/>
                </a:lnTo>
                <a:lnTo>
                  <a:pt x="1421" y="889"/>
                </a:lnTo>
                <a:lnTo>
                  <a:pt x="1421" y="896"/>
                </a:lnTo>
                <a:lnTo>
                  <a:pt x="1428" y="903"/>
                </a:lnTo>
                <a:lnTo>
                  <a:pt x="1434" y="903"/>
                </a:lnTo>
                <a:lnTo>
                  <a:pt x="1448" y="903"/>
                </a:lnTo>
                <a:lnTo>
                  <a:pt x="1455" y="903"/>
                </a:lnTo>
                <a:lnTo>
                  <a:pt x="1462" y="896"/>
                </a:lnTo>
                <a:lnTo>
                  <a:pt x="1462" y="889"/>
                </a:lnTo>
                <a:lnTo>
                  <a:pt x="1469" y="882"/>
                </a:lnTo>
                <a:lnTo>
                  <a:pt x="1469" y="875"/>
                </a:lnTo>
                <a:lnTo>
                  <a:pt x="1476" y="875"/>
                </a:lnTo>
                <a:lnTo>
                  <a:pt x="1476" y="875"/>
                </a:lnTo>
                <a:lnTo>
                  <a:pt x="1483" y="875"/>
                </a:lnTo>
                <a:lnTo>
                  <a:pt x="1490" y="882"/>
                </a:lnTo>
                <a:lnTo>
                  <a:pt x="1490" y="889"/>
                </a:lnTo>
                <a:lnTo>
                  <a:pt x="1490" y="896"/>
                </a:lnTo>
                <a:lnTo>
                  <a:pt x="1483" y="903"/>
                </a:lnTo>
                <a:lnTo>
                  <a:pt x="1476" y="910"/>
                </a:lnTo>
                <a:lnTo>
                  <a:pt x="1476" y="917"/>
                </a:lnTo>
                <a:lnTo>
                  <a:pt x="1469" y="917"/>
                </a:lnTo>
                <a:lnTo>
                  <a:pt x="1462" y="923"/>
                </a:lnTo>
                <a:lnTo>
                  <a:pt x="1455" y="930"/>
                </a:lnTo>
                <a:lnTo>
                  <a:pt x="1448" y="930"/>
                </a:lnTo>
                <a:lnTo>
                  <a:pt x="1441" y="923"/>
                </a:lnTo>
                <a:lnTo>
                  <a:pt x="1434" y="917"/>
                </a:lnTo>
                <a:lnTo>
                  <a:pt x="1434" y="910"/>
                </a:lnTo>
                <a:lnTo>
                  <a:pt x="1428" y="903"/>
                </a:lnTo>
                <a:lnTo>
                  <a:pt x="1428" y="903"/>
                </a:lnTo>
                <a:lnTo>
                  <a:pt x="1421" y="896"/>
                </a:lnTo>
                <a:lnTo>
                  <a:pt x="1414" y="889"/>
                </a:lnTo>
                <a:lnTo>
                  <a:pt x="1407" y="882"/>
                </a:lnTo>
                <a:lnTo>
                  <a:pt x="1407" y="875"/>
                </a:lnTo>
                <a:lnTo>
                  <a:pt x="1400" y="875"/>
                </a:lnTo>
                <a:lnTo>
                  <a:pt x="1400" y="868"/>
                </a:lnTo>
                <a:lnTo>
                  <a:pt x="1393" y="861"/>
                </a:lnTo>
                <a:lnTo>
                  <a:pt x="1393" y="855"/>
                </a:lnTo>
                <a:lnTo>
                  <a:pt x="1386" y="848"/>
                </a:lnTo>
                <a:lnTo>
                  <a:pt x="1386" y="841"/>
                </a:lnTo>
                <a:lnTo>
                  <a:pt x="1386" y="841"/>
                </a:lnTo>
                <a:lnTo>
                  <a:pt x="1379" y="834"/>
                </a:lnTo>
                <a:lnTo>
                  <a:pt x="1379" y="827"/>
                </a:lnTo>
                <a:lnTo>
                  <a:pt x="1379" y="820"/>
                </a:lnTo>
                <a:lnTo>
                  <a:pt x="1379" y="813"/>
                </a:lnTo>
                <a:lnTo>
                  <a:pt x="1379" y="806"/>
                </a:lnTo>
                <a:lnTo>
                  <a:pt x="1372" y="799"/>
                </a:lnTo>
                <a:lnTo>
                  <a:pt x="1372" y="793"/>
                </a:lnTo>
                <a:lnTo>
                  <a:pt x="1372" y="786"/>
                </a:lnTo>
                <a:lnTo>
                  <a:pt x="1372" y="779"/>
                </a:lnTo>
                <a:lnTo>
                  <a:pt x="1372" y="772"/>
                </a:lnTo>
                <a:lnTo>
                  <a:pt x="1366" y="772"/>
                </a:lnTo>
                <a:lnTo>
                  <a:pt x="1366" y="765"/>
                </a:lnTo>
                <a:lnTo>
                  <a:pt x="1366" y="758"/>
                </a:lnTo>
                <a:lnTo>
                  <a:pt x="1366" y="751"/>
                </a:lnTo>
                <a:lnTo>
                  <a:pt x="1359" y="744"/>
                </a:lnTo>
                <a:lnTo>
                  <a:pt x="1359" y="737"/>
                </a:lnTo>
                <a:lnTo>
                  <a:pt x="1359" y="731"/>
                </a:lnTo>
                <a:lnTo>
                  <a:pt x="1359" y="731"/>
                </a:lnTo>
                <a:lnTo>
                  <a:pt x="1352" y="731"/>
                </a:lnTo>
                <a:lnTo>
                  <a:pt x="1352" y="737"/>
                </a:lnTo>
                <a:lnTo>
                  <a:pt x="1345" y="744"/>
                </a:lnTo>
                <a:lnTo>
                  <a:pt x="1331" y="744"/>
                </a:lnTo>
                <a:lnTo>
                  <a:pt x="1324" y="751"/>
                </a:lnTo>
                <a:lnTo>
                  <a:pt x="1324" y="751"/>
                </a:lnTo>
                <a:lnTo>
                  <a:pt x="1317" y="758"/>
                </a:lnTo>
                <a:lnTo>
                  <a:pt x="1317" y="765"/>
                </a:lnTo>
                <a:lnTo>
                  <a:pt x="1310" y="772"/>
                </a:lnTo>
                <a:lnTo>
                  <a:pt x="1310" y="779"/>
                </a:lnTo>
                <a:lnTo>
                  <a:pt x="1303" y="786"/>
                </a:lnTo>
                <a:lnTo>
                  <a:pt x="1303" y="793"/>
                </a:lnTo>
                <a:lnTo>
                  <a:pt x="1297" y="799"/>
                </a:lnTo>
                <a:lnTo>
                  <a:pt x="1290" y="799"/>
                </a:lnTo>
                <a:lnTo>
                  <a:pt x="1290" y="806"/>
                </a:lnTo>
                <a:lnTo>
                  <a:pt x="1283" y="813"/>
                </a:lnTo>
                <a:lnTo>
                  <a:pt x="1283" y="820"/>
                </a:lnTo>
                <a:lnTo>
                  <a:pt x="1276" y="827"/>
                </a:lnTo>
                <a:lnTo>
                  <a:pt x="1269" y="827"/>
                </a:lnTo>
                <a:lnTo>
                  <a:pt x="1269" y="834"/>
                </a:lnTo>
                <a:lnTo>
                  <a:pt x="1262" y="841"/>
                </a:lnTo>
                <a:lnTo>
                  <a:pt x="1255" y="848"/>
                </a:lnTo>
                <a:lnTo>
                  <a:pt x="1248" y="848"/>
                </a:lnTo>
                <a:lnTo>
                  <a:pt x="1241" y="855"/>
                </a:lnTo>
                <a:lnTo>
                  <a:pt x="1241" y="861"/>
                </a:lnTo>
                <a:lnTo>
                  <a:pt x="1235" y="868"/>
                </a:lnTo>
                <a:lnTo>
                  <a:pt x="1235" y="875"/>
                </a:lnTo>
                <a:lnTo>
                  <a:pt x="1228" y="882"/>
                </a:lnTo>
                <a:lnTo>
                  <a:pt x="1228" y="889"/>
                </a:lnTo>
                <a:lnTo>
                  <a:pt x="1228" y="889"/>
                </a:lnTo>
                <a:lnTo>
                  <a:pt x="1235" y="896"/>
                </a:lnTo>
                <a:lnTo>
                  <a:pt x="1235" y="903"/>
                </a:lnTo>
                <a:lnTo>
                  <a:pt x="1241" y="910"/>
                </a:lnTo>
                <a:lnTo>
                  <a:pt x="1255" y="910"/>
                </a:lnTo>
                <a:lnTo>
                  <a:pt x="1262" y="917"/>
                </a:lnTo>
                <a:lnTo>
                  <a:pt x="1269" y="917"/>
                </a:lnTo>
                <a:lnTo>
                  <a:pt x="1276" y="917"/>
                </a:lnTo>
                <a:lnTo>
                  <a:pt x="1283" y="923"/>
                </a:lnTo>
                <a:lnTo>
                  <a:pt x="1276" y="930"/>
                </a:lnTo>
                <a:lnTo>
                  <a:pt x="1276" y="937"/>
                </a:lnTo>
                <a:lnTo>
                  <a:pt x="1269" y="944"/>
                </a:lnTo>
                <a:lnTo>
                  <a:pt x="1269" y="951"/>
                </a:lnTo>
                <a:lnTo>
                  <a:pt x="1269" y="958"/>
                </a:lnTo>
                <a:lnTo>
                  <a:pt x="1269" y="965"/>
                </a:lnTo>
                <a:lnTo>
                  <a:pt x="1269" y="972"/>
                </a:lnTo>
                <a:lnTo>
                  <a:pt x="1276" y="972"/>
                </a:lnTo>
                <a:lnTo>
                  <a:pt x="1276" y="979"/>
                </a:lnTo>
                <a:lnTo>
                  <a:pt x="1276" y="985"/>
                </a:lnTo>
                <a:lnTo>
                  <a:pt x="1276" y="992"/>
                </a:lnTo>
                <a:lnTo>
                  <a:pt x="1276" y="999"/>
                </a:lnTo>
                <a:lnTo>
                  <a:pt x="1276" y="1006"/>
                </a:lnTo>
                <a:lnTo>
                  <a:pt x="1276" y="1013"/>
                </a:lnTo>
                <a:lnTo>
                  <a:pt x="1276" y="1020"/>
                </a:lnTo>
                <a:lnTo>
                  <a:pt x="1276" y="1027"/>
                </a:lnTo>
                <a:lnTo>
                  <a:pt x="1283" y="1034"/>
                </a:lnTo>
                <a:lnTo>
                  <a:pt x="1283" y="1041"/>
                </a:lnTo>
                <a:lnTo>
                  <a:pt x="1283" y="1041"/>
                </a:lnTo>
                <a:lnTo>
                  <a:pt x="1283" y="1047"/>
                </a:lnTo>
                <a:lnTo>
                  <a:pt x="1283" y="1054"/>
                </a:lnTo>
                <a:lnTo>
                  <a:pt x="1290" y="1061"/>
                </a:lnTo>
                <a:lnTo>
                  <a:pt x="1290" y="1068"/>
                </a:lnTo>
                <a:lnTo>
                  <a:pt x="1290" y="1075"/>
                </a:lnTo>
                <a:lnTo>
                  <a:pt x="1290" y="1082"/>
                </a:lnTo>
                <a:lnTo>
                  <a:pt x="1290" y="1089"/>
                </a:lnTo>
                <a:lnTo>
                  <a:pt x="1290" y="1096"/>
                </a:lnTo>
                <a:lnTo>
                  <a:pt x="1297" y="1103"/>
                </a:lnTo>
                <a:lnTo>
                  <a:pt x="1297" y="1103"/>
                </a:lnTo>
                <a:lnTo>
                  <a:pt x="1297" y="1109"/>
                </a:lnTo>
                <a:lnTo>
                  <a:pt x="1297" y="1116"/>
                </a:lnTo>
                <a:lnTo>
                  <a:pt x="1297" y="1123"/>
                </a:lnTo>
                <a:lnTo>
                  <a:pt x="1303" y="1130"/>
                </a:lnTo>
                <a:lnTo>
                  <a:pt x="1303" y="1137"/>
                </a:lnTo>
                <a:lnTo>
                  <a:pt x="1310" y="1144"/>
                </a:lnTo>
                <a:lnTo>
                  <a:pt x="1310" y="1151"/>
                </a:lnTo>
                <a:lnTo>
                  <a:pt x="1310" y="1158"/>
                </a:lnTo>
                <a:lnTo>
                  <a:pt x="1297" y="1158"/>
                </a:lnTo>
                <a:lnTo>
                  <a:pt x="1290" y="1158"/>
                </a:lnTo>
                <a:lnTo>
                  <a:pt x="1283" y="1158"/>
                </a:lnTo>
                <a:lnTo>
                  <a:pt x="1269" y="1165"/>
                </a:lnTo>
                <a:lnTo>
                  <a:pt x="1262" y="1165"/>
                </a:lnTo>
                <a:lnTo>
                  <a:pt x="1255" y="1171"/>
                </a:lnTo>
                <a:lnTo>
                  <a:pt x="1248" y="1171"/>
                </a:lnTo>
                <a:lnTo>
                  <a:pt x="1241" y="1178"/>
                </a:lnTo>
                <a:lnTo>
                  <a:pt x="1241" y="1185"/>
                </a:lnTo>
                <a:lnTo>
                  <a:pt x="1235" y="1178"/>
                </a:lnTo>
                <a:lnTo>
                  <a:pt x="1228" y="1171"/>
                </a:lnTo>
                <a:lnTo>
                  <a:pt x="1228" y="1171"/>
                </a:lnTo>
                <a:lnTo>
                  <a:pt x="1221" y="1165"/>
                </a:lnTo>
                <a:lnTo>
                  <a:pt x="1221" y="1158"/>
                </a:lnTo>
                <a:lnTo>
                  <a:pt x="1221" y="1151"/>
                </a:lnTo>
                <a:lnTo>
                  <a:pt x="1214" y="1151"/>
                </a:lnTo>
                <a:lnTo>
                  <a:pt x="1214" y="1144"/>
                </a:lnTo>
                <a:lnTo>
                  <a:pt x="1221" y="1137"/>
                </a:lnTo>
                <a:lnTo>
                  <a:pt x="1221" y="1130"/>
                </a:lnTo>
                <a:lnTo>
                  <a:pt x="1221" y="1123"/>
                </a:lnTo>
                <a:lnTo>
                  <a:pt x="1221" y="1116"/>
                </a:lnTo>
                <a:lnTo>
                  <a:pt x="1221" y="1109"/>
                </a:lnTo>
                <a:lnTo>
                  <a:pt x="1221" y="1103"/>
                </a:lnTo>
                <a:lnTo>
                  <a:pt x="1221" y="1096"/>
                </a:lnTo>
                <a:lnTo>
                  <a:pt x="1221" y="1089"/>
                </a:lnTo>
                <a:lnTo>
                  <a:pt x="1228" y="1082"/>
                </a:lnTo>
                <a:lnTo>
                  <a:pt x="1228" y="1075"/>
                </a:lnTo>
                <a:lnTo>
                  <a:pt x="1228" y="1075"/>
                </a:lnTo>
                <a:lnTo>
                  <a:pt x="1228" y="1068"/>
                </a:lnTo>
                <a:lnTo>
                  <a:pt x="1228" y="1061"/>
                </a:lnTo>
                <a:lnTo>
                  <a:pt x="1221" y="1054"/>
                </a:lnTo>
                <a:lnTo>
                  <a:pt x="1214" y="1047"/>
                </a:lnTo>
                <a:lnTo>
                  <a:pt x="1207" y="1047"/>
                </a:lnTo>
                <a:lnTo>
                  <a:pt x="1200" y="1041"/>
                </a:lnTo>
                <a:lnTo>
                  <a:pt x="1207" y="1034"/>
                </a:lnTo>
                <a:lnTo>
                  <a:pt x="1214" y="1027"/>
                </a:lnTo>
                <a:lnTo>
                  <a:pt x="1221" y="1034"/>
                </a:lnTo>
                <a:lnTo>
                  <a:pt x="1221" y="1041"/>
                </a:lnTo>
                <a:lnTo>
                  <a:pt x="1228" y="1047"/>
                </a:lnTo>
                <a:lnTo>
                  <a:pt x="1235" y="1054"/>
                </a:lnTo>
                <a:lnTo>
                  <a:pt x="1241" y="1054"/>
                </a:lnTo>
                <a:lnTo>
                  <a:pt x="1248" y="1054"/>
                </a:lnTo>
                <a:lnTo>
                  <a:pt x="1248" y="1047"/>
                </a:lnTo>
                <a:lnTo>
                  <a:pt x="1255" y="1041"/>
                </a:lnTo>
                <a:lnTo>
                  <a:pt x="1262" y="1034"/>
                </a:lnTo>
                <a:lnTo>
                  <a:pt x="1262" y="1027"/>
                </a:lnTo>
                <a:lnTo>
                  <a:pt x="1262" y="1020"/>
                </a:lnTo>
                <a:lnTo>
                  <a:pt x="1262" y="1013"/>
                </a:lnTo>
                <a:lnTo>
                  <a:pt x="1262" y="1006"/>
                </a:lnTo>
                <a:lnTo>
                  <a:pt x="1255" y="1006"/>
                </a:lnTo>
                <a:lnTo>
                  <a:pt x="1248" y="999"/>
                </a:lnTo>
                <a:lnTo>
                  <a:pt x="1235" y="999"/>
                </a:lnTo>
                <a:lnTo>
                  <a:pt x="1228" y="992"/>
                </a:lnTo>
                <a:lnTo>
                  <a:pt x="1221" y="992"/>
                </a:lnTo>
                <a:lnTo>
                  <a:pt x="1214" y="985"/>
                </a:lnTo>
                <a:lnTo>
                  <a:pt x="1207" y="985"/>
                </a:lnTo>
                <a:lnTo>
                  <a:pt x="1200" y="979"/>
                </a:lnTo>
                <a:lnTo>
                  <a:pt x="1186" y="979"/>
                </a:lnTo>
                <a:lnTo>
                  <a:pt x="1179" y="979"/>
                </a:lnTo>
                <a:lnTo>
                  <a:pt x="1172" y="985"/>
                </a:lnTo>
                <a:lnTo>
                  <a:pt x="1172" y="985"/>
                </a:lnTo>
                <a:lnTo>
                  <a:pt x="1166" y="992"/>
                </a:lnTo>
                <a:lnTo>
                  <a:pt x="1166" y="999"/>
                </a:lnTo>
                <a:lnTo>
                  <a:pt x="1159" y="1006"/>
                </a:lnTo>
                <a:lnTo>
                  <a:pt x="1159" y="1013"/>
                </a:lnTo>
                <a:lnTo>
                  <a:pt x="1152" y="1020"/>
                </a:lnTo>
                <a:lnTo>
                  <a:pt x="1152" y="1020"/>
                </a:lnTo>
                <a:lnTo>
                  <a:pt x="1152" y="1027"/>
                </a:lnTo>
                <a:lnTo>
                  <a:pt x="1145" y="1034"/>
                </a:lnTo>
                <a:lnTo>
                  <a:pt x="1145" y="1041"/>
                </a:lnTo>
                <a:lnTo>
                  <a:pt x="1138" y="1047"/>
                </a:lnTo>
                <a:lnTo>
                  <a:pt x="1131" y="1054"/>
                </a:lnTo>
                <a:lnTo>
                  <a:pt x="1124" y="1054"/>
                </a:lnTo>
                <a:lnTo>
                  <a:pt x="1124" y="1061"/>
                </a:lnTo>
                <a:lnTo>
                  <a:pt x="1117" y="1068"/>
                </a:lnTo>
                <a:lnTo>
                  <a:pt x="1110" y="1075"/>
                </a:lnTo>
                <a:lnTo>
                  <a:pt x="1110" y="1082"/>
                </a:lnTo>
                <a:lnTo>
                  <a:pt x="1104" y="1082"/>
                </a:lnTo>
                <a:lnTo>
                  <a:pt x="1097" y="1089"/>
                </a:lnTo>
                <a:lnTo>
                  <a:pt x="1083" y="1089"/>
                </a:lnTo>
                <a:lnTo>
                  <a:pt x="1076" y="1089"/>
                </a:lnTo>
                <a:lnTo>
                  <a:pt x="1069" y="1089"/>
                </a:lnTo>
                <a:lnTo>
                  <a:pt x="1055" y="1089"/>
                </a:lnTo>
                <a:lnTo>
                  <a:pt x="1048" y="1089"/>
                </a:lnTo>
                <a:lnTo>
                  <a:pt x="1035" y="1089"/>
                </a:lnTo>
                <a:lnTo>
                  <a:pt x="1028" y="1096"/>
                </a:lnTo>
                <a:lnTo>
                  <a:pt x="1014" y="1096"/>
                </a:lnTo>
                <a:lnTo>
                  <a:pt x="1007" y="1096"/>
                </a:lnTo>
                <a:lnTo>
                  <a:pt x="1000" y="1096"/>
                </a:lnTo>
                <a:lnTo>
                  <a:pt x="993" y="1089"/>
                </a:lnTo>
                <a:lnTo>
                  <a:pt x="993" y="1082"/>
                </a:lnTo>
                <a:lnTo>
                  <a:pt x="993" y="1075"/>
                </a:lnTo>
                <a:lnTo>
                  <a:pt x="993" y="1068"/>
                </a:lnTo>
                <a:lnTo>
                  <a:pt x="986" y="1061"/>
                </a:lnTo>
                <a:lnTo>
                  <a:pt x="986" y="1054"/>
                </a:lnTo>
                <a:lnTo>
                  <a:pt x="979" y="1047"/>
                </a:lnTo>
                <a:lnTo>
                  <a:pt x="979" y="1047"/>
                </a:lnTo>
                <a:lnTo>
                  <a:pt x="979" y="1041"/>
                </a:lnTo>
                <a:lnTo>
                  <a:pt x="973" y="1034"/>
                </a:lnTo>
                <a:lnTo>
                  <a:pt x="966" y="1034"/>
                </a:lnTo>
                <a:lnTo>
                  <a:pt x="959" y="1034"/>
                </a:lnTo>
                <a:lnTo>
                  <a:pt x="945" y="1041"/>
                </a:lnTo>
                <a:lnTo>
                  <a:pt x="938" y="1041"/>
                </a:lnTo>
                <a:lnTo>
                  <a:pt x="924" y="1041"/>
                </a:lnTo>
                <a:lnTo>
                  <a:pt x="917" y="1041"/>
                </a:lnTo>
                <a:lnTo>
                  <a:pt x="910" y="1041"/>
                </a:lnTo>
                <a:lnTo>
                  <a:pt x="897" y="1047"/>
                </a:lnTo>
                <a:lnTo>
                  <a:pt x="890" y="1047"/>
                </a:lnTo>
                <a:lnTo>
                  <a:pt x="883" y="1047"/>
                </a:lnTo>
                <a:lnTo>
                  <a:pt x="869" y="1054"/>
                </a:lnTo>
                <a:lnTo>
                  <a:pt x="862" y="1054"/>
                </a:lnTo>
                <a:lnTo>
                  <a:pt x="855" y="1054"/>
                </a:lnTo>
                <a:lnTo>
                  <a:pt x="842" y="1054"/>
                </a:lnTo>
                <a:lnTo>
                  <a:pt x="835" y="1054"/>
                </a:lnTo>
                <a:lnTo>
                  <a:pt x="828" y="1054"/>
                </a:lnTo>
                <a:lnTo>
                  <a:pt x="814" y="1054"/>
                </a:lnTo>
                <a:lnTo>
                  <a:pt x="807" y="1047"/>
                </a:lnTo>
                <a:lnTo>
                  <a:pt x="800" y="1047"/>
                </a:lnTo>
                <a:lnTo>
                  <a:pt x="786" y="1041"/>
                </a:lnTo>
                <a:lnTo>
                  <a:pt x="779" y="1041"/>
                </a:lnTo>
                <a:lnTo>
                  <a:pt x="773" y="1034"/>
                </a:lnTo>
                <a:lnTo>
                  <a:pt x="766" y="1034"/>
                </a:lnTo>
                <a:lnTo>
                  <a:pt x="759" y="1027"/>
                </a:lnTo>
                <a:lnTo>
                  <a:pt x="752" y="1020"/>
                </a:lnTo>
                <a:lnTo>
                  <a:pt x="745" y="1020"/>
                </a:lnTo>
                <a:lnTo>
                  <a:pt x="738" y="1013"/>
                </a:lnTo>
                <a:lnTo>
                  <a:pt x="738" y="1006"/>
                </a:lnTo>
                <a:lnTo>
                  <a:pt x="738" y="999"/>
                </a:lnTo>
                <a:lnTo>
                  <a:pt x="731" y="992"/>
                </a:lnTo>
                <a:lnTo>
                  <a:pt x="731" y="985"/>
                </a:lnTo>
                <a:lnTo>
                  <a:pt x="731" y="985"/>
                </a:lnTo>
                <a:lnTo>
                  <a:pt x="731" y="979"/>
                </a:lnTo>
                <a:lnTo>
                  <a:pt x="731" y="972"/>
                </a:lnTo>
                <a:lnTo>
                  <a:pt x="731" y="965"/>
                </a:lnTo>
                <a:lnTo>
                  <a:pt x="731" y="958"/>
                </a:lnTo>
                <a:lnTo>
                  <a:pt x="731" y="951"/>
                </a:lnTo>
                <a:lnTo>
                  <a:pt x="724" y="944"/>
                </a:lnTo>
                <a:lnTo>
                  <a:pt x="724" y="937"/>
                </a:lnTo>
                <a:lnTo>
                  <a:pt x="724" y="930"/>
                </a:lnTo>
                <a:lnTo>
                  <a:pt x="724" y="923"/>
                </a:lnTo>
                <a:lnTo>
                  <a:pt x="724" y="917"/>
                </a:lnTo>
                <a:lnTo>
                  <a:pt x="724" y="917"/>
                </a:lnTo>
                <a:lnTo>
                  <a:pt x="724" y="910"/>
                </a:lnTo>
                <a:lnTo>
                  <a:pt x="724" y="903"/>
                </a:lnTo>
                <a:lnTo>
                  <a:pt x="724" y="896"/>
                </a:lnTo>
                <a:lnTo>
                  <a:pt x="724" y="889"/>
                </a:lnTo>
                <a:lnTo>
                  <a:pt x="724" y="882"/>
                </a:lnTo>
                <a:lnTo>
                  <a:pt x="724" y="875"/>
                </a:lnTo>
                <a:lnTo>
                  <a:pt x="724" y="868"/>
                </a:lnTo>
                <a:lnTo>
                  <a:pt x="724" y="861"/>
                </a:lnTo>
                <a:lnTo>
                  <a:pt x="724" y="855"/>
                </a:lnTo>
                <a:lnTo>
                  <a:pt x="724" y="848"/>
                </a:lnTo>
                <a:lnTo>
                  <a:pt x="724" y="848"/>
                </a:lnTo>
                <a:lnTo>
                  <a:pt x="724" y="841"/>
                </a:lnTo>
                <a:lnTo>
                  <a:pt x="724" y="834"/>
                </a:lnTo>
                <a:lnTo>
                  <a:pt x="724" y="827"/>
                </a:lnTo>
                <a:lnTo>
                  <a:pt x="724" y="820"/>
                </a:lnTo>
                <a:lnTo>
                  <a:pt x="724" y="813"/>
                </a:lnTo>
                <a:lnTo>
                  <a:pt x="717" y="806"/>
                </a:lnTo>
                <a:lnTo>
                  <a:pt x="717" y="799"/>
                </a:lnTo>
                <a:lnTo>
                  <a:pt x="717" y="793"/>
                </a:lnTo>
                <a:lnTo>
                  <a:pt x="717" y="793"/>
                </a:lnTo>
                <a:lnTo>
                  <a:pt x="717" y="786"/>
                </a:lnTo>
                <a:lnTo>
                  <a:pt x="717" y="779"/>
                </a:lnTo>
                <a:lnTo>
                  <a:pt x="717" y="772"/>
                </a:lnTo>
                <a:lnTo>
                  <a:pt x="711" y="765"/>
                </a:lnTo>
                <a:lnTo>
                  <a:pt x="711" y="758"/>
                </a:lnTo>
                <a:lnTo>
                  <a:pt x="704" y="758"/>
                </a:lnTo>
                <a:lnTo>
                  <a:pt x="697" y="765"/>
                </a:lnTo>
                <a:lnTo>
                  <a:pt x="690" y="772"/>
                </a:lnTo>
                <a:lnTo>
                  <a:pt x="690" y="779"/>
                </a:lnTo>
                <a:lnTo>
                  <a:pt x="690" y="786"/>
                </a:lnTo>
                <a:lnTo>
                  <a:pt x="690" y="793"/>
                </a:lnTo>
                <a:lnTo>
                  <a:pt x="690" y="799"/>
                </a:lnTo>
                <a:lnTo>
                  <a:pt x="683" y="806"/>
                </a:lnTo>
                <a:lnTo>
                  <a:pt x="683" y="813"/>
                </a:lnTo>
                <a:lnTo>
                  <a:pt x="676" y="813"/>
                </a:lnTo>
                <a:lnTo>
                  <a:pt x="676" y="820"/>
                </a:lnTo>
                <a:lnTo>
                  <a:pt x="669" y="827"/>
                </a:lnTo>
                <a:lnTo>
                  <a:pt x="662" y="834"/>
                </a:lnTo>
                <a:lnTo>
                  <a:pt x="662" y="841"/>
                </a:lnTo>
                <a:lnTo>
                  <a:pt x="662" y="841"/>
                </a:lnTo>
                <a:lnTo>
                  <a:pt x="662" y="848"/>
                </a:lnTo>
                <a:lnTo>
                  <a:pt x="662" y="855"/>
                </a:lnTo>
                <a:lnTo>
                  <a:pt x="662" y="861"/>
                </a:lnTo>
                <a:lnTo>
                  <a:pt x="662" y="868"/>
                </a:lnTo>
                <a:lnTo>
                  <a:pt x="655" y="875"/>
                </a:lnTo>
                <a:lnTo>
                  <a:pt x="655" y="882"/>
                </a:lnTo>
                <a:lnTo>
                  <a:pt x="655" y="889"/>
                </a:lnTo>
                <a:lnTo>
                  <a:pt x="655" y="896"/>
                </a:lnTo>
                <a:lnTo>
                  <a:pt x="655" y="903"/>
                </a:lnTo>
                <a:lnTo>
                  <a:pt x="655" y="910"/>
                </a:lnTo>
                <a:lnTo>
                  <a:pt x="648" y="917"/>
                </a:lnTo>
                <a:lnTo>
                  <a:pt x="648" y="917"/>
                </a:lnTo>
                <a:lnTo>
                  <a:pt x="648" y="923"/>
                </a:lnTo>
                <a:lnTo>
                  <a:pt x="648" y="930"/>
                </a:lnTo>
                <a:lnTo>
                  <a:pt x="648" y="937"/>
                </a:lnTo>
                <a:lnTo>
                  <a:pt x="648" y="944"/>
                </a:lnTo>
                <a:lnTo>
                  <a:pt x="648" y="951"/>
                </a:lnTo>
                <a:lnTo>
                  <a:pt x="642" y="958"/>
                </a:lnTo>
                <a:lnTo>
                  <a:pt x="642" y="965"/>
                </a:lnTo>
                <a:lnTo>
                  <a:pt x="642" y="972"/>
                </a:lnTo>
                <a:lnTo>
                  <a:pt x="642" y="979"/>
                </a:lnTo>
                <a:lnTo>
                  <a:pt x="642" y="979"/>
                </a:lnTo>
                <a:lnTo>
                  <a:pt x="642" y="985"/>
                </a:lnTo>
                <a:lnTo>
                  <a:pt x="642" y="992"/>
                </a:lnTo>
                <a:lnTo>
                  <a:pt x="635" y="999"/>
                </a:lnTo>
                <a:lnTo>
                  <a:pt x="635" y="1006"/>
                </a:lnTo>
                <a:lnTo>
                  <a:pt x="635" y="1013"/>
                </a:lnTo>
                <a:lnTo>
                  <a:pt x="635" y="1020"/>
                </a:lnTo>
                <a:lnTo>
                  <a:pt x="635" y="1027"/>
                </a:lnTo>
                <a:lnTo>
                  <a:pt x="635" y="1034"/>
                </a:lnTo>
                <a:lnTo>
                  <a:pt x="635" y="1041"/>
                </a:lnTo>
                <a:lnTo>
                  <a:pt x="628" y="1041"/>
                </a:lnTo>
                <a:lnTo>
                  <a:pt x="621" y="1047"/>
                </a:lnTo>
                <a:lnTo>
                  <a:pt x="614" y="1054"/>
                </a:lnTo>
                <a:lnTo>
                  <a:pt x="607" y="1061"/>
                </a:lnTo>
                <a:lnTo>
                  <a:pt x="600" y="1061"/>
                </a:lnTo>
                <a:lnTo>
                  <a:pt x="600" y="1068"/>
                </a:lnTo>
                <a:lnTo>
                  <a:pt x="607" y="1075"/>
                </a:lnTo>
                <a:lnTo>
                  <a:pt x="607" y="1082"/>
                </a:lnTo>
                <a:lnTo>
                  <a:pt x="614" y="1089"/>
                </a:lnTo>
                <a:lnTo>
                  <a:pt x="621" y="1089"/>
                </a:lnTo>
                <a:lnTo>
                  <a:pt x="628" y="1096"/>
                </a:lnTo>
                <a:lnTo>
                  <a:pt x="635" y="1103"/>
                </a:lnTo>
                <a:lnTo>
                  <a:pt x="635" y="1109"/>
                </a:lnTo>
                <a:lnTo>
                  <a:pt x="642" y="1116"/>
                </a:lnTo>
                <a:lnTo>
                  <a:pt x="648" y="1116"/>
                </a:lnTo>
                <a:lnTo>
                  <a:pt x="648" y="1123"/>
                </a:lnTo>
                <a:lnTo>
                  <a:pt x="648" y="1130"/>
                </a:lnTo>
                <a:lnTo>
                  <a:pt x="642" y="1137"/>
                </a:lnTo>
                <a:lnTo>
                  <a:pt x="635" y="1137"/>
                </a:lnTo>
                <a:lnTo>
                  <a:pt x="628" y="1144"/>
                </a:lnTo>
                <a:lnTo>
                  <a:pt x="614" y="1151"/>
                </a:lnTo>
                <a:lnTo>
                  <a:pt x="607" y="1151"/>
                </a:lnTo>
                <a:lnTo>
                  <a:pt x="600" y="1158"/>
                </a:lnTo>
                <a:lnTo>
                  <a:pt x="593" y="1158"/>
                </a:lnTo>
                <a:lnTo>
                  <a:pt x="586" y="1165"/>
                </a:lnTo>
                <a:lnTo>
                  <a:pt x="580" y="1171"/>
                </a:lnTo>
                <a:lnTo>
                  <a:pt x="573" y="1171"/>
                </a:lnTo>
                <a:lnTo>
                  <a:pt x="566" y="1178"/>
                </a:lnTo>
                <a:lnTo>
                  <a:pt x="559" y="1178"/>
                </a:lnTo>
                <a:lnTo>
                  <a:pt x="552" y="1185"/>
                </a:lnTo>
                <a:lnTo>
                  <a:pt x="545" y="1192"/>
                </a:lnTo>
                <a:lnTo>
                  <a:pt x="538" y="1192"/>
                </a:lnTo>
                <a:lnTo>
                  <a:pt x="538" y="1199"/>
                </a:lnTo>
                <a:lnTo>
                  <a:pt x="531" y="1206"/>
                </a:lnTo>
                <a:lnTo>
                  <a:pt x="524" y="1213"/>
                </a:lnTo>
                <a:lnTo>
                  <a:pt x="517" y="1213"/>
                </a:lnTo>
                <a:lnTo>
                  <a:pt x="511" y="1220"/>
                </a:lnTo>
                <a:lnTo>
                  <a:pt x="504" y="1220"/>
                </a:lnTo>
                <a:lnTo>
                  <a:pt x="497" y="1227"/>
                </a:lnTo>
                <a:lnTo>
                  <a:pt x="490" y="1233"/>
                </a:lnTo>
                <a:lnTo>
                  <a:pt x="483" y="1233"/>
                </a:lnTo>
                <a:lnTo>
                  <a:pt x="476" y="1240"/>
                </a:lnTo>
                <a:lnTo>
                  <a:pt x="469" y="1247"/>
                </a:lnTo>
                <a:lnTo>
                  <a:pt x="504" y="1275"/>
                </a:lnTo>
                <a:lnTo>
                  <a:pt x="531" y="1302"/>
                </a:lnTo>
                <a:lnTo>
                  <a:pt x="559" y="1337"/>
                </a:lnTo>
                <a:lnTo>
                  <a:pt x="593" y="1364"/>
                </a:lnTo>
                <a:lnTo>
                  <a:pt x="621" y="1392"/>
                </a:lnTo>
                <a:lnTo>
                  <a:pt x="648" y="1426"/>
                </a:lnTo>
                <a:lnTo>
                  <a:pt x="676" y="1454"/>
                </a:lnTo>
                <a:lnTo>
                  <a:pt x="711" y="1481"/>
                </a:lnTo>
                <a:lnTo>
                  <a:pt x="738" y="1516"/>
                </a:lnTo>
                <a:lnTo>
                  <a:pt x="766" y="1543"/>
                </a:lnTo>
                <a:lnTo>
                  <a:pt x="793" y="1571"/>
                </a:lnTo>
                <a:lnTo>
                  <a:pt x="828" y="1599"/>
                </a:lnTo>
                <a:lnTo>
                  <a:pt x="855" y="1633"/>
                </a:lnTo>
                <a:lnTo>
                  <a:pt x="883" y="1633"/>
                </a:lnTo>
                <a:lnTo>
                  <a:pt x="917" y="1660"/>
                </a:lnTo>
                <a:lnTo>
                  <a:pt x="945" y="1688"/>
                </a:lnTo>
                <a:lnTo>
                  <a:pt x="973" y="1722"/>
                </a:lnTo>
                <a:lnTo>
                  <a:pt x="1000" y="1750"/>
                </a:lnTo>
                <a:lnTo>
                  <a:pt x="1035" y="1778"/>
                </a:lnTo>
                <a:lnTo>
                  <a:pt x="1062" y="1812"/>
                </a:lnTo>
                <a:lnTo>
                  <a:pt x="1090" y="1840"/>
                </a:lnTo>
                <a:lnTo>
                  <a:pt x="1124" y="1840"/>
                </a:lnTo>
                <a:lnTo>
                  <a:pt x="1152" y="1840"/>
                </a:lnTo>
                <a:lnTo>
                  <a:pt x="1179" y="1840"/>
                </a:lnTo>
                <a:lnTo>
                  <a:pt x="1207" y="1840"/>
                </a:lnTo>
                <a:lnTo>
                  <a:pt x="1241" y="1840"/>
                </a:lnTo>
                <a:lnTo>
                  <a:pt x="1269" y="1840"/>
                </a:lnTo>
                <a:lnTo>
                  <a:pt x="1297" y="1840"/>
                </a:lnTo>
                <a:lnTo>
                  <a:pt x="1331" y="1840"/>
                </a:lnTo>
                <a:lnTo>
                  <a:pt x="1359" y="1840"/>
                </a:lnTo>
                <a:lnTo>
                  <a:pt x="1386" y="1840"/>
                </a:lnTo>
                <a:lnTo>
                  <a:pt x="1414" y="1840"/>
                </a:lnTo>
                <a:lnTo>
                  <a:pt x="1448" y="1840"/>
                </a:lnTo>
                <a:lnTo>
                  <a:pt x="1476" y="1840"/>
                </a:lnTo>
                <a:lnTo>
                  <a:pt x="1503" y="1840"/>
                </a:lnTo>
                <a:lnTo>
                  <a:pt x="1538" y="1840"/>
                </a:lnTo>
                <a:lnTo>
                  <a:pt x="1566" y="1840"/>
                </a:lnTo>
                <a:lnTo>
                  <a:pt x="1593" y="1840"/>
                </a:lnTo>
                <a:lnTo>
                  <a:pt x="1621" y="1840"/>
                </a:lnTo>
                <a:lnTo>
                  <a:pt x="1655" y="1840"/>
                </a:lnTo>
                <a:lnTo>
                  <a:pt x="1683" y="1840"/>
                </a:lnTo>
                <a:lnTo>
                  <a:pt x="1710" y="1840"/>
                </a:lnTo>
                <a:lnTo>
                  <a:pt x="1745" y="1840"/>
                </a:lnTo>
                <a:lnTo>
                  <a:pt x="1772" y="1840"/>
                </a:lnTo>
                <a:lnTo>
                  <a:pt x="1800" y="1840"/>
                </a:lnTo>
                <a:lnTo>
                  <a:pt x="1828" y="1840"/>
                </a:lnTo>
                <a:lnTo>
                  <a:pt x="1862" y="1840"/>
                </a:lnTo>
                <a:lnTo>
                  <a:pt x="1890" y="1840"/>
                </a:lnTo>
                <a:lnTo>
                  <a:pt x="1917" y="1840"/>
                </a:lnTo>
                <a:lnTo>
                  <a:pt x="1952" y="1840"/>
                </a:lnTo>
                <a:lnTo>
                  <a:pt x="1979" y="1840"/>
                </a:lnTo>
                <a:lnTo>
                  <a:pt x="2007" y="1840"/>
                </a:lnTo>
                <a:lnTo>
                  <a:pt x="2034" y="1840"/>
                </a:lnTo>
                <a:lnTo>
                  <a:pt x="2069" y="1840"/>
                </a:lnTo>
                <a:lnTo>
                  <a:pt x="2096" y="1840"/>
                </a:lnTo>
                <a:lnTo>
                  <a:pt x="2124" y="1840"/>
                </a:lnTo>
                <a:lnTo>
                  <a:pt x="2158" y="1840"/>
                </a:lnTo>
                <a:lnTo>
                  <a:pt x="2186" y="1840"/>
                </a:lnTo>
                <a:lnTo>
                  <a:pt x="2214" y="1840"/>
                </a:lnTo>
                <a:lnTo>
                  <a:pt x="2241" y="1840"/>
                </a:lnTo>
                <a:lnTo>
                  <a:pt x="2276" y="1840"/>
                </a:lnTo>
                <a:lnTo>
                  <a:pt x="2303" y="1840"/>
                </a:lnTo>
                <a:lnTo>
                  <a:pt x="2331" y="1840"/>
                </a:lnTo>
                <a:lnTo>
                  <a:pt x="2365" y="1840"/>
                </a:lnTo>
                <a:lnTo>
                  <a:pt x="2393" y="1840"/>
                </a:lnTo>
                <a:lnTo>
                  <a:pt x="2420" y="1840"/>
                </a:lnTo>
                <a:lnTo>
                  <a:pt x="2448" y="1840"/>
                </a:lnTo>
                <a:lnTo>
                  <a:pt x="2483" y="1840"/>
                </a:lnTo>
                <a:close/>
                <a:moveTo>
                  <a:pt x="449" y="1213"/>
                </a:moveTo>
                <a:lnTo>
                  <a:pt x="442" y="1213"/>
                </a:lnTo>
                <a:lnTo>
                  <a:pt x="442" y="1213"/>
                </a:lnTo>
                <a:lnTo>
                  <a:pt x="469" y="1247"/>
                </a:lnTo>
                <a:lnTo>
                  <a:pt x="449" y="1213"/>
                </a:lnTo>
                <a:close/>
                <a:moveTo>
                  <a:pt x="421" y="1185"/>
                </a:moveTo>
                <a:lnTo>
                  <a:pt x="414" y="1171"/>
                </a:lnTo>
                <a:lnTo>
                  <a:pt x="414" y="1185"/>
                </a:lnTo>
                <a:lnTo>
                  <a:pt x="421" y="1185"/>
                </a:lnTo>
                <a:close/>
                <a:moveTo>
                  <a:pt x="400" y="1158"/>
                </a:moveTo>
                <a:lnTo>
                  <a:pt x="386" y="1137"/>
                </a:lnTo>
                <a:lnTo>
                  <a:pt x="386" y="1158"/>
                </a:lnTo>
                <a:lnTo>
                  <a:pt x="400" y="1158"/>
                </a:lnTo>
                <a:close/>
                <a:moveTo>
                  <a:pt x="373" y="1130"/>
                </a:moveTo>
                <a:lnTo>
                  <a:pt x="352" y="1103"/>
                </a:lnTo>
                <a:lnTo>
                  <a:pt x="352" y="1130"/>
                </a:lnTo>
                <a:lnTo>
                  <a:pt x="373" y="1130"/>
                </a:lnTo>
                <a:close/>
                <a:moveTo>
                  <a:pt x="931" y="1130"/>
                </a:moveTo>
                <a:lnTo>
                  <a:pt x="938" y="1123"/>
                </a:lnTo>
                <a:lnTo>
                  <a:pt x="938" y="1123"/>
                </a:lnTo>
                <a:lnTo>
                  <a:pt x="945" y="1123"/>
                </a:lnTo>
                <a:lnTo>
                  <a:pt x="952" y="1123"/>
                </a:lnTo>
                <a:lnTo>
                  <a:pt x="959" y="1123"/>
                </a:lnTo>
                <a:lnTo>
                  <a:pt x="966" y="1123"/>
                </a:lnTo>
                <a:lnTo>
                  <a:pt x="973" y="1123"/>
                </a:lnTo>
                <a:lnTo>
                  <a:pt x="979" y="1123"/>
                </a:lnTo>
                <a:lnTo>
                  <a:pt x="979" y="1123"/>
                </a:lnTo>
                <a:lnTo>
                  <a:pt x="986" y="1123"/>
                </a:lnTo>
                <a:lnTo>
                  <a:pt x="993" y="1123"/>
                </a:lnTo>
                <a:lnTo>
                  <a:pt x="1000" y="1123"/>
                </a:lnTo>
                <a:lnTo>
                  <a:pt x="1007" y="1130"/>
                </a:lnTo>
                <a:lnTo>
                  <a:pt x="1000" y="1130"/>
                </a:lnTo>
                <a:lnTo>
                  <a:pt x="993" y="1130"/>
                </a:lnTo>
                <a:lnTo>
                  <a:pt x="986" y="1130"/>
                </a:lnTo>
                <a:lnTo>
                  <a:pt x="979" y="1130"/>
                </a:lnTo>
                <a:lnTo>
                  <a:pt x="979" y="1130"/>
                </a:lnTo>
                <a:lnTo>
                  <a:pt x="973" y="1130"/>
                </a:lnTo>
                <a:lnTo>
                  <a:pt x="966" y="1137"/>
                </a:lnTo>
                <a:lnTo>
                  <a:pt x="959" y="1137"/>
                </a:lnTo>
                <a:lnTo>
                  <a:pt x="952" y="1137"/>
                </a:lnTo>
                <a:lnTo>
                  <a:pt x="945" y="1137"/>
                </a:lnTo>
                <a:lnTo>
                  <a:pt x="938" y="1130"/>
                </a:lnTo>
                <a:lnTo>
                  <a:pt x="938" y="1130"/>
                </a:lnTo>
                <a:lnTo>
                  <a:pt x="931" y="1130"/>
                </a:lnTo>
                <a:close/>
                <a:moveTo>
                  <a:pt x="352" y="1096"/>
                </a:moveTo>
                <a:lnTo>
                  <a:pt x="345" y="1096"/>
                </a:lnTo>
                <a:lnTo>
                  <a:pt x="345" y="1089"/>
                </a:lnTo>
                <a:lnTo>
                  <a:pt x="338" y="1089"/>
                </a:lnTo>
                <a:lnTo>
                  <a:pt x="338" y="1082"/>
                </a:lnTo>
                <a:lnTo>
                  <a:pt x="331" y="1075"/>
                </a:lnTo>
                <a:lnTo>
                  <a:pt x="331" y="1075"/>
                </a:lnTo>
                <a:lnTo>
                  <a:pt x="324" y="1068"/>
                </a:lnTo>
                <a:lnTo>
                  <a:pt x="324" y="1068"/>
                </a:lnTo>
                <a:lnTo>
                  <a:pt x="324" y="1068"/>
                </a:lnTo>
                <a:lnTo>
                  <a:pt x="324" y="1096"/>
                </a:lnTo>
                <a:lnTo>
                  <a:pt x="352" y="1096"/>
                </a:lnTo>
                <a:close/>
                <a:moveTo>
                  <a:pt x="304" y="1041"/>
                </a:moveTo>
                <a:lnTo>
                  <a:pt x="297" y="1027"/>
                </a:lnTo>
                <a:lnTo>
                  <a:pt x="297" y="1041"/>
                </a:lnTo>
                <a:lnTo>
                  <a:pt x="304" y="1041"/>
                </a:lnTo>
                <a:close/>
                <a:moveTo>
                  <a:pt x="276" y="1006"/>
                </a:moveTo>
                <a:lnTo>
                  <a:pt x="262" y="992"/>
                </a:lnTo>
                <a:lnTo>
                  <a:pt x="262" y="1006"/>
                </a:lnTo>
                <a:lnTo>
                  <a:pt x="276" y="1006"/>
                </a:lnTo>
                <a:close/>
                <a:moveTo>
                  <a:pt x="255" y="979"/>
                </a:moveTo>
                <a:lnTo>
                  <a:pt x="235" y="958"/>
                </a:lnTo>
                <a:lnTo>
                  <a:pt x="235" y="979"/>
                </a:lnTo>
                <a:lnTo>
                  <a:pt x="255" y="979"/>
                </a:lnTo>
                <a:close/>
                <a:moveTo>
                  <a:pt x="1007" y="979"/>
                </a:moveTo>
                <a:lnTo>
                  <a:pt x="1007" y="972"/>
                </a:lnTo>
                <a:lnTo>
                  <a:pt x="1000" y="972"/>
                </a:lnTo>
                <a:lnTo>
                  <a:pt x="1000" y="979"/>
                </a:lnTo>
                <a:lnTo>
                  <a:pt x="1000" y="979"/>
                </a:lnTo>
                <a:lnTo>
                  <a:pt x="1000" y="985"/>
                </a:lnTo>
                <a:lnTo>
                  <a:pt x="1000" y="992"/>
                </a:lnTo>
                <a:lnTo>
                  <a:pt x="1000" y="992"/>
                </a:lnTo>
                <a:lnTo>
                  <a:pt x="1000" y="992"/>
                </a:lnTo>
                <a:lnTo>
                  <a:pt x="1007" y="992"/>
                </a:lnTo>
                <a:lnTo>
                  <a:pt x="1007" y="992"/>
                </a:lnTo>
                <a:lnTo>
                  <a:pt x="1007" y="992"/>
                </a:lnTo>
                <a:lnTo>
                  <a:pt x="1007" y="992"/>
                </a:lnTo>
                <a:lnTo>
                  <a:pt x="1007" y="985"/>
                </a:lnTo>
                <a:lnTo>
                  <a:pt x="1007" y="979"/>
                </a:lnTo>
                <a:close/>
                <a:moveTo>
                  <a:pt x="228" y="951"/>
                </a:moveTo>
                <a:lnTo>
                  <a:pt x="228" y="944"/>
                </a:lnTo>
                <a:lnTo>
                  <a:pt x="221" y="937"/>
                </a:lnTo>
                <a:lnTo>
                  <a:pt x="214" y="930"/>
                </a:lnTo>
                <a:lnTo>
                  <a:pt x="214" y="930"/>
                </a:lnTo>
                <a:lnTo>
                  <a:pt x="207" y="923"/>
                </a:lnTo>
                <a:lnTo>
                  <a:pt x="207" y="917"/>
                </a:lnTo>
                <a:lnTo>
                  <a:pt x="200" y="910"/>
                </a:lnTo>
                <a:lnTo>
                  <a:pt x="193" y="910"/>
                </a:lnTo>
                <a:lnTo>
                  <a:pt x="193" y="903"/>
                </a:lnTo>
                <a:lnTo>
                  <a:pt x="187" y="896"/>
                </a:lnTo>
                <a:lnTo>
                  <a:pt x="187" y="889"/>
                </a:lnTo>
                <a:lnTo>
                  <a:pt x="180" y="889"/>
                </a:lnTo>
                <a:lnTo>
                  <a:pt x="173" y="882"/>
                </a:lnTo>
                <a:lnTo>
                  <a:pt x="173" y="875"/>
                </a:lnTo>
                <a:lnTo>
                  <a:pt x="166" y="868"/>
                </a:lnTo>
                <a:lnTo>
                  <a:pt x="166" y="868"/>
                </a:lnTo>
                <a:lnTo>
                  <a:pt x="159" y="861"/>
                </a:lnTo>
                <a:lnTo>
                  <a:pt x="152" y="855"/>
                </a:lnTo>
                <a:lnTo>
                  <a:pt x="152" y="848"/>
                </a:lnTo>
                <a:lnTo>
                  <a:pt x="145" y="848"/>
                </a:lnTo>
                <a:lnTo>
                  <a:pt x="145" y="861"/>
                </a:lnTo>
                <a:lnTo>
                  <a:pt x="145" y="889"/>
                </a:lnTo>
                <a:lnTo>
                  <a:pt x="180" y="917"/>
                </a:lnTo>
                <a:lnTo>
                  <a:pt x="207" y="951"/>
                </a:lnTo>
                <a:lnTo>
                  <a:pt x="228" y="951"/>
                </a:lnTo>
                <a:close/>
                <a:moveTo>
                  <a:pt x="1048" y="951"/>
                </a:moveTo>
                <a:lnTo>
                  <a:pt x="1055" y="944"/>
                </a:lnTo>
                <a:lnTo>
                  <a:pt x="1062" y="937"/>
                </a:lnTo>
                <a:lnTo>
                  <a:pt x="1069" y="937"/>
                </a:lnTo>
                <a:lnTo>
                  <a:pt x="1076" y="937"/>
                </a:lnTo>
                <a:lnTo>
                  <a:pt x="1090" y="944"/>
                </a:lnTo>
                <a:lnTo>
                  <a:pt x="1097" y="944"/>
                </a:lnTo>
                <a:lnTo>
                  <a:pt x="1104" y="944"/>
                </a:lnTo>
                <a:lnTo>
                  <a:pt x="1110" y="937"/>
                </a:lnTo>
                <a:lnTo>
                  <a:pt x="1117" y="930"/>
                </a:lnTo>
                <a:lnTo>
                  <a:pt x="1117" y="923"/>
                </a:lnTo>
                <a:lnTo>
                  <a:pt x="1117" y="917"/>
                </a:lnTo>
                <a:lnTo>
                  <a:pt x="1110" y="910"/>
                </a:lnTo>
                <a:lnTo>
                  <a:pt x="1110" y="903"/>
                </a:lnTo>
                <a:lnTo>
                  <a:pt x="1104" y="896"/>
                </a:lnTo>
                <a:lnTo>
                  <a:pt x="1097" y="896"/>
                </a:lnTo>
                <a:lnTo>
                  <a:pt x="1097" y="889"/>
                </a:lnTo>
                <a:lnTo>
                  <a:pt x="1097" y="882"/>
                </a:lnTo>
                <a:lnTo>
                  <a:pt x="1097" y="875"/>
                </a:lnTo>
                <a:lnTo>
                  <a:pt x="1097" y="868"/>
                </a:lnTo>
                <a:lnTo>
                  <a:pt x="1097" y="861"/>
                </a:lnTo>
                <a:lnTo>
                  <a:pt x="1090" y="855"/>
                </a:lnTo>
                <a:lnTo>
                  <a:pt x="1090" y="848"/>
                </a:lnTo>
                <a:lnTo>
                  <a:pt x="1090" y="848"/>
                </a:lnTo>
                <a:lnTo>
                  <a:pt x="1083" y="841"/>
                </a:lnTo>
                <a:lnTo>
                  <a:pt x="1083" y="834"/>
                </a:lnTo>
                <a:lnTo>
                  <a:pt x="1076" y="827"/>
                </a:lnTo>
                <a:lnTo>
                  <a:pt x="1076" y="820"/>
                </a:lnTo>
                <a:lnTo>
                  <a:pt x="1076" y="813"/>
                </a:lnTo>
                <a:lnTo>
                  <a:pt x="1076" y="806"/>
                </a:lnTo>
                <a:lnTo>
                  <a:pt x="1076" y="806"/>
                </a:lnTo>
                <a:lnTo>
                  <a:pt x="1076" y="799"/>
                </a:lnTo>
                <a:lnTo>
                  <a:pt x="1069" y="793"/>
                </a:lnTo>
                <a:lnTo>
                  <a:pt x="1069" y="786"/>
                </a:lnTo>
                <a:lnTo>
                  <a:pt x="1069" y="779"/>
                </a:lnTo>
                <a:lnTo>
                  <a:pt x="1069" y="772"/>
                </a:lnTo>
                <a:lnTo>
                  <a:pt x="1069" y="765"/>
                </a:lnTo>
                <a:lnTo>
                  <a:pt x="1069" y="758"/>
                </a:lnTo>
                <a:lnTo>
                  <a:pt x="1069" y="751"/>
                </a:lnTo>
                <a:lnTo>
                  <a:pt x="1069" y="751"/>
                </a:lnTo>
                <a:lnTo>
                  <a:pt x="1062" y="744"/>
                </a:lnTo>
                <a:lnTo>
                  <a:pt x="1062" y="737"/>
                </a:lnTo>
                <a:lnTo>
                  <a:pt x="1062" y="731"/>
                </a:lnTo>
                <a:lnTo>
                  <a:pt x="1062" y="724"/>
                </a:lnTo>
                <a:lnTo>
                  <a:pt x="1055" y="717"/>
                </a:lnTo>
                <a:lnTo>
                  <a:pt x="1055" y="710"/>
                </a:lnTo>
                <a:lnTo>
                  <a:pt x="1055" y="703"/>
                </a:lnTo>
                <a:lnTo>
                  <a:pt x="1048" y="703"/>
                </a:lnTo>
                <a:lnTo>
                  <a:pt x="1048" y="696"/>
                </a:lnTo>
                <a:lnTo>
                  <a:pt x="1048" y="689"/>
                </a:lnTo>
                <a:lnTo>
                  <a:pt x="1041" y="682"/>
                </a:lnTo>
                <a:lnTo>
                  <a:pt x="1041" y="675"/>
                </a:lnTo>
                <a:lnTo>
                  <a:pt x="1041" y="669"/>
                </a:lnTo>
                <a:lnTo>
                  <a:pt x="1041" y="662"/>
                </a:lnTo>
                <a:lnTo>
                  <a:pt x="1041" y="655"/>
                </a:lnTo>
                <a:lnTo>
                  <a:pt x="1041" y="655"/>
                </a:lnTo>
                <a:lnTo>
                  <a:pt x="1041" y="648"/>
                </a:lnTo>
                <a:lnTo>
                  <a:pt x="1041" y="641"/>
                </a:lnTo>
                <a:lnTo>
                  <a:pt x="1041" y="634"/>
                </a:lnTo>
                <a:lnTo>
                  <a:pt x="1035" y="627"/>
                </a:lnTo>
                <a:lnTo>
                  <a:pt x="1035" y="620"/>
                </a:lnTo>
                <a:lnTo>
                  <a:pt x="1035" y="613"/>
                </a:lnTo>
                <a:lnTo>
                  <a:pt x="1028" y="607"/>
                </a:lnTo>
                <a:lnTo>
                  <a:pt x="1028" y="607"/>
                </a:lnTo>
                <a:lnTo>
                  <a:pt x="1028" y="600"/>
                </a:lnTo>
                <a:lnTo>
                  <a:pt x="1021" y="593"/>
                </a:lnTo>
                <a:lnTo>
                  <a:pt x="1021" y="586"/>
                </a:lnTo>
                <a:lnTo>
                  <a:pt x="1021" y="579"/>
                </a:lnTo>
                <a:lnTo>
                  <a:pt x="1021" y="572"/>
                </a:lnTo>
                <a:lnTo>
                  <a:pt x="1014" y="565"/>
                </a:lnTo>
                <a:lnTo>
                  <a:pt x="1014" y="558"/>
                </a:lnTo>
                <a:lnTo>
                  <a:pt x="1007" y="558"/>
                </a:lnTo>
                <a:lnTo>
                  <a:pt x="1007" y="551"/>
                </a:lnTo>
                <a:lnTo>
                  <a:pt x="1000" y="545"/>
                </a:lnTo>
                <a:lnTo>
                  <a:pt x="993" y="538"/>
                </a:lnTo>
                <a:lnTo>
                  <a:pt x="993" y="538"/>
                </a:lnTo>
                <a:lnTo>
                  <a:pt x="986" y="531"/>
                </a:lnTo>
                <a:lnTo>
                  <a:pt x="986" y="524"/>
                </a:lnTo>
                <a:lnTo>
                  <a:pt x="986" y="517"/>
                </a:lnTo>
                <a:lnTo>
                  <a:pt x="979" y="510"/>
                </a:lnTo>
                <a:lnTo>
                  <a:pt x="973" y="503"/>
                </a:lnTo>
                <a:lnTo>
                  <a:pt x="979" y="503"/>
                </a:lnTo>
                <a:lnTo>
                  <a:pt x="986" y="510"/>
                </a:lnTo>
                <a:lnTo>
                  <a:pt x="993" y="510"/>
                </a:lnTo>
                <a:lnTo>
                  <a:pt x="1000" y="510"/>
                </a:lnTo>
                <a:lnTo>
                  <a:pt x="1007" y="517"/>
                </a:lnTo>
                <a:lnTo>
                  <a:pt x="1014" y="517"/>
                </a:lnTo>
                <a:lnTo>
                  <a:pt x="1021" y="524"/>
                </a:lnTo>
                <a:lnTo>
                  <a:pt x="1028" y="531"/>
                </a:lnTo>
                <a:lnTo>
                  <a:pt x="1028" y="538"/>
                </a:lnTo>
                <a:lnTo>
                  <a:pt x="1041" y="538"/>
                </a:lnTo>
                <a:lnTo>
                  <a:pt x="1048" y="531"/>
                </a:lnTo>
                <a:lnTo>
                  <a:pt x="1048" y="531"/>
                </a:lnTo>
                <a:lnTo>
                  <a:pt x="1048" y="524"/>
                </a:lnTo>
                <a:lnTo>
                  <a:pt x="1048" y="517"/>
                </a:lnTo>
                <a:lnTo>
                  <a:pt x="1041" y="510"/>
                </a:lnTo>
                <a:lnTo>
                  <a:pt x="1041" y="503"/>
                </a:lnTo>
                <a:lnTo>
                  <a:pt x="1035" y="496"/>
                </a:lnTo>
                <a:lnTo>
                  <a:pt x="1035" y="489"/>
                </a:lnTo>
                <a:lnTo>
                  <a:pt x="1035" y="483"/>
                </a:lnTo>
                <a:lnTo>
                  <a:pt x="1035" y="483"/>
                </a:lnTo>
                <a:lnTo>
                  <a:pt x="1035" y="476"/>
                </a:lnTo>
                <a:lnTo>
                  <a:pt x="1028" y="469"/>
                </a:lnTo>
                <a:lnTo>
                  <a:pt x="1028" y="462"/>
                </a:lnTo>
                <a:lnTo>
                  <a:pt x="1028" y="455"/>
                </a:lnTo>
                <a:lnTo>
                  <a:pt x="1028" y="448"/>
                </a:lnTo>
                <a:lnTo>
                  <a:pt x="1021" y="441"/>
                </a:lnTo>
                <a:lnTo>
                  <a:pt x="1021" y="434"/>
                </a:lnTo>
                <a:lnTo>
                  <a:pt x="1021" y="434"/>
                </a:lnTo>
                <a:lnTo>
                  <a:pt x="1021" y="427"/>
                </a:lnTo>
                <a:lnTo>
                  <a:pt x="1014" y="421"/>
                </a:lnTo>
                <a:lnTo>
                  <a:pt x="1014" y="414"/>
                </a:lnTo>
                <a:lnTo>
                  <a:pt x="1014" y="407"/>
                </a:lnTo>
                <a:lnTo>
                  <a:pt x="1007" y="400"/>
                </a:lnTo>
                <a:lnTo>
                  <a:pt x="1007" y="393"/>
                </a:lnTo>
                <a:lnTo>
                  <a:pt x="1007" y="386"/>
                </a:lnTo>
                <a:lnTo>
                  <a:pt x="1007" y="386"/>
                </a:lnTo>
                <a:lnTo>
                  <a:pt x="1007" y="379"/>
                </a:lnTo>
                <a:lnTo>
                  <a:pt x="1014" y="372"/>
                </a:lnTo>
                <a:lnTo>
                  <a:pt x="1014" y="365"/>
                </a:lnTo>
                <a:lnTo>
                  <a:pt x="1021" y="359"/>
                </a:lnTo>
                <a:lnTo>
                  <a:pt x="1021" y="352"/>
                </a:lnTo>
                <a:lnTo>
                  <a:pt x="1021" y="345"/>
                </a:lnTo>
                <a:lnTo>
                  <a:pt x="1021" y="345"/>
                </a:lnTo>
                <a:lnTo>
                  <a:pt x="1021" y="338"/>
                </a:lnTo>
                <a:lnTo>
                  <a:pt x="1021" y="331"/>
                </a:lnTo>
                <a:lnTo>
                  <a:pt x="1021" y="324"/>
                </a:lnTo>
                <a:lnTo>
                  <a:pt x="1021" y="317"/>
                </a:lnTo>
                <a:lnTo>
                  <a:pt x="1021" y="310"/>
                </a:lnTo>
                <a:lnTo>
                  <a:pt x="1021" y="303"/>
                </a:lnTo>
                <a:lnTo>
                  <a:pt x="1014" y="297"/>
                </a:lnTo>
                <a:lnTo>
                  <a:pt x="1007" y="290"/>
                </a:lnTo>
                <a:lnTo>
                  <a:pt x="1000" y="290"/>
                </a:lnTo>
                <a:lnTo>
                  <a:pt x="1000" y="303"/>
                </a:lnTo>
                <a:lnTo>
                  <a:pt x="1000" y="310"/>
                </a:lnTo>
                <a:lnTo>
                  <a:pt x="1000" y="310"/>
                </a:lnTo>
                <a:lnTo>
                  <a:pt x="1000" y="317"/>
                </a:lnTo>
                <a:lnTo>
                  <a:pt x="1000" y="324"/>
                </a:lnTo>
                <a:lnTo>
                  <a:pt x="993" y="331"/>
                </a:lnTo>
                <a:lnTo>
                  <a:pt x="986" y="331"/>
                </a:lnTo>
                <a:lnTo>
                  <a:pt x="973" y="338"/>
                </a:lnTo>
                <a:lnTo>
                  <a:pt x="966" y="338"/>
                </a:lnTo>
                <a:lnTo>
                  <a:pt x="959" y="345"/>
                </a:lnTo>
                <a:lnTo>
                  <a:pt x="959" y="345"/>
                </a:lnTo>
                <a:lnTo>
                  <a:pt x="952" y="352"/>
                </a:lnTo>
                <a:lnTo>
                  <a:pt x="945" y="359"/>
                </a:lnTo>
                <a:lnTo>
                  <a:pt x="938" y="352"/>
                </a:lnTo>
                <a:lnTo>
                  <a:pt x="945" y="345"/>
                </a:lnTo>
                <a:lnTo>
                  <a:pt x="945" y="338"/>
                </a:lnTo>
                <a:lnTo>
                  <a:pt x="945" y="331"/>
                </a:lnTo>
                <a:lnTo>
                  <a:pt x="945" y="324"/>
                </a:lnTo>
                <a:lnTo>
                  <a:pt x="952" y="317"/>
                </a:lnTo>
                <a:lnTo>
                  <a:pt x="952" y="310"/>
                </a:lnTo>
                <a:lnTo>
                  <a:pt x="952" y="310"/>
                </a:lnTo>
                <a:lnTo>
                  <a:pt x="959" y="303"/>
                </a:lnTo>
                <a:lnTo>
                  <a:pt x="959" y="297"/>
                </a:lnTo>
                <a:lnTo>
                  <a:pt x="966" y="290"/>
                </a:lnTo>
                <a:lnTo>
                  <a:pt x="973" y="283"/>
                </a:lnTo>
                <a:lnTo>
                  <a:pt x="979" y="283"/>
                </a:lnTo>
                <a:lnTo>
                  <a:pt x="979" y="276"/>
                </a:lnTo>
                <a:lnTo>
                  <a:pt x="986" y="269"/>
                </a:lnTo>
                <a:lnTo>
                  <a:pt x="993" y="269"/>
                </a:lnTo>
                <a:lnTo>
                  <a:pt x="1000" y="262"/>
                </a:lnTo>
                <a:lnTo>
                  <a:pt x="1007" y="255"/>
                </a:lnTo>
                <a:lnTo>
                  <a:pt x="1007" y="248"/>
                </a:lnTo>
                <a:lnTo>
                  <a:pt x="1014" y="248"/>
                </a:lnTo>
                <a:lnTo>
                  <a:pt x="1021" y="241"/>
                </a:lnTo>
                <a:lnTo>
                  <a:pt x="1028" y="235"/>
                </a:lnTo>
                <a:lnTo>
                  <a:pt x="1028" y="228"/>
                </a:lnTo>
                <a:lnTo>
                  <a:pt x="1035" y="228"/>
                </a:lnTo>
                <a:lnTo>
                  <a:pt x="1041" y="221"/>
                </a:lnTo>
                <a:lnTo>
                  <a:pt x="1048" y="214"/>
                </a:lnTo>
                <a:lnTo>
                  <a:pt x="1055" y="214"/>
                </a:lnTo>
                <a:lnTo>
                  <a:pt x="1055" y="207"/>
                </a:lnTo>
                <a:lnTo>
                  <a:pt x="1062" y="200"/>
                </a:lnTo>
                <a:lnTo>
                  <a:pt x="1062" y="193"/>
                </a:lnTo>
                <a:lnTo>
                  <a:pt x="1069" y="186"/>
                </a:lnTo>
                <a:lnTo>
                  <a:pt x="1076" y="186"/>
                </a:lnTo>
                <a:lnTo>
                  <a:pt x="1090" y="186"/>
                </a:lnTo>
                <a:lnTo>
                  <a:pt x="1097" y="179"/>
                </a:lnTo>
                <a:lnTo>
                  <a:pt x="1104" y="179"/>
                </a:lnTo>
                <a:lnTo>
                  <a:pt x="1110" y="179"/>
                </a:lnTo>
                <a:lnTo>
                  <a:pt x="1124" y="173"/>
                </a:lnTo>
                <a:lnTo>
                  <a:pt x="1131" y="173"/>
                </a:lnTo>
                <a:lnTo>
                  <a:pt x="1138" y="166"/>
                </a:lnTo>
                <a:lnTo>
                  <a:pt x="1145" y="166"/>
                </a:lnTo>
                <a:lnTo>
                  <a:pt x="1159" y="166"/>
                </a:lnTo>
                <a:lnTo>
                  <a:pt x="1166" y="159"/>
                </a:lnTo>
                <a:lnTo>
                  <a:pt x="1172" y="159"/>
                </a:lnTo>
                <a:lnTo>
                  <a:pt x="1186" y="159"/>
                </a:lnTo>
                <a:lnTo>
                  <a:pt x="1193" y="159"/>
                </a:lnTo>
                <a:lnTo>
                  <a:pt x="1200" y="159"/>
                </a:lnTo>
                <a:lnTo>
                  <a:pt x="1214" y="152"/>
                </a:lnTo>
                <a:lnTo>
                  <a:pt x="1214" y="145"/>
                </a:lnTo>
                <a:lnTo>
                  <a:pt x="1228" y="145"/>
                </a:lnTo>
                <a:lnTo>
                  <a:pt x="1235" y="145"/>
                </a:lnTo>
                <a:lnTo>
                  <a:pt x="1241" y="138"/>
                </a:lnTo>
                <a:lnTo>
                  <a:pt x="1248" y="138"/>
                </a:lnTo>
                <a:lnTo>
                  <a:pt x="1262" y="138"/>
                </a:lnTo>
                <a:lnTo>
                  <a:pt x="1269" y="131"/>
                </a:lnTo>
                <a:lnTo>
                  <a:pt x="1276" y="131"/>
                </a:lnTo>
                <a:lnTo>
                  <a:pt x="1290" y="131"/>
                </a:lnTo>
                <a:lnTo>
                  <a:pt x="1297" y="131"/>
                </a:lnTo>
                <a:lnTo>
                  <a:pt x="1303" y="131"/>
                </a:lnTo>
                <a:lnTo>
                  <a:pt x="1310" y="124"/>
                </a:lnTo>
                <a:lnTo>
                  <a:pt x="1317" y="117"/>
                </a:lnTo>
                <a:lnTo>
                  <a:pt x="1331" y="117"/>
                </a:lnTo>
                <a:lnTo>
                  <a:pt x="1338" y="117"/>
                </a:lnTo>
                <a:lnTo>
                  <a:pt x="1345" y="111"/>
                </a:lnTo>
                <a:lnTo>
                  <a:pt x="1352" y="111"/>
                </a:lnTo>
                <a:lnTo>
                  <a:pt x="1366" y="104"/>
                </a:lnTo>
                <a:lnTo>
                  <a:pt x="1372" y="104"/>
                </a:lnTo>
                <a:lnTo>
                  <a:pt x="1379" y="104"/>
                </a:lnTo>
                <a:lnTo>
                  <a:pt x="1393" y="104"/>
                </a:lnTo>
                <a:lnTo>
                  <a:pt x="1400" y="104"/>
                </a:lnTo>
                <a:lnTo>
                  <a:pt x="1407" y="111"/>
                </a:lnTo>
                <a:lnTo>
                  <a:pt x="1414" y="111"/>
                </a:lnTo>
                <a:lnTo>
                  <a:pt x="1421" y="104"/>
                </a:lnTo>
                <a:lnTo>
                  <a:pt x="1428" y="97"/>
                </a:lnTo>
                <a:lnTo>
                  <a:pt x="1428" y="90"/>
                </a:lnTo>
                <a:lnTo>
                  <a:pt x="1434" y="90"/>
                </a:lnTo>
                <a:lnTo>
                  <a:pt x="1441" y="83"/>
                </a:lnTo>
                <a:lnTo>
                  <a:pt x="1455" y="83"/>
                </a:lnTo>
                <a:lnTo>
                  <a:pt x="1462" y="76"/>
                </a:lnTo>
                <a:lnTo>
                  <a:pt x="1469" y="76"/>
                </a:lnTo>
                <a:lnTo>
                  <a:pt x="1476" y="76"/>
                </a:lnTo>
                <a:lnTo>
                  <a:pt x="1490" y="76"/>
                </a:lnTo>
                <a:lnTo>
                  <a:pt x="1497" y="76"/>
                </a:lnTo>
                <a:lnTo>
                  <a:pt x="1503" y="83"/>
                </a:lnTo>
                <a:lnTo>
                  <a:pt x="1517" y="83"/>
                </a:lnTo>
                <a:lnTo>
                  <a:pt x="1524" y="83"/>
                </a:lnTo>
                <a:lnTo>
                  <a:pt x="1531" y="90"/>
                </a:lnTo>
                <a:lnTo>
                  <a:pt x="1538" y="90"/>
                </a:lnTo>
                <a:lnTo>
                  <a:pt x="1545" y="90"/>
                </a:lnTo>
                <a:lnTo>
                  <a:pt x="1552" y="83"/>
                </a:lnTo>
                <a:lnTo>
                  <a:pt x="1545" y="76"/>
                </a:lnTo>
                <a:lnTo>
                  <a:pt x="1545" y="69"/>
                </a:lnTo>
                <a:lnTo>
                  <a:pt x="1538" y="62"/>
                </a:lnTo>
                <a:lnTo>
                  <a:pt x="1538" y="55"/>
                </a:lnTo>
                <a:lnTo>
                  <a:pt x="1545" y="55"/>
                </a:lnTo>
                <a:lnTo>
                  <a:pt x="1552" y="49"/>
                </a:lnTo>
                <a:lnTo>
                  <a:pt x="1566" y="49"/>
                </a:lnTo>
                <a:lnTo>
                  <a:pt x="1572" y="49"/>
                </a:lnTo>
                <a:lnTo>
                  <a:pt x="1586" y="49"/>
                </a:lnTo>
                <a:lnTo>
                  <a:pt x="1593" y="49"/>
                </a:lnTo>
                <a:lnTo>
                  <a:pt x="1600" y="49"/>
                </a:lnTo>
                <a:lnTo>
                  <a:pt x="1607" y="49"/>
                </a:lnTo>
                <a:lnTo>
                  <a:pt x="1614" y="55"/>
                </a:lnTo>
                <a:lnTo>
                  <a:pt x="1621" y="62"/>
                </a:lnTo>
                <a:lnTo>
                  <a:pt x="1628" y="55"/>
                </a:lnTo>
                <a:lnTo>
                  <a:pt x="1634" y="49"/>
                </a:lnTo>
                <a:lnTo>
                  <a:pt x="1641" y="42"/>
                </a:lnTo>
                <a:lnTo>
                  <a:pt x="1641" y="42"/>
                </a:lnTo>
                <a:lnTo>
                  <a:pt x="1648" y="35"/>
                </a:lnTo>
                <a:lnTo>
                  <a:pt x="1648" y="28"/>
                </a:lnTo>
                <a:lnTo>
                  <a:pt x="1655" y="21"/>
                </a:lnTo>
                <a:lnTo>
                  <a:pt x="1662" y="21"/>
                </a:lnTo>
                <a:lnTo>
                  <a:pt x="1669" y="14"/>
                </a:lnTo>
                <a:lnTo>
                  <a:pt x="1676" y="14"/>
                </a:lnTo>
                <a:lnTo>
                  <a:pt x="1690" y="14"/>
                </a:lnTo>
                <a:lnTo>
                  <a:pt x="1697" y="14"/>
                </a:lnTo>
                <a:lnTo>
                  <a:pt x="1703" y="14"/>
                </a:lnTo>
                <a:lnTo>
                  <a:pt x="1717" y="14"/>
                </a:lnTo>
                <a:lnTo>
                  <a:pt x="1724" y="14"/>
                </a:lnTo>
                <a:lnTo>
                  <a:pt x="1731" y="7"/>
                </a:lnTo>
                <a:lnTo>
                  <a:pt x="1738" y="0"/>
                </a:lnTo>
                <a:lnTo>
                  <a:pt x="1745" y="0"/>
                </a:lnTo>
                <a:lnTo>
                  <a:pt x="1745" y="0"/>
                </a:lnTo>
                <a:lnTo>
                  <a:pt x="1710" y="0"/>
                </a:lnTo>
                <a:lnTo>
                  <a:pt x="1683" y="0"/>
                </a:lnTo>
                <a:lnTo>
                  <a:pt x="1655" y="0"/>
                </a:lnTo>
                <a:lnTo>
                  <a:pt x="1621" y="0"/>
                </a:lnTo>
                <a:lnTo>
                  <a:pt x="1593" y="0"/>
                </a:lnTo>
                <a:lnTo>
                  <a:pt x="1566" y="0"/>
                </a:lnTo>
                <a:lnTo>
                  <a:pt x="1538" y="0"/>
                </a:lnTo>
                <a:lnTo>
                  <a:pt x="1503" y="0"/>
                </a:lnTo>
                <a:lnTo>
                  <a:pt x="1476" y="0"/>
                </a:lnTo>
                <a:lnTo>
                  <a:pt x="1448" y="0"/>
                </a:lnTo>
                <a:lnTo>
                  <a:pt x="1414" y="0"/>
                </a:lnTo>
                <a:lnTo>
                  <a:pt x="1386" y="0"/>
                </a:lnTo>
                <a:lnTo>
                  <a:pt x="1359" y="0"/>
                </a:lnTo>
                <a:lnTo>
                  <a:pt x="1331" y="0"/>
                </a:lnTo>
                <a:lnTo>
                  <a:pt x="1297" y="0"/>
                </a:lnTo>
                <a:lnTo>
                  <a:pt x="1269" y="0"/>
                </a:lnTo>
                <a:lnTo>
                  <a:pt x="1241" y="0"/>
                </a:lnTo>
                <a:lnTo>
                  <a:pt x="1207" y="0"/>
                </a:lnTo>
                <a:lnTo>
                  <a:pt x="1179" y="0"/>
                </a:lnTo>
                <a:lnTo>
                  <a:pt x="1152" y="0"/>
                </a:lnTo>
                <a:lnTo>
                  <a:pt x="1124" y="0"/>
                </a:lnTo>
                <a:lnTo>
                  <a:pt x="1090" y="0"/>
                </a:lnTo>
                <a:lnTo>
                  <a:pt x="1062" y="0"/>
                </a:lnTo>
                <a:lnTo>
                  <a:pt x="1035" y="0"/>
                </a:lnTo>
                <a:lnTo>
                  <a:pt x="1000" y="0"/>
                </a:lnTo>
                <a:lnTo>
                  <a:pt x="973" y="0"/>
                </a:lnTo>
                <a:lnTo>
                  <a:pt x="945" y="0"/>
                </a:lnTo>
                <a:lnTo>
                  <a:pt x="917" y="0"/>
                </a:lnTo>
                <a:lnTo>
                  <a:pt x="883" y="0"/>
                </a:lnTo>
                <a:lnTo>
                  <a:pt x="855" y="0"/>
                </a:lnTo>
                <a:lnTo>
                  <a:pt x="828" y="0"/>
                </a:lnTo>
                <a:lnTo>
                  <a:pt x="793" y="0"/>
                </a:lnTo>
                <a:lnTo>
                  <a:pt x="766" y="0"/>
                </a:lnTo>
                <a:lnTo>
                  <a:pt x="738" y="0"/>
                </a:lnTo>
                <a:lnTo>
                  <a:pt x="711" y="0"/>
                </a:lnTo>
                <a:lnTo>
                  <a:pt x="676" y="0"/>
                </a:lnTo>
                <a:lnTo>
                  <a:pt x="648" y="28"/>
                </a:lnTo>
                <a:lnTo>
                  <a:pt x="621" y="62"/>
                </a:lnTo>
                <a:lnTo>
                  <a:pt x="593" y="90"/>
                </a:lnTo>
                <a:lnTo>
                  <a:pt x="559" y="117"/>
                </a:lnTo>
                <a:lnTo>
                  <a:pt x="531" y="145"/>
                </a:lnTo>
                <a:lnTo>
                  <a:pt x="504" y="145"/>
                </a:lnTo>
                <a:lnTo>
                  <a:pt x="469" y="179"/>
                </a:lnTo>
                <a:lnTo>
                  <a:pt x="442" y="207"/>
                </a:lnTo>
                <a:lnTo>
                  <a:pt x="414" y="235"/>
                </a:lnTo>
                <a:lnTo>
                  <a:pt x="386" y="269"/>
                </a:lnTo>
                <a:lnTo>
                  <a:pt x="352" y="297"/>
                </a:lnTo>
                <a:lnTo>
                  <a:pt x="324" y="324"/>
                </a:lnTo>
                <a:lnTo>
                  <a:pt x="297" y="359"/>
                </a:lnTo>
                <a:lnTo>
                  <a:pt x="262" y="359"/>
                </a:lnTo>
                <a:lnTo>
                  <a:pt x="235" y="386"/>
                </a:lnTo>
                <a:lnTo>
                  <a:pt x="235" y="407"/>
                </a:lnTo>
                <a:lnTo>
                  <a:pt x="249" y="407"/>
                </a:lnTo>
                <a:lnTo>
                  <a:pt x="255" y="414"/>
                </a:lnTo>
                <a:lnTo>
                  <a:pt x="255" y="414"/>
                </a:lnTo>
                <a:lnTo>
                  <a:pt x="255" y="421"/>
                </a:lnTo>
                <a:lnTo>
                  <a:pt x="255" y="427"/>
                </a:lnTo>
                <a:lnTo>
                  <a:pt x="249" y="427"/>
                </a:lnTo>
                <a:lnTo>
                  <a:pt x="242" y="434"/>
                </a:lnTo>
                <a:lnTo>
                  <a:pt x="235" y="441"/>
                </a:lnTo>
                <a:lnTo>
                  <a:pt x="228" y="448"/>
                </a:lnTo>
                <a:lnTo>
                  <a:pt x="221" y="455"/>
                </a:lnTo>
                <a:lnTo>
                  <a:pt x="221" y="455"/>
                </a:lnTo>
                <a:lnTo>
                  <a:pt x="214" y="462"/>
                </a:lnTo>
                <a:lnTo>
                  <a:pt x="207" y="469"/>
                </a:lnTo>
                <a:lnTo>
                  <a:pt x="200" y="462"/>
                </a:lnTo>
                <a:lnTo>
                  <a:pt x="200" y="462"/>
                </a:lnTo>
                <a:lnTo>
                  <a:pt x="193" y="455"/>
                </a:lnTo>
                <a:lnTo>
                  <a:pt x="193" y="448"/>
                </a:lnTo>
                <a:lnTo>
                  <a:pt x="180" y="448"/>
                </a:lnTo>
                <a:lnTo>
                  <a:pt x="145" y="476"/>
                </a:lnTo>
                <a:lnTo>
                  <a:pt x="118" y="503"/>
                </a:lnTo>
                <a:lnTo>
                  <a:pt x="90" y="531"/>
                </a:lnTo>
                <a:lnTo>
                  <a:pt x="56" y="565"/>
                </a:lnTo>
                <a:lnTo>
                  <a:pt x="28" y="565"/>
                </a:lnTo>
                <a:lnTo>
                  <a:pt x="0" y="593"/>
                </a:lnTo>
                <a:lnTo>
                  <a:pt x="0" y="620"/>
                </a:lnTo>
                <a:lnTo>
                  <a:pt x="0" y="655"/>
                </a:lnTo>
                <a:lnTo>
                  <a:pt x="0" y="682"/>
                </a:lnTo>
                <a:lnTo>
                  <a:pt x="21" y="682"/>
                </a:lnTo>
                <a:lnTo>
                  <a:pt x="28" y="682"/>
                </a:lnTo>
                <a:lnTo>
                  <a:pt x="28" y="682"/>
                </a:lnTo>
                <a:lnTo>
                  <a:pt x="28" y="675"/>
                </a:lnTo>
                <a:lnTo>
                  <a:pt x="28" y="675"/>
                </a:lnTo>
                <a:lnTo>
                  <a:pt x="28" y="675"/>
                </a:lnTo>
                <a:lnTo>
                  <a:pt x="28" y="675"/>
                </a:lnTo>
                <a:lnTo>
                  <a:pt x="28" y="682"/>
                </a:lnTo>
                <a:lnTo>
                  <a:pt x="28" y="682"/>
                </a:lnTo>
                <a:lnTo>
                  <a:pt x="28" y="682"/>
                </a:lnTo>
                <a:lnTo>
                  <a:pt x="28" y="682"/>
                </a:lnTo>
                <a:lnTo>
                  <a:pt x="28" y="682"/>
                </a:lnTo>
                <a:lnTo>
                  <a:pt x="28" y="710"/>
                </a:lnTo>
                <a:lnTo>
                  <a:pt x="28" y="744"/>
                </a:lnTo>
                <a:lnTo>
                  <a:pt x="56" y="772"/>
                </a:lnTo>
                <a:lnTo>
                  <a:pt x="90" y="799"/>
                </a:lnTo>
                <a:lnTo>
                  <a:pt x="111" y="799"/>
                </a:lnTo>
                <a:lnTo>
                  <a:pt x="118" y="793"/>
                </a:lnTo>
                <a:lnTo>
                  <a:pt x="118" y="793"/>
                </a:lnTo>
                <a:lnTo>
                  <a:pt x="124" y="786"/>
                </a:lnTo>
                <a:lnTo>
                  <a:pt x="131" y="779"/>
                </a:lnTo>
                <a:lnTo>
                  <a:pt x="131" y="772"/>
                </a:lnTo>
                <a:lnTo>
                  <a:pt x="138" y="772"/>
                </a:lnTo>
                <a:lnTo>
                  <a:pt x="145" y="765"/>
                </a:lnTo>
                <a:lnTo>
                  <a:pt x="152" y="765"/>
                </a:lnTo>
                <a:lnTo>
                  <a:pt x="166" y="765"/>
                </a:lnTo>
                <a:lnTo>
                  <a:pt x="173" y="765"/>
                </a:lnTo>
                <a:lnTo>
                  <a:pt x="187" y="765"/>
                </a:lnTo>
                <a:lnTo>
                  <a:pt x="193" y="765"/>
                </a:lnTo>
                <a:lnTo>
                  <a:pt x="200" y="765"/>
                </a:lnTo>
                <a:lnTo>
                  <a:pt x="207" y="772"/>
                </a:lnTo>
                <a:lnTo>
                  <a:pt x="214" y="772"/>
                </a:lnTo>
                <a:lnTo>
                  <a:pt x="221" y="779"/>
                </a:lnTo>
                <a:lnTo>
                  <a:pt x="221" y="786"/>
                </a:lnTo>
                <a:lnTo>
                  <a:pt x="228" y="793"/>
                </a:lnTo>
                <a:lnTo>
                  <a:pt x="228" y="799"/>
                </a:lnTo>
                <a:lnTo>
                  <a:pt x="235" y="799"/>
                </a:lnTo>
                <a:lnTo>
                  <a:pt x="242" y="799"/>
                </a:lnTo>
                <a:lnTo>
                  <a:pt x="255" y="793"/>
                </a:lnTo>
                <a:lnTo>
                  <a:pt x="262" y="793"/>
                </a:lnTo>
                <a:lnTo>
                  <a:pt x="269" y="799"/>
                </a:lnTo>
                <a:lnTo>
                  <a:pt x="269" y="806"/>
                </a:lnTo>
                <a:lnTo>
                  <a:pt x="262" y="806"/>
                </a:lnTo>
                <a:lnTo>
                  <a:pt x="255" y="813"/>
                </a:lnTo>
                <a:lnTo>
                  <a:pt x="255" y="820"/>
                </a:lnTo>
                <a:lnTo>
                  <a:pt x="249" y="827"/>
                </a:lnTo>
                <a:lnTo>
                  <a:pt x="249" y="827"/>
                </a:lnTo>
                <a:lnTo>
                  <a:pt x="255" y="834"/>
                </a:lnTo>
                <a:lnTo>
                  <a:pt x="262" y="841"/>
                </a:lnTo>
                <a:lnTo>
                  <a:pt x="269" y="841"/>
                </a:lnTo>
                <a:lnTo>
                  <a:pt x="276" y="841"/>
                </a:lnTo>
                <a:lnTo>
                  <a:pt x="283" y="841"/>
                </a:lnTo>
                <a:lnTo>
                  <a:pt x="290" y="834"/>
                </a:lnTo>
                <a:lnTo>
                  <a:pt x="297" y="834"/>
                </a:lnTo>
                <a:lnTo>
                  <a:pt x="304" y="827"/>
                </a:lnTo>
                <a:lnTo>
                  <a:pt x="311" y="820"/>
                </a:lnTo>
                <a:lnTo>
                  <a:pt x="318" y="820"/>
                </a:lnTo>
                <a:lnTo>
                  <a:pt x="324" y="813"/>
                </a:lnTo>
                <a:lnTo>
                  <a:pt x="331" y="813"/>
                </a:lnTo>
                <a:lnTo>
                  <a:pt x="345" y="813"/>
                </a:lnTo>
                <a:lnTo>
                  <a:pt x="352" y="813"/>
                </a:lnTo>
                <a:lnTo>
                  <a:pt x="359" y="813"/>
                </a:lnTo>
                <a:lnTo>
                  <a:pt x="373" y="813"/>
                </a:lnTo>
                <a:lnTo>
                  <a:pt x="380" y="820"/>
                </a:lnTo>
                <a:lnTo>
                  <a:pt x="386" y="820"/>
                </a:lnTo>
                <a:lnTo>
                  <a:pt x="393" y="820"/>
                </a:lnTo>
                <a:lnTo>
                  <a:pt x="400" y="827"/>
                </a:lnTo>
                <a:lnTo>
                  <a:pt x="407" y="834"/>
                </a:lnTo>
                <a:lnTo>
                  <a:pt x="407" y="834"/>
                </a:lnTo>
                <a:lnTo>
                  <a:pt x="400" y="841"/>
                </a:lnTo>
                <a:lnTo>
                  <a:pt x="393" y="848"/>
                </a:lnTo>
                <a:lnTo>
                  <a:pt x="386" y="855"/>
                </a:lnTo>
                <a:lnTo>
                  <a:pt x="386" y="861"/>
                </a:lnTo>
                <a:lnTo>
                  <a:pt x="386" y="861"/>
                </a:lnTo>
                <a:lnTo>
                  <a:pt x="380" y="868"/>
                </a:lnTo>
                <a:lnTo>
                  <a:pt x="380" y="875"/>
                </a:lnTo>
                <a:lnTo>
                  <a:pt x="373" y="882"/>
                </a:lnTo>
                <a:lnTo>
                  <a:pt x="373" y="889"/>
                </a:lnTo>
                <a:lnTo>
                  <a:pt x="380" y="896"/>
                </a:lnTo>
                <a:lnTo>
                  <a:pt x="380" y="896"/>
                </a:lnTo>
                <a:lnTo>
                  <a:pt x="386" y="903"/>
                </a:lnTo>
                <a:lnTo>
                  <a:pt x="393" y="910"/>
                </a:lnTo>
                <a:lnTo>
                  <a:pt x="393" y="917"/>
                </a:lnTo>
                <a:lnTo>
                  <a:pt x="400" y="917"/>
                </a:lnTo>
                <a:lnTo>
                  <a:pt x="407" y="923"/>
                </a:lnTo>
                <a:lnTo>
                  <a:pt x="407" y="930"/>
                </a:lnTo>
                <a:lnTo>
                  <a:pt x="421" y="930"/>
                </a:lnTo>
                <a:lnTo>
                  <a:pt x="428" y="930"/>
                </a:lnTo>
                <a:lnTo>
                  <a:pt x="435" y="930"/>
                </a:lnTo>
                <a:lnTo>
                  <a:pt x="442" y="930"/>
                </a:lnTo>
                <a:lnTo>
                  <a:pt x="449" y="923"/>
                </a:lnTo>
                <a:lnTo>
                  <a:pt x="455" y="917"/>
                </a:lnTo>
                <a:lnTo>
                  <a:pt x="462" y="917"/>
                </a:lnTo>
                <a:lnTo>
                  <a:pt x="469" y="910"/>
                </a:lnTo>
                <a:lnTo>
                  <a:pt x="476" y="903"/>
                </a:lnTo>
                <a:lnTo>
                  <a:pt x="483" y="903"/>
                </a:lnTo>
                <a:lnTo>
                  <a:pt x="490" y="896"/>
                </a:lnTo>
                <a:lnTo>
                  <a:pt x="490" y="896"/>
                </a:lnTo>
                <a:lnTo>
                  <a:pt x="497" y="889"/>
                </a:lnTo>
                <a:lnTo>
                  <a:pt x="504" y="882"/>
                </a:lnTo>
                <a:lnTo>
                  <a:pt x="511" y="882"/>
                </a:lnTo>
                <a:lnTo>
                  <a:pt x="517" y="875"/>
                </a:lnTo>
                <a:lnTo>
                  <a:pt x="524" y="868"/>
                </a:lnTo>
                <a:lnTo>
                  <a:pt x="531" y="868"/>
                </a:lnTo>
                <a:lnTo>
                  <a:pt x="538" y="861"/>
                </a:lnTo>
                <a:lnTo>
                  <a:pt x="545" y="861"/>
                </a:lnTo>
                <a:lnTo>
                  <a:pt x="552" y="855"/>
                </a:lnTo>
                <a:lnTo>
                  <a:pt x="559" y="855"/>
                </a:lnTo>
                <a:lnTo>
                  <a:pt x="566" y="855"/>
                </a:lnTo>
                <a:lnTo>
                  <a:pt x="580" y="848"/>
                </a:lnTo>
                <a:lnTo>
                  <a:pt x="586" y="848"/>
                </a:lnTo>
                <a:lnTo>
                  <a:pt x="593" y="848"/>
                </a:lnTo>
                <a:lnTo>
                  <a:pt x="600" y="841"/>
                </a:lnTo>
                <a:lnTo>
                  <a:pt x="607" y="841"/>
                </a:lnTo>
                <a:lnTo>
                  <a:pt x="614" y="834"/>
                </a:lnTo>
                <a:lnTo>
                  <a:pt x="621" y="834"/>
                </a:lnTo>
                <a:lnTo>
                  <a:pt x="628" y="827"/>
                </a:lnTo>
                <a:lnTo>
                  <a:pt x="642" y="827"/>
                </a:lnTo>
                <a:lnTo>
                  <a:pt x="648" y="820"/>
                </a:lnTo>
                <a:lnTo>
                  <a:pt x="655" y="820"/>
                </a:lnTo>
                <a:lnTo>
                  <a:pt x="655" y="813"/>
                </a:lnTo>
                <a:lnTo>
                  <a:pt x="662" y="806"/>
                </a:lnTo>
                <a:lnTo>
                  <a:pt x="669" y="806"/>
                </a:lnTo>
                <a:lnTo>
                  <a:pt x="669" y="799"/>
                </a:lnTo>
                <a:lnTo>
                  <a:pt x="669" y="793"/>
                </a:lnTo>
                <a:lnTo>
                  <a:pt x="662" y="786"/>
                </a:lnTo>
                <a:lnTo>
                  <a:pt x="662" y="779"/>
                </a:lnTo>
                <a:lnTo>
                  <a:pt x="662" y="772"/>
                </a:lnTo>
                <a:lnTo>
                  <a:pt x="662" y="772"/>
                </a:lnTo>
                <a:lnTo>
                  <a:pt x="662" y="765"/>
                </a:lnTo>
                <a:lnTo>
                  <a:pt x="669" y="758"/>
                </a:lnTo>
                <a:lnTo>
                  <a:pt x="669" y="751"/>
                </a:lnTo>
                <a:lnTo>
                  <a:pt x="669" y="744"/>
                </a:lnTo>
                <a:lnTo>
                  <a:pt x="676" y="737"/>
                </a:lnTo>
                <a:lnTo>
                  <a:pt x="676" y="737"/>
                </a:lnTo>
                <a:lnTo>
                  <a:pt x="676" y="731"/>
                </a:lnTo>
                <a:lnTo>
                  <a:pt x="676" y="724"/>
                </a:lnTo>
                <a:lnTo>
                  <a:pt x="676" y="717"/>
                </a:lnTo>
                <a:lnTo>
                  <a:pt x="676" y="710"/>
                </a:lnTo>
                <a:lnTo>
                  <a:pt x="676" y="703"/>
                </a:lnTo>
                <a:lnTo>
                  <a:pt x="676" y="703"/>
                </a:lnTo>
                <a:lnTo>
                  <a:pt x="683" y="696"/>
                </a:lnTo>
                <a:lnTo>
                  <a:pt x="697" y="689"/>
                </a:lnTo>
                <a:lnTo>
                  <a:pt x="704" y="689"/>
                </a:lnTo>
                <a:lnTo>
                  <a:pt x="711" y="689"/>
                </a:lnTo>
                <a:lnTo>
                  <a:pt x="717" y="696"/>
                </a:lnTo>
                <a:lnTo>
                  <a:pt x="717" y="703"/>
                </a:lnTo>
                <a:lnTo>
                  <a:pt x="724" y="703"/>
                </a:lnTo>
                <a:lnTo>
                  <a:pt x="724" y="710"/>
                </a:lnTo>
                <a:lnTo>
                  <a:pt x="731" y="717"/>
                </a:lnTo>
                <a:lnTo>
                  <a:pt x="731" y="724"/>
                </a:lnTo>
                <a:lnTo>
                  <a:pt x="738" y="731"/>
                </a:lnTo>
                <a:lnTo>
                  <a:pt x="745" y="731"/>
                </a:lnTo>
                <a:lnTo>
                  <a:pt x="752" y="737"/>
                </a:lnTo>
                <a:lnTo>
                  <a:pt x="752" y="744"/>
                </a:lnTo>
                <a:lnTo>
                  <a:pt x="752" y="751"/>
                </a:lnTo>
                <a:lnTo>
                  <a:pt x="752" y="751"/>
                </a:lnTo>
                <a:lnTo>
                  <a:pt x="759" y="758"/>
                </a:lnTo>
                <a:lnTo>
                  <a:pt x="759" y="765"/>
                </a:lnTo>
                <a:lnTo>
                  <a:pt x="759" y="772"/>
                </a:lnTo>
                <a:lnTo>
                  <a:pt x="759" y="779"/>
                </a:lnTo>
                <a:lnTo>
                  <a:pt x="766" y="786"/>
                </a:lnTo>
                <a:lnTo>
                  <a:pt x="773" y="786"/>
                </a:lnTo>
                <a:lnTo>
                  <a:pt x="786" y="786"/>
                </a:lnTo>
                <a:lnTo>
                  <a:pt x="793" y="786"/>
                </a:lnTo>
                <a:lnTo>
                  <a:pt x="800" y="786"/>
                </a:lnTo>
                <a:lnTo>
                  <a:pt x="807" y="793"/>
                </a:lnTo>
                <a:lnTo>
                  <a:pt x="807" y="799"/>
                </a:lnTo>
                <a:lnTo>
                  <a:pt x="814" y="806"/>
                </a:lnTo>
                <a:lnTo>
                  <a:pt x="821" y="806"/>
                </a:lnTo>
                <a:lnTo>
                  <a:pt x="828" y="813"/>
                </a:lnTo>
                <a:lnTo>
                  <a:pt x="835" y="813"/>
                </a:lnTo>
                <a:lnTo>
                  <a:pt x="842" y="820"/>
                </a:lnTo>
                <a:lnTo>
                  <a:pt x="848" y="827"/>
                </a:lnTo>
                <a:lnTo>
                  <a:pt x="848" y="827"/>
                </a:lnTo>
                <a:lnTo>
                  <a:pt x="855" y="834"/>
                </a:lnTo>
                <a:lnTo>
                  <a:pt x="862" y="841"/>
                </a:lnTo>
                <a:lnTo>
                  <a:pt x="869" y="841"/>
                </a:lnTo>
                <a:lnTo>
                  <a:pt x="876" y="848"/>
                </a:lnTo>
                <a:lnTo>
                  <a:pt x="883" y="848"/>
                </a:lnTo>
                <a:lnTo>
                  <a:pt x="890" y="855"/>
                </a:lnTo>
                <a:lnTo>
                  <a:pt x="897" y="861"/>
                </a:lnTo>
                <a:lnTo>
                  <a:pt x="897" y="861"/>
                </a:lnTo>
                <a:lnTo>
                  <a:pt x="904" y="868"/>
                </a:lnTo>
                <a:lnTo>
                  <a:pt x="910" y="875"/>
                </a:lnTo>
                <a:lnTo>
                  <a:pt x="917" y="875"/>
                </a:lnTo>
                <a:lnTo>
                  <a:pt x="924" y="882"/>
                </a:lnTo>
                <a:lnTo>
                  <a:pt x="931" y="889"/>
                </a:lnTo>
                <a:lnTo>
                  <a:pt x="938" y="889"/>
                </a:lnTo>
                <a:lnTo>
                  <a:pt x="938" y="896"/>
                </a:lnTo>
                <a:lnTo>
                  <a:pt x="945" y="896"/>
                </a:lnTo>
                <a:lnTo>
                  <a:pt x="952" y="903"/>
                </a:lnTo>
                <a:lnTo>
                  <a:pt x="959" y="910"/>
                </a:lnTo>
                <a:lnTo>
                  <a:pt x="966" y="910"/>
                </a:lnTo>
                <a:lnTo>
                  <a:pt x="973" y="917"/>
                </a:lnTo>
                <a:lnTo>
                  <a:pt x="979" y="923"/>
                </a:lnTo>
                <a:lnTo>
                  <a:pt x="986" y="923"/>
                </a:lnTo>
                <a:lnTo>
                  <a:pt x="986" y="930"/>
                </a:lnTo>
                <a:lnTo>
                  <a:pt x="993" y="937"/>
                </a:lnTo>
                <a:lnTo>
                  <a:pt x="1000" y="937"/>
                </a:lnTo>
                <a:lnTo>
                  <a:pt x="1007" y="944"/>
                </a:lnTo>
                <a:lnTo>
                  <a:pt x="1014" y="944"/>
                </a:lnTo>
                <a:lnTo>
                  <a:pt x="1021" y="951"/>
                </a:lnTo>
                <a:lnTo>
                  <a:pt x="1028" y="958"/>
                </a:lnTo>
                <a:lnTo>
                  <a:pt x="1035" y="958"/>
                </a:lnTo>
                <a:lnTo>
                  <a:pt x="1041" y="958"/>
                </a:lnTo>
                <a:lnTo>
                  <a:pt x="1041" y="958"/>
                </a:lnTo>
                <a:lnTo>
                  <a:pt x="1048" y="951"/>
                </a:lnTo>
                <a:close/>
                <a:moveTo>
                  <a:pt x="1221" y="951"/>
                </a:moveTo>
                <a:lnTo>
                  <a:pt x="1221" y="944"/>
                </a:lnTo>
                <a:lnTo>
                  <a:pt x="1221" y="937"/>
                </a:lnTo>
                <a:lnTo>
                  <a:pt x="1221" y="930"/>
                </a:lnTo>
                <a:lnTo>
                  <a:pt x="1221" y="923"/>
                </a:lnTo>
                <a:lnTo>
                  <a:pt x="1221" y="917"/>
                </a:lnTo>
                <a:lnTo>
                  <a:pt x="1214" y="917"/>
                </a:lnTo>
                <a:lnTo>
                  <a:pt x="1207" y="917"/>
                </a:lnTo>
                <a:lnTo>
                  <a:pt x="1200" y="923"/>
                </a:lnTo>
                <a:lnTo>
                  <a:pt x="1200" y="930"/>
                </a:lnTo>
                <a:lnTo>
                  <a:pt x="1200" y="930"/>
                </a:lnTo>
                <a:lnTo>
                  <a:pt x="1200" y="937"/>
                </a:lnTo>
                <a:lnTo>
                  <a:pt x="1200" y="944"/>
                </a:lnTo>
                <a:lnTo>
                  <a:pt x="1200" y="951"/>
                </a:lnTo>
                <a:lnTo>
                  <a:pt x="1207" y="958"/>
                </a:lnTo>
                <a:lnTo>
                  <a:pt x="1207" y="965"/>
                </a:lnTo>
                <a:lnTo>
                  <a:pt x="1207" y="972"/>
                </a:lnTo>
                <a:lnTo>
                  <a:pt x="1214" y="972"/>
                </a:lnTo>
                <a:lnTo>
                  <a:pt x="1214" y="965"/>
                </a:lnTo>
                <a:lnTo>
                  <a:pt x="1214" y="958"/>
                </a:lnTo>
                <a:lnTo>
                  <a:pt x="1221" y="951"/>
                </a:lnTo>
                <a:close/>
                <a:moveTo>
                  <a:pt x="138" y="827"/>
                </a:moveTo>
                <a:lnTo>
                  <a:pt x="118" y="806"/>
                </a:lnTo>
                <a:lnTo>
                  <a:pt x="118" y="827"/>
                </a:lnTo>
                <a:lnTo>
                  <a:pt x="138" y="827"/>
                </a:lnTo>
                <a:close/>
                <a:moveTo>
                  <a:pt x="1152" y="827"/>
                </a:moveTo>
                <a:lnTo>
                  <a:pt x="1152" y="827"/>
                </a:lnTo>
                <a:lnTo>
                  <a:pt x="1152" y="820"/>
                </a:lnTo>
                <a:lnTo>
                  <a:pt x="1159" y="813"/>
                </a:lnTo>
                <a:lnTo>
                  <a:pt x="1159" y="806"/>
                </a:lnTo>
                <a:lnTo>
                  <a:pt x="1159" y="799"/>
                </a:lnTo>
                <a:lnTo>
                  <a:pt x="1159" y="793"/>
                </a:lnTo>
                <a:lnTo>
                  <a:pt x="1159" y="786"/>
                </a:lnTo>
                <a:lnTo>
                  <a:pt x="1159" y="779"/>
                </a:lnTo>
                <a:lnTo>
                  <a:pt x="1159" y="772"/>
                </a:lnTo>
                <a:lnTo>
                  <a:pt x="1159" y="772"/>
                </a:lnTo>
                <a:lnTo>
                  <a:pt x="1166" y="765"/>
                </a:lnTo>
                <a:lnTo>
                  <a:pt x="1166" y="758"/>
                </a:lnTo>
                <a:lnTo>
                  <a:pt x="1159" y="751"/>
                </a:lnTo>
                <a:lnTo>
                  <a:pt x="1159" y="744"/>
                </a:lnTo>
                <a:lnTo>
                  <a:pt x="1159" y="737"/>
                </a:lnTo>
                <a:lnTo>
                  <a:pt x="1152" y="731"/>
                </a:lnTo>
                <a:lnTo>
                  <a:pt x="1152" y="737"/>
                </a:lnTo>
                <a:lnTo>
                  <a:pt x="1145" y="744"/>
                </a:lnTo>
                <a:lnTo>
                  <a:pt x="1145" y="751"/>
                </a:lnTo>
                <a:lnTo>
                  <a:pt x="1145" y="758"/>
                </a:lnTo>
                <a:lnTo>
                  <a:pt x="1145" y="765"/>
                </a:lnTo>
                <a:lnTo>
                  <a:pt x="1145" y="772"/>
                </a:lnTo>
                <a:lnTo>
                  <a:pt x="1145" y="779"/>
                </a:lnTo>
                <a:lnTo>
                  <a:pt x="1138" y="779"/>
                </a:lnTo>
                <a:lnTo>
                  <a:pt x="1138" y="786"/>
                </a:lnTo>
                <a:lnTo>
                  <a:pt x="1145" y="793"/>
                </a:lnTo>
                <a:lnTo>
                  <a:pt x="1145" y="799"/>
                </a:lnTo>
                <a:lnTo>
                  <a:pt x="1145" y="806"/>
                </a:lnTo>
                <a:lnTo>
                  <a:pt x="1145" y="813"/>
                </a:lnTo>
                <a:lnTo>
                  <a:pt x="1145" y="820"/>
                </a:lnTo>
                <a:lnTo>
                  <a:pt x="1152" y="820"/>
                </a:lnTo>
                <a:lnTo>
                  <a:pt x="1152" y="827"/>
                </a:lnTo>
                <a:close/>
                <a:moveTo>
                  <a:pt x="2152" y="827"/>
                </a:moveTo>
                <a:lnTo>
                  <a:pt x="2158" y="827"/>
                </a:lnTo>
                <a:lnTo>
                  <a:pt x="2165" y="820"/>
                </a:lnTo>
                <a:lnTo>
                  <a:pt x="2165" y="813"/>
                </a:lnTo>
                <a:lnTo>
                  <a:pt x="2172" y="813"/>
                </a:lnTo>
                <a:lnTo>
                  <a:pt x="2172" y="806"/>
                </a:lnTo>
                <a:lnTo>
                  <a:pt x="2179" y="799"/>
                </a:lnTo>
                <a:lnTo>
                  <a:pt x="2179" y="793"/>
                </a:lnTo>
                <a:lnTo>
                  <a:pt x="2179" y="793"/>
                </a:lnTo>
                <a:lnTo>
                  <a:pt x="2179" y="786"/>
                </a:lnTo>
                <a:lnTo>
                  <a:pt x="2179" y="779"/>
                </a:lnTo>
                <a:lnTo>
                  <a:pt x="2179" y="772"/>
                </a:lnTo>
                <a:lnTo>
                  <a:pt x="2172" y="772"/>
                </a:lnTo>
                <a:lnTo>
                  <a:pt x="2172" y="765"/>
                </a:lnTo>
                <a:lnTo>
                  <a:pt x="2179" y="758"/>
                </a:lnTo>
                <a:lnTo>
                  <a:pt x="2179" y="751"/>
                </a:lnTo>
                <a:lnTo>
                  <a:pt x="2179" y="751"/>
                </a:lnTo>
                <a:lnTo>
                  <a:pt x="2186" y="744"/>
                </a:lnTo>
                <a:lnTo>
                  <a:pt x="2186" y="744"/>
                </a:lnTo>
                <a:lnTo>
                  <a:pt x="2186" y="751"/>
                </a:lnTo>
                <a:lnTo>
                  <a:pt x="2186" y="758"/>
                </a:lnTo>
                <a:lnTo>
                  <a:pt x="2193" y="765"/>
                </a:lnTo>
                <a:lnTo>
                  <a:pt x="2193" y="765"/>
                </a:lnTo>
                <a:lnTo>
                  <a:pt x="2193" y="772"/>
                </a:lnTo>
                <a:lnTo>
                  <a:pt x="2193" y="779"/>
                </a:lnTo>
                <a:lnTo>
                  <a:pt x="2193" y="779"/>
                </a:lnTo>
                <a:lnTo>
                  <a:pt x="2193" y="786"/>
                </a:lnTo>
                <a:lnTo>
                  <a:pt x="2193" y="793"/>
                </a:lnTo>
                <a:lnTo>
                  <a:pt x="2193" y="799"/>
                </a:lnTo>
                <a:lnTo>
                  <a:pt x="2193" y="806"/>
                </a:lnTo>
                <a:lnTo>
                  <a:pt x="2193" y="806"/>
                </a:lnTo>
                <a:lnTo>
                  <a:pt x="2193" y="813"/>
                </a:lnTo>
                <a:lnTo>
                  <a:pt x="2193" y="820"/>
                </a:lnTo>
                <a:lnTo>
                  <a:pt x="2186" y="827"/>
                </a:lnTo>
                <a:lnTo>
                  <a:pt x="2186" y="834"/>
                </a:lnTo>
                <a:lnTo>
                  <a:pt x="2179" y="834"/>
                </a:lnTo>
                <a:lnTo>
                  <a:pt x="2165" y="834"/>
                </a:lnTo>
                <a:lnTo>
                  <a:pt x="2158" y="834"/>
                </a:lnTo>
                <a:lnTo>
                  <a:pt x="2152" y="827"/>
                </a:lnTo>
                <a:close/>
                <a:moveTo>
                  <a:pt x="193" y="799"/>
                </a:moveTo>
                <a:lnTo>
                  <a:pt x="193" y="793"/>
                </a:lnTo>
                <a:lnTo>
                  <a:pt x="187" y="779"/>
                </a:lnTo>
                <a:lnTo>
                  <a:pt x="180" y="779"/>
                </a:lnTo>
                <a:lnTo>
                  <a:pt x="180" y="772"/>
                </a:lnTo>
                <a:lnTo>
                  <a:pt x="173" y="779"/>
                </a:lnTo>
                <a:lnTo>
                  <a:pt x="166" y="779"/>
                </a:lnTo>
                <a:lnTo>
                  <a:pt x="159" y="793"/>
                </a:lnTo>
                <a:lnTo>
                  <a:pt x="159" y="799"/>
                </a:lnTo>
                <a:lnTo>
                  <a:pt x="166" y="806"/>
                </a:lnTo>
                <a:lnTo>
                  <a:pt x="166" y="813"/>
                </a:lnTo>
                <a:lnTo>
                  <a:pt x="173" y="813"/>
                </a:lnTo>
                <a:lnTo>
                  <a:pt x="180" y="813"/>
                </a:lnTo>
                <a:lnTo>
                  <a:pt x="187" y="806"/>
                </a:lnTo>
                <a:lnTo>
                  <a:pt x="193" y="799"/>
                </a:lnTo>
                <a:close/>
                <a:moveTo>
                  <a:pt x="469" y="772"/>
                </a:moveTo>
                <a:lnTo>
                  <a:pt x="469" y="772"/>
                </a:lnTo>
                <a:lnTo>
                  <a:pt x="476" y="765"/>
                </a:lnTo>
                <a:lnTo>
                  <a:pt x="476" y="765"/>
                </a:lnTo>
                <a:lnTo>
                  <a:pt x="483" y="765"/>
                </a:lnTo>
                <a:lnTo>
                  <a:pt x="490" y="772"/>
                </a:lnTo>
                <a:lnTo>
                  <a:pt x="490" y="772"/>
                </a:lnTo>
                <a:lnTo>
                  <a:pt x="490" y="772"/>
                </a:lnTo>
                <a:lnTo>
                  <a:pt x="483" y="779"/>
                </a:lnTo>
                <a:lnTo>
                  <a:pt x="476" y="779"/>
                </a:lnTo>
                <a:lnTo>
                  <a:pt x="476" y="779"/>
                </a:lnTo>
                <a:lnTo>
                  <a:pt x="469" y="779"/>
                </a:lnTo>
                <a:lnTo>
                  <a:pt x="469" y="779"/>
                </a:lnTo>
                <a:lnTo>
                  <a:pt x="469" y="772"/>
                </a:lnTo>
                <a:lnTo>
                  <a:pt x="469" y="772"/>
                </a:lnTo>
                <a:close/>
                <a:moveTo>
                  <a:pt x="573" y="772"/>
                </a:moveTo>
                <a:lnTo>
                  <a:pt x="573" y="765"/>
                </a:lnTo>
                <a:lnTo>
                  <a:pt x="580" y="758"/>
                </a:lnTo>
                <a:lnTo>
                  <a:pt x="586" y="758"/>
                </a:lnTo>
                <a:lnTo>
                  <a:pt x="593" y="758"/>
                </a:lnTo>
                <a:lnTo>
                  <a:pt x="600" y="758"/>
                </a:lnTo>
                <a:lnTo>
                  <a:pt x="607" y="765"/>
                </a:lnTo>
                <a:lnTo>
                  <a:pt x="607" y="772"/>
                </a:lnTo>
                <a:lnTo>
                  <a:pt x="607" y="779"/>
                </a:lnTo>
                <a:lnTo>
                  <a:pt x="600" y="779"/>
                </a:lnTo>
                <a:lnTo>
                  <a:pt x="593" y="786"/>
                </a:lnTo>
                <a:lnTo>
                  <a:pt x="586" y="786"/>
                </a:lnTo>
                <a:lnTo>
                  <a:pt x="580" y="786"/>
                </a:lnTo>
                <a:lnTo>
                  <a:pt x="573" y="779"/>
                </a:lnTo>
                <a:lnTo>
                  <a:pt x="573" y="772"/>
                </a:lnTo>
                <a:close/>
                <a:moveTo>
                  <a:pt x="1179" y="710"/>
                </a:moveTo>
                <a:lnTo>
                  <a:pt x="1179" y="703"/>
                </a:lnTo>
                <a:lnTo>
                  <a:pt x="1186" y="696"/>
                </a:lnTo>
                <a:lnTo>
                  <a:pt x="1186" y="689"/>
                </a:lnTo>
                <a:lnTo>
                  <a:pt x="1186" y="682"/>
                </a:lnTo>
                <a:lnTo>
                  <a:pt x="1186" y="675"/>
                </a:lnTo>
                <a:lnTo>
                  <a:pt x="1186" y="669"/>
                </a:lnTo>
                <a:lnTo>
                  <a:pt x="1193" y="662"/>
                </a:lnTo>
                <a:lnTo>
                  <a:pt x="1193" y="655"/>
                </a:lnTo>
                <a:lnTo>
                  <a:pt x="1186" y="648"/>
                </a:lnTo>
                <a:lnTo>
                  <a:pt x="1186" y="634"/>
                </a:lnTo>
                <a:lnTo>
                  <a:pt x="1186" y="627"/>
                </a:lnTo>
                <a:lnTo>
                  <a:pt x="1193" y="620"/>
                </a:lnTo>
                <a:lnTo>
                  <a:pt x="1200" y="620"/>
                </a:lnTo>
                <a:lnTo>
                  <a:pt x="1207" y="613"/>
                </a:lnTo>
                <a:lnTo>
                  <a:pt x="1214" y="607"/>
                </a:lnTo>
                <a:lnTo>
                  <a:pt x="1221" y="600"/>
                </a:lnTo>
                <a:lnTo>
                  <a:pt x="1221" y="593"/>
                </a:lnTo>
                <a:lnTo>
                  <a:pt x="1221" y="586"/>
                </a:lnTo>
                <a:lnTo>
                  <a:pt x="1221" y="579"/>
                </a:lnTo>
                <a:lnTo>
                  <a:pt x="1221" y="572"/>
                </a:lnTo>
                <a:lnTo>
                  <a:pt x="1214" y="565"/>
                </a:lnTo>
                <a:lnTo>
                  <a:pt x="1214" y="551"/>
                </a:lnTo>
                <a:lnTo>
                  <a:pt x="1214" y="545"/>
                </a:lnTo>
                <a:lnTo>
                  <a:pt x="1214" y="538"/>
                </a:lnTo>
                <a:lnTo>
                  <a:pt x="1207" y="538"/>
                </a:lnTo>
                <a:lnTo>
                  <a:pt x="1207" y="538"/>
                </a:lnTo>
                <a:lnTo>
                  <a:pt x="1207" y="545"/>
                </a:lnTo>
                <a:lnTo>
                  <a:pt x="1207" y="558"/>
                </a:lnTo>
                <a:lnTo>
                  <a:pt x="1200" y="565"/>
                </a:lnTo>
                <a:lnTo>
                  <a:pt x="1193" y="572"/>
                </a:lnTo>
                <a:lnTo>
                  <a:pt x="1186" y="579"/>
                </a:lnTo>
                <a:lnTo>
                  <a:pt x="1179" y="586"/>
                </a:lnTo>
                <a:lnTo>
                  <a:pt x="1179" y="586"/>
                </a:lnTo>
                <a:lnTo>
                  <a:pt x="1172" y="600"/>
                </a:lnTo>
                <a:lnTo>
                  <a:pt x="1172" y="607"/>
                </a:lnTo>
                <a:lnTo>
                  <a:pt x="1172" y="613"/>
                </a:lnTo>
                <a:lnTo>
                  <a:pt x="1172" y="620"/>
                </a:lnTo>
                <a:lnTo>
                  <a:pt x="1172" y="627"/>
                </a:lnTo>
                <a:lnTo>
                  <a:pt x="1172" y="634"/>
                </a:lnTo>
                <a:lnTo>
                  <a:pt x="1172" y="641"/>
                </a:lnTo>
                <a:lnTo>
                  <a:pt x="1172" y="648"/>
                </a:lnTo>
                <a:lnTo>
                  <a:pt x="1172" y="655"/>
                </a:lnTo>
                <a:lnTo>
                  <a:pt x="1172" y="662"/>
                </a:lnTo>
                <a:lnTo>
                  <a:pt x="1172" y="669"/>
                </a:lnTo>
                <a:lnTo>
                  <a:pt x="1172" y="675"/>
                </a:lnTo>
                <a:lnTo>
                  <a:pt x="1172" y="682"/>
                </a:lnTo>
                <a:lnTo>
                  <a:pt x="1172" y="689"/>
                </a:lnTo>
                <a:lnTo>
                  <a:pt x="1172" y="696"/>
                </a:lnTo>
                <a:lnTo>
                  <a:pt x="1172" y="703"/>
                </a:lnTo>
                <a:lnTo>
                  <a:pt x="1179" y="710"/>
                </a:lnTo>
                <a:close/>
                <a:moveTo>
                  <a:pt x="759" y="682"/>
                </a:moveTo>
                <a:lnTo>
                  <a:pt x="752" y="675"/>
                </a:lnTo>
                <a:lnTo>
                  <a:pt x="745" y="669"/>
                </a:lnTo>
                <a:lnTo>
                  <a:pt x="745" y="662"/>
                </a:lnTo>
                <a:lnTo>
                  <a:pt x="752" y="648"/>
                </a:lnTo>
                <a:lnTo>
                  <a:pt x="759" y="641"/>
                </a:lnTo>
                <a:lnTo>
                  <a:pt x="766" y="627"/>
                </a:lnTo>
                <a:lnTo>
                  <a:pt x="766" y="627"/>
                </a:lnTo>
                <a:lnTo>
                  <a:pt x="773" y="634"/>
                </a:lnTo>
                <a:lnTo>
                  <a:pt x="773" y="641"/>
                </a:lnTo>
                <a:lnTo>
                  <a:pt x="773" y="655"/>
                </a:lnTo>
                <a:lnTo>
                  <a:pt x="773" y="662"/>
                </a:lnTo>
                <a:lnTo>
                  <a:pt x="779" y="669"/>
                </a:lnTo>
                <a:lnTo>
                  <a:pt x="779" y="675"/>
                </a:lnTo>
                <a:lnTo>
                  <a:pt x="779" y="689"/>
                </a:lnTo>
                <a:lnTo>
                  <a:pt x="773" y="696"/>
                </a:lnTo>
                <a:lnTo>
                  <a:pt x="773" y="703"/>
                </a:lnTo>
                <a:lnTo>
                  <a:pt x="766" y="710"/>
                </a:lnTo>
                <a:lnTo>
                  <a:pt x="766" y="703"/>
                </a:lnTo>
                <a:lnTo>
                  <a:pt x="759" y="696"/>
                </a:lnTo>
                <a:lnTo>
                  <a:pt x="759" y="682"/>
                </a:lnTo>
                <a:close/>
                <a:moveTo>
                  <a:pt x="821" y="682"/>
                </a:moveTo>
                <a:lnTo>
                  <a:pt x="821" y="675"/>
                </a:lnTo>
                <a:lnTo>
                  <a:pt x="828" y="675"/>
                </a:lnTo>
                <a:lnTo>
                  <a:pt x="828" y="675"/>
                </a:lnTo>
                <a:lnTo>
                  <a:pt x="828" y="675"/>
                </a:lnTo>
                <a:lnTo>
                  <a:pt x="828" y="675"/>
                </a:lnTo>
                <a:lnTo>
                  <a:pt x="828" y="675"/>
                </a:lnTo>
                <a:lnTo>
                  <a:pt x="828" y="682"/>
                </a:lnTo>
                <a:lnTo>
                  <a:pt x="828" y="682"/>
                </a:lnTo>
                <a:lnTo>
                  <a:pt x="828" y="682"/>
                </a:lnTo>
                <a:lnTo>
                  <a:pt x="828" y="689"/>
                </a:lnTo>
                <a:lnTo>
                  <a:pt x="828" y="689"/>
                </a:lnTo>
                <a:lnTo>
                  <a:pt x="828" y="689"/>
                </a:lnTo>
                <a:lnTo>
                  <a:pt x="821" y="682"/>
                </a:lnTo>
                <a:lnTo>
                  <a:pt x="821" y="682"/>
                </a:lnTo>
                <a:close/>
                <a:moveTo>
                  <a:pt x="855" y="620"/>
                </a:moveTo>
                <a:lnTo>
                  <a:pt x="848" y="620"/>
                </a:lnTo>
                <a:lnTo>
                  <a:pt x="848" y="613"/>
                </a:lnTo>
                <a:lnTo>
                  <a:pt x="848" y="607"/>
                </a:lnTo>
                <a:lnTo>
                  <a:pt x="848" y="600"/>
                </a:lnTo>
                <a:lnTo>
                  <a:pt x="848" y="593"/>
                </a:lnTo>
                <a:lnTo>
                  <a:pt x="848" y="586"/>
                </a:lnTo>
                <a:lnTo>
                  <a:pt x="848" y="579"/>
                </a:lnTo>
                <a:lnTo>
                  <a:pt x="848" y="579"/>
                </a:lnTo>
                <a:lnTo>
                  <a:pt x="855" y="572"/>
                </a:lnTo>
                <a:lnTo>
                  <a:pt x="862" y="565"/>
                </a:lnTo>
                <a:lnTo>
                  <a:pt x="869" y="565"/>
                </a:lnTo>
                <a:lnTo>
                  <a:pt x="876" y="565"/>
                </a:lnTo>
                <a:lnTo>
                  <a:pt x="883" y="558"/>
                </a:lnTo>
                <a:lnTo>
                  <a:pt x="883" y="551"/>
                </a:lnTo>
                <a:lnTo>
                  <a:pt x="883" y="551"/>
                </a:lnTo>
                <a:lnTo>
                  <a:pt x="883" y="545"/>
                </a:lnTo>
                <a:lnTo>
                  <a:pt x="883" y="538"/>
                </a:lnTo>
                <a:lnTo>
                  <a:pt x="890" y="538"/>
                </a:lnTo>
                <a:lnTo>
                  <a:pt x="890" y="545"/>
                </a:lnTo>
                <a:lnTo>
                  <a:pt x="890" y="551"/>
                </a:lnTo>
                <a:lnTo>
                  <a:pt x="890" y="558"/>
                </a:lnTo>
                <a:lnTo>
                  <a:pt x="890" y="558"/>
                </a:lnTo>
                <a:lnTo>
                  <a:pt x="890" y="565"/>
                </a:lnTo>
                <a:lnTo>
                  <a:pt x="883" y="572"/>
                </a:lnTo>
                <a:lnTo>
                  <a:pt x="883" y="579"/>
                </a:lnTo>
                <a:lnTo>
                  <a:pt x="883" y="586"/>
                </a:lnTo>
                <a:lnTo>
                  <a:pt x="883" y="593"/>
                </a:lnTo>
                <a:lnTo>
                  <a:pt x="883" y="593"/>
                </a:lnTo>
                <a:lnTo>
                  <a:pt x="883" y="600"/>
                </a:lnTo>
                <a:lnTo>
                  <a:pt x="876" y="607"/>
                </a:lnTo>
                <a:lnTo>
                  <a:pt x="869" y="607"/>
                </a:lnTo>
                <a:lnTo>
                  <a:pt x="862" y="613"/>
                </a:lnTo>
                <a:lnTo>
                  <a:pt x="862" y="620"/>
                </a:lnTo>
                <a:lnTo>
                  <a:pt x="855" y="627"/>
                </a:lnTo>
                <a:lnTo>
                  <a:pt x="855" y="634"/>
                </a:lnTo>
                <a:lnTo>
                  <a:pt x="855" y="634"/>
                </a:lnTo>
                <a:lnTo>
                  <a:pt x="855" y="634"/>
                </a:lnTo>
                <a:lnTo>
                  <a:pt x="855" y="620"/>
                </a:lnTo>
                <a:close/>
                <a:moveTo>
                  <a:pt x="1800" y="593"/>
                </a:moveTo>
                <a:lnTo>
                  <a:pt x="1800" y="593"/>
                </a:lnTo>
                <a:lnTo>
                  <a:pt x="1800" y="593"/>
                </a:lnTo>
                <a:lnTo>
                  <a:pt x="1793" y="593"/>
                </a:lnTo>
                <a:lnTo>
                  <a:pt x="1793" y="593"/>
                </a:lnTo>
                <a:lnTo>
                  <a:pt x="1786" y="593"/>
                </a:lnTo>
                <a:lnTo>
                  <a:pt x="1786" y="593"/>
                </a:lnTo>
                <a:lnTo>
                  <a:pt x="1779" y="593"/>
                </a:lnTo>
                <a:lnTo>
                  <a:pt x="1779" y="593"/>
                </a:lnTo>
                <a:lnTo>
                  <a:pt x="1786" y="593"/>
                </a:lnTo>
                <a:lnTo>
                  <a:pt x="1786" y="593"/>
                </a:lnTo>
                <a:lnTo>
                  <a:pt x="1793" y="593"/>
                </a:lnTo>
                <a:lnTo>
                  <a:pt x="1800" y="593"/>
                </a:lnTo>
                <a:lnTo>
                  <a:pt x="1800" y="593"/>
                </a:lnTo>
                <a:lnTo>
                  <a:pt x="1800" y="593"/>
                </a:lnTo>
                <a:close/>
                <a:moveTo>
                  <a:pt x="1786" y="565"/>
                </a:moveTo>
                <a:lnTo>
                  <a:pt x="1786" y="551"/>
                </a:lnTo>
                <a:lnTo>
                  <a:pt x="1779" y="551"/>
                </a:lnTo>
                <a:lnTo>
                  <a:pt x="1765" y="545"/>
                </a:lnTo>
                <a:lnTo>
                  <a:pt x="1759" y="551"/>
                </a:lnTo>
                <a:lnTo>
                  <a:pt x="1752" y="558"/>
                </a:lnTo>
                <a:lnTo>
                  <a:pt x="1752" y="565"/>
                </a:lnTo>
                <a:lnTo>
                  <a:pt x="1752" y="579"/>
                </a:lnTo>
                <a:lnTo>
                  <a:pt x="1759" y="586"/>
                </a:lnTo>
                <a:lnTo>
                  <a:pt x="1765" y="593"/>
                </a:lnTo>
                <a:lnTo>
                  <a:pt x="1772" y="593"/>
                </a:lnTo>
                <a:lnTo>
                  <a:pt x="1779" y="593"/>
                </a:lnTo>
                <a:lnTo>
                  <a:pt x="1779" y="586"/>
                </a:lnTo>
                <a:lnTo>
                  <a:pt x="1786" y="572"/>
                </a:lnTo>
                <a:lnTo>
                  <a:pt x="1786" y="565"/>
                </a:lnTo>
                <a:close/>
                <a:moveTo>
                  <a:pt x="1834" y="565"/>
                </a:moveTo>
                <a:lnTo>
                  <a:pt x="1834" y="565"/>
                </a:lnTo>
                <a:lnTo>
                  <a:pt x="1834" y="565"/>
                </a:lnTo>
                <a:lnTo>
                  <a:pt x="1828" y="565"/>
                </a:lnTo>
                <a:lnTo>
                  <a:pt x="1828" y="565"/>
                </a:lnTo>
                <a:lnTo>
                  <a:pt x="1828" y="565"/>
                </a:lnTo>
                <a:lnTo>
                  <a:pt x="1828" y="565"/>
                </a:lnTo>
                <a:lnTo>
                  <a:pt x="1828" y="565"/>
                </a:lnTo>
                <a:lnTo>
                  <a:pt x="1828" y="565"/>
                </a:lnTo>
                <a:lnTo>
                  <a:pt x="1828" y="565"/>
                </a:lnTo>
                <a:lnTo>
                  <a:pt x="1828" y="565"/>
                </a:lnTo>
                <a:lnTo>
                  <a:pt x="1834" y="565"/>
                </a:lnTo>
                <a:lnTo>
                  <a:pt x="1834" y="565"/>
                </a:lnTo>
                <a:lnTo>
                  <a:pt x="1834" y="565"/>
                </a:lnTo>
                <a:lnTo>
                  <a:pt x="1834" y="565"/>
                </a:lnTo>
                <a:close/>
                <a:moveTo>
                  <a:pt x="1248" y="531"/>
                </a:moveTo>
                <a:lnTo>
                  <a:pt x="1248" y="531"/>
                </a:lnTo>
                <a:lnTo>
                  <a:pt x="1248" y="524"/>
                </a:lnTo>
                <a:lnTo>
                  <a:pt x="1241" y="517"/>
                </a:lnTo>
                <a:lnTo>
                  <a:pt x="1241" y="517"/>
                </a:lnTo>
                <a:lnTo>
                  <a:pt x="1241" y="510"/>
                </a:lnTo>
                <a:lnTo>
                  <a:pt x="1241" y="503"/>
                </a:lnTo>
                <a:lnTo>
                  <a:pt x="1241" y="496"/>
                </a:lnTo>
                <a:lnTo>
                  <a:pt x="1235" y="503"/>
                </a:lnTo>
                <a:lnTo>
                  <a:pt x="1235" y="510"/>
                </a:lnTo>
                <a:lnTo>
                  <a:pt x="1228" y="517"/>
                </a:lnTo>
                <a:lnTo>
                  <a:pt x="1221" y="524"/>
                </a:lnTo>
                <a:lnTo>
                  <a:pt x="1214" y="524"/>
                </a:lnTo>
                <a:lnTo>
                  <a:pt x="1207" y="531"/>
                </a:lnTo>
                <a:lnTo>
                  <a:pt x="1207" y="531"/>
                </a:lnTo>
                <a:lnTo>
                  <a:pt x="1214" y="538"/>
                </a:lnTo>
                <a:lnTo>
                  <a:pt x="1221" y="538"/>
                </a:lnTo>
                <a:lnTo>
                  <a:pt x="1235" y="545"/>
                </a:lnTo>
                <a:lnTo>
                  <a:pt x="1241" y="545"/>
                </a:lnTo>
                <a:lnTo>
                  <a:pt x="1241" y="538"/>
                </a:lnTo>
                <a:lnTo>
                  <a:pt x="1248" y="531"/>
                </a:lnTo>
                <a:close/>
                <a:moveTo>
                  <a:pt x="1455" y="531"/>
                </a:moveTo>
                <a:lnTo>
                  <a:pt x="1455" y="531"/>
                </a:lnTo>
                <a:lnTo>
                  <a:pt x="1455" y="524"/>
                </a:lnTo>
                <a:lnTo>
                  <a:pt x="1448" y="524"/>
                </a:lnTo>
                <a:lnTo>
                  <a:pt x="1448" y="524"/>
                </a:lnTo>
                <a:lnTo>
                  <a:pt x="1448" y="524"/>
                </a:lnTo>
                <a:lnTo>
                  <a:pt x="1448" y="524"/>
                </a:lnTo>
                <a:lnTo>
                  <a:pt x="1441" y="524"/>
                </a:lnTo>
                <a:lnTo>
                  <a:pt x="1441" y="531"/>
                </a:lnTo>
                <a:lnTo>
                  <a:pt x="1441" y="531"/>
                </a:lnTo>
                <a:lnTo>
                  <a:pt x="1441" y="538"/>
                </a:lnTo>
                <a:lnTo>
                  <a:pt x="1448" y="538"/>
                </a:lnTo>
                <a:lnTo>
                  <a:pt x="1448" y="538"/>
                </a:lnTo>
                <a:lnTo>
                  <a:pt x="1455" y="538"/>
                </a:lnTo>
                <a:lnTo>
                  <a:pt x="1455" y="531"/>
                </a:lnTo>
                <a:close/>
                <a:moveTo>
                  <a:pt x="1814" y="531"/>
                </a:moveTo>
                <a:lnTo>
                  <a:pt x="1807" y="524"/>
                </a:lnTo>
                <a:lnTo>
                  <a:pt x="1807" y="524"/>
                </a:lnTo>
                <a:lnTo>
                  <a:pt x="1800" y="524"/>
                </a:lnTo>
                <a:lnTo>
                  <a:pt x="1793" y="524"/>
                </a:lnTo>
                <a:lnTo>
                  <a:pt x="1786" y="531"/>
                </a:lnTo>
                <a:lnTo>
                  <a:pt x="1786" y="531"/>
                </a:lnTo>
                <a:lnTo>
                  <a:pt x="1786" y="538"/>
                </a:lnTo>
                <a:lnTo>
                  <a:pt x="1786" y="545"/>
                </a:lnTo>
                <a:lnTo>
                  <a:pt x="1793" y="551"/>
                </a:lnTo>
                <a:lnTo>
                  <a:pt x="1800" y="551"/>
                </a:lnTo>
                <a:lnTo>
                  <a:pt x="1807" y="551"/>
                </a:lnTo>
                <a:lnTo>
                  <a:pt x="1807" y="545"/>
                </a:lnTo>
                <a:lnTo>
                  <a:pt x="1807" y="545"/>
                </a:lnTo>
                <a:lnTo>
                  <a:pt x="1814" y="531"/>
                </a:lnTo>
                <a:close/>
                <a:moveTo>
                  <a:pt x="1924" y="531"/>
                </a:moveTo>
                <a:lnTo>
                  <a:pt x="1924" y="531"/>
                </a:lnTo>
                <a:lnTo>
                  <a:pt x="1917" y="531"/>
                </a:lnTo>
                <a:lnTo>
                  <a:pt x="1917" y="531"/>
                </a:lnTo>
                <a:lnTo>
                  <a:pt x="1910" y="531"/>
                </a:lnTo>
                <a:lnTo>
                  <a:pt x="1910" y="531"/>
                </a:lnTo>
                <a:lnTo>
                  <a:pt x="1910" y="531"/>
                </a:lnTo>
                <a:lnTo>
                  <a:pt x="1910" y="531"/>
                </a:lnTo>
                <a:lnTo>
                  <a:pt x="1910" y="538"/>
                </a:lnTo>
                <a:lnTo>
                  <a:pt x="1910" y="538"/>
                </a:lnTo>
                <a:lnTo>
                  <a:pt x="1910" y="538"/>
                </a:lnTo>
                <a:lnTo>
                  <a:pt x="1917" y="538"/>
                </a:lnTo>
                <a:lnTo>
                  <a:pt x="1917" y="538"/>
                </a:lnTo>
                <a:lnTo>
                  <a:pt x="1924" y="538"/>
                </a:lnTo>
                <a:lnTo>
                  <a:pt x="1924" y="531"/>
                </a:lnTo>
                <a:close/>
                <a:moveTo>
                  <a:pt x="1510" y="503"/>
                </a:moveTo>
                <a:lnTo>
                  <a:pt x="1517" y="496"/>
                </a:lnTo>
                <a:lnTo>
                  <a:pt x="1517" y="496"/>
                </a:lnTo>
                <a:lnTo>
                  <a:pt x="1524" y="489"/>
                </a:lnTo>
                <a:lnTo>
                  <a:pt x="1531" y="483"/>
                </a:lnTo>
                <a:lnTo>
                  <a:pt x="1538" y="476"/>
                </a:lnTo>
                <a:lnTo>
                  <a:pt x="1545" y="476"/>
                </a:lnTo>
                <a:lnTo>
                  <a:pt x="1545" y="469"/>
                </a:lnTo>
                <a:lnTo>
                  <a:pt x="1545" y="462"/>
                </a:lnTo>
                <a:lnTo>
                  <a:pt x="1538" y="455"/>
                </a:lnTo>
                <a:lnTo>
                  <a:pt x="1531" y="455"/>
                </a:lnTo>
                <a:lnTo>
                  <a:pt x="1524" y="455"/>
                </a:lnTo>
                <a:lnTo>
                  <a:pt x="1510" y="455"/>
                </a:lnTo>
                <a:lnTo>
                  <a:pt x="1503" y="455"/>
                </a:lnTo>
                <a:lnTo>
                  <a:pt x="1490" y="455"/>
                </a:lnTo>
                <a:lnTo>
                  <a:pt x="1483" y="455"/>
                </a:lnTo>
                <a:lnTo>
                  <a:pt x="1476" y="462"/>
                </a:lnTo>
                <a:lnTo>
                  <a:pt x="1469" y="462"/>
                </a:lnTo>
                <a:lnTo>
                  <a:pt x="1462" y="469"/>
                </a:lnTo>
                <a:lnTo>
                  <a:pt x="1462" y="476"/>
                </a:lnTo>
                <a:lnTo>
                  <a:pt x="1455" y="483"/>
                </a:lnTo>
                <a:lnTo>
                  <a:pt x="1455" y="489"/>
                </a:lnTo>
                <a:lnTo>
                  <a:pt x="1455" y="489"/>
                </a:lnTo>
                <a:lnTo>
                  <a:pt x="1455" y="496"/>
                </a:lnTo>
                <a:lnTo>
                  <a:pt x="1462" y="503"/>
                </a:lnTo>
                <a:lnTo>
                  <a:pt x="1462" y="510"/>
                </a:lnTo>
                <a:lnTo>
                  <a:pt x="1469" y="517"/>
                </a:lnTo>
                <a:lnTo>
                  <a:pt x="1476" y="517"/>
                </a:lnTo>
                <a:lnTo>
                  <a:pt x="1483" y="517"/>
                </a:lnTo>
                <a:lnTo>
                  <a:pt x="1497" y="517"/>
                </a:lnTo>
                <a:lnTo>
                  <a:pt x="1503" y="517"/>
                </a:lnTo>
                <a:lnTo>
                  <a:pt x="1510" y="510"/>
                </a:lnTo>
                <a:lnTo>
                  <a:pt x="1510" y="503"/>
                </a:lnTo>
                <a:close/>
                <a:moveTo>
                  <a:pt x="1848" y="503"/>
                </a:moveTo>
                <a:lnTo>
                  <a:pt x="1841" y="496"/>
                </a:lnTo>
                <a:lnTo>
                  <a:pt x="1834" y="496"/>
                </a:lnTo>
                <a:lnTo>
                  <a:pt x="1834" y="496"/>
                </a:lnTo>
                <a:lnTo>
                  <a:pt x="1828" y="496"/>
                </a:lnTo>
                <a:lnTo>
                  <a:pt x="1821" y="496"/>
                </a:lnTo>
                <a:lnTo>
                  <a:pt x="1821" y="503"/>
                </a:lnTo>
                <a:lnTo>
                  <a:pt x="1821" y="503"/>
                </a:lnTo>
                <a:lnTo>
                  <a:pt x="1821" y="510"/>
                </a:lnTo>
                <a:lnTo>
                  <a:pt x="1828" y="510"/>
                </a:lnTo>
                <a:lnTo>
                  <a:pt x="1828" y="517"/>
                </a:lnTo>
                <a:lnTo>
                  <a:pt x="1834" y="517"/>
                </a:lnTo>
                <a:lnTo>
                  <a:pt x="1841" y="510"/>
                </a:lnTo>
                <a:lnTo>
                  <a:pt x="1841" y="510"/>
                </a:lnTo>
                <a:lnTo>
                  <a:pt x="1848" y="503"/>
                </a:lnTo>
                <a:close/>
                <a:moveTo>
                  <a:pt x="1386" y="476"/>
                </a:moveTo>
                <a:lnTo>
                  <a:pt x="1386" y="476"/>
                </a:lnTo>
                <a:lnTo>
                  <a:pt x="1386" y="476"/>
                </a:lnTo>
                <a:lnTo>
                  <a:pt x="1386" y="476"/>
                </a:lnTo>
                <a:lnTo>
                  <a:pt x="1386" y="476"/>
                </a:lnTo>
                <a:lnTo>
                  <a:pt x="1386" y="476"/>
                </a:lnTo>
                <a:lnTo>
                  <a:pt x="1386" y="476"/>
                </a:lnTo>
                <a:lnTo>
                  <a:pt x="1386" y="476"/>
                </a:lnTo>
                <a:lnTo>
                  <a:pt x="1386" y="476"/>
                </a:lnTo>
                <a:lnTo>
                  <a:pt x="1386" y="476"/>
                </a:lnTo>
                <a:lnTo>
                  <a:pt x="1386" y="476"/>
                </a:lnTo>
                <a:lnTo>
                  <a:pt x="1386" y="476"/>
                </a:lnTo>
                <a:lnTo>
                  <a:pt x="1386" y="476"/>
                </a:lnTo>
                <a:lnTo>
                  <a:pt x="1386" y="476"/>
                </a:lnTo>
                <a:lnTo>
                  <a:pt x="1386" y="476"/>
                </a:lnTo>
                <a:close/>
                <a:moveTo>
                  <a:pt x="1807" y="476"/>
                </a:moveTo>
                <a:lnTo>
                  <a:pt x="1807" y="469"/>
                </a:lnTo>
                <a:lnTo>
                  <a:pt x="1800" y="469"/>
                </a:lnTo>
                <a:lnTo>
                  <a:pt x="1800" y="469"/>
                </a:lnTo>
                <a:lnTo>
                  <a:pt x="1800" y="469"/>
                </a:lnTo>
                <a:lnTo>
                  <a:pt x="1800" y="469"/>
                </a:lnTo>
                <a:lnTo>
                  <a:pt x="1793" y="476"/>
                </a:lnTo>
                <a:lnTo>
                  <a:pt x="1793" y="476"/>
                </a:lnTo>
                <a:lnTo>
                  <a:pt x="1800" y="483"/>
                </a:lnTo>
                <a:lnTo>
                  <a:pt x="1800" y="483"/>
                </a:lnTo>
                <a:lnTo>
                  <a:pt x="1800" y="483"/>
                </a:lnTo>
                <a:lnTo>
                  <a:pt x="1800" y="483"/>
                </a:lnTo>
                <a:lnTo>
                  <a:pt x="1807" y="483"/>
                </a:lnTo>
                <a:lnTo>
                  <a:pt x="1807" y="476"/>
                </a:lnTo>
                <a:lnTo>
                  <a:pt x="1807" y="476"/>
                </a:lnTo>
                <a:close/>
                <a:moveTo>
                  <a:pt x="1952" y="448"/>
                </a:moveTo>
                <a:lnTo>
                  <a:pt x="1952" y="441"/>
                </a:lnTo>
                <a:lnTo>
                  <a:pt x="1945" y="441"/>
                </a:lnTo>
                <a:lnTo>
                  <a:pt x="1938" y="441"/>
                </a:lnTo>
                <a:lnTo>
                  <a:pt x="1938" y="441"/>
                </a:lnTo>
                <a:lnTo>
                  <a:pt x="1931" y="441"/>
                </a:lnTo>
                <a:lnTo>
                  <a:pt x="1924" y="441"/>
                </a:lnTo>
                <a:lnTo>
                  <a:pt x="1917" y="441"/>
                </a:lnTo>
                <a:lnTo>
                  <a:pt x="1917" y="448"/>
                </a:lnTo>
                <a:lnTo>
                  <a:pt x="1924" y="448"/>
                </a:lnTo>
                <a:lnTo>
                  <a:pt x="1931" y="448"/>
                </a:lnTo>
                <a:lnTo>
                  <a:pt x="1931" y="455"/>
                </a:lnTo>
                <a:lnTo>
                  <a:pt x="1938" y="455"/>
                </a:lnTo>
                <a:lnTo>
                  <a:pt x="1945" y="462"/>
                </a:lnTo>
                <a:lnTo>
                  <a:pt x="1945" y="462"/>
                </a:lnTo>
                <a:lnTo>
                  <a:pt x="1945" y="462"/>
                </a:lnTo>
                <a:lnTo>
                  <a:pt x="1952" y="462"/>
                </a:lnTo>
                <a:lnTo>
                  <a:pt x="1952" y="462"/>
                </a:lnTo>
                <a:lnTo>
                  <a:pt x="1952" y="455"/>
                </a:lnTo>
                <a:lnTo>
                  <a:pt x="1952" y="448"/>
                </a:lnTo>
                <a:lnTo>
                  <a:pt x="1952" y="448"/>
                </a:lnTo>
                <a:close/>
                <a:moveTo>
                  <a:pt x="221" y="414"/>
                </a:moveTo>
                <a:lnTo>
                  <a:pt x="207" y="414"/>
                </a:lnTo>
                <a:lnTo>
                  <a:pt x="207" y="434"/>
                </a:lnTo>
                <a:lnTo>
                  <a:pt x="221" y="414"/>
                </a:lnTo>
                <a:close/>
                <a:moveTo>
                  <a:pt x="1779" y="414"/>
                </a:moveTo>
                <a:lnTo>
                  <a:pt x="1772" y="414"/>
                </a:lnTo>
                <a:lnTo>
                  <a:pt x="1772" y="414"/>
                </a:lnTo>
                <a:lnTo>
                  <a:pt x="1772" y="414"/>
                </a:lnTo>
                <a:lnTo>
                  <a:pt x="1765" y="414"/>
                </a:lnTo>
                <a:lnTo>
                  <a:pt x="1765" y="414"/>
                </a:lnTo>
                <a:lnTo>
                  <a:pt x="1765" y="421"/>
                </a:lnTo>
                <a:lnTo>
                  <a:pt x="1765" y="421"/>
                </a:lnTo>
                <a:lnTo>
                  <a:pt x="1772" y="427"/>
                </a:lnTo>
                <a:lnTo>
                  <a:pt x="1772" y="427"/>
                </a:lnTo>
                <a:lnTo>
                  <a:pt x="1772" y="427"/>
                </a:lnTo>
                <a:lnTo>
                  <a:pt x="1772" y="427"/>
                </a:lnTo>
                <a:lnTo>
                  <a:pt x="1772" y="421"/>
                </a:lnTo>
                <a:lnTo>
                  <a:pt x="1779" y="421"/>
                </a:lnTo>
                <a:lnTo>
                  <a:pt x="1779" y="414"/>
                </a:lnTo>
                <a:close/>
                <a:moveTo>
                  <a:pt x="1076" y="324"/>
                </a:moveTo>
                <a:lnTo>
                  <a:pt x="1076" y="324"/>
                </a:lnTo>
                <a:lnTo>
                  <a:pt x="1083" y="317"/>
                </a:lnTo>
                <a:lnTo>
                  <a:pt x="1090" y="310"/>
                </a:lnTo>
                <a:lnTo>
                  <a:pt x="1097" y="310"/>
                </a:lnTo>
                <a:lnTo>
                  <a:pt x="1104" y="303"/>
                </a:lnTo>
                <a:lnTo>
                  <a:pt x="1110" y="297"/>
                </a:lnTo>
                <a:lnTo>
                  <a:pt x="1117" y="297"/>
                </a:lnTo>
                <a:lnTo>
                  <a:pt x="1124" y="297"/>
                </a:lnTo>
                <a:lnTo>
                  <a:pt x="1138" y="297"/>
                </a:lnTo>
                <a:lnTo>
                  <a:pt x="1145" y="297"/>
                </a:lnTo>
                <a:lnTo>
                  <a:pt x="1152" y="297"/>
                </a:lnTo>
                <a:lnTo>
                  <a:pt x="1159" y="290"/>
                </a:lnTo>
                <a:lnTo>
                  <a:pt x="1159" y="283"/>
                </a:lnTo>
                <a:lnTo>
                  <a:pt x="1166" y="283"/>
                </a:lnTo>
                <a:lnTo>
                  <a:pt x="1172" y="276"/>
                </a:lnTo>
                <a:lnTo>
                  <a:pt x="1179" y="276"/>
                </a:lnTo>
                <a:lnTo>
                  <a:pt x="1186" y="269"/>
                </a:lnTo>
                <a:lnTo>
                  <a:pt x="1200" y="269"/>
                </a:lnTo>
                <a:lnTo>
                  <a:pt x="1207" y="269"/>
                </a:lnTo>
                <a:lnTo>
                  <a:pt x="1214" y="269"/>
                </a:lnTo>
                <a:lnTo>
                  <a:pt x="1221" y="262"/>
                </a:lnTo>
                <a:lnTo>
                  <a:pt x="1221" y="255"/>
                </a:lnTo>
                <a:lnTo>
                  <a:pt x="1228" y="248"/>
                </a:lnTo>
                <a:lnTo>
                  <a:pt x="1228" y="241"/>
                </a:lnTo>
                <a:lnTo>
                  <a:pt x="1235" y="241"/>
                </a:lnTo>
                <a:lnTo>
                  <a:pt x="1241" y="235"/>
                </a:lnTo>
                <a:lnTo>
                  <a:pt x="1248" y="235"/>
                </a:lnTo>
                <a:lnTo>
                  <a:pt x="1255" y="228"/>
                </a:lnTo>
                <a:lnTo>
                  <a:pt x="1262" y="221"/>
                </a:lnTo>
                <a:lnTo>
                  <a:pt x="1269" y="221"/>
                </a:lnTo>
                <a:lnTo>
                  <a:pt x="1276" y="221"/>
                </a:lnTo>
                <a:lnTo>
                  <a:pt x="1290" y="221"/>
                </a:lnTo>
                <a:lnTo>
                  <a:pt x="1297" y="221"/>
                </a:lnTo>
                <a:lnTo>
                  <a:pt x="1303" y="221"/>
                </a:lnTo>
                <a:lnTo>
                  <a:pt x="1303" y="214"/>
                </a:lnTo>
                <a:lnTo>
                  <a:pt x="1303" y="207"/>
                </a:lnTo>
                <a:lnTo>
                  <a:pt x="1303" y="200"/>
                </a:lnTo>
                <a:lnTo>
                  <a:pt x="1310" y="193"/>
                </a:lnTo>
                <a:lnTo>
                  <a:pt x="1317" y="186"/>
                </a:lnTo>
                <a:lnTo>
                  <a:pt x="1324" y="186"/>
                </a:lnTo>
                <a:lnTo>
                  <a:pt x="1331" y="179"/>
                </a:lnTo>
                <a:lnTo>
                  <a:pt x="1338" y="179"/>
                </a:lnTo>
                <a:lnTo>
                  <a:pt x="1352" y="179"/>
                </a:lnTo>
                <a:lnTo>
                  <a:pt x="1352" y="179"/>
                </a:lnTo>
                <a:lnTo>
                  <a:pt x="1359" y="173"/>
                </a:lnTo>
                <a:lnTo>
                  <a:pt x="1352" y="166"/>
                </a:lnTo>
                <a:lnTo>
                  <a:pt x="1345" y="159"/>
                </a:lnTo>
                <a:lnTo>
                  <a:pt x="1338" y="152"/>
                </a:lnTo>
                <a:lnTo>
                  <a:pt x="1331" y="152"/>
                </a:lnTo>
                <a:lnTo>
                  <a:pt x="1324" y="152"/>
                </a:lnTo>
                <a:lnTo>
                  <a:pt x="1317" y="152"/>
                </a:lnTo>
                <a:lnTo>
                  <a:pt x="1310" y="159"/>
                </a:lnTo>
                <a:lnTo>
                  <a:pt x="1303" y="159"/>
                </a:lnTo>
                <a:lnTo>
                  <a:pt x="1297" y="166"/>
                </a:lnTo>
                <a:lnTo>
                  <a:pt x="1290" y="166"/>
                </a:lnTo>
                <a:lnTo>
                  <a:pt x="1276" y="173"/>
                </a:lnTo>
                <a:lnTo>
                  <a:pt x="1269" y="173"/>
                </a:lnTo>
                <a:lnTo>
                  <a:pt x="1262" y="173"/>
                </a:lnTo>
                <a:lnTo>
                  <a:pt x="1248" y="173"/>
                </a:lnTo>
                <a:lnTo>
                  <a:pt x="1241" y="173"/>
                </a:lnTo>
                <a:lnTo>
                  <a:pt x="1235" y="179"/>
                </a:lnTo>
                <a:lnTo>
                  <a:pt x="1235" y="179"/>
                </a:lnTo>
                <a:lnTo>
                  <a:pt x="1228" y="186"/>
                </a:lnTo>
                <a:lnTo>
                  <a:pt x="1221" y="186"/>
                </a:lnTo>
                <a:lnTo>
                  <a:pt x="1214" y="193"/>
                </a:lnTo>
                <a:lnTo>
                  <a:pt x="1200" y="193"/>
                </a:lnTo>
                <a:lnTo>
                  <a:pt x="1193" y="200"/>
                </a:lnTo>
                <a:lnTo>
                  <a:pt x="1186" y="200"/>
                </a:lnTo>
                <a:lnTo>
                  <a:pt x="1179" y="200"/>
                </a:lnTo>
                <a:lnTo>
                  <a:pt x="1166" y="200"/>
                </a:lnTo>
                <a:lnTo>
                  <a:pt x="1159" y="200"/>
                </a:lnTo>
                <a:lnTo>
                  <a:pt x="1152" y="200"/>
                </a:lnTo>
                <a:lnTo>
                  <a:pt x="1152" y="207"/>
                </a:lnTo>
                <a:lnTo>
                  <a:pt x="1152" y="214"/>
                </a:lnTo>
                <a:lnTo>
                  <a:pt x="1152" y="221"/>
                </a:lnTo>
                <a:lnTo>
                  <a:pt x="1152" y="228"/>
                </a:lnTo>
                <a:lnTo>
                  <a:pt x="1159" y="228"/>
                </a:lnTo>
                <a:lnTo>
                  <a:pt x="1159" y="235"/>
                </a:lnTo>
                <a:lnTo>
                  <a:pt x="1159" y="241"/>
                </a:lnTo>
                <a:lnTo>
                  <a:pt x="1152" y="248"/>
                </a:lnTo>
                <a:lnTo>
                  <a:pt x="1145" y="248"/>
                </a:lnTo>
                <a:lnTo>
                  <a:pt x="1138" y="255"/>
                </a:lnTo>
                <a:lnTo>
                  <a:pt x="1131" y="255"/>
                </a:lnTo>
                <a:lnTo>
                  <a:pt x="1124" y="262"/>
                </a:lnTo>
                <a:lnTo>
                  <a:pt x="1117" y="262"/>
                </a:lnTo>
                <a:lnTo>
                  <a:pt x="1110" y="269"/>
                </a:lnTo>
                <a:lnTo>
                  <a:pt x="1104" y="269"/>
                </a:lnTo>
                <a:lnTo>
                  <a:pt x="1097" y="276"/>
                </a:lnTo>
                <a:lnTo>
                  <a:pt x="1090" y="276"/>
                </a:lnTo>
                <a:lnTo>
                  <a:pt x="1083" y="283"/>
                </a:lnTo>
                <a:lnTo>
                  <a:pt x="1076" y="283"/>
                </a:lnTo>
                <a:lnTo>
                  <a:pt x="1069" y="290"/>
                </a:lnTo>
                <a:lnTo>
                  <a:pt x="1062" y="290"/>
                </a:lnTo>
                <a:lnTo>
                  <a:pt x="1055" y="297"/>
                </a:lnTo>
                <a:lnTo>
                  <a:pt x="1048" y="303"/>
                </a:lnTo>
                <a:lnTo>
                  <a:pt x="1041" y="303"/>
                </a:lnTo>
                <a:lnTo>
                  <a:pt x="1035" y="310"/>
                </a:lnTo>
                <a:lnTo>
                  <a:pt x="1035" y="317"/>
                </a:lnTo>
                <a:lnTo>
                  <a:pt x="1035" y="324"/>
                </a:lnTo>
                <a:lnTo>
                  <a:pt x="1041" y="331"/>
                </a:lnTo>
                <a:lnTo>
                  <a:pt x="1048" y="331"/>
                </a:lnTo>
                <a:lnTo>
                  <a:pt x="1062" y="331"/>
                </a:lnTo>
                <a:lnTo>
                  <a:pt x="1069" y="331"/>
                </a:lnTo>
                <a:lnTo>
                  <a:pt x="1076" y="324"/>
                </a:lnTo>
                <a:close/>
                <a:moveTo>
                  <a:pt x="2427" y="179"/>
                </a:moveTo>
                <a:lnTo>
                  <a:pt x="2420" y="173"/>
                </a:lnTo>
                <a:lnTo>
                  <a:pt x="2414" y="173"/>
                </a:lnTo>
                <a:lnTo>
                  <a:pt x="2414" y="173"/>
                </a:lnTo>
                <a:lnTo>
                  <a:pt x="2407" y="173"/>
                </a:lnTo>
                <a:lnTo>
                  <a:pt x="2400" y="173"/>
                </a:lnTo>
                <a:lnTo>
                  <a:pt x="2393" y="166"/>
                </a:lnTo>
                <a:lnTo>
                  <a:pt x="2386" y="166"/>
                </a:lnTo>
                <a:lnTo>
                  <a:pt x="2379" y="166"/>
                </a:lnTo>
                <a:lnTo>
                  <a:pt x="2372" y="166"/>
                </a:lnTo>
                <a:lnTo>
                  <a:pt x="2365" y="166"/>
                </a:lnTo>
                <a:lnTo>
                  <a:pt x="2365" y="166"/>
                </a:lnTo>
                <a:lnTo>
                  <a:pt x="2358" y="166"/>
                </a:lnTo>
                <a:lnTo>
                  <a:pt x="2358" y="173"/>
                </a:lnTo>
                <a:lnTo>
                  <a:pt x="2358" y="179"/>
                </a:lnTo>
                <a:lnTo>
                  <a:pt x="2358" y="179"/>
                </a:lnTo>
                <a:lnTo>
                  <a:pt x="2365" y="186"/>
                </a:lnTo>
                <a:lnTo>
                  <a:pt x="2372" y="186"/>
                </a:lnTo>
                <a:lnTo>
                  <a:pt x="2379" y="186"/>
                </a:lnTo>
                <a:lnTo>
                  <a:pt x="2386" y="186"/>
                </a:lnTo>
                <a:lnTo>
                  <a:pt x="2393" y="186"/>
                </a:lnTo>
                <a:lnTo>
                  <a:pt x="2400" y="186"/>
                </a:lnTo>
                <a:lnTo>
                  <a:pt x="2400" y="179"/>
                </a:lnTo>
                <a:lnTo>
                  <a:pt x="2407" y="179"/>
                </a:lnTo>
                <a:lnTo>
                  <a:pt x="2414" y="179"/>
                </a:lnTo>
                <a:lnTo>
                  <a:pt x="2420" y="179"/>
                </a:lnTo>
                <a:lnTo>
                  <a:pt x="2427" y="179"/>
                </a:lnTo>
                <a:close/>
                <a:moveTo>
                  <a:pt x="1421" y="145"/>
                </a:moveTo>
                <a:lnTo>
                  <a:pt x="1421" y="138"/>
                </a:lnTo>
                <a:lnTo>
                  <a:pt x="1421" y="138"/>
                </a:lnTo>
                <a:lnTo>
                  <a:pt x="1414" y="131"/>
                </a:lnTo>
                <a:lnTo>
                  <a:pt x="1400" y="138"/>
                </a:lnTo>
                <a:lnTo>
                  <a:pt x="1393" y="138"/>
                </a:lnTo>
                <a:lnTo>
                  <a:pt x="1379" y="138"/>
                </a:lnTo>
                <a:lnTo>
                  <a:pt x="1372" y="138"/>
                </a:lnTo>
                <a:lnTo>
                  <a:pt x="1366" y="138"/>
                </a:lnTo>
                <a:lnTo>
                  <a:pt x="1359" y="138"/>
                </a:lnTo>
                <a:lnTo>
                  <a:pt x="1345" y="145"/>
                </a:lnTo>
                <a:lnTo>
                  <a:pt x="1338" y="145"/>
                </a:lnTo>
                <a:lnTo>
                  <a:pt x="1331" y="145"/>
                </a:lnTo>
                <a:lnTo>
                  <a:pt x="1331" y="152"/>
                </a:lnTo>
                <a:lnTo>
                  <a:pt x="1331" y="159"/>
                </a:lnTo>
                <a:lnTo>
                  <a:pt x="1338" y="166"/>
                </a:lnTo>
                <a:lnTo>
                  <a:pt x="1345" y="166"/>
                </a:lnTo>
                <a:lnTo>
                  <a:pt x="1359" y="173"/>
                </a:lnTo>
                <a:lnTo>
                  <a:pt x="1366" y="173"/>
                </a:lnTo>
                <a:lnTo>
                  <a:pt x="1379" y="173"/>
                </a:lnTo>
                <a:lnTo>
                  <a:pt x="1386" y="173"/>
                </a:lnTo>
                <a:lnTo>
                  <a:pt x="1393" y="173"/>
                </a:lnTo>
                <a:lnTo>
                  <a:pt x="1400" y="166"/>
                </a:lnTo>
                <a:lnTo>
                  <a:pt x="1400" y="159"/>
                </a:lnTo>
                <a:lnTo>
                  <a:pt x="1407" y="159"/>
                </a:lnTo>
                <a:lnTo>
                  <a:pt x="1414" y="152"/>
                </a:lnTo>
                <a:lnTo>
                  <a:pt x="1421" y="145"/>
                </a:lnTo>
                <a:close/>
                <a:moveTo>
                  <a:pt x="2289" y="145"/>
                </a:moveTo>
                <a:lnTo>
                  <a:pt x="2283" y="145"/>
                </a:lnTo>
                <a:lnTo>
                  <a:pt x="2283" y="145"/>
                </a:lnTo>
                <a:lnTo>
                  <a:pt x="2283" y="145"/>
                </a:lnTo>
                <a:lnTo>
                  <a:pt x="2276" y="145"/>
                </a:lnTo>
                <a:lnTo>
                  <a:pt x="2276" y="145"/>
                </a:lnTo>
                <a:lnTo>
                  <a:pt x="2269" y="145"/>
                </a:lnTo>
                <a:lnTo>
                  <a:pt x="2269" y="145"/>
                </a:lnTo>
                <a:lnTo>
                  <a:pt x="2269" y="145"/>
                </a:lnTo>
                <a:lnTo>
                  <a:pt x="2276" y="152"/>
                </a:lnTo>
                <a:lnTo>
                  <a:pt x="2276" y="152"/>
                </a:lnTo>
                <a:lnTo>
                  <a:pt x="2283" y="152"/>
                </a:lnTo>
                <a:lnTo>
                  <a:pt x="2283" y="152"/>
                </a:lnTo>
                <a:lnTo>
                  <a:pt x="2289" y="145"/>
                </a:lnTo>
                <a:lnTo>
                  <a:pt x="2289" y="145"/>
                </a:lnTo>
                <a:close/>
                <a:moveTo>
                  <a:pt x="1490" y="117"/>
                </a:moveTo>
                <a:lnTo>
                  <a:pt x="1483" y="117"/>
                </a:lnTo>
                <a:lnTo>
                  <a:pt x="1476" y="117"/>
                </a:lnTo>
                <a:lnTo>
                  <a:pt x="1476" y="111"/>
                </a:lnTo>
                <a:lnTo>
                  <a:pt x="1469" y="111"/>
                </a:lnTo>
                <a:lnTo>
                  <a:pt x="1462" y="111"/>
                </a:lnTo>
                <a:lnTo>
                  <a:pt x="1455" y="104"/>
                </a:lnTo>
                <a:lnTo>
                  <a:pt x="1448" y="104"/>
                </a:lnTo>
                <a:lnTo>
                  <a:pt x="1441" y="111"/>
                </a:lnTo>
                <a:lnTo>
                  <a:pt x="1434" y="111"/>
                </a:lnTo>
                <a:lnTo>
                  <a:pt x="1434" y="117"/>
                </a:lnTo>
                <a:lnTo>
                  <a:pt x="1434" y="117"/>
                </a:lnTo>
                <a:lnTo>
                  <a:pt x="1441" y="124"/>
                </a:lnTo>
                <a:lnTo>
                  <a:pt x="1448" y="124"/>
                </a:lnTo>
                <a:lnTo>
                  <a:pt x="1455" y="124"/>
                </a:lnTo>
                <a:lnTo>
                  <a:pt x="1462" y="124"/>
                </a:lnTo>
                <a:lnTo>
                  <a:pt x="1469" y="124"/>
                </a:lnTo>
                <a:lnTo>
                  <a:pt x="1476" y="124"/>
                </a:lnTo>
                <a:lnTo>
                  <a:pt x="1483" y="124"/>
                </a:lnTo>
                <a:lnTo>
                  <a:pt x="1483" y="124"/>
                </a:lnTo>
                <a:lnTo>
                  <a:pt x="1490" y="117"/>
                </a:lnTo>
                <a:close/>
                <a:moveTo>
                  <a:pt x="2483" y="1840"/>
                </a:moveTo>
                <a:lnTo>
                  <a:pt x="2510" y="1812"/>
                </a:lnTo>
                <a:lnTo>
                  <a:pt x="2538" y="1812"/>
                </a:lnTo>
                <a:lnTo>
                  <a:pt x="2565" y="1812"/>
                </a:lnTo>
                <a:lnTo>
                  <a:pt x="2600" y="1812"/>
                </a:lnTo>
                <a:lnTo>
                  <a:pt x="2627" y="1812"/>
                </a:lnTo>
                <a:lnTo>
                  <a:pt x="2655" y="1812"/>
                </a:lnTo>
                <a:lnTo>
                  <a:pt x="2689" y="1812"/>
                </a:lnTo>
                <a:lnTo>
                  <a:pt x="2717" y="1778"/>
                </a:lnTo>
                <a:lnTo>
                  <a:pt x="2717" y="1750"/>
                </a:lnTo>
                <a:lnTo>
                  <a:pt x="2717" y="1722"/>
                </a:lnTo>
                <a:lnTo>
                  <a:pt x="2717" y="1688"/>
                </a:lnTo>
                <a:lnTo>
                  <a:pt x="2745" y="1660"/>
                </a:lnTo>
                <a:lnTo>
                  <a:pt x="2745" y="1633"/>
                </a:lnTo>
                <a:lnTo>
                  <a:pt x="2745" y="1599"/>
                </a:lnTo>
                <a:lnTo>
                  <a:pt x="2745" y="1571"/>
                </a:lnTo>
                <a:lnTo>
                  <a:pt x="2772" y="1543"/>
                </a:lnTo>
                <a:lnTo>
                  <a:pt x="2772" y="1516"/>
                </a:lnTo>
                <a:lnTo>
                  <a:pt x="2772" y="1481"/>
                </a:lnTo>
                <a:lnTo>
                  <a:pt x="2772" y="1454"/>
                </a:lnTo>
                <a:lnTo>
                  <a:pt x="2807" y="1426"/>
                </a:lnTo>
                <a:lnTo>
                  <a:pt x="2807" y="1392"/>
                </a:lnTo>
                <a:lnTo>
                  <a:pt x="2807" y="1364"/>
                </a:lnTo>
                <a:lnTo>
                  <a:pt x="2807" y="1337"/>
                </a:lnTo>
                <a:lnTo>
                  <a:pt x="2834" y="1302"/>
                </a:lnTo>
                <a:lnTo>
                  <a:pt x="2834" y="1275"/>
                </a:lnTo>
                <a:lnTo>
                  <a:pt x="2834" y="1247"/>
                </a:lnTo>
                <a:lnTo>
                  <a:pt x="2834" y="1213"/>
                </a:lnTo>
                <a:lnTo>
                  <a:pt x="2862" y="1185"/>
                </a:lnTo>
                <a:lnTo>
                  <a:pt x="2862" y="1158"/>
                </a:lnTo>
                <a:lnTo>
                  <a:pt x="2862" y="1130"/>
                </a:lnTo>
                <a:lnTo>
                  <a:pt x="2862" y="1096"/>
                </a:lnTo>
                <a:lnTo>
                  <a:pt x="2862" y="1068"/>
                </a:lnTo>
                <a:lnTo>
                  <a:pt x="2862" y="1041"/>
                </a:lnTo>
                <a:lnTo>
                  <a:pt x="2862" y="1006"/>
                </a:lnTo>
                <a:lnTo>
                  <a:pt x="2862" y="979"/>
                </a:lnTo>
                <a:lnTo>
                  <a:pt x="2862" y="951"/>
                </a:lnTo>
                <a:lnTo>
                  <a:pt x="2862" y="917"/>
                </a:lnTo>
                <a:lnTo>
                  <a:pt x="2862" y="889"/>
                </a:lnTo>
                <a:lnTo>
                  <a:pt x="2862" y="861"/>
                </a:lnTo>
                <a:lnTo>
                  <a:pt x="2862" y="827"/>
                </a:lnTo>
                <a:lnTo>
                  <a:pt x="2862" y="799"/>
                </a:lnTo>
                <a:lnTo>
                  <a:pt x="2862" y="772"/>
                </a:lnTo>
                <a:lnTo>
                  <a:pt x="2862" y="744"/>
                </a:lnTo>
                <a:lnTo>
                  <a:pt x="2862" y="710"/>
                </a:lnTo>
                <a:lnTo>
                  <a:pt x="2862" y="682"/>
                </a:lnTo>
                <a:lnTo>
                  <a:pt x="2862" y="655"/>
                </a:lnTo>
                <a:lnTo>
                  <a:pt x="2862" y="620"/>
                </a:lnTo>
                <a:lnTo>
                  <a:pt x="2862" y="593"/>
                </a:lnTo>
                <a:lnTo>
                  <a:pt x="2862" y="565"/>
                </a:lnTo>
                <a:lnTo>
                  <a:pt x="2862" y="531"/>
                </a:lnTo>
                <a:lnTo>
                  <a:pt x="2862" y="503"/>
                </a:lnTo>
                <a:lnTo>
                  <a:pt x="2862" y="476"/>
                </a:lnTo>
                <a:lnTo>
                  <a:pt x="2862" y="448"/>
                </a:lnTo>
                <a:lnTo>
                  <a:pt x="2862" y="414"/>
                </a:lnTo>
                <a:lnTo>
                  <a:pt x="2862" y="386"/>
                </a:lnTo>
                <a:lnTo>
                  <a:pt x="2862" y="359"/>
                </a:lnTo>
                <a:lnTo>
                  <a:pt x="2862" y="324"/>
                </a:lnTo>
                <a:lnTo>
                  <a:pt x="2862" y="297"/>
                </a:lnTo>
                <a:lnTo>
                  <a:pt x="2862" y="269"/>
                </a:lnTo>
                <a:lnTo>
                  <a:pt x="2834" y="235"/>
                </a:lnTo>
                <a:lnTo>
                  <a:pt x="2834" y="207"/>
                </a:lnTo>
                <a:lnTo>
                  <a:pt x="2834" y="179"/>
                </a:lnTo>
                <a:lnTo>
                  <a:pt x="2834" y="145"/>
                </a:lnTo>
                <a:lnTo>
                  <a:pt x="2834" y="117"/>
                </a:lnTo>
                <a:lnTo>
                  <a:pt x="2807" y="90"/>
                </a:lnTo>
                <a:lnTo>
                  <a:pt x="2772" y="90"/>
                </a:lnTo>
                <a:lnTo>
                  <a:pt x="2745" y="90"/>
                </a:lnTo>
                <a:lnTo>
                  <a:pt x="2717" y="62"/>
                </a:lnTo>
                <a:lnTo>
                  <a:pt x="2689" y="62"/>
                </a:lnTo>
                <a:lnTo>
                  <a:pt x="2655" y="62"/>
                </a:lnTo>
                <a:lnTo>
                  <a:pt x="2627" y="28"/>
                </a:lnTo>
                <a:lnTo>
                  <a:pt x="2600" y="28"/>
                </a:lnTo>
                <a:lnTo>
                  <a:pt x="2565" y="28"/>
                </a:lnTo>
                <a:lnTo>
                  <a:pt x="2538" y="0"/>
                </a:lnTo>
                <a:lnTo>
                  <a:pt x="2510" y="0"/>
                </a:lnTo>
                <a:lnTo>
                  <a:pt x="2483" y="0"/>
                </a:lnTo>
                <a:lnTo>
                  <a:pt x="2448" y="0"/>
                </a:lnTo>
                <a:lnTo>
                  <a:pt x="2420" y="0"/>
                </a:lnTo>
                <a:lnTo>
                  <a:pt x="2393" y="0"/>
                </a:lnTo>
                <a:lnTo>
                  <a:pt x="2365" y="0"/>
                </a:lnTo>
                <a:lnTo>
                  <a:pt x="2331" y="0"/>
                </a:lnTo>
                <a:lnTo>
                  <a:pt x="2303" y="0"/>
                </a:lnTo>
                <a:lnTo>
                  <a:pt x="2276" y="0"/>
                </a:lnTo>
                <a:lnTo>
                  <a:pt x="2241" y="0"/>
                </a:lnTo>
                <a:lnTo>
                  <a:pt x="2214" y="0"/>
                </a:lnTo>
                <a:lnTo>
                  <a:pt x="2186" y="0"/>
                </a:lnTo>
                <a:lnTo>
                  <a:pt x="2158" y="0"/>
                </a:lnTo>
                <a:lnTo>
                  <a:pt x="2124" y="0"/>
                </a:lnTo>
                <a:lnTo>
                  <a:pt x="2096" y="0"/>
                </a:lnTo>
                <a:lnTo>
                  <a:pt x="2069" y="0"/>
                </a:lnTo>
                <a:lnTo>
                  <a:pt x="2034" y="0"/>
                </a:lnTo>
                <a:lnTo>
                  <a:pt x="2007" y="0"/>
                </a:lnTo>
                <a:lnTo>
                  <a:pt x="1979" y="0"/>
                </a:lnTo>
                <a:lnTo>
                  <a:pt x="1952" y="0"/>
                </a:lnTo>
                <a:lnTo>
                  <a:pt x="1917" y="0"/>
                </a:lnTo>
                <a:lnTo>
                  <a:pt x="1890" y="0"/>
                </a:lnTo>
                <a:lnTo>
                  <a:pt x="1862" y="0"/>
                </a:lnTo>
                <a:lnTo>
                  <a:pt x="1828" y="0"/>
                </a:lnTo>
                <a:lnTo>
                  <a:pt x="1800" y="0"/>
                </a:lnTo>
                <a:lnTo>
                  <a:pt x="1772" y="0"/>
                </a:lnTo>
                <a:lnTo>
                  <a:pt x="1745" y="0"/>
                </a:lnTo>
                <a:lnTo>
                  <a:pt x="1710" y="0"/>
                </a:lnTo>
                <a:lnTo>
                  <a:pt x="1683" y="0"/>
                </a:lnTo>
                <a:lnTo>
                  <a:pt x="1655" y="0"/>
                </a:lnTo>
                <a:lnTo>
                  <a:pt x="1621" y="0"/>
                </a:lnTo>
                <a:lnTo>
                  <a:pt x="1593" y="0"/>
                </a:lnTo>
                <a:lnTo>
                  <a:pt x="1566" y="0"/>
                </a:lnTo>
                <a:lnTo>
                  <a:pt x="1538" y="0"/>
                </a:lnTo>
                <a:lnTo>
                  <a:pt x="1503" y="0"/>
                </a:lnTo>
                <a:lnTo>
                  <a:pt x="1476" y="0"/>
                </a:lnTo>
                <a:lnTo>
                  <a:pt x="1448" y="0"/>
                </a:lnTo>
                <a:lnTo>
                  <a:pt x="1414" y="0"/>
                </a:lnTo>
                <a:lnTo>
                  <a:pt x="1386" y="0"/>
                </a:lnTo>
                <a:lnTo>
                  <a:pt x="1359" y="0"/>
                </a:lnTo>
                <a:lnTo>
                  <a:pt x="1331" y="0"/>
                </a:lnTo>
                <a:lnTo>
                  <a:pt x="1297" y="0"/>
                </a:lnTo>
                <a:lnTo>
                  <a:pt x="1269" y="0"/>
                </a:lnTo>
                <a:lnTo>
                  <a:pt x="1241" y="0"/>
                </a:lnTo>
                <a:lnTo>
                  <a:pt x="1207" y="0"/>
                </a:lnTo>
                <a:lnTo>
                  <a:pt x="1179" y="0"/>
                </a:lnTo>
                <a:lnTo>
                  <a:pt x="1152" y="0"/>
                </a:lnTo>
                <a:lnTo>
                  <a:pt x="1124" y="0"/>
                </a:lnTo>
                <a:lnTo>
                  <a:pt x="1090" y="0"/>
                </a:lnTo>
                <a:lnTo>
                  <a:pt x="1062" y="0"/>
                </a:lnTo>
                <a:lnTo>
                  <a:pt x="1035" y="0"/>
                </a:lnTo>
                <a:lnTo>
                  <a:pt x="1000" y="0"/>
                </a:lnTo>
                <a:lnTo>
                  <a:pt x="973" y="0"/>
                </a:lnTo>
                <a:lnTo>
                  <a:pt x="945" y="0"/>
                </a:lnTo>
                <a:lnTo>
                  <a:pt x="917" y="0"/>
                </a:lnTo>
                <a:lnTo>
                  <a:pt x="883" y="0"/>
                </a:lnTo>
                <a:lnTo>
                  <a:pt x="855" y="0"/>
                </a:lnTo>
                <a:lnTo>
                  <a:pt x="828" y="0"/>
                </a:lnTo>
                <a:lnTo>
                  <a:pt x="793" y="0"/>
                </a:lnTo>
                <a:lnTo>
                  <a:pt x="766" y="0"/>
                </a:lnTo>
                <a:lnTo>
                  <a:pt x="738" y="0"/>
                </a:lnTo>
                <a:lnTo>
                  <a:pt x="711" y="0"/>
                </a:lnTo>
                <a:lnTo>
                  <a:pt x="676" y="0"/>
                </a:lnTo>
                <a:lnTo>
                  <a:pt x="648" y="28"/>
                </a:lnTo>
                <a:lnTo>
                  <a:pt x="621" y="62"/>
                </a:lnTo>
                <a:lnTo>
                  <a:pt x="593" y="90"/>
                </a:lnTo>
                <a:lnTo>
                  <a:pt x="559" y="117"/>
                </a:lnTo>
                <a:lnTo>
                  <a:pt x="531" y="145"/>
                </a:lnTo>
                <a:lnTo>
                  <a:pt x="504" y="145"/>
                </a:lnTo>
                <a:lnTo>
                  <a:pt x="469" y="179"/>
                </a:lnTo>
                <a:lnTo>
                  <a:pt x="442" y="207"/>
                </a:lnTo>
                <a:lnTo>
                  <a:pt x="414" y="235"/>
                </a:lnTo>
                <a:lnTo>
                  <a:pt x="386" y="269"/>
                </a:lnTo>
                <a:lnTo>
                  <a:pt x="352" y="297"/>
                </a:lnTo>
                <a:lnTo>
                  <a:pt x="324" y="324"/>
                </a:lnTo>
                <a:lnTo>
                  <a:pt x="297" y="359"/>
                </a:lnTo>
                <a:lnTo>
                  <a:pt x="262" y="359"/>
                </a:lnTo>
                <a:lnTo>
                  <a:pt x="235" y="386"/>
                </a:lnTo>
                <a:lnTo>
                  <a:pt x="207" y="414"/>
                </a:lnTo>
                <a:lnTo>
                  <a:pt x="180" y="448"/>
                </a:lnTo>
                <a:lnTo>
                  <a:pt x="145" y="476"/>
                </a:lnTo>
                <a:lnTo>
                  <a:pt x="118" y="503"/>
                </a:lnTo>
                <a:lnTo>
                  <a:pt x="90" y="531"/>
                </a:lnTo>
                <a:lnTo>
                  <a:pt x="56" y="565"/>
                </a:lnTo>
                <a:lnTo>
                  <a:pt x="28" y="565"/>
                </a:lnTo>
                <a:lnTo>
                  <a:pt x="0" y="593"/>
                </a:lnTo>
                <a:lnTo>
                  <a:pt x="0" y="620"/>
                </a:lnTo>
                <a:lnTo>
                  <a:pt x="0" y="655"/>
                </a:lnTo>
                <a:lnTo>
                  <a:pt x="0" y="682"/>
                </a:lnTo>
                <a:lnTo>
                  <a:pt x="28" y="710"/>
                </a:lnTo>
                <a:lnTo>
                  <a:pt x="28" y="744"/>
                </a:lnTo>
                <a:lnTo>
                  <a:pt x="56" y="772"/>
                </a:lnTo>
                <a:lnTo>
                  <a:pt x="90" y="799"/>
                </a:lnTo>
                <a:lnTo>
                  <a:pt x="118" y="827"/>
                </a:lnTo>
                <a:lnTo>
                  <a:pt x="145" y="861"/>
                </a:lnTo>
                <a:lnTo>
                  <a:pt x="145" y="889"/>
                </a:lnTo>
                <a:lnTo>
                  <a:pt x="180" y="917"/>
                </a:lnTo>
                <a:lnTo>
                  <a:pt x="207" y="951"/>
                </a:lnTo>
                <a:lnTo>
                  <a:pt x="235" y="979"/>
                </a:lnTo>
                <a:lnTo>
                  <a:pt x="262" y="1006"/>
                </a:lnTo>
                <a:lnTo>
                  <a:pt x="297" y="1041"/>
                </a:lnTo>
                <a:lnTo>
                  <a:pt x="324" y="1068"/>
                </a:lnTo>
                <a:lnTo>
                  <a:pt x="324" y="1096"/>
                </a:lnTo>
                <a:lnTo>
                  <a:pt x="352" y="1130"/>
                </a:lnTo>
                <a:lnTo>
                  <a:pt x="386" y="1158"/>
                </a:lnTo>
                <a:lnTo>
                  <a:pt x="414" y="1185"/>
                </a:lnTo>
                <a:lnTo>
                  <a:pt x="442" y="1213"/>
                </a:lnTo>
                <a:lnTo>
                  <a:pt x="469" y="1247"/>
                </a:lnTo>
                <a:lnTo>
                  <a:pt x="504" y="1275"/>
                </a:lnTo>
                <a:lnTo>
                  <a:pt x="531" y="1302"/>
                </a:lnTo>
                <a:lnTo>
                  <a:pt x="559" y="1337"/>
                </a:lnTo>
                <a:lnTo>
                  <a:pt x="593" y="1364"/>
                </a:lnTo>
                <a:lnTo>
                  <a:pt x="621" y="1392"/>
                </a:lnTo>
                <a:lnTo>
                  <a:pt x="648" y="1426"/>
                </a:lnTo>
                <a:lnTo>
                  <a:pt x="676" y="1454"/>
                </a:lnTo>
                <a:lnTo>
                  <a:pt x="711" y="1481"/>
                </a:lnTo>
                <a:lnTo>
                  <a:pt x="738" y="1516"/>
                </a:lnTo>
                <a:lnTo>
                  <a:pt x="766" y="1543"/>
                </a:lnTo>
                <a:lnTo>
                  <a:pt x="793" y="1571"/>
                </a:lnTo>
                <a:lnTo>
                  <a:pt x="828" y="1599"/>
                </a:lnTo>
                <a:lnTo>
                  <a:pt x="855" y="1633"/>
                </a:lnTo>
                <a:lnTo>
                  <a:pt x="883" y="1633"/>
                </a:lnTo>
                <a:lnTo>
                  <a:pt x="917" y="1660"/>
                </a:lnTo>
                <a:lnTo>
                  <a:pt x="945" y="1688"/>
                </a:lnTo>
                <a:lnTo>
                  <a:pt x="973" y="1722"/>
                </a:lnTo>
                <a:lnTo>
                  <a:pt x="1000" y="1750"/>
                </a:lnTo>
                <a:lnTo>
                  <a:pt x="1035" y="1778"/>
                </a:lnTo>
                <a:lnTo>
                  <a:pt x="1062" y="1812"/>
                </a:lnTo>
                <a:lnTo>
                  <a:pt x="1090" y="1840"/>
                </a:lnTo>
                <a:lnTo>
                  <a:pt x="1124" y="1840"/>
                </a:lnTo>
                <a:lnTo>
                  <a:pt x="1152" y="1840"/>
                </a:lnTo>
                <a:lnTo>
                  <a:pt x="1179" y="1840"/>
                </a:lnTo>
                <a:lnTo>
                  <a:pt x="1207" y="1840"/>
                </a:lnTo>
                <a:lnTo>
                  <a:pt x="1241" y="1840"/>
                </a:lnTo>
                <a:lnTo>
                  <a:pt x="1269" y="1840"/>
                </a:lnTo>
                <a:lnTo>
                  <a:pt x="1297" y="1840"/>
                </a:lnTo>
                <a:lnTo>
                  <a:pt x="1331" y="1840"/>
                </a:lnTo>
                <a:lnTo>
                  <a:pt x="1359" y="1840"/>
                </a:lnTo>
                <a:lnTo>
                  <a:pt x="1386" y="1840"/>
                </a:lnTo>
                <a:lnTo>
                  <a:pt x="1414" y="1840"/>
                </a:lnTo>
                <a:lnTo>
                  <a:pt x="1448" y="1840"/>
                </a:lnTo>
                <a:lnTo>
                  <a:pt x="1476" y="1840"/>
                </a:lnTo>
                <a:lnTo>
                  <a:pt x="1503" y="1840"/>
                </a:lnTo>
                <a:lnTo>
                  <a:pt x="1538" y="1840"/>
                </a:lnTo>
                <a:lnTo>
                  <a:pt x="1566" y="1840"/>
                </a:lnTo>
                <a:lnTo>
                  <a:pt x="1593" y="1840"/>
                </a:lnTo>
                <a:lnTo>
                  <a:pt x="1621" y="1840"/>
                </a:lnTo>
                <a:lnTo>
                  <a:pt x="1655" y="1840"/>
                </a:lnTo>
                <a:lnTo>
                  <a:pt x="1683" y="1840"/>
                </a:lnTo>
                <a:lnTo>
                  <a:pt x="1710" y="1840"/>
                </a:lnTo>
                <a:lnTo>
                  <a:pt x="1745" y="1840"/>
                </a:lnTo>
                <a:lnTo>
                  <a:pt x="1772" y="1840"/>
                </a:lnTo>
                <a:lnTo>
                  <a:pt x="1800" y="1840"/>
                </a:lnTo>
                <a:lnTo>
                  <a:pt x="1828" y="1840"/>
                </a:lnTo>
                <a:lnTo>
                  <a:pt x="1862" y="1840"/>
                </a:lnTo>
                <a:lnTo>
                  <a:pt x="1890" y="1840"/>
                </a:lnTo>
                <a:lnTo>
                  <a:pt x="1917" y="1840"/>
                </a:lnTo>
                <a:lnTo>
                  <a:pt x="1952" y="1840"/>
                </a:lnTo>
                <a:lnTo>
                  <a:pt x="1979" y="1840"/>
                </a:lnTo>
                <a:lnTo>
                  <a:pt x="2007" y="1840"/>
                </a:lnTo>
                <a:lnTo>
                  <a:pt x="2034" y="1840"/>
                </a:lnTo>
                <a:lnTo>
                  <a:pt x="2069" y="1840"/>
                </a:lnTo>
                <a:lnTo>
                  <a:pt x="2096" y="1840"/>
                </a:lnTo>
                <a:lnTo>
                  <a:pt x="2124" y="1840"/>
                </a:lnTo>
                <a:lnTo>
                  <a:pt x="2158" y="1840"/>
                </a:lnTo>
                <a:lnTo>
                  <a:pt x="2186" y="1840"/>
                </a:lnTo>
                <a:lnTo>
                  <a:pt x="2214" y="1840"/>
                </a:lnTo>
                <a:lnTo>
                  <a:pt x="2241" y="1840"/>
                </a:lnTo>
                <a:lnTo>
                  <a:pt x="2276" y="1840"/>
                </a:lnTo>
                <a:lnTo>
                  <a:pt x="2303" y="1840"/>
                </a:lnTo>
                <a:lnTo>
                  <a:pt x="2331" y="1840"/>
                </a:lnTo>
                <a:lnTo>
                  <a:pt x="2365" y="1840"/>
                </a:lnTo>
                <a:lnTo>
                  <a:pt x="2393" y="1840"/>
                </a:lnTo>
                <a:lnTo>
                  <a:pt x="2420" y="1840"/>
                </a:lnTo>
                <a:lnTo>
                  <a:pt x="2448" y="1840"/>
                </a:lnTo>
                <a:lnTo>
                  <a:pt x="2483" y="1840"/>
                </a:lnTo>
                <a:close/>
              </a:path>
            </a:pathLst>
          </a:custGeom>
          <a:solidFill>
            <a:srgbClr val="7fdb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1" name=""/>
          <p:cNvSpPr/>
          <p:nvPr/>
        </p:nvSpPr>
        <p:spPr>
          <a:xfrm>
            <a:off x="3205080" y="3033720"/>
            <a:ext cx="11160" cy="33480"/>
          </a:xfrm>
          <a:custGeom>
            <a:avLst/>
            <a:gdLst/>
            <a:ahLst/>
            <a:rect l="l" t="t" r="r" b="b"/>
            <a:pathLst>
              <a:path w="7" h="21">
                <a:moveTo>
                  <a:pt x="7" y="14"/>
                </a:move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0" y="0"/>
                </a:lnTo>
                <a:lnTo>
                  <a:pt x="0" y="0"/>
                </a:lnTo>
                <a:lnTo>
                  <a:pt x="0" y="7"/>
                </a:lnTo>
                <a:lnTo>
                  <a:pt x="0" y="7"/>
                </a:lnTo>
                <a:lnTo>
                  <a:pt x="0" y="14"/>
                </a:lnTo>
                <a:lnTo>
                  <a:pt x="0" y="14"/>
                </a:lnTo>
                <a:lnTo>
                  <a:pt x="0" y="21"/>
                </a:lnTo>
                <a:lnTo>
                  <a:pt x="0" y="21"/>
                </a:lnTo>
                <a:lnTo>
                  <a:pt x="0" y="21"/>
                </a:lnTo>
                <a:lnTo>
                  <a:pt x="7" y="21"/>
                </a:lnTo>
                <a:lnTo>
                  <a:pt x="7" y="14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2" name=""/>
          <p:cNvSpPr/>
          <p:nvPr/>
        </p:nvSpPr>
        <p:spPr>
          <a:xfrm>
            <a:off x="3567240" y="2957400"/>
            <a:ext cx="20520" cy="54000"/>
          </a:xfrm>
          <a:custGeom>
            <a:avLst/>
            <a:gdLst/>
            <a:ahLst/>
            <a:rect l="l" t="t" r="r" b="b"/>
            <a:pathLst>
              <a:path w="13" h="34">
                <a:moveTo>
                  <a:pt x="13" y="34"/>
                </a:moveTo>
                <a:lnTo>
                  <a:pt x="13" y="28"/>
                </a:lnTo>
                <a:lnTo>
                  <a:pt x="13" y="28"/>
                </a:lnTo>
                <a:lnTo>
                  <a:pt x="13" y="21"/>
                </a:lnTo>
                <a:lnTo>
                  <a:pt x="13" y="14"/>
                </a:lnTo>
                <a:lnTo>
                  <a:pt x="13" y="14"/>
                </a:lnTo>
                <a:lnTo>
                  <a:pt x="13" y="14"/>
                </a:lnTo>
                <a:lnTo>
                  <a:pt x="13" y="7"/>
                </a:lnTo>
                <a:lnTo>
                  <a:pt x="13" y="7"/>
                </a:lnTo>
                <a:lnTo>
                  <a:pt x="6" y="0"/>
                </a:lnTo>
                <a:lnTo>
                  <a:pt x="6" y="7"/>
                </a:lnTo>
                <a:lnTo>
                  <a:pt x="0" y="7"/>
                </a:lnTo>
                <a:lnTo>
                  <a:pt x="0" y="7"/>
                </a:lnTo>
                <a:lnTo>
                  <a:pt x="0" y="14"/>
                </a:lnTo>
                <a:lnTo>
                  <a:pt x="0" y="14"/>
                </a:lnTo>
                <a:lnTo>
                  <a:pt x="0" y="21"/>
                </a:lnTo>
                <a:lnTo>
                  <a:pt x="6" y="21"/>
                </a:lnTo>
                <a:lnTo>
                  <a:pt x="6" y="28"/>
                </a:lnTo>
                <a:lnTo>
                  <a:pt x="6" y="34"/>
                </a:lnTo>
                <a:lnTo>
                  <a:pt x="13" y="34"/>
                </a:lnTo>
                <a:lnTo>
                  <a:pt x="13" y="34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3" name=""/>
          <p:cNvSpPr/>
          <p:nvPr/>
        </p:nvSpPr>
        <p:spPr>
          <a:xfrm>
            <a:off x="3238560" y="2903400"/>
            <a:ext cx="22320" cy="76320"/>
          </a:xfrm>
          <a:custGeom>
            <a:avLst/>
            <a:gdLst/>
            <a:ahLst/>
            <a:rect l="l" t="t" r="r" b="b"/>
            <a:pathLst>
              <a:path w="14" h="48">
                <a:moveTo>
                  <a:pt x="14" y="34"/>
                </a:moveTo>
                <a:lnTo>
                  <a:pt x="14" y="34"/>
                </a:lnTo>
                <a:lnTo>
                  <a:pt x="14" y="27"/>
                </a:lnTo>
                <a:lnTo>
                  <a:pt x="14" y="27"/>
                </a:lnTo>
                <a:lnTo>
                  <a:pt x="14" y="20"/>
                </a:lnTo>
                <a:lnTo>
                  <a:pt x="14" y="13"/>
                </a:lnTo>
                <a:lnTo>
                  <a:pt x="14" y="13"/>
                </a:lnTo>
                <a:lnTo>
                  <a:pt x="14" y="6"/>
                </a:lnTo>
                <a:lnTo>
                  <a:pt x="14" y="0"/>
                </a:lnTo>
                <a:lnTo>
                  <a:pt x="7" y="6"/>
                </a:lnTo>
                <a:lnTo>
                  <a:pt x="7" y="13"/>
                </a:lnTo>
                <a:lnTo>
                  <a:pt x="7" y="20"/>
                </a:lnTo>
                <a:lnTo>
                  <a:pt x="0" y="20"/>
                </a:lnTo>
                <a:lnTo>
                  <a:pt x="0" y="27"/>
                </a:lnTo>
                <a:lnTo>
                  <a:pt x="0" y="27"/>
                </a:lnTo>
                <a:lnTo>
                  <a:pt x="0" y="34"/>
                </a:lnTo>
                <a:lnTo>
                  <a:pt x="7" y="41"/>
                </a:lnTo>
                <a:lnTo>
                  <a:pt x="7" y="41"/>
                </a:lnTo>
                <a:lnTo>
                  <a:pt x="14" y="48"/>
                </a:lnTo>
                <a:lnTo>
                  <a:pt x="14" y="41"/>
                </a:lnTo>
                <a:lnTo>
                  <a:pt x="14" y="34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4" name=""/>
          <p:cNvSpPr/>
          <p:nvPr/>
        </p:nvSpPr>
        <p:spPr>
          <a:xfrm>
            <a:off x="3260880" y="2814480"/>
            <a:ext cx="54000" cy="55800"/>
          </a:xfrm>
          <a:custGeom>
            <a:avLst/>
            <a:gdLst/>
            <a:ahLst/>
            <a:rect l="l" t="t" r="r" b="b"/>
            <a:pathLst>
              <a:path w="34" h="35">
                <a:moveTo>
                  <a:pt x="27" y="35"/>
                </a:moveTo>
                <a:lnTo>
                  <a:pt x="27" y="28"/>
                </a:lnTo>
                <a:lnTo>
                  <a:pt x="34" y="21"/>
                </a:lnTo>
                <a:lnTo>
                  <a:pt x="34" y="21"/>
                </a:lnTo>
                <a:lnTo>
                  <a:pt x="34" y="14"/>
                </a:lnTo>
                <a:lnTo>
                  <a:pt x="34" y="7"/>
                </a:lnTo>
                <a:lnTo>
                  <a:pt x="34" y="7"/>
                </a:lnTo>
                <a:lnTo>
                  <a:pt x="27" y="0"/>
                </a:lnTo>
                <a:lnTo>
                  <a:pt x="27" y="0"/>
                </a:lnTo>
                <a:lnTo>
                  <a:pt x="20" y="0"/>
                </a:lnTo>
                <a:lnTo>
                  <a:pt x="6" y="0"/>
                </a:lnTo>
                <a:lnTo>
                  <a:pt x="0" y="0"/>
                </a:lnTo>
                <a:lnTo>
                  <a:pt x="0" y="7"/>
                </a:lnTo>
                <a:lnTo>
                  <a:pt x="0" y="7"/>
                </a:lnTo>
                <a:lnTo>
                  <a:pt x="0" y="14"/>
                </a:lnTo>
                <a:lnTo>
                  <a:pt x="0" y="21"/>
                </a:lnTo>
                <a:lnTo>
                  <a:pt x="6" y="21"/>
                </a:lnTo>
                <a:lnTo>
                  <a:pt x="13" y="28"/>
                </a:lnTo>
                <a:lnTo>
                  <a:pt x="20" y="35"/>
                </a:lnTo>
                <a:lnTo>
                  <a:pt x="27" y="35"/>
                </a:lnTo>
                <a:lnTo>
                  <a:pt x="27" y="35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5" name=""/>
          <p:cNvSpPr/>
          <p:nvPr/>
        </p:nvSpPr>
        <p:spPr>
          <a:xfrm>
            <a:off x="3249720" y="2749680"/>
            <a:ext cx="11160" cy="64800"/>
          </a:xfrm>
          <a:custGeom>
            <a:avLst/>
            <a:gdLst/>
            <a:ahLst/>
            <a:rect l="l" t="t" r="r" b="b"/>
            <a:pathLst>
              <a:path w="7" h="41">
                <a:moveTo>
                  <a:pt x="7" y="14"/>
                </a:moveTo>
                <a:lnTo>
                  <a:pt x="7" y="7"/>
                </a:lnTo>
                <a:lnTo>
                  <a:pt x="7" y="0"/>
                </a:lnTo>
                <a:lnTo>
                  <a:pt x="7" y="0"/>
                </a:lnTo>
                <a:lnTo>
                  <a:pt x="0" y="0"/>
                </a:lnTo>
                <a:lnTo>
                  <a:pt x="0" y="14"/>
                </a:lnTo>
                <a:lnTo>
                  <a:pt x="0" y="21"/>
                </a:lnTo>
                <a:lnTo>
                  <a:pt x="0" y="28"/>
                </a:lnTo>
                <a:lnTo>
                  <a:pt x="0" y="35"/>
                </a:lnTo>
                <a:lnTo>
                  <a:pt x="0" y="41"/>
                </a:lnTo>
                <a:lnTo>
                  <a:pt x="7" y="41"/>
                </a:lnTo>
                <a:lnTo>
                  <a:pt x="7" y="41"/>
                </a:lnTo>
                <a:lnTo>
                  <a:pt x="7" y="35"/>
                </a:lnTo>
                <a:lnTo>
                  <a:pt x="7" y="28"/>
                </a:lnTo>
                <a:lnTo>
                  <a:pt x="7" y="14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6" name=""/>
          <p:cNvSpPr/>
          <p:nvPr/>
        </p:nvSpPr>
        <p:spPr>
          <a:xfrm>
            <a:off x="4211640" y="5527800"/>
            <a:ext cx="165240" cy="120600"/>
          </a:xfrm>
          <a:custGeom>
            <a:avLst/>
            <a:gdLst/>
            <a:ahLst/>
            <a:rect l="l" t="t" r="r" b="b"/>
            <a:pathLst>
              <a:path w="104" h="76">
                <a:moveTo>
                  <a:pt x="0" y="76"/>
                </a:moveTo>
                <a:lnTo>
                  <a:pt x="7" y="69"/>
                </a:lnTo>
                <a:lnTo>
                  <a:pt x="7" y="62"/>
                </a:lnTo>
                <a:lnTo>
                  <a:pt x="14" y="62"/>
                </a:lnTo>
                <a:lnTo>
                  <a:pt x="21" y="55"/>
                </a:lnTo>
                <a:lnTo>
                  <a:pt x="21" y="48"/>
                </a:lnTo>
                <a:lnTo>
                  <a:pt x="28" y="41"/>
                </a:lnTo>
                <a:lnTo>
                  <a:pt x="28" y="34"/>
                </a:lnTo>
                <a:lnTo>
                  <a:pt x="35" y="34"/>
                </a:lnTo>
                <a:lnTo>
                  <a:pt x="35" y="27"/>
                </a:lnTo>
                <a:lnTo>
                  <a:pt x="42" y="20"/>
                </a:lnTo>
                <a:lnTo>
                  <a:pt x="49" y="20"/>
                </a:lnTo>
                <a:lnTo>
                  <a:pt x="62" y="20"/>
                </a:lnTo>
                <a:lnTo>
                  <a:pt x="69" y="14"/>
                </a:lnTo>
                <a:lnTo>
                  <a:pt x="69" y="7"/>
                </a:lnTo>
                <a:lnTo>
                  <a:pt x="76" y="0"/>
                </a:lnTo>
                <a:lnTo>
                  <a:pt x="76" y="0"/>
                </a:lnTo>
                <a:lnTo>
                  <a:pt x="83" y="0"/>
                </a:lnTo>
                <a:lnTo>
                  <a:pt x="90" y="0"/>
                </a:lnTo>
                <a:lnTo>
                  <a:pt x="97" y="7"/>
                </a:lnTo>
                <a:lnTo>
                  <a:pt x="104" y="14"/>
                </a:lnTo>
                <a:lnTo>
                  <a:pt x="97" y="20"/>
                </a:lnTo>
                <a:lnTo>
                  <a:pt x="90" y="20"/>
                </a:lnTo>
                <a:lnTo>
                  <a:pt x="76" y="20"/>
                </a:lnTo>
                <a:lnTo>
                  <a:pt x="69" y="27"/>
                </a:lnTo>
                <a:lnTo>
                  <a:pt x="69" y="34"/>
                </a:lnTo>
                <a:lnTo>
                  <a:pt x="69" y="41"/>
                </a:lnTo>
                <a:lnTo>
                  <a:pt x="69" y="48"/>
                </a:lnTo>
                <a:lnTo>
                  <a:pt x="69" y="55"/>
                </a:lnTo>
                <a:lnTo>
                  <a:pt x="76" y="55"/>
                </a:lnTo>
                <a:lnTo>
                  <a:pt x="76" y="62"/>
                </a:lnTo>
                <a:lnTo>
                  <a:pt x="76" y="69"/>
                </a:lnTo>
                <a:lnTo>
                  <a:pt x="76" y="76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7" name=""/>
          <p:cNvSpPr/>
          <p:nvPr/>
        </p:nvSpPr>
        <p:spPr>
          <a:xfrm flipH="1">
            <a:off x="6620040" y="2990880"/>
            <a:ext cx="10800" cy="11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8" name=""/>
          <p:cNvSpPr/>
          <p:nvPr/>
        </p:nvSpPr>
        <p:spPr>
          <a:xfrm>
            <a:off x="6215040" y="3002040"/>
            <a:ext cx="405000" cy="928440"/>
          </a:xfrm>
          <a:custGeom>
            <a:avLst/>
            <a:gdLst/>
            <a:ahLst/>
            <a:rect l="l" t="t" r="r" b="b"/>
            <a:pathLst>
              <a:path w="255" h="585">
                <a:moveTo>
                  <a:pt x="255" y="0"/>
                </a:moveTo>
                <a:lnTo>
                  <a:pt x="248" y="0"/>
                </a:lnTo>
                <a:lnTo>
                  <a:pt x="248" y="6"/>
                </a:lnTo>
                <a:lnTo>
                  <a:pt x="248" y="13"/>
                </a:lnTo>
                <a:lnTo>
                  <a:pt x="248" y="20"/>
                </a:lnTo>
                <a:lnTo>
                  <a:pt x="248" y="27"/>
                </a:lnTo>
                <a:lnTo>
                  <a:pt x="248" y="34"/>
                </a:lnTo>
                <a:lnTo>
                  <a:pt x="255" y="41"/>
                </a:lnTo>
                <a:lnTo>
                  <a:pt x="255" y="48"/>
                </a:lnTo>
                <a:lnTo>
                  <a:pt x="255" y="55"/>
                </a:lnTo>
                <a:lnTo>
                  <a:pt x="255" y="62"/>
                </a:lnTo>
                <a:lnTo>
                  <a:pt x="255" y="62"/>
                </a:lnTo>
                <a:lnTo>
                  <a:pt x="255" y="68"/>
                </a:lnTo>
                <a:lnTo>
                  <a:pt x="248" y="75"/>
                </a:lnTo>
                <a:lnTo>
                  <a:pt x="241" y="82"/>
                </a:lnTo>
                <a:lnTo>
                  <a:pt x="235" y="82"/>
                </a:lnTo>
                <a:lnTo>
                  <a:pt x="228" y="89"/>
                </a:lnTo>
                <a:lnTo>
                  <a:pt x="221" y="96"/>
                </a:lnTo>
                <a:lnTo>
                  <a:pt x="214" y="96"/>
                </a:lnTo>
                <a:lnTo>
                  <a:pt x="207" y="103"/>
                </a:lnTo>
                <a:lnTo>
                  <a:pt x="200" y="110"/>
                </a:lnTo>
                <a:lnTo>
                  <a:pt x="200" y="117"/>
                </a:lnTo>
                <a:lnTo>
                  <a:pt x="200" y="124"/>
                </a:lnTo>
                <a:lnTo>
                  <a:pt x="200" y="130"/>
                </a:lnTo>
                <a:lnTo>
                  <a:pt x="193" y="130"/>
                </a:lnTo>
                <a:lnTo>
                  <a:pt x="186" y="137"/>
                </a:lnTo>
                <a:lnTo>
                  <a:pt x="179" y="144"/>
                </a:lnTo>
                <a:lnTo>
                  <a:pt x="173" y="151"/>
                </a:lnTo>
                <a:lnTo>
                  <a:pt x="173" y="151"/>
                </a:lnTo>
                <a:lnTo>
                  <a:pt x="166" y="158"/>
                </a:lnTo>
                <a:lnTo>
                  <a:pt x="166" y="165"/>
                </a:lnTo>
                <a:lnTo>
                  <a:pt x="166" y="172"/>
                </a:lnTo>
                <a:lnTo>
                  <a:pt x="173" y="179"/>
                </a:lnTo>
                <a:lnTo>
                  <a:pt x="179" y="186"/>
                </a:lnTo>
                <a:lnTo>
                  <a:pt x="173" y="192"/>
                </a:lnTo>
                <a:lnTo>
                  <a:pt x="173" y="186"/>
                </a:lnTo>
                <a:lnTo>
                  <a:pt x="166" y="179"/>
                </a:lnTo>
                <a:lnTo>
                  <a:pt x="159" y="179"/>
                </a:lnTo>
                <a:lnTo>
                  <a:pt x="145" y="179"/>
                </a:lnTo>
                <a:lnTo>
                  <a:pt x="131" y="179"/>
                </a:lnTo>
                <a:lnTo>
                  <a:pt x="124" y="179"/>
                </a:lnTo>
                <a:lnTo>
                  <a:pt x="117" y="186"/>
                </a:lnTo>
                <a:lnTo>
                  <a:pt x="117" y="192"/>
                </a:lnTo>
                <a:lnTo>
                  <a:pt x="117" y="199"/>
                </a:lnTo>
                <a:lnTo>
                  <a:pt x="117" y="206"/>
                </a:lnTo>
                <a:lnTo>
                  <a:pt x="124" y="213"/>
                </a:lnTo>
                <a:lnTo>
                  <a:pt x="131" y="213"/>
                </a:lnTo>
                <a:lnTo>
                  <a:pt x="138" y="213"/>
                </a:lnTo>
                <a:lnTo>
                  <a:pt x="152" y="220"/>
                </a:lnTo>
                <a:lnTo>
                  <a:pt x="159" y="220"/>
                </a:lnTo>
                <a:lnTo>
                  <a:pt x="159" y="227"/>
                </a:lnTo>
                <a:lnTo>
                  <a:pt x="166" y="234"/>
                </a:lnTo>
                <a:lnTo>
                  <a:pt x="166" y="241"/>
                </a:lnTo>
                <a:lnTo>
                  <a:pt x="166" y="248"/>
                </a:lnTo>
                <a:lnTo>
                  <a:pt x="159" y="254"/>
                </a:lnTo>
                <a:lnTo>
                  <a:pt x="152" y="261"/>
                </a:lnTo>
                <a:lnTo>
                  <a:pt x="145" y="268"/>
                </a:lnTo>
                <a:lnTo>
                  <a:pt x="138" y="268"/>
                </a:lnTo>
                <a:lnTo>
                  <a:pt x="131" y="275"/>
                </a:lnTo>
                <a:lnTo>
                  <a:pt x="131" y="282"/>
                </a:lnTo>
                <a:lnTo>
                  <a:pt x="131" y="289"/>
                </a:lnTo>
                <a:lnTo>
                  <a:pt x="124" y="296"/>
                </a:lnTo>
                <a:lnTo>
                  <a:pt x="124" y="303"/>
                </a:lnTo>
                <a:lnTo>
                  <a:pt x="124" y="303"/>
                </a:lnTo>
                <a:lnTo>
                  <a:pt x="117" y="310"/>
                </a:lnTo>
                <a:lnTo>
                  <a:pt x="117" y="316"/>
                </a:lnTo>
                <a:lnTo>
                  <a:pt x="117" y="323"/>
                </a:lnTo>
                <a:lnTo>
                  <a:pt x="110" y="330"/>
                </a:lnTo>
                <a:lnTo>
                  <a:pt x="110" y="337"/>
                </a:lnTo>
                <a:lnTo>
                  <a:pt x="110" y="344"/>
                </a:lnTo>
                <a:lnTo>
                  <a:pt x="104" y="351"/>
                </a:lnTo>
                <a:lnTo>
                  <a:pt x="104" y="358"/>
                </a:lnTo>
                <a:lnTo>
                  <a:pt x="104" y="358"/>
                </a:lnTo>
                <a:lnTo>
                  <a:pt x="97" y="365"/>
                </a:lnTo>
                <a:lnTo>
                  <a:pt x="97" y="372"/>
                </a:lnTo>
                <a:lnTo>
                  <a:pt x="97" y="378"/>
                </a:lnTo>
                <a:lnTo>
                  <a:pt x="97" y="385"/>
                </a:lnTo>
                <a:lnTo>
                  <a:pt x="97" y="392"/>
                </a:lnTo>
                <a:lnTo>
                  <a:pt x="90" y="399"/>
                </a:lnTo>
                <a:lnTo>
                  <a:pt x="90" y="406"/>
                </a:lnTo>
                <a:lnTo>
                  <a:pt x="90" y="413"/>
                </a:lnTo>
                <a:lnTo>
                  <a:pt x="90" y="420"/>
                </a:lnTo>
                <a:lnTo>
                  <a:pt x="83" y="427"/>
                </a:lnTo>
                <a:lnTo>
                  <a:pt x="83" y="427"/>
                </a:lnTo>
                <a:lnTo>
                  <a:pt x="76" y="434"/>
                </a:lnTo>
                <a:lnTo>
                  <a:pt x="76" y="440"/>
                </a:lnTo>
                <a:lnTo>
                  <a:pt x="83" y="447"/>
                </a:lnTo>
                <a:lnTo>
                  <a:pt x="90" y="454"/>
                </a:lnTo>
                <a:lnTo>
                  <a:pt x="97" y="461"/>
                </a:lnTo>
                <a:lnTo>
                  <a:pt x="104" y="461"/>
                </a:lnTo>
                <a:lnTo>
                  <a:pt x="104" y="468"/>
                </a:lnTo>
                <a:lnTo>
                  <a:pt x="110" y="475"/>
                </a:lnTo>
                <a:lnTo>
                  <a:pt x="110" y="482"/>
                </a:lnTo>
                <a:lnTo>
                  <a:pt x="104" y="489"/>
                </a:lnTo>
                <a:lnTo>
                  <a:pt x="104" y="496"/>
                </a:lnTo>
                <a:lnTo>
                  <a:pt x="97" y="502"/>
                </a:lnTo>
                <a:lnTo>
                  <a:pt x="97" y="509"/>
                </a:lnTo>
                <a:lnTo>
                  <a:pt x="104" y="509"/>
                </a:lnTo>
                <a:lnTo>
                  <a:pt x="110" y="516"/>
                </a:lnTo>
                <a:lnTo>
                  <a:pt x="117" y="523"/>
                </a:lnTo>
                <a:lnTo>
                  <a:pt x="124" y="523"/>
                </a:lnTo>
                <a:lnTo>
                  <a:pt x="131" y="530"/>
                </a:lnTo>
                <a:lnTo>
                  <a:pt x="131" y="537"/>
                </a:lnTo>
                <a:lnTo>
                  <a:pt x="131" y="544"/>
                </a:lnTo>
                <a:lnTo>
                  <a:pt x="131" y="551"/>
                </a:lnTo>
                <a:lnTo>
                  <a:pt x="124" y="558"/>
                </a:lnTo>
                <a:lnTo>
                  <a:pt x="117" y="564"/>
                </a:lnTo>
                <a:lnTo>
                  <a:pt x="110" y="564"/>
                </a:lnTo>
                <a:lnTo>
                  <a:pt x="104" y="558"/>
                </a:lnTo>
                <a:lnTo>
                  <a:pt x="97" y="551"/>
                </a:lnTo>
                <a:lnTo>
                  <a:pt x="90" y="551"/>
                </a:lnTo>
                <a:lnTo>
                  <a:pt x="83" y="551"/>
                </a:lnTo>
                <a:lnTo>
                  <a:pt x="76" y="558"/>
                </a:lnTo>
                <a:lnTo>
                  <a:pt x="76" y="564"/>
                </a:lnTo>
                <a:lnTo>
                  <a:pt x="69" y="571"/>
                </a:lnTo>
                <a:lnTo>
                  <a:pt x="69" y="578"/>
                </a:lnTo>
                <a:lnTo>
                  <a:pt x="62" y="585"/>
                </a:lnTo>
                <a:lnTo>
                  <a:pt x="55" y="585"/>
                </a:lnTo>
                <a:lnTo>
                  <a:pt x="48" y="578"/>
                </a:lnTo>
                <a:lnTo>
                  <a:pt x="42" y="571"/>
                </a:lnTo>
                <a:lnTo>
                  <a:pt x="42" y="564"/>
                </a:lnTo>
                <a:lnTo>
                  <a:pt x="35" y="558"/>
                </a:lnTo>
                <a:lnTo>
                  <a:pt x="28" y="558"/>
                </a:lnTo>
                <a:lnTo>
                  <a:pt x="28" y="551"/>
                </a:lnTo>
                <a:lnTo>
                  <a:pt x="21" y="544"/>
                </a:lnTo>
                <a:lnTo>
                  <a:pt x="21" y="537"/>
                </a:lnTo>
                <a:lnTo>
                  <a:pt x="21" y="530"/>
                </a:lnTo>
                <a:lnTo>
                  <a:pt x="21" y="523"/>
                </a:lnTo>
                <a:lnTo>
                  <a:pt x="21" y="516"/>
                </a:lnTo>
                <a:lnTo>
                  <a:pt x="21" y="509"/>
                </a:lnTo>
                <a:lnTo>
                  <a:pt x="21" y="502"/>
                </a:lnTo>
                <a:lnTo>
                  <a:pt x="14" y="496"/>
                </a:lnTo>
                <a:lnTo>
                  <a:pt x="7" y="489"/>
                </a:lnTo>
                <a:lnTo>
                  <a:pt x="0" y="482"/>
                </a:lnTo>
                <a:lnTo>
                  <a:pt x="0" y="482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9" name=""/>
          <p:cNvSpPr/>
          <p:nvPr/>
        </p:nvSpPr>
        <p:spPr>
          <a:xfrm>
            <a:off x="6215040" y="3767040"/>
            <a:ext cx="1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0" name=""/>
          <p:cNvSpPr/>
          <p:nvPr/>
        </p:nvSpPr>
        <p:spPr>
          <a:xfrm>
            <a:off x="6105600" y="3809880"/>
            <a:ext cx="66600" cy="66960"/>
          </a:xfrm>
          <a:custGeom>
            <a:avLst/>
            <a:gdLst/>
            <a:ahLst/>
            <a:rect l="l" t="t" r="r" b="b"/>
            <a:pathLst>
              <a:path w="42" h="42">
                <a:moveTo>
                  <a:pt x="21" y="0"/>
                </a:moveTo>
                <a:lnTo>
                  <a:pt x="21" y="7"/>
                </a:lnTo>
                <a:lnTo>
                  <a:pt x="14" y="7"/>
                </a:lnTo>
                <a:lnTo>
                  <a:pt x="14" y="7"/>
                </a:lnTo>
                <a:lnTo>
                  <a:pt x="14" y="7"/>
                </a:lnTo>
                <a:lnTo>
                  <a:pt x="14" y="7"/>
                </a:lnTo>
                <a:lnTo>
                  <a:pt x="14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14"/>
                </a:lnTo>
                <a:lnTo>
                  <a:pt x="7" y="14"/>
                </a:lnTo>
                <a:lnTo>
                  <a:pt x="7" y="14"/>
                </a:lnTo>
                <a:lnTo>
                  <a:pt x="7" y="14"/>
                </a:lnTo>
                <a:lnTo>
                  <a:pt x="7" y="21"/>
                </a:lnTo>
                <a:lnTo>
                  <a:pt x="7" y="21"/>
                </a:lnTo>
                <a:lnTo>
                  <a:pt x="7" y="21"/>
                </a:lnTo>
                <a:lnTo>
                  <a:pt x="7" y="28"/>
                </a:lnTo>
                <a:lnTo>
                  <a:pt x="14" y="28"/>
                </a:lnTo>
                <a:lnTo>
                  <a:pt x="14" y="28"/>
                </a:lnTo>
                <a:lnTo>
                  <a:pt x="14" y="21"/>
                </a:lnTo>
                <a:lnTo>
                  <a:pt x="14" y="21"/>
                </a:lnTo>
                <a:lnTo>
                  <a:pt x="14" y="21"/>
                </a:lnTo>
                <a:lnTo>
                  <a:pt x="14" y="21"/>
                </a:lnTo>
                <a:lnTo>
                  <a:pt x="14" y="14"/>
                </a:lnTo>
                <a:lnTo>
                  <a:pt x="14" y="14"/>
                </a:lnTo>
                <a:lnTo>
                  <a:pt x="14" y="14"/>
                </a:lnTo>
                <a:lnTo>
                  <a:pt x="21" y="14"/>
                </a:lnTo>
                <a:lnTo>
                  <a:pt x="21" y="14"/>
                </a:lnTo>
                <a:lnTo>
                  <a:pt x="21" y="14"/>
                </a:lnTo>
                <a:lnTo>
                  <a:pt x="28" y="14"/>
                </a:lnTo>
                <a:lnTo>
                  <a:pt x="28" y="14"/>
                </a:lnTo>
                <a:lnTo>
                  <a:pt x="28" y="14"/>
                </a:lnTo>
                <a:lnTo>
                  <a:pt x="35" y="14"/>
                </a:lnTo>
                <a:lnTo>
                  <a:pt x="35" y="14"/>
                </a:lnTo>
                <a:lnTo>
                  <a:pt x="35" y="14"/>
                </a:lnTo>
                <a:lnTo>
                  <a:pt x="35" y="21"/>
                </a:lnTo>
                <a:lnTo>
                  <a:pt x="42" y="21"/>
                </a:lnTo>
                <a:lnTo>
                  <a:pt x="42" y="21"/>
                </a:lnTo>
                <a:lnTo>
                  <a:pt x="42" y="21"/>
                </a:lnTo>
                <a:lnTo>
                  <a:pt x="42" y="28"/>
                </a:lnTo>
                <a:lnTo>
                  <a:pt x="42" y="28"/>
                </a:lnTo>
                <a:lnTo>
                  <a:pt x="42" y="28"/>
                </a:lnTo>
                <a:lnTo>
                  <a:pt x="42" y="35"/>
                </a:lnTo>
                <a:lnTo>
                  <a:pt x="42" y="35"/>
                </a:lnTo>
                <a:lnTo>
                  <a:pt x="35" y="35"/>
                </a:lnTo>
                <a:lnTo>
                  <a:pt x="35" y="35"/>
                </a:lnTo>
                <a:lnTo>
                  <a:pt x="35" y="42"/>
                </a:lnTo>
                <a:lnTo>
                  <a:pt x="28" y="42"/>
                </a:lnTo>
                <a:lnTo>
                  <a:pt x="28" y="42"/>
                </a:lnTo>
                <a:lnTo>
                  <a:pt x="28" y="42"/>
                </a:lnTo>
                <a:lnTo>
                  <a:pt x="21" y="42"/>
                </a:lnTo>
                <a:lnTo>
                  <a:pt x="21" y="42"/>
                </a:lnTo>
                <a:lnTo>
                  <a:pt x="14" y="35"/>
                </a:lnTo>
                <a:lnTo>
                  <a:pt x="7" y="35"/>
                </a:lnTo>
                <a:lnTo>
                  <a:pt x="7" y="28"/>
                </a:lnTo>
                <a:lnTo>
                  <a:pt x="0" y="21"/>
                </a:lnTo>
                <a:lnTo>
                  <a:pt x="0" y="21"/>
                </a:lnTo>
                <a:lnTo>
                  <a:pt x="0" y="14"/>
                </a:lnTo>
                <a:lnTo>
                  <a:pt x="0" y="14"/>
                </a:lnTo>
                <a:lnTo>
                  <a:pt x="0" y="7"/>
                </a:lnTo>
                <a:lnTo>
                  <a:pt x="0" y="7"/>
                </a:lnTo>
                <a:lnTo>
                  <a:pt x="7" y="7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14" y="0"/>
                </a:lnTo>
                <a:lnTo>
                  <a:pt x="14" y="0"/>
                </a:lnTo>
                <a:lnTo>
                  <a:pt x="14" y="0"/>
                </a:lnTo>
                <a:lnTo>
                  <a:pt x="21" y="0"/>
                </a:lnTo>
                <a:lnTo>
                  <a:pt x="21" y="0"/>
                </a:lnTo>
                <a:close/>
                <a:moveTo>
                  <a:pt x="21" y="35"/>
                </a:moveTo>
                <a:lnTo>
                  <a:pt x="21" y="35"/>
                </a:lnTo>
                <a:lnTo>
                  <a:pt x="21" y="35"/>
                </a:lnTo>
                <a:lnTo>
                  <a:pt x="21" y="35"/>
                </a:lnTo>
                <a:lnTo>
                  <a:pt x="21" y="35"/>
                </a:lnTo>
                <a:lnTo>
                  <a:pt x="28" y="35"/>
                </a:lnTo>
                <a:lnTo>
                  <a:pt x="28" y="35"/>
                </a:lnTo>
                <a:lnTo>
                  <a:pt x="28" y="35"/>
                </a:lnTo>
                <a:lnTo>
                  <a:pt x="28" y="35"/>
                </a:lnTo>
                <a:lnTo>
                  <a:pt x="28" y="35"/>
                </a:lnTo>
                <a:lnTo>
                  <a:pt x="28" y="35"/>
                </a:lnTo>
                <a:lnTo>
                  <a:pt x="35" y="35"/>
                </a:lnTo>
                <a:lnTo>
                  <a:pt x="35" y="35"/>
                </a:lnTo>
                <a:lnTo>
                  <a:pt x="35" y="35"/>
                </a:lnTo>
                <a:lnTo>
                  <a:pt x="35" y="28"/>
                </a:lnTo>
                <a:lnTo>
                  <a:pt x="35" y="28"/>
                </a:lnTo>
                <a:lnTo>
                  <a:pt x="35" y="28"/>
                </a:lnTo>
                <a:lnTo>
                  <a:pt x="35" y="28"/>
                </a:lnTo>
                <a:lnTo>
                  <a:pt x="35" y="21"/>
                </a:lnTo>
                <a:lnTo>
                  <a:pt x="35" y="21"/>
                </a:lnTo>
                <a:lnTo>
                  <a:pt x="35" y="21"/>
                </a:lnTo>
                <a:lnTo>
                  <a:pt x="28" y="21"/>
                </a:lnTo>
                <a:lnTo>
                  <a:pt x="28" y="14"/>
                </a:lnTo>
                <a:lnTo>
                  <a:pt x="28" y="14"/>
                </a:lnTo>
                <a:lnTo>
                  <a:pt x="28" y="14"/>
                </a:lnTo>
                <a:lnTo>
                  <a:pt x="21" y="14"/>
                </a:lnTo>
                <a:lnTo>
                  <a:pt x="21" y="14"/>
                </a:lnTo>
                <a:lnTo>
                  <a:pt x="21" y="21"/>
                </a:lnTo>
                <a:lnTo>
                  <a:pt x="21" y="21"/>
                </a:lnTo>
                <a:lnTo>
                  <a:pt x="14" y="21"/>
                </a:lnTo>
                <a:lnTo>
                  <a:pt x="14" y="21"/>
                </a:lnTo>
                <a:lnTo>
                  <a:pt x="14" y="21"/>
                </a:lnTo>
                <a:lnTo>
                  <a:pt x="14" y="28"/>
                </a:lnTo>
                <a:lnTo>
                  <a:pt x="14" y="28"/>
                </a:lnTo>
                <a:lnTo>
                  <a:pt x="14" y="28"/>
                </a:lnTo>
                <a:lnTo>
                  <a:pt x="21" y="28"/>
                </a:lnTo>
                <a:lnTo>
                  <a:pt x="21" y="35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1" name=""/>
          <p:cNvSpPr/>
          <p:nvPr/>
        </p:nvSpPr>
        <p:spPr>
          <a:xfrm>
            <a:off x="6138720" y="3767040"/>
            <a:ext cx="65160" cy="65160"/>
          </a:xfrm>
          <a:custGeom>
            <a:avLst/>
            <a:gdLst/>
            <a:ahLst/>
            <a:rect l="l" t="t" r="r" b="b"/>
            <a:pathLst>
              <a:path w="41" h="41">
                <a:moveTo>
                  <a:pt x="14" y="34"/>
                </a:moveTo>
                <a:lnTo>
                  <a:pt x="7" y="27"/>
                </a:lnTo>
                <a:lnTo>
                  <a:pt x="7" y="27"/>
                </a:lnTo>
                <a:lnTo>
                  <a:pt x="7" y="27"/>
                </a:lnTo>
                <a:lnTo>
                  <a:pt x="7" y="20"/>
                </a:lnTo>
                <a:lnTo>
                  <a:pt x="7" y="20"/>
                </a:lnTo>
                <a:lnTo>
                  <a:pt x="0" y="20"/>
                </a:lnTo>
                <a:lnTo>
                  <a:pt x="0" y="14"/>
                </a:lnTo>
                <a:lnTo>
                  <a:pt x="0" y="14"/>
                </a:lnTo>
                <a:lnTo>
                  <a:pt x="7" y="14"/>
                </a:lnTo>
                <a:lnTo>
                  <a:pt x="7" y="14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14" y="7"/>
                </a:lnTo>
                <a:lnTo>
                  <a:pt x="14" y="7"/>
                </a:lnTo>
                <a:lnTo>
                  <a:pt x="14" y="7"/>
                </a:lnTo>
                <a:lnTo>
                  <a:pt x="14" y="0"/>
                </a:lnTo>
                <a:lnTo>
                  <a:pt x="14" y="0"/>
                </a:lnTo>
                <a:lnTo>
                  <a:pt x="21" y="7"/>
                </a:lnTo>
                <a:lnTo>
                  <a:pt x="21" y="7"/>
                </a:lnTo>
                <a:lnTo>
                  <a:pt x="21" y="7"/>
                </a:lnTo>
                <a:lnTo>
                  <a:pt x="21" y="7"/>
                </a:lnTo>
                <a:lnTo>
                  <a:pt x="27" y="7"/>
                </a:lnTo>
                <a:lnTo>
                  <a:pt x="27" y="7"/>
                </a:lnTo>
                <a:lnTo>
                  <a:pt x="27" y="7"/>
                </a:lnTo>
                <a:lnTo>
                  <a:pt x="34" y="14"/>
                </a:lnTo>
                <a:lnTo>
                  <a:pt x="34" y="14"/>
                </a:lnTo>
                <a:lnTo>
                  <a:pt x="34" y="14"/>
                </a:lnTo>
                <a:lnTo>
                  <a:pt x="41" y="20"/>
                </a:lnTo>
                <a:lnTo>
                  <a:pt x="41" y="20"/>
                </a:lnTo>
                <a:lnTo>
                  <a:pt x="41" y="20"/>
                </a:lnTo>
                <a:lnTo>
                  <a:pt x="41" y="27"/>
                </a:lnTo>
                <a:lnTo>
                  <a:pt x="41" y="27"/>
                </a:lnTo>
                <a:lnTo>
                  <a:pt x="41" y="27"/>
                </a:lnTo>
                <a:lnTo>
                  <a:pt x="41" y="34"/>
                </a:lnTo>
                <a:lnTo>
                  <a:pt x="41" y="34"/>
                </a:lnTo>
                <a:lnTo>
                  <a:pt x="41" y="34"/>
                </a:lnTo>
                <a:lnTo>
                  <a:pt x="41" y="34"/>
                </a:lnTo>
                <a:lnTo>
                  <a:pt x="41" y="41"/>
                </a:lnTo>
                <a:lnTo>
                  <a:pt x="34" y="41"/>
                </a:lnTo>
                <a:lnTo>
                  <a:pt x="34" y="41"/>
                </a:lnTo>
                <a:lnTo>
                  <a:pt x="34" y="41"/>
                </a:lnTo>
                <a:lnTo>
                  <a:pt x="27" y="41"/>
                </a:lnTo>
                <a:lnTo>
                  <a:pt x="27" y="41"/>
                </a:lnTo>
                <a:lnTo>
                  <a:pt x="21" y="41"/>
                </a:lnTo>
                <a:lnTo>
                  <a:pt x="21" y="34"/>
                </a:lnTo>
                <a:lnTo>
                  <a:pt x="14" y="34"/>
                </a:lnTo>
                <a:close/>
                <a:moveTo>
                  <a:pt x="14" y="27"/>
                </a:moveTo>
                <a:lnTo>
                  <a:pt x="21" y="34"/>
                </a:lnTo>
                <a:lnTo>
                  <a:pt x="21" y="34"/>
                </a:lnTo>
                <a:lnTo>
                  <a:pt x="27" y="34"/>
                </a:lnTo>
                <a:lnTo>
                  <a:pt x="27" y="41"/>
                </a:lnTo>
                <a:lnTo>
                  <a:pt x="34" y="41"/>
                </a:lnTo>
                <a:lnTo>
                  <a:pt x="34" y="41"/>
                </a:lnTo>
                <a:lnTo>
                  <a:pt x="34" y="34"/>
                </a:lnTo>
                <a:lnTo>
                  <a:pt x="34" y="34"/>
                </a:lnTo>
                <a:lnTo>
                  <a:pt x="34" y="34"/>
                </a:lnTo>
                <a:lnTo>
                  <a:pt x="41" y="34"/>
                </a:lnTo>
                <a:lnTo>
                  <a:pt x="41" y="34"/>
                </a:lnTo>
                <a:lnTo>
                  <a:pt x="41" y="27"/>
                </a:lnTo>
                <a:lnTo>
                  <a:pt x="34" y="27"/>
                </a:lnTo>
                <a:lnTo>
                  <a:pt x="34" y="20"/>
                </a:lnTo>
                <a:lnTo>
                  <a:pt x="34" y="20"/>
                </a:lnTo>
                <a:lnTo>
                  <a:pt x="27" y="14"/>
                </a:lnTo>
                <a:lnTo>
                  <a:pt x="27" y="14"/>
                </a:lnTo>
                <a:lnTo>
                  <a:pt x="21" y="14"/>
                </a:lnTo>
                <a:lnTo>
                  <a:pt x="21" y="7"/>
                </a:lnTo>
                <a:lnTo>
                  <a:pt x="21" y="7"/>
                </a:lnTo>
                <a:lnTo>
                  <a:pt x="14" y="7"/>
                </a:lnTo>
                <a:lnTo>
                  <a:pt x="14" y="7"/>
                </a:lnTo>
                <a:lnTo>
                  <a:pt x="14" y="7"/>
                </a:lnTo>
                <a:lnTo>
                  <a:pt x="7" y="14"/>
                </a:lnTo>
                <a:lnTo>
                  <a:pt x="7" y="14"/>
                </a:lnTo>
                <a:lnTo>
                  <a:pt x="7" y="14"/>
                </a:lnTo>
                <a:lnTo>
                  <a:pt x="7" y="14"/>
                </a:lnTo>
                <a:lnTo>
                  <a:pt x="7" y="14"/>
                </a:lnTo>
                <a:lnTo>
                  <a:pt x="7" y="20"/>
                </a:lnTo>
                <a:lnTo>
                  <a:pt x="14" y="20"/>
                </a:lnTo>
                <a:lnTo>
                  <a:pt x="14" y="27"/>
                </a:lnTo>
                <a:lnTo>
                  <a:pt x="14" y="27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2" name=""/>
          <p:cNvSpPr/>
          <p:nvPr/>
        </p:nvSpPr>
        <p:spPr>
          <a:xfrm flipH="1">
            <a:off x="6094080" y="3876840"/>
            <a:ext cx="11160" cy="10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3" name=""/>
          <p:cNvSpPr/>
          <p:nvPr/>
        </p:nvSpPr>
        <p:spPr>
          <a:xfrm>
            <a:off x="4781520" y="3887640"/>
            <a:ext cx="1312920" cy="1071720"/>
          </a:xfrm>
          <a:custGeom>
            <a:avLst/>
            <a:gdLst/>
            <a:ahLst/>
            <a:rect l="l" t="t" r="r" b="b"/>
            <a:pathLst>
              <a:path w="827" h="675">
                <a:moveTo>
                  <a:pt x="827" y="0"/>
                </a:moveTo>
                <a:lnTo>
                  <a:pt x="820" y="6"/>
                </a:lnTo>
                <a:lnTo>
                  <a:pt x="814" y="6"/>
                </a:lnTo>
                <a:lnTo>
                  <a:pt x="807" y="13"/>
                </a:lnTo>
                <a:lnTo>
                  <a:pt x="807" y="20"/>
                </a:lnTo>
                <a:lnTo>
                  <a:pt x="800" y="20"/>
                </a:lnTo>
                <a:lnTo>
                  <a:pt x="786" y="27"/>
                </a:lnTo>
                <a:lnTo>
                  <a:pt x="779" y="34"/>
                </a:lnTo>
                <a:lnTo>
                  <a:pt x="772" y="34"/>
                </a:lnTo>
                <a:lnTo>
                  <a:pt x="772" y="41"/>
                </a:lnTo>
                <a:lnTo>
                  <a:pt x="765" y="48"/>
                </a:lnTo>
                <a:lnTo>
                  <a:pt x="758" y="55"/>
                </a:lnTo>
                <a:lnTo>
                  <a:pt x="751" y="55"/>
                </a:lnTo>
                <a:lnTo>
                  <a:pt x="745" y="62"/>
                </a:lnTo>
                <a:lnTo>
                  <a:pt x="738" y="68"/>
                </a:lnTo>
                <a:lnTo>
                  <a:pt x="731" y="68"/>
                </a:lnTo>
                <a:lnTo>
                  <a:pt x="724" y="75"/>
                </a:lnTo>
                <a:lnTo>
                  <a:pt x="717" y="82"/>
                </a:lnTo>
                <a:lnTo>
                  <a:pt x="710" y="82"/>
                </a:lnTo>
                <a:lnTo>
                  <a:pt x="703" y="89"/>
                </a:lnTo>
                <a:lnTo>
                  <a:pt x="703" y="96"/>
                </a:lnTo>
                <a:lnTo>
                  <a:pt x="696" y="103"/>
                </a:lnTo>
                <a:lnTo>
                  <a:pt x="696" y="110"/>
                </a:lnTo>
                <a:lnTo>
                  <a:pt x="696" y="117"/>
                </a:lnTo>
                <a:lnTo>
                  <a:pt x="696" y="124"/>
                </a:lnTo>
                <a:lnTo>
                  <a:pt x="696" y="124"/>
                </a:lnTo>
                <a:lnTo>
                  <a:pt x="696" y="130"/>
                </a:lnTo>
                <a:lnTo>
                  <a:pt x="689" y="137"/>
                </a:lnTo>
                <a:lnTo>
                  <a:pt x="689" y="144"/>
                </a:lnTo>
                <a:lnTo>
                  <a:pt x="689" y="151"/>
                </a:lnTo>
                <a:lnTo>
                  <a:pt x="689" y="158"/>
                </a:lnTo>
                <a:lnTo>
                  <a:pt x="689" y="165"/>
                </a:lnTo>
                <a:lnTo>
                  <a:pt x="689" y="172"/>
                </a:lnTo>
                <a:lnTo>
                  <a:pt x="689" y="179"/>
                </a:lnTo>
                <a:lnTo>
                  <a:pt x="683" y="186"/>
                </a:lnTo>
                <a:lnTo>
                  <a:pt x="683" y="192"/>
                </a:lnTo>
                <a:lnTo>
                  <a:pt x="683" y="199"/>
                </a:lnTo>
                <a:lnTo>
                  <a:pt x="683" y="199"/>
                </a:lnTo>
                <a:lnTo>
                  <a:pt x="683" y="206"/>
                </a:lnTo>
                <a:lnTo>
                  <a:pt x="683" y="213"/>
                </a:lnTo>
                <a:lnTo>
                  <a:pt x="683" y="220"/>
                </a:lnTo>
                <a:lnTo>
                  <a:pt x="676" y="227"/>
                </a:lnTo>
                <a:lnTo>
                  <a:pt x="676" y="234"/>
                </a:lnTo>
                <a:lnTo>
                  <a:pt x="676" y="241"/>
                </a:lnTo>
                <a:lnTo>
                  <a:pt x="676" y="248"/>
                </a:lnTo>
                <a:lnTo>
                  <a:pt x="676" y="254"/>
                </a:lnTo>
                <a:lnTo>
                  <a:pt x="676" y="261"/>
                </a:lnTo>
                <a:lnTo>
                  <a:pt x="676" y="268"/>
                </a:lnTo>
                <a:lnTo>
                  <a:pt x="676" y="275"/>
                </a:lnTo>
                <a:lnTo>
                  <a:pt x="676" y="275"/>
                </a:lnTo>
                <a:lnTo>
                  <a:pt x="676" y="282"/>
                </a:lnTo>
                <a:lnTo>
                  <a:pt x="676" y="289"/>
                </a:lnTo>
                <a:lnTo>
                  <a:pt x="676" y="296"/>
                </a:lnTo>
                <a:lnTo>
                  <a:pt x="676" y="303"/>
                </a:lnTo>
                <a:lnTo>
                  <a:pt x="676" y="310"/>
                </a:lnTo>
                <a:lnTo>
                  <a:pt x="676" y="316"/>
                </a:lnTo>
                <a:lnTo>
                  <a:pt x="683" y="323"/>
                </a:lnTo>
                <a:lnTo>
                  <a:pt x="683" y="330"/>
                </a:lnTo>
                <a:lnTo>
                  <a:pt x="689" y="330"/>
                </a:lnTo>
                <a:lnTo>
                  <a:pt x="689" y="337"/>
                </a:lnTo>
                <a:lnTo>
                  <a:pt x="689" y="344"/>
                </a:lnTo>
                <a:lnTo>
                  <a:pt x="689" y="351"/>
                </a:lnTo>
                <a:lnTo>
                  <a:pt x="689" y="358"/>
                </a:lnTo>
                <a:lnTo>
                  <a:pt x="683" y="365"/>
                </a:lnTo>
                <a:lnTo>
                  <a:pt x="676" y="372"/>
                </a:lnTo>
                <a:lnTo>
                  <a:pt x="669" y="372"/>
                </a:lnTo>
                <a:lnTo>
                  <a:pt x="655" y="372"/>
                </a:lnTo>
                <a:lnTo>
                  <a:pt x="648" y="372"/>
                </a:lnTo>
                <a:lnTo>
                  <a:pt x="634" y="372"/>
                </a:lnTo>
                <a:lnTo>
                  <a:pt x="627" y="372"/>
                </a:lnTo>
                <a:lnTo>
                  <a:pt x="620" y="372"/>
                </a:lnTo>
                <a:lnTo>
                  <a:pt x="607" y="372"/>
                </a:lnTo>
                <a:lnTo>
                  <a:pt x="600" y="372"/>
                </a:lnTo>
                <a:lnTo>
                  <a:pt x="586" y="372"/>
                </a:lnTo>
                <a:lnTo>
                  <a:pt x="579" y="372"/>
                </a:lnTo>
                <a:lnTo>
                  <a:pt x="572" y="372"/>
                </a:lnTo>
                <a:lnTo>
                  <a:pt x="558" y="372"/>
                </a:lnTo>
                <a:lnTo>
                  <a:pt x="552" y="378"/>
                </a:lnTo>
                <a:lnTo>
                  <a:pt x="545" y="378"/>
                </a:lnTo>
                <a:lnTo>
                  <a:pt x="531" y="385"/>
                </a:lnTo>
                <a:lnTo>
                  <a:pt x="524" y="385"/>
                </a:lnTo>
                <a:lnTo>
                  <a:pt x="517" y="392"/>
                </a:lnTo>
                <a:lnTo>
                  <a:pt x="510" y="399"/>
                </a:lnTo>
                <a:lnTo>
                  <a:pt x="510" y="399"/>
                </a:lnTo>
                <a:lnTo>
                  <a:pt x="510" y="406"/>
                </a:lnTo>
                <a:lnTo>
                  <a:pt x="510" y="413"/>
                </a:lnTo>
                <a:lnTo>
                  <a:pt x="510" y="420"/>
                </a:lnTo>
                <a:lnTo>
                  <a:pt x="503" y="427"/>
                </a:lnTo>
                <a:lnTo>
                  <a:pt x="503" y="434"/>
                </a:lnTo>
                <a:lnTo>
                  <a:pt x="496" y="440"/>
                </a:lnTo>
                <a:lnTo>
                  <a:pt x="483" y="440"/>
                </a:lnTo>
                <a:lnTo>
                  <a:pt x="476" y="447"/>
                </a:lnTo>
                <a:lnTo>
                  <a:pt x="469" y="447"/>
                </a:lnTo>
                <a:lnTo>
                  <a:pt x="462" y="447"/>
                </a:lnTo>
                <a:lnTo>
                  <a:pt x="448" y="454"/>
                </a:lnTo>
                <a:lnTo>
                  <a:pt x="441" y="454"/>
                </a:lnTo>
                <a:lnTo>
                  <a:pt x="434" y="461"/>
                </a:lnTo>
                <a:lnTo>
                  <a:pt x="434" y="468"/>
                </a:lnTo>
                <a:lnTo>
                  <a:pt x="441" y="475"/>
                </a:lnTo>
                <a:lnTo>
                  <a:pt x="441" y="482"/>
                </a:lnTo>
                <a:lnTo>
                  <a:pt x="441" y="482"/>
                </a:lnTo>
                <a:lnTo>
                  <a:pt x="434" y="489"/>
                </a:lnTo>
                <a:lnTo>
                  <a:pt x="427" y="496"/>
                </a:lnTo>
                <a:lnTo>
                  <a:pt x="414" y="496"/>
                </a:lnTo>
                <a:lnTo>
                  <a:pt x="407" y="502"/>
                </a:lnTo>
                <a:lnTo>
                  <a:pt x="400" y="502"/>
                </a:lnTo>
                <a:lnTo>
                  <a:pt x="386" y="502"/>
                </a:lnTo>
                <a:lnTo>
                  <a:pt x="379" y="502"/>
                </a:lnTo>
                <a:lnTo>
                  <a:pt x="372" y="509"/>
                </a:lnTo>
                <a:lnTo>
                  <a:pt x="365" y="509"/>
                </a:lnTo>
                <a:lnTo>
                  <a:pt x="365" y="516"/>
                </a:lnTo>
                <a:lnTo>
                  <a:pt x="372" y="523"/>
                </a:lnTo>
                <a:lnTo>
                  <a:pt x="386" y="523"/>
                </a:lnTo>
                <a:lnTo>
                  <a:pt x="393" y="530"/>
                </a:lnTo>
                <a:lnTo>
                  <a:pt x="400" y="530"/>
                </a:lnTo>
                <a:lnTo>
                  <a:pt x="400" y="537"/>
                </a:lnTo>
                <a:lnTo>
                  <a:pt x="407" y="544"/>
                </a:lnTo>
                <a:lnTo>
                  <a:pt x="414" y="551"/>
                </a:lnTo>
                <a:lnTo>
                  <a:pt x="414" y="551"/>
                </a:lnTo>
                <a:lnTo>
                  <a:pt x="421" y="558"/>
                </a:lnTo>
                <a:lnTo>
                  <a:pt x="421" y="564"/>
                </a:lnTo>
                <a:lnTo>
                  <a:pt x="421" y="571"/>
                </a:lnTo>
                <a:lnTo>
                  <a:pt x="427" y="578"/>
                </a:lnTo>
                <a:lnTo>
                  <a:pt x="434" y="585"/>
                </a:lnTo>
                <a:lnTo>
                  <a:pt x="434" y="592"/>
                </a:lnTo>
                <a:lnTo>
                  <a:pt x="441" y="592"/>
                </a:lnTo>
                <a:lnTo>
                  <a:pt x="441" y="599"/>
                </a:lnTo>
                <a:lnTo>
                  <a:pt x="441" y="606"/>
                </a:lnTo>
                <a:lnTo>
                  <a:pt x="434" y="613"/>
                </a:lnTo>
                <a:lnTo>
                  <a:pt x="427" y="613"/>
                </a:lnTo>
                <a:lnTo>
                  <a:pt x="421" y="613"/>
                </a:lnTo>
                <a:lnTo>
                  <a:pt x="414" y="606"/>
                </a:lnTo>
                <a:lnTo>
                  <a:pt x="407" y="599"/>
                </a:lnTo>
                <a:lnTo>
                  <a:pt x="400" y="599"/>
                </a:lnTo>
                <a:lnTo>
                  <a:pt x="386" y="599"/>
                </a:lnTo>
                <a:lnTo>
                  <a:pt x="379" y="599"/>
                </a:lnTo>
                <a:lnTo>
                  <a:pt x="372" y="606"/>
                </a:lnTo>
                <a:lnTo>
                  <a:pt x="365" y="606"/>
                </a:lnTo>
                <a:lnTo>
                  <a:pt x="358" y="613"/>
                </a:lnTo>
                <a:lnTo>
                  <a:pt x="352" y="620"/>
                </a:lnTo>
                <a:lnTo>
                  <a:pt x="345" y="620"/>
                </a:lnTo>
                <a:lnTo>
                  <a:pt x="338" y="626"/>
                </a:lnTo>
                <a:lnTo>
                  <a:pt x="331" y="626"/>
                </a:lnTo>
                <a:lnTo>
                  <a:pt x="317" y="626"/>
                </a:lnTo>
                <a:lnTo>
                  <a:pt x="310" y="626"/>
                </a:lnTo>
                <a:lnTo>
                  <a:pt x="296" y="626"/>
                </a:lnTo>
                <a:lnTo>
                  <a:pt x="290" y="626"/>
                </a:lnTo>
                <a:lnTo>
                  <a:pt x="276" y="626"/>
                </a:lnTo>
                <a:lnTo>
                  <a:pt x="276" y="633"/>
                </a:lnTo>
                <a:lnTo>
                  <a:pt x="269" y="640"/>
                </a:lnTo>
                <a:lnTo>
                  <a:pt x="262" y="647"/>
                </a:lnTo>
                <a:lnTo>
                  <a:pt x="255" y="647"/>
                </a:lnTo>
                <a:lnTo>
                  <a:pt x="255" y="654"/>
                </a:lnTo>
                <a:lnTo>
                  <a:pt x="248" y="661"/>
                </a:lnTo>
                <a:lnTo>
                  <a:pt x="241" y="668"/>
                </a:lnTo>
                <a:lnTo>
                  <a:pt x="234" y="668"/>
                </a:lnTo>
                <a:lnTo>
                  <a:pt x="221" y="675"/>
                </a:lnTo>
                <a:lnTo>
                  <a:pt x="214" y="675"/>
                </a:lnTo>
                <a:lnTo>
                  <a:pt x="207" y="668"/>
                </a:lnTo>
                <a:lnTo>
                  <a:pt x="193" y="668"/>
                </a:lnTo>
                <a:lnTo>
                  <a:pt x="186" y="668"/>
                </a:lnTo>
                <a:lnTo>
                  <a:pt x="179" y="661"/>
                </a:lnTo>
                <a:lnTo>
                  <a:pt x="172" y="654"/>
                </a:lnTo>
                <a:lnTo>
                  <a:pt x="165" y="654"/>
                </a:lnTo>
                <a:lnTo>
                  <a:pt x="159" y="647"/>
                </a:lnTo>
                <a:lnTo>
                  <a:pt x="152" y="640"/>
                </a:lnTo>
                <a:lnTo>
                  <a:pt x="145" y="640"/>
                </a:lnTo>
                <a:lnTo>
                  <a:pt x="138" y="633"/>
                </a:lnTo>
                <a:lnTo>
                  <a:pt x="138" y="626"/>
                </a:lnTo>
                <a:lnTo>
                  <a:pt x="131" y="626"/>
                </a:lnTo>
                <a:lnTo>
                  <a:pt x="117" y="626"/>
                </a:lnTo>
                <a:lnTo>
                  <a:pt x="110" y="626"/>
                </a:lnTo>
                <a:lnTo>
                  <a:pt x="103" y="633"/>
                </a:lnTo>
                <a:lnTo>
                  <a:pt x="96" y="626"/>
                </a:lnTo>
                <a:lnTo>
                  <a:pt x="96" y="620"/>
                </a:lnTo>
                <a:lnTo>
                  <a:pt x="90" y="613"/>
                </a:lnTo>
                <a:lnTo>
                  <a:pt x="90" y="606"/>
                </a:lnTo>
                <a:lnTo>
                  <a:pt x="90" y="599"/>
                </a:lnTo>
                <a:lnTo>
                  <a:pt x="83" y="592"/>
                </a:lnTo>
                <a:lnTo>
                  <a:pt x="76" y="585"/>
                </a:lnTo>
                <a:lnTo>
                  <a:pt x="69" y="585"/>
                </a:lnTo>
                <a:lnTo>
                  <a:pt x="55" y="585"/>
                </a:lnTo>
                <a:lnTo>
                  <a:pt x="48" y="578"/>
                </a:lnTo>
                <a:lnTo>
                  <a:pt x="41" y="585"/>
                </a:lnTo>
                <a:lnTo>
                  <a:pt x="34" y="585"/>
                </a:lnTo>
                <a:lnTo>
                  <a:pt x="28" y="592"/>
                </a:lnTo>
                <a:lnTo>
                  <a:pt x="21" y="599"/>
                </a:lnTo>
                <a:lnTo>
                  <a:pt x="14" y="606"/>
                </a:lnTo>
                <a:lnTo>
                  <a:pt x="7" y="606"/>
                </a:lnTo>
                <a:lnTo>
                  <a:pt x="0" y="606"/>
                </a:lnTo>
                <a:lnTo>
                  <a:pt x="14" y="599"/>
                </a:lnTo>
                <a:lnTo>
                  <a:pt x="28" y="599"/>
                </a:lnTo>
                <a:lnTo>
                  <a:pt x="34" y="592"/>
                </a:lnTo>
                <a:lnTo>
                  <a:pt x="41" y="592"/>
                </a:lnTo>
                <a:lnTo>
                  <a:pt x="41" y="578"/>
                </a:lnTo>
                <a:lnTo>
                  <a:pt x="41" y="571"/>
                </a:lnTo>
                <a:lnTo>
                  <a:pt x="34" y="571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4" name=""/>
          <p:cNvSpPr/>
          <p:nvPr/>
        </p:nvSpPr>
        <p:spPr>
          <a:xfrm>
            <a:off x="4835520" y="4794120"/>
            <a:ext cx="1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5" name=""/>
          <p:cNvSpPr/>
          <p:nvPr/>
        </p:nvSpPr>
        <p:spPr>
          <a:xfrm>
            <a:off x="4737240" y="4675320"/>
            <a:ext cx="66600" cy="64800"/>
          </a:xfrm>
          <a:custGeom>
            <a:avLst/>
            <a:gdLst/>
            <a:ahLst/>
            <a:rect l="l" t="t" r="r" b="b"/>
            <a:pathLst>
              <a:path w="42" h="41">
                <a:moveTo>
                  <a:pt x="42" y="27"/>
                </a:moveTo>
                <a:lnTo>
                  <a:pt x="35" y="20"/>
                </a:lnTo>
                <a:lnTo>
                  <a:pt x="35" y="20"/>
                </a:lnTo>
                <a:lnTo>
                  <a:pt x="35" y="20"/>
                </a:lnTo>
                <a:lnTo>
                  <a:pt x="35" y="20"/>
                </a:lnTo>
                <a:lnTo>
                  <a:pt x="35" y="13"/>
                </a:lnTo>
                <a:lnTo>
                  <a:pt x="35" y="13"/>
                </a:lnTo>
                <a:lnTo>
                  <a:pt x="35" y="13"/>
                </a:lnTo>
                <a:lnTo>
                  <a:pt x="35" y="13"/>
                </a:lnTo>
                <a:lnTo>
                  <a:pt x="35" y="13"/>
                </a:lnTo>
                <a:lnTo>
                  <a:pt x="35" y="6"/>
                </a:lnTo>
                <a:lnTo>
                  <a:pt x="35" y="6"/>
                </a:lnTo>
                <a:lnTo>
                  <a:pt x="35" y="6"/>
                </a:lnTo>
                <a:lnTo>
                  <a:pt x="35" y="6"/>
                </a:lnTo>
                <a:lnTo>
                  <a:pt x="28" y="6"/>
                </a:lnTo>
                <a:lnTo>
                  <a:pt x="28" y="6"/>
                </a:lnTo>
                <a:lnTo>
                  <a:pt x="28" y="6"/>
                </a:lnTo>
                <a:lnTo>
                  <a:pt x="28" y="6"/>
                </a:lnTo>
                <a:lnTo>
                  <a:pt x="21" y="6"/>
                </a:lnTo>
                <a:lnTo>
                  <a:pt x="21" y="13"/>
                </a:lnTo>
                <a:lnTo>
                  <a:pt x="21" y="13"/>
                </a:lnTo>
                <a:lnTo>
                  <a:pt x="14" y="13"/>
                </a:lnTo>
                <a:lnTo>
                  <a:pt x="21" y="13"/>
                </a:lnTo>
                <a:lnTo>
                  <a:pt x="21" y="13"/>
                </a:lnTo>
                <a:lnTo>
                  <a:pt x="21" y="13"/>
                </a:lnTo>
                <a:lnTo>
                  <a:pt x="21" y="13"/>
                </a:lnTo>
                <a:lnTo>
                  <a:pt x="21" y="13"/>
                </a:lnTo>
                <a:lnTo>
                  <a:pt x="28" y="13"/>
                </a:lnTo>
                <a:lnTo>
                  <a:pt x="28" y="20"/>
                </a:lnTo>
                <a:lnTo>
                  <a:pt x="28" y="20"/>
                </a:lnTo>
                <a:lnTo>
                  <a:pt x="28" y="20"/>
                </a:lnTo>
                <a:lnTo>
                  <a:pt x="28" y="20"/>
                </a:lnTo>
                <a:lnTo>
                  <a:pt x="28" y="27"/>
                </a:lnTo>
                <a:lnTo>
                  <a:pt x="28" y="27"/>
                </a:lnTo>
                <a:lnTo>
                  <a:pt x="28" y="34"/>
                </a:lnTo>
                <a:lnTo>
                  <a:pt x="28" y="34"/>
                </a:lnTo>
                <a:lnTo>
                  <a:pt x="28" y="34"/>
                </a:lnTo>
                <a:lnTo>
                  <a:pt x="28" y="41"/>
                </a:lnTo>
                <a:lnTo>
                  <a:pt x="21" y="41"/>
                </a:lnTo>
                <a:lnTo>
                  <a:pt x="21" y="41"/>
                </a:lnTo>
                <a:lnTo>
                  <a:pt x="21" y="41"/>
                </a:lnTo>
                <a:lnTo>
                  <a:pt x="21" y="41"/>
                </a:lnTo>
                <a:lnTo>
                  <a:pt x="14" y="41"/>
                </a:lnTo>
                <a:lnTo>
                  <a:pt x="14" y="41"/>
                </a:lnTo>
                <a:lnTo>
                  <a:pt x="14" y="41"/>
                </a:lnTo>
                <a:lnTo>
                  <a:pt x="14" y="41"/>
                </a:lnTo>
                <a:lnTo>
                  <a:pt x="7" y="41"/>
                </a:lnTo>
                <a:lnTo>
                  <a:pt x="7" y="41"/>
                </a:lnTo>
                <a:lnTo>
                  <a:pt x="7" y="41"/>
                </a:lnTo>
                <a:lnTo>
                  <a:pt x="7" y="41"/>
                </a:lnTo>
                <a:lnTo>
                  <a:pt x="0" y="34"/>
                </a:lnTo>
                <a:lnTo>
                  <a:pt x="0" y="34"/>
                </a:lnTo>
                <a:lnTo>
                  <a:pt x="0" y="27"/>
                </a:lnTo>
                <a:lnTo>
                  <a:pt x="0" y="27"/>
                </a:lnTo>
                <a:lnTo>
                  <a:pt x="0" y="20"/>
                </a:lnTo>
                <a:lnTo>
                  <a:pt x="7" y="20"/>
                </a:lnTo>
                <a:lnTo>
                  <a:pt x="7" y="13"/>
                </a:lnTo>
                <a:lnTo>
                  <a:pt x="14" y="13"/>
                </a:lnTo>
                <a:lnTo>
                  <a:pt x="14" y="6"/>
                </a:lnTo>
                <a:lnTo>
                  <a:pt x="21" y="6"/>
                </a:lnTo>
                <a:lnTo>
                  <a:pt x="21" y="6"/>
                </a:lnTo>
                <a:lnTo>
                  <a:pt x="28" y="0"/>
                </a:lnTo>
                <a:lnTo>
                  <a:pt x="35" y="6"/>
                </a:lnTo>
                <a:lnTo>
                  <a:pt x="35" y="6"/>
                </a:lnTo>
                <a:lnTo>
                  <a:pt x="35" y="6"/>
                </a:lnTo>
                <a:lnTo>
                  <a:pt x="42" y="6"/>
                </a:lnTo>
                <a:lnTo>
                  <a:pt x="42" y="13"/>
                </a:lnTo>
                <a:lnTo>
                  <a:pt x="42" y="13"/>
                </a:lnTo>
                <a:lnTo>
                  <a:pt x="42" y="13"/>
                </a:lnTo>
                <a:lnTo>
                  <a:pt x="42" y="13"/>
                </a:lnTo>
                <a:lnTo>
                  <a:pt x="42" y="20"/>
                </a:lnTo>
                <a:lnTo>
                  <a:pt x="42" y="20"/>
                </a:lnTo>
                <a:lnTo>
                  <a:pt x="42" y="20"/>
                </a:lnTo>
                <a:lnTo>
                  <a:pt x="42" y="27"/>
                </a:lnTo>
                <a:close/>
                <a:moveTo>
                  <a:pt x="7" y="20"/>
                </a:moveTo>
                <a:lnTo>
                  <a:pt x="7" y="20"/>
                </a:lnTo>
                <a:lnTo>
                  <a:pt x="7" y="20"/>
                </a:lnTo>
                <a:lnTo>
                  <a:pt x="7" y="27"/>
                </a:lnTo>
                <a:lnTo>
                  <a:pt x="7" y="27"/>
                </a:lnTo>
                <a:lnTo>
                  <a:pt x="7" y="27"/>
                </a:lnTo>
                <a:lnTo>
                  <a:pt x="7" y="27"/>
                </a:lnTo>
                <a:lnTo>
                  <a:pt x="7" y="27"/>
                </a:lnTo>
                <a:lnTo>
                  <a:pt x="7" y="27"/>
                </a:lnTo>
                <a:lnTo>
                  <a:pt x="7" y="34"/>
                </a:lnTo>
                <a:lnTo>
                  <a:pt x="7" y="34"/>
                </a:lnTo>
                <a:lnTo>
                  <a:pt x="7" y="34"/>
                </a:lnTo>
                <a:lnTo>
                  <a:pt x="7" y="34"/>
                </a:lnTo>
                <a:lnTo>
                  <a:pt x="7" y="34"/>
                </a:lnTo>
                <a:lnTo>
                  <a:pt x="14" y="34"/>
                </a:lnTo>
                <a:lnTo>
                  <a:pt x="14" y="34"/>
                </a:lnTo>
                <a:lnTo>
                  <a:pt x="14" y="34"/>
                </a:lnTo>
                <a:lnTo>
                  <a:pt x="14" y="34"/>
                </a:lnTo>
                <a:lnTo>
                  <a:pt x="21" y="34"/>
                </a:lnTo>
                <a:lnTo>
                  <a:pt x="21" y="34"/>
                </a:lnTo>
                <a:lnTo>
                  <a:pt x="21" y="34"/>
                </a:lnTo>
                <a:lnTo>
                  <a:pt x="21" y="34"/>
                </a:lnTo>
                <a:lnTo>
                  <a:pt x="21" y="34"/>
                </a:lnTo>
                <a:lnTo>
                  <a:pt x="28" y="27"/>
                </a:lnTo>
                <a:lnTo>
                  <a:pt x="28" y="27"/>
                </a:lnTo>
                <a:lnTo>
                  <a:pt x="28" y="27"/>
                </a:lnTo>
                <a:lnTo>
                  <a:pt x="28" y="27"/>
                </a:lnTo>
                <a:lnTo>
                  <a:pt x="21" y="20"/>
                </a:lnTo>
                <a:lnTo>
                  <a:pt x="21" y="20"/>
                </a:lnTo>
                <a:lnTo>
                  <a:pt x="21" y="20"/>
                </a:lnTo>
                <a:lnTo>
                  <a:pt x="21" y="20"/>
                </a:lnTo>
                <a:lnTo>
                  <a:pt x="21" y="20"/>
                </a:lnTo>
                <a:lnTo>
                  <a:pt x="14" y="20"/>
                </a:lnTo>
                <a:lnTo>
                  <a:pt x="14" y="20"/>
                </a:lnTo>
                <a:lnTo>
                  <a:pt x="14" y="20"/>
                </a:lnTo>
                <a:lnTo>
                  <a:pt x="14" y="20"/>
                </a:lnTo>
                <a:lnTo>
                  <a:pt x="7" y="2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6" name=""/>
          <p:cNvSpPr/>
          <p:nvPr/>
        </p:nvSpPr>
        <p:spPr>
          <a:xfrm>
            <a:off x="4770360" y="4718160"/>
            <a:ext cx="65160" cy="64800"/>
          </a:xfrm>
          <a:custGeom>
            <a:avLst/>
            <a:gdLst/>
            <a:ahLst/>
            <a:rect l="l" t="t" r="r" b="b"/>
            <a:pathLst>
              <a:path w="41" h="41">
                <a:moveTo>
                  <a:pt x="14" y="7"/>
                </a:moveTo>
                <a:lnTo>
                  <a:pt x="14" y="7"/>
                </a:lnTo>
                <a:lnTo>
                  <a:pt x="21" y="7"/>
                </a:lnTo>
                <a:lnTo>
                  <a:pt x="21" y="7"/>
                </a:lnTo>
                <a:lnTo>
                  <a:pt x="28" y="0"/>
                </a:lnTo>
                <a:lnTo>
                  <a:pt x="28" y="0"/>
                </a:lnTo>
                <a:lnTo>
                  <a:pt x="28" y="0"/>
                </a:lnTo>
                <a:lnTo>
                  <a:pt x="35" y="0"/>
                </a:lnTo>
                <a:lnTo>
                  <a:pt x="35" y="0"/>
                </a:lnTo>
                <a:lnTo>
                  <a:pt x="35" y="0"/>
                </a:lnTo>
                <a:lnTo>
                  <a:pt x="35" y="0"/>
                </a:lnTo>
                <a:lnTo>
                  <a:pt x="41" y="7"/>
                </a:lnTo>
                <a:lnTo>
                  <a:pt x="41" y="7"/>
                </a:lnTo>
                <a:lnTo>
                  <a:pt x="41" y="7"/>
                </a:lnTo>
                <a:lnTo>
                  <a:pt x="41" y="7"/>
                </a:lnTo>
                <a:lnTo>
                  <a:pt x="41" y="14"/>
                </a:lnTo>
                <a:lnTo>
                  <a:pt x="41" y="14"/>
                </a:lnTo>
                <a:lnTo>
                  <a:pt x="41" y="14"/>
                </a:lnTo>
                <a:lnTo>
                  <a:pt x="41" y="14"/>
                </a:lnTo>
                <a:lnTo>
                  <a:pt x="41" y="14"/>
                </a:lnTo>
                <a:lnTo>
                  <a:pt x="41" y="21"/>
                </a:lnTo>
                <a:lnTo>
                  <a:pt x="41" y="21"/>
                </a:lnTo>
                <a:lnTo>
                  <a:pt x="41" y="21"/>
                </a:lnTo>
                <a:lnTo>
                  <a:pt x="41" y="21"/>
                </a:lnTo>
                <a:lnTo>
                  <a:pt x="41" y="28"/>
                </a:lnTo>
                <a:lnTo>
                  <a:pt x="41" y="28"/>
                </a:lnTo>
                <a:lnTo>
                  <a:pt x="35" y="28"/>
                </a:lnTo>
                <a:lnTo>
                  <a:pt x="35" y="28"/>
                </a:lnTo>
                <a:lnTo>
                  <a:pt x="35" y="35"/>
                </a:lnTo>
                <a:lnTo>
                  <a:pt x="28" y="35"/>
                </a:lnTo>
                <a:lnTo>
                  <a:pt x="28" y="35"/>
                </a:lnTo>
                <a:lnTo>
                  <a:pt x="28" y="41"/>
                </a:lnTo>
                <a:lnTo>
                  <a:pt x="21" y="41"/>
                </a:lnTo>
                <a:lnTo>
                  <a:pt x="21" y="41"/>
                </a:lnTo>
                <a:lnTo>
                  <a:pt x="21" y="41"/>
                </a:lnTo>
                <a:lnTo>
                  <a:pt x="14" y="41"/>
                </a:lnTo>
                <a:lnTo>
                  <a:pt x="14" y="41"/>
                </a:lnTo>
                <a:lnTo>
                  <a:pt x="14" y="41"/>
                </a:lnTo>
                <a:lnTo>
                  <a:pt x="7" y="41"/>
                </a:lnTo>
                <a:lnTo>
                  <a:pt x="7" y="35"/>
                </a:lnTo>
                <a:lnTo>
                  <a:pt x="7" y="35"/>
                </a:lnTo>
                <a:lnTo>
                  <a:pt x="7" y="35"/>
                </a:lnTo>
                <a:lnTo>
                  <a:pt x="0" y="28"/>
                </a:lnTo>
                <a:lnTo>
                  <a:pt x="0" y="28"/>
                </a:lnTo>
                <a:lnTo>
                  <a:pt x="0" y="28"/>
                </a:lnTo>
                <a:lnTo>
                  <a:pt x="7" y="21"/>
                </a:lnTo>
                <a:lnTo>
                  <a:pt x="7" y="21"/>
                </a:lnTo>
                <a:lnTo>
                  <a:pt x="7" y="14"/>
                </a:lnTo>
                <a:lnTo>
                  <a:pt x="14" y="7"/>
                </a:lnTo>
                <a:close/>
                <a:moveTo>
                  <a:pt x="21" y="14"/>
                </a:moveTo>
                <a:lnTo>
                  <a:pt x="14" y="21"/>
                </a:lnTo>
                <a:lnTo>
                  <a:pt x="14" y="21"/>
                </a:lnTo>
                <a:lnTo>
                  <a:pt x="7" y="21"/>
                </a:lnTo>
                <a:lnTo>
                  <a:pt x="7" y="28"/>
                </a:lnTo>
                <a:lnTo>
                  <a:pt x="7" y="28"/>
                </a:lnTo>
                <a:lnTo>
                  <a:pt x="7" y="28"/>
                </a:lnTo>
                <a:lnTo>
                  <a:pt x="7" y="35"/>
                </a:lnTo>
                <a:lnTo>
                  <a:pt x="7" y="35"/>
                </a:lnTo>
                <a:lnTo>
                  <a:pt x="14" y="35"/>
                </a:lnTo>
                <a:lnTo>
                  <a:pt x="14" y="35"/>
                </a:lnTo>
                <a:lnTo>
                  <a:pt x="14" y="35"/>
                </a:lnTo>
                <a:lnTo>
                  <a:pt x="14" y="35"/>
                </a:lnTo>
                <a:lnTo>
                  <a:pt x="21" y="35"/>
                </a:lnTo>
                <a:lnTo>
                  <a:pt x="21" y="35"/>
                </a:lnTo>
                <a:lnTo>
                  <a:pt x="28" y="35"/>
                </a:lnTo>
                <a:lnTo>
                  <a:pt x="28" y="28"/>
                </a:lnTo>
                <a:lnTo>
                  <a:pt x="35" y="28"/>
                </a:lnTo>
                <a:lnTo>
                  <a:pt x="35" y="21"/>
                </a:lnTo>
                <a:lnTo>
                  <a:pt x="35" y="21"/>
                </a:lnTo>
                <a:lnTo>
                  <a:pt x="41" y="14"/>
                </a:lnTo>
                <a:lnTo>
                  <a:pt x="41" y="14"/>
                </a:lnTo>
                <a:lnTo>
                  <a:pt x="41" y="14"/>
                </a:lnTo>
                <a:lnTo>
                  <a:pt x="41" y="14"/>
                </a:lnTo>
                <a:lnTo>
                  <a:pt x="35" y="7"/>
                </a:lnTo>
                <a:lnTo>
                  <a:pt x="35" y="7"/>
                </a:lnTo>
                <a:lnTo>
                  <a:pt x="35" y="7"/>
                </a:lnTo>
                <a:lnTo>
                  <a:pt x="35" y="7"/>
                </a:lnTo>
                <a:lnTo>
                  <a:pt x="28" y="7"/>
                </a:lnTo>
                <a:lnTo>
                  <a:pt x="28" y="7"/>
                </a:lnTo>
                <a:lnTo>
                  <a:pt x="28" y="7"/>
                </a:lnTo>
                <a:lnTo>
                  <a:pt x="21" y="14"/>
                </a:lnTo>
                <a:lnTo>
                  <a:pt x="21" y="14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7" name=""/>
          <p:cNvSpPr/>
          <p:nvPr/>
        </p:nvSpPr>
        <p:spPr>
          <a:xfrm flipV="1">
            <a:off x="4737240" y="4663800"/>
            <a:ext cx="1440" cy="11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8" name=""/>
          <p:cNvSpPr/>
          <p:nvPr/>
        </p:nvSpPr>
        <p:spPr>
          <a:xfrm>
            <a:off x="4135320" y="4619520"/>
            <a:ext cx="941400" cy="1028880"/>
          </a:xfrm>
          <a:custGeom>
            <a:avLst/>
            <a:gdLst/>
            <a:ahLst/>
            <a:rect l="l" t="t" r="r" b="b"/>
            <a:pathLst>
              <a:path w="593" h="648">
                <a:moveTo>
                  <a:pt x="379" y="28"/>
                </a:moveTo>
                <a:lnTo>
                  <a:pt x="372" y="21"/>
                </a:lnTo>
                <a:lnTo>
                  <a:pt x="372" y="14"/>
                </a:lnTo>
                <a:lnTo>
                  <a:pt x="372" y="7"/>
                </a:lnTo>
                <a:lnTo>
                  <a:pt x="366" y="0"/>
                </a:lnTo>
                <a:lnTo>
                  <a:pt x="359" y="0"/>
                </a:lnTo>
                <a:lnTo>
                  <a:pt x="352" y="0"/>
                </a:lnTo>
                <a:lnTo>
                  <a:pt x="345" y="7"/>
                </a:lnTo>
                <a:lnTo>
                  <a:pt x="338" y="14"/>
                </a:lnTo>
                <a:lnTo>
                  <a:pt x="338" y="21"/>
                </a:lnTo>
                <a:lnTo>
                  <a:pt x="331" y="28"/>
                </a:lnTo>
                <a:lnTo>
                  <a:pt x="338" y="35"/>
                </a:lnTo>
                <a:lnTo>
                  <a:pt x="338" y="41"/>
                </a:lnTo>
                <a:lnTo>
                  <a:pt x="345" y="48"/>
                </a:lnTo>
                <a:lnTo>
                  <a:pt x="345" y="48"/>
                </a:lnTo>
                <a:lnTo>
                  <a:pt x="345" y="55"/>
                </a:lnTo>
                <a:lnTo>
                  <a:pt x="352" y="62"/>
                </a:lnTo>
                <a:lnTo>
                  <a:pt x="352" y="69"/>
                </a:lnTo>
                <a:lnTo>
                  <a:pt x="352" y="76"/>
                </a:lnTo>
                <a:lnTo>
                  <a:pt x="352" y="83"/>
                </a:lnTo>
                <a:lnTo>
                  <a:pt x="359" y="90"/>
                </a:lnTo>
                <a:lnTo>
                  <a:pt x="366" y="90"/>
                </a:lnTo>
                <a:lnTo>
                  <a:pt x="372" y="97"/>
                </a:lnTo>
                <a:lnTo>
                  <a:pt x="372" y="103"/>
                </a:lnTo>
                <a:lnTo>
                  <a:pt x="372" y="110"/>
                </a:lnTo>
                <a:lnTo>
                  <a:pt x="372" y="117"/>
                </a:lnTo>
                <a:lnTo>
                  <a:pt x="372" y="124"/>
                </a:lnTo>
                <a:lnTo>
                  <a:pt x="366" y="131"/>
                </a:lnTo>
                <a:lnTo>
                  <a:pt x="366" y="138"/>
                </a:lnTo>
                <a:lnTo>
                  <a:pt x="359" y="138"/>
                </a:lnTo>
                <a:lnTo>
                  <a:pt x="352" y="131"/>
                </a:lnTo>
                <a:lnTo>
                  <a:pt x="345" y="124"/>
                </a:lnTo>
                <a:lnTo>
                  <a:pt x="338" y="117"/>
                </a:lnTo>
                <a:lnTo>
                  <a:pt x="331" y="117"/>
                </a:lnTo>
                <a:lnTo>
                  <a:pt x="324" y="117"/>
                </a:lnTo>
                <a:lnTo>
                  <a:pt x="310" y="110"/>
                </a:lnTo>
                <a:lnTo>
                  <a:pt x="304" y="110"/>
                </a:lnTo>
                <a:lnTo>
                  <a:pt x="297" y="117"/>
                </a:lnTo>
                <a:lnTo>
                  <a:pt x="297" y="124"/>
                </a:lnTo>
                <a:lnTo>
                  <a:pt x="297" y="131"/>
                </a:lnTo>
                <a:lnTo>
                  <a:pt x="297" y="138"/>
                </a:lnTo>
                <a:lnTo>
                  <a:pt x="297" y="138"/>
                </a:lnTo>
                <a:lnTo>
                  <a:pt x="297" y="145"/>
                </a:lnTo>
                <a:lnTo>
                  <a:pt x="290" y="152"/>
                </a:lnTo>
                <a:lnTo>
                  <a:pt x="290" y="159"/>
                </a:lnTo>
                <a:lnTo>
                  <a:pt x="290" y="165"/>
                </a:lnTo>
                <a:lnTo>
                  <a:pt x="297" y="172"/>
                </a:lnTo>
                <a:lnTo>
                  <a:pt x="297" y="179"/>
                </a:lnTo>
                <a:lnTo>
                  <a:pt x="304" y="179"/>
                </a:lnTo>
                <a:lnTo>
                  <a:pt x="310" y="172"/>
                </a:lnTo>
                <a:lnTo>
                  <a:pt x="317" y="165"/>
                </a:lnTo>
                <a:lnTo>
                  <a:pt x="331" y="165"/>
                </a:lnTo>
                <a:lnTo>
                  <a:pt x="338" y="165"/>
                </a:lnTo>
                <a:lnTo>
                  <a:pt x="352" y="165"/>
                </a:lnTo>
                <a:lnTo>
                  <a:pt x="359" y="165"/>
                </a:lnTo>
                <a:lnTo>
                  <a:pt x="366" y="165"/>
                </a:lnTo>
                <a:lnTo>
                  <a:pt x="366" y="172"/>
                </a:lnTo>
                <a:lnTo>
                  <a:pt x="372" y="179"/>
                </a:lnTo>
                <a:lnTo>
                  <a:pt x="379" y="186"/>
                </a:lnTo>
                <a:lnTo>
                  <a:pt x="379" y="193"/>
                </a:lnTo>
                <a:lnTo>
                  <a:pt x="386" y="200"/>
                </a:lnTo>
                <a:lnTo>
                  <a:pt x="393" y="200"/>
                </a:lnTo>
                <a:lnTo>
                  <a:pt x="393" y="207"/>
                </a:lnTo>
                <a:lnTo>
                  <a:pt x="400" y="214"/>
                </a:lnTo>
                <a:lnTo>
                  <a:pt x="400" y="221"/>
                </a:lnTo>
                <a:lnTo>
                  <a:pt x="407" y="227"/>
                </a:lnTo>
                <a:lnTo>
                  <a:pt x="414" y="234"/>
                </a:lnTo>
                <a:lnTo>
                  <a:pt x="414" y="234"/>
                </a:lnTo>
                <a:lnTo>
                  <a:pt x="421" y="241"/>
                </a:lnTo>
                <a:lnTo>
                  <a:pt x="428" y="248"/>
                </a:lnTo>
                <a:lnTo>
                  <a:pt x="428" y="255"/>
                </a:lnTo>
                <a:lnTo>
                  <a:pt x="435" y="262"/>
                </a:lnTo>
                <a:lnTo>
                  <a:pt x="435" y="269"/>
                </a:lnTo>
                <a:lnTo>
                  <a:pt x="441" y="269"/>
                </a:lnTo>
                <a:lnTo>
                  <a:pt x="448" y="276"/>
                </a:lnTo>
                <a:lnTo>
                  <a:pt x="448" y="283"/>
                </a:lnTo>
                <a:lnTo>
                  <a:pt x="455" y="289"/>
                </a:lnTo>
                <a:lnTo>
                  <a:pt x="455" y="296"/>
                </a:lnTo>
                <a:lnTo>
                  <a:pt x="462" y="303"/>
                </a:lnTo>
                <a:lnTo>
                  <a:pt x="469" y="303"/>
                </a:lnTo>
                <a:lnTo>
                  <a:pt x="469" y="310"/>
                </a:lnTo>
                <a:lnTo>
                  <a:pt x="476" y="317"/>
                </a:lnTo>
                <a:lnTo>
                  <a:pt x="483" y="324"/>
                </a:lnTo>
                <a:lnTo>
                  <a:pt x="490" y="331"/>
                </a:lnTo>
                <a:lnTo>
                  <a:pt x="490" y="338"/>
                </a:lnTo>
                <a:lnTo>
                  <a:pt x="497" y="345"/>
                </a:lnTo>
                <a:lnTo>
                  <a:pt x="503" y="345"/>
                </a:lnTo>
                <a:lnTo>
                  <a:pt x="510" y="351"/>
                </a:lnTo>
                <a:lnTo>
                  <a:pt x="517" y="345"/>
                </a:lnTo>
                <a:lnTo>
                  <a:pt x="524" y="345"/>
                </a:lnTo>
                <a:lnTo>
                  <a:pt x="524" y="338"/>
                </a:lnTo>
                <a:lnTo>
                  <a:pt x="531" y="331"/>
                </a:lnTo>
                <a:lnTo>
                  <a:pt x="538" y="324"/>
                </a:lnTo>
                <a:lnTo>
                  <a:pt x="538" y="317"/>
                </a:lnTo>
                <a:lnTo>
                  <a:pt x="545" y="310"/>
                </a:lnTo>
                <a:lnTo>
                  <a:pt x="552" y="310"/>
                </a:lnTo>
                <a:lnTo>
                  <a:pt x="566" y="303"/>
                </a:lnTo>
                <a:lnTo>
                  <a:pt x="572" y="310"/>
                </a:lnTo>
                <a:lnTo>
                  <a:pt x="579" y="310"/>
                </a:lnTo>
                <a:lnTo>
                  <a:pt x="586" y="317"/>
                </a:lnTo>
                <a:lnTo>
                  <a:pt x="593" y="317"/>
                </a:lnTo>
                <a:lnTo>
                  <a:pt x="593" y="324"/>
                </a:lnTo>
                <a:lnTo>
                  <a:pt x="586" y="331"/>
                </a:lnTo>
                <a:lnTo>
                  <a:pt x="572" y="331"/>
                </a:lnTo>
                <a:lnTo>
                  <a:pt x="566" y="331"/>
                </a:lnTo>
                <a:lnTo>
                  <a:pt x="559" y="331"/>
                </a:lnTo>
                <a:lnTo>
                  <a:pt x="545" y="331"/>
                </a:lnTo>
                <a:lnTo>
                  <a:pt x="538" y="331"/>
                </a:lnTo>
                <a:lnTo>
                  <a:pt x="531" y="331"/>
                </a:lnTo>
                <a:lnTo>
                  <a:pt x="524" y="338"/>
                </a:lnTo>
                <a:lnTo>
                  <a:pt x="517" y="345"/>
                </a:lnTo>
                <a:lnTo>
                  <a:pt x="510" y="351"/>
                </a:lnTo>
                <a:lnTo>
                  <a:pt x="510" y="358"/>
                </a:lnTo>
                <a:lnTo>
                  <a:pt x="497" y="358"/>
                </a:lnTo>
                <a:lnTo>
                  <a:pt x="490" y="365"/>
                </a:lnTo>
                <a:lnTo>
                  <a:pt x="483" y="365"/>
                </a:lnTo>
                <a:lnTo>
                  <a:pt x="476" y="372"/>
                </a:lnTo>
                <a:lnTo>
                  <a:pt x="469" y="372"/>
                </a:lnTo>
                <a:lnTo>
                  <a:pt x="462" y="379"/>
                </a:lnTo>
                <a:lnTo>
                  <a:pt x="448" y="379"/>
                </a:lnTo>
                <a:lnTo>
                  <a:pt x="441" y="386"/>
                </a:lnTo>
                <a:lnTo>
                  <a:pt x="435" y="386"/>
                </a:lnTo>
                <a:lnTo>
                  <a:pt x="428" y="386"/>
                </a:lnTo>
                <a:lnTo>
                  <a:pt x="414" y="393"/>
                </a:lnTo>
                <a:lnTo>
                  <a:pt x="414" y="400"/>
                </a:lnTo>
                <a:lnTo>
                  <a:pt x="407" y="400"/>
                </a:lnTo>
                <a:lnTo>
                  <a:pt x="400" y="407"/>
                </a:lnTo>
                <a:lnTo>
                  <a:pt x="393" y="413"/>
                </a:lnTo>
                <a:lnTo>
                  <a:pt x="386" y="413"/>
                </a:lnTo>
                <a:lnTo>
                  <a:pt x="379" y="420"/>
                </a:lnTo>
                <a:lnTo>
                  <a:pt x="366" y="420"/>
                </a:lnTo>
                <a:lnTo>
                  <a:pt x="359" y="420"/>
                </a:lnTo>
                <a:lnTo>
                  <a:pt x="345" y="420"/>
                </a:lnTo>
                <a:lnTo>
                  <a:pt x="338" y="420"/>
                </a:lnTo>
                <a:lnTo>
                  <a:pt x="331" y="427"/>
                </a:lnTo>
                <a:lnTo>
                  <a:pt x="324" y="427"/>
                </a:lnTo>
                <a:lnTo>
                  <a:pt x="317" y="434"/>
                </a:lnTo>
                <a:lnTo>
                  <a:pt x="310" y="441"/>
                </a:lnTo>
                <a:lnTo>
                  <a:pt x="304" y="441"/>
                </a:lnTo>
                <a:lnTo>
                  <a:pt x="297" y="448"/>
                </a:lnTo>
                <a:lnTo>
                  <a:pt x="283" y="448"/>
                </a:lnTo>
                <a:lnTo>
                  <a:pt x="276" y="455"/>
                </a:lnTo>
                <a:lnTo>
                  <a:pt x="269" y="455"/>
                </a:lnTo>
                <a:lnTo>
                  <a:pt x="262" y="462"/>
                </a:lnTo>
                <a:lnTo>
                  <a:pt x="255" y="468"/>
                </a:lnTo>
                <a:lnTo>
                  <a:pt x="248" y="468"/>
                </a:lnTo>
                <a:lnTo>
                  <a:pt x="241" y="475"/>
                </a:lnTo>
                <a:lnTo>
                  <a:pt x="241" y="482"/>
                </a:lnTo>
                <a:lnTo>
                  <a:pt x="235" y="489"/>
                </a:lnTo>
                <a:lnTo>
                  <a:pt x="235" y="496"/>
                </a:lnTo>
                <a:lnTo>
                  <a:pt x="228" y="503"/>
                </a:lnTo>
                <a:lnTo>
                  <a:pt x="228" y="503"/>
                </a:lnTo>
                <a:lnTo>
                  <a:pt x="221" y="510"/>
                </a:lnTo>
                <a:lnTo>
                  <a:pt x="221" y="517"/>
                </a:lnTo>
                <a:lnTo>
                  <a:pt x="214" y="524"/>
                </a:lnTo>
                <a:lnTo>
                  <a:pt x="200" y="524"/>
                </a:lnTo>
                <a:lnTo>
                  <a:pt x="193" y="530"/>
                </a:lnTo>
                <a:lnTo>
                  <a:pt x="193" y="537"/>
                </a:lnTo>
                <a:lnTo>
                  <a:pt x="193" y="544"/>
                </a:lnTo>
                <a:lnTo>
                  <a:pt x="193" y="544"/>
                </a:lnTo>
                <a:lnTo>
                  <a:pt x="193" y="558"/>
                </a:lnTo>
                <a:lnTo>
                  <a:pt x="186" y="565"/>
                </a:lnTo>
                <a:lnTo>
                  <a:pt x="179" y="565"/>
                </a:lnTo>
                <a:lnTo>
                  <a:pt x="179" y="558"/>
                </a:lnTo>
                <a:lnTo>
                  <a:pt x="172" y="551"/>
                </a:lnTo>
                <a:lnTo>
                  <a:pt x="166" y="544"/>
                </a:lnTo>
                <a:lnTo>
                  <a:pt x="166" y="537"/>
                </a:lnTo>
                <a:lnTo>
                  <a:pt x="159" y="530"/>
                </a:lnTo>
                <a:lnTo>
                  <a:pt x="152" y="530"/>
                </a:lnTo>
                <a:lnTo>
                  <a:pt x="145" y="530"/>
                </a:lnTo>
                <a:lnTo>
                  <a:pt x="138" y="537"/>
                </a:lnTo>
                <a:lnTo>
                  <a:pt x="131" y="544"/>
                </a:lnTo>
                <a:lnTo>
                  <a:pt x="124" y="544"/>
                </a:lnTo>
                <a:lnTo>
                  <a:pt x="110" y="551"/>
                </a:lnTo>
                <a:lnTo>
                  <a:pt x="104" y="551"/>
                </a:lnTo>
                <a:lnTo>
                  <a:pt x="97" y="551"/>
                </a:lnTo>
                <a:lnTo>
                  <a:pt x="90" y="558"/>
                </a:lnTo>
                <a:lnTo>
                  <a:pt x="76" y="558"/>
                </a:lnTo>
                <a:lnTo>
                  <a:pt x="69" y="558"/>
                </a:lnTo>
                <a:lnTo>
                  <a:pt x="62" y="565"/>
                </a:lnTo>
                <a:lnTo>
                  <a:pt x="48" y="565"/>
                </a:lnTo>
                <a:lnTo>
                  <a:pt x="41" y="572"/>
                </a:lnTo>
                <a:lnTo>
                  <a:pt x="35" y="572"/>
                </a:lnTo>
                <a:lnTo>
                  <a:pt x="21" y="572"/>
                </a:lnTo>
                <a:lnTo>
                  <a:pt x="14" y="579"/>
                </a:lnTo>
                <a:lnTo>
                  <a:pt x="7" y="586"/>
                </a:lnTo>
                <a:lnTo>
                  <a:pt x="7" y="592"/>
                </a:lnTo>
                <a:lnTo>
                  <a:pt x="7" y="599"/>
                </a:lnTo>
                <a:lnTo>
                  <a:pt x="7" y="599"/>
                </a:lnTo>
                <a:lnTo>
                  <a:pt x="0" y="606"/>
                </a:lnTo>
                <a:lnTo>
                  <a:pt x="0" y="613"/>
                </a:lnTo>
                <a:lnTo>
                  <a:pt x="0" y="620"/>
                </a:lnTo>
                <a:lnTo>
                  <a:pt x="0" y="627"/>
                </a:lnTo>
                <a:lnTo>
                  <a:pt x="0" y="634"/>
                </a:lnTo>
                <a:lnTo>
                  <a:pt x="0" y="641"/>
                </a:lnTo>
                <a:lnTo>
                  <a:pt x="0" y="648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9" name=""/>
          <p:cNvSpPr/>
          <p:nvPr/>
        </p:nvSpPr>
        <p:spPr>
          <a:xfrm>
            <a:off x="4267080" y="5637240"/>
            <a:ext cx="65160" cy="11160"/>
          </a:xfrm>
          <a:custGeom>
            <a:avLst/>
            <a:gdLst/>
            <a:ahLst/>
            <a:rect l="l" t="t" r="r" b="b"/>
            <a:pathLst>
              <a:path w="41" h="7">
                <a:moveTo>
                  <a:pt x="41" y="7"/>
                </a:moveTo>
                <a:lnTo>
                  <a:pt x="34" y="0"/>
                </a:lnTo>
                <a:lnTo>
                  <a:pt x="27" y="0"/>
                </a:lnTo>
                <a:lnTo>
                  <a:pt x="21" y="0"/>
                </a:lnTo>
                <a:lnTo>
                  <a:pt x="21" y="0"/>
                </a:lnTo>
                <a:lnTo>
                  <a:pt x="14" y="0"/>
                </a:lnTo>
                <a:lnTo>
                  <a:pt x="7" y="0"/>
                </a:lnTo>
                <a:lnTo>
                  <a:pt x="7" y="0"/>
                </a:lnTo>
                <a:lnTo>
                  <a:pt x="0" y="7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0" name=""/>
          <p:cNvSpPr/>
          <p:nvPr/>
        </p:nvSpPr>
        <p:spPr>
          <a:xfrm>
            <a:off x="4540320" y="5440320"/>
            <a:ext cx="44280" cy="31680"/>
          </a:xfrm>
          <a:custGeom>
            <a:avLst/>
            <a:gdLst/>
            <a:ahLst/>
            <a:rect l="l" t="t" r="r" b="b"/>
            <a:pathLst>
              <a:path w="28" h="20">
                <a:moveTo>
                  <a:pt x="0" y="13"/>
                </a:moveTo>
                <a:lnTo>
                  <a:pt x="7" y="7"/>
                </a:lnTo>
                <a:lnTo>
                  <a:pt x="7" y="7"/>
                </a:lnTo>
                <a:lnTo>
                  <a:pt x="14" y="0"/>
                </a:lnTo>
                <a:lnTo>
                  <a:pt x="21" y="0"/>
                </a:lnTo>
                <a:lnTo>
                  <a:pt x="21" y="7"/>
                </a:lnTo>
                <a:lnTo>
                  <a:pt x="28" y="7"/>
                </a:lnTo>
                <a:lnTo>
                  <a:pt x="28" y="7"/>
                </a:lnTo>
                <a:lnTo>
                  <a:pt x="28" y="13"/>
                </a:lnTo>
                <a:lnTo>
                  <a:pt x="21" y="13"/>
                </a:lnTo>
                <a:lnTo>
                  <a:pt x="21" y="20"/>
                </a:lnTo>
                <a:lnTo>
                  <a:pt x="14" y="20"/>
                </a:lnTo>
                <a:lnTo>
                  <a:pt x="14" y="20"/>
                </a:lnTo>
                <a:lnTo>
                  <a:pt x="7" y="13"/>
                </a:lnTo>
                <a:lnTo>
                  <a:pt x="0" y="13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1" name=""/>
          <p:cNvSpPr/>
          <p:nvPr/>
        </p:nvSpPr>
        <p:spPr>
          <a:xfrm>
            <a:off x="4759200" y="5156280"/>
            <a:ext cx="66960" cy="42840"/>
          </a:xfrm>
          <a:custGeom>
            <a:avLst/>
            <a:gdLst/>
            <a:ahLst/>
            <a:rect l="l" t="t" r="r" b="b"/>
            <a:pathLst>
              <a:path w="42" h="27">
                <a:moveTo>
                  <a:pt x="42" y="13"/>
                </a:moveTo>
                <a:lnTo>
                  <a:pt x="35" y="7"/>
                </a:lnTo>
                <a:lnTo>
                  <a:pt x="35" y="0"/>
                </a:lnTo>
                <a:lnTo>
                  <a:pt x="28" y="0"/>
                </a:lnTo>
                <a:lnTo>
                  <a:pt x="21" y="0"/>
                </a:lnTo>
                <a:lnTo>
                  <a:pt x="7" y="7"/>
                </a:lnTo>
                <a:lnTo>
                  <a:pt x="0" y="7"/>
                </a:lnTo>
                <a:lnTo>
                  <a:pt x="0" y="13"/>
                </a:lnTo>
                <a:lnTo>
                  <a:pt x="7" y="20"/>
                </a:lnTo>
                <a:lnTo>
                  <a:pt x="14" y="27"/>
                </a:lnTo>
                <a:lnTo>
                  <a:pt x="21" y="27"/>
                </a:lnTo>
                <a:lnTo>
                  <a:pt x="28" y="27"/>
                </a:lnTo>
                <a:lnTo>
                  <a:pt x="35" y="27"/>
                </a:lnTo>
                <a:lnTo>
                  <a:pt x="35" y="20"/>
                </a:lnTo>
                <a:lnTo>
                  <a:pt x="42" y="13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2" name=""/>
          <p:cNvSpPr/>
          <p:nvPr/>
        </p:nvSpPr>
        <p:spPr>
          <a:xfrm>
            <a:off x="5141880" y="5046840"/>
            <a:ext cx="66600" cy="42840"/>
          </a:xfrm>
          <a:custGeom>
            <a:avLst/>
            <a:gdLst/>
            <a:ahLst/>
            <a:rect l="l" t="t" r="r" b="b"/>
            <a:pathLst>
              <a:path w="42" h="27">
                <a:moveTo>
                  <a:pt x="0" y="20"/>
                </a:moveTo>
                <a:lnTo>
                  <a:pt x="7" y="14"/>
                </a:lnTo>
                <a:lnTo>
                  <a:pt x="7" y="7"/>
                </a:lnTo>
                <a:lnTo>
                  <a:pt x="14" y="0"/>
                </a:lnTo>
                <a:lnTo>
                  <a:pt x="21" y="0"/>
                </a:lnTo>
                <a:lnTo>
                  <a:pt x="28" y="7"/>
                </a:lnTo>
                <a:lnTo>
                  <a:pt x="35" y="7"/>
                </a:lnTo>
                <a:lnTo>
                  <a:pt x="42" y="14"/>
                </a:lnTo>
                <a:lnTo>
                  <a:pt x="42" y="20"/>
                </a:lnTo>
                <a:lnTo>
                  <a:pt x="42" y="27"/>
                </a:lnTo>
                <a:lnTo>
                  <a:pt x="35" y="27"/>
                </a:lnTo>
                <a:lnTo>
                  <a:pt x="21" y="27"/>
                </a:lnTo>
                <a:lnTo>
                  <a:pt x="14" y="27"/>
                </a:lnTo>
                <a:lnTo>
                  <a:pt x="7" y="27"/>
                </a:lnTo>
                <a:lnTo>
                  <a:pt x="0" y="2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3" name=""/>
          <p:cNvSpPr/>
          <p:nvPr/>
        </p:nvSpPr>
        <p:spPr>
          <a:xfrm>
            <a:off x="6335640" y="4740120"/>
            <a:ext cx="33480" cy="33480"/>
          </a:xfrm>
          <a:custGeom>
            <a:avLst/>
            <a:gdLst/>
            <a:ahLst/>
            <a:rect l="l" t="t" r="r" b="b"/>
            <a:pathLst>
              <a:path w="21" h="21">
                <a:moveTo>
                  <a:pt x="0" y="7"/>
                </a:moveTo>
                <a:lnTo>
                  <a:pt x="7" y="0"/>
                </a:lnTo>
                <a:lnTo>
                  <a:pt x="7" y="0"/>
                </a:lnTo>
                <a:lnTo>
                  <a:pt x="14" y="0"/>
                </a:lnTo>
                <a:lnTo>
                  <a:pt x="14" y="7"/>
                </a:lnTo>
                <a:lnTo>
                  <a:pt x="21" y="7"/>
                </a:lnTo>
                <a:lnTo>
                  <a:pt x="21" y="14"/>
                </a:lnTo>
                <a:lnTo>
                  <a:pt x="14" y="14"/>
                </a:lnTo>
                <a:lnTo>
                  <a:pt x="14" y="21"/>
                </a:lnTo>
                <a:lnTo>
                  <a:pt x="14" y="21"/>
                </a:lnTo>
                <a:lnTo>
                  <a:pt x="7" y="21"/>
                </a:lnTo>
                <a:lnTo>
                  <a:pt x="7" y="21"/>
                </a:lnTo>
                <a:lnTo>
                  <a:pt x="7" y="21"/>
                </a:lnTo>
                <a:lnTo>
                  <a:pt x="7" y="14"/>
                </a:lnTo>
                <a:lnTo>
                  <a:pt x="0" y="7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4" name=""/>
          <p:cNvSpPr/>
          <p:nvPr/>
        </p:nvSpPr>
        <p:spPr>
          <a:xfrm>
            <a:off x="4890960" y="4707000"/>
            <a:ext cx="11160" cy="1440"/>
          </a:xfrm>
          <a:custGeom>
            <a:avLst/>
            <a:gdLst/>
            <a:ahLst/>
            <a:rect l="l" t="t" r="r" b="b"/>
            <a:pathLst>
              <a:path w="7" h="0">
                <a:moveTo>
                  <a:pt x="7" y="0"/>
                </a:move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5" name=""/>
          <p:cNvSpPr/>
          <p:nvPr/>
        </p:nvSpPr>
        <p:spPr>
          <a:xfrm>
            <a:off x="4815000" y="4641840"/>
            <a:ext cx="42840" cy="33480"/>
          </a:xfrm>
          <a:custGeom>
            <a:avLst/>
            <a:gdLst/>
            <a:ahLst/>
            <a:rect l="l" t="t" r="r" b="b"/>
            <a:pathLst>
              <a:path w="27" h="21">
                <a:moveTo>
                  <a:pt x="27" y="7"/>
                </a:moveTo>
                <a:lnTo>
                  <a:pt x="27" y="7"/>
                </a:lnTo>
                <a:lnTo>
                  <a:pt x="27" y="0"/>
                </a:lnTo>
                <a:lnTo>
                  <a:pt x="20" y="0"/>
                </a:lnTo>
                <a:lnTo>
                  <a:pt x="13" y="0"/>
                </a:lnTo>
                <a:lnTo>
                  <a:pt x="7" y="0"/>
                </a:lnTo>
                <a:lnTo>
                  <a:pt x="0" y="7"/>
                </a:lnTo>
                <a:lnTo>
                  <a:pt x="0" y="14"/>
                </a:lnTo>
                <a:lnTo>
                  <a:pt x="0" y="14"/>
                </a:lnTo>
                <a:lnTo>
                  <a:pt x="7" y="21"/>
                </a:lnTo>
                <a:lnTo>
                  <a:pt x="13" y="21"/>
                </a:lnTo>
                <a:lnTo>
                  <a:pt x="20" y="21"/>
                </a:lnTo>
                <a:lnTo>
                  <a:pt x="27" y="21"/>
                </a:lnTo>
                <a:lnTo>
                  <a:pt x="27" y="14"/>
                </a:lnTo>
                <a:lnTo>
                  <a:pt x="27" y="7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6" name=""/>
          <p:cNvSpPr/>
          <p:nvPr/>
        </p:nvSpPr>
        <p:spPr>
          <a:xfrm>
            <a:off x="4737240" y="4498920"/>
            <a:ext cx="66600" cy="55440"/>
          </a:xfrm>
          <a:custGeom>
            <a:avLst/>
            <a:gdLst/>
            <a:ahLst/>
            <a:rect l="l" t="t" r="r" b="b"/>
            <a:pathLst>
              <a:path w="42" h="35">
                <a:moveTo>
                  <a:pt x="35" y="21"/>
                </a:moveTo>
                <a:lnTo>
                  <a:pt x="35" y="14"/>
                </a:lnTo>
                <a:lnTo>
                  <a:pt x="35" y="14"/>
                </a:lnTo>
                <a:lnTo>
                  <a:pt x="35" y="14"/>
                </a:lnTo>
                <a:lnTo>
                  <a:pt x="35" y="14"/>
                </a:lnTo>
                <a:lnTo>
                  <a:pt x="35" y="14"/>
                </a:lnTo>
                <a:lnTo>
                  <a:pt x="35" y="7"/>
                </a:lnTo>
                <a:lnTo>
                  <a:pt x="35" y="7"/>
                </a:lnTo>
                <a:lnTo>
                  <a:pt x="35" y="7"/>
                </a:lnTo>
                <a:lnTo>
                  <a:pt x="35" y="7"/>
                </a:lnTo>
                <a:lnTo>
                  <a:pt x="35" y="7"/>
                </a:lnTo>
                <a:lnTo>
                  <a:pt x="35" y="7"/>
                </a:lnTo>
                <a:lnTo>
                  <a:pt x="35" y="0"/>
                </a:lnTo>
                <a:lnTo>
                  <a:pt x="35" y="0"/>
                </a:lnTo>
                <a:lnTo>
                  <a:pt x="28" y="0"/>
                </a:lnTo>
                <a:lnTo>
                  <a:pt x="28" y="0"/>
                </a:lnTo>
                <a:lnTo>
                  <a:pt x="28" y="0"/>
                </a:lnTo>
                <a:lnTo>
                  <a:pt x="28" y="0"/>
                </a:lnTo>
                <a:lnTo>
                  <a:pt x="21" y="0"/>
                </a:lnTo>
                <a:lnTo>
                  <a:pt x="21" y="7"/>
                </a:lnTo>
                <a:lnTo>
                  <a:pt x="21" y="7"/>
                </a:lnTo>
                <a:lnTo>
                  <a:pt x="14" y="7"/>
                </a:lnTo>
                <a:lnTo>
                  <a:pt x="14" y="7"/>
                </a:lnTo>
                <a:lnTo>
                  <a:pt x="21" y="7"/>
                </a:lnTo>
                <a:lnTo>
                  <a:pt x="21" y="7"/>
                </a:lnTo>
                <a:lnTo>
                  <a:pt x="21" y="7"/>
                </a:lnTo>
                <a:lnTo>
                  <a:pt x="21" y="7"/>
                </a:lnTo>
                <a:lnTo>
                  <a:pt x="21" y="7"/>
                </a:lnTo>
                <a:lnTo>
                  <a:pt x="28" y="14"/>
                </a:lnTo>
                <a:lnTo>
                  <a:pt x="28" y="14"/>
                </a:lnTo>
                <a:lnTo>
                  <a:pt x="28" y="14"/>
                </a:lnTo>
                <a:lnTo>
                  <a:pt x="28" y="14"/>
                </a:lnTo>
                <a:lnTo>
                  <a:pt x="28" y="21"/>
                </a:lnTo>
                <a:lnTo>
                  <a:pt x="28" y="21"/>
                </a:lnTo>
                <a:lnTo>
                  <a:pt x="28" y="28"/>
                </a:lnTo>
                <a:lnTo>
                  <a:pt x="28" y="28"/>
                </a:lnTo>
                <a:lnTo>
                  <a:pt x="21" y="28"/>
                </a:lnTo>
                <a:lnTo>
                  <a:pt x="21" y="35"/>
                </a:lnTo>
                <a:lnTo>
                  <a:pt x="21" y="35"/>
                </a:lnTo>
                <a:lnTo>
                  <a:pt x="21" y="35"/>
                </a:lnTo>
                <a:lnTo>
                  <a:pt x="14" y="35"/>
                </a:lnTo>
                <a:lnTo>
                  <a:pt x="14" y="35"/>
                </a:lnTo>
                <a:lnTo>
                  <a:pt x="14" y="35"/>
                </a:lnTo>
                <a:lnTo>
                  <a:pt x="7" y="35"/>
                </a:lnTo>
                <a:lnTo>
                  <a:pt x="7" y="35"/>
                </a:lnTo>
                <a:lnTo>
                  <a:pt x="7" y="35"/>
                </a:lnTo>
                <a:lnTo>
                  <a:pt x="7" y="35"/>
                </a:lnTo>
                <a:lnTo>
                  <a:pt x="7" y="35"/>
                </a:lnTo>
                <a:lnTo>
                  <a:pt x="0" y="28"/>
                </a:lnTo>
                <a:lnTo>
                  <a:pt x="0" y="28"/>
                </a:lnTo>
                <a:lnTo>
                  <a:pt x="0" y="28"/>
                </a:lnTo>
                <a:lnTo>
                  <a:pt x="0" y="21"/>
                </a:lnTo>
                <a:lnTo>
                  <a:pt x="0" y="21"/>
                </a:lnTo>
                <a:lnTo>
                  <a:pt x="0" y="14"/>
                </a:lnTo>
                <a:lnTo>
                  <a:pt x="0" y="14"/>
                </a:lnTo>
                <a:lnTo>
                  <a:pt x="0" y="7"/>
                </a:lnTo>
                <a:lnTo>
                  <a:pt x="7" y="7"/>
                </a:lnTo>
                <a:lnTo>
                  <a:pt x="7" y="7"/>
                </a:lnTo>
                <a:lnTo>
                  <a:pt x="14" y="0"/>
                </a:lnTo>
                <a:lnTo>
                  <a:pt x="21" y="0"/>
                </a:lnTo>
                <a:lnTo>
                  <a:pt x="28" y="0"/>
                </a:lnTo>
                <a:lnTo>
                  <a:pt x="28" y="0"/>
                </a:lnTo>
                <a:lnTo>
                  <a:pt x="35" y="0"/>
                </a:lnTo>
                <a:lnTo>
                  <a:pt x="35" y="0"/>
                </a:lnTo>
                <a:lnTo>
                  <a:pt x="35" y="0"/>
                </a:lnTo>
                <a:lnTo>
                  <a:pt x="42" y="0"/>
                </a:lnTo>
                <a:lnTo>
                  <a:pt x="42" y="7"/>
                </a:lnTo>
                <a:lnTo>
                  <a:pt x="42" y="7"/>
                </a:lnTo>
                <a:lnTo>
                  <a:pt x="42" y="7"/>
                </a:lnTo>
                <a:lnTo>
                  <a:pt x="42" y="14"/>
                </a:lnTo>
                <a:lnTo>
                  <a:pt x="42" y="14"/>
                </a:lnTo>
                <a:lnTo>
                  <a:pt x="42" y="14"/>
                </a:lnTo>
                <a:lnTo>
                  <a:pt x="42" y="21"/>
                </a:lnTo>
                <a:lnTo>
                  <a:pt x="35" y="21"/>
                </a:lnTo>
                <a:close/>
                <a:moveTo>
                  <a:pt x="7" y="14"/>
                </a:moveTo>
                <a:lnTo>
                  <a:pt x="7" y="14"/>
                </a:lnTo>
                <a:lnTo>
                  <a:pt x="7" y="14"/>
                </a:lnTo>
                <a:lnTo>
                  <a:pt x="7" y="14"/>
                </a:lnTo>
                <a:lnTo>
                  <a:pt x="7" y="14"/>
                </a:lnTo>
                <a:lnTo>
                  <a:pt x="7" y="21"/>
                </a:lnTo>
                <a:lnTo>
                  <a:pt x="7" y="21"/>
                </a:lnTo>
                <a:lnTo>
                  <a:pt x="0" y="21"/>
                </a:lnTo>
                <a:lnTo>
                  <a:pt x="0" y="21"/>
                </a:lnTo>
                <a:lnTo>
                  <a:pt x="0" y="21"/>
                </a:lnTo>
                <a:lnTo>
                  <a:pt x="7" y="21"/>
                </a:lnTo>
                <a:lnTo>
                  <a:pt x="7" y="28"/>
                </a:lnTo>
                <a:lnTo>
                  <a:pt x="7" y="28"/>
                </a:lnTo>
                <a:lnTo>
                  <a:pt x="7" y="28"/>
                </a:lnTo>
                <a:lnTo>
                  <a:pt x="7" y="28"/>
                </a:lnTo>
                <a:lnTo>
                  <a:pt x="7" y="28"/>
                </a:lnTo>
                <a:lnTo>
                  <a:pt x="7" y="28"/>
                </a:lnTo>
                <a:lnTo>
                  <a:pt x="14" y="28"/>
                </a:lnTo>
                <a:lnTo>
                  <a:pt x="14" y="28"/>
                </a:lnTo>
                <a:lnTo>
                  <a:pt x="14" y="28"/>
                </a:lnTo>
                <a:lnTo>
                  <a:pt x="21" y="28"/>
                </a:lnTo>
                <a:lnTo>
                  <a:pt x="21" y="28"/>
                </a:lnTo>
                <a:lnTo>
                  <a:pt x="21" y="28"/>
                </a:lnTo>
                <a:lnTo>
                  <a:pt x="21" y="21"/>
                </a:lnTo>
                <a:lnTo>
                  <a:pt x="21" y="21"/>
                </a:lnTo>
                <a:lnTo>
                  <a:pt x="21" y="21"/>
                </a:lnTo>
                <a:lnTo>
                  <a:pt x="21" y="21"/>
                </a:lnTo>
                <a:lnTo>
                  <a:pt x="21" y="14"/>
                </a:lnTo>
                <a:lnTo>
                  <a:pt x="21" y="14"/>
                </a:lnTo>
                <a:lnTo>
                  <a:pt x="21" y="14"/>
                </a:lnTo>
                <a:lnTo>
                  <a:pt x="21" y="14"/>
                </a:lnTo>
                <a:lnTo>
                  <a:pt x="21" y="14"/>
                </a:lnTo>
                <a:lnTo>
                  <a:pt x="14" y="14"/>
                </a:lnTo>
                <a:lnTo>
                  <a:pt x="14" y="14"/>
                </a:lnTo>
                <a:lnTo>
                  <a:pt x="14" y="14"/>
                </a:lnTo>
                <a:lnTo>
                  <a:pt x="7" y="14"/>
                </a:lnTo>
                <a:lnTo>
                  <a:pt x="7" y="14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7" name=""/>
          <p:cNvSpPr/>
          <p:nvPr/>
        </p:nvSpPr>
        <p:spPr>
          <a:xfrm>
            <a:off x="4770360" y="4543560"/>
            <a:ext cx="65160" cy="54000"/>
          </a:xfrm>
          <a:custGeom>
            <a:avLst/>
            <a:gdLst/>
            <a:ahLst/>
            <a:rect l="l" t="t" r="r" b="b"/>
            <a:pathLst>
              <a:path w="41" h="34">
                <a:moveTo>
                  <a:pt x="7" y="7"/>
                </a:moveTo>
                <a:lnTo>
                  <a:pt x="14" y="0"/>
                </a:lnTo>
                <a:lnTo>
                  <a:pt x="14" y="0"/>
                </a:lnTo>
                <a:lnTo>
                  <a:pt x="21" y="0"/>
                </a:lnTo>
                <a:lnTo>
                  <a:pt x="21" y="0"/>
                </a:lnTo>
                <a:lnTo>
                  <a:pt x="21" y="0"/>
                </a:lnTo>
                <a:lnTo>
                  <a:pt x="28" y="0"/>
                </a:lnTo>
                <a:lnTo>
                  <a:pt x="28" y="0"/>
                </a:lnTo>
                <a:lnTo>
                  <a:pt x="28" y="0"/>
                </a:lnTo>
                <a:lnTo>
                  <a:pt x="35" y="0"/>
                </a:lnTo>
                <a:lnTo>
                  <a:pt x="35" y="0"/>
                </a:lnTo>
                <a:lnTo>
                  <a:pt x="35" y="0"/>
                </a:lnTo>
                <a:lnTo>
                  <a:pt x="35" y="0"/>
                </a:lnTo>
                <a:lnTo>
                  <a:pt x="41" y="7"/>
                </a:lnTo>
                <a:lnTo>
                  <a:pt x="41" y="7"/>
                </a:lnTo>
                <a:lnTo>
                  <a:pt x="41" y="7"/>
                </a:lnTo>
                <a:lnTo>
                  <a:pt x="41" y="7"/>
                </a:lnTo>
                <a:lnTo>
                  <a:pt x="41" y="14"/>
                </a:lnTo>
                <a:lnTo>
                  <a:pt x="41" y="14"/>
                </a:lnTo>
                <a:lnTo>
                  <a:pt x="41" y="14"/>
                </a:lnTo>
                <a:lnTo>
                  <a:pt x="41" y="14"/>
                </a:lnTo>
                <a:lnTo>
                  <a:pt x="35" y="14"/>
                </a:lnTo>
                <a:lnTo>
                  <a:pt x="35" y="21"/>
                </a:lnTo>
                <a:lnTo>
                  <a:pt x="35" y="21"/>
                </a:lnTo>
                <a:lnTo>
                  <a:pt x="35" y="21"/>
                </a:lnTo>
                <a:lnTo>
                  <a:pt x="35" y="21"/>
                </a:lnTo>
                <a:lnTo>
                  <a:pt x="35" y="27"/>
                </a:lnTo>
                <a:lnTo>
                  <a:pt x="28" y="27"/>
                </a:lnTo>
                <a:lnTo>
                  <a:pt x="28" y="27"/>
                </a:lnTo>
                <a:lnTo>
                  <a:pt x="21" y="27"/>
                </a:lnTo>
                <a:lnTo>
                  <a:pt x="21" y="34"/>
                </a:lnTo>
                <a:lnTo>
                  <a:pt x="21" y="34"/>
                </a:lnTo>
                <a:lnTo>
                  <a:pt x="14" y="34"/>
                </a:lnTo>
                <a:lnTo>
                  <a:pt x="14" y="34"/>
                </a:lnTo>
                <a:lnTo>
                  <a:pt x="7" y="34"/>
                </a:lnTo>
                <a:lnTo>
                  <a:pt x="7" y="34"/>
                </a:lnTo>
                <a:lnTo>
                  <a:pt x="7" y="34"/>
                </a:lnTo>
                <a:lnTo>
                  <a:pt x="7" y="34"/>
                </a:lnTo>
                <a:lnTo>
                  <a:pt x="0" y="34"/>
                </a:lnTo>
                <a:lnTo>
                  <a:pt x="0" y="27"/>
                </a:lnTo>
                <a:lnTo>
                  <a:pt x="0" y="27"/>
                </a:lnTo>
                <a:lnTo>
                  <a:pt x="0" y="27"/>
                </a:lnTo>
                <a:lnTo>
                  <a:pt x="0" y="21"/>
                </a:lnTo>
                <a:lnTo>
                  <a:pt x="0" y="21"/>
                </a:lnTo>
                <a:lnTo>
                  <a:pt x="0" y="21"/>
                </a:lnTo>
                <a:lnTo>
                  <a:pt x="0" y="14"/>
                </a:lnTo>
                <a:lnTo>
                  <a:pt x="0" y="14"/>
                </a:lnTo>
                <a:lnTo>
                  <a:pt x="7" y="7"/>
                </a:lnTo>
                <a:lnTo>
                  <a:pt x="7" y="7"/>
                </a:lnTo>
                <a:close/>
                <a:moveTo>
                  <a:pt x="14" y="7"/>
                </a:moveTo>
                <a:lnTo>
                  <a:pt x="7" y="14"/>
                </a:lnTo>
                <a:lnTo>
                  <a:pt x="7" y="14"/>
                </a:lnTo>
                <a:lnTo>
                  <a:pt x="7" y="14"/>
                </a:lnTo>
                <a:lnTo>
                  <a:pt x="0" y="21"/>
                </a:lnTo>
                <a:lnTo>
                  <a:pt x="0" y="21"/>
                </a:lnTo>
                <a:lnTo>
                  <a:pt x="0" y="21"/>
                </a:lnTo>
                <a:lnTo>
                  <a:pt x="0" y="27"/>
                </a:lnTo>
                <a:lnTo>
                  <a:pt x="0" y="27"/>
                </a:lnTo>
                <a:lnTo>
                  <a:pt x="7" y="27"/>
                </a:lnTo>
                <a:lnTo>
                  <a:pt x="7" y="27"/>
                </a:lnTo>
                <a:lnTo>
                  <a:pt x="7" y="27"/>
                </a:lnTo>
                <a:lnTo>
                  <a:pt x="7" y="27"/>
                </a:lnTo>
                <a:lnTo>
                  <a:pt x="14" y="27"/>
                </a:lnTo>
                <a:lnTo>
                  <a:pt x="14" y="27"/>
                </a:lnTo>
                <a:lnTo>
                  <a:pt x="21" y="27"/>
                </a:lnTo>
                <a:lnTo>
                  <a:pt x="21" y="21"/>
                </a:lnTo>
                <a:lnTo>
                  <a:pt x="28" y="21"/>
                </a:lnTo>
                <a:lnTo>
                  <a:pt x="28" y="21"/>
                </a:lnTo>
                <a:lnTo>
                  <a:pt x="35" y="14"/>
                </a:lnTo>
                <a:lnTo>
                  <a:pt x="35" y="14"/>
                </a:lnTo>
                <a:lnTo>
                  <a:pt x="35" y="14"/>
                </a:lnTo>
                <a:lnTo>
                  <a:pt x="35" y="7"/>
                </a:lnTo>
                <a:lnTo>
                  <a:pt x="35" y="7"/>
                </a:lnTo>
                <a:lnTo>
                  <a:pt x="35" y="7"/>
                </a:lnTo>
                <a:lnTo>
                  <a:pt x="35" y="7"/>
                </a:lnTo>
                <a:lnTo>
                  <a:pt x="28" y="7"/>
                </a:lnTo>
                <a:lnTo>
                  <a:pt x="28" y="0"/>
                </a:lnTo>
                <a:lnTo>
                  <a:pt x="28" y="0"/>
                </a:lnTo>
                <a:lnTo>
                  <a:pt x="28" y="0"/>
                </a:lnTo>
                <a:lnTo>
                  <a:pt x="21" y="7"/>
                </a:lnTo>
                <a:lnTo>
                  <a:pt x="21" y="7"/>
                </a:lnTo>
                <a:lnTo>
                  <a:pt x="14" y="7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8" name=""/>
          <p:cNvSpPr/>
          <p:nvPr/>
        </p:nvSpPr>
        <p:spPr>
          <a:xfrm>
            <a:off x="4737240" y="4478400"/>
            <a:ext cx="1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9" name=""/>
          <p:cNvSpPr/>
          <p:nvPr/>
        </p:nvSpPr>
        <p:spPr>
          <a:xfrm>
            <a:off x="4573440" y="4357800"/>
            <a:ext cx="252720" cy="295200"/>
          </a:xfrm>
          <a:custGeom>
            <a:avLst/>
            <a:gdLst/>
            <a:ahLst/>
            <a:rect l="l" t="t" r="r" b="b"/>
            <a:pathLst>
              <a:path w="159" h="186">
                <a:moveTo>
                  <a:pt x="103" y="76"/>
                </a:moveTo>
                <a:lnTo>
                  <a:pt x="96" y="69"/>
                </a:lnTo>
                <a:lnTo>
                  <a:pt x="96" y="62"/>
                </a:lnTo>
                <a:lnTo>
                  <a:pt x="90" y="62"/>
                </a:lnTo>
                <a:lnTo>
                  <a:pt x="90" y="55"/>
                </a:lnTo>
                <a:lnTo>
                  <a:pt x="83" y="48"/>
                </a:lnTo>
                <a:lnTo>
                  <a:pt x="83" y="41"/>
                </a:lnTo>
                <a:lnTo>
                  <a:pt x="76" y="34"/>
                </a:lnTo>
                <a:lnTo>
                  <a:pt x="69" y="27"/>
                </a:lnTo>
                <a:lnTo>
                  <a:pt x="69" y="20"/>
                </a:lnTo>
                <a:lnTo>
                  <a:pt x="62" y="14"/>
                </a:lnTo>
                <a:lnTo>
                  <a:pt x="62" y="14"/>
                </a:lnTo>
                <a:lnTo>
                  <a:pt x="55" y="7"/>
                </a:lnTo>
                <a:lnTo>
                  <a:pt x="48" y="0"/>
                </a:lnTo>
                <a:lnTo>
                  <a:pt x="34" y="0"/>
                </a:lnTo>
                <a:lnTo>
                  <a:pt x="28" y="0"/>
                </a:lnTo>
                <a:lnTo>
                  <a:pt x="21" y="7"/>
                </a:lnTo>
                <a:lnTo>
                  <a:pt x="21" y="14"/>
                </a:lnTo>
                <a:lnTo>
                  <a:pt x="14" y="20"/>
                </a:lnTo>
                <a:lnTo>
                  <a:pt x="7" y="27"/>
                </a:lnTo>
                <a:lnTo>
                  <a:pt x="7" y="27"/>
                </a:lnTo>
                <a:lnTo>
                  <a:pt x="0" y="34"/>
                </a:lnTo>
                <a:lnTo>
                  <a:pt x="0" y="41"/>
                </a:lnTo>
                <a:lnTo>
                  <a:pt x="7" y="48"/>
                </a:lnTo>
                <a:lnTo>
                  <a:pt x="14" y="48"/>
                </a:lnTo>
                <a:lnTo>
                  <a:pt x="28" y="55"/>
                </a:lnTo>
                <a:lnTo>
                  <a:pt x="34" y="62"/>
                </a:lnTo>
                <a:lnTo>
                  <a:pt x="34" y="62"/>
                </a:lnTo>
                <a:lnTo>
                  <a:pt x="41" y="69"/>
                </a:lnTo>
                <a:lnTo>
                  <a:pt x="48" y="76"/>
                </a:lnTo>
                <a:lnTo>
                  <a:pt x="55" y="82"/>
                </a:lnTo>
                <a:lnTo>
                  <a:pt x="62" y="82"/>
                </a:lnTo>
                <a:lnTo>
                  <a:pt x="69" y="89"/>
                </a:lnTo>
                <a:lnTo>
                  <a:pt x="76" y="96"/>
                </a:lnTo>
                <a:lnTo>
                  <a:pt x="76" y="103"/>
                </a:lnTo>
                <a:lnTo>
                  <a:pt x="76" y="110"/>
                </a:lnTo>
                <a:lnTo>
                  <a:pt x="83" y="117"/>
                </a:lnTo>
                <a:lnTo>
                  <a:pt x="83" y="117"/>
                </a:lnTo>
                <a:lnTo>
                  <a:pt x="90" y="124"/>
                </a:lnTo>
                <a:lnTo>
                  <a:pt x="96" y="131"/>
                </a:lnTo>
                <a:lnTo>
                  <a:pt x="96" y="138"/>
                </a:lnTo>
                <a:lnTo>
                  <a:pt x="96" y="144"/>
                </a:lnTo>
                <a:lnTo>
                  <a:pt x="96" y="151"/>
                </a:lnTo>
                <a:lnTo>
                  <a:pt x="96" y="158"/>
                </a:lnTo>
                <a:lnTo>
                  <a:pt x="103" y="158"/>
                </a:lnTo>
                <a:lnTo>
                  <a:pt x="117" y="165"/>
                </a:lnTo>
                <a:lnTo>
                  <a:pt x="124" y="172"/>
                </a:lnTo>
                <a:lnTo>
                  <a:pt x="131" y="172"/>
                </a:lnTo>
                <a:lnTo>
                  <a:pt x="138" y="179"/>
                </a:lnTo>
                <a:lnTo>
                  <a:pt x="145" y="186"/>
                </a:lnTo>
                <a:lnTo>
                  <a:pt x="145" y="186"/>
                </a:lnTo>
                <a:lnTo>
                  <a:pt x="152" y="186"/>
                </a:lnTo>
                <a:lnTo>
                  <a:pt x="152" y="179"/>
                </a:lnTo>
                <a:lnTo>
                  <a:pt x="159" y="172"/>
                </a:lnTo>
                <a:lnTo>
                  <a:pt x="159" y="158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0" name=""/>
          <p:cNvSpPr/>
          <p:nvPr/>
        </p:nvSpPr>
        <p:spPr>
          <a:xfrm>
            <a:off x="4638600" y="4554360"/>
            <a:ext cx="44640" cy="32040"/>
          </a:xfrm>
          <a:custGeom>
            <a:avLst/>
            <a:gdLst/>
            <a:ahLst/>
            <a:rect l="l" t="t" r="r" b="b"/>
            <a:pathLst>
              <a:path w="28" h="20">
                <a:moveTo>
                  <a:pt x="28" y="7"/>
                </a:moveTo>
                <a:lnTo>
                  <a:pt x="21" y="0"/>
                </a:lnTo>
                <a:lnTo>
                  <a:pt x="21" y="0"/>
                </a:lnTo>
                <a:lnTo>
                  <a:pt x="14" y="0"/>
                </a:lnTo>
                <a:lnTo>
                  <a:pt x="7" y="0"/>
                </a:lnTo>
                <a:lnTo>
                  <a:pt x="0" y="7"/>
                </a:lnTo>
                <a:lnTo>
                  <a:pt x="0" y="7"/>
                </a:lnTo>
                <a:lnTo>
                  <a:pt x="0" y="14"/>
                </a:lnTo>
                <a:lnTo>
                  <a:pt x="7" y="20"/>
                </a:lnTo>
                <a:lnTo>
                  <a:pt x="14" y="20"/>
                </a:lnTo>
                <a:lnTo>
                  <a:pt x="14" y="20"/>
                </a:lnTo>
                <a:lnTo>
                  <a:pt x="21" y="20"/>
                </a:lnTo>
                <a:lnTo>
                  <a:pt x="21" y="14"/>
                </a:lnTo>
                <a:lnTo>
                  <a:pt x="28" y="14"/>
                </a:lnTo>
                <a:lnTo>
                  <a:pt x="28" y="7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1" name=""/>
          <p:cNvSpPr/>
          <p:nvPr/>
        </p:nvSpPr>
        <p:spPr>
          <a:xfrm>
            <a:off x="4595760" y="4498920"/>
            <a:ext cx="31680" cy="44640"/>
          </a:xfrm>
          <a:custGeom>
            <a:avLst/>
            <a:gdLst/>
            <a:ahLst/>
            <a:rect l="l" t="t" r="r" b="b"/>
            <a:pathLst>
              <a:path w="20" h="28">
                <a:moveTo>
                  <a:pt x="20" y="14"/>
                </a:moveTo>
                <a:lnTo>
                  <a:pt x="20" y="7"/>
                </a:lnTo>
                <a:lnTo>
                  <a:pt x="14" y="0"/>
                </a:lnTo>
                <a:lnTo>
                  <a:pt x="7" y="0"/>
                </a:lnTo>
                <a:lnTo>
                  <a:pt x="0" y="7"/>
                </a:lnTo>
                <a:lnTo>
                  <a:pt x="0" y="7"/>
                </a:lnTo>
                <a:lnTo>
                  <a:pt x="0" y="14"/>
                </a:lnTo>
                <a:lnTo>
                  <a:pt x="0" y="21"/>
                </a:lnTo>
                <a:lnTo>
                  <a:pt x="7" y="28"/>
                </a:lnTo>
                <a:lnTo>
                  <a:pt x="7" y="28"/>
                </a:lnTo>
                <a:lnTo>
                  <a:pt x="14" y="28"/>
                </a:lnTo>
                <a:lnTo>
                  <a:pt x="14" y="28"/>
                </a:lnTo>
                <a:lnTo>
                  <a:pt x="20" y="28"/>
                </a:lnTo>
                <a:lnTo>
                  <a:pt x="20" y="21"/>
                </a:lnTo>
                <a:lnTo>
                  <a:pt x="20" y="14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2" name=""/>
          <p:cNvSpPr/>
          <p:nvPr/>
        </p:nvSpPr>
        <p:spPr>
          <a:xfrm>
            <a:off x="6281640" y="4214880"/>
            <a:ext cx="31680" cy="33120"/>
          </a:xfrm>
          <a:custGeom>
            <a:avLst/>
            <a:gdLst/>
            <a:ahLst/>
            <a:rect l="l" t="t" r="r" b="b"/>
            <a:pathLst>
              <a:path w="20" h="21">
                <a:moveTo>
                  <a:pt x="0" y="14"/>
                </a:moveTo>
                <a:lnTo>
                  <a:pt x="6" y="7"/>
                </a:lnTo>
                <a:lnTo>
                  <a:pt x="6" y="7"/>
                </a:lnTo>
                <a:lnTo>
                  <a:pt x="13" y="0"/>
                </a:lnTo>
                <a:lnTo>
                  <a:pt x="13" y="0"/>
                </a:lnTo>
                <a:lnTo>
                  <a:pt x="13" y="0"/>
                </a:lnTo>
                <a:lnTo>
                  <a:pt x="20" y="7"/>
                </a:lnTo>
                <a:lnTo>
                  <a:pt x="20" y="7"/>
                </a:lnTo>
                <a:lnTo>
                  <a:pt x="20" y="14"/>
                </a:lnTo>
                <a:lnTo>
                  <a:pt x="20" y="14"/>
                </a:lnTo>
                <a:lnTo>
                  <a:pt x="13" y="14"/>
                </a:lnTo>
                <a:lnTo>
                  <a:pt x="13" y="21"/>
                </a:lnTo>
                <a:lnTo>
                  <a:pt x="6" y="14"/>
                </a:lnTo>
                <a:lnTo>
                  <a:pt x="6" y="14"/>
                </a:lnTo>
                <a:lnTo>
                  <a:pt x="0" y="14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3" name=""/>
          <p:cNvSpPr/>
          <p:nvPr/>
        </p:nvSpPr>
        <p:spPr>
          <a:xfrm>
            <a:off x="6006960" y="4040280"/>
            <a:ext cx="22320" cy="11160"/>
          </a:xfrm>
          <a:custGeom>
            <a:avLst/>
            <a:gdLst/>
            <a:ahLst/>
            <a:rect l="l" t="t" r="r" b="b"/>
            <a:pathLst>
              <a:path w="14" h="7">
                <a:moveTo>
                  <a:pt x="0" y="0"/>
                </a:moveTo>
                <a:lnTo>
                  <a:pt x="0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14" y="0"/>
                </a:lnTo>
                <a:lnTo>
                  <a:pt x="14" y="7"/>
                </a:lnTo>
                <a:lnTo>
                  <a:pt x="14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0" y="7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4" name=""/>
          <p:cNvSpPr/>
          <p:nvPr/>
        </p:nvSpPr>
        <p:spPr>
          <a:xfrm flipV="1">
            <a:off x="2646360" y="3843000"/>
            <a:ext cx="11160" cy="11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5" name=""/>
          <p:cNvSpPr/>
          <p:nvPr/>
        </p:nvSpPr>
        <p:spPr>
          <a:xfrm>
            <a:off x="2657520" y="3635280"/>
            <a:ext cx="404640" cy="208080"/>
          </a:xfrm>
          <a:custGeom>
            <a:avLst/>
            <a:gdLst/>
            <a:ahLst/>
            <a:rect l="l" t="t" r="r" b="b"/>
            <a:pathLst>
              <a:path w="255" h="131">
                <a:moveTo>
                  <a:pt x="0" y="131"/>
                </a:moveTo>
                <a:lnTo>
                  <a:pt x="0" y="124"/>
                </a:lnTo>
                <a:lnTo>
                  <a:pt x="7" y="124"/>
                </a:lnTo>
                <a:lnTo>
                  <a:pt x="7" y="117"/>
                </a:lnTo>
                <a:lnTo>
                  <a:pt x="7" y="110"/>
                </a:lnTo>
                <a:lnTo>
                  <a:pt x="14" y="103"/>
                </a:lnTo>
                <a:lnTo>
                  <a:pt x="14" y="97"/>
                </a:lnTo>
                <a:lnTo>
                  <a:pt x="21" y="90"/>
                </a:lnTo>
                <a:lnTo>
                  <a:pt x="28" y="83"/>
                </a:lnTo>
                <a:lnTo>
                  <a:pt x="35" y="83"/>
                </a:lnTo>
                <a:lnTo>
                  <a:pt x="42" y="83"/>
                </a:lnTo>
                <a:lnTo>
                  <a:pt x="55" y="83"/>
                </a:lnTo>
                <a:lnTo>
                  <a:pt x="62" y="90"/>
                </a:lnTo>
                <a:lnTo>
                  <a:pt x="76" y="90"/>
                </a:lnTo>
                <a:lnTo>
                  <a:pt x="83" y="97"/>
                </a:lnTo>
                <a:lnTo>
                  <a:pt x="90" y="97"/>
                </a:lnTo>
                <a:lnTo>
                  <a:pt x="97" y="103"/>
                </a:lnTo>
                <a:lnTo>
                  <a:pt x="104" y="110"/>
                </a:lnTo>
                <a:lnTo>
                  <a:pt x="111" y="117"/>
                </a:lnTo>
                <a:lnTo>
                  <a:pt x="111" y="117"/>
                </a:lnTo>
                <a:lnTo>
                  <a:pt x="118" y="117"/>
                </a:lnTo>
                <a:lnTo>
                  <a:pt x="131" y="110"/>
                </a:lnTo>
                <a:lnTo>
                  <a:pt x="138" y="110"/>
                </a:lnTo>
                <a:lnTo>
                  <a:pt x="145" y="103"/>
                </a:lnTo>
                <a:lnTo>
                  <a:pt x="159" y="103"/>
                </a:lnTo>
                <a:lnTo>
                  <a:pt x="166" y="97"/>
                </a:lnTo>
                <a:lnTo>
                  <a:pt x="173" y="97"/>
                </a:lnTo>
                <a:lnTo>
                  <a:pt x="173" y="90"/>
                </a:lnTo>
                <a:lnTo>
                  <a:pt x="180" y="83"/>
                </a:lnTo>
                <a:lnTo>
                  <a:pt x="180" y="76"/>
                </a:lnTo>
                <a:lnTo>
                  <a:pt x="180" y="69"/>
                </a:lnTo>
                <a:lnTo>
                  <a:pt x="180" y="62"/>
                </a:lnTo>
                <a:lnTo>
                  <a:pt x="186" y="55"/>
                </a:lnTo>
                <a:lnTo>
                  <a:pt x="186" y="48"/>
                </a:lnTo>
                <a:lnTo>
                  <a:pt x="186" y="41"/>
                </a:lnTo>
                <a:lnTo>
                  <a:pt x="193" y="35"/>
                </a:lnTo>
                <a:lnTo>
                  <a:pt x="193" y="35"/>
                </a:lnTo>
                <a:lnTo>
                  <a:pt x="200" y="28"/>
                </a:lnTo>
                <a:lnTo>
                  <a:pt x="200" y="21"/>
                </a:lnTo>
                <a:lnTo>
                  <a:pt x="207" y="14"/>
                </a:lnTo>
                <a:lnTo>
                  <a:pt x="221" y="14"/>
                </a:lnTo>
                <a:lnTo>
                  <a:pt x="228" y="14"/>
                </a:lnTo>
                <a:lnTo>
                  <a:pt x="242" y="14"/>
                </a:lnTo>
                <a:lnTo>
                  <a:pt x="249" y="7"/>
                </a:lnTo>
                <a:lnTo>
                  <a:pt x="255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6" name=""/>
          <p:cNvSpPr/>
          <p:nvPr/>
        </p:nvSpPr>
        <p:spPr>
          <a:xfrm>
            <a:off x="3062160" y="3635280"/>
            <a:ext cx="1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7" name=""/>
          <p:cNvSpPr/>
          <p:nvPr/>
        </p:nvSpPr>
        <p:spPr>
          <a:xfrm>
            <a:off x="3041640" y="3570120"/>
            <a:ext cx="76320" cy="54000"/>
          </a:xfrm>
          <a:custGeom>
            <a:avLst/>
            <a:gdLst/>
            <a:ahLst/>
            <a:rect l="l" t="t" r="r" b="b"/>
            <a:pathLst>
              <a:path w="48" h="34">
                <a:moveTo>
                  <a:pt x="20" y="0"/>
                </a:moveTo>
                <a:lnTo>
                  <a:pt x="20" y="0"/>
                </a:lnTo>
                <a:lnTo>
                  <a:pt x="13" y="0"/>
                </a:lnTo>
                <a:lnTo>
                  <a:pt x="13" y="0"/>
                </a:lnTo>
                <a:lnTo>
                  <a:pt x="13" y="0"/>
                </a:lnTo>
                <a:lnTo>
                  <a:pt x="13" y="7"/>
                </a:lnTo>
                <a:lnTo>
                  <a:pt x="13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14"/>
                </a:lnTo>
                <a:lnTo>
                  <a:pt x="7" y="14"/>
                </a:lnTo>
                <a:lnTo>
                  <a:pt x="7" y="14"/>
                </a:lnTo>
                <a:lnTo>
                  <a:pt x="7" y="14"/>
                </a:lnTo>
                <a:lnTo>
                  <a:pt x="7" y="14"/>
                </a:lnTo>
                <a:lnTo>
                  <a:pt x="13" y="14"/>
                </a:lnTo>
                <a:lnTo>
                  <a:pt x="13" y="20"/>
                </a:lnTo>
                <a:lnTo>
                  <a:pt x="13" y="20"/>
                </a:lnTo>
                <a:lnTo>
                  <a:pt x="13" y="20"/>
                </a:lnTo>
                <a:lnTo>
                  <a:pt x="20" y="20"/>
                </a:lnTo>
                <a:lnTo>
                  <a:pt x="20" y="20"/>
                </a:lnTo>
                <a:lnTo>
                  <a:pt x="20" y="20"/>
                </a:lnTo>
                <a:lnTo>
                  <a:pt x="20" y="20"/>
                </a:lnTo>
                <a:lnTo>
                  <a:pt x="20" y="20"/>
                </a:lnTo>
                <a:lnTo>
                  <a:pt x="20" y="20"/>
                </a:lnTo>
                <a:lnTo>
                  <a:pt x="20" y="14"/>
                </a:lnTo>
                <a:lnTo>
                  <a:pt x="20" y="14"/>
                </a:lnTo>
                <a:lnTo>
                  <a:pt x="20" y="14"/>
                </a:lnTo>
                <a:lnTo>
                  <a:pt x="20" y="14"/>
                </a:lnTo>
                <a:lnTo>
                  <a:pt x="20" y="7"/>
                </a:lnTo>
                <a:lnTo>
                  <a:pt x="20" y="7"/>
                </a:lnTo>
                <a:lnTo>
                  <a:pt x="20" y="7"/>
                </a:lnTo>
                <a:lnTo>
                  <a:pt x="27" y="7"/>
                </a:lnTo>
                <a:lnTo>
                  <a:pt x="27" y="0"/>
                </a:lnTo>
                <a:lnTo>
                  <a:pt x="34" y="0"/>
                </a:lnTo>
                <a:lnTo>
                  <a:pt x="34" y="0"/>
                </a:lnTo>
                <a:lnTo>
                  <a:pt x="34" y="7"/>
                </a:lnTo>
                <a:lnTo>
                  <a:pt x="41" y="7"/>
                </a:lnTo>
                <a:lnTo>
                  <a:pt x="41" y="7"/>
                </a:lnTo>
                <a:lnTo>
                  <a:pt x="41" y="7"/>
                </a:lnTo>
                <a:lnTo>
                  <a:pt x="41" y="7"/>
                </a:lnTo>
                <a:lnTo>
                  <a:pt x="48" y="7"/>
                </a:lnTo>
                <a:lnTo>
                  <a:pt x="48" y="14"/>
                </a:lnTo>
                <a:lnTo>
                  <a:pt x="48" y="14"/>
                </a:lnTo>
                <a:lnTo>
                  <a:pt x="48" y="14"/>
                </a:lnTo>
                <a:lnTo>
                  <a:pt x="48" y="14"/>
                </a:lnTo>
                <a:lnTo>
                  <a:pt x="48" y="20"/>
                </a:lnTo>
                <a:lnTo>
                  <a:pt x="48" y="20"/>
                </a:lnTo>
                <a:lnTo>
                  <a:pt x="48" y="20"/>
                </a:lnTo>
                <a:lnTo>
                  <a:pt x="48" y="27"/>
                </a:lnTo>
                <a:lnTo>
                  <a:pt x="41" y="27"/>
                </a:lnTo>
                <a:lnTo>
                  <a:pt x="41" y="27"/>
                </a:lnTo>
                <a:lnTo>
                  <a:pt x="41" y="27"/>
                </a:lnTo>
                <a:lnTo>
                  <a:pt x="34" y="34"/>
                </a:lnTo>
                <a:lnTo>
                  <a:pt x="34" y="34"/>
                </a:lnTo>
                <a:lnTo>
                  <a:pt x="27" y="27"/>
                </a:lnTo>
                <a:lnTo>
                  <a:pt x="20" y="27"/>
                </a:lnTo>
                <a:lnTo>
                  <a:pt x="13" y="27"/>
                </a:lnTo>
                <a:lnTo>
                  <a:pt x="13" y="27"/>
                </a:lnTo>
                <a:lnTo>
                  <a:pt x="7" y="20"/>
                </a:lnTo>
                <a:lnTo>
                  <a:pt x="7" y="20"/>
                </a:lnTo>
                <a:lnTo>
                  <a:pt x="7" y="14"/>
                </a:lnTo>
                <a:lnTo>
                  <a:pt x="0" y="14"/>
                </a:lnTo>
                <a:lnTo>
                  <a:pt x="0" y="7"/>
                </a:lnTo>
                <a:lnTo>
                  <a:pt x="7" y="7"/>
                </a:lnTo>
                <a:lnTo>
                  <a:pt x="7" y="7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13" y="0"/>
                </a:lnTo>
                <a:lnTo>
                  <a:pt x="13" y="0"/>
                </a:lnTo>
                <a:lnTo>
                  <a:pt x="13" y="0"/>
                </a:lnTo>
                <a:lnTo>
                  <a:pt x="20" y="0"/>
                </a:lnTo>
                <a:close/>
                <a:moveTo>
                  <a:pt x="27" y="27"/>
                </a:moveTo>
                <a:lnTo>
                  <a:pt x="27" y="27"/>
                </a:lnTo>
                <a:lnTo>
                  <a:pt x="34" y="27"/>
                </a:lnTo>
                <a:lnTo>
                  <a:pt x="34" y="27"/>
                </a:lnTo>
                <a:lnTo>
                  <a:pt x="34" y="27"/>
                </a:lnTo>
                <a:lnTo>
                  <a:pt x="34" y="27"/>
                </a:lnTo>
                <a:lnTo>
                  <a:pt x="34" y="27"/>
                </a:lnTo>
                <a:lnTo>
                  <a:pt x="41" y="27"/>
                </a:lnTo>
                <a:lnTo>
                  <a:pt x="41" y="27"/>
                </a:lnTo>
                <a:lnTo>
                  <a:pt x="41" y="20"/>
                </a:lnTo>
                <a:lnTo>
                  <a:pt x="41" y="20"/>
                </a:lnTo>
                <a:lnTo>
                  <a:pt x="41" y="20"/>
                </a:lnTo>
                <a:lnTo>
                  <a:pt x="41" y="20"/>
                </a:lnTo>
                <a:lnTo>
                  <a:pt x="41" y="20"/>
                </a:lnTo>
                <a:lnTo>
                  <a:pt x="41" y="14"/>
                </a:lnTo>
                <a:lnTo>
                  <a:pt x="41" y="14"/>
                </a:lnTo>
                <a:lnTo>
                  <a:pt x="41" y="14"/>
                </a:lnTo>
                <a:lnTo>
                  <a:pt x="41" y="14"/>
                </a:lnTo>
                <a:lnTo>
                  <a:pt x="41" y="14"/>
                </a:lnTo>
                <a:lnTo>
                  <a:pt x="34" y="7"/>
                </a:lnTo>
                <a:lnTo>
                  <a:pt x="34" y="7"/>
                </a:lnTo>
                <a:lnTo>
                  <a:pt x="34" y="7"/>
                </a:lnTo>
                <a:lnTo>
                  <a:pt x="34" y="7"/>
                </a:lnTo>
                <a:lnTo>
                  <a:pt x="27" y="7"/>
                </a:lnTo>
                <a:lnTo>
                  <a:pt x="27" y="7"/>
                </a:lnTo>
                <a:lnTo>
                  <a:pt x="27" y="7"/>
                </a:lnTo>
                <a:lnTo>
                  <a:pt x="27" y="14"/>
                </a:lnTo>
                <a:lnTo>
                  <a:pt x="27" y="14"/>
                </a:lnTo>
                <a:lnTo>
                  <a:pt x="20" y="14"/>
                </a:lnTo>
                <a:lnTo>
                  <a:pt x="20" y="14"/>
                </a:lnTo>
                <a:lnTo>
                  <a:pt x="20" y="20"/>
                </a:lnTo>
                <a:lnTo>
                  <a:pt x="20" y="20"/>
                </a:lnTo>
                <a:lnTo>
                  <a:pt x="20" y="20"/>
                </a:lnTo>
                <a:lnTo>
                  <a:pt x="27" y="20"/>
                </a:lnTo>
                <a:lnTo>
                  <a:pt x="27" y="20"/>
                </a:lnTo>
                <a:lnTo>
                  <a:pt x="27" y="27"/>
                </a:lnTo>
                <a:lnTo>
                  <a:pt x="27" y="27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8" name=""/>
          <p:cNvSpPr/>
          <p:nvPr/>
        </p:nvSpPr>
        <p:spPr>
          <a:xfrm>
            <a:off x="3062160" y="3514680"/>
            <a:ext cx="77760" cy="55440"/>
          </a:xfrm>
          <a:custGeom>
            <a:avLst/>
            <a:gdLst/>
            <a:ahLst/>
            <a:rect l="l" t="t" r="r" b="b"/>
            <a:pathLst>
              <a:path w="49" h="35">
                <a:moveTo>
                  <a:pt x="21" y="28"/>
                </a:moveTo>
                <a:lnTo>
                  <a:pt x="14" y="28"/>
                </a:lnTo>
                <a:lnTo>
                  <a:pt x="14" y="28"/>
                </a:lnTo>
                <a:lnTo>
                  <a:pt x="7" y="28"/>
                </a:lnTo>
                <a:lnTo>
                  <a:pt x="7" y="28"/>
                </a:lnTo>
                <a:lnTo>
                  <a:pt x="7" y="21"/>
                </a:lnTo>
                <a:lnTo>
                  <a:pt x="0" y="21"/>
                </a:lnTo>
                <a:lnTo>
                  <a:pt x="0" y="21"/>
                </a:lnTo>
                <a:lnTo>
                  <a:pt x="0" y="21"/>
                </a:lnTo>
                <a:lnTo>
                  <a:pt x="0" y="14"/>
                </a:lnTo>
                <a:lnTo>
                  <a:pt x="0" y="14"/>
                </a:lnTo>
                <a:lnTo>
                  <a:pt x="0" y="14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7" y="7"/>
                </a:lnTo>
                <a:lnTo>
                  <a:pt x="7" y="7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14" y="0"/>
                </a:lnTo>
                <a:lnTo>
                  <a:pt x="14" y="0"/>
                </a:lnTo>
                <a:lnTo>
                  <a:pt x="14" y="0"/>
                </a:lnTo>
                <a:lnTo>
                  <a:pt x="14" y="0"/>
                </a:lnTo>
                <a:lnTo>
                  <a:pt x="21" y="0"/>
                </a:lnTo>
                <a:lnTo>
                  <a:pt x="21" y="0"/>
                </a:lnTo>
                <a:lnTo>
                  <a:pt x="21" y="0"/>
                </a:lnTo>
                <a:lnTo>
                  <a:pt x="28" y="0"/>
                </a:lnTo>
                <a:lnTo>
                  <a:pt x="28" y="0"/>
                </a:lnTo>
                <a:lnTo>
                  <a:pt x="35" y="7"/>
                </a:lnTo>
                <a:lnTo>
                  <a:pt x="35" y="7"/>
                </a:lnTo>
                <a:lnTo>
                  <a:pt x="35" y="7"/>
                </a:lnTo>
                <a:lnTo>
                  <a:pt x="42" y="7"/>
                </a:lnTo>
                <a:lnTo>
                  <a:pt x="42" y="7"/>
                </a:lnTo>
                <a:lnTo>
                  <a:pt x="42" y="14"/>
                </a:lnTo>
                <a:lnTo>
                  <a:pt x="42" y="14"/>
                </a:lnTo>
                <a:lnTo>
                  <a:pt x="42" y="14"/>
                </a:lnTo>
                <a:lnTo>
                  <a:pt x="49" y="21"/>
                </a:lnTo>
                <a:lnTo>
                  <a:pt x="49" y="21"/>
                </a:lnTo>
                <a:lnTo>
                  <a:pt x="49" y="21"/>
                </a:lnTo>
                <a:lnTo>
                  <a:pt x="42" y="21"/>
                </a:lnTo>
                <a:lnTo>
                  <a:pt x="42" y="28"/>
                </a:lnTo>
                <a:lnTo>
                  <a:pt x="42" y="28"/>
                </a:lnTo>
                <a:lnTo>
                  <a:pt x="42" y="28"/>
                </a:lnTo>
                <a:lnTo>
                  <a:pt x="35" y="35"/>
                </a:lnTo>
                <a:lnTo>
                  <a:pt x="35" y="35"/>
                </a:lnTo>
                <a:lnTo>
                  <a:pt x="28" y="35"/>
                </a:lnTo>
                <a:lnTo>
                  <a:pt x="21" y="35"/>
                </a:lnTo>
                <a:lnTo>
                  <a:pt x="21" y="28"/>
                </a:lnTo>
                <a:close/>
                <a:moveTo>
                  <a:pt x="21" y="28"/>
                </a:moveTo>
                <a:lnTo>
                  <a:pt x="28" y="28"/>
                </a:lnTo>
                <a:lnTo>
                  <a:pt x="28" y="28"/>
                </a:lnTo>
                <a:lnTo>
                  <a:pt x="35" y="28"/>
                </a:lnTo>
                <a:lnTo>
                  <a:pt x="35" y="28"/>
                </a:lnTo>
                <a:lnTo>
                  <a:pt x="35" y="28"/>
                </a:lnTo>
                <a:lnTo>
                  <a:pt x="42" y="28"/>
                </a:lnTo>
                <a:lnTo>
                  <a:pt x="42" y="28"/>
                </a:lnTo>
                <a:lnTo>
                  <a:pt x="42" y="21"/>
                </a:lnTo>
                <a:lnTo>
                  <a:pt x="42" y="21"/>
                </a:lnTo>
                <a:lnTo>
                  <a:pt x="42" y="21"/>
                </a:lnTo>
                <a:lnTo>
                  <a:pt x="42" y="14"/>
                </a:lnTo>
                <a:lnTo>
                  <a:pt x="42" y="14"/>
                </a:lnTo>
                <a:lnTo>
                  <a:pt x="35" y="14"/>
                </a:lnTo>
                <a:lnTo>
                  <a:pt x="35" y="14"/>
                </a:lnTo>
                <a:lnTo>
                  <a:pt x="28" y="7"/>
                </a:lnTo>
                <a:lnTo>
                  <a:pt x="28" y="7"/>
                </a:lnTo>
                <a:lnTo>
                  <a:pt x="21" y="7"/>
                </a:lnTo>
                <a:lnTo>
                  <a:pt x="14" y="7"/>
                </a:lnTo>
                <a:lnTo>
                  <a:pt x="14" y="7"/>
                </a:lnTo>
                <a:lnTo>
                  <a:pt x="14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14"/>
                </a:lnTo>
                <a:lnTo>
                  <a:pt x="7" y="14"/>
                </a:lnTo>
                <a:lnTo>
                  <a:pt x="7" y="14"/>
                </a:lnTo>
                <a:lnTo>
                  <a:pt x="7" y="14"/>
                </a:lnTo>
                <a:lnTo>
                  <a:pt x="7" y="21"/>
                </a:lnTo>
                <a:lnTo>
                  <a:pt x="7" y="21"/>
                </a:lnTo>
                <a:lnTo>
                  <a:pt x="14" y="21"/>
                </a:lnTo>
                <a:lnTo>
                  <a:pt x="14" y="21"/>
                </a:lnTo>
                <a:lnTo>
                  <a:pt x="21" y="28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9" name=""/>
          <p:cNvSpPr/>
          <p:nvPr/>
        </p:nvSpPr>
        <p:spPr>
          <a:xfrm>
            <a:off x="3117960" y="3494160"/>
            <a:ext cx="1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0" name=""/>
          <p:cNvSpPr/>
          <p:nvPr/>
        </p:nvSpPr>
        <p:spPr>
          <a:xfrm>
            <a:off x="3117960" y="2727360"/>
            <a:ext cx="623880" cy="766800"/>
          </a:xfrm>
          <a:custGeom>
            <a:avLst/>
            <a:gdLst/>
            <a:ahLst/>
            <a:rect l="l" t="t" r="r" b="b"/>
            <a:pathLst>
              <a:path w="393" h="483">
                <a:moveTo>
                  <a:pt x="0" y="483"/>
                </a:moveTo>
                <a:lnTo>
                  <a:pt x="0" y="476"/>
                </a:lnTo>
                <a:lnTo>
                  <a:pt x="7" y="469"/>
                </a:lnTo>
                <a:lnTo>
                  <a:pt x="7" y="462"/>
                </a:lnTo>
                <a:lnTo>
                  <a:pt x="7" y="455"/>
                </a:lnTo>
                <a:lnTo>
                  <a:pt x="14" y="448"/>
                </a:lnTo>
                <a:lnTo>
                  <a:pt x="14" y="441"/>
                </a:lnTo>
                <a:lnTo>
                  <a:pt x="21" y="434"/>
                </a:lnTo>
                <a:lnTo>
                  <a:pt x="21" y="434"/>
                </a:lnTo>
                <a:lnTo>
                  <a:pt x="27" y="427"/>
                </a:lnTo>
                <a:lnTo>
                  <a:pt x="27" y="421"/>
                </a:lnTo>
                <a:lnTo>
                  <a:pt x="27" y="414"/>
                </a:lnTo>
                <a:lnTo>
                  <a:pt x="34" y="407"/>
                </a:lnTo>
                <a:lnTo>
                  <a:pt x="34" y="400"/>
                </a:lnTo>
                <a:lnTo>
                  <a:pt x="34" y="393"/>
                </a:lnTo>
                <a:lnTo>
                  <a:pt x="41" y="386"/>
                </a:lnTo>
                <a:lnTo>
                  <a:pt x="41" y="379"/>
                </a:lnTo>
                <a:lnTo>
                  <a:pt x="41" y="372"/>
                </a:lnTo>
                <a:lnTo>
                  <a:pt x="48" y="365"/>
                </a:lnTo>
                <a:lnTo>
                  <a:pt x="48" y="359"/>
                </a:lnTo>
                <a:lnTo>
                  <a:pt x="55" y="359"/>
                </a:lnTo>
                <a:lnTo>
                  <a:pt x="55" y="352"/>
                </a:lnTo>
                <a:lnTo>
                  <a:pt x="62" y="345"/>
                </a:lnTo>
                <a:lnTo>
                  <a:pt x="62" y="338"/>
                </a:lnTo>
                <a:lnTo>
                  <a:pt x="62" y="331"/>
                </a:lnTo>
                <a:lnTo>
                  <a:pt x="69" y="324"/>
                </a:lnTo>
                <a:lnTo>
                  <a:pt x="69" y="317"/>
                </a:lnTo>
                <a:lnTo>
                  <a:pt x="69" y="310"/>
                </a:lnTo>
                <a:lnTo>
                  <a:pt x="76" y="303"/>
                </a:lnTo>
                <a:lnTo>
                  <a:pt x="76" y="297"/>
                </a:lnTo>
                <a:lnTo>
                  <a:pt x="76" y="290"/>
                </a:lnTo>
                <a:lnTo>
                  <a:pt x="83" y="290"/>
                </a:lnTo>
                <a:lnTo>
                  <a:pt x="83" y="283"/>
                </a:lnTo>
                <a:lnTo>
                  <a:pt x="90" y="276"/>
                </a:lnTo>
                <a:lnTo>
                  <a:pt x="90" y="269"/>
                </a:lnTo>
                <a:lnTo>
                  <a:pt x="96" y="262"/>
                </a:lnTo>
                <a:lnTo>
                  <a:pt x="103" y="255"/>
                </a:lnTo>
                <a:lnTo>
                  <a:pt x="103" y="255"/>
                </a:lnTo>
                <a:lnTo>
                  <a:pt x="110" y="248"/>
                </a:lnTo>
                <a:lnTo>
                  <a:pt x="110" y="241"/>
                </a:lnTo>
                <a:lnTo>
                  <a:pt x="110" y="235"/>
                </a:lnTo>
                <a:lnTo>
                  <a:pt x="110" y="228"/>
                </a:lnTo>
                <a:lnTo>
                  <a:pt x="117" y="221"/>
                </a:lnTo>
                <a:lnTo>
                  <a:pt x="124" y="214"/>
                </a:lnTo>
                <a:lnTo>
                  <a:pt x="131" y="207"/>
                </a:lnTo>
                <a:lnTo>
                  <a:pt x="138" y="207"/>
                </a:lnTo>
                <a:lnTo>
                  <a:pt x="145" y="200"/>
                </a:lnTo>
                <a:lnTo>
                  <a:pt x="152" y="193"/>
                </a:lnTo>
                <a:lnTo>
                  <a:pt x="158" y="193"/>
                </a:lnTo>
                <a:lnTo>
                  <a:pt x="165" y="186"/>
                </a:lnTo>
                <a:lnTo>
                  <a:pt x="172" y="179"/>
                </a:lnTo>
                <a:lnTo>
                  <a:pt x="179" y="179"/>
                </a:lnTo>
                <a:lnTo>
                  <a:pt x="186" y="173"/>
                </a:lnTo>
                <a:lnTo>
                  <a:pt x="193" y="166"/>
                </a:lnTo>
                <a:lnTo>
                  <a:pt x="207" y="166"/>
                </a:lnTo>
                <a:lnTo>
                  <a:pt x="207" y="173"/>
                </a:lnTo>
                <a:lnTo>
                  <a:pt x="214" y="179"/>
                </a:lnTo>
                <a:lnTo>
                  <a:pt x="221" y="186"/>
                </a:lnTo>
                <a:lnTo>
                  <a:pt x="227" y="186"/>
                </a:lnTo>
                <a:lnTo>
                  <a:pt x="234" y="193"/>
                </a:lnTo>
                <a:lnTo>
                  <a:pt x="241" y="200"/>
                </a:lnTo>
                <a:lnTo>
                  <a:pt x="248" y="207"/>
                </a:lnTo>
                <a:lnTo>
                  <a:pt x="248" y="207"/>
                </a:lnTo>
                <a:lnTo>
                  <a:pt x="255" y="214"/>
                </a:lnTo>
                <a:lnTo>
                  <a:pt x="262" y="221"/>
                </a:lnTo>
                <a:lnTo>
                  <a:pt x="269" y="228"/>
                </a:lnTo>
                <a:lnTo>
                  <a:pt x="276" y="228"/>
                </a:lnTo>
                <a:lnTo>
                  <a:pt x="276" y="235"/>
                </a:lnTo>
                <a:lnTo>
                  <a:pt x="283" y="241"/>
                </a:lnTo>
                <a:lnTo>
                  <a:pt x="289" y="248"/>
                </a:lnTo>
                <a:lnTo>
                  <a:pt x="289" y="255"/>
                </a:lnTo>
                <a:lnTo>
                  <a:pt x="296" y="262"/>
                </a:lnTo>
                <a:lnTo>
                  <a:pt x="303" y="255"/>
                </a:lnTo>
                <a:lnTo>
                  <a:pt x="310" y="255"/>
                </a:lnTo>
                <a:lnTo>
                  <a:pt x="317" y="248"/>
                </a:lnTo>
                <a:lnTo>
                  <a:pt x="324" y="241"/>
                </a:lnTo>
                <a:lnTo>
                  <a:pt x="331" y="241"/>
                </a:lnTo>
                <a:lnTo>
                  <a:pt x="338" y="235"/>
                </a:lnTo>
                <a:lnTo>
                  <a:pt x="345" y="228"/>
                </a:lnTo>
                <a:lnTo>
                  <a:pt x="352" y="221"/>
                </a:lnTo>
                <a:lnTo>
                  <a:pt x="358" y="221"/>
                </a:lnTo>
                <a:lnTo>
                  <a:pt x="372" y="214"/>
                </a:lnTo>
                <a:lnTo>
                  <a:pt x="379" y="214"/>
                </a:lnTo>
                <a:lnTo>
                  <a:pt x="386" y="207"/>
                </a:lnTo>
                <a:lnTo>
                  <a:pt x="393" y="207"/>
                </a:lnTo>
                <a:lnTo>
                  <a:pt x="393" y="200"/>
                </a:lnTo>
                <a:lnTo>
                  <a:pt x="393" y="193"/>
                </a:lnTo>
                <a:lnTo>
                  <a:pt x="393" y="186"/>
                </a:lnTo>
                <a:lnTo>
                  <a:pt x="386" y="179"/>
                </a:lnTo>
                <a:lnTo>
                  <a:pt x="372" y="173"/>
                </a:lnTo>
                <a:lnTo>
                  <a:pt x="365" y="173"/>
                </a:lnTo>
                <a:lnTo>
                  <a:pt x="358" y="173"/>
                </a:lnTo>
                <a:lnTo>
                  <a:pt x="352" y="166"/>
                </a:lnTo>
                <a:lnTo>
                  <a:pt x="345" y="159"/>
                </a:lnTo>
                <a:lnTo>
                  <a:pt x="345" y="152"/>
                </a:lnTo>
                <a:lnTo>
                  <a:pt x="345" y="145"/>
                </a:lnTo>
                <a:lnTo>
                  <a:pt x="338" y="138"/>
                </a:lnTo>
                <a:lnTo>
                  <a:pt x="331" y="131"/>
                </a:lnTo>
                <a:lnTo>
                  <a:pt x="331" y="124"/>
                </a:lnTo>
                <a:lnTo>
                  <a:pt x="324" y="124"/>
                </a:lnTo>
                <a:lnTo>
                  <a:pt x="331" y="117"/>
                </a:lnTo>
                <a:lnTo>
                  <a:pt x="331" y="111"/>
                </a:lnTo>
                <a:lnTo>
                  <a:pt x="345" y="111"/>
                </a:lnTo>
                <a:lnTo>
                  <a:pt x="352" y="104"/>
                </a:lnTo>
                <a:lnTo>
                  <a:pt x="358" y="97"/>
                </a:lnTo>
                <a:lnTo>
                  <a:pt x="365" y="97"/>
                </a:lnTo>
                <a:lnTo>
                  <a:pt x="372" y="90"/>
                </a:lnTo>
                <a:lnTo>
                  <a:pt x="372" y="83"/>
                </a:lnTo>
                <a:lnTo>
                  <a:pt x="372" y="76"/>
                </a:lnTo>
                <a:lnTo>
                  <a:pt x="372" y="69"/>
                </a:lnTo>
                <a:lnTo>
                  <a:pt x="365" y="62"/>
                </a:lnTo>
                <a:lnTo>
                  <a:pt x="358" y="55"/>
                </a:lnTo>
                <a:lnTo>
                  <a:pt x="352" y="55"/>
                </a:lnTo>
                <a:lnTo>
                  <a:pt x="352" y="49"/>
                </a:lnTo>
                <a:lnTo>
                  <a:pt x="345" y="42"/>
                </a:lnTo>
                <a:lnTo>
                  <a:pt x="338" y="35"/>
                </a:lnTo>
                <a:lnTo>
                  <a:pt x="331" y="35"/>
                </a:lnTo>
                <a:lnTo>
                  <a:pt x="324" y="28"/>
                </a:lnTo>
                <a:lnTo>
                  <a:pt x="317" y="21"/>
                </a:lnTo>
                <a:lnTo>
                  <a:pt x="317" y="14"/>
                </a:lnTo>
                <a:lnTo>
                  <a:pt x="310" y="7"/>
                </a:lnTo>
                <a:lnTo>
                  <a:pt x="303" y="7"/>
                </a:lnTo>
                <a:lnTo>
                  <a:pt x="296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1" name=""/>
          <p:cNvSpPr/>
          <p:nvPr/>
        </p:nvSpPr>
        <p:spPr>
          <a:xfrm>
            <a:off x="2997360" y="2935440"/>
            <a:ext cx="1440" cy="10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2" name=""/>
          <p:cNvSpPr/>
          <p:nvPr/>
        </p:nvSpPr>
        <p:spPr>
          <a:xfrm>
            <a:off x="2887560" y="2946240"/>
            <a:ext cx="109800" cy="196920"/>
          </a:xfrm>
          <a:custGeom>
            <a:avLst/>
            <a:gdLst/>
            <a:ahLst/>
            <a:rect l="l" t="t" r="r" b="b"/>
            <a:pathLst>
              <a:path w="69" h="124">
                <a:moveTo>
                  <a:pt x="69" y="0"/>
                </a:moveTo>
                <a:lnTo>
                  <a:pt x="62" y="7"/>
                </a:lnTo>
                <a:lnTo>
                  <a:pt x="55" y="14"/>
                </a:lnTo>
                <a:lnTo>
                  <a:pt x="55" y="21"/>
                </a:lnTo>
                <a:lnTo>
                  <a:pt x="55" y="28"/>
                </a:lnTo>
                <a:lnTo>
                  <a:pt x="48" y="35"/>
                </a:lnTo>
                <a:lnTo>
                  <a:pt x="41" y="41"/>
                </a:lnTo>
                <a:lnTo>
                  <a:pt x="41" y="48"/>
                </a:lnTo>
                <a:lnTo>
                  <a:pt x="35" y="55"/>
                </a:lnTo>
                <a:lnTo>
                  <a:pt x="28" y="62"/>
                </a:lnTo>
                <a:lnTo>
                  <a:pt x="28" y="69"/>
                </a:lnTo>
                <a:lnTo>
                  <a:pt x="21" y="69"/>
                </a:lnTo>
                <a:lnTo>
                  <a:pt x="14" y="76"/>
                </a:lnTo>
                <a:lnTo>
                  <a:pt x="7" y="83"/>
                </a:lnTo>
                <a:lnTo>
                  <a:pt x="0" y="90"/>
                </a:lnTo>
                <a:lnTo>
                  <a:pt x="0" y="97"/>
                </a:lnTo>
                <a:lnTo>
                  <a:pt x="0" y="103"/>
                </a:lnTo>
                <a:lnTo>
                  <a:pt x="7" y="110"/>
                </a:lnTo>
                <a:lnTo>
                  <a:pt x="14" y="117"/>
                </a:lnTo>
                <a:lnTo>
                  <a:pt x="21" y="124"/>
                </a:lnTo>
                <a:lnTo>
                  <a:pt x="28" y="124"/>
                </a:lnTo>
                <a:lnTo>
                  <a:pt x="35" y="124"/>
                </a:lnTo>
                <a:lnTo>
                  <a:pt x="41" y="117"/>
                </a:lnTo>
                <a:lnTo>
                  <a:pt x="48" y="110"/>
                </a:lnTo>
                <a:lnTo>
                  <a:pt x="48" y="97"/>
                </a:lnTo>
                <a:lnTo>
                  <a:pt x="55" y="90"/>
                </a:lnTo>
                <a:lnTo>
                  <a:pt x="62" y="90"/>
                </a:lnTo>
                <a:lnTo>
                  <a:pt x="62" y="103"/>
                </a:lnTo>
                <a:lnTo>
                  <a:pt x="55" y="110"/>
                </a:lnTo>
                <a:lnTo>
                  <a:pt x="48" y="110"/>
                </a:lnTo>
                <a:lnTo>
                  <a:pt x="41" y="117"/>
                </a:lnTo>
                <a:lnTo>
                  <a:pt x="35" y="124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3" name=""/>
          <p:cNvSpPr/>
          <p:nvPr/>
        </p:nvSpPr>
        <p:spPr>
          <a:xfrm>
            <a:off x="2943360" y="3143160"/>
            <a:ext cx="1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4" name=""/>
          <p:cNvSpPr/>
          <p:nvPr/>
        </p:nvSpPr>
        <p:spPr>
          <a:xfrm>
            <a:off x="2865600" y="3208320"/>
            <a:ext cx="77760" cy="55440"/>
          </a:xfrm>
          <a:custGeom>
            <a:avLst/>
            <a:gdLst/>
            <a:ahLst/>
            <a:rect l="l" t="t" r="r" b="b"/>
            <a:pathLst>
              <a:path w="49" h="35">
                <a:moveTo>
                  <a:pt x="21" y="0"/>
                </a:moveTo>
                <a:lnTo>
                  <a:pt x="21" y="7"/>
                </a:lnTo>
                <a:lnTo>
                  <a:pt x="14" y="7"/>
                </a:lnTo>
                <a:lnTo>
                  <a:pt x="14" y="7"/>
                </a:lnTo>
                <a:lnTo>
                  <a:pt x="14" y="7"/>
                </a:lnTo>
                <a:lnTo>
                  <a:pt x="14" y="7"/>
                </a:lnTo>
                <a:lnTo>
                  <a:pt x="14" y="7"/>
                </a:lnTo>
                <a:lnTo>
                  <a:pt x="7" y="7"/>
                </a:lnTo>
                <a:lnTo>
                  <a:pt x="7" y="14"/>
                </a:lnTo>
                <a:lnTo>
                  <a:pt x="7" y="14"/>
                </a:lnTo>
                <a:lnTo>
                  <a:pt x="7" y="14"/>
                </a:lnTo>
                <a:lnTo>
                  <a:pt x="7" y="14"/>
                </a:lnTo>
                <a:lnTo>
                  <a:pt x="7" y="14"/>
                </a:lnTo>
                <a:lnTo>
                  <a:pt x="7" y="14"/>
                </a:lnTo>
                <a:lnTo>
                  <a:pt x="7" y="21"/>
                </a:lnTo>
                <a:lnTo>
                  <a:pt x="7" y="21"/>
                </a:lnTo>
                <a:lnTo>
                  <a:pt x="7" y="21"/>
                </a:lnTo>
                <a:lnTo>
                  <a:pt x="14" y="21"/>
                </a:lnTo>
                <a:lnTo>
                  <a:pt x="14" y="21"/>
                </a:lnTo>
                <a:lnTo>
                  <a:pt x="14" y="28"/>
                </a:lnTo>
                <a:lnTo>
                  <a:pt x="21" y="28"/>
                </a:lnTo>
                <a:lnTo>
                  <a:pt x="21" y="28"/>
                </a:lnTo>
                <a:lnTo>
                  <a:pt x="21" y="28"/>
                </a:lnTo>
                <a:lnTo>
                  <a:pt x="21" y="28"/>
                </a:lnTo>
                <a:lnTo>
                  <a:pt x="21" y="21"/>
                </a:lnTo>
                <a:lnTo>
                  <a:pt x="21" y="21"/>
                </a:lnTo>
                <a:lnTo>
                  <a:pt x="21" y="21"/>
                </a:lnTo>
                <a:lnTo>
                  <a:pt x="21" y="21"/>
                </a:lnTo>
                <a:lnTo>
                  <a:pt x="21" y="14"/>
                </a:lnTo>
                <a:lnTo>
                  <a:pt x="21" y="14"/>
                </a:lnTo>
                <a:lnTo>
                  <a:pt x="21" y="14"/>
                </a:lnTo>
                <a:lnTo>
                  <a:pt x="21" y="14"/>
                </a:lnTo>
                <a:lnTo>
                  <a:pt x="21" y="7"/>
                </a:lnTo>
                <a:lnTo>
                  <a:pt x="28" y="7"/>
                </a:lnTo>
                <a:lnTo>
                  <a:pt x="28" y="7"/>
                </a:lnTo>
                <a:lnTo>
                  <a:pt x="35" y="7"/>
                </a:lnTo>
                <a:lnTo>
                  <a:pt x="35" y="7"/>
                </a:lnTo>
                <a:lnTo>
                  <a:pt x="35" y="7"/>
                </a:lnTo>
                <a:lnTo>
                  <a:pt x="42" y="7"/>
                </a:lnTo>
                <a:lnTo>
                  <a:pt x="42" y="14"/>
                </a:lnTo>
                <a:lnTo>
                  <a:pt x="42" y="14"/>
                </a:lnTo>
                <a:lnTo>
                  <a:pt x="42" y="14"/>
                </a:lnTo>
                <a:lnTo>
                  <a:pt x="49" y="14"/>
                </a:lnTo>
                <a:lnTo>
                  <a:pt x="49" y="14"/>
                </a:lnTo>
                <a:lnTo>
                  <a:pt x="49" y="21"/>
                </a:lnTo>
                <a:lnTo>
                  <a:pt x="49" y="21"/>
                </a:lnTo>
                <a:lnTo>
                  <a:pt x="49" y="21"/>
                </a:lnTo>
                <a:lnTo>
                  <a:pt x="49" y="21"/>
                </a:lnTo>
                <a:lnTo>
                  <a:pt x="49" y="28"/>
                </a:lnTo>
                <a:lnTo>
                  <a:pt x="49" y="28"/>
                </a:lnTo>
                <a:lnTo>
                  <a:pt x="42" y="28"/>
                </a:lnTo>
                <a:lnTo>
                  <a:pt x="42" y="35"/>
                </a:lnTo>
                <a:lnTo>
                  <a:pt x="42" y="35"/>
                </a:lnTo>
                <a:lnTo>
                  <a:pt x="35" y="35"/>
                </a:lnTo>
                <a:lnTo>
                  <a:pt x="35" y="35"/>
                </a:lnTo>
                <a:lnTo>
                  <a:pt x="28" y="35"/>
                </a:lnTo>
                <a:lnTo>
                  <a:pt x="28" y="35"/>
                </a:lnTo>
                <a:lnTo>
                  <a:pt x="21" y="35"/>
                </a:lnTo>
                <a:lnTo>
                  <a:pt x="14" y="35"/>
                </a:lnTo>
                <a:lnTo>
                  <a:pt x="14" y="28"/>
                </a:lnTo>
                <a:lnTo>
                  <a:pt x="7" y="28"/>
                </a:lnTo>
                <a:lnTo>
                  <a:pt x="7" y="21"/>
                </a:lnTo>
                <a:lnTo>
                  <a:pt x="7" y="21"/>
                </a:lnTo>
                <a:lnTo>
                  <a:pt x="0" y="14"/>
                </a:lnTo>
                <a:lnTo>
                  <a:pt x="0" y="14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0"/>
                </a:lnTo>
                <a:lnTo>
                  <a:pt x="14" y="0"/>
                </a:lnTo>
                <a:lnTo>
                  <a:pt x="14" y="0"/>
                </a:lnTo>
                <a:lnTo>
                  <a:pt x="14" y="0"/>
                </a:lnTo>
                <a:lnTo>
                  <a:pt x="21" y="0"/>
                </a:lnTo>
                <a:close/>
                <a:moveTo>
                  <a:pt x="28" y="28"/>
                </a:moveTo>
                <a:lnTo>
                  <a:pt x="28" y="28"/>
                </a:lnTo>
                <a:lnTo>
                  <a:pt x="35" y="28"/>
                </a:lnTo>
                <a:lnTo>
                  <a:pt x="35" y="35"/>
                </a:lnTo>
                <a:lnTo>
                  <a:pt x="35" y="35"/>
                </a:lnTo>
                <a:lnTo>
                  <a:pt x="35" y="28"/>
                </a:lnTo>
                <a:lnTo>
                  <a:pt x="35" y="28"/>
                </a:lnTo>
                <a:lnTo>
                  <a:pt x="42" y="28"/>
                </a:lnTo>
                <a:lnTo>
                  <a:pt x="42" y="28"/>
                </a:lnTo>
                <a:lnTo>
                  <a:pt x="42" y="28"/>
                </a:lnTo>
                <a:lnTo>
                  <a:pt x="42" y="28"/>
                </a:lnTo>
                <a:lnTo>
                  <a:pt x="42" y="28"/>
                </a:lnTo>
                <a:lnTo>
                  <a:pt x="42" y="28"/>
                </a:lnTo>
                <a:lnTo>
                  <a:pt x="42" y="28"/>
                </a:lnTo>
                <a:lnTo>
                  <a:pt x="42" y="21"/>
                </a:lnTo>
                <a:lnTo>
                  <a:pt x="42" y="21"/>
                </a:lnTo>
                <a:lnTo>
                  <a:pt x="42" y="21"/>
                </a:lnTo>
                <a:lnTo>
                  <a:pt x="42" y="21"/>
                </a:lnTo>
                <a:lnTo>
                  <a:pt x="42" y="14"/>
                </a:lnTo>
                <a:lnTo>
                  <a:pt x="35" y="14"/>
                </a:lnTo>
                <a:lnTo>
                  <a:pt x="35" y="14"/>
                </a:lnTo>
                <a:lnTo>
                  <a:pt x="35" y="14"/>
                </a:lnTo>
                <a:lnTo>
                  <a:pt x="35" y="14"/>
                </a:lnTo>
                <a:lnTo>
                  <a:pt x="28" y="14"/>
                </a:lnTo>
                <a:lnTo>
                  <a:pt x="28" y="14"/>
                </a:lnTo>
                <a:lnTo>
                  <a:pt x="28" y="14"/>
                </a:lnTo>
                <a:lnTo>
                  <a:pt x="28" y="14"/>
                </a:lnTo>
                <a:lnTo>
                  <a:pt x="21" y="14"/>
                </a:lnTo>
                <a:lnTo>
                  <a:pt x="21" y="21"/>
                </a:lnTo>
                <a:lnTo>
                  <a:pt x="21" y="21"/>
                </a:lnTo>
                <a:lnTo>
                  <a:pt x="21" y="21"/>
                </a:lnTo>
                <a:lnTo>
                  <a:pt x="21" y="21"/>
                </a:lnTo>
                <a:lnTo>
                  <a:pt x="21" y="28"/>
                </a:lnTo>
                <a:lnTo>
                  <a:pt x="28" y="28"/>
                </a:lnTo>
                <a:lnTo>
                  <a:pt x="28" y="28"/>
                </a:lnTo>
                <a:lnTo>
                  <a:pt x="28" y="28"/>
                </a:lnTo>
                <a:lnTo>
                  <a:pt x="28" y="28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5" name=""/>
          <p:cNvSpPr/>
          <p:nvPr/>
        </p:nvSpPr>
        <p:spPr>
          <a:xfrm>
            <a:off x="2887560" y="3165480"/>
            <a:ext cx="76320" cy="54000"/>
          </a:xfrm>
          <a:custGeom>
            <a:avLst/>
            <a:gdLst/>
            <a:ahLst/>
            <a:rect l="l" t="t" r="r" b="b"/>
            <a:pathLst>
              <a:path w="48" h="34">
                <a:moveTo>
                  <a:pt x="21" y="27"/>
                </a:moveTo>
                <a:lnTo>
                  <a:pt x="14" y="27"/>
                </a:lnTo>
                <a:lnTo>
                  <a:pt x="14" y="27"/>
                </a:lnTo>
                <a:lnTo>
                  <a:pt x="7" y="21"/>
                </a:lnTo>
                <a:lnTo>
                  <a:pt x="7" y="21"/>
                </a:lnTo>
                <a:lnTo>
                  <a:pt x="7" y="21"/>
                </a:lnTo>
                <a:lnTo>
                  <a:pt x="7" y="21"/>
                </a:lnTo>
                <a:lnTo>
                  <a:pt x="0" y="14"/>
                </a:lnTo>
                <a:lnTo>
                  <a:pt x="0" y="14"/>
                </a:lnTo>
                <a:lnTo>
                  <a:pt x="0" y="14"/>
                </a:lnTo>
                <a:lnTo>
                  <a:pt x="0" y="14"/>
                </a:lnTo>
                <a:lnTo>
                  <a:pt x="0" y="7"/>
                </a:lnTo>
                <a:lnTo>
                  <a:pt x="0" y="7"/>
                </a:lnTo>
                <a:lnTo>
                  <a:pt x="7" y="7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14" y="0"/>
                </a:lnTo>
                <a:lnTo>
                  <a:pt x="14" y="0"/>
                </a:lnTo>
                <a:lnTo>
                  <a:pt x="14" y="0"/>
                </a:lnTo>
                <a:lnTo>
                  <a:pt x="14" y="0"/>
                </a:lnTo>
                <a:lnTo>
                  <a:pt x="21" y="0"/>
                </a:lnTo>
                <a:lnTo>
                  <a:pt x="21" y="0"/>
                </a:lnTo>
                <a:lnTo>
                  <a:pt x="21" y="0"/>
                </a:lnTo>
                <a:lnTo>
                  <a:pt x="21" y="0"/>
                </a:lnTo>
                <a:lnTo>
                  <a:pt x="28" y="0"/>
                </a:lnTo>
                <a:lnTo>
                  <a:pt x="28" y="0"/>
                </a:lnTo>
                <a:lnTo>
                  <a:pt x="35" y="0"/>
                </a:lnTo>
                <a:lnTo>
                  <a:pt x="35" y="7"/>
                </a:lnTo>
                <a:lnTo>
                  <a:pt x="41" y="7"/>
                </a:lnTo>
                <a:lnTo>
                  <a:pt x="41" y="7"/>
                </a:lnTo>
                <a:lnTo>
                  <a:pt x="41" y="7"/>
                </a:lnTo>
                <a:lnTo>
                  <a:pt x="41" y="14"/>
                </a:lnTo>
                <a:lnTo>
                  <a:pt x="48" y="14"/>
                </a:lnTo>
                <a:lnTo>
                  <a:pt x="48" y="14"/>
                </a:lnTo>
                <a:lnTo>
                  <a:pt x="48" y="14"/>
                </a:lnTo>
                <a:lnTo>
                  <a:pt x="48" y="21"/>
                </a:lnTo>
                <a:lnTo>
                  <a:pt x="48" y="21"/>
                </a:lnTo>
                <a:lnTo>
                  <a:pt x="48" y="21"/>
                </a:lnTo>
                <a:lnTo>
                  <a:pt x="41" y="27"/>
                </a:lnTo>
                <a:lnTo>
                  <a:pt x="41" y="27"/>
                </a:lnTo>
                <a:lnTo>
                  <a:pt x="41" y="27"/>
                </a:lnTo>
                <a:lnTo>
                  <a:pt x="35" y="34"/>
                </a:lnTo>
                <a:lnTo>
                  <a:pt x="35" y="34"/>
                </a:lnTo>
                <a:lnTo>
                  <a:pt x="28" y="34"/>
                </a:lnTo>
                <a:lnTo>
                  <a:pt x="28" y="27"/>
                </a:lnTo>
                <a:lnTo>
                  <a:pt x="21" y="27"/>
                </a:lnTo>
                <a:close/>
                <a:moveTo>
                  <a:pt x="21" y="21"/>
                </a:moveTo>
                <a:lnTo>
                  <a:pt x="28" y="27"/>
                </a:lnTo>
                <a:lnTo>
                  <a:pt x="28" y="27"/>
                </a:lnTo>
                <a:lnTo>
                  <a:pt x="35" y="27"/>
                </a:lnTo>
                <a:lnTo>
                  <a:pt x="35" y="27"/>
                </a:lnTo>
                <a:lnTo>
                  <a:pt x="35" y="27"/>
                </a:lnTo>
                <a:lnTo>
                  <a:pt x="41" y="27"/>
                </a:lnTo>
                <a:lnTo>
                  <a:pt x="41" y="21"/>
                </a:lnTo>
                <a:lnTo>
                  <a:pt x="41" y="21"/>
                </a:lnTo>
                <a:lnTo>
                  <a:pt x="41" y="21"/>
                </a:lnTo>
                <a:lnTo>
                  <a:pt x="41" y="21"/>
                </a:lnTo>
                <a:lnTo>
                  <a:pt x="41" y="14"/>
                </a:lnTo>
                <a:lnTo>
                  <a:pt x="41" y="14"/>
                </a:lnTo>
                <a:lnTo>
                  <a:pt x="41" y="14"/>
                </a:lnTo>
                <a:lnTo>
                  <a:pt x="35" y="14"/>
                </a:lnTo>
                <a:lnTo>
                  <a:pt x="35" y="7"/>
                </a:lnTo>
                <a:lnTo>
                  <a:pt x="28" y="7"/>
                </a:lnTo>
                <a:lnTo>
                  <a:pt x="21" y="7"/>
                </a:lnTo>
                <a:lnTo>
                  <a:pt x="21" y="7"/>
                </a:lnTo>
                <a:lnTo>
                  <a:pt x="14" y="0"/>
                </a:lnTo>
                <a:lnTo>
                  <a:pt x="14" y="0"/>
                </a:lnTo>
                <a:lnTo>
                  <a:pt x="14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14"/>
                </a:lnTo>
                <a:lnTo>
                  <a:pt x="7" y="14"/>
                </a:lnTo>
                <a:lnTo>
                  <a:pt x="7" y="14"/>
                </a:lnTo>
                <a:lnTo>
                  <a:pt x="7" y="14"/>
                </a:lnTo>
                <a:lnTo>
                  <a:pt x="14" y="21"/>
                </a:lnTo>
                <a:lnTo>
                  <a:pt x="14" y="21"/>
                </a:lnTo>
                <a:lnTo>
                  <a:pt x="21" y="2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6" name=""/>
          <p:cNvSpPr/>
          <p:nvPr/>
        </p:nvSpPr>
        <p:spPr>
          <a:xfrm>
            <a:off x="2887560" y="3286080"/>
            <a:ext cx="1800" cy="11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7" name=""/>
          <p:cNvSpPr/>
          <p:nvPr/>
        </p:nvSpPr>
        <p:spPr>
          <a:xfrm>
            <a:off x="2230560" y="3297240"/>
            <a:ext cx="701640" cy="403200"/>
          </a:xfrm>
          <a:custGeom>
            <a:avLst/>
            <a:gdLst/>
            <a:ahLst/>
            <a:rect l="l" t="t" r="r" b="b"/>
            <a:pathLst>
              <a:path w="442" h="254">
                <a:moveTo>
                  <a:pt x="414" y="0"/>
                </a:moveTo>
                <a:lnTo>
                  <a:pt x="407" y="6"/>
                </a:lnTo>
                <a:lnTo>
                  <a:pt x="407" y="13"/>
                </a:lnTo>
                <a:lnTo>
                  <a:pt x="407" y="20"/>
                </a:lnTo>
                <a:lnTo>
                  <a:pt x="400" y="27"/>
                </a:lnTo>
                <a:lnTo>
                  <a:pt x="400" y="27"/>
                </a:lnTo>
                <a:lnTo>
                  <a:pt x="393" y="34"/>
                </a:lnTo>
                <a:lnTo>
                  <a:pt x="387" y="41"/>
                </a:lnTo>
                <a:lnTo>
                  <a:pt x="387" y="48"/>
                </a:lnTo>
                <a:lnTo>
                  <a:pt x="380" y="55"/>
                </a:lnTo>
                <a:lnTo>
                  <a:pt x="387" y="68"/>
                </a:lnTo>
                <a:lnTo>
                  <a:pt x="387" y="75"/>
                </a:lnTo>
                <a:lnTo>
                  <a:pt x="393" y="82"/>
                </a:lnTo>
                <a:lnTo>
                  <a:pt x="400" y="82"/>
                </a:lnTo>
                <a:lnTo>
                  <a:pt x="414" y="82"/>
                </a:lnTo>
                <a:lnTo>
                  <a:pt x="421" y="75"/>
                </a:lnTo>
                <a:lnTo>
                  <a:pt x="428" y="68"/>
                </a:lnTo>
                <a:lnTo>
                  <a:pt x="435" y="62"/>
                </a:lnTo>
                <a:lnTo>
                  <a:pt x="442" y="62"/>
                </a:lnTo>
                <a:lnTo>
                  <a:pt x="442" y="62"/>
                </a:lnTo>
                <a:lnTo>
                  <a:pt x="442" y="68"/>
                </a:lnTo>
                <a:lnTo>
                  <a:pt x="442" y="75"/>
                </a:lnTo>
                <a:lnTo>
                  <a:pt x="442" y="89"/>
                </a:lnTo>
                <a:lnTo>
                  <a:pt x="442" y="96"/>
                </a:lnTo>
                <a:lnTo>
                  <a:pt x="442" y="103"/>
                </a:lnTo>
                <a:lnTo>
                  <a:pt x="435" y="110"/>
                </a:lnTo>
                <a:lnTo>
                  <a:pt x="435" y="117"/>
                </a:lnTo>
                <a:lnTo>
                  <a:pt x="428" y="117"/>
                </a:lnTo>
                <a:lnTo>
                  <a:pt x="428" y="124"/>
                </a:lnTo>
                <a:lnTo>
                  <a:pt x="421" y="130"/>
                </a:lnTo>
                <a:lnTo>
                  <a:pt x="421" y="137"/>
                </a:lnTo>
                <a:lnTo>
                  <a:pt x="414" y="144"/>
                </a:lnTo>
                <a:lnTo>
                  <a:pt x="414" y="158"/>
                </a:lnTo>
                <a:lnTo>
                  <a:pt x="414" y="158"/>
                </a:lnTo>
                <a:lnTo>
                  <a:pt x="407" y="165"/>
                </a:lnTo>
                <a:lnTo>
                  <a:pt x="400" y="158"/>
                </a:lnTo>
                <a:lnTo>
                  <a:pt x="387" y="151"/>
                </a:lnTo>
                <a:lnTo>
                  <a:pt x="380" y="144"/>
                </a:lnTo>
                <a:lnTo>
                  <a:pt x="380" y="137"/>
                </a:lnTo>
                <a:lnTo>
                  <a:pt x="380" y="130"/>
                </a:lnTo>
                <a:lnTo>
                  <a:pt x="387" y="124"/>
                </a:lnTo>
                <a:lnTo>
                  <a:pt x="387" y="117"/>
                </a:lnTo>
                <a:lnTo>
                  <a:pt x="393" y="110"/>
                </a:lnTo>
                <a:lnTo>
                  <a:pt x="400" y="103"/>
                </a:lnTo>
                <a:lnTo>
                  <a:pt x="407" y="96"/>
                </a:lnTo>
                <a:lnTo>
                  <a:pt x="407" y="89"/>
                </a:lnTo>
                <a:lnTo>
                  <a:pt x="407" y="82"/>
                </a:lnTo>
                <a:lnTo>
                  <a:pt x="400" y="75"/>
                </a:lnTo>
                <a:lnTo>
                  <a:pt x="393" y="68"/>
                </a:lnTo>
                <a:lnTo>
                  <a:pt x="387" y="62"/>
                </a:lnTo>
                <a:lnTo>
                  <a:pt x="380" y="62"/>
                </a:lnTo>
                <a:lnTo>
                  <a:pt x="380" y="62"/>
                </a:lnTo>
                <a:lnTo>
                  <a:pt x="373" y="68"/>
                </a:lnTo>
                <a:lnTo>
                  <a:pt x="373" y="75"/>
                </a:lnTo>
                <a:lnTo>
                  <a:pt x="373" y="82"/>
                </a:lnTo>
                <a:lnTo>
                  <a:pt x="373" y="89"/>
                </a:lnTo>
                <a:lnTo>
                  <a:pt x="366" y="103"/>
                </a:lnTo>
                <a:lnTo>
                  <a:pt x="366" y="110"/>
                </a:lnTo>
                <a:lnTo>
                  <a:pt x="359" y="110"/>
                </a:lnTo>
                <a:lnTo>
                  <a:pt x="352" y="117"/>
                </a:lnTo>
                <a:lnTo>
                  <a:pt x="345" y="117"/>
                </a:lnTo>
                <a:lnTo>
                  <a:pt x="338" y="124"/>
                </a:lnTo>
                <a:lnTo>
                  <a:pt x="338" y="130"/>
                </a:lnTo>
                <a:lnTo>
                  <a:pt x="338" y="144"/>
                </a:lnTo>
                <a:lnTo>
                  <a:pt x="338" y="151"/>
                </a:lnTo>
                <a:lnTo>
                  <a:pt x="331" y="158"/>
                </a:lnTo>
                <a:lnTo>
                  <a:pt x="324" y="158"/>
                </a:lnTo>
                <a:lnTo>
                  <a:pt x="318" y="165"/>
                </a:lnTo>
                <a:lnTo>
                  <a:pt x="311" y="172"/>
                </a:lnTo>
                <a:lnTo>
                  <a:pt x="304" y="179"/>
                </a:lnTo>
                <a:lnTo>
                  <a:pt x="297" y="179"/>
                </a:lnTo>
                <a:lnTo>
                  <a:pt x="290" y="186"/>
                </a:lnTo>
                <a:lnTo>
                  <a:pt x="283" y="192"/>
                </a:lnTo>
                <a:lnTo>
                  <a:pt x="269" y="199"/>
                </a:lnTo>
                <a:lnTo>
                  <a:pt x="262" y="206"/>
                </a:lnTo>
                <a:lnTo>
                  <a:pt x="262" y="206"/>
                </a:lnTo>
                <a:lnTo>
                  <a:pt x="256" y="199"/>
                </a:lnTo>
                <a:lnTo>
                  <a:pt x="249" y="192"/>
                </a:lnTo>
                <a:lnTo>
                  <a:pt x="242" y="186"/>
                </a:lnTo>
                <a:lnTo>
                  <a:pt x="235" y="179"/>
                </a:lnTo>
                <a:lnTo>
                  <a:pt x="221" y="179"/>
                </a:lnTo>
                <a:lnTo>
                  <a:pt x="207" y="186"/>
                </a:lnTo>
                <a:lnTo>
                  <a:pt x="200" y="186"/>
                </a:lnTo>
                <a:lnTo>
                  <a:pt x="200" y="192"/>
                </a:lnTo>
                <a:lnTo>
                  <a:pt x="193" y="199"/>
                </a:lnTo>
                <a:lnTo>
                  <a:pt x="187" y="206"/>
                </a:lnTo>
                <a:lnTo>
                  <a:pt x="180" y="213"/>
                </a:lnTo>
                <a:lnTo>
                  <a:pt x="173" y="220"/>
                </a:lnTo>
                <a:lnTo>
                  <a:pt x="166" y="220"/>
                </a:lnTo>
                <a:lnTo>
                  <a:pt x="152" y="227"/>
                </a:lnTo>
                <a:lnTo>
                  <a:pt x="145" y="227"/>
                </a:lnTo>
                <a:lnTo>
                  <a:pt x="138" y="234"/>
                </a:lnTo>
                <a:lnTo>
                  <a:pt x="138" y="241"/>
                </a:lnTo>
                <a:lnTo>
                  <a:pt x="131" y="248"/>
                </a:lnTo>
                <a:lnTo>
                  <a:pt x="125" y="254"/>
                </a:lnTo>
                <a:lnTo>
                  <a:pt x="111" y="254"/>
                </a:lnTo>
                <a:lnTo>
                  <a:pt x="104" y="254"/>
                </a:lnTo>
                <a:lnTo>
                  <a:pt x="90" y="248"/>
                </a:lnTo>
                <a:lnTo>
                  <a:pt x="83" y="241"/>
                </a:lnTo>
                <a:lnTo>
                  <a:pt x="83" y="234"/>
                </a:lnTo>
                <a:lnTo>
                  <a:pt x="76" y="234"/>
                </a:lnTo>
                <a:lnTo>
                  <a:pt x="69" y="227"/>
                </a:lnTo>
                <a:lnTo>
                  <a:pt x="56" y="227"/>
                </a:lnTo>
                <a:lnTo>
                  <a:pt x="42" y="227"/>
                </a:lnTo>
                <a:lnTo>
                  <a:pt x="35" y="227"/>
                </a:lnTo>
                <a:lnTo>
                  <a:pt x="21" y="227"/>
                </a:lnTo>
                <a:lnTo>
                  <a:pt x="14" y="220"/>
                </a:lnTo>
                <a:lnTo>
                  <a:pt x="7" y="213"/>
                </a:lnTo>
                <a:lnTo>
                  <a:pt x="0" y="206"/>
                </a:lnTo>
                <a:lnTo>
                  <a:pt x="0" y="199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8" name=""/>
          <p:cNvSpPr/>
          <p:nvPr/>
        </p:nvSpPr>
        <p:spPr>
          <a:xfrm>
            <a:off x="2165400" y="3624120"/>
            <a:ext cx="480960" cy="241560"/>
          </a:xfrm>
          <a:custGeom>
            <a:avLst/>
            <a:gdLst/>
            <a:ahLst/>
            <a:rect l="l" t="t" r="r" b="b"/>
            <a:pathLst>
              <a:path w="303" h="152">
                <a:moveTo>
                  <a:pt x="28" y="0"/>
                </a:moveTo>
                <a:lnTo>
                  <a:pt x="28" y="0"/>
                </a:lnTo>
                <a:lnTo>
                  <a:pt x="21" y="7"/>
                </a:lnTo>
                <a:lnTo>
                  <a:pt x="14" y="7"/>
                </a:lnTo>
                <a:lnTo>
                  <a:pt x="7" y="14"/>
                </a:lnTo>
                <a:lnTo>
                  <a:pt x="7" y="21"/>
                </a:lnTo>
                <a:lnTo>
                  <a:pt x="0" y="21"/>
                </a:lnTo>
                <a:lnTo>
                  <a:pt x="0" y="28"/>
                </a:lnTo>
                <a:lnTo>
                  <a:pt x="0" y="35"/>
                </a:lnTo>
                <a:lnTo>
                  <a:pt x="0" y="42"/>
                </a:lnTo>
                <a:lnTo>
                  <a:pt x="7" y="42"/>
                </a:lnTo>
                <a:lnTo>
                  <a:pt x="14" y="48"/>
                </a:lnTo>
                <a:lnTo>
                  <a:pt x="21" y="48"/>
                </a:lnTo>
                <a:lnTo>
                  <a:pt x="28" y="55"/>
                </a:lnTo>
                <a:lnTo>
                  <a:pt x="35" y="55"/>
                </a:lnTo>
                <a:lnTo>
                  <a:pt x="41" y="62"/>
                </a:lnTo>
                <a:lnTo>
                  <a:pt x="48" y="62"/>
                </a:lnTo>
                <a:lnTo>
                  <a:pt x="55" y="62"/>
                </a:lnTo>
                <a:lnTo>
                  <a:pt x="62" y="62"/>
                </a:lnTo>
                <a:lnTo>
                  <a:pt x="69" y="62"/>
                </a:lnTo>
                <a:lnTo>
                  <a:pt x="83" y="69"/>
                </a:lnTo>
                <a:lnTo>
                  <a:pt x="90" y="69"/>
                </a:lnTo>
                <a:lnTo>
                  <a:pt x="97" y="69"/>
                </a:lnTo>
                <a:lnTo>
                  <a:pt x="103" y="69"/>
                </a:lnTo>
                <a:lnTo>
                  <a:pt x="110" y="69"/>
                </a:lnTo>
                <a:lnTo>
                  <a:pt x="117" y="76"/>
                </a:lnTo>
                <a:lnTo>
                  <a:pt x="124" y="76"/>
                </a:lnTo>
                <a:lnTo>
                  <a:pt x="131" y="83"/>
                </a:lnTo>
                <a:lnTo>
                  <a:pt x="138" y="90"/>
                </a:lnTo>
                <a:lnTo>
                  <a:pt x="145" y="90"/>
                </a:lnTo>
                <a:lnTo>
                  <a:pt x="152" y="90"/>
                </a:lnTo>
                <a:lnTo>
                  <a:pt x="159" y="97"/>
                </a:lnTo>
                <a:lnTo>
                  <a:pt x="166" y="97"/>
                </a:lnTo>
                <a:lnTo>
                  <a:pt x="172" y="97"/>
                </a:lnTo>
                <a:lnTo>
                  <a:pt x="186" y="97"/>
                </a:lnTo>
                <a:lnTo>
                  <a:pt x="193" y="97"/>
                </a:lnTo>
                <a:lnTo>
                  <a:pt x="200" y="97"/>
                </a:lnTo>
                <a:lnTo>
                  <a:pt x="207" y="97"/>
                </a:lnTo>
                <a:lnTo>
                  <a:pt x="214" y="97"/>
                </a:lnTo>
                <a:lnTo>
                  <a:pt x="228" y="97"/>
                </a:lnTo>
                <a:lnTo>
                  <a:pt x="234" y="90"/>
                </a:lnTo>
                <a:lnTo>
                  <a:pt x="241" y="90"/>
                </a:lnTo>
                <a:lnTo>
                  <a:pt x="248" y="90"/>
                </a:lnTo>
                <a:lnTo>
                  <a:pt x="255" y="97"/>
                </a:lnTo>
                <a:lnTo>
                  <a:pt x="262" y="97"/>
                </a:lnTo>
                <a:lnTo>
                  <a:pt x="262" y="104"/>
                </a:lnTo>
                <a:lnTo>
                  <a:pt x="269" y="110"/>
                </a:lnTo>
                <a:lnTo>
                  <a:pt x="269" y="117"/>
                </a:lnTo>
                <a:lnTo>
                  <a:pt x="269" y="124"/>
                </a:lnTo>
                <a:lnTo>
                  <a:pt x="269" y="131"/>
                </a:lnTo>
                <a:lnTo>
                  <a:pt x="269" y="131"/>
                </a:lnTo>
                <a:lnTo>
                  <a:pt x="269" y="138"/>
                </a:lnTo>
                <a:lnTo>
                  <a:pt x="276" y="145"/>
                </a:lnTo>
                <a:lnTo>
                  <a:pt x="283" y="145"/>
                </a:lnTo>
                <a:lnTo>
                  <a:pt x="290" y="145"/>
                </a:lnTo>
                <a:lnTo>
                  <a:pt x="303" y="152"/>
                </a:lnTo>
                <a:lnTo>
                  <a:pt x="303" y="145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9" name=""/>
          <p:cNvSpPr/>
          <p:nvPr/>
        </p:nvSpPr>
        <p:spPr>
          <a:xfrm>
            <a:off x="2876400" y="3843360"/>
            <a:ext cx="1800" cy="11160"/>
          </a:xfrm>
          <a:custGeom>
            <a:avLst/>
            <a:gdLst/>
            <a:ahLst/>
            <a:rect l="l" t="t" r="r" b="b"/>
            <a:pathLst>
              <a:path w="0" h="7">
                <a:moveTo>
                  <a:pt x="0" y="7"/>
                </a:move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0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0" name=""/>
          <p:cNvSpPr/>
          <p:nvPr/>
        </p:nvSpPr>
        <p:spPr>
          <a:xfrm>
            <a:off x="5405400" y="3733920"/>
            <a:ext cx="33480" cy="87120"/>
          </a:xfrm>
          <a:custGeom>
            <a:avLst/>
            <a:gdLst/>
            <a:ahLst/>
            <a:rect l="l" t="t" r="r" b="b"/>
            <a:pathLst>
              <a:path w="21" h="55">
                <a:moveTo>
                  <a:pt x="7" y="48"/>
                </a:moveTo>
                <a:lnTo>
                  <a:pt x="14" y="41"/>
                </a:lnTo>
                <a:lnTo>
                  <a:pt x="21" y="35"/>
                </a:lnTo>
                <a:lnTo>
                  <a:pt x="21" y="35"/>
                </a:lnTo>
                <a:lnTo>
                  <a:pt x="21" y="28"/>
                </a:lnTo>
                <a:lnTo>
                  <a:pt x="21" y="21"/>
                </a:lnTo>
                <a:lnTo>
                  <a:pt x="14" y="14"/>
                </a:lnTo>
                <a:lnTo>
                  <a:pt x="14" y="7"/>
                </a:lnTo>
                <a:lnTo>
                  <a:pt x="7" y="0"/>
                </a:lnTo>
                <a:lnTo>
                  <a:pt x="0" y="0"/>
                </a:lnTo>
                <a:lnTo>
                  <a:pt x="0" y="7"/>
                </a:lnTo>
                <a:lnTo>
                  <a:pt x="0" y="14"/>
                </a:lnTo>
                <a:lnTo>
                  <a:pt x="0" y="21"/>
                </a:lnTo>
                <a:lnTo>
                  <a:pt x="0" y="28"/>
                </a:lnTo>
                <a:lnTo>
                  <a:pt x="0" y="35"/>
                </a:lnTo>
                <a:lnTo>
                  <a:pt x="0" y="35"/>
                </a:lnTo>
                <a:lnTo>
                  <a:pt x="0" y="41"/>
                </a:lnTo>
                <a:lnTo>
                  <a:pt x="0" y="48"/>
                </a:lnTo>
                <a:lnTo>
                  <a:pt x="7" y="55"/>
                </a:lnTo>
                <a:lnTo>
                  <a:pt x="7" y="55"/>
                </a:lnTo>
                <a:lnTo>
                  <a:pt x="7" y="48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1" name=""/>
          <p:cNvSpPr/>
          <p:nvPr/>
        </p:nvSpPr>
        <p:spPr>
          <a:xfrm flipH="1" flipV="1">
            <a:off x="2131920" y="3700080"/>
            <a:ext cx="22320" cy="11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2" name=""/>
          <p:cNvSpPr/>
          <p:nvPr/>
        </p:nvSpPr>
        <p:spPr>
          <a:xfrm flipV="1">
            <a:off x="2131920" y="3711240"/>
            <a:ext cx="2232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3" name=""/>
          <p:cNvSpPr/>
          <p:nvPr/>
        </p:nvSpPr>
        <p:spPr>
          <a:xfrm>
            <a:off x="4048200" y="3668760"/>
            <a:ext cx="11160" cy="1440"/>
          </a:xfrm>
          <a:custGeom>
            <a:avLst/>
            <a:gdLst/>
            <a:ahLst/>
            <a:rect l="l" t="t" r="r" b="b"/>
            <a:pathLst>
              <a:path w="7" h="0">
                <a:moveTo>
                  <a:pt x="7" y="0"/>
                </a:moveTo>
                <a:lnTo>
                  <a:pt x="7" y="0"/>
                </a:lnTo>
                <a:lnTo>
                  <a:pt x="7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7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4" name=""/>
          <p:cNvSpPr/>
          <p:nvPr/>
        </p:nvSpPr>
        <p:spPr>
          <a:xfrm>
            <a:off x="5450040" y="3592440"/>
            <a:ext cx="54000" cy="119160"/>
          </a:xfrm>
          <a:custGeom>
            <a:avLst/>
            <a:gdLst/>
            <a:ahLst/>
            <a:rect l="l" t="t" r="r" b="b"/>
            <a:pathLst>
              <a:path w="34" h="75">
                <a:moveTo>
                  <a:pt x="20" y="48"/>
                </a:moveTo>
                <a:lnTo>
                  <a:pt x="27" y="41"/>
                </a:lnTo>
                <a:lnTo>
                  <a:pt x="34" y="34"/>
                </a:lnTo>
                <a:lnTo>
                  <a:pt x="34" y="27"/>
                </a:lnTo>
                <a:lnTo>
                  <a:pt x="27" y="20"/>
                </a:lnTo>
                <a:lnTo>
                  <a:pt x="20" y="6"/>
                </a:lnTo>
                <a:lnTo>
                  <a:pt x="13" y="0"/>
                </a:lnTo>
                <a:lnTo>
                  <a:pt x="6" y="0"/>
                </a:lnTo>
                <a:lnTo>
                  <a:pt x="0" y="6"/>
                </a:lnTo>
                <a:lnTo>
                  <a:pt x="0" y="20"/>
                </a:lnTo>
                <a:lnTo>
                  <a:pt x="0" y="27"/>
                </a:lnTo>
                <a:lnTo>
                  <a:pt x="0" y="34"/>
                </a:lnTo>
                <a:lnTo>
                  <a:pt x="0" y="41"/>
                </a:lnTo>
                <a:lnTo>
                  <a:pt x="0" y="48"/>
                </a:lnTo>
                <a:lnTo>
                  <a:pt x="0" y="62"/>
                </a:lnTo>
                <a:lnTo>
                  <a:pt x="6" y="68"/>
                </a:lnTo>
                <a:lnTo>
                  <a:pt x="6" y="75"/>
                </a:lnTo>
                <a:lnTo>
                  <a:pt x="6" y="75"/>
                </a:lnTo>
                <a:lnTo>
                  <a:pt x="13" y="68"/>
                </a:lnTo>
                <a:lnTo>
                  <a:pt x="13" y="62"/>
                </a:lnTo>
                <a:lnTo>
                  <a:pt x="20" y="48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5" name=""/>
          <p:cNvSpPr/>
          <p:nvPr/>
        </p:nvSpPr>
        <p:spPr>
          <a:xfrm>
            <a:off x="5481720" y="3514680"/>
            <a:ext cx="44280" cy="87480"/>
          </a:xfrm>
          <a:custGeom>
            <a:avLst/>
            <a:gdLst/>
            <a:ahLst/>
            <a:rect l="l" t="t" r="r" b="b"/>
            <a:pathLst>
              <a:path w="28" h="55">
                <a:moveTo>
                  <a:pt x="21" y="35"/>
                </a:moveTo>
                <a:lnTo>
                  <a:pt x="21" y="35"/>
                </a:lnTo>
                <a:lnTo>
                  <a:pt x="28" y="28"/>
                </a:lnTo>
                <a:lnTo>
                  <a:pt x="28" y="21"/>
                </a:lnTo>
                <a:lnTo>
                  <a:pt x="28" y="14"/>
                </a:lnTo>
                <a:lnTo>
                  <a:pt x="21" y="7"/>
                </a:lnTo>
                <a:lnTo>
                  <a:pt x="21" y="7"/>
                </a:lnTo>
                <a:lnTo>
                  <a:pt x="14" y="0"/>
                </a:lnTo>
                <a:lnTo>
                  <a:pt x="7" y="7"/>
                </a:lnTo>
                <a:lnTo>
                  <a:pt x="0" y="14"/>
                </a:lnTo>
                <a:lnTo>
                  <a:pt x="0" y="21"/>
                </a:lnTo>
                <a:lnTo>
                  <a:pt x="0" y="28"/>
                </a:lnTo>
                <a:lnTo>
                  <a:pt x="0" y="28"/>
                </a:lnTo>
                <a:lnTo>
                  <a:pt x="7" y="35"/>
                </a:lnTo>
                <a:lnTo>
                  <a:pt x="7" y="42"/>
                </a:lnTo>
                <a:lnTo>
                  <a:pt x="14" y="49"/>
                </a:lnTo>
                <a:lnTo>
                  <a:pt x="14" y="55"/>
                </a:lnTo>
                <a:lnTo>
                  <a:pt x="14" y="55"/>
                </a:lnTo>
                <a:lnTo>
                  <a:pt x="21" y="55"/>
                </a:lnTo>
                <a:lnTo>
                  <a:pt x="21" y="49"/>
                </a:lnTo>
                <a:lnTo>
                  <a:pt x="21" y="35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6" name=""/>
          <p:cNvSpPr/>
          <p:nvPr/>
        </p:nvSpPr>
        <p:spPr>
          <a:xfrm>
            <a:off x="2614680" y="3438360"/>
            <a:ext cx="65160" cy="76320"/>
          </a:xfrm>
          <a:custGeom>
            <a:avLst/>
            <a:gdLst/>
            <a:ahLst/>
            <a:rect l="l" t="t" r="r" b="b"/>
            <a:pathLst>
              <a:path w="41" h="48">
                <a:moveTo>
                  <a:pt x="41" y="28"/>
                </a:moveTo>
                <a:lnTo>
                  <a:pt x="34" y="14"/>
                </a:lnTo>
                <a:lnTo>
                  <a:pt x="27" y="7"/>
                </a:lnTo>
                <a:lnTo>
                  <a:pt x="27" y="0"/>
                </a:lnTo>
                <a:lnTo>
                  <a:pt x="20" y="0"/>
                </a:lnTo>
                <a:lnTo>
                  <a:pt x="14" y="7"/>
                </a:lnTo>
                <a:lnTo>
                  <a:pt x="7" y="14"/>
                </a:lnTo>
                <a:lnTo>
                  <a:pt x="0" y="21"/>
                </a:lnTo>
                <a:lnTo>
                  <a:pt x="0" y="28"/>
                </a:lnTo>
                <a:lnTo>
                  <a:pt x="7" y="35"/>
                </a:lnTo>
                <a:lnTo>
                  <a:pt x="14" y="41"/>
                </a:lnTo>
                <a:lnTo>
                  <a:pt x="20" y="48"/>
                </a:lnTo>
                <a:lnTo>
                  <a:pt x="27" y="41"/>
                </a:lnTo>
                <a:lnTo>
                  <a:pt x="34" y="35"/>
                </a:lnTo>
                <a:lnTo>
                  <a:pt x="41" y="28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7" name=""/>
          <p:cNvSpPr/>
          <p:nvPr/>
        </p:nvSpPr>
        <p:spPr>
          <a:xfrm>
            <a:off x="2646360" y="3317760"/>
            <a:ext cx="131760" cy="142920"/>
          </a:xfrm>
          <a:custGeom>
            <a:avLst/>
            <a:gdLst/>
            <a:ahLst/>
            <a:rect l="l" t="t" r="r" b="b"/>
            <a:pathLst>
              <a:path w="83" h="90">
                <a:moveTo>
                  <a:pt x="42" y="76"/>
                </a:moveTo>
                <a:lnTo>
                  <a:pt x="42" y="69"/>
                </a:lnTo>
                <a:lnTo>
                  <a:pt x="49" y="62"/>
                </a:lnTo>
                <a:lnTo>
                  <a:pt x="56" y="55"/>
                </a:lnTo>
                <a:lnTo>
                  <a:pt x="56" y="49"/>
                </a:lnTo>
                <a:lnTo>
                  <a:pt x="62" y="42"/>
                </a:lnTo>
                <a:lnTo>
                  <a:pt x="69" y="35"/>
                </a:lnTo>
                <a:lnTo>
                  <a:pt x="76" y="35"/>
                </a:lnTo>
                <a:lnTo>
                  <a:pt x="83" y="28"/>
                </a:lnTo>
                <a:lnTo>
                  <a:pt x="83" y="21"/>
                </a:lnTo>
                <a:lnTo>
                  <a:pt x="83" y="14"/>
                </a:lnTo>
                <a:lnTo>
                  <a:pt x="76" y="7"/>
                </a:lnTo>
                <a:lnTo>
                  <a:pt x="69" y="0"/>
                </a:lnTo>
                <a:lnTo>
                  <a:pt x="62" y="0"/>
                </a:lnTo>
                <a:lnTo>
                  <a:pt x="56" y="0"/>
                </a:lnTo>
                <a:lnTo>
                  <a:pt x="49" y="7"/>
                </a:lnTo>
                <a:lnTo>
                  <a:pt x="49" y="14"/>
                </a:lnTo>
                <a:lnTo>
                  <a:pt x="42" y="21"/>
                </a:lnTo>
                <a:lnTo>
                  <a:pt x="35" y="28"/>
                </a:lnTo>
                <a:lnTo>
                  <a:pt x="35" y="35"/>
                </a:lnTo>
                <a:lnTo>
                  <a:pt x="28" y="42"/>
                </a:lnTo>
                <a:lnTo>
                  <a:pt x="21" y="42"/>
                </a:lnTo>
                <a:lnTo>
                  <a:pt x="14" y="49"/>
                </a:lnTo>
                <a:lnTo>
                  <a:pt x="14" y="55"/>
                </a:lnTo>
                <a:lnTo>
                  <a:pt x="7" y="62"/>
                </a:lnTo>
                <a:lnTo>
                  <a:pt x="0" y="69"/>
                </a:lnTo>
                <a:lnTo>
                  <a:pt x="7" y="76"/>
                </a:lnTo>
                <a:lnTo>
                  <a:pt x="14" y="83"/>
                </a:lnTo>
                <a:lnTo>
                  <a:pt x="21" y="83"/>
                </a:lnTo>
                <a:lnTo>
                  <a:pt x="28" y="90"/>
                </a:lnTo>
                <a:lnTo>
                  <a:pt x="35" y="90"/>
                </a:lnTo>
                <a:lnTo>
                  <a:pt x="42" y="83"/>
                </a:lnTo>
                <a:lnTo>
                  <a:pt x="42" y="76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8" name=""/>
          <p:cNvSpPr/>
          <p:nvPr/>
        </p:nvSpPr>
        <p:spPr>
          <a:xfrm>
            <a:off x="6389640" y="3351240"/>
            <a:ext cx="22320" cy="54000"/>
          </a:xfrm>
          <a:custGeom>
            <a:avLst/>
            <a:gdLst/>
            <a:ahLst/>
            <a:rect l="l" t="t" r="r" b="b"/>
            <a:pathLst>
              <a:path w="14" h="34">
                <a:moveTo>
                  <a:pt x="14" y="21"/>
                </a:moveTo>
                <a:lnTo>
                  <a:pt x="7" y="14"/>
                </a:lnTo>
                <a:lnTo>
                  <a:pt x="7" y="7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0" y="0"/>
                </a:lnTo>
                <a:lnTo>
                  <a:pt x="0" y="7"/>
                </a:lnTo>
                <a:lnTo>
                  <a:pt x="0" y="7"/>
                </a:lnTo>
                <a:lnTo>
                  <a:pt x="0" y="14"/>
                </a:lnTo>
                <a:lnTo>
                  <a:pt x="0" y="21"/>
                </a:lnTo>
                <a:lnTo>
                  <a:pt x="0" y="28"/>
                </a:lnTo>
                <a:lnTo>
                  <a:pt x="7" y="34"/>
                </a:lnTo>
                <a:lnTo>
                  <a:pt x="7" y="28"/>
                </a:lnTo>
                <a:lnTo>
                  <a:pt x="14" y="21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9" name=""/>
          <p:cNvSpPr/>
          <p:nvPr/>
        </p:nvSpPr>
        <p:spPr>
          <a:xfrm>
            <a:off x="2755800" y="3241800"/>
            <a:ext cx="55800" cy="87120"/>
          </a:xfrm>
          <a:custGeom>
            <a:avLst/>
            <a:gdLst/>
            <a:ahLst/>
            <a:rect l="l" t="t" r="r" b="b"/>
            <a:pathLst>
              <a:path w="35" h="55">
                <a:moveTo>
                  <a:pt x="35" y="35"/>
                </a:moveTo>
                <a:lnTo>
                  <a:pt x="35" y="21"/>
                </a:lnTo>
                <a:lnTo>
                  <a:pt x="28" y="7"/>
                </a:lnTo>
                <a:lnTo>
                  <a:pt x="21" y="0"/>
                </a:lnTo>
                <a:lnTo>
                  <a:pt x="21" y="0"/>
                </a:lnTo>
                <a:lnTo>
                  <a:pt x="14" y="7"/>
                </a:lnTo>
                <a:lnTo>
                  <a:pt x="7" y="14"/>
                </a:lnTo>
                <a:lnTo>
                  <a:pt x="0" y="28"/>
                </a:lnTo>
                <a:lnTo>
                  <a:pt x="0" y="41"/>
                </a:lnTo>
                <a:lnTo>
                  <a:pt x="7" y="48"/>
                </a:lnTo>
                <a:lnTo>
                  <a:pt x="14" y="55"/>
                </a:lnTo>
                <a:lnTo>
                  <a:pt x="21" y="55"/>
                </a:lnTo>
                <a:lnTo>
                  <a:pt x="28" y="55"/>
                </a:lnTo>
                <a:lnTo>
                  <a:pt x="35" y="48"/>
                </a:lnTo>
                <a:lnTo>
                  <a:pt x="35" y="35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0" name=""/>
          <p:cNvSpPr/>
          <p:nvPr/>
        </p:nvSpPr>
        <p:spPr>
          <a:xfrm>
            <a:off x="2789280" y="3110040"/>
            <a:ext cx="142920" cy="153720"/>
          </a:xfrm>
          <a:custGeom>
            <a:avLst/>
            <a:gdLst/>
            <a:ahLst/>
            <a:rect l="l" t="t" r="r" b="b"/>
            <a:pathLst>
              <a:path w="90" h="97">
                <a:moveTo>
                  <a:pt x="41" y="83"/>
                </a:moveTo>
                <a:lnTo>
                  <a:pt x="41" y="76"/>
                </a:lnTo>
                <a:lnTo>
                  <a:pt x="48" y="69"/>
                </a:lnTo>
                <a:lnTo>
                  <a:pt x="55" y="62"/>
                </a:lnTo>
                <a:lnTo>
                  <a:pt x="62" y="62"/>
                </a:lnTo>
                <a:lnTo>
                  <a:pt x="76" y="56"/>
                </a:lnTo>
                <a:lnTo>
                  <a:pt x="83" y="56"/>
                </a:lnTo>
                <a:lnTo>
                  <a:pt x="90" y="49"/>
                </a:lnTo>
                <a:lnTo>
                  <a:pt x="90" y="42"/>
                </a:lnTo>
                <a:lnTo>
                  <a:pt x="83" y="35"/>
                </a:lnTo>
                <a:lnTo>
                  <a:pt x="83" y="28"/>
                </a:lnTo>
                <a:lnTo>
                  <a:pt x="76" y="14"/>
                </a:lnTo>
                <a:lnTo>
                  <a:pt x="69" y="7"/>
                </a:lnTo>
                <a:lnTo>
                  <a:pt x="62" y="0"/>
                </a:lnTo>
                <a:lnTo>
                  <a:pt x="55" y="0"/>
                </a:lnTo>
                <a:lnTo>
                  <a:pt x="55" y="7"/>
                </a:lnTo>
                <a:lnTo>
                  <a:pt x="48" y="14"/>
                </a:lnTo>
                <a:lnTo>
                  <a:pt x="41" y="21"/>
                </a:lnTo>
                <a:lnTo>
                  <a:pt x="41" y="28"/>
                </a:lnTo>
                <a:lnTo>
                  <a:pt x="35" y="35"/>
                </a:lnTo>
                <a:lnTo>
                  <a:pt x="28" y="42"/>
                </a:lnTo>
                <a:lnTo>
                  <a:pt x="28" y="49"/>
                </a:lnTo>
                <a:lnTo>
                  <a:pt x="21" y="56"/>
                </a:lnTo>
                <a:lnTo>
                  <a:pt x="14" y="62"/>
                </a:lnTo>
                <a:lnTo>
                  <a:pt x="7" y="69"/>
                </a:lnTo>
                <a:lnTo>
                  <a:pt x="0" y="76"/>
                </a:lnTo>
                <a:lnTo>
                  <a:pt x="0" y="83"/>
                </a:lnTo>
                <a:lnTo>
                  <a:pt x="0" y="90"/>
                </a:lnTo>
                <a:lnTo>
                  <a:pt x="14" y="97"/>
                </a:lnTo>
                <a:lnTo>
                  <a:pt x="21" y="97"/>
                </a:lnTo>
                <a:lnTo>
                  <a:pt x="28" y="97"/>
                </a:lnTo>
                <a:lnTo>
                  <a:pt x="35" y="97"/>
                </a:lnTo>
                <a:lnTo>
                  <a:pt x="41" y="83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1" name=""/>
          <p:cNvSpPr/>
          <p:nvPr/>
        </p:nvSpPr>
        <p:spPr>
          <a:xfrm>
            <a:off x="2668680" y="3198960"/>
            <a:ext cx="33120" cy="20520"/>
          </a:xfrm>
          <a:custGeom>
            <a:avLst/>
            <a:gdLst/>
            <a:ahLst/>
            <a:rect l="l" t="t" r="r" b="b"/>
            <a:pathLst>
              <a:path w="21" h="13">
                <a:moveTo>
                  <a:pt x="0" y="13"/>
                </a:moveTo>
                <a:lnTo>
                  <a:pt x="0" y="13"/>
                </a:lnTo>
                <a:lnTo>
                  <a:pt x="7" y="13"/>
                </a:lnTo>
                <a:lnTo>
                  <a:pt x="7" y="6"/>
                </a:lnTo>
                <a:lnTo>
                  <a:pt x="14" y="6"/>
                </a:lnTo>
                <a:lnTo>
                  <a:pt x="14" y="6"/>
                </a:lnTo>
                <a:lnTo>
                  <a:pt x="14" y="6"/>
                </a:lnTo>
                <a:lnTo>
                  <a:pt x="21" y="0"/>
                </a:lnTo>
                <a:lnTo>
                  <a:pt x="21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2" name=""/>
          <p:cNvSpPr/>
          <p:nvPr/>
        </p:nvSpPr>
        <p:spPr>
          <a:xfrm>
            <a:off x="2744640" y="3154320"/>
            <a:ext cx="1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3" name=""/>
          <p:cNvSpPr/>
          <p:nvPr/>
        </p:nvSpPr>
        <p:spPr>
          <a:xfrm flipV="1">
            <a:off x="2789280" y="3088800"/>
            <a:ext cx="11160" cy="11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4" name=""/>
          <p:cNvSpPr/>
          <p:nvPr/>
        </p:nvSpPr>
        <p:spPr>
          <a:xfrm flipV="1">
            <a:off x="2789280" y="309996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5" name=""/>
          <p:cNvSpPr/>
          <p:nvPr/>
        </p:nvSpPr>
        <p:spPr>
          <a:xfrm>
            <a:off x="2854440" y="3011400"/>
            <a:ext cx="33120" cy="22320"/>
          </a:xfrm>
          <a:custGeom>
            <a:avLst/>
            <a:gdLst/>
            <a:ahLst/>
            <a:rect l="l" t="t" r="r" b="b"/>
            <a:pathLst>
              <a:path w="21" h="14">
                <a:moveTo>
                  <a:pt x="0" y="14"/>
                </a:move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14" y="7"/>
                </a:lnTo>
                <a:lnTo>
                  <a:pt x="14" y="0"/>
                </a:lnTo>
                <a:lnTo>
                  <a:pt x="14" y="0"/>
                </a:lnTo>
                <a:lnTo>
                  <a:pt x="21" y="0"/>
                </a:lnTo>
                <a:lnTo>
                  <a:pt x="21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6" name=""/>
          <p:cNvSpPr/>
          <p:nvPr/>
        </p:nvSpPr>
        <p:spPr>
          <a:xfrm>
            <a:off x="3730680" y="2990880"/>
            <a:ext cx="54000" cy="31680"/>
          </a:xfrm>
          <a:custGeom>
            <a:avLst/>
            <a:gdLst/>
            <a:ahLst/>
            <a:rect l="l" t="t" r="r" b="b"/>
            <a:pathLst>
              <a:path w="34" h="20">
                <a:moveTo>
                  <a:pt x="34" y="13"/>
                </a:moveTo>
                <a:lnTo>
                  <a:pt x="34" y="7"/>
                </a:lnTo>
                <a:lnTo>
                  <a:pt x="28" y="0"/>
                </a:lnTo>
                <a:lnTo>
                  <a:pt x="28" y="0"/>
                </a:lnTo>
                <a:lnTo>
                  <a:pt x="14" y="0"/>
                </a:lnTo>
                <a:lnTo>
                  <a:pt x="7" y="0"/>
                </a:lnTo>
                <a:lnTo>
                  <a:pt x="0" y="7"/>
                </a:lnTo>
                <a:lnTo>
                  <a:pt x="0" y="7"/>
                </a:lnTo>
                <a:lnTo>
                  <a:pt x="0" y="13"/>
                </a:lnTo>
                <a:lnTo>
                  <a:pt x="7" y="20"/>
                </a:lnTo>
                <a:lnTo>
                  <a:pt x="14" y="20"/>
                </a:lnTo>
                <a:lnTo>
                  <a:pt x="21" y="20"/>
                </a:lnTo>
                <a:lnTo>
                  <a:pt x="28" y="20"/>
                </a:lnTo>
                <a:lnTo>
                  <a:pt x="28" y="20"/>
                </a:lnTo>
                <a:lnTo>
                  <a:pt x="34" y="13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7" name=""/>
          <p:cNvSpPr/>
          <p:nvPr/>
        </p:nvSpPr>
        <p:spPr>
          <a:xfrm flipV="1">
            <a:off x="2932200" y="2957040"/>
            <a:ext cx="3168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8" name=""/>
          <p:cNvSpPr/>
          <p:nvPr/>
        </p:nvSpPr>
        <p:spPr>
          <a:xfrm>
            <a:off x="6597720" y="2913120"/>
            <a:ext cx="33120" cy="33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9" name=""/>
          <p:cNvSpPr/>
          <p:nvPr/>
        </p:nvSpPr>
        <p:spPr>
          <a:xfrm>
            <a:off x="3424320" y="2847960"/>
            <a:ext cx="33120" cy="33480"/>
          </a:xfrm>
          <a:custGeom>
            <a:avLst/>
            <a:gdLst/>
            <a:ahLst/>
            <a:rect l="l" t="t" r="r" b="b"/>
            <a:pathLst>
              <a:path w="21" h="21">
                <a:moveTo>
                  <a:pt x="0" y="14"/>
                </a:moveTo>
                <a:lnTo>
                  <a:pt x="0" y="7"/>
                </a:lnTo>
                <a:lnTo>
                  <a:pt x="7" y="7"/>
                </a:lnTo>
                <a:lnTo>
                  <a:pt x="7" y="0"/>
                </a:lnTo>
                <a:lnTo>
                  <a:pt x="14" y="0"/>
                </a:lnTo>
                <a:lnTo>
                  <a:pt x="14" y="7"/>
                </a:lnTo>
                <a:lnTo>
                  <a:pt x="21" y="7"/>
                </a:lnTo>
                <a:lnTo>
                  <a:pt x="21" y="14"/>
                </a:lnTo>
                <a:lnTo>
                  <a:pt x="21" y="14"/>
                </a:lnTo>
                <a:lnTo>
                  <a:pt x="21" y="21"/>
                </a:lnTo>
                <a:lnTo>
                  <a:pt x="14" y="21"/>
                </a:lnTo>
                <a:lnTo>
                  <a:pt x="7" y="21"/>
                </a:lnTo>
                <a:lnTo>
                  <a:pt x="7" y="21"/>
                </a:lnTo>
                <a:lnTo>
                  <a:pt x="0" y="21"/>
                </a:lnTo>
                <a:lnTo>
                  <a:pt x="0" y="14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0" name=""/>
          <p:cNvSpPr/>
          <p:nvPr/>
        </p:nvSpPr>
        <p:spPr>
          <a:xfrm>
            <a:off x="6532560" y="2870280"/>
            <a:ext cx="55440" cy="22320"/>
          </a:xfrm>
          <a:custGeom>
            <a:avLst/>
            <a:gdLst/>
            <a:ahLst/>
            <a:rect l="l" t="t" r="r" b="b"/>
            <a:pathLst>
              <a:path w="35" h="14">
                <a:moveTo>
                  <a:pt x="0" y="0"/>
                </a:moveTo>
                <a:lnTo>
                  <a:pt x="0" y="0"/>
                </a:lnTo>
                <a:lnTo>
                  <a:pt x="7" y="7"/>
                </a:lnTo>
                <a:lnTo>
                  <a:pt x="7" y="7"/>
                </a:lnTo>
                <a:lnTo>
                  <a:pt x="14" y="7"/>
                </a:lnTo>
                <a:lnTo>
                  <a:pt x="14" y="14"/>
                </a:lnTo>
                <a:lnTo>
                  <a:pt x="21" y="14"/>
                </a:lnTo>
                <a:lnTo>
                  <a:pt x="28" y="14"/>
                </a:lnTo>
                <a:lnTo>
                  <a:pt x="35" y="14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1" name=""/>
          <p:cNvSpPr/>
          <p:nvPr/>
        </p:nvSpPr>
        <p:spPr>
          <a:xfrm>
            <a:off x="6302520" y="2771640"/>
            <a:ext cx="1440" cy="180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2" name=""/>
          <p:cNvSpPr/>
          <p:nvPr/>
        </p:nvSpPr>
        <p:spPr>
          <a:xfrm>
            <a:off x="5973840" y="2727360"/>
            <a:ext cx="88920" cy="11160"/>
          </a:xfrm>
          <a:custGeom>
            <a:avLst/>
            <a:gdLst/>
            <a:ahLst/>
            <a:rect l="l" t="t" r="r" b="b"/>
            <a:pathLst>
              <a:path w="56" h="7">
                <a:moveTo>
                  <a:pt x="0" y="0"/>
                </a:moveTo>
                <a:lnTo>
                  <a:pt x="0" y="0"/>
                </a:lnTo>
                <a:lnTo>
                  <a:pt x="7" y="0"/>
                </a:lnTo>
                <a:lnTo>
                  <a:pt x="14" y="0"/>
                </a:lnTo>
                <a:lnTo>
                  <a:pt x="21" y="0"/>
                </a:lnTo>
                <a:lnTo>
                  <a:pt x="21" y="7"/>
                </a:lnTo>
                <a:lnTo>
                  <a:pt x="28" y="7"/>
                </a:lnTo>
                <a:lnTo>
                  <a:pt x="35" y="7"/>
                </a:lnTo>
                <a:lnTo>
                  <a:pt x="42" y="7"/>
                </a:lnTo>
                <a:lnTo>
                  <a:pt x="42" y="0"/>
                </a:lnTo>
                <a:lnTo>
                  <a:pt x="49" y="0"/>
                </a:lnTo>
                <a:lnTo>
                  <a:pt x="56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3" name=""/>
          <p:cNvSpPr/>
          <p:nvPr/>
        </p:nvSpPr>
        <p:spPr>
          <a:xfrm>
            <a:off x="3303720" y="2727360"/>
            <a:ext cx="3186000" cy="2395440"/>
          </a:xfrm>
          <a:custGeom>
            <a:avLst/>
            <a:gdLst/>
            <a:ahLst/>
            <a:rect l="l" t="t" r="r" b="b"/>
            <a:pathLst>
              <a:path w="2007" h="1509">
                <a:moveTo>
                  <a:pt x="1448" y="0"/>
                </a:moveTo>
                <a:lnTo>
                  <a:pt x="1462" y="0"/>
                </a:lnTo>
                <a:lnTo>
                  <a:pt x="1469" y="7"/>
                </a:lnTo>
                <a:lnTo>
                  <a:pt x="1476" y="7"/>
                </a:lnTo>
                <a:lnTo>
                  <a:pt x="1483" y="7"/>
                </a:lnTo>
                <a:lnTo>
                  <a:pt x="1496" y="7"/>
                </a:lnTo>
                <a:lnTo>
                  <a:pt x="1503" y="14"/>
                </a:lnTo>
                <a:lnTo>
                  <a:pt x="1510" y="14"/>
                </a:lnTo>
                <a:lnTo>
                  <a:pt x="1524" y="14"/>
                </a:lnTo>
                <a:lnTo>
                  <a:pt x="1531" y="14"/>
                </a:lnTo>
                <a:lnTo>
                  <a:pt x="1538" y="14"/>
                </a:lnTo>
                <a:lnTo>
                  <a:pt x="1551" y="21"/>
                </a:lnTo>
                <a:lnTo>
                  <a:pt x="1558" y="21"/>
                </a:lnTo>
                <a:lnTo>
                  <a:pt x="1565" y="21"/>
                </a:lnTo>
                <a:lnTo>
                  <a:pt x="1579" y="21"/>
                </a:lnTo>
                <a:lnTo>
                  <a:pt x="1586" y="21"/>
                </a:lnTo>
                <a:lnTo>
                  <a:pt x="1593" y="21"/>
                </a:lnTo>
                <a:lnTo>
                  <a:pt x="1600" y="28"/>
                </a:lnTo>
                <a:lnTo>
                  <a:pt x="1614" y="28"/>
                </a:lnTo>
                <a:lnTo>
                  <a:pt x="1620" y="28"/>
                </a:lnTo>
                <a:lnTo>
                  <a:pt x="1627" y="28"/>
                </a:lnTo>
                <a:lnTo>
                  <a:pt x="1634" y="35"/>
                </a:lnTo>
                <a:lnTo>
                  <a:pt x="1634" y="42"/>
                </a:lnTo>
                <a:lnTo>
                  <a:pt x="1641" y="49"/>
                </a:lnTo>
                <a:lnTo>
                  <a:pt x="1641" y="55"/>
                </a:lnTo>
                <a:lnTo>
                  <a:pt x="1641" y="62"/>
                </a:lnTo>
                <a:lnTo>
                  <a:pt x="1655" y="62"/>
                </a:lnTo>
                <a:lnTo>
                  <a:pt x="1662" y="62"/>
                </a:lnTo>
                <a:lnTo>
                  <a:pt x="1669" y="62"/>
                </a:lnTo>
                <a:lnTo>
                  <a:pt x="1682" y="69"/>
                </a:lnTo>
                <a:lnTo>
                  <a:pt x="1689" y="69"/>
                </a:lnTo>
                <a:lnTo>
                  <a:pt x="1696" y="69"/>
                </a:lnTo>
                <a:lnTo>
                  <a:pt x="1710" y="69"/>
                </a:lnTo>
                <a:lnTo>
                  <a:pt x="1717" y="69"/>
                </a:lnTo>
                <a:lnTo>
                  <a:pt x="1717" y="76"/>
                </a:lnTo>
                <a:lnTo>
                  <a:pt x="1724" y="83"/>
                </a:lnTo>
                <a:lnTo>
                  <a:pt x="1724" y="90"/>
                </a:lnTo>
                <a:lnTo>
                  <a:pt x="1731" y="97"/>
                </a:lnTo>
                <a:lnTo>
                  <a:pt x="1738" y="97"/>
                </a:lnTo>
                <a:lnTo>
                  <a:pt x="1745" y="97"/>
                </a:lnTo>
                <a:lnTo>
                  <a:pt x="1758" y="97"/>
                </a:lnTo>
                <a:lnTo>
                  <a:pt x="1765" y="90"/>
                </a:lnTo>
                <a:lnTo>
                  <a:pt x="1765" y="90"/>
                </a:lnTo>
                <a:lnTo>
                  <a:pt x="1765" y="83"/>
                </a:lnTo>
                <a:lnTo>
                  <a:pt x="1765" y="76"/>
                </a:lnTo>
                <a:lnTo>
                  <a:pt x="1765" y="69"/>
                </a:lnTo>
                <a:lnTo>
                  <a:pt x="1765" y="62"/>
                </a:lnTo>
                <a:lnTo>
                  <a:pt x="1772" y="55"/>
                </a:lnTo>
                <a:lnTo>
                  <a:pt x="1779" y="62"/>
                </a:lnTo>
                <a:lnTo>
                  <a:pt x="1779" y="69"/>
                </a:lnTo>
                <a:lnTo>
                  <a:pt x="1786" y="76"/>
                </a:lnTo>
                <a:lnTo>
                  <a:pt x="1786" y="83"/>
                </a:lnTo>
                <a:lnTo>
                  <a:pt x="1793" y="83"/>
                </a:lnTo>
                <a:lnTo>
                  <a:pt x="1800" y="90"/>
                </a:lnTo>
                <a:lnTo>
                  <a:pt x="1807" y="90"/>
                </a:lnTo>
                <a:lnTo>
                  <a:pt x="1813" y="97"/>
                </a:lnTo>
                <a:lnTo>
                  <a:pt x="1813" y="104"/>
                </a:lnTo>
                <a:lnTo>
                  <a:pt x="1813" y="111"/>
                </a:lnTo>
                <a:lnTo>
                  <a:pt x="1813" y="117"/>
                </a:lnTo>
                <a:lnTo>
                  <a:pt x="1813" y="124"/>
                </a:lnTo>
                <a:lnTo>
                  <a:pt x="1813" y="131"/>
                </a:lnTo>
                <a:lnTo>
                  <a:pt x="1813" y="131"/>
                </a:lnTo>
                <a:lnTo>
                  <a:pt x="1820" y="138"/>
                </a:lnTo>
                <a:lnTo>
                  <a:pt x="1820" y="145"/>
                </a:lnTo>
                <a:lnTo>
                  <a:pt x="1820" y="152"/>
                </a:lnTo>
                <a:lnTo>
                  <a:pt x="1820" y="159"/>
                </a:lnTo>
                <a:lnTo>
                  <a:pt x="1820" y="166"/>
                </a:lnTo>
                <a:lnTo>
                  <a:pt x="1820" y="173"/>
                </a:lnTo>
                <a:lnTo>
                  <a:pt x="1827" y="179"/>
                </a:lnTo>
                <a:lnTo>
                  <a:pt x="1834" y="179"/>
                </a:lnTo>
                <a:lnTo>
                  <a:pt x="1841" y="186"/>
                </a:lnTo>
                <a:lnTo>
                  <a:pt x="1848" y="186"/>
                </a:lnTo>
                <a:lnTo>
                  <a:pt x="1855" y="193"/>
                </a:lnTo>
                <a:lnTo>
                  <a:pt x="1855" y="200"/>
                </a:lnTo>
                <a:lnTo>
                  <a:pt x="1862" y="207"/>
                </a:lnTo>
                <a:lnTo>
                  <a:pt x="1862" y="207"/>
                </a:lnTo>
                <a:lnTo>
                  <a:pt x="1876" y="214"/>
                </a:lnTo>
                <a:lnTo>
                  <a:pt x="1882" y="214"/>
                </a:lnTo>
                <a:lnTo>
                  <a:pt x="1889" y="214"/>
                </a:lnTo>
                <a:lnTo>
                  <a:pt x="1896" y="221"/>
                </a:lnTo>
                <a:lnTo>
                  <a:pt x="1903" y="228"/>
                </a:lnTo>
                <a:lnTo>
                  <a:pt x="1903" y="235"/>
                </a:lnTo>
                <a:lnTo>
                  <a:pt x="1910" y="235"/>
                </a:lnTo>
                <a:lnTo>
                  <a:pt x="1917" y="241"/>
                </a:lnTo>
                <a:lnTo>
                  <a:pt x="1924" y="248"/>
                </a:lnTo>
                <a:lnTo>
                  <a:pt x="1931" y="248"/>
                </a:lnTo>
                <a:lnTo>
                  <a:pt x="1938" y="248"/>
                </a:lnTo>
                <a:lnTo>
                  <a:pt x="1951" y="255"/>
                </a:lnTo>
                <a:lnTo>
                  <a:pt x="1951" y="255"/>
                </a:lnTo>
                <a:lnTo>
                  <a:pt x="1958" y="262"/>
                </a:lnTo>
                <a:lnTo>
                  <a:pt x="1965" y="269"/>
                </a:lnTo>
                <a:lnTo>
                  <a:pt x="1965" y="276"/>
                </a:lnTo>
                <a:lnTo>
                  <a:pt x="1972" y="276"/>
                </a:lnTo>
                <a:lnTo>
                  <a:pt x="1986" y="283"/>
                </a:lnTo>
                <a:lnTo>
                  <a:pt x="1993" y="283"/>
                </a:lnTo>
                <a:lnTo>
                  <a:pt x="2000" y="290"/>
                </a:lnTo>
                <a:lnTo>
                  <a:pt x="2007" y="290"/>
                </a:lnTo>
                <a:lnTo>
                  <a:pt x="2007" y="297"/>
                </a:lnTo>
                <a:lnTo>
                  <a:pt x="2000" y="303"/>
                </a:lnTo>
                <a:lnTo>
                  <a:pt x="2000" y="310"/>
                </a:lnTo>
                <a:lnTo>
                  <a:pt x="1993" y="310"/>
                </a:lnTo>
                <a:lnTo>
                  <a:pt x="1993" y="317"/>
                </a:lnTo>
                <a:lnTo>
                  <a:pt x="1986" y="324"/>
                </a:lnTo>
                <a:lnTo>
                  <a:pt x="1986" y="331"/>
                </a:lnTo>
                <a:lnTo>
                  <a:pt x="1979" y="338"/>
                </a:lnTo>
                <a:lnTo>
                  <a:pt x="1972" y="338"/>
                </a:lnTo>
                <a:lnTo>
                  <a:pt x="1958" y="331"/>
                </a:lnTo>
                <a:lnTo>
                  <a:pt x="1951" y="331"/>
                </a:lnTo>
                <a:lnTo>
                  <a:pt x="1938" y="331"/>
                </a:lnTo>
                <a:lnTo>
                  <a:pt x="1931" y="324"/>
                </a:lnTo>
                <a:lnTo>
                  <a:pt x="1924" y="324"/>
                </a:lnTo>
                <a:lnTo>
                  <a:pt x="1917" y="331"/>
                </a:lnTo>
                <a:lnTo>
                  <a:pt x="1903" y="331"/>
                </a:lnTo>
                <a:lnTo>
                  <a:pt x="1896" y="331"/>
                </a:lnTo>
                <a:lnTo>
                  <a:pt x="1889" y="331"/>
                </a:lnTo>
                <a:lnTo>
                  <a:pt x="1876" y="331"/>
                </a:lnTo>
                <a:lnTo>
                  <a:pt x="1869" y="331"/>
                </a:lnTo>
                <a:lnTo>
                  <a:pt x="1862" y="331"/>
                </a:lnTo>
                <a:lnTo>
                  <a:pt x="1855" y="324"/>
                </a:lnTo>
                <a:lnTo>
                  <a:pt x="1848" y="317"/>
                </a:lnTo>
                <a:lnTo>
                  <a:pt x="1841" y="317"/>
                </a:lnTo>
                <a:lnTo>
                  <a:pt x="1827" y="317"/>
                </a:lnTo>
                <a:lnTo>
                  <a:pt x="1820" y="317"/>
                </a:lnTo>
                <a:lnTo>
                  <a:pt x="1813" y="317"/>
                </a:lnTo>
                <a:lnTo>
                  <a:pt x="1800" y="317"/>
                </a:lnTo>
                <a:lnTo>
                  <a:pt x="1793" y="317"/>
                </a:lnTo>
                <a:lnTo>
                  <a:pt x="1779" y="317"/>
                </a:lnTo>
                <a:lnTo>
                  <a:pt x="1772" y="317"/>
                </a:lnTo>
                <a:lnTo>
                  <a:pt x="1765" y="317"/>
                </a:lnTo>
                <a:lnTo>
                  <a:pt x="1758" y="310"/>
                </a:lnTo>
                <a:lnTo>
                  <a:pt x="1758" y="303"/>
                </a:lnTo>
                <a:lnTo>
                  <a:pt x="1751" y="297"/>
                </a:lnTo>
                <a:lnTo>
                  <a:pt x="1745" y="297"/>
                </a:lnTo>
                <a:lnTo>
                  <a:pt x="1738" y="290"/>
                </a:lnTo>
                <a:lnTo>
                  <a:pt x="1724" y="290"/>
                </a:lnTo>
                <a:lnTo>
                  <a:pt x="1717" y="297"/>
                </a:lnTo>
                <a:lnTo>
                  <a:pt x="1710" y="297"/>
                </a:lnTo>
                <a:lnTo>
                  <a:pt x="1717" y="303"/>
                </a:lnTo>
                <a:lnTo>
                  <a:pt x="1724" y="310"/>
                </a:lnTo>
                <a:lnTo>
                  <a:pt x="1731" y="310"/>
                </a:lnTo>
                <a:lnTo>
                  <a:pt x="1731" y="317"/>
                </a:lnTo>
                <a:lnTo>
                  <a:pt x="1738" y="324"/>
                </a:lnTo>
                <a:lnTo>
                  <a:pt x="1738" y="331"/>
                </a:lnTo>
                <a:lnTo>
                  <a:pt x="1745" y="331"/>
                </a:lnTo>
                <a:lnTo>
                  <a:pt x="1751" y="338"/>
                </a:lnTo>
                <a:lnTo>
                  <a:pt x="1758" y="338"/>
                </a:lnTo>
                <a:lnTo>
                  <a:pt x="1765" y="345"/>
                </a:lnTo>
                <a:lnTo>
                  <a:pt x="1772" y="345"/>
                </a:lnTo>
                <a:lnTo>
                  <a:pt x="1779" y="352"/>
                </a:lnTo>
                <a:lnTo>
                  <a:pt x="1786" y="359"/>
                </a:lnTo>
                <a:lnTo>
                  <a:pt x="1786" y="359"/>
                </a:lnTo>
                <a:lnTo>
                  <a:pt x="1793" y="365"/>
                </a:lnTo>
                <a:lnTo>
                  <a:pt x="1800" y="372"/>
                </a:lnTo>
                <a:lnTo>
                  <a:pt x="1807" y="379"/>
                </a:lnTo>
                <a:lnTo>
                  <a:pt x="1807" y="379"/>
                </a:lnTo>
                <a:lnTo>
                  <a:pt x="1813" y="386"/>
                </a:lnTo>
                <a:lnTo>
                  <a:pt x="1813" y="393"/>
                </a:lnTo>
                <a:lnTo>
                  <a:pt x="1820" y="400"/>
                </a:lnTo>
                <a:lnTo>
                  <a:pt x="1820" y="407"/>
                </a:lnTo>
                <a:lnTo>
                  <a:pt x="1827" y="407"/>
                </a:lnTo>
                <a:lnTo>
                  <a:pt x="1834" y="414"/>
                </a:lnTo>
                <a:lnTo>
                  <a:pt x="1841" y="421"/>
                </a:lnTo>
                <a:lnTo>
                  <a:pt x="1834" y="427"/>
                </a:lnTo>
                <a:lnTo>
                  <a:pt x="1827" y="427"/>
                </a:lnTo>
                <a:lnTo>
                  <a:pt x="1820" y="434"/>
                </a:lnTo>
                <a:lnTo>
                  <a:pt x="1813" y="434"/>
                </a:lnTo>
                <a:lnTo>
                  <a:pt x="1800" y="434"/>
                </a:lnTo>
                <a:lnTo>
                  <a:pt x="1793" y="441"/>
                </a:lnTo>
                <a:lnTo>
                  <a:pt x="1793" y="448"/>
                </a:lnTo>
                <a:lnTo>
                  <a:pt x="1786" y="448"/>
                </a:lnTo>
                <a:lnTo>
                  <a:pt x="1786" y="455"/>
                </a:lnTo>
                <a:lnTo>
                  <a:pt x="1779" y="462"/>
                </a:lnTo>
                <a:lnTo>
                  <a:pt x="1779" y="469"/>
                </a:lnTo>
                <a:lnTo>
                  <a:pt x="1779" y="476"/>
                </a:lnTo>
                <a:lnTo>
                  <a:pt x="1779" y="483"/>
                </a:lnTo>
                <a:lnTo>
                  <a:pt x="1779" y="489"/>
                </a:lnTo>
                <a:lnTo>
                  <a:pt x="1772" y="489"/>
                </a:lnTo>
                <a:lnTo>
                  <a:pt x="1772" y="496"/>
                </a:lnTo>
                <a:lnTo>
                  <a:pt x="1765" y="503"/>
                </a:lnTo>
                <a:lnTo>
                  <a:pt x="1758" y="510"/>
                </a:lnTo>
                <a:lnTo>
                  <a:pt x="1758" y="510"/>
                </a:lnTo>
                <a:lnTo>
                  <a:pt x="1745" y="517"/>
                </a:lnTo>
                <a:lnTo>
                  <a:pt x="1738" y="524"/>
                </a:lnTo>
                <a:lnTo>
                  <a:pt x="1731" y="524"/>
                </a:lnTo>
                <a:lnTo>
                  <a:pt x="1724" y="531"/>
                </a:lnTo>
                <a:lnTo>
                  <a:pt x="1717" y="531"/>
                </a:lnTo>
                <a:lnTo>
                  <a:pt x="1710" y="538"/>
                </a:lnTo>
                <a:lnTo>
                  <a:pt x="1703" y="538"/>
                </a:lnTo>
                <a:lnTo>
                  <a:pt x="1696" y="538"/>
                </a:lnTo>
                <a:lnTo>
                  <a:pt x="1682" y="538"/>
                </a:lnTo>
                <a:lnTo>
                  <a:pt x="1676" y="538"/>
                </a:lnTo>
                <a:lnTo>
                  <a:pt x="1669" y="531"/>
                </a:lnTo>
                <a:lnTo>
                  <a:pt x="1662" y="531"/>
                </a:lnTo>
                <a:lnTo>
                  <a:pt x="1655" y="524"/>
                </a:lnTo>
                <a:lnTo>
                  <a:pt x="1648" y="524"/>
                </a:lnTo>
                <a:lnTo>
                  <a:pt x="1634" y="524"/>
                </a:lnTo>
                <a:lnTo>
                  <a:pt x="1627" y="517"/>
                </a:lnTo>
                <a:lnTo>
                  <a:pt x="1620" y="517"/>
                </a:lnTo>
                <a:lnTo>
                  <a:pt x="1614" y="510"/>
                </a:lnTo>
                <a:lnTo>
                  <a:pt x="1607" y="510"/>
                </a:lnTo>
                <a:lnTo>
                  <a:pt x="1600" y="503"/>
                </a:lnTo>
                <a:lnTo>
                  <a:pt x="1593" y="503"/>
                </a:lnTo>
                <a:lnTo>
                  <a:pt x="1579" y="496"/>
                </a:lnTo>
                <a:lnTo>
                  <a:pt x="1572" y="496"/>
                </a:lnTo>
                <a:lnTo>
                  <a:pt x="1565" y="489"/>
                </a:lnTo>
                <a:lnTo>
                  <a:pt x="1558" y="489"/>
                </a:lnTo>
                <a:lnTo>
                  <a:pt x="1551" y="489"/>
                </a:lnTo>
                <a:lnTo>
                  <a:pt x="1545" y="483"/>
                </a:lnTo>
                <a:lnTo>
                  <a:pt x="1538" y="483"/>
                </a:lnTo>
                <a:lnTo>
                  <a:pt x="1531" y="476"/>
                </a:lnTo>
                <a:lnTo>
                  <a:pt x="1524" y="469"/>
                </a:lnTo>
                <a:lnTo>
                  <a:pt x="1517" y="462"/>
                </a:lnTo>
                <a:lnTo>
                  <a:pt x="1517" y="455"/>
                </a:lnTo>
                <a:lnTo>
                  <a:pt x="1510" y="455"/>
                </a:lnTo>
                <a:lnTo>
                  <a:pt x="1496" y="455"/>
                </a:lnTo>
                <a:lnTo>
                  <a:pt x="1489" y="455"/>
                </a:lnTo>
                <a:lnTo>
                  <a:pt x="1483" y="462"/>
                </a:lnTo>
                <a:lnTo>
                  <a:pt x="1469" y="462"/>
                </a:lnTo>
                <a:lnTo>
                  <a:pt x="1462" y="462"/>
                </a:lnTo>
                <a:lnTo>
                  <a:pt x="1455" y="469"/>
                </a:lnTo>
                <a:lnTo>
                  <a:pt x="1448" y="469"/>
                </a:lnTo>
                <a:lnTo>
                  <a:pt x="1434" y="469"/>
                </a:lnTo>
                <a:lnTo>
                  <a:pt x="1427" y="469"/>
                </a:lnTo>
                <a:lnTo>
                  <a:pt x="1420" y="469"/>
                </a:lnTo>
                <a:lnTo>
                  <a:pt x="1407" y="469"/>
                </a:lnTo>
                <a:lnTo>
                  <a:pt x="1400" y="469"/>
                </a:lnTo>
                <a:lnTo>
                  <a:pt x="1393" y="476"/>
                </a:lnTo>
                <a:lnTo>
                  <a:pt x="1386" y="476"/>
                </a:lnTo>
                <a:lnTo>
                  <a:pt x="1379" y="483"/>
                </a:lnTo>
                <a:lnTo>
                  <a:pt x="1372" y="483"/>
                </a:lnTo>
                <a:lnTo>
                  <a:pt x="1365" y="489"/>
                </a:lnTo>
                <a:lnTo>
                  <a:pt x="1358" y="496"/>
                </a:lnTo>
                <a:lnTo>
                  <a:pt x="1352" y="496"/>
                </a:lnTo>
                <a:lnTo>
                  <a:pt x="1345" y="503"/>
                </a:lnTo>
                <a:lnTo>
                  <a:pt x="1338" y="510"/>
                </a:lnTo>
                <a:lnTo>
                  <a:pt x="1338" y="517"/>
                </a:lnTo>
                <a:lnTo>
                  <a:pt x="1331" y="524"/>
                </a:lnTo>
                <a:lnTo>
                  <a:pt x="1331" y="524"/>
                </a:lnTo>
                <a:lnTo>
                  <a:pt x="1324" y="524"/>
                </a:lnTo>
                <a:lnTo>
                  <a:pt x="1317" y="517"/>
                </a:lnTo>
                <a:lnTo>
                  <a:pt x="1317" y="510"/>
                </a:lnTo>
                <a:lnTo>
                  <a:pt x="1317" y="503"/>
                </a:lnTo>
                <a:lnTo>
                  <a:pt x="1317" y="496"/>
                </a:lnTo>
                <a:lnTo>
                  <a:pt x="1324" y="489"/>
                </a:lnTo>
                <a:lnTo>
                  <a:pt x="1324" y="483"/>
                </a:lnTo>
                <a:lnTo>
                  <a:pt x="1331" y="476"/>
                </a:lnTo>
                <a:lnTo>
                  <a:pt x="1331" y="476"/>
                </a:lnTo>
                <a:lnTo>
                  <a:pt x="1324" y="469"/>
                </a:lnTo>
                <a:lnTo>
                  <a:pt x="1310" y="469"/>
                </a:lnTo>
                <a:lnTo>
                  <a:pt x="1303" y="469"/>
                </a:lnTo>
                <a:lnTo>
                  <a:pt x="1296" y="476"/>
                </a:lnTo>
                <a:lnTo>
                  <a:pt x="1289" y="483"/>
                </a:lnTo>
                <a:lnTo>
                  <a:pt x="1289" y="489"/>
                </a:lnTo>
                <a:lnTo>
                  <a:pt x="1289" y="489"/>
                </a:lnTo>
                <a:lnTo>
                  <a:pt x="1289" y="496"/>
                </a:lnTo>
                <a:lnTo>
                  <a:pt x="1289" y="503"/>
                </a:lnTo>
                <a:lnTo>
                  <a:pt x="1283" y="510"/>
                </a:lnTo>
                <a:lnTo>
                  <a:pt x="1283" y="517"/>
                </a:lnTo>
                <a:lnTo>
                  <a:pt x="1283" y="524"/>
                </a:lnTo>
                <a:lnTo>
                  <a:pt x="1283" y="531"/>
                </a:lnTo>
                <a:lnTo>
                  <a:pt x="1283" y="538"/>
                </a:lnTo>
                <a:lnTo>
                  <a:pt x="1276" y="538"/>
                </a:lnTo>
                <a:lnTo>
                  <a:pt x="1276" y="545"/>
                </a:lnTo>
                <a:lnTo>
                  <a:pt x="1276" y="551"/>
                </a:lnTo>
                <a:lnTo>
                  <a:pt x="1276" y="558"/>
                </a:lnTo>
                <a:lnTo>
                  <a:pt x="1269" y="565"/>
                </a:lnTo>
                <a:lnTo>
                  <a:pt x="1269" y="572"/>
                </a:lnTo>
                <a:lnTo>
                  <a:pt x="1269" y="579"/>
                </a:lnTo>
                <a:lnTo>
                  <a:pt x="1262" y="579"/>
                </a:lnTo>
                <a:lnTo>
                  <a:pt x="1262" y="586"/>
                </a:lnTo>
                <a:lnTo>
                  <a:pt x="1262" y="593"/>
                </a:lnTo>
                <a:lnTo>
                  <a:pt x="1262" y="600"/>
                </a:lnTo>
                <a:lnTo>
                  <a:pt x="1255" y="607"/>
                </a:lnTo>
                <a:lnTo>
                  <a:pt x="1255" y="613"/>
                </a:lnTo>
                <a:lnTo>
                  <a:pt x="1255" y="620"/>
                </a:lnTo>
                <a:lnTo>
                  <a:pt x="1248" y="620"/>
                </a:lnTo>
                <a:lnTo>
                  <a:pt x="1248" y="627"/>
                </a:lnTo>
                <a:lnTo>
                  <a:pt x="1248" y="634"/>
                </a:lnTo>
                <a:lnTo>
                  <a:pt x="1241" y="641"/>
                </a:lnTo>
                <a:lnTo>
                  <a:pt x="1241" y="648"/>
                </a:lnTo>
                <a:lnTo>
                  <a:pt x="1241" y="655"/>
                </a:lnTo>
                <a:lnTo>
                  <a:pt x="1241" y="662"/>
                </a:lnTo>
                <a:lnTo>
                  <a:pt x="1234" y="662"/>
                </a:lnTo>
                <a:lnTo>
                  <a:pt x="1227" y="669"/>
                </a:lnTo>
                <a:lnTo>
                  <a:pt x="1221" y="675"/>
                </a:lnTo>
                <a:lnTo>
                  <a:pt x="1221" y="682"/>
                </a:lnTo>
                <a:lnTo>
                  <a:pt x="1221" y="689"/>
                </a:lnTo>
                <a:lnTo>
                  <a:pt x="1221" y="689"/>
                </a:lnTo>
                <a:lnTo>
                  <a:pt x="1227" y="696"/>
                </a:lnTo>
                <a:lnTo>
                  <a:pt x="1227" y="703"/>
                </a:lnTo>
                <a:lnTo>
                  <a:pt x="1227" y="710"/>
                </a:lnTo>
                <a:lnTo>
                  <a:pt x="1221" y="717"/>
                </a:lnTo>
                <a:lnTo>
                  <a:pt x="1221" y="724"/>
                </a:lnTo>
                <a:lnTo>
                  <a:pt x="1207" y="724"/>
                </a:lnTo>
                <a:lnTo>
                  <a:pt x="1200" y="731"/>
                </a:lnTo>
                <a:lnTo>
                  <a:pt x="1193" y="731"/>
                </a:lnTo>
                <a:lnTo>
                  <a:pt x="1186" y="731"/>
                </a:lnTo>
                <a:lnTo>
                  <a:pt x="1172" y="731"/>
                </a:lnTo>
                <a:lnTo>
                  <a:pt x="1165" y="731"/>
                </a:lnTo>
                <a:lnTo>
                  <a:pt x="1158" y="731"/>
                </a:lnTo>
                <a:lnTo>
                  <a:pt x="1145" y="731"/>
                </a:lnTo>
                <a:lnTo>
                  <a:pt x="1138" y="724"/>
                </a:lnTo>
                <a:lnTo>
                  <a:pt x="1131" y="724"/>
                </a:lnTo>
                <a:lnTo>
                  <a:pt x="1117" y="724"/>
                </a:lnTo>
                <a:lnTo>
                  <a:pt x="1110" y="724"/>
                </a:lnTo>
                <a:lnTo>
                  <a:pt x="1103" y="731"/>
                </a:lnTo>
                <a:lnTo>
                  <a:pt x="1090" y="731"/>
                </a:lnTo>
                <a:lnTo>
                  <a:pt x="1083" y="731"/>
                </a:lnTo>
                <a:lnTo>
                  <a:pt x="1069" y="731"/>
                </a:lnTo>
                <a:lnTo>
                  <a:pt x="1062" y="737"/>
                </a:lnTo>
                <a:lnTo>
                  <a:pt x="1062" y="737"/>
                </a:lnTo>
                <a:lnTo>
                  <a:pt x="1055" y="744"/>
                </a:lnTo>
                <a:lnTo>
                  <a:pt x="1055" y="751"/>
                </a:lnTo>
                <a:lnTo>
                  <a:pt x="1048" y="758"/>
                </a:lnTo>
                <a:lnTo>
                  <a:pt x="1041" y="765"/>
                </a:lnTo>
                <a:lnTo>
                  <a:pt x="1041" y="765"/>
                </a:lnTo>
                <a:lnTo>
                  <a:pt x="1034" y="772"/>
                </a:lnTo>
                <a:lnTo>
                  <a:pt x="1034" y="779"/>
                </a:lnTo>
                <a:lnTo>
                  <a:pt x="1027" y="786"/>
                </a:lnTo>
                <a:lnTo>
                  <a:pt x="1027" y="786"/>
                </a:lnTo>
                <a:lnTo>
                  <a:pt x="1021" y="793"/>
                </a:lnTo>
                <a:lnTo>
                  <a:pt x="1014" y="799"/>
                </a:lnTo>
                <a:lnTo>
                  <a:pt x="1014" y="806"/>
                </a:lnTo>
                <a:lnTo>
                  <a:pt x="1007" y="813"/>
                </a:lnTo>
                <a:lnTo>
                  <a:pt x="1007" y="813"/>
                </a:lnTo>
                <a:lnTo>
                  <a:pt x="1000" y="820"/>
                </a:lnTo>
                <a:lnTo>
                  <a:pt x="1000" y="827"/>
                </a:lnTo>
                <a:lnTo>
                  <a:pt x="993" y="834"/>
                </a:lnTo>
                <a:lnTo>
                  <a:pt x="993" y="841"/>
                </a:lnTo>
                <a:lnTo>
                  <a:pt x="986" y="841"/>
                </a:lnTo>
                <a:lnTo>
                  <a:pt x="979" y="848"/>
                </a:lnTo>
                <a:lnTo>
                  <a:pt x="979" y="855"/>
                </a:lnTo>
                <a:lnTo>
                  <a:pt x="972" y="861"/>
                </a:lnTo>
                <a:lnTo>
                  <a:pt x="972" y="868"/>
                </a:lnTo>
                <a:lnTo>
                  <a:pt x="972" y="868"/>
                </a:lnTo>
                <a:lnTo>
                  <a:pt x="965" y="875"/>
                </a:lnTo>
                <a:lnTo>
                  <a:pt x="965" y="882"/>
                </a:lnTo>
                <a:lnTo>
                  <a:pt x="965" y="889"/>
                </a:lnTo>
                <a:lnTo>
                  <a:pt x="965" y="896"/>
                </a:lnTo>
                <a:lnTo>
                  <a:pt x="965" y="903"/>
                </a:lnTo>
                <a:lnTo>
                  <a:pt x="959" y="910"/>
                </a:lnTo>
                <a:lnTo>
                  <a:pt x="959" y="910"/>
                </a:lnTo>
                <a:lnTo>
                  <a:pt x="952" y="917"/>
                </a:lnTo>
                <a:lnTo>
                  <a:pt x="952" y="923"/>
                </a:lnTo>
                <a:lnTo>
                  <a:pt x="945" y="930"/>
                </a:lnTo>
                <a:lnTo>
                  <a:pt x="938" y="923"/>
                </a:lnTo>
                <a:lnTo>
                  <a:pt x="931" y="917"/>
                </a:lnTo>
                <a:lnTo>
                  <a:pt x="931" y="910"/>
                </a:lnTo>
                <a:lnTo>
                  <a:pt x="924" y="903"/>
                </a:lnTo>
                <a:lnTo>
                  <a:pt x="924" y="896"/>
                </a:lnTo>
                <a:lnTo>
                  <a:pt x="924" y="896"/>
                </a:lnTo>
                <a:lnTo>
                  <a:pt x="924" y="889"/>
                </a:lnTo>
                <a:lnTo>
                  <a:pt x="924" y="882"/>
                </a:lnTo>
                <a:lnTo>
                  <a:pt x="924" y="875"/>
                </a:lnTo>
                <a:lnTo>
                  <a:pt x="924" y="875"/>
                </a:lnTo>
                <a:lnTo>
                  <a:pt x="917" y="868"/>
                </a:lnTo>
                <a:lnTo>
                  <a:pt x="917" y="855"/>
                </a:lnTo>
                <a:lnTo>
                  <a:pt x="917" y="848"/>
                </a:lnTo>
                <a:lnTo>
                  <a:pt x="917" y="848"/>
                </a:lnTo>
                <a:lnTo>
                  <a:pt x="917" y="855"/>
                </a:lnTo>
                <a:lnTo>
                  <a:pt x="917" y="868"/>
                </a:lnTo>
                <a:lnTo>
                  <a:pt x="917" y="875"/>
                </a:lnTo>
                <a:lnTo>
                  <a:pt x="910" y="875"/>
                </a:lnTo>
                <a:lnTo>
                  <a:pt x="910" y="882"/>
                </a:lnTo>
                <a:lnTo>
                  <a:pt x="910" y="889"/>
                </a:lnTo>
                <a:lnTo>
                  <a:pt x="910" y="896"/>
                </a:lnTo>
                <a:lnTo>
                  <a:pt x="910" y="903"/>
                </a:lnTo>
                <a:lnTo>
                  <a:pt x="910" y="903"/>
                </a:lnTo>
                <a:lnTo>
                  <a:pt x="910" y="910"/>
                </a:lnTo>
                <a:lnTo>
                  <a:pt x="910" y="917"/>
                </a:lnTo>
                <a:lnTo>
                  <a:pt x="910" y="923"/>
                </a:lnTo>
                <a:lnTo>
                  <a:pt x="910" y="930"/>
                </a:lnTo>
                <a:lnTo>
                  <a:pt x="917" y="937"/>
                </a:lnTo>
                <a:lnTo>
                  <a:pt x="910" y="944"/>
                </a:lnTo>
                <a:lnTo>
                  <a:pt x="910" y="951"/>
                </a:lnTo>
                <a:lnTo>
                  <a:pt x="903" y="951"/>
                </a:lnTo>
                <a:lnTo>
                  <a:pt x="896" y="958"/>
                </a:lnTo>
                <a:lnTo>
                  <a:pt x="883" y="958"/>
                </a:lnTo>
                <a:lnTo>
                  <a:pt x="876" y="951"/>
                </a:lnTo>
                <a:lnTo>
                  <a:pt x="862" y="951"/>
                </a:lnTo>
                <a:lnTo>
                  <a:pt x="855" y="951"/>
                </a:lnTo>
                <a:lnTo>
                  <a:pt x="848" y="951"/>
                </a:lnTo>
                <a:lnTo>
                  <a:pt x="841" y="951"/>
                </a:lnTo>
                <a:lnTo>
                  <a:pt x="828" y="958"/>
                </a:lnTo>
                <a:lnTo>
                  <a:pt x="821" y="958"/>
                </a:lnTo>
                <a:lnTo>
                  <a:pt x="814" y="965"/>
                </a:lnTo>
                <a:lnTo>
                  <a:pt x="807" y="965"/>
                </a:lnTo>
                <a:lnTo>
                  <a:pt x="800" y="972"/>
                </a:lnTo>
                <a:lnTo>
                  <a:pt x="793" y="972"/>
                </a:lnTo>
                <a:lnTo>
                  <a:pt x="786" y="979"/>
                </a:lnTo>
                <a:lnTo>
                  <a:pt x="779" y="985"/>
                </a:lnTo>
                <a:lnTo>
                  <a:pt x="779" y="985"/>
                </a:lnTo>
                <a:lnTo>
                  <a:pt x="772" y="992"/>
                </a:lnTo>
                <a:lnTo>
                  <a:pt x="772" y="999"/>
                </a:lnTo>
                <a:lnTo>
                  <a:pt x="772" y="1006"/>
                </a:lnTo>
                <a:lnTo>
                  <a:pt x="765" y="1013"/>
                </a:lnTo>
                <a:lnTo>
                  <a:pt x="759" y="1013"/>
                </a:lnTo>
                <a:lnTo>
                  <a:pt x="752" y="1013"/>
                </a:lnTo>
                <a:lnTo>
                  <a:pt x="738" y="1013"/>
                </a:lnTo>
                <a:lnTo>
                  <a:pt x="731" y="1013"/>
                </a:lnTo>
                <a:lnTo>
                  <a:pt x="717" y="1013"/>
                </a:lnTo>
                <a:lnTo>
                  <a:pt x="710" y="1013"/>
                </a:lnTo>
                <a:lnTo>
                  <a:pt x="710" y="1006"/>
                </a:lnTo>
                <a:lnTo>
                  <a:pt x="703" y="999"/>
                </a:lnTo>
                <a:lnTo>
                  <a:pt x="696" y="999"/>
                </a:lnTo>
                <a:lnTo>
                  <a:pt x="690" y="992"/>
                </a:lnTo>
                <a:lnTo>
                  <a:pt x="690" y="985"/>
                </a:lnTo>
                <a:lnTo>
                  <a:pt x="683" y="979"/>
                </a:lnTo>
                <a:lnTo>
                  <a:pt x="676" y="979"/>
                </a:lnTo>
                <a:lnTo>
                  <a:pt x="669" y="972"/>
                </a:lnTo>
                <a:lnTo>
                  <a:pt x="662" y="965"/>
                </a:lnTo>
                <a:lnTo>
                  <a:pt x="655" y="965"/>
                </a:lnTo>
                <a:lnTo>
                  <a:pt x="648" y="958"/>
                </a:lnTo>
                <a:lnTo>
                  <a:pt x="641" y="951"/>
                </a:lnTo>
                <a:lnTo>
                  <a:pt x="641" y="951"/>
                </a:lnTo>
                <a:lnTo>
                  <a:pt x="634" y="944"/>
                </a:lnTo>
                <a:lnTo>
                  <a:pt x="628" y="937"/>
                </a:lnTo>
                <a:lnTo>
                  <a:pt x="621" y="937"/>
                </a:lnTo>
                <a:lnTo>
                  <a:pt x="614" y="937"/>
                </a:lnTo>
                <a:lnTo>
                  <a:pt x="614" y="944"/>
                </a:lnTo>
                <a:lnTo>
                  <a:pt x="614" y="951"/>
                </a:lnTo>
                <a:lnTo>
                  <a:pt x="614" y="958"/>
                </a:lnTo>
                <a:lnTo>
                  <a:pt x="614" y="965"/>
                </a:lnTo>
                <a:lnTo>
                  <a:pt x="614" y="972"/>
                </a:lnTo>
                <a:lnTo>
                  <a:pt x="621" y="979"/>
                </a:lnTo>
                <a:lnTo>
                  <a:pt x="621" y="979"/>
                </a:lnTo>
                <a:lnTo>
                  <a:pt x="628" y="985"/>
                </a:lnTo>
                <a:lnTo>
                  <a:pt x="628" y="992"/>
                </a:lnTo>
                <a:lnTo>
                  <a:pt x="634" y="999"/>
                </a:lnTo>
                <a:lnTo>
                  <a:pt x="634" y="1006"/>
                </a:lnTo>
                <a:lnTo>
                  <a:pt x="641" y="1006"/>
                </a:lnTo>
                <a:lnTo>
                  <a:pt x="641" y="1013"/>
                </a:lnTo>
                <a:lnTo>
                  <a:pt x="648" y="1020"/>
                </a:lnTo>
                <a:lnTo>
                  <a:pt x="655" y="1027"/>
                </a:lnTo>
                <a:lnTo>
                  <a:pt x="655" y="1034"/>
                </a:lnTo>
                <a:lnTo>
                  <a:pt x="662" y="1034"/>
                </a:lnTo>
                <a:lnTo>
                  <a:pt x="662" y="1041"/>
                </a:lnTo>
                <a:lnTo>
                  <a:pt x="669" y="1047"/>
                </a:lnTo>
                <a:lnTo>
                  <a:pt x="669" y="1054"/>
                </a:lnTo>
                <a:lnTo>
                  <a:pt x="669" y="1061"/>
                </a:lnTo>
                <a:lnTo>
                  <a:pt x="669" y="1068"/>
                </a:lnTo>
                <a:lnTo>
                  <a:pt x="676" y="1068"/>
                </a:lnTo>
                <a:lnTo>
                  <a:pt x="683" y="1075"/>
                </a:lnTo>
                <a:lnTo>
                  <a:pt x="683" y="1082"/>
                </a:lnTo>
                <a:lnTo>
                  <a:pt x="690" y="1089"/>
                </a:lnTo>
                <a:lnTo>
                  <a:pt x="690" y="1096"/>
                </a:lnTo>
                <a:lnTo>
                  <a:pt x="696" y="1096"/>
                </a:lnTo>
                <a:lnTo>
                  <a:pt x="696" y="1103"/>
                </a:lnTo>
                <a:lnTo>
                  <a:pt x="703" y="1109"/>
                </a:lnTo>
                <a:lnTo>
                  <a:pt x="703" y="1116"/>
                </a:lnTo>
                <a:lnTo>
                  <a:pt x="710" y="1123"/>
                </a:lnTo>
                <a:lnTo>
                  <a:pt x="717" y="1123"/>
                </a:lnTo>
                <a:lnTo>
                  <a:pt x="717" y="1130"/>
                </a:lnTo>
                <a:lnTo>
                  <a:pt x="717" y="1137"/>
                </a:lnTo>
                <a:lnTo>
                  <a:pt x="717" y="1144"/>
                </a:lnTo>
                <a:lnTo>
                  <a:pt x="710" y="1151"/>
                </a:lnTo>
                <a:lnTo>
                  <a:pt x="710" y="1158"/>
                </a:lnTo>
                <a:lnTo>
                  <a:pt x="703" y="1158"/>
                </a:lnTo>
                <a:lnTo>
                  <a:pt x="696" y="1165"/>
                </a:lnTo>
                <a:lnTo>
                  <a:pt x="690" y="1171"/>
                </a:lnTo>
                <a:lnTo>
                  <a:pt x="683" y="1171"/>
                </a:lnTo>
                <a:lnTo>
                  <a:pt x="676" y="1178"/>
                </a:lnTo>
                <a:lnTo>
                  <a:pt x="669" y="1178"/>
                </a:lnTo>
                <a:lnTo>
                  <a:pt x="662" y="1185"/>
                </a:lnTo>
                <a:lnTo>
                  <a:pt x="655" y="1192"/>
                </a:lnTo>
                <a:lnTo>
                  <a:pt x="648" y="1192"/>
                </a:lnTo>
                <a:lnTo>
                  <a:pt x="641" y="1192"/>
                </a:lnTo>
                <a:lnTo>
                  <a:pt x="628" y="1199"/>
                </a:lnTo>
                <a:lnTo>
                  <a:pt x="621" y="1199"/>
                </a:lnTo>
                <a:lnTo>
                  <a:pt x="614" y="1199"/>
                </a:lnTo>
                <a:lnTo>
                  <a:pt x="600" y="1199"/>
                </a:lnTo>
                <a:lnTo>
                  <a:pt x="593" y="1199"/>
                </a:lnTo>
                <a:lnTo>
                  <a:pt x="586" y="1199"/>
                </a:lnTo>
                <a:lnTo>
                  <a:pt x="572" y="1199"/>
                </a:lnTo>
                <a:lnTo>
                  <a:pt x="565" y="1199"/>
                </a:lnTo>
                <a:lnTo>
                  <a:pt x="559" y="1199"/>
                </a:lnTo>
                <a:lnTo>
                  <a:pt x="545" y="1199"/>
                </a:lnTo>
                <a:lnTo>
                  <a:pt x="538" y="1206"/>
                </a:lnTo>
                <a:lnTo>
                  <a:pt x="531" y="1206"/>
                </a:lnTo>
                <a:lnTo>
                  <a:pt x="524" y="1213"/>
                </a:lnTo>
                <a:lnTo>
                  <a:pt x="524" y="1220"/>
                </a:lnTo>
                <a:lnTo>
                  <a:pt x="524" y="1227"/>
                </a:lnTo>
                <a:lnTo>
                  <a:pt x="524" y="1233"/>
                </a:lnTo>
                <a:lnTo>
                  <a:pt x="524" y="1240"/>
                </a:lnTo>
                <a:lnTo>
                  <a:pt x="524" y="1240"/>
                </a:lnTo>
                <a:lnTo>
                  <a:pt x="517" y="1247"/>
                </a:lnTo>
                <a:lnTo>
                  <a:pt x="517" y="1254"/>
                </a:lnTo>
                <a:lnTo>
                  <a:pt x="517" y="1261"/>
                </a:lnTo>
                <a:lnTo>
                  <a:pt x="510" y="1268"/>
                </a:lnTo>
                <a:lnTo>
                  <a:pt x="510" y="1275"/>
                </a:lnTo>
                <a:lnTo>
                  <a:pt x="510" y="1282"/>
                </a:lnTo>
                <a:lnTo>
                  <a:pt x="503" y="1289"/>
                </a:lnTo>
                <a:lnTo>
                  <a:pt x="503" y="1289"/>
                </a:lnTo>
                <a:lnTo>
                  <a:pt x="497" y="1289"/>
                </a:lnTo>
                <a:lnTo>
                  <a:pt x="490" y="1289"/>
                </a:lnTo>
                <a:lnTo>
                  <a:pt x="476" y="1282"/>
                </a:lnTo>
                <a:lnTo>
                  <a:pt x="469" y="1282"/>
                </a:lnTo>
                <a:lnTo>
                  <a:pt x="462" y="1282"/>
                </a:lnTo>
                <a:lnTo>
                  <a:pt x="448" y="1282"/>
                </a:lnTo>
                <a:lnTo>
                  <a:pt x="441" y="1282"/>
                </a:lnTo>
                <a:lnTo>
                  <a:pt x="434" y="1282"/>
                </a:lnTo>
                <a:lnTo>
                  <a:pt x="421" y="1282"/>
                </a:lnTo>
                <a:lnTo>
                  <a:pt x="414" y="1282"/>
                </a:lnTo>
                <a:lnTo>
                  <a:pt x="407" y="1289"/>
                </a:lnTo>
                <a:lnTo>
                  <a:pt x="393" y="1289"/>
                </a:lnTo>
                <a:lnTo>
                  <a:pt x="386" y="1289"/>
                </a:lnTo>
                <a:lnTo>
                  <a:pt x="379" y="1295"/>
                </a:lnTo>
                <a:lnTo>
                  <a:pt x="379" y="1295"/>
                </a:lnTo>
                <a:lnTo>
                  <a:pt x="379" y="1302"/>
                </a:lnTo>
                <a:lnTo>
                  <a:pt x="379" y="1309"/>
                </a:lnTo>
                <a:lnTo>
                  <a:pt x="386" y="1316"/>
                </a:lnTo>
                <a:lnTo>
                  <a:pt x="386" y="1323"/>
                </a:lnTo>
                <a:lnTo>
                  <a:pt x="393" y="1330"/>
                </a:lnTo>
                <a:lnTo>
                  <a:pt x="393" y="1330"/>
                </a:lnTo>
                <a:lnTo>
                  <a:pt x="393" y="1337"/>
                </a:lnTo>
                <a:lnTo>
                  <a:pt x="400" y="1344"/>
                </a:lnTo>
                <a:lnTo>
                  <a:pt x="407" y="1351"/>
                </a:lnTo>
                <a:lnTo>
                  <a:pt x="407" y="1357"/>
                </a:lnTo>
                <a:lnTo>
                  <a:pt x="414" y="1357"/>
                </a:lnTo>
                <a:lnTo>
                  <a:pt x="414" y="1364"/>
                </a:lnTo>
                <a:lnTo>
                  <a:pt x="407" y="1364"/>
                </a:lnTo>
                <a:lnTo>
                  <a:pt x="400" y="1357"/>
                </a:lnTo>
                <a:lnTo>
                  <a:pt x="393" y="1357"/>
                </a:lnTo>
                <a:lnTo>
                  <a:pt x="393" y="1351"/>
                </a:lnTo>
                <a:lnTo>
                  <a:pt x="386" y="1344"/>
                </a:lnTo>
                <a:lnTo>
                  <a:pt x="379" y="1344"/>
                </a:lnTo>
                <a:lnTo>
                  <a:pt x="372" y="1337"/>
                </a:lnTo>
                <a:lnTo>
                  <a:pt x="366" y="1337"/>
                </a:lnTo>
                <a:lnTo>
                  <a:pt x="359" y="1330"/>
                </a:lnTo>
                <a:lnTo>
                  <a:pt x="352" y="1323"/>
                </a:lnTo>
                <a:lnTo>
                  <a:pt x="345" y="1323"/>
                </a:lnTo>
                <a:lnTo>
                  <a:pt x="338" y="1316"/>
                </a:lnTo>
                <a:lnTo>
                  <a:pt x="331" y="1316"/>
                </a:lnTo>
                <a:lnTo>
                  <a:pt x="324" y="1309"/>
                </a:lnTo>
                <a:lnTo>
                  <a:pt x="310" y="1309"/>
                </a:lnTo>
                <a:lnTo>
                  <a:pt x="303" y="1309"/>
                </a:lnTo>
                <a:lnTo>
                  <a:pt x="297" y="1302"/>
                </a:lnTo>
                <a:lnTo>
                  <a:pt x="290" y="1302"/>
                </a:lnTo>
                <a:lnTo>
                  <a:pt x="276" y="1302"/>
                </a:lnTo>
                <a:lnTo>
                  <a:pt x="269" y="1295"/>
                </a:lnTo>
                <a:lnTo>
                  <a:pt x="262" y="1295"/>
                </a:lnTo>
                <a:lnTo>
                  <a:pt x="255" y="1295"/>
                </a:lnTo>
                <a:lnTo>
                  <a:pt x="241" y="1289"/>
                </a:lnTo>
                <a:lnTo>
                  <a:pt x="235" y="1289"/>
                </a:lnTo>
                <a:lnTo>
                  <a:pt x="228" y="1289"/>
                </a:lnTo>
                <a:lnTo>
                  <a:pt x="221" y="1282"/>
                </a:lnTo>
                <a:lnTo>
                  <a:pt x="207" y="1282"/>
                </a:lnTo>
                <a:lnTo>
                  <a:pt x="200" y="1282"/>
                </a:lnTo>
                <a:lnTo>
                  <a:pt x="193" y="1275"/>
                </a:lnTo>
                <a:lnTo>
                  <a:pt x="186" y="1275"/>
                </a:lnTo>
                <a:lnTo>
                  <a:pt x="172" y="1275"/>
                </a:lnTo>
                <a:lnTo>
                  <a:pt x="166" y="1268"/>
                </a:lnTo>
                <a:lnTo>
                  <a:pt x="159" y="1268"/>
                </a:lnTo>
                <a:lnTo>
                  <a:pt x="152" y="1268"/>
                </a:lnTo>
                <a:lnTo>
                  <a:pt x="138" y="1268"/>
                </a:lnTo>
                <a:lnTo>
                  <a:pt x="131" y="1261"/>
                </a:lnTo>
                <a:lnTo>
                  <a:pt x="124" y="1261"/>
                </a:lnTo>
                <a:lnTo>
                  <a:pt x="110" y="1261"/>
                </a:lnTo>
                <a:lnTo>
                  <a:pt x="104" y="1261"/>
                </a:lnTo>
                <a:lnTo>
                  <a:pt x="97" y="1261"/>
                </a:lnTo>
                <a:lnTo>
                  <a:pt x="83" y="1261"/>
                </a:lnTo>
                <a:lnTo>
                  <a:pt x="76" y="1261"/>
                </a:lnTo>
                <a:lnTo>
                  <a:pt x="69" y="1261"/>
                </a:lnTo>
                <a:lnTo>
                  <a:pt x="62" y="1261"/>
                </a:lnTo>
                <a:lnTo>
                  <a:pt x="55" y="1268"/>
                </a:lnTo>
                <a:lnTo>
                  <a:pt x="48" y="1275"/>
                </a:lnTo>
                <a:lnTo>
                  <a:pt x="48" y="1282"/>
                </a:lnTo>
                <a:lnTo>
                  <a:pt x="41" y="1289"/>
                </a:lnTo>
                <a:lnTo>
                  <a:pt x="35" y="1289"/>
                </a:lnTo>
                <a:lnTo>
                  <a:pt x="35" y="1295"/>
                </a:lnTo>
                <a:lnTo>
                  <a:pt x="28" y="1302"/>
                </a:lnTo>
                <a:lnTo>
                  <a:pt x="28" y="1309"/>
                </a:lnTo>
                <a:lnTo>
                  <a:pt x="28" y="1316"/>
                </a:lnTo>
                <a:lnTo>
                  <a:pt x="28" y="1316"/>
                </a:lnTo>
                <a:lnTo>
                  <a:pt x="28" y="1323"/>
                </a:lnTo>
                <a:lnTo>
                  <a:pt x="28" y="1330"/>
                </a:lnTo>
                <a:lnTo>
                  <a:pt x="28" y="1337"/>
                </a:lnTo>
                <a:lnTo>
                  <a:pt x="21" y="1344"/>
                </a:lnTo>
                <a:lnTo>
                  <a:pt x="21" y="1351"/>
                </a:lnTo>
                <a:lnTo>
                  <a:pt x="21" y="1357"/>
                </a:lnTo>
                <a:lnTo>
                  <a:pt x="21" y="1364"/>
                </a:lnTo>
                <a:lnTo>
                  <a:pt x="21" y="1364"/>
                </a:lnTo>
                <a:lnTo>
                  <a:pt x="21" y="1371"/>
                </a:lnTo>
                <a:lnTo>
                  <a:pt x="21" y="1378"/>
                </a:lnTo>
                <a:lnTo>
                  <a:pt x="14" y="1385"/>
                </a:lnTo>
                <a:lnTo>
                  <a:pt x="14" y="1392"/>
                </a:lnTo>
                <a:lnTo>
                  <a:pt x="14" y="1399"/>
                </a:lnTo>
                <a:lnTo>
                  <a:pt x="14" y="1406"/>
                </a:lnTo>
                <a:lnTo>
                  <a:pt x="14" y="1413"/>
                </a:lnTo>
                <a:lnTo>
                  <a:pt x="14" y="1413"/>
                </a:lnTo>
                <a:lnTo>
                  <a:pt x="14" y="1419"/>
                </a:lnTo>
                <a:lnTo>
                  <a:pt x="14" y="1426"/>
                </a:lnTo>
                <a:lnTo>
                  <a:pt x="7" y="1433"/>
                </a:lnTo>
                <a:lnTo>
                  <a:pt x="7" y="1440"/>
                </a:lnTo>
                <a:lnTo>
                  <a:pt x="7" y="1447"/>
                </a:lnTo>
                <a:lnTo>
                  <a:pt x="7" y="1454"/>
                </a:lnTo>
                <a:lnTo>
                  <a:pt x="7" y="1454"/>
                </a:lnTo>
                <a:lnTo>
                  <a:pt x="7" y="1461"/>
                </a:lnTo>
                <a:lnTo>
                  <a:pt x="7" y="1468"/>
                </a:lnTo>
                <a:lnTo>
                  <a:pt x="0" y="1475"/>
                </a:lnTo>
                <a:lnTo>
                  <a:pt x="0" y="1481"/>
                </a:lnTo>
                <a:lnTo>
                  <a:pt x="0" y="1488"/>
                </a:lnTo>
                <a:lnTo>
                  <a:pt x="0" y="1495"/>
                </a:lnTo>
                <a:lnTo>
                  <a:pt x="0" y="1502"/>
                </a:lnTo>
                <a:lnTo>
                  <a:pt x="0" y="1502"/>
                </a:lnTo>
                <a:lnTo>
                  <a:pt x="0" y="1509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4" name=""/>
          <p:cNvSpPr/>
          <p:nvPr/>
        </p:nvSpPr>
        <p:spPr>
          <a:xfrm>
            <a:off x="4222800" y="4675320"/>
            <a:ext cx="55440" cy="87120"/>
          </a:xfrm>
          <a:custGeom>
            <a:avLst/>
            <a:gdLst/>
            <a:ahLst/>
            <a:rect l="l" t="t" r="r" b="b"/>
            <a:pathLst>
              <a:path w="35" h="55">
                <a:moveTo>
                  <a:pt x="7" y="48"/>
                </a:moveTo>
                <a:lnTo>
                  <a:pt x="0" y="41"/>
                </a:lnTo>
                <a:lnTo>
                  <a:pt x="0" y="34"/>
                </a:lnTo>
                <a:lnTo>
                  <a:pt x="0" y="34"/>
                </a:lnTo>
                <a:lnTo>
                  <a:pt x="0" y="27"/>
                </a:lnTo>
                <a:lnTo>
                  <a:pt x="0" y="20"/>
                </a:lnTo>
                <a:lnTo>
                  <a:pt x="0" y="13"/>
                </a:lnTo>
                <a:lnTo>
                  <a:pt x="0" y="6"/>
                </a:lnTo>
                <a:lnTo>
                  <a:pt x="7" y="0"/>
                </a:lnTo>
                <a:lnTo>
                  <a:pt x="14" y="0"/>
                </a:lnTo>
                <a:lnTo>
                  <a:pt x="21" y="6"/>
                </a:lnTo>
                <a:lnTo>
                  <a:pt x="28" y="6"/>
                </a:lnTo>
                <a:lnTo>
                  <a:pt x="35" y="13"/>
                </a:lnTo>
                <a:lnTo>
                  <a:pt x="35" y="20"/>
                </a:lnTo>
                <a:lnTo>
                  <a:pt x="35" y="27"/>
                </a:lnTo>
                <a:lnTo>
                  <a:pt x="35" y="34"/>
                </a:lnTo>
                <a:lnTo>
                  <a:pt x="28" y="34"/>
                </a:lnTo>
                <a:lnTo>
                  <a:pt x="21" y="41"/>
                </a:lnTo>
                <a:lnTo>
                  <a:pt x="14" y="48"/>
                </a:lnTo>
                <a:lnTo>
                  <a:pt x="14" y="55"/>
                </a:lnTo>
                <a:lnTo>
                  <a:pt x="7" y="48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5" name=""/>
          <p:cNvSpPr/>
          <p:nvPr/>
        </p:nvSpPr>
        <p:spPr>
          <a:xfrm>
            <a:off x="5361120" y="3559320"/>
            <a:ext cx="493560" cy="688680"/>
          </a:xfrm>
          <a:custGeom>
            <a:avLst/>
            <a:gdLst/>
            <a:ahLst/>
            <a:rect l="l" t="t" r="r" b="b"/>
            <a:pathLst>
              <a:path w="311" h="434">
                <a:moveTo>
                  <a:pt x="0" y="427"/>
                </a:moveTo>
                <a:lnTo>
                  <a:pt x="0" y="420"/>
                </a:lnTo>
                <a:lnTo>
                  <a:pt x="7" y="413"/>
                </a:lnTo>
                <a:lnTo>
                  <a:pt x="7" y="406"/>
                </a:lnTo>
                <a:lnTo>
                  <a:pt x="14" y="399"/>
                </a:lnTo>
                <a:lnTo>
                  <a:pt x="14" y="393"/>
                </a:lnTo>
                <a:lnTo>
                  <a:pt x="21" y="393"/>
                </a:lnTo>
                <a:lnTo>
                  <a:pt x="21" y="386"/>
                </a:lnTo>
                <a:lnTo>
                  <a:pt x="28" y="379"/>
                </a:lnTo>
                <a:lnTo>
                  <a:pt x="35" y="372"/>
                </a:lnTo>
                <a:lnTo>
                  <a:pt x="35" y="365"/>
                </a:lnTo>
                <a:lnTo>
                  <a:pt x="42" y="358"/>
                </a:lnTo>
                <a:lnTo>
                  <a:pt x="42" y="351"/>
                </a:lnTo>
                <a:lnTo>
                  <a:pt x="42" y="344"/>
                </a:lnTo>
                <a:lnTo>
                  <a:pt x="35" y="344"/>
                </a:lnTo>
                <a:lnTo>
                  <a:pt x="35" y="337"/>
                </a:lnTo>
                <a:lnTo>
                  <a:pt x="42" y="331"/>
                </a:lnTo>
                <a:lnTo>
                  <a:pt x="49" y="324"/>
                </a:lnTo>
                <a:lnTo>
                  <a:pt x="49" y="324"/>
                </a:lnTo>
                <a:lnTo>
                  <a:pt x="56" y="317"/>
                </a:lnTo>
                <a:lnTo>
                  <a:pt x="56" y="310"/>
                </a:lnTo>
                <a:lnTo>
                  <a:pt x="62" y="303"/>
                </a:lnTo>
                <a:lnTo>
                  <a:pt x="69" y="296"/>
                </a:lnTo>
                <a:lnTo>
                  <a:pt x="76" y="296"/>
                </a:lnTo>
                <a:lnTo>
                  <a:pt x="83" y="289"/>
                </a:lnTo>
                <a:lnTo>
                  <a:pt x="83" y="282"/>
                </a:lnTo>
                <a:lnTo>
                  <a:pt x="90" y="275"/>
                </a:lnTo>
                <a:lnTo>
                  <a:pt x="90" y="269"/>
                </a:lnTo>
                <a:lnTo>
                  <a:pt x="90" y="262"/>
                </a:lnTo>
                <a:lnTo>
                  <a:pt x="90" y="255"/>
                </a:lnTo>
                <a:lnTo>
                  <a:pt x="90" y="248"/>
                </a:lnTo>
                <a:lnTo>
                  <a:pt x="90" y="241"/>
                </a:lnTo>
                <a:lnTo>
                  <a:pt x="90" y="234"/>
                </a:lnTo>
                <a:lnTo>
                  <a:pt x="90" y="234"/>
                </a:lnTo>
                <a:lnTo>
                  <a:pt x="97" y="227"/>
                </a:lnTo>
                <a:lnTo>
                  <a:pt x="97" y="220"/>
                </a:lnTo>
                <a:lnTo>
                  <a:pt x="97" y="213"/>
                </a:lnTo>
                <a:lnTo>
                  <a:pt x="104" y="207"/>
                </a:lnTo>
                <a:lnTo>
                  <a:pt x="104" y="200"/>
                </a:lnTo>
                <a:lnTo>
                  <a:pt x="111" y="193"/>
                </a:lnTo>
                <a:lnTo>
                  <a:pt x="111" y="186"/>
                </a:lnTo>
                <a:lnTo>
                  <a:pt x="111" y="179"/>
                </a:lnTo>
                <a:lnTo>
                  <a:pt x="111" y="172"/>
                </a:lnTo>
                <a:lnTo>
                  <a:pt x="118" y="172"/>
                </a:lnTo>
                <a:lnTo>
                  <a:pt x="118" y="165"/>
                </a:lnTo>
                <a:lnTo>
                  <a:pt x="124" y="158"/>
                </a:lnTo>
                <a:lnTo>
                  <a:pt x="131" y="151"/>
                </a:lnTo>
                <a:lnTo>
                  <a:pt x="138" y="145"/>
                </a:lnTo>
                <a:lnTo>
                  <a:pt x="138" y="145"/>
                </a:lnTo>
                <a:lnTo>
                  <a:pt x="145" y="138"/>
                </a:lnTo>
                <a:lnTo>
                  <a:pt x="145" y="131"/>
                </a:lnTo>
                <a:lnTo>
                  <a:pt x="145" y="124"/>
                </a:lnTo>
                <a:lnTo>
                  <a:pt x="145" y="117"/>
                </a:lnTo>
                <a:lnTo>
                  <a:pt x="145" y="110"/>
                </a:lnTo>
                <a:lnTo>
                  <a:pt x="145" y="103"/>
                </a:lnTo>
                <a:lnTo>
                  <a:pt x="145" y="96"/>
                </a:lnTo>
                <a:lnTo>
                  <a:pt x="152" y="89"/>
                </a:lnTo>
                <a:lnTo>
                  <a:pt x="152" y="83"/>
                </a:lnTo>
                <a:lnTo>
                  <a:pt x="159" y="83"/>
                </a:lnTo>
                <a:lnTo>
                  <a:pt x="159" y="76"/>
                </a:lnTo>
                <a:lnTo>
                  <a:pt x="166" y="69"/>
                </a:lnTo>
                <a:lnTo>
                  <a:pt x="166" y="62"/>
                </a:lnTo>
                <a:lnTo>
                  <a:pt x="166" y="55"/>
                </a:lnTo>
                <a:lnTo>
                  <a:pt x="166" y="48"/>
                </a:lnTo>
                <a:lnTo>
                  <a:pt x="166" y="41"/>
                </a:lnTo>
                <a:lnTo>
                  <a:pt x="166" y="34"/>
                </a:lnTo>
                <a:lnTo>
                  <a:pt x="166" y="27"/>
                </a:lnTo>
                <a:lnTo>
                  <a:pt x="166" y="21"/>
                </a:lnTo>
                <a:lnTo>
                  <a:pt x="166" y="14"/>
                </a:lnTo>
                <a:lnTo>
                  <a:pt x="166" y="7"/>
                </a:lnTo>
                <a:lnTo>
                  <a:pt x="173" y="7"/>
                </a:lnTo>
                <a:lnTo>
                  <a:pt x="180" y="0"/>
                </a:lnTo>
                <a:lnTo>
                  <a:pt x="187" y="0"/>
                </a:lnTo>
                <a:lnTo>
                  <a:pt x="200" y="0"/>
                </a:lnTo>
                <a:lnTo>
                  <a:pt x="207" y="7"/>
                </a:lnTo>
                <a:lnTo>
                  <a:pt x="214" y="7"/>
                </a:lnTo>
                <a:lnTo>
                  <a:pt x="221" y="14"/>
                </a:lnTo>
                <a:lnTo>
                  <a:pt x="228" y="21"/>
                </a:lnTo>
                <a:lnTo>
                  <a:pt x="235" y="21"/>
                </a:lnTo>
                <a:lnTo>
                  <a:pt x="242" y="27"/>
                </a:lnTo>
                <a:lnTo>
                  <a:pt x="249" y="27"/>
                </a:lnTo>
                <a:lnTo>
                  <a:pt x="255" y="34"/>
                </a:lnTo>
                <a:lnTo>
                  <a:pt x="269" y="34"/>
                </a:lnTo>
                <a:lnTo>
                  <a:pt x="276" y="41"/>
                </a:lnTo>
                <a:lnTo>
                  <a:pt x="283" y="41"/>
                </a:lnTo>
                <a:lnTo>
                  <a:pt x="283" y="48"/>
                </a:lnTo>
                <a:lnTo>
                  <a:pt x="283" y="55"/>
                </a:lnTo>
                <a:lnTo>
                  <a:pt x="290" y="62"/>
                </a:lnTo>
                <a:lnTo>
                  <a:pt x="297" y="69"/>
                </a:lnTo>
                <a:lnTo>
                  <a:pt x="311" y="69"/>
                </a:lnTo>
                <a:lnTo>
                  <a:pt x="311" y="69"/>
                </a:lnTo>
                <a:lnTo>
                  <a:pt x="304" y="76"/>
                </a:lnTo>
                <a:lnTo>
                  <a:pt x="297" y="83"/>
                </a:lnTo>
                <a:lnTo>
                  <a:pt x="290" y="89"/>
                </a:lnTo>
                <a:lnTo>
                  <a:pt x="283" y="89"/>
                </a:lnTo>
                <a:lnTo>
                  <a:pt x="283" y="96"/>
                </a:lnTo>
                <a:lnTo>
                  <a:pt x="276" y="103"/>
                </a:lnTo>
                <a:lnTo>
                  <a:pt x="269" y="110"/>
                </a:lnTo>
                <a:lnTo>
                  <a:pt x="262" y="110"/>
                </a:lnTo>
                <a:lnTo>
                  <a:pt x="255" y="117"/>
                </a:lnTo>
                <a:lnTo>
                  <a:pt x="249" y="124"/>
                </a:lnTo>
                <a:lnTo>
                  <a:pt x="242" y="131"/>
                </a:lnTo>
                <a:lnTo>
                  <a:pt x="242" y="131"/>
                </a:lnTo>
                <a:lnTo>
                  <a:pt x="235" y="138"/>
                </a:lnTo>
                <a:lnTo>
                  <a:pt x="235" y="145"/>
                </a:lnTo>
                <a:lnTo>
                  <a:pt x="235" y="151"/>
                </a:lnTo>
                <a:lnTo>
                  <a:pt x="235" y="158"/>
                </a:lnTo>
                <a:lnTo>
                  <a:pt x="235" y="165"/>
                </a:lnTo>
                <a:lnTo>
                  <a:pt x="235" y="172"/>
                </a:lnTo>
                <a:lnTo>
                  <a:pt x="242" y="179"/>
                </a:lnTo>
                <a:lnTo>
                  <a:pt x="242" y="186"/>
                </a:lnTo>
                <a:lnTo>
                  <a:pt x="242" y="193"/>
                </a:lnTo>
                <a:lnTo>
                  <a:pt x="242" y="193"/>
                </a:lnTo>
                <a:lnTo>
                  <a:pt x="242" y="200"/>
                </a:lnTo>
                <a:lnTo>
                  <a:pt x="242" y="207"/>
                </a:lnTo>
                <a:lnTo>
                  <a:pt x="242" y="213"/>
                </a:lnTo>
                <a:lnTo>
                  <a:pt x="242" y="220"/>
                </a:lnTo>
                <a:lnTo>
                  <a:pt x="242" y="227"/>
                </a:lnTo>
                <a:lnTo>
                  <a:pt x="242" y="234"/>
                </a:lnTo>
                <a:lnTo>
                  <a:pt x="249" y="241"/>
                </a:lnTo>
                <a:lnTo>
                  <a:pt x="249" y="248"/>
                </a:lnTo>
                <a:lnTo>
                  <a:pt x="249" y="255"/>
                </a:lnTo>
                <a:lnTo>
                  <a:pt x="255" y="262"/>
                </a:lnTo>
                <a:lnTo>
                  <a:pt x="255" y="269"/>
                </a:lnTo>
                <a:lnTo>
                  <a:pt x="255" y="275"/>
                </a:lnTo>
                <a:lnTo>
                  <a:pt x="255" y="275"/>
                </a:lnTo>
                <a:lnTo>
                  <a:pt x="255" y="282"/>
                </a:lnTo>
                <a:lnTo>
                  <a:pt x="249" y="289"/>
                </a:lnTo>
                <a:lnTo>
                  <a:pt x="249" y="296"/>
                </a:lnTo>
                <a:lnTo>
                  <a:pt x="249" y="303"/>
                </a:lnTo>
                <a:lnTo>
                  <a:pt x="249" y="310"/>
                </a:lnTo>
                <a:lnTo>
                  <a:pt x="249" y="317"/>
                </a:lnTo>
                <a:lnTo>
                  <a:pt x="249" y="324"/>
                </a:lnTo>
                <a:lnTo>
                  <a:pt x="249" y="331"/>
                </a:lnTo>
                <a:lnTo>
                  <a:pt x="242" y="337"/>
                </a:lnTo>
                <a:lnTo>
                  <a:pt x="235" y="337"/>
                </a:lnTo>
                <a:lnTo>
                  <a:pt x="235" y="344"/>
                </a:lnTo>
                <a:lnTo>
                  <a:pt x="228" y="351"/>
                </a:lnTo>
                <a:lnTo>
                  <a:pt x="228" y="358"/>
                </a:lnTo>
                <a:lnTo>
                  <a:pt x="228" y="365"/>
                </a:lnTo>
                <a:lnTo>
                  <a:pt x="228" y="372"/>
                </a:lnTo>
                <a:lnTo>
                  <a:pt x="228" y="379"/>
                </a:lnTo>
                <a:lnTo>
                  <a:pt x="228" y="386"/>
                </a:lnTo>
                <a:lnTo>
                  <a:pt x="228" y="393"/>
                </a:lnTo>
                <a:lnTo>
                  <a:pt x="228" y="399"/>
                </a:lnTo>
                <a:lnTo>
                  <a:pt x="221" y="406"/>
                </a:lnTo>
                <a:lnTo>
                  <a:pt x="221" y="413"/>
                </a:lnTo>
                <a:lnTo>
                  <a:pt x="214" y="420"/>
                </a:lnTo>
                <a:lnTo>
                  <a:pt x="207" y="420"/>
                </a:lnTo>
                <a:lnTo>
                  <a:pt x="200" y="420"/>
                </a:lnTo>
                <a:lnTo>
                  <a:pt x="193" y="420"/>
                </a:lnTo>
                <a:lnTo>
                  <a:pt x="180" y="420"/>
                </a:lnTo>
                <a:lnTo>
                  <a:pt x="173" y="420"/>
                </a:lnTo>
                <a:lnTo>
                  <a:pt x="159" y="420"/>
                </a:lnTo>
                <a:lnTo>
                  <a:pt x="152" y="427"/>
                </a:lnTo>
                <a:lnTo>
                  <a:pt x="138" y="427"/>
                </a:lnTo>
                <a:lnTo>
                  <a:pt x="131" y="427"/>
                </a:lnTo>
                <a:lnTo>
                  <a:pt x="124" y="427"/>
                </a:lnTo>
                <a:lnTo>
                  <a:pt x="111" y="427"/>
                </a:lnTo>
                <a:lnTo>
                  <a:pt x="104" y="427"/>
                </a:lnTo>
                <a:lnTo>
                  <a:pt x="90" y="427"/>
                </a:lnTo>
                <a:lnTo>
                  <a:pt x="83" y="427"/>
                </a:lnTo>
                <a:lnTo>
                  <a:pt x="69" y="427"/>
                </a:lnTo>
                <a:lnTo>
                  <a:pt x="62" y="427"/>
                </a:lnTo>
                <a:lnTo>
                  <a:pt x="56" y="427"/>
                </a:lnTo>
                <a:lnTo>
                  <a:pt x="42" y="427"/>
                </a:lnTo>
                <a:lnTo>
                  <a:pt x="35" y="427"/>
                </a:lnTo>
                <a:lnTo>
                  <a:pt x="21" y="427"/>
                </a:lnTo>
                <a:lnTo>
                  <a:pt x="14" y="434"/>
                </a:lnTo>
                <a:lnTo>
                  <a:pt x="0" y="427"/>
                </a:lnTo>
                <a:lnTo>
                  <a:pt x="0" y="427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6" name=""/>
          <p:cNvSpPr/>
          <p:nvPr/>
        </p:nvSpPr>
        <p:spPr>
          <a:xfrm>
            <a:off x="4200480" y="4073400"/>
            <a:ext cx="66600" cy="119160"/>
          </a:xfrm>
          <a:custGeom>
            <a:avLst/>
            <a:gdLst/>
            <a:ahLst/>
            <a:rect l="l" t="t" r="r" b="b"/>
            <a:pathLst>
              <a:path w="42" h="75">
                <a:moveTo>
                  <a:pt x="35" y="69"/>
                </a:moveTo>
                <a:lnTo>
                  <a:pt x="35" y="69"/>
                </a:lnTo>
                <a:lnTo>
                  <a:pt x="35" y="62"/>
                </a:lnTo>
                <a:lnTo>
                  <a:pt x="35" y="55"/>
                </a:lnTo>
                <a:lnTo>
                  <a:pt x="35" y="48"/>
                </a:lnTo>
                <a:lnTo>
                  <a:pt x="35" y="41"/>
                </a:lnTo>
                <a:lnTo>
                  <a:pt x="35" y="34"/>
                </a:lnTo>
                <a:lnTo>
                  <a:pt x="42" y="27"/>
                </a:lnTo>
                <a:lnTo>
                  <a:pt x="42" y="20"/>
                </a:lnTo>
                <a:lnTo>
                  <a:pt x="42" y="20"/>
                </a:lnTo>
                <a:lnTo>
                  <a:pt x="35" y="13"/>
                </a:lnTo>
                <a:lnTo>
                  <a:pt x="28" y="7"/>
                </a:lnTo>
                <a:lnTo>
                  <a:pt x="28" y="0"/>
                </a:lnTo>
                <a:lnTo>
                  <a:pt x="21" y="7"/>
                </a:lnTo>
                <a:lnTo>
                  <a:pt x="14" y="13"/>
                </a:lnTo>
                <a:lnTo>
                  <a:pt x="14" y="20"/>
                </a:lnTo>
                <a:lnTo>
                  <a:pt x="7" y="27"/>
                </a:lnTo>
                <a:lnTo>
                  <a:pt x="7" y="34"/>
                </a:lnTo>
                <a:lnTo>
                  <a:pt x="0" y="34"/>
                </a:lnTo>
                <a:lnTo>
                  <a:pt x="0" y="41"/>
                </a:lnTo>
                <a:lnTo>
                  <a:pt x="0" y="48"/>
                </a:lnTo>
                <a:lnTo>
                  <a:pt x="7" y="48"/>
                </a:lnTo>
                <a:lnTo>
                  <a:pt x="14" y="55"/>
                </a:lnTo>
                <a:lnTo>
                  <a:pt x="14" y="62"/>
                </a:lnTo>
                <a:lnTo>
                  <a:pt x="21" y="69"/>
                </a:lnTo>
                <a:lnTo>
                  <a:pt x="28" y="75"/>
                </a:lnTo>
                <a:lnTo>
                  <a:pt x="35" y="69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7" name=""/>
          <p:cNvSpPr/>
          <p:nvPr/>
        </p:nvSpPr>
        <p:spPr>
          <a:xfrm>
            <a:off x="5175360" y="4127400"/>
            <a:ext cx="174600" cy="76320"/>
          </a:xfrm>
          <a:custGeom>
            <a:avLst/>
            <a:gdLst/>
            <a:ahLst/>
            <a:rect l="l" t="t" r="r" b="b"/>
            <a:pathLst>
              <a:path w="110" h="48">
                <a:moveTo>
                  <a:pt x="0" y="35"/>
                </a:moveTo>
                <a:lnTo>
                  <a:pt x="7" y="35"/>
                </a:lnTo>
                <a:lnTo>
                  <a:pt x="14" y="35"/>
                </a:lnTo>
                <a:lnTo>
                  <a:pt x="21" y="35"/>
                </a:lnTo>
                <a:lnTo>
                  <a:pt x="28" y="35"/>
                </a:lnTo>
                <a:lnTo>
                  <a:pt x="35" y="35"/>
                </a:lnTo>
                <a:lnTo>
                  <a:pt x="42" y="28"/>
                </a:lnTo>
                <a:lnTo>
                  <a:pt x="48" y="28"/>
                </a:lnTo>
                <a:lnTo>
                  <a:pt x="55" y="28"/>
                </a:lnTo>
                <a:lnTo>
                  <a:pt x="62" y="28"/>
                </a:lnTo>
                <a:lnTo>
                  <a:pt x="69" y="21"/>
                </a:lnTo>
                <a:lnTo>
                  <a:pt x="76" y="21"/>
                </a:lnTo>
                <a:lnTo>
                  <a:pt x="76" y="14"/>
                </a:lnTo>
                <a:lnTo>
                  <a:pt x="83" y="14"/>
                </a:lnTo>
                <a:lnTo>
                  <a:pt x="83" y="7"/>
                </a:lnTo>
                <a:lnTo>
                  <a:pt x="90" y="0"/>
                </a:lnTo>
                <a:lnTo>
                  <a:pt x="97" y="0"/>
                </a:lnTo>
                <a:lnTo>
                  <a:pt x="110" y="7"/>
                </a:lnTo>
                <a:lnTo>
                  <a:pt x="110" y="7"/>
                </a:lnTo>
                <a:lnTo>
                  <a:pt x="110" y="7"/>
                </a:lnTo>
                <a:lnTo>
                  <a:pt x="104" y="14"/>
                </a:lnTo>
                <a:lnTo>
                  <a:pt x="97" y="14"/>
                </a:lnTo>
                <a:lnTo>
                  <a:pt x="90" y="21"/>
                </a:lnTo>
                <a:lnTo>
                  <a:pt x="83" y="21"/>
                </a:lnTo>
                <a:lnTo>
                  <a:pt x="83" y="28"/>
                </a:lnTo>
                <a:lnTo>
                  <a:pt x="83" y="35"/>
                </a:lnTo>
                <a:lnTo>
                  <a:pt x="76" y="35"/>
                </a:lnTo>
                <a:lnTo>
                  <a:pt x="76" y="41"/>
                </a:lnTo>
                <a:lnTo>
                  <a:pt x="69" y="48"/>
                </a:lnTo>
                <a:lnTo>
                  <a:pt x="62" y="48"/>
                </a:lnTo>
                <a:lnTo>
                  <a:pt x="55" y="48"/>
                </a:lnTo>
                <a:lnTo>
                  <a:pt x="48" y="48"/>
                </a:lnTo>
                <a:lnTo>
                  <a:pt x="42" y="48"/>
                </a:lnTo>
                <a:lnTo>
                  <a:pt x="35" y="48"/>
                </a:lnTo>
                <a:lnTo>
                  <a:pt x="28" y="41"/>
                </a:lnTo>
                <a:lnTo>
                  <a:pt x="21" y="41"/>
                </a:lnTo>
                <a:lnTo>
                  <a:pt x="14" y="41"/>
                </a:lnTo>
                <a:lnTo>
                  <a:pt x="7" y="41"/>
                </a:lnTo>
                <a:lnTo>
                  <a:pt x="0" y="35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8" name=""/>
          <p:cNvSpPr/>
          <p:nvPr/>
        </p:nvSpPr>
        <p:spPr>
          <a:xfrm>
            <a:off x="2800440" y="4073400"/>
            <a:ext cx="65160" cy="76320"/>
          </a:xfrm>
          <a:custGeom>
            <a:avLst/>
            <a:gdLst/>
            <a:ahLst/>
            <a:rect l="l" t="t" r="r" b="b"/>
            <a:pathLst>
              <a:path w="41" h="48">
                <a:moveTo>
                  <a:pt x="28" y="41"/>
                </a:moveTo>
                <a:lnTo>
                  <a:pt x="34" y="34"/>
                </a:lnTo>
                <a:lnTo>
                  <a:pt x="34" y="27"/>
                </a:lnTo>
                <a:lnTo>
                  <a:pt x="41" y="27"/>
                </a:lnTo>
                <a:lnTo>
                  <a:pt x="41" y="20"/>
                </a:lnTo>
                <a:lnTo>
                  <a:pt x="41" y="13"/>
                </a:lnTo>
                <a:lnTo>
                  <a:pt x="41" y="13"/>
                </a:lnTo>
                <a:lnTo>
                  <a:pt x="34" y="7"/>
                </a:lnTo>
                <a:lnTo>
                  <a:pt x="28" y="0"/>
                </a:lnTo>
                <a:lnTo>
                  <a:pt x="21" y="0"/>
                </a:lnTo>
                <a:lnTo>
                  <a:pt x="14" y="0"/>
                </a:lnTo>
                <a:lnTo>
                  <a:pt x="7" y="7"/>
                </a:lnTo>
                <a:lnTo>
                  <a:pt x="0" y="13"/>
                </a:lnTo>
                <a:lnTo>
                  <a:pt x="0" y="13"/>
                </a:lnTo>
                <a:lnTo>
                  <a:pt x="0" y="20"/>
                </a:lnTo>
                <a:lnTo>
                  <a:pt x="0" y="27"/>
                </a:lnTo>
                <a:lnTo>
                  <a:pt x="7" y="34"/>
                </a:lnTo>
                <a:lnTo>
                  <a:pt x="7" y="34"/>
                </a:lnTo>
                <a:lnTo>
                  <a:pt x="14" y="41"/>
                </a:lnTo>
                <a:lnTo>
                  <a:pt x="21" y="48"/>
                </a:lnTo>
                <a:lnTo>
                  <a:pt x="28" y="41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9" name=""/>
          <p:cNvSpPr/>
          <p:nvPr/>
        </p:nvSpPr>
        <p:spPr>
          <a:xfrm>
            <a:off x="5416560" y="4073400"/>
            <a:ext cx="42840" cy="20880"/>
          </a:xfrm>
          <a:custGeom>
            <a:avLst/>
            <a:gdLst/>
            <a:ahLst/>
            <a:rect l="l" t="t" r="r" b="b"/>
            <a:pathLst>
              <a:path w="27" h="13">
                <a:moveTo>
                  <a:pt x="27" y="13"/>
                </a:moveTo>
                <a:lnTo>
                  <a:pt x="27" y="7"/>
                </a:lnTo>
                <a:lnTo>
                  <a:pt x="27" y="0"/>
                </a:lnTo>
                <a:lnTo>
                  <a:pt x="27" y="0"/>
                </a:lnTo>
                <a:lnTo>
                  <a:pt x="27" y="0"/>
                </a:lnTo>
                <a:lnTo>
                  <a:pt x="21" y="0"/>
                </a:lnTo>
                <a:lnTo>
                  <a:pt x="14" y="0"/>
                </a:lnTo>
                <a:lnTo>
                  <a:pt x="7" y="7"/>
                </a:lnTo>
                <a:lnTo>
                  <a:pt x="7" y="7"/>
                </a:lnTo>
                <a:lnTo>
                  <a:pt x="0" y="13"/>
                </a:lnTo>
                <a:lnTo>
                  <a:pt x="7" y="13"/>
                </a:lnTo>
                <a:lnTo>
                  <a:pt x="14" y="13"/>
                </a:lnTo>
                <a:lnTo>
                  <a:pt x="21" y="13"/>
                </a:lnTo>
                <a:lnTo>
                  <a:pt x="27" y="13"/>
                </a:lnTo>
                <a:lnTo>
                  <a:pt x="27" y="13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0" name=""/>
          <p:cNvSpPr/>
          <p:nvPr/>
        </p:nvSpPr>
        <p:spPr>
          <a:xfrm>
            <a:off x="4606920" y="4006800"/>
            <a:ext cx="11160" cy="77760"/>
          </a:xfrm>
          <a:custGeom>
            <a:avLst/>
            <a:gdLst/>
            <a:ahLst/>
            <a:rect l="l" t="t" r="r" b="b"/>
            <a:pathLst>
              <a:path w="7" h="49">
                <a:moveTo>
                  <a:pt x="7" y="21"/>
                </a:moveTo>
                <a:lnTo>
                  <a:pt x="7" y="14"/>
                </a:lnTo>
                <a:lnTo>
                  <a:pt x="7" y="7"/>
                </a:lnTo>
                <a:lnTo>
                  <a:pt x="7" y="0"/>
                </a:lnTo>
                <a:lnTo>
                  <a:pt x="7" y="0"/>
                </a:lnTo>
                <a:lnTo>
                  <a:pt x="7" y="7"/>
                </a:lnTo>
                <a:lnTo>
                  <a:pt x="7" y="14"/>
                </a:lnTo>
                <a:lnTo>
                  <a:pt x="0" y="21"/>
                </a:lnTo>
                <a:lnTo>
                  <a:pt x="7" y="35"/>
                </a:lnTo>
                <a:lnTo>
                  <a:pt x="7" y="42"/>
                </a:lnTo>
                <a:lnTo>
                  <a:pt x="7" y="49"/>
                </a:lnTo>
                <a:lnTo>
                  <a:pt x="7" y="49"/>
                </a:lnTo>
                <a:lnTo>
                  <a:pt x="7" y="42"/>
                </a:lnTo>
                <a:lnTo>
                  <a:pt x="7" y="35"/>
                </a:lnTo>
                <a:lnTo>
                  <a:pt x="7" y="21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1" name=""/>
          <p:cNvSpPr/>
          <p:nvPr/>
        </p:nvSpPr>
        <p:spPr>
          <a:xfrm>
            <a:off x="4770360" y="3876840"/>
            <a:ext cx="55800" cy="174600"/>
          </a:xfrm>
          <a:custGeom>
            <a:avLst/>
            <a:gdLst/>
            <a:ahLst/>
            <a:rect l="l" t="t" r="r" b="b"/>
            <a:pathLst>
              <a:path w="35" h="110">
                <a:moveTo>
                  <a:pt x="28" y="103"/>
                </a:moveTo>
                <a:lnTo>
                  <a:pt x="28" y="96"/>
                </a:lnTo>
                <a:lnTo>
                  <a:pt x="35" y="89"/>
                </a:lnTo>
                <a:lnTo>
                  <a:pt x="35" y="82"/>
                </a:lnTo>
                <a:lnTo>
                  <a:pt x="35" y="75"/>
                </a:lnTo>
                <a:lnTo>
                  <a:pt x="35" y="69"/>
                </a:lnTo>
                <a:lnTo>
                  <a:pt x="35" y="62"/>
                </a:lnTo>
                <a:lnTo>
                  <a:pt x="35" y="55"/>
                </a:lnTo>
                <a:lnTo>
                  <a:pt x="28" y="48"/>
                </a:lnTo>
                <a:lnTo>
                  <a:pt x="28" y="41"/>
                </a:lnTo>
                <a:lnTo>
                  <a:pt x="28" y="41"/>
                </a:lnTo>
                <a:lnTo>
                  <a:pt x="28" y="34"/>
                </a:lnTo>
                <a:lnTo>
                  <a:pt x="28" y="20"/>
                </a:lnTo>
                <a:lnTo>
                  <a:pt x="21" y="13"/>
                </a:lnTo>
                <a:lnTo>
                  <a:pt x="21" y="7"/>
                </a:lnTo>
                <a:lnTo>
                  <a:pt x="21" y="0"/>
                </a:lnTo>
                <a:lnTo>
                  <a:pt x="21" y="7"/>
                </a:lnTo>
                <a:lnTo>
                  <a:pt x="21" y="13"/>
                </a:lnTo>
                <a:lnTo>
                  <a:pt x="14" y="27"/>
                </a:lnTo>
                <a:lnTo>
                  <a:pt x="14" y="34"/>
                </a:lnTo>
                <a:lnTo>
                  <a:pt x="14" y="41"/>
                </a:lnTo>
                <a:lnTo>
                  <a:pt x="7" y="41"/>
                </a:lnTo>
                <a:lnTo>
                  <a:pt x="7" y="48"/>
                </a:lnTo>
                <a:lnTo>
                  <a:pt x="7" y="55"/>
                </a:lnTo>
                <a:lnTo>
                  <a:pt x="7" y="62"/>
                </a:lnTo>
                <a:lnTo>
                  <a:pt x="0" y="69"/>
                </a:lnTo>
                <a:lnTo>
                  <a:pt x="0" y="75"/>
                </a:lnTo>
                <a:lnTo>
                  <a:pt x="0" y="89"/>
                </a:lnTo>
                <a:lnTo>
                  <a:pt x="0" y="96"/>
                </a:lnTo>
                <a:lnTo>
                  <a:pt x="0" y="103"/>
                </a:lnTo>
                <a:lnTo>
                  <a:pt x="7" y="110"/>
                </a:lnTo>
                <a:lnTo>
                  <a:pt x="21" y="110"/>
                </a:lnTo>
                <a:lnTo>
                  <a:pt x="28" y="103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2" name=""/>
          <p:cNvSpPr/>
          <p:nvPr/>
        </p:nvSpPr>
        <p:spPr>
          <a:xfrm>
            <a:off x="2789280" y="2727360"/>
            <a:ext cx="1520640" cy="1225440"/>
          </a:xfrm>
          <a:custGeom>
            <a:avLst/>
            <a:gdLst/>
            <a:ahLst/>
            <a:rect l="l" t="t" r="r" b="b"/>
            <a:pathLst>
              <a:path w="958" h="772">
                <a:moveTo>
                  <a:pt x="0" y="772"/>
                </a:moveTo>
                <a:lnTo>
                  <a:pt x="7" y="765"/>
                </a:lnTo>
                <a:lnTo>
                  <a:pt x="14" y="765"/>
                </a:lnTo>
                <a:lnTo>
                  <a:pt x="21" y="758"/>
                </a:lnTo>
                <a:lnTo>
                  <a:pt x="28" y="758"/>
                </a:lnTo>
                <a:lnTo>
                  <a:pt x="35" y="751"/>
                </a:lnTo>
                <a:lnTo>
                  <a:pt x="41" y="744"/>
                </a:lnTo>
                <a:lnTo>
                  <a:pt x="41" y="744"/>
                </a:lnTo>
                <a:lnTo>
                  <a:pt x="55" y="737"/>
                </a:lnTo>
                <a:lnTo>
                  <a:pt x="62" y="737"/>
                </a:lnTo>
                <a:lnTo>
                  <a:pt x="69" y="731"/>
                </a:lnTo>
                <a:lnTo>
                  <a:pt x="69" y="724"/>
                </a:lnTo>
                <a:lnTo>
                  <a:pt x="76" y="724"/>
                </a:lnTo>
                <a:lnTo>
                  <a:pt x="83" y="717"/>
                </a:lnTo>
                <a:lnTo>
                  <a:pt x="83" y="710"/>
                </a:lnTo>
                <a:lnTo>
                  <a:pt x="90" y="703"/>
                </a:lnTo>
                <a:lnTo>
                  <a:pt x="97" y="703"/>
                </a:lnTo>
                <a:lnTo>
                  <a:pt x="97" y="696"/>
                </a:lnTo>
                <a:lnTo>
                  <a:pt x="103" y="689"/>
                </a:lnTo>
                <a:lnTo>
                  <a:pt x="110" y="682"/>
                </a:lnTo>
                <a:lnTo>
                  <a:pt x="110" y="682"/>
                </a:lnTo>
                <a:lnTo>
                  <a:pt x="110" y="675"/>
                </a:lnTo>
                <a:lnTo>
                  <a:pt x="117" y="669"/>
                </a:lnTo>
                <a:lnTo>
                  <a:pt x="124" y="662"/>
                </a:lnTo>
                <a:lnTo>
                  <a:pt x="131" y="662"/>
                </a:lnTo>
                <a:lnTo>
                  <a:pt x="145" y="662"/>
                </a:lnTo>
                <a:lnTo>
                  <a:pt x="152" y="662"/>
                </a:lnTo>
                <a:lnTo>
                  <a:pt x="159" y="669"/>
                </a:lnTo>
                <a:lnTo>
                  <a:pt x="159" y="675"/>
                </a:lnTo>
                <a:lnTo>
                  <a:pt x="166" y="682"/>
                </a:lnTo>
                <a:lnTo>
                  <a:pt x="166" y="689"/>
                </a:lnTo>
                <a:lnTo>
                  <a:pt x="166" y="696"/>
                </a:lnTo>
                <a:lnTo>
                  <a:pt x="166" y="696"/>
                </a:lnTo>
                <a:lnTo>
                  <a:pt x="172" y="703"/>
                </a:lnTo>
                <a:lnTo>
                  <a:pt x="172" y="710"/>
                </a:lnTo>
                <a:lnTo>
                  <a:pt x="172" y="717"/>
                </a:lnTo>
                <a:lnTo>
                  <a:pt x="179" y="717"/>
                </a:lnTo>
                <a:lnTo>
                  <a:pt x="193" y="717"/>
                </a:lnTo>
                <a:lnTo>
                  <a:pt x="200" y="710"/>
                </a:lnTo>
                <a:lnTo>
                  <a:pt x="207" y="703"/>
                </a:lnTo>
                <a:lnTo>
                  <a:pt x="214" y="703"/>
                </a:lnTo>
                <a:lnTo>
                  <a:pt x="214" y="696"/>
                </a:lnTo>
                <a:lnTo>
                  <a:pt x="221" y="689"/>
                </a:lnTo>
                <a:lnTo>
                  <a:pt x="221" y="682"/>
                </a:lnTo>
                <a:lnTo>
                  <a:pt x="221" y="675"/>
                </a:lnTo>
                <a:lnTo>
                  <a:pt x="221" y="669"/>
                </a:lnTo>
                <a:lnTo>
                  <a:pt x="221" y="669"/>
                </a:lnTo>
                <a:lnTo>
                  <a:pt x="221" y="662"/>
                </a:lnTo>
                <a:lnTo>
                  <a:pt x="221" y="655"/>
                </a:lnTo>
                <a:lnTo>
                  <a:pt x="221" y="648"/>
                </a:lnTo>
                <a:lnTo>
                  <a:pt x="221" y="641"/>
                </a:lnTo>
                <a:lnTo>
                  <a:pt x="221" y="634"/>
                </a:lnTo>
                <a:lnTo>
                  <a:pt x="221" y="627"/>
                </a:lnTo>
                <a:lnTo>
                  <a:pt x="221" y="627"/>
                </a:lnTo>
                <a:lnTo>
                  <a:pt x="221" y="620"/>
                </a:lnTo>
                <a:lnTo>
                  <a:pt x="228" y="613"/>
                </a:lnTo>
                <a:lnTo>
                  <a:pt x="228" y="607"/>
                </a:lnTo>
                <a:lnTo>
                  <a:pt x="234" y="600"/>
                </a:lnTo>
                <a:lnTo>
                  <a:pt x="241" y="600"/>
                </a:lnTo>
                <a:lnTo>
                  <a:pt x="241" y="593"/>
                </a:lnTo>
                <a:lnTo>
                  <a:pt x="241" y="586"/>
                </a:lnTo>
                <a:lnTo>
                  <a:pt x="241" y="579"/>
                </a:lnTo>
                <a:lnTo>
                  <a:pt x="241" y="572"/>
                </a:lnTo>
                <a:lnTo>
                  <a:pt x="241" y="565"/>
                </a:lnTo>
                <a:lnTo>
                  <a:pt x="241" y="558"/>
                </a:lnTo>
                <a:lnTo>
                  <a:pt x="234" y="558"/>
                </a:lnTo>
                <a:lnTo>
                  <a:pt x="234" y="551"/>
                </a:lnTo>
                <a:lnTo>
                  <a:pt x="234" y="545"/>
                </a:lnTo>
                <a:lnTo>
                  <a:pt x="234" y="538"/>
                </a:lnTo>
                <a:lnTo>
                  <a:pt x="228" y="531"/>
                </a:lnTo>
                <a:lnTo>
                  <a:pt x="228" y="524"/>
                </a:lnTo>
                <a:lnTo>
                  <a:pt x="228" y="517"/>
                </a:lnTo>
                <a:lnTo>
                  <a:pt x="228" y="517"/>
                </a:lnTo>
                <a:lnTo>
                  <a:pt x="234" y="510"/>
                </a:lnTo>
                <a:lnTo>
                  <a:pt x="241" y="503"/>
                </a:lnTo>
                <a:lnTo>
                  <a:pt x="248" y="503"/>
                </a:lnTo>
                <a:lnTo>
                  <a:pt x="255" y="496"/>
                </a:lnTo>
                <a:lnTo>
                  <a:pt x="255" y="489"/>
                </a:lnTo>
                <a:lnTo>
                  <a:pt x="262" y="483"/>
                </a:lnTo>
                <a:lnTo>
                  <a:pt x="262" y="483"/>
                </a:lnTo>
                <a:lnTo>
                  <a:pt x="262" y="476"/>
                </a:lnTo>
                <a:lnTo>
                  <a:pt x="269" y="469"/>
                </a:lnTo>
                <a:lnTo>
                  <a:pt x="269" y="462"/>
                </a:lnTo>
                <a:lnTo>
                  <a:pt x="283" y="462"/>
                </a:lnTo>
                <a:lnTo>
                  <a:pt x="290" y="455"/>
                </a:lnTo>
                <a:lnTo>
                  <a:pt x="297" y="455"/>
                </a:lnTo>
                <a:lnTo>
                  <a:pt x="297" y="448"/>
                </a:lnTo>
                <a:lnTo>
                  <a:pt x="303" y="441"/>
                </a:lnTo>
                <a:lnTo>
                  <a:pt x="310" y="434"/>
                </a:lnTo>
                <a:lnTo>
                  <a:pt x="317" y="434"/>
                </a:lnTo>
                <a:lnTo>
                  <a:pt x="324" y="427"/>
                </a:lnTo>
                <a:lnTo>
                  <a:pt x="331" y="427"/>
                </a:lnTo>
                <a:lnTo>
                  <a:pt x="331" y="421"/>
                </a:lnTo>
                <a:lnTo>
                  <a:pt x="338" y="414"/>
                </a:lnTo>
                <a:lnTo>
                  <a:pt x="345" y="414"/>
                </a:lnTo>
                <a:lnTo>
                  <a:pt x="352" y="407"/>
                </a:lnTo>
                <a:lnTo>
                  <a:pt x="359" y="400"/>
                </a:lnTo>
                <a:lnTo>
                  <a:pt x="365" y="400"/>
                </a:lnTo>
                <a:lnTo>
                  <a:pt x="372" y="393"/>
                </a:lnTo>
                <a:lnTo>
                  <a:pt x="379" y="386"/>
                </a:lnTo>
                <a:lnTo>
                  <a:pt x="386" y="386"/>
                </a:lnTo>
                <a:lnTo>
                  <a:pt x="386" y="379"/>
                </a:lnTo>
                <a:lnTo>
                  <a:pt x="393" y="372"/>
                </a:lnTo>
                <a:lnTo>
                  <a:pt x="400" y="372"/>
                </a:lnTo>
                <a:lnTo>
                  <a:pt x="407" y="365"/>
                </a:lnTo>
                <a:lnTo>
                  <a:pt x="414" y="359"/>
                </a:lnTo>
                <a:lnTo>
                  <a:pt x="414" y="359"/>
                </a:lnTo>
                <a:lnTo>
                  <a:pt x="421" y="352"/>
                </a:lnTo>
                <a:lnTo>
                  <a:pt x="428" y="345"/>
                </a:lnTo>
                <a:lnTo>
                  <a:pt x="434" y="345"/>
                </a:lnTo>
                <a:lnTo>
                  <a:pt x="441" y="338"/>
                </a:lnTo>
                <a:lnTo>
                  <a:pt x="448" y="331"/>
                </a:lnTo>
                <a:lnTo>
                  <a:pt x="455" y="331"/>
                </a:lnTo>
                <a:lnTo>
                  <a:pt x="455" y="324"/>
                </a:lnTo>
                <a:lnTo>
                  <a:pt x="462" y="317"/>
                </a:lnTo>
                <a:lnTo>
                  <a:pt x="469" y="317"/>
                </a:lnTo>
                <a:lnTo>
                  <a:pt x="476" y="310"/>
                </a:lnTo>
                <a:lnTo>
                  <a:pt x="483" y="310"/>
                </a:lnTo>
                <a:lnTo>
                  <a:pt x="490" y="303"/>
                </a:lnTo>
                <a:lnTo>
                  <a:pt x="503" y="303"/>
                </a:lnTo>
                <a:lnTo>
                  <a:pt x="510" y="303"/>
                </a:lnTo>
                <a:lnTo>
                  <a:pt x="517" y="297"/>
                </a:lnTo>
                <a:lnTo>
                  <a:pt x="524" y="297"/>
                </a:lnTo>
                <a:lnTo>
                  <a:pt x="531" y="290"/>
                </a:lnTo>
                <a:lnTo>
                  <a:pt x="538" y="290"/>
                </a:lnTo>
                <a:lnTo>
                  <a:pt x="545" y="283"/>
                </a:lnTo>
                <a:lnTo>
                  <a:pt x="545" y="276"/>
                </a:lnTo>
                <a:lnTo>
                  <a:pt x="552" y="269"/>
                </a:lnTo>
                <a:lnTo>
                  <a:pt x="559" y="269"/>
                </a:lnTo>
                <a:lnTo>
                  <a:pt x="565" y="262"/>
                </a:lnTo>
                <a:lnTo>
                  <a:pt x="572" y="255"/>
                </a:lnTo>
                <a:lnTo>
                  <a:pt x="572" y="255"/>
                </a:lnTo>
                <a:lnTo>
                  <a:pt x="579" y="248"/>
                </a:lnTo>
                <a:lnTo>
                  <a:pt x="586" y="241"/>
                </a:lnTo>
                <a:lnTo>
                  <a:pt x="593" y="241"/>
                </a:lnTo>
                <a:lnTo>
                  <a:pt x="593" y="235"/>
                </a:lnTo>
                <a:lnTo>
                  <a:pt x="600" y="228"/>
                </a:lnTo>
                <a:lnTo>
                  <a:pt x="607" y="221"/>
                </a:lnTo>
                <a:lnTo>
                  <a:pt x="614" y="221"/>
                </a:lnTo>
                <a:lnTo>
                  <a:pt x="621" y="214"/>
                </a:lnTo>
                <a:lnTo>
                  <a:pt x="621" y="207"/>
                </a:lnTo>
                <a:lnTo>
                  <a:pt x="627" y="207"/>
                </a:lnTo>
                <a:lnTo>
                  <a:pt x="634" y="200"/>
                </a:lnTo>
                <a:lnTo>
                  <a:pt x="634" y="193"/>
                </a:lnTo>
                <a:lnTo>
                  <a:pt x="634" y="186"/>
                </a:lnTo>
                <a:lnTo>
                  <a:pt x="641" y="179"/>
                </a:lnTo>
                <a:lnTo>
                  <a:pt x="641" y="173"/>
                </a:lnTo>
                <a:lnTo>
                  <a:pt x="641" y="173"/>
                </a:lnTo>
                <a:lnTo>
                  <a:pt x="648" y="166"/>
                </a:lnTo>
                <a:lnTo>
                  <a:pt x="655" y="159"/>
                </a:lnTo>
                <a:lnTo>
                  <a:pt x="662" y="159"/>
                </a:lnTo>
                <a:lnTo>
                  <a:pt x="669" y="159"/>
                </a:lnTo>
                <a:lnTo>
                  <a:pt x="683" y="159"/>
                </a:lnTo>
                <a:lnTo>
                  <a:pt x="690" y="152"/>
                </a:lnTo>
                <a:lnTo>
                  <a:pt x="696" y="152"/>
                </a:lnTo>
                <a:lnTo>
                  <a:pt x="703" y="152"/>
                </a:lnTo>
                <a:lnTo>
                  <a:pt x="717" y="145"/>
                </a:lnTo>
                <a:lnTo>
                  <a:pt x="724" y="145"/>
                </a:lnTo>
                <a:lnTo>
                  <a:pt x="731" y="138"/>
                </a:lnTo>
                <a:lnTo>
                  <a:pt x="738" y="138"/>
                </a:lnTo>
                <a:lnTo>
                  <a:pt x="745" y="131"/>
                </a:lnTo>
                <a:lnTo>
                  <a:pt x="752" y="131"/>
                </a:lnTo>
                <a:lnTo>
                  <a:pt x="758" y="131"/>
                </a:lnTo>
                <a:lnTo>
                  <a:pt x="772" y="124"/>
                </a:lnTo>
                <a:lnTo>
                  <a:pt x="779" y="124"/>
                </a:lnTo>
                <a:lnTo>
                  <a:pt x="786" y="124"/>
                </a:lnTo>
                <a:lnTo>
                  <a:pt x="793" y="124"/>
                </a:lnTo>
                <a:lnTo>
                  <a:pt x="807" y="124"/>
                </a:lnTo>
                <a:lnTo>
                  <a:pt x="814" y="117"/>
                </a:lnTo>
                <a:lnTo>
                  <a:pt x="821" y="117"/>
                </a:lnTo>
                <a:lnTo>
                  <a:pt x="827" y="111"/>
                </a:lnTo>
                <a:lnTo>
                  <a:pt x="834" y="104"/>
                </a:lnTo>
                <a:lnTo>
                  <a:pt x="841" y="104"/>
                </a:lnTo>
                <a:lnTo>
                  <a:pt x="848" y="97"/>
                </a:lnTo>
                <a:lnTo>
                  <a:pt x="855" y="97"/>
                </a:lnTo>
                <a:lnTo>
                  <a:pt x="862" y="97"/>
                </a:lnTo>
                <a:lnTo>
                  <a:pt x="869" y="90"/>
                </a:lnTo>
                <a:lnTo>
                  <a:pt x="883" y="90"/>
                </a:lnTo>
                <a:lnTo>
                  <a:pt x="889" y="90"/>
                </a:lnTo>
                <a:lnTo>
                  <a:pt x="896" y="83"/>
                </a:lnTo>
                <a:lnTo>
                  <a:pt x="903" y="83"/>
                </a:lnTo>
                <a:lnTo>
                  <a:pt x="910" y="76"/>
                </a:lnTo>
                <a:lnTo>
                  <a:pt x="917" y="69"/>
                </a:lnTo>
                <a:lnTo>
                  <a:pt x="924" y="69"/>
                </a:lnTo>
                <a:lnTo>
                  <a:pt x="931" y="62"/>
                </a:lnTo>
                <a:lnTo>
                  <a:pt x="931" y="62"/>
                </a:lnTo>
                <a:lnTo>
                  <a:pt x="938" y="55"/>
                </a:lnTo>
                <a:lnTo>
                  <a:pt x="945" y="49"/>
                </a:lnTo>
                <a:lnTo>
                  <a:pt x="945" y="42"/>
                </a:lnTo>
                <a:lnTo>
                  <a:pt x="952" y="42"/>
                </a:lnTo>
                <a:lnTo>
                  <a:pt x="958" y="35"/>
                </a:lnTo>
                <a:lnTo>
                  <a:pt x="958" y="28"/>
                </a:lnTo>
                <a:lnTo>
                  <a:pt x="958" y="21"/>
                </a:lnTo>
                <a:lnTo>
                  <a:pt x="952" y="21"/>
                </a:lnTo>
                <a:lnTo>
                  <a:pt x="945" y="14"/>
                </a:lnTo>
                <a:lnTo>
                  <a:pt x="938" y="7"/>
                </a:lnTo>
                <a:lnTo>
                  <a:pt x="931" y="7"/>
                </a:lnTo>
                <a:lnTo>
                  <a:pt x="931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3" name=""/>
          <p:cNvSpPr/>
          <p:nvPr/>
        </p:nvSpPr>
        <p:spPr>
          <a:xfrm>
            <a:off x="2263680" y="3198960"/>
            <a:ext cx="480960" cy="480960"/>
          </a:xfrm>
          <a:custGeom>
            <a:avLst/>
            <a:gdLst/>
            <a:ahLst/>
            <a:rect l="l" t="t" r="r" b="b"/>
            <a:pathLst>
              <a:path w="303" h="303">
                <a:moveTo>
                  <a:pt x="303" y="0"/>
                </a:moveTo>
                <a:lnTo>
                  <a:pt x="303" y="0"/>
                </a:lnTo>
                <a:lnTo>
                  <a:pt x="297" y="6"/>
                </a:lnTo>
                <a:lnTo>
                  <a:pt x="290" y="13"/>
                </a:lnTo>
                <a:lnTo>
                  <a:pt x="290" y="20"/>
                </a:lnTo>
                <a:lnTo>
                  <a:pt x="290" y="20"/>
                </a:lnTo>
                <a:lnTo>
                  <a:pt x="283" y="27"/>
                </a:lnTo>
                <a:lnTo>
                  <a:pt x="283" y="34"/>
                </a:lnTo>
                <a:lnTo>
                  <a:pt x="276" y="34"/>
                </a:lnTo>
                <a:lnTo>
                  <a:pt x="269" y="41"/>
                </a:lnTo>
                <a:lnTo>
                  <a:pt x="269" y="48"/>
                </a:lnTo>
                <a:lnTo>
                  <a:pt x="262" y="55"/>
                </a:lnTo>
                <a:lnTo>
                  <a:pt x="255" y="55"/>
                </a:lnTo>
                <a:lnTo>
                  <a:pt x="255" y="62"/>
                </a:lnTo>
                <a:lnTo>
                  <a:pt x="248" y="68"/>
                </a:lnTo>
                <a:lnTo>
                  <a:pt x="241" y="68"/>
                </a:lnTo>
                <a:lnTo>
                  <a:pt x="241" y="75"/>
                </a:lnTo>
                <a:lnTo>
                  <a:pt x="235" y="82"/>
                </a:lnTo>
                <a:lnTo>
                  <a:pt x="235" y="89"/>
                </a:lnTo>
                <a:lnTo>
                  <a:pt x="228" y="89"/>
                </a:lnTo>
                <a:lnTo>
                  <a:pt x="221" y="96"/>
                </a:lnTo>
                <a:lnTo>
                  <a:pt x="221" y="103"/>
                </a:lnTo>
                <a:lnTo>
                  <a:pt x="214" y="110"/>
                </a:lnTo>
                <a:lnTo>
                  <a:pt x="214" y="110"/>
                </a:lnTo>
                <a:lnTo>
                  <a:pt x="207" y="117"/>
                </a:lnTo>
                <a:lnTo>
                  <a:pt x="200" y="124"/>
                </a:lnTo>
                <a:lnTo>
                  <a:pt x="200" y="124"/>
                </a:lnTo>
                <a:lnTo>
                  <a:pt x="193" y="130"/>
                </a:lnTo>
                <a:lnTo>
                  <a:pt x="193" y="137"/>
                </a:lnTo>
                <a:lnTo>
                  <a:pt x="186" y="144"/>
                </a:lnTo>
                <a:lnTo>
                  <a:pt x="179" y="144"/>
                </a:lnTo>
                <a:lnTo>
                  <a:pt x="179" y="151"/>
                </a:lnTo>
                <a:lnTo>
                  <a:pt x="172" y="158"/>
                </a:lnTo>
                <a:lnTo>
                  <a:pt x="172" y="165"/>
                </a:lnTo>
                <a:lnTo>
                  <a:pt x="166" y="165"/>
                </a:lnTo>
                <a:lnTo>
                  <a:pt x="159" y="172"/>
                </a:lnTo>
                <a:lnTo>
                  <a:pt x="159" y="179"/>
                </a:lnTo>
                <a:lnTo>
                  <a:pt x="152" y="179"/>
                </a:lnTo>
                <a:lnTo>
                  <a:pt x="145" y="186"/>
                </a:lnTo>
                <a:lnTo>
                  <a:pt x="138" y="186"/>
                </a:lnTo>
                <a:lnTo>
                  <a:pt x="138" y="192"/>
                </a:lnTo>
                <a:lnTo>
                  <a:pt x="131" y="199"/>
                </a:lnTo>
                <a:lnTo>
                  <a:pt x="131" y="206"/>
                </a:lnTo>
                <a:lnTo>
                  <a:pt x="131" y="213"/>
                </a:lnTo>
                <a:lnTo>
                  <a:pt x="131" y="220"/>
                </a:lnTo>
                <a:lnTo>
                  <a:pt x="131" y="227"/>
                </a:lnTo>
                <a:lnTo>
                  <a:pt x="131" y="227"/>
                </a:lnTo>
                <a:lnTo>
                  <a:pt x="131" y="234"/>
                </a:lnTo>
                <a:lnTo>
                  <a:pt x="124" y="241"/>
                </a:lnTo>
                <a:lnTo>
                  <a:pt x="117" y="241"/>
                </a:lnTo>
                <a:lnTo>
                  <a:pt x="110" y="248"/>
                </a:lnTo>
                <a:lnTo>
                  <a:pt x="110" y="254"/>
                </a:lnTo>
                <a:lnTo>
                  <a:pt x="110" y="261"/>
                </a:lnTo>
                <a:lnTo>
                  <a:pt x="110" y="268"/>
                </a:lnTo>
                <a:lnTo>
                  <a:pt x="110" y="268"/>
                </a:lnTo>
                <a:lnTo>
                  <a:pt x="110" y="275"/>
                </a:lnTo>
                <a:lnTo>
                  <a:pt x="110" y="282"/>
                </a:lnTo>
                <a:lnTo>
                  <a:pt x="104" y="289"/>
                </a:lnTo>
                <a:lnTo>
                  <a:pt x="104" y="296"/>
                </a:lnTo>
                <a:lnTo>
                  <a:pt x="97" y="303"/>
                </a:lnTo>
                <a:lnTo>
                  <a:pt x="90" y="303"/>
                </a:lnTo>
                <a:lnTo>
                  <a:pt x="90" y="296"/>
                </a:lnTo>
                <a:lnTo>
                  <a:pt x="83" y="296"/>
                </a:lnTo>
                <a:lnTo>
                  <a:pt x="76" y="289"/>
                </a:lnTo>
                <a:lnTo>
                  <a:pt x="76" y="282"/>
                </a:lnTo>
                <a:lnTo>
                  <a:pt x="69" y="275"/>
                </a:lnTo>
                <a:lnTo>
                  <a:pt x="62" y="275"/>
                </a:lnTo>
                <a:lnTo>
                  <a:pt x="55" y="268"/>
                </a:lnTo>
                <a:lnTo>
                  <a:pt x="48" y="268"/>
                </a:lnTo>
                <a:lnTo>
                  <a:pt x="41" y="268"/>
                </a:lnTo>
                <a:lnTo>
                  <a:pt x="28" y="268"/>
                </a:lnTo>
                <a:lnTo>
                  <a:pt x="21" y="268"/>
                </a:lnTo>
                <a:lnTo>
                  <a:pt x="14" y="268"/>
                </a:lnTo>
                <a:lnTo>
                  <a:pt x="7" y="268"/>
                </a:lnTo>
                <a:lnTo>
                  <a:pt x="0" y="261"/>
                </a:lnTo>
                <a:lnTo>
                  <a:pt x="0" y="261"/>
                </a:lnTo>
                <a:lnTo>
                  <a:pt x="0" y="254"/>
                </a:lnTo>
                <a:lnTo>
                  <a:pt x="0" y="248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4" name=""/>
          <p:cNvSpPr/>
          <p:nvPr/>
        </p:nvSpPr>
        <p:spPr>
          <a:xfrm>
            <a:off x="2131920" y="3657600"/>
            <a:ext cx="11160" cy="11160"/>
          </a:xfrm>
          <a:custGeom>
            <a:avLst/>
            <a:gdLst/>
            <a:ahLst/>
            <a:rect l="l" t="t" r="r" b="b"/>
            <a:pathLst>
              <a:path w="7" h="7">
                <a:moveTo>
                  <a:pt x="7" y="0"/>
                </a:moveTo>
                <a:lnTo>
                  <a:pt x="7" y="0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5" name=""/>
          <p:cNvSpPr/>
          <p:nvPr/>
        </p:nvSpPr>
        <p:spPr>
          <a:xfrm>
            <a:off x="2131920" y="3733920"/>
            <a:ext cx="657360" cy="218880"/>
          </a:xfrm>
          <a:custGeom>
            <a:avLst/>
            <a:gdLst/>
            <a:ahLst/>
            <a:rect l="l" t="t" r="r" b="b"/>
            <a:pathLst>
              <a:path w="414" h="138">
                <a:moveTo>
                  <a:pt x="0" y="35"/>
                </a:moveTo>
                <a:lnTo>
                  <a:pt x="7" y="28"/>
                </a:lnTo>
                <a:lnTo>
                  <a:pt x="7" y="28"/>
                </a:lnTo>
                <a:lnTo>
                  <a:pt x="14" y="21"/>
                </a:lnTo>
                <a:lnTo>
                  <a:pt x="21" y="14"/>
                </a:lnTo>
                <a:lnTo>
                  <a:pt x="21" y="7"/>
                </a:lnTo>
                <a:lnTo>
                  <a:pt x="28" y="0"/>
                </a:lnTo>
                <a:lnTo>
                  <a:pt x="35" y="7"/>
                </a:lnTo>
                <a:lnTo>
                  <a:pt x="42" y="7"/>
                </a:lnTo>
                <a:lnTo>
                  <a:pt x="49" y="14"/>
                </a:lnTo>
                <a:lnTo>
                  <a:pt x="49" y="21"/>
                </a:lnTo>
                <a:lnTo>
                  <a:pt x="56" y="28"/>
                </a:lnTo>
                <a:lnTo>
                  <a:pt x="56" y="35"/>
                </a:lnTo>
                <a:lnTo>
                  <a:pt x="56" y="41"/>
                </a:lnTo>
                <a:lnTo>
                  <a:pt x="56" y="41"/>
                </a:lnTo>
                <a:lnTo>
                  <a:pt x="62" y="41"/>
                </a:lnTo>
                <a:lnTo>
                  <a:pt x="69" y="41"/>
                </a:lnTo>
                <a:lnTo>
                  <a:pt x="83" y="41"/>
                </a:lnTo>
                <a:lnTo>
                  <a:pt x="90" y="35"/>
                </a:lnTo>
                <a:lnTo>
                  <a:pt x="104" y="35"/>
                </a:lnTo>
                <a:lnTo>
                  <a:pt x="111" y="35"/>
                </a:lnTo>
                <a:lnTo>
                  <a:pt x="118" y="35"/>
                </a:lnTo>
                <a:lnTo>
                  <a:pt x="124" y="41"/>
                </a:lnTo>
                <a:lnTo>
                  <a:pt x="124" y="48"/>
                </a:lnTo>
                <a:lnTo>
                  <a:pt x="124" y="55"/>
                </a:lnTo>
                <a:lnTo>
                  <a:pt x="124" y="62"/>
                </a:lnTo>
                <a:lnTo>
                  <a:pt x="124" y="62"/>
                </a:lnTo>
                <a:lnTo>
                  <a:pt x="118" y="69"/>
                </a:lnTo>
                <a:lnTo>
                  <a:pt x="111" y="69"/>
                </a:lnTo>
                <a:lnTo>
                  <a:pt x="104" y="69"/>
                </a:lnTo>
                <a:lnTo>
                  <a:pt x="97" y="69"/>
                </a:lnTo>
                <a:lnTo>
                  <a:pt x="83" y="69"/>
                </a:lnTo>
                <a:lnTo>
                  <a:pt x="69" y="76"/>
                </a:lnTo>
                <a:lnTo>
                  <a:pt x="62" y="76"/>
                </a:lnTo>
                <a:lnTo>
                  <a:pt x="62" y="76"/>
                </a:lnTo>
                <a:lnTo>
                  <a:pt x="62" y="83"/>
                </a:lnTo>
                <a:lnTo>
                  <a:pt x="76" y="83"/>
                </a:lnTo>
                <a:lnTo>
                  <a:pt x="83" y="83"/>
                </a:lnTo>
                <a:lnTo>
                  <a:pt x="97" y="83"/>
                </a:lnTo>
                <a:lnTo>
                  <a:pt x="104" y="83"/>
                </a:lnTo>
                <a:lnTo>
                  <a:pt x="111" y="83"/>
                </a:lnTo>
                <a:lnTo>
                  <a:pt x="124" y="83"/>
                </a:lnTo>
                <a:lnTo>
                  <a:pt x="131" y="90"/>
                </a:lnTo>
                <a:lnTo>
                  <a:pt x="138" y="90"/>
                </a:lnTo>
                <a:lnTo>
                  <a:pt x="145" y="97"/>
                </a:lnTo>
                <a:lnTo>
                  <a:pt x="152" y="97"/>
                </a:lnTo>
                <a:lnTo>
                  <a:pt x="159" y="90"/>
                </a:lnTo>
                <a:lnTo>
                  <a:pt x="166" y="83"/>
                </a:lnTo>
                <a:lnTo>
                  <a:pt x="173" y="76"/>
                </a:lnTo>
                <a:lnTo>
                  <a:pt x="173" y="76"/>
                </a:lnTo>
                <a:lnTo>
                  <a:pt x="180" y="69"/>
                </a:lnTo>
                <a:lnTo>
                  <a:pt x="180" y="62"/>
                </a:lnTo>
                <a:lnTo>
                  <a:pt x="180" y="55"/>
                </a:lnTo>
                <a:lnTo>
                  <a:pt x="180" y="48"/>
                </a:lnTo>
                <a:lnTo>
                  <a:pt x="187" y="48"/>
                </a:lnTo>
                <a:lnTo>
                  <a:pt x="193" y="41"/>
                </a:lnTo>
                <a:lnTo>
                  <a:pt x="200" y="41"/>
                </a:lnTo>
                <a:lnTo>
                  <a:pt x="207" y="41"/>
                </a:lnTo>
                <a:lnTo>
                  <a:pt x="221" y="41"/>
                </a:lnTo>
                <a:lnTo>
                  <a:pt x="228" y="48"/>
                </a:lnTo>
                <a:lnTo>
                  <a:pt x="235" y="48"/>
                </a:lnTo>
                <a:lnTo>
                  <a:pt x="249" y="48"/>
                </a:lnTo>
                <a:lnTo>
                  <a:pt x="255" y="41"/>
                </a:lnTo>
                <a:lnTo>
                  <a:pt x="262" y="41"/>
                </a:lnTo>
                <a:lnTo>
                  <a:pt x="269" y="48"/>
                </a:lnTo>
                <a:lnTo>
                  <a:pt x="269" y="55"/>
                </a:lnTo>
                <a:lnTo>
                  <a:pt x="269" y="62"/>
                </a:lnTo>
                <a:lnTo>
                  <a:pt x="269" y="69"/>
                </a:lnTo>
                <a:lnTo>
                  <a:pt x="269" y="76"/>
                </a:lnTo>
                <a:lnTo>
                  <a:pt x="269" y="76"/>
                </a:lnTo>
                <a:lnTo>
                  <a:pt x="269" y="83"/>
                </a:lnTo>
                <a:lnTo>
                  <a:pt x="269" y="90"/>
                </a:lnTo>
                <a:lnTo>
                  <a:pt x="262" y="97"/>
                </a:lnTo>
                <a:lnTo>
                  <a:pt x="262" y="103"/>
                </a:lnTo>
                <a:lnTo>
                  <a:pt x="262" y="110"/>
                </a:lnTo>
                <a:lnTo>
                  <a:pt x="262" y="110"/>
                </a:lnTo>
                <a:lnTo>
                  <a:pt x="269" y="117"/>
                </a:lnTo>
                <a:lnTo>
                  <a:pt x="276" y="124"/>
                </a:lnTo>
                <a:lnTo>
                  <a:pt x="283" y="124"/>
                </a:lnTo>
                <a:lnTo>
                  <a:pt x="290" y="124"/>
                </a:lnTo>
                <a:lnTo>
                  <a:pt x="304" y="131"/>
                </a:lnTo>
                <a:lnTo>
                  <a:pt x="311" y="131"/>
                </a:lnTo>
                <a:lnTo>
                  <a:pt x="318" y="131"/>
                </a:lnTo>
                <a:lnTo>
                  <a:pt x="324" y="131"/>
                </a:lnTo>
                <a:lnTo>
                  <a:pt x="338" y="131"/>
                </a:lnTo>
                <a:lnTo>
                  <a:pt x="345" y="131"/>
                </a:lnTo>
                <a:lnTo>
                  <a:pt x="352" y="124"/>
                </a:lnTo>
                <a:lnTo>
                  <a:pt x="359" y="124"/>
                </a:lnTo>
                <a:lnTo>
                  <a:pt x="366" y="117"/>
                </a:lnTo>
                <a:lnTo>
                  <a:pt x="380" y="117"/>
                </a:lnTo>
                <a:lnTo>
                  <a:pt x="386" y="117"/>
                </a:lnTo>
                <a:lnTo>
                  <a:pt x="386" y="117"/>
                </a:lnTo>
                <a:lnTo>
                  <a:pt x="393" y="124"/>
                </a:lnTo>
                <a:lnTo>
                  <a:pt x="400" y="131"/>
                </a:lnTo>
                <a:lnTo>
                  <a:pt x="407" y="131"/>
                </a:lnTo>
                <a:lnTo>
                  <a:pt x="414" y="138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6" name=""/>
          <p:cNvSpPr/>
          <p:nvPr/>
        </p:nvSpPr>
        <p:spPr>
          <a:xfrm>
            <a:off x="4475160" y="3548160"/>
            <a:ext cx="306360" cy="371520"/>
          </a:xfrm>
          <a:custGeom>
            <a:avLst/>
            <a:gdLst/>
            <a:ahLst/>
            <a:rect l="l" t="t" r="r" b="b"/>
            <a:pathLst>
              <a:path w="193" h="234">
                <a:moveTo>
                  <a:pt x="41" y="227"/>
                </a:moveTo>
                <a:lnTo>
                  <a:pt x="55" y="220"/>
                </a:lnTo>
                <a:lnTo>
                  <a:pt x="62" y="220"/>
                </a:lnTo>
                <a:lnTo>
                  <a:pt x="69" y="220"/>
                </a:lnTo>
                <a:lnTo>
                  <a:pt x="83" y="220"/>
                </a:lnTo>
                <a:lnTo>
                  <a:pt x="90" y="220"/>
                </a:lnTo>
                <a:lnTo>
                  <a:pt x="103" y="220"/>
                </a:lnTo>
                <a:lnTo>
                  <a:pt x="110" y="220"/>
                </a:lnTo>
                <a:lnTo>
                  <a:pt x="117" y="220"/>
                </a:lnTo>
                <a:lnTo>
                  <a:pt x="124" y="214"/>
                </a:lnTo>
                <a:lnTo>
                  <a:pt x="124" y="207"/>
                </a:lnTo>
                <a:lnTo>
                  <a:pt x="124" y="200"/>
                </a:lnTo>
                <a:lnTo>
                  <a:pt x="124" y="193"/>
                </a:lnTo>
                <a:lnTo>
                  <a:pt x="131" y="186"/>
                </a:lnTo>
                <a:lnTo>
                  <a:pt x="131" y="179"/>
                </a:lnTo>
                <a:lnTo>
                  <a:pt x="131" y="172"/>
                </a:lnTo>
                <a:lnTo>
                  <a:pt x="131" y="165"/>
                </a:lnTo>
                <a:lnTo>
                  <a:pt x="131" y="158"/>
                </a:lnTo>
                <a:lnTo>
                  <a:pt x="131" y="152"/>
                </a:lnTo>
                <a:lnTo>
                  <a:pt x="138" y="145"/>
                </a:lnTo>
                <a:lnTo>
                  <a:pt x="138" y="138"/>
                </a:lnTo>
                <a:lnTo>
                  <a:pt x="138" y="138"/>
                </a:lnTo>
                <a:lnTo>
                  <a:pt x="138" y="131"/>
                </a:lnTo>
                <a:lnTo>
                  <a:pt x="145" y="124"/>
                </a:lnTo>
                <a:lnTo>
                  <a:pt x="145" y="117"/>
                </a:lnTo>
                <a:lnTo>
                  <a:pt x="152" y="110"/>
                </a:lnTo>
                <a:lnTo>
                  <a:pt x="158" y="103"/>
                </a:lnTo>
                <a:lnTo>
                  <a:pt x="158" y="96"/>
                </a:lnTo>
                <a:lnTo>
                  <a:pt x="165" y="90"/>
                </a:lnTo>
                <a:lnTo>
                  <a:pt x="165" y="90"/>
                </a:lnTo>
                <a:lnTo>
                  <a:pt x="165" y="83"/>
                </a:lnTo>
                <a:lnTo>
                  <a:pt x="172" y="76"/>
                </a:lnTo>
                <a:lnTo>
                  <a:pt x="172" y="69"/>
                </a:lnTo>
                <a:lnTo>
                  <a:pt x="179" y="62"/>
                </a:lnTo>
                <a:lnTo>
                  <a:pt x="179" y="55"/>
                </a:lnTo>
                <a:lnTo>
                  <a:pt x="186" y="48"/>
                </a:lnTo>
                <a:lnTo>
                  <a:pt x="186" y="41"/>
                </a:lnTo>
                <a:lnTo>
                  <a:pt x="193" y="34"/>
                </a:lnTo>
                <a:lnTo>
                  <a:pt x="193" y="34"/>
                </a:lnTo>
                <a:lnTo>
                  <a:pt x="193" y="28"/>
                </a:lnTo>
                <a:lnTo>
                  <a:pt x="193" y="21"/>
                </a:lnTo>
                <a:lnTo>
                  <a:pt x="193" y="14"/>
                </a:lnTo>
                <a:lnTo>
                  <a:pt x="186" y="7"/>
                </a:lnTo>
                <a:lnTo>
                  <a:pt x="179" y="0"/>
                </a:lnTo>
                <a:lnTo>
                  <a:pt x="172" y="7"/>
                </a:lnTo>
                <a:lnTo>
                  <a:pt x="158" y="7"/>
                </a:lnTo>
                <a:lnTo>
                  <a:pt x="152" y="7"/>
                </a:lnTo>
                <a:lnTo>
                  <a:pt x="145" y="14"/>
                </a:lnTo>
                <a:lnTo>
                  <a:pt x="138" y="21"/>
                </a:lnTo>
                <a:lnTo>
                  <a:pt x="131" y="21"/>
                </a:lnTo>
                <a:lnTo>
                  <a:pt x="124" y="28"/>
                </a:lnTo>
                <a:lnTo>
                  <a:pt x="117" y="34"/>
                </a:lnTo>
                <a:lnTo>
                  <a:pt x="110" y="34"/>
                </a:lnTo>
                <a:lnTo>
                  <a:pt x="103" y="41"/>
                </a:lnTo>
                <a:lnTo>
                  <a:pt x="96" y="48"/>
                </a:lnTo>
                <a:lnTo>
                  <a:pt x="96" y="55"/>
                </a:lnTo>
                <a:lnTo>
                  <a:pt x="90" y="62"/>
                </a:lnTo>
                <a:lnTo>
                  <a:pt x="90" y="69"/>
                </a:lnTo>
                <a:lnTo>
                  <a:pt x="83" y="76"/>
                </a:lnTo>
                <a:lnTo>
                  <a:pt x="83" y="76"/>
                </a:lnTo>
                <a:lnTo>
                  <a:pt x="83" y="90"/>
                </a:lnTo>
                <a:lnTo>
                  <a:pt x="76" y="90"/>
                </a:lnTo>
                <a:lnTo>
                  <a:pt x="69" y="96"/>
                </a:lnTo>
                <a:lnTo>
                  <a:pt x="62" y="103"/>
                </a:lnTo>
                <a:lnTo>
                  <a:pt x="55" y="103"/>
                </a:lnTo>
                <a:lnTo>
                  <a:pt x="41" y="103"/>
                </a:lnTo>
                <a:lnTo>
                  <a:pt x="34" y="103"/>
                </a:lnTo>
                <a:lnTo>
                  <a:pt x="27" y="110"/>
                </a:lnTo>
                <a:lnTo>
                  <a:pt x="21" y="110"/>
                </a:lnTo>
                <a:lnTo>
                  <a:pt x="21" y="117"/>
                </a:lnTo>
                <a:lnTo>
                  <a:pt x="21" y="124"/>
                </a:lnTo>
                <a:lnTo>
                  <a:pt x="14" y="131"/>
                </a:lnTo>
                <a:lnTo>
                  <a:pt x="14" y="138"/>
                </a:lnTo>
                <a:lnTo>
                  <a:pt x="14" y="145"/>
                </a:lnTo>
                <a:lnTo>
                  <a:pt x="14" y="152"/>
                </a:lnTo>
                <a:lnTo>
                  <a:pt x="14" y="158"/>
                </a:lnTo>
                <a:lnTo>
                  <a:pt x="14" y="165"/>
                </a:lnTo>
                <a:lnTo>
                  <a:pt x="14" y="172"/>
                </a:lnTo>
                <a:lnTo>
                  <a:pt x="14" y="179"/>
                </a:lnTo>
                <a:lnTo>
                  <a:pt x="14" y="186"/>
                </a:lnTo>
                <a:lnTo>
                  <a:pt x="14" y="193"/>
                </a:lnTo>
                <a:lnTo>
                  <a:pt x="14" y="193"/>
                </a:lnTo>
                <a:lnTo>
                  <a:pt x="7" y="200"/>
                </a:lnTo>
                <a:lnTo>
                  <a:pt x="7" y="207"/>
                </a:lnTo>
                <a:lnTo>
                  <a:pt x="0" y="214"/>
                </a:lnTo>
                <a:lnTo>
                  <a:pt x="0" y="220"/>
                </a:lnTo>
                <a:lnTo>
                  <a:pt x="0" y="227"/>
                </a:lnTo>
                <a:lnTo>
                  <a:pt x="0" y="234"/>
                </a:lnTo>
                <a:lnTo>
                  <a:pt x="7" y="234"/>
                </a:lnTo>
                <a:lnTo>
                  <a:pt x="14" y="234"/>
                </a:lnTo>
                <a:lnTo>
                  <a:pt x="27" y="227"/>
                </a:lnTo>
                <a:lnTo>
                  <a:pt x="34" y="227"/>
                </a:lnTo>
                <a:lnTo>
                  <a:pt x="41" y="227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7" name=""/>
          <p:cNvSpPr/>
          <p:nvPr/>
        </p:nvSpPr>
        <p:spPr>
          <a:xfrm>
            <a:off x="4003560" y="3711600"/>
            <a:ext cx="1800" cy="66600"/>
          </a:xfrm>
          <a:custGeom>
            <a:avLst/>
            <a:gdLst/>
            <a:ahLst/>
            <a:rect l="l" t="t" r="r" b="b"/>
            <a:pathLst>
              <a:path w="0" h="42">
                <a:moveTo>
                  <a:pt x="0" y="35"/>
                </a:moveTo>
                <a:lnTo>
                  <a:pt x="0" y="28"/>
                </a:lnTo>
                <a:lnTo>
                  <a:pt x="0" y="28"/>
                </a:lnTo>
                <a:lnTo>
                  <a:pt x="0" y="21"/>
                </a:lnTo>
                <a:lnTo>
                  <a:pt x="0" y="14"/>
                </a:lnTo>
                <a:lnTo>
                  <a:pt x="0" y="14"/>
                </a:lnTo>
                <a:lnTo>
                  <a:pt x="0" y="7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7"/>
                </a:lnTo>
                <a:lnTo>
                  <a:pt x="0" y="14"/>
                </a:lnTo>
                <a:lnTo>
                  <a:pt x="0" y="14"/>
                </a:lnTo>
                <a:lnTo>
                  <a:pt x="0" y="21"/>
                </a:lnTo>
                <a:lnTo>
                  <a:pt x="0" y="21"/>
                </a:lnTo>
                <a:lnTo>
                  <a:pt x="0" y="28"/>
                </a:lnTo>
                <a:lnTo>
                  <a:pt x="0" y="35"/>
                </a:lnTo>
                <a:lnTo>
                  <a:pt x="0" y="35"/>
                </a:lnTo>
                <a:lnTo>
                  <a:pt x="0" y="42"/>
                </a:lnTo>
                <a:lnTo>
                  <a:pt x="0" y="42"/>
                </a:lnTo>
                <a:lnTo>
                  <a:pt x="0" y="35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8" name=""/>
          <p:cNvSpPr/>
          <p:nvPr/>
        </p:nvSpPr>
        <p:spPr>
          <a:xfrm>
            <a:off x="4014720" y="3635280"/>
            <a:ext cx="44640" cy="44640"/>
          </a:xfrm>
          <a:custGeom>
            <a:avLst/>
            <a:gdLst/>
            <a:ahLst/>
            <a:rect l="l" t="t" r="r" b="b"/>
            <a:pathLst>
              <a:path w="28" h="28">
                <a:moveTo>
                  <a:pt x="28" y="21"/>
                </a:moveTo>
                <a:lnTo>
                  <a:pt x="28" y="14"/>
                </a:lnTo>
                <a:lnTo>
                  <a:pt x="28" y="7"/>
                </a:lnTo>
                <a:lnTo>
                  <a:pt x="28" y="0"/>
                </a:lnTo>
                <a:lnTo>
                  <a:pt x="28" y="0"/>
                </a:lnTo>
                <a:lnTo>
                  <a:pt x="21" y="0"/>
                </a:lnTo>
                <a:lnTo>
                  <a:pt x="14" y="0"/>
                </a:lnTo>
                <a:lnTo>
                  <a:pt x="7" y="7"/>
                </a:lnTo>
                <a:lnTo>
                  <a:pt x="0" y="14"/>
                </a:lnTo>
                <a:lnTo>
                  <a:pt x="0" y="21"/>
                </a:lnTo>
                <a:lnTo>
                  <a:pt x="7" y="28"/>
                </a:lnTo>
                <a:lnTo>
                  <a:pt x="14" y="28"/>
                </a:lnTo>
                <a:lnTo>
                  <a:pt x="21" y="28"/>
                </a:lnTo>
                <a:lnTo>
                  <a:pt x="28" y="28"/>
                </a:lnTo>
                <a:lnTo>
                  <a:pt x="28" y="21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9" name=""/>
          <p:cNvSpPr/>
          <p:nvPr/>
        </p:nvSpPr>
        <p:spPr>
          <a:xfrm>
            <a:off x="3292560" y="3570120"/>
            <a:ext cx="11160" cy="11160"/>
          </a:xfrm>
          <a:custGeom>
            <a:avLst/>
            <a:gdLst/>
            <a:ahLst/>
            <a:rect l="l" t="t" r="r" b="b"/>
            <a:pathLst>
              <a:path w="7" h="7">
                <a:moveTo>
                  <a:pt x="7" y="0"/>
                </a:move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0" name=""/>
          <p:cNvSpPr/>
          <p:nvPr/>
        </p:nvSpPr>
        <p:spPr>
          <a:xfrm>
            <a:off x="3621240" y="3537000"/>
            <a:ext cx="55440" cy="55440"/>
          </a:xfrm>
          <a:custGeom>
            <a:avLst/>
            <a:gdLst/>
            <a:ahLst/>
            <a:rect l="l" t="t" r="r" b="b"/>
            <a:pathLst>
              <a:path w="35" h="35">
                <a:moveTo>
                  <a:pt x="35" y="21"/>
                </a:moveTo>
                <a:lnTo>
                  <a:pt x="35" y="21"/>
                </a:lnTo>
                <a:lnTo>
                  <a:pt x="35" y="14"/>
                </a:lnTo>
                <a:lnTo>
                  <a:pt x="28" y="7"/>
                </a:lnTo>
                <a:lnTo>
                  <a:pt x="21" y="7"/>
                </a:lnTo>
                <a:lnTo>
                  <a:pt x="14" y="0"/>
                </a:lnTo>
                <a:lnTo>
                  <a:pt x="14" y="0"/>
                </a:lnTo>
                <a:lnTo>
                  <a:pt x="7" y="0"/>
                </a:lnTo>
                <a:lnTo>
                  <a:pt x="7" y="0"/>
                </a:lnTo>
                <a:lnTo>
                  <a:pt x="0" y="7"/>
                </a:lnTo>
                <a:lnTo>
                  <a:pt x="0" y="7"/>
                </a:lnTo>
                <a:lnTo>
                  <a:pt x="0" y="14"/>
                </a:lnTo>
                <a:lnTo>
                  <a:pt x="7" y="21"/>
                </a:lnTo>
                <a:lnTo>
                  <a:pt x="7" y="28"/>
                </a:lnTo>
                <a:lnTo>
                  <a:pt x="7" y="28"/>
                </a:lnTo>
                <a:lnTo>
                  <a:pt x="7" y="35"/>
                </a:lnTo>
                <a:lnTo>
                  <a:pt x="14" y="35"/>
                </a:lnTo>
                <a:lnTo>
                  <a:pt x="28" y="35"/>
                </a:lnTo>
                <a:lnTo>
                  <a:pt x="35" y="35"/>
                </a:lnTo>
                <a:lnTo>
                  <a:pt x="35" y="28"/>
                </a:lnTo>
                <a:lnTo>
                  <a:pt x="35" y="21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1" name=""/>
          <p:cNvSpPr/>
          <p:nvPr/>
        </p:nvSpPr>
        <p:spPr>
          <a:xfrm>
            <a:off x="4102200" y="3570120"/>
            <a:ext cx="1440" cy="180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2" name=""/>
          <p:cNvSpPr/>
          <p:nvPr/>
        </p:nvSpPr>
        <p:spPr>
          <a:xfrm>
            <a:off x="2340000" y="3483000"/>
            <a:ext cx="55440" cy="20520"/>
          </a:xfrm>
          <a:custGeom>
            <a:avLst/>
            <a:gdLst/>
            <a:ahLst/>
            <a:rect l="l" t="t" r="r" b="b"/>
            <a:pathLst>
              <a:path w="35" h="13">
                <a:moveTo>
                  <a:pt x="0" y="13"/>
                </a:moveTo>
                <a:lnTo>
                  <a:pt x="7" y="13"/>
                </a:lnTo>
                <a:lnTo>
                  <a:pt x="14" y="13"/>
                </a:lnTo>
                <a:lnTo>
                  <a:pt x="14" y="13"/>
                </a:lnTo>
                <a:lnTo>
                  <a:pt x="21" y="13"/>
                </a:lnTo>
                <a:lnTo>
                  <a:pt x="28" y="13"/>
                </a:lnTo>
                <a:lnTo>
                  <a:pt x="28" y="7"/>
                </a:lnTo>
                <a:lnTo>
                  <a:pt x="28" y="7"/>
                </a:lnTo>
                <a:lnTo>
                  <a:pt x="35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3" name=""/>
          <p:cNvSpPr/>
          <p:nvPr/>
        </p:nvSpPr>
        <p:spPr>
          <a:xfrm>
            <a:off x="3446640" y="3373560"/>
            <a:ext cx="196560" cy="152280"/>
          </a:xfrm>
          <a:custGeom>
            <a:avLst/>
            <a:gdLst/>
            <a:ahLst/>
            <a:rect l="l" t="t" r="r" b="b"/>
            <a:pathLst>
              <a:path w="124" h="96">
                <a:moveTo>
                  <a:pt x="124" y="69"/>
                </a:moveTo>
                <a:lnTo>
                  <a:pt x="117" y="62"/>
                </a:lnTo>
                <a:lnTo>
                  <a:pt x="117" y="55"/>
                </a:lnTo>
                <a:lnTo>
                  <a:pt x="110" y="48"/>
                </a:lnTo>
                <a:lnTo>
                  <a:pt x="110" y="48"/>
                </a:lnTo>
                <a:lnTo>
                  <a:pt x="103" y="41"/>
                </a:lnTo>
                <a:lnTo>
                  <a:pt x="103" y="34"/>
                </a:lnTo>
                <a:lnTo>
                  <a:pt x="103" y="27"/>
                </a:lnTo>
                <a:lnTo>
                  <a:pt x="110" y="20"/>
                </a:lnTo>
                <a:lnTo>
                  <a:pt x="110" y="14"/>
                </a:lnTo>
                <a:lnTo>
                  <a:pt x="110" y="7"/>
                </a:lnTo>
                <a:lnTo>
                  <a:pt x="103" y="7"/>
                </a:lnTo>
                <a:lnTo>
                  <a:pt x="96" y="0"/>
                </a:lnTo>
                <a:lnTo>
                  <a:pt x="89" y="0"/>
                </a:lnTo>
                <a:lnTo>
                  <a:pt x="76" y="0"/>
                </a:lnTo>
                <a:lnTo>
                  <a:pt x="69" y="0"/>
                </a:lnTo>
                <a:lnTo>
                  <a:pt x="62" y="7"/>
                </a:lnTo>
                <a:lnTo>
                  <a:pt x="55" y="7"/>
                </a:lnTo>
                <a:lnTo>
                  <a:pt x="48" y="14"/>
                </a:lnTo>
                <a:lnTo>
                  <a:pt x="41" y="20"/>
                </a:lnTo>
                <a:lnTo>
                  <a:pt x="41" y="27"/>
                </a:lnTo>
                <a:lnTo>
                  <a:pt x="34" y="27"/>
                </a:lnTo>
                <a:lnTo>
                  <a:pt x="27" y="34"/>
                </a:lnTo>
                <a:lnTo>
                  <a:pt x="20" y="41"/>
                </a:lnTo>
                <a:lnTo>
                  <a:pt x="20" y="41"/>
                </a:lnTo>
                <a:lnTo>
                  <a:pt x="14" y="48"/>
                </a:lnTo>
                <a:lnTo>
                  <a:pt x="14" y="55"/>
                </a:lnTo>
                <a:lnTo>
                  <a:pt x="7" y="62"/>
                </a:lnTo>
                <a:lnTo>
                  <a:pt x="0" y="69"/>
                </a:lnTo>
                <a:lnTo>
                  <a:pt x="0" y="69"/>
                </a:lnTo>
                <a:lnTo>
                  <a:pt x="7" y="76"/>
                </a:lnTo>
                <a:lnTo>
                  <a:pt x="14" y="82"/>
                </a:lnTo>
                <a:lnTo>
                  <a:pt x="20" y="82"/>
                </a:lnTo>
                <a:lnTo>
                  <a:pt x="27" y="89"/>
                </a:lnTo>
                <a:lnTo>
                  <a:pt x="34" y="89"/>
                </a:lnTo>
                <a:lnTo>
                  <a:pt x="41" y="82"/>
                </a:lnTo>
                <a:lnTo>
                  <a:pt x="48" y="82"/>
                </a:lnTo>
                <a:lnTo>
                  <a:pt x="62" y="76"/>
                </a:lnTo>
                <a:lnTo>
                  <a:pt x="69" y="76"/>
                </a:lnTo>
                <a:lnTo>
                  <a:pt x="76" y="69"/>
                </a:lnTo>
                <a:lnTo>
                  <a:pt x="82" y="69"/>
                </a:lnTo>
                <a:lnTo>
                  <a:pt x="96" y="76"/>
                </a:lnTo>
                <a:lnTo>
                  <a:pt x="103" y="76"/>
                </a:lnTo>
                <a:lnTo>
                  <a:pt x="103" y="82"/>
                </a:lnTo>
                <a:lnTo>
                  <a:pt x="110" y="89"/>
                </a:lnTo>
                <a:lnTo>
                  <a:pt x="117" y="96"/>
                </a:lnTo>
                <a:lnTo>
                  <a:pt x="117" y="96"/>
                </a:lnTo>
                <a:lnTo>
                  <a:pt x="117" y="89"/>
                </a:lnTo>
                <a:lnTo>
                  <a:pt x="117" y="89"/>
                </a:lnTo>
                <a:lnTo>
                  <a:pt x="124" y="76"/>
                </a:lnTo>
                <a:lnTo>
                  <a:pt x="124" y="69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4" name=""/>
          <p:cNvSpPr/>
          <p:nvPr/>
        </p:nvSpPr>
        <p:spPr>
          <a:xfrm flipV="1">
            <a:off x="2417760" y="3438360"/>
            <a:ext cx="1440" cy="22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5" name=""/>
          <p:cNvSpPr/>
          <p:nvPr/>
        </p:nvSpPr>
        <p:spPr>
          <a:xfrm>
            <a:off x="5722920" y="3427560"/>
            <a:ext cx="22320" cy="33120"/>
          </a:xfrm>
          <a:custGeom>
            <a:avLst/>
            <a:gdLst/>
            <a:ahLst/>
            <a:rect l="l" t="t" r="r" b="b"/>
            <a:pathLst>
              <a:path w="14" h="21">
                <a:moveTo>
                  <a:pt x="14" y="7"/>
                </a:moveTo>
                <a:lnTo>
                  <a:pt x="14" y="0"/>
                </a:lnTo>
                <a:lnTo>
                  <a:pt x="7" y="0"/>
                </a:lnTo>
                <a:lnTo>
                  <a:pt x="0" y="0"/>
                </a:lnTo>
                <a:lnTo>
                  <a:pt x="0" y="7"/>
                </a:lnTo>
                <a:lnTo>
                  <a:pt x="0" y="7"/>
                </a:lnTo>
                <a:lnTo>
                  <a:pt x="0" y="14"/>
                </a:lnTo>
                <a:lnTo>
                  <a:pt x="0" y="21"/>
                </a:lnTo>
                <a:lnTo>
                  <a:pt x="7" y="21"/>
                </a:lnTo>
                <a:lnTo>
                  <a:pt x="14" y="21"/>
                </a:lnTo>
                <a:lnTo>
                  <a:pt x="14" y="21"/>
                </a:lnTo>
                <a:lnTo>
                  <a:pt x="14" y="21"/>
                </a:lnTo>
                <a:lnTo>
                  <a:pt x="14" y="14"/>
                </a:lnTo>
                <a:lnTo>
                  <a:pt x="14" y="14"/>
                </a:lnTo>
                <a:lnTo>
                  <a:pt x="14" y="7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6" name=""/>
          <p:cNvSpPr/>
          <p:nvPr/>
        </p:nvSpPr>
        <p:spPr>
          <a:xfrm flipV="1">
            <a:off x="2460600" y="3384720"/>
            <a:ext cx="1440" cy="10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7" name=""/>
          <p:cNvSpPr/>
          <p:nvPr/>
        </p:nvSpPr>
        <p:spPr>
          <a:xfrm flipV="1">
            <a:off x="2505240" y="3339720"/>
            <a:ext cx="21960" cy="11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8" name=""/>
          <p:cNvSpPr/>
          <p:nvPr/>
        </p:nvSpPr>
        <p:spPr>
          <a:xfrm flipV="1">
            <a:off x="2548080" y="3296880"/>
            <a:ext cx="44280" cy="20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9" name=""/>
          <p:cNvSpPr/>
          <p:nvPr/>
        </p:nvSpPr>
        <p:spPr>
          <a:xfrm>
            <a:off x="2603520" y="3241800"/>
            <a:ext cx="76320" cy="44280"/>
          </a:xfrm>
          <a:custGeom>
            <a:avLst/>
            <a:gdLst/>
            <a:ahLst/>
            <a:rect l="l" t="t" r="r" b="b"/>
            <a:pathLst>
              <a:path w="48" h="28">
                <a:moveTo>
                  <a:pt x="0" y="28"/>
                </a:moveTo>
                <a:lnTo>
                  <a:pt x="7" y="28"/>
                </a:lnTo>
                <a:lnTo>
                  <a:pt x="14" y="28"/>
                </a:lnTo>
                <a:lnTo>
                  <a:pt x="27" y="21"/>
                </a:lnTo>
                <a:lnTo>
                  <a:pt x="27" y="21"/>
                </a:lnTo>
                <a:lnTo>
                  <a:pt x="34" y="14"/>
                </a:lnTo>
                <a:lnTo>
                  <a:pt x="41" y="14"/>
                </a:lnTo>
                <a:lnTo>
                  <a:pt x="48" y="7"/>
                </a:lnTo>
                <a:lnTo>
                  <a:pt x="48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0" name=""/>
          <p:cNvSpPr/>
          <p:nvPr/>
        </p:nvSpPr>
        <p:spPr>
          <a:xfrm flipV="1">
            <a:off x="2690640" y="3198600"/>
            <a:ext cx="4464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1" name=""/>
          <p:cNvSpPr/>
          <p:nvPr/>
        </p:nvSpPr>
        <p:spPr>
          <a:xfrm>
            <a:off x="5208480" y="2727360"/>
            <a:ext cx="11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2" name=""/>
          <p:cNvSpPr/>
          <p:nvPr/>
        </p:nvSpPr>
        <p:spPr>
          <a:xfrm>
            <a:off x="5219640" y="2727360"/>
            <a:ext cx="1149480" cy="480960"/>
          </a:xfrm>
          <a:custGeom>
            <a:avLst/>
            <a:gdLst/>
            <a:ahLst/>
            <a:rect l="l" t="t" r="r" b="b"/>
            <a:pathLst>
              <a:path w="724" h="303">
                <a:moveTo>
                  <a:pt x="0" y="0"/>
                </a:moveTo>
                <a:lnTo>
                  <a:pt x="7" y="7"/>
                </a:lnTo>
                <a:lnTo>
                  <a:pt x="20" y="7"/>
                </a:lnTo>
                <a:lnTo>
                  <a:pt x="27" y="7"/>
                </a:lnTo>
                <a:lnTo>
                  <a:pt x="34" y="7"/>
                </a:lnTo>
                <a:lnTo>
                  <a:pt x="48" y="7"/>
                </a:lnTo>
                <a:lnTo>
                  <a:pt x="55" y="14"/>
                </a:lnTo>
                <a:lnTo>
                  <a:pt x="62" y="14"/>
                </a:lnTo>
                <a:lnTo>
                  <a:pt x="69" y="21"/>
                </a:lnTo>
                <a:lnTo>
                  <a:pt x="82" y="21"/>
                </a:lnTo>
                <a:lnTo>
                  <a:pt x="89" y="28"/>
                </a:lnTo>
                <a:lnTo>
                  <a:pt x="96" y="28"/>
                </a:lnTo>
                <a:lnTo>
                  <a:pt x="103" y="28"/>
                </a:lnTo>
                <a:lnTo>
                  <a:pt x="110" y="35"/>
                </a:lnTo>
                <a:lnTo>
                  <a:pt x="124" y="35"/>
                </a:lnTo>
                <a:lnTo>
                  <a:pt x="131" y="42"/>
                </a:lnTo>
                <a:lnTo>
                  <a:pt x="138" y="42"/>
                </a:lnTo>
                <a:lnTo>
                  <a:pt x="151" y="42"/>
                </a:lnTo>
                <a:lnTo>
                  <a:pt x="158" y="49"/>
                </a:lnTo>
                <a:lnTo>
                  <a:pt x="165" y="49"/>
                </a:lnTo>
                <a:lnTo>
                  <a:pt x="179" y="49"/>
                </a:lnTo>
                <a:lnTo>
                  <a:pt x="186" y="55"/>
                </a:lnTo>
                <a:lnTo>
                  <a:pt x="193" y="55"/>
                </a:lnTo>
                <a:lnTo>
                  <a:pt x="200" y="55"/>
                </a:lnTo>
                <a:lnTo>
                  <a:pt x="213" y="62"/>
                </a:lnTo>
                <a:lnTo>
                  <a:pt x="220" y="62"/>
                </a:lnTo>
                <a:lnTo>
                  <a:pt x="227" y="62"/>
                </a:lnTo>
                <a:lnTo>
                  <a:pt x="241" y="69"/>
                </a:lnTo>
                <a:lnTo>
                  <a:pt x="248" y="69"/>
                </a:lnTo>
                <a:lnTo>
                  <a:pt x="255" y="69"/>
                </a:lnTo>
                <a:lnTo>
                  <a:pt x="262" y="76"/>
                </a:lnTo>
                <a:lnTo>
                  <a:pt x="276" y="76"/>
                </a:lnTo>
                <a:lnTo>
                  <a:pt x="282" y="76"/>
                </a:lnTo>
                <a:lnTo>
                  <a:pt x="289" y="83"/>
                </a:lnTo>
                <a:lnTo>
                  <a:pt x="303" y="83"/>
                </a:lnTo>
                <a:lnTo>
                  <a:pt x="310" y="90"/>
                </a:lnTo>
                <a:lnTo>
                  <a:pt x="317" y="90"/>
                </a:lnTo>
                <a:lnTo>
                  <a:pt x="324" y="90"/>
                </a:lnTo>
                <a:lnTo>
                  <a:pt x="338" y="97"/>
                </a:lnTo>
                <a:lnTo>
                  <a:pt x="344" y="97"/>
                </a:lnTo>
                <a:lnTo>
                  <a:pt x="351" y="97"/>
                </a:lnTo>
                <a:lnTo>
                  <a:pt x="365" y="104"/>
                </a:lnTo>
                <a:lnTo>
                  <a:pt x="372" y="104"/>
                </a:lnTo>
                <a:lnTo>
                  <a:pt x="379" y="104"/>
                </a:lnTo>
                <a:lnTo>
                  <a:pt x="393" y="111"/>
                </a:lnTo>
                <a:lnTo>
                  <a:pt x="400" y="111"/>
                </a:lnTo>
                <a:lnTo>
                  <a:pt x="407" y="111"/>
                </a:lnTo>
                <a:lnTo>
                  <a:pt x="413" y="117"/>
                </a:lnTo>
                <a:lnTo>
                  <a:pt x="427" y="117"/>
                </a:lnTo>
                <a:lnTo>
                  <a:pt x="434" y="124"/>
                </a:lnTo>
                <a:lnTo>
                  <a:pt x="441" y="124"/>
                </a:lnTo>
                <a:lnTo>
                  <a:pt x="448" y="124"/>
                </a:lnTo>
                <a:lnTo>
                  <a:pt x="462" y="131"/>
                </a:lnTo>
                <a:lnTo>
                  <a:pt x="469" y="131"/>
                </a:lnTo>
                <a:lnTo>
                  <a:pt x="475" y="131"/>
                </a:lnTo>
                <a:lnTo>
                  <a:pt x="489" y="138"/>
                </a:lnTo>
                <a:lnTo>
                  <a:pt x="496" y="138"/>
                </a:lnTo>
                <a:lnTo>
                  <a:pt x="503" y="145"/>
                </a:lnTo>
                <a:lnTo>
                  <a:pt x="510" y="145"/>
                </a:lnTo>
                <a:lnTo>
                  <a:pt x="517" y="152"/>
                </a:lnTo>
                <a:lnTo>
                  <a:pt x="517" y="159"/>
                </a:lnTo>
                <a:lnTo>
                  <a:pt x="524" y="166"/>
                </a:lnTo>
                <a:lnTo>
                  <a:pt x="531" y="166"/>
                </a:lnTo>
                <a:lnTo>
                  <a:pt x="538" y="173"/>
                </a:lnTo>
                <a:lnTo>
                  <a:pt x="551" y="173"/>
                </a:lnTo>
                <a:lnTo>
                  <a:pt x="558" y="179"/>
                </a:lnTo>
                <a:lnTo>
                  <a:pt x="558" y="186"/>
                </a:lnTo>
                <a:lnTo>
                  <a:pt x="565" y="186"/>
                </a:lnTo>
                <a:lnTo>
                  <a:pt x="572" y="193"/>
                </a:lnTo>
                <a:lnTo>
                  <a:pt x="579" y="200"/>
                </a:lnTo>
                <a:lnTo>
                  <a:pt x="586" y="200"/>
                </a:lnTo>
                <a:lnTo>
                  <a:pt x="593" y="207"/>
                </a:lnTo>
                <a:lnTo>
                  <a:pt x="600" y="207"/>
                </a:lnTo>
                <a:lnTo>
                  <a:pt x="606" y="214"/>
                </a:lnTo>
                <a:lnTo>
                  <a:pt x="613" y="221"/>
                </a:lnTo>
                <a:lnTo>
                  <a:pt x="613" y="228"/>
                </a:lnTo>
                <a:lnTo>
                  <a:pt x="620" y="235"/>
                </a:lnTo>
                <a:lnTo>
                  <a:pt x="627" y="235"/>
                </a:lnTo>
                <a:lnTo>
                  <a:pt x="634" y="235"/>
                </a:lnTo>
                <a:lnTo>
                  <a:pt x="641" y="241"/>
                </a:lnTo>
                <a:lnTo>
                  <a:pt x="655" y="241"/>
                </a:lnTo>
                <a:lnTo>
                  <a:pt x="655" y="248"/>
                </a:lnTo>
                <a:lnTo>
                  <a:pt x="662" y="255"/>
                </a:lnTo>
                <a:lnTo>
                  <a:pt x="669" y="262"/>
                </a:lnTo>
                <a:lnTo>
                  <a:pt x="675" y="262"/>
                </a:lnTo>
                <a:lnTo>
                  <a:pt x="675" y="269"/>
                </a:lnTo>
                <a:lnTo>
                  <a:pt x="682" y="276"/>
                </a:lnTo>
                <a:lnTo>
                  <a:pt x="689" y="276"/>
                </a:lnTo>
                <a:lnTo>
                  <a:pt x="696" y="283"/>
                </a:lnTo>
                <a:lnTo>
                  <a:pt x="703" y="283"/>
                </a:lnTo>
                <a:lnTo>
                  <a:pt x="717" y="290"/>
                </a:lnTo>
                <a:lnTo>
                  <a:pt x="724" y="297"/>
                </a:lnTo>
                <a:lnTo>
                  <a:pt x="717" y="297"/>
                </a:lnTo>
                <a:lnTo>
                  <a:pt x="703" y="297"/>
                </a:lnTo>
                <a:lnTo>
                  <a:pt x="696" y="303"/>
                </a:lnTo>
                <a:lnTo>
                  <a:pt x="682" y="303"/>
                </a:lnTo>
                <a:lnTo>
                  <a:pt x="675" y="303"/>
                </a:lnTo>
                <a:lnTo>
                  <a:pt x="669" y="303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3" name=""/>
          <p:cNvSpPr/>
          <p:nvPr/>
        </p:nvSpPr>
        <p:spPr>
          <a:xfrm>
            <a:off x="6281640" y="3208320"/>
            <a:ext cx="1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4" name=""/>
          <p:cNvSpPr/>
          <p:nvPr/>
        </p:nvSpPr>
        <p:spPr>
          <a:xfrm>
            <a:off x="6105600" y="3143160"/>
            <a:ext cx="33120" cy="76320"/>
          </a:xfrm>
          <a:custGeom>
            <a:avLst/>
            <a:gdLst/>
            <a:ahLst/>
            <a:rect l="l" t="t" r="r" b="b"/>
            <a:pathLst>
              <a:path w="21" h="48">
                <a:moveTo>
                  <a:pt x="14" y="48"/>
                </a:moveTo>
                <a:lnTo>
                  <a:pt x="7" y="41"/>
                </a:lnTo>
                <a:lnTo>
                  <a:pt x="14" y="7"/>
                </a:lnTo>
                <a:lnTo>
                  <a:pt x="14" y="14"/>
                </a:lnTo>
                <a:lnTo>
                  <a:pt x="7" y="14"/>
                </a:lnTo>
                <a:lnTo>
                  <a:pt x="7" y="14"/>
                </a:lnTo>
                <a:lnTo>
                  <a:pt x="7" y="14"/>
                </a:lnTo>
                <a:lnTo>
                  <a:pt x="7" y="14"/>
                </a:lnTo>
                <a:lnTo>
                  <a:pt x="0" y="14"/>
                </a:lnTo>
                <a:lnTo>
                  <a:pt x="0" y="14"/>
                </a:lnTo>
                <a:lnTo>
                  <a:pt x="0" y="14"/>
                </a:lnTo>
                <a:lnTo>
                  <a:pt x="0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14" y="7"/>
                </a:lnTo>
                <a:lnTo>
                  <a:pt x="14" y="0"/>
                </a:lnTo>
                <a:lnTo>
                  <a:pt x="14" y="0"/>
                </a:lnTo>
                <a:lnTo>
                  <a:pt x="14" y="0"/>
                </a:lnTo>
                <a:lnTo>
                  <a:pt x="21" y="0"/>
                </a:lnTo>
                <a:lnTo>
                  <a:pt x="14" y="48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5" name=""/>
          <p:cNvSpPr/>
          <p:nvPr/>
        </p:nvSpPr>
        <p:spPr>
          <a:xfrm>
            <a:off x="6149880" y="3154320"/>
            <a:ext cx="54000" cy="65160"/>
          </a:xfrm>
          <a:custGeom>
            <a:avLst/>
            <a:gdLst/>
            <a:ahLst/>
            <a:rect l="l" t="t" r="r" b="b"/>
            <a:pathLst>
              <a:path w="34" h="41">
                <a:moveTo>
                  <a:pt x="34" y="14"/>
                </a:moveTo>
                <a:lnTo>
                  <a:pt x="27" y="14"/>
                </a:lnTo>
                <a:lnTo>
                  <a:pt x="27" y="14"/>
                </a:lnTo>
                <a:lnTo>
                  <a:pt x="27" y="7"/>
                </a:lnTo>
                <a:lnTo>
                  <a:pt x="27" y="7"/>
                </a:lnTo>
                <a:lnTo>
                  <a:pt x="27" y="7"/>
                </a:lnTo>
                <a:lnTo>
                  <a:pt x="27" y="7"/>
                </a:lnTo>
                <a:lnTo>
                  <a:pt x="20" y="7"/>
                </a:lnTo>
                <a:lnTo>
                  <a:pt x="20" y="7"/>
                </a:lnTo>
                <a:lnTo>
                  <a:pt x="20" y="7"/>
                </a:lnTo>
                <a:lnTo>
                  <a:pt x="20" y="7"/>
                </a:lnTo>
                <a:lnTo>
                  <a:pt x="20" y="7"/>
                </a:lnTo>
                <a:lnTo>
                  <a:pt x="14" y="7"/>
                </a:lnTo>
                <a:lnTo>
                  <a:pt x="14" y="7"/>
                </a:lnTo>
                <a:lnTo>
                  <a:pt x="14" y="7"/>
                </a:lnTo>
                <a:lnTo>
                  <a:pt x="14" y="7"/>
                </a:lnTo>
                <a:lnTo>
                  <a:pt x="14" y="7"/>
                </a:lnTo>
                <a:lnTo>
                  <a:pt x="14" y="7"/>
                </a:lnTo>
                <a:lnTo>
                  <a:pt x="7" y="14"/>
                </a:lnTo>
                <a:lnTo>
                  <a:pt x="7" y="14"/>
                </a:lnTo>
                <a:lnTo>
                  <a:pt x="7" y="14"/>
                </a:lnTo>
                <a:lnTo>
                  <a:pt x="7" y="21"/>
                </a:lnTo>
                <a:lnTo>
                  <a:pt x="7" y="21"/>
                </a:lnTo>
                <a:lnTo>
                  <a:pt x="7" y="14"/>
                </a:lnTo>
                <a:lnTo>
                  <a:pt x="14" y="14"/>
                </a:lnTo>
                <a:lnTo>
                  <a:pt x="14" y="14"/>
                </a:lnTo>
                <a:lnTo>
                  <a:pt x="14" y="14"/>
                </a:lnTo>
                <a:lnTo>
                  <a:pt x="14" y="14"/>
                </a:lnTo>
                <a:lnTo>
                  <a:pt x="14" y="14"/>
                </a:lnTo>
                <a:lnTo>
                  <a:pt x="20" y="14"/>
                </a:lnTo>
                <a:lnTo>
                  <a:pt x="20" y="14"/>
                </a:lnTo>
                <a:lnTo>
                  <a:pt x="20" y="14"/>
                </a:lnTo>
                <a:lnTo>
                  <a:pt x="27" y="21"/>
                </a:lnTo>
                <a:lnTo>
                  <a:pt x="27" y="21"/>
                </a:lnTo>
                <a:lnTo>
                  <a:pt x="27" y="21"/>
                </a:lnTo>
                <a:lnTo>
                  <a:pt x="27" y="28"/>
                </a:lnTo>
                <a:lnTo>
                  <a:pt x="27" y="28"/>
                </a:lnTo>
                <a:lnTo>
                  <a:pt x="27" y="34"/>
                </a:lnTo>
                <a:lnTo>
                  <a:pt x="27" y="34"/>
                </a:lnTo>
                <a:lnTo>
                  <a:pt x="27" y="34"/>
                </a:lnTo>
                <a:lnTo>
                  <a:pt x="27" y="34"/>
                </a:lnTo>
                <a:lnTo>
                  <a:pt x="27" y="41"/>
                </a:lnTo>
                <a:lnTo>
                  <a:pt x="27" y="41"/>
                </a:lnTo>
                <a:lnTo>
                  <a:pt x="20" y="41"/>
                </a:lnTo>
                <a:lnTo>
                  <a:pt x="20" y="41"/>
                </a:lnTo>
                <a:lnTo>
                  <a:pt x="20" y="41"/>
                </a:lnTo>
                <a:lnTo>
                  <a:pt x="20" y="41"/>
                </a:lnTo>
                <a:lnTo>
                  <a:pt x="14" y="41"/>
                </a:lnTo>
                <a:lnTo>
                  <a:pt x="14" y="41"/>
                </a:lnTo>
                <a:lnTo>
                  <a:pt x="14" y="41"/>
                </a:lnTo>
                <a:lnTo>
                  <a:pt x="7" y="41"/>
                </a:lnTo>
                <a:lnTo>
                  <a:pt x="7" y="41"/>
                </a:lnTo>
                <a:lnTo>
                  <a:pt x="7" y="41"/>
                </a:lnTo>
                <a:lnTo>
                  <a:pt x="0" y="34"/>
                </a:lnTo>
                <a:lnTo>
                  <a:pt x="0" y="34"/>
                </a:lnTo>
                <a:lnTo>
                  <a:pt x="0" y="28"/>
                </a:lnTo>
                <a:lnTo>
                  <a:pt x="0" y="28"/>
                </a:lnTo>
                <a:lnTo>
                  <a:pt x="0" y="21"/>
                </a:lnTo>
                <a:lnTo>
                  <a:pt x="0" y="14"/>
                </a:lnTo>
                <a:lnTo>
                  <a:pt x="7" y="7"/>
                </a:lnTo>
                <a:lnTo>
                  <a:pt x="7" y="7"/>
                </a:lnTo>
                <a:lnTo>
                  <a:pt x="7" y="0"/>
                </a:lnTo>
                <a:lnTo>
                  <a:pt x="14" y="0"/>
                </a:lnTo>
                <a:lnTo>
                  <a:pt x="14" y="0"/>
                </a:lnTo>
                <a:lnTo>
                  <a:pt x="20" y="0"/>
                </a:lnTo>
                <a:lnTo>
                  <a:pt x="20" y="0"/>
                </a:lnTo>
                <a:lnTo>
                  <a:pt x="20" y="0"/>
                </a:lnTo>
                <a:lnTo>
                  <a:pt x="27" y="0"/>
                </a:lnTo>
                <a:lnTo>
                  <a:pt x="27" y="0"/>
                </a:lnTo>
                <a:lnTo>
                  <a:pt x="27" y="7"/>
                </a:lnTo>
                <a:lnTo>
                  <a:pt x="27" y="7"/>
                </a:lnTo>
                <a:lnTo>
                  <a:pt x="34" y="7"/>
                </a:lnTo>
                <a:lnTo>
                  <a:pt x="34" y="14"/>
                </a:lnTo>
                <a:lnTo>
                  <a:pt x="34" y="14"/>
                </a:lnTo>
                <a:close/>
                <a:moveTo>
                  <a:pt x="7" y="28"/>
                </a:moveTo>
                <a:lnTo>
                  <a:pt x="7" y="28"/>
                </a:lnTo>
                <a:lnTo>
                  <a:pt x="7" y="28"/>
                </a:lnTo>
                <a:lnTo>
                  <a:pt x="7" y="34"/>
                </a:lnTo>
                <a:lnTo>
                  <a:pt x="7" y="34"/>
                </a:lnTo>
                <a:lnTo>
                  <a:pt x="7" y="34"/>
                </a:lnTo>
                <a:lnTo>
                  <a:pt x="7" y="34"/>
                </a:lnTo>
                <a:lnTo>
                  <a:pt x="7" y="34"/>
                </a:lnTo>
                <a:lnTo>
                  <a:pt x="7" y="34"/>
                </a:lnTo>
                <a:lnTo>
                  <a:pt x="7" y="41"/>
                </a:lnTo>
                <a:lnTo>
                  <a:pt x="14" y="41"/>
                </a:lnTo>
                <a:lnTo>
                  <a:pt x="14" y="41"/>
                </a:lnTo>
                <a:lnTo>
                  <a:pt x="14" y="41"/>
                </a:lnTo>
                <a:lnTo>
                  <a:pt x="14" y="41"/>
                </a:lnTo>
                <a:lnTo>
                  <a:pt x="14" y="41"/>
                </a:lnTo>
                <a:lnTo>
                  <a:pt x="20" y="41"/>
                </a:lnTo>
                <a:lnTo>
                  <a:pt x="20" y="41"/>
                </a:lnTo>
                <a:lnTo>
                  <a:pt x="20" y="34"/>
                </a:lnTo>
                <a:lnTo>
                  <a:pt x="20" y="34"/>
                </a:lnTo>
                <a:lnTo>
                  <a:pt x="20" y="34"/>
                </a:lnTo>
                <a:lnTo>
                  <a:pt x="20" y="34"/>
                </a:lnTo>
                <a:lnTo>
                  <a:pt x="20" y="28"/>
                </a:lnTo>
                <a:lnTo>
                  <a:pt x="20" y="28"/>
                </a:lnTo>
                <a:lnTo>
                  <a:pt x="20" y="28"/>
                </a:lnTo>
                <a:lnTo>
                  <a:pt x="20" y="21"/>
                </a:lnTo>
                <a:lnTo>
                  <a:pt x="20" y="21"/>
                </a:lnTo>
                <a:lnTo>
                  <a:pt x="20" y="21"/>
                </a:lnTo>
                <a:lnTo>
                  <a:pt x="20" y="21"/>
                </a:lnTo>
                <a:lnTo>
                  <a:pt x="14" y="21"/>
                </a:lnTo>
                <a:lnTo>
                  <a:pt x="14" y="21"/>
                </a:lnTo>
                <a:lnTo>
                  <a:pt x="14" y="21"/>
                </a:lnTo>
                <a:lnTo>
                  <a:pt x="14" y="21"/>
                </a:lnTo>
                <a:lnTo>
                  <a:pt x="7" y="21"/>
                </a:lnTo>
                <a:lnTo>
                  <a:pt x="7" y="21"/>
                </a:lnTo>
                <a:lnTo>
                  <a:pt x="7" y="21"/>
                </a:lnTo>
                <a:lnTo>
                  <a:pt x="7" y="28"/>
                </a:lnTo>
                <a:lnTo>
                  <a:pt x="7" y="28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6" name=""/>
          <p:cNvSpPr/>
          <p:nvPr/>
        </p:nvSpPr>
        <p:spPr>
          <a:xfrm>
            <a:off x="6203880" y="3165480"/>
            <a:ext cx="44640" cy="65160"/>
          </a:xfrm>
          <a:custGeom>
            <a:avLst/>
            <a:gdLst/>
            <a:ahLst/>
            <a:rect l="l" t="t" r="r" b="b"/>
            <a:pathLst>
              <a:path w="28" h="41">
                <a:moveTo>
                  <a:pt x="0" y="21"/>
                </a:moveTo>
                <a:lnTo>
                  <a:pt x="0" y="14"/>
                </a:lnTo>
                <a:lnTo>
                  <a:pt x="0" y="14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0"/>
                </a:lnTo>
                <a:lnTo>
                  <a:pt x="7" y="0"/>
                </a:lnTo>
                <a:lnTo>
                  <a:pt x="14" y="0"/>
                </a:lnTo>
                <a:lnTo>
                  <a:pt x="14" y="0"/>
                </a:lnTo>
                <a:lnTo>
                  <a:pt x="14" y="0"/>
                </a:lnTo>
                <a:lnTo>
                  <a:pt x="21" y="0"/>
                </a:lnTo>
                <a:lnTo>
                  <a:pt x="21" y="0"/>
                </a:lnTo>
                <a:lnTo>
                  <a:pt x="21" y="0"/>
                </a:lnTo>
                <a:lnTo>
                  <a:pt x="21" y="0"/>
                </a:lnTo>
                <a:lnTo>
                  <a:pt x="28" y="0"/>
                </a:lnTo>
                <a:lnTo>
                  <a:pt x="28" y="0"/>
                </a:lnTo>
                <a:lnTo>
                  <a:pt x="28" y="0"/>
                </a:lnTo>
                <a:lnTo>
                  <a:pt x="28" y="7"/>
                </a:lnTo>
                <a:lnTo>
                  <a:pt x="28" y="7"/>
                </a:lnTo>
                <a:lnTo>
                  <a:pt x="28" y="7"/>
                </a:lnTo>
                <a:lnTo>
                  <a:pt x="28" y="7"/>
                </a:lnTo>
                <a:lnTo>
                  <a:pt x="28" y="7"/>
                </a:lnTo>
                <a:lnTo>
                  <a:pt x="28" y="14"/>
                </a:lnTo>
                <a:lnTo>
                  <a:pt x="28" y="14"/>
                </a:lnTo>
                <a:lnTo>
                  <a:pt x="28" y="14"/>
                </a:lnTo>
                <a:lnTo>
                  <a:pt x="28" y="21"/>
                </a:lnTo>
                <a:lnTo>
                  <a:pt x="28" y="21"/>
                </a:lnTo>
                <a:lnTo>
                  <a:pt x="28" y="27"/>
                </a:lnTo>
                <a:lnTo>
                  <a:pt x="28" y="27"/>
                </a:lnTo>
                <a:lnTo>
                  <a:pt x="28" y="34"/>
                </a:lnTo>
                <a:lnTo>
                  <a:pt x="28" y="34"/>
                </a:lnTo>
                <a:lnTo>
                  <a:pt x="28" y="34"/>
                </a:lnTo>
                <a:lnTo>
                  <a:pt x="28" y="41"/>
                </a:lnTo>
                <a:lnTo>
                  <a:pt x="21" y="41"/>
                </a:lnTo>
                <a:lnTo>
                  <a:pt x="21" y="41"/>
                </a:lnTo>
                <a:lnTo>
                  <a:pt x="21" y="41"/>
                </a:lnTo>
                <a:lnTo>
                  <a:pt x="21" y="41"/>
                </a:lnTo>
                <a:lnTo>
                  <a:pt x="14" y="41"/>
                </a:lnTo>
                <a:lnTo>
                  <a:pt x="14" y="41"/>
                </a:lnTo>
                <a:lnTo>
                  <a:pt x="14" y="41"/>
                </a:lnTo>
                <a:lnTo>
                  <a:pt x="7" y="41"/>
                </a:lnTo>
                <a:lnTo>
                  <a:pt x="7" y="41"/>
                </a:lnTo>
                <a:lnTo>
                  <a:pt x="7" y="41"/>
                </a:lnTo>
                <a:lnTo>
                  <a:pt x="0" y="34"/>
                </a:lnTo>
                <a:lnTo>
                  <a:pt x="0" y="34"/>
                </a:lnTo>
                <a:lnTo>
                  <a:pt x="0" y="27"/>
                </a:lnTo>
                <a:lnTo>
                  <a:pt x="0" y="27"/>
                </a:lnTo>
                <a:lnTo>
                  <a:pt x="0" y="21"/>
                </a:lnTo>
                <a:close/>
                <a:moveTo>
                  <a:pt x="7" y="21"/>
                </a:moveTo>
                <a:lnTo>
                  <a:pt x="7" y="27"/>
                </a:lnTo>
                <a:lnTo>
                  <a:pt x="7" y="27"/>
                </a:lnTo>
                <a:lnTo>
                  <a:pt x="7" y="34"/>
                </a:lnTo>
                <a:lnTo>
                  <a:pt x="7" y="34"/>
                </a:lnTo>
                <a:lnTo>
                  <a:pt x="7" y="34"/>
                </a:lnTo>
                <a:lnTo>
                  <a:pt x="7" y="41"/>
                </a:lnTo>
                <a:lnTo>
                  <a:pt x="14" y="41"/>
                </a:lnTo>
                <a:lnTo>
                  <a:pt x="14" y="41"/>
                </a:lnTo>
                <a:lnTo>
                  <a:pt x="14" y="41"/>
                </a:lnTo>
                <a:lnTo>
                  <a:pt x="14" y="41"/>
                </a:lnTo>
                <a:lnTo>
                  <a:pt x="21" y="41"/>
                </a:lnTo>
                <a:lnTo>
                  <a:pt x="21" y="34"/>
                </a:lnTo>
                <a:lnTo>
                  <a:pt x="21" y="34"/>
                </a:lnTo>
                <a:lnTo>
                  <a:pt x="21" y="34"/>
                </a:lnTo>
                <a:lnTo>
                  <a:pt x="21" y="27"/>
                </a:lnTo>
                <a:lnTo>
                  <a:pt x="28" y="21"/>
                </a:lnTo>
                <a:lnTo>
                  <a:pt x="28" y="21"/>
                </a:lnTo>
                <a:lnTo>
                  <a:pt x="28" y="14"/>
                </a:lnTo>
                <a:lnTo>
                  <a:pt x="28" y="14"/>
                </a:lnTo>
                <a:lnTo>
                  <a:pt x="28" y="7"/>
                </a:lnTo>
                <a:lnTo>
                  <a:pt x="21" y="7"/>
                </a:lnTo>
                <a:lnTo>
                  <a:pt x="21" y="7"/>
                </a:lnTo>
                <a:lnTo>
                  <a:pt x="21" y="7"/>
                </a:lnTo>
                <a:lnTo>
                  <a:pt x="21" y="7"/>
                </a:lnTo>
                <a:lnTo>
                  <a:pt x="14" y="0"/>
                </a:lnTo>
                <a:lnTo>
                  <a:pt x="14" y="7"/>
                </a:lnTo>
                <a:lnTo>
                  <a:pt x="14" y="7"/>
                </a:lnTo>
                <a:lnTo>
                  <a:pt x="14" y="7"/>
                </a:lnTo>
                <a:lnTo>
                  <a:pt x="14" y="7"/>
                </a:lnTo>
                <a:lnTo>
                  <a:pt x="7" y="14"/>
                </a:lnTo>
                <a:lnTo>
                  <a:pt x="7" y="14"/>
                </a:lnTo>
                <a:lnTo>
                  <a:pt x="7" y="2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7" name=""/>
          <p:cNvSpPr/>
          <p:nvPr/>
        </p:nvSpPr>
        <p:spPr>
          <a:xfrm flipH="1">
            <a:off x="6062400" y="3165480"/>
            <a:ext cx="11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8" name=""/>
          <p:cNvSpPr/>
          <p:nvPr/>
        </p:nvSpPr>
        <p:spPr>
          <a:xfrm>
            <a:off x="4826160" y="3165480"/>
            <a:ext cx="1236600" cy="623880"/>
          </a:xfrm>
          <a:custGeom>
            <a:avLst/>
            <a:gdLst/>
            <a:ahLst/>
            <a:rect l="l" t="t" r="r" b="b"/>
            <a:pathLst>
              <a:path w="779" h="393">
                <a:moveTo>
                  <a:pt x="779" y="0"/>
                </a:moveTo>
                <a:lnTo>
                  <a:pt x="772" y="0"/>
                </a:lnTo>
                <a:lnTo>
                  <a:pt x="758" y="0"/>
                </a:lnTo>
                <a:lnTo>
                  <a:pt x="751" y="7"/>
                </a:lnTo>
                <a:lnTo>
                  <a:pt x="737" y="7"/>
                </a:lnTo>
                <a:lnTo>
                  <a:pt x="730" y="14"/>
                </a:lnTo>
                <a:lnTo>
                  <a:pt x="723" y="14"/>
                </a:lnTo>
                <a:lnTo>
                  <a:pt x="723" y="21"/>
                </a:lnTo>
                <a:lnTo>
                  <a:pt x="717" y="27"/>
                </a:lnTo>
                <a:lnTo>
                  <a:pt x="723" y="34"/>
                </a:lnTo>
                <a:lnTo>
                  <a:pt x="730" y="41"/>
                </a:lnTo>
                <a:lnTo>
                  <a:pt x="737" y="41"/>
                </a:lnTo>
                <a:lnTo>
                  <a:pt x="744" y="48"/>
                </a:lnTo>
                <a:lnTo>
                  <a:pt x="751" y="48"/>
                </a:lnTo>
                <a:lnTo>
                  <a:pt x="751" y="55"/>
                </a:lnTo>
                <a:lnTo>
                  <a:pt x="751" y="62"/>
                </a:lnTo>
                <a:lnTo>
                  <a:pt x="751" y="69"/>
                </a:lnTo>
                <a:lnTo>
                  <a:pt x="751" y="76"/>
                </a:lnTo>
                <a:lnTo>
                  <a:pt x="751" y="83"/>
                </a:lnTo>
                <a:lnTo>
                  <a:pt x="744" y="83"/>
                </a:lnTo>
                <a:lnTo>
                  <a:pt x="737" y="89"/>
                </a:lnTo>
                <a:lnTo>
                  <a:pt x="730" y="96"/>
                </a:lnTo>
                <a:lnTo>
                  <a:pt x="723" y="103"/>
                </a:lnTo>
                <a:lnTo>
                  <a:pt x="717" y="103"/>
                </a:lnTo>
                <a:lnTo>
                  <a:pt x="710" y="110"/>
                </a:lnTo>
                <a:lnTo>
                  <a:pt x="703" y="117"/>
                </a:lnTo>
                <a:lnTo>
                  <a:pt x="696" y="117"/>
                </a:lnTo>
                <a:lnTo>
                  <a:pt x="689" y="124"/>
                </a:lnTo>
                <a:lnTo>
                  <a:pt x="682" y="124"/>
                </a:lnTo>
                <a:lnTo>
                  <a:pt x="675" y="131"/>
                </a:lnTo>
                <a:lnTo>
                  <a:pt x="668" y="131"/>
                </a:lnTo>
                <a:lnTo>
                  <a:pt x="661" y="138"/>
                </a:lnTo>
                <a:lnTo>
                  <a:pt x="655" y="145"/>
                </a:lnTo>
                <a:lnTo>
                  <a:pt x="648" y="145"/>
                </a:lnTo>
                <a:lnTo>
                  <a:pt x="641" y="151"/>
                </a:lnTo>
                <a:lnTo>
                  <a:pt x="627" y="151"/>
                </a:lnTo>
                <a:lnTo>
                  <a:pt x="620" y="158"/>
                </a:lnTo>
                <a:lnTo>
                  <a:pt x="613" y="158"/>
                </a:lnTo>
                <a:lnTo>
                  <a:pt x="599" y="158"/>
                </a:lnTo>
                <a:lnTo>
                  <a:pt x="592" y="151"/>
                </a:lnTo>
                <a:lnTo>
                  <a:pt x="586" y="145"/>
                </a:lnTo>
                <a:lnTo>
                  <a:pt x="579" y="145"/>
                </a:lnTo>
                <a:lnTo>
                  <a:pt x="572" y="145"/>
                </a:lnTo>
                <a:lnTo>
                  <a:pt x="558" y="145"/>
                </a:lnTo>
                <a:lnTo>
                  <a:pt x="551" y="145"/>
                </a:lnTo>
                <a:lnTo>
                  <a:pt x="537" y="151"/>
                </a:lnTo>
                <a:lnTo>
                  <a:pt x="530" y="158"/>
                </a:lnTo>
                <a:lnTo>
                  <a:pt x="524" y="158"/>
                </a:lnTo>
                <a:lnTo>
                  <a:pt x="517" y="158"/>
                </a:lnTo>
                <a:lnTo>
                  <a:pt x="510" y="158"/>
                </a:lnTo>
                <a:lnTo>
                  <a:pt x="496" y="158"/>
                </a:lnTo>
                <a:lnTo>
                  <a:pt x="489" y="158"/>
                </a:lnTo>
                <a:lnTo>
                  <a:pt x="482" y="165"/>
                </a:lnTo>
                <a:lnTo>
                  <a:pt x="475" y="165"/>
                </a:lnTo>
                <a:lnTo>
                  <a:pt x="461" y="172"/>
                </a:lnTo>
                <a:lnTo>
                  <a:pt x="455" y="172"/>
                </a:lnTo>
                <a:lnTo>
                  <a:pt x="448" y="165"/>
                </a:lnTo>
                <a:lnTo>
                  <a:pt x="434" y="165"/>
                </a:lnTo>
                <a:lnTo>
                  <a:pt x="427" y="158"/>
                </a:lnTo>
                <a:lnTo>
                  <a:pt x="420" y="158"/>
                </a:lnTo>
                <a:lnTo>
                  <a:pt x="413" y="158"/>
                </a:lnTo>
                <a:lnTo>
                  <a:pt x="399" y="165"/>
                </a:lnTo>
                <a:lnTo>
                  <a:pt x="393" y="165"/>
                </a:lnTo>
                <a:lnTo>
                  <a:pt x="379" y="165"/>
                </a:lnTo>
                <a:lnTo>
                  <a:pt x="372" y="165"/>
                </a:lnTo>
                <a:lnTo>
                  <a:pt x="365" y="165"/>
                </a:lnTo>
                <a:lnTo>
                  <a:pt x="351" y="165"/>
                </a:lnTo>
                <a:lnTo>
                  <a:pt x="344" y="165"/>
                </a:lnTo>
                <a:lnTo>
                  <a:pt x="330" y="165"/>
                </a:lnTo>
                <a:lnTo>
                  <a:pt x="324" y="165"/>
                </a:lnTo>
                <a:lnTo>
                  <a:pt x="317" y="165"/>
                </a:lnTo>
                <a:lnTo>
                  <a:pt x="303" y="172"/>
                </a:lnTo>
                <a:lnTo>
                  <a:pt x="296" y="172"/>
                </a:lnTo>
                <a:lnTo>
                  <a:pt x="289" y="179"/>
                </a:lnTo>
                <a:lnTo>
                  <a:pt x="282" y="186"/>
                </a:lnTo>
                <a:lnTo>
                  <a:pt x="275" y="186"/>
                </a:lnTo>
                <a:lnTo>
                  <a:pt x="268" y="193"/>
                </a:lnTo>
                <a:lnTo>
                  <a:pt x="262" y="193"/>
                </a:lnTo>
                <a:lnTo>
                  <a:pt x="255" y="200"/>
                </a:lnTo>
                <a:lnTo>
                  <a:pt x="248" y="207"/>
                </a:lnTo>
                <a:lnTo>
                  <a:pt x="248" y="213"/>
                </a:lnTo>
                <a:lnTo>
                  <a:pt x="241" y="220"/>
                </a:lnTo>
                <a:lnTo>
                  <a:pt x="241" y="220"/>
                </a:lnTo>
                <a:lnTo>
                  <a:pt x="241" y="227"/>
                </a:lnTo>
                <a:lnTo>
                  <a:pt x="248" y="234"/>
                </a:lnTo>
                <a:lnTo>
                  <a:pt x="248" y="241"/>
                </a:lnTo>
                <a:lnTo>
                  <a:pt x="255" y="248"/>
                </a:lnTo>
                <a:lnTo>
                  <a:pt x="262" y="248"/>
                </a:lnTo>
                <a:lnTo>
                  <a:pt x="268" y="255"/>
                </a:lnTo>
                <a:lnTo>
                  <a:pt x="268" y="262"/>
                </a:lnTo>
                <a:lnTo>
                  <a:pt x="268" y="269"/>
                </a:lnTo>
                <a:lnTo>
                  <a:pt x="268" y="275"/>
                </a:lnTo>
                <a:lnTo>
                  <a:pt x="262" y="282"/>
                </a:lnTo>
                <a:lnTo>
                  <a:pt x="262" y="289"/>
                </a:lnTo>
                <a:lnTo>
                  <a:pt x="255" y="296"/>
                </a:lnTo>
                <a:lnTo>
                  <a:pt x="255" y="296"/>
                </a:lnTo>
                <a:lnTo>
                  <a:pt x="255" y="303"/>
                </a:lnTo>
                <a:lnTo>
                  <a:pt x="255" y="310"/>
                </a:lnTo>
                <a:lnTo>
                  <a:pt x="248" y="317"/>
                </a:lnTo>
                <a:lnTo>
                  <a:pt x="248" y="324"/>
                </a:lnTo>
                <a:lnTo>
                  <a:pt x="248" y="331"/>
                </a:lnTo>
                <a:lnTo>
                  <a:pt x="241" y="337"/>
                </a:lnTo>
                <a:lnTo>
                  <a:pt x="241" y="344"/>
                </a:lnTo>
                <a:lnTo>
                  <a:pt x="241" y="351"/>
                </a:lnTo>
                <a:lnTo>
                  <a:pt x="234" y="351"/>
                </a:lnTo>
                <a:lnTo>
                  <a:pt x="234" y="358"/>
                </a:lnTo>
                <a:lnTo>
                  <a:pt x="227" y="365"/>
                </a:lnTo>
                <a:lnTo>
                  <a:pt x="220" y="372"/>
                </a:lnTo>
                <a:lnTo>
                  <a:pt x="213" y="372"/>
                </a:lnTo>
                <a:lnTo>
                  <a:pt x="206" y="379"/>
                </a:lnTo>
                <a:lnTo>
                  <a:pt x="199" y="386"/>
                </a:lnTo>
                <a:lnTo>
                  <a:pt x="193" y="386"/>
                </a:lnTo>
                <a:lnTo>
                  <a:pt x="186" y="393"/>
                </a:lnTo>
                <a:lnTo>
                  <a:pt x="172" y="393"/>
                </a:lnTo>
                <a:lnTo>
                  <a:pt x="165" y="393"/>
                </a:lnTo>
                <a:lnTo>
                  <a:pt x="158" y="393"/>
                </a:lnTo>
                <a:lnTo>
                  <a:pt x="144" y="393"/>
                </a:lnTo>
                <a:lnTo>
                  <a:pt x="137" y="393"/>
                </a:lnTo>
                <a:lnTo>
                  <a:pt x="124" y="393"/>
                </a:lnTo>
                <a:lnTo>
                  <a:pt x="117" y="386"/>
                </a:lnTo>
                <a:lnTo>
                  <a:pt x="110" y="386"/>
                </a:lnTo>
                <a:lnTo>
                  <a:pt x="103" y="379"/>
                </a:lnTo>
                <a:lnTo>
                  <a:pt x="96" y="379"/>
                </a:lnTo>
                <a:lnTo>
                  <a:pt x="89" y="372"/>
                </a:lnTo>
                <a:lnTo>
                  <a:pt x="82" y="365"/>
                </a:lnTo>
                <a:lnTo>
                  <a:pt x="82" y="358"/>
                </a:lnTo>
                <a:lnTo>
                  <a:pt x="82" y="351"/>
                </a:lnTo>
                <a:lnTo>
                  <a:pt x="75" y="344"/>
                </a:lnTo>
                <a:lnTo>
                  <a:pt x="75" y="344"/>
                </a:lnTo>
                <a:lnTo>
                  <a:pt x="75" y="337"/>
                </a:lnTo>
                <a:lnTo>
                  <a:pt x="75" y="331"/>
                </a:lnTo>
                <a:lnTo>
                  <a:pt x="75" y="324"/>
                </a:lnTo>
                <a:lnTo>
                  <a:pt x="75" y="317"/>
                </a:lnTo>
                <a:lnTo>
                  <a:pt x="68" y="310"/>
                </a:lnTo>
                <a:lnTo>
                  <a:pt x="62" y="303"/>
                </a:lnTo>
                <a:lnTo>
                  <a:pt x="55" y="303"/>
                </a:lnTo>
                <a:lnTo>
                  <a:pt x="48" y="296"/>
                </a:lnTo>
                <a:lnTo>
                  <a:pt x="41" y="296"/>
                </a:lnTo>
                <a:lnTo>
                  <a:pt x="27" y="289"/>
                </a:lnTo>
                <a:lnTo>
                  <a:pt x="20" y="289"/>
                </a:lnTo>
                <a:lnTo>
                  <a:pt x="20" y="282"/>
                </a:lnTo>
                <a:lnTo>
                  <a:pt x="13" y="275"/>
                </a:lnTo>
                <a:lnTo>
                  <a:pt x="13" y="269"/>
                </a:lnTo>
                <a:lnTo>
                  <a:pt x="13" y="262"/>
                </a:lnTo>
                <a:lnTo>
                  <a:pt x="13" y="255"/>
                </a:lnTo>
                <a:lnTo>
                  <a:pt x="13" y="248"/>
                </a:lnTo>
                <a:lnTo>
                  <a:pt x="20" y="248"/>
                </a:lnTo>
                <a:lnTo>
                  <a:pt x="20" y="241"/>
                </a:lnTo>
                <a:lnTo>
                  <a:pt x="27" y="234"/>
                </a:lnTo>
                <a:lnTo>
                  <a:pt x="27" y="227"/>
                </a:lnTo>
                <a:lnTo>
                  <a:pt x="34" y="220"/>
                </a:lnTo>
                <a:lnTo>
                  <a:pt x="34" y="213"/>
                </a:lnTo>
                <a:lnTo>
                  <a:pt x="41" y="213"/>
                </a:lnTo>
                <a:lnTo>
                  <a:pt x="41" y="207"/>
                </a:lnTo>
                <a:lnTo>
                  <a:pt x="48" y="200"/>
                </a:lnTo>
                <a:lnTo>
                  <a:pt x="48" y="193"/>
                </a:lnTo>
                <a:lnTo>
                  <a:pt x="55" y="186"/>
                </a:lnTo>
                <a:lnTo>
                  <a:pt x="55" y="179"/>
                </a:lnTo>
                <a:lnTo>
                  <a:pt x="55" y="172"/>
                </a:lnTo>
                <a:lnTo>
                  <a:pt x="55" y="165"/>
                </a:lnTo>
                <a:lnTo>
                  <a:pt x="41" y="165"/>
                </a:lnTo>
                <a:lnTo>
                  <a:pt x="34" y="172"/>
                </a:lnTo>
                <a:lnTo>
                  <a:pt x="27" y="172"/>
                </a:lnTo>
                <a:lnTo>
                  <a:pt x="27" y="179"/>
                </a:lnTo>
                <a:lnTo>
                  <a:pt x="20" y="186"/>
                </a:lnTo>
                <a:lnTo>
                  <a:pt x="13" y="193"/>
                </a:lnTo>
                <a:lnTo>
                  <a:pt x="6" y="193"/>
                </a:lnTo>
                <a:lnTo>
                  <a:pt x="0" y="193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9" name=""/>
          <p:cNvSpPr/>
          <p:nvPr/>
        </p:nvSpPr>
        <p:spPr>
          <a:xfrm>
            <a:off x="4826160" y="3471840"/>
            <a:ext cx="1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0" name=""/>
          <p:cNvSpPr/>
          <p:nvPr/>
        </p:nvSpPr>
        <p:spPr>
          <a:xfrm>
            <a:off x="4660920" y="3514680"/>
            <a:ext cx="44280" cy="66600"/>
          </a:xfrm>
          <a:custGeom>
            <a:avLst/>
            <a:gdLst/>
            <a:ahLst/>
            <a:rect l="l" t="t" r="r" b="b"/>
            <a:pathLst>
              <a:path w="28" h="42">
                <a:moveTo>
                  <a:pt x="28" y="42"/>
                </a:moveTo>
                <a:lnTo>
                  <a:pt x="28" y="42"/>
                </a:lnTo>
                <a:lnTo>
                  <a:pt x="7" y="14"/>
                </a:lnTo>
                <a:lnTo>
                  <a:pt x="7" y="14"/>
                </a:lnTo>
                <a:lnTo>
                  <a:pt x="7" y="14"/>
                </a:lnTo>
                <a:lnTo>
                  <a:pt x="7" y="14"/>
                </a:lnTo>
                <a:lnTo>
                  <a:pt x="7" y="14"/>
                </a:lnTo>
                <a:lnTo>
                  <a:pt x="7" y="21"/>
                </a:lnTo>
                <a:lnTo>
                  <a:pt x="0" y="21"/>
                </a:lnTo>
                <a:lnTo>
                  <a:pt x="0" y="21"/>
                </a:lnTo>
                <a:lnTo>
                  <a:pt x="0" y="21"/>
                </a:lnTo>
                <a:lnTo>
                  <a:pt x="0" y="21"/>
                </a:lnTo>
                <a:lnTo>
                  <a:pt x="0" y="14"/>
                </a:lnTo>
                <a:lnTo>
                  <a:pt x="0" y="14"/>
                </a:lnTo>
                <a:lnTo>
                  <a:pt x="0" y="14"/>
                </a:lnTo>
                <a:lnTo>
                  <a:pt x="0" y="7"/>
                </a:lnTo>
                <a:lnTo>
                  <a:pt x="0" y="7"/>
                </a:lnTo>
                <a:lnTo>
                  <a:pt x="7" y="7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28" y="4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1" name=""/>
          <p:cNvSpPr/>
          <p:nvPr/>
        </p:nvSpPr>
        <p:spPr>
          <a:xfrm>
            <a:off x="4705200" y="3483000"/>
            <a:ext cx="54000" cy="76320"/>
          </a:xfrm>
          <a:custGeom>
            <a:avLst/>
            <a:gdLst/>
            <a:ahLst/>
            <a:rect l="l" t="t" r="r" b="b"/>
            <a:pathLst>
              <a:path w="34" h="48">
                <a:moveTo>
                  <a:pt x="20" y="7"/>
                </a:moveTo>
                <a:lnTo>
                  <a:pt x="13" y="13"/>
                </a:lnTo>
                <a:lnTo>
                  <a:pt x="13" y="13"/>
                </a:lnTo>
                <a:lnTo>
                  <a:pt x="13" y="7"/>
                </a:lnTo>
                <a:lnTo>
                  <a:pt x="13" y="7"/>
                </a:lnTo>
                <a:lnTo>
                  <a:pt x="13" y="7"/>
                </a:lnTo>
                <a:lnTo>
                  <a:pt x="13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13"/>
                </a:lnTo>
                <a:lnTo>
                  <a:pt x="7" y="13"/>
                </a:lnTo>
                <a:lnTo>
                  <a:pt x="7" y="13"/>
                </a:lnTo>
                <a:lnTo>
                  <a:pt x="0" y="13"/>
                </a:lnTo>
                <a:lnTo>
                  <a:pt x="0" y="13"/>
                </a:lnTo>
                <a:lnTo>
                  <a:pt x="0" y="20"/>
                </a:lnTo>
                <a:lnTo>
                  <a:pt x="0" y="20"/>
                </a:lnTo>
                <a:lnTo>
                  <a:pt x="7" y="20"/>
                </a:lnTo>
                <a:lnTo>
                  <a:pt x="7" y="27"/>
                </a:lnTo>
                <a:lnTo>
                  <a:pt x="7" y="27"/>
                </a:lnTo>
                <a:lnTo>
                  <a:pt x="7" y="27"/>
                </a:lnTo>
                <a:lnTo>
                  <a:pt x="7" y="27"/>
                </a:lnTo>
                <a:lnTo>
                  <a:pt x="7" y="27"/>
                </a:lnTo>
                <a:lnTo>
                  <a:pt x="7" y="27"/>
                </a:lnTo>
                <a:lnTo>
                  <a:pt x="7" y="20"/>
                </a:lnTo>
                <a:lnTo>
                  <a:pt x="7" y="20"/>
                </a:lnTo>
                <a:lnTo>
                  <a:pt x="13" y="20"/>
                </a:lnTo>
                <a:lnTo>
                  <a:pt x="13" y="20"/>
                </a:lnTo>
                <a:lnTo>
                  <a:pt x="13" y="20"/>
                </a:lnTo>
                <a:lnTo>
                  <a:pt x="13" y="20"/>
                </a:lnTo>
                <a:lnTo>
                  <a:pt x="20" y="13"/>
                </a:lnTo>
                <a:lnTo>
                  <a:pt x="20" y="13"/>
                </a:lnTo>
                <a:lnTo>
                  <a:pt x="20" y="20"/>
                </a:lnTo>
                <a:lnTo>
                  <a:pt x="27" y="20"/>
                </a:lnTo>
                <a:lnTo>
                  <a:pt x="27" y="20"/>
                </a:lnTo>
                <a:lnTo>
                  <a:pt x="27" y="20"/>
                </a:lnTo>
                <a:lnTo>
                  <a:pt x="34" y="27"/>
                </a:lnTo>
                <a:lnTo>
                  <a:pt x="34" y="27"/>
                </a:lnTo>
                <a:lnTo>
                  <a:pt x="34" y="27"/>
                </a:lnTo>
                <a:lnTo>
                  <a:pt x="34" y="27"/>
                </a:lnTo>
                <a:lnTo>
                  <a:pt x="34" y="34"/>
                </a:lnTo>
                <a:lnTo>
                  <a:pt x="34" y="34"/>
                </a:lnTo>
                <a:lnTo>
                  <a:pt x="34" y="34"/>
                </a:lnTo>
                <a:lnTo>
                  <a:pt x="34" y="34"/>
                </a:lnTo>
                <a:lnTo>
                  <a:pt x="34" y="41"/>
                </a:lnTo>
                <a:lnTo>
                  <a:pt x="34" y="41"/>
                </a:lnTo>
                <a:lnTo>
                  <a:pt x="27" y="41"/>
                </a:lnTo>
                <a:lnTo>
                  <a:pt x="27" y="41"/>
                </a:lnTo>
                <a:lnTo>
                  <a:pt x="27" y="41"/>
                </a:lnTo>
                <a:lnTo>
                  <a:pt x="27" y="48"/>
                </a:lnTo>
                <a:lnTo>
                  <a:pt x="20" y="48"/>
                </a:lnTo>
                <a:lnTo>
                  <a:pt x="20" y="48"/>
                </a:lnTo>
                <a:lnTo>
                  <a:pt x="13" y="48"/>
                </a:lnTo>
                <a:lnTo>
                  <a:pt x="13" y="41"/>
                </a:lnTo>
                <a:lnTo>
                  <a:pt x="7" y="41"/>
                </a:lnTo>
                <a:lnTo>
                  <a:pt x="7" y="41"/>
                </a:lnTo>
                <a:lnTo>
                  <a:pt x="7" y="34"/>
                </a:lnTo>
                <a:lnTo>
                  <a:pt x="0" y="27"/>
                </a:lnTo>
                <a:lnTo>
                  <a:pt x="0" y="20"/>
                </a:lnTo>
                <a:lnTo>
                  <a:pt x="0" y="20"/>
                </a:lnTo>
                <a:lnTo>
                  <a:pt x="0" y="13"/>
                </a:lnTo>
                <a:lnTo>
                  <a:pt x="0" y="13"/>
                </a:lnTo>
                <a:lnTo>
                  <a:pt x="0" y="7"/>
                </a:lnTo>
                <a:lnTo>
                  <a:pt x="0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13" y="0"/>
                </a:lnTo>
                <a:lnTo>
                  <a:pt x="13" y="0"/>
                </a:lnTo>
                <a:lnTo>
                  <a:pt x="13" y="7"/>
                </a:lnTo>
                <a:lnTo>
                  <a:pt x="20" y="7"/>
                </a:lnTo>
                <a:lnTo>
                  <a:pt x="20" y="7"/>
                </a:lnTo>
                <a:lnTo>
                  <a:pt x="20" y="7"/>
                </a:lnTo>
                <a:close/>
                <a:moveTo>
                  <a:pt x="13" y="34"/>
                </a:moveTo>
                <a:lnTo>
                  <a:pt x="13" y="34"/>
                </a:lnTo>
                <a:lnTo>
                  <a:pt x="13" y="41"/>
                </a:lnTo>
                <a:lnTo>
                  <a:pt x="13" y="41"/>
                </a:lnTo>
                <a:lnTo>
                  <a:pt x="13" y="41"/>
                </a:lnTo>
                <a:lnTo>
                  <a:pt x="13" y="41"/>
                </a:lnTo>
                <a:lnTo>
                  <a:pt x="20" y="41"/>
                </a:lnTo>
                <a:lnTo>
                  <a:pt x="20" y="41"/>
                </a:lnTo>
                <a:lnTo>
                  <a:pt x="20" y="41"/>
                </a:lnTo>
                <a:lnTo>
                  <a:pt x="20" y="41"/>
                </a:lnTo>
                <a:lnTo>
                  <a:pt x="20" y="41"/>
                </a:lnTo>
                <a:lnTo>
                  <a:pt x="27" y="41"/>
                </a:lnTo>
                <a:lnTo>
                  <a:pt x="27" y="41"/>
                </a:lnTo>
                <a:lnTo>
                  <a:pt x="27" y="41"/>
                </a:lnTo>
                <a:lnTo>
                  <a:pt x="27" y="41"/>
                </a:lnTo>
                <a:lnTo>
                  <a:pt x="27" y="34"/>
                </a:lnTo>
                <a:lnTo>
                  <a:pt x="27" y="34"/>
                </a:lnTo>
                <a:lnTo>
                  <a:pt x="27" y="34"/>
                </a:lnTo>
                <a:lnTo>
                  <a:pt x="27" y="34"/>
                </a:lnTo>
                <a:lnTo>
                  <a:pt x="27" y="27"/>
                </a:lnTo>
                <a:lnTo>
                  <a:pt x="27" y="27"/>
                </a:lnTo>
                <a:lnTo>
                  <a:pt x="27" y="27"/>
                </a:lnTo>
                <a:lnTo>
                  <a:pt x="27" y="27"/>
                </a:lnTo>
                <a:lnTo>
                  <a:pt x="20" y="20"/>
                </a:lnTo>
                <a:lnTo>
                  <a:pt x="20" y="20"/>
                </a:lnTo>
                <a:lnTo>
                  <a:pt x="20" y="20"/>
                </a:lnTo>
                <a:lnTo>
                  <a:pt x="20" y="20"/>
                </a:lnTo>
                <a:lnTo>
                  <a:pt x="13" y="20"/>
                </a:lnTo>
                <a:lnTo>
                  <a:pt x="13" y="20"/>
                </a:lnTo>
                <a:lnTo>
                  <a:pt x="13" y="27"/>
                </a:lnTo>
                <a:lnTo>
                  <a:pt x="13" y="27"/>
                </a:lnTo>
                <a:lnTo>
                  <a:pt x="13" y="27"/>
                </a:lnTo>
                <a:lnTo>
                  <a:pt x="13" y="27"/>
                </a:lnTo>
                <a:lnTo>
                  <a:pt x="13" y="27"/>
                </a:lnTo>
                <a:lnTo>
                  <a:pt x="13" y="34"/>
                </a:lnTo>
                <a:lnTo>
                  <a:pt x="13" y="34"/>
                </a:lnTo>
                <a:lnTo>
                  <a:pt x="13" y="34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2" name=""/>
          <p:cNvSpPr/>
          <p:nvPr/>
        </p:nvSpPr>
        <p:spPr>
          <a:xfrm>
            <a:off x="4748040" y="3460680"/>
            <a:ext cx="55800" cy="65160"/>
          </a:xfrm>
          <a:custGeom>
            <a:avLst/>
            <a:gdLst/>
            <a:ahLst/>
            <a:rect l="l" t="t" r="r" b="b"/>
            <a:pathLst>
              <a:path w="35" h="41">
                <a:moveTo>
                  <a:pt x="7" y="27"/>
                </a:moveTo>
                <a:lnTo>
                  <a:pt x="7" y="27"/>
                </a:lnTo>
                <a:lnTo>
                  <a:pt x="0" y="21"/>
                </a:lnTo>
                <a:lnTo>
                  <a:pt x="0" y="21"/>
                </a:lnTo>
                <a:lnTo>
                  <a:pt x="0" y="21"/>
                </a:lnTo>
                <a:lnTo>
                  <a:pt x="0" y="14"/>
                </a:lnTo>
                <a:lnTo>
                  <a:pt x="0" y="14"/>
                </a:lnTo>
                <a:lnTo>
                  <a:pt x="0" y="14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14" y="0"/>
                </a:lnTo>
                <a:lnTo>
                  <a:pt x="14" y="0"/>
                </a:lnTo>
                <a:lnTo>
                  <a:pt x="14" y="0"/>
                </a:lnTo>
                <a:lnTo>
                  <a:pt x="14" y="0"/>
                </a:lnTo>
                <a:lnTo>
                  <a:pt x="14" y="0"/>
                </a:lnTo>
                <a:lnTo>
                  <a:pt x="21" y="0"/>
                </a:lnTo>
                <a:lnTo>
                  <a:pt x="21" y="0"/>
                </a:lnTo>
                <a:lnTo>
                  <a:pt x="21" y="0"/>
                </a:lnTo>
                <a:lnTo>
                  <a:pt x="21" y="7"/>
                </a:lnTo>
                <a:lnTo>
                  <a:pt x="21" y="7"/>
                </a:lnTo>
                <a:lnTo>
                  <a:pt x="28" y="7"/>
                </a:lnTo>
                <a:lnTo>
                  <a:pt x="28" y="7"/>
                </a:lnTo>
                <a:lnTo>
                  <a:pt x="28" y="14"/>
                </a:lnTo>
                <a:lnTo>
                  <a:pt x="28" y="14"/>
                </a:lnTo>
                <a:lnTo>
                  <a:pt x="35" y="21"/>
                </a:lnTo>
                <a:lnTo>
                  <a:pt x="35" y="21"/>
                </a:lnTo>
                <a:lnTo>
                  <a:pt x="35" y="21"/>
                </a:lnTo>
                <a:lnTo>
                  <a:pt x="35" y="27"/>
                </a:lnTo>
                <a:lnTo>
                  <a:pt x="35" y="27"/>
                </a:lnTo>
                <a:lnTo>
                  <a:pt x="35" y="27"/>
                </a:lnTo>
                <a:lnTo>
                  <a:pt x="35" y="34"/>
                </a:lnTo>
                <a:lnTo>
                  <a:pt x="35" y="34"/>
                </a:lnTo>
                <a:lnTo>
                  <a:pt x="35" y="34"/>
                </a:lnTo>
                <a:lnTo>
                  <a:pt x="35" y="41"/>
                </a:lnTo>
                <a:lnTo>
                  <a:pt x="35" y="41"/>
                </a:lnTo>
                <a:lnTo>
                  <a:pt x="28" y="41"/>
                </a:lnTo>
                <a:lnTo>
                  <a:pt x="28" y="41"/>
                </a:lnTo>
                <a:lnTo>
                  <a:pt x="21" y="41"/>
                </a:lnTo>
                <a:lnTo>
                  <a:pt x="21" y="41"/>
                </a:lnTo>
                <a:lnTo>
                  <a:pt x="21" y="41"/>
                </a:lnTo>
                <a:lnTo>
                  <a:pt x="14" y="41"/>
                </a:lnTo>
                <a:lnTo>
                  <a:pt x="14" y="34"/>
                </a:lnTo>
                <a:lnTo>
                  <a:pt x="7" y="34"/>
                </a:lnTo>
                <a:lnTo>
                  <a:pt x="7" y="27"/>
                </a:lnTo>
                <a:close/>
                <a:moveTo>
                  <a:pt x="7" y="27"/>
                </a:moveTo>
                <a:lnTo>
                  <a:pt x="14" y="27"/>
                </a:lnTo>
                <a:lnTo>
                  <a:pt x="14" y="34"/>
                </a:lnTo>
                <a:lnTo>
                  <a:pt x="21" y="34"/>
                </a:lnTo>
                <a:lnTo>
                  <a:pt x="21" y="34"/>
                </a:lnTo>
                <a:lnTo>
                  <a:pt x="21" y="41"/>
                </a:lnTo>
                <a:lnTo>
                  <a:pt x="21" y="41"/>
                </a:lnTo>
                <a:lnTo>
                  <a:pt x="28" y="41"/>
                </a:lnTo>
                <a:lnTo>
                  <a:pt x="28" y="34"/>
                </a:lnTo>
                <a:lnTo>
                  <a:pt x="28" y="34"/>
                </a:lnTo>
                <a:lnTo>
                  <a:pt x="28" y="34"/>
                </a:lnTo>
                <a:lnTo>
                  <a:pt x="28" y="34"/>
                </a:lnTo>
                <a:lnTo>
                  <a:pt x="28" y="27"/>
                </a:lnTo>
                <a:lnTo>
                  <a:pt x="28" y="27"/>
                </a:lnTo>
                <a:lnTo>
                  <a:pt x="28" y="27"/>
                </a:lnTo>
                <a:lnTo>
                  <a:pt x="28" y="21"/>
                </a:lnTo>
                <a:lnTo>
                  <a:pt x="28" y="14"/>
                </a:lnTo>
                <a:lnTo>
                  <a:pt x="21" y="14"/>
                </a:lnTo>
                <a:lnTo>
                  <a:pt x="21" y="7"/>
                </a:lnTo>
                <a:lnTo>
                  <a:pt x="21" y="7"/>
                </a:lnTo>
                <a:lnTo>
                  <a:pt x="14" y="7"/>
                </a:lnTo>
                <a:lnTo>
                  <a:pt x="14" y="7"/>
                </a:lnTo>
                <a:lnTo>
                  <a:pt x="14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14"/>
                </a:lnTo>
                <a:lnTo>
                  <a:pt x="7" y="14"/>
                </a:lnTo>
                <a:lnTo>
                  <a:pt x="7" y="21"/>
                </a:lnTo>
                <a:lnTo>
                  <a:pt x="7" y="21"/>
                </a:lnTo>
                <a:lnTo>
                  <a:pt x="7" y="27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3" name=""/>
          <p:cNvSpPr/>
          <p:nvPr/>
        </p:nvSpPr>
        <p:spPr>
          <a:xfrm flipH="1">
            <a:off x="4627080" y="3581280"/>
            <a:ext cx="111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4" name=""/>
          <p:cNvSpPr/>
          <p:nvPr/>
        </p:nvSpPr>
        <p:spPr>
          <a:xfrm>
            <a:off x="4081320" y="3581280"/>
            <a:ext cx="546120" cy="644760"/>
          </a:xfrm>
          <a:custGeom>
            <a:avLst/>
            <a:gdLst/>
            <a:ahLst/>
            <a:rect l="l" t="t" r="r" b="b"/>
            <a:pathLst>
              <a:path w="344" h="406">
                <a:moveTo>
                  <a:pt x="344" y="0"/>
                </a:moveTo>
                <a:lnTo>
                  <a:pt x="344" y="7"/>
                </a:lnTo>
                <a:lnTo>
                  <a:pt x="338" y="13"/>
                </a:lnTo>
                <a:lnTo>
                  <a:pt x="331" y="13"/>
                </a:lnTo>
                <a:lnTo>
                  <a:pt x="324" y="20"/>
                </a:lnTo>
                <a:lnTo>
                  <a:pt x="317" y="27"/>
                </a:lnTo>
                <a:lnTo>
                  <a:pt x="317" y="34"/>
                </a:lnTo>
                <a:lnTo>
                  <a:pt x="317" y="41"/>
                </a:lnTo>
                <a:lnTo>
                  <a:pt x="317" y="48"/>
                </a:lnTo>
                <a:lnTo>
                  <a:pt x="310" y="55"/>
                </a:lnTo>
                <a:lnTo>
                  <a:pt x="310" y="55"/>
                </a:lnTo>
                <a:lnTo>
                  <a:pt x="303" y="62"/>
                </a:lnTo>
                <a:lnTo>
                  <a:pt x="289" y="62"/>
                </a:lnTo>
                <a:lnTo>
                  <a:pt x="282" y="55"/>
                </a:lnTo>
                <a:lnTo>
                  <a:pt x="269" y="62"/>
                </a:lnTo>
                <a:lnTo>
                  <a:pt x="262" y="62"/>
                </a:lnTo>
                <a:lnTo>
                  <a:pt x="262" y="69"/>
                </a:lnTo>
                <a:lnTo>
                  <a:pt x="255" y="75"/>
                </a:lnTo>
                <a:lnTo>
                  <a:pt x="255" y="82"/>
                </a:lnTo>
                <a:lnTo>
                  <a:pt x="255" y="89"/>
                </a:lnTo>
                <a:lnTo>
                  <a:pt x="248" y="96"/>
                </a:lnTo>
                <a:lnTo>
                  <a:pt x="248" y="103"/>
                </a:lnTo>
                <a:lnTo>
                  <a:pt x="241" y="103"/>
                </a:lnTo>
                <a:lnTo>
                  <a:pt x="241" y="110"/>
                </a:lnTo>
                <a:lnTo>
                  <a:pt x="234" y="117"/>
                </a:lnTo>
                <a:lnTo>
                  <a:pt x="234" y="124"/>
                </a:lnTo>
                <a:lnTo>
                  <a:pt x="234" y="131"/>
                </a:lnTo>
                <a:lnTo>
                  <a:pt x="234" y="137"/>
                </a:lnTo>
                <a:lnTo>
                  <a:pt x="234" y="144"/>
                </a:lnTo>
                <a:lnTo>
                  <a:pt x="234" y="151"/>
                </a:lnTo>
                <a:lnTo>
                  <a:pt x="234" y="158"/>
                </a:lnTo>
                <a:lnTo>
                  <a:pt x="234" y="165"/>
                </a:lnTo>
                <a:lnTo>
                  <a:pt x="234" y="172"/>
                </a:lnTo>
                <a:lnTo>
                  <a:pt x="227" y="172"/>
                </a:lnTo>
                <a:lnTo>
                  <a:pt x="227" y="179"/>
                </a:lnTo>
                <a:lnTo>
                  <a:pt x="227" y="186"/>
                </a:lnTo>
                <a:lnTo>
                  <a:pt x="227" y="193"/>
                </a:lnTo>
                <a:lnTo>
                  <a:pt x="227" y="199"/>
                </a:lnTo>
                <a:lnTo>
                  <a:pt x="227" y="206"/>
                </a:lnTo>
                <a:lnTo>
                  <a:pt x="227" y="213"/>
                </a:lnTo>
                <a:lnTo>
                  <a:pt x="227" y="220"/>
                </a:lnTo>
                <a:lnTo>
                  <a:pt x="227" y="227"/>
                </a:lnTo>
                <a:lnTo>
                  <a:pt x="227" y="234"/>
                </a:lnTo>
                <a:lnTo>
                  <a:pt x="227" y="234"/>
                </a:lnTo>
                <a:lnTo>
                  <a:pt x="227" y="241"/>
                </a:lnTo>
                <a:lnTo>
                  <a:pt x="227" y="248"/>
                </a:lnTo>
                <a:lnTo>
                  <a:pt x="234" y="255"/>
                </a:lnTo>
                <a:lnTo>
                  <a:pt x="234" y="261"/>
                </a:lnTo>
                <a:lnTo>
                  <a:pt x="234" y="268"/>
                </a:lnTo>
                <a:lnTo>
                  <a:pt x="234" y="275"/>
                </a:lnTo>
                <a:lnTo>
                  <a:pt x="234" y="282"/>
                </a:lnTo>
                <a:lnTo>
                  <a:pt x="234" y="289"/>
                </a:lnTo>
                <a:lnTo>
                  <a:pt x="234" y="296"/>
                </a:lnTo>
                <a:lnTo>
                  <a:pt x="234" y="303"/>
                </a:lnTo>
                <a:lnTo>
                  <a:pt x="227" y="303"/>
                </a:lnTo>
                <a:lnTo>
                  <a:pt x="227" y="310"/>
                </a:lnTo>
                <a:lnTo>
                  <a:pt x="220" y="317"/>
                </a:lnTo>
                <a:lnTo>
                  <a:pt x="213" y="323"/>
                </a:lnTo>
                <a:lnTo>
                  <a:pt x="213" y="330"/>
                </a:lnTo>
                <a:lnTo>
                  <a:pt x="200" y="330"/>
                </a:lnTo>
                <a:lnTo>
                  <a:pt x="200" y="337"/>
                </a:lnTo>
                <a:lnTo>
                  <a:pt x="193" y="344"/>
                </a:lnTo>
                <a:lnTo>
                  <a:pt x="193" y="351"/>
                </a:lnTo>
                <a:lnTo>
                  <a:pt x="193" y="358"/>
                </a:lnTo>
                <a:lnTo>
                  <a:pt x="200" y="365"/>
                </a:lnTo>
                <a:lnTo>
                  <a:pt x="206" y="365"/>
                </a:lnTo>
                <a:lnTo>
                  <a:pt x="220" y="365"/>
                </a:lnTo>
                <a:lnTo>
                  <a:pt x="227" y="365"/>
                </a:lnTo>
                <a:lnTo>
                  <a:pt x="234" y="358"/>
                </a:lnTo>
                <a:lnTo>
                  <a:pt x="234" y="351"/>
                </a:lnTo>
                <a:lnTo>
                  <a:pt x="241" y="344"/>
                </a:lnTo>
                <a:lnTo>
                  <a:pt x="241" y="337"/>
                </a:lnTo>
                <a:lnTo>
                  <a:pt x="248" y="337"/>
                </a:lnTo>
                <a:lnTo>
                  <a:pt x="248" y="337"/>
                </a:lnTo>
                <a:lnTo>
                  <a:pt x="255" y="337"/>
                </a:lnTo>
                <a:lnTo>
                  <a:pt x="262" y="344"/>
                </a:lnTo>
                <a:lnTo>
                  <a:pt x="262" y="351"/>
                </a:lnTo>
                <a:lnTo>
                  <a:pt x="262" y="358"/>
                </a:lnTo>
                <a:lnTo>
                  <a:pt x="255" y="365"/>
                </a:lnTo>
                <a:lnTo>
                  <a:pt x="248" y="372"/>
                </a:lnTo>
                <a:lnTo>
                  <a:pt x="248" y="379"/>
                </a:lnTo>
                <a:lnTo>
                  <a:pt x="241" y="379"/>
                </a:lnTo>
                <a:lnTo>
                  <a:pt x="234" y="385"/>
                </a:lnTo>
                <a:lnTo>
                  <a:pt x="227" y="392"/>
                </a:lnTo>
                <a:lnTo>
                  <a:pt x="220" y="392"/>
                </a:lnTo>
                <a:lnTo>
                  <a:pt x="213" y="385"/>
                </a:lnTo>
                <a:lnTo>
                  <a:pt x="206" y="379"/>
                </a:lnTo>
                <a:lnTo>
                  <a:pt x="206" y="372"/>
                </a:lnTo>
                <a:lnTo>
                  <a:pt x="200" y="365"/>
                </a:lnTo>
                <a:lnTo>
                  <a:pt x="200" y="365"/>
                </a:lnTo>
                <a:lnTo>
                  <a:pt x="193" y="358"/>
                </a:lnTo>
                <a:lnTo>
                  <a:pt x="186" y="351"/>
                </a:lnTo>
                <a:lnTo>
                  <a:pt x="179" y="344"/>
                </a:lnTo>
                <a:lnTo>
                  <a:pt x="179" y="337"/>
                </a:lnTo>
                <a:lnTo>
                  <a:pt x="172" y="337"/>
                </a:lnTo>
                <a:lnTo>
                  <a:pt x="172" y="330"/>
                </a:lnTo>
                <a:lnTo>
                  <a:pt x="165" y="323"/>
                </a:lnTo>
                <a:lnTo>
                  <a:pt x="165" y="317"/>
                </a:lnTo>
                <a:lnTo>
                  <a:pt x="158" y="310"/>
                </a:lnTo>
                <a:lnTo>
                  <a:pt x="158" y="303"/>
                </a:lnTo>
                <a:lnTo>
                  <a:pt x="158" y="303"/>
                </a:lnTo>
                <a:lnTo>
                  <a:pt x="151" y="296"/>
                </a:lnTo>
                <a:lnTo>
                  <a:pt x="151" y="289"/>
                </a:lnTo>
                <a:lnTo>
                  <a:pt x="151" y="282"/>
                </a:lnTo>
                <a:lnTo>
                  <a:pt x="151" y="275"/>
                </a:lnTo>
                <a:lnTo>
                  <a:pt x="151" y="268"/>
                </a:lnTo>
                <a:lnTo>
                  <a:pt x="144" y="261"/>
                </a:lnTo>
                <a:lnTo>
                  <a:pt x="144" y="255"/>
                </a:lnTo>
                <a:lnTo>
                  <a:pt x="144" y="248"/>
                </a:lnTo>
                <a:lnTo>
                  <a:pt x="144" y="241"/>
                </a:lnTo>
                <a:lnTo>
                  <a:pt x="144" y="234"/>
                </a:lnTo>
                <a:lnTo>
                  <a:pt x="138" y="234"/>
                </a:lnTo>
                <a:lnTo>
                  <a:pt x="138" y="227"/>
                </a:lnTo>
                <a:lnTo>
                  <a:pt x="138" y="220"/>
                </a:lnTo>
                <a:lnTo>
                  <a:pt x="138" y="213"/>
                </a:lnTo>
                <a:lnTo>
                  <a:pt x="131" y="206"/>
                </a:lnTo>
                <a:lnTo>
                  <a:pt x="131" y="199"/>
                </a:lnTo>
                <a:lnTo>
                  <a:pt x="131" y="193"/>
                </a:lnTo>
                <a:lnTo>
                  <a:pt x="131" y="193"/>
                </a:lnTo>
                <a:lnTo>
                  <a:pt x="124" y="193"/>
                </a:lnTo>
                <a:lnTo>
                  <a:pt x="124" y="199"/>
                </a:lnTo>
                <a:lnTo>
                  <a:pt x="117" y="206"/>
                </a:lnTo>
                <a:lnTo>
                  <a:pt x="103" y="206"/>
                </a:lnTo>
                <a:lnTo>
                  <a:pt x="96" y="213"/>
                </a:lnTo>
                <a:lnTo>
                  <a:pt x="96" y="213"/>
                </a:lnTo>
                <a:lnTo>
                  <a:pt x="89" y="220"/>
                </a:lnTo>
                <a:lnTo>
                  <a:pt x="89" y="227"/>
                </a:lnTo>
                <a:lnTo>
                  <a:pt x="82" y="234"/>
                </a:lnTo>
                <a:lnTo>
                  <a:pt x="82" y="241"/>
                </a:lnTo>
                <a:lnTo>
                  <a:pt x="75" y="248"/>
                </a:lnTo>
                <a:lnTo>
                  <a:pt x="75" y="255"/>
                </a:lnTo>
                <a:lnTo>
                  <a:pt x="69" y="261"/>
                </a:lnTo>
                <a:lnTo>
                  <a:pt x="62" y="261"/>
                </a:lnTo>
                <a:lnTo>
                  <a:pt x="62" y="268"/>
                </a:lnTo>
                <a:lnTo>
                  <a:pt x="55" y="275"/>
                </a:lnTo>
                <a:lnTo>
                  <a:pt x="55" y="282"/>
                </a:lnTo>
                <a:lnTo>
                  <a:pt x="48" y="289"/>
                </a:lnTo>
                <a:lnTo>
                  <a:pt x="41" y="289"/>
                </a:lnTo>
                <a:lnTo>
                  <a:pt x="41" y="296"/>
                </a:lnTo>
                <a:lnTo>
                  <a:pt x="34" y="303"/>
                </a:lnTo>
                <a:lnTo>
                  <a:pt x="27" y="310"/>
                </a:lnTo>
                <a:lnTo>
                  <a:pt x="20" y="310"/>
                </a:lnTo>
                <a:lnTo>
                  <a:pt x="13" y="317"/>
                </a:lnTo>
                <a:lnTo>
                  <a:pt x="13" y="323"/>
                </a:lnTo>
                <a:lnTo>
                  <a:pt x="7" y="330"/>
                </a:lnTo>
                <a:lnTo>
                  <a:pt x="7" y="337"/>
                </a:lnTo>
                <a:lnTo>
                  <a:pt x="0" y="344"/>
                </a:lnTo>
                <a:lnTo>
                  <a:pt x="0" y="351"/>
                </a:lnTo>
                <a:lnTo>
                  <a:pt x="0" y="351"/>
                </a:lnTo>
                <a:lnTo>
                  <a:pt x="7" y="358"/>
                </a:lnTo>
                <a:lnTo>
                  <a:pt x="7" y="365"/>
                </a:lnTo>
                <a:lnTo>
                  <a:pt x="13" y="372"/>
                </a:lnTo>
                <a:lnTo>
                  <a:pt x="27" y="372"/>
                </a:lnTo>
                <a:lnTo>
                  <a:pt x="34" y="379"/>
                </a:lnTo>
                <a:lnTo>
                  <a:pt x="41" y="379"/>
                </a:lnTo>
                <a:lnTo>
                  <a:pt x="48" y="379"/>
                </a:lnTo>
                <a:lnTo>
                  <a:pt x="55" y="385"/>
                </a:lnTo>
                <a:lnTo>
                  <a:pt x="48" y="392"/>
                </a:lnTo>
                <a:lnTo>
                  <a:pt x="48" y="399"/>
                </a:lnTo>
                <a:lnTo>
                  <a:pt x="41" y="406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5" name=""/>
          <p:cNvSpPr/>
          <p:nvPr/>
        </p:nvSpPr>
        <p:spPr>
          <a:xfrm>
            <a:off x="4146480" y="4226040"/>
            <a:ext cx="1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6" name=""/>
          <p:cNvSpPr/>
          <p:nvPr/>
        </p:nvSpPr>
        <p:spPr>
          <a:xfrm>
            <a:off x="4124160" y="4259160"/>
            <a:ext cx="66960" cy="31680"/>
          </a:xfrm>
          <a:custGeom>
            <a:avLst/>
            <a:gdLst/>
            <a:ahLst/>
            <a:rect l="l" t="t" r="r" b="b"/>
            <a:pathLst>
              <a:path w="42" h="20">
                <a:moveTo>
                  <a:pt x="0" y="20"/>
                </a:moveTo>
                <a:lnTo>
                  <a:pt x="0" y="14"/>
                </a:lnTo>
                <a:lnTo>
                  <a:pt x="35" y="7"/>
                </a:lnTo>
                <a:lnTo>
                  <a:pt x="28" y="7"/>
                </a:lnTo>
                <a:lnTo>
                  <a:pt x="28" y="7"/>
                </a:lnTo>
                <a:lnTo>
                  <a:pt x="28" y="7"/>
                </a:lnTo>
                <a:lnTo>
                  <a:pt x="28" y="7"/>
                </a:lnTo>
                <a:lnTo>
                  <a:pt x="28" y="0"/>
                </a:lnTo>
                <a:lnTo>
                  <a:pt x="28" y="0"/>
                </a:lnTo>
                <a:lnTo>
                  <a:pt x="21" y="0"/>
                </a:lnTo>
                <a:lnTo>
                  <a:pt x="21" y="0"/>
                </a:lnTo>
                <a:lnTo>
                  <a:pt x="28" y="0"/>
                </a:lnTo>
                <a:lnTo>
                  <a:pt x="28" y="0"/>
                </a:lnTo>
                <a:lnTo>
                  <a:pt x="35" y="0"/>
                </a:lnTo>
                <a:lnTo>
                  <a:pt x="35" y="0"/>
                </a:lnTo>
                <a:lnTo>
                  <a:pt x="35" y="7"/>
                </a:lnTo>
                <a:lnTo>
                  <a:pt x="35" y="7"/>
                </a:lnTo>
                <a:lnTo>
                  <a:pt x="42" y="7"/>
                </a:lnTo>
                <a:lnTo>
                  <a:pt x="42" y="7"/>
                </a:lnTo>
                <a:lnTo>
                  <a:pt x="42" y="7"/>
                </a:lnTo>
                <a:lnTo>
                  <a:pt x="42" y="14"/>
                </a:lnTo>
                <a:lnTo>
                  <a:pt x="0" y="2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7" name=""/>
          <p:cNvSpPr/>
          <p:nvPr/>
        </p:nvSpPr>
        <p:spPr>
          <a:xfrm>
            <a:off x="4124160" y="4302000"/>
            <a:ext cx="76320" cy="55800"/>
          </a:xfrm>
          <a:custGeom>
            <a:avLst/>
            <a:gdLst/>
            <a:ahLst/>
            <a:rect l="l" t="t" r="r" b="b"/>
            <a:pathLst>
              <a:path w="48" h="35">
                <a:moveTo>
                  <a:pt x="35" y="28"/>
                </a:moveTo>
                <a:lnTo>
                  <a:pt x="35" y="21"/>
                </a:lnTo>
                <a:lnTo>
                  <a:pt x="42" y="21"/>
                </a:lnTo>
                <a:lnTo>
                  <a:pt x="42" y="21"/>
                </a:lnTo>
                <a:lnTo>
                  <a:pt x="42" y="21"/>
                </a:lnTo>
                <a:lnTo>
                  <a:pt x="42" y="21"/>
                </a:lnTo>
                <a:lnTo>
                  <a:pt x="42" y="21"/>
                </a:lnTo>
                <a:lnTo>
                  <a:pt x="42" y="21"/>
                </a:lnTo>
                <a:lnTo>
                  <a:pt x="42" y="14"/>
                </a:lnTo>
                <a:lnTo>
                  <a:pt x="42" y="14"/>
                </a:lnTo>
                <a:lnTo>
                  <a:pt x="42" y="14"/>
                </a:lnTo>
                <a:lnTo>
                  <a:pt x="42" y="14"/>
                </a:lnTo>
                <a:lnTo>
                  <a:pt x="42" y="14"/>
                </a:lnTo>
                <a:lnTo>
                  <a:pt x="42" y="14"/>
                </a:lnTo>
                <a:lnTo>
                  <a:pt x="42" y="7"/>
                </a:lnTo>
                <a:lnTo>
                  <a:pt x="35" y="7"/>
                </a:lnTo>
                <a:lnTo>
                  <a:pt x="35" y="7"/>
                </a:lnTo>
                <a:lnTo>
                  <a:pt x="35" y="7"/>
                </a:lnTo>
                <a:lnTo>
                  <a:pt x="35" y="7"/>
                </a:lnTo>
                <a:lnTo>
                  <a:pt x="28" y="7"/>
                </a:lnTo>
                <a:lnTo>
                  <a:pt x="28" y="7"/>
                </a:lnTo>
                <a:lnTo>
                  <a:pt x="21" y="7"/>
                </a:lnTo>
                <a:lnTo>
                  <a:pt x="28" y="7"/>
                </a:lnTo>
                <a:lnTo>
                  <a:pt x="28" y="7"/>
                </a:lnTo>
                <a:lnTo>
                  <a:pt x="28" y="7"/>
                </a:lnTo>
                <a:lnTo>
                  <a:pt x="28" y="14"/>
                </a:lnTo>
                <a:lnTo>
                  <a:pt x="28" y="14"/>
                </a:lnTo>
                <a:lnTo>
                  <a:pt x="28" y="14"/>
                </a:lnTo>
                <a:lnTo>
                  <a:pt x="28" y="14"/>
                </a:lnTo>
                <a:lnTo>
                  <a:pt x="35" y="14"/>
                </a:lnTo>
                <a:lnTo>
                  <a:pt x="35" y="21"/>
                </a:lnTo>
                <a:lnTo>
                  <a:pt x="28" y="21"/>
                </a:lnTo>
                <a:lnTo>
                  <a:pt x="28" y="28"/>
                </a:lnTo>
                <a:lnTo>
                  <a:pt x="28" y="28"/>
                </a:lnTo>
                <a:lnTo>
                  <a:pt x="28" y="28"/>
                </a:lnTo>
                <a:lnTo>
                  <a:pt x="28" y="28"/>
                </a:lnTo>
                <a:lnTo>
                  <a:pt x="21" y="35"/>
                </a:lnTo>
                <a:lnTo>
                  <a:pt x="21" y="35"/>
                </a:lnTo>
                <a:lnTo>
                  <a:pt x="14" y="35"/>
                </a:lnTo>
                <a:lnTo>
                  <a:pt x="14" y="35"/>
                </a:lnTo>
                <a:lnTo>
                  <a:pt x="14" y="35"/>
                </a:lnTo>
                <a:lnTo>
                  <a:pt x="14" y="35"/>
                </a:lnTo>
                <a:lnTo>
                  <a:pt x="7" y="35"/>
                </a:lnTo>
                <a:lnTo>
                  <a:pt x="7" y="28"/>
                </a:lnTo>
                <a:lnTo>
                  <a:pt x="7" y="28"/>
                </a:lnTo>
                <a:lnTo>
                  <a:pt x="7" y="28"/>
                </a:lnTo>
                <a:lnTo>
                  <a:pt x="7" y="28"/>
                </a:lnTo>
                <a:lnTo>
                  <a:pt x="0" y="28"/>
                </a:lnTo>
                <a:lnTo>
                  <a:pt x="0" y="21"/>
                </a:lnTo>
                <a:lnTo>
                  <a:pt x="0" y="21"/>
                </a:lnTo>
                <a:lnTo>
                  <a:pt x="0" y="21"/>
                </a:lnTo>
                <a:lnTo>
                  <a:pt x="0" y="14"/>
                </a:lnTo>
                <a:lnTo>
                  <a:pt x="0" y="14"/>
                </a:lnTo>
                <a:lnTo>
                  <a:pt x="7" y="7"/>
                </a:lnTo>
                <a:lnTo>
                  <a:pt x="7" y="7"/>
                </a:lnTo>
                <a:lnTo>
                  <a:pt x="14" y="7"/>
                </a:lnTo>
                <a:lnTo>
                  <a:pt x="14" y="0"/>
                </a:lnTo>
                <a:lnTo>
                  <a:pt x="21" y="0"/>
                </a:lnTo>
                <a:lnTo>
                  <a:pt x="28" y="0"/>
                </a:lnTo>
                <a:lnTo>
                  <a:pt x="35" y="0"/>
                </a:lnTo>
                <a:lnTo>
                  <a:pt x="35" y="0"/>
                </a:lnTo>
                <a:lnTo>
                  <a:pt x="42" y="7"/>
                </a:lnTo>
                <a:lnTo>
                  <a:pt x="42" y="7"/>
                </a:lnTo>
                <a:lnTo>
                  <a:pt x="42" y="7"/>
                </a:lnTo>
                <a:lnTo>
                  <a:pt x="48" y="14"/>
                </a:lnTo>
                <a:lnTo>
                  <a:pt x="48" y="14"/>
                </a:lnTo>
                <a:lnTo>
                  <a:pt x="48" y="14"/>
                </a:lnTo>
                <a:lnTo>
                  <a:pt x="48" y="21"/>
                </a:lnTo>
                <a:lnTo>
                  <a:pt x="48" y="21"/>
                </a:lnTo>
                <a:lnTo>
                  <a:pt x="48" y="21"/>
                </a:lnTo>
                <a:lnTo>
                  <a:pt x="42" y="28"/>
                </a:lnTo>
                <a:lnTo>
                  <a:pt x="42" y="28"/>
                </a:lnTo>
                <a:lnTo>
                  <a:pt x="42" y="28"/>
                </a:lnTo>
                <a:lnTo>
                  <a:pt x="35" y="28"/>
                </a:lnTo>
                <a:close/>
                <a:moveTo>
                  <a:pt x="14" y="7"/>
                </a:moveTo>
                <a:lnTo>
                  <a:pt x="14" y="7"/>
                </a:lnTo>
                <a:lnTo>
                  <a:pt x="14" y="7"/>
                </a:lnTo>
                <a:lnTo>
                  <a:pt x="14" y="14"/>
                </a:lnTo>
                <a:lnTo>
                  <a:pt x="7" y="14"/>
                </a:lnTo>
                <a:lnTo>
                  <a:pt x="7" y="14"/>
                </a:lnTo>
                <a:lnTo>
                  <a:pt x="7" y="14"/>
                </a:lnTo>
                <a:lnTo>
                  <a:pt x="7" y="14"/>
                </a:lnTo>
                <a:lnTo>
                  <a:pt x="7" y="14"/>
                </a:lnTo>
                <a:lnTo>
                  <a:pt x="7" y="14"/>
                </a:lnTo>
                <a:lnTo>
                  <a:pt x="7" y="21"/>
                </a:lnTo>
                <a:lnTo>
                  <a:pt x="7" y="21"/>
                </a:lnTo>
                <a:lnTo>
                  <a:pt x="7" y="21"/>
                </a:lnTo>
                <a:lnTo>
                  <a:pt x="7" y="21"/>
                </a:lnTo>
                <a:lnTo>
                  <a:pt x="7" y="21"/>
                </a:lnTo>
                <a:lnTo>
                  <a:pt x="7" y="28"/>
                </a:lnTo>
                <a:lnTo>
                  <a:pt x="7" y="28"/>
                </a:lnTo>
                <a:lnTo>
                  <a:pt x="14" y="28"/>
                </a:lnTo>
                <a:lnTo>
                  <a:pt x="14" y="28"/>
                </a:lnTo>
                <a:lnTo>
                  <a:pt x="14" y="28"/>
                </a:lnTo>
                <a:lnTo>
                  <a:pt x="21" y="28"/>
                </a:lnTo>
                <a:lnTo>
                  <a:pt x="21" y="28"/>
                </a:lnTo>
                <a:lnTo>
                  <a:pt x="21" y="28"/>
                </a:lnTo>
                <a:lnTo>
                  <a:pt x="21" y="28"/>
                </a:lnTo>
                <a:lnTo>
                  <a:pt x="28" y="21"/>
                </a:lnTo>
                <a:lnTo>
                  <a:pt x="28" y="21"/>
                </a:lnTo>
                <a:lnTo>
                  <a:pt x="28" y="21"/>
                </a:lnTo>
                <a:lnTo>
                  <a:pt x="28" y="21"/>
                </a:lnTo>
                <a:lnTo>
                  <a:pt x="28" y="14"/>
                </a:lnTo>
                <a:lnTo>
                  <a:pt x="28" y="14"/>
                </a:lnTo>
                <a:lnTo>
                  <a:pt x="28" y="14"/>
                </a:lnTo>
                <a:lnTo>
                  <a:pt x="21" y="14"/>
                </a:lnTo>
                <a:lnTo>
                  <a:pt x="21" y="14"/>
                </a:lnTo>
                <a:lnTo>
                  <a:pt x="21" y="7"/>
                </a:lnTo>
                <a:lnTo>
                  <a:pt x="21" y="7"/>
                </a:lnTo>
                <a:lnTo>
                  <a:pt x="21" y="7"/>
                </a:lnTo>
                <a:lnTo>
                  <a:pt x="14" y="7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8" name=""/>
          <p:cNvSpPr/>
          <p:nvPr/>
        </p:nvSpPr>
        <p:spPr>
          <a:xfrm>
            <a:off x="4135320" y="4357800"/>
            <a:ext cx="76320" cy="54000"/>
          </a:xfrm>
          <a:custGeom>
            <a:avLst/>
            <a:gdLst/>
            <a:ahLst/>
            <a:rect l="l" t="t" r="r" b="b"/>
            <a:pathLst>
              <a:path w="48" h="34">
                <a:moveTo>
                  <a:pt x="21" y="0"/>
                </a:moveTo>
                <a:lnTo>
                  <a:pt x="21" y="0"/>
                </a:lnTo>
                <a:lnTo>
                  <a:pt x="28" y="0"/>
                </a:lnTo>
                <a:lnTo>
                  <a:pt x="28" y="0"/>
                </a:lnTo>
                <a:lnTo>
                  <a:pt x="35" y="0"/>
                </a:lnTo>
                <a:lnTo>
                  <a:pt x="35" y="0"/>
                </a:lnTo>
                <a:lnTo>
                  <a:pt x="35" y="0"/>
                </a:lnTo>
                <a:lnTo>
                  <a:pt x="41" y="7"/>
                </a:lnTo>
                <a:lnTo>
                  <a:pt x="41" y="7"/>
                </a:lnTo>
                <a:lnTo>
                  <a:pt x="41" y="7"/>
                </a:lnTo>
                <a:lnTo>
                  <a:pt x="41" y="7"/>
                </a:lnTo>
                <a:lnTo>
                  <a:pt x="41" y="14"/>
                </a:lnTo>
                <a:lnTo>
                  <a:pt x="48" y="14"/>
                </a:lnTo>
                <a:lnTo>
                  <a:pt x="48" y="14"/>
                </a:lnTo>
                <a:lnTo>
                  <a:pt x="48" y="14"/>
                </a:lnTo>
                <a:lnTo>
                  <a:pt x="48" y="20"/>
                </a:lnTo>
                <a:lnTo>
                  <a:pt x="41" y="20"/>
                </a:lnTo>
                <a:lnTo>
                  <a:pt x="41" y="20"/>
                </a:lnTo>
                <a:lnTo>
                  <a:pt x="41" y="20"/>
                </a:lnTo>
                <a:lnTo>
                  <a:pt x="41" y="20"/>
                </a:lnTo>
                <a:lnTo>
                  <a:pt x="41" y="27"/>
                </a:lnTo>
                <a:lnTo>
                  <a:pt x="41" y="27"/>
                </a:lnTo>
                <a:lnTo>
                  <a:pt x="41" y="27"/>
                </a:lnTo>
                <a:lnTo>
                  <a:pt x="35" y="27"/>
                </a:lnTo>
                <a:lnTo>
                  <a:pt x="35" y="27"/>
                </a:lnTo>
                <a:lnTo>
                  <a:pt x="35" y="27"/>
                </a:lnTo>
                <a:lnTo>
                  <a:pt x="28" y="27"/>
                </a:lnTo>
                <a:lnTo>
                  <a:pt x="28" y="27"/>
                </a:lnTo>
                <a:lnTo>
                  <a:pt x="28" y="27"/>
                </a:lnTo>
                <a:lnTo>
                  <a:pt x="21" y="34"/>
                </a:lnTo>
                <a:lnTo>
                  <a:pt x="21" y="34"/>
                </a:lnTo>
                <a:lnTo>
                  <a:pt x="14" y="34"/>
                </a:lnTo>
                <a:lnTo>
                  <a:pt x="14" y="34"/>
                </a:lnTo>
                <a:lnTo>
                  <a:pt x="7" y="27"/>
                </a:lnTo>
                <a:lnTo>
                  <a:pt x="7" y="27"/>
                </a:lnTo>
                <a:lnTo>
                  <a:pt x="7" y="27"/>
                </a:lnTo>
                <a:lnTo>
                  <a:pt x="7" y="27"/>
                </a:lnTo>
                <a:lnTo>
                  <a:pt x="0" y="27"/>
                </a:lnTo>
                <a:lnTo>
                  <a:pt x="0" y="27"/>
                </a:lnTo>
                <a:lnTo>
                  <a:pt x="0" y="20"/>
                </a:lnTo>
                <a:lnTo>
                  <a:pt x="0" y="20"/>
                </a:lnTo>
                <a:lnTo>
                  <a:pt x="0" y="14"/>
                </a:lnTo>
                <a:lnTo>
                  <a:pt x="0" y="14"/>
                </a:lnTo>
                <a:lnTo>
                  <a:pt x="0" y="14"/>
                </a:lnTo>
                <a:lnTo>
                  <a:pt x="0" y="7"/>
                </a:lnTo>
                <a:lnTo>
                  <a:pt x="7" y="7"/>
                </a:lnTo>
                <a:lnTo>
                  <a:pt x="7" y="7"/>
                </a:lnTo>
                <a:lnTo>
                  <a:pt x="14" y="0"/>
                </a:lnTo>
                <a:lnTo>
                  <a:pt x="21" y="0"/>
                </a:lnTo>
                <a:close/>
                <a:moveTo>
                  <a:pt x="21" y="7"/>
                </a:moveTo>
                <a:lnTo>
                  <a:pt x="14" y="7"/>
                </a:lnTo>
                <a:lnTo>
                  <a:pt x="14" y="7"/>
                </a:lnTo>
                <a:lnTo>
                  <a:pt x="7" y="14"/>
                </a:lnTo>
                <a:lnTo>
                  <a:pt x="7" y="14"/>
                </a:lnTo>
                <a:lnTo>
                  <a:pt x="7" y="14"/>
                </a:lnTo>
                <a:lnTo>
                  <a:pt x="7" y="14"/>
                </a:lnTo>
                <a:lnTo>
                  <a:pt x="7" y="20"/>
                </a:lnTo>
                <a:lnTo>
                  <a:pt x="7" y="20"/>
                </a:lnTo>
                <a:lnTo>
                  <a:pt x="7" y="20"/>
                </a:lnTo>
                <a:lnTo>
                  <a:pt x="7" y="20"/>
                </a:lnTo>
                <a:lnTo>
                  <a:pt x="7" y="20"/>
                </a:lnTo>
                <a:lnTo>
                  <a:pt x="7" y="27"/>
                </a:lnTo>
                <a:lnTo>
                  <a:pt x="14" y="27"/>
                </a:lnTo>
                <a:lnTo>
                  <a:pt x="14" y="27"/>
                </a:lnTo>
                <a:lnTo>
                  <a:pt x="21" y="27"/>
                </a:lnTo>
                <a:lnTo>
                  <a:pt x="21" y="27"/>
                </a:lnTo>
                <a:lnTo>
                  <a:pt x="28" y="27"/>
                </a:lnTo>
                <a:lnTo>
                  <a:pt x="35" y="20"/>
                </a:lnTo>
                <a:lnTo>
                  <a:pt x="35" y="20"/>
                </a:lnTo>
                <a:lnTo>
                  <a:pt x="41" y="20"/>
                </a:lnTo>
                <a:lnTo>
                  <a:pt x="41" y="20"/>
                </a:lnTo>
                <a:lnTo>
                  <a:pt x="41" y="14"/>
                </a:lnTo>
                <a:lnTo>
                  <a:pt x="41" y="14"/>
                </a:lnTo>
                <a:lnTo>
                  <a:pt x="41" y="14"/>
                </a:lnTo>
                <a:lnTo>
                  <a:pt x="41" y="14"/>
                </a:lnTo>
                <a:lnTo>
                  <a:pt x="41" y="7"/>
                </a:lnTo>
                <a:lnTo>
                  <a:pt x="41" y="7"/>
                </a:lnTo>
                <a:lnTo>
                  <a:pt x="35" y="7"/>
                </a:lnTo>
                <a:lnTo>
                  <a:pt x="35" y="7"/>
                </a:lnTo>
                <a:lnTo>
                  <a:pt x="28" y="7"/>
                </a:lnTo>
                <a:lnTo>
                  <a:pt x="28" y="7"/>
                </a:lnTo>
                <a:lnTo>
                  <a:pt x="21" y="7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9" name=""/>
          <p:cNvSpPr/>
          <p:nvPr/>
        </p:nvSpPr>
        <p:spPr>
          <a:xfrm>
            <a:off x="4179960" y="4433760"/>
            <a:ext cx="1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0" name=""/>
          <p:cNvSpPr/>
          <p:nvPr/>
        </p:nvSpPr>
        <p:spPr>
          <a:xfrm>
            <a:off x="3292560" y="4270320"/>
            <a:ext cx="919080" cy="338040"/>
          </a:xfrm>
          <a:custGeom>
            <a:avLst/>
            <a:gdLst/>
            <a:ahLst/>
            <a:rect l="l" t="t" r="r" b="b"/>
            <a:pathLst>
              <a:path w="579" h="213">
                <a:moveTo>
                  <a:pt x="559" y="103"/>
                </a:moveTo>
                <a:lnTo>
                  <a:pt x="559" y="110"/>
                </a:lnTo>
                <a:lnTo>
                  <a:pt x="559" y="117"/>
                </a:lnTo>
                <a:lnTo>
                  <a:pt x="559" y="124"/>
                </a:lnTo>
                <a:lnTo>
                  <a:pt x="566" y="131"/>
                </a:lnTo>
                <a:lnTo>
                  <a:pt x="566" y="131"/>
                </a:lnTo>
                <a:lnTo>
                  <a:pt x="566" y="137"/>
                </a:lnTo>
                <a:lnTo>
                  <a:pt x="566" y="144"/>
                </a:lnTo>
                <a:lnTo>
                  <a:pt x="566" y="151"/>
                </a:lnTo>
                <a:lnTo>
                  <a:pt x="572" y="158"/>
                </a:lnTo>
                <a:lnTo>
                  <a:pt x="572" y="165"/>
                </a:lnTo>
                <a:lnTo>
                  <a:pt x="579" y="172"/>
                </a:lnTo>
                <a:lnTo>
                  <a:pt x="579" y="179"/>
                </a:lnTo>
                <a:lnTo>
                  <a:pt x="579" y="186"/>
                </a:lnTo>
                <a:lnTo>
                  <a:pt x="566" y="186"/>
                </a:lnTo>
                <a:lnTo>
                  <a:pt x="559" y="186"/>
                </a:lnTo>
                <a:lnTo>
                  <a:pt x="552" y="186"/>
                </a:lnTo>
                <a:lnTo>
                  <a:pt x="538" y="193"/>
                </a:lnTo>
                <a:lnTo>
                  <a:pt x="531" y="193"/>
                </a:lnTo>
                <a:lnTo>
                  <a:pt x="524" y="199"/>
                </a:lnTo>
                <a:lnTo>
                  <a:pt x="517" y="199"/>
                </a:lnTo>
                <a:lnTo>
                  <a:pt x="510" y="206"/>
                </a:lnTo>
                <a:lnTo>
                  <a:pt x="510" y="213"/>
                </a:lnTo>
                <a:lnTo>
                  <a:pt x="504" y="206"/>
                </a:lnTo>
                <a:lnTo>
                  <a:pt x="497" y="199"/>
                </a:lnTo>
                <a:lnTo>
                  <a:pt x="497" y="199"/>
                </a:lnTo>
                <a:lnTo>
                  <a:pt x="490" y="193"/>
                </a:lnTo>
                <a:lnTo>
                  <a:pt x="490" y="186"/>
                </a:lnTo>
                <a:lnTo>
                  <a:pt x="490" y="179"/>
                </a:lnTo>
                <a:lnTo>
                  <a:pt x="483" y="179"/>
                </a:lnTo>
                <a:lnTo>
                  <a:pt x="483" y="172"/>
                </a:lnTo>
                <a:lnTo>
                  <a:pt x="490" y="165"/>
                </a:lnTo>
                <a:lnTo>
                  <a:pt x="490" y="158"/>
                </a:lnTo>
                <a:lnTo>
                  <a:pt x="490" y="151"/>
                </a:lnTo>
                <a:lnTo>
                  <a:pt x="490" y="144"/>
                </a:lnTo>
                <a:lnTo>
                  <a:pt x="490" y="137"/>
                </a:lnTo>
                <a:lnTo>
                  <a:pt x="490" y="131"/>
                </a:lnTo>
                <a:lnTo>
                  <a:pt x="490" y="124"/>
                </a:lnTo>
                <a:lnTo>
                  <a:pt x="490" y="117"/>
                </a:lnTo>
                <a:lnTo>
                  <a:pt x="497" y="110"/>
                </a:lnTo>
                <a:lnTo>
                  <a:pt x="497" y="103"/>
                </a:lnTo>
                <a:lnTo>
                  <a:pt x="497" y="103"/>
                </a:lnTo>
                <a:lnTo>
                  <a:pt x="497" y="96"/>
                </a:lnTo>
                <a:lnTo>
                  <a:pt x="497" y="89"/>
                </a:lnTo>
                <a:lnTo>
                  <a:pt x="490" y="82"/>
                </a:lnTo>
                <a:lnTo>
                  <a:pt x="483" y="75"/>
                </a:lnTo>
                <a:lnTo>
                  <a:pt x="476" y="75"/>
                </a:lnTo>
                <a:lnTo>
                  <a:pt x="469" y="69"/>
                </a:lnTo>
                <a:lnTo>
                  <a:pt x="476" y="62"/>
                </a:lnTo>
                <a:lnTo>
                  <a:pt x="483" y="55"/>
                </a:lnTo>
                <a:lnTo>
                  <a:pt x="490" y="62"/>
                </a:lnTo>
                <a:lnTo>
                  <a:pt x="490" y="69"/>
                </a:lnTo>
                <a:lnTo>
                  <a:pt x="497" y="75"/>
                </a:lnTo>
                <a:lnTo>
                  <a:pt x="504" y="82"/>
                </a:lnTo>
                <a:lnTo>
                  <a:pt x="510" y="82"/>
                </a:lnTo>
                <a:lnTo>
                  <a:pt x="517" y="82"/>
                </a:lnTo>
                <a:lnTo>
                  <a:pt x="517" y="75"/>
                </a:lnTo>
                <a:lnTo>
                  <a:pt x="524" y="69"/>
                </a:lnTo>
                <a:lnTo>
                  <a:pt x="531" y="62"/>
                </a:lnTo>
                <a:lnTo>
                  <a:pt x="531" y="55"/>
                </a:lnTo>
                <a:lnTo>
                  <a:pt x="531" y="48"/>
                </a:lnTo>
                <a:lnTo>
                  <a:pt x="531" y="41"/>
                </a:lnTo>
                <a:lnTo>
                  <a:pt x="531" y="34"/>
                </a:lnTo>
                <a:lnTo>
                  <a:pt x="524" y="34"/>
                </a:lnTo>
                <a:lnTo>
                  <a:pt x="517" y="27"/>
                </a:lnTo>
                <a:lnTo>
                  <a:pt x="504" y="27"/>
                </a:lnTo>
                <a:lnTo>
                  <a:pt x="497" y="20"/>
                </a:lnTo>
                <a:lnTo>
                  <a:pt x="490" y="20"/>
                </a:lnTo>
                <a:lnTo>
                  <a:pt x="483" y="13"/>
                </a:lnTo>
                <a:lnTo>
                  <a:pt x="476" y="13"/>
                </a:lnTo>
                <a:lnTo>
                  <a:pt x="469" y="7"/>
                </a:lnTo>
                <a:lnTo>
                  <a:pt x="455" y="7"/>
                </a:lnTo>
                <a:lnTo>
                  <a:pt x="448" y="7"/>
                </a:lnTo>
                <a:lnTo>
                  <a:pt x="441" y="13"/>
                </a:lnTo>
                <a:lnTo>
                  <a:pt x="441" y="13"/>
                </a:lnTo>
                <a:lnTo>
                  <a:pt x="435" y="20"/>
                </a:lnTo>
                <a:lnTo>
                  <a:pt x="435" y="27"/>
                </a:lnTo>
                <a:lnTo>
                  <a:pt x="428" y="34"/>
                </a:lnTo>
                <a:lnTo>
                  <a:pt x="428" y="41"/>
                </a:lnTo>
                <a:lnTo>
                  <a:pt x="421" y="48"/>
                </a:lnTo>
                <a:lnTo>
                  <a:pt x="421" y="48"/>
                </a:lnTo>
                <a:lnTo>
                  <a:pt x="421" y="55"/>
                </a:lnTo>
                <a:lnTo>
                  <a:pt x="414" y="62"/>
                </a:lnTo>
                <a:lnTo>
                  <a:pt x="414" y="69"/>
                </a:lnTo>
                <a:lnTo>
                  <a:pt x="407" y="75"/>
                </a:lnTo>
                <a:lnTo>
                  <a:pt x="400" y="82"/>
                </a:lnTo>
                <a:lnTo>
                  <a:pt x="393" y="82"/>
                </a:lnTo>
                <a:lnTo>
                  <a:pt x="393" y="89"/>
                </a:lnTo>
                <a:lnTo>
                  <a:pt x="386" y="96"/>
                </a:lnTo>
                <a:lnTo>
                  <a:pt x="379" y="103"/>
                </a:lnTo>
                <a:lnTo>
                  <a:pt x="379" y="110"/>
                </a:lnTo>
                <a:lnTo>
                  <a:pt x="373" y="110"/>
                </a:lnTo>
                <a:lnTo>
                  <a:pt x="366" y="117"/>
                </a:lnTo>
                <a:lnTo>
                  <a:pt x="352" y="117"/>
                </a:lnTo>
                <a:lnTo>
                  <a:pt x="345" y="117"/>
                </a:lnTo>
                <a:lnTo>
                  <a:pt x="338" y="117"/>
                </a:lnTo>
                <a:lnTo>
                  <a:pt x="324" y="117"/>
                </a:lnTo>
                <a:lnTo>
                  <a:pt x="317" y="117"/>
                </a:lnTo>
                <a:lnTo>
                  <a:pt x="304" y="117"/>
                </a:lnTo>
                <a:lnTo>
                  <a:pt x="297" y="124"/>
                </a:lnTo>
                <a:lnTo>
                  <a:pt x="283" y="124"/>
                </a:lnTo>
                <a:lnTo>
                  <a:pt x="276" y="124"/>
                </a:lnTo>
                <a:lnTo>
                  <a:pt x="269" y="124"/>
                </a:lnTo>
                <a:lnTo>
                  <a:pt x="262" y="117"/>
                </a:lnTo>
                <a:lnTo>
                  <a:pt x="262" y="110"/>
                </a:lnTo>
                <a:lnTo>
                  <a:pt x="262" y="103"/>
                </a:lnTo>
                <a:lnTo>
                  <a:pt x="262" y="96"/>
                </a:lnTo>
                <a:lnTo>
                  <a:pt x="255" y="89"/>
                </a:lnTo>
                <a:lnTo>
                  <a:pt x="255" y="82"/>
                </a:lnTo>
                <a:lnTo>
                  <a:pt x="248" y="75"/>
                </a:lnTo>
                <a:lnTo>
                  <a:pt x="248" y="75"/>
                </a:lnTo>
                <a:lnTo>
                  <a:pt x="248" y="69"/>
                </a:lnTo>
                <a:lnTo>
                  <a:pt x="242" y="62"/>
                </a:lnTo>
                <a:lnTo>
                  <a:pt x="235" y="62"/>
                </a:lnTo>
                <a:lnTo>
                  <a:pt x="228" y="62"/>
                </a:lnTo>
                <a:lnTo>
                  <a:pt x="214" y="69"/>
                </a:lnTo>
                <a:lnTo>
                  <a:pt x="207" y="69"/>
                </a:lnTo>
                <a:lnTo>
                  <a:pt x="193" y="69"/>
                </a:lnTo>
                <a:lnTo>
                  <a:pt x="186" y="69"/>
                </a:lnTo>
                <a:lnTo>
                  <a:pt x="179" y="69"/>
                </a:lnTo>
                <a:lnTo>
                  <a:pt x="166" y="75"/>
                </a:lnTo>
                <a:lnTo>
                  <a:pt x="159" y="75"/>
                </a:lnTo>
                <a:lnTo>
                  <a:pt x="152" y="75"/>
                </a:lnTo>
                <a:lnTo>
                  <a:pt x="138" y="82"/>
                </a:lnTo>
                <a:lnTo>
                  <a:pt x="131" y="82"/>
                </a:lnTo>
                <a:lnTo>
                  <a:pt x="124" y="82"/>
                </a:lnTo>
                <a:lnTo>
                  <a:pt x="111" y="82"/>
                </a:lnTo>
                <a:lnTo>
                  <a:pt x="104" y="82"/>
                </a:lnTo>
                <a:lnTo>
                  <a:pt x="97" y="82"/>
                </a:lnTo>
                <a:lnTo>
                  <a:pt x="83" y="82"/>
                </a:lnTo>
                <a:lnTo>
                  <a:pt x="76" y="75"/>
                </a:lnTo>
                <a:lnTo>
                  <a:pt x="69" y="75"/>
                </a:lnTo>
                <a:lnTo>
                  <a:pt x="55" y="69"/>
                </a:lnTo>
                <a:lnTo>
                  <a:pt x="48" y="69"/>
                </a:lnTo>
                <a:lnTo>
                  <a:pt x="42" y="62"/>
                </a:lnTo>
                <a:lnTo>
                  <a:pt x="35" y="62"/>
                </a:lnTo>
                <a:lnTo>
                  <a:pt x="28" y="55"/>
                </a:lnTo>
                <a:lnTo>
                  <a:pt x="21" y="48"/>
                </a:lnTo>
                <a:lnTo>
                  <a:pt x="14" y="48"/>
                </a:lnTo>
                <a:lnTo>
                  <a:pt x="7" y="41"/>
                </a:lnTo>
                <a:lnTo>
                  <a:pt x="7" y="34"/>
                </a:lnTo>
                <a:lnTo>
                  <a:pt x="7" y="27"/>
                </a:lnTo>
                <a:lnTo>
                  <a:pt x="0" y="20"/>
                </a:lnTo>
                <a:lnTo>
                  <a:pt x="0" y="13"/>
                </a:lnTo>
                <a:lnTo>
                  <a:pt x="0" y="13"/>
                </a:lnTo>
                <a:lnTo>
                  <a:pt x="0" y="7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1" name=""/>
          <p:cNvSpPr/>
          <p:nvPr/>
        </p:nvSpPr>
        <p:spPr>
          <a:xfrm>
            <a:off x="3292560" y="4270320"/>
            <a:ext cx="1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2" name=""/>
          <p:cNvSpPr/>
          <p:nvPr/>
        </p:nvSpPr>
        <p:spPr>
          <a:xfrm>
            <a:off x="3249720" y="4094280"/>
            <a:ext cx="75960" cy="21960"/>
          </a:xfrm>
          <a:custGeom>
            <a:avLst/>
            <a:gdLst/>
            <a:ahLst/>
            <a:rect l="l" t="t" r="r" b="b"/>
            <a:pathLst>
              <a:path w="48" h="14">
                <a:moveTo>
                  <a:pt x="0" y="14"/>
                </a:moveTo>
                <a:lnTo>
                  <a:pt x="0" y="7"/>
                </a:lnTo>
                <a:lnTo>
                  <a:pt x="34" y="7"/>
                </a:lnTo>
                <a:lnTo>
                  <a:pt x="34" y="7"/>
                </a:lnTo>
                <a:lnTo>
                  <a:pt x="34" y="7"/>
                </a:lnTo>
                <a:lnTo>
                  <a:pt x="34" y="7"/>
                </a:lnTo>
                <a:lnTo>
                  <a:pt x="34" y="0"/>
                </a:lnTo>
                <a:lnTo>
                  <a:pt x="34" y="0"/>
                </a:lnTo>
                <a:lnTo>
                  <a:pt x="34" y="0"/>
                </a:lnTo>
                <a:lnTo>
                  <a:pt x="27" y="0"/>
                </a:lnTo>
                <a:lnTo>
                  <a:pt x="27" y="0"/>
                </a:lnTo>
                <a:lnTo>
                  <a:pt x="34" y="0"/>
                </a:lnTo>
                <a:lnTo>
                  <a:pt x="34" y="0"/>
                </a:lnTo>
                <a:lnTo>
                  <a:pt x="34" y="0"/>
                </a:lnTo>
                <a:lnTo>
                  <a:pt x="41" y="0"/>
                </a:lnTo>
                <a:lnTo>
                  <a:pt x="41" y="7"/>
                </a:lnTo>
                <a:lnTo>
                  <a:pt x="41" y="7"/>
                </a:lnTo>
                <a:lnTo>
                  <a:pt x="41" y="7"/>
                </a:lnTo>
                <a:lnTo>
                  <a:pt x="48" y="7"/>
                </a:lnTo>
                <a:lnTo>
                  <a:pt x="48" y="7"/>
                </a:lnTo>
                <a:lnTo>
                  <a:pt x="48" y="14"/>
                </a:lnTo>
                <a:lnTo>
                  <a:pt x="0" y="14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3" name=""/>
          <p:cNvSpPr/>
          <p:nvPr/>
        </p:nvSpPr>
        <p:spPr>
          <a:xfrm>
            <a:off x="3249720" y="4138560"/>
            <a:ext cx="75960" cy="44640"/>
          </a:xfrm>
          <a:custGeom>
            <a:avLst/>
            <a:gdLst/>
            <a:ahLst/>
            <a:rect l="l" t="t" r="r" b="b"/>
            <a:pathLst>
              <a:path w="48" h="28">
                <a:moveTo>
                  <a:pt x="34" y="28"/>
                </a:moveTo>
                <a:lnTo>
                  <a:pt x="34" y="21"/>
                </a:lnTo>
                <a:lnTo>
                  <a:pt x="34" y="21"/>
                </a:lnTo>
                <a:lnTo>
                  <a:pt x="41" y="21"/>
                </a:lnTo>
                <a:lnTo>
                  <a:pt x="41" y="21"/>
                </a:lnTo>
                <a:lnTo>
                  <a:pt x="41" y="21"/>
                </a:lnTo>
                <a:lnTo>
                  <a:pt x="41" y="21"/>
                </a:lnTo>
                <a:lnTo>
                  <a:pt x="41" y="21"/>
                </a:lnTo>
                <a:lnTo>
                  <a:pt x="41" y="14"/>
                </a:lnTo>
                <a:lnTo>
                  <a:pt x="41" y="14"/>
                </a:lnTo>
                <a:lnTo>
                  <a:pt x="41" y="14"/>
                </a:lnTo>
                <a:lnTo>
                  <a:pt x="41" y="14"/>
                </a:lnTo>
                <a:lnTo>
                  <a:pt x="41" y="14"/>
                </a:lnTo>
                <a:lnTo>
                  <a:pt x="41" y="14"/>
                </a:lnTo>
                <a:lnTo>
                  <a:pt x="41" y="7"/>
                </a:lnTo>
                <a:lnTo>
                  <a:pt x="41" y="7"/>
                </a:lnTo>
                <a:lnTo>
                  <a:pt x="34" y="7"/>
                </a:lnTo>
                <a:lnTo>
                  <a:pt x="34" y="7"/>
                </a:lnTo>
                <a:lnTo>
                  <a:pt x="34" y="7"/>
                </a:lnTo>
                <a:lnTo>
                  <a:pt x="34" y="7"/>
                </a:lnTo>
                <a:lnTo>
                  <a:pt x="27" y="7"/>
                </a:lnTo>
                <a:lnTo>
                  <a:pt x="27" y="7"/>
                </a:lnTo>
                <a:lnTo>
                  <a:pt x="27" y="7"/>
                </a:lnTo>
                <a:lnTo>
                  <a:pt x="27" y="7"/>
                </a:lnTo>
                <a:lnTo>
                  <a:pt x="27" y="7"/>
                </a:lnTo>
                <a:lnTo>
                  <a:pt x="27" y="7"/>
                </a:lnTo>
                <a:lnTo>
                  <a:pt x="27" y="14"/>
                </a:lnTo>
                <a:lnTo>
                  <a:pt x="34" y="14"/>
                </a:lnTo>
                <a:lnTo>
                  <a:pt x="34" y="14"/>
                </a:lnTo>
                <a:lnTo>
                  <a:pt x="34" y="14"/>
                </a:lnTo>
                <a:lnTo>
                  <a:pt x="34" y="21"/>
                </a:lnTo>
                <a:lnTo>
                  <a:pt x="27" y="21"/>
                </a:lnTo>
                <a:lnTo>
                  <a:pt x="27" y="21"/>
                </a:lnTo>
                <a:lnTo>
                  <a:pt x="27" y="28"/>
                </a:lnTo>
                <a:lnTo>
                  <a:pt x="27" y="28"/>
                </a:lnTo>
                <a:lnTo>
                  <a:pt x="20" y="28"/>
                </a:lnTo>
                <a:lnTo>
                  <a:pt x="20" y="28"/>
                </a:lnTo>
                <a:lnTo>
                  <a:pt x="20" y="28"/>
                </a:lnTo>
                <a:lnTo>
                  <a:pt x="13" y="28"/>
                </a:lnTo>
                <a:lnTo>
                  <a:pt x="13" y="28"/>
                </a:lnTo>
                <a:lnTo>
                  <a:pt x="13" y="28"/>
                </a:lnTo>
                <a:lnTo>
                  <a:pt x="7" y="28"/>
                </a:lnTo>
                <a:lnTo>
                  <a:pt x="7" y="28"/>
                </a:lnTo>
                <a:lnTo>
                  <a:pt x="7" y="28"/>
                </a:lnTo>
                <a:lnTo>
                  <a:pt x="7" y="28"/>
                </a:lnTo>
                <a:lnTo>
                  <a:pt x="7" y="21"/>
                </a:lnTo>
                <a:lnTo>
                  <a:pt x="0" y="21"/>
                </a:lnTo>
                <a:lnTo>
                  <a:pt x="0" y="21"/>
                </a:lnTo>
                <a:lnTo>
                  <a:pt x="0" y="21"/>
                </a:lnTo>
                <a:lnTo>
                  <a:pt x="0" y="14"/>
                </a:lnTo>
                <a:lnTo>
                  <a:pt x="0" y="14"/>
                </a:lnTo>
                <a:lnTo>
                  <a:pt x="0" y="7"/>
                </a:lnTo>
                <a:lnTo>
                  <a:pt x="7" y="7"/>
                </a:lnTo>
                <a:lnTo>
                  <a:pt x="7" y="7"/>
                </a:lnTo>
                <a:lnTo>
                  <a:pt x="7" y="0"/>
                </a:lnTo>
                <a:lnTo>
                  <a:pt x="13" y="0"/>
                </a:lnTo>
                <a:lnTo>
                  <a:pt x="20" y="0"/>
                </a:lnTo>
                <a:lnTo>
                  <a:pt x="20" y="0"/>
                </a:lnTo>
                <a:lnTo>
                  <a:pt x="27" y="0"/>
                </a:lnTo>
                <a:lnTo>
                  <a:pt x="34" y="0"/>
                </a:lnTo>
                <a:lnTo>
                  <a:pt x="41" y="0"/>
                </a:lnTo>
                <a:lnTo>
                  <a:pt x="41" y="7"/>
                </a:lnTo>
                <a:lnTo>
                  <a:pt x="41" y="7"/>
                </a:lnTo>
                <a:lnTo>
                  <a:pt x="48" y="7"/>
                </a:lnTo>
                <a:lnTo>
                  <a:pt x="48" y="14"/>
                </a:lnTo>
                <a:lnTo>
                  <a:pt x="48" y="14"/>
                </a:lnTo>
                <a:lnTo>
                  <a:pt x="48" y="21"/>
                </a:lnTo>
                <a:lnTo>
                  <a:pt x="48" y="21"/>
                </a:lnTo>
                <a:lnTo>
                  <a:pt x="48" y="21"/>
                </a:lnTo>
                <a:lnTo>
                  <a:pt x="41" y="28"/>
                </a:lnTo>
                <a:lnTo>
                  <a:pt x="41" y="28"/>
                </a:lnTo>
                <a:lnTo>
                  <a:pt x="41" y="28"/>
                </a:lnTo>
                <a:lnTo>
                  <a:pt x="41" y="28"/>
                </a:lnTo>
                <a:lnTo>
                  <a:pt x="34" y="28"/>
                </a:lnTo>
                <a:close/>
                <a:moveTo>
                  <a:pt x="13" y="7"/>
                </a:moveTo>
                <a:lnTo>
                  <a:pt x="13" y="7"/>
                </a:lnTo>
                <a:lnTo>
                  <a:pt x="13" y="7"/>
                </a:lnTo>
                <a:lnTo>
                  <a:pt x="13" y="7"/>
                </a:lnTo>
                <a:lnTo>
                  <a:pt x="13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14"/>
                </a:lnTo>
                <a:lnTo>
                  <a:pt x="7" y="14"/>
                </a:lnTo>
                <a:lnTo>
                  <a:pt x="7" y="14"/>
                </a:lnTo>
                <a:lnTo>
                  <a:pt x="7" y="14"/>
                </a:lnTo>
                <a:lnTo>
                  <a:pt x="7" y="14"/>
                </a:lnTo>
                <a:lnTo>
                  <a:pt x="7" y="14"/>
                </a:lnTo>
                <a:lnTo>
                  <a:pt x="7" y="21"/>
                </a:lnTo>
                <a:lnTo>
                  <a:pt x="7" y="21"/>
                </a:lnTo>
                <a:lnTo>
                  <a:pt x="7" y="21"/>
                </a:lnTo>
                <a:lnTo>
                  <a:pt x="13" y="21"/>
                </a:lnTo>
                <a:lnTo>
                  <a:pt x="13" y="21"/>
                </a:lnTo>
                <a:lnTo>
                  <a:pt x="13" y="21"/>
                </a:lnTo>
                <a:lnTo>
                  <a:pt x="13" y="21"/>
                </a:lnTo>
                <a:lnTo>
                  <a:pt x="20" y="21"/>
                </a:lnTo>
                <a:lnTo>
                  <a:pt x="20" y="21"/>
                </a:lnTo>
                <a:lnTo>
                  <a:pt x="20" y="21"/>
                </a:lnTo>
                <a:lnTo>
                  <a:pt x="20" y="21"/>
                </a:lnTo>
                <a:lnTo>
                  <a:pt x="27" y="21"/>
                </a:lnTo>
                <a:lnTo>
                  <a:pt x="27" y="21"/>
                </a:lnTo>
                <a:lnTo>
                  <a:pt x="27" y="14"/>
                </a:lnTo>
                <a:lnTo>
                  <a:pt x="27" y="14"/>
                </a:lnTo>
                <a:lnTo>
                  <a:pt x="27" y="14"/>
                </a:lnTo>
                <a:lnTo>
                  <a:pt x="27" y="14"/>
                </a:lnTo>
                <a:lnTo>
                  <a:pt x="27" y="7"/>
                </a:lnTo>
                <a:lnTo>
                  <a:pt x="20" y="7"/>
                </a:lnTo>
                <a:lnTo>
                  <a:pt x="20" y="7"/>
                </a:lnTo>
                <a:lnTo>
                  <a:pt x="20" y="7"/>
                </a:lnTo>
                <a:lnTo>
                  <a:pt x="20" y="7"/>
                </a:lnTo>
                <a:lnTo>
                  <a:pt x="13" y="7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4" name=""/>
          <p:cNvSpPr/>
          <p:nvPr/>
        </p:nvSpPr>
        <p:spPr>
          <a:xfrm>
            <a:off x="3249720" y="4192560"/>
            <a:ext cx="75960" cy="44640"/>
          </a:xfrm>
          <a:custGeom>
            <a:avLst/>
            <a:gdLst/>
            <a:ahLst/>
            <a:rect l="l" t="t" r="r" b="b"/>
            <a:pathLst>
              <a:path w="48" h="28">
                <a:moveTo>
                  <a:pt x="27" y="0"/>
                </a:moveTo>
                <a:lnTo>
                  <a:pt x="27" y="0"/>
                </a:lnTo>
                <a:lnTo>
                  <a:pt x="34" y="0"/>
                </a:lnTo>
                <a:lnTo>
                  <a:pt x="34" y="0"/>
                </a:lnTo>
                <a:lnTo>
                  <a:pt x="34" y="0"/>
                </a:lnTo>
                <a:lnTo>
                  <a:pt x="41" y="0"/>
                </a:lnTo>
                <a:lnTo>
                  <a:pt x="41" y="7"/>
                </a:lnTo>
                <a:lnTo>
                  <a:pt x="41" y="7"/>
                </a:lnTo>
                <a:lnTo>
                  <a:pt x="48" y="7"/>
                </a:lnTo>
                <a:lnTo>
                  <a:pt x="48" y="7"/>
                </a:lnTo>
                <a:lnTo>
                  <a:pt x="48" y="7"/>
                </a:lnTo>
                <a:lnTo>
                  <a:pt x="48" y="14"/>
                </a:lnTo>
                <a:lnTo>
                  <a:pt x="48" y="14"/>
                </a:lnTo>
                <a:lnTo>
                  <a:pt x="48" y="14"/>
                </a:lnTo>
                <a:lnTo>
                  <a:pt x="48" y="21"/>
                </a:lnTo>
                <a:lnTo>
                  <a:pt x="48" y="21"/>
                </a:lnTo>
                <a:lnTo>
                  <a:pt x="48" y="21"/>
                </a:lnTo>
                <a:lnTo>
                  <a:pt x="48" y="21"/>
                </a:lnTo>
                <a:lnTo>
                  <a:pt x="48" y="21"/>
                </a:lnTo>
                <a:lnTo>
                  <a:pt x="41" y="28"/>
                </a:lnTo>
                <a:lnTo>
                  <a:pt x="41" y="28"/>
                </a:lnTo>
                <a:lnTo>
                  <a:pt x="41" y="28"/>
                </a:lnTo>
                <a:lnTo>
                  <a:pt x="41" y="28"/>
                </a:lnTo>
                <a:lnTo>
                  <a:pt x="34" y="28"/>
                </a:lnTo>
                <a:lnTo>
                  <a:pt x="34" y="28"/>
                </a:lnTo>
                <a:lnTo>
                  <a:pt x="34" y="28"/>
                </a:lnTo>
                <a:lnTo>
                  <a:pt x="34" y="28"/>
                </a:lnTo>
                <a:lnTo>
                  <a:pt x="27" y="28"/>
                </a:lnTo>
                <a:lnTo>
                  <a:pt x="27" y="28"/>
                </a:lnTo>
                <a:lnTo>
                  <a:pt x="20" y="28"/>
                </a:lnTo>
                <a:lnTo>
                  <a:pt x="20" y="28"/>
                </a:lnTo>
                <a:lnTo>
                  <a:pt x="13" y="28"/>
                </a:lnTo>
                <a:lnTo>
                  <a:pt x="13" y="28"/>
                </a:lnTo>
                <a:lnTo>
                  <a:pt x="7" y="28"/>
                </a:lnTo>
                <a:lnTo>
                  <a:pt x="7" y="28"/>
                </a:lnTo>
                <a:lnTo>
                  <a:pt x="7" y="28"/>
                </a:lnTo>
                <a:lnTo>
                  <a:pt x="7" y="21"/>
                </a:lnTo>
                <a:lnTo>
                  <a:pt x="7" y="21"/>
                </a:lnTo>
                <a:lnTo>
                  <a:pt x="0" y="21"/>
                </a:lnTo>
                <a:lnTo>
                  <a:pt x="0" y="21"/>
                </a:lnTo>
                <a:lnTo>
                  <a:pt x="0" y="14"/>
                </a:lnTo>
                <a:lnTo>
                  <a:pt x="0" y="14"/>
                </a:lnTo>
                <a:lnTo>
                  <a:pt x="0" y="7"/>
                </a:lnTo>
                <a:lnTo>
                  <a:pt x="7" y="7"/>
                </a:lnTo>
                <a:lnTo>
                  <a:pt x="7" y="7"/>
                </a:lnTo>
                <a:lnTo>
                  <a:pt x="7" y="0"/>
                </a:lnTo>
                <a:lnTo>
                  <a:pt x="13" y="0"/>
                </a:lnTo>
                <a:lnTo>
                  <a:pt x="20" y="0"/>
                </a:lnTo>
                <a:lnTo>
                  <a:pt x="27" y="0"/>
                </a:lnTo>
                <a:close/>
                <a:moveTo>
                  <a:pt x="27" y="7"/>
                </a:moveTo>
                <a:lnTo>
                  <a:pt x="20" y="7"/>
                </a:lnTo>
                <a:lnTo>
                  <a:pt x="13" y="7"/>
                </a:lnTo>
                <a:lnTo>
                  <a:pt x="13" y="7"/>
                </a:lnTo>
                <a:lnTo>
                  <a:pt x="13" y="7"/>
                </a:lnTo>
                <a:lnTo>
                  <a:pt x="7" y="7"/>
                </a:lnTo>
                <a:lnTo>
                  <a:pt x="7" y="14"/>
                </a:lnTo>
                <a:lnTo>
                  <a:pt x="7" y="14"/>
                </a:lnTo>
                <a:lnTo>
                  <a:pt x="7" y="14"/>
                </a:lnTo>
                <a:lnTo>
                  <a:pt x="7" y="14"/>
                </a:lnTo>
                <a:lnTo>
                  <a:pt x="7" y="21"/>
                </a:lnTo>
                <a:lnTo>
                  <a:pt x="7" y="21"/>
                </a:lnTo>
                <a:lnTo>
                  <a:pt x="13" y="21"/>
                </a:lnTo>
                <a:lnTo>
                  <a:pt x="13" y="21"/>
                </a:lnTo>
                <a:lnTo>
                  <a:pt x="13" y="21"/>
                </a:lnTo>
                <a:lnTo>
                  <a:pt x="20" y="21"/>
                </a:lnTo>
                <a:lnTo>
                  <a:pt x="27" y="21"/>
                </a:lnTo>
                <a:lnTo>
                  <a:pt x="27" y="21"/>
                </a:lnTo>
                <a:lnTo>
                  <a:pt x="34" y="21"/>
                </a:lnTo>
                <a:lnTo>
                  <a:pt x="34" y="21"/>
                </a:lnTo>
                <a:lnTo>
                  <a:pt x="41" y="21"/>
                </a:lnTo>
                <a:lnTo>
                  <a:pt x="41" y="21"/>
                </a:lnTo>
                <a:lnTo>
                  <a:pt x="41" y="21"/>
                </a:lnTo>
                <a:lnTo>
                  <a:pt x="41" y="14"/>
                </a:lnTo>
                <a:lnTo>
                  <a:pt x="41" y="14"/>
                </a:lnTo>
                <a:lnTo>
                  <a:pt x="41" y="14"/>
                </a:lnTo>
                <a:lnTo>
                  <a:pt x="41" y="14"/>
                </a:lnTo>
                <a:lnTo>
                  <a:pt x="41" y="7"/>
                </a:lnTo>
                <a:lnTo>
                  <a:pt x="41" y="7"/>
                </a:lnTo>
                <a:lnTo>
                  <a:pt x="34" y="7"/>
                </a:lnTo>
                <a:lnTo>
                  <a:pt x="34" y="7"/>
                </a:lnTo>
                <a:lnTo>
                  <a:pt x="27" y="7"/>
                </a:lnTo>
                <a:lnTo>
                  <a:pt x="27" y="7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5" name=""/>
          <p:cNvSpPr/>
          <p:nvPr/>
        </p:nvSpPr>
        <p:spPr>
          <a:xfrm flipV="1">
            <a:off x="3281400" y="4051440"/>
            <a:ext cx="1440" cy="10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6" name=""/>
          <p:cNvSpPr/>
          <p:nvPr/>
        </p:nvSpPr>
        <p:spPr>
          <a:xfrm>
            <a:off x="2876400" y="3930480"/>
            <a:ext cx="405000" cy="776520"/>
          </a:xfrm>
          <a:custGeom>
            <a:avLst/>
            <a:gdLst/>
            <a:ahLst/>
            <a:rect l="l" t="t" r="r" b="b"/>
            <a:pathLst>
              <a:path w="255" h="489">
                <a:moveTo>
                  <a:pt x="255" y="76"/>
                </a:moveTo>
                <a:lnTo>
                  <a:pt x="255" y="69"/>
                </a:lnTo>
                <a:lnTo>
                  <a:pt x="255" y="62"/>
                </a:lnTo>
                <a:lnTo>
                  <a:pt x="255" y="55"/>
                </a:lnTo>
                <a:lnTo>
                  <a:pt x="248" y="48"/>
                </a:lnTo>
                <a:lnTo>
                  <a:pt x="248" y="41"/>
                </a:lnTo>
                <a:lnTo>
                  <a:pt x="248" y="35"/>
                </a:lnTo>
                <a:lnTo>
                  <a:pt x="248" y="35"/>
                </a:lnTo>
                <a:lnTo>
                  <a:pt x="248" y="28"/>
                </a:lnTo>
                <a:lnTo>
                  <a:pt x="248" y="21"/>
                </a:lnTo>
                <a:lnTo>
                  <a:pt x="248" y="14"/>
                </a:lnTo>
                <a:lnTo>
                  <a:pt x="242" y="7"/>
                </a:lnTo>
                <a:lnTo>
                  <a:pt x="242" y="0"/>
                </a:lnTo>
                <a:lnTo>
                  <a:pt x="235" y="0"/>
                </a:lnTo>
                <a:lnTo>
                  <a:pt x="228" y="7"/>
                </a:lnTo>
                <a:lnTo>
                  <a:pt x="221" y="14"/>
                </a:lnTo>
                <a:lnTo>
                  <a:pt x="221" y="21"/>
                </a:lnTo>
                <a:lnTo>
                  <a:pt x="221" y="28"/>
                </a:lnTo>
                <a:lnTo>
                  <a:pt x="221" y="35"/>
                </a:lnTo>
                <a:lnTo>
                  <a:pt x="221" y="41"/>
                </a:lnTo>
                <a:lnTo>
                  <a:pt x="214" y="48"/>
                </a:lnTo>
                <a:lnTo>
                  <a:pt x="214" y="55"/>
                </a:lnTo>
                <a:lnTo>
                  <a:pt x="207" y="55"/>
                </a:lnTo>
                <a:lnTo>
                  <a:pt x="207" y="62"/>
                </a:lnTo>
                <a:lnTo>
                  <a:pt x="200" y="69"/>
                </a:lnTo>
                <a:lnTo>
                  <a:pt x="193" y="76"/>
                </a:lnTo>
                <a:lnTo>
                  <a:pt x="193" y="83"/>
                </a:lnTo>
                <a:lnTo>
                  <a:pt x="193" y="83"/>
                </a:lnTo>
                <a:lnTo>
                  <a:pt x="193" y="90"/>
                </a:lnTo>
                <a:lnTo>
                  <a:pt x="193" y="97"/>
                </a:lnTo>
                <a:lnTo>
                  <a:pt x="193" y="103"/>
                </a:lnTo>
                <a:lnTo>
                  <a:pt x="193" y="110"/>
                </a:lnTo>
                <a:lnTo>
                  <a:pt x="186" y="117"/>
                </a:lnTo>
                <a:lnTo>
                  <a:pt x="186" y="124"/>
                </a:lnTo>
                <a:lnTo>
                  <a:pt x="186" y="131"/>
                </a:lnTo>
                <a:lnTo>
                  <a:pt x="186" y="138"/>
                </a:lnTo>
                <a:lnTo>
                  <a:pt x="186" y="145"/>
                </a:lnTo>
                <a:lnTo>
                  <a:pt x="186" y="152"/>
                </a:lnTo>
                <a:lnTo>
                  <a:pt x="179" y="159"/>
                </a:lnTo>
                <a:lnTo>
                  <a:pt x="179" y="159"/>
                </a:lnTo>
                <a:lnTo>
                  <a:pt x="179" y="165"/>
                </a:lnTo>
                <a:lnTo>
                  <a:pt x="179" y="172"/>
                </a:lnTo>
                <a:lnTo>
                  <a:pt x="179" y="179"/>
                </a:lnTo>
                <a:lnTo>
                  <a:pt x="179" y="186"/>
                </a:lnTo>
                <a:lnTo>
                  <a:pt x="179" y="193"/>
                </a:lnTo>
                <a:lnTo>
                  <a:pt x="173" y="200"/>
                </a:lnTo>
                <a:lnTo>
                  <a:pt x="173" y="207"/>
                </a:lnTo>
                <a:lnTo>
                  <a:pt x="173" y="214"/>
                </a:lnTo>
                <a:lnTo>
                  <a:pt x="173" y="221"/>
                </a:lnTo>
                <a:lnTo>
                  <a:pt x="173" y="221"/>
                </a:lnTo>
                <a:lnTo>
                  <a:pt x="173" y="227"/>
                </a:lnTo>
                <a:lnTo>
                  <a:pt x="173" y="234"/>
                </a:lnTo>
                <a:lnTo>
                  <a:pt x="166" y="241"/>
                </a:lnTo>
                <a:lnTo>
                  <a:pt x="166" y="248"/>
                </a:lnTo>
                <a:lnTo>
                  <a:pt x="166" y="255"/>
                </a:lnTo>
                <a:lnTo>
                  <a:pt x="166" y="262"/>
                </a:lnTo>
                <a:lnTo>
                  <a:pt x="166" y="269"/>
                </a:lnTo>
                <a:lnTo>
                  <a:pt x="166" y="276"/>
                </a:lnTo>
                <a:lnTo>
                  <a:pt x="166" y="283"/>
                </a:lnTo>
                <a:lnTo>
                  <a:pt x="159" y="283"/>
                </a:lnTo>
                <a:lnTo>
                  <a:pt x="152" y="289"/>
                </a:lnTo>
                <a:lnTo>
                  <a:pt x="145" y="296"/>
                </a:lnTo>
                <a:lnTo>
                  <a:pt x="138" y="303"/>
                </a:lnTo>
                <a:lnTo>
                  <a:pt x="131" y="303"/>
                </a:lnTo>
                <a:lnTo>
                  <a:pt x="131" y="310"/>
                </a:lnTo>
                <a:lnTo>
                  <a:pt x="138" y="317"/>
                </a:lnTo>
                <a:lnTo>
                  <a:pt x="138" y="324"/>
                </a:lnTo>
                <a:lnTo>
                  <a:pt x="145" y="331"/>
                </a:lnTo>
                <a:lnTo>
                  <a:pt x="152" y="331"/>
                </a:lnTo>
                <a:lnTo>
                  <a:pt x="159" y="338"/>
                </a:lnTo>
                <a:lnTo>
                  <a:pt x="166" y="345"/>
                </a:lnTo>
                <a:lnTo>
                  <a:pt x="166" y="351"/>
                </a:lnTo>
                <a:lnTo>
                  <a:pt x="173" y="358"/>
                </a:lnTo>
                <a:lnTo>
                  <a:pt x="179" y="358"/>
                </a:lnTo>
                <a:lnTo>
                  <a:pt x="179" y="365"/>
                </a:lnTo>
                <a:lnTo>
                  <a:pt x="179" y="372"/>
                </a:lnTo>
                <a:lnTo>
                  <a:pt x="173" y="379"/>
                </a:lnTo>
                <a:lnTo>
                  <a:pt x="166" y="379"/>
                </a:lnTo>
                <a:lnTo>
                  <a:pt x="159" y="386"/>
                </a:lnTo>
                <a:lnTo>
                  <a:pt x="145" y="393"/>
                </a:lnTo>
                <a:lnTo>
                  <a:pt x="138" y="393"/>
                </a:lnTo>
                <a:lnTo>
                  <a:pt x="131" y="400"/>
                </a:lnTo>
                <a:lnTo>
                  <a:pt x="124" y="400"/>
                </a:lnTo>
                <a:lnTo>
                  <a:pt x="117" y="407"/>
                </a:lnTo>
                <a:lnTo>
                  <a:pt x="111" y="413"/>
                </a:lnTo>
                <a:lnTo>
                  <a:pt x="104" y="413"/>
                </a:lnTo>
                <a:lnTo>
                  <a:pt x="97" y="420"/>
                </a:lnTo>
                <a:lnTo>
                  <a:pt x="90" y="420"/>
                </a:lnTo>
                <a:lnTo>
                  <a:pt x="83" y="427"/>
                </a:lnTo>
                <a:lnTo>
                  <a:pt x="76" y="434"/>
                </a:lnTo>
                <a:lnTo>
                  <a:pt x="69" y="434"/>
                </a:lnTo>
                <a:lnTo>
                  <a:pt x="69" y="441"/>
                </a:lnTo>
                <a:lnTo>
                  <a:pt x="62" y="448"/>
                </a:lnTo>
                <a:lnTo>
                  <a:pt x="55" y="455"/>
                </a:lnTo>
                <a:lnTo>
                  <a:pt x="48" y="455"/>
                </a:lnTo>
                <a:lnTo>
                  <a:pt x="42" y="462"/>
                </a:lnTo>
                <a:lnTo>
                  <a:pt x="35" y="462"/>
                </a:lnTo>
                <a:lnTo>
                  <a:pt x="28" y="469"/>
                </a:lnTo>
                <a:lnTo>
                  <a:pt x="21" y="475"/>
                </a:lnTo>
                <a:lnTo>
                  <a:pt x="14" y="475"/>
                </a:lnTo>
                <a:lnTo>
                  <a:pt x="7" y="482"/>
                </a:lnTo>
                <a:lnTo>
                  <a:pt x="0" y="489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7" name=""/>
          <p:cNvSpPr/>
          <p:nvPr/>
        </p:nvSpPr>
        <p:spPr>
          <a:xfrm flipH="1">
            <a:off x="2833200" y="4653000"/>
            <a:ext cx="11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8" name=""/>
          <p:cNvSpPr/>
          <p:nvPr/>
        </p:nvSpPr>
        <p:spPr>
          <a:xfrm flipH="1" flipV="1">
            <a:off x="2844720" y="4653000"/>
            <a:ext cx="3168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9" name=""/>
          <p:cNvSpPr/>
          <p:nvPr/>
        </p:nvSpPr>
        <p:spPr>
          <a:xfrm flipH="1" flipV="1">
            <a:off x="2788920" y="4586040"/>
            <a:ext cx="11160" cy="21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0" name=""/>
          <p:cNvSpPr/>
          <p:nvPr/>
        </p:nvSpPr>
        <p:spPr>
          <a:xfrm flipH="1" flipV="1">
            <a:off x="2744640" y="4532400"/>
            <a:ext cx="22320" cy="33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1" name=""/>
          <p:cNvSpPr/>
          <p:nvPr/>
        </p:nvSpPr>
        <p:spPr>
          <a:xfrm flipH="1" flipV="1">
            <a:off x="2690280" y="4478040"/>
            <a:ext cx="3348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2" name=""/>
          <p:cNvSpPr/>
          <p:nvPr/>
        </p:nvSpPr>
        <p:spPr>
          <a:xfrm>
            <a:off x="3610080" y="4510080"/>
            <a:ext cx="120600" cy="22320"/>
          </a:xfrm>
          <a:custGeom>
            <a:avLst/>
            <a:gdLst/>
            <a:ahLst/>
            <a:rect l="l" t="t" r="r" b="b"/>
            <a:pathLst>
              <a:path w="76" h="14">
                <a:moveTo>
                  <a:pt x="0" y="7"/>
                </a:moveTo>
                <a:lnTo>
                  <a:pt x="7" y="0"/>
                </a:lnTo>
                <a:lnTo>
                  <a:pt x="7" y="0"/>
                </a:lnTo>
                <a:lnTo>
                  <a:pt x="14" y="0"/>
                </a:lnTo>
                <a:lnTo>
                  <a:pt x="21" y="0"/>
                </a:lnTo>
                <a:lnTo>
                  <a:pt x="28" y="0"/>
                </a:lnTo>
                <a:lnTo>
                  <a:pt x="35" y="0"/>
                </a:lnTo>
                <a:lnTo>
                  <a:pt x="42" y="0"/>
                </a:lnTo>
                <a:lnTo>
                  <a:pt x="48" y="0"/>
                </a:lnTo>
                <a:lnTo>
                  <a:pt x="48" y="0"/>
                </a:lnTo>
                <a:lnTo>
                  <a:pt x="55" y="0"/>
                </a:lnTo>
                <a:lnTo>
                  <a:pt x="62" y="0"/>
                </a:lnTo>
                <a:lnTo>
                  <a:pt x="69" y="0"/>
                </a:lnTo>
                <a:lnTo>
                  <a:pt x="76" y="7"/>
                </a:lnTo>
                <a:lnTo>
                  <a:pt x="69" y="7"/>
                </a:lnTo>
                <a:lnTo>
                  <a:pt x="62" y="7"/>
                </a:lnTo>
                <a:lnTo>
                  <a:pt x="55" y="7"/>
                </a:lnTo>
                <a:lnTo>
                  <a:pt x="48" y="7"/>
                </a:lnTo>
                <a:lnTo>
                  <a:pt x="48" y="7"/>
                </a:lnTo>
                <a:lnTo>
                  <a:pt x="42" y="7"/>
                </a:lnTo>
                <a:lnTo>
                  <a:pt x="35" y="14"/>
                </a:lnTo>
                <a:lnTo>
                  <a:pt x="28" y="14"/>
                </a:lnTo>
                <a:lnTo>
                  <a:pt x="21" y="14"/>
                </a:lnTo>
                <a:lnTo>
                  <a:pt x="14" y="14"/>
                </a:lnTo>
                <a:lnTo>
                  <a:pt x="7" y="7"/>
                </a:lnTo>
                <a:lnTo>
                  <a:pt x="7" y="7"/>
                </a:lnTo>
                <a:lnTo>
                  <a:pt x="0" y="7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3" name=""/>
          <p:cNvSpPr/>
          <p:nvPr/>
        </p:nvSpPr>
        <p:spPr>
          <a:xfrm>
            <a:off x="2646360" y="4422600"/>
            <a:ext cx="44280" cy="44640"/>
          </a:xfrm>
          <a:custGeom>
            <a:avLst/>
            <a:gdLst/>
            <a:ahLst/>
            <a:rect l="l" t="t" r="r" b="b"/>
            <a:pathLst>
              <a:path w="28" h="28">
                <a:moveTo>
                  <a:pt x="28" y="28"/>
                </a:moveTo>
                <a:lnTo>
                  <a:pt x="21" y="28"/>
                </a:lnTo>
                <a:lnTo>
                  <a:pt x="21" y="21"/>
                </a:lnTo>
                <a:lnTo>
                  <a:pt x="14" y="21"/>
                </a:lnTo>
                <a:lnTo>
                  <a:pt x="14" y="14"/>
                </a:lnTo>
                <a:lnTo>
                  <a:pt x="7" y="7"/>
                </a:lnTo>
                <a:lnTo>
                  <a:pt x="7" y="7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4" name=""/>
          <p:cNvSpPr/>
          <p:nvPr/>
        </p:nvSpPr>
        <p:spPr>
          <a:xfrm flipH="1" flipV="1">
            <a:off x="2603160" y="4357440"/>
            <a:ext cx="11160" cy="21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5" name=""/>
          <p:cNvSpPr/>
          <p:nvPr/>
        </p:nvSpPr>
        <p:spPr>
          <a:xfrm flipH="1" flipV="1">
            <a:off x="2547720" y="4302000"/>
            <a:ext cx="21960" cy="22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6" name=""/>
          <p:cNvSpPr/>
          <p:nvPr/>
        </p:nvSpPr>
        <p:spPr>
          <a:xfrm flipH="1" flipV="1">
            <a:off x="2505240" y="4247640"/>
            <a:ext cx="3168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7" name=""/>
          <p:cNvSpPr/>
          <p:nvPr/>
        </p:nvSpPr>
        <p:spPr>
          <a:xfrm>
            <a:off x="3719520" y="4270320"/>
            <a:ext cx="11160" cy="31680"/>
          </a:xfrm>
          <a:custGeom>
            <a:avLst/>
            <a:gdLst/>
            <a:ahLst/>
            <a:rect l="l" t="t" r="r" b="b"/>
            <a:pathLst>
              <a:path w="7" h="20">
                <a:moveTo>
                  <a:pt x="7" y="7"/>
                </a:moveTo>
                <a:lnTo>
                  <a:pt x="7" y="0"/>
                </a:lnTo>
                <a:lnTo>
                  <a:pt x="0" y="0"/>
                </a:lnTo>
                <a:lnTo>
                  <a:pt x="0" y="7"/>
                </a:lnTo>
                <a:lnTo>
                  <a:pt x="0" y="7"/>
                </a:lnTo>
                <a:lnTo>
                  <a:pt x="0" y="13"/>
                </a:lnTo>
                <a:lnTo>
                  <a:pt x="0" y="20"/>
                </a:lnTo>
                <a:lnTo>
                  <a:pt x="0" y="20"/>
                </a:lnTo>
                <a:lnTo>
                  <a:pt x="0" y="20"/>
                </a:lnTo>
                <a:lnTo>
                  <a:pt x="7" y="20"/>
                </a:lnTo>
                <a:lnTo>
                  <a:pt x="7" y="20"/>
                </a:lnTo>
                <a:lnTo>
                  <a:pt x="7" y="20"/>
                </a:lnTo>
                <a:lnTo>
                  <a:pt x="7" y="20"/>
                </a:lnTo>
                <a:lnTo>
                  <a:pt x="7" y="13"/>
                </a:lnTo>
                <a:lnTo>
                  <a:pt x="7" y="7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8" name=""/>
          <p:cNvSpPr/>
          <p:nvPr/>
        </p:nvSpPr>
        <p:spPr>
          <a:xfrm>
            <a:off x="2362320" y="4073400"/>
            <a:ext cx="131760" cy="163800"/>
          </a:xfrm>
          <a:custGeom>
            <a:avLst/>
            <a:gdLst/>
            <a:ahLst/>
            <a:rect l="l" t="t" r="r" b="b"/>
            <a:pathLst>
              <a:path w="83" h="103">
                <a:moveTo>
                  <a:pt x="83" y="103"/>
                </a:moveTo>
                <a:lnTo>
                  <a:pt x="83" y="96"/>
                </a:lnTo>
                <a:lnTo>
                  <a:pt x="76" y="89"/>
                </a:lnTo>
                <a:lnTo>
                  <a:pt x="69" y="82"/>
                </a:lnTo>
                <a:lnTo>
                  <a:pt x="69" y="82"/>
                </a:lnTo>
                <a:lnTo>
                  <a:pt x="62" y="75"/>
                </a:lnTo>
                <a:lnTo>
                  <a:pt x="62" y="69"/>
                </a:lnTo>
                <a:lnTo>
                  <a:pt x="55" y="62"/>
                </a:lnTo>
                <a:lnTo>
                  <a:pt x="48" y="62"/>
                </a:lnTo>
                <a:lnTo>
                  <a:pt x="48" y="55"/>
                </a:lnTo>
                <a:lnTo>
                  <a:pt x="42" y="48"/>
                </a:lnTo>
                <a:lnTo>
                  <a:pt x="42" y="41"/>
                </a:lnTo>
                <a:lnTo>
                  <a:pt x="35" y="41"/>
                </a:lnTo>
                <a:lnTo>
                  <a:pt x="28" y="34"/>
                </a:lnTo>
                <a:lnTo>
                  <a:pt x="28" y="27"/>
                </a:lnTo>
                <a:lnTo>
                  <a:pt x="21" y="20"/>
                </a:lnTo>
                <a:lnTo>
                  <a:pt x="21" y="20"/>
                </a:lnTo>
                <a:lnTo>
                  <a:pt x="14" y="13"/>
                </a:lnTo>
                <a:lnTo>
                  <a:pt x="7" y="7"/>
                </a:lnTo>
                <a:lnTo>
                  <a:pt x="7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9" name=""/>
          <p:cNvSpPr/>
          <p:nvPr/>
        </p:nvSpPr>
        <p:spPr>
          <a:xfrm flipV="1">
            <a:off x="3795840" y="4225680"/>
            <a:ext cx="11160" cy="11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0" name=""/>
          <p:cNvSpPr/>
          <p:nvPr/>
        </p:nvSpPr>
        <p:spPr>
          <a:xfrm>
            <a:off x="3807000" y="4149720"/>
            <a:ext cx="98280" cy="76320"/>
          </a:xfrm>
          <a:custGeom>
            <a:avLst/>
            <a:gdLst/>
            <a:ahLst/>
            <a:rect l="l" t="t" r="r" b="b"/>
            <a:pathLst>
              <a:path w="62" h="48">
                <a:moveTo>
                  <a:pt x="0" y="48"/>
                </a:moveTo>
                <a:lnTo>
                  <a:pt x="7" y="41"/>
                </a:lnTo>
                <a:lnTo>
                  <a:pt x="14" y="41"/>
                </a:lnTo>
                <a:lnTo>
                  <a:pt x="21" y="41"/>
                </a:lnTo>
                <a:lnTo>
                  <a:pt x="35" y="48"/>
                </a:lnTo>
                <a:lnTo>
                  <a:pt x="42" y="48"/>
                </a:lnTo>
                <a:lnTo>
                  <a:pt x="49" y="48"/>
                </a:lnTo>
                <a:lnTo>
                  <a:pt x="55" y="41"/>
                </a:lnTo>
                <a:lnTo>
                  <a:pt x="62" y="34"/>
                </a:lnTo>
                <a:lnTo>
                  <a:pt x="62" y="27"/>
                </a:lnTo>
                <a:lnTo>
                  <a:pt x="62" y="21"/>
                </a:lnTo>
                <a:lnTo>
                  <a:pt x="55" y="14"/>
                </a:lnTo>
                <a:lnTo>
                  <a:pt x="55" y="7"/>
                </a:lnTo>
                <a:lnTo>
                  <a:pt x="49" y="0"/>
                </a:lnTo>
                <a:lnTo>
                  <a:pt x="42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1" name=""/>
          <p:cNvSpPr/>
          <p:nvPr/>
        </p:nvSpPr>
        <p:spPr>
          <a:xfrm>
            <a:off x="3873600" y="4149720"/>
            <a:ext cx="1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2" name=""/>
          <p:cNvSpPr/>
          <p:nvPr/>
        </p:nvSpPr>
        <p:spPr>
          <a:xfrm>
            <a:off x="3807000" y="3975120"/>
            <a:ext cx="66600" cy="31680"/>
          </a:xfrm>
          <a:custGeom>
            <a:avLst/>
            <a:gdLst/>
            <a:ahLst/>
            <a:rect l="l" t="t" r="r" b="b"/>
            <a:pathLst>
              <a:path w="42" h="20">
                <a:moveTo>
                  <a:pt x="0" y="20"/>
                </a:moveTo>
                <a:lnTo>
                  <a:pt x="0" y="13"/>
                </a:lnTo>
                <a:lnTo>
                  <a:pt x="35" y="7"/>
                </a:lnTo>
                <a:lnTo>
                  <a:pt x="35" y="7"/>
                </a:lnTo>
                <a:lnTo>
                  <a:pt x="28" y="7"/>
                </a:lnTo>
                <a:lnTo>
                  <a:pt x="28" y="7"/>
                </a:lnTo>
                <a:lnTo>
                  <a:pt x="28" y="0"/>
                </a:lnTo>
                <a:lnTo>
                  <a:pt x="28" y="0"/>
                </a:lnTo>
                <a:lnTo>
                  <a:pt x="28" y="0"/>
                </a:lnTo>
                <a:lnTo>
                  <a:pt x="28" y="0"/>
                </a:lnTo>
                <a:lnTo>
                  <a:pt x="21" y="0"/>
                </a:lnTo>
                <a:lnTo>
                  <a:pt x="28" y="0"/>
                </a:lnTo>
                <a:lnTo>
                  <a:pt x="28" y="0"/>
                </a:lnTo>
                <a:lnTo>
                  <a:pt x="35" y="0"/>
                </a:lnTo>
                <a:lnTo>
                  <a:pt x="35" y="0"/>
                </a:lnTo>
                <a:lnTo>
                  <a:pt x="35" y="0"/>
                </a:lnTo>
                <a:lnTo>
                  <a:pt x="35" y="7"/>
                </a:lnTo>
                <a:lnTo>
                  <a:pt x="42" y="7"/>
                </a:lnTo>
                <a:lnTo>
                  <a:pt x="42" y="7"/>
                </a:lnTo>
                <a:lnTo>
                  <a:pt x="42" y="7"/>
                </a:lnTo>
                <a:lnTo>
                  <a:pt x="42" y="7"/>
                </a:lnTo>
                <a:lnTo>
                  <a:pt x="0" y="2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3" name=""/>
          <p:cNvSpPr/>
          <p:nvPr/>
        </p:nvSpPr>
        <p:spPr>
          <a:xfrm>
            <a:off x="3817800" y="4017960"/>
            <a:ext cx="66960" cy="55440"/>
          </a:xfrm>
          <a:custGeom>
            <a:avLst/>
            <a:gdLst/>
            <a:ahLst/>
            <a:rect l="l" t="t" r="r" b="b"/>
            <a:pathLst>
              <a:path w="42" h="35">
                <a:moveTo>
                  <a:pt x="35" y="28"/>
                </a:moveTo>
                <a:lnTo>
                  <a:pt x="35" y="21"/>
                </a:lnTo>
                <a:lnTo>
                  <a:pt x="35" y="21"/>
                </a:lnTo>
                <a:lnTo>
                  <a:pt x="35" y="21"/>
                </a:lnTo>
                <a:lnTo>
                  <a:pt x="42" y="21"/>
                </a:lnTo>
                <a:lnTo>
                  <a:pt x="42" y="21"/>
                </a:lnTo>
                <a:lnTo>
                  <a:pt x="42" y="14"/>
                </a:lnTo>
                <a:lnTo>
                  <a:pt x="42" y="14"/>
                </a:lnTo>
                <a:lnTo>
                  <a:pt x="42" y="14"/>
                </a:lnTo>
                <a:lnTo>
                  <a:pt x="42" y="14"/>
                </a:lnTo>
                <a:lnTo>
                  <a:pt x="42" y="14"/>
                </a:lnTo>
                <a:lnTo>
                  <a:pt x="42" y="7"/>
                </a:lnTo>
                <a:lnTo>
                  <a:pt x="35" y="7"/>
                </a:lnTo>
                <a:lnTo>
                  <a:pt x="35" y="7"/>
                </a:lnTo>
                <a:lnTo>
                  <a:pt x="35" y="7"/>
                </a:lnTo>
                <a:lnTo>
                  <a:pt x="35" y="7"/>
                </a:lnTo>
                <a:lnTo>
                  <a:pt x="35" y="7"/>
                </a:lnTo>
                <a:lnTo>
                  <a:pt x="28" y="7"/>
                </a:lnTo>
                <a:lnTo>
                  <a:pt x="28" y="7"/>
                </a:lnTo>
                <a:lnTo>
                  <a:pt x="28" y="7"/>
                </a:lnTo>
                <a:lnTo>
                  <a:pt x="21" y="7"/>
                </a:lnTo>
                <a:lnTo>
                  <a:pt x="21" y="7"/>
                </a:lnTo>
                <a:lnTo>
                  <a:pt x="21" y="7"/>
                </a:lnTo>
                <a:lnTo>
                  <a:pt x="21" y="7"/>
                </a:lnTo>
                <a:lnTo>
                  <a:pt x="28" y="7"/>
                </a:lnTo>
                <a:lnTo>
                  <a:pt x="28" y="7"/>
                </a:lnTo>
                <a:lnTo>
                  <a:pt x="28" y="14"/>
                </a:lnTo>
                <a:lnTo>
                  <a:pt x="28" y="14"/>
                </a:lnTo>
                <a:lnTo>
                  <a:pt x="28" y="14"/>
                </a:lnTo>
                <a:lnTo>
                  <a:pt x="28" y="14"/>
                </a:lnTo>
                <a:lnTo>
                  <a:pt x="28" y="21"/>
                </a:lnTo>
                <a:lnTo>
                  <a:pt x="28" y="21"/>
                </a:lnTo>
                <a:lnTo>
                  <a:pt x="28" y="21"/>
                </a:lnTo>
                <a:lnTo>
                  <a:pt x="28" y="28"/>
                </a:lnTo>
                <a:lnTo>
                  <a:pt x="28" y="28"/>
                </a:lnTo>
                <a:lnTo>
                  <a:pt x="21" y="28"/>
                </a:lnTo>
                <a:lnTo>
                  <a:pt x="21" y="28"/>
                </a:lnTo>
                <a:lnTo>
                  <a:pt x="21" y="35"/>
                </a:lnTo>
                <a:lnTo>
                  <a:pt x="14" y="35"/>
                </a:lnTo>
                <a:lnTo>
                  <a:pt x="14" y="35"/>
                </a:lnTo>
                <a:lnTo>
                  <a:pt x="14" y="35"/>
                </a:lnTo>
                <a:lnTo>
                  <a:pt x="7" y="35"/>
                </a:lnTo>
                <a:lnTo>
                  <a:pt x="7" y="35"/>
                </a:lnTo>
                <a:lnTo>
                  <a:pt x="7" y="28"/>
                </a:lnTo>
                <a:lnTo>
                  <a:pt x="7" y="28"/>
                </a:lnTo>
                <a:lnTo>
                  <a:pt x="0" y="28"/>
                </a:lnTo>
                <a:lnTo>
                  <a:pt x="0" y="28"/>
                </a:lnTo>
                <a:lnTo>
                  <a:pt x="0" y="28"/>
                </a:lnTo>
                <a:lnTo>
                  <a:pt x="0" y="21"/>
                </a:lnTo>
                <a:lnTo>
                  <a:pt x="0" y="21"/>
                </a:lnTo>
                <a:lnTo>
                  <a:pt x="0" y="21"/>
                </a:lnTo>
                <a:lnTo>
                  <a:pt x="0" y="14"/>
                </a:lnTo>
                <a:lnTo>
                  <a:pt x="0" y="14"/>
                </a:lnTo>
                <a:lnTo>
                  <a:pt x="0" y="7"/>
                </a:lnTo>
                <a:lnTo>
                  <a:pt x="7" y="7"/>
                </a:lnTo>
                <a:lnTo>
                  <a:pt x="7" y="7"/>
                </a:lnTo>
                <a:lnTo>
                  <a:pt x="14" y="0"/>
                </a:lnTo>
                <a:lnTo>
                  <a:pt x="14" y="0"/>
                </a:lnTo>
                <a:lnTo>
                  <a:pt x="21" y="0"/>
                </a:lnTo>
                <a:lnTo>
                  <a:pt x="28" y="0"/>
                </a:lnTo>
                <a:lnTo>
                  <a:pt x="35" y="0"/>
                </a:lnTo>
                <a:lnTo>
                  <a:pt x="35" y="0"/>
                </a:lnTo>
                <a:lnTo>
                  <a:pt x="42" y="0"/>
                </a:lnTo>
                <a:lnTo>
                  <a:pt x="42" y="7"/>
                </a:lnTo>
                <a:lnTo>
                  <a:pt x="42" y="7"/>
                </a:lnTo>
                <a:lnTo>
                  <a:pt x="42" y="14"/>
                </a:lnTo>
                <a:lnTo>
                  <a:pt x="42" y="14"/>
                </a:lnTo>
                <a:lnTo>
                  <a:pt x="42" y="14"/>
                </a:lnTo>
                <a:lnTo>
                  <a:pt x="42" y="21"/>
                </a:lnTo>
                <a:lnTo>
                  <a:pt x="42" y="21"/>
                </a:lnTo>
                <a:lnTo>
                  <a:pt x="42" y="21"/>
                </a:lnTo>
                <a:lnTo>
                  <a:pt x="42" y="21"/>
                </a:lnTo>
                <a:lnTo>
                  <a:pt x="42" y="28"/>
                </a:lnTo>
                <a:lnTo>
                  <a:pt x="35" y="28"/>
                </a:lnTo>
                <a:close/>
                <a:moveTo>
                  <a:pt x="14" y="7"/>
                </a:moveTo>
                <a:lnTo>
                  <a:pt x="14" y="7"/>
                </a:lnTo>
                <a:lnTo>
                  <a:pt x="7" y="7"/>
                </a:lnTo>
                <a:lnTo>
                  <a:pt x="7" y="14"/>
                </a:lnTo>
                <a:lnTo>
                  <a:pt x="7" y="14"/>
                </a:lnTo>
                <a:lnTo>
                  <a:pt x="7" y="14"/>
                </a:lnTo>
                <a:lnTo>
                  <a:pt x="7" y="14"/>
                </a:lnTo>
                <a:lnTo>
                  <a:pt x="7" y="14"/>
                </a:lnTo>
                <a:lnTo>
                  <a:pt x="7" y="14"/>
                </a:lnTo>
                <a:lnTo>
                  <a:pt x="7" y="21"/>
                </a:lnTo>
                <a:lnTo>
                  <a:pt x="7" y="21"/>
                </a:lnTo>
                <a:lnTo>
                  <a:pt x="7" y="21"/>
                </a:lnTo>
                <a:lnTo>
                  <a:pt x="7" y="21"/>
                </a:lnTo>
                <a:lnTo>
                  <a:pt x="7" y="21"/>
                </a:lnTo>
                <a:lnTo>
                  <a:pt x="7" y="21"/>
                </a:lnTo>
                <a:lnTo>
                  <a:pt x="7" y="28"/>
                </a:lnTo>
                <a:lnTo>
                  <a:pt x="7" y="28"/>
                </a:lnTo>
                <a:lnTo>
                  <a:pt x="7" y="28"/>
                </a:lnTo>
                <a:lnTo>
                  <a:pt x="14" y="28"/>
                </a:lnTo>
                <a:lnTo>
                  <a:pt x="14" y="28"/>
                </a:lnTo>
                <a:lnTo>
                  <a:pt x="14" y="28"/>
                </a:lnTo>
                <a:lnTo>
                  <a:pt x="21" y="28"/>
                </a:lnTo>
                <a:lnTo>
                  <a:pt x="21" y="28"/>
                </a:lnTo>
                <a:lnTo>
                  <a:pt x="21" y="21"/>
                </a:lnTo>
                <a:lnTo>
                  <a:pt x="21" y="21"/>
                </a:lnTo>
                <a:lnTo>
                  <a:pt x="21" y="21"/>
                </a:lnTo>
                <a:lnTo>
                  <a:pt x="21" y="21"/>
                </a:lnTo>
                <a:lnTo>
                  <a:pt x="21" y="21"/>
                </a:lnTo>
                <a:lnTo>
                  <a:pt x="21" y="14"/>
                </a:lnTo>
                <a:lnTo>
                  <a:pt x="21" y="14"/>
                </a:lnTo>
                <a:lnTo>
                  <a:pt x="21" y="14"/>
                </a:lnTo>
                <a:lnTo>
                  <a:pt x="21" y="14"/>
                </a:lnTo>
                <a:lnTo>
                  <a:pt x="21" y="7"/>
                </a:lnTo>
                <a:lnTo>
                  <a:pt x="21" y="7"/>
                </a:lnTo>
                <a:lnTo>
                  <a:pt x="14" y="7"/>
                </a:lnTo>
                <a:lnTo>
                  <a:pt x="14" y="7"/>
                </a:lnTo>
                <a:lnTo>
                  <a:pt x="14" y="7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4" name=""/>
          <p:cNvSpPr/>
          <p:nvPr/>
        </p:nvSpPr>
        <p:spPr>
          <a:xfrm>
            <a:off x="3828960" y="4073400"/>
            <a:ext cx="76320" cy="42840"/>
          </a:xfrm>
          <a:custGeom>
            <a:avLst/>
            <a:gdLst/>
            <a:ahLst/>
            <a:rect l="l" t="t" r="r" b="b"/>
            <a:pathLst>
              <a:path w="48" h="27">
                <a:moveTo>
                  <a:pt x="21" y="0"/>
                </a:moveTo>
                <a:lnTo>
                  <a:pt x="21" y="0"/>
                </a:lnTo>
                <a:lnTo>
                  <a:pt x="28" y="0"/>
                </a:lnTo>
                <a:lnTo>
                  <a:pt x="28" y="0"/>
                </a:lnTo>
                <a:lnTo>
                  <a:pt x="35" y="0"/>
                </a:lnTo>
                <a:lnTo>
                  <a:pt x="35" y="0"/>
                </a:lnTo>
                <a:lnTo>
                  <a:pt x="35" y="0"/>
                </a:lnTo>
                <a:lnTo>
                  <a:pt x="41" y="0"/>
                </a:lnTo>
                <a:lnTo>
                  <a:pt x="41" y="0"/>
                </a:lnTo>
                <a:lnTo>
                  <a:pt x="41" y="7"/>
                </a:lnTo>
                <a:lnTo>
                  <a:pt x="41" y="7"/>
                </a:lnTo>
                <a:lnTo>
                  <a:pt x="41" y="7"/>
                </a:lnTo>
                <a:lnTo>
                  <a:pt x="48" y="7"/>
                </a:lnTo>
                <a:lnTo>
                  <a:pt x="48" y="13"/>
                </a:lnTo>
                <a:lnTo>
                  <a:pt x="48" y="13"/>
                </a:lnTo>
                <a:lnTo>
                  <a:pt x="48" y="13"/>
                </a:lnTo>
                <a:lnTo>
                  <a:pt x="48" y="13"/>
                </a:lnTo>
                <a:lnTo>
                  <a:pt x="48" y="20"/>
                </a:lnTo>
                <a:lnTo>
                  <a:pt x="41" y="20"/>
                </a:lnTo>
                <a:lnTo>
                  <a:pt x="41" y="20"/>
                </a:lnTo>
                <a:lnTo>
                  <a:pt x="41" y="20"/>
                </a:lnTo>
                <a:lnTo>
                  <a:pt x="41" y="20"/>
                </a:lnTo>
                <a:lnTo>
                  <a:pt x="41" y="20"/>
                </a:lnTo>
                <a:lnTo>
                  <a:pt x="41" y="27"/>
                </a:lnTo>
                <a:lnTo>
                  <a:pt x="35" y="27"/>
                </a:lnTo>
                <a:lnTo>
                  <a:pt x="35" y="27"/>
                </a:lnTo>
                <a:lnTo>
                  <a:pt x="35" y="27"/>
                </a:lnTo>
                <a:lnTo>
                  <a:pt x="28" y="27"/>
                </a:lnTo>
                <a:lnTo>
                  <a:pt x="28" y="27"/>
                </a:lnTo>
                <a:lnTo>
                  <a:pt x="21" y="27"/>
                </a:lnTo>
                <a:lnTo>
                  <a:pt x="21" y="27"/>
                </a:lnTo>
                <a:lnTo>
                  <a:pt x="14" y="27"/>
                </a:lnTo>
                <a:lnTo>
                  <a:pt x="14" y="27"/>
                </a:lnTo>
                <a:lnTo>
                  <a:pt x="14" y="27"/>
                </a:lnTo>
                <a:lnTo>
                  <a:pt x="7" y="27"/>
                </a:lnTo>
                <a:lnTo>
                  <a:pt x="7" y="27"/>
                </a:lnTo>
                <a:lnTo>
                  <a:pt x="7" y="27"/>
                </a:lnTo>
                <a:lnTo>
                  <a:pt x="7" y="27"/>
                </a:lnTo>
                <a:lnTo>
                  <a:pt x="0" y="27"/>
                </a:lnTo>
                <a:lnTo>
                  <a:pt x="0" y="20"/>
                </a:lnTo>
                <a:lnTo>
                  <a:pt x="0" y="20"/>
                </a:lnTo>
                <a:lnTo>
                  <a:pt x="0" y="20"/>
                </a:lnTo>
                <a:lnTo>
                  <a:pt x="0" y="13"/>
                </a:lnTo>
                <a:lnTo>
                  <a:pt x="0" y="13"/>
                </a:lnTo>
                <a:lnTo>
                  <a:pt x="0" y="7"/>
                </a:lnTo>
                <a:lnTo>
                  <a:pt x="7" y="7"/>
                </a:lnTo>
                <a:lnTo>
                  <a:pt x="7" y="7"/>
                </a:lnTo>
                <a:lnTo>
                  <a:pt x="14" y="0"/>
                </a:lnTo>
                <a:lnTo>
                  <a:pt x="21" y="0"/>
                </a:lnTo>
                <a:close/>
                <a:moveTo>
                  <a:pt x="21" y="7"/>
                </a:moveTo>
                <a:lnTo>
                  <a:pt x="14" y="7"/>
                </a:lnTo>
                <a:lnTo>
                  <a:pt x="14" y="7"/>
                </a:lnTo>
                <a:lnTo>
                  <a:pt x="7" y="13"/>
                </a:lnTo>
                <a:lnTo>
                  <a:pt x="7" y="13"/>
                </a:lnTo>
                <a:lnTo>
                  <a:pt x="7" y="13"/>
                </a:lnTo>
                <a:lnTo>
                  <a:pt x="7" y="13"/>
                </a:lnTo>
                <a:lnTo>
                  <a:pt x="7" y="20"/>
                </a:lnTo>
                <a:lnTo>
                  <a:pt x="7" y="20"/>
                </a:lnTo>
                <a:lnTo>
                  <a:pt x="7" y="20"/>
                </a:lnTo>
                <a:lnTo>
                  <a:pt x="7" y="20"/>
                </a:lnTo>
                <a:lnTo>
                  <a:pt x="7" y="20"/>
                </a:lnTo>
                <a:lnTo>
                  <a:pt x="7" y="27"/>
                </a:lnTo>
                <a:lnTo>
                  <a:pt x="14" y="27"/>
                </a:lnTo>
                <a:lnTo>
                  <a:pt x="14" y="27"/>
                </a:lnTo>
                <a:lnTo>
                  <a:pt x="21" y="27"/>
                </a:lnTo>
                <a:lnTo>
                  <a:pt x="28" y="20"/>
                </a:lnTo>
                <a:lnTo>
                  <a:pt x="28" y="20"/>
                </a:lnTo>
                <a:lnTo>
                  <a:pt x="35" y="20"/>
                </a:lnTo>
                <a:lnTo>
                  <a:pt x="35" y="20"/>
                </a:lnTo>
                <a:lnTo>
                  <a:pt x="41" y="20"/>
                </a:lnTo>
                <a:lnTo>
                  <a:pt x="41" y="13"/>
                </a:lnTo>
                <a:lnTo>
                  <a:pt x="41" y="13"/>
                </a:lnTo>
                <a:lnTo>
                  <a:pt x="41" y="13"/>
                </a:lnTo>
                <a:lnTo>
                  <a:pt x="41" y="13"/>
                </a:lnTo>
                <a:lnTo>
                  <a:pt x="41" y="7"/>
                </a:lnTo>
                <a:lnTo>
                  <a:pt x="41" y="7"/>
                </a:lnTo>
                <a:lnTo>
                  <a:pt x="35" y="7"/>
                </a:lnTo>
                <a:lnTo>
                  <a:pt x="35" y="7"/>
                </a:lnTo>
                <a:lnTo>
                  <a:pt x="35" y="7"/>
                </a:lnTo>
                <a:lnTo>
                  <a:pt x="28" y="7"/>
                </a:lnTo>
                <a:lnTo>
                  <a:pt x="28" y="7"/>
                </a:lnTo>
                <a:lnTo>
                  <a:pt x="21" y="7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5" name=""/>
          <p:cNvSpPr/>
          <p:nvPr/>
        </p:nvSpPr>
        <p:spPr>
          <a:xfrm flipV="1">
            <a:off x="3828960" y="3930120"/>
            <a:ext cx="1800" cy="11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6" name=""/>
          <p:cNvSpPr/>
          <p:nvPr/>
        </p:nvSpPr>
        <p:spPr>
          <a:xfrm>
            <a:off x="3621240" y="2727360"/>
            <a:ext cx="1280880" cy="1203120"/>
          </a:xfrm>
          <a:custGeom>
            <a:avLst/>
            <a:gdLst/>
            <a:ahLst/>
            <a:rect l="l" t="t" r="r" b="b"/>
            <a:pathLst>
              <a:path w="807" h="758">
                <a:moveTo>
                  <a:pt x="131" y="758"/>
                </a:moveTo>
                <a:lnTo>
                  <a:pt x="131" y="751"/>
                </a:lnTo>
                <a:lnTo>
                  <a:pt x="131" y="751"/>
                </a:lnTo>
                <a:lnTo>
                  <a:pt x="124" y="744"/>
                </a:lnTo>
                <a:lnTo>
                  <a:pt x="124" y="737"/>
                </a:lnTo>
                <a:lnTo>
                  <a:pt x="124" y="731"/>
                </a:lnTo>
                <a:lnTo>
                  <a:pt x="124" y="724"/>
                </a:lnTo>
                <a:lnTo>
                  <a:pt x="117" y="717"/>
                </a:lnTo>
                <a:lnTo>
                  <a:pt x="117" y="710"/>
                </a:lnTo>
                <a:lnTo>
                  <a:pt x="117" y="703"/>
                </a:lnTo>
                <a:lnTo>
                  <a:pt x="110" y="703"/>
                </a:lnTo>
                <a:lnTo>
                  <a:pt x="110" y="696"/>
                </a:lnTo>
                <a:lnTo>
                  <a:pt x="110" y="689"/>
                </a:lnTo>
                <a:lnTo>
                  <a:pt x="103" y="682"/>
                </a:lnTo>
                <a:lnTo>
                  <a:pt x="103" y="675"/>
                </a:lnTo>
                <a:lnTo>
                  <a:pt x="103" y="669"/>
                </a:lnTo>
                <a:lnTo>
                  <a:pt x="103" y="662"/>
                </a:lnTo>
                <a:lnTo>
                  <a:pt x="103" y="655"/>
                </a:lnTo>
                <a:lnTo>
                  <a:pt x="103" y="655"/>
                </a:lnTo>
                <a:lnTo>
                  <a:pt x="103" y="648"/>
                </a:lnTo>
                <a:lnTo>
                  <a:pt x="103" y="641"/>
                </a:lnTo>
                <a:lnTo>
                  <a:pt x="103" y="634"/>
                </a:lnTo>
                <a:lnTo>
                  <a:pt x="97" y="627"/>
                </a:lnTo>
                <a:lnTo>
                  <a:pt x="97" y="620"/>
                </a:lnTo>
                <a:lnTo>
                  <a:pt x="97" y="613"/>
                </a:lnTo>
                <a:lnTo>
                  <a:pt x="90" y="607"/>
                </a:lnTo>
                <a:lnTo>
                  <a:pt x="90" y="607"/>
                </a:lnTo>
                <a:lnTo>
                  <a:pt x="90" y="600"/>
                </a:lnTo>
                <a:lnTo>
                  <a:pt x="83" y="593"/>
                </a:lnTo>
                <a:lnTo>
                  <a:pt x="83" y="586"/>
                </a:lnTo>
                <a:lnTo>
                  <a:pt x="83" y="579"/>
                </a:lnTo>
                <a:lnTo>
                  <a:pt x="83" y="572"/>
                </a:lnTo>
                <a:lnTo>
                  <a:pt x="76" y="565"/>
                </a:lnTo>
                <a:lnTo>
                  <a:pt x="76" y="558"/>
                </a:lnTo>
                <a:lnTo>
                  <a:pt x="69" y="558"/>
                </a:lnTo>
                <a:lnTo>
                  <a:pt x="69" y="551"/>
                </a:lnTo>
                <a:lnTo>
                  <a:pt x="62" y="545"/>
                </a:lnTo>
                <a:lnTo>
                  <a:pt x="55" y="538"/>
                </a:lnTo>
                <a:lnTo>
                  <a:pt x="55" y="538"/>
                </a:lnTo>
                <a:lnTo>
                  <a:pt x="48" y="531"/>
                </a:lnTo>
                <a:lnTo>
                  <a:pt x="48" y="524"/>
                </a:lnTo>
                <a:lnTo>
                  <a:pt x="48" y="517"/>
                </a:lnTo>
                <a:lnTo>
                  <a:pt x="41" y="510"/>
                </a:lnTo>
                <a:lnTo>
                  <a:pt x="35" y="503"/>
                </a:lnTo>
                <a:lnTo>
                  <a:pt x="41" y="503"/>
                </a:lnTo>
                <a:lnTo>
                  <a:pt x="48" y="510"/>
                </a:lnTo>
                <a:lnTo>
                  <a:pt x="55" y="510"/>
                </a:lnTo>
                <a:lnTo>
                  <a:pt x="62" y="510"/>
                </a:lnTo>
                <a:lnTo>
                  <a:pt x="69" y="517"/>
                </a:lnTo>
                <a:lnTo>
                  <a:pt x="76" y="517"/>
                </a:lnTo>
                <a:lnTo>
                  <a:pt x="83" y="524"/>
                </a:lnTo>
                <a:lnTo>
                  <a:pt x="90" y="531"/>
                </a:lnTo>
                <a:lnTo>
                  <a:pt x="90" y="538"/>
                </a:lnTo>
                <a:lnTo>
                  <a:pt x="103" y="538"/>
                </a:lnTo>
                <a:lnTo>
                  <a:pt x="110" y="531"/>
                </a:lnTo>
                <a:lnTo>
                  <a:pt x="110" y="531"/>
                </a:lnTo>
                <a:lnTo>
                  <a:pt x="110" y="524"/>
                </a:lnTo>
                <a:lnTo>
                  <a:pt x="110" y="517"/>
                </a:lnTo>
                <a:lnTo>
                  <a:pt x="103" y="510"/>
                </a:lnTo>
                <a:lnTo>
                  <a:pt x="103" y="503"/>
                </a:lnTo>
                <a:lnTo>
                  <a:pt x="97" y="496"/>
                </a:lnTo>
                <a:lnTo>
                  <a:pt x="97" y="489"/>
                </a:lnTo>
                <a:lnTo>
                  <a:pt x="97" y="483"/>
                </a:lnTo>
                <a:lnTo>
                  <a:pt x="97" y="483"/>
                </a:lnTo>
                <a:lnTo>
                  <a:pt x="97" y="476"/>
                </a:lnTo>
                <a:lnTo>
                  <a:pt x="90" y="469"/>
                </a:lnTo>
                <a:lnTo>
                  <a:pt x="90" y="462"/>
                </a:lnTo>
                <a:lnTo>
                  <a:pt x="90" y="455"/>
                </a:lnTo>
                <a:lnTo>
                  <a:pt x="90" y="448"/>
                </a:lnTo>
                <a:lnTo>
                  <a:pt x="83" y="441"/>
                </a:lnTo>
                <a:lnTo>
                  <a:pt x="83" y="434"/>
                </a:lnTo>
                <a:lnTo>
                  <a:pt x="83" y="434"/>
                </a:lnTo>
                <a:lnTo>
                  <a:pt x="83" y="427"/>
                </a:lnTo>
                <a:lnTo>
                  <a:pt x="76" y="421"/>
                </a:lnTo>
                <a:lnTo>
                  <a:pt x="76" y="414"/>
                </a:lnTo>
                <a:lnTo>
                  <a:pt x="76" y="407"/>
                </a:lnTo>
                <a:lnTo>
                  <a:pt x="69" y="400"/>
                </a:lnTo>
                <a:lnTo>
                  <a:pt x="69" y="393"/>
                </a:lnTo>
                <a:lnTo>
                  <a:pt x="69" y="386"/>
                </a:lnTo>
                <a:lnTo>
                  <a:pt x="69" y="386"/>
                </a:lnTo>
                <a:lnTo>
                  <a:pt x="69" y="379"/>
                </a:lnTo>
                <a:lnTo>
                  <a:pt x="76" y="372"/>
                </a:lnTo>
                <a:lnTo>
                  <a:pt x="76" y="365"/>
                </a:lnTo>
                <a:lnTo>
                  <a:pt x="83" y="359"/>
                </a:lnTo>
                <a:lnTo>
                  <a:pt x="83" y="352"/>
                </a:lnTo>
                <a:lnTo>
                  <a:pt x="83" y="345"/>
                </a:lnTo>
                <a:lnTo>
                  <a:pt x="83" y="345"/>
                </a:lnTo>
                <a:lnTo>
                  <a:pt x="83" y="338"/>
                </a:lnTo>
                <a:lnTo>
                  <a:pt x="83" y="331"/>
                </a:lnTo>
                <a:lnTo>
                  <a:pt x="83" y="324"/>
                </a:lnTo>
                <a:lnTo>
                  <a:pt x="83" y="317"/>
                </a:lnTo>
                <a:lnTo>
                  <a:pt x="83" y="310"/>
                </a:lnTo>
                <a:lnTo>
                  <a:pt x="83" y="303"/>
                </a:lnTo>
                <a:lnTo>
                  <a:pt x="76" y="297"/>
                </a:lnTo>
                <a:lnTo>
                  <a:pt x="69" y="290"/>
                </a:lnTo>
                <a:lnTo>
                  <a:pt x="62" y="290"/>
                </a:lnTo>
                <a:lnTo>
                  <a:pt x="62" y="303"/>
                </a:lnTo>
                <a:lnTo>
                  <a:pt x="62" y="310"/>
                </a:lnTo>
                <a:lnTo>
                  <a:pt x="62" y="310"/>
                </a:lnTo>
                <a:lnTo>
                  <a:pt x="62" y="317"/>
                </a:lnTo>
                <a:lnTo>
                  <a:pt x="62" y="324"/>
                </a:lnTo>
                <a:lnTo>
                  <a:pt x="55" y="331"/>
                </a:lnTo>
                <a:lnTo>
                  <a:pt x="48" y="331"/>
                </a:lnTo>
                <a:lnTo>
                  <a:pt x="35" y="338"/>
                </a:lnTo>
                <a:lnTo>
                  <a:pt x="28" y="338"/>
                </a:lnTo>
                <a:lnTo>
                  <a:pt x="21" y="345"/>
                </a:lnTo>
                <a:lnTo>
                  <a:pt x="21" y="345"/>
                </a:lnTo>
                <a:lnTo>
                  <a:pt x="14" y="352"/>
                </a:lnTo>
                <a:lnTo>
                  <a:pt x="7" y="359"/>
                </a:lnTo>
                <a:lnTo>
                  <a:pt x="0" y="352"/>
                </a:lnTo>
                <a:lnTo>
                  <a:pt x="7" y="345"/>
                </a:lnTo>
                <a:lnTo>
                  <a:pt x="7" y="338"/>
                </a:lnTo>
                <a:lnTo>
                  <a:pt x="7" y="331"/>
                </a:lnTo>
                <a:lnTo>
                  <a:pt x="7" y="324"/>
                </a:lnTo>
                <a:lnTo>
                  <a:pt x="14" y="317"/>
                </a:lnTo>
                <a:lnTo>
                  <a:pt x="14" y="310"/>
                </a:lnTo>
                <a:lnTo>
                  <a:pt x="14" y="310"/>
                </a:lnTo>
                <a:lnTo>
                  <a:pt x="21" y="303"/>
                </a:lnTo>
                <a:lnTo>
                  <a:pt x="21" y="297"/>
                </a:lnTo>
                <a:lnTo>
                  <a:pt x="28" y="290"/>
                </a:lnTo>
                <a:lnTo>
                  <a:pt x="35" y="283"/>
                </a:lnTo>
                <a:lnTo>
                  <a:pt x="41" y="283"/>
                </a:lnTo>
                <a:lnTo>
                  <a:pt x="41" y="276"/>
                </a:lnTo>
                <a:lnTo>
                  <a:pt x="48" y="269"/>
                </a:lnTo>
                <a:lnTo>
                  <a:pt x="55" y="269"/>
                </a:lnTo>
                <a:lnTo>
                  <a:pt x="62" y="262"/>
                </a:lnTo>
                <a:lnTo>
                  <a:pt x="69" y="255"/>
                </a:lnTo>
                <a:lnTo>
                  <a:pt x="69" y="248"/>
                </a:lnTo>
                <a:lnTo>
                  <a:pt x="76" y="248"/>
                </a:lnTo>
                <a:lnTo>
                  <a:pt x="83" y="241"/>
                </a:lnTo>
                <a:lnTo>
                  <a:pt x="90" y="235"/>
                </a:lnTo>
                <a:lnTo>
                  <a:pt x="90" y="228"/>
                </a:lnTo>
                <a:lnTo>
                  <a:pt x="97" y="228"/>
                </a:lnTo>
                <a:lnTo>
                  <a:pt x="103" y="221"/>
                </a:lnTo>
                <a:lnTo>
                  <a:pt x="110" y="214"/>
                </a:lnTo>
                <a:lnTo>
                  <a:pt x="117" y="214"/>
                </a:lnTo>
                <a:lnTo>
                  <a:pt x="117" y="207"/>
                </a:lnTo>
                <a:lnTo>
                  <a:pt x="124" y="200"/>
                </a:lnTo>
                <a:lnTo>
                  <a:pt x="124" y="193"/>
                </a:lnTo>
                <a:lnTo>
                  <a:pt x="131" y="186"/>
                </a:lnTo>
                <a:lnTo>
                  <a:pt x="138" y="186"/>
                </a:lnTo>
                <a:lnTo>
                  <a:pt x="152" y="186"/>
                </a:lnTo>
                <a:lnTo>
                  <a:pt x="159" y="179"/>
                </a:lnTo>
                <a:lnTo>
                  <a:pt x="166" y="179"/>
                </a:lnTo>
                <a:lnTo>
                  <a:pt x="172" y="179"/>
                </a:lnTo>
                <a:lnTo>
                  <a:pt x="186" y="173"/>
                </a:lnTo>
                <a:lnTo>
                  <a:pt x="193" y="173"/>
                </a:lnTo>
                <a:lnTo>
                  <a:pt x="200" y="166"/>
                </a:lnTo>
                <a:lnTo>
                  <a:pt x="207" y="166"/>
                </a:lnTo>
                <a:lnTo>
                  <a:pt x="221" y="166"/>
                </a:lnTo>
                <a:lnTo>
                  <a:pt x="228" y="159"/>
                </a:lnTo>
                <a:lnTo>
                  <a:pt x="234" y="159"/>
                </a:lnTo>
                <a:lnTo>
                  <a:pt x="248" y="159"/>
                </a:lnTo>
                <a:lnTo>
                  <a:pt x="255" y="159"/>
                </a:lnTo>
                <a:lnTo>
                  <a:pt x="262" y="159"/>
                </a:lnTo>
                <a:lnTo>
                  <a:pt x="276" y="152"/>
                </a:lnTo>
                <a:lnTo>
                  <a:pt x="276" y="145"/>
                </a:lnTo>
                <a:lnTo>
                  <a:pt x="290" y="145"/>
                </a:lnTo>
                <a:lnTo>
                  <a:pt x="297" y="145"/>
                </a:lnTo>
                <a:lnTo>
                  <a:pt x="303" y="138"/>
                </a:lnTo>
                <a:lnTo>
                  <a:pt x="310" y="138"/>
                </a:lnTo>
                <a:lnTo>
                  <a:pt x="324" y="138"/>
                </a:lnTo>
                <a:lnTo>
                  <a:pt x="331" y="131"/>
                </a:lnTo>
                <a:lnTo>
                  <a:pt x="338" y="131"/>
                </a:lnTo>
                <a:lnTo>
                  <a:pt x="352" y="131"/>
                </a:lnTo>
                <a:lnTo>
                  <a:pt x="359" y="131"/>
                </a:lnTo>
                <a:lnTo>
                  <a:pt x="365" y="131"/>
                </a:lnTo>
                <a:lnTo>
                  <a:pt x="372" y="124"/>
                </a:lnTo>
                <a:lnTo>
                  <a:pt x="379" y="117"/>
                </a:lnTo>
                <a:lnTo>
                  <a:pt x="393" y="117"/>
                </a:lnTo>
                <a:lnTo>
                  <a:pt x="400" y="117"/>
                </a:lnTo>
                <a:lnTo>
                  <a:pt x="407" y="111"/>
                </a:lnTo>
                <a:lnTo>
                  <a:pt x="414" y="111"/>
                </a:lnTo>
                <a:lnTo>
                  <a:pt x="428" y="104"/>
                </a:lnTo>
                <a:lnTo>
                  <a:pt x="434" y="104"/>
                </a:lnTo>
                <a:lnTo>
                  <a:pt x="441" y="104"/>
                </a:lnTo>
                <a:lnTo>
                  <a:pt x="455" y="104"/>
                </a:lnTo>
                <a:lnTo>
                  <a:pt x="462" y="104"/>
                </a:lnTo>
                <a:lnTo>
                  <a:pt x="469" y="111"/>
                </a:lnTo>
                <a:lnTo>
                  <a:pt x="476" y="111"/>
                </a:lnTo>
                <a:lnTo>
                  <a:pt x="483" y="104"/>
                </a:lnTo>
                <a:lnTo>
                  <a:pt x="490" y="97"/>
                </a:lnTo>
                <a:lnTo>
                  <a:pt x="490" y="90"/>
                </a:lnTo>
                <a:lnTo>
                  <a:pt x="496" y="90"/>
                </a:lnTo>
                <a:lnTo>
                  <a:pt x="503" y="83"/>
                </a:lnTo>
                <a:lnTo>
                  <a:pt x="517" y="83"/>
                </a:lnTo>
                <a:lnTo>
                  <a:pt x="524" y="76"/>
                </a:lnTo>
                <a:lnTo>
                  <a:pt x="531" y="76"/>
                </a:lnTo>
                <a:lnTo>
                  <a:pt x="538" y="76"/>
                </a:lnTo>
                <a:lnTo>
                  <a:pt x="552" y="76"/>
                </a:lnTo>
                <a:lnTo>
                  <a:pt x="559" y="76"/>
                </a:lnTo>
                <a:lnTo>
                  <a:pt x="565" y="83"/>
                </a:lnTo>
                <a:lnTo>
                  <a:pt x="579" y="83"/>
                </a:lnTo>
                <a:lnTo>
                  <a:pt x="586" y="83"/>
                </a:lnTo>
                <a:lnTo>
                  <a:pt x="593" y="90"/>
                </a:lnTo>
                <a:lnTo>
                  <a:pt x="600" y="90"/>
                </a:lnTo>
                <a:lnTo>
                  <a:pt x="607" y="90"/>
                </a:lnTo>
                <a:lnTo>
                  <a:pt x="614" y="83"/>
                </a:lnTo>
                <a:lnTo>
                  <a:pt x="607" y="76"/>
                </a:lnTo>
                <a:lnTo>
                  <a:pt x="607" y="69"/>
                </a:lnTo>
                <a:lnTo>
                  <a:pt x="600" y="62"/>
                </a:lnTo>
                <a:lnTo>
                  <a:pt x="600" y="55"/>
                </a:lnTo>
                <a:lnTo>
                  <a:pt x="607" y="55"/>
                </a:lnTo>
                <a:lnTo>
                  <a:pt x="614" y="49"/>
                </a:lnTo>
                <a:lnTo>
                  <a:pt x="628" y="49"/>
                </a:lnTo>
                <a:lnTo>
                  <a:pt x="634" y="49"/>
                </a:lnTo>
                <a:lnTo>
                  <a:pt x="648" y="49"/>
                </a:lnTo>
                <a:lnTo>
                  <a:pt x="655" y="49"/>
                </a:lnTo>
                <a:lnTo>
                  <a:pt x="662" y="49"/>
                </a:lnTo>
                <a:lnTo>
                  <a:pt x="669" y="49"/>
                </a:lnTo>
                <a:lnTo>
                  <a:pt x="676" y="55"/>
                </a:lnTo>
                <a:lnTo>
                  <a:pt x="683" y="62"/>
                </a:lnTo>
                <a:lnTo>
                  <a:pt x="690" y="55"/>
                </a:lnTo>
                <a:lnTo>
                  <a:pt x="696" y="49"/>
                </a:lnTo>
                <a:lnTo>
                  <a:pt x="703" y="42"/>
                </a:lnTo>
                <a:lnTo>
                  <a:pt x="703" y="42"/>
                </a:lnTo>
                <a:lnTo>
                  <a:pt x="710" y="35"/>
                </a:lnTo>
                <a:lnTo>
                  <a:pt x="710" y="28"/>
                </a:lnTo>
                <a:lnTo>
                  <a:pt x="717" y="21"/>
                </a:lnTo>
                <a:lnTo>
                  <a:pt x="724" y="21"/>
                </a:lnTo>
                <a:lnTo>
                  <a:pt x="731" y="14"/>
                </a:lnTo>
                <a:lnTo>
                  <a:pt x="738" y="14"/>
                </a:lnTo>
                <a:lnTo>
                  <a:pt x="752" y="14"/>
                </a:lnTo>
                <a:lnTo>
                  <a:pt x="759" y="14"/>
                </a:lnTo>
                <a:lnTo>
                  <a:pt x="765" y="14"/>
                </a:lnTo>
                <a:lnTo>
                  <a:pt x="779" y="14"/>
                </a:lnTo>
                <a:lnTo>
                  <a:pt x="786" y="14"/>
                </a:lnTo>
                <a:lnTo>
                  <a:pt x="793" y="7"/>
                </a:lnTo>
                <a:lnTo>
                  <a:pt x="800" y="0"/>
                </a:lnTo>
                <a:lnTo>
                  <a:pt x="807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7" name=""/>
          <p:cNvSpPr/>
          <p:nvPr/>
        </p:nvSpPr>
        <p:spPr>
          <a:xfrm>
            <a:off x="2438280" y="3373560"/>
            <a:ext cx="98640" cy="98280"/>
          </a:xfrm>
          <a:custGeom>
            <a:avLst/>
            <a:gdLst/>
            <a:ahLst/>
            <a:rect l="l" t="t" r="r" b="b"/>
            <a:pathLst>
              <a:path w="62" h="62">
                <a:moveTo>
                  <a:pt x="42" y="0"/>
                </a:moveTo>
                <a:lnTo>
                  <a:pt x="56" y="0"/>
                </a:lnTo>
                <a:lnTo>
                  <a:pt x="62" y="7"/>
                </a:lnTo>
                <a:lnTo>
                  <a:pt x="62" y="7"/>
                </a:lnTo>
                <a:lnTo>
                  <a:pt x="62" y="14"/>
                </a:lnTo>
                <a:lnTo>
                  <a:pt x="62" y="20"/>
                </a:lnTo>
                <a:lnTo>
                  <a:pt x="56" y="20"/>
                </a:lnTo>
                <a:lnTo>
                  <a:pt x="49" y="27"/>
                </a:lnTo>
                <a:lnTo>
                  <a:pt x="42" y="34"/>
                </a:lnTo>
                <a:lnTo>
                  <a:pt x="35" y="41"/>
                </a:lnTo>
                <a:lnTo>
                  <a:pt x="28" y="48"/>
                </a:lnTo>
                <a:lnTo>
                  <a:pt x="28" y="48"/>
                </a:lnTo>
                <a:lnTo>
                  <a:pt x="21" y="55"/>
                </a:lnTo>
                <a:lnTo>
                  <a:pt x="14" y="62"/>
                </a:lnTo>
                <a:lnTo>
                  <a:pt x="7" y="55"/>
                </a:lnTo>
                <a:lnTo>
                  <a:pt x="7" y="55"/>
                </a:lnTo>
                <a:lnTo>
                  <a:pt x="0" y="48"/>
                </a:lnTo>
                <a:lnTo>
                  <a:pt x="0" y="41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8" name=""/>
          <p:cNvSpPr/>
          <p:nvPr/>
        </p:nvSpPr>
        <p:spPr>
          <a:xfrm>
            <a:off x="2165400" y="3798720"/>
            <a:ext cx="11160" cy="11160"/>
          </a:xfrm>
          <a:custGeom>
            <a:avLst/>
            <a:gdLst/>
            <a:ahLst/>
            <a:rect l="l" t="t" r="r" b="b"/>
            <a:pathLst>
              <a:path w="7" h="7">
                <a:moveTo>
                  <a:pt x="0" y="7"/>
                </a:moveTo>
                <a:lnTo>
                  <a:pt x="7" y="7"/>
                </a:lnTo>
                <a:lnTo>
                  <a:pt x="7" y="7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9" name=""/>
          <p:cNvSpPr/>
          <p:nvPr/>
        </p:nvSpPr>
        <p:spPr>
          <a:xfrm flipV="1">
            <a:off x="2308320" y="3986280"/>
            <a:ext cx="1116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0" name=""/>
          <p:cNvSpPr/>
          <p:nvPr/>
        </p:nvSpPr>
        <p:spPr>
          <a:xfrm>
            <a:off x="2319480" y="3941640"/>
            <a:ext cx="492120" cy="262080"/>
          </a:xfrm>
          <a:custGeom>
            <a:avLst/>
            <a:gdLst/>
            <a:ahLst/>
            <a:rect l="l" t="t" r="r" b="b"/>
            <a:pathLst>
              <a:path w="310" h="165">
                <a:moveTo>
                  <a:pt x="0" y="28"/>
                </a:moveTo>
                <a:lnTo>
                  <a:pt x="0" y="28"/>
                </a:lnTo>
                <a:lnTo>
                  <a:pt x="6" y="21"/>
                </a:lnTo>
                <a:lnTo>
                  <a:pt x="13" y="14"/>
                </a:lnTo>
                <a:lnTo>
                  <a:pt x="13" y="7"/>
                </a:lnTo>
                <a:lnTo>
                  <a:pt x="20" y="7"/>
                </a:lnTo>
                <a:lnTo>
                  <a:pt x="27" y="0"/>
                </a:lnTo>
                <a:lnTo>
                  <a:pt x="34" y="0"/>
                </a:lnTo>
                <a:lnTo>
                  <a:pt x="48" y="0"/>
                </a:lnTo>
                <a:lnTo>
                  <a:pt x="55" y="0"/>
                </a:lnTo>
                <a:lnTo>
                  <a:pt x="69" y="0"/>
                </a:lnTo>
                <a:lnTo>
                  <a:pt x="75" y="0"/>
                </a:lnTo>
                <a:lnTo>
                  <a:pt x="82" y="0"/>
                </a:lnTo>
                <a:lnTo>
                  <a:pt x="89" y="7"/>
                </a:lnTo>
                <a:lnTo>
                  <a:pt x="96" y="7"/>
                </a:lnTo>
                <a:lnTo>
                  <a:pt x="103" y="14"/>
                </a:lnTo>
                <a:lnTo>
                  <a:pt x="103" y="21"/>
                </a:lnTo>
                <a:lnTo>
                  <a:pt x="110" y="28"/>
                </a:lnTo>
                <a:lnTo>
                  <a:pt x="110" y="34"/>
                </a:lnTo>
                <a:lnTo>
                  <a:pt x="117" y="34"/>
                </a:lnTo>
                <a:lnTo>
                  <a:pt x="124" y="34"/>
                </a:lnTo>
                <a:lnTo>
                  <a:pt x="137" y="28"/>
                </a:lnTo>
                <a:lnTo>
                  <a:pt x="144" y="28"/>
                </a:lnTo>
                <a:lnTo>
                  <a:pt x="151" y="34"/>
                </a:lnTo>
                <a:lnTo>
                  <a:pt x="151" y="41"/>
                </a:lnTo>
                <a:lnTo>
                  <a:pt x="144" y="41"/>
                </a:lnTo>
                <a:lnTo>
                  <a:pt x="137" y="48"/>
                </a:lnTo>
                <a:lnTo>
                  <a:pt x="137" y="55"/>
                </a:lnTo>
                <a:lnTo>
                  <a:pt x="131" y="62"/>
                </a:lnTo>
                <a:lnTo>
                  <a:pt x="131" y="62"/>
                </a:lnTo>
                <a:lnTo>
                  <a:pt x="137" y="69"/>
                </a:lnTo>
                <a:lnTo>
                  <a:pt x="144" y="76"/>
                </a:lnTo>
                <a:lnTo>
                  <a:pt x="151" y="76"/>
                </a:lnTo>
                <a:lnTo>
                  <a:pt x="158" y="76"/>
                </a:lnTo>
                <a:lnTo>
                  <a:pt x="165" y="76"/>
                </a:lnTo>
                <a:lnTo>
                  <a:pt x="172" y="69"/>
                </a:lnTo>
                <a:lnTo>
                  <a:pt x="179" y="69"/>
                </a:lnTo>
                <a:lnTo>
                  <a:pt x="186" y="62"/>
                </a:lnTo>
                <a:lnTo>
                  <a:pt x="193" y="55"/>
                </a:lnTo>
                <a:lnTo>
                  <a:pt x="200" y="55"/>
                </a:lnTo>
                <a:lnTo>
                  <a:pt x="206" y="48"/>
                </a:lnTo>
                <a:lnTo>
                  <a:pt x="213" y="48"/>
                </a:lnTo>
                <a:lnTo>
                  <a:pt x="227" y="48"/>
                </a:lnTo>
                <a:lnTo>
                  <a:pt x="234" y="48"/>
                </a:lnTo>
                <a:lnTo>
                  <a:pt x="241" y="48"/>
                </a:lnTo>
                <a:lnTo>
                  <a:pt x="255" y="48"/>
                </a:lnTo>
                <a:lnTo>
                  <a:pt x="262" y="55"/>
                </a:lnTo>
                <a:lnTo>
                  <a:pt x="268" y="55"/>
                </a:lnTo>
                <a:lnTo>
                  <a:pt x="275" y="55"/>
                </a:lnTo>
                <a:lnTo>
                  <a:pt x="282" y="62"/>
                </a:lnTo>
                <a:lnTo>
                  <a:pt x="289" y="69"/>
                </a:lnTo>
                <a:lnTo>
                  <a:pt x="289" y="69"/>
                </a:lnTo>
                <a:lnTo>
                  <a:pt x="282" y="76"/>
                </a:lnTo>
                <a:lnTo>
                  <a:pt x="275" y="83"/>
                </a:lnTo>
                <a:lnTo>
                  <a:pt x="268" y="90"/>
                </a:lnTo>
                <a:lnTo>
                  <a:pt x="268" y="96"/>
                </a:lnTo>
                <a:lnTo>
                  <a:pt x="268" y="96"/>
                </a:lnTo>
                <a:lnTo>
                  <a:pt x="262" y="103"/>
                </a:lnTo>
                <a:lnTo>
                  <a:pt x="262" y="110"/>
                </a:lnTo>
                <a:lnTo>
                  <a:pt x="255" y="117"/>
                </a:lnTo>
                <a:lnTo>
                  <a:pt x="255" y="124"/>
                </a:lnTo>
                <a:lnTo>
                  <a:pt x="262" y="131"/>
                </a:lnTo>
                <a:lnTo>
                  <a:pt x="262" y="131"/>
                </a:lnTo>
                <a:lnTo>
                  <a:pt x="268" y="138"/>
                </a:lnTo>
                <a:lnTo>
                  <a:pt x="275" y="145"/>
                </a:lnTo>
                <a:lnTo>
                  <a:pt x="275" y="152"/>
                </a:lnTo>
                <a:lnTo>
                  <a:pt x="282" y="152"/>
                </a:lnTo>
                <a:lnTo>
                  <a:pt x="289" y="158"/>
                </a:lnTo>
                <a:lnTo>
                  <a:pt x="289" y="165"/>
                </a:lnTo>
                <a:lnTo>
                  <a:pt x="303" y="165"/>
                </a:lnTo>
                <a:lnTo>
                  <a:pt x="310" y="165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1" name=""/>
          <p:cNvSpPr/>
          <p:nvPr/>
        </p:nvSpPr>
        <p:spPr>
          <a:xfrm>
            <a:off x="2811600" y="4203720"/>
            <a:ext cx="1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2" name=""/>
          <p:cNvSpPr/>
          <p:nvPr/>
        </p:nvSpPr>
        <p:spPr>
          <a:xfrm>
            <a:off x="2833560" y="4149720"/>
            <a:ext cx="42840" cy="65160"/>
          </a:xfrm>
          <a:custGeom>
            <a:avLst/>
            <a:gdLst/>
            <a:ahLst/>
            <a:rect l="l" t="t" r="r" b="b"/>
            <a:pathLst>
              <a:path w="27" h="41">
                <a:moveTo>
                  <a:pt x="27" y="34"/>
                </a:moveTo>
                <a:lnTo>
                  <a:pt x="20" y="41"/>
                </a:lnTo>
                <a:lnTo>
                  <a:pt x="7" y="7"/>
                </a:lnTo>
                <a:lnTo>
                  <a:pt x="7" y="7"/>
                </a:lnTo>
                <a:lnTo>
                  <a:pt x="7" y="14"/>
                </a:lnTo>
                <a:lnTo>
                  <a:pt x="7" y="14"/>
                </a:lnTo>
                <a:lnTo>
                  <a:pt x="0" y="14"/>
                </a:lnTo>
                <a:lnTo>
                  <a:pt x="0" y="14"/>
                </a:lnTo>
                <a:lnTo>
                  <a:pt x="0" y="21"/>
                </a:lnTo>
                <a:lnTo>
                  <a:pt x="0" y="21"/>
                </a:lnTo>
                <a:lnTo>
                  <a:pt x="0" y="21"/>
                </a:lnTo>
                <a:lnTo>
                  <a:pt x="0" y="14"/>
                </a:lnTo>
                <a:lnTo>
                  <a:pt x="0" y="14"/>
                </a:lnTo>
                <a:lnTo>
                  <a:pt x="0" y="14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7" y="0"/>
                </a:lnTo>
                <a:lnTo>
                  <a:pt x="27" y="34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3" name=""/>
          <p:cNvSpPr/>
          <p:nvPr/>
        </p:nvSpPr>
        <p:spPr>
          <a:xfrm>
            <a:off x="2865600" y="4116240"/>
            <a:ext cx="66600" cy="66960"/>
          </a:xfrm>
          <a:custGeom>
            <a:avLst/>
            <a:gdLst/>
            <a:ahLst/>
            <a:rect l="l" t="t" r="r" b="b"/>
            <a:pathLst>
              <a:path w="42" h="42">
                <a:moveTo>
                  <a:pt x="28" y="7"/>
                </a:moveTo>
                <a:lnTo>
                  <a:pt x="21" y="7"/>
                </a:lnTo>
                <a:lnTo>
                  <a:pt x="21" y="7"/>
                </a:lnTo>
                <a:lnTo>
                  <a:pt x="21" y="7"/>
                </a:lnTo>
                <a:lnTo>
                  <a:pt x="21" y="7"/>
                </a:lnTo>
                <a:lnTo>
                  <a:pt x="21" y="7"/>
                </a:lnTo>
                <a:lnTo>
                  <a:pt x="14" y="7"/>
                </a:lnTo>
                <a:lnTo>
                  <a:pt x="14" y="7"/>
                </a:lnTo>
                <a:lnTo>
                  <a:pt x="14" y="7"/>
                </a:lnTo>
                <a:lnTo>
                  <a:pt x="14" y="7"/>
                </a:lnTo>
                <a:lnTo>
                  <a:pt x="14" y="7"/>
                </a:lnTo>
                <a:lnTo>
                  <a:pt x="14" y="7"/>
                </a:lnTo>
                <a:lnTo>
                  <a:pt x="7" y="7"/>
                </a:lnTo>
                <a:lnTo>
                  <a:pt x="7" y="7"/>
                </a:lnTo>
                <a:lnTo>
                  <a:pt x="7" y="14"/>
                </a:lnTo>
                <a:lnTo>
                  <a:pt x="7" y="14"/>
                </a:lnTo>
                <a:lnTo>
                  <a:pt x="7" y="14"/>
                </a:lnTo>
                <a:lnTo>
                  <a:pt x="7" y="14"/>
                </a:lnTo>
                <a:lnTo>
                  <a:pt x="7" y="21"/>
                </a:lnTo>
                <a:lnTo>
                  <a:pt x="7" y="21"/>
                </a:lnTo>
                <a:lnTo>
                  <a:pt x="14" y="21"/>
                </a:lnTo>
                <a:lnTo>
                  <a:pt x="14" y="28"/>
                </a:lnTo>
                <a:lnTo>
                  <a:pt x="14" y="28"/>
                </a:lnTo>
                <a:lnTo>
                  <a:pt x="14" y="21"/>
                </a:lnTo>
                <a:lnTo>
                  <a:pt x="14" y="21"/>
                </a:lnTo>
                <a:lnTo>
                  <a:pt x="14" y="21"/>
                </a:lnTo>
                <a:lnTo>
                  <a:pt x="14" y="21"/>
                </a:lnTo>
                <a:lnTo>
                  <a:pt x="14" y="21"/>
                </a:lnTo>
                <a:lnTo>
                  <a:pt x="21" y="14"/>
                </a:lnTo>
                <a:lnTo>
                  <a:pt x="21" y="14"/>
                </a:lnTo>
                <a:lnTo>
                  <a:pt x="21" y="14"/>
                </a:lnTo>
                <a:lnTo>
                  <a:pt x="21" y="14"/>
                </a:lnTo>
                <a:lnTo>
                  <a:pt x="28" y="14"/>
                </a:lnTo>
                <a:lnTo>
                  <a:pt x="28" y="14"/>
                </a:lnTo>
                <a:lnTo>
                  <a:pt x="35" y="14"/>
                </a:lnTo>
                <a:lnTo>
                  <a:pt x="35" y="14"/>
                </a:lnTo>
                <a:lnTo>
                  <a:pt x="35" y="21"/>
                </a:lnTo>
                <a:lnTo>
                  <a:pt x="35" y="21"/>
                </a:lnTo>
                <a:lnTo>
                  <a:pt x="42" y="21"/>
                </a:lnTo>
                <a:lnTo>
                  <a:pt x="42" y="28"/>
                </a:lnTo>
                <a:lnTo>
                  <a:pt x="42" y="28"/>
                </a:lnTo>
                <a:lnTo>
                  <a:pt x="42" y="28"/>
                </a:lnTo>
                <a:lnTo>
                  <a:pt x="42" y="28"/>
                </a:lnTo>
                <a:lnTo>
                  <a:pt x="42" y="35"/>
                </a:lnTo>
                <a:lnTo>
                  <a:pt x="42" y="35"/>
                </a:lnTo>
                <a:lnTo>
                  <a:pt x="42" y="35"/>
                </a:lnTo>
                <a:lnTo>
                  <a:pt x="35" y="35"/>
                </a:lnTo>
                <a:lnTo>
                  <a:pt x="35" y="42"/>
                </a:lnTo>
                <a:lnTo>
                  <a:pt x="35" y="42"/>
                </a:lnTo>
                <a:lnTo>
                  <a:pt x="35" y="42"/>
                </a:lnTo>
                <a:lnTo>
                  <a:pt x="28" y="42"/>
                </a:lnTo>
                <a:lnTo>
                  <a:pt x="28" y="42"/>
                </a:lnTo>
                <a:lnTo>
                  <a:pt x="28" y="42"/>
                </a:lnTo>
                <a:lnTo>
                  <a:pt x="21" y="42"/>
                </a:lnTo>
                <a:lnTo>
                  <a:pt x="21" y="42"/>
                </a:lnTo>
                <a:lnTo>
                  <a:pt x="14" y="42"/>
                </a:lnTo>
                <a:lnTo>
                  <a:pt x="14" y="35"/>
                </a:lnTo>
                <a:lnTo>
                  <a:pt x="7" y="28"/>
                </a:lnTo>
                <a:lnTo>
                  <a:pt x="7" y="28"/>
                </a:lnTo>
                <a:lnTo>
                  <a:pt x="7" y="21"/>
                </a:lnTo>
                <a:lnTo>
                  <a:pt x="0" y="14"/>
                </a:lnTo>
                <a:lnTo>
                  <a:pt x="0" y="14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0"/>
                </a:lnTo>
                <a:lnTo>
                  <a:pt x="14" y="0"/>
                </a:lnTo>
                <a:lnTo>
                  <a:pt x="14" y="0"/>
                </a:lnTo>
                <a:lnTo>
                  <a:pt x="14" y="0"/>
                </a:lnTo>
                <a:lnTo>
                  <a:pt x="21" y="0"/>
                </a:lnTo>
                <a:lnTo>
                  <a:pt x="21" y="0"/>
                </a:lnTo>
                <a:lnTo>
                  <a:pt x="21" y="0"/>
                </a:lnTo>
                <a:lnTo>
                  <a:pt x="28" y="0"/>
                </a:lnTo>
                <a:lnTo>
                  <a:pt x="28" y="7"/>
                </a:lnTo>
                <a:close/>
                <a:moveTo>
                  <a:pt x="21" y="35"/>
                </a:moveTo>
                <a:lnTo>
                  <a:pt x="21" y="35"/>
                </a:lnTo>
                <a:lnTo>
                  <a:pt x="21" y="35"/>
                </a:lnTo>
                <a:lnTo>
                  <a:pt x="21" y="35"/>
                </a:lnTo>
                <a:lnTo>
                  <a:pt x="21" y="35"/>
                </a:lnTo>
                <a:lnTo>
                  <a:pt x="21" y="42"/>
                </a:lnTo>
                <a:lnTo>
                  <a:pt x="21" y="42"/>
                </a:lnTo>
                <a:lnTo>
                  <a:pt x="28" y="42"/>
                </a:lnTo>
                <a:lnTo>
                  <a:pt x="28" y="42"/>
                </a:lnTo>
                <a:lnTo>
                  <a:pt x="28" y="42"/>
                </a:lnTo>
                <a:lnTo>
                  <a:pt x="28" y="42"/>
                </a:lnTo>
                <a:lnTo>
                  <a:pt x="28" y="42"/>
                </a:lnTo>
                <a:lnTo>
                  <a:pt x="35" y="35"/>
                </a:lnTo>
                <a:lnTo>
                  <a:pt x="35" y="35"/>
                </a:lnTo>
                <a:lnTo>
                  <a:pt x="35" y="35"/>
                </a:lnTo>
                <a:lnTo>
                  <a:pt x="35" y="35"/>
                </a:lnTo>
                <a:lnTo>
                  <a:pt x="35" y="35"/>
                </a:lnTo>
                <a:lnTo>
                  <a:pt x="35" y="28"/>
                </a:lnTo>
                <a:lnTo>
                  <a:pt x="35" y="28"/>
                </a:lnTo>
                <a:lnTo>
                  <a:pt x="35" y="28"/>
                </a:lnTo>
                <a:lnTo>
                  <a:pt x="35" y="28"/>
                </a:lnTo>
                <a:lnTo>
                  <a:pt x="35" y="21"/>
                </a:lnTo>
                <a:lnTo>
                  <a:pt x="28" y="21"/>
                </a:lnTo>
                <a:lnTo>
                  <a:pt x="28" y="21"/>
                </a:lnTo>
                <a:lnTo>
                  <a:pt x="28" y="21"/>
                </a:lnTo>
                <a:lnTo>
                  <a:pt x="28" y="21"/>
                </a:lnTo>
                <a:lnTo>
                  <a:pt x="21" y="21"/>
                </a:lnTo>
                <a:lnTo>
                  <a:pt x="21" y="21"/>
                </a:lnTo>
                <a:lnTo>
                  <a:pt x="21" y="21"/>
                </a:lnTo>
                <a:lnTo>
                  <a:pt x="21" y="21"/>
                </a:lnTo>
                <a:lnTo>
                  <a:pt x="21" y="21"/>
                </a:lnTo>
                <a:lnTo>
                  <a:pt x="14" y="28"/>
                </a:lnTo>
                <a:lnTo>
                  <a:pt x="14" y="28"/>
                </a:lnTo>
                <a:lnTo>
                  <a:pt x="14" y="28"/>
                </a:lnTo>
                <a:lnTo>
                  <a:pt x="14" y="28"/>
                </a:lnTo>
                <a:lnTo>
                  <a:pt x="14" y="35"/>
                </a:lnTo>
                <a:lnTo>
                  <a:pt x="21" y="35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4" name=""/>
          <p:cNvSpPr/>
          <p:nvPr/>
        </p:nvSpPr>
        <p:spPr>
          <a:xfrm>
            <a:off x="2921040" y="4084560"/>
            <a:ext cx="54000" cy="76320"/>
          </a:xfrm>
          <a:custGeom>
            <a:avLst/>
            <a:gdLst/>
            <a:ahLst/>
            <a:rect l="l" t="t" r="r" b="b"/>
            <a:pathLst>
              <a:path w="34" h="48">
                <a:moveTo>
                  <a:pt x="7" y="34"/>
                </a:moveTo>
                <a:lnTo>
                  <a:pt x="0" y="27"/>
                </a:lnTo>
                <a:lnTo>
                  <a:pt x="0" y="27"/>
                </a:lnTo>
                <a:lnTo>
                  <a:pt x="0" y="20"/>
                </a:lnTo>
                <a:lnTo>
                  <a:pt x="0" y="20"/>
                </a:lnTo>
                <a:lnTo>
                  <a:pt x="0" y="20"/>
                </a:lnTo>
                <a:lnTo>
                  <a:pt x="0" y="13"/>
                </a:lnTo>
                <a:lnTo>
                  <a:pt x="0" y="13"/>
                </a:lnTo>
                <a:lnTo>
                  <a:pt x="0" y="13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7" y="6"/>
                </a:lnTo>
                <a:lnTo>
                  <a:pt x="7" y="6"/>
                </a:lnTo>
                <a:lnTo>
                  <a:pt x="7" y="6"/>
                </a:lnTo>
                <a:lnTo>
                  <a:pt x="7" y="6"/>
                </a:lnTo>
                <a:lnTo>
                  <a:pt x="14" y="0"/>
                </a:lnTo>
                <a:lnTo>
                  <a:pt x="14" y="0"/>
                </a:lnTo>
                <a:lnTo>
                  <a:pt x="14" y="6"/>
                </a:lnTo>
                <a:lnTo>
                  <a:pt x="14" y="6"/>
                </a:lnTo>
                <a:lnTo>
                  <a:pt x="14" y="6"/>
                </a:lnTo>
                <a:lnTo>
                  <a:pt x="20" y="6"/>
                </a:lnTo>
                <a:lnTo>
                  <a:pt x="20" y="6"/>
                </a:lnTo>
                <a:lnTo>
                  <a:pt x="20" y="6"/>
                </a:lnTo>
                <a:lnTo>
                  <a:pt x="20" y="6"/>
                </a:lnTo>
                <a:lnTo>
                  <a:pt x="20" y="13"/>
                </a:lnTo>
                <a:lnTo>
                  <a:pt x="27" y="13"/>
                </a:lnTo>
                <a:lnTo>
                  <a:pt x="27" y="13"/>
                </a:lnTo>
                <a:lnTo>
                  <a:pt x="27" y="20"/>
                </a:lnTo>
                <a:lnTo>
                  <a:pt x="27" y="20"/>
                </a:lnTo>
                <a:lnTo>
                  <a:pt x="34" y="20"/>
                </a:lnTo>
                <a:lnTo>
                  <a:pt x="34" y="27"/>
                </a:lnTo>
                <a:lnTo>
                  <a:pt x="34" y="27"/>
                </a:lnTo>
                <a:lnTo>
                  <a:pt x="34" y="34"/>
                </a:lnTo>
                <a:lnTo>
                  <a:pt x="34" y="34"/>
                </a:lnTo>
                <a:lnTo>
                  <a:pt x="34" y="34"/>
                </a:lnTo>
                <a:lnTo>
                  <a:pt x="34" y="41"/>
                </a:lnTo>
                <a:lnTo>
                  <a:pt x="34" y="41"/>
                </a:lnTo>
                <a:lnTo>
                  <a:pt x="34" y="41"/>
                </a:lnTo>
                <a:lnTo>
                  <a:pt x="27" y="41"/>
                </a:lnTo>
                <a:lnTo>
                  <a:pt x="27" y="41"/>
                </a:lnTo>
                <a:lnTo>
                  <a:pt x="27" y="48"/>
                </a:lnTo>
                <a:lnTo>
                  <a:pt x="20" y="48"/>
                </a:lnTo>
                <a:lnTo>
                  <a:pt x="20" y="48"/>
                </a:lnTo>
                <a:lnTo>
                  <a:pt x="14" y="48"/>
                </a:lnTo>
                <a:lnTo>
                  <a:pt x="14" y="41"/>
                </a:lnTo>
                <a:lnTo>
                  <a:pt x="14" y="41"/>
                </a:lnTo>
                <a:lnTo>
                  <a:pt x="7" y="34"/>
                </a:lnTo>
                <a:lnTo>
                  <a:pt x="7" y="34"/>
                </a:lnTo>
                <a:close/>
                <a:moveTo>
                  <a:pt x="7" y="27"/>
                </a:moveTo>
                <a:lnTo>
                  <a:pt x="14" y="34"/>
                </a:lnTo>
                <a:lnTo>
                  <a:pt x="14" y="34"/>
                </a:lnTo>
                <a:lnTo>
                  <a:pt x="14" y="41"/>
                </a:lnTo>
                <a:lnTo>
                  <a:pt x="20" y="41"/>
                </a:lnTo>
                <a:lnTo>
                  <a:pt x="20" y="41"/>
                </a:lnTo>
                <a:lnTo>
                  <a:pt x="20" y="41"/>
                </a:lnTo>
                <a:lnTo>
                  <a:pt x="27" y="41"/>
                </a:lnTo>
                <a:lnTo>
                  <a:pt x="27" y="41"/>
                </a:lnTo>
                <a:lnTo>
                  <a:pt x="27" y="41"/>
                </a:lnTo>
                <a:lnTo>
                  <a:pt x="27" y="41"/>
                </a:lnTo>
                <a:lnTo>
                  <a:pt x="27" y="34"/>
                </a:lnTo>
                <a:lnTo>
                  <a:pt x="27" y="34"/>
                </a:lnTo>
                <a:lnTo>
                  <a:pt x="27" y="34"/>
                </a:lnTo>
                <a:lnTo>
                  <a:pt x="27" y="27"/>
                </a:lnTo>
                <a:lnTo>
                  <a:pt x="27" y="27"/>
                </a:lnTo>
                <a:lnTo>
                  <a:pt x="20" y="20"/>
                </a:lnTo>
                <a:lnTo>
                  <a:pt x="20" y="13"/>
                </a:lnTo>
                <a:lnTo>
                  <a:pt x="20" y="13"/>
                </a:lnTo>
                <a:lnTo>
                  <a:pt x="14" y="13"/>
                </a:lnTo>
                <a:lnTo>
                  <a:pt x="14" y="6"/>
                </a:lnTo>
                <a:lnTo>
                  <a:pt x="14" y="6"/>
                </a:lnTo>
                <a:lnTo>
                  <a:pt x="7" y="6"/>
                </a:lnTo>
                <a:lnTo>
                  <a:pt x="7" y="6"/>
                </a:lnTo>
                <a:lnTo>
                  <a:pt x="7" y="6"/>
                </a:lnTo>
                <a:lnTo>
                  <a:pt x="7" y="13"/>
                </a:lnTo>
                <a:lnTo>
                  <a:pt x="7" y="13"/>
                </a:lnTo>
                <a:lnTo>
                  <a:pt x="7" y="13"/>
                </a:lnTo>
                <a:lnTo>
                  <a:pt x="0" y="13"/>
                </a:lnTo>
                <a:lnTo>
                  <a:pt x="0" y="20"/>
                </a:lnTo>
                <a:lnTo>
                  <a:pt x="7" y="20"/>
                </a:lnTo>
                <a:lnTo>
                  <a:pt x="7" y="27"/>
                </a:lnTo>
                <a:lnTo>
                  <a:pt x="7" y="27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5" name=""/>
          <p:cNvSpPr/>
          <p:nvPr/>
        </p:nvSpPr>
        <p:spPr>
          <a:xfrm>
            <a:off x="2986200" y="4094280"/>
            <a:ext cx="11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6" name=""/>
          <p:cNvSpPr/>
          <p:nvPr/>
        </p:nvSpPr>
        <p:spPr>
          <a:xfrm>
            <a:off x="2997360" y="3821040"/>
            <a:ext cx="798480" cy="426960"/>
          </a:xfrm>
          <a:custGeom>
            <a:avLst/>
            <a:gdLst/>
            <a:ahLst/>
            <a:rect l="l" t="t" r="r" b="b"/>
            <a:pathLst>
              <a:path w="503" h="269">
                <a:moveTo>
                  <a:pt x="0" y="172"/>
                </a:moveTo>
                <a:lnTo>
                  <a:pt x="7" y="166"/>
                </a:lnTo>
                <a:lnTo>
                  <a:pt x="14" y="166"/>
                </a:lnTo>
                <a:lnTo>
                  <a:pt x="21" y="166"/>
                </a:lnTo>
                <a:lnTo>
                  <a:pt x="35" y="159"/>
                </a:lnTo>
                <a:lnTo>
                  <a:pt x="41" y="159"/>
                </a:lnTo>
                <a:lnTo>
                  <a:pt x="48" y="159"/>
                </a:lnTo>
                <a:lnTo>
                  <a:pt x="55" y="152"/>
                </a:lnTo>
                <a:lnTo>
                  <a:pt x="62" y="152"/>
                </a:lnTo>
                <a:lnTo>
                  <a:pt x="69" y="145"/>
                </a:lnTo>
                <a:lnTo>
                  <a:pt x="76" y="145"/>
                </a:lnTo>
                <a:lnTo>
                  <a:pt x="83" y="138"/>
                </a:lnTo>
                <a:lnTo>
                  <a:pt x="97" y="138"/>
                </a:lnTo>
                <a:lnTo>
                  <a:pt x="103" y="131"/>
                </a:lnTo>
                <a:lnTo>
                  <a:pt x="110" y="131"/>
                </a:lnTo>
                <a:lnTo>
                  <a:pt x="110" y="124"/>
                </a:lnTo>
                <a:lnTo>
                  <a:pt x="117" y="117"/>
                </a:lnTo>
                <a:lnTo>
                  <a:pt x="124" y="117"/>
                </a:lnTo>
                <a:lnTo>
                  <a:pt x="124" y="110"/>
                </a:lnTo>
                <a:lnTo>
                  <a:pt x="124" y="104"/>
                </a:lnTo>
                <a:lnTo>
                  <a:pt x="117" y="97"/>
                </a:lnTo>
                <a:lnTo>
                  <a:pt x="117" y="90"/>
                </a:lnTo>
                <a:lnTo>
                  <a:pt x="117" y="83"/>
                </a:lnTo>
                <a:lnTo>
                  <a:pt x="117" y="83"/>
                </a:lnTo>
                <a:lnTo>
                  <a:pt x="117" y="76"/>
                </a:lnTo>
                <a:lnTo>
                  <a:pt x="124" y="69"/>
                </a:lnTo>
                <a:lnTo>
                  <a:pt x="124" y="62"/>
                </a:lnTo>
                <a:lnTo>
                  <a:pt x="124" y="55"/>
                </a:lnTo>
                <a:lnTo>
                  <a:pt x="131" y="48"/>
                </a:lnTo>
                <a:lnTo>
                  <a:pt x="131" y="48"/>
                </a:lnTo>
                <a:lnTo>
                  <a:pt x="131" y="42"/>
                </a:lnTo>
                <a:lnTo>
                  <a:pt x="131" y="35"/>
                </a:lnTo>
                <a:lnTo>
                  <a:pt x="131" y="28"/>
                </a:lnTo>
                <a:lnTo>
                  <a:pt x="131" y="21"/>
                </a:lnTo>
                <a:lnTo>
                  <a:pt x="131" y="14"/>
                </a:lnTo>
                <a:lnTo>
                  <a:pt x="131" y="14"/>
                </a:lnTo>
                <a:lnTo>
                  <a:pt x="138" y="7"/>
                </a:lnTo>
                <a:lnTo>
                  <a:pt x="152" y="0"/>
                </a:lnTo>
                <a:lnTo>
                  <a:pt x="159" y="0"/>
                </a:lnTo>
                <a:lnTo>
                  <a:pt x="166" y="0"/>
                </a:lnTo>
                <a:lnTo>
                  <a:pt x="172" y="7"/>
                </a:lnTo>
                <a:lnTo>
                  <a:pt x="172" y="14"/>
                </a:lnTo>
                <a:lnTo>
                  <a:pt x="179" y="14"/>
                </a:lnTo>
                <a:lnTo>
                  <a:pt x="179" y="21"/>
                </a:lnTo>
                <a:lnTo>
                  <a:pt x="186" y="28"/>
                </a:lnTo>
                <a:lnTo>
                  <a:pt x="186" y="35"/>
                </a:lnTo>
                <a:lnTo>
                  <a:pt x="193" y="42"/>
                </a:lnTo>
                <a:lnTo>
                  <a:pt x="200" y="42"/>
                </a:lnTo>
                <a:lnTo>
                  <a:pt x="207" y="48"/>
                </a:lnTo>
                <a:lnTo>
                  <a:pt x="207" y="55"/>
                </a:lnTo>
                <a:lnTo>
                  <a:pt x="207" y="62"/>
                </a:lnTo>
                <a:lnTo>
                  <a:pt x="207" y="62"/>
                </a:lnTo>
                <a:lnTo>
                  <a:pt x="214" y="69"/>
                </a:lnTo>
                <a:lnTo>
                  <a:pt x="214" y="76"/>
                </a:lnTo>
                <a:lnTo>
                  <a:pt x="214" y="83"/>
                </a:lnTo>
                <a:lnTo>
                  <a:pt x="214" y="90"/>
                </a:lnTo>
                <a:lnTo>
                  <a:pt x="221" y="97"/>
                </a:lnTo>
                <a:lnTo>
                  <a:pt x="228" y="97"/>
                </a:lnTo>
                <a:lnTo>
                  <a:pt x="241" y="97"/>
                </a:lnTo>
                <a:lnTo>
                  <a:pt x="248" y="97"/>
                </a:lnTo>
                <a:lnTo>
                  <a:pt x="255" y="97"/>
                </a:lnTo>
                <a:lnTo>
                  <a:pt x="262" y="104"/>
                </a:lnTo>
                <a:lnTo>
                  <a:pt x="262" y="110"/>
                </a:lnTo>
                <a:lnTo>
                  <a:pt x="269" y="117"/>
                </a:lnTo>
                <a:lnTo>
                  <a:pt x="276" y="117"/>
                </a:lnTo>
                <a:lnTo>
                  <a:pt x="283" y="124"/>
                </a:lnTo>
                <a:lnTo>
                  <a:pt x="290" y="124"/>
                </a:lnTo>
                <a:lnTo>
                  <a:pt x="297" y="131"/>
                </a:lnTo>
                <a:lnTo>
                  <a:pt x="303" y="138"/>
                </a:lnTo>
                <a:lnTo>
                  <a:pt x="303" y="138"/>
                </a:lnTo>
                <a:lnTo>
                  <a:pt x="310" y="145"/>
                </a:lnTo>
                <a:lnTo>
                  <a:pt x="317" y="152"/>
                </a:lnTo>
                <a:lnTo>
                  <a:pt x="324" y="152"/>
                </a:lnTo>
                <a:lnTo>
                  <a:pt x="331" y="159"/>
                </a:lnTo>
                <a:lnTo>
                  <a:pt x="338" y="159"/>
                </a:lnTo>
                <a:lnTo>
                  <a:pt x="345" y="166"/>
                </a:lnTo>
                <a:lnTo>
                  <a:pt x="352" y="172"/>
                </a:lnTo>
                <a:lnTo>
                  <a:pt x="352" y="172"/>
                </a:lnTo>
                <a:lnTo>
                  <a:pt x="359" y="179"/>
                </a:lnTo>
                <a:lnTo>
                  <a:pt x="365" y="186"/>
                </a:lnTo>
                <a:lnTo>
                  <a:pt x="372" y="186"/>
                </a:lnTo>
                <a:lnTo>
                  <a:pt x="379" y="193"/>
                </a:lnTo>
                <a:lnTo>
                  <a:pt x="386" y="200"/>
                </a:lnTo>
                <a:lnTo>
                  <a:pt x="393" y="200"/>
                </a:lnTo>
                <a:lnTo>
                  <a:pt x="393" y="207"/>
                </a:lnTo>
                <a:lnTo>
                  <a:pt x="400" y="207"/>
                </a:lnTo>
                <a:lnTo>
                  <a:pt x="407" y="214"/>
                </a:lnTo>
                <a:lnTo>
                  <a:pt x="414" y="221"/>
                </a:lnTo>
                <a:lnTo>
                  <a:pt x="421" y="221"/>
                </a:lnTo>
                <a:lnTo>
                  <a:pt x="428" y="228"/>
                </a:lnTo>
                <a:lnTo>
                  <a:pt x="434" y="234"/>
                </a:lnTo>
                <a:lnTo>
                  <a:pt x="441" y="234"/>
                </a:lnTo>
                <a:lnTo>
                  <a:pt x="441" y="241"/>
                </a:lnTo>
                <a:lnTo>
                  <a:pt x="448" y="248"/>
                </a:lnTo>
                <a:lnTo>
                  <a:pt x="455" y="248"/>
                </a:lnTo>
                <a:lnTo>
                  <a:pt x="462" y="255"/>
                </a:lnTo>
                <a:lnTo>
                  <a:pt x="469" y="255"/>
                </a:lnTo>
                <a:lnTo>
                  <a:pt x="476" y="262"/>
                </a:lnTo>
                <a:lnTo>
                  <a:pt x="483" y="269"/>
                </a:lnTo>
                <a:lnTo>
                  <a:pt x="490" y="269"/>
                </a:lnTo>
                <a:lnTo>
                  <a:pt x="496" y="269"/>
                </a:lnTo>
                <a:lnTo>
                  <a:pt x="496" y="269"/>
                </a:lnTo>
                <a:lnTo>
                  <a:pt x="503" y="262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7" name=""/>
          <p:cNvSpPr/>
          <p:nvPr/>
        </p:nvSpPr>
        <p:spPr>
          <a:xfrm>
            <a:off x="4037040" y="4183200"/>
            <a:ext cx="33480" cy="87120"/>
          </a:xfrm>
          <a:custGeom>
            <a:avLst/>
            <a:gdLst/>
            <a:ahLst/>
            <a:rect l="l" t="t" r="r" b="b"/>
            <a:pathLst>
              <a:path w="21" h="55">
                <a:moveTo>
                  <a:pt x="21" y="34"/>
                </a:moveTo>
                <a:lnTo>
                  <a:pt x="21" y="27"/>
                </a:lnTo>
                <a:lnTo>
                  <a:pt x="21" y="20"/>
                </a:lnTo>
                <a:lnTo>
                  <a:pt x="21" y="13"/>
                </a:lnTo>
                <a:lnTo>
                  <a:pt x="21" y="6"/>
                </a:lnTo>
                <a:lnTo>
                  <a:pt x="21" y="0"/>
                </a:lnTo>
                <a:lnTo>
                  <a:pt x="14" y="0"/>
                </a:lnTo>
                <a:lnTo>
                  <a:pt x="7" y="0"/>
                </a:lnTo>
                <a:lnTo>
                  <a:pt x="0" y="6"/>
                </a:lnTo>
                <a:lnTo>
                  <a:pt x="0" y="13"/>
                </a:lnTo>
                <a:lnTo>
                  <a:pt x="0" y="13"/>
                </a:lnTo>
                <a:lnTo>
                  <a:pt x="0" y="20"/>
                </a:lnTo>
                <a:lnTo>
                  <a:pt x="0" y="27"/>
                </a:lnTo>
                <a:lnTo>
                  <a:pt x="0" y="34"/>
                </a:lnTo>
                <a:lnTo>
                  <a:pt x="7" y="41"/>
                </a:lnTo>
                <a:lnTo>
                  <a:pt x="7" y="48"/>
                </a:lnTo>
                <a:lnTo>
                  <a:pt x="7" y="55"/>
                </a:lnTo>
                <a:lnTo>
                  <a:pt x="14" y="55"/>
                </a:lnTo>
                <a:lnTo>
                  <a:pt x="14" y="48"/>
                </a:lnTo>
                <a:lnTo>
                  <a:pt x="14" y="41"/>
                </a:lnTo>
                <a:lnTo>
                  <a:pt x="21" y="34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8" name=""/>
          <p:cNvSpPr/>
          <p:nvPr/>
        </p:nvSpPr>
        <p:spPr>
          <a:xfrm flipH="1" flipV="1">
            <a:off x="2319480" y="4006440"/>
            <a:ext cx="3168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9" name=""/>
          <p:cNvSpPr/>
          <p:nvPr/>
        </p:nvSpPr>
        <p:spPr>
          <a:xfrm>
            <a:off x="3938760" y="3887640"/>
            <a:ext cx="44280" cy="152640"/>
          </a:xfrm>
          <a:custGeom>
            <a:avLst/>
            <a:gdLst/>
            <a:ahLst/>
            <a:rect l="l" t="t" r="r" b="b"/>
            <a:pathLst>
              <a:path w="28" h="96">
                <a:moveTo>
                  <a:pt x="14" y="96"/>
                </a:moveTo>
                <a:lnTo>
                  <a:pt x="14" y="96"/>
                </a:lnTo>
                <a:lnTo>
                  <a:pt x="14" y="89"/>
                </a:lnTo>
                <a:lnTo>
                  <a:pt x="21" y="82"/>
                </a:lnTo>
                <a:lnTo>
                  <a:pt x="21" y="75"/>
                </a:lnTo>
                <a:lnTo>
                  <a:pt x="21" y="68"/>
                </a:lnTo>
                <a:lnTo>
                  <a:pt x="21" y="62"/>
                </a:lnTo>
                <a:lnTo>
                  <a:pt x="21" y="55"/>
                </a:lnTo>
                <a:lnTo>
                  <a:pt x="21" y="48"/>
                </a:lnTo>
                <a:lnTo>
                  <a:pt x="21" y="41"/>
                </a:lnTo>
                <a:lnTo>
                  <a:pt x="21" y="41"/>
                </a:lnTo>
                <a:lnTo>
                  <a:pt x="28" y="34"/>
                </a:lnTo>
                <a:lnTo>
                  <a:pt x="28" y="27"/>
                </a:lnTo>
                <a:lnTo>
                  <a:pt x="21" y="20"/>
                </a:lnTo>
                <a:lnTo>
                  <a:pt x="21" y="13"/>
                </a:lnTo>
                <a:lnTo>
                  <a:pt x="21" y="6"/>
                </a:lnTo>
                <a:lnTo>
                  <a:pt x="14" y="0"/>
                </a:lnTo>
                <a:lnTo>
                  <a:pt x="14" y="6"/>
                </a:lnTo>
                <a:lnTo>
                  <a:pt x="7" y="13"/>
                </a:lnTo>
                <a:lnTo>
                  <a:pt x="7" y="20"/>
                </a:lnTo>
                <a:lnTo>
                  <a:pt x="7" y="27"/>
                </a:lnTo>
                <a:lnTo>
                  <a:pt x="7" y="34"/>
                </a:lnTo>
                <a:lnTo>
                  <a:pt x="7" y="41"/>
                </a:lnTo>
                <a:lnTo>
                  <a:pt x="7" y="48"/>
                </a:lnTo>
                <a:lnTo>
                  <a:pt x="0" y="48"/>
                </a:lnTo>
                <a:lnTo>
                  <a:pt x="0" y="55"/>
                </a:lnTo>
                <a:lnTo>
                  <a:pt x="7" y="62"/>
                </a:lnTo>
                <a:lnTo>
                  <a:pt x="7" y="68"/>
                </a:lnTo>
                <a:lnTo>
                  <a:pt x="7" y="75"/>
                </a:lnTo>
                <a:lnTo>
                  <a:pt x="7" y="82"/>
                </a:lnTo>
                <a:lnTo>
                  <a:pt x="7" y="89"/>
                </a:lnTo>
                <a:lnTo>
                  <a:pt x="14" y="89"/>
                </a:lnTo>
                <a:lnTo>
                  <a:pt x="14" y="96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0" name=""/>
          <p:cNvSpPr/>
          <p:nvPr/>
        </p:nvSpPr>
        <p:spPr>
          <a:xfrm>
            <a:off x="5548320" y="3908520"/>
            <a:ext cx="65160" cy="142920"/>
          </a:xfrm>
          <a:custGeom>
            <a:avLst/>
            <a:gdLst/>
            <a:ahLst/>
            <a:rect l="l" t="t" r="r" b="b"/>
            <a:pathLst>
              <a:path w="41" h="90">
                <a:moveTo>
                  <a:pt x="0" y="83"/>
                </a:moveTo>
                <a:lnTo>
                  <a:pt x="6" y="83"/>
                </a:lnTo>
                <a:lnTo>
                  <a:pt x="13" y="76"/>
                </a:lnTo>
                <a:lnTo>
                  <a:pt x="13" y="69"/>
                </a:lnTo>
                <a:lnTo>
                  <a:pt x="20" y="69"/>
                </a:lnTo>
                <a:lnTo>
                  <a:pt x="20" y="62"/>
                </a:lnTo>
                <a:lnTo>
                  <a:pt x="27" y="55"/>
                </a:lnTo>
                <a:lnTo>
                  <a:pt x="27" y="49"/>
                </a:lnTo>
                <a:lnTo>
                  <a:pt x="27" y="49"/>
                </a:lnTo>
                <a:lnTo>
                  <a:pt x="27" y="42"/>
                </a:lnTo>
                <a:lnTo>
                  <a:pt x="27" y="35"/>
                </a:lnTo>
                <a:lnTo>
                  <a:pt x="27" y="28"/>
                </a:lnTo>
                <a:lnTo>
                  <a:pt x="20" y="28"/>
                </a:lnTo>
                <a:lnTo>
                  <a:pt x="20" y="21"/>
                </a:lnTo>
                <a:lnTo>
                  <a:pt x="27" y="14"/>
                </a:lnTo>
                <a:lnTo>
                  <a:pt x="27" y="7"/>
                </a:lnTo>
                <a:lnTo>
                  <a:pt x="27" y="7"/>
                </a:lnTo>
                <a:lnTo>
                  <a:pt x="34" y="0"/>
                </a:lnTo>
                <a:lnTo>
                  <a:pt x="34" y="0"/>
                </a:lnTo>
                <a:lnTo>
                  <a:pt x="34" y="7"/>
                </a:lnTo>
                <a:lnTo>
                  <a:pt x="34" y="14"/>
                </a:lnTo>
                <a:lnTo>
                  <a:pt x="41" y="21"/>
                </a:lnTo>
                <a:lnTo>
                  <a:pt x="41" y="21"/>
                </a:lnTo>
                <a:lnTo>
                  <a:pt x="41" y="28"/>
                </a:lnTo>
                <a:lnTo>
                  <a:pt x="41" y="35"/>
                </a:lnTo>
                <a:lnTo>
                  <a:pt x="41" y="35"/>
                </a:lnTo>
                <a:lnTo>
                  <a:pt x="41" y="42"/>
                </a:lnTo>
                <a:lnTo>
                  <a:pt x="41" y="49"/>
                </a:lnTo>
                <a:lnTo>
                  <a:pt x="41" y="55"/>
                </a:lnTo>
                <a:lnTo>
                  <a:pt x="41" y="62"/>
                </a:lnTo>
                <a:lnTo>
                  <a:pt x="41" y="62"/>
                </a:lnTo>
                <a:lnTo>
                  <a:pt x="41" y="69"/>
                </a:lnTo>
                <a:lnTo>
                  <a:pt x="41" y="76"/>
                </a:lnTo>
                <a:lnTo>
                  <a:pt x="34" y="83"/>
                </a:lnTo>
                <a:lnTo>
                  <a:pt x="34" y="90"/>
                </a:lnTo>
                <a:lnTo>
                  <a:pt x="27" y="90"/>
                </a:lnTo>
                <a:lnTo>
                  <a:pt x="13" y="90"/>
                </a:lnTo>
                <a:lnTo>
                  <a:pt x="6" y="90"/>
                </a:lnTo>
                <a:lnTo>
                  <a:pt x="0" y="83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1" name=""/>
          <p:cNvSpPr/>
          <p:nvPr/>
        </p:nvSpPr>
        <p:spPr>
          <a:xfrm>
            <a:off x="2384280" y="3952800"/>
            <a:ext cx="54000" cy="65160"/>
          </a:xfrm>
          <a:custGeom>
            <a:avLst/>
            <a:gdLst/>
            <a:ahLst/>
            <a:rect l="l" t="t" r="r" b="b"/>
            <a:pathLst>
              <a:path w="34" h="41">
                <a:moveTo>
                  <a:pt x="34" y="27"/>
                </a:moveTo>
                <a:lnTo>
                  <a:pt x="34" y="21"/>
                </a:lnTo>
                <a:lnTo>
                  <a:pt x="28" y="7"/>
                </a:lnTo>
                <a:lnTo>
                  <a:pt x="21" y="7"/>
                </a:lnTo>
                <a:lnTo>
                  <a:pt x="21" y="0"/>
                </a:lnTo>
                <a:lnTo>
                  <a:pt x="14" y="7"/>
                </a:lnTo>
                <a:lnTo>
                  <a:pt x="7" y="7"/>
                </a:lnTo>
                <a:lnTo>
                  <a:pt x="0" y="21"/>
                </a:lnTo>
                <a:lnTo>
                  <a:pt x="0" y="27"/>
                </a:lnTo>
                <a:lnTo>
                  <a:pt x="7" y="34"/>
                </a:lnTo>
                <a:lnTo>
                  <a:pt x="7" y="41"/>
                </a:lnTo>
                <a:lnTo>
                  <a:pt x="14" y="41"/>
                </a:lnTo>
                <a:lnTo>
                  <a:pt x="21" y="41"/>
                </a:lnTo>
                <a:lnTo>
                  <a:pt x="28" y="34"/>
                </a:lnTo>
                <a:lnTo>
                  <a:pt x="34" y="27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2" name=""/>
          <p:cNvSpPr/>
          <p:nvPr/>
        </p:nvSpPr>
        <p:spPr>
          <a:xfrm>
            <a:off x="2876400" y="3941640"/>
            <a:ext cx="33480" cy="22320"/>
          </a:xfrm>
          <a:custGeom>
            <a:avLst/>
            <a:gdLst/>
            <a:ahLst/>
            <a:rect l="l" t="t" r="r" b="b"/>
            <a:pathLst>
              <a:path w="21" h="14">
                <a:moveTo>
                  <a:pt x="0" y="7"/>
                </a:moveTo>
                <a:lnTo>
                  <a:pt x="0" y="7"/>
                </a:lnTo>
                <a:lnTo>
                  <a:pt x="7" y="0"/>
                </a:lnTo>
                <a:lnTo>
                  <a:pt x="7" y="0"/>
                </a:lnTo>
                <a:lnTo>
                  <a:pt x="14" y="0"/>
                </a:lnTo>
                <a:lnTo>
                  <a:pt x="21" y="7"/>
                </a:lnTo>
                <a:lnTo>
                  <a:pt x="21" y="7"/>
                </a:lnTo>
                <a:lnTo>
                  <a:pt x="21" y="7"/>
                </a:lnTo>
                <a:lnTo>
                  <a:pt x="14" y="14"/>
                </a:lnTo>
                <a:lnTo>
                  <a:pt x="7" y="14"/>
                </a:lnTo>
                <a:lnTo>
                  <a:pt x="7" y="14"/>
                </a:lnTo>
                <a:lnTo>
                  <a:pt x="0" y="14"/>
                </a:lnTo>
                <a:lnTo>
                  <a:pt x="0" y="14"/>
                </a:lnTo>
                <a:lnTo>
                  <a:pt x="0" y="7"/>
                </a:lnTo>
                <a:lnTo>
                  <a:pt x="0" y="7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3" name=""/>
          <p:cNvSpPr/>
          <p:nvPr/>
        </p:nvSpPr>
        <p:spPr>
          <a:xfrm>
            <a:off x="3041640" y="3930480"/>
            <a:ext cx="54000" cy="44640"/>
          </a:xfrm>
          <a:custGeom>
            <a:avLst/>
            <a:gdLst/>
            <a:ahLst/>
            <a:rect l="l" t="t" r="r" b="b"/>
            <a:pathLst>
              <a:path w="34" h="28">
                <a:moveTo>
                  <a:pt x="0" y="14"/>
                </a:moveTo>
                <a:lnTo>
                  <a:pt x="0" y="7"/>
                </a:lnTo>
                <a:lnTo>
                  <a:pt x="7" y="0"/>
                </a:lnTo>
                <a:lnTo>
                  <a:pt x="13" y="0"/>
                </a:lnTo>
                <a:lnTo>
                  <a:pt x="20" y="0"/>
                </a:lnTo>
                <a:lnTo>
                  <a:pt x="27" y="0"/>
                </a:lnTo>
                <a:lnTo>
                  <a:pt x="34" y="7"/>
                </a:lnTo>
                <a:lnTo>
                  <a:pt x="34" y="14"/>
                </a:lnTo>
                <a:lnTo>
                  <a:pt x="34" y="21"/>
                </a:lnTo>
                <a:lnTo>
                  <a:pt x="27" y="21"/>
                </a:lnTo>
                <a:lnTo>
                  <a:pt x="20" y="28"/>
                </a:lnTo>
                <a:lnTo>
                  <a:pt x="13" y="28"/>
                </a:lnTo>
                <a:lnTo>
                  <a:pt x="7" y="28"/>
                </a:lnTo>
                <a:lnTo>
                  <a:pt x="0" y="21"/>
                </a:lnTo>
                <a:lnTo>
                  <a:pt x="0" y="14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4" name=""/>
          <p:cNvSpPr/>
          <p:nvPr/>
        </p:nvSpPr>
        <p:spPr>
          <a:xfrm>
            <a:off x="3992400" y="3581280"/>
            <a:ext cx="78120" cy="273240"/>
          </a:xfrm>
          <a:custGeom>
            <a:avLst/>
            <a:gdLst/>
            <a:ahLst/>
            <a:rect l="l" t="t" r="r" b="b"/>
            <a:pathLst>
              <a:path w="49" h="172">
                <a:moveTo>
                  <a:pt x="7" y="172"/>
                </a:moveTo>
                <a:lnTo>
                  <a:pt x="7" y="165"/>
                </a:lnTo>
                <a:lnTo>
                  <a:pt x="14" y="158"/>
                </a:lnTo>
                <a:lnTo>
                  <a:pt x="14" y="151"/>
                </a:lnTo>
                <a:lnTo>
                  <a:pt x="14" y="144"/>
                </a:lnTo>
                <a:lnTo>
                  <a:pt x="14" y="137"/>
                </a:lnTo>
                <a:lnTo>
                  <a:pt x="14" y="131"/>
                </a:lnTo>
                <a:lnTo>
                  <a:pt x="21" y="124"/>
                </a:lnTo>
                <a:lnTo>
                  <a:pt x="21" y="117"/>
                </a:lnTo>
                <a:lnTo>
                  <a:pt x="14" y="110"/>
                </a:lnTo>
                <a:lnTo>
                  <a:pt x="14" y="96"/>
                </a:lnTo>
                <a:lnTo>
                  <a:pt x="14" y="89"/>
                </a:lnTo>
                <a:lnTo>
                  <a:pt x="21" y="82"/>
                </a:lnTo>
                <a:lnTo>
                  <a:pt x="28" y="82"/>
                </a:lnTo>
                <a:lnTo>
                  <a:pt x="35" y="75"/>
                </a:lnTo>
                <a:lnTo>
                  <a:pt x="42" y="69"/>
                </a:lnTo>
                <a:lnTo>
                  <a:pt x="49" y="62"/>
                </a:lnTo>
                <a:lnTo>
                  <a:pt x="49" y="55"/>
                </a:lnTo>
                <a:lnTo>
                  <a:pt x="49" y="48"/>
                </a:lnTo>
                <a:lnTo>
                  <a:pt x="49" y="41"/>
                </a:lnTo>
                <a:lnTo>
                  <a:pt x="49" y="34"/>
                </a:lnTo>
                <a:lnTo>
                  <a:pt x="42" y="27"/>
                </a:lnTo>
                <a:lnTo>
                  <a:pt x="42" y="13"/>
                </a:lnTo>
                <a:lnTo>
                  <a:pt x="42" y="7"/>
                </a:lnTo>
                <a:lnTo>
                  <a:pt x="42" y="0"/>
                </a:lnTo>
                <a:lnTo>
                  <a:pt x="35" y="0"/>
                </a:lnTo>
                <a:lnTo>
                  <a:pt x="35" y="0"/>
                </a:lnTo>
                <a:lnTo>
                  <a:pt x="35" y="7"/>
                </a:lnTo>
                <a:lnTo>
                  <a:pt x="35" y="20"/>
                </a:lnTo>
                <a:lnTo>
                  <a:pt x="28" y="27"/>
                </a:lnTo>
                <a:lnTo>
                  <a:pt x="21" y="34"/>
                </a:lnTo>
                <a:lnTo>
                  <a:pt x="14" y="41"/>
                </a:lnTo>
                <a:lnTo>
                  <a:pt x="7" y="48"/>
                </a:lnTo>
                <a:lnTo>
                  <a:pt x="7" y="48"/>
                </a:lnTo>
                <a:lnTo>
                  <a:pt x="0" y="62"/>
                </a:lnTo>
                <a:lnTo>
                  <a:pt x="0" y="69"/>
                </a:lnTo>
                <a:lnTo>
                  <a:pt x="0" y="75"/>
                </a:lnTo>
                <a:lnTo>
                  <a:pt x="0" y="82"/>
                </a:lnTo>
                <a:lnTo>
                  <a:pt x="0" y="89"/>
                </a:lnTo>
                <a:lnTo>
                  <a:pt x="0" y="96"/>
                </a:lnTo>
                <a:lnTo>
                  <a:pt x="0" y="103"/>
                </a:lnTo>
                <a:lnTo>
                  <a:pt x="0" y="110"/>
                </a:lnTo>
                <a:lnTo>
                  <a:pt x="0" y="117"/>
                </a:lnTo>
                <a:lnTo>
                  <a:pt x="0" y="124"/>
                </a:lnTo>
                <a:lnTo>
                  <a:pt x="0" y="131"/>
                </a:lnTo>
                <a:lnTo>
                  <a:pt x="0" y="137"/>
                </a:lnTo>
                <a:lnTo>
                  <a:pt x="0" y="144"/>
                </a:lnTo>
                <a:lnTo>
                  <a:pt x="0" y="151"/>
                </a:lnTo>
                <a:lnTo>
                  <a:pt x="0" y="158"/>
                </a:lnTo>
                <a:lnTo>
                  <a:pt x="0" y="165"/>
                </a:lnTo>
                <a:lnTo>
                  <a:pt x="7" y="172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5" name=""/>
          <p:cNvSpPr/>
          <p:nvPr/>
        </p:nvSpPr>
        <p:spPr>
          <a:xfrm>
            <a:off x="3314880" y="3722760"/>
            <a:ext cx="53640" cy="131760"/>
          </a:xfrm>
          <a:custGeom>
            <a:avLst/>
            <a:gdLst/>
            <a:ahLst/>
            <a:rect l="l" t="t" r="r" b="b"/>
            <a:pathLst>
              <a:path w="34" h="83">
                <a:moveTo>
                  <a:pt x="14" y="55"/>
                </a:moveTo>
                <a:lnTo>
                  <a:pt x="7" y="48"/>
                </a:lnTo>
                <a:lnTo>
                  <a:pt x="0" y="42"/>
                </a:lnTo>
                <a:lnTo>
                  <a:pt x="0" y="35"/>
                </a:lnTo>
                <a:lnTo>
                  <a:pt x="7" y="21"/>
                </a:lnTo>
                <a:lnTo>
                  <a:pt x="14" y="14"/>
                </a:lnTo>
                <a:lnTo>
                  <a:pt x="21" y="0"/>
                </a:lnTo>
                <a:lnTo>
                  <a:pt x="21" y="0"/>
                </a:lnTo>
                <a:lnTo>
                  <a:pt x="28" y="7"/>
                </a:lnTo>
                <a:lnTo>
                  <a:pt x="28" y="14"/>
                </a:lnTo>
                <a:lnTo>
                  <a:pt x="28" y="28"/>
                </a:lnTo>
                <a:lnTo>
                  <a:pt x="28" y="35"/>
                </a:lnTo>
                <a:lnTo>
                  <a:pt x="34" y="42"/>
                </a:lnTo>
                <a:lnTo>
                  <a:pt x="34" y="48"/>
                </a:lnTo>
                <a:lnTo>
                  <a:pt x="34" y="62"/>
                </a:lnTo>
                <a:lnTo>
                  <a:pt x="28" y="69"/>
                </a:lnTo>
                <a:lnTo>
                  <a:pt x="28" y="76"/>
                </a:lnTo>
                <a:lnTo>
                  <a:pt x="21" y="83"/>
                </a:lnTo>
                <a:lnTo>
                  <a:pt x="21" y="76"/>
                </a:lnTo>
                <a:lnTo>
                  <a:pt x="14" y="69"/>
                </a:lnTo>
                <a:lnTo>
                  <a:pt x="14" y="55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6" name=""/>
          <p:cNvSpPr/>
          <p:nvPr/>
        </p:nvSpPr>
        <p:spPr>
          <a:xfrm>
            <a:off x="3435480" y="3798720"/>
            <a:ext cx="11160" cy="22320"/>
          </a:xfrm>
          <a:custGeom>
            <a:avLst/>
            <a:gdLst/>
            <a:ahLst/>
            <a:rect l="l" t="t" r="r" b="b"/>
            <a:pathLst>
              <a:path w="7" h="14">
                <a:moveTo>
                  <a:pt x="0" y="7"/>
                </a:moveTo>
                <a:lnTo>
                  <a:pt x="0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14"/>
                </a:lnTo>
                <a:lnTo>
                  <a:pt x="7" y="14"/>
                </a:lnTo>
                <a:lnTo>
                  <a:pt x="7" y="14"/>
                </a:lnTo>
                <a:lnTo>
                  <a:pt x="0" y="7"/>
                </a:lnTo>
                <a:lnTo>
                  <a:pt x="0" y="7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7" name=""/>
          <p:cNvSpPr/>
          <p:nvPr/>
        </p:nvSpPr>
        <p:spPr>
          <a:xfrm>
            <a:off x="3478320" y="3581280"/>
            <a:ext cx="66600" cy="152640"/>
          </a:xfrm>
          <a:custGeom>
            <a:avLst/>
            <a:gdLst/>
            <a:ahLst/>
            <a:rect l="l" t="t" r="r" b="b"/>
            <a:pathLst>
              <a:path w="42" h="96">
                <a:moveTo>
                  <a:pt x="7" y="82"/>
                </a:moveTo>
                <a:lnTo>
                  <a:pt x="0" y="82"/>
                </a:lnTo>
                <a:lnTo>
                  <a:pt x="0" y="75"/>
                </a:lnTo>
                <a:lnTo>
                  <a:pt x="0" y="69"/>
                </a:lnTo>
                <a:lnTo>
                  <a:pt x="0" y="62"/>
                </a:lnTo>
                <a:lnTo>
                  <a:pt x="0" y="55"/>
                </a:lnTo>
                <a:lnTo>
                  <a:pt x="0" y="48"/>
                </a:lnTo>
                <a:lnTo>
                  <a:pt x="0" y="41"/>
                </a:lnTo>
                <a:lnTo>
                  <a:pt x="0" y="41"/>
                </a:lnTo>
                <a:lnTo>
                  <a:pt x="7" y="34"/>
                </a:lnTo>
                <a:lnTo>
                  <a:pt x="14" y="27"/>
                </a:lnTo>
                <a:lnTo>
                  <a:pt x="21" y="27"/>
                </a:lnTo>
                <a:lnTo>
                  <a:pt x="28" y="27"/>
                </a:lnTo>
                <a:lnTo>
                  <a:pt x="35" y="20"/>
                </a:lnTo>
                <a:lnTo>
                  <a:pt x="35" y="13"/>
                </a:lnTo>
                <a:lnTo>
                  <a:pt x="35" y="13"/>
                </a:lnTo>
                <a:lnTo>
                  <a:pt x="35" y="7"/>
                </a:lnTo>
                <a:lnTo>
                  <a:pt x="35" y="0"/>
                </a:lnTo>
                <a:lnTo>
                  <a:pt x="42" y="0"/>
                </a:lnTo>
                <a:lnTo>
                  <a:pt x="42" y="7"/>
                </a:lnTo>
                <a:lnTo>
                  <a:pt x="42" y="13"/>
                </a:lnTo>
                <a:lnTo>
                  <a:pt x="42" y="20"/>
                </a:lnTo>
                <a:lnTo>
                  <a:pt x="42" y="20"/>
                </a:lnTo>
                <a:lnTo>
                  <a:pt x="42" y="27"/>
                </a:lnTo>
                <a:lnTo>
                  <a:pt x="35" y="34"/>
                </a:lnTo>
                <a:lnTo>
                  <a:pt x="35" y="41"/>
                </a:lnTo>
                <a:lnTo>
                  <a:pt x="35" y="48"/>
                </a:lnTo>
                <a:lnTo>
                  <a:pt x="35" y="55"/>
                </a:lnTo>
                <a:lnTo>
                  <a:pt x="35" y="55"/>
                </a:lnTo>
                <a:lnTo>
                  <a:pt x="35" y="62"/>
                </a:lnTo>
                <a:lnTo>
                  <a:pt x="28" y="69"/>
                </a:lnTo>
                <a:lnTo>
                  <a:pt x="21" y="69"/>
                </a:lnTo>
                <a:lnTo>
                  <a:pt x="14" y="75"/>
                </a:lnTo>
                <a:lnTo>
                  <a:pt x="14" y="82"/>
                </a:lnTo>
                <a:lnTo>
                  <a:pt x="7" y="89"/>
                </a:lnTo>
                <a:lnTo>
                  <a:pt x="7" y="96"/>
                </a:lnTo>
                <a:lnTo>
                  <a:pt x="7" y="96"/>
                </a:lnTo>
                <a:lnTo>
                  <a:pt x="7" y="96"/>
                </a:lnTo>
                <a:lnTo>
                  <a:pt x="7" y="82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8" name=""/>
          <p:cNvSpPr/>
          <p:nvPr/>
        </p:nvSpPr>
        <p:spPr>
          <a:xfrm>
            <a:off x="4956120" y="3668760"/>
            <a:ext cx="33480" cy="1440"/>
          </a:xfrm>
          <a:custGeom>
            <a:avLst/>
            <a:gdLst/>
            <a:ahLst/>
            <a:rect l="l" t="t" r="r" b="b"/>
            <a:pathLst>
              <a:path w="21" h="0">
                <a:moveTo>
                  <a:pt x="21" y="0"/>
                </a:moveTo>
                <a:lnTo>
                  <a:pt x="21" y="0"/>
                </a:lnTo>
                <a:lnTo>
                  <a:pt x="21" y="0"/>
                </a:lnTo>
                <a:lnTo>
                  <a:pt x="14" y="0"/>
                </a:lnTo>
                <a:lnTo>
                  <a:pt x="14" y="0"/>
                </a:lnTo>
                <a:lnTo>
                  <a:pt x="7" y="0"/>
                </a:lnTo>
                <a:lnTo>
                  <a:pt x="7" y="0"/>
                </a:lnTo>
                <a:lnTo>
                  <a:pt x="0" y="0"/>
                </a:lnTo>
                <a:lnTo>
                  <a:pt x="0" y="0"/>
                </a:lnTo>
                <a:lnTo>
                  <a:pt x="7" y="0"/>
                </a:lnTo>
                <a:lnTo>
                  <a:pt x="7" y="0"/>
                </a:lnTo>
                <a:lnTo>
                  <a:pt x="14" y="0"/>
                </a:lnTo>
                <a:lnTo>
                  <a:pt x="21" y="0"/>
                </a:lnTo>
                <a:lnTo>
                  <a:pt x="21" y="0"/>
                </a:lnTo>
                <a:lnTo>
                  <a:pt x="21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9" name=""/>
          <p:cNvSpPr/>
          <p:nvPr/>
        </p:nvSpPr>
        <p:spPr>
          <a:xfrm>
            <a:off x="4913280" y="3592440"/>
            <a:ext cx="54000" cy="76320"/>
          </a:xfrm>
          <a:custGeom>
            <a:avLst/>
            <a:gdLst/>
            <a:ahLst/>
            <a:rect l="l" t="t" r="r" b="b"/>
            <a:pathLst>
              <a:path w="34" h="48">
                <a:moveTo>
                  <a:pt x="34" y="20"/>
                </a:moveTo>
                <a:lnTo>
                  <a:pt x="34" y="6"/>
                </a:lnTo>
                <a:lnTo>
                  <a:pt x="27" y="6"/>
                </a:lnTo>
                <a:lnTo>
                  <a:pt x="13" y="0"/>
                </a:lnTo>
                <a:lnTo>
                  <a:pt x="7" y="6"/>
                </a:lnTo>
                <a:lnTo>
                  <a:pt x="0" y="13"/>
                </a:lnTo>
                <a:lnTo>
                  <a:pt x="0" y="20"/>
                </a:lnTo>
                <a:lnTo>
                  <a:pt x="0" y="34"/>
                </a:lnTo>
                <a:lnTo>
                  <a:pt x="7" y="41"/>
                </a:lnTo>
                <a:lnTo>
                  <a:pt x="13" y="48"/>
                </a:lnTo>
                <a:lnTo>
                  <a:pt x="20" y="48"/>
                </a:lnTo>
                <a:lnTo>
                  <a:pt x="27" y="48"/>
                </a:lnTo>
                <a:lnTo>
                  <a:pt x="27" y="41"/>
                </a:lnTo>
                <a:lnTo>
                  <a:pt x="34" y="27"/>
                </a:lnTo>
                <a:lnTo>
                  <a:pt x="34" y="2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0" name=""/>
          <p:cNvSpPr/>
          <p:nvPr/>
        </p:nvSpPr>
        <p:spPr>
          <a:xfrm>
            <a:off x="5033880" y="3624120"/>
            <a:ext cx="9720" cy="1800"/>
          </a:xfrm>
          <a:custGeom>
            <a:avLst/>
            <a:gdLst/>
            <a:ahLst/>
            <a:rect l="l" t="t" r="r" b="b"/>
            <a:pathLst>
              <a:path w="6" h="0">
                <a:moveTo>
                  <a:pt x="6" y="0"/>
                </a:moveTo>
                <a:lnTo>
                  <a:pt x="6" y="0"/>
                </a:lnTo>
                <a:lnTo>
                  <a:pt x="6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6" y="0"/>
                </a:lnTo>
                <a:lnTo>
                  <a:pt x="6" y="0"/>
                </a:lnTo>
                <a:lnTo>
                  <a:pt x="6" y="0"/>
                </a:lnTo>
                <a:lnTo>
                  <a:pt x="6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1" name=""/>
          <p:cNvSpPr/>
          <p:nvPr/>
        </p:nvSpPr>
        <p:spPr>
          <a:xfrm>
            <a:off x="4048200" y="3514680"/>
            <a:ext cx="65160" cy="77760"/>
          </a:xfrm>
          <a:custGeom>
            <a:avLst/>
            <a:gdLst/>
            <a:ahLst/>
            <a:rect l="l" t="t" r="r" b="b"/>
            <a:pathLst>
              <a:path w="41" h="49">
                <a:moveTo>
                  <a:pt x="41" y="35"/>
                </a:moveTo>
                <a:lnTo>
                  <a:pt x="41" y="35"/>
                </a:lnTo>
                <a:lnTo>
                  <a:pt x="41" y="28"/>
                </a:lnTo>
                <a:lnTo>
                  <a:pt x="34" y="21"/>
                </a:lnTo>
                <a:lnTo>
                  <a:pt x="34" y="21"/>
                </a:lnTo>
                <a:lnTo>
                  <a:pt x="34" y="14"/>
                </a:lnTo>
                <a:lnTo>
                  <a:pt x="34" y="7"/>
                </a:lnTo>
                <a:lnTo>
                  <a:pt x="34" y="0"/>
                </a:lnTo>
                <a:lnTo>
                  <a:pt x="28" y="7"/>
                </a:lnTo>
                <a:lnTo>
                  <a:pt x="28" y="14"/>
                </a:lnTo>
                <a:lnTo>
                  <a:pt x="21" y="21"/>
                </a:lnTo>
                <a:lnTo>
                  <a:pt x="14" y="28"/>
                </a:lnTo>
                <a:lnTo>
                  <a:pt x="7" y="28"/>
                </a:lnTo>
                <a:lnTo>
                  <a:pt x="0" y="35"/>
                </a:lnTo>
                <a:lnTo>
                  <a:pt x="0" y="35"/>
                </a:lnTo>
                <a:lnTo>
                  <a:pt x="7" y="42"/>
                </a:lnTo>
                <a:lnTo>
                  <a:pt x="14" y="42"/>
                </a:lnTo>
                <a:lnTo>
                  <a:pt x="28" y="49"/>
                </a:lnTo>
                <a:lnTo>
                  <a:pt x="34" y="49"/>
                </a:lnTo>
                <a:lnTo>
                  <a:pt x="34" y="42"/>
                </a:lnTo>
                <a:lnTo>
                  <a:pt x="41" y="35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2" name=""/>
          <p:cNvSpPr/>
          <p:nvPr/>
        </p:nvSpPr>
        <p:spPr>
          <a:xfrm>
            <a:off x="4419720" y="3559320"/>
            <a:ext cx="21960" cy="21960"/>
          </a:xfrm>
          <a:custGeom>
            <a:avLst/>
            <a:gdLst/>
            <a:ahLst/>
            <a:rect l="l" t="t" r="r" b="b"/>
            <a:pathLst>
              <a:path w="14" h="14">
                <a:moveTo>
                  <a:pt x="14" y="7"/>
                </a:moveTo>
                <a:lnTo>
                  <a:pt x="14" y="7"/>
                </a:lnTo>
                <a:lnTo>
                  <a:pt x="14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0" y="0"/>
                </a:lnTo>
                <a:lnTo>
                  <a:pt x="0" y="7"/>
                </a:lnTo>
                <a:lnTo>
                  <a:pt x="0" y="7"/>
                </a:lnTo>
                <a:lnTo>
                  <a:pt x="0" y="14"/>
                </a:lnTo>
                <a:lnTo>
                  <a:pt x="7" y="14"/>
                </a:lnTo>
                <a:lnTo>
                  <a:pt x="7" y="14"/>
                </a:lnTo>
                <a:lnTo>
                  <a:pt x="14" y="14"/>
                </a:lnTo>
                <a:lnTo>
                  <a:pt x="14" y="7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3" name=""/>
          <p:cNvSpPr/>
          <p:nvPr/>
        </p:nvSpPr>
        <p:spPr>
          <a:xfrm>
            <a:off x="4967280" y="3559320"/>
            <a:ext cx="44280" cy="42840"/>
          </a:xfrm>
          <a:custGeom>
            <a:avLst/>
            <a:gdLst/>
            <a:ahLst/>
            <a:rect l="l" t="t" r="r" b="b"/>
            <a:pathLst>
              <a:path w="28" h="27">
                <a:moveTo>
                  <a:pt x="28" y="7"/>
                </a:moveTo>
                <a:lnTo>
                  <a:pt x="21" y="0"/>
                </a:lnTo>
                <a:lnTo>
                  <a:pt x="21" y="0"/>
                </a:lnTo>
                <a:lnTo>
                  <a:pt x="14" y="0"/>
                </a:lnTo>
                <a:lnTo>
                  <a:pt x="7" y="0"/>
                </a:lnTo>
                <a:lnTo>
                  <a:pt x="0" y="7"/>
                </a:lnTo>
                <a:lnTo>
                  <a:pt x="0" y="7"/>
                </a:lnTo>
                <a:lnTo>
                  <a:pt x="0" y="14"/>
                </a:lnTo>
                <a:lnTo>
                  <a:pt x="0" y="21"/>
                </a:lnTo>
                <a:lnTo>
                  <a:pt x="7" y="27"/>
                </a:lnTo>
                <a:lnTo>
                  <a:pt x="14" y="27"/>
                </a:lnTo>
                <a:lnTo>
                  <a:pt x="21" y="27"/>
                </a:lnTo>
                <a:lnTo>
                  <a:pt x="21" y="21"/>
                </a:lnTo>
                <a:lnTo>
                  <a:pt x="21" y="21"/>
                </a:lnTo>
                <a:lnTo>
                  <a:pt x="28" y="7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4" name=""/>
          <p:cNvSpPr/>
          <p:nvPr/>
        </p:nvSpPr>
        <p:spPr>
          <a:xfrm>
            <a:off x="5164200" y="3570120"/>
            <a:ext cx="22320" cy="11160"/>
          </a:xfrm>
          <a:custGeom>
            <a:avLst/>
            <a:gdLst/>
            <a:ahLst/>
            <a:rect l="l" t="t" r="r" b="b"/>
            <a:pathLst>
              <a:path w="14" h="7">
                <a:moveTo>
                  <a:pt x="14" y="0"/>
                </a:moveTo>
                <a:lnTo>
                  <a:pt x="14" y="0"/>
                </a:lnTo>
                <a:lnTo>
                  <a:pt x="7" y="0"/>
                </a:lnTo>
                <a:lnTo>
                  <a:pt x="7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7" y="7"/>
                </a:lnTo>
                <a:lnTo>
                  <a:pt x="7" y="7"/>
                </a:lnTo>
                <a:lnTo>
                  <a:pt x="14" y="7"/>
                </a:lnTo>
                <a:lnTo>
                  <a:pt x="14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5" name=""/>
          <p:cNvSpPr/>
          <p:nvPr/>
        </p:nvSpPr>
        <p:spPr>
          <a:xfrm>
            <a:off x="4441680" y="3449520"/>
            <a:ext cx="142920" cy="98640"/>
          </a:xfrm>
          <a:custGeom>
            <a:avLst/>
            <a:gdLst/>
            <a:ahLst/>
            <a:rect l="l" t="t" r="r" b="b"/>
            <a:pathLst>
              <a:path w="90" h="62">
                <a:moveTo>
                  <a:pt x="55" y="48"/>
                </a:moveTo>
                <a:lnTo>
                  <a:pt x="62" y="41"/>
                </a:lnTo>
                <a:lnTo>
                  <a:pt x="62" y="41"/>
                </a:lnTo>
                <a:lnTo>
                  <a:pt x="69" y="34"/>
                </a:lnTo>
                <a:lnTo>
                  <a:pt x="76" y="28"/>
                </a:lnTo>
                <a:lnTo>
                  <a:pt x="83" y="21"/>
                </a:lnTo>
                <a:lnTo>
                  <a:pt x="90" y="21"/>
                </a:lnTo>
                <a:lnTo>
                  <a:pt x="90" y="14"/>
                </a:lnTo>
                <a:lnTo>
                  <a:pt x="90" y="7"/>
                </a:lnTo>
                <a:lnTo>
                  <a:pt x="83" y="0"/>
                </a:lnTo>
                <a:lnTo>
                  <a:pt x="76" y="0"/>
                </a:lnTo>
                <a:lnTo>
                  <a:pt x="69" y="0"/>
                </a:lnTo>
                <a:lnTo>
                  <a:pt x="55" y="0"/>
                </a:lnTo>
                <a:lnTo>
                  <a:pt x="48" y="0"/>
                </a:lnTo>
                <a:lnTo>
                  <a:pt x="35" y="0"/>
                </a:lnTo>
                <a:lnTo>
                  <a:pt x="28" y="0"/>
                </a:lnTo>
                <a:lnTo>
                  <a:pt x="21" y="7"/>
                </a:lnTo>
                <a:lnTo>
                  <a:pt x="14" y="7"/>
                </a:lnTo>
                <a:lnTo>
                  <a:pt x="7" y="14"/>
                </a:lnTo>
                <a:lnTo>
                  <a:pt x="7" y="21"/>
                </a:lnTo>
                <a:lnTo>
                  <a:pt x="0" y="28"/>
                </a:lnTo>
                <a:lnTo>
                  <a:pt x="0" y="34"/>
                </a:lnTo>
                <a:lnTo>
                  <a:pt x="0" y="34"/>
                </a:lnTo>
                <a:lnTo>
                  <a:pt x="0" y="41"/>
                </a:lnTo>
                <a:lnTo>
                  <a:pt x="7" y="48"/>
                </a:lnTo>
                <a:lnTo>
                  <a:pt x="7" y="55"/>
                </a:lnTo>
                <a:lnTo>
                  <a:pt x="14" y="62"/>
                </a:lnTo>
                <a:lnTo>
                  <a:pt x="21" y="62"/>
                </a:lnTo>
                <a:lnTo>
                  <a:pt x="28" y="62"/>
                </a:lnTo>
                <a:lnTo>
                  <a:pt x="42" y="62"/>
                </a:lnTo>
                <a:lnTo>
                  <a:pt x="48" y="62"/>
                </a:lnTo>
                <a:lnTo>
                  <a:pt x="55" y="55"/>
                </a:lnTo>
                <a:lnTo>
                  <a:pt x="55" y="48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6" name=""/>
          <p:cNvSpPr/>
          <p:nvPr/>
        </p:nvSpPr>
        <p:spPr>
          <a:xfrm>
            <a:off x="5022720" y="3514680"/>
            <a:ext cx="42840" cy="33480"/>
          </a:xfrm>
          <a:custGeom>
            <a:avLst/>
            <a:gdLst/>
            <a:ahLst/>
            <a:rect l="l" t="t" r="r" b="b"/>
            <a:pathLst>
              <a:path w="27" h="21">
                <a:moveTo>
                  <a:pt x="27" y="7"/>
                </a:moveTo>
                <a:lnTo>
                  <a:pt x="20" y="0"/>
                </a:lnTo>
                <a:lnTo>
                  <a:pt x="13" y="0"/>
                </a:lnTo>
                <a:lnTo>
                  <a:pt x="13" y="0"/>
                </a:lnTo>
                <a:lnTo>
                  <a:pt x="7" y="0"/>
                </a:lnTo>
                <a:lnTo>
                  <a:pt x="0" y="0"/>
                </a:lnTo>
                <a:lnTo>
                  <a:pt x="0" y="7"/>
                </a:lnTo>
                <a:lnTo>
                  <a:pt x="0" y="7"/>
                </a:lnTo>
                <a:lnTo>
                  <a:pt x="0" y="14"/>
                </a:lnTo>
                <a:lnTo>
                  <a:pt x="7" y="14"/>
                </a:lnTo>
                <a:lnTo>
                  <a:pt x="7" y="21"/>
                </a:lnTo>
                <a:lnTo>
                  <a:pt x="13" y="21"/>
                </a:lnTo>
                <a:lnTo>
                  <a:pt x="20" y="14"/>
                </a:lnTo>
                <a:lnTo>
                  <a:pt x="20" y="14"/>
                </a:lnTo>
                <a:lnTo>
                  <a:pt x="27" y="7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7" name=""/>
          <p:cNvSpPr/>
          <p:nvPr/>
        </p:nvSpPr>
        <p:spPr>
          <a:xfrm>
            <a:off x="4332240" y="3483000"/>
            <a:ext cx="180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8" name=""/>
          <p:cNvSpPr/>
          <p:nvPr/>
        </p:nvSpPr>
        <p:spPr>
          <a:xfrm>
            <a:off x="4978440" y="3471840"/>
            <a:ext cx="22320" cy="22320"/>
          </a:xfrm>
          <a:custGeom>
            <a:avLst/>
            <a:gdLst/>
            <a:ahLst/>
            <a:rect l="l" t="t" r="r" b="b"/>
            <a:pathLst>
              <a:path w="14" h="14">
                <a:moveTo>
                  <a:pt x="14" y="7"/>
                </a:moveTo>
                <a:lnTo>
                  <a:pt x="14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0" y="7"/>
                </a:lnTo>
                <a:lnTo>
                  <a:pt x="0" y="7"/>
                </a:lnTo>
                <a:lnTo>
                  <a:pt x="7" y="14"/>
                </a:lnTo>
                <a:lnTo>
                  <a:pt x="7" y="14"/>
                </a:lnTo>
                <a:lnTo>
                  <a:pt x="7" y="14"/>
                </a:lnTo>
                <a:lnTo>
                  <a:pt x="7" y="14"/>
                </a:lnTo>
                <a:lnTo>
                  <a:pt x="14" y="14"/>
                </a:lnTo>
                <a:lnTo>
                  <a:pt x="14" y="7"/>
                </a:lnTo>
                <a:lnTo>
                  <a:pt x="14" y="7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9" name=""/>
          <p:cNvSpPr/>
          <p:nvPr/>
        </p:nvSpPr>
        <p:spPr>
          <a:xfrm>
            <a:off x="5175360" y="3427560"/>
            <a:ext cx="55440" cy="33120"/>
          </a:xfrm>
          <a:custGeom>
            <a:avLst/>
            <a:gdLst/>
            <a:ahLst/>
            <a:rect l="l" t="t" r="r" b="b"/>
            <a:pathLst>
              <a:path w="35" h="21">
                <a:moveTo>
                  <a:pt x="35" y="7"/>
                </a:moveTo>
                <a:lnTo>
                  <a:pt x="35" y="0"/>
                </a:lnTo>
                <a:lnTo>
                  <a:pt x="28" y="0"/>
                </a:lnTo>
                <a:lnTo>
                  <a:pt x="21" y="0"/>
                </a:lnTo>
                <a:lnTo>
                  <a:pt x="21" y="0"/>
                </a:lnTo>
                <a:lnTo>
                  <a:pt x="14" y="0"/>
                </a:lnTo>
                <a:lnTo>
                  <a:pt x="7" y="0"/>
                </a:lnTo>
                <a:lnTo>
                  <a:pt x="0" y="0"/>
                </a:lnTo>
                <a:lnTo>
                  <a:pt x="0" y="7"/>
                </a:lnTo>
                <a:lnTo>
                  <a:pt x="7" y="7"/>
                </a:lnTo>
                <a:lnTo>
                  <a:pt x="14" y="7"/>
                </a:lnTo>
                <a:lnTo>
                  <a:pt x="14" y="14"/>
                </a:lnTo>
                <a:lnTo>
                  <a:pt x="21" y="14"/>
                </a:lnTo>
                <a:lnTo>
                  <a:pt x="28" y="21"/>
                </a:lnTo>
                <a:lnTo>
                  <a:pt x="28" y="21"/>
                </a:lnTo>
                <a:lnTo>
                  <a:pt x="28" y="21"/>
                </a:lnTo>
                <a:lnTo>
                  <a:pt x="35" y="21"/>
                </a:lnTo>
                <a:lnTo>
                  <a:pt x="35" y="21"/>
                </a:lnTo>
                <a:lnTo>
                  <a:pt x="35" y="14"/>
                </a:lnTo>
                <a:lnTo>
                  <a:pt x="35" y="7"/>
                </a:lnTo>
                <a:lnTo>
                  <a:pt x="35" y="7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0" name=""/>
          <p:cNvSpPr/>
          <p:nvPr/>
        </p:nvSpPr>
        <p:spPr>
          <a:xfrm flipV="1">
            <a:off x="2460600" y="3384720"/>
            <a:ext cx="22320" cy="31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1" name=""/>
          <p:cNvSpPr/>
          <p:nvPr/>
        </p:nvSpPr>
        <p:spPr>
          <a:xfrm>
            <a:off x="4933800" y="3384720"/>
            <a:ext cx="22320" cy="20520"/>
          </a:xfrm>
          <a:custGeom>
            <a:avLst/>
            <a:gdLst/>
            <a:ahLst/>
            <a:rect l="l" t="t" r="r" b="b"/>
            <a:pathLst>
              <a:path w="14" h="13">
                <a:moveTo>
                  <a:pt x="14" y="0"/>
                </a:move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0" y="0"/>
                </a:lnTo>
                <a:lnTo>
                  <a:pt x="0" y="0"/>
                </a:lnTo>
                <a:lnTo>
                  <a:pt x="0" y="7"/>
                </a:lnTo>
                <a:lnTo>
                  <a:pt x="0" y="7"/>
                </a:lnTo>
                <a:lnTo>
                  <a:pt x="7" y="13"/>
                </a:lnTo>
                <a:lnTo>
                  <a:pt x="7" y="13"/>
                </a:lnTo>
                <a:lnTo>
                  <a:pt x="7" y="13"/>
                </a:lnTo>
                <a:lnTo>
                  <a:pt x="7" y="13"/>
                </a:lnTo>
                <a:lnTo>
                  <a:pt x="7" y="7"/>
                </a:lnTo>
                <a:lnTo>
                  <a:pt x="14" y="7"/>
                </a:lnTo>
                <a:lnTo>
                  <a:pt x="14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2" name=""/>
          <p:cNvSpPr/>
          <p:nvPr/>
        </p:nvSpPr>
        <p:spPr>
          <a:xfrm>
            <a:off x="3774960" y="2968560"/>
            <a:ext cx="514440" cy="284400"/>
          </a:xfrm>
          <a:custGeom>
            <a:avLst/>
            <a:gdLst/>
            <a:ahLst/>
            <a:rect l="l" t="t" r="r" b="b"/>
            <a:pathLst>
              <a:path w="324" h="179">
                <a:moveTo>
                  <a:pt x="41" y="172"/>
                </a:moveTo>
                <a:lnTo>
                  <a:pt x="41" y="172"/>
                </a:lnTo>
                <a:lnTo>
                  <a:pt x="48" y="165"/>
                </a:lnTo>
                <a:lnTo>
                  <a:pt x="55" y="158"/>
                </a:lnTo>
                <a:lnTo>
                  <a:pt x="62" y="158"/>
                </a:lnTo>
                <a:lnTo>
                  <a:pt x="69" y="151"/>
                </a:lnTo>
                <a:lnTo>
                  <a:pt x="75" y="145"/>
                </a:lnTo>
                <a:lnTo>
                  <a:pt x="82" y="145"/>
                </a:lnTo>
                <a:lnTo>
                  <a:pt x="89" y="145"/>
                </a:lnTo>
                <a:lnTo>
                  <a:pt x="103" y="145"/>
                </a:lnTo>
                <a:lnTo>
                  <a:pt x="110" y="145"/>
                </a:lnTo>
                <a:lnTo>
                  <a:pt x="117" y="145"/>
                </a:lnTo>
                <a:lnTo>
                  <a:pt x="124" y="138"/>
                </a:lnTo>
                <a:lnTo>
                  <a:pt x="124" y="131"/>
                </a:lnTo>
                <a:lnTo>
                  <a:pt x="131" y="131"/>
                </a:lnTo>
                <a:lnTo>
                  <a:pt x="137" y="124"/>
                </a:lnTo>
                <a:lnTo>
                  <a:pt x="144" y="124"/>
                </a:lnTo>
                <a:lnTo>
                  <a:pt x="151" y="117"/>
                </a:lnTo>
                <a:lnTo>
                  <a:pt x="165" y="117"/>
                </a:lnTo>
                <a:lnTo>
                  <a:pt x="172" y="117"/>
                </a:lnTo>
                <a:lnTo>
                  <a:pt x="179" y="117"/>
                </a:lnTo>
                <a:lnTo>
                  <a:pt x="186" y="110"/>
                </a:lnTo>
                <a:lnTo>
                  <a:pt x="186" y="103"/>
                </a:lnTo>
                <a:lnTo>
                  <a:pt x="193" y="96"/>
                </a:lnTo>
                <a:lnTo>
                  <a:pt x="193" y="89"/>
                </a:lnTo>
                <a:lnTo>
                  <a:pt x="200" y="89"/>
                </a:lnTo>
                <a:lnTo>
                  <a:pt x="206" y="83"/>
                </a:lnTo>
                <a:lnTo>
                  <a:pt x="213" y="83"/>
                </a:lnTo>
                <a:lnTo>
                  <a:pt x="220" y="76"/>
                </a:lnTo>
                <a:lnTo>
                  <a:pt x="227" y="69"/>
                </a:lnTo>
                <a:lnTo>
                  <a:pt x="234" y="69"/>
                </a:lnTo>
                <a:lnTo>
                  <a:pt x="241" y="69"/>
                </a:lnTo>
                <a:lnTo>
                  <a:pt x="255" y="69"/>
                </a:lnTo>
                <a:lnTo>
                  <a:pt x="262" y="69"/>
                </a:lnTo>
                <a:lnTo>
                  <a:pt x="268" y="69"/>
                </a:lnTo>
                <a:lnTo>
                  <a:pt x="268" y="62"/>
                </a:lnTo>
                <a:lnTo>
                  <a:pt x="268" y="55"/>
                </a:lnTo>
                <a:lnTo>
                  <a:pt x="268" y="48"/>
                </a:lnTo>
                <a:lnTo>
                  <a:pt x="275" y="41"/>
                </a:lnTo>
                <a:lnTo>
                  <a:pt x="282" y="34"/>
                </a:lnTo>
                <a:lnTo>
                  <a:pt x="289" y="34"/>
                </a:lnTo>
                <a:lnTo>
                  <a:pt x="296" y="27"/>
                </a:lnTo>
                <a:lnTo>
                  <a:pt x="303" y="27"/>
                </a:lnTo>
                <a:lnTo>
                  <a:pt x="317" y="27"/>
                </a:lnTo>
                <a:lnTo>
                  <a:pt x="317" y="27"/>
                </a:lnTo>
                <a:lnTo>
                  <a:pt x="324" y="21"/>
                </a:lnTo>
                <a:lnTo>
                  <a:pt x="317" y="14"/>
                </a:lnTo>
                <a:lnTo>
                  <a:pt x="310" y="7"/>
                </a:lnTo>
                <a:lnTo>
                  <a:pt x="303" y="0"/>
                </a:lnTo>
                <a:lnTo>
                  <a:pt x="296" y="0"/>
                </a:lnTo>
                <a:lnTo>
                  <a:pt x="289" y="0"/>
                </a:lnTo>
                <a:lnTo>
                  <a:pt x="282" y="0"/>
                </a:lnTo>
                <a:lnTo>
                  <a:pt x="275" y="7"/>
                </a:lnTo>
                <a:lnTo>
                  <a:pt x="268" y="7"/>
                </a:lnTo>
                <a:lnTo>
                  <a:pt x="262" y="14"/>
                </a:lnTo>
                <a:lnTo>
                  <a:pt x="255" y="14"/>
                </a:lnTo>
                <a:lnTo>
                  <a:pt x="241" y="21"/>
                </a:lnTo>
                <a:lnTo>
                  <a:pt x="234" y="21"/>
                </a:lnTo>
                <a:lnTo>
                  <a:pt x="227" y="21"/>
                </a:lnTo>
                <a:lnTo>
                  <a:pt x="213" y="21"/>
                </a:lnTo>
                <a:lnTo>
                  <a:pt x="206" y="21"/>
                </a:lnTo>
                <a:lnTo>
                  <a:pt x="200" y="27"/>
                </a:lnTo>
                <a:lnTo>
                  <a:pt x="200" y="27"/>
                </a:lnTo>
                <a:lnTo>
                  <a:pt x="193" y="34"/>
                </a:lnTo>
                <a:lnTo>
                  <a:pt x="186" y="34"/>
                </a:lnTo>
                <a:lnTo>
                  <a:pt x="179" y="41"/>
                </a:lnTo>
                <a:lnTo>
                  <a:pt x="165" y="41"/>
                </a:lnTo>
                <a:lnTo>
                  <a:pt x="158" y="48"/>
                </a:lnTo>
                <a:lnTo>
                  <a:pt x="151" y="48"/>
                </a:lnTo>
                <a:lnTo>
                  <a:pt x="144" y="48"/>
                </a:lnTo>
                <a:lnTo>
                  <a:pt x="131" y="48"/>
                </a:lnTo>
                <a:lnTo>
                  <a:pt x="124" y="48"/>
                </a:lnTo>
                <a:lnTo>
                  <a:pt x="117" y="48"/>
                </a:lnTo>
                <a:lnTo>
                  <a:pt x="117" y="55"/>
                </a:lnTo>
                <a:lnTo>
                  <a:pt x="117" y="62"/>
                </a:lnTo>
                <a:lnTo>
                  <a:pt x="117" y="69"/>
                </a:lnTo>
                <a:lnTo>
                  <a:pt x="117" y="76"/>
                </a:lnTo>
                <a:lnTo>
                  <a:pt x="124" y="76"/>
                </a:lnTo>
                <a:lnTo>
                  <a:pt x="124" y="83"/>
                </a:lnTo>
                <a:lnTo>
                  <a:pt x="124" y="89"/>
                </a:lnTo>
                <a:lnTo>
                  <a:pt x="117" y="96"/>
                </a:lnTo>
                <a:lnTo>
                  <a:pt x="110" y="96"/>
                </a:lnTo>
                <a:lnTo>
                  <a:pt x="103" y="103"/>
                </a:lnTo>
                <a:lnTo>
                  <a:pt x="96" y="103"/>
                </a:lnTo>
                <a:lnTo>
                  <a:pt x="89" y="110"/>
                </a:lnTo>
                <a:lnTo>
                  <a:pt x="82" y="110"/>
                </a:lnTo>
                <a:lnTo>
                  <a:pt x="75" y="117"/>
                </a:lnTo>
                <a:lnTo>
                  <a:pt x="69" y="117"/>
                </a:lnTo>
                <a:lnTo>
                  <a:pt x="62" y="124"/>
                </a:lnTo>
                <a:lnTo>
                  <a:pt x="55" y="124"/>
                </a:lnTo>
                <a:lnTo>
                  <a:pt x="48" y="131"/>
                </a:lnTo>
                <a:lnTo>
                  <a:pt x="41" y="131"/>
                </a:lnTo>
                <a:lnTo>
                  <a:pt x="34" y="138"/>
                </a:lnTo>
                <a:lnTo>
                  <a:pt x="27" y="138"/>
                </a:lnTo>
                <a:lnTo>
                  <a:pt x="20" y="145"/>
                </a:lnTo>
                <a:lnTo>
                  <a:pt x="13" y="151"/>
                </a:lnTo>
                <a:lnTo>
                  <a:pt x="6" y="151"/>
                </a:lnTo>
                <a:lnTo>
                  <a:pt x="0" y="158"/>
                </a:lnTo>
                <a:lnTo>
                  <a:pt x="0" y="165"/>
                </a:lnTo>
                <a:lnTo>
                  <a:pt x="0" y="172"/>
                </a:lnTo>
                <a:lnTo>
                  <a:pt x="6" y="179"/>
                </a:lnTo>
                <a:lnTo>
                  <a:pt x="13" y="179"/>
                </a:lnTo>
                <a:lnTo>
                  <a:pt x="27" y="179"/>
                </a:lnTo>
                <a:lnTo>
                  <a:pt x="34" y="179"/>
                </a:lnTo>
                <a:lnTo>
                  <a:pt x="41" y="172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3" name=""/>
          <p:cNvSpPr/>
          <p:nvPr/>
        </p:nvSpPr>
        <p:spPr>
          <a:xfrm>
            <a:off x="5875200" y="2990880"/>
            <a:ext cx="109800" cy="31680"/>
          </a:xfrm>
          <a:custGeom>
            <a:avLst/>
            <a:gdLst/>
            <a:ahLst/>
            <a:rect l="l" t="t" r="r" b="b"/>
            <a:pathLst>
              <a:path w="69" h="20">
                <a:moveTo>
                  <a:pt x="69" y="13"/>
                </a:moveTo>
                <a:lnTo>
                  <a:pt x="62" y="7"/>
                </a:lnTo>
                <a:lnTo>
                  <a:pt x="56" y="7"/>
                </a:lnTo>
                <a:lnTo>
                  <a:pt x="56" y="7"/>
                </a:lnTo>
                <a:lnTo>
                  <a:pt x="49" y="7"/>
                </a:lnTo>
                <a:lnTo>
                  <a:pt x="42" y="7"/>
                </a:lnTo>
                <a:lnTo>
                  <a:pt x="35" y="0"/>
                </a:lnTo>
                <a:lnTo>
                  <a:pt x="28" y="0"/>
                </a:lnTo>
                <a:lnTo>
                  <a:pt x="21" y="0"/>
                </a:lnTo>
                <a:lnTo>
                  <a:pt x="14" y="0"/>
                </a:lnTo>
                <a:lnTo>
                  <a:pt x="7" y="0"/>
                </a:lnTo>
                <a:lnTo>
                  <a:pt x="7" y="0"/>
                </a:lnTo>
                <a:lnTo>
                  <a:pt x="0" y="0"/>
                </a:lnTo>
                <a:lnTo>
                  <a:pt x="0" y="7"/>
                </a:lnTo>
                <a:lnTo>
                  <a:pt x="0" y="13"/>
                </a:lnTo>
                <a:lnTo>
                  <a:pt x="0" y="13"/>
                </a:lnTo>
                <a:lnTo>
                  <a:pt x="7" y="20"/>
                </a:lnTo>
                <a:lnTo>
                  <a:pt x="14" y="20"/>
                </a:lnTo>
                <a:lnTo>
                  <a:pt x="21" y="20"/>
                </a:lnTo>
                <a:lnTo>
                  <a:pt x="28" y="20"/>
                </a:lnTo>
                <a:lnTo>
                  <a:pt x="35" y="20"/>
                </a:lnTo>
                <a:lnTo>
                  <a:pt x="42" y="20"/>
                </a:lnTo>
                <a:lnTo>
                  <a:pt x="42" y="13"/>
                </a:lnTo>
                <a:lnTo>
                  <a:pt x="49" y="13"/>
                </a:lnTo>
                <a:lnTo>
                  <a:pt x="56" y="13"/>
                </a:lnTo>
                <a:lnTo>
                  <a:pt x="62" y="13"/>
                </a:lnTo>
                <a:lnTo>
                  <a:pt x="69" y="13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4" name=""/>
          <p:cNvSpPr/>
          <p:nvPr/>
        </p:nvSpPr>
        <p:spPr>
          <a:xfrm>
            <a:off x="4245120" y="2935440"/>
            <a:ext cx="142560" cy="66600"/>
          </a:xfrm>
          <a:custGeom>
            <a:avLst/>
            <a:gdLst/>
            <a:ahLst/>
            <a:rect l="l" t="t" r="r" b="b"/>
            <a:pathLst>
              <a:path w="90" h="42">
                <a:moveTo>
                  <a:pt x="90" y="14"/>
                </a:moveTo>
                <a:lnTo>
                  <a:pt x="90" y="7"/>
                </a:lnTo>
                <a:lnTo>
                  <a:pt x="90" y="7"/>
                </a:lnTo>
                <a:lnTo>
                  <a:pt x="83" y="0"/>
                </a:lnTo>
                <a:lnTo>
                  <a:pt x="69" y="7"/>
                </a:lnTo>
                <a:lnTo>
                  <a:pt x="62" y="7"/>
                </a:lnTo>
                <a:lnTo>
                  <a:pt x="48" y="7"/>
                </a:lnTo>
                <a:lnTo>
                  <a:pt x="41" y="7"/>
                </a:lnTo>
                <a:lnTo>
                  <a:pt x="35" y="7"/>
                </a:lnTo>
                <a:lnTo>
                  <a:pt x="28" y="7"/>
                </a:lnTo>
                <a:lnTo>
                  <a:pt x="14" y="14"/>
                </a:lnTo>
                <a:lnTo>
                  <a:pt x="7" y="14"/>
                </a:lnTo>
                <a:lnTo>
                  <a:pt x="0" y="14"/>
                </a:lnTo>
                <a:lnTo>
                  <a:pt x="0" y="21"/>
                </a:lnTo>
                <a:lnTo>
                  <a:pt x="0" y="28"/>
                </a:lnTo>
                <a:lnTo>
                  <a:pt x="7" y="35"/>
                </a:lnTo>
                <a:lnTo>
                  <a:pt x="14" y="35"/>
                </a:lnTo>
                <a:lnTo>
                  <a:pt x="28" y="42"/>
                </a:lnTo>
                <a:lnTo>
                  <a:pt x="35" y="42"/>
                </a:lnTo>
                <a:lnTo>
                  <a:pt x="48" y="42"/>
                </a:lnTo>
                <a:lnTo>
                  <a:pt x="55" y="42"/>
                </a:lnTo>
                <a:lnTo>
                  <a:pt x="62" y="42"/>
                </a:lnTo>
                <a:lnTo>
                  <a:pt x="69" y="35"/>
                </a:lnTo>
                <a:lnTo>
                  <a:pt x="69" y="28"/>
                </a:lnTo>
                <a:lnTo>
                  <a:pt x="76" y="28"/>
                </a:lnTo>
                <a:lnTo>
                  <a:pt x="83" y="21"/>
                </a:lnTo>
                <a:lnTo>
                  <a:pt x="90" y="14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5" name=""/>
          <p:cNvSpPr/>
          <p:nvPr/>
        </p:nvSpPr>
        <p:spPr>
          <a:xfrm>
            <a:off x="5734080" y="2957400"/>
            <a:ext cx="31680" cy="11160"/>
          </a:xfrm>
          <a:custGeom>
            <a:avLst/>
            <a:gdLst/>
            <a:ahLst/>
            <a:rect l="l" t="t" r="r" b="b"/>
            <a:pathLst>
              <a:path w="20" h="7">
                <a:moveTo>
                  <a:pt x="20" y="0"/>
                </a:moveTo>
                <a:lnTo>
                  <a:pt x="14" y="0"/>
                </a:lnTo>
                <a:lnTo>
                  <a:pt x="14" y="0"/>
                </a:lnTo>
                <a:lnTo>
                  <a:pt x="14" y="0"/>
                </a:lnTo>
                <a:lnTo>
                  <a:pt x="7" y="0"/>
                </a:lnTo>
                <a:lnTo>
                  <a:pt x="7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7" y="7"/>
                </a:lnTo>
                <a:lnTo>
                  <a:pt x="7" y="7"/>
                </a:lnTo>
                <a:lnTo>
                  <a:pt x="14" y="7"/>
                </a:lnTo>
                <a:lnTo>
                  <a:pt x="14" y="7"/>
                </a:lnTo>
                <a:lnTo>
                  <a:pt x="20" y="0"/>
                </a:lnTo>
                <a:lnTo>
                  <a:pt x="2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6" name=""/>
          <p:cNvSpPr/>
          <p:nvPr/>
        </p:nvSpPr>
        <p:spPr>
          <a:xfrm>
            <a:off x="4408560" y="2892600"/>
            <a:ext cx="88920" cy="31680"/>
          </a:xfrm>
          <a:custGeom>
            <a:avLst/>
            <a:gdLst/>
            <a:ahLst/>
            <a:rect l="l" t="t" r="r" b="b"/>
            <a:pathLst>
              <a:path w="56" h="20">
                <a:moveTo>
                  <a:pt x="56" y="13"/>
                </a:moveTo>
                <a:lnTo>
                  <a:pt x="49" y="13"/>
                </a:lnTo>
                <a:lnTo>
                  <a:pt x="42" y="13"/>
                </a:lnTo>
                <a:lnTo>
                  <a:pt x="42" y="7"/>
                </a:lnTo>
                <a:lnTo>
                  <a:pt x="35" y="7"/>
                </a:lnTo>
                <a:lnTo>
                  <a:pt x="28" y="7"/>
                </a:lnTo>
                <a:lnTo>
                  <a:pt x="21" y="0"/>
                </a:lnTo>
                <a:lnTo>
                  <a:pt x="14" y="0"/>
                </a:lnTo>
                <a:lnTo>
                  <a:pt x="7" y="7"/>
                </a:lnTo>
                <a:lnTo>
                  <a:pt x="0" y="7"/>
                </a:lnTo>
                <a:lnTo>
                  <a:pt x="0" y="13"/>
                </a:lnTo>
                <a:lnTo>
                  <a:pt x="0" y="13"/>
                </a:lnTo>
                <a:lnTo>
                  <a:pt x="7" y="20"/>
                </a:lnTo>
                <a:lnTo>
                  <a:pt x="14" y="20"/>
                </a:lnTo>
                <a:lnTo>
                  <a:pt x="21" y="20"/>
                </a:lnTo>
                <a:lnTo>
                  <a:pt x="28" y="20"/>
                </a:lnTo>
                <a:lnTo>
                  <a:pt x="35" y="20"/>
                </a:lnTo>
                <a:lnTo>
                  <a:pt x="42" y="20"/>
                </a:lnTo>
                <a:lnTo>
                  <a:pt x="49" y="20"/>
                </a:lnTo>
                <a:lnTo>
                  <a:pt x="49" y="20"/>
                </a:lnTo>
                <a:lnTo>
                  <a:pt x="56" y="13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7" name=""/>
          <p:cNvSpPr/>
          <p:nvPr/>
        </p:nvSpPr>
        <p:spPr>
          <a:xfrm>
            <a:off x="3052800" y="1317600"/>
            <a:ext cx="3786120" cy="4811760"/>
          </a:xfrm>
          <a:custGeom>
            <a:avLst/>
            <a:gdLst/>
            <a:ahLst/>
            <a:rect l="l" t="t" r="r" b="b"/>
            <a:pathLst>
              <a:path w="2385" h="3031">
                <a:moveTo>
                  <a:pt x="537" y="3031"/>
                </a:moveTo>
                <a:lnTo>
                  <a:pt x="565" y="3003"/>
                </a:lnTo>
                <a:lnTo>
                  <a:pt x="599" y="3003"/>
                </a:lnTo>
                <a:lnTo>
                  <a:pt x="627" y="2969"/>
                </a:lnTo>
                <a:lnTo>
                  <a:pt x="661" y="2941"/>
                </a:lnTo>
                <a:lnTo>
                  <a:pt x="689" y="2907"/>
                </a:lnTo>
                <a:lnTo>
                  <a:pt x="723" y="2907"/>
                </a:lnTo>
                <a:lnTo>
                  <a:pt x="751" y="2879"/>
                </a:lnTo>
                <a:lnTo>
                  <a:pt x="786" y="2845"/>
                </a:lnTo>
                <a:lnTo>
                  <a:pt x="820" y="2845"/>
                </a:lnTo>
                <a:lnTo>
                  <a:pt x="848" y="2817"/>
                </a:lnTo>
                <a:lnTo>
                  <a:pt x="882" y="2783"/>
                </a:lnTo>
                <a:lnTo>
                  <a:pt x="910" y="2783"/>
                </a:lnTo>
                <a:lnTo>
                  <a:pt x="944" y="2748"/>
                </a:lnTo>
                <a:lnTo>
                  <a:pt x="972" y="2721"/>
                </a:lnTo>
                <a:lnTo>
                  <a:pt x="1006" y="2686"/>
                </a:lnTo>
                <a:lnTo>
                  <a:pt x="1034" y="2686"/>
                </a:lnTo>
                <a:lnTo>
                  <a:pt x="1068" y="2659"/>
                </a:lnTo>
                <a:lnTo>
                  <a:pt x="1096" y="2624"/>
                </a:lnTo>
                <a:lnTo>
                  <a:pt x="1130" y="2624"/>
                </a:lnTo>
                <a:lnTo>
                  <a:pt x="1165" y="2597"/>
                </a:lnTo>
                <a:lnTo>
                  <a:pt x="1192" y="2562"/>
                </a:lnTo>
                <a:lnTo>
                  <a:pt x="1227" y="2535"/>
                </a:lnTo>
                <a:lnTo>
                  <a:pt x="1254" y="2535"/>
                </a:lnTo>
                <a:lnTo>
                  <a:pt x="1289" y="2500"/>
                </a:lnTo>
                <a:lnTo>
                  <a:pt x="1316" y="2473"/>
                </a:lnTo>
                <a:lnTo>
                  <a:pt x="1351" y="2473"/>
                </a:lnTo>
                <a:lnTo>
                  <a:pt x="1379" y="2438"/>
                </a:lnTo>
                <a:lnTo>
                  <a:pt x="1413" y="2404"/>
                </a:lnTo>
                <a:lnTo>
                  <a:pt x="1441" y="2376"/>
                </a:lnTo>
                <a:lnTo>
                  <a:pt x="1475" y="2376"/>
                </a:lnTo>
                <a:lnTo>
                  <a:pt x="1475" y="2376"/>
                </a:lnTo>
                <a:lnTo>
                  <a:pt x="1475" y="2376"/>
                </a:lnTo>
                <a:lnTo>
                  <a:pt x="1475" y="2376"/>
                </a:lnTo>
                <a:lnTo>
                  <a:pt x="1475" y="2376"/>
                </a:lnTo>
                <a:lnTo>
                  <a:pt x="1475" y="2376"/>
                </a:lnTo>
                <a:lnTo>
                  <a:pt x="1475" y="2376"/>
                </a:lnTo>
                <a:lnTo>
                  <a:pt x="1475" y="2376"/>
                </a:lnTo>
                <a:lnTo>
                  <a:pt x="1475" y="2376"/>
                </a:lnTo>
                <a:lnTo>
                  <a:pt x="1503" y="2342"/>
                </a:lnTo>
                <a:lnTo>
                  <a:pt x="1537" y="2314"/>
                </a:lnTo>
                <a:lnTo>
                  <a:pt x="1558" y="2314"/>
                </a:lnTo>
                <a:lnTo>
                  <a:pt x="1558" y="2307"/>
                </a:lnTo>
                <a:lnTo>
                  <a:pt x="1565" y="2307"/>
                </a:lnTo>
                <a:lnTo>
                  <a:pt x="1565" y="2307"/>
                </a:lnTo>
                <a:lnTo>
                  <a:pt x="1572" y="2301"/>
                </a:lnTo>
                <a:lnTo>
                  <a:pt x="1572" y="2301"/>
                </a:lnTo>
                <a:lnTo>
                  <a:pt x="1578" y="2294"/>
                </a:lnTo>
                <a:lnTo>
                  <a:pt x="1578" y="2294"/>
                </a:lnTo>
                <a:lnTo>
                  <a:pt x="1585" y="2294"/>
                </a:lnTo>
                <a:lnTo>
                  <a:pt x="1592" y="2287"/>
                </a:lnTo>
                <a:lnTo>
                  <a:pt x="1592" y="2287"/>
                </a:lnTo>
                <a:lnTo>
                  <a:pt x="1592" y="2287"/>
                </a:lnTo>
                <a:lnTo>
                  <a:pt x="1599" y="2280"/>
                </a:lnTo>
                <a:lnTo>
                  <a:pt x="1599" y="2280"/>
                </a:lnTo>
                <a:lnTo>
                  <a:pt x="1606" y="2273"/>
                </a:lnTo>
                <a:lnTo>
                  <a:pt x="1634" y="2252"/>
                </a:lnTo>
                <a:lnTo>
                  <a:pt x="1661" y="2218"/>
                </a:lnTo>
                <a:lnTo>
                  <a:pt x="1682" y="2218"/>
                </a:lnTo>
                <a:lnTo>
                  <a:pt x="1682" y="2211"/>
                </a:lnTo>
                <a:lnTo>
                  <a:pt x="1689" y="2211"/>
                </a:lnTo>
                <a:lnTo>
                  <a:pt x="1696" y="2204"/>
                </a:lnTo>
                <a:lnTo>
                  <a:pt x="1696" y="2204"/>
                </a:lnTo>
                <a:lnTo>
                  <a:pt x="1703" y="2197"/>
                </a:lnTo>
                <a:lnTo>
                  <a:pt x="1709" y="2197"/>
                </a:lnTo>
                <a:lnTo>
                  <a:pt x="1716" y="2197"/>
                </a:lnTo>
                <a:lnTo>
                  <a:pt x="1716" y="2190"/>
                </a:lnTo>
                <a:lnTo>
                  <a:pt x="1723" y="2183"/>
                </a:lnTo>
                <a:lnTo>
                  <a:pt x="1723" y="2177"/>
                </a:lnTo>
                <a:lnTo>
                  <a:pt x="1730" y="2177"/>
                </a:lnTo>
                <a:lnTo>
                  <a:pt x="1737" y="2170"/>
                </a:lnTo>
                <a:lnTo>
                  <a:pt x="1737" y="2170"/>
                </a:lnTo>
                <a:lnTo>
                  <a:pt x="1744" y="2170"/>
                </a:lnTo>
                <a:lnTo>
                  <a:pt x="1758" y="2156"/>
                </a:lnTo>
                <a:lnTo>
                  <a:pt x="1758" y="2156"/>
                </a:lnTo>
                <a:lnTo>
                  <a:pt x="1758" y="2149"/>
                </a:lnTo>
                <a:lnTo>
                  <a:pt x="1758" y="2135"/>
                </a:lnTo>
                <a:lnTo>
                  <a:pt x="1758" y="2128"/>
                </a:lnTo>
                <a:lnTo>
                  <a:pt x="1751" y="2121"/>
                </a:lnTo>
                <a:lnTo>
                  <a:pt x="1751" y="2115"/>
                </a:lnTo>
                <a:lnTo>
                  <a:pt x="1744" y="2108"/>
                </a:lnTo>
                <a:lnTo>
                  <a:pt x="1744" y="2094"/>
                </a:lnTo>
                <a:lnTo>
                  <a:pt x="1737" y="2087"/>
                </a:lnTo>
                <a:lnTo>
                  <a:pt x="1737" y="2080"/>
                </a:lnTo>
                <a:lnTo>
                  <a:pt x="1730" y="2073"/>
                </a:lnTo>
                <a:lnTo>
                  <a:pt x="1730" y="2059"/>
                </a:lnTo>
                <a:lnTo>
                  <a:pt x="1730" y="2053"/>
                </a:lnTo>
                <a:lnTo>
                  <a:pt x="1737" y="2053"/>
                </a:lnTo>
                <a:lnTo>
                  <a:pt x="1744" y="2046"/>
                </a:lnTo>
                <a:lnTo>
                  <a:pt x="1751" y="2039"/>
                </a:lnTo>
                <a:lnTo>
                  <a:pt x="1758" y="2032"/>
                </a:lnTo>
                <a:lnTo>
                  <a:pt x="1765" y="2025"/>
                </a:lnTo>
                <a:lnTo>
                  <a:pt x="1772" y="2025"/>
                </a:lnTo>
                <a:lnTo>
                  <a:pt x="1778" y="2018"/>
                </a:lnTo>
                <a:lnTo>
                  <a:pt x="1785" y="2011"/>
                </a:lnTo>
                <a:lnTo>
                  <a:pt x="1792" y="2011"/>
                </a:lnTo>
                <a:lnTo>
                  <a:pt x="1799" y="2004"/>
                </a:lnTo>
                <a:lnTo>
                  <a:pt x="1799" y="1997"/>
                </a:lnTo>
                <a:lnTo>
                  <a:pt x="1806" y="1991"/>
                </a:lnTo>
                <a:lnTo>
                  <a:pt x="1813" y="1991"/>
                </a:lnTo>
                <a:lnTo>
                  <a:pt x="1820" y="1984"/>
                </a:lnTo>
                <a:lnTo>
                  <a:pt x="1827" y="1977"/>
                </a:lnTo>
                <a:lnTo>
                  <a:pt x="1834" y="1970"/>
                </a:lnTo>
                <a:lnTo>
                  <a:pt x="1834" y="1963"/>
                </a:lnTo>
                <a:lnTo>
                  <a:pt x="1840" y="1956"/>
                </a:lnTo>
                <a:lnTo>
                  <a:pt x="1840" y="1949"/>
                </a:lnTo>
                <a:lnTo>
                  <a:pt x="1840" y="1935"/>
                </a:lnTo>
                <a:lnTo>
                  <a:pt x="1840" y="1929"/>
                </a:lnTo>
                <a:lnTo>
                  <a:pt x="1840" y="1922"/>
                </a:lnTo>
                <a:lnTo>
                  <a:pt x="1840" y="1908"/>
                </a:lnTo>
                <a:lnTo>
                  <a:pt x="1840" y="1901"/>
                </a:lnTo>
                <a:lnTo>
                  <a:pt x="1847" y="1887"/>
                </a:lnTo>
                <a:lnTo>
                  <a:pt x="1847" y="1880"/>
                </a:lnTo>
                <a:lnTo>
                  <a:pt x="1840" y="1873"/>
                </a:lnTo>
                <a:lnTo>
                  <a:pt x="1840" y="1867"/>
                </a:lnTo>
                <a:lnTo>
                  <a:pt x="1834" y="1860"/>
                </a:lnTo>
                <a:lnTo>
                  <a:pt x="1827" y="1853"/>
                </a:lnTo>
                <a:lnTo>
                  <a:pt x="1820" y="1853"/>
                </a:lnTo>
                <a:lnTo>
                  <a:pt x="1813" y="1853"/>
                </a:lnTo>
                <a:lnTo>
                  <a:pt x="1806" y="1860"/>
                </a:lnTo>
                <a:lnTo>
                  <a:pt x="1799" y="1860"/>
                </a:lnTo>
                <a:lnTo>
                  <a:pt x="1792" y="1867"/>
                </a:lnTo>
                <a:lnTo>
                  <a:pt x="1785" y="1873"/>
                </a:lnTo>
                <a:lnTo>
                  <a:pt x="1778" y="1880"/>
                </a:lnTo>
                <a:lnTo>
                  <a:pt x="1772" y="1887"/>
                </a:lnTo>
                <a:lnTo>
                  <a:pt x="1772" y="1894"/>
                </a:lnTo>
                <a:lnTo>
                  <a:pt x="1765" y="1901"/>
                </a:lnTo>
                <a:lnTo>
                  <a:pt x="1758" y="1908"/>
                </a:lnTo>
                <a:lnTo>
                  <a:pt x="1751" y="1915"/>
                </a:lnTo>
                <a:lnTo>
                  <a:pt x="1751" y="1915"/>
                </a:lnTo>
                <a:lnTo>
                  <a:pt x="1744" y="1922"/>
                </a:lnTo>
                <a:lnTo>
                  <a:pt x="1737" y="1929"/>
                </a:lnTo>
                <a:lnTo>
                  <a:pt x="1730" y="1935"/>
                </a:lnTo>
                <a:lnTo>
                  <a:pt x="1730" y="1942"/>
                </a:lnTo>
                <a:lnTo>
                  <a:pt x="1723" y="1949"/>
                </a:lnTo>
                <a:lnTo>
                  <a:pt x="1716" y="1956"/>
                </a:lnTo>
                <a:lnTo>
                  <a:pt x="1709" y="1963"/>
                </a:lnTo>
                <a:lnTo>
                  <a:pt x="1709" y="1970"/>
                </a:lnTo>
                <a:lnTo>
                  <a:pt x="1703" y="1977"/>
                </a:lnTo>
                <a:lnTo>
                  <a:pt x="1696" y="1984"/>
                </a:lnTo>
                <a:lnTo>
                  <a:pt x="1696" y="1991"/>
                </a:lnTo>
                <a:lnTo>
                  <a:pt x="1689" y="1997"/>
                </a:lnTo>
                <a:lnTo>
                  <a:pt x="1682" y="1997"/>
                </a:lnTo>
                <a:lnTo>
                  <a:pt x="1675" y="2004"/>
                </a:lnTo>
                <a:lnTo>
                  <a:pt x="1668" y="2011"/>
                </a:lnTo>
                <a:lnTo>
                  <a:pt x="1661" y="2018"/>
                </a:lnTo>
                <a:lnTo>
                  <a:pt x="1654" y="2018"/>
                </a:lnTo>
                <a:lnTo>
                  <a:pt x="1647" y="2018"/>
                </a:lnTo>
                <a:lnTo>
                  <a:pt x="1641" y="2018"/>
                </a:lnTo>
                <a:lnTo>
                  <a:pt x="1634" y="2018"/>
                </a:lnTo>
                <a:lnTo>
                  <a:pt x="1627" y="2018"/>
                </a:lnTo>
                <a:lnTo>
                  <a:pt x="1620" y="2018"/>
                </a:lnTo>
                <a:lnTo>
                  <a:pt x="1613" y="2018"/>
                </a:lnTo>
                <a:lnTo>
                  <a:pt x="1606" y="2018"/>
                </a:lnTo>
                <a:lnTo>
                  <a:pt x="1599" y="2018"/>
                </a:lnTo>
                <a:lnTo>
                  <a:pt x="1592" y="2018"/>
                </a:lnTo>
                <a:lnTo>
                  <a:pt x="1585" y="2025"/>
                </a:lnTo>
                <a:lnTo>
                  <a:pt x="1578" y="2025"/>
                </a:lnTo>
                <a:lnTo>
                  <a:pt x="1565" y="2032"/>
                </a:lnTo>
                <a:lnTo>
                  <a:pt x="1572" y="2032"/>
                </a:lnTo>
                <a:lnTo>
                  <a:pt x="1578" y="2039"/>
                </a:lnTo>
                <a:lnTo>
                  <a:pt x="1585" y="2039"/>
                </a:lnTo>
                <a:lnTo>
                  <a:pt x="1592" y="2039"/>
                </a:lnTo>
                <a:lnTo>
                  <a:pt x="1599" y="2046"/>
                </a:lnTo>
                <a:lnTo>
                  <a:pt x="1606" y="2046"/>
                </a:lnTo>
                <a:lnTo>
                  <a:pt x="1620" y="2053"/>
                </a:lnTo>
                <a:lnTo>
                  <a:pt x="1627" y="2059"/>
                </a:lnTo>
                <a:lnTo>
                  <a:pt x="1627" y="2059"/>
                </a:lnTo>
                <a:lnTo>
                  <a:pt x="1627" y="2066"/>
                </a:lnTo>
                <a:lnTo>
                  <a:pt x="1620" y="2066"/>
                </a:lnTo>
                <a:lnTo>
                  <a:pt x="1606" y="2073"/>
                </a:lnTo>
                <a:lnTo>
                  <a:pt x="1599" y="2073"/>
                </a:lnTo>
                <a:lnTo>
                  <a:pt x="1592" y="2080"/>
                </a:lnTo>
                <a:lnTo>
                  <a:pt x="1585" y="2087"/>
                </a:lnTo>
                <a:lnTo>
                  <a:pt x="1578" y="2094"/>
                </a:lnTo>
                <a:lnTo>
                  <a:pt x="1578" y="2101"/>
                </a:lnTo>
                <a:lnTo>
                  <a:pt x="1572" y="2101"/>
                </a:lnTo>
                <a:lnTo>
                  <a:pt x="1565" y="2108"/>
                </a:lnTo>
                <a:lnTo>
                  <a:pt x="1558" y="2115"/>
                </a:lnTo>
                <a:lnTo>
                  <a:pt x="1551" y="2115"/>
                </a:lnTo>
                <a:lnTo>
                  <a:pt x="1544" y="2121"/>
                </a:lnTo>
                <a:lnTo>
                  <a:pt x="1537" y="2121"/>
                </a:lnTo>
                <a:lnTo>
                  <a:pt x="1530" y="2121"/>
                </a:lnTo>
                <a:lnTo>
                  <a:pt x="1523" y="2128"/>
                </a:lnTo>
                <a:lnTo>
                  <a:pt x="1516" y="2135"/>
                </a:lnTo>
                <a:lnTo>
                  <a:pt x="1516" y="2142"/>
                </a:lnTo>
                <a:lnTo>
                  <a:pt x="1516" y="2156"/>
                </a:lnTo>
                <a:lnTo>
                  <a:pt x="1523" y="2163"/>
                </a:lnTo>
                <a:lnTo>
                  <a:pt x="1523" y="2170"/>
                </a:lnTo>
                <a:lnTo>
                  <a:pt x="1530" y="2177"/>
                </a:lnTo>
                <a:lnTo>
                  <a:pt x="1537" y="2183"/>
                </a:lnTo>
                <a:lnTo>
                  <a:pt x="1544" y="2190"/>
                </a:lnTo>
                <a:lnTo>
                  <a:pt x="1551" y="2197"/>
                </a:lnTo>
                <a:lnTo>
                  <a:pt x="1558" y="2204"/>
                </a:lnTo>
                <a:lnTo>
                  <a:pt x="1565" y="2211"/>
                </a:lnTo>
                <a:lnTo>
                  <a:pt x="1565" y="2218"/>
                </a:lnTo>
                <a:lnTo>
                  <a:pt x="1565" y="2218"/>
                </a:lnTo>
                <a:lnTo>
                  <a:pt x="1565" y="2225"/>
                </a:lnTo>
                <a:lnTo>
                  <a:pt x="1558" y="2232"/>
                </a:lnTo>
                <a:lnTo>
                  <a:pt x="1551" y="2232"/>
                </a:lnTo>
                <a:lnTo>
                  <a:pt x="1544" y="2239"/>
                </a:lnTo>
                <a:lnTo>
                  <a:pt x="1537" y="2245"/>
                </a:lnTo>
                <a:lnTo>
                  <a:pt x="1530" y="2252"/>
                </a:lnTo>
                <a:lnTo>
                  <a:pt x="1523" y="2252"/>
                </a:lnTo>
                <a:lnTo>
                  <a:pt x="1516" y="2259"/>
                </a:lnTo>
                <a:lnTo>
                  <a:pt x="1510" y="2266"/>
                </a:lnTo>
                <a:lnTo>
                  <a:pt x="1503" y="2266"/>
                </a:lnTo>
                <a:lnTo>
                  <a:pt x="1496" y="2273"/>
                </a:lnTo>
                <a:lnTo>
                  <a:pt x="1489" y="2273"/>
                </a:lnTo>
                <a:lnTo>
                  <a:pt x="1482" y="2280"/>
                </a:lnTo>
                <a:lnTo>
                  <a:pt x="1475" y="2280"/>
                </a:lnTo>
                <a:lnTo>
                  <a:pt x="1468" y="2287"/>
                </a:lnTo>
                <a:lnTo>
                  <a:pt x="1461" y="2287"/>
                </a:lnTo>
                <a:lnTo>
                  <a:pt x="1454" y="2294"/>
                </a:lnTo>
                <a:lnTo>
                  <a:pt x="1447" y="2301"/>
                </a:lnTo>
                <a:lnTo>
                  <a:pt x="1441" y="2301"/>
                </a:lnTo>
                <a:lnTo>
                  <a:pt x="1434" y="2307"/>
                </a:lnTo>
                <a:lnTo>
                  <a:pt x="1427" y="2307"/>
                </a:lnTo>
                <a:lnTo>
                  <a:pt x="1420" y="2314"/>
                </a:lnTo>
                <a:lnTo>
                  <a:pt x="1420" y="2314"/>
                </a:lnTo>
                <a:lnTo>
                  <a:pt x="1413" y="2321"/>
                </a:lnTo>
                <a:lnTo>
                  <a:pt x="1406" y="2328"/>
                </a:lnTo>
                <a:lnTo>
                  <a:pt x="1399" y="2328"/>
                </a:lnTo>
                <a:lnTo>
                  <a:pt x="1392" y="2335"/>
                </a:lnTo>
                <a:lnTo>
                  <a:pt x="1385" y="2342"/>
                </a:lnTo>
                <a:lnTo>
                  <a:pt x="1379" y="2342"/>
                </a:lnTo>
                <a:lnTo>
                  <a:pt x="1372" y="2349"/>
                </a:lnTo>
                <a:lnTo>
                  <a:pt x="1365" y="2349"/>
                </a:lnTo>
                <a:lnTo>
                  <a:pt x="1358" y="2356"/>
                </a:lnTo>
                <a:lnTo>
                  <a:pt x="1351" y="2363"/>
                </a:lnTo>
                <a:lnTo>
                  <a:pt x="1344" y="2363"/>
                </a:lnTo>
                <a:lnTo>
                  <a:pt x="1337" y="2369"/>
                </a:lnTo>
                <a:lnTo>
                  <a:pt x="1330" y="2376"/>
                </a:lnTo>
                <a:lnTo>
                  <a:pt x="1323" y="2376"/>
                </a:lnTo>
                <a:lnTo>
                  <a:pt x="1323" y="2383"/>
                </a:lnTo>
                <a:lnTo>
                  <a:pt x="1316" y="2390"/>
                </a:lnTo>
                <a:lnTo>
                  <a:pt x="1310" y="2390"/>
                </a:lnTo>
                <a:lnTo>
                  <a:pt x="1303" y="2397"/>
                </a:lnTo>
                <a:lnTo>
                  <a:pt x="1296" y="2404"/>
                </a:lnTo>
                <a:lnTo>
                  <a:pt x="1289" y="2404"/>
                </a:lnTo>
                <a:lnTo>
                  <a:pt x="1282" y="2404"/>
                </a:lnTo>
                <a:lnTo>
                  <a:pt x="1275" y="2411"/>
                </a:lnTo>
                <a:lnTo>
                  <a:pt x="1268" y="2411"/>
                </a:lnTo>
                <a:lnTo>
                  <a:pt x="1261" y="2411"/>
                </a:lnTo>
                <a:lnTo>
                  <a:pt x="1254" y="2418"/>
                </a:lnTo>
                <a:lnTo>
                  <a:pt x="1248" y="2418"/>
                </a:lnTo>
                <a:lnTo>
                  <a:pt x="1241" y="2418"/>
                </a:lnTo>
                <a:lnTo>
                  <a:pt x="1234" y="2425"/>
                </a:lnTo>
                <a:lnTo>
                  <a:pt x="1227" y="2425"/>
                </a:lnTo>
                <a:lnTo>
                  <a:pt x="1213" y="2425"/>
                </a:lnTo>
                <a:lnTo>
                  <a:pt x="1206" y="2425"/>
                </a:lnTo>
                <a:lnTo>
                  <a:pt x="1199" y="2431"/>
                </a:lnTo>
                <a:lnTo>
                  <a:pt x="1192" y="2431"/>
                </a:lnTo>
                <a:lnTo>
                  <a:pt x="1185" y="2431"/>
                </a:lnTo>
                <a:lnTo>
                  <a:pt x="1179" y="2431"/>
                </a:lnTo>
                <a:lnTo>
                  <a:pt x="1172" y="2438"/>
                </a:lnTo>
                <a:lnTo>
                  <a:pt x="1165" y="2438"/>
                </a:lnTo>
                <a:lnTo>
                  <a:pt x="1158" y="2438"/>
                </a:lnTo>
                <a:lnTo>
                  <a:pt x="1151" y="2445"/>
                </a:lnTo>
                <a:lnTo>
                  <a:pt x="1144" y="2445"/>
                </a:lnTo>
                <a:lnTo>
                  <a:pt x="1137" y="2445"/>
                </a:lnTo>
                <a:lnTo>
                  <a:pt x="1130" y="2452"/>
                </a:lnTo>
                <a:lnTo>
                  <a:pt x="1123" y="2452"/>
                </a:lnTo>
                <a:lnTo>
                  <a:pt x="1117" y="2452"/>
                </a:lnTo>
                <a:lnTo>
                  <a:pt x="1110" y="2459"/>
                </a:lnTo>
                <a:lnTo>
                  <a:pt x="1103" y="2459"/>
                </a:lnTo>
                <a:lnTo>
                  <a:pt x="1096" y="2459"/>
                </a:lnTo>
                <a:lnTo>
                  <a:pt x="1089" y="2466"/>
                </a:lnTo>
                <a:lnTo>
                  <a:pt x="1082" y="2466"/>
                </a:lnTo>
                <a:lnTo>
                  <a:pt x="1075" y="2466"/>
                </a:lnTo>
                <a:lnTo>
                  <a:pt x="1068" y="2473"/>
                </a:lnTo>
                <a:lnTo>
                  <a:pt x="1061" y="2473"/>
                </a:lnTo>
                <a:lnTo>
                  <a:pt x="1054" y="2473"/>
                </a:lnTo>
                <a:lnTo>
                  <a:pt x="1048" y="2480"/>
                </a:lnTo>
                <a:lnTo>
                  <a:pt x="1041" y="2480"/>
                </a:lnTo>
                <a:lnTo>
                  <a:pt x="1027" y="2480"/>
                </a:lnTo>
                <a:lnTo>
                  <a:pt x="1020" y="2480"/>
                </a:lnTo>
                <a:lnTo>
                  <a:pt x="1013" y="2473"/>
                </a:lnTo>
                <a:lnTo>
                  <a:pt x="1006" y="2473"/>
                </a:lnTo>
                <a:lnTo>
                  <a:pt x="1006" y="2466"/>
                </a:lnTo>
                <a:lnTo>
                  <a:pt x="1013" y="2459"/>
                </a:lnTo>
                <a:lnTo>
                  <a:pt x="1013" y="2445"/>
                </a:lnTo>
                <a:lnTo>
                  <a:pt x="1020" y="2438"/>
                </a:lnTo>
                <a:lnTo>
                  <a:pt x="1020" y="2431"/>
                </a:lnTo>
                <a:lnTo>
                  <a:pt x="1027" y="2418"/>
                </a:lnTo>
                <a:lnTo>
                  <a:pt x="1027" y="2411"/>
                </a:lnTo>
                <a:lnTo>
                  <a:pt x="1027" y="2404"/>
                </a:lnTo>
                <a:lnTo>
                  <a:pt x="1020" y="2397"/>
                </a:lnTo>
                <a:lnTo>
                  <a:pt x="1013" y="2390"/>
                </a:lnTo>
                <a:lnTo>
                  <a:pt x="1006" y="2390"/>
                </a:lnTo>
                <a:lnTo>
                  <a:pt x="999" y="2383"/>
                </a:lnTo>
                <a:lnTo>
                  <a:pt x="992" y="2376"/>
                </a:lnTo>
                <a:lnTo>
                  <a:pt x="986" y="2369"/>
                </a:lnTo>
                <a:lnTo>
                  <a:pt x="986" y="2363"/>
                </a:lnTo>
                <a:lnTo>
                  <a:pt x="979" y="2356"/>
                </a:lnTo>
                <a:lnTo>
                  <a:pt x="972" y="2356"/>
                </a:lnTo>
                <a:lnTo>
                  <a:pt x="965" y="2349"/>
                </a:lnTo>
                <a:lnTo>
                  <a:pt x="958" y="2342"/>
                </a:lnTo>
                <a:lnTo>
                  <a:pt x="951" y="2335"/>
                </a:lnTo>
                <a:lnTo>
                  <a:pt x="951" y="2328"/>
                </a:lnTo>
                <a:lnTo>
                  <a:pt x="944" y="2321"/>
                </a:lnTo>
                <a:lnTo>
                  <a:pt x="937" y="2321"/>
                </a:lnTo>
                <a:lnTo>
                  <a:pt x="930" y="2321"/>
                </a:lnTo>
                <a:lnTo>
                  <a:pt x="923" y="2321"/>
                </a:lnTo>
                <a:lnTo>
                  <a:pt x="917" y="2321"/>
                </a:lnTo>
                <a:lnTo>
                  <a:pt x="903" y="2321"/>
                </a:lnTo>
                <a:lnTo>
                  <a:pt x="896" y="2314"/>
                </a:lnTo>
                <a:lnTo>
                  <a:pt x="889" y="2314"/>
                </a:lnTo>
                <a:lnTo>
                  <a:pt x="882" y="2307"/>
                </a:lnTo>
                <a:lnTo>
                  <a:pt x="882" y="2307"/>
                </a:lnTo>
                <a:lnTo>
                  <a:pt x="875" y="2301"/>
                </a:lnTo>
                <a:lnTo>
                  <a:pt x="868" y="2301"/>
                </a:lnTo>
                <a:lnTo>
                  <a:pt x="861" y="2294"/>
                </a:lnTo>
                <a:lnTo>
                  <a:pt x="854" y="2294"/>
                </a:lnTo>
                <a:lnTo>
                  <a:pt x="848" y="2287"/>
                </a:lnTo>
                <a:lnTo>
                  <a:pt x="841" y="2280"/>
                </a:lnTo>
                <a:lnTo>
                  <a:pt x="834" y="2273"/>
                </a:lnTo>
                <a:lnTo>
                  <a:pt x="834" y="2266"/>
                </a:lnTo>
                <a:lnTo>
                  <a:pt x="834" y="2259"/>
                </a:lnTo>
                <a:lnTo>
                  <a:pt x="841" y="2245"/>
                </a:lnTo>
                <a:lnTo>
                  <a:pt x="841" y="2239"/>
                </a:lnTo>
                <a:lnTo>
                  <a:pt x="841" y="2232"/>
                </a:lnTo>
                <a:lnTo>
                  <a:pt x="841" y="2218"/>
                </a:lnTo>
                <a:lnTo>
                  <a:pt x="841" y="2211"/>
                </a:lnTo>
                <a:lnTo>
                  <a:pt x="841" y="2204"/>
                </a:lnTo>
                <a:lnTo>
                  <a:pt x="841" y="2190"/>
                </a:lnTo>
                <a:lnTo>
                  <a:pt x="834" y="2183"/>
                </a:lnTo>
                <a:lnTo>
                  <a:pt x="834" y="2177"/>
                </a:lnTo>
                <a:lnTo>
                  <a:pt x="834" y="2163"/>
                </a:lnTo>
                <a:lnTo>
                  <a:pt x="827" y="2156"/>
                </a:lnTo>
                <a:lnTo>
                  <a:pt x="827" y="2149"/>
                </a:lnTo>
                <a:lnTo>
                  <a:pt x="827" y="2135"/>
                </a:lnTo>
                <a:lnTo>
                  <a:pt x="820" y="2128"/>
                </a:lnTo>
                <a:lnTo>
                  <a:pt x="813" y="2121"/>
                </a:lnTo>
                <a:lnTo>
                  <a:pt x="806" y="2128"/>
                </a:lnTo>
                <a:lnTo>
                  <a:pt x="799" y="2135"/>
                </a:lnTo>
                <a:lnTo>
                  <a:pt x="792" y="2135"/>
                </a:lnTo>
                <a:lnTo>
                  <a:pt x="786" y="2135"/>
                </a:lnTo>
                <a:lnTo>
                  <a:pt x="779" y="2142"/>
                </a:lnTo>
                <a:lnTo>
                  <a:pt x="779" y="2142"/>
                </a:lnTo>
                <a:lnTo>
                  <a:pt x="772" y="2149"/>
                </a:lnTo>
                <a:lnTo>
                  <a:pt x="765" y="2149"/>
                </a:lnTo>
                <a:lnTo>
                  <a:pt x="751" y="2156"/>
                </a:lnTo>
                <a:lnTo>
                  <a:pt x="744" y="2156"/>
                </a:lnTo>
                <a:lnTo>
                  <a:pt x="737" y="2156"/>
                </a:lnTo>
                <a:lnTo>
                  <a:pt x="730" y="2156"/>
                </a:lnTo>
                <a:lnTo>
                  <a:pt x="723" y="2156"/>
                </a:lnTo>
                <a:lnTo>
                  <a:pt x="717" y="2163"/>
                </a:lnTo>
                <a:lnTo>
                  <a:pt x="710" y="2163"/>
                </a:lnTo>
                <a:lnTo>
                  <a:pt x="703" y="2163"/>
                </a:lnTo>
                <a:lnTo>
                  <a:pt x="696" y="2163"/>
                </a:lnTo>
                <a:lnTo>
                  <a:pt x="689" y="2163"/>
                </a:lnTo>
                <a:lnTo>
                  <a:pt x="682" y="2163"/>
                </a:lnTo>
                <a:lnTo>
                  <a:pt x="675" y="2163"/>
                </a:lnTo>
                <a:lnTo>
                  <a:pt x="668" y="2170"/>
                </a:lnTo>
                <a:lnTo>
                  <a:pt x="661" y="2170"/>
                </a:lnTo>
                <a:lnTo>
                  <a:pt x="655" y="2177"/>
                </a:lnTo>
                <a:lnTo>
                  <a:pt x="648" y="2177"/>
                </a:lnTo>
                <a:lnTo>
                  <a:pt x="641" y="2177"/>
                </a:lnTo>
                <a:lnTo>
                  <a:pt x="634" y="2183"/>
                </a:lnTo>
                <a:lnTo>
                  <a:pt x="627" y="2183"/>
                </a:lnTo>
                <a:lnTo>
                  <a:pt x="620" y="2177"/>
                </a:lnTo>
                <a:lnTo>
                  <a:pt x="613" y="2177"/>
                </a:lnTo>
                <a:lnTo>
                  <a:pt x="606" y="2170"/>
                </a:lnTo>
                <a:lnTo>
                  <a:pt x="599" y="2163"/>
                </a:lnTo>
                <a:lnTo>
                  <a:pt x="592" y="2156"/>
                </a:lnTo>
                <a:lnTo>
                  <a:pt x="586" y="2149"/>
                </a:lnTo>
                <a:lnTo>
                  <a:pt x="586" y="2149"/>
                </a:lnTo>
                <a:lnTo>
                  <a:pt x="579" y="2142"/>
                </a:lnTo>
                <a:lnTo>
                  <a:pt x="572" y="2135"/>
                </a:lnTo>
                <a:lnTo>
                  <a:pt x="565" y="2135"/>
                </a:lnTo>
                <a:lnTo>
                  <a:pt x="558" y="2128"/>
                </a:lnTo>
                <a:lnTo>
                  <a:pt x="558" y="2115"/>
                </a:lnTo>
                <a:lnTo>
                  <a:pt x="558" y="2108"/>
                </a:lnTo>
                <a:lnTo>
                  <a:pt x="558" y="2101"/>
                </a:lnTo>
                <a:lnTo>
                  <a:pt x="558" y="2087"/>
                </a:lnTo>
                <a:lnTo>
                  <a:pt x="558" y="2080"/>
                </a:lnTo>
                <a:lnTo>
                  <a:pt x="558" y="2073"/>
                </a:lnTo>
                <a:lnTo>
                  <a:pt x="565" y="2059"/>
                </a:lnTo>
                <a:lnTo>
                  <a:pt x="565" y="2053"/>
                </a:lnTo>
                <a:lnTo>
                  <a:pt x="572" y="2046"/>
                </a:lnTo>
                <a:lnTo>
                  <a:pt x="572" y="2039"/>
                </a:lnTo>
                <a:lnTo>
                  <a:pt x="579" y="2032"/>
                </a:lnTo>
                <a:lnTo>
                  <a:pt x="586" y="2025"/>
                </a:lnTo>
                <a:lnTo>
                  <a:pt x="586" y="2011"/>
                </a:lnTo>
                <a:lnTo>
                  <a:pt x="586" y="2004"/>
                </a:lnTo>
                <a:lnTo>
                  <a:pt x="586" y="1997"/>
                </a:lnTo>
                <a:lnTo>
                  <a:pt x="586" y="1984"/>
                </a:lnTo>
                <a:lnTo>
                  <a:pt x="586" y="1977"/>
                </a:lnTo>
                <a:lnTo>
                  <a:pt x="586" y="1970"/>
                </a:lnTo>
                <a:lnTo>
                  <a:pt x="586" y="1956"/>
                </a:lnTo>
                <a:lnTo>
                  <a:pt x="586" y="1949"/>
                </a:lnTo>
                <a:lnTo>
                  <a:pt x="586" y="1942"/>
                </a:lnTo>
                <a:lnTo>
                  <a:pt x="586" y="1929"/>
                </a:lnTo>
                <a:lnTo>
                  <a:pt x="579" y="1922"/>
                </a:lnTo>
                <a:lnTo>
                  <a:pt x="579" y="1915"/>
                </a:lnTo>
                <a:lnTo>
                  <a:pt x="579" y="1901"/>
                </a:lnTo>
                <a:lnTo>
                  <a:pt x="579" y="1894"/>
                </a:lnTo>
                <a:lnTo>
                  <a:pt x="579" y="1887"/>
                </a:lnTo>
                <a:lnTo>
                  <a:pt x="579" y="1873"/>
                </a:lnTo>
                <a:lnTo>
                  <a:pt x="579" y="1867"/>
                </a:lnTo>
                <a:lnTo>
                  <a:pt x="579" y="1860"/>
                </a:lnTo>
                <a:lnTo>
                  <a:pt x="579" y="1846"/>
                </a:lnTo>
                <a:lnTo>
                  <a:pt x="579" y="1839"/>
                </a:lnTo>
                <a:lnTo>
                  <a:pt x="579" y="1832"/>
                </a:lnTo>
                <a:lnTo>
                  <a:pt x="579" y="1818"/>
                </a:lnTo>
                <a:lnTo>
                  <a:pt x="579" y="1811"/>
                </a:lnTo>
                <a:lnTo>
                  <a:pt x="572" y="1805"/>
                </a:lnTo>
                <a:lnTo>
                  <a:pt x="565" y="1798"/>
                </a:lnTo>
                <a:lnTo>
                  <a:pt x="558" y="1805"/>
                </a:lnTo>
                <a:lnTo>
                  <a:pt x="558" y="1811"/>
                </a:lnTo>
                <a:lnTo>
                  <a:pt x="551" y="1818"/>
                </a:lnTo>
                <a:lnTo>
                  <a:pt x="544" y="1818"/>
                </a:lnTo>
                <a:lnTo>
                  <a:pt x="537" y="1825"/>
                </a:lnTo>
                <a:lnTo>
                  <a:pt x="530" y="1825"/>
                </a:lnTo>
                <a:lnTo>
                  <a:pt x="524" y="1825"/>
                </a:lnTo>
                <a:lnTo>
                  <a:pt x="517" y="1825"/>
                </a:lnTo>
                <a:lnTo>
                  <a:pt x="510" y="1825"/>
                </a:lnTo>
                <a:lnTo>
                  <a:pt x="503" y="1825"/>
                </a:lnTo>
                <a:lnTo>
                  <a:pt x="496" y="1818"/>
                </a:lnTo>
                <a:lnTo>
                  <a:pt x="489" y="1818"/>
                </a:lnTo>
                <a:lnTo>
                  <a:pt x="475" y="1818"/>
                </a:lnTo>
                <a:lnTo>
                  <a:pt x="468" y="1825"/>
                </a:lnTo>
                <a:lnTo>
                  <a:pt x="461" y="1825"/>
                </a:lnTo>
                <a:lnTo>
                  <a:pt x="455" y="1825"/>
                </a:lnTo>
                <a:lnTo>
                  <a:pt x="448" y="1832"/>
                </a:lnTo>
                <a:lnTo>
                  <a:pt x="441" y="1839"/>
                </a:lnTo>
                <a:lnTo>
                  <a:pt x="441" y="1846"/>
                </a:lnTo>
                <a:lnTo>
                  <a:pt x="441" y="1860"/>
                </a:lnTo>
                <a:lnTo>
                  <a:pt x="448" y="1867"/>
                </a:lnTo>
                <a:lnTo>
                  <a:pt x="448" y="1873"/>
                </a:lnTo>
                <a:lnTo>
                  <a:pt x="441" y="1880"/>
                </a:lnTo>
                <a:lnTo>
                  <a:pt x="434" y="1880"/>
                </a:lnTo>
                <a:lnTo>
                  <a:pt x="427" y="1873"/>
                </a:lnTo>
                <a:lnTo>
                  <a:pt x="434" y="1860"/>
                </a:lnTo>
                <a:lnTo>
                  <a:pt x="434" y="1853"/>
                </a:lnTo>
                <a:lnTo>
                  <a:pt x="441" y="1846"/>
                </a:lnTo>
                <a:lnTo>
                  <a:pt x="441" y="1839"/>
                </a:lnTo>
                <a:lnTo>
                  <a:pt x="448" y="1825"/>
                </a:lnTo>
                <a:lnTo>
                  <a:pt x="448" y="1818"/>
                </a:lnTo>
                <a:lnTo>
                  <a:pt x="455" y="1811"/>
                </a:lnTo>
                <a:lnTo>
                  <a:pt x="455" y="1805"/>
                </a:lnTo>
                <a:lnTo>
                  <a:pt x="461" y="1791"/>
                </a:lnTo>
                <a:lnTo>
                  <a:pt x="461" y="1784"/>
                </a:lnTo>
                <a:lnTo>
                  <a:pt x="461" y="1777"/>
                </a:lnTo>
                <a:lnTo>
                  <a:pt x="468" y="1770"/>
                </a:lnTo>
                <a:lnTo>
                  <a:pt x="468" y="1756"/>
                </a:lnTo>
                <a:lnTo>
                  <a:pt x="475" y="1749"/>
                </a:lnTo>
                <a:lnTo>
                  <a:pt x="475" y="1743"/>
                </a:lnTo>
                <a:lnTo>
                  <a:pt x="482" y="1736"/>
                </a:lnTo>
                <a:lnTo>
                  <a:pt x="482" y="1729"/>
                </a:lnTo>
                <a:lnTo>
                  <a:pt x="489" y="1722"/>
                </a:lnTo>
                <a:lnTo>
                  <a:pt x="489" y="1708"/>
                </a:lnTo>
                <a:lnTo>
                  <a:pt x="496" y="1701"/>
                </a:lnTo>
                <a:lnTo>
                  <a:pt x="496" y="1694"/>
                </a:lnTo>
                <a:lnTo>
                  <a:pt x="503" y="1687"/>
                </a:lnTo>
                <a:lnTo>
                  <a:pt x="503" y="1674"/>
                </a:lnTo>
                <a:lnTo>
                  <a:pt x="510" y="1667"/>
                </a:lnTo>
                <a:lnTo>
                  <a:pt x="510" y="1660"/>
                </a:lnTo>
                <a:lnTo>
                  <a:pt x="510" y="1653"/>
                </a:lnTo>
                <a:lnTo>
                  <a:pt x="517" y="1646"/>
                </a:lnTo>
                <a:lnTo>
                  <a:pt x="524" y="1639"/>
                </a:lnTo>
                <a:lnTo>
                  <a:pt x="524" y="1625"/>
                </a:lnTo>
                <a:lnTo>
                  <a:pt x="530" y="1619"/>
                </a:lnTo>
                <a:lnTo>
                  <a:pt x="530" y="1612"/>
                </a:lnTo>
                <a:lnTo>
                  <a:pt x="537" y="1605"/>
                </a:lnTo>
                <a:lnTo>
                  <a:pt x="537" y="1598"/>
                </a:lnTo>
                <a:lnTo>
                  <a:pt x="537" y="1584"/>
                </a:lnTo>
                <a:lnTo>
                  <a:pt x="544" y="1577"/>
                </a:lnTo>
                <a:lnTo>
                  <a:pt x="544" y="1570"/>
                </a:lnTo>
                <a:lnTo>
                  <a:pt x="551" y="1563"/>
                </a:lnTo>
                <a:lnTo>
                  <a:pt x="558" y="1557"/>
                </a:lnTo>
                <a:lnTo>
                  <a:pt x="565" y="1550"/>
                </a:lnTo>
                <a:lnTo>
                  <a:pt x="565" y="1543"/>
                </a:lnTo>
                <a:lnTo>
                  <a:pt x="565" y="1536"/>
                </a:lnTo>
                <a:lnTo>
                  <a:pt x="565" y="1522"/>
                </a:lnTo>
                <a:lnTo>
                  <a:pt x="572" y="1515"/>
                </a:lnTo>
                <a:lnTo>
                  <a:pt x="572" y="1508"/>
                </a:lnTo>
                <a:lnTo>
                  <a:pt x="572" y="1495"/>
                </a:lnTo>
                <a:lnTo>
                  <a:pt x="579" y="1488"/>
                </a:lnTo>
                <a:lnTo>
                  <a:pt x="579" y="1481"/>
                </a:lnTo>
                <a:lnTo>
                  <a:pt x="586" y="1474"/>
                </a:lnTo>
                <a:lnTo>
                  <a:pt x="586" y="1460"/>
                </a:lnTo>
                <a:lnTo>
                  <a:pt x="586" y="1453"/>
                </a:lnTo>
                <a:lnTo>
                  <a:pt x="586" y="1446"/>
                </a:lnTo>
                <a:lnTo>
                  <a:pt x="586" y="1433"/>
                </a:lnTo>
                <a:lnTo>
                  <a:pt x="586" y="1426"/>
                </a:lnTo>
                <a:lnTo>
                  <a:pt x="586" y="1419"/>
                </a:lnTo>
                <a:lnTo>
                  <a:pt x="586" y="1405"/>
                </a:lnTo>
                <a:lnTo>
                  <a:pt x="586" y="1398"/>
                </a:lnTo>
                <a:lnTo>
                  <a:pt x="592" y="1391"/>
                </a:lnTo>
                <a:lnTo>
                  <a:pt x="592" y="1384"/>
                </a:lnTo>
                <a:lnTo>
                  <a:pt x="592" y="1371"/>
                </a:lnTo>
                <a:lnTo>
                  <a:pt x="592" y="1364"/>
                </a:lnTo>
                <a:lnTo>
                  <a:pt x="592" y="1357"/>
                </a:lnTo>
                <a:lnTo>
                  <a:pt x="599" y="1343"/>
                </a:lnTo>
                <a:lnTo>
                  <a:pt x="599" y="1336"/>
                </a:lnTo>
                <a:lnTo>
                  <a:pt x="599" y="1329"/>
                </a:lnTo>
                <a:lnTo>
                  <a:pt x="606" y="1315"/>
                </a:lnTo>
                <a:lnTo>
                  <a:pt x="606" y="1309"/>
                </a:lnTo>
                <a:lnTo>
                  <a:pt x="606" y="1302"/>
                </a:lnTo>
                <a:lnTo>
                  <a:pt x="606" y="1288"/>
                </a:lnTo>
                <a:lnTo>
                  <a:pt x="613" y="1281"/>
                </a:lnTo>
                <a:lnTo>
                  <a:pt x="613" y="1274"/>
                </a:lnTo>
                <a:lnTo>
                  <a:pt x="613" y="1267"/>
                </a:lnTo>
                <a:lnTo>
                  <a:pt x="620" y="1253"/>
                </a:lnTo>
                <a:lnTo>
                  <a:pt x="620" y="1247"/>
                </a:lnTo>
                <a:lnTo>
                  <a:pt x="620" y="1240"/>
                </a:lnTo>
                <a:lnTo>
                  <a:pt x="620" y="1226"/>
                </a:lnTo>
                <a:lnTo>
                  <a:pt x="627" y="1219"/>
                </a:lnTo>
                <a:lnTo>
                  <a:pt x="627" y="1212"/>
                </a:lnTo>
                <a:lnTo>
                  <a:pt x="627" y="1205"/>
                </a:lnTo>
                <a:lnTo>
                  <a:pt x="634" y="1191"/>
                </a:lnTo>
                <a:lnTo>
                  <a:pt x="634" y="1185"/>
                </a:lnTo>
                <a:lnTo>
                  <a:pt x="641" y="1178"/>
                </a:lnTo>
                <a:lnTo>
                  <a:pt x="648" y="1171"/>
                </a:lnTo>
                <a:lnTo>
                  <a:pt x="655" y="1171"/>
                </a:lnTo>
                <a:lnTo>
                  <a:pt x="661" y="1171"/>
                </a:lnTo>
                <a:lnTo>
                  <a:pt x="668" y="1164"/>
                </a:lnTo>
                <a:lnTo>
                  <a:pt x="675" y="1164"/>
                </a:lnTo>
                <a:lnTo>
                  <a:pt x="682" y="1164"/>
                </a:lnTo>
                <a:lnTo>
                  <a:pt x="689" y="1164"/>
                </a:lnTo>
                <a:lnTo>
                  <a:pt x="696" y="1164"/>
                </a:lnTo>
                <a:lnTo>
                  <a:pt x="703" y="1164"/>
                </a:lnTo>
                <a:lnTo>
                  <a:pt x="710" y="1164"/>
                </a:lnTo>
                <a:lnTo>
                  <a:pt x="717" y="1164"/>
                </a:lnTo>
                <a:lnTo>
                  <a:pt x="723" y="1164"/>
                </a:lnTo>
                <a:lnTo>
                  <a:pt x="730" y="1164"/>
                </a:lnTo>
                <a:lnTo>
                  <a:pt x="737" y="1164"/>
                </a:lnTo>
                <a:lnTo>
                  <a:pt x="744" y="1164"/>
                </a:lnTo>
                <a:lnTo>
                  <a:pt x="758" y="1164"/>
                </a:lnTo>
                <a:lnTo>
                  <a:pt x="765" y="1164"/>
                </a:lnTo>
                <a:lnTo>
                  <a:pt x="772" y="1171"/>
                </a:lnTo>
                <a:lnTo>
                  <a:pt x="779" y="1171"/>
                </a:lnTo>
                <a:lnTo>
                  <a:pt x="786" y="1178"/>
                </a:lnTo>
                <a:lnTo>
                  <a:pt x="786" y="1185"/>
                </a:lnTo>
                <a:lnTo>
                  <a:pt x="792" y="1191"/>
                </a:lnTo>
                <a:lnTo>
                  <a:pt x="792" y="1198"/>
                </a:lnTo>
                <a:lnTo>
                  <a:pt x="799" y="1205"/>
                </a:lnTo>
                <a:lnTo>
                  <a:pt x="799" y="1219"/>
                </a:lnTo>
                <a:lnTo>
                  <a:pt x="806" y="1226"/>
                </a:lnTo>
                <a:lnTo>
                  <a:pt x="806" y="1233"/>
                </a:lnTo>
                <a:lnTo>
                  <a:pt x="813" y="1240"/>
                </a:lnTo>
                <a:lnTo>
                  <a:pt x="813" y="1253"/>
                </a:lnTo>
                <a:lnTo>
                  <a:pt x="820" y="1260"/>
                </a:lnTo>
                <a:lnTo>
                  <a:pt x="820" y="1267"/>
                </a:lnTo>
                <a:lnTo>
                  <a:pt x="827" y="1274"/>
                </a:lnTo>
                <a:lnTo>
                  <a:pt x="827" y="1281"/>
                </a:lnTo>
                <a:lnTo>
                  <a:pt x="820" y="1288"/>
                </a:lnTo>
                <a:lnTo>
                  <a:pt x="813" y="1302"/>
                </a:lnTo>
                <a:lnTo>
                  <a:pt x="813" y="1309"/>
                </a:lnTo>
                <a:lnTo>
                  <a:pt x="806" y="1315"/>
                </a:lnTo>
                <a:lnTo>
                  <a:pt x="806" y="1322"/>
                </a:lnTo>
                <a:lnTo>
                  <a:pt x="806" y="1329"/>
                </a:lnTo>
                <a:lnTo>
                  <a:pt x="806" y="1343"/>
                </a:lnTo>
                <a:lnTo>
                  <a:pt x="806" y="1350"/>
                </a:lnTo>
                <a:lnTo>
                  <a:pt x="806" y="1364"/>
                </a:lnTo>
                <a:lnTo>
                  <a:pt x="813" y="1371"/>
                </a:lnTo>
                <a:lnTo>
                  <a:pt x="813" y="1377"/>
                </a:lnTo>
                <a:lnTo>
                  <a:pt x="820" y="1377"/>
                </a:lnTo>
                <a:lnTo>
                  <a:pt x="827" y="1384"/>
                </a:lnTo>
                <a:lnTo>
                  <a:pt x="834" y="1384"/>
                </a:lnTo>
                <a:lnTo>
                  <a:pt x="841" y="1377"/>
                </a:lnTo>
                <a:lnTo>
                  <a:pt x="854" y="1377"/>
                </a:lnTo>
                <a:lnTo>
                  <a:pt x="861" y="1384"/>
                </a:lnTo>
                <a:lnTo>
                  <a:pt x="868" y="1384"/>
                </a:lnTo>
                <a:lnTo>
                  <a:pt x="875" y="1384"/>
                </a:lnTo>
                <a:lnTo>
                  <a:pt x="882" y="1391"/>
                </a:lnTo>
                <a:lnTo>
                  <a:pt x="889" y="1391"/>
                </a:lnTo>
                <a:lnTo>
                  <a:pt x="896" y="1398"/>
                </a:lnTo>
                <a:lnTo>
                  <a:pt x="903" y="1398"/>
                </a:lnTo>
                <a:lnTo>
                  <a:pt x="910" y="1405"/>
                </a:lnTo>
                <a:lnTo>
                  <a:pt x="917" y="1405"/>
                </a:lnTo>
                <a:lnTo>
                  <a:pt x="917" y="1419"/>
                </a:lnTo>
                <a:lnTo>
                  <a:pt x="923" y="1426"/>
                </a:lnTo>
                <a:lnTo>
                  <a:pt x="923" y="1433"/>
                </a:lnTo>
                <a:lnTo>
                  <a:pt x="917" y="1439"/>
                </a:lnTo>
                <a:lnTo>
                  <a:pt x="910" y="1446"/>
                </a:lnTo>
                <a:lnTo>
                  <a:pt x="903" y="1453"/>
                </a:lnTo>
                <a:lnTo>
                  <a:pt x="903" y="1460"/>
                </a:lnTo>
                <a:lnTo>
                  <a:pt x="896" y="1467"/>
                </a:lnTo>
                <a:lnTo>
                  <a:pt x="896" y="1474"/>
                </a:lnTo>
                <a:lnTo>
                  <a:pt x="889" y="1488"/>
                </a:lnTo>
                <a:lnTo>
                  <a:pt x="889" y="1495"/>
                </a:lnTo>
                <a:lnTo>
                  <a:pt x="882" y="1501"/>
                </a:lnTo>
                <a:lnTo>
                  <a:pt x="875" y="1508"/>
                </a:lnTo>
                <a:lnTo>
                  <a:pt x="868" y="1515"/>
                </a:lnTo>
                <a:lnTo>
                  <a:pt x="861" y="1522"/>
                </a:lnTo>
                <a:lnTo>
                  <a:pt x="861" y="1529"/>
                </a:lnTo>
                <a:lnTo>
                  <a:pt x="861" y="1536"/>
                </a:lnTo>
                <a:lnTo>
                  <a:pt x="868" y="1543"/>
                </a:lnTo>
                <a:lnTo>
                  <a:pt x="875" y="1550"/>
                </a:lnTo>
                <a:lnTo>
                  <a:pt x="882" y="1557"/>
                </a:lnTo>
                <a:lnTo>
                  <a:pt x="889" y="1563"/>
                </a:lnTo>
                <a:lnTo>
                  <a:pt x="889" y="1563"/>
                </a:lnTo>
                <a:lnTo>
                  <a:pt x="896" y="1570"/>
                </a:lnTo>
                <a:lnTo>
                  <a:pt x="896" y="1584"/>
                </a:lnTo>
                <a:lnTo>
                  <a:pt x="903" y="1591"/>
                </a:lnTo>
                <a:lnTo>
                  <a:pt x="910" y="1598"/>
                </a:lnTo>
                <a:lnTo>
                  <a:pt x="917" y="1591"/>
                </a:lnTo>
                <a:lnTo>
                  <a:pt x="923" y="1584"/>
                </a:lnTo>
                <a:lnTo>
                  <a:pt x="923" y="1577"/>
                </a:lnTo>
                <a:lnTo>
                  <a:pt x="930" y="1570"/>
                </a:lnTo>
                <a:lnTo>
                  <a:pt x="930" y="1557"/>
                </a:lnTo>
                <a:lnTo>
                  <a:pt x="930" y="1550"/>
                </a:lnTo>
                <a:lnTo>
                  <a:pt x="930" y="1543"/>
                </a:lnTo>
                <a:lnTo>
                  <a:pt x="930" y="1529"/>
                </a:lnTo>
                <a:lnTo>
                  <a:pt x="930" y="1522"/>
                </a:lnTo>
                <a:lnTo>
                  <a:pt x="930" y="1515"/>
                </a:lnTo>
                <a:lnTo>
                  <a:pt x="937" y="1501"/>
                </a:lnTo>
                <a:lnTo>
                  <a:pt x="937" y="1495"/>
                </a:lnTo>
                <a:lnTo>
                  <a:pt x="937" y="1488"/>
                </a:lnTo>
                <a:lnTo>
                  <a:pt x="944" y="1481"/>
                </a:lnTo>
                <a:lnTo>
                  <a:pt x="951" y="1474"/>
                </a:lnTo>
                <a:lnTo>
                  <a:pt x="958" y="1474"/>
                </a:lnTo>
                <a:lnTo>
                  <a:pt x="965" y="1467"/>
                </a:lnTo>
                <a:lnTo>
                  <a:pt x="972" y="1453"/>
                </a:lnTo>
                <a:lnTo>
                  <a:pt x="972" y="1446"/>
                </a:lnTo>
                <a:lnTo>
                  <a:pt x="979" y="1446"/>
                </a:lnTo>
                <a:lnTo>
                  <a:pt x="979" y="1460"/>
                </a:lnTo>
                <a:lnTo>
                  <a:pt x="979" y="1467"/>
                </a:lnTo>
                <a:lnTo>
                  <a:pt x="979" y="1481"/>
                </a:lnTo>
                <a:lnTo>
                  <a:pt x="979" y="1488"/>
                </a:lnTo>
                <a:lnTo>
                  <a:pt x="979" y="1495"/>
                </a:lnTo>
                <a:lnTo>
                  <a:pt x="972" y="1501"/>
                </a:lnTo>
                <a:lnTo>
                  <a:pt x="972" y="1515"/>
                </a:lnTo>
                <a:lnTo>
                  <a:pt x="972" y="1522"/>
                </a:lnTo>
                <a:lnTo>
                  <a:pt x="965" y="1529"/>
                </a:lnTo>
                <a:lnTo>
                  <a:pt x="965" y="1543"/>
                </a:lnTo>
                <a:lnTo>
                  <a:pt x="972" y="1550"/>
                </a:lnTo>
                <a:lnTo>
                  <a:pt x="972" y="1557"/>
                </a:lnTo>
                <a:lnTo>
                  <a:pt x="979" y="1563"/>
                </a:lnTo>
                <a:lnTo>
                  <a:pt x="979" y="1577"/>
                </a:lnTo>
                <a:lnTo>
                  <a:pt x="979" y="1584"/>
                </a:lnTo>
                <a:lnTo>
                  <a:pt x="979" y="1591"/>
                </a:lnTo>
                <a:lnTo>
                  <a:pt x="972" y="1605"/>
                </a:lnTo>
                <a:lnTo>
                  <a:pt x="972" y="1612"/>
                </a:lnTo>
                <a:lnTo>
                  <a:pt x="965" y="1619"/>
                </a:lnTo>
                <a:lnTo>
                  <a:pt x="965" y="1625"/>
                </a:lnTo>
                <a:lnTo>
                  <a:pt x="965" y="1632"/>
                </a:lnTo>
                <a:lnTo>
                  <a:pt x="965" y="1646"/>
                </a:lnTo>
                <a:lnTo>
                  <a:pt x="958" y="1653"/>
                </a:lnTo>
                <a:lnTo>
                  <a:pt x="958" y="1667"/>
                </a:lnTo>
                <a:lnTo>
                  <a:pt x="958" y="1674"/>
                </a:lnTo>
                <a:lnTo>
                  <a:pt x="958" y="1681"/>
                </a:lnTo>
                <a:lnTo>
                  <a:pt x="958" y="1687"/>
                </a:lnTo>
                <a:lnTo>
                  <a:pt x="965" y="1694"/>
                </a:lnTo>
                <a:lnTo>
                  <a:pt x="972" y="1701"/>
                </a:lnTo>
                <a:lnTo>
                  <a:pt x="979" y="1701"/>
                </a:lnTo>
                <a:lnTo>
                  <a:pt x="986" y="1708"/>
                </a:lnTo>
                <a:lnTo>
                  <a:pt x="992" y="1708"/>
                </a:lnTo>
                <a:lnTo>
                  <a:pt x="999" y="1708"/>
                </a:lnTo>
                <a:lnTo>
                  <a:pt x="1006" y="1701"/>
                </a:lnTo>
                <a:lnTo>
                  <a:pt x="1013" y="1694"/>
                </a:lnTo>
                <a:lnTo>
                  <a:pt x="1013" y="1681"/>
                </a:lnTo>
                <a:lnTo>
                  <a:pt x="1020" y="1674"/>
                </a:lnTo>
                <a:lnTo>
                  <a:pt x="1020" y="1667"/>
                </a:lnTo>
                <a:lnTo>
                  <a:pt x="1027" y="1660"/>
                </a:lnTo>
                <a:lnTo>
                  <a:pt x="1034" y="1653"/>
                </a:lnTo>
                <a:lnTo>
                  <a:pt x="1041" y="1653"/>
                </a:lnTo>
                <a:lnTo>
                  <a:pt x="1041" y="1639"/>
                </a:lnTo>
                <a:lnTo>
                  <a:pt x="1048" y="1632"/>
                </a:lnTo>
                <a:lnTo>
                  <a:pt x="1054" y="1625"/>
                </a:lnTo>
                <a:lnTo>
                  <a:pt x="1054" y="1619"/>
                </a:lnTo>
                <a:lnTo>
                  <a:pt x="1061" y="1619"/>
                </a:lnTo>
                <a:lnTo>
                  <a:pt x="1068" y="1612"/>
                </a:lnTo>
                <a:lnTo>
                  <a:pt x="1075" y="1612"/>
                </a:lnTo>
                <a:lnTo>
                  <a:pt x="1082" y="1605"/>
                </a:lnTo>
                <a:lnTo>
                  <a:pt x="1089" y="1598"/>
                </a:lnTo>
                <a:lnTo>
                  <a:pt x="1096" y="1598"/>
                </a:lnTo>
                <a:lnTo>
                  <a:pt x="1103" y="1591"/>
                </a:lnTo>
                <a:lnTo>
                  <a:pt x="1110" y="1584"/>
                </a:lnTo>
                <a:lnTo>
                  <a:pt x="1117" y="1577"/>
                </a:lnTo>
                <a:lnTo>
                  <a:pt x="1123" y="1577"/>
                </a:lnTo>
                <a:lnTo>
                  <a:pt x="1123" y="1570"/>
                </a:lnTo>
                <a:lnTo>
                  <a:pt x="1130" y="1563"/>
                </a:lnTo>
                <a:lnTo>
                  <a:pt x="1137" y="1557"/>
                </a:lnTo>
                <a:lnTo>
                  <a:pt x="1144" y="1550"/>
                </a:lnTo>
                <a:lnTo>
                  <a:pt x="1151" y="1543"/>
                </a:lnTo>
                <a:lnTo>
                  <a:pt x="1151" y="1536"/>
                </a:lnTo>
                <a:lnTo>
                  <a:pt x="1158" y="1529"/>
                </a:lnTo>
                <a:lnTo>
                  <a:pt x="1151" y="1522"/>
                </a:lnTo>
                <a:lnTo>
                  <a:pt x="1144" y="1515"/>
                </a:lnTo>
                <a:lnTo>
                  <a:pt x="1144" y="1501"/>
                </a:lnTo>
                <a:lnTo>
                  <a:pt x="1137" y="1495"/>
                </a:lnTo>
                <a:lnTo>
                  <a:pt x="1144" y="1495"/>
                </a:lnTo>
                <a:lnTo>
                  <a:pt x="1151" y="1488"/>
                </a:lnTo>
                <a:lnTo>
                  <a:pt x="1158" y="1488"/>
                </a:lnTo>
                <a:lnTo>
                  <a:pt x="1172" y="1488"/>
                </a:lnTo>
                <a:lnTo>
                  <a:pt x="1179" y="1481"/>
                </a:lnTo>
                <a:lnTo>
                  <a:pt x="1185" y="1481"/>
                </a:lnTo>
                <a:lnTo>
                  <a:pt x="1192" y="1481"/>
                </a:lnTo>
                <a:lnTo>
                  <a:pt x="1199" y="1481"/>
                </a:lnTo>
                <a:lnTo>
                  <a:pt x="1206" y="1474"/>
                </a:lnTo>
                <a:lnTo>
                  <a:pt x="1213" y="1474"/>
                </a:lnTo>
                <a:lnTo>
                  <a:pt x="1220" y="1467"/>
                </a:lnTo>
                <a:lnTo>
                  <a:pt x="1227" y="1467"/>
                </a:lnTo>
                <a:lnTo>
                  <a:pt x="1234" y="1467"/>
                </a:lnTo>
                <a:lnTo>
                  <a:pt x="1241" y="1467"/>
                </a:lnTo>
                <a:lnTo>
                  <a:pt x="1248" y="1467"/>
                </a:lnTo>
                <a:lnTo>
                  <a:pt x="1254" y="1467"/>
                </a:lnTo>
                <a:lnTo>
                  <a:pt x="1261" y="1474"/>
                </a:lnTo>
                <a:lnTo>
                  <a:pt x="1268" y="1474"/>
                </a:lnTo>
                <a:lnTo>
                  <a:pt x="1275" y="1474"/>
                </a:lnTo>
                <a:lnTo>
                  <a:pt x="1282" y="1474"/>
                </a:lnTo>
                <a:lnTo>
                  <a:pt x="1289" y="1474"/>
                </a:lnTo>
                <a:lnTo>
                  <a:pt x="1296" y="1474"/>
                </a:lnTo>
                <a:lnTo>
                  <a:pt x="1310" y="1474"/>
                </a:lnTo>
                <a:lnTo>
                  <a:pt x="1310" y="1481"/>
                </a:lnTo>
                <a:lnTo>
                  <a:pt x="1316" y="1488"/>
                </a:lnTo>
                <a:lnTo>
                  <a:pt x="1323" y="1495"/>
                </a:lnTo>
                <a:lnTo>
                  <a:pt x="1323" y="1501"/>
                </a:lnTo>
                <a:lnTo>
                  <a:pt x="1330" y="1508"/>
                </a:lnTo>
                <a:lnTo>
                  <a:pt x="1323" y="1515"/>
                </a:lnTo>
                <a:lnTo>
                  <a:pt x="1323" y="1529"/>
                </a:lnTo>
                <a:lnTo>
                  <a:pt x="1323" y="1536"/>
                </a:lnTo>
                <a:lnTo>
                  <a:pt x="1323" y="1550"/>
                </a:lnTo>
                <a:lnTo>
                  <a:pt x="1323" y="1557"/>
                </a:lnTo>
                <a:lnTo>
                  <a:pt x="1323" y="1563"/>
                </a:lnTo>
                <a:lnTo>
                  <a:pt x="1316" y="1570"/>
                </a:lnTo>
                <a:lnTo>
                  <a:pt x="1310" y="1577"/>
                </a:lnTo>
                <a:lnTo>
                  <a:pt x="1303" y="1577"/>
                </a:lnTo>
                <a:lnTo>
                  <a:pt x="1296" y="1584"/>
                </a:lnTo>
                <a:lnTo>
                  <a:pt x="1296" y="1591"/>
                </a:lnTo>
                <a:lnTo>
                  <a:pt x="1289" y="1605"/>
                </a:lnTo>
                <a:lnTo>
                  <a:pt x="1289" y="1612"/>
                </a:lnTo>
                <a:lnTo>
                  <a:pt x="1296" y="1619"/>
                </a:lnTo>
                <a:lnTo>
                  <a:pt x="1296" y="1625"/>
                </a:lnTo>
                <a:lnTo>
                  <a:pt x="1303" y="1632"/>
                </a:lnTo>
                <a:lnTo>
                  <a:pt x="1316" y="1632"/>
                </a:lnTo>
                <a:lnTo>
                  <a:pt x="1323" y="1632"/>
                </a:lnTo>
                <a:lnTo>
                  <a:pt x="1330" y="1632"/>
                </a:lnTo>
                <a:lnTo>
                  <a:pt x="1337" y="1632"/>
                </a:lnTo>
                <a:lnTo>
                  <a:pt x="1344" y="1632"/>
                </a:lnTo>
                <a:lnTo>
                  <a:pt x="1351" y="1632"/>
                </a:lnTo>
                <a:lnTo>
                  <a:pt x="1358" y="1639"/>
                </a:lnTo>
                <a:lnTo>
                  <a:pt x="1365" y="1639"/>
                </a:lnTo>
                <a:lnTo>
                  <a:pt x="1372" y="1639"/>
                </a:lnTo>
                <a:lnTo>
                  <a:pt x="1379" y="1639"/>
                </a:lnTo>
                <a:lnTo>
                  <a:pt x="1385" y="1639"/>
                </a:lnTo>
                <a:lnTo>
                  <a:pt x="1392" y="1639"/>
                </a:lnTo>
                <a:lnTo>
                  <a:pt x="1399" y="1639"/>
                </a:lnTo>
                <a:lnTo>
                  <a:pt x="1406" y="1632"/>
                </a:lnTo>
                <a:lnTo>
                  <a:pt x="1413" y="1632"/>
                </a:lnTo>
                <a:lnTo>
                  <a:pt x="1420" y="1625"/>
                </a:lnTo>
                <a:lnTo>
                  <a:pt x="1420" y="1625"/>
                </a:lnTo>
                <a:lnTo>
                  <a:pt x="1413" y="1619"/>
                </a:lnTo>
                <a:lnTo>
                  <a:pt x="1406" y="1612"/>
                </a:lnTo>
                <a:lnTo>
                  <a:pt x="1399" y="1612"/>
                </a:lnTo>
                <a:lnTo>
                  <a:pt x="1392" y="1605"/>
                </a:lnTo>
                <a:lnTo>
                  <a:pt x="1392" y="1591"/>
                </a:lnTo>
                <a:lnTo>
                  <a:pt x="1392" y="1584"/>
                </a:lnTo>
                <a:lnTo>
                  <a:pt x="1392" y="1577"/>
                </a:lnTo>
                <a:lnTo>
                  <a:pt x="1392" y="1563"/>
                </a:lnTo>
                <a:lnTo>
                  <a:pt x="1392" y="1557"/>
                </a:lnTo>
                <a:lnTo>
                  <a:pt x="1392" y="1550"/>
                </a:lnTo>
                <a:lnTo>
                  <a:pt x="1385" y="1536"/>
                </a:lnTo>
                <a:lnTo>
                  <a:pt x="1385" y="1529"/>
                </a:lnTo>
                <a:lnTo>
                  <a:pt x="1392" y="1522"/>
                </a:lnTo>
                <a:lnTo>
                  <a:pt x="1392" y="1508"/>
                </a:lnTo>
                <a:lnTo>
                  <a:pt x="1392" y="1501"/>
                </a:lnTo>
                <a:lnTo>
                  <a:pt x="1392" y="1495"/>
                </a:lnTo>
                <a:lnTo>
                  <a:pt x="1385" y="1488"/>
                </a:lnTo>
                <a:lnTo>
                  <a:pt x="1385" y="1474"/>
                </a:lnTo>
                <a:lnTo>
                  <a:pt x="1379" y="1467"/>
                </a:lnTo>
                <a:lnTo>
                  <a:pt x="1379" y="1460"/>
                </a:lnTo>
                <a:lnTo>
                  <a:pt x="1379" y="1446"/>
                </a:lnTo>
                <a:lnTo>
                  <a:pt x="1379" y="1439"/>
                </a:lnTo>
                <a:lnTo>
                  <a:pt x="1372" y="1433"/>
                </a:lnTo>
                <a:lnTo>
                  <a:pt x="1365" y="1426"/>
                </a:lnTo>
                <a:lnTo>
                  <a:pt x="1358" y="1419"/>
                </a:lnTo>
                <a:lnTo>
                  <a:pt x="1358" y="1412"/>
                </a:lnTo>
                <a:lnTo>
                  <a:pt x="1351" y="1412"/>
                </a:lnTo>
                <a:lnTo>
                  <a:pt x="1344" y="1412"/>
                </a:lnTo>
                <a:lnTo>
                  <a:pt x="1337" y="1419"/>
                </a:lnTo>
                <a:lnTo>
                  <a:pt x="1330" y="1419"/>
                </a:lnTo>
                <a:lnTo>
                  <a:pt x="1323" y="1426"/>
                </a:lnTo>
                <a:lnTo>
                  <a:pt x="1316" y="1433"/>
                </a:lnTo>
                <a:lnTo>
                  <a:pt x="1310" y="1433"/>
                </a:lnTo>
                <a:lnTo>
                  <a:pt x="1303" y="1439"/>
                </a:lnTo>
                <a:lnTo>
                  <a:pt x="1296" y="1439"/>
                </a:lnTo>
                <a:lnTo>
                  <a:pt x="1289" y="1439"/>
                </a:lnTo>
                <a:lnTo>
                  <a:pt x="1282" y="1446"/>
                </a:lnTo>
                <a:lnTo>
                  <a:pt x="1275" y="1446"/>
                </a:lnTo>
                <a:lnTo>
                  <a:pt x="1268" y="1446"/>
                </a:lnTo>
                <a:lnTo>
                  <a:pt x="1261" y="1453"/>
                </a:lnTo>
                <a:lnTo>
                  <a:pt x="1254" y="1453"/>
                </a:lnTo>
                <a:lnTo>
                  <a:pt x="1248" y="1460"/>
                </a:lnTo>
                <a:lnTo>
                  <a:pt x="1241" y="1460"/>
                </a:lnTo>
                <a:lnTo>
                  <a:pt x="1234" y="1467"/>
                </a:lnTo>
                <a:lnTo>
                  <a:pt x="1227" y="1467"/>
                </a:lnTo>
                <a:lnTo>
                  <a:pt x="1220" y="1460"/>
                </a:lnTo>
                <a:lnTo>
                  <a:pt x="1213" y="1460"/>
                </a:lnTo>
                <a:lnTo>
                  <a:pt x="1206" y="1453"/>
                </a:lnTo>
                <a:lnTo>
                  <a:pt x="1199" y="1446"/>
                </a:lnTo>
                <a:lnTo>
                  <a:pt x="1192" y="1446"/>
                </a:lnTo>
                <a:lnTo>
                  <a:pt x="1185" y="1439"/>
                </a:lnTo>
                <a:lnTo>
                  <a:pt x="1179" y="1439"/>
                </a:lnTo>
                <a:lnTo>
                  <a:pt x="1172" y="1439"/>
                </a:lnTo>
                <a:lnTo>
                  <a:pt x="1165" y="1433"/>
                </a:lnTo>
                <a:lnTo>
                  <a:pt x="1158" y="1426"/>
                </a:lnTo>
                <a:lnTo>
                  <a:pt x="1158" y="1419"/>
                </a:lnTo>
                <a:lnTo>
                  <a:pt x="1151" y="1412"/>
                </a:lnTo>
                <a:lnTo>
                  <a:pt x="1151" y="1398"/>
                </a:lnTo>
                <a:lnTo>
                  <a:pt x="1158" y="1391"/>
                </a:lnTo>
                <a:lnTo>
                  <a:pt x="1158" y="1384"/>
                </a:lnTo>
                <a:lnTo>
                  <a:pt x="1158" y="1371"/>
                </a:lnTo>
                <a:lnTo>
                  <a:pt x="1151" y="1364"/>
                </a:lnTo>
                <a:lnTo>
                  <a:pt x="1144" y="1357"/>
                </a:lnTo>
                <a:lnTo>
                  <a:pt x="1137" y="1357"/>
                </a:lnTo>
                <a:lnTo>
                  <a:pt x="1130" y="1350"/>
                </a:lnTo>
                <a:lnTo>
                  <a:pt x="1123" y="1350"/>
                </a:lnTo>
                <a:lnTo>
                  <a:pt x="1117" y="1350"/>
                </a:lnTo>
                <a:lnTo>
                  <a:pt x="1110" y="1350"/>
                </a:lnTo>
                <a:lnTo>
                  <a:pt x="1103" y="1350"/>
                </a:lnTo>
                <a:lnTo>
                  <a:pt x="1096" y="1350"/>
                </a:lnTo>
                <a:lnTo>
                  <a:pt x="1089" y="1350"/>
                </a:lnTo>
                <a:lnTo>
                  <a:pt x="1082" y="1343"/>
                </a:lnTo>
                <a:lnTo>
                  <a:pt x="1075" y="1336"/>
                </a:lnTo>
                <a:lnTo>
                  <a:pt x="1068" y="1322"/>
                </a:lnTo>
                <a:lnTo>
                  <a:pt x="1068" y="1315"/>
                </a:lnTo>
                <a:lnTo>
                  <a:pt x="1068" y="1315"/>
                </a:lnTo>
                <a:lnTo>
                  <a:pt x="1068" y="1322"/>
                </a:lnTo>
                <a:lnTo>
                  <a:pt x="1068" y="1336"/>
                </a:lnTo>
                <a:lnTo>
                  <a:pt x="1068" y="1350"/>
                </a:lnTo>
                <a:lnTo>
                  <a:pt x="1061" y="1357"/>
                </a:lnTo>
                <a:lnTo>
                  <a:pt x="1054" y="1364"/>
                </a:lnTo>
                <a:lnTo>
                  <a:pt x="1048" y="1364"/>
                </a:lnTo>
                <a:lnTo>
                  <a:pt x="1041" y="1371"/>
                </a:lnTo>
                <a:lnTo>
                  <a:pt x="1034" y="1371"/>
                </a:lnTo>
                <a:lnTo>
                  <a:pt x="1027" y="1371"/>
                </a:lnTo>
                <a:lnTo>
                  <a:pt x="1020" y="1371"/>
                </a:lnTo>
                <a:lnTo>
                  <a:pt x="1013" y="1377"/>
                </a:lnTo>
                <a:lnTo>
                  <a:pt x="1006" y="1384"/>
                </a:lnTo>
                <a:lnTo>
                  <a:pt x="999" y="1391"/>
                </a:lnTo>
                <a:lnTo>
                  <a:pt x="992" y="1391"/>
                </a:lnTo>
                <a:lnTo>
                  <a:pt x="986" y="1398"/>
                </a:lnTo>
                <a:lnTo>
                  <a:pt x="979" y="1398"/>
                </a:lnTo>
                <a:lnTo>
                  <a:pt x="972" y="1398"/>
                </a:lnTo>
                <a:lnTo>
                  <a:pt x="965" y="1391"/>
                </a:lnTo>
                <a:lnTo>
                  <a:pt x="958" y="1384"/>
                </a:lnTo>
                <a:lnTo>
                  <a:pt x="958" y="1377"/>
                </a:lnTo>
                <a:lnTo>
                  <a:pt x="951" y="1371"/>
                </a:lnTo>
                <a:lnTo>
                  <a:pt x="944" y="1364"/>
                </a:lnTo>
                <a:lnTo>
                  <a:pt x="937" y="1364"/>
                </a:lnTo>
                <a:lnTo>
                  <a:pt x="930" y="1357"/>
                </a:lnTo>
                <a:lnTo>
                  <a:pt x="923" y="1357"/>
                </a:lnTo>
                <a:lnTo>
                  <a:pt x="917" y="1357"/>
                </a:lnTo>
                <a:lnTo>
                  <a:pt x="910" y="1350"/>
                </a:lnTo>
                <a:lnTo>
                  <a:pt x="910" y="1343"/>
                </a:lnTo>
                <a:lnTo>
                  <a:pt x="903" y="1336"/>
                </a:lnTo>
                <a:lnTo>
                  <a:pt x="896" y="1329"/>
                </a:lnTo>
                <a:lnTo>
                  <a:pt x="889" y="1329"/>
                </a:lnTo>
                <a:lnTo>
                  <a:pt x="882" y="1322"/>
                </a:lnTo>
                <a:lnTo>
                  <a:pt x="875" y="1315"/>
                </a:lnTo>
                <a:lnTo>
                  <a:pt x="868" y="1309"/>
                </a:lnTo>
                <a:lnTo>
                  <a:pt x="875" y="1309"/>
                </a:lnTo>
                <a:lnTo>
                  <a:pt x="882" y="1302"/>
                </a:lnTo>
                <a:lnTo>
                  <a:pt x="889" y="1295"/>
                </a:lnTo>
                <a:lnTo>
                  <a:pt x="896" y="1295"/>
                </a:lnTo>
                <a:lnTo>
                  <a:pt x="903" y="1288"/>
                </a:lnTo>
                <a:lnTo>
                  <a:pt x="910" y="1288"/>
                </a:lnTo>
                <a:lnTo>
                  <a:pt x="917" y="1281"/>
                </a:lnTo>
                <a:lnTo>
                  <a:pt x="923" y="1281"/>
                </a:lnTo>
                <a:lnTo>
                  <a:pt x="930" y="1274"/>
                </a:lnTo>
                <a:lnTo>
                  <a:pt x="937" y="1267"/>
                </a:lnTo>
                <a:lnTo>
                  <a:pt x="944" y="1260"/>
                </a:lnTo>
                <a:lnTo>
                  <a:pt x="951" y="1260"/>
                </a:lnTo>
                <a:lnTo>
                  <a:pt x="958" y="1253"/>
                </a:lnTo>
                <a:lnTo>
                  <a:pt x="965" y="1253"/>
                </a:lnTo>
                <a:lnTo>
                  <a:pt x="972" y="1247"/>
                </a:lnTo>
                <a:lnTo>
                  <a:pt x="972" y="1247"/>
                </a:lnTo>
                <a:lnTo>
                  <a:pt x="979" y="1240"/>
                </a:lnTo>
                <a:lnTo>
                  <a:pt x="986" y="1233"/>
                </a:lnTo>
                <a:lnTo>
                  <a:pt x="992" y="1226"/>
                </a:lnTo>
                <a:lnTo>
                  <a:pt x="999" y="1226"/>
                </a:lnTo>
                <a:lnTo>
                  <a:pt x="1006" y="1226"/>
                </a:lnTo>
                <a:lnTo>
                  <a:pt x="1013" y="1219"/>
                </a:lnTo>
                <a:lnTo>
                  <a:pt x="1020" y="1219"/>
                </a:lnTo>
                <a:lnTo>
                  <a:pt x="1027" y="1219"/>
                </a:lnTo>
                <a:lnTo>
                  <a:pt x="1034" y="1212"/>
                </a:lnTo>
                <a:lnTo>
                  <a:pt x="1041" y="1205"/>
                </a:lnTo>
                <a:lnTo>
                  <a:pt x="1048" y="1198"/>
                </a:lnTo>
                <a:lnTo>
                  <a:pt x="1054" y="1198"/>
                </a:lnTo>
                <a:lnTo>
                  <a:pt x="1061" y="1191"/>
                </a:lnTo>
                <a:lnTo>
                  <a:pt x="1068" y="1191"/>
                </a:lnTo>
                <a:lnTo>
                  <a:pt x="1075" y="1185"/>
                </a:lnTo>
                <a:lnTo>
                  <a:pt x="1082" y="1185"/>
                </a:lnTo>
                <a:lnTo>
                  <a:pt x="1089" y="1178"/>
                </a:lnTo>
                <a:lnTo>
                  <a:pt x="1089" y="1171"/>
                </a:lnTo>
                <a:lnTo>
                  <a:pt x="1096" y="1171"/>
                </a:lnTo>
                <a:lnTo>
                  <a:pt x="1103" y="1164"/>
                </a:lnTo>
                <a:lnTo>
                  <a:pt x="1110" y="1157"/>
                </a:lnTo>
                <a:lnTo>
                  <a:pt x="1117" y="1157"/>
                </a:lnTo>
                <a:lnTo>
                  <a:pt x="1123" y="1150"/>
                </a:lnTo>
                <a:lnTo>
                  <a:pt x="1130" y="1143"/>
                </a:lnTo>
                <a:lnTo>
                  <a:pt x="1137" y="1136"/>
                </a:lnTo>
                <a:lnTo>
                  <a:pt x="1144" y="1136"/>
                </a:lnTo>
                <a:lnTo>
                  <a:pt x="1151" y="1129"/>
                </a:lnTo>
                <a:lnTo>
                  <a:pt x="1158" y="1123"/>
                </a:lnTo>
                <a:lnTo>
                  <a:pt x="1165" y="1123"/>
                </a:lnTo>
                <a:lnTo>
                  <a:pt x="1172" y="1123"/>
                </a:lnTo>
                <a:lnTo>
                  <a:pt x="1179" y="1123"/>
                </a:lnTo>
                <a:lnTo>
                  <a:pt x="1185" y="1123"/>
                </a:lnTo>
                <a:lnTo>
                  <a:pt x="1192" y="1123"/>
                </a:lnTo>
                <a:lnTo>
                  <a:pt x="1199" y="1123"/>
                </a:lnTo>
                <a:lnTo>
                  <a:pt x="1206" y="1123"/>
                </a:lnTo>
                <a:lnTo>
                  <a:pt x="1213" y="1123"/>
                </a:lnTo>
                <a:lnTo>
                  <a:pt x="1220" y="1123"/>
                </a:lnTo>
                <a:lnTo>
                  <a:pt x="1227" y="1123"/>
                </a:lnTo>
                <a:lnTo>
                  <a:pt x="1234" y="1123"/>
                </a:lnTo>
                <a:lnTo>
                  <a:pt x="1241" y="1123"/>
                </a:lnTo>
                <a:lnTo>
                  <a:pt x="1248" y="1123"/>
                </a:lnTo>
                <a:lnTo>
                  <a:pt x="1254" y="1123"/>
                </a:lnTo>
                <a:lnTo>
                  <a:pt x="1261" y="1123"/>
                </a:lnTo>
                <a:lnTo>
                  <a:pt x="1275" y="1129"/>
                </a:lnTo>
                <a:lnTo>
                  <a:pt x="1282" y="1129"/>
                </a:lnTo>
                <a:lnTo>
                  <a:pt x="1289" y="1129"/>
                </a:lnTo>
                <a:lnTo>
                  <a:pt x="1289" y="1136"/>
                </a:lnTo>
                <a:lnTo>
                  <a:pt x="1296" y="1143"/>
                </a:lnTo>
                <a:lnTo>
                  <a:pt x="1296" y="1150"/>
                </a:lnTo>
                <a:lnTo>
                  <a:pt x="1303" y="1164"/>
                </a:lnTo>
                <a:lnTo>
                  <a:pt x="1303" y="1171"/>
                </a:lnTo>
                <a:lnTo>
                  <a:pt x="1303" y="1178"/>
                </a:lnTo>
                <a:lnTo>
                  <a:pt x="1303" y="1191"/>
                </a:lnTo>
                <a:lnTo>
                  <a:pt x="1303" y="1198"/>
                </a:lnTo>
                <a:lnTo>
                  <a:pt x="1310" y="1205"/>
                </a:lnTo>
                <a:lnTo>
                  <a:pt x="1316" y="1212"/>
                </a:lnTo>
                <a:lnTo>
                  <a:pt x="1323" y="1219"/>
                </a:lnTo>
                <a:lnTo>
                  <a:pt x="1330" y="1219"/>
                </a:lnTo>
                <a:lnTo>
                  <a:pt x="1337" y="1219"/>
                </a:lnTo>
                <a:lnTo>
                  <a:pt x="1344" y="1219"/>
                </a:lnTo>
                <a:lnTo>
                  <a:pt x="1351" y="1219"/>
                </a:lnTo>
                <a:lnTo>
                  <a:pt x="1358" y="1219"/>
                </a:lnTo>
                <a:lnTo>
                  <a:pt x="1365" y="1219"/>
                </a:lnTo>
                <a:lnTo>
                  <a:pt x="1372" y="1226"/>
                </a:lnTo>
                <a:lnTo>
                  <a:pt x="1379" y="1226"/>
                </a:lnTo>
                <a:lnTo>
                  <a:pt x="1385" y="1226"/>
                </a:lnTo>
                <a:lnTo>
                  <a:pt x="1392" y="1226"/>
                </a:lnTo>
                <a:lnTo>
                  <a:pt x="1399" y="1226"/>
                </a:lnTo>
                <a:lnTo>
                  <a:pt x="1413" y="1226"/>
                </a:lnTo>
                <a:lnTo>
                  <a:pt x="1420" y="1226"/>
                </a:lnTo>
                <a:lnTo>
                  <a:pt x="1427" y="1226"/>
                </a:lnTo>
                <a:lnTo>
                  <a:pt x="1434" y="1219"/>
                </a:lnTo>
                <a:lnTo>
                  <a:pt x="1434" y="1212"/>
                </a:lnTo>
                <a:lnTo>
                  <a:pt x="1441" y="1205"/>
                </a:lnTo>
                <a:lnTo>
                  <a:pt x="1441" y="1198"/>
                </a:lnTo>
                <a:lnTo>
                  <a:pt x="1441" y="1185"/>
                </a:lnTo>
                <a:lnTo>
                  <a:pt x="1441" y="1178"/>
                </a:lnTo>
                <a:lnTo>
                  <a:pt x="1441" y="1171"/>
                </a:lnTo>
                <a:lnTo>
                  <a:pt x="1441" y="1157"/>
                </a:lnTo>
                <a:lnTo>
                  <a:pt x="1441" y="1150"/>
                </a:lnTo>
                <a:lnTo>
                  <a:pt x="1447" y="1143"/>
                </a:lnTo>
                <a:lnTo>
                  <a:pt x="1447" y="1136"/>
                </a:lnTo>
                <a:lnTo>
                  <a:pt x="1454" y="1129"/>
                </a:lnTo>
                <a:lnTo>
                  <a:pt x="1468" y="1123"/>
                </a:lnTo>
                <a:lnTo>
                  <a:pt x="1475" y="1123"/>
                </a:lnTo>
                <a:lnTo>
                  <a:pt x="1475" y="1129"/>
                </a:lnTo>
                <a:lnTo>
                  <a:pt x="1475" y="1136"/>
                </a:lnTo>
                <a:lnTo>
                  <a:pt x="1468" y="1143"/>
                </a:lnTo>
                <a:lnTo>
                  <a:pt x="1454" y="1150"/>
                </a:lnTo>
                <a:lnTo>
                  <a:pt x="1447" y="1150"/>
                </a:lnTo>
                <a:lnTo>
                  <a:pt x="1447" y="1157"/>
                </a:lnTo>
                <a:lnTo>
                  <a:pt x="1447" y="1164"/>
                </a:lnTo>
                <a:lnTo>
                  <a:pt x="1447" y="1171"/>
                </a:lnTo>
                <a:lnTo>
                  <a:pt x="1454" y="1178"/>
                </a:lnTo>
                <a:lnTo>
                  <a:pt x="1461" y="1191"/>
                </a:lnTo>
                <a:lnTo>
                  <a:pt x="1461" y="1198"/>
                </a:lnTo>
                <a:lnTo>
                  <a:pt x="1461" y="1205"/>
                </a:lnTo>
                <a:lnTo>
                  <a:pt x="1461" y="1219"/>
                </a:lnTo>
                <a:lnTo>
                  <a:pt x="1468" y="1226"/>
                </a:lnTo>
                <a:lnTo>
                  <a:pt x="1468" y="1233"/>
                </a:lnTo>
                <a:lnTo>
                  <a:pt x="1475" y="1240"/>
                </a:lnTo>
                <a:lnTo>
                  <a:pt x="1475" y="1247"/>
                </a:lnTo>
                <a:lnTo>
                  <a:pt x="1475" y="1260"/>
                </a:lnTo>
                <a:lnTo>
                  <a:pt x="1482" y="1267"/>
                </a:lnTo>
                <a:lnTo>
                  <a:pt x="1482" y="1274"/>
                </a:lnTo>
                <a:lnTo>
                  <a:pt x="1482" y="1288"/>
                </a:lnTo>
                <a:lnTo>
                  <a:pt x="1482" y="1295"/>
                </a:lnTo>
                <a:lnTo>
                  <a:pt x="1475" y="1302"/>
                </a:lnTo>
                <a:lnTo>
                  <a:pt x="1475" y="1315"/>
                </a:lnTo>
                <a:lnTo>
                  <a:pt x="1475" y="1322"/>
                </a:lnTo>
                <a:lnTo>
                  <a:pt x="1475" y="1329"/>
                </a:lnTo>
                <a:lnTo>
                  <a:pt x="1475" y="1343"/>
                </a:lnTo>
                <a:lnTo>
                  <a:pt x="1475" y="1350"/>
                </a:lnTo>
                <a:lnTo>
                  <a:pt x="1482" y="1357"/>
                </a:lnTo>
                <a:lnTo>
                  <a:pt x="1482" y="1364"/>
                </a:lnTo>
                <a:lnTo>
                  <a:pt x="1489" y="1371"/>
                </a:lnTo>
                <a:lnTo>
                  <a:pt x="1496" y="1377"/>
                </a:lnTo>
                <a:lnTo>
                  <a:pt x="1503" y="1377"/>
                </a:lnTo>
                <a:lnTo>
                  <a:pt x="1510" y="1384"/>
                </a:lnTo>
                <a:lnTo>
                  <a:pt x="1516" y="1384"/>
                </a:lnTo>
                <a:lnTo>
                  <a:pt x="1523" y="1391"/>
                </a:lnTo>
                <a:lnTo>
                  <a:pt x="1530" y="1391"/>
                </a:lnTo>
                <a:lnTo>
                  <a:pt x="1537" y="1398"/>
                </a:lnTo>
                <a:lnTo>
                  <a:pt x="1537" y="1412"/>
                </a:lnTo>
                <a:lnTo>
                  <a:pt x="1544" y="1419"/>
                </a:lnTo>
                <a:lnTo>
                  <a:pt x="1544" y="1426"/>
                </a:lnTo>
                <a:lnTo>
                  <a:pt x="1551" y="1433"/>
                </a:lnTo>
                <a:lnTo>
                  <a:pt x="1558" y="1439"/>
                </a:lnTo>
                <a:lnTo>
                  <a:pt x="1558" y="1446"/>
                </a:lnTo>
                <a:lnTo>
                  <a:pt x="1565" y="1453"/>
                </a:lnTo>
                <a:lnTo>
                  <a:pt x="1565" y="1467"/>
                </a:lnTo>
                <a:lnTo>
                  <a:pt x="1572" y="1474"/>
                </a:lnTo>
                <a:lnTo>
                  <a:pt x="1572" y="1474"/>
                </a:lnTo>
                <a:lnTo>
                  <a:pt x="1578" y="1481"/>
                </a:lnTo>
                <a:lnTo>
                  <a:pt x="1592" y="1481"/>
                </a:lnTo>
                <a:lnTo>
                  <a:pt x="1599" y="1474"/>
                </a:lnTo>
                <a:lnTo>
                  <a:pt x="1606" y="1474"/>
                </a:lnTo>
                <a:lnTo>
                  <a:pt x="1613" y="1481"/>
                </a:lnTo>
                <a:lnTo>
                  <a:pt x="1620" y="1481"/>
                </a:lnTo>
                <a:lnTo>
                  <a:pt x="1627" y="1481"/>
                </a:lnTo>
                <a:lnTo>
                  <a:pt x="1634" y="1481"/>
                </a:lnTo>
                <a:lnTo>
                  <a:pt x="1641" y="1488"/>
                </a:lnTo>
                <a:lnTo>
                  <a:pt x="1647" y="1488"/>
                </a:lnTo>
                <a:lnTo>
                  <a:pt x="1654" y="1488"/>
                </a:lnTo>
                <a:lnTo>
                  <a:pt x="1661" y="1488"/>
                </a:lnTo>
                <a:lnTo>
                  <a:pt x="1668" y="1488"/>
                </a:lnTo>
                <a:lnTo>
                  <a:pt x="1675" y="1495"/>
                </a:lnTo>
                <a:lnTo>
                  <a:pt x="1689" y="1495"/>
                </a:lnTo>
                <a:lnTo>
                  <a:pt x="1696" y="1495"/>
                </a:lnTo>
                <a:lnTo>
                  <a:pt x="1703" y="1495"/>
                </a:lnTo>
                <a:lnTo>
                  <a:pt x="1709" y="1495"/>
                </a:lnTo>
                <a:lnTo>
                  <a:pt x="1716" y="1495"/>
                </a:lnTo>
                <a:lnTo>
                  <a:pt x="1723" y="1501"/>
                </a:lnTo>
                <a:lnTo>
                  <a:pt x="1730" y="1501"/>
                </a:lnTo>
                <a:lnTo>
                  <a:pt x="1737" y="1501"/>
                </a:lnTo>
                <a:lnTo>
                  <a:pt x="1744" y="1501"/>
                </a:lnTo>
                <a:lnTo>
                  <a:pt x="1751" y="1501"/>
                </a:lnTo>
                <a:lnTo>
                  <a:pt x="1758" y="1501"/>
                </a:lnTo>
                <a:lnTo>
                  <a:pt x="1765" y="1501"/>
                </a:lnTo>
                <a:lnTo>
                  <a:pt x="1772" y="1501"/>
                </a:lnTo>
                <a:lnTo>
                  <a:pt x="1778" y="1501"/>
                </a:lnTo>
                <a:lnTo>
                  <a:pt x="1785" y="1501"/>
                </a:lnTo>
                <a:lnTo>
                  <a:pt x="1792" y="1495"/>
                </a:lnTo>
                <a:lnTo>
                  <a:pt x="1806" y="1495"/>
                </a:lnTo>
                <a:lnTo>
                  <a:pt x="1813" y="1495"/>
                </a:lnTo>
                <a:lnTo>
                  <a:pt x="1820" y="1495"/>
                </a:lnTo>
                <a:lnTo>
                  <a:pt x="1813" y="1501"/>
                </a:lnTo>
                <a:lnTo>
                  <a:pt x="1813" y="1508"/>
                </a:lnTo>
                <a:lnTo>
                  <a:pt x="1806" y="1515"/>
                </a:lnTo>
                <a:lnTo>
                  <a:pt x="1799" y="1522"/>
                </a:lnTo>
                <a:lnTo>
                  <a:pt x="1799" y="1529"/>
                </a:lnTo>
                <a:lnTo>
                  <a:pt x="1792" y="1536"/>
                </a:lnTo>
                <a:lnTo>
                  <a:pt x="1785" y="1543"/>
                </a:lnTo>
                <a:lnTo>
                  <a:pt x="1778" y="1550"/>
                </a:lnTo>
                <a:lnTo>
                  <a:pt x="1778" y="1557"/>
                </a:lnTo>
                <a:lnTo>
                  <a:pt x="1772" y="1563"/>
                </a:lnTo>
                <a:lnTo>
                  <a:pt x="1765" y="1570"/>
                </a:lnTo>
                <a:lnTo>
                  <a:pt x="1758" y="1577"/>
                </a:lnTo>
                <a:lnTo>
                  <a:pt x="1758" y="1584"/>
                </a:lnTo>
                <a:lnTo>
                  <a:pt x="1751" y="1591"/>
                </a:lnTo>
                <a:lnTo>
                  <a:pt x="1744" y="1598"/>
                </a:lnTo>
                <a:lnTo>
                  <a:pt x="1744" y="1605"/>
                </a:lnTo>
                <a:lnTo>
                  <a:pt x="1737" y="1612"/>
                </a:lnTo>
                <a:lnTo>
                  <a:pt x="1730" y="1619"/>
                </a:lnTo>
                <a:lnTo>
                  <a:pt x="1723" y="1625"/>
                </a:lnTo>
                <a:lnTo>
                  <a:pt x="1723" y="1632"/>
                </a:lnTo>
                <a:lnTo>
                  <a:pt x="1716" y="1639"/>
                </a:lnTo>
                <a:lnTo>
                  <a:pt x="1709" y="1646"/>
                </a:lnTo>
                <a:lnTo>
                  <a:pt x="1709" y="1653"/>
                </a:lnTo>
                <a:lnTo>
                  <a:pt x="1703" y="1660"/>
                </a:lnTo>
                <a:lnTo>
                  <a:pt x="1696" y="1660"/>
                </a:lnTo>
                <a:lnTo>
                  <a:pt x="1689" y="1667"/>
                </a:lnTo>
                <a:lnTo>
                  <a:pt x="1682" y="1667"/>
                </a:lnTo>
                <a:lnTo>
                  <a:pt x="1675" y="1674"/>
                </a:lnTo>
                <a:lnTo>
                  <a:pt x="1668" y="1681"/>
                </a:lnTo>
                <a:lnTo>
                  <a:pt x="1661" y="1687"/>
                </a:lnTo>
                <a:lnTo>
                  <a:pt x="1661" y="1694"/>
                </a:lnTo>
                <a:lnTo>
                  <a:pt x="1654" y="1701"/>
                </a:lnTo>
                <a:lnTo>
                  <a:pt x="1647" y="1708"/>
                </a:lnTo>
                <a:lnTo>
                  <a:pt x="1647" y="1715"/>
                </a:lnTo>
                <a:lnTo>
                  <a:pt x="1647" y="1722"/>
                </a:lnTo>
                <a:lnTo>
                  <a:pt x="1654" y="1729"/>
                </a:lnTo>
                <a:lnTo>
                  <a:pt x="1661" y="1736"/>
                </a:lnTo>
                <a:lnTo>
                  <a:pt x="1668" y="1743"/>
                </a:lnTo>
                <a:lnTo>
                  <a:pt x="1675" y="1749"/>
                </a:lnTo>
                <a:lnTo>
                  <a:pt x="1675" y="1749"/>
                </a:lnTo>
                <a:lnTo>
                  <a:pt x="1682" y="1756"/>
                </a:lnTo>
                <a:lnTo>
                  <a:pt x="1689" y="1763"/>
                </a:lnTo>
                <a:lnTo>
                  <a:pt x="1696" y="1770"/>
                </a:lnTo>
                <a:lnTo>
                  <a:pt x="1703" y="1770"/>
                </a:lnTo>
                <a:lnTo>
                  <a:pt x="1709" y="1777"/>
                </a:lnTo>
                <a:lnTo>
                  <a:pt x="1709" y="1784"/>
                </a:lnTo>
                <a:lnTo>
                  <a:pt x="1716" y="1798"/>
                </a:lnTo>
                <a:lnTo>
                  <a:pt x="1716" y="1805"/>
                </a:lnTo>
                <a:lnTo>
                  <a:pt x="1716" y="1811"/>
                </a:lnTo>
                <a:lnTo>
                  <a:pt x="1716" y="1825"/>
                </a:lnTo>
                <a:lnTo>
                  <a:pt x="1716" y="1832"/>
                </a:lnTo>
                <a:lnTo>
                  <a:pt x="1723" y="1839"/>
                </a:lnTo>
                <a:lnTo>
                  <a:pt x="1723" y="1846"/>
                </a:lnTo>
                <a:lnTo>
                  <a:pt x="1730" y="1839"/>
                </a:lnTo>
                <a:lnTo>
                  <a:pt x="1737" y="1832"/>
                </a:lnTo>
                <a:lnTo>
                  <a:pt x="1737" y="1825"/>
                </a:lnTo>
                <a:lnTo>
                  <a:pt x="1744" y="1811"/>
                </a:lnTo>
                <a:lnTo>
                  <a:pt x="1751" y="1811"/>
                </a:lnTo>
                <a:lnTo>
                  <a:pt x="1758" y="1805"/>
                </a:lnTo>
                <a:lnTo>
                  <a:pt x="1765" y="1798"/>
                </a:lnTo>
                <a:lnTo>
                  <a:pt x="1772" y="1798"/>
                </a:lnTo>
                <a:lnTo>
                  <a:pt x="1778" y="1798"/>
                </a:lnTo>
                <a:lnTo>
                  <a:pt x="1785" y="1798"/>
                </a:lnTo>
                <a:lnTo>
                  <a:pt x="1792" y="1798"/>
                </a:lnTo>
                <a:lnTo>
                  <a:pt x="1799" y="1798"/>
                </a:lnTo>
                <a:lnTo>
                  <a:pt x="1806" y="1798"/>
                </a:lnTo>
                <a:lnTo>
                  <a:pt x="1813" y="1798"/>
                </a:lnTo>
                <a:lnTo>
                  <a:pt x="1820" y="1798"/>
                </a:lnTo>
                <a:lnTo>
                  <a:pt x="1827" y="1798"/>
                </a:lnTo>
                <a:lnTo>
                  <a:pt x="1834" y="1798"/>
                </a:lnTo>
                <a:lnTo>
                  <a:pt x="1840" y="1798"/>
                </a:lnTo>
                <a:lnTo>
                  <a:pt x="1847" y="1798"/>
                </a:lnTo>
                <a:lnTo>
                  <a:pt x="1854" y="1805"/>
                </a:lnTo>
                <a:lnTo>
                  <a:pt x="1861" y="1805"/>
                </a:lnTo>
                <a:lnTo>
                  <a:pt x="1868" y="1805"/>
                </a:lnTo>
                <a:lnTo>
                  <a:pt x="1875" y="1811"/>
                </a:lnTo>
                <a:lnTo>
                  <a:pt x="1882" y="1811"/>
                </a:lnTo>
                <a:lnTo>
                  <a:pt x="1889" y="1818"/>
                </a:lnTo>
                <a:lnTo>
                  <a:pt x="1896" y="1825"/>
                </a:lnTo>
                <a:lnTo>
                  <a:pt x="1896" y="1832"/>
                </a:lnTo>
                <a:lnTo>
                  <a:pt x="1903" y="1839"/>
                </a:lnTo>
                <a:lnTo>
                  <a:pt x="1903" y="1853"/>
                </a:lnTo>
                <a:lnTo>
                  <a:pt x="1909" y="1860"/>
                </a:lnTo>
                <a:lnTo>
                  <a:pt x="1916" y="1867"/>
                </a:lnTo>
                <a:lnTo>
                  <a:pt x="1916" y="1873"/>
                </a:lnTo>
                <a:lnTo>
                  <a:pt x="1923" y="1880"/>
                </a:lnTo>
                <a:lnTo>
                  <a:pt x="1930" y="1887"/>
                </a:lnTo>
                <a:lnTo>
                  <a:pt x="1930" y="1894"/>
                </a:lnTo>
                <a:lnTo>
                  <a:pt x="1937" y="1901"/>
                </a:lnTo>
                <a:lnTo>
                  <a:pt x="1937" y="1908"/>
                </a:lnTo>
                <a:lnTo>
                  <a:pt x="1944" y="1915"/>
                </a:lnTo>
                <a:lnTo>
                  <a:pt x="1951" y="1929"/>
                </a:lnTo>
                <a:lnTo>
                  <a:pt x="1951" y="1935"/>
                </a:lnTo>
                <a:lnTo>
                  <a:pt x="1958" y="1942"/>
                </a:lnTo>
                <a:lnTo>
                  <a:pt x="1965" y="1949"/>
                </a:lnTo>
                <a:lnTo>
                  <a:pt x="1965" y="1956"/>
                </a:lnTo>
                <a:lnTo>
                  <a:pt x="1971" y="1963"/>
                </a:lnTo>
                <a:lnTo>
                  <a:pt x="1971" y="1970"/>
                </a:lnTo>
                <a:lnTo>
                  <a:pt x="1978" y="1970"/>
                </a:lnTo>
                <a:lnTo>
                  <a:pt x="1978" y="1935"/>
                </a:lnTo>
                <a:lnTo>
                  <a:pt x="2006" y="1908"/>
                </a:lnTo>
                <a:lnTo>
                  <a:pt x="2040" y="1873"/>
                </a:lnTo>
                <a:lnTo>
                  <a:pt x="2040" y="1846"/>
                </a:lnTo>
                <a:lnTo>
                  <a:pt x="2068" y="1811"/>
                </a:lnTo>
                <a:lnTo>
                  <a:pt x="2102" y="1784"/>
                </a:lnTo>
                <a:lnTo>
                  <a:pt x="2102" y="1749"/>
                </a:lnTo>
                <a:lnTo>
                  <a:pt x="2102" y="1722"/>
                </a:lnTo>
                <a:lnTo>
                  <a:pt x="2130" y="1687"/>
                </a:lnTo>
                <a:lnTo>
                  <a:pt x="2130" y="1653"/>
                </a:lnTo>
                <a:lnTo>
                  <a:pt x="2130" y="1625"/>
                </a:lnTo>
                <a:lnTo>
                  <a:pt x="2165" y="1591"/>
                </a:lnTo>
                <a:lnTo>
                  <a:pt x="2165" y="1563"/>
                </a:lnTo>
                <a:lnTo>
                  <a:pt x="2165" y="1529"/>
                </a:lnTo>
                <a:lnTo>
                  <a:pt x="2165" y="1501"/>
                </a:lnTo>
                <a:lnTo>
                  <a:pt x="2192" y="1467"/>
                </a:lnTo>
                <a:lnTo>
                  <a:pt x="2192" y="1460"/>
                </a:lnTo>
                <a:lnTo>
                  <a:pt x="2192" y="1446"/>
                </a:lnTo>
                <a:lnTo>
                  <a:pt x="2192" y="1439"/>
                </a:lnTo>
                <a:lnTo>
                  <a:pt x="2192" y="1433"/>
                </a:lnTo>
                <a:lnTo>
                  <a:pt x="2192" y="1419"/>
                </a:lnTo>
                <a:lnTo>
                  <a:pt x="2192" y="1412"/>
                </a:lnTo>
                <a:lnTo>
                  <a:pt x="2192" y="1398"/>
                </a:lnTo>
                <a:lnTo>
                  <a:pt x="2192" y="1391"/>
                </a:lnTo>
                <a:lnTo>
                  <a:pt x="2192" y="1384"/>
                </a:lnTo>
                <a:lnTo>
                  <a:pt x="2192" y="1371"/>
                </a:lnTo>
                <a:lnTo>
                  <a:pt x="2192" y="1364"/>
                </a:lnTo>
                <a:lnTo>
                  <a:pt x="2192" y="1357"/>
                </a:lnTo>
                <a:lnTo>
                  <a:pt x="2192" y="1343"/>
                </a:lnTo>
                <a:lnTo>
                  <a:pt x="2192" y="1336"/>
                </a:lnTo>
                <a:lnTo>
                  <a:pt x="2192" y="1322"/>
                </a:lnTo>
                <a:lnTo>
                  <a:pt x="2192" y="1315"/>
                </a:lnTo>
                <a:lnTo>
                  <a:pt x="2192" y="1309"/>
                </a:lnTo>
                <a:lnTo>
                  <a:pt x="2192" y="1295"/>
                </a:lnTo>
                <a:lnTo>
                  <a:pt x="2192" y="1288"/>
                </a:lnTo>
                <a:lnTo>
                  <a:pt x="2192" y="1274"/>
                </a:lnTo>
                <a:lnTo>
                  <a:pt x="2192" y="1267"/>
                </a:lnTo>
                <a:lnTo>
                  <a:pt x="2192" y="1260"/>
                </a:lnTo>
                <a:lnTo>
                  <a:pt x="2192" y="1247"/>
                </a:lnTo>
                <a:lnTo>
                  <a:pt x="2192" y="1240"/>
                </a:lnTo>
                <a:lnTo>
                  <a:pt x="2192" y="1226"/>
                </a:lnTo>
                <a:lnTo>
                  <a:pt x="2192" y="1219"/>
                </a:lnTo>
                <a:lnTo>
                  <a:pt x="2192" y="1212"/>
                </a:lnTo>
                <a:lnTo>
                  <a:pt x="2192" y="1198"/>
                </a:lnTo>
                <a:lnTo>
                  <a:pt x="2192" y="1191"/>
                </a:lnTo>
                <a:lnTo>
                  <a:pt x="2192" y="1178"/>
                </a:lnTo>
                <a:lnTo>
                  <a:pt x="2192" y="1171"/>
                </a:lnTo>
                <a:lnTo>
                  <a:pt x="2192" y="1164"/>
                </a:lnTo>
                <a:lnTo>
                  <a:pt x="2192" y="1150"/>
                </a:lnTo>
                <a:lnTo>
                  <a:pt x="2192" y="1143"/>
                </a:lnTo>
                <a:lnTo>
                  <a:pt x="2192" y="1129"/>
                </a:lnTo>
                <a:lnTo>
                  <a:pt x="2192" y="1123"/>
                </a:lnTo>
                <a:lnTo>
                  <a:pt x="2192" y="1116"/>
                </a:lnTo>
                <a:lnTo>
                  <a:pt x="2192" y="1102"/>
                </a:lnTo>
                <a:lnTo>
                  <a:pt x="2192" y="1095"/>
                </a:lnTo>
                <a:lnTo>
                  <a:pt x="2192" y="1088"/>
                </a:lnTo>
                <a:lnTo>
                  <a:pt x="2192" y="1074"/>
                </a:lnTo>
                <a:lnTo>
                  <a:pt x="2192" y="1067"/>
                </a:lnTo>
                <a:lnTo>
                  <a:pt x="2192" y="1054"/>
                </a:lnTo>
                <a:lnTo>
                  <a:pt x="2192" y="1047"/>
                </a:lnTo>
                <a:lnTo>
                  <a:pt x="2192" y="1040"/>
                </a:lnTo>
                <a:lnTo>
                  <a:pt x="2192" y="1026"/>
                </a:lnTo>
                <a:lnTo>
                  <a:pt x="2192" y="1019"/>
                </a:lnTo>
                <a:lnTo>
                  <a:pt x="2192" y="1005"/>
                </a:lnTo>
                <a:lnTo>
                  <a:pt x="2192" y="999"/>
                </a:lnTo>
                <a:lnTo>
                  <a:pt x="2192" y="992"/>
                </a:lnTo>
                <a:lnTo>
                  <a:pt x="2192" y="978"/>
                </a:lnTo>
                <a:lnTo>
                  <a:pt x="2192" y="971"/>
                </a:lnTo>
                <a:lnTo>
                  <a:pt x="2192" y="957"/>
                </a:lnTo>
                <a:lnTo>
                  <a:pt x="2192" y="950"/>
                </a:lnTo>
                <a:lnTo>
                  <a:pt x="2192" y="943"/>
                </a:lnTo>
                <a:lnTo>
                  <a:pt x="2192" y="930"/>
                </a:lnTo>
                <a:lnTo>
                  <a:pt x="2192" y="923"/>
                </a:lnTo>
                <a:lnTo>
                  <a:pt x="2192" y="909"/>
                </a:lnTo>
                <a:lnTo>
                  <a:pt x="2192" y="902"/>
                </a:lnTo>
                <a:lnTo>
                  <a:pt x="2192" y="895"/>
                </a:lnTo>
                <a:lnTo>
                  <a:pt x="2192" y="881"/>
                </a:lnTo>
                <a:lnTo>
                  <a:pt x="2192" y="875"/>
                </a:lnTo>
                <a:lnTo>
                  <a:pt x="2192" y="861"/>
                </a:lnTo>
                <a:lnTo>
                  <a:pt x="2192" y="854"/>
                </a:lnTo>
                <a:lnTo>
                  <a:pt x="2192" y="847"/>
                </a:lnTo>
                <a:lnTo>
                  <a:pt x="2192" y="833"/>
                </a:lnTo>
                <a:lnTo>
                  <a:pt x="2192" y="826"/>
                </a:lnTo>
                <a:lnTo>
                  <a:pt x="2192" y="819"/>
                </a:lnTo>
                <a:lnTo>
                  <a:pt x="2192" y="806"/>
                </a:lnTo>
                <a:lnTo>
                  <a:pt x="2192" y="799"/>
                </a:lnTo>
                <a:lnTo>
                  <a:pt x="2192" y="785"/>
                </a:lnTo>
                <a:lnTo>
                  <a:pt x="2192" y="778"/>
                </a:lnTo>
                <a:lnTo>
                  <a:pt x="2192" y="771"/>
                </a:lnTo>
                <a:lnTo>
                  <a:pt x="2192" y="758"/>
                </a:lnTo>
                <a:lnTo>
                  <a:pt x="2192" y="751"/>
                </a:lnTo>
                <a:lnTo>
                  <a:pt x="2192" y="737"/>
                </a:lnTo>
                <a:lnTo>
                  <a:pt x="2192" y="730"/>
                </a:lnTo>
                <a:lnTo>
                  <a:pt x="2192" y="723"/>
                </a:lnTo>
                <a:lnTo>
                  <a:pt x="2192" y="709"/>
                </a:lnTo>
                <a:lnTo>
                  <a:pt x="2192" y="702"/>
                </a:lnTo>
                <a:lnTo>
                  <a:pt x="2192" y="689"/>
                </a:lnTo>
                <a:lnTo>
                  <a:pt x="2192" y="682"/>
                </a:lnTo>
                <a:lnTo>
                  <a:pt x="2192" y="675"/>
                </a:lnTo>
                <a:lnTo>
                  <a:pt x="2192" y="661"/>
                </a:lnTo>
                <a:lnTo>
                  <a:pt x="2192" y="654"/>
                </a:lnTo>
                <a:lnTo>
                  <a:pt x="2192" y="640"/>
                </a:lnTo>
                <a:lnTo>
                  <a:pt x="2192" y="634"/>
                </a:lnTo>
                <a:lnTo>
                  <a:pt x="2192" y="627"/>
                </a:lnTo>
                <a:lnTo>
                  <a:pt x="2192" y="613"/>
                </a:lnTo>
                <a:lnTo>
                  <a:pt x="2192" y="606"/>
                </a:lnTo>
                <a:lnTo>
                  <a:pt x="2192" y="592"/>
                </a:lnTo>
                <a:lnTo>
                  <a:pt x="2192" y="585"/>
                </a:lnTo>
                <a:lnTo>
                  <a:pt x="2192" y="578"/>
                </a:lnTo>
                <a:lnTo>
                  <a:pt x="2192" y="565"/>
                </a:lnTo>
                <a:lnTo>
                  <a:pt x="2192" y="558"/>
                </a:lnTo>
                <a:lnTo>
                  <a:pt x="2192" y="551"/>
                </a:lnTo>
                <a:lnTo>
                  <a:pt x="2192" y="537"/>
                </a:lnTo>
                <a:lnTo>
                  <a:pt x="2192" y="530"/>
                </a:lnTo>
                <a:lnTo>
                  <a:pt x="2192" y="516"/>
                </a:lnTo>
                <a:lnTo>
                  <a:pt x="2192" y="510"/>
                </a:lnTo>
                <a:lnTo>
                  <a:pt x="2192" y="503"/>
                </a:lnTo>
                <a:lnTo>
                  <a:pt x="2192" y="489"/>
                </a:lnTo>
                <a:lnTo>
                  <a:pt x="2192" y="482"/>
                </a:lnTo>
                <a:lnTo>
                  <a:pt x="2192" y="468"/>
                </a:lnTo>
                <a:lnTo>
                  <a:pt x="2192" y="461"/>
                </a:lnTo>
                <a:lnTo>
                  <a:pt x="2192" y="454"/>
                </a:lnTo>
                <a:lnTo>
                  <a:pt x="2192" y="441"/>
                </a:lnTo>
                <a:lnTo>
                  <a:pt x="2192" y="434"/>
                </a:lnTo>
                <a:lnTo>
                  <a:pt x="2192" y="420"/>
                </a:lnTo>
                <a:lnTo>
                  <a:pt x="2192" y="413"/>
                </a:lnTo>
                <a:lnTo>
                  <a:pt x="2192" y="406"/>
                </a:lnTo>
                <a:lnTo>
                  <a:pt x="2192" y="392"/>
                </a:lnTo>
                <a:lnTo>
                  <a:pt x="2192" y="386"/>
                </a:lnTo>
                <a:lnTo>
                  <a:pt x="2192" y="372"/>
                </a:lnTo>
                <a:lnTo>
                  <a:pt x="2192" y="365"/>
                </a:lnTo>
                <a:lnTo>
                  <a:pt x="2192" y="358"/>
                </a:lnTo>
                <a:lnTo>
                  <a:pt x="2192" y="344"/>
                </a:lnTo>
                <a:lnTo>
                  <a:pt x="2199" y="337"/>
                </a:lnTo>
                <a:lnTo>
                  <a:pt x="2199" y="330"/>
                </a:lnTo>
                <a:lnTo>
                  <a:pt x="2206" y="324"/>
                </a:lnTo>
                <a:lnTo>
                  <a:pt x="2213" y="317"/>
                </a:lnTo>
                <a:lnTo>
                  <a:pt x="2220" y="310"/>
                </a:lnTo>
                <a:lnTo>
                  <a:pt x="2220" y="303"/>
                </a:lnTo>
                <a:lnTo>
                  <a:pt x="2227" y="296"/>
                </a:lnTo>
                <a:lnTo>
                  <a:pt x="2233" y="289"/>
                </a:lnTo>
                <a:lnTo>
                  <a:pt x="2240" y="282"/>
                </a:lnTo>
                <a:lnTo>
                  <a:pt x="2240" y="275"/>
                </a:lnTo>
                <a:lnTo>
                  <a:pt x="2247" y="268"/>
                </a:lnTo>
                <a:lnTo>
                  <a:pt x="2254" y="262"/>
                </a:lnTo>
                <a:lnTo>
                  <a:pt x="2261" y="255"/>
                </a:lnTo>
                <a:lnTo>
                  <a:pt x="2268" y="248"/>
                </a:lnTo>
                <a:lnTo>
                  <a:pt x="2275" y="248"/>
                </a:lnTo>
                <a:lnTo>
                  <a:pt x="2275" y="234"/>
                </a:lnTo>
                <a:lnTo>
                  <a:pt x="2275" y="227"/>
                </a:lnTo>
                <a:lnTo>
                  <a:pt x="2282" y="213"/>
                </a:lnTo>
                <a:lnTo>
                  <a:pt x="2282" y="206"/>
                </a:lnTo>
                <a:lnTo>
                  <a:pt x="2289" y="200"/>
                </a:lnTo>
                <a:lnTo>
                  <a:pt x="2296" y="213"/>
                </a:lnTo>
                <a:lnTo>
                  <a:pt x="2296" y="220"/>
                </a:lnTo>
                <a:lnTo>
                  <a:pt x="2296" y="234"/>
                </a:lnTo>
                <a:lnTo>
                  <a:pt x="2296" y="241"/>
                </a:lnTo>
                <a:lnTo>
                  <a:pt x="2296" y="248"/>
                </a:lnTo>
                <a:lnTo>
                  <a:pt x="2296" y="262"/>
                </a:lnTo>
                <a:lnTo>
                  <a:pt x="2296" y="268"/>
                </a:lnTo>
                <a:lnTo>
                  <a:pt x="2296" y="275"/>
                </a:lnTo>
                <a:lnTo>
                  <a:pt x="2289" y="289"/>
                </a:lnTo>
                <a:lnTo>
                  <a:pt x="2289" y="296"/>
                </a:lnTo>
                <a:lnTo>
                  <a:pt x="2289" y="310"/>
                </a:lnTo>
                <a:lnTo>
                  <a:pt x="2289" y="317"/>
                </a:lnTo>
                <a:lnTo>
                  <a:pt x="2289" y="324"/>
                </a:lnTo>
                <a:lnTo>
                  <a:pt x="2289" y="337"/>
                </a:lnTo>
                <a:lnTo>
                  <a:pt x="2289" y="344"/>
                </a:lnTo>
                <a:lnTo>
                  <a:pt x="2282" y="351"/>
                </a:lnTo>
                <a:lnTo>
                  <a:pt x="2282" y="365"/>
                </a:lnTo>
                <a:lnTo>
                  <a:pt x="2282" y="372"/>
                </a:lnTo>
                <a:lnTo>
                  <a:pt x="2282" y="386"/>
                </a:lnTo>
                <a:lnTo>
                  <a:pt x="2282" y="392"/>
                </a:lnTo>
                <a:lnTo>
                  <a:pt x="2282" y="399"/>
                </a:lnTo>
                <a:lnTo>
                  <a:pt x="2275" y="413"/>
                </a:lnTo>
                <a:lnTo>
                  <a:pt x="2275" y="420"/>
                </a:lnTo>
                <a:lnTo>
                  <a:pt x="2275" y="434"/>
                </a:lnTo>
                <a:lnTo>
                  <a:pt x="2275" y="441"/>
                </a:lnTo>
                <a:lnTo>
                  <a:pt x="2275" y="448"/>
                </a:lnTo>
                <a:lnTo>
                  <a:pt x="2275" y="461"/>
                </a:lnTo>
                <a:lnTo>
                  <a:pt x="2275" y="468"/>
                </a:lnTo>
                <a:lnTo>
                  <a:pt x="2275" y="475"/>
                </a:lnTo>
                <a:lnTo>
                  <a:pt x="2275" y="489"/>
                </a:lnTo>
                <a:lnTo>
                  <a:pt x="2275" y="496"/>
                </a:lnTo>
                <a:lnTo>
                  <a:pt x="2275" y="510"/>
                </a:lnTo>
                <a:lnTo>
                  <a:pt x="2275" y="516"/>
                </a:lnTo>
                <a:lnTo>
                  <a:pt x="2275" y="523"/>
                </a:lnTo>
                <a:lnTo>
                  <a:pt x="2268" y="537"/>
                </a:lnTo>
                <a:lnTo>
                  <a:pt x="2268" y="544"/>
                </a:lnTo>
                <a:lnTo>
                  <a:pt x="2268" y="558"/>
                </a:lnTo>
                <a:lnTo>
                  <a:pt x="2268" y="565"/>
                </a:lnTo>
                <a:lnTo>
                  <a:pt x="2268" y="572"/>
                </a:lnTo>
                <a:lnTo>
                  <a:pt x="2268" y="585"/>
                </a:lnTo>
                <a:lnTo>
                  <a:pt x="2268" y="592"/>
                </a:lnTo>
                <a:lnTo>
                  <a:pt x="2268" y="599"/>
                </a:lnTo>
                <a:lnTo>
                  <a:pt x="2268" y="613"/>
                </a:lnTo>
                <a:lnTo>
                  <a:pt x="2268" y="620"/>
                </a:lnTo>
                <a:lnTo>
                  <a:pt x="2261" y="634"/>
                </a:lnTo>
                <a:lnTo>
                  <a:pt x="2261" y="640"/>
                </a:lnTo>
                <a:lnTo>
                  <a:pt x="2261" y="647"/>
                </a:lnTo>
                <a:lnTo>
                  <a:pt x="2261" y="661"/>
                </a:lnTo>
                <a:lnTo>
                  <a:pt x="2261" y="668"/>
                </a:lnTo>
                <a:lnTo>
                  <a:pt x="2261" y="682"/>
                </a:lnTo>
                <a:lnTo>
                  <a:pt x="2261" y="689"/>
                </a:lnTo>
                <a:lnTo>
                  <a:pt x="2261" y="696"/>
                </a:lnTo>
                <a:lnTo>
                  <a:pt x="2254" y="709"/>
                </a:lnTo>
                <a:lnTo>
                  <a:pt x="2254" y="716"/>
                </a:lnTo>
                <a:lnTo>
                  <a:pt x="2254" y="723"/>
                </a:lnTo>
                <a:lnTo>
                  <a:pt x="2247" y="737"/>
                </a:lnTo>
                <a:lnTo>
                  <a:pt x="2247" y="744"/>
                </a:lnTo>
                <a:lnTo>
                  <a:pt x="2247" y="751"/>
                </a:lnTo>
                <a:lnTo>
                  <a:pt x="2247" y="764"/>
                </a:lnTo>
                <a:lnTo>
                  <a:pt x="2240" y="771"/>
                </a:lnTo>
                <a:lnTo>
                  <a:pt x="2240" y="785"/>
                </a:lnTo>
                <a:lnTo>
                  <a:pt x="2240" y="792"/>
                </a:lnTo>
                <a:lnTo>
                  <a:pt x="2240" y="799"/>
                </a:lnTo>
                <a:lnTo>
                  <a:pt x="2240" y="813"/>
                </a:lnTo>
                <a:lnTo>
                  <a:pt x="2240" y="819"/>
                </a:lnTo>
                <a:lnTo>
                  <a:pt x="2240" y="826"/>
                </a:lnTo>
                <a:lnTo>
                  <a:pt x="2240" y="840"/>
                </a:lnTo>
                <a:lnTo>
                  <a:pt x="2240" y="847"/>
                </a:lnTo>
                <a:lnTo>
                  <a:pt x="2240" y="861"/>
                </a:lnTo>
                <a:lnTo>
                  <a:pt x="2240" y="868"/>
                </a:lnTo>
                <a:lnTo>
                  <a:pt x="2233" y="875"/>
                </a:lnTo>
                <a:lnTo>
                  <a:pt x="2233" y="888"/>
                </a:lnTo>
                <a:lnTo>
                  <a:pt x="2233" y="895"/>
                </a:lnTo>
                <a:lnTo>
                  <a:pt x="2233" y="909"/>
                </a:lnTo>
                <a:lnTo>
                  <a:pt x="2233" y="916"/>
                </a:lnTo>
                <a:lnTo>
                  <a:pt x="2233" y="923"/>
                </a:lnTo>
                <a:lnTo>
                  <a:pt x="2233" y="937"/>
                </a:lnTo>
                <a:lnTo>
                  <a:pt x="2233" y="943"/>
                </a:lnTo>
                <a:lnTo>
                  <a:pt x="2233" y="957"/>
                </a:lnTo>
                <a:lnTo>
                  <a:pt x="2233" y="964"/>
                </a:lnTo>
                <a:lnTo>
                  <a:pt x="2233" y="971"/>
                </a:lnTo>
                <a:lnTo>
                  <a:pt x="2233" y="985"/>
                </a:lnTo>
                <a:lnTo>
                  <a:pt x="2233" y="992"/>
                </a:lnTo>
                <a:lnTo>
                  <a:pt x="2233" y="999"/>
                </a:lnTo>
                <a:lnTo>
                  <a:pt x="2233" y="1012"/>
                </a:lnTo>
                <a:lnTo>
                  <a:pt x="2233" y="1019"/>
                </a:lnTo>
                <a:lnTo>
                  <a:pt x="2233" y="1033"/>
                </a:lnTo>
                <a:lnTo>
                  <a:pt x="2233" y="1040"/>
                </a:lnTo>
                <a:lnTo>
                  <a:pt x="2227" y="1047"/>
                </a:lnTo>
                <a:lnTo>
                  <a:pt x="2227" y="1061"/>
                </a:lnTo>
                <a:lnTo>
                  <a:pt x="2261" y="1033"/>
                </a:lnTo>
                <a:lnTo>
                  <a:pt x="2261" y="999"/>
                </a:lnTo>
                <a:lnTo>
                  <a:pt x="2261" y="964"/>
                </a:lnTo>
                <a:lnTo>
                  <a:pt x="2261" y="937"/>
                </a:lnTo>
                <a:lnTo>
                  <a:pt x="2261" y="902"/>
                </a:lnTo>
                <a:lnTo>
                  <a:pt x="2261" y="875"/>
                </a:lnTo>
                <a:lnTo>
                  <a:pt x="2261" y="840"/>
                </a:lnTo>
                <a:lnTo>
                  <a:pt x="2289" y="813"/>
                </a:lnTo>
                <a:lnTo>
                  <a:pt x="2289" y="778"/>
                </a:lnTo>
                <a:lnTo>
                  <a:pt x="2289" y="751"/>
                </a:lnTo>
                <a:lnTo>
                  <a:pt x="2289" y="716"/>
                </a:lnTo>
                <a:lnTo>
                  <a:pt x="2289" y="689"/>
                </a:lnTo>
                <a:lnTo>
                  <a:pt x="2289" y="654"/>
                </a:lnTo>
                <a:lnTo>
                  <a:pt x="2289" y="627"/>
                </a:lnTo>
                <a:lnTo>
                  <a:pt x="2323" y="592"/>
                </a:lnTo>
                <a:lnTo>
                  <a:pt x="2323" y="558"/>
                </a:lnTo>
                <a:lnTo>
                  <a:pt x="2323" y="530"/>
                </a:lnTo>
                <a:lnTo>
                  <a:pt x="2323" y="496"/>
                </a:lnTo>
                <a:lnTo>
                  <a:pt x="2323" y="468"/>
                </a:lnTo>
                <a:lnTo>
                  <a:pt x="2323" y="434"/>
                </a:lnTo>
                <a:lnTo>
                  <a:pt x="2323" y="406"/>
                </a:lnTo>
                <a:lnTo>
                  <a:pt x="2351" y="372"/>
                </a:lnTo>
                <a:lnTo>
                  <a:pt x="2351" y="344"/>
                </a:lnTo>
                <a:lnTo>
                  <a:pt x="2351" y="310"/>
                </a:lnTo>
                <a:lnTo>
                  <a:pt x="2351" y="282"/>
                </a:lnTo>
                <a:lnTo>
                  <a:pt x="2351" y="248"/>
                </a:lnTo>
                <a:lnTo>
                  <a:pt x="2351" y="213"/>
                </a:lnTo>
                <a:lnTo>
                  <a:pt x="2351" y="186"/>
                </a:lnTo>
                <a:lnTo>
                  <a:pt x="2385" y="151"/>
                </a:lnTo>
                <a:lnTo>
                  <a:pt x="2385" y="124"/>
                </a:lnTo>
                <a:lnTo>
                  <a:pt x="2385" y="89"/>
                </a:lnTo>
                <a:lnTo>
                  <a:pt x="2385" y="62"/>
                </a:lnTo>
                <a:lnTo>
                  <a:pt x="2385" y="27"/>
                </a:lnTo>
                <a:lnTo>
                  <a:pt x="2385" y="0"/>
                </a:lnTo>
                <a:lnTo>
                  <a:pt x="2351" y="0"/>
                </a:lnTo>
                <a:lnTo>
                  <a:pt x="2323" y="0"/>
                </a:lnTo>
                <a:lnTo>
                  <a:pt x="2289" y="0"/>
                </a:lnTo>
                <a:lnTo>
                  <a:pt x="2261" y="0"/>
                </a:lnTo>
                <a:lnTo>
                  <a:pt x="2227" y="27"/>
                </a:lnTo>
                <a:lnTo>
                  <a:pt x="2192" y="27"/>
                </a:lnTo>
                <a:lnTo>
                  <a:pt x="2165" y="27"/>
                </a:lnTo>
                <a:lnTo>
                  <a:pt x="2130" y="62"/>
                </a:lnTo>
                <a:lnTo>
                  <a:pt x="2102" y="62"/>
                </a:lnTo>
                <a:lnTo>
                  <a:pt x="2068" y="89"/>
                </a:lnTo>
                <a:lnTo>
                  <a:pt x="2040" y="89"/>
                </a:lnTo>
                <a:lnTo>
                  <a:pt x="2006" y="89"/>
                </a:lnTo>
                <a:lnTo>
                  <a:pt x="1978" y="124"/>
                </a:lnTo>
                <a:lnTo>
                  <a:pt x="1944" y="124"/>
                </a:lnTo>
                <a:lnTo>
                  <a:pt x="1916" y="151"/>
                </a:lnTo>
                <a:lnTo>
                  <a:pt x="1882" y="151"/>
                </a:lnTo>
                <a:lnTo>
                  <a:pt x="1847" y="151"/>
                </a:lnTo>
                <a:lnTo>
                  <a:pt x="1820" y="186"/>
                </a:lnTo>
                <a:lnTo>
                  <a:pt x="1785" y="186"/>
                </a:lnTo>
                <a:lnTo>
                  <a:pt x="1758" y="213"/>
                </a:lnTo>
                <a:lnTo>
                  <a:pt x="1723" y="213"/>
                </a:lnTo>
                <a:lnTo>
                  <a:pt x="1696" y="213"/>
                </a:lnTo>
                <a:lnTo>
                  <a:pt x="1661" y="248"/>
                </a:lnTo>
                <a:lnTo>
                  <a:pt x="1634" y="248"/>
                </a:lnTo>
                <a:lnTo>
                  <a:pt x="1599" y="282"/>
                </a:lnTo>
                <a:lnTo>
                  <a:pt x="1572" y="282"/>
                </a:lnTo>
                <a:lnTo>
                  <a:pt x="1537" y="282"/>
                </a:lnTo>
                <a:lnTo>
                  <a:pt x="1503" y="310"/>
                </a:lnTo>
                <a:lnTo>
                  <a:pt x="1475" y="310"/>
                </a:lnTo>
                <a:lnTo>
                  <a:pt x="1441" y="344"/>
                </a:lnTo>
                <a:lnTo>
                  <a:pt x="1413" y="344"/>
                </a:lnTo>
                <a:lnTo>
                  <a:pt x="1379" y="344"/>
                </a:lnTo>
                <a:lnTo>
                  <a:pt x="1351" y="372"/>
                </a:lnTo>
                <a:lnTo>
                  <a:pt x="1316" y="372"/>
                </a:lnTo>
                <a:lnTo>
                  <a:pt x="1289" y="406"/>
                </a:lnTo>
                <a:lnTo>
                  <a:pt x="1254" y="406"/>
                </a:lnTo>
                <a:lnTo>
                  <a:pt x="1227" y="406"/>
                </a:lnTo>
                <a:lnTo>
                  <a:pt x="1192" y="434"/>
                </a:lnTo>
                <a:lnTo>
                  <a:pt x="1165" y="434"/>
                </a:lnTo>
                <a:lnTo>
                  <a:pt x="1130" y="468"/>
                </a:lnTo>
                <a:lnTo>
                  <a:pt x="1096" y="468"/>
                </a:lnTo>
                <a:lnTo>
                  <a:pt x="1068" y="468"/>
                </a:lnTo>
                <a:lnTo>
                  <a:pt x="1034" y="496"/>
                </a:lnTo>
                <a:lnTo>
                  <a:pt x="1006" y="530"/>
                </a:lnTo>
                <a:lnTo>
                  <a:pt x="972" y="558"/>
                </a:lnTo>
                <a:lnTo>
                  <a:pt x="972" y="592"/>
                </a:lnTo>
                <a:lnTo>
                  <a:pt x="944" y="627"/>
                </a:lnTo>
                <a:lnTo>
                  <a:pt x="910" y="654"/>
                </a:lnTo>
                <a:lnTo>
                  <a:pt x="882" y="689"/>
                </a:lnTo>
                <a:lnTo>
                  <a:pt x="882" y="716"/>
                </a:lnTo>
                <a:lnTo>
                  <a:pt x="848" y="751"/>
                </a:lnTo>
                <a:lnTo>
                  <a:pt x="820" y="778"/>
                </a:lnTo>
                <a:lnTo>
                  <a:pt x="786" y="813"/>
                </a:lnTo>
                <a:lnTo>
                  <a:pt x="786" y="840"/>
                </a:lnTo>
                <a:lnTo>
                  <a:pt x="751" y="875"/>
                </a:lnTo>
                <a:lnTo>
                  <a:pt x="723" y="902"/>
                </a:lnTo>
                <a:lnTo>
                  <a:pt x="689" y="937"/>
                </a:lnTo>
                <a:lnTo>
                  <a:pt x="689" y="964"/>
                </a:lnTo>
                <a:lnTo>
                  <a:pt x="661" y="999"/>
                </a:lnTo>
                <a:lnTo>
                  <a:pt x="627" y="1033"/>
                </a:lnTo>
                <a:lnTo>
                  <a:pt x="627" y="1061"/>
                </a:lnTo>
                <a:lnTo>
                  <a:pt x="599" y="1095"/>
                </a:lnTo>
                <a:lnTo>
                  <a:pt x="565" y="1123"/>
                </a:lnTo>
                <a:lnTo>
                  <a:pt x="565" y="1157"/>
                </a:lnTo>
                <a:lnTo>
                  <a:pt x="537" y="1185"/>
                </a:lnTo>
                <a:lnTo>
                  <a:pt x="537" y="1219"/>
                </a:lnTo>
                <a:lnTo>
                  <a:pt x="537" y="1247"/>
                </a:lnTo>
                <a:lnTo>
                  <a:pt x="503" y="1281"/>
                </a:lnTo>
                <a:lnTo>
                  <a:pt x="503" y="1309"/>
                </a:lnTo>
                <a:lnTo>
                  <a:pt x="503" y="1343"/>
                </a:lnTo>
                <a:lnTo>
                  <a:pt x="475" y="1377"/>
                </a:lnTo>
                <a:lnTo>
                  <a:pt x="475" y="1405"/>
                </a:lnTo>
                <a:lnTo>
                  <a:pt x="475" y="1439"/>
                </a:lnTo>
                <a:lnTo>
                  <a:pt x="441" y="1467"/>
                </a:lnTo>
                <a:lnTo>
                  <a:pt x="441" y="1501"/>
                </a:lnTo>
                <a:lnTo>
                  <a:pt x="441" y="1529"/>
                </a:lnTo>
                <a:lnTo>
                  <a:pt x="413" y="1563"/>
                </a:lnTo>
                <a:lnTo>
                  <a:pt x="413" y="1591"/>
                </a:lnTo>
                <a:lnTo>
                  <a:pt x="379" y="1625"/>
                </a:lnTo>
                <a:lnTo>
                  <a:pt x="379" y="1653"/>
                </a:lnTo>
                <a:lnTo>
                  <a:pt x="379" y="1687"/>
                </a:lnTo>
                <a:lnTo>
                  <a:pt x="344" y="1722"/>
                </a:lnTo>
                <a:lnTo>
                  <a:pt x="344" y="1749"/>
                </a:lnTo>
                <a:lnTo>
                  <a:pt x="344" y="1784"/>
                </a:lnTo>
                <a:lnTo>
                  <a:pt x="317" y="1811"/>
                </a:lnTo>
                <a:lnTo>
                  <a:pt x="317" y="1846"/>
                </a:lnTo>
                <a:lnTo>
                  <a:pt x="317" y="1873"/>
                </a:lnTo>
                <a:lnTo>
                  <a:pt x="282" y="1908"/>
                </a:lnTo>
                <a:lnTo>
                  <a:pt x="282" y="1935"/>
                </a:lnTo>
                <a:lnTo>
                  <a:pt x="282" y="1970"/>
                </a:lnTo>
                <a:lnTo>
                  <a:pt x="255" y="1997"/>
                </a:lnTo>
                <a:lnTo>
                  <a:pt x="255" y="2032"/>
                </a:lnTo>
                <a:lnTo>
                  <a:pt x="255" y="2059"/>
                </a:lnTo>
                <a:lnTo>
                  <a:pt x="220" y="2094"/>
                </a:lnTo>
                <a:lnTo>
                  <a:pt x="220" y="2128"/>
                </a:lnTo>
                <a:lnTo>
                  <a:pt x="193" y="2156"/>
                </a:lnTo>
                <a:lnTo>
                  <a:pt x="193" y="2190"/>
                </a:lnTo>
                <a:lnTo>
                  <a:pt x="193" y="2218"/>
                </a:lnTo>
                <a:lnTo>
                  <a:pt x="158" y="2252"/>
                </a:lnTo>
                <a:lnTo>
                  <a:pt x="158" y="2280"/>
                </a:lnTo>
                <a:lnTo>
                  <a:pt x="158" y="2314"/>
                </a:lnTo>
                <a:lnTo>
                  <a:pt x="131" y="2342"/>
                </a:lnTo>
                <a:lnTo>
                  <a:pt x="131" y="2376"/>
                </a:lnTo>
                <a:lnTo>
                  <a:pt x="131" y="2404"/>
                </a:lnTo>
                <a:lnTo>
                  <a:pt x="96" y="2438"/>
                </a:lnTo>
                <a:lnTo>
                  <a:pt x="96" y="2473"/>
                </a:lnTo>
                <a:lnTo>
                  <a:pt x="96" y="2500"/>
                </a:lnTo>
                <a:lnTo>
                  <a:pt x="68" y="2535"/>
                </a:lnTo>
                <a:lnTo>
                  <a:pt x="68" y="2562"/>
                </a:lnTo>
                <a:lnTo>
                  <a:pt x="68" y="2597"/>
                </a:lnTo>
                <a:lnTo>
                  <a:pt x="34" y="2624"/>
                </a:lnTo>
                <a:lnTo>
                  <a:pt x="34" y="2659"/>
                </a:lnTo>
                <a:lnTo>
                  <a:pt x="34" y="2686"/>
                </a:lnTo>
                <a:lnTo>
                  <a:pt x="0" y="2721"/>
                </a:lnTo>
                <a:lnTo>
                  <a:pt x="0" y="2748"/>
                </a:lnTo>
                <a:lnTo>
                  <a:pt x="0" y="2783"/>
                </a:lnTo>
                <a:lnTo>
                  <a:pt x="34" y="2783"/>
                </a:lnTo>
                <a:lnTo>
                  <a:pt x="68" y="2817"/>
                </a:lnTo>
                <a:lnTo>
                  <a:pt x="96" y="2817"/>
                </a:lnTo>
                <a:lnTo>
                  <a:pt x="131" y="2845"/>
                </a:lnTo>
                <a:lnTo>
                  <a:pt x="158" y="2879"/>
                </a:lnTo>
                <a:lnTo>
                  <a:pt x="193" y="2879"/>
                </a:lnTo>
                <a:lnTo>
                  <a:pt x="220" y="2907"/>
                </a:lnTo>
                <a:lnTo>
                  <a:pt x="255" y="2907"/>
                </a:lnTo>
                <a:lnTo>
                  <a:pt x="282" y="2941"/>
                </a:lnTo>
                <a:lnTo>
                  <a:pt x="317" y="2941"/>
                </a:lnTo>
                <a:lnTo>
                  <a:pt x="344" y="2969"/>
                </a:lnTo>
                <a:lnTo>
                  <a:pt x="379" y="2969"/>
                </a:lnTo>
                <a:lnTo>
                  <a:pt x="413" y="3003"/>
                </a:lnTo>
                <a:lnTo>
                  <a:pt x="441" y="3003"/>
                </a:lnTo>
                <a:lnTo>
                  <a:pt x="475" y="3031"/>
                </a:lnTo>
                <a:lnTo>
                  <a:pt x="503" y="3031"/>
                </a:lnTo>
                <a:lnTo>
                  <a:pt x="537" y="3031"/>
                </a:lnTo>
                <a:close/>
                <a:moveTo>
                  <a:pt x="1082" y="2218"/>
                </a:moveTo>
                <a:lnTo>
                  <a:pt x="1075" y="2218"/>
                </a:lnTo>
                <a:lnTo>
                  <a:pt x="1068" y="2218"/>
                </a:lnTo>
                <a:lnTo>
                  <a:pt x="1068" y="2211"/>
                </a:lnTo>
                <a:lnTo>
                  <a:pt x="1061" y="2211"/>
                </a:lnTo>
                <a:lnTo>
                  <a:pt x="1054" y="2211"/>
                </a:lnTo>
                <a:lnTo>
                  <a:pt x="1048" y="2211"/>
                </a:lnTo>
                <a:lnTo>
                  <a:pt x="1041" y="2218"/>
                </a:lnTo>
                <a:lnTo>
                  <a:pt x="1034" y="2218"/>
                </a:lnTo>
                <a:lnTo>
                  <a:pt x="1034" y="2218"/>
                </a:lnTo>
                <a:lnTo>
                  <a:pt x="1034" y="2225"/>
                </a:lnTo>
                <a:lnTo>
                  <a:pt x="1034" y="2232"/>
                </a:lnTo>
                <a:lnTo>
                  <a:pt x="1041" y="2239"/>
                </a:lnTo>
                <a:lnTo>
                  <a:pt x="1048" y="2239"/>
                </a:lnTo>
                <a:lnTo>
                  <a:pt x="1054" y="2245"/>
                </a:lnTo>
                <a:lnTo>
                  <a:pt x="1061" y="2239"/>
                </a:lnTo>
                <a:lnTo>
                  <a:pt x="1061" y="2239"/>
                </a:lnTo>
                <a:lnTo>
                  <a:pt x="1068" y="2232"/>
                </a:lnTo>
                <a:lnTo>
                  <a:pt x="1075" y="2232"/>
                </a:lnTo>
                <a:lnTo>
                  <a:pt x="1075" y="2225"/>
                </a:lnTo>
                <a:lnTo>
                  <a:pt x="1082" y="2218"/>
                </a:lnTo>
                <a:close/>
                <a:moveTo>
                  <a:pt x="1461" y="2156"/>
                </a:moveTo>
                <a:lnTo>
                  <a:pt x="1461" y="2142"/>
                </a:lnTo>
                <a:lnTo>
                  <a:pt x="1461" y="2135"/>
                </a:lnTo>
                <a:lnTo>
                  <a:pt x="1454" y="2128"/>
                </a:lnTo>
                <a:lnTo>
                  <a:pt x="1454" y="2121"/>
                </a:lnTo>
                <a:lnTo>
                  <a:pt x="1441" y="2121"/>
                </a:lnTo>
                <a:lnTo>
                  <a:pt x="1434" y="2121"/>
                </a:lnTo>
                <a:lnTo>
                  <a:pt x="1427" y="2121"/>
                </a:lnTo>
                <a:lnTo>
                  <a:pt x="1420" y="2121"/>
                </a:lnTo>
                <a:lnTo>
                  <a:pt x="1413" y="2115"/>
                </a:lnTo>
                <a:lnTo>
                  <a:pt x="1406" y="2115"/>
                </a:lnTo>
                <a:lnTo>
                  <a:pt x="1392" y="2115"/>
                </a:lnTo>
                <a:lnTo>
                  <a:pt x="1385" y="2115"/>
                </a:lnTo>
                <a:lnTo>
                  <a:pt x="1379" y="2121"/>
                </a:lnTo>
                <a:lnTo>
                  <a:pt x="1379" y="2128"/>
                </a:lnTo>
                <a:lnTo>
                  <a:pt x="1372" y="2135"/>
                </a:lnTo>
                <a:lnTo>
                  <a:pt x="1365" y="2142"/>
                </a:lnTo>
                <a:lnTo>
                  <a:pt x="1365" y="2149"/>
                </a:lnTo>
                <a:lnTo>
                  <a:pt x="1358" y="2156"/>
                </a:lnTo>
                <a:lnTo>
                  <a:pt x="1365" y="2163"/>
                </a:lnTo>
                <a:lnTo>
                  <a:pt x="1372" y="2170"/>
                </a:lnTo>
                <a:lnTo>
                  <a:pt x="1379" y="2177"/>
                </a:lnTo>
                <a:lnTo>
                  <a:pt x="1385" y="2177"/>
                </a:lnTo>
                <a:lnTo>
                  <a:pt x="1392" y="2177"/>
                </a:lnTo>
                <a:lnTo>
                  <a:pt x="1399" y="2177"/>
                </a:lnTo>
                <a:lnTo>
                  <a:pt x="1406" y="2177"/>
                </a:lnTo>
                <a:lnTo>
                  <a:pt x="1413" y="2177"/>
                </a:lnTo>
                <a:lnTo>
                  <a:pt x="1427" y="2170"/>
                </a:lnTo>
                <a:lnTo>
                  <a:pt x="1434" y="2170"/>
                </a:lnTo>
                <a:lnTo>
                  <a:pt x="1441" y="2163"/>
                </a:lnTo>
                <a:lnTo>
                  <a:pt x="1447" y="2163"/>
                </a:lnTo>
                <a:lnTo>
                  <a:pt x="1454" y="2163"/>
                </a:lnTo>
                <a:lnTo>
                  <a:pt x="1461" y="2156"/>
                </a:lnTo>
                <a:close/>
                <a:moveTo>
                  <a:pt x="986" y="2128"/>
                </a:moveTo>
                <a:lnTo>
                  <a:pt x="992" y="2115"/>
                </a:lnTo>
                <a:lnTo>
                  <a:pt x="992" y="2108"/>
                </a:lnTo>
                <a:lnTo>
                  <a:pt x="999" y="2101"/>
                </a:lnTo>
                <a:lnTo>
                  <a:pt x="1006" y="2094"/>
                </a:lnTo>
                <a:lnTo>
                  <a:pt x="1013" y="2094"/>
                </a:lnTo>
                <a:lnTo>
                  <a:pt x="1020" y="2094"/>
                </a:lnTo>
                <a:lnTo>
                  <a:pt x="1027" y="2094"/>
                </a:lnTo>
                <a:lnTo>
                  <a:pt x="1034" y="2101"/>
                </a:lnTo>
                <a:lnTo>
                  <a:pt x="1041" y="2101"/>
                </a:lnTo>
                <a:lnTo>
                  <a:pt x="1048" y="2108"/>
                </a:lnTo>
                <a:lnTo>
                  <a:pt x="1054" y="2108"/>
                </a:lnTo>
                <a:lnTo>
                  <a:pt x="1061" y="2108"/>
                </a:lnTo>
                <a:lnTo>
                  <a:pt x="1068" y="2115"/>
                </a:lnTo>
                <a:lnTo>
                  <a:pt x="1075" y="2115"/>
                </a:lnTo>
                <a:lnTo>
                  <a:pt x="1082" y="2121"/>
                </a:lnTo>
                <a:lnTo>
                  <a:pt x="1089" y="2121"/>
                </a:lnTo>
                <a:lnTo>
                  <a:pt x="1096" y="2121"/>
                </a:lnTo>
                <a:lnTo>
                  <a:pt x="1103" y="2121"/>
                </a:lnTo>
                <a:lnTo>
                  <a:pt x="1110" y="2121"/>
                </a:lnTo>
                <a:lnTo>
                  <a:pt x="1117" y="2121"/>
                </a:lnTo>
                <a:lnTo>
                  <a:pt x="1123" y="2115"/>
                </a:lnTo>
                <a:lnTo>
                  <a:pt x="1130" y="2108"/>
                </a:lnTo>
                <a:lnTo>
                  <a:pt x="1137" y="2108"/>
                </a:lnTo>
                <a:lnTo>
                  <a:pt x="1144" y="2101"/>
                </a:lnTo>
                <a:lnTo>
                  <a:pt x="1151" y="2094"/>
                </a:lnTo>
                <a:lnTo>
                  <a:pt x="1158" y="2094"/>
                </a:lnTo>
                <a:lnTo>
                  <a:pt x="1165" y="2087"/>
                </a:lnTo>
                <a:lnTo>
                  <a:pt x="1172" y="2080"/>
                </a:lnTo>
                <a:lnTo>
                  <a:pt x="1172" y="2073"/>
                </a:lnTo>
                <a:lnTo>
                  <a:pt x="1172" y="2059"/>
                </a:lnTo>
                <a:lnTo>
                  <a:pt x="1179" y="2053"/>
                </a:lnTo>
                <a:lnTo>
                  <a:pt x="1179" y="2046"/>
                </a:lnTo>
                <a:lnTo>
                  <a:pt x="1179" y="2032"/>
                </a:lnTo>
                <a:lnTo>
                  <a:pt x="1172" y="2025"/>
                </a:lnTo>
                <a:lnTo>
                  <a:pt x="1172" y="2018"/>
                </a:lnTo>
                <a:lnTo>
                  <a:pt x="1172" y="2004"/>
                </a:lnTo>
                <a:lnTo>
                  <a:pt x="1172" y="1997"/>
                </a:lnTo>
                <a:lnTo>
                  <a:pt x="1172" y="1984"/>
                </a:lnTo>
                <a:lnTo>
                  <a:pt x="1172" y="1977"/>
                </a:lnTo>
                <a:lnTo>
                  <a:pt x="1165" y="1970"/>
                </a:lnTo>
                <a:lnTo>
                  <a:pt x="1158" y="1970"/>
                </a:lnTo>
                <a:lnTo>
                  <a:pt x="1151" y="1970"/>
                </a:lnTo>
                <a:lnTo>
                  <a:pt x="1144" y="1970"/>
                </a:lnTo>
                <a:lnTo>
                  <a:pt x="1137" y="1977"/>
                </a:lnTo>
                <a:lnTo>
                  <a:pt x="1130" y="1970"/>
                </a:lnTo>
                <a:lnTo>
                  <a:pt x="1123" y="1963"/>
                </a:lnTo>
                <a:lnTo>
                  <a:pt x="1117" y="1963"/>
                </a:lnTo>
                <a:lnTo>
                  <a:pt x="1110" y="1956"/>
                </a:lnTo>
                <a:lnTo>
                  <a:pt x="1103" y="1949"/>
                </a:lnTo>
                <a:lnTo>
                  <a:pt x="1096" y="1949"/>
                </a:lnTo>
                <a:lnTo>
                  <a:pt x="1089" y="1949"/>
                </a:lnTo>
                <a:lnTo>
                  <a:pt x="1082" y="1949"/>
                </a:lnTo>
                <a:lnTo>
                  <a:pt x="1075" y="1949"/>
                </a:lnTo>
                <a:lnTo>
                  <a:pt x="1068" y="1949"/>
                </a:lnTo>
                <a:lnTo>
                  <a:pt x="1061" y="1949"/>
                </a:lnTo>
                <a:lnTo>
                  <a:pt x="1054" y="1956"/>
                </a:lnTo>
                <a:lnTo>
                  <a:pt x="1048" y="1956"/>
                </a:lnTo>
                <a:lnTo>
                  <a:pt x="1041" y="1956"/>
                </a:lnTo>
                <a:lnTo>
                  <a:pt x="1034" y="1956"/>
                </a:lnTo>
                <a:lnTo>
                  <a:pt x="1027" y="1956"/>
                </a:lnTo>
                <a:lnTo>
                  <a:pt x="1013" y="1963"/>
                </a:lnTo>
                <a:lnTo>
                  <a:pt x="1006" y="1963"/>
                </a:lnTo>
                <a:lnTo>
                  <a:pt x="1006" y="1970"/>
                </a:lnTo>
                <a:lnTo>
                  <a:pt x="999" y="1970"/>
                </a:lnTo>
                <a:lnTo>
                  <a:pt x="992" y="1977"/>
                </a:lnTo>
                <a:lnTo>
                  <a:pt x="986" y="1984"/>
                </a:lnTo>
                <a:lnTo>
                  <a:pt x="979" y="1991"/>
                </a:lnTo>
                <a:lnTo>
                  <a:pt x="972" y="1991"/>
                </a:lnTo>
                <a:lnTo>
                  <a:pt x="965" y="1997"/>
                </a:lnTo>
                <a:lnTo>
                  <a:pt x="958" y="2004"/>
                </a:lnTo>
                <a:lnTo>
                  <a:pt x="951" y="2011"/>
                </a:lnTo>
                <a:lnTo>
                  <a:pt x="951" y="2011"/>
                </a:lnTo>
                <a:lnTo>
                  <a:pt x="944" y="2018"/>
                </a:lnTo>
                <a:lnTo>
                  <a:pt x="937" y="2025"/>
                </a:lnTo>
                <a:lnTo>
                  <a:pt x="930" y="2032"/>
                </a:lnTo>
                <a:lnTo>
                  <a:pt x="923" y="2039"/>
                </a:lnTo>
                <a:lnTo>
                  <a:pt x="923" y="2046"/>
                </a:lnTo>
                <a:lnTo>
                  <a:pt x="917" y="2053"/>
                </a:lnTo>
                <a:lnTo>
                  <a:pt x="910" y="2059"/>
                </a:lnTo>
                <a:lnTo>
                  <a:pt x="903" y="2066"/>
                </a:lnTo>
                <a:lnTo>
                  <a:pt x="910" y="2073"/>
                </a:lnTo>
                <a:lnTo>
                  <a:pt x="917" y="2080"/>
                </a:lnTo>
                <a:lnTo>
                  <a:pt x="917" y="2087"/>
                </a:lnTo>
                <a:lnTo>
                  <a:pt x="917" y="2101"/>
                </a:lnTo>
                <a:lnTo>
                  <a:pt x="923" y="2108"/>
                </a:lnTo>
                <a:lnTo>
                  <a:pt x="923" y="2115"/>
                </a:lnTo>
                <a:lnTo>
                  <a:pt x="930" y="2121"/>
                </a:lnTo>
                <a:lnTo>
                  <a:pt x="930" y="2128"/>
                </a:lnTo>
                <a:lnTo>
                  <a:pt x="937" y="2142"/>
                </a:lnTo>
                <a:lnTo>
                  <a:pt x="937" y="2149"/>
                </a:lnTo>
                <a:lnTo>
                  <a:pt x="944" y="2156"/>
                </a:lnTo>
                <a:lnTo>
                  <a:pt x="951" y="2156"/>
                </a:lnTo>
                <a:lnTo>
                  <a:pt x="958" y="2156"/>
                </a:lnTo>
                <a:lnTo>
                  <a:pt x="965" y="2149"/>
                </a:lnTo>
                <a:lnTo>
                  <a:pt x="972" y="2149"/>
                </a:lnTo>
                <a:lnTo>
                  <a:pt x="979" y="2142"/>
                </a:lnTo>
                <a:lnTo>
                  <a:pt x="986" y="2135"/>
                </a:lnTo>
                <a:lnTo>
                  <a:pt x="986" y="2128"/>
                </a:lnTo>
                <a:close/>
                <a:moveTo>
                  <a:pt x="634" y="2094"/>
                </a:moveTo>
                <a:lnTo>
                  <a:pt x="627" y="2094"/>
                </a:lnTo>
                <a:lnTo>
                  <a:pt x="627" y="2087"/>
                </a:lnTo>
                <a:lnTo>
                  <a:pt x="620" y="2087"/>
                </a:lnTo>
                <a:lnTo>
                  <a:pt x="613" y="2087"/>
                </a:lnTo>
                <a:lnTo>
                  <a:pt x="613" y="2087"/>
                </a:lnTo>
                <a:lnTo>
                  <a:pt x="606" y="2094"/>
                </a:lnTo>
                <a:lnTo>
                  <a:pt x="606" y="2094"/>
                </a:lnTo>
                <a:lnTo>
                  <a:pt x="606" y="2094"/>
                </a:lnTo>
                <a:lnTo>
                  <a:pt x="613" y="2101"/>
                </a:lnTo>
                <a:lnTo>
                  <a:pt x="613" y="2101"/>
                </a:lnTo>
                <a:lnTo>
                  <a:pt x="620" y="2101"/>
                </a:lnTo>
                <a:lnTo>
                  <a:pt x="627" y="2101"/>
                </a:lnTo>
                <a:lnTo>
                  <a:pt x="627" y="2101"/>
                </a:lnTo>
                <a:lnTo>
                  <a:pt x="634" y="2094"/>
                </a:lnTo>
                <a:close/>
                <a:moveTo>
                  <a:pt x="1365" y="2094"/>
                </a:moveTo>
                <a:lnTo>
                  <a:pt x="1372" y="2087"/>
                </a:lnTo>
                <a:lnTo>
                  <a:pt x="1372" y="2080"/>
                </a:lnTo>
                <a:lnTo>
                  <a:pt x="1372" y="2073"/>
                </a:lnTo>
                <a:lnTo>
                  <a:pt x="1379" y="2066"/>
                </a:lnTo>
                <a:lnTo>
                  <a:pt x="1379" y="2053"/>
                </a:lnTo>
                <a:lnTo>
                  <a:pt x="1385" y="2046"/>
                </a:lnTo>
                <a:lnTo>
                  <a:pt x="1385" y="2039"/>
                </a:lnTo>
                <a:lnTo>
                  <a:pt x="1385" y="2032"/>
                </a:lnTo>
                <a:lnTo>
                  <a:pt x="1385" y="2025"/>
                </a:lnTo>
                <a:lnTo>
                  <a:pt x="1379" y="2018"/>
                </a:lnTo>
                <a:lnTo>
                  <a:pt x="1372" y="2018"/>
                </a:lnTo>
                <a:lnTo>
                  <a:pt x="1365" y="2018"/>
                </a:lnTo>
                <a:lnTo>
                  <a:pt x="1358" y="2018"/>
                </a:lnTo>
                <a:lnTo>
                  <a:pt x="1351" y="2018"/>
                </a:lnTo>
                <a:lnTo>
                  <a:pt x="1344" y="2018"/>
                </a:lnTo>
                <a:lnTo>
                  <a:pt x="1337" y="2018"/>
                </a:lnTo>
                <a:lnTo>
                  <a:pt x="1330" y="2011"/>
                </a:lnTo>
                <a:lnTo>
                  <a:pt x="1323" y="2011"/>
                </a:lnTo>
                <a:lnTo>
                  <a:pt x="1323" y="2011"/>
                </a:lnTo>
                <a:lnTo>
                  <a:pt x="1316" y="2004"/>
                </a:lnTo>
                <a:lnTo>
                  <a:pt x="1310" y="2004"/>
                </a:lnTo>
                <a:lnTo>
                  <a:pt x="1303" y="1997"/>
                </a:lnTo>
                <a:lnTo>
                  <a:pt x="1296" y="1997"/>
                </a:lnTo>
                <a:lnTo>
                  <a:pt x="1289" y="1991"/>
                </a:lnTo>
                <a:lnTo>
                  <a:pt x="1282" y="1997"/>
                </a:lnTo>
                <a:lnTo>
                  <a:pt x="1282" y="2004"/>
                </a:lnTo>
                <a:lnTo>
                  <a:pt x="1275" y="2011"/>
                </a:lnTo>
                <a:lnTo>
                  <a:pt x="1275" y="2018"/>
                </a:lnTo>
                <a:lnTo>
                  <a:pt x="1268" y="2025"/>
                </a:lnTo>
                <a:lnTo>
                  <a:pt x="1268" y="2032"/>
                </a:lnTo>
                <a:lnTo>
                  <a:pt x="1268" y="2039"/>
                </a:lnTo>
                <a:lnTo>
                  <a:pt x="1261" y="2053"/>
                </a:lnTo>
                <a:lnTo>
                  <a:pt x="1261" y="2059"/>
                </a:lnTo>
                <a:lnTo>
                  <a:pt x="1261" y="2066"/>
                </a:lnTo>
                <a:lnTo>
                  <a:pt x="1261" y="2073"/>
                </a:lnTo>
                <a:lnTo>
                  <a:pt x="1254" y="2080"/>
                </a:lnTo>
                <a:lnTo>
                  <a:pt x="1254" y="2087"/>
                </a:lnTo>
                <a:lnTo>
                  <a:pt x="1254" y="2094"/>
                </a:lnTo>
                <a:lnTo>
                  <a:pt x="1261" y="2101"/>
                </a:lnTo>
                <a:lnTo>
                  <a:pt x="1268" y="2101"/>
                </a:lnTo>
                <a:lnTo>
                  <a:pt x="1268" y="2108"/>
                </a:lnTo>
                <a:lnTo>
                  <a:pt x="1275" y="2108"/>
                </a:lnTo>
                <a:lnTo>
                  <a:pt x="1282" y="2108"/>
                </a:lnTo>
                <a:lnTo>
                  <a:pt x="1289" y="2108"/>
                </a:lnTo>
                <a:lnTo>
                  <a:pt x="1296" y="2108"/>
                </a:lnTo>
                <a:lnTo>
                  <a:pt x="1303" y="2108"/>
                </a:lnTo>
                <a:lnTo>
                  <a:pt x="1310" y="2101"/>
                </a:lnTo>
                <a:lnTo>
                  <a:pt x="1316" y="2101"/>
                </a:lnTo>
                <a:lnTo>
                  <a:pt x="1323" y="2101"/>
                </a:lnTo>
                <a:lnTo>
                  <a:pt x="1330" y="2101"/>
                </a:lnTo>
                <a:lnTo>
                  <a:pt x="1337" y="2101"/>
                </a:lnTo>
                <a:lnTo>
                  <a:pt x="1344" y="2101"/>
                </a:lnTo>
                <a:lnTo>
                  <a:pt x="1351" y="2101"/>
                </a:lnTo>
                <a:lnTo>
                  <a:pt x="1358" y="2101"/>
                </a:lnTo>
                <a:lnTo>
                  <a:pt x="1358" y="2094"/>
                </a:lnTo>
                <a:lnTo>
                  <a:pt x="1365" y="2094"/>
                </a:lnTo>
                <a:close/>
                <a:moveTo>
                  <a:pt x="903" y="1997"/>
                </a:moveTo>
                <a:lnTo>
                  <a:pt x="896" y="1991"/>
                </a:lnTo>
                <a:lnTo>
                  <a:pt x="889" y="1984"/>
                </a:lnTo>
                <a:lnTo>
                  <a:pt x="875" y="1984"/>
                </a:lnTo>
                <a:lnTo>
                  <a:pt x="868" y="1984"/>
                </a:lnTo>
                <a:lnTo>
                  <a:pt x="861" y="1984"/>
                </a:lnTo>
                <a:lnTo>
                  <a:pt x="854" y="1984"/>
                </a:lnTo>
                <a:lnTo>
                  <a:pt x="841" y="1984"/>
                </a:lnTo>
                <a:lnTo>
                  <a:pt x="827" y="1991"/>
                </a:lnTo>
                <a:lnTo>
                  <a:pt x="820" y="1997"/>
                </a:lnTo>
                <a:lnTo>
                  <a:pt x="820" y="1997"/>
                </a:lnTo>
                <a:lnTo>
                  <a:pt x="820" y="2004"/>
                </a:lnTo>
                <a:lnTo>
                  <a:pt x="827" y="2011"/>
                </a:lnTo>
                <a:lnTo>
                  <a:pt x="841" y="2018"/>
                </a:lnTo>
                <a:lnTo>
                  <a:pt x="848" y="2025"/>
                </a:lnTo>
                <a:lnTo>
                  <a:pt x="861" y="2018"/>
                </a:lnTo>
                <a:lnTo>
                  <a:pt x="868" y="2018"/>
                </a:lnTo>
                <a:lnTo>
                  <a:pt x="875" y="2011"/>
                </a:lnTo>
                <a:lnTo>
                  <a:pt x="882" y="2011"/>
                </a:lnTo>
                <a:lnTo>
                  <a:pt x="896" y="2004"/>
                </a:lnTo>
                <a:lnTo>
                  <a:pt x="903" y="1997"/>
                </a:lnTo>
                <a:close/>
                <a:moveTo>
                  <a:pt x="834" y="1970"/>
                </a:moveTo>
                <a:lnTo>
                  <a:pt x="827" y="1963"/>
                </a:lnTo>
                <a:lnTo>
                  <a:pt x="827" y="1956"/>
                </a:lnTo>
                <a:lnTo>
                  <a:pt x="827" y="1949"/>
                </a:lnTo>
                <a:lnTo>
                  <a:pt x="820" y="1942"/>
                </a:lnTo>
                <a:lnTo>
                  <a:pt x="813" y="1935"/>
                </a:lnTo>
                <a:lnTo>
                  <a:pt x="813" y="1929"/>
                </a:lnTo>
                <a:lnTo>
                  <a:pt x="806" y="1922"/>
                </a:lnTo>
                <a:lnTo>
                  <a:pt x="806" y="1915"/>
                </a:lnTo>
                <a:lnTo>
                  <a:pt x="799" y="1908"/>
                </a:lnTo>
                <a:lnTo>
                  <a:pt x="792" y="1901"/>
                </a:lnTo>
                <a:lnTo>
                  <a:pt x="792" y="1894"/>
                </a:lnTo>
                <a:lnTo>
                  <a:pt x="786" y="1887"/>
                </a:lnTo>
                <a:lnTo>
                  <a:pt x="786" y="1887"/>
                </a:lnTo>
                <a:lnTo>
                  <a:pt x="779" y="1880"/>
                </a:lnTo>
                <a:lnTo>
                  <a:pt x="772" y="1873"/>
                </a:lnTo>
                <a:lnTo>
                  <a:pt x="765" y="1873"/>
                </a:lnTo>
                <a:lnTo>
                  <a:pt x="765" y="1867"/>
                </a:lnTo>
                <a:lnTo>
                  <a:pt x="765" y="1853"/>
                </a:lnTo>
                <a:lnTo>
                  <a:pt x="758" y="1846"/>
                </a:lnTo>
                <a:lnTo>
                  <a:pt x="758" y="1839"/>
                </a:lnTo>
                <a:lnTo>
                  <a:pt x="751" y="1839"/>
                </a:lnTo>
                <a:lnTo>
                  <a:pt x="744" y="1832"/>
                </a:lnTo>
                <a:lnTo>
                  <a:pt x="744" y="1825"/>
                </a:lnTo>
                <a:lnTo>
                  <a:pt x="737" y="1818"/>
                </a:lnTo>
                <a:lnTo>
                  <a:pt x="737" y="1811"/>
                </a:lnTo>
                <a:lnTo>
                  <a:pt x="730" y="1811"/>
                </a:lnTo>
                <a:lnTo>
                  <a:pt x="723" y="1811"/>
                </a:lnTo>
                <a:lnTo>
                  <a:pt x="717" y="1811"/>
                </a:lnTo>
                <a:lnTo>
                  <a:pt x="710" y="1818"/>
                </a:lnTo>
                <a:lnTo>
                  <a:pt x="710" y="1825"/>
                </a:lnTo>
                <a:lnTo>
                  <a:pt x="710" y="1832"/>
                </a:lnTo>
                <a:lnTo>
                  <a:pt x="717" y="1839"/>
                </a:lnTo>
                <a:lnTo>
                  <a:pt x="717" y="1853"/>
                </a:lnTo>
                <a:lnTo>
                  <a:pt x="717" y="1860"/>
                </a:lnTo>
                <a:lnTo>
                  <a:pt x="717" y="1867"/>
                </a:lnTo>
                <a:lnTo>
                  <a:pt x="723" y="1873"/>
                </a:lnTo>
                <a:lnTo>
                  <a:pt x="723" y="1880"/>
                </a:lnTo>
                <a:lnTo>
                  <a:pt x="730" y="1887"/>
                </a:lnTo>
                <a:lnTo>
                  <a:pt x="737" y="1887"/>
                </a:lnTo>
                <a:lnTo>
                  <a:pt x="737" y="1894"/>
                </a:lnTo>
                <a:lnTo>
                  <a:pt x="744" y="1901"/>
                </a:lnTo>
                <a:lnTo>
                  <a:pt x="751" y="1908"/>
                </a:lnTo>
                <a:lnTo>
                  <a:pt x="751" y="1915"/>
                </a:lnTo>
                <a:lnTo>
                  <a:pt x="758" y="1922"/>
                </a:lnTo>
                <a:lnTo>
                  <a:pt x="765" y="1922"/>
                </a:lnTo>
                <a:lnTo>
                  <a:pt x="765" y="1929"/>
                </a:lnTo>
                <a:lnTo>
                  <a:pt x="772" y="1935"/>
                </a:lnTo>
                <a:lnTo>
                  <a:pt x="772" y="1942"/>
                </a:lnTo>
                <a:lnTo>
                  <a:pt x="779" y="1949"/>
                </a:lnTo>
                <a:lnTo>
                  <a:pt x="786" y="1956"/>
                </a:lnTo>
                <a:lnTo>
                  <a:pt x="786" y="1963"/>
                </a:lnTo>
                <a:lnTo>
                  <a:pt x="792" y="1963"/>
                </a:lnTo>
                <a:lnTo>
                  <a:pt x="799" y="1970"/>
                </a:lnTo>
                <a:lnTo>
                  <a:pt x="799" y="1977"/>
                </a:lnTo>
                <a:lnTo>
                  <a:pt x="806" y="1991"/>
                </a:lnTo>
                <a:lnTo>
                  <a:pt x="813" y="1991"/>
                </a:lnTo>
                <a:lnTo>
                  <a:pt x="813" y="1997"/>
                </a:lnTo>
                <a:lnTo>
                  <a:pt x="820" y="1997"/>
                </a:lnTo>
                <a:lnTo>
                  <a:pt x="820" y="1997"/>
                </a:lnTo>
                <a:lnTo>
                  <a:pt x="827" y="1991"/>
                </a:lnTo>
                <a:lnTo>
                  <a:pt x="827" y="1984"/>
                </a:lnTo>
                <a:lnTo>
                  <a:pt x="834" y="1970"/>
                </a:lnTo>
                <a:close/>
                <a:moveTo>
                  <a:pt x="406" y="1935"/>
                </a:moveTo>
                <a:lnTo>
                  <a:pt x="406" y="1935"/>
                </a:lnTo>
                <a:lnTo>
                  <a:pt x="406" y="1935"/>
                </a:lnTo>
                <a:lnTo>
                  <a:pt x="406" y="1935"/>
                </a:lnTo>
                <a:lnTo>
                  <a:pt x="406" y="1935"/>
                </a:lnTo>
                <a:lnTo>
                  <a:pt x="406" y="1935"/>
                </a:lnTo>
                <a:lnTo>
                  <a:pt x="413" y="1935"/>
                </a:lnTo>
                <a:lnTo>
                  <a:pt x="413" y="1935"/>
                </a:lnTo>
                <a:lnTo>
                  <a:pt x="413" y="1935"/>
                </a:lnTo>
                <a:lnTo>
                  <a:pt x="413" y="1935"/>
                </a:lnTo>
                <a:lnTo>
                  <a:pt x="413" y="1935"/>
                </a:lnTo>
                <a:lnTo>
                  <a:pt x="413" y="1935"/>
                </a:lnTo>
                <a:lnTo>
                  <a:pt x="406" y="1935"/>
                </a:lnTo>
                <a:lnTo>
                  <a:pt x="406" y="1935"/>
                </a:lnTo>
                <a:lnTo>
                  <a:pt x="406" y="1935"/>
                </a:lnTo>
                <a:close/>
                <a:moveTo>
                  <a:pt x="958" y="1846"/>
                </a:moveTo>
                <a:lnTo>
                  <a:pt x="958" y="1832"/>
                </a:lnTo>
                <a:lnTo>
                  <a:pt x="958" y="1825"/>
                </a:lnTo>
                <a:lnTo>
                  <a:pt x="958" y="1818"/>
                </a:lnTo>
                <a:lnTo>
                  <a:pt x="951" y="1811"/>
                </a:lnTo>
                <a:lnTo>
                  <a:pt x="951" y="1805"/>
                </a:lnTo>
                <a:lnTo>
                  <a:pt x="944" y="1798"/>
                </a:lnTo>
                <a:lnTo>
                  <a:pt x="937" y="1798"/>
                </a:lnTo>
                <a:lnTo>
                  <a:pt x="930" y="1805"/>
                </a:lnTo>
                <a:lnTo>
                  <a:pt x="923" y="1811"/>
                </a:lnTo>
                <a:lnTo>
                  <a:pt x="923" y="1818"/>
                </a:lnTo>
                <a:lnTo>
                  <a:pt x="923" y="1825"/>
                </a:lnTo>
                <a:lnTo>
                  <a:pt x="923" y="1839"/>
                </a:lnTo>
                <a:lnTo>
                  <a:pt x="930" y="1846"/>
                </a:lnTo>
                <a:lnTo>
                  <a:pt x="930" y="1853"/>
                </a:lnTo>
                <a:lnTo>
                  <a:pt x="937" y="1860"/>
                </a:lnTo>
                <a:lnTo>
                  <a:pt x="944" y="1867"/>
                </a:lnTo>
                <a:lnTo>
                  <a:pt x="944" y="1867"/>
                </a:lnTo>
                <a:lnTo>
                  <a:pt x="951" y="1860"/>
                </a:lnTo>
                <a:lnTo>
                  <a:pt x="958" y="1853"/>
                </a:lnTo>
                <a:lnTo>
                  <a:pt x="958" y="1846"/>
                </a:lnTo>
                <a:close/>
                <a:moveTo>
                  <a:pt x="2040" y="1687"/>
                </a:moveTo>
                <a:lnTo>
                  <a:pt x="2040" y="1687"/>
                </a:lnTo>
                <a:lnTo>
                  <a:pt x="2040" y="1687"/>
                </a:lnTo>
                <a:lnTo>
                  <a:pt x="2040" y="1687"/>
                </a:lnTo>
                <a:lnTo>
                  <a:pt x="2040" y="1687"/>
                </a:lnTo>
                <a:lnTo>
                  <a:pt x="2040" y="1687"/>
                </a:lnTo>
                <a:lnTo>
                  <a:pt x="2040" y="1687"/>
                </a:lnTo>
                <a:lnTo>
                  <a:pt x="2040" y="1687"/>
                </a:lnTo>
                <a:lnTo>
                  <a:pt x="2040" y="1687"/>
                </a:lnTo>
                <a:lnTo>
                  <a:pt x="2040" y="1687"/>
                </a:lnTo>
                <a:lnTo>
                  <a:pt x="2040" y="1687"/>
                </a:lnTo>
                <a:lnTo>
                  <a:pt x="2040" y="1687"/>
                </a:lnTo>
                <a:lnTo>
                  <a:pt x="2040" y="1687"/>
                </a:lnTo>
                <a:lnTo>
                  <a:pt x="2040" y="1687"/>
                </a:lnTo>
                <a:lnTo>
                  <a:pt x="2040" y="1687"/>
                </a:lnTo>
                <a:close/>
                <a:moveTo>
                  <a:pt x="661" y="1653"/>
                </a:moveTo>
                <a:lnTo>
                  <a:pt x="668" y="1646"/>
                </a:lnTo>
                <a:lnTo>
                  <a:pt x="668" y="1639"/>
                </a:lnTo>
                <a:lnTo>
                  <a:pt x="675" y="1632"/>
                </a:lnTo>
                <a:lnTo>
                  <a:pt x="675" y="1619"/>
                </a:lnTo>
                <a:lnTo>
                  <a:pt x="682" y="1612"/>
                </a:lnTo>
                <a:lnTo>
                  <a:pt x="682" y="1605"/>
                </a:lnTo>
                <a:lnTo>
                  <a:pt x="689" y="1598"/>
                </a:lnTo>
                <a:lnTo>
                  <a:pt x="689" y="1584"/>
                </a:lnTo>
                <a:lnTo>
                  <a:pt x="696" y="1577"/>
                </a:lnTo>
                <a:lnTo>
                  <a:pt x="696" y="1570"/>
                </a:lnTo>
                <a:lnTo>
                  <a:pt x="703" y="1563"/>
                </a:lnTo>
                <a:lnTo>
                  <a:pt x="710" y="1550"/>
                </a:lnTo>
                <a:lnTo>
                  <a:pt x="717" y="1543"/>
                </a:lnTo>
                <a:lnTo>
                  <a:pt x="717" y="1536"/>
                </a:lnTo>
                <a:lnTo>
                  <a:pt x="717" y="1529"/>
                </a:lnTo>
                <a:lnTo>
                  <a:pt x="710" y="1515"/>
                </a:lnTo>
                <a:lnTo>
                  <a:pt x="703" y="1515"/>
                </a:lnTo>
                <a:lnTo>
                  <a:pt x="696" y="1508"/>
                </a:lnTo>
                <a:lnTo>
                  <a:pt x="689" y="1501"/>
                </a:lnTo>
                <a:lnTo>
                  <a:pt x="675" y="1501"/>
                </a:lnTo>
                <a:lnTo>
                  <a:pt x="668" y="1501"/>
                </a:lnTo>
                <a:lnTo>
                  <a:pt x="661" y="1508"/>
                </a:lnTo>
                <a:lnTo>
                  <a:pt x="655" y="1508"/>
                </a:lnTo>
                <a:lnTo>
                  <a:pt x="648" y="1515"/>
                </a:lnTo>
                <a:lnTo>
                  <a:pt x="648" y="1529"/>
                </a:lnTo>
                <a:lnTo>
                  <a:pt x="641" y="1536"/>
                </a:lnTo>
                <a:lnTo>
                  <a:pt x="641" y="1543"/>
                </a:lnTo>
                <a:lnTo>
                  <a:pt x="634" y="1557"/>
                </a:lnTo>
                <a:lnTo>
                  <a:pt x="634" y="1563"/>
                </a:lnTo>
                <a:lnTo>
                  <a:pt x="634" y="1577"/>
                </a:lnTo>
                <a:lnTo>
                  <a:pt x="634" y="1584"/>
                </a:lnTo>
                <a:lnTo>
                  <a:pt x="634" y="1591"/>
                </a:lnTo>
                <a:lnTo>
                  <a:pt x="634" y="1605"/>
                </a:lnTo>
                <a:lnTo>
                  <a:pt x="641" y="1612"/>
                </a:lnTo>
                <a:lnTo>
                  <a:pt x="634" y="1625"/>
                </a:lnTo>
                <a:lnTo>
                  <a:pt x="634" y="1632"/>
                </a:lnTo>
                <a:lnTo>
                  <a:pt x="627" y="1639"/>
                </a:lnTo>
                <a:lnTo>
                  <a:pt x="620" y="1646"/>
                </a:lnTo>
                <a:lnTo>
                  <a:pt x="606" y="1646"/>
                </a:lnTo>
                <a:lnTo>
                  <a:pt x="599" y="1653"/>
                </a:lnTo>
                <a:lnTo>
                  <a:pt x="599" y="1660"/>
                </a:lnTo>
                <a:lnTo>
                  <a:pt x="599" y="1667"/>
                </a:lnTo>
                <a:lnTo>
                  <a:pt x="606" y="1667"/>
                </a:lnTo>
                <a:lnTo>
                  <a:pt x="613" y="1674"/>
                </a:lnTo>
                <a:lnTo>
                  <a:pt x="627" y="1681"/>
                </a:lnTo>
                <a:lnTo>
                  <a:pt x="634" y="1681"/>
                </a:lnTo>
                <a:lnTo>
                  <a:pt x="641" y="1681"/>
                </a:lnTo>
                <a:lnTo>
                  <a:pt x="648" y="1674"/>
                </a:lnTo>
                <a:lnTo>
                  <a:pt x="655" y="1667"/>
                </a:lnTo>
                <a:lnTo>
                  <a:pt x="661" y="1653"/>
                </a:lnTo>
                <a:close/>
                <a:moveTo>
                  <a:pt x="848" y="1563"/>
                </a:moveTo>
                <a:lnTo>
                  <a:pt x="848" y="1557"/>
                </a:lnTo>
                <a:lnTo>
                  <a:pt x="841" y="1557"/>
                </a:lnTo>
                <a:lnTo>
                  <a:pt x="841" y="1550"/>
                </a:lnTo>
                <a:lnTo>
                  <a:pt x="834" y="1550"/>
                </a:lnTo>
                <a:lnTo>
                  <a:pt x="834" y="1543"/>
                </a:lnTo>
                <a:lnTo>
                  <a:pt x="827" y="1536"/>
                </a:lnTo>
                <a:lnTo>
                  <a:pt x="827" y="1536"/>
                </a:lnTo>
                <a:lnTo>
                  <a:pt x="820" y="1529"/>
                </a:lnTo>
                <a:lnTo>
                  <a:pt x="813" y="1529"/>
                </a:lnTo>
                <a:lnTo>
                  <a:pt x="813" y="1536"/>
                </a:lnTo>
                <a:lnTo>
                  <a:pt x="813" y="1543"/>
                </a:lnTo>
                <a:lnTo>
                  <a:pt x="813" y="1543"/>
                </a:lnTo>
                <a:lnTo>
                  <a:pt x="813" y="1550"/>
                </a:lnTo>
                <a:lnTo>
                  <a:pt x="813" y="1557"/>
                </a:lnTo>
                <a:lnTo>
                  <a:pt x="813" y="1563"/>
                </a:lnTo>
                <a:lnTo>
                  <a:pt x="813" y="1577"/>
                </a:lnTo>
                <a:lnTo>
                  <a:pt x="813" y="1577"/>
                </a:lnTo>
                <a:lnTo>
                  <a:pt x="813" y="1584"/>
                </a:lnTo>
                <a:lnTo>
                  <a:pt x="820" y="1584"/>
                </a:lnTo>
                <a:lnTo>
                  <a:pt x="820" y="1584"/>
                </a:lnTo>
                <a:lnTo>
                  <a:pt x="827" y="1584"/>
                </a:lnTo>
                <a:lnTo>
                  <a:pt x="834" y="1584"/>
                </a:lnTo>
                <a:lnTo>
                  <a:pt x="834" y="1577"/>
                </a:lnTo>
                <a:lnTo>
                  <a:pt x="841" y="1570"/>
                </a:lnTo>
                <a:lnTo>
                  <a:pt x="848" y="1563"/>
                </a:lnTo>
                <a:lnTo>
                  <a:pt x="848" y="1563"/>
                </a:lnTo>
                <a:close/>
                <a:moveTo>
                  <a:pt x="1020" y="1529"/>
                </a:moveTo>
                <a:lnTo>
                  <a:pt x="1020" y="1522"/>
                </a:lnTo>
                <a:lnTo>
                  <a:pt x="1027" y="1515"/>
                </a:lnTo>
                <a:lnTo>
                  <a:pt x="1034" y="1508"/>
                </a:lnTo>
                <a:lnTo>
                  <a:pt x="1041" y="1508"/>
                </a:lnTo>
                <a:lnTo>
                  <a:pt x="1048" y="1508"/>
                </a:lnTo>
                <a:lnTo>
                  <a:pt x="1054" y="1501"/>
                </a:lnTo>
                <a:lnTo>
                  <a:pt x="1054" y="1495"/>
                </a:lnTo>
                <a:lnTo>
                  <a:pt x="1061" y="1488"/>
                </a:lnTo>
                <a:lnTo>
                  <a:pt x="1061" y="1481"/>
                </a:lnTo>
                <a:lnTo>
                  <a:pt x="1061" y="1467"/>
                </a:lnTo>
                <a:lnTo>
                  <a:pt x="1068" y="1460"/>
                </a:lnTo>
                <a:lnTo>
                  <a:pt x="1075" y="1460"/>
                </a:lnTo>
                <a:lnTo>
                  <a:pt x="1075" y="1460"/>
                </a:lnTo>
                <a:lnTo>
                  <a:pt x="1082" y="1460"/>
                </a:lnTo>
                <a:lnTo>
                  <a:pt x="1096" y="1460"/>
                </a:lnTo>
                <a:lnTo>
                  <a:pt x="1103" y="1467"/>
                </a:lnTo>
                <a:lnTo>
                  <a:pt x="1110" y="1467"/>
                </a:lnTo>
                <a:lnTo>
                  <a:pt x="1117" y="1467"/>
                </a:lnTo>
                <a:lnTo>
                  <a:pt x="1117" y="1467"/>
                </a:lnTo>
                <a:lnTo>
                  <a:pt x="1117" y="1474"/>
                </a:lnTo>
                <a:lnTo>
                  <a:pt x="1103" y="1474"/>
                </a:lnTo>
                <a:lnTo>
                  <a:pt x="1096" y="1481"/>
                </a:lnTo>
                <a:lnTo>
                  <a:pt x="1089" y="1488"/>
                </a:lnTo>
                <a:lnTo>
                  <a:pt x="1089" y="1495"/>
                </a:lnTo>
                <a:lnTo>
                  <a:pt x="1082" y="1495"/>
                </a:lnTo>
                <a:lnTo>
                  <a:pt x="1075" y="1501"/>
                </a:lnTo>
                <a:lnTo>
                  <a:pt x="1068" y="1508"/>
                </a:lnTo>
                <a:lnTo>
                  <a:pt x="1061" y="1508"/>
                </a:lnTo>
                <a:lnTo>
                  <a:pt x="1061" y="1515"/>
                </a:lnTo>
                <a:lnTo>
                  <a:pt x="1054" y="1522"/>
                </a:lnTo>
                <a:lnTo>
                  <a:pt x="1048" y="1536"/>
                </a:lnTo>
                <a:lnTo>
                  <a:pt x="1048" y="1543"/>
                </a:lnTo>
                <a:lnTo>
                  <a:pt x="1041" y="1550"/>
                </a:lnTo>
                <a:lnTo>
                  <a:pt x="1041" y="1557"/>
                </a:lnTo>
                <a:lnTo>
                  <a:pt x="1034" y="1557"/>
                </a:lnTo>
                <a:lnTo>
                  <a:pt x="1027" y="1550"/>
                </a:lnTo>
                <a:lnTo>
                  <a:pt x="1020" y="1543"/>
                </a:lnTo>
                <a:lnTo>
                  <a:pt x="1020" y="1529"/>
                </a:lnTo>
                <a:close/>
                <a:moveTo>
                  <a:pt x="1385" y="1405"/>
                </a:moveTo>
                <a:lnTo>
                  <a:pt x="1385" y="1398"/>
                </a:lnTo>
                <a:lnTo>
                  <a:pt x="1385" y="1391"/>
                </a:lnTo>
                <a:lnTo>
                  <a:pt x="1385" y="1384"/>
                </a:lnTo>
                <a:lnTo>
                  <a:pt x="1385" y="1377"/>
                </a:lnTo>
                <a:lnTo>
                  <a:pt x="1379" y="1377"/>
                </a:lnTo>
                <a:lnTo>
                  <a:pt x="1372" y="1384"/>
                </a:lnTo>
                <a:lnTo>
                  <a:pt x="1365" y="1391"/>
                </a:lnTo>
                <a:lnTo>
                  <a:pt x="1365" y="1391"/>
                </a:lnTo>
                <a:lnTo>
                  <a:pt x="1358" y="1398"/>
                </a:lnTo>
                <a:lnTo>
                  <a:pt x="1351" y="1398"/>
                </a:lnTo>
                <a:lnTo>
                  <a:pt x="1351" y="1405"/>
                </a:lnTo>
                <a:lnTo>
                  <a:pt x="1358" y="1412"/>
                </a:lnTo>
                <a:lnTo>
                  <a:pt x="1358" y="1419"/>
                </a:lnTo>
                <a:lnTo>
                  <a:pt x="1365" y="1426"/>
                </a:lnTo>
                <a:lnTo>
                  <a:pt x="1372" y="1433"/>
                </a:lnTo>
                <a:lnTo>
                  <a:pt x="1379" y="1433"/>
                </a:lnTo>
                <a:lnTo>
                  <a:pt x="1385" y="1433"/>
                </a:lnTo>
                <a:lnTo>
                  <a:pt x="1385" y="1426"/>
                </a:lnTo>
                <a:lnTo>
                  <a:pt x="1385" y="1419"/>
                </a:lnTo>
                <a:lnTo>
                  <a:pt x="1385" y="1405"/>
                </a:lnTo>
                <a:close/>
                <a:moveTo>
                  <a:pt x="1413" y="1343"/>
                </a:moveTo>
                <a:lnTo>
                  <a:pt x="1413" y="1336"/>
                </a:lnTo>
                <a:lnTo>
                  <a:pt x="1413" y="1336"/>
                </a:lnTo>
                <a:lnTo>
                  <a:pt x="1413" y="1336"/>
                </a:lnTo>
                <a:lnTo>
                  <a:pt x="1413" y="1336"/>
                </a:lnTo>
                <a:lnTo>
                  <a:pt x="1406" y="1336"/>
                </a:lnTo>
                <a:lnTo>
                  <a:pt x="1406" y="1336"/>
                </a:lnTo>
                <a:lnTo>
                  <a:pt x="1406" y="1343"/>
                </a:lnTo>
                <a:lnTo>
                  <a:pt x="1406" y="1343"/>
                </a:lnTo>
                <a:lnTo>
                  <a:pt x="1406" y="1343"/>
                </a:lnTo>
                <a:lnTo>
                  <a:pt x="1406" y="1350"/>
                </a:lnTo>
                <a:lnTo>
                  <a:pt x="1413" y="1350"/>
                </a:lnTo>
                <a:lnTo>
                  <a:pt x="1413" y="1350"/>
                </a:lnTo>
                <a:lnTo>
                  <a:pt x="1413" y="1343"/>
                </a:lnTo>
                <a:lnTo>
                  <a:pt x="1413" y="1343"/>
                </a:lnTo>
                <a:close/>
                <a:moveTo>
                  <a:pt x="1041" y="1247"/>
                </a:moveTo>
                <a:lnTo>
                  <a:pt x="1041" y="1247"/>
                </a:lnTo>
                <a:lnTo>
                  <a:pt x="1041" y="1247"/>
                </a:lnTo>
                <a:lnTo>
                  <a:pt x="1034" y="1247"/>
                </a:lnTo>
                <a:lnTo>
                  <a:pt x="1034" y="1240"/>
                </a:lnTo>
                <a:lnTo>
                  <a:pt x="1034" y="1240"/>
                </a:lnTo>
                <a:lnTo>
                  <a:pt x="1034" y="1240"/>
                </a:lnTo>
                <a:lnTo>
                  <a:pt x="1034" y="1247"/>
                </a:lnTo>
                <a:lnTo>
                  <a:pt x="1034" y="1247"/>
                </a:lnTo>
                <a:lnTo>
                  <a:pt x="1034" y="1247"/>
                </a:lnTo>
                <a:lnTo>
                  <a:pt x="1034" y="1247"/>
                </a:lnTo>
                <a:lnTo>
                  <a:pt x="1034" y="1247"/>
                </a:lnTo>
                <a:lnTo>
                  <a:pt x="1034" y="1247"/>
                </a:lnTo>
                <a:lnTo>
                  <a:pt x="1034" y="1253"/>
                </a:lnTo>
                <a:lnTo>
                  <a:pt x="1041" y="1247"/>
                </a:lnTo>
                <a:close/>
                <a:moveTo>
                  <a:pt x="2227" y="1247"/>
                </a:moveTo>
                <a:lnTo>
                  <a:pt x="2227" y="1219"/>
                </a:lnTo>
                <a:lnTo>
                  <a:pt x="2227" y="1185"/>
                </a:lnTo>
                <a:lnTo>
                  <a:pt x="2227" y="1157"/>
                </a:lnTo>
                <a:lnTo>
                  <a:pt x="2227" y="1123"/>
                </a:lnTo>
                <a:lnTo>
                  <a:pt x="2227" y="1095"/>
                </a:lnTo>
                <a:lnTo>
                  <a:pt x="2227" y="1088"/>
                </a:lnTo>
                <a:lnTo>
                  <a:pt x="2220" y="1088"/>
                </a:lnTo>
                <a:lnTo>
                  <a:pt x="2213" y="1095"/>
                </a:lnTo>
                <a:lnTo>
                  <a:pt x="2206" y="1095"/>
                </a:lnTo>
                <a:lnTo>
                  <a:pt x="2206" y="1109"/>
                </a:lnTo>
                <a:lnTo>
                  <a:pt x="2199" y="1116"/>
                </a:lnTo>
                <a:lnTo>
                  <a:pt x="2199" y="1123"/>
                </a:lnTo>
                <a:lnTo>
                  <a:pt x="2199" y="1136"/>
                </a:lnTo>
                <a:lnTo>
                  <a:pt x="2199" y="1143"/>
                </a:lnTo>
                <a:lnTo>
                  <a:pt x="2199" y="1150"/>
                </a:lnTo>
                <a:lnTo>
                  <a:pt x="2199" y="1164"/>
                </a:lnTo>
                <a:lnTo>
                  <a:pt x="2199" y="1171"/>
                </a:lnTo>
                <a:lnTo>
                  <a:pt x="2199" y="1178"/>
                </a:lnTo>
                <a:lnTo>
                  <a:pt x="2199" y="1191"/>
                </a:lnTo>
                <a:lnTo>
                  <a:pt x="2199" y="1198"/>
                </a:lnTo>
                <a:lnTo>
                  <a:pt x="2199" y="1205"/>
                </a:lnTo>
                <a:lnTo>
                  <a:pt x="2199" y="1212"/>
                </a:lnTo>
                <a:lnTo>
                  <a:pt x="2199" y="1226"/>
                </a:lnTo>
                <a:lnTo>
                  <a:pt x="2199" y="1233"/>
                </a:lnTo>
                <a:lnTo>
                  <a:pt x="2199" y="1240"/>
                </a:lnTo>
                <a:lnTo>
                  <a:pt x="2199" y="1253"/>
                </a:lnTo>
                <a:lnTo>
                  <a:pt x="2199" y="1260"/>
                </a:lnTo>
                <a:lnTo>
                  <a:pt x="2199" y="1267"/>
                </a:lnTo>
                <a:lnTo>
                  <a:pt x="2199" y="1281"/>
                </a:lnTo>
                <a:lnTo>
                  <a:pt x="2227" y="1247"/>
                </a:lnTo>
                <a:close/>
                <a:moveTo>
                  <a:pt x="992" y="964"/>
                </a:moveTo>
                <a:lnTo>
                  <a:pt x="999" y="957"/>
                </a:lnTo>
                <a:lnTo>
                  <a:pt x="999" y="950"/>
                </a:lnTo>
                <a:lnTo>
                  <a:pt x="1006" y="943"/>
                </a:lnTo>
                <a:lnTo>
                  <a:pt x="1006" y="937"/>
                </a:lnTo>
                <a:lnTo>
                  <a:pt x="1013" y="930"/>
                </a:lnTo>
                <a:lnTo>
                  <a:pt x="1013" y="923"/>
                </a:lnTo>
                <a:lnTo>
                  <a:pt x="1020" y="916"/>
                </a:lnTo>
                <a:lnTo>
                  <a:pt x="1027" y="909"/>
                </a:lnTo>
                <a:lnTo>
                  <a:pt x="1027" y="902"/>
                </a:lnTo>
                <a:lnTo>
                  <a:pt x="1034" y="902"/>
                </a:lnTo>
                <a:lnTo>
                  <a:pt x="1041" y="895"/>
                </a:lnTo>
                <a:lnTo>
                  <a:pt x="1048" y="888"/>
                </a:lnTo>
                <a:lnTo>
                  <a:pt x="1054" y="888"/>
                </a:lnTo>
                <a:lnTo>
                  <a:pt x="1054" y="881"/>
                </a:lnTo>
                <a:lnTo>
                  <a:pt x="1061" y="881"/>
                </a:lnTo>
                <a:lnTo>
                  <a:pt x="1068" y="875"/>
                </a:lnTo>
                <a:lnTo>
                  <a:pt x="1075" y="875"/>
                </a:lnTo>
                <a:lnTo>
                  <a:pt x="1082" y="868"/>
                </a:lnTo>
                <a:lnTo>
                  <a:pt x="1089" y="861"/>
                </a:lnTo>
                <a:lnTo>
                  <a:pt x="1096" y="861"/>
                </a:lnTo>
                <a:lnTo>
                  <a:pt x="1096" y="854"/>
                </a:lnTo>
                <a:lnTo>
                  <a:pt x="1103" y="854"/>
                </a:lnTo>
                <a:lnTo>
                  <a:pt x="1110" y="847"/>
                </a:lnTo>
                <a:lnTo>
                  <a:pt x="1117" y="847"/>
                </a:lnTo>
                <a:lnTo>
                  <a:pt x="1123" y="840"/>
                </a:lnTo>
                <a:lnTo>
                  <a:pt x="1130" y="833"/>
                </a:lnTo>
                <a:lnTo>
                  <a:pt x="1137" y="833"/>
                </a:lnTo>
                <a:lnTo>
                  <a:pt x="1137" y="840"/>
                </a:lnTo>
                <a:lnTo>
                  <a:pt x="1144" y="847"/>
                </a:lnTo>
                <a:lnTo>
                  <a:pt x="1144" y="861"/>
                </a:lnTo>
                <a:lnTo>
                  <a:pt x="1137" y="868"/>
                </a:lnTo>
                <a:lnTo>
                  <a:pt x="1137" y="875"/>
                </a:lnTo>
                <a:lnTo>
                  <a:pt x="1130" y="881"/>
                </a:lnTo>
                <a:lnTo>
                  <a:pt x="1130" y="888"/>
                </a:lnTo>
                <a:lnTo>
                  <a:pt x="1123" y="895"/>
                </a:lnTo>
                <a:lnTo>
                  <a:pt x="1123" y="902"/>
                </a:lnTo>
                <a:lnTo>
                  <a:pt x="1117" y="909"/>
                </a:lnTo>
                <a:lnTo>
                  <a:pt x="1117" y="916"/>
                </a:lnTo>
                <a:lnTo>
                  <a:pt x="1110" y="930"/>
                </a:lnTo>
                <a:lnTo>
                  <a:pt x="1110" y="937"/>
                </a:lnTo>
                <a:lnTo>
                  <a:pt x="1103" y="943"/>
                </a:lnTo>
                <a:lnTo>
                  <a:pt x="1103" y="950"/>
                </a:lnTo>
                <a:lnTo>
                  <a:pt x="1103" y="957"/>
                </a:lnTo>
                <a:lnTo>
                  <a:pt x="1096" y="964"/>
                </a:lnTo>
                <a:lnTo>
                  <a:pt x="1089" y="971"/>
                </a:lnTo>
                <a:lnTo>
                  <a:pt x="1089" y="978"/>
                </a:lnTo>
                <a:lnTo>
                  <a:pt x="1082" y="985"/>
                </a:lnTo>
                <a:lnTo>
                  <a:pt x="1075" y="992"/>
                </a:lnTo>
                <a:lnTo>
                  <a:pt x="1075" y="992"/>
                </a:lnTo>
                <a:lnTo>
                  <a:pt x="1068" y="999"/>
                </a:lnTo>
                <a:lnTo>
                  <a:pt x="1061" y="999"/>
                </a:lnTo>
                <a:lnTo>
                  <a:pt x="1054" y="999"/>
                </a:lnTo>
                <a:lnTo>
                  <a:pt x="1048" y="999"/>
                </a:lnTo>
                <a:lnTo>
                  <a:pt x="1041" y="992"/>
                </a:lnTo>
                <a:lnTo>
                  <a:pt x="1034" y="992"/>
                </a:lnTo>
                <a:lnTo>
                  <a:pt x="1027" y="992"/>
                </a:lnTo>
                <a:lnTo>
                  <a:pt x="1020" y="992"/>
                </a:lnTo>
                <a:lnTo>
                  <a:pt x="1013" y="992"/>
                </a:lnTo>
                <a:lnTo>
                  <a:pt x="1006" y="992"/>
                </a:lnTo>
                <a:lnTo>
                  <a:pt x="999" y="985"/>
                </a:lnTo>
                <a:lnTo>
                  <a:pt x="999" y="978"/>
                </a:lnTo>
                <a:lnTo>
                  <a:pt x="992" y="964"/>
                </a:lnTo>
                <a:close/>
                <a:moveTo>
                  <a:pt x="1847" y="592"/>
                </a:moveTo>
                <a:lnTo>
                  <a:pt x="1847" y="592"/>
                </a:lnTo>
                <a:lnTo>
                  <a:pt x="1847" y="592"/>
                </a:lnTo>
                <a:lnTo>
                  <a:pt x="1847" y="592"/>
                </a:lnTo>
                <a:lnTo>
                  <a:pt x="1847" y="592"/>
                </a:lnTo>
                <a:lnTo>
                  <a:pt x="1847" y="592"/>
                </a:lnTo>
                <a:lnTo>
                  <a:pt x="1847" y="592"/>
                </a:lnTo>
                <a:lnTo>
                  <a:pt x="1847" y="592"/>
                </a:lnTo>
                <a:lnTo>
                  <a:pt x="1847" y="592"/>
                </a:lnTo>
                <a:lnTo>
                  <a:pt x="1847" y="592"/>
                </a:lnTo>
                <a:lnTo>
                  <a:pt x="1847" y="592"/>
                </a:lnTo>
                <a:lnTo>
                  <a:pt x="1847" y="592"/>
                </a:lnTo>
                <a:lnTo>
                  <a:pt x="1847" y="592"/>
                </a:lnTo>
                <a:lnTo>
                  <a:pt x="1847" y="592"/>
                </a:lnTo>
                <a:lnTo>
                  <a:pt x="1847" y="592"/>
                </a:lnTo>
                <a:close/>
                <a:moveTo>
                  <a:pt x="537" y="3031"/>
                </a:moveTo>
                <a:lnTo>
                  <a:pt x="565" y="3003"/>
                </a:lnTo>
                <a:lnTo>
                  <a:pt x="599" y="3003"/>
                </a:lnTo>
                <a:lnTo>
                  <a:pt x="627" y="2969"/>
                </a:lnTo>
                <a:lnTo>
                  <a:pt x="661" y="2941"/>
                </a:lnTo>
                <a:lnTo>
                  <a:pt x="689" y="2907"/>
                </a:lnTo>
                <a:lnTo>
                  <a:pt x="723" y="2907"/>
                </a:lnTo>
                <a:lnTo>
                  <a:pt x="751" y="2879"/>
                </a:lnTo>
                <a:lnTo>
                  <a:pt x="786" y="2845"/>
                </a:lnTo>
                <a:lnTo>
                  <a:pt x="820" y="2845"/>
                </a:lnTo>
                <a:lnTo>
                  <a:pt x="848" y="2817"/>
                </a:lnTo>
                <a:lnTo>
                  <a:pt x="882" y="2783"/>
                </a:lnTo>
                <a:lnTo>
                  <a:pt x="910" y="2783"/>
                </a:lnTo>
                <a:lnTo>
                  <a:pt x="944" y="2748"/>
                </a:lnTo>
                <a:lnTo>
                  <a:pt x="972" y="2721"/>
                </a:lnTo>
                <a:lnTo>
                  <a:pt x="1006" y="2686"/>
                </a:lnTo>
                <a:lnTo>
                  <a:pt x="1034" y="2686"/>
                </a:lnTo>
                <a:lnTo>
                  <a:pt x="1068" y="2659"/>
                </a:lnTo>
                <a:lnTo>
                  <a:pt x="1096" y="2624"/>
                </a:lnTo>
                <a:lnTo>
                  <a:pt x="1130" y="2624"/>
                </a:lnTo>
                <a:lnTo>
                  <a:pt x="1165" y="2597"/>
                </a:lnTo>
                <a:lnTo>
                  <a:pt x="1192" y="2562"/>
                </a:lnTo>
                <a:lnTo>
                  <a:pt x="1227" y="2535"/>
                </a:lnTo>
                <a:lnTo>
                  <a:pt x="1254" y="2535"/>
                </a:lnTo>
                <a:lnTo>
                  <a:pt x="1289" y="2500"/>
                </a:lnTo>
                <a:lnTo>
                  <a:pt x="1316" y="2473"/>
                </a:lnTo>
                <a:lnTo>
                  <a:pt x="1351" y="2473"/>
                </a:lnTo>
                <a:lnTo>
                  <a:pt x="1379" y="2438"/>
                </a:lnTo>
                <a:lnTo>
                  <a:pt x="1413" y="2404"/>
                </a:lnTo>
                <a:lnTo>
                  <a:pt x="1441" y="2376"/>
                </a:lnTo>
                <a:lnTo>
                  <a:pt x="1475" y="2376"/>
                </a:lnTo>
                <a:lnTo>
                  <a:pt x="1503" y="2342"/>
                </a:lnTo>
                <a:lnTo>
                  <a:pt x="1537" y="2314"/>
                </a:lnTo>
                <a:lnTo>
                  <a:pt x="1572" y="2314"/>
                </a:lnTo>
                <a:lnTo>
                  <a:pt x="1599" y="2280"/>
                </a:lnTo>
                <a:lnTo>
                  <a:pt x="1634" y="2252"/>
                </a:lnTo>
                <a:lnTo>
                  <a:pt x="1661" y="2218"/>
                </a:lnTo>
                <a:lnTo>
                  <a:pt x="1696" y="2218"/>
                </a:lnTo>
                <a:lnTo>
                  <a:pt x="1723" y="2190"/>
                </a:lnTo>
                <a:lnTo>
                  <a:pt x="1758" y="2156"/>
                </a:lnTo>
                <a:lnTo>
                  <a:pt x="1785" y="2156"/>
                </a:lnTo>
                <a:lnTo>
                  <a:pt x="1820" y="2128"/>
                </a:lnTo>
                <a:lnTo>
                  <a:pt x="1847" y="2094"/>
                </a:lnTo>
                <a:lnTo>
                  <a:pt x="1882" y="2059"/>
                </a:lnTo>
                <a:lnTo>
                  <a:pt x="1916" y="2059"/>
                </a:lnTo>
                <a:lnTo>
                  <a:pt x="1916" y="2032"/>
                </a:lnTo>
                <a:lnTo>
                  <a:pt x="1944" y="1997"/>
                </a:lnTo>
                <a:lnTo>
                  <a:pt x="1978" y="1970"/>
                </a:lnTo>
                <a:lnTo>
                  <a:pt x="1978" y="1935"/>
                </a:lnTo>
                <a:lnTo>
                  <a:pt x="2006" y="1908"/>
                </a:lnTo>
                <a:lnTo>
                  <a:pt x="2040" y="1873"/>
                </a:lnTo>
                <a:lnTo>
                  <a:pt x="2040" y="1846"/>
                </a:lnTo>
                <a:lnTo>
                  <a:pt x="2068" y="1811"/>
                </a:lnTo>
                <a:lnTo>
                  <a:pt x="2102" y="1784"/>
                </a:lnTo>
                <a:lnTo>
                  <a:pt x="2102" y="1749"/>
                </a:lnTo>
                <a:lnTo>
                  <a:pt x="2102" y="1722"/>
                </a:lnTo>
                <a:lnTo>
                  <a:pt x="2130" y="1687"/>
                </a:lnTo>
                <a:lnTo>
                  <a:pt x="2130" y="1653"/>
                </a:lnTo>
                <a:lnTo>
                  <a:pt x="2130" y="1625"/>
                </a:lnTo>
                <a:lnTo>
                  <a:pt x="2165" y="1591"/>
                </a:lnTo>
                <a:lnTo>
                  <a:pt x="2165" y="1563"/>
                </a:lnTo>
                <a:lnTo>
                  <a:pt x="2165" y="1529"/>
                </a:lnTo>
                <a:lnTo>
                  <a:pt x="2165" y="1501"/>
                </a:lnTo>
                <a:lnTo>
                  <a:pt x="2192" y="1467"/>
                </a:lnTo>
                <a:lnTo>
                  <a:pt x="2192" y="1439"/>
                </a:lnTo>
                <a:lnTo>
                  <a:pt x="2192" y="1405"/>
                </a:lnTo>
                <a:lnTo>
                  <a:pt x="2192" y="1377"/>
                </a:lnTo>
                <a:lnTo>
                  <a:pt x="2192" y="1343"/>
                </a:lnTo>
                <a:lnTo>
                  <a:pt x="2192" y="1309"/>
                </a:lnTo>
                <a:lnTo>
                  <a:pt x="2192" y="1281"/>
                </a:lnTo>
                <a:lnTo>
                  <a:pt x="2227" y="1247"/>
                </a:lnTo>
                <a:lnTo>
                  <a:pt x="2227" y="1219"/>
                </a:lnTo>
                <a:lnTo>
                  <a:pt x="2227" y="1185"/>
                </a:lnTo>
                <a:lnTo>
                  <a:pt x="2227" y="1157"/>
                </a:lnTo>
                <a:lnTo>
                  <a:pt x="2227" y="1123"/>
                </a:lnTo>
                <a:lnTo>
                  <a:pt x="2227" y="1095"/>
                </a:lnTo>
                <a:lnTo>
                  <a:pt x="2227" y="1061"/>
                </a:lnTo>
                <a:lnTo>
                  <a:pt x="2261" y="1033"/>
                </a:lnTo>
                <a:lnTo>
                  <a:pt x="2261" y="999"/>
                </a:lnTo>
                <a:lnTo>
                  <a:pt x="2261" y="964"/>
                </a:lnTo>
                <a:lnTo>
                  <a:pt x="2261" y="937"/>
                </a:lnTo>
                <a:lnTo>
                  <a:pt x="2261" y="902"/>
                </a:lnTo>
                <a:lnTo>
                  <a:pt x="2261" y="875"/>
                </a:lnTo>
                <a:lnTo>
                  <a:pt x="2261" y="840"/>
                </a:lnTo>
                <a:lnTo>
                  <a:pt x="2289" y="813"/>
                </a:lnTo>
                <a:lnTo>
                  <a:pt x="2289" y="778"/>
                </a:lnTo>
                <a:lnTo>
                  <a:pt x="2289" y="751"/>
                </a:lnTo>
                <a:lnTo>
                  <a:pt x="2289" y="716"/>
                </a:lnTo>
                <a:lnTo>
                  <a:pt x="2289" y="689"/>
                </a:lnTo>
                <a:lnTo>
                  <a:pt x="2289" y="654"/>
                </a:lnTo>
                <a:lnTo>
                  <a:pt x="2289" y="627"/>
                </a:lnTo>
                <a:lnTo>
                  <a:pt x="2323" y="592"/>
                </a:lnTo>
                <a:lnTo>
                  <a:pt x="2323" y="558"/>
                </a:lnTo>
                <a:lnTo>
                  <a:pt x="2323" y="530"/>
                </a:lnTo>
                <a:lnTo>
                  <a:pt x="2323" y="496"/>
                </a:lnTo>
                <a:lnTo>
                  <a:pt x="2323" y="468"/>
                </a:lnTo>
                <a:lnTo>
                  <a:pt x="2323" y="434"/>
                </a:lnTo>
                <a:lnTo>
                  <a:pt x="2323" y="406"/>
                </a:lnTo>
                <a:lnTo>
                  <a:pt x="2351" y="372"/>
                </a:lnTo>
                <a:lnTo>
                  <a:pt x="2351" y="344"/>
                </a:lnTo>
                <a:lnTo>
                  <a:pt x="2351" y="310"/>
                </a:lnTo>
                <a:lnTo>
                  <a:pt x="2351" y="282"/>
                </a:lnTo>
                <a:lnTo>
                  <a:pt x="2351" y="248"/>
                </a:lnTo>
                <a:lnTo>
                  <a:pt x="2351" y="213"/>
                </a:lnTo>
                <a:lnTo>
                  <a:pt x="2351" y="186"/>
                </a:lnTo>
                <a:lnTo>
                  <a:pt x="2385" y="151"/>
                </a:lnTo>
                <a:lnTo>
                  <a:pt x="2385" y="124"/>
                </a:lnTo>
                <a:lnTo>
                  <a:pt x="2385" y="89"/>
                </a:lnTo>
                <a:lnTo>
                  <a:pt x="2385" y="62"/>
                </a:lnTo>
                <a:lnTo>
                  <a:pt x="2385" y="27"/>
                </a:lnTo>
                <a:lnTo>
                  <a:pt x="2385" y="0"/>
                </a:lnTo>
                <a:lnTo>
                  <a:pt x="2351" y="0"/>
                </a:lnTo>
                <a:lnTo>
                  <a:pt x="2323" y="0"/>
                </a:lnTo>
                <a:lnTo>
                  <a:pt x="2289" y="0"/>
                </a:lnTo>
                <a:lnTo>
                  <a:pt x="2261" y="0"/>
                </a:lnTo>
                <a:lnTo>
                  <a:pt x="2227" y="27"/>
                </a:lnTo>
                <a:lnTo>
                  <a:pt x="2192" y="27"/>
                </a:lnTo>
                <a:lnTo>
                  <a:pt x="2165" y="27"/>
                </a:lnTo>
                <a:lnTo>
                  <a:pt x="2130" y="62"/>
                </a:lnTo>
                <a:lnTo>
                  <a:pt x="2102" y="62"/>
                </a:lnTo>
                <a:lnTo>
                  <a:pt x="2068" y="89"/>
                </a:lnTo>
                <a:lnTo>
                  <a:pt x="2040" y="89"/>
                </a:lnTo>
                <a:lnTo>
                  <a:pt x="2006" y="89"/>
                </a:lnTo>
                <a:lnTo>
                  <a:pt x="1978" y="124"/>
                </a:lnTo>
                <a:lnTo>
                  <a:pt x="1944" y="124"/>
                </a:lnTo>
                <a:lnTo>
                  <a:pt x="1916" y="151"/>
                </a:lnTo>
                <a:lnTo>
                  <a:pt x="1882" y="151"/>
                </a:lnTo>
                <a:lnTo>
                  <a:pt x="1847" y="151"/>
                </a:lnTo>
                <a:lnTo>
                  <a:pt x="1820" y="186"/>
                </a:lnTo>
                <a:lnTo>
                  <a:pt x="1785" y="186"/>
                </a:lnTo>
                <a:lnTo>
                  <a:pt x="1758" y="213"/>
                </a:lnTo>
                <a:lnTo>
                  <a:pt x="1723" y="213"/>
                </a:lnTo>
                <a:lnTo>
                  <a:pt x="1696" y="213"/>
                </a:lnTo>
                <a:lnTo>
                  <a:pt x="1661" y="248"/>
                </a:lnTo>
                <a:lnTo>
                  <a:pt x="1634" y="248"/>
                </a:lnTo>
                <a:lnTo>
                  <a:pt x="1599" y="282"/>
                </a:lnTo>
                <a:lnTo>
                  <a:pt x="1572" y="282"/>
                </a:lnTo>
                <a:lnTo>
                  <a:pt x="1537" y="282"/>
                </a:lnTo>
                <a:lnTo>
                  <a:pt x="1503" y="310"/>
                </a:lnTo>
                <a:lnTo>
                  <a:pt x="1475" y="310"/>
                </a:lnTo>
                <a:lnTo>
                  <a:pt x="1441" y="344"/>
                </a:lnTo>
                <a:lnTo>
                  <a:pt x="1413" y="344"/>
                </a:lnTo>
                <a:lnTo>
                  <a:pt x="1379" y="344"/>
                </a:lnTo>
                <a:lnTo>
                  <a:pt x="1351" y="372"/>
                </a:lnTo>
                <a:lnTo>
                  <a:pt x="1316" y="372"/>
                </a:lnTo>
                <a:lnTo>
                  <a:pt x="1289" y="406"/>
                </a:lnTo>
                <a:lnTo>
                  <a:pt x="1254" y="406"/>
                </a:lnTo>
                <a:lnTo>
                  <a:pt x="1227" y="406"/>
                </a:lnTo>
                <a:lnTo>
                  <a:pt x="1192" y="434"/>
                </a:lnTo>
                <a:lnTo>
                  <a:pt x="1165" y="434"/>
                </a:lnTo>
                <a:lnTo>
                  <a:pt x="1130" y="468"/>
                </a:lnTo>
                <a:lnTo>
                  <a:pt x="1096" y="468"/>
                </a:lnTo>
                <a:lnTo>
                  <a:pt x="1068" y="468"/>
                </a:lnTo>
                <a:lnTo>
                  <a:pt x="1034" y="496"/>
                </a:lnTo>
                <a:lnTo>
                  <a:pt x="1006" y="530"/>
                </a:lnTo>
                <a:lnTo>
                  <a:pt x="972" y="558"/>
                </a:lnTo>
                <a:lnTo>
                  <a:pt x="972" y="592"/>
                </a:lnTo>
                <a:lnTo>
                  <a:pt x="944" y="627"/>
                </a:lnTo>
                <a:lnTo>
                  <a:pt x="910" y="654"/>
                </a:lnTo>
                <a:lnTo>
                  <a:pt x="882" y="689"/>
                </a:lnTo>
                <a:lnTo>
                  <a:pt x="882" y="716"/>
                </a:lnTo>
                <a:lnTo>
                  <a:pt x="848" y="751"/>
                </a:lnTo>
                <a:lnTo>
                  <a:pt x="820" y="778"/>
                </a:lnTo>
                <a:lnTo>
                  <a:pt x="786" y="813"/>
                </a:lnTo>
                <a:lnTo>
                  <a:pt x="786" y="840"/>
                </a:lnTo>
                <a:lnTo>
                  <a:pt x="751" y="875"/>
                </a:lnTo>
                <a:lnTo>
                  <a:pt x="723" y="902"/>
                </a:lnTo>
                <a:lnTo>
                  <a:pt x="689" y="937"/>
                </a:lnTo>
                <a:lnTo>
                  <a:pt x="689" y="964"/>
                </a:lnTo>
                <a:lnTo>
                  <a:pt x="661" y="999"/>
                </a:lnTo>
                <a:lnTo>
                  <a:pt x="627" y="1033"/>
                </a:lnTo>
                <a:lnTo>
                  <a:pt x="627" y="1061"/>
                </a:lnTo>
                <a:lnTo>
                  <a:pt x="599" y="1095"/>
                </a:lnTo>
                <a:lnTo>
                  <a:pt x="565" y="1123"/>
                </a:lnTo>
                <a:lnTo>
                  <a:pt x="565" y="1157"/>
                </a:lnTo>
                <a:lnTo>
                  <a:pt x="537" y="1185"/>
                </a:lnTo>
                <a:lnTo>
                  <a:pt x="537" y="1219"/>
                </a:lnTo>
                <a:lnTo>
                  <a:pt x="537" y="1247"/>
                </a:lnTo>
                <a:lnTo>
                  <a:pt x="503" y="1281"/>
                </a:lnTo>
                <a:lnTo>
                  <a:pt x="503" y="1309"/>
                </a:lnTo>
                <a:lnTo>
                  <a:pt x="503" y="1343"/>
                </a:lnTo>
                <a:lnTo>
                  <a:pt x="475" y="1377"/>
                </a:lnTo>
                <a:lnTo>
                  <a:pt x="475" y="1405"/>
                </a:lnTo>
                <a:lnTo>
                  <a:pt x="475" y="1439"/>
                </a:lnTo>
                <a:lnTo>
                  <a:pt x="441" y="1467"/>
                </a:lnTo>
                <a:lnTo>
                  <a:pt x="441" y="1501"/>
                </a:lnTo>
                <a:lnTo>
                  <a:pt x="441" y="1529"/>
                </a:lnTo>
                <a:lnTo>
                  <a:pt x="413" y="1563"/>
                </a:lnTo>
                <a:lnTo>
                  <a:pt x="413" y="1591"/>
                </a:lnTo>
                <a:lnTo>
                  <a:pt x="379" y="1625"/>
                </a:lnTo>
                <a:lnTo>
                  <a:pt x="379" y="1653"/>
                </a:lnTo>
                <a:lnTo>
                  <a:pt x="379" y="1687"/>
                </a:lnTo>
                <a:lnTo>
                  <a:pt x="344" y="1722"/>
                </a:lnTo>
                <a:lnTo>
                  <a:pt x="344" y="1749"/>
                </a:lnTo>
                <a:lnTo>
                  <a:pt x="344" y="1784"/>
                </a:lnTo>
                <a:lnTo>
                  <a:pt x="317" y="1811"/>
                </a:lnTo>
                <a:lnTo>
                  <a:pt x="317" y="1846"/>
                </a:lnTo>
                <a:lnTo>
                  <a:pt x="317" y="1873"/>
                </a:lnTo>
                <a:lnTo>
                  <a:pt x="282" y="1908"/>
                </a:lnTo>
                <a:lnTo>
                  <a:pt x="282" y="1935"/>
                </a:lnTo>
                <a:lnTo>
                  <a:pt x="282" y="1970"/>
                </a:lnTo>
                <a:lnTo>
                  <a:pt x="255" y="1997"/>
                </a:lnTo>
                <a:lnTo>
                  <a:pt x="255" y="2032"/>
                </a:lnTo>
                <a:lnTo>
                  <a:pt x="255" y="2059"/>
                </a:lnTo>
                <a:lnTo>
                  <a:pt x="220" y="2094"/>
                </a:lnTo>
                <a:lnTo>
                  <a:pt x="220" y="2128"/>
                </a:lnTo>
                <a:lnTo>
                  <a:pt x="193" y="2156"/>
                </a:lnTo>
                <a:lnTo>
                  <a:pt x="193" y="2190"/>
                </a:lnTo>
                <a:lnTo>
                  <a:pt x="193" y="2218"/>
                </a:lnTo>
                <a:lnTo>
                  <a:pt x="158" y="2252"/>
                </a:lnTo>
                <a:lnTo>
                  <a:pt x="158" y="2280"/>
                </a:lnTo>
                <a:lnTo>
                  <a:pt x="158" y="2314"/>
                </a:lnTo>
                <a:lnTo>
                  <a:pt x="131" y="2342"/>
                </a:lnTo>
                <a:lnTo>
                  <a:pt x="131" y="2376"/>
                </a:lnTo>
                <a:lnTo>
                  <a:pt x="131" y="2404"/>
                </a:lnTo>
                <a:lnTo>
                  <a:pt x="96" y="2438"/>
                </a:lnTo>
                <a:lnTo>
                  <a:pt x="96" y="2473"/>
                </a:lnTo>
                <a:lnTo>
                  <a:pt x="96" y="2500"/>
                </a:lnTo>
                <a:lnTo>
                  <a:pt x="68" y="2535"/>
                </a:lnTo>
                <a:lnTo>
                  <a:pt x="68" y="2562"/>
                </a:lnTo>
                <a:lnTo>
                  <a:pt x="68" y="2597"/>
                </a:lnTo>
                <a:lnTo>
                  <a:pt x="34" y="2624"/>
                </a:lnTo>
                <a:lnTo>
                  <a:pt x="34" y="2659"/>
                </a:lnTo>
                <a:lnTo>
                  <a:pt x="34" y="2686"/>
                </a:lnTo>
                <a:lnTo>
                  <a:pt x="0" y="2721"/>
                </a:lnTo>
                <a:lnTo>
                  <a:pt x="0" y="2748"/>
                </a:lnTo>
                <a:lnTo>
                  <a:pt x="0" y="2783"/>
                </a:lnTo>
                <a:lnTo>
                  <a:pt x="34" y="2783"/>
                </a:lnTo>
                <a:lnTo>
                  <a:pt x="68" y="2817"/>
                </a:lnTo>
                <a:lnTo>
                  <a:pt x="96" y="2817"/>
                </a:lnTo>
                <a:lnTo>
                  <a:pt x="131" y="2845"/>
                </a:lnTo>
                <a:lnTo>
                  <a:pt x="158" y="2879"/>
                </a:lnTo>
                <a:lnTo>
                  <a:pt x="193" y="2879"/>
                </a:lnTo>
                <a:lnTo>
                  <a:pt x="220" y="2907"/>
                </a:lnTo>
                <a:lnTo>
                  <a:pt x="255" y="2907"/>
                </a:lnTo>
                <a:lnTo>
                  <a:pt x="282" y="2941"/>
                </a:lnTo>
                <a:lnTo>
                  <a:pt x="317" y="2941"/>
                </a:lnTo>
                <a:lnTo>
                  <a:pt x="344" y="2969"/>
                </a:lnTo>
                <a:lnTo>
                  <a:pt x="379" y="2969"/>
                </a:lnTo>
                <a:lnTo>
                  <a:pt x="413" y="3003"/>
                </a:lnTo>
                <a:lnTo>
                  <a:pt x="441" y="3003"/>
                </a:lnTo>
                <a:lnTo>
                  <a:pt x="475" y="3031"/>
                </a:lnTo>
                <a:lnTo>
                  <a:pt x="503" y="3031"/>
                </a:lnTo>
                <a:lnTo>
                  <a:pt x="537" y="3031"/>
                </a:lnTo>
                <a:close/>
                <a:moveTo>
                  <a:pt x="1296" y="2128"/>
                </a:moveTo>
                <a:lnTo>
                  <a:pt x="1303" y="2121"/>
                </a:lnTo>
                <a:lnTo>
                  <a:pt x="1310" y="2115"/>
                </a:lnTo>
                <a:lnTo>
                  <a:pt x="1310" y="2115"/>
                </a:lnTo>
                <a:lnTo>
                  <a:pt x="1316" y="2115"/>
                </a:lnTo>
                <a:lnTo>
                  <a:pt x="1323" y="2115"/>
                </a:lnTo>
                <a:lnTo>
                  <a:pt x="1330" y="2115"/>
                </a:lnTo>
                <a:lnTo>
                  <a:pt x="1337" y="2115"/>
                </a:lnTo>
                <a:lnTo>
                  <a:pt x="1344" y="2121"/>
                </a:lnTo>
                <a:lnTo>
                  <a:pt x="1351" y="2121"/>
                </a:lnTo>
                <a:lnTo>
                  <a:pt x="1351" y="2128"/>
                </a:lnTo>
                <a:lnTo>
                  <a:pt x="1344" y="2135"/>
                </a:lnTo>
                <a:lnTo>
                  <a:pt x="1337" y="2135"/>
                </a:lnTo>
                <a:lnTo>
                  <a:pt x="1337" y="2142"/>
                </a:lnTo>
                <a:lnTo>
                  <a:pt x="1330" y="2142"/>
                </a:lnTo>
                <a:lnTo>
                  <a:pt x="1323" y="2149"/>
                </a:lnTo>
                <a:lnTo>
                  <a:pt x="1316" y="2142"/>
                </a:lnTo>
                <a:lnTo>
                  <a:pt x="1310" y="2142"/>
                </a:lnTo>
                <a:lnTo>
                  <a:pt x="1303" y="2142"/>
                </a:lnTo>
                <a:lnTo>
                  <a:pt x="1303" y="2135"/>
                </a:lnTo>
                <a:lnTo>
                  <a:pt x="1296" y="2128"/>
                </a:lnTo>
                <a:close/>
                <a:moveTo>
                  <a:pt x="1454" y="2094"/>
                </a:moveTo>
                <a:lnTo>
                  <a:pt x="1461" y="2087"/>
                </a:lnTo>
                <a:lnTo>
                  <a:pt x="1461" y="2080"/>
                </a:lnTo>
                <a:lnTo>
                  <a:pt x="1468" y="2073"/>
                </a:lnTo>
                <a:lnTo>
                  <a:pt x="1475" y="2073"/>
                </a:lnTo>
                <a:lnTo>
                  <a:pt x="1482" y="2073"/>
                </a:lnTo>
                <a:lnTo>
                  <a:pt x="1482" y="2073"/>
                </a:lnTo>
                <a:lnTo>
                  <a:pt x="1489" y="2073"/>
                </a:lnTo>
                <a:lnTo>
                  <a:pt x="1496" y="2080"/>
                </a:lnTo>
                <a:lnTo>
                  <a:pt x="1503" y="2087"/>
                </a:lnTo>
                <a:lnTo>
                  <a:pt x="1510" y="2094"/>
                </a:lnTo>
                <a:lnTo>
                  <a:pt x="1510" y="2094"/>
                </a:lnTo>
                <a:lnTo>
                  <a:pt x="1503" y="2094"/>
                </a:lnTo>
                <a:lnTo>
                  <a:pt x="1496" y="2101"/>
                </a:lnTo>
                <a:lnTo>
                  <a:pt x="1489" y="2101"/>
                </a:lnTo>
                <a:lnTo>
                  <a:pt x="1489" y="2101"/>
                </a:lnTo>
                <a:lnTo>
                  <a:pt x="1482" y="2101"/>
                </a:lnTo>
                <a:lnTo>
                  <a:pt x="1475" y="2101"/>
                </a:lnTo>
                <a:lnTo>
                  <a:pt x="1468" y="2101"/>
                </a:lnTo>
                <a:lnTo>
                  <a:pt x="1461" y="2094"/>
                </a:lnTo>
                <a:lnTo>
                  <a:pt x="1454" y="2094"/>
                </a:lnTo>
                <a:close/>
                <a:moveTo>
                  <a:pt x="1337" y="1908"/>
                </a:moveTo>
                <a:lnTo>
                  <a:pt x="1337" y="1894"/>
                </a:lnTo>
                <a:lnTo>
                  <a:pt x="1337" y="1887"/>
                </a:lnTo>
                <a:lnTo>
                  <a:pt x="1337" y="1873"/>
                </a:lnTo>
                <a:lnTo>
                  <a:pt x="1337" y="1873"/>
                </a:lnTo>
                <a:lnTo>
                  <a:pt x="1351" y="1867"/>
                </a:lnTo>
                <a:lnTo>
                  <a:pt x="1358" y="1867"/>
                </a:lnTo>
                <a:lnTo>
                  <a:pt x="1365" y="1867"/>
                </a:lnTo>
                <a:lnTo>
                  <a:pt x="1372" y="1873"/>
                </a:lnTo>
                <a:lnTo>
                  <a:pt x="1379" y="1873"/>
                </a:lnTo>
                <a:lnTo>
                  <a:pt x="1385" y="1873"/>
                </a:lnTo>
                <a:lnTo>
                  <a:pt x="1392" y="1880"/>
                </a:lnTo>
                <a:lnTo>
                  <a:pt x="1399" y="1880"/>
                </a:lnTo>
                <a:lnTo>
                  <a:pt x="1406" y="1887"/>
                </a:lnTo>
                <a:lnTo>
                  <a:pt x="1413" y="1880"/>
                </a:lnTo>
                <a:lnTo>
                  <a:pt x="1420" y="1873"/>
                </a:lnTo>
                <a:lnTo>
                  <a:pt x="1427" y="1873"/>
                </a:lnTo>
                <a:lnTo>
                  <a:pt x="1434" y="1867"/>
                </a:lnTo>
                <a:lnTo>
                  <a:pt x="1441" y="1867"/>
                </a:lnTo>
                <a:lnTo>
                  <a:pt x="1447" y="1867"/>
                </a:lnTo>
                <a:lnTo>
                  <a:pt x="1461" y="1860"/>
                </a:lnTo>
                <a:lnTo>
                  <a:pt x="1468" y="1860"/>
                </a:lnTo>
                <a:lnTo>
                  <a:pt x="1475" y="1853"/>
                </a:lnTo>
                <a:lnTo>
                  <a:pt x="1482" y="1853"/>
                </a:lnTo>
                <a:lnTo>
                  <a:pt x="1489" y="1846"/>
                </a:lnTo>
                <a:lnTo>
                  <a:pt x="1496" y="1846"/>
                </a:lnTo>
                <a:lnTo>
                  <a:pt x="1503" y="1839"/>
                </a:lnTo>
                <a:lnTo>
                  <a:pt x="1510" y="1839"/>
                </a:lnTo>
                <a:lnTo>
                  <a:pt x="1516" y="1839"/>
                </a:lnTo>
                <a:lnTo>
                  <a:pt x="1523" y="1832"/>
                </a:lnTo>
                <a:lnTo>
                  <a:pt x="1530" y="1832"/>
                </a:lnTo>
                <a:lnTo>
                  <a:pt x="1537" y="1825"/>
                </a:lnTo>
                <a:lnTo>
                  <a:pt x="1544" y="1825"/>
                </a:lnTo>
                <a:lnTo>
                  <a:pt x="1551" y="1818"/>
                </a:lnTo>
                <a:lnTo>
                  <a:pt x="1558" y="1818"/>
                </a:lnTo>
                <a:lnTo>
                  <a:pt x="1565" y="1811"/>
                </a:lnTo>
                <a:lnTo>
                  <a:pt x="1572" y="1811"/>
                </a:lnTo>
                <a:lnTo>
                  <a:pt x="1578" y="1811"/>
                </a:lnTo>
                <a:lnTo>
                  <a:pt x="1585" y="1805"/>
                </a:lnTo>
                <a:lnTo>
                  <a:pt x="1599" y="1805"/>
                </a:lnTo>
                <a:lnTo>
                  <a:pt x="1606" y="1798"/>
                </a:lnTo>
                <a:lnTo>
                  <a:pt x="1613" y="1798"/>
                </a:lnTo>
                <a:lnTo>
                  <a:pt x="1620" y="1791"/>
                </a:lnTo>
                <a:lnTo>
                  <a:pt x="1627" y="1791"/>
                </a:lnTo>
                <a:lnTo>
                  <a:pt x="1634" y="1784"/>
                </a:lnTo>
                <a:lnTo>
                  <a:pt x="1641" y="1784"/>
                </a:lnTo>
                <a:lnTo>
                  <a:pt x="1647" y="1784"/>
                </a:lnTo>
                <a:lnTo>
                  <a:pt x="1654" y="1777"/>
                </a:lnTo>
                <a:lnTo>
                  <a:pt x="1661" y="1777"/>
                </a:lnTo>
                <a:lnTo>
                  <a:pt x="1668" y="1784"/>
                </a:lnTo>
                <a:lnTo>
                  <a:pt x="1675" y="1791"/>
                </a:lnTo>
                <a:lnTo>
                  <a:pt x="1682" y="1791"/>
                </a:lnTo>
                <a:lnTo>
                  <a:pt x="1689" y="1798"/>
                </a:lnTo>
                <a:lnTo>
                  <a:pt x="1696" y="1805"/>
                </a:lnTo>
                <a:lnTo>
                  <a:pt x="1696" y="1811"/>
                </a:lnTo>
                <a:lnTo>
                  <a:pt x="1703" y="1825"/>
                </a:lnTo>
                <a:lnTo>
                  <a:pt x="1703" y="1832"/>
                </a:lnTo>
                <a:lnTo>
                  <a:pt x="1703" y="1846"/>
                </a:lnTo>
                <a:lnTo>
                  <a:pt x="1703" y="1853"/>
                </a:lnTo>
                <a:lnTo>
                  <a:pt x="1709" y="1860"/>
                </a:lnTo>
                <a:lnTo>
                  <a:pt x="1709" y="1873"/>
                </a:lnTo>
                <a:lnTo>
                  <a:pt x="1709" y="1880"/>
                </a:lnTo>
                <a:lnTo>
                  <a:pt x="1703" y="1887"/>
                </a:lnTo>
                <a:lnTo>
                  <a:pt x="1696" y="1894"/>
                </a:lnTo>
                <a:lnTo>
                  <a:pt x="1689" y="1894"/>
                </a:lnTo>
                <a:lnTo>
                  <a:pt x="1682" y="1894"/>
                </a:lnTo>
                <a:lnTo>
                  <a:pt x="1675" y="1901"/>
                </a:lnTo>
                <a:lnTo>
                  <a:pt x="1668" y="1901"/>
                </a:lnTo>
                <a:lnTo>
                  <a:pt x="1661" y="1901"/>
                </a:lnTo>
                <a:lnTo>
                  <a:pt x="1647" y="1901"/>
                </a:lnTo>
                <a:lnTo>
                  <a:pt x="1641" y="1901"/>
                </a:lnTo>
                <a:lnTo>
                  <a:pt x="1634" y="1901"/>
                </a:lnTo>
                <a:lnTo>
                  <a:pt x="1627" y="1901"/>
                </a:lnTo>
                <a:lnTo>
                  <a:pt x="1620" y="1901"/>
                </a:lnTo>
                <a:lnTo>
                  <a:pt x="1613" y="1901"/>
                </a:lnTo>
                <a:lnTo>
                  <a:pt x="1606" y="1901"/>
                </a:lnTo>
                <a:lnTo>
                  <a:pt x="1599" y="1901"/>
                </a:lnTo>
                <a:lnTo>
                  <a:pt x="1592" y="1901"/>
                </a:lnTo>
                <a:lnTo>
                  <a:pt x="1578" y="1901"/>
                </a:lnTo>
                <a:lnTo>
                  <a:pt x="1572" y="1908"/>
                </a:lnTo>
                <a:lnTo>
                  <a:pt x="1565" y="1908"/>
                </a:lnTo>
                <a:lnTo>
                  <a:pt x="1558" y="1908"/>
                </a:lnTo>
                <a:lnTo>
                  <a:pt x="1551" y="1908"/>
                </a:lnTo>
                <a:lnTo>
                  <a:pt x="1544" y="1908"/>
                </a:lnTo>
                <a:lnTo>
                  <a:pt x="1537" y="1908"/>
                </a:lnTo>
                <a:lnTo>
                  <a:pt x="1530" y="1908"/>
                </a:lnTo>
                <a:lnTo>
                  <a:pt x="1523" y="1908"/>
                </a:lnTo>
                <a:lnTo>
                  <a:pt x="1510" y="1908"/>
                </a:lnTo>
                <a:lnTo>
                  <a:pt x="1503" y="1908"/>
                </a:lnTo>
                <a:lnTo>
                  <a:pt x="1496" y="1908"/>
                </a:lnTo>
                <a:lnTo>
                  <a:pt x="1489" y="1908"/>
                </a:lnTo>
                <a:lnTo>
                  <a:pt x="1482" y="1908"/>
                </a:lnTo>
                <a:lnTo>
                  <a:pt x="1475" y="1915"/>
                </a:lnTo>
                <a:lnTo>
                  <a:pt x="1468" y="1915"/>
                </a:lnTo>
                <a:lnTo>
                  <a:pt x="1461" y="1915"/>
                </a:lnTo>
                <a:lnTo>
                  <a:pt x="1454" y="1915"/>
                </a:lnTo>
                <a:lnTo>
                  <a:pt x="1441" y="1915"/>
                </a:lnTo>
                <a:lnTo>
                  <a:pt x="1434" y="1915"/>
                </a:lnTo>
                <a:lnTo>
                  <a:pt x="1427" y="1915"/>
                </a:lnTo>
                <a:lnTo>
                  <a:pt x="1420" y="1915"/>
                </a:lnTo>
                <a:lnTo>
                  <a:pt x="1413" y="1915"/>
                </a:lnTo>
                <a:lnTo>
                  <a:pt x="1406" y="1915"/>
                </a:lnTo>
                <a:lnTo>
                  <a:pt x="1399" y="1922"/>
                </a:lnTo>
                <a:lnTo>
                  <a:pt x="1392" y="1922"/>
                </a:lnTo>
                <a:lnTo>
                  <a:pt x="1385" y="1922"/>
                </a:lnTo>
                <a:lnTo>
                  <a:pt x="1372" y="1922"/>
                </a:lnTo>
                <a:lnTo>
                  <a:pt x="1365" y="1915"/>
                </a:lnTo>
                <a:lnTo>
                  <a:pt x="1358" y="1915"/>
                </a:lnTo>
                <a:lnTo>
                  <a:pt x="1351" y="1915"/>
                </a:lnTo>
                <a:lnTo>
                  <a:pt x="1344" y="1908"/>
                </a:lnTo>
                <a:lnTo>
                  <a:pt x="1337" y="1908"/>
                </a:lnTo>
                <a:close/>
                <a:moveTo>
                  <a:pt x="1130" y="1846"/>
                </a:moveTo>
                <a:lnTo>
                  <a:pt x="1130" y="1832"/>
                </a:lnTo>
                <a:lnTo>
                  <a:pt x="1123" y="1825"/>
                </a:lnTo>
                <a:lnTo>
                  <a:pt x="1123" y="1811"/>
                </a:lnTo>
                <a:lnTo>
                  <a:pt x="1123" y="1805"/>
                </a:lnTo>
                <a:lnTo>
                  <a:pt x="1123" y="1791"/>
                </a:lnTo>
                <a:lnTo>
                  <a:pt x="1123" y="1784"/>
                </a:lnTo>
                <a:lnTo>
                  <a:pt x="1130" y="1777"/>
                </a:lnTo>
                <a:lnTo>
                  <a:pt x="1137" y="1777"/>
                </a:lnTo>
                <a:lnTo>
                  <a:pt x="1144" y="1777"/>
                </a:lnTo>
                <a:lnTo>
                  <a:pt x="1158" y="1777"/>
                </a:lnTo>
                <a:lnTo>
                  <a:pt x="1165" y="1777"/>
                </a:lnTo>
                <a:lnTo>
                  <a:pt x="1172" y="1770"/>
                </a:lnTo>
                <a:lnTo>
                  <a:pt x="1179" y="1770"/>
                </a:lnTo>
                <a:lnTo>
                  <a:pt x="1185" y="1763"/>
                </a:lnTo>
                <a:lnTo>
                  <a:pt x="1192" y="1763"/>
                </a:lnTo>
                <a:lnTo>
                  <a:pt x="1199" y="1763"/>
                </a:lnTo>
                <a:lnTo>
                  <a:pt x="1213" y="1763"/>
                </a:lnTo>
                <a:lnTo>
                  <a:pt x="1220" y="1763"/>
                </a:lnTo>
                <a:lnTo>
                  <a:pt x="1227" y="1770"/>
                </a:lnTo>
                <a:lnTo>
                  <a:pt x="1234" y="1770"/>
                </a:lnTo>
                <a:lnTo>
                  <a:pt x="1241" y="1770"/>
                </a:lnTo>
                <a:lnTo>
                  <a:pt x="1254" y="1770"/>
                </a:lnTo>
                <a:lnTo>
                  <a:pt x="1261" y="1777"/>
                </a:lnTo>
                <a:lnTo>
                  <a:pt x="1268" y="1777"/>
                </a:lnTo>
                <a:lnTo>
                  <a:pt x="1275" y="1784"/>
                </a:lnTo>
                <a:lnTo>
                  <a:pt x="1282" y="1791"/>
                </a:lnTo>
                <a:lnTo>
                  <a:pt x="1282" y="1798"/>
                </a:lnTo>
                <a:lnTo>
                  <a:pt x="1282" y="1811"/>
                </a:lnTo>
                <a:lnTo>
                  <a:pt x="1282" y="1825"/>
                </a:lnTo>
                <a:lnTo>
                  <a:pt x="1282" y="1832"/>
                </a:lnTo>
                <a:lnTo>
                  <a:pt x="1275" y="1839"/>
                </a:lnTo>
                <a:lnTo>
                  <a:pt x="1268" y="1846"/>
                </a:lnTo>
                <a:lnTo>
                  <a:pt x="1261" y="1853"/>
                </a:lnTo>
                <a:lnTo>
                  <a:pt x="1254" y="1853"/>
                </a:lnTo>
                <a:lnTo>
                  <a:pt x="1248" y="1860"/>
                </a:lnTo>
                <a:lnTo>
                  <a:pt x="1241" y="1867"/>
                </a:lnTo>
                <a:lnTo>
                  <a:pt x="1234" y="1867"/>
                </a:lnTo>
                <a:lnTo>
                  <a:pt x="1227" y="1873"/>
                </a:lnTo>
                <a:lnTo>
                  <a:pt x="1213" y="1873"/>
                </a:lnTo>
                <a:lnTo>
                  <a:pt x="1206" y="1873"/>
                </a:lnTo>
                <a:lnTo>
                  <a:pt x="1199" y="1873"/>
                </a:lnTo>
                <a:lnTo>
                  <a:pt x="1192" y="1873"/>
                </a:lnTo>
                <a:lnTo>
                  <a:pt x="1185" y="1873"/>
                </a:lnTo>
                <a:lnTo>
                  <a:pt x="1172" y="1873"/>
                </a:lnTo>
                <a:lnTo>
                  <a:pt x="1165" y="1867"/>
                </a:lnTo>
                <a:lnTo>
                  <a:pt x="1158" y="1867"/>
                </a:lnTo>
                <a:lnTo>
                  <a:pt x="1151" y="1860"/>
                </a:lnTo>
                <a:lnTo>
                  <a:pt x="1144" y="1860"/>
                </a:lnTo>
                <a:lnTo>
                  <a:pt x="1137" y="1853"/>
                </a:lnTo>
                <a:lnTo>
                  <a:pt x="1130" y="1846"/>
                </a:lnTo>
                <a:close/>
                <a:moveTo>
                  <a:pt x="1365" y="1722"/>
                </a:moveTo>
                <a:lnTo>
                  <a:pt x="1372" y="1715"/>
                </a:lnTo>
                <a:lnTo>
                  <a:pt x="1379" y="1708"/>
                </a:lnTo>
                <a:lnTo>
                  <a:pt x="1385" y="1701"/>
                </a:lnTo>
                <a:lnTo>
                  <a:pt x="1385" y="1701"/>
                </a:lnTo>
                <a:lnTo>
                  <a:pt x="1392" y="1694"/>
                </a:lnTo>
                <a:lnTo>
                  <a:pt x="1399" y="1687"/>
                </a:lnTo>
                <a:lnTo>
                  <a:pt x="1406" y="1687"/>
                </a:lnTo>
                <a:lnTo>
                  <a:pt x="1413" y="1681"/>
                </a:lnTo>
                <a:lnTo>
                  <a:pt x="1420" y="1681"/>
                </a:lnTo>
                <a:lnTo>
                  <a:pt x="1427" y="1681"/>
                </a:lnTo>
                <a:lnTo>
                  <a:pt x="1434" y="1681"/>
                </a:lnTo>
                <a:lnTo>
                  <a:pt x="1434" y="1681"/>
                </a:lnTo>
                <a:lnTo>
                  <a:pt x="1441" y="1681"/>
                </a:lnTo>
                <a:lnTo>
                  <a:pt x="1447" y="1681"/>
                </a:lnTo>
                <a:lnTo>
                  <a:pt x="1454" y="1681"/>
                </a:lnTo>
                <a:lnTo>
                  <a:pt x="1461" y="1681"/>
                </a:lnTo>
                <a:lnTo>
                  <a:pt x="1468" y="1687"/>
                </a:lnTo>
                <a:lnTo>
                  <a:pt x="1475" y="1687"/>
                </a:lnTo>
                <a:lnTo>
                  <a:pt x="1482" y="1687"/>
                </a:lnTo>
                <a:lnTo>
                  <a:pt x="1475" y="1687"/>
                </a:lnTo>
                <a:lnTo>
                  <a:pt x="1468" y="1687"/>
                </a:lnTo>
                <a:lnTo>
                  <a:pt x="1461" y="1694"/>
                </a:lnTo>
                <a:lnTo>
                  <a:pt x="1454" y="1694"/>
                </a:lnTo>
                <a:lnTo>
                  <a:pt x="1447" y="1694"/>
                </a:lnTo>
                <a:lnTo>
                  <a:pt x="1447" y="1701"/>
                </a:lnTo>
                <a:lnTo>
                  <a:pt x="1441" y="1701"/>
                </a:lnTo>
                <a:lnTo>
                  <a:pt x="1434" y="1701"/>
                </a:lnTo>
                <a:lnTo>
                  <a:pt x="1427" y="1701"/>
                </a:lnTo>
                <a:lnTo>
                  <a:pt x="1420" y="1701"/>
                </a:lnTo>
                <a:lnTo>
                  <a:pt x="1413" y="1708"/>
                </a:lnTo>
                <a:lnTo>
                  <a:pt x="1406" y="1715"/>
                </a:lnTo>
                <a:lnTo>
                  <a:pt x="1406" y="1722"/>
                </a:lnTo>
                <a:lnTo>
                  <a:pt x="1399" y="1722"/>
                </a:lnTo>
                <a:lnTo>
                  <a:pt x="1392" y="1729"/>
                </a:lnTo>
                <a:lnTo>
                  <a:pt x="1385" y="1729"/>
                </a:lnTo>
                <a:lnTo>
                  <a:pt x="1379" y="1729"/>
                </a:lnTo>
                <a:lnTo>
                  <a:pt x="1372" y="1722"/>
                </a:lnTo>
                <a:lnTo>
                  <a:pt x="1365" y="1722"/>
                </a:lnTo>
                <a:close/>
                <a:moveTo>
                  <a:pt x="751" y="1563"/>
                </a:moveTo>
                <a:lnTo>
                  <a:pt x="751" y="1557"/>
                </a:lnTo>
                <a:lnTo>
                  <a:pt x="751" y="1550"/>
                </a:lnTo>
                <a:lnTo>
                  <a:pt x="751" y="1550"/>
                </a:lnTo>
                <a:lnTo>
                  <a:pt x="751" y="1543"/>
                </a:lnTo>
                <a:lnTo>
                  <a:pt x="751" y="1536"/>
                </a:lnTo>
                <a:lnTo>
                  <a:pt x="751" y="1536"/>
                </a:lnTo>
                <a:lnTo>
                  <a:pt x="751" y="1529"/>
                </a:lnTo>
                <a:lnTo>
                  <a:pt x="751" y="1522"/>
                </a:lnTo>
                <a:lnTo>
                  <a:pt x="751" y="1515"/>
                </a:lnTo>
                <a:lnTo>
                  <a:pt x="758" y="1522"/>
                </a:lnTo>
                <a:lnTo>
                  <a:pt x="758" y="1522"/>
                </a:lnTo>
                <a:lnTo>
                  <a:pt x="758" y="1529"/>
                </a:lnTo>
                <a:lnTo>
                  <a:pt x="765" y="1536"/>
                </a:lnTo>
                <a:lnTo>
                  <a:pt x="765" y="1536"/>
                </a:lnTo>
                <a:lnTo>
                  <a:pt x="758" y="1543"/>
                </a:lnTo>
                <a:lnTo>
                  <a:pt x="758" y="1550"/>
                </a:lnTo>
                <a:lnTo>
                  <a:pt x="758" y="1550"/>
                </a:lnTo>
                <a:lnTo>
                  <a:pt x="758" y="1557"/>
                </a:lnTo>
                <a:lnTo>
                  <a:pt x="758" y="1563"/>
                </a:lnTo>
                <a:lnTo>
                  <a:pt x="751" y="1563"/>
                </a:lnTo>
                <a:close/>
                <a:moveTo>
                  <a:pt x="992" y="1343"/>
                </a:moveTo>
                <a:lnTo>
                  <a:pt x="992" y="1336"/>
                </a:lnTo>
                <a:lnTo>
                  <a:pt x="992" y="1329"/>
                </a:lnTo>
                <a:lnTo>
                  <a:pt x="992" y="1322"/>
                </a:lnTo>
                <a:lnTo>
                  <a:pt x="992" y="1322"/>
                </a:lnTo>
                <a:lnTo>
                  <a:pt x="999" y="1315"/>
                </a:lnTo>
                <a:lnTo>
                  <a:pt x="999" y="1309"/>
                </a:lnTo>
                <a:lnTo>
                  <a:pt x="1006" y="1309"/>
                </a:lnTo>
                <a:lnTo>
                  <a:pt x="1006" y="1309"/>
                </a:lnTo>
                <a:lnTo>
                  <a:pt x="1013" y="1315"/>
                </a:lnTo>
                <a:lnTo>
                  <a:pt x="1013" y="1322"/>
                </a:lnTo>
                <a:lnTo>
                  <a:pt x="1013" y="1329"/>
                </a:lnTo>
                <a:lnTo>
                  <a:pt x="1020" y="1336"/>
                </a:lnTo>
                <a:lnTo>
                  <a:pt x="1020" y="1336"/>
                </a:lnTo>
                <a:lnTo>
                  <a:pt x="1013" y="1343"/>
                </a:lnTo>
                <a:lnTo>
                  <a:pt x="1013" y="1343"/>
                </a:lnTo>
                <a:lnTo>
                  <a:pt x="1006" y="1350"/>
                </a:lnTo>
                <a:lnTo>
                  <a:pt x="1006" y="1350"/>
                </a:lnTo>
                <a:lnTo>
                  <a:pt x="999" y="1350"/>
                </a:lnTo>
                <a:lnTo>
                  <a:pt x="992" y="1343"/>
                </a:lnTo>
                <a:lnTo>
                  <a:pt x="992" y="1343"/>
                </a:lnTo>
                <a:close/>
                <a:moveTo>
                  <a:pt x="1220" y="1281"/>
                </a:moveTo>
                <a:lnTo>
                  <a:pt x="1220" y="1274"/>
                </a:lnTo>
                <a:lnTo>
                  <a:pt x="1220" y="1267"/>
                </a:lnTo>
                <a:lnTo>
                  <a:pt x="1227" y="1267"/>
                </a:lnTo>
                <a:lnTo>
                  <a:pt x="1227" y="1267"/>
                </a:lnTo>
                <a:lnTo>
                  <a:pt x="1234" y="1267"/>
                </a:lnTo>
                <a:lnTo>
                  <a:pt x="1241" y="1274"/>
                </a:lnTo>
                <a:lnTo>
                  <a:pt x="1241" y="1274"/>
                </a:lnTo>
                <a:lnTo>
                  <a:pt x="1241" y="1281"/>
                </a:lnTo>
                <a:lnTo>
                  <a:pt x="1241" y="1281"/>
                </a:lnTo>
                <a:lnTo>
                  <a:pt x="1241" y="1281"/>
                </a:lnTo>
                <a:lnTo>
                  <a:pt x="1234" y="1281"/>
                </a:lnTo>
                <a:lnTo>
                  <a:pt x="1227" y="1281"/>
                </a:lnTo>
                <a:lnTo>
                  <a:pt x="1220" y="1281"/>
                </a:lnTo>
                <a:lnTo>
                  <a:pt x="1220" y="1281"/>
                </a:lnTo>
                <a:close/>
              </a:path>
            </a:pathLst>
          </a:custGeom>
          <a:solidFill>
            <a:srgbClr val="ffe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8" name=""/>
          <p:cNvSpPr/>
          <p:nvPr/>
        </p:nvSpPr>
        <p:spPr>
          <a:xfrm>
            <a:off x="3052800" y="1317600"/>
            <a:ext cx="3786120" cy="4811760"/>
          </a:xfrm>
          <a:custGeom>
            <a:avLst/>
            <a:gdLst/>
            <a:ahLst/>
            <a:rect l="l" t="t" r="r" b="b"/>
            <a:pathLst>
              <a:path w="2385" h="3031">
                <a:moveTo>
                  <a:pt x="537" y="3031"/>
                </a:moveTo>
                <a:lnTo>
                  <a:pt x="565" y="3003"/>
                </a:lnTo>
                <a:lnTo>
                  <a:pt x="599" y="3003"/>
                </a:lnTo>
                <a:lnTo>
                  <a:pt x="627" y="2969"/>
                </a:lnTo>
                <a:lnTo>
                  <a:pt x="661" y="2941"/>
                </a:lnTo>
                <a:lnTo>
                  <a:pt x="689" y="2907"/>
                </a:lnTo>
                <a:lnTo>
                  <a:pt x="723" y="2907"/>
                </a:lnTo>
                <a:lnTo>
                  <a:pt x="751" y="2879"/>
                </a:lnTo>
                <a:lnTo>
                  <a:pt x="786" y="2845"/>
                </a:lnTo>
                <a:lnTo>
                  <a:pt x="820" y="2845"/>
                </a:lnTo>
                <a:lnTo>
                  <a:pt x="848" y="2817"/>
                </a:lnTo>
                <a:lnTo>
                  <a:pt x="882" y="2783"/>
                </a:lnTo>
                <a:lnTo>
                  <a:pt x="910" y="2783"/>
                </a:lnTo>
                <a:lnTo>
                  <a:pt x="944" y="2748"/>
                </a:lnTo>
                <a:lnTo>
                  <a:pt x="972" y="2721"/>
                </a:lnTo>
                <a:lnTo>
                  <a:pt x="1006" y="2686"/>
                </a:lnTo>
                <a:lnTo>
                  <a:pt x="1034" y="2686"/>
                </a:lnTo>
                <a:lnTo>
                  <a:pt x="1068" y="2659"/>
                </a:lnTo>
                <a:lnTo>
                  <a:pt x="1096" y="2624"/>
                </a:lnTo>
                <a:lnTo>
                  <a:pt x="1130" y="2624"/>
                </a:lnTo>
                <a:lnTo>
                  <a:pt x="1165" y="2597"/>
                </a:lnTo>
                <a:lnTo>
                  <a:pt x="1192" y="2562"/>
                </a:lnTo>
                <a:lnTo>
                  <a:pt x="1227" y="2535"/>
                </a:lnTo>
                <a:lnTo>
                  <a:pt x="1254" y="2535"/>
                </a:lnTo>
                <a:lnTo>
                  <a:pt x="1289" y="2500"/>
                </a:lnTo>
                <a:lnTo>
                  <a:pt x="1316" y="2473"/>
                </a:lnTo>
                <a:lnTo>
                  <a:pt x="1351" y="2473"/>
                </a:lnTo>
                <a:lnTo>
                  <a:pt x="1379" y="2438"/>
                </a:lnTo>
                <a:lnTo>
                  <a:pt x="1413" y="2404"/>
                </a:lnTo>
                <a:lnTo>
                  <a:pt x="1441" y="2376"/>
                </a:lnTo>
                <a:lnTo>
                  <a:pt x="1475" y="2376"/>
                </a:lnTo>
                <a:lnTo>
                  <a:pt x="1503" y="2342"/>
                </a:lnTo>
                <a:lnTo>
                  <a:pt x="1537" y="2314"/>
                </a:lnTo>
                <a:lnTo>
                  <a:pt x="1572" y="2314"/>
                </a:lnTo>
                <a:lnTo>
                  <a:pt x="1599" y="2280"/>
                </a:lnTo>
                <a:lnTo>
                  <a:pt x="1634" y="2252"/>
                </a:lnTo>
                <a:lnTo>
                  <a:pt x="1661" y="2218"/>
                </a:lnTo>
                <a:lnTo>
                  <a:pt x="1696" y="2218"/>
                </a:lnTo>
                <a:lnTo>
                  <a:pt x="1723" y="2190"/>
                </a:lnTo>
                <a:lnTo>
                  <a:pt x="1758" y="2156"/>
                </a:lnTo>
                <a:lnTo>
                  <a:pt x="1785" y="2156"/>
                </a:lnTo>
                <a:lnTo>
                  <a:pt x="1820" y="2128"/>
                </a:lnTo>
                <a:lnTo>
                  <a:pt x="1847" y="2094"/>
                </a:lnTo>
                <a:lnTo>
                  <a:pt x="1882" y="2059"/>
                </a:lnTo>
                <a:lnTo>
                  <a:pt x="1916" y="2059"/>
                </a:lnTo>
                <a:lnTo>
                  <a:pt x="1916" y="2032"/>
                </a:lnTo>
                <a:lnTo>
                  <a:pt x="1944" y="1997"/>
                </a:lnTo>
                <a:lnTo>
                  <a:pt x="1978" y="1970"/>
                </a:lnTo>
                <a:lnTo>
                  <a:pt x="1978" y="1935"/>
                </a:lnTo>
                <a:lnTo>
                  <a:pt x="2006" y="1908"/>
                </a:lnTo>
                <a:lnTo>
                  <a:pt x="2040" y="1873"/>
                </a:lnTo>
                <a:lnTo>
                  <a:pt x="2040" y="1846"/>
                </a:lnTo>
                <a:lnTo>
                  <a:pt x="2068" y="1811"/>
                </a:lnTo>
                <a:lnTo>
                  <a:pt x="2102" y="1784"/>
                </a:lnTo>
                <a:lnTo>
                  <a:pt x="2102" y="1749"/>
                </a:lnTo>
                <a:lnTo>
                  <a:pt x="2102" y="1722"/>
                </a:lnTo>
                <a:lnTo>
                  <a:pt x="2130" y="1687"/>
                </a:lnTo>
                <a:lnTo>
                  <a:pt x="2130" y="1653"/>
                </a:lnTo>
                <a:lnTo>
                  <a:pt x="2130" y="1625"/>
                </a:lnTo>
                <a:lnTo>
                  <a:pt x="2165" y="1591"/>
                </a:lnTo>
                <a:lnTo>
                  <a:pt x="2165" y="1563"/>
                </a:lnTo>
                <a:lnTo>
                  <a:pt x="2165" y="1529"/>
                </a:lnTo>
                <a:lnTo>
                  <a:pt x="2165" y="1501"/>
                </a:lnTo>
                <a:lnTo>
                  <a:pt x="2192" y="1467"/>
                </a:lnTo>
                <a:lnTo>
                  <a:pt x="2192" y="1439"/>
                </a:lnTo>
                <a:lnTo>
                  <a:pt x="2192" y="1405"/>
                </a:lnTo>
                <a:lnTo>
                  <a:pt x="2192" y="1377"/>
                </a:lnTo>
                <a:lnTo>
                  <a:pt x="2192" y="1343"/>
                </a:lnTo>
                <a:lnTo>
                  <a:pt x="2192" y="1309"/>
                </a:lnTo>
                <a:lnTo>
                  <a:pt x="2192" y="1281"/>
                </a:lnTo>
                <a:lnTo>
                  <a:pt x="2227" y="1247"/>
                </a:lnTo>
                <a:lnTo>
                  <a:pt x="2227" y="1219"/>
                </a:lnTo>
                <a:lnTo>
                  <a:pt x="2227" y="1185"/>
                </a:lnTo>
                <a:lnTo>
                  <a:pt x="2227" y="1157"/>
                </a:lnTo>
                <a:lnTo>
                  <a:pt x="2227" y="1123"/>
                </a:lnTo>
                <a:lnTo>
                  <a:pt x="2227" y="1095"/>
                </a:lnTo>
                <a:lnTo>
                  <a:pt x="2227" y="1061"/>
                </a:lnTo>
                <a:lnTo>
                  <a:pt x="2261" y="1033"/>
                </a:lnTo>
                <a:lnTo>
                  <a:pt x="2261" y="999"/>
                </a:lnTo>
                <a:lnTo>
                  <a:pt x="2261" y="964"/>
                </a:lnTo>
                <a:lnTo>
                  <a:pt x="2261" y="937"/>
                </a:lnTo>
                <a:lnTo>
                  <a:pt x="2261" y="902"/>
                </a:lnTo>
                <a:lnTo>
                  <a:pt x="2261" y="875"/>
                </a:lnTo>
                <a:lnTo>
                  <a:pt x="2261" y="840"/>
                </a:lnTo>
                <a:lnTo>
                  <a:pt x="2289" y="813"/>
                </a:lnTo>
                <a:lnTo>
                  <a:pt x="2289" y="778"/>
                </a:lnTo>
                <a:lnTo>
                  <a:pt x="2289" y="751"/>
                </a:lnTo>
                <a:lnTo>
                  <a:pt x="2289" y="716"/>
                </a:lnTo>
                <a:lnTo>
                  <a:pt x="2289" y="689"/>
                </a:lnTo>
                <a:lnTo>
                  <a:pt x="2289" y="654"/>
                </a:lnTo>
                <a:lnTo>
                  <a:pt x="2289" y="627"/>
                </a:lnTo>
                <a:lnTo>
                  <a:pt x="2323" y="592"/>
                </a:lnTo>
                <a:lnTo>
                  <a:pt x="2323" y="558"/>
                </a:lnTo>
                <a:lnTo>
                  <a:pt x="2323" y="530"/>
                </a:lnTo>
                <a:lnTo>
                  <a:pt x="2323" y="496"/>
                </a:lnTo>
                <a:lnTo>
                  <a:pt x="2323" y="468"/>
                </a:lnTo>
                <a:lnTo>
                  <a:pt x="2323" y="434"/>
                </a:lnTo>
                <a:lnTo>
                  <a:pt x="2323" y="406"/>
                </a:lnTo>
                <a:lnTo>
                  <a:pt x="2351" y="372"/>
                </a:lnTo>
                <a:lnTo>
                  <a:pt x="2351" y="344"/>
                </a:lnTo>
                <a:lnTo>
                  <a:pt x="2351" y="310"/>
                </a:lnTo>
                <a:lnTo>
                  <a:pt x="2351" y="282"/>
                </a:lnTo>
                <a:lnTo>
                  <a:pt x="2351" y="248"/>
                </a:lnTo>
                <a:lnTo>
                  <a:pt x="2351" y="213"/>
                </a:lnTo>
                <a:lnTo>
                  <a:pt x="2351" y="186"/>
                </a:lnTo>
                <a:lnTo>
                  <a:pt x="2385" y="151"/>
                </a:lnTo>
                <a:lnTo>
                  <a:pt x="2385" y="124"/>
                </a:lnTo>
                <a:lnTo>
                  <a:pt x="2385" y="89"/>
                </a:lnTo>
                <a:lnTo>
                  <a:pt x="2385" y="62"/>
                </a:lnTo>
                <a:lnTo>
                  <a:pt x="2385" y="27"/>
                </a:lnTo>
                <a:lnTo>
                  <a:pt x="2385" y="0"/>
                </a:lnTo>
                <a:lnTo>
                  <a:pt x="2351" y="0"/>
                </a:lnTo>
                <a:lnTo>
                  <a:pt x="2323" y="0"/>
                </a:lnTo>
                <a:lnTo>
                  <a:pt x="2289" y="0"/>
                </a:lnTo>
                <a:lnTo>
                  <a:pt x="2261" y="0"/>
                </a:lnTo>
                <a:lnTo>
                  <a:pt x="2227" y="27"/>
                </a:lnTo>
                <a:lnTo>
                  <a:pt x="2192" y="27"/>
                </a:lnTo>
                <a:lnTo>
                  <a:pt x="2165" y="27"/>
                </a:lnTo>
                <a:lnTo>
                  <a:pt x="2130" y="62"/>
                </a:lnTo>
                <a:lnTo>
                  <a:pt x="2102" y="62"/>
                </a:lnTo>
                <a:lnTo>
                  <a:pt x="2068" y="89"/>
                </a:lnTo>
                <a:lnTo>
                  <a:pt x="2040" y="89"/>
                </a:lnTo>
                <a:lnTo>
                  <a:pt x="2006" y="89"/>
                </a:lnTo>
                <a:lnTo>
                  <a:pt x="1978" y="124"/>
                </a:lnTo>
                <a:lnTo>
                  <a:pt x="1944" y="124"/>
                </a:lnTo>
                <a:lnTo>
                  <a:pt x="1916" y="151"/>
                </a:lnTo>
                <a:lnTo>
                  <a:pt x="1882" y="151"/>
                </a:lnTo>
                <a:lnTo>
                  <a:pt x="1847" y="151"/>
                </a:lnTo>
                <a:lnTo>
                  <a:pt x="1820" y="186"/>
                </a:lnTo>
                <a:lnTo>
                  <a:pt x="1785" y="186"/>
                </a:lnTo>
                <a:lnTo>
                  <a:pt x="1758" y="213"/>
                </a:lnTo>
                <a:lnTo>
                  <a:pt x="1723" y="213"/>
                </a:lnTo>
                <a:lnTo>
                  <a:pt x="1696" y="213"/>
                </a:lnTo>
                <a:lnTo>
                  <a:pt x="1661" y="248"/>
                </a:lnTo>
                <a:lnTo>
                  <a:pt x="1634" y="248"/>
                </a:lnTo>
                <a:lnTo>
                  <a:pt x="1599" y="282"/>
                </a:lnTo>
                <a:lnTo>
                  <a:pt x="1572" y="282"/>
                </a:lnTo>
                <a:lnTo>
                  <a:pt x="1537" y="282"/>
                </a:lnTo>
                <a:lnTo>
                  <a:pt x="1503" y="310"/>
                </a:lnTo>
                <a:lnTo>
                  <a:pt x="1475" y="310"/>
                </a:lnTo>
                <a:lnTo>
                  <a:pt x="1441" y="344"/>
                </a:lnTo>
                <a:lnTo>
                  <a:pt x="1413" y="344"/>
                </a:lnTo>
                <a:lnTo>
                  <a:pt x="1379" y="344"/>
                </a:lnTo>
                <a:lnTo>
                  <a:pt x="1351" y="372"/>
                </a:lnTo>
                <a:lnTo>
                  <a:pt x="1316" y="372"/>
                </a:lnTo>
                <a:lnTo>
                  <a:pt x="1289" y="406"/>
                </a:lnTo>
                <a:lnTo>
                  <a:pt x="1254" y="406"/>
                </a:lnTo>
                <a:lnTo>
                  <a:pt x="1227" y="406"/>
                </a:lnTo>
                <a:lnTo>
                  <a:pt x="1192" y="434"/>
                </a:lnTo>
                <a:lnTo>
                  <a:pt x="1165" y="434"/>
                </a:lnTo>
                <a:lnTo>
                  <a:pt x="1130" y="468"/>
                </a:lnTo>
                <a:lnTo>
                  <a:pt x="1096" y="468"/>
                </a:lnTo>
                <a:lnTo>
                  <a:pt x="1068" y="468"/>
                </a:lnTo>
                <a:lnTo>
                  <a:pt x="1034" y="496"/>
                </a:lnTo>
                <a:lnTo>
                  <a:pt x="1006" y="530"/>
                </a:lnTo>
                <a:lnTo>
                  <a:pt x="972" y="558"/>
                </a:lnTo>
                <a:lnTo>
                  <a:pt x="972" y="592"/>
                </a:lnTo>
                <a:lnTo>
                  <a:pt x="944" y="627"/>
                </a:lnTo>
                <a:lnTo>
                  <a:pt x="910" y="654"/>
                </a:lnTo>
                <a:lnTo>
                  <a:pt x="882" y="689"/>
                </a:lnTo>
                <a:lnTo>
                  <a:pt x="882" y="716"/>
                </a:lnTo>
                <a:lnTo>
                  <a:pt x="848" y="751"/>
                </a:lnTo>
                <a:lnTo>
                  <a:pt x="820" y="778"/>
                </a:lnTo>
                <a:lnTo>
                  <a:pt x="786" y="813"/>
                </a:lnTo>
                <a:lnTo>
                  <a:pt x="786" y="840"/>
                </a:lnTo>
                <a:lnTo>
                  <a:pt x="751" y="875"/>
                </a:lnTo>
                <a:lnTo>
                  <a:pt x="723" y="902"/>
                </a:lnTo>
                <a:lnTo>
                  <a:pt x="689" y="937"/>
                </a:lnTo>
                <a:lnTo>
                  <a:pt x="689" y="964"/>
                </a:lnTo>
                <a:lnTo>
                  <a:pt x="661" y="999"/>
                </a:lnTo>
                <a:lnTo>
                  <a:pt x="627" y="1033"/>
                </a:lnTo>
                <a:lnTo>
                  <a:pt x="627" y="1061"/>
                </a:lnTo>
                <a:lnTo>
                  <a:pt x="599" y="1095"/>
                </a:lnTo>
                <a:lnTo>
                  <a:pt x="565" y="1123"/>
                </a:lnTo>
                <a:lnTo>
                  <a:pt x="565" y="1157"/>
                </a:lnTo>
                <a:lnTo>
                  <a:pt x="537" y="1185"/>
                </a:lnTo>
                <a:lnTo>
                  <a:pt x="537" y="1219"/>
                </a:lnTo>
                <a:lnTo>
                  <a:pt x="537" y="1247"/>
                </a:lnTo>
                <a:lnTo>
                  <a:pt x="503" y="1281"/>
                </a:lnTo>
                <a:lnTo>
                  <a:pt x="503" y="1309"/>
                </a:lnTo>
                <a:lnTo>
                  <a:pt x="503" y="1343"/>
                </a:lnTo>
                <a:lnTo>
                  <a:pt x="475" y="1377"/>
                </a:lnTo>
                <a:lnTo>
                  <a:pt x="475" y="1405"/>
                </a:lnTo>
                <a:lnTo>
                  <a:pt x="475" y="1439"/>
                </a:lnTo>
                <a:lnTo>
                  <a:pt x="441" y="1467"/>
                </a:lnTo>
                <a:lnTo>
                  <a:pt x="441" y="1501"/>
                </a:lnTo>
                <a:lnTo>
                  <a:pt x="441" y="1529"/>
                </a:lnTo>
                <a:lnTo>
                  <a:pt x="413" y="1563"/>
                </a:lnTo>
                <a:lnTo>
                  <a:pt x="413" y="1591"/>
                </a:lnTo>
                <a:lnTo>
                  <a:pt x="379" y="1625"/>
                </a:lnTo>
                <a:lnTo>
                  <a:pt x="379" y="1653"/>
                </a:lnTo>
                <a:lnTo>
                  <a:pt x="379" y="1687"/>
                </a:lnTo>
                <a:lnTo>
                  <a:pt x="344" y="1722"/>
                </a:lnTo>
                <a:lnTo>
                  <a:pt x="344" y="1749"/>
                </a:lnTo>
                <a:lnTo>
                  <a:pt x="344" y="1784"/>
                </a:lnTo>
                <a:lnTo>
                  <a:pt x="317" y="1811"/>
                </a:lnTo>
                <a:lnTo>
                  <a:pt x="317" y="1846"/>
                </a:lnTo>
                <a:lnTo>
                  <a:pt x="317" y="1873"/>
                </a:lnTo>
                <a:lnTo>
                  <a:pt x="282" y="1908"/>
                </a:lnTo>
                <a:lnTo>
                  <a:pt x="282" y="1935"/>
                </a:lnTo>
                <a:lnTo>
                  <a:pt x="282" y="1970"/>
                </a:lnTo>
                <a:lnTo>
                  <a:pt x="255" y="1997"/>
                </a:lnTo>
                <a:lnTo>
                  <a:pt x="255" y="2032"/>
                </a:lnTo>
                <a:lnTo>
                  <a:pt x="255" y="2059"/>
                </a:lnTo>
                <a:lnTo>
                  <a:pt x="220" y="2094"/>
                </a:lnTo>
                <a:lnTo>
                  <a:pt x="220" y="2128"/>
                </a:lnTo>
                <a:lnTo>
                  <a:pt x="193" y="2156"/>
                </a:lnTo>
                <a:lnTo>
                  <a:pt x="193" y="2190"/>
                </a:lnTo>
                <a:lnTo>
                  <a:pt x="193" y="2218"/>
                </a:lnTo>
                <a:lnTo>
                  <a:pt x="158" y="2252"/>
                </a:lnTo>
                <a:lnTo>
                  <a:pt x="158" y="2280"/>
                </a:lnTo>
                <a:lnTo>
                  <a:pt x="158" y="2314"/>
                </a:lnTo>
                <a:lnTo>
                  <a:pt x="131" y="2342"/>
                </a:lnTo>
                <a:lnTo>
                  <a:pt x="131" y="2376"/>
                </a:lnTo>
                <a:lnTo>
                  <a:pt x="131" y="2404"/>
                </a:lnTo>
                <a:lnTo>
                  <a:pt x="96" y="2438"/>
                </a:lnTo>
                <a:lnTo>
                  <a:pt x="96" y="2473"/>
                </a:lnTo>
                <a:lnTo>
                  <a:pt x="96" y="2500"/>
                </a:lnTo>
                <a:lnTo>
                  <a:pt x="68" y="2535"/>
                </a:lnTo>
                <a:lnTo>
                  <a:pt x="68" y="2562"/>
                </a:lnTo>
                <a:lnTo>
                  <a:pt x="68" y="2597"/>
                </a:lnTo>
                <a:lnTo>
                  <a:pt x="34" y="2624"/>
                </a:lnTo>
                <a:lnTo>
                  <a:pt x="34" y="2659"/>
                </a:lnTo>
                <a:lnTo>
                  <a:pt x="34" y="2686"/>
                </a:lnTo>
                <a:lnTo>
                  <a:pt x="0" y="2721"/>
                </a:lnTo>
                <a:lnTo>
                  <a:pt x="0" y="2748"/>
                </a:lnTo>
                <a:lnTo>
                  <a:pt x="0" y="2783"/>
                </a:lnTo>
                <a:lnTo>
                  <a:pt x="34" y="2783"/>
                </a:lnTo>
                <a:lnTo>
                  <a:pt x="68" y="2817"/>
                </a:lnTo>
                <a:lnTo>
                  <a:pt x="96" y="2817"/>
                </a:lnTo>
                <a:lnTo>
                  <a:pt x="131" y="2845"/>
                </a:lnTo>
                <a:lnTo>
                  <a:pt x="158" y="2879"/>
                </a:lnTo>
                <a:lnTo>
                  <a:pt x="193" y="2879"/>
                </a:lnTo>
                <a:lnTo>
                  <a:pt x="220" y="2907"/>
                </a:lnTo>
                <a:lnTo>
                  <a:pt x="255" y="2907"/>
                </a:lnTo>
                <a:lnTo>
                  <a:pt x="282" y="2941"/>
                </a:lnTo>
                <a:lnTo>
                  <a:pt x="317" y="2941"/>
                </a:lnTo>
                <a:lnTo>
                  <a:pt x="344" y="2969"/>
                </a:lnTo>
                <a:lnTo>
                  <a:pt x="379" y="2969"/>
                </a:lnTo>
                <a:lnTo>
                  <a:pt x="413" y="3003"/>
                </a:lnTo>
                <a:lnTo>
                  <a:pt x="441" y="3003"/>
                </a:lnTo>
                <a:lnTo>
                  <a:pt x="475" y="3031"/>
                </a:lnTo>
                <a:lnTo>
                  <a:pt x="503" y="3031"/>
                </a:lnTo>
                <a:lnTo>
                  <a:pt x="537" y="3031"/>
                </a:lnTo>
                <a:close/>
                <a:moveTo>
                  <a:pt x="1296" y="2128"/>
                </a:moveTo>
                <a:lnTo>
                  <a:pt x="1303" y="2121"/>
                </a:lnTo>
                <a:lnTo>
                  <a:pt x="1310" y="2115"/>
                </a:lnTo>
                <a:lnTo>
                  <a:pt x="1310" y="2115"/>
                </a:lnTo>
                <a:lnTo>
                  <a:pt x="1316" y="2115"/>
                </a:lnTo>
                <a:lnTo>
                  <a:pt x="1323" y="2115"/>
                </a:lnTo>
                <a:lnTo>
                  <a:pt x="1330" y="2115"/>
                </a:lnTo>
                <a:lnTo>
                  <a:pt x="1337" y="2115"/>
                </a:lnTo>
                <a:lnTo>
                  <a:pt x="1344" y="2121"/>
                </a:lnTo>
                <a:lnTo>
                  <a:pt x="1351" y="2121"/>
                </a:lnTo>
                <a:lnTo>
                  <a:pt x="1351" y="2128"/>
                </a:lnTo>
                <a:lnTo>
                  <a:pt x="1344" y="2135"/>
                </a:lnTo>
                <a:lnTo>
                  <a:pt x="1337" y="2135"/>
                </a:lnTo>
                <a:lnTo>
                  <a:pt x="1337" y="2142"/>
                </a:lnTo>
                <a:lnTo>
                  <a:pt x="1330" y="2142"/>
                </a:lnTo>
                <a:lnTo>
                  <a:pt x="1323" y="2149"/>
                </a:lnTo>
                <a:lnTo>
                  <a:pt x="1316" y="2142"/>
                </a:lnTo>
                <a:lnTo>
                  <a:pt x="1310" y="2142"/>
                </a:lnTo>
                <a:lnTo>
                  <a:pt x="1303" y="2142"/>
                </a:lnTo>
                <a:lnTo>
                  <a:pt x="1303" y="2135"/>
                </a:lnTo>
                <a:lnTo>
                  <a:pt x="1296" y="2128"/>
                </a:lnTo>
                <a:close/>
                <a:moveTo>
                  <a:pt x="1454" y="2094"/>
                </a:moveTo>
                <a:lnTo>
                  <a:pt x="1461" y="2087"/>
                </a:lnTo>
                <a:lnTo>
                  <a:pt x="1461" y="2080"/>
                </a:lnTo>
                <a:lnTo>
                  <a:pt x="1468" y="2073"/>
                </a:lnTo>
                <a:lnTo>
                  <a:pt x="1475" y="2073"/>
                </a:lnTo>
                <a:lnTo>
                  <a:pt x="1482" y="2073"/>
                </a:lnTo>
                <a:lnTo>
                  <a:pt x="1482" y="2073"/>
                </a:lnTo>
                <a:lnTo>
                  <a:pt x="1489" y="2073"/>
                </a:lnTo>
                <a:lnTo>
                  <a:pt x="1496" y="2080"/>
                </a:lnTo>
                <a:lnTo>
                  <a:pt x="1503" y="2087"/>
                </a:lnTo>
                <a:lnTo>
                  <a:pt x="1510" y="2094"/>
                </a:lnTo>
                <a:lnTo>
                  <a:pt x="1510" y="2094"/>
                </a:lnTo>
                <a:lnTo>
                  <a:pt x="1503" y="2094"/>
                </a:lnTo>
                <a:lnTo>
                  <a:pt x="1496" y="2101"/>
                </a:lnTo>
                <a:lnTo>
                  <a:pt x="1489" y="2101"/>
                </a:lnTo>
                <a:lnTo>
                  <a:pt x="1489" y="2101"/>
                </a:lnTo>
                <a:lnTo>
                  <a:pt x="1482" y="2101"/>
                </a:lnTo>
                <a:lnTo>
                  <a:pt x="1475" y="2101"/>
                </a:lnTo>
                <a:lnTo>
                  <a:pt x="1468" y="2101"/>
                </a:lnTo>
                <a:lnTo>
                  <a:pt x="1461" y="2094"/>
                </a:lnTo>
                <a:lnTo>
                  <a:pt x="1454" y="2094"/>
                </a:lnTo>
                <a:close/>
                <a:moveTo>
                  <a:pt x="1337" y="1908"/>
                </a:moveTo>
                <a:lnTo>
                  <a:pt x="1337" y="1894"/>
                </a:lnTo>
                <a:lnTo>
                  <a:pt x="1337" y="1887"/>
                </a:lnTo>
                <a:lnTo>
                  <a:pt x="1337" y="1873"/>
                </a:lnTo>
                <a:lnTo>
                  <a:pt x="1337" y="1873"/>
                </a:lnTo>
                <a:lnTo>
                  <a:pt x="1351" y="1867"/>
                </a:lnTo>
                <a:lnTo>
                  <a:pt x="1358" y="1867"/>
                </a:lnTo>
                <a:lnTo>
                  <a:pt x="1365" y="1867"/>
                </a:lnTo>
                <a:lnTo>
                  <a:pt x="1372" y="1873"/>
                </a:lnTo>
                <a:lnTo>
                  <a:pt x="1379" y="1873"/>
                </a:lnTo>
                <a:lnTo>
                  <a:pt x="1385" y="1873"/>
                </a:lnTo>
                <a:lnTo>
                  <a:pt x="1392" y="1880"/>
                </a:lnTo>
                <a:lnTo>
                  <a:pt x="1399" y="1880"/>
                </a:lnTo>
                <a:lnTo>
                  <a:pt x="1406" y="1887"/>
                </a:lnTo>
                <a:lnTo>
                  <a:pt x="1413" y="1880"/>
                </a:lnTo>
                <a:lnTo>
                  <a:pt x="1420" y="1873"/>
                </a:lnTo>
                <a:lnTo>
                  <a:pt x="1427" y="1873"/>
                </a:lnTo>
                <a:lnTo>
                  <a:pt x="1434" y="1867"/>
                </a:lnTo>
                <a:lnTo>
                  <a:pt x="1441" y="1867"/>
                </a:lnTo>
                <a:lnTo>
                  <a:pt x="1447" y="1867"/>
                </a:lnTo>
                <a:lnTo>
                  <a:pt x="1461" y="1860"/>
                </a:lnTo>
                <a:lnTo>
                  <a:pt x="1468" y="1860"/>
                </a:lnTo>
                <a:lnTo>
                  <a:pt x="1475" y="1853"/>
                </a:lnTo>
                <a:lnTo>
                  <a:pt x="1482" y="1853"/>
                </a:lnTo>
                <a:lnTo>
                  <a:pt x="1489" y="1846"/>
                </a:lnTo>
                <a:lnTo>
                  <a:pt x="1496" y="1846"/>
                </a:lnTo>
                <a:lnTo>
                  <a:pt x="1503" y="1839"/>
                </a:lnTo>
                <a:lnTo>
                  <a:pt x="1510" y="1839"/>
                </a:lnTo>
                <a:lnTo>
                  <a:pt x="1516" y="1839"/>
                </a:lnTo>
                <a:lnTo>
                  <a:pt x="1523" y="1832"/>
                </a:lnTo>
                <a:lnTo>
                  <a:pt x="1530" y="1832"/>
                </a:lnTo>
                <a:lnTo>
                  <a:pt x="1537" y="1825"/>
                </a:lnTo>
                <a:lnTo>
                  <a:pt x="1544" y="1825"/>
                </a:lnTo>
                <a:lnTo>
                  <a:pt x="1551" y="1818"/>
                </a:lnTo>
                <a:lnTo>
                  <a:pt x="1558" y="1818"/>
                </a:lnTo>
                <a:lnTo>
                  <a:pt x="1565" y="1811"/>
                </a:lnTo>
                <a:lnTo>
                  <a:pt x="1572" y="1811"/>
                </a:lnTo>
                <a:lnTo>
                  <a:pt x="1578" y="1811"/>
                </a:lnTo>
                <a:lnTo>
                  <a:pt x="1585" y="1805"/>
                </a:lnTo>
                <a:lnTo>
                  <a:pt x="1599" y="1805"/>
                </a:lnTo>
                <a:lnTo>
                  <a:pt x="1606" y="1798"/>
                </a:lnTo>
                <a:lnTo>
                  <a:pt x="1613" y="1798"/>
                </a:lnTo>
                <a:lnTo>
                  <a:pt x="1620" y="1791"/>
                </a:lnTo>
                <a:lnTo>
                  <a:pt x="1627" y="1791"/>
                </a:lnTo>
                <a:lnTo>
                  <a:pt x="1634" y="1784"/>
                </a:lnTo>
                <a:lnTo>
                  <a:pt x="1641" y="1784"/>
                </a:lnTo>
                <a:lnTo>
                  <a:pt x="1647" y="1784"/>
                </a:lnTo>
                <a:lnTo>
                  <a:pt x="1654" y="1777"/>
                </a:lnTo>
                <a:lnTo>
                  <a:pt x="1661" y="1777"/>
                </a:lnTo>
                <a:lnTo>
                  <a:pt x="1668" y="1784"/>
                </a:lnTo>
                <a:lnTo>
                  <a:pt x="1675" y="1791"/>
                </a:lnTo>
                <a:lnTo>
                  <a:pt x="1682" y="1791"/>
                </a:lnTo>
                <a:lnTo>
                  <a:pt x="1689" y="1798"/>
                </a:lnTo>
                <a:lnTo>
                  <a:pt x="1696" y="1805"/>
                </a:lnTo>
                <a:lnTo>
                  <a:pt x="1696" y="1811"/>
                </a:lnTo>
                <a:lnTo>
                  <a:pt x="1703" y="1825"/>
                </a:lnTo>
                <a:lnTo>
                  <a:pt x="1703" y="1832"/>
                </a:lnTo>
                <a:lnTo>
                  <a:pt x="1703" y="1846"/>
                </a:lnTo>
                <a:lnTo>
                  <a:pt x="1703" y="1853"/>
                </a:lnTo>
                <a:lnTo>
                  <a:pt x="1709" y="1860"/>
                </a:lnTo>
                <a:lnTo>
                  <a:pt x="1709" y="1873"/>
                </a:lnTo>
                <a:lnTo>
                  <a:pt x="1709" y="1880"/>
                </a:lnTo>
                <a:lnTo>
                  <a:pt x="1703" y="1887"/>
                </a:lnTo>
                <a:lnTo>
                  <a:pt x="1696" y="1894"/>
                </a:lnTo>
                <a:lnTo>
                  <a:pt x="1689" y="1894"/>
                </a:lnTo>
                <a:lnTo>
                  <a:pt x="1682" y="1894"/>
                </a:lnTo>
                <a:lnTo>
                  <a:pt x="1675" y="1901"/>
                </a:lnTo>
                <a:lnTo>
                  <a:pt x="1668" y="1901"/>
                </a:lnTo>
                <a:lnTo>
                  <a:pt x="1661" y="1901"/>
                </a:lnTo>
                <a:lnTo>
                  <a:pt x="1647" y="1901"/>
                </a:lnTo>
                <a:lnTo>
                  <a:pt x="1641" y="1901"/>
                </a:lnTo>
                <a:lnTo>
                  <a:pt x="1634" y="1901"/>
                </a:lnTo>
                <a:lnTo>
                  <a:pt x="1627" y="1901"/>
                </a:lnTo>
                <a:lnTo>
                  <a:pt x="1620" y="1901"/>
                </a:lnTo>
                <a:lnTo>
                  <a:pt x="1613" y="1901"/>
                </a:lnTo>
                <a:lnTo>
                  <a:pt x="1606" y="1901"/>
                </a:lnTo>
                <a:lnTo>
                  <a:pt x="1599" y="1901"/>
                </a:lnTo>
                <a:lnTo>
                  <a:pt x="1592" y="1901"/>
                </a:lnTo>
                <a:lnTo>
                  <a:pt x="1578" y="1901"/>
                </a:lnTo>
                <a:lnTo>
                  <a:pt x="1572" y="1908"/>
                </a:lnTo>
                <a:lnTo>
                  <a:pt x="1565" y="1908"/>
                </a:lnTo>
                <a:lnTo>
                  <a:pt x="1558" y="1908"/>
                </a:lnTo>
                <a:lnTo>
                  <a:pt x="1551" y="1908"/>
                </a:lnTo>
                <a:lnTo>
                  <a:pt x="1544" y="1908"/>
                </a:lnTo>
                <a:lnTo>
                  <a:pt x="1537" y="1908"/>
                </a:lnTo>
                <a:lnTo>
                  <a:pt x="1530" y="1908"/>
                </a:lnTo>
                <a:lnTo>
                  <a:pt x="1523" y="1908"/>
                </a:lnTo>
                <a:lnTo>
                  <a:pt x="1510" y="1908"/>
                </a:lnTo>
                <a:lnTo>
                  <a:pt x="1503" y="1908"/>
                </a:lnTo>
                <a:lnTo>
                  <a:pt x="1496" y="1908"/>
                </a:lnTo>
                <a:lnTo>
                  <a:pt x="1489" y="1908"/>
                </a:lnTo>
                <a:lnTo>
                  <a:pt x="1482" y="1908"/>
                </a:lnTo>
                <a:lnTo>
                  <a:pt x="1475" y="1915"/>
                </a:lnTo>
                <a:lnTo>
                  <a:pt x="1468" y="1915"/>
                </a:lnTo>
                <a:lnTo>
                  <a:pt x="1461" y="1915"/>
                </a:lnTo>
                <a:lnTo>
                  <a:pt x="1454" y="1915"/>
                </a:lnTo>
                <a:lnTo>
                  <a:pt x="1441" y="1915"/>
                </a:lnTo>
                <a:lnTo>
                  <a:pt x="1434" y="1915"/>
                </a:lnTo>
                <a:lnTo>
                  <a:pt x="1427" y="1915"/>
                </a:lnTo>
                <a:lnTo>
                  <a:pt x="1420" y="1915"/>
                </a:lnTo>
                <a:lnTo>
                  <a:pt x="1413" y="1915"/>
                </a:lnTo>
                <a:lnTo>
                  <a:pt x="1406" y="1915"/>
                </a:lnTo>
                <a:lnTo>
                  <a:pt x="1399" y="1922"/>
                </a:lnTo>
                <a:lnTo>
                  <a:pt x="1392" y="1922"/>
                </a:lnTo>
                <a:lnTo>
                  <a:pt x="1385" y="1922"/>
                </a:lnTo>
                <a:lnTo>
                  <a:pt x="1372" y="1922"/>
                </a:lnTo>
                <a:lnTo>
                  <a:pt x="1365" y="1915"/>
                </a:lnTo>
                <a:lnTo>
                  <a:pt x="1358" y="1915"/>
                </a:lnTo>
                <a:lnTo>
                  <a:pt x="1351" y="1915"/>
                </a:lnTo>
                <a:lnTo>
                  <a:pt x="1344" y="1908"/>
                </a:lnTo>
                <a:lnTo>
                  <a:pt x="1337" y="1908"/>
                </a:lnTo>
                <a:close/>
                <a:moveTo>
                  <a:pt x="1130" y="1846"/>
                </a:moveTo>
                <a:lnTo>
                  <a:pt x="1130" y="1832"/>
                </a:lnTo>
                <a:lnTo>
                  <a:pt x="1123" y="1825"/>
                </a:lnTo>
                <a:lnTo>
                  <a:pt x="1123" y="1811"/>
                </a:lnTo>
                <a:lnTo>
                  <a:pt x="1123" y="1805"/>
                </a:lnTo>
                <a:lnTo>
                  <a:pt x="1123" y="1791"/>
                </a:lnTo>
                <a:lnTo>
                  <a:pt x="1123" y="1784"/>
                </a:lnTo>
                <a:lnTo>
                  <a:pt x="1130" y="1777"/>
                </a:lnTo>
                <a:lnTo>
                  <a:pt x="1137" y="1777"/>
                </a:lnTo>
                <a:lnTo>
                  <a:pt x="1144" y="1777"/>
                </a:lnTo>
                <a:lnTo>
                  <a:pt x="1158" y="1777"/>
                </a:lnTo>
                <a:lnTo>
                  <a:pt x="1165" y="1777"/>
                </a:lnTo>
                <a:lnTo>
                  <a:pt x="1172" y="1770"/>
                </a:lnTo>
                <a:lnTo>
                  <a:pt x="1179" y="1770"/>
                </a:lnTo>
                <a:lnTo>
                  <a:pt x="1185" y="1763"/>
                </a:lnTo>
                <a:lnTo>
                  <a:pt x="1192" y="1763"/>
                </a:lnTo>
                <a:lnTo>
                  <a:pt x="1199" y="1763"/>
                </a:lnTo>
                <a:lnTo>
                  <a:pt x="1213" y="1763"/>
                </a:lnTo>
                <a:lnTo>
                  <a:pt x="1220" y="1763"/>
                </a:lnTo>
                <a:lnTo>
                  <a:pt x="1227" y="1770"/>
                </a:lnTo>
                <a:lnTo>
                  <a:pt x="1234" y="1770"/>
                </a:lnTo>
                <a:lnTo>
                  <a:pt x="1241" y="1770"/>
                </a:lnTo>
                <a:lnTo>
                  <a:pt x="1254" y="1770"/>
                </a:lnTo>
                <a:lnTo>
                  <a:pt x="1261" y="1777"/>
                </a:lnTo>
                <a:lnTo>
                  <a:pt x="1268" y="1777"/>
                </a:lnTo>
                <a:lnTo>
                  <a:pt x="1275" y="1784"/>
                </a:lnTo>
                <a:lnTo>
                  <a:pt x="1282" y="1791"/>
                </a:lnTo>
                <a:lnTo>
                  <a:pt x="1282" y="1798"/>
                </a:lnTo>
                <a:lnTo>
                  <a:pt x="1282" y="1811"/>
                </a:lnTo>
                <a:lnTo>
                  <a:pt x="1282" y="1825"/>
                </a:lnTo>
                <a:lnTo>
                  <a:pt x="1282" y="1832"/>
                </a:lnTo>
                <a:lnTo>
                  <a:pt x="1275" y="1839"/>
                </a:lnTo>
                <a:lnTo>
                  <a:pt x="1268" y="1846"/>
                </a:lnTo>
                <a:lnTo>
                  <a:pt x="1261" y="1853"/>
                </a:lnTo>
                <a:lnTo>
                  <a:pt x="1254" y="1853"/>
                </a:lnTo>
                <a:lnTo>
                  <a:pt x="1248" y="1860"/>
                </a:lnTo>
                <a:lnTo>
                  <a:pt x="1241" y="1867"/>
                </a:lnTo>
                <a:lnTo>
                  <a:pt x="1234" y="1867"/>
                </a:lnTo>
                <a:lnTo>
                  <a:pt x="1227" y="1873"/>
                </a:lnTo>
                <a:lnTo>
                  <a:pt x="1213" y="1873"/>
                </a:lnTo>
                <a:lnTo>
                  <a:pt x="1206" y="1873"/>
                </a:lnTo>
                <a:lnTo>
                  <a:pt x="1199" y="1873"/>
                </a:lnTo>
                <a:lnTo>
                  <a:pt x="1192" y="1873"/>
                </a:lnTo>
                <a:lnTo>
                  <a:pt x="1185" y="1873"/>
                </a:lnTo>
                <a:lnTo>
                  <a:pt x="1172" y="1873"/>
                </a:lnTo>
                <a:lnTo>
                  <a:pt x="1165" y="1867"/>
                </a:lnTo>
                <a:lnTo>
                  <a:pt x="1158" y="1867"/>
                </a:lnTo>
                <a:lnTo>
                  <a:pt x="1151" y="1860"/>
                </a:lnTo>
                <a:lnTo>
                  <a:pt x="1144" y="1860"/>
                </a:lnTo>
                <a:lnTo>
                  <a:pt x="1137" y="1853"/>
                </a:lnTo>
                <a:lnTo>
                  <a:pt x="1130" y="1846"/>
                </a:lnTo>
                <a:close/>
                <a:moveTo>
                  <a:pt x="1365" y="1722"/>
                </a:moveTo>
                <a:lnTo>
                  <a:pt x="1372" y="1715"/>
                </a:lnTo>
                <a:lnTo>
                  <a:pt x="1379" y="1708"/>
                </a:lnTo>
                <a:lnTo>
                  <a:pt x="1385" y="1701"/>
                </a:lnTo>
                <a:lnTo>
                  <a:pt x="1385" y="1701"/>
                </a:lnTo>
                <a:lnTo>
                  <a:pt x="1392" y="1694"/>
                </a:lnTo>
                <a:lnTo>
                  <a:pt x="1399" y="1687"/>
                </a:lnTo>
                <a:lnTo>
                  <a:pt x="1406" y="1687"/>
                </a:lnTo>
                <a:lnTo>
                  <a:pt x="1413" y="1681"/>
                </a:lnTo>
                <a:lnTo>
                  <a:pt x="1420" y="1681"/>
                </a:lnTo>
                <a:lnTo>
                  <a:pt x="1427" y="1681"/>
                </a:lnTo>
                <a:lnTo>
                  <a:pt x="1434" y="1681"/>
                </a:lnTo>
                <a:lnTo>
                  <a:pt x="1434" y="1681"/>
                </a:lnTo>
                <a:lnTo>
                  <a:pt x="1441" y="1681"/>
                </a:lnTo>
                <a:lnTo>
                  <a:pt x="1447" y="1681"/>
                </a:lnTo>
                <a:lnTo>
                  <a:pt x="1454" y="1681"/>
                </a:lnTo>
                <a:lnTo>
                  <a:pt x="1461" y="1681"/>
                </a:lnTo>
                <a:lnTo>
                  <a:pt x="1468" y="1687"/>
                </a:lnTo>
                <a:lnTo>
                  <a:pt x="1475" y="1687"/>
                </a:lnTo>
                <a:lnTo>
                  <a:pt x="1482" y="1687"/>
                </a:lnTo>
                <a:lnTo>
                  <a:pt x="1475" y="1687"/>
                </a:lnTo>
                <a:lnTo>
                  <a:pt x="1468" y="1687"/>
                </a:lnTo>
                <a:lnTo>
                  <a:pt x="1461" y="1694"/>
                </a:lnTo>
                <a:lnTo>
                  <a:pt x="1454" y="1694"/>
                </a:lnTo>
                <a:lnTo>
                  <a:pt x="1447" y="1694"/>
                </a:lnTo>
                <a:lnTo>
                  <a:pt x="1447" y="1701"/>
                </a:lnTo>
                <a:lnTo>
                  <a:pt x="1441" y="1701"/>
                </a:lnTo>
                <a:lnTo>
                  <a:pt x="1434" y="1701"/>
                </a:lnTo>
                <a:lnTo>
                  <a:pt x="1427" y="1701"/>
                </a:lnTo>
                <a:lnTo>
                  <a:pt x="1420" y="1701"/>
                </a:lnTo>
                <a:lnTo>
                  <a:pt x="1413" y="1708"/>
                </a:lnTo>
                <a:lnTo>
                  <a:pt x="1406" y="1715"/>
                </a:lnTo>
                <a:lnTo>
                  <a:pt x="1406" y="1722"/>
                </a:lnTo>
                <a:lnTo>
                  <a:pt x="1399" y="1722"/>
                </a:lnTo>
                <a:lnTo>
                  <a:pt x="1392" y="1729"/>
                </a:lnTo>
                <a:lnTo>
                  <a:pt x="1385" y="1729"/>
                </a:lnTo>
                <a:lnTo>
                  <a:pt x="1379" y="1729"/>
                </a:lnTo>
                <a:lnTo>
                  <a:pt x="1372" y="1722"/>
                </a:lnTo>
                <a:lnTo>
                  <a:pt x="1365" y="1722"/>
                </a:lnTo>
                <a:close/>
                <a:moveTo>
                  <a:pt x="751" y="1563"/>
                </a:moveTo>
                <a:lnTo>
                  <a:pt x="751" y="1557"/>
                </a:lnTo>
                <a:lnTo>
                  <a:pt x="751" y="1550"/>
                </a:lnTo>
                <a:lnTo>
                  <a:pt x="751" y="1550"/>
                </a:lnTo>
                <a:lnTo>
                  <a:pt x="751" y="1543"/>
                </a:lnTo>
                <a:lnTo>
                  <a:pt x="751" y="1536"/>
                </a:lnTo>
                <a:lnTo>
                  <a:pt x="751" y="1536"/>
                </a:lnTo>
                <a:lnTo>
                  <a:pt x="751" y="1529"/>
                </a:lnTo>
                <a:lnTo>
                  <a:pt x="751" y="1522"/>
                </a:lnTo>
                <a:lnTo>
                  <a:pt x="751" y="1515"/>
                </a:lnTo>
                <a:lnTo>
                  <a:pt x="758" y="1522"/>
                </a:lnTo>
                <a:lnTo>
                  <a:pt x="758" y="1522"/>
                </a:lnTo>
                <a:lnTo>
                  <a:pt x="758" y="1529"/>
                </a:lnTo>
                <a:lnTo>
                  <a:pt x="765" y="1536"/>
                </a:lnTo>
                <a:lnTo>
                  <a:pt x="765" y="1536"/>
                </a:lnTo>
                <a:lnTo>
                  <a:pt x="758" y="1543"/>
                </a:lnTo>
                <a:lnTo>
                  <a:pt x="758" y="1550"/>
                </a:lnTo>
                <a:lnTo>
                  <a:pt x="758" y="1550"/>
                </a:lnTo>
                <a:lnTo>
                  <a:pt x="758" y="1557"/>
                </a:lnTo>
                <a:lnTo>
                  <a:pt x="758" y="1563"/>
                </a:lnTo>
                <a:lnTo>
                  <a:pt x="751" y="1563"/>
                </a:lnTo>
                <a:close/>
                <a:moveTo>
                  <a:pt x="992" y="1343"/>
                </a:moveTo>
                <a:lnTo>
                  <a:pt x="992" y="1336"/>
                </a:lnTo>
                <a:lnTo>
                  <a:pt x="992" y="1329"/>
                </a:lnTo>
                <a:lnTo>
                  <a:pt x="992" y="1322"/>
                </a:lnTo>
                <a:lnTo>
                  <a:pt x="992" y="1322"/>
                </a:lnTo>
                <a:lnTo>
                  <a:pt x="999" y="1315"/>
                </a:lnTo>
                <a:lnTo>
                  <a:pt x="999" y="1309"/>
                </a:lnTo>
                <a:lnTo>
                  <a:pt x="1006" y="1309"/>
                </a:lnTo>
                <a:lnTo>
                  <a:pt x="1006" y="1309"/>
                </a:lnTo>
                <a:lnTo>
                  <a:pt x="1013" y="1315"/>
                </a:lnTo>
                <a:lnTo>
                  <a:pt x="1013" y="1322"/>
                </a:lnTo>
                <a:lnTo>
                  <a:pt x="1013" y="1329"/>
                </a:lnTo>
                <a:lnTo>
                  <a:pt x="1020" y="1336"/>
                </a:lnTo>
                <a:lnTo>
                  <a:pt x="1020" y="1336"/>
                </a:lnTo>
                <a:lnTo>
                  <a:pt x="1013" y="1343"/>
                </a:lnTo>
                <a:lnTo>
                  <a:pt x="1013" y="1343"/>
                </a:lnTo>
                <a:lnTo>
                  <a:pt x="1006" y="1350"/>
                </a:lnTo>
                <a:lnTo>
                  <a:pt x="1006" y="1350"/>
                </a:lnTo>
                <a:lnTo>
                  <a:pt x="999" y="1350"/>
                </a:lnTo>
                <a:lnTo>
                  <a:pt x="992" y="1343"/>
                </a:lnTo>
                <a:lnTo>
                  <a:pt x="992" y="1343"/>
                </a:lnTo>
                <a:close/>
                <a:moveTo>
                  <a:pt x="1220" y="1281"/>
                </a:moveTo>
                <a:lnTo>
                  <a:pt x="1220" y="1274"/>
                </a:lnTo>
                <a:lnTo>
                  <a:pt x="1220" y="1267"/>
                </a:lnTo>
                <a:lnTo>
                  <a:pt x="1227" y="1267"/>
                </a:lnTo>
                <a:lnTo>
                  <a:pt x="1227" y="1267"/>
                </a:lnTo>
                <a:lnTo>
                  <a:pt x="1234" y="1267"/>
                </a:lnTo>
                <a:lnTo>
                  <a:pt x="1241" y="1274"/>
                </a:lnTo>
                <a:lnTo>
                  <a:pt x="1241" y="1274"/>
                </a:lnTo>
                <a:lnTo>
                  <a:pt x="1241" y="1281"/>
                </a:lnTo>
                <a:lnTo>
                  <a:pt x="1241" y="1281"/>
                </a:lnTo>
                <a:lnTo>
                  <a:pt x="1241" y="1281"/>
                </a:lnTo>
                <a:lnTo>
                  <a:pt x="1234" y="1281"/>
                </a:lnTo>
                <a:lnTo>
                  <a:pt x="1227" y="1281"/>
                </a:lnTo>
                <a:lnTo>
                  <a:pt x="1220" y="1281"/>
                </a:lnTo>
                <a:lnTo>
                  <a:pt x="1220" y="1281"/>
                </a:lnTo>
                <a:close/>
                <a:moveTo>
                  <a:pt x="537" y="3031"/>
                </a:moveTo>
                <a:lnTo>
                  <a:pt x="565" y="3003"/>
                </a:lnTo>
                <a:lnTo>
                  <a:pt x="599" y="3003"/>
                </a:lnTo>
                <a:lnTo>
                  <a:pt x="627" y="2969"/>
                </a:lnTo>
                <a:lnTo>
                  <a:pt x="661" y="2941"/>
                </a:lnTo>
                <a:lnTo>
                  <a:pt x="689" y="2907"/>
                </a:lnTo>
                <a:lnTo>
                  <a:pt x="723" y="2907"/>
                </a:lnTo>
                <a:lnTo>
                  <a:pt x="751" y="2879"/>
                </a:lnTo>
                <a:lnTo>
                  <a:pt x="786" y="2845"/>
                </a:lnTo>
                <a:lnTo>
                  <a:pt x="820" y="2845"/>
                </a:lnTo>
                <a:lnTo>
                  <a:pt x="848" y="2817"/>
                </a:lnTo>
                <a:lnTo>
                  <a:pt x="882" y="2783"/>
                </a:lnTo>
                <a:lnTo>
                  <a:pt x="910" y="2783"/>
                </a:lnTo>
                <a:lnTo>
                  <a:pt x="944" y="2748"/>
                </a:lnTo>
                <a:lnTo>
                  <a:pt x="972" y="2721"/>
                </a:lnTo>
                <a:lnTo>
                  <a:pt x="1006" y="2686"/>
                </a:lnTo>
                <a:lnTo>
                  <a:pt x="1034" y="2686"/>
                </a:lnTo>
                <a:lnTo>
                  <a:pt x="1068" y="2659"/>
                </a:lnTo>
                <a:lnTo>
                  <a:pt x="1096" y="2624"/>
                </a:lnTo>
                <a:lnTo>
                  <a:pt x="1130" y="2624"/>
                </a:lnTo>
                <a:lnTo>
                  <a:pt x="1165" y="2597"/>
                </a:lnTo>
                <a:lnTo>
                  <a:pt x="1192" y="2562"/>
                </a:lnTo>
                <a:lnTo>
                  <a:pt x="1227" y="2535"/>
                </a:lnTo>
                <a:lnTo>
                  <a:pt x="1254" y="2535"/>
                </a:lnTo>
                <a:lnTo>
                  <a:pt x="1289" y="2500"/>
                </a:lnTo>
                <a:lnTo>
                  <a:pt x="1316" y="2473"/>
                </a:lnTo>
                <a:lnTo>
                  <a:pt x="1351" y="2473"/>
                </a:lnTo>
                <a:lnTo>
                  <a:pt x="1379" y="2438"/>
                </a:lnTo>
                <a:lnTo>
                  <a:pt x="1413" y="2404"/>
                </a:lnTo>
                <a:lnTo>
                  <a:pt x="1441" y="2376"/>
                </a:lnTo>
                <a:lnTo>
                  <a:pt x="1475" y="2376"/>
                </a:lnTo>
                <a:lnTo>
                  <a:pt x="1503" y="2342"/>
                </a:lnTo>
                <a:lnTo>
                  <a:pt x="1537" y="2314"/>
                </a:lnTo>
                <a:lnTo>
                  <a:pt x="1572" y="2314"/>
                </a:lnTo>
                <a:lnTo>
                  <a:pt x="1599" y="2280"/>
                </a:lnTo>
                <a:lnTo>
                  <a:pt x="1634" y="2252"/>
                </a:lnTo>
                <a:lnTo>
                  <a:pt x="1661" y="2218"/>
                </a:lnTo>
                <a:lnTo>
                  <a:pt x="1696" y="2218"/>
                </a:lnTo>
                <a:lnTo>
                  <a:pt x="1723" y="2190"/>
                </a:lnTo>
                <a:lnTo>
                  <a:pt x="1758" y="2156"/>
                </a:lnTo>
                <a:lnTo>
                  <a:pt x="1785" y="2156"/>
                </a:lnTo>
                <a:lnTo>
                  <a:pt x="1820" y="2128"/>
                </a:lnTo>
                <a:lnTo>
                  <a:pt x="1847" y="2094"/>
                </a:lnTo>
                <a:lnTo>
                  <a:pt x="1882" y="2059"/>
                </a:lnTo>
                <a:lnTo>
                  <a:pt x="1916" y="2059"/>
                </a:lnTo>
                <a:lnTo>
                  <a:pt x="1916" y="2032"/>
                </a:lnTo>
                <a:lnTo>
                  <a:pt x="1944" y="1997"/>
                </a:lnTo>
                <a:lnTo>
                  <a:pt x="1978" y="1970"/>
                </a:lnTo>
                <a:lnTo>
                  <a:pt x="1978" y="1935"/>
                </a:lnTo>
                <a:lnTo>
                  <a:pt x="2006" y="1908"/>
                </a:lnTo>
                <a:lnTo>
                  <a:pt x="2040" y="1873"/>
                </a:lnTo>
                <a:lnTo>
                  <a:pt x="2040" y="1846"/>
                </a:lnTo>
                <a:lnTo>
                  <a:pt x="2068" y="1811"/>
                </a:lnTo>
                <a:lnTo>
                  <a:pt x="2102" y="1784"/>
                </a:lnTo>
                <a:lnTo>
                  <a:pt x="2102" y="1749"/>
                </a:lnTo>
                <a:lnTo>
                  <a:pt x="2102" y="1722"/>
                </a:lnTo>
                <a:lnTo>
                  <a:pt x="2130" y="1687"/>
                </a:lnTo>
                <a:lnTo>
                  <a:pt x="2130" y="1653"/>
                </a:lnTo>
                <a:lnTo>
                  <a:pt x="2130" y="1625"/>
                </a:lnTo>
                <a:lnTo>
                  <a:pt x="2165" y="1591"/>
                </a:lnTo>
                <a:lnTo>
                  <a:pt x="2165" y="1563"/>
                </a:lnTo>
                <a:lnTo>
                  <a:pt x="2165" y="1529"/>
                </a:lnTo>
                <a:lnTo>
                  <a:pt x="2165" y="1501"/>
                </a:lnTo>
                <a:lnTo>
                  <a:pt x="2192" y="1467"/>
                </a:lnTo>
                <a:lnTo>
                  <a:pt x="2192" y="1439"/>
                </a:lnTo>
                <a:lnTo>
                  <a:pt x="2192" y="1405"/>
                </a:lnTo>
                <a:lnTo>
                  <a:pt x="2192" y="1377"/>
                </a:lnTo>
                <a:lnTo>
                  <a:pt x="2192" y="1343"/>
                </a:lnTo>
                <a:lnTo>
                  <a:pt x="2192" y="1309"/>
                </a:lnTo>
                <a:lnTo>
                  <a:pt x="2192" y="1281"/>
                </a:lnTo>
                <a:lnTo>
                  <a:pt x="2227" y="1247"/>
                </a:lnTo>
                <a:lnTo>
                  <a:pt x="2227" y="1219"/>
                </a:lnTo>
                <a:lnTo>
                  <a:pt x="2227" y="1185"/>
                </a:lnTo>
                <a:lnTo>
                  <a:pt x="2227" y="1157"/>
                </a:lnTo>
                <a:lnTo>
                  <a:pt x="2227" y="1123"/>
                </a:lnTo>
                <a:lnTo>
                  <a:pt x="2227" y="1095"/>
                </a:lnTo>
                <a:lnTo>
                  <a:pt x="2227" y="1061"/>
                </a:lnTo>
                <a:lnTo>
                  <a:pt x="2261" y="1033"/>
                </a:lnTo>
                <a:lnTo>
                  <a:pt x="2261" y="999"/>
                </a:lnTo>
                <a:lnTo>
                  <a:pt x="2261" y="964"/>
                </a:lnTo>
                <a:lnTo>
                  <a:pt x="2261" y="937"/>
                </a:lnTo>
                <a:lnTo>
                  <a:pt x="2261" y="902"/>
                </a:lnTo>
                <a:lnTo>
                  <a:pt x="2261" y="875"/>
                </a:lnTo>
                <a:lnTo>
                  <a:pt x="2261" y="840"/>
                </a:lnTo>
                <a:lnTo>
                  <a:pt x="2289" y="813"/>
                </a:lnTo>
                <a:lnTo>
                  <a:pt x="2289" y="778"/>
                </a:lnTo>
                <a:lnTo>
                  <a:pt x="2289" y="751"/>
                </a:lnTo>
                <a:lnTo>
                  <a:pt x="2289" y="716"/>
                </a:lnTo>
                <a:lnTo>
                  <a:pt x="2289" y="689"/>
                </a:lnTo>
                <a:lnTo>
                  <a:pt x="2289" y="654"/>
                </a:lnTo>
                <a:lnTo>
                  <a:pt x="2289" y="627"/>
                </a:lnTo>
                <a:lnTo>
                  <a:pt x="2323" y="592"/>
                </a:lnTo>
                <a:lnTo>
                  <a:pt x="2323" y="558"/>
                </a:lnTo>
                <a:lnTo>
                  <a:pt x="2323" y="530"/>
                </a:lnTo>
                <a:lnTo>
                  <a:pt x="2323" y="496"/>
                </a:lnTo>
                <a:lnTo>
                  <a:pt x="2323" y="468"/>
                </a:lnTo>
                <a:lnTo>
                  <a:pt x="2323" y="434"/>
                </a:lnTo>
                <a:lnTo>
                  <a:pt x="2323" y="406"/>
                </a:lnTo>
                <a:lnTo>
                  <a:pt x="2351" y="372"/>
                </a:lnTo>
                <a:lnTo>
                  <a:pt x="2351" y="344"/>
                </a:lnTo>
                <a:lnTo>
                  <a:pt x="2351" y="310"/>
                </a:lnTo>
                <a:lnTo>
                  <a:pt x="2351" y="282"/>
                </a:lnTo>
                <a:lnTo>
                  <a:pt x="2351" y="248"/>
                </a:lnTo>
                <a:lnTo>
                  <a:pt x="2351" y="213"/>
                </a:lnTo>
                <a:lnTo>
                  <a:pt x="2351" y="186"/>
                </a:lnTo>
                <a:lnTo>
                  <a:pt x="2385" y="151"/>
                </a:lnTo>
                <a:lnTo>
                  <a:pt x="2385" y="124"/>
                </a:lnTo>
                <a:lnTo>
                  <a:pt x="2385" y="89"/>
                </a:lnTo>
                <a:lnTo>
                  <a:pt x="2385" y="62"/>
                </a:lnTo>
                <a:lnTo>
                  <a:pt x="2385" y="27"/>
                </a:lnTo>
                <a:lnTo>
                  <a:pt x="2385" y="0"/>
                </a:lnTo>
                <a:lnTo>
                  <a:pt x="2351" y="0"/>
                </a:lnTo>
                <a:lnTo>
                  <a:pt x="2323" y="0"/>
                </a:lnTo>
                <a:lnTo>
                  <a:pt x="2289" y="0"/>
                </a:lnTo>
                <a:lnTo>
                  <a:pt x="2261" y="0"/>
                </a:lnTo>
                <a:lnTo>
                  <a:pt x="2227" y="27"/>
                </a:lnTo>
                <a:lnTo>
                  <a:pt x="2192" y="27"/>
                </a:lnTo>
                <a:lnTo>
                  <a:pt x="2165" y="27"/>
                </a:lnTo>
                <a:lnTo>
                  <a:pt x="2130" y="62"/>
                </a:lnTo>
                <a:lnTo>
                  <a:pt x="2102" y="62"/>
                </a:lnTo>
                <a:lnTo>
                  <a:pt x="2068" y="89"/>
                </a:lnTo>
                <a:lnTo>
                  <a:pt x="2040" y="89"/>
                </a:lnTo>
                <a:lnTo>
                  <a:pt x="2006" y="89"/>
                </a:lnTo>
                <a:lnTo>
                  <a:pt x="1978" y="124"/>
                </a:lnTo>
                <a:lnTo>
                  <a:pt x="1944" y="124"/>
                </a:lnTo>
                <a:lnTo>
                  <a:pt x="1916" y="151"/>
                </a:lnTo>
                <a:lnTo>
                  <a:pt x="1882" y="151"/>
                </a:lnTo>
                <a:lnTo>
                  <a:pt x="1847" y="151"/>
                </a:lnTo>
                <a:lnTo>
                  <a:pt x="1820" y="186"/>
                </a:lnTo>
                <a:lnTo>
                  <a:pt x="1785" y="186"/>
                </a:lnTo>
                <a:lnTo>
                  <a:pt x="1758" y="213"/>
                </a:lnTo>
                <a:lnTo>
                  <a:pt x="1723" y="213"/>
                </a:lnTo>
                <a:lnTo>
                  <a:pt x="1696" y="213"/>
                </a:lnTo>
                <a:lnTo>
                  <a:pt x="1661" y="248"/>
                </a:lnTo>
                <a:lnTo>
                  <a:pt x="1634" y="248"/>
                </a:lnTo>
                <a:lnTo>
                  <a:pt x="1599" y="282"/>
                </a:lnTo>
                <a:lnTo>
                  <a:pt x="1572" y="282"/>
                </a:lnTo>
                <a:lnTo>
                  <a:pt x="1537" y="282"/>
                </a:lnTo>
                <a:lnTo>
                  <a:pt x="1503" y="310"/>
                </a:lnTo>
                <a:lnTo>
                  <a:pt x="1475" y="310"/>
                </a:lnTo>
                <a:lnTo>
                  <a:pt x="1441" y="344"/>
                </a:lnTo>
                <a:lnTo>
                  <a:pt x="1413" y="344"/>
                </a:lnTo>
                <a:lnTo>
                  <a:pt x="1379" y="344"/>
                </a:lnTo>
                <a:lnTo>
                  <a:pt x="1351" y="372"/>
                </a:lnTo>
                <a:lnTo>
                  <a:pt x="1316" y="372"/>
                </a:lnTo>
                <a:lnTo>
                  <a:pt x="1289" y="406"/>
                </a:lnTo>
                <a:lnTo>
                  <a:pt x="1254" y="406"/>
                </a:lnTo>
                <a:lnTo>
                  <a:pt x="1227" y="406"/>
                </a:lnTo>
                <a:lnTo>
                  <a:pt x="1192" y="434"/>
                </a:lnTo>
                <a:lnTo>
                  <a:pt x="1165" y="434"/>
                </a:lnTo>
                <a:lnTo>
                  <a:pt x="1130" y="468"/>
                </a:lnTo>
                <a:lnTo>
                  <a:pt x="1096" y="468"/>
                </a:lnTo>
                <a:lnTo>
                  <a:pt x="1068" y="468"/>
                </a:lnTo>
                <a:lnTo>
                  <a:pt x="1034" y="496"/>
                </a:lnTo>
                <a:lnTo>
                  <a:pt x="1006" y="530"/>
                </a:lnTo>
                <a:lnTo>
                  <a:pt x="972" y="558"/>
                </a:lnTo>
                <a:lnTo>
                  <a:pt x="972" y="592"/>
                </a:lnTo>
                <a:lnTo>
                  <a:pt x="944" y="627"/>
                </a:lnTo>
                <a:lnTo>
                  <a:pt x="910" y="654"/>
                </a:lnTo>
                <a:lnTo>
                  <a:pt x="882" y="689"/>
                </a:lnTo>
                <a:lnTo>
                  <a:pt x="882" y="716"/>
                </a:lnTo>
                <a:lnTo>
                  <a:pt x="848" y="751"/>
                </a:lnTo>
                <a:lnTo>
                  <a:pt x="820" y="778"/>
                </a:lnTo>
                <a:lnTo>
                  <a:pt x="786" y="813"/>
                </a:lnTo>
                <a:lnTo>
                  <a:pt x="786" y="840"/>
                </a:lnTo>
                <a:lnTo>
                  <a:pt x="751" y="875"/>
                </a:lnTo>
                <a:lnTo>
                  <a:pt x="723" y="902"/>
                </a:lnTo>
                <a:lnTo>
                  <a:pt x="689" y="937"/>
                </a:lnTo>
                <a:lnTo>
                  <a:pt x="689" y="964"/>
                </a:lnTo>
                <a:lnTo>
                  <a:pt x="661" y="999"/>
                </a:lnTo>
                <a:lnTo>
                  <a:pt x="627" y="1033"/>
                </a:lnTo>
                <a:lnTo>
                  <a:pt x="627" y="1061"/>
                </a:lnTo>
                <a:lnTo>
                  <a:pt x="599" y="1095"/>
                </a:lnTo>
                <a:lnTo>
                  <a:pt x="565" y="1123"/>
                </a:lnTo>
                <a:lnTo>
                  <a:pt x="565" y="1157"/>
                </a:lnTo>
                <a:lnTo>
                  <a:pt x="537" y="1185"/>
                </a:lnTo>
                <a:lnTo>
                  <a:pt x="537" y="1219"/>
                </a:lnTo>
                <a:lnTo>
                  <a:pt x="537" y="1247"/>
                </a:lnTo>
                <a:lnTo>
                  <a:pt x="503" y="1281"/>
                </a:lnTo>
                <a:lnTo>
                  <a:pt x="503" y="1309"/>
                </a:lnTo>
                <a:lnTo>
                  <a:pt x="503" y="1343"/>
                </a:lnTo>
                <a:lnTo>
                  <a:pt x="475" y="1377"/>
                </a:lnTo>
                <a:lnTo>
                  <a:pt x="475" y="1405"/>
                </a:lnTo>
                <a:lnTo>
                  <a:pt x="475" y="1439"/>
                </a:lnTo>
                <a:lnTo>
                  <a:pt x="441" y="1467"/>
                </a:lnTo>
                <a:lnTo>
                  <a:pt x="441" y="1501"/>
                </a:lnTo>
                <a:lnTo>
                  <a:pt x="441" y="1529"/>
                </a:lnTo>
                <a:lnTo>
                  <a:pt x="413" y="1563"/>
                </a:lnTo>
                <a:lnTo>
                  <a:pt x="413" y="1591"/>
                </a:lnTo>
                <a:lnTo>
                  <a:pt x="379" y="1625"/>
                </a:lnTo>
                <a:lnTo>
                  <a:pt x="379" y="1653"/>
                </a:lnTo>
                <a:lnTo>
                  <a:pt x="379" y="1687"/>
                </a:lnTo>
                <a:lnTo>
                  <a:pt x="344" y="1722"/>
                </a:lnTo>
                <a:lnTo>
                  <a:pt x="344" y="1749"/>
                </a:lnTo>
                <a:lnTo>
                  <a:pt x="344" y="1784"/>
                </a:lnTo>
                <a:lnTo>
                  <a:pt x="317" y="1811"/>
                </a:lnTo>
                <a:lnTo>
                  <a:pt x="317" y="1846"/>
                </a:lnTo>
                <a:lnTo>
                  <a:pt x="317" y="1873"/>
                </a:lnTo>
                <a:lnTo>
                  <a:pt x="282" y="1908"/>
                </a:lnTo>
                <a:lnTo>
                  <a:pt x="282" y="1935"/>
                </a:lnTo>
                <a:lnTo>
                  <a:pt x="282" y="1970"/>
                </a:lnTo>
                <a:lnTo>
                  <a:pt x="255" y="1997"/>
                </a:lnTo>
                <a:lnTo>
                  <a:pt x="255" y="2032"/>
                </a:lnTo>
                <a:lnTo>
                  <a:pt x="255" y="2059"/>
                </a:lnTo>
                <a:lnTo>
                  <a:pt x="220" y="2094"/>
                </a:lnTo>
                <a:lnTo>
                  <a:pt x="220" y="2128"/>
                </a:lnTo>
                <a:lnTo>
                  <a:pt x="193" y="2156"/>
                </a:lnTo>
                <a:lnTo>
                  <a:pt x="193" y="2190"/>
                </a:lnTo>
                <a:lnTo>
                  <a:pt x="193" y="2218"/>
                </a:lnTo>
                <a:lnTo>
                  <a:pt x="158" y="2252"/>
                </a:lnTo>
                <a:lnTo>
                  <a:pt x="158" y="2280"/>
                </a:lnTo>
                <a:lnTo>
                  <a:pt x="158" y="2314"/>
                </a:lnTo>
                <a:lnTo>
                  <a:pt x="131" y="2342"/>
                </a:lnTo>
                <a:lnTo>
                  <a:pt x="131" y="2376"/>
                </a:lnTo>
                <a:lnTo>
                  <a:pt x="131" y="2404"/>
                </a:lnTo>
                <a:lnTo>
                  <a:pt x="96" y="2438"/>
                </a:lnTo>
                <a:lnTo>
                  <a:pt x="96" y="2473"/>
                </a:lnTo>
                <a:lnTo>
                  <a:pt x="96" y="2500"/>
                </a:lnTo>
                <a:lnTo>
                  <a:pt x="68" y="2535"/>
                </a:lnTo>
                <a:lnTo>
                  <a:pt x="68" y="2562"/>
                </a:lnTo>
                <a:lnTo>
                  <a:pt x="68" y="2597"/>
                </a:lnTo>
                <a:lnTo>
                  <a:pt x="34" y="2624"/>
                </a:lnTo>
                <a:lnTo>
                  <a:pt x="34" y="2659"/>
                </a:lnTo>
                <a:lnTo>
                  <a:pt x="34" y="2686"/>
                </a:lnTo>
                <a:lnTo>
                  <a:pt x="0" y="2721"/>
                </a:lnTo>
                <a:lnTo>
                  <a:pt x="0" y="2748"/>
                </a:lnTo>
                <a:lnTo>
                  <a:pt x="0" y="2783"/>
                </a:lnTo>
                <a:lnTo>
                  <a:pt x="34" y="2783"/>
                </a:lnTo>
                <a:lnTo>
                  <a:pt x="68" y="2817"/>
                </a:lnTo>
                <a:lnTo>
                  <a:pt x="96" y="2817"/>
                </a:lnTo>
                <a:lnTo>
                  <a:pt x="131" y="2845"/>
                </a:lnTo>
                <a:lnTo>
                  <a:pt x="158" y="2879"/>
                </a:lnTo>
                <a:lnTo>
                  <a:pt x="193" y="2879"/>
                </a:lnTo>
                <a:lnTo>
                  <a:pt x="220" y="2907"/>
                </a:lnTo>
                <a:lnTo>
                  <a:pt x="255" y="2907"/>
                </a:lnTo>
                <a:lnTo>
                  <a:pt x="282" y="2941"/>
                </a:lnTo>
                <a:lnTo>
                  <a:pt x="317" y="2941"/>
                </a:lnTo>
                <a:lnTo>
                  <a:pt x="344" y="2969"/>
                </a:lnTo>
                <a:lnTo>
                  <a:pt x="379" y="2969"/>
                </a:lnTo>
                <a:lnTo>
                  <a:pt x="413" y="3003"/>
                </a:lnTo>
                <a:lnTo>
                  <a:pt x="441" y="3003"/>
                </a:lnTo>
                <a:lnTo>
                  <a:pt x="475" y="3031"/>
                </a:lnTo>
                <a:lnTo>
                  <a:pt x="503" y="3031"/>
                </a:lnTo>
                <a:lnTo>
                  <a:pt x="537" y="3031"/>
                </a:lnTo>
                <a:close/>
                <a:moveTo>
                  <a:pt x="1310" y="2128"/>
                </a:moveTo>
                <a:lnTo>
                  <a:pt x="1316" y="2121"/>
                </a:lnTo>
                <a:lnTo>
                  <a:pt x="1316" y="2121"/>
                </a:lnTo>
                <a:lnTo>
                  <a:pt x="1316" y="2121"/>
                </a:lnTo>
                <a:lnTo>
                  <a:pt x="1323" y="2121"/>
                </a:lnTo>
                <a:lnTo>
                  <a:pt x="1323" y="2121"/>
                </a:lnTo>
                <a:lnTo>
                  <a:pt x="1330" y="2121"/>
                </a:lnTo>
                <a:lnTo>
                  <a:pt x="1330" y="2128"/>
                </a:lnTo>
                <a:lnTo>
                  <a:pt x="1330" y="2128"/>
                </a:lnTo>
                <a:lnTo>
                  <a:pt x="1323" y="2128"/>
                </a:lnTo>
                <a:lnTo>
                  <a:pt x="1323" y="2128"/>
                </a:lnTo>
                <a:lnTo>
                  <a:pt x="1316" y="2135"/>
                </a:lnTo>
                <a:lnTo>
                  <a:pt x="1316" y="2128"/>
                </a:lnTo>
                <a:lnTo>
                  <a:pt x="1310" y="2128"/>
                </a:lnTo>
                <a:lnTo>
                  <a:pt x="1310" y="2128"/>
                </a:lnTo>
                <a:close/>
              </a:path>
            </a:pathLst>
          </a:custGeom>
          <a:solidFill>
            <a:srgbClr val="ff9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9" name=""/>
          <p:cNvSpPr/>
          <p:nvPr/>
        </p:nvSpPr>
        <p:spPr>
          <a:xfrm>
            <a:off x="3052800" y="1317600"/>
            <a:ext cx="3786120" cy="4811760"/>
          </a:xfrm>
          <a:custGeom>
            <a:avLst/>
            <a:gdLst/>
            <a:ahLst/>
            <a:rect l="l" t="t" r="r" b="b"/>
            <a:pathLst>
              <a:path w="2385" h="3031">
                <a:moveTo>
                  <a:pt x="537" y="3031"/>
                </a:moveTo>
                <a:lnTo>
                  <a:pt x="565" y="3003"/>
                </a:lnTo>
                <a:lnTo>
                  <a:pt x="599" y="3003"/>
                </a:lnTo>
                <a:lnTo>
                  <a:pt x="627" y="2969"/>
                </a:lnTo>
                <a:lnTo>
                  <a:pt x="661" y="2941"/>
                </a:lnTo>
                <a:lnTo>
                  <a:pt x="689" y="2907"/>
                </a:lnTo>
                <a:lnTo>
                  <a:pt x="723" y="2907"/>
                </a:lnTo>
                <a:lnTo>
                  <a:pt x="751" y="2879"/>
                </a:lnTo>
                <a:lnTo>
                  <a:pt x="786" y="2845"/>
                </a:lnTo>
                <a:lnTo>
                  <a:pt x="820" y="2845"/>
                </a:lnTo>
                <a:lnTo>
                  <a:pt x="848" y="2817"/>
                </a:lnTo>
                <a:lnTo>
                  <a:pt x="882" y="2783"/>
                </a:lnTo>
                <a:lnTo>
                  <a:pt x="910" y="2783"/>
                </a:lnTo>
                <a:lnTo>
                  <a:pt x="944" y="2748"/>
                </a:lnTo>
                <a:lnTo>
                  <a:pt x="972" y="2721"/>
                </a:lnTo>
                <a:lnTo>
                  <a:pt x="1006" y="2686"/>
                </a:lnTo>
                <a:lnTo>
                  <a:pt x="1034" y="2686"/>
                </a:lnTo>
                <a:lnTo>
                  <a:pt x="1068" y="2659"/>
                </a:lnTo>
                <a:lnTo>
                  <a:pt x="1096" y="2624"/>
                </a:lnTo>
                <a:lnTo>
                  <a:pt x="1130" y="2624"/>
                </a:lnTo>
                <a:lnTo>
                  <a:pt x="1165" y="2597"/>
                </a:lnTo>
                <a:lnTo>
                  <a:pt x="1192" y="2562"/>
                </a:lnTo>
                <a:lnTo>
                  <a:pt x="1227" y="2535"/>
                </a:lnTo>
                <a:lnTo>
                  <a:pt x="1254" y="2535"/>
                </a:lnTo>
                <a:lnTo>
                  <a:pt x="1289" y="2500"/>
                </a:lnTo>
                <a:lnTo>
                  <a:pt x="1316" y="2473"/>
                </a:lnTo>
                <a:lnTo>
                  <a:pt x="1351" y="2473"/>
                </a:lnTo>
                <a:lnTo>
                  <a:pt x="1379" y="2438"/>
                </a:lnTo>
                <a:lnTo>
                  <a:pt x="1413" y="2404"/>
                </a:lnTo>
                <a:lnTo>
                  <a:pt x="1441" y="2376"/>
                </a:lnTo>
                <a:lnTo>
                  <a:pt x="1475" y="2376"/>
                </a:lnTo>
                <a:lnTo>
                  <a:pt x="1503" y="2342"/>
                </a:lnTo>
                <a:lnTo>
                  <a:pt x="1537" y="2314"/>
                </a:lnTo>
                <a:lnTo>
                  <a:pt x="1572" y="2314"/>
                </a:lnTo>
                <a:lnTo>
                  <a:pt x="1599" y="2280"/>
                </a:lnTo>
                <a:lnTo>
                  <a:pt x="1634" y="2252"/>
                </a:lnTo>
                <a:lnTo>
                  <a:pt x="1661" y="2218"/>
                </a:lnTo>
                <a:lnTo>
                  <a:pt x="1696" y="2218"/>
                </a:lnTo>
                <a:lnTo>
                  <a:pt x="1723" y="2190"/>
                </a:lnTo>
                <a:lnTo>
                  <a:pt x="1758" y="2156"/>
                </a:lnTo>
                <a:lnTo>
                  <a:pt x="1785" y="2156"/>
                </a:lnTo>
                <a:lnTo>
                  <a:pt x="1820" y="2128"/>
                </a:lnTo>
                <a:lnTo>
                  <a:pt x="1847" y="2094"/>
                </a:lnTo>
                <a:lnTo>
                  <a:pt x="1882" y="2059"/>
                </a:lnTo>
                <a:lnTo>
                  <a:pt x="1916" y="2059"/>
                </a:lnTo>
                <a:lnTo>
                  <a:pt x="1916" y="2032"/>
                </a:lnTo>
                <a:lnTo>
                  <a:pt x="1944" y="1997"/>
                </a:lnTo>
                <a:lnTo>
                  <a:pt x="1978" y="1970"/>
                </a:lnTo>
                <a:lnTo>
                  <a:pt x="1978" y="1935"/>
                </a:lnTo>
                <a:lnTo>
                  <a:pt x="2006" y="1908"/>
                </a:lnTo>
                <a:lnTo>
                  <a:pt x="2040" y="1873"/>
                </a:lnTo>
                <a:lnTo>
                  <a:pt x="2040" y="1846"/>
                </a:lnTo>
                <a:lnTo>
                  <a:pt x="2068" y="1811"/>
                </a:lnTo>
                <a:lnTo>
                  <a:pt x="2102" y="1784"/>
                </a:lnTo>
                <a:lnTo>
                  <a:pt x="2102" y="1749"/>
                </a:lnTo>
                <a:lnTo>
                  <a:pt x="2102" y="1722"/>
                </a:lnTo>
                <a:lnTo>
                  <a:pt x="2130" y="1687"/>
                </a:lnTo>
                <a:lnTo>
                  <a:pt x="2130" y="1653"/>
                </a:lnTo>
                <a:lnTo>
                  <a:pt x="2130" y="1625"/>
                </a:lnTo>
                <a:lnTo>
                  <a:pt x="2165" y="1591"/>
                </a:lnTo>
                <a:lnTo>
                  <a:pt x="2165" y="1563"/>
                </a:lnTo>
                <a:lnTo>
                  <a:pt x="2165" y="1529"/>
                </a:lnTo>
                <a:lnTo>
                  <a:pt x="2165" y="1501"/>
                </a:lnTo>
                <a:lnTo>
                  <a:pt x="2192" y="1467"/>
                </a:lnTo>
                <a:lnTo>
                  <a:pt x="2192" y="1439"/>
                </a:lnTo>
                <a:lnTo>
                  <a:pt x="2192" y="1405"/>
                </a:lnTo>
                <a:lnTo>
                  <a:pt x="2192" y="1377"/>
                </a:lnTo>
                <a:lnTo>
                  <a:pt x="2192" y="1343"/>
                </a:lnTo>
                <a:lnTo>
                  <a:pt x="2192" y="1309"/>
                </a:lnTo>
                <a:lnTo>
                  <a:pt x="2192" y="1281"/>
                </a:lnTo>
                <a:lnTo>
                  <a:pt x="2227" y="1247"/>
                </a:lnTo>
                <a:lnTo>
                  <a:pt x="2227" y="1219"/>
                </a:lnTo>
                <a:lnTo>
                  <a:pt x="2227" y="1185"/>
                </a:lnTo>
                <a:lnTo>
                  <a:pt x="2227" y="1157"/>
                </a:lnTo>
                <a:lnTo>
                  <a:pt x="2227" y="1123"/>
                </a:lnTo>
                <a:lnTo>
                  <a:pt x="2227" y="1095"/>
                </a:lnTo>
                <a:lnTo>
                  <a:pt x="2227" y="1061"/>
                </a:lnTo>
                <a:lnTo>
                  <a:pt x="2261" y="1033"/>
                </a:lnTo>
                <a:lnTo>
                  <a:pt x="2261" y="999"/>
                </a:lnTo>
                <a:lnTo>
                  <a:pt x="2261" y="964"/>
                </a:lnTo>
                <a:lnTo>
                  <a:pt x="2261" y="937"/>
                </a:lnTo>
                <a:lnTo>
                  <a:pt x="2261" y="902"/>
                </a:lnTo>
                <a:lnTo>
                  <a:pt x="2261" y="875"/>
                </a:lnTo>
                <a:lnTo>
                  <a:pt x="2261" y="840"/>
                </a:lnTo>
                <a:lnTo>
                  <a:pt x="2289" y="813"/>
                </a:lnTo>
                <a:lnTo>
                  <a:pt x="2289" y="778"/>
                </a:lnTo>
                <a:lnTo>
                  <a:pt x="2289" y="751"/>
                </a:lnTo>
                <a:lnTo>
                  <a:pt x="2289" y="716"/>
                </a:lnTo>
                <a:lnTo>
                  <a:pt x="2289" y="689"/>
                </a:lnTo>
                <a:lnTo>
                  <a:pt x="2289" y="654"/>
                </a:lnTo>
                <a:lnTo>
                  <a:pt x="2289" y="627"/>
                </a:lnTo>
                <a:lnTo>
                  <a:pt x="2323" y="592"/>
                </a:lnTo>
                <a:lnTo>
                  <a:pt x="2323" y="558"/>
                </a:lnTo>
                <a:lnTo>
                  <a:pt x="2323" y="530"/>
                </a:lnTo>
                <a:lnTo>
                  <a:pt x="2323" y="496"/>
                </a:lnTo>
                <a:lnTo>
                  <a:pt x="2323" y="468"/>
                </a:lnTo>
                <a:lnTo>
                  <a:pt x="2323" y="434"/>
                </a:lnTo>
                <a:lnTo>
                  <a:pt x="2323" y="406"/>
                </a:lnTo>
                <a:lnTo>
                  <a:pt x="2351" y="372"/>
                </a:lnTo>
                <a:lnTo>
                  <a:pt x="2351" y="344"/>
                </a:lnTo>
                <a:lnTo>
                  <a:pt x="2351" y="310"/>
                </a:lnTo>
                <a:lnTo>
                  <a:pt x="2351" y="282"/>
                </a:lnTo>
                <a:lnTo>
                  <a:pt x="2351" y="248"/>
                </a:lnTo>
                <a:lnTo>
                  <a:pt x="2351" y="213"/>
                </a:lnTo>
                <a:lnTo>
                  <a:pt x="2351" y="186"/>
                </a:lnTo>
                <a:lnTo>
                  <a:pt x="2385" y="151"/>
                </a:lnTo>
                <a:lnTo>
                  <a:pt x="2385" y="124"/>
                </a:lnTo>
                <a:lnTo>
                  <a:pt x="2385" y="89"/>
                </a:lnTo>
                <a:lnTo>
                  <a:pt x="2385" y="62"/>
                </a:lnTo>
                <a:lnTo>
                  <a:pt x="2385" y="27"/>
                </a:lnTo>
                <a:lnTo>
                  <a:pt x="2385" y="0"/>
                </a:lnTo>
                <a:lnTo>
                  <a:pt x="2351" y="0"/>
                </a:lnTo>
                <a:lnTo>
                  <a:pt x="2323" y="0"/>
                </a:lnTo>
                <a:lnTo>
                  <a:pt x="2289" y="0"/>
                </a:lnTo>
                <a:lnTo>
                  <a:pt x="2261" y="0"/>
                </a:lnTo>
                <a:lnTo>
                  <a:pt x="2227" y="27"/>
                </a:lnTo>
                <a:lnTo>
                  <a:pt x="2192" y="27"/>
                </a:lnTo>
                <a:lnTo>
                  <a:pt x="2165" y="27"/>
                </a:lnTo>
                <a:lnTo>
                  <a:pt x="2130" y="62"/>
                </a:lnTo>
                <a:lnTo>
                  <a:pt x="2102" y="62"/>
                </a:lnTo>
                <a:lnTo>
                  <a:pt x="2068" y="89"/>
                </a:lnTo>
                <a:lnTo>
                  <a:pt x="2040" y="89"/>
                </a:lnTo>
                <a:lnTo>
                  <a:pt x="2006" y="89"/>
                </a:lnTo>
                <a:lnTo>
                  <a:pt x="1978" y="124"/>
                </a:lnTo>
                <a:lnTo>
                  <a:pt x="1944" y="124"/>
                </a:lnTo>
                <a:lnTo>
                  <a:pt x="1916" y="151"/>
                </a:lnTo>
                <a:lnTo>
                  <a:pt x="1882" y="151"/>
                </a:lnTo>
                <a:lnTo>
                  <a:pt x="1847" y="151"/>
                </a:lnTo>
                <a:lnTo>
                  <a:pt x="1820" y="186"/>
                </a:lnTo>
                <a:lnTo>
                  <a:pt x="1785" y="186"/>
                </a:lnTo>
                <a:lnTo>
                  <a:pt x="1758" y="213"/>
                </a:lnTo>
                <a:lnTo>
                  <a:pt x="1723" y="213"/>
                </a:lnTo>
                <a:lnTo>
                  <a:pt x="1696" y="213"/>
                </a:lnTo>
                <a:lnTo>
                  <a:pt x="1661" y="248"/>
                </a:lnTo>
                <a:lnTo>
                  <a:pt x="1634" y="248"/>
                </a:lnTo>
                <a:lnTo>
                  <a:pt x="1599" y="282"/>
                </a:lnTo>
                <a:lnTo>
                  <a:pt x="1572" y="282"/>
                </a:lnTo>
                <a:lnTo>
                  <a:pt x="1537" y="282"/>
                </a:lnTo>
                <a:lnTo>
                  <a:pt x="1503" y="310"/>
                </a:lnTo>
                <a:lnTo>
                  <a:pt x="1475" y="310"/>
                </a:lnTo>
                <a:lnTo>
                  <a:pt x="1441" y="344"/>
                </a:lnTo>
                <a:lnTo>
                  <a:pt x="1413" y="344"/>
                </a:lnTo>
                <a:lnTo>
                  <a:pt x="1379" y="344"/>
                </a:lnTo>
                <a:lnTo>
                  <a:pt x="1351" y="372"/>
                </a:lnTo>
                <a:lnTo>
                  <a:pt x="1316" y="372"/>
                </a:lnTo>
                <a:lnTo>
                  <a:pt x="1289" y="406"/>
                </a:lnTo>
                <a:lnTo>
                  <a:pt x="1254" y="406"/>
                </a:lnTo>
                <a:lnTo>
                  <a:pt x="1227" y="406"/>
                </a:lnTo>
                <a:lnTo>
                  <a:pt x="1192" y="434"/>
                </a:lnTo>
                <a:lnTo>
                  <a:pt x="1165" y="434"/>
                </a:lnTo>
                <a:lnTo>
                  <a:pt x="1130" y="468"/>
                </a:lnTo>
                <a:lnTo>
                  <a:pt x="1096" y="468"/>
                </a:lnTo>
                <a:lnTo>
                  <a:pt x="1068" y="468"/>
                </a:lnTo>
                <a:lnTo>
                  <a:pt x="1034" y="496"/>
                </a:lnTo>
                <a:lnTo>
                  <a:pt x="1006" y="530"/>
                </a:lnTo>
                <a:lnTo>
                  <a:pt x="972" y="558"/>
                </a:lnTo>
                <a:lnTo>
                  <a:pt x="972" y="592"/>
                </a:lnTo>
                <a:lnTo>
                  <a:pt x="944" y="627"/>
                </a:lnTo>
                <a:lnTo>
                  <a:pt x="910" y="654"/>
                </a:lnTo>
                <a:lnTo>
                  <a:pt x="882" y="689"/>
                </a:lnTo>
                <a:lnTo>
                  <a:pt x="882" y="716"/>
                </a:lnTo>
                <a:lnTo>
                  <a:pt x="848" y="751"/>
                </a:lnTo>
                <a:lnTo>
                  <a:pt x="820" y="778"/>
                </a:lnTo>
                <a:lnTo>
                  <a:pt x="786" y="813"/>
                </a:lnTo>
                <a:lnTo>
                  <a:pt x="786" y="840"/>
                </a:lnTo>
                <a:lnTo>
                  <a:pt x="751" y="875"/>
                </a:lnTo>
                <a:lnTo>
                  <a:pt x="723" y="902"/>
                </a:lnTo>
                <a:lnTo>
                  <a:pt x="689" y="937"/>
                </a:lnTo>
                <a:lnTo>
                  <a:pt x="689" y="964"/>
                </a:lnTo>
                <a:lnTo>
                  <a:pt x="661" y="999"/>
                </a:lnTo>
                <a:lnTo>
                  <a:pt x="627" y="1033"/>
                </a:lnTo>
                <a:lnTo>
                  <a:pt x="627" y="1061"/>
                </a:lnTo>
                <a:lnTo>
                  <a:pt x="599" y="1095"/>
                </a:lnTo>
                <a:lnTo>
                  <a:pt x="565" y="1123"/>
                </a:lnTo>
                <a:lnTo>
                  <a:pt x="565" y="1157"/>
                </a:lnTo>
                <a:lnTo>
                  <a:pt x="537" y="1185"/>
                </a:lnTo>
                <a:lnTo>
                  <a:pt x="537" y="1219"/>
                </a:lnTo>
                <a:lnTo>
                  <a:pt x="537" y="1247"/>
                </a:lnTo>
                <a:lnTo>
                  <a:pt x="503" y="1281"/>
                </a:lnTo>
                <a:lnTo>
                  <a:pt x="503" y="1309"/>
                </a:lnTo>
                <a:lnTo>
                  <a:pt x="503" y="1343"/>
                </a:lnTo>
                <a:lnTo>
                  <a:pt x="475" y="1377"/>
                </a:lnTo>
                <a:lnTo>
                  <a:pt x="475" y="1405"/>
                </a:lnTo>
                <a:lnTo>
                  <a:pt x="475" y="1439"/>
                </a:lnTo>
                <a:lnTo>
                  <a:pt x="441" y="1467"/>
                </a:lnTo>
                <a:lnTo>
                  <a:pt x="441" y="1501"/>
                </a:lnTo>
                <a:lnTo>
                  <a:pt x="441" y="1529"/>
                </a:lnTo>
                <a:lnTo>
                  <a:pt x="413" y="1563"/>
                </a:lnTo>
                <a:lnTo>
                  <a:pt x="413" y="1591"/>
                </a:lnTo>
                <a:lnTo>
                  <a:pt x="379" y="1625"/>
                </a:lnTo>
                <a:lnTo>
                  <a:pt x="379" y="1653"/>
                </a:lnTo>
                <a:lnTo>
                  <a:pt x="379" y="1687"/>
                </a:lnTo>
                <a:lnTo>
                  <a:pt x="344" y="1722"/>
                </a:lnTo>
                <a:lnTo>
                  <a:pt x="344" y="1749"/>
                </a:lnTo>
                <a:lnTo>
                  <a:pt x="344" y="1784"/>
                </a:lnTo>
                <a:lnTo>
                  <a:pt x="317" y="1811"/>
                </a:lnTo>
                <a:lnTo>
                  <a:pt x="317" y="1846"/>
                </a:lnTo>
                <a:lnTo>
                  <a:pt x="317" y="1873"/>
                </a:lnTo>
                <a:lnTo>
                  <a:pt x="282" y="1908"/>
                </a:lnTo>
                <a:lnTo>
                  <a:pt x="282" y="1935"/>
                </a:lnTo>
                <a:lnTo>
                  <a:pt x="282" y="1970"/>
                </a:lnTo>
                <a:lnTo>
                  <a:pt x="255" y="1997"/>
                </a:lnTo>
                <a:lnTo>
                  <a:pt x="255" y="2032"/>
                </a:lnTo>
                <a:lnTo>
                  <a:pt x="255" y="2059"/>
                </a:lnTo>
                <a:lnTo>
                  <a:pt x="220" y="2094"/>
                </a:lnTo>
                <a:lnTo>
                  <a:pt x="220" y="2128"/>
                </a:lnTo>
                <a:lnTo>
                  <a:pt x="193" y="2156"/>
                </a:lnTo>
                <a:lnTo>
                  <a:pt x="193" y="2190"/>
                </a:lnTo>
                <a:lnTo>
                  <a:pt x="193" y="2218"/>
                </a:lnTo>
                <a:lnTo>
                  <a:pt x="158" y="2252"/>
                </a:lnTo>
                <a:lnTo>
                  <a:pt x="158" y="2280"/>
                </a:lnTo>
                <a:lnTo>
                  <a:pt x="158" y="2314"/>
                </a:lnTo>
                <a:lnTo>
                  <a:pt x="131" y="2342"/>
                </a:lnTo>
                <a:lnTo>
                  <a:pt x="131" y="2376"/>
                </a:lnTo>
                <a:lnTo>
                  <a:pt x="131" y="2404"/>
                </a:lnTo>
                <a:lnTo>
                  <a:pt x="96" y="2438"/>
                </a:lnTo>
                <a:lnTo>
                  <a:pt x="96" y="2473"/>
                </a:lnTo>
                <a:lnTo>
                  <a:pt x="96" y="2500"/>
                </a:lnTo>
                <a:lnTo>
                  <a:pt x="68" y="2535"/>
                </a:lnTo>
                <a:lnTo>
                  <a:pt x="68" y="2562"/>
                </a:lnTo>
                <a:lnTo>
                  <a:pt x="68" y="2597"/>
                </a:lnTo>
                <a:lnTo>
                  <a:pt x="34" y="2624"/>
                </a:lnTo>
                <a:lnTo>
                  <a:pt x="34" y="2659"/>
                </a:lnTo>
                <a:lnTo>
                  <a:pt x="34" y="2686"/>
                </a:lnTo>
                <a:lnTo>
                  <a:pt x="0" y="2721"/>
                </a:lnTo>
                <a:lnTo>
                  <a:pt x="0" y="2748"/>
                </a:lnTo>
                <a:lnTo>
                  <a:pt x="0" y="2783"/>
                </a:lnTo>
                <a:lnTo>
                  <a:pt x="34" y="2783"/>
                </a:lnTo>
                <a:lnTo>
                  <a:pt x="68" y="2817"/>
                </a:lnTo>
                <a:lnTo>
                  <a:pt x="96" y="2817"/>
                </a:lnTo>
                <a:lnTo>
                  <a:pt x="131" y="2845"/>
                </a:lnTo>
                <a:lnTo>
                  <a:pt x="158" y="2879"/>
                </a:lnTo>
                <a:lnTo>
                  <a:pt x="193" y="2879"/>
                </a:lnTo>
                <a:lnTo>
                  <a:pt x="220" y="2907"/>
                </a:lnTo>
                <a:lnTo>
                  <a:pt x="255" y="2907"/>
                </a:lnTo>
                <a:lnTo>
                  <a:pt x="282" y="2941"/>
                </a:lnTo>
                <a:lnTo>
                  <a:pt x="317" y="2941"/>
                </a:lnTo>
                <a:lnTo>
                  <a:pt x="344" y="2969"/>
                </a:lnTo>
                <a:lnTo>
                  <a:pt x="379" y="2969"/>
                </a:lnTo>
                <a:lnTo>
                  <a:pt x="413" y="3003"/>
                </a:lnTo>
                <a:lnTo>
                  <a:pt x="441" y="3003"/>
                </a:lnTo>
                <a:lnTo>
                  <a:pt x="475" y="3031"/>
                </a:lnTo>
                <a:lnTo>
                  <a:pt x="503" y="3031"/>
                </a:lnTo>
                <a:lnTo>
                  <a:pt x="537" y="3031"/>
                </a:lnTo>
                <a:close/>
                <a:moveTo>
                  <a:pt x="1310" y="2128"/>
                </a:moveTo>
                <a:lnTo>
                  <a:pt x="1316" y="2121"/>
                </a:lnTo>
                <a:lnTo>
                  <a:pt x="1316" y="2121"/>
                </a:lnTo>
                <a:lnTo>
                  <a:pt x="1316" y="2121"/>
                </a:lnTo>
                <a:lnTo>
                  <a:pt x="1323" y="2121"/>
                </a:lnTo>
                <a:lnTo>
                  <a:pt x="1323" y="2121"/>
                </a:lnTo>
                <a:lnTo>
                  <a:pt x="1330" y="2121"/>
                </a:lnTo>
                <a:lnTo>
                  <a:pt x="1330" y="2128"/>
                </a:lnTo>
                <a:lnTo>
                  <a:pt x="1330" y="2128"/>
                </a:lnTo>
                <a:lnTo>
                  <a:pt x="1323" y="2128"/>
                </a:lnTo>
                <a:lnTo>
                  <a:pt x="1323" y="2128"/>
                </a:lnTo>
                <a:lnTo>
                  <a:pt x="1316" y="2135"/>
                </a:lnTo>
                <a:lnTo>
                  <a:pt x="1316" y="2128"/>
                </a:lnTo>
                <a:lnTo>
                  <a:pt x="1310" y="2128"/>
                </a:lnTo>
                <a:lnTo>
                  <a:pt x="1310" y="2128"/>
                </a:lnTo>
                <a:close/>
                <a:moveTo>
                  <a:pt x="537" y="3031"/>
                </a:moveTo>
                <a:lnTo>
                  <a:pt x="565" y="3003"/>
                </a:lnTo>
                <a:lnTo>
                  <a:pt x="599" y="3003"/>
                </a:lnTo>
                <a:lnTo>
                  <a:pt x="627" y="2969"/>
                </a:lnTo>
                <a:lnTo>
                  <a:pt x="661" y="2941"/>
                </a:lnTo>
                <a:lnTo>
                  <a:pt x="689" y="2907"/>
                </a:lnTo>
                <a:lnTo>
                  <a:pt x="723" y="2907"/>
                </a:lnTo>
                <a:lnTo>
                  <a:pt x="751" y="2879"/>
                </a:lnTo>
                <a:lnTo>
                  <a:pt x="786" y="2845"/>
                </a:lnTo>
                <a:lnTo>
                  <a:pt x="820" y="2845"/>
                </a:lnTo>
                <a:lnTo>
                  <a:pt x="848" y="2817"/>
                </a:lnTo>
                <a:lnTo>
                  <a:pt x="882" y="2783"/>
                </a:lnTo>
                <a:lnTo>
                  <a:pt x="910" y="2783"/>
                </a:lnTo>
                <a:lnTo>
                  <a:pt x="944" y="2748"/>
                </a:lnTo>
                <a:lnTo>
                  <a:pt x="972" y="2721"/>
                </a:lnTo>
                <a:lnTo>
                  <a:pt x="1006" y="2686"/>
                </a:lnTo>
                <a:lnTo>
                  <a:pt x="1034" y="2686"/>
                </a:lnTo>
                <a:lnTo>
                  <a:pt x="1068" y="2659"/>
                </a:lnTo>
                <a:lnTo>
                  <a:pt x="1096" y="2624"/>
                </a:lnTo>
                <a:lnTo>
                  <a:pt x="1130" y="2624"/>
                </a:lnTo>
                <a:lnTo>
                  <a:pt x="1165" y="2597"/>
                </a:lnTo>
                <a:lnTo>
                  <a:pt x="1192" y="2562"/>
                </a:lnTo>
                <a:lnTo>
                  <a:pt x="1227" y="2535"/>
                </a:lnTo>
                <a:lnTo>
                  <a:pt x="1254" y="2535"/>
                </a:lnTo>
                <a:lnTo>
                  <a:pt x="1289" y="2500"/>
                </a:lnTo>
                <a:lnTo>
                  <a:pt x="1316" y="2473"/>
                </a:lnTo>
                <a:lnTo>
                  <a:pt x="1351" y="2473"/>
                </a:lnTo>
                <a:lnTo>
                  <a:pt x="1379" y="2438"/>
                </a:lnTo>
                <a:lnTo>
                  <a:pt x="1413" y="2404"/>
                </a:lnTo>
                <a:lnTo>
                  <a:pt x="1441" y="2376"/>
                </a:lnTo>
                <a:lnTo>
                  <a:pt x="1475" y="2376"/>
                </a:lnTo>
                <a:lnTo>
                  <a:pt x="1503" y="2342"/>
                </a:lnTo>
                <a:lnTo>
                  <a:pt x="1537" y="2314"/>
                </a:lnTo>
                <a:lnTo>
                  <a:pt x="1572" y="2314"/>
                </a:lnTo>
                <a:lnTo>
                  <a:pt x="1599" y="2280"/>
                </a:lnTo>
                <a:lnTo>
                  <a:pt x="1634" y="2252"/>
                </a:lnTo>
                <a:lnTo>
                  <a:pt x="1661" y="2218"/>
                </a:lnTo>
                <a:lnTo>
                  <a:pt x="1696" y="2218"/>
                </a:lnTo>
                <a:lnTo>
                  <a:pt x="1723" y="2190"/>
                </a:lnTo>
                <a:lnTo>
                  <a:pt x="1758" y="2156"/>
                </a:lnTo>
                <a:lnTo>
                  <a:pt x="1785" y="2156"/>
                </a:lnTo>
                <a:lnTo>
                  <a:pt x="1820" y="2128"/>
                </a:lnTo>
                <a:lnTo>
                  <a:pt x="1847" y="2094"/>
                </a:lnTo>
                <a:lnTo>
                  <a:pt x="1882" y="2059"/>
                </a:lnTo>
                <a:lnTo>
                  <a:pt x="1916" y="2059"/>
                </a:lnTo>
                <a:lnTo>
                  <a:pt x="1916" y="2032"/>
                </a:lnTo>
                <a:lnTo>
                  <a:pt x="1944" y="1997"/>
                </a:lnTo>
                <a:lnTo>
                  <a:pt x="1978" y="1970"/>
                </a:lnTo>
                <a:lnTo>
                  <a:pt x="1978" y="1935"/>
                </a:lnTo>
                <a:lnTo>
                  <a:pt x="2006" y="1908"/>
                </a:lnTo>
                <a:lnTo>
                  <a:pt x="2040" y="1873"/>
                </a:lnTo>
                <a:lnTo>
                  <a:pt x="2040" y="1846"/>
                </a:lnTo>
                <a:lnTo>
                  <a:pt x="2068" y="1811"/>
                </a:lnTo>
                <a:lnTo>
                  <a:pt x="2102" y="1784"/>
                </a:lnTo>
                <a:lnTo>
                  <a:pt x="2102" y="1749"/>
                </a:lnTo>
                <a:lnTo>
                  <a:pt x="2102" y="1722"/>
                </a:lnTo>
                <a:lnTo>
                  <a:pt x="2130" y="1687"/>
                </a:lnTo>
                <a:lnTo>
                  <a:pt x="2130" y="1653"/>
                </a:lnTo>
                <a:lnTo>
                  <a:pt x="2130" y="1625"/>
                </a:lnTo>
                <a:lnTo>
                  <a:pt x="2165" y="1591"/>
                </a:lnTo>
                <a:lnTo>
                  <a:pt x="2165" y="1563"/>
                </a:lnTo>
                <a:lnTo>
                  <a:pt x="2165" y="1529"/>
                </a:lnTo>
                <a:lnTo>
                  <a:pt x="2165" y="1501"/>
                </a:lnTo>
                <a:lnTo>
                  <a:pt x="2192" y="1467"/>
                </a:lnTo>
                <a:lnTo>
                  <a:pt x="2192" y="1439"/>
                </a:lnTo>
                <a:lnTo>
                  <a:pt x="2192" y="1405"/>
                </a:lnTo>
                <a:lnTo>
                  <a:pt x="2192" y="1377"/>
                </a:lnTo>
                <a:lnTo>
                  <a:pt x="2192" y="1343"/>
                </a:lnTo>
                <a:lnTo>
                  <a:pt x="2192" y="1309"/>
                </a:lnTo>
                <a:lnTo>
                  <a:pt x="2192" y="1281"/>
                </a:lnTo>
                <a:lnTo>
                  <a:pt x="2227" y="1247"/>
                </a:lnTo>
                <a:lnTo>
                  <a:pt x="2227" y="1219"/>
                </a:lnTo>
                <a:lnTo>
                  <a:pt x="2227" y="1185"/>
                </a:lnTo>
                <a:lnTo>
                  <a:pt x="2227" y="1157"/>
                </a:lnTo>
                <a:lnTo>
                  <a:pt x="2227" y="1123"/>
                </a:lnTo>
                <a:lnTo>
                  <a:pt x="2227" y="1095"/>
                </a:lnTo>
                <a:lnTo>
                  <a:pt x="2227" y="1061"/>
                </a:lnTo>
                <a:lnTo>
                  <a:pt x="2261" y="1033"/>
                </a:lnTo>
                <a:lnTo>
                  <a:pt x="2261" y="999"/>
                </a:lnTo>
                <a:lnTo>
                  <a:pt x="2261" y="964"/>
                </a:lnTo>
                <a:lnTo>
                  <a:pt x="2261" y="937"/>
                </a:lnTo>
                <a:lnTo>
                  <a:pt x="2261" y="902"/>
                </a:lnTo>
                <a:lnTo>
                  <a:pt x="2261" y="875"/>
                </a:lnTo>
                <a:lnTo>
                  <a:pt x="2261" y="840"/>
                </a:lnTo>
                <a:lnTo>
                  <a:pt x="2289" y="813"/>
                </a:lnTo>
                <a:lnTo>
                  <a:pt x="2289" y="778"/>
                </a:lnTo>
                <a:lnTo>
                  <a:pt x="2289" y="751"/>
                </a:lnTo>
                <a:lnTo>
                  <a:pt x="2289" y="716"/>
                </a:lnTo>
                <a:lnTo>
                  <a:pt x="2289" y="689"/>
                </a:lnTo>
                <a:lnTo>
                  <a:pt x="2289" y="654"/>
                </a:lnTo>
                <a:lnTo>
                  <a:pt x="2289" y="627"/>
                </a:lnTo>
                <a:lnTo>
                  <a:pt x="2323" y="592"/>
                </a:lnTo>
                <a:lnTo>
                  <a:pt x="2323" y="558"/>
                </a:lnTo>
                <a:lnTo>
                  <a:pt x="2323" y="530"/>
                </a:lnTo>
                <a:lnTo>
                  <a:pt x="2323" y="496"/>
                </a:lnTo>
                <a:lnTo>
                  <a:pt x="2323" y="468"/>
                </a:lnTo>
                <a:lnTo>
                  <a:pt x="2323" y="434"/>
                </a:lnTo>
                <a:lnTo>
                  <a:pt x="2323" y="406"/>
                </a:lnTo>
                <a:lnTo>
                  <a:pt x="2351" y="372"/>
                </a:lnTo>
                <a:lnTo>
                  <a:pt x="2351" y="344"/>
                </a:lnTo>
                <a:lnTo>
                  <a:pt x="2351" y="310"/>
                </a:lnTo>
                <a:lnTo>
                  <a:pt x="2351" y="282"/>
                </a:lnTo>
                <a:lnTo>
                  <a:pt x="2351" y="248"/>
                </a:lnTo>
                <a:lnTo>
                  <a:pt x="2351" y="213"/>
                </a:lnTo>
                <a:lnTo>
                  <a:pt x="2351" y="186"/>
                </a:lnTo>
                <a:lnTo>
                  <a:pt x="2385" y="151"/>
                </a:lnTo>
                <a:lnTo>
                  <a:pt x="2385" y="124"/>
                </a:lnTo>
                <a:lnTo>
                  <a:pt x="2385" y="89"/>
                </a:lnTo>
                <a:lnTo>
                  <a:pt x="2385" y="62"/>
                </a:lnTo>
                <a:lnTo>
                  <a:pt x="2385" y="27"/>
                </a:lnTo>
                <a:lnTo>
                  <a:pt x="2385" y="0"/>
                </a:lnTo>
                <a:lnTo>
                  <a:pt x="2351" y="0"/>
                </a:lnTo>
                <a:lnTo>
                  <a:pt x="2323" y="0"/>
                </a:lnTo>
                <a:lnTo>
                  <a:pt x="2289" y="0"/>
                </a:lnTo>
                <a:lnTo>
                  <a:pt x="2261" y="0"/>
                </a:lnTo>
                <a:lnTo>
                  <a:pt x="2227" y="27"/>
                </a:lnTo>
                <a:lnTo>
                  <a:pt x="2192" y="27"/>
                </a:lnTo>
                <a:lnTo>
                  <a:pt x="2165" y="27"/>
                </a:lnTo>
                <a:lnTo>
                  <a:pt x="2130" y="62"/>
                </a:lnTo>
                <a:lnTo>
                  <a:pt x="2102" y="62"/>
                </a:lnTo>
                <a:lnTo>
                  <a:pt x="2068" y="89"/>
                </a:lnTo>
                <a:lnTo>
                  <a:pt x="2040" y="89"/>
                </a:lnTo>
                <a:lnTo>
                  <a:pt x="2006" y="89"/>
                </a:lnTo>
                <a:lnTo>
                  <a:pt x="1978" y="124"/>
                </a:lnTo>
                <a:lnTo>
                  <a:pt x="1944" y="124"/>
                </a:lnTo>
                <a:lnTo>
                  <a:pt x="1916" y="151"/>
                </a:lnTo>
                <a:lnTo>
                  <a:pt x="1882" y="151"/>
                </a:lnTo>
                <a:lnTo>
                  <a:pt x="1847" y="151"/>
                </a:lnTo>
                <a:lnTo>
                  <a:pt x="1820" y="186"/>
                </a:lnTo>
                <a:lnTo>
                  <a:pt x="1785" y="186"/>
                </a:lnTo>
                <a:lnTo>
                  <a:pt x="1758" y="213"/>
                </a:lnTo>
                <a:lnTo>
                  <a:pt x="1723" y="213"/>
                </a:lnTo>
                <a:lnTo>
                  <a:pt x="1696" y="213"/>
                </a:lnTo>
                <a:lnTo>
                  <a:pt x="1661" y="248"/>
                </a:lnTo>
                <a:lnTo>
                  <a:pt x="1634" y="248"/>
                </a:lnTo>
                <a:lnTo>
                  <a:pt x="1599" y="282"/>
                </a:lnTo>
                <a:lnTo>
                  <a:pt x="1572" y="282"/>
                </a:lnTo>
                <a:lnTo>
                  <a:pt x="1537" y="282"/>
                </a:lnTo>
                <a:lnTo>
                  <a:pt x="1503" y="310"/>
                </a:lnTo>
                <a:lnTo>
                  <a:pt x="1475" y="310"/>
                </a:lnTo>
                <a:lnTo>
                  <a:pt x="1441" y="344"/>
                </a:lnTo>
                <a:lnTo>
                  <a:pt x="1413" y="344"/>
                </a:lnTo>
                <a:lnTo>
                  <a:pt x="1379" y="344"/>
                </a:lnTo>
                <a:lnTo>
                  <a:pt x="1351" y="372"/>
                </a:lnTo>
                <a:lnTo>
                  <a:pt x="1316" y="372"/>
                </a:lnTo>
                <a:lnTo>
                  <a:pt x="1289" y="406"/>
                </a:lnTo>
                <a:lnTo>
                  <a:pt x="1254" y="406"/>
                </a:lnTo>
                <a:lnTo>
                  <a:pt x="1227" y="406"/>
                </a:lnTo>
                <a:lnTo>
                  <a:pt x="1192" y="434"/>
                </a:lnTo>
                <a:lnTo>
                  <a:pt x="1165" y="434"/>
                </a:lnTo>
                <a:lnTo>
                  <a:pt x="1130" y="468"/>
                </a:lnTo>
                <a:lnTo>
                  <a:pt x="1096" y="468"/>
                </a:lnTo>
                <a:lnTo>
                  <a:pt x="1068" y="468"/>
                </a:lnTo>
                <a:lnTo>
                  <a:pt x="1034" y="496"/>
                </a:lnTo>
                <a:lnTo>
                  <a:pt x="1006" y="530"/>
                </a:lnTo>
                <a:lnTo>
                  <a:pt x="972" y="558"/>
                </a:lnTo>
                <a:lnTo>
                  <a:pt x="972" y="592"/>
                </a:lnTo>
                <a:lnTo>
                  <a:pt x="944" y="627"/>
                </a:lnTo>
                <a:lnTo>
                  <a:pt x="910" y="654"/>
                </a:lnTo>
                <a:lnTo>
                  <a:pt x="882" y="689"/>
                </a:lnTo>
                <a:lnTo>
                  <a:pt x="882" y="716"/>
                </a:lnTo>
                <a:lnTo>
                  <a:pt x="848" y="751"/>
                </a:lnTo>
                <a:lnTo>
                  <a:pt x="820" y="778"/>
                </a:lnTo>
                <a:lnTo>
                  <a:pt x="786" y="813"/>
                </a:lnTo>
                <a:lnTo>
                  <a:pt x="786" y="840"/>
                </a:lnTo>
                <a:lnTo>
                  <a:pt x="751" y="875"/>
                </a:lnTo>
                <a:lnTo>
                  <a:pt x="723" y="902"/>
                </a:lnTo>
                <a:lnTo>
                  <a:pt x="689" y="937"/>
                </a:lnTo>
                <a:lnTo>
                  <a:pt x="689" y="964"/>
                </a:lnTo>
                <a:lnTo>
                  <a:pt x="661" y="999"/>
                </a:lnTo>
                <a:lnTo>
                  <a:pt x="627" y="1033"/>
                </a:lnTo>
                <a:lnTo>
                  <a:pt x="627" y="1061"/>
                </a:lnTo>
                <a:lnTo>
                  <a:pt x="599" y="1095"/>
                </a:lnTo>
                <a:lnTo>
                  <a:pt x="565" y="1123"/>
                </a:lnTo>
                <a:lnTo>
                  <a:pt x="565" y="1157"/>
                </a:lnTo>
                <a:lnTo>
                  <a:pt x="537" y="1185"/>
                </a:lnTo>
                <a:lnTo>
                  <a:pt x="537" y="1219"/>
                </a:lnTo>
                <a:lnTo>
                  <a:pt x="537" y="1247"/>
                </a:lnTo>
                <a:lnTo>
                  <a:pt x="503" y="1281"/>
                </a:lnTo>
                <a:lnTo>
                  <a:pt x="503" y="1309"/>
                </a:lnTo>
                <a:lnTo>
                  <a:pt x="503" y="1343"/>
                </a:lnTo>
                <a:lnTo>
                  <a:pt x="475" y="1377"/>
                </a:lnTo>
                <a:lnTo>
                  <a:pt x="475" y="1405"/>
                </a:lnTo>
                <a:lnTo>
                  <a:pt x="475" y="1439"/>
                </a:lnTo>
                <a:lnTo>
                  <a:pt x="441" y="1467"/>
                </a:lnTo>
                <a:lnTo>
                  <a:pt x="441" y="1501"/>
                </a:lnTo>
                <a:lnTo>
                  <a:pt x="441" y="1529"/>
                </a:lnTo>
                <a:lnTo>
                  <a:pt x="413" y="1563"/>
                </a:lnTo>
                <a:lnTo>
                  <a:pt x="413" y="1591"/>
                </a:lnTo>
                <a:lnTo>
                  <a:pt x="379" y="1625"/>
                </a:lnTo>
                <a:lnTo>
                  <a:pt x="379" y="1653"/>
                </a:lnTo>
                <a:lnTo>
                  <a:pt x="379" y="1687"/>
                </a:lnTo>
                <a:lnTo>
                  <a:pt x="344" y="1722"/>
                </a:lnTo>
                <a:lnTo>
                  <a:pt x="344" y="1749"/>
                </a:lnTo>
                <a:lnTo>
                  <a:pt x="344" y="1784"/>
                </a:lnTo>
                <a:lnTo>
                  <a:pt x="317" y="1811"/>
                </a:lnTo>
                <a:lnTo>
                  <a:pt x="317" y="1846"/>
                </a:lnTo>
                <a:lnTo>
                  <a:pt x="317" y="1873"/>
                </a:lnTo>
                <a:lnTo>
                  <a:pt x="282" y="1908"/>
                </a:lnTo>
                <a:lnTo>
                  <a:pt x="282" y="1935"/>
                </a:lnTo>
                <a:lnTo>
                  <a:pt x="282" y="1970"/>
                </a:lnTo>
                <a:lnTo>
                  <a:pt x="255" y="1997"/>
                </a:lnTo>
                <a:lnTo>
                  <a:pt x="255" y="2032"/>
                </a:lnTo>
                <a:lnTo>
                  <a:pt x="255" y="2059"/>
                </a:lnTo>
                <a:lnTo>
                  <a:pt x="220" y="2094"/>
                </a:lnTo>
                <a:lnTo>
                  <a:pt x="220" y="2128"/>
                </a:lnTo>
                <a:lnTo>
                  <a:pt x="193" y="2156"/>
                </a:lnTo>
                <a:lnTo>
                  <a:pt x="193" y="2190"/>
                </a:lnTo>
                <a:lnTo>
                  <a:pt x="193" y="2218"/>
                </a:lnTo>
                <a:lnTo>
                  <a:pt x="158" y="2252"/>
                </a:lnTo>
                <a:lnTo>
                  <a:pt x="158" y="2280"/>
                </a:lnTo>
                <a:lnTo>
                  <a:pt x="158" y="2314"/>
                </a:lnTo>
                <a:lnTo>
                  <a:pt x="131" y="2342"/>
                </a:lnTo>
                <a:lnTo>
                  <a:pt x="131" y="2376"/>
                </a:lnTo>
                <a:lnTo>
                  <a:pt x="131" y="2404"/>
                </a:lnTo>
                <a:lnTo>
                  <a:pt x="96" y="2438"/>
                </a:lnTo>
                <a:lnTo>
                  <a:pt x="96" y="2473"/>
                </a:lnTo>
                <a:lnTo>
                  <a:pt x="96" y="2500"/>
                </a:lnTo>
                <a:lnTo>
                  <a:pt x="68" y="2535"/>
                </a:lnTo>
                <a:lnTo>
                  <a:pt x="68" y="2562"/>
                </a:lnTo>
                <a:lnTo>
                  <a:pt x="68" y="2597"/>
                </a:lnTo>
                <a:lnTo>
                  <a:pt x="34" y="2624"/>
                </a:lnTo>
                <a:lnTo>
                  <a:pt x="34" y="2659"/>
                </a:lnTo>
                <a:lnTo>
                  <a:pt x="34" y="2686"/>
                </a:lnTo>
                <a:lnTo>
                  <a:pt x="0" y="2721"/>
                </a:lnTo>
                <a:lnTo>
                  <a:pt x="0" y="2748"/>
                </a:lnTo>
                <a:lnTo>
                  <a:pt x="0" y="2783"/>
                </a:lnTo>
                <a:lnTo>
                  <a:pt x="34" y="2783"/>
                </a:lnTo>
                <a:lnTo>
                  <a:pt x="68" y="2817"/>
                </a:lnTo>
                <a:lnTo>
                  <a:pt x="96" y="2817"/>
                </a:lnTo>
                <a:lnTo>
                  <a:pt x="131" y="2845"/>
                </a:lnTo>
                <a:lnTo>
                  <a:pt x="158" y="2879"/>
                </a:lnTo>
                <a:lnTo>
                  <a:pt x="193" y="2879"/>
                </a:lnTo>
                <a:lnTo>
                  <a:pt x="220" y="2907"/>
                </a:lnTo>
                <a:lnTo>
                  <a:pt x="255" y="2907"/>
                </a:lnTo>
                <a:lnTo>
                  <a:pt x="282" y="2941"/>
                </a:lnTo>
                <a:lnTo>
                  <a:pt x="317" y="2941"/>
                </a:lnTo>
                <a:lnTo>
                  <a:pt x="344" y="2969"/>
                </a:lnTo>
                <a:lnTo>
                  <a:pt x="379" y="2969"/>
                </a:lnTo>
                <a:lnTo>
                  <a:pt x="413" y="3003"/>
                </a:lnTo>
                <a:lnTo>
                  <a:pt x="441" y="3003"/>
                </a:lnTo>
                <a:lnTo>
                  <a:pt x="475" y="3031"/>
                </a:lnTo>
                <a:lnTo>
                  <a:pt x="503" y="3031"/>
                </a:lnTo>
                <a:lnTo>
                  <a:pt x="537" y="3031"/>
                </a:lnTo>
                <a:close/>
              </a:path>
            </a:pathLst>
          </a:custGeom>
          <a:solidFill>
            <a:srgbClr val="ff3a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0" name=""/>
          <p:cNvSpPr/>
          <p:nvPr/>
        </p:nvSpPr>
        <p:spPr>
          <a:xfrm>
            <a:off x="3576600" y="1328760"/>
            <a:ext cx="3251160" cy="5237280"/>
          </a:xfrm>
          <a:custGeom>
            <a:avLst/>
            <a:gdLst/>
            <a:ahLst/>
            <a:rect l="l" t="t" r="r" b="b"/>
            <a:pathLst>
              <a:path w="2048" h="3299">
                <a:moveTo>
                  <a:pt x="718" y="3299"/>
                </a:moveTo>
                <a:lnTo>
                  <a:pt x="752" y="3265"/>
                </a:lnTo>
                <a:lnTo>
                  <a:pt x="787" y="3265"/>
                </a:lnTo>
                <a:lnTo>
                  <a:pt x="821" y="3265"/>
                </a:lnTo>
                <a:lnTo>
                  <a:pt x="855" y="3230"/>
                </a:lnTo>
                <a:lnTo>
                  <a:pt x="890" y="3230"/>
                </a:lnTo>
                <a:lnTo>
                  <a:pt x="924" y="3230"/>
                </a:lnTo>
                <a:lnTo>
                  <a:pt x="959" y="3196"/>
                </a:lnTo>
                <a:lnTo>
                  <a:pt x="993" y="3196"/>
                </a:lnTo>
                <a:lnTo>
                  <a:pt x="1028" y="3196"/>
                </a:lnTo>
                <a:lnTo>
                  <a:pt x="1062" y="3161"/>
                </a:lnTo>
                <a:lnTo>
                  <a:pt x="1090" y="3161"/>
                </a:lnTo>
                <a:lnTo>
                  <a:pt x="1090" y="3127"/>
                </a:lnTo>
                <a:lnTo>
                  <a:pt x="1124" y="3093"/>
                </a:lnTo>
                <a:lnTo>
                  <a:pt x="1124" y="3058"/>
                </a:lnTo>
                <a:lnTo>
                  <a:pt x="1159" y="3024"/>
                </a:lnTo>
                <a:lnTo>
                  <a:pt x="1159" y="2996"/>
                </a:lnTo>
                <a:lnTo>
                  <a:pt x="1193" y="2962"/>
                </a:lnTo>
                <a:lnTo>
                  <a:pt x="1193" y="2927"/>
                </a:lnTo>
                <a:lnTo>
                  <a:pt x="1228" y="2893"/>
                </a:lnTo>
                <a:lnTo>
                  <a:pt x="1228" y="2858"/>
                </a:lnTo>
                <a:lnTo>
                  <a:pt x="1262" y="2824"/>
                </a:lnTo>
                <a:lnTo>
                  <a:pt x="1262" y="2789"/>
                </a:lnTo>
                <a:lnTo>
                  <a:pt x="1297" y="2755"/>
                </a:lnTo>
                <a:lnTo>
                  <a:pt x="1297" y="2721"/>
                </a:lnTo>
                <a:lnTo>
                  <a:pt x="1331" y="2686"/>
                </a:lnTo>
                <a:lnTo>
                  <a:pt x="1331" y="2652"/>
                </a:lnTo>
                <a:lnTo>
                  <a:pt x="1366" y="2617"/>
                </a:lnTo>
                <a:lnTo>
                  <a:pt x="1366" y="2583"/>
                </a:lnTo>
                <a:lnTo>
                  <a:pt x="1400" y="2548"/>
                </a:lnTo>
                <a:lnTo>
                  <a:pt x="1400" y="2514"/>
                </a:lnTo>
                <a:lnTo>
                  <a:pt x="1428" y="2493"/>
                </a:lnTo>
                <a:lnTo>
                  <a:pt x="1428" y="2480"/>
                </a:lnTo>
                <a:lnTo>
                  <a:pt x="1428" y="2473"/>
                </a:lnTo>
                <a:lnTo>
                  <a:pt x="1435" y="2459"/>
                </a:lnTo>
                <a:lnTo>
                  <a:pt x="1435" y="2445"/>
                </a:lnTo>
                <a:lnTo>
                  <a:pt x="1435" y="2438"/>
                </a:lnTo>
                <a:lnTo>
                  <a:pt x="1442" y="2424"/>
                </a:lnTo>
                <a:lnTo>
                  <a:pt x="1442" y="2418"/>
                </a:lnTo>
                <a:lnTo>
                  <a:pt x="1442" y="2404"/>
                </a:lnTo>
                <a:lnTo>
                  <a:pt x="1442" y="2397"/>
                </a:lnTo>
                <a:lnTo>
                  <a:pt x="1448" y="2383"/>
                </a:lnTo>
                <a:lnTo>
                  <a:pt x="1448" y="2376"/>
                </a:lnTo>
                <a:lnTo>
                  <a:pt x="1448" y="2362"/>
                </a:lnTo>
                <a:lnTo>
                  <a:pt x="1455" y="2349"/>
                </a:lnTo>
                <a:lnTo>
                  <a:pt x="1455" y="2342"/>
                </a:lnTo>
                <a:lnTo>
                  <a:pt x="1455" y="2328"/>
                </a:lnTo>
                <a:lnTo>
                  <a:pt x="1462" y="2321"/>
                </a:lnTo>
                <a:lnTo>
                  <a:pt x="1462" y="2307"/>
                </a:lnTo>
                <a:lnTo>
                  <a:pt x="1462" y="2300"/>
                </a:lnTo>
                <a:lnTo>
                  <a:pt x="1462" y="2287"/>
                </a:lnTo>
                <a:lnTo>
                  <a:pt x="1469" y="2280"/>
                </a:lnTo>
                <a:lnTo>
                  <a:pt x="1469" y="2266"/>
                </a:lnTo>
                <a:lnTo>
                  <a:pt x="1469" y="2252"/>
                </a:lnTo>
                <a:lnTo>
                  <a:pt x="1476" y="2245"/>
                </a:lnTo>
                <a:lnTo>
                  <a:pt x="1476" y="2232"/>
                </a:lnTo>
                <a:lnTo>
                  <a:pt x="1469" y="2225"/>
                </a:lnTo>
                <a:lnTo>
                  <a:pt x="1462" y="2218"/>
                </a:lnTo>
                <a:lnTo>
                  <a:pt x="1455" y="2211"/>
                </a:lnTo>
                <a:lnTo>
                  <a:pt x="1448" y="2211"/>
                </a:lnTo>
                <a:lnTo>
                  <a:pt x="1442" y="2204"/>
                </a:lnTo>
                <a:lnTo>
                  <a:pt x="1435" y="2204"/>
                </a:lnTo>
                <a:lnTo>
                  <a:pt x="1428" y="2197"/>
                </a:lnTo>
                <a:lnTo>
                  <a:pt x="1428" y="2190"/>
                </a:lnTo>
                <a:lnTo>
                  <a:pt x="1421" y="2183"/>
                </a:lnTo>
                <a:lnTo>
                  <a:pt x="1414" y="2176"/>
                </a:lnTo>
                <a:lnTo>
                  <a:pt x="1407" y="2170"/>
                </a:lnTo>
                <a:lnTo>
                  <a:pt x="1400" y="2163"/>
                </a:lnTo>
                <a:lnTo>
                  <a:pt x="1400" y="2156"/>
                </a:lnTo>
                <a:lnTo>
                  <a:pt x="1393" y="2149"/>
                </a:lnTo>
                <a:lnTo>
                  <a:pt x="1386" y="2142"/>
                </a:lnTo>
                <a:lnTo>
                  <a:pt x="1379" y="2135"/>
                </a:lnTo>
                <a:lnTo>
                  <a:pt x="1373" y="2135"/>
                </a:lnTo>
                <a:lnTo>
                  <a:pt x="1366" y="2128"/>
                </a:lnTo>
                <a:lnTo>
                  <a:pt x="1359" y="2128"/>
                </a:lnTo>
                <a:lnTo>
                  <a:pt x="1352" y="2128"/>
                </a:lnTo>
                <a:lnTo>
                  <a:pt x="1345" y="2128"/>
                </a:lnTo>
                <a:lnTo>
                  <a:pt x="1338" y="2128"/>
                </a:lnTo>
                <a:lnTo>
                  <a:pt x="1331" y="2128"/>
                </a:lnTo>
                <a:lnTo>
                  <a:pt x="1324" y="2128"/>
                </a:lnTo>
                <a:lnTo>
                  <a:pt x="1317" y="2128"/>
                </a:lnTo>
                <a:lnTo>
                  <a:pt x="1311" y="2128"/>
                </a:lnTo>
                <a:lnTo>
                  <a:pt x="1304" y="2128"/>
                </a:lnTo>
                <a:lnTo>
                  <a:pt x="1297" y="2128"/>
                </a:lnTo>
                <a:lnTo>
                  <a:pt x="1290" y="2128"/>
                </a:lnTo>
                <a:lnTo>
                  <a:pt x="1283" y="2128"/>
                </a:lnTo>
                <a:lnTo>
                  <a:pt x="1276" y="2128"/>
                </a:lnTo>
                <a:lnTo>
                  <a:pt x="1269" y="2128"/>
                </a:lnTo>
                <a:lnTo>
                  <a:pt x="1262" y="2128"/>
                </a:lnTo>
                <a:lnTo>
                  <a:pt x="1255" y="2128"/>
                </a:lnTo>
                <a:lnTo>
                  <a:pt x="1248" y="2128"/>
                </a:lnTo>
                <a:lnTo>
                  <a:pt x="1242" y="2128"/>
                </a:lnTo>
                <a:lnTo>
                  <a:pt x="1235" y="2128"/>
                </a:lnTo>
                <a:lnTo>
                  <a:pt x="1228" y="2128"/>
                </a:lnTo>
                <a:lnTo>
                  <a:pt x="1221" y="2128"/>
                </a:lnTo>
                <a:lnTo>
                  <a:pt x="1214" y="2128"/>
                </a:lnTo>
                <a:lnTo>
                  <a:pt x="1207" y="2128"/>
                </a:lnTo>
                <a:lnTo>
                  <a:pt x="1200" y="2128"/>
                </a:lnTo>
                <a:lnTo>
                  <a:pt x="1193" y="2128"/>
                </a:lnTo>
                <a:lnTo>
                  <a:pt x="1186" y="2128"/>
                </a:lnTo>
                <a:lnTo>
                  <a:pt x="1180" y="2128"/>
                </a:lnTo>
                <a:lnTo>
                  <a:pt x="1166" y="2128"/>
                </a:lnTo>
                <a:lnTo>
                  <a:pt x="1159" y="2128"/>
                </a:lnTo>
                <a:lnTo>
                  <a:pt x="1152" y="2128"/>
                </a:lnTo>
                <a:lnTo>
                  <a:pt x="1145" y="2128"/>
                </a:lnTo>
                <a:lnTo>
                  <a:pt x="1138" y="2128"/>
                </a:lnTo>
                <a:lnTo>
                  <a:pt x="1131" y="2128"/>
                </a:lnTo>
                <a:lnTo>
                  <a:pt x="1124" y="2128"/>
                </a:lnTo>
                <a:lnTo>
                  <a:pt x="1117" y="2128"/>
                </a:lnTo>
                <a:lnTo>
                  <a:pt x="1111" y="2128"/>
                </a:lnTo>
                <a:lnTo>
                  <a:pt x="1104" y="2121"/>
                </a:lnTo>
                <a:lnTo>
                  <a:pt x="1097" y="2121"/>
                </a:lnTo>
                <a:lnTo>
                  <a:pt x="1090" y="2121"/>
                </a:lnTo>
                <a:lnTo>
                  <a:pt x="1083" y="2121"/>
                </a:lnTo>
                <a:lnTo>
                  <a:pt x="1076" y="2121"/>
                </a:lnTo>
                <a:lnTo>
                  <a:pt x="1069" y="2121"/>
                </a:lnTo>
                <a:lnTo>
                  <a:pt x="1062" y="2121"/>
                </a:lnTo>
                <a:lnTo>
                  <a:pt x="1055" y="2121"/>
                </a:lnTo>
                <a:lnTo>
                  <a:pt x="1049" y="2121"/>
                </a:lnTo>
                <a:lnTo>
                  <a:pt x="1042" y="2121"/>
                </a:lnTo>
                <a:lnTo>
                  <a:pt x="1035" y="2121"/>
                </a:lnTo>
                <a:lnTo>
                  <a:pt x="1028" y="2121"/>
                </a:lnTo>
                <a:lnTo>
                  <a:pt x="1021" y="2121"/>
                </a:lnTo>
                <a:lnTo>
                  <a:pt x="1014" y="2114"/>
                </a:lnTo>
                <a:lnTo>
                  <a:pt x="1000" y="2114"/>
                </a:lnTo>
                <a:lnTo>
                  <a:pt x="1000" y="2108"/>
                </a:lnTo>
                <a:lnTo>
                  <a:pt x="1000" y="2108"/>
                </a:lnTo>
                <a:lnTo>
                  <a:pt x="1007" y="2101"/>
                </a:lnTo>
                <a:lnTo>
                  <a:pt x="1014" y="2101"/>
                </a:lnTo>
                <a:lnTo>
                  <a:pt x="1028" y="2101"/>
                </a:lnTo>
                <a:lnTo>
                  <a:pt x="1035" y="2094"/>
                </a:lnTo>
                <a:lnTo>
                  <a:pt x="1042" y="2087"/>
                </a:lnTo>
                <a:lnTo>
                  <a:pt x="1042" y="2080"/>
                </a:lnTo>
                <a:lnTo>
                  <a:pt x="1049" y="2073"/>
                </a:lnTo>
                <a:lnTo>
                  <a:pt x="1055" y="2066"/>
                </a:lnTo>
                <a:lnTo>
                  <a:pt x="1062" y="2059"/>
                </a:lnTo>
                <a:lnTo>
                  <a:pt x="1069" y="2059"/>
                </a:lnTo>
                <a:lnTo>
                  <a:pt x="1076" y="2052"/>
                </a:lnTo>
                <a:lnTo>
                  <a:pt x="1076" y="2046"/>
                </a:lnTo>
                <a:lnTo>
                  <a:pt x="1083" y="2039"/>
                </a:lnTo>
                <a:lnTo>
                  <a:pt x="1090" y="2032"/>
                </a:lnTo>
                <a:lnTo>
                  <a:pt x="1097" y="2025"/>
                </a:lnTo>
                <a:lnTo>
                  <a:pt x="1104" y="2018"/>
                </a:lnTo>
                <a:lnTo>
                  <a:pt x="1111" y="2018"/>
                </a:lnTo>
                <a:lnTo>
                  <a:pt x="1117" y="2011"/>
                </a:lnTo>
                <a:lnTo>
                  <a:pt x="1124" y="2004"/>
                </a:lnTo>
                <a:lnTo>
                  <a:pt x="1124" y="1997"/>
                </a:lnTo>
                <a:lnTo>
                  <a:pt x="1131" y="1990"/>
                </a:lnTo>
                <a:lnTo>
                  <a:pt x="1138" y="1984"/>
                </a:lnTo>
                <a:lnTo>
                  <a:pt x="1145" y="1977"/>
                </a:lnTo>
                <a:lnTo>
                  <a:pt x="1152" y="1977"/>
                </a:lnTo>
                <a:lnTo>
                  <a:pt x="1159" y="1970"/>
                </a:lnTo>
                <a:lnTo>
                  <a:pt x="1166" y="1963"/>
                </a:lnTo>
                <a:lnTo>
                  <a:pt x="1173" y="1956"/>
                </a:lnTo>
                <a:lnTo>
                  <a:pt x="1173" y="1949"/>
                </a:lnTo>
                <a:lnTo>
                  <a:pt x="1180" y="1942"/>
                </a:lnTo>
                <a:lnTo>
                  <a:pt x="1186" y="1935"/>
                </a:lnTo>
                <a:lnTo>
                  <a:pt x="1193" y="1935"/>
                </a:lnTo>
                <a:lnTo>
                  <a:pt x="1200" y="1928"/>
                </a:lnTo>
                <a:lnTo>
                  <a:pt x="1207" y="1922"/>
                </a:lnTo>
                <a:lnTo>
                  <a:pt x="1214" y="1915"/>
                </a:lnTo>
                <a:lnTo>
                  <a:pt x="1214" y="1908"/>
                </a:lnTo>
                <a:lnTo>
                  <a:pt x="1221" y="1901"/>
                </a:lnTo>
                <a:lnTo>
                  <a:pt x="1228" y="1894"/>
                </a:lnTo>
                <a:lnTo>
                  <a:pt x="1235" y="1894"/>
                </a:lnTo>
                <a:lnTo>
                  <a:pt x="1242" y="1887"/>
                </a:lnTo>
                <a:lnTo>
                  <a:pt x="1248" y="1880"/>
                </a:lnTo>
                <a:lnTo>
                  <a:pt x="1255" y="1873"/>
                </a:lnTo>
                <a:lnTo>
                  <a:pt x="1262" y="1866"/>
                </a:lnTo>
                <a:lnTo>
                  <a:pt x="1262" y="1860"/>
                </a:lnTo>
                <a:lnTo>
                  <a:pt x="1269" y="1860"/>
                </a:lnTo>
                <a:lnTo>
                  <a:pt x="1276" y="1853"/>
                </a:lnTo>
                <a:lnTo>
                  <a:pt x="1283" y="1846"/>
                </a:lnTo>
                <a:lnTo>
                  <a:pt x="1290" y="1839"/>
                </a:lnTo>
                <a:lnTo>
                  <a:pt x="1297" y="1832"/>
                </a:lnTo>
                <a:lnTo>
                  <a:pt x="1304" y="1825"/>
                </a:lnTo>
                <a:lnTo>
                  <a:pt x="1311" y="1818"/>
                </a:lnTo>
                <a:lnTo>
                  <a:pt x="1311" y="1818"/>
                </a:lnTo>
                <a:lnTo>
                  <a:pt x="1317" y="1811"/>
                </a:lnTo>
                <a:lnTo>
                  <a:pt x="1324" y="1804"/>
                </a:lnTo>
                <a:lnTo>
                  <a:pt x="1331" y="1798"/>
                </a:lnTo>
                <a:lnTo>
                  <a:pt x="1338" y="1791"/>
                </a:lnTo>
                <a:lnTo>
                  <a:pt x="1345" y="1784"/>
                </a:lnTo>
                <a:lnTo>
                  <a:pt x="1352" y="1784"/>
                </a:lnTo>
                <a:lnTo>
                  <a:pt x="1359" y="1777"/>
                </a:lnTo>
                <a:lnTo>
                  <a:pt x="1359" y="1770"/>
                </a:lnTo>
                <a:lnTo>
                  <a:pt x="1366" y="1756"/>
                </a:lnTo>
                <a:lnTo>
                  <a:pt x="1366" y="1749"/>
                </a:lnTo>
                <a:lnTo>
                  <a:pt x="1366" y="1736"/>
                </a:lnTo>
                <a:lnTo>
                  <a:pt x="1366" y="1729"/>
                </a:lnTo>
                <a:lnTo>
                  <a:pt x="1359" y="1722"/>
                </a:lnTo>
                <a:lnTo>
                  <a:pt x="1352" y="1722"/>
                </a:lnTo>
                <a:lnTo>
                  <a:pt x="1345" y="1715"/>
                </a:lnTo>
                <a:lnTo>
                  <a:pt x="1338" y="1708"/>
                </a:lnTo>
                <a:lnTo>
                  <a:pt x="1331" y="1701"/>
                </a:lnTo>
                <a:lnTo>
                  <a:pt x="1331" y="1687"/>
                </a:lnTo>
                <a:lnTo>
                  <a:pt x="1331" y="1674"/>
                </a:lnTo>
                <a:lnTo>
                  <a:pt x="1324" y="1674"/>
                </a:lnTo>
                <a:lnTo>
                  <a:pt x="1317" y="1674"/>
                </a:lnTo>
                <a:lnTo>
                  <a:pt x="1311" y="1674"/>
                </a:lnTo>
                <a:lnTo>
                  <a:pt x="1304" y="1674"/>
                </a:lnTo>
                <a:lnTo>
                  <a:pt x="1297" y="1674"/>
                </a:lnTo>
                <a:lnTo>
                  <a:pt x="1290" y="1674"/>
                </a:lnTo>
                <a:lnTo>
                  <a:pt x="1283" y="1674"/>
                </a:lnTo>
                <a:lnTo>
                  <a:pt x="1276" y="1674"/>
                </a:lnTo>
                <a:lnTo>
                  <a:pt x="1269" y="1674"/>
                </a:lnTo>
                <a:lnTo>
                  <a:pt x="1262" y="1674"/>
                </a:lnTo>
                <a:lnTo>
                  <a:pt x="1255" y="1674"/>
                </a:lnTo>
                <a:lnTo>
                  <a:pt x="1248" y="1674"/>
                </a:lnTo>
                <a:lnTo>
                  <a:pt x="1242" y="1674"/>
                </a:lnTo>
                <a:lnTo>
                  <a:pt x="1235" y="1674"/>
                </a:lnTo>
                <a:lnTo>
                  <a:pt x="1228" y="1680"/>
                </a:lnTo>
                <a:lnTo>
                  <a:pt x="1221" y="1680"/>
                </a:lnTo>
                <a:lnTo>
                  <a:pt x="1207" y="1680"/>
                </a:lnTo>
                <a:lnTo>
                  <a:pt x="1200" y="1680"/>
                </a:lnTo>
                <a:lnTo>
                  <a:pt x="1193" y="1680"/>
                </a:lnTo>
                <a:lnTo>
                  <a:pt x="1186" y="1680"/>
                </a:lnTo>
                <a:lnTo>
                  <a:pt x="1180" y="1680"/>
                </a:lnTo>
                <a:lnTo>
                  <a:pt x="1173" y="1680"/>
                </a:lnTo>
                <a:lnTo>
                  <a:pt x="1166" y="1680"/>
                </a:lnTo>
                <a:lnTo>
                  <a:pt x="1159" y="1680"/>
                </a:lnTo>
                <a:lnTo>
                  <a:pt x="1152" y="1680"/>
                </a:lnTo>
                <a:lnTo>
                  <a:pt x="1145" y="1687"/>
                </a:lnTo>
                <a:lnTo>
                  <a:pt x="1138" y="1687"/>
                </a:lnTo>
                <a:lnTo>
                  <a:pt x="1131" y="1687"/>
                </a:lnTo>
                <a:lnTo>
                  <a:pt x="1124" y="1687"/>
                </a:lnTo>
                <a:lnTo>
                  <a:pt x="1117" y="1687"/>
                </a:lnTo>
                <a:lnTo>
                  <a:pt x="1111" y="1687"/>
                </a:lnTo>
                <a:lnTo>
                  <a:pt x="1104" y="1687"/>
                </a:lnTo>
                <a:lnTo>
                  <a:pt x="1097" y="1694"/>
                </a:lnTo>
                <a:lnTo>
                  <a:pt x="1090" y="1694"/>
                </a:lnTo>
                <a:lnTo>
                  <a:pt x="1083" y="1694"/>
                </a:lnTo>
                <a:lnTo>
                  <a:pt x="1076" y="1701"/>
                </a:lnTo>
                <a:lnTo>
                  <a:pt x="1069" y="1701"/>
                </a:lnTo>
                <a:lnTo>
                  <a:pt x="1062" y="1701"/>
                </a:lnTo>
                <a:lnTo>
                  <a:pt x="1055" y="1708"/>
                </a:lnTo>
                <a:lnTo>
                  <a:pt x="1049" y="1708"/>
                </a:lnTo>
                <a:lnTo>
                  <a:pt x="1042" y="1715"/>
                </a:lnTo>
                <a:lnTo>
                  <a:pt x="1035" y="1715"/>
                </a:lnTo>
                <a:lnTo>
                  <a:pt x="1028" y="1715"/>
                </a:lnTo>
                <a:lnTo>
                  <a:pt x="1021" y="1722"/>
                </a:lnTo>
                <a:lnTo>
                  <a:pt x="1014" y="1722"/>
                </a:lnTo>
                <a:lnTo>
                  <a:pt x="1007" y="1722"/>
                </a:lnTo>
                <a:lnTo>
                  <a:pt x="1000" y="1729"/>
                </a:lnTo>
                <a:lnTo>
                  <a:pt x="993" y="1729"/>
                </a:lnTo>
                <a:lnTo>
                  <a:pt x="986" y="1736"/>
                </a:lnTo>
                <a:lnTo>
                  <a:pt x="980" y="1736"/>
                </a:lnTo>
                <a:lnTo>
                  <a:pt x="973" y="1736"/>
                </a:lnTo>
                <a:lnTo>
                  <a:pt x="966" y="1742"/>
                </a:lnTo>
                <a:lnTo>
                  <a:pt x="959" y="1742"/>
                </a:lnTo>
                <a:lnTo>
                  <a:pt x="952" y="1742"/>
                </a:lnTo>
                <a:lnTo>
                  <a:pt x="945" y="1736"/>
                </a:lnTo>
                <a:lnTo>
                  <a:pt x="945" y="1729"/>
                </a:lnTo>
                <a:lnTo>
                  <a:pt x="945" y="1722"/>
                </a:lnTo>
                <a:lnTo>
                  <a:pt x="952" y="1708"/>
                </a:lnTo>
                <a:lnTo>
                  <a:pt x="952" y="1701"/>
                </a:lnTo>
                <a:lnTo>
                  <a:pt x="959" y="1687"/>
                </a:lnTo>
                <a:lnTo>
                  <a:pt x="959" y="1680"/>
                </a:lnTo>
                <a:lnTo>
                  <a:pt x="966" y="1674"/>
                </a:lnTo>
                <a:lnTo>
                  <a:pt x="973" y="1660"/>
                </a:lnTo>
                <a:lnTo>
                  <a:pt x="973" y="1653"/>
                </a:lnTo>
                <a:lnTo>
                  <a:pt x="980" y="1646"/>
                </a:lnTo>
                <a:lnTo>
                  <a:pt x="980" y="1632"/>
                </a:lnTo>
                <a:lnTo>
                  <a:pt x="986" y="1625"/>
                </a:lnTo>
                <a:lnTo>
                  <a:pt x="986" y="1618"/>
                </a:lnTo>
                <a:lnTo>
                  <a:pt x="993" y="1605"/>
                </a:lnTo>
                <a:lnTo>
                  <a:pt x="1000" y="1598"/>
                </a:lnTo>
                <a:lnTo>
                  <a:pt x="1000" y="1591"/>
                </a:lnTo>
                <a:lnTo>
                  <a:pt x="1007" y="1577"/>
                </a:lnTo>
                <a:lnTo>
                  <a:pt x="1007" y="1570"/>
                </a:lnTo>
                <a:lnTo>
                  <a:pt x="1014" y="1556"/>
                </a:lnTo>
                <a:lnTo>
                  <a:pt x="1014" y="1550"/>
                </a:lnTo>
                <a:lnTo>
                  <a:pt x="1021" y="1543"/>
                </a:lnTo>
                <a:lnTo>
                  <a:pt x="1028" y="1536"/>
                </a:lnTo>
                <a:lnTo>
                  <a:pt x="1028" y="1529"/>
                </a:lnTo>
                <a:lnTo>
                  <a:pt x="1035" y="1515"/>
                </a:lnTo>
                <a:lnTo>
                  <a:pt x="1042" y="1508"/>
                </a:lnTo>
                <a:lnTo>
                  <a:pt x="1042" y="1501"/>
                </a:lnTo>
                <a:lnTo>
                  <a:pt x="1049" y="1488"/>
                </a:lnTo>
                <a:lnTo>
                  <a:pt x="1049" y="1481"/>
                </a:lnTo>
                <a:lnTo>
                  <a:pt x="1049" y="1467"/>
                </a:lnTo>
                <a:lnTo>
                  <a:pt x="1049" y="1453"/>
                </a:lnTo>
                <a:lnTo>
                  <a:pt x="1049" y="1446"/>
                </a:lnTo>
                <a:lnTo>
                  <a:pt x="1049" y="1432"/>
                </a:lnTo>
                <a:lnTo>
                  <a:pt x="1049" y="1426"/>
                </a:lnTo>
                <a:lnTo>
                  <a:pt x="1049" y="1412"/>
                </a:lnTo>
                <a:lnTo>
                  <a:pt x="1049" y="1398"/>
                </a:lnTo>
                <a:lnTo>
                  <a:pt x="1049" y="1391"/>
                </a:lnTo>
                <a:lnTo>
                  <a:pt x="1055" y="1377"/>
                </a:lnTo>
                <a:lnTo>
                  <a:pt x="1055" y="1364"/>
                </a:lnTo>
                <a:lnTo>
                  <a:pt x="1055" y="1357"/>
                </a:lnTo>
                <a:lnTo>
                  <a:pt x="1055" y="1343"/>
                </a:lnTo>
                <a:lnTo>
                  <a:pt x="1055" y="1336"/>
                </a:lnTo>
                <a:lnTo>
                  <a:pt x="1055" y="1322"/>
                </a:lnTo>
                <a:lnTo>
                  <a:pt x="1055" y="1308"/>
                </a:lnTo>
                <a:lnTo>
                  <a:pt x="1055" y="1302"/>
                </a:lnTo>
                <a:lnTo>
                  <a:pt x="1055" y="1288"/>
                </a:lnTo>
                <a:lnTo>
                  <a:pt x="1062" y="1281"/>
                </a:lnTo>
                <a:lnTo>
                  <a:pt x="1069" y="1281"/>
                </a:lnTo>
                <a:lnTo>
                  <a:pt x="1076" y="1281"/>
                </a:lnTo>
                <a:lnTo>
                  <a:pt x="1083" y="1281"/>
                </a:lnTo>
                <a:lnTo>
                  <a:pt x="1090" y="1288"/>
                </a:lnTo>
                <a:lnTo>
                  <a:pt x="1097" y="1288"/>
                </a:lnTo>
                <a:lnTo>
                  <a:pt x="1104" y="1295"/>
                </a:lnTo>
                <a:lnTo>
                  <a:pt x="1111" y="1295"/>
                </a:lnTo>
                <a:lnTo>
                  <a:pt x="1117" y="1302"/>
                </a:lnTo>
                <a:lnTo>
                  <a:pt x="1124" y="1302"/>
                </a:lnTo>
                <a:lnTo>
                  <a:pt x="1131" y="1308"/>
                </a:lnTo>
                <a:lnTo>
                  <a:pt x="1138" y="1308"/>
                </a:lnTo>
                <a:lnTo>
                  <a:pt x="1145" y="1308"/>
                </a:lnTo>
                <a:lnTo>
                  <a:pt x="1152" y="1315"/>
                </a:lnTo>
                <a:lnTo>
                  <a:pt x="1159" y="1315"/>
                </a:lnTo>
                <a:lnTo>
                  <a:pt x="1166" y="1322"/>
                </a:lnTo>
                <a:lnTo>
                  <a:pt x="1173" y="1322"/>
                </a:lnTo>
                <a:lnTo>
                  <a:pt x="1180" y="1329"/>
                </a:lnTo>
                <a:lnTo>
                  <a:pt x="1186" y="1329"/>
                </a:lnTo>
                <a:lnTo>
                  <a:pt x="1193" y="1336"/>
                </a:lnTo>
                <a:lnTo>
                  <a:pt x="1200" y="1336"/>
                </a:lnTo>
                <a:lnTo>
                  <a:pt x="1207" y="1336"/>
                </a:lnTo>
                <a:lnTo>
                  <a:pt x="1214" y="1343"/>
                </a:lnTo>
                <a:lnTo>
                  <a:pt x="1221" y="1343"/>
                </a:lnTo>
                <a:lnTo>
                  <a:pt x="1228" y="1350"/>
                </a:lnTo>
                <a:lnTo>
                  <a:pt x="1235" y="1350"/>
                </a:lnTo>
                <a:lnTo>
                  <a:pt x="1242" y="1357"/>
                </a:lnTo>
                <a:lnTo>
                  <a:pt x="1248" y="1357"/>
                </a:lnTo>
                <a:lnTo>
                  <a:pt x="1255" y="1364"/>
                </a:lnTo>
                <a:lnTo>
                  <a:pt x="1262" y="1364"/>
                </a:lnTo>
                <a:lnTo>
                  <a:pt x="1269" y="1370"/>
                </a:lnTo>
                <a:lnTo>
                  <a:pt x="1276" y="1370"/>
                </a:lnTo>
                <a:lnTo>
                  <a:pt x="1283" y="1370"/>
                </a:lnTo>
                <a:lnTo>
                  <a:pt x="1290" y="1377"/>
                </a:lnTo>
                <a:lnTo>
                  <a:pt x="1297" y="1377"/>
                </a:lnTo>
                <a:lnTo>
                  <a:pt x="1304" y="1384"/>
                </a:lnTo>
                <a:lnTo>
                  <a:pt x="1311" y="1384"/>
                </a:lnTo>
                <a:lnTo>
                  <a:pt x="1317" y="1391"/>
                </a:lnTo>
                <a:lnTo>
                  <a:pt x="1324" y="1391"/>
                </a:lnTo>
                <a:lnTo>
                  <a:pt x="1331" y="1398"/>
                </a:lnTo>
                <a:lnTo>
                  <a:pt x="1338" y="1398"/>
                </a:lnTo>
                <a:lnTo>
                  <a:pt x="1345" y="1398"/>
                </a:lnTo>
                <a:lnTo>
                  <a:pt x="1352" y="1405"/>
                </a:lnTo>
                <a:lnTo>
                  <a:pt x="1359" y="1405"/>
                </a:lnTo>
                <a:lnTo>
                  <a:pt x="1366" y="1412"/>
                </a:lnTo>
                <a:lnTo>
                  <a:pt x="1373" y="1412"/>
                </a:lnTo>
                <a:lnTo>
                  <a:pt x="1379" y="1419"/>
                </a:lnTo>
                <a:lnTo>
                  <a:pt x="1386" y="1419"/>
                </a:lnTo>
                <a:lnTo>
                  <a:pt x="1393" y="1426"/>
                </a:lnTo>
                <a:lnTo>
                  <a:pt x="1400" y="1426"/>
                </a:lnTo>
                <a:lnTo>
                  <a:pt x="1407" y="1426"/>
                </a:lnTo>
                <a:lnTo>
                  <a:pt x="1414" y="1432"/>
                </a:lnTo>
                <a:lnTo>
                  <a:pt x="1421" y="1432"/>
                </a:lnTo>
                <a:lnTo>
                  <a:pt x="1428" y="1439"/>
                </a:lnTo>
                <a:lnTo>
                  <a:pt x="1435" y="1439"/>
                </a:lnTo>
                <a:lnTo>
                  <a:pt x="1442" y="1446"/>
                </a:lnTo>
                <a:lnTo>
                  <a:pt x="1448" y="1446"/>
                </a:lnTo>
                <a:lnTo>
                  <a:pt x="1455" y="1446"/>
                </a:lnTo>
                <a:lnTo>
                  <a:pt x="1462" y="1453"/>
                </a:lnTo>
                <a:lnTo>
                  <a:pt x="1469" y="1453"/>
                </a:lnTo>
                <a:lnTo>
                  <a:pt x="1476" y="1453"/>
                </a:lnTo>
                <a:lnTo>
                  <a:pt x="1483" y="1460"/>
                </a:lnTo>
                <a:lnTo>
                  <a:pt x="1483" y="1460"/>
                </a:lnTo>
                <a:lnTo>
                  <a:pt x="1490" y="1467"/>
                </a:lnTo>
                <a:lnTo>
                  <a:pt x="1497" y="1474"/>
                </a:lnTo>
                <a:lnTo>
                  <a:pt x="1504" y="1474"/>
                </a:lnTo>
                <a:lnTo>
                  <a:pt x="1517" y="1474"/>
                </a:lnTo>
                <a:lnTo>
                  <a:pt x="1524" y="1474"/>
                </a:lnTo>
                <a:lnTo>
                  <a:pt x="1531" y="1474"/>
                </a:lnTo>
                <a:lnTo>
                  <a:pt x="1538" y="1467"/>
                </a:lnTo>
                <a:lnTo>
                  <a:pt x="1538" y="1460"/>
                </a:lnTo>
                <a:lnTo>
                  <a:pt x="1538" y="1446"/>
                </a:lnTo>
                <a:lnTo>
                  <a:pt x="1538" y="1432"/>
                </a:lnTo>
                <a:lnTo>
                  <a:pt x="1545" y="1426"/>
                </a:lnTo>
                <a:lnTo>
                  <a:pt x="1545" y="1412"/>
                </a:lnTo>
                <a:lnTo>
                  <a:pt x="1552" y="1405"/>
                </a:lnTo>
                <a:lnTo>
                  <a:pt x="1552" y="1398"/>
                </a:lnTo>
                <a:lnTo>
                  <a:pt x="1559" y="1384"/>
                </a:lnTo>
                <a:lnTo>
                  <a:pt x="1566" y="1377"/>
                </a:lnTo>
                <a:lnTo>
                  <a:pt x="1566" y="1370"/>
                </a:lnTo>
                <a:lnTo>
                  <a:pt x="1573" y="1357"/>
                </a:lnTo>
                <a:lnTo>
                  <a:pt x="1573" y="1350"/>
                </a:lnTo>
                <a:lnTo>
                  <a:pt x="1573" y="1336"/>
                </a:lnTo>
                <a:lnTo>
                  <a:pt x="1573" y="1329"/>
                </a:lnTo>
                <a:lnTo>
                  <a:pt x="1579" y="1315"/>
                </a:lnTo>
                <a:lnTo>
                  <a:pt x="1579" y="1302"/>
                </a:lnTo>
                <a:lnTo>
                  <a:pt x="1579" y="1295"/>
                </a:lnTo>
                <a:lnTo>
                  <a:pt x="1586" y="1281"/>
                </a:lnTo>
                <a:lnTo>
                  <a:pt x="1586" y="1274"/>
                </a:lnTo>
                <a:lnTo>
                  <a:pt x="1586" y="1260"/>
                </a:lnTo>
                <a:lnTo>
                  <a:pt x="1593" y="1253"/>
                </a:lnTo>
                <a:lnTo>
                  <a:pt x="1593" y="1240"/>
                </a:lnTo>
                <a:lnTo>
                  <a:pt x="1600" y="1233"/>
                </a:lnTo>
                <a:lnTo>
                  <a:pt x="1600" y="1219"/>
                </a:lnTo>
                <a:lnTo>
                  <a:pt x="1607" y="1212"/>
                </a:lnTo>
                <a:lnTo>
                  <a:pt x="1607" y="1198"/>
                </a:lnTo>
                <a:lnTo>
                  <a:pt x="1607" y="1191"/>
                </a:lnTo>
                <a:lnTo>
                  <a:pt x="1614" y="1178"/>
                </a:lnTo>
                <a:lnTo>
                  <a:pt x="1614" y="1171"/>
                </a:lnTo>
                <a:lnTo>
                  <a:pt x="1614" y="1157"/>
                </a:lnTo>
                <a:lnTo>
                  <a:pt x="1614" y="1150"/>
                </a:lnTo>
                <a:lnTo>
                  <a:pt x="1621" y="1136"/>
                </a:lnTo>
                <a:lnTo>
                  <a:pt x="1621" y="1129"/>
                </a:lnTo>
                <a:lnTo>
                  <a:pt x="1628" y="1116"/>
                </a:lnTo>
                <a:lnTo>
                  <a:pt x="1628" y="1109"/>
                </a:lnTo>
                <a:lnTo>
                  <a:pt x="1635" y="1095"/>
                </a:lnTo>
                <a:lnTo>
                  <a:pt x="1635" y="1088"/>
                </a:lnTo>
                <a:lnTo>
                  <a:pt x="1635" y="1074"/>
                </a:lnTo>
                <a:lnTo>
                  <a:pt x="1641" y="1067"/>
                </a:lnTo>
                <a:lnTo>
                  <a:pt x="1641" y="1054"/>
                </a:lnTo>
                <a:lnTo>
                  <a:pt x="1641" y="1047"/>
                </a:lnTo>
                <a:lnTo>
                  <a:pt x="1648" y="1033"/>
                </a:lnTo>
                <a:lnTo>
                  <a:pt x="1648" y="1026"/>
                </a:lnTo>
                <a:lnTo>
                  <a:pt x="1648" y="1012"/>
                </a:lnTo>
                <a:lnTo>
                  <a:pt x="1655" y="998"/>
                </a:lnTo>
                <a:lnTo>
                  <a:pt x="1655" y="992"/>
                </a:lnTo>
                <a:lnTo>
                  <a:pt x="1655" y="978"/>
                </a:lnTo>
                <a:lnTo>
                  <a:pt x="1662" y="971"/>
                </a:lnTo>
                <a:lnTo>
                  <a:pt x="1662" y="964"/>
                </a:lnTo>
                <a:lnTo>
                  <a:pt x="1669" y="950"/>
                </a:lnTo>
                <a:lnTo>
                  <a:pt x="1669" y="943"/>
                </a:lnTo>
                <a:lnTo>
                  <a:pt x="1676" y="930"/>
                </a:lnTo>
                <a:lnTo>
                  <a:pt x="1676" y="923"/>
                </a:lnTo>
                <a:lnTo>
                  <a:pt x="1676" y="909"/>
                </a:lnTo>
                <a:lnTo>
                  <a:pt x="1676" y="895"/>
                </a:lnTo>
                <a:lnTo>
                  <a:pt x="1683" y="888"/>
                </a:lnTo>
                <a:lnTo>
                  <a:pt x="1683" y="874"/>
                </a:lnTo>
                <a:lnTo>
                  <a:pt x="1683" y="868"/>
                </a:lnTo>
                <a:lnTo>
                  <a:pt x="1690" y="854"/>
                </a:lnTo>
                <a:lnTo>
                  <a:pt x="1690" y="847"/>
                </a:lnTo>
                <a:lnTo>
                  <a:pt x="1690" y="833"/>
                </a:lnTo>
                <a:lnTo>
                  <a:pt x="1697" y="826"/>
                </a:lnTo>
                <a:lnTo>
                  <a:pt x="1697" y="812"/>
                </a:lnTo>
                <a:lnTo>
                  <a:pt x="1704" y="806"/>
                </a:lnTo>
                <a:lnTo>
                  <a:pt x="1704" y="799"/>
                </a:lnTo>
                <a:lnTo>
                  <a:pt x="1710" y="785"/>
                </a:lnTo>
                <a:lnTo>
                  <a:pt x="1710" y="771"/>
                </a:lnTo>
                <a:lnTo>
                  <a:pt x="1710" y="764"/>
                </a:lnTo>
                <a:lnTo>
                  <a:pt x="1717" y="751"/>
                </a:lnTo>
                <a:lnTo>
                  <a:pt x="1717" y="744"/>
                </a:lnTo>
                <a:lnTo>
                  <a:pt x="1717" y="730"/>
                </a:lnTo>
                <a:lnTo>
                  <a:pt x="1717" y="723"/>
                </a:lnTo>
                <a:lnTo>
                  <a:pt x="1724" y="709"/>
                </a:lnTo>
                <a:lnTo>
                  <a:pt x="1724" y="702"/>
                </a:lnTo>
                <a:lnTo>
                  <a:pt x="1731" y="689"/>
                </a:lnTo>
                <a:lnTo>
                  <a:pt x="1731" y="682"/>
                </a:lnTo>
                <a:lnTo>
                  <a:pt x="1738" y="668"/>
                </a:lnTo>
                <a:lnTo>
                  <a:pt x="1738" y="661"/>
                </a:lnTo>
                <a:lnTo>
                  <a:pt x="1745" y="647"/>
                </a:lnTo>
                <a:lnTo>
                  <a:pt x="1745" y="640"/>
                </a:lnTo>
                <a:lnTo>
                  <a:pt x="1745" y="627"/>
                </a:lnTo>
                <a:lnTo>
                  <a:pt x="1745" y="620"/>
                </a:lnTo>
                <a:lnTo>
                  <a:pt x="1752" y="606"/>
                </a:lnTo>
                <a:lnTo>
                  <a:pt x="1752" y="599"/>
                </a:lnTo>
                <a:lnTo>
                  <a:pt x="1752" y="585"/>
                </a:lnTo>
                <a:lnTo>
                  <a:pt x="1759" y="571"/>
                </a:lnTo>
                <a:lnTo>
                  <a:pt x="1759" y="565"/>
                </a:lnTo>
                <a:lnTo>
                  <a:pt x="1759" y="551"/>
                </a:lnTo>
                <a:lnTo>
                  <a:pt x="1766" y="544"/>
                </a:lnTo>
                <a:lnTo>
                  <a:pt x="1766" y="537"/>
                </a:lnTo>
                <a:lnTo>
                  <a:pt x="1772" y="523"/>
                </a:lnTo>
                <a:lnTo>
                  <a:pt x="1772" y="516"/>
                </a:lnTo>
                <a:lnTo>
                  <a:pt x="1779" y="503"/>
                </a:lnTo>
                <a:lnTo>
                  <a:pt x="1779" y="496"/>
                </a:lnTo>
                <a:lnTo>
                  <a:pt x="1779" y="482"/>
                </a:lnTo>
                <a:lnTo>
                  <a:pt x="1779" y="475"/>
                </a:lnTo>
                <a:lnTo>
                  <a:pt x="1786" y="461"/>
                </a:lnTo>
                <a:lnTo>
                  <a:pt x="1786" y="447"/>
                </a:lnTo>
                <a:lnTo>
                  <a:pt x="1786" y="441"/>
                </a:lnTo>
                <a:lnTo>
                  <a:pt x="1793" y="427"/>
                </a:lnTo>
                <a:lnTo>
                  <a:pt x="1793" y="420"/>
                </a:lnTo>
                <a:lnTo>
                  <a:pt x="1800" y="406"/>
                </a:lnTo>
                <a:lnTo>
                  <a:pt x="1800" y="399"/>
                </a:lnTo>
                <a:lnTo>
                  <a:pt x="1807" y="392"/>
                </a:lnTo>
                <a:lnTo>
                  <a:pt x="1807" y="379"/>
                </a:lnTo>
                <a:lnTo>
                  <a:pt x="1807" y="372"/>
                </a:lnTo>
                <a:lnTo>
                  <a:pt x="1814" y="358"/>
                </a:lnTo>
                <a:lnTo>
                  <a:pt x="1814" y="351"/>
                </a:lnTo>
                <a:lnTo>
                  <a:pt x="1814" y="337"/>
                </a:lnTo>
                <a:lnTo>
                  <a:pt x="1821" y="323"/>
                </a:lnTo>
                <a:lnTo>
                  <a:pt x="1821" y="317"/>
                </a:lnTo>
                <a:lnTo>
                  <a:pt x="1821" y="303"/>
                </a:lnTo>
                <a:lnTo>
                  <a:pt x="1821" y="296"/>
                </a:lnTo>
                <a:lnTo>
                  <a:pt x="1828" y="282"/>
                </a:lnTo>
                <a:lnTo>
                  <a:pt x="1828" y="275"/>
                </a:lnTo>
                <a:lnTo>
                  <a:pt x="1835" y="261"/>
                </a:lnTo>
                <a:lnTo>
                  <a:pt x="1835" y="255"/>
                </a:lnTo>
                <a:lnTo>
                  <a:pt x="1841" y="241"/>
                </a:lnTo>
                <a:lnTo>
                  <a:pt x="1841" y="234"/>
                </a:lnTo>
                <a:lnTo>
                  <a:pt x="1848" y="227"/>
                </a:lnTo>
                <a:lnTo>
                  <a:pt x="1855" y="220"/>
                </a:lnTo>
                <a:lnTo>
                  <a:pt x="1862" y="220"/>
                </a:lnTo>
                <a:lnTo>
                  <a:pt x="1869" y="220"/>
                </a:lnTo>
                <a:lnTo>
                  <a:pt x="1876" y="227"/>
                </a:lnTo>
                <a:lnTo>
                  <a:pt x="1883" y="241"/>
                </a:lnTo>
                <a:lnTo>
                  <a:pt x="1883" y="248"/>
                </a:lnTo>
                <a:lnTo>
                  <a:pt x="1883" y="261"/>
                </a:lnTo>
                <a:lnTo>
                  <a:pt x="1890" y="268"/>
                </a:lnTo>
                <a:lnTo>
                  <a:pt x="1890" y="282"/>
                </a:lnTo>
                <a:lnTo>
                  <a:pt x="1897" y="289"/>
                </a:lnTo>
                <a:lnTo>
                  <a:pt x="1897" y="303"/>
                </a:lnTo>
                <a:lnTo>
                  <a:pt x="1903" y="310"/>
                </a:lnTo>
                <a:lnTo>
                  <a:pt x="1903" y="323"/>
                </a:lnTo>
                <a:lnTo>
                  <a:pt x="1903" y="330"/>
                </a:lnTo>
                <a:lnTo>
                  <a:pt x="1910" y="337"/>
                </a:lnTo>
                <a:lnTo>
                  <a:pt x="1910" y="351"/>
                </a:lnTo>
                <a:lnTo>
                  <a:pt x="1917" y="358"/>
                </a:lnTo>
                <a:lnTo>
                  <a:pt x="1917" y="372"/>
                </a:lnTo>
                <a:lnTo>
                  <a:pt x="1924" y="379"/>
                </a:lnTo>
                <a:lnTo>
                  <a:pt x="1924" y="392"/>
                </a:lnTo>
                <a:lnTo>
                  <a:pt x="1931" y="399"/>
                </a:lnTo>
                <a:lnTo>
                  <a:pt x="1931" y="413"/>
                </a:lnTo>
                <a:lnTo>
                  <a:pt x="1931" y="420"/>
                </a:lnTo>
                <a:lnTo>
                  <a:pt x="1938" y="434"/>
                </a:lnTo>
                <a:lnTo>
                  <a:pt x="1938" y="441"/>
                </a:lnTo>
                <a:lnTo>
                  <a:pt x="1945" y="454"/>
                </a:lnTo>
                <a:lnTo>
                  <a:pt x="1945" y="461"/>
                </a:lnTo>
                <a:lnTo>
                  <a:pt x="1952" y="475"/>
                </a:lnTo>
                <a:lnTo>
                  <a:pt x="1952" y="482"/>
                </a:lnTo>
                <a:lnTo>
                  <a:pt x="1952" y="496"/>
                </a:lnTo>
                <a:lnTo>
                  <a:pt x="1959" y="503"/>
                </a:lnTo>
                <a:lnTo>
                  <a:pt x="1959" y="509"/>
                </a:lnTo>
                <a:lnTo>
                  <a:pt x="1966" y="523"/>
                </a:lnTo>
                <a:lnTo>
                  <a:pt x="1966" y="530"/>
                </a:lnTo>
                <a:lnTo>
                  <a:pt x="1972" y="544"/>
                </a:lnTo>
                <a:lnTo>
                  <a:pt x="1972" y="551"/>
                </a:lnTo>
                <a:lnTo>
                  <a:pt x="1979" y="544"/>
                </a:lnTo>
                <a:lnTo>
                  <a:pt x="1979" y="509"/>
                </a:lnTo>
                <a:lnTo>
                  <a:pt x="1979" y="475"/>
                </a:lnTo>
                <a:lnTo>
                  <a:pt x="1979" y="441"/>
                </a:lnTo>
                <a:lnTo>
                  <a:pt x="1979" y="406"/>
                </a:lnTo>
                <a:lnTo>
                  <a:pt x="1979" y="372"/>
                </a:lnTo>
                <a:lnTo>
                  <a:pt x="2014" y="344"/>
                </a:lnTo>
                <a:lnTo>
                  <a:pt x="2014" y="310"/>
                </a:lnTo>
                <a:lnTo>
                  <a:pt x="2014" y="275"/>
                </a:lnTo>
                <a:lnTo>
                  <a:pt x="2014" y="241"/>
                </a:lnTo>
                <a:lnTo>
                  <a:pt x="2014" y="206"/>
                </a:lnTo>
                <a:lnTo>
                  <a:pt x="2014" y="172"/>
                </a:lnTo>
                <a:lnTo>
                  <a:pt x="2048" y="137"/>
                </a:lnTo>
                <a:lnTo>
                  <a:pt x="2048" y="103"/>
                </a:lnTo>
                <a:lnTo>
                  <a:pt x="2048" y="69"/>
                </a:lnTo>
                <a:lnTo>
                  <a:pt x="2048" y="34"/>
                </a:lnTo>
                <a:lnTo>
                  <a:pt x="2048" y="0"/>
                </a:lnTo>
                <a:lnTo>
                  <a:pt x="2014" y="0"/>
                </a:lnTo>
                <a:lnTo>
                  <a:pt x="1979" y="0"/>
                </a:lnTo>
                <a:lnTo>
                  <a:pt x="1945" y="0"/>
                </a:lnTo>
                <a:lnTo>
                  <a:pt x="1910" y="34"/>
                </a:lnTo>
                <a:lnTo>
                  <a:pt x="1876" y="34"/>
                </a:lnTo>
                <a:lnTo>
                  <a:pt x="1876" y="69"/>
                </a:lnTo>
                <a:lnTo>
                  <a:pt x="1883" y="75"/>
                </a:lnTo>
                <a:lnTo>
                  <a:pt x="1883" y="82"/>
                </a:lnTo>
                <a:lnTo>
                  <a:pt x="1883" y="96"/>
                </a:lnTo>
                <a:lnTo>
                  <a:pt x="1883" y="103"/>
                </a:lnTo>
                <a:lnTo>
                  <a:pt x="1876" y="117"/>
                </a:lnTo>
                <a:lnTo>
                  <a:pt x="1876" y="124"/>
                </a:lnTo>
                <a:lnTo>
                  <a:pt x="1869" y="131"/>
                </a:lnTo>
                <a:lnTo>
                  <a:pt x="1869" y="144"/>
                </a:lnTo>
                <a:lnTo>
                  <a:pt x="1862" y="151"/>
                </a:lnTo>
                <a:lnTo>
                  <a:pt x="1855" y="158"/>
                </a:lnTo>
                <a:lnTo>
                  <a:pt x="1855" y="165"/>
                </a:lnTo>
                <a:lnTo>
                  <a:pt x="1848" y="172"/>
                </a:lnTo>
                <a:lnTo>
                  <a:pt x="1841" y="172"/>
                </a:lnTo>
                <a:lnTo>
                  <a:pt x="1835" y="165"/>
                </a:lnTo>
                <a:lnTo>
                  <a:pt x="1828" y="158"/>
                </a:lnTo>
                <a:lnTo>
                  <a:pt x="1821" y="151"/>
                </a:lnTo>
                <a:lnTo>
                  <a:pt x="1814" y="144"/>
                </a:lnTo>
                <a:lnTo>
                  <a:pt x="1807" y="137"/>
                </a:lnTo>
                <a:lnTo>
                  <a:pt x="1807" y="124"/>
                </a:lnTo>
                <a:lnTo>
                  <a:pt x="1800" y="117"/>
                </a:lnTo>
                <a:lnTo>
                  <a:pt x="1793" y="110"/>
                </a:lnTo>
                <a:lnTo>
                  <a:pt x="1786" y="103"/>
                </a:lnTo>
                <a:lnTo>
                  <a:pt x="1786" y="103"/>
                </a:lnTo>
                <a:lnTo>
                  <a:pt x="1793" y="96"/>
                </a:lnTo>
                <a:lnTo>
                  <a:pt x="1800" y="96"/>
                </a:lnTo>
                <a:lnTo>
                  <a:pt x="1814" y="96"/>
                </a:lnTo>
                <a:lnTo>
                  <a:pt x="1821" y="89"/>
                </a:lnTo>
                <a:lnTo>
                  <a:pt x="1828" y="89"/>
                </a:lnTo>
                <a:lnTo>
                  <a:pt x="1835" y="82"/>
                </a:lnTo>
                <a:lnTo>
                  <a:pt x="1841" y="82"/>
                </a:lnTo>
                <a:lnTo>
                  <a:pt x="1848" y="82"/>
                </a:lnTo>
                <a:lnTo>
                  <a:pt x="1848" y="75"/>
                </a:lnTo>
                <a:lnTo>
                  <a:pt x="1855" y="75"/>
                </a:lnTo>
                <a:lnTo>
                  <a:pt x="1862" y="69"/>
                </a:lnTo>
                <a:lnTo>
                  <a:pt x="1869" y="69"/>
                </a:lnTo>
                <a:lnTo>
                  <a:pt x="1841" y="69"/>
                </a:lnTo>
                <a:lnTo>
                  <a:pt x="1807" y="69"/>
                </a:lnTo>
                <a:lnTo>
                  <a:pt x="1779" y="69"/>
                </a:lnTo>
                <a:lnTo>
                  <a:pt x="1745" y="103"/>
                </a:lnTo>
                <a:lnTo>
                  <a:pt x="1710" y="103"/>
                </a:lnTo>
                <a:lnTo>
                  <a:pt x="1676" y="137"/>
                </a:lnTo>
                <a:lnTo>
                  <a:pt x="1641" y="137"/>
                </a:lnTo>
                <a:lnTo>
                  <a:pt x="1607" y="172"/>
                </a:lnTo>
                <a:lnTo>
                  <a:pt x="1573" y="172"/>
                </a:lnTo>
                <a:lnTo>
                  <a:pt x="1538" y="206"/>
                </a:lnTo>
                <a:lnTo>
                  <a:pt x="1504" y="206"/>
                </a:lnTo>
                <a:lnTo>
                  <a:pt x="1469" y="206"/>
                </a:lnTo>
                <a:lnTo>
                  <a:pt x="1435" y="241"/>
                </a:lnTo>
                <a:lnTo>
                  <a:pt x="1400" y="241"/>
                </a:lnTo>
                <a:lnTo>
                  <a:pt x="1366" y="275"/>
                </a:lnTo>
                <a:lnTo>
                  <a:pt x="1331" y="275"/>
                </a:lnTo>
                <a:lnTo>
                  <a:pt x="1297" y="310"/>
                </a:lnTo>
                <a:lnTo>
                  <a:pt x="1262" y="310"/>
                </a:lnTo>
                <a:lnTo>
                  <a:pt x="1228" y="344"/>
                </a:lnTo>
                <a:lnTo>
                  <a:pt x="1193" y="344"/>
                </a:lnTo>
                <a:lnTo>
                  <a:pt x="1159" y="344"/>
                </a:lnTo>
                <a:lnTo>
                  <a:pt x="1124" y="372"/>
                </a:lnTo>
                <a:lnTo>
                  <a:pt x="1090" y="372"/>
                </a:lnTo>
                <a:lnTo>
                  <a:pt x="1062" y="406"/>
                </a:lnTo>
                <a:lnTo>
                  <a:pt x="1028" y="406"/>
                </a:lnTo>
                <a:lnTo>
                  <a:pt x="993" y="441"/>
                </a:lnTo>
                <a:lnTo>
                  <a:pt x="959" y="441"/>
                </a:lnTo>
                <a:lnTo>
                  <a:pt x="924" y="475"/>
                </a:lnTo>
                <a:lnTo>
                  <a:pt x="890" y="475"/>
                </a:lnTo>
                <a:lnTo>
                  <a:pt x="855" y="475"/>
                </a:lnTo>
                <a:lnTo>
                  <a:pt x="821" y="509"/>
                </a:lnTo>
                <a:lnTo>
                  <a:pt x="787" y="544"/>
                </a:lnTo>
                <a:lnTo>
                  <a:pt x="752" y="578"/>
                </a:lnTo>
                <a:lnTo>
                  <a:pt x="752" y="613"/>
                </a:lnTo>
                <a:lnTo>
                  <a:pt x="718" y="647"/>
                </a:lnTo>
                <a:lnTo>
                  <a:pt x="683" y="682"/>
                </a:lnTo>
                <a:lnTo>
                  <a:pt x="649" y="716"/>
                </a:lnTo>
                <a:lnTo>
                  <a:pt x="649" y="751"/>
                </a:lnTo>
                <a:lnTo>
                  <a:pt x="614" y="785"/>
                </a:lnTo>
                <a:lnTo>
                  <a:pt x="580" y="819"/>
                </a:lnTo>
                <a:lnTo>
                  <a:pt x="545" y="854"/>
                </a:lnTo>
                <a:lnTo>
                  <a:pt x="545" y="888"/>
                </a:lnTo>
                <a:lnTo>
                  <a:pt x="511" y="916"/>
                </a:lnTo>
                <a:lnTo>
                  <a:pt x="476" y="950"/>
                </a:lnTo>
                <a:lnTo>
                  <a:pt x="476" y="985"/>
                </a:lnTo>
                <a:lnTo>
                  <a:pt x="442" y="1019"/>
                </a:lnTo>
                <a:lnTo>
                  <a:pt x="442" y="1054"/>
                </a:lnTo>
                <a:lnTo>
                  <a:pt x="442" y="1088"/>
                </a:lnTo>
                <a:lnTo>
                  <a:pt x="407" y="1122"/>
                </a:lnTo>
                <a:lnTo>
                  <a:pt x="407" y="1157"/>
                </a:lnTo>
                <a:lnTo>
                  <a:pt x="373" y="1191"/>
                </a:lnTo>
                <a:lnTo>
                  <a:pt x="373" y="1226"/>
                </a:lnTo>
                <a:lnTo>
                  <a:pt x="338" y="1260"/>
                </a:lnTo>
                <a:lnTo>
                  <a:pt x="338" y="1295"/>
                </a:lnTo>
                <a:lnTo>
                  <a:pt x="311" y="1329"/>
                </a:lnTo>
                <a:lnTo>
                  <a:pt x="311" y="1364"/>
                </a:lnTo>
                <a:lnTo>
                  <a:pt x="276" y="1398"/>
                </a:lnTo>
                <a:lnTo>
                  <a:pt x="276" y="1426"/>
                </a:lnTo>
                <a:lnTo>
                  <a:pt x="276" y="1460"/>
                </a:lnTo>
                <a:lnTo>
                  <a:pt x="242" y="1494"/>
                </a:lnTo>
                <a:lnTo>
                  <a:pt x="242" y="1529"/>
                </a:lnTo>
                <a:lnTo>
                  <a:pt x="207" y="1563"/>
                </a:lnTo>
                <a:lnTo>
                  <a:pt x="207" y="1598"/>
                </a:lnTo>
                <a:lnTo>
                  <a:pt x="173" y="1632"/>
                </a:lnTo>
                <a:lnTo>
                  <a:pt x="173" y="1667"/>
                </a:lnTo>
                <a:lnTo>
                  <a:pt x="138" y="1701"/>
                </a:lnTo>
                <a:lnTo>
                  <a:pt x="138" y="1736"/>
                </a:lnTo>
                <a:lnTo>
                  <a:pt x="138" y="1770"/>
                </a:lnTo>
                <a:lnTo>
                  <a:pt x="104" y="1804"/>
                </a:lnTo>
                <a:lnTo>
                  <a:pt x="104" y="1804"/>
                </a:lnTo>
                <a:lnTo>
                  <a:pt x="111" y="1811"/>
                </a:lnTo>
                <a:lnTo>
                  <a:pt x="118" y="1818"/>
                </a:lnTo>
                <a:lnTo>
                  <a:pt x="125" y="1825"/>
                </a:lnTo>
                <a:lnTo>
                  <a:pt x="131" y="1825"/>
                </a:lnTo>
                <a:lnTo>
                  <a:pt x="138" y="1825"/>
                </a:lnTo>
                <a:lnTo>
                  <a:pt x="145" y="1825"/>
                </a:lnTo>
                <a:lnTo>
                  <a:pt x="152" y="1825"/>
                </a:lnTo>
                <a:lnTo>
                  <a:pt x="159" y="1825"/>
                </a:lnTo>
                <a:lnTo>
                  <a:pt x="173" y="1825"/>
                </a:lnTo>
                <a:lnTo>
                  <a:pt x="180" y="1832"/>
                </a:lnTo>
                <a:lnTo>
                  <a:pt x="187" y="1839"/>
                </a:lnTo>
                <a:lnTo>
                  <a:pt x="194" y="1839"/>
                </a:lnTo>
                <a:lnTo>
                  <a:pt x="200" y="1846"/>
                </a:lnTo>
                <a:lnTo>
                  <a:pt x="207" y="1853"/>
                </a:lnTo>
                <a:lnTo>
                  <a:pt x="214" y="1853"/>
                </a:lnTo>
                <a:lnTo>
                  <a:pt x="221" y="1860"/>
                </a:lnTo>
                <a:lnTo>
                  <a:pt x="228" y="1866"/>
                </a:lnTo>
                <a:lnTo>
                  <a:pt x="235" y="1866"/>
                </a:lnTo>
                <a:lnTo>
                  <a:pt x="242" y="1873"/>
                </a:lnTo>
                <a:lnTo>
                  <a:pt x="249" y="1880"/>
                </a:lnTo>
                <a:lnTo>
                  <a:pt x="256" y="1880"/>
                </a:lnTo>
                <a:lnTo>
                  <a:pt x="262" y="1887"/>
                </a:lnTo>
                <a:lnTo>
                  <a:pt x="269" y="1894"/>
                </a:lnTo>
                <a:lnTo>
                  <a:pt x="276" y="1894"/>
                </a:lnTo>
                <a:lnTo>
                  <a:pt x="283" y="1901"/>
                </a:lnTo>
                <a:lnTo>
                  <a:pt x="290" y="1901"/>
                </a:lnTo>
                <a:lnTo>
                  <a:pt x="297" y="1908"/>
                </a:lnTo>
                <a:lnTo>
                  <a:pt x="304" y="1915"/>
                </a:lnTo>
                <a:lnTo>
                  <a:pt x="311" y="1915"/>
                </a:lnTo>
                <a:lnTo>
                  <a:pt x="318" y="1922"/>
                </a:lnTo>
                <a:lnTo>
                  <a:pt x="331" y="1922"/>
                </a:lnTo>
                <a:lnTo>
                  <a:pt x="338" y="1922"/>
                </a:lnTo>
                <a:lnTo>
                  <a:pt x="345" y="1922"/>
                </a:lnTo>
                <a:lnTo>
                  <a:pt x="352" y="1928"/>
                </a:lnTo>
                <a:lnTo>
                  <a:pt x="359" y="1928"/>
                </a:lnTo>
                <a:lnTo>
                  <a:pt x="366" y="1935"/>
                </a:lnTo>
                <a:lnTo>
                  <a:pt x="373" y="1935"/>
                </a:lnTo>
                <a:lnTo>
                  <a:pt x="380" y="1942"/>
                </a:lnTo>
                <a:lnTo>
                  <a:pt x="387" y="1949"/>
                </a:lnTo>
                <a:lnTo>
                  <a:pt x="393" y="1956"/>
                </a:lnTo>
                <a:lnTo>
                  <a:pt x="400" y="1963"/>
                </a:lnTo>
                <a:lnTo>
                  <a:pt x="407" y="1970"/>
                </a:lnTo>
                <a:lnTo>
                  <a:pt x="407" y="1977"/>
                </a:lnTo>
                <a:lnTo>
                  <a:pt x="421" y="1984"/>
                </a:lnTo>
                <a:lnTo>
                  <a:pt x="428" y="1990"/>
                </a:lnTo>
                <a:lnTo>
                  <a:pt x="435" y="1997"/>
                </a:lnTo>
                <a:lnTo>
                  <a:pt x="435" y="2004"/>
                </a:lnTo>
                <a:lnTo>
                  <a:pt x="435" y="2018"/>
                </a:lnTo>
                <a:lnTo>
                  <a:pt x="428" y="2025"/>
                </a:lnTo>
                <a:lnTo>
                  <a:pt x="421" y="2039"/>
                </a:lnTo>
                <a:lnTo>
                  <a:pt x="414" y="2046"/>
                </a:lnTo>
                <a:lnTo>
                  <a:pt x="407" y="2052"/>
                </a:lnTo>
                <a:lnTo>
                  <a:pt x="400" y="2059"/>
                </a:lnTo>
                <a:lnTo>
                  <a:pt x="393" y="2066"/>
                </a:lnTo>
                <a:lnTo>
                  <a:pt x="393" y="2073"/>
                </a:lnTo>
                <a:lnTo>
                  <a:pt x="387" y="2087"/>
                </a:lnTo>
                <a:lnTo>
                  <a:pt x="387" y="2101"/>
                </a:lnTo>
                <a:lnTo>
                  <a:pt x="393" y="2108"/>
                </a:lnTo>
                <a:lnTo>
                  <a:pt x="393" y="2121"/>
                </a:lnTo>
                <a:lnTo>
                  <a:pt x="400" y="2128"/>
                </a:lnTo>
                <a:lnTo>
                  <a:pt x="407" y="2142"/>
                </a:lnTo>
                <a:lnTo>
                  <a:pt x="407" y="2149"/>
                </a:lnTo>
                <a:lnTo>
                  <a:pt x="414" y="2156"/>
                </a:lnTo>
                <a:lnTo>
                  <a:pt x="421" y="2170"/>
                </a:lnTo>
                <a:lnTo>
                  <a:pt x="421" y="2176"/>
                </a:lnTo>
                <a:lnTo>
                  <a:pt x="428" y="2190"/>
                </a:lnTo>
                <a:lnTo>
                  <a:pt x="435" y="2197"/>
                </a:lnTo>
                <a:lnTo>
                  <a:pt x="435" y="2211"/>
                </a:lnTo>
                <a:lnTo>
                  <a:pt x="435" y="2218"/>
                </a:lnTo>
                <a:lnTo>
                  <a:pt x="428" y="2225"/>
                </a:lnTo>
                <a:lnTo>
                  <a:pt x="414" y="2232"/>
                </a:lnTo>
                <a:lnTo>
                  <a:pt x="407" y="2232"/>
                </a:lnTo>
                <a:lnTo>
                  <a:pt x="400" y="2232"/>
                </a:lnTo>
                <a:lnTo>
                  <a:pt x="393" y="2232"/>
                </a:lnTo>
                <a:lnTo>
                  <a:pt x="387" y="2232"/>
                </a:lnTo>
                <a:lnTo>
                  <a:pt x="380" y="2225"/>
                </a:lnTo>
                <a:lnTo>
                  <a:pt x="373" y="2225"/>
                </a:lnTo>
                <a:lnTo>
                  <a:pt x="366" y="2225"/>
                </a:lnTo>
                <a:lnTo>
                  <a:pt x="352" y="2225"/>
                </a:lnTo>
                <a:lnTo>
                  <a:pt x="345" y="2225"/>
                </a:lnTo>
                <a:lnTo>
                  <a:pt x="338" y="2225"/>
                </a:lnTo>
                <a:lnTo>
                  <a:pt x="331" y="2218"/>
                </a:lnTo>
                <a:lnTo>
                  <a:pt x="325" y="2218"/>
                </a:lnTo>
                <a:lnTo>
                  <a:pt x="318" y="2218"/>
                </a:lnTo>
                <a:lnTo>
                  <a:pt x="311" y="2218"/>
                </a:lnTo>
                <a:lnTo>
                  <a:pt x="304" y="2218"/>
                </a:lnTo>
                <a:lnTo>
                  <a:pt x="297" y="2218"/>
                </a:lnTo>
                <a:lnTo>
                  <a:pt x="283" y="2211"/>
                </a:lnTo>
                <a:lnTo>
                  <a:pt x="276" y="2211"/>
                </a:lnTo>
                <a:lnTo>
                  <a:pt x="269" y="2211"/>
                </a:lnTo>
                <a:lnTo>
                  <a:pt x="262" y="2211"/>
                </a:lnTo>
                <a:lnTo>
                  <a:pt x="256" y="2211"/>
                </a:lnTo>
                <a:lnTo>
                  <a:pt x="249" y="2211"/>
                </a:lnTo>
                <a:lnTo>
                  <a:pt x="242" y="2211"/>
                </a:lnTo>
                <a:lnTo>
                  <a:pt x="235" y="2204"/>
                </a:lnTo>
                <a:lnTo>
                  <a:pt x="228" y="2204"/>
                </a:lnTo>
                <a:lnTo>
                  <a:pt x="214" y="2204"/>
                </a:lnTo>
                <a:lnTo>
                  <a:pt x="207" y="2204"/>
                </a:lnTo>
                <a:lnTo>
                  <a:pt x="200" y="2204"/>
                </a:lnTo>
                <a:lnTo>
                  <a:pt x="194" y="2204"/>
                </a:lnTo>
                <a:lnTo>
                  <a:pt x="187" y="2197"/>
                </a:lnTo>
                <a:lnTo>
                  <a:pt x="180" y="2197"/>
                </a:lnTo>
                <a:lnTo>
                  <a:pt x="173" y="2197"/>
                </a:lnTo>
                <a:lnTo>
                  <a:pt x="166" y="2197"/>
                </a:lnTo>
                <a:lnTo>
                  <a:pt x="159" y="2197"/>
                </a:lnTo>
                <a:lnTo>
                  <a:pt x="152" y="2190"/>
                </a:lnTo>
                <a:lnTo>
                  <a:pt x="138" y="2190"/>
                </a:lnTo>
                <a:lnTo>
                  <a:pt x="131" y="2183"/>
                </a:lnTo>
                <a:lnTo>
                  <a:pt x="125" y="2183"/>
                </a:lnTo>
                <a:lnTo>
                  <a:pt x="118" y="2176"/>
                </a:lnTo>
                <a:lnTo>
                  <a:pt x="118" y="2163"/>
                </a:lnTo>
                <a:lnTo>
                  <a:pt x="111" y="2149"/>
                </a:lnTo>
                <a:lnTo>
                  <a:pt x="111" y="2142"/>
                </a:lnTo>
                <a:lnTo>
                  <a:pt x="111" y="2128"/>
                </a:lnTo>
                <a:lnTo>
                  <a:pt x="111" y="2114"/>
                </a:lnTo>
                <a:lnTo>
                  <a:pt x="111" y="2101"/>
                </a:lnTo>
                <a:lnTo>
                  <a:pt x="104" y="2094"/>
                </a:lnTo>
                <a:lnTo>
                  <a:pt x="104" y="2080"/>
                </a:lnTo>
                <a:lnTo>
                  <a:pt x="104" y="2066"/>
                </a:lnTo>
                <a:lnTo>
                  <a:pt x="104" y="2052"/>
                </a:lnTo>
                <a:lnTo>
                  <a:pt x="104" y="2046"/>
                </a:lnTo>
                <a:lnTo>
                  <a:pt x="104" y="2032"/>
                </a:lnTo>
                <a:lnTo>
                  <a:pt x="97" y="2018"/>
                </a:lnTo>
                <a:lnTo>
                  <a:pt x="97" y="2004"/>
                </a:lnTo>
                <a:lnTo>
                  <a:pt x="97" y="1997"/>
                </a:lnTo>
                <a:lnTo>
                  <a:pt x="97" y="1984"/>
                </a:lnTo>
                <a:lnTo>
                  <a:pt x="97" y="1970"/>
                </a:lnTo>
                <a:lnTo>
                  <a:pt x="90" y="1956"/>
                </a:lnTo>
                <a:lnTo>
                  <a:pt x="90" y="1949"/>
                </a:lnTo>
                <a:lnTo>
                  <a:pt x="90" y="1935"/>
                </a:lnTo>
                <a:lnTo>
                  <a:pt x="90" y="1922"/>
                </a:lnTo>
                <a:lnTo>
                  <a:pt x="90" y="1908"/>
                </a:lnTo>
                <a:lnTo>
                  <a:pt x="83" y="1901"/>
                </a:lnTo>
                <a:lnTo>
                  <a:pt x="83" y="1887"/>
                </a:lnTo>
                <a:lnTo>
                  <a:pt x="83" y="1873"/>
                </a:lnTo>
                <a:lnTo>
                  <a:pt x="83" y="1860"/>
                </a:lnTo>
                <a:lnTo>
                  <a:pt x="90" y="1853"/>
                </a:lnTo>
                <a:lnTo>
                  <a:pt x="69" y="1873"/>
                </a:lnTo>
                <a:lnTo>
                  <a:pt x="69" y="1908"/>
                </a:lnTo>
                <a:lnTo>
                  <a:pt x="69" y="1935"/>
                </a:lnTo>
                <a:lnTo>
                  <a:pt x="69" y="1970"/>
                </a:lnTo>
                <a:lnTo>
                  <a:pt x="69" y="2004"/>
                </a:lnTo>
                <a:lnTo>
                  <a:pt x="35" y="2039"/>
                </a:lnTo>
                <a:lnTo>
                  <a:pt x="35" y="2073"/>
                </a:lnTo>
                <a:lnTo>
                  <a:pt x="35" y="2108"/>
                </a:lnTo>
                <a:lnTo>
                  <a:pt x="35" y="2142"/>
                </a:lnTo>
                <a:lnTo>
                  <a:pt x="0" y="2176"/>
                </a:lnTo>
                <a:lnTo>
                  <a:pt x="0" y="2211"/>
                </a:lnTo>
                <a:lnTo>
                  <a:pt x="0" y="2245"/>
                </a:lnTo>
                <a:lnTo>
                  <a:pt x="0" y="2280"/>
                </a:lnTo>
                <a:lnTo>
                  <a:pt x="0" y="2314"/>
                </a:lnTo>
                <a:lnTo>
                  <a:pt x="0" y="2349"/>
                </a:lnTo>
                <a:lnTo>
                  <a:pt x="0" y="2383"/>
                </a:lnTo>
                <a:lnTo>
                  <a:pt x="0" y="2418"/>
                </a:lnTo>
                <a:lnTo>
                  <a:pt x="0" y="2452"/>
                </a:lnTo>
                <a:lnTo>
                  <a:pt x="0" y="2480"/>
                </a:lnTo>
                <a:lnTo>
                  <a:pt x="0" y="2514"/>
                </a:lnTo>
                <a:lnTo>
                  <a:pt x="0" y="2548"/>
                </a:lnTo>
                <a:lnTo>
                  <a:pt x="0" y="2583"/>
                </a:lnTo>
                <a:lnTo>
                  <a:pt x="35" y="2617"/>
                </a:lnTo>
                <a:lnTo>
                  <a:pt x="35" y="2652"/>
                </a:lnTo>
                <a:lnTo>
                  <a:pt x="35" y="2686"/>
                </a:lnTo>
                <a:lnTo>
                  <a:pt x="35" y="2721"/>
                </a:lnTo>
                <a:lnTo>
                  <a:pt x="35" y="2755"/>
                </a:lnTo>
                <a:lnTo>
                  <a:pt x="35" y="2789"/>
                </a:lnTo>
                <a:lnTo>
                  <a:pt x="35" y="2824"/>
                </a:lnTo>
                <a:lnTo>
                  <a:pt x="35" y="2858"/>
                </a:lnTo>
                <a:lnTo>
                  <a:pt x="35" y="2893"/>
                </a:lnTo>
                <a:lnTo>
                  <a:pt x="69" y="2927"/>
                </a:lnTo>
                <a:lnTo>
                  <a:pt x="69" y="2955"/>
                </a:lnTo>
                <a:lnTo>
                  <a:pt x="76" y="2955"/>
                </a:lnTo>
                <a:lnTo>
                  <a:pt x="83" y="2948"/>
                </a:lnTo>
                <a:lnTo>
                  <a:pt x="83" y="2948"/>
                </a:lnTo>
                <a:lnTo>
                  <a:pt x="90" y="2941"/>
                </a:lnTo>
                <a:lnTo>
                  <a:pt x="97" y="2934"/>
                </a:lnTo>
                <a:lnTo>
                  <a:pt x="104" y="2934"/>
                </a:lnTo>
                <a:lnTo>
                  <a:pt x="111" y="2934"/>
                </a:lnTo>
                <a:lnTo>
                  <a:pt x="118" y="2927"/>
                </a:lnTo>
                <a:lnTo>
                  <a:pt x="125" y="2927"/>
                </a:lnTo>
                <a:lnTo>
                  <a:pt x="131" y="2920"/>
                </a:lnTo>
                <a:lnTo>
                  <a:pt x="138" y="2920"/>
                </a:lnTo>
                <a:lnTo>
                  <a:pt x="145" y="2913"/>
                </a:lnTo>
                <a:lnTo>
                  <a:pt x="152" y="2913"/>
                </a:lnTo>
                <a:lnTo>
                  <a:pt x="159" y="2920"/>
                </a:lnTo>
                <a:lnTo>
                  <a:pt x="159" y="2920"/>
                </a:lnTo>
                <a:lnTo>
                  <a:pt x="166" y="2920"/>
                </a:lnTo>
                <a:lnTo>
                  <a:pt x="173" y="2920"/>
                </a:lnTo>
                <a:lnTo>
                  <a:pt x="180" y="2927"/>
                </a:lnTo>
                <a:lnTo>
                  <a:pt x="187" y="2927"/>
                </a:lnTo>
                <a:lnTo>
                  <a:pt x="194" y="2927"/>
                </a:lnTo>
                <a:lnTo>
                  <a:pt x="200" y="2927"/>
                </a:lnTo>
                <a:lnTo>
                  <a:pt x="207" y="2934"/>
                </a:lnTo>
                <a:lnTo>
                  <a:pt x="214" y="2941"/>
                </a:lnTo>
                <a:lnTo>
                  <a:pt x="214" y="2948"/>
                </a:lnTo>
                <a:lnTo>
                  <a:pt x="221" y="2955"/>
                </a:lnTo>
                <a:lnTo>
                  <a:pt x="221" y="2969"/>
                </a:lnTo>
                <a:lnTo>
                  <a:pt x="228" y="2975"/>
                </a:lnTo>
                <a:lnTo>
                  <a:pt x="228" y="2982"/>
                </a:lnTo>
                <a:lnTo>
                  <a:pt x="235" y="2996"/>
                </a:lnTo>
                <a:lnTo>
                  <a:pt x="235" y="3003"/>
                </a:lnTo>
                <a:lnTo>
                  <a:pt x="235" y="3017"/>
                </a:lnTo>
                <a:lnTo>
                  <a:pt x="242" y="3024"/>
                </a:lnTo>
                <a:lnTo>
                  <a:pt x="242" y="3031"/>
                </a:lnTo>
                <a:lnTo>
                  <a:pt x="249" y="3044"/>
                </a:lnTo>
                <a:lnTo>
                  <a:pt x="249" y="3051"/>
                </a:lnTo>
                <a:lnTo>
                  <a:pt x="249" y="3065"/>
                </a:lnTo>
                <a:lnTo>
                  <a:pt x="249" y="3072"/>
                </a:lnTo>
                <a:lnTo>
                  <a:pt x="249" y="3086"/>
                </a:lnTo>
                <a:lnTo>
                  <a:pt x="249" y="3093"/>
                </a:lnTo>
                <a:lnTo>
                  <a:pt x="249" y="3106"/>
                </a:lnTo>
                <a:lnTo>
                  <a:pt x="249" y="3113"/>
                </a:lnTo>
                <a:lnTo>
                  <a:pt x="256" y="3127"/>
                </a:lnTo>
                <a:lnTo>
                  <a:pt x="256" y="3134"/>
                </a:lnTo>
                <a:lnTo>
                  <a:pt x="256" y="3148"/>
                </a:lnTo>
                <a:lnTo>
                  <a:pt x="276" y="3161"/>
                </a:lnTo>
                <a:lnTo>
                  <a:pt x="311" y="3196"/>
                </a:lnTo>
                <a:lnTo>
                  <a:pt x="338" y="3196"/>
                </a:lnTo>
                <a:lnTo>
                  <a:pt x="373" y="3230"/>
                </a:lnTo>
                <a:lnTo>
                  <a:pt x="407" y="3230"/>
                </a:lnTo>
                <a:lnTo>
                  <a:pt x="442" y="3230"/>
                </a:lnTo>
                <a:lnTo>
                  <a:pt x="476" y="3265"/>
                </a:lnTo>
                <a:lnTo>
                  <a:pt x="511" y="3265"/>
                </a:lnTo>
                <a:lnTo>
                  <a:pt x="545" y="3299"/>
                </a:lnTo>
                <a:lnTo>
                  <a:pt x="580" y="3299"/>
                </a:lnTo>
                <a:lnTo>
                  <a:pt x="614" y="3299"/>
                </a:lnTo>
                <a:lnTo>
                  <a:pt x="649" y="3299"/>
                </a:lnTo>
                <a:lnTo>
                  <a:pt x="683" y="3299"/>
                </a:lnTo>
                <a:lnTo>
                  <a:pt x="718" y="3299"/>
                </a:lnTo>
                <a:close/>
                <a:moveTo>
                  <a:pt x="331" y="2962"/>
                </a:moveTo>
                <a:lnTo>
                  <a:pt x="331" y="2948"/>
                </a:lnTo>
                <a:lnTo>
                  <a:pt x="325" y="2934"/>
                </a:lnTo>
                <a:lnTo>
                  <a:pt x="325" y="2927"/>
                </a:lnTo>
                <a:lnTo>
                  <a:pt x="318" y="2913"/>
                </a:lnTo>
                <a:lnTo>
                  <a:pt x="318" y="2900"/>
                </a:lnTo>
                <a:lnTo>
                  <a:pt x="311" y="2886"/>
                </a:lnTo>
                <a:lnTo>
                  <a:pt x="311" y="2879"/>
                </a:lnTo>
                <a:lnTo>
                  <a:pt x="304" y="2865"/>
                </a:lnTo>
                <a:lnTo>
                  <a:pt x="297" y="2858"/>
                </a:lnTo>
                <a:lnTo>
                  <a:pt x="290" y="2851"/>
                </a:lnTo>
                <a:lnTo>
                  <a:pt x="283" y="2845"/>
                </a:lnTo>
                <a:lnTo>
                  <a:pt x="276" y="2831"/>
                </a:lnTo>
                <a:lnTo>
                  <a:pt x="276" y="2824"/>
                </a:lnTo>
                <a:lnTo>
                  <a:pt x="269" y="2810"/>
                </a:lnTo>
                <a:lnTo>
                  <a:pt x="262" y="2803"/>
                </a:lnTo>
                <a:lnTo>
                  <a:pt x="256" y="2789"/>
                </a:lnTo>
                <a:lnTo>
                  <a:pt x="249" y="2789"/>
                </a:lnTo>
                <a:lnTo>
                  <a:pt x="242" y="2783"/>
                </a:lnTo>
                <a:lnTo>
                  <a:pt x="235" y="2789"/>
                </a:lnTo>
                <a:lnTo>
                  <a:pt x="228" y="2789"/>
                </a:lnTo>
                <a:lnTo>
                  <a:pt x="221" y="2796"/>
                </a:lnTo>
                <a:lnTo>
                  <a:pt x="214" y="2803"/>
                </a:lnTo>
                <a:lnTo>
                  <a:pt x="200" y="2810"/>
                </a:lnTo>
                <a:lnTo>
                  <a:pt x="194" y="2810"/>
                </a:lnTo>
                <a:lnTo>
                  <a:pt x="187" y="2810"/>
                </a:lnTo>
                <a:lnTo>
                  <a:pt x="180" y="2810"/>
                </a:lnTo>
                <a:lnTo>
                  <a:pt x="173" y="2803"/>
                </a:lnTo>
                <a:lnTo>
                  <a:pt x="166" y="2803"/>
                </a:lnTo>
                <a:lnTo>
                  <a:pt x="152" y="2796"/>
                </a:lnTo>
                <a:lnTo>
                  <a:pt x="145" y="2789"/>
                </a:lnTo>
                <a:lnTo>
                  <a:pt x="138" y="2789"/>
                </a:lnTo>
                <a:lnTo>
                  <a:pt x="131" y="2783"/>
                </a:lnTo>
                <a:lnTo>
                  <a:pt x="125" y="2783"/>
                </a:lnTo>
                <a:lnTo>
                  <a:pt x="118" y="2776"/>
                </a:lnTo>
                <a:lnTo>
                  <a:pt x="111" y="2776"/>
                </a:lnTo>
                <a:lnTo>
                  <a:pt x="97" y="2769"/>
                </a:lnTo>
                <a:lnTo>
                  <a:pt x="90" y="2769"/>
                </a:lnTo>
                <a:lnTo>
                  <a:pt x="83" y="2762"/>
                </a:lnTo>
                <a:lnTo>
                  <a:pt x="76" y="2762"/>
                </a:lnTo>
                <a:lnTo>
                  <a:pt x="69" y="2755"/>
                </a:lnTo>
                <a:lnTo>
                  <a:pt x="76" y="2741"/>
                </a:lnTo>
                <a:lnTo>
                  <a:pt x="76" y="2727"/>
                </a:lnTo>
                <a:lnTo>
                  <a:pt x="83" y="2714"/>
                </a:lnTo>
                <a:lnTo>
                  <a:pt x="83" y="2700"/>
                </a:lnTo>
                <a:lnTo>
                  <a:pt x="83" y="2693"/>
                </a:lnTo>
                <a:lnTo>
                  <a:pt x="83" y="2679"/>
                </a:lnTo>
                <a:lnTo>
                  <a:pt x="83" y="2665"/>
                </a:lnTo>
                <a:lnTo>
                  <a:pt x="83" y="2652"/>
                </a:lnTo>
                <a:lnTo>
                  <a:pt x="83" y="2638"/>
                </a:lnTo>
                <a:lnTo>
                  <a:pt x="83" y="2624"/>
                </a:lnTo>
                <a:lnTo>
                  <a:pt x="83" y="2610"/>
                </a:lnTo>
                <a:lnTo>
                  <a:pt x="83" y="2597"/>
                </a:lnTo>
                <a:lnTo>
                  <a:pt x="83" y="2590"/>
                </a:lnTo>
                <a:lnTo>
                  <a:pt x="83" y="2576"/>
                </a:lnTo>
                <a:lnTo>
                  <a:pt x="83" y="2562"/>
                </a:lnTo>
                <a:lnTo>
                  <a:pt x="83" y="2548"/>
                </a:lnTo>
                <a:lnTo>
                  <a:pt x="83" y="2535"/>
                </a:lnTo>
                <a:lnTo>
                  <a:pt x="90" y="2521"/>
                </a:lnTo>
                <a:lnTo>
                  <a:pt x="90" y="2507"/>
                </a:lnTo>
                <a:lnTo>
                  <a:pt x="90" y="2500"/>
                </a:lnTo>
                <a:lnTo>
                  <a:pt x="97" y="2486"/>
                </a:lnTo>
                <a:lnTo>
                  <a:pt x="104" y="2473"/>
                </a:lnTo>
                <a:lnTo>
                  <a:pt x="104" y="2466"/>
                </a:lnTo>
                <a:lnTo>
                  <a:pt x="111" y="2452"/>
                </a:lnTo>
                <a:lnTo>
                  <a:pt x="118" y="2445"/>
                </a:lnTo>
                <a:lnTo>
                  <a:pt x="125" y="2438"/>
                </a:lnTo>
                <a:lnTo>
                  <a:pt x="131" y="2438"/>
                </a:lnTo>
                <a:lnTo>
                  <a:pt x="138" y="2438"/>
                </a:lnTo>
                <a:lnTo>
                  <a:pt x="145" y="2438"/>
                </a:lnTo>
                <a:lnTo>
                  <a:pt x="159" y="2438"/>
                </a:lnTo>
                <a:lnTo>
                  <a:pt x="166" y="2438"/>
                </a:lnTo>
                <a:lnTo>
                  <a:pt x="173" y="2445"/>
                </a:lnTo>
                <a:lnTo>
                  <a:pt x="180" y="2445"/>
                </a:lnTo>
                <a:lnTo>
                  <a:pt x="187" y="2445"/>
                </a:lnTo>
                <a:lnTo>
                  <a:pt x="200" y="2445"/>
                </a:lnTo>
                <a:lnTo>
                  <a:pt x="207" y="2445"/>
                </a:lnTo>
                <a:lnTo>
                  <a:pt x="214" y="2445"/>
                </a:lnTo>
                <a:lnTo>
                  <a:pt x="221" y="2452"/>
                </a:lnTo>
                <a:lnTo>
                  <a:pt x="228" y="2452"/>
                </a:lnTo>
                <a:lnTo>
                  <a:pt x="235" y="2452"/>
                </a:lnTo>
                <a:lnTo>
                  <a:pt x="249" y="2452"/>
                </a:lnTo>
                <a:lnTo>
                  <a:pt x="256" y="2452"/>
                </a:lnTo>
                <a:lnTo>
                  <a:pt x="262" y="2452"/>
                </a:lnTo>
                <a:lnTo>
                  <a:pt x="269" y="2459"/>
                </a:lnTo>
                <a:lnTo>
                  <a:pt x="276" y="2459"/>
                </a:lnTo>
                <a:lnTo>
                  <a:pt x="290" y="2459"/>
                </a:lnTo>
                <a:lnTo>
                  <a:pt x="297" y="2459"/>
                </a:lnTo>
                <a:lnTo>
                  <a:pt x="304" y="2459"/>
                </a:lnTo>
                <a:lnTo>
                  <a:pt x="311" y="2459"/>
                </a:lnTo>
                <a:lnTo>
                  <a:pt x="318" y="2466"/>
                </a:lnTo>
                <a:lnTo>
                  <a:pt x="325" y="2466"/>
                </a:lnTo>
                <a:lnTo>
                  <a:pt x="338" y="2466"/>
                </a:lnTo>
                <a:lnTo>
                  <a:pt x="345" y="2466"/>
                </a:lnTo>
                <a:lnTo>
                  <a:pt x="352" y="2466"/>
                </a:lnTo>
                <a:lnTo>
                  <a:pt x="359" y="2466"/>
                </a:lnTo>
                <a:lnTo>
                  <a:pt x="366" y="2473"/>
                </a:lnTo>
                <a:lnTo>
                  <a:pt x="373" y="2473"/>
                </a:lnTo>
                <a:lnTo>
                  <a:pt x="387" y="2473"/>
                </a:lnTo>
                <a:lnTo>
                  <a:pt x="393" y="2473"/>
                </a:lnTo>
                <a:lnTo>
                  <a:pt x="400" y="2473"/>
                </a:lnTo>
                <a:lnTo>
                  <a:pt x="407" y="2473"/>
                </a:lnTo>
                <a:lnTo>
                  <a:pt x="414" y="2480"/>
                </a:lnTo>
                <a:lnTo>
                  <a:pt x="428" y="2480"/>
                </a:lnTo>
                <a:lnTo>
                  <a:pt x="435" y="2480"/>
                </a:lnTo>
                <a:lnTo>
                  <a:pt x="442" y="2480"/>
                </a:lnTo>
                <a:lnTo>
                  <a:pt x="449" y="2480"/>
                </a:lnTo>
                <a:lnTo>
                  <a:pt x="456" y="2480"/>
                </a:lnTo>
                <a:lnTo>
                  <a:pt x="462" y="2480"/>
                </a:lnTo>
                <a:lnTo>
                  <a:pt x="476" y="2486"/>
                </a:lnTo>
                <a:lnTo>
                  <a:pt x="483" y="2486"/>
                </a:lnTo>
                <a:lnTo>
                  <a:pt x="490" y="2486"/>
                </a:lnTo>
                <a:lnTo>
                  <a:pt x="497" y="2486"/>
                </a:lnTo>
                <a:lnTo>
                  <a:pt x="504" y="2486"/>
                </a:lnTo>
                <a:lnTo>
                  <a:pt x="518" y="2493"/>
                </a:lnTo>
                <a:lnTo>
                  <a:pt x="524" y="2493"/>
                </a:lnTo>
                <a:lnTo>
                  <a:pt x="531" y="2500"/>
                </a:lnTo>
                <a:lnTo>
                  <a:pt x="538" y="2507"/>
                </a:lnTo>
                <a:lnTo>
                  <a:pt x="538" y="2521"/>
                </a:lnTo>
                <a:lnTo>
                  <a:pt x="545" y="2528"/>
                </a:lnTo>
                <a:lnTo>
                  <a:pt x="552" y="2541"/>
                </a:lnTo>
                <a:lnTo>
                  <a:pt x="552" y="2555"/>
                </a:lnTo>
                <a:lnTo>
                  <a:pt x="559" y="2562"/>
                </a:lnTo>
                <a:lnTo>
                  <a:pt x="566" y="2576"/>
                </a:lnTo>
                <a:lnTo>
                  <a:pt x="566" y="2583"/>
                </a:lnTo>
                <a:lnTo>
                  <a:pt x="573" y="2590"/>
                </a:lnTo>
                <a:lnTo>
                  <a:pt x="580" y="2597"/>
                </a:lnTo>
                <a:lnTo>
                  <a:pt x="587" y="2603"/>
                </a:lnTo>
                <a:lnTo>
                  <a:pt x="593" y="2610"/>
                </a:lnTo>
                <a:lnTo>
                  <a:pt x="607" y="2617"/>
                </a:lnTo>
                <a:lnTo>
                  <a:pt x="614" y="2617"/>
                </a:lnTo>
                <a:lnTo>
                  <a:pt x="621" y="2624"/>
                </a:lnTo>
                <a:lnTo>
                  <a:pt x="628" y="2631"/>
                </a:lnTo>
                <a:lnTo>
                  <a:pt x="635" y="2638"/>
                </a:lnTo>
                <a:lnTo>
                  <a:pt x="642" y="2645"/>
                </a:lnTo>
                <a:lnTo>
                  <a:pt x="649" y="2645"/>
                </a:lnTo>
                <a:lnTo>
                  <a:pt x="656" y="2652"/>
                </a:lnTo>
                <a:lnTo>
                  <a:pt x="662" y="2652"/>
                </a:lnTo>
                <a:lnTo>
                  <a:pt x="676" y="2645"/>
                </a:lnTo>
                <a:lnTo>
                  <a:pt x="683" y="2645"/>
                </a:lnTo>
                <a:lnTo>
                  <a:pt x="690" y="2645"/>
                </a:lnTo>
                <a:lnTo>
                  <a:pt x="697" y="2645"/>
                </a:lnTo>
                <a:lnTo>
                  <a:pt x="704" y="2645"/>
                </a:lnTo>
                <a:lnTo>
                  <a:pt x="711" y="2645"/>
                </a:lnTo>
                <a:lnTo>
                  <a:pt x="724" y="2645"/>
                </a:lnTo>
                <a:lnTo>
                  <a:pt x="731" y="2645"/>
                </a:lnTo>
                <a:lnTo>
                  <a:pt x="738" y="2645"/>
                </a:lnTo>
                <a:lnTo>
                  <a:pt x="745" y="2645"/>
                </a:lnTo>
                <a:lnTo>
                  <a:pt x="752" y="2645"/>
                </a:lnTo>
                <a:lnTo>
                  <a:pt x="766" y="2638"/>
                </a:lnTo>
                <a:lnTo>
                  <a:pt x="773" y="2638"/>
                </a:lnTo>
                <a:lnTo>
                  <a:pt x="780" y="2631"/>
                </a:lnTo>
                <a:lnTo>
                  <a:pt x="787" y="2631"/>
                </a:lnTo>
                <a:lnTo>
                  <a:pt x="793" y="2631"/>
                </a:lnTo>
                <a:lnTo>
                  <a:pt x="800" y="2624"/>
                </a:lnTo>
                <a:lnTo>
                  <a:pt x="814" y="2624"/>
                </a:lnTo>
                <a:lnTo>
                  <a:pt x="821" y="2624"/>
                </a:lnTo>
                <a:lnTo>
                  <a:pt x="828" y="2617"/>
                </a:lnTo>
                <a:lnTo>
                  <a:pt x="835" y="2617"/>
                </a:lnTo>
                <a:lnTo>
                  <a:pt x="842" y="2610"/>
                </a:lnTo>
                <a:lnTo>
                  <a:pt x="849" y="2610"/>
                </a:lnTo>
                <a:lnTo>
                  <a:pt x="855" y="2610"/>
                </a:lnTo>
                <a:lnTo>
                  <a:pt x="869" y="2603"/>
                </a:lnTo>
                <a:lnTo>
                  <a:pt x="876" y="2603"/>
                </a:lnTo>
                <a:lnTo>
                  <a:pt x="883" y="2597"/>
                </a:lnTo>
                <a:lnTo>
                  <a:pt x="890" y="2597"/>
                </a:lnTo>
                <a:lnTo>
                  <a:pt x="904" y="2597"/>
                </a:lnTo>
                <a:lnTo>
                  <a:pt x="911" y="2603"/>
                </a:lnTo>
                <a:lnTo>
                  <a:pt x="918" y="2610"/>
                </a:lnTo>
                <a:lnTo>
                  <a:pt x="924" y="2617"/>
                </a:lnTo>
                <a:lnTo>
                  <a:pt x="924" y="2631"/>
                </a:lnTo>
                <a:lnTo>
                  <a:pt x="924" y="2645"/>
                </a:lnTo>
                <a:lnTo>
                  <a:pt x="924" y="2659"/>
                </a:lnTo>
                <a:lnTo>
                  <a:pt x="924" y="2672"/>
                </a:lnTo>
                <a:lnTo>
                  <a:pt x="924" y="2679"/>
                </a:lnTo>
                <a:lnTo>
                  <a:pt x="924" y="2693"/>
                </a:lnTo>
                <a:lnTo>
                  <a:pt x="924" y="2707"/>
                </a:lnTo>
                <a:lnTo>
                  <a:pt x="924" y="2721"/>
                </a:lnTo>
                <a:lnTo>
                  <a:pt x="918" y="2734"/>
                </a:lnTo>
                <a:lnTo>
                  <a:pt x="918" y="2748"/>
                </a:lnTo>
                <a:lnTo>
                  <a:pt x="911" y="2755"/>
                </a:lnTo>
                <a:lnTo>
                  <a:pt x="904" y="2762"/>
                </a:lnTo>
                <a:lnTo>
                  <a:pt x="897" y="2762"/>
                </a:lnTo>
                <a:lnTo>
                  <a:pt x="883" y="2762"/>
                </a:lnTo>
                <a:lnTo>
                  <a:pt x="876" y="2769"/>
                </a:lnTo>
                <a:lnTo>
                  <a:pt x="869" y="2776"/>
                </a:lnTo>
                <a:lnTo>
                  <a:pt x="862" y="2776"/>
                </a:lnTo>
                <a:lnTo>
                  <a:pt x="855" y="2783"/>
                </a:lnTo>
                <a:lnTo>
                  <a:pt x="849" y="2789"/>
                </a:lnTo>
                <a:lnTo>
                  <a:pt x="842" y="2796"/>
                </a:lnTo>
                <a:lnTo>
                  <a:pt x="835" y="2803"/>
                </a:lnTo>
                <a:lnTo>
                  <a:pt x="828" y="2810"/>
                </a:lnTo>
                <a:lnTo>
                  <a:pt x="821" y="2810"/>
                </a:lnTo>
                <a:lnTo>
                  <a:pt x="814" y="2817"/>
                </a:lnTo>
                <a:lnTo>
                  <a:pt x="807" y="2824"/>
                </a:lnTo>
                <a:lnTo>
                  <a:pt x="800" y="2831"/>
                </a:lnTo>
                <a:lnTo>
                  <a:pt x="787" y="2831"/>
                </a:lnTo>
                <a:lnTo>
                  <a:pt x="780" y="2838"/>
                </a:lnTo>
                <a:lnTo>
                  <a:pt x="773" y="2838"/>
                </a:lnTo>
                <a:lnTo>
                  <a:pt x="766" y="2838"/>
                </a:lnTo>
                <a:lnTo>
                  <a:pt x="759" y="2845"/>
                </a:lnTo>
                <a:lnTo>
                  <a:pt x="752" y="2845"/>
                </a:lnTo>
                <a:lnTo>
                  <a:pt x="738" y="2845"/>
                </a:lnTo>
                <a:lnTo>
                  <a:pt x="731" y="2845"/>
                </a:lnTo>
                <a:lnTo>
                  <a:pt x="724" y="2845"/>
                </a:lnTo>
                <a:lnTo>
                  <a:pt x="718" y="2851"/>
                </a:lnTo>
                <a:lnTo>
                  <a:pt x="711" y="2851"/>
                </a:lnTo>
                <a:lnTo>
                  <a:pt x="704" y="2858"/>
                </a:lnTo>
                <a:lnTo>
                  <a:pt x="690" y="2858"/>
                </a:lnTo>
                <a:lnTo>
                  <a:pt x="683" y="2865"/>
                </a:lnTo>
                <a:lnTo>
                  <a:pt x="676" y="2865"/>
                </a:lnTo>
                <a:lnTo>
                  <a:pt x="669" y="2865"/>
                </a:lnTo>
                <a:lnTo>
                  <a:pt x="662" y="2872"/>
                </a:lnTo>
                <a:lnTo>
                  <a:pt x="656" y="2872"/>
                </a:lnTo>
                <a:lnTo>
                  <a:pt x="649" y="2879"/>
                </a:lnTo>
                <a:lnTo>
                  <a:pt x="635" y="2879"/>
                </a:lnTo>
                <a:lnTo>
                  <a:pt x="628" y="2886"/>
                </a:lnTo>
                <a:lnTo>
                  <a:pt x="621" y="2886"/>
                </a:lnTo>
                <a:lnTo>
                  <a:pt x="614" y="2886"/>
                </a:lnTo>
                <a:lnTo>
                  <a:pt x="607" y="2893"/>
                </a:lnTo>
                <a:lnTo>
                  <a:pt x="600" y="2893"/>
                </a:lnTo>
                <a:lnTo>
                  <a:pt x="587" y="2900"/>
                </a:lnTo>
                <a:lnTo>
                  <a:pt x="580" y="2900"/>
                </a:lnTo>
                <a:lnTo>
                  <a:pt x="573" y="2907"/>
                </a:lnTo>
                <a:lnTo>
                  <a:pt x="566" y="2907"/>
                </a:lnTo>
                <a:lnTo>
                  <a:pt x="559" y="2907"/>
                </a:lnTo>
                <a:lnTo>
                  <a:pt x="552" y="2913"/>
                </a:lnTo>
                <a:lnTo>
                  <a:pt x="545" y="2913"/>
                </a:lnTo>
                <a:lnTo>
                  <a:pt x="531" y="2920"/>
                </a:lnTo>
                <a:lnTo>
                  <a:pt x="524" y="2920"/>
                </a:lnTo>
                <a:lnTo>
                  <a:pt x="518" y="2927"/>
                </a:lnTo>
                <a:lnTo>
                  <a:pt x="511" y="2927"/>
                </a:lnTo>
                <a:lnTo>
                  <a:pt x="504" y="2927"/>
                </a:lnTo>
                <a:lnTo>
                  <a:pt x="497" y="2934"/>
                </a:lnTo>
                <a:lnTo>
                  <a:pt x="483" y="2934"/>
                </a:lnTo>
                <a:lnTo>
                  <a:pt x="476" y="2941"/>
                </a:lnTo>
                <a:lnTo>
                  <a:pt x="469" y="2941"/>
                </a:lnTo>
                <a:lnTo>
                  <a:pt x="462" y="2941"/>
                </a:lnTo>
                <a:lnTo>
                  <a:pt x="456" y="2948"/>
                </a:lnTo>
                <a:lnTo>
                  <a:pt x="449" y="2948"/>
                </a:lnTo>
                <a:lnTo>
                  <a:pt x="442" y="2955"/>
                </a:lnTo>
                <a:lnTo>
                  <a:pt x="428" y="2955"/>
                </a:lnTo>
                <a:lnTo>
                  <a:pt x="421" y="2955"/>
                </a:lnTo>
                <a:lnTo>
                  <a:pt x="414" y="2962"/>
                </a:lnTo>
                <a:lnTo>
                  <a:pt x="407" y="2962"/>
                </a:lnTo>
                <a:lnTo>
                  <a:pt x="400" y="2969"/>
                </a:lnTo>
                <a:lnTo>
                  <a:pt x="393" y="2969"/>
                </a:lnTo>
                <a:lnTo>
                  <a:pt x="380" y="2969"/>
                </a:lnTo>
                <a:lnTo>
                  <a:pt x="373" y="2975"/>
                </a:lnTo>
                <a:lnTo>
                  <a:pt x="366" y="2982"/>
                </a:lnTo>
                <a:lnTo>
                  <a:pt x="359" y="2982"/>
                </a:lnTo>
                <a:lnTo>
                  <a:pt x="352" y="2982"/>
                </a:lnTo>
                <a:lnTo>
                  <a:pt x="345" y="2982"/>
                </a:lnTo>
                <a:lnTo>
                  <a:pt x="338" y="2969"/>
                </a:lnTo>
                <a:lnTo>
                  <a:pt x="331" y="2962"/>
                </a:lnTo>
                <a:close/>
                <a:moveTo>
                  <a:pt x="752" y="2142"/>
                </a:moveTo>
                <a:lnTo>
                  <a:pt x="759" y="2142"/>
                </a:lnTo>
                <a:lnTo>
                  <a:pt x="773" y="2142"/>
                </a:lnTo>
                <a:lnTo>
                  <a:pt x="780" y="2142"/>
                </a:lnTo>
                <a:lnTo>
                  <a:pt x="793" y="2142"/>
                </a:lnTo>
                <a:lnTo>
                  <a:pt x="800" y="2142"/>
                </a:lnTo>
                <a:lnTo>
                  <a:pt x="814" y="2142"/>
                </a:lnTo>
                <a:lnTo>
                  <a:pt x="821" y="2142"/>
                </a:lnTo>
                <a:lnTo>
                  <a:pt x="835" y="2142"/>
                </a:lnTo>
                <a:lnTo>
                  <a:pt x="849" y="2142"/>
                </a:lnTo>
                <a:lnTo>
                  <a:pt x="855" y="2142"/>
                </a:lnTo>
                <a:lnTo>
                  <a:pt x="849" y="2142"/>
                </a:lnTo>
                <a:lnTo>
                  <a:pt x="835" y="2142"/>
                </a:lnTo>
                <a:lnTo>
                  <a:pt x="821" y="2142"/>
                </a:lnTo>
                <a:lnTo>
                  <a:pt x="814" y="2142"/>
                </a:lnTo>
                <a:lnTo>
                  <a:pt x="800" y="2142"/>
                </a:lnTo>
                <a:lnTo>
                  <a:pt x="793" y="2142"/>
                </a:lnTo>
                <a:lnTo>
                  <a:pt x="780" y="2142"/>
                </a:lnTo>
                <a:lnTo>
                  <a:pt x="773" y="2142"/>
                </a:lnTo>
                <a:lnTo>
                  <a:pt x="759" y="2142"/>
                </a:lnTo>
                <a:lnTo>
                  <a:pt x="752" y="2142"/>
                </a:lnTo>
                <a:close/>
                <a:moveTo>
                  <a:pt x="924" y="2108"/>
                </a:moveTo>
                <a:lnTo>
                  <a:pt x="938" y="2108"/>
                </a:lnTo>
                <a:lnTo>
                  <a:pt x="945" y="2108"/>
                </a:lnTo>
                <a:lnTo>
                  <a:pt x="952" y="2108"/>
                </a:lnTo>
                <a:lnTo>
                  <a:pt x="959" y="2108"/>
                </a:lnTo>
                <a:lnTo>
                  <a:pt x="952" y="2108"/>
                </a:lnTo>
                <a:lnTo>
                  <a:pt x="945" y="2108"/>
                </a:lnTo>
                <a:lnTo>
                  <a:pt x="938" y="2108"/>
                </a:lnTo>
                <a:lnTo>
                  <a:pt x="924" y="2108"/>
                </a:lnTo>
                <a:close/>
                <a:moveTo>
                  <a:pt x="297" y="1667"/>
                </a:moveTo>
                <a:lnTo>
                  <a:pt x="304" y="1660"/>
                </a:lnTo>
                <a:lnTo>
                  <a:pt x="311" y="1653"/>
                </a:lnTo>
                <a:lnTo>
                  <a:pt x="311" y="1646"/>
                </a:lnTo>
                <a:lnTo>
                  <a:pt x="318" y="1632"/>
                </a:lnTo>
                <a:lnTo>
                  <a:pt x="318" y="1618"/>
                </a:lnTo>
                <a:lnTo>
                  <a:pt x="325" y="1612"/>
                </a:lnTo>
                <a:lnTo>
                  <a:pt x="325" y="1598"/>
                </a:lnTo>
                <a:lnTo>
                  <a:pt x="331" y="1591"/>
                </a:lnTo>
                <a:lnTo>
                  <a:pt x="338" y="1584"/>
                </a:lnTo>
                <a:lnTo>
                  <a:pt x="338" y="1570"/>
                </a:lnTo>
                <a:lnTo>
                  <a:pt x="345" y="1563"/>
                </a:lnTo>
                <a:lnTo>
                  <a:pt x="352" y="1550"/>
                </a:lnTo>
                <a:lnTo>
                  <a:pt x="352" y="1543"/>
                </a:lnTo>
                <a:lnTo>
                  <a:pt x="359" y="1529"/>
                </a:lnTo>
                <a:lnTo>
                  <a:pt x="359" y="1522"/>
                </a:lnTo>
                <a:lnTo>
                  <a:pt x="366" y="1508"/>
                </a:lnTo>
                <a:lnTo>
                  <a:pt x="366" y="1501"/>
                </a:lnTo>
                <a:lnTo>
                  <a:pt x="373" y="1488"/>
                </a:lnTo>
                <a:lnTo>
                  <a:pt x="380" y="1481"/>
                </a:lnTo>
                <a:lnTo>
                  <a:pt x="380" y="1467"/>
                </a:lnTo>
                <a:lnTo>
                  <a:pt x="387" y="1460"/>
                </a:lnTo>
                <a:lnTo>
                  <a:pt x="387" y="1446"/>
                </a:lnTo>
                <a:lnTo>
                  <a:pt x="393" y="1439"/>
                </a:lnTo>
                <a:lnTo>
                  <a:pt x="393" y="1426"/>
                </a:lnTo>
                <a:lnTo>
                  <a:pt x="400" y="1419"/>
                </a:lnTo>
                <a:lnTo>
                  <a:pt x="407" y="1405"/>
                </a:lnTo>
                <a:lnTo>
                  <a:pt x="407" y="1398"/>
                </a:lnTo>
                <a:lnTo>
                  <a:pt x="414" y="1384"/>
                </a:lnTo>
                <a:lnTo>
                  <a:pt x="414" y="1377"/>
                </a:lnTo>
                <a:lnTo>
                  <a:pt x="421" y="1364"/>
                </a:lnTo>
                <a:lnTo>
                  <a:pt x="421" y="1357"/>
                </a:lnTo>
                <a:lnTo>
                  <a:pt x="428" y="1343"/>
                </a:lnTo>
                <a:lnTo>
                  <a:pt x="428" y="1336"/>
                </a:lnTo>
                <a:lnTo>
                  <a:pt x="435" y="1322"/>
                </a:lnTo>
                <a:lnTo>
                  <a:pt x="442" y="1315"/>
                </a:lnTo>
                <a:lnTo>
                  <a:pt x="442" y="1302"/>
                </a:lnTo>
                <a:lnTo>
                  <a:pt x="442" y="1288"/>
                </a:lnTo>
                <a:lnTo>
                  <a:pt x="442" y="1274"/>
                </a:lnTo>
                <a:lnTo>
                  <a:pt x="435" y="1267"/>
                </a:lnTo>
                <a:lnTo>
                  <a:pt x="442" y="1253"/>
                </a:lnTo>
                <a:lnTo>
                  <a:pt x="449" y="1253"/>
                </a:lnTo>
                <a:lnTo>
                  <a:pt x="456" y="1246"/>
                </a:lnTo>
                <a:lnTo>
                  <a:pt x="462" y="1246"/>
                </a:lnTo>
                <a:lnTo>
                  <a:pt x="469" y="1246"/>
                </a:lnTo>
                <a:lnTo>
                  <a:pt x="476" y="1246"/>
                </a:lnTo>
                <a:lnTo>
                  <a:pt x="483" y="1246"/>
                </a:lnTo>
                <a:lnTo>
                  <a:pt x="490" y="1246"/>
                </a:lnTo>
                <a:lnTo>
                  <a:pt x="497" y="1246"/>
                </a:lnTo>
                <a:lnTo>
                  <a:pt x="504" y="1246"/>
                </a:lnTo>
                <a:lnTo>
                  <a:pt x="511" y="1246"/>
                </a:lnTo>
                <a:lnTo>
                  <a:pt x="518" y="1240"/>
                </a:lnTo>
                <a:lnTo>
                  <a:pt x="531" y="1233"/>
                </a:lnTo>
                <a:lnTo>
                  <a:pt x="538" y="1233"/>
                </a:lnTo>
                <a:lnTo>
                  <a:pt x="545" y="1226"/>
                </a:lnTo>
                <a:lnTo>
                  <a:pt x="552" y="1226"/>
                </a:lnTo>
                <a:lnTo>
                  <a:pt x="559" y="1233"/>
                </a:lnTo>
                <a:lnTo>
                  <a:pt x="566" y="1233"/>
                </a:lnTo>
                <a:lnTo>
                  <a:pt x="573" y="1240"/>
                </a:lnTo>
                <a:lnTo>
                  <a:pt x="580" y="1246"/>
                </a:lnTo>
                <a:lnTo>
                  <a:pt x="587" y="1246"/>
                </a:lnTo>
                <a:lnTo>
                  <a:pt x="593" y="1246"/>
                </a:lnTo>
                <a:lnTo>
                  <a:pt x="600" y="1240"/>
                </a:lnTo>
                <a:lnTo>
                  <a:pt x="607" y="1240"/>
                </a:lnTo>
                <a:lnTo>
                  <a:pt x="614" y="1233"/>
                </a:lnTo>
                <a:lnTo>
                  <a:pt x="621" y="1233"/>
                </a:lnTo>
                <a:lnTo>
                  <a:pt x="628" y="1233"/>
                </a:lnTo>
                <a:lnTo>
                  <a:pt x="635" y="1233"/>
                </a:lnTo>
                <a:lnTo>
                  <a:pt x="649" y="1226"/>
                </a:lnTo>
                <a:lnTo>
                  <a:pt x="656" y="1226"/>
                </a:lnTo>
                <a:lnTo>
                  <a:pt x="662" y="1226"/>
                </a:lnTo>
                <a:lnTo>
                  <a:pt x="669" y="1219"/>
                </a:lnTo>
                <a:lnTo>
                  <a:pt x="676" y="1219"/>
                </a:lnTo>
                <a:lnTo>
                  <a:pt x="683" y="1219"/>
                </a:lnTo>
                <a:lnTo>
                  <a:pt x="690" y="1219"/>
                </a:lnTo>
                <a:lnTo>
                  <a:pt x="697" y="1212"/>
                </a:lnTo>
                <a:lnTo>
                  <a:pt x="704" y="1212"/>
                </a:lnTo>
                <a:lnTo>
                  <a:pt x="711" y="1212"/>
                </a:lnTo>
                <a:lnTo>
                  <a:pt x="718" y="1212"/>
                </a:lnTo>
                <a:lnTo>
                  <a:pt x="724" y="1205"/>
                </a:lnTo>
                <a:lnTo>
                  <a:pt x="731" y="1205"/>
                </a:lnTo>
                <a:lnTo>
                  <a:pt x="745" y="1205"/>
                </a:lnTo>
                <a:lnTo>
                  <a:pt x="752" y="1205"/>
                </a:lnTo>
                <a:lnTo>
                  <a:pt x="759" y="1198"/>
                </a:lnTo>
                <a:lnTo>
                  <a:pt x="766" y="1198"/>
                </a:lnTo>
                <a:lnTo>
                  <a:pt x="773" y="1198"/>
                </a:lnTo>
                <a:lnTo>
                  <a:pt x="780" y="1198"/>
                </a:lnTo>
                <a:lnTo>
                  <a:pt x="787" y="1205"/>
                </a:lnTo>
                <a:lnTo>
                  <a:pt x="787" y="1219"/>
                </a:lnTo>
                <a:lnTo>
                  <a:pt x="793" y="1233"/>
                </a:lnTo>
                <a:lnTo>
                  <a:pt x="793" y="1240"/>
                </a:lnTo>
                <a:lnTo>
                  <a:pt x="800" y="1253"/>
                </a:lnTo>
                <a:lnTo>
                  <a:pt x="800" y="1267"/>
                </a:lnTo>
                <a:lnTo>
                  <a:pt x="807" y="1274"/>
                </a:lnTo>
                <a:lnTo>
                  <a:pt x="807" y="1288"/>
                </a:lnTo>
                <a:lnTo>
                  <a:pt x="807" y="1302"/>
                </a:lnTo>
                <a:lnTo>
                  <a:pt x="814" y="1308"/>
                </a:lnTo>
                <a:lnTo>
                  <a:pt x="814" y="1322"/>
                </a:lnTo>
                <a:lnTo>
                  <a:pt x="821" y="1329"/>
                </a:lnTo>
                <a:lnTo>
                  <a:pt x="828" y="1336"/>
                </a:lnTo>
                <a:lnTo>
                  <a:pt x="828" y="1350"/>
                </a:lnTo>
                <a:lnTo>
                  <a:pt x="835" y="1357"/>
                </a:lnTo>
                <a:lnTo>
                  <a:pt x="842" y="1364"/>
                </a:lnTo>
                <a:lnTo>
                  <a:pt x="849" y="1377"/>
                </a:lnTo>
                <a:lnTo>
                  <a:pt x="849" y="1384"/>
                </a:lnTo>
                <a:lnTo>
                  <a:pt x="855" y="1391"/>
                </a:lnTo>
                <a:lnTo>
                  <a:pt x="862" y="1405"/>
                </a:lnTo>
                <a:lnTo>
                  <a:pt x="862" y="1419"/>
                </a:lnTo>
                <a:lnTo>
                  <a:pt x="855" y="1426"/>
                </a:lnTo>
                <a:lnTo>
                  <a:pt x="849" y="1432"/>
                </a:lnTo>
                <a:lnTo>
                  <a:pt x="842" y="1439"/>
                </a:lnTo>
                <a:lnTo>
                  <a:pt x="835" y="1439"/>
                </a:lnTo>
                <a:lnTo>
                  <a:pt x="828" y="1446"/>
                </a:lnTo>
                <a:lnTo>
                  <a:pt x="821" y="1446"/>
                </a:lnTo>
                <a:lnTo>
                  <a:pt x="814" y="1453"/>
                </a:lnTo>
                <a:lnTo>
                  <a:pt x="807" y="1460"/>
                </a:lnTo>
                <a:lnTo>
                  <a:pt x="800" y="1460"/>
                </a:lnTo>
                <a:lnTo>
                  <a:pt x="793" y="1467"/>
                </a:lnTo>
                <a:lnTo>
                  <a:pt x="787" y="1474"/>
                </a:lnTo>
                <a:lnTo>
                  <a:pt x="780" y="1474"/>
                </a:lnTo>
                <a:lnTo>
                  <a:pt x="773" y="1481"/>
                </a:lnTo>
                <a:lnTo>
                  <a:pt x="766" y="1488"/>
                </a:lnTo>
                <a:lnTo>
                  <a:pt x="759" y="1488"/>
                </a:lnTo>
                <a:lnTo>
                  <a:pt x="752" y="1494"/>
                </a:lnTo>
                <a:lnTo>
                  <a:pt x="745" y="1494"/>
                </a:lnTo>
                <a:lnTo>
                  <a:pt x="738" y="1501"/>
                </a:lnTo>
                <a:lnTo>
                  <a:pt x="731" y="1508"/>
                </a:lnTo>
                <a:lnTo>
                  <a:pt x="724" y="1508"/>
                </a:lnTo>
                <a:lnTo>
                  <a:pt x="718" y="1515"/>
                </a:lnTo>
                <a:lnTo>
                  <a:pt x="711" y="1515"/>
                </a:lnTo>
                <a:lnTo>
                  <a:pt x="704" y="1522"/>
                </a:lnTo>
                <a:lnTo>
                  <a:pt x="697" y="1522"/>
                </a:lnTo>
                <a:lnTo>
                  <a:pt x="690" y="1529"/>
                </a:lnTo>
                <a:lnTo>
                  <a:pt x="683" y="1536"/>
                </a:lnTo>
                <a:lnTo>
                  <a:pt x="676" y="1536"/>
                </a:lnTo>
                <a:lnTo>
                  <a:pt x="662" y="1543"/>
                </a:lnTo>
                <a:lnTo>
                  <a:pt x="656" y="1543"/>
                </a:lnTo>
                <a:lnTo>
                  <a:pt x="649" y="1550"/>
                </a:lnTo>
                <a:lnTo>
                  <a:pt x="649" y="1556"/>
                </a:lnTo>
                <a:lnTo>
                  <a:pt x="642" y="1570"/>
                </a:lnTo>
                <a:lnTo>
                  <a:pt x="635" y="1577"/>
                </a:lnTo>
                <a:lnTo>
                  <a:pt x="628" y="1584"/>
                </a:lnTo>
                <a:lnTo>
                  <a:pt x="628" y="1598"/>
                </a:lnTo>
                <a:lnTo>
                  <a:pt x="621" y="1605"/>
                </a:lnTo>
                <a:lnTo>
                  <a:pt x="614" y="1612"/>
                </a:lnTo>
                <a:lnTo>
                  <a:pt x="614" y="1625"/>
                </a:lnTo>
                <a:lnTo>
                  <a:pt x="607" y="1632"/>
                </a:lnTo>
                <a:lnTo>
                  <a:pt x="600" y="1639"/>
                </a:lnTo>
                <a:lnTo>
                  <a:pt x="593" y="1646"/>
                </a:lnTo>
                <a:lnTo>
                  <a:pt x="587" y="1653"/>
                </a:lnTo>
                <a:lnTo>
                  <a:pt x="580" y="1660"/>
                </a:lnTo>
                <a:lnTo>
                  <a:pt x="573" y="1660"/>
                </a:lnTo>
                <a:lnTo>
                  <a:pt x="566" y="1667"/>
                </a:lnTo>
                <a:lnTo>
                  <a:pt x="559" y="1667"/>
                </a:lnTo>
                <a:lnTo>
                  <a:pt x="552" y="1674"/>
                </a:lnTo>
                <a:lnTo>
                  <a:pt x="545" y="1674"/>
                </a:lnTo>
                <a:lnTo>
                  <a:pt x="538" y="1680"/>
                </a:lnTo>
                <a:lnTo>
                  <a:pt x="531" y="1680"/>
                </a:lnTo>
                <a:lnTo>
                  <a:pt x="524" y="1687"/>
                </a:lnTo>
                <a:lnTo>
                  <a:pt x="518" y="1687"/>
                </a:lnTo>
                <a:lnTo>
                  <a:pt x="511" y="1694"/>
                </a:lnTo>
                <a:lnTo>
                  <a:pt x="497" y="1694"/>
                </a:lnTo>
                <a:lnTo>
                  <a:pt x="490" y="1694"/>
                </a:lnTo>
                <a:lnTo>
                  <a:pt x="483" y="1694"/>
                </a:lnTo>
                <a:lnTo>
                  <a:pt x="476" y="1694"/>
                </a:lnTo>
                <a:lnTo>
                  <a:pt x="469" y="1694"/>
                </a:lnTo>
                <a:lnTo>
                  <a:pt x="462" y="1694"/>
                </a:lnTo>
                <a:lnTo>
                  <a:pt x="456" y="1694"/>
                </a:lnTo>
                <a:lnTo>
                  <a:pt x="449" y="1694"/>
                </a:lnTo>
                <a:lnTo>
                  <a:pt x="442" y="1694"/>
                </a:lnTo>
                <a:lnTo>
                  <a:pt x="435" y="1694"/>
                </a:lnTo>
                <a:lnTo>
                  <a:pt x="428" y="1694"/>
                </a:lnTo>
                <a:lnTo>
                  <a:pt x="414" y="1694"/>
                </a:lnTo>
                <a:lnTo>
                  <a:pt x="407" y="1694"/>
                </a:lnTo>
                <a:lnTo>
                  <a:pt x="400" y="1694"/>
                </a:lnTo>
                <a:lnTo>
                  <a:pt x="393" y="1694"/>
                </a:lnTo>
                <a:lnTo>
                  <a:pt x="387" y="1694"/>
                </a:lnTo>
                <a:lnTo>
                  <a:pt x="380" y="1687"/>
                </a:lnTo>
                <a:lnTo>
                  <a:pt x="373" y="1687"/>
                </a:lnTo>
                <a:lnTo>
                  <a:pt x="366" y="1687"/>
                </a:lnTo>
                <a:lnTo>
                  <a:pt x="359" y="1687"/>
                </a:lnTo>
                <a:lnTo>
                  <a:pt x="352" y="1687"/>
                </a:lnTo>
                <a:lnTo>
                  <a:pt x="338" y="1687"/>
                </a:lnTo>
                <a:lnTo>
                  <a:pt x="331" y="1687"/>
                </a:lnTo>
                <a:lnTo>
                  <a:pt x="325" y="1680"/>
                </a:lnTo>
                <a:lnTo>
                  <a:pt x="318" y="1680"/>
                </a:lnTo>
                <a:lnTo>
                  <a:pt x="311" y="1674"/>
                </a:lnTo>
                <a:lnTo>
                  <a:pt x="304" y="1674"/>
                </a:lnTo>
                <a:lnTo>
                  <a:pt x="297" y="1667"/>
                </a:lnTo>
                <a:close/>
                <a:moveTo>
                  <a:pt x="718" y="916"/>
                </a:moveTo>
                <a:lnTo>
                  <a:pt x="718" y="902"/>
                </a:lnTo>
                <a:lnTo>
                  <a:pt x="718" y="888"/>
                </a:lnTo>
                <a:lnTo>
                  <a:pt x="724" y="874"/>
                </a:lnTo>
                <a:lnTo>
                  <a:pt x="731" y="868"/>
                </a:lnTo>
                <a:lnTo>
                  <a:pt x="738" y="861"/>
                </a:lnTo>
                <a:lnTo>
                  <a:pt x="745" y="854"/>
                </a:lnTo>
                <a:lnTo>
                  <a:pt x="759" y="847"/>
                </a:lnTo>
                <a:lnTo>
                  <a:pt x="766" y="833"/>
                </a:lnTo>
                <a:lnTo>
                  <a:pt x="773" y="826"/>
                </a:lnTo>
                <a:lnTo>
                  <a:pt x="780" y="819"/>
                </a:lnTo>
                <a:lnTo>
                  <a:pt x="793" y="819"/>
                </a:lnTo>
                <a:lnTo>
                  <a:pt x="800" y="819"/>
                </a:lnTo>
                <a:lnTo>
                  <a:pt x="814" y="819"/>
                </a:lnTo>
                <a:lnTo>
                  <a:pt x="821" y="819"/>
                </a:lnTo>
                <a:lnTo>
                  <a:pt x="821" y="799"/>
                </a:lnTo>
                <a:lnTo>
                  <a:pt x="821" y="785"/>
                </a:lnTo>
                <a:lnTo>
                  <a:pt x="814" y="771"/>
                </a:lnTo>
                <a:lnTo>
                  <a:pt x="807" y="757"/>
                </a:lnTo>
                <a:lnTo>
                  <a:pt x="800" y="751"/>
                </a:lnTo>
                <a:lnTo>
                  <a:pt x="800" y="737"/>
                </a:lnTo>
                <a:lnTo>
                  <a:pt x="793" y="723"/>
                </a:lnTo>
                <a:lnTo>
                  <a:pt x="787" y="716"/>
                </a:lnTo>
                <a:lnTo>
                  <a:pt x="780" y="702"/>
                </a:lnTo>
                <a:lnTo>
                  <a:pt x="773" y="689"/>
                </a:lnTo>
                <a:lnTo>
                  <a:pt x="766" y="675"/>
                </a:lnTo>
                <a:lnTo>
                  <a:pt x="766" y="661"/>
                </a:lnTo>
                <a:lnTo>
                  <a:pt x="766" y="647"/>
                </a:lnTo>
                <a:lnTo>
                  <a:pt x="773" y="633"/>
                </a:lnTo>
                <a:lnTo>
                  <a:pt x="787" y="627"/>
                </a:lnTo>
                <a:lnTo>
                  <a:pt x="793" y="613"/>
                </a:lnTo>
                <a:lnTo>
                  <a:pt x="800" y="606"/>
                </a:lnTo>
                <a:lnTo>
                  <a:pt x="807" y="592"/>
                </a:lnTo>
                <a:lnTo>
                  <a:pt x="814" y="585"/>
                </a:lnTo>
                <a:lnTo>
                  <a:pt x="821" y="571"/>
                </a:lnTo>
                <a:lnTo>
                  <a:pt x="828" y="565"/>
                </a:lnTo>
                <a:lnTo>
                  <a:pt x="842" y="565"/>
                </a:lnTo>
                <a:lnTo>
                  <a:pt x="849" y="565"/>
                </a:lnTo>
                <a:lnTo>
                  <a:pt x="855" y="565"/>
                </a:lnTo>
                <a:lnTo>
                  <a:pt x="869" y="558"/>
                </a:lnTo>
                <a:lnTo>
                  <a:pt x="876" y="558"/>
                </a:lnTo>
                <a:lnTo>
                  <a:pt x="890" y="558"/>
                </a:lnTo>
                <a:lnTo>
                  <a:pt x="897" y="551"/>
                </a:lnTo>
                <a:lnTo>
                  <a:pt x="904" y="551"/>
                </a:lnTo>
                <a:lnTo>
                  <a:pt x="918" y="544"/>
                </a:lnTo>
                <a:lnTo>
                  <a:pt x="924" y="544"/>
                </a:lnTo>
                <a:lnTo>
                  <a:pt x="938" y="544"/>
                </a:lnTo>
                <a:lnTo>
                  <a:pt x="945" y="537"/>
                </a:lnTo>
                <a:lnTo>
                  <a:pt x="952" y="537"/>
                </a:lnTo>
                <a:lnTo>
                  <a:pt x="966" y="537"/>
                </a:lnTo>
                <a:lnTo>
                  <a:pt x="973" y="537"/>
                </a:lnTo>
                <a:lnTo>
                  <a:pt x="986" y="537"/>
                </a:lnTo>
                <a:lnTo>
                  <a:pt x="993" y="537"/>
                </a:lnTo>
                <a:lnTo>
                  <a:pt x="1007" y="544"/>
                </a:lnTo>
                <a:lnTo>
                  <a:pt x="1014" y="544"/>
                </a:lnTo>
                <a:lnTo>
                  <a:pt x="1021" y="544"/>
                </a:lnTo>
                <a:lnTo>
                  <a:pt x="1035" y="551"/>
                </a:lnTo>
                <a:lnTo>
                  <a:pt x="1042" y="565"/>
                </a:lnTo>
                <a:lnTo>
                  <a:pt x="1049" y="571"/>
                </a:lnTo>
                <a:lnTo>
                  <a:pt x="1055" y="578"/>
                </a:lnTo>
                <a:lnTo>
                  <a:pt x="1069" y="578"/>
                </a:lnTo>
                <a:lnTo>
                  <a:pt x="1076" y="585"/>
                </a:lnTo>
                <a:lnTo>
                  <a:pt x="1083" y="578"/>
                </a:lnTo>
                <a:lnTo>
                  <a:pt x="1097" y="578"/>
                </a:lnTo>
                <a:lnTo>
                  <a:pt x="1104" y="578"/>
                </a:lnTo>
                <a:lnTo>
                  <a:pt x="1117" y="578"/>
                </a:lnTo>
                <a:lnTo>
                  <a:pt x="1124" y="578"/>
                </a:lnTo>
                <a:lnTo>
                  <a:pt x="1131" y="585"/>
                </a:lnTo>
                <a:lnTo>
                  <a:pt x="1145" y="592"/>
                </a:lnTo>
                <a:lnTo>
                  <a:pt x="1152" y="599"/>
                </a:lnTo>
                <a:lnTo>
                  <a:pt x="1159" y="613"/>
                </a:lnTo>
                <a:lnTo>
                  <a:pt x="1166" y="613"/>
                </a:lnTo>
                <a:lnTo>
                  <a:pt x="1180" y="620"/>
                </a:lnTo>
                <a:lnTo>
                  <a:pt x="1186" y="613"/>
                </a:lnTo>
                <a:lnTo>
                  <a:pt x="1200" y="613"/>
                </a:lnTo>
                <a:lnTo>
                  <a:pt x="1207" y="606"/>
                </a:lnTo>
                <a:lnTo>
                  <a:pt x="1221" y="606"/>
                </a:lnTo>
                <a:lnTo>
                  <a:pt x="1228" y="613"/>
                </a:lnTo>
                <a:lnTo>
                  <a:pt x="1235" y="620"/>
                </a:lnTo>
                <a:lnTo>
                  <a:pt x="1235" y="640"/>
                </a:lnTo>
                <a:lnTo>
                  <a:pt x="1228" y="647"/>
                </a:lnTo>
                <a:lnTo>
                  <a:pt x="1221" y="654"/>
                </a:lnTo>
                <a:lnTo>
                  <a:pt x="1207" y="647"/>
                </a:lnTo>
                <a:lnTo>
                  <a:pt x="1193" y="647"/>
                </a:lnTo>
                <a:lnTo>
                  <a:pt x="1186" y="647"/>
                </a:lnTo>
                <a:lnTo>
                  <a:pt x="1180" y="654"/>
                </a:lnTo>
                <a:lnTo>
                  <a:pt x="1173" y="668"/>
                </a:lnTo>
                <a:lnTo>
                  <a:pt x="1166" y="682"/>
                </a:lnTo>
                <a:lnTo>
                  <a:pt x="1152" y="689"/>
                </a:lnTo>
                <a:lnTo>
                  <a:pt x="1145" y="702"/>
                </a:lnTo>
                <a:lnTo>
                  <a:pt x="1138" y="709"/>
                </a:lnTo>
                <a:lnTo>
                  <a:pt x="1131" y="716"/>
                </a:lnTo>
                <a:lnTo>
                  <a:pt x="1117" y="716"/>
                </a:lnTo>
                <a:lnTo>
                  <a:pt x="1111" y="716"/>
                </a:lnTo>
                <a:lnTo>
                  <a:pt x="1104" y="716"/>
                </a:lnTo>
                <a:lnTo>
                  <a:pt x="1090" y="716"/>
                </a:lnTo>
                <a:lnTo>
                  <a:pt x="1083" y="723"/>
                </a:lnTo>
                <a:lnTo>
                  <a:pt x="1076" y="730"/>
                </a:lnTo>
                <a:lnTo>
                  <a:pt x="1069" y="737"/>
                </a:lnTo>
                <a:lnTo>
                  <a:pt x="1055" y="751"/>
                </a:lnTo>
                <a:lnTo>
                  <a:pt x="1049" y="757"/>
                </a:lnTo>
                <a:lnTo>
                  <a:pt x="1042" y="771"/>
                </a:lnTo>
                <a:lnTo>
                  <a:pt x="1035" y="778"/>
                </a:lnTo>
                <a:lnTo>
                  <a:pt x="1028" y="785"/>
                </a:lnTo>
                <a:lnTo>
                  <a:pt x="1014" y="785"/>
                </a:lnTo>
                <a:lnTo>
                  <a:pt x="1007" y="785"/>
                </a:lnTo>
                <a:lnTo>
                  <a:pt x="993" y="785"/>
                </a:lnTo>
                <a:lnTo>
                  <a:pt x="986" y="785"/>
                </a:lnTo>
                <a:lnTo>
                  <a:pt x="980" y="792"/>
                </a:lnTo>
                <a:lnTo>
                  <a:pt x="973" y="799"/>
                </a:lnTo>
                <a:lnTo>
                  <a:pt x="959" y="812"/>
                </a:lnTo>
                <a:lnTo>
                  <a:pt x="952" y="819"/>
                </a:lnTo>
                <a:lnTo>
                  <a:pt x="945" y="833"/>
                </a:lnTo>
                <a:lnTo>
                  <a:pt x="938" y="840"/>
                </a:lnTo>
                <a:lnTo>
                  <a:pt x="931" y="847"/>
                </a:lnTo>
                <a:lnTo>
                  <a:pt x="918" y="854"/>
                </a:lnTo>
                <a:lnTo>
                  <a:pt x="911" y="854"/>
                </a:lnTo>
                <a:lnTo>
                  <a:pt x="904" y="854"/>
                </a:lnTo>
                <a:lnTo>
                  <a:pt x="890" y="854"/>
                </a:lnTo>
                <a:lnTo>
                  <a:pt x="883" y="847"/>
                </a:lnTo>
                <a:lnTo>
                  <a:pt x="869" y="847"/>
                </a:lnTo>
                <a:lnTo>
                  <a:pt x="862" y="847"/>
                </a:lnTo>
                <a:lnTo>
                  <a:pt x="849" y="854"/>
                </a:lnTo>
                <a:lnTo>
                  <a:pt x="842" y="861"/>
                </a:lnTo>
                <a:lnTo>
                  <a:pt x="835" y="868"/>
                </a:lnTo>
                <a:lnTo>
                  <a:pt x="828" y="881"/>
                </a:lnTo>
                <a:lnTo>
                  <a:pt x="821" y="888"/>
                </a:lnTo>
                <a:lnTo>
                  <a:pt x="807" y="888"/>
                </a:lnTo>
                <a:lnTo>
                  <a:pt x="800" y="881"/>
                </a:lnTo>
                <a:lnTo>
                  <a:pt x="787" y="881"/>
                </a:lnTo>
                <a:lnTo>
                  <a:pt x="780" y="888"/>
                </a:lnTo>
                <a:lnTo>
                  <a:pt x="773" y="895"/>
                </a:lnTo>
                <a:lnTo>
                  <a:pt x="766" y="909"/>
                </a:lnTo>
                <a:lnTo>
                  <a:pt x="759" y="916"/>
                </a:lnTo>
                <a:lnTo>
                  <a:pt x="745" y="923"/>
                </a:lnTo>
                <a:lnTo>
                  <a:pt x="738" y="923"/>
                </a:lnTo>
                <a:lnTo>
                  <a:pt x="724" y="923"/>
                </a:lnTo>
                <a:lnTo>
                  <a:pt x="718" y="916"/>
                </a:lnTo>
                <a:close/>
                <a:moveTo>
                  <a:pt x="1359" y="716"/>
                </a:moveTo>
                <a:lnTo>
                  <a:pt x="1359" y="709"/>
                </a:lnTo>
                <a:lnTo>
                  <a:pt x="1352" y="695"/>
                </a:lnTo>
                <a:lnTo>
                  <a:pt x="1352" y="695"/>
                </a:lnTo>
                <a:lnTo>
                  <a:pt x="1345" y="689"/>
                </a:lnTo>
                <a:lnTo>
                  <a:pt x="1338" y="682"/>
                </a:lnTo>
                <a:lnTo>
                  <a:pt x="1331" y="675"/>
                </a:lnTo>
                <a:lnTo>
                  <a:pt x="1324" y="675"/>
                </a:lnTo>
                <a:lnTo>
                  <a:pt x="1324" y="668"/>
                </a:lnTo>
                <a:lnTo>
                  <a:pt x="1317" y="668"/>
                </a:lnTo>
                <a:lnTo>
                  <a:pt x="1311" y="661"/>
                </a:lnTo>
                <a:lnTo>
                  <a:pt x="1304" y="654"/>
                </a:lnTo>
                <a:lnTo>
                  <a:pt x="1304" y="647"/>
                </a:lnTo>
                <a:lnTo>
                  <a:pt x="1297" y="633"/>
                </a:lnTo>
                <a:lnTo>
                  <a:pt x="1297" y="627"/>
                </a:lnTo>
                <a:lnTo>
                  <a:pt x="1297" y="620"/>
                </a:lnTo>
                <a:lnTo>
                  <a:pt x="1304" y="606"/>
                </a:lnTo>
                <a:lnTo>
                  <a:pt x="1304" y="606"/>
                </a:lnTo>
                <a:lnTo>
                  <a:pt x="1311" y="599"/>
                </a:lnTo>
                <a:lnTo>
                  <a:pt x="1317" y="592"/>
                </a:lnTo>
                <a:lnTo>
                  <a:pt x="1324" y="592"/>
                </a:lnTo>
                <a:lnTo>
                  <a:pt x="1331" y="585"/>
                </a:lnTo>
                <a:lnTo>
                  <a:pt x="1338" y="585"/>
                </a:lnTo>
                <a:lnTo>
                  <a:pt x="1338" y="578"/>
                </a:lnTo>
                <a:lnTo>
                  <a:pt x="1345" y="571"/>
                </a:lnTo>
                <a:lnTo>
                  <a:pt x="1352" y="571"/>
                </a:lnTo>
                <a:lnTo>
                  <a:pt x="1359" y="565"/>
                </a:lnTo>
                <a:lnTo>
                  <a:pt x="1359" y="558"/>
                </a:lnTo>
                <a:lnTo>
                  <a:pt x="1366" y="558"/>
                </a:lnTo>
                <a:lnTo>
                  <a:pt x="1373" y="558"/>
                </a:lnTo>
                <a:lnTo>
                  <a:pt x="1379" y="558"/>
                </a:lnTo>
                <a:lnTo>
                  <a:pt x="1386" y="551"/>
                </a:lnTo>
                <a:lnTo>
                  <a:pt x="1393" y="551"/>
                </a:lnTo>
                <a:lnTo>
                  <a:pt x="1400" y="544"/>
                </a:lnTo>
                <a:lnTo>
                  <a:pt x="1400" y="544"/>
                </a:lnTo>
                <a:lnTo>
                  <a:pt x="1407" y="558"/>
                </a:lnTo>
                <a:lnTo>
                  <a:pt x="1407" y="565"/>
                </a:lnTo>
                <a:lnTo>
                  <a:pt x="1400" y="578"/>
                </a:lnTo>
                <a:lnTo>
                  <a:pt x="1400" y="585"/>
                </a:lnTo>
                <a:lnTo>
                  <a:pt x="1400" y="592"/>
                </a:lnTo>
                <a:lnTo>
                  <a:pt x="1407" y="606"/>
                </a:lnTo>
                <a:lnTo>
                  <a:pt x="1407" y="613"/>
                </a:lnTo>
                <a:lnTo>
                  <a:pt x="1407" y="627"/>
                </a:lnTo>
                <a:lnTo>
                  <a:pt x="1407" y="633"/>
                </a:lnTo>
                <a:lnTo>
                  <a:pt x="1407" y="640"/>
                </a:lnTo>
                <a:lnTo>
                  <a:pt x="1407" y="654"/>
                </a:lnTo>
                <a:lnTo>
                  <a:pt x="1400" y="661"/>
                </a:lnTo>
                <a:lnTo>
                  <a:pt x="1400" y="668"/>
                </a:lnTo>
                <a:lnTo>
                  <a:pt x="1400" y="675"/>
                </a:lnTo>
                <a:lnTo>
                  <a:pt x="1400" y="689"/>
                </a:lnTo>
                <a:lnTo>
                  <a:pt x="1393" y="695"/>
                </a:lnTo>
                <a:lnTo>
                  <a:pt x="1386" y="702"/>
                </a:lnTo>
                <a:lnTo>
                  <a:pt x="1386" y="709"/>
                </a:lnTo>
                <a:lnTo>
                  <a:pt x="1379" y="716"/>
                </a:lnTo>
                <a:lnTo>
                  <a:pt x="1373" y="716"/>
                </a:lnTo>
                <a:lnTo>
                  <a:pt x="1366" y="716"/>
                </a:lnTo>
                <a:lnTo>
                  <a:pt x="1359" y="716"/>
                </a:lnTo>
                <a:close/>
                <a:moveTo>
                  <a:pt x="718" y="3299"/>
                </a:moveTo>
                <a:lnTo>
                  <a:pt x="752" y="3265"/>
                </a:lnTo>
                <a:lnTo>
                  <a:pt x="787" y="3265"/>
                </a:lnTo>
                <a:lnTo>
                  <a:pt x="821" y="3265"/>
                </a:lnTo>
                <a:lnTo>
                  <a:pt x="855" y="3230"/>
                </a:lnTo>
                <a:lnTo>
                  <a:pt x="890" y="3230"/>
                </a:lnTo>
                <a:lnTo>
                  <a:pt x="924" y="3230"/>
                </a:lnTo>
                <a:lnTo>
                  <a:pt x="959" y="3196"/>
                </a:lnTo>
                <a:lnTo>
                  <a:pt x="993" y="3196"/>
                </a:lnTo>
                <a:lnTo>
                  <a:pt x="1028" y="3196"/>
                </a:lnTo>
                <a:lnTo>
                  <a:pt x="1062" y="3161"/>
                </a:lnTo>
                <a:lnTo>
                  <a:pt x="1090" y="3161"/>
                </a:lnTo>
                <a:lnTo>
                  <a:pt x="1090" y="3127"/>
                </a:lnTo>
                <a:lnTo>
                  <a:pt x="1124" y="3093"/>
                </a:lnTo>
                <a:lnTo>
                  <a:pt x="1124" y="3058"/>
                </a:lnTo>
                <a:lnTo>
                  <a:pt x="1159" y="3024"/>
                </a:lnTo>
                <a:lnTo>
                  <a:pt x="1159" y="2996"/>
                </a:lnTo>
                <a:lnTo>
                  <a:pt x="1193" y="2962"/>
                </a:lnTo>
                <a:lnTo>
                  <a:pt x="1193" y="2927"/>
                </a:lnTo>
                <a:lnTo>
                  <a:pt x="1228" y="2893"/>
                </a:lnTo>
                <a:lnTo>
                  <a:pt x="1228" y="2858"/>
                </a:lnTo>
                <a:lnTo>
                  <a:pt x="1262" y="2824"/>
                </a:lnTo>
                <a:lnTo>
                  <a:pt x="1262" y="2789"/>
                </a:lnTo>
                <a:lnTo>
                  <a:pt x="1297" y="2755"/>
                </a:lnTo>
                <a:lnTo>
                  <a:pt x="1297" y="2721"/>
                </a:lnTo>
                <a:lnTo>
                  <a:pt x="1331" y="2686"/>
                </a:lnTo>
                <a:lnTo>
                  <a:pt x="1331" y="2652"/>
                </a:lnTo>
                <a:lnTo>
                  <a:pt x="1366" y="2617"/>
                </a:lnTo>
                <a:lnTo>
                  <a:pt x="1366" y="2583"/>
                </a:lnTo>
                <a:lnTo>
                  <a:pt x="1400" y="2548"/>
                </a:lnTo>
                <a:lnTo>
                  <a:pt x="1400" y="2514"/>
                </a:lnTo>
                <a:lnTo>
                  <a:pt x="1435" y="2480"/>
                </a:lnTo>
                <a:lnTo>
                  <a:pt x="1435" y="2452"/>
                </a:lnTo>
                <a:lnTo>
                  <a:pt x="1469" y="2418"/>
                </a:lnTo>
                <a:lnTo>
                  <a:pt x="1469" y="2383"/>
                </a:lnTo>
                <a:lnTo>
                  <a:pt x="1504" y="2349"/>
                </a:lnTo>
                <a:lnTo>
                  <a:pt x="1504" y="2314"/>
                </a:lnTo>
                <a:lnTo>
                  <a:pt x="1538" y="2280"/>
                </a:lnTo>
                <a:lnTo>
                  <a:pt x="1538" y="2245"/>
                </a:lnTo>
                <a:lnTo>
                  <a:pt x="1573" y="2211"/>
                </a:lnTo>
                <a:lnTo>
                  <a:pt x="1573" y="2176"/>
                </a:lnTo>
                <a:lnTo>
                  <a:pt x="1607" y="2142"/>
                </a:lnTo>
                <a:lnTo>
                  <a:pt x="1607" y="2108"/>
                </a:lnTo>
                <a:lnTo>
                  <a:pt x="1641" y="2073"/>
                </a:lnTo>
                <a:lnTo>
                  <a:pt x="1641" y="2039"/>
                </a:lnTo>
                <a:lnTo>
                  <a:pt x="1676" y="2004"/>
                </a:lnTo>
                <a:lnTo>
                  <a:pt x="1676" y="1970"/>
                </a:lnTo>
                <a:lnTo>
                  <a:pt x="1710" y="1935"/>
                </a:lnTo>
                <a:lnTo>
                  <a:pt x="1710" y="1908"/>
                </a:lnTo>
                <a:lnTo>
                  <a:pt x="1745" y="1873"/>
                </a:lnTo>
                <a:lnTo>
                  <a:pt x="1745" y="1866"/>
                </a:lnTo>
                <a:lnTo>
                  <a:pt x="1738" y="1866"/>
                </a:lnTo>
                <a:lnTo>
                  <a:pt x="1731" y="1866"/>
                </a:lnTo>
                <a:lnTo>
                  <a:pt x="1724" y="1860"/>
                </a:lnTo>
                <a:lnTo>
                  <a:pt x="1717" y="1860"/>
                </a:lnTo>
                <a:lnTo>
                  <a:pt x="1710" y="1853"/>
                </a:lnTo>
                <a:lnTo>
                  <a:pt x="1704" y="1853"/>
                </a:lnTo>
                <a:lnTo>
                  <a:pt x="1697" y="1853"/>
                </a:lnTo>
                <a:lnTo>
                  <a:pt x="1690" y="1846"/>
                </a:lnTo>
                <a:lnTo>
                  <a:pt x="1683" y="1839"/>
                </a:lnTo>
                <a:lnTo>
                  <a:pt x="1676" y="1832"/>
                </a:lnTo>
                <a:lnTo>
                  <a:pt x="1676" y="1825"/>
                </a:lnTo>
                <a:lnTo>
                  <a:pt x="1669" y="1818"/>
                </a:lnTo>
                <a:lnTo>
                  <a:pt x="1662" y="1825"/>
                </a:lnTo>
                <a:lnTo>
                  <a:pt x="1655" y="1825"/>
                </a:lnTo>
                <a:lnTo>
                  <a:pt x="1648" y="1832"/>
                </a:lnTo>
                <a:lnTo>
                  <a:pt x="1641" y="1832"/>
                </a:lnTo>
                <a:lnTo>
                  <a:pt x="1635" y="1825"/>
                </a:lnTo>
                <a:lnTo>
                  <a:pt x="1628" y="1818"/>
                </a:lnTo>
                <a:lnTo>
                  <a:pt x="1621" y="1811"/>
                </a:lnTo>
                <a:lnTo>
                  <a:pt x="1621" y="1804"/>
                </a:lnTo>
                <a:lnTo>
                  <a:pt x="1614" y="1798"/>
                </a:lnTo>
                <a:lnTo>
                  <a:pt x="1607" y="1798"/>
                </a:lnTo>
                <a:lnTo>
                  <a:pt x="1600" y="1798"/>
                </a:lnTo>
                <a:lnTo>
                  <a:pt x="1593" y="1798"/>
                </a:lnTo>
                <a:lnTo>
                  <a:pt x="1586" y="1798"/>
                </a:lnTo>
                <a:lnTo>
                  <a:pt x="1579" y="1791"/>
                </a:lnTo>
                <a:lnTo>
                  <a:pt x="1573" y="1791"/>
                </a:lnTo>
                <a:lnTo>
                  <a:pt x="1566" y="1784"/>
                </a:lnTo>
                <a:lnTo>
                  <a:pt x="1559" y="1784"/>
                </a:lnTo>
                <a:lnTo>
                  <a:pt x="1552" y="1777"/>
                </a:lnTo>
                <a:lnTo>
                  <a:pt x="1545" y="1770"/>
                </a:lnTo>
                <a:lnTo>
                  <a:pt x="1538" y="1770"/>
                </a:lnTo>
                <a:lnTo>
                  <a:pt x="1531" y="1763"/>
                </a:lnTo>
                <a:lnTo>
                  <a:pt x="1524" y="1763"/>
                </a:lnTo>
                <a:lnTo>
                  <a:pt x="1517" y="1756"/>
                </a:lnTo>
                <a:lnTo>
                  <a:pt x="1510" y="1756"/>
                </a:lnTo>
                <a:lnTo>
                  <a:pt x="1504" y="1756"/>
                </a:lnTo>
                <a:lnTo>
                  <a:pt x="1497" y="1756"/>
                </a:lnTo>
                <a:lnTo>
                  <a:pt x="1490" y="1756"/>
                </a:lnTo>
                <a:lnTo>
                  <a:pt x="1483" y="1749"/>
                </a:lnTo>
                <a:lnTo>
                  <a:pt x="1476" y="1749"/>
                </a:lnTo>
                <a:lnTo>
                  <a:pt x="1476" y="1736"/>
                </a:lnTo>
                <a:lnTo>
                  <a:pt x="1469" y="1729"/>
                </a:lnTo>
                <a:lnTo>
                  <a:pt x="1469" y="1715"/>
                </a:lnTo>
                <a:lnTo>
                  <a:pt x="1469" y="1715"/>
                </a:lnTo>
                <a:lnTo>
                  <a:pt x="1462" y="1722"/>
                </a:lnTo>
                <a:lnTo>
                  <a:pt x="1455" y="1736"/>
                </a:lnTo>
                <a:lnTo>
                  <a:pt x="1448" y="1736"/>
                </a:lnTo>
                <a:lnTo>
                  <a:pt x="1442" y="1742"/>
                </a:lnTo>
                <a:lnTo>
                  <a:pt x="1435" y="1736"/>
                </a:lnTo>
                <a:lnTo>
                  <a:pt x="1428" y="1736"/>
                </a:lnTo>
                <a:lnTo>
                  <a:pt x="1421" y="1729"/>
                </a:lnTo>
                <a:lnTo>
                  <a:pt x="1414" y="1729"/>
                </a:lnTo>
                <a:lnTo>
                  <a:pt x="1407" y="1722"/>
                </a:lnTo>
                <a:lnTo>
                  <a:pt x="1400" y="1722"/>
                </a:lnTo>
                <a:lnTo>
                  <a:pt x="1393" y="1715"/>
                </a:lnTo>
                <a:lnTo>
                  <a:pt x="1386" y="1708"/>
                </a:lnTo>
                <a:lnTo>
                  <a:pt x="1386" y="1694"/>
                </a:lnTo>
                <a:lnTo>
                  <a:pt x="1393" y="1687"/>
                </a:lnTo>
                <a:lnTo>
                  <a:pt x="1400" y="1680"/>
                </a:lnTo>
                <a:lnTo>
                  <a:pt x="1407" y="1674"/>
                </a:lnTo>
                <a:lnTo>
                  <a:pt x="1414" y="1674"/>
                </a:lnTo>
                <a:lnTo>
                  <a:pt x="1414" y="1667"/>
                </a:lnTo>
                <a:lnTo>
                  <a:pt x="1421" y="1660"/>
                </a:lnTo>
                <a:lnTo>
                  <a:pt x="1428" y="1653"/>
                </a:lnTo>
                <a:lnTo>
                  <a:pt x="1435" y="1646"/>
                </a:lnTo>
                <a:lnTo>
                  <a:pt x="1442" y="1639"/>
                </a:lnTo>
                <a:lnTo>
                  <a:pt x="1448" y="1639"/>
                </a:lnTo>
                <a:lnTo>
                  <a:pt x="1455" y="1632"/>
                </a:lnTo>
                <a:lnTo>
                  <a:pt x="1462" y="1618"/>
                </a:lnTo>
                <a:lnTo>
                  <a:pt x="1462" y="1618"/>
                </a:lnTo>
                <a:lnTo>
                  <a:pt x="1469" y="1618"/>
                </a:lnTo>
                <a:lnTo>
                  <a:pt x="1476" y="1625"/>
                </a:lnTo>
                <a:lnTo>
                  <a:pt x="1476" y="1639"/>
                </a:lnTo>
                <a:lnTo>
                  <a:pt x="1476" y="1646"/>
                </a:lnTo>
                <a:lnTo>
                  <a:pt x="1476" y="1660"/>
                </a:lnTo>
                <a:lnTo>
                  <a:pt x="1476" y="1667"/>
                </a:lnTo>
                <a:lnTo>
                  <a:pt x="1469" y="1680"/>
                </a:lnTo>
                <a:lnTo>
                  <a:pt x="1469" y="1694"/>
                </a:lnTo>
                <a:lnTo>
                  <a:pt x="1469" y="1701"/>
                </a:lnTo>
                <a:lnTo>
                  <a:pt x="1476" y="1708"/>
                </a:lnTo>
                <a:lnTo>
                  <a:pt x="1483" y="1715"/>
                </a:lnTo>
                <a:lnTo>
                  <a:pt x="1490" y="1715"/>
                </a:lnTo>
                <a:lnTo>
                  <a:pt x="1497" y="1715"/>
                </a:lnTo>
                <a:lnTo>
                  <a:pt x="1504" y="1715"/>
                </a:lnTo>
                <a:lnTo>
                  <a:pt x="1510" y="1715"/>
                </a:lnTo>
                <a:lnTo>
                  <a:pt x="1517" y="1715"/>
                </a:lnTo>
                <a:lnTo>
                  <a:pt x="1524" y="1715"/>
                </a:lnTo>
                <a:lnTo>
                  <a:pt x="1531" y="1715"/>
                </a:lnTo>
                <a:lnTo>
                  <a:pt x="1538" y="1722"/>
                </a:lnTo>
                <a:lnTo>
                  <a:pt x="1545" y="1722"/>
                </a:lnTo>
                <a:lnTo>
                  <a:pt x="1552" y="1722"/>
                </a:lnTo>
                <a:lnTo>
                  <a:pt x="1559" y="1729"/>
                </a:lnTo>
                <a:lnTo>
                  <a:pt x="1566" y="1729"/>
                </a:lnTo>
                <a:lnTo>
                  <a:pt x="1573" y="1729"/>
                </a:lnTo>
                <a:lnTo>
                  <a:pt x="1579" y="1736"/>
                </a:lnTo>
                <a:lnTo>
                  <a:pt x="1586" y="1736"/>
                </a:lnTo>
                <a:lnTo>
                  <a:pt x="1593" y="1736"/>
                </a:lnTo>
                <a:lnTo>
                  <a:pt x="1600" y="1742"/>
                </a:lnTo>
                <a:lnTo>
                  <a:pt x="1607" y="1742"/>
                </a:lnTo>
                <a:lnTo>
                  <a:pt x="1614" y="1742"/>
                </a:lnTo>
                <a:lnTo>
                  <a:pt x="1621" y="1742"/>
                </a:lnTo>
                <a:lnTo>
                  <a:pt x="1628" y="1742"/>
                </a:lnTo>
                <a:lnTo>
                  <a:pt x="1635" y="1736"/>
                </a:lnTo>
                <a:lnTo>
                  <a:pt x="1641" y="1736"/>
                </a:lnTo>
                <a:lnTo>
                  <a:pt x="1648" y="1736"/>
                </a:lnTo>
                <a:lnTo>
                  <a:pt x="1655" y="1736"/>
                </a:lnTo>
                <a:lnTo>
                  <a:pt x="1662" y="1742"/>
                </a:lnTo>
                <a:lnTo>
                  <a:pt x="1669" y="1742"/>
                </a:lnTo>
                <a:lnTo>
                  <a:pt x="1676" y="1749"/>
                </a:lnTo>
                <a:lnTo>
                  <a:pt x="1683" y="1749"/>
                </a:lnTo>
                <a:lnTo>
                  <a:pt x="1690" y="1756"/>
                </a:lnTo>
                <a:lnTo>
                  <a:pt x="1697" y="1756"/>
                </a:lnTo>
                <a:lnTo>
                  <a:pt x="1704" y="1763"/>
                </a:lnTo>
                <a:lnTo>
                  <a:pt x="1710" y="1756"/>
                </a:lnTo>
                <a:lnTo>
                  <a:pt x="1710" y="1749"/>
                </a:lnTo>
                <a:lnTo>
                  <a:pt x="1717" y="1742"/>
                </a:lnTo>
                <a:lnTo>
                  <a:pt x="1717" y="1729"/>
                </a:lnTo>
                <a:lnTo>
                  <a:pt x="1717" y="1715"/>
                </a:lnTo>
                <a:lnTo>
                  <a:pt x="1710" y="1708"/>
                </a:lnTo>
                <a:lnTo>
                  <a:pt x="1710" y="1694"/>
                </a:lnTo>
                <a:lnTo>
                  <a:pt x="1704" y="1687"/>
                </a:lnTo>
                <a:lnTo>
                  <a:pt x="1697" y="1680"/>
                </a:lnTo>
                <a:lnTo>
                  <a:pt x="1697" y="1674"/>
                </a:lnTo>
                <a:lnTo>
                  <a:pt x="1690" y="1667"/>
                </a:lnTo>
                <a:lnTo>
                  <a:pt x="1683" y="1660"/>
                </a:lnTo>
                <a:lnTo>
                  <a:pt x="1683" y="1646"/>
                </a:lnTo>
                <a:lnTo>
                  <a:pt x="1676" y="1639"/>
                </a:lnTo>
                <a:lnTo>
                  <a:pt x="1676" y="1632"/>
                </a:lnTo>
                <a:lnTo>
                  <a:pt x="1676" y="1618"/>
                </a:lnTo>
                <a:lnTo>
                  <a:pt x="1669" y="1612"/>
                </a:lnTo>
                <a:lnTo>
                  <a:pt x="1669" y="1598"/>
                </a:lnTo>
                <a:lnTo>
                  <a:pt x="1669" y="1584"/>
                </a:lnTo>
                <a:lnTo>
                  <a:pt x="1669" y="1577"/>
                </a:lnTo>
                <a:lnTo>
                  <a:pt x="1669" y="1563"/>
                </a:lnTo>
                <a:lnTo>
                  <a:pt x="1676" y="1556"/>
                </a:lnTo>
                <a:lnTo>
                  <a:pt x="1676" y="1543"/>
                </a:lnTo>
                <a:lnTo>
                  <a:pt x="1683" y="1536"/>
                </a:lnTo>
                <a:lnTo>
                  <a:pt x="1683" y="1522"/>
                </a:lnTo>
                <a:lnTo>
                  <a:pt x="1683" y="1515"/>
                </a:lnTo>
                <a:lnTo>
                  <a:pt x="1690" y="1501"/>
                </a:lnTo>
                <a:lnTo>
                  <a:pt x="1690" y="1494"/>
                </a:lnTo>
                <a:lnTo>
                  <a:pt x="1690" y="1481"/>
                </a:lnTo>
                <a:lnTo>
                  <a:pt x="1697" y="1474"/>
                </a:lnTo>
                <a:lnTo>
                  <a:pt x="1697" y="1460"/>
                </a:lnTo>
                <a:lnTo>
                  <a:pt x="1697" y="1453"/>
                </a:lnTo>
                <a:lnTo>
                  <a:pt x="1704" y="1439"/>
                </a:lnTo>
                <a:lnTo>
                  <a:pt x="1704" y="1432"/>
                </a:lnTo>
                <a:lnTo>
                  <a:pt x="1704" y="1419"/>
                </a:lnTo>
                <a:lnTo>
                  <a:pt x="1710" y="1412"/>
                </a:lnTo>
                <a:lnTo>
                  <a:pt x="1710" y="1398"/>
                </a:lnTo>
                <a:lnTo>
                  <a:pt x="1717" y="1391"/>
                </a:lnTo>
                <a:lnTo>
                  <a:pt x="1717" y="1384"/>
                </a:lnTo>
                <a:lnTo>
                  <a:pt x="1717" y="1370"/>
                </a:lnTo>
                <a:lnTo>
                  <a:pt x="1724" y="1364"/>
                </a:lnTo>
                <a:lnTo>
                  <a:pt x="1724" y="1350"/>
                </a:lnTo>
                <a:lnTo>
                  <a:pt x="1724" y="1343"/>
                </a:lnTo>
                <a:lnTo>
                  <a:pt x="1731" y="1329"/>
                </a:lnTo>
                <a:lnTo>
                  <a:pt x="1731" y="1322"/>
                </a:lnTo>
                <a:lnTo>
                  <a:pt x="1731" y="1308"/>
                </a:lnTo>
                <a:lnTo>
                  <a:pt x="1738" y="1302"/>
                </a:lnTo>
                <a:lnTo>
                  <a:pt x="1738" y="1288"/>
                </a:lnTo>
                <a:lnTo>
                  <a:pt x="1738" y="1281"/>
                </a:lnTo>
                <a:lnTo>
                  <a:pt x="1745" y="1267"/>
                </a:lnTo>
                <a:lnTo>
                  <a:pt x="1745" y="1260"/>
                </a:lnTo>
                <a:lnTo>
                  <a:pt x="1752" y="1246"/>
                </a:lnTo>
                <a:lnTo>
                  <a:pt x="1752" y="1240"/>
                </a:lnTo>
                <a:lnTo>
                  <a:pt x="1752" y="1226"/>
                </a:lnTo>
                <a:lnTo>
                  <a:pt x="1759" y="1219"/>
                </a:lnTo>
                <a:lnTo>
                  <a:pt x="1759" y="1205"/>
                </a:lnTo>
                <a:lnTo>
                  <a:pt x="1759" y="1198"/>
                </a:lnTo>
                <a:lnTo>
                  <a:pt x="1766" y="1184"/>
                </a:lnTo>
                <a:lnTo>
                  <a:pt x="1766" y="1178"/>
                </a:lnTo>
                <a:lnTo>
                  <a:pt x="1766" y="1164"/>
                </a:lnTo>
                <a:lnTo>
                  <a:pt x="1772" y="1157"/>
                </a:lnTo>
                <a:lnTo>
                  <a:pt x="1772" y="1143"/>
                </a:lnTo>
                <a:lnTo>
                  <a:pt x="1779" y="1136"/>
                </a:lnTo>
                <a:lnTo>
                  <a:pt x="1779" y="1129"/>
                </a:lnTo>
                <a:lnTo>
                  <a:pt x="1779" y="1116"/>
                </a:lnTo>
                <a:lnTo>
                  <a:pt x="1786" y="1109"/>
                </a:lnTo>
                <a:lnTo>
                  <a:pt x="1786" y="1095"/>
                </a:lnTo>
                <a:lnTo>
                  <a:pt x="1786" y="1088"/>
                </a:lnTo>
                <a:lnTo>
                  <a:pt x="1793" y="1074"/>
                </a:lnTo>
                <a:lnTo>
                  <a:pt x="1793" y="1067"/>
                </a:lnTo>
                <a:lnTo>
                  <a:pt x="1793" y="1054"/>
                </a:lnTo>
                <a:lnTo>
                  <a:pt x="1800" y="1047"/>
                </a:lnTo>
                <a:lnTo>
                  <a:pt x="1800" y="1033"/>
                </a:lnTo>
                <a:lnTo>
                  <a:pt x="1800" y="1026"/>
                </a:lnTo>
                <a:lnTo>
                  <a:pt x="1807" y="1012"/>
                </a:lnTo>
                <a:lnTo>
                  <a:pt x="1807" y="998"/>
                </a:lnTo>
                <a:lnTo>
                  <a:pt x="1814" y="998"/>
                </a:lnTo>
                <a:lnTo>
                  <a:pt x="1814" y="998"/>
                </a:lnTo>
                <a:lnTo>
                  <a:pt x="1821" y="1012"/>
                </a:lnTo>
                <a:lnTo>
                  <a:pt x="1828" y="1026"/>
                </a:lnTo>
                <a:lnTo>
                  <a:pt x="1828" y="1033"/>
                </a:lnTo>
                <a:lnTo>
                  <a:pt x="1835" y="1040"/>
                </a:lnTo>
                <a:lnTo>
                  <a:pt x="1835" y="1054"/>
                </a:lnTo>
                <a:lnTo>
                  <a:pt x="1841" y="1060"/>
                </a:lnTo>
                <a:lnTo>
                  <a:pt x="1841" y="1067"/>
                </a:lnTo>
                <a:lnTo>
                  <a:pt x="1841" y="1081"/>
                </a:lnTo>
                <a:lnTo>
                  <a:pt x="1848" y="1088"/>
                </a:lnTo>
                <a:lnTo>
                  <a:pt x="1848" y="1102"/>
                </a:lnTo>
                <a:lnTo>
                  <a:pt x="1855" y="1109"/>
                </a:lnTo>
                <a:lnTo>
                  <a:pt x="1855" y="1122"/>
                </a:lnTo>
                <a:lnTo>
                  <a:pt x="1862" y="1129"/>
                </a:lnTo>
                <a:lnTo>
                  <a:pt x="1862" y="1136"/>
                </a:lnTo>
                <a:lnTo>
                  <a:pt x="1876" y="1122"/>
                </a:lnTo>
                <a:lnTo>
                  <a:pt x="1876" y="1088"/>
                </a:lnTo>
                <a:lnTo>
                  <a:pt x="1876" y="1054"/>
                </a:lnTo>
                <a:lnTo>
                  <a:pt x="1876" y="1019"/>
                </a:lnTo>
                <a:lnTo>
                  <a:pt x="1876" y="985"/>
                </a:lnTo>
                <a:lnTo>
                  <a:pt x="1910" y="950"/>
                </a:lnTo>
                <a:lnTo>
                  <a:pt x="1910" y="916"/>
                </a:lnTo>
                <a:lnTo>
                  <a:pt x="1910" y="888"/>
                </a:lnTo>
                <a:lnTo>
                  <a:pt x="1910" y="854"/>
                </a:lnTo>
                <a:lnTo>
                  <a:pt x="1910" y="819"/>
                </a:lnTo>
                <a:lnTo>
                  <a:pt x="1910" y="785"/>
                </a:lnTo>
                <a:lnTo>
                  <a:pt x="1945" y="751"/>
                </a:lnTo>
                <a:lnTo>
                  <a:pt x="1945" y="716"/>
                </a:lnTo>
                <a:lnTo>
                  <a:pt x="1945" y="682"/>
                </a:lnTo>
                <a:lnTo>
                  <a:pt x="1945" y="647"/>
                </a:lnTo>
                <a:lnTo>
                  <a:pt x="1945" y="613"/>
                </a:lnTo>
                <a:lnTo>
                  <a:pt x="1945" y="578"/>
                </a:lnTo>
                <a:lnTo>
                  <a:pt x="1979" y="544"/>
                </a:lnTo>
                <a:lnTo>
                  <a:pt x="1979" y="509"/>
                </a:lnTo>
                <a:lnTo>
                  <a:pt x="1979" y="475"/>
                </a:lnTo>
                <a:lnTo>
                  <a:pt x="1979" y="441"/>
                </a:lnTo>
                <a:lnTo>
                  <a:pt x="1979" y="406"/>
                </a:lnTo>
                <a:lnTo>
                  <a:pt x="1979" y="372"/>
                </a:lnTo>
                <a:lnTo>
                  <a:pt x="2014" y="344"/>
                </a:lnTo>
                <a:lnTo>
                  <a:pt x="2014" y="310"/>
                </a:lnTo>
                <a:lnTo>
                  <a:pt x="2014" y="275"/>
                </a:lnTo>
                <a:lnTo>
                  <a:pt x="2014" y="241"/>
                </a:lnTo>
                <a:lnTo>
                  <a:pt x="2014" y="206"/>
                </a:lnTo>
                <a:lnTo>
                  <a:pt x="2014" y="172"/>
                </a:lnTo>
                <a:lnTo>
                  <a:pt x="2048" y="137"/>
                </a:lnTo>
                <a:lnTo>
                  <a:pt x="2048" y="103"/>
                </a:lnTo>
                <a:lnTo>
                  <a:pt x="2048" y="69"/>
                </a:lnTo>
                <a:lnTo>
                  <a:pt x="2048" y="34"/>
                </a:lnTo>
                <a:lnTo>
                  <a:pt x="2048" y="0"/>
                </a:lnTo>
                <a:lnTo>
                  <a:pt x="2014" y="0"/>
                </a:lnTo>
                <a:lnTo>
                  <a:pt x="1979" y="0"/>
                </a:lnTo>
                <a:lnTo>
                  <a:pt x="1945" y="0"/>
                </a:lnTo>
                <a:lnTo>
                  <a:pt x="1910" y="34"/>
                </a:lnTo>
                <a:lnTo>
                  <a:pt x="1876" y="34"/>
                </a:lnTo>
                <a:lnTo>
                  <a:pt x="1841" y="69"/>
                </a:lnTo>
                <a:lnTo>
                  <a:pt x="1807" y="69"/>
                </a:lnTo>
                <a:lnTo>
                  <a:pt x="1779" y="69"/>
                </a:lnTo>
                <a:lnTo>
                  <a:pt x="1745" y="103"/>
                </a:lnTo>
                <a:lnTo>
                  <a:pt x="1710" y="103"/>
                </a:lnTo>
                <a:lnTo>
                  <a:pt x="1676" y="137"/>
                </a:lnTo>
                <a:lnTo>
                  <a:pt x="1641" y="137"/>
                </a:lnTo>
                <a:lnTo>
                  <a:pt x="1607" y="172"/>
                </a:lnTo>
                <a:lnTo>
                  <a:pt x="1573" y="172"/>
                </a:lnTo>
                <a:lnTo>
                  <a:pt x="1538" y="206"/>
                </a:lnTo>
                <a:lnTo>
                  <a:pt x="1504" y="206"/>
                </a:lnTo>
                <a:lnTo>
                  <a:pt x="1469" y="206"/>
                </a:lnTo>
                <a:lnTo>
                  <a:pt x="1435" y="241"/>
                </a:lnTo>
                <a:lnTo>
                  <a:pt x="1400" y="241"/>
                </a:lnTo>
                <a:lnTo>
                  <a:pt x="1366" y="275"/>
                </a:lnTo>
                <a:lnTo>
                  <a:pt x="1331" y="275"/>
                </a:lnTo>
                <a:lnTo>
                  <a:pt x="1297" y="310"/>
                </a:lnTo>
                <a:lnTo>
                  <a:pt x="1262" y="310"/>
                </a:lnTo>
                <a:lnTo>
                  <a:pt x="1228" y="344"/>
                </a:lnTo>
                <a:lnTo>
                  <a:pt x="1193" y="344"/>
                </a:lnTo>
                <a:lnTo>
                  <a:pt x="1159" y="344"/>
                </a:lnTo>
                <a:lnTo>
                  <a:pt x="1124" y="372"/>
                </a:lnTo>
                <a:lnTo>
                  <a:pt x="1090" y="372"/>
                </a:lnTo>
                <a:lnTo>
                  <a:pt x="1062" y="406"/>
                </a:lnTo>
                <a:lnTo>
                  <a:pt x="1028" y="406"/>
                </a:lnTo>
                <a:lnTo>
                  <a:pt x="993" y="441"/>
                </a:lnTo>
                <a:lnTo>
                  <a:pt x="959" y="441"/>
                </a:lnTo>
                <a:lnTo>
                  <a:pt x="924" y="475"/>
                </a:lnTo>
                <a:lnTo>
                  <a:pt x="890" y="475"/>
                </a:lnTo>
                <a:lnTo>
                  <a:pt x="855" y="475"/>
                </a:lnTo>
                <a:lnTo>
                  <a:pt x="821" y="509"/>
                </a:lnTo>
                <a:lnTo>
                  <a:pt x="787" y="544"/>
                </a:lnTo>
                <a:lnTo>
                  <a:pt x="752" y="578"/>
                </a:lnTo>
                <a:lnTo>
                  <a:pt x="752" y="613"/>
                </a:lnTo>
                <a:lnTo>
                  <a:pt x="718" y="647"/>
                </a:lnTo>
                <a:lnTo>
                  <a:pt x="683" y="682"/>
                </a:lnTo>
                <a:lnTo>
                  <a:pt x="649" y="716"/>
                </a:lnTo>
                <a:lnTo>
                  <a:pt x="649" y="751"/>
                </a:lnTo>
                <a:lnTo>
                  <a:pt x="614" y="785"/>
                </a:lnTo>
                <a:lnTo>
                  <a:pt x="580" y="819"/>
                </a:lnTo>
                <a:lnTo>
                  <a:pt x="545" y="854"/>
                </a:lnTo>
                <a:lnTo>
                  <a:pt x="545" y="888"/>
                </a:lnTo>
                <a:lnTo>
                  <a:pt x="511" y="916"/>
                </a:lnTo>
                <a:lnTo>
                  <a:pt x="476" y="950"/>
                </a:lnTo>
                <a:lnTo>
                  <a:pt x="476" y="985"/>
                </a:lnTo>
                <a:lnTo>
                  <a:pt x="442" y="1019"/>
                </a:lnTo>
                <a:lnTo>
                  <a:pt x="442" y="1054"/>
                </a:lnTo>
                <a:lnTo>
                  <a:pt x="442" y="1088"/>
                </a:lnTo>
                <a:lnTo>
                  <a:pt x="407" y="1122"/>
                </a:lnTo>
                <a:lnTo>
                  <a:pt x="407" y="1157"/>
                </a:lnTo>
                <a:lnTo>
                  <a:pt x="373" y="1191"/>
                </a:lnTo>
                <a:lnTo>
                  <a:pt x="373" y="1226"/>
                </a:lnTo>
                <a:lnTo>
                  <a:pt x="338" y="1260"/>
                </a:lnTo>
                <a:lnTo>
                  <a:pt x="338" y="1295"/>
                </a:lnTo>
                <a:lnTo>
                  <a:pt x="311" y="1329"/>
                </a:lnTo>
                <a:lnTo>
                  <a:pt x="311" y="1364"/>
                </a:lnTo>
                <a:lnTo>
                  <a:pt x="276" y="1398"/>
                </a:lnTo>
                <a:lnTo>
                  <a:pt x="276" y="1426"/>
                </a:lnTo>
                <a:lnTo>
                  <a:pt x="276" y="1460"/>
                </a:lnTo>
                <a:lnTo>
                  <a:pt x="242" y="1494"/>
                </a:lnTo>
                <a:lnTo>
                  <a:pt x="242" y="1529"/>
                </a:lnTo>
                <a:lnTo>
                  <a:pt x="207" y="1563"/>
                </a:lnTo>
                <a:lnTo>
                  <a:pt x="207" y="1598"/>
                </a:lnTo>
                <a:lnTo>
                  <a:pt x="173" y="1632"/>
                </a:lnTo>
                <a:lnTo>
                  <a:pt x="173" y="1667"/>
                </a:lnTo>
                <a:lnTo>
                  <a:pt x="138" y="1701"/>
                </a:lnTo>
                <a:lnTo>
                  <a:pt x="138" y="1736"/>
                </a:lnTo>
                <a:lnTo>
                  <a:pt x="138" y="1770"/>
                </a:lnTo>
                <a:lnTo>
                  <a:pt x="104" y="1804"/>
                </a:lnTo>
                <a:lnTo>
                  <a:pt x="104" y="1839"/>
                </a:lnTo>
                <a:lnTo>
                  <a:pt x="69" y="1873"/>
                </a:lnTo>
                <a:lnTo>
                  <a:pt x="69" y="1908"/>
                </a:lnTo>
                <a:lnTo>
                  <a:pt x="69" y="1935"/>
                </a:lnTo>
                <a:lnTo>
                  <a:pt x="69" y="1970"/>
                </a:lnTo>
                <a:lnTo>
                  <a:pt x="69" y="2004"/>
                </a:lnTo>
                <a:lnTo>
                  <a:pt x="35" y="2039"/>
                </a:lnTo>
                <a:lnTo>
                  <a:pt x="35" y="2073"/>
                </a:lnTo>
                <a:lnTo>
                  <a:pt x="35" y="2108"/>
                </a:lnTo>
                <a:lnTo>
                  <a:pt x="35" y="2142"/>
                </a:lnTo>
                <a:lnTo>
                  <a:pt x="0" y="2176"/>
                </a:lnTo>
                <a:lnTo>
                  <a:pt x="0" y="2211"/>
                </a:lnTo>
                <a:lnTo>
                  <a:pt x="0" y="2245"/>
                </a:lnTo>
                <a:lnTo>
                  <a:pt x="0" y="2280"/>
                </a:lnTo>
                <a:lnTo>
                  <a:pt x="0" y="2314"/>
                </a:lnTo>
                <a:lnTo>
                  <a:pt x="0" y="2349"/>
                </a:lnTo>
                <a:lnTo>
                  <a:pt x="0" y="2383"/>
                </a:lnTo>
                <a:lnTo>
                  <a:pt x="0" y="2418"/>
                </a:lnTo>
                <a:lnTo>
                  <a:pt x="0" y="2452"/>
                </a:lnTo>
                <a:lnTo>
                  <a:pt x="0" y="2480"/>
                </a:lnTo>
                <a:lnTo>
                  <a:pt x="0" y="2514"/>
                </a:lnTo>
                <a:lnTo>
                  <a:pt x="0" y="2548"/>
                </a:lnTo>
                <a:lnTo>
                  <a:pt x="0" y="2583"/>
                </a:lnTo>
                <a:lnTo>
                  <a:pt x="35" y="2617"/>
                </a:lnTo>
                <a:lnTo>
                  <a:pt x="35" y="2652"/>
                </a:lnTo>
                <a:lnTo>
                  <a:pt x="35" y="2686"/>
                </a:lnTo>
                <a:lnTo>
                  <a:pt x="35" y="2721"/>
                </a:lnTo>
                <a:lnTo>
                  <a:pt x="35" y="2755"/>
                </a:lnTo>
                <a:lnTo>
                  <a:pt x="35" y="2789"/>
                </a:lnTo>
                <a:lnTo>
                  <a:pt x="35" y="2824"/>
                </a:lnTo>
                <a:lnTo>
                  <a:pt x="35" y="2858"/>
                </a:lnTo>
                <a:lnTo>
                  <a:pt x="35" y="2893"/>
                </a:lnTo>
                <a:lnTo>
                  <a:pt x="69" y="2927"/>
                </a:lnTo>
                <a:lnTo>
                  <a:pt x="69" y="2962"/>
                </a:lnTo>
                <a:lnTo>
                  <a:pt x="90" y="2982"/>
                </a:lnTo>
                <a:lnTo>
                  <a:pt x="97" y="2975"/>
                </a:lnTo>
                <a:lnTo>
                  <a:pt x="104" y="2975"/>
                </a:lnTo>
                <a:lnTo>
                  <a:pt x="111" y="2969"/>
                </a:lnTo>
                <a:lnTo>
                  <a:pt x="118" y="2969"/>
                </a:lnTo>
                <a:lnTo>
                  <a:pt x="125" y="2962"/>
                </a:lnTo>
                <a:lnTo>
                  <a:pt x="131" y="2962"/>
                </a:lnTo>
                <a:lnTo>
                  <a:pt x="138" y="2962"/>
                </a:lnTo>
                <a:lnTo>
                  <a:pt x="152" y="2955"/>
                </a:lnTo>
                <a:lnTo>
                  <a:pt x="159" y="2955"/>
                </a:lnTo>
                <a:lnTo>
                  <a:pt x="166" y="2962"/>
                </a:lnTo>
                <a:lnTo>
                  <a:pt x="173" y="2962"/>
                </a:lnTo>
                <a:lnTo>
                  <a:pt x="180" y="2969"/>
                </a:lnTo>
                <a:lnTo>
                  <a:pt x="180" y="2975"/>
                </a:lnTo>
                <a:lnTo>
                  <a:pt x="187" y="2982"/>
                </a:lnTo>
                <a:lnTo>
                  <a:pt x="194" y="2996"/>
                </a:lnTo>
                <a:lnTo>
                  <a:pt x="200" y="3003"/>
                </a:lnTo>
                <a:lnTo>
                  <a:pt x="200" y="3017"/>
                </a:lnTo>
                <a:lnTo>
                  <a:pt x="200" y="3024"/>
                </a:lnTo>
                <a:lnTo>
                  <a:pt x="194" y="3037"/>
                </a:lnTo>
                <a:lnTo>
                  <a:pt x="194" y="3044"/>
                </a:lnTo>
                <a:lnTo>
                  <a:pt x="187" y="3058"/>
                </a:lnTo>
                <a:lnTo>
                  <a:pt x="187" y="3065"/>
                </a:lnTo>
                <a:lnTo>
                  <a:pt x="187" y="3079"/>
                </a:lnTo>
                <a:lnTo>
                  <a:pt x="207" y="3093"/>
                </a:lnTo>
                <a:lnTo>
                  <a:pt x="242" y="3127"/>
                </a:lnTo>
                <a:lnTo>
                  <a:pt x="276" y="3161"/>
                </a:lnTo>
                <a:lnTo>
                  <a:pt x="311" y="3196"/>
                </a:lnTo>
                <a:lnTo>
                  <a:pt x="338" y="3196"/>
                </a:lnTo>
                <a:lnTo>
                  <a:pt x="373" y="3230"/>
                </a:lnTo>
                <a:lnTo>
                  <a:pt x="407" y="3230"/>
                </a:lnTo>
                <a:lnTo>
                  <a:pt x="442" y="3230"/>
                </a:lnTo>
                <a:lnTo>
                  <a:pt x="476" y="3265"/>
                </a:lnTo>
                <a:lnTo>
                  <a:pt x="511" y="3265"/>
                </a:lnTo>
                <a:lnTo>
                  <a:pt x="545" y="3299"/>
                </a:lnTo>
                <a:lnTo>
                  <a:pt x="580" y="3299"/>
                </a:lnTo>
                <a:lnTo>
                  <a:pt x="614" y="3299"/>
                </a:lnTo>
                <a:lnTo>
                  <a:pt x="649" y="3299"/>
                </a:lnTo>
                <a:lnTo>
                  <a:pt x="683" y="3299"/>
                </a:lnTo>
                <a:lnTo>
                  <a:pt x="718" y="3299"/>
                </a:lnTo>
                <a:close/>
                <a:moveTo>
                  <a:pt x="373" y="2858"/>
                </a:moveTo>
                <a:lnTo>
                  <a:pt x="373" y="2845"/>
                </a:lnTo>
                <a:lnTo>
                  <a:pt x="366" y="2831"/>
                </a:lnTo>
                <a:lnTo>
                  <a:pt x="366" y="2824"/>
                </a:lnTo>
                <a:lnTo>
                  <a:pt x="359" y="2817"/>
                </a:lnTo>
                <a:lnTo>
                  <a:pt x="352" y="2810"/>
                </a:lnTo>
                <a:lnTo>
                  <a:pt x="345" y="2810"/>
                </a:lnTo>
                <a:lnTo>
                  <a:pt x="338" y="2803"/>
                </a:lnTo>
                <a:lnTo>
                  <a:pt x="325" y="2803"/>
                </a:lnTo>
                <a:lnTo>
                  <a:pt x="318" y="2796"/>
                </a:lnTo>
                <a:lnTo>
                  <a:pt x="318" y="2789"/>
                </a:lnTo>
                <a:lnTo>
                  <a:pt x="318" y="2776"/>
                </a:lnTo>
                <a:lnTo>
                  <a:pt x="318" y="2762"/>
                </a:lnTo>
                <a:lnTo>
                  <a:pt x="318" y="2748"/>
                </a:lnTo>
                <a:lnTo>
                  <a:pt x="311" y="2748"/>
                </a:lnTo>
                <a:lnTo>
                  <a:pt x="297" y="2741"/>
                </a:lnTo>
                <a:lnTo>
                  <a:pt x="290" y="2734"/>
                </a:lnTo>
                <a:lnTo>
                  <a:pt x="283" y="2734"/>
                </a:lnTo>
                <a:lnTo>
                  <a:pt x="276" y="2734"/>
                </a:lnTo>
                <a:lnTo>
                  <a:pt x="269" y="2734"/>
                </a:lnTo>
                <a:lnTo>
                  <a:pt x="262" y="2734"/>
                </a:lnTo>
                <a:lnTo>
                  <a:pt x="256" y="2734"/>
                </a:lnTo>
                <a:lnTo>
                  <a:pt x="249" y="2734"/>
                </a:lnTo>
                <a:lnTo>
                  <a:pt x="242" y="2734"/>
                </a:lnTo>
                <a:lnTo>
                  <a:pt x="228" y="2727"/>
                </a:lnTo>
                <a:lnTo>
                  <a:pt x="221" y="2727"/>
                </a:lnTo>
                <a:lnTo>
                  <a:pt x="214" y="2727"/>
                </a:lnTo>
                <a:lnTo>
                  <a:pt x="214" y="2721"/>
                </a:lnTo>
                <a:lnTo>
                  <a:pt x="214" y="2707"/>
                </a:lnTo>
                <a:lnTo>
                  <a:pt x="221" y="2700"/>
                </a:lnTo>
                <a:lnTo>
                  <a:pt x="228" y="2686"/>
                </a:lnTo>
                <a:lnTo>
                  <a:pt x="228" y="2672"/>
                </a:lnTo>
                <a:lnTo>
                  <a:pt x="235" y="2665"/>
                </a:lnTo>
                <a:lnTo>
                  <a:pt x="235" y="2652"/>
                </a:lnTo>
                <a:lnTo>
                  <a:pt x="242" y="2645"/>
                </a:lnTo>
                <a:lnTo>
                  <a:pt x="242" y="2631"/>
                </a:lnTo>
                <a:lnTo>
                  <a:pt x="249" y="2624"/>
                </a:lnTo>
                <a:lnTo>
                  <a:pt x="249" y="2610"/>
                </a:lnTo>
                <a:lnTo>
                  <a:pt x="256" y="2597"/>
                </a:lnTo>
                <a:lnTo>
                  <a:pt x="256" y="2590"/>
                </a:lnTo>
                <a:lnTo>
                  <a:pt x="262" y="2583"/>
                </a:lnTo>
                <a:lnTo>
                  <a:pt x="269" y="2576"/>
                </a:lnTo>
                <a:lnTo>
                  <a:pt x="276" y="2576"/>
                </a:lnTo>
                <a:lnTo>
                  <a:pt x="283" y="2576"/>
                </a:lnTo>
                <a:lnTo>
                  <a:pt x="297" y="2576"/>
                </a:lnTo>
                <a:lnTo>
                  <a:pt x="304" y="2583"/>
                </a:lnTo>
                <a:lnTo>
                  <a:pt x="311" y="2583"/>
                </a:lnTo>
                <a:lnTo>
                  <a:pt x="318" y="2583"/>
                </a:lnTo>
                <a:lnTo>
                  <a:pt x="325" y="2583"/>
                </a:lnTo>
                <a:lnTo>
                  <a:pt x="331" y="2583"/>
                </a:lnTo>
                <a:lnTo>
                  <a:pt x="338" y="2583"/>
                </a:lnTo>
                <a:lnTo>
                  <a:pt x="345" y="2590"/>
                </a:lnTo>
                <a:lnTo>
                  <a:pt x="352" y="2590"/>
                </a:lnTo>
                <a:lnTo>
                  <a:pt x="366" y="2590"/>
                </a:lnTo>
                <a:lnTo>
                  <a:pt x="373" y="2590"/>
                </a:lnTo>
                <a:lnTo>
                  <a:pt x="380" y="2590"/>
                </a:lnTo>
                <a:lnTo>
                  <a:pt x="387" y="2590"/>
                </a:lnTo>
                <a:lnTo>
                  <a:pt x="393" y="2590"/>
                </a:lnTo>
                <a:lnTo>
                  <a:pt x="400" y="2597"/>
                </a:lnTo>
                <a:lnTo>
                  <a:pt x="407" y="2597"/>
                </a:lnTo>
                <a:lnTo>
                  <a:pt x="414" y="2597"/>
                </a:lnTo>
                <a:lnTo>
                  <a:pt x="421" y="2597"/>
                </a:lnTo>
                <a:lnTo>
                  <a:pt x="428" y="2597"/>
                </a:lnTo>
                <a:lnTo>
                  <a:pt x="442" y="2597"/>
                </a:lnTo>
                <a:lnTo>
                  <a:pt x="449" y="2603"/>
                </a:lnTo>
                <a:lnTo>
                  <a:pt x="456" y="2603"/>
                </a:lnTo>
                <a:lnTo>
                  <a:pt x="462" y="2603"/>
                </a:lnTo>
                <a:lnTo>
                  <a:pt x="469" y="2610"/>
                </a:lnTo>
                <a:lnTo>
                  <a:pt x="476" y="2617"/>
                </a:lnTo>
                <a:lnTo>
                  <a:pt x="483" y="2624"/>
                </a:lnTo>
                <a:lnTo>
                  <a:pt x="483" y="2631"/>
                </a:lnTo>
                <a:lnTo>
                  <a:pt x="490" y="2645"/>
                </a:lnTo>
                <a:lnTo>
                  <a:pt x="497" y="2652"/>
                </a:lnTo>
                <a:lnTo>
                  <a:pt x="504" y="2659"/>
                </a:lnTo>
                <a:lnTo>
                  <a:pt x="511" y="2665"/>
                </a:lnTo>
                <a:lnTo>
                  <a:pt x="518" y="2672"/>
                </a:lnTo>
                <a:lnTo>
                  <a:pt x="524" y="2672"/>
                </a:lnTo>
                <a:lnTo>
                  <a:pt x="531" y="2679"/>
                </a:lnTo>
                <a:lnTo>
                  <a:pt x="538" y="2686"/>
                </a:lnTo>
                <a:lnTo>
                  <a:pt x="545" y="2693"/>
                </a:lnTo>
                <a:lnTo>
                  <a:pt x="552" y="2693"/>
                </a:lnTo>
                <a:lnTo>
                  <a:pt x="559" y="2700"/>
                </a:lnTo>
                <a:lnTo>
                  <a:pt x="566" y="2707"/>
                </a:lnTo>
                <a:lnTo>
                  <a:pt x="573" y="2714"/>
                </a:lnTo>
                <a:lnTo>
                  <a:pt x="580" y="2714"/>
                </a:lnTo>
                <a:lnTo>
                  <a:pt x="587" y="2721"/>
                </a:lnTo>
                <a:lnTo>
                  <a:pt x="593" y="2727"/>
                </a:lnTo>
                <a:lnTo>
                  <a:pt x="600" y="2734"/>
                </a:lnTo>
                <a:lnTo>
                  <a:pt x="607" y="2734"/>
                </a:lnTo>
                <a:lnTo>
                  <a:pt x="614" y="2741"/>
                </a:lnTo>
                <a:lnTo>
                  <a:pt x="621" y="2741"/>
                </a:lnTo>
                <a:lnTo>
                  <a:pt x="628" y="2748"/>
                </a:lnTo>
                <a:lnTo>
                  <a:pt x="635" y="2755"/>
                </a:lnTo>
                <a:lnTo>
                  <a:pt x="635" y="2769"/>
                </a:lnTo>
                <a:lnTo>
                  <a:pt x="628" y="2783"/>
                </a:lnTo>
                <a:lnTo>
                  <a:pt x="621" y="2789"/>
                </a:lnTo>
                <a:lnTo>
                  <a:pt x="614" y="2789"/>
                </a:lnTo>
                <a:lnTo>
                  <a:pt x="607" y="2796"/>
                </a:lnTo>
                <a:lnTo>
                  <a:pt x="600" y="2796"/>
                </a:lnTo>
                <a:lnTo>
                  <a:pt x="593" y="2796"/>
                </a:lnTo>
                <a:lnTo>
                  <a:pt x="580" y="2803"/>
                </a:lnTo>
                <a:lnTo>
                  <a:pt x="573" y="2803"/>
                </a:lnTo>
                <a:lnTo>
                  <a:pt x="566" y="2803"/>
                </a:lnTo>
                <a:lnTo>
                  <a:pt x="559" y="2810"/>
                </a:lnTo>
                <a:lnTo>
                  <a:pt x="552" y="2810"/>
                </a:lnTo>
                <a:lnTo>
                  <a:pt x="545" y="2817"/>
                </a:lnTo>
                <a:lnTo>
                  <a:pt x="538" y="2817"/>
                </a:lnTo>
                <a:lnTo>
                  <a:pt x="531" y="2817"/>
                </a:lnTo>
                <a:lnTo>
                  <a:pt x="524" y="2824"/>
                </a:lnTo>
                <a:lnTo>
                  <a:pt x="518" y="2824"/>
                </a:lnTo>
                <a:lnTo>
                  <a:pt x="511" y="2824"/>
                </a:lnTo>
                <a:lnTo>
                  <a:pt x="504" y="2831"/>
                </a:lnTo>
                <a:lnTo>
                  <a:pt x="497" y="2831"/>
                </a:lnTo>
                <a:lnTo>
                  <a:pt x="483" y="2838"/>
                </a:lnTo>
                <a:lnTo>
                  <a:pt x="476" y="2838"/>
                </a:lnTo>
                <a:lnTo>
                  <a:pt x="469" y="2838"/>
                </a:lnTo>
                <a:lnTo>
                  <a:pt x="462" y="2845"/>
                </a:lnTo>
                <a:lnTo>
                  <a:pt x="456" y="2845"/>
                </a:lnTo>
                <a:lnTo>
                  <a:pt x="449" y="2845"/>
                </a:lnTo>
                <a:lnTo>
                  <a:pt x="442" y="2851"/>
                </a:lnTo>
                <a:lnTo>
                  <a:pt x="435" y="2851"/>
                </a:lnTo>
                <a:lnTo>
                  <a:pt x="428" y="2858"/>
                </a:lnTo>
                <a:lnTo>
                  <a:pt x="421" y="2858"/>
                </a:lnTo>
                <a:lnTo>
                  <a:pt x="414" y="2858"/>
                </a:lnTo>
                <a:lnTo>
                  <a:pt x="400" y="2865"/>
                </a:lnTo>
                <a:lnTo>
                  <a:pt x="393" y="2865"/>
                </a:lnTo>
                <a:lnTo>
                  <a:pt x="387" y="2865"/>
                </a:lnTo>
                <a:lnTo>
                  <a:pt x="380" y="2865"/>
                </a:lnTo>
                <a:lnTo>
                  <a:pt x="373" y="2858"/>
                </a:lnTo>
                <a:close/>
                <a:moveTo>
                  <a:pt x="1021" y="1667"/>
                </a:moveTo>
                <a:lnTo>
                  <a:pt x="1021" y="1660"/>
                </a:lnTo>
                <a:lnTo>
                  <a:pt x="1028" y="1646"/>
                </a:lnTo>
                <a:lnTo>
                  <a:pt x="1028" y="1632"/>
                </a:lnTo>
                <a:lnTo>
                  <a:pt x="1035" y="1625"/>
                </a:lnTo>
                <a:lnTo>
                  <a:pt x="1035" y="1618"/>
                </a:lnTo>
                <a:lnTo>
                  <a:pt x="1042" y="1605"/>
                </a:lnTo>
                <a:lnTo>
                  <a:pt x="1042" y="1598"/>
                </a:lnTo>
                <a:lnTo>
                  <a:pt x="1049" y="1584"/>
                </a:lnTo>
                <a:lnTo>
                  <a:pt x="1049" y="1577"/>
                </a:lnTo>
                <a:lnTo>
                  <a:pt x="1055" y="1563"/>
                </a:lnTo>
                <a:lnTo>
                  <a:pt x="1062" y="1556"/>
                </a:lnTo>
                <a:lnTo>
                  <a:pt x="1069" y="1556"/>
                </a:lnTo>
                <a:lnTo>
                  <a:pt x="1076" y="1550"/>
                </a:lnTo>
                <a:lnTo>
                  <a:pt x="1083" y="1543"/>
                </a:lnTo>
                <a:lnTo>
                  <a:pt x="1090" y="1536"/>
                </a:lnTo>
                <a:lnTo>
                  <a:pt x="1097" y="1529"/>
                </a:lnTo>
                <a:lnTo>
                  <a:pt x="1097" y="1522"/>
                </a:lnTo>
                <a:lnTo>
                  <a:pt x="1097" y="1508"/>
                </a:lnTo>
                <a:lnTo>
                  <a:pt x="1097" y="1494"/>
                </a:lnTo>
                <a:lnTo>
                  <a:pt x="1097" y="1488"/>
                </a:lnTo>
                <a:lnTo>
                  <a:pt x="1104" y="1474"/>
                </a:lnTo>
                <a:lnTo>
                  <a:pt x="1104" y="1467"/>
                </a:lnTo>
                <a:lnTo>
                  <a:pt x="1111" y="1453"/>
                </a:lnTo>
                <a:lnTo>
                  <a:pt x="1117" y="1446"/>
                </a:lnTo>
                <a:lnTo>
                  <a:pt x="1124" y="1439"/>
                </a:lnTo>
                <a:lnTo>
                  <a:pt x="1131" y="1439"/>
                </a:lnTo>
                <a:lnTo>
                  <a:pt x="1138" y="1439"/>
                </a:lnTo>
                <a:lnTo>
                  <a:pt x="1145" y="1446"/>
                </a:lnTo>
                <a:lnTo>
                  <a:pt x="1152" y="1446"/>
                </a:lnTo>
                <a:lnTo>
                  <a:pt x="1159" y="1453"/>
                </a:lnTo>
                <a:lnTo>
                  <a:pt x="1166" y="1460"/>
                </a:lnTo>
                <a:lnTo>
                  <a:pt x="1173" y="1460"/>
                </a:lnTo>
                <a:lnTo>
                  <a:pt x="1180" y="1467"/>
                </a:lnTo>
                <a:lnTo>
                  <a:pt x="1186" y="1467"/>
                </a:lnTo>
                <a:lnTo>
                  <a:pt x="1193" y="1474"/>
                </a:lnTo>
                <a:lnTo>
                  <a:pt x="1200" y="1474"/>
                </a:lnTo>
                <a:lnTo>
                  <a:pt x="1207" y="1481"/>
                </a:lnTo>
                <a:lnTo>
                  <a:pt x="1214" y="1481"/>
                </a:lnTo>
                <a:lnTo>
                  <a:pt x="1221" y="1481"/>
                </a:lnTo>
                <a:lnTo>
                  <a:pt x="1228" y="1488"/>
                </a:lnTo>
                <a:lnTo>
                  <a:pt x="1235" y="1488"/>
                </a:lnTo>
                <a:lnTo>
                  <a:pt x="1242" y="1494"/>
                </a:lnTo>
                <a:lnTo>
                  <a:pt x="1248" y="1494"/>
                </a:lnTo>
                <a:lnTo>
                  <a:pt x="1255" y="1501"/>
                </a:lnTo>
                <a:lnTo>
                  <a:pt x="1262" y="1501"/>
                </a:lnTo>
                <a:lnTo>
                  <a:pt x="1269" y="1508"/>
                </a:lnTo>
                <a:lnTo>
                  <a:pt x="1276" y="1508"/>
                </a:lnTo>
                <a:lnTo>
                  <a:pt x="1283" y="1515"/>
                </a:lnTo>
                <a:lnTo>
                  <a:pt x="1290" y="1515"/>
                </a:lnTo>
                <a:lnTo>
                  <a:pt x="1304" y="1522"/>
                </a:lnTo>
                <a:lnTo>
                  <a:pt x="1311" y="1522"/>
                </a:lnTo>
                <a:lnTo>
                  <a:pt x="1317" y="1522"/>
                </a:lnTo>
                <a:lnTo>
                  <a:pt x="1324" y="1529"/>
                </a:lnTo>
                <a:lnTo>
                  <a:pt x="1324" y="1536"/>
                </a:lnTo>
                <a:lnTo>
                  <a:pt x="1317" y="1536"/>
                </a:lnTo>
                <a:lnTo>
                  <a:pt x="1311" y="1543"/>
                </a:lnTo>
                <a:lnTo>
                  <a:pt x="1304" y="1550"/>
                </a:lnTo>
                <a:lnTo>
                  <a:pt x="1297" y="1556"/>
                </a:lnTo>
                <a:lnTo>
                  <a:pt x="1297" y="1570"/>
                </a:lnTo>
                <a:lnTo>
                  <a:pt x="1290" y="1577"/>
                </a:lnTo>
                <a:lnTo>
                  <a:pt x="1283" y="1584"/>
                </a:lnTo>
                <a:lnTo>
                  <a:pt x="1276" y="1591"/>
                </a:lnTo>
                <a:lnTo>
                  <a:pt x="1269" y="1591"/>
                </a:lnTo>
                <a:lnTo>
                  <a:pt x="1262" y="1598"/>
                </a:lnTo>
                <a:lnTo>
                  <a:pt x="1255" y="1605"/>
                </a:lnTo>
                <a:lnTo>
                  <a:pt x="1248" y="1612"/>
                </a:lnTo>
                <a:lnTo>
                  <a:pt x="1242" y="1612"/>
                </a:lnTo>
                <a:lnTo>
                  <a:pt x="1235" y="1618"/>
                </a:lnTo>
                <a:lnTo>
                  <a:pt x="1228" y="1618"/>
                </a:lnTo>
                <a:lnTo>
                  <a:pt x="1221" y="1625"/>
                </a:lnTo>
                <a:lnTo>
                  <a:pt x="1214" y="1625"/>
                </a:lnTo>
                <a:lnTo>
                  <a:pt x="1207" y="1625"/>
                </a:lnTo>
                <a:lnTo>
                  <a:pt x="1200" y="1625"/>
                </a:lnTo>
                <a:lnTo>
                  <a:pt x="1193" y="1632"/>
                </a:lnTo>
                <a:lnTo>
                  <a:pt x="1186" y="1632"/>
                </a:lnTo>
                <a:lnTo>
                  <a:pt x="1180" y="1632"/>
                </a:lnTo>
                <a:lnTo>
                  <a:pt x="1173" y="1632"/>
                </a:lnTo>
                <a:lnTo>
                  <a:pt x="1166" y="1632"/>
                </a:lnTo>
                <a:lnTo>
                  <a:pt x="1152" y="1632"/>
                </a:lnTo>
                <a:lnTo>
                  <a:pt x="1145" y="1632"/>
                </a:lnTo>
                <a:lnTo>
                  <a:pt x="1138" y="1632"/>
                </a:lnTo>
                <a:lnTo>
                  <a:pt x="1131" y="1639"/>
                </a:lnTo>
                <a:lnTo>
                  <a:pt x="1124" y="1639"/>
                </a:lnTo>
                <a:lnTo>
                  <a:pt x="1117" y="1639"/>
                </a:lnTo>
                <a:lnTo>
                  <a:pt x="1111" y="1639"/>
                </a:lnTo>
                <a:lnTo>
                  <a:pt x="1104" y="1646"/>
                </a:lnTo>
                <a:lnTo>
                  <a:pt x="1097" y="1646"/>
                </a:lnTo>
                <a:lnTo>
                  <a:pt x="1090" y="1646"/>
                </a:lnTo>
                <a:lnTo>
                  <a:pt x="1083" y="1653"/>
                </a:lnTo>
                <a:lnTo>
                  <a:pt x="1076" y="1653"/>
                </a:lnTo>
                <a:lnTo>
                  <a:pt x="1069" y="1660"/>
                </a:lnTo>
                <a:lnTo>
                  <a:pt x="1062" y="1660"/>
                </a:lnTo>
                <a:lnTo>
                  <a:pt x="1055" y="1660"/>
                </a:lnTo>
                <a:lnTo>
                  <a:pt x="1049" y="1667"/>
                </a:lnTo>
                <a:lnTo>
                  <a:pt x="1042" y="1667"/>
                </a:lnTo>
                <a:lnTo>
                  <a:pt x="1035" y="1674"/>
                </a:lnTo>
                <a:lnTo>
                  <a:pt x="1028" y="1674"/>
                </a:lnTo>
                <a:lnTo>
                  <a:pt x="1021" y="1667"/>
                </a:lnTo>
                <a:close/>
                <a:moveTo>
                  <a:pt x="407" y="1598"/>
                </a:moveTo>
                <a:lnTo>
                  <a:pt x="400" y="1591"/>
                </a:lnTo>
                <a:lnTo>
                  <a:pt x="400" y="1577"/>
                </a:lnTo>
                <a:lnTo>
                  <a:pt x="400" y="1570"/>
                </a:lnTo>
                <a:lnTo>
                  <a:pt x="407" y="1556"/>
                </a:lnTo>
                <a:lnTo>
                  <a:pt x="407" y="1550"/>
                </a:lnTo>
                <a:lnTo>
                  <a:pt x="414" y="1543"/>
                </a:lnTo>
                <a:lnTo>
                  <a:pt x="414" y="1529"/>
                </a:lnTo>
                <a:lnTo>
                  <a:pt x="421" y="1522"/>
                </a:lnTo>
                <a:lnTo>
                  <a:pt x="421" y="1515"/>
                </a:lnTo>
                <a:lnTo>
                  <a:pt x="428" y="1501"/>
                </a:lnTo>
                <a:lnTo>
                  <a:pt x="428" y="1494"/>
                </a:lnTo>
                <a:lnTo>
                  <a:pt x="435" y="1488"/>
                </a:lnTo>
                <a:lnTo>
                  <a:pt x="435" y="1481"/>
                </a:lnTo>
                <a:lnTo>
                  <a:pt x="442" y="1467"/>
                </a:lnTo>
                <a:lnTo>
                  <a:pt x="442" y="1460"/>
                </a:lnTo>
                <a:lnTo>
                  <a:pt x="449" y="1453"/>
                </a:lnTo>
                <a:lnTo>
                  <a:pt x="449" y="1439"/>
                </a:lnTo>
                <a:lnTo>
                  <a:pt x="456" y="1432"/>
                </a:lnTo>
                <a:lnTo>
                  <a:pt x="456" y="1419"/>
                </a:lnTo>
                <a:lnTo>
                  <a:pt x="462" y="1412"/>
                </a:lnTo>
                <a:lnTo>
                  <a:pt x="462" y="1405"/>
                </a:lnTo>
                <a:lnTo>
                  <a:pt x="462" y="1391"/>
                </a:lnTo>
                <a:lnTo>
                  <a:pt x="469" y="1384"/>
                </a:lnTo>
                <a:lnTo>
                  <a:pt x="469" y="1370"/>
                </a:lnTo>
                <a:lnTo>
                  <a:pt x="469" y="1364"/>
                </a:lnTo>
                <a:lnTo>
                  <a:pt x="476" y="1357"/>
                </a:lnTo>
                <a:lnTo>
                  <a:pt x="476" y="1343"/>
                </a:lnTo>
                <a:lnTo>
                  <a:pt x="476" y="1336"/>
                </a:lnTo>
                <a:lnTo>
                  <a:pt x="476" y="1322"/>
                </a:lnTo>
                <a:lnTo>
                  <a:pt x="476" y="1315"/>
                </a:lnTo>
                <a:lnTo>
                  <a:pt x="469" y="1302"/>
                </a:lnTo>
                <a:lnTo>
                  <a:pt x="469" y="1295"/>
                </a:lnTo>
                <a:lnTo>
                  <a:pt x="476" y="1288"/>
                </a:lnTo>
                <a:lnTo>
                  <a:pt x="483" y="1281"/>
                </a:lnTo>
                <a:lnTo>
                  <a:pt x="490" y="1281"/>
                </a:lnTo>
                <a:lnTo>
                  <a:pt x="497" y="1274"/>
                </a:lnTo>
                <a:lnTo>
                  <a:pt x="504" y="1274"/>
                </a:lnTo>
                <a:lnTo>
                  <a:pt x="511" y="1274"/>
                </a:lnTo>
                <a:lnTo>
                  <a:pt x="518" y="1267"/>
                </a:lnTo>
                <a:lnTo>
                  <a:pt x="524" y="1274"/>
                </a:lnTo>
                <a:lnTo>
                  <a:pt x="531" y="1274"/>
                </a:lnTo>
                <a:lnTo>
                  <a:pt x="538" y="1274"/>
                </a:lnTo>
                <a:lnTo>
                  <a:pt x="538" y="1274"/>
                </a:lnTo>
                <a:lnTo>
                  <a:pt x="545" y="1281"/>
                </a:lnTo>
                <a:lnTo>
                  <a:pt x="552" y="1281"/>
                </a:lnTo>
                <a:lnTo>
                  <a:pt x="559" y="1281"/>
                </a:lnTo>
                <a:lnTo>
                  <a:pt x="566" y="1288"/>
                </a:lnTo>
                <a:lnTo>
                  <a:pt x="573" y="1295"/>
                </a:lnTo>
                <a:lnTo>
                  <a:pt x="580" y="1295"/>
                </a:lnTo>
                <a:lnTo>
                  <a:pt x="587" y="1302"/>
                </a:lnTo>
                <a:lnTo>
                  <a:pt x="593" y="1302"/>
                </a:lnTo>
                <a:lnTo>
                  <a:pt x="600" y="1302"/>
                </a:lnTo>
                <a:lnTo>
                  <a:pt x="607" y="1308"/>
                </a:lnTo>
                <a:lnTo>
                  <a:pt x="614" y="1308"/>
                </a:lnTo>
                <a:lnTo>
                  <a:pt x="621" y="1308"/>
                </a:lnTo>
                <a:lnTo>
                  <a:pt x="621" y="1308"/>
                </a:lnTo>
                <a:lnTo>
                  <a:pt x="628" y="1315"/>
                </a:lnTo>
                <a:lnTo>
                  <a:pt x="635" y="1315"/>
                </a:lnTo>
                <a:lnTo>
                  <a:pt x="642" y="1322"/>
                </a:lnTo>
                <a:lnTo>
                  <a:pt x="649" y="1322"/>
                </a:lnTo>
                <a:lnTo>
                  <a:pt x="656" y="1322"/>
                </a:lnTo>
                <a:lnTo>
                  <a:pt x="662" y="1329"/>
                </a:lnTo>
                <a:lnTo>
                  <a:pt x="669" y="1336"/>
                </a:lnTo>
                <a:lnTo>
                  <a:pt x="669" y="1343"/>
                </a:lnTo>
                <a:lnTo>
                  <a:pt x="676" y="1350"/>
                </a:lnTo>
                <a:lnTo>
                  <a:pt x="683" y="1350"/>
                </a:lnTo>
                <a:lnTo>
                  <a:pt x="690" y="1357"/>
                </a:lnTo>
                <a:lnTo>
                  <a:pt x="697" y="1364"/>
                </a:lnTo>
                <a:lnTo>
                  <a:pt x="690" y="1364"/>
                </a:lnTo>
                <a:lnTo>
                  <a:pt x="683" y="1364"/>
                </a:lnTo>
                <a:lnTo>
                  <a:pt x="676" y="1370"/>
                </a:lnTo>
                <a:lnTo>
                  <a:pt x="676" y="1377"/>
                </a:lnTo>
                <a:lnTo>
                  <a:pt x="669" y="1391"/>
                </a:lnTo>
                <a:lnTo>
                  <a:pt x="669" y="1398"/>
                </a:lnTo>
                <a:lnTo>
                  <a:pt x="662" y="1405"/>
                </a:lnTo>
                <a:lnTo>
                  <a:pt x="656" y="1412"/>
                </a:lnTo>
                <a:lnTo>
                  <a:pt x="656" y="1419"/>
                </a:lnTo>
                <a:lnTo>
                  <a:pt x="649" y="1426"/>
                </a:lnTo>
                <a:lnTo>
                  <a:pt x="642" y="1439"/>
                </a:lnTo>
                <a:lnTo>
                  <a:pt x="642" y="1446"/>
                </a:lnTo>
                <a:lnTo>
                  <a:pt x="635" y="1453"/>
                </a:lnTo>
                <a:lnTo>
                  <a:pt x="628" y="1460"/>
                </a:lnTo>
                <a:lnTo>
                  <a:pt x="628" y="1467"/>
                </a:lnTo>
                <a:lnTo>
                  <a:pt x="621" y="1474"/>
                </a:lnTo>
                <a:lnTo>
                  <a:pt x="621" y="1481"/>
                </a:lnTo>
                <a:lnTo>
                  <a:pt x="614" y="1494"/>
                </a:lnTo>
                <a:lnTo>
                  <a:pt x="607" y="1501"/>
                </a:lnTo>
                <a:lnTo>
                  <a:pt x="607" y="1508"/>
                </a:lnTo>
                <a:lnTo>
                  <a:pt x="600" y="1515"/>
                </a:lnTo>
                <a:lnTo>
                  <a:pt x="593" y="1522"/>
                </a:lnTo>
                <a:lnTo>
                  <a:pt x="593" y="1529"/>
                </a:lnTo>
                <a:lnTo>
                  <a:pt x="587" y="1536"/>
                </a:lnTo>
                <a:lnTo>
                  <a:pt x="580" y="1550"/>
                </a:lnTo>
                <a:lnTo>
                  <a:pt x="580" y="1556"/>
                </a:lnTo>
                <a:lnTo>
                  <a:pt x="573" y="1563"/>
                </a:lnTo>
                <a:lnTo>
                  <a:pt x="566" y="1570"/>
                </a:lnTo>
                <a:lnTo>
                  <a:pt x="566" y="1577"/>
                </a:lnTo>
                <a:lnTo>
                  <a:pt x="559" y="1584"/>
                </a:lnTo>
                <a:lnTo>
                  <a:pt x="552" y="1591"/>
                </a:lnTo>
                <a:lnTo>
                  <a:pt x="545" y="1591"/>
                </a:lnTo>
                <a:lnTo>
                  <a:pt x="538" y="1598"/>
                </a:lnTo>
                <a:lnTo>
                  <a:pt x="531" y="1598"/>
                </a:lnTo>
                <a:lnTo>
                  <a:pt x="524" y="1598"/>
                </a:lnTo>
                <a:lnTo>
                  <a:pt x="524" y="1605"/>
                </a:lnTo>
                <a:lnTo>
                  <a:pt x="518" y="1605"/>
                </a:lnTo>
                <a:lnTo>
                  <a:pt x="511" y="1612"/>
                </a:lnTo>
                <a:lnTo>
                  <a:pt x="504" y="1612"/>
                </a:lnTo>
                <a:lnTo>
                  <a:pt x="497" y="1612"/>
                </a:lnTo>
                <a:lnTo>
                  <a:pt x="490" y="1612"/>
                </a:lnTo>
                <a:lnTo>
                  <a:pt x="483" y="1612"/>
                </a:lnTo>
                <a:lnTo>
                  <a:pt x="476" y="1605"/>
                </a:lnTo>
                <a:lnTo>
                  <a:pt x="469" y="1605"/>
                </a:lnTo>
                <a:lnTo>
                  <a:pt x="462" y="1605"/>
                </a:lnTo>
                <a:lnTo>
                  <a:pt x="456" y="1605"/>
                </a:lnTo>
                <a:lnTo>
                  <a:pt x="449" y="1605"/>
                </a:lnTo>
                <a:lnTo>
                  <a:pt x="442" y="1605"/>
                </a:lnTo>
                <a:lnTo>
                  <a:pt x="435" y="1605"/>
                </a:lnTo>
                <a:lnTo>
                  <a:pt x="428" y="1605"/>
                </a:lnTo>
                <a:lnTo>
                  <a:pt x="421" y="1605"/>
                </a:lnTo>
                <a:lnTo>
                  <a:pt x="414" y="1605"/>
                </a:lnTo>
                <a:lnTo>
                  <a:pt x="407" y="1605"/>
                </a:lnTo>
                <a:lnTo>
                  <a:pt x="407" y="1598"/>
                </a:lnTo>
                <a:close/>
              </a:path>
            </a:pathLst>
          </a:custGeom>
          <a:solidFill>
            <a:srgbClr val="b3e1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1" name=""/>
          <p:cNvSpPr/>
          <p:nvPr/>
        </p:nvSpPr>
        <p:spPr>
          <a:xfrm>
            <a:off x="3576600" y="1328760"/>
            <a:ext cx="3251160" cy="5237280"/>
          </a:xfrm>
          <a:custGeom>
            <a:avLst/>
            <a:gdLst/>
            <a:ahLst/>
            <a:rect l="l" t="t" r="r" b="b"/>
            <a:pathLst>
              <a:path w="2048" h="3299">
                <a:moveTo>
                  <a:pt x="718" y="3299"/>
                </a:moveTo>
                <a:lnTo>
                  <a:pt x="752" y="3265"/>
                </a:lnTo>
                <a:lnTo>
                  <a:pt x="787" y="3265"/>
                </a:lnTo>
                <a:lnTo>
                  <a:pt x="821" y="3265"/>
                </a:lnTo>
                <a:lnTo>
                  <a:pt x="855" y="3230"/>
                </a:lnTo>
                <a:lnTo>
                  <a:pt x="890" y="3230"/>
                </a:lnTo>
                <a:lnTo>
                  <a:pt x="924" y="3230"/>
                </a:lnTo>
                <a:lnTo>
                  <a:pt x="959" y="3196"/>
                </a:lnTo>
                <a:lnTo>
                  <a:pt x="993" y="3196"/>
                </a:lnTo>
                <a:lnTo>
                  <a:pt x="1028" y="3196"/>
                </a:lnTo>
                <a:lnTo>
                  <a:pt x="1062" y="3161"/>
                </a:lnTo>
                <a:lnTo>
                  <a:pt x="1090" y="3161"/>
                </a:lnTo>
                <a:lnTo>
                  <a:pt x="1090" y="3127"/>
                </a:lnTo>
                <a:lnTo>
                  <a:pt x="1124" y="3093"/>
                </a:lnTo>
                <a:lnTo>
                  <a:pt x="1124" y="3058"/>
                </a:lnTo>
                <a:lnTo>
                  <a:pt x="1159" y="3024"/>
                </a:lnTo>
                <a:lnTo>
                  <a:pt x="1159" y="2996"/>
                </a:lnTo>
                <a:lnTo>
                  <a:pt x="1193" y="2962"/>
                </a:lnTo>
                <a:lnTo>
                  <a:pt x="1193" y="2927"/>
                </a:lnTo>
                <a:lnTo>
                  <a:pt x="1228" y="2893"/>
                </a:lnTo>
                <a:lnTo>
                  <a:pt x="1228" y="2858"/>
                </a:lnTo>
                <a:lnTo>
                  <a:pt x="1262" y="2824"/>
                </a:lnTo>
                <a:lnTo>
                  <a:pt x="1262" y="2789"/>
                </a:lnTo>
                <a:lnTo>
                  <a:pt x="1297" y="2755"/>
                </a:lnTo>
                <a:lnTo>
                  <a:pt x="1297" y="2721"/>
                </a:lnTo>
                <a:lnTo>
                  <a:pt x="1331" y="2686"/>
                </a:lnTo>
                <a:lnTo>
                  <a:pt x="1331" y="2652"/>
                </a:lnTo>
                <a:lnTo>
                  <a:pt x="1366" y="2617"/>
                </a:lnTo>
                <a:lnTo>
                  <a:pt x="1366" y="2583"/>
                </a:lnTo>
                <a:lnTo>
                  <a:pt x="1400" y="2548"/>
                </a:lnTo>
                <a:lnTo>
                  <a:pt x="1400" y="2514"/>
                </a:lnTo>
                <a:lnTo>
                  <a:pt x="1435" y="2480"/>
                </a:lnTo>
                <a:lnTo>
                  <a:pt x="1435" y="2452"/>
                </a:lnTo>
                <a:lnTo>
                  <a:pt x="1469" y="2418"/>
                </a:lnTo>
                <a:lnTo>
                  <a:pt x="1469" y="2383"/>
                </a:lnTo>
                <a:lnTo>
                  <a:pt x="1504" y="2349"/>
                </a:lnTo>
                <a:lnTo>
                  <a:pt x="1504" y="2314"/>
                </a:lnTo>
                <a:lnTo>
                  <a:pt x="1538" y="2280"/>
                </a:lnTo>
                <a:lnTo>
                  <a:pt x="1538" y="2245"/>
                </a:lnTo>
                <a:lnTo>
                  <a:pt x="1573" y="2211"/>
                </a:lnTo>
                <a:lnTo>
                  <a:pt x="1573" y="2176"/>
                </a:lnTo>
                <a:lnTo>
                  <a:pt x="1607" y="2142"/>
                </a:lnTo>
                <a:lnTo>
                  <a:pt x="1607" y="2108"/>
                </a:lnTo>
                <a:lnTo>
                  <a:pt x="1641" y="2073"/>
                </a:lnTo>
                <a:lnTo>
                  <a:pt x="1641" y="2039"/>
                </a:lnTo>
                <a:lnTo>
                  <a:pt x="1676" y="2004"/>
                </a:lnTo>
                <a:lnTo>
                  <a:pt x="1676" y="1970"/>
                </a:lnTo>
                <a:lnTo>
                  <a:pt x="1710" y="1935"/>
                </a:lnTo>
                <a:lnTo>
                  <a:pt x="1710" y="1908"/>
                </a:lnTo>
                <a:lnTo>
                  <a:pt x="1745" y="1873"/>
                </a:lnTo>
                <a:lnTo>
                  <a:pt x="1745" y="1866"/>
                </a:lnTo>
                <a:lnTo>
                  <a:pt x="1738" y="1866"/>
                </a:lnTo>
                <a:lnTo>
                  <a:pt x="1731" y="1866"/>
                </a:lnTo>
                <a:lnTo>
                  <a:pt x="1724" y="1860"/>
                </a:lnTo>
                <a:lnTo>
                  <a:pt x="1717" y="1860"/>
                </a:lnTo>
                <a:lnTo>
                  <a:pt x="1710" y="1853"/>
                </a:lnTo>
                <a:lnTo>
                  <a:pt x="1704" y="1853"/>
                </a:lnTo>
                <a:lnTo>
                  <a:pt x="1697" y="1853"/>
                </a:lnTo>
                <a:lnTo>
                  <a:pt x="1690" y="1846"/>
                </a:lnTo>
                <a:lnTo>
                  <a:pt x="1683" y="1839"/>
                </a:lnTo>
                <a:lnTo>
                  <a:pt x="1676" y="1832"/>
                </a:lnTo>
                <a:lnTo>
                  <a:pt x="1676" y="1825"/>
                </a:lnTo>
                <a:lnTo>
                  <a:pt x="1669" y="1818"/>
                </a:lnTo>
                <a:lnTo>
                  <a:pt x="1662" y="1825"/>
                </a:lnTo>
                <a:lnTo>
                  <a:pt x="1655" y="1825"/>
                </a:lnTo>
                <a:lnTo>
                  <a:pt x="1648" y="1832"/>
                </a:lnTo>
                <a:lnTo>
                  <a:pt x="1641" y="1832"/>
                </a:lnTo>
                <a:lnTo>
                  <a:pt x="1635" y="1825"/>
                </a:lnTo>
                <a:lnTo>
                  <a:pt x="1628" y="1818"/>
                </a:lnTo>
                <a:lnTo>
                  <a:pt x="1621" y="1811"/>
                </a:lnTo>
                <a:lnTo>
                  <a:pt x="1621" y="1804"/>
                </a:lnTo>
                <a:lnTo>
                  <a:pt x="1614" y="1798"/>
                </a:lnTo>
                <a:lnTo>
                  <a:pt x="1607" y="1798"/>
                </a:lnTo>
                <a:lnTo>
                  <a:pt x="1600" y="1798"/>
                </a:lnTo>
                <a:lnTo>
                  <a:pt x="1593" y="1798"/>
                </a:lnTo>
                <a:lnTo>
                  <a:pt x="1586" y="1798"/>
                </a:lnTo>
                <a:lnTo>
                  <a:pt x="1579" y="1791"/>
                </a:lnTo>
                <a:lnTo>
                  <a:pt x="1573" y="1791"/>
                </a:lnTo>
                <a:lnTo>
                  <a:pt x="1566" y="1784"/>
                </a:lnTo>
                <a:lnTo>
                  <a:pt x="1559" y="1784"/>
                </a:lnTo>
                <a:lnTo>
                  <a:pt x="1552" y="1777"/>
                </a:lnTo>
                <a:lnTo>
                  <a:pt x="1545" y="1770"/>
                </a:lnTo>
                <a:lnTo>
                  <a:pt x="1538" y="1770"/>
                </a:lnTo>
                <a:lnTo>
                  <a:pt x="1531" y="1763"/>
                </a:lnTo>
                <a:lnTo>
                  <a:pt x="1524" y="1763"/>
                </a:lnTo>
                <a:lnTo>
                  <a:pt x="1517" y="1756"/>
                </a:lnTo>
                <a:lnTo>
                  <a:pt x="1510" y="1756"/>
                </a:lnTo>
                <a:lnTo>
                  <a:pt x="1504" y="1756"/>
                </a:lnTo>
                <a:lnTo>
                  <a:pt x="1497" y="1756"/>
                </a:lnTo>
                <a:lnTo>
                  <a:pt x="1490" y="1756"/>
                </a:lnTo>
                <a:lnTo>
                  <a:pt x="1483" y="1749"/>
                </a:lnTo>
                <a:lnTo>
                  <a:pt x="1476" y="1749"/>
                </a:lnTo>
                <a:lnTo>
                  <a:pt x="1476" y="1736"/>
                </a:lnTo>
                <a:lnTo>
                  <a:pt x="1469" y="1729"/>
                </a:lnTo>
                <a:lnTo>
                  <a:pt x="1469" y="1715"/>
                </a:lnTo>
                <a:lnTo>
                  <a:pt x="1469" y="1715"/>
                </a:lnTo>
                <a:lnTo>
                  <a:pt x="1462" y="1722"/>
                </a:lnTo>
                <a:lnTo>
                  <a:pt x="1455" y="1736"/>
                </a:lnTo>
                <a:lnTo>
                  <a:pt x="1448" y="1736"/>
                </a:lnTo>
                <a:lnTo>
                  <a:pt x="1442" y="1742"/>
                </a:lnTo>
                <a:lnTo>
                  <a:pt x="1435" y="1736"/>
                </a:lnTo>
                <a:lnTo>
                  <a:pt x="1428" y="1736"/>
                </a:lnTo>
                <a:lnTo>
                  <a:pt x="1421" y="1729"/>
                </a:lnTo>
                <a:lnTo>
                  <a:pt x="1414" y="1729"/>
                </a:lnTo>
                <a:lnTo>
                  <a:pt x="1407" y="1722"/>
                </a:lnTo>
                <a:lnTo>
                  <a:pt x="1400" y="1722"/>
                </a:lnTo>
                <a:lnTo>
                  <a:pt x="1393" y="1715"/>
                </a:lnTo>
                <a:lnTo>
                  <a:pt x="1386" y="1708"/>
                </a:lnTo>
                <a:lnTo>
                  <a:pt x="1386" y="1694"/>
                </a:lnTo>
                <a:lnTo>
                  <a:pt x="1393" y="1687"/>
                </a:lnTo>
                <a:lnTo>
                  <a:pt x="1400" y="1680"/>
                </a:lnTo>
                <a:lnTo>
                  <a:pt x="1407" y="1674"/>
                </a:lnTo>
                <a:lnTo>
                  <a:pt x="1414" y="1674"/>
                </a:lnTo>
                <a:lnTo>
                  <a:pt x="1414" y="1667"/>
                </a:lnTo>
                <a:lnTo>
                  <a:pt x="1421" y="1660"/>
                </a:lnTo>
                <a:lnTo>
                  <a:pt x="1428" y="1653"/>
                </a:lnTo>
                <a:lnTo>
                  <a:pt x="1435" y="1646"/>
                </a:lnTo>
                <a:lnTo>
                  <a:pt x="1442" y="1639"/>
                </a:lnTo>
                <a:lnTo>
                  <a:pt x="1448" y="1639"/>
                </a:lnTo>
                <a:lnTo>
                  <a:pt x="1455" y="1632"/>
                </a:lnTo>
                <a:lnTo>
                  <a:pt x="1462" y="1618"/>
                </a:lnTo>
                <a:lnTo>
                  <a:pt x="1462" y="1618"/>
                </a:lnTo>
                <a:lnTo>
                  <a:pt x="1469" y="1618"/>
                </a:lnTo>
                <a:lnTo>
                  <a:pt x="1476" y="1625"/>
                </a:lnTo>
                <a:lnTo>
                  <a:pt x="1476" y="1639"/>
                </a:lnTo>
                <a:lnTo>
                  <a:pt x="1476" y="1646"/>
                </a:lnTo>
                <a:lnTo>
                  <a:pt x="1476" y="1660"/>
                </a:lnTo>
                <a:lnTo>
                  <a:pt x="1476" y="1667"/>
                </a:lnTo>
                <a:lnTo>
                  <a:pt x="1469" y="1680"/>
                </a:lnTo>
                <a:lnTo>
                  <a:pt x="1469" y="1694"/>
                </a:lnTo>
                <a:lnTo>
                  <a:pt x="1469" y="1701"/>
                </a:lnTo>
                <a:lnTo>
                  <a:pt x="1476" y="1708"/>
                </a:lnTo>
                <a:lnTo>
                  <a:pt x="1483" y="1715"/>
                </a:lnTo>
                <a:lnTo>
                  <a:pt x="1490" y="1715"/>
                </a:lnTo>
                <a:lnTo>
                  <a:pt x="1497" y="1715"/>
                </a:lnTo>
                <a:lnTo>
                  <a:pt x="1504" y="1715"/>
                </a:lnTo>
                <a:lnTo>
                  <a:pt x="1510" y="1715"/>
                </a:lnTo>
                <a:lnTo>
                  <a:pt x="1517" y="1715"/>
                </a:lnTo>
                <a:lnTo>
                  <a:pt x="1524" y="1715"/>
                </a:lnTo>
                <a:lnTo>
                  <a:pt x="1531" y="1715"/>
                </a:lnTo>
                <a:lnTo>
                  <a:pt x="1538" y="1722"/>
                </a:lnTo>
                <a:lnTo>
                  <a:pt x="1545" y="1722"/>
                </a:lnTo>
                <a:lnTo>
                  <a:pt x="1552" y="1722"/>
                </a:lnTo>
                <a:lnTo>
                  <a:pt x="1559" y="1729"/>
                </a:lnTo>
                <a:lnTo>
                  <a:pt x="1566" y="1729"/>
                </a:lnTo>
                <a:lnTo>
                  <a:pt x="1573" y="1729"/>
                </a:lnTo>
                <a:lnTo>
                  <a:pt x="1579" y="1736"/>
                </a:lnTo>
                <a:lnTo>
                  <a:pt x="1586" y="1736"/>
                </a:lnTo>
                <a:lnTo>
                  <a:pt x="1593" y="1736"/>
                </a:lnTo>
                <a:lnTo>
                  <a:pt x="1600" y="1742"/>
                </a:lnTo>
                <a:lnTo>
                  <a:pt x="1607" y="1742"/>
                </a:lnTo>
                <a:lnTo>
                  <a:pt x="1614" y="1742"/>
                </a:lnTo>
                <a:lnTo>
                  <a:pt x="1621" y="1742"/>
                </a:lnTo>
                <a:lnTo>
                  <a:pt x="1628" y="1742"/>
                </a:lnTo>
                <a:lnTo>
                  <a:pt x="1635" y="1736"/>
                </a:lnTo>
                <a:lnTo>
                  <a:pt x="1641" y="1736"/>
                </a:lnTo>
                <a:lnTo>
                  <a:pt x="1648" y="1736"/>
                </a:lnTo>
                <a:lnTo>
                  <a:pt x="1655" y="1736"/>
                </a:lnTo>
                <a:lnTo>
                  <a:pt x="1662" y="1742"/>
                </a:lnTo>
                <a:lnTo>
                  <a:pt x="1669" y="1742"/>
                </a:lnTo>
                <a:lnTo>
                  <a:pt x="1676" y="1749"/>
                </a:lnTo>
                <a:lnTo>
                  <a:pt x="1683" y="1749"/>
                </a:lnTo>
                <a:lnTo>
                  <a:pt x="1690" y="1756"/>
                </a:lnTo>
                <a:lnTo>
                  <a:pt x="1697" y="1756"/>
                </a:lnTo>
                <a:lnTo>
                  <a:pt x="1704" y="1763"/>
                </a:lnTo>
                <a:lnTo>
                  <a:pt x="1710" y="1756"/>
                </a:lnTo>
                <a:lnTo>
                  <a:pt x="1710" y="1749"/>
                </a:lnTo>
                <a:lnTo>
                  <a:pt x="1717" y="1742"/>
                </a:lnTo>
                <a:lnTo>
                  <a:pt x="1717" y="1729"/>
                </a:lnTo>
                <a:lnTo>
                  <a:pt x="1717" y="1715"/>
                </a:lnTo>
                <a:lnTo>
                  <a:pt x="1710" y="1708"/>
                </a:lnTo>
                <a:lnTo>
                  <a:pt x="1710" y="1694"/>
                </a:lnTo>
                <a:lnTo>
                  <a:pt x="1704" y="1687"/>
                </a:lnTo>
                <a:lnTo>
                  <a:pt x="1697" y="1680"/>
                </a:lnTo>
                <a:lnTo>
                  <a:pt x="1697" y="1674"/>
                </a:lnTo>
                <a:lnTo>
                  <a:pt x="1690" y="1667"/>
                </a:lnTo>
                <a:lnTo>
                  <a:pt x="1683" y="1660"/>
                </a:lnTo>
                <a:lnTo>
                  <a:pt x="1683" y="1646"/>
                </a:lnTo>
                <a:lnTo>
                  <a:pt x="1676" y="1639"/>
                </a:lnTo>
                <a:lnTo>
                  <a:pt x="1676" y="1632"/>
                </a:lnTo>
                <a:lnTo>
                  <a:pt x="1676" y="1618"/>
                </a:lnTo>
                <a:lnTo>
                  <a:pt x="1669" y="1612"/>
                </a:lnTo>
                <a:lnTo>
                  <a:pt x="1669" y="1598"/>
                </a:lnTo>
                <a:lnTo>
                  <a:pt x="1669" y="1584"/>
                </a:lnTo>
                <a:lnTo>
                  <a:pt x="1669" y="1577"/>
                </a:lnTo>
                <a:lnTo>
                  <a:pt x="1669" y="1563"/>
                </a:lnTo>
                <a:lnTo>
                  <a:pt x="1676" y="1556"/>
                </a:lnTo>
                <a:lnTo>
                  <a:pt x="1676" y="1543"/>
                </a:lnTo>
                <a:lnTo>
                  <a:pt x="1683" y="1536"/>
                </a:lnTo>
                <a:lnTo>
                  <a:pt x="1683" y="1522"/>
                </a:lnTo>
                <a:lnTo>
                  <a:pt x="1683" y="1515"/>
                </a:lnTo>
                <a:lnTo>
                  <a:pt x="1690" y="1501"/>
                </a:lnTo>
                <a:lnTo>
                  <a:pt x="1690" y="1494"/>
                </a:lnTo>
                <a:lnTo>
                  <a:pt x="1690" y="1481"/>
                </a:lnTo>
                <a:lnTo>
                  <a:pt x="1697" y="1474"/>
                </a:lnTo>
                <a:lnTo>
                  <a:pt x="1697" y="1460"/>
                </a:lnTo>
                <a:lnTo>
                  <a:pt x="1697" y="1453"/>
                </a:lnTo>
                <a:lnTo>
                  <a:pt x="1704" y="1439"/>
                </a:lnTo>
                <a:lnTo>
                  <a:pt x="1704" y="1432"/>
                </a:lnTo>
                <a:lnTo>
                  <a:pt x="1704" y="1419"/>
                </a:lnTo>
                <a:lnTo>
                  <a:pt x="1710" y="1412"/>
                </a:lnTo>
                <a:lnTo>
                  <a:pt x="1710" y="1398"/>
                </a:lnTo>
                <a:lnTo>
                  <a:pt x="1717" y="1391"/>
                </a:lnTo>
                <a:lnTo>
                  <a:pt x="1717" y="1384"/>
                </a:lnTo>
                <a:lnTo>
                  <a:pt x="1717" y="1370"/>
                </a:lnTo>
                <a:lnTo>
                  <a:pt x="1724" y="1364"/>
                </a:lnTo>
                <a:lnTo>
                  <a:pt x="1724" y="1350"/>
                </a:lnTo>
                <a:lnTo>
                  <a:pt x="1724" y="1343"/>
                </a:lnTo>
                <a:lnTo>
                  <a:pt x="1731" y="1329"/>
                </a:lnTo>
                <a:lnTo>
                  <a:pt x="1731" y="1322"/>
                </a:lnTo>
                <a:lnTo>
                  <a:pt x="1731" y="1308"/>
                </a:lnTo>
                <a:lnTo>
                  <a:pt x="1738" y="1302"/>
                </a:lnTo>
                <a:lnTo>
                  <a:pt x="1738" y="1288"/>
                </a:lnTo>
                <a:lnTo>
                  <a:pt x="1738" y="1281"/>
                </a:lnTo>
                <a:lnTo>
                  <a:pt x="1745" y="1267"/>
                </a:lnTo>
                <a:lnTo>
                  <a:pt x="1745" y="1260"/>
                </a:lnTo>
                <a:lnTo>
                  <a:pt x="1752" y="1246"/>
                </a:lnTo>
                <a:lnTo>
                  <a:pt x="1752" y="1240"/>
                </a:lnTo>
                <a:lnTo>
                  <a:pt x="1752" y="1226"/>
                </a:lnTo>
                <a:lnTo>
                  <a:pt x="1759" y="1219"/>
                </a:lnTo>
                <a:lnTo>
                  <a:pt x="1759" y="1205"/>
                </a:lnTo>
                <a:lnTo>
                  <a:pt x="1759" y="1198"/>
                </a:lnTo>
                <a:lnTo>
                  <a:pt x="1766" y="1184"/>
                </a:lnTo>
                <a:lnTo>
                  <a:pt x="1766" y="1178"/>
                </a:lnTo>
                <a:lnTo>
                  <a:pt x="1766" y="1164"/>
                </a:lnTo>
                <a:lnTo>
                  <a:pt x="1772" y="1157"/>
                </a:lnTo>
                <a:lnTo>
                  <a:pt x="1772" y="1143"/>
                </a:lnTo>
                <a:lnTo>
                  <a:pt x="1779" y="1136"/>
                </a:lnTo>
                <a:lnTo>
                  <a:pt x="1779" y="1129"/>
                </a:lnTo>
                <a:lnTo>
                  <a:pt x="1779" y="1116"/>
                </a:lnTo>
                <a:lnTo>
                  <a:pt x="1786" y="1109"/>
                </a:lnTo>
                <a:lnTo>
                  <a:pt x="1786" y="1095"/>
                </a:lnTo>
                <a:lnTo>
                  <a:pt x="1786" y="1088"/>
                </a:lnTo>
                <a:lnTo>
                  <a:pt x="1793" y="1074"/>
                </a:lnTo>
                <a:lnTo>
                  <a:pt x="1793" y="1067"/>
                </a:lnTo>
                <a:lnTo>
                  <a:pt x="1793" y="1054"/>
                </a:lnTo>
                <a:lnTo>
                  <a:pt x="1800" y="1047"/>
                </a:lnTo>
                <a:lnTo>
                  <a:pt x="1800" y="1033"/>
                </a:lnTo>
                <a:lnTo>
                  <a:pt x="1800" y="1026"/>
                </a:lnTo>
                <a:lnTo>
                  <a:pt x="1807" y="1012"/>
                </a:lnTo>
                <a:lnTo>
                  <a:pt x="1807" y="998"/>
                </a:lnTo>
                <a:lnTo>
                  <a:pt x="1814" y="998"/>
                </a:lnTo>
                <a:lnTo>
                  <a:pt x="1814" y="998"/>
                </a:lnTo>
                <a:lnTo>
                  <a:pt x="1821" y="1012"/>
                </a:lnTo>
                <a:lnTo>
                  <a:pt x="1828" y="1026"/>
                </a:lnTo>
                <a:lnTo>
                  <a:pt x="1828" y="1033"/>
                </a:lnTo>
                <a:lnTo>
                  <a:pt x="1835" y="1040"/>
                </a:lnTo>
                <a:lnTo>
                  <a:pt x="1835" y="1054"/>
                </a:lnTo>
                <a:lnTo>
                  <a:pt x="1841" y="1060"/>
                </a:lnTo>
                <a:lnTo>
                  <a:pt x="1841" y="1067"/>
                </a:lnTo>
                <a:lnTo>
                  <a:pt x="1841" y="1081"/>
                </a:lnTo>
                <a:lnTo>
                  <a:pt x="1848" y="1088"/>
                </a:lnTo>
                <a:lnTo>
                  <a:pt x="1848" y="1102"/>
                </a:lnTo>
                <a:lnTo>
                  <a:pt x="1855" y="1109"/>
                </a:lnTo>
                <a:lnTo>
                  <a:pt x="1855" y="1122"/>
                </a:lnTo>
                <a:lnTo>
                  <a:pt x="1862" y="1129"/>
                </a:lnTo>
                <a:lnTo>
                  <a:pt x="1862" y="1136"/>
                </a:lnTo>
                <a:lnTo>
                  <a:pt x="1876" y="1122"/>
                </a:lnTo>
                <a:lnTo>
                  <a:pt x="1876" y="1088"/>
                </a:lnTo>
                <a:lnTo>
                  <a:pt x="1876" y="1054"/>
                </a:lnTo>
                <a:lnTo>
                  <a:pt x="1876" y="1019"/>
                </a:lnTo>
                <a:lnTo>
                  <a:pt x="1876" y="985"/>
                </a:lnTo>
                <a:lnTo>
                  <a:pt x="1910" y="950"/>
                </a:lnTo>
                <a:lnTo>
                  <a:pt x="1910" y="916"/>
                </a:lnTo>
                <a:lnTo>
                  <a:pt x="1910" y="888"/>
                </a:lnTo>
                <a:lnTo>
                  <a:pt x="1910" y="854"/>
                </a:lnTo>
                <a:lnTo>
                  <a:pt x="1910" y="819"/>
                </a:lnTo>
                <a:lnTo>
                  <a:pt x="1910" y="785"/>
                </a:lnTo>
                <a:lnTo>
                  <a:pt x="1945" y="751"/>
                </a:lnTo>
                <a:lnTo>
                  <a:pt x="1945" y="716"/>
                </a:lnTo>
                <a:lnTo>
                  <a:pt x="1945" y="682"/>
                </a:lnTo>
                <a:lnTo>
                  <a:pt x="1945" y="647"/>
                </a:lnTo>
                <a:lnTo>
                  <a:pt x="1945" y="613"/>
                </a:lnTo>
                <a:lnTo>
                  <a:pt x="1945" y="578"/>
                </a:lnTo>
                <a:lnTo>
                  <a:pt x="1979" y="544"/>
                </a:lnTo>
                <a:lnTo>
                  <a:pt x="1979" y="509"/>
                </a:lnTo>
                <a:lnTo>
                  <a:pt x="1979" y="475"/>
                </a:lnTo>
                <a:lnTo>
                  <a:pt x="1979" y="441"/>
                </a:lnTo>
                <a:lnTo>
                  <a:pt x="1979" y="406"/>
                </a:lnTo>
                <a:lnTo>
                  <a:pt x="1979" y="372"/>
                </a:lnTo>
                <a:lnTo>
                  <a:pt x="2014" y="344"/>
                </a:lnTo>
                <a:lnTo>
                  <a:pt x="2014" y="310"/>
                </a:lnTo>
                <a:lnTo>
                  <a:pt x="2014" y="275"/>
                </a:lnTo>
                <a:lnTo>
                  <a:pt x="2014" y="241"/>
                </a:lnTo>
                <a:lnTo>
                  <a:pt x="2014" y="206"/>
                </a:lnTo>
                <a:lnTo>
                  <a:pt x="2014" y="172"/>
                </a:lnTo>
                <a:lnTo>
                  <a:pt x="2048" y="137"/>
                </a:lnTo>
                <a:lnTo>
                  <a:pt x="2048" y="103"/>
                </a:lnTo>
                <a:lnTo>
                  <a:pt x="2048" y="69"/>
                </a:lnTo>
                <a:lnTo>
                  <a:pt x="2048" y="34"/>
                </a:lnTo>
                <a:lnTo>
                  <a:pt x="2048" y="0"/>
                </a:lnTo>
                <a:lnTo>
                  <a:pt x="2014" y="0"/>
                </a:lnTo>
                <a:lnTo>
                  <a:pt x="1979" y="0"/>
                </a:lnTo>
                <a:lnTo>
                  <a:pt x="1945" y="0"/>
                </a:lnTo>
                <a:lnTo>
                  <a:pt x="1910" y="34"/>
                </a:lnTo>
                <a:lnTo>
                  <a:pt x="1876" y="34"/>
                </a:lnTo>
                <a:lnTo>
                  <a:pt x="1841" y="69"/>
                </a:lnTo>
                <a:lnTo>
                  <a:pt x="1807" y="69"/>
                </a:lnTo>
                <a:lnTo>
                  <a:pt x="1779" y="69"/>
                </a:lnTo>
                <a:lnTo>
                  <a:pt x="1745" y="103"/>
                </a:lnTo>
                <a:lnTo>
                  <a:pt x="1710" y="103"/>
                </a:lnTo>
                <a:lnTo>
                  <a:pt x="1676" y="137"/>
                </a:lnTo>
                <a:lnTo>
                  <a:pt x="1641" y="137"/>
                </a:lnTo>
                <a:lnTo>
                  <a:pt x="1607" y="172"/>
                </a:lnTo>
                <a:lnTo>
                  <a:pt x="1573" y="172"/>
                </a:lnTo>
                <a:lnTo>
                  <a:pt x="1538" y="206"/>
                </a:lnTo>
                <a:lnTo>
                  <a:pt x="1504" y="206"/>
                </a:lnTo>
                <a:lnTo>
                  <a:pt x="1469" y="206"/>
                </a:lnTo>
                <a:lnTo>
                  <a:pt x="1435" y="241"/>
                </a:lnTo>
                <a:lnTo>
                  <a:pt x="1400" y="241"/>
                </a:lnTo>
                <a:lnTo>
                  <a:pt x="1366" y="275"/>
                </a:lnTo>
                <a:lnTo>
                  <a:pt x="1331" y="275"/>
                </a:lnTo>
                <a:lnTo>
                  <a:pt x="1297" y="310"/>
                </a:lnTo>
                <a:lnTo>
                  <a:pt x="1262" y="310"/>
                </a:lnTo>
                <a:lnTo>
                  <a:pt x="1228" y="344"/>
                </a:lnTo>
                <a:lnTo>
                  <a:pt x="1193" y="344"/>
                </a:lnTo>
                <a:lnTo>
                  <a:pt x="1159" y="344"/>
                </a:lnTo>
                <a:lnTo>
                  <a:pt x="1124" y="372"/>
                </a:lnTo>
                <a:lnTo>
                  <a:pt x="1090" y="372"/>
                </a:lnTo>
                <a:lnTo>
                  <a:pt x="1062" y="406"/>
                </a:lnTo>
                <a:lnTo>
                  <a:pt x="1028" y="406"/>
                </a:lnTo>
                <a:lnTo>
                  <a:pt x="993" y="441"/>
                </a:lnTo>
                <a:lnTo>
                  <a:pt x="959" y="441"/>
                </a:lnTo>
                <a:lnTo>
                  <a:pt x="924" y="475"/>
                </a:lnTo>
                <a:lnTo>
                  <a:pt x="890" y="475"/>
                </a:lnTo>
                <a:lnTo>
                  <a:pt x="855" y="475"/>
                </a:lnTo>
                <a:lnTo>
                  <a:pt x="821" y="509"/>
                </a:lnTo>
                <a:lnTo>
                  <a:pt x="787" y="544"/>
                </a:lnTo>
                <a:lnTo>
                  <a:pt x="752" y="578"/>
                </a:lnTo>
                <a:lnTo>
                  <a:pt x="752" y="613"/>
                </a:lnTo>
                <a:lnTo>
                  <a:pt x="718" y="647"/>
                </a:lnTo>
                <a:lnTo>
                  <a:pt x="683" y="682"/>
                </a:lnTo>
                <a:lnTo>
                  <a:pt x="649" y="716"/>
                </a:lnTo>
                <a:lnTo>
                  <a:pt x="649" y="751"/>
                </a:lnTo>
                <a:lnTo>
                  <a:pt x="614" y="785"/>
                </a:lnTo>
                <a:lnTo>
                  <a:pt x="580" y="819"/>
                </a:lnTo>
                <a:lnTo>
                  <a:pt x="545" y="854"/>
                </a:lnTo>
                <a:lnTo>
                  <a:pt x="545" y="888"/>
                </a:lnTo>
                <a:lnTo>
                  <a:pt x="511" y="916"/>
                </a:lnTo>
                <a:lnTo>
                  <a:pt x="476" y="950"/>
                </a:lnTo>
                <a:lnTo>
                  <a:pt x="476" y="985"/>
                </a:lnTo>
                <a:lnTo>
                  <a:pt x="442" y="1019"/>
                </a:lnTo>
                <a:lnTo>
                  <a:pt x="442" y="1054"/>
                </a:lnTo>
                <a:lnTo>
                  <a:pt x="442" y="1088"/>
                </a:lnTo>
                <a:lnTo>
                  <a:pt x="407" y="1122"/>
                </a:lnTo>
                <a:lnTo>
                  <a:pt x="407" y="1157"/>
                </a:lnTo>
                <a:lnTo>
                  <a:pt x="373" y="1191"/>
                </a:lnTo>
                <a:lnTo>
                  <a:pt x="373" y="1226"/>
                </a:lnTo>
                <a:lnTo>
                  <a:pt x="338" y="1260"/>
                </a:lnTo>
                <a:lnTo>
                  <a:pt x="338" y="1295"/>
                </a:lnTo>
                <a:lnTo>
                  <a:pt x="311" y="1329"/>
                </a:lnTo>
                <a:lnTo>
                  <a:pt x="311" y="1364"/>
                </a:lnTo>
                <a:lnTo>
                  <a:pt x="276" y="1398"/>
                </a:lnTo>
                <a:lnTo>
                  <a:pt x="276" y="1426"/>
                </a:lnTo>
                <a:lnTo>
                  <a:pt x="276" y="1460"/>
                </a:lnTo>
                <a:lnTo>
                  <a:pt x="242" y="1494"/>
                </a:lnTo>
                <a:lnTo>
                  <a:pt x="242" y="1529"/>
                </a:lnTo>
                <a:lnTo>
                  <a:pt x="207" y="1563"/>
                </a:lnTo>
                <a:lnTo>
                  <a:pt x="207" y="1598"/>
                </a:lnTo>
                <a:lnTo>
                  <a:pt x="173" y="1632"/>
                </a:lnTo>
                <a:lnTo>
                  <a:pt x="173" y="1667"/>
                </a:lnTo>
                <a:lnTo>
                  <a:pt x="138" y="1701"/>
                </a:lnTo>
                <a:lnTo>
                  <a:pt x="138" y="1736"/>
                </a:lnTo>
                <a:lnTo>
                  <a:pt x="138" y="1770"/>
                </a:lnTo>
                <a:lnTo>
                  <a:pt x="104" y="1804"/>
                </a:lnTo>
                <a:lnTo>
                  <a:pt x="104" y="1839"/>
                </a:lnTo>
                <a:lnTo>
                  <a:pt x="69" y="1873"/>
                </a:lnTo>
                <a:lnTo>
                  <a:pt x="69" y="1908"/>
                </a:lnTo>
                <a:lnTo>
                  <a:pt x="69" y="1935"/>
                </a:lnTo>
                <a:lnTo>
                  <a:pt x="69" y="1970"/>
                </a:lnTo>
                <a:lnTo>
                  <a:pt x="69" y="2004"/>
                </a:lnTo>
                <a:lnTo>
                  <a:pt x="35" y="2039"/>
                </a:lnTo>
                <a:lnTo>
                  <a:pt x="35" y="2073"/>
                </a:lnTo>
                <a:lnTo>
                  <a:pt x="35" y="2108"/>
                </a:lnTo>
                <a:lnTo>
                  <a:pt x="35" y="2142"/>
                </a:lnTo>
                <a:lnTo>
                  <a:pt x="0" y="2176"/>
                </a:lnTo>
                <a:lnTo>
                  <a:pt x="0" y="2211"/>
                </a:lnTo>
                <a:lnTo>
                  <a:pt x="0" y="2245"/>
                </a:lnTo>
                <a:lnTo>
                  <a:pt x="0" y="2280"/>
                </a:lnTo>
                <a:lnTo>
                  <a:pt x="0" y="2314"/>
                </a:lnTo>
                <a:lnTo>
                  <a:pt x="0" y="2349"/>
                </a:lnTo>
                <a:lnTo>
                  <a:pt x="0" y="2383"/>
                </a:lnTo>
                <a:lnTo>
                  <a:pt x="0" y="2418"/>
                </a:lnTo>
                <a:lnTo>
                  <a:pt x="0" y="2452"/>
                </a:lnTo>
                <a:lnTo>
                  <a:pt x="0" y="2480"/>
                </a:lnTo>
                <a:lnTo>
                  <a:pt x="0" y="2514"/>
                </a:lnTo>
                <a:lnTo>
                  <a:pt x="0" y="2548"/>
                </a:lnTo>
                <a:lnTo>
                  <a:pt x="0" y="2583"/>
                </a:lnTo>
                <a:lnTo>
                  <a:pt x="35" y="2617"/>
                </a:lnTo>
                <a:lnTo>
                  <a:pt x="35" y="2652"/>
                </a:lnTo>
                <a:lnTo>
                  <a:pt x="35" y="2686"/>
                </a:lnTo>
                <a:lnTo>
                  <a:pt x="35" y="2721"/>
                </a:lnTo>
                <a:lnTo>
                  <a:pt x="35" y="2755"/>
                </a:lnTo>
                <a:lnTo>
                  <a:pt x="35" y="2789"/>
                </a:lnTo>
                <a:lnTo>
                  <a:pt x="35" y="2824"/>
                </a:lnTo>
                <a:lnTo>
                  <a:pt x="35" y="2858"/>
                </a:lnTo>
                <a:lnTo>
                  <a:pt x="35" y="2893"/>
                </a:lnTo>
                <a:lnTo>
                  <a:pt x="69" y="2927"/>
                </a:lnTo>
                <a:lnTo>
                  <a:pt x="69" y="2962"/>
                </a:lnTo>
                <a:lnTo>
                  <a:pt x="90" y="2982"/>
                </a:lnTo>
                <a:lnTo>
                  <a:pt x="97" y="2975"/>
                </a:lnTo>
                <a:lnTo>
                  <a:pt x="104" y="2975"/>
                </a:lnTo>
                <a:lnTo>
                  <a:pt x="111" y="2969"/>
                </a:lnTo>
                <a:lnTo>
                  <a:pt x="118" y="2969"/>
                </a:lnTo>
                <a:lnTo>
                  <a:pt x="125" y="2962"/>
                </a:lnTo>
                <a:lnTo>
                  <a:pt x="131" y="2962"/>
                </a:lnTo>
                <a:lnTo>
                  <a:pt x="138" y="2962"/>
                </a:lnTo>
                <a:lnTo>
                  <a:pt x="152" y="2955"/>
                </a:lnTo>
                <a:lnTo>
                  <a:pt x="159" y="2955"/>
                </a:lnTo>
                <a:lnTo>
                  <a:pt x="166" y="2962"/>
                </a:lnTo>
                <a:lnTo>
                  <a:pt x="173" y="2962"/>
                </a:lnTo>
                <a:lnTo>
                  <a:pt x="180" y="2969"/>
                </a:lnTo>
                <a:lnTo>
                  <a:pt x="180" y="2975"/>
                </a:lnTo>
                <a:lnTo>
                  <a:pt x="187" y="2982"/>
                </a:lnTo>
                <a:lnTo>
                  <a:pt x="194" y="2996"/>
                </a:lnTo>
                <a:lnTo>
                  <a:pt x="200" y="3003"/>
                </a:lnTo>
                <a:lnTo>
                  <a:pt x="200" y="3017"/>
                </a:lnTo>
                <a:lnTo>
                  <a:pt x="200" y="3024"/>
                </a:lnTo>
                <a:lnTo>
                  <a:pt x="194" y="3037"/>
                </a:lnTo>
                <a:lnTo>
                  <a:pt x="194" y="3044"/>
                </a:lnTo>
                <a:lnTo>
                  <a:pt x="187" y="3058"/>
                </a:lnTo>
                <a:lnTo>
                  <a:pt x="187" y="3065"/>
                </a:lnTo>
                <a:lnTo>
                  <a:pt x="187" y="3079"/>
                </a:lnTo>
                <a:lnTo>
                  <a:pt x="207" y="3093"/>
                </a:lnTo>
                <a:lnTo>
                  <a:pt x="242" y="3127"/>
                </a:lnTo>
                <a:lnTo>
                  <a:pt x="276" y="3161"/>
                </a:lnTo>
                <a:lnTo>
                  <a:pt x="311" y="3196"/>
                </a:lnTo>
                <a:lnTo>
                  <a:pt x="338" y="3196"/>
                </a:lnTo>
                <a:lnTo>
                  <a:pt x="373" y="3230"/>
                </a:lnTo>
                <a:lnTo>
                  <a:pt x="407" y="3230"/>
                </a:lnTo>
                <a:lnTo>
                  <a:pt x="442" y="3230"/>
                </a:lnTo>
                <a:lnTo>
                  <a:pt x="476" y="3265"/>
                </a:lnTo>
                <a:lnTo>
                  <a:pt x="511" y="3265"/>
                </a:lnTo>
                <a:lnTo>
                  <a:pt x="545" y="3299"/>
                </a:lnTo>
                <a:lnTo>
                  <a:pt x="580" y="3299"/>
                </a:lnTo>
                <a:lnTo>
                  <a:pt x="614" y="3299"/>
                </a:lnTo>
                <a:lnTo>
                  <a:pt x="649" y="3299"/>
                </a:lnTo>
                <a:lnTo>
                  <a:pt x="683" y="3299"/>
                </a:lnTo>
                <a:lnTo>
                  <a:pt x="718" y="3299"/>
                </a:lnTo>
                <a:close/>
                <a:moveTo>
                  <a:pt x="373" y="2858"/>
                </a:moveTo>
                <a:lnTo>
                  <a:pt x="373" y="2845"/>
                </a:lnTo>
                <a:lnTo>
                  <a:pt x="366" y="2831"/>
                </a:lnTo>
                <a:lnTo>
                  <a:pt x="366" y="2824"/>
                </a:lnTo>
                <a:lnTo>
                  <a:pt x="359" y="2817"/>
                </a:lnTo>
                <a:lnTo>
                  <a:pt x="352" y="2810"/>
                </a:lnTo>
                <a:lnTo>
                  <a:pt x="345" y="2810"/>
                </a:lnTo>
                <a:lnTo>
                  <a:pt x="338" y="2803"/>
                </a:lnTo>
                <a:lnTo>
                  <a:pt x="325" y="2803"/>
                </a:lnTo>
                <a:lnTo>
                  <a:pt x="318" y="2796"/>
                </a:lnTo>
                <a:lnTo>
                  <a:pt x="318" y="2789"/>
                </a:lnTo>
                <a:lnTo>
                  <a:pt x="318" y="2776"/>
                </a:lnTo>
                <a:lnTo>
                  <a:pt x="318" y="2762"/>
                </a:lnTo>
                <a:lnTo>
                  <a:pt x="318" y="2748"/>
                </a:lnTo>
                <a:lnTo>
                  <a:pt x="311" y="2748"/>
                </a:lnTo>
                <a:lnTo>
                  <a:pt x="297" y="2741"/>
                </a:lnTo>
                <a:lnTo>
                  <a:pt x="290" y="2734"/>
                </a:lnTo>
                <a:lnTo>
                  <a:pt x="283" y="2734"/>
                </a:lnTo>
                <a:lnTo>
                  <a:pt x="276" y="2734"/>
                </a:lnTo>
                <a:lnTo>
                  <a:pt x="269" y="2734"/>
                </a:lnTo>
                <a:lnTo>
                  <a:pt x="262" y="2734"/>
                </a:lnTo>
                <a:lnTo>
                  <a:pt x="256" y="2734"/>
                </a:lnTo>
                <a:lnTo>
                  <a:pt x="249" y="2734"/>
                </a:lnTo>
                <a:lnTo>
                  <a:pt x="242" y="2734"/>
                </a:lnTo>
                <a:lnTo>
                  <a:pt x="228" y="2727"/>
                </a:lnTo>
                <a:lnTo>
                  <a:pt x="221" y="2727"/>
                </a:lnTo>
                <a:lnTo>
                  <a:pt x="214" y="2727"/>
                </a:lnTo>
                <a:lnTo>
                  <a:pt x="214" y="2721"/>
                </a:lnTo>
                <a:lnTo>
                  <a:pt x="214" y="2707"/>
                </a:lnTo>
                <a:lnTo>
                  <a:pt x="221" y="2700"/>
                </a:lnTo>
                <a:lnTo>
                  <a:pt x="228" y="2686"/>
                </a:lnTo>
                <a:lnTo>
                  <a:pt x="228" y="2672"/>
                </a:lnTo>
                <a:lnTo>
                  <a:pt x="235" y="2665"/>
                </a:lnTo>
                <a:lnTo>
                  <a:pt x="235" y="2652"/>
                </a:lnTo>
                <a:lnTo>
                  <a:pt x="242" y="2645"/>
                </a:lnTo>
                <a:lnTo>
                  <a:pt x="242" y="2631"/>
                </a:lnTo>
                <a:lnTo>
                  <a:pt x="249" y="2624"/>
                </a:lnTo>
                <a:lnTo>
                  <a:pt x="249" y="2610"/>
                </a:lnTo>
                <a:lnTo>
                  <a:pt x="256" y="2597"/>
                </a:lnTo>
                <a:lnTo>
                  <a:pt x="256" y="2590"/>
                </a:lnTo>
                <a:lnTo>
                  <a:pt x="262" y="2583"/>
                </a:lnTo>
                <a:lnTo>
                  <a:pt x="269" y="2576"/>
                </a:lnTo>
                <a:lnTo>
                  <a:pt x="276" y="2576"/>
                </a:lnTo>
                <a:lnTo>
                  <a:pt x="283" y="2576"/>
                </a:lnTo>
                <a:lnTo>
                  <a:pt x="297" y="2576"/>
                </a:lnTo>
                <a:lnTo>
                  <a:pt x="304" y="2583"/>
                </a:lnTo>
                <a:lnTo>
                  <a:pt x="311" y="2583"/>
                </a:lnTo>
                <a:lnTo>
                  <a:pt x="318" y="2583"/>
                </a:lnTo>
                <a:lnTo>
                  <a:pt x="325" y="2583"/>
                </a:lnTo>
                <a:lnTo>
                  <a:pt x="331" y="2583"/>
                </a:lnTo>
                <a:lnTo>
                  <a:pt x="338" y="2583"/>
                </a:lnTo>
                <a:lnTo>
                  <a:pt x="345" y="2590"/>
                </a:lnTo>
                <a:lnTo>
                  <a:pt x="352" y="2590"/>
                </a:lnTo>
                <a:lnTo>
                  <a:pt x="366" y="2590"/>
                </a:lnTo>
                <a:lnTo>
                  <a:pt x="373" y="2590"/>
                </a:lnTo>
                <a:lnTo>
                  <a:pt x="380" y="2590"/>
                </a:lnTo>
                <a:lnTo>
                  <a:pt x="387" y="2590"/>
                </a:lnTo>
                <a:lnTo>
                  <a:pt x="393" y="2590"/>
                </a:lnTo>
                <a:lnTo>
                  <a:pt x="400" y="2597"/>
                </a:lnTo>
                <a:lnTo>
                  <a:pt x="407" y="2597"/>
                </a:lnTo>
                <a:lnTo>
                  <a:pt x="414" y="2597"/>
                </a:lnTo>
                <a:lnTo>
                  <a:pt x="421" y="2597"/>
                </a:lnTo>
                <a:lnTo>
                  <a:pt x="428" y="2597"/>
                </a:lnTo>
                <a:lnTo>
                  <a:pt x="442" y="2597"/>
                </a:lnTo>
                <a:lnTo>
                  <a:pt x="449" y="2603"/>
                </a:lnTo>
                <a:lnTo>
                  <a:pt x="456" y="2603"/>
                </a:lnTo>
                <a:lnTo>
                  <a:pt x="462" y="2603"/>
                </a:lnTo>
                <a:lnTo>
                  <a:pt x="469" y="2610"/>
                </a:lnTo>
                <a:lnTo>
                  <a:pt x="476" y="2617"/>
                </a:lnTo>
                <a:lnTo>
                  <a:pt x="483" y="2624"/>
                </a:lnTo>
                <a:lnTo>
                  <a:pt x="483" y="2631"/>
                </a:lnTo>
                <a:lnTo>
                  <a:pt x="490" y="2645"/>
                </a:lnTo>
                <a:lnTo>
                  <a:pt x="497" y="2652"/>
                </a:lnTo>
                <a:lnTo>
                  <a:pt x="504" y="2659"/>
                </a:lnTo>
                <a:lnTo>
                  <a:pt x="511" y="2665"/>
                </a:lnTo>
                <a:lnTo>
                  <a:pt x="518" y="2672"/>
                </a:lnTo>
                <a:lnTo>
                  <a:pt x="524" y="2672"/>
                </a:lnTo>
                <a:lnTo>
                  <a:pt x="531" y="2679"/>
                </a:lnTo>
                <a:lnTo>
                  <a:pt x="538" y="2686"/>
                </a:lnTo>
                <a:lnTo>
                  <a:pt x="545" y="2693"/>
                </a:lnTo>
                <a:lnTo>
                  <a:pt x="552" y="2693"/>
                </a:lnTo>
                <a:lnTo>
                  <a:pt x="559" y="2700"/>
                </a:lnTo>
                <a:lnTo>
                  <a:pt x="566" y="2707"/>
                </a:lnTo>
                <a:lnTo>
                  <a:pt x="573" y="2714"/>
                </a:lnTo>
                <a:lnTo>
                  <a:pt x="580" y="2714"/>
                </a:lnTo>
                <a:lnTo>
                  <a:pt x="587" y="2721"/>
                </a:lnTo>
                <a:lnTo>
                  <a:pt x="593" y="2727"/>
                </a:lnTo>
                <a:lnTo>
                  <a:pt x="600" y="2734"/>
                </a:lnTo>
                <a:lnTo>
                  <a:pt x="607" y="2734"/>
                </a:lnTo>
                <a:lnTo>
                  <a:pt x="614" y="2741"/>
                </a:lnTo>
                <a:lnTo>
                  <a:pt x="621" y="2741"/>
                </a:lnTo>
                <a:lnTo>
                  <a:pt x="628" y="2748"/>
                </a:lnTo>
                <a:lnTo>
                  <a:pt x="635" y="2755"/>
                </a:lnTo>
                <a:lnTo>
                  <a:pt x="635" y="2769"/>
                </a:lnTo>
                <a:lnTo>
                  <a:pt x="628" y="2783"/>
                </a:lnTo>
                <a:lnTo>
                  <a:pt x="621" y="2789"/>
                </a:lnTo>
                <a:lnTo>
                  <a:pt x="614" y="2789"/>
                </a:lnTo>
                <a:lnTo>
                  <a:pt x="607" y="2796"/>
                </a:lnTo>
                <a:lnTo>
                  <a:pt x="600" y="2796"/>
                </a:lnTo>
                <a:lnTo>
                  <a:pt x="593" y="2796"/>
                </a:lnTo>
                <a:lnTo>
                  <a:pt x="580" y="2803"/>
                </a:lnTo>
                <a:lnTo>
                  <a:pt x="573" y="2803"/>
                </a:lnTo>
                <a:lnTo>
                  <a:pt x="566" y="2803"/>
                </a:lnTo>
                <a:lnTo>
                  <a:pt x="559" y="2810"/>
                </a:lnTo>
                <a:lnTo>
                  <a:pt x="552" y="2810"/>
                </a:lnTo>
                <a:lnTo>
                  <a:pt x="545" y="2817"/>
                </a:lnTo>
                <a:lnTo>
                  <a:pt x="538" y="2817"/>
                </a:lnTo>
                <a:lnTo>
                  <a:pt x="531" y="2817"/>
                </a:lnTo>
                <a:lnTo>
                  <a:pt x="524" y="2824"/>
                </a:lnTo>
                <a:lnTo>
                  <a:pt x="518" y="2824"/>
                </a:lnTo>
                <a:lnTo>
                  <a:pt x="511" y="2824"/>
                </a:lnTo>
                <a:lnTo>
                  <a:pt x="504" y="2831"/>
                </a:lnTo>
                <a:lnTo>
                  <a:pt x="497" y="2831"/>
                </a:lnTo>
                <a:lnTo>
                  <a:pt x="483" y="2838"/>
                </a:lnTo>
                <a:lnTo>
                  <a:pt x="476" y="2838"/>
                </a:lnTo>
                <a:lnTo>
                  <a:pt x="469" y="2838"/>
                </a:lnTo>
                <a:lnTo>
                  <a:pt x="462" y="2845"/>
                </a:lnTo>
                <a:lnTo>
                  <a:pt x="456" y="2845"/>
                </a:lnTo>
                <a:lnTo>
                  <a:pt x="449" y="2845"/>
                </a:lnTo>
                <a:lnTo>
                  <a:pt x="442" y="2851"/>
                </a:lnTo>
                <a:lnTo>
                  <a:pt x="435" y="2851"/>
                </a:lnTo>
                <a:lnTo>
                  <a:pt x="428" y="2858"/>
                </a:lnTo>
                <a:lnTo>
                  <a:pt x="421" y="2858"/>
                </a:lnTo>
                <a:lnTo>
                  <a:pt x="414" y="2858"/>
                </a:lnTo>
                <a:lnTo>
                  <a:pt x="400" y="2865"/>
                </a:lnTo>
                <a:lnTo>
                  <a:pt x="393" y="2865"/>
                </a:lnTo>
                <a:lnTo>
                  <a:pt x="387" y="2865"/>
                </a:lnTo>
                <a:lnTo>
                  <a:pt x="380" y="2865"/>
                </a:lnTo>
                <a:lnTo>
                  <a:pt x="373" y="2858"/>
                </a:lnTo>
                <a:close/>
                <a:moveTo>
                  <a:pt x="1021" y="1667"/>
                </a:moveTo>
                <a:lnTo>
                  <a:pt x="1021" y="1660"/>
                </a:lnTo>
                <a:lnTo>
                  <a:pt x="1028" y="1646"/>
                </a:lnTo>
                <a:lnTo>
                  <a:pt x="1028" y="1632"/>
                </a:lnTo>
                <a:lnTo>
                  <a:pt x="1035" y="1625"/>
                </a:lnTo>
                <a:lnTo>
                  <a:pt x="1035" y="1618"/>
                </a:lnTo>
                <a:lnTo>
                  <a:pt x="1042" y="1605"/>
                </a:lnTo>
                <a:lnTo>
                  <a:pt x="1042" y="1598"/>
                </a:lnTo>
                <a:lnTo>
                  <a:pt x="1049" y="1584"/>
                </a:lnTo>
                <a:lnTo>
                  <a:pt x="1049" y="1577"/>
                </a:lnTo>
                <a:lnTo>
                  <a:pt x="1055" y="1563"/>
                </a:lnTo>
                <a:lnTo>
                  <a:pt x="1062" y="1556"/>
                </a:lnTo>
                <a:lnTo>
                  <a:pt x="1069" y="1556"/>
                </a:lnTo>
                <a:lnTo>
                  <a:pt x="1076" y="1550"/>
                </a:lnTo>
                <a:lnTo>
                  <a:pt x="1083" y="1543"/>
                </a:lnTo>
                <a:lnTo>
                  <a:pt x="1090" y="1536"/>
                </a:lnTo>
                <a:lnTo>
                  <a:pt x="1097" y="1529"/>
                </a:lnTo>
                <a:lnTo>
                  <a:pt x="1097" y="1522"/>
                </a:lnTo>
                <a:lnTo>
                  <a:pt x="1097" y="1508"/>
                </a:lnTo>
                <a:lnTo>
                  <a:pt x="1097" y="1494"/>
                </a:lnTo>
                <a:lnTo>
                  <a:pt x="1097" y="1488"/>
                </a:lnTo>
                <a:lnTo>
                  <a:pt x="1104" y="1474"/>
                </a:lnTo>
                <a:lnTo>
                  <a:pt x="1104" y="1467"/>
                </a:lnTo>
                <a:lnTo>
                  <a:pt x="1111" y="1453"/>
                </a:lnTo>
                <a:lnTo>
                  <a:pt x="1117" y="1446"/>
                </a:lnTo>
                <a:lnTo>
                  <a:pt x="1124" y="1439"/>
                </a:lnTo>
                <a:lnTo>
                  <a:pt x="1131" y="1439"/>
                </a:lnTo>
                <a:lnTo>
                  <a:pt x="1138" y="1439"/>
                </a:lnTo>
                <a:lnTo>
                  <a:pt x="1145" y="1446"/>
                </a:lnTo>
                <a:lnTo>
                  <a:pt x="1152" y="1446"/>
                </a:lnTo>
                <a:lnTo>
                  <a:pt x="1159" y="1453"/>
                </a:lnTo>
                <a:lnTo>
                  <a:pt x="1166" y="1460"/>
                </a:lnTo>
                <a:lnTo>
                  <a:pt x="1173" y="1460"/>
                </a:lnTo>
                <a:lnTo>
                  <a:pt x="1180" y="1467"/>
                </a:lnTo>
                <a:lnTo>
                  <a:pt x="1186" y="1467"/>
                </a:lnTo>
                <a:lnTo>
                  <a:pt x="1193" y="1474"/>
                </a:lnTo>
                <a:lnTo>
                  <a:pt x="1200" y="1474"/>
                </a:lnTo>
                <a:lnTo>
                  <a:pt x="1207" y="1481"/>
                </a:lnTo>
                <a:lnTo>
                  <a:pt x="1214" y="1481"/>
                </a:lnTo>
                <a:lnTo>
                  <a:pt x="1221" y="1481"/>
                </a:lnTo>
                <a:lnTo>
                  <a:pt x="1228" y="1488"/>
                </a:lnTo>
                <a:lnTo>
                  <a:pt x="1235" y="1488"/>
                </a:lnTo>
                <a:lnTo>
                  <a:pt x="1242" y="1494"/>
                </a:lnTo>
                <a:lnTo>
                  <a:pt x="1248" y="1494"/>
                </a:lnTo>
                <a:lnTo>
                  <a:pt x="1255" y="1501"/>
                </a:lnTo>
                <a:lnTo>
                  <a:pt x="1262" y="1501"/>
                </a:lnTo>
                <a:lnTo>
                  <a:pt x="1269" y="1508"/>
                </a:lnTo>
                <a:lnTo>
                  <a:pt x="1276" y="1508"/>
                </a:lnTo>
                <a:lnTo>
                  <a:pt x="1283" y="1515"/>
                </a:lnTo>
                <a:lnTo>
                  <a:pt x="1290" y="1515"/>
                </a:lnTo>
                <a:lnTo>
                  <a:pt x="1304" y="1522"/>
                </a:lnTo>
                <a:lnTo>
                  <a:pt x="1311" y="1522"/>
                </a:lnTo>
                <a:lnTo>
                  <a:pt x="1317" y="1522"/>
                </a:lnTo>
                <a:lnTo>
                  <a:pt x="1324" y="1529"/>
                </a:lnTo>
                <a:lnTo>
                  <a:pt x="1324" y="1536"/>
                </a:lnTo>
                <a:lnTo>
                  <a:pt x="1317" y="1536"/>
                </a:lnTo>
                <a:lnTo>
                  <a:pt x="1311" y="1543"/>
                </a:lnTo>
                <a:lnTo>
                  <a:pt x="1304" y="1550"/>
                </a:lnTo>
                <a:lnTo>
                  <a:pt x="1297" y="1556"/>
                </a:lnTo>
                <a:lnTo>
                  <a:pt x="1297" y="1570"/>
                </a:lnTo>
                <a:lnTo>
                  <a:pt x="1290" y="1577"/>
                </a:lnTo>
                <a:lnTo>
                  <a:pt x="1283" y="1584"/>
                </a:lnTo>
                <a:lnTo>
                  <a:pt x="1276" y="1591"/>
                </a:lnTo>
                <a:lnTo>
                  <a:pt x="1269" y="1591"/>
                </a:lnTo>
                <a:lnTo>
                  <a:pt x="1262" y="1598"/>
                </a:lnTo>
                <a:lnTo>
                  <a:pt x="1255" y="1605"/>
                </a:lnTo>
                <a:lnTo>
                  <a:pt x="1248" y="1612"/>
                </a:lnTo>
                <a:lnTo>
                  <a:pt x="1242" y="1612"/>
                </a:lnTo>
                <a:lnTo>
                  <a:pt x="1235" y="1618"/>
                </a:lnTo>
                <a:lnTo>
                  <a:pt x="1228" y="1618"/>
                </a:lnTo>
                <a:lnTo>
                  <a:pt x="1221" y="1625"/>
                </a:lnTo>
                <a:lnTo>
                  <a:pt x="1214" y="1625"/>
                </a:lnTo>
                <a:lnTo>
                  <a:pt x="1207" y="1625"/>
                </a:lnTo>
                <a:lnTo>
                  <a:pt x="1200" y="1625"/>
                </a:lnTo>
                <a:lnTo>
                  <a:pt x="1193" y="1632"/>
                </a:lnTo>
                <a:lnTo>
                  <a:pt x="1186" y="1632"/>
                </a:lnTo>
                <a:lnTo>
                  <a:pt x="1180" y="1632"/>
                </a:lnTo>
                <a:lnTo>
                  <a:pt x="1173" y="1632"/>
                </a:lnTo>
                <a:lnTo>
                  <a:pt x="1166" y="1632"/>
                </a:lnTo>
                <a:lnTo>
                  <a:pt x="1152" y="1632"/>
                </a:lnTo>
                <a:lnTo>
                  <a:pt x="1145" y="1632"/>
                </a:lnTo>
                <a:lnTo>
                  <a:pt x="1138" y="1632"/>
                </a:lnTo>
                <a:lnTo>
                  <a:pt x="1131" y="1639"/>
                </a:lnTo>
                <a:lnTo>
                  <a:pt x="1124" y="1639"/>
                </a:lnTo>
                <a:lnTo>
                  <a:pt x="1117" y="1639"/>
                </a:lnTo>
                <a:lnTo>
                  <a:pt x="1111" y="1639"/>
                </a:lnTo>
                <a:lnTo>
                  <a:pt x="1104" y="1646"/>
                </a:lnTo>
                <a:lnTo>
                  <a:pt x="1097" y="1646"/>
                </a:lnTo>
                <a:lnTo>
                  <a:pt x="1090" y="1646"/>
                </a:lnTo>
                <a:lnTo>
                  <a:pt x="1083" y="1653"/>
                </a:lnTo>
                <a:lnTo>
                  <a:pt x="1076" y="1653"/>
                </a:lnTo>
                <a:lnTo>
                  <a:pt x="1069" y="1660"/>
                </a:lnTo>
                <a:lnTo>
                  <a:pt x="1062" y="1660"/>
                </a:lnTo>
                <a:lnTo>
                  <a:pt x="1055" y="1660"/>
                </a:lnTo>
                <a:lnTo>
                  <a:pt x="1049" y="1667"/>
                </a:lnTo>
                <a:lnTo>
                  <a:pt x="1042" y="1667"/>
                </a:lnTo>
                <a:lnTo>
                  <a:pt x="1035" y="1674"/>
                </a:lnTo>
                <a:lnTo>
                  <a:pt x="1028" y="1674"/>
                </a:lnTo>
                <a:lnTo>
                  <a:pt x="1021" y="1667"/>
                </a:lnTo>
                <a:close/>
                <a:moveTo>
                  <a:pt x="407" y="1598"/>
                </a:moveTo>
                <a:lnTo>
                  <a:pt x="400" y="1591"/>
                </a:lnTo>
                <a:lnTo>
                  <a:pt x="400" y="1577"/>
                </a:lnTo>
                <a:lnTo>
                  <a:pt x="400" y="1570"/>
                </a:lnTo>
                <a:lnTo>
                  <a:pt x="407" y="1556"/>
                </a:lnTo>
                <a:lnTo>
                  <a:pt x="407" y="1550"/>
                </a:lnTo>
                <a:lnTo>
                  <a:pt x="414" y="1543"/>
                </a:lnTo>
                <a:lnTo>
                  <a:pt x="414" y="1529"/>
                </a:lnTo>
                <a:lnTo>
                  <a:pt x="421" y="1522"/>
                </a:lnTo>
                <a:lnTo>
                  <a:pt x="421" y="1515"/>
                </a:lnTo>
                <a:lnTo>
                  <a:pt x="428" y="1501"/>
                </a:lnTo>
                <a:lnTo>
                  <a:pt x="428" y="1494"/>
                </a:lnTo>
                <a:lnTo>
                  <a:pt x="435" y="1488"/>
                </a:lnTo>
                <a:lnTo>
                  <a:pt x="435" y="1481"/>
                </a:lnTo>
                <a:lnTo>
                  <a:pt x="442" y="1467"/>
                </a:lnTo>
                <a:lnTo>
                  <a:pt x="442" y="1460"/>
                </a:lnTo>
                <a:lnTo>
                  <a:pt x="449" y="1453"/>
                </a:lnTo>
                <a:lnTo>
                  <a:pt x="449" y="1439"/>
                </a:lnTo>
                <a:lnTo>
                  <a:pt x="456" y="1432"/>
                </a:lnTo>
                <a:lnTo>
                  <a:pt x="456" y="1419"/>
                </a:lnTo>
                <a:lnTo>
                  <a:pt x="462" y="1412"/>
                </a:lnTo>
                <a:lnTo>
                  <a:pt x="462" y="1405"/>
                </a:lnTo>
                <a:lnTo>
                  <a:pt x="462" y="1391"/>
                </a:lnTo>
                <a:lnTo>
                  <a:pt x="469" y="1384"/>
                </a:lnTo>
                <a:lnTo>
                  <a:pt x="469" y="1370"/>
                </a:lnTo>
                <a:lnTo>
                  <a:pt x="469" y="1364"/>
                </a:lnTo>
                <a:lnTo>
                  <a:pt x="476" y="1357"/>
                </a:lnTo>
                <a:lnTo>
                  <a:pt x="476" y="1343"/>
                </a:lnTo>
                <a:lnTo>
                  <a:pt x="476" y="1336"/>
                </a:lnTo>
                <a:lnTo>
                  <a:pt x="476" y="1322"/>
                </a:lnTo>
                <a:lnTo>
                  <a:pt x="476" y="1315"/>
                </a:lnTo>
                <a:lnTo>
                  <a:pt x="469" y="1302"/>
                </a:lnTo>
                <a:lnTo>
                  <a:pt x="469" y="1295"/>
                </a:lnTo>
                <a:lnTo>
                  <a:pt x="476" y="1288"/>
                </a:lnTo>
                <a:lnTo>
                  <a:pt x="483" y="1281"/>
                </a:lnTo>
                <a:lnTo>
                  <a:pt x="490" y="1281"/>
                </a:lnTo>
                <a:lnTo>
                  <a:pt x="497" y="1274"/>
                </a:lnTo>
                <a:lnTo>
                  <a:pt x="504" y="1274"/>
                </a:lnTo>
                <a:lnTo>
                  <a:pt x="511" y="1274"/>
                </a:lnTo>
                <a:lnTo>
                  <a:pt x="518" y="1267"/>
                </a:lnTo>
                <a:lnTo>
                  <a:pt x="524" y="1274"/>
                </a:lnTo>
                <a:lnTo>
                  <a:pt x="531" y="1274"/>
                </a:lnTo>
                <a:lnTo>
                  <a:pt x="538" y="1274"/>
                </a:lnTo>
                <a:lnTo>
                  <a:pt x="538" y="1274"/>
                </a:lnTo>
                <a:lnTo>
                  <a:pt x="545" y="1281"/>
                </a:lnTo>
                <a:lnTo>
                  <a:pt x="552" y="1281"/>
                </a:lnTo>
                <a:lnTo>
                  <a:pt x="559" y="1281"/>
                </a:lnTo>
                <a:lnTo>
                  <a:pt x="566" y="1288"/>
                </a:lnTo>
                <a:lnTo>
                  <a:pt x="573" y="1295"/>
                </a:lnTo>
                <a:lnTo>
                  <a:pt x="580" y="1295"/>
                </a:lnTo>
                <a:lnTo>
                  <a:pt x="587" y="1302"/>
                </a:lnTo>
                <a:lnTo>
                  <a:pt x="593" y="1302"/>
                </a:lnTo>
                <a:lnTo>
                  <a:pt x="600" y="1302"/>
                </a:lnTo>
                <a:lnTo>
                  <a:pt x="607" y="1308"/>
                </a:lnTo>
                <a:lnTo>
                  <a:pt x="614" y="1308"/>
                </a:lnTo>
                <a:lnTo>
                  <a:pt x="621" y="1308"/>
                </a:lnTo>
                <a:lnTo>
                  <a:pt x="621" y="1308"/>
                </a:lnTo>
                <a:lnTo>
                  <a:pt x="628" y="1315"/>
                </a:lnTo>
                <a:lnTo>
                  <a:pt x="635" y="1315"/>
                </a:lnTo>
                <a:lnTo>
                  <a:pt x="642" y="1322"/>
                </a:lnTo>
                <a:lnTo>
                  <a:pt x="649" y="1322"/>
                </a:lnTo>
                <a:lnTo>
                  <a:pt x="656" y="1322"/>
                </a:lnTo>
                <a:lnTo>
                  <a:pt x="662" y="1329"/>
                </a:lnTo>
                <a:lnTo>
                  <a:pt x="669" y="1336"/>
                </a:lnTo>
                <a:lnTo>
                  <a:pt x="669" y="1343"/>
                </a:lnTo>
                <a:lnTo>
                  <a:pt x="676" y="1350"/>
                </a:lnTo>
                <a:lnTo>
                  <a:pt x="683" y="1350"/>
                </a:lnTo>
                <a:lnTo>
                  <a:pt x="690" y="1357"/>
                </a:lnTo>
                <a:lnTo>
                  <a:pt x="697" y="1364"/>
                </a:lnTo>
                <a:lnTo>
                  <a:pt x="690" y="1364"/>
                </a:lnTo>
                <a:lnTo>
                  <a:pt x="683" y="1364"/>
                </a:lnTo>
                <a:lnTo>
                  <a:pt x="676" y="1370"/>
                </a:lnTo>
                <a:lnTo>
                  <a:pt x="676" y="1377"/>
                </a:lnTo>
                <a:lnTo>
                  <a:pt x="669" y="1391"/>
                </a:lnTo>
                <a:lnTo>
                  <a:pt x="669" y="1398"/>
                </a:lnTo>
                <a:lnTo>
                  <a:pt x="662" y="1405"/>
                </a:lnTo>
                <a:lnTo>
                  <a:pt x="656" y="1412"/>
                </a:lnTo>
                <a:lnTo>
                  <a:pt x="656" y="1419"/>
                </a:lnTo>
                <a:lnTo>
                  <a:pt x="649" y="1426"/>
                </a:lnTo>
                <a:lnTo>
                  <a:pt x="642" y="1439"/>
                </a:lnTo>
                <a:lnTo>
                  <a:pt x="642" y="1446"/>
                </a:lnTo>
                <a:lnTo>
                  <a:pt x="635" y="1453"/>
                </a:lnTo>
                <a:lnTo>
                  <a:pt x="628" y="1460"/>
                </a:lnTo>
                <a:lnTo>
                  <a:pt x="628" y="1467"/>
                </a:lnTo>
                <a:lnTo>
                  <a:pt x="621" y="1474"/>
                </a:lnTo>
                <a:lnTo>
                  <a:pt x="621" y="1481"/>
                </a:lnTo>
                <a:lnTo>
                  <a:pt x="614" y="1494"/>
                </a:lnTo>
                <a:lnTo>
                  <a:pt x="607" y="1501"/>
                </a:lnTo>
                <a:lnTo>
                  <a:pt x="607" y="1508"/>
                </a:lnTo>
                <a:lnTo>
                  <a:pt x="600" y="1515"/>
                </a:lnTo>
                <a:lnTo>
                  <a:pt x="593" y="1522"/>
                </a:lnTo>
                <a:lnTo>
                  <a:pt x="593" y="1529"/>
                </a:lnTo>
                <a:lnTo>
                  <a:pt x="587" y="1536"/>
                </a:lnTo>
                <a:lnTo>
                  <a:pt x="580" y="1550"/>
                </a:lnTo>
                <a:lnTo>
                  <a:pt x="580" y="1556"/>
                </a:lnTo>
                <a:lnTo>
                  <a:pt x="573" y="1563"/>
                </a:lnTo>
                <a:lnTo>
                  <a:pt x="566" y="1570"/>
                </a:lnTo>
                <a:lnTo>
                  <a:pt x="566" y="1577"/>
                </a:lnTo>
                <a:lnTo>
                  <a:pt x="559" y="1584"/>
                </a:lnTo>
                <a:lnTo>
                  <a:pt x="552" y="1591"/>
                </a:lnTo>
                <a:lnTo>
                  <a:pt x="545" y="1591"/>
                </a:lnTo>
                <a:lnTo>
                  <a:pt x="538" y="1598"/>
                </a:lnTo>
                <a:lnTo>
                  <a:pt x="531" y="1598"/>
                </a:lnTo>
                <a:lnTo>
                  <a:pt x="524" y="1598"/>
                </a:lnTo>
                <a:lnTo>
                  <a:pt x="524" y="1605"/>
                </a:lnTo>
                <a:lnTo>
                  <a:pt x="518" y="1605"/>
                </a:lnTo>
                <a:lnTo>
                  <a:pt x="511" y="1612"/>
                </a:lnTo>
                <a:lnTo>
                  <a:pt x="504" y="1612"/>
                </a:lnTo>
                <a:lnTo>
                  <a:pt x="497" y="1612"/>
                </a:lnTo>
                <a:lnTo>
                  <a:pt x="490" y="1612"/>
                </a:lnTo>
                <a:lnTo>
                  <a:pt x="483" y="1612"/>
                </a:lnTo>
                <a:lnTo>
                  <a:pt x="476" y="1605"/>
                </a:lnTo>
                <a:lnTo>
                  <a:pt x="469" y="1605"/>
                </a:lnTo>
                <a:lnTo>
                  <a:pt x="462" y="1605"/>
                </a:lnTo>
                <a:lnTo>
                  <a:pt x="456" y="1605"/>
                </a:lnTo>
                <a:lnTo>
                  <a:pt x="449" y="1605"/>
                </a:lnTo>
                <a:lnTo>
                  <a:pt x="442" y="1605"/>
                </a:lnTo>
                <a:lnTo>
                  <a:pt x="435" y="1605"/>
                </a:lnTo>
                <a:lnTo>
                  <a:pt x="428" y="1605"/>
                </a:lnTo>
                <a:lnTo>
                  <a:pt x="421" y="1605"/>
                </a:lnTo>
                <a:lnTo>
                  <a:pt x="414" y="1605"/>
                </a:lnTo>
                <a:lnTo>
                  <a:pt x="407" y="1605"/>
                </a:lnTo>
                <a:lnTo>
                  <a:pt x="407" y="1598"/>
                </a:lnTo>
                <a:close/>
                <a:moveTo>
                  <a:pt x="718" y="3299"/>
                </a:moveTo>
                <a:lnTo>
                  <a:pt x="752" y="3265"/>
                </a:lnTo>
                <a:lnTo>
                  <a:pt x="787" y="3265"/>
                </a:lnTo>
                <a:lnTo>
                  <a:pt x="821" y="3265"/>
                </a:lnTo>
                <a:lnTo>
                  <a:pt x="855" y="3230"/>
                </a:lnTo>
                <a:lnTo>
                  <a:pt x="890" y="3230"/>
                </a:lnTo>
                <a:lnTo>
                  <a:pt x="924" y="3230"/>
                </a:lnTo>
                <a:lnTo>
                  <a:pt x="959" y="3196"/>
                </a:lnTo>
                <a:lnTo>
                  <a:pt x="993" y="3196"/>
                </a:lnTo>
                <a:lnTo>
                  <a:pt x="1028" y="3196"/>
                </a:lnTo>
                <a:lnTo>
                  <a:pt x="1062" y="3161"/>
                </a:lnTo>
                <a:lnTo>
                  <a:pt x="1090" y="3161"/>
                </a:lnTo>
                <a:lnTo>
                  <a:pt x="1090" y="3127"/>
                </a:lnTo>
                <a:lnTo>
                  <a:pt x="1124" y="3093"/>
                </a:lnTo>
                <a:lnTo>
                  <a:pt x="1124" y="3058"/>
                </a:lnTo>
                <a:lnTo>
                  <a:pt x="1159" y="3024"/>
                </a:lnTo>
                <a:lnTo>
                  <a:pt x="1159" y="2996"/>
                </a:lnTo>
                <a:lnTo>
                  <a:pt x="1193" y="2962"/>
                </a:lnTo>
                <a:lnTo>
                  <a:pt x="1193" y="2927"/>
                </a:lnTo>
                <a:lnTo>
                  <a:pt x="1228" y="2893"/>
                </a:lnTo>
                <a:lnTo>
                  <a:pt x="1228" y="2858"/>
                </a:lnTo>
                <a:lnTo>
                  <a:pt x="1262" y="2824"/>
                </a:lnTo>
                <a:lnTo>
                  <a:pt x="1262" y="2789"/>
                </a:lnTo>
                <a:lnTo>
                  <a:pt x="1297" y="2755"/>
                </a:lnTo>
                <a:lnTo>
                  <a:pt x="1297" y="2721"/>
                </a:lnTo>
                <a:lnTo>
                  <a:pt x="1331" y="2686"/>
                </a:lnTo>
                <a:lnTo>
                  <a:pt x="1331" y="2652"/>
                </a:lnTo>
                <a:lnTo>
                  <a:pt x="1366" y="2617"/>
                </a:lnTo>
                <a:lnTo>
                  <a:pt x="1366" y="2583"/>
                </a:lnTo>
                <a:lnTo>
                  <a:pt x="1400" y="2548"/>
                </a:lnTo>
                <a:lnTo>
                  <a:pt x="1400" y="2514"/>
                </a:lnTo>
                <a:lnTo>
                  <a:pt x="1435" y="2480"/>
                </a:lnTo>
                <a:lnTo>
                  <a:pt x="1435" y="2452"/>
                </a:lnTo>
                <a:lnTo>
                  <a:pt x="1469" y="2418"/>
                </a:lnTo>
                <a:lnTo>
                  <a:pt x="1469" y="2383"/>
                </a:lnTo>
                <a:lnTo>
                  <a:pt x="1504" y="2349"/>
                </a:lnTo>
                <a:lnTo>
                  <a:pt x="1504" y="2314"/>
                </a:lnTo>
                <a:lnTo>
                  <a:pt x="1538" y="2280"/>
                </a:lnTo>
                <a:lnTo>
                  <a:pt x="1538" y="2245"/>
                </a:lnTo>
                <a:lnTo>
                  <a:pt x="1573" y="2211"/>
                </a:lnTo>
                <a:lnTo>
                  <a:pt x="1573" y="2176"/>
                </a:lnTo>
                <a:lnTo>
                  <a:pt x="1607" y="2142"/>
                </a:lnTo>
                <a:lnTo>
                  <a:pt x="1607" y="2108"/>
                </a:lnTo>
                <a:lnTo>
                  <a:pt x="1641" y="2073"/>
                </a:lnTo>
                <a:lnTo>
                  <a:pt x="1641" y="2039"/>
                </a:lnTo>
                <a:lnTo>
                  <a:pt x="1676" y="2004"/>
                </a:lnTo>
                <a:lnTo>
                  <a:pt x="1676" y="1970"/>
                </a:lnTo>
                <a:lnTo>
                  <a:pt x="1710" y="1935"/>
                </a:lnTo>
                <a:lnTo>
                  <a:pt x="1710" y="1908"/>
                </a:lnTo>
                <a:lnTo>
                  <a:pt x="1745" y="1873"/>
                </a:lnTo>
                <a:lnTo>
                  <a:pt x="1745" y="1839"/>
                </a:lnTo>
                <a:lnTo>
                  <a:pt x="1745" y="1804"/>
                </a:lnTo>
                <a:lnTo>
                  <a:pt x="1745" y="1770"/>
                </a:lnTo>
                <a:lnTo>
                  <a:pt x="1779" y="1736"/>
                </a:lnTo>
                <a:lnTo>
                  <a:pt x="1779" y="1701"/>
                </a:lnTo>
                <a:lnTo>
                  <a:pt x="1779" y="1667"/>
                </a:lnTo>
                <a:lnTo>
                  <a:pt x="1779" y="1632"/>
                </a:lnTo>
                <a:lnTo>
                  <a:pt x="1779" y="1598"/>
                </a:lnTo>
                <a:lnTo>
                  <a:pt x="1779" y="1563"/>
                </a:lnTo>
                <a:lnTo>
                  <a:pt x="1807" y="1529"/>
                </a:lnTo>
                <a:lnTo>
                  <a:pt x="1807" y="1494"/>
                </a:lnTo>
                <a:lnTo>
                  <a:pt x="1807" y="1460"/>
                </a:lnTo>
                <a:lnTo>
                  <a:pt x="1807" y="1426"/>
                </a:lnTo>
                <a:lnTo>
                  <a:pt x="1807" y="1398"/>
                </a:lnTo>
                <a:lnTo>
                  <a:pt x="1807" y="1364"/>
                </a:lnTo>
                <a:lnTo>
                  <a:pt x="1841" y="1329"/>
                </a:lnTo>
                <a:lnTo>
                  <a:pt x="1841" y="1295"/>
                </a:lnTo>
                <a:lnTo>
                  <a:pt x="1841" y="1260"/>
                </a:lnTo>
                <a:lnTo>
                  <a:pt x="1841" y="1226"/>
                </a:lnTo>
                <a:lnTo>
                  <a:pt x="1841" y="1191"/>
                </a:lnTo>
                <a:lnTo>
                  <a:pt x="1841" y="1157"/>
                </a:lnTo>
                <a:lnTo>
                  <a:pt x="1876" y="1122"/>
                </a:lnTo>
                <a:lnTo>
                  <a:pt x="1876" y="1088"/>
                </a:lnTo>
                <a:lnTo>
                  <a:pt x="1876" y="1054"/>
                </a:lnTo>
                <a:lnTo>
                  <a:pt x="1876" y="1019"/>
                </a:lnTo>
                <a:lnTo>
                  <a:pt x="1876" y="985"/>
                </a:lnTo>
                <a:lnTo>
                  <a:pt x="1910" y="950"/>
                </a:lnTo>
                <a:lnTo>
                  <a:pt x="1910" y="916"/>
                </a:lnTo>
                <a:lnTo>
                  <a:pt x="1910" y="888"/>
                </a:lnTo>
                <a:lnTo>
                  <a:pt x="1910" y="854"/>
                </a:lnTo>
                <a:lnTo>
                  <a:pt x="1910" y="819"/>
                </a:lnTo>
                <a:lnTo>
                  <a:pt x="1910" y="785"/>
                </a:lnTo>
                <a:lnTo>
                  <a:pt x="1945" y="751"/>
                </a:lnTo>
                <a:lnTo>
                  <a:pt x="1945" y="716"/>
                </a:lnTo>
                <a:lnTo>
                  <a:pt x="1945" y="682"/>
                </a:lnTo>
                <a:lnTo>
                  <a:pt x="1945" y="647"/>
                </a:lnTo>
                <a:lnTo>
                  <a:pt x="1945" y="613"/>
                </a:lnTo>
                <a:lnTo>
                  <a:pt x="1945" y="578"/>
                </a:lnTo>
                <a:lnTo>
                  <a:pt x="1979" y="544"/>
                </a:lnTo>
                <a:lnTo>
                  <a:pt x="1979" y="509"/>
                </a:lnTo>
                <a:lnTo>
                  <a:pt x="1979" y="475"/>
                </a:lnTo>
                <a:lnTo>
                  <a:pt x="1979" y="441"/>
                </a:lnTo>
                <a:lnTo>
                  <a:pt x="1979" y="406"/>
                </a:lnTo>
                <a:lnTo>
                  <a:pt x="1979" y="372"/>
                </a:lnTo>
                <a:lnTo>
                  <a:pt x="2014" y="344"/>
                </a:lnTo>
                <a:lnTo>
                  <a:pt x="2014" y="310"/>
                </a:lnTo>
                <a:lnTo>
                  <a:pt x="2014" y="275"/>
                </a:lnTo>
                <a:lnTo>
                  <a:pt x="2014" y="241"/>
                </a:lnTo>
                <a:lnTo>
                  <a:pt x="2014" y="206"/>
                </a:lnTo>
                <a:lnTo>
                  <a:pt x="2014" y="172"/>
                </a:lnTo>
                <a:lnTo>
                  <a:pt x="2048" y="137"/>
                </a:lnTo>
                <a:lnTo>
                  <a:pt x="2048" y="103"/>
                </a:lnTo>
                <a:lnTo>
                  <a:pt x="2048" y="69"/>
                </a:lnTo>
                <a:lnTo>
                  <a:pt x="2048" y="34"/>
                </a:lnTo>
                <a:lnTo>
                  <a:pt x="2048" y="0"/>
                </a:lnTo>
                <a:lnTo>
                  <a:pt x="2014" y="0"/>
                </a:lnTo>
                <a:lnTo>
                  <a:pt x="1979" y="0"/>
                </a:lnTo>
                <a:lnTo>
                  <a:pt x="1945" y="0"/>
                </a:lnTo>
                <a:lnTo>
                  <a:pt x="1910" y="34"/>
                </a:lnTo>
                <a:lnTo>
                  <a:pt x="1876" y="34"/>
                </a:lnTo>
                <a:lnTo>
                  <a:pt x="1841" y="69"/>
                </a:lnTo>
                <a:lnTo>
                  <a:pt x="1807" y="69"/>
                </a:lnTo>
                <a:lnTo>
                  <a:pt x="1779" y="69"/>
                </a:lnTo>
                <a:lnTo>
                  <a:pt x="1745" y="103"/>
                </a:lnTo>
                <a:lnTo>
                  <a:pt x="1710" y="103"/>
                </a:lnTo>
                <a:lnTo>
                  <a:pt x="1676" y="137"/>
                </a:lnTo>
                <a:lnTo>
                  <a:pt x="1641" y="137"/>
                </a:lnTo>
                <a:lnTo>
                  <a:pt x="1607" y="172"/>
                </a:lnTo>
                <a:lnTo>
                  <a:pt x="1573" y="172"/>
                </a:lnTo>
                <a:lnTo>
                  <a:pt x="1538" y="206"/>
                </a:lnTo>
                <a:lnTo>
                  <a:pt x="1504" y="206"/>
                </a:lnTo>
                <a:lnTo>
                  <a:pt x="1469" y="206"/>
                </a:lnTo>
                <a:lnTo>
                  <a:pt x="1435" y="241"/>
                </a:lnTo>
                <a:lnTo>
                  <a:pt x="1400" y="241"/>
                </a:lnTo>
                <a:lnTo>
                  <a:pt x="1366" y="275"/>
                </a:lnTo>
                <a:lnTo>
                  <a:pt x="1331" y="275"/>
                </a:lnTo>
                <a:lnTo>
                  <a:pt x="1297" y="310"/>
                </a:lnTo>
                <a:lnTo>
                  <a:pt x="1262" y="310"/>
                </a:lnTo>
                <a:lnTo>
                  <a:pt x="1228" y="344"/>
                </a:lnTo>
                <a:lnTo>
                  <a:pt x="1193" y="344"/>
                </a:lnTo>
                <a:lnTo>
                  <a:pt x="1159" y="344"/>
                </a:lnTo>
                <a:lnTo>
                  <a:pt x="1124" y="372"/>
                </a:lnTo>
                <a:lnTo>
                  <a:pt x="1090" y="372"/>
                </a:lnTo>
                <a:lnTo>
                  <a:pt x="1062" y="406"/>
                </a:lnTo>
                <a:lnTo>
                  <a:pt x="1028" y="406"/>
                </a:lnTo>
                <a:lnTo>
                  <a:pt x="993" y="441"/>
                </a:lnTo>
                <a:lnTo>
                  <a:pt x="959" y="441"/>
                </a:lnTo>
                <a:lnTo>
                  <a:pt x="924" y="475"/>
                </a:lnTo>
                <a:lnTo>
                  <a:pt x="890" y="475"/>
                </a:lnTo>
                <a:lnTo>
                  <a:pt x="855" y="475"/>
                </a:lnTo>
                <a:lnTo>
                  <a:pt x="821" y="509"/>
                </a:lnTo>
                <a:lnTo>
                  <a:pt x="787" y="544"/>
                </a:lnTo>
                <a:lnTo>
                  <a:pt x="752" y="578"/>
                </a:lnTo>
                <a:lnTo>
                  <a:pt x="752" y="613"/>
                </a:lnTo>
                <a:lnTo>
                  <a:pt x="718" y="647"/>
                </a:lnTo>
                <a:lnTo>
                  <a:pt x="683" y="682"/>
                </a:lnTo>
                <a:lnTo>
                  <a:pt x="649" y="716"/>
                </a:lnTo>
                <a:lnTo>
                  <a:pt x="649" y="751"/>
                </a:lnTo>
                <a:lnTo>
                  <a:pt x="614" y="785"/>
                </a:lnTo>
                <a:lnTo>
                  <a:pt x="580" y="819"/>
                </a:lnTo>
                <a:lnTo>
                  <a:pt x="545" y="854"/>
                </a:lnTo>
                <a:lnTo>
                  <a:pt x="545" y="888"/>
                </a:lnTo>
                <a:lnTo>
                  <a:pt x="511" y="916"/>
                </a:lnTo>
                <a:lnTo>
                  <a:pt x="476" y="950"/>
                </a:lnTo>
                <a:lnTo>
                  <a:pt x="476" y="985"/>
                </a:lnTo>
                <a:lnTo>
                  <a:pt x="442" y="1019"/>
                </a:lnTo>
                <a:lnTo>
                  <a:pt x="442" y="1054"/>
                </a:lnTo>
                <a:lnTo>
                  <a:pt x="442" y="1088"/>
                </a:lnTo>
                <a:lnTo>
                  <a:pt x="407" y="1122"/>
                </a:lnTo>
                <a:lnTo>
                  <a:pt x="407" y="1157"/>
                </a:lnTo>
                <a:lnTo>
                  <a:pt x="373" y="1191"/>
                </a:lnTo>
                <a:lnTo>
                  <a:pt x="373" y="1226"/>
                </a:lnTo>
                <a:lnTo>
                  <a:pt x="338" y="1260"/>
                </a:lnTo>
                <a:lnTo>
                  <a:pt x="338" y="1295"/>
                </a:lnTo>
                <a:lnTo>
                  <a:pt x="311" y="1329"/>
                </a:lnTo>
                <a:lnTo>
                  <a:pt x="311" y="1364"/>
                </a:lnTo>
                <a:lnTo>
                  <a:pt x="276" y="1398"/>
                </a:lnTo>
                <a:lnTo>
                  <a:pt x="276" y="1426"/>
                </a:lnTo>
                <a:lnTo>
                  <a:pt x="276" y="1460"/>
                </a:lnTo>
                <a:lnTo>
                  <a:pt x="242" y="1494"/>
                </a:lnTo>
                <a:lnTo>
                  <a:pt x="242" y="1529"/>
                </a:lnTo>
                <a:lnTo>
                  <a:pt x="207" y="1563"/>
                </a:lnTo>
                <a:lnTo>
                  <a:pt x="207" y="1598"/>
                </a:lnTo>
                <a:lnTo>
                  <a:pt x="173" y="1632"/>
                </a:lnTo>
                <a:lnTo>
                  <a:pt x="173" y="1667"/>
                </a:lnTo>
                <a:lnTo>
                  <a:pt x="138" y="1701"/>
                </a:lnTo>
                <a:lnTo>
                  <a:pt x="138" y="1736"/>
                </a:lnTo>
                <a:lnTo>
                  <a:pt x="138" y="1770"/>
                </a:lnTo>
                <a:lnTo>
                  <a:pt x="104" y="1804"/>
                </a:lnTo>
                <a:lnTo>
                  <a:pt x="104" y="1839"/>
                </a:lnTo>
                <a:lnTo>
                  <a:pt x="69" y="1873"/>
                </a:lnTo>
                <a:lnTo>
                  <a:pt x="69" y="1908"/>
                </a:lnTo>
                <a:lnTo>
                  <a:pt x="69" y="1935"/>
                </a:lnTo>
                <a:lnTo>
                  <a:pt x="69" y="1970"/>
                </a:lnTo>
                <a:lnTo>
                  <a:pt x="69" y="2004"/>
                </a:lnTo>
                <a:lnTo>
                  <a:pt x="35" y="2039"/>
                </a:lnTo>
                <a:lnTo>
                  <a:pt x="35" y="2073"/>
                </a:lnTo>
                <a:lnTo>
                  <a:pt x="35" y="2108"/>
                </a:lnTo>
                <a:lnTo>
                  <a:pt x="35" y="2142"/>
                </a:lnTo>
                <a:lnTo>
                  <a:pt x="0" y="2176"/>
                </a:lnTo>
                <a:lnTo>
                  <a:pt x="0" y="2211"/>
                </a:lnTo>
                <a:lnTo>
                  <a:pt x="0" y="2245"/>
                </a:lnTo>
                <a:lnTo>
                  <a:pt x="0" y="2280"/>
                </a:lnTo>
                <a:lnTo>
                  <a:pt x="0" y="2314"/>
                </a:lnTo>
                <a:lnTo>
                  <a:pt x="0" y="2349"/>
                </a:lnTo>
                <a:lnTo>
                  <a:pt x="0" y="2383"/>
                </a:lnTo>
                <a:lnTo>
                  <a:pt x="0" y="2418"/>
                </a:lnTo>
                <a:lnTo>
                  <a:pt x="0" y="2452"/>
                </a:lnTo>
                <a:lnTo>
                  <a:pt x="0" y="2480"/>
                </a:lnTo>
                <a:lnTo>
                  <a:pt x="0" y="2514"/>
                </a:lnTo>
                <a:lnTo>
                  <a:pt x="0" y="2548"/>
                </a:lnTo>
                <a:lnTo>
                  <a:pt x="0" y="2583"/>
                </a:lnTo>
                <a:lnTo>
                  <a:pt x="35" y="2617"/>
                </a:lnTo>
                <a:lnTo>
                  <a:pt x="35" y="2652"/>
                </a:lnTo>
                <a:lnTo>
                  <a:pt x="35" y="2686"/>
                </a:lnTo>
                <a:lnTo>
                  <a:pt x="35" y="2721"/>
                </a:lnTo>
                <a:lnTo>
                  <a:pt x="35" y="2755"/>
                </a:lnTo>
                <a:lnTo>
                  <a:pt x="35" y="2789"/>
                </a:lnTo>
                <a:lnTo>
                  <a:pt x="35" y="2824"/>
                </a:lnTo>
                <a:lnTo>
                  <a:pt x="35" y="2858"/>
                </a:lnTo>
                <a:lnTo>
                  <a:pt x="35" y="2893"/>
                </a:lnTo>
                <a:lnTo>
                  <a:pt x="69" y="2927"/>
                </a:lnTo>
                <a:lnTo>
                  <a:pt x="69" y="2962"/>
                </a:lnTo>
                <a:lnTo>
                  <a:pt x="104" y="2996"/>
                </a:lnTo>
                <a:lnTo>
                  <a:pt x="138" y="3024"/>
                </a:lnTo>
                <a:lnTo>
                  <a:pt x="173" y="3058"/>
                </a:lnTo>
                <a:lnTo>
                  <a:pt x="207" y="3093"/>
                </a:lnTo>
                <a:lnTo>
                  <a:pt x="242" y="3127"/>
                </a:lnTo>
                <a:lnTo>
                  <a:pt x="276" y="3161"/>
                </a:lnTo>
                <a:lnTo>
                  <a:pt x="311" y="3196"/>
                </a:lnTo>
                <a:lnTo>
                  <a:pt x="338" y="3196"/>
                </a:lnTo>
                <a:lnTo>
                  <a:pt x="373" y="3230"/>
                </a:lnTo>
                <a:lnTo>
                  <a:pt x="407" y="3230"/>
                </a:lnTo>
                <a:lnTo>
                  <a:pt x="442" y="3230"/>
                </a:lnTo>
                <a:lnTo>
                  <a:pt x="476" y="3265"/>
                </a:lnTo>
                <a:lnTo>
                  <a:pt x="511" y="3265"/>
                </a:lnTo>
                <a:lnTo>
                  <a:pt x="545" y="3299"/>
                </a:lnTo>
                <a:lnTo>
                  <a:pt x="580" y="3299"/>
                </a:lnTo>
                <a:lnTo>
                  <a:pt x="614" y="3299"/>
                </a:lnTo>
                <a:lnTo>
                  <a:pt x="649" y="3299"/>
                </a:lnTo>
                <a:lnTo>
                  <a:pt x="683" y="3299"/>
                </a:lnTo>
                <a:lnTo>
                  <a:pt x="718" y="3299"/>
                </a:lnTo>
                <a:close/>
                <a:moveTo>
                  <a:pt x="373" y="2755"/>
                </a:moveTo>
                <a:lnTo>
                  <a:pt x="387" y="2734"/>
                </a:lnTo>
                <a:lnTo>
                  <a:pt x="393" y="2721"/>
                </a:lnTo>
                <a:lnTo>
                  <a:pt x="400" y="2714"/>
                </a:lnTo>
                <a:lnTo>
                  <a:pt x="407" y="2714"/>
                </a:lnTo>
                <a:lnTo>
                  <a:pt x="414" y="2727"/>
                </a:lnTo>
                <a:lnTo>
                  <a:pt x="414" y="2741"/>
                </a:lnTo>
                <a:lnTo>
                  <a:pt x="407" y="2755"/>
                </a:lnTo>
                <a:lnTo>
                  <a:pt x="407" y="2762"/>
                </a:lnTo>
                <a:lnTo>
                  <a:pt x="400" y="2762"/>
                </a:lnTo>
                <a:lnTo>
                  <a:pt x="387" y="2755"/>
                </a:lnTo>
                <a:lnTo>
                  <a:pt x="373" y="2755"/>
                </a:lnTo>
                <a:close/>
                <a:moveTo>
                  <a:pt x="511" y="1494"/>
                </a:moveTo>
                <a:lnTo>
                  <a:pt x="511" y="1488"/>
                </a:lnTo>
                <a:lnTo>
                  <a:pt x="511" y="1474"/>
                </a:lnTo>
                <a:lnTo>
                  <a:pt x="511" y="1467"/>
                </a:lnTo>
                <a:lnTo>
                  <a:pt x="511" y="1453"/>
                </a:lnTo>
                <a:lnTo>
                  <a:pt x="511" y="1446"/>
                </a:lnTo>
                <a:lnTo>
                  <a:pt x="511" y="1439"/>
                </a:lnTo>
                <a:lnTo>
                  <a:pt x="511" y="1426"/>
                </a:lnTo>
                <a:lnTo>
                  <a:pt x="511" y="1412"/>
                </a:lnTo>
                <a:lnTo>
                  <a:pt x="511" y="1398"/>
                </a:lnTo>
                <a:lnTo>
                  <a:pt x="511" y="1398"/>
                </a:lnTo>
                <a:lnTo>
                  <a:pt x="511" y="1398"/>
                </a:lnTo>
                <a:lnTo>
                  <a:pt x="511" y="1412"/>
                </a:lnTo>
                <a:lnTo>
                  <a:pt x="511" y="1426"/>
                </a:lnTo>
                <a:lnTo>
                  <a:pt x="511" y="1439"/>
                </a:lnTo>
                <a:lnTo>
                  <a:pt x="511" y="1446"/>
                </a:lnTo>
                <a:lnTo>
                  <a:pt x="511" y="1453"/>
                </a:lnTo>
                <a:lnTo>
                  <a:pt x="511" y="1467"/>
                </a:lnTo>
                <a:lnTo>
                  <a:pt x="511" y="1474"/>
                </a:lnTo>
                <a:lnTo>
                  <a:pt x="511" y="1488"/>
                </a:lnTo>
                <a:lnTo>
                  <a:pt x="511" y="1494"/>
                </a:lnTo>
                <a:close/>
                <a:moveTo>
                  <a:pt x="511" y="1329"/>
                </a:moveTo>
                <a:lnTo>
                  <a:pt x="497" y="1315"/>
                </a:lnTo>
                <a:lnTo>
                  <a:pt x="497" y="1302"/>
                </a:lnTo>
                <a:lnTo>
                  <a:pt x="497" y="1295"/>
                </a:lnTo>
                <a:lnTo>
                  <a:pt x="504" y="1288"/>
                </a:lnTo>
                <a:lnTo>
                  <a:pt x="511" y="1288"/>
                </a:lnTo>
                <a:lnTo>
                  <a:pt x="518" y="1281"/>
                </a:lnTo>
                <a:lnTo>
                  <a:pt x="524" y="1281"/>
                </a:lnTo>
                <a:lnTo>
                  <a:pt x="531" y="1288"/>
                </a:lnTo>
                <a:lnTo>
                  <a:pt x="538" y="1295"/>
                </a:lnTo>
                <a:lnTo>
                  <a:pt x="545" y="1302"/>
                </a:lnTo>
                <a:lnTo>
                  <a:pt x="545" y="1315"/>
                </a:lnTo>
                <a:lnTo>
                  <a:pt x="552" y="1322"/>
                </a:lnTo>
                <a:lnTo>
                  <a:pt x="566" y="1322"/>
                </a:lnTo>
                <a:lnTo>
                  <a:pt x="573" y="1322"/>
                </a:lnTo>
                <a:lnTo>
                  <a:pt x="580" y="1329"/>
                </a:lnTo>
                <a:lnTo>
                  <a:pt x="580" y="1329"/>
                </a:lnTo>
                <a:lnTo>
                  <a:pt x="573" y="1329"/>
                </a:lnTo>
                <a:lnTo>
                  <a:pt x="566" y="1336"/>
                </a:lnTo>
                <a:lnTo>
                  <a:pt x="552" y="1343"/>
                </a:lnTo>
                <a:lnTo>
                  <a:pt x="545" y="1343"/>
                </a:lnTo>
                <a:lnTo>
                  <a:pt x="531" y="1350"/>
                </a:lnTo>
                <a:lnTo>
                  <a:pt x="524" y="1350"/>
                </a:lnTo>
                <a:lnTo>
                  <a:pt x="518" y="1350"/>
                </a:lnTo>
                <a:lnTo>
                  <a:pt x="511" y="1350"/>
                </a:lnTo>
                <a:lnTo>
                  <a:pt x="511" y="1343"/>
                </a:lnTo>
                <a:lnTo>
                  <a:pt x="511" y="1329"/>
                </a:lnTo>
                <a:close/>
              </a:path>
            </a:pathLst>
          </a:custGeom>
          <a:solidFill>
            <a:srgbClr val="73c7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2" name=""/>
          <p:cNvSpPr/>
          <p:nvPr/>
        </p:nvSpPr>
        <p:spPr>
          <a:xfrm>
            <a:off x="3576600" y="1328760"/>
            <a:ext cx="3251160" cy="5237280"/>
          </a:xfrm>
          <a:custGeom>
            <a:avLst/>
            <a:gdLst/>
            <a:ahLst/>
            <a:rect l="l" t="t" r="r" b="b"/>
            <a:pathLst>
              <a:path w="2048" h="3299">
                <a:moveTo>
                  <a:pt x="718" y="3299"/>
                </a:moveTo>
                <a:lnTo>
                  <a:pt x="752" y="3265"/>
                </a:lnTo>
                <a:lnTo>
                  <a:pt x="787" y="3265"/>
                </a:lnTo>
                <a:lnTo>
                  <a:pt x="821" y="3265"/>
                </a:lnTo>
                <a:lnTo>
                  <a:pt x="855" y="3230"/>
                </a:lnTo>
                <a:lnTo>
                  <a:pt x="890" y="3230"/>
                </a:lnTo>
                <a:lnTo>
                  <a:pt x="924" y="3230"/>
                </a:lnTo>
                <a:lnTo>
                  <a:pt x="959" y="3196"/>
                </a:lnTo>
                <a:lnTo>
                  <a:pt x="993" y="3196"/>
                </a:lnTo>
                <a:lnTo>
                  <a:pt x="1028" y="3196"/>
                </a:lnTo>
                <a:lnTo>
                  <a:pt x="1062" y="3161"/>
                </a:lnTo>
                <a:lnTo>
                  <a:pt x="1090" y="3161"/>
                </a:lnTo>
                <a:lnTo>
                  <a:pt x="1090" y="3127"/>
                </a:lnTo>
                <a:lnTo>
                  <a:pt x="1124" y="3093"/>
                </a:lnTo>
                <a:lnTo>
                  <a:pt x="1124" y="3058"/>
                </a:lnTo>
                <a:lnTo>
                  <a:pt x="1159" y="3024"/>
                </a:lnTo>
                <a:lnTo>
                  <a:pt x="1159" y="2996"/>
                </a:lnTo>
                <a:lnTo>
                  <a:pt x="1193" y="2962"/>
                </a:lnTo>
                <a:lnTo>
                  <a:pt x="1193" y="2927"/>
                </a:lnTo>
                <a:lnTo>
                  <a:pt x="1228" y="2893"/>
                </a:lnTo>
                <a:lnTo>
                  <a:pt x="1228" y="2858"/>
                </a:lnTo>
                <a:lnTo>
                  <a:pt x="1262" y="2824"/>
                </a:lnTo>
                <a:lnTo>
                  <a:pt x="1262" y="2789"/>
                </a:lnTo>
                <a:lnTo>
                  <a:pt x="1297" y="2755"/>
                </a:lnTo>
                <a:lnTo>
                  <a:pt x="1297" y="2721"/>
                </a:lnTo>
                <a:lnTo>
                  <a:pt x="1331" y="2686"/>
                </a:lnTo>
                <a:lnTo>
                  <a:pt x="1331" y="2652"/>
                </a:lnTo>
                <a:lnTo>
                  <a:pt x="1366" y="2617"/>
                </a:lnTo>
                <a:lnTo>
                  <a:pt x="1366" y="2583"/>
                </a:lnTo>
                <a:lnTo>
                  <a:pt x="1400" y="2548"/>
                </a:lnTo>
                <a:lnTo>
                  <a:pt x="1400" y="2514"/>
                </a:lnTo>
                <a:lnTo>
                  <a:pt x="1435" y="2480"/>
                </a:lnTo>
                <a:lnTo>
                  <a:pt x="1435" y="2452"/>
                </a:lnTo>
                <a:lnTo>
                  <a:pt x="1469" y="2418"/>
                </a:lnTo>
                <a:lnTo>
                  <a:pt x="1469" y="2383"/>
                </a:lnTo>
                <a:lnTo>
                  <a:pt x="1504" y="2349"/>
                </a:lnTo>
                <a:lnTo>
                  <a:pt x="1504" y="2314"/>
                </a:lnTo>
                <a:lnTo>
                  <a:pt x="1538" y="2280"/>
                </a:lnTo>
                <a:lnTo>
                  <a:pt x="1538" y="2245"/>
                </a:lnTo>
                <a:lnTo>
                  <a:pt x="1573" y="2211"/>
                </a:lnTo>
                <a:lnTo>
                  <a:pt x="1573" y="2176"/>
                </a:lnTo>
                <a:lnTo>
                  <a:pt x="1607" y="2142"/>
                </a:lnTo>
                <a:lnTo>
                  <a:pt x="1607" y="2108"/>
                </a:lnTo>
                <a:lnTo>
                  <a:pt x="1641" y="2073"/>
                </a:lnTo>
                <a:lnTo>
                  <a:pt x="1641" y="2039"/>
                </a:lnTo>
                <a:lnTo>
                  <a:pt x="1676" y="2004"/>
                </a:lnTo>
                <a:lnTo>
                  <a:pt x="1676" y="1970"/>
                </a:lnTo>
                <a:lnTo>
                  <a:pt x="1710" y="1935"/>
                </a:lnTo>
                <a:lnTo>
                  <a:pt x="1710" y="1908"/>
                </a:lnTo>
                <a:lnTo>
                  <a:pt x="1745" y="1873"/>
                </a:lnTo>
                <a:lnTo>
                  <a:pt x="1745" y="1839"/>
                </a:lnTo>
                <a:lnTo>
                  <a:pt x="1745" y="1804"/>
                </a:lnTo>
                <a:lnTo>
                  <a:pt x="1745" y="1770"/>
                </a:lnTo>
                <a:lnTo>
                  <a:pt x="1779" y="1736"/>
                </a:lnTo>
                <a:lnTo>
                  <a:pt x="1779" y="1701"/>
                </a:lnTo>
                <a:lnTo>
                  <a:pt x="1779" y="1667"/>
                </a:lnTo>
                <a:lnTo>
                  <a:pt x="1779" y="1632"/>
                </a:lnTo>
                <a:lnTo>
                  <a:pt x="1779" y="1598"/>
                </a:lnTo>
                <a:lnTo>
                  <a:pt x="1779" y="1563"/>
                </a:lnTo>
                <a:lnTo>
                  <a:pt x="1807" y="1529"/>
                </a:lnTo>
                <a:lnTo>
                  <a:pt x="1807" y="1494"/>
                </a:lnTo>
                <a:lnTo>
                  <a:pt x="1807" y="1460"/>
                </a:lnTo>
                <a:lnTo>
                  <a:pt x="1807" y="1426"/>
                </a:lnTo>
                <a:lnTo>
                  <a:pt x="1807" y="1398"/>
                </a:lnTo>
                <a:lnTo>
                  <a:pt x="1807" y="1364"/>
                </a:lnTo>
                <a:lnTo>
                  <a:pt x="1841" y="1329"/>
                </a:lnTo>
                <a:lnTo>
                  <a:pt x="1841" y="1295"/>
                </a:lnTo>
                <a:lnTo>
                  <a:pt x="1841" y="1260"/>
                </a:lnTo>
                <a:lnTo>
                  <a:pt x="1841" y="1226"/>
                </a:lnTo>
                <a:lnTo>
                  <a:pt x="1841" y="1191"/>
                </a:lnTo>
                <a:lnTo>
                  <a:pt x="1841" y="1157"/>
                </a:lnTo>
                <a:lnTo>
                  <a:pt x="1876" y="1122"/>
                </a:lnTo>
                <a:lnTo>
                  <a:pt x="1876" y="1088"/>
                </a:lnTo>
                <a:lnTo>
                  <a:pt x="1876" y="1054"/>
                </a:lnTo>
                <a:lnTo>
                  <a:pt x="1876" y="1019"/>
                </a:lnTo>
                <a:lnTo>
                  <a:pt x="1876" y="985"/>
                </a:lnTo>
                <a:lnTo>
                  <a:pt x="1910" y="950"/>
                </a:lnTo>
                <a:lnTo>
                  <a:pt x="1910" y="916"/>
                </a:lnTo>
                <a:lnTo>
                  <a:pt x="1910" y="888"/>
                </a:lnTo>
                <a:lnTo>
                  <a:pt x="1910" y="854"/>
                </a:lnTo>
                <a:lnTo>
                  <a:pt x="1910" y="819"/>
                </a:lnTo>
                <a:lnTo>
                  <a:pt x="1910" y="785"/>
                </a:lnTo>
                <a:lnTo>
                  <a:pt x="1945" y="751"/>
                </a:lnTo>
                <a:lnTo>
                  <a:pt x="1945" y="716"/>
                </a:lnTo>
                <a:lnTo>
                  <a:pt x="1945" y="682"/>
                </a:lnTo>
                <a:lnTo>
                  <a:pt x="1945" y="647"/>
                </a:lnTo>
                <a:lnTo>
                  <a:pt x="1945" y="613"/>
                </a:lnTo>
                <a:lnTo>
                  <a:pt x="1945" y="578"/>
                </a:lnTo>
                <a:lnTo>
                  <a:pt x="1979" y="544"/>
                </a:lnTo>
                <a:lnTo>
                  <a:pt x="1979" y="509"/>
                </a:lnTo>
                <a:lnTo>
                  <a:pt x="1979" y="475"/>
                </a:lnTo>
                <a:lnTo>
                  <a:pt x="1979" y="441"/>
                </a:lnTo>
                <a:lnTo>
                  <a:pt x="1979" y="406"/>
                </a:lnTo>
                <a:lnTo>
                  <a:pt x="1979" y="372"/>
                </a:lnTo>
                <a:lnTo>
                  <a:pt x="2014" y="344"/>
                </a:lnTo>
                <a:lnTo>
                  <a:pt x="2014" y="310"/>
                </a:lnTo>
                <a:lnTo>
                  <a:pt x="2014" y="275"/>
                </a:lnTo>
                <a:lnTo>
                  <a:pt x="2014" y="241"/>
                </a:lnTo>
                <a:lnTo>
                  <a:pt x="2014" y="206"/>
                </a:lnTo>
                <a:lnTo>
                  <a:pt x="2014" y="172"/>
                </a:lnTo>
                <a:lnTo>
                  <a:pt x="2048" y="137"/>
                </a:lnTo>
                <a:lnTo>
                  <a:pt x="2048" y="103"/>
                </a:lnTo>
                <a:lnTo>
                  <a:pt x="2048" y="69"/>
                </a:lnTo>
                <a:lnTo>
                  <a:pt x="2048" y="34"/>
                </a:lnTo>
                <a:lnTo>
                  <a:pt x="2048" y="0"/>
                </a:lnTo>
                <a:lnTo>
                  <a:pt x="2014" y="0"/>
                </a:lnTo>
                <a:lnTo>
                  <a:pt x="1979" y="0"/>
                </a:lnTo>
                <a:lnTo>
                  <a:pt x="1945" y="0"/>
                </a:lnTo>
                <a:lnTo>
                  <a:pt x="1910" y="34"/>
                </a:lnTo>
                <a:lnTo>
                  <a:pt x="1876" y="34"/>
                </a:lnTo>
                <a:lnTo>
                  <a:pt x="1841" y="69"/>
                </a:lnTo>
                <a:lnTo>
                  <a:pt x="1807" y="69"/>
                </a:lnTo>
                <a:lnTo>
                  <a:pt x="1779" y="69"/>
                </a:lnTo>
                <a:lnTo>
                  <a:pt x="1745" y="103"/>
                </a:lnTo>
                <a:lnTo>
                  <a:pt x="1710" y="103"/>
                </a:lnTo>
                <a:lnTo>
                  <a:pt x="1676" y="137"/>
                </a:lnTo>
                <a:lnTo>
                  <a:pt x="1641" y="137"/>
                </a:lnTo>
                <a:lnTo>
                  <a:pt x="1607" y="172"/>
                </a:lnTo>
                <a:lnTo>
                  <a:pt x="1573" y="172"/>
                </a:lnTo>
                <a:lnTo>
                  <a:pt x="1538" y="206"/>
                </a:lnTo>
                <a:lnTo>
                  <a:pt x="1504" y="206"/>
                </a:lnTo>
                <a:lnTo>
                  <a:pt x="1469" y="206"/>
                </a:lnTo>
                <a:lnTo>
                  <a:pt x="1435" y="241"/>
                </a:lnTo>
                <a:lnTo>
                  <a:pt x="1400" y="241"/>
                </a:lnTo>
                <a:lnTo>
                  <a:pt x="1366" y="275"/>
                </a:lnTo>
                <a:lnTo>
                  <a:pt x="1331" y="275"/>
                </a:lnTo>
                <a:lnTo>
                  <a:pt x="1297" y="310"/>
                </a:lnTo>
                <a:lnTo>
                  <a:pt x="1262" y="310"/>
                </a:lnTo>
                <a:lnTo>
                  <a:pt x="1228" y="344"/>
                </a:lnTo>
                <a:lnTo>
                  <a:pt x="1193" y="344"/>
                </a:lnTo>
                <a:lnTo>
                  <a:pt x="1159" y="344"/>
                </a:lnTo>
                <a:lnTo>
                  <a:pt x="1124" y="372"/>
                </a:lnTo>
                <a:lnTo>
                  <a:pt x="1090" y="372"/>
                </a:lnTo>
                <a:lnTo>
                  <a:pt x="1062" y="406"/>
                </a:lnTo>
                <a:lnTo>
                  <a:pt x="1028" y="406"/>
                </a:lnTo>
                <a:lnTo>
                  <a:pt x="993" y="441"/>
                </a:lnTo>
                <a:lnTo>
                  <a:pt x="959" y="441"/>
                </a:lnTo>
                <a:lnTo>
                  <a:pt x="924" y="475"/>
                </a:lnTo>
                <a:lnTo>
                  <a:pt x="890" y="475"/>
                </a:lnTo>
                <a:lnTo>
                  <a:pt x="855" y="475"/>
                </a:lnTo>
                <a:lnTo>
                  <a:pt x="821" y="509"/>
                </a:lnTo>
                <a:lnTo>
                  <a:pt x="787" y="544"/>
                </a:lnTo>
                <a:lnTo>
                  <a:pt x="752" y="578"/>
                </a:lnTo>
                <a:lnTo>
                  <a:pt x="752" y="613"/>
                </a:lnTo>
                <a:lnTo>
                  <a:pt x="718" y="647"/>
                </a:lnTo>
                <a:lnTo>
                  <a:pt x="683" y="682"/>
                </a:lnTo>
                <a:lnTo>
                  <a:pt x="649" y="716"/>
                </a:lnTo>
                <a:lnTo>
                  <a:pt x="649" y="751"/>
                </a:lnTo>
                <a:lnTo>
                  <a:pt x="614" y="785"/>
                </a:lnTo>
                <a:lnTo>
                  <a:pt x="580" y="819"/>
                </a:lnTo>
                <a:lnTo>
                  <a:pt x="545" y="854"/>
                </a:lnTo>
                <a:lnTo>
                  <a:pt x="545" y="888"/>
                </a:lnTo>
                <a:lnTo>
                  <a:pt x="511" y="916"/>
                </a:lnTo>
                <a:lnTo>
                  <a:pt x="476" y="950"/>
                </a:lnTo>
                <a:lnTo>
                  <a:pt x="476" y="985"/>
                </a:lnTo>
                <a:lnTo>
                  <a:pt x="442" y="1019"/>
                </a:lnTo>
                <a:lnTo>
                  <a:pt x="442" y="1054"/>
                </a:lnTo>
                <a:lnTo>
                  <a:pt x="442" y="1088"/>
                </a:lnTo>
                <a:lnTo>
                  <a:pt x="407" y="1122"/>
                </a:lnTo>
                <a:lnTo>
                  <a:pt x="407" y="1157"/>
                </a:lnTo>
                <a:lnTo>
                  <a:pt x="373" y="1191"/>
                </a:lnTo>
                <a:lnTo>
                  <a:pt x="373" y="1226"/>
                </a:lnTo>
                <a:lnTo>
                  <a:pt x="338" y="1260"/>
                </a:lnTo>
                <a:lnTo>
                  <a:pt x="338" y="1295"/>
                </a:lnTo>
                <a:lnTo>
                  <a:pt x="311" y="1329"/>
                </a:lnTo>
                <a:lnTo>
                  <a:pt x="311" y="1364"/>
                </a:lnTo>
                <a:lnTo>
                  <a:pt x="276" y="1398"/>
                </a:lnTo>
                <a:lnTo>
                  <a:pt x="276" y="1426"/>
                </a:lnTo>
                <a:lnTo>
                  <a:pt x="276" y="1460"/>
                </a:lnTo>
                <a:lnTo>
                  <a:pt x="242" y="1494"/>
                </a:lnTo>
                <a:lnTo>
                  <a:pt x="242" y="1529"/>
                </a:lnTo>
                <a:lnTo>
                  <a:pt x="207" y="1563"/>
                </a:lnTo>
                <a:lnTo>
                  <a:pt x="207" y="1598"/>
                </a:lnTo>
                <a:lnTo>
                  <a:pt x="173" y="1632"/>
                </a:lnTo>
                <a:lnTo>
                  <a:pt x="173" y="1667"/>
                </a:lnTo>
                <a:lnTo>
                  <a:pt x="138" y="1701"/>
                </a:lnTo>
                <a:lnTo>
                  <a:pt x="138" y="1736"/>
                </a:lnTo>
                <a:lnTo>
                  <a:pt x="138" y="1770"/>
                </a:lnTo>
                <a:lnTo>
                  <a:pt x="104" y="1804"/>
                </a:lnTo>
                <a:lnTo>
                  <a:pt x="104" y="1839"/>
                </a:lnTo>
                <a:lnTo>
                  <a:pt x="69" y="1873"/>
                </a:lnTo>
                <a:lnTo>
                  <a:pt x="69" y="1908"/>
                </a:lnTo>
                <a:lnTo>
                  <a:pt x="69" y="1935"/>
                </a:lnTo>
                <a:lnTo>
                  <a:pt x="69" y="1970"/>
                </a:lnTo>
                <a:lnTo>
                  <a:pt x="69" y="2004"/>
                </a:lnTo>
                <a:lnTo>
                  <a:pt x="35" y="2039"/>
                </a:lnTo>
                <a:lnTo>
                  <a:pt x="35" y="2073"/>
                </a:lnTo>
                <a:lnTo>
                  <a:pt x="35" y="2108"/>
                </a:lnTo>
                <a:lnTo>
                  <a:pt x="35" y="2142"/>
                </a:lnTo>
                <a:lnTo>
                  <a:pt x="0" y="2176"/>
                </a:lnTo>
                <a:lnTo>
                  <a:pt x="0" y="2211"/>
                </a:lnTo>
                <a:lnTo>
                  <a:pt x="0" y="2245"/>
                </a:lnTo>
                <a:lnTo>
                  <a:pt x="0" y="2280"/>
                </a:lnTo>
                <a:lnTo>
                  <a:pt x="0" y="2314"/>
                </a:lnTo>
                <a:lnTo>
                  <a:pt x="0" y="2349"/>
                </a:lnTo>
                <a:lnTo>
                  <a:pt x="0" y="2383"/>
                </a:lnTo>
                <a:lnTo>
                  <a:pt x="0" y="2418"/>
                </a:lnTo>
                <a:lnTo>
                  <a:pt x="0" y="2452"/>
                </a:lnTo>
                <a:lnTo>
                  <a:pt x="0" y="2480"/>
                </a:lnTo>
                <a:lnTo>
                  <a:pt x="0" y="2514"/>
                </a:lnTo>
                <a:lnTo>
                  <a:pt x="0" y="2548"/>
                </a:lnTo>
                <a:lnTo>
                  <a:pt x="0" y="2583"/>
                </a:lnTo>
                <a:lnTo>
                  <a:pt x="35" y="2617"/>
                </a:lnTo>
                <a:lnTo>
                  <a:pt x="35" y="2652"/>
                </a:lnTo>
                <a:lnTo>
                  <a:pt x="35" y="2686"/>
                </a:lnTo>
                <a:lnTo>
                  <a:pt x="35" y="2721"/>
                </a:lnTo>
                <a:lnTo>
                  <a:pt x="35" y="2755"/>
                </a:lnTo>
                <a:lnTo>
                  <a:pt x="35" y="2789"/>
                </a:lnTo>
                <a:lnTo>
                  <a:pt x="35" y="2824"/>
                </a:lnTo>
                <a:lnTo>
                  <a:pt x="35" y="2858"/>
                </a:lnTo>
                <a:lnTo>
                  <a:pt x="35" y="2893"/>
                </a:lnTo>
                <a:lnTo>
                  <a:pt x="69" y="2927"/>
                </a:lnTo>
                <a:lnTo>
                  <a:pt x="69" y="2962"/>
                </a:lnTo>
                <a:lnTo>
                  <a:pt x="104" y="2996"/>
                </a:lnTo>
                <a:lnTo>
                  <a:pt x="138" y="3024"/>
                </a:lnTo>
                <a:lnTo>
                  <a:pt x="173" y="3058"/>
                </a:lnTo>
                <a:lnTo>
                  <a:pt x="207" y="3093"/>
                </a:lnTo>
                <a:lnTo>
                  <a:pt x="242" y="3127"/>
                </a:lnTo>
                <a:lnTo>
                  <a:pt x="276" y="3161"/>
                </a:lnTo>
                <a:lnTo>
                  <a:pt x="311" y="3196"/>
                </a:lnTo>
                <a:lnTo>
                  <a:pt x="338" y="3196"/>
                </a:lnTo>
                <a:lnTo>
                  <a:pt x="373" y="3230"/>
                </a:lnTo>
                <a:lnTo>
                  <a:pt x="407" y="3230"/>
                </a:lnTo>
                <a:lnTo>
                  <a:pt x="442" y="3230"/>
                </a:lnTo>
                <a:lnTo>
                  <a:pt x="476" y="3265"/>
                </a:lnTo>
                <a:lnTo>
                  <a:pt x="511" y="3265"/>
                </a:lnTo>
                <a:lnTo>
                  <a:pt x="545" y="3299"/>
                </a:lnTo>
                <a:lnTo>
                  <a:pt x="580" y="3299"/>
                </a:lnTo>
                <a:lnTo>
                  <a:pt x="614" y="3299"/>
                </a:lnTo>
                <a:lnTo>
                  <a:pt x="649" y="3299"/>
                </a:lnTo>
                <a:lnTo>
                  <a:pt x="683" y="3299"/>
                </a:lnTo>
                <a:lnTo>
                  <a:pt x="718" y="3299"/>
                </a:lnTo>
                <a:close/>
                <a:moveTo>
                  <a:pt x="373" y="2755"/>
                </a:moveTo>
                <a:lnTo>
                  <a:pt x="387" y="2734"/>
                </a:lnTo>
                <a:lnTo>
                  <a:pt x="393" y="2721"/>
                </a:lnTo>
                <a:lnTo>
                  <a:pt x="400" y="2714"/>
                </a:lnTo>
                <a:lnTo>
                  <a:pt x="407" y="2714"/>
                </a:lnTo>
                <a:lnTo>
                  <a:pt x="414" y="2727"/>
                </a:lnTo>
                <a:lnTo>
                  <a:pt x="414" y="2741"/>
                </a:lnTo>
                <a:lnTo>
                  <a:pt x="407" y="2755"/>
                </a:lnTo>
                <a:lnTo>
                  <a:pt x="407" y="2762"/>
                </a:lnTo>
                <a:lnTo>
                  <a:pt x="400" y="2762"/>
                </a:lnTo>
                <a:lnTo>
                  <a:pt x="387" y="2755"/>
                </a:lnTo>
                <a:lnTo>
                  <a:pt x="373" y="2755"/>
                </a:lnTo>
                <a:close/>
                <a:moveTo>
                  <a:pt x="511" y="1494"/>
                </a:moveTo>
                <a:lnTo>
                  <a:pt x="511" y="1488"/>
                </a:lnTo>
                <a:lnTo>
                  <a:pt x="511" y="1474"/>
                </a:lnTo>
                <a:lnTo>
                  <a:pt x="511" y="1467"/>
                </a:lnTo>
                <a:lnTo>
                  <a:pt x="511" y="1453"/>
                </a:lnTo>
                <a:lnTo>
                  <a:pt x="511" y="1446"/>
                </a:lnTo>
                <a:lnTo>
                  <a:pt x="511" y="1439"/>
                </a:lnTo>
                <a:lnTo>
                  <a:pt x="511" y="1426"/>
                </a:lnTo>
                <a:lnTo>
                  <a:pt x="511" y="1412"/>
                </a:lnTo>
                <a:lnTo>
                  <a:pt x="511" y="1398"/>
                </a:lnTo>
                <a:lnTo>
                  <a:pt x="511" y="1398"/>
                </a:lnTo>
                <a:lnTo>
                  <a:pt x="511" y="1398"/>
                </a:lnTo>
                <a:lnTo>
                  <a:pt x="511" y="1412"/>
                </a:lnTo>
                <a:lnTo>
                  <a:pt x="511" y="1426"/>
                </a:lnTo>
                <a:lnTo>
                  <a:pt x="511" y="1439"/>
                </a:lnTo>
                <a:lnTo>
                  <a:pt x="511" y="1446"/>
                </a:lnTo>
                <a:lnTo>
                  <a:pt x="511" y="1453"/>
                </a:lnTo>
                <a:lnTo>
                  <a:pt x="511" y="1467"/>
                </a:lnTo>
                <a:lnTo>
                  <a:pt x="511" y="1474"/>
                </a:lnTo>
                <a:lnTo>
                  <a:pt x="511" y="1488"/>
                </a:lnTo>
                <a:lnTo>
                  <a:pt x="511" y="1494"/>
                </a:lnTo>
                <a:close/>
                <a:moveTo>
                  <a:pt x="511" y="1329"/>
                </a:moveTo>
                <a:lnTo>
                  <a:pt x="497" y="1315"/>
                </a:lnTo>
                <a:lnTo>
                  <a:pt x="497" y="1302"/>
                </a:lnTo>
                <a:lnTo>
                  <a:pt x="497" y="1295"/>
                </a:lnTo>
                <a:lnTo>
                  <a:pt x="504" y="1288"/>
                </a:lnTo>
                <a:lnTo>
                  <a:pt x="511" y="1288"/>
                </a:lnTo>
                <a:lnTo>
                  <a:pt x="518" y="1281"/>
                </a:lnTo>
                <a:lnTo>
                  <a:pt x="524" y="1281"/>
                </a:lnTo>
                <a:lnTo>
                  <a:pt x="531" y="1288"/>
                </a:lnTo>
                <a:lnTo>
                  <a:pt x="538" y="1295"/>
                </a:lnTo>
                <a:lnTo>
                  <a:pt x="545" y="1302"/>
                </a:lnTo>
                <a:lnTo>
                  <a:pt x="545" y="1315"/>
                </a:lnTo>
                <a:lnTo>
                  <a:pt x="552" y="1322"/>
                </a:lnTo>
                <a:lnTo>
                  <a:pt x="566" y="1322"/>
                </a:lnTo>
                <a:lnTo>
                  <a:pt x="573" y="1322"/>
                </a:lnTo>
                <a:lnTo>
                  <a:pt x="580" y="1329"/>
                </a:lnTo>
                <a:lnTo>
                  <a:pt x="580" y="1329"/>
                </a:lnTo>
                <a:lnTo>
                  <a:pt x="573" y="1329"/>
                </a:lnTo>
                <a:lnTo>
                  <a:pt x="566" y="1336"/>
                </a:lnTo>
                <a:lnTo>
                  <a:pt x="552" y="1343"/>
                </a:lnTo>
                <a:lnTo>
                  <a:pt x="545" y="1343"/>
                </a:lnTo>
                <a:lnTo>
                  <a:pt x="531" y="1350"/>
                </a:lnTo>
                <a:lnTo>
                  <a:pt x="524" y="1350"/>
                </a:lnTo>
                <a:lnTo>
                  <a:pt x="518" y="1350"/>
                </a:lnTo>
                <a:lnTo>
                  <a:pt x="511" y="1350"/>
                </a:lnTo>
                <a:lnTo>
                  <a:pt x="511" y="1343"/>
                </a:lnTo>
                <a:lnTo>
                  <a:pt x="511" y="1329"/>
                </a:lnTo>
                <a:close/>
                <a:moveTo>
                  <a:pt x="718" y="3299"/>
                </a:moveTo>
                <a:lnTo>
                  <a:pt x="752" y="3265"/>
                </a:lnTo>
                <a:lnTo>
                  <a:pt x="787" y="3265"/>
                </a:lnTo>
                <a:lnTo>
                  <a:pt x="821" y="3265"/>
                </a:lnTo>
                <a:lnTo>
                  <a:pt x="855" y="3230"/>
                </a:lnTo>
                <a:lnTo>
                  <a:pt x="890" y="3230"/>
                </a:lnTo>
                <a:lnTo>
                  <a:pt x="924" y="3230"/>
                </a:lnTo>
                <a:lnTo>
                  <a:pt x="959" y="3196"/>
                </a:lnTo>
                <a:lnTo>
                  <a:pt x="993" y="3196"/>
                </a:lnTo>
                <a:lnTo>
                  <a:pt x="1028" y="3196"/>
                </a:lnTo>
                <a:lnTo>
                  <a:pt x="1062" y="3161"/>
                </a:lnTo>
                <a:lnTo>
                  <a:pt x="1090" y="3161"/>
                </a:lnTo>
                <a:lnTo>
                  <a:pt x="1090" y="3127"/>
                </a:lnTo>
                <a:lnTo>
                  <a:pt x="1124" y="3093"/>
                </a:lnTo>
                <a:lnTo>
                  <a:pt x="1124" y="3058"/>
                </a:lnTo>
                <a:lnTo>
                  <a:pt x="1159" y="3024"/>
                </a:lnTo>
                <a:lnTo>
                  <a:pt x="1159" y="2996"/>
                </a:lnTo>
                <a:lnTo>
                  <a:pt x="1193" y="2962"/>
                </a:lnTo>
                <a:lnTo>
                  <a:pt x="1193" y="2927"/>
                </a:lnTo>
                <a:lnTo>
                  <a:pt x="1228" y="2893"/>
                </a:lnTo>
                <a:lnTo>
                  <a:pt x="1228" y="2858"/>
                </a:lnTo>
                <a:lnTo>
                  <a:pt x="1262" y="2824"/>
                </a:lnTo>
                <a:lnTo>
                  <a:pt x="1262" y="2789"/>
                </a:lnTo>
                <a:lnTo>
                  <a:pt x="1297" y="2755"/>
                </a:lnTo>
                <a:lnTo>
                  <a:pt x="1297" y="2721"/>
                </a:lnTo>
                <a:lnTo>
                  <a:pt x="1331" y="2686"/>
                </a:lnTo>
                <a:lnTo>
                  <a:pt x="1331" y="2652"/>
                </a:lnTo>
                <a:lnTo>
                  <a:pt x="1366" y="2617"/>
                </a:lnTo>
                <a:lnTo>
                  <a:pt x="1366" y="2583"/>
                </a:lnTo>
                <a:lnTo>
                  <a:pt x="1400" y="2548"/>
                </a:lnTo>
                <a:lnTo>
                  <a:pt x="1400" y="2514"/>
                </a:lnTo>
                <a:lnTo>
                  <a:pt x="1435" y="2480"/>
                </a:lnTo>
                <a:lnTo>
                  <a:pt x="1435" y="2452"/>
                </a:lnTo>
                <a:lnTo>
                  <a:pt x="1469" y="2418"/>
                </a:lnTo>
                <a:lnTo>
                  <a:pt x="1469" y="2383"/>
                </a:lnTo>
                <a:lnTo>
                  <a:pt x="1504" y="2349"/>
                </a:lnTo>
                <a:lnTo>
                  <a:pt x="1504" y="2314"/>
                </a:lnTo>
                <a:lnTo>
                  <a:pt x="1538" y="2280"/>
                </a:lnTo>
                <a:lnTo>
                  <a:pt x="1538" y="2245"/>
                </a:lnTo>
                <a:lnTo>
                  <a:pt x="1573" y="2211"/>
                </a:lnTo>
                <a:lnTo>
                  <a:pt x="1573" y="2176"/>
                </a:lnTo>
                <a:lnTo>
                  <a:pt x="1607" y="2142"/>
                </a:lnTo>
                <a:lnTo>
                  <a:pt x="1607" y="2108"/>
                </a:lnTo>
                <a:lnTo>
                  <a:pt x="1641" y="2073"/>
                </a:lnTo>
                <a:lnTo>
                  <a:pt x="1641" y="2039"/>
                </a:lnTo>
                <a:lnTo>
                  <a:pt x="1676" y="2004"/>
                </a:lnTo>
                <a:lnTo>
                  <a:pt x="1676" y="1970"/>
                </a:lnTo>
                <a:lnTo>
                  <a:pt x="1710" y="1935"/>
                </a:lnTo>
                <a:lnTo>
                  <a:pt x="1710" y="1908"/>
                </a:lnTo>
                <a:lnTo>
                  <a:pt x="1745" y="1873"/>
                </a:lnTo>
                <a:lnTo>
                  <a:pt x="1745" y="1839"/>
                </a:lnTo>
                <a:lnTo>
                  <a:pt x="1745" y="1804"/>
                </a:lnTo>
                <a:lnTo>
                  <a:pt x="1745" y="1770"/>
                </a:lnTo>
                <a:lnTo>
                  <a:pt x="1779" y="1736"/>
                </a:lnTo>
                <a:lnTo>
                  <a:pt x="1779" y="1701"/>
                </a:lnTo>
                <a:lnTo>
                  <a:pt x="1779" y="1667"/>
                </a:lnTo>
                <a:lnTo>
                  <a:pt x="1779" y="1632"/>
                </a:lnTo>
                <a:lnTo>
                  <a:pt x="1779" y="1598"/>
                </a:lnTo>
                <a:lnTo>
                  <a:pt x="1779" y="1563"/>
                </a:lnTo>
                <a:lnTo>
                  <a:pt x="1807" y="1529"/>
                </a:lnTo>
                <a:lnTo>
                  <a:pt x="1807" y="1494"/>
                </a:lnTo>
                <a:lnTo>
                  <a:pt x="1807" y="1460"/>
                </a:lnTo>
                <a:lnTo>
                  <a:pt x="1807" y="1426"/>
                </a:lnTo>
                <a:lnTo>
                  <a:pt x="1807" y="1398"/>
                </a:lnTo>
                <a:lnTo>
                  <a:pt x="1807" y="1364"/>
                </a:lnTo>
                <a:lnTo>
                  <a:pt x="1841" y="1329"/>
                </a:lnTo>
                <a:lnTo>
                  <a:pt x="1841" y="1295"/>
                </a:lnTo>
                <a:lnTo>
                  <a:pt x="1841" y="1260"/>
                </a:lnTo>
                <a:lnTo>
                  <a:pt x="1841" y="1226"/>
                </a:lnTo>
                <a:lnTo>
                  <a:pt x="1841" y="1191"/>
                </a:lnTo>
                <a:lnTo>
                  <a:pt x="1841" y="1157"/>
                </a:lnTo>
                <a:lnTo>
                  <a:pt x="1876" y="1122"/>
                </a:lnTo>
                <a:lnTo>
                  <a:pt x="1876" y="1088"/>
                </a:lnTo>
                <a:lnTo>
                  <a:pt x="1876" y="1054"/>
                </a:lnTo>
                <a:lnTo>
                  <a:pt x="1876" y="1019"/>
                </a:lnTo>
                <a:lnTo>
                  <a:pt x="1876" y="985"/>
                </a:lnTo>
                <a:lnTo>
                  <a:pt x="1910" y="950"/>
                </a:lnTo>
                <a:lnTo>
                  <a:pt x="1910" y="916"/>
                </a:lnTo>
                <a:lnTo>
                  <a:pt x="1910" y="888"/>
                </a:lnTo>
                <a:lnTo>
                  <a:pt x="1910" y="854"/>
                </a:lnTo>
                <a:lnTo>
                  <a:pt x="1910" y="819"/>
                </a:lnTo>
                <a:lnTo>
                  <a:pt x="1910" y="785"/>
                </a:lnTo>
                <a:lnTo>
                  <a:pt x="1945" y="751"/>
                </a:lnTo>
                <a:lnTo>
                  <a:pt x="1945" y="716"/>
                </a:lnTo>
                <a:lnTo>
                  <a:pt x="1945" y="682"/>
                </a:lnTo>
                <a:lnTo>
                  <a:pt x="1945" y="647"/>
                </a:lnTo>
                <a:lnTo>
                  <a:pt x="1945" y="613"/>
                </a:lnTo>
                <a:lnTo>
                  <a:pt x="1945" y="578"/>
                </a:lnTo>
                <a:lnTo>
                  <a:pt x="1979" y="544"/>
                </a:lnTo>
                <a:lnTo>
                  <a:pt x="1979" y="509"/>
                </a:lnTo>
                <a:lnTo>
                  <a:pt x="1979" y="475"/>
                </a:lnTo>
                <a:lnTo>
                  <a:pt x="1979" y="441"/>
                </a:lnTo>
                <a:lnTo>
                  <a:pt x="1979" y="406"/>
                </a:lnTo>
                <a:lnTo>
                  <a:pt x="1979" y="372"/>
                </a:lnTo>
                <a:lnTo>
                  <a:pt x="2014" y="344"/>
                </a:lnTo>
                <a:lnTo>
                  <a:pt x="2014" y="310"/>
                </a:lnTo>
                <a:lnTo>
                  <a:pt x="2014" y="275"/>
                </a:lnTo>
                <a:lnTo>
                  <a:pt x="2014" y="241"/>
                </a:lnTo>
                <a:lnTo>
                  <a:pt x="2014" y="206"/>
                </a:lnTo>
                <a:lnTo>
                  <a:pt x="2014" y="172"/>
                </a:lnTo>
                <a:lnTo>
                  <a:pt x="2048" y="137"/>
                </a:lnTo>
                <a:lnTo>
                  <a:pt x="2048" y="103"/>
                </a:lnTo>
                <a:lnTo>
                  <a:pt x="2048" y="69"/>
                </a:lnTo>
                <a:lnTo>
                  <a:pt x="2048" y="34"/>
                </a:lnTo>
                <a:lnTo>
                  <a:pt x="2048" y="0"/>
                </a:lnTo>
                <a:lnTo>
                  <a:pt x="2014" y="0"/>
                </a:lnTo>
                <a:lnTo>
                  <a:pt x="1979" y="0"/>
                </a:lnTo>
                <a:lnTo>
                  <a:pt x="1945" y="0"/>
                </a:lnTo>
                <a:lnTo>
                  <a:pt x="1910" y="34"/>
                </a:lnTo>
                <a:lnTo>
                  <a:pt x="1876" y="34"/>
                </a:lnTo>
                <a:lnTo>
                  <a:pt x="1841" y="69"/>
                </a:lnTo>
                <a:lnTo>
                  <a:pt x="1807" y="69"/>
                </a:lnTo>
                <a:lnTo>
                  <a:pt x="1779" y="69"/>
                </a:lnTo>
                <a:lnTo>
                  <a:pt x="1745" y="103"/>
                </a:lnTo>
                <a:lnTo>
                  <a:pt x="1710" y="103"/>
                </a:lnTo>
                <a:lnTo>
                  <a:pt x="1676" y="137"/>
                </a:lnTo>
                <a:lnTo>
                  <a:pt x="1641" y="137"/>
                </a:lnTo>
                <a:lnTo>
                  <a:pt x="1607" y="172"/>
                </a:lnTo>
                <a:lnTo>
                  <a:pt x="1573" y="172"/>
                </a:lnTo>
                <a:lnTo>
                  <a:pt x="1538" y="206"/>
                </a:lnTo>
                <a:lnTo>
                  <a:pt x="1504" y="206"/>
                </a:lnTo>
                <a:lnTo>
                  <a:pt x="1469" y="206"/>
                </a:lnTo>
                <a:lnTo>
                  <a:pt x="1435" y="241"/>
                </a:lnTo>
                <a:lnTo>
                  <a:pt x="1400" y="241"/>
                </a:lnTo>
                <a:lnTo>
                  <a:pt x="1366" y="275"/>
                </a:lnTo>
                <a:lnTo>
                  <a:pt x="1331" y="275"/>
                </a:lnTo>
                <a:lnTo>
                  <a:pt x="1297" y="310"/>
                </a:lnTo>
                <a:lnTo>
                  <a:pt x="1262" y="310"/>
                </a:lnTo>
                <a:lnTo>
                  <a:pt x="1228" y="344"/>
                </a:lnTo>
                <a:lnTo>
                  <a:pt x="1193" y="344"/>
                </a:lnTo>
                <a:lnTo>
                  <a:pt x="1159" y="344"/>
                </a:lnTo>
                <a:lnTo>
                  <a:pt x="1124" y="372"/>
                </a:lnTo>
                <a:lnTo>
                  <a:pt x="1090" y="372"/>
                </a:lnTo>
                <a:lnTo>
                  <a:pt x="1062" y="406"/>
                </a:lnTo>
                <a:lnTo>
                  <a:pt x="1028" y="406"/>
                </a:lnTo>
                <a:lnTo>
                  <a:pt x="993" y="441"/>
                </a:lnTo>
                <a:lnTo>
                  <a:pt x="959" y="441"/>
                </a:lnTo>
                <a:lnTo>
                  <a:pt x="924" y="475"/>
                </a:lnTo>
                <a:lnTo>
                  <a:pt x="890" y="475"/>
                </a:lnTo>
                <a:lnTo>
                  <a:pt x="855" y="475"/>
                </a:lnTo>
                <a:lnTo>
                  <a:pt x="821" y="509"/>
                </a:lnTo>
                <a:lnTo>
                  <a:pt x="787" y="544"/>
                </a:lnTo>
                <a:lnTo>
                  <a:pt x="752" y="578"/>
                </a:lnTo>
                <a:lnTo>
                  <a:pt x="752" y="613"/>
                </a:lnTo>
                <a:lnTo>
                  <a:pt x="718" y="647"/>
                </a:lnTo>
                <a:lnTo>
                  <a:pt x="683" y="682"/>
                </a:lnTo>
                <a:lnTo>
                  <a:pt x="649" y="716"/>
                </a:lnTo>
                <a:lnTo>
                  <a:pt x="649" y="751"/>
                </a:lnTo>
                <a:lnTo>
                  <a:pt x="614" y="785"/>
                </a:lnTo>
                <a:lnTo>
                  <a:pt x="580" y="819"/>
                </a:lnTo>
                <a:lnTo>
                  <a:pt x="545" y="854"/>
                </a:lnTo>
                <a:lnTo>
                  <a:pt x="545" y="888"/>
                </a:lnTo>
                <a:lnTo>
                  <a:pt x="511" y="916"/>
                </a:lnTo>
                <a:lnTo>
                  <a:pt x="476" y="950"/>
                </a:lnTo>
                <a:lnTo>
                  <a:pt x="476" y="985"/>
                </a:lnTo>
                <a:lnTo>
                  <a:pt x="442" y="1019"/>
                </a:lnTo>
                <a:lnTo>
                  <a:pt x="442" y="1054"/>
                </a:lnTo>
                <a:lnTo>
                  <a:pt x="442" y="1088"/>
                </a:lnTo>
                <a:lnTo>
                  <a:pt x="407" y="1122"/>
                </a:lnTo>
                <a:lnTo>
                  <a:pt x="407" y="1157"/>
                </a:lnTo>
                <a:lnTo>
                  <a:pt x="373" y="1191"/>
                </a:lnTo>
                <a:lnTo>
                  <a:pt x="373" y="1226"/>
                </a:lnTo>
                <a:lnTo>
                  <a:pt x="338" y="1260"/>
                </a:lnTo>
                <a:lnTo>
                  <a:pt x="338" y="1295"/>
                </a:lnTo>
                <a:lnTo>
                  <a:pt x="311" y="1329"/>
                </a:lnTo>
                <a:lnTo>
                  <a:pt x="311" y="1364"/>
                </a:lnTo>
                <a:lnTo>
                  <a:pt x="276" y="1398"/>
                </a:lnTo>
                <a:lnTo>
                  <a:pt x="276" y="1426"/>
                </a:lnTo>
                <a:lnTo>
                  <a:pt x="276" y="1460"/>
                </a:lnTo>
                <a:lnTo>
                  <a:pt x="242" y="1494"/>
                </a:lnTo>
                <a:lnTo>
                  <a:pt x="242" y="1529"/>
                </a:lnTo>
                <a:lnTo>
                  <a:pt x="207" y="1563"/>
                </a:lnTo>
                <a:lnTo>
                  <a:pt x="207" y="1598"/>
                </a:lnTo>
                <a:lnTo>
                  <a:pt x="173" y="1632"/>
                </a:lnTo>
                <a:lnTo>
                  <a:pt x="173" y="1667"/>
                </a:lnTo>
                <a:lnTo>
                  <a:pt x="138" y="1701"/>
                </a:lnTo>
                <a:lnTo>
                  <a:pt x="138" y="1736"/>
                </a:lnTo>
                <a:lnTo>
                  <a:pt x="138" y="1770"/>
                </a:lnTo>
                <a:lnTo>
                  <a:pt x="104" y="1804"/>
                </a:lnTo>
                <a:lnTo>
                  <a:pt x="104" y="1839"/>
                </a:lnTo>
                <a:lnTo>
                  <a:pt x="69" y="1873"/>
                </a:lnTo>
                <a:lnTo>
                  <a:pt x="69" y="1908"/>
                </a:lnTo>
                <a:lnTo>
                  <a:pt x="69" y="1935"/>
                </a:lnTo>
                <a:lnTo>
                  <a:pt x="69" y="1970"/>
                </a:lnTo>
                <a:lnTo>
                  <a:pt x="69" y="2004"/>
                </a:lnTo>
                <a:lnTo>
                  <a:pt x="35" y="2039"/>
                </a:lnTo>
                <a:lnTo>
                  <a:pt x="35" y="2073"/>
                </a:lnTo>
                <a:lnTo>
                  <a:pt x="35" y="2108"/>
                </a:lnTo>
                <a:lnTo>
                  <a:pt x="35" y="2142"/>
                </a:lnTo>
                <a:lnTo>
                  <a:pt x="0" y="2176"/>
                </a:lnTo>
                <a:lnTo>
                  <a:pt x="0" y="2211"/>
                </a:lnTo>
                <a:lnTo>
                  <a:pt x="0" y="2245"/>
                </a:lnTo>
                <a:lnTo>
                  <a:pt x="0" y="2280"/>
                </a:lnTo>
                <a:lnTo>
                  <a:pt x="0" y="2314"/>
                </a:lnTo>
                <a:lnTo>
                  <a:pt x="0" y="2349"/>
                </a:lnTo>
                <a:lnTo>
                  <a:pt x="0" y="2383"/>
                </a:lnTo>
                <a:lnTo>
                  <a:pt x="0" y="2418"/>
                </a:lnTo>
                <a:lnTo>
                  <a:pt x="0" y="2452"/>
                </a:lnTo>
                <a:lnTo>
                  <a:pt x="0" y="2480"/>
                </a:lnTo>
                <a:lnTo>
                  <a:pt x="0" y="2514"/>
                </a:lnTo>
                <a:lnTo>
                  <a:pt x="0" y="2548"/>
                </a:lnTo>
                <a:lnTo>
                  <a:pt x="0" y="2583"/>
                </a:lnTo>
                <a:lnTo>
                  <a:pt x="35" y="2617"/>
                </a:lnTo>
                <a:lnTo>
                  <a:pt x="35" y="2652"/>
                </a:lnTo>
                <a:lnTo>
                  <a:pt x="35" y="2686"/>
                </a:lnTo>
                <a:lnTo>
                  <a:pt x="35" y="2721"/>
                </a:lnTo>
                <a:lnTo>
                  <a:pt x="35" y="2755"/>
                </a:lnTo>
                <a:lnTo>
                  <a:pt x="35" y="2789"/>
                </a:lnTo>
                <a:lnTo>
                  <a:pt x="35" y="2824"/>
                </a:lnTo>
                <a:lnTo>
                  <a:pt x="35" y="2858"/>
                </a:lnTo>
                <a:lnTo>
                  <a:pt x="35" y="2893"/>
                </a:lnTo>
                <a:lnTo>
                  <a:pt x="69" y="2927"/>
                </a:lnTo>
                <a:lnTo>
                  <a:pt x="69" y="2962"/>
                </a:lnTo>
                <a:lnTo>
                  <a:pt x="104" y="2996"/>
                </a:lnTo>
                <a:lnTo>
                  <a:pt x="138" y="3024"/>
                </a:lnTo>
                <a:lnTo>
                  <a:pt x="173" y="3058"/>
                </a:lnTo>
                <a:lnTo>
                  <a:pt x="207" y="3093"/>
                </a:lnTo>
                <a:lnTo>
                  <a:pt x="242" y="3127"/>
                </a:lnTo>
                <a:lnTo>
                  <a:pt x="276" y="3161"/>
                </a:lnTo>
                <a:lnTo>
                  <a:pt x="311" y="3196"/>
                </a:lnTo>
                <a:lnTo>
                  <a:pt x="338" y="3196"/>
                </a:lnTo>
                <a:lnTo>
                  <a:pt x="373" y="3230"/>
                </a:lnTo>
                <a:lnTo>
                  <a:pt x="407" y="3230"/>
                </a:lnTo>
                <a:lnTo>
                  <a:pt x="442" y="3230"/>
                </a:lnTo>
                <a:lnTo>
                  <a:pt x="476" y="3265"/>
                </a:lnTo>
                <a:lnTo>
                  <a:pt x="511" y="3265"/>
                </a:lnTo>
                <a:lnTo>
                  <a:pt x="545" y="3299"/>
                </a:lnTo>
                <a:lnTo>
                  <a:pt x="580" y="3299"/>
                </a:lnTo>
                <a:lnTo>
                  <a:pt x="614" y="3299"/>
                </a:lnTo>
                <a:lnTo>
                  <a:pt x="649" y="3299"/>
                </a:lnTo>
                <a:lnTo>
                  <a:pt x="683" y="3299"/>
                </a:lnTo>
                <a:lnTo>
                  <a:pt x="718" y="3299"/>
                </a:lnTo>
                <a:close/>
              </a:path>
            </a:pathLst>
          </a:custGeom>
          <a:solidFill>
            <a:srgbClr val="33ae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3" name=""/>
          <p:cNvSpPr/>
          <p:nvPr/>
        </p:nvSpPr>
        <p:spPr>
          <a:xfrm>
            <a:off x="1968480" y="2060640"/>
            <a:ext cx="87480" cy="87120"/>
          </a:xfrm>
          <a:custGeom>
            <a:avLst/>
            <a:gdLst/>
            <a:ahLst/>
            <a:rect l="l" t="t" r="r" b="b"/>
            <a:pathLst>
              <a:path w="55" h="55">
                <a:moveTo>
                  <a:pt x="28" y="55"/>
                </a:moveTo>
                <a:lnTo>
                  <a:pt x="34" y="55"/>
                </a:lnTo>
                <a:lnTo>
                  <a:pt x="34" y="35"/>
                </a:lnTo>
                <a:lnTo>
                  <a:pt x="55" y="35"/>
                </a:lnTo>
                <a:lnTo>
                  <a:pt x="55" y="28"/>
                </a:lnTo>
                <a:lnTo>
                  <a:pt x="34" y="28"/>
                </a:lnTo>
                <a:lnTo>
                  <a:pt x="34" y="0"/>
                </a:lnTo>
                <a:lnTo>
                  <a:pt x="28" y="0"/>
                </a:lnTo>
                <a:lnTo>
                  <a:pt x="28" y="28"/>
                </a:lnTo>
                <a:lnTo>
                  <a:pt x="0" y="28"/>
                </a:lnTo>
                <a:lnTo>
                  <a:pt x="0" y="35"/>
                </a:lnTo>
                <a:lnTo>
                  <a:pt x="28" y="35"/>
                </a:lnTo>
                <a:lnTo>
                  <a:pt x="28" y="55"/>
                </a:lnTo>
                <a:close/>
              </a:path>
            </a:pathLst>
          </a:custGeom>
          <a:solidFill>
            <a:srgbClr val="0000ff"/>
          </a:solidFill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4" name=""/>
          <p:cNvSpPr/>
          <p:nvPr/>
        </p:nvSpPr>
        <p:spPr>
          <a:xfrm>
            <a:off x="7156440" y="2060640"/>
            <a:ext cx="87480" cy="87120"/>
          </a:xfrm>
          <a:custGeom>
            <a:avLst/>
            <a:gdLst/>
            <a:ahLst/>
            <a:rect l="l" t="t" r="r" b="b"/>
            <a:pathLst>
              <a:path w="55" h="55">
                <a:moveTo>
                  <a:pt x="28" y="55"/>
                </a:moveTo>
                <a:lnTo>
                  <a:pt x="35" y="55"/>
                </a:lnTo>
                <a:lnTo>
                  <a:pt x="35" y="35"/>
                </a:lnTo>
                <a:lnTo>
                  <a:pt x="55" y="35"/>
                </a:lnTo>
                <a:lnTo>
                  <a:pt x="55" y="28"/>
                </a:lnTo>
                <a:lnTo>
                  <a:pt x="35" y="28"/>
                </a:lnTo>
                <a:lnTo>
                  <a:pt x="35" y="0"/>
                </a:lnTo>
                <a:lnTo>
                  <a:pt x="28" y="0"/>
                </a:lnTo>
                <a:lnTo>
                  <a:pt x="28" y="28"/>
                </a:lnTo>
                <a:lnTo>
                  <a:pt x="0" y="28"/>
                </a:lnTo>
                <a:lnTo>
                  <a:pt x="0" y="35"/>
                </a:lnTo>
                <a:lnTo>
                  <a:pt x="28" y="35"/>
                </a:lnTo>
                <a:lnTo>
                  <a:pt x="28" y="55"/>
                </a:lnTo>
                <a:close/>
              </a:path>
            </a:pathLst>
          </a:custGeom>
          <a:solidFill>
            <a:srgbClr val="0000ff"/>
          </a:solidFill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5" name=""/>
          <p:cNvSpPr/>
          <p:nvPr/>
        </p:nvSpPr>
        <p:spPr>
          <a:xfrm>
            <a:off x="7167600" y="5735520"/>
            <a:ext cx="87120" cy="98640"/>
          </a:xfrm>
          <a:custGeom>
            <a:avLst/>
            <a:gdLst/>
            <a:ahLst/>
            <a:rect l="l" t="t" r="r" b="b"/>
            <a:pathLst>
              <a:path w="55" h="62">
                <a:moveTo>
                  <a:pt x="28" y="62"/>
                </a:moveTo>
                <a:lnTo>
                  <a:pt x="28" y="62"/>
                </a:lnTo>
                <a:lnTo>
                  <a:pt x="28" y="34"/>
                </a:lnTo>
                <a:lnTo>
                  <a:pt x="55" y="34"/>
                </a:lnTo>
                <a:lnTo>
                  <a:pt x="55" y="27"/>
                </a:lnTo>
                <a:lnTo>
                  <a:pt x="28" y="27"/>
                </a:lnTo>
                <a:lnTo>
                  <a:pt x="28" y="0"/>
                </a:lnTo>
                <a:lnTo>
                  <a:pt x="28" y="0"/>
                </a:lnTo>
                <a:lnTo>
                  <a:pt x="28" y="27"/>
                </a:lnTo>
                <a:lnTo>
                  <a:pt x="0" y="27"/>
                </a:lnTo>
                <a:lnTo>
                  <a:pt x="0" y="34"/>
                </a:lnTo>
                <a:lnTo>
                  <a:pt x="28" y="34"/>
                </a:lnTo>
                <a:lnTo>
                  <a:pt x="28" y="62"/>
                </a:lnTo>
                <a:close/>
              </a:path>
            </a:pathLst>
          </a:custGeom>
          <a:solidFill>
            <a:srgbClr val="0000ff"/>
          </a:solidFill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6" name=""/>
          <p:cNvSpPr/>
          <p:nvPr/>
        </p:nvSpPr>
        <p:spPr>
          <a:xfrm>
            <a:off x="1968480" y="5735520"/>
            <a:ext cx="87480" cy="98640"/>
          </a:xfrm>
          <a:custGeom>
            <a:avLst/>
            <a:gdLst/>
            <a:ahLst/>
            <a:rect l="l" t="t" r="r" b="b"/>
            <a:pathLst>
              <a:path w="55" h="62">
                <a:moveTo>
                  <a:pt x="28" y="62"/>
                </a:moveTo>
                <a:lnTo>
                  <a:pt x="34" y="62"/>
                </a:lnTo>
                <a:lnTo>
                  <a:pt x="34" y="34"/>
                </a:lnTo>
                <a:lnTo>
                  <a:pt x="55" y="34"/>
                </a:lnTo>
                <a:lnTo>
                  <a:pt x="55" y="27"/>
                </a:lnTo>
                <a:lnTo>
                  <a:pt x="34" y="27"/>
                </a:lnTo>
                <a:lnTo>
                  <a:pt x="34" y="0"/>
                </a:lnTo>
                <a:lnTo>
                  <a:pt x="28" y="0"/>
                </a:lnTo>
                <a:lnTo>
                  <a:pt x="28" y="27"/>
                </a:lnTo>
                <a:lnTo>
                  <a:pt x="0" y="27"/>
                </a:lnTo>
                <a:lnTo>
                  <a:pt x="0" y="34"/>
                </a:lnTo>
                <a:lnTo>
                  <a:pt x="28" y="34"/>
                </a:lnTo>
                <a:lnTo>
                  <a:pt x="28" y="62"/>
                </a:lnTo>
                <a:close/>
              </a:path>
            </a:pathLst>
          </a:custGeom>
          <a:solidFill>
            <a:srgbClr val="0000ff"/>
          </a:solidFill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87" name=""/>
          <p:cNvGrpSpPr/>
          <p:nvPr/>
        </p:nvGrpSpPr>
        <p:grpSpPr>
          <a:xfrm>
            <a:off x="2766960" y="2103120"/>
            <a:ext cx="3973680" cy="3600720"/>
            <a:chOff x="2766960" y="2103120"/>
            <a:chExt cx="3973680" cy="3600720"/>
          </a:xfrm>
        </p:grpSpPr>
        <p:sp>
          <p:nvSpPr>
            <p:cNvPr id="5688" name=""/>
            <p:cNvSpPr/>
            <p:nvPr/>
          </p:nvSpPr>
          <p:spPr>
            <a:xfrm rot="17760000">
              <a:off x="4003920" y="221076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9" name=""/>
            <p:cNvSpPr/>
            <p:nvPr/>
          </p:nvSpPr>
          <p:spPr>
            <a:xfrm rot="17760000">
              <a:off x="4037400" y="2140200"/>
              <a:ext cx="84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0" name=""/>
            <p:cNvSpPr/>
            <p:nvPr/>
          </p:nvSpPr>
          <p:spPr>
            <a:xfrm rot="17280000">
              <a:off x="4259520" y="217152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1" name=""/>
            <p:cNvSpPr/>
            <p:nvPr/>
          </p:nvSpPr>
          <p:spPr>
            <a:xfrm rot="17280000">
              <a:off x="4292640" y="209376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2" name=""/>
            <p:cNvSpPr/>
            <p:nvPr/>
          </p:nvSpPr>
          <p:spPr>
            <a:xfrm>
              <a:off x="3807000" y="4203720"/>
              <a:ext cx="44280" cy="223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3" name=""/>
            <p:cNvSpPr/>
            <p:nvPr/>
          </p:nvSpPr>
          <p:spPr>
            <a:xfrm>
              <a:off x="3873600" y="4259160"/>
              <a:ext cx="20520" cy="3168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7" y="0"/>
                  </a:moveTo>
                  <a:lnTo>
                    <a:pt x="13" y="0"/>
                  </a:lnTo>
                  <a:lnTo>
                    <a:pt x="0" y="2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4" name=""/>
            <p:cNvSpPr/>
            <p:nvPr/>
          </p:nvSpPr>
          <p:spPr>
            <a:xfrm flipH="1">
              <a:off x="3839760" y="4324320"/>
              <a:ext cx="11160" cy="446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5" name=""/>
            <p:cNvSpPr/>
            <p:nvPr/>
          </p:nvSpPr>
          <p:spPr>
            <a:xfrm>
              <a:off x="3862440" y="4400640"/>
              <a:ext cx="31680" cy="331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6" name=""/>
            <p:cNvSpPr/>
            <p:nvPr/>
          </p:nvSpPr>
          <p:spPr>
            <a:xfrm>
              <a:off x="3938760" y="4456080"/>
              <a:ext cx="33120" cy="223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7" name=""/>
            <p:cNvSpPr/>
            <p:nvPr/>
          </p:nvSpPr>
          <p:spPr>
            <a:xfrm>
              <a:off x="4003560" y="4510080"/>
              <a:ext cx="44640" cy="223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8" name=""/>
            <p:cNvSpPr/>
            <p:nvPr/>
          </p:nvSpPr>
          <p:spPr>
            <a:xfrm>
              <a:off x="4081320" y="4565520"/>
              <a:ext cx="32040" cy="208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9" name=""/>
            <p:cNvSpPr/>
            <p:nvPr/>
          </p:nvSpPr>
          <p:spPr>
            <a:xfrm>
              <a:off x="4146480" y="4619520"/>
              <a:ext cx="44640" cy="223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0" name=""/>
            <p:cNvSpPr/>
            <p:nvPr/>
          </p:nvSpPr>
          <p:spPr>
            <a:xfrm>
              <a:off x="4222800" y="4664160"/>
              <a:ext cx="33120" cy="316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1" name=""/>
            <p:cNvSpPr/>
            <p:nvPr/>
          </p:nvSpPr>
          <p:spPr>
            <a:xfrm>
              <a:off x="4300560" y="4718160"/>
              <a:ext cx="144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2" name=""/>
            <p:cNvSpPr/>
            <p:nvPr/>
          </p:nvSpPr>
          <p:spPr>
            <a:xfrm>
              <a:off x="5514840" y="4510080"/>
              <a:ext cx="5400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3" name=""/>
            <p:cNvSpPr/>
            <p:nvPr/>
          </p:nvSpPr>
          <p:spPr>
            <a:xfrm>
              <a:off x="5568840" y="4554360"/>
              <a:ext cx="33480" cy="11160"/>
            </a:xfrm>
            <a:custGeom>
              <a:avLst/>
              <a:gdLst/>
              <a:ahLst/>
              <a:rect l="l" t="t" r="r" b="b"/>
              <a:pathLst>
                <a:path w="21" h="7">
                  <a:moveTo>
                    <a:pt x="0" y="0"/>
                  </a:moveTo>
                  <a:lnTo>
                    <a:pt x="0" y="0"/>
                  </a:lnTo>
                  <a:lnTo>
                    <a:pt x="21" y="7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4" name=""/>
            <p:cNvSpPr/>
            <p:nvPr/>
          </p:nvSpPr>
          <p:spPr>
            <a:xfrm>
              <a:off x="5646600" y="4586400"/>
              <a:ext cx="32040" cy="21960"/>
            </a:xfrm>
            <a:custGeom>
              <a:avLst/>
              <a:gdLst/>
              <a:ahLst/>
              <a:rect l="l" t="t" r="r" b="b"/>
              <a:pathLst>
                <a:path w="20" h="14">
                  <a:moveTo>
                    <a:pt x="0" y="0"/>
                  </a:moveTo>
                  <a:lnTo>
                    <a:pt x="20" y="14"/>
                  </a:lnTo>
                  <a:lnTo>
                    <a:pt x="20" y="14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5" name=""/>
            <p:cNvSpPr/>
            <p:nvPr/>
          </p:nvSpPr>
          <p:spPr>
            <a:xfrm>
              <a:off x="5722920" y="4619520"/>
              <a:ext cx="42840" cy="111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6" name=""/>
            <p:cNvSpPr/>
            <p:nvPr/>
          </p:nvSpPr>
          <p:spPr>
            <a:xfrm>
              <a:off x="5492880" y="3963960"/>
              <a:ext cx="11160" cy="42840"/>
            </a:xfrm>
            <a:custGeom>
              <a:avLst/>
              <a:gdLst/>
              <a:ahLst/>
              <a:rect l="l" t="t" r="r" b="b"/>
              <a:pathLst>
                <a:path w="7" h="27">
                  <a:moveTo>
                    <a:pt x="7" y="0"/>
                  </a:moveTo>
                  <a:lnTo>
                    <a:pt x="0" y="27"/>
                  </a:lnTo>
                  <a:lnTo>
                    <a:pt x="0" y="27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7" name=""/>
            <p:cNvSpPr/>
            <p:nvPr/>
          </p:nvSpPr>
          <p:spPr>
            <a:xfrm>
              <a:off x="5492880" y="4051440"/>
              <a:ext cx="1440" cy="428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8" name=""/>
            <p:cNvSpPr/>
            <p:nvPr/>
          </p:nvSpPr>
          <p:spPr>
            <a:xfrm>
              <a:off x="5492880" y="4149720"/>
              <a:ext cx="1440" cy="428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9" name=""/>
            <p:cNvSpPr/>
            <p:nvPr/>
          </p:nvSpPr>
          <p:spPr>
            <a:xfrm>
              <a:off x="5481720" y="4237200"/>
              <a:ext cx="1440" cy="442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0" name=""/>
            <p:cNvSpPr/>
            <p:nvPr/>
          </p:nvSpPr>
          <p:spPr>
            <a:xfrm>
              <a:off x="5481720" y="4324320"/>
              <a:ext cx="22320" cy="2232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0" y="0"/>
                  </a:moveTo>
                  <a:lnTo>
                    <a:pt x="0" y="14"/>
                  </a:lnTo>
                  <a:lnTo>
                    <a:pt x="14" y="14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1" name=""/>
            <p:cNvSpPr/>
            <p:nvPr/>
          </p:nvSpPr>
          <p:spPr>
            <a:xfrm flipH="1">
              <a:off x="5514480" y="4379760"/>
              <a:ext cx="11160" cy="428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2" name=""/>
            <p:cNvSpPr/>
            <p:nvPr/>
          </p:nvSpPr>
          <p:spPr>
            <a:xfrm>
              <a:off x="5514840" y="4467240"/>
              <a:ext cx="1800" cy="428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3" name=""/>
            <p:cNvSpPr/>
            <p:nvPr/>
          </p:nvSpPr>
          <p:spPr>
            <a:xfrm>
              <a:off x="4497480" y="5089680"/>
              <a:ext cx="11160" cy="442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4" name=""/>
            <p:cNvSpPr/>
            <p:nvPr/>
          </p:nvSpPr>
          <p:spPr>
            <a:xfrm>
              <a:off x="4518000" y="5176800"/>
              <a:ext cx="11160" cy="446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5" name=""/>
            <p:cNvSpPr/>
            <p:nvPr/>
          </p:nvSpPr>
          <p:spPr>
            <a:xfrm>
              <a:off x="4540320" y="5265720"/>
              <a:ext cx="1440" cy="428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6" name=""/>
            <p:cNvSpPr/>
            <p:nvPr/>
          </p:nvSpPr>
          <p:spPr>
            <a:xfrm>
              <a:off x="4551480" y="5353200"/>
              <a:ext cx="11160" cy="428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7" name=""/>
            <p:cNvSpPr/>
            <p:nvPr/>
          </p:nvSpPr>
          <p:spPr>
            <a:xfrm>
              <a:off x="4573440" y="5440320"/>
              <a:ext cx="11160" cy="428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8" name=""/>
            <p:cNvSpPr/>
            <p:nvPr/>
          </p:nvSpPr>
          <p:spPr>
            <a:xfrm>
              <a:off x="4584600" y="5527800"/>
              <a:ext cx="11160" cy="428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9" name=""/>
            <p:cNvSpPr/>
            <p:nvPr/>
          </p:nvSpPr>
          <p:spPr>
            <a:xfrm>
              <a:off x="4606920" y="5614920"/>
              <a:ext cx="11160" cy="428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0" name=""/>
            <p:cNvSpPr/>
            <p:nvPr/>
          </p:nvSpPr>
          <p:spPr>
            <a:xfrm>
              <a:off x="4529160" y="5078520"/>
              <a:ext cx="11160" cy="442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1" name=""/>
            <p:cNvSpPr/>
            <p:nvPr/>
          </p:nvSpPr>
          <p:spPr>
            <a:xfrm>
              <a:off x="4562640" y="5156280"/>
              <a:ext cx="21960" cy="428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2" name=""/>
            <p:cNvSpPr/>
            <p:nvPr/>
          </p:nvSpPr>
          <p:spPr>
            <a:xfrm>
              <a:off x="4606920" y="5243400"/>
              <a:ext cx="20520" cy="320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3" name=""/>
            <p:cNvSpPr/>
            <p:nvPr/>
          </p:nvSpPr>
          <p:spPr>
            <a:xfrm>
              <a:off x="4638600" y="5319720"/>
              <a:ext cx="22320" cy="334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4" name=""/>
            <p:cNvSpPr/>
            <p:nvPr/>
          </p:nvSpPr>
          <p:spPr>
            <a:xfrm>
              <a:off x="4683240" y="5396040"/>
              <a:ext cx="21960" cy="442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5" name=""/>
            <p:cNvSpPr/>
            <p:nvPr/>
          </p:nvSpPr>
          <p:spPr>
            <a:xfrm flipV="1">
              <a:off x="4584600" y="5482800"/>
              <a:ext cx="42840" cy="111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6" name=""/>
            <p:cNvSpPr/>
            <p:nvPr/>
          </p:nvSpPr>
          <p:spPr>
            <a:xfrm>
              <a:off x="4672080" y="5451480"/>
              <a:ext cx="33120" cy="9360"/>
            </a:xfrm>
            <a:custGeom>
              <a:avLst/>
              <a:gdLst/>
              <a:ahLst/>
              <a:rect l="l" t="t" r="r" b="b"/>
              <a:pathLst>
                <a:path w="21" h="6">
                  <a:moveTo>
                    <a:pt x="0" y="6"/>
                  </a:moveTo>
                  <a:lnTo>
                    <a:pt x="7" y="6"/>
                  </a:lnTo>
                  <a:lnTo>
                    <a:pt x="21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7" name=""/>
            <p:cNvSpPr/>
            <p:nvPr/>
          </p:nvSpPr>
          <p:spPr>
            <a:xfrm>
              <a:off x="4748040" y="5396040"/>
              <a:ext cx="33480" cy="33120"/>
            </a:xfrm>
            <a:custGeom>
              <a:avLst/>
              <a:gdLst/>
              <a:ahLst/>
              <a:rect l="l" t="t" r="r" b="b"/>
              <a:pathLst>
                <a:path w="21" h="21">
                  <a:moveTo>
                    <a:pt x="0" y="21"/>
                  </a:moveTo>
                  <a:lnTo>
                    <a:pt x="21" y="7"/>
                  </a:lnTo>
                  <a:lnTo>
                    <a:pt x="21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8" name=""/>
            <p:cNvSpPr/>
            <p:nvPr/>
          </p:nvSpPr>
          <p:spPr>
            <a:xfrm>
              <a:off x="4826160" y="5384880"/>
              <a:ext cx="42840" cy="1440"/>
            </a:xfrm>
            <a:custGeom>
              <a:avLst/>
              <a:gdLst/>
              <a:ahLst/>
              <a:rect l="l" t="t" r="r" b="b"/>
              <a:pathLst>
                <a:path w="27" h="0">
                  <a:moveTo>
                    <a:pt x="0" y="0"/>
                  </a:moveTo>
                  <a:lnTo>
                    <a:pt x="27" y="0"/>
                  </a:lnTo>
                  <a:lnTo>
                    <a:pt x="27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9" name=""/>
            <p:cNvSpPr/>
            <p:nvPr/>
          </p:nvSpPr>
          <p:spPr>
            <a:xfrm>
              <a:off x="4913280" y="5373720"/>
              <a:ext cx="42840" cy="11160"/>
            </a:xfrm>
            <a:custGeom>
              <a:avLst/>
              <a:gdLst/>
              <a:ahLst/>
              <a:rect l="l" t="t" r="r" b="b"/>
              <a:pathLst>
                <a:path w="27" h="7">
                  <a:moveTo>
                    <a:pt x="0" y="7"/>
                  </a:moveTo>
                  <a:lnTo>
                    <a:pt x="13" y="0"/>
                  </a:lnTo>
                  <a:lnTo>
                    <a:pt x="27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0" name=""/>
            <p:cNvSpPr/>
            <p:nvPr/>
          </p:nvSpPr>
          <p:spPr>
            <a:xfrm flipV="1">
              <a:off x="5000760" y="5362200"/>
              <a:ext cx="42840" cy="111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1" name=""/>
            <p:cNvSpPr/>
            <p:nvPr/>
          </p:nvSpPr>
          <p:spPr>
            <a:xfrm>
              <a:off x="5076720" y="5373720"/>
              <a:ext cx="1800" cy="442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2" name=""/>
            <p:cNvSpPr/>
            <p:nvPr/>
          </p:nvSpPr>
          <p:spPr>
            <a:xfrm>
              <a:off x="5076720" y="5460840"/>
              <a:ext cx="1800" cy="446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3" name=""/>
            <p:cNvSpPr/>
            <p:nvPr/>
          </p:nvSpPr>
          <p:spPr>
            <a:xfrm>
              <a:off x="5087880" y="5549760"/>
              <a:ext cx="1800" cy="428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4" name=""/>
            <p:cNvSpPr/>
            <p:nvPr/>
          </p:nvSpPr>
          <p:spPr>
            <a:xfrm>
              <a:off x="5087880" y="5637240"/>
              <a:ext cx="1800" cy="316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5" name=""/>
            <p:cNvSpPr/>
            <p:nvPr/>
          </p:nvSpPr>
          <p:spPr>
            <a:xfrm>
              <a:off x="5262480" y="4675320"/>
              <a:ext cx="4464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6" name=""/>
            <p:cNvSpPr/>
            <p:nvPr/>
          </p:nvSpPr>
          <p:spPr>
            <a:xfrm>
              <a:off x="5349960" y="4675320"/>
              <a:ext cx="1440" cy="428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7" name=""/>
            <p:cNvSpPr/>
            <p:nvPr/>
          </p:nvSpPr>
          <p:spPr>
            <a:xfrm>
              <a:off x="5340240" y="4762440"/>
              <a:ext cx="1800" cy="540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8" name=""/>
            <p:cNvSpPr/>
            <p:nvPr/>
          </p:nvSpPr>
          <p:spPr>
            <a:xfrm>
              <a:off x="5329080" y="4861080"/>
              <a:ext cx="11160" cy="42840"/>
            </a:xfrm>
            <a:custGeom>
              <a:avLst/>
              <a:gdLst/>
              <a:ahLst/>
              <a:rect l="l" t="t" r="r" b="b"/>
              <a:pathLst>
                <a:path w="7" h="27">
                  <a:moveTo>
                    <a:pt x="7" y="0"/>
                  </a:moveTo>
                  <a:lnTo>
                    <a:pt x="0" y="7"/>
                  </a:lnTo>
                  <a:lnTo>
                    <a:pt x="7" y="27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9" name=""/>
            <p:cNvSpPr/>
            <p:nvPr/>
          </p:nvSpPr>
          <p:spPr>
            <a:xfrm>
              <a:off x="5349960" y="4937040"/>
              <a:ext cx="11160" cy="42840"/>
            </a:xfrm>
            <a:custGeom>
              <a:avLst/>
              <a:gdLst/>
              <a:ahLst/>
              <a:rect l="l" t="t" r="r" b="b"/>
              <a:pathLst>
                <a:path w="7" h="27">
                  <a:moveTo>
                    <a:pt x="0" y="0"/>
                  </a:moveTo>
                  <a:lnTo>
                    <a:pt x="0" y="7"/>
                  </a:lnTo>
                  <a:lnTo>
                    <a:pt x="7" y="27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0" name=""/>
            <p:cNvSpPr/>
            <p:nvPr/>
          </p:nvSpPr>
          <p:spPr>
            <a:xfrm>
              <a:off x="5372280" y="5024520"/>
              <a:ext cx="10800" cy="442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1" name=""/>
            <p:cNvSpPr/>
            <p:nvPr/>
          </p:nvSpPr>
          <p:spPr>
            <a:xfrm>
              <a:off x="5394240" y="5111640"/>
              <a:ext cx="1800" cy="446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2" name=""/>
            <p:cNvSpPr/>
            <p:nvPr/>
          </p:nvSpPr>
          <p:spPr>
            <a:xfrm>
              <a:off x="5383080" y="5199120"/>
              <a:ext cx="11160" cy="44280"/>
            </a:xfrm>
            <a:custGeom>
              <a:avLst/>
              <a:gdLst/>
              <a:ahLst/>
              <a:rect l="l" t="t" r="r" b="b"/>
              <a:pathLst>
                <a:path w="7" h="28">
                  <a:moveTo>
                    <a:pt x="7" y="0"/>
                  </a:moveTo>
                  <a:lnTo>
                    <a:pt x="7" y="21"/>
                  </a:lnTo>
                  <a:lnTo>
                    <a:pt x="0" y="28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3" name=""/>
            <p:cNvSpPr/>
            <p:nvPr/>
          </p:nvSpPr>
          <p:spPr>
            <a:xfrm flipH="1">
              <a:off x="5360760" y="5286240"/>
              <a:ext cx="11160" cy="446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4" name=""/>
            <p:cNvSpPr/>
            <p:nvPr/>
          </p:nvSpPr>
          <p:spPr>
            <a:xfrm>
              <a:off x="4025880" y="5297400"/>
              <a:ext cx="55440" cy="1116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0" y="0"/>
                  </a:moveTo>
                  <a:lnTo>
                    <a:pt x="28" y="7"/>
                  </a:lnTo>
                  <a:lnTo>
                    <a:pt x="35" y="7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5" name=""/>
            <p:cNvSpPr/>
            <p:nvPr/>
          </p:nvSpPr>
          <p:spPr>
            <a:xfrm>
              <a:off x="4124160" y="5308560"/>
              <a:ext cx="44640" cy="18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6" name=""/>
            <p:cNvSpPr/>
            <p:nvPr/>
          </p:nvSpPr>
          <p:spPr>
            <a:xfrm>
              <a:off x="4211640" y="5275440"/>
              <a:ext cx="1440" cy="44280"/>
            </a:xfrm>
            <a:custGeom>
              <a:avLst/>
              <a:gdLst/>
              <a:ahLst/>
              <a:rect l="l" t="t" r="r" b="b"/>
              <a:pathLst>
                <a:path w="0" h="28">
                  <a:moveTo>
                    <a:pt x="0" y="28"/>
                  </a:moveTo>
                  <a:lnTo>
                    <a:pt x="0" y="28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7" name=""/>
            <p:cNvSpPr/>
            <p:nvPr/>
          </p:nvSpPr>
          <p:spPr>
            <a:xfrm flipV="1">
              <a:off x="4211640" y="5187600"/>
              <a:ext cx="1440" cy="442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8" name=""/>
            <p:cNvSpPr/>
            <p:nvPr/>
          </p:nvSpPr>
          <p:spPr>
            <a:xfrm flipV="1">
              <a:off x="4233960" y="5144760"/>
              <a:ext cx="44280" cy="111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9" name=""/>
            <p:cNvSpPr/>
            <p:nvPr/>
          </p:nvSpPr>
          <p:spPr>
            <a:xfrm flipV="1">
              <a:off x="4321080" y="5111640"/>
              <a:ext cx="44640" cy="223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0" name=""/>
            <p:cNvSpPr/>
            <p:nvPr/>
          </p:nvSpPr>
          <p:spPr>
            <a:xfrm flipV="1">
              <a:off x="4408560" y="5089680"/>
              <a:ext cx="44280" cy="108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1" name=""/>
            <p:cNvSpPr/>
            <p:nvPr/>
          </p:nvSpPr>
          <p:spPr>
            <a:xfrm>
              <a:off x="4497480" y="5068800"/>
              <a:ext cx="31680" cy="9720"/>
            </a:xfrm>
            <a:custGeom>
              <a:avLst/>
              <a:gdLst/>
              <a:ahLst/>
              <a:rect l="l" t="t" r="r" b="b"/>
              <a:pathLst>
                <a:path w="20" h="6">
                  <a:moveTo>
                    <a:pt x="0" y="6"/>
                  </a:moveTo>
                  <a:lnTo>
                    <a:pt x="20" y="6"/>
                  </a:lnTo>
                  <a:lnTo>
                    <a:pt x="13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2" name=""/>
            <p:cNvSpPr/>
            <p:nvPr/>
          </p:nvSpPr>
          <p:spPr>
            <a:xfrm flipH="1" flipV="1">
              <a:off x="4486320" y="4990680"/>
              <a:ext cx="22320" cy="334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3" name=""/>
            <p:cNvSpPr/>
            <p:nvPr/>
          </p:nvSpPr>
          <p:spPr>
            <a:xfrm>
              <a:off x="4464000" y="4925880"/>
              <a:ext cx="44640" cy="22320"/>
            </a:xfrm>
            <a:custGeom>
              <a:avLst/>
              <a:gdLst/>
              <a:ahLst/>
              <a:rect l="l" t="t" r="r" b="b"/>
              <a:pathLst>
                <a:path w="28" h="14">
                  <a:moveTo>
                    <a:pt x="0" y="14"/>
                  </a:moveTo>
                  <a:lnTo>
                    <a:pt x="0" y="14"/>
                  </a:lnTo>
                  <a:lnTo>
                    <a:pt x="28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4" name=""/>
            <p:cNvSpPr/>
            <p:nvPr/>
          </p:nvSpPr>
          <p:spPr>
            <a:xfrm>
              <a:off x="4540320" y="4892760"/>
              <a:ext cx="44280" cy="11160"/>
            </a:xfrm>
            <a:custGeom>
              <a:avLst/>
              <a:gdLst/>
              <a:ahLst/>
              <a:rect l="l" t="t" r="r" b="b"/>
              <a:pathLst>
                <a:path w="28" h="7">
                  <a:moveTo>
                    <a:pt x="0" y="7"/>
                  </a:moveTo>
                  <a:lnTo>
                    <a:pt x="14" y="7"/>
                  </a:lnTo>
                  <a:lnTo>
                    <a:pt x="28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5" name=""/>
            <p:cNvSpPr/>
            <p:nvPr/>
          </p:nvSpPr>
          <p:spPr>
            <a:xfrm>
              <a:off x="4627440" y="4849920"/>
              <a:ext cx="33480" cy="21960"/>
            </a:xfrm>
            <a:custGeom>
              <a:avLst/>
              <a:gdLst/>
              <a:ahLst/>
              <a:rect l="l" t="t" r="r" b="b"/>
              <a:pathLst>
                <a:path w="21" h="14">
                  <a:moveTo>
                    <a:pt x="0" y="14"/>
                  </a:moveTo>
                  <a:lnTo>
                    <a:pt x="14" y="7"/>
                  </a:lnTo>
                  <a:lnTo>
                    <a:pt x="21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6" name=""/>
            <p:cNvSpPr/>
            <p:nvPr/>
          </p:nvSpPr>
          <p:spPr>
            <a:xfrm flipV="1">
              <a:off x="4705200" y="4816440"/>
              <a:ext cx="42840" cy="223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7" name=""/>
            <p:cNvSpPr/>
            <p:nvPr/>
          </p:nvSpPr>
          <p:spPr>
            <a:xfrm flipV="1">
              <a:off x="4792680" y="4782600"/>
              <a:ext cx="33480" cy="111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8" name=""/>
            <p:cNvSpPr/>
            <p:nvPr/>
          </p:nvSpPr>
          <p:spPr>
            <a:xfrm flipV="1">
              <a:off x="4869000" y="4740120"/>
              <a:ext cx="44280" cy="223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9" name=""/>
            <p:cNvSpPr/>
            <p:nvPr/>
          </p:nvSpPr>
          <p:spPr>
            <a:xfrm flipV="1">
              <a:off x="4944960" y="4707000"/>
              <a:ext cx="44640" cy="223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0" name=""/>
            <p:cNvSpPr/>
            <p:nvPr/>
          </p:nvSpPr>
          <p:spPr>
            <a:xfrm>
              <a:off x="5033880" y="4675320"/>
              <a:ext cx="42840" cy="9360"/>
            </a:xfrm>
            <a:custGeom>
              <a:avLst/>
              <a:gdLst/>
              <a:ahLst/>
              <a:rect l="l" t="t" r="r" b="b"/>
              <a:pathLst>
                <a:path w="27" h="6">
                  <a:moveTo>
                    <a:pt x="0" y="6"/>
                  </a:moveTo>
                  <a:lnTo>
                    <a:pt x="20" y="0"/>
                  </a:lnTo>
                  <a:lnTo>
                    <a:pt x="27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1" name=""/>
            <p:cNvSpPr/>
            <p:nvPr/>
          </p:nvSpPr>
          <p:spPr>
            <a:xfrm>
              <a:off x="5121360" y="4675320"/>
              <a:ext cx="4284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2" name=""/>
            <p:cNvSpPr/>
            <p:nvPr/>
          </p:nvSpPr>
          <p:spPr>
            <a:xfrm>
              <a:off x="5208480" y="4675320"/>
              <a:ext cx="4284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3" name=""/>
            <p:cNvSpPr/>
            <p:nvPr/>
          </p:nvSpPr>
          <p:spPr>
            <a:xfrm>
              <a:off x="5241960" y="4707000"/>
              <a:ext cx="9360" cy="44280"/>
            </a:xfrm>
            <a:custGeom>
              <a:avLst/>
              <a:gdLst/>
              <a:ahLst/>
              <a:rect l="l" t="t" r="r" b="b"/>
              <a:pathLst>
                <a:path w="6" h="28">
                  <a:moveTo>
                    <a:pt x="6" y="0"/>
                  </a:moveTo>
                  <a:lnTo>
                    <a:pt x="6" y="7"/>
                  </a:lnTo>
                  <a:lnTo>
                    <a:pt x="0" y="28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4" name=""/>
            <p:cNvSpPr/>
            <p:nvPr/>
          </p:nvSpPr>
          <p:spPr>
            <a:xfrm flipH="1">
              <a:off x="5219280" y="4794120"/>
              <a:ext cx="11160" cy="446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5" name=""/>
            <p:cNvSpPr/>
            <p:nvPr/>
          </p:nvSpPr>
          <p:spPr>
            <a:xfrm>
              <a:off x="5186520" y="4881600"/>
              <a:ext cx="10800" cy="44280"/>
            </a:xfrm>
            <a:custGeom>
              <a:avLst/>
              <a:gdLst/>
              <a:ahLst/>
              <a:rect l="l" t="t" r="r" b="b"/>
              <a:pathLst>
                <a:path w="7" h="28">
                  <a:moveTo>
                    <a:pt x="7" y="0"/>
                  </a:moveTo>
                  <a:lnTo>
                    <a:pt x="7" y="21"/>
                  </a:lnTo>
                  <a:lnTo>
                    <a:pt x="0" y="28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6" name=""/>
            <p:cNvSpPr/>
            <p:nvPr/>
          </p:nvSpPr>
          <p:spPr>
            <a:xfrm>
              <a:off x="5132520" y="4948200"/>
              <a:ext cx="20520" cy="22320"/>
            </a:xfrm>
            <a:custGeom>
              <a:avLst/>
              <a:gdLst/>
              <a:ahLst/>
              <a:rect l="l" t="t" r="r" b="b"/>
              <a:pathLst>
                <a:path w="13" h="14">
                  <a:moveTo>
                    <a:pt x="13" y="0"/>
                  </a:moveTo>
                  <a:lnTo>
                    <a:pt x="0" y="0"/>
                  </a:lnTo>
                  <a:lnTo>
                    <a:pt x="0" y="14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7" name=""/>
            <p:cNvSpPr/>
            <p:nvPr/>
          </p:nvSpPr>
          <p:spPr>
            <a:xfrm>
              <a:off x="5153040" y="5013360"/>
              <a:ext cx="22320" cy="442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8" name=""/>
            <p:cNvSpPr/>
            <p:nvPr/>
          </p:nvSpPr>
          <p:spPr>
            <a:xfrm>
              <a:off x="5186520" y="5089680"/>
              <a:ext cx="21960" cy="442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9" name=""/>
            <p:cNvSpPr/>
            <p:nvPr/>
          </p:nvSpPr>
          <p:spPr>
            <a:xfrm>
              <a:off x="5230800" y="5176800"/>
              <a:ext cx="11160" cy="446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0" name=""/>
            <p:cNvSpPr/>
            <p:nvPr/>
          </p:nvSpPr>
          <p:spPr>
            <a:xfrm>
              <a:off x="5262480" y="5254560"/>
              <a:ext cx="22320" cy="428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1" name=""/>
            <p:cNvSpPr/>
            <p:nvPr/>
          </p:nvSpPr>
          <p:spPr>
            <a:xfrm>
              <a:off x="5295960" y="5342040"/>
              <a:ext cx="33120" cy="20520"/>
            </a:xfrm>
            <a:custGeom>
              <a:avLst/>
              <a:gdLst/>
              <a:ahLst/>
              <a:rect l="l" t="t" r="r" b="b"/>
              <a:pathLst>
                <a:path w="21" h="13">
                  <a:moveTo>
                    <a:pt x="0" y="0"/>
                  </a:moveTo>
                  <a:lnTo>
                    <a:pt x="7" y="7"/>
                  </a:lnTo>
                  <a:lnTo>
                    <a:pt x="21" y="13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2" name=""/>
            <p:cNvSpPr/>
            <p:nvPr/>
          </p:nvSpPr>
          <p:spPr>
            <a:xfrm>
              <a:off x="5383080" y="5362560"/>
              <a:ext cx="4464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3" name=""/>
            <p:cNvSpPr/>
            <p:nvPr/>
          </p:nvSpPr>
          <p:spPr>
            <a:xfrm>
              <a:off x="5470560" y="5373720"/>
              <a:ext cx="4428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4" name=""/>
            <p:cNvSpPr/>
            <p:nvPr/>
          </p:nvSpPr>
          <p:spPr>
            <a:xfrm>
              <a:off x="5557680" y="5384880"/>
              <a:ext cx="33480" cy="331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5" name=""/>
            <p:cNvSpPr/>
            <p:nvPr/>
          </p:nvSpPr>
          <p:spPr>
            <a:xfrm>
              <a:off x="5624640" y="5440320"/>
              <a:ext cx="42840" cy="205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6" name=""/>
            <p:cNvSpPr/>
            <p:nvPr/>
          </p:nvSpPr>
          <p:spPr>
            <a:xfrm>
              <a:off x="5700600" y="5483160"/>
              <a:ext cx="44640" cy="223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7" name=""/>
            <p:cNvSpPr/>
            <p:nvPr/>
          </p:nvSpPr>
          <p:spPr>
            <a:xfrm>
              <a:off x="5776920" y="5527800"/>
              <a:ext cx="44280" cy="219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8" name=""/>
            <p:cNvSpPr/>
            <p:nvPr/>
          </p:nvSpPr>
          <p:spPr>
            <a:xfrm>
              <a:off x="5799240" y="5581800"/>
              <a:ext cx="11160" cy="44280"/>
            </a:xfrm>
            <a:custGeom>
              <a:avLst/>
              <a:gdLst/>
              <a:ahLst/>
              <a:rect l="l" t="t" r="r" b="b"/>
              <a:pathLst>
                <a:path w="7" h="28">
                  <a:moveTo>
                    <a:pt x="7" y="0"/>
                  </a:moveTo>
                  <a:lnTo>
                    <a:pt x="0" y="14"/>
                  </a:lnTo>
                  <a:lnTo>
                    <a:pt x="0" y="28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9" name=""/>
            <p:cNvSpPr/>
            <p:nvPr/>
          </p:nvSpPr>
          <p:spPr>
            <a:xfrm>
              <a:off x="2766960" y="3306600"/>
              <a:ext cx="820800" cy="405000"/>
            </a:xfrm>
            <a:custGeom>
              <a:avLst/>
              <a:gdLst/>
              <a:ahLst/>
              <a:rect l="l" t="t" r="r" b="b"/>
              <a:pathLst>
                <a:path w="517" h="255">
                  <a:moveTo>
                    <a:pt x="517" y="49"/>
                  </a:moveTo>
                  <a:lnTo>
                    <a:pt x="469" y="42"/>
                  </a:lnTo>
                  <a:lnTo>
                    <a:pt x="324" y="21"/>
                  </a:lnTo>
                  <a:lnTo>
                    <a:pt x="228" y="7"/>
                  </a:lnTo>
                  <a:lnTo>
                    <a:pt x="159" y="0"/>
                  </a:lnTo>
                  <a:lnTo>
                    <a:pt x="166" y="69"/>
                  </a:lnTo>
                  <a:lnTo>
                    <a:pt x="166" y="131"/>
                  </a:lnTo>
                  <a:lnTo>
                    <a:pt x="159" y="138"/>
                  </a:lnTo>
                  <a:lnTo>
                    <a:pt x="152" y="159"/>
                  </a:lnTo>
                  <a:lnTo>
                    <a:pt x="111" y="193"/>
                  </a:lnTo>
                  <a:lnTo>
                    <a:pt x="42" y="235"/>
                  </a:lnTo>
                  <a:lnTo>
                    <a:pt x="0" y="255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0" name=""/>
            <p:cNvSpPr/>
            <p:nvPr/>
          </p:nvSpPr>
          <p:spPr>
            <a:xfrm>
              <a:off x="4059360" y="5133960"/>
              <a:ext cx="1440" cy="428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1" name=""/>
            <p:cNvSpPr/>
            <p:nvPr/>
          </p:nvSpPr>
          <p:spPr>
            <a:xfrm flipH="1">
              <a:off x="4036680" y="5221440"/>
              <a:ext cx="11160" cy="442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2" name=""/>
            <p:cNvSpPr/>
            <p:nvPr/>
          </p:nvSpPr>
          <p:spPr>
            <a:xfrm flipH="1">
              <a:off x="4025520" y="5308560"/>
              <a:ext cx="11160" cy="446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3" name=""/>
            <p:cNvSpPr/>
            <p:nvPr/>
          </p:nvSpPr>
          <p:spPr>
            <a:xfrm>
              <a:off x="4014720" y="5396040"/>
              <a:ext cx="1800" cy="442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4" name=""/>
            <p:cNvSpPr/>
            <p:nvPr/>
          </p:nvSpPr>
          <p:spPr>
            <a:xfrm flipH="1">
              <a:off x="3992040" y="5483160"/>
              <a:ext cx="11160" cy="446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5" name=""/>
            <p:cNvSpPr/>
            <p:nvPr/>
          </p:nvSpPr>
          <p:spPr>
            <a:xfrm flipH="1">
              <a:off x="3983040" y="5570640"/>
              <a:ext cx="9360" cy="442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6" name=""/>
            <p:cNvSpPr/>
            <p:nvPr/>
          </p:nvSpPr>
          <p:spPr>
            <a:xfrm>
              <a:off x="3971880" y="5657760"/>
              <a:ext cx="1800" cy="334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7" name=""/>
            <p:cNvSpPr/>
            <p:nvPr/>
          </p:nvSpPr>
          <p:spPr>
            <a:xfrm flipV="1">
              <a:off x="4059360" y="5035320"/>
              <a:ext cx="11160" cy="982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8" name=""/>
            <p:cNvSpPr/>
            <p:nvPr/>
          </p:nvSpPr>
          <p:spPr>
            <a:xfrm flipV="1">
              <a:off x="4092480" y="4881600"/>
              <a:ext cx="54000" cy="777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9" name=""/>
            <p:cNvSpPr/>
            <p:nvPr/>
          </p:nvSpPr>
          <p:spPr>
            <a:xfrm flipV="1">
              <a:off x="4211640" y="4750920"/>
              <a:ext cx="55440" cy="651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0" name=""/>
            <p:cNvSpPr/>
            <p:nvPr/>
          </p:nvSpPr>
          <p:spPr>
            <a:xfrm flipV="1">
              <a:off x="4321080" y="4619160"/>
              <a:ext cx="66600" cy="651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1" name=""/>
            <p:cNvSpPr/>
            <p:nvPr/>
          </p:nvSpPr>
          <p:spPr>
            <a:xfrm>
              <a:off x="4441680" y="4487760"/>
              <a:ext cx="66960" cy="66600"/>
            </a:xfrm>
            <a:custGeom>
              <a:avLst/>
              <a:gdLst/>
              <a:ahLst/>
              <a:rect l="l" t="t" r="r" b="b"/>
              <a:pathLst>
                <a:path w="42" h="42">
                  <a:moveTo>
                    <a:pt x="0" y="42"/>
                  </a:moveTo>
                  <a:lnTo>
                    <a:pt x="21" y="21"/>
                  </a:lnTo>
                  <a:lnTo>
                    <a:pt x="42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2" name=""/>
            <p:cNvSpPr/>
            <p:nvPr/>
          </p:nvSpPr>
          <p:spPr>
            <a:xfrm>
              <a:off x="4562640" y="4368960"/>
              <a:ext cx="64800" cy="536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0" y="34"/>
                  </a:moveTo>
                  <a:lnTo>
                    <a:pt x="28" y="0"/>
                  </a:lnTo>
                  <a:lnTo>
                    <a:pt x="41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3" name=""/>
            <p:cNvSpPr/>
            <p:nvPr/>
          </p:nvSpPr>
          <p:spPr>
            <a:xfrm flipV="1">
              <a:off x="4716360" y="4346280"/>
              <a:ext cx="42840" cy="111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4" name=""/>
            <p:cNvSpPr/>
            <p:nvPr/>
          </p:nvSpPr>
          <p:spPr>
            <a:xfrm>
              <a:off x="2766960" y="3711600"/>
              <a:ext cx="44640" cy="223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5" name=""/>
            <p:cNvSpPr/>
            <p:nvPr/>
          </p:nvSpPr>
          <p:spPr>
            <a:xfrm>
              <a:off x="2854440" y="3745080"/>
              <a:ext cx="44280" cy="108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6" name=""/>
            <p:cNvSpPr/>
            <p:nvPr/>
          </p:nvSpPr>
          <p:spPr>
            <a:xfrm>
              <a:off x="2876400" y="3778200"/>
              <a:ext cx="22320" cy="42840"/>
            </a:xfrm>
            <a:custGeom>
              <a:avLst/>
              <a:gdLst/>
              <a:ahLst/>
              <a:rect l="l" t="t" r="r" b="b"/>
              <a:pathLst>
                <a:path w="14" h="27">
                  <a:moveTo>
                    <a:pt x="14" y="0"/>
                  </a:moveTo>
                  <a:lnTo>
                    <a:pt x="14" y="7"/>
                  </a:lnTo>
                  <a:lnTo>
                    <a:pt x="0" y="20"/>
                  </a:lnTo>
                  <a:lnTo>
                    <a:pt x="0" y="27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7" name=""/>
            <p:cNvSpPr/>
            <p:nvPr/>
          </p:nvSpPr>
          <p:spPr>
            <a:xfrm>
              <a:off x="2833560" y="3854520"/>
              <a:ext cx="20880" cy="42840"/>
            </a:xfrm>
            <a:custGeom>
              <a:avLst/>
              <a:gdLst/>
              <a:ahLst/>
              <a:rect l="l" t="t" r="r" b="b"/>
              <a:pathLst>
                <a:path w="13" h="27">
                  <a:moveTo>
                    <a:pt x="13" y="0"/>
                  </a:moveTo>
                  <a:lnTo>
                    <a:pt x="7" y="7"/>
                  </a:lnTo>
                  <a:lnTo>
                    <a:pt x="7" y="14"/>
                  </a:lnTo>
                  <a:lnTo>
                    <a:pt x="0" y="21"/>
                  </a:lnTo>
                  <a:lnTo>
                    <a:pt x="0" y="27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8" name=""/>
            <p:cNvSpPr/>
            <p:nvPr/>
          </p:nvSpPr>
          <p:spPr>
            <a:xfrm>
              <a:off x="2822400" y="3941640"/>
              <a:ext cx="1800" cy="44640"/>
            </a:xfrm>
            <a:custGeom>
              <a:avLst/>
              <a:gdLst/>
              <a:ahLst/>
              <a:rect l="l" t="t" r="r" b="b"/>
              <a:pathLst>
                <a:path w="0" h="28">
                  <a:moveTo>
                    <a:pt x="0" y="0"/>
                  </a:moveTo>
                  <a:lnTo>
                    <a:pt x="0" y="0"/>
                  </a:lnTo>
                  <a:lnTo>
                    <a:pt x="0" y="21"/>
                  </a:lnTo>
                  <a:lnTo>
                    <a:pt x="0" y="28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9" name=""/>
            <p:cNvSpPr/>
            <p:nvPr/>
          </p:nvSpPr>
          <p:spPr>
            <a:xfrm>
              <a:off x="2811600" y="4029120"/>
              <a:ext cx="1440" cy="44280"/>
            </a:xfrm>
            <a:custGeom>
              <a:avLst/>
              <a:gdLst/>
              <a:ahLst/>
              <a:rect l="l" t="t" r="r" b="b"/>
              <a:pathLst>
                <a:path w="0" h="28">
                  <a:moveTo>
                    <a:pt x="0" y="0"/>
                  </a:moveTo>
                  <a:lnTo>
                    <a:pt x="0" y="0"/>
                  </a:lnTo>
                  <a:lnTo>
                    <a:pt x="0" y="14"/>
                  </a:lnTo>
                  <a:lnTo>
                    <a:pt x="0" y="28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0" name=""/>
            <p:cNvSpPr/>
            <p:nvPr/>
          </p:nvSpPr>
          <p:spPr>
            <a:xfrm>
              <a:off x="2811600" y="4116240"/>
              <a:ext cx="1440" cy="44640"/>
            </a:xfrm>
            <a:custGeom>
              <a:avLst/>
              <a:gdLst/>
              <a:ahLst/>
              <a:rect l="l" t="t" r="r" b="b"/>
              <a:pathLst>
                <a:path w="0" h="28">
                  <a:moveTo>
                    <a:pt x="0" y="0"/>
                  </a:moveTo>
                  <a:lnTo>
                    <a:pt x="0" y="7"/>
                  </a:lnTo>
                  <a:lnTo>
                    <a:pt x="0" y="21"/>
                  </a:lnTo>
                  <a:lnTo>
                    <a:pt x="0" y="28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1" name=""/>
            <p:cNvSpPr/>
            <p:nvPr/>
          </p:nvSpPr>
          <p:spPr>
            <a:xfrm>
              <a:off x="2800440" y="4203720"/>
              <a:ext cx="11160" cy="44280"/>
            </a:xfrm>
            <a:custGeom>
              <a:avLst/>
              <a:gdLst/>
              <a:ahLst/>
              <a:rect l="l" t="t" r="r" b="b"/>
              <a:pathLst>
                <a:path w="7" h="28">
                  <a:moveTo>
                    <a:pt x="0" y="0"/>
                  </a:moveTo>
                  <a:lnTo>
                    <a:pt x="7" y="14"/>
                  </a:lnTo>
                  <a:lnTo>
                    <a:pt x="7" y="21"/>
                  </a:lnTo>
                  <a:lnTo>
                    <a:pt x="7" y="28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2" name=""/>
            <p:cNvSpPr/>
            <p:nvPr/>
          </p:nvSpPr>
          <p:spPr>
            <a:xfrm>
              <a:off x="2833560" y="4290840"/>
              <a:ext cx="11160" cy="33480"/>
            </a:xfrm>
            <a:custGeom>
              <a:avLst/>
              <a:gdLst/>
              <a:ahLst/>
              <a:rect l="l" t="t" r="r" b="b"/>
              <a:pathLst>
                <a:path w="7" h="21">
                  <a:moveTo>
                    <a:pt x="0" y="0"/>
                  </a:moveTo>
                  <a:lnTo>
                    <a:pt x="0" y="0"/>
                  </a:lnTo>
                  <a:lnTo>
                    <a:pt x="0" y="14"/>
                  </a:lnTo>
                  <a:lnTo>
                    <a:pt x="7" y="21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3" name=""/>
            <p:cNvSpPr/>
            <p:nvPr/>
          </p:nvSpPr>
          <p:spPr>
            <a:xfrm>
              <a:off x="2854440" y="4368960"/>
              <a:ext cx="11160" cy="42840"/>
            </a:xfrm>
            <a:custGeom>
              <a:avLst/>
              <a:gdLst/>
              <a:ahLst/>
              <a:rect l="l" t="t" r="r" b="b"/>
              <a:pathLst>
                <a:path w="7" h="27">
                  <a:moveTo>
                    <a:pt x="0" y="0"/>
                  </a:moveTo>
                  <a:lnTo>
                    <a:pt x="0" y="13"/>
                  </a:lnTo>
                  <a:lnTo>
                    <a:pt x="0" y="27"/>
                  </a:lnTo>
                  <a:lnTo>
                    <a:pt x="7" y="27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4" name=""/>
            <p:cNvSpPr/>
            <p:nvPr/>
          </p:nvSpPr>
          <p:spPr>
            <a:xfrm>
              <a:off x="2887560" y="4456080"/>
              <a:ext cx="1800" cy="42840"/>
            </a:xfrm>
            <a:custGeom>
              <a:avLst/>
              <a:gdLst/>
              <a:ahLst/>
              <a:rect l="l" t="t" r="r" b="b"/>
              <a:pathLst>
                <a:path w="0" h="27">
                  <a:moveTo>
                    <a:pt x="0" y="0"/>
                  </a:moveTo>
                  <a:lnTo>
                    <a:pt x="0" y="0"/>
                  </a:lnTo>
                  <a:lnTo>
                    <a:pt x="0" y="7"/>
                  </a:lnTo>
                  <a:lnTo>
                    <a:pt x="0" y="27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5" name=""/>
            <p:cNvSpPr/>
            <p:nvPr/>
          </p:nvSpPr>
          <p:spPr>
            <a:xfrm>
              <a:off x="2887560" y="4543560"/>
              <a:ext cx="1800" cy="42840"/>
            </a:xfrm>
            <a:custGeom>
              <a:avLst/>
              <a:gdLst/>
              <a:ahLst/>
              <a:rect l="l" t="t" r="r" b="b"/>
              <a:pathLst>
                <a:path w="0" h="27">
                  <a:moveTo>
                    <a:pt x="0" y="0"/>
                  </a:moveTo>
                  <a:lnTo>
                    <a:pt x="0" y="27"/>
                  </a:lnTo>
                  <a:lnTo>
                    <a:pt x="0" y="27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6" name=""/>
            <p:cNvSpPr/>
            <p:nvPr/>
          </p:nvSpPr>
          <p:spPr>
            <a:xfrm>
              <a:off x="2887560" y="4630680"/>
              <a:ext cx="1800" cy="44640"/>
            </a:xfrm>
            <a:custGeom>
              <a:avLst/>
              <a:gdLst/>
              <a:ahLst/>
              <a:rect l="l" t="t" r="r" b="b"/>
              <a:pathLst>
                <a:path w="0" h="28">
                  <a:moveTo>
                    <a:pt x="0" y="0"/>
                  </a:moveTo>
                  <a:lnTo>
                    <a:pt x="0" y="7"/>
                  </a:lnTo>
                  <a:lnTo>
                    <a:pt x="0" y="14"/>
                  </a:lnTo>
                  <a:lnTo>
                    <a:pt x="0" y="28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7" name=""/>
            <p:cNvSpPr/>
            <p:nvPr/>
          </p:nvSpPr>
          <p:spPr>
            <a:xfrm>
              <a:off x="2887560" y="4718160"/>
              <a:ext cx="11160" cy="44280"/>
            </a:xfrm>
            <a:custGeom>
              <a:avLst/>
              <a:gdLst/>
              <a:ahLst/>
              <a:rect l="l" t="t" r="r" b="b"/>
              <a:pathLst>
                <a:path w="7" h="28">
                  <a:moveTo>
                    <a:pt x="0" y="0"/>
                  </a:moveTo>
                  <a:lnTo>
                    <a:pt x="0" y="0"/>
                  </a:lnTo>
                  <a:lnTo>
                    <a:pt x="7" y="28"/>
                  </a:lnTo>
                  <a:lnTo>
                    <a:pt x="7" y="28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8" name=""/>
            <p:cNvSpPr/>
            <p:nvPr/>
          </p:nvSpPr>
          <p:spPr>
            <a:xfrm>
              <a:off x="2932200" y="4794120"/>
              <a:ext cx="31680" cy="11160"/>
            </a:xfrm>
            <a:custGeom>
              <a:avLst/>
              <a:gdLst/>
              <a:ahLst/>
              <a:rect l="l" t="t" r="r" b="b"/>
              <a:pathLst>
                <a:path w="20" h="7">
                  <a:moveTo>
                    <a:pt x="0" y="0"/>
                  </a:moveTo>
                  <a:lnTo>
                    <a:pt x="13" y="0"/>
                  </a:lnTo>
                  <a:lnTo>
                    <a:pt x="20" y="7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9" name=""/>
            <p:cNvSpPr/>
            <p:nvPr/>
          </p:nvSpPr>
          <p:spPr>
            <a:xfrm>
              <a:off x="3008160" y="4816440"/>
              <a:ext cx="1800" cy="446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0" name=""/>
            <p:cNvSpPr/>
            <p:nvPr/>
          </p:nvSpPr>
          <p:spPr>
            <a:xfrm>
              <a:off x="3008160" y="4903920"/>
              <a:ext cx="44640" cy="21960"/>
            </a:xfrm>
            <a:custGeom>
              <a:avLst/>
              <a:gdLst/>
              <a:ahLst/>
              <a:rect l="l" t="t" r="r" b="b"/>
              <a:pathLst>
                <a:path w="28" h="14">
                  <a:moveTo>
                    <a:pt x="0" y="0"/>
                  </a:moveTo>
                  <a:lnTo>
                    <a:pt x="0" y="7"/>
                  </a:lnTo>
                  <a:lnTo>
                    <a:pt x="7" y="7"/>
                  </a:lnTo>
                  <a:lnTo>
                    <a:pt x="28" y="14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1" name=""/>
            <p:cNvSpPr/>
            <p:nvPr/>
          </p:nvSpPr>
          <p:spPr>
            <a:xfrm>
              <a:off x="3095640" y="4937040"/>
              <a:ext cx="44280" cy="1800"/>
            </a:xfrm>
            <a:custGeom>
              <a:avLst/>
              <a:gdLst/>
              <a:ahLst/>
              <a:rect l="l" t="t" r="r" b="b"/>
              <a:pathLst>
                <a:path w="28" h="0">
                  <a:moveTo>
                    <a:pt x="0" y="0"/>
                  </a:moveTo>
                  <a:lnTo>
                    <a:pt x="0" y="0"/>
                  </a:lnTo>
                  <a:lnTo>
                    <a:pt x="28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2" name=""/>
            <p:cNvSpPr/>
            <p:nvPr/>
          </p:nvSpPr>
          <p:spPr>
            <a:xfrm>
              <a:off x="3182760" y="4948200"/>
              <a:ext cx="44640" cy="111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3" name=""/>
            <p:cNvSpPr/>
            <p:nvPr/>
          </p:nvSpPr>
          <p:spPr>
            <a:xfrm>
              <a:off x="3270240" y="4970520"/>
              <a:ext cx="44640" cy="9360"/>
            </a:xfrm>
            <a:custGeom>
              <a:avLst/>
              <a:gdLst/>
              <a:ahLst/>
              <a:rect l="l" t="t" r="r" b="b"/>
              <a:pathLst>
                <a:path w="28" h="6">
                  <a:moveTo>
                    <a:pt x="0" y="0"/>
                  </a:moveTo>
                  <a:lnTo>
                    <a:pt x="21" y="0"/>
                  </a:lnTo>
                  <a:lnTo>
                    <a:pt x="28" y="6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4" name=""/>
            <p:cNvSpPr/>
            <p:nvPr/>
          </p:nvSpPr>
          <p:spPr>
            <a:xfrm>
              <a:off x="3359160" y="4979880"/>
              <a:ext cx="42840" cy="111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5" name=""/>
            <p:cNvSpPr/>
            <p:nvPr/>
          </p:nvSpPr>
          <p:spPr>
            <a:xfrm>
              <a:off x="3446640" y="4979880"/>
              <a:ext cx="31680" cy="11160"/>
            </a:xfrm>
            <a:custGeom>
              <a:avLst/>
              <a:gdLst/>
              <a:ahLst/>
              <a:rect l="l" t="t" r="r" b="b"/>
              <a:pathLst>
                <a:path w="20" h="7">
                  <a:moveTo>
                    <a:pt x="0" y="7"/>
                  </a:moveTo>
                  <a:lnTo>
                    <a:pt x="7" y="0"/>
                  </a:lnTo>
                  <a:lnTo>
                    <a:pt x="14" y="0"/>
                  </a:lnTo>
                  <a:lnTo>
                    <a:pt x="20" y="7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6" name=""/>
            <p:cNvSpPr/>
            <p:nvPr/>
          </p:nvSpPr>
          <p:spPr>
            <a:xfrm>
              <a:off x="3522600" y="5013360"/>
              <a:ext cx="33480" cy="223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7" name=""/>
            <p:cNvSpPr/>
            <p:nvPr/>
          </p:nvSpPr>
          <p:spPr>
            <a:xfrm>
              <a:off x="3598920" y="5046840"/>
              <a:ext cx="22320" cy="31680"/>
            </a:xfrm>
            <a:custGeom>
              <a:avLst/>
              <a:gdLst/>
              <a:ahLst/>
              <a:rect l="l" t="t" r="r" b="b"/>
              <a:pathLst>
                <a:path w="14" h="20">
                  <a:moveTo>
                    <a:pt x="0" y="0"/>
                  </a:moveTo>
                  <a:lnTo>
                    <a:pt x="14" y="7"/>
                  </a:lnTo>
                  <a:lnTo>
                    <a:pt x="14" y="14"/>
                  </a:lnTo>
                  <a:lnTo>
                    <a:pt x="14" y="2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8" name=""/>
            <p:cNvSpPr/>
            <p:nvPr/>
          </p:nvSpPr>
          <p:spPr>
            <a:xfrm flipH="1">
              <a:off x="3609720" y="5122800"/>
              <a:ext cx="11160" cy="446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9" name=""/>
            <p:cNvSpPr/>
            <p:nvPr/>
          </p:nvSpPr>
          <p:spPr>
            <a:xfrm>
              <a:off x="3598920" y="5210280"/>
              <a:ext cx="1440" cy="44280"/>
            </a:xfrm>
            <a:custGeom>
              <a:avLst/>
              <a:gdLst/>
              <a:ahLst/>
              <a:rect l="l" t="t" r="r" b="b"/>
              <a:pathLst>
                <a:path w="0" h="28">
                  <a:moveTo>
                    <a:pt x="0" y="0"/>
                  </a:moveTo>
                  <a:lnTo>
                    <a:pt x="0" y="14"/>
                  </a:lnTo>
                  <a:lnTo>
                    <a:pt x="0" y="28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0" name=""/>
            <p:cNvSpPr/>
            <p:nvPr/>
          </p:nvSpPr>
          <p:spPr>
            <a:xfrm flipH="1">
              <a:off x="3576240" y="5297400"/>
              <a:ext cx="11160" cy="446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1" name=""/>
            <p:cNvSpPr/>
            <p:nvPr/>
          </p:nvSpPr>
          <p:spPr>
            <a:xfrm>
              <a:off x="3556080" y="5384880"/>
              <a:ext cx="11160" cy="44280"/>
            </a:xfrm>
            <a:custGeom>
              <a:avLst/>
              <a:gdLst/>
              <a:ahLst/>
              <a:rect l="l" t="t" r="r" b="b"/>
              <a:pathLst>
                <a:path w="7" h="28">
                  <a:moveTo>
                    <a:pt x="7" y="0"/>
                  </a:moveTo>
                  <a:lnTo>
                    <a:pt x="0" y="21"/>
                  </a:lnTo>
                  <a:lnTo>
                    <a:pt x="0" y="28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2" name=""/>
            <p:cNvSpPr/>
            <p:nvPr/>
          </p:nvSpPr>
          <p:spPr>
            <a:xfrm flipH="1">
              <a:off x="3544560" y="5472000"/>
              <a:ext cx="11160" cy="446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3" name=""/>
            <p:cNvSpPr/>
            <p:nvPr/>
          </p:nvSpPr>
          <p:spPr>
            <a:xfrm flipH="1">
              <a:off x="3533400" y="5559480"/>
              <a:ext cx="11160" cy="442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4" name=""/>
            <p:cNvSpPr/>
            <p:nvPr/>
          </p:nvSpPr>
          <p:spPr>
            <a:xfrm>
              <a:off x="3533760" y="5648400"/>
              <a:ext cx="1440" cy="428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5" name=""/>
            <p:cNvSpPr/>
            <p:nvPr/>
          </p:nvSpPr>
          <p:spPr>
            <a:xfrm flipH="1">
              <a:off x="6400440" y="5614920"/>
              <a:ext cx="44280" cy="18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6" name=""/>
            <p:cNvSpPr/>
            <p:nvPr/>
          </p:nvSpPr>
          <p:spPr>
            <a:xfrm flipH="1">
              <a:off x="6302520" y="5626080"/>
              <a:ext cx="5544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7" name=""/>
            <p:cNvSpPr/>
            <p:nvPr/>
          </p:nvSpPr>
          <p:spPr>
            <a:xfrm flipH="1">
              <a:off x="6215040" y="5626080"/>
              <a:ext cx="4464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8" name=""/>
            <p:cNvSpPr/>
            <p:nvPr/>
          </p:nvSpPr>
          <p:spPr>
            <a:xfrm flipH="1">
              <a:off x="6127560" y="5626080"/>
              <a:ext cx="44280" cy="111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9" name=""/>
            <p:cNvSpPr/>
            <p:nvPr/>
          </p:nvSpPr>
          <p:spPr>
            <a:xfrm flipH="1">
              <a:off x="6040080" y="5637240"/>
              <a:ext cx="4284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0" name=""/>
            <p:cNvSpPr/>
            <p:nvPr/>
          </p:nvSpPr>
          <p:spPr>
            <a:xfrm flipH="1">
              <a:off x="5952960" y="5637240"/>
              <a:ext cx="4320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1" name=""/>
            <p:cNvSpPr/>
            <p:nvPr/>
          </p:nvSpPr>
          <p:spPr>
            <a:xfrm flipH="1">
              <a:off x="5865480" y="5648400"/>
              <a:ext cx="4284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2" name=""/>
            <p:cNvSpPr/>
            <p:nvPr/>
          </p:nvSpPr>
          <p:spPr>
            <a:xfrm flipH="1">
              <a:off x="5776560" y="5648400"/>
              <a:ext cx="4428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3" name=""/>
            <p:cNvSpPr/>
            <p:nvPr/>
          </p:nvSpPr>
          <p:spPr>
            <a:xfrm flipH="1">
              <a:off x="5678280" y="5657760"/>
              <a:ext cx="44280" cy="18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4" name=""/>
            <p:cNvSpPr/>
            <p:nvPr/>
          </p:nvSpPr>
          <p:spPr>
            <a:xfrm flipH="1">
              <a:off x="5591160" y="5657760"/>
              <a:ext cx="44640" cy="18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5" name=""/>
            <p:cNvSpPr/>
            <p:nvPr/>
          </p:nvSpPr>
          <p:spPr>
            <a:xfrm flipH="1">
              <a:off x="5503680" y="5657760"/>
              <a:ext cx="44280" cy="18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6" name=""/>
            <p:cNvSpPr/>
            <p:nvPr/>
          </p:nvSpPr>
          <p:spPr>
            <a:xfrm flipH="1">
              <a:off x="5416200" y="5657760"/>
              <a:ext cx="42840" cy="18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7" name=""/>
            <p:cNvSpPr/>
            <p:nvPr/>
          </p:nvSpPr>
          <p:spPr>
            <a:xfrm flipH="1">
              <a:off x="5329080" y="5668920"/>
              <a:ext cx="43200" cy="18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8" name=""/>
            <p:cNvSpPr/>
            <p:nvPr/>
          </p:nvSpPr>
          <p:spPr>
            <a:xfrm flipH="1">
              <a:off x="5241600" y="5668920"/>
              <a:ext cx="42840" cy="18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9" name=""/>
            <p:cNvSpPr/>
            <p:nvPr/>
          </p:nvSpPr>
          <p:spPr>
            <a:xfrm flipH="1">
              <a:off x="5141880" y="5668920"/>
              <a:ext cx="55440" cy="18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0" name=""/>
            <p:cNvSpPr/>
            <p:nvPr/>
          </p:nvSpPr>
          <p:spPr>
            <a:xfrm flipH="1">
              <a:off x="5054400" y="5668920"/>
              <a:ext cx="44280" cy="18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1" name=""/>
            <p:cNvSpPr/>
            <p:nvPr/>
          </p:nvSpPr>
          <p:spPr>
            <a:xfrm flipH="1">
              <a:off x="4966920" y="5680080"/>
              <a:ext cx="4428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2" name=""/>
            <p:cNvSpPr/>
            <p:nvPr/>
          </p:nvSpPr>
          <p:spPr>
            <a:xfrm flipH="1">
              <a:off x="4879800" y="5680080"/>
              <a:ext cx="4464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3" name=""/>
            <p:cNvSpPr/>
            <p:nvPr/>
          </p:nvSpPr>
          <p:spPr>
            <a:xfrm flipH="1">
              <a:off x="4792320" y="5680080"/>
              <a:ext cx="4284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4" name=""/>
            <p:cNvSpPr/>
            <p:nvPr/>
          </p:nvSpPr>
          <p:spPr>
            <a:xfrm flipH="1">
              <a:off x="4704840" y="5680080"/>
              <a:ext cx="42840" cy="111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5" name=""/>
            <p:cNvSpPr/>
            <p:nvPr/>
          </p:nvSpPr>
          <p:spPr>
            <a:xfrm flipH="1">
              <a:off x="4617720" y="5691240"/>
              <a:ext cx="4284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6" name=""/>
            <p:cNvSpPr/>
            <p:nvPr/>
          </p:nvSpPr>
          <p:spPr>
            <a:xfrm>
              <a:off x="4518000" y="5691240"/>
              <a:ext cx="55440" cy="1440"/>
            </a:xfrm>
            <a:custGeom>
              <a:avLst/>
              <a:gdLst/>
              <a:ahLst/>
              <a:rect l="l" t="t" r="r" b="b"/>
              <a:pathLst>
                <a:path w="35" h="0">
                  <a:moveTo>
                    <a:pt x="35" y="0"/>
                  </a:moveTo>
                  <a:lnTo>
                    <a:pt x="28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7" name=""/>
            <p:cNvSpPr/>
            <p:nvPr/>
          </p:nvSpPr>
          <p:spPr>
            <a:xfrm flipH="1">
              <a:off x="4430520" y="5691240"/>
              <a:ext cx="4428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8" name=""/>
            <p:cNvSpPr/>
            <p:nvPr/>
          </p:nvSpPr>
          <p:spPr>
            <a:xfrm flipH="1">
              <a:off x="4343040" y="5691240"/>
              <a:ext cx="4428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9" name=""/>
            <p:cNvSpPr/>
            <p:nvPr/>
          </p:nvSpPr>
          <p:spPr>
            <a:xfrm flipH="1">
              <a:off x="4255920" y="5691240"/>
              <a:ext cx="4464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0" name=""/>
            <p:cNvSpPr/>
            <p:nvPr/>
          </p:nvSpPr>
          <p:spPr>
            <a:xfrm flipH="1">
              <a:off x="4168440" y="5691240"/>
              <a:ext cx="4284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1" name=""/>
            <p:cNvSpPr/>
            <p:nvPr/>
          </p:nvSpPr>
          <p:spPr>
            <a:xfrm>
              <a:off x="4081320" y="5691240"/>
              <a:ext cx="42840" cy="1440"/>
            </a:xfrm>
            <a:custGeom>
              <a:avLst/>
              <a:gdLst/>
              <a:ahLst/>
              <a:rect l="l" t="t" r="r" b="b"/>
              <a:pathLst>
                <a:path w="27" h="0">
                  <a:moveTo>
                    <a:pt x="27" y="0"/>
                  </a:moveTo>
                  <a:lnTo>
                    <a:pt x="2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2" name=""/>
            <p:cNvSpPr/>
            <p:nvPr/>
          </p:nvSpPr>
          <p:spPr>
            <a:xfrm flipH="1">
              <a:off x="3992400" y="5691240"/>
              <a:ext cx="4464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3" name=""/>
            <p:cNvSpPr/>
            <p:nvPr/>
          </p:nvSpPr>
          <p:spPr>
            <a:xfrm flipH="1">
              <a:off x="3894120" y="5691240"/>
              <a:ext cx="4464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4" name=""/>
            <p:cNvSpPr/>
            <p:nvPr/>
          </p:nvSpPr>
          <p:spPr>
            <a:xfrm>
              <a:off x="3807000" y="5691240"/>
              <a:ext cx="44280" cy="1440"/>
            </a:xfrm>
            <a:custGeom>
              <a:avLst/>
              <a:gdLst/>
              <a:ahLst/>
              <a:rect l="l" t="t" r="r" b="b"/>
              <a:pathLst>
                <a:path w="28" h="0">
                  <a:moveTo>
                    <a:pt x="28" y="0"/>
                  </a:moveTo>
                  <a:lnTo>
                    <a:pt x="21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5" name=""/>
            <p:cNvSpPr/>
            <p:nvPr/>
          </p:nvSpPr>
          <p:spPr>
            <a:xfrm flipH="1">
              <a:off x="3719160" y="5691240"/>
              <a:ext cx="4428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6" name=""/>
            <p:cNvSpPr/>
            <p:nvPr/>
          </p:nvSpPr>
          <p:spPr>
            <a:xfrm flipH="1">
              <a:off x="3632040" y="5691240"/>
              <a:ext cx="4464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7" name=""/>
            <p:cNvSpPr/>
            <p:nvPr/>
          </p:nvSpPr>
          <p:spPr>
            <a:xfrm flipH="1">
              <a:off x="3544560" y="5691240"/>
              <a:ext cx="4284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8" name=""/>
            <p:cNvSpPr/>
            <p:nvPr/>
          </p:nvSpPr>
          <p:spPr>
            <a:xfrm flipH="1">
              <a:off x="3457080" y="5702400"/>
              <a:ext cx="4284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9" name=""/>
            <p:cNvSpPr/>
            <p:nvPr/>
          </p:nvSpPr>
          <p:spPr>
            <a:xfrm flipH="1">
              <a:off x="3358800" y="5702400"/>
              <a:ext cx="4284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0" name=""/>
            <p:cNvSpPr/>
            <p:nvPr/>
          </p:nvSpPr>
          <p:spPr>
            <a:xfrm>
              <a:off x="3270240" y="5702400"/>
              <a:ext cx="44640" cy="1440"/>
            </a:xfrm>
            <a:custGeom>
              <a:avLst/>
              <a:gdLst/>
              <a:ahLst/>
              <a:rect l="l" t="t" r="r" b="b"/>
              <a:pathLst>
                <a:path w="28" h="0">
                  <a:moveTo>
                    <a:pt x="28" y="0"/>
                  </a:moveTo>
                  <a:lnTo>
                    <a:pt x="14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1" name=""/>
            <p:cNvSpPr/>
            <p:nvPr/>
          </p:nvSpPr>
          <p:spPr>
            <a:xfrm flipH="1">
              <a:off x="3182760" y="5702400"/>
              <a:ext cx="4464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2" name=""/>
            <p:cNvSpPr/>
            <p:nvPr/>
          </p:nvSpPr>
          <p:spPr>
            <a:xfrm flipH="1">
              <a:off x="3095280" y="5702400"/>
              <a:ext cx="4428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3" name=""/>
            <p:cNvSpPr/>
            <p:nvPr/>
          </p:nvSpPr>
          <p:spPr>
            <a:xfrm flipH="1">
              <a:off x="3008160" y="5702400"/>
              <a:ext cx="4464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4" name=""/>
            <p:cNvSpPr/>
            <p:nvPr/>
          </p:nvSpPr>
          <p:spPr>
            <a:xfrm flipV="1">
              <a:off x="6434280" y="5570280"/>
              <a:ext cx="10800" cy="442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5" name=""/>
            <p:cNvSpPr/>
            <p:nvPr/>
          </p:nvSpPr>
          <p:spPr>
            <a:xfrm flipV="1">
              <a:off x="6456240" y="5483160"/>
              <a:ext cx="11160" cy="446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6" name=""/>
            <p:cNvSpPr/>
            <p:nvPr/>
          </p:nvSpPr>
          <p:spPr>
            <a:xfrm>
              <a:off x="6478560" y="5407200"/>
              <a:ext cx="11160" cy="44280"/>
            </a:xfrm>
            <a:custGeom>
              <a:avLst/>
              <a:gdLst/>
              <a:ahLst/>
              <a:rect l="l" t="t" r="r" b="b"/>
              <a:pathLst>
                <a:path w="7" h="28">
                  <a:moveTo>
                    <a:pt x="0" y="28"/>
                  </a:moveTo>
                  <a:lnTo>
                    <a:pt x="7" y="21"/>
                  </a:lnTo>
                  <a:lnTo>
                    <a:pt x="0" y="14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7" name=""/>
            <p:cNvSpPr/>
            <p:nvPr/>
          </p:nvSpPr>
          <p:spPr>
            <a:xfrm>
              <a:off x="6423120" y="5330880"/>
              <a:ext cx="33120" cy="31680"/>
            </a:xfrm>
            <a:custGeom>
              <a:avLst/>
              <a:gdLst/>
              <a:ahLst/>
              <a:rect l="l" t="t" r="r" b="b"/>
              <a:pathLst>
                <a:path w="21" h="20">
                  <a:moveTo>
                    <a:pt x="21" y="20"/>
                  </a:moveTo>
                  <a:lnTo>
                    <a:pt x="14" y="20"/>
                  </a:lnTo>
                  <a:lnTo>
                    <a:pt x="7" y="14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8" name=""/>
            <p:cNvSpPr/>
            <p:nvPr/>
          </p:nvSpPr>
          <p:spPr>
            <a:xfrm>
              <a:off x="6369120" y="5265720"/>
              <a:ext cx="31680" cy="316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20" y="20"/>
                  </a:moveTo>
                  <a:lnTo>
                    <a:pt x="13" y="13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9" name=""/>
            <p:cNvSpPr/>
            <p:nvPr/>
          </p:nvSpPr>
          <p:spPr>
            <a:xfrm>
              <a:off x="6346800" y="5221440"/>
              <a:ext cx="144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0" name=""/>
            <p:cNvSpPr/>
            <p:nvPr/>
          </p:nvSpPr>
          <p:spPr>
            <a:xfrm>
              <a:off x="6369120" y="5210280"/>
              <a:ext cx="11160" cy="44280"/>
            </a:xfrm>
            <a:custGeom>
              <a:avLst/>
              <a:gdLst/>
              <a:ahLst/>
              <a:rect l="l" t="t" r="r" b="b"/>
              <a:pathLst>
                <a:path w="7" h="28">
                  <a:moveTo>
                    <a:pt x="0" y="28"/>
                  </a:moveTo>
                  <a:lnTo>
                    <a:pt x="7" y="7"/>
                  </a:lnTo>
                  <a:lnTo>
                    <a:pt x="7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1" name=""/>
            <p:cNvSpPr/>
            <p:nvPr/>
          </p:nvSpPr>
          <p:spPr>
            <a:xfrm>
              <a:off x="6380280" y="5122800"/>
              <a:ext cx="9360" cy="44640"/>
            </a:xfrm>
            <a:custGeom>
              <a:avLst/>
              <a:gdLst/>
              <a:ahLst/>
              <a:rect l="l" t="t" r="r" b="b"/>
              <a:pathLst>
                <a:path w="6" h="28">
                  <a:moveTo>
                    <a:pt x="6" y="28"/>
                  </a:moveTo>
                  <a:lnTo>
                    <a:pt x="0" y="21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2" name=""/>
            <p:cNvSpPr/>
            <p:nvPr/>
          </p:nvSpPr>
          <p:spPr>
            <a:xfrm>
              <a:off x="6324480" y="5046840"/>
              <a:ext cx="33480" cy="42840"/>
            </a:xfrm>
            <a:custGeom>
              <a:avLst/>
              <a:gdLst/>
              <a:ahLst/>
              <a:rect l="l" t="t" r="r" b="b"/>
              <a:pathLst>
                <a:path w="21" h="27">
                  <a:moveTo>
                    <a:pt x="21" y="27"/>
                  </a:moveTo>
                  <a:lnTo>
                    <a:pt x="7" y="7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3" name=""/>
            <p:cNvSpPr/>
            <p:nvPr/>
          </p:nvSpPr>
          <p:spPr>
            <a:xfrm>
              <a:off x="6313320" y="4970520"/>
              <a:ext cx="1800" cy="42840"/>
            </a:xfrm>
            <a:custGeom>
              <a:avLst/>
              <a:gdLst/>
              <a:ahLst/>
              <a:rect l="l" t="t" r="r" b="b"/>
              <a:pathLst>
                <a:path w="0" h="27">
                  <a:moveTo>
                    <a:pt x="0" y="27"/>
                  </a:move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4" name=""/>
            <p:cNvSpPr/>
            <p:nvPr/>
          </p:nvSpPr>
          <p:spPr>
            <a:xfrm>
              <a:off x="6313320" y="4881600"/>
              <a:ext cx="1800" cy="44280"/>
            </a:xfrm>
            <a:custGeom>
              <a:avLst/>
              <a:gdLst/>
              <a:ahLst/>
              <a:rect l="l" t="t" r="r" b="b"/>
              <a:pathLst>
                <a:path w="0" h="28">
                  <a:moveTo>
                    <a:pt x="0" y="28"/>
                  </a:moveTo>
                  <a:lnTo>
                    <a:pt x="0" y="14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5" name=""/>
            <p:cNvSpPr/>
            <p:nvPr/>
          </p:nvSpPr>
          <p:spPr>
            <a:xfrm>
              <a:off x="6313320" y="4794120"/>
              <a:ext cx="1800" cy="44640"/>
            </a:xfrm>
            <a:custGeom>
              <a:avLst/>
              <a:gdLst/>
              <a:ahLst/>
              <a:rect l="l" t="t" r="r" b="b"/>
              <a:pathLst>
                <a:path w="0" h="28">
                  <a:moveTo>
                    <a:pt x="0" y="28"/>
                  </a:moveTo>
                  <a:lnTo>
                    <a:pt x="0" y="21"/>
                  </a:lnTo>
                  <a:lnTo>
                    <a:pt x="0" y="7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6" name=""/>
            <p:cNvSpPr/>
            <p:nvPr/>
          </p:nvSpPr>
          <p:spPr>
            <a:xfrm>
              <a:off x="6335640" y="4707000"/>
              <a:ext cx="11160" cy="44280"/>
            </a:xfrm>
            <a:custGeom>
              <a:avLst/>
              <a:gdLst/>
              <a:ahLst/>
              <a:rect l="l" t="t" r="r" b="b"/>
              <a:pathLst>
                <a:path w="7" h="28">
                  <a:moveTo>
                    <a:pt x="0" y="28"/>
                  </a:moveTo>
                  <a:lnTo>
                    <a:pt x="7" y="21"/>
                  </a:lnTo>
                  <a:lnTo>
                    <a:pt x="7" y="7"/>
                  </a:lnTo>
                  <a:lnTo>
                    <a:pt x="7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7" name=""/>
            <p:cNvSpPr/>
            <p:nvPr/>
          </p:nvSpPr>
          <p:spPr>
            <a:xfrm>
              <a:off x="6369120" y="4630680"/>
              <a:ext cx="11160" cy="44640"/>
            </a:xfrm>
            <a:custGeom>
              <a:avLst/>
              <a:gdLst/>
              <a:ahLst/>
              <a:rect l="l" t="t" r="r" b="b"/>
              <a:pathLst>
                <a:path w="7" h="28">
                  <a:moveTo>
                    <a:pt x="0" y="28"/>
                  </a:moveTo>
                  <a:lnTo>
                    <a:pt x="7" y="21"/>
                  </a:lnTo>
                  <a:lnTo>
                    <a:pt x="7" y="14"/>
                  </a:lnTo>
                  <a:lnTo>
                    <a:pt x="7" y="0"/>
                  </a:lnTo>
                  <a:lnTo>
                    <a:pt x="7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8" name=""/>
            <p:cNvSpPr/>
            <p:nvPr/>
          </p:nvSpPr>
          <p:spPr>
            <a:xfrm>
              <a:off x="6389640" y="4576680"/>
              <a:ext cx="44640" cy="9720"/>
            </a:xfrm>
            <a:custGeom>
              <a:avLst/>
              <a:gdLst/>
              <a:ahLst/>
              <a:rect l="l" t="t" r="r" b="b"/>
              <a:pathLst>
                <a:path w="28" h="6">
                  <a:moveTo>
                    <a:pt x="0" y="6"/>
                  </a:moveTo>
                  <a:lnTo>
                    <a:pt x="7" y="6"/>
                  </a:lnTo>
                  <a:lnTo>
                    <a:pt x="28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9" name=""/>
            <p:cNvSpPr/>
            <p:nvPr/>
          </p:nvSpPr>
          <p:spPr>
            <a:xfrm>
              <a:off x="6478560" y="4554360"/>
              <a:ext cx="42840" cy="22320"/>
            </a:xfrm>
            <a:custGeom>
              <a:avLst/>
              <a:gdLst/>
              <a:ahLst/>
              <a:rect l="l" t="t" r="r" b="b"/>
              <a:pathLst>
                <a:path w="27" h="14">
                  <a:moveTo>
                    <a:pt x="0" y="14"/>
                  </a:moveTo>
                  <a:lnTo>
                    <a:pt x="13" y="7"/>
                  </a:lnTo>
                  <a:lnTo>
                    <a:pt x="27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0" name=""/>
            <p:cNvSpPr/>
            <p:nvPr/>
          </p:nvSpPr>
          <p:spPr>
            <a:xfrm>
              <a:off x="6554880" y="4521240"/>
              <a:ext cx="42840" cy="22320"/>
            </a:xfrm>
            <a:custGeom>
              <a:avLst/>
              <a:gdLst/>
              <a:ahLst/>
              <a:rect l="l" t="t" r="r" b="b"/>
              <a:pathLst>
                <a:path w="27" h="14">
                  <a:moveTo>
                    <a:pt x="0" y="14"/>
                  </a:moveTo>
                  <a:lnTo>
                    <a:pt x="21" y="0"/>
                  </a:lnTo>
                  <a:lnTo>
                    <a:pt x="27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1" name=""/>
            <p:cNvSpPr/>
            <p:nvPr/>
          </p:nvSpPr>
          <p:spPr>
            <a:xfrm>
              <a:off x="6630840" y="4467240"/>
              <a:ext cx="33480" cy="20520"/>
            </a:xfrm>
            <a:custGeom>
              <a:avLst/>
              <a:gdLst/>
              <a:ahLst/>
              <a:rect l="l" t="t" r="r" b="b"/>
              <a:pathLst>
                <a:path w="21" h="13">
                  <a:moveTo>
                    <a:pt x="0" y="13"/>
                  </a:moveTo>
                  <a:lnTo>
                    <a:pt x="0" y="13"/>
                  </a:lnTo>
                  <a:lnTo>
                    <a:pt x="21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2" name=""/>
            <p:cNvSpPr/>
            <p:nvPr/>
          </p:nvSpPr>
          <p:spPr>
            <a:xfrm>
              <a:off x="6707160" y="4411800"/>
              <a:ext cx="33480" cy="21960"/>
            </a:xfrm>
            <a:custGeom>
              <a:avLst/>
              <a:gdLst/>
              <a:ahLst/>
              <a:rect l="l" t="t" r="r" b="b"/>
              <a:pathLst>
                <a:path w="21" h="14">
                  <a:moveTo>
                    <a:pt x="0" y="14"/>
                  </a:moveTo>
                  <a:lnTo>
                    <a:pt x="0" y="14"/>
                  </a:lnTo>
                  <a:lnTo>
                    <a:pt x="21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3" name=""/>
            <p:cNvSpPr/>
            <p:nvPr/>
          </p:nvSpPr>
          <p:spPr>
            <a:xfrm>
              <a:off x="5076720" y="3679920"/>
              <a:ext cx="208080" cy="217440"/>
            </a:xfrm>
            <a:custGeom>
              <a:avLst/>
              <a:gdLst/>
              <a:ahLst/>
              <a:rect l="l" t="t" r="r" b="b"/>
              <a:pathLst>
                <a:path w="131" h="137">
                  <a:moveTo>
                    <a:pt x="0" y="41"/>
                  </a:moveTo>
                  <a:lnTo>
                    <a:pt x="7" y="110"/>
                  </a:lnTo>
                  <a:lnTo>
                    <a:pt x="35" y="131"/>
                  </a:lnTo>
                  <a:lnTo>
                    <a:pt x="90" y="137"/>
                  </a:lnTo>
                  <a:lnTo>
                    <a:pt x="124" y="103"/>
                  </a:lnTo>
                  <a:lnTo>
                    <a:pt x="131" y="48"/>
                  </a:lnTo>
                  <a:lnTo>
                    <a:pt x="90" y="27"/>
                  </a:lnTo>
                  <a:lnTo>
                    <a:pt x="55" y="0"/>
                  </a:lnTo>
                  <a:lnTo>
                    <a:pt x="35" y="13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4" name=""/>
            <p:cNvSpPr/>
            <p:nvPr/>
          </p:nvSpPr>
          <p:spPr>
            <a:xfrm>
              <a:off x="4890960" y="4290840"/>
              <a:ext cx="42840" cy="111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5" name=""/>
            <p:cNvSpPr/>
            <p:nvPr/>
          </p:nvSpPr>
          <p:spPr>
            <a:xfrm>
              <a:off x="4978440" y="4313160"/>
              <a:ext cx="44280" cy="111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6" name=""/>
            <p:cNvSpPr/>
            <p:nvPr/>
          </p:nvSpPr>
          <p:spPr>
            <a:xfrm flipV="1">
              <a:off x="5043600" y="4269960"/>
              <a:ext cx="11160" cy="428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7" name=""/>
            <p:cNvSpPr/>
            <p:nvPr/>
          </p:nvSpPr>
          <p:spPr>
            <a:xfrm flipV="1">
              <a:off x="5065560" y="4182840"/>
              <a:ext cx="1800" cy="428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88" name=""/>
          <p:cNvGrpSpPr/>
          <p:nvPr/>
        </p:nvGrpSpPr>
        <p:grpSpPr>
          <a:xfrm>
            <a:off x="3030480" y="2203560"/>
            <a:ext cx="3754440" cy="3498840"/>
            <a:chOff x="3030480" y="2203560"/>
            <a:chExt cx="3754440" cy="3498840"/>
          </a:xfrm>
        </p:grpSpPr>
        <p:sp>
          <p:nvSpPr>
            <p:cNvPr id="5889" name=""/>
            <p:cNvSpPr/>
            <p:nvPr/>
          </p:nvSpPr>
          <p:spPr>
            <a:xfrm flipV="1">
              <a:off x="5076720" y="4084560"/>
              <a:ext cx="11160" cy="540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0" name=""/>
            <p:cNvSpPr/>
            <p:nvPr/>
          </p:nvSpPr>
          <p:spPr>
            <a:xfrm flipV="1">
              <a:off x="5087880" y="3995640"/>
              <a:ext cx="1800" cy="446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1" name=""/>
            <p:cNvSpPr/>
            <p:nvPr/>
          </p:nvSpPr>
          <p:spPr>
            <a:xfrm>
              <a:off x="5076720" y="3919680"/>
              <a:ext cx="11160" cy="44280"/>
            </a:xfrm>
            <a:custGeom>
              <a:avLst/>
              <a:gdLst/>
              <a:ahLst/>
              <a:rect l="l" t="t" r="r" b="b"/>
              <a:pathLst>
                <a:path w="7" h="28">
                  <a:moveTo>
                    <a:pt x="0" y="28"/>
                  </a:moveTo>
                  <a:lnTo>
                    <a:pt x="0" y="28"/>
                  </a:lnTo>
                  <a:lnTo>
                    <a:pt x="7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2" name=""/>
            <p:cNvSpPr/>
            <p:nvPr/>
          </p:nvSpPr>
          <p:spPr>
            <a:xfrm>
              <a:off x="5121360" y="3919680"/>
              <a:ext cx="42840" cy="10800"/>
            </a:xfrm>
            <a:custGeom>
              <a:avLst/>
              <a:gdLst/>
              <a:ahLst/>
              <a:rect l="l" t="t" r="r" b="b"/>
              <a:pathLst>
                <a:path w="27" h="7">
                  <a:moveTo>
                    <a:pt x="0" y="0"/>
                  </a:moveTo>
                  <a:lnTo>
                    <a:pt x="20" y="7"/>
                  </a:lnTo>
                  <a:lnTo>
                    <a:pt x="27" y="7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3" name=""/>
            <p:cNvSpPr/>
            <p:nvPr/>
          </p:nvSpPr>
          <p:spPr>
            <a:xfrm>
              <a:off x="5208480" y="3941640"/>
              <a:ext cx="42840" cy="111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4" name=""/>
            <p:cNvSpPr/>
            <p:nvPr/>
          </p:nvSpPr>
          <p:spPr>
            <a:xfrm>
              <a:off x="5251320" y="3809880"/>
              <a:ext cx="1533600" cy="612720"/>
            </a:xfrm>
            <a:custGeom>
              <a:avLst/>
              <a:gdLst/>
              <a:ahLst/>
              <a:rect l="l" t="t" r="r" b="b"/>
              <a:pathLst>
                <a:path w="966" h="386">
                  <a:moveTo>
                    <a:pt x="966" y="386"/>
                  </a:moveTo>
                  <a:lnTo>
                    <a:pt x="842" y="352"/>
                  </a:lnTo>
                  <a:lnTo>
                    <a:pt x="835" y="345"/>
                  </a:lnTo>
                  <a:lnTo>
                    <a:pt x="828" y="345"/>
                  </a:lnTo>
                  <a:lnTo>
                    <a:pt x="814" y="338"/>
                  </a:lnTo>
                  <a:lnTo>
                    <a:pt x="724" y="310"/>
                  </a:lnTo>
                  <a:lnTo>
                    <a:pt x="538" y="166"/>
                  </a:lnTo>
                  <a:lnTo>
                    <a:pt x="504" y="159"/>
                  </a:lnTo>
                  <a:lnTo>
                    <a:pt x="324" y="117"/>
                  </a:lnTo>
                  <a:lnTo>
                    <a:pt x="269" y="111"/>
                  </a:lnTo>
                  <a:lnTo>
                    <a:pt x="166" y="104"/>
                  </a:lnTo>
                  <a:lnTo>
                    <a:pt x="159" y="97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5" name=""/>
            <p:cNvSpPr/>
            <p:nvPr/>
          </p:nvSpPr>
          <p:spPr>
            <a:xfrm>
              <a:off x="5262480" y="3821040"/>
              <a:ext cx="1800" cy="446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6" name=""/>
            <p:cNvSpPr/>
            <p:nvPr/>
          </p:nvSpPr>
          <p:spPr>
            <a:xfrm>
              <a:off x="5262480" y="3908520"/>
              <a:ext cx="1800" cy="55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7" name=""/>
            <p:cNvSpPr/>
            <p:nvPr/>
          </p:nvSpPr>
          <p:spPr>
            <a:xfrm>
              <a:off x="5262480" y="4006800"/>
              <a:ext cx="1800" cy="446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8" name=""/>
            <p:cNvSpPr/>
            <p:nvPr/>
          </p:nvSpPr>
          <p:spPr>
            <a:xfrm>
              <a:off x="5262480" y="4094280"/>
              <a:ext cx="1800" cy="44280"/>
            </a:xfrm>
            <a:custGeom>
              <a:avLst/>
              <a:gdLst/>
              <a:ahLst/>
              <a:rect l="l" t="t" r="r" b="b"/>
              <a:pathLst>
                <a:path w="0" h="28">
                  <a:moveTo>
                    <a:pt x="0" y="0"/>
                  </a:moveTo>
                  <a:lnTo>
                    <a:pt x="0" y="14"/>
                  </a:lnTo>
                  <a:lnTo>
                    <a:pt x="0" y="28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9" name=""/>
            <p:cNvSpPr/>
            <p:nvPr/>
          </p:nvSpPr>
          <p:spPr>
            <a:xfrm>
              <a:off x="5262480" y="4183200"/>
              <a:ext cx="1800" cy="42840"/>
            </a:xfrm>
            <a:custGeom>
              <a:avLst/>
              <a:gdLst/>
              <a:ahLst/>
              <a:rect l="l" t="t" r="r" b="b"/>
              <a:pathLst>
                <a:path w="0" h="27">
                  <a:moveTo>
                    <a:pt x="0" y="0"/>
                  </a:moveTo>
                  <a:lnTo>
                    <a:pt x="0" y="20"/>
                  </a:lnTo>
                  <a:lnTo>
                    <a:pt x="0" y="27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0" name=""/>
            <p:cNvSpPr/>
            <p:nvPr/>
          </p:nvSpPr>
          <p:spPr>
            <a:xfrm>
              <a:off x="5262480" y="4270320"/>
              <a:ext cx="1800" cy="42840"/>
            </a:xfrm>
            <a:custGeom>
              <a:avLst/>
              <a:gdLst/>
              <a:ahLst/>
              <a:rect l="l" t="t" r="r" b="b"/>
              <a:pathLst>
                <a:path w="0" h="27">
                  <a:moveTo>
                    <a:pt x="0" y="0"/>
                  </a:moveTo>
                  <a:lnTo>
                    <a:pt x="0" y="13"/>
                  </a:lnTo>
                  <a:lnTo>
                    <a:pt x="0" y="27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1" name=""/>
            <p:cNvSpPr/>
            <p:nvPr/>
          </p:nvSpPr>
          <p:spPr>
            <a:xfrm>
              <a:off x="5262480" y="4357800"/>
              <a:ext cx="1800" cy="428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2" name=""/>
            <p:cNvSpPr/>
            <p:nvPr/>
          </p:nvSpPr>
          <p:spPr>
            <a:xfrm>
              <a:off x="5262480" y="4444920"/>
              <a:ext cx="1800" cy="54000"/>
            </a:xfrm>
            <a:custGeom>
              <a:avLst/>
              <a:gdLst/>
              <a:ahLst/>
              <a:rect l="l" t="t" r="r" b="b"/>
              <a:pathLst>
                <a:path w="0" h="34">
                  <a:moveTo>
                    <a:pt x="0" y="0"/>
                  </a:moveTo>
                  <a:lnTo>
                    <a:pt x="0" y="7"/>
                  </a:lnTo>
                  <a:lnTo>
                    <a:pt x="0" y="34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3" name=""/>
            <p:cNvSpPr/>
            <p:nvPr/>
          </p:nvSpPr>
          <p:spPr>
            <a:xfrm>
              <a:off x="5262480" y="4543560"/>
              <a:ext cx="1800" cy="428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4" name=""/>
            <p:cNvSpPr/>
            <p:nvPr/>
          </p:nvSpPr>
          <p:spPr>
            <a:xfrm>
              <a:off x="5262480" y="4630680"/>
              <a:ext cx="1800" cy="334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5" name=""/>
            <p:cNvSpPr/>
            <p:nvPr/>
          </p:nvSpPr>
          <p:spPr>
            <a:xfrm flipV="1">
              <a:off x="3314880" y="5657760"/>
              <a:ext cx="1440" cy="446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6" name=""/>
            <p:cNvSpPr/>
            <p:nvPr/>
          </p:nvSpPr>
          <p:spPr>
            <a:xfrm>
              <a:off x="3292560" y="5570640"/>
              <a:ext cx="11160" cy="44280"/>
            </a:xfrm>
            <a:custGeom>
              <a:avLst/>
              <a:gdLst/>
              <a:ahLst/>
              <a:rect l="l" t="t" r="r" b="b"/>
              <a:pathLst>
                <a:path w="7" h="28">
                  <a:moveTo>
                    <a:pt x="7" y="28"/>
                  </a:moveTo>
                  <a:lnTo>
                    <a:pt x="0" y="7"/>
                  </a:lnTo>
                  <a:lnTo>
                    <a:pt x="7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7" name=""/>
            <p:cNvSpPr/>
            <p:nvPr/>
          </p:nvSpPr>
          <p:spPr>
            <a:xfrm>
              <a:off x="3325680" y="5494320"/>
              <a:ext cx="22320" cy="44640"/>
            </a:xfrm>
            <a:custGeom>
              <a:avLst/>
              <a:gdLst/>
              <a:ahLst/>
              <a:rect l="l" t="t" r="r" b="b"/>
              <a:pathLst>
                <a:path w="14" h="28">
                  <a:moveTo>
                    <a:pt x="0" y="28"/>
                  </a:moveTo>
                  <a:lnTo>
                    <a:pt x="14" y="0"/>
                  </a:lnTo>
                  <a:lnTo>
                    <a:pt x="14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8" name=""/>
            <p:cNvSpPr/>
            <p:nvPr/>
          </p:nvSpPr>
          <p:spPr>
            <a:xfrm>
              <a:off x="3292560" y="5418000"/>
              <a:ext cx="33120" cy="33480"/>
            </a:xfrm>
            <a:custGeom>
              <a:avLst/>
              <a:gdLst/>
              <a:ahLst/>
              <a:rect l="l" t="t" r="r" b="b"/>
              <a:pathLst>
                <a:path w="21" h="21">
                  <a:moveTo>
                    <a:pt x="21" y="21"/>
                  </a:moveTo>
                  <a:lnTo>
                    <a:pt x="14" y="14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9" name=""/>
            <p:cNvSpPr/>
            <p:nvPr/>
          </p:nvSpPr>
          <p:spPr>
            <a:xfrm>
              <a:off x="3238560" y="5353200"/>
              <a:ext cx="31680" cy="316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20" y="20"/>
                  </a:moveTo>
                  <a:lnTo>
                    <a:pt x="7" y="6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0" name=""/>
            <p:cNvSpPr/>
            <p:nvPr/>
          </p:nvSpPr>
          <p:spPr>
            <a:xfrm flipH="1" flipV="1">
              <a:off x="3182400" y="5275440"/>
              <a:ext cx="33480" cy="331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1" name=""/>
            <p:cNvSpPr/>
            <p:nvPr/>
          </p:nvSpPr>
          <p:spPr>
            <a:xfrm>
              <a:off x="3129120" y="5210280"/>
              <a:ext cx="31680" cy="33120"/>
            </a:xfrm>
            <a:custGeom>
              <a:avLst/>
              <a:gdLst/>
              <a:ahLst/>
              <a:rect l="l" t="t" r="r" b="b"/>
              <a:pathLst>
                <a:path w="20" h="21">
                  <a:moveTo>
                    <a:pt x="20" y="21"/>
                  </a:moveTo>
                  <a:lnTo>
                    <a:pt x="20" y="21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2" name=""/>
            <p:cNvSpPr/>
            <p:nvPr/>
          </p:nvSpPr>
          <p:spPr>
            <a:xfrm flipV="1">
              <a:off x="3129120" y="5122800"/>
              <a:ext cx="10800" cy="446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3" name=""/>
            <p:cNvSpPr/>
            <p:nvPr/>
          </p:nvSpPr>
          <p:spPr>
            <a:xfrm flipV="1">
              <a:off x="3151080" y="5035320"/>
              <a:ext cx="1800" cy="428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4" name=""/>
            <p:cNvSpPr/>
            <p:nvPr/>
          </p:nvSpPr>
          <p:spPr>
            <a:xfrm flipV="1">
              <a:off x="3160800" y="4947840"/>
              <a:ext cx="11160" cy="428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5" name=""/>
            <p:cNvSpPr/>
            <p:nvPr/>
          </p:nvSpPr>
          <p:spPr>
            <a:xfrm flipV="1">
              <a:off x="3182760" y="4860720"/>
              <a:ext cx="11160" cy="428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6" name=""/>
            <p:cNvSpPr/>
            <p:nvPr/>
          </p:nvSpPr>
          <p:spPr>
            <a:xfrm flipV="1">
              <a:off x="3193920" y="4773240"/>
              <a:ext cx="11160" cy="428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7" name=""/>
            <p:cNvSpPr/>
            <p:nvPr/>
          </p:nvSpPr>
          <p:spPr>
            <a:xfrm>
              <a:off x="3216240" y="4684680"/>
              <a:ext cx="11160" cy="44640"/>
            </a:xfrm>
            <a:custGeom>
              <a:avLst/>
              <a:gdLst/>
              <a:ahLst/>
              <a:rect l="l" t="t" r="r" b="b"/>
              <a:pathLst>
                <a:path w="7" h="28">
                  <a:moveTo>
                    <a:pt x="0" y="28"/>
                  </a:moveTo>
                  <a:lnTo>
                    <a:pt x="0" y="21"/>
                  </a:lnTo>
                  <a:lnTo>
                    <a:pt x="7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8" name=""/>
            <p:cNvSpPr/>
            <p:nvPr/>
          </p:nvSpPr>
          <p:spPr>
            <a:xfrm flipV="1">
              <a:off x="3238560" y="4597200"/>
              <a:ext cx="11160" cy="442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9" name=""/>
            <p:cNvSpPr/>
            <p:nvPr/>
          </p:nvSpPr>
          <p:spPr>
            <a:xfrm>
              <a:off x="3270240" y="4510080"/>
              <a:ext cx="1440" cy="44280"/>
            </a:xfrm>
            <a:custGeom>
              <a:avLst/>
              <a:gdLst/>
              <a:ahLst/>
              <a:rect l="l" t="t" r="r" b="b"/>
              <a:pathLst>
                <a:path w="0" h="28">
                  <a:moveTo>
                    <a:pt x="0" y="28"/>
                  </a:moveTo>
                  <a:lnTo>
                    <a:pt x="0" y="21"/>
                  </a:lnTo>
                  <a:lnTo>
                    <a:pt x="0" y="7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0" name=""/>
            <p:cNvSpPr/>
            <p:nvPr/>
          </p:nvSpPr>
          <p:spPr>
            <a:xfrm>
              <a:off x="3292560" y="4444920"/>
              <a:ext cx="11160" cy="33480"/>
            </a:xfrm>
            <a:custGeom>
              <a:avLst/>
              <a:gdLst/>
              <a:ahLst/>
              <a:rect l="l" t="t" r="r" b="b"/>
              <a:pathLst>
                <a:path w="7" h="21">
                  <a:moveTo>
                    <a:pt x="0" y="21"/>
                  </a:moveTo>
                  <a:lnTo>
                    <a:pt x="0" y="21"/>
                  </a:lnTo>
                  <a:lnTo>
                    <a:pt x="0" y="7"/>
                  </a:lnTo>
                  <a:lnTo>
                    <a:pt x="0" y="7"/>
                  </a:lnTo>
                  <a:lnTo>
                    <a:pt x="7" y="0"/>
                  </a:lnTo>
                  <a:lnTo>
                    <a:pt x="7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1" name=""/>
            <p:cNvSpPr/>
            <p:nvPr/>
          </p:nvSpPr>
          <p:spPr>
            <a:xfrm>
              <a:off x="3348000" y="4444920"/>
              <a:ext cx="42840" cy="11160"/>
            </a:xfrm>
            <a:custGeom>
              <a:avLst/>
              <a:gdLst/>
              <a:ahLst/>
              <a:rect l="l" t="t" r="r" b="b"/>
              <a:pathLst>
                <a:path w="27" h="7">
                  <a:moveTo>
                    <a:pt x="0" y="7"/>
                  </a:moveTo>
                  <a:lnTo>
                    <a:pt x="7" y="7"/>
                  </a:lnTo>
                  <a:lnTo>
                    <a:pt x="20" y="0"/>
                  </a:lnTo>
                  <a:lnTo>
                    <a:pt x="27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2" name=""/>
            <p:cNvSpPr/>
            <p:nvPr/>
          </p:nvSpPr>
          <p:spPr>
            <a:xfrm>
              <a:off x="3435480" y="4456080"/>
              <a:ext cx="42840" cy="11160"/>
            </a:xfrm>
            <a:custGeom>
              <a:avLst/>
              <a:gdLst/>
              <a:ahLst/>
              <a:rect l="l" t="t" r="r" b="b"/>
              <a:pathLst>
                <a:path w="27" h="7">
                  <a:moveTo>
                    <a:pt x="0" y="0"/>
                  </a:moveTo>
                  <a:lnTo>
                    <a:pt x="0" y="0"/>
                  </a:lnTo>
                  <a:lnTo>
                    <a:pt x="14" y="7"/>
                  </a:lnTo>
                  <a:lnTo>
                    <a:pt x="27" y="7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3" name=""/>
            <p:cNvSpPr/>
            <p:nvPr/>
          </p:nvSpPr>
          <p:spPr>
            <a:xfrm>
              <a:off x="3522600" y="4478400"/>
              <a:ext cx="44640" cy="9360"/>
            </a:xfrm>
            <a:custGeom>
              <a:avLst/>
              <a:gdLst/>
              <a:ahLst/>
              <a:rect l="l" t="t" r="r" b="b"/>
              <a:pathLst>
                <a:path w="28" h="6">
                  <a:moveTo>
                    <a:pt x="0" y="0"/>
                  </a:moveTo>
                  <a:lnTo>
                    <a:pt x="0" y="0"/>
                  </a:lnTo>
                  <a:lnTo>
                    <a:pt x="14" y="6"/>
                  </a:lnTo>
                  <a:lnTo>
                    <a:pt x="28" y="6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4" name=""/>
            <p:cNvSpPr/>
            <p:nvPr/>
          </p:nvSpPr>
          <p:spPr>
            <a:xfrm>
              <a:off x="3598920" y="4498920"/>
              <a:ext cx="33120" cy="22320"/>
            </a:xfrm>
            <a:custGeom>
              <a:avLst/>
              <a:gdLst/>
              <a:ahLst/>
              <a:rect l="l" t="t" r="r" b="b"/>
              <a:pathLst>
                <a:path w="21" h="14">
                  <a:moveTo>
                    <a:pt x="0" y="7"/>
                  </a:moveTo>
                  <a:lnTo>
                    <a:pt x="0" y="7"/>
                  </a:lnTo>
                  <a:lnTo>
                    <a:pt x="7" y="14"/>
                  </a:lnTo>
                  <a:lnTo>
                    <a:pt x="14" y="7"/>
                  </a:lnTo>
                  <a:lnTo>
                    <a:pt x="21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5" name=""/>
            <p:cNvSpPr/>
            <p:nvPr/>
          </p:nvSpPr>
          <p:spPr>
            <a:xfrm flipV="1">
              <a:off x="3654360" y="4422240"/>
              <a:ext cx="22320" cy="334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6" name=""/>
            <p:cNvSpPr/>
            <p:nvPr/>
          </p:nvSpPr>
          <p:spPr>
            <a:xfrm flipV="1">
              <a:off x="3697200" y="4346640"/>
              <a:ext cx="22320" cy="331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7" name=""/>
            <p:cNvSpPr/>
            <p:nvPr/>
          </p:nvSpPr>
          <p:spPr>
            <a:xfrm flipV="1">
              <a:off x="3741840" y="4270320"/>
              <a:ext cx="21960" cy="316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8" name=""/>
            <p:cNvSpPr/>
            <p:nvPr/>
          </p:nvSpPr>
          <p:spPr>
            <a:xfrm>
              <a:off x="3795840" y="4192560"/>
              <a:ext cx="21960" cy="33480"/>
            </a:xfrm>
            <a:custGeom>
              <a:avLst/>
              <a:gdLst/>
              <a:ahLst/>
              <a:rect l="l" t="t" r="r" b="b"/>
              <a:pathLst>
                <a:path w="14" h="21">
                  <a:moveTo>
                    <a:pt x="0" y="21"/>
                  </a:moveTo>
                  <a:lnTo>
                    <a:pt x="0" y="21"/>
                  </a:lnTo>
                  <a:lnTo>
                    <a:pt x="7" y="7"/>
                  </a:lnTo>
                  <a:lnTo>
                    <a:pt x="14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9" name=""/>
            <p:cNvSpPr/>
            <p:nvPr/>
          </p:nvSpPr>
          <p:spPr>
            <a:xfrm>
              <a:off x="3851280" y="4127400"/>
              <a:ext cx="33480" cy="44640"/>
            </a:xfrm>
            <a:custGeom>
              <a:avLst/>
              <a:gdLst/>
              <a:ahLst/>
              <a:rect l="l" t="t" r="r" b="b"/>
              <a:pathLst>
                <a:path w="21" h="28">
                  <a:moveTo>
                    <a:pt x="0" y="28"/>
                  </a:moveTo>
                  <a:lnTo>
                    <a:pt x="7" y="21"/>
                  </a:lnTo>
                  <a:lnTo>
                    <a:pt x="14" y="7"/>
                  </a:lnTo>
                  <a:lnTo>
                    <a:pt x="21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0" name=""/>
            <p:cNvSpPr/>
            <p:nvPr/>
          </p:nvSpPr>
          <p:spPr>
            <a:xfrm>
              <a:off x="3916440" y="4105440"/>
              <a:ext cx="33120" cy="10800"/>
            </a:xfrm>
            <a:custGeom>
              <a:avLst/>
              <a:gdLst/>
              <a:ahLst/>
              <a:rect l="l" t="t" r="r" b="b"/>
              <a:pathLst>
                <a:path w="21" h="7">
                  <a:moveTo>
                    <a:pt x="0" y="0"/>
                  </a:moveTo>
                  <a:lnTo>
                    <a:pt x="7" y="0"/>
                  </a:lnTo>
                  <a:lnTo>
                    <a:pt x="14" y="0"/>
                  </a:lnTo>
                  <a:lnTo>
                    <a:pt x="21" y="7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1" name=""/>
            <p:cNvSpPr/>
            <p:nvPr/>
          </p:nvSpPr>
          <p:spPr>
            <a:xfrm>
              <a:off x="3992400" y="4127400"/>
              <a:ext cx="33480" cy="11160"/>
            </a:xfrm>
            <a:custGeom>
              <a:avLst/>
              <a:gdLst/>
              <a:ahLst/>
              <a:rect l="l" t="t" r="r" b="b"/>
              <a:pathLst>
                <a:path w="21" h="7">
                  <a:moveTo>
                    <a:pt x="0" y="0"/>
                  </a:moveTo>
                  <a:lnTo>
                    <a:pt x="0" y="0"/>
                  </a:lnTo>
                  <a:lnTo>
                    <a:pt x="21" y="7"/>
                  </a:lnTo>
                  <a:lnTo>
                    <a:pt x="21" y="7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2" name=""/>
            <p:cNvSpPr/>
            <p:nvPr/>
          </p:nvSpPr>
          <p:spPr>
            <a:xfrm>
              <a:off x="4070520" y="4138560"/>
              <a:ext cx="42840" cy="11160"/>
            </a:xfrm>
            <a:custGeom>
              <a:avLst/>
              <a:gdLst/>
              <a:ahLst/>
              <a:rect l="l" t="t" r="r" b="b"/>
              <a:pathLst>
                <a:path w="27" h="7">
                  <a:moveTo>
                    <a:pt x="0" y="7"/>
                  </a:moveTo>
                  <a:lnTo>
                    <a:pt x="14" y="7"/>
                  </a:lnTo>
                  <a:lnTo>
                    <a:pt x="20" y="0"/>
                  </a:lnTo>
                  <a:lnTo>
                    <a:pt x="27" y="7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3" name=""/>
            <p:cNvSpPr/>
            <p:nvPr/>
          </p:nvSpPr>
          <p:spPr>
            <a:xfrm>
              <a:off x="4157640" y="4160880"/>
              <a:ext cx="42840" cy="11160"/>
            </a:xfrm>
            <a:custGeom>
              <a:avLst/>
              <a:gdLst/>
              <a:ahLst/>
              <a:rect l="l" t="t" r="r" b="b"/>
              <a:pathLst>
                <a:path w="27" h="7">
                  <a:moveTo>
                    <a:pt x="0" y="0"/>
                  </a:moveTo>
                  <a:lnTo>
                    <a:pt x="7" y="7"/>
                  </a:lnTo>
                  <a:lnTo>
                    <a:pt x="21" y="0"/>
                  </a:lnTo>
                  <a:lnTo>
                    <a:pt x="27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4" name=""/>
            <p:cNvSpPr/>
            <p:nvPr/>
          </p:nvSpPr>
          <p:spPr>
            <a:xfrm>
              <a:off x="4233960" y="4116240"/>
              <a:ext cx="44280" cy="22320"/>
            </a:xfrm>
            <a:custGeom>
              <a:avLst/>
              <a:gdLst/>
              <a:ahLst/>
              <a:rect l="l" t="t" r="r" b="b"/>
              <a:pathLst>
                <a:path w="28" h="14">
                  <a:moveTo>
                    <a:pt x="0" y="14"/>
                  </a:moveTo>
                  <a:lnTo>
                    <a:pt x="7" y="7"/>
                  </a:lnTo>
                  <a:lnTo>
                    <a:pt x="28" y="0"/>
                  </a:lnTo>
                  <a:lnTo>
                    <a:pt x="28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5" name=""/>
            <p:cNvSpPr/>
            <p:nvPr/>
          </p:nvSpPr>
          <p:spPr>
            <a:xfrm>
              <a:off x="4321080" y="4116240"/>
              <a:ext cx="44640" cy="11160"/>
            </a:xfrm>
            <a:custGeom>
              <a:avLst/>
              <a:gdLst/>
              <a:ahLst/>
              <a:rect l="l" t="t" r="r" b="b"/>
              <a:pathLst>
                <a:path w="28" h="7">
                  <a:moveTo>
                    <a:pt x="0" y="0"/>
                  </a:moveTo>
                  <a:lnTo>
                    <a:pt x="0" y="0"/>
                  </a:lnTo>
                  <a:lnTo>
                    <a:pt x="28" y="7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6" name=""/>
            <p:cNvSpPr/>
            <p:nvPr/>
          </p:nvSpPr>
          <p:spPr>
            <a:xfrm>
              <a:off x="4408560" y="4138560"/>
              <a:ext cx="44280" cy="1800"/>
            </a:xfrm>
            <a:custGeom>
              <a:avLst/>
              <a:gdLst/>
              <a:ahLst/>
              <a:rect l="l" t="t" r="r" b="b"/>
              <a:pathLst>
                <a:path w="28" h="0">
                  <a:moveTo>
                    <a:pt x="0" y="0"/>
                  </a:moveTo>
                  <a:lnTo>
                    <a:pt x="21" y="0"/>
                  </a:lnTo>
                  <a:lnTo>
                    <a:pt x="28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7" name=""/>
            <p:cNvSpPr/>
            <p:nvPr/>
          </p:nvSpPr>
          <p:spPr>
            <a:xfrm>
              <a:off x="4497480" y="4149720"/>
              <a:ext cx="42840" cy="11160"/>
            </a:xfrm>
            <a:custGeom>
              <a:avLst/>
              <a:gdLst/>
              <a:ahLst/>
              <a:rect l="l" t="t" r="r" b="b"/>
              <a:pathLst>
                <a:path w="27" h="7">
                  <a:moveTo>
                    <a:pt x="0" y="0"/>
                  </a:moveTo>
                  <a:lnTo>
                    <a:pt x="7" y="0"/>
                  </a:lnTo>
                  <a:lnTo>
                    <a:pt x="27" y="7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8" name=""/>
            <p:cNvSpPr/>
            <p:nvPr/>
          </p:nvSpPr>
          <p:spPr>
            <a:xfrm>
              <a:off x="4584600" y="4172040"/>
              <a:ext cx="42840" cy="20520"/>
            </a:xfrm>
            <a:custGeom>
              <a:avLst/>
              <a:gdLst/>
              <a:ahLst/>
              <a:rect l="l" t="t" r="r" b="b"/>
              <a:pathLst>
                <a:path w="27" h="13">
                  <a:moveTo>
                    <a:pt x="0" y="0"/>
                  </a:moveTo>
                  <a:lnTo>
                    <a:pt x="14" y="7"/>
                  </a:lnTo>
                  <a:lnTo>
                    <a:pt x="27" y="13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9" name=""/>
            <p:cNvSpPr/>
            <p:nvPr/>
          </p:nvSpPr>
          <p:spPr>
            <a:xfrm>
              <a:off x="4672080" y="4203720"/>
              <a:ext cx="44280" cy="1440"/>
            </a:xfrm>
            <a:custGeom>
              <a:avLst/>
              <a:gdLst/>
              <a:ahLst/>
              <a:rect l="l" t="t" r="r" b="b"/>
              <a:pathLst>
                <a:path w="28" h="0">
                  <a:moveTo>
                    <a:pt x="0" y="0"/>
                  </a:moveTo>
                  <a:lnTo>
                    <a:pt x="14" y="0"/>
                  </a:lnTo>
                  <a:lnTo>
                    <a:pt x="28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0" name=""/>
            <p:cNvSpPr/>
            <p:nvPr/>
          </p:nvSpPr>
          <p:spPr>
            <a:xfrm>
              <a:off x="4759200" y="4203720"/>
              <a:ext cx="44640" cy="1440"/>
            </a:xfrm>
            <a:custGeom>
              <a:avLst/>
              <a:gdLst/>
              <a:ahLst/>
              <a:rect l="l" t="t" r="r" b="b"/>
              <a:pathLst>
                <a:path w="28" h="0">
                  <a:moveTo>
                    <a:pt x="0" y="0"/>
                  </a:moveTo>
                  <a:lnTo>
                    <a:pt x="0" y="0"/>
                  </a:lnTo>
                  <a:lnTo>
                    <a:pt x="14" y="0"/>
                  </a:lnTo>
                  <a:lnTo>
                    <a:pt x="28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1" name=""/>
            <p:cNvSpPr/>
            <p:nvPr/>
          </p:nvSpPr>
          <p:spPr>
            <a:xfrm flipV="1">
              <a:off x="4835520" y="4160520"/>
              <a:ext cx="11160" cy="428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2" name=""/>
            <p:cNvSpPr/>
            <p:nvPr/>
          </p:nvSpPr>
          <p:spPr>
            <a:xfrm>
              <a:off x="4857840" y="4105440"/>
              <a:ext cx="44280" cy="10800"/>
            </a:xfrm>
            <a:custGeom>
              <a:avLst/>
              <a:gdLst/>
              <a:ahLst/>
              <a:rect l="l" t="t" r="r" b="b"/>
              <a:pathLst>
                <a:path w="28" h="7">
                  <a:moveTo>
                    <a:pt x="0" y="7"/>
                  </a:moveTo>
                  <a:lnTo>
                    <a:pt x="7" y="0"/>
                  </a:lnTo>
                  <a:lnTo>
                    <a:pt x="28" y="7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3" name=""/>
            <p:cNvSpPr/>
            <p:nvPr/>
          </p:nvSpPr>
          <p:spPr>
            <a:xfrm>
              <a:off x="4933800" y="4084560"/>
              <a:ext cx="22320" cy="42840"/>
            </a:xfrm>
            <a:custGeom>
              <a:avLst/>
              <a:gdLst/>
              <a:ahLst/>
              <a:rect l="l" t="t" r="r" b="b"/>
              <a:pathLst>
                <a:path w="14" h="27">
                  <a:moveTo>
                    <a:pt x="0" y="27"/>
                  </a:moveTo>
                  <a:lnTo>
                    <a:pt x="7" y="27"/>
                  </a:lnTo>
                  <a:lnTo>
                    <a:pt x="14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4" name=""/>
            <p:cNvSpPr/>
            <p:nvPr/>
          </p:nvSpPr>
          <p:spPr>
            <a:xfrm flipV="1">
              <a:off x="4967280" y="4006440"/>
              <a:ext cx="11160" cy="334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5" name=""/>
            <p:cNvSpPr/>
            <p:nvPr/>
          </p:nvSpPr>
          <p:spPr>
            <a:xfrm>
              <a:off x="4989600" y="3919680"/>
              <a:ext cx="21960" cy="44280"/>
            </a:xfrm>
            <a:custGeom>
              <a:avLst/>
              <a:gdLst/>
              <a:ahLst/>
              <a:rect l="l" t="t" r="r" b="b"/>
              <a:pathLst>
                <a:path w="14" h="28">
                  <a:moveTo>
                    <a:pt x="0" y="28"/>
                  </a:moveTo>
                  <a:lnTo>
                    <a:pt x="7" y="0"/>
                  </a:lnTo>
                  <a:lnTo>
                    <a:pt x="14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6" name=""/>
            <p:cNvSpPr/>
            <p:nvPr/>
          </p:nvSpPr>
          <p:spPr>
            <a:xfrm flipV="1">
              <a:off x="5022720" y="3832200"/>
              <a:ext cx="11160" cy="446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7" name=""/>
            <p:cNvSpPr/>
            <p:nvPr/>
          </p:nvSpPr>
          <p:spPr>
            <a:xfrm flipV="1">
              <a:off x="5043600" y="3744720"/>
              <a:ext cx="11160" cy="442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8" name=""/>
            <p:cNvSpPr/>
            <p:nvPr/>
          </p:nvSpPr>
          <p:spPr>
            <a:xfrm flipH="1">
              <a:off x="4901760" y="3691080"/>
              <a:ext cx="11160" cy="428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9" name=""/>
            <p:cNvSpPr/>
            <p:nvPr/>
          </p:nvSpPr>
          <p:spPr>
            <a:xfrm>
              <a:off x="4879800" y="3778200"/>
              <a:ext cx="11160" cy="31680"/>
            </a:xfrm>
            <a:custGeom>
              <a:avLst/>
              <a:gdLst/>
              <a:ahLst/>
              <a:rect l="l" t="t" r="r" b="b"/>
              <a:pathLst>
                <a:path w="7" h="20">
                  <a:moveTo>
                    <a:pt x="7" y="0"/>
                  </a:moveTo>
                  <a:lnTo>
                    <a:pt x="7" y="20"/>
                  </a:lnTo>
                  <a:lnTo>
                    <a:pt x="0" y="2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0" name=""/>
            <p:cNvSpPr/>
            <p:nvPr/>
          </p:nvSpPr>
          <p:spPr>
            <a:xfrm flipH="1">
              <a:off x="4792320" y="3798720"/>
              <a:ext cx="42840" cy="18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1" name=""/>
            <p:cNvSpPr/>
            <p:nvPr/>
          </p:nvSpPr>
          <p:spPr>
            <a:xfrm flipH="1">
              <a:off x="4704840" y="3789360"/>
              <a:ext cx="4284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2" name=""/>
            <p:cNvSpPr/>
            <p:nvPr/>
          </p:nvSpPr>
          <p:spPr>
            <a:xfrm flipH="1" flipV="1">
              <a:off x="4617720" y="3766680"/>
              <a:ext cx="42840" cy="111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3" name=""/>
            <p:cNvSpPr/>
            <p:nvPr/>
          </p:nvSpPr>
          <p:spPr>
            <a:xfrm flipH="1" flipV="1">
              <a:off x="4528800" y="3755520"/>
              <a:ext cx="44280" cy="111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4" name=""/>
            <p:cNvSpPr/>
            <p:nvPr/>
          </p:nvSpPr>
          <p:spPr>
            <a:xfrm flipH="1" flipV="1">
              <a:off x="4430880" y="3745080"/>
              <a:ext cx="55440" cy="108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5" name=""/>
            <p:cNvSpPr/>
            <p:nvPr/>
          </p:nvSpPr>
          <p:spPr>
            <a:xfrm flipH="1">
              <a:off x="4343040" y="3733920"/>
              <a:ext cx="4428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6" name=""/>
            <p:cNvSpPr/>
            <p:nvPr/>
          </p:nvSpPr>
          <p:spPr>
            <a:xfrm flipH="1">
              <a:off x="4255920" y="3722760"/>
              <a:ext cx="4464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7" name=""/>
            <p:cNvSpPr/>
            <p:nvPr/>
          </p:nvSpPr>
          <p:spPr>
            <a:xfrm flipH="1" flipV="1">
              <a:off x="4168440" y="3700080"/>
              <a:ext cx="42840" cy="111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8" name=""/>
            <p:cNvSpPr/>
            <p:nvPr/>
          </p:nvSpPr>
          <p:spPr>
            <a:xfrm flipH="1" flipV="1">
              <a:off x="4080960" y="3691080"/>
              <a:ext cx="42840" cy="93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9" name=""/>
            <p:cNvSpPr/>
            <p:nvPr/>
          </p:nvSpPr>
          <p:spPr>
            <a:xfrm flipH="1" flipV="1">
              <a:off x="3992400" y="3679560"/>
              <a:ext cx="44640" cy="111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0" name=""/>
            <p:cNvSpPr/>
            <p:nvPr/>
          </p:nvSpPr>
          <p:spPr>
            <a:xfrm flipH="1">
              <a:off x="3904920" y="3668760"/>
              <a:ext cx="4428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1" name=""/>
            <p:cNvSpPr/>
            <p:nvPr/>
          </p:nvSpPr>
          <p:spPr>
            <a:xfrm flipH="1">
              <a:off x="3817800" y="3657600"/>
              <a:ext cx="4464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2" name=""/>
            <p:cNvSpPr/>
            <p:nvPr/>
          </p:nvSpPr>
          <p:spPr>
            <a:xfrm flipH="1" flipV="1">
              <a:off x="3730320" y="3634920"/>
              <a:ext cx="44280" cy="111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3" name=""/>
            <p:cNvSpPr/>
            <p:nvPr/>
          </p:nvSpPr>
          <p:spPr>
            <a:xfrm flipH="1" flipV="1">
              <a:off x="3642840" y="3623760"/>
              <a:ext cx="42840" cy="111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4" name=""/>
            <p:cNvSpPr/>
            <p:nvPr/>
          </p:nvSpPr>
          <p:spPr>
            <a:xfrm flipH="1" flipV="1">
              <a:off x="3555720" y="3613320"/>
              <a:ext cx="42840" cy="108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5" name=""/>
            <p:cNvSpPr/>
            <p:nvPr/>
          </p:nvSpPr>
          <p:spPr>
            <a:xfrm flipH="1" flipV="1">
              <a:off x="3468240" y="3601800"/>
              <a:ext cx="42840" cy="111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6" name=""/>
            <p:cNvSpPr/>
            <p:nvPr/>
          </p:nvSpPr>
          <p:spPr>
            <a:xfrm flipH="1">
              <a:off x="3379680" y="3592440"/>
              <a:ext cx="44640" cy="18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7" name=""/>
            <p:cNvSpPr/>
            <p:nvPr/>
          </p:nvSpPr>
          <p:spPr>
            <a:xfrm flipH="1">
              <a:off x="3292200" y="3581280"/>
              <a:ext cx="44280" cy="18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8" name=""/>
            <p:cNvSpPr/>
            <p:nvPr/>
          </p:nvSpPr>
          <p:spPr>
            <a:xfrm flipH="1" flipV="1">
              <a:off x="3205080" y="3559320"/>
              <a:ext cx="44640" cy="108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9" name=""/>
            <p:cNvSpPr/>
            <p:nvPr/>
          </p:nvSpPr>
          <p:spPr>
            <a:xfrm flipH="1" flipV="1">
              <a:off x="3106800" y="3547800"/>
              <a:ext cx="54000" cy="111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0" name=""/>
            <p:cNvSpPr/>
            <p:nvPr/>
          </p:nvSpPr>
          <p:spPr>
            <a:xfrm flipH="1" flipV="1">
              <a:off x="3030480" y="3536640"/>
              <a:ext cx="31680" cy="111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1" name=""/>
            <p:cNvSpPr/>
            <p:nvPr/>
          </p:nvSpPr>
          <p:spPr>
            <a:xfrm>
              <a:off x="5295960" y="3121200"/>
              <a:ext cx="4428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2" name=""/>
            <p:cNvSpPr/>
            <p:nvPr/>
          </p:nvSpPr>
          <p:spPr>
            <a:xfrm flipH="1" flipV="1">
              <a:off x="5306760" y="3339720"/>
              <a:ext cx="42840" cy="111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3" name=""/>
            <p:cNvSpPr/>
            <p:nvPr/>
          </p:nvSpPr>
          <p:spPr>
            <a:xfrm flipV="1">
              <a:off x="5307120" y="3252600"/>
              <a:ext cx="1440" cy="442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4" name=""/>
            <p:cNvSpPr/>
            <p:nvPr/>
          </p:nvSpPr>
          <p:spPr>
            <a:xfrm flipV="1">
              <a:off x="5295960" y="3165120"/>
              <a:ext cx="1440" cy="428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5" name=""/>
            <p:cNvSpPr/>
            <p:nvPr/>
          </p:nvSpPr>
          <p:spPr>
            <a:xfrm>
              <a:off x="5284800" y="3078000"/>
              <a:ext cx="11160" cy="43200"/>
            </a:xfrm>
            <a:custGeom>
              <a:avLst/>
              <a:gdLst/>
              <a:ahLst/>
              <a:rect l="l" t="t" r="r" b="b"/>
              <a:pathLst>
                <a:path w="7" h="27">
                  <a:moveTo>
                    <a:pt x="7" y="27"/>
                  </a:moveTo>
                  <a:lnTo>
                    <a:pt x="0" y="7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6" name=""/>
            <p:cNvSpPr/>
            <p:nvPr/>
          </p:nvSpPr>
          <p:spPr>
            <a:xfrm>
              <a:off x="5329080" y="3438360"/>
              <a:ext cx="20880" cy="44640"/>
            </a:xfrm>
            <a:custGeom>
              <a:avLst/>
              <a:gdLst/>
              <a:ahLst/>
              <a:rect l="l" t="t" r="r" b="b"/>
              <a:pathLst>
                <a:path w="13" h="28">
                  <a:moveTo>
                    <a:pt x="0" y="28"/>
                  </a:moveTo>
                  <a:lnTo>
                    <a:pt x="0" y="14"/>
                  </a:lnTo>
                  <a:lnTo>
                    <a:pt x="13" y="7"/>
                  </a:lnTo>
                  <a:lnTo>
                    <a:pt x="13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7" name=""/>
            <p:cNvSpPr/>
            <p:nvPr/>
          </p:nvSpPr>
          <p:spPr>
            <a:xfrm flipV="1">
              <a:off x="5349960" y="3350880"/>
              <a:ext cx="1440" cy="442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8" name=""/>
            <p:cNvSpPr/>
            <p:nvPr/>
          </p:nvSpPr>
          <p:spPr>
            <a:xfrm>
              <a:off x="5349960" y="3263760"/>
              <a:ext cx="11160" cy="42840"/>
            </a:xfrm>
            <a:custGeom>
              <a:avLst/>
              <a:gdLst/>
              <a:ahLst/>
              <a:rect l="l" t="t" r="r" b="b"/>
              <a:pathLst>
                <a:path w="7" h="27">
                  <a:moveTo>
                    <a:pt x="0" y="27"/>
                  </a:moveTo>
                  <a:lnTo>
                    <a:pt x="7" y="27"/>
                  </a:lnTo>
                  <a:lnTo>
                    <a:pt x="7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9" name=""/>
            <p:cNvSpPr/>
            <p:nvPr/>
          </p:nvSpPr>
          <p:spPr>
            <a:xfrm flipV="1">
              <a:off x="5361120" y="3176280"/>
              <a:ext cx="1440" cy="428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0" name=""/>
            <p:cNvSpPr/>
            <p:nvPr/>
          </p:nvSpPr>
          <p:spPr>
            <a:xfrm>
              <a:off x="5372280" y="3089160"/>
              <a:ext cx="1440" cy="42840"/>
            </a:xfrm>
            <a:custGeom>
              <a:avLst/>
              <a:gdLst/>
              <a:ahLst/>
              <a:rect l="l" t="t" r="r" b="b"/>
              <a:pathLst>
                <a:path w="0" h="27">
                  <a:moveTo>
                    <a:pt x="0" y="27"/>
                  </a:moveTo>
                  <a:lnTo>
                    <a:pt x="0" y="2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1" name=""/>
            <p:cNvSpPr/>
            <p:nvPr/>
          </p:nvSpPr>
          <p:spPr>
            <a:xfrm>
              <a:off x="5383080" y="3056040"/>
              <a:ext cx="44640" cy="11160"/>
            </a:xfrm>
            <a:custGeom>
              <a:avLst/>
              <a:gdLst/>
              <a:ahLst/>
              <a:rect l="l" t="t" r="r" b="b"/>
              <a:pathLst>
                <a:path w="28" h="7">
                  <a:moveTo>
                    <a:pt x="0" y="0"/>
                  </a:moveTo>
                  <a:lnTo>
                    <a:pt x="28" y="7"/>
                  </a:lnTo>
                  <a:lnTo>
                    <a:pt x="28" y="7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2" name=""/>
            <p:cNvSpPr/>
            <p:nvPr/>
          </p:nvSpPr>
          <p:spPr>
            <a:xfrm>
              <a:off x="5459400" y="3011400"/>
              <a:ext cx="22320" cy="33480"/>
            </a:xfrm>
            <a:custGeom>
              <a:avLst/>
              <a:gdLst/>
              <a:ahLst/>
              <a:rect l="l" t="t" r="r" b="b"/>
              <a:pathLst>
                <a:path w="14" h="21">
                  <a:moveTo>
                    <a:pt x="0" y="21"/>
                  </a:moveTo>
                  <a:lnTo>
                    <a:pt x="7" y="7"/>
                  </a:lnTo>
                  <a:lnTo>
                    <a:pt x="14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3" name=""/>
            <p:cNvSpPr/>
            <p:nvPr/>
          </p:nvSpPr>
          <p:spPr>
            <a:xfrm flipV="1">
              <a:off x="5504040" y="2935440"/>
              <a:ext cx="21960" cy="331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4" name=""/>
            <p:cNvSpPr/>
            <p:nvPr/>
          </p:nvSpPr>
          <p:spPr>
            <a:xfrm flipH="1">
              <a:off x="6675120" y="2836800"/>
              <a:ext cx="11160" cy="446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5" name=""/>
            <p:cNvSpPr/>
            <p:nvPr/>
          </p:nvSpPr>
          <p:spPr>
            <a:xfrm>
              <a:off x="6642000" y="2924280"/>
              <a:ext cx="11160" cy="33120"/>
            </a:xfrm>
            <a:custGeom>
              <a:avLst/>
              <a:gdLst/>
              <a:ahLst/>
              <a:rect l="l" t="t" r="r" b="b"/>
              <a:pathLst>
                <a:path w="7" h="21">
                  <a:moveTo>
                    <a:pt x="7" y="0"/>
                  </a:moveTo>
                  <a:lnTo>
                    <a:pt x="0" y="21"/>
                  </a:lnTo>
                  <a:lnTo>
                    <a:pt x="0" y="21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6" name=""/>
            <p:cNvSpPr/>
            <p:nvPr/>
          </p:nvSpPr>
          <p:spPr>
            <a:xfrm>
              <a:off x="6620040" y="3002040"/>
              <a:ext cx="10800" cy="42840"/>
            </a:xfrm>
            <a:custGeom>
              <a:avLst/>
              <a:gdLst/>
              <a:ahLst/>
              <a:rect l="l" t="t" r="r" b="b"/>
              <a:pathLst>
                <a:path w="7" h="27">
                  <a:moveTo>
                    <a:pt x="7" y="0"/>
                  </a:moveTo>
                  <a:lnTo>
                    <a:pt x="0" y="27"/>
                  </a:lnTo>
                  <a:lnTo>
                    <a:pt x="0" y="27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7" name=""/>
            <p:cNvSpPr/>
            <p:nvPr/>
          </p:nvSpPr>
          <p:spPr>
            <a:xfrm>
              <a:off x="6588000" y="3089160"/>
              <a:ext cx="20880" cy="42840"/>
            </a:xfrm>
            <a:custGeom>
              <a:avLst/>
              <a:gdLst/>
              <a:ahLst/>
              <a:rect l="l" t="t" r="r" b="b"/>
              <a:pathLst>
                <a:path w="13" h="27">
                  <a:moveTo>
                    <a:pt x="13" y="0"/>
                  </a:moveTo>
                  <a:lnTo>
                    <a:pt x="13" y="13"/>
                  </a:lnTo>
                  <a:lnTo>
                    <a:pt x="6" y="27"/>
                  </a:lnTo>
                  <a:lnTo>
                    <a:pt x="0" y="27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8" name=""/>
            <p:cNvSpPr/>
            <p:nvPr/>
          </p:nvSpPr>
          <p:spPr>
            <a:xfrm>
              <a:off x="6521400" y="3154320"/>
              <a:ext cx="33480" cy="22320"/>
            </a:xfrm>
            <a:custGeom>
              <a:avLst/>
              <a:gdLst/>
              <a:ahLst/>
              <a:rect l="l" t="t" r="r" b="b"/>
              <a:pathLst>
                <a:path w="21" h="14">
                  <a:moveTo>
                    <a:pt x="21" y="0"/>
                  </a:moveTo>
                  <a:lnTo>
                    <a:pt x="0" y="14"/>
                  </a:lnTo>
                  <a:lnTo>
                    <a:pt x="0" y="14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9" name=""/>
            <p:cNvSpPr/>
            <p:nvPr/>
          </p:nvSpPr>
          <p:spPr>
            <a:xfrm>
              <a:off x="6467400" y="3208320"/>
              <a:ext cx="22320" cy="44640"/>
            </a:xfrm>
            <a:custGeom>
              <a:avLst/>
              <a:gdLst/>
              <a:ahLst/>
              <a:rect l="l" t="t" r="r" b="b"/>
              <a:pathLst>
                <a:path w="14" h="28">
                  <a:moveTo>
                    <a:pt x="14" y="0"/>
                  </a:moveTo>
                  <a:lnTo>
                    <a:pt x="7" y="14"/>
                  </a:lnTo>
                  <a:lnTo>
                    <a:pt x="0" y="28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0" name=""/>
            <p:cNvSpPr/>
            <p:nvPr/>
          </p:nvSpPr>
          <p:spPr>
            <a:xfrm>
              <a:off x="6423120" y="3286080"/>
              <a:ext cx="21960" cy="42840"/>
            </a:xfrm>
            <a:custGeom>
              <a:avLst/>
              <a:gdLst/>
              <a:ahLst/>
              <a:rect l="l" t="t" r="r" b="b"/>
              <a:pathLst>
                <a:path w="14" h="27">
                  <a:moveTo>
                    <a:pt x="14" y="0"/>
                  </a:moveTo>
                  <a:lnTo>
                    <a:pt x="7" y="13"/>
                  </a:lnTo>
                  <a:lnTo>
                    <a:pt x="0" y="27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1" name=""/>
            <p:cNvSpPr/>
            <p:nvPr/>
          </p:nvSpPr>
          <p:spPr>
            <a:xfrm>
              <a:off x="6369120" y="3362400"/>
              <a:ext cx="20520" cy="33120"/>
            </a:xfrm>
            <a:custGeom>
              <a:avLst/>
              <a:gdLst/>
              <a:ahLst/>
              <a:rect l="l" t="t" r="r" b="b"/>
              <a:pathLst>
                <a:path w="13" h="21">
                  <a:moveTo>
                    <a:pt x="13" y="0"/>
                  </a:moveTo>
                  <a:lnTo>
                    <a:pt x="7" y="7"/>
                  </a:lnTo>
                  <a:lnTo>
                    <a:pt x="0" y="21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2" name=""/>
            <p:cNvSpPr/>
            <p:nvPr/>
          </p:nvSpPr>
          <p:spPr>
            <a:xfrm>
              <a:off x="6335640" y="3438360"/>
              <a:ext cx="11160" cy="44640"/>
            </a:xfrm>
            <a:custGeom>
              <a:avLst/>
              <a:gdLst/>
              <a:ahLst/>
              <a:rect l="l" t="t" r="r" b="b"/>
              <a:pathLst>
                <a:path w="7" h="28">
                  <a:moveTo>
                    <a:pt x="7" y="0"/>
                  </a:moveTo>
                  <a:lnTo>
                    <a:pt x="7" y="0"/>
                  </a:lnTo>
                  <a:lnTo>
                    <a:pt x="0" y="21"/>
                  </a:lnTo>
                  <a:lnTo>
                    <a:pt x="0" y="28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3" name=""/>
            <p:cNvSpPr/>
            <p:nvPr/>
          </p:nvSpPr>
          <p:spPr>
            <a:xfrm>
              <a:off x="6313320" y="3514680"/>
              <a:ext cx="11160" cy="44640"/>
            </a:xfrm>
            <a:custGeom>
              <a:avLst/>
              <a:gdLst/>
              <a:ahLst/>
              <a:rect l="l" t="t" r="r" b="b"/>
              <a:pathLst>
                <a:path w="7" h="28">
                  <a:moveTo>
                    <a:pt x="0" y="0"/>
                  </a:moveTo>
                  <a:lnTo>
                    <a:pt x="0" y="14"/>
                  </a:lnTo>
                  <a:lnTo>
                    <a:pt x="7" y="28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4" name=""/>
            <p:cNvSpPr/>
            <p:nvPr/>
          </p:nvSpPr>
          <p:spPr>
            <a:xfrm>
              <a:off x="6313320" y="3602160"/>
              <a:ext cx="11160" cy="44280"/>
            </a:xfrm>
            <a:custGeom>
              <a:avLst/>
              <a:gdLst/>
              <a:ahLst/>
              <a:rect l="l" t="t" r="r" b="b"/>
              <a:pathLst>
                <a:path w="7" h="28">
                  <a:moveTo>
                    <a:pt x="7" y="0"/>
                  </a:moveTo>
                  <a:lnTo>
                    <a:pt x="7" y="21"/>
                  </a:lnTo>
                  <a:lnTo>
                    <a:pt x="0" y="28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5" name=""/>
            <p:cNvSpPr/>
            <p:nvPr/>
          </p:nvSpPr>
          <p:spPr>
            <a:xfrm>
              <a:off x="6281640" y="3691080"/>
              <a:ext cx="20880" cy="3168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3" y="0"/>
                  </a:moveTo>
                  <a:lnTo>
                    <a:pt x="13" y="13"/>
                  </a:lnTo>
                  <a:lnTo>
                    <a:pt x="0" y="20"/>
                  </a:lnTo>
                  <a:lnTo>
                    <a:pt x="0" y="2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6" name=""/>
            <p:cNvSpPr/>
            <p:nvPr/>
          </p:nvSpPr>
          <p:spPr>
            <a:xfrm>
              <a:off x="6226200" y="3711600"/>
              <a:ext cx="11160" cy="44280"/>
            </a:xfrm>
            <a:custGeom>
              <a:avLst/>
              <a:gdLst/>
              <a:ahLst/>
              <a:rect l="l" t="t" r="r" b="b"/>
              <a:pathLst>
                <a:path w="7" h="28">
                  <a:moveTo>
                    <a:pt x="7" y="0"/>
                  </a:moveTo>
                  <a:lnTo>
                    <a:pt x="7" y="0"/>
                  </a:lnTo>
                  <a:lnTo>
                    <a:pt x="0" y="14"/>
                  </a:lnTo>
                  <a:lnTo>
                    <a:pt x="0" y="28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7" name=""/>
            <p:cNvSpPr/>
            <p:nvPr/>
          </p:nvSpPr>
          <p:spPr>
            <a:xfrm>
              <a:off x="6203880" y="3789360"/>
              <a:ext cx="11160" cy="42840"/>
            </a:xfrm>
            <a:custGeom>
              <a:avLst/>
              <a:gdLst/>
              <a:ahLst/>
              <a:rect l="l" t="t" r="r" b="b"/>
              <a:pathLst>
                <a:path w="7" h="27">
                  <a:moveTo>
                    <a:pt x="0" y="0"/>
                  </a:moveTo>
                  <a:lnTo>
                    <a:pt x="7" y="13"/>
                  </a:lnTo>
                  <a:lnTo>
                    <a:pt x="7" y="27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8" name=""/>
            <p:cNvSpPr/>
            <p:nvPr/>
          </p:nvSpPr>
          <p:spPr>
            <a:xfrm>
              <a:off x="6203880" y="3876840"/>
              <a:ext cx="1800" cy="42840"/>
            </a:xfrm>
            <a:custGeom>
              <a:avLst/>
              <a:gdLst/>
              <a:ahLst/>
              <a:rect l="l" t="t" r="r" b="b"/>
              <a:pathLst>
                <a:path w="0" h="27">
                  <a:moveTo>
                    <a:pt x="0" y="0"/>
                  </a:moveTo>
                  <a:lnTo>
                    <a:pt x="0" y="7"/>
                  </a:lnTo>
                  <a:lnTo>
                    <a:pt x="0" y="27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9" name=""/>
            <p:cNvSpPr/>
            <p:nvPr/>
          </p:nvSpPr>
          <p:spPr>
            <a:xfrm>
              <a:off x="6192720" y="3963960"/>
              <a:ext cx="1800" cy="54000"/>
            </a:xfrm>
            <a:custGeom>
              <a:avLst/>
              <a:gdLst/>
              <a:ahLst/>
              <a:rect l="l" t="t" r="r" b="b"/>
              <a:pathLst>
                <a:path w="0" h="34">
                  <a:moveTo>
                    <a:pt x="0" y="0"/>
                  </a:moveTo>
                  <a:lnTo>
                    <a:pt x="0" y="7"/>
                  </a:lnTo>
                  <a:lnTo>
                    <a:pt x="0" y="34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0" name=""/>
            <p:cNvSpPr/>
            <p:nvPr/>
          </p:nvSpPr>
          <p:spPr>
            <a:xfrm>
              <a:off x="6172200" y="4062240"/>
              <a:ext cx="9360" cy="2232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0"/>
                  </a:moveTo>
                  <a:lnTo>
                    <a:pt x="6" y="14"/>
                  </a:lnTo>
                  <a:lnTo>
                    <a:pt x="0" y="7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1" name=""/>
            <p:cNvSpPr/>
            <p:nvPr/>
          </p:nvSpPr>
          <p:spPr>
            <a:xfrm>
              <a:off x="6105600" y="4094280"/>
              <a:ext cx="33120" cy="33120"/>
            </a:xfrm>
            <a:custGeom>
              <a:avLst/>
              <a:gdLst/>
              <a:ahLst/>
              <a:rect l="l" t="t" r="r" b="b"/>
              <a:pathLst>
                <a:path w="21" h="21">
                  <a:moveTo>
                    <a:pt x="21" y="0"/>
                  </a:moveTo>
                  <a:lnTo>
                    <a:pt x="0" y="21"/>
                  </a:lnTo>
                  <a:lnTo>
                    <a:pt x="0" y="21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2" name=""/>
            <p:cNvSpPr/>
            <p:nvPr/>
          </p:nvSpPr>
          <p:spPr>
            <a:xfrm flipH="1">
              <a:off x="6051600" y="4160880"/>
              <a:ext cx="31680" cy="428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3" name=""/>
            <p:cNvSpPr/>
            <p:nvPr/>
          </p:nvSpPr>
          <p:spPr>
            <a:xfrm flipH="1">
              <a:off x="6006960" y="4237200"/>
              <a:ext cx="22320" cy="331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4" name=""/>
            <p:cNvSpPr/>
            <p:nvPr/>
          </p:nvSpPr>
          <p:spPr>
            <a:xfrm flipH="1">
              <a:off x="5952960" y="4313160"/>
              <a:ext cx="20880" cy="334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5" name=""/>
            <p:cNvSpPr/>
            <p:nvPr/>
          </p:nvSpPr>
          <p:spPr>
            <a:xfrm>
              <a:off x="5886360" y="4335480"/>
              <a:ext cx="22320" cy="2232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14" y="0"/>
                  </a:moveTo>
                  <a:lnTo>
                    <a:pt x="7" y="0"/>
                  </a:lnTo>
                  <a:lnTo>
                    <a:pt x="0" y="14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6" name=""/>
            <p:cNvSpPr/>
            <p:nvPr/>
          </p:nvSpPr>
          <p:spPr>
            <a:xfrm>
              <a:off x="5854680" y="4400640"/>
              <a:ext cx="20520" cy="44280"/>
            </a:xfrm>
            <a:custGeom>
              <a:avLst/>
              <a:gdLst/>
              <a:ahLst/>
              <a:rect l="l" t="t" r="r" b="b"/>
              <a:pathLst>
                <a:path w="13" h="28">
                  <a:moveTo>
                    <a:pt x="13" y="0"/>
                  </a:moveTo>
                  <a:lnTo>
                    <a:pt x="7" y="7"/>
                  </a:lnTo>
                  <a:lnTo>
                    <a:pt x="0" y="28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7" name=""/>
            <p:cNvSpPr/>
            <p:nvPr/>
          </p:nvSpPr>
          <p:spPr>
            <a:xfrm flipH="1">
              <a:off x="5832000" y="4487760"/>
              <a:ext cx="11160" cy="446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8" name=""/>
            <p:cNvSpPr/>
            <p:nvPr/>
          </p:nvSpPr>
          <p:spPr>
            <a:xfrm flipH="1">
              <a:off x="5798880" y="4565520"/>
              <a:ext cx="21960" cy="428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9" name=""/>
            <p:cNvSpPr/>
            <p:nvPr/>
          </p:nvSpPr>
          <p:spPr>
            <a:xfrm flipH="1">
              <a:off x="5776560" y="4653000"/>
              <a:ext cx="11160" cy="428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0" name=""/>
            <p:cNvSpPr/>
            <p:nvPr/>
          </p:nvSpPr>
          <p:spPr>
            <a:xfrm flipH="1">
              <a:off x="5744880" y="4740120"/>
              <a:ext cx="11160" cy="428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1" name=""/>
            <p:cNvSpPr/>
            <p:nvPr/>
          </p:nvSpPr>
          <p:spPr>
            <a:xfrm flipH="1">
              <a:off x="5711760" y="4827600"/>
              <a:ext cx="22320" cy="334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2" name=""/>
            <p:cNvSpPr/>
            <p:nvPr/>
          </p:nvSpPr>
          <p:spPr>
            <a:xfrm flipH="1">
              <a:off x="5689080" y="4903920"/>
              <a:ext cx="11160" cy="442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3" name=""/>
            <p:cNvSpPr/>
            <p:nvPr/>
          </p:nvSpPr>
          <p:spPr>
            <a:xfrm flipH="1">
              <a:off x="5657760" y="4991040"/>
              <a:ext cx="20880" cy="446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4" name=""/>
            <p:cNvSpPr/>
            <p:nvPr/>
          </p:nvSpPr>
          <p:spPr>
            <a:xfrm>
              <a:off x="5799240" y="2662200"/>
              <a:ext cx="44280" cy="111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5" name=""/>
            <p:cNvSpPr/>
            <p:nvPr/>
          </p:nvSpPr>
          <p:spPr>
            <a:xfrm>
              <a:off x="5886360" y="2673360"/>
              <a:ext cx="4464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6" name=""/>
            <p:cNvSpPr/>
            <p:nvPr/>
          </p:nvSpPr>
          <p:spPr>
            <a:xfrm>
              <a:off x="5973840" y="2673360"/>
              <a:ext cx="4428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7" name=""/>
            <p:cNvSpPr/>
            <p:nvPr/>
          </p:nvSpPr>
          <p:spPr>
            <a:xfrm>
              <a:off x="6073920" y="2684520"/>
              <a:ext cx="31680" cy="11160"/>
            </a:xfrm>
            <a:custGeom>
              <a:avLst/>
              <a:gdLst/>
              <a:ahLst/>
              <a:rect l="l" t="t" r="r" b="b"/>
              <a:pathLst>
                <a:path w="20" h="7">
                  <a:moveTo>
                    <a:pt x="0" y="0"/>
                  </a:moveTo>
                  <a:lnTo>
                    <a:pt x="0" y="0"/>
                  </a:lnTo>
                  <a:lnTo>
                    <a:pt x="20" y="7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8" name=""/>
            <p:cNvSpPr/>
            <p:nvPr/>
          </p:nvSpPr>
          <p:spPr>
            <a:xfrm>
              <a:off x="6149880" y="2716200"/>
              <a:ext cx="42840" cy="223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9" name=""/>
            <p:cNvSpPr/>
            <p:nvPr/>
          </p:nvSpPr>
          <p:spPr>
            <a:xfrm>
              <a:off x="6226200" y="2749680"/>
              <a:ext cx="44280" cy="219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0" name=""/>
            <p:cNvSpPr/>
            <p:nvPr/>
          </p:nvSpPr>
          <p:spPr>
            <a:xfrm>
              <a:off x="6313320" y="2793960"/>
              <a:ext cx="44640" cy="111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1" name=""/>
            <p:cNvSpPr/>
            <p:nvPr/>
          </p:nvSpPr>
          <p:spPr>
            <a:xfrm>
              <a:off x="6389640" y="2825640"/>
              <a:ext cx="44640" cy="223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2" name=""/>
            <p:cNvSpPr/>
            <p:nvPr/>
          </p:nvSpPr>
          <p:spPr>
            <a:xfrm>
              <a:off x="6478560" y="2859120"/>
              <a:ext cx="31680" cy="223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3" name=""/>
            <p:cNvSpPr/>
            <p:nvPr/>
          </p:nvSpPr>
          <p:spPr>
            <a:xfrm>
              <a:off x="6554880" y="2836800"/>
              <a:ext cx="33120" cy="33480"/>
            </a:xfrm>
            <a:custGeom>
              <a:avLst/>
              <a:gdLst/>
              <a:ahLst/>
              <a:rect l="l" t="t" r="r" b="b"/>
              <a:pathLst>
                <a:path w="21" h="21">
                  <a:moveTo>
                    <a:pt x="0" y="21"/>
                  </a:moveTo>
                  <a:lnTo>
                    <a:pt x="14" y="0"/>
                  </a:lnTo>
                  <a:lnTo>
                    <a:pt x="21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4" name=""/>
            <p:cNvSpPr/>
            <p:nvPr/>
          </p:nvSpPr>
          <p:spPr>
            <a:xfrm>
              <a:off x="6630840" y="2836800"/>
              <a:ext cx="44640" cy="18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5" name=""/>
            <p:cNvSpPr/>
            <p:nvPr/>
          </p:nvSpPr>
          <p:spPr>
            <a:xfrm>
              <a:off x="6062760" y="2684520"/>
              <a:ext cx="1440" cy="428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6" name=""/>
            <p:cNvSpPr/>
            <p:nvPr/>
          </p:nvSpPr>
          <p:spPr>
            <a:xfrm>
              <a:off x="6051600" y="2771640"/>
              <a:ext cx="1440" cy="42840"/>
            </a:xfrm>
            <a:custGeom>
              <a:avLst/>
              <a:gdLst/>
              <a:ahLst/>
              <a:rect l="l" t="t" r="r" b="b"/>
              <a:pathLst>
                <a:path w="0" h="27">
                  <a:moveTo>
                    <a:pt x="0" y="0"/>
                  </a:moveTo>
                  <a:lnTo>
                    <a:pt x="0" y="27"/>
                  </a:lnTo>
                  <a:lnTo>
                    <a:pt x="0" y="27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7" name=""/>
            <p:cNvSpPr/>
            <p:nvPr/>
          </p:nvSpPr>
          <p:spPr>
            <a:xfrm flipH="1">
              <a:off x="6028920" y="2859120"/>
              <a:ext cx="11160" cy="442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8" name=""/>
            <p:cNvSpPr/>
            <p:nvPr/>
          </p:nvSpPr>
          <p:spPr>
            <a:xfrm>
              <a:off x="5996160" y="2946240"/>
              <a:ext cx="10800" cy="44640"/>
            </a:xfrm>
            <a:custGeom>
              <a:avLst/>
              <a:gdLst/>
              <a:ahLst/>
              <a:rect l="l" t="t" r="r" b="b"/>
              <a:pathLst>
                <a:path w="7" h="28">
                  <a:moveTo>
                    <a:pt x="7" y="0"/>
                  </a:moveTo>
                  <a:lnTo>
                    <a:pt x="7" y="0"/>
                  </a:lnTo>
                  <a:lnTo>
                    <a:pt x="0" y="21"/>
                  </a:lnTo>
                  <a:lnTo>
                    <a:pt x="0" y="28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9" name=""/>
            <p:cNvSpPr/>
            <p:nvPr/>
          </p:nvSpPr>
          <p:spPr>
            <a:xfrm>
              <a:off x="5973840" y="3022560"/>
              <a:ext cx="11160" cy="44640"/>
            </a:xfrm>
            <a:custGeom>
              <a:avLst/>
              <a:gdLst/>
              <a:ahLst/>
              <a:rect l="l" t="t" r="r" b="b"/>
              <a:pathLst>
                <a:path w="7" h="28">
                  <a:moveTo>
                    <a:pt x="7" y="0"/>
                  </a:moveTo>
                  <a:lnTo>
                    <a:pt x="0" y="7"/>
                  </a:lnTo>
                  <a:lnTo>
                    <a:pt x="0" y="28"/>
                  </a:lnTo>
                  <a:lnTo>
                    <a:pt x="0" y="28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0" name=""/>
            <p:cNvSpPr/>
            <p:nvPr/>
          </p:nvSpPr>
          <p:spPr>
            <a:xfrm>
              <a:off x="5973840" y="3121200"/>
              <a:ext cx="22320" cy="33120"/>
            </a:xfrm>
            <a:custGeom>
              <a:avLst/>
              <a:gdLst/>
              <a:ahLst/>
              <a:rect l="l" t="t" r="r" b="b"/>
              <a:pathLst>
                <a:path w="14" h="21">
                  <a:moveTo>
                    <a:pt x="0" y="0"/>
                  </a:moveTo>
                  <a:lnTo>
                    <a:pt x="7" y="7"/>
                  </a:lnTo>
                  <a:lnTo>
                    <a:pt x="7" y="7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4" y="21"/>
                  </a:lnTo>
                  <a:lnTo>
                    <a:pt x="14" y="21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1" name=""/>
            <p:cNvSpPr/>
            <p:nvPr/>
          </p:nvSpPr>
          <p:spPr>
            <a:xfrm>
              <a:off x="5952960" y="3198960"/>
              <a:ext cx="32040" cy="316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20" y="0"/>
                  </a:moveTo>
                  <a:lnTo>
                    <a:pt x="20" y="6"/>
                  </a:lnTo>
                  <a:lnTo>
                    <a:pt x="13" y="6"/>
                  </a:lnTo>
                  <a:lnTo>
                    <a:pt x="0" y="2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2" name=""/>
            <p:cNvSpPr/>
            <p:nvPr/>
          </p:nvSpPr>
          <p:spPr>
            <a:xfrm>
              <a:off x="5897520" y="3263760"/>
              <a:ext cx="44640" cy="11160"/>
            </a:xfrm>
            <a:custGeom>
              <a:avLst/>
              <a:gdLst/>
              <a:ahLst/>
              <a:rect l="l" t="t" r="r" b="b"/>
              <a:pathLst>
                <a:path w="28" h="7">
                  <a:moveTo>
                    <a:pt x="28" y="0"/>
                  </a:moveTo>
                  <a:lnTo>
                    <a:pt x="14" y="7"/>
                  </a:lnTo>
                  <a:lnTo>
                    <a:pt x="0" y="7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3" name=""/>
            <p:cNvSpPr/>
            <p:nvPr/>
          </p:nvSpPr>
          <p:spPr>
            <a:xfrm>
              <a:off x="5821200" y="3263760"/>
              <a:ext cx="33480" cy="11160"/>
            </a:xfrm>
            <a:custGeom>
              <a:avLst/>
              <a:gdLst/>
              <a:ahLst/>
              <a:rect l="l" t="t" r="r" b="b"/>
              <a:pathLst>
                <a:path w="21" h="7">
                  <a:moveTo>
                    <a:pt x="21" y="7"/>
                  </a:moveTo>
                  <a:lnTo>
                    <a:pt x="14" y="7"/>
                  </a:lnTo>
                  <a:lnTo>
                    <a:pt x="0" y="0"/>
                  </a:lnTo>
                  <a:lnTo>
                    <a:pt x="0" y="7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4" name=""/>
            <p:cNvSpPr/>
            <p:nvPr/>
          </p:nvSpPr>
          <p:spPr>
            <a:xfrm>
              <a:off x="5776920" y="3317760"/>
              <a:ext cx="22320" cy="33480"/>
            </a:xfrm>
            <a:custGeom>
              <a:avLst/>
              <a:gdLst/>
              <a:ahLst/>
              <a:rect l="l" t="t" r="r" b="b"/>
              <a:pathLst>
                <a:path w="14" h="21">
                  <a:moveTo>
                    <a:pt x="14" y="0"/>
                  </a:moveTo>
                  <a:lnTo>
                    <a:pt x="0" y="7"/>
                  </a:lnTo>
                  <a:lnTo>
                    <a:pt x="0" y="21"/>
                  </a:lnTo>
                  <a:lnTo>
                    <a:pt x="0" y="21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5" name=""/>
            <p:cNvSpPr/>
            <p:nvPr/>
          </p:nvSpPr>
          <p:spPr>
            <a:xfrm>
              <a:off x="5765760" y="3395520"/>
              <a:ext cx="22320" cy="20880"/>
            </a:xfrm>
            <a:custGeom>
              <a:avLst/>
              <a:gdLst/>
              <a:ahLst/>
              <a:rect l="l" t="t" r="r" b="b"/>
              <a:pathLst>
                <a:path w="14" h="13">
                  <a:moveTo>
                    <a:pt x="14" y="0"/>
                  </a:moveTo>
                  <a:lnTo>
                    <a:pt x="14" y="0"/>
                  </a:lnTo>
                  <a:lnTo>
                    <a:pt x="14" y="13"/>
                  </a:lnTo>
                  <a:lnTo>
                    <a:pt x="0" y="13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6" name=""/>
            <p:cNvSpPr/>
            <p:nvPr/>
          </p:nvSpPr>
          <p:spPr>
            <a:xfrm>
              <a:off x="5711760" y="3438360"/>
              <a:ext cx="22320" cy="44640"/>
            </a:xfrm>
            <a:custGeom>
              <a:avLst/>
              <a:gdLst/>
              <a:ahLst/>
              <a:rect l="l" t="t" r="r" b="b"/>
              <a:pathLst>
                <a:path w="14" h="28">
                  <a:moveTo>
                    <a:pt x="14" y="0"/>
                  </a:moveTo>
                  <a:lnTo>
                    <a:pt x="7" y="14"/>
                  </a:lnTo>
                  <a:lnTo>
                    <a:pt x="0" y="28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7" name=""/>
            <p:cNvSpPr/>
            <p:nvPr/>
          </p:nvSpPr>
          <p:spPr>
            <a:xfrm>
              <a:off x="5657760" y="3514680"/>
              <a:ext cx="31680" cy="44640"/>
            </a:xfrm>
            <a:custGeom>
              <a:avLst/>
              <a:gdLst/>
              <a:ahLst/>
              <a:rect l="l" t="t" r="r" b="b"/>
              <a:pathLst>
                <a:path w="20" h="28">
                  <a:moveTo>
                    <a:pt x="20" y="0"/>
                  </a:moveTo>
                  <a:lnTo>
                    <a:pt x="13" y="14"/>
                  </a:lnTo>
                  <a:lnTo>
                    <a:pt x="0" y="28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8" name=""/>
            <p:cNvSpPr/>
            <p:nvPr/>
          </p:nvSpPr>
          <p:spPr>
            <a:xfrm>
              <a:off x="5602320" y="3537000"/>
              <a:ext cx="33480" cy="33120"/>
            </a:xfrm>
            <a:custGeom>
              <a:avLst/>
              <a:gdLst/>
              <a:ahLst/>
              <a:rect l="l" t="t" r="r" b="b"/>
              <a:pathLst>
                <a:path w="21" h="21">
                  <a:moveTo>
                    <a:pt x="21" y="21"/>
                  </a:moveTo>
                  <a:lnTo>
                    <a:pt x="7" y="14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9" name=""/>
            <p:cNvSpPr/>
            <p:nvPr/>
          </p:nvSpPr>
          <p:spPr>
            <a:xfrm flipH="1" flipV="1">
              <a:off x="5525640" y="3503160"/>
              <a:ext cx="42840" cy="111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0" name=""/>
            <p:cNvSpPr/>
            <p:nvPr/>
          </p:nvSpPr>
          <p:spPr>
            <a:xfrm flipH="1" flipV="1">
              <a:off x="5438520" y="3494160"/>
              <a:ext cx="42840" cy="93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1" name=""/>
            <p:cNvSpPr/>
            <p:nvPr/>
          </p:nvSpPr>
          <p:spPr>
            <a:xfrm flipH="1">
              <a:off x="5349600" y="3494160"/>
              <a:ext cx="4428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2" name=""/>
            <p:cNvSpPr/>
            <p:nvPr/>
          </p:nvSpPr>
          <p:spPr>
            <a:xfrm>
              <a:off x="5329080" y="3503520"/>
              <a:ext cx="1800" cy="446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3" name=""/>
            <p:cNvSpPr/>
            <p:nvPr/>
          </p:nvSpPr>
          <p:spPr>
            <a:xfrm>
              <a:off x="5273640" y="3592440"/>
              <a:ext cx="44640" cy="1800"/>
            </a:xfrm>
            <a:custGeom>
              <a:avLst/>
              <a:gdLst/>
              <a:ahLst/>
              <a:rect l="l" t="t" r="r" b="b"/>
              <a:pathLst>
                <a:path w="28" h="0">
                  <a:moveTo>
                    <a:pt x="28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4" name=""/>
            <p:cNvSpPr/>
            <p:nvPr/>
          </p:nvSpPr>
          <p:spPr>
            <a:xfrm>
              <a:off x="5273640" y="3635280"/>
              <a:ext cx="1800" cy="446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5" name=""/>
            <p:cNvSpPr/>
            <p:nvPr/>
          </p:nvSpPr>
          <p:spPr>
            <a:xfrm>
              <a:off x="5208480" y="3679920"/>
              <a:ext cx="33480" cy="20520"/>
            </a:xfrm>
            <a:custGeom>
              <a:avLst/>
              <a:gdLst/>
              <a:ahLst/>
              <a:rect l="l" t="t" r="r" b="b"/>
              <a:pathLst>
                <a:path w="21" h="13">
                  <a:moveTo>
                    <a:pt x="21" y="7"/>
                  </a:moveTo>
                  <a:lnTo>
                    <a:pt x="0" y="0"/>
                  </a:lnTo>
                  <a:lnTo>
                    <a:pt x="0" y="13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6" name=""/>
            <p:cNvSpPr/>
            <p:nvPr/>
          </p:nvSpPr>
          <p:spPr>
            <a:xfrm>
              <a:off x="4924440" y="3317760"/>
              <a:ext cx="20520" cy="33480"/>
            </a:xfrm>
            <a:custGeom>
              <a:avLst/>
              <a:gdLst/>
              <a:ahLst/>
              <a:rect l="l" t="t" r="r" b="b"/>
              <a:pathLst>
                <a:path w="13" h="21">
                  <a:moveTo>
                    <a:pt x="13" y="21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7" name=""/>
            <p:cNvSpPr/>
            <p:nvPr/>
          </p:nvSpPr>
          <p:spPr>
            <a:xfrm>
              <a:off x="4913280" y="3230640"/>
              <a:ext cx="1800" cy="44280"/>
            </a:xfrm>
            <a:custGeom>
              <a:avLst/>
              <a:gdLst/>
              <a:ahLst/>
              <a:rect l="l" t="t" r="r" b="b"/>
              <a:pathLst>
                <a:path w="0" h="28">
                  <a:moveTo>
                    <a:pt x="0" y="28"/>
                  </a:moveTo>
                  <a:lnTo>
                    <a:pt x="0" y="7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8" name=""/>
            <p:cNvSpPr/>
            <p:nvPr/>
          </p:nvSpPr>
          <p:spPr>
            <a:xfrm>
              <a:off x="4913280" y="3143160"/>
              <a:ext cx="1800" cy="44640"/>
            </a:xfrm>
            <a:custGeom>
              <a:avLst/>
              <a:gdLst/>
              <a:ahLst/>
              <a:rect l="l" t="t" r="r" b="b"/>
              <a:pathLst>
                <a:path w="0" h="28">
                  <a:moveTo>
                    <a:pt x="0" y="28"/>
                  </a:moveTo>
                  <a:lnTo>
                    <a:pt x="0" y="28"/>
                  </a:lnTo>
                  <a:lnTo>
                    <a:pt x="0" y="14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9" name=""/>
            <p:cNvSpPr/>
            <p:nvPr/>
          </p:nvSpPr>
          <p:spPr>
            <a:xfrm>
              <a:off x="4924440" y="3056040"/>
              <a:ext cx="1440" cy="44280"/>
            </a:xfrm>
            <a:custGeom>
              <a:avLst/>
              <a:gdLst/>
              <a:ahLst/>
              <a:rect l="l" t="t" r="r" b="b"/>
              <a:pathLst>
                <a:path w="0" h="28">
                  <a:moveTo>
                    <a:pt x="0" y="28"/>
                  </a:moveTo>
                  <a:lnTo>
                    <a:pt x="0" y="21"/>
                  </a:lnTo>
                  <a:lnTo>
                    <a:pt x="0" y="7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0" name=""/>
            <p:cNvSpPr/>
            <p:nvPr/>
          </p:nvSpPr>
          <p:spPr>
            <a:xfrm>
              <a:off x="4869000" y="2990880"/>
              <a:ext cx="33120" cy="20520"/>
            </a:xfrm>
            <a:custGeom>
              <a:avLst/>
              <a:gdLst/>
              <a:ahLst/>
              <a:rect l="l" t="t" r="r" b="b"/>
              <a:pathLst>
                <a:path w="21" h="13">
                  <a:moveTo>
                    <a:pt x="21" y="13"/>
                  </a:moveTo>
                  <a:lnTo>
                    <a:pt x="0" y="7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1" name=""/>
            <p:cNvSpPr/>
            <p:nvPr/>
          </p:nvSpPr>
          <p:spPr>
            <a:xfrm>
              <a:off x="4815000" y="2913120"/>
              <a:ext cx="20520" cy="44280"/>
            </a:xfrm>
            <a:custGeom>
              <a:avLst/>
              <a:gdLst/>
              <a:ahLst/>
              <a:rect l="l" t="t" r="r" b="b"/>
              <a:pathLst>
                <a:path w="13" h="28">
                  <a:moveTo>
                    <a:pt x="13" y="28"/>
                  </a:moveTo>
                  <a:lnTo>
                    <a:pt x="7" y="7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2" name=""/>
            <p:cNvSpPr/>
            <p:nvPr/>
          </p:nvSpPr>
          <p:spPr>
            <a:xfrm>
              <a:off x="4759200" y="2847960"/>
              <a:ext cx="33480" cy="33480"/>
            </a:xfrm>
            <a:custGeom>
              <a:avLst/>
              <a:gdLst/>
              <a:ahLst/>
              <a:rect l="l" t="t" r="r" b="b"/>
              <a:pathLst>
                <a:path w="21" h="21">
                  <a:moveTo>
                    <a:pt x="21" y="21"/>
                  </a:moveTo>
                  <a:lnTo>
                    <a:pt x="14" y="14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3" name=""/>
            <p:cNvSpPr/>
            <p:nvPr/>
          </p:nvSpPr>
          <p:spPr>
            <a:xfrm flipH="1" flipV="1">
              <a:off x="4705200" y="2782800"/>
              <a:ext cx="20880" cy="316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4" name=""/>
            <p:cNvSpPr/>
            <p:nvPr/>
          </p:nvSpPr>
          <p:spPr>
            <a:xfrm>
              <a:off x="4649760" y="2716200"/>
              <a:ext cx="22320" cy="33480"/>
            </a:xfrm>
            <a:custGeom>
              <a:avLst/>
              <a:gdLst/>
              <a:ahLst/>
              <a:rect l="l" t="t" r="r" b="b"/>
              <a:pathLst>
                <a:path w="14" h="21">
                  <a:moveTo>
                    <a:pt x="14" y="21"/>
                  </a:moveTo>
                  <a:lnTo>
                    <a:pt x="7" y="21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5" name=""/>
            <p:cNvSpPr/>
            <p:nvPr/>
          </p:nvSpPr>
          <p:spPr>
            <a:xfrm>
              <a:off x="4584600" y="2662200"/>
              <a:ext cx="33480" cy="11160"/>
            </a:xfrm>
            <a:custGeom>
              <a:avLst/>
              <a:gdLst/>
              <a:ahLst/>
              <a:rect l="l" t="t" r="r" b="b"/>
              <a:pathLst>
                <a:path w="21" h="7">
                  <a:moveTo>
                    <a:pt x="21" y="7"/>
                  </a:moveTo>
                  <a:lnTo>
                    <a:pt x="14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6" name=""/>
            <p:cNvSpPr/>
            <p:nvPr/>
          </p:nvSpPr>
          <p:spPr>
            <a:xfrm flipH="1" flipV="1">
              <a:off x="5110200" y="3646440"/>
              <a:ext cx="22320" cy="446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7" name=""/>
            <p:cNvSpPr/>
            <p:nvPr/>
          </p:nvSpPr>
          <p:spPr>
            <a:xfrm>
              <a:off x="5076720" y="3570120"/>
              <a:ext cx="11160" cy="32040"/>
            </a:xfrm>
            <a:custGeom>
              <a:avLst/>
              <a:gdLst/>
              <a:ahLst/>
              <a:rect l="l" t="t" r="r" b="b"/>
              <a:pathLst>
                <a:path w="7" h="20">
                  <a:moveTo>
                    <a:pt x="7" y="20"/>
                  </a:moveTo>
                  <a:lnTo>
                    <a:pt x="0" y="7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8" name=""/>
            <p:cNvSpPr/>
            <p:nvPr/>
          </p:nvSpPr>
          <p:spPr>
            <a:xfrm>
              <a:off x="5033880" y="3483000"/>
              <a:ext cx="20880" cy="42840"/>
            </a:xfrm>
            <a:custGeom>
              <a:avLst/>
              <a:gdLst/>
              <a:ahLst/>
              <a:rect l="l" t="t" r="r" b="b"/>
              <a:pathLst>
                <a:path w="13" h="27">
                  <a:moveTo>
                    <a:pt x="13" y="27"/>
                  </a:moveTo>
                  <a:lnTo>
                    <a:pt x="6" y="13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9" name=""/>
            <p:cNvSpPr/>
            <p:nvPr/>
          </p:nvSpPr>
          <p:spPr>
            <a:xfrm>
              <a:off x="4989600" y="3405240"/>
              <a:ext cx="33120" cy="44280"/>
            </a:xfrm>
            <a:custGeom>
              <a:avLst/>
              <a:gdLst/>
              <a:ahLst/>
              <a:rect l="l" t="t" r="r" b="b"/>
              <a:pathLst>
                <a:path w="21" h="28">
                  <a:moveTo>
                    <a:pt x="21" y="28"/>
                  </a:moveTo>
                  <a:lnTo>
                    <a:pt x="7" y="7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0" name=""/>
            <p:cNvSpPr/>
            <p:nvPr/>
          </p:nvSpPr>
          <p:spPr>
            <a:xfrm>
              <a:off x="4944960" y="3340080"/>
              <a:ext cx="11160" cy="33480"/>
            </a:xfrm>
            <a:custGeom>
              <a:avLst/>
              <a:gdLst/>
              <a:ahLst/>
              <a:rect l="l" t="t" r="r" b="b"/>
              <a:pathLst>
                <a:path w="7" h="21">
                  <a:moveTo>
                    <a:pt x="7" y="21"/>
                  </a:moveTo>
                  <a:lnTo>
                    <a:pt x="7" y="21"/>
                  </a:lnTo>
                  <a:lnTo>
                    <a:pt x="0" y="7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1" name=""/>
            <p:cNvSpPr/>
            <p:nvPr/>
          </p:nvSpPr>
          <p:spPr>
            <a:xfrm flipV="1">
              <a:off x="4956120" y="3252600"/>
              <a:ext cx="11160" cy="442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2" name=""/>
            <p:cNvSpPr/>
            <p:nvPr/>
          </p:nvSpPr>
          <p:spPr>
            <a:xfrm flipV="1">
              <a:off x="4967280" y="3154320"/>
              <a:ext cx="11160" cy="446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3" name=""/>
            <p:cNvSpPr/>
            <p:nvPr/>
          </p:nvSpPr>
          <p:spPr>
            <a:xfrm flipV="1">
              <a:off x="4978440" y="3066840"/>
              <a:ext cx="11160" cy="428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4" name=""/>
            <p:cNvSpPr/>
            <p:nvPr/>
          </p:nvSpPr>
          <p:spPr>
            <a:xfrm flipV="1">
              <a:off x="5000760" y="2979360"/>
              <a:ext cx="1440" cy="428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5" name=""/>
            <p:cNvSpPr/>
            <p:nvPr/>
          </p:nvSpPr>
          <p:spPr>
            <a:xfrm>
              <a:off x="5011560" y="2892600"/>
              <a:ext cx="11160" cy="42840"/>
            </a:xfrm>
            <a:custGeom>
              <a:avLst/>
              <a:gdLst/>
              <a:ahLst/>
              <a:rect l="l" t="t" r="r" b="b"/>
              <a:pathLst>
                <a:path w="7" h="27">
                  <a:moveTo>
                    <a:pt x="0" y="27"/>
                  </a:moveTo>
                  <a:lnTo>
                    <a:pt x="0" y="20"/>
                  </a:lnTo>
                  <a:lnTo>
                    <a:pt x="7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6" name=""/>
            <p:cNvSpPr/>
            <p:nvPr/>
          </p:nvSpPr>
          <p:spPr>
            <a:xfrm flipV="1">
              <a:off x="5022720" y="2804760"/>
              <a:ext cx="11160" cy="428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7" name=""/>
            <p:cNvSpPr/>
            <p:nvPr/>
          </p:nvSpPr>
          <p:spPr>
            <a:xfrm flipV="1">
              <a:off x="5033880" y="2716200"/>
              <a:ext cx="9720" cy="446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8" name=""/>
            <p:cNvSpPr/>
            <p:nvPr/>
          </p:nvSpPr>
          <p:spPr>
            <a:xfrm flipV="1">
              <a:off x="5054760" y="2628720"/>
              <a:ext cx="1440" cy="442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9" name=""/>
            <p:cNvSpPr/>
            <p:nvPr/>
          </p:nvSpPr>
          <p:spPr>
            <a:xfrm flipV="1">
              <a:off x="5065560" y="2541240"/>
              <a:ext cx="1800" cy="442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0" name=""/>
            <p:cNvSpPr/>
            <p:nvPr/>
          </p:nvSpPr>
          <p:spPr>
            <a:xfrm flipV="1">
              <a:off x="5076720" y="2454120"/>
              <a:ext cx="1800" cy="446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1" name=""/>
            <p:cNvSpPr/>
            <p:nvPr/>
          </p:nvSpPr>
          <p:spPr>
            <a:xfrm flipV="1">
              <a:off x="5087880" y="2366640"/>
              <a:ext cx="1800" cy="442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2" name=""/>
            <p:cNvSpPr/>
            <p:nvPr/>
          </p:nvSpPr>
          <p:spPr>
            <a:xfrm>
              <a:off x="5099040" y="2290680"/>
              <a:ext cx="22320" cy="33480"/>
            </a:xfrm>
            <a:custGeom>
              <a:avLst/>
              <a:gdLst/>
              <a:ahLst/>
              <a:rect l="l" t="t" r="r" b="b"/>
              <a:pathLst>
                <a:path w="14" h="21">
                  <a:moveTo>
                    <a:pt x="0" y="21"/>
                  </a:moveTo>
                  <a:lnTo>
                    <a:pt x="0" y="0"/>
                  </a:lnTo>
                  <a:lnTo>
                    <a:pt x="14" y="7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3" name=""/>
            <p:cNvSpPr/>
            <p:nvPr/>
          </p:nvSpPr>
          <p:spPr>
            <a:xfrm>
              <a:off x="5164200" y="2301840"/>
              <a:ext cx="44280" cy="111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4" name=""/>
            <p:cNvSpPr/>
            <p:nvPr/>
          </p:nvSpPr>
          <p:spPr>
            <a:xfrm>
              <a:off x="5251320" y="2301840"/>
              <a:ext cx="33480" cy="22320"/>
            </a:xfrm>
            <a:custGeom>
              <a:avLst/>
              <a:gdLst/>
              <a:ahLst/>
              <a:rect l="l" t="t" r="r" b="b"/>
              <a:pathLst>
                <a:path w="21" h="14">
                  <a:moveTo>
                    <a:pt x="0" y="14"/>
                  </a:moveTo>
                  <a:lnTo>
                    <a:pt x="7" y="14"/>
                  </a:lnTo>
                  <a:lnTo>
                    <a:pt x="21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5" name=""/>
            <p:cNvSpPr/>
            <p:nvPr/>
          </p:nvSpPr>
          <p:spPr>
            <a:xfrm flipV="1">
              <a:off x="5307120" y="2235240"/>
              <a:ext cx="33120" cy="331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6" name=""/>
            <p:cNvSpPr/>
            <p:nvPr/>
          </p:nvSpPr>
          <p:spPr>
            <a:xfrm>
              <a:off x="5372280" y="2203560"/>
              <a:ext cx="33120" cy="219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7" name=""/>
            <p:cNvSpPr/>
            <p:nvPr/>
          </p:nvSpPr>
          <p:spPr>
            <a:xfrm>
              <a:off x="5450040" y="2235240"/>
              <a:ext cx="42840" cy="223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8" name=""/>
            <p:cNvSpPr/>
            <p:nvPr/>
          </p:nvSpPr>
          <p:spPr>
            <a:xfrm>
              <a:off x="5526000" y="2279520"/>
              <a:ext cx="42840" cy="111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9" name=""/>
            <p:cNvSpPr/>
            <p:nvPr/>
          </p:nvSpPr>
          <p:spPr>
            <a:xfrm>
              <a:off x="5613480" y="2313000"/>
              <a:ext cx="44280" cy="20520"/>
            </a:xfrm>
            <a:custGeom>
              <a:avLst/>
              <a:gdLst/>
              <a:ahLst/>
              <a:rect l="l" t="t" r="r" b="b"/>
              <a:pathLst>
                <a:path w="28" h="13">
                  <a:moveTo>
                    <a:pt x="0" y="0"/>
                  </a:moveTo>
                  <a:lnTo>
                    <a:pt x="21" y="7"/>
                  </a:lnTo>
                  <a:lnTo>
                    <a:pt x="28" y="13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0" name=""/>
            <p:cNvSpPr/>
            <p:nvPr/>
          </p:nvSpPr>
          <p:spPr>
            <a:xfrm>
              <a:off x="5689440" y="2344680"/>
              <a:ext cx="44640" cy="22320"/>
            </a:xfrm>
            <a:custGeom>
              <a:avLst/>
              <a:gdLst/>
              <a:ahLst/>
              <a:rect l="l" t="t" r="r" b="b"/>
              <a:pathLst>
                <a:path w="28" h="14">
                  <a:moveTo>
                    <a:pt x="0" y="0"/>
                  </a:moveTo>
                  <a:lnTo>
                    <a:pt x="21" y="14"/>
                  </a:lnTo>
                  <a:lnTo>
                    <a:pt x="28" y="14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1" name=""/>
            <p:cNvSpPr/>
            <p:nvPr/>
          </p:nvSpPr>
          <p:spPr>
            <a:xfrm>
              <a:off x="5776920" y="2389320"/>
              <a:ext cx="33480" cy="21960"/>
            </a:xfrm>
            <a:custGeom>
              <a:avLst/>
              <a:gdLst/>
              <a:ahLst/>
              <a:rect l="l" t="t" r="r" b="b"/>
              <a:pathLst>
                <a:path w="21" h="14">
                  <a:moveTo>
                    <a:pt x="0" y="0"/>
                  </a:moveTo>
                  <a:lnTo>
                    <a:pt x="14" y="0"/>
                  </a:lnTo>
                  <a:lnTo>
                    <a:pt x="21" y="14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2" name=""/>
            <p:cNvSpPr/>
            <p:nvPr/>
          </p:nvSpPr>
          <p:spPr>
            <a:xfrm>
              <a:off x="5821200" y="2454120"/>
              <a:ext cx="1800" cy="44640"/>
            </a:xfrm>
            <a:custGeom>
              <a:avLst/>
              <a:gdLst/>
              <a:ahLst/>
              <a:rect l="l" t="t" r="r" b="b"/>
              <a:pathLst>
                <a:path w="0" h="28">
                  <a:moveTo>
                    <a:pt x="0" y="0"/>
                  </a:moveTo>
                  <a:lnTo>
                    <a:pt x="0" y="7"/>
                  </a:lnTo>
                  <a:lnTo>
                    <a:pt x="0" y="28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3" name=""/>
            <p:cNvSpPr/>
            <p:nvPr/>
          </p:nvSpPr>
          <p:spPr>
            <a:xfrm flipH="1">
              <a:off x="5798880" y="2541600"/>
              <a:ext cx="11160" cy="442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4" name=""/>
            <p:cNvSpPr/>
            <p:nvPr/>
          </p:nvSpPr>
          <p:spPr>
            <a:xfrm>
              <a:off x="5799240" y="2629080"/>
              <a:ext cx="1440" cy="44280"/>
            </a:xfrm>
            <a:custGeom>
              <a:avLst/>
              <a:gdLst/>
              <a:ahLst/>
              <a:rect l="l" t="t" r="r" b="b"/>
              <a:pathLst>
                <a:path w="0" h="28">
                  <a:moveTo>
                    <a:pt x="0" y="0"/>
                  </a:moveTo>
                  <a:lnTo>
                    <a:pt x="0" y="28"/>
                  </a:lnTo>
                  <a:lnTo>
                    <a:pt x="0" y="21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5" name=""/>
            <p:cNvSpPr/>
            <p:nvPr/>
          </p:nvSpPr>
          <p:spPr>
            <a:xfrm flipH="1" flipV="1">
              <a:off x="4508280" y="2650680"/>
              <a:ext cx="42840" cy="111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6" name=""/>
            <p:cNvSpPr/>
            <p:nvPr/>
          </p:nvSpPr>
          <p:spPr>
            <a:xfrm>
              <a:off x="4452840" y="2684520"/>
              <a:ext cx="33480" cy="22320"/>
            </a:xfrm>
            <a:custGeom>
              <a:avLst/>
              <a:gdLst/>
              <a:ahLst/>
              <a:rect l="l" t="t" r="r" b="b"/>
              <a:pathLst>
                <a:path w="21" h="14">
                  <a:moveTo>
                    <a:pt x="21" y="0"/>
                  </a:moveTo>
                  <a:lnTo>
                    <a:pt x="7" y="7"/>
                  </a:lnTo>
                  <a:lnTo>
                    <a:pt x="0" y="14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7" name=""/>
            <p:cNvSpPr/>
            <p:nvPr/>
          </p:nvSpPr>
          <p:spPr>
            <a:xfrm>
              <a:off x="4376880" y="2727360"/>
              <a:ext cx="31680" cy="22320"/>
            </a:xfrm>
            <a:custGeom>
              <a:avLst/>
              <a:gdLst/>
              <a:ahLst/>
              <a:rect l="l" t="t" r="r" b="b"/>
              <a:pathLst>
                <a:path w="20" h="14">
                  <a:moveTo>
                    <a:pt x="20" y="0"/>
                  </a:moveTo>
                  <a:lnTo>
                    <a:pt x="7" y="7"/>
                  </a:lnTo>
                  <a:lnTo>
                    <a:pt x="0" y="14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8" name=""/>
            <p:cNvSpPr/>
            <p:nvPr/>
          </p:nvSpPr>
          <p:spPr>
            <a:xfrm>
              <a:off x="4332240" y="2793960"/>
              <a:ext cx="33480" cy="31680"/>
            </a:xfrm>
            <a:custGeom>
              <a:avLst/>
              <a:gdLst/>
              <a:ahLst/>
              <a:rect l="l" t="t" r="r" b="b"/>
              <a:pathLst>
                <a:path w="21" h="20">
                  <a:moveTo>
                    <a:pt x="21" y="0"/>
                  </a:moveTo>
                  <a:lnTo>
                    <a:pt x="14" y="7"/>
                  </a:lnTo>
                  <a:lnTo>
                    <a:pt x="7" y="13"/>
                  </a:lnTo>
                  <a:lnTo>
                    <a:pt x="0" y="2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89" name=""/>
          <p:cNvGrpSpPr/>
          <p:nvPr/>
        </p:nvGrpSpPr>
        <p:grpSpPr>
          <a:xfrm>
            <a:off x="2013120" y="2104920"/>
            <a:ext cx="5198760" cy="4014720"/>
            <a:chOff x="2013120" y="2104920"/>
            <a:chExt cx="5198760" cy="4014720"/>
          </a:xfrm>
        </p:grpSpPr>
        <p:sp>
          <p:nvSpPr>
            <p:cNvPr id="6090" name=""/>
            <p:cNvSpPr/>
            <p:nvPr/>
          </p:nvSpPr>
          <p:spPr>
            <a:xfrm>
              <a:off x="4255920" y="2859120"/>
              <a:ext cx="44640" cy="22320"/>
            </a:xfrm>
            <a:custGeom>
              <a:avLst/>
              <a:gdLst/>
              <a:ahLst/>
              <a:rect l="l" t="t" r="r" b="b"/>
              <a:pathLst>
                <a:path w="28" h="14">
                  <a:moveTo>
                    <a:pt x="28" y="0"/>
                  </a:moveTo>
                  <a:lnTo>
                    <a:pt x="21" y="0"/>
                  </a:lnTo>
                  <a:lnTo>
                    <a:pt x="0" y="14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1" name=""/>
            <p:cNvSpPr/>
            <p:nvPr/>
          </p:nvSpPr>
          <p:spPr>
            <a:xfrm>
              <a:off x="4191120" y="2913120"/>
              <a:ext cx="42840" cy="22320"/>
            </a:xfrm>
            <a:custGeom>
              <a:avLst/>
              <a:gdLst/>
              <a:ahLst/>
              <a:rect l="l" t="t" r="r" b="b"/>
              <a:pathLst>
                <a:path w="27" h="14">
                  <a:moveTo>
                    <a:pt x="27" y="0"/>
                  </a:moveTo>
                  <a:lnTo>
                    <a:pt x="20" y="0"/>
                  </a:lnTo>
                  <a:lnTo>
                    <a:pt x="0" y="14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2" name=""/>
            <p:cNvSpPr/>
            <p:nvPr/>
          </p:nvSpPr>
          <p:spPr>
            <a:xfrm>
              <a:off x="4124160" y="2957400"/>
              <a:ext cx="33480" cy="11160"/>
            </a:xfrm>
            <a:custGeom>
              <a:avLst/>
              <a:gdLst/>
              <a:ahLst/>
              <a:rect l="l" t="t" r="r" b="b"/>
              <a:pathLst>
                <a:path w="21" h="7">
                  <a:moveTo>
                    <a:pt x="21" y="0"/>
                  </a:moveTo>
                  <a:lnTo>
                    <a:pt x="14" y="7"/>
                  </a:lnTo>
                  <a:lnTo>
                    <a:pt x="0" y="7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3" name=""/>
            <p:cNvSpPr/>
            <p:nvPr/>
          </p:nvSpPr>
          <p:spPr>
            <a:xfrm>
              <a:off x="4092480" y="2870280"/>
              <a:ext cx="9720" cy="42840"/>
            </a:xfrm>
            <a:custGeom>
              <a:avLst/>
              <a:gdLst/>
              <a:ahLst/>
              <a:rect l="l" t="t" r="r" b="b"/>
              <a:pathLst>
                <a:path w="6" h="27">
                  <a:moveTo>
                    <a:pt x="6" y="27"/>
                  </a:moveTo>
                  <a:lnTo>
                    <a:pt x="6" y="27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4" name=""/>
            <p:cNvSpPr/>
            <p:nvPr/>
          </p:nvSpPr>
          <p:spPr>
            <a:xfrm flipH="1" flipV="1">
              <a:off x="4047840" y="2870280"/>
              <a:ext cx="44280" cy="223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5" name=""/>
            <p:cNvSpPr/>
            <p:nvPr/>
          </p:nvSpPr>
          <p:spPr>
            <a:xfrm flipH="1" flipV="1">
              <a:off x="3983040" y="2814480"/>
              <a:ext cx="31680" cy="223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6" name=""/>
            <p:cNvSpPr/>
            <p:nvPr/>
          </p:nvSpPr>
          <p:spPr>
            <a:xfrm>
              <a:off x="3916440" y="2814480"/>
              <a:ext cx="33120" cy="33480"/>
            </a:xfrm>
            <a:custGeom>
              <a:avLst/>
              <a:gdLst/>
              <a:ahLst/>
              <a:rect l="l" t="t" r="r" b="b"/>
              <a:pathLst>
                <a:path w="21" h="21">
                  <a:moveTo>
                    <a:pt x="21" y="0"/>
                  </a:moveTo>
                  <a:lnTo>
                    <a:pt x="7" y="7"/>
                  </a:lnTo>
                  <a:lnTo>
                    <a:pt x="0" y="21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7" name=""/>
            <p:cNvSpPr/>
            <p:nvPr/>
          </p:nvSpPr>
          <p:spPr>
            <a:xfrm>
              <a:off x="3840120" y="2870280"/>
              <a:ext cx="44640" cy="22320"/>
            </a:xfrm>
            <a:custGeom>
              <a:avLst/>
              <a:gdLst/>
              <a:ahLst/>
              <a:rect l="l" t="t" r="r" b="b"/>
              <a:pathLst>
                <a:path w="28" h="14">
                  <a:moveTo>
                    <a:pt x="28" y="0"/>
                  </a:moveTo>
                  <a:lnTo>
                    <a:pt x="14" y="7"/>
                  </a:lnTo>
                  <a:lnTo>
                    <a:pt x="0" y="14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8" name=""/>
            <p:cNvSpPr/>
            <p:nvPr/>
          </p:nvSpPr>
          <p:spPr>
            <a:xfrm>
              <a:off x="3774960" y="2924280"/>
              <a:ext cx="32040" cy="21960"/>
            </a:xfrm>
            <a:custGeom>
              <a:avLst/>
              <a:gdLst/>
              <a:ahLst/>
              <a:rect l="l" t="t" r="r" b="b"/>
              <a:pathLst>
                <a:path w="20" h="14">
                  <a:moveTo>
                    <a:pt x="20" y="0"/>
                  </a:moveTo>
                  <a:lnTo>
                    <a:pt x="6" y="14"/>
                  </a:lnTo>
                  <a:lnTo>
                    <a:pt x="0" y="14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9" name=""/>
            <p:cNvSpPr/>
            <p:nvPr/>
          </p:nvSpPr>
          <p:spPr>
            <a:xfrm flipH="1">
              <a:off x="3730320" y="2979720"/>
              <a:ext cx="11160" cy="111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0" name=""/>
            <p:cNvSpPr/>
            <p:nvPr/>
          </p:nvSpPr>
          <p:spPr>
            <a:xfrm>
              <a:off x="3576600" y="2968560"/>
              <a:ext cx="22320" cy="416160"/>
            </a:xfrm>
            <a:custGeom>
              <a:avLst/>
              <a:gdLst/>
              <a:ahLst/>
              <a:rect l="l" t="t" r="r" b="b"/>
              <a:pathLst>
                <a:path w="14" h="262">
                  <a:moveTo>
                    <a:pt x="14" y="0"/>
                  </a:moveTo>
                  <a:lnTo>
                    <a:pt x="14" y="21"/>
                  </a:lnTo>
                  <a:lnTo>
                    <a:pt x="7" y="34"/>
                  </a:lnTo>
                  <a:lnTo>
                    <a:pt x="0" y="55"/>
                  </a:lnTo>
                  <a:lnTo>
                    <a:pt x="0" y="76"/>
                  </a:lnTo>
                  <a:lnTo>
                    <a:pt x="7" y="96"/>
                  </a:lnTo>
                  <a:lnTo>
                    <a:pt x="7" y="131"/>
                  </a:lnTo>
                  <a:lnTo>
                    <a:pt x="7" y="151"/>
                  </a:lnTo>
                  <a:lnTo>
                    <a:pt x="14" y="172"/>
                  </a:lnTo>
                  <a:lnTo>
                    <a:pt x="14" y="193"/>
                  </a:lnTo>
                  <a:lnTo>
                    <a:pt x="14" y="227"/>
                  </a:lnTo>
                  <a:lnTo>
                    <a:pt x="14" y="241"/>
                  </a:lnTo>
                  <a:lnTo>
                    <a:pt x="14" y="262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1" name=""/>
            <p:cNvSpPr/>
            <p:nvPr/>
          </p:nvSpPr>
          <p:spPr>
            <a:xfrm>
              <a:off x="3610080" y="2968560"/>
              <a:ext cx="1500120" cy="787320"/>
            </a:xfrm>
            <a:custGeom>
              <a:avLst/>
              <a:gdLst/>
              <a:ahLst/>
              <a:rect l="l" t="t" r="r" b="b"/>
              <a:pathLst>
                <a:path w="945" h="496">
                  <a:moveTo>
                    <a:pt x="945" y="496"/>
                  </a:moveTo>
                  <a:lnTo>
                    <a:pt x="876" y="468"/>
                  </a:lnTo>
                  <a:lnTo>
                    <a:pt x="759" y="434"/>
                  </a:lnTo>
                  <a:lnTo>
                    <a:pt x="641" y="386"/>
                  </a:lnTo>
                  <a:lnTo>
                    <a:pt x="593" y="337"/>
                  </a:lnTo>
                  <a:lnTo>
                    <a:pt x="531" y="310"/>
                  </a:lnTo>
                  <a:lnTo>
                    <a:pt x="455" y="255"/>
                  </a:lnTo>
                  <a:lnTo>
                    <a:pt x="379" y="193"/>
                  </a:lnTo>
                  <a:lnTo>
                    <a:pt x="338" y="158"/>
                  </a:lnTo>
                  <a:lnTo>
                    <a:pt x="310" y="138"/>
                  </a:lnTo>
                  <a:lnTo>
                    <a:pt x="255" y="76"/>
                  </a:lnTo>
                  <a:lnTo>
                    <a:pt x="235" y="62"/>
                  </a:lnTo>
                  <a:lnTo>
                    <a:pt x="104" y="27"/>
                  </a:lnTo>
                  <a:lnTo>
                    <a:pt x="55" y="7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2" name=""/>
            <p:cNvSpPr/>
            <p:nvPr/>
          </p:nvSpPr>
          <p:spPr>
            <a:xfrm>
              <a:off x="5349960" y="3340080"/>
              <a:ext cx="4428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3" name=""/>
            <p:cNvSpPr/>
            <p:nvPr/>
          </p:nvSpPr>
          <p:spPr>
            <a:xfrm>
              <a:off x="5438880" y="3340080"/>
              <a:ext cx="42840" cy="1440"/>
            </a:xfrm>
            <a:custGeom>
              <a:avLst/>
              <a:gdLst/>
              <a:ahLst/>
              <a:rect l="l" t="t" r="r" b="b"/>
              <a:pathLst>
                <a:path w="27" h="0">
                  <a:moveTo>
                    <a:pt x="0" y="0"/>
                  </a:moveTo>
                  <a:lnTo>
                    <a:pt x="27" y="0"/>
                  </a:lnTo>
                  <a:lnTo>
                    <a:pt x="27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4" name=""/>
            <p:cNvSpPr/>
            <p:nvPr/>
          </p:nvSpPr>
          <p:spPr>
            <a:xfrm>
              <a:off x="5504040" y="3274920"/>
              <a:ext cx="33120" cy="22320"/>
            </a:xfrm>
            <a:custGeom>
              <a:avLst/>
              <a:gdLst/>
              <a:ahLst/>
              <a:rect l="l" t="t" r="r" b="b"/>
              <a:pathLst>
                <a:path w="21" h="14">
                  <a:moveTo>
                    <a:pt x="0" y="14"/>
                  </a:moveTo>
                  <a:lnTo>
                    <a:pt x="14" y="0"/>
                  </a:lnTo>
                  <a:lnTo>
                    <a:pt x="21" y="7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5" name=""/>
            <p:cNvSpPr/>
            <p:nvPr/>
          </p:nvSpPr>
          <p:spPr>
            <a:xfrm>
              <a:off x="5284800" y="3056040"/>
              <a:ext cx="4428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6" name=""/>
            <p:cNvSpPr/>
            <p:nvPr/>
          </p:nvSpPr>
          <p:spPr>
            <a:xfrm>
              <a:off x="2494080" y="3691080"/>
              <a:ext cx="272880" cy="64800"/>
            </a:xfrm>
            <a:custGeom>
              <a:avLst/>
              <a:gdLst/>
              <a:ahLst/>
              <a:rect l="l" t="t" r="r" b="b"/>
              <a:pathLst>
                <a:path w="172" h="41">
                  <a:moveTo>
                    <a:pt x="172" y="13"/>
                  </a:moveTo>
                  <a:lnTo>
                    <a:pt x="165" y="13"/>
                  </a:lnTo>
                  <a:lnTo>
                    <a:pt x="152" y="13"/>
                  </a:lnTo>
                  <a:lnTo>
                    <a:pt x="131" y="6"/>
                  </a:lnTo>
                  <a:lnTo>
                    <a:pt x="124" y="0"/>
                  </a:lnTo>
                  <a:lnTo>
                    <a:pt x="110" y="0"/>
                  </a:lnTo>
                  <a:lnTo>
                    <a:pt x="103" y="0"/>
                  </a:lnTo>
                  <a:lnTo>
                    <a:pt x="96" y="6"/>
                  </a:lnTo>
                  <a:lnTo>
                    <a:pt x="90" y="20"/>
                  </a:lnTo>
                  <a:lnTo>
                    <a:pt x="83" y="27"/>
                  </a:lnTo>
                  <a:lnTo>
                    <a:pt x="76" y="27"/>
                  </a:lnTo>
                  <a:lnTo>
                    <a:pt x="55" y="34"/>
                  </a:lnTo>
                  <a:lnTo>
                    <a:pt x="0" y="41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7" name=""/>
            <p:cNvSpPr/>
            <p:nvPr/>
          </p:nvSpPr>
          <p:spPr>
            <a:xfrm>
              <a:off x="4759200" y="4324320"/>
              <a:ext cx="33480" cy="22320"/>
            </a:xfrm>
            <a:custGeom>
              <a:avLst/>
              <a:gdLst/>
              <a:ahLst/>
              <a:rect l="l" t="t" r="r" b="b"/>
              <a:pathLst>
                <a:path w="21" h="14">
                  <a:moveTo>
                    <a:pt x="0" y="14"/>
                  </a:moveTo>
                  <a:lnTo>
                    <a:pt x="21" y="7"/>
                  </a:lnTo>
                  <a:lnTo>
                    <a:pt x="21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8" name=""/>
            <p:cNvSpPr/>
            <p:nvPr/>
          </p:nvSpPr>
          <p:spPr>
            <a:xfrm flipV="1">
              <a:off x="4815000" y="4236840"/>
              <a:ext cx="11160" cy="442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9" name=""/>
            <p:cNvSpPr/>
            <p:nvPr/>
          </p:nvSpPr>
          <p:spPr>
            <a:xfrm>
              <a:off x="4792680" y="4335480"/>
              <a:ext cx="42840" cy="111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0" name=""/>
            <p:cNvSpPr/>
            <p:nvPr/>
          </p:nvSpPr>
          <p:spPr>
            <a:xfrm flipV="1">
              <a:off x="4869000" y="4313160"/>
              <a:ext cx="21960" cy="446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1" name=""/>
            <p:cNvSpPr/>
            <p:nvPr/>
          </p:nvSpPr>
          <p:spPr>
            <a:xfrm flipV="1">
              <a:off x="4902120" y="4225680"/>
              <a:ext cx="11160" cy="442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2" name=""/>
            <p:cNvSpPr/>
            <p:nvPr/>
          </p:nvSpPr>
          <p:spPr>
            <a:xfrm flipV="1">
              <a:off x="4924440" y="4138560"/>
              <a:ext cx="9360" cy="446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3" name=""/>
            <p:cNvSpPr/>
            <p:nvPr/>
          </p:nvSpPr>
          <p:spPr>
            <a:xfrm flipV="1">
              <a:off x="4398840" y="4084200"/>
              <a:ext cx="9720" cy="428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4" name=""/>
            <p:cNvSpPr/>
            <p:nvPr/>
          </p:nvSpPr>
          <p:spPr>
            <a:xfrm flipV="1">
              <a:off x="4419720" y="3995640"/>
              <a:ext cx="11160" cy="446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5" name=""/>
            <p:cNvSpPr/>
            <p:nvPr/>
          </p:nvSpPr>
          <p:spPr>
            <a:xfrm flipV="1">
              <a:off x="4452840" y="3908160"/>
              <a:ext cx="11160" cy="442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6" name=""/>
            <p:cNvSpPr/>
            <p:nvPr/>
          </p:nvSpPr>
          <p:spPr>
            <a:xfrm flipV="1">
              <a:off x="4475160" y="3831840"/>
              <a:ext cx="11160" cy="334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7" name=""/>
            <p:cNvSpPr/>
            <p:nvPr/>
          </p:nvSpPr>
          <p:spPr>
            <a:xfrm flipV="1">
              <a:off x="4497480" y="3755520"/>
              <a:ext cx="11160" cy="334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8" name=""/>
            <p:cNvSpPr/>
            <p:nvPr/>
          </p:nvSpPr>
          <p:spPr>
            <a:xfrm>
              <a:off x="4343400" y="4675320"/>
              <a:ext cx="44280" cy="93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9" name=""/>
            <p:cNvSpPr/>
            <p:nvPr/>
          </p:nvSpPr>
          <p:spPr>
            <a:xfrm flipH="1">
              <a:off x="4398480" y="4707000"/>
              <a:ext cx="9720" cy="442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0" name=""/>
            <p:cNvSpPr/>
            <p:nvPr/>
          </p:nvSpPr>
          <p:spPr>
            <a:xfrm flipH="1">
              <a:off x="4376880" y="4794120"/>
              <a:ext cx="10800" cy="446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1" name=""/>
            <p:cNvSpPr/>
            <p:nvPr/>
          </p:nvSpPr>
          <p:spPr>
            <a:xfrm>
              <a:off x="4398840" y="4861080"/>
              <a:ext cx="32040" cy="20520"/>
            </a:xfrm>
            <a:custGeom>
              <a:avLst/>
              <a:gdLst/>
              <a:ahLst/>
              <a:rect l="l" t="t" r="r" b="b"/>
              <a:pathLst>
                <a:path w="20" h="13">
                  <a:moveTo>
                    <a:pt x="0" y="0"/>
                  </a:moveTo>
                  <a:lnTo>
                    <a:pt x="6" y="7"/>
                  </a:lnTo>
                  <a:lnTo>
                    <a:pt x="20" y="13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2" name=""/>
            <p:cNvSpPr/>
            <p:nvPr/>
          </p:nvSpPr>
          <p:spPr>
            <a:xfrm>
              <a:off x="4475160" y="4903920"/>
              <a:ext cx="22320" cy="2196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0" y="0"/>
                  </a:moveTo>
                  <a:lnTo>
                    <a:pt x="14" y="7"/>
                  </a:lnTo>
                  <a:lnTo>
                    <a:pt x="0" y="14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3" name=""/>
            <p:cNvSpPr/>
            <p:nvPr/>
          </p:nvSpPr>
          <p:spPr>
            <a:xfrm flipV="1">
              <a:off x="4529160" y="5068440"/>
              <a:ext cx="44280" cy="9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4" name=""/>
            <p:cNvSpPr/>
            <p:nvPr/>
          </p:nvSpPr>
          <p:spPr>
            <a:xfrm flipH="1">
              <a:off x="4857480" y="4357800"/>
              <a:ext cx="11160" cy="428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5" name=""/>
            <p:cNvSpPr/>
            <p:nvPr/>
          </p:nvSpPr>
          <p:spPr>
            <a:xfrm flipH="1">
              <a:off x="4825800" y="4444920"/>
              <a:ext cx="20520" cy="428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6" name=""/>
            <p:cNvSpPr/>
            <p:nvPr/>
          </p:nvSpPr>
          <p:spPr>
            <a:xfrm flipH="1">
              <a:off x="4803480" y="4532400"/>
              <a:ext cx="11160" cy="442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7" name=""/>
            <p:cNvSpPr/>
            <p:nvPr/>
          </p:nvSpPr>
          <p:spPr>
            <a:xfrm>
              <a:off x="4792680" y="4619520"/>
              <a:ext cx="1440" cy="44640"/>
            </a:xfrm>
            <a:custGeom>
              <a:avLst/>
              <a:gdLst/>
              <a:ahLst/>
              <a:rect l="l" t="t" r="r" b="b"/>
              <a:pathLst>
                <a:path w="0" h="28">
                  <a:moveTo>
                    <a:pt x="0" y="0"/>
                  </a:moveTo>
                  <a:lnTo>
                    <a:pt x="0" y="21"/>
                  </a:lnTo>
                  <a:lnTo>
                    <a:pt x="0" y="28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8" name=""/>
            <p:cNvSpPr/>
            <p:nvPr/>
          </p:nvSpPr>
          <p:spPr>
            <a:xfrm>
              <a:off x="4803840" y="4707000"/>
              <a:ext cx="22320" cy="331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9" name=""/>
            <p:cNvSpPr/>
            <p:nvPr/>
          </p:nvSpPr>
          <p:spPr>
            <a:xfrm>
              <a:off x="4562640" y="4422600"/>
              <a:ext cx="21960" cy="44640"/>
            </a:xfrm>
            <a:custGeom>
              <a:avLst/>
              <a:gdLst/>
              <a:ahLst/>
              <a:rect l="l" t="t" r="r" b="b"/>
              <a:pathLst>
                <a:path w="14" h="28">
                  <a:moveTo>
                    <a:pt x="0" y="0"/>
                  </a:moveTo>
                  <a:lnTo>
                    <a:pt x="7" y="21"/>
                  </a:lnTo>
                  <a:lnTo>
                    <a:pt x="14" y="28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0" name=""/>
            <p:cNvSpPr/>
            <p:nvPr/>
          </p:nvSpPr>
          <p:spPr>
            <a:xfrm>
              <a:off x="4606920" y="4487760"/>
              <a:ext cx="1440" cy="446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1" name=""/>
            <p:cNvSpPr/>
            <p:nvPr/>
          </p:nvSpPr>
          <p:spPr>
            <a:xfrm>
              <a:off x="4618080" y="4565520"/>
              <a:ext cx="42840" cy="111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2" name=""/>
            <p:cNvSpPr/>
            <p:nvPr/>
          </p:nvSpPr>
          <p:spPr>
            <a:xfrm>
              <a:off x="4705200" y="4565520"/>
              <a:ext cx="20880" cy="3204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0" y="20"/>
                  </a:moveTo>
                  <a:lnTo>
                    <a:pt x="7" y="20"/>
                  </a:lnTo>
                  <a:lnTo>
                    <a:pt x="13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3" name=""/>
            <p:cNvSpPr/>
            <p:nvPr/>
          </p:nvSpPr>
          <p:spPr>
            <a:xfrm flipV="1">
              <a:off x="4737240" y="4478040"/>
              <a:ext cx="10800" cy="428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4" name=""/>
            <p:cNvSpPr/>
            <p:nvPr/>
          </p:nvSpPr>
          <p:spPr>
            <a:xfrm flipV="1">
              <a:off x="4759200" y="4389120"/>
              <a:ext cx="11160" cy="442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5" name=""/>
            <p:cNvSpPr/>
            <p:nvPr/>
          </p:nvSpPr>
          <p:spPr>
            <a:xfrm>
              <a:off x="4792680" y="4346640"/>
              <a:ext cx="144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6" name=""/>
            <p:cNvSpPr/>
            <p:nvPr/>
          </p:nvSpPr>
          <p:spPr>
            <a:xfrm>
              <a:off x="4497480" y="3340080"/>
              <a:ext cx="1440" cy="446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7" name=""/>
            <p:cNvSpPr/>
            <p:nvPr/>
          </p:nvSpPr>
          <p:spPr>
            <a:xfrm>
              <a:off x="4486320" y="3427560"/>
              <a:ext cx="1440" cy="442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8" name=""/>
            <p:cNvSpPr/>
            <p:nvPr/>
          </p:nvSpPr>
          <p:spPr>
            <a:xfrm flipV="1">
              <a:off x="4672080" y="3558960"/>
              <a:ext cx="22320" cy="428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9" name=""/>
            <p:cNvSpPr/>
            <p:nvPr/>
          </p:nvSpPr>
          <p:spPr>
            <a:xfrm flipV="1">
              <a:off x="4705200" y="3471480"/>
              <a:ext cx="1800" cy="428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0" name=""/>
            <p:cNvSpPr/>
            <p:nvPr/>
          </p:nvSpPr>
          <p:spPr>
            <a:xfrm flipV="1">
              <a:off x="4716360" y="3384360"/>
              <a:ext cx="1800" cy="428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1" name=""/>
            <p:cNvSpPr/>
            <p:nvPr/>
          </p:nvSpPr>
          <p:spPr>
            <a:xfrm flipV="1">
              <a:off x="4716360" y="3328560"/>
              <a:ext cx="1800" cy="111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2" name=""/>
            <p:cNvSpPr/>
            <p:nvPr/>
          </p:nvSpPr>
          <p:spPr>
            <a:xfrm flipV="1">
              <a:off x="4551480" y="3471480"/>
              <a:ext cx="11160" cy="428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3" name=""/>
            <p:cNvSpPr/>
            <p:nvPr/>
          </p:nvSpPr>
          <p:spPr>
            <a:xfrm>
              <a:off x="4573440" y="3438360"/>
              <a:ext cx="44640" cy="18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4" name=""/>
            <p:cNvSpPr/>
            <p:nvPr/>
          </p:nvSpPr>
          <p:spPr>
            <a:xfrm>
              <a:off x="4660920" y="3427560"/>
              <a:ext cx="22320" cy="2196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0" y="14"/>
                  </a:moveTo>
                  <a:lnTo>
                    <a:pt x="14" y="14"/>
                  </a:lnTo>
                  <a:lnTo>
                    <a:pt x="14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5" name=""/>
            <p:cNvSpPr/>
            <p:nvPr/>
          </p:nvSpPr>
          <p:spPr>
            <a:xfrm flipV="1">
              <a:off x="4683240" y="3373200"/>
              <a:ext cx="1440" cy="111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6" name=""/>
            <p:cNvSpPr/>
            <p:nvPr/>
          </p:nvSpPr>
          <p:spPr>
            <a:xfrm>
              <a:off x="4124160" y="2957400"/>
              <a:ext cx="33480" cy="22320"/>
            </a:xfrm>
            <a:custGeom>
              <a:avLst/>
              <a:gdLst/>
              <a:ahLst/>
              <a:rect l="l" t="t" r="r" b="b"/>
              <a:pathLst>
                <a:path w="21" h="14">
                  <a:moveTo>
                    <a:pt x="0" y="7"/>
                  </a:moveTo>
                  <a:lnTo>
                    <a:pt x="0" y="14"/>
                  </a:lnTo>
                  <a:lnTo>
                    <a:pt x="7" y="14"/>
                  </a:lnTo>
                  <a:lnTo>
                    <a:pt x="21" y="14"/>
                  </a:lnTo>
                  <a:lnTo>
                    <a:pt x="21" y="7"/>
                  </a:lnTo>
                  <a:lnTo>
                    <a:pt x="21" y="0"/>
                  </a:lnTo>
                  <a:lnTo>
                    <a:pt x="14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7" name=""/>
            <p:cNvSpPr/>
            <p:nvPr/>
          </p:nvSpPr>
          <p:spPr>
            <a:xfrm>
              <a:off x="5700600" y="2344680"/>
              <a:ext cx="33480" cy="33480"/>
            </a:xfrm>
            <a:custGeom>
              <a:avLst/>
              <a:gdLst/>
              <a:ahLst/>
              <a:rect l="l" t="t" r="r" b="b"/>
              <a:pathLst>
                <a:path w="21" h="21">
                  <a:moveTo>
                    <a:pt x="0" y="7"/>
                  </a:moveTo>
                  <a:lnTo>
                    <a:pt x="0" y="14"/>
                  </a:lnTo>
                  <a:lnTo>
                    <a:pt x="14" y="21"/>
                  </a:lnTo>
                  <a:lnTo>
                    <a:pt x="21" y="14"/>
                  </a:lnTo>
                  <a:lnTo>
                    <a:pt x="21" y="7"/>
                  </a:lnTo>
                  <a:lnTo>
                    <a:pt x="21" y="7"/>
                  </a:lnTo>
                  <a:lnTo>
                    <a:pt x="14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8" name=""/>
            <p:cNvSpPr/>
            <p:nvPr/>
          </p:nvSpPr>
          <p:spPr>
            <a:xfrm>
              <a:off x="6664320" y="2859120"/>
              <a:ext cx="42840" cy="44280"/>
            </a:xfrm>
            <a:custGeom>
              <a:avLst/>
              <a:gdLst/>
              <a:ahLst/>
              <a:rect l="l" t="t" r="r" b="b"/>
              <a:pathLst>
                <a:path w="27" h="28">
                  <a:moveTo>
                    <a:pt x="0" y="7"/>
                  </a:moveTo>
                  <a:lnTo>
                    <a:pt x="0" y="21"/>
                  </a:lnTo>
                  <a:lnTo>
                    <a:pt x="14" y="28"/>
                  </a:lnTo>
                  <a:lnTo>
                    <a:pt x="21" y="21"/>
                  </a:lnTo>
                  <a:lnTo>
                    <a:pt x="27" y="7"/>
                  </a:lnTo>
                  <a:lnTo>
                    <a:pt x="21" y="0"/>
                  </a:lnTo>
                  <a:lnTo>
                    <a:pt x="14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9" name=""/>
            <p:cNvSpPr/>
            <p:nvPr/>
          </p:nvSpPr>
          <p:spPr>
            <a:xfrm>
              <a:off x="6698160" y="2760840"/>
              <a:ext cx="15624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MAISA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0" name=""/>
            <p:cNvSpPr/>
            <p:nvPr/>
          </p:nvSpPr>
          <p:spPr>
            <a:xfrm>
              <a:off x="6055920" y="3209760"/>
              <a:ext cx="24012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Furna Feia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1" name=""/>
            <p:cNvSpPr/>
            <p:nvPr/>
          </p:nvSpPr>
          <p:spPr>
            <a:xfrm>
              <a:off x="5973840" y="3165480"/>
              <a:ext cx="100080" cy="65160"/>
            </a:xfrm>
            <a:custGeom>
              <a:avLst/>
              <a:gdLst/>
              <a:ahLst/>
              <a:rect l="l" t="t" r="r" b="b"/>
              <a:pathLst>
                <a:path w="63" h="41">
                  <a:moveTo>
                    <a:pt x="14" y="27"/>
                  </a:moveTo>
                  <a:lnTo>
                    <a:pt x="0" y="21"/>
                  </a:lnTo>
                  <a:lnTo>
                    <a:pt x="21" y="14"/>
                  </a:lnTo>
                  <a:lnTo>
                    <a:pt x="21" y="7"/>
                  </a:lnTo>
                  <a:lnTo>
                    <a:pt x="28" y="14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5" y="14"/>
                  </a:lnTo>
                  <a:lnTo>
                    <a:pt x="63" y="21"/>
                  </a:lnTo>
                  <a:lnTo>
                    <a:pt x="35" y="27"/>
                  </a:lnTo>
                  <a:lnTo>
                    <a:pt x="35" y="41"/>
                  </a:lnTo>
                  <a:lnTo>
                    <a:pt x="35" y="41"/>
                  </a:lnTo>
                  <a:lnTo>
                    <a:pt x="28" y="34"/>
                  </a:lnTo>
                  <a:lnTo>
                    <a:pt x="21" y="41"/>
                  </a:lnTo>
                  <a:lnTo>
                    <a:pt x="21" y="34"/>
                  </a:lnTo>
                  <a:lnTo>
                    <a:pt x="7" y="34"/>
                  </a:lnTo>
                  <a:lnTo>
                    <a:pt x="14" y="27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2" name=""/>
            <p:cNvSpPr/>
            <p:nvPr/>
          </p:nvSpPr>
          <p:spPr>
            <a:xfrm>
              <a:off x="5504040" y="2892600"/>
              <a:ext cx="53640" cy="31680"/>
            </a:xfrm>
            <a:custGeom>
              <a:avLst/>
              <a:gdLst/>
              <a:ahLst/>
              <a:rect l="l" t="t" r="r" b="b"/>
              <a:pathLst>
                <a:path w="34" h="20">
                  <a:moveTo>
                    <a:pt x="0" y="7"/>
                  </a:moveTo>
                  <a:lnTo>
                    <a:pt x="0" y="13"/>
                  </a:lnTo>
                  <a:lnTo>
                    <a:pt x="14" y="20"/>
                  </a:lnTo>
                  <a:lnTo>
                    <a:pt x="28" y="20"/>
                  </a:lnTo>
                  <a:lnTo>
                    <a:pt x="34" y="7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3" name=""/>
            <p:cNvSpPr/>
            <p:nvPr/>
          </p:nvSpPr>
          <p:spPr>
            <a:xfrm>
              <a:off x="5308560" y="2793960"/>
              <a:ext cx="21420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Vila Nova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4" name=""/>
            <p:cNvSpPr/>
            <p:nvPr/>
          </p:nvSpPr>
          <p:spPr>
            <a:xfrm>
              <a:off x="5329080" y="3263760"/>
              <a:ext cx="54000" cy="33480"/>
            </a:xfrm>
            <a:custGeom>
              <a:avLst/>
              <a:gdLst/>
              <a:ahLst/>
              <a:rect l="l" t="t" r="r" b="b"/>
              <a:pathLst>
                <a:path w="34" h="21">
                  <a:moveTo>
                    <a:pt x="0" y="7"/>
                  </a:moveTo>
                  <a:lnTo>
                    <a:pt x="7" y="21"/>
                  </a:lnTo>
                  <a:lnTo>
                    <a:pt x="20" y="21"/>
                  </a:lnTo>
                  <a:lnTo>
                    <a:pt x="34" y="21"/>
                  </a:lnTo>
                  <a:lnTo>
                    <a:pt x="34" y="14"/>
                  </a:lnTo>
                  <a:lnTo>
                    <a:pt x="34" y="7"/>
                  </a:lnTo>
                  <a:lnTo>
                    <a:pt x="20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5" name=""/>
            <p:cNvSpPr/>
            <p:nvPr/>
          </p:nvSpPr>
          <p:spPr>
            <a:xfrm>
              <a:off x="5202360" y="3187800"/>
              <a:ext cx="36648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Toca da Raposa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6" name=""/>
            <p:cNvSpPr/>
            <p:nvPr/>
          </p:nvSpPr>
          <p:spPr>
            <a:xfrm>
              <a:off x="6127920" y="4051440"/>
              <a:ext cx="53640" cy="33120"/>
            </a:xfrm>
            <a:custGeom>
              <a:avLst/>
              <a:gdLst/>
              <a:ahLst/>
              <a:rect l="l" t="t" r="r" b="b"/>
              <a:pathLst>
                <a:path w="34" h="21">
                  <a:moveTo>
                    <a:pt x="0" y="0"/>
                  </a:moveTo>
                  <a:lnTo>
                    <a:pt x="7" y="14"/>
                  </a:lnTo>
                  <a:lnTo>
                    <a:pt x="21" y="21"/>
                  </a:lnTo>
                  <a:lnTo>
                    <a:pt x="34" y="14"/>
                  </a:lnTo>
                  <a:lnTo>
                    <a:pt x="34" y="7"/>
                  </a:lnTo>
                  <a:lnTo>
                    <a:pt x="34" y="0"/>
                  </a:lnTo>
                  <a:lnTo>
                    <a:pt x="2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7" name=""/>
            <p:cNvSpPr/>
            <p:nvPr/>
          </p:nvSpPr>
          <p:spPr>
            <a:xfrm>
              <a:off x="6217560" y="4019400"/>
              <a:ext cx="17748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400" spc="-1" strike="noStrike">
                  <a:solidFill>
                    <a:srgbClr val="000000"/>
                  </a:solidFill>
                  <a:latin typeface="Arial"/>
                </a:rPr>
                <a:t>Juremal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8" name=""/>
            <p:cNvSpPr/>
            <p:nvPr/>
          </p:nvSpPr>
          <p:spPr>
            <a:xfrm>
              <a:off x="6469920" y="4183200"/>
              <a:ext cx="21420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Vertentes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9" name=""/>
            <p:cNvSpPr/>
            <p:nvPr/>
          </p:nvSpPr>
          <p:spPr>
            <a:xfrm>
              <a:off x="6389640" y="4237200"/>
              <a:ext cx="66600" cy="44280"/>
            </a:xfrm>
            <a:custGeom>
              <a:avLst/>
              <a:gdLst/>
              <a:ahLst/>
              <a:rect l="l" t="t" r="r" b="b"/>
              <a:pathLst>
                <a:path w="42" h="28">
                  <a:moveTo>
                    <a:pt x="0" y="7"/>
                  </a:moveTo>
                  <a:lnTo>
                    <a:pt x="7" y="21"/>
                  </a:lnTo>
                  <a:lnTo>
                    <a:pt x="21" y="28"/>
                  </a:lnTo>
                  <a:lnTo>
                    <a:pt x="42" y="28"/>
                  </a:lnTo>
                  <a:lnTo>
                    <a:pt x="42" y="14"/>
                  </a:lnTo>
                  <a:lnTo>
                    <a:pt x="42" y="7"/>
                  </a:lnTo>
                  <a:lnTo>
                    <a:pt x="28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0" name=""/>
            <p:cNvSpPr/>
            <p:nvPr/>
          </p:nvSpPr>
          <p:spPr>
            <a:xfrm>
              <a:off x="6423120" y="5362560"/>
              <a:ext cx="87120" cy="55440"/>
            </a:xfrm>
            <a:custGeom>
              <a:avLst/>
              <a:gdLst/>
              <a:ahLst/>
              <a:rect l="l" t="t" r="r" b="b"/>
              <a:pathLst>
                <a:path w="55" h="35">
                  <a:moveTo>
                    <a:pt x="0" y="7"/>
                  </a:moveTo>
                  <a:lnTo>
                    <a:pt x="7" y="28"/>
                  </a:lnTo>
                  <a:lnTo>
                    <a:pt x="28" y="35"/>
                  </a:lnTo>
                  <a:lnTo>
                    <a:pt x="48" y="28"/>
                  </a:lnTo>
                  <a:lnTo>
                    <a:pt x="55" y="14"/>
                  </a:lnTo>
                  <a:lnTo>
                    <a:pt x="48" y="7"/>
                  </a:lnTo>
                  <a:lnTo>
                    <a:pt x="35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1" name=""/>
            <p:cNvSpPr/>
            <p:nvPr/>
          </p:nvSpPr>
          <p:spPr>
            <a:xfrm>
              <a:off x="6484680" y="5288040"/>
              <a:ext cx="40320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Barreira Vermelha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2" name=""/>
            <p:cNvSpPr/>
            <p:nvPr/>
          </p:nvSpPr>
          <p:spPr>
            <a:xfrm>
              <a:off x="2988720" y="5724360"/>
              <a:ext cx="29808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Baixa Branca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3" name=""/>
            <p:cNvSpPr/>
            <p:nvPr/>
          </p:nvSpPr>
          <p:spPr>
            <a:xfrm>
              <a:off x="3073320" y="5691240"/>
              <a:ext cx="55800" cy="33120"/>
            </a:xfrm>
            <a:custGeom>
              <a:avLst/>
              <a:gdLst/>
              <a:ahLst/>
              <a:rect l="l" t="t" r="r" b="b"/>
              <a:pathLst>
                <a:path w="35" h="21">
                  <a:moveTo>
                    <a:pt x="0" y="0"/>
                  </a:moveTo>
                  <a:lnTo>
                    <a:pt x="7" y="14"/>
                  </a:lnTo>
                  <a:lnTo>
                    <a:pt x="21" y="21"/>
                  </a:lnTo>
                  <a:lnTo>
                    <a:pt x="35" y="14"/>
                  </a:lnTo>
                  <a:lnTo>
                    <a:pt x="35" y="7"/>
                  </a:lnTo>
                  <a:lnTo>
                    <a:pt x="35" y="0"/>
                  </a:lnTo>
                  <a:lnTo>
                    <a:pt x="2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4" name=""/>
            <p:cNvSpPr/>
            <p:nvPr/>
          </p:nvSpPr>
          <p:spPr>
            <a:xfrm>
              <a:off x="2865600" y="4740120"/>
              <a:ext cx="55440" cy="33480"/>
            </a:xfrm>
            <a:custGeom>
              <a:avLst/>
              <a:gdLst/>
              <a:ahLst/>
              <a:rect l="l" t="t" r="r" b="b"/>
              <a:pathLst>
                <a:path w="35" h="21">
                  <a:moveTo>
                    <a:pt x="0" y="7"/>
                  </a:moveTo>
                  <a:lnTo>
                    <a:pt x="0" y="14"/>
                  </a:lnTo>
                  <a:lnTo>
                    <a:pt x="14" y="21"/>
                  </a:lnTo>
                  <a:lnTo>
                    <a:pt x="28" y="21"/>
                  </a:lnTo>
                  <a:lnTo>
                    <a:pt x="35" y="7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5" name=""/>
            <p:cNvSpPr/>
            <p:nvPr/>
          </p:nvSpPr>
          <p:spPr>
            <a:xfrm>
              <a:off x="2833560" y="4324320"/>
              <a:ext cx="54000" cy="33480"/>
            </a:xfrm>
            <a:custGeom>
              <a:avLst/>
              <a:gdLst/>
              <a:ahLst/>
              <a:rect l="l" t="t" r="r" b="b"/>
              <a:pathLst>
                <a:path w="34" h="21">
                  <a:moveTo>
                    <a:pt x="0" y="7"/>
                  </a:moveTo>
                  <a:lnTo>
                    <a:pt x="0" y="21"/>
                  </a:lnTo>
                  <a:lnTo>
                    <a:pt x="13" y="21"/>
                  </a:lnTo>
                  <a:lnTo>
                    <a:pt x="27" y="21"/>
                  </a:lnTo>
                  <a:lnTo>
                    <a:pt x="34" y="14"/>
                  </a:lnTo>
                  <a:lnTo>
                    <a:pt x="27" y="7"/>
                  </a:lnTo>
                  <a:lnTo>
                    <a:pt x="20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6" name=""/>
            <p:cNvSpPr/>
            <p:nvPr/>
          </p:nvSpPr>
          <p:spPr>
            <a:xfrm>
              <a:off x="2900160" y="4270320"/>
              <a:ext cx="13032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400" spc="-1" strike="noStrike">
                  <a:solidFill>
                    <a:srgbClr val="000000"/>
                  </a:solidFill>
                  <a:latin typeface="Arial"/>
                </a:rPr>
                <a:t>Ubaia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7" name=""/>
            <p:cNvSpPr/>
            <p:nvPr/>
          </p:nvSpPr>
          <p:spPr>
            <a:xfrm>
              <a:off x="2922480" y="4675320"/>
              <a:ext cx="15912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Maxixe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8" name=""/>
            <p:cNvSpPr/>
            <p:nvPr/>
          </p:nvSpPr>
          <p:spPr>
            <a:xfrm>
              <a:off x="2889720" y="3232080"/>
              <a:ext cx="30996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Bom Sucesso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9" name=""/>
            <p:cNvSpPr/>
            <p:nvPr/>
          </p:nvSpPr>
          <p:spPr>
            <a:xfrm>
              <a:off x="2952720" y="3306600"/>
              <a:ext cx="55440" cy="33480"/>
            </a:xfrm>
            <a:custGeom>
              <a:avLst/>
              <a:gdLst/>
              <a:ahLst/>
              <a:rect l="l" t="t" r="r" b="b"/>
              <a:pathLst>
                <a:path w="35" h="21">
                  <a:moveTo>
                    <a:pt x="0" y="7"/>
                  </a:moveTo>
                  <a:lnTo>
                    <a:pt x="0" y="14"/>
                  </a:lnTo>
                  <a:lnTo>
                    <a:pt x="14" y="21"/>
                  </a:lnTo>
                  <a:lnTo>
                    <a:pt x="28" y="21"/>
                  </a:lnTo>
                  <a:lnTo>
                    <a:pt x="35" y="7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0" name=""/>
            <p:cNvSpPr/>
            <p:nvPr/>
          </p:nvSpPr>
          <p:spPr>
            <a:xfrm>
              <a:off x="4573440" y="4346640"/>
              <a:ext cx="54000" cy="33120"/>
            </a:xfrm>
            <a:custGeom>
              <a:avLst/>
              <a:gdLst/>
              <a:ahLst/>
              <a:rect l="l" t="t" r="r" b="b"/>
              <a:pathLst>
                <a:path w="34" h="21">
                  <a:moveTo>
                    <a:pt x="0" y="0"/>
                  </a:moveTo>
                  <a:lnTo>
                    <a:pt x="0" y="14"/>
                  </a:lnTo>
                  <a:lnTo>
                    <a:pt x="14" y="21"/>
                  </a:lnTo>
                  <a:lnTo>
                    <a:pt x="28" y="14"/>
                  </a:lnTo>
                  <a:lnTo>
                    <a:pt x="34" y="7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1" name=""/>
            <p:cNvSpPr/>
            <p:nvPr/>
          </p:nvSpPr>
          <p:spPr>
            <a:xfrm>
              <a:off x="4490280" y="4259160"/>
              <a:ext cx="25380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Catingueira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2" name=""/>
            <p:cNvSpPr/>
            <p:nvPr/>
          </p:nvSpPr>
          <p:spPr>
            <a:xfrm>
              <a:off x="5219640" y="4653000"/>
              <a:ext cx="54000" cy="31680"/>
            </a:xfrm>
            <a:custGeom>
              <a:avLst/>
              <a:gdLst/>
              <a:ahLst/>
              <a:rect l="l" t="t" r="r" b="b"/>
              <a:pathLst>
                <a:path w="34" h="20">
                  <a:moveTo>
                    <a:pt x="0" y="7"/>
                  </a:moveTo>
                  <a:lnTo>
                    <a:pt x="7" y="20"/>
                  </a:lnTo>
                  <a:lnTo>
                    <a:pt x="20" y="20"/>
                  </a:lnTo>
                  <a:lnTo>
                    <a:pt x="34" y="20"/>
                  </a:lnTo>
                  <a:lnTo>
                    <a:pt x="34" y="14"/>
                  </a:lnTo>
                  <a:lnTo>
                    <a:pt x="34" y="7"/>
                  </a:lnTo>
                  <a:lnTo>
                    <a:pt x="20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3" name=""/>
            <p:cNvSpPr/>
            <p:nvPr/>
          </p:nvSpPr>
          <p:spPr>
            <a:xfrm>
              <a:off x="5298480" y="4576680"/>
              <a:ext cx="21852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Boa Água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4" name=""/>
            <p:cNvSpPr/>
            <p:nvPr/>
          </p:nvSpPr>
          <p:spPr>
            <a:xfrm>
              <a:off x="4518000" y="5373720"/>
              <a:ext cx="55440" cy="33480"/>
            </a:xfrm>
            <a:custGeom>
              <a:avLst/>
              <a:gdLst/>
              <a:ahLst/>
              <a:rect l="l" t="t" r="r" b="b"/>
              <a:pathLst>
                <a:path w="35" h="21">
                  <a:moveTo>
                    <a:pt x="0" y="0"/>
                  </a:moveTo>
                  <a:lnTo>
                    <a:pt x="7" y="14"/>
                  </a:lnTo>
                  <a:lnTo>
                    <a:pt x="21" y="21"/>
                  </a:lnTo>
                  <a:lnTo>
                    <a:pt x="35" y="21"/>
                  </a:lnTo>
                  <a:lnTo>
                    <a:pt x="35" y="7"/>
                  </a:lnTo>
                  <a:lnTo>
                    <a:pt x="35" y="0"/>
                  </a:lnTo>
                  <a:lnTo>
                    <a:pt x="2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5" name=""/>
            <p:cNvSpPr/>
            <p:nvPr/>
          </p:nvSpPr>
          <p:spPr>
            <a:xfrm>
              <a:off x="4378680" y="5308560"/>
              <a:ext cx="14688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Canaã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6" name=""/>
            <p:cNvSpPr/>
            <p:nvPr/>
          </p:nvSpPr>
          <p:spPr>
            <a:xfrm>
              <a:off x="4202640" y="3767040"/>
              <a:ext cx="16848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400" spc="-1" strike="noStrike">
                  <a:solidFill>
                    <a:srgbClr val="000000"/>
                  </a:solidFill>
                  <a:latin typeface="Arial"/>
                </a:rPr>
                <a:t>Velame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7" name=""/>
            <p:cNvSpPr/>
            <p:nvPr/>
          </p:nvSpPr>
          <p:spPr>
            <a:xfrm>
              <a:off x="4116960" y="4019400"/>
              <a:ext cx="24012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Sumidouro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8" name=""/>
            <p:cNvSpPr/>
            <p:nvPr/>
          </p:nvSpPr>
          <p:spPr>
            <a:xfrm>
              <a:off x="5680800" y="2270160"/>
              <a:ext cx="28116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Pico Estreito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9" name=""/>
            <p:cNvSpPr/>
            <p:nvPr/>
          </p:nvSpPr>
          <p:spPr>
            <a:xfrm>
              <a:off x="4486320" y="2629080"/>
              <a:ext cx="54000" cy="33120"/>
            </a:xfrm>
            <a:custGeom>
              <a:avLst/>
              <a:gdLst/>
              <a:ahLst/>
              <a:rect l="l" t="t" r="r" b="b"/>
              <a:pathLst>
                <a:path w="34" h="21">
                  <a:moveTo>
                    <a:pt x="0" y="7"/>
                  </a:moveTo>
                  <a:lnTo>
                    <a:pt x="0" y="14"/>
                  </a:lnTo>
                  <a:lnTo>
                    <a:pt x="14" y="21"/>
                  </a:lnTo>
                  <a:lnTo>
                    <a:pt x="27" y="21"/>
                  </a:lnTo>
                  <a:lnTo>
                    <a:pt x="34" y="7"/>
                  </a:lnTo>
                  <a:lnTo>
                    <a:pt x="27" y="0"/>
                  </a:lnTo>
                  <a:lnTo>
                    <a:pt x="20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0" name=""/>
            <p:cNvSpPr/>
            <p:nvPr/>
          </p:nvSpPr>
          <p:spPr>
            <a:xfrm>
              <a:off x="4357080" y="2543040"/>
              <a:ext cx="14868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400" spc="-1" strike="noStrike">
                  <a:solidFill>
                    <a:srgbClr val="000000"/>
                  </a:solidFill>
                  <a:latin typeface="Arial"/>
                </a:rPr>
                <a:t>Lajeiro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1" name=""/>
            <p:cNvSpPr/>
            <p:nvPr/>
          </p:nvSpPr>
          <p:spPr>
            <a:xfrm>
              <a:off x="4890960" y="3022560"/>
              <a:ext cx="54000" cy="33480"/>
            </a:xfrm>
            <a:custGeom>
              <a:avLst/>
              <a:gdLst/>
              <a:ahLst/>
              <a:rect l="l" t="t" r="r" b="b"/>
              <a:pathLst>
                <a:path w="34" h="21">
                  <a:moveTo>
                    <a:pt x="0" y="7"/>
                  </a:moveTo>
                  <a:lnTo>
                    <a:pt x="7" y="21"/>
                  </a:lnTo>
                  <a:lnTo>
                    <a:pt x="21" y="21"/>
                  </a:lnTo>
                  <a:lnTo>
                    <a:pt x="34" y="21"/>
                  </a:lnTo>
                  <a:lnTo>
                    <a:pt x="34" y="7"/>
                  </a:lnTo>
                  <a:lnTo>
                    <a:pt x="27" y="7"/>
                  </a:lnTo>
                  <a:lnTo>
                    <a:pt x="21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2" name=""/>
            <p:cNvSpPr/>
            <p:nvPr/>
          </p:nvSpPr>
          <p:spPr>
            <a:xfrm>
              <a:off x="4534920" y="3035160"/>
              <a:ext cx="34524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Furna de Pedra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3" name=""/>
            <p:cNvSpPr/>
            <p:nvPr/>
          </p:nvSpPr>
          <p:spPr>
            <a:xfrm>
              <a:off x="4075560" y="2990880"/>
              <a:ext cx="26424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Formigueiro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4" name=""/>
            <p:cNvSpPr/>
            <p:nvPr/>
          </p:nvSpPr>
          <p:spPr>
            <a:xfrm>
              <a:off x="4387680" y="3405240"/>
              <a:ext cx="54000" cy="44280"/>
            </a:xfrm>
            <a:custGeom>
              <a:avLst/>
              <a:gdLst/>
              <a:ahLst/>
              <a:rect l="l" t="t" r="r" b="b"/>
              <a:pathLst>
                <a:path w="34" h="28">
                  <a:moveTo>
                    <a:pt x="0" y="7"/>
                  </a:moveTo>
                  <a:lnTo>
                    <a:pt x="7" y="21"/>
                  </a:lnTo>
                  <a:lnTo>
                    <a:pt x="20" y="28"/>
                  </a:lnTo>
                  <a:lnTo>
                    <a:pt x="34" y="21"/>
                  </a:lnTo>
                  <a:lnTo>
                    <a:pt x="34" y="14"/>
                  </a:lnTo>
                  <a:lnTo>
                    <a:pt x="27" y="7"/>
                  </a:lnTo>
                  <a:lnTo>
                    <a:pt x="20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5" name=""/>
            <p:cNvSpPr/>
            <p:nvPr/>
          </p:nvSpPr>
          <p:spPr>
            <a:xfrm>
              <a:off x="4257360" y="3449520"/>
              <a:ext cx="16236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Currais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6" name=""/>
            <p:cNvSpPr/>
            <p:nvPr/>
          </p:nvSpPr>
          <p:spPr>
            <a:xfrm>
              <a:off x="3784680" y="4172040"/>
              <a:ext cx="55440" cy="31680"/>
            </a:xfrm>
            <a:custGeom>
              <a:avLst/>
              <a:gdLst/>
              <a:ahLst/>
              <a:rect l="l" t="t" r="r" b="b"/>
              <a:pathLst>
                <a:path w="35" h="20">
                  <a:moveTo>
                    <a:pt x="0" y="7"/>
                  </a:moveTo>
                  <a:lnTo>
                    <a:pt x="0" y="20"/>
                  </a:lnTo>
                  <a:lnTo>
                    <a:pt x="14" y="20"/>
                  </a:lnTo>
                  <a:lnTo>
                    <a:pt x="28" y="20"/>
                  </a:lnTo>
                  <a:lnTo>
                    <a:pt x="35" y="7"/>
                  </a:lnTo>
                  <a:lnTo>
                    <a:pt x="28" y="7"/>
                  </a:lnTo>
                  <a:lnTo>
                    <a:pt x="21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7" name=""/>
            <p:cNvSpPr/>
            <p:nvPr/>
          </p:nvSpPr>
          <p:spPr>
            <a:xfrm>
              <a:off x="3602160" y="4084560"/>
              <a:ext cx="20952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Mato Alto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8" name=""/>
            <p:cNvSpPr/>
            <p:nvPr/>
          </p:nvSpPr>
          <p:spPr>
            <a:xfrm>
              <a:off x="4989600" y="4290840"/>
              <a:ext cx="54000" cy="33480"/>
            </a:xfrm>
            <a:custGeom>
              <a:avLst/>
              <a:gdLst/>
              <a:ahLst/>
              <a:rect l="l" t="t" r="r" b="b"/>
              <a:pathLst>
                <a:path w="34" h="21">
                  <a:moveTo>
                    <a:pt x="0" y="7"/>
                  </a:moveTo>
                  <a:lnTo>
                    <a:pt x="7" y="21"/>
                  </a:lnTo>
                  <a:lnTo>
                    <a:pt x="21" y="21"/>
                  </a:lnTo>
                  <a:lnTo>
                    <a:pt x="34" y="21"/>
                  </a:lnTo>
                  <a:lnTo>
                    <a:pt x="34" y="14"/>
                  </a:lnTo>
                  <a:lnTo>
                    <a:pt x="28" y="7"/>
                  </a:lnTo>
                  <a:lnTo>
                    <a:pt x="21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9" name=""/>
            <p:cNvSpPr/>
            <p:nvPr/>
          </p:nvSpPr>
          <p:spPr>
            <a:xfrm>
              <a:off x="4907160" y="4335480"/>
              <a:ext cx="34200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Vereda do Anel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0" name=""/>
            <p:cNvSpPr/>
            <p:nvPr/>
          </p:nvSpPr>
          <p:spPr>
            <a:xfrm>
              <a:off x="5383080" y="3876840"/>
              <a:ext cx="55800" cy="31680"/>
            </a:xfrm>
            <a:custGeom>
              <a:avLst/>
              <a:gdLst/>
              <a:ahLst/>
              <a:rect l="l" t="t" r="r" b="b"/>
              <a:pathLst>
                <a:path w="35" h="20">
                  <a:moveTo>
                    <a:pt x="0" y="7"/>
                  </a:moveTo>
                  <a:lnTo>
                    <a:pt x="0" y="20"/>
                  </a:lnTo>
                  <a:lnTo>
                    <a:pt x="14" y="20"/>
                  </a:lnTo>
                  <a:lnTo>
                    <a:pt x="28" y="20"/>
                  </a:lnTo>
                  <a:lnTo>
                    <a:pt x="35" y="7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1" name=""/>
            <p:cNvSpPr/>
            <p:nvPr/>
          </p:nvSpPr>
          <p:spPr>
            <a:xfrm>
              <a:off x="5431680" y="3811680"/>
              <a:ext cx="29340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Moinho Novo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2" name=""/>
            <p:cNvSpPr/>
            <p:nvPr/>
          </p:nvSpPr>
          <p:spPr>
            <a:xfrm>
              <a:off x="5043600" y="5680080"/>
              <a:ext cx="55440" cy="33480"/>
            </a:xfrm>
            <a:custGeom>
              <a:avLst/>
              <a:gdLst/>
              <a:ahLst/>
              <a:rect l="l" t="t" r="r" b="b"/>
              <a:pathLst>
                <a:path w="35" h="21">
                  <a:moveTo>
                    <a:pt x="0" y="7"/>
                  </a:moveTo>
                  <a:lnTo>
                    <a:pt x="7" y="21"/>
                  </a:lnTo>
                  <a:lnTo>
                    <a:pt x="21" y="21"/>
                  </a:lnTo>
                  <a:lnTo>
                    <a:pt x="35" y="21"/>
                  </a:lnTo>
                  <a:lnTo>
                    <a:pt x="35" y="14"/>
                  </a:lnTo>
                  <a:lnTo>
                    <a:pt x="35" y="7"/>
                  </a:lnTo>
                  <a:lnTo>
                    <a:pt x="21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3" name=""/>
            <p:cNvSpPr/>
            <p:nvPr/>
          </p:nvSpPr>
          <p:spPr>
            <a:xfrm>
              <a:off x="5015880" y="5746680"/>
              <a:ext cx="25992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Trinta e Um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4" name=""/>
            <p:cNvSpPr/>
            <p:nvPr/>
          </p:nvSpPr>
          <p:spPr>
            <a:xfrm>
              <a:off x="2909880" y="3778200"/>
              <a:ext cx="54000" cy="31680"/>
            </a:xfrm>
            <a:custGeom>
              <a:avLst/>
              <a:gdLst/>
              <a:ahLst/>
              <a:rect l="l" t="t" r="r" b="b"/>
              <a:pathLst>
                <a:path w="34" h="20">
                  <a:moveTo>
                    <a:pt x="0" y="7"/>
                  </a:moveTo>
                  <a:lnTo>
                    <a:pt x="7" y="20"/>
                  </a:lnTo>
                  <a:lnTo>
                    <a:pt x="21" y="20"/>
                  </a:lnTo>
                  <a:lnTo>
                    <a:pt x="34" y="20"/>
                  </a:lnTo>
                  <a:lnTo>
                    <a:pt x="34" y="13"/>
                  </a:lnTo>
                  <a:lnTo>
                    <a:pt x="34" y="7"/>
                  </a:lnTo>
                  <a:lnTo>
                    <a:pt x="21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5" name=""/>
            <p:cNvSpPr/>
            <p:nvPr/>
          </p:nvSpPr>
          <p:spPr>
            <a:xfrm>
              <a:off x="2924640" y="3679920"/>
              <a:ext cx="31320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Baixa do Félix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6" name=""/>
            <p:cNvSpPr/>
            <p:nvPr/>
          </p:nvSpPr>
          <p:spPr>
            <a:xfrm>
              <a:off x="3567240" y="2935440"/>
              <a:ext cx="31680" cy="21960"/>
            </a:xfrm>
            <a:custGeom>
              <a:avLst/>
              <a:gdLst/>
              <a:ahLst/>
              <a:rect l="l" t="t" r="r" b="b"/>
              <a:pathLst>
                <a:path w="20" h="14">
                  <a:moveTo>
                    <a:pt x="20" y="14"/>
                  </a:moveTo>
                  <a:lnTo>
                    <a:pt x="6" y="7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7" name=""/>
            <p:cNvSpPr/>
            <p:nvPr/>
          </p:nvSpPr>
          <p:spPr>
            <a:xfrm>
              <a:off x="3489480" y="2881440"/>
              <a:ext cx="44280" cy="31680"/>
            </a:xfrm>
            <a:custGeom>
              <a:avLst/>
              <a:gdLst/>
              <a:ahLst/>
              <a:rect l="l" t="t" r="r" b="b"/>
              <a:pathLst>
                <a:path w="28" h="20">
                  <a:moveTo>
                    <a:pt x="28" y="20"/>
                  </a:moveTo>
                  <a:lnTo>
                    <a:pt x="7" y="7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8" name=""/>
            <p:cNvSpPr/>
            <p:nvPr/>
          </p:nvSpPr>
          <p:spPr>
            <a:xfrm>
              <a:off x="3402000" y="2859120"/>
              <a:ext cx="44640" cy="11160"/>
            </a:xfrm>
            <a:custGeom>
              <a:avLst/>
              <a:gdLst/>
              <a:ahLst/>
              <a:rect l="l" t="t" r="r" b="b"/>
              <a:pathLst>
                <a:path w="28" h="7">
                  <a:moveTo>
                    <a:pt x="28" y="7"/>
                  </a:moveTo>
                  <a:lnTo>
                    <a:pt x="21" y="7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9" name=""/>
            <p:cNvSpPr/>
            <p:nvPr/>
          </p:nvSpPr>
          <p:spPr>
            <a:xfrm>
              <a:off x="3336840" y="2814480"/>
              <a:ext cx="31680" cy="33480"/>
            </a:xfrm>
            <a:custGeom>
              <a:avLst/>
              <a:gdLst/>
              <a:ahLst/>
              <a:rect l="l" t="t" r="r" b="b"/>
              <a:pathLst>
                <a:path w="20" h="21">
                  <a:moveTo>
                    <a:pt x="20" y="21"/>
                  </a:moveTo>
                  <a:lnTo>
                    <a:pt x="14" y="14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0" name=""/>
            <p:cNvSpPr/>
            <p:nvPr/>
          </p:nvSpPr>
          <p:spPr>
            <a:xfrm flipH="1" flipV="1">
              <a:off x="3281400" y="2738160"/>
              <a:ext cx="22320" cy="442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1" name=""/>
            <p:cNvSpPr/>
            <p:nvPr/>
          </p:nvSpPr>
          <p:spPr>
            <a:xfrm flipH="1" flipV="1">
              <a:off x="3238560" y="2695320"/>
              <a:ext cx="22320" cy="111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2" name=""/>
            <p:cNvSpPr/>
            <p:nvPr/>
          </p:nvSpPr>
          <p:spPr>
            <a:xfrm>
              <a:off x="3587760" y="3395520"/>
              <a:ext cx="22320" cy="32040"/>
            </a:xfrm>
            <a:custGeom>
              <a:avLst/>
              <a:gdLst/>
              <a:ahLst/>
              <a:rect l="l" t="t" r="r" b="b"/>
              <a:pathLst>
                <a:path w="14" h="20">
                  <a:moveTo>
                    <a:pt x="0" y="0"/>
                  </a:moveTo>
                  <a:lnTo>
                    <a:pt x="0" y="13"/>
                  </a:lnTo>
                  <a:lnTo>
                    <a:pt x="0" y="20"/>
                  </a:lnTo>
                  <a:lnTo>
                    <a:pt x="14" y="2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3" name=""/>
            <p:cNvSpPr/>
            <p:nvPr/>
          </p:nvSpPr>
          <p:spPr>
            <a:xfrm>
              <a:off x="3654360" y="3416400"/>
              <a:ext cx="31680" cy="11160"/>
            </a:xfrm>
            <a:custGeom>
              <a:avLst/>
              <a:gdLst/>
              <a:ahLst/>
              <a:rect l="l" t="t" r="r" b="b"/>
              <a:pathLst>
                <a:path w="20" h="7">
                  <a:moveTo>
                    <a:pt x="0" y="7"/>
                  </a:moveTo>
                  <a:lnTo>
                    <a:pt x="0" y="7"/>
                  </a:lnTo>
                  <a:lnTo>
                    <a:pt x="2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4" name=""/>
            <p:cNvSpPr/>
            <p:nvPr/>
          </p:nvSpPr>
          <p:spPr>
            <a:xfrm>
              <a:off x="3730680" y="3405240"/>
              <a:ext cx="44280" cy="11160"/>
            </a:xfrm>
            <a:custGeom>
              <a:avLst/>
              <a:gdLst/>
              <a:ahLst/>
              <a:rect l="l" t="t" r="r" b="b"/>
              <a:pathLst>
                <a:path w="28" h="7">
                  <a:moveTo>
                    <a:pt x="0" y="0"/>
                  </a:moveTo>
                  <a:lnTo>
                    <a:pt x="7" y="0"/>
                  </a:lnTo>
                  <a:lnTo>
                    <a:pt x="14" y="0"/>
                  </a:lnTo>
                  <a:lnTo>
                    <a:pt x="28" y="7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5" name=""/>
            <p:cNvSpPr/>
            <p:nvPr/>
          </p:nvSpPr>
          <p:spPr>
            <a:xfrm>
              <a:off x="3817800" y="3427560"/>
              <a:ext cx="44640" cy="1440"/>
            </a:xfrm>
            <a:custGeom>
              <a:avLst/>
              <a:gdLst/>
              <a:ahLst/>
              <a:rect l="l" t="t" r="r" b="b"/>
              <a:pathLst>
                <a:path w="28" h="0">
                  <a:moveTo>
                    <a:pt x="0" y="0"/>
                  </a:moveTo>
                  <a:lnTo>
                    <a:pt x="21" y="0"/>
                  </a:lnTo>
                  <a:lnTo>
                    <a:pt x="28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6" name=""/>
            <p:cNvSpPr/>
            <p:nvPr/>
          </p:nvSpPr>
          <p:spPr>
            <a:xfrm>
              <a:off x="3905280" y="3416400"/>
              <a:ext cx="44280" cy="11160"/>
            </a:xfrm>
            <a:custGeom>
              <a:avLst/>
              <a:gdLst/>
              <a:ahLst/>
              <a:rect l="l" t="t" r="r" b="b"/>
              <a:pathLst>
                <a:path w="28" h="7">
                  <a:moveTo>
                    <a:pt x="0" y="7"/>
                  </a:moveTo>
                  <a:lnTo>
                    <a:pt x="21" y="7"/>
                  </a:lnTo>
                  <a:lnTo>
                    <a:pt x="28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7" name=""/>
            <p:cNvSpPr/>
            <p:nvPr/>
          </p:nvSpPr>
          <p:spPr>
            <a:xfrm>
              <a:off x="3992400" y="3362400"/>
              <a:ext cx="22320" cy="33120"/>
            </a:xfrm>
            <a:custGeom>
              <a:avLst/>
              <a:gdLst/>
              <a:ahLst/>
              <a:rect l="l" t="t" r="r" b="b"/>
              <a:pathLst>
                <a:path w="14" h="21">
                  <a:moveTo>
                    <a:pt x="0" y="21"/>
                  </a:moveTo>
                  <a:lnTo>
                    <a:pt x="0" y="21"/>
                  </a:lnTo>
                  <a:lnTo>
                    <a:pt x="14" y="0"/>
                  </a:lnTo>
                  <a:lnTo>
                    <a:pt x="14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8" name=""/>
            <p:cNvSpPr/>
            <p:nvPr/>
          </p:nvSpPr>
          <p:spPr>
            <a:xfrm>
              <a:off x="4059360" y="3362400"/>
              <a:ext cx="4284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9" name=""/>
            <p:cNvSpPr/>
            <p:nvPr/>
          </p:nvSpPr>
          <p:spPr>
            <a:xfrm>
              <a:off x="4146480" y="3373560"/>
              <a:ext cx="44640" cy="111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0" name=""/>
            <p:cNvSpPr/>
            <p:nvPr/>
          </p:nvSpPr>
          <p:spPr>
            <a:xfrm>
              <a:off x="4233960" y="3384720"/>
              <a:ext cx="44280" cy="108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1" name=""/>
            <p:cNvSpPr/>
            <p:nvPr/>
          </p:nvSpPr>
          <p:spPr>
            <a:xfrm>
              <a:off x="4321080" y="3395520"/>
              <a:ext cx="44640" cy="9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2" name=""/>
            <p:cNvSpPr/>
            <p:nvPr/>
          </p:nvSpPr>
          <p:spPr>
            <a:xfrm rot="900000">
              <a:off x="6746040" y="4229280"/>
              <a:ext cx="3420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3" name=""/>
            <p:cNvSpPr/>
            <p:nvPr/>
          </p:nvSpPr>
          <p:spPr>
            <a:xfrm rot="900000">
              <a:off x="6781320" y="4238640"/>
              <a:ext cx="1440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4" name=""/>
            <p:cNvSpPr/>
            <p:nvPr/>
          </p:nvSpPr>
          <p:spPr>
            <a:xfrm rot="900000">
              <a:off x="6792480" y="4238640"/>
              <a:ext cx="1440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5" name=""/>
            <p:cNvSpPr/>
            <p:nvPr/>
          </p:nvSpPr>
          <p:spPr>
            <a:xfrm rot="900000">
              <a:off x="6812280" y="4254480"/>
              <a:ext cx="4176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6" name=""/>
            <p:cNvSpPr/>
            <p:nvPr/>
          </p:nvSpPr>
          <p:spPr>
            <a:xfrm rot="900000">
              <a:off x="6845040" y="4262400"/>
              <a:ext cx="2808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7" name=""/>
            <p:cNvSpPr/>
            <p:nvPr/>
          </p:nvSpPr>
          <p:spPr>
            <a:xfrm rot="900000">
              <a:off x="6877800" y="4262400"/>
              <a:ext cx="2664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8" name=""/>
            <p:cNvSpPr/>
            <p:nvPr/>
          </p:nvSpPr>
          <p:spPr>
            <a:xfrm rot="900000">
              <a:off x="6900120" y="4273560"/>
              <a:ext cx="2664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9" name=""/>
            <p:cNvSpPr/>
            <p:nvPr/>
          </p:nvSpPr>
          <p:spPr>
            <a:xfrm rot="900000">
              <a:off x="6921360" y="4284360"/>
              <a:ext cx="2808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0" name=""/>
            <p:cNvSpPr/>
            <p:nvPr/>
          </p:nvSpPr>
          <p:spPr>
            <a:xfrm rot="900000">
              <a:off x="6954480" y="4284720"/>
              <a:ext cx="1764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1" name=""/>
            <p:cNvSpPr/>
            <p:nvPr/>
          </p:nvSpPr>
          <p:spPr>
            <a:xfrm rot="900000">
              <a:off x="6965640" y="4295880"/>
              <a:ext cx="2808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ó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2" name=""/>
            <p:cNvSpPr/>
            <p:nvPr/>
          </p:nvSpPr>
          <p:spPr>
            <a:xfrm rot="900000">
              <a:off x="7000560" y="4294080"/>
              <a:ext cx="1440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3" name=""/>
            <p:cNvSpPr/>
            <p:nvPr/>
          </p:nvSpPr>
          <p:spPr>
            <a:xfrm rot="900000">
              <a:off x="7009920" y="4307040"/>
              <a:ext cx="1764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4" name=""/>
            <p:cNvSpPr/>
            <p:nvPr/>
          </p:nvSpPr>
          <p:spPr>
            <a:xfrm rot="900000">
              <a:off x="7019640" y="4307040"/>
              <a:ext cx="2808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5" name=""/>
            <p:cNvSpPr/>
            <p:nvPr/>
          </p:nvSpPr>
          <p:spPr>
            <a:xfrm rot="900000">
              <a:off x="7053120" y="4317840"/>
              <a:ext cx="2808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6" name=""/>
            <p:cNvSpPr/>
            <p:nvPr/>
          </p:nvSpPr>
          <p:spPr>
            <a:xfrm rot="900000">
              <a:off x="7076880" y="4316400"/>
              <a:ext cx="1440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7" name=""/>
            <p:cNvSpPr/>
            <p:nvPr/>
          </p:nvSpPr>
          <p:spPr>
            <a:xfrm rot="900000">
              <a:off x="7096680" y="4327200"/>
              <a:ext cx="2664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8" name=""/>
            <p:cNvSpPr/>
            <p:nvPr/>
          </p:nvSpPr>
          <p:spPr>
            <a:xfrm rot="900000">
              <a:off x="7120080" y="4330800"/>
              <a:ext cx="4176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9" name=""/>
            <p:cNvSpPr/>
            <p:nvPr/>
          </p:nvSpPr>
          <p:spPr>
            <a:xfrm rot="900000">
              <a:off x="7151400" y="4338720"/>
              <a:ext cx="1764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0" name=""/>
            <p:cNvSpPr/>
            <p:nvPr/>
          </p:nvSpPr>
          <p:spPr>
            <a:xfrm>
              <a:off x="6805440" y="4389480"/>
              <a:ext cx="187560" cy="44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1" name=""/>
            <p:cNvSpPr/>
            <p:nvPr/>
          </p:nvSpPr>
          <p:spPr>
            <a:xfrm>
              <a:off x="6915240" y="4368960"/>
              <a:ext cx="77760" cy="64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2" name=""/>
            <p:cNvSpPr/>
            <p:nvPr/>
          </p:nvSpPr>
          <p:spPr>
            <a:xfrm flipV="1">
              <a:off x="6894360" y="4433760"/>
              <a:ext cx="98640" cy="22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3" name=""/>
            <p:cNvSpPr/>
            <p:nvPr/>
          </p:nvSpPr>
          <p:spPr>
            <a:xfrm rot="21540000">
              <a:off x="2118960" y="3633840"/>
              <a:ext cx="3420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4" name=""/>
            <p:cNvSpPr/>
            <p:nvPr/>
          </p:nvSpPr>
          <p:spPr>
            <a:xfrm rot="21540000">
              <a:off x="2152800" y="3633480"/>
              <a:ext cx="1440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5" name=""/>
            <p:cNvSpPr/>
            <p:nvPr/>
          </p:nvSpPr>
          <p:spPr>
            <a:xfrm rot="21540000">
              <a:off x="2163600" y="3633480"/>
              <a:ext cx="1440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6" name=""/>
            <p:cNvSpPr/>
            <p:nvPr/>
          </p:nvSpPr>
          <p:spPr>
            <a:xfrm rot="21540000">
              <a:off x="2174760" y="3633840"/>
              <a:ext cx="4032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7" name=""/>
            <p:cNvSpPr/>
            <p:nvPr/>
          </p:nvSpPr>
          <p:spPr>
            <a:xfrm rot="21540000">
              <a:off x="2219400" y="3633840"/>
              <a:ext cx="2808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8" name=""/>
            <p:cNvSpPr/>
            <p:nvPr/>
          </p:nvSpPr>
          <p:spPr>
            <a:xfrm rot="21540000">
              <a:off x="2239920" y="3633480"/>
              <a:ext cx="1152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9" name=""/>
            <p:cNvSpPr/>
            <p:nvPr/>
          </p:nvSpPr>
          <p:spPr>
            <a:xfrm rot="21540000">
              <a:off x="2250720" y="3633840"/>
              <a:ext cx="2664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0" name=""/>
            <p:cNvSpPr/>
            <p:nvPr/>
          </p:nvSpPr>
          <p:spPr>
            <a:xfrm rot="21540000">
              <a:off x="2284560" y="3624120"/>
              <a:ext cx="2808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1" name=""/>
            <p:cNvSpPr/>
            <p:nvPr/>
          </p:nvSpPr>
          <p:spPr>
            <a:xfrm rot="21540000">
              <a:off x="2306520" y="3623760"/>
              <a:ext cx="1764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2" name=""/>
            <p:cNvSpPr/>
            <p:nvPr/>
          </p:nvSpPr>
          <p:spPr>
            <a:xfrm rot="21540000">
              <a:off x="2327400" y="3624120"/>
              <a:ext cx="2808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é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3" name=""/>
            <p:cNvSpPr/>
            <p:nvPr/>
          </p:nvSpPr>
          <p:spPr>
            <a:xfrm rot="21540000">
              <a:off x="2349360" y="3623760"/>
              <a:ext cx="1440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4" name=""/>
            <p:cNvSpPr/>
            <p:nvPr/>
          </p:nvSpPr>
          <p:spPr>
            <a:xfrm rot="21540000">
              <a:off x="2371680" y="3623760"/>
              <a:ext cx="1764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5" name=""/>
            <p:cNvSpPr/>
            <p:nvPr/>
          </p:nvSpPr>
          <p:spPr>
            <a:xfrm rot="21540000">
              <a:off x="2382840" y="3624120"/>
              <a:ext cx="2808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6" name=""/>
            <p:cNvSpPr/>
            <p:nvPr/>
          </p:nvSpPr>
          <p:spPr>
            <a:xfrm rot="21540000">
              <a:off x="2416320" y="3624120"/>
              <a:ext cx="2808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7" name=""/>
            <p:cNvSpPr/>
            <p:nvPr/>
          </p:nvSpPr>
          <p:spPr>
            <a:xfrm rot="21540000">
              <a:off x="2436840" y="3623760"/>
              <a:ext cx="1440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8" name=""/>
            <p:cNvSpPr/>
            <p:nvPr/>
          </p:nvSpPr>
          <p:spPr>
            <a:xfrm rot="21540000">
              <a:off x="2458440" y="3624120"/>
              <a:ext cx="2664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9" name=""/>
            <p:cNvSpPr/>
            <p:nvPr/>
          </p:nvSpPr>
          <p:spPr>
            <a:xfrm rot="21540000">
              <a:off x="2481480" y="3623760"/>
              <a:ext cx="4176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0" name=""/>
            <p:cNvSpPr/>
            <p:nvPr/>
          </p:nvSpPr>
          <p:spPr>
            <a:xfrm rot="21540000">
              <a:off x="2525760" y="3623760"/>
              <a:ext cx="1764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1" name=""/>
            <p:cNvSpPr/>
            <p:nvPr/>
          </p:nvSpPr>
          <p:spPr>
            <a:xfrm>
              <a:off x="2252520" y="3798720"/>
              <a:ext cx="1969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2" name=""/>
            <p:cNvSpPr/>
            <p:nvPr/>
          </p:nvSpPr>
          <p:spPr>
            <a:xfrm flipH="1" flipV="1">
              <a:off x="2252160" y="3798720"/>
              <a:ext cx="87480" cy="44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3" name=""/>
            <p:cNvSpPr/>
            <p:nvPr/>
          </p:nvSpPr>
          <p:spPr>
            <a:xfrm flipH="1">
              <a:off x="2252520" y="3755880"/>
              <a:ext cx="98640" cy="42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4" name=""/>
            <p:cNvSpPr/>
            <p:nvPr/>
          </p:nvSpPr>
          <p:spPr>
            <a:xfrm>
              <a:off x="2921040" y="3767040"/>
              <a:ext cx="42840" cy="111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5" name=""/>
            <p:cNvSpPr/>
            <p:nvPr/>
          </p:nvSpPr>
          <p:spPr>
            <a:xfrm>
              <a:off x="3008160" y="3789360"/>
              <a:ext cx="44640" cy="93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6" name=""/>
            <p:cNvSpPr/>
            <p:nvPr/>
          </p:nvSpPr>
          <p:spPr>
            <a:xfrm>
              <a:off x="3084480" y="3821040"/>
              <a:ext cx="33480" cy="18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7" name=""/>
            <p:cNvSpPr/>
            <p:nvPr/>
          </p:nvSpPr>
          <p:spPr>
            <a:xfrm>
              <a:off x="4081320" y="316548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0"/>
                  </a:moveTo>
                  <a:lnTo>
                    <a:pt x="7" y="0"/>
                  </a:lnTo>
                  <a:lnTo>
                    <a:pt x="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8" name=""/>
            <p:cNvSpPr/>
            <p:nvPr/>
          </p:nvSpPr>
          <p:spPr>
            <a:xfrm>
              <a:off x="3489480" y="3602160"/>
              <a:ext cx="1080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0"/>
                  </a:move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9" name=""/>
            <p:cNvSpPr/>
            <p:nvPr/>
          </p:nvSpPr>
          <p:spPr>
            <a:xfrm>
              <a:off x="4497480" y="5691240"/>
              <a:ext cx="11160" cy="1440"/>
            </a:xfrm>
            <a:custGeom>
              <a:avLst/>
              <a:gdLst/>
              <a:ahLst/>
              <a:rect l="l" t="t" r="r" b="b"/>
              <a:pathLst>
                <a:path w="7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0" name=""/>
            <p:cNvSpPr/>
            <p:nvPr/>
          </p:nvSpPr>
          <p:spPr>
            <a:xfrm>
              <a:off x="5011560" y="4695840"/>
              <a:ext cx="11160" cy="1440"/>
            </a:xfrm>
            <a:custGeom>
              <a:avLst/>
              <a:gdLst/>
              <a:ahLst/>
              <a:rect l="l" t="t" r="r" b="b"/>
              <a:pathLst>
                <a:path w="7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1" name=""/>
            <p:cNvSpPr/>
            <p:nvPr/>
          </p:nvSpPr>
          <p:spPr>
            <a:xfrm>
              <a:off x="4475160" y="451008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2" name=""/>
            <p:cNvSpPr/>
            <p:nvPr/>
          </p:nvSpPr>
          <p:spPr>
            <a:xfrm>
              <a:off x="5964120" y="4313160"/>
              <a:ext cx="1800" cy="11160"/>
            </a:xfrm>
            <a:custGeom>
              <a:avLst/>
              <a:gdLst/>
              <a:ahLst/>
              <a:rect l="l" t="t" r="r" b="b"/>
              <a:pathLst>
                <a:path w="0" h="7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3" name=""/>
            <p:cNvSpPr/>
            <p:nvPr/>
          </p:nvSpPr>
          <p:spPr>
            <a:xfrm>
              <a:off x="3686040" y="438948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4" name=""/>
            <p:cNvSpPr/>
            <p:nvPr/>
          </p:nvSpPr>
          <p:spPr>
            <a:xfrm>
              <a:off x="5776920" y="33177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5" name=""/>
            <p:cNvSpPr/>
            <p:nvPr/>
          </p:nvSpPr>
          <p:spPr>
            <a:xfrm>
              <a:off x="4562640" y="5440320"/>
              <a:ext cx="10800" cy="1800"/>
            </a:xfrm>
            <a:custGeom>
              <a:avLst/>
              <a:gdLst/>
              <a:ahLst/>
              <a:rect l="l" t="t" r="r" b="b"/>
              <a:pathLst>
                <a:path w="7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6" name=""/>
            <p:cNvSpPr/>
            <p:nvPr/>
          </p:nvSpPr>
          <p:spPr>
            <a:xfrm>
              <a:off x="2143080" y="3865680"/>
              <a:ext cx="11160" cy="1440"/>
            </a:xfrm>
            <a:custGeom>
              <a:avLst/>
              <a:gdLst/>
              <a:ahLst/>
              <a:rect l="l" t="t" r="r" b="b"/>
              <a:pathLst>
                <a:path w="7" h="0">
                  <a:moveTo>
                    <a:pt x="7" y="0"/>
                  </a:move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7" name=""/>
            <p:cNvSpPr/>
            <p:nvPr/>
          </p:nvSpPr>
          <p:spPr>
            <a:xfrm>
              <a:off x="2735280" y="3876840"/>
              <a:ext cx="9360" cy="1080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6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8" name=""/>
            <p:cNvSpPr/>
            <p:nvPr/>
          </p:nvSpPr>
          <p:spPr>
            <a:xfrm>
              <a:off x="2744640" y="379872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0"/>
                  </a:move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" y="0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9" name=""/>
            <p:cNvSpPr/>
            <p:nvPr/>
          </p:nvSpPr>
          <p:spPr>
            <a:xfrm>
              <a:off x="3348000" y="3941640"/>
              <a:ext cx="11160" cy="1800"/>
            </a:xfrm>
            <a:custGeom>
              <a:avLst/>
              <a:gdLst/>
              <a:ahLst/>
              <a:rect l="l" t="t" r="r" b="b"/>
              <a:pathLst>
                <a:path w="7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0" name=""/>
            <p:cNvSpPr/>
            <p:nvPr/>
          </p:nvSpPr>
          <p:spPr>
            <a:xfrm>
              <a:off x="2724120" y="353700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1" name=""/>
            <p:cNvSpPr/>
            <p:nvPr/>
          </p:nvSpPr>
          <p:spPr>
            <a:xfrm>
              <a:off x="2013120" y="5778360"/>
              <a:ext cx="51987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2" name=""/>
            <p:cNvSpPr/>
            <p:nvPr/>
          </p:nvSpPr>
          <p:spPr>
            <a:xfrm flipV="1">
              <a:off x="2362320" y="5778360"/>
              <a:ext cx="1440" cy="66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3" name=""/>
            <p:cNvSpPr/>
            <p:nvPr/>
          </p:nvSpPr>
          <p:spPr>
            <a:xfrm flipV="1">
              <a:off x="2975040" y="5778360"/>
              <a:ext cx="1440" cy="66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4" name=""/>
            <p:cNvSpPr/>
            <p:nvPr/>
          </p:nvSpPr>
          <p:spPr>
            <a:xfrm flipV="1">
              <a:off x="3576600" y="5778360"/>
              <a:ext cx="1800" cy="66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5" name=""/>
            <p:cNvSpPr/>
            <p:nvPr/>
          </p:nvSpPr>
          <p:spPr>
            <a:xfrm flipV="1">
              <a:off x="4191120" y="5778360"/>
              <a:ext cx="1440" cy="66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6" name=""/>
            <p:cNvSpPr/>
            <p:nvPr/>
          </p:nvSpPr>
          <p:spPr>
            <a:xfrm flipV="1">
              <a:off x="4792680" y="5778360"/>
              <a:ext cx="1440" cy="66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7" name=""/>
            <p:cNvSpPr/>
            <p:nvPr/>
          </p:nvSpPr>
          <p:spPr>
            <a:xfrm flipV="1">
              <a:off x="5394240" y="5778360"/>
              <a:ext cx="1800" cy="66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8" name=""/>
            <p:cNvSpPr/>
            <p:nvPr/>
          </p:nvSpPr>
          <p:spPr>
            <a:xfrm flipV="1">
              <a:off x="6006960" y="5778360"/>
              <a:ext cx="1800" cy="66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9" name=""/>
            <p:cNvSpPr/>
            <p:nvPr/>
          </p:nvSpPr>
          <p:spPr>
            <a:xfrm flipV="1">
              <a:off x="6608880" y="5778360"/>
              <a:ext cx="1440" cy="66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0" name=""/>
            <p:cNvSpPr/>
            <p:nvPr/>
          </p:nvSpPr>
          <p:spPr>
            <a:xfrm>
              <a:off x="2211480" y="5845320"/>
              <a:ext cx="3391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63000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1" name=""/>
            <p:cNvSpPr/>
            <p:nvPr/>
          </p:nvSpPr>
          <p:spPr>
            <a:xfrm>
              <a:off x="2813400" y="5845320"/>
              <a:ext cx="3391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63500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2" name=""/>
            <p:cNvSpPr/>
            <p:nvPr/>
          </p:nvSpPr>
          <p:spPr>
            <a:xfrm>
              <a:off x="3426120" y="5845320"/>
              <a:ext cx="3391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64000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3" name=""/>
            <p:cNvSpPr/>
            <p:nvPr/>
          </p:nvSpPr>
          <p:spPr>
            <a:xfrm>
              <a:off x="4027680" y="5845320"/>
              <a:ext cx="3391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64500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4" name=""/>
            <p:cNvSpPr/>
            <p:nvPr/>
          </p:nvSpPr>
          <p:spPr>
            <a:xfrm>
              <a:off x="4629240" y="5845320"/>
              <a:ext cx="3391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65000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5" name=""/>
            <p:cNvSpPr/>
            <p:nvPr/>
          </p:nvSpPr>
          <p:spPr>
            <a:xfrm>
              <a:off x="5243760" y="5845320"/>
              <a:ext cx="3391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65500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6" name=""/>
            <p:cNvSpPr/>
            <p:nvPr/>
          </p:nvSpPr>
          <p:spPr>
            <a:xfrm>
              <a:off x="5845320" y="5845320"/>
              <a:ext cx="3391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66000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7" name=""/>
            <p:cNvSpPr/>
            <p:nvPr/>
          </p:nvSpPr>
          <p:spPr>
            <a:xfrm>
              <a:off x="6446880" y="5845320"/>
              <a:ext cx="3391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66500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8" name=""/>
            <p:cNvSpPr/>
            <p:nvPr/>
          </p:nvSpPr>
          <p:spPr>
            <a:xfrm>
              <a:off x="4287600" y="5997600"/>
              <a:ext cx="681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UTM Leste (m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9" name=""/>
            <p:cNvSpPr/>
            <p:nvPr/>
          </p:nvSpPr>
          <p:spPr>
            <a:xfrm flipV="1">
              <a:off x="2362320" y="2104920"/>
              <a:ext cx="1440" cy="3673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90" name=""/>
          <p:cNvSpPr/>
          <p:nvPr/>
        </p:nvSpPr>
        <p:spPr>
          <a:xfrm flipV="1">
            <a:off x="2975040" y="2104920"/>
            <a:ext cx="1440" cy="3673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1" name=""/>
          <p:cNvSpPr/>
          <p:nvPr/>
        </p:nvSpPr>
        <p:spPr>
          <a:xfrm flipV="1">
            <a:off x="3576600" y="2104920"/>
            <a:ext cx="1800" cy="3673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2" name=""/>
          <p:cNvSpPr/>
          <p:nvPr/>
        </p:nvSpPr>
        <p:spPr>
          <a:xfrm flipV="1">
            <a:off x="4191120" y="2104920"/>
            <a:ext cx="1440" cy="3673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3" name=""/>
          <p:cNvSpPr/>
          <p:nvPr/>
        </p:nvSpPr>
        <p:spPr>
          <a:xfrm flipV="1">
            <a:off x="4792680" y="2104920"/>
            <a:ext cx="1440" cy="3673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4" name=""/>
          <p:cNvSpPr/>
          <p:nvPr/>
        </p:nvSpPr>
        <p:spPr>
          <a:xfrm flipV="1">
            <a:off x="5394240" y="2104920"/>
            <a:ext cx="1800" cy="3673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5" name=""/>
          <p:cNvSpPr/>
          <p:nvPr/>
        </p:nvSpPr>
        <p:spPr>
          <a:xfrm flipV="1">
            <a:off x="6006960" y="2104920"/>
            <a:ext cx="1800" cy="3673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6" name=""/>
          <p:cNvSpPr/>
          <p:nvPr/>
        </p:nvSpPr>
        <p:spPr>
          <a:xfrm flipV="1">
            <a:off x="6608880" y="2104920"/>
            <a:ext cx="1440" cy="3673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7" name=""/>
          <p:cNvSpPr/>
          <p:nvPr/>
        </p:nvSpPr>
        <p:spPr>
          <a:xfrm>
            <a:off x="2013120" y="2104920"/>
            <a:ext cx="5198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8" name=""/>
          <p:cNvSpPr/>
          <p:nvPr/>
        </p:nvSpPr>
        <p:spPr>
          <a:xfrm flipV="1">
            <a:off x="2362320" y="2037960"/>
            <a:ext cx="1440" cy="66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9" name=""/>
          <p:cNvSpPr/>
          <p:nvPr/>
        </p:nvSpPr>
        <p:spPr>
          <a:xfrm flipV="1">
            <a:off x="2975040" y="2037960"/>
            <a:ext cx="1440" cy="66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0" name=""/>
          <p:cNvSpPr/>
          <p:nvPr/>
        </p:nvSpPr>
        <p:spPr>
          <a:xfrm flipV="1">
            <a:off x="3576600" y="2037960"/>
            <a:ext cx="1800" cy="66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1" name=""/>
          <p:cNvSpPr/>
          <p:nvPr/>
        </p:nvSpPr>
        <p:spPr>
          <a:xfrm flipV="1">
            <a:off x="4191120" y="2037960"/>
            <a:ext cx="1440" cy="66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2" name=""/>
          <p:cNvSpPr/>
          <p:nvPr/>
        </p:nvSpPr>
        <p:spPr>
          <a:xfrm flipV="1">
            <a:off x="4792680" y="2037960"/>
            <a:ext cx="1440" cy="66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3" name=""/>
          <p:cNvSpPr/>
          <p:nvPr/>
        </p:nvSpPr>
        <p:spPr>
          <a:xfrm flipV="1">
            <a:off x="5394240" y="2037960"/>
            <a:ext cx="1800" cy="66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4" name=""/>
          <p:cNvSpPr/>
          <p:nvPr/>
        </p:nvSpPr>
        <p:spPr>
          <a:xfrm flipV="1">
            <a:off x="6006960" y="2037960"/>
            <a:ext cx="1800" cy="66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5" name=""/>
          <p:cNvSpPr/>
          <p:nvPr/>
        </p:nvSpPr>
        <p:spPr>
          <a:xfrm flipV="1">
            <a:off x="6608880" y="2037960"/>
            <a:ext cx="1440" cy="66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6" name=""/>
          <p:cNvSpPr/>
          <p:nvPr/>
        </p:nvSpPr>
        <p:spPr>
          <a:xfrm flipV="1">
            <a:off x="2013120" y="2104920"/>
            <a:ext cx="1440" cy="3673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7" name=""/>
          <p:cNvSpPr/>
          <p:nvPr/>
        </p:nvSpPr>
        <p:spPr>
          <a:xfrm flipH="1">
            <a:off x="1946160" y="5396040"/>
            <a:ext cx="669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8" name=""/>
          <p:cNvSpPr/>
          <p:nvPr/>
        </p:nvSpPr>
        <p:spPr>
          <a:xfrm flipH="1">
            <a:off x="1946160" y="4794120"/>
            <a:ext cx="669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9" name=""/>
          <p:cNvSpPr/>
          <p:nvPr/>
        </p:nvSpPr>
        <p:spPr>
          <a:xfrm flipH="1">
            <a:off x="1946160" y="4183200"/>
            <a:ext cx="669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0" name=""/>
          <p:cNvSpPr/>
          <p:nvPr/>
        </p:nvSpPr>
        <p:spPr>
          <a:xfrm flipH="1">
            <a:off x="1946160" y="3581280"/>
            <a:ext cx="669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1" name=""/>
          <p:cNvSpPr/>
          <p:nvPr/>
        </p:nvSpPr>
        <p:spPr>
          <a:xfrm flipH="1">
            <a:off x="1946160" y="2968560"/>
            <a:ext cx="669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2" name=""/>
          <p:cNvSpPr/>
          <p:nvPr/>
        </p:nvSpPr>
        <p:spPr>
          <a:xfrm flipH="1">
            <a:off x="1946160" y="2367000"/>
            <a:ext cx="669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3" name=""/>
          <p:cNvSpPr/>
          <p:nvPr/>
        </p:nvSpPr>
        <p:spPr>
          <a:xfrm>
            <a:off x="1566000" y="5330880"/>
            <a:ext cx="3952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9425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4" name=""/>
          <p:cNvSpPr/>
          <p:nvPr/>
        </p:nvSpPr>
        <p:spPr>
          <a:xfrm>
            <a:off x="1566000" y="4729320"/>
            <a:ext cx="3952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943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5" name=""/>
          <p:cNvSpPr/>
          <p:nvPr/>
        </p:nvSpPr>
        <p:spPr>
          <a:xfrm>
            <a:off x="1566000" y="4116240"/>
            <a:ext cx="3952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9435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6" name=""/>
          <p:cNvSpPr/>
          <p:nvPr/>
        </p:nvSpPr>
        <p:spPr>
          <a:xfrm>
            <a:off x="1566000" y="3514680"/>
            <a:ext cx="3952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944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7" name=""/>
          <p:cNvSpPr/>
          <p:nvPr/>
        </p:nvSpPr>
        <p:spPr>
          <a:xfrm>
            <a:off x="1566000" y="2903400"/>
            <a:ext cx="3952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9445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8" name=""/>
          <p:cNvSpPr/>
          <p:nvPr/>
        </p:nvSpPr>
        <p:spPr>
          <a:xfrm>
            <a:off x="1566000" y="2301840"/>
            <a:ext cx="3952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945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9" name=""/>
          <p:cNvSpPr/>
          <p:nvPr/>
        </p:nvSpPr>
        <p:spPr>
          <a:xfrm rot="16200000">
            <a:off x="1421280" y="4172400"/>
            <a:ext cx="73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0" name=""/>
          <p:cNvSpPr/>
          <p:nvPr/>
        </p:nvSpPr>
        <p:spPr>
          <a:xfrm rot="16200000">
            <a:off x="1426320" y="4100400"/>
            <a:ext cx="63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1" name=""/>
          <p:cNvSpPr/>
          <p:nvPr/>
        </p:nvSpPr>
        <p:spPr>
          <a:xfrm rot="16200000">
            <a:off x="1415160" y="4035240"/>
            <a:ext cx="8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2" name=""/>
          <p:cNvSpPr/>
          <p:nvPr/>
        </p:nvSpPr>
        <p:spPr>
          <a:xfrm rot="16200000">
            <a:off x="1443240" y="3986280"/>
            <a:ext cx="295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3" name=""/>
          <p:cNvSpPr/>
          <p:nvPr/>
        </p:nvSpPr>
        <p:spPr>
          <a:xfrm rot="16200000">
            <a:off x="1421280" y="3931200"/>
            <a:ext cx="73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4" name=""/>
          <p:cNvSpPr/>
          <p:nvPr/>
        </p:nvSpPr>
        <p:spPr>
          <a:xfrm rot="16200000">
            <a:off x="1429560" y="387396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5" name=""/>
          <p:cNvSpPr/>
          <p:nvPr/>
        </p:nvSpPr>
        <p:spPr>
          <a:xfrm rot="16200000">
            <a:off x="1441080" y="3830400"/>
            <a:ext cx="342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6" name=""/>
          <p:cNvSpPr/>
          <p:nvPr/>
        </p:nvSpPr>
        <p:spPr>
          <a:xfrm rot="16200000">
            <a:off x="1443240" y="3801240"/>
            <a:ext cx="295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7" name=""/>
          <p:cNvSpPr/>
          <p:nvPr/>
        </p:nvSpPr>
        <p:spPr>
          <a:xfrm rot="16200000">
            <a:off x="1429560" y="376452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8" name=""/>
          <p:cNvSpPr/>
          <p:nvPr/>
        </p:nvSpPr>
        <p:spPr>
          <a:xfrm rot="16200000">
            <a:off x="1443240" y="3722760"/>
            <a:ext cx="295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9" name=""/>
          <p:cNvSpPr/>
          <p:nvPr/>
        </p:nvSpPr>
        <p:spPr>
          <a:xfrm rot="16200000">
            <a:off x="1441080" y="3689280"/>
            <a:ext cx="342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0" name=""/>
          <p:cNvSpPr/>
          <p:nvPr/>
        </p:nvSpPr>
        <p:spPr>
          <a:xfrm rot="16200000">
            <a:off x="1415160" y="3628800"/>
            <a:ext cx="8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1" name=""/>
          <p:cNvSpPr/>
          <p:nvPr/>
        </p:nvSpPr>
        <p:spPr>
          <a:xfrm rot="16200000">
            <a:off x="1441080" y="3579480"/>
            <a:ext cx="342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2" name=""/>
          <p:cNvSpPr/>
          <p:nvPr/>
        </p:nvSpPr>
        <p:spPr>
          <a:xfrm>
            <a:off x="2013120" y="5396040"/>
            <a:ext cx="5198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3" name=""/>
          <p:cNvSpPr/>
          <p:nvPr/>
        </p:nvSpPr>
        <p:spPr>
          <a:xfrm>
            <a:off x="2013120" y="4794120"/>
            <a:ext cx="5198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4" name=""/>
          <p:cNvSpPr/>
          <p:nvPr/>
        </p:nvSpPr>
        <p:spPr>
          <a:xfrm>
            <a:off x="2013120" y="4183200"/>
            <a:ext cx="5198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5" name=""/>
          <p:cNvSpPr/>
          <p:nvPr/>
        </p:nvSpPr>
        <p:spPr>
          <a:xfrm>
            <a:off x="2013120" y="3581280"/>
            <a:ext cx="5198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6" name=""/>
          <p:cNvSpPr/>
          <p:nvPr/>
        </p:nvSpPr>
        <p:spPr>
          <a:xfrm>
            <a:off x="2013120" y="2968560"/>
            <a:ext cx="5198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7" name=""/>
          <p:cNvSpPr/>
          <p:nvPr/>
        </p:nvSpPr>
        <p:spPr>
          <a:xfrm>
            <a:off x="2013120" y="2367000"/>
            <a:ext cx="5198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8" name=""/>
          <p:cNvSpPr/>
          <p:nvPr/>
        </p:nvSpPr>
        <p:spPr>
          <a:xfrm flipV="1">
            <a:off x="7211880" y="2104920"/>
            <a:ext cx="1800" cy="3673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9" name=""/>
          <p:cNvSpPr/>
          <p:nvPr/>
        </p:nvSpPr>
        <p:spPr>
          <a:xfrm flipH="1">
            <a:off x="7211520" y="5396040"/>
            <a:ext cx="65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0" name=""/>
          <p:cNvSpPr/>
          <p:nvPr/>
        </p:nvSpPr>
        <p:spPr>
          <a:xfrm flipH="1">
            <a:off x="7211520" y="4794120"/>
            <a:ext cx="651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1" name=""/>
          <p:cNvSpPr/>
          <p:nvPr/>
        </p:nvSpPr>
        <p:spPr>
          <a:xfrm flipH="1">
            <a:off x="7211520" y="4183200"/>
            <a:ext cx="65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2" name=""/>
          <p:cNvSpPr/>
          <p:nvPr/>
        </p:nvSpPr>
        <p:spPr>
          <a:xfrm flipH="1">
            <a:off x="7211520" y="3581280"/>
            <a:ext cx="651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3" name=""/>
          <p:cNvSpPr/>
          <p:nvPr/>
        </p:nvSpPr>
        <p:spPr>
          <a:xfrm flipH="1">
            <a:off x="7211520" y="2968560"/>
            <a:ext cx="651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4" name=""/>
          <p:cNvSpPr/>
          <p:nvPr/>
        </p:nvSpPr>
        <p:spPr>
          <a:xfrm flipH="1">
            <a:off x="7211520" y="2367000"/>
            <a:ext cx="65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5" name=""/>
          <p:cNvSpPr/>
          <p:nvPr/>
        </p:nvSpPr>
        <p:spPr>
          <a:xfrm>
            <a:off x="1990800" y="2082960"/>
            <a:ext cx="54000" cy="53640"/>
          </a:xfrm>
          <a:custGeom>
            <a:avLst/>
            <a:gdLst/>
            <a:ahLst/>
            <a:rect l="l" t="t" r="r" b="b"/>
            <a:pathLst>
              <a:path w="34" h="34">
                <a:moveTo>
                  <a:pt x="14" y="34"/>
                </a:moveTo>
                <a:lnTo>
                  <a:pt x="20" y="34"/>
                </a:lnTo>
                <a:lnTo>
                  <a:pt x="20" y="21"/>
                </a:lnTo>
                <a:lnTo>
                  <a:pt x="34" y="21"/>
                </a:lnTo>
                <a:lnTo>
                  <a:pt x="34" y="14"/>
                </a:lnTo>
                <a:lnTo>
                  <a:pt x="20" y="14"/>
                </a:lnTo>
                <a:lnTo>
                  <a:pt x="20" y="0"/>
                </a:lnTo>
                <a:lnTo>
                  <a:pt x="14" y="0"/>
                </a:lnTo>
                <a:lnTo>
                  <a:pt x="14" y="14"/>
                </a:lnTo>
                <a:lnTo>
                  <a:pt x="0" y="14"/>
                </a:lnTo>
                <a:lnTo>
                  <a:pt x="0" y="21"/>
                </a:lnTo>
                <a:lnTo>
                  <a:pt x="14" y="21"/>
                </a:lnTo>
                <a:lnTo>
                  <a:pt x="14" y="34"/>
                </a:lnTo>
                <a:close/>
              </a:path>
            </a:pathLst>
          </a:custGeom>
          <a:solidFill>
            <a:srgbClr val="ff00ff"/>
          </a:solidFill>
          <a:ln w="0">
            <a:solidFill>
              <a:srgbClr val="ff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6" name=""/>
          <p:cNvSpPr/>
          <p:nvPr/>
        </p:nvSpPr>
        <p:spPr>
          <a:xfrm>
            <a:off x="7178760" y="2082960"/>
            <a:ext cx="54000" cy="53640"/>
          </a:xfrm>
          <a:custGeom>
            <a:avLst/>
            <a:gdLst/>
            <a:ahLst/>
            <a:rect l="l" t="t" r="r" b="b"/>
            <a:pathLst>
              <a:path w="34" h="34">
                <a:moveTo>
                  <a:pt x="14" y="34"/>
                </a:moveTo>
                <a:lnTo>
                  <a:pt x="21" y="34"/>
                </a:lnTo>
                <a:lnTo>
                  <a:pt x="21" y="21"/>
                </a:lnTo>
                <a:lnTo>
                  <a:pt x="34" y="21"/>
                </a:lnTo>
                <a:lnTo>
                  <a:pt x="34" y="14"/>
                </a:lnTo>
                <a:lnTo>
                  <a:pt x="21" y="14"/>
                </a:lnTo>
                <a:lnTo>
                  <a:pt x="21" y="0"/>
                </a:lnTo>
                <a:lnTo>
                  <a:pt x="14" y="0"/>
                </a:lnTo>
                <a:lnTo>
                  <a:pt x="14" y="14"/>
                </a:lnTo>
                <a:lnTo>
                  <a:pt x="0" y="14"/>
                </a:lnTo>
                <a:lnTo>
                  <a:pt x="0" y="21"/>
                </a:lnTo>
                <a:lnTo>
                  <a:pt x="14" y="21"/>
                </a:lnTo>
                <a:lnTo>
                  <a:pt x="14" y="34"/>
                </a:lnTo>
                <a:close/>
              </a:path>
            </a:pathLst>
          </a:custGeom>
          <a:solidFill>
            <a:srgbClr val="ff00ff"/>
          </a:solidFill>
          <a:ln w="0">
            <a:solidFill>
              <a:srgbClr val="ff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7" name=""/>
          <p:cNvSpPr/>
          <p:nvPr/>
        </p:nvSpPr>
        <p:spPr>
          <a:xfrm>
            <a:off x="7189920" y="5756400"/>
            <a:ext cx="42840" cy="55440"/>
          </a:xfrm>
          <a:custGeom>
            <a:avLst/>
            <a:gdLst/>
            <a:ahLst/>
            <a:rect l="l" t="t" r="r" b="b"/>
            <a:pathLst>
              <a:path w="27" h="35">
                <a:moveTo>
                  <a:pt x="14" y="35"/>
                </a:moveTo>
                <a:lnTo>
                  <a:pt x="14" y="35"/>
                </a:lnTo>
                <a:lnTo>
                  <a:pt x="14" y="21"/>
                </a:lnTo>
                <a:lnTo>
                  <a:pt x="27" y="21"/>
                </a:lnTo>
                <a:lnTo>
                  <a:pt x="27" y="14"/>
                </a:lnTo>
                <a:lnTo>
                  <a:pt x="14" y="14"/>
                </a:lnTo>
                <a:lnTo>
                  <a:pt x="14" y="0"/>
                </a:lnTo>
                <a:lnTo>
                  <a:pt x="14" y="0"/>
                </a:lnTo>
                <a:lnTo>
                  <a:pt x="14" y="14"/>
                </a:lnTo>
                <a:lnTo>
                  <a:pt x="0" y="14"/>
                </a:lnTo>
                <a:lnTo>
                  <a:pt x="0" y="21"/>
                </a:lnTo>
                <a:lnTo>
                  <a:pt x="14" y="21"/>
                </a:lnTo>
                <a:lnTo>
                  <a:pt x="14" y="35"/>
                </a:lnTo>
                <a:close/>
              </a:path>
            </a:pathLst>
          </a:custGeom>
          <a:solidFill>
            <a:srgbClr val="ff00ff"/>
          </a:solidFill>
          <a:ln w="0">
            <a:solidFill>
              <a:srgbClr val="ff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8" name=""/>
          <p:cNvSpPr/>
          <p:nvPr/>
        </p:nvSpPr>
        <p:spPr>
          <a:xfrm>
            <a:off x="1990800" y="5756400"/>
            <a:ext cx="54000" cy="55440"/>
          </a:xfrm>
          <a:custGeom>
            <a:avLst/>
            <a:gdLst/>
            <a:ahLst/>
            <a:rect l="l" t="t" r="r" b="b"/>
            <a:pathLst>
              <a:path w="34" h="35">
                <a:moveTo>
                  <a:pt x="14" y="35"/>
                </a:moveTo>
                <a:lnTo>
                  <a:pt x="20" y="35"/>
                </a:lnTo>
                <a:lnTo>
                  <a:pt x="20" y="21"/>
                </a:lnTo>
                <a:lnTo>
                  <a:pt x="34" y="21"/>
                </a:lnTo>
                <a:lnTo>
                  <a:pt x="34" y="14"/>
                </a:lnTo>
                <a:lnTo>
                  <a:pt x="20" y="14"/>
                </a:lnTo>
                <a:lnTo>
                  <a:pt x="20" y="0"/>
                </a:lnTo>
                <a:lnTo>
                  <a:pt x="14" y="0"/>
                </a:lnTo>
                <a:lnTo>
                  <a:pt x="14" y="14"/>
                </a:lnTo>
                <a:lnTo>
                  <a:pt x="0" y="14"/>
                </a:lnTo>
                <a:lnTo>
                  <a:pt x="0" y="21"/>
                </a:lnTo>
                <a:lnTo>
                  <a:pt x="14" y="21"/>
                </a:lnTo>
                <a:lnTo>
                  <a:pt x="14" y="35"/>
                </a:lnTo>
                <a:close/>
              </a:path>
            </a:pathLst>
          </a:custGeom>
          <a:solidFill>
            <a:srgbClr val="ff00ff"/>
          </a:solidFill>
          <a:ln w="0">
            <a:solidFill>
              <a:srgbClr val="ff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9" name=""/>
          <p:cNvSpPr/>
          <p:nvPr/>
        </p:nvSpPr>
        <p:spPr>
          <a:xfrm>
            <a:off x="5318280" y="3679920"/>
            <a:ext cx="328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600" spc="-1" strike="noStrike">
                <a:solidFill>
                  <a:srgbClr val="000000"/>
                </a:solidFill>
                <a:latin typeface="Arial"/>
              </a:rPr>
              <a:t>Barauna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0" name=""/>
          <p:cNvSpPr/>
          <p:nvPr/>
        </p:nvSpPr>
        <p:spPr>
          <a:xfrm flipV="1">
            <a:off x="2690640" y="5603400"/>
            <a:ext cx="76320" cy="163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1" name=""/>
          <p:cNvSpPr/>
          <p:nvPr/>
        </p:nvSpPr>
        <p:spPr>
          <a:xfrm flipV="1">
            <a:off x="2844720" y="5285880"/>
            <a:ext cx="76320" cy="1652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2" name=""/>
          <p:cNvSpPr/>
          <p:nvPr/>
        </p:nvSpPr>
        <p:spPr>
          <a:xfrm flipV="1">
            <a:off x="2997360" y="4970160"/>
            <a:ext cx="75960" cy="1522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3" name=""/>
          <p:cNvSpPr/>
          <p:nvPr/>
        </p:nvSpPr>
        <p:spPr>
          <a:xfrm flipV="1">
            <a:off x="3151080" y="4641840"/>
            <a:ext cx="87480" cy="163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4" name=""/>
          <p:cNvSpPr/>
          <p:nvPr/>
        </p:nvSpPr>
        <p:spPr>
          <a:xfrm flipV="1">
            <a:off x="3314880" y="4324320"/>
            <a:ext cx="75960" cy="163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5" name=""/>
          <p:cNvSpPr/>
          <p:nvPr/>
        </p:nvSpPr>
        <p:spPr>
          <a:xfrm flipV="1">
            <a:off x="3468600" y="4006800"/>
            <a:ext cx="76320" cy="1540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6" name=""/>
          <p:cNvSpPr/>
          <p:nvPr/>
        </p:nvSpPr>
        <p:spPr>
          <a:xfrm>
            <a:off x="3621240" y="3679920"/>
            <a:ext cx="75960" cy="163440"/>
          </a:xfrm>
          <a:custGeom>
            <a:avLst/>
            <a:gdLst/>
            <a:ahLst/>
            <a:rect l="l" t="t" r="r" b="b"/>
            <a:pathLst>
              <a:path w="48" h="103">
                <a:moveTo>
                  <a:pt x="0" y="103"/>
                </a:moveTo>
                <a:lnTo>
                  <a:pt x="48" y="7"/>
                </a:lnTo>
                <a:lnTo>
                  <a:pt x="48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7" name=""/>
          <p:cNvSpPr/>
          <p:nvPr/>
        </p:nvSpPr>
        <p:spPr>
          <a:xfrm flipV="1">
            <a:off x="3763800" y="3339720"/>
            <a:ext cx="54000" cy="1746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8" name=""/>
          <p:cNvSpPr/>
          <p:nvPr/>
        </p:nvSpPr>
        <p:spPr>
          <a:xfrm flipV="1">
            <a:off x="3884760" y="3011040"/>
            <a:ext cx="54000" cy="1652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9" name=""/>
          <p:cNvSpPr/>
          <p:nvPr/>
        </p:nvSpPr>
        <p:spPr>
          <a:xfrm flipV="1">
            <a:off x="4003560" y="2673360"/>
            <a:ext cx="55800" cy="163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0" name=""/>
          <p:cNvSpPr/>
          <p:nvPr/>
        </p:nvSpPr>
        <p:spPr>
          <a:xfrm flipV="1">
            <a:off x="4124160" y="2333520"/>
            <a:ext cx="55800" cy="1764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1" name=""/>
          <p:cNvSpPr/>
          <p:nvPr/>
        </p:nvSpPr>
        <p:spPr>
          <a:xfrm flipV="1">
            <a:off x="4245120" y="2028960"/>
            <a:ext cx="44280" cy="1411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2" name=""/>
          <p:cNvSpPr/>
          <p:nvPr/>
        </p:nvSpPr>
        <p:spPr>
          <a:xfrm>
            <a:off x="8021520" y="4521240"/>
            <a:ext cx="230400" cy="1192320"/>
          </a:xfrm>
          <a:prstGeom prst="rect">
            <a:avLst/>
          </a:prstGeom>
          <a:solidFill>
            <a:srgbClr val="ffe8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3" name=""/>
          <p:cNvSpPr/>
          <p:nvPr/>
        </p:nvSpPr>
        <p:spPr>
          <a:xfrm>
            <a:off x="8021520" y="3328920"/>
            <a:ext cx="230400" cy="1192320"/>
          </a:xfrm>
          <a:prstGeom prst="rect">
            <a:avLst/>
          </a:prstGeom>
          <a:solidFill>
            <a:srgbClr val="ff91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4" name=""/>
          <p:cNvSpPr/>
          <p:nvPr/>
        </p:nvSpPr>
        <p:spPr>
          <a:xfrm>
            <a:off x="8021520" y="2136600"/>
            <a:ext cx="230400" cy="1192320"/>
          </a:xfrm>
          <a:prstGeom prst="rect">
            <a:avLst/>
          </a:prstGeom>
          <a:solidFill>
            <a:srgbClr val="ff3a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5" name=""/>
          <p:cNvSpPr/>
          <p:nvPr/>
        </p:nvSpPr>
        <p:spPr>
          <a:xfrm>
            <a:off x="8272080" y="56358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6" name=""/>
          <p:cNvSpPr/>
          <p:nvPr/>
        </p:nvSpPr>
        <p:spPr>
          <a:xfrm>
            <a:off x="8272080" y="444492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7" name=""/>
          <p:cNvSpPr/>
          <p:nvPr/>
        </p:nvSpPr>
        <p:spPr>
          <a:xfrm>
            <a:off x="8272080" y="325296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8" name=""/>
          <p:cNvSpPr/>
          <p:nvPr/>
        </p:nvSpPr>
        <p:spPr>
          <a:xfrm rot="16200000">
            <a:off x="7766280" y="4386240"/>
            <a:ext cx="92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9" name=""/>
          <p:cNvSpPr/>
          <p:nvPr/>
        </p:nvSpPr>
        <p:spPr>
          <a:xfrm rot="16200000">
            <a:off x="7794360" y="4315680"/>
            <a:ext cx="35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í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0" name=""/>
          <p:cNvSpPr/>
          <p:nvPr/>
        </p:nvSpPr>
        <p:spPr>
          <a:xfrm rot="16200000">
            <a:off x="7779960" y="42703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1" name=""/>
          <p:cNvSpPr/>
          <p:nvPr/>
        </p:nvSpPr>
        <p:spPr>
          <a:xfrm rot="16200000">
            <a:off x="7776720" y="42112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2" name=""/>
          <p:cNvSpPr/>
          <p:nvPr/>
        </p:nvSpPr>
        <p:spPr>
          <a:xfrm rot="16200000">
            <a:off x="7798320" y="4155840"/>
            <a:ext cx="28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3" name=""/>
          <p:cNvSpPr/>
          <p:nvPr/>
        </p:nvSpPr>
        <p:spPr>
          <a:xfrm rot="16200000">
            <a:off x="7794360" y="4129920"/>
            <a:ext cx="35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4" name=""/>
          <p:cNvSpPr/>
          <p:nvPr/>
        </p:nvSpPr>
        <p:spPr>
          <a:xfrm rot="16200000">
            <a:off x="7769880" y="4073760"/>
            <a:ext cx="84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5" name=""/>
          <p:cNvSpPr/>
          <p:nvPr/>
        </p:nvSpPr>
        <p:spPr>
          <a:xfrm rot="16200000">
            <a:off x="7779960" y="399564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6" name=""/>
          <p:cNvSpPr/>
          <p:nvPr/>
        </p:nvSpPr>
        <p:spPr>
          <a:xfrm rot="16200000">
            <a:off x="7794360" y="3944160"/>
            <a:ext cx="35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7" name=""/>
          <p:cNvSpPr/>
          <p:nvPr/>
        </p:nvSpPr>
        <p:spPr>
          <a:xfrm rot="16200000">
            <a:off x="7776720" y="38937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8" name=""/>
          <p:cNvSpPr/>
          <p:nvPr/>
        </p:nvSpPr>
        <p:spPr>
          <a:xfrm rot="16200000">
            <a:off x="7794360" y="3844440"/>
            <a:ext cx="35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9" name=""/>
          <p:cNvSpPr/>
          <p:nvPr/>
        </p:nvSpPr>
        <p:spPr>
          <a:xfrm rot="16200000">
            <a:off x="7798320" y="3813120"/>
            <a:ext cx="28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0" name=""/>
          <p:cNvSpPr/>
          <p:nvPr/>
        </p:nvSpPr>
        <p:spPr>
          <a:xfrm rot="16200000">
            <a:off x="7779960" y="3764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1" name=""/>
          <p:cNvSpPr/>
          <p:nvPr/>
        </p:nvSpPr>
        <p:spPr>
          <a:xfrm rot="16200000">
            <a:off x="7776720" y="37047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2" name=""/>
          <p:cNvSpPr/>
          <p:nvPr/>
        </p:nvSpPr>
        <p:spPr>
          <a:xfrm rot="16200000">
            <a:off x="7794360" y="3645720"/>
            <a:ext cx="35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3" name=""/>
          <p:cNvSpPr/>
          <p:nvPr/>
        </p:nvSpPr>
        <p:spPr>
          <a:xfrm rot="16200000">
            <a:off x="7790400" y="3610080"/>
            <a:ext cx="43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4" name=""/>
          <p:cNvSpPr/>
          <p:nvPr/>
        </p:nvSpPr>
        <p:spPr>
          <a:xfrm rot="16200000">
            <a:off x="7759440" y="35359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5" name=""/>
          <p:cNvSpPr/>
          <p:nvPr/>
        </p:nvSpPr>
        <p:spPr>
          <a:xfrm rot="16200000">
            <a:off x="7776720" y="345384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6" name=""/>
          <p:cNvSpPr/>
          <p:nvPr/>
        </p:nvSpPr>
        <p:spPr>
          <a:xfrm rot="16200000">
            <a:off x="7794360" y="3404520"/>
            <a:ext cx="35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7" name=""/>
          <p:cNvSpPr/>
          <p:nvPr/>
        </p:nvSpPr>
        <p:spPr>
          <a:xfrm rot="16200000">
            <a:off x="7790400" y="3359160"/>
            <a:ext cx="43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8" name=""/>
          <p:cNvSpPr/>
          <p:nvPr/>
        </p:nvSpPr>
        <p:spPr>
          <a:xfrm rot="16200000">
            <a:off x="7776720" y="331092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9" name=""/>
          <p:cNvSpPr/>
          <p:nvPr/>
        </p:nvSpPr>
        <p:spPr>
          <a:xfrm rot="16200000">
            <a:off x="7779960" y="323784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0" name=""/>
          <p:cNvSpPr/>
          <p:nvPr/>
        </p:nvSpPr>
        <p:spPr>
          <a:xfrm rot="16200000">
            <a:off x="7790400" y="3195720"/>
            <a:ext cx="43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91" name=""/>
          <p:cNvGrpSpPr/>
          <p:nvPr/>
        </p:nvGrpSpPr>
        <p:grpSpPr>
          <a:xfrm>
            <a:off x="596880" y="2203560"/>
            <a:ext cx="643680" cy="3651480"/>
            <a:chOff x="596880" y="2203560"/>
            <a:chExt cx="643680" cy="3651480"/>
          </a:xfrm>
        </p:grpSpPr>
        <p:sp>
          <p:nvSpPr>
            <p:cNvPr id="6392" name=""/>
            <p:cNvSpPr/>
            <p:nvPr/>
          </p:nvSpPr>
          <p:spPr>
            <a:xfrm>
              <a:off x="906480" y="4881600"/>
              <a:ext cx="230040" cy="89676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3" name=""/>
            <p:cNvSpPr/>
            <p:nvPr/>
          </p:nvSpPr>
          <p:spPr>
            <a:xfrm>
              <a:off x="906480" y="3986280"/>
              <a:ext cx="230040" cy="895320"/>
            </a:xfrm>
            <a:prstGeom prst="rect">
              <a:avLst/>
            </a:prstGeom>
            <a:solidFill>
              <a:srgbClr val="b3e10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4" name=""/>
            <p:cNvSpPr/>
            <p:nvPr/>
          </p:nvSpPr>
          <p:spPr>
            <a:xfrm>
              <a:off x="906480" y="3100320"/>
              <a:ext cx="230040" cy="885960"/>
            </a:xfrm>
            <a:prstGeom prst="rect">
              <a:avLst/>
            </a:prstGeom>
            <a:solidFill>
              <a:srgbClr val="73c71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5" name=""/>
            <p:cNvSpPr/>
            <p:nvPr/>
          </p:nvSpPr>
          <p:spPr>
            <a:xfrm>
              <a:off x="906480" y="2203560"/>
              <a:ext cx="230040" cy="896760"/>
            </a:xfrm>
            <a:prstGeom prst="rect">
              <a:avLst/>
            </a:prstGeom>
            <a:solidFill>
              <a:srgbClr val="33ae28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6" name=""/>
            <p:cNvSpPr/>
            <p:nvPr/>
          </p:nvSpPr>
          <p:spPr>
            <a:xfrm>
              <a:off x="1169640" y="57024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7" name=""/>
            <p:cNvSpPr/>
            <p:nvPr/>
          </p:nvSpPr>
          <p:spPr>
            <a:xfrm>
              <a:off x="1169640" y="48052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8" name=""/>
            <p:cNvSpPr/>
            <p:nvPr/>
          </p:nvSpPr>
          <p:spPr>
            <a:xfrm>
              <a:off x="1169640" y="39085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9" name=""/>
            <p:cNvSpPr/>
            <p:nvPr/>
          </p:nvSpPr>
          <p:spPr>
            <a:xfrm>
              <a:off x="1169640" y="30225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0" name=""/>
            <p:cNvSpPr/>
            <p:nvPr/>
          </p:nvSpPr>
          <p:spPr>
            <a:xfrm rot="16200000">
              <a:off x="655200" y="501588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1" name=""/>
            <p:cNvSpPr/>
            <p:nvPr/>
          </p:nvSpPr>
          <p:spPr>
            <a:xfrm rot="16200000">
              <a:off x="627120" y="495396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2" name=""/>
            <p:cNvSpPr/>
            <p:nvPr/>
          </p:nvSpPr>
          <p:spPr>
            <a:xfrm rot="16200000">
              <a:off x="630720" y="4872240"/>
              <a:ext cx="84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3" name=""/>
            <p:cNvSpPr/>
            <p:nvPr/>
          </p:nvSpPr>
          <p:spPr>
            <a:xfrm rot="16200000">
              <a:off x="655200" y="48078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4" name=""/>
            <p:cNvSpPr/>
            <p:nvPr/>
          </p:nvSpPr>
          <p:spPr>
            <a:xfrm rot="16200000">
              <a:off x="651240" y="477360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5" name=""/>
            <p:cNvSpPr/>
            <p:nvPr/>
          </p:nvSpPr>
          <p:spPr>
            <a:xfrm rot="16200000">
              <a:off x="655200" y="473184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6" name=""/>
            <p:cNvSpPr/>
            <p:nvPr/>
          </p:nvSpPr>
          <p:spPr>
            <a:xfrm rot="16200000">
              <a:off x="630720" y="4675320"/>
              <a:ext cx="84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7" name=""/>
            <p:cNvSpPr/>
            <p:nvPr/>
          </p:nvSpPr>
          <p:spPr>
            <a:xfrm rot="16200000">
              <a:off x="637560" y="46047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8" name=""/>
            <p:cNvSpPr/>
            <p:nvPr/>
          </p:nvSpPr>
          <p:spPr>
            <a:xfrm rot="16200000">
              <a:off x="640800" y="453384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9" name=""/>
            <p:cNvSpPr/>
            <p:nvPr/>
          </p:nvSpPr>
          <p:spPr>
            <a:xfrm rot="16200000">
              <a:off x="637560" y="44730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0" name=""/>
            <p:cNvSpPr/>
            <p:nvPr/>
          </p:nvSpPr>
          <p:spPr>
            <a:xfrm rot="16200000">
              <a:off x="640800" y="439992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1" name=""/>
            <p:cNvSpPr/>
            <p:nvPr/>
          </p:nvSpPr>
          <p:spPr>
            <a:xfrm rot="16200000">
              <a:off x="655200" y="436032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2" name=""/>
            <p:cNvSpPr/>
            <p:nvPr/>
          </p:nvSpPr>
          <p:spPr>
            <a:xfrm rot="16200000">
              <a:off x="655200" y="431568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3" name=""/>
            <p:cNvSpPr/>
            <p:nvPr/>
          </p:nvSpPr>
          <p:spPr>
            <a:xfrm rot="16200000">
              <a:off x="630720" y="4259520"/>
              <a:ext cx="84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4" name=""/>
            <p:cNvSpPr/>
            <p:nvPr/>
          </p:nvSpPr>
          <p:spPr>
            <a:xfrm rot="16200000">
              <a:off x="637560" y="41889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5" name=""/>
            <p:cNvSpPr/>
            <p:nvPr/>
          </p:nvSpPr>
          <p:spPr>
            <a:xfrm rot="16200000">
              <a:off x="637560" y="41126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6" name=""/>
            <p:cNvSpPr/>
            <p:nvPr/>
          </p:nvSpPr>
          <p:spPr>
            <a:xfrm rot="16200000">
              <a:off x="637560" y="40474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7" name=""/>
            <p:cNvSpPr/>
            <p:nvPr/>
          </p:nvSpPr>
          <p:spPr>
            <a:xfrm rot="16200000">
              <a:off x="637560" y="39808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8" name=""/>
            <p:cNvSpPr/>
            <p:nvPr/>
          </p:nvSpPr>
          <p:spPr>
            <a:xfrm rot="16200000">
              <a:off x="637560" y="39157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9" name=""/>
            <p:cNvSpPr/>
            <p:nvPr/>
          </p:nvSpPr>
          <p:spPr>
            <a:xfrm rot="16200000">
              <a:off x="637560" y="38397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0" name=""/>
            <p:cNvSpPr/>
            <p:nvPr/>
          </p:nvSpPr>
          <p:spPr>
            <a:xfrm rot="16200000">
              <a:off x="637560" y="37746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1" name=""/>
            <p:cNvSpPr/>
            <p:nvPr/>
          </p:nvSpPr>
          <p:spPr>
            <a:xfrm rot="16200000">
              <a:off x="637560" y="37080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2" name=""/>
            <p:cNvSpPr/>
            <p:nvPr/>
          </p:nvSpPr>
          <p:spPr>
            <a:xfrm rot="16200000">
              <a:off x="637560" y="36316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3" name=""/>
            <p:cNvSpPr/>
            <p:nvPr/>
          </p:nvSpPr>
          <p:spPr>
            <a:xfrm rot="16200000">
              <a:off x="640800" y="357012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4" name=""/>
            <p:cNvSpPr/>
            <p:nvPr/>
          </p:nvSpPr>
          <p:spPr>
            <a:xfrm rot="16200000">
              <a:off x="655200" y="35172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5" name=""/>
            <p:cNvSpPr/>
            <p:nvPr/>
          </p:nvSpPr>
          <p:spPr>
            <a:xfrm rot="16200000">
              <a:off x="655200" y="348552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6" name=""/>
            <p:cNvSpPr/>
            <p:nvPr/>
          </p:nvSpPr>
          <p:spPr>
            <a:xfrm rot="16200000">
              <a:off x="627120" y="342360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7" name=""/>
            <p:cNvSpPr/>
            <p:nvPr/>
          </p:nvSpPr>
          <p:spPr>
            <a:xfrm rot="16200000">
              <a:off x="637560" y="33476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8" name=""/>
            <p:cNvSpPr/>
            <p:nvPr/>
          </p:nvSpPr>
          <p:spPr>
            <a:xfrm rot="16200000">
              <a:off x="640800" y="328608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9" name=""/>
            <p:cNvSpPr/>
            <p:nvPr/>
          </p:nvSpPr>
          <p:spPr>
            <a:xfrm rot="16200000">
              <a:off x="637560" y="32158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0" name=""/>
            <p:cNvSpPr/>
            <p:nvPr/>
          </p:nvSpPr>
          <p:spPr>
            <a:xfrm rot="16200000">
              <a:off x="655200" y="31680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1" name=""/>
            <p:cNvSpPr/>
            <p:nvPr/>
          </p:nvSpPr>
          <p:spPr>
            <a:xfrm rot="16200000">
              <a:off x="659160" y="3127320"/>
              <a:ext cx="28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2" name=""/>
            <p:cNvSpPr/>
            <p:nvPr/>
          </p:nvSpPr>
          <p:spPr>
            <a:xfrm rot="16200000">
              <a:off x="640800" y="308916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3" name=""/>
            <p:cNvSpPr/>
            <p:nvPr/>
          </p:nvSpPr>
          <p:spPr>
            <a:xfrm rot="16200000">
              <a:off x="637560" y="30189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4" name=""/>
            <p:cNvSpPr/>
            <p:nvPr/>
          </p:nvSpPr>
          <p:spPr>
            <a:xfrm rot="16200000">
              <a:off x="637560" y="29538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5" name=""/>
            <p:cNvSpPr/>
            <p:nvPr/>
          </p:nvSpPr>
          <p:spPr>
            <a:xfrm rot="16200000">
              <a:off x="637560" y="28886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6" name=""/>
            <p:cNvSpPr/>
            <p:nvPr/>
          </p:nvSpPr>
          <p:spPr>
            <a:xfrm rot="16200000">
              <a:off x="640800" y="281448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37" name=""/>
          <p:cNvSpPr/>
          <p:nvPr/>
        </p:nvSpPr>
        <p:spPr>
          <a:xfrm>
            <a:off x="2252520" y="2268360"/>
            <a:ext cx="492120" cy="492480"/>
          </a:xfrm>
          <a:prstGeom prst="ellipse">
            <a:avLst/>
          </a:pr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8" name=""/>
          <p:cNvSpPr/>
          <p:nvPr/>
        </p:nvSpPr>
        <p:spPr>
          <a:xfrm>
            <a:off x="2350440" y="2378160"/>
            <a:ext cx="284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9" name=""/>
          <p:cNvSpPr/>
          <p:nvPr/>
        </p:nvSpPr>
        <p:spPr>
          <a:xfrm>
            <a:off x="2434320" y="1206360"/>
            <a:ext cx="4586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CP dos Poços Secos, Abandonados e Desativados / Nível Estáti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6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6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56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56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56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56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0" name=""/>
          <p:cNvSpPr/>
          <p:nvPr/>
        </p:nvSpPr>
        <p:spPr>
          <a:xfrm>
            <a:off x="1332000" y="333360"/>
            <a:ext cx="817236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99"/>
                </a:solidFill>
                <a:latin typeface="Tahoma"/>
              </a:rPr>
              <a:t>BARAUNAS – RN</a:t>
            </a:r>
            <a:br>
              <a:rPr sz="2400"/>
            </a:br>
            <a:r>
              <a:rPr b="0" lang="pt-BR" sz="2400" spc="-1" strike="noStrike">
                <a:solidFill>
                  <a:srgbClr val="333399"/>
                </a:solidFill>
                <a:latin typeface="Tahoma"/>
              </a:rPr>
              <a:t>Aquífero Jandaíra – ICP Inativos e 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1" name=""/>
          <p:cNvSpPr/>
          <p:nvPr/>
        </p:nvSpPr>
        <p:spPr>
          <a:xfrm>
            <a:off x="2276640" y="2727360"/>
            <a:ext cx="4543200" cy="2921040"/>
          </a:xfrm>
          <a:custGeom>
            <a:avLst/>
            <a:gdLst/>
            <a:ahLst/>
            <a:rect l="l" t="t" r="r" b="b"/>
            <a:pathLst>
              <a:path w="2862" h="1840">
                <a:moveTo>
                  <a:pt x="683" y="207"/>
                </a:moveTo>
                <a:lnTo>
                  <a:pt x="683" y="200"/>
                </a:lnTo>
                <a:lnTo>
                  <a:pt x="683" y="200"/>
                </a:lnTo>
                <a:lnTo>
                  <a:pt x="683" y="200"/>
                </a:lnTo>
                <a:lnTo>
                  <a:pt x="676" y="193"/>
                </a:lnTo>
                <a:lnTo>
                  <a:pt x="676" y="193"/>
                </a:lnTo>
                <a:lnTo>
                  <a:pt x="676" y="200"/>
                </a:lnTo>
                <a:lnTo>
                  <a:pt x="676" y="200"/>
                </a:lnTo>
                <a:lnTo>
                  <a:pt x="676" y="207"/>
                </a:lnTo>
                <a:lnTo>
                  <a:pt x="676" y="207"/>
                </a:lnTo>
                <a:lnTo>
                  <a:pt x="676" y="214"/>
                </a:lnTo>
                <a:lnTo>
                  <a:pt x="676" y="214"/>
                </a:lnTo>
                <a:lnTo>
                  <a:pt x="676" y="214"/>
                </a:lnTo>
                <a:lnTo>
                  <a:pt x="683" y="214"/>
                </a:lnTo>
                <a:lnTo>
                  <a:pt x="683" y="207"/>
                </a:lnTo>
                <a:close/>
                <a:moveTo>
                  <a:pt x="917" y="179"/>
                </a:moveTo>
                <a:lnTo>
                  <a:pt x="917" y="173"/>
                </a:lnTo>
                <a:lnTo>
                  <a:pt x="917" y="173"/>
                </a:lnTo>
                <a:lnTo>
                  <a:pt x="917" y="166"/>
                </a:lnTo>
                <a:lnTo>
                  <a:pt x="917" y="159"/>
                </a:lnTo>
                <a:lnTo>
                  <a:pt x="917" y="159"/>
                </a:lnTo>
                <a:lnTo>
                  <a:pt x="917" y="159"/>
                </a:lnTo>
                <a:lnTo>
                  <a:pt x="917" y="152"/>
                </a:lnTo>
                <a:lnTo>
                  <a:pt x="917" y="152"/>
                </a:lnTo>
                <a:lnTo>
                  <a:pt x="910" y="145"/>
                </a:lnTo>
                <a:lnTo>
                  <a:pt x="910" y="152"/>
                </a:lnTo>
                <a:lnTo>
                  <a:pt x="904" y="152"/>
                </a:lnTo>
                <a:lnTo>
                  <a:pt x="904" y="152"/>
                </a:lnTo>
                <a:lnTo>
                  <a:pt x="904" y="159"/>
                </a:lnTo>
                <a:lnTo>
                  <a:pt x="904" y="159"/>
                </a:lnTo>
                <a:lnTo>
                  <a:pt x="904" y="166"/>
                </a:lnTo>
                <a:lnTo>
                  <a:pt x="910" y="166"/>
                </a:lnTo>
                <a:lnTo>
                  <a:pt x="910" y="173"/>
                </a:lnTo>
                <a:lnTo>
                  <a:pt x="910" y="179"/>
                </a:lnTo>
                <a:lnTo>
                  <a:pt x="917" y="179"/>
                </a:lnTo>
                <a:lnTo>
                  <a:pt x="917" y="179"/>
                </a:lnTo>
                <a:close/>
                <a:moveTo>
                  <a:pt x="711" y="145"/>
                </a:moveTo>
                <a:lnTo>
                  <a:pt x="711" y="145"/>
                </a:lnTo>
                <a:lnTo>
                  <a:pt x="711" y="138"/>
                </a:lnTo>
                <a:lnTo>
                  <a:pt x="711" y="138"/>
                </a:lnTo>
                <a:lnTo>
                  <a:pt x="711" y="131"/>
                </a:lnTo>
                <a:lnTo>
                  <a:pt x="711" y="124"/>
                </a:lnTo>
                <a:lnTo>
                  <a:pt x="711" y="124"/>
                </a:lnTo>
                <a:lnTo>
                  <a:pt x="711" y="117"/>
                </a:lnTo>
                <a:lnTo>
                  <a:pt x="711" y="111"/>
                </a:lnTo>
                <a:lnTo>
                  <a:pt x="704" y="117"/>
                </a:lnTo>
                <a:lnTo>
                  <a:pt x="704" y="124"/>
                </a:lnTo>
                <a:lnTo>
                  <a:pt x="704" y="131"/>
                </a:lnTo>
                <a:lnTo>
                  <a:pt x="697" y="131"/>
                </a:lnTo>
                <a:lnTo>
                  <a:pt x="697" y="138"/>
                </a:lnTo>
                <a:lnTo>
                  <a:pt x="697" y="138"/>
                </a:lnTo>
                <a:lnTo>
                  <a:pt x="697" y="145"/>
                </a:lnTo>
                <a:lnTo>
                  <a:pt x="704" y="152"/>
                </a:lnTo>
                <a:lnTo>
                  <a:pt x="704" y="152"/>
                </a:lnTo>
                <a:lnTo>
                  <a:pt x="711" y="159"/>
                </a:lnTo>
                <a:lnTo>
                  <a:pt x="711" y="152"/>
                </a:lnTo>
                <a:lnTo>
                  <a:pt x="711" y="145"/>
                </a:lnTo>
                <a:close/>
                <a:moveTo>
                  <a:pt x="738" y="90"/>
                </a:moveTo>
                <a:lnTo>
                  <a:pt x="738" y="83"/>
                </a:lnTo>
                <a:lnTo>
                  <a:pt x="745" y="76"/>
                </a:lnTo>
                <a:lnTo>
                  <a:pt x="745" y="76"/>
                </a:lnTo>
                <a:lnTo>
                  <a:pt x="745" y="69"/>
                </a:lnTo>
                <a:lnTo>
                  <a:pt x="745" y="62"/>
                </a:lnTo>
                <a:lnTo>
                  <a:pt x="745" y="62"/>
                </a:lnTo>
                <a:lnTo>
                  <a:pt x="738" y="55"/>
                </a:lnTo>
                <a:lnTo>
                  <a:pt x="738" y="55"/>
                </a:lnTo>
                <a:lnTo>
                  <a:pt x="731" y="55"/>
                </a:lnTo>
                <a:lnTo>
                  <a:pt x="717" y="55"/>
                </a:lnTo>
                <a:lnTo>
                  <a:pt x="711" y="55"/>
                </a:lnTo>
                <a:lnTo>
                  <a:pt x="711" y="62"/>
                </a:lnTo>
                <a:lnTo>
                  <a:pt x="711" y="62"/>
                </a:lnTo>
                <a:lnTo>
                  <a:pt x="711" y="69"/>
                </a:lnTo>
                <a:lnTo>
                  <a:pt x="711" y="76"/>
                </a:lnTo>
                <a:lnTo>
                  <a:pt x="717" y="76"/>
                </a:lnTo>
                <a:lnTo>
                  <a:pt x="724" y="83"/>
                </a:lnTo>
                <a:lnTo>
                  <a:pt x="731" y="90"/>
                </a:lnTo>
                <a:lnTo>
                  <a:pt x="738" y="90"/>
                </a:lnTo>
                <a:lnTo>
                  <a:pt x="738" y="90"/>
                </a:lnTo>
                <a:close/>
                <a:moveTo>
                  <a:pt x="711" y="28"/>
                </a:moveTo>
                <a:lnTo>
                  <a:pt x="711" y="21"/>
                </a:lnTo>
                <a:lnTo>
                  <a:pt x="711" y="14"/>
                </a:lnTo>
                <a:lnTo>
                  <a:pt x="711" y="14"/>
                </a:lnTo>
                <a:lnTo>
                  <a:pt x="704" y="14"/>
                </a:lnTo>
                <a:lnTo>
                  <a:pt x="704" y="28"/>
                </a:lnTo>
                <a:lnTo>
                  <a:pt x="704" y="35"/>
                </a:lnTo>
                <a:lnTo>
                  <a:pt x="704" y="42"/>
                </a:lnTo>
                <a:lnTo>
                  <a:pt x="704" y="49"/>
                </a:lnTo>
                <a:lnTo>
                  <a:pt x="704" y="55"/>
                </a:lnTo>
                <a:lnTo>
                  <a:pt x="711" y="55"/>
                </a:lnTo>
                <a:lnTo>
                  <a:pt x="711" y="55"/>
                </a:lnTo>
                <a:lnTo>
                  <a:pt x="711" y="49"/>
                </a:lnTo>
                <a:lnTo>
                  <a:pt x="711" y="42"/>
                </a:lnTo>
                <a:lnTo>
                  <a:pt x="711" y="28"/>
                </a:lnTo>
                <a:close/>
                <a:moveTo>
                  <a:pt x="1310" y="1840"/>
                </a:moveTo>
                <a:lnTo>
                  <a:pt x="1317" y="1833"/>
                </a:lnTo>
                <a:lnTo>
                  <a:pt x="1317" y="1826"/>
                </a:lnTo>
                <a:lnTo>
                  <a:pt x="1324" y="1826"/>
                </a:lnTo>
                <a:lnTo>
                  <a:pt x="1331" y="1819"/>
                </a:lnTo>
                <a:lnTo>
                  <a:pt x="1331" y="1812"/>
                </a:lnTo>
                <a:lnTo>
                  <a:pt x="1338" y="1805"/>
                </a:lnTo>
                <a:lnTo>
                  <a:pt x="1338" y="1798"/>
                </a:lnTo>
                <a:lnTo>
                  <a:pt x="1345" y="1798"/>
                </a:lnTo>
                <a:lnTo>
                  <a:pt x="1345" y="1791"/>
                </a:lnTo>
                <a:lnTo>
                  <a:pt x="1352" y="1784"/>
                </a:lnTo>
                <a:lnTo>
                  <a:pt x="1359" y="1784"/>
                </a:lnTo>
                <a:lnTo>
                  <a:pt x="1372" y="1784"/>
                </a:lnTo>
                <a:lnTo>
                  <a:pt x="1379" y="1778"/>
                </a:lnTo>
                <a:lnTo>
                  <a:pt x="1379" y="1771"/>
                </a:lnTo>
                <a:lnTo>
                  <a:pt x="1386" y="1764"/>
                </a:lnTo>
                <a:lnTo>
                  <a:pt x="1386" y="1764"/>
                </a:lnTo>
                <a:lnTo>
                  <a:pt x="1393" y="1764"/>
                </a:lnTo>
                <a:lnTo>
                  <a:pt x="1400" y="1764"/>
                </a:lnTo>
                <a:lnTo>
                  <a:pt x="1407" y="1771"/>
                </a:lnTo>
                <a:lnTo>
                  <a:pt x="1414" y="1778"/>
                </a:lnTo>
                <a:lnTo>
                  <a:pt x="1407" y="1784"/>
                </a:lnTo>
                <a:lnTo>
                  <a:pt x="1400" y="1784"/>
                </a:lnTo>
                <a:lnTo>
                  <a:pt x="1386" y="1784"/>
                </a:lnTo>
                <a:lnTo>
                  <a:pt x="1379" y="1791"/>
                </a:lnTo>
                <a:lnTo>
                  <a:pt x="1379" y="1798"/>
                </a:lnTo>
                <a:lnTo>
                  <a:pt x="1379" y="1805"/>
                </a:lnTo>
                <a:lnTo>
                  <a:pt x="1379" y="1812"/>
                </a:lnTo>
                <a:lnTo>
                  <a:pt x="1379" y="1819"/>
                </a:lnTo>
                <a:lnTo>
                  <a:pt x="1386" y="1819"/>
                </a:lnTo>
                <a:lnTo>
                  <a:pt x="1386" y="1826"/>
                </a:lnTo>
                <a:lnTo>
                  <a:pt x="1386" y="1833"/>
                </a:lnTo>
                <a:lnTo>
                  <a:pt x="1386" y="1840"/>
                </a:lnTo>
                <a:lnTo>
                  <a:pt x="1414" y="1840"/>
                </a:lnTo>
                <a:lnTo>
                  <a:pt x="1448" y="1840"/>
                </a:lnTo>
                <a:lnTo>
                  <a:pt x="1476" y="1840"/>
                </a:lnTo>
                <a:lnTo>
                  <a:pt x="1503" y="1840"/>
                </a:lnTo>
                <a:lnTo>
                  <a:pt x="1538" y="1840"/>
                </a:lnTo>
                <a:lnTo>
                  <a:pt x="1566" y="1840"/>
                </a:lnTo>
                <a:lnTo>
                  <a:pt x="1593" y="1840"/>
                </a:lnTo>
                <a:lnTo>
                  <a:pt x="1621" y="1840"/>
                </a:lnTo>
                <a:lnTo>
                  <a:pt x="1655" y="1840"/>
                </a:lnTo>
                <a:lnTo>
                  <a:pt x="1683" y="1840"/>
                </a:lnTo>
                <a:lnTo>
                  <a:pt x="1710" y="1840"/>
                </a:lnTo>
                <a:lnTo>
                  <a:pt x="1745" y="1840"/>
                </a:lnTo>
                <a:lnTo>
                  <a:pt x="1772" y="1840"/>
                </a:lnTo>
                <a:lnTo>
                  <a:pt x="1800" y="1840"/>
                </a:lnTo>
                <a:lnTo>
                  <a:pt x="1828" y="1840"/>
                </a:lnTo>
                <a:lnTo>
                  <a:pt x="1862" y="1840"/>
                </a:lnTo>
                <a:lnTo>
                  <a:pt x="1890" y="1840"/>
                </a:lnTo>
                <a:lnTo>
                  <a:pt x="1917" y="1840"/>
                </a:lnTo>
                <a:lnTo>
                  <a:pt x="1952" y="1840"/>
                </a:lnTo>
                <a:lnTo>
                  <a:pt x="1979" y="1840"/>
                </a:lnTo>
                <a:lnTo>
                  <a:pt x="2007" y="1840"/>
                </a:lnTo>
                <a:lnTo>
                  <a:pt x="2034" y="1840"/>
                </a:lnTo>
                <a:lnTo>
                  <a:pt x="2069" y="1840"/>
                </a:lnTo>
                <a:lnTo>
                  <a:pt x="2096" y="1840"/>
                </a:lnTo>
                <a:lnTo>
                  <a:pt x="2124" y="1840"/>
                </a:lnTo>
                <a:lnTo>
                  <a:pt x="2158" y="1840"/>
                </a:lnTo>
                <a:lnTo>
                  <a:pt x="2186" y="1840"/>
                </a:lnTo>
                <a:lnTo>
                  <a:pt x="2214" y="1840"/>
                </a:lnTo>
                <a:lnTo>
                  <a:pt x="2241" y="1840"/>
                </a:lnTo>
                <a:lnTo>
                  <a:pt x="2276" y="1840"/>
                </a:lnTo>
                <a:lnTo>
                  <a:pt x="2303" y="1840"/>
                </a:lnTo>
                <a:lnTo>
                  <a:pt x="2331" y="1840"/>
                </a:lnTo>
                <a:lnTo>
                  <a:pt x="2365" y="1840"/>
                </a:lnTo>
                <a:lnTo>
                  <a:pt x="2393" y="1840"/>
                </a:lnTo>
                <a:lnTo>
                  <a:pt x="2420" y="1840"/>
                </a:lnTo>
                <a:lnTo>
                  <a:pt x="2448" y="1840"/>
                </a:lnTo>
                <a:lnTo>
                  <a:pt x="2483" y="1840"/>
                </a:lnTo>
                <a:lnTo>
                  <a:pt x="2510" y="1812"/>
                </a:lnTo>
                <a:lnTo>
                  <a:pt x="2538" y="1812"/>
                </a:lnTo>
                <a:lnTo>
                  <a:pt x="2565" y="1812"/>
                </a:lnTo>
                <a:lnTo>
                  <a:pt x="2600" y="1812"/>
                </a:lnTo>
                <a:lnTo>
                  <a:pt x="2627" y="1812"/>
                </a:lnTo>
                <a:lnTo>
                  <a:pt x="2655" y="1812"/>
                </a:lnTo>
                <a:lnTo>
                  <a:pt x="2689" y="1812"/>
                </a:lnTo>
                <a:lnTo>
                  <a:pt x="2717" y="1778"/>
                </a:lnTo>
                <a:lnTo>
                  <a:pt x="2717" y="1750"/>
                </a:lnTo>
                <a:lnTo>
                  <a:pt x="2717" y="1722"/>
                </a:lnTo>
                <a:lnTo>
                  <a:pt x="2717" y="1688"/>
                </a:lnTo>
                <a:lnTo>
                  <a:pt x="2745" y="1660"/>
                </a:lnTo>
                <a:lnTo>
                  <a:pt x="2745" y="1633"/>
                </a:lnTo>
                <a:lnTo>
                  <a:pt x="2745" y="1599"/>
                </a:lnTo>
                <a:lnTo>
                  <a:pt x="2745" y="1571"/>
                </a:lnTo>
                <a:lnTo>
                  <a:pt x="2772" y="1543"/>
                </a:lnTo>
                <a:lnTo>
                  <a:pt x="2772" y="1516"/>
                </a:lnTo>
                <a:lnTo>
                  <a:pt x="2772" y="1481"/>
                </a:lnTo>
                <a:lnTo>
                  <a:pt x="2772" y="1454"/>
                </a:lnTo>
                <a:lnTo>
                  <a:pt x="2807" y="1426"/>
                </a:lnTo>
                <a:lnTo>
                  <a:pt x="2807" y="1392"/>
                </a:lnTo>
                <a:lnTo>
                  <a:pt x="2807" y="1364"/>
                </a:lnTo>
                <a:lnTo>
                  <a:pt x="2807" y="1337"/>
                </a:lnTo>
                <a:lnTo>
                  <a:pt x="2834" y="1302"/>
                </a:lnTo>
                <a:lnTo>
                  <a:pt x="2834" y="1275"/>
                </a:lnTo>
                <a:lnTo>
                  <a:pt x="2834" y="1247"/>
                </a:lnTo>
                <a:lnTo>
                  <a:pt x="2834" y="1213"/>
                </a:lnTo>
                <a:lnTo>
                  <a:pt x="2862" y="1185"/>
                </a:lnTo>
                <a:lnTo>
                  <a:pt x="2862" y="1158"/>
                </a:lnTo>
                <a:lnTo>
                  <a:pt x="2862" y="1130"/>
                </a:lnTo>
                <a:lnTo>
                  <a:pt x="2862" y="1096"/>
                </a:lnTo>
                <a:lnTo>
                  <a:pt x="2862" y="1068"/>
                </a:lnTo>
                <a:lnTo>
                  <a:pt x="2862" y="1041"/>
                </a:lnTo>
                <a:lnTo>
                  <a:pt x="2862" y="1006"/>
                </a:lnTo>
                <a:lnTo>
                  <a:pt x="2862" y="979"/>
                </a:lnTo>
                <a:lnTo>
                  <a:pt x="2862" y="951"/>
                </a:lnTo>
                <a:lnTo>
                  <a:pt x="2862" y="917"/>
                </a:lnTo>
                <a:lnTo>
                  <a:pt x="2862" y="889"/>
                </a:lnTo>
                <a:lnTo>
                  <a:pt x="2862" y="861"/>
                </a:lnTo>
                <a:lnTo>
                  <a:pt x="2862" y="827"/>
                </a:lnTo>
                <a:lnTo>
                  <a:pt x="2862" y="799"/>
                </a:lnTo>
                <a:lnTo>
                  <a:pt x="2862" y="772"/>
                </a:lnTo>
                <a:lnTo>
                  <a:pt x="2862" y="744"/>
                </a:lnTo>
                <a:lnTo>
                  <a:pt x="2862" y="710"/>
                </a:lnTo>
                <a:lnTo>
                  <a:pt x="2862" y="682"/>
                </a:lnTo>
                <a:lnTo>
                  <a:pt x="2862" y="655"/>
                </a:lnTo>
                <a:lnTo>
                  <a:pt x="2862" y="620"/>
                </a:lnTo>
                <a:lnTo>
                  <a:pt x="2862" y="593"/>
                </a:lnTo>
                <a:lnTo>
                  <a:pt x="2862" y="565"/>
                </a:lnTo>
                <a:lnTo>
                  <a:pt x="2862" y="531"/>
                </a:lnTo>
                <a:lnTo>
                  <a:pt x="2862" y="503"/>
                </a:lnTo>
                <a:lnTo>
                  <a:pt x="2862" y="476"/>
                </a:lnTo>
                <a:lnTo>
                  <a:pt x="2862" y="448"/>
                </a:lnTo>
                <a:lnTo>
                  <a:pt x="2862" y="414"/>
                </a:lnTo>
                <a:lnTo>
                  <a:pt x="2862" y="386"/>
                </a:lnTo>
                <a:lnTo>
                  <a:pt x="2862" y="359"/>
                </a:lnTo>
                <a:lnTo>
                  <a:pt x="2862" y="324"/>
                </a:lnTo>
                <a:lnTo>
                  <a:pt x="2862" y="297"/>
                </a:lnTo>
                <a:lnTo>
                  <a:pt x="2862" y="269"/>
                </a:lnTo>
                <a:lnTo>
                  <a:pt x="2834" y="235"/>
                </a:lnTo>
                <a:lnTo>
                  <a:pt x="2834" y="207"/>
                </a:lnTo>
                <a:lnTo>
                  <a:pt x="2834" y="179"/>
                </a:lnTo>
                <a:lnTo>
                  <a:pt x="2834" y="166"/>
                </a:lnTo>
                <a:lnTo>
                  <a:pt x="2827" y="173"/>
                </a:lnTo>
                <a:lnTo>
                  <a:pt x="2820" y="173"/>
                </a:lnTo>
                <a:lnTo>
                  <a:pt x="2820" y="179"/>
                </a:lnTo>
                <a:lnTo>
                  <a:pt x="2820" y="186"/>
                </a:lnTo>
                <a:lnTo>
                  <a:pt x="2820" y="193"/>
                </a:lnTo>
                <a:lnTo>
                  <a:pt x="2820" y="200"/>
                </a:lnTo>
                <a:lnTo>
                  <a:pt x="2820" y="207"/>
                </a:lnTo>
                <a:lnTo>
                  <a:pt x="2827" y="214"/>
                </a:lnTo>
                <a:lnTo>
                  <a:pt x="2827" y="221"/>
                </a:lnTo>
                <a:lnTo>
                  <a:pt x="2827" y="228"/>
                </a:lnTo>
                <a:lnTo>
                  <a:pt x="2827" y="235"/>
                </a:lnTo>
                <a:lnTo>
                  <a:pt x="2827" y="235"/>
                </a:lnTo>
                <a:lnTo>
                  <a:pt x="2827" y="241"/>
                </a:lnTo>
                <a:lnTo>
                  <a:pt x="2820" y="248"/>
                </a:lnTo>
                <a:lnTo>
                  <a:pt x="2813" y="255"/>
                </a:lnTo>
                <a:lnTo>
                  <a:pt x="2807" y="255"/>
                </a:lnTo>
                <a:lnTo>
                  <a:pt x="2800" y="262"/>
                </a:lnTo>
                <a:lnTo>
                  <a:pt x="2793" y="269"/>
                </a:lnTo>
                <a:lnTo>
                  <a:pt x="2786" y="269"/>
                </a:lnTo>
                <a:lnTo>
                  <a:pt x="2779" y="276"/>
                </a:lnTo>
                <a:lnTo>
                  <a:pt x="2772" y="283"/>
                </a:lnTo>
                <a:lnTo>
                  <a:pt x="2772" y="290"/>
                </a:lnTo>
                <a:lnTo>
                  <a:pt x="2772" y="297"/>
                </a:lnTo>
                <a:lnTo>
                  <a:pt x="2772" y="303"/>
                </a:lnTo>
                <a:lnTo>
                  <a:pt x="2765" y="303"/>
                </a:lnTo>
                <a:lnTo>
                  <a:pt x="2758" y="310"/>
                </a:lnTo>
                <a:lnTo>
                  <a:pt x="2751" y="317"/>
                </a:lnTo>
                <a:lnTo>
                  <a:pt x="2745" y="324"/>
                </a:lnTo>
                <a:lnTo>
                  <a:pt x="2745" y="324"/>
                </a:lnTo>
                <a:lnTo>
                  <a:pt x="2738" y="331"/>
                </a:lnTo>
                <a:lnTo>
                  <a:pt x="2738" y="338"/>
                </a:lnTo>
                <a:lnTo>
                  <a:pt x="2738" y="345"/>
                </a:lnTo>
                <a:lnTo>
                  <a:pt x="2745" y="352"/>
                </a:lnTo>
                <a:lnTo>
                  <a:pt x="2751" y="359"/>
                </a:lnTo>
                <a:lnTo>
                  <a:pt x="2745" y="365"/>
                </a:lnTo>
                <a:lnTo>
                  <a:pt x="2745" y="359"/>
                </a:lnTo>
                <a:lnTo>
                  <a:pt x="2738" y="352"/>
                </a:lnTo>
                <a:lnTo>
                  <a:pt x="2731" y="352"/>
                </a:lnTo>
                <a:lnTo>
                  <a:pt x="2717" y="352"/>
                </a:lnTo>
                <a:lnTo>
                  <a:pt x="2703" y="352"/>
                </a:lnTo>
                <a:lnTo>
                  <a:pt x="2696" y="352"/>
                </a:lnTo>
                <a:lnTo>
                  <a:pt x="2689" y="359"/>
                </a:lnTo>
                <a:lnTo>
                  <a:pt x="2689" y="365"/>
                </a:lnTo>
                <a:lnTo>
                  <a:pt x="2689" y="372"/>
                </a:lnTo>
                <a:lnTo>
                  <a:pt x="2689" y="379"/>
                </a:lnTo>
                <a:lnTo>
                  <a:pt x="2696" y="386"/>
                </a:lnTo>
                <a:lnTo>
                  <a:pt x="2703" y="386"/>
                </a:lnTo>
                <a:lnTo>
                  <a:pt x="2710" y="386"/>
                </a:lnTo>
                <a:lnTo>
                  <a:pt x="2724" y="393"/>
                </a:lnTo>
                <a:lnTo>
                  <a:pt x="2731" y="393"/>
                </a:lnTo>
                <a:lnTo>
                  <a:pt x="2731" y="400"/>
                </a:lnTo>
                <a:lnTo>
                  <a:pt x="2738" y="407"/>
                </a:lnTo>
                <a:lnTo>
                  <a:pt x="2738" y="414"/>
                </a:lnTo>
                <a:lnTo>
                  <a:pt x="2738" y="421"/>
                </a:lnTo>
                <a:lnTo>
                  <a:pt x="2731" y="427"/>
                </a:lnTo>
                <a:lnTo>
                  <a:pt x="2724" y="434"/>
                </a:lnTo>
                <a:lnTo>
                  <a:pt x="2717" y="441"/>
                </a:lnTo>
                <a:lnTo>
                  <a:pt x="2710" y="441"/>
                </a:lnTo>
                <a:lnTo>
                  <a:pt x="2703" y="448"/>
                </a:lnTo>
                <a:lnTo>
                  <a:pt x="2703" y="455"/>
                </a:lnTo>
                <a:lnTo>
                  <a:pt x="2703" y="462"/>
                </a:lnTo>
                <a:lnTo>
                  <a:pt x="2696" y="469"/>
                </a:lnTo>
                <a:lnTo>
                  <a:pt x="2696" y="476"/>
                </a:lnTo>
                <a:lnTo>
                  <a:pt x="2696" y="476"/>
                </a:lnTo>
                <a:lnTo>
                  <a:pt x="2689" y="483"/>
                </a:lnTo>
                <a:lnTo>
                  <a:pt x="2689" y="489"/>
                </a:lnTo>
                <a:lnTo>
                  <a:pt x="2689" y="496"/>
                </a:lnTo>
                <a:lnTo>
                  <a:pt x="2682" y="503"/>
                </a:lnTo>
                <a:lnTo>
                  <a:pt x="2682" y="510"/>
                </a:lnTo>
                <a:lnTo>
                  <a:pt x="2682" y="517"/>
                </a:lnTo>
                <a:lnTo>
                  <a:pt x="2676" y="524"/>
                </a:lnTo>
                <a:lnTo>
                  <a:pt x="2676" y="531"/>
                </a:lnTo>
                <a:lnTo>
                  <a:pt x="2676" y="531"/>
                </a:lnTo>
                <a:lnTo>
                  <a:pt x="2669" y="538"/>
                </a:lnTo>
                <a:lnTo>
                  <a:pt x="2669" y="545"/>
                </a:lnTo>
                <a:lnTo>
                  <a:pt x="2669" y="551"/>
                </a:lnTo>
                <a:lnTo>
                  <a:pt x="2669" y="558"/>
                </a:lnTo>
                <a:lnTo>
                  <a:pt x="2669" y="565"/>
                </a:lnTo>
                <a:lnTo>
                  <a:pt x="2662" y="572"/>
                </a:lnTo>
                <a:lnTo>
                  <a:pt x="2662" y="579"/>
                </a:lnTo>
                <a:lnTo>
                  <a:pt x="2662" y="586"/>
                </a:lnTo>
                <a:lnTo>
                  <a:pt x="2662" y="593"/>
                </a:lnTo>
                <a:lnTo>
                  <a:pt x="2655" y="600"/>
                </a:lnTo>
                <a:lnTo>
                  <a:pt x="2655" y="600"/>
                </a:lnTo>
                <a:lnTo>
                  <a:pt x="2648" y="607"/>
                </a:lnTo>
                <a:lnTo>
                  <a:pt x="2648" y="613"/>
                </a:lnTo>
                <a:lnTo>
                  <a:pt x="2655" y="620"/>
                </a:lnTo>
                <a:lnTo>
                  <a:pt x="2662" y="627"/>
                </a:lnTo>
                <a:lnTo>
                  <a:pt x="2669" y="634"/>
                </a:lnTo>
                <a:lnTo>
                  <a:pt x="2676" y="634"/>
                </a:lnTo>
                <a:lnTo>
                  <a:pt x="2676" y="641"/>
                </a:lnTo>
                <a:lnTo>
                  <a:pt x="2682" y="648"/>
                </a:lnTo>
                <a:lnTo>
                  <a:pt x="2682" y="655"/>
                </a:lnTo>
                <a:lnTo>
                  <a:pt x="2676" y="662"/>
                </a:lnTo>
                <a:lnTo>
                  <a:pt x="2676" y="669"/>
                </a:lnTo>
                <a:lnTo>
                  <a:pt x="2669" y="675"/>
                </a:lnTo>
                <a:lnTo>
                  <a:pt x="2669" y="682"/>
                </a:lnTo>
                <a:lnTo>
                  <a:pt x="2676" y="682"/>
                </a:lnTo>
                <a:lnTo>
                  <a:pt x="2682" y="689"/>
                </a:lnTo>
                <a:lnTo>
                  <a:pt x="2689" y="696"/>
                </a:lnTo>
                <a:lnTo>
                  <a:pt x="2696" y="696"/>
                </a:lnTo>
                <a:lnTo>
                  <a:pt x="2703" y="703"/>
                </a:lnTo>
                <a:lnTo>
                  <a:pt x="2703" y="710"/>
                </a:lnTo>
                <a:lnTo>
                  <a:pt x="2703" y="717"/>
                </a:lnTo>
                <a:lnTo>
                  <a:pt x="2703" y="724"/>
                </a:lnTo>
                <a:lnTo>
                  <a:pt x="2696" y="731"/>
                </a:lnTo>
                <a:lnTo>
                  <a:pt x="2689" y="737"/>
                </a:lnTo>
                <a:lnTo>
                  <a:pt x="2682" y="737"/>
                </a:lnTo>
                <a:lnTo>
                  <a:pt x="2676" y="731"/>
                </a:lnTo>
                <a:lnTo>
                  <a:pt x="2669" y="724"/>
                </a:lnTo>
                <a:lnTo>
                  <a:pt x="2662" y="724"/>
                </a:lnTo>
                <a:lnTo>
                  <a:pt x="2655" y="724"/>
                </a:lnTo>
                <a:lnTo>
                  <a:pt x="2648" y="731"/>
                </a:lnTo>
                <a:lnTo>
                  <a:pt x="2648" y="737"/>
                </a:lnTo>
                <a:lnTo>
                  <a:pt x="2641" y="744"/>
                </a:lnTo>
                <a:lnTo>
                  <a:pt x="2641" y="751"/>
                </a:lnTo>
                <a:lnTo>
                  <a:pt x="2634" y="758"/>
                </a:lnTo>
                <a:lnTo>
                  <a:pt x="2627" y="758"/>
                </a:lnTo>
                <a:lnTo>
                  <a:pt x="2620" y="751"/>
                </a:lnTo>
                <a:lnTo>
                  <a:pt x="2614" y="744"/>
                </a:lnTo>
                <a:lnTo>
                  <a:pt x="2614" y="737"/>
                </a:lnTo>
                <a:lnTo>
                  <a:pt x="2607" y="731"/>
                </a:lnTo>
                <a:lnTo>
                  <a:pt x="2600" y="731"/>
                </a:lnTo>
                <a:lnTo>
                  <a:pt x="2600" y="724"/>
                </a:lnTo>
                <a:lnTo>
                  <a:pt x="2593" y="717"/>
                </a:lnTo>
                <a:lnTo>
                  <a:pt x="2593" y="710"/>
                </a:lnTo>
                <a:lnTo>
                  <a:pt x="2593" y="703"/>
                </a:lnTo>
                <a:lnTo>
                  <a:pt x="2593" y="696"/>
                </a:lnTo>
                <a:lnTo>
                  <a:pt x="2593" y="689"/>
                </a:lnTo>
                <a:lnTo>
                  <a:pt x="2593" y="682"/>
                </a:lnTo>
                <a:lnTo>
                  <a:pt x="2593" y="675"/>
                </a:lnTo>
                <a:lnTo>
                  <a:pt x="2586" y="669"/>
                </a:lnTo>
                <a:lnTo>
                  <a:pt x="2579" y="662"/>
                </a:lnTo>
                <a:lnTo>
                  <a:pt x="2572" y="655"/>
                </a:lnTo>
                <a:lnTo>
                  <a:pt x="2572" y="655"/>
                </a:lnTo>
                <a:lnTo>
                  <a:pt x="2565" y="655"/>
                </a:lnTo>
                <a:lnTo>
                  <a:pt x="2558" y="662"/>
                </a:lnTo>
                <a:lnTo>
                  <a:pt x="2551" y="669"/>
                </a:lnTo>
                <a:lnTo>
                  <a:pt x="2551" y="675"/>
                </a:lnTo>
                <a:lnTo>
                  <a:pt x="2545" y="682"/>
                </a:lnTo>
                <a:lnTo>
                  <a:pt x="2538" y="689"/>
                </a:lnTo>
                <a:lnTo>
                  <a:pt x="2538" y="696"/>
                </a:lnTo>
                <a:lnTo>
                  <a:pt x="2531" y="696"/>
                </a:lnTo>
                <a:lnTo>
                  <a:pt x="2524" y="703"/>
                </a:lnTo>
                <a:lnTo>
                  <a:pt x="2517" y="710"/>
                </a:lnTo>
                <a:lnTo>
                  <a:pt x="2510" y="717"/>
                </a:lnTo>
                <a:lnTo>
                  <a:pt x="2510" y="717"/>
                </a:lnTo>
                <a:lnTo>
                  <a:pt x="2503" y="724"/>
                </a:lnTo>
                <a:lnTo>
                  <a:pt x="2496" y="731"/>
                </a:lnTo>
                <a:lnTo>
                  <a:pt x="2489" y="737"/>
                </a:lnTo>
                <a:lnTo>
                  <a:pt x="2483" y="737"/>
                </a:lnTo>
                <a:lnTo>
                  <a:pt x="2476" y="744"/>
                </a:lnTo>
                <a:lnTo>
                  <a:pt x="2476" y="751"/>
                </a:lnTo>
                <a:lnTo>
                  <a:pt x="2469" y="751"/>
                </a:lnTo>
                <a:lnTo>
                  <a:pt x="2455" y="758"/>
                </a:lnTo>
                <a:lnTo>
                  <a:pt x="2448" y="765"/>
                </a:lnTo>
                <a:lnTo>
                  <a:pt x="2441" y="765"/>
                </a:lnTo>
                <a:lnTo>
                  <a:pt x="2441" y="772"/>
                </a:lnTo>
                <a:lnTo>
                  <a:pt x="2434" y="779"/>
                </a:lnTo>
                <a:lnTo>
                  <a:pt x="2427" y="786"/>
                </a:lnTo>
                <a:lnTo>
                  <a:pt x="2420" y="786"/>
                </a:lnTo>
                <a:lnTo>
                  <a:pt x="2414" y="793"/>
                </a:lnTo>
                <a:lnTo>
                  <a:pt x="2407" y="799"/>
                </a:lnTo>
                <a:lnTo>
                  <a:pt x="2400" y="799"/>
                </a:lnTo>
                <a:lnTo>
                  <a:pt x="2393" y="806"/>
                </a:lnTo>
                <a:lnTo>
                  <a:pt x="2386" y="813"/>
                </a:lnTo>
                <a:lnTo>
                  <a:pt x="2379" y="813"/>
                </a:lnTo>
                <a:lnTo>
                  <a:pt x="2372" y="820"/>
                </a:lnTo>
                <a:lnTo>
                  <a:pt x="2372" y="827"/>
                </a:lnTo>
                <a:lnTo>
                  <a:pt x="2365" y="834"/>
                </a:lnTo>
                <a:lnTo>
                  <a:pt x="2365" y="841"/>
                </a:lnTo>
                <a:lnTo>
                  <a:pt x="2365" y="848"/>
                </a:lnTo>
                <a:lnTo>
                  <a:pt x="2365" y="855"/>
                </a:lnTo>
                <a:lnTo>
                  <a:pt x="2365" y="855"/>
                </a:lnTo>
                <a:lnTo>
                  <a:pt x="2365" y="861"/>
                </a:lnTo>
                <a:lnTo>
                  <a:pt x="2358" y="868"/>
                </a:lnTo>
                <a:lnTo>
                  <a:pt x="2358" y="875"/>
                </a:lnTo>
                <a:lnTo>
                  <a:pt x="2358" y="882"/>
                </a:lnTo>
                <a:lnTo>
                  <a:pt x="2358" y="889"/>
                </a:lnTo>
                <a:lnTo>
                  <a:pt x="2358" y="896"/>
                </a:lnTo>
                <a:lnTo>
                  <a:pt x="2358" y="903"/>
                </a:lnTo>
                <a:lnTo>
                  <a:pt x="2358" y="910"/>
                </a:lnTo>
                <a:lnTo>
                  <a:pt x="2352" y="917"/>
                </a:lnTo>
                <a:lnTo>
                  <a:pt x="2352" y="923"/>
                </a:lnTo>
                <a:lnTo>
                  <a:pt x="2352" y="930"/>
                </a:lnTo>
                <a:lnTo>
                  <a:pt x="2352" y="930"/>
                </a:lnTo>
                <a:lnTo>
                  <a:pt x="2352" y="937"/>
                </a:lnTo>
                <a:lnTo>
                  <a:pt x="2352" y="944"/>
                </a:lnTo>
                <a:lnTo>
                  <a:pt x="2352" y="951"/>
                </a:lnTo>
                <a:lnTo>
                  <a:pt x="2345" y="958"/>
                </a:lnTo>
                <a:lnTo>
                  <a:pt x="2345" y="965"/>
                </a:lnTo>
                <a:lnTo>
                  <a:pt x="2345" y="972"/>
                </a:lnTo>
                <a:lnTo>
                  <a:pt x="2345" y="979"/>
                </a:lnTo>
                <a:lnTo>
                  <a:pt x="2345" y="985"/>
                </a:lnTo>
                <a:lnTo>
                  <a:pt x="2345" y="992"/>
                </a:lnTo>
                <a:lnTo>
                  <a:pt x="2345" y="999"/>
                </a:lnTo>
                <a:lnTo>
                  <a:pt x="2345" y="1006"/>
                </a:lnTo>
                <a:lnTo>
                  <a:pt x="2345" y="1006"/>
                </a:lnTo>
                <a:lnTo>
                  <a:pt x="2345" y="1013"/>
                </a:lnTo>
                <a:lnTo>
                  <a:pt x="2345" y="1020"/>
                </a:lnTo>
                <a:lnTo>
                  <a:pt x="2345" y="1027"/>
                </a:lnTo>
                <a:lnTo>
                  <a:pt x="2345" y="1034"/>
                </a:lnTo>
                <a:lnTo>
                  <a:pt x="2345" y="1041"/>
                </a:lnTo>
                <a:lnTo>
                  <a:pt x="2345" y="1047"/>
                </a:lnTo>
                <a:lnTo>
                  <a:pt x="2352" y="1054"/>
                </a:lnTo>
                <a:lnTo>
                  <a:pt x="2352" y="1061"/>
                </a:lnTo>
                <a:lnTo>
                  <a:pt x="2358" y="1061"/>
                </a:lnTo>
                <a:lnTo>
                  <a:pt x="2358" y="1068"/>
                </a:lnTo>
                <a:lnTo>
                  <a:pt x="2358" y="1075"/>
                </a:lnTo>
                <a:lnTo>
                  <a:pt x="2358" y="1082"/>
                </a:lnTo>
                <a:lnTo>
                  <a:pt x="2358" y="1089"/>
                </a:lnTo>
                <a:lnTo>
                  <a:pt x="2352" y="1096"/>
                </a:lnTo>
                <a:lnTo>
                  <a:pt x="2345" y="1103"/>
                </a:lnTo>
                <a:lnTo>
                  <a:pt x="2338" y="1103"/>
                </a:lnTo>
                <a:lnTo>
                  <a:pt x="2324" y="1103"/>
                </a:lnTo>
                <a:lnTo>
                  <a:pt x="2317" y="1103"/>
                </a:lnTo>
                <a:lnTo>
                  <a:pt x="2303" y="1103"/>
                </a:lnTo>
                <a:lnTo>
                  <a:pt x="2296" y="1103"/>
                </a:lnTo>
                <a:lnTo>
                  <a:pt x="2289" y="1103"/>
                </a:lnTo>
                <a:lnTo>
                  <a:pt x="2276" y="1103"/>
                </a:lnTo>
                <a:lnTo>
                  <a:pt x="2269" y="1103"/>
                </a:lnTo>
                <a:lnTo>
                  <a:pt x="2255" y="1103"/>
                </a:lnTo>
                <a:lnTo>
                  <a:pt x="2248" y="1103"/>
                </a:lnTo>
                <a:lnTo>
                  <a:pt x="2241" y="1103"/>
                </a:lnTo>
                <a:lnTo>
                  <a:pt x="2227" y="1103"/>
                </a:lnTo>
                <a:lnTo>
                  <a:pt x="2221" y="1109"/>
                </a:lnTo>
                <a:lnTo>
                  <a:pt x="2214" y="1109"/>
                </a:lnTo>
                <a:lnTo>
                  <a:pt x="2200" y="1116"/>
                </a:lnTo>
                <a:lnTo>
                  <a:pt x="2193" y="1116"/>
                </a:lnTo>
                <a:lnTo>
                  <a:pt x="2186" y="1123"/>
                </a:lnTo>
                <a:lnTo>
                  <a:pt x="2179" y="1130"/>
                </a:lnTo>
                <a:lnTo>
                  <a:pt x="2179" y="1130"/>
                </a:lnTo>
                <a:lnTo>
                  <a:pt x="2179" y="1137"/>
                </a:lnTo>
                <a:lnTo>
                  <a:pt x="2179" y="1144"/>
                </a:lnTo>
                <a:lnTo>
                  <a:pt x="2179" y="1151"/>
                </a:lnTo>
                <a:lnTo>
                  <a:pt x="2172" y="1158"/>
                </a:lnTo>
                <a:lnTo>
                  <a:pt x="2172" y="1165"/>
                </a:lnTo>
                <a:lnTo>
                  <a:pt x="2165" y="1171"/>
                </a:lnTo>
                <a:lnTo>
                  <a:pt x="2152" y="1171"/>
                </a:lnTo>
                <a:lnTo>
                  <a:pt x="2145" y="1178"/>
                </a:lnTo>
                <a:lnTo>
                  <a:pt x="2138" y="1178"/>
                </a:lnTo>
                <a:lnTo>
                  <a:pt x="2131" y="1178"/>
                </a:lnTo>
                <a:lnTo>
                  <a:pt x="2117" y="1185"/>
                </a:lnTo>
                <a:lnTo>
                  <a:pt x="2110" y="1185"/>
                </a:lnTo>
                <a:lnTo>
                  <a:pt x="2103" y="1192"/>
                </a:lnTo>
                <a:lnTo>
                  <a:pt x="2103" y="1199"/>
                </a:lnTo>
                <a:lnTo>
                  <a:pt x="2110" y="1206"/>
                </a:lnTo>
                <a:lnTo>
                  <a:pt x="2110" y="1213"/>
                </a:lnTo>
                <a:lnTo>
                  <a:pt x="2110" y="1213"/>
                </a:lnTo>
                <a:lnTo>
                  <a:pt x="2103" y="1220"/>
                </a:lnTo>
                <a:lnTo>
                  <a:pt x="2096" y="1227"/>
                </a:lnTo>
                <a:lnTo>
                  <a:pt x="2083" y="1227"/>
                </a:lnTo>
                <a:lnTo>
                  <a:pt x="2076" y="1233"/>
                </a:lnTo>
                <a:lnTo>
                  <a:pt x="2069" y="1233"/>
                </a:lnTo>
                <a:lnTo>
                  <a:pt x="2055" y="1233"/>
                </a:lnTo>
                <a:lnTo>
                  <a:pt x="2048" y="1233"/>
                </a:lnTo>
                <a:lnTo>
                  <a:pt x="2041" y="1240"/>
                </a:lnTo>
                <a:lnTo>
                  <a:pt x="2034" y="1240"/>
                </a:lnTo>
                <a:lnTo>
                  <a:pt x="2034" y="1247"/>
                </a:lnTo>
                <a:lnTo>
                  <a:pt x="2041" y="1254"/>
                </a:lnTo>
                <a:lnTo>
                  <a:pt x="2055" y="1254"/>
                </a:lnTo>
                <a:lnTo>
                  <a:pt x="2062" y="1261"/>
                </a:lnTo>
                <a:lnTo>
                  <a:pt x="2069" y="1261"/>
                </a:lnTo>
                <a:lnTo>
                  <a:pt x="2069" y="1268"/>
                </a:lnTo>
                <a:lnTo>
                  <a:pt x="2076" y="1275"/>
                </a:lnTo>
                <a:lnTo>
                  <a:pt x="2083" y="1282"/>
                </a:lnTo>
                <a:lnTo>
                  <a:pt x="2083" y="1282"/>
                </a:lnTo>
                <a:lnTo>
                  <a:pt x="2090" y="1289"/>
                </a:lnTo>
                <a:lnTo>
                  <a:pt x="2090" y="1295"/>
                </a:lnTo>
                <a:lnTo>
                  <a:pt x="2090" y="1302"/>
                </a:lnTo>
                <a:lnTo>
                  <a:pt x="2096" y="1309"/>
                </a:lnTo>
                <a:lnTo>
                  <a:pt x="2103" y="1316"/>
                </a:lnTo>
                <a:lnTo>
                  <a:pt x="2103" y="1323"/>
                </a:lnTo>
                <a:lnTo>
                  <a:pt x="2110" y="1323"/>
                </a:lnTo>
                <a:lnTo>
                  <a:pt x="2110" y="1330"/>
                </a:lnTo>
                <a:lnTo>
                  <a:pt x="2110" y="1337"/>
                </a:lnTo>
                <a:lnTo>
                  <a:pt x="2103" y="1344"/>
                </a:lnTo>
                <a:lnTo>
                  <a:pt x="2096" y="1344"/>
                </a:lnTo>
                <a:lnTo>
                  <a:pt x="2090" y="1344"/>
                </a:lnTo>
                <a:lnTo>
                  <a:pt x="2083" y="1337"/>
                </a:lnTo>
                <a:lnTo>
                  <a:pt x="2076" y="1330"/>
                </a:lnTo>
                <a:lnTo>
                  <a:pt x="2069" y="1330"/>
                </a:lnTo>
                <a:lnTo>
                  <a:pt x="2055" y="1330"/>
                </a:lnTo>
                <a:lnTo>
                  <a:pt x="2048" y="1330"/>
                </a:lnTo>
                <a:lnTo>
                  <a:pt x="2041" y="1337"/>
                </a:lnTo>
                <a:lnTo>
                  <a:pt x="2034" y="1337"/>
                </a:lnTo>
                <a:lnTo>
                  <a:pt x="2027" y="1344"/>
                </a:lnTo>
                <a:lnTo>
                  <a:pt x="2021" y="1351"/>
                </a:lnTo>
                <a:lnTo>
                  <a:pt x="2014" y="1351"/>
                </a:lnTo>
                <a:lnTo>
                  <a:pt x="2007" y="1357"/>
                </a:lnTo>
                <a:lnTo>
                  <a:pt x="2000" y="1357"/>
                </a:lnTo>
                <a:lnTo>
                  <a:pt x="1986" y="1357"/>
                </a:lnTo>
                <a:lnTo>
                  <a:pt x="1979" y="1357"/>
                </a:lnTo>
                <a:lnTo>
                  <a:pt x="1965" y="1357"/>
                </a:lnTo>
                <a:lnTo>
                  <a:pt x="1959" y="1357"/>
                </a:lnTo>
                <a:lnTo>
                  <a:pt x="1945" y="1357"/>
                </a:lnTo>
                <a:lnTo>
                  <a:pt x="1945" y="1364"/>
                </a:lnTo>
                <a:lnTo>
                  <a:pt x="1938" y="1371"/>
                </a:lnTo>
                <a:lnTo>
                  <a:pt x="1931" y="1378"/>
                </a:lnTo>
                <a:lnTo>
                  <a:pt x="1924" y="1378"/>
                </a:lnTo>
                <a:lnTo>
                  <a:pt x="1924" y="1385"/>
                </a:lnTo>
                <a:lnTo>
                  <a:pt x="1917" y="1392"/>
                </a:lnTo>
                <a:lnTo>
                  <a:pt x="1910" y="1399"/>
                </a:lnTo>
                <a:lnTo>
                  <a:pt x="1903" y="1399"/>
                </a:lnTo>
                <a:lnTo>
                  <a:pt x="1890" y="1406"/>
                </a:lnTo>
                <a:lnTo>
                  <a:pt x="1883" y="1406"/>
                </a:lnTo>
                <a:lnTo>
                  <a:pt x="1876" y="1399"/>
                </a:lnTo>
                <a:lnTo>
                  <a:pt x="1862" y="1399"/>
                </a:lnTo>
                <a:lnTo>
                  <a:pt x="1855" y="1399"/>
                </a:lnTo>
                <a:lnTo>
                  <a:pt x="1848" y="1392"/>
                </a:lnTo>
                <a:lnTo>
                  <a:pt x="1841" y="1385"/>
                </a:lnTo>
                <a:lnTo>
                  <a:pt x="1834" y="1385"/>
                </a:lnTo>
                <a:lnTo>
                  <a:pt x="1828" y="1378"/>
                </a:lnTo>
                <a:lnTo>
                  <a:pt x="1821" y="1371"/>
                </a:lnTo>
                <a:lnTo>
                  <a:pt x="1814" y="1371"/>
                </a:lnTo>
                <a:lnTo>
                  <a:pt x="1807" y="1364"/>
                </a:lnTo>
                <a:lnTo>
                  <a:pt x="1807" y="1357"/>
                </a:lnTo>
                <a:lnTo>
                  <a:pt x="1800" y="1357"/>
                </a:lnTo>
                <a:lnTo>
                  <a:pt x="1786" y="1357"/>
                </a:lnTo>
                <a:lnTo>
                  <a:pt x="1779" y="1357"/>
                </a:lnTo>
                <a:lnTo>
                  <a:pt x="1772" y="1364"/>
                </a:lnTo>
                <a:lnTo>
                  <a:pt x="1765" y="1357"/>
                </a:lnTo>
                <a:lnTo>
                  <a:pt x="1765" y="1351"/>
                </a:lnTo>
                <a:lnTo>
                  <a:pt x="1759" y="1344"/>
                </a:lnTo>
                <a:lnTo>
                  <a:pt x="1759" y="1337"/>
                </a:lnTo>
                <a:lnTo>
                  <a:pt x="1759" y="1330"/>
                </a:lnTo>
                <a:lnTo>
                  <a:pt x="1752" y="1323"/>
                </a:lnTo>
                <a:lnTo>
                  <a:pt x="1745" y="1316"/>
                </a:lnTo>
                <a:lnTo>
                  <a:pt x="1738" y="1316"/>
                </a:lnTo>
                <a:lnTo>
                  <a:pt x="1724" y="1316"/>
                </a:lnTo>
                <a:lnTo>
                  <a:pt x="1717" y="1309"/>
                </a:lnTo>
                <a:lnTo>
                  <a:pt x="1710" y="1316"/>
                </a:lnTo>
                <a:lnTo>
                  <a:pt x="1703" y="1316"/>
                </a:lnTo>
                <a:lnTo>
                  <a:pt x="1697" y="1323"/>
                </a:lnTo>
                <a:lnTo>
                  <a:pt x="1690" y="1330"/>
                </a:lnTo>
                <a:lnTo>
                  <a:pt x="1683" y="1337"/>
                </a:lnTo>
                <a:lnTo>
                  <a:pt x="1676" y="1337"/>
                </a:lnTo>
                <a:lnTo>
                  <a:pt x="1669" y="1337"/>
                </a:lnTo>
                <a:lnTo>
                  <a:pt x="1683" y="1330"/>
                </a:lnTo>
                <a:lnTo>
                  <a:pt x="1697" y="1330"/>
                </a:lnTo>
                <a:lnTo>
                  <a:pt x="1703" y="1323"/>
                </a:lnTo>
                <a:lnTo>
                  <a:pt x="1710" y="1323"/>
                </a:lnTo>
                <a:lnTo>
                  <a:pt x="1710" y="1309"/>
                </a:lnTo>
                <a:lnTo>
                  <a:pt x="1710" y="1302"/>
                </a:lnTo>
                <a:lnTo>
                  <a:pt x="1703" y="1302"/>
                </a:lnTo>
                <a:lnTo>
                  <a:pt x="1703" y="1295"/>
                </a:lnTo>
                <a:lnTo>
                  <a:pt x="1697" y="1289"/>
                </a:lnTo>
                <a:lnTo>
                  <a:pt x="1690" y="1282"/>
                </a:lnTo>
                <a:lnTo>
                  <a:pt x="1683" y="1282"/>
                </a:lnTo>
                <a:lnTo>
                  <a:pt x="1676" y="1275"/>
                </a:lnTo>
                <a:lnTo>
                  <a:pt x="1676" y="1268"/>
                </a:lnTo>
                <a:lnTo>
                  <a:pt x="1669" y="1261"/>
                </a:lnTo>
                <a:lnTo>
                  <a:pt x="1669" y="1254"/>
                </a:lnTo>
                <a:lnTo>
                  <a:pt x="1662" y="1247"/>
                </a:lnTo>
                <a:lnTo>
                  <a:pt x="1662" y="1247"/>
                </a:lnTo>
                <a:lnTo>
                  <a:pt x="1655" y="1240"/>
                </a:lnTo>
                <a:lnTo>
                  <a:pt x="1648" y="1233"/>
                </a:lnTo>
                <a:lnTo>
                  <a:pt x="1641" y="1227"/>
                </a:lnTo>
                <a:lnTo>
                  <a:pt x="1641" y="1220"/>
                </a:lnTo>
                <a:lnTo>
                  <a:pt x="1634" y="1213"/>
                </a:lnTo>
                <a:lnTo>
                  <a:pt x="1634" y="1206"/>
                </a:lnTo>
                <a:lnTo>
                  <a:pt x="1634" y="1199"/>
                </a:lnTo>
                <a:lnTo>
                  <a:pt x="1628" y="1192"/>
                </a:lnTo>
                <a:lnTo>
                  <a:pt x="1621" y="1192"/>
                </a:lnTo>
                <a:lnTo>
                  <a:pt x="1614" y="1192"/>
                </a:lnTo>
                <a:lnTo>
                  <a:pt x="1607" y="1199"/>
                </a:lnTo>
                <a:lnTo>
                  <a:pt x="1600" y="1206"/>
                </a:lnTo>
                <a:lnTo>
                  <a:pt x="1600" y="1213"/>
                </a:lnTo>
                <a:lnTo>
                  <a:pt x="1593" y="1220"/>
                </a:lnTo>
                <a:lnTo>
                  <a:pt x="1600" y="1227"/>
                </a:lnTo>
                <a:lnTo>
                  <a:pt x="1600" y="1233"/>
                </a:lnTo>
                <a:lnTo>
                  <a:pt x="1607" y="1240"/>
                </a:lnTo>
                <a:lnTo>
                  <a:pt x="1607" y="1240"/>
                </a:lnTo>
                <a:lnTo>
                  <a:pt x="1607" y="1247"/>
                </a:lnTo>
                <a:lnTo>
                  <a:pt x="1614" y="1254"/>
                </a:lnTo>
                <a:lnTo>
                  <a:pt x="1614" y="1261"/>
                </a:lnTo>
                <a:lnTo>
                  <a:pt x="1614" y="1268"/>
                </a:lnTo>
                <a:lnTo>
                  <a:pt x="1614" y="1275"/>
                </a:lnTo>
                <a:lnTo>
                  <a:pt x="1621" y="1282"/>
                </a:lnTo>
                <a:lnTo>
                  <a:pt x="1628" y="1282"/>
                </a:lnTo>
                <a:lnTo>
                  <a:pt x="1634" y="1289"/>
                </a:lnTo>
                <a:lnTo>
                  <a:pt x="1634" y="1295"/>
                </a:lnTo>
                <a:lnTo>
                  <a:pt x="1634" y="1302"/>
                </a:lnTo>
                <a:lnTo>
                  <a:pt x="1634" y="1309"/>
                </a:lnTo>
                <a:lnTo>
                  <a:pt x="1634" y="1316"/>
                </a:lnTo>
                <a:lnTo>
                  <a:pt x="1628" y="1323"/>
                </a:lnTo>
                <a:lnTo>
                  <a:pt x="1628" y="1330"/>
                </a:lnTo>
                <a:lnTo>
                  <a:pt x="1621" y="1330"/>
                </a:lnTo>
                <a:lnTo>
                  <a:pt x="1614" y="1323"/>
                </a:lnTo>
                <a:lnTo>
                  <a:pt x="1607" y="1316"/>
                </a:lnTo>
                <a:lnTo>
                  <a:pt x="1600" y="1309"/>
                </a:lnTo>
                <a:lnTo>
                  <a:pt x="1593" y="1309"/>
                </a:lnTo>
                <a:lnTo>
                  <a:pt x="1586" y="1309"/>
                </a:lnTo>
                <a:lnTo>
                  <a:pt x="1572" y="1302"/>
                </a:lnTo>
                <a:lnTo>
                  <a:pt x="1566" y="1302"/>
                </a:lnTo>
                <a:lnTo>
                  <a:pt x="1559" y="1309"/>
                </a:lnTo>
                <a:lnTo>
                  <a:pt x="1559" y="1316"/>
                </a:lnTo>
                <a:lnTo>
                  <a:pt x="1559" y="1323"/>
                </a:lnTo>
                <a:lnTo>
                  <a:pt x="1559" y="1330"/>
                </a:lnTo>
                <a:lnTo>
                  <a:pt x="1559" y="1330"/>
                </a:lnTo>
                <a:lnTo>
                  <a:pt x="1559" y="1337"/>
                </a:lnTo>
                <a:lnTo>
                  <a:pt x="1552" y="1344"/>
                </a:lnTo>
                <a:lnTo>
                  <a:pt x="1552" y="1351"/>
                </a:lnTo>
                <a:lnTo>
                  <a:pt x="1552" y="1357"/>
                </a:lnTo>
                <a:lnTo>
                  <a:pt x="1559" y="1364"/>
                </a:lnTo>
                <a:lnTo>
                  <a:pt x="1559" y="1371"/>
                </a:lnTo>
                <a:lnTo>
                  <a:pt x="1566" y="1371"/>
                </a:lnTo>
                <a:lnTo>
                  <a:pt x="1572" y="1364"/>
                </a:lnTo>
                <a:lnTo>
                  <a:pt x="1579" y="1357"/>
                </a:lnTo>
                <a:lnTo>
                  <a:pt x="1593" y="1357"/>
                </a:lnTo>
                <a:lnTo>
                  <a:pt x="1600" y="1357"/>
                </a:lnTo>
                <a:lnTo>
                  <a:pt x="1614" y="1357"/>
                </a:lnTo>
                <a:lnTo>
                  <a:pt x="1621" y="1357"/>
                </a:lnTo>
                <a:lnTo>
                  <a:pt x="1628" y="1357"/>
                </a:lnTo>
                <a:lnTo>
                  <a:pt x="1628" y="1364"/>
                </a:lnTo>
                <a:lnTo>
                  <a:pt x="1634" y="1371"/>
                </a:lnTo>
                <a:lnTo>
                  <a:pt x="1641" y="1378"/>
                </a:lnTo>
                <a:lnTo>
                  <a:pt x="1641" y="1385"/>
                </a:lnTo>
                <a:lnTo>
                  <a:pt x="1648" y="1392"/>
                </a:lnTo>
                <a:lnTo>
                  <a:pt x="1655" y="1392"/>
                </a:lnTo>
                <a:lnTo>
                  <a:pt x="1655" y="1399"/>
                </a:lnTo>
                <a:lnTo>
                  <a:pt x="1662" y="1406"/>
                </a:lnTo>
                <a:lnTo>
                  <a:pt x="1662" y="1413"/>
                </a:lnTo>
                <a:lnTo>
                  <a:pt x="1669" y="1419"/>
                </a:lnTo>
                <a:lnTo>
                  <a:pt x="1676" y="1426"/>
                </a:lnTo>
                <a:lnTo>
                  <a:pt x="1676" y="1426"/>
                </a:lnTo>
                <a:lnTo>
                  <a:pt x="1683" y="1433"/>
                </a:lnTo>
                <a:lnTo>
                  <a:pt x="1690" y="1440"/>
                </a:lnTo>
                <a:lnTo>
                  <a:pt x="1690" y="1447"/>
                </a:lnTo>
                <a:lnTo>
                  <a:pt x="1697" y="1454"/>
                </a:lnTo>
                <a:lnTo>
                  <a:pt x="1697" y="1461"/>
                </a:lnTo>
                <a:lnTo>
                  <a:pt x="1703" y="1461"/>
                </a:lnTo>
                <a:lnTo>
                  <a:pt x="1710" y="1468"/>
                </a:lnTo>
                <a:lnTo>
                  <a:pt x="1710" y="1475"/>
                </a:lnTo>
                <a:lnTo>
                  <a:pt x="1717" y="1481"/>
                </a:lnTo>
                <a:lnTo>
                  <a:pt x="1717" y="1488"/>
                </a:lnTo>
                <a:lnTo>
                  <a:pt x="1724" y="1495"/>
                </a:lnTo>
                <a:lnTo>
                  <a:pt x="1731" y="1495"/>
                </a:lnTo>
                <a:lnTo>
                  <a:pt x="1731" y="1502"/>
                </a:lnTo>
                <a:lnTo>
                  <a:pt x="1738" y="1509"/>
                </a:lnTo>
                <a:lnTo>
                  <a:pt x="1745" y="1516"/>
                </a:lnTo>
                <a:lnTo>
                  <a:pt x="1752" y="1523"/>
                </a:lnTo>
                <a:lnTo>
                  <a:pt x="1752" y="1530"/>
                </a:lnTo>
                <a:lnTo>
                  <a:pt x="1759" y="1537"/>
                </a:lnTo>
                <a:lnTo>
                  <a:pt x="1765" y="1537"/>
                </a:lnTo>
                <a:lnTo>
                  <a:pt x="1772" y="1543"/>
                </a:lnTo>
                <a:lnTo>
                  <a:pt x="1779" y="1537"/>
                </a:lnTo>
                <a:lnTo>
                  <a:pt x="1786" y="1537"/>
                </a:lnTo>
                <a:lnTo>
                  <a:pt x="1786" y="1530"/>
                </a:lnTo>
                <a:lnTo>
                  <a:pt x="1793" y="1523"/>
                </a:lnTo>
                <a:lnTo>
                  <a:pt x="1800" y="1516"/>
                </a:lnTo>
                <a:lnTo>
                  <a:pt x="1800" y="1509"/>
                </a:lnTo>
                <a:lnTo>
                  <a:pt x="1807" y="1502"/>
                </a:lnTo>
                <a:lnTo>
                  <a:pt x="1814" y="1502"/>
                </a:lnTo>
                <a:lnTo>
                  <a:pt x="1828" y="1495"/>
                </a:lnTo>
                <a:lnTo>
                  <a:pt x="1834" y="1502"/>
                </a:lnTo>
                <a:lnTo>
                  <a:pt x="1841" y="1502"/>
                </a:lnTo>
                <a:lnTo>
                  <a:pt x="1848" y="1509"/>
                </a:lnTo>
                <a:lnTo>
                  <a:pt x="1855" y="1509"/>
                </a:lnTo>
                <a:lnTo>
                  <a:pt x="1855" y="1516"/>
                </a:lnTo>
                <a:lnTo>
                  <a:pt x="1848" y="1523"/>
                </a:lnTo>
                <a:lnTo>
                  <a:pt x="1834" y="1523"/>
                </a:lnTo>
                <a:lnTo>
                  <a:pt x="1828" y="1523"/>
                </a:lnTo>
                <a:lnTo>
                  <a:pt x="1821" y="1523"/>
                </a:lnTo>
                <a:lnTo>
                  <a:pt x="1807" y="1523"/>
                </a:lnTo>
                <a:lnTo>
                  <a:pt x="1800" y="1523"/>
                </a:lnTo>
                <a:lnTo>
                  <a:pt x="1793" y="1523"/>
                </a:lnTo>
                <a:lnTo>
                  <a:pt x="1786" y="1530"/>
                </a:lnTo>
                <a:lnTo>
                  <a:pt x="1779" y="1537"/>
                </a:lnTo>
                <a:lnTo>
                  <a:pt x="1772" y="1543"/>
                </a:lnTo>
                <a:lnTo>
                  <a:pt x="1772" y="1550"/>
                </a:lnTo>
                <a:lnTo>
                  <a:pt x="1759" y="1550"/>
                </a:lnTo>
                <a:lnTo>
                  <a:pt x="1752" y="1557"/>
                </a:lnTo>
                <a:lnTo>
                  <a:pt x="1745" y="1557"/>
                </a:lnTo>
                <a:lnTo>
                  <a:pt x="1738" y="1564"/>
                </a:lnTo>
                <a:lnTo>
                  <a:pt x="1731" y="1564"/>
                </a:lnTo>
                <a:lnTo>
                  <a:pt x="1724" y="1571"/>
                </a:lnTo>
                <a:lnTo>
                  <a:pt x="1710" y="1571"/>
                </a:lnTo>
                <a:lnTo>
                  <a:pt x="1703" y="1578"/>
                </a:lnTo>
                <a:lnTo>
                  <a:pt x="1697" y="1578"/>
                </a:lnTo>
                <a:lnTo>
                  <a:pt x="1690" y="1578"/>
                </a:lnTo>
                <a:lnTo>
                  <a:pt x="1676" y="1585"/>
                </a:lnTo>
                <a:lnTo>
                  <a:pt x="1676" y="1592"/>
                </a:lnTo>
                <a:lnTo>
                  <a:pt x="1669" y="1592"/>
                </a:lnTo>
                <a:lnTo>
                  <a:pt x="1662" y="1599"/>
                </a:lnTo>
                <a:lnTo>
                  <a:pt x="1655" y="1605"/>
                </a:lnTo>
                <a:lnTo>
                  <a:pt x="1648" y="1605"/>
                </a:lnTo>
                <a:lnTo>
                  <a:pt x="1641" y="1612"/>
                </a:lnTo>
                <a:lnTo>
                  <a:pt x="1628" y="1612"/>
                </a:lnTo>
                <a:lnTo>
                  <a:pt x="1621" y="1612"/>
                </a:lnTo>
                <a:lnTo>
                  <a:pt x="1607" y="1612"/>
                </a:lnTo>
                <a:lnTo>
                  <a:pt x="1600" y="1612"/>
                </a:lnTo>
                <a:lnTo>
                  <a:pt x="1593" y="1619"/>
                </a:lnTo>
                <a:lnTo>
                  <a:pt x="1586" y="1619"/>
                </a:lnTo>
                <a:lnTo>
                  <a:pt x="1579" y="1626"/>
                </a:lnTo>
                <a:lnTo>
                  <a:pt x="1572" y="1633"/>
                </a:lnTo>
                <a:lnTo>
                  <a:pt x="1566" y="1633"/>
                </a:lnTo>
                <a:lnTo>
                  <a:pt x="1559" y="1640"/>
                </a:lnTo>
                <a:lnTo>
                  <a:pt x="1545" y="1640"/>
                </a:lnTo>
                <a:lnTo>
                  <a:pt x="1538" y="1647"/>
                </a:lnTo>
                <a:lnTo>
                  <a:pt x="1531" y="1647"/>
                </a:lnTo>
                <a:lnTo>
                  <a:pt x="1524" y="1654"/>
                </a:lnTo>
                <a:lnTo>
                  <a:pt x="1517" y="1660"/>
                </a:lnTo>
                <a:lnTo>
                  <a:pt x="1510" y="1660"/>
                </a:lnTo>
                <a:lnTo>
                  <a:pt x="1503" y="1667"/>
                </a:lnTo>
                <a:lnTo>
                  <a:pt x="1503" y="1674"/>
                </a:lnTo>
                <a:lnTo>
                  <a:pt x="1497" y="1681"/>
                </a:lnTo>
                <a:lnTo>
                  <a:pt x="1497" y="1688"/>
                </a:lnTo>
                <a:lnTo>
                  <a:pt x="1490" y="1695"/>
                </a:lnTo>
                <a:lnTo>
                  <a:pt x="1490" y="1695"/>
                </a:lnTo>
                <a:lnTo>
                  <a:pt x="1483" y="1702"/>
                </a:lnTo>
                <a:lnTo>
                  <a:pt x="1483" y="1709"/>
                </a:lnTo>
                <a:lnTo>
                  <a:pt x="1476" y="1716"/>
                </a:lnTo>
                <a:lnTo>
                  <a:pt x="1462" y="1716"/>
                </a:lnTo>
                <a:lnTo>
                  <a:pt x="1455" y="1722"/>
                </a:lnTo>
                <a:lnTo>
                  <a:pt x="1455" y="1729"/>
                </a:lnTo>
                <a:lnTo>
                  <a:pt x="1455" y="1736"/>
                </a:lnTo>
                <a:lnTo>
                  <a:pt x="1455" y="1736"/>
                </a:lnTo>
                <a:lnTo>
                  <a:pt x="1455" y="1750"/>
                </a:lnTo>
                <a:lnTo>
                  <a:pt x="1448" y="1757"/>
                </a:lnTo>
                <a:lnTo>
                  <a:pt x="1441" y="1757"/>
                </a:lnTo>
                <a:lnTo>
                  <a:pt x="1441" y="1750"/>
                </a:lnTo>
                <a:lnTo>
                  <a:pt x="1434" y="1743"/>
                </a:lnTo>
                <a:lnTo>
                  <a:pt x="1428" y="1736"/>
                </a:lnTo>
                <a:lnTo>
                  <a:pt x="1428" y="1729"/>
                </a:lnTo>
                <a:lnTo>
                  <a:pt x="1421" y="1722"/>
                </a:lnTo>
                <a:lnTo>
                  <a:pt x="1414" y="1722"/>
                </a:lnTo>
                <a:lnTo>
                  <a:pt x="1407" y="1722"/>
                </a:lnTo>
                <a:lnTo>
                  <a:pt x="1400" y="1729"/>
                </a:lnTo>
                <a:lnTo>
                  <a:pt x="1393" y="1736"/>
                </a:lnTo>
                <a:lnTo>
                  <a:pt x="1386" y="1736"/>
                </a:lnTo>
                <a:lnTo>
                  <a:pt x="1372" y="1743"/>
                </a:lnTo>
                <a:lnTo>
                  <a:pt x="1366" y="1743"/>
                </a:lnTo>
                <a:lnTo>
                  <a:pt x="1359" y="1743"/>
                </a:lnTo>
                <a:lnTo>
                  <a:pt x="1352" y="1750"/>
                </a:lnTo>
                <a:lnTo>
                  <a:pt x="1338" y="1750"/>
                </a:lnTo>
                <a:lnTo>
                  <a:pt x="1331" y="1750"/>
                </a:lnTo>
                <a:lnTo>
                  <a:pt x="1324" y="1757"/>
                </a:lnTo>
                <a:lnTo>
                  <a:pt x="1310" y="1757"/>
                </a:lnTo>
                <a:lnTo>
                  <a:pt x="1303" y="1764"/>
                </a:lnTo>
                <a:lnTo>
                  <a:pt x="1297" y="1764"/>
                </a:lnTo>
                <a:lnTo>
                  <a:pt x="1283" y="1764"/>
                </a:lnTo>
                <a:lnTo>
                  <a:pt x="1276" y="1771"/>
                </a:lnTo>
                <a:lnTo>
                  <a:pt x="1269" y="1778"/>
                </a:lnTo>
                <a:lnTo>
                  <a:pt x="1269" y="1784"/>
                </a:lnTo>
                <a:lnTo>
                  <a:pt x="1269" y="1791"/>
                </a:lnTo>
                <a:lnTo>
                  <a:pt x="1269" y="1791"/>
                </a:lnTo>
                <a:lnTo>
                  <a:pt x="1262" y="1798"/>
                </a:lnTo>
                <a:lnTo>
                  <a:pt x="1262" y="1805"/>
                </a:lnTo>
                <a:lnTo>
                  <a:pt x="1262" y="1812"/>
                </a:lnTo>
                <a:lnTo>
                  <a:pt x="1262" y="1819"/>
                </a:lnTo>
                <a:lnTo>
                  <a:pt x="1262" y="1826"/>
                </a:lnTo>
                <a:lnTo>
                  <a:pt x="1262" y="1833"/>
                </a:lnTo>
                <a:lnTo>
                  <a:pt x="1262" y="1840"/>
                </a:lnTo>
                <a:lnTo>
                  <a:pt x="1269" y="1840"/>
                </a:lnTo>
                <a:lnTo>
                  <a:pt x="1297" y="1840"/>
                </a:lnTo>
                <a:lnTo>
                  <a:pt x="1310" y="1840"/>
                </a:lnTo>
                <a:close/>
                <a:moveTo>
                  <a:pt x="1386" y="1840"/>
                </a:moveTo>
                <a:lnTo>
                  <a:pt x="1379" y="1833"/>
                </a:lnTo>
                <a:lnTo>
                  <a:pt x="1372" y="1833"/>
                </a:lnTo>
                <a:lnTo>
                  <a:pt x="1366" y="1833"/>
                </a:lnTo>
                <a:lnTo>
                  <a:pt x="1366" y="1833"/>
                </a:lnTo>
                <a:lnTo>
                  <a:pt x="1359" y="1833"/>
                </a:lnTo>
                <a:lnTo>
                  <a:pt x="1352" y="1833"/>
                </a:lnTo>
                <a:lnTo>
                  <a:pt x="1352" y="1833"/>
                </a:lnTo>
                <a:lnTo>
                  <a:pt x="1345" y="1840"/>
                </a:lnTo>
                <a:lnTo>
                  <a:pt x="1359" y="1840"/>
                </a:lnTo>
                <a:lnTo>
                  <a:pt x="1386" y="1840"/>
                </a:lnTo>
                <a:close/>
                <a:moveTo>
                  <a:pt x="1517" y="1722"/>
                </a:moveTo>
                <a:lnTo>
                  <a:pt x="1524" y="1716"/>
                </a:lnTo>
                <a:lnTo>
                  <a:pt x="1524" y="1716"/>
                </a:lnTo>
                <a:lnTo>
                  <a:pt x="1531" y="1709"/>
                </a:lnTo>
                <a:lnTo>
                  <a:pt x="1538" y="1709"/>
                </a:lnTo>
                <a:lnTo>
                  <a:pt x="1538" y="1716"/>
                </a:lnTo>
                <a:lnTo>
                  <a:pt x="1545" y="1716"/>
                </a:lnTo>
                <a:lnTo>
                  <a:pt x="1545" y="1716"/>
                </a:lnTo>
                <a:lnTo>
                  <a:pt x="1545" y="1722"/>
                </a:lnTo>
                <a:lnTo>
                  <a:pt x="1538" y="1722"/>
                </a:lnTo>
                <a:lnTo>
                  <a:pt x="1538" y="1729"/>
                </a:lnTo>
                <a:lnTo>
                  <a:pt x="1531" y="1729"/>
                </a:lnTo>
                <a:lnTo>
                  <a:pt x="1531" y="1729"/>
                </a:lnTo>
                <a:lnTo>
                  <a:pt x="1524" y="1722"/>
                </a:lnTo>
                <a:lnTo>
                  <a:pt x="1517" y="1722"/>
                </a:lnTo>
                <a:close/>
                <a:moveTo>
                  <a:pt x="1697" y="1543"/>
                </a:moveTo>
                <a:lnTo>
                  <a:pt x="1690" y="1537"/>
                </a:lnTo>
                <a:lnTo>
                  <a:pt x="1690" y="1530"/>
                </a:lnTo>
                <a:lnTo>
                  <a:pt x="1683" y="1530"/>
                </a:lnTo>
                <a:lnTo>
                  <a:pt x="1676" y="1530"/>
                </a:lnTo>
                <a:lnTo>
                  <a:pt x="1662" y="1537"/>
                </a:lnTo>
                <a:lnTo>
                  <a:pt x="1655" y="1537"/>
                </a:lnTo>
                <a:lnTo>
                  <a:pt x="1655" y="1543"/>
                </a:lnTo>
                <a:lnTo>
                  <a:pt x="1662" y="1550"/>
                </a:lnTo>
                <a:lnTo>
                  <a:pt x="1669" y="1557"/>
                </a:lnTo>
                <a:lnTo>
                  <a:pt x="1676" y="1557"/>
                </a:lnTo>
                <a:lnTo>
                  <a:pt x="1683" y="1557"/>
                </a:lnTo>
                <a:lnTo>
                  <a:pt x="1690" y="1557"/>
                </a:lnTo>
                <a:lnTo>
                  <a:pt x="1690" y="1550"/>
                </a:lnTo>
                <a:lnTo>
                  <a:pt x="1697" y="1543"/>
                </a:lnTo>
                <a:close/>
                <a:moveTo>
                  <a:pt x="1896" y="1481"/>
                </a:moveTo>
                <a:lnTo>
                  <a:pt x="1903" y="1475"/>
                </a:lnTo>
                <a:lnTo>
                  <a:pt x="1903" y="1468"/>
                </a:lnTo>
                <a:lnTo>
                  <a:pt x="1910" y="1461"/>
                </a:lnTo>
                <a:lnTo>
                  <a:pt x="1917" y="1461"/>
                </a:lnTo>
                <a:lnTo>
                  <a:pt x="1924" y="1468"/>
                </a:lnTo>
                <a:lnTo>
                  <a:pt x="1931" y="1468"/>
                </a:lnTo>
                <a:lnTo>
                  <a:pt x="1938" y="1475"/>
                </a:lnTo>
                <a:lnTo>
                  <a:pt x="1938" y="1481"/>
                </a:lnTo>
                <a:lnTo>
                  <a:pt x="1938" y="1488"/>
                </a:lnTo>
                <a:lnTo>
                  <a:pt x="1931" y="1488"/>
                </a:lnTo>
                <a:lnTo>
                  <a:pt x="1917" y="1488"/>
                </a:lnTo>
                <a:lnTo>
                  <a:pt x="1910" y="1488"/>
                </a:lnTo>
                <a:lnTo>
                  <a:pt x="1903" y="1488"/>
                </a:lnTo>
                <a:lnTo>
                  <a:pt x="1896" y="1481"/>
                </a:lnTo>
                <a:close/>
                <a:moveTo>
                  <a:pt x="2648" y="1275"/>
                </a:moveTo>
                <a:lnTo>
                  <a:pt x="2655" y="1268"/>
                </a:lnTo>
                <a:lnTo>
                  <a:pt x="2655" y="1268"/>
                </a:lnTo>
                <a:lnTo>
                  <a:pt x="2662" y="1268"/>
                </a:lnTo>
                <a:lnTo>
                  <a:pt x="2662" y="1275"/>
                </a:lnTo>
                <a:lnTo>
                  <a:pt x="2669" y="1275"/>
                </a:lnTo>
                <a:lnTo>
                  <a:pt x="2669" y="1282"/>
                </a:lnTo>
                <a:lnTo>
                  <a:pt x="2662" y="1282"/>
                </a:lnTo>
                <a:lnTo>
                  <a:pt x="2662" y="1289"/>
                </a:lnTo>
                <a:lnTo>
                  <a:pt x="2662" y="1289"/>
                </a:lnTo>
                <a:lnTo>
                  <a:pt x="2655" y="1289"/>
                </a:lnTo>
                <a:lnTo>
                  <a:pt x="2655" y="1289"/>
                </a:lnTo>
                <a:lnTo>
                  <a:pt x="2655" y="1289"/>
                </a:lnTo>
                <a:lnTo>
                  <a:pt x="2655" y="1282"/>
                </a:lnTo>
                <a:lnTo>
                  <a:pt x="2648" y="1275"/>
                </a:lnTo>
                <a:close/>
                <a:moveTo>
                  <a:pt x="1745" y="1247"/>
                </a:moveTo>
                <a:lnTo>
                  <a:pt x="1745" y="1247"/>
                </a:lnTo>
                <a:lnTo>
                  <a:pt x="1745" y="1247"/>
                </a:lnTo>
                <a:lnTo>
                  <a:pt x="1745" y="1247"/>
                </a:lnTo>
                <a:lnTo>
                  <a:pt x="1738" y="1247"/>
                </a:lnTo>
                <a:lnTo>
                  <a:pt x="1738" y="1247"/>
                </a:lnTo>
                <a:lnTo>
                  <a:pt x="1738" y="1247"/>
                </a:lnTo>
                <a:lnTo>
                  <a:pt x="1738" y="1247"/>
                </a:lnTo>
                <a:lnTo>
                  <a:pt x="1738" y="1247"/>
                </a:lnTo>
                <a:lnTo>
                  <a:pt x="1738" y="1247"/>
                </a:lnTo>
                <a:lnTo>
                  <a:pt x="1738" y="1247"/>
                </a:lnTo>
                <a:lnTo>
                  <a:pt x="1745" y="1247"/>
                </a:lnTo>
                <a:lnTo>
                  <a:pt x="1745" y="1247"/>
                </a:lnTo>
                <a:lnTo>
                  <a:pt x="1745" y="1247"/>
                </a:lnTo>
                <a:lnTo>
                  <a:pt x="1745" y="1247"/>
                </a:lnTo>
                <a:close/>
                <a:moveTo>
                  <a:pt x="1717" y="1213"/>
                </a:moveTo>
                <a:lnTo>
                  <a:pt x="1717" y="1213"/>
                </a:lnTo>
                <a:lnTo>
                  <a:pt x="1717" y="1206"/>
                </a:lnTo>
                <a:lnTo>
                  <a:pt x="1710" y="1206"/>
                </a:lnTo>
                <a:lnTo>
                  <a:pt x="1703" y="1206"/>
                </a:lnTo>
                <a:lnTo>
                  <a:pt x="1697" y="1206"/>
                </a:lnTo>
                <a:lnTo>
                  <a:pt x="1690" y="1213"/>
                </a:lnTo>
                <a:lnTo>
                  <a:pt x="1690" y="1220"/>
                </a:lnTo>
                <a:lnTo>
                  <a:pt x="1690" y="1220"/>
                </a:lnTo>
                <a:lnTo>
                  <a:pt x="1697" y="1227"/>
                </a:lnTo>
                <a:lnTo>
                  <a:pt x="1703" y="1227"/>
                </a:lnTo>
                <a:lnTo>
                  <a:pt x="1710" y="1227"/>
                </a:lnTo>
                <a:lnTo>
                  <a:pt x="1717" y="1227"/>
                </a:lnTo>
                <a:lnTo>
                  <a:pt x="1717" y="1220"/>
                </a:lnTo>
                <a:lnTo>
                  <a:pt x="1717" y="1213"/>
                </a:lnTo>
                <a:close/>
                <a:moveTo>
                  <a:pt x="1697" y="1185"/>
                </a:moveTo>
                <a:lnTo>
                  <a:pt x="1697" y="1178"/>
                </a:lnTo>
                <a:lnTo>
                  <a:pt x="1690" y="1171"/>
                </a:lnTo>
                <a:lnTo>
                  <a:pt x="1683" y="1171"/>
                </a:lnTo>
                <a:lnTo>
                  <a:pt x="1683" y="1165"/>
                </a:lnTo>
                <a:lnTo>
                  <a:pt x="1676" y="1158"/>
                </a:lnTo>
                <a:lnTo>
                  <a:pt x="1676" y="1151"/>
                </a:lnTo>
                <a:lnTo>
                  <a:pt x="1669" y="1144"/>
                </a:lnTo>
                <a:lnTo>
                  <a:pt x="1662" y="1137"/>
                </a:lnTo>
                <a:lnTo>
                  <a:pt x="1662" y="1130"/>
                </a:lnTo>
                <a:lnTo>
                  <a:pt x="1655" y="1130"/>
                </a:lnTo>
                <a:lnTo>
                  <a:pt x="1655" y="1123"/>
                </a:lnTo>
                <a:lnTo>
                  <a:pt x="1648" y="1116"/>
                </a:lnTo>
                <a:lnTo>
                  <a:pt x="1648" y="1109"/>
                </a:lnTo>
                <a:lnTo>
                  <a:pt x="1641" y="1103"/>
                </a:lnTo>
                <a:lnTo>
                  <a:pt x="1634" y="1096"/>
                </a:lnTo>
                <a:lnTo>
                  <a:pt x="1634" y="1089"/>
                </a:lnTo>
                <a:lnTo>
                  <a:pt x="1628" y="1089"/>
                </a:lnTo>
                <a:lnTo>
                  <a:pt x="1628" y="1082"/>
                </a:lnTo>
                <a:lnTo>
                  <a:pt x="1621" y="1075"/>
                </a:lnTo>
                <a:lnTo>
                  <a:pt x="1621" y="1068"/>
                </a:lnTo>
                <a:lnTo>
                  <a:pt x="1614" y="1061"/>
                </a:lnTo>
                <a:lnTo>
                  <a:pt x="1607" y="1054"/>
                </a:lnTo>
                <a:lnTo>
                  <a:pt x="1607" y="1047"/>
                </a:lnTo>
                <a:lnTo>
                  <a:pt x="1600" y="1041"/>
                </a:lnTo>
                <a:lnTo>
                  <a:pt x="1600" y="1041"/>
                </a:lnTo>
                <a:lnTo>
                  <a:pt x="1593" y="1034"/>
                </a:lnTo>
                <a:lnTo>
                  <a:pt x="1586" y="1027"/>
                </a:lnTo>
                <a:lnTo>
                  <a:pt x="1572" y="1027"/>
                </a:lnTo>
                <a:lnTo>
                  <a:pt x="1566" y="1027"/>
                </a:lnTo>
                <a:lnTo>
                  <a:pt x="1559" y="1034"/>
                </a:lnTo>
                <a:lnTo>
                  <a:pt x="1559" y="1041"/>
                </a:lnTo>
                <a:lnTo>
                  <a:pt x="1552" y="1047"/>
                </a:lnTo>
                <a:lnTo>
                  <a:pt x="1545" y="1054"/>
                </a:lnTo>
                <a:lnTo>
                  <a:pt x="1545" y="1054"/>
                </a:lnTo>
                <a:lnTo>
                  <a:pt x="1538" y="1061"/>
                </a:lnTo>
                <a:lnTo>
                  <a:pt x="1538" y="1068"/>
                </a:lnTo>
                <a:lnTo>
                  <a:pt x="1545" y="1075"/>
                </a:lnTo>
                <a:lnTo>
                  <a:pt x="1552" y="1075"/>
                </a:lnTo>
                <a:lnTo>
                  <a:pt x="1566" y="1082"/>
                </a:lnTo>
                <a:lnTo>
                  <a:pt x="1572" y="1089"/>
                </a:lnTo>
                <a:lnTo>
                  <a:pt x="1572" y="1089"/>
                </a:lnTo>
                <a:lnTo>
                  <a:pt x="1579" y="1096"/>
                </a:lnTo>
                <a:lnTo>
                  <a:pt x="1586" y="1103"/>
                </a:lnTo>
                <a:lnTo>
                  <a:pt x="1593" y="1109"/>
                </a:lnTo>
                <a:lnTo>
                  <a:pt x="1600" y="1109"/>
                </a:lnTo>
                <a:lnTo>
                  <a:pt x="1607" y="1116"/>
                </a:lnTo>
                <a:lnTo>
                  <a:pt x="1614" y="1123"/>
                </a:lnTo>
                <a:lnTo>
                  <a:pt x="1614" y="1130"/>
                </a:lnTo>
                <a:lnTo>
                  <a:pt x="1614" y="1137"/>
                </a:lnTo>
                <a:lnTo>
                  <a:pt x="1621" y="1144"/>
                </a:lnTo>
                <a:lnTo>
                  <a:pt x="1621" y="1144"/>
                </a:lnTo>
                <a:lnTo>
                  <a:pt x="1628" y="1151"/>
                </a:lnTo>
                <a:lnTo>
                  <a:pt x="1634" y="1158"/>
                </a:lnTo>
                <a:lnTo>
                  <a:pt x="1634" y="1165"/>
                </a:lnTo>
                <a:lnTo>
                  <a:pt x="1634" y="1171"/>
                </a:lnTo>
                <a:lnTo>
                  <a:pt x="1634" y="1178"/>
                </a:lnTo>
                <a:lnTo>
                  <a:pt x="1634" y="1185"/>
                </a:lnTo>
                <a:lnTo>
                  <a:pt x="1641" y="1185"/>
                </a:lnTo>
                <a:lnTo>
                  <a:pt x="1655" y="1192"/>
                </a:lnTo>
                <a:lnTo>
                  <a:pt x="1662" y="1199"/>
                </a:lnTo>
                <a:lnTo>
                  <a:pt x="1669" y="1199"/>
                </a:lnTo>
                <a:lnTo>
                  <a:pt x="1676" y="1206"/>
                </a:lnTo>
                <a:lnTo>
                  <a:pt x="1683" y="1213"/>
                </a:lnTo>
                <a:lnTo>
                  <a:pt x="1683" y="1213"/>
                </a:lnTo>
                <a:lnTo>
                  <a:pt x="1690" y="1213"/>
                </a:lnTo>
                <a:lnTo>
                  <a:pt x="1690" y="1206"/>
                </a:lnTo>
                <a:lnTo>
                  <a:pt x="1697" y="1199"/>
                </a:lnTo>
                <a:lnTo>
                  <a:pt x="1697" y="1185"/>
                </a:lnTo>
                <a:close/>
                <a:moveTo>
                  <a:pt x="1607" y="1158"/>
                </a:moveTo>
                <a:lnTo>
                  <a:pt x="1600" y="1151"/>
                </a:lnTo>
                <a:lnTo>
                  <a:pt x="1600" y="1151"/>
                </a:lnTo>
                <a:lnTo>
                  <a:pt x="1593" y="1151"/>
                </a:lnTo>
                <a:lnTo>
                  <a:pt x="1586" y="1151"/>
                </a:lnTo>
                <a:lnTo>
                  <a:pt x="1579" y="1158"/>
                </a:lnTo>
                <a:lnTo>
                  <a:pt x="1579" y="1158"/>
                </a:lnTo>
                <a:lnTo>
                  <a:pt x="1579" y="1165"/>
                </a:lnTo>
                <a:lnTo>
                  <a:pt x="1586" y="1171"/>
                </a:lnTo>
                <a:lnTo>
                  <a:pt x="1593" y="1171"/>
                </a:lnTo>
                <a:lnTo>
                  <a:pt x="1593" y="1171"/>
                </a:lnTo>
                <a:lnTo>
                  <a:pt x="1600" y="1171"/>
                </a:lnTo>
                <a:lnTo>
                  <a:pt x="1600" y="1165"/>
                </a:lnTo>
                <a:lnTo>
                  <a:pt x="1607" y="1165"/>
                </a:lnTo>
                <a:lnTo>
                  <a:pt x="1607" y="1158"/>
                </a:lnTo>
                <a:close/>
                <a:moveTo>
                  <a:pt x="1572" y="1130"/>
                </a:moveTo>
                <a:lnTo>
                  <a:pt x="1572" y="1123"/>
                </a:lnTo>
                <a:lnTo>
                  <a:pt x="1566" y="1116"/>
                </a:lnTo>
                <a:lnTo>
                  <a:pt x="1559" y="1116"/>
                </a:lnTo>
                <a:lnTo>
                  <a:pt x="1552" y="1123"/>
                </a:lnTo>
                <a:lnTo>
                  <a:pt x="1552" y="1123"/>
                </a:lnTo>
                <a:lnTo>
                  <a:pt x="1552" y="1130"/>
                </a:lnTo>
                <a:lnTo>
                  <a:pt x="1552" y="1137"/>
                </a:lnTo>
                <a:lnTo>
                  <a:pt x="1559" y="1144"/>
                </a:lnTo>
                <a:lnTo>
                  <a:pt x="1559" y="1144"/>
                </a:lnTo>
                <a:lnTo>
                  <a:pt x="1566" y="1144"/>
                </a:lnTo>
                <a:lnTo>
                  <a:pt x="1566" y="1144"/>
                </a:lnTo>
                <a:lnTo>
                  <a:pt x="1572" y="1144"/>
                </a:lnTo>
                <a:lnTo>
                  <a:pt x="1572" y="1137"/>
                </a:lnTo>
                <a:lnTo>
                  <a:pt x="1572" y="1130"/>
                </a:lnTo>
                <a:close/>
                <a:moveTo>
                  <a:pt x="2614" y="951"/>
                </a:moveTo>
                <a:lnTo>
                  <a:pt x="2620" y="944"/>
                </a:lnTo>
                <a:lnTo>
                  <a:pt x="2620" y="944"/>
                </a:lnTo>
                <a:lnTo>
                  <a:pt x="2627" y="937"/>
                </a:lnTo>
                <a:lnTo>
                  <a:pt x="2627" y="937"/>
                </a:lnTo>
                <a:lnTo>
                  <a:pt x="2627" y="937"/>
                </a:lnTo>
                <a:lnTo>
                  <a:pt x="2634" y="944"/>
                </a:lnTo>
                <a:lnTo>
                  <a:pt x="2634" y="944"/>
                </a:lnTo>
                <a:lnTo>
                  <a:pt x="2634" y="951"/>
                </a:lnTo>
                <a:lnTo>
                  <a:pt x="2634" y="951"/>
                </a:lnTo>
                <a:lnTo>
                  <a:pt x="2627" y="951"/>
                </a:lnTo>
                <a:lnTo>
                  <a:pt x="2627" y="958"/>
                </a:lnTo>
                <a:lnTo>
                  <a:pt x="2620" y="951"/>
                </a:lnTo>
                <a:lnTo>
                  <a:pt x="2620" y="951"/>
                </a:lnTo>
                <a:lnTo>
                  <a:pt x="2614" y="951"/>
                </a:lnTo>
                <a:close/>
                <a:moveTo>
                  <a:pt x="2441" y="827"/>
                </a:moveTo>
                <a:lnTo>
                  <a:pt x="2441" y="827"/>
                </a:lnTo>
                <a:lnTo>
                  <a:pt x="2448" y="827"/>
                </a:lnTo>
                <a:lnTo>
                  <a:pt x="2448" y="827"/>
                </a:lnTo>
                <a:lnTo>
                  <a:pt x="2448" y="827"/>
                </a:lnTo>
                <a:lnTo>
                  <a:pt x="2448" y="827"/>
                </a:lnTo>
                <a:lnTo>
                  <a:pt x="2455" y="827"/>
                </a:lnTo>
                <a:lnTo>
                  <a:pt x="2455" y="834"/>
                </a:lnTo>
                <a:lnTo>
                  <a:pt x="2455" y="834"/>
                </a:lnTo>
                <a:lnTo>
                  <a:pt x="2448" y="834"/>
                </a:lnTo>
                <a:lnTo>
                  <a:pt x="2448" y="834"/>
                </a:lnTo>
                <a:lnTo>
                  <a:pt x="2448" y="834"/>
                </a:lnTo>
                <a:lnTo>
                  <a:pt x="2448" y="834"/>
                </a:lnTo>
                <a:lnTo>
                  <a:pt x="2441" y="834"/>
                </a:lnTo>
                <a:lnTo>
                  <a:pt x="2441" y="827"/>
                </a:lnTo>
                <a:close/>
                <a:moveTo>
                  <a:pt x="324" y="710"/>
                </a:moveTo>
                <a:lnTo>
                  <a:pt x="331" y="703"/>
                </a:lnTo>
                <a:lnTo>
                  <a:pt x="331" y="696"/>
                </a:lnTo>
                <a:lnTo>
                  <a:pt x="338" y="696"/>
                </a:lnTo>
                <a:lnTo>
                  <a:pt x="338" y="689"/>
                </a:lnTo>
                <a:lnTo>
                  <a:pt x="338" y="682"/>
                </a:lnTo>
                <a:lnTo>
                  <a:pt x="345" y="675"/>
                </a:lnTo>
                <a:lnTo>
                  <a:pt x="345" y="669"/>
                </a:lnTo>
                <a:lnTo>
                  <a:pt x="352" y="662"/>
                </a:lnTo>
                <a:lnTo>
                  <a:pt x="359" y="655"/>
                </a:lnTo>
                <a:lnTo>
                  <a:pt x="366" y="655"/>
                </a:lnTo>
                <a:lnTo>
                  <a:pt x="373" y="655"/>
                </a:lnTo>
                <a:lnTo>
                  <a:pt x="386" y="655"/>
                </a:lnTo>
                <a:lnTo>
                  <a:pt x="393" y="662"/>
                </a:lnTo>
                <a:lnTo>
                  <a:pt x="407" y="662"/>
                </a:lnTo>
                <a:lnTo>
                  <a:pt x="414" y="669"/>
                </a:lnTo>
                <a:lnTo>
                  <a:pt x="421" y="669"/>
                </a:lnTo>
                <a:lnTo>
                  <a:pt x="428" y="675"/>
                </a:lnTo>
                <a:lnTo>
                  <a:pt x="435" y="682"/>
                </a:lnTo>
                <a:lnTo>
                  <a:pt x="442" y="689"/>
                </a:lnTo>
                <a:lnTo>
                  <a:pt x="442" y="689"/>
                </a:lnTo>
                <a:lnTo>
                  <a:pt x="449" y="689"/>
                </a:lnTo>
                <a:lnTo>
                  <a:pt x="462" y="682"/>
                </a:lnTo>
                <a:lnTo>
                  <a:pt x="469" y="682"/>
                </a:lnTo>
                <a:lnTo>
                  <a:pt x="476" y="675"/>
                </a:lnTo>
                <a:lnTo>
                  <a:pt x="490" y="675"/>
                </a:lnTo>
                <a:lnTo>
                  <a:pt x="497" y="669"/>
                </a:lnTo>
                <a:lnTo>
                  <a:pt x="504" y="669"/>
                </a:lnTo>
                <a:lnTo>
                  <a:pt x="504" y="662"/>
                </a:lnTo>
                <a:lnTo>
                  <a:pt x="511" y="655"/>
                </a:lnTo>
                <a:lnTo>
                  <a:pt x="511" y="648"/>
                </a:lnTo>
                <a:lnTo>
                  <a:pt x="511" y="641"/>
                </a:lnTo>
                <a:lnTo>
                  <a:pt x="511" y="634"/>
                </a:lnTo>
                <a:lnTo>
                  <a:pt x="517" y="627"/>
                </a:lnTo>
                <a:lnTo>
                  <a:pt x="517" y="620"/>
                </a:lnTo>
                <a:lnTo>
                  <a:pt x="517" y="613"/>
                </a:lnTo>
                <a:lnTo>
                  <a:pt x="524" y="607"/>
                </a:lnTo>
                <a:lnTo>
                  <a:pt x="524" y="607"/>
                </a:lnTo>
                <a:lnTo>
                  <a:pt x="531" y="600"/>
                </a:lnTo>
                <a:lnTo>
                  <a:pt x="531" y="593"/>
                </a:lnTo>
                <a:lnTo>
                  <a:pt x="538" y="586"/>
                </a:lnTo>
                <a:lnTo>
                  <a:pt x="552" y="586"/>
                </a:lnTo>
                <a:lnTo>
                  <a:pt x="559" y="586"/>
                </a:lnTo>
                <a:lnTo>
                  <a:pt x="573" y="586"/>
                </a:lnTo>
                <a:lnTo>
                  <a:pt x="580" y="579"/>
                </a:lnTo>
                <a:lnTo>
                  <a:pt x="586" y="572"/>
                </a:lnTo>
                <a:lnTo>
                  <a:pt x="593" y="572"/>
                </a:lnTo>
                <a:lnTo>
                  <a:pt x="593" y="565"/>
                </a:lnTo>
                <a:lnTo>
                  <a:pt x="600" y="558"/>
                </a:lnTo>
                <a:lnTo>
                  <a:pt x="600" y="551"/>
                </a:lnTo>
                <a:lnTo>
                  <a:pt x="607" y="545"/>
                </a:lnTo>
                <a:lnTo>
                  <a:pt x="607" y="538"/>
                </a:lnTo>
                <a:lnTo>
                  <a:pt x="607" y="531"/>
                </a:lnTo>
                <a:lnTo>
                  <a:pt x="607" y="524"/>
                </a:lnTo>
                <a:lnTo>
                  <a:pt x="607" y="517"/>
                </a:lnTo>
                <a:lnTo>
                  <a:pt x="607" y="510"/>
                </a:lnTo>
                <a:lnTo>
                  <a:pt x="614" y="503"/>
                </a:lnTo>
                <a:lnTo>
                  <a:pt x="614" y="496"/>
                </a:lnTo>
                <a:lnTo>
                  <a:pt x="614" y="496"/>
                </a:lnTo>
                <a:lnTo>
                  <a:pt x="621" y="489"/>
                </a:lnTo>
                <a:lnTo>
                  <a:pt x="621" y="483"/>
                </a:lnTo>
                <a:lnTo>
                  <a:pt x="621" y="476"/>
                </a:lnTo>
                <a:lnTo>
                  <a:pt x="628" y="469"/>
                </a:lnTo>
                <a:lnTo>
                  <a:pt x="628" y="462"/>
                </a:lnTo>
                <a:lnTo>
                  <a:pt x="628" y="455"/>
                </a:lnTo>
                <a:lnTo>
                  <a:pt x="635" y="448"/>
                </a:lnTo>
                <a:lnTo>
                  <a:pt x="635" y="441"/>
                </a:lnTo>
                <a:lnTo>
                  <a:pt x="642" y="434"/>
                </a:lnTo>
                <a:lnTo>
                  <a:pt x="642" y="434"/>
                </a:lnTo>
                <a:lnTo>
                  <a:pt x="648" y="427"/>
                </a:lnTo>
                <a:lnTo>
                  <a:pt x="648" y="421"/>
                </a:lnTo>
                <a:lnTo>
                  <a:pt x="648" y="414"/>
                </a:lnTo>
                <a:lnTo>
                  <a:pt x="655" y="407"/>
                </a:lnTo>
                <a:lnTo>
                  <a:pt x="655" y="400"/>
                </a:lnTo>
                <a:lnTo>
                  <a:pt x="655" y="393"/>
                </a:lnTo>
                <a:lnTo>
                  <a:pt x="662" y="386"/>
                </a:lnTo>
                <a:lnTo>
                  <a:pt x="662" y="379"/>
                </a:lnTo>
                <a:lnTo>
                  <a:pt x="662" y="372"/>
                </a:lnTo>
                <a:lnTo>
                  <a:pt x="669" y="365"/>
                </a:lnTo>
                <a:lnTo>
                  <a:pt x="669" y="359"/>
                </a:lnTo>
                <a:lnTo>
                  <a:pt x="676" y="359"/>
                </a:lnTo>
                <a:lnTo>
                  <a:pt x="676" y="352"/>
                </a:lnTo>
                <a:lnTo>
                  <a:pt x="683" y="345"/>
                </a:lnTo>
                <a:lnTo>
                  <a:pt x="683" y="338"/>
                </a:lnTo>
                <a:lnTo>
                  <a:pt x="683" y="331"/>
                </a:lnTo>
                <a:lnTo>
                  <a:pt x="690" y="324"/>
                </a:lnTo>
                <a:lnTo>
                  <a:pt x="690" y="317"/>
                </a:lnTo>
                <a:lnTo>
                  <a:pt x="690" y="310"/>
                </a:lnTo>
                <a:lnTo>
                  <a:pt x="697" y="303"/>
                </a:lnTo>
                <a:lnTo>
                  <a:pt x="697" y="297"/>
                </a:lnTo>
                <a:lnTo>
                  <a:pt x="697" y="290"/>
                </a:lnTo>
                <a:lnTo>
                  <a:pt x="704" y="290"/>
                </a:lnTo>
                <a:lnTo>
                  <a:pt x="704" y="283"/>
                </a:lnTo>
                <a:lnTo>
                  <a:pt x="711" y="276"/>
                </a:lnTo>
                <a:lnTo>
                  <a:pt x="711" y="269"/>
                </a:lnTo>
                <a:lnTo>
                  <a:pt x="717" y="262"/>
                </a:lnTo>
                <a:lnTo>
                  <a:pt x="724" y="255"/>
                </a:lnTo>
                <a:lnTo>
                  <a:pt x="724" y="255"/>
                </a:lnTo>
                <a:lnTo>
                  <a:pt x="731" y="248"/>
                </a:lnTo>
                <a:lnTo>
                  <a:pt x="731" y="241"/>
                </a:lnTo>
                <a:lnTo>
                  <a:pt x="731" y="235"/>
                </a:lnTo>
                <a:lnTo>
                  <a:pt x="731" y="228"/>
                </a:lnTo>
                <a:lnTo>
                  <a:pt x="738" y="221"/>
                </a:lnTo>
                <a:lnTo>
                  <a:pt x="745" y="214"/>
                </a:lnTo>
                <a:lnTo>
                  <a:pt x="752" y="207"/>
                </a:lnTo>
                <a:lnTo>
                  <a:pt x="759" y="207"/>
                </a:lnTo>
                <a:lnTo>
                  <a:pt x="766" y="200"/>
                </a:lnTo>
                <a:lnTo>
                  <a:pt x="773" y="193"/>
                </a:lnTo>
                <a:lnTo>
                  <a:pt x="779" y="193"/>
                </a:lnTo>
                <a:lnTo>
                  <a:pt x="786" y="186"/>
                </a:lnTo>
                <a:lnTo>
                  <a:pt x="793" y="179"/>
                </a:lnTo>
                <a:lnTo>
                  <a:pt x="800" y="179"/>
                </a:lnTo>
                <a:lnTo>
                  <a:pt x="807" y="173"/>
                </a:lnTo>
                <a:lnTo>
                  <a:pt x="814" y="166"/>
                </a:lnTo>
                <a:lnTo>
                  <a:pt x="828" y="166"/>
                </a:lnTo>
                <a:lnTo>
                  <a:pt x="828" y="173"/>
                </a:lnTo>
                <a:lnTo>
                  <a:pt x="835" y="179"/>
                </a:lnTo>
                <a:lnTo>
                  <a:pt x="842" y="186"/>
                </a:lnTo>
                <a:lnTo>
                  <a:pt x="848" y="186"/>
                </a:lnTo>
                <a:lnTo>
                  <a:pt x="855" y="193"/>
                </a:lnTo>
                <a:lnTo>
                  <a:pt x="862" y="200"/>
                </a:lnTo>
                <a:lnTo>
                  <a:pt x="869" y="207"/>
                </a:lnTo>
                <a:lnTo>
                  <a:pt x="869" y="207"/>
                </a:lnTo>
                <a:lnTo>
                  <a:pt x="876" y="214"/>
                </a:lnTo>
                <a:lnTo>
                  <a:pt x="883" y="221"/>
                </a:lnTo>
                <a:lnTo>
                  <a:pt x="890" y="228"/>
                </a:lnTo>
                <a:lnTo>
                  <a:pt x="897" y="228"/>
                </a:lnTo>
                <a:lnTo>
                  <a:pt x="897" y="235"/>
                </a:lnTo>
                <a:lnTo>
                  <a:pt x="904" y="241"/>
                </a:lnTo>
                <a:lnTo>
                  <a:pt x="910" y="248"/>
                </a:lnTo>
                <a:lnTo>
                  <a:pt x="910" y="255"/>
                </a:lnTo>
                <a:lnTo>
                  <a:pt x="917" y="262"/>
                </a:lnTo>
                <a:lnTo>
                  <a:pt x="924" y="255"/>
                </a:lnTo>
                <a:lnTo>
                  <a:pt x="931" y="255"/>
                </a:lnTo>
                <a:lnTo>
                  <a:pt x="938" y="248"/>
                </a:lnTo>
                <a:lnTo>
                  <a:pt x="945" y="241"/>
                </a:lnTo>
                <a:lnTo>
                  <a:pt x="952" y="241"/>
                </a:lnTo>
                <a:lnTo>
                  <a:pt x="959" y="235"/>
                </a:lnTo>
                <a:lnTo>
                  <a:pt x="966" y="228"/>
                </a:lnTo>
                <a:lnTo>
                  <a:pt x="973" y="221"/>
                </a:lnTo>
                <a:lnTo>
                  <a:pt x="979" y="221"/>
                </a:lnTo>
                <a:lnTo>
                  <a:pt x="993" y="214"/>
                </a:lnTo>
                <a:lnTo>
                  <a:pt x="1000" y="214"/>
                </a:lnTo>
                <a:lnTo>
                  <a:pt x="1007" y="207"/>
                </a:lnTo>
                <a:lnTo>
                  <a:pt x="1014" y="207"/>
                </a:lnTo>
                <a:lnTo>
                  <a:pt x="1014" y="200"/>
                </a:lnTo>
                <a:lnTo>
                  <a:pt x="1014" y="193"/>
                </a:lnTo>
                <a:lnTo>
                  <a:pt x="1014" y="186"/>
                </a:lnTo>
                <a:lnTo>
                  <a:pt x="1007" y="179"/>
                </a:lnTo>
                <a:lnTo>
                  <a:pt x="993" y="173"/>
                </a:lnTo>
                <a:lnTo>
                  <a:pt x="986" y="173"/>
                </a:lnTo>
                <a:lnTo>
                  <a:pt x="979" y="173"/>
                </a:lnTo>
                <a:lnTo>
                  <a:pt x="973" y="166"/>
                </a:lnTo>
                <a:lnTo>
                  <a:pt x="966" y="159"/>
                </a:lnTo>
                <a:lnTo>
                  <a:pt x="966" y="152"/>
                </a:lnTo>
                <a:lnTo>
                  <a:pt x="966" y="145"/>
                </a:lnTo>
                <a:lnTo>
                  <a:pt x="959" y="138"/>
                </a:lnTo>
                <a:lnTo>
                  <a:pt x="952" y="131"/>
                </a:lnTo>
                <a:lnTo>
                  <a:pt x="952" y="124"/>
                </a:lnTo>
                <a:lnTo>
                  <a:pt x="945" y="124"/>
                </a:lnTo>
                <a:lnTo>
                  <a:pt x="952" y="117"/>
                </a:lnTo>
                <a:lnTo>
                  <a:pt x="952" y="111"/>
                </a:lnTo>
                <a:lnTo>
                  <a:pt x="966" y="111"/>
                </a:lnTo>
                <a:lnTo>
                  <a:pt x="973" y="104"/>
                </a:lnTo>
                <a:lnTo>
                  <a:pt x="979" y="97"/>
                </a:lnTo>
                <a:lnTo>
                  <a:pt x="986" y="97"/>
                </a:lnTo>
                <a:lnTo>
                  <a:pt x="993" y="90"/>
                </a:lnTo>
                <a:lnTo>
                  <a:pt x="993" y="83"/>
                </a:lnTo>
                <a:lnTo>
                  <a:pt x="993" y="76"/>
                </a:lnTo>
                <a:lnTo>
                  <a:pt x="993" y="69"/>
                </a:lnTo>
                <a:lnTo>
                  <a:pt x="986" y="62"/>
                </a:lnTo>
                <a:lnTo>
                  <a:pt x="979" y="55"/>
                </a:lnTo>
                <a:lnTo>
                  <a:pt x="973" y="55"/>
                </a:lnTo>
                <a:lnTo>
                  <a:pt x="973" y="49"/>
                </a:lnTo>
                <a:lnTo>
                  <a:pt x="966" y="42"/>
                </a:lnTo>
                <a:lnTo>
                  <a:pt x="959" y="35"/>
                </a:lnTo>
                <a:lnTo>
                  <a:pt x="952" y="35"/>
                </a:lnTo>
                <a:lnTo>
                  <a:pt x="945" y="28"/>
                </a:lnTo>
                <a:lnTo>
                  <a:pt x="938" y="21"/>
                </a:lnTo>
                <a:lnTo>
                  <a:pt x="938" y="14"/>
                </a:lnTo>
                <a:lnTo>
                  <a:pt x="931" y="7"/>
                </a:lnTo>
                <a:lnTo>
                  <a:pt x="924" y="7"/>
                </a:lnTo>
                <a:lnTo>
                  <a:pt x="917" y="0"/>
                </a:lnTo>
                <a:lnTo>
                  <a:pt x="917" y="0"/>
                </a:lnTo>
                <a:lnTo>
                  <a:pt x="883" y="0"/>
                </a:lnTo>
                <a:lnTo>
                  <a:pt x="855" y="0"/>
                </a:lnTo>
                <a:lnTo>
                  <a:pt x="828" y="0"/>
                </a:lnTo>
                <a:lnTo>
                  <a:pt x="793" y="0"/>
                </a:lnTo>
                <a:lnTo>
                  <a:pt x="766" y="0"/>
                </a:lnTo>
                <a:lnTo>
                  <a:pt x="738" y="0"/>
                </a:lnTo>
                <a:lnTo>
                  <a:pt x="711" y="0"/>
                </a:lnTo>
                <a:lnTo>
                  <a:pt x="676" y="0"/>
                </a:lnTo>
                <a:lnTo>
                  <a:pt x="648" y="28"/>
                </a:lnTo>
                <a:lnTo>
                  <a:pt x="621" y="62"/>
                </a:lnTo>
                <a:lnTo>
                  <a:pt x="593" y="90"/>
                </a:lnTo>
                <a:lnTo>
                  <a:pt x="559" y="117"/>
                </a:lnTo>
                <a:lnTo>
                  <a:pt x="545" y="131"/>
                </a:lnTo>
                <a:lnTo>
                  <a:pt x="545" y="138"/>
                </a:lnTo>
                <a:lnTo>
                  <a:pt x="538" y="145"/>
                </a:lnTo>
                <a:lnTo>
                  <a:pt x="531" y="152"/>
                </a:lnTo>
                <a:lnTo>
                  <a:pt x="531" y="159"/>
                </a:lnTo>
                <a:lnTo>
                  <a:pt x="531" y="166"/>
                </a:lnTo>
                <a:lnTo>
                  <a:pt x="524" y="173"/>
                </a:lnTo>
                <a:lnTo>
                  <a:pt x="517" y="179"/>
                </a:lnTo>
                <a:lnTo>
                  <a:pt x="517" y="186"/>
                </a:lnTo>
                <a:lnTo>
                  <a:pt x="511" y="193"/>
                </a:lnTo>
                <a:lnTo>
                  <a:pt x="504" y="200"/>
                </a:lnTo>
                <a:lnTo>
                  <a:pt x="504" y="207"/>
                </a:lnTo>
                <a:lnTo>
                  <a:pt x="497" y="207"/>
                </a:lnTo>
                <a:lnTo>
                  <a:pt x="490" y="214"/>
                </a:lnTo>
                <a:lnTo>
                  <a:pt x="483" y="221"/>
                </a:lnTo>
                <a:lnTo>
                  <a:pt x="476" y="228"/>
                </a:lnTo>
                <a:lnTo>
                  <a:pt x="476" y="235"/>
                </a:lnTo>
                <a:lnTo>
                  <a:pt x="476" y="241"/>
                </a:lnTo>
                <a:lnTo>
                  <a:pt x="483" y="248"/>
                </a:lnTo>
                <a:lnTo>
                  <a:pt x="490" y="255"/>
                </a:lnTo>
                <a:lnTo>
                  <a:pt x="497" y="262"/>
                </a:lnTo>
                <a:lnTo>
                  <a:pt x="504" y="262"/>
                </a:lnTo>
                <a:lnTo>
                  <a:pt x="511" y="262"/>
                </a:lnTo>
                <a:lnTo>
                  <a:pt x="517" y="255"/>
                </a:lnTo>
                <a:lnTo>
                  <a:pt x="524" y="248"/>
                </a:lnTo>
                <a:lnTo>
                  <a:pt x="524" y="235"/>
                </a:lnTo>
                <a:lnTo>
                  <a:pt x="531" y="228"/>
                </a:lnTo>
                <a:lnTo>
                  <a:pt x="538" y="228"/>
                </a:lnTo>
                <a:lnTo>
                  <a:pt x="538" y="241"/>
                </a:lnTo>
                <a:lnTo>
                  <a:pt x="531" y="248"/>
                </a:lnTo>
                <a:lnTo>
                  <a:pt x="524" y="248"/>
                </a:lnTo>
                <a:lnTo>
                  <a:pt x="517" y="255"/>
                </a:lnTo>
                <a:lnTo>
                  <a:pt x="511" y="262"/>
                </a:lnTo>
                <a:lnTo>
                  <a:pt x="511" y="269"/>
                </a:lnTo>
                <a:lnTo>
                  <a:pt x="504" y="276"/>
                </a:lnTo>
                <a:lnTo>
                  <a:pt x="504" y="283"/>
                </a:lnTo>
                <a:lnTo>
                  <a:pt x="504" y="290"/>
                </a:lnTo>
                <a:lnTo>
                  <a:pt x="504" y="297"/>
                </a:lnTo>
                <a:lnTo>
                  <a:pt x="497" y="303"/>
                </a:lnTo>
                <a:lnTo>
                  <a:pt x="497" y="310"/>
                </a:lnTo>
                <a:lnTo>
                  <a:pt x="497" y="317"/>
                </a:lnTo>
                <a:lnTo>
                  <a:pt x="490" y="324"/>
                </a:lnTo>
                <a:lnTo>
                  <a:pt x="490" y="331"/>
                </a:lnTo>
                <a:lnTo>
                  <a:pt x="483" y="338"/>
                </a:lnTo>
                <a:lnTo>
                  <a:pt x="483" y="345"/>
                </a:lnTo>
                <a:lnTo>
                  <a:pt x="476" y="352"/>
                </a:lnTo>
                <a:lnTo>
                  <a:pt x="476" y="359"/>
                </a:lnTo>
                <a:lnTo>
                  <a:pt x="469" y="365"/>
                </a:lnTo>
                <a:lnTo>
                  <a:pt x="469" y="372"/>
                </a:lnTo>
                <a:lnTo>
                  <a:pt x="469" y="379"/>
                </a:lnTo>
                <a:lnTo>
                  <a:pt x="462" y="386"/>
                </a:lnTo>
                <a:lnTo>
                  <a:pt x="462" y="386"/>
                </a:lnTo>
                <a:lnTo>
                  <a:pt x="455" y="393"/>
                </a:lnTo>
                <a:lnTo>
                  <a:pt x="449" y="400"/>
                </a:lnTo>
                <a:lnTo>
                  <a:pt x="449" y="407"/>
                </a:lnTo>
                <a:lnTo>
                  <a:pt x="442" y="414"/>
                </a:lnTo>
                <a:lnTo>
                  <a:pt x="449" y="427"/>
                </a:lnTo>
                <a:lnTo>
                  <a:pt x="449" y="434"/>
                </a:lnTo>
                <a:lnTo>
                  <a:pt x="455" y="441"/>
                </a:lnTo>
                <a:lnTo>
                  <a:pt x="462" y="441"/>
                </a:lnTo>
                <a:lnTo>
                  <a:pt x="476" y="441"/>
                </a:lnTo>
                <a:lnTo>
                  <a:pt x="483" y="434"/>
                </a:lnTo>
                <a:lnTo>
                  <a:pt x="490" y="427"/>
                </a:lnTo>
                <a:lnTo>
                  <a:pt x="497" y="421"/>
                </a:lnTo>
                <a:lnTo>
                  <a:pt x="504" y="421"/>
                </a:lnTo>
                <a:lnTo>
                  <a:pt x="504" y="421"/>
                </a:lnTo>
                <a:lnTo>
                  <a:pt x="504" y="427"/>
                </a:lnTo>
                <a:lnTo>
                  <a:pt x="504" y="434"/>
                </a:lnTo>
                <a:lnTo>
                  <a:pt x="504" y="448"/>
                </a:lnTo>
                <a:lnTo>
                  <a:pt x="504" y="455"/>
                </a:lnTo>
                <a:lnTo>
                  <a:pt x="504" y="462"/>
                </a:lnTo>
                <a:lnTo>
                  <a:pt x="497" y="469"/>
                </a:lnTo>
                <a:lnTo>
                  <a:pt x="497" y="476"/>
                </a:lnTo>
                <a:lnTo>
                  <a:pt x="490" y="476"/>
                </a:lnTo>
                <a:lnTo>
                  <a:pt x="490" y="483"/>
                </a:lnTo>
                <a:lnTo>
                  <a:pt x="483" y="489"/>
                </a:lnTo>
                <a:lnTo>
                  <a:pt x="483" y="496"/>
                </a:lnTo>
                <a:lnTo>
                  <a:pt x="476" y="503"/>
                </a:lnTo>
                <a:lnTo>
                  <a:pt x="476" y="517"/>
                </a:lnTo>
                <a:lnTo>
                  <a:pt x="476" y="517"/>
                </a:lnTo>
                <a:lnTo>
                  <a:pt x="469" y="524"/>
                </a:lnTo>
                <a:lnTo>
                  <a:pt x="462" y="517"/>
                </a:lnTo>
                <a:lnTo>
                  <a:pt x="449" y="510"/>
                </a:lnTo>
                <a:lnTo>
                  <a:pt x="442" y="503"/>
                </a:lnTo>
                <a:lnTo>
                  <a:pt x="442" y="496"/>
                </a:lnTo>
                <a:lnTo>
                  <a:pt x="442" y="489"/>
                </a:lnTo>
                <a:lnTo>
                  <a:pt x="449" y="483"/>
                </a:lnTo>
                <a:lnTo>
                  <a:pt x="449" y="476"/>
                </a:lnTo>
                <a:lnTo>
                  <a:pt x="455" y="469"/>
                </a:lnTo>
                <a:lnTo>
                  <a:pt x="462" y="462"/>
                </a:lnTo>
                <a:lnTo>
                  <a:pt x="469" y="455"/>
                </a:lnTo>
                <a:lnTo>
                  <a:pt x="469" y="448"/>
                </a:lnTo>
                <a:lnTo>
                  <a:pt x="469" y="441"/>
                </a:lnTo>
                <a:lnTo>
                  <a:pt x="462" y="434"/>
                </a:lnTo>
                <a:lnTo>
                  <a:pt x="455" y="427"/>
                </a:lnTo>
                <a:lnTo>
                  <a:pt x="449" y="421"/>
                </a:lnTo>
                <a:lnTo>
                  <a:pt x="442" y="421"/>
                </a:lnTo>
                <a:lnTo>
                  <a:pt x="442" y="421"/>
                </a:lnTo>
                <a:lnTo>
                  <a:pt x="435" y="427"/>
                </a:lnTo>
                <a:lnTo>
                  <a:pt x="435" y="434"/>
                </a:lnTo>
                <a:lnTo>
                  <a:pt x="435" y="441"/>
                </a:lnTo>
                <a:lnTo>
                  <a:pt x="435" y="448"/>
                </a:lnTo>
                <a:lnTo>
                  <a:pt x="428" y="462"/>
                </a:lnTo>
                <a:lnTo>
                  <a:pt x="428" y="469"/>
                </a:lnTo>
                <a:lnTo>
                  <a:pt x="421" y="469"/>
                </a:lnTo>
                <a:lnTo>
                  <a:pt x="414" y="476"/>
                </a:lnTo>
                <a:lnTo>
                  <a:pt x="407" y="476"/>
                </a:lnTo>
                <a:lnTo>
                  <a:pt x="400" y="483"/>
                </a:lnTo>
                <a:lnTo>
                  <a:pt x="400" y="489"/>
                </a:lnTo>
                <a:lnTo>
                  <a:pt x="400" y="503"/>
                </a:lnTo>
                <a:lnTo>
                  <a:pt x="400" y="510"/>
                </a:lnTo>
                <a:lnTo>
                  <a:pt x="393" y="517"/>
                </a:lnTo>
                <a:lnTo>
                  <a:pt x="386" y="517"/>
                </a:lnTo>
                <a:lnTo>
                  <a:pt x="380" y="524"/>
                </a:lnTo>
                <a:lnTo>
                  <a:pt x="373" y="531"/>
                </a:lnTo>
                <a:lnTo>
                  <a:pt x="366" y="538"/>
                </a:lnTo>
                <a:lnTo>
                  <a:pt x="359" y="538"/>
                </a:lnTo>
                <a:lnTo>
                  <a:pt x="352" y="545"/>
                </a:lnTo>
                <a:lnTo>
                  <a:pt x="345" y="551"/>
                </a:lnTo>
                <a:lnTo>
                  <a:pt x="331" y="558"/>
                </a:lnTo>
                <a:lnTo>
                  <a:pt x="324" y="565"/>
                </a:lnTo>
                <a:lnTo>
                  <a:pt x="324" y="565"/>
                </a:lnTo>
                <a:lnTo>
                  <a:pt x="318" y="558"/>
                </a:lnTo>
                <a:lnTo>
                  <a:pt x="311" y="551"/>
                </a:lnTo>
                <a:lnTo>
                  <a:pt x="304" y="545"/>
                </a:lnTo>
                <a:lnTo>
                  <a:pt x="297" y="538"/>
                </a:lnTo>
                <a:lnTo>
                  <a:pt x="283" y="538"/>
                </a:lnTo>
                <a:lnTo>
                  <a:pt x="269" y="545"/>
                </a:lnTo>
                <a:lnTo>
                  <a:pt x="262" y="545"/>
                </a:lnTo>
                <a:lnTo>
                  <a:pt x="262" y="551"/>
                </a:lnTo>
                <a:lnTo>
                  <a:pt x="255" y="558"/>
                </a:lnTo>
                <a:lnTo>
                  <a:pt x="249" y="565"/>
                </a:lnTo>
                <a:lnTo>
                  <a:pt x="242" y="572"/>
                </a:lnTo>
                <a:lnTo>
                  <a:pt x="235" y="579"/>
                </a:lnTo>
                <a:lnTo>
                  <a:pt x="228" y="579"/>
                </a:lnTo>
                <a:lnTo>
                  <a:pt x="214" y="586"/>
                </a:lnTo>
                <a:lnTo>
                  <a:pt x="207" y="586"/>
                </a:lnTo>
                <a:lnTo>
                  <a:pt x="200" y="593"/>
                </a:lnTo>
                <a:lnTo>
                  <a:pt x="200" y="600"/>
                </a:lnTo>
                <a:lnTo>
                  <a:pt x="193" y="607"/>
                </a:lnTo>
                <a:lnTo>
                  <a:pt x="187" y="613"/>
                </a:lnTo>
                <a:lnTo>
                  <a:pt x="173" y="613"/>
                </a:lnTo>
                <a:lnTo>
                  <a:pt x="166" y="613"/>
                </a:lnTo>
                <a:lnTo>
                  <a:pt x="152" y="607"/>
                </a:lnTo>
                <a:lnTo>
                  <a:pt x="145" y="600"/>
                </a:lnTo>
                <a:lnTo>
                  <a:pt x="145" y="593"/>
                </a:lnTo>
                <a:lnTo>
                  <a:pt x="138" y="593"/>
                </a:lnTo>
                <a:lnTo>
                  <a:pt x="131" y="586"/>
                </a:lnTo>
                <a:lnTo>
                  <a:pt x="118" y="586"/>
                </a:lnTo>
                <a:lnTo>
                  <a:pt x="104" y="586"/>
                </a:lnTo>
                <a:lnTo>
                  <a:pt x="97" y="586"/>
                </a:lnTo>
                <a:lnTo>
                  <a:pt x="83" y="586"/>
                </a:lnTo>
                <a:lnTo>
                  <a:pt x="76" y="579"/>
                </a:lnTo>
                <a:lnTo>
                  <a:pt x="69" y="572"/>
                </a:lnTo>
                <a:lnTo>
                  <a:pt x="62" y="565"/>
                </a:lnTo>
                <a:lnTo>
                  <a:pt x="62" y="558"/>
                </a:lnTo>
                <a:lnTo>
                  <a:pt x="56" y="565"/>
                </a:lnTo>
                <a:lnTo>
                  <a:pt x="49" y="565"/>
                </a:lnTo>
                <a:lnTo>
                  <a:pt x="49" y="565"/>
                </a:lnTo>
                <a:lnTo>
                  <a:pt x="42" y="572"/>
                </a:lnTo>
                <a:lnTo>
                  <a:pt x="35" y="572"/>
                </a:lnTo>
                <a:lnTo>
                  <a:pt x="28" y="579"/>
                </a:lnTo>
                <a:lnTo>
                  <a:pt x="28" y="586"/>
                </a:lnTo>
                <a:lnTo>
                  <a:pt x="21" y="586"/>
                </a:lnTo>
                <a:lnTo>
                  <a:pt x="21" y="593"/>
                </a:lnTo>
                <a:lnTo>
                  <a:pt x="21" y="600"/>
                </a:lnTo>
                <a:lnTo>
                  <a:pt x="21" y="607"/>
                </a:lnTo>
                <a:lnTo>
                  <a:pt x="28" y="607"/>
                </a:lnTo>
                <a:lnTo>
                  <a:pt x="35" y="613"/>
                </a:lnTo>
                <a:lnTo>
                  <a:pt x="42" y="613"/>
                </a:lnTo>
                <a:lnTo>
                  <a:pt x="49" y="620"/>
                </a:lnTo>
                <a:lnTo>
                  <a:pt x="56" y="620"/>
                </a:lnTo>
                <a:lnTo>
                  <a:pt x="62" y="627"/>
                </a:lnTo>
                <a:lnTo>
                  <a:pt x="69" y="627"/>
                </a:lnTo>
                <a:lnTo>
                  <a:pt x="76" y="627"/>
                </a:lnTo>
                <a:lnTo>
                  <a:pt x="83" y="627"/>
                </a:lnTo>
                <a:lnTo>
                  <a:pt x="90" y="627"/>
                </a:lnTo>
                <a:lnTo>
                  <a:pt x="104" y="634"/>
                </a:lnTo>
                <a:lnTo>
                  <a:pt x="111" y="634"/>
                </a:lnTo>
                <a:lnTo>
                  <a:pt x="118" y="634"/>
                </a:lnTo>
                <a:lnTo>
                  <a:pt x="124" y="634"/>
                </a:lnTo>
                <a:lnTo>
                  <a:pt x="131" y="634"/>
                </a:lnTo>
                <a:lnTo>
                  <a:pt x="138" y="641"/>
                </a:lnTo>
                <a:lnTo>
                  <a:pt x="145" y="641"/>
                </a:lnTo>
                <a:lnTo>
                  <a:pt x="152" y="648"/>
                </a:lnTo>
                <a:lnTo>
                  <a:pt x="159" y="655"/>
                </a:lnTo>
                <a:lnTo>
                  <a:pt x="166" y="655"/>
                </a:lnTo>
                <a:lnTo>
                  <a:pt x="173" y="655"/>
                </a:lnTo>
                <a:lnTo>
                  <a:pt x="180" y="662"/>
                </a:lnTo>
                <a:lnTo>
                  <a:pt x="187" y="662"/>
                </a:lnTo>
                <a:lnTo>
                  <a:pt x="193" y="662"/>
                </a:lnTo>
                <a:lnTo>
                  <a:pt x="207" y="662"/>
                </a:lnTo>
                <a:lnTo>
                  <a:pt x="214" y="662"/>
                </a:lnTo>
                <a:lnTo>
                  <a:pt x="221" y="662"/>
                </a:lnTo>
                <a:lnTo>
                  <a:pt x="228" y="662"/>
                </a:lnTo>
                <a:lnTo>
                  <a:pt x="235" y="662"/>
                </a:lnTo>
                <a:lnTo>
                  <a:pt x="249" y="662"/>
                </a:lnTo>
                <a:lnTo>
                  <a:pt x="255" y="655"/>
                </a:lnTo>
                <a:lnTo>
                  <a:pt x="262" y="655"/>
                </a:lnTo>
                <a:lnTo>
                  <a:pt x="269" y="655"/>
                </a:lnTo>
                <a:lnTo>
                  <a:pt x="276" y="662"/>
                </a:lnTo>
                <a:lnTo>
                  <a:pt x="283" y="662"/>
                </a:lnTo>
                <a:lnTo>
                  <a:pt x="283" y="669"/>
                </a:lnTo>
                <a:lnTo>
                  <a:pt x="290" y="675"/>
                </a:lnTo>
                <a:lnTo>
                  <a:pt x="290" y="682"/>
                </a:lnTo>
                <a:lnTo>
                  <a:pt x="290" y="689"/>
                </a:lnTo>
                <a:lnTo>
                  <a:pt x="290" y="696"/>
                </a:lnTo>
                <a:lnTo>
                  <a:pt x="290" y="696"/>
                </a:lnTo>
                <a:lnTo>
                  <a:pt x="290" y="703"/>
                </a:lnTo>
                <a:lnTo>
                  <a:pt x="297" y="710"/>
                </a:lnTo>
                <a:lnTo>
                  <a:pt x="304" y="710"/>
                </a:lnTo>
                <a:lnTo>
                  <a:pt x="311" y="710"/>
                </a:lnTo>
                <a:lnTo>
                  <a:pt x="324" y="717"/>
                </a:lnTo>
                <a:lnTo>
                  <a:pt x="324" y="710"/>
                </a:lnTo>
                <a:close/>
                <a:moveTo>
                  <a:pt x="469" y="710"/>
                </a:moveTo>
                <a:lnTo>
                  <a:pt x="469" y="710"/>
                </a:lnTo>
                <a:lnTo>
                  <a:pt x="469" y="710"/>
                </a:lnTo>
                <a:lnTo>
                  <a:pt x="469" y="710"/>
                </a:lnTo>
                <a:lnTo>
                  <a:pt x="469" y="710"/>
                </a:lnTo>
                <a:lnTo>
                  <a:pt x="469" y="703"/>
                </a:lnTo>
                <a:lnTo>
                  <a:pt x="469" y="710"/>
                </a:lnTo>
                <a:lnTo>
                  <a:pt x="469" y="710"/>
                </a:lnTo>
                <a:lnTo>
                  <a:pt x="469" y="710"/>
                </a:lnTo>
                <a:lnTo>
                  <a:pt x="469" y="710"/>
                </a:lnTo>
                <a:lnTo>
                  <a:pt x="469" y="710"/>
                </a:lnTo>
                <a:lnTo>
                  <a:pt x="469" y="710"/>
                </a:lnTo>
                <a:lnTo>
                  <a:pt x="469" y="710"/>
                </a:lnTo>
                <a:lnTo>
                  <a:pt x="469" y="710"/>
                </a:lnTo>
                <a:lnTo>
                  <a:pt x="469" y="710"/>
                </a:lnTo>
                <a:close/>
                <a:moveTo>
                  <a:pt x="2069" y="682"/>
                </a:moveTo>
                <a:lnTo>
                  <a:pt x="2076" y="675"/>
                </a:lnTo>
                <a:lnTo>
                  <a:pt x="2083" y="669"/>
                </a:lnTo>
                <a:lnTo>
                  <a:pt x="2083" y="669"/>
                </a:lnTo>
                <a:lnTo>
                  <a:pt x="2083" y="662"/>
                </a:lnTo>
                <a:lnTo>
                  <a:pt x="2083" y="655"/>
                </a:lnTo>
                <a:lnTo>
                  <a:pt x="2076" y="648"/>
                </a:lnTo>
                <a:lnTo>
                  <a:pt x="2076" y="641"/>
                </a:lnTo>
                <a:lnTo>
                  <a:pt x="2069" y="634"/>
                </a:lnTo>
                <a:lnTo>
                  <a:pt x="2062" y="634"/>
                </a:lnTo>
                <a:lnTo>
                  <a:pt x="2062" y="641"/>
                </a:lnTo>
                <a:lnTo>
                  <a:pt x="2062" y="648"/>
                </a:lnTo>
                <a:lnTo>
                  <a:pt x="2062" y="655"/>
                </a:lnTo>
                <a:lnTo>
                  <a:pt x="2062" y="662"/>
                </a:lnTo>
                <a:lnTo>
                  <a:pt x="2062" y="669"/>
                </a:lnTo>
                <a:lnTo>
                  <a:pt x="2062" y="669"/>
                </a:lnTo>
                <a:lnTo>
                  <a:pt x="2062" y="675"/>
                </a:lnTo>
                <a:lnTo>
                  <a:pt x="2062" y="682"/>
                </a:lnTo>
                <a:lnTo>
                  <a:pt x="2069" y="689"/>
                </a:lnTo>
                <a:lnTo>
                  <a:pt x="2069" y="689"/>
                </a:lnTo>
                <a:lnTo>
                  <a:pt x="2069" y="682"/>
                </a:lnTo>
                <a:close/>
                <a:moveTo>
                  <a:pt x="14" y="620"/>
                </a:moveTo>
                <a:lnTo>
                  <a:pt x="0" y="613"/>
                </a:lnTo>
                <a:lnTo>
                  <a:pt x="0" y="620"/>
                </a:lnTo>
                <a:lnTo>
                  <a:pt x="0" y="641"/>
                </a:lnTo>
                <a:lnTo>
                  <a:pt x="14" y="620"/>
                </a:lnTo>
                <a:close/>
                <a:moveTo>
                  <a:pt x="1214" y="593"/>
                </a:moveTo>
                <a:lnTo>
                  <a:pt x="1214" y="593"/>
                </a:lnTo>
                <a:lnTo>
                  <a:pt x="1214" y="593"/>
                </a:lnTo>
                <a:lnTo>
                  <a:pt x="1207" y="593"/>
                </a:lnTo>
                <a:lnTo>
                  <a:pt x="1207" y="593"/>
                </a:lnTo>
                <a:lnTo>
                  <a:pt x="1207" y="593"/>
                </a:lnTo>
                <a:lnTo>
                  <a:pt x="1207" y="593"/>
                </a:lnTo>
                <a:lnTo>
                  <a:pt x="1207" y="593"/>
                </a:lnTo>
                <a:lnTo>
                  <a:pt x="1207" y="593"/>
                </a:lnTo>
                <a:lnTo>
                  <a:pt x="1207" y="593"/>
                </a:lnTo>
                <a:lnTo>
                  <a:pt x="1207" y="593"/>
                </a:lnTo>
                <a:lnTo>
                  <a:pt x="1207" y="593"/>
                </a:lnTo>
                <a:lnTo>
                  <a:pt x="1207" y="593"/>
                </a:lnTo>
                <a:lnTo>
                  <a:pt x="1207" y="593"/>
                </a:lnTo>
                <a:lnTo>
                  <a:pt x="1214" y="593"/>
                </a:lnTo>
                <a:close/>
                <a:moveTo>
                  <a:pt x="2110" y="593"/>
                </a:moveTo>
                <a:lnTo>
                  <a:pt x="2117" y="586"/>
                </a:lnTo>
                <a:lnTo>
                  <a:pt x="2124" y="579"/>
                </a:lnTo>
                <a:lnTo>
                  <a:pt x="2124" y="572"/>
                </a:lnTo>
                <a:lnTo>
                  <a:pt x="2117" y="565"/>
                </a:lnTo>
                <a:lnTo>
                  <a:pt x="2110" y="551"/>
                </a:lnTo>
                <a:lnTo>
                  <a:pt x="2103" y="545"/>
                </a:lnTo>
                <a:lnTo>
                  <a:pt x="2096" y="545"/>
                </a:lnTo>
                <a:lnTo>
                  <a:pt x="2090" y="551"/>
                </a:lnTo>
                <a:lnTo>
                  <a:pt x="2090" y="565"/>
                </a:lnTo>
                <a:lnTo>
                  <a:pt x="2090" y="572"/>
                </a:lnTo>
                <a:lnTo>
                  <a:pt x="2090" y="579"/>
                </a:lnTo>
                <a:lnTo>
                  <a:pt x="2090" y="586"/>
                </a:lnTo>
                <a:lnTo>
                  <a:pt x="2090" y="593"/>
                </a:lnTo>
                <a:lnTo>
                  <a:pt x="2090" y="607"/>
                </a:lnTo>
                <a:lnTo>
                  <a:pt x="2096" y="613"/>
                </a:lnTo>
                <a:lnTo>
                  <a:pt x="2096" y="620"/>
                </a:lnTo>
                <a:lnTo>
                  <a:pt x="2096" y="620"/>
                </a:lnTo>
                <a:lnTo>
                  <a:pt x="2103" y="613"/>
                </a:lnTo>
                <a:lnTo>
                  <a:pt x="2103" y="607"/>
                </a:lnTo>
                <a:lnTo>
                  <a:pt x="2110" y="593"/>
                </a:lnTo>
                <a:close/>
                <a:moveTo>
                  <a:pt x="2131" y="531"/>
                </a:moveTo>
                <a:lnTo>
                  <a:pt x="2131" y="531"/>
                </a:lnTo>
                <a:lnTo>
                  <a:pt x="2138" y="524"/>
                </a:lnTo>
                <a:lnTo>
                  <a:pt x="2138" y="517"/>
                </a:lnTo>
                <a:lnTo>
                  <a:pt x="2138" y="510"/>
                </a:lnTo>
                <a:lnTo>
                  <a:pt x="2131" y="503"/>
                </a:lnTo>
                <a:lnTo>
                  <a:pt x="2131" y="503"/>
                </a:lnTo>
                <a:lnTo>
                  <a:pt x="2124" y="496"/>
                </a:lnTo>
                <a:lnTo>
                  <a:pt x="2117" y="503"/>
                </a:lnTo>
                <a:lnTo>
                  <a:pt x="2110" y="510"/>
                </a:lnTo>
                <a:lnTo>
                  <a:pt x="2110" y="517"/>
                </a:lnTo>
                <a:lnTo>
                  <a:pt x="2110" y="524"/>
                </a:lnTo>
                <a:lnTo>
                  <a:pt x="2110" y="524"/>
                </a:lnTo>
                <a:lnTo>
                  <a:pt x="2117" y="531"/>
                </a:lnTo>
                <a:lnTo>
                  <a:pt x="2117" y="538"/>
                </a:lnTo>
                <a:lnTo>
                  <a:pt x="2124" y="545"/>
                </a:lnTo>
                <a:lnTo>
                  <a:pt x="2124" y="551"/>
                </a:lnTo>
                <a:lnTo>
                  <a:pt x="2124" y="551"/>
                </a:lnTo>
                <a:lnTo>
                  <a:pt x="2131" y="551"/>
                </a:lnTo>
                <a:lnTo>
                  <a:pt x="2131" y="545"/>
                </a:lnTo>
                <a:lnTo>
                  <a:pt x="2131" y="531"/>
                </a:lnTo>
                <a:close/>
                <a:moveTo>
                  <a:pt x="345" y="476"/>
                </a:moveTo>
                <a:lnTo>
                  <a:pt x="338" y="462"/>
                </a:lnTo>
                <a:lnTo>
                  <a:pt x="331" y="455"/>
                </a:lnTo>
                <a:lnTo>
                  <a:pt x="331" y="448"/>
                </a:lnTo>
                <a:lnTo>
                  <a:pt x="324" y="448"/>
                </a:lnTo>
                <a:lnTo>
                  <a:pt x="318" y="455"/>
                </a:lnTo>
                <a:lnTo>
                  <a:pt x="311" y="462"/>
                </a:lnTo>
                <a:lnTo>
                  <a:pt x="304" y="469"/>
                </a:lnTo>
                <a:lnTo>
                  <a:pt x="304" y="476"/>
                </a:lnTo>
                <a:lnTo>
                  <a:pt x="311" y="483"/>
                </a:lnTo>
                <a:lnTo>
                  <a:pt x="318" y="489"/>
                </a:lnTo>
                <a:lnTo>
                  <a:pt x="324" y="496"/>
                </a:lnTo>
                <a:lnTo>
                  <a:pt x="331" y="489"/>
                </a:lnTo>
                <a:lnTo>
                  <a:pt x="338" y="483"/>
                </a:lnTo>
                <a:lnTo>
                  <a:pt x="345" y="476"/>
                </a:lnTo>
                <a:close/>
                <a:moveTo>
                  <a:pt x="366" y="448"/>
                </a:moveTo>
                <a:lnTo>
                  <a:pt x="366" y="441"/>
                </a:lnTo>
                <a:lnTo>
                  <a:pt x="373" y="434"/>
                </a:lnTo>
                <a:lnTo>
                  <a:pt x="380" y="427"/>
                </a:lnTo>
                <a:lnTo>
                  <a:pt x="380" y="421"/>
                </a:lnTo>
                <a:lnTo>
                  <a:pt x="386" y="414"/>
                </a:lnTo>
                <a:lnTo>
                  <a:pt x="393" y="407"/>
                </a:lnTo>
                <a:lnTo>
                  <a:pt x="400" y="407"/>
                </a:lnTo>
                <a:lnTo>
                  <a:pt x="407" y="400"/>
                </a:lnTo>
                <a:lnTo>
                  <a:pt x="407" y="393"/>
                </a:lnTo>
                <a:lnTo>
                  <a:pt x="407" y="386"/>
                </a:lnTo>
                <a:lnTo>
                  <a:pt x="400" y="379"/>
                </a:lnTo>
                <a:lnTo>
                  <a:pt x="393" y="372"/>
                </a:lnTo>
                <a:lnTo>
                  <a:pt x="386" y="372"/>
                </a:lnTo>
                <a:lnTo>
                  <a:pt x="380" y="372"/>
                </a:lnTo>
                <a:lnTo>
                  <a:pt x="373" y="379"/>
                </a:lnTo>
                <a:lnTo>
                  <a:pt x="373" y="386"/>
                </a:lnTo>
                <a:lnTo>
                  <a:pt x="366" y="393"/>
                </a:lnTo>
                <a:lnTo>
                  <a:pt x="359" y="400"/>
                </a:lnTo>
                <a:lnTo>
                  <a:pt x="359" y="407"/>
                </a:lnTo>
                <a:lnTo>
                  <a:pt x="352" y="414"/>
                </a:lnTo>
                <a:lnTo>
                  <a:pt x="345" y="414"/>
                </a:lnTo>
                <a:lnTo>
                  <a:pt x="338" y="421"/>
                </a:lnTo>
                <a:lnTo>
                  <a:pt x="338" y="427"/>
                </a:lnTo>
                <a:lnTo>
                  <a:pt x="331" y="434"/>
                </a:lnTo>
                <a:lnTo>
                  <a:pt x="324" y="441"/>
                </a:lnTo>
                <a:lnTo>
                  <a:pt x="331" y="448"/>
                </a:lnTo>
                <a:lnTo>
                  <a:pt x="338" y="455"/>
                </a:lnTo>
                <a:lnTo>
                  <a:pt x="345" y="455"/>
                </a:lnTo>
                <a:lnTo>
                  <a:pt x="352" y="462"/>
                </a:lnTo>
                <a:lnTo>
                  <a:pt x="359" y="462"/>
                </a:lnTo>
                <a:lnTo>
                  <a:pt x="366" y="455"/>
                </a:lnTo>
                <a:lnTo>
                  <a:pt x="366" y="448"/>
                </a:lnTo>
                <a:close/>
                <a:moveTo>
                  <a:pt x="2696" y="414"/>
                </a:moveTo>
                <a:lnTo>
                  <a:pt x="2689" y="407"/>
                </a:lnTo>
                <a:lnTo>
                  <a:pt x="2689" y="400"/>
                </a:lnTo>
                <a:lnTo>
                  <a:pt x="2689" y="393"/>
                </a:lnTo>
                <a:lnTo>
                  <a:pt x="2689" y="393"/>
                </a:lnTo>
                <a:lnTo>
                  <a:pt x="2689" y="393"/>
                </a:lnTo>
                <a:lnTo>
                  <a:pt x="2682" y="393"/>
                </a:lnTo>
                <a:lnTo>
                  <a:pt x="2682" y="400"/>
                </a:lnTo>
                <a:lnTo>
                  <a:pt x="2682" y="400"/>
                </a:lnTo>
                <a:lnTo>
                  <a:pt x="2682" y="407"/>
                </a:lnTo>
                <a:lnTo>
                  <a:pt x="2682" y="414"/>
                </a:lnTo>
                <a:lnTo>
                  <a:pt x="2682" y="421"/>
                </a:lnTo>
                <a:lnTo>
                  <a:pt x="2689" y="427"/>
                </a:lnTo>
                <a:lnTo>
                  <a:pt x="2689" y="421"/>
                </a:lnTo>
                <a:lnTo>
                  <a:pt x="2696" y="414"/>
                </a:lnTo>
                <a:close/>
                <a:moveTo>
                  <a:pt x="428" y="359"/>
                </a:moveTo>
                <a:lnTo>
                  <a:pt x="428" y="345"/>
                </a:lnTo>
                <a:lnTo>
                  <a:pt x="421" y="331"/>
                </a:lnTo>
                <a:lnTo>
                  <a:pt x="414" y="324"/>
                </a:lnTo>
                <a:lnTo>
                  <a:pt x="414" y="324"/>
                </a:lnTo>
                <a:lnTo>
                  <a:pt x="407" y="331"/>
                </a:lnTo>
                <a:lnTo>
                  <a:pt x="400" y="338"/>
                </a:lnTo>
                <a:lnTo>
                  <a:pt x="393" y="352"/>
                </a:lnTo>
                <a:lnTo>
                  <a:pt x="393" y="365"/>
                </a:lnTo>
                <a:lnTo>
                  <a:pt x="400" y="372"/>
                </a:lnTo>
                <a:lnTo>
                  <a:pt x="407" y="379"/>
                </a:lnTo>
                <a:lnTo>
                  <a:pt x="414" y="379"/>
                </a:lnTo>
                <a:lnTo>
                  <a:pt x="421" y="379"/>
                </a:lnTo>
                <a:lnTo>
                  <a:pt x="428" y="372"/>
                </a:lnTo>
                <a:lnTo>
                  <a:pt x="428" y="359"/>
                </a:lnTo>
                <a:close/>
                <a:moveTo>
                  <a:pt x="455" y="324"/>
                </a:moveTo>
                <a:lnTo>
                  <a:pt x="455" y="317"/>
                </a:lnTo>
                <a:lnTo>
                  <a:pt x="462" y="310"/>
                </a:lnTo>
                <a:lnTo>
                  <a:pt x="469" y="303"/>
                </a:lnTo>
                <a:lnTo>
                  <a:pt x="476" y="303"/>
                </a:lnTo>
                <a:lnTo>
                  <a:pt x="490" y="297"/>
                </a:lnTo>
                <a:lnTo>
                  <a:pt x="497" y="297"/>
                </a:lnTo>
                <a:lnTo>
                  <a:pt x="504" y="290"/>
                </a:lnTo>
                <a:lnTo>
                  <a:pt x="504" y="283"/>
                </a:lnTo>
                <a:lnTo>
                  <a:pt x="497" y="276"/>
                </a:lnTo>
                <a:lnTo>
                  <a:pt x="497" y="269"/>
                </a:lnTo>
                <a:lnTo>
                  <a:pt x="490" y="255"/>
                </a:lnTo>
                <a:lnTo>
                  <a:pt x="483" y="248"/>
                </a:lnTo>
                <a:lnTo>
                  <a:pt x="476" y="241"/>
                </a:lnTo>
                <a:lnTo>
                  <a:pt x="469" y="241"/>
                </a:lnTo>
                <a:lnTo>
                  <a:pt x="469" y="248"/>
                </a:lnTo>
                <a:lnTo>
                  <a:pt x="462" y="255"/>
                </a:lnTo>
                <a:lnTo>
                  <a:pt x="455" y="262"/>
                </a:lnTo>
                <a:lnTo>
                  <a:pt x="455" y="269"/>
                </a:lnTo>
                <a:lnTo>
                  <a:pt x="449" y="276"/>
                </a:lnTo>
                <a:lnTo>
                  <a:pt x="442" y="283"/>
                </a:lnTo>
                <a:lnTo>
                  <a:pt x="442" y="290"/>
                </a:lnTo>
                <a:lnTo>
                  <a:pt x="435" y="297"/>
                </a:lnTo>
                <a:lnTo>
                  <a:pt x="428" y="303"/>
                </a:lnTo>
                <a:lnTo>
                  <a:pt x="421" y="310"/>
                </a:lnTo>
                <a:lnTo>
                  <a:pt x="414" y="317"/>
                </a:lnTo>
                <a:lnTo>
                  <a:pt x="414" y="324"/>
                </a:lnTo>
                <a:lnTo>
                  <a:pt x="414" y="331"/>
                </a:lnTo>
                <a:lnTo>
                  <a:pt x="428" y="338"/>
                </a:lnTo>
                <a:lnTo>
                  <a:pt x="435" y="338"/>
                </a:lnTo>
                <a:lnTo>
                  <a:pt x="442" y="338"/>
                </a:lnTo>
                <a:lnTo>
                  <a:pt x="449" y="338"/>
                </a:lnTo>
                <a:lnTo>
                  <a:pt x="455" y="324"/>
                </a:lnTo>
                <a:close/>
                <a:moveTo>
                  <a:pt x="359" y="297"/>
                </a:moveTo>
                <a:lnTo>
                  <a:pt x="352" y="297"/>
                </a:lnTo>
                <a:lnTo>
                  <a:pt x="338" y="310"/>
                </a:lnTo>
                <a:lnTo>
                  <a:pt x="338" y="310"/>
                </a:lnTo>
                <a:lnTo>
                  <a:pt x="345" y="310"/>
                </a:lnTo>
                <a:lnTo>
                  <a:pt x="345" y="303"/>
                </a:lnTo>
                <a:lnTo>
                  <a:pt x="352" y="303"/>
                </a:lnTo>
                <a:lnTo>
                  <a:pt x="352" y="303"/>
                </a:lnTo>
                <a:lnTo>
                  <a:pt x="352" y="303"/>
                </a:lnTo>
                <a:lnTo>
                  <a:pt x="359" y="297"/>
                </a:lnTo>
                <a:lnTo>
                  <a:pt x="359" y="297"/>
                </a:lnTo>
                <a:close/>
                <a:moveTo>
                  <a:pt x="386" y="269"/>
                </a:moveTo>
                <a:lnTo>
                  <a:pt x="386" y="269"/>
                </a:lnTo>
                <a:lnTo>
                  <a:pt x="386" y="269"/>
                </a:lnTo>
                <a:lnTo>
                  <a:pt x="386" y="269"/>
                </a:lnTo>
                <a:close/>
                <a:moveTo>
                  <a:pt x="414" y="235"/>
                </a:moveTo>
                <a:lnTo>
                  <a:pt x="421" y="228"/>
                </a:lnTo>
                <a:lnTo>
                  <a:pt x="414" y="235"/>
                </a:lnTo>
                <a:lnTo>
                  <a:pt x="414" y="241"/>
                </a:lnTo>
                <a:lnTo>
                  <a:pt x="414" y="235"/>
                </a:lnTo>
                <a:close/>
                <a:moveTo>
                  <a:pt x="476" y="179"/>
                </a:moveTo>
                <a:lnTo>
                  <a:pt x="469" y="179"/>
                </a:lnTo>
                <a:lnTo>
                  <a:pt x="455" y="193"/>
                </a:lnTo>
                <a:lnTo>
                  <a:pt x="462" y="186"/>
                </a:lnTo>
                <a:lnTo>
                  <a:pt x="462" y="186"/>
                </a:lnTo>
                <a:lnTo>
                  <a:pt x="462" y="186"/>
                </a:lnTo>
                <a:lnTo>
                  <a:pt x="469" y="186"/>
                </a:lnTo>
                <a:lnTo>
                  <a:pt x="469" y="179"/>
                </a:lnTo>
                <a:lnTo>
                  <a:pt x="469" y="179"/>
                </a:lnTo>
                <a:lnTo>
                  <a:pt x="476" y="179"/>
                </a:lnTo>
                <a:lnTo>
                  <a:pt x="476" y="179"/>
                </a:lnTo>
                <a:close/>
                <a:moveTo>
                  <a:pt x="1041" y="179"/>
                </a:moveTo>
                <a:lnTo>
                  <a:pt x="1041" y="173"/>
                </a:lnTo>
                <a:lnTo>
                  <a:pt x="1035" y="166"/>
                </a:lnTo>
                <a:lnTo>
                  <a:pt x="1035" y="166"/>
                </a:lnTo>
                <a:lnTo>
                  <a:pt x="1021" y="166"/>
                </a:lnTo>
                <a:lnTo>
                  <a:pt x="1014" y="166"/>
                </a:lnTo>
                <a:lnTo>
                  <a:pt x="1007" y="173"/>
                </a:lnTo>
                <a:lnTo>
                  <a:pt x="1007" y="173"/>
                </a:lnTo>
                <a:lnTo>
                  <a:pt x="1007" y="179"/>
                </a:lnTo>
                <a:lnTo>
                  <a:pt x="1014" y="186"/>
                </a:lnTo>
                <a:lnTo>
                  <a:pt x="1021" y="186"/>
                </a:lnTo>
                <a:lnTo>
                  <a:pt x="1028" y="186"/>
                </a:lnTo>
                <a:lnTo>
                  <a:pt x="1035" y="186"/>
                </a:lnTo>
                <a:lnTo>
                  <a:pt x="1035" y="186"/>
                </a:lnTo>
                <a:lnTo>
                  <a:pt x="1041" y="179"/>
                </a:lnTo>
                <a:close/>
                <a:moveTo>
                  <a:pt x="524" y="145"/>
                </a:moveTo>
                <a:lnTo>
                  <a:pt x="504" y="145"/>
                </a:lnTo>
                <a:lnTo>
                  <a:pt x="504" y="166"/>
                </a:lnTo>
                <a:lnTo>
                  <a:pt x="524" y="145"/>
                </a:lnTo>
                <a:close/>
                <a:moveTo>
                  <a:pt x="2834" y="117"/>
                </a:moveTo>
                <a:lnTo>
                  <a:pt x="2813" y="117"/>
                </a:lnTo>
                <a:lnTo>
                  <a:pt x="2834" y="138"/>
                </a:lnTo>
                <a:lnTo>
                  <a:pt x="2834" y="117"/>
                </a:lnTo>
                <a:close/>
                <a:moveTo>
                  <a:pt x="814" y="90"/>
                </a:moveTo>
                <a:lnTo>
                  <a:pt x="814" y="83"/>
                </a:lnTo>
                <a:lnTo>
                  <a:pt x="821" y="83"/>
                </a:lnTo>
                <a:lnTo>
                  <a:pt x="821" y="76"/>
                </a:lnTo>
                <a:lnTo>
                  <a:pt x="828" y="76"/>
                </a:lnTo>
                <a:lnTo>
                  <a:pt x="828" y="83"/>
                </a:lnTo>
                <a:lnTo>
                  <a:pt x="835" y="83"/>
                </a:lnTo>
                <a:lnTo>
                  <a:pt x="835" y="90"/>
                </a:lnTo>
                <a:lnTo>
                  <a:pt x="835" y="90"/>
                </a:lnTo>
                <a:lnTo>
                  <a:pt x="835" y="97"/>
                </a:lnTo>
                <a:lnTo>
                  <a:pt x="828" y="97"/>
                </a:lnTo>
                <a:lnTo>
                  <a:pt x="821" y="97"/>
                </a:lnTo>
                <a:lnTo>
                  <a:pt x="821" y="97"/>
                </a:lnTo>
                <a:lnTo>
                  <a:pt x="814" y="97"/>
                </a:lnTo>
                <a:lnTo>
                  <a:pt x="814" y="90"/>
                </a:lnTo>
                <a:close/>
                <a:moveTo>
                  <a:pt x="2807" y="90"/>
                </a:moveTo>
                <a:lnTo>
                  <a:pt x="2772" y="90"/>
                </a:lnTo>
                <a:lnTo>
                  <a:pt x="2772" y="90"/>
                </a:lnTo>
                <a:lnTo>
                  <a:pt x="2772" y="90"/>
                </a:lnTo>
                <a:lnTo>
                  <a:pt x="2779" y="97"/>
                </a:lnTo>
                <a:lnTo>
                  <a:pt x="2779" y="97"/>
                </a:lnTo>
                <a:lnTo>
                  <a:pt x="2786" y="97"/>
                </a:lnTo>
                <a:lnTo>
                  <a:pt x="2786" y="104"/>
                </a:lnTo>
                <a:lnTo>
                  <a:pt x="2793" y="104"/>
                </a:lnTo>
                <a:lnTo>
                  <a:pt x="2800" y="104"/>
                </a:lnTo>
                <a:lnTo>
                  <a:pt x="2807" y="104"/>
                </a:lnTo>
                <a:lnTo>
                  <a:pt x="2807" y="90"/>
                </a:lnTo>
                <a:close/>
                <a:moveTo>
                  <a:pt x="2627" y="28"/>
                </a:moveTo>
                <a:lnTo>
                  <a:pt x="2627" y="28"/>
                </a:lnTo>
                <a:lnTo>
                  <a:pt x="2627" y="28"/>
                </a:lnTo>
                <a:lnTo>
                  <a:pt x="2627" y="28"/>
                </a:lnTo>
                <a:lnTo>
                  <a:pt x="2627" y="28"/>
                </a:lnTo>
                <a:lnTo>
                  <a:pt x="2627" y="28"/>
                </a:lnTo>
                <a:lnTo>
                  <a:pt x="2627" y="28"/>
                </a:lnTo>
                <a:lnTo>
                  <a:pt x="2627" y="28"/>
                </a:lnTo>
                <a:lnTo>
                  <a:pt x="2627" y="28"/>
                </a:lnTo>
                <a:lnTo>
                  <a:pt x="2627" y="28"/>
                </a:lnTo>
                <a:lnTo>
                  <a:pt x="2627" y="28"/>
                </a:lnTo>
                <a:close/>
                <a:moveTo>
                  <a:pt x="2476" y="0"/>
                </a:moveTo>
                <a:lnTo>
                  <a:pt x="2448" y="0"/>
                </a:lnTo>
                <a:lnTo>
                  <a:pt x="2420" y="0"/>
                </a:lnTo>
                <a:lnTo>
                  <a:pt x="2420" y="0"/>
                </a:lnTo>
                <a:lnTo>
                  <a:pt x="2420" y="0"/>
                </a:lnTo>
                <a:lnTo>
                  <a:pt x="2427" y="0"/>
                </a:lnTo>
                <a:lnTo>
                  <a:pt x="2434" y="0"/>
                </a:lnTo>
                <a:lnTo>
                  <a:pt x="2441" y="0"/>
                </a:lnTo>
                <a:lnTo>
                  <a:pt x="2441" y="7"/>
                </a:lnTo>
                <a:lnTo>
                  <a:pt x="2448" y="7"/>
                </a:lnTo>
                <a:lnTo>
                  <a:pt x="2455" y="7"/>
                </a:lnTo>
                <a:lnTo>
                  <a:pt x="2462" y="7"/>
                </a:lnTo>
                <a:lnTo>
                  <a:pt x="2462" y="0"/>
                </a:lnTo>
                <a:lnTo>
                  <a:pt x="2469" y="0"/>
                </a:lnTo>
                <a:lnTo>
                  <a:pt x="2476" y="0"/>
                </a:lnTo>
                <a:close/>
              </a:path>
            </a:pathLst>
          </a:custGeom>
          <a:solidFill>
            <a:srgbClr val="e0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2" name=""/>
          <p:cNvSpPr/>
          <p:nvPr/>
        </p:nvSpPr>
        <p:spPr>
          <a:xfrm>
            <a:off x="2276640" y="2727360"/>
            <a:ext cx="4543200" cy="2921040"/>
          </a:xfrm>
          <a:custGeom>
            <a:avLst/>
            <a:gdLst/>
            <a:ahLst/>
            <a:rect l="l" t="t" r="r" b="b"/>
            <a:pathLst>
              <a:path w="2862" h="1840">
                <a:moveTo>
                  <a:pt x="1310" y="1840"/>
                </a:moveTo>
                <a:lnTo>
                  <a:pt x="1317" y="1833"/>
                </a:lnTo>
                <a:lnTo>
                  <a:pt x="1317" y="1826"/>
                </a:lnTo>
                <a:lnTo>
                  <a:pt x="1324" y="1826"/>
                </a:lnTo>
                <a:lnTo>
                  <a:pt x="1331" y="1819"/>
                </a:lnTo>
                <a:lnTo>
                  <a:pt x="1331" y="1812"/>
                </a:lnTo>
                <a:lnTo>
                  <a:pt x="1338" y="1805"/>
                </a:lnTo>
                <a:lnTo>
                  <a:pt x="1338" y="1798"/>
                </a:lnTo>
                <a:lnTo>
                  <a:pt x="1345" y="1798"/>
                </a:lnTo>
                <a:lnTo>
                  <a:pt x="1345" y="1791"/>
                </a:lnTo>
                <a:lnTo>
                  <a:pt x="1352" y="1784"/>
                </a:lnTo>
                <a:lnTo>
                  <a:pt x="1359" y="1784"/>
                </a:lnTo>
                <a:lnTo>
                  <a:pt x="1372" y="1784"/>
                </a:lnTo>
                <a:lnTo>
                  <a:pt x="1379" y="1778"/>
                </a:lnTo>
                <a:lnTo>
                  <a:pt x="1379" y="1771"/>
                </a:lnTo>
                <a:lnTo>
                  <a:pt x="1386" y="1764"/>
                </a:lnTo>
                <a:lnTo>
                  <a:pt x="1386" y="1764"/>
                </a:lnTo>
                <a:lnTo>
                  <a:pt x="1393" y="1764"/>
                </a:lnTo>
                <a:lnTo>
                  <a:pt x="1400" y="1764"/>
                </a:lnTo>
                <a:lnTo>
                  <a:pt x="1407" y="1771"/>
                </a:lnTo>
                <a:lnTo>
                  <a:pt x="1414" y="1778"/>
                </a:lnTo>
                <a:lnTo>
                  <a:pt x="1407" y="1784"/>
                </a:lnTo>
                <a:lnTo>
                  <a:pt x="1400" y="1784"/>
                </a:lnTo>
                <a:lnTo>
                  <a:pt x="1386" y="1784"/>
                </a:lnTo>
                <a:lnTo>
                  <a:pt x="1379" y="1791"/>
                </a:lnTo>
                <a:lnTo>
                  <a:pt x="1379" y="1798"/>
                </a:lnTo>
                <a:lnTo>
                  <a:pt x="1379" y="1805"/>
                </a:lnTo>
                <a:lnTo>
                  <a:pt x="1379" y="1812"/>
                </a:lnTo>
                <a:lnTo>
                  <a:pt x="1379" y="1819"/>
                </a:lnTo>
                <a:lnTo>
                  <a:pt x="1386" y="1819"/>
                </a:lnTo>
                <a:lnTo>
                  <a:pt x="1386" y="1826"/>
                </a:lnTo>
                <a:lnTo>
                  <a:pt x="1386" y="1833"/>
                </a:lnTo>
                <a:lnTo>
                  <a:pt x="1386" y="1840"/>
                </a:lnTo>
                <a:lnTo>
                  <a:pt x="1414" y="1840"/>
                </a:lnTo>
                <a:lnTo>
                  <a:pt x="1448" y="1840"/>
                </a:lnTo>
                <a:lnTo>
                  <a:pt x="1476" y="1840"/>
                </a:lnTo>
                <a:lnTo>
                  <a:pt x="1503" y="1840"/>
                </a:lnTo>
                <a:lnTo>
                  <a:pt x="1538" y="1840"/>
                </a:lnTo>
                <a:lnTo>
                  <a:pt x="1566" y="1840"/>
                </a:lnTo>
                <a:lnTo>
                  <a:pt x="1593" y="1840"/>
                </a:lnTo>
                <a:lnTo>
                  <a:pt x="1621" y="1840"/>
                </a:lnTo>
                <a:lnTo>
                  <a:pt x="1655" y="1840"/>
                </a:lnTo>
                <a:lnTo>
                  <a:pt x="1683" y="1840"/>
                </a:lnTo>
                <a:lnTo>
                  <a:pt x="1710" y="1840"/>
                </a:lnTo>
                <a:lnTo>
                  <a:pt x="1745" y="1840"/>
                </a:lnTo>
                <a:lnTo>
                  <a:pt x="1772" y="1840"/>
                </a:lnTo>
                <a:lnTo>
                  <a:pt x="1800" y="1840"/>
                </a:lnTo>
                <a:lnTo>
                  <a:pt x="1828" y="1840"/>
                </a:lnTo>
                <a:lnTo>
                  <a:pt x="1862" y="1840"/>
                </a:lnTo>
                <a:lnTo>
                  <a:pt x="1890" y="1840"/>
                </a:lnTo>
                <a:lnTo>
                  <a:pt x="1917" y="1840"/>
                </a:lnTo>
                <a:lnTo>
                  <a:pt x="1952" y="1840"/>
                </a:lnTo>
                <a:lnTo>
                  <a:pt x="1979" y="1840"/>
                </a:lnTo>
                <a:lnTo>
                  <a:pt x="2007" y="1840"/>
                </a:lnTo>
                <a:lnTo>
                  <a:pt x="2034" y="1840"/>
                </a:lnTo>
                <a:lnTo>
                  <a:pt x="2069" y="1840"/>
                </a:lnTo>
                <a:lnTo>
                  <a:pt x="2096" y="1840"/>
                </a:lnTo>
                <a:lnTo>
                  <a:pt x="2124" y="1840"/>
                </a:lnTo>
                <a:lnTo>
                  <a:pt x="2158" y="1840"/>
                </a:lnTo>
                <a:lnTo>
                  <a:pt x="2186" y="1840"/>
                </a:lnTo>
                <a:lnTo>
                  <a:pt x="2214" y="1840"/>
                </a:lnTo>
                <a:lnTo>
                  <a:pt x="2241" y="1840"/>
                </a:lnTo>
                <a:lnTo>
                  <a:pt x="2276" y="1840"/>
                </a:lnTo>
                <a:lnTo>
                  <a:pt x="2303" y="1840"/>
                </a:lnTo>
                <a:lnTo>
                  <a:pt x="2331" y="1840"/>
                </a:lnTo>
                <a:lnTo>
                  <a:pt x="2365" y="1840"/>
                </a:lnTo>
                <a:lnTo>
                  <a:pt x="2393" y="1840"/>
                </a:lnTo>
                <a:lnTo>
                  <a:pt x="2420" y="1840"/>
                </a:lnTo>
                <a:lnTo>
                  <a:pt x="2448" y="1840"/>
                </a:lnTo>
                <a:lnTo>
                  <a:pt x="2483" y="1840"/>
                </a:lnTo>
                <a:lnTo>
                  <a:pt x="2510" y="1812"/>
                </a:lnTo>
                <a:lnTo>
                  <a:pt x="2538" y="1812"/>
                </a:lnTo>
                <a:lnTo>
                  <a:pt x="2565" y="1812"/>
                </a:lnTo>
                <a:lnTo>
                  <a:pt x="2600" y="1812"/>
                </a:lnTo>
                <a:lnTo>
                  <a:pt x="2627" y="1812"/>
                </a:lnTo>
                <a:lnTo>
                  <a:pt x="2655" y="1812"/>
                </a:lnTo>
                <a:lnTo>
                  <a:pt x="2689" y="1812"/>
                </a:lnTo>
                <a:lnTo>
                  <a:pt x="2717" y="1778"/>
                </a:lnTo>
                <a:lnTo>
                  <a:pt x="2717" y="1750"/>
                </a:lnTo>
                <a:lnTo>
                  <a:pt x="2717" y="1722"/>
                </a:lnTo>
                <a:lnTo>
                  <a:pt x="2717" y="1688"/>
                </a:lnTo>
                <a:lnTo>
                  <a:pt x="2745" y="1660"/>
                </a:lnTo>
                <a:lnTo>
                  <a:pt x="2745" y="1633"/>
                </a:lnTo>
                <a:lnTo>
                  <a:pt x="2745" y="1599"/>
                </a:lnTo>
                <a:lnTo>
                  <a:pt x="2745" y="1571"/>
                </a:lnTo>
                <a:lnTo>
                  <a:pt x="2772" y="1543"/>
                </a:lnTo>
                <a:lnTo>
                  <a:pt x="2772" y="1516"/>
                </a:lnTo>
                <a:lnTo>
                  <a:pt x="2772" y="1481"/>
                </a:lnTo>
                <a:lnTo>
                  <a:pt x="2772" y="1454"/>
                </a:lnTo>
                <a:lnTo>
                  <a:pt x="2807" y="1426"/>
                </a:lnTo>
                <a:lnTo>
                  <a:pt x="2807" y="1392"/>
                </a:lnTo>
                <a:lnTo>
                  <a:pt x="2807" y="1364"/>
                </a:lnTo>
                <a:lnTo>
                  <a:pt x="2807" y="1337"/>
                </a:lnTo>
                <a:lnTo>
                  <a:pt x="2834" y="1302"/>
                </a:lnTo>
                <a:lnTo>
                  <a:pt x="2834" y="1275"/>
                </a:lnTo>
                <a:lnTo>
                  <a:pt x="2834" y="1247"/>
                </a:lnTo>
                <a:lnTo>
                  <a:pt x="2834" y="1213"/>
                </a:lnTo>
                <a:lnTo>
                  <a:pt x="2862" y="1185"/>
                </a:lnTo>
                <a:lnTo>
                  <a:pt x="2862" y="1158"/>
                </a:lnTo>
                <a:lnTo>
                  <a:pt x="2862" y="1130"/>
                </a:lnTo>
                <a:lnTo>
                  <a:pt x="2862" y="1096"/>
                </a:lnTo>
                <a:lnTo>
                  <a:pt x="2862" y="1068"/>
                </a:lnTo>
                <a:lnTo>
                  <a:pt x="2862" y="1041"/>
                </a:lnTo>
                <a:lnTo>
                  <a:pt x="2862" y="1006"/>
                </a:lnTo>
                <a:lnTo>
                  <a:pt x="2862" y="979"/>
                </a:lnTo>
                <a:lnTo>
                  <a:pt x="2862" y="951"/>
                </a:lnTo>
                <a:lnTo>
                  <a:pt x="2862" y="917"/>
                </a:lnTo>
                <a:lnTo>
                  <a:pt x="2862" y="889"/>
                </a:lnTo>
                <a:lnTo>
                  <a:pt x="2862" y="861"/>
                </a:lnTo>
                <a:lnTo>
                  <a:pt x="2862" y="827"/>
                </a:lnTo>
                <a:lnTo>
                  <a:pt x="2862" y="799"/>
                </a:lnTo>
                <a:lnTo>
                  <a:pt x="2862" y="772"/>
                </a:lnTo>
                <a:lnTo>
                  <a:pt x="2862" y="744"/>
                </a:lnTo>
                <a:lnTo>
                  <a:pt x="2862" y="710"/>
                </a:lnTo>
                <a:lnTo>
                  <a:pt x="2862" y="682"/>
                </a:lnTo>
                <a:lnTo>
                  <a:pt x="2862" y="655"/>
                </a:lnTo>
                <a:lnTo>
                  <a:pt x="2862" y="620"/>
                </a:lnTo>
                <a:lnTo>
                  <a:pt x="2862" y="593"/>
                </a:lnTo>
                <a:lnTo>
                  <a:pt x="2862" y="565"/>
                </a:lnTo>
                <a:lnTo>
                  <a:pt x="2862" y="531"/>
                </a:lnTo>
                <a:lnTo>
                  <a:pt x="2862" y="503"/>
                </a:lnTo>
                <a:lnTo>
                  <a:pt x="2862" y="476"/>
                </a:lnTo>
                <a:lnTo>
                  <a:pt x="2862" y="448"/>
                </a:lnTo>
                <a:lnTo>
                  <a:pt x="2862" y="414"/>
                </a:lnTo>
                <a:lnTo>
                  <a:pt x="2862" y="386"/>
                </a:lnTo>
                <a:lnTo>
                  <a:pt x="2862" y="359"/>
                </a:lnTo>
                <a:lnTo>
                  <a:pt x="2862" y="324"/>
                </a:lnTo>
                <a:lnTo>
                  <a:pt x="2862" y="297"/>
                </a:lnTo>
                <a:lnTo>
                  <a:pt x="2862" y="269"/>
                </a:lnTo>
                <a:lnTo>
                  <a:pt x="2834" y="235"/>
                </a:lnTo>
                <a:lnTo>
                  <a:pt x="2834" y="207"/>
                </a:lnTo>
                <a:lnTo>
                  <a:pt x="2834" y="179"/>
                </a:lnTo>
                <a:lnTo>
                  <a:pt x="2834" y="166"/>
                </a:lnTo>
                <a:lnTo>
                  <a:pt x="2827" y="173"/>
                </a:lnTo>
                <a:lnTo>
                  <a:pt x="2820" y="173"/>
                </a:lnTo>
                <a:lnTo>
                  <a:pt x="2820" y="179"/>
                </a:lnTo>
                <a:lnTo>
                  <a:pt x="2820" y="186"/>
                </a:lnTo>
                <a:lnTo>
                  <a:pt x="2820" y="193"/>
                </a:lnTo>
                <a:lnTo>
                  <a:pt x="2820" y="200"/>
                </a:lnTo>
                <a:lnTo>
                  <a:pt x="2820" y="207"/>
                </a:lnTo>
                <a:lnTo>
                  <a:pt x="2827" y="214"/>
                </a:lnTo>
                <a:lnTo>
                  <a:pt x="2827" y="221"/>
                </a:lnTo>
                <a:lnTo>
                  <a:pt x="2827" y="228"/>
                </a:lnTo>
                <a:lnTo>
                  <a:pt x="2827" y="235"/>
                </a:lnTo>
                <a:lnTo>
                  <a:pt x="2827" y="235"/>
                </a:lnTo>
                <a:lnTo>
                  <a:pt x="2827" y="241"/>
                </a:lnTo>
                <a:lnTo>
                  <a:pt x="2820" y="248"/>
                </a:lnTo>
                <a:lnTo>
                  <a:pt x="2813" y="255"/>
                </a:lnTo>
                <a:lnTo>
                  <a:pt x="2807" y="255"/>
                </a:lnTo>
                <a:lnTo>
                  <a:pt x="2800" y="262"/>
                </a:lnTo>
                <a:lnTo>
                  <a:pt x="2793" y="269"/>
                </a:lnTo>
                <a:lnTo>
                  <a:pt x="2786" y="269"/>
                </a:lnTo>
                <a:lnTo>
                  <a:pt x="2779" y="276"/>
                </a:lnTo>
                <a:lnTo>
                  <a:pt x="2772" y="283"/>
                </a:lnTo>
                <a:lnTo>
                  <a:pt x="2772" y="290"/>
                </a:lnTo>
                <a:lnTo>
                  <a:pt x="2772" y="297"/>
                </a:lnTo>
                <a:lnTo>
                  <a:pt x="2772" y="303"/>
                </a:lnTo>
                <a:lnTo>
                  <a:pt x="2765" y="303"/>
                </a:lnTo>
                <a:lnTo>
                  <a:pt x="2758" y="310"/>
                </a:lnTo>
                <a:lnTo>
                  <a:pt x="2751" y="317"/>
                </a:lnTo>
                <a:lnTo>
                  <a:pt x="2745" y="324"/>
                </a:lnTo>
                <a:lnTo>
                  <a:pt x="2745" y="324"/>
                </a:lnTo>
                <a:lnTo>
                  <a:pt x="2738" y="331"/>
                </a:lnTo>
                <a:lnTo>
                  <a:pt x="2738" y="338"/>
                </a:lnTo>
                <a:lnTo>
                  <a:pt x="2738" y="345"/>
                </a:lnTo>
                <a:lnTo>
                  <a:pt x="2745" y="352"/>
                </a:lnTo>
                <a:lnTo>
                  <a:pt x="2751" y="359"/>
                </a:lnTo>
                <a:lnTo>
                  <a:pt x="2745" y="365"/>
                </a:lnTo>
                <a:lnTo>
                  <a:pt x="2745" y="359"/>
                </a:lnTo>
                <a:lnTo>
                  <a:pt x="2738" y="352"/>
                </a:lnTo>
                <a:lnTo>
                  <a:pt x="2731" y="352"/>
                </a:lnTo>
                <a:lnTo>
                  <a:pt x="2717" y="352"/>
                </a:lnTo>
                <a:lnTo>
                  <a:pt x="2703" y="352"/>
                </a:lnTo>
                <a:lnTo>
                  <a:pt x="2696" y="352"/>
                </a:lnTo>
                <a:lnTo>
                  <a:pt x="2689" y="359"/>
                </a:lnTo>
                <a:lnTo>
                  <a:pt x="2689" y="365"/>
                </a:lnTo>
                <a:lnTo>
                  <a:pt x="2689" y="372"/>
                </a:lnTo>
                <a:lnTo>
                  <a:pt x="2689" y="379"/>
                </a:lnTo>
                <a:lnTo>
                  <a:pt x="2696" y="386"/>
                </a:lnTo>
                <a:lnTo>
                  <a:pt x="2703" y="386"/>
                </a:lnTo>
                <a:lnTo>
                  <a:pt x="2710" y="386"/>
                </a:lnTo>
                <a:lnTo>
                  <a:pt x="2724" y="393"/>
                </a:lnTo>
                <a:lnTo>
                  <a:pt x="2731" y="393"/>
                </a:lnTo>
                <a:lnTo>
                  <a:pt x="2731" y="400"/>
                </a:lnTo>
                <a:lnTo>
                  <a:pt x="2738" y="407"/>
                </a:lnTo>
                <a:lnTo>
                  <a:pt x="2738" y="414"/>
                </a:lnTo>
                <a:lnTo>
                  <a:pt x="2738" y="421"/>
                </a:lnTo>
                <a:lnTo>
                  <a:pt x="2731" y="427"/>
                </a:lnTo>
                <a:lnTo>
                  <a:pt x="2724" y="434"/>
                </a:lnTo>
                <a:lnTo>
                  <a:pt x="2717" y="441"/>
                </a:lnTo>
                <a:lnTo>
                  <a:pt x="2710" y="441"/>
                </a:lnTo>
                <a:lnTo>
                  <a:pt x="2703" y="448"/>
                </a:lnTo>
                <a:lnTo>
                  <a:pt x="2703" y="455"/>
                </a:lnTo>
                <a:lnTo>
                  <a:pt x="2703" y="462"/>
                </a:lnTo>
                <a:lnTo>
                  <a:pt x="2696" y="469"/>
                </a:lnTo>
                <a:lnTo>
                  <a:pt x="2696" y="476"/>
                </a:lnTo>
                <a:lnTo>
                  <a:pt x="2696" y="476"/>
                </a:lnTo>
                <a:lnTo>
                  <a:pt x="2689" y="483"/>
                </a:lnTo>
                <a:lnTo>
                  <a:pt x="2689" y="489"/>
                </a:lnTo>
                <a:lnTo>
                  <a:pt x="2689" y="496"/>
                </a:lnTo>
                <a:lnTo>
                  <a:pt x="2682" y="503"/>
                </a:lnTo>
                <a:lnTo>
                  <a:pt x="2682" y="510"/>
                </a:lnTo>
                <a:lnTo>
                  <a:pt x="2682" y="517"/>
                </a:lnTo>
                <a:lnTo>
                  <a:pt x="2676" y="524"/>
                </a:lnTo>
                <a:lnTo>
                  <a:pt x="2676" y="531"/>
                </a:lnTo>
                <a:lnTo>
                  <a:pt x="2676" y="531"/>
                </a:lnTo>
                <a:lnTo>
                  <a:pt x="2669" y="538"/>
                </a:lnTo>
                <a:lnTo>
                  <a:pt x="2669" y="545"/>
                </a:lnTo>
                <a:lnTo>
                  <a:pt x="2669" y="551"/>
                </a:lnTo>
                <a:lnTo>
                  <a:pt x="2669" y="558"/>
                </a:lnTo>
                <a:lnTo>
                  <a:pt x="2669" y="565"/>
                </a:lnTo>
                <a:lnTo>
                  <a:pt x="2662" y="572"/>
                </a:lnTo>
                <a:lnTo>
                  <a:pt x="2662" y="579"/>
                </a:lnTo>
                <a:lnTo>
                  <a:pt x="2662" y="586"/>
                </a:lnTo>
                <a:lnTo>
                  <a:pt x="2662" y="593"/>
                </a:lnTo>
                <a:lnTo>
                  <a:pt x="2655" y="600"/>
                </a:lnTo>
                <a:lnTo>
                  <a:pt x="2655" y="600"/>
                </a:lnTo>
                <a:lnTo>
                  <a:pt x="2648" y="607"/>
                </a:lnTo>
                <a:lnTo>
                  <a:pt x="2648" y="613"/>
                </a:lnTo>
                <a:lnTo>
                  <a:pt x="2655" y="620"/>
                </a:lnTo>
                <a:lnTo>
                  <a:pt x="2662" y="627"/>
                </a:lnTo>
                <a:lnTo>
                  <a:pt x="2669" y="634"/>
                </a:lnTo>
                <a:lnTo>
                  <a:pt x="2676" y="634"/>
                </a:lnTo>
                <a:lnTo>
                  <a:pt x="2676" y="641"/>
                </a:lnTo>
                <a:lnTo>
                  <a:pt x="2682" y="648"/>
                </a:lnTo>
                <a:lnTo>
                  <a:pt x="2682" y="655"/>
                </a:lnTo>
                <a:lnTo>
                  <a:pt x="2676" y="662"/>
                </a:lnTo>
                <a:lnTo>
                  <a:pt x="2676" y="669"/>
                </a:lnTo>
                <a:lnTo>
                  <a:pt x="2669" y="675"/>
                </a:lnTo>
                <a:lnTo>
                  <a:pt x="2669" y="682"/>
                </a:lnTo>
                <a:lnTo>
                  <a:pt x="2676" y="682"/>
                </a:lnTo>
                <a:lnTo>
                  <a:pt x="2682" y="689"/>
                </a:lnTo>
                <a:lnTo>
                  <a:pt x="2689" y="696"/>
                </a:lnTo>
                <a:lnTo>
                  <a:pt x="2696" y="696"/>
                </a:lnTo>
                <a:lnTo>
                  <a:pt x="2703" y="703"/>
                </a:lnTo>
                <a:lnTo>
                  <a:pt x="2703" y="710"/>
                </a:lnTo>
                <a:lnTo>
                  <a:pt x="2703" y="717"/>
                </a:lnTo>
                <a:lnTo>
                  <a:pt x="2703" y="724"/>
                </a:lnTo>
                <a:lnTo>
                  <a:pt x="2696" y="731"/>
                </a:lnTo>
                <a:lnTo>
                  <a:pt x="2689" y="737"/>
                </a:lnTo>
                <a:lnTo>
                  <a:pt x="2682" y="737"/>
                </a:lnTo>
                <a:lnTo>
                  <a:pt x="2676" y="731"/>
                </a:lnTo>
                <a:lnTo>
                  <a:pt x="2669" y="724"/>
                </a:lnTo>
                <a:lnTo>
                  <a:pt x="2662" y="724"/>
                </a:lnTo>
                <a:lnTo>
                  <a:pt x="2655" y="724"/>
                </a:lnTo>
                <a:lnTo>
                  <a:pt x="2648" y="731"/>
                </a:lnTo>
                <a:lnTo>
                  <a:pt x="2648" y="737"/>
                </a:lnTo>
                <a:lnTo>
                  <a:pt x="2641" y="744"/>
                </a:lnTo>
                <a:lnTo>
                  <a:pt x="2641" y="751"/>
                </a:lnTo>
                <a:lnTo>
                  <a:pt x="2634" y="758"/>
                </a:lnTo>
                <a:lnTo>
                  <a:pt x="2627" y="758"/>
                </a:lnTo>
                <a:lnTo>
                  <a:pt x="2620" y="751"/>
                </a:lnTo>
                <a:lnTo>
                  <a:pt x="2614" y="744"/>
                </a:lnTo>
                <a:lnTo>
                  <a:pt x="2614" y="737"/>
                </a:lnTo>
                <a:lnTo>
                  <a:pt x="2607" y="731"/>
                </a:lnTo>
                <a:lnTo>
                  <a:pt x="2600" y="731"/>
                </a:lnTo>
                <a:lnTo>
                  <a:pt x="2600" y="724"/>
                </a:lnTo>
                <a:lnTo>
                  <a:pt x="2593" y="717"/>
                </a:lnTo>
                <a:lnTo>
                  <a:pt x="2593" y="710"/>
                </a:lnTo>
                <a:lnTo>
                  <a:pt x="2593" y="703"/>
                </a:lnTo>
                <a:lnTo>
                  <a:pt x="2593" y="696"/>
                </a:lnTo>
                <a:lnTo>
                  <a:pt x="2593" y="689"/>
                </a:lnTo>
                <a:lnTo>
                  <a:pt x="2593" y="682"/>
                </a:lnTo>
                <a:lnTo>
                  <a:pt x="2593" y="675"/>
                </a:lnTo>
                <a:lnTo>
                  <a:pt x="2586" y="669"/>
                </a:lnTo>
                <a:lnTo>
                  <a:pt x="2579" y="662"/>
                </a:lnTo>
                <a:lnTo>
                  <a:pt x="2572" y="655"/>
                </a:lnTo>
                <a:lnTo>
                  <a:pt x="2572" y="655"/>
                </a:lnTo>
                <a:lnTo>
                  <a:pt x="2565" y="655"/>
                </a:lnTo>
                <a:lnTo>
                  <a:pt x="2558" y="662"/>
                </a:lnTo>
                <a:lnTo>
                  <a:pt x="2551" y="669"/>
                </a:lnTo>
                <a:lnTo>
                  <a:pt x="2551" y="675"/>
                </a:lnTo>
                <a:lnTo>
                  <a:pt x="2545" y="682"/>
                </a:lnTo>
                <a:lnTo>
                  <a:pt x="2538" y="689"/>
                </a:lnTo>
                <a:lnTo>
                  <a:pt x="2538" y="696"/>
                </a:lnTo>
                <a:lnTo>
                  <a:pt x="2531" y="696"/>
                </a:lnTo>
                <a:lnTo>
                  <a:pt x="2524" y="703"/>
                </a:lnTo>
                <a:lnTo>
                  <a:pt x="2517" y="710"/>
                </a:lnTo>
                <a:lnTo>
                  <a:pt x="2510" y="717"/>
                </a:lnTo>
                <a:lnTo>
                  <a:pt x="2510" y="717"/>
                </a:lnTo>
                <a:lnTo>
                  <a:pt x="2503" y="724"/>
                </a:lnTo>
                <a:lnTo>
                  <a:pt x="2496" y="731"/>
                </a:lnTo>
                <a:lnTo>
                  <a:pt x="2489" y="737"/>
                </a:lnTo>
                <a:lnTo>
                  <a:pt x="2483" y="737"/>
                </a:lnTo>
                <a:lnTo>
                  <a:pt x="2476" y="744"/>
                </a:lnTo>
                <a:lnTo>
                  <a:pt x="2476" y="751"/>
                </a:lnTo>
                <a:lnTo>
                  <a:pt x="2469" y="751"/>
                </a:lnTo>
                <a:lnTo>
                  <a:pt x="2455" y="758"/>
                </a:lnTo>
                <a:lnTo>
                  <a:pt x="2448" y="765"/>
                </a:lnTo>
                <a:lnTo>
                  <a:pt x="2441" y="765"/>
                </a:lnTo>
                <a:lnTo>
                  <a:pt x="2441" y="772"/>
                </a:lnTo>
                <a:lnTo>
                  <a:pt x="2434" y="779"/>
                </a:lnTo>
                <a:lnTo>
                  <a:pt x="2427" y="786"/>
                </a:lnTo>
                <a:lnTo>
                  <a:pt x="2420" y="786"/>
                </a:lnTo>
                <a:lnTo>
                  <a:pt x="2414" y="793"/>
                </a:lnTo>
                <a:lnTo>
                  <a:pt x="2407" y="799"/>
                </a:lnTo>
                <a:lnTo>
                  <a:pt x="2400" y="799"/>
                </a:lnTo>
                <a:lnTo>
                  <a:pt x="2393" y="806"/>
                </a:lnTo>
                <a:lnTo>
                  <a:pt x="2386" y="813"/>
                </a:lnTo>
                <a:lnTo>
                  <a:pt x="2379" y="813"/>
                </a:lnTo>
                <a:lnTo>
                  <a:pt x="2372" y="820"/>
                </a:lnTo>
                <a:lnTo>
                  <a:pt x="2372" y="827"/>
                </a:lnTo>
                <a:lnTo>
                  <a:pt x="2365" y="834"/>
                </a:lnTo>
                <a:lnTo>
                  <a:pt x="2365" y="841"/>
                </a:lnTo>
                <a:lnTo>
                  <a:pt x="2365" y="848"/>
                </a:lnTo>
                <a:lnTo>
                  <a:pt x="2365" y="855"/>
                </a:lnTo>
                <a:lnTo>
                  <a:pt x="2365" y="855"/>
                </a:lnTo>
                <a:lnTo>
                  <a:pt x="2365" y="861"/>
                </a:lnTo>
                <a:lnTo>
                  <a:pt x="2358" y="868"/>
                </a:lnTo>
                <a:lnTo>
                  <a:pt x="2358" y="875"/>
                </a:lnTo>
                <a:lnTo>
                  <a:pt x="2358" y="882"/>
                </a:lnTo>
                <a:lnTo>
                  <a:pt x="2358" y="889"/>
                </a:lnTo>
                <a:lnTo>
                  <a:pt x="2358" y="896"/>
                </a:lnTo>
                <a:lnTo>
                  <a:pt x="2358" y="903"/>
                </a:lnTo>
                <a:lnTo>
                  <a:pt x="2358" y="910"/>
                </a:lnTo>
                <a:lnTo>
                  <a:pt x="2352" y="917"/>
                </a:lnTo>
                <a:lnTo>
                  <a:pt x="2352" y="923"/>
                </a:lnTo>
                <a:lnTo>
                  <a:pt x="2352" y="930"/>
                </a:lnTo>
                <a:lnTo>
                  <a:pt x="2352" y="930"/>
                </a:lnTo>
                <a:lnTo>
                  <a:pt x="2352" y="937"/>
                </a:lnTo>
                <a:lnTo>
                  <a:pt x="2352" y="944"/>
                </a:lnTo>
                <a:lnTo>
                  <a:pt x="2352" y="951"/>
                </a:lnTo>
                <a:lnTo>
                  <a:pt x="2345" y="958"/>
                </a:lnTo>
                <a:lnTo>
                  <a:pt x="2345" y="965"/>
                </a:lnTo>
                <a:lnTo>
                  <a:pt x="2345" y="972"/>
                </a:lnTo>
                <a:lnTo>
                  <a:pt x="2345" y="979"/>
                </a:lnTo>
                <a:lnTo>
                  <a:pt x="2345" y="985"/>
                </a:lnTo>
                <a:lnTo>
                  <a:pt x="2345" y="992"/>
                </a:lnTo>
                <a:lnTo>
                  <a:pt x="2345" y="999"/>
                </a:lnTo>
                <a:lnTo>
                  <a:pt x="2345" y="1006"/>
                </a:lnTo>
                <a:lnTo>
                  <a:pt x="2345" y="1006"/>
                </a:lnTo>
                <a:lnTo>
                  <a:pt x="2345" y="1013"/>
                </a:lnTo>
                <a:lnTo>
                  <a:pt x="2345" y="1020"/>
                </a:lnTo>
                <a:lnTo>
                  <a:pt x="2345" y="1027"/>
                </a:lnTo>
                <a:lnTo>
                  <a:pt x="2345" y="1034"/>
                </a:lnTo>
                <a:lnTo>
                  <a:pt x="2345" y="1041"/>
                </a:lnTo>
                <a:lnTo>
                  <a:pt x="2345" y="1047"/>
                </a:lnTo>
                <a:lnTo>
                  <a:pt x="2352" y="1054"/>
                </a:lnTo>
                <a:lnTo>
                  <a:pt x="2352" y="1061"/>
                </a:lnTo>
                <a:lnTo>
                  <a:pt x="2358" y="1061"/>
                </a:lnTo>
                <a:lnTo>
                  <a:pt x="2358" y="1068"/>
                </a:lnTo>
                <a:lnTo>
                  <a:pt x="2358" y="1075"/>
                </a:lnTo>
                <a:lnTo>
                  <a:pt x="2358" y="1082"/>
                </a:lnTo>
                <a:lnTo>
                  <a:pt x="2358" y="1089"/>
                </a:lnTo>
                <a:lnTo>
                  <a:pt x="2352" y="1096"/>
                </a:lnTo>
                <a:lnTo>
                  <a:pt x="2345" y="1103"/>
                </a:lnTo>
                <a:lnTo>
                  <a:pt x="2338" y="1103"/>
                </a:lnTo>
                <a:lnTo>
                  <a:pt x="2324" y="1103"/>
                </a:lnTo>
                <a:lnTo>
                  <a:pt x="2317" y="1103"/>
                </a:lnTo>
                <a:lnTo>
                  <a:pt x="2303" y="1103"/>
                </a:lnTo>
                <a:lnTo>
                  <a:pt x="2296" y="1103"/>
                </a:lnTo>
                <a:lnTo>
                  <a:pt x="2289" y="1103"/>
                </a:lnTo>
                <a:lnTo>
                  <a:pt x="2276" y="1103"/>
                </a:lnTo>
                <a:lnTo>
                  <a:pt x="2269" y="1103"/>
                </a:lnTo>
                <a:lnTo>
                  <a:pt x="2255" y="1103"/>
                </a:lnTo>
                <a:lnTo>
                  <a:pt x="2248" y="1103"/>
                </a:lnTo>
                <a:lnTo>
                  <a:pt x="2241" y="1103"/>
                </a:lnTo>
                <a:lnTo>
                  <a:pt x="2227" y="1103"/>
                </a:lnTo>
                <a:lnTo>
                  <a:pt x="2221" y="1109"/>
                </a:lnTo>
                <a:lnTo>
                  <a:pt x="2214" y="1109"/>
                </a:lnTo>
                <a:lnTo>
                  <a:pt x="2200" y="1116"/>
                </a:lnTo>
                <a:lnTo>
                  <a:pt x="2193" y="1116"/>
                </a:lnTo>
                <a:lnTo>
                  <a:pt x="2186" y="1123"/>
                </a:lnTo>
                <a:lnTo>
                  <a:pt x="2179" y="1130"/>
                </a:lnTo>
                <a:lnTo>
                  <a:pt x="2179" y="1130"/>
                </a:lnTo>
                <a:lnTo>
                  <a:pt x="2179" y="1137"/>
                </a:lnTo>
                <a:lnTo>
                  <a:pt x="2179" y="1144"/>
                </a:lnTo>
                <a:lnTo>
                  <a:pt x="2179" y="1151"/>
                </a:lnTo>
                <a:lnTo>
                  <a:pt x="2172" y="1158"/>
                </a:lnTo>
                <a:lnTo>
                  <a:pt x="2172" y="1165"/>
                </a:lnTo>
                <a:lnTo>
                  <a:pt x="2165" y="1171"/>
                </a:lnTo>
                <a:lnTo>
                  <a:pt x="2152" y="1171"/>
                </a:lnTo>
                <a:lnTo>
                  <a:pt x="2145" y="1178"/>
                </a:lnTo>
                <a:lnTo>
                  <a:pt x="2138" y="1178"/>
                </a:lnTo>
                <a:lnTo>
                  <a:pt x="2131" y="1178"/>
                </a:lnTo>
                <a:lnTo>
                  <a:pt x="2117" y="1185"/>
                </a:lnTo>
                <a:lnTo>
                  <a:pt x="2110" y="1185"/>
                </a:lnTo>
                <a:lnTo>
                  <a:pt x="2103" y="1192"/>
                </a:lnTo>
                <a:lnTo>
                  <a:pt x="2103" y="1199"/>
                </a:lnTo>
                <a:lnTo>
                  <a:pt x="2110" y="1206"/>
                </a:lnTo>
                <a:lnTo>
                  <a:pt x="2110" y="1213"/>
                </a:lnTo>
                <a:lnTo>
                  <a:pt x="2110" y="1213"/>
                </a:lnTo>
                <a:lnTo>
                  <a:pt x="2103" y="1220"/>
                </a:lnTo>
                <a:lnTo>
                  <a:pt x="2096" y="1227"/>
                </a:lnTo>
                <a:lnTo>
                  <a:pt x="2083" y="1227"/>
                </a:lnTo>
                <a:lnTo>
                  <a:pt x="2076" y="1233"/>
                </a:lnTo>
                <a:lnTo>
                  <a:pt x="2069" y="1233"/>
                </a:lnTo>
                <a:lnTo>
                  <a:pt x="2055" y="1233"/>
                </a:lnTo>
                <a:lnTo>
                  <a:pt x="2048" y="1233"/>
                </a:lnTo>
                <a:lnTo>
                  <a:pt x="2041" y="1240"/>
                </a:lnTo>
                <a:lnTo>
                  <a:pt x="2034" y="1240"/>
                </a:lnTo>
                <a:lnTo>
                  <a:pt x="2034" y="1247"/>
                </a:lnTo>
                <a:lnTo>
                  <a:pt x="2041" y="1254"/>
                </a:lnTo>
                <a:lnTo>
                  <a:pt x="2055" y="1254"/>
                </a:lnTo>
                <a:lnTo>
                  <a:pt x="2062" y="1261"/>
                </a:lnTo>
                <a:lnTo>
                  <a:pt x="2069" y="1261"/>
                </a:lnTo>
                <a:lnTo>
                  <a:pt x="2069" y="1268"/>
                </a:lnTo>
                <a:lnTo>
                  <a:pt x="2076" y="1275"/>
                </a:lnTo>
                <a:lnTo>
                  <a:pt x="2083" y="1282"/>
                </a:lnTo>
                <a:lnTo>
                  <a:pt x="2083" y="1282"/>
                </a:lnTo>
                <a:lnTo>
                  <a:pt x="2090" y="1289"/>
                </a:lnTo>
                <a:lnTo>
                  <a:pt x="2090" y="1295"/>
                </a:lnTo>
                <a:lnTo>
                  <a:pt x="2090" y="1302"/>
                </a:lnTo>
                <a:lnTo>
                  <a:pt x="2096" y="1309"/>
                </a:lnTo>
                <a:lnTo>
                  <a:pt x="2103" y="1316"/>
                </a:lnTo>
                <a:lnTo>
                  <a:pt x="2103" y="1323"/>
                </a:lnTo>
                <a:lnTo>
                  <a:pt x="2110" y="1323"/>
                </a:lnTo>
                <a:lnTo>
                  <a:pt x="2110" y="1330"/>
                </a:lnTo>
                <a:lnTo>
                  <a:pt x="2110" y="1337"/>
                </a:lnTo>
                <a:lnTo>
                  <a:pt x="2103" y="1344"/>
                </a:lnTo>
                <a:lnTo>
                  <a:pt x="2096" y="1344"/>
                </a:lnTo>
                <a:lnTo>
                  <a:pt x="2090" y="1344"/>
                </a:lnTo>
                <a:lnTo>
                  <a:pt x="2083" y="1337"/>
                </a:lnTo>
                <a:lnTo>
                  <a:pt x="2076" y="1330"/>
                </a:lnTo>
                <a:lnTo>
                  <a:pt x="2069" y="1330"/>
                </a:lnTo>
                <a:lnTo>
                  <a:pt x="2055" y="1330"/>
                </a:lnTo>
                <a:lnTo>
                  <a:pt x="2048" y="1330"/>
                </a:lnTo>
                <a:lnTo>
                  <a:pt x="2041" y="1337"/>
                </a:lnTo>
                <a:lnTo>
                  <a:pt x="2034" y="1337"/>
                </a:lnTo>
                <a:lnTo>
                  <a:pt x="2027" y="1344"/>
                </a:lnTo>
                <a:lnTo>
                  <a:pt x="2021" y="1351"/>
                </a:lnTo>
                <a:lnTo>
                  <a:pt x="2014" y="1351"/>
                </a:lnTo>
                <a:lnTo>
                  <a:pt x="2007" y="1357"/>
                </a:lnTo>
                <a:lnTo>
                  <a:pt x="2000" y="1357"/>
                </a:lnTo>
                <a:lnTo>
                  <a:pt x="1986" y="1357"/>
                </a:lnTo>
                <a:lnTo>
                  <a:pt x="1979" y="1357"/>
                </a:lnTo>
                <a:lnTo>
                  <a:pt x="1965" y="1357"/>
                </a:lnTo>
                <a:lnTo>
                  <a:pt x="1959" y="1357"/>
                </a:lnTo>
                <a:lnTo>
                  <a:pt x="1945" y="1357"/>
                </a:lnTo>
                <a:lnTo>
                  <a:pt x="1945" y="1364"/>
                </a:lnTo>
                <a:lnTo>
                  <a:pt x="1938" y="1371"/>
                </a:lnTo>
                <a:lnTo>
                  <a:pt x="1931" y="1378"/>
                </a:lnTo>
                <a:lnTo>
                  <a:pt x="1924" y="1378"/>
                </a:lnTo>
                <a:lnTo>
                  <a:pt x="1924" y="1385"/>
                </a:lnTo>
                <a:lnTo>
                  <a:pt x="1917" y="1392"/>
                </a:lnTo>
                <a:lnTo>
                  <a:pt x="1910" y="1399"/>
                </a:lnTo>
                <a:lnTo>
                  <a:pt x="1903" y="1399"/>
                </a:lnTo>
                <a:lnTo>
                  <a:pt x="1890" y="1406"/>
                </a:lnTo>
                <a:lnTo>
                  <a:pt x="1883" y="1406"/>
                </a:lnTo>
                <a:lnTo>
                  <a:pt x="1876" y="1399"/>
                </a:lnTo>
                <a:lnTo>
                  <a:pt x="1862" y="1399"/>
                </a:lnTo>
                <a:lnTo>
                  <a:pt x="1855" y="1399"/>
                </a:lnTo>
                <a:lnTo>
                  <a:pt x="1848" y="1392"/>
                </a:lnTo>
                <a:lnTo>
                  <a:pt x="1841" y="1385"/>
                </a:lnTo>
                <a:lnTo>
                  <a:pt x="1834" y="1385"/>
                </a:lnTo>
                <a:lnTo>
                  <a:pt x="1828" y="1378"/>
                </a:lnTo>
                <a:lnTo>
                  <a:pt x="1821" y="1371"/>
                </a:lnTo>
                <a:lnTo>
                  <a:pt x="1814" y="1371"/>
                </a:lnTo>
                <a:lnTo>
                  <a:pt x="1807" y="1364"/>
                </a:lnTo>
                <a:lnTo>
                  <a:pt x="1807" y="1357"/>
                </a:lnTo>
                <a:lnTo>
                  <a:pt x="1800" y="1357"/>
                </a:lnTo>
                <a:lnTo>
                  <a:pt x="1786" y="1357"/>
                </a:lnTo>
                <a:lnTo>
                  <a:pt x="1779" y="1357"/>
                </a:lnTo>
                <a:lnTo>
                  <a:pt x="1772" y="1364"/>
                </a:lnTo>
                <a:lnTo>
                  <a:pt x="1765" y="1357"/>
                </a:lnTo>
                <a:lnTo>
                  <a:pt x="1765" y="1351"/>
                </a:lnTo>
                <a:lnTo>
                  <a:pt x="1759" y="1344"/>
                </a:lnTo>
                <a:lnTo>
                  <a:pt x="1759" y="1337"/>
                </a:lnTo>
                <a:lnTo>
                  <a:pt x="1759" y="1330"/>
                </a:lnTo>
                <a:lnTo>
                  <a:pt x="1752" y="1323"/>
                </a:lnTo>
                <a:lnTo>
                  <a:pt x="1745" y="1316"/>
                </a:lnTo>
                <a:lnTo>
                  <a:pt x="1738" y="1316"/>
                </a:lnTo>
                <a:lnTo>
                  <a:pt x="1724" y="1316"/>
                </a:lnTo>
                <a:lnTo>
                  <a:pt x="1717" y="1309"/>
                </a:lnTo>
                <a:lnTo>
                  <a:pt x="1710" y="1316"/>
                </a:lnTo>
                <a:lnTo>
                  <a:pt x="1703" y="1316"/>
                </a:lnTo>
                <a:lnTo>
                  <a:pt x="1697" y="1323"/>
                </a:lnTo>
                <a:lnTo>
                  <a:pt x="1690" y="1330"/>
                </a:lnTo>
                <a:lnTo>
                  <a:pt x="1683" y="1337"/>
                </a:lnTo>
                <a:lnTo>
                  <a:pt x="1676" y="1337"/>
                </a:lnTo>
                <a:lnTo>
                  <a:pt x="1669" y="1337"/>
                </a:lnTo>
                <a:lnTo>
                  <a:pt x="1683" y="1330"/>
                </a:lnTo>
                <a:lnTo>
                  <a:pt x="1697" y="1330"/>
                </a:lnTo>
                <a:lnTo>
                  <a:pt x="1703" y="1323"/>
                </a:lnTo>
                <a:lnTo>
                  <a:pt x="1710" y="1323"/>
                </a:lnTo>
                <a:lnTo>
                  <a:pt x="1710" y="1309"/>
                </a:lnTo>
                <a:lnTo>
                  <a:pt x="1710" y="1302"/>
                </a:lnTo>
                <a:lnTo>
                  <a:pt x="1703" y="1302"/>
                </a:lnTo>
                <a:lnTo>
                  <a:pt x="1703" y="1295"/>
                </a:lnTo>
                <a:lnTo>
                  <a:pt x="1697" y="1289"/>
                </a:lnTo>
                <a:lnTo>
                  <a:pt x="1690" y="1282"/>
                </a:lnTo>
                <a:lnTo>
                  <a:pt x="1683" y="1282"/>
                </a:lnTo>
                <a:lnTo>
                  <a:pt x="1676" y="1275"/>
                </a:lnTo>
                <a:lnTo>
                  <a:pt x="1676" y="1268"/>
                </a:lnTo>
                <a:lnTo>
                  <a:pt x="1669" y="1261"/>
                </a:lnTo>
                <a:lnTo>
                  <a:pt x="1669" y="1254"/>
                </a:lnTo>
                <a:lnTo>
                  <a:pt x="1662" y="1247"/>
                </a:lnTo>
                <a:lnTo>
                  <a:pt x="1662" y="1247"/>
                </a:lnTo>
                <a:lnTo>
                  <a:pt x="1655" y="1240"/>
                </a:lnTo>
                <a:lnTo>
                  <a:pt x="1648" y="1233"/>
                </a:lnTo>
                <a:lnTo>
                  <a:pt x="1641" y="1227"/>
                </a:lnTo>
                <a:lnTo>
                  <a:pt x="1641" y="1220"/>
                </a:lnTo>
                <a:lnTo>
                  <a:pt x="1634" y="1213"/>
                </a:lnTo>
                <a:lnTo>
                  <a:pt x="1634" y="1206"/>
                </a:lnTo>
                <a:lnTo>
                  <a:pt x="1634" y="1199"/>
                </a:lnTo>
                <a:lnTo>
                  <a:pt x="1628" y="1192"/>
                </a:lnTo>
                <a:lnTo>
                  <a:pt x="1621" y="1192"/>
                </a:lnTo>
                <a:lnTo>
                  <a:pt x="1614" y="1192"/>
                </a:lnTo>
                <a:lnTo>
                  <a:pt x="1607" y="1199"/>
                </a:lnTo>
                <a:lnTo>
                  <a:pt x="1600" y="1206"/>
                </a:lnTo>
                <a:lnTo>
                  <a:pt x="1600" y="1213"/>
                </a:lnTo>
                <a:lnTo>
                  <a:pt x="1593" y="1220"/>
                </a:lnTo>
                <a:lnTo>
                  <a:pt x="1600" y="1227"/>
                </a:lnTo>
                <a:lnTo>
                  <a:pt x="1600" y="1233"/>
                </a:lnTo>
                <a:lnTo>
                  <a:pt x="1607" y="1240"/>
                </a:lnTo>
                <a:lnTo>
                  <a:pt x="1607" y="1240"/>
                </a:lnTo>
                <a:lnTo>
                  <a:pt x="1607" y="1247"/>
                </a:lnTo>
                <a:lnTo>
                  <a:pt x="1614" y="1254"/>
                </a:lnTo>
                <a:lnTo>
                  <a:pt x="1614" y="1261"/>
                </a:lnTo>
                <a:lnTo>
                  <a:pt x="1614" y="1268"/>
                </a:lnTo>
                <a:lnTo>
                  <a:pt x="1614" y="1275"/>
                </a:lnTo>
                <a:lnTo>
                  <a:pt x="1621" y="1282"/>
                </a:lnTo>
                <a:lnTo>
                  <a:pt x="1628" y="1282"/>
                </a:lnTo>
                <a:lnTo>
                  <a:pt x="1634" y="1289"/>
                </a:lnTo>
                <a:lnTo>
                  <a:pt x="1634" y="1295"/>
                </a:lnTo>
                <a:lnTo>
                  <a:pt x="1634" y="1302"/>
                </a:lnTo>
                <a:lnTo>
                  <a:pt x="1634" y="1309"/>
                </a:lnTo>
                <a:lnTo>
                  <a:pt x="1634" y="1316"/>
                </a:lnTo>
                <a:lnTo>
                  <a:pt x="1628" y="1323"/>
                </a:lnTo>
                <a:lnTo>
                  <a:pt x="1628" y="1330"/>
                </a:lnTo>
                <a:lnTo>
                  <a:pt x="1621" y="1330"/>
                </a:lnTo>
                <a:lnTo>
                  <a:pt x="1614" y="1323"/>
                </a:lnTo>
                <a:lnTo>
                  <a:pt x="1607" y="1316"/>
                </a:lnTo>
                <a:lnTo>
                  <a:pt x="1600" y="1309"/>
                </a:lnTo>
                <a:lnTo>
                  <a:pt x="1593" y="1309"/>
                </a:lnTo>
                <a:lnTo>
                  <a:pt x="1586" y="1309"/>
                </a:lnTo>
                <a:lnTo>
                  <a:pt x="1572" y="1302"/>
                </a:lnTo>
                <a:lnTo>
                  <a:pt x="1566" y="1302"/>
                </a:lnTo>
                <a:lnTo>
                  <a:pt x="1559" y="1309"/>
                </a:lnTo>
                <a:lnTo>
                  <a:pt x="1559" y="1316"/>
                </a:lnTo>
                <a:lnTo>
                  <a:pt x="1559" y="1323"/>
                </a:lnTo>
                <a:lnTo>
                  <a:pt x="1559" y="1330"/>
                </a:lnTo>
                <a:lnTo>
                  <a:pt x="1559" y="1330"/>
                </a:lnTo>
                <a:lnTo>
                  <a:pt x="1559" y="1337"/>
                </a:lnTo>
                <a:lnTo>
                  <a:pt x="1552" y="1344"/>
                </a:lnTo>
                <a:lnTo>
                  <a:pt x="1552" y="1351"/>
                </a:lnTo>
                <a:lnTo>
                  <a:pt x="1552" y="1357"/>
                </a:lnTo>
                <a:lnTo>
                  <a:pt x="1559" y="1364"/>
                </a:lnTo>
                <a:lnTo>
                  <a:pt x="1559" y="1371"/>
                </a:lnTo>
                <a:lnTo>
                  <a:pt x="1566" y="1371"/>
                </a:lnTo>
                <a:lnTo>
                  <a:pt x="1572" y="1364"/>
                </a:lnTo>
                <a:lnTo>
                  <a:pt x="1579" y="1357"/>
                </a:lnTo>
                <a:lnTo>
                  <a:pt x="1593" y="1357"/>
                </a:lnTo>
                <a:lnTo>
                  <a:pt x="1600" y="1357"/>
                </a:lnTo>
                <a:lnTo>
                  <a:pt x="1614" y="1357"/>
                </a:lnTo>
                <a:lnTo>
                  <a:pt x="1621" y="1357"/>
                </a:lnTo>
                <a:lnTo>
                  <a:pt x="1628" y="1357"/>
                </a:lnTo>
                <a:lnTo>
                  <a:pt x="1628" y="1364"/>
                </a:lnTo>
                <a:lnTo>
                  <a:pt x="1634" y="1371"/>
                </a:lnTo>
                <a:lnTo>
                  <a:pt x="1641" y="1378"/>
                </a:lnTo>
                <a:lnTo>
                  <a:pt x="1641" y="1385"/>
                </a:lnTo>
                <a:lnTo>
                  <a:pt x="1648" y="1392"/>
                </a:lnTo>
                <a:lnTo>
                  <a:pt x="1655" y="1392"/>
                </a:lnTo>
                <a:lnTo>
                  <a:pt x="1655" y="1399"/>
                </a:lnTo>
                <a:lnTo>
                  <a:pt x="1662" y="1406"/>
                </a:lnTo>
                <a:lnTo>
                  <a:pt x="1662" y="1413"/>
                </a:lnTo>
                <a:lnTo>
                  <a:pt x="1669" y="1419"/>
                </a:lnTo>
                <a:lnTo>
                  <a:pt x="1676" y="1426"/>
                </a:lnTo>
                <a:lnTo>
                  <a:pt x="1676" y="1426"/>
                </a:lnTo>
                <a:lnTo>
                  <a:pt x="1683" y="1433"/>
                </a:lnTo>
                <a:lnTo>
                  <a:pt x="1690" y="1440"/>
                </a:lnTo>
                <a:lnTo>
                  <a:pt x="1690" y="1447"/>
                </a:lnTo>
                <a:lnTo>
                  <a:pt x="1697" y="1454"/>
                </a:lnTo>
                <a:lnTo>
                  <a:pt x="1697" y="1461"/>
                </a:lnTo>
                <a:lnTo>
                  <a:pt x="1703" y="1461"/>
                </a:lnTo>
                <a:lnTo>
                  <a:pt x="1710" y="1468"/>
                </a:lnTo>
                <a:lnTo>
                  <a:pt x="1710" y="1475"/>
                </a:lnTo>
                <a:lnTo>
                  <a:pt x="1717" y="1481"/>
                </a:lnTo>
                <a:lnTo>
                  <a:pt x="1717" y="1488"/>
                </a:lnTo>
                <a:lnTo>
                  <a:pt x="1724" y="1495"/>
                </a:lnTo>
                <a:lnTo>
                  <a:pt x="1731" y="1495"/>
                </a:lnTo>
                <a:lnTo>
                  <a:pt x="1731" y="1502"/>
                </a:lnTo>
                <a:lnTo>
                  <a:pt x="1738" y="1509"/>
                </a:lnTo>
                <a:lnTo>
                  <a:pt x="1745" y="1516"/>
                </a:lnTo>
                <a:lnTo>
                  <a:pt x="1752" y="1523"/>
                </a:lnTo>
                <a:lnTo>
                  <a:pt x="1752" y="1530"/>
                </a:lnTo>
                <a:lnTo>
                  <a:pt x="1759" y="1537"/>
                </a:lnTo>
                <a:lnTo>
                  <a:pt x="1765" y="1537"/>
                </a:lnTo>
                <a:lnTo>
                  <a:pt x="1772" y="1543"/>
                </a:lnTo>
                <a:lnTo>
                  <a:pt x="1779" y="1537"/>
                </a:lnTo>
                <a:lnTo>
                  <a:pt x="1786" y="1537"/>
                </a:lnTo>
                <a:lnTo>
                  <a:pt x="1786" y="1530"/>
                </a:lnTo>
                <a:lnTo>
                  <a:pt x="1793" y="1523"/>
                </a:lnTo>
                <a:lnTo>
                  <a:pt x="1800" y="1516"/>
                </a:lnTo>
                <a:lnTo>
                  <a:pt x="1800" y="1509"/>
                </a:lnTo>
                <a:lnTo>
                  <a:pt x="1807" y="1502"/>
                </a:lnTo>
                <a:lnTo>
                  <a:pt x="1814" y="1502"/>
                </a:lnTo>
                <a:lnTo>
                  <a:pt x="1828" y="1495"/>
                </a:lnTo>
                <a:lnTo>
                  <a:pt x="1834" y="1502"/>
                </a:lnTo>
                <a:lnTo>
                  <a:pt x="1841" y="1502"/>
                </a:lnTo>
                <a:lnTo>
                  <a:pt x="1848" y="1509"/>
                </a:lnTo>
                <a:lnTo>
                  <a:pt x="1855" y="1509"/>
                </a:lnTo>
                <a:lnTo>
                  <a:pt x="1855" y="1516"/>
                </a:lnTo>
                <a:lnTo>
                  <a:pt x="1848" y="1523"/>
                </a:lnTo>
                <a:lnTo>
                  <a:pt x="1834" y="1523"/>
                </a:lnTo>
                <a:lnTo>
                  <a:pt x="1828" y="1523"/>
                </a:lnTo>
                <a:lnTo>
                  <a:pt x="1821" y="1523"/>
                </a:lnTo>
                <a:lnTo>
                  <a:pt x="1807" y="1523"/>
                </a:lnTo>
                <a:lnTo>
                  <a:pt x="1800" y="1523"/>
                </a:lnTo>
                <a:lnTo>
                  <a:pt x="1793" y="1523"/>
                </a:lnTo>
                <a:lnTo>
                  <a:pt x="1786" y="1530"/>
                </a:lnTo>
                <a:lnTo>
                  <a:pt x="1779" y="1537"/>
                </a:lnTo>
                <a:lnTo>
                  <a:pt x="1772" y="1543"/>
                </a:lnTo>
                <a:lnTo>
                  <a:pt x="1772" y="1550"/>
                </a:lnTo>
                <a:lnTo>
                  <a:pt x="1759" y="1550"/>
                </a:lnTo>
                <a:lnTo>
                  <a:pt x="1752" y="1557"/>
                </a:lnTo>
                <a:lnTo>
                  <a:pt x="1745" y="1557"/>
                </a:lnTo>
                <a:lnTo>
                  <a:pt x="1738" y="1564"/>
                </a:lnTo>
                <a:lnTo>
                  <a:pt x="1731" y="1564"/>
                </a:lnTo>
                <a:lnTo>
                  <a:pt x="1724" y="1571"/>
                </a:lnTo>
                <a:lnTo>
                  <a:pt x="1710" y="1571"/>
                </a:lnTo>
                <a:lnTo>
                  <a:pt x="1703" y="1578"/>
                </a:lnTo>
                <a:lnTo>
                  <a:pt x="1697" y="1578"/>
                </a:lnTo>
                <a:lnTo>
                  <a:pt x="1690" y="1578"/>
                </a:lnTo>
                <a:lnTo>
                  <a:pt x="1676" y="1585"/>
                </a:lnTo>
                <a:lnTo>
                  <a:pt x="1676" y="1592"/>
                </a:lnTo>
                <a:lnTo>
                  <a:pt x="1669" y="1592"/>
                </a:lnTo>
                <a:lnTo>
                  <a:pt x="1662" y="1599"/>
                </a:lnTo>
                <a:lnTo>
                  <a:pt x="1655" y="1605"/>
                </a:lnTo>
                <a:lnTo>
                  <a:pt x="1648" y="1605"/>
                </a:lnTo>
                <a:lnTo>
                  <a:pt x="1641" y="1612"/>
                </a:lnTo>
                <a:lnTo>
                  <a:pt x="1628" y="1612"/>
                </a:lnTo>
                <a:lnTo>
                  <a:pt x="1621" y="1612"/>
                </a:lnTo>
                <a:lnTo>
                  <a:pt x="1607" y="1612"/>
                </a:lnTo>
                <a:lnTo>
                  <a:pt x="1600" y="1612"/>
                </a:lnTo>
                <a:lnTo>
                  <a:pt x="1593" y="1619"/>
                </a:lnTo>
                <a:lnTo>
                  <a:pt x="1586" y="1619"/>
                </a:lnTo>
                <a:lnTo>
                  <a:pt x="1579" y="1626"/>
                </a:lnTo>
                <a:lnTo>
                  <a:pt x="1572" y="1633"/>
                </a:lnTo>
                <a:lnTo>
                  <a:pt x="1566" y="1633"/>
                </a:lnTo>
                <a:lnTo>
                  <a:pt x="1559" y="1640"/>
                </a:lnTo>
                <a:lnTo>
                  <a:pt x="1545" y="1640"/>
                </a:lnTo>
                <a:lnTo>
                  <a:pt x="1538" y="1647"/>
                </a:lnTo>
                <a:lnTo>
                  <a:pt x="1531" y="1647"/>
                </a:lnTo>
                <a:lnTo>
                  <a:pt x="1524" y="1654"/>
                </a:lnTo>
                <a:lnTo>
                  <a:pt x="1517" y="1660"/>
                </a:lnTo>
                <a:lnTo>
                  <a:pt x="1510" y="1660"/>
                </a:lnTo>
                <a:lnTo>
                  <a:pt x="1503" y="1667"/>
                </a:lnTo>
                <a:lnTo>
                  <a:pt x="1503" y="1674"/>
                </a:lnTo>
                <a:lnTo>
                  <a:pt x="1497" y="1681"/>
                </a:lnTo>
                <a:lnTo>
                  <a:pt x="1497" y="1688"/>
                </a:lnTo>
                <a:lnTo>
                  <a:pt x="1490" y="1695"/>
                </a:lnTo>
                <a:lnTo>
                  <a:pt x="1490" y="1695"/>
                </a:lnTo>
                <a:lnTo>
                  <a:pt x="1483" y="1702"/>
                </a:lnTo>
                <a:lnTo>
                  <a:pt x="1483" y="1709"/>
                </a:lnTo>
                <a:lnTo>
                  <a:pt x="1476" y="1716"/>
                </a:lnTo>
                <a:lnTo>
                  <a:pt x="1462" y="1716"/>
                </a:lnTo>
                <a:lnTo>
                  <a:pt x="1455" y="1722"/>
                </a:lnTo>
                <a:lnTo>
                  <a:pt x="1455" y="1729"/>
                </a:lnTo>
                <a:lnTo>
                  <a:pt x="1455" y="1736"/>
                </a:lnTo>
                <a:lnTo>
                  <a:pt x="1455" y="1736"/>
                </a:lnTo>
                <a:lnTo>
                  <a:pt x="1455" y="1750"/>
                </a:lnTo>
                <a:lnTo>
                  <a:pt x="1448" y="1757"/>
                </a:lnTo>
                <a:lnTo>
                  <a:pt x="1441" y="1757"/>
                </a:lnTo>
                <a:lnTo>
                  <a:pt x="1441" y="1750"/>
                </a:lnTo>
                <a:lnTo>
                  <a:pt x="1434" y="1743"/>
                </a:lnTo>
                <a:lnTo>
                  <a:pt x="1428" y="1736"/>
                </a:lnTo>
                <a:lnTo>
                  <a:pt x="1428" y="1729"/>
                </a:lnTo>
                <a:lnTo>
                  <a:pt x="1421" y="1722"/>
                </a:lnTo>
                <a:lnTo>
                  <a:pt x="1414" y="1722"/>
                </a:lnTo>
                <a:lnTo>
                  <a:pt x="1407" y="1722"/>
                </a:lnTo>
                <a:lnTo>
                  <a:pt x="1400" y="1729"/>
                </a:lnTo>
                <a:lnTo>
                  <a:pt x="1393" y="1736"/>
                </a:lnTo>
                <a:lnTo>
                  <a:pt x="1386" y="1736"/>
                </a:lnTo>
                <a:lnTo>
                  <a:pt x="1372" y="1743"/>
                </a:lnTo>
                <a:lnTo>
                  <a:pt x="1366" y="1743"/>
                </a:lnTo>
                <a:lnTo>
                  <a:pt x="1359" y="1743"/>
                </a:lnTo>
                <a:lnTo>
                  <a:pt x="1352" y="1750"/>
                </a:lnTo>
                <a:lnTo>
                  <a:pt x="1338" y="1750"/>
                </a:lnTo>
                <a:lnTo>
                  <a:pt x="1331" y="1750"/>
                </a:lnTo>
                <a:lnTo>
                  <a:pt x="1324" y="1757"/>
                </a:lnTo>
                <a:lnTo>
                  <a:pt x="1310" y="1757"/>
                </a:lnTo>
                <a:lnTo>
                  <a:pt x="1303" y="1764"/>
                </a:lnTo>
                <a:lnTo>
                  <a:pt x="1297" y="1764"/>
                </a:lnTo>
                <a:lnTo>
                  <a:pt x="1283" y="1764"/>
                </a:lnTo>
                <a:lnTo>
                  <a:pt x="1276" y="1771"/>
                </a:lnTo>
                <a:lnTo>
                  <a:pt x="1269" y="1778"/>
                </a:lnTo>
                <a:lnTo>
                  <a:pt x="1269" y="1784"/>
                </a:lnTo>
                <a:lnTo>
                  <a:pt x="1269" y="1791"/>
                </a:lnTo>
                <a:lnTo>
                  <a:pt x="1269" y="1791"/>
                </a:lnTo>
                <a:lnTo>
                  <a:pt x="1262" y="1798"/>
                </a:lnTo>
                <a:lnTo>
                  <a:pt x="1262" y="1805"/>
                </a:lnTo>
                <a:lnTo>
                  <a:pt x="1262" y="1812"/>
                </a:lnTo>
                <a:lnTo>
                  <a:pt x="1262" y="1819"/>
                </a:lnTo>
                <a:lnTo>
                  <a:pt x="1262" y="1826"/>
                </a:lnTo>
                <a:lnTo>
                  <a:pt x="1262" y="1833"/>
                </a:lnTo>
                <a:lnTo>
                  <a:pt x="1262" y="1840"/>
                </a:lnTo>
                <a:lnTo>
                  <a:pt x="1269" y="1840"/>
                </a:lnTo>
                <a:lnTo>
                  <a:pt x="1297" y="1840"/>
                </a:lnTo>
                <a:lnTo>
                  <a:pt x="1310" y="1840"/>
                </a:lnTo>
                <a:close/>
                <a:moveTo>
                  <a:pt x="1386" y="1840"/>
                </a:moveTo>
                <a:lnTo>
                  <a:pt x="1379" y="1833"/>
                </a:lnTo>
                <a:lnTo>
                  <a:pt x="1372" y="1833"/>
                </a:lnTo>
                <a:lnTo>
                  <a:pt x="1366" y="1833"/>
                </a:lnTo>
                <a:lnTo>
                  <a:pt x="1366" y="1833"/>
                </a:lnTo>
                <a:lnTo>
                  <a:pt x="1359" y="1833"/>
                </a:lnTo>
                <a:lnTo>
                  <a:pt x="1352" y="1833"/>
                </a:lnTo>
                <a:lnTo>
                  <a:pt x="1352" y="1833"/>
                </a:lnTo>
                <a:lnTo>
                  <a:pt x="1345" y="1840"/>
                </a:lnTo>
                <a:lnTo>
                  <a:pt x="1359" y="1840"/>
                </a:lnTo>
                <a:lnTo>
                  <a:pt x="1386" y="1840"/>
                </a:lnTo>
                <a:close/>
                <a:moveTo>
                  <a:pt x="1517" y="1722"/>
                </a:moveTo>
                <a:lnTo>
                  <a:pt x="1524" y="1716"/>
                </a:lnTo>
                <a:lnTo>
                  <a:pt x="1524" y="1716"/>
                </a:lnTo>
                <a:lnTo>
                  <a:pt x="1531" y="1709"/>
                </a:lnTo>
                <a:lnTo>
                  <a:pt x="1538" y="1709"/>
                </a:lnTo>
                <a:lnTo>
                  <a:pt x="1538" y="1716"/>
                </a:lnTo>
                <a:lnTo>
                  <a:pt x="1545" y="1716"/>
                </a:lnTo>
                <a:lnTo>
                  <a:pt x="1545" y="1716"/>
                </a:lnTo>
                <a:lnTo>
                  <a:pt x="1545" y="1722"/>
                </a:lnTo>
                <a:lnTo>
                  <a:pt x="1538" y="1722"/>
                </a:lnTo>
                <a:lnTo>
                  <a:pt x="1538" y="1729"/>
                </a:lnTo>
                <a:lnTo>
                  <a:pt x="1531" y="1729"/>
                </a:lnTo>
                <a:lnTo>
                  <a:pt x="1531" y="1729"/>
                </a:lnTo>
                <a:lnTo>
                  <a:pt x="1524" y="1722"/>
                </a:lnTo>
                <a:lnTo>
                  <a:pt x="1517" y="1722"/>
                </a:lnTo>
                <a:close/>
                <a:moveTo>
                  <a:pt x="1697" y="1543"/>
                </a:moveTo>
                <a:lnTo>
                  <a:pt x="1690" y="1537"/>
                </a:lnTo>
                <a:lnTo>
                  <a:pt x="1690" y="1530"/>
                </a:lnTo>
                <a:lnTo>
                  <a:pt x="1683" y="1530"/>
                </a:lnTo>
                <a:lnTo>
                  <a:pt x="1676" y="1530"/>
                </a:lnTo>
                <a:lnTo>
                  <a:pt x="1662" y="1537"/>
                </a:lnTo>
                <a:lnTo>
                  <a:pt x="1655" y="1537"/>
                </a:lnTo>
                <a:lnTo>
                  <a:pt x="1655" y="1543"/>
                </a:lnTo>
                <a:lnTo>
                  <a:pt x="1662" y="1550"/>
                </a:lnTo>
                <a:lnTo>
                  <a:pt x="1669" y="1557"/>
                </a:lnTo>
                <a:lnTo>
                  <a:pt x="1676" y="1557"/>
                </a:lnTo>
                <a:lnTo>
                  <a:pt x="1683" y="1557"/>
                </a:lnTo>
                <a:lnTo>
                  <a:pt x="1690" y="1557"/>
                </a:lnTo>
                <a:lnTo>
                  <a:pt x="1690" y="1550"/>
                </a:lnTo>
                <a:lnTo>
                  <a:pt x="1697" y="1543"/>
                </a:lnTo>
                <a:close/>
                <a:moveTo>
                  <a:pt x="1896" y="1481"/>
                </a:moveTo>
                <a:lnTo>
                  <a:pt x="1903" y="1475"/>
                </a:lnTo>
                <a:lnTo>
                  <a:pt x="1903" y="1468"/>
                </a:lnTo>
                <a:lnTo>
                  <a:pt x="1910" y="1461"/>
                </a:lnTo>
                <a:lnTo>
                  <a:pt x="1917" y="1461"/>
                </a:lnTo>
                <a:lnTo>
                  <a:pt x="1924" y="1468"/>
                </a:lnTo>
                <a:lnTo>
                  <a:pt x="1931" y="1468"/>
                </a:lnTo>
                <a:lnTo>
                  <a:pt x="1938" y="1475"/>
                </a:lnTo>
                <a:lnTo>
                  <a:pt x="1938" y="1481"/>
                </a:lnTo>
                <a:lnTo>
                  <a:pt x="1938" y="1488"/>
                </a:lnTo>
                <a:lnTo>
                  <a:pt x="1931" y="1488"/>
                </a:lnTo>
                <a:lnTo>
                  <a:pt x="1917" y="1488"/>
                </a:lnTo>
                <a:lnTo>
                  <a:pt x="1910" y="1488"/>
                </a:lnTo>
                <a:lnTo>
                  <a:pt x="1903" y="1488"/>
                </a:lnTo>
                <a:lnTo>
                  <a:pt x="1896" y="1481"/>
                </a:lnTo>
                <a:close/>
                <a:moveTo>
                  <a:pt x="2648" y="1275"/>
                </a:moveTo>
                <a:lnTo>
                  <a:pt x="2655" y="1268"/>
                </a:lnTo>
                <a:lnTo>
                  <a:pt x="2655" y="1268"/>
                </a:lnTo>
                <a:lnTo>
                  <a:pt x="2662" y="1268"/>
                </a:lnTo>
                <a:lnTo>
                  <a:pt x="2662" y="1275"/>
                </a:lnTo>
                <a:lnTo>
                  <a:pt x="2669" y="1275"/>
                </a:lnTo>
                <a:lnTo>
                  <a:pt x="2669" y="1282"/>
                </a:lnTo>
                <a:lnTo>
                  <a:pt x="2662" y="1282"/>
                </a:lnTo>
                <a:lnTo>
                  <a:pt x="2662" y="1289"/>
                </a:lnTo>
                <a:lnTo>
                  <a:pt x="2662" y="1289"/>
                </a:lnTo>
                <a:lnTo>
                  <a:pt x="2655" y="1289"/>
                </a:lnTo>
                <a:lnTo>
                  <a:pt x="2655" y="1289"/>
                </a:lnTo>
                <a:lnTo>
                  <a:pt x="2655" y="1289"/>
                </a:lnTo>
                <a:lnTo>
                  <a:pt x="2655" y="1282"/>
                </a:lnTo>
                <a:lnTo>
                  <a:pt x="2648" y="1275"/>
                </a:lnTo>
                <a:close/>
                <a:moveTo>
                  <a:pt x="1745" y="1247"/>
                </a:moveTo>
                <a:lnTo>
                  <a:pt x="1745" y="1247"/>
                </a:lnTo>
                <a:lnTo>
                  <a:pt x="1745" y="1247"/>
                </a:lnTo>
                <a:lnTo>
                  <a:pt x="1745" y="1247"/>
                </a:lnTo>
                <a:lnTo>
                  <a:pt x="1738" y="1247"/>
                </a:lnTo>
                <a:lnTo>
                  <a:pt x="1738" y="1247"/>
                </a:lnTo>
                <a:lnTo>
                  <a:pt x="1738" y="1247"/>
                </a:lnTo>
                <a:lnTo>
                  <a:pt x="1738" y="1247"/>
                </a:lnTo>
                <a:lnTo>
                  <a:pt x="1738" y="1247"/>
                </a:lnTo>
                <a:lnTo>
                  <a:pt x="1738" y="1247"/>
                </a:lnTo>
                <a:lnTo>
                  <a:pt x="1738" y="1247"/>
                </a:lnTo>
                <a:lnTo>
                  <a:pt x="1745" y="1247"/>
                </a:lnTo>
                <a:lnTo>
                  <a:pt x="1745" y="1247"/>
                </a:lnTo>
                <a:lnTo>
                  <a:pt x="1745" y="1247"/>
                </a:lnTo>
                <a:lnTo>
                  <a:pt x="1745" y="1247"/>
                </a:lnTo>
                <a:close/>
                <a:moveTo>
                  <a:pt x="1717" y="1213"/>
                </a:moveTo>
                <a:lnTo>
                  <a:pt x="1717" y="1213"/>
                </a:lnTo>
                <a:lnTo>
                  <a:pt x="1717" y="1206"/>
                </a:lnTo>
                <a:lnTo>
                  <a:pt x="1710" y="1206"/>
                </a:lnTo>
                <a:lnTo>
                  <a:pt x="1703" y="1206"/>
                </a:lnTo>
                <a:lnTo>
                  <a:pt x="1697" y="1206"/>
                </a:lnTo>
                <a:lnTo>
                  <a:pt x="1690" y="1213"/>
                </a:lnTo>
                <a:lnTo>
                  <a:pt x="1690" y="1220"/>
                </a:lnTo>
                <a:lnTo>
                  <a:pt x="1690" y="1220"/>
                </a:lnTo>
                <a:lnTo>
                  <a:pt x="1697" y="1227"/>
                </a:lnTo>
                <a:lnTo>
                  <a:pt x="1703" y="1227"/>
                </a:lnTo>
                <a:lnTo>
                  <a:pt x="1710" y="1227"/>
                </a:lnTo>
                <a:lnTo>
                  <a:pt x="1717" y="1227"/>
                </a:lnTo>
                <a:lnTo>
                  <a:pt x="1717" y="1220"/>
                </a:lnTo>
                <a:lnTo>
                  <a:pt x="1717" y="1213"/>
                </a:lnTo>
                <a:close/>
                <a:moveTo>
                  <a:pt x="1697" y="1185"/>
                </a:moveTo>
                <a:lnTo>
                  <a:pt x="1697" y="1178"/>
                </a:lnTo>
                <a:lnTo>
                  <a:pt x="1690" y="1171"/>
                </a:lnTo>
                <a:lnTo>
                  <a:pt x="1683" y="1171"/>
                </a:lnTo>
                <a:lnTo>
                  <a:pt x="1683" y="1165"/>
                </a:lnTo>
                <a:lnTo>
                  <a:pt x="1676" y="1158"/>
                </a:lnTo>
                <a:lnTo>
                  <a:pt x="1676" y="1151"/>
                </a:lnTo>
                <a:lnTo>
                  <a:pt x="1669" y="1144"/>
                </a:lnTo>
                <a:lnTo>
                  <a:pt x="1662" y="1137"/>
                </a:lnTo>
                <a:lnTo>
                  <a:pt x="1662" y="1130"/>
                </a:lnTo>
                <a:lnTo>
                  <a:pt x="1655" y="1130"/>
                </a:lnTo>
                <a:lnTo>
                  <a:pt x="1655" y="1123"/>
                </a:lnTo>
                <a:lnTo>
                  <a:pt x="1648" y="1116"/>
                </a:lnTo>
                <a:lnTo>
                  <a:pt x="1648" y="1109"/>
                </a:lnTo>
                <a:lnTo>
                  <a:pt x="1641" y="1103"/>
                </a:lnTo>
                <a:lnTo>
                  <a:pt x="1634" y="1096"/>
                </a:lnTo>
                <a:lnTo>
                  <a:pt x="1634" y="1089"/>
                </a:lnTo>
                <a:lnTo>
                  <a:pt x="1628" y="1089"/>
                </a:lnTo>
                <a:lnTo>
                  <a:pt x="1628" y="1082"/>
                </a:lnTo>
                <a:lnTo>
                  <a:pt x="1621" y="1075"/>
                </a:lnTo>
                <a:lnTo>
                  <a:pt x="1621" y="1068"/>
                </a:lnTo>
                <a:lnTo>
                  <a:pt x="1614" y="1061"/>
                </a:lnTo>
                <a:lnTo>
                  <a:pt x="1607" y="1054"/>
                </a:lnTo>
                <a:lnTo>
                  <a:pt x="1607" y="1047"/>
                </a:lnTo>
                <a:lnTo>
                  <a:pt x="1600" y="1041"/>
                </a:lnTo>
                <a:lnTo>
                  <a:pt x="1600" y="1041"/>
                </a:lnTo>
                <a:lnTo>
                  <a:pt x="1593" y="1034"/>
                </a:lnTo>
                <a:lnTo>
                  <a:pt x="1586" y="1027"/>
                </a:lnTo>
                <a:lnTo>
                  <a:pt x="1572" y="1027"/>
                </a:lnTo>
                <a:lnTo>
                  <a:pt x="1566" y="1027"/>
                </a:lnTo>
                <a:lnTo>
                  <a:pt x="1559" y="1034"/>
                </a:lnTo>
                <a:lnTo>
                  <a:pt x="1559" y="1041"/>
                </a:lnTo>
                <a:lnTo>
                  <a:pt x="1552" y="1047"/>
                </a:lnTo>
                <a:lnTo>
                  <a:pt x="1545" y="1054"/>
                </a:lnTo>
                <a:lnTo>
                  <a:pt x="1545" y="1054"/>
                </a:lnTo>
                <a:lnTo>
                  <a:pt x="1538" y="1061"/>
                </a:lnTo>
                <a:lnTo>
                  <a:pt x="1538" y="1068"/>
                </a:lnTo>
                <a:lnTo>
                  <a:pt x="1545" y="1075"/>
                </a:lnTo>
                <a:lnTo>
                  <a:pt x="1552" y="1075"/>
                </a:lnTo>
                <a:lnTo>
                  <a:pt x="1566" y="1082"/>
                </a:lnTo>
                <a:lnTo>
                  <a:pt x="1572" y="1089"/>
                </a:lnTo>
                <a:lnTo>
                  <a:pt x="1572" y="1089"/>
                </a:lnTo>
                <a:lnTo>
                  <a:pt x="1579" y="1096"/>
                </a:lnTo>
                <a:lnTo>
                  <a:pt x="1586" y="1103"/>
                </a:lnTo>
                <a:lnTo>
                  <a:pt x="1593" y="1109"/>
                </a:lnTo>
                <a:lnTo>
                  <a:pt x="1600" y="1109"/>
                </a:lnTo>
                <a:lnTo>
                  <a:pt x="1607" y="1116"/>
                </a:lnTo>
                <a:lnTo>
                  <a:pt x="1614" y="1123"/>
                </a:lnTo>
                <a:lnTo>
                  <a:pt x="1614" y="1130"/>
                </a:lnTo>
                <a:lnTo>
                  <a:pt x="1614" y="1137"/>
                </a:lnTo>
                <a:lnTo>
                  <a:pt x="1621" y="1144"/>
                </a:lnTo>
                <a:lnTo>
                  <a:pt x="1621" y="1144"/>
                </a:lnTo>
                <a:lnTo>
                  <a:pt x="1628" y="1151"/>
                </a:lnTo>
                <a:lnTo>
                  <a:pt x="1634" y="1158"/>
                </a:lnTo>
                <a:lnTo>
                  <a:pt x="1634" y="1165"/>
                </a:lnTo>
                <a:lnTo>
                  <a:pt x="1634" y="1171"/>
                </a:lnTo>
                <a:lnTo>
                  <a:pt x="1634" y="1178"/>
                </a:lnTo>
                <a:lnTo>
                  <a:pt x="1634" y="1185"/>
                </a:lnTo>
                <a:lnTo>
                  <a:pt x="1641" y="1185"/>
                </a:lnTo>
                <a:lnTo>
                  <a:pt x="1655" y="1192"/>
                </a:lnTo>
                <a:lnTo>
                  <a:pt x="1662" y="1199"/>
                </a:lnTo>
                <a:lnTo>
                  <a:pt x="1669" y="1199"/>
                </a:lnTo>
                <a:lnTo>
                  <a:pt x="1676" y="1206"/>
                </a:lnTo>
                <a:lnTo>
                  <a:pt x="1683" y="1213"/>
                </a:lnTo>
                <a:lnTo>
                  <a:pt x="1683" y="1213"/>
                </a:lnTo>
                <a:lnTo>
                  <a:pt x="1690" y="1213"/>
                </a:lnTo>
                <a:lnTo>
                  <a:pt x="1690" y="1206"/>
                </a:lnTo>
                <a:lnTo>
                  <a:pt x="1697" y="1199"/>
                </a:lnTo>
                <a:lnTo>
                  <a:pt x="1697" y="1185"/>
                </a:lnTo>
                <a:close/>
                <a:moveTo>
                  <a:pt x="1607" y="1158"/>
                </a:moveTo>
                <a:lnTo>
                  <a:pt x="1600" y="1151"/>
                </a:lnTo>
                <a:lnTo>
                  <a:pt x="1600" y="1151"/>
                </a:lnTo>
                <a:lnTo>
                  <a:pt x="1593" y="1151"/>
                </a:lnTo>
                <a:lnTo>
                  <a:pt x="1586" y="1151"/>
                </a:lnTo>
                <a:lnTo>
                  <a:pt x="1579" y="1158"/>
                </a:lnTo>
                <a:lnTo>
                  <a:pt x="1579" y="1158"/>
                </a:lnTo>
                <a:lnTo>
                  <a:pt x="1579" y="1165"/>
                </a:lnTo>
                <a:lnTo>
                  <a:pt x="1586" y="1171"/>
                </a:lnTo>
                <a:lnTo>
                  <a:pt x="1593" y="1171"/>
                </a:lnTo>
                <a:lnTo>
                  <a:pt x="1593" y="1171"/>
                </a:lnTo>
                <a:lnTo>
                  <a:pt x="1600" y="1171"/>
                </a:lnTo>
                <a:lnTo>
                  <a:pt x="1600" y="1165"/>
                </a:lnTo>
                <a:lnTo>
                  <a:pt x="1607" y="1165"/>
                </a:lnTo>
                <a:lnTo>
                  <a:pt x="1607" y="1158"/>
                </a:lnTo>
                <a:close/>
                <a:moveTo>
                  <a:pt x="1572" y="1130"/>
                </a:moveTo>
                <a:lnTo>
                  <a:pt x="1572" y="1123"/>
                </a:lnTo>
                <a:lnTo>
                  <a:pt x="1566" y="1116"/>
                </a:lnTo>
                <a:lnTo>
                  <a:pt x="1559" y="1116"/>
                </a:lnTo>
                <a:lnTo>
                  <a:pt x="1552" y="1123"/>
                </a:lnTo>
                <a:lnTo>
                  <a:pt x="1552" y="1123"/>
                </a:lnTo>
                <a:lnTo>
                  <a:pt x="1552" y="1130"/>
                </a:lnTo>
                <a:lnTo>
                  <a:pt x="1552" y="1137"/>
                </a:lnTo>
                <a:lnTo>
                  <a:pt x="1559" y="1144"/>
                </a:lnTo>
                <a:lnTo>
                  <a:pt x="1559" y="1144"/>
                </a:lnTo>
                <a:lnTo>
                  <a:pt x="1566" y="1144"/>
                </a:lnTo>
                <a:lnTo>
                  <a:pt x="1566" y="1144"/>
                </a:lnTo>
                <a:lnTo>
                  <a:pt x="1572" y="1144"/>
                </a:lnTo>
                <a:lnTo>
                  <a:pt x="1572" y="1137"/>
                </a:lnTo>
                <a:lnTo>
                  <a:pt x="1572" y="1130"/>
                </a:lnTo>
                <a:close/>
                <a:moveTo>
                  <a:pt x="2614" y="951"/>
                </a:moveTo>
                <a:lnTo>
                  <a:pt x="2620" y="944"/>
                </a:lnTo>
                <a:lnTo>
                  <a:pt x="2620" y="944"/>
                </a:lnTo>
                <a:lnTo>
                  <a:pt x="2627" y="937"/>
                </a:lnTo>
                <a:lnTo>
                  <a:pt x="2627" y="937"/>
                </a:lnTo>
                <a:lnTo>
                  <a:pt x="2627" y="937"/>
                </a:lnTo>
                <a:lnTo>
                  <a:pt x="2634" y="944"/>
                </a:lnTo>
                <a:lnTo>
                  <a:pt x="2634" y="944"/>
                </a:lnTo>
                <a:lnTo>
                  <a:pt x="2634" y="951"/>
                </a:lnTo>
                <a:lnTo>
                  <a:pt x="2634" y="951"/>
                </a:lnTo>
                <a:lnTo>
                  <a:pt x="2627" y="951"/>
                </a:lnTo>
                <a:lnTo>
                  <a:pt x="2627" y="958"/>
                </a:lnTo>
                <a:lnTo>
                  <a:pt x="2620" y="951"/>
                </a:lnTo>
                <a:lnTo>
                  <a:pt x="2620" y="951"/>
                </a:lnTo>
                <a:lnTo>
                  <a:pt x="2614" y="951"/>
                </a:lnTo>
                <a:close/>
                <a:moveTo>
                  <a:pt x="2441" y="827"/>
                </a:moveTo>
                <a:lnTo>
                  <a:pt x="2441" y="827"/>
                </a:lnTo>
                <a:lnTo>
                  <a:pt x="2448" y="827"/>
                </a:lnTo>
                <a:lnTo>
                  <a:pt x="2448" y="827"/>
                </a:lnTo>
                <a:lnTo>
                  <a:pt x="2448" y="827"/>
                </a:lnTo>
                <a:lnTo>
                  <a:pt x="2448" y="827"/>
                </a:lnTo>
                <a:lnTo>
                  <a:pt x="2455" y="827"/>
                </a:lnTo>
                <a:lnTo>
                  <a:pt x="2455" y="834"/>
                </a:lnTo>
                <a:lnTo>
                  <a:pt x="2455" y="834"/>
                </a:lnTo>
                <a:lnTo>
                  <a:pt x="2448" y="834"/>
                </a:lnTo>
                <a:lnTo>
                  <a:pt x="2448" y="834"/>
                </a:lnTo>
                <a:lnTo>
                  <a:pt x="2448" y="834"/>
                </a:lnTo>
                <a:lnTo>
                  <a:pt x="2448" y="834"/>
                </a:lnTo>
                <a:lnTo>
                  <a:pt x="2441" y="834"/>
                </a:lnTo>
                <a:lnTo>
                  <a:pt x="2441" y="827"/>
                </a:lnTo>
                <a:close/>
                <a:moveTo>
                  <a:pt x="324" y="710"/>
                </a:moveTo>
                <a:lnTo>
                  <a:pt x="331" y="703"/>
                </a:lnTo>
                <a:lnTo>
                  <a:pt x="331" y="696"/>
                </a:lnTo>
                <a:lnTo>
                  <a:pt x="338" y="696"/>
                </a:lnTo>
                <a:lnTo>
                  <a:pt x="338" y="689"/>
                </a:lnTo>
                <a:lnTo>
                  <a:pt x="338" y="682"/>
                </a:lnTo>
                <a:lnTo>
                  <a:pt x="345" y="675"/>
                </a:lnTo>
                <a:lnTo>
                  <a:pt x="345" y="669"/>
                </a:lnTo>
                <a:lnTo>
                  <a:pt x="352" y="662"/>
                </a:lnTo>
                <a:lnTo>
                  <a:pt x="359" y="655"/>
                </a:lnTo>
                <a:lnTo>
                  <a:pt x="366" y="655"/>
                </a:lnTo>
                <a:lnTo>
                  <a:pt x="373" y="655"/>
                </a:lnTo>
                <a:lnTo>
                  <a:pt x="386" y="655"/>
                </a:lnTo>
                <a:lnTo>
                  <a:pt x="393" y="662"/>
                </a:lnTo>
                <a:lnTo>
                  <a:pt x="407" y="662"/>
                </a:lnTo>
                <a:lnTo>
                  <a:pt x="414" y="669"/>
                </a:lnTo>
                <a:lnTo>
                  <a:pt x="421" y="669"/>
                </a:lnTo>
                <a:lnTo>
                  <a:pt x="428" y="675"/>
                </a:lnTo>
                <a:lnTo>
                  <a:pt x="435" y="682"/>
                </a:lnTo>
                <a:lnTo>
                  <a:pt x="442" y="689"/>
                </a:lnTo>
                <a:lnTo>
                  <a:pt x="442" y="689"/>
                </a:lnTo>
                <a:lnTo>
                  <a:pt x="449" y="689"/>
                </a:lnTo>
                <a:lnTo>
                  <a:pt x="462" y="682"/>
                </a:lnTo>
                <a:lnTo>
                  <a:pt x="469" y="682"/>
                </a:lnTo>
                <a:lnTo>
                  <a:pt x="476" y="675"/>
                </a:lnTo>
                <a:lnTo>
                  <a:pt x="490" y="675"/>
                </a:lnTo>
                <a:lnTo>
                  <a:pt x="497" y="669"/>
                </a:lnTo>
                <a:lnTo>
                  <a:pt x="504" y="669"/>
                </a:lnTo>
                <a:lnTo>
                  <a:pt x="504" y="662"/>
                </a:lnTo>
                <a:lnTo>
                  <a:pt x="511" y="655"/>
                </a:lnTo>
                <a:lnTo>
                  <a:pt x="511" y="648"/>
                </a:lnTo>
                <a:lnTo>
                  <a:pt x="511" y="641"/>
                </a:lnTo>
                <a:lnTo>
                  <a:pt x="511" y="634"/>
                </a:lnTo>
                <a:lnTo>
                  <a:pt x="517" y="627"/>
                </a:lnTo>
                <a:lnTo>
                  <a:pt x="517" y="620"/>
                </a:lnTo>
                <a:lnTo>
                  <a:pt x="517" y="613"/>
                </a:lnTo>
                <a:lnTo>
                  <a:pt x="524" y="607"/>
                </a:lnTo>
                <a:lnTo>
                  <a:pt x="524" y="607"/>
                </a:lnTo>
                <a:lnTo>
                  <a:pt x="531" y="600"/>
                </a:lnTo>
                <a:lnTo>
                  <a:pt x="531" y="593"/>
                </a:lnTo>
                <a:lnTo>
                  <a:pt x="538" y="586"/>
                </a:lnTo>
                <a:lnTo>
                  <a:pt x="552" y="586"/>
                </a:lnTo>
                <a:lnTo>
                  <a:pt x="559" y="586"/>
                </a:lnTo>
                <a:lnTo>
                  <a:pt x="573" y="586"/>
                </a:lnTo>
                <a:lnTo>
                  <a:pt x="580" y="579"/>
                </a:lnTo>
                <a:lnTo>
                  <a:pt x="586" y="572"/>
                </a:lnTo>
                <a:lnTo>
                  <a:pt x="593" y="572"/>
                </a:lnTo>
                <a:lnTo>
                  <a:pt x="593" y="565"/>
                </a:lnTo>
                <a:lnTo>
                  <a:pt x="600" y="558"/>
                </a:lnTo>
                <a:lnTo>
                  <a:pt x="600" y="551"/>
                </a:lnTo>
                <a:lnTo>
                  <a:pt x="607" y="545"/>
                </a:lnTo>
                <a:lnTo>
                  <a:pt x="607" y="538"/>
                </a:lnTo>
                <a:lnTo>
                  <a:pt x="607" y="531"/>
                </a:lnTo>
                <a:lnTo>
                  <a:pt x="607" y="524"/>
                </a:lnTo>
                <a:lnTo>
                  <a:pt x="607" y="517"/>
                </a:lnTo>
                <a:lnTo>
                  <a:pt x="607" y="510"/>
                </a:lnTo>
                <a:lnTo>
                  <a:pt x="614" y="503"/>
                </a:lnTo>
                <a:lnTo>
                  <a:pt x="614" y="496"/>
                </a:lnTo>
                <a:lnTo>
                  <a:pt x="614" y="496"/>
                </a:lnTo>
                <a:lnTo>
                  <a:pt x="621" y="489"/>
                </a:lnTo>
                <a:lnTo>
                  <a:pt x="621" y="483"/>
                </a:lnTo>
                <a:lnTo>
                  <a:pt x="621" y="476"/>
                </a:lnTo>
                <a:lnTo>
                  <a:pt x="628" y="469"/>
                </a:lnTo>
                <a:lnTo>
                  <a:pt x="628" y="462"/>
                </a:lnTo>
                <a:lnTo>
                  <a:pt x="628" y="455"/>
                </a:lnTo>
                <a:lnTo>
                  <a:pt x="635" y="448"/>
                </a:lnTo>
                <a:lnTo>
                  <a:pt x="635" y="441"/>
                </a:lnTo>
                <a:lnTo>
                  <a:pt x="642" y="434"/>
                </a:lnTo>
                <a:lnTo>
                  <a:pt x="642" y="434"/>
                </a:lnTo>
                <a:lnTo>
                  <a:pt x="648" y="427"/>
                </a:lnTo>
                <a:lnTo>
                  <a:pt x="648" y="421"/>
                </a:lnTo>
                <a:lnTo>
                  <a:pt x="648" y="414"/>
                </a:lnTo>
                <a:lnTo>
                  <a:pt x="655" y="407"/>
                </a:lnTo>
                <a:lnTo>
                  <a:pt x="655" y="400"/>
                </a:lnTo>
                <a:lnTo>
                  <a:pt x="655" y="393"/>
                </a:lnTo>
                <a:lnTo>
                  <a:pt x="662" y="386"/>
                </a:lnTo>
                <a:lnTo>
                  <a:pt x="662" y="379"/>
                </a:lnTo>
                <a:lnTo>
                  <a:pt x="662" y="372"/>
                </a:lnTo>
                <a:lnTo>
                  <a:pt x="669" y="365"/>
                </a:lnTo>
                <a:lnTo>
                  <a:pt x="669" y="359"/>
                </a:lnTo>
                <a:lnTo>
                  <a:pt x="676" y="359"/>
                </a:lnTo>
                <a:lnTo>
                  <a:pt x="676" y="352"/>
                </a:lnTo>
                <a:lnTo>
                  <a:pt x="683" y="345"/>
                </a:lnTo>
                <a:lnTo>
                  <a:pt x="683" y="338"/>
                </a:lnTo>
                <a:lnTo>
                  <a:pt x="683" y="331"/>
                </a:lnTo>
                <a:lnTo>
                  <a:pt x="690" y="324"/>
                </a:lnTo>
                <a:lnTo>
                  <a:pt x="690" y="317"/>
                </a:lnTo>
                <a:lnTo>
                  <a:pt x="690" y="310"/>
                </a:lnTo>
                <a:lnTo>
                  <a:pt x="697" y="303"/>
                </a:lnTo>
                <a:lnTo>
                  <a:pt x="697" y="297"/>
                </a:lnTo>
                <a:lnTo>
                  <a:pt x="697" y="290"/>
                </a:lnTo>
                <a:lnTo>
                  <a:pt x="704" y="290"/>
                </a:lnTo>
                <a:lnTo>
                  <a:pt x="704" y="283"/>
                </a:lnTo>
                <a:lnTo>
                  <a:pt x="711" y="276"/>
                </a:lnTo>
                <a:lnTo>
                  <a:pt x="711" y="269"/>
                </a:lnTo>
                <a:lnTo>
                  <a:pt x="717" y="262"/>
                </a:lnTo>
                <a:lnTo>
                  <a:pt x="724" y="255"/>
                </a:lnTo>
                <a:lnTo>
                  <a:pt x="724" y="255"/>
                </a:lnTo>
                <a:lnTo>
                  <a:pt x="731" y="248"/>
                </a:lnTo>
                <a:lnTo>
                  <a:pt x="731" y="241"/>
                </a:lnTo>
                <a:lnTo>
                  <a:pt x="731" y="235"/>
                </a:lnTo>
                <a:lnTo>
                  <a:pt x="731" y="228"/>
                </a:lnTo>
                <a:lnTo>
                  <a:pt x="738" y="221"/>
                </a:lnTo>
                <a:lnTo>
                  <a:pt x="745" y="214"/>
                </a:lnTo>
                <a:lnTo>
                  <a:pt x="752" y="207"/>
                </a:lnTo>
                <a:lnTo>
                  <a:pt x="759" y="207"/>
                </a:lnTo>
                <a:lnTo>
                  <a:pt x="766" y="200"/>
                </a:lnTo>
                <a:lnTo>
                  <a:pt x="773" y="193"/>
                </a:lnTo>
                <a:lnTo>
                  <a:pt x="779" y="193"/>
                </a:lnTo>
                <a:lnTo>
                  <a:pt x="786" y="186"/>
                </a:lnTo>
                <a:lnTo>
                  <a:pt x="793" y="179"/>
                </a:lnTo>
                <a:lnTo>
                  <a:pt x="800" y="179"/>
                </a:lnTo>
                <a:lnTo>
                  <a:pt x="807" y="173"/>
                </a:lnTo>
                <a:lnTo>
                  <a:pt x="814" y="166"/>
                </a:lnTo>
                <a:lnTo>
                  <a:pt x="828" y="166"/>
                </a:lnTo>
                <a:lnTo>
                  <a:pt x="828" y="173"/>
                </a:lnTo>
                <a:lnTo>
                  <a:pt x="835" y="179"/>
                </a:lnTo>
                <a:lnTo>
                  <a:pt x="842" y="186"/>
                </a:lnTo>
                <a:lnTo>
                  <a:pt x="848" y="186"/>
                </a:lnTo>
                <a:lnTo>
                  <a:pt x="855" y="193"/>
                </a:lnTo>
                <a:lnTo>
                  <a:pt x="862" y="200"/>
                </a:lnTo>
                <a:lnTo>
                  <a:pt x="869" y="207"/>
                </a:lnTo>
                <a:lnTo>
                  <a:pt x="869" y="207"/>
                </a:lnTo>
                <a:lnTo>
                  <a:pt x="876" y="214"/>
                </a:lnTo>
                <a:lnTo>
                  <a:pt x="883" y="221"/>
                </a:lnTo>
                <a:lnTo>
                  <a:pt x="890" y="228"/>
                </a:lnTo>
                <a:lnTo>
                  <a:pt x="897" y="228"/>
                </a:lnTo>
                <a:lnTo>
                  <a:pt x="897" y="235"/>
                </a:lnTo>
                <a:lnTo>
                  <a:pt x="904" y="241"/>
                </a:lnTo>
                <a:lnTo>
                  <a:pt x="910" y="248"/>
                </a:lnTo>
                <a:lnTo>
                  <a:pt x="910" y="255"/>
                </a:lnTo>
                <a:lnTo>
                  <a:pt x="917" y="262"/>
                </a:lnTo>
                <a:lnTo>
                  <a:pt x="924" y="255"/>
                </a:lnTo>
                <a:lnTo>
                  <a:pt x="931" y="255"/>
                </a:lnTo>
                <a:lnTo>
                  <a:pt x="938" y="248"/>
                </a:lnTo>
                <a:lnTo>
                  <a:pt x="945" y="241"/>
                </a:lnTo>
                <a:lnTo>
                  <a:pt x="952" y="241"/>
                </a:lnTo>
                <a:lnTo>
                  <a:pt x="959" y="235"/>
                </a:lnTo>
                <a:lnTo>
                  <a:pt x="966" y="228"/>
                </a:lnTo>
                <a:lnTo>
                  <a:pt x="973" y="221"/>
                </a:lnTo>
                <a:lnTo>
                  <a:pt x="979" y="221"/>
                </a:lnTo>
                <a:lnTo>
                  <a:pt x="993" y="214"/>
                </a:lnTo>
                <a:lnTo>
                  <a:pt x="1000" y="214"/>
                </a:lnTo>
                <a:lnTo>
                  <a:pt x="1007" y="207"/>
                </a:lnTo>
                <a:lnTo>
                  <a:pt x="1014" y="207"/>
                </a:lnTo>
                <a:lnTo>
                  <a:pt x="1014" y="200"/>
                </a:lnTo>
                <a:lnTo>
                  <a:pt x="1014" y="193"/>
                </a:lnTo>
                <a:lnTo>
                  <a:pt x="1014" y="186"/>
                </a:lnTo>
                <a:lnTo>
                  <a:pt x="1007" y="179"/>
                </a:lnTo>
                <a:lnTo>
                  <a:pt x="993" y="173"/>
                </a:lnTo>
                <a:lnTo>
                  <a:pt x="986" y="173"/>
                </a:lnTo>
                <a:lnTo>
                  <a:pt x="979" y="173"/>
                </a:lnTo>
                <a:lnTo>
                  <a:pt x="973" y="166"/>
                </a:lnTo>
                <a:lnTo>
                  <a:pt x="966" y="159"/>
                </a:lnTo>
                <a:lnTo>
                  <a:pt x="966" y="152"/>
                </a:lnTo>
                <a:lnTo>
                  <a:pt x="966" y="145"/>
                </a:lnTo>
                <a:lnTo>
                  <a:pt x="959" y="138"/>
                </a:lnTo>
                <a:lnTo>
                  <a:pt x="952" y="131"/>
                </a:lnTo>
                <a:lnTo>
                  <a:pt x="952" y="124"/>
                </a:lnTo>
                <a:lnTo>
                  <a:pt x="945" y="124"/>
                </a:lnTo>
                <a:lnTo>
                  <a:pt x="952" y="117"/>
                </a:lnTo>
                <a:lnTo>
                  <a:pt x="952" y="111"/>
                </a:lnTo>
                <a:lnTo>
                  <a:pt x="966" y="111"/>
                </a:lnTo>
                <a:lnTo>
                  <a:pt x="973" y="104"/>
                </a:lnTo>
                <a:lnTo>
                  <a:pt x="979" y="97"/>
                </a:lnTo>
                <a:lnTo>
                  <a:pt x="986" y="97"/>
                </a:lnTo>
                <a:lnTo>
                  <a:pt x="993" y="90"/>
                </a:lnTo>
                <a:lnTo>
                  <a:pt x="993" y="83"/>
                </a:lnTo>
                <a:lnTo>
                  <a:pt x="993" y="76"/>
                </a:lnTo>
                <a:lnTo>
                  <a:pt x="993" y="69"/>
                </a:lnTo>
                <a:lnTo>
                  <a:pt x="986" y="62"/>
                </a:lnTo>
                <a:lnTo>
                  <a:pt x="979" y="55"/>
                </a:lnTo>
                <a:lnTo>
                  <a:pt x="973" y="55"/>
                </a:lnTo>
                <a:lnTo>
                  <a:pt x="973" y="49"/>
                </a:lnTo>
                <a:lnTo>
                  <a:pt x="966" y="42"/>
                </a:lnTo>
                <a:lnTo>
                  <a:pt x="959" y="35"/>
                </a:lnTo>
                <a:lnTo>
                  <a:pt x="952" y="35"/>
                </a:lnTo>
                <a:lnTo>
                  <a:pt x="945" y="28"/>
                </a:lnTo>
                <a:lnTo>
                  <a:pt x="938" y="21"/>
                </a:lnTo>
                <a:lnTo>
                  <a:pt x="938" y="14"/>
                </a:lnTo>
                <a:lnTo>
                  <a:pt x="931" y="7"/>
                </a:lnTo>
                <a:lnTo>
                  <a:pt x="924" y="7"/>
                </a:lnTo>
                <a:lnTo>
                  <a:pt x="917" y="0"/>
                </a:lnTo>
                <a:lnTo>
                  <a:pt x="917" y="0"/>
                </a:lnTo>
                <a:lnTo>
                  <a:pt x="883" y="0"/>
                </a:lnTo>
                <a:lnTo>
                  <a:pt x="855" y="0"/>
                </a:lnTo>
                <a:lnTo>
                  <a:pt x="828" y="0"/>
                </a:lnTo>
                <a:lnTo>
                  <a:pt x="793" y="0"/>
                </a:lnTo>
                <a:lnTo>
                  <a:pt x="766" y="0"/>
                </a:lnTo>
                <a:lnTo>
                  <a:pt x="738" y="0"/>
                </a:lnTo>
                <a:lnTo>
                  <a:pt x="711" y="0"/>
                </a:lnTo>
                <a:lnTo>
                  <a:pt x="676" y="0"/>
                </a:lnTo>
                <a:lnTo>
                  <a:pt x="648" y="28"/>
                </a:lnTo>
                <a:lnTo>
                  <a:pt x="621" y="62"/>
                </a:lnTo>
                <a:lnTo>
                  <a:pt x="593" y="90"/>
                </a:lnTo>
                <a:lnTo>
                  <a:pt x="559" y="117"/>
                </a:lnTo>
                <a:lnTo>
                  <a:pt x="545" y="131"/>
                </a:lnTo>
                <a:lnTo>
                  <a:pt x="545" y="138"/>
                </a:lnTo>
                <a:lnTo>
                  <a:pt x="538" y="145"/>
                </a:lnTo>
                <a:lnTo>
                  <a:pt x="531" y="152"/>
                </a:lnTo>
                <a:lnTo>
                  <a:pt x="531" y="159"/>
                </a:lnTo>
                <a:lnTo>
                  <a:pt x="531" y="166"/>
                </a:lnTo>
                <a:lnTo>
                  <a:pt x="524" y="173"/>
                </a:lnTo>
                <a:lnTo>
                  <a:pt x="517" y="179"/>
                </a:lnTo>
                <a:lnTo>
                  <a:pt x="517" y="186"/>
                </a:lnTo>
                <a:lnTo>
                  <a:pt x="511" y="193"/>
                </a:lnTo>
                <a:lnTo>
                  <a:pt x="504" y="200"/>
                </a:lnTo>
                <a:lnTo>
                  <a:pt x="504" y="207"/>
                </a:lnTo>
                <a:lnTo>
                  <a:pt x="497" y="207"/>
                </a:lnTo>
                <a:lnTo>
                  <a:pt x="490" y="214"/>
                </a:lnTo>
                <a:lnTo>
                  <a:pt x="483" y="221"/>
                </a:lnTo>
                <a:lnTo>
                  <a:pt x="476" y="228"/>
                </a:lnTo>
                <a:lnTo>
                  <a:pt x="476" y="235"/>
                </a:lnTo>
                <a:lnTo>
                  <a:pt x="476" y="241"/>
                </a:lnTo>
                <a:lnTo>
                  <a:pt x="483" y="248"/>
                </a:lnTo>
                <a:lnTo>
                  <a:pt x="490" y="255"/>
                </a:lnTo>
                <a:lnTo>
                  <a:pt x="497" y="262"/>
                </a:lnTo>
                <a:lnTo>
                  <a:pt x="504" y="262"/>
                </a:lnTo>
                <a:lnTo>
                  <a:pt x="511" y="262"/>
                </a:lnTo>
                <a:lnTo>
                  <a:pt x="517" y="255"/>
                </a:lnTo>
                <a:lnTo>
                  <a:pt x="524" y="248"/>
                </a:lnTo>
                <a:lnTo>
                  <a:pt x="524" y="235"/>
                </a:lnTo>
                <a:lnTo>
                  <a:pt x="531" y="228"/>
                </a:lnTo>
                <a:lnTo>
                  <a:pt x="538" y="228"/>
                </a:lnTo>
                <a:lnTo>
                  <a:pt x="538" y="241"/>
                </a:lnTo>
                <a:lnTo>
                  <a:pt x="531" y="248"/>
                </a:lnTo>
                <a:lnTo>
                  <a:pt x="524" y="248"/>
                </a:lnTo>
                <a:lnTo>
                  <a:pt x="517" y="255"/>
                </a:lnTo>
                <a:lnTo>
                  <a:pt x="511" y="262"/>
                </a:lnTo>
                <a:lnTo>
                  <a:pt x="511" y="269"/>
                </a:lnTo>
                <a:lnTo>
                  <a:pt x="504" y="276"/>
                </a:lnTo>
                <a:lnTo>
                  <a:pt x="504" y="283"/>
                </a:lnTo>
                <a:lnTo>
                  <a:pt x="504" y="290"/>
                </a:lnTo>
                <a:lnTo>
                  <a:pt x="504" y="297"/>
                </a:lnTo>
                <a:lnTo>
                  <a:pt x="497" y="303"/>
                </a:lnTo>
                <a:lnTo>
                  <a:pt x="497" y="310"/>
                </a:lnTo>
                <a:lnTo>
                  <a:pt x="497" y="317"/>
                </a:lnTo>
                <a:lnTo>
                  <a:pt x="490" y="324"/>
                </a:lnTo>
                <a:lnTo>
                  <a:pt x="490" y="331"/>
                </a:lnTo>
                <a:lnTo>
                  <a:pt x="483" y="338"/>
                </a:lnTo>
                <a:lnTo>
                  <a:pt x="483" y="345"/>
                </a:lnTo>
                <a:lnTo>
                  <a:pt x="476" y="352"/>
                </a:lnTo>
                <a:lnTo>
                  <a:pt x="476" y="359"/>
                </a:lnTo>
                <a:lnTo>
                  <a:pt x="469" y="365"/>
                </a:lnTo>
                <a:lnTo>
                  <a:pt x="469" y="372"/>
                </a:lnTo>
                <a:lnTo>
                  <a:pt x="469" y="379"/>
                </a:lnTo>
                <a:lnTo>
                  <a:pt x="462" y="386"/>
                </a:lnTo>
                <a:lnTo>
                  <a:pt x="462" y="386"/>
                </a:lnTo>
                <a:lnTo>
                  <a:pt x="455" y="393"/>
                </a:lnTo>
                <a:lnTo>
                  <a:pt x="449" y="400"/>
                </a:lnTo>
                <a:lnTo>
                  <a:pt x="449" y="407"/>
                </a:lnTo>
                <a:lnTo>
                  <a:pt x="442" y="414"/>
                </a:lnTo>
                <a:lnTo>
                  <a:pt x="449" y="427"/>
                </a:lnTo>
                <a:lnTo>
                  <a:pt x="449" y="434"/>
                </a:lnTo>
                <a:lnTo>
                  <a:pt x="455" y="441"/>
                </a:lnTo>
                <a:lnTo>
                  <a:pt x="462" y="441"/>
                </a:lnTo>
                <a:lnTo>
                  <a:pt x="476" y="441"/>
                </a:lnTo>
                <a:lnTo>
                  <a:pt x="483" y="434"/>
                </a:lnTo>
                <a:lnTo>
                  <a:pt x="490" y="427"/>
                </a:lnTo>
                <a:lnTo>
                  <a:pt x="497" y="421"/>
                </a:lnTo>
                <a:lnTo>
                  <a:pt x="504" y="421"/>
                </a:lnTo>
                <a:lnTo>
                  <a:pt x="504" y="421"/>
                </a:lnTo>
                <a:lnTo>
                  <a:pt x="504" y="427"/>
                </a:lnTo>
                <a:lnTo>
                  <a:pt x="504" y="434"/>
                </a:lnTo>
                <a:lnTo>
                  <a:pt x="504" y="448"/>
                </a:lnTo>
                <a:lnTo>
                  <a:pt x="504" y="455"/>
                </a:lnTo>
                <a:lnTo>
                  <a:pt x="504" y="462"/>
                </a:lnTo>
                <a:lnTo>
                  <a:pt x="497" y="469"/>
                </a:lnTo>
                <a:lnTo>
                  <a:pt x="497" y="476"/>
                </a:lnTo>
                <a:lnTo>
                  <a:pt x="490" y="476"/>
                </a:lnTo>
                <a:lnTo>
                  <a:pt x="490" y="483"/>
                </a:lnTo>
                <a:lnTo>
                  <a:pt x="483" y="489"/>
                </a:lnTo>
                <a:lnTo>
                  <a:pt x="483" y="496"/>
                </a:lnTo>
                <a:lnTo>
                  <a:pt x="476" y="503"/>
                </a:lnTo>
                <a:lnTo>
                  <a:pt x="476" y="517"/>
                </a:lnTo>
                <a:lnTo>
                  <a:pt x="476" y="517"/>
                </a:lnTo>
                <a:lnTo>
                  <a:pt x="469" y="524"/>
                </a:lnTo>
                <a:lnTo>
                  <a:pt x="462" y="517"/>
                </a:lnTo>
                <a:lnTo>
                  <a:pt x="449" y="510"/>
                </a:lnTo>
                <a:lnTo>
                  <a:pt x="442" y="503"/>
                </a:lnTo>
                <a:lnTo>
                  <a:pt x="442" y="496"/>
                </a:lnTo>
                <a:lnTo>
                  <a:pt x="442" y="489"/>
                </a:lnTo>
                <a:lnTo>
                  <a:pt x="449" y="483"/>
                </a:lnTo>
                <a:lnTo>
                  <a:pt x="449" y="476"/>
                </a:lnTo>
                <a:lnTo>
                  <a:pt x="455" y="469"/>
                </a:lnTo>
                <a:lnTo>
                  <a:pt x="462" y="462"/>
                </a:lnTo>
                <a:lnTo>
                  <a:pt x="469" y="455"/>
                </a:lnTo>
                <a:lnTo>
                  <a:pt x="469" y="448"/>
                </a:lnTo>
                <a:lnTo>
                  <a:pt x="469" y="441"/>
                </a:lnTo>
                <a:lnTo>
                  <a:pt x="462" y="434"/>
                </a:lnTo>
                <a:lnTo>
                  <a:pt x="455" y="427"/>
                </a:lnTo>
                <a:lnTo>
                  <a:pt x="449" y="421"/>
                </a:lnTo>
                <a:lnTo>
                  <a:pt x="442" y="421"/>
                </a:lnTo>
                <a:lnTo>
                  <a:pt x="442" y="421"/>
                </a:lnTo>
                <a:lnTo>
                  <a:pt x="435" y="427"/>
                </a:lnTo>
                <a:lnTo>
                  <a:pt x="435" y="434"/>
                </a:lnTo>
                <a:lnTo>
                  <a:pt x="435" y="441"/>
                </a:lnTo>
                <a:lnTo>
                  <a:pt x="435" y="448"/>
                </a:lnTo>
                <a:lnTo>
                  <a:pt x="428" y="462"/>
                </a:lnTo>
                <a:lnTo>
                  <a:pt x="428" y="469"/>
                </a:lnTo>
                <a:lnTo>
                  <a:pt x="421" y="469"/>
                </a:lnTo>
                <a:lnTo>
                  <a:pt x="414" y="476"/>
                </a:lnTo>
                <a:lnTo>
                  <a:pt x="407" y="476"/>
                </a:lnTo>
                <a:lnTo>
                  <a:pt x="400" y="483"/>
                </a:lnTo>
                <a:lnTo>
                  <a:pt x="400" y="489"/>
                </a:lnTo>
                <a:lnTo>
                  <a:pt x="400" y="503"/>
                </a:lnTo>
                <a:lnTo>
                  <a:pt x="400" y="510"/>
                </a:lnTo>
                <a:lnTo>
                  <a:pt x="393" y="517"/>
                </a:lnTo>
                <a:lnTo>
                  <a:pt x="386" y="517"/>
                </a:lnTo>
                <a:lnTo>
                  <a:pt x="380" y="524"/>
                </a:lnTo>
                <a:lnTo>
                  <a:pt x="373" y="531"/>
                </a:lnTo>
                <a:lnTo>
                  <a:pt x="366" y="538"/>
                </a:lnTo>
                <a:lnTo>
                  <a:pt x="359" y="538"/>
                </a:lnTo>
                <a:lnTo>
                  <a:pt x="352" y="545"/>
                </a:lnTo>
                <a:lnTo>
                  <a:pt x="345" y="551"/>
                </a:lnTo>
                <a:lnTo>
                  <a:pt x="331" y="558"/>
                </a:lnTo>
                <a:lnTo>
                  <a:pt x="324" y="565"/>
                </a:lnTo>
                <a:lnTo>
                  <a:pt x="324" y="565"/>
                </a:lnTo>
                <a:lnTo>
                  <a:pt x="318" y="558"/>
                </a:lnTo>
                <a:lnTo>
                  <a:pt x="311" y="551"/>
                </a:lnTo>
                <a:lnTo>
                  <a:pt x="304" y="545"/>
                </a:lnTo>
                <a:lnTo>
                  <a:pt x="297" y="538"/>
                </a:lnTo>
                <a:lnTo>
                  <a:pt x="283" y="538"/>
                </a:lnTo>
                <a:lnTo>
                  <a:pt x="269" y="545"/>
                </a:lnTo>
                <a:lnTo>
                  <a:pt x="262" y="545"/>
                </a:lnTo>
                <a:lnTo>
                  <a:pt x="262" y="551"/>
                </a:lnTo>
                <a:lnTo>
                  <a:pt x="255" y="558"/>
                </a:lnTo>
                <a:lnTo>
                  <a:pt x="249" y="565"/>
                </a:lnTo>
                <a:lnTo>
                  <a:pt x="242" y="572"/>
                </a:lnTo>
                <a:lnTo>
                  <a:pt x="235" y="579"/>
                </a:lnTo>
                <a:lnTo>
                  <a:pt x="228" y="579"/>
                </a:lnTo>
                <a:lnTo>
                  <a:pt x="214" y="586"/>
                </a:lnTo>
                <a:lnTo>
                  <a:pt x="207" y="586"/>
                </a:lnTo>
                <a:lnTo>
                  <a:pt x="200" y="593"/>
                </a:lnTo>
                <a:lnTo>
                  <a:pt x="200" y="600"/>
                </a:lnTo>
                <a:lnTo>
                  <a:pt x="193" y="607"/>
                </a:lnTo>
                <a:lnTo>
                  <a:pt x="187" y="613"/>
                </a:lnTo>
                <a:lnTo>
                  <a:pt x="173" y="613"/>
                </a:lnTo>
                <a:lnTo>
                  <a:pt x="166" y="613"/>
                </a:lnTo>
                <a:lnTo>
                  <a:pt x="152" y="607"/>
                </a:lnTo>
                <a:lnTo>
                  <a:pt x="145" y="600"/>
                </a:lnTo>
                <a:lnTo>
                  <a:pt x="145" y="593"/>
                </a:lnTo>
                <a:lnTo>
                  <a:pt x="138" y="593"/>
                </a:lnTo>
                <a:lnTo>
                  <a:pt x="131" y="586"/>
                </a:lnTo>
                <a:lnTo>
                  <a:pt x="118" y="586"/>
                </a:lnTo>
                <a:lnTo>
                  <a:pt x="104" y="586"/>
                </a:lnTo>
                <a:lnTo>
                  <a:pt x="97" y="586"/>
                </a:lnTo>
                <a:lnTo>
                  <a:pt x="83" y="586"/>
                </a:lnTo>
                <a:lnTo>
                  <a:pt x="76" y="579"/>
                </a:lnTo>
                <a:lnTo>
                  <a:pt x="69" y="572"/>
                </a:lnTo>
                <a:lnTo>
                  <a:pt x="62" y="565"/>
                </a:lnTo>
                <a:lnTo>
                  <a:pt x="62" y="558"/>
                </a:lnTo>
                <a:lnTo>
                  <a:pt x="56" y="565"/>
                </a:lnTo>
                <a:lnTo>
                  <a:pt x="49" y="565"/>
                </a:lnTo>
                <a:lnTo>
                  <a:pt x="49" y="565"/>
                </a:lnTo>
                <a:lnTo>
                  <a:pt x="42" y="572"/>
                </a:lnTo>
                <a:lnTo>
                  <a:pt x="35" y="572"/>
                </a:lnTo>
                <a:lnTo>
                  <a:pt x="28" y="579"/>
                </a:lnTo>
                <a:lnTo>
                  <a:pt x="28" y="586"/>
                </a:lnTo>
                <a:lnTo>
                  <a:pt x="21" y="586"/>
                </a:lnTo>
                <a:lnTo>
                  <a:pt x="21" y="593"/>
                </a:lnTo>
                <a:lnTo>
                  <a:pt x="21" y="600"/>
                </a:lnTo>
                <a:lnTo>
                  <a:pt x="21" y="607"/>
                </a:lnTo>
                <a:lnTo>
                  <a:pt x="28" y="607"/>
                </a:lnTo>
                <a:lnTo>
                  <a:pt x="35" y="613"/>
                </a:lnTo>
                <a:lnTo>
                  <a:pt x="42" y="613"/>
                </a:lnTo>
                <a:lnTo>
                  <a:pt x="49" y="620"/>
                </a:lnTo>
                <a:lnTo>
                  <a:pt x="56" y="620"/>
                </a:lnTo>
                <a:lnTo>
                  <a:pt x="62" y="627"/>
                </a:lnTo>
                <a:lnTo>
                  <a:pt x="69" y="627"/>
                </a:lnTo>
                <a:lnTo>
                  <a:pt x="76" y="627"/>
                </a:lnTo>
                <a:lnTo>
                  <a:pt x="83" y="627"/>
                </a:lnTo>
                <a:lnTo>
                  <a:pt x="90" y="627"/>
                </a:lnTo>
                <a:lnTo>
                  <a:pt x="104" y="634"/>
                </a:lnTo>
                <a:lnTo>
                  <a:pt x="111" y="634"/>
                </a:lnTo>
                <a:lnTo>
                  <a:pt x="118" y="634"/>
                </a:lnTo>
                <a:lnTo>
                  <a:pt x="124" y="634"/>
                </a:lnTo>
                <a:lnTo>
                  <a:pt x="131" y="634"/>
                </a:lnTo>
                <a:lnTo>
                  <a:pt x="138" y="641"/>
                </a:lnTo>
                <a:lnTo>
                  <a:pt x="145" y="641"/>
                </a:lnTo>
                <a:lnTo>
                  <a:pt x="152" y="648"/>
                </a:lnTo>
                <a:lnTo>
                  <a:pt x="159" y="655"/>
                </a:lnTo>
                <a:lnTo>
                  <a:pt x="166" y="655"/>
                </a:lnTo>
                <a:lnTo>
                  <a:pt x="173" y="655"/>
                </a:lnTo>
                <a:lnTo>
                  <a:pt x="180" y="662"/>
                </a:lnTo>
                <a:lnTo>
                  <a:pt x="187" y="662"/>
                </a:lnTo>
                <a:lnTo>
                  <a:pt x="193" y="662"/>
                </a:lnTo>
                <a:lnTo>
                  <a:pt x="207" y="662"/>
                </a:lnTo>
                <a:lnTo>
                  <a:pt x="214" y="662"/>
                </a:lnTo>
                <a:lnTo>
                  <a:pt x="221" y="662"/>
                </a:lnTo>
                <a:lnTo>
                  <a:pt x="228" y="662"/>
                </a:lnTo>
                <a:lnTo>
                  <a:pt x="235" y="662"/>
                </a:lnTo>
                <a:lnTo>
                  <a:pt x="249" y="662"/>
                </a:lnTo>
                <a:lnTo>
                  <a:pt x="255" y="655"/>
                </a:lnTo>
                <a:lnTo>
                  <a:pt x="262" y="655"/>
                </a:lnTo>
                <a:lnTo>
                  <a:pt x="269" y="655"/>
                </a:lnTo>
                <a:lnTo>
                  <a:pt x="276" y="662"/>
                </a:lnTo>
                <a:lnTo>
                  <a:pt x="283" y="662"/>
                </a:lnTo>
                <a:lnTo>
                  <a:pt x="283" y="669"/>
                </a:lnTo>
                <a:lnTo>
                  <a:pt x="290" y="675"/>
                </a:lnTo>
                <a:lnTo>
                  <a:pt x="290" y="682"/>
                </a:lnTo>
                <a:lnTo>
                  <a:pt x="290" y="689"/>
                </a:lnTo>
                <a:lnTo>
                  <a:pt x="290" y="696"/>
                </a:lnTo>
                <a:lnTo>
                  <a:pt x="290" y="696"/>
                </a:lnTo>
                <a:lnTo>
                  <a:pt x="290" y="703"/>
                </a:lnTo>
                <a:lnTo>
                  <a:pt x="297" y="710"/>
                </a:lnTo>
                <a:lnTo>
                  <a:pt x="304" y="710"/>
                </a:lnTo>
                <a:lnTo>
                  <a:pt x="311" y="710"/>
                </a:lnTo>
                <a:lnTo>
                  <a:pt x="324" y="717"/>
                </a:lnTo>
                <a:lnTo>
                  <a:pt x="324" y="710"/>
                </a:lnTo>
                <a:close/>
                <a:moveTo>
                  <a:pt x="469" y="710"/>
                </a:moveTo>
                <a:lnTo>
                  <a:pt x="469" y="710"/>
                </a:lnTo>
                <a:lnTo>
                  <a:pt x="469" y="710"/>
                </a:lnTo>
                <a:lnTo>
                  <a:pt x="469" y="710"/>
                </a:lnTo>
                <a:lnTo>
                  <a:pt x="469" y="710"/>
                </a:lnTo>
                <a:lnTo>
                  <a:pt x="469" y="703"/>
                </a:lnTo>
                <a:lnTo>
                  <a:pt x="469" y="710"/>
                </a:lnTo>
                <a:lnTo>
                  <a:pt x="469" y="710"/>
                </a:lnTo>
                <a:lnTo>
                  <a:pt x="469" y="710"/>
                </a:lnTo>
                <a:lnTo>
                  <a:pt x="469" y="710"/>
                </a:lnTo>
                <a:lnTo>
                  <a:pt x="469" y="710"/>
                </a:lnTo>
                <a:lnTo>
                  <a:pt x="469" y="710"/>
                </a:lnTo>
                <a:lnTo>
                  <a:pt x="469" y="710"/>
                </a:lnTo>
                <a:lnTo>
                  <a:pt x="469" y="710"/>
                </a:lnTo>
                <a:lnTo>
                  <a:pt x="469" y="710"/>
                </a:lnTo>
                <a:close/>
                <a:moveTo>
                  <a:pt x="2069" y="682"/>
                </a:moveTo>
                <a:lnTo>
                  <a:pt x="2076" y="675"/>
                </a:lnTo>
                <a:lnTo>
                  <a:pt x="2083" y="669"/>
                </a:lnTo>
                <a:lnTo>
                  <a:pt x="2083" y="669"/>
                </a:lnTo>
                <a:lnTo>
                  <a:pt x="2083" y="662"/>
                </a:lnTo>
                <a:lnTo>
                  <a:pt x="2083" y="655"/>
                </a:lnTo>
                <a:lnTo>
                  <a:pt x="2076" y="648"/>
                </a:lnTo>
                <a:lnTo>
                  <a:pt x="2076" y="641"/>
                </a:lnTo>
                <a:lnTo>
                  <a:pt x="2069" y="634"/>
                </a:lnTo>
                <a:lnTo>
                  <a:pt x="2062" y="634"/>
                </a:lnTo>
                <a:lnTo>
                  <a:pt x="2062" y="641"/>
                </a:lnTo>
                <a:lnTo>
                  <a:pt x="2062" y="648"/>
                </a:lnTo>
                <a:lnTo>
                  <a:pt x="2062" y="655"/>
                </a:lnTo>
                <a:lnTo>
                  <a:pt x="2062" y="662"/>
                </a:lnTo>
                <a:lnTo>
                  <a:pt x="2062" y="669"/>
                </a:lnTo>
                <a:lnTo>
                  <a:pt x="2062" y="669"/>
                </a:lnTo>
                <a:lnTo>
                  <a:pt x="2062" y="675"/>
                </a:lnTo>
                <a:lnTo>
                  <a:pt x="2062" y="682"/>
                </a:lnTo>
                <a:lnTo>
                  <a:pt x="2069" y="689"/>
                </a:lnTo>
                <a:lnTo>
                  <a:pt x="2069" y="689"/>
                </a:lnTo>
                <a:lnTo>
                  <a:pt x="2069" y="682"/>
                </a:lnTo>
                <a:close/>
                <a:moveTo>
                  <a:pt x="14" y="620"/>
                </a:moveTo>
                <a:lnTo>
                  <a:pt x="0" y="613"/>
                </a:lnTo>
                <a:lnTo>
                  <a:pt x="0" y="620"/>
                </a:lnTo>
                <a:lnTo>
                  <a:pt x="0" y="641"/>
                </a:lnTo>
                <a:lnTo>
                  <a:pt x="14" y="620"/>
                </a:lnTo>
                <a:close/>
                <a:moveTo>
                  <a:pt x="1214" y="593"/>
                </a:moveTo>
                <a:lnTo>
                  <a:pt x="1214" y="593"/>
                </a:lnTo>
                <a:lnTo>
                  <a:pt x="1214" y="593"/>
                </a:lnTo>
                <a:lnTo>
                  <a:pt x="1207" y="593"/>
                </a:lnTo>
                <a:lnTo>
                  <a:pt x="1207" y="593"/>
                </a:lnTo>
                <a:lnTo>
                  <a:pt x="1207" y="593"/>
                </a:lnTo>
                <a:lnTo>
                  <a:pt x="1207" y="593"/>
                </a:lnTo>
                <a:lnTo>
                  <a:pt x="1207" y="593"/>
                </a:lnTo>
                <a:lnTo>
                  <a:pt x="1207" y="593"/>
                </a:lnTo>
                <a:lnTo>
                  <a:pt x="1207" y="593"/>
                </a:lnTo>
                <a:lnTo>
                  <a:pt x="1207" y="593"/>
                </a:lnTo>
                <a:lnTo>
                  <a:pt x="1207" y="593"/>
                </a:lnTo>
                <a:lnTo>
                  <a:pt x="1207" y="593"/>
                </a:lnTo>
                <a:lnTo>
                  <a:pt x="1207" y="593"/>
                </a:lnTo>
                <a:lnTo>
                  <a:pt x="1214" y="593"/>
                </a:lnTo>
                <a:close/>
                <a:moveTo>
                  <a:pt x="2110" y="593"/>
                </a:moveTo>
                <a:lnTo>
                  <a:pt x="2117" y="586"/>
                </a:lnTo>
                <a:lnTo>
                  <a:pt x="2124" y="579"/>
                </a:lnTo>
                <a:lnTo>
                  <a:pt x="2124" y="572"/>
                </a:lnTo>
                <a:lnTo>
                  <a:pt x="2117" y="565"/>
                </a:lnTo>
                <a:lnTo>
                  <a:pt x="2110" y="551"/>
                </a:lnTo>
                <a:lnTo>
                  <a:pt x="2103" y="545"/>
                </a:lnTo>
                <a:lnTo>
                  <a:pt x="2096" y="545"/>
                </a:lnTo>
                <a:lnTo>
                  <a:pt x="2090" y="551"/>
                </a:lnTo>
                <a:lnTo>
                  <a:pt x="2090" y="565"/>
                </a:lnTo>
                <a:lnTo>
                  <a:pt x="2090" y="572"/>
                </a:lnTo>
                <a:lnTo>
                  <a:pt x="2090" y="579"/>
                </a:lnTo>
                <a:lnTo>
                  <a:pt x="2090" y="586"/>
                </a:lnTo>
                <a:lnTo>
                  <a:pt x="2090" y="593"/>
                </a:lnTo>
                <a:lnTo>
                  <a:pt x="2090" y="607"/>
                </a:lnTo>
                <a:lnTo>
                  <a:pt x="2096" y="613"/>
                </a:lnTo>
                <a:lnTo>
                  <a:pt x="2096" y="620"/>
                </a:lnTo>
                <a:lnTo>
                  <a:pt x="2096" y="620"/>
                </a:lnTo>
                <a:lnTo>
                  <a:pt x="2103" y="613"/>
                </a:lnTo>
                <a:lnTo>
                  <a:pt x="2103" y="607"/>
                </a:lnTo>
                <a:lnTo>
                  <a:pt x="2110" y="593"/>
                </a:lnTo>
                <a:close/>
                <a:moveTo>
                  <a:pt x="2131" y="531"/>
                </a:moveTo>
                <a:lnTo>
                  <a:pt x="2131" y="531"/>
                </a:lnTo>
                <a:lnTo>
                  <a:pt x="2138" y="524"/>
                </a:lnTo>
                <a:lnTo>
                  <a:pt x="2138" y="517"/>
                </a:lnTo>
                <a:lnTo>
                  <a:pt x="2138" y="510"/>
                </a:lnTo>
                <a:lnTo>
                  <a:pt x="2131" y="503"/>
                </a:lnTo>
                <a:lnTo>
                  <a:pt x="2131" y="503"/>
                </a:lnTo>
                <a:lnTo>
                  <a:pt x="2124" y="496"/>
                </a:lnTo>
                <a:lnTo>
                  <a:pt x="2117" y="503"/>
                </a:lnTo>
                <a:lnTo>
                  <a:pt x="2110" y="510"/>
                </a:lnTo>
                <a:lnTo>
                  <a:pt x="2110" y="517"/>
                </a:lnTo>
                <a:lnTo>
                  <a:pt x="2110" y="524"/>
                </a:lnTo>
                <a:lnTo>
                  <a:pt x="2110" y="524"/>
                </a:lnTo>
                <a:lnTo>
                  <a:pt x="2117" y="531"/>
                </a:lnTo>
                <a:lnTo>
                  <a:pt x="2117" y="538"/>
                </a:lnTo>
                <a:lnTo>
                  <a:pt x="2124" y="545"/>
                </a:lnTo>
                <a:lnTo>
                  <a:pt x="2124" y="551"/>
                </a:lnTo>
                <a:lnTo>
                  <a:pt x="2124" y="551"/>
                </a:lnTo>
                <a:lnTo>
                  <a:pt x="2131" y="551"/>
                </a:lnTo>
                <a:lnTo>
                  <a:pt x="2131" y="545"/>
                </a:lnTo>
                <a:lnTo>
                  <a:pt x="2131" y="531"/>
                </a:lnTo>
                <a:close/>
                <a:moveTo>
                  <a:pt x="345" y="476"/>
                </a:moveTo>
                <a:lnTo>
                  <a:pt x="338" y="462"/>
                </a:lnTo>
                <a:lnTo>
                  <a:pt x="331" y="455"/>
                </a:lnTo>
                <a:lnTo>
                  <a:pt x="331" y="448"/>
                </a:lnTo>
                <a:lnTo>
                  <a:pt x="324" y="448"/>
                </a:lnTo>
                <a:lnTo>
                  <a:pt x="318" y="455"/>
                </a:lnTo>
                <a:lnTo>
                  <a:pt x="311" y="462"/>
                </a:lnTo>
                <a:lnTo>
                  <a:pt x="304" y="469"/>
                </a:lnTo>
                <a:lnTo>
                  <a:pt x="304" y="476"/>
                </a:lnTo>
                <a:lnTo>
                  <a:pt x="311" y="483"/>
                </a:lnTo>
                <a:lnTo>
                  <a:pt x="318" y="489"/>
                </a:lnTo>
                <a:lnTo>
                  <a:pt x="324" y="496"/>
                </a:lnTo>
                <a:lnTo>
                  <a:pt x="331" y="489"/>
                </a:lnTo>
                <a:lnTo>
                  <a:pt x="338" y="483"/>
                </a:lnTo>
                <a:lnTo>
                  <a:pt x="345" y="476"/>
                </a:lnTo>
                <a:close/>
                <a:moveTo>
                  <a:pt x="366" y="448"/>
                </a:moveTo>
                <a:lnTo>
                  <a:pt x="366" y="441"/>
                </a:lnTo>
                <a:lnTo>
                  <a:pt x="373" y="434"/>
                </a:lnTo>
                <a:lnTo>
                  <a:pt x="380" y="427"/>
                </a:lnTo>
                <a:lnTo>
                  <a:pt x="380" y="421"/>
                </a:lnTo>
                <a:lnTo>
                  <a:pt x="386" y="414"/>
                </a:lnTo>
                <a:lnTo>
                  <a:pt x="393" y="407"/>
                </a:lnTo>
                <a:lnTo>
                  <a:pt x="400" y="407"/>
                </a:lnTo>
                <a:lnTo>
                  <a:pt x="407" y="400"/>
                </a:lnTo>
                <a:lnTo>
                  <a:pt x="407" y="393"/>
                </a:lnTo>
                <a:lnTo>
                  <a:pt x="407" y="386"/>
                </a:lnTo>
                <a:lnTo>
                  <a:pt x="400" y="379"/>
                </a:lnTo>
                <a:lnTo>
                  <a:pt x="393" y="372"/>
                </a:lnTo>
                <a:lnTo>
                  <a:pt x="386" y="372"/>
                </a:lnTo>
                <a:lnTo>
                  <a:pt x="380" y="372"/>
                </a:lnTo>
                <a:lnTo>
                  <a:pt x="373" y="379"/>
                </a:lnTo>
                <a:lnTo>
                  <a:pt x="373" y="386"/>
                </a:lnTo>
                <a:lnTo>
                  <a:pt x="366" y="393"/>
                </a:lnTo>
                <a:lnTo>
                  <a:pt x="359" y="400"/>
                </a:lnTo>
                <a:lnTo>
                  <a:pt x="359" y="407"/>
                </a:lnTo>
                <a:lnTo>
                  <a:pt x="352" y="414"/>
                </a:lnTo>
                <a:lnTo>
                  <a:pt x="345" y="414"/>
                </a:lnTo>
                <a:lnTo>
                  <a:pt x="338" y="421"/>
                </a:lnTo>
                <a:lnTo>
                  <a:pt x="338" y="427"/>
                </a:lnTo>
                <a:lnTo>
                  <a:pt x="331" y="434"/>
                </a:lnTo>
                <a:lnTo>
                  <a:pt x="324" y="441"/>
                </a:lnTo>
                <a:lnTo>
                  <a:pt x="331" y="448"/>
                </a:lnTo>
                <a:lnTo>
                  <a:pt x="338" y="455"/>
                </a:lnTo>
                <a:lnTo>
                  <a:pt x="345" y="455"/>
                </a:lnTo>
                <a:lnTo>
                  <a:pt x="352" y="462"/>
                </a:lnTo>
                <a:lnTo>
                  <a:pt x="359" y="462"/>
                </a:lnTo>
                <a:lnTo>
                  <a:pt x="366" y="455"/>
                </a:lnTo>
                <a:lnTo>
                  <a:pt x="366" y="448"/>
                </a:lnTo>
                <a:close/>
                <a:moveTo>
                  <a:pt x="2696" y="414"/>
                </a:moveTo>
                <a:lnTo>
                  <a:pt x="2689" y="407"/>
                </a:lnTo>
                <a:lnTo>
                  <a:pt x="2689" y="400"/>
                </a:lnTo>
                <a:lnTo>
                  <a:pt x="2689" y="393"/>
                </a:lnTo>
                <a:lnTo>
                  <a:pt x="2689" y="393"/>
                </a:lnTo>
                <a:lnTo>
                  <a:pt x="2689" y="393"/>
                </a:lnTo>
                <a:lnTo>
                  <a:pt x="2682" y="393"/>
                </a:lnTo>
                <a:lnTo>
                  <a:pt x="2682" y="400"/>
                </a:lnTo>
                <a:lnTo>
                  <a:pt x="2682" y="400"/>
                </a:lnTo>
                <a:lnTo>
                  <a:pt x="2682" y="407"/>
                </a:lnTo>
                <a:lnTo>
                  <a:pt x="2682" y="414"/>
                </a:lnTo>
                <a:lnTo>
                  <a:pt x="2682" y="421"/>
                </a:lnTo>
                <a:lnTo>
                  <a:pt x="2689" y="427"/>
                </a:lnTo>
                <a:lnTo>
                  <a:pt x="2689" y="421"/>
                </a:lnTo>
                <a:lnTo>
                  <a:pt x="2696" y="414"/>
                </a:lnTo>
                <a:close/>
                <a:moveTo>
                  <a:pt x="428" y="359"/>
                </a:moveTo>
                <a:lnTo>
                  <a:pt x="428" y="345"/>
                </a:lnTo>
                <a:lnTo>
                  <a:pt x="421" y="331"/>
                </a:lnTo>
                <a:lnTo>
                  <a:pt x="414" y="324"/>
                </a:lnTo>
                <a:lnTo>
                  <a:pt x="414" y="324"/>
                </a:lnTo>
                <a:lnTo>
                  <a:pt x="407" y="331"/>
                </a:lnTo>
                <a:lnTo>
                  <a:pt x="400" y="338"/>
                </a:lnTo>
                <a:lnTo>
                  <a:pt x="393" y="352"/>
                </a:lnTo>
                <a:lnTo>
                  <a:pt x="393" y="365"/>
                </a:lnTo>
                <a:lnTo>
                  <a:pt x="400" y="372"/>
                </a:lnTo>
                <a:lnTo>
                  <a:pt x="407" y="379"/>
                </a:lnTo>
                <a:lnTo>
                  <a:pt x="414" y="379"/>
                </a:lnTo>
                <a:lnTo>
                  <a:pt x="421" y="379"/>
                </a:lnTo>
                <a:lnTo>
                  <a:pt x="428" y="372"/>
                </a:lnTo>
                <a:lnTo>
                  <a:pt x="428" y="359"/>
                </a:lnTo>
                <a:close/>
                <a:moveTo>
                  <a:pt x="455" y="324"/>
                </a:moveTo>
                <a:lnTo>
                  <a:pt x="455" y="317"/>
                </a:lnTo>
                <a:lnTo>
                  <a:pt x="462" y="310"/>
                </a:lnTo>
                <a:lnTo>
                  <a:pt x="469" y="303"/>
                </a:lnTo>
                <a:lnTo>
                  <a:pt x="476" y="303"/>
                </a:lnTo>
                <a:lnTo>
                  <a:pt x="490" y="297"/>
                </a:lnTo>
                <a:lnTo>
                  <a:pt x="497" y="297"/>
                </a:lnTo>
                <a:lnTo>
                  <a:pt x="504" y="290"/>
                </a:lnTo>
                <a:lnTo>
                  <a:pt x="504" y="283"/>
                </a:lnTo>
                <a:lnTo>
                  <a:pt x="497" y="276"/>
                </a:lnTo>
                <a:lnTo>
                  <a:pt x="497" y="269"/>
                </a:lnTo>
                <a:lnTo>
                  <a:pt x="490" y="255"/>
                </a:lnTo>
                <a:lnTo>
                  <a:pt x="483" y="248"/>
                </a:lnTo>
                <a:lnTo>
                  <a:pt x="476" y="241"/>
                </a:lnTo>
                <a:lnTo>
                  <a:pt x="469" y="241"/>
                </a:lnTo>
                <a:lnTo>
                  <a:pt x="469" y="248"/>
                </a:lnTo>
                <a:lnTo>
                  <a:pt x="462" y="255"/>
                </a:lnTo>
                <a:lnTo>
                  <a:pt x="455" y="262"/>
                </a:lnTo>
                <a:lnTo>
                  <a:pt x="455" y="269"/>
                </a:lnTo>
                <a:lnTo>
                  <a:pt x="449" y="276"/>
                </a:lnTo>
                <a:lnTo>
                  <a:pt x="442" y="283"/>
                </a:lnTo>
                <a:lnTo>
                  <a:pt x="442" y="290"/>
                </a:lnTo>
                <a:lnTo>
                  <a:pt x="435" y="297"/>
                </a:lnTo>
                <a:lnTo>
                  <a:pt x="428" y="303"/>
                </a:lnTo>
                <a:lnTo>
                  <a:pt x="421" y="310"/>
                </a:lnTo>
                <a:lnTo>
                  <a:pt x="414" y="317"/>
                </a:lnTo>
                <a:lnTo>
                  <a:pt x="414" y="324"/>
                </a:lnTo>
                <a:lnTo>
                  <a:pt x="414" y="331"/>
                </a:lnTo>
                <a:lnTo>
                  <a:pt x="428" y="338"/>
                </a:lnTo>
                <a:lnTo>
                  <a:pt x="435" y="338"/>
                </a:lnTo>
                <a:lnTo>
                  <a:pt x="442" y="338"/>
                </a:lnTo>
                <a:lnTo>
                  <a:pt x="449" y="338"/>
                </a:lnTo>
                <a:lnTo>
                  <a:pt x="455" y="324"/>
                </a:lnTo>
                <a:close/>
                <a:moveTo>
                  <a:pt x="359" y="297"/>
                </a:moveTo>
                <a:lnTo>
                  <a:pt x="352" y="297"/>
                </a:lnTo>
                <a:lnTo>
                  <a:pt x="338" y="310"/>
                </a:lnTo>
                <a:lnTo>
                  <a:pt x="338" y="310"/>
                </a:lnTo>
                <a:lnTo>
                  <a:pt x="345" y="310"/>
                </a:lnTo>
                <a:lnTo>
                  <a:pt x="345" y="303"/>
                </a:lnTo>
                <a:lnTo>
                  <a:pt x="352" y="303"/>
                </a:lnTo>
                <a:lnTo>
                  <a:pt x="352" y="303"/>
                </a:lnTo>
                <a:lnTo>
                  <a:pt x="352" y="303"/>
                </a:lnTo>
                <a:lnTo>
                  <a:pt x="359" y="297"/>
                </a:lnTo>
                <a:lnTo>
                  <a:pt x="359" y="297"/>
                </a:lnTo>
                <a:close/>
                <a:moveTo>
                  <a:pt x="386" y="269"/>
                </a:moveTo>
                <a:lnTo>
                  <a:pt x="386" y="269"/>
                </a:lnTo>
                <a:lnTo>
                  <a:pt x="386" y="269"/>
                </a:lnTo>
                <a:lnTo>
                  <a:pt x="386" y="269"/>
                </a:lnTo>
                <a:close/>
                <a:moveTo>
                  <a:pt x="414" y="235"/>
                </a:moveTo>
                <a:lnTo>
                  <a:pt x="421" y="228"/>
                </a:lnTo>
                <a:lnTo>
                  <a:pt x="414" y="235"/>
                </a:lnTo>
                <a:lnTo>
                  <a:pt x="414" y="241"/>
                </a:lnTo>
                <a:lnTo>
                  <a:pt x="414" y="235"/>
                </a:lnTo>
                <a:close/>
                <a:moveTo>
                  <a:pt x="476" y="179"/>
                </a:moveTo>
                <a:lnTo>
                  <a:pt x="469" y="179"/>
                </a:lnTo>
                <a:lnTo>
                  <a:pt x="455" y="193"/>
                </a:lnTo>
                <a:lnTo>
                  <a:pt x="462" y="186"/>
                </a:lnTo>
                <a:lnTo>
                  <a:pt x="462" y="186"/>
                </a:lnTo>
                <a:lnTo>
                  <a:pt x="462" y="186"/>
                </a:lnTo>
                <a:lnTo>
                  <a:pt x="469" y="186"/>
                </a:lnTo>
                <a:lnTo>
                  <a:pt x="469" y="179"/>
                </a:lnTo>
                <a:lnTo>
                  <a:pt x="469" y="179"/>
                </a:lnTo>
                <a:lnTo>
                  <a:pt x="476" y="179"/>
                </a:lnTo>
                <a:lnTo>
                  <a:pt x="476" y="179"/>
                </a:lnTo>
                <a:close/>
                <a:moveTo>
                  <a:pt x="1041" y="179"/>
                </a:moveTo>
                <a:lnTo>
                  <a:pt x="1041" y="173"/>
                </a:lnTo>
                <a:lnTo>
                  <a:pt x="1035" y="166"/>
                </a:lnTo>
                <a:lnTo>
                  <a:pt x="1035" y="166"/>
                </a:lnTo>
                <a:lnTo>
                  <a:pt x="1021" y="166"/>
                </a:lnTo>
                <a:lnTo>
                  <a:pt x="1014" y="166"/>
                </a:lnTo>
                <a:lnTo>
                  <a:pt x="1007" y="173"/>
                </a:lnTo>
                <a:lnTo>
                  <a:pt x="1007" y="173"/>
                </a:lnTo>
                <a:lnTo>
                  <a:pt x="1007" y="179"/>
                </a:lnTo>
                <a:lnTo>
                  <a:pt x="1014" y="186"/>
                </a:lnTo>
                <a:lnTo>
                  <a:pt x="1021" y="186"/>
                </a:lnTo>
                <a:lnTo>
                  <a:pt x="1028" y="186"/>
                </a:lnTo>
                <a:lnTo>
                  <a:pt x="1035" y="186"/>
                </a:lnTo>
                <a:lnTo>
                  <a:pt x="1035" y="186"/>
                </a:lnTo>
                <a:lnTo>
                  <a:pt x="1041" y="179"/>
                </a:lnTo>
                <a:close/>
                <a:moveTo>
                  <a:pt x="524" y="145"/>
                </a:moveTo>
                <a:lnTo>
                  <a:pt x="504" y="145"/>
                </a:lnTo>
                <a:lnTo>
                  <a:pt x="504" y="166"/>
                </a:lnTo>
                <a:lnTo>
                  <a:pt x="524" y="145"/>
                </a:lnTo>
                <a:close/>
                <a:moveTo>
                  <a:pt x="2834" y="117"/>
                </a:moveTo>
                <a:lnTo>
                  <a:pt x="2813" y="117"/>
                </a:lnTo>
                <a:lnTo>
                  <a:pt x="2834" y="138"/>
                </a:lnTo>
                <a:lnTo>
                  <a:pt x="2834" y="117"/>
                </a:lnTo>
                <a:close/>
                <a:moveTo>
                  <a:pt x="814" y="90"/>
                </a:moveTo>
                <a:lnTo>
                  <a:pt x="814" y="83"/>
                </a:lnTo>
                <a:lnTo>
                  <a:pt x="821" y="83"/>
                </a:lnTo>
                <a:lnTo>
                  <a:pt x="821" y="76"/>
                </a:lnTo>
                <a:lnTo>
                  <a:pt x="828" y="76"/>
                </a:lnTo>
                <a:lnTo>
                  <a:pt x="828" y="83"/>
                </a:lnTo>
                <a:lnTo>
                  <a:pt x="835" y="83"/>
                </a:lnTo>
                <a:lnTo>
                  <a:pt x="835" y="90"/>
                </a:lnTo>
                <a:lnTo>
                  <a:pt x="835" y="90"/>
                </a:lnTo>
                <a:lnTo>
                  <a:pt x="835" y="97"/>
                </a:lnTo>
                <a:lnTo>
                  <a:pt x="828" y="97"/>
                </a:lnTo>
                <a:lnTo>
                  <a:pt x="821" y="97"/>
                </a:lnTo>
                <a:lnTo>
                  <a:pt x="821" y="97"/>
                </a:lnTo>
                <a:lnTo>
                  <a:pt x="814" y="97"/>
                </a:lnTo>
                <a:lnTo>
                  <a:pt x="814" y="90"/>
                </a:lnTo>
                <a:close/>
                <a:moveTo>
                  <a:pt x="2807" y="90"/>
                </a:moveTo>
                <a:lnTo>
                  <a:pt x="2772" y="90"/>
                </a:lnTo>
                <a:lnTo>
                  <a:pt x="2772" y="90"/>
                </a:lnTo>
                <a:lnTo>
                  <a:pt x="2772" y="90"/>
                </a:lnTo>
                <a:lnTo>
                  <a:pt x="2779" y="97"/>
                </a:lnTo>
                <a:lnTo>
                  <a:pt x="2779" y="97"/>
                </a:lnTo>
                <a:lnTo>
                  <a:pt x="2786" y="97"/>
                </a:lnTo>
                <a:lnTo>
                  <a:pt x="2786" y="104"/>
                </a:lnTo>
                <a:lnTo>
                  <a:pt x="2793" y="104"/>
                </a:lnTo>
                <a:lnTo>
                  <a:pt x="2800" y="104"/>
                </a:lnTo>
                <a:lnTo>
                  <a:pt x="2807" y="104"/>
                </a:lnTo>
                <a:lnTo>
                  <a:pt x="2807" y="90"/>
                </a:lnTo>
                <a:close/>
                <a:moveTo>
                  <a:pt x="2627" y="28"/>
                </a:moveTo>
                <a:lnTo>
                  <a:pt x="2627" y="28"/>
                </a:lnTo>
                <a:lnTo>
                  <a:pt x="2627" y="28"/>
                </a:lnTo>
                <a:lnTo>
                  <a:pt x="2627" y="28"/>
                </a:lnTo>
                <a:lnTo>
                  <a:pt x="2627" y="28"/>
                </a:lnTo>
                <a:lnTo>
                  <a:pt x="2627" y="28"/>
                </a:lnTo>
                <a:lnTo>
                  <a:pt x="2627" y="28"/>
                </a:lnTo>
                <a:lnTo>
                  <a:pt x="2627" y="28"/>
                </a:lnTo>
                <a:lnTo>
                  <a:pt x="2627" y="28"/>
                </a:lnTo>
                <a:lnTo>
                  <a:pt x="2627" y="28"/>
                </a:lnTo>
                <a:lnTo>
                  <a:pt x="2627" y="28"/>
                </a:lnTo>
                <a:close/>
                <a:moveTo>
                  <a:pt x="2476" y="0"/>
                </a:moveTo>
                <a:lnTo>
                  <a:pt x="2448" y="0"/>
                </a:lnTo>
                <a:lnTo>
                  <a:pt x="2420" y="0"/>
                </a:lnTo>
                <a:lnTo>
                  <a:pt x="2420" y="0"/>
                </a:lnTo>
                <a:lnTo>
                  <a:pt x="2420" y="0"/>
                </a:lnTo>
                <a:lnTo>
                  <a:pt x="2427" y="0"/>
                </a:lnTo>
                <a:lnTo>
                  <a:pt x="2434" y="0"/>
                </a:lnTo>
                <a:lnTo>
                  <a:pt x="2441" y="0"/>
                </a:lnTo>
                <a:lnTo>
                  <a:pt x="2441" y="7"/>
                </a:lnTo>
                <a:lnTo>
                  <a:pt x="2448" y="7"/>
                </a:lnTo>
                <a:lnTo>
                  <a:pt x="2455" y="7"/>
                </a:lnTo>
                <a:lnTo>
                  <a:pt x="2462" y="7"/>
                </a:lnTo>
                <a:lnTo>
                  <a:pt x="2462" y="0"/>
                </a:lnTo>
                <a:lnTo>
                  <a:pt x="2469" y="0"/>
                </a:lnTo>
                <a:lnTo>
                  <a:pt x="2476" y="0"/>
                </a:lnTo>
                <a:close/>
                <a:moveTo>
                  <a:pt x="2483" y="1840"/>
                </a:moveTo>
                <a:lnTo>
                  <a:pt x="2510" y="1812"/>
                </a:lnTo>
                <a:lnTo>
                  <a:pt x="2538" y="1812"/>
                </a:lnTo>
                <a:lnTo>
                  <a:pt x="2565" y="1812"/>
                </a:lnTo>
                <a:lnTo>
                  <a:pt x="2600" y="1812"/>
                </a:lnTo>
                <a:lnTo>
                  <a:pt x="2627" y="1812"/>
                </a:lnTo>
                <a:lnTo>
                  <a:pt x="2655" y="1812"/>
                </a:lnTo>
                <a:lnTo>
                  <a:pt x="2689" y="1812"/>
                </a:lnTo>
                <a:lnTo>
                  <a:pt x="2717" y="1778"/>
                </a:lnTo>
                <a:lnTo>
                  <a:pt x="2717" y="1750"/>
                </a:lnTo>
                <a:lnTo>
                  <a:pt x="2717" y="1722"/>
                </a:lnTo>
                <a:lnTo>
                  <a:pt x="2717" y="1688"/>
                </a:lnTo>
                <a:lnTo>
                  <a:pt x="2745" y="1660"/>
                </a:lnTo>
                <a:lnTo>
                  <a:pt x="2745" y="1633"/>
                </a:lnTo>
                <a:lnTo>
                  <a:pt x="2745" y="1599"/>
                </a:lnTo>
                <a:lnTo>
                  <a:pt x="2745" y="1571"/>
                </a:lnTo>
                <a:lnTo>
                  <a:pt x="2772" y="1543"/>
                </a:lnTo>
                <a:lnTo>
                  <a:pt x="2772" y="1516"/>
                </a:lnTo>
                <a:lnTo>
                  <a:pt x="2772" y="1481"/>
                </a:lnTo>
                <a:lnTo>
                  <a:pt x="2772" y="1454"/>
                </a:lnTo>
                <a:lnTo>
                  <a:pt x="2807" y="1426"/>
                </a:lnTo>
                <a:lnTo>
                  <a:pt x="2807" y="1392"/>
                </a:lnTo>
                <a:lnTo>
                  <a:pt x="2807" y="1364"/>
                </a:lnTo>
                <a:lnTo>
                  <a:pt x="2807" y="1337"/>
                </a:lnTo>
                <a:lnTo>
                  <a:pt x="2834" y="1302"/>
                </a:lnTo>
                <a:lnTo>
                  <a:pt x="2834" y="1275"/>
                </a:lnTo>
                <a:lnTo>
                  <a:pt x="2834" y="1247"/>
                </a:lnTo>
                <a:lnTo>
                  <a:pt x="2834" y="1213"/>
                </a:lnTo>
                <a:lnTo>
                  <a:pt x="2862" y="1185"/>
                </a:lnTo>
                <a:lnTo>
                  <a:pt x="2862" y="1158"/>
                </a:lnTo>
                <a:lnTo>
                  <a:pt x="2862" y="1130"/>
                </a:lnTo>
                <a:lnTo>
                  <a:pt x="2862" y="1096"/>
                </a:lnTo>
                <a:lnTo>
                  <a:pt x="2862" y="1068"/>
                </a:lnTo>
                <a:lnTo>
                  <a:pt x="2862" y="1041"/>
                </a:lnTo>
                <a:lnTo>
                  <a:pt x="2862" y="1006"/>
                </a:lnTo>
                <a:lnTo>
                  <a:pt x="2862" y="979"/>
                </a:lnTo>
                <a:lnTo>
                  <a:pt x="2862" y="951"/>
                </a:lnTo>
                <a:lnTo>
                  <a:pt x="2862" y="917"/>
                </a:lnTo>
                <a:lnTo>
                  <a:pt x="2862" y="889"/>
                </a:lnTo>
                <a:lnTo>
                  <a:pt x="2862" y="861"/>
                </a:lnTo>
                <a:lnTo>
                  <a:pt x="2862" y="827"/>
                </a:lnTo>
                <a:lnTo>
                  <a:pt x="2862" y="799"/>
                </a:lnTo>
                <a:lnTo>
                  <a:pt x="2862" y="772"/>
                </a:lnTo>
                <a:lnTo>
                  <a:pt x="2862" y="744"/>
                </a:lnTo>
                <a:lnTo>
                  <a:pt x="2862" y="710"/>
                </a:lnTo>
                <a:lnTo>
                  <a:pt x="2862" y="682"/>
                </a:lnTo>
                <a:lnTo>
                  <a:pt x="2862" y="655"/>
                </a:lnTo>
                <a:lnTo>
                  <a:pt x="2862" y="620"/>
                </a:lnTo>
                <a:lnTo>
                  <a:pt x="2862" y="593"/>
                </a:lnTo>
                <a:lnTo>
                  <a:pt x="2862" y="565"/>
                </a:lnTo>
                <a:lnTo>
                  <a:pt x="2862" y="531"/>
                </a:lnTo>
                <a:lnTo>
                  <a:pt x="2862" y="503"/>
                </a:lnTo>
                <a:lnTo>
                  <a:pt x="2862" y="476"/>
                </a:lnTo>
                <a:lnTo>
                  <a:pt x="2862" y="448"/>
                </a:lnTo>
                <a:lnTo>
                  <a:pt x="2862" y="414"/>
                </a:lnTo>
                <a:lnTo>
                  <a:pt x="2862" y="386"/>
                </a:lnTo>
                <a:lnTo>
                  <a:pt x="2862" y="359"/>
                </a:lnTo>
                <a:lnTo>
                  <a:pt x="2862" y="324"/>
                </a:lnTo>
                <a:lnTo>
                  <a:pt x="2862" y="297"/>
                </a:lnTo>
                <a:lnTo>
                  <a:pt x="2862" y="269"/>
                </a:lnTo>
                <a:lnTo>
                  <a:pt x="2834" y="235"/>
                </a:lnTo>
                <a:lnTo>
                  <a:pt x="2834" y="207"/>
                </a:lnTo>
                <a:lnTo>
                  <a:pt x="2834" y="179"/>
                </a:lnTo>
                <a:lnTo>
                  <a:pt x="2834" y="145"/>
                </a:lnTo>
                <a:lnTo>
                  <a:pt x="2834" y="117"/>
                </a:lnTo>
                <a:lnTo>
                  <a:pt x="2807" y="90"/>
                </a:lnTo>
                <a:lnTo>
                  <a:pt x="2772" y="90"/>
                </a:lnTo>
                <a:lnTo>
                  <a:pt x="2745" y="90"/>
                </a:lnTo>
                <a:lnTo>
                  <a:pt x="2717" y="62"/>
                </a:lnTo>
                <a:lnTo>
                  <a:pt x="2689" y="62"/>
                </a:lnTo>
                <a:lnTo>
                  <a:pt x="2655" y="62"/>
                </a:lnTo>
                <a:lnTo>
                  <a:pt x="2627" y="28"/>
                </a:lnTo>
                <a:lnTo>
                  <a:pt x="2600" y="28"/>
                </a:lnTo>
                <a:lnTo>
                  <a:pt x="2565" y="28"/>
                </a:lnTo>
                <a:lnTo>
                  <a:pt x="2538" y="0"/>
                </a:lnTo>
                <a:lnTo>
                  <a:pt x="2510" y="0"/>
                </a:lnTo>
                <a:lnTo>
                  <a:pt x="2483" y="0"/>
                </a:lnTo>
                <a:lnTo>
                  <a:pt x="2448" y="0"/>
                </a:lnTo>
                <a:lnTo>
                  <a:pt x="2420" y="0"/>
                </a:lnTo>
                <a:lnTo>
                  <a:pt x="2393" y="0"/>
                </a:lnTo>
                <a:lnTo>
                  <a:pt x="2365" y="0"/>
                </a:lnTo>
                <a:lnTo>
                  <a:pt x="2331" y="0"/>
                </a:lnTo>
                <a:lnTo>
                  <a:pt x="2303" y="0"/>
                </a:lnTo>
                <a:lnTo>
                  <a:pt x="2276" y="0"/>
                </a:lnTo>
                <a:lnTo>
                  <a:pt x="2241" y="0"/>
                </a:lnTo>
                <a:lnTo>
                  <a:pt x="2214" y="0"/>
                </a:lnTo>
                <a:lnTo>
                  <a:pt x="2186" y="0"/>
                </a:lnTo>
                <a:lnTo>
                  <a:pt x="2200" y="0"/>
                </a:lnTo>
                <a:lnTo>
                  <a:pt x="2207" y="7"/>
                </a:lnTo>
                <a:lnTo>
                  <a:pt x="2214" y="7"/>
                </a:lnTo>
                <a:lnTo>
                  <a:pt x="2221" y="7"/>
                </a:lnTo>
                <a:lnTo>
                  <a:pt x="2234" y="7"/>
                </a:lnTo>
                <a:lnTo>
                  <a:pt x="2241" y="14"/>
                </a:lnTo>
                <a:lnTo>
                  <a:pt x="2248" y="14"/>
                </a:lnTo>
                <a:lnTo>
                  <a:pt x="2262" y="14"/>
                </a:lnTo>
                <a:lnTo>
                  <a:pt x="2269" y="14"/>
                </a:lnTo>
                <a:lnTo>
                  <a:pt x="2276" y="14"/>
                </a:lnTo>
                <a:lnTo>
                  <a:pt x="2289" y="21"/>
                </a:lnTo>
                <a:lnTo>
                  <a:pt x="2296" y="21"/>
                </a:lnTo>
                <a:lnTo>
                  <a:pt x="2303" y="21"/>
                </a:lnTo>
                <a:lnTo>
                  <a:pt x="2317" y="21"/>
                </a:lnTo>
                <a:lnTo>
                  <a:pt x="2324" y="21"/>
                </a:lnTo>
                <a:lnTo>
                  <a:pt x="2331" y="21"/>
                </a:lnTo>
                <a:lnTo>
                  <a:pt x="2338" y="28"/>
                </a:lnTo>
                <a:lnTo>
                  <a:pt x="2352" y="28"/>
                </a:lnTo>
                <a:lnTo>
                  <a:pt x="2358" y="28"/>
                </a:lnTo>
                <a:lnTo>
                  <a:pt x="2365" y="28"/>
                </a:lnTo>
                <a:lnTo>
                  <a:pt x="2372" y="35"/>
                </a:lnTo>
                <a:lnTo>
                  <a:pt x="2372" y="42"/>
                </a:lnTo>
                <a:lnTo>
                  <a:pt x="2379" y="49"/>
                </a:lnTo>
                <a:lnTo>
                  <a:pt x="2379" y="55"/>
                </a:lnTo>
                <a:lnTo>
                  <a:pt x="2379" y="62"/>
                </a:lnTo>
                <a:lnTo>
                  <a:pt x="2393" y="62"/>
                </a:lnTo>
                <a:lnTo>
                  <a:pt x="2400" y="62"/>
                </a:lnTo>
                <a:lnTo>
                  <a:pt x="2407" y="62"/>
                </a:lnTo>
                <a:lnTo>
                  <a:pt x="2420" y="69"/>
                </a:lnTo>
                <a:lnTo>
                  <a:pt x="2427" y="69"/>
                </a:lnTo>
                <a:lnTo>
                  <a:pt x="2434" y="69"/>
                </a:lnTo>
                <a:lnTo>
                  <a:pt x="2448" y="69"/>
                </a:lnTo>
                <a:lnTo>
                  <a:pt x="2455" y="69"/>
                </a:lnTo>
                <a:lnTo>
                  <a:pt x="2455" y="76"/>
                </a:lnTo>
                <a:lnTo>
                  <a:pt x="2462" y="83"/>
                </a:lnTo>
                <a:lnTo>
                  <a:pt x="2462" y="90"/>
                </a:lnTo>
                <a:lnTo>
                  <a:pt x="2469" y="97"/>
                </a:lnTo>
                <a:lnTo>
                  <a:pt x="2476" y="97"/>
                </a:lnTo>
                <a:lnTo>
                  <a:pt x="2483" y="97"/>
                </a:lnTo>
                <a:lnTo>
                  <a:pt x="2496" y="97"/>
                </a:lnTo>
                <a:lnTo>
                  <a:pt x="2503" y="90"/>
                </a:lnTo>
                <a:lnTo>
                  <a:pt x="2503" y="90"/>
                </a:lnTo>
                <a:lnTo>
                  <a:pt x="2503" y="83"/>
                </a:lnTo>
                <a:lnTo>
                  <a:pt x="2503" y="76"/>
                </a:lnTo>
                <a:lnTo>
                  <a:pt x="2503" y="69"/>
                </a:lnTo>
                <a:lnTo>
                  <a:pt x="2503" y="62"/>
                </a:lnTo>
                <a:lnTo>
                  <a:pt x="2510" y="55"/>
                </a:lnTo>
                <a:lnTo>
                  <a:pt x="2517" y="62"/>
                </a:lnTo>
                <a:lnTo>
                  <a:pt x="2517" y="69"/>
                </a:lnTo>
                <a:lnTo>
                  <a:pt x="2524" y="76"/>
                </a:lnTo>
                <a:lnTo>
                  <a:pt x="2524" y="83"/>
                </a:lnTo>
                <a:lnTo>
                  <a:pt x="2531" y="83"/>
                </a:lnTo>
                <a:lnTo>
                  <a:pt x="2538" y="90"/>
                </a:lnTo>
                <a:lnTo>
                  <a:pt x="2545" y="90"/>
                </a:lnTo>
                <a:lnTo>
                  <a:pt x="2551" y="97"/>
                </a:lnTo>
                <a:lnTo>
                  <a:pt x="2551" y="104"/>
                </a:lnTo>
                <a:lnTo>
                  <a:pt x="2551" y="111"/>
                </a:lnTo>
                <a:lnTo>
                  <a:pt x="2551" y="117"/>
                </a:lnTo>
                <a:lnTo>
                  <a:pt x="2551" y="124"/>
                </a:lnTo>
                <a:lnTo>
                  <a:pt x="2551" y="131"/>
                </a:lnTo>
                <a:lnTo>
                  <a:pt x="2551" y="131"/>
                </a:lnTo>
                <a:lnTo>
                  <a:pt x="2558" y="138"/>
                </a:lnTo>
                <a:lnTo>
                  <a:pt x="2558" y="145"/>
                </a:lnTo>
                <a:lnTo>
                  <a:pt x="2558" y="152"/>
                </a:lnTo>
                <a:lnTo>
                  <a:pt x="2558" y="159"/>
                </a:lnTo>
                <a:lnTo>
                  <a:pt x="2558" y="166"/>
                </a:lnTo>
                <a:lnTo>
                  <a:pt x="2558" y="173"/>
                </a:lnTo>
                <a:lnTo>
                  <a:pt x="2565" y="179"/>
                </a:lnTo>
                <a:lnTo>
                  <a:pt x="2572" y="179"/>
                </a:lnTo>
                <a:lnTo>
                  <a:pt x="2579" y="186"/>
                </a:lnTo>
                <a:lnTo>
                  <a:pt x="2586" y="186"/>
                </a:lnTo>
                <a:lnTo>
                  <a:pt x="2593" y="193"/>
                </a:lnTo>
                <a:lnTo>
                  <a:pt x="2593" y="200"/>
                </a:lnTo>
                <a:lnTo>
                  <a:pt x="2600" y="207"/>
                </a:lnTo>
                <a:lnTo>
                  <a:pt x="2600" y="207"/>
                </a:lnTo>
                <a:lnTo>
                  <a:pt x="2614" y="214"/>
                </a:lnTo>
                <a:lnTo>
                  <a:pt x="2620" y="214"/>
                </a:lnTo>
                <a:lnTo>
                  <a:pt x="2627" y="214"/>
                </a:lnTo>
                <a:lnTo>
                  <a:pt x="2634" y="221"/>
                </a:lnTo>
                <a:lnTo>
                  <a:pt x="2641" y="228"/>
                </a:lnTo>
                <a:lnTo>
                  <a:pt x="2641" y="235"/>
                </a:lnTo>
                <a:lnTo>
                  <a:pt x="2648" y="235"/>
                </a:lnTo>
                <a:lnTo>
                  <a:pt x="2655" y="241"/>
                </a:lnTo>
                <a:lnTo>
                  <a:pt x="2662" y="248"/>
                </a:lnTo>
                <a:lnTo>
                  <a:pt x="2669" y="248"/>
                </a:lnTo>
                <a:lnTo>
                  <a:pt x="2676" y="248"/>
                </a:lnTo>
                <a:lnTo>
                  <a:pt x="2689" y="255"/>
                </a:lnTo>
                <a:lnTo>
                  <a:pt x="2689" y="255"/>
                </a:lnTo>
                <a:lnTo>
                  <a:pt x="2696" y="262"/>
                </a:lnTo>
                <a:lnTo>
                  <a:pt x="2703" y="269"/>
                </a:lnTo>
                <a:lnTo>
                  <a:pt x="2703" y="276"/>
                </a:lnTo>
                <a:lnTo>
                  <a:pt x="2710" y="276"/>
                </a:lnTo>
                <a:lnTo>
                  <a:pt x="2724" y="283"/>
                </a:lnTo>
                <a:lnTo>
                  <a:pt x="2731" y="283"/>
                </a:lnTo>
                <a:lnTo>
                  <a:pt x="2738" y="290"/>
                </a:lnTo>
                <a:lnTo>
                  <a:pt x="2745" y="290"/>
                </a:lnTo>
                <a:lnTo>
                  <a:pt x="2745" y="297"/>
                </a:lnTo>
                <a:lnTo>
                  <a:pt x="2738" y="303"/>
                </a:lnTo>
                <a:lnTo>
                  <a:pt x="2738" y="310"/>
                </a:lnTo>
                <a:lnTo>
                  <a:pt x="2731" y="310"/>
                </a:lnTo>
                <a:lnTo>
                  <a:pt x="2731" y="317"/>
                </a:lnTo>
                <a:lnTo>
                  <a:pt x="2724" y="324"/>
                </a:lnTo>
                <a:lnTo>
                  <a:pt x="2724" y="331"/>
                </a:lnTo>
                <a:lnTo>
                  <a:pt x="2717" y="338"/>
                </a:lnTo>
                <a:lnTo>
                  <a:pt x="2710" y="338"/>
                </a:lnTo>
                <a:lnTo>
                  <a:pt x="2696" y="331"/>
                </a:lnTo>
                <a:lnTo>
                  <a:pt x="2689" y="331"/>
                </a:lnTo>
                <a:lnTo>
                  <a:pt x="2676" y="331"/>
                </a:lnTo>
                <a:lnTo>
                  <a:pt x="2669" y="324"/>
                </a:lnTo>
                <a:lnTo>
                  <a:pt x="2662" y="324"/>
                </a:lnTo>
                <a:lnTo>
                  <a:pt x="2655" y="331"/>
                </a:lnTo>
                <a:lnTo>
                  <a:pt x="2641" y="331"/>
                </a:lnTo>
                <a:lnTo>
                  <a:pt x="2634" y="331"/>
                </a:lnTo>
                <a:lnTo>
                  <a:pt x="2627" y="331"/>
                </a:lnTo>
                <a:lnTo>
                  <a:pt x="2614" y="331"/>
                </a:lnTo>
                <a:lnTo>
                  <a:pt x="2607" y="331"/>
                </a:lnTo>
                <a:lnTo>
                  <a:pt x="2600" y="331"/>
                </a:lnTo>
                <a:lnTo>
                  <a:pt x="2593" y="324"/>
                </a:lnTo>
                <a:lnTo>
                  <a:pt x="2586" y="317"/>
                </a:lnTo>
                <a:lnTo>
                  <a:pt x="2579" y="317"/>
                </a:lnTo>
                <a:lnTo>
                  <a:pt x="2565" y="317"/>
                </a:lnTo>
                <a:lnTo>
                  <a:pt x="2558" y="317"/>
                </a:lnTo>
                <a:lnTo>
                  <a:pt x="2551" y="317"/>
                </a:lnTo>
                <a:lnTo>
                  <a:pt x="2538" y="317"/>
                </a:lnTo>
                <a:lnTo>
                  <a:pt x="2531" y="317"/>
                </a:lnTo>
                <a:lnTo>
                  <a:pt x="2517" y="317"/>
                </a:lnTo>
                <a:lnTo>
                  <a:pt x="2510" y="317"/>
                </a:lnTo>
                <a:lnTo>
                  <a:pt x="2503" y="317"/>
                </a:lnTo>
                <a:lnTo>
                  <a:pt x="2496" y="310"/>
                </a:lnTo>
                <a:lnTo>
                  <a:pt x="2496" y="303"/>
                </a:lnTo>
                <a:lnTo>
                  <a:pt x="2489" y="297"/>
                </a:lnTo>
                <a:lnTo>
                  <a:pt x="2483" y="297"/>
                </a:lnTo>
                <a:lnTo>
                  <a:pt x="2476" y="290"/>
                </a:lnTo>
                <a:lnTo>
                  <a:pt x="2462" y="290"/>
                </a:lnTo>
                <a:lnTo>
                  <a:pt x="2455" y="297"/>
                </a:lnTo>
                <a:lnTo>
                  <a:pt x="2448" y="297"/>
                </a:lnTo>
                <a:lnTo>
                  <a:pt x="2455" y="303"/>
                </a:lnTo>
                <a:lnTo>
                  <a:pt x="2462" y="310"/>
                </a:lnTo>
                <a:lnTo>
                  <a:pt x="2469" y="310"/>
                </a:lnTo>
                <a:lnTo>
                  <a:pt x="2469" y="317"/>
                </a:lnTo>
                <a:lnTo>
                  <a:pt x="2476" y="324"/>
                </a:lnTo>
                <a:lnTo>
                  <a:pt x="2476" y="331"/>
                </a:lnTo>
                <a:lnTo>
                  <a:pt x="2483" y="331"/>
                </a:lnTo>
                <a:lnTo>
                  <a:pt x="2489" y="338"/>
                </a:lnTo>
                <a:lnTo>
                  <a:pt x="2496" y="338"/>
                </a:lnTo>
                <a:lnTo>
                  <a:pt x="2503" y="345"/>
                </a:lnTo>
                <a:lnTo>
                  <a:pt x="2510" y="345"/>
                </a:lnTo>
                <a:lnTo>
                  <a:pt x="2517" y="352"/>
                </a:lnTo>
                <a:lnTo>
                  <a:pt x="2524" y="359"/>
                </a:lnTo>
                <a:lnTo>
                  <a:pt x="2524" y="359"/>
                </a:lnTo>
                <a:lnTo>
                  <a:pt x="2531" y="365"/>
                </a:lnTo>
                <a:lnTo>
                  <a:pt x="2538" y="372"/>
                </a:lnTo>
                <a:lnTo>
                  <a:pt x="2545" y="379"/>
                </a:lnTo>
                <a:lnTo>
                  <a:pt x="2545" y="379"/>
                </a:lnTo>
                <a:lnTo>
                  <a:pt x="2551" y="386"/>
                </a:lnTo>
                <a:lnTo>
                  <a:pt x="2551" y="393"/>
                </a:lnTo>
                <a:lnTo>
                  <a:pt x="2558" y="400"/>
                </a:lnTo>
                <a:lnTo>
                  <a:pt x="2558" y="407"/>
                </a:lnTo>
                <a:lnTo>
                  <a:pt x="2565" y="407"/>
                </a:lnTo>
                <a:lnTo>
                  <a:pt x="2572" y="414"/>
                </a:lnTo>
                <a:lnTo>
                  <a:pt x="2579" y="421"/>
                </a:lnTo>
                <a:lnTo>
                  <a:pt x="2572" y="427"/>
                </a:lnTo>
                <a:lnTo>
                  <a:pt x="2565" y="427"/>
                </a:lnTo>
                <a:lnTo>
                  <a:pt x="2558" y="434"/>
                </a:lnTo>
                <a:lnTo>
                  <a:pt x="2551" y="434"/>
                </a:lnTo>
                <a:lnTo>
                  <a:pt x="2538" y="434"/>
                </a:lnTo>
                <a:lnTo>
                  <a:pt x="2531" y="441"/>
                </a:lnTo>
                <a:lnTo>
                  <a:pt x="2531" y="448"/>
                </a:lnTo>
                <a:lnTo>
                  <a:pt x="2524" y="448"/>
                </a:lnTo>
                <a:lnTo>
                  <a:pt x="2524" y="455"/>
                </a:lnTo>
                <a:lnTo>
                  <a:pt x="2517" y="462"/>
                </a:lnTo>
                <a:lnTo>
                  <a:pt x="2517" y="469"/>
                </a:lnTo>
                <a:lnTo>
                  <a:pt x="2517" y="476"/>
                </a:lnTo>
                <a:lnTo>
                  <a:pt x="2517" y="483"/>
                </a:lnTo>
                <a:lnTo>
                  <a:pt x="2517" y="489"/>
                </a:lnTo>
                <a:lnTo>
                  <a:pt x="2510" y="489"/>
                </a:lnTo>
                <a:lnTo>
                  <a:pt x="2510" y="496"/>
                </a:lnTo>
                <a:lnTo>
                  <a:pt x="2503" y="503"/>
                </a:lnTo>
                <a:lnTo>
                  <a:pt x="2496" y="510"/>
                </a:lnTo>
                <a:lnTo>
                  <a:pt x="2496" y="510"/>
                </a:lnTo>
                <a:lnTo>
                  <a:pt x="2483" y="517"/>
                </a:lnTo>
                <a:lnTo>
                  <a:pt x="2476" y="524"/>
                </a:lnTo>
                <a:lnTo>
                  <a:pt x="2469" y="524"/>
                </a:lnTo>
                <a:lnTo>
                  <a:pt x="2462" y="531"/>
                </a:lnTo>
                <a:lnTo>
                  <a:pt x="2455" y="531"/>
                </a:lnTo>
                <a:lnTo>
                  <a:pt x="2448" y="538"/>
                </a:lnTo>
                <a:lnTo>
                  <a:pt x="2441" y="538"/>
                </a:lnTo>
                <a:lnTo>
                  <a:pt x="2434" y="538"/>
                </a:lnTo>
                <a:lnTo>
                  <a:pt x="2420" y="538"/>
                </a:lnTo>
                <a:lnTo>
                  <a:pt x="2414" y="538"/>
                </a:lnTo>
                <a:lnTo>
                  <a:pt x="2407" y="531"/>
                </a:lnTo>
                <a:lnTo>
                  <a:pt x="2400" y="531"/>
                </a:lnTo>
                <a:lnTo>
                  <a:pt x="2393" y="524"/>
                </a:lnTo>
                <a:lnTo>
                  <a:pt x="2386" y="524"/>
                </a:lnTo>
                <a:lnTo>
                  <a:pt x="2372" y="524"/>
                </a:lnTo>
                <a:lnTo>
                  <a:pt x="2365" y="517"/>
                </a:lnTo>
                <a:lnTo>
                  <a:pt x="2358" y="517"/>
                </a:lnTo>
                <a:lnTo>
                  <a:pt x="2352" y="510"/>
                </a:lnTo>
                <a:lnTo>
                  <a:pt x="2345" y="510"/>
                </a:lnTo>
                <a:lnTo>
                  <a:pt x="2338" y="503"/>
                </a:lnTo>
                <a:lnTo>
                  <a:pt x="2331" y="503"/>
                </a:lnTo>
                <a:lnTo>
                  <a:pt x="2317" y="496"/>
                </a:lnTo>
                <a:lnTo>
                  <a:pt x="2310" y="496"/>
                </a:lnTo>
                <a:lnTo>
                  <a:pt x="2303" y="489"/>
                </a:lnTo>
                <a:lnTo>
                  <a:pt x="2296" y="489"/>
                </a:lnTo>
                <a:lnTo>
                  <a:pt x="2289" y="489"/>
                </a:lnTo>
                <a:lnTo>
                  <a:pt x="2283" y="483"/>
                </a:lnTo>
                <a:lnTo>
                  <a:pt x="2276" y="483"/>
                </a:lnTo>
                <a:lnTo>
                  <a:pt x="2269" y="476"/>
                </a:lnTo>
                <a:lnTo>
                  <a:pt x="2262" y="469"/>
                </a:lnTo>
                <a:lnTo>
                  <a:pt x="2255" y="462"/>
                </a:lnTo>
                <a:lnTo>
                  <a:pt x="2255" y="455"/>
                </a:lnTo>
                <a:lnTo>
                  <a:pt x="2248" y="455"/>
                </a:lnTo>
                <a:lnTo>
                  <a:pt x="2234" y="455"/>
                </a:lnTo>
                <a:lnTo>
                  <a:pt x="2227" y="455"/>
                </a:lnTo>
                <a:lnTo>
                  <a:pt x="2221" y="462"/>
                </a:lnTo>
                <a:lnTo>
                  <a:pt x="2207" y="462"/>
                </a:lnTo>
                <a:lnTo>
                  <a:pt x="2200" y="462"/>
                </a:lnTo>
                <a:lnTo>
                  <a:pt x="2193" y="469"/>
                </a:lnTo>
                <a:lnTo>
                  <a:pt x="2186" y="469"/>
                </a:lnTo>
                <a:lnTo>
                  <a:pt x="2172" y="469"/>
                </a:lnTo>
                <a:lnTo>
                  <a:pt x="2165" y="469"/>
                </a:lnTo>
                <a:lnTo>
                  <a:pt x="2158" y="469"/>
                </a:lnTo>
                <a:lnTo>
                  <a:pt x="2145" y="469"/>
                </a:lnTo>
                <a:lnTo>
                  <a:pt x="2138" y="469"/>
                </a:lnTo>
                <a:lnTo>
                  <a:pt x="2131" y="476"/>
                </a:lnTo>
                <a:lnTo>
                  <a:pt x="2124" y="476"/>
                </a:lnTo>
                <a:lnTo>
                  <a:pt x="2117" y="483"/>
                </a:lnTo>
                <a:lnTo>
                  <a:pt x="2110" y="483"/>
                </a:lnTo>
                <a:lnTo>
                  <a:pt x="2103" y="489"/>
                </a:lnTo>
                <a:lnTo>
                  <a:pt x="2096" y="496"/>
                </a:lnTo>
                <a:lnTo>
                  <a:pt x="2090" y="496"/>
                </a:lnTo>
                <a:lnTo>
                  <a:pt x="2083" y="503"/>
                </a:lnTo>
                <a:lnTo>
                  <a:pt x="2076" y="510"/>
                </a:lnTo>
                <a:lnTo>
                  <a:pt x="2076" y="517"/>
                </a:lnTo>
                <a:lnTo>
                  <a:pt x="2069" y="524"/>
                </a:lnTo>
                <a:lnTo>
                  <a:pt x="2069" y="524"/>
                </a:lnTo>
                <a:lnTo>
                  <a:pt x="2062" y="524"/>
                </a:lnTo>
                <a:lnTo>
                  <a:pt x="2055" y="517"/>
                </a:lnTo>
                <a:lnTo>
                  <a:pt x="2055" y="510"/>
                </a:lnTo>
                <a:lnTo>
                  <a:pt x="2055" y="503"/>
                </a:lnTo>
                <a:lnTo>
                  <a:pt x="2055" y="496"/>
                </a:lnTo>
                <a:lnTo>
                  <a:pt x="2062" y="489"/>
                </a:lnTo>
                <a:lnTo>
                  <a:pt x="2062" y="483"/>
                </a:lnTo>
                <a:lnTo>
                  <a:pt x="2069" y="476"/>
                </a:lnTo>
                <a:lnTo>
                  <a:pt x="2069" y="476"/>
                </a:lnTo>
                <a:lnTo>
                  <a:pt x="2062" y="469"/>
                </a:lnTo>
                <a:lnTo>
                  <a:pt x="2048" y="469"/>
                </a:lnTo>
                <a:lnTo>
                  <a:pt x="2041" y="469"/>
                </a:lnTo>
                <a:lnTo>
                  <a:pt x="2034" y="476"/>
                </a:lnTo>
                <a:lnTo>
                  <a:pt x="2027" y="483"/>
                </a:lnTo>
                <a:lnTo>
                  <a:pt x="2027" y="489"/>
                </a:lnTo>
                <a:lnTo>
                  <a:pt x="2027" y="489"/>
                </a:lnTo>
                <a:lnTo>
                  <a:pt x="2027" y="496"/>
                </a:lnTo>
                <a:lnTo>
                  <a:pt x="2027" y="503"/>
                </a:lnTo>
                <a:lnTo>
                  <a:pt x="2021" y="510"/>
                </a:lnTo>
                <a:lnTo>
                  <a:pt x="2021" y="517"/>
                </a:lnTo>
                <a:lnTo>
                  <a:pt x="2021" y="524"/>
                </a:lnTo>
                <a:lnTo>
                  <a:pt x="2021" y="531"/>
                </a:lnTo>
                <a:lnTo>
                  <a:pt x="2021" y="538"/>
                </a:lnTo>
                <a:lnTo>
                  <a:pt x="2014" y="538"/>
                </a:lnTo>
                <a:lnTo>
                  <a:pt x="2014" y="545"/>
                </a:lnTo>
                <a:lnTo>
                  <a:pt x="2014" y="551"/>
                </a:lnTo>
                <a:lnTo>
                  <a:pt x="2014" y="558"/>
                </a:lnTo>
                <a:lnTo>
                  <a:pt x="2007" y="565"/>
                </a:lnTo>
                <a:lnTo>
                  <a:pt x="2007" y="572"/>
                </a:lnTo>
                <a:lnTo>
                  <a:pt x="2007" y="579"/>
                </a:lnTo>
                <a:lnTo>
                  <a:pt x="2000" y="579"/>
                </a:lnTo>
                <a:lnTo>
                  <a:pt x="2000" y="586"/>
                </a:lnTo>
                <a:lnTo>
                  <a:pt x="2000" y="593"/>
                </a:lnTo>
                <a:lnTo>
                  <a:pt x="2000" y="600"/>
                </a:lnTo>
                <a:lnTo>
                  <a:pt x="1993" y="607"/>
                </a:lnTo>
                <a:lnTo>
                  <a:pt x="1993" y="613"/>
                </a:lnTo>
                <a:lnTo>
                  <a:pt x="1993" y="620"/>
                </a:lnTo>
                <a:lnTo>
                  <a:pt x="1986" y="620"/>
                </a:lnTo>
                <a:lnTo>
                  <a:pt x="1986" y="627"/>
                </a:lnTo>
                <a:lnTo>
                  <a:pt x="1986" y="634"/>
                </a:lnTo>
                <a:lnTo>
                  <a:pt x="1979" y="641"/>
                </a:lnTo>
                <a:lnTo>
                  <a:pt x="1979" y="648"/>
                </a:lnTo>
                <a:lnTo>
                  <a:pt x="1979" y="655"/>
                </a:lnTo>
                <a:lnTo>
                  <a:pt x="1979" y="662"/>
                </a:lnTo>
                <a:lnTo>
                  <a:pt x="1972" y="662"/>
                </a:lnTo>
                <a:lnTo>
                  <a:pt x="1965" y="669"/>
                </a:lnTo>
                <a:lnTo>
                  <a:pt x="1959" y="675"/>
                </a:lnTo>
                <a:lnTo>
                  <a:pt x="1959" y="682"/>
                </a:lnTo>
                <a:lnTo>
                  <a:pt x="1959" y="689"/>
                </a:lnTo>
                <a:lnTo>
                  <a:pt x="1959" y="689"/>
                </a:lnTo>
                <a:lnTo>
                  <a:pt x="1965" y="696"/>
                </a:lnTo>
                <a:lnTo>
                  <a:pt x="1965" y="703"/>
                </a:lnTo>
                <a:lnTo>
                  <a:pt x="1965" y="710"/>
                </a:lnTo>
                <a:lnTo>
                  <a:pt x="1959" y="717"/>
                </a:lnTo>
                <a:lnTo>
                  <a:pt x="1959" y="724"/>
                </a:lnTo>
                <a:lnTo>
                  <a:pt x="1945" y="724"/>
                </a:lnTo>
                <a:lnTo>
                  <a:pt x="1938" y="731"/>
                </a:lnTo>
                <a:lnTo>
                  <a:pt x="1931" y="731"/>
                </a:lnTo>
                <a:lnTo>
                  <a:pt x="1924" y="731"/>
                </a:lnTo>
                <a:lnTo>
                  <a:pt x="1910" y="731"/>
                </a:lnTo>
                <a:lnTo>
                  <a:pt x="1903" y="731"/>
                </a:lnTo>
                <a:lnTo>
                  <a:pt x="1896" y="731"/>
                </a:lnTo>
                <a:lnTo>
                  <a:pt x="1883" y="731"/>
                </a:lnTo>
                <a:lnTo>
                  <a:pt x="1876" y="724"/>
                </a:lnTo>
                <a:lnTo>
                  <a:pt x="1869" y="724"/>
                </a:lnTo>
                <a:lnTo>
                  <a:pt x="1855" y="724"/>
                </a:lnTo>
                <a:lnTo>
                  <a:pt x="1848" y="724"/>
                </a:lnTo>
                <a:lnTo>
                  <a:pt x="1841" y="731"/>
                </a:lnTo>
                <a:lnTo>
                  <a:pt x="1828" y="731"/>
                </a:lnTo>
                <a:lnTo>
                  <a:pt x="1821" y="731"/>
                </a:lnTo>
                <a:lnTo>
                  <a:pt x="1807" y="731"/>
                </a:lnTo>
                <a:lnTo>
                  <a:pt x="1800" y="737"/>
                </a:lnTo>
                <a:lnTo>
                  <a:pt x="1800" y="737"/>
                </a:lnTo>
                <a:lnTo>
                  <a:pt x="1793" y="744"/>
                </a:lnTo>
                <a:lnTo>
                  <a:pt x="1793" y="751"/>
                </a:lnTo>
                <a:lnTo>
                  <a:pt x="1786" y="758"/>
                </a:lnTo>
                <a:lnTo>
                  <a:pt x="1779" y="765"/>
                </a:lnTo>
                <a:lnTo>
                  <a:pt x="1779" y="765"/>
                </a:lnTo>
                <a:lnTo>
                  <a:pt x="1772" y="772"/>
                </a:lnTo>
                <a:lnTo>
                  <a:pt x="1772" y="779"/>
                </a:lnTo>
                <a:lnTo>
                  <a:pt x="1765" y="786"/>
                </a:lnTo>
                <a:lnTo>
                  <a:pt x="1765" y="786"/>
                </a:lnTo>
                <a:lnTo>
                  <a:pt x="1759" y="793"/>
                </a:lnTo>
                <a:lnTo>
                  <a:pt x="1752" y="799"/>
                </a:lnTo>
                <a:lnTo>
                  <a:pt x="1752" y="806"/>
                </a:lnTo>
                <a:lnTo>
                  <a:pt x="1745" y="813"/>
                </a:lnTo>
                <a:lnTo>
                  <a:pt x="1745" y="813"/>
                </a:lnTo>
                <a:lnTo>
                  <a:pt x="1738" y="820"/>
                </a:lnTo>
                <a:lnTo>
                  <a:pt x="1738" y="827"/>
                </a:lnTo>
                <a:lnTo>
                  <a:pt x="1731" y="834"/>
                </a:lnTo>
                <a:lnTo>
                  <a:pt x="1731" y="841"/>
                </a:lnTo>
                <a:lnTo>
                  <a:pt x="1724" y="841"/>
                </a:lnTo>
                <a:lnTo>
                  <a:pt x="1717" y="848"/>
                </a:lnTo>
                <a:lnTo>
                  <a:pt x="1717" y="855"/>
                </a:lnTo>
                <a:lnTo>
                  <a:pt x="1710" y="861"/>
                </a:lnTo>
                <a:lnTo>
                  <a:pt x="1710" y="868"/>
                </a:lnTo>
                <a:lnTo>
                  <a:pt x="1710" y="868"/>
                </a:lnTo>
                <a:lnTo>
                  <a:pt x="1703" y="875"/>
                </a:lnTo>
                <a:lnTo>
                  <a:pt x="1703" y="882"/>
                </a:lnTo>
                <a:lnTo>
                  <a:pt x="1703" y="889"/>
                </a:lnTo>
                <a:lnTo>
                  <a:pt x="1703" y="896"/>
                </a:lnTo>
                <a:lnTo>
                  <a:pt x="1703" y="903"/>
                </a:lnTo>
                <a:lnTo>
                  <a:pt x="1697" y="910"/>
                </a:lnTo>
                <a:lnTo>
                  <a:pt x="1697" y="910"/>
                </a:lnTo>
                <a:lnTo>
                  <a:pt x="1690" y="917"/>
                </a:lnTo>
                <a:lnTo>
                  <a:pt x="1690" y="923"/>
                </a:lnTo>
                <a:lnTo>
                  <a:pt x="1683" y="930"/>
                </a:lnTo>
                <a:lnTo>
                  <a:pt x="1676" y="923"/>
                </a:lnTo>
                <a:lnTo>
                  <a:pt x="1669" y="917"/>
                </a:lnTo>
                <a:lnTo>
                  <a:pt x="1669" y="910"/>
                </a:lnTo>
                <a:lnTo>
                  <a:pt x="1662" y="903"/>
                </a:lnTo>
                <a:lnTo>
                  <a:pt x="1662" y="896"/>
                </a:lnTo>
                <a:lnTo>
                  <a:pt x="1662" y="896"/>
                </a:lnTo>
                <a:lnTo>
                  <a:pt x="1662" y="889"/>
                </a:lnTo>
                <a:lnTo>
                  <a:pt x="1662" y="882"/>
                </a:lnTo>
                <a:lnTo>
                  <a:pt x="1662" y="875"/>
                </a:lnTo>
                <a:lnTo>
                  <a:pt x="1662" y="875"/>
                </a:lnTo>
                <a:lnTo>
                  <a:pt x="1655" y="868"/>
                </a:lnTo>
                <a:lnTo>
                  <a:pt x="1655" y="855"/>
                </a:lnTo>
                <a:lnTo>
                  <a:pt x="1655" y="848"/>
                </a:lnTo>
                <a:lnTo>
                  <a:pt x="1655" y="848"/>
                </a:lnTo>
                <a:lnTo>
                  <a:pt x="1655" y="855"/>
                </a:lnTo>
                <a:lnTo>
                  <a:pt x="1655" y="868"/>
                </a:lnTo>
                <a:lnTo>
                  <a:pt x="1655" y="875"/>
                </a:lnTo>
                <a:lnTo>
                  <a:pt x="1648" y="875"/>
                </a:lnTo>
                <a:lnTo>
                  <a:pt x="1648" y="882"/>
                </a:lnTo>
                <a:lnTo>
                  <a:pt x="1648" y="889"/>
                </a:lnTo>
                <a:lnTo>
                  <a:pt x="1648" y="896"/>
                </a:lnTo>
                <a:lnTo>
                  <a:pt x="1648" y="903"/>
                </a:lnTo>
                <a:lnTo>
                  <a:pt x="1648" y="903"/>
                </a:lnTo>
                <a:lnTo>
                  <a:pt x="1648" y="910"/>
                </a:lnTo>
                <a:lnTo>
                  <a:pt x="1648" y="917"/>
                </a:lnTo>
                <a:lnTo>
                  <a:pt x="1648" y="923"/>
                </a:lnTo>
                <a:lnTo>
                  <a:pt x="1648" y="930"/>
                </a:lnTo>
                <a:lnTo>
                  <a:pt x="1655" y="937"/>
                </a:lnTo>
                <a:lnTo>
                  <a:pt x="1648" y="944"/>
                </a:lnTo>
                <a:lnTo>
                  <a:pt x="1648" y="951"/>
                </a:lnTo>
                <a:lnTo>
                  <a:pt x="1641" y="951"/>
                </a:lnTo>
                <a:lnTo>
                  <a:pt x="1634" y="958"/>
                </a:lnTo>
                <a:lnTo>
                  <a:pt x="1621" y="958"/>
                </a:lnTo>
                <a:lnTo>
                  <a:pt x="1614" y="951"/>
                </a:lnTo>
                <a:lnTo>
                  <a:pt x="1600" y="951"/>
                </a:lnTo>
                <a:lnTo>
                  <a:pt x="1593" y="951"/>
                </a:lnTo>
                <a:lnTo>
                  <a:pt x="1586" y="951"/>
                </a:lnTo>
                <a:lnTo>
                  <a:pt x="1579" y="951"/>
                </a:lnTo>
                <a:lnTo>
                  <a:pt x="1566" y="958"/>
                </a:lnTo>
                <a:lnTo>
                  <a:pt x="1559" y="958"/>
                </a:lnTo>
                <a:lnTo>
                  <a:pt x="1552" y="965"/>
                </a:lnTo>
                <a:lnTo>
                  <a:pt x="1545" y="965"/>
                </a:lnTo>
                <a:lnTo>
                  <a:pt x="1538" y="972"/>
                </a:lnTo>
                <a:lnTo>
                  <a:pt x="1531" y="972"/>
                </a:lnTo>
                <a:lnTo>
                  <a:pt x="1524" y="979"/>
                </a:lnTo>
                <a:lnTo>
                  <a:pt x="1517" y="985"/>
                </a:lnTo>
                <a:lnTo>
                  <a:pt x="1517" y="985"/>
                </a:lnTo>
                <a:lnTo>
                  <a:pt x="1510" y="992"/>
                </a:lnTo>
                <a:lnTo>
                  <a:pt x="1510" y="999"/>
                </a:lnTo>
                <a:lnTo>
                  <a:pt x="1510" y="1006"/>
                </a:lnTo>
                <a:lnTo>
                  <a:pt x="1503" y="1013"/>
                </a:lnTo>
                <a:lnTo>
                  <a:pt x="1497" y="1013"/>
                </a:lnTo>
                <a:lnTo>
                  <a:pt x="1490" y="1013"/>
                </a:lnTo>
                <a:lnTo>
                  <a:pt x="1476" y="1013"/>
                </a:lnTo>
                <a:lnTo>
                  <a:pt x="1469" y="1013"/>
                </a:lnTo>
                <a:lnTo>
                  <a:pt x="1455" y="1013"/>
                </a:lnTo>
                <a:lnTo>
                  <a:pt x="1448" y="1013"/>
                </a:lnTo>
                <a:lnTo>
                  <a:pt x="1448" y="1006"/>
                </a:lnTo>
                <a:lnTo>
                  <a:pt x="1441" y="999"/>
                </a:lnTo>
                <a:lnTo>
                  <a:pt x="1434" y="999"/>
                </a:lnTo>
                <a:lnTo>
                  <a:pt x="1428" y="992"/>
                </a:lnTo>
                <a:lnTo>
                  <a:pt x="1428" y="985"/>
                </a:lnTo>
                <a:lnTo>
                  <a:pt x="1421" y="979"/>
                </a:lnTo>
                <a:lnTo>
                  <a:pt x="1414" y="979"/>
                </a:lnTo>
                <a:lnTo>
                  <a:pt x="1407" y="972"/>
                </a:lnTo>
                <a:lnTo>
                  <a:pt x="1400" y="965"/>
                </a:lnTo>
                <a:lnTo>
                  <a:pt x="1393" y="965"/>
                </a:lnTo>
                <a:lnTo>
                  <a:pt x="1386" y="958"/>
                </a:lnTo>
                <a:lnTo>
                  <a:pt x="1379" y="951"/>
                </a:lnTo>
                <a:lnTo>
                  <a:pt x="1379" y="951"/>
                </a:lnTo>
                <a:lnTo>
                  <a:pt x="1372" y="944"/>
                </a:lnTo>
                <a:lnTo>
                  <a:pt x="1366" y="937"/>
                </a:lnTo>
                <a:lnTo>
                  <a:pt x="1359" y="937"/>
                </a:lnTo>
                <a:lnTo>
                  <a:pt x="1352" y="937"/>
                </a:lnTo>
                <a:lnTo>
                  <a:pt x="1352" y="944"/>
                </a:lnTo>
                <a:lnTo>
                  <a:pt x="1352" y="951"/>
                </a:lnTo>
                <a:lnTo>
                  <a:pt x="1352" y="958"/>
                </a:lnTo>
                <a:lnTo>
                  <a:pt x="1352" y="965"/>
                </a:lnTo>
                <a:lnTo>
                  <a:pt x="1352" y="972"/>
                </a:lnTo>
                <a:lnTo>
                  <a:pt x="1359" y="979"/>
                </a:lnTo>
                <a:lnTo>
                  <a:pt x="1359" y="979"/>
                </a:lnTo>
                <a:lnTo>
                  <a:pt x="1366" y="985"/>
                </a:lnTo>
                <a:lnTo>
                  <a:pt x="1366" y="992"/>
                </a:lnTo>
                <a:lnTo>
                  <a:pt x="1372" y="999"/>
                </a:lnTo>
                <a:lnTo>
                  <a:pt x="1372" y="1006"/>
                </a:lnTo>
                <a:lnTo>
                  <a:pt x="1379" y="1006"/>
                </a:lnTo>
                <a:lnTo>
                  <a:pt x="1379" y="1013"/>
                </a:lnTo>
                <a:lnTo>
                  <a:pt x="1386" y="1020"/>
                </a:lnTo>
                <a:lnTo>
                  <a:pt x="1393" y="1027"/>
                </a:lnTo>
                <a:lnTo>
                  <a:pt x="1393" y="1034"/>
                </a:lnTo>
                <a:lnTo>
                  <a:pt x="1400" y="1034"/>
                </a:lnTo>
                <a:lnTo>
                  <a:pt x="1400" y="1041"/>
                </a:lnTo>
                <a:lnTo>
                  <a:pt x="1407" y="1047"/>
                </a:lnTo>
                <a:lnTo>
                  <a:pt x="1407" y="1054"/>
                </a:lnTo>
                <a:lnTo>
                  <a:pt x="1407" y="1061"/>
                </a:lnTo>
                <a:lnTo>
                  <a:pt x="1407" y="1068"/>
                </a:lnTo>
                <a:lnTo>
                  <a:pt x="1414" y="1068"/>
                </a:lnTo>
                <a:lnTo>
                  <a:pt x="1421" y="1075"/>
                </a:lnTo>
                <a:lnTo>
                  <a:pt x="1421" y="1082"/>
                </a:lnTo>
                <a:lnTo>
                  <a:pt x="1428" y="1089"/>
                </a:lnTo>
                <a:lnTo>
                  <a:pt x="1428" y="1096"/>
                </a:lnTo>
                <a:lnTo>
                  <a:pt x="1434" y="1096"/>
                </a:lnTo>
                <a:lnTo>
                  <a:pt x="1434" y="1103"/>
                </a:lnTo>
                <a:lnTo>
                  <a:pt x="1441" y="1109"/>
                </a:lnTo>
                <a:lnTo>
                  <a:pt x="1441" y="1116"/>
                </a:lnTo>
                <a:lnTo>
                  <a:pt x="1448" y="1123"/>
                </a:lnTo>
                <a:lnTo>
                  <a:pt x="1455" y="1123"/>
                </a:lnTo>
                <a:lnTo>
                  <a:pt x="1455" y="1130"/>
                </a:lnTo>
                <a:lnTo>
                  <a:pt x="1455" y="1137"/>
                </a:lnTo>
                <a:lnTo>
                  <a:pt x="1455" y="1144"/>
                </a:lnTo>
                <a:lnTo>
                  <a:pt x="1448" y="1151"/>
                </a:lnTo>
                <a:lnTo>
                  <a:pt x="1448" y="1158"/>
                </a:lnTo>
                <a:lnTo>
                  <a:pt x="1441" y="1158"/>
                </a:lnTo>
                <a:lnTo>
                  <a:pt x="1434" y="1165"/>
                </a:lnTo>
                <a:lnTo>
                  <a:pt x="1428" y="1171"/>
                </a:lnTo>
                <a:lnTo>
                  <a:pt x="1421" y="1171"/>
                </a:lnTo>
                <a:lnTo>
                  <a:pt x="1414" y="1178"/>
                </a:lnTo>
                <a:lnTo>
                  <a:pt x="1407" y="1178"/>
                </a:lnTo>
                <a:lnTo>
                  <a:pt x="1400" y="1185"/>
                </a:lnTo>
                <a:lnTo>
                  <a:pt x="1393" y="1192"/>
                </a:lnTo>
                <a:lnTo>
                  <a:pt x="1386" y="1192"/>
                </a:lnTo>
                <a:lnTo>
                  <a:pt x="1379" y="1192"/>
                </a:lnTo>
                <a:lnTo>
                  <a:pt x="1366" y="1199"/>
                </a:lnTo>
                <a:lnTo>
                  <a:pt x="1359" y="1199"/>
                </a:lnTo>
                <a:lnTo>
                  <a:pt x="1352" y="1199"/>
                </a:lnTo>
                <a:lnTo>
                  <a:pt x="1338" y="1199"/>
                </a:lnTo>
                <a:lnTo>
                  <a:pt x="1331" y="1199"/>
                </a:lnTo>
                <a:lnTo>
                  <a:pt x="1324" y="1199"/>
                </a:lnTo>
                <a:lnTo>
                  <a:pt x="1310" y="1199"/>
                </a:lnTo>
                <a:lnTo>
                  <a:pt x="1303" y="1199"/>
                </a:lnTo>
                <a:lnTo>
                  <a:pt x="1297" y="1199"/>
                </a:lnTo>
                <a:lnTo>
                  <a:pt x="1283" y="1199"/>
                </a:lnTo>
                <a:lnTo>
                  <a:pt x="1276" y="1206"/>
                </a:lnTo>
                <a:lnTo>
                  <a:pt x="1269" y="1206"/>
                </a:lnTo>
                <a:lnTo>
                  <a:pt x="1262" y="1213"/>
                </a:lnTo>
                <a:lnTo>
                  <a:pt x="1262" y="1220"/>
                </a:lnTo>
                <a:lnTo>
                  <a:pt x="1262" y="1227"/>
                </a:lnTo>
                <a:lnTo>
                  <a:pt x="1262" y="1233"/>
                </a:lnTo>
                <a:lnTo>
                  <a:pt x="1262" y="1240"/>
                </a:lnTo>
                <a:lnTo>
                  <a:pt x="1262" y="1240"/>
                </a:lnTo>
                <a:lnTo>
                  <a:pt x="1255" y="1247"/>
                </a:lnTo>
                <a:lnTo>
                  <a:pt x="1255" y="1254"/>
                </a:lnTo>
                <a:lnTo>
                  <a:pt x="1255" y="1261"/>
                </a:lnTo>
                <a:lnTo>
                  <a:pt x="1248" y="1268"/>
                </a:lnTo>
                <a:lnTo>
                  <a:pt x="1248" y="1275"/>
                </a:lnTo>
                <a:lnTo>
                  <a:pt x="1248" y="1282"/>
                </a:lnTo>
                <a:lnTo>
                  <a:pt x="1241" y="1289"/>
                </a:lnTo>
                <a:lnTo>
                  <a:pt x="1241" y="1289"/>
                </a:lnTo>
                <a:lnTo>
                  <a:pt x="1235" y="1289"/>
                </a:lnTo>
                <a:lnTo>
                  <a:pt x="1228" y="1289"/>
                </a:lnTo>
                <a:lnTo>
                  <a:pt x="1214" y="1282"/>
                </a:lnTo>
                <a:lnTo>
                  <a:pt x="1207" y="1282"/>
                </a:lnTo>
                <a:lnTo>
                  <a:pt x="1200" y="1282"/>
                </a:lnTo>
                <a:lnTo>
                  <a:pt x="1186" y="1282"/>
                </a:lnTo>
                <a:lnTo>
                  <a:pt x="1179" y="1282"/>
                </a:lnTo>
                <a:lnTo>
                  <a:pt x="1172" y="1282"/>
                </a:lnTo>
                <a:lnTo>
                  <a:pt x="1159" y="1282"/>
                </a:lnTo>
                <a:lnTo>
                  <a:pt x="1152" y="1282"/>
                </a:lnTo>
                <a:lnTo>
                  <a:pt x="1145" y="1289"/>
                </a:lnTo>
                <a:lnTo>
                  <a:pt x="1131" y="1289"/>
                </a:lnTo>
                <a:lnTo>
                  <a:pt x="1124" y="1289"/>
                </a:lnTo>
                <a:lnTo>
                  <a:pt x="1117" y="1295"/>
                </a:lnTo>
                <a:lnTo>
                  <a:pt x="1117" y="1295"/>
                </a:lnTo>
                <a:lnTo>
                  <a:pt x="1117" y="1302"/>
                </a:lnTo>
                <a:lnTo>
                  <a:pt x="1117" y="1309"/>
                </a:lnTo>
                <a:lnTo>
                  <a:pt x="1124" y="1316"/>
                </a:lnTo>
                <a:lnTo>
                  <a:pt x="1124" y="1323"/>
                </a:lnTo>
                <a:lnTo>
                  <a:pt x="1131" y="1330"/>
                </a:lnTo>
                <a:lnTo>
                  <a:pt x="1131" y="1330"/>
                </a:lnTo>
                <a:lnTo>
                  <a:pt x="1131" y="1337"/>
                </a:lnTo>
                <a:lnTo>
                  <a:pt x="1138" y="1344"/>
                </a:lnTo>
                <a:lnTo>
                  <a:pt x="1145" y="1351"/>
                </a:lnTo>
                <a:lnTo>
                  <a:pt x="1145" y="1357"/>
                </a:lnTo>
                <a:lnTo>
                  <a:pt x="1152" y="1357"/>
                </a:lnTo>
                <a:lnTo>
                  <a:pt x="1152" y="1364"/>
                </a:lnTo>
                <a:lnTo>
                  <a:pt x="1145" y="1364"/>
                </a:lnTo>
                <a:lnTo>
                  <a:pt x="1138" y="1357"/>
                </a:lnTo>
                <a:lnTo>
                  <a:pt x="1131" y="1357"/>
                </a:lnTo>
                <a:lnTo>
                  <a:pt x="1131" y="1351"/>
                </a:lnTo>
                <a:lnTo>
                  <a:pt x="1124" y="1344"/>
                </a:lnTo>
                <a:lnTo>
                  <a:pt x="1117" y="1344"/>
                </a:lnTo>
                <a:lnTo>
                  <a:pt x="1110" y="1337"/>
                </a:lnTo>
                <a:lnTo>
                  <a:pt x="1104" y="1337"/>
                </a:lnTo>
                <a:lnTo>
                  <a:pt x="1097" y="1330"/>
                </a:lnTo>
                <a:lnTo>
                  <a:pt x="1090" y="1323"/>
                </a:lnTo>
                <a:lnTo>
                  <a:pt x="1083" y="1323"/>
                </a:lnTo>
                <a:lnTo>
                  <a:pt x="1076" y="1316"/>
                </a:lnTo>
                <a:lnTo>
                  <a:pt x="1069" y="1316"/>
                </a:lnTo>
                <a:lnTo>
                  <a:pt x="1062" y="1309"/>
                </a:lnTo>
                <a:lnTo>
                  <a:pt x="1048" y="1309"/>
                </a:lnTo>
                <a:lnTo>
                  <a:pt x="1041" y="1309"/>
                </a:lnTo>
                <a:lnTo>
                  <a:pt x="1035" y="1302"/>
                </a:lnTo>
                <a:lnTo>
                  <a:pt x="1028" y="1302"/>
                </a:lnTo>
                <a:lnTo>
                  <a:pt x="1014" y="1302"/>
                </a:lnTo>
                <a:lnTo>
                  <a:pt x="1007" y="1295"/>
                </a:lnTo>
                <a:lnTo>
                  <a:pt x="1000" y="1295"/>
                </a:lnTo>
                <a:lnTo>
                  <a:pt x="993" y="1295"/>
                </a:lnTo>
                <a:lnTo>
                  <a:pt x="979" y="1289"/>
                </a:lnTo>
                <a:lnTo>
                  <a:pt x="973" y="1289"/>
                </a:lnTo>
                <a:lnTo>
                  <a:pt x="966" y="1289"/>
                </a:lnTo>
                <a:lnTo>
                  <a:pt x="959" y="1282"/>
                </a:lnTo>
                <a:lnTo>
                  <a:pt x="945" y="1282"/>
                </a:lnTo>
                <a:lnTo>
                  <a:pt x="938" y="1282"/>
                </a:lnTo>
                <a:lnTo>
                  <a:pt x="931" y="1275"/>
                </a:lnTo>
                <a:lnTo>
                  <a:pt x="924" y="1275"/>
                </a:lnTo>
                <a:lnTo>
                  <a:pt x="910" y="1275"/>
                </a:lnTo>
                <a:lnTo>
                  <a:pt x="904" y="1268"/>
                </a:lnTo>
                <a:lnTo>
                  <a:pt x="897" y="1268"/>
                </a:lnTo>
                <a:lnTo>
                  <a:pt x="890" y="1268"/>
                </a:lnTo>
                <a:lnTo>
                  <a:pt x="876" y="1268"/>
                </a:lnTo>
                <a:lnTo>
                  <a:pt x="869" y="1261"/>
                </a:lnTo>
                <a:lnTo>
                  <a:pt x="862" y="1261"/>
                </a:lnTo>
                <a:lnTo>
                  <a:pt x="848" y="1261"/>
                </a:lnTo>
                <a:lnTo>
                  <a:pt x="842" y="1261"/>
                </a:lnTo>
                <a:lnTo>
                  <a:pt x="835" y="1261"/>
                </a:lnTo>
                <a:lnTo>
                  <a:pt x="821" y="1261"/>
                </a:lnTo>
                <a:lnTo>
                  <a:pt x="814" y="1261"/>
                </a:lnTo>
                <a:lnTo>
                  <a:pt x="807" y="1261"/>
                </a:lnTo>
                <a:lnTo>
                  <a:pt x="800" y="1261"/>
                </a:lnTo>
                <a:lnTo>
                  <a:pt x="793" y="1268"/>
                </a:lnTo>
                <a:lnTo>
                  <a:pt x="786" y="1275"/>
                </a:lnTo>
                <a:lnTo>
                  <a:pt x="786" y="1282"/>
                </a:lnTo>
                <a:lnTo>
                  <a:pt x="779" y="1289"/>
                </a:lnTo>
                <a:lnTo>
                  <a:pt x="773" y="1289"/>
                </a:lnTo>
                <a:lnTo>
                  <a:pt x="773" y="1295"/>
                </a:lnTo>
                <a:lnTo>
                  <a:pt x="766" y="1302"/>
                </a:lnTo>
                <a:lnTo>
                  <a:pt x="766" y="1309"/>
                </a:lnTo>
                <a:lnTo>
                  <a:pt x="766" y="1316"/>
                </a:lnTo>
                <a:lnTo>
                  <a:pt x="766" y="1316"/>
                </a:lnTo>
                <a:lnTo>
                  <a:pt x="766" y="1323"/>
                </a:lnTo>
                <a:lnTo>
                  <a:pt x="766" y="1330"/>
                </a:lnTo>
                <a:lnTo>
                  <a:pt x="766" y="1337"/>
                </a:lnTo>
                <a:lnTo>
                  <a:pt x="759" y="1344"/>
                </a:lnTo>
                <a:lnTo>
                  <a:pt x="759" y="1351"/>
                </a:lnTo>
                <a:lnTo>
                  <a:pt x="759" y="1357"/>
                </a:lnTo>
                <a:lnTo>
                  <a:pt x="759" y="1364"/>
                </a:lnTo>
                <a:lnTo>
                  <a:pt x="759" y="1364"/>
                </a:lnTo>
                <a:lnTo>
                  <a:pt x="759" y="1371"/>
                </a:lnTo>
                <a:lnTo>
                  <a:pt x="759" y="1378"/>
                </a:lnTo>
                <a:lnTo>
                  <a:pt x="752" y="1385"/>
                </a:lnTo>
                <a:lnTo>
                  <a:pt x="752" y="1392"/>
                </a:lnTo>
                <a:lnTo>
                  <a:pt x="752" y="1399"/>
                </a:lnTo>
                <a:lnTo>
                  <a:pt x="752" y="1406"/>
                </a:lnTo>
                <a:lnTo>
                  <a:pt x="752" y="1413"/>
                </a:lnTo>
                <a:lnTo>
                  <a:pt x="752" y="1413"/>
                </a:lnTo>
                <a:lnTo>
                  <a:pt x="752" y="1419"/>
                </a:lnTo>
                <a:lnTo>
                  <a:pt x="752" y="1426"/>
                </a:lnTo>
                <a:lnTo>
                  <a:pt x="745" y="1433"/>
                </a:lnTo>
                <a:lnTo>
                  <a:pt x="745" y="1440"/>
                </a:lnTo>
                <a:lnTo>
                  <a:pt x="745" y="1447"/>
                </a:lnTo>
                <a:lnTo>
                  <a:pt x="745" y="1454"/>
                </a:lnTo>
                <a:lnTo>
                  <a:pt x="745" y="1454"/>
                </a:lnTo>
                <a:lnTo>
                  <a:pt x="745" y="1461"/>
                </a:lnTo>
                <a:lnTo>
                  <a:pt x="745" y="1468"/>
                </a:lnTo>
                <a:lnTo>
                  <a:pt x="738" y="1475"/>
                </a:lnTo>
                <a:lnTo>
                  <a:pt x="738" y="1481"/>
                </a:lnTo>
                <a:lnTo>
                  <a:pt x="738" y="1488"/>
                </a:lnTo>
                <a:lnTo>
                  <a:pt x="738" y="1495"/>
                </a:lnTo>
                <a:lnTo>
                  <a:pt x="738" y="1502"/>
                </a:lnTo>
                <a:lnTo>
                  <a:pt x="738" y="1502"/>
                </a:lnTo>
                <a:lnTo>
                  <a:pt x="738" y="1509"/>
                </a:lnTo>
                <a:lnTo>
                  <a:pt x="738" y="1516"/>
                </a:lnTo>
                <a:lnTo>
                  <a:pt x="766" y="1543"/>
                </a:lnTo>
                <a:lnTo>
                  <a:pt x="793" y="1571"/>
                </a:lnTo>
                <a:lnTo>
                  <a:pt x="828" y="1599"/>
                </a:lnTo>
                <a:lnTo>
                  <a:pt x="855" y="1633"/>
                </a:lnTo>
                <a:lnTo>
                  <a:pt x="883" y="1633"/>
                </a:lnTo>
                <a:lnTo>
                  <a:pt x="917" y="1660"/>
                </a:lnTo>
                <a:lnTo>
                  <a:pt x="945" y="1688"/>
                </a:lnTo>
                <a:lnTo>
                  <a:pt x="973" y="1722"/>
                </a:lnTo>
                <a:lnTo>
                  <a:pt x="1000" y="1750"/>
                </a:lnTo>
                <a:lnTo>
                  <a:pt x="1035" y="1778"/>
                </a:lnTo>
                <a:lnTo>
                  <a:pt x="1062" y="1812"/>
                </a:lnTo>
                <a:lnTo>
                  <a:pt x="1090" y="1840"/>
                </a:lnTo>
                <a:lnTo>
                  <a:pt x="1124" y="1840"/>
                </a:lnTo>
                <a:lnTo>
                  <a:pt x="1152" y="1840"/>
                </a:lnTo>
                <a:lnTo>
                  <a:pt x="1179" y="1840"/>
                </a:lnTo>
                <a:lnTo>
                  <a:pt x="1207" y="1840"/>
                </a:lnTo>
                <a:lnTo>
                  <a:pt x="1241" y="1840"/>
                </a:lnTo>
                <a:lnTo>
                  <a:pt x="1269" y="1840"/>
                </a:lnTo>
                <a:lnTo>
                  <a:pt x="1297" y="1840"/>
                </a:lnTo>
                <a:lnTo>
                  <a:pt x="1331" y="1840"/>
                </a:lnTo>
                <a:lnTo>
                  <a:pt x="1359" y="1840"/>
                </a:lnTo>
                <a:lnTo>
                  <a:pt x="1386" y="1840"/>
                </a:lnTo>
                <a:lnTo>
                  <a:pt x="1414" y="1840"/>
                </a:lnTo>
                <a:lnTo>
                  <a:pt x="1448" y="1840"/>
                </a:lnTo>
                <a:lnTo>
                  <a:pt x="1476" y="1840"/>
                </a:lnTo>
                <a:lnTo>
                  <a:pt x="1503" y="1840"/>
                </a:lnTo>
                <a:lnTo>
                  <a:pt x="1538" y="1840"/>
                </a:lnTo>
                <a:lnTo>
                  <a:pt x="1566" y="1840"/>
                </a:lnTo>
                <a:lnTo>
                  <a:pt x="1593" y="1840"/>
                </a:lnTo>
                <a:lnTo>
                  <a:pt x="1621" y="1840"/>
                </a:lnTo>
                <a:lnTo>
                  <a:pt x="1655" y="1840"/>
                </a:lnTo>
                <a:lnTo>
                  <a:pt x="1683" y="1840"/>
                </a:lnTo>
                <a:lnTo>
                  <a:pt x="1710" y="1840"/>
                </a:lnTo>
                <a:lnTo>
                  <a:pt x="1745" y="1840"/>
                </a:lnTo>
                <a:lnTo>
                  <a:pt x="1772" y="1840"/>
                </a:lnTo>
                <a:lnTo>
                  <a:pt x="1800" y="1840"/>
                </a:lnTo>
                <a:lnTo>
                  <a:pt x="1828" y="1840"/>
                </a:lnTo>
                <a:lnTo>
                  <a:pt x="1862" y="1840"/>
                </a:lnTo>
                <a:lnTo>
                  <a:pt x="1890" y="1840"/>
                </a:lnTo>
                <a:lnTo>
                  <a:pt x="1917" y="1840"/>
                </a:lnTo>
                <a:lnTo>
                  <a:pt x="1952" y="1840"/>
                </a:lnTo>
                <a:lnTo>
                  <a:pt x="1979" y="1840"/>
                </a:lnTo>
                <a:lnTo>
                  <a:pt x="2007" y="1840"/>
                </a:lnTo>
                <a:lnTo>
                  <a:pt x="2034" y="1840"/>
                </a:lnTo>
                <a:lnTo>
                  <a:pt x="2069" y="1840"/>
                </a:lnTo>
                <a:lnTo>
                  <a:pt x="2096" y="1840"/>
                </a:lnTo>
                <a:lnTo>
                  <a:pt x="2124" y="1840"/>
                </a:lnTo>
                <a:lnTo>
                  <a:pt x="2158" y="1840"/>
                </a:lnTo>
                <a:lnTo>
                  <a:pt x="2186" y="1840"/>
                </a:lnTo>
                <a:lnTo>
                  <a:pt x="2214" y="1840"/>
                </a:lnTo>
                <a:lnTo>
                  <a:pt x="2241" y="1840"/>
                </a:lnTo>
                <a:lnTo>
                  <a:pt x="2276" y="1840"/>
                </a:lnTo>
                <a:lnTo>
                  <a:pt x="2303" y="1840"/>
                </a:lnTo>
                <a:lnTo>
                  <a:pt x="2331" y="1840"/>
                </a:lnTo>
                <a:lnTo>
                  <a:pt x="2365" y="1840"/>
                </a:lnTo>
                <a:lnTo>
                  <a:pt x="2393" y="1840"/>
                </a:lnTo>
                <a:lnTo>
                  <a:pt x="2420" y="1840"/>
                </a:lnTo>
                <a:lnTo>
                  <a:pt x="2448" y="1840"/>
                </a:lnTo>
                <a:lnTo>
                  <a:pt x="2483" y="1840"/>
                </a:lnTo>
                <a:close/>
                <a:moveTo>
                  <a:pt x="1324" y="1275"/>
                </a:moveTo>
                <a:lnTo>
                  <a:pt x="1317" y="1268"/>
                </a:lnTo>
                <a:lnTo>
                  <a:pt x="1317" y="1261"/>
                </a:lnTo>
                <a:lnTo>
                  <a:pt x="1317" y="1261"/>
                </a:lnTo>
                <a:lnTo>
                  <a:pt x="1317" y="1254"/>
                </a:lnTo>
                <a:lnTo>
                  <a:pt x="1317" y="1247"/>
                </a:lnTo>
                <a:lnTo>
                  <a:pt x="1317" y="1240"/>
                </a:lnTo>
                <a:lnTo>
                  <a:pt x="1317" y="1233"/>
                </a:lnTo>
                <a:lnTo>
                  <a:pt x="1324" y="1227"/>
                </a:lnTo>
                <a:lnTo>
                  <a:pt x="1331" y="1227"/>
                </a:lnTo>
                <a:lnTo>
                  <a:pt x="1338" y="1233"/>
                </a:lnTo>
                <a:lnTo>
                  <a:pt x="1345" y="1233"/>
                </a:lnTo>
                <a:lnTo>
                  <a:pt x="1352" y="1240"/>
                </a:lnTo>
                <a:lnTo>
                  <a:pt x="1352" y="1247"/>
                </a:lnTo>
                <a:lnTo>
                  <a:pt x="1352" y="1254"/>
                </a:lnTo>
                <a:lnTo>
                  <a:pt x="1352" y="1261"/>
                </a:lnTo>
                <a:lnTo>
                  <a:pt x="1345" y="1261"/>
                </a:lnTo>
                <a:lnTo>
                  <a:pt x="1338" y="1268"/>
                </a:lnTo>
                <a:lnTo>
                  <a:pt x="1331" y="1275"/>
                </a:lnTo>
                <a:lnTo>
                  <a:pt x="1331" y="1282"/>
                </a:lnTo>
                <a:lnTo>
                  <a:pt x="1324" y="1275"/>
                </a:lnTo>
                <a:close/>
                <a:moveTo>
                  <a:pt x="2034" y="951"/>
                </a:moveTo>
                <a:lnTo>
                  <a:pt x="2034" y="944"/>
                </a:lnTo>
                <a:lnTo>
                  <a:pt x="2041" y="937"/>
                </a:lnTo>
                <a:lnTo>
                  <a:pt x="2041" y="930"/>
                </a:lnTo>
                <a:lnTo>
                  <a:pt x="2048" y="923"/>
                </a:lnTo>
                <a:lnTo>
                  <a:pt x="2048" y="917"/>
                </a:lnTo>
                <a:lnTo>
                  <a:pt x="2055" y="917"/>
                </a:lnTo>
                <a:lnTo>
                  <a:pt x="2055" y="910"/>
                </a:lnTo>
                <a:lnTo>
                  <a:pt x="2062" y="903"/>
                </a:lnTo>
                <a:lnTo>
                  <a:pt x="2069" y="896"/>
                </a:lnTo>
                <a:lnTo>
                  <a:pt x="2069" y="889"/>
                </a:lnTo>
                <a:lnTo>
                  <a:pt x="2076" y="882"/>
                </a:lnTo>
                <a:lnTo>
                  <a:pt x="2076" y="875"/>
                </a:lnTo>
                <a:lnTo>
                  <a:pt x="2076" y="868"/>
                </a:lnTo>
                <a:lnTo>
                  <a:pt x="2069" y="868"/>
                </a:lnTo>
                <a:lnTo>
                  <a:pt x="2069" y="861"/>
                </a:lnTo>
                <a:lnTo>
                  <a:pt x="2076" y="855"/>
                </a:lnTo>
                <a:lnTo>
                  <a:pt x="2083" y="848"/>
                </a:lnTo>
                <a:lnTo>
                  <a:pt x="2083" y="848"/>
                </a:lnTo>
                <a:lnTo>
                  <a:pt x="2090" y="841"/>
                </a:lnTo>
                <a:lnTo>
                  <a:pt x="2090" y="834"/>
                </a:lnTo>
                <a:lnTo>
                  <a:pt x="2096" y="827"/>
                </a:lnTo>
                <a:lnTo>
                  <a:pt x="2103" y="820"/>
                </a:lnTo>
                <a:lnTo>
                  <a:pt x="2110" y="820"/>
                </a:lnTo>
                <a:lnTo>
                  <a:pt x="2117" y="813"/>
                </a:lnTo>
                <a:lnTo>
                  <a:pt x="2117" y="806"/>
                </a:lnTo>
                <a:lnTo>
                  <a:pt x="2124" y="799"/>
                </a:lnTo>
                <a:lnTo>
                  <a:pt x="2124" y="793"/>
                </a:lnTo>
                <a:lnTo>
                  <a:pt x="2124" y="786"/>
                </a:lnTo>
                <a:lnTo>
                  <a:pt x="2124" y="779"/>
                </a:lnTo>
                <a:lnTo>
                  <a:pt x="2124" y="772"/>
                </a:lnTo>
                <a:lnTo>
                  <a:pt x="2124" y="765"/>
                </a:lnTo>
                <a:lnTo>
                  <a:pt x="2124" y="758"/>
                </a:lnTo>
                <a:lnTo>
                  <a:pt x="2124" y="758"/>
                </a:lnTo>
                <a:lnTo>
                  <a:pt x="2131" y="751"/>
                </a:lnTo>
                <a:lnTo>
                  <a:pt x="2131" y="744"/>
                </a:lnTo>
                <a:lnTo>
                  <a:pt x="2131" y="737"/>
                </a:lnTo>
                <a:lnTo>
                  <a:pt x="2138" y="731"/>
                </a:lnTo>
                <a:lnTo>
                  <a:pt x="2138" y="724"/>
                </a:lnTo>
                <a:lnTo>
                  <a:pt x="2145" y="717"/>
                </a:lnTo>
                <a:lnTo>
                  <a:pt x="2145" y="710"/>
                </a:lnTo>
                <a:lnTo>
                  <a:pt x="2145" y="703"/>
                </a:lnTo>
                <a:lnTo>
                  <a:pt x="2145" y="696"/>
                </a:lnTo>
                <a:lnTo>
                  <a:pt x="2152" y="696"/>
                </a:lnTo>
                <a:lnTo>
                  <a:pt x="2152" y="689"/>
                </a:lnTo>
                <a:lnTo>
                  <a:pt x="2158" y="682"/>
                </a:lnTo>
                <a:lnTo>
                  <a:pt x="2165" y="675"/>
                </a:lnTo>
                <a:lnTo>
                  <a:pt x="2172" y="669"/>
                </a:lnTo>
                <a:lnTo>
                  <a:pt x="2172" y="669"/>
                </a:lnTo>
                <a:lnTo>
                  <a:pt x="2179" y="662"/>
                </a:lnTo>
                <a:lnTo>
                  <a:pt x="2179" y="655"/>
                </a:lnTo>
                <a:lnTo>
                  <a:pt x="2179" y="648"/>
                </a:lnTo>
                <a:lnTo>
                  <a:pt x="2179" y="641"/>
                </a:lnTo>
                <a:lnTo>
                  <a:pt x="2179" y="634"/>
                </a:lnTo>
                <a:lnTo>
                  <a:pt x="2179" y="627"/>
                </a:lnTo>
                <a:lnTo>
                  <a:pt x="2179" y="620"/>
                </a:lnTo>
                <a:lnTo>
                  <a:pt x="2186" y="613"/>
                </a:lnTo>
                <a:lnTo>
                  <a:pt x="2186" y="607"/>
                </a:lnTo>
                <a:lnTo>
                  <a:pt x="2193" y="607"/>
                </a:lnTo>
                <a:lnTo>
                  <a:pt x="2193" y="600"/>
                </a:lnTo>
                <a:lnTo>
                  <a:pt x="2200" y="593"/>
                </a:lnTo>
                <a:lnTo>
                  <a:pt x="2200" y="586"/>
                </a:lnTo>
                <a:lnTo>
                  <a:pt x="2200" y="579"/>
                </a:lnTo>
                <a:lnTo>
                  <a:pt x="2200" y="572"/>
                </a:lnTo>
                <a:lnTo>
                  <a:pt x="2200" y="565"/>
                </a:lnTo>
                <a:lnTo>
                  <a:pt x="2200" y="558"/>
                </a:lnTo>
                <a:lnTo>
                  <a:pt x="2200" y="551"/>
                </a:lnTo>
                <a:lnTo>
                  <a:pt x="2200" y="545"/>
                </a:lnTo>
                <a:lnTo>
                  <a:pt x="2200" y="538"/>
                </a:lnTo>
                <a:lnTo>
                  <a:pt x="2200" y="531"/>
                </a:lnTo>
                <a:lnTo>
                  <a:pt x="2207" y="531"/>
                </a:lnTo>
                <a:lnTo>
                  <a:pt x="2214" y="524"/>
                </a:lnTo>
                <a:lnTo>
                  <a:pt x="2221" y="524"/>
                </a:lnTo>
                <a:lnTo>
                  <a:pt x="2234" y="524"/>
                </a:lnTo>
                <a:lnTo>
                  <a:pt x="2241" y="531"/>
                </a:lnTo>
                <a:lnTo>
                  <a:pt x="2248" y="531"/>
                </a:lnTo>
                <a:lnTo>
                  <a:pt x="2255" y="538"/>
                </a:lnTo>
                <a:lnTo>
                  <a:pt x="2262" y="545"/>
                </a:lnTo>
                <a:lnTo>
                  <a:pt x="2269" y="545"/>
                </a:lnTo>
                <a:lnTo>
                  <a:pt x="2276" y="551"/>
                </a:lnTo>
                <a:lnTo>
                  <a:pt x="2283" y="551"/>
                </a:lnTo>
                <a:lnTo>
                  <a:pt x="2289" y="558"/>
                </a:lnTo>
                <a:lnTo>
                  <a:pt x="2303" y="558"/>
                </a:lnTo>
                <a:lnTo>
                  <a:pt x="2310" y="565"/>
                </a:lnTo>
                <a:lnTo>
                  <a:pt x="2317" y="565"/>
                </a:lnTo>
                <a:lnTo>
                  <a:pt x="2317" y="572"/>
                </a:lnTo>
                <a:lnTo>
                  <a:pt x="2317" y="579"/>
                </a:lnTo>
                <a:lnTo>
                  <a:pt x="2324" y="586"/>
                </a:lnTo>
                <a:lnTo>
                  <a:pt x="2331" y="593"/>
                </a:lnTo>
                <a:lnTo>
                  <a:pt x="2345" y="593"/>
                </a:lnTo>
                <a:lnTo>
                  <a:pt x="2345" y="593"/>
                </a:lnTo>
                <a:lnTo>
                  <a:pt x="2338" y="600"/>
                </a:lnTo>
                <a:lnTo>
                  <a:pt x="2331" y="607"/>
                </a:lnTo>
                <a:lnTo>
                  <a:pt x="2324" y="613"/>
                </a:lnTo>
                <a:lnTo>
                  <a:pt x="2317" y="613"/>
                </a:lnTo>
                <a:lnTo>
                  <a:pt x="2317" y="620"/>
                </a:lnTo>
                <a:lnTo>
                  <a:pt x="2310" y="627"/>
                </a:lnTo>
                <a:lnTo>
                  <a:pt x="2303" y="634"/>
                </a:lnTo>
                <a:lnTo>
                  <a:pt x="2296" y="634"/>
                </a:lnTo>
                <a:lnTo>
                  <a:pt x="2289" y="641"/>
                </a:lnTo>
                <a:lnTo>
                  <a:pt x="2283" y="648"/>
                </a:lnTo>
                <a:lnTo>
                  <a:pt x="2276" y="655"/>
                </a:lnTo>
                <a:lnTo>
                  <a:pt x="2276" y="655"/>
                </a:lnTo>
                <a:lnTo>
                  <a:pt x="2269" y="662"/>
                </a:lnTo>
                <a:lnTo>
                  <a:pt x="2269" y="669"/>
                </a:lnTo>
                <a:lnTo>
                  <a:pt x="2269" y="675"/>
                </a:lnTo>
                <a:lnTo>
                  <a:pt x="2269" y="682"/>
                </a:lnTo>
                <a:lnTo>
                  <a:pt x="2269" y="689"/>
                </a:lnTo>
                <a:lnTo>
                  <a:pt x="2269" y="696"/>
                </a:lnTo>
                <a:lnTo>
                  <a:pt x="2276" y="703"/>
                </a:lnTo>
                <a:lnTo>
                  <a:pt x="2276" y="710"/>
                </a:lnTo>
                <a:lnTo>
                  <a:pt x="2276" y="717"/>
                </a:lnTo>
                <a:lnTo>
                  <a:pt x="2276" y="717"/>
                </a:lnTo>
                <a:lnTo>
                  <a:pt x="2276" y="724"/>
                </a:lnTo>
                <a:lnTo>
                  <a:pt x="2276" y="731"/>
                </a:lnTo>
                <a:lnTo>
                  <a:pt x="2276" y="737"/>
                </a:lnTo>
                <a:lnTo>
                  <a:pt x="2276" y="744"/>
                </a:lnTo>
                <a:lnTo>
                  <a:pt x="2276" y="751"/>
                </a:lnTo>
                <a:lnTo>
                  <a:pt x="2276" y="758"/>
                </a:lnTo>
                <a:lnTo>
                  <a:pt x="2283" y="765"/>
                </a:lnTo>
                <a:lnTo>
                  <a:pt x="2283" y="772"/>
                </a:lnTo>
                <a:lnTo>
                  <a:pt x="2283" y="779"/>
                </a:lnTo>
                <a:lnTo>
                  <a:pt x="2289" y="786"/>
                </a:lnTo>
                <a:lnTo>
                  <a:pt x="2289" y="793"/>
                </a:lnTo>
                <a:lnTo>
                  <a:pt x="2289" y="799"/>
                </a:lnTo>
                <a:lnTo>
                  <a:pt x="2289" y="799"/>
                </a:lnTo>
                <a:lnTo>
                  <a:pt x="2289" y="806"/>
                </a:lnTo>
                <a:lnTo>
                  <a:pt x="2283" y="813"/>
                </a:lnTo>
                <a:lnTo>
                  <a:pt x="2283" y="820"/>
                </a:lnTo>
                <a:lnTo>
                  <a:pt x="2283" y="827"/>
                </a:lnTo>
                <a:lnTo>
                  <a:pt x="2283" y="834"/>
                </a:lnTo>
                <a:lnTo>
                  <a:pt x="2283" y="841"/>
                </a:lnTo>
                <a:lnTo>
                  <a:pt x="2283" y="848"/>
                </a:lnTo>
                <a:lnTo>
                  <a:pt x="2283" y="855"/>
                </a:lnTo>
                <a:lnTo>
                  <a:pt x="2276" y="861"/>
                </a:lnTo>
                <a:lnTo>
                  <a:pt x="2269" y="861"/>
                </a:lnTo>
                <a:lnTo>
                  <a:pt x="2269" y="868"/>
                </a:lnTo>
                <a:lnTo>
                  <a:pt x="2262" y="875"/>
                </a:lnTo>
                <a:lnTo>
                  <a:pt x="2262" y="882"/>
                </a:lnTo>
                <a:lnTo>
                  <a:pt x="2262" y="889"/>
                </a:lnTo>
                <a:lnTo>
                  <a:pt x="2262" y="896"/>
                </a:lnTo>
                <a:lnTo>
                  <a:pt x="2262" y="903"/>
                </a:lnTo>
                <a:lnTo>
                  <a:pt x="2262" y="910"/>
                </a:lnTo>
                <a:lnTo>
                  <a:pt x="2262" y="917"/>
                </a:lnTo>
                <a:lnTo>
                  <a:pt x="2262" y="923"/>
                </a:lnTo>
                <a:lnTo>
                  <a:pt x="2255" y="930"/>
                </a:lnTo>
                <a:lnTo>
                  <a:pt x="2255" y="937"/>
                </a:lnTo>
                <a:lnTo>
                  <a:pt x="2248" y="944"/>
                </a:lnTo>
                <a:lnTo>
                  <a:pt x="2241" y="944"/>
                </a:lnTo>
                <a:lnTo>
                  <a:pt x="2234" y="944"/>
                </a:lnTo>
                <a:lnTo>
                  <a:pt x="2227" y="944"/>
                </a:lnTo>
                <a:lnTo>
                  <a:pt x="2214" y="944"/>
                </a:lnTo>
                <a:lnTo>
                  <a:pt x="2207" y="944"/>
                </a:lnTo>
                <a:lnTo>
                  <a:pt x="2193" y="944"/>
                </a:lnTo>
                <a:lnTo>
                  <a:pt x="2186" y="951"/>
                </a:lnTo>
                <a:lnTo>
                  <a:pt x="2172" y="951"/>
                </a:lnTo>
                <a:lnTo>
                  <a:pt x="2165" y="951"/>
                </a:lnTo>
                <a:lnTo>
                  <a:pt x="2158" y="951"/>
                </a:lnTo>
                <a:lnTo>
                  <a:pt x="2145" y="951"/>
                </a:lnTo>
                <a:lnTo>
                  <a:pt x="2138" y="951"/>
                </a:lnTo>
                <a:lnTo>
                  <a:pt x="2124" y="951"/>
                </a:lnTo>
                <a:lnTo>
                  <a:pt x="2117" y="951"/>
                </a:lnTo>
                <a:lnTo>
                  <a:pt x="2103" y="951"/>
                </a:lnTo>
                <a:lnTo>
                  <a:pt x="2096" y="951"/>
                </a:lnTo>
                <a:lnTo>
                  <a:pt x="2090" y="951"/>
                </a:lnTo>
                <a:lnTo>
                  <a:pt x="2076" y="951"/>
                </a:lnTo>
                <a:lnTo>
                  <a:pt x="2069" y="951"/>
                </a:lnTo>
                <a:lnTo>
                  <a:pt x="2055" y="951"/>
                </a:lnTo>
                <a:lnTo>
                  <a:pt x="2048" y="958"/>
                </a:lnTo>
                <a:lnTo>
                  <a:pt x="2034" y="951"/>
                </a:lnTo>
                <a:lnTo>
                  <a:pt x="2034" y="951"/>
                </a:lnTo>
                <a:close/>
                <a:moveTo>
                  <a:pt x="1338" y="917"/>
                </a:moveTo>
                <a:lnTo>
                  <a:pt x="1338" y="917"/>
                </a:lnTo>
                <a:lnTo>
                  <a:pt x="1338" y="910"/>
                </a:lnTo>
                <a:lnTo>
                  <a:pt x="1338" y="903"/>
                </a:lnTo>
                <a:lnTo>
                  <a:pt x="1338" y="896"/>
                </a:lnTo>
                <a:lnTo>
                  <a:pt x="1338" y="889"/>
                </a:lnTo>
                <a:lnTo>
                  <a:pt x="1338" y="882"/>
                </a:lnTo>
                <a:lnTo>
                  <a:pt x="1345" y="875"/>
                </a:lnTo>
                <a:lnTo>
                  <a:pt x="1345" y="868"/>
                </a:lnTo>
                <a:lnTo>
                  <a:pt x="1345" y="868"/>
                </a:lnTo>
                <a:lnTo>
                  <a:pt x="1338" y="861"/>
                </a:lnTo>
                <a:lnTo>
                  <a:pt x="1331" y="855"/>
                </a:lnTo>
                <a:lnTo>
                  <a:pt x="1331" y="848"/>
                </a:lnTo>
                <a:lnTo>
                  <a:pt x="1324" y="855"/>
                </a:lnTo>
                <a:lnTo>
                  <a:pt x="1317" y="861"/>
                </a:lnTo>
                <a:lnTo>
                  <a:pt x="1317" y="868"/>
                </a:lnTo>
                <a:lnTo>
                  <a:pt x="1310" y="875"/>
                </a:lnTo>
                <a:lnTo>
                  <a:pt x="1310" y="882"/>
                </a:lnTo>
                <a:lnTo>
                  <a:pt x="1303" y="882"/>
                </a:lnTo>
                <a:lnTo>
                  <a:pt x="1303" y="889"/>
                </a:lnTo>
                <a:lnTo>
                  <a:pt x="1303" y="896"/>
                </a:lnTo>
                <a:lnTo>
                  <a:pt x="1310" y="896"/>
                </a:lnTo>
                <a:lnTo>
                  <a:pt x="1317" y="903"/>
                </a:lnTo>
                <a:lnTo>
                  <a:pt x="1317" y="910"/>
                </a:lnTo>
                <a:lnTo>
                  <a:pt x="1324" y="917"/>
                </a:lnTo>
                <a:lnTo>
                  <a:pt x="1331" y="923"/>
                </a:lnTo>
                <a:lnTo>
                  <a:pt x="1338" y="917"/>
                </a:lnTo>
                <a:close/>
                <a:moveTo>
                  <a:pt x="1917" y="917"/>
                </a:moveTo>
                <a:lnTo>
                  <a:pt x="1924" y="917"/>
                </a:lnTo>
                <a:lnTo>
                  <a:pt x="1931" y="917"/>
                </a:lnTo>
                <a:lnTo>
                  <a:pt x="1938" y="917"/>
                </a:lnTo>
                <a:lnTo>
                  <a:pt x="1945" y="917"/>
                </a:lnTo>
                <a:lnTo>
                  <a:pt x="1952" y="917"/>
                </a:lnTo>
                <a:lnTo>
                  <a:pt x="1959" y="910"/>
                </a:lnTo>
                <a:lnTo>
                  <a:pt x="1965" y="910"/>
                </a:lnTo>
                <a:lnTo>
                  <a:pt x="1972" y="910"/>
                </a:lnTo>
                <a:lnTo>
                  <a:pt x="1979" y="910"/>
                </a:lnTo>
                <a:lnTo>
                  <a:pt x="1986" y="903"/>
                </a:lnTo>
                <a:lnTo>
                  <a:pt x="1993" y="903"/>
                </a:lnTo>
                <a:lnTo>
                  <a:pt x="1993" y="896"/>
                </a:lnTo>
                <a:lnTo>
                  <a:pt x="2000" y="896"/>
                </a:lnTo>
                <a:lnTo>
                  <a:pt x="2000" y="889"/>
                </a:lnTo>
                <a:lnTo>
                  <a:pt x="2007" y="882"/>
                </a:lnTo>
                <a:lnTo>
                  <a:pt x="2014" y="882"/>
                </a:lnTo>
                <a:lnTo>
                  <a:pt x="2027" y="889"/>
                </a:lnTo>
                <a:lnTo>
                  <a:pt x="2027" y="889"/>
                </a:lnTo>
                <a:lnTo>
                  <a:pt x="2027" y="889"/>
                </a:lnTo>
                <a:lnTo>
                  <a:pt x="2021" y="896"/>
                </a:lnTo>
                <a:lnTo>
                  <a:pt x="2014" y="896"/>
                </a:lnTo>
                <a:lnTo>
                  <a:pt x="2007" y="903"/>
                </a:lnTo>
                <a:lnTo>
                  <a:pt x="2000" y="903"/>
                </a:lnTo>
                <a:lnTo>
                  <a:pt x="2000" y="910"/>
                </a:lnTo>
                <a:lnTo>
                  <a:pt x="2000" y="917"/>
                </a:lnTo>
                <a:lnTo>
                  <a:pt x="1993" y="917"/>
                </a:lnTo>
                <a:lnTo>
                  <a:pt x="1993" y="923"/>
                </a:lnTo>
                <a:lnTo>
                  <a:pt x="1986" y="930"/>
                </a:lnTo>
                <a:lnTo>
                  <a:pt x="1979" y="930"/>
                </a:lnTo>
                <a:lnTo>
                  <a:pt x="1972" y="930"/>
                </a:lnTo>
                <a:lnTo>
                  <a:pt x="1965" y="930"/>
                </a:lnTo>
                <a:lnTo>
                  <a:pt x="1959" y="930"/>
                </a:lnTo>
                <a:lnTo>
                  <a:pt x="1952" y="930"/>
                </a:lnTo>
                <a:lnTo>
                  <a:pt x="1945" y="923"/>
                </a:lnTo>
                <a:lnTo>
                  <a:pt x="1938" y="923"/>
                </a:lnTo>
                <a:lnTo>
                  <a:pt x="1931" y="923"/>
                </a:lnTo>
                <a:lnTo>
                  <a:pt x="1924" y="923"/>
                </a:lnTo>
                <a:lnTo>
                  <a:pt x="1917" y="917"/>
                </a:lnTo>
                <a:close/>
                <a:moveTo>
                  <a:pt x="449" y="889"/>
                </a:moveTo>
                <a:lnTo>
                  <a:pt x="455" y="882"/>
                </a:lnTo>
                <a:lnTo>
                  <a:pt x="455" y="875"/>
                </a:lnTo>
                <a:lnTo>
                  <a:pt x="462" y="875"/>
                </a:lnTo>
                <a:lnTo>
                  <a:pt x="462" y="868"/>
                </a:lnTo>
                <a:lnTo>
                  <a:pt x="462" y="861"/>
                </a:lnTo>
                <a:lnTo>
                  <a:pt x="462" y="861"/>
                </a:lnTo>
                <a:lnTo>
                  <a:pt x="455" y="855"/>
                </a:lnTo>
                <a:lnTo>
                  <a:pt x="449" y="848"/>
                </a:lnTo>
                <a:lnTo>
                  <a:pt x="442" y="848"/>
                </a:lnTo>
                <a:lnTo>
                  <a:pt x="435" y="848"/>
                </a:lnTo>
                <a:lnTo>
                  <a:pt x="428" y="855"/>
                </a:lnTo>
                <a:lnTo>
                  <a:pt x="421" y="861"/>
                </a:lnTo>
                <a:lnTo>
                  <a:pt x="421" y="861"/>
                </a:lnTo>
                <a:lnTo>
                  <a:pt x="421" y="868"/>
                </a:lnTo>
                <a:lnTo>
                  <a:pt x="421" y="875"/>
                </a:lnTo>
                <a:lnTo>
                  <a:pt x="428" y="882"/>
                </a:lnTo>
                <a:lnTo>
                  <a:pt x="428" y="882"/>
                </a:lnTo>
                <a:lnTo>
                  <a:pt x="435" y="889"/>
                </a:lnTo>
                <a:lnTo>
                  <a:pt x="442" y="896"/>
                </a:lnTo>
                <a:lnTo>
                  <a:pt x="449" y="889"/>
                </a:lnTo>
                <a:close/>
                <a:moveTo>
                  <a:pt x="2096" y="861"/>
                </a:moveTo>
                <a:lnTo>
                  <a:pt x="2096" y="855"/>
                </a:lnTo>
                <a:lnTo>
                  <a:pt x="2096" y="848"/>
                </a:lnTo>
                <a:lnTo>
                  <a:pt x="2096" y="848"/>
                </a:lnTo>
                <a:lnTo>
                  <a:pt x="2096" y="848"/>
                </a:lnTo>
                <a:lnTo>
                  <a:pt x="2090" y="848"/>
                </a:lnTo>
                <a:lnTo>
                  <a:pt x="2083" y="848"/>
                </a:lnTo>
                <a:lnTo>
                  <a:pt x="2076" y="855"/>
                </a:lnTo>
                <a:lnTo>
                  <a:pt x="2076" y="855"/>
                </a:lnTo>
                <a:lnTo>
                  <a:pt x="2069" y="861"/>
                </a:lnTo>
                <a:lnTo>
                  <a:pt x="2076" y="861"/>
                </a:lnTo>
                <a:lnTo>
                  <a:pt x="2083" y="861"/>
                </a:lnTo>
                <a:lnTo>
                  <a:pt x="2090" y="861"/>
                </a:lnTo>
                <a:lnTo>
                  <a:pt x="2096" y="861"/>
                </a:lnTo>
                <a:lnTo>
                  <a:pt x="2096" y="861"/>
                </a:lnTo>
                <a:close/>
                <a:moveTo>
                  <a:pt x="1566" y="827"/>
                </a:moveTo>
                <a:lnTo>
                  <a:pt x="1566" y="820"/>
                </a:lnTo>
                <a:lnTo>
                  <a:pt x="1566" y="813"/>
                </a:lnTo>
                <a:lnTo>
                  <a:pt x="1566" y="806"/>
                </a:lnTo>
                <a:lnTo>
                  <a:pt x="1566" y="806"/>
                </a:lnTo>
                <a:lnTo>
                  <a:pt x="1566" y="813"/>
                </a:lnTo>
                <a:lnTo>
                  <a:pt x="1566" y="820"/>
                </a:lnTo>
                <a:lnTo>
                  <a:pt x="1559" y="827"/>
                </a:lnTo>
                <a:lnTo>
                  <a:pt x="1566" y="841"/>
                </a:lnTo>
                <a:lnTo>
                  <a:pt x="1566" y="848"/>
                </a:lnTo>
                <a:lnTo>
                  <a:pt x="1566" y="855"/>
                </a:lnTo>
                <a:lnTo>
                  <a:pt x="1566" y="855"/>
                </a:lnTo>
                <a:lnTo>
                  <a:pt x="1566" y="848"/>
                </a:lnTo>
                <a:lnTo>
                  <a:pt x="1566" y="841"/>
                </a:lnTo>
                <a:lnTo>
                  <a:pt x="1566" y="827"/>
                </a:lnTo>
                <a:close/>
                <a:moveTo>
                  <a:pt x="1690" y="827"/>
                </a:moveTo>
                <a:lnTo>
                  <a:pt x="1690" y="820"/>
                </a:lnTo>
                <a:lnTo>
                  <a:pt x="1697" y="813"/>
                </a:lnTo>
                <a:lnTo>
                  <a:pt x="1697" y="806"/>
                </a:lnTo>
                <a:lnTo>
                  <a:pt x="1697" y="799"/>
                </a:lnTo>
                <a:lnTo>
                  <a:pt x="1697" y="793"/>
                </a:lnTo>
                <a:lnTo>
                  <a:pt x="1697" y="786"/>
                </a:lnTo>
                <a:lnTo>
                  <a:pt x="1697" y="779"/>
                </a:lnTo>
                <a:lnTo>
                  <a:pt x="1690" y="772"/>
                </a:lnTo>
                <a:lnTo>
                  <a:pt x="1690" y="765"/>
                </a:lnTo>
                <a:lnTo>
                  <a:pt x="1690" y="765"/>
                </a:lnTo>
                <a:lnTo>
                  <a:pt x="1690" y="758"/>
                </a:lnTo>
                <a:lnTo>
                  <a:pt x="1690" y="744"/>
                </a:lnTo>
                <a:lnTo>
                  <a:pt x="1683" y="737"/>
                </a:lnTo>
                <a:lnTo>
                  <a:pt x="1683" y="731"/>
                </a:lnTo>
                <a:lnTo>
                  <a:pt x="1683" y="724"/>
                </a:lnTo>
                <a:lnTo>
                  <a:pt x="1683" y="731"/>
                </a:lnTo>
                <a:lnTo>
                  <a:pt x="1683" y="737"/>
                </a:lnTo>
                <a:lnTo>
                  <a:pt x="1676" y="751"/>
                </a:lnTo>
                <a:lnTo>
                  <a:pt x="1676" y="758"/>
                </a:lnTo>
                <a:lnTo>
                  <a:pt x="1676" y="765"/>
                </a:lnTo>
                <a:lnTo>
                  <a:pt x="1669" y="765"/>
                </a:lnTo>
                <a:lnTo>
                  <a:pt x="1669" y="772"/>
                </a:lnTo>
                <a:lnTo>
                  <a:pt x="1669" y="779"/>
                </a:lnTo>
                <a:lnTo>
                  <a:pt x="1669" y="786"/>
                </a:lnTo>
                <a:lnTo>
                  <a:pt x="1662" y="793"/>
                </a:lnTo>
                <a:lnTo>
                  <a:pt x="1662" y="799"/>
                </a:lnTo>
                <a:lnTo>
                  <a:pt x="1662" y="813"/>
                </a:lnTo>
                <a:lnTo>
                  <a:pt x="1662" y="820"/>
                </a:lnTo>
                <a:lnTo>
                  <a:pt x="1662" y="827"/>
                </a:lnTo>
                <a:lnTo>
                  <a:pt x="1669" y="834"/>
                </a:lnTo>
                <a:lnTo>
                  <a:pt x="1683" y="834"/>
                </a:lnTo>
                <a:lnTo>
                  <a:pt x="1690" y="827"/>
                </a:lnTo>
                <a:close/>
                <a:moveTo>
                  <a:pt x="414" y="772"/>
                </a:moveTo>
                <a:lnTo>
                  <a:pt x="421" y="765"/>
                </a:lnTo>
                <a:lnTo>
                  <a:pt x="428" y="765"/>
                </a:lnTo>
                <a:lnTo>
                  <a:pt x="435" y="758"/>
                </a:lnTo>
                <a:lnTo>
                  <a:pt x="442" y="758"/>
                </a:lnTo>
                <a:lnTo>
                  <a:pt x="449" y="751"/>
                </a:lnTo>
                <a:lnTo>
                  <a:pt x="455" y="744"/>
                </a:lnTo>
                <a:lnTo>
                  <a:pt x="455" y="744"/>
                </a:lnTo>
                <a:lnTo>
                  <a:pt x="469" y="737"/>
                </a:lnTo>
                <a:lnTo>
                  <a:pt x="476" y="737"/>
                </a:lnTo>
                <a:lnTo>
                  <a:pt x="483" y="731"/>
                </a:lnTo>
                <a:lnTo>
                  <a:pt x="483" y="724"/>
                </a:lnTo>
                <a:lnTo>
                  <a:pt x="490" y="724"/>
                </a:lnTo>
                <a:lnTo>
                  <a:pt x="497" y="717"/>
                </a:lnTo>
                <a:lnTo>
                  <a:pt x="497" y="710"/>
                </a:lnTo>
                <a:lnTo>
                  <a:pt x="504" y="703"/>
                </a:lnTo>
                <a:lnTo>
                  <a:pt x="511" y="703"/>
                </a:lnTo>
                <a:lnTo>
                  <a:pt x="511" y="696"/>
                </a:lnTo>
                <a:lnTo>
                  <a:pt x="517" y="689"/>
                </a:lnTo>
                <a:lnTo>
                  <a:pt x="524" y="682"/>
                </a:lnTo>
                <a:lnTo>
                  <a:pt x="524" y="682"/>
                </a:lnTo>
                <a:lnTo>
                  <a:pt x="524" y="675"/>
                </a:lnTo>
                <a:lnTo>
                  <a:pt x="531" y="669"/>
                </a:lnTo>
                <a:lnTo>
                  <a:pt x="538" y="662"/>
                </a:lnTo>
                <a:lnTo>
                  <a:pt x="545" y="662"/>
                </a:lnTo>
                <a:lnTo>
                  <a:pt x="559" y="662"/>
                </a:lnTo>
                <a:lnTo>
                  <a:pt x="566" y="662"/>
                </a:lnTo>
                <a:lnTo>
                  <a:pt x="573" y="669"/>
                </a:lnTo>
                <a:lnTo>
                  <a:pt x="573" y="675"/>
                </a:lnTo>
                <a:lnTo>
                  <a:pt x="580" y="682"/>
                </a:lnTo>
                <a:lnTo>
                  <a:pt x="580" y="689"/>
                </a:lnTo>
                <a:lnTo>
                  <a:pt x="580" y="696"/>
                </a:lnTo>
                <a:lnTo>
                  <a:pt x="580" y="696"/>
                </a:lnTo>
                <a:lnTo>
                  <a:pt x="586" y="703"/>
                </a:lnTo>
                <a:lnTo>
                  <a:pt x="586" y="710"/>
                </a:lnTo>
                <a:lnTo>
                  <a:pt x="586" y="717"/>
                </a:lnTo>
                <a:lnTo>
                  <a:pt x="593" y="717"/>
                </a:lnTo>
                <a:lnTo>
                  <a:pt x="607" y="717"/>
                </a:lnTo>
                <a:lnTo>
                  <a:pt x="614" y="710"/>
                </a:lnTo>
                <a:lnTo>
                  <a:pt x="621" y="703"/>
                </a:lnTo>
                <a:lnTo>
                  <a:pt x="628" y="703"/>
                </a:lnTo>
                <a:lnTo>
                  <a:pt x="628" y="696"/>
                </a:lnTo>
                <a:lnTo>
                  <a:pt x="635" y="689"/>
                </a:lnTo>
                <a:lnTo>
                  <a:pt x="635" y="682"/>
                </a:lnTo>
                <a:lnTo>
                  <a:pt x="635" y="675"/>
                </a:lnTo>
                <a:lnTo>
                  <a:pt x="635" y="669"/>
                </a:lnTo>
                <a:lnTo>
                  <a:pt x="635" y="669"/>
                </a:lnTo>
                <a:lnTo>
                  <a:pt x="635" y="662"/>
                </a:lnTo>
                <a:lnTo>
                  <a:pt x="635" y="655"/>
                </a:lnTo>
                <a:lnTo>
                  <a:pt x="635" y="648"/>
                </a:lnTo>
                <a:lnTo>
                  <a:pt x="635" y="641"/>
                </a:lnTo>
                <a:lnTo>
                  <a:pt x="635" y="634"/>
                </a:lnTo>
                <a:lnTo>
                  <a:pt x="635" y="627"/>
                </a:lnTo>
                <a:lnTo>
                  <a:pt x="635" y="627"/>
                </a:lnTo>
                <a:lnTo>
                  <a:pt x="635" y="620"/>
                </a:lnTo>
                <a:lnTo>
                  <a:pt x="642" y="613"/>
                </a:lnTo>
                <a:lnTo>
                  <a:pt x="642" y="607"/>
                </a:lnTo>
                <a:lnTo>
                  <a:pt x="648" y="600"/>
                </a:lnTo>
                <a:lnTo>
                  <a:pt x="655" y="600"/>
                </a:lnTo>
                <a:lnTo>
                  <a:pt x="655" y="593"/>
                </a:lnTo>
                <a:lnTo>
                  <a:pt x="655" y="586"/>
                </a:lnTo>
                <a:lnTo>
                  <a:pt x="655" y="579"/>
                </a:lnTo>
                <a:lnTo>
                  <a:pt x="655" y="572"/>
                </a:lnTo>
                <a:lnTo>
                  <a:pt x="655" y="565"/>
                </a:lnTo>
                <a:lnTo>
                  <a:pt x="655" y="558"/>
                </a:lnTo>
                <a:lnTo>
                  <a:pt x="648" y="558"/>
                </a:lnTo>
                <a:lnTo>
                  <a:pt x="648" y="551"/>
                </a:lnTo>
                <a:lnTo>
                  <a:pt x="648" y="545"/>
                </a:lnTo>
                <a:lnTo>
                  <a:pt x="648" y="538"/>
                </a:lnTo>
                <a:lnTo>
                  <a:pt x="642" y="531"/>
                </a:lnTo>
                <a:lnTo>
                  <a:pt x="642" y="524"/>
                </a:lnTo>
                <a:lnTo>
                  <a:pt x="642" y="517"/>
                </a:lnTo>
                <a:lnTo>
                  <a:pt x="642" y="517"/>
                </a:lnTo>
                <a:lnTo>
                  <a:pt x="648" y="510"/>
                </a:lnTo>
                <a:lnTo>
                  <a:pt x="655" y="503"/>
                </a:lnTo>
                <a:lnTo>
                  <a:pt x="662" y="503"/>
                </a:lnTo>
                <a:lnTo>
                  <a:pt x="669" y="496"/>
                </a:lnTo>
                <a:lnTo>
                  <a:pt x="669" y="489"/>
                </a:lnTo>
                <a:lnTo>
                  <a:pt x="676" y="483"/>
                </a:lnTo>
                <a:lnTo>
                  <a:pt x="676" y="483"/>
                </a:lnTo>
                <a:lnTo>
                  <a:pt x="676" y="476"/>
                </a:lnTo>
                <a:lnTo>
                  <a:pt x="683" y="469"/>
                </a:lnTo>
                <a:lnTo>
                  <a:pt x="683" y="462"/>
                </a:lnTo>
                <a:lnTo>
                  <a:pt x="697" y="462"/>
                </a:lnTo>
                <a:lnTo>
                  <a:pt x="704" y="455"/>
                </a:lnTo>
                <a:lnTo>
                  <a:pt x="711" y="455"/>
                </a:lnTo>
                <a:lnTo>
                  <a:pt x="711" y="448"/>
                </a:lnTo>
                <a:lnTo>
                  <a:pt x="717" y="441"/>
                </a:lnTo>
                <a:lnTo>
                  <a:pt x="724" y="434"/>
                </a:lnTo>
                <a:lnTo>
                  <a:pt x="731" y="434"/>
                </a:lnTo>
                <a:lnTo>
                  <a:pt x="738" y="427"/>
                </a:lnTo>
                <a:lnTo>
                  <a:pt x="745" y="427"/>
                </a:lnTo>
                <a:lnTo>
                  <a:pt x="745" y="421"/>
                </a:lnTo>
                <a:lnTo>
                  <a:pt x="752" y="414"/>
                </a:lnTo>
                <a:lnTo>
                  <a:pt x="759" y="414"/>
                </a:lnTo>
                <a:lnTo>
                  <a:pt x="766" y="407"/>
                </a:lnTo>
                <a:lnTo>
                  <a:pt x="773" y="400"/>
                </a:lnTo>
                <a:lnTo>
                  <a:pt x="779" y="400"/>
                </a:lnTo>
                <a:lnTo>
                  <a:pt x="786" y="393"/>
                </a:lnTo>
                <a:lnTo>
                  <a:pt x="793" y="386"/>
                </a:lnTo>
                <a:lnTo>
                  <a:pt x="800" y="386"/>
                </a:lnTo>
                <a:lnTo>
                  <a:pt x="800" y="379"/>
                </a:lnTo>
                <a:lnTo>
                  <a:pt x="807" y="372"/>
                </a:lnTo>
                <a:lnTo>
                  <a:pt x="814" y="372"/>
                </a:lnTo>
                <a:lnTo>
                  <a:pt x="821" y="365"/>
                </a:lnTo>
                <a:lnTo>
                  <a:pt x="828" y="359"/>
                </a:lnTo>
                <a:lnTo>
                  <a:pt x="828" y="359"/>
                </a:lnTo>
                <a:lnTo>
                  <a:pt x="835" y="352"/>
                </a:lnTo>
                <a:lnTo>
                  <a:pt x="842" y="345"/>
                </a:lnTo>
                <a:lnTo>
                  <a:pt x="848" y="345"/>
                </a:lnTo>
                <a:lnTo>
                  <a:pt x="855" y="338"/>
                </a:lnTo>
                <a:lnTo>
                  <a:pt x="862" y="331"/>
                </a:lnTo>
                <a:lnTo>
                  <a:pt x="869" y="331"/>
                </a:lnTo>
                <a:lnTo>
                  <a:pt x="869" y="324"/>
                </a:lnTo>
                <a:lnTo>
                  <a:pt x="876" y="317"/>
                </a:lnTo>
                <a:lnTo>
                  <a:pt x="883" y="317"/>
                </a:lnTo>
                <a:lnTo>
                  <a:pt x="890" y="310"/>
                </a:lnTo>
                <a:lnTo>
                  <a:pt x="897" y="310"/>
                </a:lnTo>
                <a:lnTo>
                  <a:pt x="904" y="303"/>
                </a:lnTo>
                <a:lnTo>
                  <a:pt x="917" y="303"/>
                </a:lnTo>
                <a:lnTo>
                  <a:pt x="924" y="303"/>
                </a:lnTo>
                <a:lnTo>
                  <a:pt x="931" y="297"/>
                </a:lnTo>
                <a:lnTo>
                  <a:pt x="938" y="297"/>
                </a:lnTo>
                <a:lnTo>
                  <a:pt x="945" y="290"/>
                </a:lnTo>
                <a:lnTo>
                  <a:pt x="952" y="290"/>
                </a:lnTo>
                <a:lnTo>
                  <a:pt x="959" y="283"/>
                </a:lnTo>
                <a:lnTo>
                  <a:pt x="959" y="276"/>
                </a:lnTo>
                <a:lnTo>
                  <a:pt x="966" y="269"/>
                </a:lnTo>
                <a:lnTo>
                  <a:pt x="973" y="269"/>
                </a:lnTo>
                <a:lnTo>
                  <a:pt x="979" y="262"/>
                </a:lnTo>
                <a:lnTo>
                  <a:pt x="986" y="255"/>
                </a:lnTo>
                <a:lnTo>
                  <a:pt x="986" y="255"/>
                </a:lnTo>
                <a:lnTo>
                  <a:pt x="993" y="248"/>
                </a:lnTo>
                <a:lnTo>
                  <a:pt x="1000" y="241"/>
                </a:lnTo>
                <a:lnTo>
                  <a:pt x="1007" y="241"/>
                </a:lnTo>
                <a:lnTo>
                  <a:pt x="1007" y="235"/>
                </a:lnTo>
                <a:lnTo>
                  <a:pt x="1014" y="228"/>
                </a:lnTo>
                <a:lnTo>
                  <a:pt x="1021" y="221"/>
                </a:lnTo>
                <a:lnTo>
                  <a:pt x="1028" y="221"/>
                </a:lnTo>
                <a:lnTo>
                  <a:pt x="1035" y="214"/>
                </a:lnTo>
                <a:lnTo>
                  <a:pt x="1035" y="207"/>
                </a:lnTo>
                <a:lnTo>
                  <a:pt x="1041" y="207"/>
                </a:lnTo>
                <a:lnTo>
                  <a:pt x="1048" y="200"/>
                </a:lnTo>
                <a:lnTo>
                  <a:pt x="1048" y="193"/>
                </a:lnTo>
                <a:lnTo>
                  <a:pt x="1048" y="186"/>
                </a:lnTo>
                <a:lnTo>
                  <a:pt x="1055" y="179"/>
                </a:lnTo>
                <a:lnTo>
                  <a:pt x="1055" y="173"/>
                </a:lnTo>
                <a:lnTo>
                  <a:pt x="1055" y="173"/>
                </a:lnTo>
                <a:lnTo>
                  <a:pt x="1062" y="166"/>
                </a:lnTo>
                <a:lnTo>
                  <a:pt x="1069" y="159"/>
                </a:lnTo>
                <a:lnTo>
                  <a:pt x="1076" y="159"/>
                </a:lnTo>
                <a:lnTo>
                  <a:pt x="1083" y="159"/>
                </a:lnTo>
                <a:lnTo>
                  <a:pt x="1097" y="159"/>
                </a:lnTo>
                <a:lnTo>
                  <a:pt x="1104" y="152"/>
                </a:lnTo>
                <a:lnTo>
                  <a:pt x="1110" y="152"/>
                </a:lnTo>
                <a:lnTo>
                  <a:pt x="1117" y="152"/>
                </a:lnTo>
                <a:lnTo>
                  <a:pt x="1131" y="145"/>
                </a:lnTo>
                <a:lnTo>
                  <a:pt x="1138" y="145"/>
                </a:lnTo>
                <a:lnTo>
                  <a:pt x="1145" y="138"/>
                </a:lnTo>
                <a:lnTo>
                  <a:pt x="1152" y="138"/>
                </a:lnTo>
                <a:lnTo>
                  <a:pt x="1159" y="131"/>
                </a:lnTo>
                <a:lnTo>
                  <a:pt x="1166" y="131"/>
                </a:lnTo>
                <a:lnTo>
                  <a:pt x="1172" y="131"/>
                </a:lnTo>
                <a:lnTo>
                  <a:pt x="1186" y="124"/>
                </a:lnTo>
                <a:lnTo>
                  <a:pt x="1193" y="124"/>
                </a:lnTo>
                <a:lnTo>
                  <a:pt x="1200" y="124"/>
                </a:lnTo>
                <a:lnTo>
                  <a:pt x="1207" y="124"/>
                </a:lnTo>
                <a:lnTo>
                  <a:pt x="1221" y="124"/>
                </a:lnTo>
                <a:lnTo>
                  <a:pt x="1228" y="117"/>
                </a:lnTo>
                <a:lnTo>
                  <a:pt x="1235" y="117"/>
                </a:lnTo>
                <a:lnTo>
                  <a:pt x="1241" y="111"/>
                </a:lnTo>
                <a:lnTo>
                  <a:pt x="1248" y="104"/>
                </a:lnTo>
                <a:lnTo>
                  <a:pt x="1255" y="104"/>
                </a:lnTo>
                <a:lnTo>
                  <a:pt x="1262" y="97"/>
                </a:lnTo>
                <a:lnTo>
                  <a:pt x="1269" y="97"/>
                </a:lnTo>
                <a:lnTo>
                  <a:pt x="1276" y="97"/>
                </a:lnTo>
                <a:lnTo>
                  <a:pt x="1283" y="90"/>
                </a:lnTo>
                <a:lnTo>
                  <a:pt x="1297" y="90"/>
                </a:lnTo>
                <a:lnTo>
                  <a:pt x="1303" y="90"/>
                </a:lnTo>
                <a:lnTo>
                  <a:pt x="1310" y="83"/>
                </a:lnTo>
                <a:lnTo>
                  <a:pt x="1317" y="83"/>
                </a:lnTo>
                <a:lnTo>
                  <a:pt x="1324" y="76"/>
                </a:lnTo>
                <a:lnTo>
                  <a:pt x="1331" y="69"/>
                </a:lnTo>
                <a:lnTo>
                  <a:pt x="1338" y="69"/>
                </a:lnTo>
                <a:lnTo>
                  <a:pt x="1345" y="62"/>
                </a:lnTo>
                <a:lnTo>
                  <a:pt x="1345" y="62"/>
                </a:lnTo>
                <a:lnTo>
                  <a:pt x="1352" y="55"/>
                </a:lnTo>
                <a:lnTo>
                  <a:pt x="1359" y="49"/>
                </a:lnTo>
                <a:lnTo>
                  <a:pt x="1359" y="42"/>
                </a:lnTo>
                <a:lnTo>
                  <a:pt x="1366" y="42"/>
                </a:lnTo>
                <a:lnTo>
                  <a:pt x="1372" y="35"/>
                </a:lnTo>
                <a:lnTo>
                  <a:pt x="1372" y="28"/>
                </a:lnTo>
                <a:lnTo>
                  <a:pt x="1372" y="21"/>
                </a:lnTo>
                <a:lnTo>
                  <a:pt x="1366" y="21"/>
                </a:lnTo>
                <a:lnTo>
                  <a:pt x="1359" y="14"/>
                </a:lnTo>
                <a:lnTo>
                  <a:pt x="1352" y="7"/>
                </a:lnTo>
                <a:lnTo>
                  <a:pt x="1345" y="7"/>
                </a:lnTo>
                <a:lnTo>
                  <a:pt x="1345" y="0"/>
                </a:lnTo>
                <a:lnTo>
                  <a:pt x="1331" y="0"/>
                </a:lnTo>
                <a:lnTo>
                  <a:pt x="1297" y="0"/>
                </a:lnTo>
                <a:lnTo>
                  <a:pt x="1269" y="0"/>
                </a:lnTo>
                <a:lnTo>
                  <a:pt x="1241" y="0"/>
                </a:lnTo>
                <a:lnTo>
                  <a:pt x="1207" y="0"/>
                </a:lnTo>
                <a:lnTo>
                  <a:pt x="1179" y="0"/>
                </a:lnTo>
                <a:lnTo>
                  <a:pt x="1152" y="0"/>
                </a:lnTo>
                <a:lnTo>
                  <a:pt x="1124" y="0"/>
                </a:lnTo>
                <a:lnTo>
                  <a:pt x="1090" y="0"/>
                </a:lnTo>
                <a:lnTo>
                  <a:pt x="1062" y="0"/>
                </a:lnTo>
                <a:lnTo>
                  <a:pt x="1035" y="0"/>
                </a:lnTo>
                <a:lnTo>
                  <a:pt x="1000" y="0"/>
                </a:lnTo>
                <a:lnTo>
                  <a:pt x="973" y="0"/>
                </a:lnTo>
                <a:lnTo>
                  <a:pt x="945" y="0"/>
                </a:lnTo>
                <a:lnTo>
                  <a:pt x="917" y="0"/>
                </a:lnTo>
                <a:lnTo>
                  <a:pt x="883" y="0"/>
                </a:lnTo>
                <a:lnTo>
                  <a:pt x="855" y="0"/>
                </a:lnTo>
                <a:lnTo>
                  <a:pt x="828" y="0"/>
                </a:lnTo>
                <a:lnTo>
                  <a:pt x="793" y="0"/>
                </a:lnTo>
                <a:lnTo>
                  <a:pt x="766" y="0"/>
                </a:lnTo>
                <a:lnTo>
                  <a:pt x="738" y="0"/>
                </a:lnTo>
                <a:lnTo>
                  <a:pt x="711" y="0"/>
                </a:lnTo>
                <a:lnTo>
                  <a:pt x="676" y="0"/>
                </a:lnTo>
                <a:lnTo>
                  <a:pt x="648" y="28"/>
                </a:lnTo>
                <a:lnTo>
                  <a:pt x="621" y="62"/>
                </a:lnTo>
                <a:lnTo>
                  <a:pt x="593" y="90"/>
                </a:lnTo>
                <a:lnTo>
                  <a:pt x="559" y="117"/>
                </a:lnTo>
                <a:lnTo>
                  <a:pt x="531" y="145"/>
                </a:lnTo>
                <a:lnTo>
                  <a:pt x="504" y="145"/>
                </a:lnTo>
                <a:lnTo>
                  <a:pt x="469" y="179"/>
                </a:lnTo>
                <a:lnTo>
                  <a:pt x="442" y="207"/>
                </a:lnTo>
                <a:lnTo>
                  <a:pt x="414" y="235"/>
                </a:lnTo>
                <a:lnTo>
                  <a:pt x="386" y="269"/>
                </a:lnTo>
                <a:lnTo>
                  <a:pt x="386" y="297"/>
                </a:lnTo>
                <a:lnTo>
                  <a:pt x="386" y="297"/>
                </a:lnTo>
                <a:lnTo>
                  <a:pt x="380" y="303"/>
                </a:lnTo>
                <a:lnTo>
                  <a:pt x="373" y="310"/>
                </a:lnTo>
                <a:lnTo>
                  <a:pt x="373" y="317"/>
                </a:lnTo>
                <a:lnTo>
                  <a:pt x="373" y="317"/>
                </a:lnTo>
                <a:lnTo>
                  <a:pt x="366" y="324"/>
                </a:lnTo>
                <a:lnTo>
                  <a:pt x="366" y="331"/>
                </a:lnTo>
                <a:lnTo>
                  <a:pt x="359" y="331"/>
                </a:lnTo>
                <a:lnTo>
                  <a:pt x="352" y="338"/>
                </a:lnTo>
                <a:lnTo>
                  <a:pt x="352" y="345"/>
                </a:lnTo>
                <a:lnTo>
                  <a:pt x="345" y="352"/>
                </a:lnTo>
                <a:lnTo>
                  <a:pt x="338" y="352"/>
                </a:lnTo>
                <a:lnTo>
                  <a:pt x="338" y="359"/>
                </a:lnTo>
                <a:lnTo>
                  <a:pt x="331" y="365"/>
                </a:lnTo>
                <a:lnTo>
                  <a:pt x="324" y="365"/>
                </a:lnTo>
                <a:lnTo>
                  <a:pt x="324" y="372"/>
                </a:lnTo>
                <a:lnTo>
                  <a:pt x="318" y="379"/>
                </a:lnTo>
                <a:lnTo>
                  <a:pt x="318" y="386"/>
                </a:lnTo>
                <a:lnTo>
                  <a:pt x="311" y="386"/>
                </a:lnTo>
                <a:lnTo>
                  <a:pt x="304" y="393"/>
                </a:lnTo>
                <a:lnTo>
                  <a:pt x="304" y="400"/>
                </a:lnTo>
                <a:lnTo>
                  <a:pt x="297" y="407"/>
                </a:lnTo>
                <a:lnTo>
                  <a:pt x="297" y="407"/>
                </a:lnTo>
                <a:lnTo>
                  <a:pt x="290" y="414"/>
                </a:lnTo>
                <a:lnTo>
                  <a:pt x="283" y="421"/>
                </a:lnTo>
                <a:lnTo>
                  <a:pt x="283" y="421"/>
                </a:lnTo>
                <a:lnTo>
                  <a:pt x="276" y="427"/>
                </a:lnTo>
                <a:lnTo>
                  <a:pt x="276" y="434"/>
                </a:lnTo>
                <a:lnTo>
                  <a:pt x="269" y="441"/>
                </a:lnTo>
                <a:lnTo>
                  <a:pt x="262" y="441"/>
                </a:lnTo>
                <a:lnTo>
                  <a:pt x="262" y="448"/>
                </a:lnTo>
                <a:lnTo>
                  <a:pt x="255" y="455"/>
                </a:lnTo>
                <a:lnTo>
                  <a:pt x="255" y="462"/>
                </a:lnTo>
                <a:lnTo>
                  <a:pt x="249" y="462"/>
                </a:lnTo>
                <a:lnTo>
                  <a:pt x="242" y="469"/>
                </a:lnTo>
                <a:lnTo>
                  <a:pt x="242" y="476"/>
                </a:lnTo>
                <a:lnTo>
                  <a:pt x="235" y="476"/>
                </a:lnTo>
                <a:lnTo>
                  <a:pt x="228" y="483"/>
                </a:lnTo>
                <a:lnTo>
                  <a:pt x="221" y="483"/>
                </a:lnTo>
                <a:lnTo>
                  <a:pt x="221" y="489"/>
                </a:lnTo>
                <a:lnTo>
                  <a:pt x="214" y="496"/>
                </a:lnTo>
                <a:lnTo>
                  <a:pt x="214" y="503"/>
                </a:lnTo>
                <a:lnTo>
                  <a:pt x="214" y="510"/>
                </a:lnTo>
                <a:lnTo>
                  <a:pt x="214" y="517"/>
                </a:lnTo>
                <a:lnTo>
                  <a:pt x="214" y="524"/>
                </a:lnTo>
                <a:lnTo>
                  <a:pt x="214" y="524"/>
                </a:lnTo>
                <a:lnTo>
                  <a:pt x="214" y="531"/>
                </a:lnTo>
                <a:lnTo>
                  <a:pt x="207" y="538"/>
                </a:lnTo>
                <a:lnTo>
                  <a:pt x="200" y="538"/>
                </a:lnTo>
                <a:lnTo>
                  <a:pt x="193" y="545"/>
                </a:lnTo>
                <a:lnTo>
                  <a:pt x="193" y="551"/>
                </a:lnTo>
                <a:lnTo>
                  <a:pt x="193" y="558"/>
                </a:lnTo>
                <a:lnTo>
                  <a:pt x="193" y="565"/>
                </a:lnTo>
                <a:lnTo>
                  <a:pt x="193" y="565"/>
                </a:lnTo>
                <a:lnTo>
                  <a:pt x="193" y="572"/>
                </a:lnTo>
                <a:lnTo>
                  <a:pt x="193" y="579"/>
                </a:lnTo>
                <a:lnTo>
                  <a:pt x="187" y="586"/>
                </a:lnTo>
                <a:lnTo>
                  <a:pt x="187" y="593"/>
                </a:lnTo>
                <a:lnTo>
                  <a:pt x="180" y="600"/>
                </a:lnTo>
                <a:lnTo>
                  <a:pt x="173" y="600"/>
                </a:lnTo>
                <a:lnTo>
                  <a:pt x="173" y="593"/>
                </a:lnTo>
                <a:lnTo>
                  <a:pt x="166" y="593"/>
                </a:lnTo>
                <a:lnTo>
                  <a:pt x="159" y="586"/>
                </a:lnTo>
                <a:lnTo>
                  <a:pt x="159" y="579"/>
                </a:lnTo>
                <a:lnTo>
                  <a:pt x="152" y="572"/>
                </a:lnTo>
                <a:lnTo>
                  <a:pt x="145" y="572"/>
                </a:lnTo>
                <a:lnTo>
                  <a:pt x="138" y="565"/>
                </a:lnTo>
                <a:lnTo>
                  <a:pt x="131" y="565"/>
                </a:lnTo>
                <a:lnTo>
                  <a:pt x="124" y="565"/>
                </a:lnTo>
                <a:lnTo>
                  <a:pt x="111" y="565"/>
                </a:lnTo>
                <a:lnTo>
                  <a:pt x="104" y="565"/>
                </a:lnTo>
                <a:lnTo>
                  <a:pt x="97" y="565"/>
                </a:lnTo>
                <a:lnTo>
                  <a:pt x="90" y="565"/>
                </a:lnTo>
                <a:lnTo>
                  <a:pt x="83" y="558"/>
                </a:lnTo>
                <a:lnTo>
                  <a:pt x="83" y="558"/>
                </a:lnTo>
                <a:lnTo>
                  <a:pt x="83" y="551"/>
                </a:lnTo>
                <a:lnTo>
                  <a:pt x="83" y="545"/>
                </a:lnTo>
                <a:lnTo>
                  <a:pt x="56" y="565"/>
                </a:lnTo>
                <a:lnTo>
                  <a:pt x="28" y="565"/>
                </a:lnTo>
                <a:lnTo>
                  <a:pt x="7" y="586"/>
                </a:lnTo>
                <a:lnTo>
                  <a:pt x="7" y="586"/>
                </a:lnTo>
                <a:lnTo>
                  <a:pt x="0" y="593"/>
                </a:lnTo>
                <a:lnTo>
                  <a:pt x="0" y="593"/>
                </a:lnTo>
                <a:lnTo>
                  <a:pt x="0" y="593"/>
                </a:lnTo>
                <a:lnTo>
                  <a:pt x="0" y="593"/>
                </a:lnTo>
                <a:lnTo>
                  <a:pt x="0" y="593"/>
                </a:lnTo>
                <a:lnTo>
                  <a:pt x="0" y="593"/>
                </a:lnTo>
                <a:lnTo>
                  <a:pt x="0" y="593"/>
                </a:lnTo>
                <a:lnTo>
                  <a:pt x="0" y="620"/>
                </a:lnTo>
                <a:lnTo>
                  <a:pt x="0" y="655"/>
                </a:lnTo>
                <a:lnTo>
                  <a:pt x="0" y="669"/>
                </a:lnTo>
                <a:lnTo>
                  <a:pt x="7" y="662"/>
                </a:lnTo>
                <a:lnTo>
                  <a:pt x="7" y="662"/>
                </a:lnTo>
                <a:lnTo>
                  <a:pt x="14" y="655"/>
                </a:lnTo>
                <a:lnTo>
                  <a:pt x="21" y="648"/>
                </a:lnTo>
                <a:lnTo>
                  <a:pt x="21" y="641"/>
                </a:lnTo>
                <a:lnTo>
                  <a:pt x="28" y="634"/>
                </a:lnTo>
                <a:lnTo>
                  <a:pt x="35" y="641"/>
                </a:lnTo>
                <a:lnTo>
                  <a:pt x="42" y="641"/>
                </a:lnTo>
                <a:lnTo>
                  <a:pt x="49" y="648"/>
                </a:lnTo>
                <a:lnTo>
                  <a:pt x="49" y="655"/>
                </a:lnTo>
                <a:lnTo>
                  <a:pt x="56" y="662"/>
                </a:lnTo>
                <a:lnTo>
                  <a:pt x="56" y="669"/>
                </a:lnTo>
                <a:lnTo>
                  <a:pt x="56" y="675"/>
                </a:lnTo>
                <a:lnTo>
                  <a:pt x="56" y="675"/>
                </a:lnTo>
                <a:lnTo>
                  <a:pt x="62" y="675"/>
                </a:lnTo>
                <a:lnTo>
                  <a:pt x="69" y="675"/>
                </a:lnTo>
                <a:lnTo>
                  <a:pt x="83" y="675"/>
                </a:lnTo>
                <a:lnTo>
                  <a:pt x="90" y="669"/>
                </a:lnTo>
                <a:lnTo>
                  <a:pt x="104" y="669"/>
                </a:lnTo>
                <a:lnTo>
                  <a:pt x="111" y="669"/>
                </a:lnTo>
                <a:lnTo>
                  <a:pt x="118" y="669"/>
                </a:lnTo>
                <a:lnTo>
                  <a:pt x="124" y="675"/>
                </a:lnTo>
                <a:lnTo>
                  <a:pt x="124" y="682"/>
                </a:lnTo>
                <a:lnTo>
                  <a:pt x="124" y="689"/>
                </a:lnTo>
                <a:lnTo>
                  <a:pt x="124" y="696"/>
                </a:lnTo>
                <a:lnTo>
                  <a:pt x="124" y="696"/>
                </a:lnTo>
                <a:lnTo>
                  <a:pt x="118" y="703"/>
                </a:lnTo>
                <a:lnTo>
                  <a:pt x="111" y="703"/>
                </a:lnTo>
                <a:lnTo>
                  <a:pt x="104" y="703"/>
                </a:lnTo>
                <a:lnTo>
                  <a:pt x="97" y="703"/>
                </a:lnTo>
                <a:lnTo>
                  <a:pt x="83" y="703"/>
                </a:lnTo>
                <a:lnTo>
                  <a:pt x="69" y="710"/>
                </a:lnTo>
                <a:lnTo>
                  <a:pt x="62" y="710"/>
                </a:lnTo>
                <a:lnTo>
                  <a:pt x="62" y="710"/>
                </a:lnTo>
                <a:lnTo>
                  <a:pt x="62" y="717"/>
                </a:lnTo>
                <a:lnTo>
                  <a:pt x="76" y="717"/>
                </a:lnTo>
                <a:lnTo>
                  <a:pt x="83" y="717"/>
                </a:lnTo>
                <a:lnTo>
                  <a:pt x="97" y="717"/>
                </a:lnTo>
                <a:lnTo>
                  <a:pt x="104" y="717"/>
                </a:lnTo>
                <a:lnTo>
                  <a:pt x="111" y="717"/>
                </a:lnTo>
                <a:lnTo>
                  <a:pt x="124" y="717"/>
                </a:lnTo>
                <a:lnTo>
                  <a:pt x="131" y="724"/>
                </a:lnTo>
                <a:lnTo>
                  <a:pt x="138" y="724"/>
                </a:lnTo>
                <a:lnTo>
                  <a:pt x="145" y="731"/>
                </a:lnTo>
                <a:lnTo>
                  <a:pt x="152" y="731"/>
                </a:lnTo>
                <a:lnTo>
                  <a:pt x="159" y="724"/>
                </a:lnTo>
                <a:lnTo>
                  <a:pt x="166" y="717"/>
                </a:lnTo>
                <a:lnTo>
                  <a:pt x="173" y="710"/>
                </a:lnTo>
                <a:lnTo>
                  <a:pt x="173" y="710"/>
                </a:lnTo>
                <a:lnTo>
                  <a:pt x="180" y="703"/>
                </a:lnTo>
                <a:lnTo>
                  <a:pt x="180" y="696"/>
                </a:lnTo>
                <a:lnTo>
                  <a:pt x="180" y="689"/>
                </a:lnTo>
                <a:lnTo>
                  <a:pt x="180" y="682"/>
                </a:lnTo>
                <a:lnTo>
                  <a:pt x="187" y="682"/>
                </a:lnTo>
                <a:lnTo>
                  <a:pt x="193" y="675"/>
                </a:lnTo>
                <a:lnTo>
                  <a:pt x="200" y="675"/>
                </a:lnTo>
                <a:lnTo>
                  <a:pt x="207" y="675"/>
                </a:lnTo>
                <a:lnTo>
                  <a:pt x="221" y="675"/>
                </a:lnTo>
                <a:lnTo>
                  <a:pt x="228" y="682"/>
                </a:lnTo>
                <a:lnTo>
                  <a:pt x="235" y="682"/>
                </a:lnTo>
                <a:lnTo>
                  <a:pt x="249" y="682"/>
                </a:lnTo>
                <a:lnTo>
                  <a:pt x="255" y="675"/>
                </a:lnTo>
                <a:lnTo>
                  <a:pt x="262" y="675"/>
                </a:lnTo>
                <a:lnTo>
                  <a:pt x="269" y="682"/>
                </a:lnTo>
                <a:lnTo>
                  <a:pt x="269" y="689"/>
                </a:lnTo>
                <a:lnTo>
                  <a:pt x="269" y="696"/>
                </a:lnTo>
                <a:lnTo>
                  <a:pt x="269" y="703"/>
                </a:lnTo>
                <a:lnTo>
                  <a:pt x="269" y="710"/>
                </a:lnTo>
                <a:lnTo>
                  <a:pt x="269" y="710"/>
                </a:lnTo>
                <a:lnTo>
                  <a:pt x="269" y="717"/>
                </a:lnTo>
                <a:lnTo>
                  <a:pt x="269" y="724"/>
                </a:lnTo>
                <a:lnTo>
                  <a:pt x="262" y="731"/>
                </a:lnTo>
                <a:lnTo>
                  <a:pt x="262" y="737"/>
                </a:lnTo>
                <a:lnTo>
                  <a:pt x="262" y="744"/>
                </a:lnTo>
                <a:lnTo>
                  <a:pt x="262" y="744"/>
                </a:lnTo>
                <a:lnTo>
                  <a:pt x="269" y="751"/>
                </a:lnTo>
                <a:lnTo>
                  <a:pt x="276" y="758"/>
                </a:lnTo>
                <a:lnTo>
                  <a:pt x="283" y="758"/>
                </a:lnTo>
                <a:lnTo>
                  <a:pt x="290" y="758"/>
                </a:lnTo>
                <a:lnTo>
                  <a:pt x="304" y="765"/>
                </a:lnTo>
                <a:lnTo>
                  <a:pt x="311" y="765"/>
                </a:lnTo>
                <a:lnTo>
                  <a:pt x="318" y="765"/>
                </a:lnTo>
                <a:lnTo>
                  <a:pt x="324" y="765"/>
                </a:lnTo>
                <a:lnTo>
                  <a:pt x="338" y="765"/>
                </a:lnTo>
                <a:lnTo>
                  <a:pt x="345" y="765"/>
                </a:lnTo>
                <a:lnTo>
                  <a:pt x="352" y="758"/>
                </a:lnTo>
                <a:lnTo>
                  <a:pt x="359" y="758"/>
                </a:lnTo>
                <a:lnTo>
                  <a:pt x="366" y="751"/>
                </a:lnTo>
                <a:lnTo>
                  <a:pt x="380" y="751"/>
                </a:lnTo>
                <a:lnTo>
                  <a:pt x="386" y="751"/>
                </a:lnTo>
                <a:lnTo>
                  <a:pt x="386" y="751"/>
                </a:lnTo>
                <a:lnTo>
                  <a:pt x="393" y="758"/>
                </a:lnTo>
                <a:lnTo>
                  <a:pt x="400" y="765"/>
                </a:lnTo>
                <a:lnTo>
                  <a:pt x="407" y="765"/>
                </a:lnTo>
                <a:lnTo>
                  <a:pt x="414" y="772"/>
                </a:lnTo>
                <a:close/>
                <a:moveTo>
                  <a:pt x="1517" y="744"/>
                </a:moveTo>
                <a:lnTo>
                  <a:pt x="1531" y="737"/>
                </a:lnTo>
                <a:lnTo>
                  <a:pt x="1538" y="737"/>
                </a:lnTo>
                <a:lnTo>
                  <a:pt x="1545" y="737"/>
                </a:lnTo>
                <a:lnTo>
                  <a:pt x="1559" y="737"/>
                </a:lnTo>
                <a:lnTo>
                  <a:pt x="1566" y="737"/>
                </a:lnTo>
                <a:lnTo>
                  <a:pt x="1579" y="737"/>
                </a:lnTo>
                <a:lnTo>
                  <a:pt x="1586" y="737"/>
                </a:lnTo>
                <a:lnTo>
                  <a:pt x="1593" y="737"/>
                </a:lnTo>
                <a:lnTo>
                  <a:pt x="1600" y="731"/>
                </a:lnTo>
                <a:lnTo>
                  <a:pt x="1600" y="724"/>
                </a:lnTo>
                <a:lnTo>
                  <a:pt x="1600" y="717"/>
                </a:lnTo>
                <a:lnTo>
                  <a:pt x="1600" y="710"/>
                </a:lnTo>
                <a:lnTo>
                  <a:pt x="1607" y="703"/>
                </a:lnTo>
                <a:lnTo>
                  <a:pt x="1607" y="696"/>
                </a:lnTo>
                <a:lnTo>
                  <a:pt x="1607" y="689"/>
                </a:lnTo>
                <a:lnTo>
                  <a:pt x="1607" y="682"/>
                </a:lnTo>
                <a:lnTo>
                  <a:pt x="1607" y="675"/>
                </a:lnTo>
                <a:lnTo>
                  <a:pt x="1607" y="669"/>
                </a:lnTo>
                <a:lnTo>
                  <a:pt x="1614" y="662"/>
                </a:lnTo>
                <a:lnTo>
                  <a:pt x="1614" y="655"/>
                </a:lnTo>
                <a:lnTo>
                  <a:pt x="1614" y="655"/>
                </a:lnTo>
                <a:lnTo>
                  <a:pt x="1614" y="648"/>
                </a:lnTo>
                <a:lnTo>
                  <a:pt x="1621" y="641"/>
                </a:lnTo>
                <a:lnTo>
                  <a:pt x="1621" y="634"/>
                </a:lnTo>
                <a:lnTo>
                  <a:pt x="1628" y="627"/>
                </a:lnTo>
                <a:lnTo>
                  <a:pt x="1634" y="620"/>
                </a:lnTo>
                <a:lnTo>
                  <a:pt x="1634" y="613"/>
                </a:lnTo>
                <a:lnTo>
                  <a:pt x="1641" y="607"/>
                </a:lnTo>
                <a:lnTo>
                  <a:pt x="1641" y="607"/>
                </a:lnTo>
                <a:lnTo>
                  <a:pt x="1641" y="600"/>
                </a:lnTo>
                <a:lnTo>
                  <a:pt x="1648" y="593"/>
                </a:lnTo>
                <a:lnTo>
                  <a:pt x="1648" y="586"/>
                </a:lnTo>
                <a:lnTo>
                  <a:pt x="1655" y="579"/>
                </a:lnTo>
                <a:lnTo>
                  <a:pt x="1655" y="572"/>
                </a:lnTo>
                <a:lnTo>
                  <a:pt x="1662" y="565"/>
                </a:lnTo>
                <a:lnTo>
                  <a:pt x="1662" y="558"/>
                </a:lnTo>
                <a:lnTo>
                  <a:pt x="1669" y="551"/>
                </a:lnTo>
                <a:lnTo>
                  <a:pt x="1669" y="551"/>
                </a:lnTo>
                <a:lnTo>
                  <a:pt x="1669" y="545"/>
                </a:lnTo>
                <a:lnTo>
                  <a:pt x="1669" y="538"/>
                </a:lnTo>
                <a:lnTo>
                  <a:pt x="1669" y="531"/>
                </a:lnTo>
                <a:lnTo>
                  <a:pt x="1662" y="524"/>
                </a:lnTo>
                <a:lnTo>
                  <a:pt x="1655" y="517"/>
                </a:lnTo>
                <a:lnTo>
                  <a:pt x="1648" y="524"/>
                </a:lnTo>
                <a:lnTo>
                  <a:pt x="1634" y="524"/>
                </a:lnTo>
                <a:lnTo>
                  <a:pt x="1628" y="524"/>
                </a:lnTo>
                <a:lnTo>
                  <a:pt x="1621" y="531"/>
                </a:lnTo>
                <a:lnTo>
                  <a:pt x="1614" y="538"/>
                </a:lnTo>
                <a:lnTo>
                  <a:pt x="1607" y="538"/>
                </a:lnTo>
                <a:lnTo>
                  <a:pt x="1600" y="545"/>
                </a:lnTo>
                <a:lnTo>
                  <a:pt x="1593" y="551"/>
                </a:lnTo>
                <a:lnTo>
                  <a:pt x="1586" y="551"/>
                </a:lnTo>
                <a:lnTo>
                  <a:pt x="1579" y="558"/>
                </a:lnTo>
                <a:lnTo>
                  <a:pt x="1572" y="565"/>
                </a:lnTo>
                <a:lnTo>
                  <a:pt x="1572" y="572"/>
                </a:lnTo>
                <a:lnTo>
                  <a:pt x="1566" y="579"/>
                </a:lnTo>
                <a:lnTo>
                  <a:pt x="1566" y="586"/>
                </a:lnTo>
                <a:lnTo>
                  <a:pt x="1559" y="593"/>
                </a:lnTo>
                <a:lnTo>
                  <a:pt x="1559" y="593"/>
                </a:lnTo>
                <a:lnTo>
                  <a:pt x="1559" y="607"/>
                </a:lnTo>
                <a:lnTo>
                  <a:pt x="1552" y="607"/>
                </a:lnTo>
                <a:lnTo>
                  <a:pt x="1545" y="613"/>
                </a:lnTo>
                <a:lnTo>
                  <a:pt x="1538" y="620"/>
                </a:lnTo>
                <a:lnTo>
                  <a:pt x="1531" y="620"/>
                </a:lnTo>
                <a:lnTo>
                  <a:pt x="1517" y="620"/>
                </a:lnTo>
                <a:lnTo>
                  <a:pt x="1510" y="620"/>
                </a:lnTo>
                <a:lnTo>
                  <a:pt x="1503" y="627"/>
                </a:lnTo>
                <a:lnTo>
                  <a:pt x="1497" y="627"/>
                </a:lnTo>
                <a:lnTo>
                  <a:pt x="1497" y="634"/>
                </a:lnTo>
                <a:lnTo>
                  <a:pt x="1497" y="641"/>
                </a:lnTo>
                <a:lnTo>
                  <a:pt x="1490" y="648"/>
                </a:lnTo>
                <a:lnTo>
                  <a:pt x="1490" y="655"/>
                </a:lnTo>
                <a:lnTo>
                  <a:pt x="1490" y="662"/>
                </a:lnTo>
                <a:lnTo>
                  <a:pt x="1490" y="669"/>
                </a:lnTo>
                <a:lnTo>
                  <a:pt x="1490" y="675"/>
                </a:lnTo>
                <a:lnTo>
                  <a:pt x="1490" y="682"/>
                </a:lnTo>
                <a:lnTo>
                  <a:pt x="1490" y="689"/>
                </a:lnTo>
                <a:lnTo>
                  <a:pt x="1490" y="696"/>
                </a:lnTo>
                <a:lnTo>
                  <a:pt x="1490" y="703"/>
                </a:lnTo>
                <a:lnTo>
                  <a:pt x="1490" y="710"/>
                </a:lnTo>
                <a:lnTo>
                  <a:pt x="1490" y="710"/>
                </a:lnTo>
                <a:lnTo>
                  <a:pt x="1483" y="717"/>
                </a:lnTo>
                <a:lnTo>
                  <a:pt x="1483" y="724"/>
                </a:lnTo>
                <a:lnTo>
                  <a:pt x="1476" y="731"/>
                </a:lnTo>
                <a:lnTo>
                  <a:pt x="1476" y="737"/>
                </a:lnTo>
                <a:lnTo>
                  <a:pt x="1476" y="744"/>
                </a:lnTo>
                <a:lnTo>
                  <a:pt x="1476" y="751"/>
                </a:lnTo>
                <a:lnTo>
                  <a:pt x="1483" y="751"/>
                </a:lnTo>
                <a:lnTo>
                  <a:pt x="1490" y="751"/>
                </a:lnTo>
                <a:lnTo>
                  <a:pt x="1503" y="744"/>
                </a:lnTo>
                <a:lnTo>
                  <a:pt x="1510" y="744"/>
                </a:lnTo>
                <a:lnTo>
                  <a:pt x="1517" y="744"/>
                </a:lnTo>
                <a:close/>
                <a:moveTo>
                  <a:pt x="1179" y="655"/>
                </a:moveTo>
                <a:lnTo>
                  <a:pt x="1179" y="648"/>
                </a:lnTo>
                <a:lnTo>
                  <a:pt x="1179" y="648"/>
                </a:lnTo>
                <a:lnTo>
                  <a:pt x="1179" y="641"/>
                </a:lnTo>
                <a:lnTo>
                  <a:pt x="1179" y="634"/>
                </a:lnTo>
                <a:lnTo>
                  <a:pt x="1179" y="634"/>
                </a:lnTo>
                <a:lnTo>
                  <a:pt x="1179" y="627"/>
                </a:lnTo>
                <a:lnTo>
                  <a:pt x="1179" y="620"/>
                </a:lnTo>
                <a:lnTo>
                  <a:pt x="1179" y="620"/>
                </a:lnTo>
                <a:lnTo>
                  <a:pt x="1179" y="620"/>
                </a:lnTo>
                <a:lnTo>
                  <a:pt x="1179" y="627"/>
                </a:lnTo>
                <a:lnTo>
                  <a:pt x="1179" y="634"/>
                </a:lnTo>
                <a:lnTo>
                  <a:pt x="1179" y="634"/>
                </a:lnTo>
                <a:lnTo>
                  <a:pt x="1179" y="641"/>
                </a:lnTo>
                <a:lnTo>
                  <a:pt x="1179" y="641"/>
                </a:lnTo>
                <a:lnTo>
                  <a:pt x="1179" y="648"/>
                </a:lnTo>
                <a:lnTo>
                  <a:pt x="1179" y="655"/>
                </a:lnTo>
                <a:lnTo>
                  <a:pt x="1179" y="655"/>
                </a:lnTo>
                <a:lnTo>
                  <a:pt x="1179" y="662"/>
                </a:lnTo>
                <a:lnTo>
                  <a:pt x="1179" y="662"/>
                </a:lnTo>
                <a:lnTo>
                  <a:pt x="1179" y="655"/>
                </a:lnTo>
                <a:close/>
                <a:moveTo>
                  <a:pt x="1214" y="593"/>
                </a:moveTo>
                <a:lnTo>
                  <a:pt x="1214" y="586"/>
                </a:lnTo>
                <a:lnTo>
                  <a:pt x="1214" y="579"/>
                </a:lnTo>
                <a:lnTo>
                  <a:pt x="1214" y="572"/>
                </a:lnTo>
                <a:lnTo>
                  <a:pt x="1214" y="572"/>
                </a:lnTo>
                <a:lnTo>
                  <a:pt x="1207" y="572"/>
                </a:lnTo>
                <a:lnTo>
                  <a:pt x="1200" y="572"/>
                </a:lnTo>
                <a:lnTo>
                  <a:pt x="1193" y="579"/>
                </a:lnTo>
                <a:lnTo>
                  <a:pt x="1186" y="586"/>
                </a:lnTo>
                <a:lnTo>
                  <a:pt x="1186" y="593"/>
                </a:lnTo>
                <a:lnTo>
                  <a:pt x="1193" y="600"/>
                </a:lnTo>
                <a:lnTo>
                  <a:pt x="1200" y="600"/>
                </a:lnTo>
                <a:lnTo>
                  <a:pt x="1207" y="600"/>
                </a:lnTo>
                <a:lnTo>
                  <a:pt x="1214" y="600"/>
                </a:lnTo>
                <a:lnTo>
                  <a:pt x="1214" y="593"/>
                </a:lnTo>
                <a:close/>
                <a:moveTo>
                  <a:pt x="738" y="531"/>
                </a:moveTo>
                <a:lnTo>
                  <a:pt x="738" y="531"/>
                </a:lnTo>
                <a:lnTo>
                  <a:pt x="738" y="531"/>
                </a:lnTo>
                <a:lnTo>
                  <a:pt x="738" y="531"/>
                </a:lnTo>
                <a:lnTo>
                  <a:pt x="738" y="531"/>
                </a:lnTo>
                <a:lnTo>
                  <a:pt x="738" y="531"/>
                </a:lnTo>
                <a:lnTo>
                  <a:pt x="731" y="531"/>
                </a:lnTo>
                <a:lnTo>
                  <a:pt x="731" y="531"/>
                </a:lnTo>
                <a:lnTo>
                  <a:pt x="731" y="531"/>
                </a:lnTo>
                <a:lnTo>
                  <a:pt x="731" y="538"/>
                </a:lnTo>
                <a:lnTo>
                  <a:pt x="738" y="538"/>
                </a:lnTo>
                <a:lnTo>
                  <a:pt x="738" y="538"/>
                </a:lnTo>
                <a:lnTo>
                  <a:pt x="738" y="538"/>
                </a:lnTo>
                <a:lnTo>
                  <a:pt x="738" y="538"/>
                </a:lnTo>
                <a:lnTo>
                  <a:pt x="738" y="531"/>
                </a:lnTo>
                <a:close/>
                <a:moveTo>
                  <a:pt x="973" y="531"/>
                </a:moveTo>
                <a:lnTo>
                  <a:pt x="973" y="531"/>
                </a:lnTo>
                <a:lnTo>
                  <a:pt x="973" y="524"/>
                </a:lnTo>
                <a:lnTo>
                  <a:pt x="966" y="517"/>
                </a:lnTo>
                <a:lnTo>
                  <a:pt x="959" y="517"/>
                </a:lnTo>
                <a:lnTo>
                  <a:pt x="952" y="510"/>
                </a:lnTo>
                <a:lnTo>
                  <a:pt x="952" y="510"/>
                </a:lnTo>
                <a:lnTo>
                  <a:pt x="945" y="510"/>
                </a:lnTo>
                <a:lnTo>
                  <a:pt x="945" y="510"/>
                </a:lnTo>
                <a:lnTo>
                  <a:pt x="938" y="517"/>
                </a:lnTo>
                <a:lnTo>
                  <a:pt x="938" y="517"/>
                </a:lnTo>
                <a:lnTo>
                  <a:pt x="938" y="524"/>
                </a:lnTo>
                <a:lnTo>
                  <a:pt x="945" y="531"/>
                </a:lnTo>
                <a:lnTo>
                  <a:pt x="945" y="538"/>
                </a:lnTo>
                <a:lnTo>
                  <a:pt x="945" y="538"/>
                </a:lnTo>
                <a:lnTo>
                  <a:pt x="945" y="545"/>
                </a:lnTo>
                <a:lnTo>
                  <a:pt x="952" y="545"/>
                </a:lnTo>
                <a:lnTo>
                  <a:pt x="966" y="545"/>
                </a:lnTo>
                <a:lnTo>
                  <a:pt x="973" y="545"/>
                </a:lnTo>
                <a:lnTo>
                  <a:pt x="973" y="538"/>
                </a:lnTo>
                <a:lnTo>
                  <a:pt x="973" y="531"/>
                </a:lnTo>
                <a:close/>
                <a:moveTo>
                  <a:pt x="1241" y="531"/>
                </a:moveTo>
                <a:lnTo>
                  <a:pt x="1241" y="531"/>
                </a:lnTo>
                <a:lnTo>
                  <a:pt x="1241" y="531"/>
                </a:lnTo>
                <a:lnTo>
                  <a:pt x="1241" y="531"/>
                </a:lnTo>
                <a:lnTo>
                  <a:pt x="1241" y="531"/>
                </a:lnTo>
                <a:lnTo>
                  <a:pt x="1241" y="531"/>
                </a:lnTo>
                <a:lnTo>
                  <a:pt x="1241" y="531"/>
                </a:lnTo>
                <a:lnTo>
                  <a:pt x="1241" y="531"/>
                </a:lnTo>
                <a:lnTo>
                  <a:pt x="1241" y="531"/>
                </a:lnTo>
                <a:lnTo>
                  <a:pt x="1241" y="531"/>
                </a:lnTo>
                <a:lnTo>
                  <a:pt x="1241" y="531"/>
                </a:lnTo>
                <a:lnTo>
                  <a:pt x="1241" y="531"/>
                </a:lnTo>
                <a:lnTo>
                  <a:pt x="1241" y="531"/>
                </a:lnTo>
                <a:lnTo>
                  <a:pt x="1241" y="531"/>
                </a:lnTo>
                <a:lnTo>
                  <a:pt x="1241" y="531"/>
                </a:lnTo>
                <a:close/>
                <a:moveTo>
                  <a:pt x="166" y="476"/>
                </a:moveTo>
                <a:lnTo>
                  <a:pt x="145" y="476"/>
                </a:lnTo>
                <a:lnTo>
                  <a:pt x="131" y="489"/>
                </a:lnTo>
                <a:lnTo>
                  <a:pt x="138" y="489"/>
                </a:lnTo>
                <a:lnTo>
                  <a:pt x="145" y="489"/>
                </a:lnTo>
                <a:lnTo>
                  <a:pt x="145" y="489"/>
                </a:lnTo>
                <a:lnTo>
                  <a:pt x="152" y="489"/>
                </a:lnTo>
                <a:lnTo>
                  <a:pt x="159" y="489"/>
                </a:lnTo>
                <a:lnTo>
                  <a:pt x="159" y="483"/>
                </a:lnTo>
                <a:lnTo>
                  <a:pt x="159" y="483"/>
                </a:lnTo>
                <a:lnTo>
                  <a:pt x="166" y="476"/>
                </a:lnTo>
                <a:close/>
                <a:moveTo>
                  <a:pt x="952" y="476"/>
                </a:moveTo>
                <a:lnTo>
                  <a:pt x="945" y="469"/>
                </a:lnTo>
                <a:lnTo>
                  <a:pt x="945" y="462"/>
                </a:lnTo>
                <a:lnTo>
                  <a:pt x="938" y="455"/>
                </a:lnTo>
                <a:lnTo>
                  <a:pt x="938" y="455"/>
                </a:lnTo>
                <a:lnTo>
                  <a:pt x="931" y="448"/>
                </a:lnTo>
                <a:lnTo>
                  <a:pt x="931" y="441"/>
                </a:lnTo>
                <a:lnTo>
                  <a:pt x="931" y="434"/>
                </a:lnTo>
                <a:lnTo>
                  <a:pt x="938" y="427"/>
                </a:lnTo>
                <a:lnTo>
                  <a:pt x="938" y="421"/>
                </a:lnTo>
                <a:lnTo>
                  <a:pt x="938" y="414"/>
                </a:lnTo>
                <a:lnTo>
                  <a:pt x="931" y="414"/>
                </a:lnTo>
                <a:lnTo>
                  <a:pt x="924" y="407"/>
                </a:lnTo>
                <a:lnTo>
                  <a:pt x="917" y="407"/>
                </a:lnTo>
                <a:lnTo>
                  <a:pt x="904" y="407"/>
                </a:lnTo>
                <a:lnTo>
                  <a:pt x="897" y="407"/>
                </a:lnTo>
                <a:lnTo>
                  <a:pt x="890" y="414"/>
                </a:lnTo>
                <a:lnTo>
                  <a:pt x="883" y="414"/>
                </a:lnTo>
                <a:lnTo>
                  <a:pt x="876" y="421"/>
                </a:lnTo>
                <a:lnTo>
                  <a:pt x="869" y="427"/>
                </a:lnTo>
                <a:lnTo>
                  <a:pt x="869" y="434"/>
                </a:lnTo>
                <a:lnTo>
                  <a:pt x="862" y="434"/>
                </a:lnTo>
                <a:lnTo>
                  <a:pt x="855" y="441"/>
                </a:lnTo>
                <a:lnTo>
                  <a:pt x="848" y="448"/>
                </a:lnTo>
                <a:lnTo>
                  <a:pt x="848" y="448"/>
                </a:lnTo>
                <a:lnTo>
                  <a:pt x="842" y="455"/>
                </a:lnTo>
                <a:lnTo>
                  <a:pt x="842" y="462"/>
                </a:lnTo>
                <a:lnTo>
                  <a:pt x="835" y="469"/>
                </a:lnTo>
                <a:lnTo>
                  <a:pt x="828" y="476"/>
                </a:lnTo>
                <a:lnTo>
                  <a:pt x="828" y="476"/>
                </a:lnTo>
                <a:lnTo>
                  <a:pt x="835" y="483"/>
                </a:lnTo>
                <a:lnTo>
                  <a:pt x="842" y="489"/>
                </a:lnTo>
                <a:lnTo>
                  <a:pt x="848" y="489"/>
                </a:lnTo>
                <a:lnTo>
                  <a:pt x="855" y="496"/>
                </a:lnTo>
                <a:lnTo>
                  <a:pt x="862" y="496"/>
                </a:lnTo>
                <a:lnTo>
                  <a:pt x="869" y="489"/>
                </a:lnTo>
                <a:lnTo>
                  <a:pt x="876" y="489"/>
                </a:lnTo>
                <a:lnTo>
                  <a:pt x="890" y="483"/>
                </a:lnTo>
                <a:lnTo>
                  <a:pt x="897" y="483"/>
                </a:lnTo>
                <a:lnTo>
                  <a:pt x="904" y="476"/>
                </a:lnTo>
                <a:lnTo>
                  <a:pt x="910" y="476"/>
                </a:lnTo>
                <a:lnTo>
                  <a:pt x="924" y="483"/>
                </a:lnTo>
                <a:lnTo>
                  <a:pt x="931" y="483"/>
                </a:lnTo>
                <a:lnTo>
                  <a:pt x="931" y="489"/>
                </a:lnTo>
                <a:lnTo>
                  <a:pt x="938" y="496"/>
                </a:lnTo>
                <a:lnTo>
                  <a:pt x="945" y="503"/>
                </a:lnTo>
                <a:lnTo>
                  <a:pt x="945" y="503"/>
                </a:lnTo>
                <a:lnTo>
                  <a:pt x="945" y="496"/>
                </a:lnTo>
                <a:lnTo>
                  <a:pt x="945" y="496"/>
                </a:lnTo>
                <a:lnTo>
                  <a:pt x="952" y="483"/>
                </a:lnTo>
                <a:lnTo>
                  <a:pt x="952" y="476"/>
                </a:lnTo>
                <a:close/>
                <a:moveTo>
                  <a:pt x="180" y="448"/>
                </a:moveTo>
                <a:lnTo>
                  <a:pt x="180" y="448"/>
                </a:lnTo>
                <a:lnTo>
                  <a:pt x="180" y="462"/>
                </a:lnTo>
                <a:lnTo>
                  <a:pt x="180" y="448"/>
                </a:lnTo>
                <a:close/>
                <a:moveTo>
                  <a:pt x="2276" y="448"/>
                </a:moveTo>
                <a:lnTo>
                  <a:pt x="2276" y="441"/>
                </a:lnTo>
                <a:lnTo>
                  <a:pt x="2269" y="441"/>
                </a:lnTo>
                <a:lnTo>
                  <a:pt x="2262" y="441"/>
                </a:lnTo>
                <a:lnTo>
                  <a:pt x="2262" y="448"/>
                </a:lnTo>
                <a:lnTo>
                  <a:pt x="2262" y="448"/>
                </a:lnTo>
                <a:lnTo>
                  <a:pt x="2262" y="455"/>
                </a:lnTo>
                <a:lnTo>
                  <a:pt x="2262" y="462"/>
                </a:lnTo>
                <a:lnTo>
                  <a:pt x="2269" y="462"/>
                </a:lnTo>
                <a:lnTo>
                  <a:pt x="2276" y="462"/>
                </a:lnTo>
                <a:lnTo>
                  <a:pt x="2276" y="462"/>
                </a:lnTo>
                <a:lnTo>
                  <a:pt x="2276" y="462"/>
                </a:lnTo>
                <a:lnTo>
                  <a:pt x="2276" y="455"/>
                </a:lnTo>
                <a:lnTo>
                  <a:pt x="2276" y="455"/>
                </a:lnTo>
                <a:lnTo>
                  <a:pt x="2276" y="448"/>
                </a:lnTo>
                <a:close/>
                <a:moveTo>
                  <a:pt x="207" y="414"/>
                </a:moveTo>
                <a:lnTo>
                  <a:pt x="207" y="414"/>
                </a:lnTo>
                <a:lnTo>
                  <a:pt x="207" y="421"/>
                </a:lnTo>
                <a:lnTo>
                  <a:pt x="207" y="414"/>
                </a:lnTo>
                <a:close/>
                <a:moveTo>
                  <a:pt x="249" y="386"/>
                </a:moveTo>
                <a:lnTo>
                  <a:pt x="235" y="386"/>
                </a:lnTo>
                <a:lnTo>
                  <a:pt x="235" y="393"/>
                </a:lnTo>
                <a:lnTo>
                  <a:pt x="249" y="386"/>
                </a:lnTo>
                <a:close/>
                <a:moveTo>
                  <a:pt x="290" y="359"/>
                </a:moveTo>
                <a:lnTo>
                  <a:pt x="262" y="359"/>
                </a:lnTo>
                <a:lnTo>
                  <a:pt x="262" y="372"/>
                </a:lnTo>
                <a:lnTo>
                  <a:pt x="290" y="359"/>
                </a:lnTo>
                <a:close/>
                <a:moveTo>
                  <a:pt x="345" y="324"/>
                </a:moveTo>
                <a:lnTo>
                  <a:pt x="324" y="324"/>
                </a:lnTo>
                <a:lnTo>
                  <a:pt x="297" y="352"/>
                </a:lnTo>
                <a:lnTo>
                  <a:pt x="304" y="352"/>
                </a:lnTo>
                <a:lnTo>
                  <a:pt x="311" y="352"/>
                </a:lnTo>
                <a:lnTo>
                  <a:pt x="324" y="345"/>
                </a:lnTo>
                <a:lnTo>
                  <a:pt x="324" y="345"/>
                </a:lnTo>
                <a:lnTo>
                  <a:pt x="331" y="338"/>
                </a:lnTo>
                <a:lnTo>
                  <a:pt x="338" y="338"/>
                </a:lnTo>
                <a:lnTo>
                  <a:pt x="345" y="331"/>
                </a:lnTo>
                <a:lnTo>
                  <a:pt x="345" y="324"/>
                </a:lnTo>
                <a:close/>
                <a:moveTo>
                  <a:pt x="380" y="297"/>
                </a:moveTo>
                <a:lnTo>
                  <a:pt x="352" y="297"/>
                </a:lnTo>
                <a:lnTo>
                  <a:pt x="352" y="324"/>
                </a:lnTo>
                <a:lnTo>
                  <a:pt x="380" y="297"/>
                </a:lnTo>
                <a:close/>
              </a:path>
            </a:pathLst>
          </a:custGeom>
          <a:solidFill>
            <a:srgbClr val="c0e2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3" name=""/>
          <p:cNvSpPr/>
          <p:nvPr/>
        </p:nvSpPr>
        <p:spPr>
          <a:xfrm>
            <a:off x="2276640" y="2727360"/>
            <a:ext cx="4543200" cy="2921040"/>
          </a:xfrm>
          <a:custGeom>
            <a:avLst/>
            <a:gdLst/>
            <a:ahLst/>
            <a:rect l="l" t="t" r="r" b="b"/>
            <a:pathLst>
              <a:path w="2862" h="1840">
                <a:moveTo>
                  <a:pt x="2483" y="1840"/>
                </a:moveTo>
                <a:lnTo>
                  <a:pt x="2510" y="1812"/>
                </a:lnTo>
                <a:lnTo>
                  <a:pt x="2538" y="1812"/>
                </a:lnTo>
                <a:lnTo>
                  <a:pt x="2565" y="1812"/>
                </a:lnTo>
                <a:lnTo>
                  <a:pt x="2600" y="1812"/>
                </a:lnTo>
                <a:lnTo>
                  <a:pt x="2627" y="1812"/>
                </a:lnTo>
                <a:lnTo>
                  <a:pt x="2655" y="1812"/>
                </a:lnTo>
                <a:lnTo>
                  <a:pt x="2689" y="1812"/>
                </a:lnTo>
                <a:lnTo>
                  <a:pt x="2717" y="1778"/>
                </a:lnTo>
                <a:lnTo>
                  <a:pt x="2717" y="1750"/>
                </a:lnTo>
                <a:lnTo>
                  <a:pt x="2717" y="1722"/>
                </a:lnTo>
                <a:lnTo>
                  <a:pt x="2717" y="1688"/>
                </a:lnTo>
                <a:lnTo>
                  <a:pt x="2745" y="1660"/>
                </a:lnTo>
                <a:lnTo>
                  <a:pt x="2745" y="1633"/>
                </a:lnTo>
                <a:lnTo>
                  <a:pt x="2745" y="1599"/>
                </a:lnTo>
                <a:lnTo>
                  <a:pt x="2745" y="1571"/>
                </a:lnTo>
                <a:lnTo>
                  <a:pt x="2772" y="1543"/>
                </a:lnTo>
                <a:lnTo>
                  <a:pt x="2772" y="1516"/>
                </a:lnTo>
                <a:lnTo>
                  <a:pt x="2772" y="1481"/>
                </a:lnTo>
                <a:lnTo>
                  <a:pt x="2772" y="1454"/>
                </a:lnTo>
                <a:lnTo>
                  <a:pt x="2807" y="1426"/>
                </a:lnTo>
                <a:lnTo>
                  <a:pt x="2807" y="1392"/>
                </a:lnTo>
                <a:lnTo>
                  <a:pt x="2807" y="1364"/>
                </a:lnTo>
                <a:lnTo>
                  <a:pt x="2807" y="1337"/>
                </a:lnTo>
                <a:lnTo>
                  <a:pt x="2834" y="1302"/>
                </a:lnTo>
                <a:lnTo>
                  <a:pt x="2834" y="1275"/>
                </a:lnTo>
                <a:lnTo>
                  <a:pt x="2834" y="1247"/>
                </a:lnTo>
                <a:lnTo>
                  <a:pt x="2834" y="1213"/>
                </a:lnTo>
                <a:lnTo>
                  <a:pt x="2862" y="1185"/>
                </a:lnTo>
                <a:lnTo>
                  <a:pt x="2862" y="1158"/>
                </a:lnTo>
                <a:lnTo>
                  <a:pt x="2862" y="1130"/>
                </a:lnTo>
                <a:lnTo>
                  <a:pt x="2862" y="1096"/>
                </a:lnTo>
                <a:lnTo>
                  <a:pt x="2862" y="1068"/>
                </a:lnTo>
                <a:lnTo>
                  <a:pt x="2862" y="1041"/>
                </a:lnTo>
                <a:lnTo>
                  <a:pt x="2862" y="1006"/>
                </a:lnTo>
                <a:lnTo>
                  <a:pt x="2862" y="979"/>
                </a:lnTo>
                <a:lnTo>
                  <a:pt x="2862" y="951"/>
                </a:lnTo>
                <a:lnTo>
                  <a:pt x="2862" y="917"/>
                </a:lnTo>
                <a:lnTo>
                  <a:pt x="2862" y="889"/>
                </a:lnTo>
                <a:lnTo>
                  <a:pt x="2862" y="861"/>
                </a:lnTo>
                <a:lnTo>
                  <a:pt x="2862" y="827"/>
                </a:lnTo>
                <a:lnTo>
                  <a:pt x="2862" y="799"/>
                </a:lnTo>
                <a:lnTo>
                  <a:pt x="2862" y="772"/>
                </a:lnTo>
                <a:lnTo>
                  <a:pt x="2862" y="744"/>
                </a:lnTo>
                <a:lnTo>
                  <a:pt x="2862" y="710"/>
                </a:lnTo>
                <a:lnTo>
                  <a:pt x="2862" y="682"/>
                </a:lnTo>
                <a:lnTo>
                  <a:pt x="2862" y="655"/>
                </a:lnTo>
                <a:lnTo>
                  <a:pt x="2862" y="620"/>
                </a:lnTo>
                <a:lnTo>
                  <a:pt x="2862" y="593"/>
                </a:lnTo>
                <a:lnTo>
                  <a:pt x="2862" y="565"/>
                </a:lnTo>
                <a:lnTo>
                  <a:pt x="2862" y="531"/>
                </a:lnTo>
                <a:lnTo>
                  <a:pt x="2862" y="503"/>
                </a:lnTo>
                <a:lnTo>
                  <a:pt x="2862" y="476"/>
                </a:lnTo>
                <a:lnTo>
                  <a:pt x="2862" y="448"/>
                </a:lnTo>
                <a:lnTo>
                  <a:pt x="2862" y="414"/>
                </a:lnTo>
                <a:lnTo>
                  <a:pt x="2862" y="386"/>
                </a:lnTo>
                <a:lnTo>
                  <a:pt x="2862" y="359"/>
                </a:lnTo>
                <a:lnTo>
                  <a:pt x="2862" y="324"/>
                </a:lnTo>
                <a:lnTo>
                  <a:pt x="2862" y="297"/>
                </a:lnTo>
                <a:lnTo>
                  <a:pt x="2862" y="269"/>
                </a:lnTo>
                <a:lnTo>
                  <a:pt x="2834" y="235"/>
                </a:lnTo>
                <a:lnTo>
                  <a:pt x="2834" y="207"/>
                </a:lnTo>
                <a:lnTo>
                  <a:pt x="2834" y="179"/>
                </a:lnTo>
                <a:lnTo>
                  <a:pt x="2834" y="145"/>
                </a:lnTo>
                <a:lnTo>
                  <a:pt x="2834" y="117"/>
                </a:lnTo>
                <a:lnTo>
                  <a:pt x="2807" y="90"/>
                </a:lnTo>
                <a:lnTo>
                  <a:pt x="2772" y="90"/>
                </a:lnTo>
                <a:lnTo>
                  <a:pt x="2745" y="90"/>
                </a:lnTo>
                <a:lnTo>
                  <a:pt x="2717" y="62"/>
                </a:lnTo>
                <a:lnTo>
                  <a:pt x="2689" y="62"/>
                </a:lnTo>
                <a:lnTo>
                  <a:pt x="2655" y="62"/>
                </a:lnTo>
                <a:lnTo>
                  <a:pt x="2627" y="28"/>
                </a:lnTo>
                <a:lnTo>
                  <a:pt x="2600" y="28"/>
                </a:lnTo>
                <a:lnTo>
                  <a:pt x="2565" y="28"/>
                </a:lnTo>
                <a:lnTo>
                  <a:pt x="2538" y="0"/>
                </a:lnTo>
                <a:lnTo>
                  <a:pt x="2510" y="0"/>
                </a:lnTo>
                <a:lnTo>
                  <a:pt x="2483" y="0"/>
                </a:lnTo>
                <a:lnTo>
                  <a:pt x="2448" y="0"/>
                </a:lnTo>
                <a:lnTo>
                  <a:pt x="2420" y="0"/>
                </a:lnTo>
                <a:lnTo>
                  <a:pt x="2393" y="0"/>
                </a:lnTo>
                <a:lnTo>
                  <a:pt x="2365" y="0"/>
                </a:lnTo>
                <a:lnTo>
                  <a:pt x="2331" y="0"/>
                </a:lnTo>
                <a:lnTo>
                  <a:pt x="2303" y="0"/>
                </a:lnTo>
                <a:lnTo>
                  <a:pt x="2276" y="0"/>
                </a:lnTo>
                <a:lnTo>
                  <a:pt x="2241" y="0"/>
                </a:lnTo>
                <a:lnTo>
                  <a:pt x="2214" y="0"/>
                </a:lnTo>
                <a:lnTo>
                  <a:pt x="2186" y="0"/>
                </a:lnTo>
                <a:lnTo>
                  <a:pt x="2200" y="0"/>
                </a:lnTo>
                <a:lnTo>
                  <a:pt x="2207" y="7"/>
                </a:lnTo>
                <a:lnTo>
                  <a:pt x="2214" y="7"/>
                </a:lnTo>
                <a:lnTo>
                  <a:pt x="2221" y="7"/>
                </a:lnTo>
                <a:lnTo>
                  <a:pt x="2234" y="7"/>
                </a:lnTo>
                <a:lnTo>
                  <a:pt x="2241" y="14"/>
                </a:lnTo>
                <a:lnTo>
                  <a:pt x="2248" y="14"/>
                </a:lnTo>
                <a:lnTo>
                  <a:pt x="2262" y="14"/>
                </a:lnTo>
                <a:lnTo>
                  <a:pt x="2269" y="14"/>
                </a:lnTo>
                <a:lnTo>
                  <a:pt x="2276" y="14"/>
                </a:lnTo>
                <a:lnTo>
                  <a:pt x="2289" y="21"/>
                </a:lnTo>
                <a:lnTo>
                  <a:pt x="2296" y="21"/>
                </a:lnTo>
                <a:lnTo>
                  <a:pt x="2303" y="21"/>
                </a:lnTo>
                <a:lnTo>
                  <a:pt x="2317" y="21"/>
                </a:lnTo>
                <a:lnTo>
                  <a:pt x="2324" y="21"/>
                </a:lnTo>
                <a:lnTo>
                  <a:pt x="2331" y="21"/>
                </a:lnTo>
                <a:lnTo>
                  <a:pt x="2338" y="28"/>
                </a:lnTo>
                <a:lnTo>
                  <a:pt x="2352" y="28"/>
                </a:lnTo>
                <a:lnTo>
                  <a:pt x="2358" y="28"/>
                </a:lnTo>
                <a:lnTo>
                  <a:pt x="2365" y="28"/>
                </a:lnTo>
                <a:lnTo>
                  <a:pt x="2372" y="35"/>
                </a:lnTo>
                <a:lnTo>
                  <a:pt x="2372" y="42"/>
                </a:lnTo>
                <a:lnTo>
                  <a:pt x="2379" y="49"/>
                </a:lnTo>
                <a:lnTo>
                  <a:pt x="2379" y="55"/>
                </a:lnTo>
                <a:lnTo>
                  <a:pt x="2379" y="62"/>
                </a:lnTo>
                <a:lnTo>
                  <a:pt x="2393" y="62"/>
                </a:lnTo>
                <a:lnTo>
                  <a:pt x="2400" y="62"/>
                </a:lnTo>
                <a:lnTo>
                  <a:pt x="2407" y="62"/>
                </a:lnTo>
                <a:lnTo>
                  <a:pt x="2420" y="69"/>
                </a:lnTo>
                <a:lnTo>
                  <a:pt x="2427" y="69"/>
                </a:lnTo>
                <a:lnTo>
                  <a:pt x="2434" y="69"/>
                </a:lnTo>
                <a:lnTo>
                  <a:pt x="2448" y="69"/>
                </a:lnTo>
                <a:lnTo>
                  <a:pt x="2455" y="69"/>
                </a:lnTo>
                <a:lnTo>
                  <a:pt x="2455" y="76"/>
                </a:lnTo>
                <a:lnTo>
                  <a:pt x="2462" y="83"/>
                </a:lnTo>
                <a:lnTo>
                  <a:pt x="2462" y="90"/>
                </a:lnTo>
                <a:lnTo>
                  <a:pt x="2469" y="97"/>
                </a:lnTo>
                <a:lnTo>
                  <a:pt x="2476" y="97"/>
                </a:lnTo>
                <a:lnTo>
                  <a:pt x="2483" y="97"/>
                </a:lnTo>
                <a:lnTo>
                  <a:pt x="2496" y="97"/>
                </a:lnTo>
                <a:lnTo>
                  <a:pt x="2503" y="90"/>
                </a:lnTo>
                <a:lnTo>
                  <a:pt x="2503" y="90"/>
                </a:lnTo>
                <a:lnTo>
                  <a:pt x="2503" y="83"/>
                </a:lnTo>
                <a:lnTo>
                  <a:pt x="2503" y="76"/>
                </a:lnTo>
                <a:lnTo>
                  <a:pt x="2503" y="69"/>
                </a:lnTo>
                <a:lnTo>
                  <a:pt x="2503" y="62"/>
                </a:lnTo>
                <a:lnTo>
                  <a:pt x="2510" y="55"/>
                </a:lnTo>
                <a:lnTo>
                  <a:pt x="2517" y="62"/>
                </a:lnTo>
                <a:lnTo>
                  <a:pt x="2517" y="69"/>
                </a:lnTo>
                <a:lnTo>
                  <a:pt x="2524" y="76"/>
                </a:lnTo>
                <a:lnTo>
                  <a:pt x="2524" y="83"/>
                </a:lnTo>
                <a:lnTo>
                  <a:pt x="2531" y="83"/>
                </a:lnTo>
                <a:lnTo>
                  <a:pt x="2538" y="90"/>
                </a:lnTo>
                <a:lnTo>
                  <a:pt x="2545" y="90"/>
                </a:lnTo>
                <a:lnTo>
                  <a:pt x="2551" y="97"/>
                </a:lnTo>
                <a:lnTo>
                  <a:pt x="2551" y="104"/>
                </a:lnTo>
                <a:lnTo>
                  <a:pt x="2551" y="111"/>
                </a:lnTo>
                <a:lnTo>
                  <a:pt x="2551" y="117"/>
                </a:lnTo>
                <a:lnTo>
                  <a:pt x="2551" y="124"/>
                </a:lnTo>
                <a:lnTo>
                  <a:pt x="2551" y="131"/>
                </a:lnTo>
                <a:lnTo>
                  <a:pt x="2551" y="131"/>
                </a:lnTo>
                <a:lnTo>
                  <a:pt x="2558" y="138"/>
                </a:lnTo>
                <a:lnTo>
                  <a:pt x="2558" y="145"/>
                </a:lnTo>
                <a:lnTo>
                  <a:pt x="2558" y="152"/>
                </a:lnTo>
                <a:lnTo>
                  <a:pt x="2558" y="159"/>
                </a:lnTo>
                <a:lnTo>
                  <a:pt x="2558" y="166"/>
                </a:lnTo>
                <a:lnTo>
                  <a:pt x="2558" y="173"/>
                </a:lnTo>
                <a:lnTo>
                  <a:pt x="2565" y="179"/>
                </a:lnTo>
                <a:lnTo>
                  <a:pt x="2572" y="179"/>
                </a:lnTo>
                <a:lnTo>
                  <a:pt x="2579" y="186"/>
                </a:lnTo>
                <a:lnTo>
                  <a:pt x="2586" y="186"/>
                </a:lnTo>
                <a:lnTo>
                  <a:pt x="2593" y="193"/>
                </a:lnTo>
                <a:lnTo>
                  <a:pt x="2593" y="200"/>
                </a:lnTo>
                <a:lnTo>
                  <a:pt x="2600" y="207"/>
                </a:lnTo>
                <a:lnTo>
                  <a:pt x="2600" y="207"/>
                </a:lnTo>
                <a:lnTo>
                  <a:pt x="2614" y="214"/>
                </a:lnTo>
                <a:lnTo>
                  <a:pt x="2620" y="214"/>
                </a:lnTo>
                <a:lnTo>
                  <a:pt x="2627" y="214"/>
                </a:lnTo>
                <a:lnTo>
                  <a:pt x="2634" y="221"/>
                </a:lnTo>
                <a:lnTo>
                  <a:pt x="2641" y="228"/>
                </a:lnTo>
                <a:lnTo>
                  <a:pt x="2641" y="235"/>
                </a:lnTo>
                <a:lnTo>
                  <a:pt x="2648" y="235"/>
                </a:lnTo>
                <a:lnTo>
                  <a:pt x="2655" y="241"/>
                </a:lnTo>
                <a:lnTo>
                  <a:pt x="2662" y="248"/>
                </a:lnTo>
                <a:lnTo>
                  <a:pt x="2669" y="248"/>
                </a:lnTo>
                <a:lnTo>
                  <a:pt x="2676" y="248"/>
                </a:lnTo>
                <a:lnTo>
                  <a:pt x="2689" y="255"/>
                </a:lnTo>
                <a:lnTo>
                  <a:pt x="2689" y="255"/>
                </a:lnTo>
                <a:lnTo>
                  <a:pt x="2696" y="262"/>
                </a:lnTo>
                <a:lnTo>
                  <a:pt x="2703" y="269"/>
                </a:lnTo>
                <a:lnTo>
                  <a:pt x="2703" y="276"/>
                </a:lnTo>
                <a:lnTo>
                  <a:pt x="2710" y="276"/>
                </a:lnTo>
                <a:lnTo>
                  <a:pt x="2724" y="283"/>
                </a:lnTo>
                <a:lnTo>
                  <a:pt x="2731" y="283"/>
                </a:lnTo>
                <a:lnTo>
                  <a:pt x="2738" y="290"/>
                </a:lnTo>
                <a:lnTo>
                  <a:pt x="2745" y="290"/>
                </a:lnTo>
                <a:lnTo>
                  <a:pt x="2745" y="297"/>
                </a:lnTo>
                <a:lnTo>
                  <a:pt x="2738" y="303"/>
                </a:lnTo>
                <a:lnTo>
                  <a:pt x="2738" y="310"/>
                </a:lnTo>
                <a:lnTo>
                  <a:pt x="2731" y="310"/>
                </a:lnTo>
                <a:lnTo>
                  <a:pt x="2731" y="317"/>
                </a:lnTo>
                <a:lnTo>
                  <a:pt x="2724" y="324"/>
                </a:lnTo>
                <a:lnTo>
                  <a:pt x="2724" y="331"/>
                </a:lnTo>
                <a:lnTo>
                  <a:pt x="2717" y="338"/>
                </a:lnTo>
                <a:lnTo>
                  <a:pt x="2710" y="338"/>
                </a:lnTo>
                <a:lnTo>
                  <a:pt x="2696" y="331"/>
                </a:lnTo>
                <a:lnTo>
                  <a:pt x="2689" y="331"/>
                </a:lnTo>
                <a:lnTo>
                  <a:pt x="2676" y="331"/>
                </a:lnTo>
                <a:lnTo>
                  <a:pt x="2669" y="324"/>
                </a:lnTo>
                <a:lnTo>
                  <a:pt x="2662" y="324"/>
                </a:lnTo>
                <a:lnTo>
                  <a:pt x="2655" y="331"/>
                </a:lnTo>
                <a:lnTo>
                  <a:pt x="2641" y="331"/>
                </a:lnTo>
                <a:lnTo>
                  <a:pt x="2634" y="331"/>
                </a:lnTo>
                <a:lnTo>
                  <a:pt x="2627" y="331"/>
                </a:lnTo>
                <a:lnTo>
                  <a:pt x="2614" y="331"/>
                </a:lnTo>
                <a:lnTo>
                  <a:pt x="2607" y="331"/>
                </a:lnTo>
                <a:lnTo>
                  <a:pt x="2600" y="331"/>
                </a:lnTo>
                <a:lnTo>
                  <a:pt x="2593" y="324"/>
                </a:lnTo>
                <a:lnTo>
                  <a:pt x="2586" y="317"/>
                </a:lnTo>
                <a:lnTo>
                  <a:pt x="2579" y="317"/>
                </a:lnTo>
                <a:lnTo>
                  <a:pt x="2565" y="317"/>
                </a:lnTo>
                <a:lnTo>
                  <a:pt x="2558" y="317"/>
                </a:lnTo>
                <a:lnTo>
                  <a:pt x="2551" y="317"/>
                </a:lnTo>
                <a:lnTo>
                  <a:pt x="2538" y="317"/>
                </a:lnTo>
                <a:lnTo>
                  <a:pt x="2531" y="317"/>
                </a:lnTo>
                <a:lnTo>
                  <a:pt x="2517" y="317"/>
                </a:lnTo>
                <a:lnTo>
                  <a:pt x="2510" y="317"/>
                </a:lnTo>
                <a:lnTo>
                  <a:pt x="2503" y="317"/>
                </a:lnTo>
                <a:lnTo>
                  <a:pt x="2496" y="310"/>
                </a:lnTo>
                <a:lnTo>
                  <a:pt x="2496" y="303"/>
                </a:lnTo>
                <a:lnTo>
                  <a:pt x="2489" y="297"/>
                </a:lnTo>
                <a:lnTo>
                  <a:pt x="2483" y="297"/>
                </a:lnTo>
                <a:lnTo>
                  <a:pt x="2476" y="290"/>
                </a:lnTo>
                <a:lnTo>
                  <a:pt x="2462" y="290"/>
                </a:lnTo>
                <a:lnTo>
                  <a:pt x="2455" y="297"/>
                </a:lnTo>
                <a:lnTo>
                  <a:pt x="2448" y="297"/>
                </a:lnTo>
                <a:lnTo>
                  <a:pt x="2455" y="303"/>
                </a:lnTo>
                <a:lnTo>
                  <a:pt x="2462" y="310"/>
                </a:lnTo>
                <a:lnTo>
                  <a:pt x="2469" y="310"/>
                </a:lnTo>
                <a:lnTo>
                  <a:pt x="2469" y="317"/>
                </a:lnTo>
                <a:lnTo>
                  <a:pt x="2476" y="324"/>
                </a:lnTo>
                <a:lnTo>
                  <a:pt x="2476" y="331"/>
                </a:lnTo>
                <a:lnTo>
                  <a:pt x="2483" y="331"/>
                </a:lnTo>
                <a:lnTo>
                  <a:pt x="2489" y="338"/>
                </a:lnTo>
                <a:lnTo>
                  <a:pt x="2496" y="338"/>
                </a:lnTo>
                <a:lnTo>
                  <a:pt x="2503" y="345"/>
                </a:lnTo>
                <a:lnTo>
                  <a:pt x="2510" y="345"/>
                </a:lnTo>
                <a:lnTo>
                  <a:pt x="2517" y="352"/>
                </a:lnTo>
                <a:lnTo>
                  <a:pt x="2524" y="359"/>
                </a:lnTo>
                <a:lnTo>
                  <a:pt x="2524" y="359"/>
                </a:lnTo>
                <a:lnTo>
                  <a:pt x="2531" y="365"/>
                </a:lnTo>
                <a:lnTo>
                  <a:pt x="2538" y="372"/>
                </a:lnTo>
                <a:lnTo>
                  <a:pt x="2545" y="379"/>
                </a:lnTo>
                <a:lnTo>
                  <a:pt x="2545" y="379"/>
                </a:lnTo>
                <a:lnTo>
                  <a:pt x="2551" y="386"/>
                </a:lnTo>
                <a:lnTo>
                  <a:pt x="2551" y="393"/>
                </a:lnTo>
                <a:lnTo>
                  <a:pt x="2558" y="400"/>
                </a:lnTo>
                <a:lnTo>
                  <a:pt x="2558" y="407"/>
                </a:lnTo>
                <a:lnTo>
                  <a:pt x="2565" y="407"/>
                </a:lnTo>
                <a:lnTo>
                  <a:pt x="2572" y="414"/>
                </a:lnTo>
                <a:lnTo>
                  <a:pt x="2579" y="421"/>
                </a:lnTo>
                <a:lnTo>
                  <a:pt x="2572" y="427"/>
                </a:lnTo>
                <a:lnTo>
                  <a:pt x="2565" y="427"/>
                </a:lnTo>
                <a:lnTo>
                  <a:pt x="2558" y="434"/>
                </a:lnTo>
                <a:lnTo>
                  <a:pt x="2551" y="434"/>
                </a:lnTo>
                <a:lnTo>
                  <a:pt x="2538" y="434"/>
                </a:lnTo>
                <a:lnTo>
                  <a:pt x="2531" y="441"/>
                </a:lnTo>
                <a:lnTo>
                  <a:pt x="2531" y="448"/>
                </a:lnTo>
                <a:lnTo>
                  <a:pt x="2524" y="448"/>
                </a:lnTo>
                <a:lnTo>
                  <a:pt x="2524" y="455"/>
                </a:lnTo>
                <a:lnTo>
                  <a:pt x="2517" y="462"/>
                </a:lnTo>
                <a:lnTo>
                  <a:pt x="2517" y="469"/>
                </a:lnTo>
                <a:lnTo>
                  <a:pt x="2517" y="476"/>
                </a:lnTo>
                <a:lnTo>
                  <a:pt x="2517" y="483"/>
                </a:lnTo>
                <a:lnTo>
                  <a:pt x="2517" y="489"/>
                </a:lnTo>
                <a:lnTo>
                  <a:pt x="2510" y="489"/>
                </a:lnTo>
                <a:lnTo>
                  <a:pt x="2510" y="496"/>
                </a:lnTo>
                <a:lnTo>
                  <a:pt x="2503" y="503"/>
                </a:lnTo>
                <a:lnTo>
                  <a:pt x="2496" y="510"/>
                </a:lnTo>
                <a:lnTo>
                  <a:pt x="2496" y="510"/>
                </a:lnTo>
                <a:lnTo>
                  <a:pt x="2483" y="517"/>
                </a:lnTo>
                <a:lnTo>
                  <a:pt x="2476" y="524"/>
                </a:lnTo>
                <a:lnTo>
                  <a:pt x="2469" y="524"/>
                </a:lnTo>
                <a:lnTo>
                  <a:pt x="2462" y="531"/>
                </a:lnTo>
                <a:lnTo>
                  <a:pt x="2455" y="531"/>
                </a:lnTo>
                <a:lnTo>
                  <a:pt x="2448" y="538"/>
                </a:lnTo>
                <a:lnTo>
                  <a:pt x="2441" y="538"/>
                </a:lnTo>
                <a:lnTo>
                  <a:pt x="2434" y="538"/>
                </a:lnTo>
                <a:lnTo>
                  <a:pt x="2420" y="538"/>
                </a:lnTo>
                <a:lnTo>
                  <a:pt x="2414" y="538"/>
                </a:lnTo>
                <a:lnTo>
                  <a:pt x="2407" y="531"/>
                </a:lnTo>
                <a:lnTo>
                  <a:pt x="2400" y="531"/>
                </a:lnTo>
                <a:lnTo>
                  <a:pt x="2393" y="524"/>
                </a:lnTo>
                <a:lnTo>
                  <a:pt x="2386" y="524"/>
                </a:lnTo>
                <a:lnTo>
                  <a:pt x="2372" y="524"/>
                </a:lnTo>
                <a:lnTo>
                  <a:pt x="2365" y="517"/>
                </a:lnTo>
                <a:lnTo>
                  <a:pt x="2358" y="517"/>
                </a:lnTo>
                <a:lnTo>
                  <a:pt x="2352" y="510"/>
                </a:lnTo>
                <a:lnTo>
                  <a:pt x="2345" y="510"/>
                </a:lnTo>
                <a:lnTo>
                  <a:pt x="2338" y="503"/>
                </a:lnTo>
                <a:lnTo>
                  <a:pt x="2331" y="503"/>
                </a:lnTo>
                <a:lnTo>
                  <a:pt x="2317" y="496"/>
                </a:lnTo>
                <a:lnTo>
                  <a:pt x="2310" y="496"/>
                </a:lnTo>
                <a:lnTo>
                  <a:pt x="2303" y="489"/>
                </a:lnTo>
                <a:lnTo>
                  <a:pt x="2296" y="489"/>
                </a:lnTo>
                <a:lnTo>
                  <a:pt x="2289" y="489"/>
                </a:lnTo>
                <a:lnTo>
                  <a:pt x="2283" y="483"/>
                </a:lnTo>
                <a:lnTo>
                  <a:pt x="2276" y="483"/>
                </a:lnTo>
                <a:lnTo>
                  <a:pt x="2269" y="476"/>
                </a:lnTo>
                <a:lnTo>
                  <a:pt x="2262" y="469"/>
                </a:lnTo>
                <a:lnTo>
                  <a:pt x="2255" y="462"/>
                </a:lnTo>
                <a:lnTo>
                  <a:pt x="2255" y="455"/>
                </a:lnTo>
                <a:lnTo>
                  <a:pt x="2248" y="455"/>
                </a:lnTo>
                <a:lnTo>
                  <a:pt x="2234" y="455"/>
                </a:lnTo>
                <a:lnTo>
                  <a:pt x="2227" y="455"/>
                </a:lnTo>
                <a:lnTo>
                  <a:pt x="2221" y="462"/>
                </a:lnTo>
                <a:lnTo>
                  <a:pt x="2207" y="462"/>
                </a:lnTo>
                <a:lnTo>
                  <a:pt x="2200" y="462"/>
                </a:lnTo>
                <a:lnTo>
                  <a:pt x="2193" y="469"/>
                </a:lnTo>
                <a:lnTo>
                  <a:pt x="2186" y="469"/>
                </a:lnTo>
                <a:lnTo>
                  <a:pt x="2172" y="469"/>
                </a:lnTo>
                <a:lnTo>
                  <a:pt x="2165" y="469"/>
                </a:lnTo>
                <a:lnTo>
                  <a:pt x="2158" y="469"/>
                </a:lnTo>
                <a:lnTo>
                  <a:pt x="2145" y="469"/>
                </a:lnTo>
                <a:lnTo>
                  <a:pt x="2138" y="469"/>
                </a:lnTo>
                <a:lnTo>
                  <a:pt x="2131" y="476"/>
                </a:lnTo>
                <a:lnTo>
                  <a:pt x="2124" y="476"/>
                </a:lnTo>
                <a:lnTo>
                  <a:pt x="2117" y="483"/>
                </a:lnTo>
                <a:lnTo>
                  <a:pt x="2110" y="483"/>
                </a:lnTo>
                <a:lnTo>
                  <a:pt x="2103" y="489"/>
                </a:lnTo>
                <a:lnTo>
                  <a:pt x="2096" y="496"/>
                </a:lnTo>
                <a:lnTo>
                  <a:pt x="2090" y="496"/>
                </a:lnTo>
                <a:lnTo>
                  <a:pt x="2083" y="503"/>
                </a:lnTo>
                <a:lnTo>
                  <a:pt x="2076" y="510"/>
                </a:lnTo>
                <a:lnTo>
                  <a:pt x="2076" y="517"/>
                </a:lnTo>
                <a:lnTo>
                  <a:pt x="2069" y="524"/>
                </a:lnTo>
                <a:lnTo>
                  <a:pt x="2069" y="524"/>
                </a:lnTo>
                <a:lnTo>
                  <a:pt x="2062" y="524"/>
                </a:lnTo>
                <a:lnTo>
                  <a:pt x="2055" y="517"/>
                </a:lnTo>
                <a:lnTo>
                  <a:pt x="2055" y="510"/>
                </a:lnTo>
                <a:lnTo>
                  <a:pt x="2055" y="503"/>
                </a:lnTo>
                <a:lnTo>
                  <a:pt x="2055" y="496"/>
                </a:lnTo>
                <a:lnTo>
                  <a:pt x="2062" y="489"/>
                </a:lnTo>
                <a:lnTo>
                  <a:pt x="2062" y="483"/>
                </a:lnTo>
                <a:lnTo>
                  <a:pt x="2069" y="476"/>
                </a:lnTo>
                <a:lnTo>
                  <a:pt x="2069" y="476"/>
                </a:lnTo>
                <a:lnTo>
                  <a:pt x="2062" y="469"/>
                </a:lnTo>
                <a:lnTo>
                  <a:pt x="2048" y="469"/>
                </a:lnTo>
                <a:lnTo>
                  <a:pt x="2041" y="469"/>
                </a:lnTo>
                <a:lnTo>
                  <a:pt x="2034" y="476"/>
                </a:lnTo>
                <a:lnTo>
                  <a:pt x="2027" y="483"/>
                </a:lnTo>
                <a:lnTo>
                  <a:pt x="2027" y="489"/>
                </a:lnTo>
                <a:lnTo>
                  <a:pt x="2027" y="489"/>
                </a:lnTo>
                <a:lnTo>
                  <a:pt x="2027" y="496"/>
                </a:lnTo>
                <a:lnTo>
                  <a:pt x="2027" y="503"/>
                </a:lnTo>
                <a:lnTo>
                  <a:pt x="2021" y="510"/>
                </a:lnTo>
                <a:lnTo>
                  <a:pt x="2021" y="517"/>
                </a:lnTo>
                <a:lnTo>
                  <a:pt x="2021" y="524"/>
                </a:lnTo>
                <a:lnTo>
                  <a:pt x="2021" y="531"/>
                </a:lnTo>
                <a:lnTo>
                  <a:pt x="2021" y="538"/>
                </a:lnTo>
                <a:lnTo>
                  <a:pt x="2014" y="538"/>
                </a:lnTo>
                <a:lnTo>
                  <a:pt x="2014" y="545"/>
                </a:lnTo>
                <a:lnTo>
                  <a:pt x="2014" y="551"/>
                </a:lnTo>
                <a:lnTo>
                  <a:pt x="2014" y="558"/>
                </a:lnTo>
                <a:lnTo>
                  <a:pt x="2007" y="565"/>
                </a:lnTo>
                <a:lnTo>
                  <a:pt x="2007" y="572"/>
                </a:lnTo>
                <a:lnTo>
                  <a:pt x="2007" y="579"/>
                </a:lnTo>
                <a:lnTo>
                  <a:pt x="2000" y="579"/>
                </a:lnTo>
                <a:lnTo>
                  <a:pt x="2000" y="586"/>
                </a:lnTo>
                <a:lnTo>
                  <a:pt x="2000" y="593"/>
                </a:lnTo>
                <a:lnTo>
                  <a:pt x="2000" y="600"/>
                </a:lnTo>
                <a:lnTo>
                  <a:pt x="1993" y="607"/>
                </a:lnTo>
                <a:lnTo>
                  <a:pt x="1993" y="613"/>
                </a:lnTo>
                <a:lnTo>
                  <a:pt x="1993" y="620"/>
                </a:lnTo>
                <a:lnTo>
                  <a:pt x="1986" y="620"/>
                </a:lnTo>
                <a:lnTo>
                  <a:pt x="1986" y="627"/>
                </a:lnTo>
                <a:lnTo>
                  <a:pt x="1986" y="634"/>
                </a:lnTo>
                <a:lnTo>
                  <a:pt x="1979" y="641"/>
                </a:lnTo>
                <a:lnTo>
                  <a:pt x="1979" y="648"/>
                </a:lnTo>
                <a:lnTo>
                  <a:pt x="1979" y="655"/>
                </a:lnTo>
                <a:lnTo>
                  <a:pt x="1979" y="662"/>
                </a:lnTo>
                <a:lnTo>
                  <a:pt x="1972" y="662"/>
                </a:lnTo>
                <a:lnTo>
                  <a:pt x="1965" y="669"/>
                </a:lnTo>
                <a:lnTo>
                  <a:pt x="1959" y="675"/>
                </a:lnTo>
                <a:lnTo>
                  <a:pt x="1959" y="682"/>
                </a:lnTo>
                <a:lnTo>
                  <a:pt x="1959" y="689"/>
                </a:lnTo>
                <a:lnTo>
                  <a:pt x="1959" y="689"/>
                </a:lnTo>
                <a:lnTo>
                  <a:pt x="1965" y="696"/>
                </a:lnTo>
                <a:lnTo>
                  <a:pt x="1965" y="703"/>
                </a:lnTo>
                <a:lnTo>
                  <a:pt x="1965" y="710"/>
                </a:lnTo>
                <a:lnTo>
                  <a:pt x="1959" y="717"/>
                </a:lnTo>
                <a:lnTo>
                  <a:pt x="1959" y="724"/>
                </a:lnTo>
                <a:lnTo>
                  <a:pt x="1945" y="724"/>
                </a:lnTo>
                <a:lnTo>
                  <a:pt x="1938" y="731"/>
                </a:lnTo>
                <a:lnTo>
                  <a:pt x="1931" y="731"/>
                </a:lnTo>
                <a:lnTo>
                  <a:pt x="1924" y="731"/>
                </a:lnTo>
                <a:lnTo>
                  <a:pt x="1910" y="731"/>
                </a:lnTo>
                <a:lnTo>
                  <a:pt x="1903" y="731"/>
                </a:lnTo>
                <a:lnTo>
                  <a:pt x="1896" y="731"/>
                </a:lnTo>
                <a:lnTo>
                  <a:pt x="1883" y="731"/>
                </a:lnTo>
                <a:lnTo>
                  <a:pt x="1876" y="724"/>
                </a:lnTo>
                <a:lnTo>
                  <a:pt x="1869" y="724"/>
                </a:lnTo>
                <a:lnTo>
                  <a:pt x="1855" y="724"/>
                </a:lnTo>
                <a:lnTo>
                  <a:pt x="1848" y="724"/>
                </a:lnTo>
                <a:lnTo>
                  <a:pt x="1841" y="731"/>
                </a:lnTo>
                <a:lnTo>
                  <a:pt x="1828" y="731"/>
                </a:lnTo>
                <a:lnTo>
                  <a:pt x="1821" y="731"/>
                </a:lnTo>
                <a:lnTo>
                  <a:pt x="1807" y="731"/>
                </a:lnTo>
                <a:lnTo>
                  <a:pt x="1800" y="737"/>
                </a:lnTo>
                <a:lnTo>
                  <a:pt x="1800" y="737"/>
                </a:lnTo>
                <a:lnTo>
                  <a:pt x="1793" y="744"/>
                </a:lnTo>
                <a:lnTo>
                  <a:pt x="1793" y="751"/>
                </a:lnTo>
                <a:lnTo>
                  <a:pt x="1786" y="758"/>
                </a:lnTo>
                <a:lnTo>
                  <a:pt x="1779" y="765"/>
                </a:lnTo>
                <a:lnTo>
                  <a:pt x="1779" y="765"/>
                </a:lnTo>
                <a:lnTo>
                  <a:pt x="1772" y="772"/>
                </a:lnTo>
                <a:lnTo>
                  <a:pt x="1772" y="779"/>
                </a:lnTo>
                <a:lnTo>
                  <a:pt x="1765" y="786"/>
                </a:lnTo>
                <a:lnTo>
                  <a:pt x="1765" y="786"/>
                </a:lnTo>
                <a:lnTo>
                  <a:pt x="1759" y="793"/>
                </a:lnTo>
                <a:lnTo>
                  <a:pt x="1752" y="799"/>
                </a:lnTo>
                <a:lnTo>
                  <a:pt x="1752" y="806"/>
                </a:lnTo>
                <a:lnTo>
                  <a:pt x="1745" y="813"/>
                </a:lnTo>
                <a:lnTo>
                  <a:pt x="1745" y="813"/>
                </a:lnTo>
                <a:lnTo>
                  <a:pt x="1738" y="820"/>
                </a:lnTo>
                <a:lnTo>
                  <a:pt x="1738" y="827"/>
                </a:lnTo>
                <a:lnTo>
                  <a:pt x="1731" y="834"/>
                </a:lnTo>
                <a:lnTo>
                  <a:pt x="1731" y="841"/>
                </a:lnTo>
                <a:lnTo>
                  <a:pt x="1724" y="841"/>
                </a:lnTo>
                <a:lnTo>
                  <a:pt x="1717" y="848"/>
                </a:lnTo>
                <a:lnTo>
                  <a:pt x="1717" y="855"/>
                </a:lnTo>
                <a:lnTo>
                  <a:pt x="1710" y="861"/>
                </a:lnTo>
                <a:lnTo>
                  <a:pt x="1710" y="868"/>
                </a:lnTo>
                <a:lnTo>
                  <a:pt x="1710" y="868"/>
                </a:lnTo>
                <a:lnTo>
                  <a:pt x="1703" y="875"/>
                </a:lnTo>
                <a:lnTo>
                  <a:pt x="1703" y="882"/>
                </a:lnTo>
                <a:lnTo>
                  <a:pt x="1703" y="889"/>
                </a:lnTo>
                <a:lnTo>
                  <a:pt x="1703" y="896"/>
                </a:lnTo>
                <a:lnTo>
                  <a:pt x="1703" y="903"/>
                </a:lnTo>
                <a:lnTo>
                  <a:pt x="1697" y="910"/>
                </a:lnTo>
                <a:lnTo>
                  <a:pt x="1697" y="910"/>
                </a:lnTo>
                <a:lnTo>
                  <a:pt x="1690" y="917"/>
                </a:lnTo>
                <a:lnTo>
                  <a:pt x="1690" y="923"/>
                </a:lnTo>
                <a:lnTo>
                  <a:pt x="1683" y="930"/>
                </a:lnTo>
                <a:lnTo>
                  <a:pt x="1676" y="923"/>
                </a:lnTo>
                <a:lnTo>
                  <a:pt x="1669" y="917"/>
                </a:lnTo>
                <a:lnTo>
                  <a:pt x="1669" y="910"/>
                </a:lnTo>
                <a:lnTo>
                  <a:pt x="1662" y="903"/>
                </a:lnTo>
                <a:lnTo>
                  <a:pt x="1662" y="896"/>
                </a:lnTo>
                <a:lnTo>
                  <a:pt x="1662" y="896"/>
                </a:lnTo>
                <a:lnTo>
                  <a:pt x="1662" y="889"/>
                </a:lnTo>
                <a:lnTo>
                  <a:pt x="1662" y="882"/>
                </a:lnTo>
                <a:lnTo>
                  <a:pt x="1662" y="875"/>
                </a:lnTo>
                <a:lnTo>
                  <a:pt x="1662" y="875"/>
                </a:lnTo>
                <a:lnTo>
                  <a:pt x="1655" y="868"/>
                </a:lnTo>
                <a:lnTo>
                  <a:pt x="1655" y="855"/>
                </a:lnTo>
                <a:lnTo>
                  <a:pt x="1655" y="848"/>
                </a:lnTo>
                <a:lnTo>
                  <a:pt x="1655" y="848"/>
                </a:lnTo>
                <a:lnTo>
                  <a:pt x="1655" y="855"/>
                </a:lnTo>
                <a:lnTo>
                  <a:pt x="1655" y="868"/>
                </a:lnTo>
                <a:lnTo>
                  <a:pt x="1655" y="875"/>
                </a:lnTo>
                <a:lnTo>
                  <a:pt x="1648" y="875"/>
                </a:lnTo>
                <a:lnTo>
                  <a:pt x="1648" y="882"/>
                </a:lnTo>
                <a:lnTo>
                  <a:pt x="1648" y="889"/>
                </a:lnTo>
                <a:lnTo>
                  <a:pt x="1648" y="896"/>
                </a:lnTo>
                <a:lnTo>
                  <a:pt x="1648" y="903"/>
                </a:lnTo>
                <a:lnTo>
                  <a:pt x="1648" y="903"/>
                </a:lnTo>
                <a:lnTo>
                  <a:pt x="1648" y="910"/>
                </a:lnTo>
                <a:lnTo>
                  <a:pt x="1648" y="917"/>
                </a:lnTo>
                <a:lnTo>
                  <a:pt x="1648" y="923"/>
                </a:lnTo>
                <a:lnTo>
                  <a:pt x="1648" y="930"/>
                </a:lnTo>
                <a:lnTo>
                  <a:pt x="1655" y="937"/>
                </a:lnTo>
                <a:lnTo>
                  <a:pt x="1648" y="944"/>
                </a:lnTo>
                <a:lnTo>
                  <a:pt x="1648" y="951"/>
                </a:lnTo>
                <a:lnTo>
                  <a:pt x="1641" y="951"/>
                </a:lnTo>
                <a:lnTo>
                  <a:pt x="1634" y="958"/>
                </a:lnTo>
                <a:lnTo>
                  <a:pt x="1621" y="958"/>
                </a:lnTo>
                <a:lnTo>
                  <a:pt x="1614" y="951"/>
                </a:lnTo>
                <a:lnTo>
                  <a:pt x="1600" y="951"/>
                </a:lnTo>
                <a:lnTo>
                  <a:pt x="1593" y="951"/>
                </a:lnTo>
                <a:lnTo>
                  <a:pt x="1586" y="951"/>
                </a:lnTo>
                <a:lnTo>
                  <a:pt x="1579" y="951"/>
                </a:lnTo>
                <a:lnTo>
                  <a:pt x="1566" y="958"/>
                </a:lnTo>
                <a:lnTo>
                  <a:pt x="1559" y="958"/>
                </a:lnTo>
                <a:lnTo>
                  <a:pt x="1552" y="965"/>
                </a:lnTo>
                <a:lnTo>
                  <a:pt x="1545" y="965"/>
                </a:lnTo>
                <a:lnTo>
                  <a:pt x="1538" y="972"/>
                </a:lnTo>
                <a:lnTo>
                  <a:pt x="1531" y="972"/>
                </a:lnTo>
                <a:lnTo>
                  <a:pt x="1524" y="979"/>
                </a:lnTo>
                <a:lnTo>
                  <a:pt x="1517" y="985"/>
                </a:lnTo>
                <a:lnTo>
                  <a:pt x="1517" y="985"/>
                </a:lnTo>
                <a:lnTo>
                  <a:pt x="1510" y="992"/>
                </a:lnTo>
                <a:lnTo>
                  <a:pt x="1510" y="999"/>
                </a:lnTo>
                <a:lnTo>
                  <a:pt x="1510" y="1006"/>
                </a:lnTo>
                <a:lnTo>
                  <a:pt x="1503" y="1013"/>
                </a:lnTo>
                <a:lnTo>
                  <a:pt x="1497" y="1013"/>
                </a:lnTo>
                <a:lnTo>
                  <a:pt x="1490" y="1013"/>
                </a:lnTo>
                <a:lnTo>
                  <a:pt x="1476" y="1013"/>
                </a:lnTo>
                <a:lnTo>
                  <a:pt x="1469" y="1013"/>
                </a:lnTo>
                <a:lnTo>
                  <a:pt x="1455" y="1013"/>
                </a:lnTo>
                <a:lnTo>
                  <a:pt x="1448" y="1013"/>
                </a:lnTo>
                <a:lnTo>
                  <a:pt x="1448" y="1006"/>
                </a:lnTo>
                <a:lnTo>
                  <a:pt x="1441" y="999"/>
                </a:lnTo>
                <a:lnTo>
                  <a:pt x="1434" y="999"/>
                </a:lnTo>
                <a:lnTo>
                  <a:pt x="1428" y="992"/>
                </a:lnTo>
                <a:lnTo>
                  <a:pt x="1428" y="985"/>
                </a:lnTo>
                <a:lnTo>
                  <a:pt x="1421" y="979"/>
                </a:lnTo>
                <a:lnTo>
                  <a:pt x="1414" y="979"/>
                </a:lnTo>
                <a:lnTo>
                  <a:pt x="1407" y="972"/>
                </a:lnTo>
                <a:lnTo>
                  <a:pt x="1400" y="965"/>
                </a:lnTo>
                <a:lnTo>
                  <a:pt x="1393" y="965"/>
                </a:lnTo>
                <a:lnTo>
                  <a:pt x="1386" y="958"/>
                </a:lnTo>
                <a:lnTo>
                  <a:pt x="1379" y="951"/>
                </a:lnTo>
                <a:lnTo>
                  <a:pt x="1379" y="951"/>
                </a:lnTo>
                <a:lnTo>
                  <a:pt x="1372" y="944"/>
                </a:lnTo>
                <a:lnTo>
                  <a:pt x="1366" y="937"/>
                </a:lnTo>
                <a:lnTo>
                  <a:pt x="1359" y="937"/>
                </a:lnTo>
                <a:lnTo>
                  <a:pt x="1352" y="937"/>
                </a:lnTo>
                <a:lnTo>
                  <a:pt x="1352" y="944"/>
                </a:lnTo>
                <a:lnTo>
                  <a:pt x="1352" y="951"/>
                </a:lnTo>
                <a:lnTo>
                  <a:pt x="1352" y="958"/>
                </a:lnTo>
                <a:lnTo>
                  <a:pt x="1352" y="965"/>
                </a:lnTo>
                <a:lnTo>
                  <a:pt x="1352" y="972"/>
                </a:lnTo>
                <a:lnTo>
                  <a:pt x="1359" y="979"/>
                </a:lnTo>
                <a:lnTo>
                  <a:pt x="1359" y="979"/>
                </a:lnTo>
                <a:lnTo>
                  <a:pt x="1366" y="985"/>
                </a:lnTo>
                <a:lnTo>
                  <a:pt x="1366" y="992"/>
                </a:lnTo>
                <a:lnTo>
                  <a:pt x="1372" y="999"/>
                </a:lnTo>
                <a:lnTo>
                  <a:pt x="1372" y="1006"/>
                </a:lnTo>
                <a:lnTo>
                  <a:pt x="1379" y="1006"/>
                </a:lnTo>
                <a:lnTo>
                  <a:pt x="1379" y="1013"/>
                </a:lnTo>
                <a:lnTo>
                  <a:pt x="1386" y="1020"/>
                </a:lnTo>
                <a:lnTo>
                  <a:pt x="1393" y="1027"/>
                </a:lnTo>
                <a:lnTo>
                  <a:pt x="1393" y="1034"/>
                </a:lnTo>
                <a:lnTo>
                  <a:pt x="1400" y="1034"/>
                </a:lnTo>
                <a:lnTo>
                  <a:pt x="1400" y="1041"/>
                </a:lnTo>
                <a:lnTo>
                  <a:pt x="1407" y="1047"/>
                </a:lnTo>
                <a:lnTo>
                  <a:pt x="1407" y="1054"/>
                </a:lnTo>
                <a:lnTo>
                  <a:pt x="1407" y="1061"/>
                </a:lnTo>
                <a:lnTo>
                  <a:pt x="1407" y="1068"/>
                </a:lnTo>
                <a:lnTo>
                  <a:pt x="1414" y="1068"/>
                </a:lnTo>
                <a:lnTo>
                  <a:pt x="1421" y="1075"/>
                </a:lnTo>
                <a:lnTo>
                  <a:pt x="1421" y="1082"/>
                </a:lnTo>
                <a:lnTo>
                  <a:pt x="1428" y="1089"/>
                </a:lnTo>
                <a:lnTo>
                  <a:pt x="1428" y="1096"/>
                </a:lnTo>
                <a:lnTo>
                  <a:pt x="1434" y="1096"/>
                </a:lnTo>
                <a:lnTo>
                  <a:pt x="1434" y="1103"/>
                </a:lnTo>
                <a:lnTo>
                  <a:pt x="1441" y="1109"/>
                </a:lnTo>
                <a:lnTo>
                  <a:pt x="1441" y="1116"/>
                </a:lnTo>
                <a:lnTo>
                  <a:pt x="1448" y="1123"/>
                </a:lnTo>
                <a:lnTo>
                  <a:pt x="1455" y="1123"/>
                </a:lnTo>
                <a:lnTo>
                  <a:pt x="1455" y="1130"/>
                </a:lnTo>
                <a:lnTo>
                  <a:pt x="1455" y="1137"/>
                </a:lnTo>
                <a:lnTo>
                  <a:pt x="1455" y="1144"/>
                </a:lnTo>
                <a:lnTo>
                  <a:pt x="1448" y="1151"/>
                </a:lnTo>
                <a:lnTo>
                  <a:pt x="1448" y="1158"/>
                </a:lnTo>
                <a:lnTo>
                  <a:pt x="1441" y="1158"/>
                </a:lnTo>
                <a:lnTo>
                  <a:pt x="1434" y="1165"/>
                </a:lnTo>
                <a:lnTo>
                  <a:pt x="1428" y="1171"/>
                </a:lnTo>
                <a:lnTo>
                  <a:pt x="1421" y="1171"/>
                </a:lnTo>
                <a:lnTo>
                  <a:pt x="1414" y="1178"/>
                </a:lnTo>
                <a:lnTo>
                  <a:pt x="1407" y="1178"/>
                </a:lnTo>
                <a:lnTo>
                  <a:pt x="1400" y="1185"/>
                </a:lnTo>
                <a:lnTo>
                  <a:pt x="1393" y="1192"/>
                </a:lnTo>
                <a:lnTo>
                  <a:pt x="1386" y="1192"/>
                </a:lnTo>
                <a:lnTo>
                  <a:pt x="1379" y="1192"/>
                </a:lnTo>
                <a:lnTo>
                  <a:pt x="1366" y="1199"/>
                </a:lnTo>
                <a:lnTo>
                  <a:pt x="1359" y="1199"/>
                </a:lnTo>
                <a:lnTo>
                  <a:pt x="1352" y="1199"/>
                </a:lnTo>
                <a:lnTo>
                  <a:pt x="1338" y="1199"/>
                </a:lnTo>
                <a:lnTo>
                  <a:pt x="1331" y="1199"/>
                </a:lnTo>
                <a:lnTo>
                  <a:pt x="1324" y="1199"/>
                </a:lnTo>
                <a:lnTo>
                  <a:pt x="1310" y="1199"/>
                </a:lnTo>
                <a:lnTo>
                  <a:pt x="1303" y="1199"/>
                </a:lnTo>
                <a:lnTo>
                  <a:pt x="1297" y="1199"/>
                </a:lnTo>
                <a:lnTo>
                  <a:pt x="1283" y="1199"/>
                </a:lnTo>
                <a:lnTo>
                  <a:pt x="1276" y="1206"/>
                </a:lnTo>
                <a:lnTo>
                  <a:pt x="1269" y="1206"/>
                </a:lnTo>
                <a:lnTo>
                  <a:pt x="1262" y="1213"/>
                </a:lnTo>
                <a:lnTo>
                  <a:pt x="1262" y="1220"/>
                </a:lnTo>
                <a:lnTo>
                  <a:pt x="1262" y="1227"/>
                </a:lnTo>
                <a:lnTo>
                  <a:pt x="1262" y="1233"/>
                </a:lnTo>
                <a:lnTo>
                  <a:pt x="1262" y="1240"/>
                </a:lnTo>
                <a:lnTo>
                  <a:pt x="1262" y="1240"/>
                </a:lnTo>
                <a:lnTo>
                  <a:pt x="1255" y="1247"/>
                </a:lnTo>
                <a:lnTo>
                  <a:pt x="1255" y="1254"/>
                </a:lnTo>
                <a:lnTo>
                  <a:pt x="1255" y="1261"/>
                </a:lnTo>
                <a:lnTo>
                  <a:pt x="1248" y="1268"/>
                </a:lnTo>
                <a:lnTo>
                  <a:pt x="1248" y="1275"/>
                </a:lnTo>
                <a:lnTo>
                  <a:pt x="1248" y="1282"/>
                </a:lnTo>
                <a:lnTo>
                  <a:pt x="1241" y="1289"/>
                </a:lnTo>
                <a:lnTo>
                  <a:pt x="1241" y="1289"/>
                </a:lnTo>
                <a:lnTo>
                  <a:pt x="1235" y="1289"/>
                </a:lnTo>
                <a:lnTo>
                  <a:pt x="1228" y="1289"/>
                </a:lnTo>
                <a:lnTo>
                  <a:pt x="1214" y="1282"/>
                </a:lnTo>
                <a:lnTo>
                  <a:pt x="1207" y="1282"/>
                </a:lnTo>
                <a:lnTo>
                  <a:pt x="1200" y="1282"/>
                </a:lnTo>
                <a:lnTo>
                  <a:pt x="1186" y="1282"/>
                </a:lnTo>
                <a:lnTo>
                  <a:pt x="1179" y="1282"/>
                </a:lnTo>
                <a:lnTo>
                  <a:pt x="1172" y="1282"/>
                </a:lnTo>
                <a:lnTo>
                  <a:pt x="1159" y="1282"/>
                </a:lnTo>
                <a:lnTo>
                  <a:pt x="1152" y="1282"/>
                </a:lnTo>
                <a:lnTo>
                  <a:pt x="1145" y="1289"/>
                </a:lnTo>
                <a:lnTo>
                  <a:pt x="1131" y="1289"/>
                </a:lnTo>
                <a:lnTo>
                  <a:pt x="1124" y="1289"/>
                </a:lnTo>
                <a:lnTo>
                  <a:pt x="1117" y="1295"/>
                </a:lnTo>
                <a:lnTo>
                  <a:pt x="1117" y="1295"/>
                </a:lnTo>
                <a:lnTo>
                  <a:pt x="1117" y="1302"/>
                </a:lnTo>
                <a:lnTo>
                  <a:pt x="1117" y="1309"/>
                </a:lnTo>
                <a:lnTo>
                  <a:pt x="1124" y="1316"/>
                </a:lnTo>
                <a:lnTo>
                  <a:pt x="1124" y="1323"/>
                </a:lnTo>
                <a:lnTo>
                  <a:pt x="1131" y="1330"/>
                </a:lnTo>
                <a:lnTo>
                  <a:pt x="1131" y="1330"/>
                </a:lnTo>
                <a:lnTo>
                  <a:pt x="1131" y="1337"/>
                </a:lnTo>
                <a:lnTo>
                  <a:pt x="1138" y="1344"/>
                </a:lnTo>
                <a:lnTo>
                  <a:pt x="1145" y="1351"/>
                </a:lnTo>
                <a:lnTo>
                  <a:pt x="1145" y="1357"/>
                </a:lnTo>
                <a:lnTo>
                  <a:pt x="1152" y="1357"/>
                </a:lnTo>
                <a:lnTo>
                  <a:pt x="1152" y="1364"/>
                </a:lnTo>
                <a:lnTo>
                  <a:pt x="1145" y="1364"/>
                </a:lnTo>
                <a:lnTo>
                  <a:pt x="1138" y="1357"/>
                </a:lnTo>
                <a:lnTo>
                  <a:pt x="1131" y="1357"/>
                </a:lnTo>
                <a:lnTo>
                  <a:pt x="1131" y="1351"/>
                </a:lnTo>
                <a:lnTo>
                  <a:pt x="1124" y="1344"/>
                </a:lnTo>
                <a:lnTo>
                  <a:pt x="1117" y="1344"/>
                </a:lnTo>
                <a:lnTo>
                  <a:pt x="1110" y="1337"/>
                </a:lnTo>
                <a:lnTo>
                  <a:pt x="1104" y="1337"/>
                </a:lnTo>
                <a:lnTo>
                  <a:pt x="1097" y="1330"/>
                </a:lnTo>
                <a:lnTo>
                  <a:pt x="1090" y="1323"/>
                </a:lnTo>
                <a:lnTo>
                  <a:pt x="1083" y="1323"/>
                </a:lnTo>
                <a:lnTo>
                  <a:pt x="1076" y="1316"/>
                </a:lnTo>
                <a:lnTo>
                  <a:pt x="1069" y="1316"/>
                </a:lnTo>
                <a:lnTo>
                  <a:pt x="1062" y="1309"/>
                </a:lnTo>
                <a:lnTo>
                  <a:pt x="1048" y="1309"/>
                </a:lnTo>
                <a:lnTo>
                  <a:pt x="1041" y="1309"/>
                </a:lnTo>
                <a:lnTo>
                  <a:pt x="1035" y="1302"/>
                </a:lnTo>
                <a:lnTo>
                  <a:pt x="1028" y="1302"/>
                </a:lnTo>
                <a:lnTo>
                  <a:pt x="1014" y="1302"/>
                </a:lnTo>
                <a:lnTo>
                  <a:pt x="1007" y="1295"/>
                </a:lnTo>
                <a:lnTo>
                  <a:pt x="1000" y="1295"/>
                </a:lnTo>
                <a:lnTo>
                  <a:pt x="993" y="1295"/>
                </a:lnTo>
                <a:lnTo>
                  <a:pt x="979" y="1289"/>
                </a:lnTo>
                <a:lnTo>
                  <a:pt x="973" y="1289"/>
                </a:lnTo>
                <a:lnTo>
                  <a:pt x="966" y="1289"/>
                </a:lnTo>
                <a:lnTo>
                  <a:pt x="959" y="1282"/>
                </a:lnTo>
                <a:lnTo>
                  <a:pt x="945" y="1282"/>
                </a:lnTo>
                <a:lnTo>
                  <a:pt x="938" y="1282"/>
                </a:lnTo>
                <a:lnTo>
                  <a:pt x="931" y="1275"/>
                </a:lnTo>
                <a:lnTo>
                  <a:pt x="924" y="1275"/>
                </a:lnTo>
                <a:lnTo>
                  <a:pt x="910" y="1275"/>
                </a:lnTo>
                <a:lnTo>
                  <a:pt x="904" y="1268"/>
                </a:lnTo>
                <a:lnTo>
                  <a:pt x="897" y="1268"/>
                </a:lnTo>
                <a:lnTo>
                  <a:pt x="890" y="1268"/>
                </a:lnTo>
                <a:lnTo>
                  <a:pt x="876" y="1268"/>
                </a:lnTo>
                <a:lnTo>
                  <a:pt x="869" y="1261"/>
                </a:lnTo>
                <a:lnTo>
                  <a:pt x="862" y="1261"/>
                </a:lnTo>
                <a:lnTo>
                  <a:pt x="848" y="1261"/>
                </a:lnTo>
                <a:lnTo>
                  <a:pt x="842" y="1261"/>
                </a:lnTo>
                <a:lnTo>
                  <a:pt x="835" y="1261"/>
                </a:lnTo>
                <a:lnTo>
                  <a:pt x="821" y="1261"/>
                </a:lnTo>
                <a:lnTo>
                  <a:pt x="814" y="1261"/>
                </a:lnTo>
                <a:lnTo>
                  <a:pt x="807" y="1261"/>
                </a:lnTo>
                <a:lnTo>
                  <a:pt x="800" y="1261"/>
                </a:lnTo>
                <a:lnTo>
                  <a:pt x="793" y="1268"/>
                </a:lnTo>
                <a:lnTo>
                  <a:pt x="786" y="1275"/>
                </a:lnTo>
                <a:lnTo>
                  <a:pt x="786" y="1282"/>
                </a:lnTo>
                <a:lnTo>
                  <a:pt x="779" y="1289"/>
                </a:lnTo>
                <a:lnTo>
                  <a:pt x="773" y="1289"/>
                </a:lnTo>
                <a:lnTo>
                  <a:pt x="773" y="1295"/>
                </a:lnTo>
                <a:lnTo>
                  <a:pt x="766" y="1302"/>
                </a:lnTo>
                <a:lnTo>
                  <a:pt x="766" y="1309"/>
                </a:lnTo>
                <a:lnTo>
                  <a:pt x="766" y="1316"/>
                </a:lnTo>
                <a:lnTo>
                  <a:pt x="766" y="1316"/>
                </a:lnTo>
                <a:lnTo>
                  <a:pt x="766" y="1323"/>
                </a:lnTo>
                <a:lnTo>
                  <a:pt x="766" y="1330"/>
                </a:lnTo>
                <a:lnTo>
                  <a:pt x="766" y="1337"/>
                </a:lnTo>
                <a:lnTo>
                  <a:pt x="759" y="1344"/>
                </a:lnTo>
                <a:lnTo>
                  <a:pt x="759" y="1351"/>
                </a:lnTo>
                <a:lnTo>
                  <a:pt x="759" y="1357"/>
                </a:lnTo>
                <a:lnTo>
                  <a:pt x="759" y="1364"/>
                </a:lnTo>
                <a:lnTo>
                  <a:pt x="759" y="1364"/>
                </a:lnTo>
                <a:lnTo>
                  <a:pt x="759" y="1371"/>
                </a:lnTo>
                <a:lnTo>
                  <a:pt x="759" y="1378"/>
                </a:lnTo>
                <a:lnTo>
                  <a:pt x="752" y="1385"/>
                </a:lnTo>
                <a:lnTo>
                  <a:pt x="752" y="1392"/>
                </a:lnTo>
                <a:lnTo>
                  <a:pt x="752" y="1399"/>
                </a:lnTo>
                <a:lnTo>
                  <a:pt x="752" y="1406"/>
                </a:lnTo>
                <a:lnTo>
                  <a:pt x="752" y="1413"/>
                </a:lnTo>
                <a:lnTo>
                  <a:pt x="752" y="1413"/>
                </a:lnTo>
                <a:lnTo>
                  <a:pt x="752" y="1419"/>
                </a:lnTo>
                <a:lnTo>
                  <a:pt x="752" y="1426"/>
                </a:lnTo>
                <a:lnTo>
                  <a:pt x="745" y="1433"/>
                </a:lnTo>
                <a:lnTo>
                  <a:pt x="745" y="1440"/>
                </a:lnTo>
                <a:lnTo>
                  <a:pt x="745" y="1447"/>
                </a:lnTo>
                <a:lnTo>
                  <a:pt x="745" y="1454"/>
                </a:lnTo>
                <a:lnTo>
                  <a:pt x="745" y="1454"/>
                </a:lnTo>
                <a:lnTo>
                  <a:pt x="745" y="1461"/>
                </a:lnTo>
                <a:lnTo>
                  <a:pt x="745" y="1468"/>
                </a:lnTo>
                <a:lnTo>
                  <a:pt x="738" y="1475"/>
                </a:lnTo>
                <a:lnTo>
                  <a:pt x="738" y="1481"/>
                </a:lnTo>
                <a:lnTo>
                  <a:pt x="738" y="1488"/>
                </a:lnTo>
                <a:lnTo>
                  <a:pt x="738" y="1495"/>
                </a:lnTo>
                <a:lnTo>
                  <a:pt x="738" y="1502"/>
                </a:lnTo>
                <a:lnTo>
                  <a:pt x="738" y="1502"/>
                </a:lnTo>
                <a:lnTo>
                  <a:pt x="738" y="1509"/>
                </a:lnTo>
                <a:lnTo>
                  <a:pt x="738" y="1516"/>
                </a:lnTo>
                <a:lnTo>
                  <a:pt x="766" y="1543"/>
                </a:lnTo>
                <a:lnTo>
                  <a:pt x="793" y="1571"/>
                </a:lnTo>
                <a:lnTo>
                  <a:pt x="828" y="1599"/>
                </a:lnTo>
                <a:lnTo>
                  <a:pt x="855" y="1633"/>
                </a:lnTo>
                <a:lnTo>
                  <a:pt x="883" y="1633"/>
                </a:lnTo>
                <a:lnTo>
                  <a:pt x="917" y="1660"/>
                </a:lnTo>
                <a:lnTo>
                  <a:pt x="945" y="1688"/>
                </a:lnTo>
                <a:lnTo>
                  <a:pt x="973" y="1722"/>
                </a:lnTo>
                <a:lnTo>
                  <a:pt x="1000" y="1750"/>
                </a:lnTo>
                <a:lnTo>
                  <a:pt x="1035" y="1778"/>
                </a:lnTo>
                <a:lnTo>
                  <a:pt x="1062" y="1812"/>
                </a:lnTo>
                <a:lnTo>
                  <a:pt x="1090" y="1840"/>
                </a:lnTo>
                <a:lnTo>
                  <a:pt x="1124" y="1840"/>
                </a:lnTo>
                <a:lnTo>
                  <a:pt x="1152" y="1840"/>
                </a:lnTo>
                <a:lnTo>
                  <a:pt x="1179" y="1840"/>
                </a:lnTo>
                <a:lnTo>
                  <a:pt x="1207" y="1840"/>
                </a:lnTo>
                <a:lnTo>
                  <a:pt x="1241" y="1840"/>
                </a:lnTo>
                <a:lnTo>
                  <a:pt x="1269" y="1840"/>
                </a:lnTo>
                <a:lnTo>
                  <a:pt x="1297" y="1840"/>
                </a:lnTo>
                <a:lnTo>
                  <a:pt x="1331" y="1840"/>
                </a:lnTo>
                <a:lnTo>
                  <a:pt x="1359" y="1840"/>
                </a:lnTo>
                <a:lnTo>
                  <a:pt x="1386" y="1840"/>
                </a:lnTo>
                <a:lnTo>
                  <a:pt x="1414" y="1840"/>
                </a:lnTo>
                <a:lnTo>
                  <a:pt x="1448" y="1840"/>
                </a:lnTo>
                <a:lnTo>
                  <a:pt x="1476" y="1840"/>
                </a:lnTo>
                <a:lnTo>
                  <a:pt x="1503" y="1840"/>
                </a:lnTo>
                <a:lnTo>
                  <a:pt x="1538" y="1840"/>
                </a:lnTo>
                <a:lnTo>
                  <a:pt x="1566" y="1840"/>
                </a:lnTo>
                <a:lnTo>
                  <a:pt x="1593" y="1840"/>
                </a:lnTo>
                <a:lnTo>
                  <a:pt x="1621" y="1840"/>
                </a:lnTo>
                <a:lnTo>
                  <a:pt x="1655" y="1840"/>
                </a:lnTo>
                <a:lnTo>
                  <a:pt x="1683" y="1840"/>
                </a:lnTo>
                <a:lnTo>
                  <a:pt x="1710" y="1840"/>
                </a:lnTo>
                <a:lnTo>
                  <a:pt x="1745" y="1840"/>
                </a:lnTo>
                <a:lnTo>
                  <a:pt x="1772" y="1840"/>
                </a:lnTo>
                <a:lnTo>
                  <a:pt x="1800" y="1840"/>
                </a:lnTo>
                <a:lnTo>
                  <a:pt x="1828" y="1840"/>
                </a:lnTo>
                <a:lnTo>
                  <a:pt x="1862" y="1840"/>
                </a:lnTo>
                <a:lnTo>
                  <a:pt x="1890" y="1840"/>
                </a:lnTo>
                <a:lnTo>
                  <a:pt x="1917" y="1840"/>
                </a:lnTo>
                <a:lnTo>
                  <a:pt x="1952" y="1840"/>
                </a:lnTo>
                <a:lnTo>
                  <a:pt x="1979" y="1840"/>
                </a:lnTo>
                <a:lnTo>
                  <a:pt x="2007" y="1840"/>
                </a:lnTo>
                <a:lnTo>
                  <a:pt x="2034" y="1840"/>
                </a:lnTo>
                <a:lnTo>
                  <a:pt x="2069" y="1840"/>
                </a:lnTo>
                <a:lnTo>
                  <a:pt x="2096" y="1840"/>
                </a:lnTo>
                <a:lnTo>
                  <a:pt x="2124" y="1840"/>
                </a:lnTo>
                <a:lnTo>
                  <a:pt x="2158" y="1840"/>
                </a:lnTo>
                <a:lnTo>
                  <a:pt x="2186" y="1840"/>
                </a:lnTo>
                <a:lnTo>
                  <a:pt x="2214" y="1840"/>
                </a:lnTo>
                <a:lnTo>
                  <a:pt x="2241" y="1840"/>
                </a:lnTo>
                <a:lnTo>
                  <a:pt x="2276" y="1840"/>
                </a:lnTo>
                <a:lnTo>
                  <a:pt x="2303" y="1840"/>
                </a:lnTo>
                <a:lnTo>
                  <a:pt x="2331" y="1840"/>
                </a:lnTo>
                <a:lnTo>
                  <a:pt x="2365" y="1840"/>
                </a:lnTo>
                <a:lnTo>
                  <a:pt x="2393" y="1840"/>
                </a:lnTo>
                <a:lnTo>
                  <a:pt x="2420" y="1840"/>
                </a:lnTo>
                <a:lnTo>
                  <a:pt x="2448" y="1840"/>
                </a:lnTo>
                <a:lnTo>
                  <a:pt x="2483" y="1840"/>
                </a:lnTo>
                <a:close/>
                <a:moveTo>
                  <a:pt x="1324" y="1275"/>
                </a:moveTo>
                <a:lnTo>
                  <a:pt x="1317" y="1268"/>
                </a:lnTo>
                <a:lnTo>
                  <a:pt x="1317" y="1261"/>
                </a:lnTo>
                <a:lnTo>
                  <a:pt x="1317" y="1261"/>
                </a:lnTo>
                <a:lnTo>
                  <a:pt x="1317" y="1254"/>
                </a:lnTo>
                <a:lnTo>
                  <a:pt x="1317" y="1247"/>
                </a:lnTo>
                <a:lnTo>
                  <a:pt x="1317" y="1240"/>
                </a:lnTo>
                <a:lnTo>
                  <a:pt x="1317" y="1233"/>
                </a:lnTo>
                <a:lnTo>
                  <a:pt x="1324" y="1227"/>
                </a:lnTo>
                <a:lnTo>
                  <a:pt x="1331" y="1227"/>
                </a:lnTo>
                <a:lnTo>
                  <a:pt x="1338" y="1233"/>
                </a:lnTo>
                <a:lnTo>
                  <a:pt x="1345" y="1233"/>
                </a:lnTo>
                <a:lnTo>
                  <a:pt x="1352" y="1240"/>
                </a:lnTo>
                <a:lnTo>
                  <a:pt x="1352" y="1247"/>
                </a:lnTo>
                <a:lnTo>
                  <a:pt x="1352" y="1254"/>
                </a:lnTo>
                <a:lnTo>
                  <a:pt x="1352" y="1261"/>
                </a:lnTo>
                <a:lnTo>
                  <a:pt x="1345" y="1261"/>
                </a:lnTo>
                <a:lnTo>
                  <a:pt x="1338" y="1268"/>
                </a:lnTo>
                <a:lnTo>
                  <a:pt x="1331" y="1275"/>
                </a:lnTo>
                <a:lnTo>
                  <a:pt x="1331" y="1282"/>
                </a:lnTo>
                <a:lnTo>
                  <a:pt x="1324" y="1275"/>
                </a:lnTo>
                <a:close/>
                <a:moveTo>
                  <a:pt x="2034" y="951"/>
                </a:moveTo>
                <a:lnTo>
                  <a:pt x="2034" y="944"/>
                </a:lnTo>
                <a:lnTo>
                  <a:pt x="2041" y="937"/>
                </a:lnTo>
                <a:lnTo>
                  <a:pt x="2041" y="930"/>
                </a:lnTo>
                <a:lnTo>
                  <a:pt x="2048" y="923"/>
                </a:lnTo>
                <a:lnTo>
                  <a:pt x="2048" y="917"/>
                </a:lnTo>
                <a:lnTo>
                  <a:pt x="2055" y="917"/>
                </a:lnTo>
                <a:lnTo>
                  <a:pt x="2055" y="910"/>
                </a:lnTo>
                <a:lnTo>
                  <a:pt x="2062" y="903"/>
                </a:lnTo>
                <a:lnTo>
                  <a:pt x="2069" y="896"/>
                </a:lnTo>
                <a:lnTo>
                  <a:pt x="2069" y="889"/>
                </a:lnTo>
                <a:lnTo>
                  <a:pt x="2076" y="882"/>
                </a:lnTo>
                <a:lnTo>
                  <a:pt x="2076" y="875"/>
                </a:lnTo>
                <a:lnTo>
                  <a:pt x="2076" y="868"/>
                </a:lnTo>
                <a:lnTo>
                  <a:pt x="2069" y="868"/>
                </a:lnTo>
                <a:lnTo>
                  <a:pt x="2069" y="861"/>
                </a:lnTo>
                <a:lnTo>
                  <a:pt x="2076" y="855"/>
                </a:lnTo>
                <a:lnTo>
                  <a:pt x="2083" y="848"/>
                </a:lnTo>
                <a:lnTo>
                  <a:pt x="2083" y="848"/>
                </a:lnTo>
                <a:lnTo>
                  <a:pt x="2090" y="841"/>
                </a:lnTo>
                <a:lnTo>
                  <a:pt x="2090" y="834"/>
                </a:lnTo>
                <a:lnTo>
                  <a:pt x="2096" y="827"/>
                </a:lnTo>
                <a:lnTo>
                  <a:pt x="2103" y="820"/>
                </a:lnTo>
                <a:lnTo>
                  <a:pt x="2110" y="820"/>
                </a:lnTo>
                <a:lnTo>
                  <a:pt x="2117" y="813"/>
                </a:lnTo>
                <a:lnTo>
                  <a:pt x="2117" y="806"/>
                </a:lnTo>
                <a:lnTo>
                  <a:pt x="2124" y="799"/>
                </a:lnTo>
                <a:lnTo>
                  <a:pt x="2124" y="793"/>
                </a:lnTo>
                <a:lnTo>
                  <a:pt x="2124" y="786"/>
                </a:lnTo>
                <a:lnTo>
                  <a:pt x="2124" y="779"/>
                </a:lnTo>
                <a:lnTo>
                  <a:pt x="2124" y="772"/>
                </a:lnTo>
                <a:lnTo>
                  <a:pt x="2124" y="765"/>
                </a:lnTo>
                <a:lnTo>
                  <a:pt x="2124" y="758"/>
                </a:lnTo>
                <a:lnTo>
                  <a:pt x="2124" y="758"/>
                </a:lnTo>
                <a:lnTo>
                  <a:pt x="2131" y="751"/>
                </a:lnTo>
                <a:lnTo>
                  <a:pt x="2131" y="744"/>
                </a:lnTo>
                <a:lnTo>
                  <a:pt x="2131" y="737"/>
                </a:lnTo>
                <a:lnTo>
                  <a:pt x="2138" y="731"/>
                </a:lnTo>
                <a:lnTo>
                  <a:pt x="2138" y="724"/>
                </a:lnTo>
                <a:lnTo>
                  <a:pt x="2145" y="717"/>
                </a:lnTo>
                <a:lnTo>
                  <a:pt x="2145" y="710"/>
                </a:lnTo>
                <a:lnTo>
                  <a:pt x="2145" y="703"/>
                </a:lnTo>
                <a:lnTo>
                  <a:pt x="2145" y="696"/>
                </a:lnTo>
                <a:lnTo>
                  <a:pt x="2152" y="696"/>
                </a:lnTo>
                <a:lnTo>
                  <a:pt x="2152" y="689"/>
                </a:lnTo>
                <a:lnTo>
                  <a:pt x="2158" y="682"/>
                </a:lnTo>
                <a:lnTo>
                  <a:pt x="2165" y="675"/>
                </a:lnTo>
                <a:lnTo>
                  <a:pt x="2172" y="669"/>
                </a:lnTo>
                <a:lnTo>
                  <a:pt x="2172" y="669"/>
                </a:lnTo>
                <a:lnTo>
                  <a:pt x="2179" y="662"/>
                </a:lnTo>
                <a:lnTo>
                  <a:pt x="2179" y="655"/>
                </a:lnTo>
                <a:lnTo>
                  <a:pt x="2179" y="648"/>
                </a:lnTo>
                <a:lnTo>
                  <a:pt x="2179" y="641"/>
                </a:lnTo>
                <a:lnTo>
                  <a:pt x="2179" y="634"/>
                </a:lnTo>
                <a:lnTo>
                  <a:pt x="2179" y="627"/>
                </a:lnTo>
                <a:lnTo>
                  <a:pt x="2179" y="620"/>
                </a:lnTo>
                <a:lnTo>
                  <a:pt x="2186" y="613"/>
                </a:lnTo>
                <a:lnTo>
                  <a:pt x="2186" y="607"/>
                </a:lnTo>
                <a:lnTo>
                  <a:pt x="2193" y="607"/>
                </a:lnTo>
                <a:lnTo>
                  <a:pt x="2193" y="600"/>
                </a:lnTo>
                <a:lnTo>
                  <a:pt x="2200" y="593"/>
                </a:lnTo>
                <a:lnTo>
                  <a:pt x="2200" y="586"/>
                </a:lnTo>
                <a:lnTo>
                  <a:pt x="2200" y="579"/>
                </a:lnTo>
                <a:lnTo>
                  <a:pt x="2200" y="572"/>
                </a:lnTo>
                <a:lnTo>
                  <a:pt x="2200" y="565"/>
                </a:lnTo>
                <a:lnTo>
                  <a:pt x="2200" y="558"/>
                </a:lnTo>
                <a:lnTo>
                  <a:pt x="2200" y="551"/>
                </a:lnTo>
                <a:lnTo>
                  <a:pt x="2200" y="545"/>
                </a:lnTo>
                <a:lnTo>
                  <a:pt x="2200" y="538"/>
                </a:lnTo>
                <a:lnTo>
                  <a:pt x="2200" y="531"/>
                </a:lnTo>
                <a:lnTo>
                  <a:pt x="2207" y="531"/>
                </a:lnTo>
                <a:lnTo>
                  <a:pt x="2214" y="524"/>
                </a:lnTo>
                <a:lnTo>
                  <a:pt x="2221" y="524"/>
                </a:lnTo>
                <a:lnTo>
                  <a:pt x="2234" y="524"/>
                </a:lnTo>
                <a:lnTo>
                  <a:pt x="2241" y="531"/>
                </a:lnTo>
                <a:lnTo>
                  <a:pt x="2248" y="531"/>
                </a:lnTo>
                <a:lnTo>
                  <a:pt x="2255" y="538"/>
                </a:lnTo>
                <a:lnTo>
                  <a:pt x="2262" y="545"/>
                </a:lnTo>
                <a:lnTo>
                  <a:pt x="2269" y="545"/>
                </a:lnTo>
                <a:lnTo>
                  <a:pt x="2276" y="551"/>
                </a:lnTo>
                <a:lnTo>
                  <a:pt x="2283" y="551"/>
                </a:lnTo>
                <a:lnTo>
                  <a:pt x="2289" y="558"/>
                </a:lnTo>
                <a:lnTo>
                  <a:pt x="2303" y="558"/>
                </a:lnTo>
                <a:lnTo>
                  <a:pt x="2310" y="565"/>
                </a:lnTo>
                <a:lnTo>
                  <a:pt x="2317" y="565"/>
                </a:lnTo>
                <a:lnTo>
                  <a:pt x="2317" y="572"/>
                </a:lnTo>
                <a:lnTo>
                  <a:pt x="2317" y="579"/>
                </a:lnTo>
                <a:lnTo>
                  <a:pt x="2324" y="586"/>
                </a:lnTo>
                <a:lnTo>
                  <a:pt x="2331" y="593"/>
                </a:lnTo>
                <a:lnTo>
                  <a:pt x="2345" y="593"/>
                </a:lnTo>
                <a:lnTo>
                  <a:pt x="2345" y="593"/>
                </a:lnTo>
                <a:lnTo>
                  <a:pt x="2338" y="600"/>
                </a:lnTo>
                <a:lnTo>
                  <a:pt x="2331" y="607"/>
                </a:lnTo>
                <a:lnTo>
                  <a:pt x="2324" y="613"/>
                </a:lnTo>
                <a:lnTo>
                  <a:pt x="2317" y="613"/>
                </a:lnTo>
                <a:lnTo>
                  <a:pt x="2317" y="620"/>
                </a:lnTo>
                <a:lnTo>
                  <a:pt x="2310" y="627"/>
                </a:lnTo>
                <a:lnTo>
                  <a:pt x="2303" y="634"/>
                </a:lnTo>
                <a:lnTo>
                  <a:pt x="2296" y="634"/>
                </a:lnTo>
                <a:lnTo>
                  <a:pt x="2289" y="641"/>
                </a:lnTo>
                <a:lnTo>
                  <a:pt x="2283" y="648"/>
                </a:lnTo>
                <a:lnTo>
                  <a:pt x="2276" y="655"/>
                </a:lnTo>
                <a:lnTo>
                  <a:pt x="2276" y="655"/>
                </a:lnTo>
                <a:lnTo>
                  <a:pt x="2269" y="662"/>
                </a:lnTo>
                <a:lnTo>
                  <a:pt x="2269" y="669"/>
                </a:lnTo>
                <a:lnTo>
                  <a:pt x="2269" y="675"/>
                </a:lnTo>
                <a:lnTo>
                  <a:pt x="2269" y="682"/>
                </a:lnTo>
                <a:lnTo>
                  <a:pt x="2269" y="689"/>
                </a:lnTo>
                <a:lnTo>
                  <a:pt x="2269" y="696"/>
                </a:lnTo>
                <a:lnTo>
                  <a:pt x="2276" y="703"/>
                </a:lnTo>
                <a:lnTo>
                  <a:pt x="2276" y="710"/>
                </a:lnTo>
                <a:lnTo>
                  <a:pt x="2276" y="717"/>
                </a:lnTo>
                <a:lnTo>
                  <a:pt x="2276" y="717"/>
                </a:lnTo>
                <a:lnTo>
                  <a:pt x="2276" y="724"/>
                </a:lnTo>
                <a:lnTo>
                  <a:pt x="2276" y="731"/>
                </a:lnTo>
                <a:lnTo>
                  <a:pt x="2276" y="737"/>
                </a:lnTo>
                <a:lnTo>
                  <a:pt x="2276" y="744"/>
                </a:lnTo>
                <a:lnTo>
                  <a:pt x="2276" y="751"/>
                </a:lnTo>
                <a:lnTo>
                  <a:pt x="2276" y="758"/>
                </a:lnTo>
                <a:lnTo>
                  <a:pt x="2283" y="765"/>
                </a:lnTo>
                <a:lnTo>
                  <a:pt x="2283" y="772"/>
                </a:lnTo>
                <a:lnTo>
                  <a:pt x="2283" y="779"/>
                </a:lnTo>
                <a:lnTo>
                  <a:pt x="2289" y="786"/>
                </a:lnTo>
                <a:lnTo>
                  <a:pt x="2289" y="793"/>
                </a:lnTo>
                <a:lnTo>
                  <a:pt x="2289" y="799"/>
                </a:lnTo>
                <a:lnTo>
                  <a:pt x="2289" y="799"/>
                </a:lnTo>
                <a:lnTo>
                  <a:pt x="2289" y="806"/>
                </a:lnTo>
                <a:lnTo>
                  <a:pt x="2283" y="813"/>
                </a:lnTo>
                <a:lnTo>
                  <a:pt x="2283" y="820"/>
                </a:lnTo>
                <a:lnTo>
                  <a:pt x="2283" y="827"/>
                </a:lnTo>
                <a:lnTo>
                  <a:pt x="2283" y="834"/>
                </a:lnTo>
                <a:lnTo>
                  <a:pt x="2283" y="841"/>
                </a:lnTo>
                <a:lnTo>
                  <a:pt x="2283" y="848"/>
                </a:lnTo>
                <a:lnTo>
                  <a:pt x="2283" y="855"/>
                </a:lnTo>
                <a:lnTo>
                  <a:pt x="2276" y="861"/>
                </a:lnTo>
                <a:lnTo>
                  <a:pt x="2269" y="861"/>
                </a:lnTo>
                <a:lnTo>
                  <a:pt x="2269" y="868"/>
                </a:lnTo>
                <a:lnTo>
                  <a:pt x="2262" y="875"/>
                </a:lnTo>
                <a:lnTo>
                  <a:pt x="2262" y="882"/>
                </a:lnTo>
                <a:lnTo>
                  <a:pt x="2262" y="889"/>
                </a:lnTo>
                <a:lnTo>
                  <a:pt x="2262" y="896"/>
                </a:lnTo>
                <a:lnTo>
                  <a:pt x="2262" y="903"/>
                </a:lnTo>
                <a:lnTo>
                  <a:pt x="2262" y="910"/>
                </a:lnTo>
                <a:lnTo>
                  <a:pt x="2262" y="917"/>
                </a:lnTo>
                <a:lnTo>
                  <a:pt x="2262" y="923"/>
                </a:lnTo>
                <a:lnTo>
                  <a:pt x="2255" y="930"/>
                </a:lnTo>
                <a:lnTo>
                  <a:pt x="2255" y="937"/>
                </a:lnTo>
                <a:lnTo>
                  <a:pt x="2248" y="944"/>
                </a:lnTo>
                <a:lnTo>
                  <a:pt x="2241" y="944"/>
                </a:lnTo>
                <a:lnTo>
                  <a:pt x="2234" y="944"/>
                </a:lnTo>
                <a:lnTo>
                  <a:pt x="2227" y="944"/>
                </a:lnTo>
                <a:lnTo>
                  <a:pt x="2214" y="944"/>
                </a:lnTo>
                <a:lnTo>
                  <a:pt x="2207" y="944"/>
                </a:lnTo>
                <a:lnTo>
                  <a:pt x="2193" y="944"/>
                </a:lnTo>
                <a:lnTo>
                  <a:pt x="2186" y="951"/>
                </a:lnTo>
                <a:lnTo>
                  <a:pt x="2172" y="951"/>
                </a:lnTo>
                <a:lnTo>
                  <a:pt x="2165" y="951"/>
                </a:lnTo>
                <a:lnTo>
                  <a:pt x="2158" y="951"/>
                </a:lnTo>
                <a:lnTo>
                  <a:pt x="2145" y="951"/>
                </a:lnTo>
                <a:lnTo>
                  <a:pt x="2138" y="951"/>
                </a:lnTo>
                <a:lnTo>
                  <a:pt x="2124" y="951"/>
                </a:lnTo>
                <a:lnTo>
                  <a:pt x="2117" y="951"/>
                </a:lnTo>
                <a:lnTo>
                  <a:pt x="2103" y="951"/>
                </a:lnTo>
                <a:lnTo>
                  <a:pt x="2096" y="951"/>
                </a:lnTo>
                <a:lnTo>
                  <a:pt x="2090" y="951"/>
                </a:lnTo>
                <a:lnTo>
                  <a:pt x="2076" y="951"/>
                </a:lnTo>
                <a:lnTo>
                  <a:pt x="2069" y="951"/>
                </a:lnTo>
                <a:lnTo>
                  <a:pt x="2055" y="951"/>
                </a:lnTo>
                <a:lnTo>
                  <a:pt x="2048" y="958"/>
                </a:lnTo>
                <a:lnTo>
                  <a:pt x="2034" y="951"/>
                </a:lnTo>
                <a:lnTo>
                  <a:pt x="2034" y="951"/>
                </a:lnTo>
                <a:close/>
                <a:moveTo>
                  <a:pt x="1338" y="917"/>
                </a:moveTo>
                <a:lnTo>
                  <a:pt x="1338" y="917"/>
                </a:lnTo>
                <a:lnTo>
                  <a:pt x="1338" y="910"/>
                </a:lnTo>
                <a:lnTo>
                  <a:pt x="1338" y="903"/>
                </a:lnTo>
                <a:lnTo>
                  <a:pt x="1338" y="896"/>
                </a:lnTo>
                <a:lnTo>
                  <a:pt x="1338" y="889"/>
                </a:lnTo>
                <a:lnTo>
                  <a:pt x="1338" y="882"/>
                </a:lnTo>
                <a:lnTo>
                  <a:pt x="1345" y="875"/>
                </a:lnTo>
                <a:lnTo>
                  <a:pt x="1345" y="868"/>
                </a:lnTo>
                <a:lnTo>
                  <a:pt x="1345" y="868"/>
                </a:lnTo>
                <a:lnTo>
                  <a:pt x="1338" y="861"/>
                </a:lnTo>
                <a:lnTo>
                  <a:pt x="1331" y="855"/>
                </a:lnTo>
                <a:lnTo>
                  <a:pt x="1331" y="848"/>
                </a:lnTo>
                <a:lnTo>
                  <a:pt x="1324" y="855"/>
                </a:lnTo>
                <a:lnTo>
                  <a:pt x="1317" y="861"/>
                </a:lnTo>
                <a:lnTo>
                  <a:pt x="1317" y="868"/>
                </a:lnTo>
                <a:lnTo>
                  <a:pt x="1310" y="875"/>
                </a:lnTo>
                <a:lnTo>
                  <a:pt x="1310" y="882"/>
                </a:lnTo>
                <a:lnTo>
                  <a:pt x="1303" y="882"/>
                </a:lnTo>
                <a:lnTo>
                  <a:pt x="1303" y="889"/>
                </a:lnTo>
                <a:lnTo>
                  <a:pt x="1303" y="896"/>
                </a:lnTo>
                <a:lnTo>
                  <a:pt x="1310" y="896"/>
                </a:lnTo>
                <a:lnTo>
                  <a:pt x="1317" y="903"/>
                </a:lnTo>
                <a:lnTo>
                  <a:pt x="1317" y="910"/>
                </a:lnTo>
                <a:lnTo>
                  <a:pt x="1324" y="917"/>
                </a:lnTo>
                <a:lnTo>
                  <a:pt x="1331" y="923"/>
                </a:lnTo>
                <a:lnTo>
                  <a:pt x="1338" y="917"/>
                </a:lnTo>
                <a:close/>
                <a:moveTo>
                  <a:pt x="1917" y="917"/>
                </a:moveTo>
                <a:lnTo>
                  <a:pt x="1924" y="917"/>
                </a:lnTo>
                <a:lnTo>
                  <a:pt x="1931" y="917"/>
                </a:lnTo>
                <a:lnTo>
                  <a:pt x="1938" y="917"/>
                </a:lnTo>
                <a:lnTo>
                  <a:pt x="1945" y="917"/>
                </a:lnTo>
                <a:lnTo>
                  <a:pt x="1952" y="917"/>
                </a:lnTo>
                <a:lnTo>
                  <a:pt x="1959" y="910"/>
                </a:lnTo>
                <a:lnTo>
                  <a:pt x="1965" y="910"/>
                </a:lnTo>
                <a:lnTo>
                  <a:pt x="1972" y="910"/>
                </a:lnTo>
                <a:lnTo>
                  <a:pt x="1979" y="910"/>
                </a:lnTo>
                <a:lnTo>
                  <a:pt x="1986" y="903"/>
                </a:lnTo>
                <a:lnTo>
                  <a:pt x="1993" y="903"/>
                </a:lnTo>
                <a:lnTo>
                  <a:pt x="1993" y="896"/>
                </a:lnTo>
                <a:lnTo>
                  <a:pt x="2000" y="896"/>
                </a:lnTo>
                <a:lnTo>
                  <a:pt x="2000" y="889"/>
                </a:lnTo>
                <a:lnTo>
                  <a:pt x="2007" y="882"/>
                </a:lnTo>
                <a:lnTo>
                  <a:pt x="2014" y="882"/>
                </a:lnTo>
                <a:lnTo>
                  <a:pt x="2027" y="889"/>
                </a:lnTo>
                <a:lnTo>
                  <a:pt x="2027" y="889"/>
                </a:lnTo>
                <a:lnTo>
                  <a:pt x="2027" y="889"/>
                </a:lnTo>
                <a:lnTo>
                  <a:pt x="2021" y="896"/>
                </a:lnTo>
                <a:lnTo>
                  <a:pt x="2014" y="896"/>
                </a:lnTo>
                <a:lnTo>
                  <a:pt x="2007" y="903"/>
                </a:lnTo>
                <a:lnTo>
                  <a:pt x="2000" y="903"/>
                </a:lnTo>
                <a:lnTo>
                  <a:pt x="2000" y="910"/>
                </a:lnTo>
                <a:lnTo>
                  <a:pt x="2000" y="917"/>
                </a:lnTo>
                <a:lnTo>
                  <a:pt x="1993" y="917"/>
                </a:lnTo>
                <a:lnTo>
                  <a:pt x="1993" y="923"/>
                </a:lnTo>
                <a:lnTo>
                  <a:pt x="1986" y="930"/>
                </a:lnTo>
                <a:lnTo>
                  <a:pt x="1979" y="930"/>
                </a:lnTo>
                <a:lnTo>
                  <a:pt x="1972" y="930"/>
                </a:lnTo>
                <a:lnTo>
                  <a:pt x="1965" y="930"/>
                </a:lnTo>
                <a:lnTo>
                  <a:pt x="1959" y="930"/>
                </a:lnTo>
                <a:lnTo>
                  <a:pt x="1952" y="930"/>
                </a:lnTo>
                <a:lnTo>
                  <a:pt x="1945" y="923"/>
                </a:lnTo>
                <a:lnTo>
                  <a:pt x="1938" y="923"/>
                </a:lnTo>
                <a:lnTo>
                  <a:pt x="1931" y="923"/>
                </a:lnTo>
                <a:lnTo>
                  <a:pt x="1924" y="923"/>
                </a:lnTo>
                <a:lnTo>
                  <a:pt x="1917" y="917"/>
                </a:lnTo>
                <a:close/>
                <a:moveTo>
                  <a:pt x="449" y="889"/>
                </a:moveTo>
                <a:lnTo>
                  <a:pt x="455" y="882"/>
                </a:lnTo>
                <a:lnTo>
                  <a:pt x="455" y="875"/>
                </a:lnTo>
                <a:lnTo>
                  <a:pt x="462" y="875"/>
                </a:lnTo>
                <a:lnTo>
                  <a:pt x="462" y="868"/>
                </a:lnTo>
                <a:lnTo>
                  <a:pt x="462" y="861"/>
                </a:lnTo>
                <a:lnTo>
                  <a:pt x="462" y="861"/>
                </a:lnTo>
                <a:lnTo>
                  <a:pt x="455" y="855"/>
                </a:lnTo>
                <a:lnTo>
                  <a:pt x="449" y="848"/>
                </a:lnTo>
                <a:lnTo>
                  <a:pt x="442" y="848"/>
                </a:lnTo>
                <a:lnTo>
                  <a:pt x="435" y="848"/>
                </a:lnTo>
                <a:lnTo>
                  <a:pt x="428" y="855"/>
                </a:lnTo>
                <a:lnTo>
                  <a:pt x="421" y="861"/>
                </a:lnTo>
                <a:lnTo>
                  <a:pt x="421" y="861"/>
                </a:lnTo>
                <a:lnTo>
                  <a:pt x="421" y="868"/>
                </a:lnTo>
                <a:lnTo>
                  <a:pt x="421" y="875"/>
                </a:lnTo>
                <a:lnTo>
                  <a:pt x="428" y="882"/>
                </a:lnTo>
                <a:lnTo>
                  <a:pt x="428" y="882"/>
                </a:lnTo>
                <a:lnTo>
                  <a:pt x="435" y="889"/>
                </a:lnTo>
                <a:lnTo>
                  <a:pt x="442" y="896"/>
                </a:lnTo>
                <a:lnTo>
                  <a:pt x="449" y="889"/>
                </a:lnTo>
                <a:close/>
                <a:moveTo>
                  <a:pt x="2096" y="861"/>
                </a:moveTo>
                <a:lnTo>
                  <a:pt x="2096" y="855"/>
                </a:lnTo>
                <a:lnTo>
                  <a:pt x="2096" y="848"/>
                </a:lnTo>
                <a:lnTo>
                  <a:pt x="2096" y="848"/>
                </a:lnTo>
                <a:lnTo>
                  <a:pt x="2096" y="848"/>
                </a:lnTo>
                <a:lnTo>
                  <a:pt x="2090" y="848"/>
                </a:lnTo>
                <a:lnTo>
                  <a:pt x="2083" y="848"/>
                </a:lnTo>
                <a:lnTo>
                  <a:pt x="2076" y="855"/>
                </a:lnTo>
                <a:lnTo>
                  <a:pt x="2076" y="855"/>
                </a:lnTo>
                <a:lnTo>
                  <a:pt x="2069" y="861"/>
                </a:lnTo>
                <a:lnTo>
                  <a:pt x="2076" y="861"/>
                </a:lnTo>
                <a:lnTo>
                  <a:pt x="2083" y="861"/>
                </a:lnTo>
                <a:lnTo>
                  <a:pt x="2090" y="861"/>
                </a:lnTo>
                <a:lnTo>
                  <a:pt x="2096" y="861"/>
                </a:lnTo>
                <a:lnTo>
                  <a:pt x="2096" y="861"/>
                </a:lnTo>
                <a:close/>
                <a:moveTo>
                  <a:pt x="1566" y="827"/>
                </a:moveTo>
                <a:lnTo>
                  <a:pt x="1566" y="820"/>
                </a:lnTo>
                <a:lnTo>
                  <a:pt x="1566" y="813"/>
                </a:lnTo>
                <a:lnTo>
                  <a:pt x="1566" y="806"/>
                </a:lnTo>
                <a:lnTo>
                  <a:pt x="1566" y="806"/>
                </a:lnTo>
                <a:lnTo>
                  <a:pt x="1566" y="813"/>
                </a:lnTo>
                <a:lnTo>
                  <a:pt x="1566" y="820"/>
                </a:lnTo>
                <a:lnTo>
                  <a:pt x="1559" y="827"/>
                </a:lnTo>
                <a:lnTo>
                  <a:pt x="1566" y="841"/>
                </a:lnTo>
                <a:lnTo>
                  <a:pt x="1566" y="848"/>
                </a:lnTo>
                <a:lnTo>
                  <a:pt x="1566" y="855"/>
                </a:lnTo>
                <a:lnTo>
                  <a:pt x="1566" y="855"/>
                </a:lnTo>
                <a:lnTo>
                  <a:pt x="1566" y="848"/>
                </a:lnTo>
                <a:lnTo>
                  <a:pt x="1566" y="841"/>
                </a:lnTo>
                <a:lnTo>
                  <a:pt x="1566" y="827"/>
                </a:lnTo>
                <a:close/>
                <a:moveTo>
                  <a:pt x="1690" y="827"/>
                </a:moveTo>
                <a:lnTo>
                  <a:pt x="1690" y="820"/>
                </a:lnTo>
                <a:lnTo>
                  <a:pt x="1697" y="813"/>
                </a:lnTo>
                <a:lnTo>
                  <a:pt x="1697" y="806"/>
                </a:lnTo>
                <a:lnTo>
                  <a:pt x="1697" y="799"/>
                </a:lnTo>
                <a:lnTo>
                  <a:pt x="1697" y="793"/>
                </a:lnTo>
                <a:lnTo>
                  <a:pt x="1697" y="786"/>
                </a:lnTo>
                <a:lnTo>
                  <a:pt x="1697" y="779"/>
                </a:lnTo>
                <a:lnTo>
                  <a:pt x="1690" y="772"/>
                </a:lnTo>
                <a:lnTo>
                  <a:pt x="1690" y="765"/>
                </a:lnTo>
                <a:lnTo>
                  <a:pt x="1690" y="765"/>
                </a:lnTo>
                <a:lnTo>
                  <a:pt x="1690" y="758"/>
                </a:lnTo>
                <a:lnTo>
                  <a:pt x="1690" y="744"/>
                </a:lnTo>
                <a:lnTo>
                  <a:pt x="1683" y="737"/>
                </a:lnTo>
                <a:lnTo>
                  <a:pt x="1683" y="731"/>
                </a:lnTo>
                <a:lnTo>
                  <a:pt x="1683" y="724"/>
                </a:lnTo>
                <a:lnTo>
                  <a:pt x="1683" y="731"/>
                </a:lnTo>
                <a:lnTo>
                  <a:pt x="1683" y="737"/>
                </a:lnTo>
                <a:lnTo>
                  <a:pt x="1676" y="751"/>
                </a:lnTo>
                <a:lnTo>
                  <a:pt x="1676" y="758"/>
                </a:lnTo>
                <a:lnTo>
                  <a:pt x="1676" y="765"/>
                </a:lnTo>
                <a:lnTo>
                  <a:pt x="1669" y="765"/>
                </a:lnTo>
                <a:lnTo>
                  <a:pt x="1669" y="772"/>
                </a:lnTo>
                <a:lnTo>
                  <a:pt x="1669" y="779"/>
                </a:lnTo>
                <a:lnTo>
                  <a:pt x="1669" y="786"/>
                </a:lnTo>
                <a:lnTo>
                  <a:pt x="1662" y="793"/>
                </a:lnTo>
                <a:lnTo>
                  <a:pt x="1662" y="799"/>
                </a:lnTo>
                <a:lnTo>
                  <a:pt x="1662" y="813"/>
                </a:lnTo>
                <a:lnTo>
                  <a:pt x="1662" y="820"/>
                </a:lnTo>
                <a:lnTo>
                  <a:pt x="1662" y="827"/>
                </a:lnTo>
                <a:lnTo>
                  <a:pt x="1669" y="834"/>
                </a:lnTo>
                <a:lnTo>
                  <a:pt x="1683" y="834"/>
                </a:lnTo>
                <a:lnTo>
                  <a:pt x="1690" y="827"/>
                </a:lnTo>
                <a:close/>
                <a:moveTo>
                  <a:pt x="414" y="772"/>
                </a:moveTo>
                <a:lnTo>
                  <a:pt x="421" y="765"/>
                </a:lnTo>
                <a:lnTo>
                  <a:pt x="428" y="765"/>
                </a:lnTo>
                <a:lnTo>
                  <a:pt x="435" y="758"/>
                </a:lnTo>
                <a:lnTo>
                  <a:pt x="442" y="758"/>
                </a:lnTo>
                <a:lnTo>
                  <a:pt x="449" y="751"/>
                </a:lnTo>
                <a:lnTo>
                  <a:pt x="455" y="744"/>
                </a:lnTo>
                <a:lnTo>
                  <a:pt x="455" y="744"/>
                </a:lnTo>
                <a:lnTo>
                  <a:pt x="469" y="737"/>
                </a:lnTo>
                <a:lnTo>
                  <a:pt x="476" y="737"/>
                </a:lnTo>
                <a:lnTo>
                  <a:pt x="483" y="731"/>
                </a:lnTo>
                <a:lnTo>
                  <a:pt x="483" y="724"/>
                </a:lnTo>
                <a:lnTo>
                  <a:pt x="490" y="724"/>
                </a:lnTo>
                <a:lnTo>
                  <a:pt x="497" y="717"/>
                </a:lnTo>
                <a:lnTo>
                  <a:pt x="497" y="710"/>
                </a:lnTo>
                <a:lnTo>
                  <a:pt x="504" y="703"/>
                </a:lnTo>
                <a:lnTo>
                  <a:pt x="511" y="703"/>
                </a:lnTo>
                <a:lnTo>
                  <a:pt x="511" y="696"/>
                </a:lnTo>
                <a:lnTo>
                  <a:pt x="517" y="689"/>
                </a:lnTo>
                <a:lnTo>
                  <a:pt x="524" y="682"/>
                </a:lnTo>
                <a:lnTo>
                  <a:pt x="524" y="682"/>
                </a:lnTo>
                <a:lnTo>
                  <a:pt x="524" y="675"/>
                </a:lnTo>
                <a:lnTo>
                  <a:pt x="531" y="669"/>
                </a:lnTo>
                <a:lnTo>
                  <a:pt x="538" y="662"/>
                </a:lnTo>
                <a:lnTo>
                  <a:pt x="545" y="662"/>
                </a:lnTo>
                <a:lnTo>
                  <a:pt x="559" y="662"/>
                </a:lnTo>
                <a:lnTo>
                  <a:pt x="566" y="662"/>
                </a:lnTo>
                <a:lnTo>
                  <a:pt x="573" y="669"/>
                </a:lnTo>
                <a:lnTo>
                  <a:pt x="573" y="675"/>
                </a:lnTo>
                <a:lnTo>
                  <a:pt x="580" y="682"/>
                </a:lnTo>
                <a:lnTo>
                  <a:pt x="580" y="689"/>
                </a:lnTo>
                <a:lnTo>
                  <a:pt x="580" y="696"/>
                </a:lnTo>
                <a:lnTo>
                  <a:pt x="580" y="696"/>
                </a:lnTo>
                <a:lnTo>
                  <a:pt x="586" y="703"/>
                </a:lnTo>
                <a:lnTo>
                  <a:pt x="586" y="710"/>
                </a:lnTo>
                <a:lnTo>
                  <a:pt x="586" y="717"/>
                </a:lnTo>
                <a:lnTo>
                  <a:pt x="593" y="717"/>
                </a:lnTo>
                <a:lnTo>
                  <a:pt x="607" y="717"/>
                </a:lnTo>
                <a:lnTo>
                  <a:pt x="614" y="710"/>
                </a:lnTo>
                <a:lnTo>
                  <a:pt x="621" y="703"/>
                </a:lnTo>
                <a:lnTo>
                  <a:pt x="628" y="703"/>
                </a:lnTo>
                <a:lnTo>
                  <a:pt x="628" y="696"/>
                </a:lnTo>
                <a:lnTo>
                  <a:pt x="635" y="689"/>
                </a:lnTo>
                <a:lnTo>
                  <a:pt x="635" y="682"/>
                </a:lnTo>
                <a:lnTo>
                  <a:pt x="635" y="675"/>
                </a:lnTo>
                <a:lnTo>
                  <a:pt x="635" y="669"/>
                </a:lnTo>
                <a:lnTo>
                  <a:pt x="635" y="669"/>
                </a:lnTo>
                <a:lnTo>
                  <a:pt x="635" y="662"/>
                </a:lnTo>
                <a:lnTo>
                  <a:pt x="635" y="655"/>
                </a:lnTo>
                <a:lnTo>
                  <a:pt x="635" y="648"/>
                </a:lnTo>
                <a:lnTo>
                  <a:pt x="635" y="641"/>
                </a:lnTo>
                <a:lnTo>
                  <a:pt x="635" y="634"/>
                </a:lnTo>
                <a:lnTo>
                  <a:pt x="635" y="627"/>
                </a:lnTo>
                <a:lnTo>
                  <a:pt x="635" y="627"/>
                </a:lnTo>
                <a:lnTo>
                  <a:pt x="635" y="620"/>
                </a:lnTo>
                <a:lnTo>
                  <a:pt x="642" y="613"/>
                </a:lnTo>
                <a:lnTo>
                  <a:pt x="642" y="607"/>
                </a:lnTo>
                <a:lnTo>
                  <a:pt x="648" y="600"/>
                </a:lnTo>
                <a:lnTo>
                  <a:pt x="655" y="600"/>
                </a:lnTo>
                <a:lnTo>
                  <a:pt x="655" y="593"/>
                </a:lnTo>
                <a:lnTo>
                  <a:pt x="655" y="586"/>
                </a:lnTo>
                <a:lnTo>
                  <a:pt x="655" y="579"/>
                </a:lnTo>
                <a:lnTo>
                  <a:pt x="655" y="572"/>
                </a:lnTo>
                <a:lnTo>
                  <a:pt x="655" y="565"/>
                </a:lnTo>
                <a:lnTo>
                  <a:pt x="655" y="558"/>
                </a:lnTo>
                <a:lnTo>
                  <a:pt x="648" y="558"/>
                </a:lnTo>
                <a:lnTo>
                  <a:pt x="648" y="551"/>
                </a:lnTo>
                <a:lnTo>
                  <a:pt x="648" y="545"/>
                </a:lnTo>
                <a:lnTo>
                  <a:pt x="648" y="538"/>
                </a:lnTo>
                <a:lnTo>
                  <a:pt x="642" y="531"/>
                </a:lnTo>
                <a:lnTo>
                  <a:pt x="642" y="524"/>
                </a:lnTo>
                <a:lnTo>
                  <a:pt x="642" y="517"/>
                </a:lnTo>
                <a:lnTo>
                  <a:pt x="642" y="517"/>
                </a:lnTo>
                <a:lnTo>
                  <a:pt x="648" y="510"/>
                </a:lnTo>
                <a:lnTo>
                  <a:pt x="655" y="503"/>
                </a:lnTo>
                <a:lnTo>
                  <a:pt x="662" y="503"/>
                </a:lnTo>
                <a:lnTo>
                  <a:pt x="669" y="496"/>
                </a:lnTo>
                <a:lnTo>
                  <a:pt x="669" y="489"/>
                </a:lnTo>
                <a:lnTo>
                  <a:pt x="676" y="483"/>
                </a:lnTo>
                <a:lnTo>
                  <a:pt x="676" y="483"/>
                </a:lnTo>
                <a:lnTo>
                  <a:pt x="676" y="476"/>
                </a:lnTo>
                <a:lnTo>
                  <a:pt x="683" y="469"/>
                </a:lnTo>
                <a:lnTo>
                  <a:pt x="683" y="462"/>
                </a:lnTo>
                <a:lnTo>
                  <a:pt x="697" y="462"/>
                </a:lnTo>
                <a:lnTo>
                  <a:pt x="704" y="455"/>
                </a:lnTo>
                <a:lnTo>
                  <a:pt x="711" y="455"/>
                </a:lnTo>
                <a:lnTo>
                  <a:pt x="711" y="448"/>
                </a:lnTo>
                <a:lnTo>
                  <a:pt x="717" y="441"/>
                </a:lnTo>
                <a:lnTo>
                  <a:pt x="724" y="434"/>
                </a:lnTo>
                <a:lnTo>
                  <a:pt x="731" y="434"/>
                </a:lnTo>
                <a:lnTo>
                  <a:pt x="738" y="427"/>
                </a:lnTo>
                <a:lnTo>
                  <a:pt x="745" y="427"/>
                </a:lnTo>
                <a:lnTo>
                  <a:pt x="745" y="421"/>
                </a:lnTo>
                <a:lnTo>
                  <a:pt x="752" y="414"/>
                </a:lnTo>
                <a:lnTo>
                  <a:pt x="759" y="414"/>
                </a:lnTo>
                <a:lnTo>
                  <a:pt x="766" y="407"/>
                </a:lnTo>
                <a:lnTo>
                  <a:pt x="773" y="400"/>
                </a:lnTo>
                <a:lnTo>
                  <a:pt x="779" y="400"/>
                </a:lnTo>
                <a:lnTo>
                  <a:pt x="786" y="393"/>
                </a:lnTo>
                <a:lnTo>
                  <a:pt x="793" y="386"/>
                </a:lnTo>
                <a:lnTo>
                  <a:pt x="800" y="386"/>
                </a:lnTo>
                <a:lnTo>
                  <a:pt x="800" y="379"/>
                </a:lnTo>
                <a:lnTo>
                  <a:pt x="807" y="372"/>
                </a:lnTo>
                <a:lnTo>
                  <a:pt x="814" y="372"/>
                </a:lnTo>
                <a:lnTo>
                  <a:pt x="821" y="365"/>
                </a:lnTo>
                <a:lnTo>
                  <a:pt x="828" y="359"/>
                </a:lnTo>
                <a:lnTo>
                  <a:pt x="828" y="359"/>
                </a:lnTo>
                <a:lnTo>
                  <a:pt x="835" y="352"/>
                </a:lnTo>
                <a:lnTo>
                  <a:pt x="842" y="345"/>
                </a:lnTo>
                <a:lnTo>
                  <a:pt x="848" y="345"/>
                </a:lnTo>
                <a:lnTo>
                  <a:pt x="855" y="338"/>
                </a:lnTo>
                <a:lnTo>
                  <a:pt x="862" y="331"/>
                </a:lnTo>
                <a:lnTo>
                  <a:pt x="869" y="331"/>
                </a:lnTo>
                <a:lnTo>
                  <a:pt x="869" y="324"/>
                </a:lnTo>
                <a:lnTo>
                  <a:pt x="876" y="317"/>
                </a:lnTo>
                <a:lnTo>
                  <a:pt x="883" y="317"/>
                </a:lnTo>
                <a:lnTo>
                  <a:pt x="890" y="310"/>
                </a:lnTo>
                <a:lnTo>
                  <a:pt x="897" y="310"/>
                </a:lnTo>
                <a:lnTo>
                  <a:pt x="904" y="303"/>
                </a:lnTo>
                <a:lnTo>
                  <a:pt x="917" y="303"/>
                </a:lnTo>
                <a:lnTo>
                  <a:pt x="924" y="303"/>
                </a:lnTo>
                <a:lnTo>
                  <a:pt x="931" y="297"/>
                </a:lnTo>
                <a:lnTo>
                  <a:pt x="938" y="297"/>
                </a:lnTo>
                <a:lnTo>
                  <a:pt x="945" y="290"/>
                </a:lnTo>
                <a:lnTo>
                  <a:pt x="952" y="290"/>
                </a:lnTo>
                <a:lnTo>
                  <a:pt x="959" y="283"/>
                </a:lnTo>
                <a:lnTo>
                  <a:pt x="959" y="276"/>
                </a:lnTo>
                <a:lnTo>
                  <a:pt x="966" y="269"/>
                </a:lnTo>
                <a:lnTo>
                  <a:pt x="973" y="269"/>
                </a:lnTo>
                <a:lnTo>
                  <a:pt x="979" y="262"/>
                </a:lnTo>
                <a:lnTo>
                  <a:pt x="986" y="255"/>
                </a:lnTo>
                <a:lnTo>
                  <a:pt x="986" y="255"/>
                </a:lnTo>
                <a:lnTo>
                  <a:pt x="993" y="248"/>
                </a:lnTo>
                <a:lnTo>
                  <a:pt x="1000" y="241"/>
                </a:lnTo>
                <a:lnTo>
                  <a:pt x="1007" y="241"/>
                </a:lnTo>
                <a:lnTo>
                  <a:pt x="1007" y="235"/>
                </a:lnTo>
                <a:lnTo>
                  <a:pt x="1014" y="228"/>
                </a:lnTo>
                <a:lnTo>
                  <a:pt x="1021" y="221"/>
                </a:lnTo>
                <a:lnTo>
                  <a:pt x="1028" y="221"/>
                </a:lnTo>
                <a:lnTo>
                  <a:pt x="1035" y="214"/>
                </a:lnTo>
                <a:lnTo>
                  <a:pt x="1035" y="207"/>
                </a:lnTo>
                <a:lnTo>
                  <a:pt x="1041" y="207"/>
                </a:lnTo>
                <a:lnTo>
                  <a:pt x="1048" y="200"/>
                </a:lnTo>
                <a:lnTo>
                  <a:pt x="1048" y="193"/>
                </a:lnTo>
                <a:lnTo>
                  <a:pt x="1048" y="186"/>
                </a:lnTo>
                <a:lnTo>
                  <a:pt x="1055" y="179"/>
                </a:lnTo>
                <a:lnTo>
                  <a:pt x="1055" y="173"/>
                </a:lnTo>
                <a:lnTo>
                  <a:pt x="1055" y="173"/>
                </a:lnTo>
                <a:lnTo>
                  <a:pt x="1062" y="166"/>
                </a:lnTo>
                <a:lnTo>
                  <a:pt x="1069" y="159"/>
                </a:lnTo>
                <a:lnTo>
                  <a:pt x="1076" y="159"/>
                </a:lnTo>
                <a:lnTo>
                  <a:pt x="1083" y="159"/>
                </a:lnTo>
                <a:lnTo>
                  <a:pt x="1097" y="159"/>
                </a:lnTo>
                <a:lnTo>
                  <a:pt x="1104" y="152"/>
                </a:lnTo>
                <a:lnTo>
                  <a:pt x="1110" y="152"/>
                </a:lnTo>
                <a:lnTo>
                  <a:pt x="1117" y="152"/>
                </a:lnTo>
                <a:lnTo>
                  <a:pt x="1131" y="145"/>
                </a:lnTo>
                <a:lnTo>
                  <a:pt x="1138" y="145"/>
                </a:lnTo>
                <a:lnTo>
                  <a:pt x="1145" y="138"/>
                </a:lnTo>
                <a:lnTo>
                  <a:pt x="1152" y="138"/>
                </a:lnTo>
                <a:lnTo>
                  <a:pt x="1159" y="131"/>
                </a:lnTo>
                <a:lnTo>
                  <a:pt x="1166" y="131"/>
                </a:lnTo>
                <a:lnTo>
                  <a:pt x="1172" y="131"/>
                </a:lnTo>
                <a:lnTo>
                  <a:pt x="1186" y="124"/>
                </a:lnTo>
                <a:lnTo>
                  <a:pt x="1193" y="124"/>
                </a:lnTo>
                <a:lnTo>
                  <a:pt x="1200" y="124"/>
                </a:lnTo>
                <a:lnTo>
                  <a:pt x="1207" y="124"/>
                </a:lnTo>
                <a:lnTo>
                  <a:pt x="1221" y="124"/>
                </a:lnTo>
                <a:lnTo>
                  <a:pt x="1228" y="117"/>
                </a:lnTo>
                <a:lnTo>
                  <a:pt x="1235" y="117"/>
                </a:lnTo>
                <a:lnTo>
                  <a:pt x="1241" y="111"/>
                </a:lnTo>
                <a:lnTo>
                  <a:pt x="1248" y="104"/>
                </a:lnTo>
                <a:lnTo>
                  <a:pt x="1255" y="104"/>
                </a:lnTo>
                <a:lnTo>
                  <a:pt x="1262" y="97"/>
                </a:lnTo>
                <a:lnTo>
                  <a:pt x="1269" y="97"/>
                </a:lnTo>
                <a:lnTo>
                  <a:pt x="1276" y="97"/>
                </a:lnTo>
                <a:lnTo>
                  <a:pt x="1283" y="90"/>
                </a:lnTo>
                <a:lnTo>
                  <a:pt x="1297" y="90"/>
                </a:lnTo>
                <a:lnTo>
                  <a:pt x="1303" y="90"/>
                </a:lnTo>
                <a:lnTo>
                  <a:pt x="1310" y="83"/>
                </a:lnTo>
                <a:lnTo>
                  <a:pt x="1317" y="83"/>
                </a:lnTo>
                <a:lnTo>
                  <a:pt x="1324" y="76"/>
                </a:lnTo>
                <a:lnTo>
                  <a:pt x="1331" y="69"/>
                </a:lnTo>
                <a:lnTo>
                  <a:pt x="1338" y="69"/>
                </a:lnTo>
                <a:lnTo>
                  <a:pt x="1345" y="62"/>
                </a:lnTo>
                <a:lnTo>
                  <a:pt x="1345" y="62"/>
                </a:lnTo>
                <a:lnTo>
                  <a:pt x="1352" y="55"/>
                </a:lnTo>
                <a:lnTo>
                  <a:pt x="1359" y="49"/>
                </a:lnTo>
                <a:lnTo>
                  <a:pt x="1359" y="42"/>
                </a:lnTo>
                <a:lnTo>
                  <a:pt x="1366" y="42"/>
                </a:lnTo>
                <a:lnTo>
                  <a:pt x="1372" y="35"/>
                </a:lnTo>
                <a:lnTo>
                  <a:pt x="1372" y="28"/>
                </a:lnTo>
                <a:lnTo>
                  <a:pt x="1372" y="21"/>
                </a:lnTo>
                <a:lnTo>
                  <a:pt x="1366" y="21"/>
                </a:lnTo>
                <a:lnTo>
                  <a:pt x="1359" y="14"/>
                </a:lnTo>
                <a:lnTo>
                  <a:pt x="1352" y="7"/>
                </a:lnTo>
                <a:lnTo>
                  <a:pt x="1345" y="7"/>
                </a:lnTo>
                <a:lnTo>
                  <a:pt x="1345" y="0"/>
                </a:lnTo>
                <a:lnTo>
                  <a:pt x="1331" y="0"/>
                </a:lnTo>
                <a:lnTo>
                  <a:pt x="1297" y="0"/>
                </a:lnTo>
                <a:lnTo>
                  <a:pt x="1269" y="0"/>
                </a:lnTo>
                <a:lnTo>
                  <a:pt x="1241" y="0"/>
                </a:lnTo>
                <a:lnTo>
                  <a:pt x="1207" y="0"/>
                </a:lnTo>
                <a:lnTo>
                  <a:pt x="1179" y="0"/>
                </a:lnTo>
                <a:lnTo>
                  <a:pt x="1152" y="0"/>
                </a:lnTo>
                <a:lnTo>
                  <a:pt x="1124" y="0"/>
                </a:lnTo>
                <a:lnTo>
                  <a:pt x="1090" y="0"/>
                </a:lnTo>
                <a:lnTo>
                  <a:pt x="1062" y="0"/>
                </a:lnTo>
                <a:lnTo>
                  <a:pt x="1035" y="0"/>
                </a:lnTo>
                <a:lnTo>
                  <a:pt x="1000" y="0"/>
                </a:lnTo>
                <a:lnTo>
                  <a:pt x="973" y="0"/>
                </a:lnTo>
                <a:lnTo>
                  <a:pt x="945" y="0"/>
                </a:lnTo>
                <a:lnTo>
                  <a:pt x="917" y="0"/>
                </a:lnTo>
                <a:lnTo>
                  <a:pt x="883" y="0"/>
                </a:lnTo>
                <a:lnTo>
                  <a:pt x="855" y="0"/>
                </a:lnTo>
                <a:lnTo>
                  <a:pt x="828" y="0"/>
                </a:lnTo>
                <a:lnTo>
                  <a:pt x="793" y="0"/>
                </a:lnTo>
                <a:lnTo>
                  <a:pt x="766" y="0"/>
                </a:lnTo>
                <a:lnTo>
                  <a:pt x="738" y="0"/>
                </a:lnTo>
                <a:lnTo>
                  <a:pt x="711" y="0"/>
                </a:lnTo>
                <a:lnTo>
                  <a:pt x="676" y="0"/>
                </a:lnTo>
                <a:lnTo>
                  <a:pt x="648" y="28"/>
                </a:lnTo>
                <a:lnTo>
                  <a:pt x="621" y="62"/>
                </a:lnTo>
                <a:lnTo>
                  <a:pt x="593" y="90"/>
                </a:lnTo>
                <a:lnTo>
                  <a:pt x="559" y="117"/>
                </a:lnTo>
                <a:lnTo>
                  <a:pt x="531" y="145"/>
                </a:lnTo>
                <a:lnTo>
                  <a:pt x="504" y="145"/>
                </a:lnTo>
                <a:lnTo>
                  <a:pt x="469" y="179"/>
                </a:lnTo>
                <a:lnTo>
                  <a:pt x="442" y="207"/>
                </a:lnTo>
                <a:lnTo>
                  <a:pt x="414" y="235"/>
                </a:lnTo>
                <a:lnTo>
                  <a:pt x="386" y="269"/>
                </a:lnTo>
                <a:lnTo>
                  <a:pt x="386" y="297"/>
                </a:lnTo>
                <a:lnTo>
                  <a:pt x="386" y="297"/>
                </a:lnTo>
                <a:lnTo>
                  <a:pt x="380" y="303"/>
                </a:lnTo>
                <a:lnTo>
                  <a:pt x="373" y="310"/>
                </a:lnTo>
                <a:lnTo>
                  <a:pt x="373" y="317"/>
                </a:lnTo>
                <a:lnTo>
                  <a:pt x="373" y="317"/>
                </a:lnTo>
                <a:lnTo>
                  <a:pt x="366" y="324"/>
                </a:lnTo>
                <a:lnTo>
                  <a:pt x="366" y="331"/>
                </a:lnTo>
                <a:lnTo>
                  <a:pt x="359" y="331"/>
                </a:lnTo>
                <a:lnTo>
                  <a:pt x="352" y="338"/>
                </a:lnTo>
                <a:lnTo>
                  <a:pt x="352" y="345"/>
                </a:lnTo>
                <a:lnTo>
                  <a:pt x="345" y="352"/>
                </a:lnTo>
                <a:lnTo>
                  <a:pt x="338" y="352"/>
                </a:lnTo>
                <a:lnTo>
                  <a:pt x="338" y="359"/>
                </a:lnTo>
                <a:lnTo>
                  <a:pt x="331" y="365"/>
                </a:lnTo>
                <a:lnTo>
                  <a:pt x="324" y="365"/>
                </a:lnTo>
                <a:lnTo>
                  <a:pt x="324" y="372"/>
                </a:lnTo>
                <a:lnTo>
                  <a:pt x="318" y="379"/>
                </a:lnTo>
                <a:lnTo>
                  <a:pt x="318" y="386"/>
                </a:lnTo>
                <a:lnTo>
                  <a:pt x="311" y="386"/>
                </a:lnTo>
                <a:lnTo>
                  <a:pt x="304" y="393"/>
                </a:lnTo>
                <a:lnTo>
                  <a:pt x="304" y="400"/>
                </a:lnTo>
                <a:lnTo>
                  <a:pt x="297" y="407"/>
                </a:lnTo>
                <a:lnTo>
                  <a:pt x="297" y="407"/>
                </a:lnTo>
                <a:lnTo>
                  <a:pt x="290" y="414"/>
                </a:lnTo>
                <a:lnTo>
                  <a:pt x="283" y="421"/>
                </a:lnTo>
                <a:lnTo>
                  <a:pt x="283" y="421"/>
                </a:lnTo>
                <a:lnTo>
                  <a:pt x="276" y="427"/>
                </a:lnTo>
                <a:lnTo>
                  <a:pt x="276" y="434"/>
                </a:lnTo>
                <a:lnTo>
                  <a:pt x="269" y="441"/>
                </a:lnTo>
                <a:lnTo>
                  <a:pt x="262" y="441"/>
                </a:lnTo>
                <a:lnTo>
                  <a:pt x="262" y="448"/>
                </a:lnTo>
                <a:lnTo>
                  <a:pt x="255" y="455"/>
                </a:lnTo>
                <a:lnTo>
                  <a:pt x="255" y="462"/>
                </a:lnTo>
                <a:lnTo>
                  <a:pt x="249" y="462"/>
                </a:lnTo>
                <a:lnTo>
                  <a:pt x="242" y="469"/>
                </a:lnTo>
                <a:lnTo>
                  <a:pt x="242" y="476"/>
                </a:lnTo>
                <a:lnTo>
                  <a:pt x="235" y="476"/>
                </a:lnTo>
                <a:lnTo>
                  <a:pt x="228" y="483"/>
                </a:lnTo>
                <a:lnTo>
                  <a:pt x="221" y="483"/>
                </a:lnTo>
                <a:lnTo>
                  <a:pt x="221" y="489"/>
                </a:lnTo>
                <a:lnTo>
                  <a:pt x="214" y="496"/>
                </a:lnTo>
                <a:lnTo>
                  <a:pt x="214" y="503"/>
                </a:lnTo>
                <a:lnTo>
                  <a:pt x="214" y="510"/>
                </a:lnTo>
                <a:lnTo>
                  <a:pt x="214" y="517"/>
                </a:lnTo>
                <a:lnTo>
                  <a:pt x="214" y="524"/>
                </a:lnTo>
                <a:lnTo>
                  <a:pt x="214" y="524"/>
                </a:lnTo>
                <a:lnTo>
                  <a:pt x="214" y="531"/>
                </a:lnTo>
                <a:lnTo>
                  <a:pt x="207" y="538"/>
                </a:lnTo>
                <a:lnTo>
                  <a:pt x="200" y="538"/>
                </a:lnTo>
                <a:lnTo>
                  <a:pt x="193" y="545"/>
                </a:lnTo>
                <a:lnTo>
                  <a:pt x="193" y="551"/>
                </a:lnTo>
                <a:lnTo>
                  <a:pt x="193" y="558"/>
                </a:lnTo>
                <a:lnTo>
                  <a:pt x="193" y="565"/>
                </a:lnTo>
                <a:lnTo>
                  <a:pt x="193" y="565"/>
                </a:lnTo>
                <a:lnTo>
                  <a:pt x="193" y="572"/>
                </a:lnTo>
                <a:lnTo>
                  <a:pt x="193" y="579"/>
                </a:lnTo>
                <a:lnTo>
                  <a:pt x="187" y="586"/>
                </a:lnTo>
                <a:lnTo>
                  <a:pt x="187" y="593"/>
                </a:lnTo>
                <a:lnTo>
                  <a:pt x="180" y="600"/>
                </a:lnTo>
                <a:lnTo>
                  <a:pt x="173" y="600"/>
                </a:lnTo>
                <a:lnTo>
                  <a:pt x="173" y="593"/>
                </a:lnTo>
                <a:lnTo>
                  <a:pt x="166" y="593"/>
                </a:lnTo>
                <a:lnTo>
                  <a:pt x="159" y="586"/>
                </a:lnTo>
                <a:lnTo>
                  <a:pt x="159" y="579"/>
                </a:lnTo>
                <a:lnTo>
                  <a:pt x="152" y="572"/>
                </a:lnTo>
                <a:lnTo>
                  <a:pt x="145" y="572"/>
                </a:lnTo>
                <a:lnTo>
                  <a:pt x="138" y="565"/>
                </a:lnTo>
                <a:lnTo>
                  <a:pt x="131" y="565"/>
                </a:lnTo>
                <a:lnTo>
                  <a:pt x="124" y="565"/>
                </a:lnTo>
                <a:lnTo>
                  <a:pt x="111" y="565"/>
                </a:lnTo>
                <a:lnTo>
                  <a:pt x="104" y="565"/>
                </a:lnTo>
                <a:lnTo>
                  <a:pt x="97" y="565"/>
                </a:lnTo>
                <a:lnTo>
                  <a:pt x="90" y="565"/>
                </a:lnTo>
                <a:lnTo>
                  <a:pt x="83" y="558"/>
                </a:lnTo>
                <a:lnTo>
                  <a:pt x="83" y="558"/>
                </a:lnTo>
                <a:lnTo>
                  <a:pt x="83" y="551"/>
                </a:lnTo>
                <a:lnTo>
                  <a:pt x="83" y="545"/>
                </a:lnTo>
                <a:lnTo>
                  <a:pt x="56" y="565"/>
                </a:lnTo>
                <a:lnTo>
                  <a:pt x="28" y="565"/>
                </a:lnTo>
                <a:lnTo>
                  <a:pt x="7" y="586"/>
                </a:lnTo>
                <a:lnTo>
                  <a:pt x="7" y="586"/>
                </a:lnTo>
                <a:lnTo>
                  <a:pt x="0" y="593"/>
                </a:lnTo>
                <a:lnTo>
                  <a:pt x="0" y="593"/>
                </a:lnTo>
                <a:lnTo>
                  <a:pt x="0" y="593"/>
                </a:lnTo>
                <a:lnTo>
                  <a:pt x="0" y="593"/>
                </a:lnTo>
                <a:lnTo>
                  <a:pt x="0" y="593"/>
                </a:lnTo>
                <a:lnTo>
                  <a:pt x="0" y="593"/>
                </a:lnTo>
                <a:lnTo>
                  <a:pt x="0" y="593"/>
                </a:lnTo>
                <a:lnTo>
                  <a:pt x="0" y="620"/>
                </a:lnTo>
                <a:lnTo>
                  <a:pt x="0" y="655"/>
                </a:lnTo>
                <a:lnTo>
                  <a:pt x="0" y="669"/>
                </a:lnTo>
                <a:lnTo>
                  <a:pt x="7" y="662"/>
                </a:lnTo>
                <a:lnTo>
                  <a:pt x="7" y="662"/>
                </a:lnTo>
                <a:lnTo>
                  <a:pt x="14" y="655"/>
                </a:lnTo>
                <a:lnTo>
                  <a:pt x="21" y="648"/>
                </a:lnTo>
                <a:lnTo>
                  <a:pt x="21" y="641"/>
                </a:lnTo>
                <a:lnTo>
                  <a:pt x="28" y="634"/>
                </a:lnTo>
                <a:lnTo>
                  <a:pt x="35" y="641"/>
                </a:lnTo>
                <a:lnTo>
                  <a:pt x="42" y="641"/>
                </a:lnTo>
                <a:lnTo>
                  <a:pt x="49" y="648"/>
                </a:lnTo>
                <a:lnTo>
                  <a:pt x="49" y="655"/>
                </a:lnTo>
                <a:lnTo>
                  <a:pt x="56" y="662"/>
                </a:lnTo>
                <a:lnTo>
                  <a:pt x="56" y="669"/>
                </a:lnTo>
                <a:lnTo>
                  <a:pt x="56" y="675"/>
                </a:lnTo>
                <a:lnTo>
                  <a:pt x="56" y="675"/>
                </a:lnTo>
                <a:lnTo>
                  <a:pt x="62" y="675"/>
                </a:lnTo>
                <a:lnTo>
                  <a:pt x="69" y="675"/>
                </a:lnTo>
                <a:lnTo>
                  <a:pt x="83" y="675"/>
                </a:lnTo>
                <a:lnTo>
                  <a:pt x="90" y="669"/>
                </a:lnTo>
                <a:lnTo>
                  <a:pt x="104" y="669"/>
                </a:lnTo>
                <a:lnTo>
                  <a:pt x="111" y="669"/>
                </a:lnTo>
                <a:lnTo>
                  <a:pt x="118" y="669"/>
                </a:lnTo>
                <a:lnTo>
                  <a:pt x="124" y="675"/>
                </a:lnTo>
                <a:lnTo>
                  <a:pt x="124" y="682"/>
                </a:lnTo>
                <a:lnTo>
                  <a:pt x="124" y="689"/>
                </a:lnTo>
                <a:lnTo>
                  <a:pt x="124" y="696"/>
                </a:lnTo>
                <a:lnTo>
                  <a:pt x="124" y="696"/>
                </a:lnTo>
                <a:lnTo>
                  <a:pt x="118" y="703"/>
                </a:lnTo>
                <a:lnTo>
                  <a:pt x="111" y="703"/>
                </a:lnTo>
                <a:lnTo>
                  <a:pt x="104" y="703"/>
                </a:lnTo>
                <a:lnTo>
                  <a:pt x="97" y="703"/>
                </a:lnTo>
                <a:lnTo>
                  <a:pt x="83" y="703"/>
                </a:lnTo>
                <a:lnTo>
                  <a:pt x="69" y="710"/>
                </a:lnTo>
                <a:lnTo>
                  <a:pt x="62" y="710"/>
                </a:lnTo>
                <a:lnTo>
                  <a:pt x="62" y="710"/>
                </a:lnTo>
                <a:lnTo>
                  <a:pt x="62" y="717"/>
                </a:lnTo>
                <a:lnTo>
                  <a:pt x="76" y="717"/>
                </a:lnTo>
                <a:lnTo>
                  <a:pt x="83" y="717"/>
                </a:lnTo>
                <a:lnTo>
                  <a:pt x="97" y="717"/>
                </a:lnTo>
                <a:lnTo>
                  <a:pt x="104" y="717"/>
                </a:lnTo>
                <a:lnTo>
                  <a:pt x="111" y="717"/>
                </a:lnTo>
                <a:lnTo>
                  <a:pt x="124" y="717"/>
                </a:lnTo>
                <a:lnTo>
                  <a:pt x="131" y="724"/>
                </a:lnTo>
                <a:lnTo>
                  <a:pt x="138" y="724"/>
                </a:lnTo>
                <a:lnTo>
                  <a:pt x="145" y="731"/>
                </a:lnTo>
                <a:lnTo>
                  <a:pt x="152" y="731"/>
                </a:lnTo>
                <a:lnTo>
                  <a:pt x="159" y="724"/>
                </a:lnTo>
                <a:lnTo>
                  <a:pt x="166" y="717"/>
                </a:lnTo>
                <a:lnTo>
                  <a:pt x="173" y="710"/>
                </a:lnTo>
                <a:lnTo>
                  <a:pt x="173" y="710"/>
                </a:lnTo>
                <a:lnTo>
                  <a:pt x="180" y="703"/>
                </a:lnTo>
                <a:lnTo>
                  <a:pt x="180" y="696"/>
                </a:lnTo>
                <a:lnTo>
                  <a:pt x="180" y="689"/>
                </a:lnTo>
                <a:lnTo>
                  <a:pt x="180" y="682"/>
                </a:lnTo>
                <a:lnTo>
                  <a:pt x="187" y="682"/>
                </a:lnTo>
                <a:lnTo>
                  <a:pt x="193" y="675"/>
                </a:lnTo>
                <a:lnTo>
                  <a:pt x="200" y="675"/>
                </a:lnTo>
                <a:lnTo>
                  <a:pt x="207" y="675"/>
                </a:lnTo>
                <a:lnTo>
                  <a:pt x="221" y="675"/>
                </a:lnTo>
                <a:lnTo>
                  <a:pt x="228" y="682"/>
                </a:lnTo>
                <a:lnTo>
                  <a:pt x="235" y="682"/>
                </a:lnTo>
                <a:lnTo>
                  <a:pt x="249" y="682"/>
                </a:lnTo>
                <a:lnTo>
                  <a:pt x="255" y="675"/>
                </a:lnTo>
                <a:lnTo>
                  <a:pt x="262" y="675"/>
                </a:lnTo>
                <a:lnTo>
                  <a:pt x="269" y="682"/>
                </a:lnTo>
                <a:lnTo>
                  <a:pt x="269" y="689"/>
                </a:lnTo>
                <a:lnTo>
                  <a:pt x="269" y="696"/>
                </a:lnTo>
                <a:lnTo>
                  <a:pt x="269" y="703"/>
                </a:lnTo>
                <a:lnTo>
                  <a:pt x="269" y="710"/>
                </a:lnTo>
                <a:lnTo>
                  <a:pt x="269" y="710"/>
                </a:lnTo>
                <a:lnTo>
                  <a:pt x="269" y="717"/>
                </a:lnTo>
                <a:lnTo>
                  <a:pt x="269" y="724"/>
                </a:lnTo>
                <a:lnTo>
                  <a:pt x="262" y="731"/>
                </a:lnTo>
                <a:lnTo>
                  <a:pt x="262" y="737"/>
                </a:lnTo>
                <a:lnTo>
                  <a:pt x="262" y="744"/>
                </a:lnTo>
                <a:lnTo>
                  <a:pt x="262" y="744"/>
                </a:lnTo>
                <a:lnTo>
                  <a:pt x="269" y="751"/>
                </a:lnTo>
                <a:lnTo>
                  <a:pt x="276" y="758"/>
                </a:lnTo>
                <a:lnTo>
                  <a:pt x="283" y="758"/>
                </a:lnTo>
                <a:lnTo>
                  <a:pt x="290" y="758"/>
                </a:lnTo>
                <a:lnTo>
                  <a:pt x="304" y="765"/>
                </a:lnTo>
                <a:lnTo>
                  <a:pt x="311" y="765"/>
                </a:lnTo>
                <a:lnTo>
                  <a:pt x="318" y="765"/>
                </a:lnTo>
                <a:lnTo>
                  <a:pt x="324" y="765"/>
                </a:lnTo>
                <a:lnTo>
                  <a:pt x="338" y="765"/>
                </a:lnTo>
                <a:lnTo>
                  <a:pt x="345" y="765"/>
                </a:lnTo>
                <a:lnTo>
                  <a:pt x="352" y="758"/>
                </a:lnTo>
                <a:lnTo>
                  <a:pt x="359" y="758"/>
                </a:lnTo>
                <a:lnTo>
                  <a:pt x="366" y="751"/>
                </a:lnTo>
                <a:lnTo>
                  <a:pt x="380" y="751"/>
                </a:lnTo>
                <a:lnTo>
                  <a:pt x="386" y="751"/>
                </a:lnTo>
                <a:lnTo>
                  <a:pt x="386" y="751"/>
                </a:lnTo>
                <a:lnTo>
                  <a:pt x="393" y="758"/>
                </a:lnTo>
                <a:lnTo>
                  <a:pt x="400" y="765"/>
                </a:lnTo>
                <a:lnTo>
                  <a:pt x="407" y="765"/>
                </a:lnTo>
                <a:lnTo>
                  <a:pt x="414" y="772"/>
                </a:lnTo>
                <a:close/>
                <a:moveTo>
                  <a:pt x="1517" y="744"/>
                </a:moveTo>
                <a:lnTo>
                  <a:pt x="1531" y="737"/>
                </a:lnTo>
                <a:lnTo>
                  <a:pt x="1538" y="737"/>
                </a:lnTo>
                <a:lnTo>
                  <a:pt x="1545" y="737"/>
                </a:lnTo>
                <a:lnTo>
                  <a:pt x="1559" y="737"/>
                </a:lnTo>
                <a:lnTo>
                  <a:pt x="1566" y="737"/>
                </a:lnTo>
                <a:lnTo>
                  <a:pt x="1579" y="737"/>
                </a:lnTo>
                <a:lnTo>
                  <a:pt x="1586" y="737"/>
                </a:lnTo>
                <a:lnTo>
                  <a:pt x="1593" y="737"/>
                </a:lnTo>
                <a:lnTo>
                  <a:pt x="1600" y="731"/>
                </a:lnTo>
                <a:lnTo>
                  <a:pt x="1600" y="724"/>
                </a:lnTo>
                <a:lnTo>
                  <a:pt x="1600" y="717"/>
                </a:lnTo>
                <a:lnTo>
                  <a:pt x="1600" y="710"/>
                </a:lnTo>
                <a:lnTo>
                  <a:pt x="1607" y="703"/>
                </a:lnTo>
                <a:lnTo>
                  <a:pt x="1607" y="696"/>
                </a:lnTo>
                <a:lnTo>
                  <a:pt x="1607" y="689"/>
                </a:lnTo>
                <a:lnTo>
                  <a:pt x="1607" y="682"/>
                </a:lnTo>
                <a:lnTo>
                  <a:pt x="1607" y="675"/>
                </a:lnTo>
                <a:lnTo>
                  <a:pt x="1607" y="669"/>
                </a:lnTo>
                <a:lnTo>
                  <a:pt x="1614" y="662"/>
                </a:lnTo>
                <a:lnTo>
                  <a:pt x="1614" y="655"/>
                </a:lnTo>
                <a:lnTo>
                  <a:pt x="1614" y="655"/>
                </a:lnTo>
                <a:lnTo>
                  <a:pt x="1614" y="648"/>
                </a:lnTo>
                <a:lnTo>
                  <a:pt x="1621" y="641"/>
                </a:lnTo>
                <a:lnTo>
                  <a:pt x="1621" y="634"/>
                </a:lnTo>
                <a:lnTo>
                  <a:pt x="1628" y="627"/>
                </a:lnTo>
                <a:lnTo>
                  <a:pt x="1634" y="620"/>
                </a:lnTo>
                <a:lnTo>
                  <a:pt x="1634" y="613"/>
                </a:lnTo>
                <a:lnTo>
                  <a:pt x="1641" y="607"/>
                </a:lnTo>
                <a:lnTo>
                  <a:pt x="1641" y="607"/>
                </a:lnTo>
                <a:lnTo>
                  <a:pt x="1641" y="600"/>
                </a:lnTo>
                <a:lnTo>
                  <a:pt x="1648" y="593"/>
                </a:lnTo>
                <a:lnTo>
                  <a:pt x="1648" y="586"/>
                </a:lnTo>
                <a:lnTo>
                  <a:pt x="1655" y="579"/>
                </a:lnTo>
                <a:lnTo>
                  <a:pt x="1655" y="572"/>
                </a:lnTo>
                <a:lnTo>
                  <a:pt x="1662" y="565"/>
                </a:lnTo>
                <a:lnTo>
                  <a:pt x="1662" y="558"/>
                </a:lnTo>
                <a:lnTo>
                  <a:pt x="1669" y="551"/>
                </a:lnTo>
                <a:lnTo>
                  <a:pt x="1669" y="551"/>
                </a:lnTo>
                <a:lnTo>
                  <a:pt x="1669" y="545"/>
                </a:lnTo>
                <a:lnTo>
                  <a:pt x="1669" y="538"/>
                </a:lnTo>
                <a:lnTo>
                  <a:pt x="1669" y="531"/>
                </a:lnTo>
                <a:lnTo>
                  <a:pt x="1662" y="524"/>
                </a:lnTo>
                <a:lnTo>
                  <a:pt x="1655" y="517"/>
                </a:lnTo>
                <a:lnTo>
                  <a:pt x="1648" y="524"/>
                </a:lnTo>
                <a:lnTo>
                  <a:pt x="1634" y="524"/>
                </a:lnTo>
                <a:lnTo>
                  <a:pt x="1628" y="524"/>
                </a:lnTo>
                <a:lnTo>
                  <a:pt x="1621" y="531"/>
                </a:lnTo>
                <a:lnTo>
                  <a:pt x="1614" y="538"/>
                </a:lnTo>
                <a:lnTo>
                  <a:pt x="1607" y="538"/>
                </a:lnTo>
                <a:lnTo>
                  <a:pt x="1600" y="545"/>
                </a:lnTo>
                <a:lnTo>
                  <a:pt x="1593" y="551"/>
                </a:lnTo>
                <a:lnTo>
                  <a:pt x="1586" y="551"/>
                </a:lnTo>
                <a:lnTo>
                  <a:pt x="1579" y="558"/>
                </a:lnTo>
                <a:lnTo>
                  <a:pt x="1572" y="565"/>
                </a:lnTo>
                <a:lnTo>
                  <a:pt x="1572" y="572"/>
                </a:lnTo>
                <a:lnTo>
                  <a:pt x="1566" y="579"/>
                </a:lnTo>
                <a:lnTo>
                  <a:pt x="1566" y="586"/>
                </a:lnTo>
                <a:lnTo>
                  <a:pt x="1559" y="593"/>
                </a:lnTo>
                <a:lnTo>
                  <a:pt x="1559" y="593"/>
                </a:lnTo>
                <a:lnTo>
                  <a:pt x="1559" y="607"/>
                </a:lnTo>
                <a:lnTo>
                  <a:pt x="1552" y="607"/>
                </a:lnTo>
                <a:lnTo>
                  <a:pt x="1545" y="613"/>
                </a:lnTo>
                <a:lnTo>
                  <a:pt x="1538" y="620"/>
                </a:lnTo>
                <a:lnTo>
                  <a:pt x="1531" y="620"/>
                </a:lnTo>
                <a:lnTo>
                  <a:pt x="1517" y="620"/>
                </a:lnTo>
                <a:lnTo>
                  <a:pt x="1510" y="620"/>
                </a:lnTo>
                <a:lnTo>
                  <a:pt x="1503" y="627"/>
                </a:lnTo>
                <a:lnTo>
                  <a:pt x="1497" y="627"/>
                </a:lnTo>
                <a:lnTo>
                  <a:pt x="1497" y="634"/>
                </a:lnTo>
                <a:lnTo>
                  <a:pt x="1497" y="641"/>
                </a:lnTo>
                <a:lnTo>
                  <a:pt x="1490" y="648"/>
                </a:lnTo>
                <a:lnTo>
                  <a:pt x="1490" y="655"/>
                </a:lnTo>
                <a:lnTo>
                  <a:pt x="1490" y="662"/>
                </a:lnTo>
                <a:lnTo>
                  <a:pt x="1490" y="669"/>
                </a:lnTo>
                <a:lnTo>
                  <a:pt x="1490" y="675"/>
                </a:lnTo>
                <a:lnTo>
                  <a:pt x="1490" y="682"/>
                </a:lnTo>
                <a:lnTo>
                  <a:pt x="1490" y="689"/>
                </a:lnTo>
                <a:lnTo>
                  <a:pt x="1490" y="696"/>
                </a:lnTo>
                <a:lnTo>
                  <a:pt x="1490" y="703"/>
                </a:lnTo>
                <a:lnTo>
                  <a:pt x="1490" y="710"/>
                </a:lnTo>
                <a:lnTo>
                  <a:pt x="1490" y="710"/>
                </a:lnTo>
                <a:lnTo>
                  <a:pt x="1483" y="717"/>
                </a:lnTo>
                <a:lnTo>
                  <a:pt x="1483" y="724"/>
                </a:lnTo>
                <a:lnTo>
                  <a:pt x="1476" y="731"/>
                </a:lnTo>
                <a:lnTo>
                  <a:pt x="1476" y="737"/>
                </a:lnTo>
                <a:lnTo>
                  <a:pt x="1476" y="744"/>
                </a:lnTo>
                <a:lnTo>
                  <a:pt x="1476" y="751"/>
                </a:lnTo>
                <a:lnTo>
                  <a:pt x="1483" y="751"/>
                </a:lnTo>
                <a:lnTo>
                  <a:pt x="1490" y="751"/>
                </a:lnTo>
                <a:lnTo>
                  <a:pt x="1503" y="744"/>
                </a:lnTo>
                <a:lnTo>
                  <a:pt x="1510" y="744"/>
                </a:lnTo>
                <a:lnTo>
                  <a:pt x="1517" y="744"/>
                </a:lnTo>
                <a:close/>
                <a:moveTo>
                  <a:pt x="1179" y="655"/>
                </a:moveTo>
                <a:lnTo>
                  <a:pt x="1179" y="648"/>
                </a:lnTo>
                <a:lnTo>
                  <a:pt x="1179" y="648"/>
                </a:lnTo>
                <a:lnTo>
                  <a:pt x="1179" y="641"/>
                </a:lnTo>
                <a:lnTo>
                  <a:pt x="1179" y="634"/>
                </a:lnTo>
                <a:lnTo>
                  <a:pt x="1179" y="634"/>
                </a:lnTo>
                <a:lnTo>
                  <a:pt x="1179" y="627"/>
                </a:lnTo>
                <a:lnTo>
                  <a:pt x="1179" y="620"/>
                </a:lnTo>
                <a:lnTo>
                  <a:pt x="1179" y="620"/>
                </a:lnTo>
                <a:lnTo>
                  <a:pt x="1179" y="620"/>
                </a:lnTo>
                <a:lnTo>
                  <a:pt x="1179" y="627"/>
                </a:lnTo>
                <a:lnTo>
                  <a:pt x="1179" y="634"/>
                </a:lnTo>
                <a:lnTo>
                  <a:pt x="1179" y="634"/>
                </a:lnTo>
                <a:lnTo>
                  <a:pt x="1179" y="641"/>
                </a:lnTo>
                <a:lnTo>
                  <a:pt x="1179" y="641"/>
                </a:lnTo>
                <a:lnTo>
                  <a:pt x="1179" y="648"/>
                </a:lnTo>
                <a:lnTo>
                  <a:pt x="1179" y="655"/>
                </a:lnTo>
                <a:lnTo>
                  <a:pt x="1179" y="655"/>
                </a:lnTo>
                <a:lnTo>
                  <a:pt x="1179" y="662"/>
                </a:lnTo>
                <a:lnTo>
                  <a:pt x="1179" y="662"/>
                </a:lnTo>
                <a:lnTo>
                  <a:pt x="1179" y="655"/>
                </a:lnTo>
                <a:close/>
                <a:moveTo>
                  <a:pt x="1214" y="593"/>
                </a:moveTo>
                <a:lnTo>
                  <a:pt x="1214" y="586"/>
                </a:lnTo>
                <a:lnTo>
                  <a:pt x="1214" y="579"/>
                </a:lnTo>
                <a:lnTo>
                  <a:pt x="1214" y="572"/>
                </a:lnTo>
                <a:lnTo>
                  <a:pt x="1214" y="572"/>
                </a:lnTo>
                <a:lnTo>
                  <a:pt x="1207" y="572"/>
                </a:lnTo>
                <a:lnTo>
                  <a:pt x="1200" y="572"/>
                </a:lnTo>
                <a:lnTo>
                  <a:pt x="1193" y="579"/>
                </a:lnTo>
                <a:lnTo>
                  <a:pt x="1186" y="586"/>
                </a:lnTo>
                <a:lnTo>
                  <a:pt x="1186" y="593"/>
                </a:lnTo>
                <a:lnTo>
                  <a:pt x="1193" y="600"/>
                </a:lnTo>
                <a:lnTo>
                  <a:pt x="1200" y="600"/>
                </a:lnTo>
                <a:lnTo>
                  <a:pt x="1207" y="600"/>
                </a:lnTo>
                <a:lnTo>
                  <a:pt x="1214" y="600"/>
                </a:lnTo>
                <a:lnTo>
                  <a:pt x="1214" y="593"/>
                </a:lnTo>
                <a:close/>
                <a:moveTo>
                  <a:pt x="738" y="531"/>
                </a:moveTo>
                <a:lnTo>
                  <a:pt x="738" y="531"/>
                </a:lnTo>
                <a:lnTo>
                  <a:pt x="738" y="531"/>
                </a:lnTo>
                <a:lnTo>
                  <a:pt x="738" y="531"/>
                </a:lnTo>
                <a:lnTo>
                  <a:pt x="738" y="531"/>
                </a:lnTo>
                <a:lnTo>
                  <a:pt x="738" y="531"/>
                </a:lnTo>
                <a:lnTo>
                  <a:pt x="731" y="531"/>
                </a:lnTo>
                <a:lnTo>
                  <a:pt x="731" y="531"/>
                </a:lnTo>
                <a:lnTo>
                  <a:pt x="731" y="531"/>
                </a:lnTo>
                <a:lnTo>
                  <a:pt x="731" y="538"/>
                </a:lnTo>
                <a:lnTo>
                  <a:pt x="738" y="538"/>
                </a:lnTo>
                <a:lnTo>
                  <a:pt x="738" y="538"/>
                </a:lnTo>
                <a:lnTo>
                  <a:pt x="738" y="538"/>
                </a:lnTo>
                <a:lnTo>
                  <a:pt x="738" y="538"/>
                </a:lnTo>
                <a:lnTo>
                  <a:pt x="738" y="531"/>
                </a:lnTo>
                <a:close/>
                <a:moveTo>
                  <a:pt x="973" y="531"/>
                </a:moveTo>
                <a:lnTo>
                  <a:pt x="973" y="531"/>
                </a:lnTo>
                <a:lnTo>
                  <a:pt x="973" y="524"/>
                </a:lnTo>
                <a:lnTo>
                  <a:pt x="966" y="517"/>
                </a:lnTo>
                <a:lnTo>
                  <a:pt x="959" y="517"/>
                </a:lnTo>
                <a:lnTo>
                  <a:pt x="952" y="510"/>
                </a:lnTo>
                <a:lnTo>
                  <a:pt x="952" y="510"/>
                </a:lnTo>
                <a:lnTo>
                  <a:pt x="945" y="510"/>
                </a:lnTo>
                <a:lnTo>
                  <a:pt x="945" y="510"/>
                </a:lnTo>
                <a:lnTo>
                  <a:pt x="938" y="517"/>
                </a:lnTo>
                <a:lnTo>
                  <a:pt x="938" y="517"/>
                </a:lnTo>
                <a:lnTo>
                  <a:pt x="938" y="524"/>
                </a:lnTo>
                <a:lnTo>
                  <a:pt x="945" y="531"/>
                </a:lnTo>
                <a:lnTo>
                  <a:pt x="945" y="538"/>
                </a:lnTo>
                <a:lnTo>
                  <a:pt x="945" y="538"/>
                </a:lnTo>
                <a:lnTo>
                  <a:pt x="945" y="545"/>
                </a:lnTo>
                <a:lnTo>
                  <a:pt x="952" y="545"/>
                </a:lnTo>
                <a:lnTo>
                  <a:pt x="966" y="545"/>
                </a:lnTo>
                <a:lnTo>
                  <a:pt x="973" y="545"/>
                </a:lnTo>
                <a:lnTo>
                  <a:pt x="973" y="538"/>
                </a:lnTo>
                <a:lnTo>
                  <a:pt x="973" y="531"/>
                </a:lnTo>
                <a:close/>
                <a:moveTo>
                  <a:pt x="1241" y="531"/>
                </a:moveTo>
                <a:lnTo>
                  <a:pt x="1241" y="531"/>
                </a:lnTo>
                <a:lnTo>
                  <a:pt x="1241" y="531"/>
                </a:lnTo>
                <a:lnTo>
                  <a:pt x="1241" y="531"/>
                </a:lnTo>
                <a:lnTo>
                  <a:pt x="1241" y="531"/>
                </a:lnTo>
                <a:lnTo>
                  <a:pt x="1241" y="531"/>
                </a:lnTo>
                <a:lnTo>
                  <a:pt x="1241" y="531"/>
                </a:lnTo>
                <a:lnTo>
                  <a:pt x="1241" y="531"/>
                </a:lnTo>
                <a:lnTo>
                  <a:pt x="1241" y="531"/>
                </a:lnTo>
                <a:lnTo>
                  <a:pt x="1241" y="531"/>
                </a:lnTo>
                <a:lnTo>
                  <a:pt x="1241" y="531"/>
                </a:lnTo>
                <a:lnTo>
                  <a:pt x="1241" y="531"/>
                </a:lnTo>
                <a:lnTo>
                  <a:pt x="1241" y="531"/>
                </a:lnTo>
                <a:lnTo>
                  <a:pt x="1241" y="531"/>
                </a:lnTo>
                <a:lnTo>
                  <a:pt x="1241" y="531"/>
                </a:lnTo>
                <a:close/>
                <a:moveTo>
                  <a:pt x="166" y="476"/>
                </a:moveTo>
                <a:lnTo>
                  <a:pt x="145" y="476"/>
                </a:lnTo>
                <a:lnTo>
                  <a:pt x="131" y="489"/>
                </a:lnTo>
                <a:lnTo>
                  <a:pt x="138" y="489"/>
                </a:lnTo>
                <a:lnTo>
                  <a:pt x="145" y="489"/>
                </a:lnTo>
                <a:lnTo>
                  <a:pt x="145" y="489"/>
                </a:lnTo>
                <a:lnTo>
                  <a:pt x="152" y="489"/>
                </a:lnTo>
                <a:lnTo>
                  <a:pt x="159" y="489"/>
                </a:lnTo>
                <a:lnTo>
                  <a:pt x="159" y="483"/>
                </a:lnTo>
                <a:lnTo>
                  <a:pt x="159" y="483"/>
                </a:lnTo>
                <a:lnTo>
                  <a:pt x="166" y="476"/>
                </a:lnTo>
                <a:close/>
                <a:moveTo>
                  <a:pt x="952" y="476"/>
                </a:moveTo>
                <a:lnTo>
                  <a:pt x="945" y="469"/>
                </a:lnTo>
                <a:lnTo>
                  <a:pt x="945" y="462"/>
                </a:lnTo>
                <a:lnTo>
                  <a:pt x="938" y="455"/>
                </a:lnTo>
                <a:lnTo>
                  <a:pt x="938" y="455"/>
                </a:lnTo>
                <a:lnTo>
                  <a:pt x="931" y="448"/>
                </a:lnTo>
                <a:lnTo>
                  <a:pt x="931" y="441"/>
                </a:lnTo>
                <a:lnTo>
                  <a:pt x="931" y="434"/>
                </a:lnTo>
                <a:lnTo>
                  <a:pt x="938" y="427"/>
                </a:lnTo>
                <a:lnTo>
                  <a:pt x="938" y="421"/>
                </a:lnTo>
                <a:lnTo>
                  <a:pt x="938" y="414"/>
                </a:lnTo>
                <a:lnTo>
                  <a:pt x="931" y="414"/>
                </a:lnTo>
                <a:lnTo>
                  <a:pt x="924" y="407"/>
                </a:lnTo>
                <a:lnTo>
                  <a:pt x="917" y="407"/>
                </a:lnTo>
                <a:lnTo>
                  <a:pt x="904" y="407"/>
                </a:lnTo>
                <a:lnTo>
                  <a:pt x="897" y="407"/>
                </a:lnTo>
                <a:lnTo>
                  <a:pt x="890" y="414"/>
                </a:lnTo>
                <a:lnTo>
                  <a:pt x="883" y="414"/>
                </a:lnTo>
                <a:lnTo>
                  <a:pt x="876" y="421"/>
                </a:lnTo>
                <a:lnTo>
                  <a:pt x="869" y="427"/>
                </a:lnTo>
                <a:lnTo>
                  <a:pt x="869" y="434"/>
                </a:lnTo>
                <a:lnTo>
                  <a:pt x="862" y="434"/>
                </a:lnTo>
                <a:lnTo>
                  <a:pt x="855" y="441"/>
                </a:lnTo>
                <a:lnTo>
                  <a:pt x="848" y="448"/>
                </a:lnTo>
                <a:lnTo>
                  <a:pt x="848" y="448"/>
                </a:lnTo>
                <a:lnTo>
                  <a:pt x="842" y="455"/>
                </a:lnTo>
                <a:lnTo>
                  <a:pt x="842" y="462"/>
                </a:lnTo>
                <a:lnTo>
                  <a:pt x="835" y="469"/>
                </a:lnTo>
                <a:lnTo>
                  <a:pt x="828" y="476"/>
                </a:lnTo>
                <a:lnTo>
                  <a:pt x="828" y="476"/>
                </a:lnTo>
                <a:lnTo>
                  <a:pt x="835" y="483"/>
                </a:lnTo>
                <a:lnTo>
                  <a:pt x="842" y="489"/>
                </a:lnTo>
                <a:lnTo>
                  <a:pt x="848" y="489"/>
                </a:lnTo>
                <a:lnTo>
                  <a:pt x="855" y="496"/>
                </a:lnTo>
                <a:lnTo>
                  <a:pt x="862" y="496"/>
                </a:lnTo>
                <a:lnTo>
                  <a:pt x="869" y="489"/>
                </a:lnTo>
                <a:lnTo>
                  <a:pt x="876" y="489"/>
                </a:lnTo>
                <a:lnTo>
                  <a:pt x="890" y="483"/>
                </a:lnTo>
                <a:lnTo>
                  <a:pt x="897" y="483"/>
                </a:lnTo>
                <a:lnTo>
                  <a:pt x="904" y="476"/>
                </a:lnTo>
                <a:lnTo>
                  <a:pt x="910" y="476"/>
                </a:lnTo>
                <a:lnTo>
                  <a:pt x="924" y="483"/>
                </a:lnTo>
                <a:lnTo>
                  <a:pt x="931" y="483"/>
                </a:lnTo>
                <a:lnTo>
                  <a:pt x="931" y="489"/>
                </a:lnTo>
                <a:lnTo>
                  <a:pt x="938" y="496"/>
                </a:lnTo>
                <a:lnTo>
                  <a:pt x="945" y="503"/>
                </a:lnTo>
                <a:lnTo>
                  <a:pt x="945" y="503"/>
                </a:lnTo>
                <a:lnTo>
                  <a:pt x="945" y="496"/>
                </a:lnTo>
                <a:lnTo>
                  <a:pt x="945" y="496"/>
                </a:lnTo>
                <a:lnTo>
                  <a:pt x="952" y="483"/>
                </a:lnTo>
                <a:lnTo>
                  <a:pt x="952" y="476"/>
                </a:lnTo>
                <a:close/>
                <a:moveTo>
                  <a:pt x="180" y="448"/>
                </a:moveTo>
                <a:lnTo>
                  <a:pt x="180" y="448"/>
                </a:lnTo>
                <a:lnTo>
                  <a:pt x="180" y="462"/>
                </a:lnTo>
                <a:lnTo>
                  <a:pt x="180" y="448"/>
                </a:lnTo>
                <a:close/>
                <a:moveTo>
                  <a:pt x="2276" y="448"/>
                </a:moveTo>
                <a:lnTo>
                  <a:pt x="2276" y="441"/>
                </a:lnTo>
                <a:lnTo>
                  <a:pt x="2269" y="441"/>
                </a:lnTo>
                <a:lnTo>
                  <a:pt x="2262" y="441"/>
                </a:lnTo>
                <a:lnTo>
                  <a:pt x="2262" y="448"/>
                </a:lnTo>
                <a:lnTo>
                  <a:pt x="2262" y="448"/>
                </a:lnTo>
                <a:lnTo>
                  <a:pt x="2262" y="455"/>
                </a:lnTo>
                <a:lnTo>
                  <a:pt x="2262" y="462"/>
                </a:lnTo>
                <a:lnTo>
                  <a:pt x="2269" y="462"/>
                </a:lnTo>
                <a:lnTo>
                  <a:pt x="2276" y="462"/>
                </a:lnTo>
                <a:lnTo>
                  <a:pt x="2276" y="462"/>
                </a:lnTo>
                <a:lnTo>
                  <a:pt x="2276" y="462"/>
                </a:lnTo>
                <a:lnTo>
                  <a:pt x="2276" y="455"/>
                </a:lnTo>
                <a:lnTo>
                  <a:pt x="2276" y="455"/>
                </a:lnTo>
                <a:lnTo>
                  <a:pt x="2276" y="448"/>
                </a:lnTo>
                <a:close/>
                <a:moveTo>
                  <a:pt x="207" y="414"/>
                </a:moveTo>
                <a:lnTo>
                  <a:pt x="207" y="414"/>
                </a:lnTo>
                <a:lnTo>
                  <a:pt x="207" y="421"/>
                </a:lnTo>
                <a:lnTo>
                  <a:pt x="207" y="414"/>
                </a:lnTo>
                <a:close/>
                <a:moveTo>
                  <a:pt x="249" y="386"/>
                </a:moveTo>
                <a:lnTo>
                  <a:pt x="235" y="386"/>
                </a:lnTo>
                <a:lnTo>
                  <a:pt x="235" y="393"/>
                </a:lnTo>
                <a:lnTo>
                  <a:pt x="249" y="386"/>
                </a:lnTo>
                <a:close/>
                <a:moveTo>
                  <a:pt x="290" y="359"/>
                </a:moveTo>
                <a:lnTo>
                  <a:pt x="262" y="359"/>
                </a:lnTo>
                <a:lnTo>
                  <a:pt x="262" y="372"/>
                </a:lnTo>
                <a:lnTo>
                  <a:pt x="290" y="359"/>
                </a:lnTo>
                <a:close/>
                <a:moveTo>
                  <a:pt x="345" y="324"/>
                </a:moveTo>
                <a:lnTo>
                  <a:pt x="324" y="324"/>
                </a:lnTo>
                <a:lnTo>
                  <a:pt x="297" y="352"/>
                </a:lnTo>
                <a:lnTo>
                  <a:pt x="304" y="352"/>
                </a:lnTo>
                <a:lnTo>
                  <a:pt x="311" y="352"/>
                </a:lnTo>
                <a:lnTo>
                  <a:pt x="324" y="345"/>
                </a:lnTo>
                <a:lnTo>
                  <a:pt x="324" y="345"/>
                </a:lnTo>
                <a:lnTo>
                  <a:pt x="331" y="338"/>
                </a:lnTo>
                <a:lnTo>
                  <a:pt x="338" y="338"/>
                </a:lnTo>
                <a:lnTo>
                  <a:pt x="345" y="331"/>
                </a:lnTo>
                <a:lnTo>
                  <a:pt x="345" y="324"/>
                </a:lnTo>
                <a:close/>
                <a:moveTo>
                  <a:pt x="380" y="297"/>
                </a:moveTo>
                <a:lnTo>
                  <a:pt x="352" y="297"/>
                </a:lnTo>
                <a:lnTo>
                  <a:pt x="352" y="324"/>
                </a:lnTo>
                <a:lnTo>
                  <a:pt x="380" y="297"/>
                </a:lnTo>
                <a:close/>
                <a:moveTo>
                  <a:pt x="2483" y="1840"/>
                </a:moveTo>
                <a:lnTo>
                  <a:pt x="2510" y="1812"/>
                </a:lnTo>
                <a:lnTo>
                  <a:pt x="2538" y="1812"/>
                </a:lnTo>
                <a:lnTo>
                  <a:pt x="2565" y="1812"/>
                </a:lnTo>
                <a:lnTo>
                  <a:pt x="2600" y="1812"/>
                </a:lnTo>
                <a:lnTo>
                  <a:pt x="2627" y="1812"/>
                </a:lnTo>
                <a:lnTo>
                  <a:pt x="2655" y="1812"/>
                </a:lnTo>
                <a:lnTo>
                  <a:pt x="2689" y="1812"/>
                </a:lnTo>
                <a:lnTo>
                  <a:pt x="2717" y="1778"/>
                </a:lnTo>
                <a:lnTo>
                  <a:pt x="2717" y="1750"/>
                </a:lnTo>
                <a:lnTo>
                  <a:pt x="2717" y="1722"/>
                </a:lnTo>
                <a:lnTo>
                  <a:pt x="2717" y="1688"/>
                </a:lnTo>
                <a:lnTo>
                  <a:pt x="2745" y="1660"/>
                </a:lnTo>
                <a:lnTo>
                  <a:pt x="2745" y="1633"/>
                </a:lnTo>
                <a:lnTo>
                  <a:pt x="2745" y="1599"/>
                </a:lnTo>
                <a:lnTo>
                  <a:pt x="2745" y="1571"/>
                </a:lnTo>
                <a:lnTo>
                  <a:pt x="2772" y="1543"/>
                </a:lnTo>
                <a:lnTo>
                  <a:pt x="2772" y="1516"/>
                </a:lnTo>
                <a:lnTo>
                  <a:pt x="2772" y="1481"/>
                </a:lnTo>
                <a:lnTo>
                  <a:pt x="2772" y="1454"/>
                </a:lnTo>
                <a:lnTo>
                  <a:pt x="2807" y="1426"/>
                </a:lnTo>
                <a:lnTo>
                  <a:pt x="2807" y="1392"/>
                </a:lnTo>
                <a:lnTo>
                  <a:pt x="2807" y="1364"/>
                </a:lnTo>
                <a:lnTo>
                  <a:pt x="2807" y="1337"/>
                </a:lnTo>
                <a:lnTo>
                  <a:pt x="2834" y="1302"/>
                </a:lnTo>
                <a:lnTo>
                  <a:pt x="2834" y="1275"/>
                </a:lnTo>
                <a:lnTo>
                  <a:pt x="2834" y="1247"/>
                </a:lnTo>
                <a:lnTo>
                  <a:pt x="2834" y="1213"/>
                </a:lnTo>
                <a:lnTo>
                  <a:pt x="2862" y="1185"/>
                </a:lnTo>
                <a:lnTo>
                  <a:pt x="2862" y="1158"/>
                </a:lnTo>
                <a:lnTo>
                  <a:pt x="2862" y="1130"/>
                </a:lnTo>
                <a:lnTo>
                  <a:pt x="2862" y="1096"/>
                </a:lnTo>
                <a:lnTo>
                  <a:pt x="2862" y="1068"/>
                </a:lnTo>
                <a:lnTo>
                  <a:pt x="2862" y="1041"/>
                </a:lnTo>
                <a:lnTo>
                  <a:pt x="2862" y="1006"/>
                </a:lnTo>
                <a:lnTo>
                  <a:pt x="2862" y="979"/>
                </a:lnTo>
                <a:lnTo>
                  <a:pt x="2862" y="951"/>
                </a:lnTo>
                <a:lnTo>
                  <a:pt x="2862" y="917"/>
                </a:lnTo>
                <a:lnTo>
                  <a:pt x="2862" y="889"/>
                </a:lnTo>
                <a:lnTo>
                  <a:pt x="2862" y="861"/>
                </a:lnTo>
                <a:lnTo>
                  <a:pt x="2862" y="827"/>
                </a:lnTo>
                <a:lnTo>
                  <a:pt x="2862" y="799"/>
                </a:lnTo>
                <a:lnTo>
                  <a:pt x="2862" y="772"/>
                </a:lnTo>
                <a:lnTo>
                  <a:pt x="2862" y="744"/>
                </a:lnTo>
                <a:lnTo>
                  <a:pt x="2862" y="710"/>
                </a:lnTo>
                <a:lnTo>
                  <a:pt x="2862" y="682"/>
                </a:lnTo>
                <a:lnTo>
                  <a:pt x="2862" y="655"/>
                </a:lnTo>
                <a:lnTo>
                  <a:pt x="2862" y="620"/>
                </a:lnTo>
                <a:lnTo>
                  <a:pt x="2862" y="593"/>
                </a:lnTo>
                <a:lnTo>
                  <a:pt x="2862" y="565"/>
                </a:lnTo>
                <a:lnTo>
                  <a:pt x="2862" y="531"/>
                </a:lnTo>
                <a:lnTo>
                  <a:pt x="2862" y="503"/>
                </a:lnTo>
                <a:lnTo>
                  <a:pt x="2862" y="476"/>
                </a:lnTo>
                <a:lnTo>
                  <a:pt x="2862" y="448"/>
                </a:lnTo>
                <a:lnTo>
                  <a:pt x="2862" y="414"/>
                </a:lnTo>
                <a:lnTo>
                  <a:pt x="2862" y="386"/>
                </a:lnTo>
                <a:lnTo>
                  <a:pt x="2862" y="359"/>
                </a:lnTo>
                <a:lnTo>
                  <a:pt x="2862" y="324"/>
                </a:lnTo>
                <a:lnTo>
                  <a:pt x="2862" y="297"/>
                </a:lnTo>
                <a:lnTo>
                  <a:pt x="2862" y="269"/>
                </a:lnTo>
                <a:lnTo>
                  <a:pt x="2834" y="235"/>
                </a:lnTo>
                <a:lnTo>
                  <a:pt x="2834" y="207"/>
                </a:lnTo>
                <a:lnTo>
                  <a:pt x="2834" y="179"/>
                </a:lnTo>
                <a:lnTo>
                  <a:pt x="2834" y="145"/>
                </a:lnTo>
                <a:lnTo>
                  <a:pt x="2834" y="117"/>
                </a:lnTo>
                <a:lnTo>
                  <a:pt x="2807" y="90"/>
                </a:lnTo>
                <a:lnTo>
                  <a:pt x="2772" y="90"/>
                </a:lnTo>
                <a:lnTo>
                  <a:pt x="2745" y="90"/>
                </a:lnTo>
                <a:lnTo>
                  <a:pt x="2717" y="62"/>
                </a:lnTo>
                <a:lnTo>
                  <a:pt x="2689" y="62"/>
                </a:lnTo>
                <a:lnTo>
                  <a:pt x="2655" y="62"/>
                </a:lnTo>
                <a:lnTo>
                  <a:pt x="2627" y="28"/>
                </a:lnTo>
                <a:lnTo>
                  <a:pt x="2600" y="28"/>
                </a:lnTo>
                <a:lnTo>
                  <a:pt x="2565" y="28"/>
                </a:lnTo>
                <a:lnTo>
                  <a:pt x="2538" y="0"/>
                </a:lnTo>
                <a:lnTo>
                  <a:pt x="2510" y="0"/>
                </a:lnTo>
                <a:lnTo>
                  <a:pt x="2483" y="0"/>
                </a:lnTo>
                <a:lnTo>
                  <a:pt x="2448" y="0"/>
                </a:lnTo>
                <a:lnTo>
                  <a:pt x="2420" y="0"/>
                </a:lnTo>
                <a:lnTo>
                  <a:pt x="2393" y="0"/>
                </a:lnTo>
                <a:lnTo>
                  <a:pt x="2365" y="0"/>
                </a:lnTo>
                <a:lnTo>
                  <a:pt x="2331" y="0"/>
                </a:lnTo>
                <a:lnTo>
                  <a:pt x="2303" y="0"/>
                </a:lnTo>
                <a:lnTo>
                  <a:pt x="2276" y="0"/>
                </a:lnTo>
                <a:lnTo>
                  <a:pt x="2241" y="0"/>
                </a:lnTo>
                <a:lnTo>
                  <a:pt x="2214" y="0"/>
                </a:lnTo>
                <a:lnTo>
                  <a:pt x="2186" y="0"/>
                </a:lnTo>
                <a:lnTo>
                  <a:pt x="2158" y="0"/>
                </a:lnTo>
                <a:lnTo>
                  <a:pt x="2124" y="0"/>
                </a:lnTo>
                <a:lnTo>
                  <a:pt x="2096" y="0"/>
                </a:lnTo>
                <a:lnTo>
                  <a:pt x="2069" y="0"/>
                </a:lnTo>
                <a:lnTo>
                  <a:pt x="2034" y="0"/>
                </a:lnTo>
                <a:lnTo>
                  <a:pt x="2007" y="0"/>
                </a:lnTo>
                <a:lnTo>
                  <a:pt x="1979" y="0"/>
                </a:lnTo>
                <a:lnTo>
                  <a:pt x="1952" y="0"/>
                </a:lnTo>
                <a:lnTo>
                  <a:pt x="1938" y="0"/>
                </a:lnTo>
                <a:lnTo>
                  <a:pt x="1945" y="0"/>
                </a:lnTo>
                <a:lnTo>
                  <a:pt x="1952" y="7"/>
                </a:lnTo>
                <a:lnTo>
                  <a:pt x="1965" y="7"/>
                </a:lnTo>
                <a:lnTo>
                  <a:pt x="1972" y="7"/>
                </a:lnTo>
                <a:lnTo>
                  <a:pt x="1979" y="7"/>
                </a:lnTo>
                <a:lnTo>
                  <a:pt x="1993" y="7"/>
                </a:lnTo>
                <a:lnTo>
                  <a:pt x="2000" y="14"/>
                </a:lnTo>
                <a:lnTo>
                  <a:pt x="2007" y="14"/>
                </a:lnTo>
                <a:lnTo>
                  <a:pt x="2014" y="21"/>
                </a:lnTo>
                <a:lnTo>
                  <a:pt x="2027" y="21"/>
                </a:lnTo>
                <a:lnTo>
                  <a:pt x="2034" y="28"/>
                </a:lnTo>
                <a:lnTo>
                  <a:pt x="2041" y="28"/>
                </a:lnTo>
                <a:lnTo>
                  <a:pt x="2048" y="28"/>
                </a:lnTo>
                <a:lnTo>
                  <a:pt x="2055" y="35"/>
                </a:lnTo>
                <a:lnTo>
                  <a:pt x="2069" y="35"/>
                </a:lnTo>
                <a:lnTo>
                  <a:pt x="2076" y="42"/>
                </a:lnTo>
                <a:lnTo>
                  <a:pt x="2083" y="42"/>
                </a:lnTo>
                <a:lnTo>
                  <a:pt x="2096" y="42"/>
                </a:lnTo>
                <a:lnTo>
                  <a:pt x="2103" y="49"/>
                </a:lnTo>
                <a:lnTo>
                  <a:pt x="2110" y="49"/>
                </a:lnTo>
                <a:lnTo>
                  <a:pt x="2124" y="49"/>
                </a:lnTo>
                <a:lnTo>
                  <a:pt x="2131" y="55"/>
                </a:lnTo>
                <a:lnTo>
                  <a:pt x="2138" y="55"/>
                </a:lnTo>
                <a:lnTo>
                  <a:pt x="2145" y="55"/>
                </a:lnTo>
                <a:lnTo>
                  <a:pt x="2158" y="62"/>
                </a:lnTo>
                <a:lnTo>
                  <a:pt x="2165" y="62"/>
                </a:lnTo>
                <a:lnTo>
                  <a:pt x="2172" y="62"/>
                </a:lnTo>
                <a:lnTo>
                  <a:pt x="2186" y="69"/>
                </a:lnTo>
                <a:lnTo>
                  <a:pt x="2193" y="69"/>
                </a:lnTo>
                <a:lnTo>
                  <a:pt x="2200" y="69"/>
                </a:lnTo>
                <a:lnTo>
                  <a:pt x="2207" y="76"/>
                </a:lnTo>
                <a:lnTo>
                  <a:pt x="2221" y="76"/>
                </a:lnTo>
                <a:lnTo>
                  <a:pt x="2227" y="76"/>
                </a:lnTo>
                <a:lnTo>
                  <a:pt x="2234" y="83"/>
                </a:lnTo>
                <a:lnTo>
                  <a:pt x="2248" y="83"/>
                </a:lnTo>
                <a:lnTo>
                  <a:pt x="2255" y="90"/>
                </a:lnTo>
                <a:lnTo>
                  <a:pt x="2262" y="90"/>
                </a:lnTo>
                <a:lnTo>
                  <a:pt x="2269" y="90"/>
                </a:lnTo>
                <a:lnTo>
                  <a:pt x="2283" y="97"/>
                </a:lnTo>
                <a:lnTo>
                  <a:pt x="2289" y="97"/>
                </a:lnTo>
                <a:lnTo>
                  <a:pt x="2296" y="97"/>
                </a:lnTo>
                <a:lnTo>
                  <a:pt x="2310" y="104"/>
                </a:lnTo>
                <a:lnTo>
                  <a:pt x="2317" y="104"/>
                </a:lnTo>
                <a:lnTo>
                  <a:pt x="2324" y="104"/>
                </a:lnTo>
                <a:lnTo>
                  <a:pt x="2338" y="111"/>
                </a:lnTo>
                <a:lnTo>
                  <a:pt x="2345" y="111"/>
                </a:lnTo>
                <a:lnTo>
                  <a:pt x="2352" y="111"/>
                </a:lnTo>
                <a:lnTo>
                  <a:pt x="2358" y="117"/>
                </a:lnTo>
                <a:lnTo>
                  <a:pt x="2372" y="117"/>
                </a:lnTo>
                <a:lnTo>
                  <a:pt x="2379" y="124"/>
                </a:lnTo>
                <a:lnTo>
                  <a:pt x="2386" y="124"/>
                </a:lnTo>
                <a:lnTo>
                  <a:pt x="2393" y="124"/>
                </a:lnTo>
                <a:lnTo>
                  <a:pt x="2407" y="131"/>
                </a:lnTo>
                <a:lnTo>
                  <a:pt x="2414" y="131"/>
                </a:lnTo>
                <a:lnTo>
                  <a:pt x="2420" y="131"/>
                </a:lnTo>
                <a:lnTo>
                  <a:pt x="2434" y="138"/>
                </a:lnTo>
                <a:lnTo>
                  <a:pt x="2441" y="138"/>
                </a:lnTo>
                <a:lnTo>
                  <a:pt x="2448" y="145"/>
                </a:lnTo>
                <a:lnTo>
                  <a:pt x="2455" y="145"/>
                </a:lnTo>
                <a:lnTo>
                  <a:pt x="2462" y="152"/>
                </a:lnTo>
                <a:lnTo>
                  <a:pt x="2462" y="159"/>
                </a:lnTo>
                <a:lnTo>
                  <a:pt x="2469" y="166"/>
                </a:lnTo>
                <a:lnTo>
                  <a:pt x="2476" y="166"/>
                </a:lnTo>
                <a:lnTo>
                  <a:pt x="2483" y="173"/>
                </a:lnTo>
                <a:lnTo>
                  <a:pt x="2496" y="173"/>
                </a:lnTo>
                <a:lnTo>
                  <a:pt x="2503" y="179"/>
                </a:lnTo>
                <a:lnTo>
                  <a:pt x="2503" y="186"/>
                </a:lnTo>
                <a:lnTo>
                  <a:pt x="2510" y="186"/>
                </a:lnTo>
                <a:lnTo>
                  <a:pt x="2517" y="193"/>
                </a:lnTo>
                <a:lnTo>
                  <a:pt x="2524" y="200"/>
                </a:lnTo>
                <a:lnTo>
                  <a:pt x="2531" y="200"/>
                </a:lnTo>
                <a:lnTo>
                  <a:pt x="2538" y="207"/>
                </a:lnTo>
                <a:lnTo>
                  <a:pt x="2545" y="207"/>
                </a:lnTo>
                <a:lnTo>
                  <a:pt x="2551" y="214"/>
                </a:lnTo>
                <a:lnTo>
                  <a:pt x="2558" y="221"/>
                </a:lnTo>
                <a:lnTo>
                  <a:pt x="2558" y="228"/>
                </a:lnTo>
                <a:lnTo>
                  <a:pt x="2565" y="235"/>
                </a:lnTo>
                <a:lnTo>
                  <a:pt x="2572" y="235"/>
                </a:lnTo>
                <a:lnTo>
                  <a:pt x="2579" y="235"/>
                </a:lnTo>
                <a:lnTo>
                  <a:pt x="2586" y="241"/>
                </a:lnTo>
                <a:lnTo>
                  <a:pt x="2600" y="241"/>
                </a:lnTo>
                <a:lnTo>
                  <a:pt x="2600" y="248"/>
                </a:lnTo>
                <a:lnTo>
                  <a:pt x="2607" y="255"/>
                </a:lnTo>
                <a:lnTo>
                  <a:pt x="2614" y="262"/>
                </a:lnTo>
                <a:lnTo>
                  <a:pt x="2620" y="262"/>
                </a:lnTo>
                <a:lnTo>
                  <a:pt x="2620" y="269"/>
                </a:lnTo>
                <a:lnTo>
                  <a:pt x="2627" y="276"/>
                </a:lnTo>
                <a:lnTo>
                  <a:pt x="2634" y="276"/>
                </a:lnTo>
                <a:lnTo>
                  <a:pt x="2641" y="283"/>
                </a:lnTo>
                <a:lnTo>
                  <a:pt x="2648" y="283"/>
                </a:lnTo>
                <a:lnTo>
                  <a:pt x="2662" y="290"/>
                </a:lnTo>
                <a:lnTo>
                  <a:pt x="2669" y="297"/>
                </a:lnTo>
                <a:lnTo>
                  <a:pt x="2662" y="297"/>
                </a:lnTo>
                <a:lnTo>
                  <a:pt x="2648" y="297"/>
                </a:lnTo>
                <a:lnTo>
                  <a:pt x="2641" y="303"/>
                </a:lnTo>
                <a:lnTo>
                  <a:pt x="2627" y="303"/>
                </a:lnTo>
                <a:lnTo>
                  <a:pt x="2620" y="303"/>
                </a:lnTo>
                <a:lnTo>
                  <a:pt x="2614" y="303"/>
                </a:lnTo>
                <a:lnTo>
                  <a:pt x="2600" y="303"/>
                </a:lnTo>
                <a:lnTo>
                  <a:pt x="2593" y="303"/>
                </a:lnTo>
                <a:lnTo>
                  <a:pt x="2579" y="303"/>
                </a:lnTo>
                <a:lnTo>
                  <a:pt x="2572" y="303"/>
                </a:lnTo>
                <a:lnTo>
                  <a:pt x="2565" y="297"/>
                </a:lnTo>
                <a:lnTo>
                  <a:pt x="2551" y="297"/>
                </a:lnTo>
                <a:lnTo>
                  <a:pt x="2545" y="297"/>
                </a:lnTo>
                <a:lnTo>
                  <a:pt x="2538" y="297"/>
                </a:lnTo>
                <a:lnTo>
                  <a:pt x="2524" y="297"/>
                </a:lnTo>
                <a:lnTo>
                  <a:pt x="2517" y="297"/>
                </a:lnTo>
                <a:lnTo>
                  <a:pt x="2510" y="290"/>
                </a:lnTo>
                <a:lnTo>
                  <a:pt x="2496" y="290"/>
                </a:lnTo>
                <a:lnTo>
                  <a:pt x="2489" y="283"/>
                </a:lnTo>
                <a:lnTo>
                  <a:pt x="2483" y="283"/>
                </a:lnTo>
                <a:lnTo>
                  <a:pt x="2476" y="276"/>
                </a:lnTo>
                <a:lnTo>
                  <a:pt x="2469" y="276"/>
                </a:lnTo>
                <a:lnTo>
                  <a:pt x="2455" y="276"/>
                </a:lnTo>
                <a:lnTo>
                  <a:pt x="2448" y="283"/>
                </a:lnTo>
                <a:lnTo>
                  <a:pt x="2434" y="283"/>
                </a:lnTo>
                <a:lnTo>
                  <a:pt x="2427" y="290"/>
                </a:lnTo>
                <a:lnTo>
                  <a:pt x="2420" y="290"/>
                </a:lnTo>
                <a:lnTo>
                  <a:pt x="2420" y="297"/>
                </a:lnTo>
                <a:lnTo>
                  <a:pt x="2414" y="303"/>
                </a:lnTo>
                <a:lnTo>
                  <a:pt x="2420" y="310"/>
                </a:lnTo>
                <a:lnTo>
                  <a:pt x="2427" y="317"/>
                </a:lnTo>
                <a:lnTo>
                  <a:pt x="2434" y="317"/>
                </a:lnTo>
                <a:lnTo>
                  <a:pt x="2441" y="324"/>
                </a:lnTo>
                <a:lnTo>
                  <a:pt x="2448" y="324"/>
                </a:lnTo>
                <a:lnTo>
                  <a:pt x="2448" y="331"/>
                </a:lnTo>
                <a:lnTo>
                  <a:pt x="2448" y="338"/>
                </a:lnTo>
                <a:lnTo>
                  <a:pt x="2448" y="345"/>
                </a:lnTo>
                <a:lnTo>
                  <a:pt x="2448" y="352"/>
                </a:lnTo>
                <a:lnTo>
                  <a:pt x="2448" y="359"/>
                </a:lnTo>
                <a:lnTo>
                  <a:pt x="2441" y="359"/>
                </a:lnTo>
                <a:lnTo>
                  <a:pt x="2434" y="365"/>
                </a:lnTo>
                <a:lnTo>
                  <a:pt x="2427" y="372"/>
                </a:lnTo>
                <a:lnTo>
                  <a:pt x="2420" y="379"/>
                </a:lnTo>
                <a:lnTo>
                  <a:pt x="2414" y="379"/>
                </a:lnTo>
                <a:lnTo>
                  <a:pt x="2407" y="386"/>
                </a:lnTo>
                <a:lnTo>
                  <a:pt x="2400" y="393"/>
                </a:lnTo>
                <a:lnTo>
                  <a:pt x="2393" y="393"/>
                </a:lnTo>
                <a:lnTo>
                  <a:pt x="2386" y="400"/>
                </a:lnTo>
                <a:lnTo>
                  <a:pt x="2379" y="400"/>
                </a:lnTo>
                <a:lnTo>
                  <a:pt x="2372" y="407"/>
                </a:lnTo>
                <a:lnTo>
                  <a:pt x="2365" y="407"/>
                </a:lnTo>
                <a:lnTo>
                  <a:pt x="2358" y="414"/>
                </a:lnTo>
                <a:lnTo>
                  <a:pt x="2352" y="421"/>
                </a:lnTo>
                <a:lnTo>
                  <a:pt x="2345" y="421"/>
                </a:lnTo>
                <a:lnTo>
                  <a:pt x="2338" y="427"/>
                </a:lnTo>
                <a:lnTo>
                  <a:pt x="2324" y="427"/>
                </a:lnTo>
                <a:lnTo>
                  <a:pt x="2317" y="434"/>
                </a:lnTo>
                <a:lnTo>
                  <a:pt x="2310" y="434"/>
                </a:lnTo>
                <a:lnTo>
                  <a:pt x="2296" y="434"/>
                </a:lnTo>
                <a:lnTo>
                  <a:pt x="2289" y="427"/>
                </a:lnTo>
                <a:lnTo>
                  <a:pt x="2283" y="421"/>
                </a:lnTo>
                <a:lnTo>
                  <a:pt x="2276" y="421"/>
                </a:lnTo>
                <a:lnTo>
                  <a:pt x="2269" y="421"/>
                </a:lnTo>
                <a:lnTo>
                  <a:pt x="2255" y="421"/>
                </a:lnTo>
                <a:lnTo>
                  <a:pt x="2248" y="421"/>
                </a:lnTo>
                <a:lnTo>
                  <a:pt x="2234" y="427"/>
                </a:lnTo>
                <a:lnTo>
                  <a:pt x="2227" y="434"/>
                </a:lnTo>
                <a:lnTo>
                  <a:pt x="2221" y="434"/>
                </a:lnTo>
                <a:lnTo>
                  <a:pt x="2214" y="434"/>
                </a:lnTo>
                <a:lnTo>
                  <a:pt x="2207" y="434"/>
                </a:lnTo>
                <a:lnTo>
                  <a:pt x="2193" y="434"/>
                </a:lnTo>
                <a:lnTo>
                  <a:pt x="2186" y="434"/>
                </a:lnTo>
                <a:lnTo>
                  <a:pt x="2179" y="441"/>
                </a:lnTo>
                <a:lnTo>
                  <a:pt x="2172" y="441"/>
                </a:lnTo>
                <a:lnTo>
                  <a:pt x="2158" y="448"/>
                </a:lnTo>
                <a:lnTo>
                  <a:pt x="2152" y="448"/>
                </a:lnTo>
                <a:lnTo>
                  <a:pt x="2145" y="441"/>
                </a:lnTo>
                <a:lnTo>
                  <a:pt x="2131" y="441"/>
                </a:lnTo>
                <a:lnTo>
                  <a:pt x="2124" y="434"/>
                </a:lnTo>
                <a:lnTo>
                  <a:pt x="2117" y="434"/>
                </a:lnTo>
                <a:lnTo>
                  <a:pt x="2110" y="434"/>
                </a:lnTo>
                <a:lnTo>
                  <a:pt x="2096" y="441"/>
                </a:lnTo>
                <a:lnTo>
                  <a:pt x="2090" y="441"/>
                </a:lnTo>
                <a:lnTo>
                  <a:pt x="2076" y="441"/>
                </a:lnTo>
                <a:lnTo>
                  <a:pt x="2069" y="441"/>
                </a:lnTo>
                <a:lnTo>
                  <a:pt x="2062" y="441"/>
                </a:lnTo>
                <a:lnTo>
                  <a:pt x="2048" y="441"/>
                </a:lnTo>
                <a:lnTo>
                  <a:pt x="2041" y="441"/>
                </a:lnTo>
                <a:lnTo>
                  <a:pt x="2027" y="441"/>
                </a:lnTo>
                <a:lnTo>
                  <a:pt x="2021" y="441"/>
                </a:lnTo>
                <a:lnTo>
                  <a:pt x="2014" y="441"/>
                </a:lnTo>
                <a:lnTo>
                  <a:pt x="2000" y="448"/>
                </a:lnTo>
                <a:lnTo>
                  <a:pt x="1993" y="448"/>
                </a:lnTo>
                <a:lnTo>
                  <a:pt x="1986" y="455"/>
                </a:lnTo>
                <a:lnTo>
                  <a:pt x="1979" y="462"/>
                </a:lnTo>
                <a:lnTo>
                  <a:pt x="1972" y="462"/>
                </a:lnTo>
                <a:lnTo>
                  <a:pt x="1965" y="469"/>
                </a:lnTo>
                <a:lnTo>
                  <a:pt x="1959" y="469"/>
                </a:lnTo>
                <a:lnTo>
                  <a:pt x="1952" y="476"/>
                </a:lnTo>
                <a:lnTo>
                  <a:pt x="1945" y="483"/>
                </a:lnTo>
                <a:lnTo>
                  <a:pt x="1945" y="489"/>
                </a:lnTo>
                <a:lnTo>
                  <a:pt x="1938" y="496"/>
                </a:lnTo>
                <a:lnTo>
                  <a:pt x="1938" y="496"/>
                </a:lnTo>
                <a:lnTo>
                  <a:pt x="1938" y="503"/>
                </a:lnTo>
                <a:lnTo>
                  <a:pt x="1945" y="510"/>
                </a:lnTo>
                <a:lnTo>
                  <a:pt x="1945" y="517"/>
                </a:lnTo>
                <a:lnTo>
                  <a:pt x="1952" y="524"/>
                </a:lnTo>
                <a:lnTo>
                  <a:pt x="1959" y="524"/>
                </a:lnTo>
                <a:lnTo>
                  <a:pt x="1965" y="531"/>
                </a:lnTo>
                <a:lnTo>
                  <a:pt x="1965" y="538"/>
                </a:lnTo>
                <a:lnTo>
                  <a:pt x="1965" y="545"/>
                </a:lnTo>
                <a:lnTo>
                  <a:pt x="1965" y="551"/>
                </a:lnTo>
                <a:lnTo>
                  <a:pt x="1959" y="558"/>
                </a:lnTo>
                <a:lnTo>
                  <a:pt x="1959" y="565"/>
                </a:lnTo>
                <a:lnTo>
                  <a:pt x="1952" y="572"/>
                </a:lnTo>
                <a:lnTo>
                  <a:pt x="1952" y="572"/>
                </a:lnTo>
                <a:lnTo>
                  <a:pt x="1952" y="579"/>
                </a:lnTo>
                <a:lnTo>
                  <a:pt x="1952" y="586"/>
                </a:lnTo>
                <a:lnTo>
                  <a:pt x="1945" y="593"/>
                </a:lnTo>
                <a:lnTo>
                  <a:pt x="1945" y="600"/>
                </a:lnTo>
                <a:lnTo>
                  <a:pt x="1945" y="607"/>
                </a:lnTo>
                <a:lnTo>
                  <a:pt x="1938" y="613"/>
                </a:lnTo>
                <a:lnTo>
                  <a:pt x="1938" y="620"/>
                </a:lnTo>
                <a:lnTo>
                  <a:pt x="1938" y="627"/>
                </a:lnTo>
                <a:lnTo>
                  <a:pt x="1931" y="627"/>
                </a:lnTo>
                <a:lnTo>
                  <a:pt x="1931" y="634"/>
                </a:lnTo>
                <a:lnTo>
                  <a:pt x="1924" y="641"/>
                </a:lnTo>
                <a:lnTo>
                  <a:pt x="1917" y="648"/>
                </a:lnTo>
                <a:lnTo>
                  <a:pt x="1910" y="648"/>
                </a:lnTo>
                <a:lnTo>
                  <a:pt x="1903" y="655"/>
                </a:lnTo>
                <a:lnTo>
                  <a:pt x="1896" y="662"/>
                </a:lnTo>
                <a:lnTo>
                  <a:pt x="1890" y="662"/>
                </a:lnTo>
                <a:lnTo>
                  <a:pt x="1883" y="669"/>
                </a:lnTo>
                <a:lnTo>
                  <a:pt x="1869" y="669"/>
                </a:lnTo>
                <a:lnTo>
                  <a:pt x="1862" y="669"/>
                </a:lnTo>
                <a:lnTo>
                  <a:pt x="1855" y="669"/>
                </a:lnTo>
                <a:lnTo>
                  <a:pt x="1841" y="669"/>
                </a:lnTo>
                <a:lnTo>
                  <a:pt x="1834" y="669"/>
                </a:lnTo>
                <a:lnTo>
                  <a:pt x="1821" y="669"/>
                </a:lnTo>
                <a:lnTo>
                  <a:pt x="1814" y="662"/>
                </a:lnTo>
                <a:lnTo>
                  <a:pt x="1807" y="662"/>
                </a:lnTo>
                <a:lnTo>
                  <a:pt x="1800" y="655"/>
                </a:lnTo>
                <a:lnTo>
                  <a:pt x="1793" y="655"/>
                </a:lnTo>
                <a:lnTo>
                  <a:pt x="1786" y="648"/>
                </a:lnTo>
                <a:lnTo>
                  <a:pt x="1779" y="641"/>
                </a:lnTo>
                <a:lnTo>
                  <a:pt x="1779" y="634"/>
                </a:lnTo>
                <a:lnTo>
                  <a:pt x="1779" y="627"/>
                </a:lnTo>
                <a:lnTo>
                  <a:pt x="1772" y="620"/>
                </a:lnTo>
                <a:lnTo>
                  <a:pt x="1772" y="620"/>
                </a:lnTo>
                <a:lnTo>
                  <a:pt x="1772" y="613"/>
                </a:lnTo>
                <a:lnTo>
                  <a:pt x="1772" y="607"/>
                </a:lnTo>
                <a:lnTo>
                  <a:pt x="1772" y="600"/>
                </a:lnTo>
                <a:lnTo>
                  <a:pt x="1772" y="593"/>
                </a:lnTo>
                <a:lnTo>
                  <a:pt x="1765" y="586"/>
                </a:lnTo>
                <a:lnTo>
                  <a:pt x="1759" y="579"/>
                </a:lnTo>
                <a:lnTo>
                  <a:pt x="1752" y="579"/>
                </a:lnTo>
                <a:lnTo>
                  <a:pt x="1745" y="572"/>
                </a:lnTo>
                <a:lnTo>
                  <a:pt x="1738" y="572"/>
                </a:lnTo>
                <a:lnTo>
                  <a:pt x="1724" y="565"/>
                </a:lnTo>
                <a:lnTo>
                  <a:pt x="1717" y="565"/>
                </a:lnTo>
                <a:lnTo>
                  <a:pt x="1717" y="558"/>
                </a:lnTo>
                <a:lnTo>
                  <a:pt x="1710" y="551"/>
                </a:lnTo>
                <a:lnTo>
                  <a:pt x="1710" y="545"/>
                </a:lnTo>
                <a:lnTo>
                  <a:pt x="1710" y="538"/>
                </a:lnTo>
                <a:lnTo>
                  <a:pt x="1710" y="531"/>
                </a:lnTo>
                <a:lnTo>
                  <a:pt x="1710" y="524"/>
                </a:lnTo>
                <a:lnTo>
                  <a:pt x="1717" y="524"/>
                </a:lnTo>
                <a:lnTo>
                  <a:pt x="1717" y="517"/>
                </a:lnTo>
                <a:lnTo>
                  <a:pt x="1724" y="510"/>
                </a:lnTo>
                <a:lnTo>
                  <a:pt x="1724" y="503"/>
                </a:lnTo>
                <a:lnTo>
                  <a:pt x="1731" y="496"/>
                </a:lnTo>
                <a:lnTo>
                  <a:pt x="1731" y="489"/>
                </a:lnTo>
                <a:lnTo>
                  <a:pt x="1738" y="489"/>
                </a:lnTo>
                <a:lnTo>
                  <a:pt x="1738" y="483"/>
                </a:lnTo>
                <a:lnTo>
                  <a:pt x="1745" y="476"/>
                </a:lnTo>
                <a:lnTo>
                  <a:pt x="1745" y="469"/>
                </a:lnTo>
                <a:lnTo>
                  <a:pt x="1752" y="462"/>
                </a:lnTo>
                <a:lnTo>
                  <a:pt x="1752" y="455"/>
                </a:lnTo>
                <a:lnTo>
                  <a:pt x="1752" y="448"/>
                </a:lnTo>
                <a:lnTo>
                  <a:pt x="1752" y="441"/>
                </a:lnTo>
                <a:lnTo>
                  <a:pt x="1738" y="441"/>
                </a:lnTo>
                <a:lnTo>
                  <a:pt x="1731" y="448"/>
                </a:lnTo>
                <a:lnTo>
                  <a:pt x="1724" y="448"/>
                </a:lnTo>
                <a:lnTo>
                  <a:pt x="1724" y="455"/>
                </a:lnTo>
                <a:lnTo>
                  <a:pt x="1717" y="462"/>
                </a:lnTo>
                <a:lnTo>
                  <a:pt x="1710" y="469"/>
                </a:lnTo>
                <a:lnTo>
                  <a:pt x="1703" y="469"/>
                </a:lnTo>
                <a:lnTo>
                  <a:pt x="1697" y="469"/>
                </a:lnTo>
                <a:lnTo>
                  <a:pt x="1683" y="469"/>
                </a:lnTo>
                <a:lnTo>
                  <a:pt x="1676" y="476"/>
                </a:lnTo>
                <a:lnTo>
                  <a:pt x="1669" y="476"/>
                </a:lnTo>
                <a:lnTo>
                  <a:pt x="1669" y="483"/>
                </a:lnTo>
                <a:lnTo>
                  <a:pt x="1662" y="489"/>
                </a:lnTo>
                <a:lnTo>
                  <a:pt x="1655" y="489"/>
                </a:lnTo>
                <a:lnTo>
                  <a:pt x="1641" y="496"/>
                </a:lnTo>
                <a:lnTo>
                  <a:pt x="1634" y="503"/>
                </a:lnTo>
                <a:lnTo>
                  <a:pt x="1628" y="503"/>
                </a:lnTo>
                <a:lnTo>
                  <a:pt x="1621" y="510"/>
                </a:lnTo>
                <a:lnTo>
                  <a:pt x="1614" y="510"/>
                </a:lnTo>
                <a:lnTo>
                  <a:pt x="1607" y="517"/>
                </a:lnTo>
                <a:lnTo>
                  <a:pt x="1600" y="524"/>
                </a:lnTo>
                <a:lnTo>
                  <a:pt x="1593" y="524"/>
                </a:lnTo>
                <a:lnTo>
                  <a:pt x="1586" y="531"/>
                </a:lnTo>
                <a:lnTo>
                  <a:pt x="1579" y="538"/>
                </a:lnTo>
                <a:lnTo>
                  <a:pt x="1572" y="538"/>
                </a:lnTo>
                <a:lnTo>
                  <a:pt x="1572" y="545"/>
                </a:lnTo>
                <a:lnTo>
                  <a:pt x="1566" y="551"/>
                </a:lnTo>
                <a:lnTo>
                  <a:pt x="1559" y="551"/>
                </a:lnTo>
                <a:lnTo>
                  <a:pt x="1552" y="558"/>
                </a:lnTo>
                <a:lnTo>
                  <a:pt x="1545" y="565"/>
                </a:lnTo>
                <a:lnTo>
                  <a:pt x="1545" y="572"/>
                </a:lnTo>
                <a:lnTo>
                  <a:pt x="1545" y="579"/>
                </a:lnTo>
                <a:lnTo>
                  <a:pt x="1545" y="586"/>
                </a:lnTo>
                <a:lnTo>
                  <a:pt x="1538" y="593"/>
                </a:lnTo>
                <a:lnTo>
                  <a:pt x="1538" y="593"/>
                </a:lnTo>
                <a:lnTo>
                  <a:pt x="1531" y="600"/>
                </a:lnTo>
                <a:lnTo>
                  <a:pt x="1517" y="600"/>
                </a:lnTo>
                <a:lnTo>
                  <a:pt x="1510" y="593"/>
                </a:lnTo>
                <a:lnTo>
                  <a:pt x="1497" y="600"/>
                </a:lnTo>
                <a:lnTo>
                  <a:pt x="1490" y="600"/>
                </a:lnTo>
                <a:lnTo>
                  <a:pt x="1490" y="607"/>
                </a:lnTo>
                <a:lnTo>
                  <a:pt x="1483" y="613"/>
                </a:lnTo>
                <a:lnTo>
                  <a:pt x="1483" y="620"/>
                </a:lnTo>
                <a:lnTo>
                  <a:pt x="1483" y="627"/>
                </a:lnTo>
                <a:lnTo>
                  <a:pt x="1476" y="634"/>
                </a:lnTo>
                <a:lnTo>
                  <a:pt x="1476" y="641"/>
                </a:lnTo>
                <a:lnTo>
                  <a:pt x="1469" y="641"/>
                </a:lnTo>
                <a:lnTo>
                  <a:pt x="1469" y="648"/>
                </a:lnTo>
                <a:lnTo>
                  <a:pt x="1462" y="655"/>
                </a:lnTo>
                <a:lnTo>
                  <a:pt x="1462" y="662"/>
                </a:lnTo>
                <a:lnTo>
                  <a:pt x="1462" y="669"/>
                </a:lnTo>
                <a:lnTo>
                  <a:pt x="1462" y="675"/>
                </a:lnTo>
                <a:lnTo>
                  <a:pt x="1462" y="682"/>
                </a:lnTo>
                <a:lnTo>
                  <a:pt x="1462" y="689"/>
                </a:lnTo>
                <a:lnTo>
                  <a:pt x="1462" y="696"/>
                </a:lnTo>
                <a:lnTo>
                  <a:pt x="1462" y="703"/>
                </a:lnTo>
                <a:lnTo>
                  <a:pt x="1462" y="710"/>
                </a:lnTo>
                <a:lnTo>
                  <a:pt x="1455" y="710"/>
                </a:lnTo>
                <a:lnTo>
                  <a:pt x="1455" y="717"/>
                </a:lnTo>
                <a:lnTo>
                  <a:pt x="1455" y="724"/>
                </a:lnTo>
                <a:lnTo>
                  <a:pt x="1455" y="731"/>
                </a:lnTo>
                <a:lnTo>
                  <a:pt x="1455" y="737"/>
                </a:lnTo>
                <a:lnTo>
                  <a:pt x="1455" y="744"/>
                </a:lnTo>
                <a:lnTo>
                  <a:pt x="1455" y="751"/>
                </a:lnTo>
                <a:lnTo>
                  <a:pt x="1455" y="758"/>
                </a:lnTo>
                <a:lnTo>
                  <a:pt x="1455" y="765"/>
                </a:lnTo>
                <a:lnTo>
                  <a:pt x="1455" y="772"/>
                </a:lnTo>
                <a:lnTo>
                  <a:pt x="1455" y="772"/>
                </a:lnTo>
                <a:lnTo>
                  <a:pt x="1455" y="779"/>
                </a:lnTo>
                <a:lnTo>
                  <a:pt x="1455" y="786"/>
                </a:lnTo>
                <a:lnTo>
                  <a:pt x="1462" y="793"/>
                </a:lnTo>
                <a:lnTo>
                  <a:pt x="1462" y="799"/>
                </a:lnTo>
                <a:lnTo>
                  <a:pt x="1462" y="806"/>
                </a:lnTo>
                <a:lnTo>
                  <a:pt x="1462" y="813"/>
                </a:lnTo>
                <a:lnTo>
                  <a:pt x="1462" y="820"/>
                </a:lnTo>
                <a:lnTo>
                  <a:pt x="1462" y="827"/>
                </a:lnTo>
                <a:lnTo>
                  <a:pt x="1462" y="834"/>
                </a:lnTo>
                <a:lnTo>
                  <a:pt x="1462" y="841"/>
                </a:lnTo>
                <a:lnTo>
                  <a:pt x="1455" y="841"/>
                </a:lnTo>
                <a:lnTo>
                  <a:pt x="1455" y="848"/>
                </a:lnTo>
                <a:lnTo>
                  <a:pt x="1448" y="855"/>
                </a:lnTo>
                <a:lnTo>
                  <a:pt x="1441" y="861"/>
                </a:lnTo>
                <a:lnTo>
                  <a:pt x="1441" y="868"/>
                </a:lnTo>
                <a:lnTo>
                  <a:pt x="1428" y="868"/>
                </a:lnTo>
                <a:lnTo>
                  <a:pt x="1428" y="875"/>
                </a:lnTo>
                <a:lnTo>
                  <a:pt x="1421" y="882"/>
                </a:lnTo>
                <a:lnTo>
                  <a:pt x="1421" y="889"/>
                </a:lnTo>
                <a:lnTo>
                  <a:pt x="1421" y="896"/>
                </a:lnTo>
                <a:lnTo>
                  <a:pt x="1428" y="903"/>
                </a:lnTo>
                <a:lnTo>
                  <a:pt x="1434" y="903"/>
                </a:lnTo>
                <a:lnTo>
                  <a:pt x="1448" y="903"/>
                </a:lnTo>
                <a:lnTo>
                  <a:pt x="1455" y="903"/>
                </a:lnTo>
                <a:lnTo>
                  <a:pt x="1462" y="896"/>
                </a:lnTo>
                <a:lnTo>
                  <a:pt x="1462" y="889"/>
                </a:lnTo>
                <a:lnTo>
                  <a:pt x="1469" y="882"/>
                </a:lnTo>
                <a:lnTo>
                  <a:pt x="1469" y="875"/>
                </a:lnTo>
                <a:lnTo>
                  <a:pt x="1476" y="875"/>
                </a:lnTo>
                <a:lnTo>
                  <a:pt x="1476" y="875"/>
                </a:lnTo>
                <a:lnTo>
                  <a:pt x="1483" y="875"/>
                </a:lnTo>
                <a:lnTo>
                  <a:pt x="1490" y="882"/>
                </a:lnTo>
                <a:lnTo>
                  <a:pt x="1490" y="889"/>
                </a:lnTo>
                <a:lnTo>
                  <a:pt x="1490" y="896"/>
                </a:lnTo>
                <a:lnTo>
                  <a:pt x="1483" y="903"/>
                </a:lnTo>
                <a:lnTo>
                  <a:pt x="1476" y="910"/>
                </a:lnTo>
                <a:lnTo>
                  <a:pt x="1476" y="917"/>
                </a:lnTo>
                <a:lnTo>
                  <a:pt x="1469" y="917"/>
                </a:lnTo>
                <a:lnTo>
                  <a:pt x="1462" y="923"/>
                </a:lnTo>
                <a:lnTo>
                  <a:pt x="1455" y="930"/>
                </a:lnTo>
                <a:lnTo>
                  <a:pt x="1448" y="930"/>
                </a:lnTo>
                <a:lnTo>
                  <a:pt x="1441" y="923"/>
                </a:lnTo>
                <a:lnTo>
                  <a:pt x="1434" y="917"/>
                </a:lnTo>
                <a:lnTo>
                  <a:pt x="1434" y="910"/>
                </a:lnTo>
                <a:lnTo>
                  <a:pt x="1428" y="903"/>
                </a:lnTo>
                <a:lnTo>
                  <a:pt x="1428" y="903"/>
                </a:lnTo>
                <a:lnTo>
                  <a:pt x="1421" y="896"/>
                </a:lnTo>
                <a:lnTo>
                  <a:pt x="1414" y="889"/>
                </a:lnTo>
                <a:lnTo>
                  <a:pt x="1407" y="882"/>
                </a:lnTo>
                <a:lnTo>
                  <a:pt x="1407" y="875"/>
                </a:lnTo>
                <a:lnTo>
                  <a:pt x="1400" y="875"/>
                </a:lnTo>
                <a:lnTo>
                  <a:pt x="1400" y="868"/>
                </a:lnTo>
                <a:lnTo>
                  <a:pt x="1393" y="861"/>
                </a:lnTo>
                <a:lnTo>
                  <a:pt x="1393" y="855"/>
                </a:lnTo>
                <a:lnTo>
                  <a:pt x="1386" y="848"/>
                </a:lnTo>
                <a:lnTo>
                  <a:pt x="1386" y="841"/>
                </a:lnTo>
                <a:lnTo>
                  <a:pt x="1386" y="841"/>
                </a:lnTo>
                <a:lnTo>
                  <a:pt x="1379" y="834"/>
                </a:lnTo>
                <a:lnTo>
                  <a:pt x="1379" y="827"/>
                </a:lnTo>
                <a:lnTo>
                  <a:pt x="1379" y="820"/>
                </a:lnTo>
                <a:lnTo>
                  <a:pt x="1379" y="813"/>
                </a:lnTo>
                <a:lnTo>
                  <a:pt x="1379" y="806"/>
                </a:lnTo>
                <a:lnTo>
                  <a:pt x="1372" y="799"/>
                </a:lnTo>
                <a:lnTo>
                  <a:pt x="1372" y="793"/>
                </a:lnTo>
                <a:lnTo>
                  <a:pt x="1372" y="786"/>
                </a:lnTo>
                <a:lnTo>
                  <a:pt x="1372" y="779"/>
                </a:lnTo>
                <a:lnTo>
                  <a:pt x="1372" y="772"/>
                </a:lnTo>
                <a:lnTo>
                  <a:pt x="1366" y="772"/>
                </a:lnTo>
                <a:lnTo>
                  <a:pt x="1366" y="765"/>
                </a:lnTo>
                <a:lnTo>
                  <a:pt x="1366" y="758"/>
                </a:lnTo>
                <a:lnTo>
                  <a:pt x="1366" y="751"/>
                </a:lnTo>
                <a:lnTo>
                  <a:pt x="1359" y="744"/>
                </a:lnTo>
                <a:lnTo>
                  <a:pt x="1359" y="737"/>
                </a:lnTo>
                <a:lnTo>
                  <a:pt x="1359" y="731"/>
                </a:lnTo>
                <a:lnTo>
                  <a:pt x="1359" y="731"/>
                </a:lnTo>
                <a:lnTo>
                  <a:pt x="1352" y="731"/>
                </a:lnTo>
                <a:lnTo>
                  <a:pt x="1352" y="737"/>
                </a:lnTo>
                <a:lnTo>
                  <a:pt x="1345" y="744"/>
                </a:lnTo>
                <a:lnTo>
                  <a:pt x="1331" y="744"/>
                </a:lnTo>
                <a:lnTo>
                  <a:pt x="1324" y="751"/>
                </a:lnTo>
                <a:lnTo>
                  <a:pt x="1324" y="751"/>
                </a:lnTo>
                <a:lnTo>
                  <a:pt x="1317" y="758"/>
                </a:lnTo>
                <a:lnTo>
                  <a:pt x="1317" y="765"/>
                </a:lnTo>
                <a:lnTo>
                  <a:pt x="1310" y="772"/>
                </a:lnTo>
                <a:lnTo>
                  <a:pt x="1310" y="779"/>
                </a:lnTo>
                <a:lnTo>
                  <a:pt x="1303" y="786"/>
                </a:lnTo>
                <a:lnTo>
                  <a:pt x="1303" y="793"/>
                </a:lnTo>
                <a:lnTo>
                  <a:pt x="1297" y="799"/>
                </a:lnTo>
                <a:lnTo>
                  <a:pt x="1290" y="799"/>
                </a:lnTo>
                <a:lnTo>
                  <a:pt x="1290" y="806"/>
                </a:lnTo>
                <a:lnTo>
                  <a:pt x="1283" y="813"/>
                </a:lnTo>
                <a:lnTo>
                  <a:pt x="1283" y="820"/>
                </a:lnTo>
                <a:lnTo>
                  <a:pt x="1276" y="827"/>
                </a:lnTo>
                <a:lnTo>
                  <a:pt x="1269" y="827"/>
                </a:lnTo>
                <a:lnTo>
                  <a:pt x="1269" y="834"/>
                </a:lnTo>
                <a:lnTo>
                  <a:pt x="1262" y="841"/>
                </a:lnTo>
                <a:lnTo>
                  <a:pt x="1255" y="848"/>
                </a:lnTo>
                <a:lnTo>
                  <a:pt x="1248" y="848"/>
                </a:lnTo>
                <a:lnTo>
                  <a:pt x="1241" y="855"/>
                </a:lnTo>
                <a:lnTo>
                  <a:pt x="1241" y="861"/>
                </a:lnTo>
                <a:lnTo>
                  <a:pt x="1235" y="868"/>
                </a:lnTo>
                <a:lnTo>
                  <a:pt x="1235" y="875"/>
                </a:lnTo>
                <a:lnTo>
                  <a:pt x="1228" y="882"/>
                </a:lnTo>
                <a:lnTo>
                  <a:pt x="1228" y="889"/>
                </a:lnTo>
                <a:lnTo>
                  <a:pt x="1228" y="889"/>
                </a:lnTo>
                <a:lnTo>
                  <a:pt x="1235" y="896"/>
                </a:lnTo>
                <a:lnTo>
                  <a:pt x="1235" y="903"/>
                </a:lnTo>
                <a:lnTo>
                  <a:pt x="1241" y="910"/>
                </a:lnTo>
                <a:lnTo>
                  <a:pt x="1255" y="910"/>
                </a:lnTo>
                <a:lnTo>
                  <a:pt x="1262" y="917"/>
                </a:lnTo>
                <a:lnTo>
                  <a:pt x="1269" y="917"/>
                </a:lnTo>
                <a:lnTo>
                  <a:pt x="1276" y="917"/>
                </a:lnTo>
                <a:lnTo>
                  <a:pt x="1283" y="923"/>
                </a:lnTo>
                <a:lnTo>
                  <a:pt x="1276" y="930"/>
                </a:lnTo>
                <a:lnTo>
                  <a:pt x="1276" y="937"/>
                </a:lnTo>
                <a:lnTo>
                  <a:pt x="1269" y="944"/>
                </a:lnTo>
                <a:lnTo>
                  <a:pt x="1269" y="951"/>
                </a:lnTo>
                <a:lnTo>
                  <a:pt x="1269" y="958"/>
                </a:lnTo>
                <a:lnTo>
                  <a:pt x="1269" y="965"/>
                </a:lnTo>
                <a:lnTo>
                  <a:pt x="1269" y="972"/>
                </a:lnTo>
                <a:lnTo>
                  <a:pt x="1276" y="972"/>
                </a:lnTo>
                <a:lnTo>
                  <a:pt x="1276" y="979"/>
                </a:lnTo>
                <a:lnTo>
                  <a:pt x="1276" y="985"/>
                </a:lnTo>
                <a:lnTo>
                  <a:pt x="1276" y="992"/>
                </a:lnTo>
                <a:lnTo>
                  <a:pt x="1276" y="999"/>
                </a:lnTo>
                <a:lnTo>
                  <a:pt x="1276" y="1006"/>
                </a:lnTo>
                <a:lnTo>
                  <a:pt x="1276" y="1013"/>
                </a:lnTo>
                <a:lnTo>
                  <a:pt x="1276" y="1020"/>
                </a:lnTo>
                <a:lnTo>
                  <a:pt x="1276" y="1027"/>
                </a:lnTo>
                <a:lnTo>
                  <a:pt x="1283" y="1034"/>
                </a:lnTo>
                <a:lnTo>
                  <a:pt x="1283" y="1041"/>
                </a:lnTo>
                <a:lnTo>
                  <a:pt x="1283" y="1041"/>
                </a:lnTo>
                <a:lnTo>
                  <a:pt x="1283" y="1047"/>
                </a:lnTo>
                <a:lnTo>
                  <a:pt x="1283" y="1054"/>
                </a:lnTo>
                <a:lnTo>
                  <a:pt x="1290" y="1061"/>
                </a:lnTo>
                <a:lnTo>
                  <a:pt x="1290" y="1068"/>
                </a:lnTo>
                <a:lnTo>
                  <a:pt x="1290" y="1075"/>
                </a:lnTo>
                <a:lnTo>
                  <a:pt x="1290" y="1082"/>
                </a:lnTo>
                <a:lnTo>
                  <a:pt x="1290" y="1089"/>
                </a:lnTo>
                <a:lnTo>
                  <a:pt x="1290" y="1096"/>
                </a:lnTo>
                <a:lnTo>
                  <a:pt x="1297" y="1103"/>
                </a:lnTo>
                <a:lnTo>
                  <a:pt x="1297" y="1103"/>
                </a:lnTo>
                <a:lnTo>
                  <a:pt x="1297" y="1109"/>
                </a:lnTo>
                <a:lnTo>
                  <a:pt x="1297" y="1116"/>
                </a:lnTo>
                <a:lnTo>
                  <a:pt x="1297" y="1123"/>
                </a:lnTo>
                <a:lnTo>
                  <a:pt x="1303" y="1130"/>
                </a:lnTo>
                <a:lnTo>
                  <a:pt x="1303" y="1137"/>
                </a:lnTo>
                <a:lnTo>
                  <a:pt x="1310" y="1144"/>
                </a:lnTo>
                <a:lnTo>
                  <a:pt x="1310" y="1151"/>
                </a:lnTo>
                <a:lnTo>
                  <a:pt x="1310" y="1158"/>
                </a:lnTo>
                <a:lnTo>
                  <a:pt x="1297" y="1158"/>
                </a:lnTo>
                <a:lnTo>
                  <a:pt x="1290" y="1158"/>
                </a:lnTo>
                <a:lnTo>
                  <a:pt x="1283" y="1158"/>
                </a:lnTo>
                <a:lnTo>
                  <a:pt x="1269" y="1165"/>
                </a:lnTo>
                <a:lnTo>
                  <a:pt x="1262" y="1165"/>
                </a:lnTo>
                <a:lnTo>
                  <a:pt x="1255" y="1171"/>
                </a:lnTo>
                <a:lnTo>
                  <a:pt x="1248" y="1171"/>
                </a:lnTo>
                <a:lnTo>
                  <a:pt x="1241" y="1178"/>
                </a:lnTo>
                <a:lnTo>
                  <a:pt x="1241" y="1185"/>
                </a:lnTo>
                <a:lnTo>
                  <a:pt x="1235" y="1178"/>
                </a:lnTo>
                <a:lnTo>
                  <a:pt x="1228" y="1171"/>
                </a:lnTo>
                <a:lnTo>
                  <a:pt x="1228" y="1171"/>
                </a:lnTo>
                <a:lnTo>
                  <a:pt x="1221" y="1165"/>
                </a:lnTo>
                <a:lnTo>
                  <a:pt x="1221" y="1158"/>
                </a:lnTo>
                <a:lnTo>
                  <a:pt x="1221" y="1151"/>
                </a:lnTo>
                <a:lnTo>
                  <a:pt x="1214" y="1151"/>
                </a:lnTo>
                <a:lnTo>
                  <a:pt x="1214" y="1144"/>
                </a:lnTo>
                <a:lnTo>
                  <a:pt x="1221" y="1137"/>
                </a:lnTo>
                <a:lnTo>
                  <a:pt x="1221" y="1130"/>
                </a:lnTo>
                <a:lnTo>
                  <a:pt x="1221" y="1123"/>
                </a:lnTo>
                <a:lnTo>
                  <a:pt x="1221" y="1116"/>
                </a:lnTo>
                <a:lnTo>
                  <a:pt x="1221" y="1109"/>
                </a:lnTo>
                <a:lnTo>
                  <a:pt x="1221" y="1103"/>
                </a:lnTo>
                <a:lnTo>
                  <a:pt x="1221" y="1096"/>
                </a:lnTo>
                <a:lnTo>
                  <a:pt x="1221" y="1089"/>
                </a:lnTo>
                <a:lnTo>
                  <a:pt x="1228" y="1082"/>
                </a:lnTo>
                <a:lnTo>
                  <a:pt x="1228" y="1075"/>
                </a:lnTo>
                <a:lnTo>
                  <a:pt x="1228" y="1075"/>
                </a:lnTo>
                <a:lnTo>
                  <a:pt x="1228" y="1068"/>
                </a:lnTo>
                <a:lnTo>
                  <a:pt x="1228" y="1061"/>
                </a:lnTo>
                <a:lnTo>
                  <a:pt x="1221" y="1054"/>
                </a:lnTo>
                <a:lnTo>
                  <a:pt x="1214" y="1047"/>
                </a:lnTo>
                <a:lnTo>
                  <a:pt x="1207" y="1047"/>
                </a:lnTo>
                <a:lnTo>
                  <a:pt x="1200" y="1041"/>
                </a:lnTo>
                <a:lnTo>
                  <a:pt x="1207" y="1034"/>
                </a:lnTo>
                <a:lnTo>
                  <a:pt x="1214" y="1027"/>
                </a:lnTo>
                <a:lnTo>
                  <a:pt x="1221" y="1034"/>
                </a:lnTo>
                <a:lnTo>
                  <a:pt x="1221" y="1041"/>
                </a:lnTo>
                <a:lnTo>
                  <a:pt x="1228" y="1047"/>
                </a:lnTo>
                <a:lnTo>
                  <a:pt x="1235" y="1054"/>
                </a:lnTo>
                <a:lnTo>
                  <a:pt x="1241" y="1054"/>
                </a:lnTo>
                <a:lnTo>
                  <a:pt x="1248" y="1054"/>
                </a:lnTo>
                <a:lnTo>
                  <a:pt x="1248" y="1047"/>
                </a:lnTo>
                <a:lnTo>
                  <a:pt x="1255" y="1041"/>
                </a:lnTo>
                <a:lnTo>
                  <a:pt x="1262" y="1034"/>
                </a:lnTo>
                <a:lnTo>
                  <a:pt x="1262" y="1027"/>
                </a:lnTo>
                <a:lnTo>
                  <a:pt x="1262" y="1020"/>
                </a:lnTo>
                <a:lnTo>
                  <a:pt x="1262" y="1013"/>
                </a:lnTo>
                <a:lnTo>
                  <a:pt x="1262" y="1006"/>
                </a:lnTo>
                <a:lnTo>
                  <a:pt x="1255" y="1006"/>
                </a:lnTo>
                <a:lnTo>
                  <a:pt x="1248" y="999"/>
                </a:lnTo>
                <a:lnTo>
                  <a:pt x="1235" y="999"/>
                </a:lnTo>
                <a:lnTo>
                  <a:pt x="1228" y="992"/>
                </a:lnTo>
                <a:lnTo>
                  <a:pt x="1221" y="992"/>
                </a:lnTo>
                <a:lnTo>
                  <a:pt x="1214" y="985"/>
                </a:lnTo>
                <a:lnTo>
                  <a:pt x="1207" y="985"/>
                </a:lnTo>
                <a:lnTo>
                  <a:pt x="1200" y="979"/>
                </a:lnTo>
                <a:lnTo>
                  <a:pt x="1186" y="979"/>
                </a:lnTo>
                <a:lnTo>
                  <a:pt x="1179" y="979"/>
                </a:lnTo>
                <a:lnTo>
                  <a:pt x="1172" y="985"/>
                </a:lnTo>
                <a:lnTo>
                  <a:pt x="1172" y="985"/>
                </a:lnTo>
                <a:lnTo>
                  <a:pt x="1166" y="992"/>
                </a:lnTo>
                <a:lnTo>
                  <a:pt x="1166" y="999"/>
                </a:lnTo>
                <a:lnTo>
                  <a:pt x="1159" y="1006"/>
                </a:lnTo>
                <a:lnTo>
                  <a:pt x="1159" y="1013"/>
                </a:lnTo>
                <a:lnTo>
                  <a:pt x="1152" y="1020"/>
                </a:lnTo>
                <a:lnTo>
                  <a:pt x="1152" y="1020"/>
                </a:lnTo>
                <a:lnTo>
                  <a:pt x="1152" y="1027"/>
                </a:lnTo>
                <a:lnTo>
                  <a:pt x="1145" y="1034"/>
                </a:lnTo>
                <a:lnTo>
                  <a:pt x="1145" y="1041"/>
                </a:lnTo>
                <a:lnTo>
                  <a:pt x="1138" y="1047"/>
                </a:lnTo>
                <a:lnTo>
                  <a:pt x="1131" y="1054"/>
                </a:lnTo>
                <a:lnTo>
                  <a:pt x="1124" y="1054"/>
                </a:lnTo>
                <a:lnTo>
                  <a:pt x="1124" y="1061"/>
                </a:lnTo>
                <a:lnTo>
                  <a:pt x="1117" y="1068"/>
                </a:lnTo>
                <a:lnTo>
                  <a:pt x="1110" y="1075"/>
                </a:lnTo>
                <a:lnTo>
                  <a:pt x="1110" y="1082"/>
                </a:lnTo>
                <a:lnTo>
                  <a:pt x="1104" y="1082"/>
                </a:lnTo>
                <a:lnTo>
                  <a:pt x="1097" y="1089"/>
                </a:lnTo>
                <a:lnTo>
                  <a:pt x="1083" y="1089"/>
                </a:lnTo>
                <a:lnTo>
                  <a:pt x="1076" y="1089"/>
                </a:lnTo>
                <a:lnTo>
                  <a:pt x="1069" y="1089"/>
                </a:lnTo>
                <a:lnTo>
                  <a:pt x="1055" y="1089"/>
                </a:lnTo>
                <a:lnTo>
                  <a:pt x="1048" y="1089"/>
                </a:lnTo>
                <a:lnTo>
                  <a:pt x="1035" y="1089"/>
                </a:lnTo>
                <a:lnTo>
                  <a:pt x="1028" y="1096"/>
                </a:lnTo>
                <a:lnTo>
                  <a:pt x="1014" y="1096"/>
                </a:lnTo>
                <a:lnTo>
                  <a:pt x="1007" y="1096"/>
                </a:lnTo>
                <a:lnTo>
                  <a:pt x="1000" y="1096"/>
                </a:lnTo>
                <a:lnTo>
                  <a:pt x="993" y="1089"/>
                </a:lnTo>
                <a:lnTo>
                  <a:pt x="993" y="1082"/>
                </a:lnTo>
                <a:lnTo>
                  <a:pt x="993" y="1075"/>
                </a:lnTo>
                <a:lnTo>
                  <a:pt x="993" y="1068"/>
                </a:lnTo>
                <a:lnTo>
                  <a:pt x="986" y="1061"/>
                </a:lnTo>
                <a:lnTo>
                  <a:pt x="986" y="1054"/>
                </a:lnTo>
                <a:lnTo>
                  <a:pt x="979" y="1047"/>
                </a:lnTo>
                <a:lnTo>
                  <a:pt x="979" y="1047"/>
                </a:lnTo>
                <a:lnTo>
                  <a:pt x="979" y="1041"/>
                </a:lnTo>
                <a:lnTo>
                  <a:pt x="973" y="1034"/>
                </a:lnTo>
                <a:lnTo>
                  <a:pt x="966" y="1034"/>
                </a:lnTo>
                <a:lnTo>
                  <a:pt x="959" y="1034"/>
                </a:lnTo>
                <a:lnTo>
                  <a:pt x="945" y="1041"/>
                </a:lnTo>
                <a:lnTo>
                  <a:pt x="938" y="1041"/>
                </a:lnTo>
                <a:lnTo>
                  <a:pt x="924" y="1041"/>
                </a:lnTo>
                <a:lnTo>
                  <a:pt x="917" y="1041"/>
                </a:lnTo>
                <a:lnTo>
                  <a:pt x="910" y="1041"/>
                </a:lnTo>
                <a:lnTo>
                  <a:pt x="897" y="1047"/>
                </a:lnTo>
                <a:lnTo>
                  <a:pt x="890" y="1047"/>
                </a:lnTo>
                <a:lnTo>
                  <a:pt x="883" y="1047"/>
                </a:lnTo>
                <a:lnTo>
                  <a:pt x="869" y="1054"/>
                </a:lnTo>
                <a:lnTo>
                  <a:pt x="862" y="1054"/>
                </a:lnTo>
                <a:lnTo>
                  <a:pt x="855" y="1054"/>
                </a:lnTo>
                <a:lnTo>
                  <a:pt x="842" y="1054"/>
                </a:lnTo>
                <a:lnTo>
                  <a:pt x="835" y="1054"/>
                </a:lnTo>
                <a:lnTo>
                  <a:pt x="828" y="1054"/>
                </a:lnTo>
                <a:lnTo>
                  <a:pt x="814" y="1054"/>
                </a:lnTo>
                <a:lnTo>
                  <a:pt x="807" y="1047"/>
                </a:lnTo>
                <a:lnTo>
                  <a:pt x="800" y="1047"/>
                </a:lnTo>
                <a:lnTo>
                  <a:pt x="786" y="1041"/>
                </a:lnTo>
                <a:lnTo>
                  <a:pt x="779" y="1041"/>
                </a:lnTo>
                <a:lnTo>
                  <a:pt x="773" y="1034"/>
                </a:lnTo>
                <a:lnTo>
                  <a:pt x="766" y="1034"/>
                </a:lnTo>
                <a:lnTo>
                  <a:pt x="759" y="1027"/>
                </a:lnTo>
                <a:lnTo>
                  <a:pt x="752" y="1020"/>
                </a:lnTo>
                <a:lnTo>
                  <a:pt x="745" y="1020"/>
                </a:lnTo>
                <a:lnTo>
                  <a:pt x="738" y="1013"/>
                </a:lnTo>
                <a:lnTo>
                  <a:pt x="738" y="1006"/>
                </a:lnTo>
                <a:lnTo>
                  <a:pt x="738" y="999"/>
                </a:lnTo>
                <a:lnTo>
                  <a:pt x="731" y="992"/>
                </a:lnTo>
                <a:lnTo>
                  <a:pt x="731" y="985"/>
                </a:lnTo>
                <a:lnTo>
                  <a:pt x="731" y="985"/>
                </a:lnTo>
                <a:lnTo>
                  <a:pt x="731" y="979"/>
                </a:lnTo>
                <a:lnTo>
                  <a:pt x="731" y="972"/>
                </a:lnTo>
                <a:lnTo>
                  <a:pt x="731" y="965"/>
                </a:lnTo>
                <a:lnTo>
                  <a:pt x="731" y="958"/>
                </a:lnTo>
                <a:lnTo>
                  <a:pt x="731" y="951"/>
                </a:lnTo>
                <a:lnTo>
                  <a:pt x="724" y="944"/>
                </a:lnTo>
                <a:lnTo>
                  <a:pt x="724" y="937"/>
                </a:lnTo>
                <a:lnTo>
                  <a:pt x="724" y="930"/>
                </a:lnTo>
                <a:lnTo>
                  <a:pt x="724" y="923"/>
                </a:lnTo>
                <a:lnTo>
                  <a:pt x="724" y="917"/>
                </a:lnTo>
                <a:lnTo>
                  <a:pt x="724" y="917"/>
                </a:lnTo>
                <a:lnTo>
                  <a:pt x="724" y="910"/>
                </a:lnTo>
                <a:lnTo>
                  <a:pt x="724" y="903"/>
                </a:lnTo>
                <a:lnTo>
                  <a:pt x="724" y="896"/>
                </a:lnTo>
                <a:lnTo>
                  <a:pt x="724" y="889"/>
                </a:lnTo>
                <a:lnTo>
                  <a:pt x="724" y="882"/>
                </a:lnTo>
                <a:lnTo>
                  <a:pt x="724" y="875"/>
                </a:lnTo>
                <a:lnTo>
                  <a:pt x="724" y="868"/>
                </a:lnTo>
                <a:lnTo>
                  <a:pt x="724" y="861"/>
                </a:lnTo>
                <a:lnTo>
                  <a:pt x="724" y="855"/>
                </a:lnTo>
                <a:lnTo>
                  <a:pt x="724" y="848"/>
                </a:lnTo>
                <a:lnTo>
                  <a:pt x="724" y="848"/>
                </a:lnTo>
                <a:lnTo>
                  <a:pt x="724" y="841"/>
                </a:lnTo>
                <a:lnTo>
                  <a:pt x="724" y="834"/>
                </a:lnTo>
                <a:lnTo>
                  <a:pt x="724" y="827"/>
                </a:lnTo>
                <a:lnTo>
                  <a:pt x="724" y="820"/>
                </a:lnTo>
                <a:lnTo>
                  <a:pt x="724" y="813"/>
                </a:lnTo>
                <a:lnTo>
                  <a:pt x="717" y="806"/>
                </a:lnTo>
                <a:lnTo>
                  <a:pt x="717" y="799"/>
                </a:lnTo>
                <a:lnTo>
                  <a:pt x="717" y="793"/>
                </a:lnTo>
                <a:lnTo>
                  <a:pt x="717" y="793"/>
                </a:lnTo>
                <a:lnTo>
                  <a:pt x="717" y="786"/>
                </a:lnTo>
                <a:lnTo>
                  <a:pt x="717" y="779"/>
                </a:lnTo>
                <a:lnTo>
                  <a:pt x="717" y="772"/>
                </a:lnTo>
                <a:lnTo>
                  <a:pt x="711" y="765"/>
                </a:lnTo>
                <a:lnTo>
                  <a:pt x="711" y="758"/>
                </a:lnTo>
                <a:lnTo>
                  <a:pt x="704" y="758"/>
                </a:lnTo>
                <a:lnTo>
                  <a:pt x="697" y="765"/>
                </a:lnTo>
                <a:lnTo>
                  <a:pt x="690" y="772"/>
                </a:lnTo>
                <a:lnTo>
                  <a:pt x="690" y="779"/>
                </a:lnTo>
                <a:lnTo>
                  <a:pt x="690" y="786"/>
                </a:lnTo>
                <a:lnTo>
                  <a:pt x="690" y="793"/>
                </a:lnTo>
                <a:lnTo>
                  <a:pt x="690" y="799"/>
                </a:lnTo>
                <a:lnTo>
                  <a:pt x="683" y="806"/>
                </a:lnTo>
                <a:lnTo>
                  <a:pt x="683" y="813"/>
                </a:lnTo>
                <a:lnTo>
                  <a:pt x="676" y="813"/>
                </a:lnTo>
                <a:lnTo>
                  <a:pt x="676" y="820"/>
                </a:lnTo>
                <a:lnTo>
                  <a:pt x="669" y="827"/>
                </a:lnTo>
                <a:lnTo>
                  <a:pt x="662" y="834"/>
                </a:lnTo>
                <a:lnTo>
                  <a:pt x="662" y="841"/>
                </a:lnTo>
                <a:lnTo>
                  <a:pt x="662" y="841"/>
                </a:lnTo>
                <a:lnTo>
                  <a:pt x="662" y="848"/>
                </a:lnTo>
                <a:lnTo>
                  <a:pt x="662" y="855"/>
                </a:lnTo>
                <a:lnTo>
                  <a:pt x="662" y="861"/>
                </a:lnTo>
                <a:lnTo>
                  <a:pt x="662" y="868"/>
                </a:lnTo>
                <a:lnTo>
                  <a:pt x="655" y="875"/>
                </a:lnTo>
                <a:lnTo>
                  <a:pt x="655" y="882"/>
                </a:lnTo>
                <a:lnTo>
                  <a:pt x="655" y="889"/>
                </a:lnTo>
                <a:lnTo>
                  <a:pt x="655" y="896"/>
                </a:lnTo>
                <a:lnTo>
                  <a:pt x="655" y="903"/>
                </a:lnTo>
                <a:lnTo>
                  <a:pt x="655" y="910"/>
                </a:lnTo>
                <a:lnTo>
                  <a:pt x="648" y="917"/>
                </a:lnTo>
                <a:lnTo>
                  <a:pt x="648" y="917"/>
                </a:lnTo>
                <a:lnTo>
                  <a:pt x="648" y="923"/>
                </a:lnTo>
                <a:lnTo>
                  <a:pt x="648" y="930"/>
                </a:lnTo>
                <a:lnTo>
                  <a:pt x="648" y="937"/>
                </a:lnTo>
                <a:lnTo>
                  <a:pt x="648" y="944"/>
                </a:lnTo>
                <a:lnTo>
                  <a:pt x="648" y="951"/>
                </a:lnTo>
                <a:lnTo>
                  <a:pt x="642" y="958"/>
                </a:lnTo>
                <a:lnTo>
                  <a:pt x="642" y="965"/>
                </a:lnTo>
                <a:lnTo>
                  <a:pt x="642" y="972"/>
                </a:lnTo>
                <a:lnTo>
                  <a:pt x="642" y="979"/>
                </a:lnTo>
                <a:lnTo>
                  <a:pt x="642" y="979"/>
                </a:lnTo>
                <a:lnTo>
                  <a:pt x="642" y="985"/>
                </a:lnTo>
                <a:lnTo>
                  <a:pt x="642" y="992"/>
                </a:lnTo>
                <a:lnTo>
                  <a:pt x="635" y="999"/>
                </a:lnTo>
                <a:lnTo>
                  <a:pt x="635" y="1006"/>
                </a:lnTo>
                <a:lnTo>
                  <a:pt x="635" y="1013"/>
                </a:lnTo>
                <a:lnTo>
                  <a:pt x="635" y="1020"/>
                </a:lnTo>
                <a:lnTo>
                  <a:pt x="635" y="1027"/>
                </a:lnTo>
                <a:lnTo>
                  <a:pt x="635" y="1034"/>
                </a:lnTo>
                <a:lnTo>
                  <a:pt x="635" y="1041"/>
                </a:lnTo>
                <a:lnTo>
                  <a:pt x="628" y="1041"/>
                </a:lnTo>
                <a:lnTo>
                  <a:pt x="621" y="1047"/>
                </a:lnTo>
                <a:lnTo>
                  <a:pt x="614" y="1054"/>
                </a:lnTo>
                <a:lnTo>
                  <a:pt x="607" y="1061"/>
                </a:lnTo>
                <a:lnTo>
                  <a:pt x="600" y="1061"/>
                </a:lnTo>
                <a:lnTo>
                  <a:pt x="600" y="1068"/>
                </a:lnTo>
                <a:lnTo>
                  <a:pt x="607" y="1075"/>
                </a:lnTo>
                <a:lnTo>
                  <a:pt x="607" y="1082"/>
                </a:lnTo>
                <a:lnTo>
                  <a:pt x="614" y="1089"/>
                </a:lnTo>
                <a:lnTo>
                  <a:pt x="621" y="1089"/>
                </a:lnTo>
                <a:lnTo>
                  <a:pt x="628" y="1096"/>
                </a:lnTo>
                <a:lnTo>
                  <a:pt x="635" y="1103"/>
                </a:lnTo>
                <a:lnTo>
                  <a:pt x="635" y="1109"/>
                </a:lnTo>
                <a:lnTo>
                  <a:pt x="642" y="1116"/>
                </a:lnTo>
                <a:lnTo>
                  <a:pt x="648" y="1116"/>
                </a:lnTo>
                <a:lnTo>
                  <a:pt x="648" y="1123"/>
                </a:lnTo>
                <a:lnTo>
                  <a:pt x="648" y="1130"/>
                </a:lnTo>
                <a:lnTo>
                  <a:pt x="642" y="1137"/>
                </a:lnTo>
                <a:lnTo>
                  <a:pt x="635" y="1137"/>
                </a:lnTo>
                <a:lnTo>
                  <a:pt x="628" y="1144"/>
                </a:lnTo>
                <a:lnTo>
                  <a:pt x="614" y="1151"/>
                </a:lnTo>
                <a:lnTo>
                  <a:pt x="607" y="1151"/>
                </a:lnTo>
                <a:lnTo>
                  <a:pt x="600" y="1158"/>
                </a:lnTo>
                <a:lnTo>
                  <a:pt x="593" y="1158"/>
                </a:lnTo>
                <a:lnTo>
                  <a:pt x="586" y="1165"/>
                </a:lnTo>
                <a:lnTo>
                  <a:pt x="580" y="1171"/>
                </a:lnTo>
                <a:lnTo>
                  <a:pt x="573" y="1171"/>
                </a:lnTo>
                <a:lnTo>
                  <a:pt x="566" y="1178"/>
                </a:lnTo>
                <a:lnTo>
                  <a:pt x="559" y="1178"/>
                </a:lnTo>
                <a:lnTo>
                  <a:pt x="552" y="1185"/>
                </a:lnTo>
                <a:lnTo>
                  <a:pt x="545" y="1192"/>
                </a:lnTo>
                <a:lnTo>
                  <a:pt x="538" y="1192"/>
                </a:lnTo>
                <a:lnTo>
                  <a:pt x="538" y="1199"/>
                </a:lnTo>
                <a:lnTo>
                  <a:pt x="531" y="1206"/>
                </a:lnTo>
                <a:lnTo>
                  <a:pt x="524" y="1213"/>
                </a:lnTo>
                <a:lnTo>
                  <a:pt x="517" y="1213"/>
                </a:lnTo>
                <a:lnTo>
                  <a:pt x="511" y="1220"/>
                </a:lnTo>
                <a:lnTo>
                  <a:pt x="504" y="1220"/>
                </a:lnTo>
                <a:lnTo>
                  <a:pt x="497" y="1227"/>
                </a:lnTo>
                <a:lnTo>
                  <a:pt x="490" y="1233"/>
                </a:lnTo>
                <a:lnTo>
                  <a:pt x="483" y="1233"/>
                </a:lnTo>
                <a:lnTo>
                  <a:pt x="476" y="1240"/>
                </a:lnTo>
                <a:lnTo>
                  <a:pt x="469" y="1247"/>
                </a:lnTo>
                <a:lnTo>
                  <a:pt x="504" y="1275"/>
                </a:lnTo>
                <a:lnTo>
                  <a:pt x="531" y="1302"/>
                </a:lnTo>
                <a:lnTo>
                  <a:pt x="559" y="1337"/>
                </a:lnTo>
                <a:lnTo>
                  <a:pt x="593" y="1364"/>
                </a:lnTo>
                <a:lnTo>
                  <a:pt x="621" y="1392"/>
                </a:lnTo>
                <a:lnTo>
                  <a:pt x="648" y="1426"/>
                </a:lnTo>
                <a:lnTo>
                  <a:pt x="676" y="1454"/>
                </a:lnTo>
                <a:lnTo>
                  <a:pt x="711" y="1481"/>
                </a:lnTo>
                <a:lnTo>
                  <a:pt x="738" y="1516"/>
                </a:lnTo>
                <a:lnTo>
                  <a:pt x="766" y="1543"/>
                </a:lnTo>
                <a:lnTo>
                  <a:pt x="793" y="1571"/>
                </a:lnTo>
                <a:lnTo>
                  <a:pt x="828" y="1599"/>
                </a:lnTo>
                <a:lnTo>
                  <a:pt x="855" y="1633"/>
                </a:lnTo>
                <a:lnTo>
                  <a:pt x="883" y="1633"/>
                </a:lnTo>
                <a:lnTo>
                  <a:pt x="917" y="1660"/>
                </a:lnTo>
                <a:lnTo>
                  <a:pt x="945" y="1688"/>
                </a:lnTo>
                <a:lnTo>
                  <a:pt x="973" y="1722"/>
                </a:lnTo>
                <a:lnTo>
                  <a:pt x="1000" y="1750"/>
                </a:lnTo>
                <a:lnTo>
                  <a:pt x="1035" y="1778"/>
                </a:lnTo>
                <a:lnTo>
                  <a:pt x="1062" y="1812"/>
                </a:lnTo>
                <a:lnTo>
                  <a:pt x="1090" y="1840"/>
                </a:lnTo>
                <a:lnTo>
                  <a:pt x="1124" y="1840"/>
                </a:lnTo>
                <a:lnTo>
                  <a:pt x="1152" y="1840"/>
                </a:lnTo>
                <a:lnTo>
                  <a:pt x="1179" y="1840"/>
                </a:lnTo>
                <a:lnTo>
                  <a:pt x="1207" y="1840"/>
                </a:lnTo>
                <a:lnTo>
                  <a:pt x="1241" y="1840"/>
                </a:lnTo>
                <a:lnTo>
                  <a:pt x="1269" y="1840"/>
                </a:lnTo>
                <a:lnTo>
                  <a:pt x="1297" y="1840"/>
                </a:lnTo>
                <a:lnTo>
                  <a:pt x="1331" y="1840"/>
                </a:lnTo>
                <a:lnTo>
                  <a:pt x="1359" y="1840"/>
                </a:lnTo>
                <a:lnTo>
                  <a:pt x="1386" y="1840"/>
                </a:lnTo>
                <a:lnTo>
                  <a:pt x="1414" y="1840"/>
                </a:lnTo>
                <a:lnTo>
                  <a:pt x="1448" y="1840"/>
                </a:lnTo>
                <a:lnTo>
                  <a:pt x="1476" y="1840"/>
                </a:lnTo>
                <a:lnTo>
                  <a:pt x="1503" y="1840"/>
                </a:lnTo>
                <a:lnTo>
                  <a:pt x="1538" y="1840"/>
                </a:lnTo>
                <a:lnTo>
                  <a:pt x="1566" y="1840"/>
                </a:lnTo>
                <a:lnTo>
                  <a:pt x="1593" y="1840"/>
                </a:lnTo>
                <a:lnTo>
                  <a:pt x="1621" y="1840"/>
                </a:lnTo>
                <a:lnTo>
                  <a:pt x="1655" y="1840"/>
                </a:lnTo>
                <a:lnTo>
                  <a:pt x="1683" y="1840"/>
                </a:lnTo>
                <a:lnTo>
                  <a:pt x="1710" y="1840"/>
                </a:lnTo>
                <a:lnTo>
                  <a:pt x="1745" y="1840"/>
                </a:lnTo>
                <a:lnTo>
                  <a:pt x="1772" y="1840"/>
                </a:lnTo>
                <a:lnTo>
                  <a:pt x="1800" y="1840"/>
                </a:lnTo>
                <a:lnTo>
                  <a:pt x="1828" y="1840"/>
                </a:lnTo>
                <a:lnTo>
                  <a:pt x="1862" y="1840"/>
                </a:lnTo>
                <a:lnTo>
                  <a:pt x="1890" y="1840"/>
                </a:lnTo>
                <a:lnTo>
                  <a:pt x="1917" y="1840"/>
                </a:lnTo>
                <a:lnTo>
                  <a:pt x="1952" y="1840"/>
                </a:lnTo>
                <a:lnTo>
                  <a:pt x="1979" y="1840"/>
                </a:lnTo>
                <a:lnTo>
                  <a:pt x="2007" y="1840"/>
                </a:lnTo>
                <a:lnTo>
                  <a:pt x="2034" y="1840"/>
                </a:lnTo>
                <a:lnTo>
                  <a:pt x="2069" y="1840"/>
                </a:lnTo>
                <a:lnTo>
                  <a:pt x="2096" y="1840"/>
                </a:lnTo>
                <a:lnTo>
                  <a:pt x="2124" y="1840"/>
                </a:lnTo>
                <a:lnTo>
                  <a:pt x="2158" y="1840"/>
                </a:lnTo>
                <a:lnTo>
                  <a:pt x="2186" y="1840"/>
                </a:lnTo>
                <a:lnTo>
                  <a:pt x="2214" y="1840"/>
                </a:lnTo>
                <a:lnTo>
                  <a:pt x="2241" y="1840"/>
                </a:lnTo>
                <a:lnTo>
                  <a:pt x="2276" y="1840"/>
                </a:lnTo>
                <a:lnTo>
                  <a:pt x="2303" y="1840"/>
                </a:lnTo>
                <a:lnTo>
                  <a:pt x="2331" y="1840"/>
                </a:lnTo>
                <a:lnTo>
                  <a:pt x="2365" y="1840"/>
                </a:lnTo>
                <a:lnTo>
                  <a:pt x="2393" y="1840"/>
                </a:lnTo>
                <a:lnTo>
                  <a:pt x="2420" y="1840"/>
                </a:lnTo>
                <a:lnTo>
                  <a:pt x="2448" y="1840"/>
                </a:lnTo>
                <a:lnTo>
                  <a:pt x="2483" y="1840"/>
                </a:lnTo>
                <a:close/>
                <a:moveTo>
                  <a:pt x="449" y="1213"/>
                </a:moveTo>
                <a:lnTo>
                  <a:pt x="442" y="1213"/>
                </a:lnTo>
                <a:lnTo>
                  <a:pt x="442" y="1213"/>
                </a:lnTo>
                <a:lnTo>
                  <a:pt x="469" y="1247"/>
                </a:lnTo>
                <a:lnTo>
                  <a:pt x="449" y="1213"/>
                </a:lnTo>
                <a:close/>
                <a:moveTo>
                  <a:pt x="421" y="1185"/>
                </a:moveTo>
                <a:lnTo>
                  <a:pt x="414" y="1171"/>
                </a:lnTo>
                <a:lnTo>
                  <a:pt x="414" y="1185"/>
                </a:lnTo>
                <a:lnTo>
                  <a:pt x="421" y="1185"/>
                </a:lnTo>
                <a:close/>
                <a:moveTo>
                  <a:pt x="400" y="1158"/>
                </a:moveTo>
                <a:lnTo>
                  <a:pt x="386" y="1137"/>
                </a:lnTo>
                <a:lnTo>
                  <a:pt x="386" y="1158"/>
                </a:lnTo>
                <a:lnTo>
                  <a:pt x="400" y="1158"/>
                </a:lnTo>
                <a:close/>
                <a:moveTo>
                  <a:pt x="373" y="1130"/>
                </a:moveTo>
                <a:lnTo>
                  <a:pt x="352" y="1103"/>
                </a:lnTo>
                <a:lnTo>
                  <a:pt x="352" y="1130"/>
                </a:lnTo>
                <a:lnTo>
                  <a:pt x="373" y="1130"/>
                </a:lnTo>
                <a:close/>
                <a:moveTo>
                  <a:pt x="931" y="1130"/>
                </a:moveTo>
                <a:lnTo>
                  <a:pt x="938" y="1123"/>
                </a:lnTo>
                <a:lnTo>
                  <a:pt x="938" y="1123"/>
                </a:lnTo>
                <a:lnTo>
                  <a:pt x="945" y="1123"/>
                </a:lnTo>
                <a:lnTo>
                  <a:pt x="952" y="1123"/>
                </a:lnTo>
                <a:lnTo>
                  <a:pt x="959" y="1123"/>
                </a:lnTo>
                <a:lnTo>
                  <a:pt x="966" y="1123"/>
                </a:lnTo>
                <a:lnTo>
                  <a:pt x="973" y="1123"/>
                </a:lnTo>
                <a:lnTo>
                  <a:pt x="979" y="1123"/>
                </a:lnTo>
                <a:lnTo>
                  <a:pt x="979" y="1123"/>
                </a:lnTo>
                <a:lnTo>
                  <a:pt x="986" y="1123"/>
                </a:lnTo>
                <a:lnTo>
                  <a:pt x="993" y="1123"/>
                </a:lnTo>
                <a:lnTo>
                  <a:pt x="1000" y="1123"/>
                </a:lnTo>
                <a:lnTo>
                  <a:pt x="1007" y="1130"/>
                </a:lnTo>
                <a:lnTo>
                  <a:pt x="1000" y="1130"/>
                </a:lnTo>
                <a:lnTo>
                  <a:pt x="993" y="1130"/>
                </a:lnTo>
                <a:lnTo>
                  <a:pt x="986" y="1130"/>
                </a:lnTo>
                <a:lnTo>
                  <a:pt x="979" y="1130"/>
                </a:lnTo>
                <a:lnTo>
                  <a:pt x="979" y="1130"/>
                </a:lnTo>
                <a:lnTo>
                  <a:pt x="973" y="1130"/>
                </a:lnTo>
                <a:lnTo>
                  <a:pt x="966" y="1137"/>
                </a:lnTo>
                <a:lnTo>
                  <a:pt x="959" y="1137"/>
                </a:lnTo>
                <a:lnTo>
                  <a:pt x="952" y="1137"/>
                </a:lnTo>
                <a:lnTo>
                  <a:pt x="945" y="1137"/>
                </a:lnTo>
                <a:lnTo>
                  <a:pt x="938" y="1130"/>
                </a:lnTo>
                <a:lnTo>
                  <a:pt x="938" y="1130"/>
                </a:lnTo>
                <a:lnTo>
                  <a:pt x="931" y="1130"/>
                </a:lnTo>
                <a:close/>
                <a:moveTo>
                  <a:pt x="352" y="1096"/>
                </a:moveTo>
                <a:lnTo>
                  <a:pt x="345" y="1096"/>
                </a:lnTo>
                <a:lnTo>
                  <a:pt x="345" y="1089"/>
                </a:lnTo>
                <a:lnTo>
                  <a:pt x="338" y="1089"/>
                </a:lnTo>
                <a:lnTo>
                  <a:pt x="338" y="1082"/>
                </a:lnTo>
                <a:lnTo>
                  <a:pt x="331" y="1075"/>
                </a:lnTo>
                <a:lnTo>
                  <a:pt x="331" y="1075"/>
                </a:lnTo>
                <a:lnTo>
                  <a:pt x="324" y="1068"/>
                </a:lnTo>
                <a:lnTo>
                  <a:pt x="324" y="1068"/>
                </a:lnTo>
                <a:lnTo>
                  <a:pt x="324" y="1068"/>
                </a:lnTo>
                <a:lnTo>
                  <a:pt x="324" y="1096"/>
                </a:lnTo>
                <a:lnTo>
                  <a:pt x="352" y="1096"/>
                </a:lnTo>
                <a:close/>
                <a:moveTo>
                  <a:pt x="304" y="1041"/>
                </a:moveTo>
                <a:lnTo>
                  <a:pt x="297" y="1027"/>
                </a:lnTo>
                <a:lnTo>
                  <a:pt x="297" y="1041"/>
                </a:lnTo>
                <a:lnTo>
                  <a:pt x="304" y="1041"/>
                </a:lnTo>
                <a:close/>
                <a:moveTo>
                  <a:pt x="276" y="1006"/>
                </a:moveTo>
                <a:lnTo>
                  <a:pt x="262" y="992"/>
                </a:lnTo>
                <a:lnTo>
                  <a:pt x="262" y="1006"/>
                </a:lnTo>
                <a:lnTo>
                  <a:pt x="276" y="1006"/>
                </a:lnTo>
                <a:close/>
                <a:moveTo>
                  <a:pt x="255" y="979"/>
                </a:moveTo>
                <a:lnTo>
                  <a:pt x="235" y="958"/>
                </a:lnTo>
                <a:lnTo>
                  <a:pt x="235" y="979"/>
                </a:lnTo>
                <a:lnTo>
                  <a:pt x="255" y="979"/>
                </a:lnTo>
                <a:close/>
                <a:moveTo>
                  <a:pt x="1007" y="979"/>
                </a:moveTo>
                <a:lnTo>
                  <a:pt x="1007" y="972"/>
                </a:lnTo>
                <a:lnTo>
                  <a:pt x="1000" y="972"/>
                </a:lnTo>
                <a:lnTo>
                  <a:pt x="1000" y="979"/>
                </a:lnTo>
                <a:lnTo>
                  <a:pt x="1000" y="979"/>
                </a:lnTo>
                <a:lnTo>
                  <a:pt x="1000" y="985"/>
                </a:lnTo>
                <a:lnTo>
                  <a:pt x="1000" y="992"/>
                </a:lnTo>
                <a:lnTo>
                  <a:pt x="1000" y="992"/>
                </a:lnTo>
                <a:lnTo>
                  <a:pt x="1000" y="992"/>
                </a:lnTo>
                <a:lnTo>
                  <a:pt x="1007" y="992"/>
                </a:lnTo>
                <a:lnTo>
                  <a:pt x="1007" y="992"/>
                </a:lnTo>
                <a:lnTo>
                  <a:pt x="1007" y="992"/>
                </a:lnTo>
                <a:lnTo>
                  <a:pt x="1007" y="992"/>
                </a:lnTo>
                <a:lnTo>
                  <a:pt x="1007" y="985"/>
                </a:lnTo>
                <a:lnTo>
                  <a:pt x="1007" y="979"/>
                </a:lnTo>
                <a:close/>
                <a:moveTo>
                  <a:pt x="228" y="951"/>
                </a:moveTo>
                <a:lnTo>
                  <a:pt x="228" y="944"/>
                </a:lnTo>
                <a:lnTo>
                  <a:pt x="221" y="937"/>
                </a:lnTo>
                <a:lnTo>
                  <a:pt x="214" y="930"/>
                </a:lnTo>
                <a:lnTo>
                  <a:pt x="214" y="930"/>
                </a:lnTo>
                <a:lnTo>
                  <a:pt x="207" y="923"/>
                </a:lnTo>
                <a:lnTo>
                  <a:pt x="207" y="917"/>
                </a:lnTo>
                <a:lnTo>
                  <a:pt x="200" y="910"/>
                </a:lnTo>
                <a:lnTo>
                  <a:pt x="193" y="910"/>
                </a:lnTo>
                <a:lnTo>
                  <a:pt x="193" y="903"/>
                </a:lnTo>
                <a:lnTo>
                  <a:pt x="187" y="896"/>
                </a:lnTo>
                <a:lnTo>
                  <a:pt x="187" y="889"/>
                </a:lnTo>
                <a:lnTo>
                  <a:pt x="180" y="889"/>
                </a:lnTo>
                <a:lnTo>
                  <a:pt x="173" y="882"/>
                </a:lnTo>
                <a:lnTo>
                  <a:pt x="173" y="875"/>
                </a:lnTo>
                <a:lnTo>
                  <a:pt x="166" y="868"/>
                </a:lnTo>
                <a:lnTo>
                  <a:pt x="166" y="868"/>
                </a:lnTo>
                <a:lnTo>
                  <a:pt x="159" y="861"/>
                </a:lnTo>
                <a:lnTo>
                  <a:pt x="152" y="855"/>
                </a:lnTo>
                <a:lnTo>
                  <a:pt x="152" y="848"/>
                </a:lnTo>
                <a:lnTo>
                  <a:pt x="145" y="848"/>
                </a:lnTo>
                <a:lnTo>
                  <a:pt x="145" y="861"/>
                </a:lnTo>
                <a:lnTo>
                  <a:pt x="145" y="889"/>
                </a:lnTo>
                <a:lnTo>
                  <a:pt x="180" y="917"/>
                </a:lnTo>
                <a:lnTo>
                  <a:pt x="207" y="951"/>
                </a:lnTo>
                <a:lnTo>
                  <a:pt x="228" y="951"/>
                </a:lnTo>
                <a:close/>
                <a:moveTo>
                  <a:pt x="1048" y="951"/>
                </a:moveTo>
                <a:lnTo>
                  <a:pt x="1055" y="944"/>
                </a:lnTo>
                <a:lnTo>
                  <a:pt x="1062" y="937"/>
                </a:lnTo>
                <a:lnTo>
                  <a:pt x="1069" y="937"/>
                </a:lnTo>
                <a:lnTo>
                  <a:pt x="1076" y="937"/>
                </a:lnTo>
                <a:lnTo>
                  <a:pt x="1090" y="944"/>
                </a:lnTo>
                <a:lnTo>
                  <a:pt x="1097" y="944"/>
                </a:lnTo>
                <a:lnTo>
                  <a:pt x="1104" y="944"/>
                </a:lnTo>
                <a:lnTo>
                  <a:pt x="1110" y="937"/>
                </a:lnTo>
                <a:lnTo>
                  <a:pt x="1117" y="930"/>
                </a:lnTo>
                <a:lnTo>
                  <a:pt x="1117" y="923"/>
                </a:lnTo>
                <a:lnTo>
                  <a:pt x="1117" y="917"/>
                </a:lnTo>
                <a:lnTo>
                  <a:pt x="1110" y="910"/>
                </a:lnTo>
                <a:lnTo>
                  <a:pt x="1110" y="903"/>
                </a:lnTo>
                <a:lnTo>
                  <a:pt x="1104" y="896"/>
                </a:lnTo>
                <a:lnTo>
                  <a:pt x="1097" y="896"/>
                </a:lnTo>
                <a:lnTo>
                  <a:pt x="1097" y="889"/>
                </a:lnTo>
                <a:lnTo>
                  <a:pt x="1097" y="882"/>
                </a:lnTo>
                <a:lnTo>
                  <a:pt x="1097" y="875"/>
                </a:lnTo>
                <a:lnTo>
                  <a:pt x="1097" y="868"/>
                </a:lnTo>
                <a:lnTo>
                  <a:pt x="1097" y="861"/>
                </a:lnTo>
                <a:lnTo>
                  <a:pt x="1090" y="855"/>
                </a:lnTo>
                <a:lnTo>
                  <a:pt x="1090" y="848"/>
                </a:lnTo>
                <a:lnTo>
                  <a:pt x="1090" y="848"/>
                </a:lnTo>
                <a:lnTo>
                  <a:pt x="1083" y="841"/>
                </a:lnTo>
                <a:lnTo>
                  <a:pt x="1083" y="834"/>
                </a:lnTo>
                <a:lnTo>
                  <a:pt x="1076" y="827"/>
                </a:lnTo>
                <a:lnTo>
                  <a:pt x="1076" y="820"/>
                </a:lnTo>
                <a:lnTo>
                  <a:pt x="1076" y="813"/>
                </a:lnTo>
                <a:lnTo>
                  <a:pt x="1076" y="806"/>
                </a:lnTo>
                <a:lnTo>
                  <a:pt x="1076" y="806"/>
                </a:lnTo>
                <a:lnTo>
                  <a:pt x="1076" y="799"/>
                </a:lnTo>
                <a:lnTo>
                  <a:pt x="1069" y="793"/>
                </a:lnTo>
                <a:lnTo>
                  <a:pt x="1069" y="786"/>
                </a:lnTo>
                <a:lnTo>
                  <a:pt x="1069" y="779"/>
                </a:lnTo>
                <a:lnTo>
                  <a:pt x="1069" y="772"/>
                </a:lnTo>
                <a:lnTo>
                  <a:pt x="1069" y="765"/>
                </a:lnTo>
                <a:lnTo>
                  <a:pt x="1069" y="758"/>
                </a:lnTo>
                <a:lnTo>
                  <a:pt x="1069" y="751"/>
                </a:lnTo>
                <a:lnTo>
                  <a:pt x="1069" y="751"/>
                </a:lnTo>
                <a:lnTo>
                  <a:pt x="1062" y="744"/>
                </a:lnTo>
                <a:lnTo>
                  <a:pt x="1062" y="737"/>
                </a:lnTo>
                <a:lnTo>
                  <a:pt x="1062" y="731"/>
                </a:lnTo>
                <a:lnTo>
                  <a:pt x="1062" y="724"/>
                </a:lnTo>
                <a:lnTo>
                  <a:pt x="1055" y="717"/>
                </a:lnTo>
                <a:lnTo>
                  <a:pt x="1055" y="710"/>
                </a:lnTo>
                <a:lnTo>
                  <a:pt x="1055" y="703"/>
                </a:lnTo>
                <a:lnTo>
                  <a:pt x="1048" y="703"/>
                </a:lnTo>
                <a:lnTo>
                  <a:pt x="1048" y="696"/>
                </a:lnTo>
                <a:lnTo>
                  <a:pt x="1048" y="689"/>
                </a:lnTo>
                <a:lnTo>
                  <a:pt x="1041" y="682"/>
                </a:lnTo>
                <a:lnTo>
                  <a:pt x="1041" y="675"/>
                </a:lnTo>
                <a:lnTo>
                  <a:pt x="1041" y="669"/>
                </a:lnTo>
                <a:lnTo>
                  <a:pt x="1041" y="662"/>
                </a:lnTo>
                <a:lnTo>
                  <a:pt x="1041" y="655"/>
                </a:lnTo>
                <a:lnTo>
                  <a:pt x="1041" y="655"/>
                </a:lnTo>
                <a:lnTo>
                  <a:pt x="1041" y="648"/>
                </a:lnTo>
                <a:lnTo>
                  <a:pt x="1041" y="641"/>
                </a:lnTo>
                <a:lnTo>
                  <a:pt x="1041" y="634"/>
                </a:lnTo>
                <a:lnTo>
                  <a:pt x="1035" y="627"/>
                </a:lnTo>
                <a:lnTo>
                  <a:pt x="1035" y="620"/>
                </a:lnTo>
                <a:lnTo>
                  <a:pt x="1035" y="613"/>
                </a:lnTo>
                <a:lnTo>
                  <a:pt x="1028" y="607"/>
                </a:lnTo>
                <a:lnTo>
                  <a:pt x="1028" y="607"/>
                </a:lnTo>
                <a:lnTo>
                  <a:pt x="1028" y="600"/>
                </a:lnTo>
                <a:lnTo>
                  <a:pt x="1021" y="593"/>
                </a:lnTo>
                <a:lnTo>
                  <a:pt x="1021" y="586"/>
                </a:lnTo>
                <a:lnTo>
                  <a:pt x="1021" y="579"/>
                </a:lnTo>
                <a:lnTo>
                  <a:pt x="1021" y="572"/>
                </a:lnTo>
                <a:lnTo>
                  <a:pt x="1014" y="565"/>
                </a:lnTo>
                <a:lnTo>
                  <a:pt x="1014" y="558"/>
                </a:lnTo>
                <a:lnTo>
                  <a:pt x="1007" y="558"/>
                </a:lnTo>
                <a:lnTo>
                  <a:pt x="1007" y="551"/>
                </a:lnTo>
                <a:lnTo>
                  <a:pt x="1000" y="545"/>
                </a:lnTo>
                <a:lnTo>
                  <a:pt x="993" y="538"/>
                </a:lnTo>
                <a:lnTo>
                  <a:pt x="993" y="538"/>
                </a:lnTo>
                <a:lnTo>
                  <a:pt x="986" y="531"/>
                </a:lnTo>
                <a:lnTo>
                  <a:pt x="986" y="524"/>
                </a:lnTo>
                <a:lnTo>
                  <a:pt x="986" y="517"/>
                </a:lnTo>
                <a:lnTo>
                  <a:pt x="979" y="510"/>
                </a:lnTo>
                <a:lnTo>
                  <a:pt x="973" y="503"/>
                </a:lnTo>
                <a:lnTo>
                  <a:pt x="979" y="503"/>
                </a:lnTo>
                <a:lnTo>
                  <a:pt x="986" y="510"/>
                </a:lnTo>
                <a:lnTo>
                  <a:pt x="993" y="510"/>
                </a:lnTo>
                <a:lnTo>
                  <a:pt x="1000" y="510"/>
                </a:lnTo>
                <a:lnTo>
                  <a:pt x="1007" y="517"/>
                </a:lnTo>
                <a:lnTo>
                  <a:pt x="1014" y="517"/>
                </a:lnTo>
                <a:lnTo>
                  <a:pt x="1021" y="524"/>
                </a:lnTo>
                <a:lnTo>
                  <a:pt x="1028" y="531"/>
                </a:lnTo>
                <a:lnTo>
                  <a:pt x="1028" y="538"/>
                </a:lnTo>
                <a:lnTo>
                  <a:pt x="1041" y="538"/>
                </a:lnTo>
                <a:lnTo>
                  <a:pt x="1048" y="531"/>
                </a:lnTo>
                <a:lnTo>
                  <a:pt x="1048" y="531"/>
                </a:lnTo>
                <a:lnTo>
                  <a:pt x="1048" y="524"/>
                </a:lnTo>
                <a:lnTo>
                  <a:pt x="1048" y="517"/>
                </a:lnTo>
                <a:lnTo>
                  <a:pt x="1041" y="510"/>
                </a:lnTo>
                <a:lnTo>
                  <a:pt x="1041" y="503"/>
                </a:lnTo>
                <a:lnTo>
                  <a:pt x="1035" y="496"/>
                </a:lnTo>
                <a:lnTo>
                  <a:pt x="1035" y="489"/>
                </a:lnTo>
                <a:lnTo>
                  <a:pt x="1035" y="483"/>
                </a:lnTo>
                <a:lnTo>
                  <a:pt x="1035" y="483"/>
                </a:lnTo>
                <a:lnTo>
                  <a:pt x="1035" y="476"/>
                </a:lnTo>
                <a:lnTo>
                  <a:pt x="1028" y="469"/>
                </a:lnTo>
                <a:lnTo>
                  <a:pt x="1028" y="462"/>
                </a:lnTo>
                <a:lnTo>
                  <a:pt x="1028" y="455"/>
                </a:lnTo>
                <a:lnTo>
                  <a:pt x="1028" y="448"/>
                </a:lnTo>
                <a:lnTo>
                  <a:pt x="1021" y="441"/>
                </a:lnTo>
                <a:lnTo>
                  <a:pt x="1021" y="434"/>
                </a:lnTo>
                <a:lnTo>
                  <a:pt x="1021" y="434"/>
                </a:lnTo>
                <a:lnTo>
                  <a:pt x="1021" y="427"/>
                </a:lnTo>
                <a:lnTo>
                  <a:pt x="1014" y="421"/>
                </a:lnTo>
                <a:lnTo>
                  <a:pt x="1014" y="414"/>
                </a:lnTo>
                <a:lnTo>
                  <a:pt x="1014" y="407"/>
                </a:lnTo>
                <a:lnTo>
                  <a:pt x="1007" y="400"/>
                </a:lnTo>
                <a:lnTo>
                  <a:pt x="1007" y="393"/>
                </a:lnTo>
                <a:lnTo>
                  <a:pt x="1007" y="386"/>
                </a:lnTo>
                <a:lnTo>
                  <a:pt x="1007" y="386"/>
                </a:lnTo>
                <a:lnTo>
                  <a:pt x="1007" y="379"/>
                </a:lnTo>
                <a:lnTo>
                  <a:pt x="1014" y="372"/>
                </a:lnTo>
                <a:lnTo>
                  <a:pt x="1014" y="365"/>
                </a:lnTo>
                <a:lnTo>
                  <a:pt x="1021" y="359"/>
                </a:lnTo>
                <a:lnTo>
                  <a:pt x="1021" y="352"/>
                </a:lnTo>
                <a:lnTo>
                  <a:pt x="1021" y="345"/>
                </a:lnTo>
                <a:lnTo>
                  <a:pt x="1021" y="345"/>
                </a:lnTo>
                <a:lnTo>
                  <a:pt x="1021" y="338"/>
                </a:lnTo>
                <a:lnTo>
                  <a:pt x="1021" y="331"/>
                </a:lnTo>
                <a:lnTo>
                  <a:pt x="1021" y="324"/>
                </a:lnTo>
                <a:lnTo>
                  <a:pt x="1021" y="317"/>
                </a:lnTo>
                <a:lnTo>
                  <a:pt x="1021" y="310"/>
                </a:lnTo>
                <a:lnTo>
                  <a:pt x="1021" y="303"/>
                </a:lnTo>
                <a:lnTo>
                  <a:pt x="1014" y="297"/>
                </a:lnTo>
                <a:lnTo>
                  <a:pt x="1007" y="290"/>
                </a:lnTo>
                <a:lnTo>
                  <a:pt x="1000" y="290"/>
                </a:lnTo>
                <a:lnTo>
                  <a:pt x="1000" y="303"/>
                </a:lnTo>
                <a:lnTo>
                  <a:pt x="1000" y="310"/>
                </a:lnTo>
                <a:lnTo>
                  <a:pt x="1000" y="310"/>
                </a:lnTo>
                <a:lnTo>
                  <a:pt x="1000" y="317"/>
                </a:lnTo>
                <a:lnTo>
                  <a:pt x="1000" y="324"/>
                </a:lnTo>
                <a:lnTo>
                  <a:pt x="993" y="331"/>
                </a:lnTo>
                <a:lnTo>
                  <a:pt x="986" y="331"/>
                </a:lnTo>
                <a:lnTo>
                  <a:pt x="973" y="338"/>
                </a:lnTo>
                <a:lnTo>
                  <a:pt x="966" y="338"/>
                </a:lnTo>
                <a:lnTo>
                  <a:pt x="959" y="345"/>
                </a:lnTo>
                <a:lnTo>
                  <a:pt x="959" y="345"/>
                </a:lnTo>
                <a:lnTo>
                  <a:pt x="952" y="352"/>
                </a:lnTo>
                <a:lnTo>
                  <a:pt x="945" y="359"/>
                </a:lnTo>
                <a:lnTo>
                  <a:pt x="938" y="352"/>
                </a:lnTo>
                <a:lnTo>
                  <a:pt x="945" y="345"/>
                </a:lnTo>
                <a:lnTo>
                  <a:pt x="945" y="338"/>
                </a:lnTo>
                <a:lnTo>
                  <a:pt x="945" y="331"/>
                </a:lnTo>
                <a:lnTo>
                  <a:pt x="945" y="324"/>
                </a:lnTo>
                <a:lnTo>
                  <a:pt x="952" y="317"/>
                </a:lnTo>
                <a:lnTo>
                  <a:pt x="952" y="310"/>
                </a:lnTo>
                <a:lnTo>
                  <a:pt x="952" y="310"/>
                </a:lnTo>
                <a:lnTo>
                  <a:pt x="959" y="303"/>
                </a:lnTo>
                <a:lnTo>
                  <a:pt x="959" y="297"/>
                </a:lnTo>
                <a:lnTo>
                  <a:pt x="966" y="290"/>
                </a:lnTo>
                <a:lnTo>
                  <a:pt x="973" y="283"/>
                </a:lnTo>
                <a:lnTo>
                  <a:pt x="979" y="283"/>
                </a:lnTo>
                <a:lnTo>
                  <a:pt x="979" y="276"/>
                </a:lnTo>
                <a:lnTo>
                  <a:pt x="986" y="269"/>
                </a:lnTo>
                <a:lnTo>
                  <a:pt x="993" y="269"/>
                </a:lnTo>
                <a:lnTo>
                  <a:pt x="1000" y="262"/>
                </a:lnTo>
                <a:lnTo>
                  <a:pt x="1007" y="255"/>
                </a:lnTo>
                <a:lnTo>
                  <a:pt x="1007" y="248"/>
                </a:lnTo>
                <a:lnTo>
                  <a:pt x="1014" y="248"/>
                </a:lnTo>
                <a:lnTo>
                  <a:pt x="1021" y="241"/>
                </a:lnTo>
                <a:lnTo>
                  <a:pt x="1028" y="235"/>
                </a:lnTo>
                <a:lnTo>
                  <a:pt x="1028" y="228"/>
                </a:lnTo>
                <a:lnTo>
                  <a:pt x="1035" y="228"/>
                </a:lnTo>
                <a:lnTo>
                  <a:pt x="1041" y="221"/>
                </a:lnTo>
                <a:lnTo>
                  <a:pt x="1048" y="214"/>
                </a:lnTo>
                <a:lnTo>
                  <a:pt x="1055" y="214"/>
                </a:lnTo>
                <a:lnTo>
                  <a:pt x="1055" y="207"/>
                </a:lnTo>
                <a:lnTo>
                  <a:pt x="1062" y="200"/>
                </a:lnTo>
                <a:lnTo>
                  <a:pt x="1062" y="193"/>
                </a:lnTo>
                <a:lnTo>
                  <a:pt x="1069" y="186"/>
                </a:lnTo>
                <a:lnTo>
                  <a:pt x="1076" y="186"/>
                </a:lnTo>
                <a:lnTo>
                  <a:pt x="1090" y="186"/>
                </a:lnTo>
                <a:lnTo>
                  <a:pt x="1097" y="179"/>
                </a:lnTo>
                <a:lnTo>
                  <a:pt x="1104" y="179"/>
                </a:lnTo>
                <a:lnTo>
                  <a:pt x="1110" y="179"/>
                </a:lnTo>
                <a:lnTo>
                  <a:pt x="1124" y="173"/>
                </a:lnTo>
                <a:lnTo>
                  <a:pt x="1131" y="173"/>
                </a:lnTo>
                <a:lnTo>
                  <a:pt x="1138" y="166"/>
                </a:lnTo>
                <a:lnTo>
                  <a:pt x="1145" y="166"/>
                </a:lnTo>
                <a:lnTo>
                  <a:pt x="1159" y="166"/>
                </a:lnTo>
                <a:lnTo>
                  <a:pt x="1166" y="159"/>
                </a:lnTo>
                <a:lnTo>
                  <a:pt x="1172" y="159"/>
                </a:lnTo>
                <a:lnTo>
                  <a:pt x="1186" y="159"/>
                </a:lnTo>
                <a:lnTo>
                  <a:pt x="1193" y="159"/>
                </a:lnTo>
                <a:lnTo>
                  <a:pt x="1200" y="159"/>
                </a:lnTo>
                <a:lnTo>
                  <a:pt x="1214" y="152"/>
                </a:lnTo>
                <a:lnTo>
                  <a:pt x="1214" y="145"/>
                </a:lnTo>
                <a:lnTo>
                  <a:pt x="1228" y="145"/>
                </a:lnTo>
                <a:lnTo>
                  <a:pt x="1235" y="145"/>
                </a:lnTo>
                <a:lnTo>
                  <a:pt x="1241" y="138"/>
                </a:lnTo>
                <a:lnTo>
                  <a:pt x="1248" y="138"/>
                </a:lnTo>
                <a:lnTo>
                  <a:pt x="1262" y="138"/>
                </a:lnTo>
                <a:lnTo>
                  <a:pt x="1269" y="131"/>
                </a:lnTo>
                <a:lnTo>
                  <a:pt x="1276" y="131"/>
                </a:lnTo>
                <a:lnTo>
                  <a:pt x="1290" y="131"/>
                </a:lnTo>
                <a:lnTo>
                  <a:pt x="1297" y="131"/>
                </a:lnTo>
                <a:lnTo>
                  <a:pt x="1303" y="131"/>
                </a:lnTo>
                <a:lnTo>
                  <a:pt x="1310" y="124"/>
                </a:lnTo>
                <a:lnTo>
                  <a:pt x="1317" y="117"/>
                </a:lnTo>
                <a:lnTo>
                  <a:pt x="1331" y="117"/>
                </a:lnTo>
                <a:lnTo>
                  <a:pt x="1338" y="117"/>
                </a:lnTo>
                <a:lnTo>
                  <a:pt x="1345" y="111"/>
                </a:lnTo>
                <a:lnTo>
                  <a:pt x="1352" y="111"/>
                </a:lnTo>
                <a:lnTo>
                  <a:pt x="1366" y="104"/>
                </a:lnTo>
                <a:lnTo>
                  <a:pt x="1372" y="104"/>
                </a:lnTo>
                <a:lnTo>
                  <a:pt x="1379" y="104"/>
                </a:lnTo>
                <a:lnTo>
                  <a:pt x="1393" y="104"/>
                </a:lnTo>
                <a:lnTo>
                  <a:pt x="1400" y="104"/>
                </a:lnTo>
                <a:lnTo>
                  <a:pt x="1407" y="111"/>
                </a:lnTo>
                <a:lnTo>
                  <a:pt x="1414" y="111"/>
                </a:lnTo>
                <a:lnTo>
                  <a:pt x="1421" y="104"/>
                </a:lnTo>
                <a:lnTo>
                  <a:pt x="1428" y="97"/>
                </a:lnTo>
                <a:lnTo>
                  <a:pt x="1428" y="90"/>
                </a:lnTo>
                <a:lnTo>
                  <a:pt x="1434" y="90"/>
                </a:lnTo>
                <a:lnTo>
                  <a:pt x="1441" y="83"/>
                </a:lnTo>
                <a:lnTo>
                  <a:pt x="1455" y="83"/>
                </a:lnTo>
                <a:lnTo>
                  <a:pt x="1462" y="76"/>
                </a:lnTo>
                <a:lnTo>
                  <a:pt x="1469" y="76"/>
                </a:lnTo>
                <a:lnTo>
                  <a:pt x="1476" y="76"/>
                </a:lnTo>
                <a:lnTo>
                  <a:pt x="1490" y="76"/>
                </a:lnTo>
                <a:lnTo>
                  <a:pt x="1497" y="76"/>
                </a:lnTo>
                <a:lnTo>
                  <a:pt x="1503" y="83"/>
                </a:lnTo>
                <a:lnTo>
                  <a:pt x="1517" y="83"/>
                </a:lnTo>
                <a:lnTo>
                  <a:pt x="1524" y="83"/>
                </a:lnTo>
                <a:lnTo>
                  <a:pt x="1531" y="90"/>
                </a:lnTo>
                <a:lnTo>
                  <a:pt x="1538" y="90"/>
                </a:lnTo>
                <a:lnTo>
                  <a:pt x="1545" y="90"/>
                </a:lnTo>
                <a:lnTo>
                  <a:pt x="1552" y="83"/>
                </a:lnTo>
                <a:lnTo>
                  <a:pt x="1545" y="76"/>
                </a:lnTo>
                <a:lnTo>
                  <a:pt x="1545" y="69"/>
                </a:lnTo>
                <a:lnTo>
                  <a:pt x="1538" y="62"/>
                </a:lnTo>
                <a:lnTo>
                  <a:pt x="1538" y="55"/>
                </a:lnTo>
                <a:lnTo>
                  <a:pt x="1545" y="55"/>
                </a:lnTo>
                <a:lnTo>
                  <a:pt x="1552" y="49"/>
                </a:lnTo>
                <a:lnTo>
                  <a:pt x="1566" y="49"/>
                </a:lnTo>
                <a:lnTo>
                  <a:pt x="1572" y="49"/>
                </a:lnTo>
                <a:lnTo>
                  <a:pt x="1586" y="49"/>
                </a:lnTo>
                <a:lnTo>
                  <a:pt x="1593" y="49"/>
                </a:lnTo>
                <a:lnTo>
                  <a:pt x="1600" y="49"/>
                </a:lnTo>
                <a:lnTo>
                  <a:pt x="1607" y="49"/>
                </a:lnTo>
                <a:lnTo>
                  <a:pt x="1614" y="55"/>
                </a:lnTo>
                <a:lnTo>
                  <a:pt x="1621" y="62"/>
                </a:lnTo>
                <a:lnTo>
                  <a:pt x="1628" y="55"/>
                </a:lnTo>
                <a:lnTo>
                  <a:pt x="1634" y="49"/>
                </a:lnTo>
                <a:lnTo>
                  <a:pt x="1641" y="42"/>
                </a:lnTo>
                <a:lnTo>
                  <a:pt x="1641" y="42"/>
                </a:lnTo>
                <a:lnTo>
                  <a:pt x="1648" y="35"/>
                </a:lnTo>
                <a:lnTo>
                  <a:pt x="1648" y="28"/>
                </a:lnTo>
                <a:lnTo>
                  <a:pt x="1655" y="21"/>
                </a:lnTo>
                <a:lnTo>
                  <a:pt x="1662" y="21"/>
                </a:lnTo>
                <a:lnTo>
                  <a:pt x="1669" y="14"/>
                </a:lnTo>
                <a:lnTo>
                  <a:pt x="1676" y="14"/>
                </a:lnTo>
                <a:lnTo>
                  <a:pt x="1690" y="14"/>
                </a:lnTo>
                <a:lnTo>
                  <a:pt x="1697" y="14"/>
                </a:lnTo>
                <a:lnTo>
                  <a:pt x="1703" y="14"/>
                </a:lnTo>
                <a:lnTo>
                  <a:pt x="1717" y="14"/>
                </a:lnTo>
                <a:lnTo>
                  <a:pt x="1724" y="14"/>
                </a:lnTo>
                <a:lnTo>
                  <a:pt x="1731" y="7"/>
                </a:lnTo>
                <a:lnTo>
                  <a:pt x="1738" y="0"/>
                </a:lnTo>
                <a:lnTo>
                  <a:pt x="1745" y="0"/>
                </a:lnTo>
                <a:lnTo>
                  <a:pt x="1745" y="0"/>
                </a:lnTo>
                <a:lnTo>
                  <a:pt x="1710" y="0"/>
                </a:lnTo>
                <a:lnTo>
                  <a:pt x="1683" y="0"/>
                </a:lnTo>
                <a:lnTo>
                  <a:pt x="1655" y="0"/>
                </a:lnTo>
                <a:lnTo>
                  <a:pt x="1621" y="0"/>
                </a:lnTo>
                <a:lnTo>
                  <a:pt x="1593" y="0"/>
                </a:lnTo>
                <a:lnTo>
                  <a:pt x="1566" y="0"/>
                </a:lnTo>
                <a:lnTo>
                  <a:pt x="1538" y="0"/>
                </a:lnTo>
                <a:lnTo>
                  <a:pt x="1503" y="0"/>
                </a:lnTo>
                <a:lnTo>
                  <a:pt x="1476" y="0"/>
                </a:lnTo>
                <a:lnTo>
                  <a:pt x="1448" y="0"/>
                </a:lnTo>
                <a:lnTo>
                  <a:pt x="1414" y="0"/>
                </a:lnTo>
                <a:lnTo>
                  <a:pt x="1386" y="0"/>
                </a:lnTo>
                <a:lnTo>
                  <a:pt x="1359" y="0"/>
                </a:lnTo>
                <a:lnTo>
                  <a:pt x="1331" y="0"/>
                </a:lnTo>
                <a:lnTo>
                  <a:pt x="1297" y="0"/>
                </a:lnTo>
                <a:lnTo>
                  <a:pt x="1269" y="0"/>
                </a:lnTo>
                <a:lnTo>
                  <a:pt x="1241" y="0"/>
                </a:lnTo>
                <a:lnTo>
                  <a:pt x="1207" y="0"/>
                </a:lnTo>
                <a:lnTo>
                  <a:pt x="1179" y="0"/>
                </a:lnTo>
                <a:lnTo>
                  <a:pt x="1152" y="0"/>
                </a:lnTo>
                <a:lnTo>
                  <a:pt x="1124" y="0"/>
                </a:lnTo>
                <a:lnTo>
                  <a:pt x="1090" y="0"/>
                </a:lnTo>
                <a:lnTo>
                  <a:pt x="1062" y="0"/>
                </a:lnTo>
                <a:lnTo>
                  <a:pt x="1035" y="0"/>
                </a:lnTo>
                <a:lnTo>
                  <a:pt x="1000" y="0"/>
                </a:lnTo>
                <a:lnTo>
                  <a:pt x="973" y="0"/>
                </a:lnTo>
                <a:lnTo>
                  <a:pt x="945" y="0"/>
                </a:lnTo>
                <a:lnTo>
                  <a:pt x="917" y="0"/>
                </a:lnTo>
                <a:lnTo>
                  <a:pt x="883" y="0"/>
                </a:lnTo>
                <a:lnTo>
                  <a:pt x="855" y="0"/>
                </a:lnTo>
                <a:lnTo>
                  <a:pt x="828" y="0"/>
                </a:lnTo>
                <a:lnTo>
                  <a:pt x="793" y="0"/>
                </a:lnTo>
                <a:lnTo>
                  <a:pt x="766" y="0"/>
                </a:lnTo>
                <a:lnTo>
                  <a:pt x="738" y="0"/>
                </a:lnTo>
                <a:lnTo>
                  <a:pt x="711" y="0"/>
                </a:lnTo>
                <a:lnTo>
                  <a:pt x="676" y="0"/>
                </a:lnTo>
                <a:lnTo>
                  <a:pt x="648" y="28"/>
                </a:lnTo>
                <a:lnTo>
                  <a:pt x="621" y="62"/>
                </a:lnTo>
                <a:lnTo>
                  <a:pt x="593" y="90"/>
                </a:lnTo>
                <a:lnTo>
                  <a:pt x="559" y="117"/>
                </a:lnTo>
                <a:lnTo>
                  <a:pt x="531" y="145"/>
                </a:lnTo>
                <a:lnTo>
                  <a:pt x="504" y="145"/>
                </a:lnTo>
                <a:lnTo>
                  <a:pt x="469" y="179"/>
                </a:lnTo>
                <a:lnTo>
                  <a:pt x="442" y="207"/>
                </a:lnTo>
                <a:lnTo>
                  <a:pt x="414" y="235"/>
                </a:lnTo>
                <a:lnTo>
                  <a:pt x="386" y="269"/>
                </a:lnTo>
                <a:lnTo>
                  <a:pt x="352" y="297"/>
                </a:lnTo>
                <a:lnTo>
                  <a:pt x="324" y="324"/>
                </a:lnTo>
                <a:lnTo>
                  <a:pt x="297" y="359"/>
                </a:lnTo>
                <a:lnTo>
                  <a:pt x="262" y="359"/>
                </a:lnTo>
                <a:lnTo>
                  <a:pt x="235" y="386"/>
                </a:lnTo>
                <a:lnTo>
                  <a:pt x="235" y="407"/>
                </a:lnTo>
                <a:lnTo>
                  <a:pt x="249" y="407"/>
                </a:lnTo>
                <a:lnTo>
                  <a:pt x="255" y="414"/>
                </a:lnTo>
                <a:lnTo>
                  <a:pt x="255" y="414"/>
                </a:lnTo>
                <a:lnTo>
                  <a:pt x="255" y="421"/>
                </a:lnTo>
                <a:lnTo>
                  <a:pt x="255" y="427"/>
                </a:lnTo>
                <a:lnTo>
                  <a:pt x="249" y="427"/>
                </a:lnTo>
                <a:lnTo>
                  <a:pt x="242" y="434"/>
                </a:lnTo>
                <a:lnTo>
                  <a:pt x="235" y="441"/>
                </a:lnTo>
                <a:lnTo>
                  <a:pt x="228" y="448"/>
                </a:lnTo>
                <a:lnTo>
                  <a:pt x="221" y="455"/>
                </a:lnTo>
                <a:lnTo>
                  <a:pt x="221" y="455"/>
                </a:lnTo>
                <a:lnTo>
                  <a:pt x="214" y="462"/>
                </a:lnTo>
                <a:lnTo>
                  <a:pt x="207" y="469"/>
                </a:lnTo>
                <a:lnTo>
                  <a:pt x="200" y="462"/>
                </a:lnTo>
                <a:lnTo>
                  <a:pt x="200" y="462"/>
                </a:lnTo>
                <a:lnTo>
                  <a:pt x="193" y="455"/>
                </a:lnTo>
                <a:lnTo>
                  <a:pt x="193" y="448"/>
                </a:lnTo>
                <a:lnTo>
                  <a:pt x="180" y="448"/>
                </a:lnTo>
                <a:lnTo>
                  <a:pt x="145" y="476"/>
                </a:lnTo>
                <a:lnTo>
                  <a:pt x="118" y="503"/>
                </a:lnTo>
                <a:lnTo>
                  <a:pt x="90" y="531"/>
                </a:lnTo>
                <a:lnTo>
                  <a:pt x="56" y="565"/>
                </a:lnTo>
                <a:lnTo>
                  <a:pt x="28" y="565"/>
                </a:lnTo>
                <a:lnTo>
                  <a:pt x="0" y="593"/>
                </a:lnTo>
                <a:lnTo>
                  <a:pt x="0" y="620"/>
                </a:lnTo>
                <a:lnTo>
                  <a:pt x="0" y="655"/>
                </a:lnTo>
                <a:lnTo>
                  <a:pt x="0" y="682"/>
                </a:lnTo>
                <a:lnTo>
                  <a:pt x="21" y="682"/>
                </a:lnTo>
                <a:lnTo>
                  <a:pt x="28" y="682"/>
                </a:lnTo>
                <a:lnTo>
                  <a:pt x="28" y="682"/>
                </a:lnTo>
                <a:lnTo>
                  <a:pt x="28" y="675"/>
                </a:lnTo>
                <a:lnTo>
                  <a:pt x="28" y="675"/>
                </a:lnTo>
                <a:lnTo>
                  <a:pt x="28" y="675"/>
                </a:lnTo>
                <a:lnTo>
                  <a:pt x="28" y="675"/>
                </a:lnTo>
                <a:lnTo>
                  <a:pt x="28" y="682"/>
                </a:lnTo>
                <a:lnTo>
                  <a:pt x="28" y="682"/>
                </a:lnTo>
                <a:lnTo>
                  <a:pt x="28" y="682"/>
                </a:lnTo>
                <a:lnTo>
                  <a:pt x="28" y="682"/>
                </a:lnTo>
                <a:lnTo>
                  <a:pt x="28" y="682"/>
                </a:lnTo>
                <a:lnTo>
                  <a:pt x="28" y="710"/>
                </a:lnTo>
                <a:lnTo>
                  <a:pt x="28" y="744"/>
                </a:lnTo>
                <a:lnTo>
                  <a:pt x="56" y="772"/>
                </a:lnTo>
                <a:lnTo>
                  <a:pt x="90" y="799"/>
                </a:lnTo>
                <a:lnTo>
                  <a:pt x="111" y="799"/>
                </a:lnTo>
                <a:lnTo>
                  <a:pt x="118" y="793"/>
                </a:lnTo>
                <a:lnTo>
                  <a:pt x="118" y="793"/>
                </a:lnTo>
                <a:lnTo>
                  <a:pt x="124" y="786"/>
                </a:lnTo>
                <a:lnTo>
                  <a:pt x="131" y="779"/>
                </a:lnTo>
                <a:lnTo>
                  <a:pt x="131" y="772"/>
                </a:lnTo>
                <a:lnTo>
                  <a:pt x="138" y="772"/>
                </a:lnTo>
                <a:lnTo>
                  <a:pt x="145" y="765"/>
                </a:lnTo>
                <a:lnTo>
                  <a:pt x="152" y="765"/>
                </a:lnTo>
                <a:lnTo>
                  <a:pt x="166" y="765"/>
                </a:lnTo>
                <a:lnTo>
                  <a:pt x="173" y="765"/>
                </a:lnTo>
                <a:lnTo>
                  <a:pt x="187" y="765"/>
                </a:lnTo>
                <a:lnTo>
                  <a:pt x="193" y="765"/>
                </a:lnTo>
                <a:lnTo>
                  <a:pt x="200" y="765"/>
                </a:lnTo>
                <a:lnTo>
                  <a:pt x="207" y="772"/>
                </a:lnTo>
                <a:lnTo>
                  <a:pt x="214" y="772"/>
                </a:lnTo>
                <a:lnTo>
                  <a:pt x="221" y="779"/>
                </a:lnTo>
                <a:lnTo>
                  <a:pt x="221" y="786"/>
                </a:lnTo>
                <a:lnTo>
                  <a:pt x="228" y="793"/>
                </a:lnTo>
                <a:lnTo>
                  <a:pt x="228" y="799"/>
                </a:lnTo>
                <a:lnTo>
                  <a:pt x="235" y="799"/>
                </a:lnTo>
                <a:lnTo>
                  <a:pt x="242" y="799"/>
                </a:lnTo>
                <a:lnTo>
                  <a:pt x="255" y="793"/>
                </a:lnTo>
                <a:lnTo>
                  <a:pt x="262" y="793"/>
                </a:lnTo>
                <a:lnTo>
                  <a:pt x="269" y="799"/>
                </a:lnTo>
                <a:lnTo>
                  <a:pt x="269" y="806"/>
                </a:lnTo>
                <a:lnTo>
                  <a:pt x="262" y="806"/>
                </a:lnTo>
                <a:lnTo>
                  <a:pt x="255" y="813"/>
                </a:lnTo>
                <a:lnTo>
                  <a:pt x="255" y="820"/>
                </a:lnTo>
                <a:lnTo>
                  <a:pt x="249" y="827"/>
                </a:lnTo>
                <a:lnTo>
                  <a:pt x="249" y="827"/>
                </a:lnTo>
                <a:lnTo>
                  <a:pt x="255" y="834"/>
                </a:lnTo>
                <a:lnTo>
                  <a:pt x="262" y="841"/>
                </a:lnTo>
                <a:lnTo>
                  <a:pt x="269" y="841"/>
                </a:lnTo>
                <a:lnTo>
                  <a:pt x="276" y="841"/>
                </a:lnTo>
                <a:lnTo>
                  <a:pt x="283" y="841"/>
                </a:lnTo>
                <a:lnTo>
                  <a:pt x="290" y="834"/>
                </a:lnTo>
                <a:lnTo>
                  <a:pt x="297" y="834"/>
                </a:lnTo>
                <a:lnTo>
                  <a:pt x="304" y="827"/>
                </a:lnTo>
                <a:lnTo>
                  <a:pt x="311" y="820"/>
                </a:lnTo>
                <a:lnTo>
                  <a:pt x="318" y="820"/>
                </a:lnTo>
                <a:lnTo>
                  <a:pt x="324" y="813"/>
                </a:lnTo>
                <a:lnTo>
                  <a:pt x="331" y="813"/>
                </a:lnTo>
                <a:lnTo>
                  <a:pt x="345" y="813"/>
                </a:lnTo>
                <a:lnTo>
                  <a:pt x="352" y="813"/>
                </a:lnTo>
                <a:lnTo>
                  <a:pt x="359" y="813"/>
                </a:lnTo>
                <a:lnTo>
                  <a:pt x="373" y="813"/>
                </a:lnTo>
                <a:lnTo>
                  <a:pt x="380" y="820"/>
                </a:lnTo>
                <a:lnTo>
                  <a:pt x="386" y="820"/>
                </a:lnTo>
                <a:lnTo>
                  <a:pt x="393" y="820"/>
                </a:lnTo>
                <a:lnTo>
                  <a:pt x="400" y="827"/>
                </a:lnTo>
                <a:lnTo>
                  <a:pt x="407" y="834"/>
                </a:lnTo>
                <a:lnTo>
                  <a:pt x="407" y="834"/>
                </a:lnTo>
                <a:lnTo>
                  <a:pt x="400" y="841"/>
                </a:lnTo>
                <a:lnTo>
                  <a:pt x="393" y="848"/>
                </a:lnTo>
                <a:lnTo>
                  <a:pt x="386" y="855"/>
                </a:lnTo>
                <a:lnTo>
                  <a:pt x="386" y="861"/>
                </a:lnTo>
                <a:lnTo>
                  <a:pt x="386" y="861"/>
                </a:lnTo>
                <a:lnTo>
                  <a:pt x="380" y="868"/>
                </a:lnTo>
                <a:lnTo>
                  <a:pt x="380" y="875"/>
                </a:lnTo>
                <a:lnTo>
                  <a:pt x="373" y="882"/>
                </a:lnTo>
                <a:lnTo>
                  <a:pt x="373" y="889"/>
                </a:lnTo>
                <a:lnTo>
                  <a:pt x="380" y="896"/>
                </a:lnTo>
                <a:lnTo>
                  <a:pt x="380" y="896"/>
                </a:lnTo>
                <a:lnTo>
                  <a:pt x="386" y="903"/>
                </a:lnTo>
                <a:lnTo>
                  <a:pt x="393" y="910"/>
                </a:lnTo>
                <a:lnTo>
                  <a:pt x="393" y="917"/>
                </a:lnTo>
                <a:lnTo>
                  <a:pt x="400" y="917"/>
                </a:lnTo>
                <a:lnTo>
                  <a:pt x="407" y="923"/>
                </a:lnTo>
                <a:lnTo>
                  <a:pt x="407" y="930"/>
                </a:lnTo>
                <a:lnTo>
                  <a:pt x="421" y="930"/>
                </a:lnTo>
                <a:lnTo>
                  <a:pt x="428" y="930"/>
                </a:lnTo>
                <a:lnTo>
                  <a:pt x="435" y="930"/>
                </a:lnTo>
                <a:lnTo>
                  <a:pt x="442" y="930"/>
                </a:lnTo>
                <a:lnTo>
                  <a:pt x="449" y="923"/>
                </a:lnTo>
                <a:lnTo>
                  <a:pt x="455" y="917"/>
                </a:lnTo>
                <a:lnTo>
                  <a:pt x="462" y="917"/>
                </a:lnTo>
                <a:lnTo>
                  <a:pt x="469" y="910"/>
                </a:lnTo>
                <a:lnTo>
                  <a:pt x="476" y="903"/>
                </a:lnTo>
                <a:lnTo>
                  <a:pt x="483" y="903"/>
                </a:lnTo>
                <a:lnTo>
                  <a:pt x="490" y="896"/>
                </a:lnTo>
                <a:lnTo>
                  <a:pt x="490" y="896"/>
                </a:lnTo>
                <a:lnTo>
                  <a:pt x="497" y="889"/>
                </a:lnTo>
                <a:lnTo>
                  <a:pt x="504" y="882"/>
                </a:lnTo>
                <a:lnTo>
                  <a:pt x="511" y="882"/>
                </a:lnTo>
                <a:lnTo>
                  <a:pt x="517" y="875"/>
                </a:lnTo>
                <a:lnTo>
                  <a:pt x="524" y="868"/>
                </a:lnTo>
                <a:lnTo>
                  <a:pt x="531" y="868"/>
                </a:lnTo>
                <a:lnTo>
                  <a:pt x="538" y="861"/>
                </a:lnTo>
                <a:lnTo>
                  <a:pt x="545" y="861"/>
                </a:lnTo>
                <a:lnTo>
                  <a:pt x="552" y="855"/>
                </a:lnTo>
                <a:lnTo>
                  <a:pt x="559" y="855"/>
                </a:lnTo>
                <a:lnTo>
                  <a:pt x="566" y="855"/>
                </a:lnTo>
                <a:lnTo>
                  <a:pt x="580" y="848"/>
                </a:lnTo>
                <a:lnTo>
                  <a:pt x="586" y="848"/>
                </a:lnTo>
                <a:lnTo>
                  <a:pt x="593" y="848"/>
                </a:lnTo>
                <a:lnTo>
                  <a:pt x="600" y="841"/>
                </a:lnTo>
                <a:lnTo>
                  <a:pt x="607" y="841"/>
                </a:lnTo>
                <a:lnTo>
                  <a:pt x="614" y="834"/>
                </a:lnTo>
                <a:lnTo>
                  <a:pt x="621" y="834"/>
                </a:lnTo>
                <a:lnTo>
                  <a:pt x="628" y="827"/>
                </a:lnTo>
                <a:lnTo>
                  <a:pt x="642" y="827"/>
                </a:lnTo>
                <a:lnTo>
                  <a:pt x="648" y="820"/>
                </a:lnTo>
                <a:lnTo>
                  <a:pt x="655" y="820"/>
                </a:lnTo>
                <a:lnTo>
                  <a:pt x="655" y="813"/>
                </a:lnTo>
                <a:lnTo>
                  <a:pt x="662" y="806"/>
                </a:lnTo>
                <a:lnTo>
                  <a:pt x="669" y="806"/>
                </a:lnTo>
                <a:lnTo>
                  <a:pt x="669" y="799"/>
                </a:lnTo>
                <a:lnTo>
                  <a:pt x="669" y="793"/>
                </a:lnTo>
                <a:lnTo>
                  <a:pt x="662" y="786"/>
                </a:lnTo>
                <a:lnTo>
                  <a:pt x="662" y="779"/>
                </a:lnTo>
                <a:lnTo>
                  <a:pt x="662" y="772"/>
                </a:lnTo>
                <a:lnTo>
                  <a:pt x="662" y="772"/>
                </a:lnTo>
                <a:lnTo>
                  <a:pt x="662" y="765"/>
                </a:lnTo>
                <a:lnTo>
                  <a:pt x="669" y="758"/>
                </a:lnTo>
                <a:lnTo>
                  <a:pt x="669" y="751"/>
                </a:lnTo>
                <a:lnTo>
                  <a:pt x="669" y="744"/>
                </a:lnTo>
                <a:lnTo>
                  <a:pt x="676" y="737"/>
                </a:lnTo>
                <a:lnTo>
                  <a:pt x="676" y="737"/>
                </a:lnTo>
                <a:lnTo>
                  <a:pt x="676" y="731"/>
                </a:lnTo>
                <a:lnTo>
                  <a:pt x="676" y="724"/>
                </a:lnTo>
                <a:lnTo>
                  <a:pt x="676" y="717"/>
                </a:lnTo>
                <a:lnTo>
                  <a:pt x="676" y="710"/>
                </a:lnTo>
                <a:lnTo>
                  <a:pt x="676" y="703"/>
                </a:lnTo>
                <a:lnTo>
                  <a:pt x="676" y="703"/>
                </a:lnTo>
                <a:lnTo>
                  <a:pt x="683" y="696"/>
                </a:lnTo>
                <a:lnTo>
                  <a:pt x="697" y="689"/>
                </a:lnTo>
                <a:lnTo>
                  <a:pt x="704" y="689"/>
                </a:lnTo>
                <a:lnTo>
                  <a:pt x="711" y="689"/>
                </a:lnTo>
                <a:lnTo>
                  <a:pt x="717" y="696"/>
                </a:lnTo>
                <a:lnTo>
                  <a:pt x="717" y="703"/>
                </a:lnTo>
                <a:lnTo>
                  <a:pt x="724" y="703"/>
                </a:lnTo>
                <a:lnTo>
                  <a:pt x="724" y="710"/>
                </a:lnTo>
                <a:lnTo>
                  <a:pt x="731" y="717"/>
                </a:lnTo>
                <a:lnTo>
                  <a:pt x="731" y="724"/>
                </a:lnTo>
                <a:lnTo>
                  <a:pt x="738" y="731"/>
                </a:lnTo>
                <a:lnTo>
                  <a:pt x="745" y="731"/>
                </a:lnTo>
                <a:lnTo>
                  <a:pt x="752" y="737"/>
                </a:lnTo>
                <a:lnTo>
                  <a:pt x="752" y="744"/>
                </a:lnTo>
                <a:lnTo>
                  <a:pt x="752" y="751"/>
                </a:lnTo>
                <a:lnTo>
                  <a:pt x="752" y="751"/>
                </a:lnTo>
                <a:lnTo>
                  <a:pt x="759" y="758"/>
                </a:lnTo>
                <a:lnTo>
                  <a:pt x="759" y="765"/>
                </a:lnTo>
                <a:lnTo>
                  <a:pt x="759" y="772"/>
                </a:lnTo>
                <a:lnTo>
                  <a:pt x="759" y="779"/>
                </a:lnTo>
                <a:lnTo>
                  <a:pt x="766" y="786"/>
                </a:lnTo>
                <a:lnTo>
                  <a:pt x="773" y="786"/>
                </a:lnTo>
                <a:lnTo>
                  <a:pt x="786" y="786"/>
                </a:lnTo>
                <a:lnTo>
                  <a:pt x="793" y="786"/>
                </a:lnTo>
                <a:lnTo>
                  <a:pt x="800" y="786"/>
                </a:lnTo>
                <a:lnTo>
                  <a:pt x="807" y="793"/>
                </a:lnTo>
                <a:lnTo>
                  <a:pt x="807" y="799"/>
                </a:lnTo>
                <a:lnTo>
                  <a:pt x="814" y="806"/>
                </a:lnTo>
                <a:lnTo>
                  <a:pt x="821" y="806"/>
                </a:lnTo>
                <a:lnTo>
                  <a:pt x="828" y="813"/>
                </a:lnTo>
                <a:lnTo>
                  <a:pt x="835" y="813"/>
                </a:lnTo>
                <a:lnTo>
                  <a:pt x="842" y="820"/>
                </a:lnTo>
                <a:lnTo>
                  <a:pt x="848" y="827"/>
                </a:lnTo>
                <a:lnTo>
                  <a:pt x="848" y="827"/>
                </a:lnTo>
                <a:lnTo>
                  <a:pt x="855" y="834"/>
                </a:lnTo>
                <a:lnTo>
                  <a:pt x="862" y="841"/>
                </a:lnTo>
                <a:lnTo>
                  <a:pt x="869" y="841"/>
                </a:lnTo>
                <a:lnTo>
                  <a:pt x="876" y="848"/>
                </a:lnTo>
                <a:lnTo>
                  <a:pt x="883" y="848"/>
                </a:lnTo>
                <a:lnTo>
                  <a:pt x="890" y="855"/>
                </a:lnTo>
                <a:lnTo>
                  <a:pt x="897" y="861"/>
                </a:lnTo>
                <a:lnTo>
                  <a:pt x="897" y="861"/>
                </a:lnTo>
                <a:lnTo>
                  <a:pt x="904" y="868"/>
                </a:lnTo>
                <a:lnTo>
                  <a:pt x="910" y="875"/>
                </a:lnTo>
                <a:lnTo>
                  <a:pt x="917" y="875"/>
                </a:lnTo>
                <a:lnTo>
                  <a:pt x="924" y="882"/>
                </a:lnTo>
                <a:lnTo>
                  <a:pt x="931" y="889"/>
                </a:lnTo>
                <a:lnTo>
                  <a:pt x="938" y="889"/>
                </a:lnTo>
                <a:lnTo>
                  <a:pt x="938" y="896"/>
                </a:lnTo>
                <a:lnTo>
                  <a:pt x="945" y="896"/>
                </a:lnTo>
                <a:lnTo>
                  <a:pt x="952" y="903"/>
                </a:lnTo>
                <a:lnTo>
                  <a:pt x="959" y="910"/>
                </a:lnTo>
                <a:lnTo>
                  <a:pt x="966" y="910"/>
                </a:lnTo>
                <a:lnTo>
                  <a:pt x="973" y="917"/>
                </a:lnTo>
                <a:lnTo>
                  <a:pt x="979" y="923"/>
                </a:lnTo>
                <a:lnTo>
                  <a:pt x="986" y="923"/>
                </a:lnTo>
                <a:lnTo>
                  <a:pt x="986" y="930"/>
                </a:lnTo>
                <a:lnTo>
                  <a:pt x="993" y="937"/>
                </a:lnTo>
                <a:lnTo>
                  <a:pt x="1000" y="937"/>
                </a:lnTo>
                <a:lnTo>
                  <a:pt x="1007" y="944"/>
                </a:lnTo>
                <a:lnTo>
                  <a:pt x="1014" y="944"/>
                </a:lnTo>
                <a:lnTo>
                  <a:pt x="1021" y="951"/>
                </a:lnTo>
                <a:lnTo>
                  <a:pt x="1028" y="958"/>
                </a:lnTo>
                <a:lnTo>
                  <a:pt x="1035" y="958"/>
                </a:lnTo>
                <a:lnTo>
                  <a:pt x="1041" y="958"/>
                </a:lnTo>
                <a:lnTo>
                  <a:pt x="1041" y="958"/>
                </a:lnTo>
                <a:lnTo>
                  <a:pt x="1048" y="951"/>
                </a:lnTo>
                <a:close/>
                <a:moveTo>
                  <a:pt x="1221" y="951"/>
                </a:moveTo>
                <a:lnTo>
                  <a:pt x="1221" y="944"/>
                </a:lnTo>
                <a:lnTo>
                  <a:pt x="1221" y="937"/>
                </a:lnTo>
                <a:lnTo>
                  <a:pt x="1221" y="930"/>
                </a:lnTo>
                <a:lnTo>
                  <a:pt x="1221" y="923"/>
                </a:lnTo>
                <a:lnTo>
                  <a:pt x="1221" y="917"/>
                </a:lnTo>
                <a:lnTo>
                  <a:pt x="1214" y="917"/>
                </a:lnTo>
                <a:lnTo>
                  <a:pt x="1207" y="917"/>
                </a:lnTo>
                <a:lnTo>
                  <a:pt x="1200" y="923"/>
                </a:lnTo>
                <a:lnTo>
                  <a:pt x="1200" y="930"/>
                </a:lnTo>
                <a:lnTo>
                  <a:pt x="1200" y="930"/>
                </a:lnTo>
                <a:lnTo>
                  <a:pt x="1200" y="937"/>
                </a:lnTo>
                <a:lnTo>
                  <a:pt x="1200" y="944"/>
                </a:lnTo>
                <a:lnTo>
                  <a:pt x="1200" y="951"/>
                </a:lnTo>
                <a:lnTo>
                  <a:pt x="1207" y="958"/>
                </a:lnTo>
                <a:lnTo>
                  <a:pt x="1207" y="965"/>
                </a:lnTo>
                <a:lnTo>
                  <a:pt x="1207" y="972"/>
                </a:lnTo>
                <a:lnTo>
                  <a:pt x="1214" y="972"/>
                </a:lnTo>
                <a:lnTo>
                  <a:pt x="1214" y="965"/>
                </a:lnTo>
                <a:lnTo>
                  <a:pt x="1214" y="958"/>
                </a:lnTo>
                <a:lnTo>
                  <a:pt x="1221" y="951"/>
                </a:lnTo>
                <a:close/>
                <a:moveTo>
                  <a:pt x="138" y="827"/>
                </a:moveTo>
                <a:lnTo>
                  <a:pt x="118" y="806"/>
                </a:lnTo>
                <a:lnTo>
                  <a:pt x="118" y="827"/>
                </a:lnTo>
                <a:lnTo>
                  <a:pt x="138" y="827"/>
                </a:lnTo>
                <a:close/>
                <a:moveTo>
                  <a:pt x="1152" y="827"/>
                </a:moveTo>
                <a:lnTo>
                  <a:pt x="1152" y="827"/>
                </a:lnTo>
                <a:lnTo>
                  <a:pt x="1152" y="820"/>
                </a:lnTo>
                <a:lnTo>
                  <a:pt x="1159" y="813"/>
                </a:lnTo>
                <a:lnTo>
                  <a:pt x="1159" y="806"/>
                </a:lnTo>
                <a:lnTo>
                  <a:pt x="1159" y="799"/>
                </a:lnTo>
                <a:lnTo>
                  <a:pt x="1159" y="793"/>
                </a:lnTo>
                <a:lnTo>
                  <a:pt x="1159" y="786"/>
                </a:lnTo>
                <a:lnTo>
                  <a:pt x="1159" y="779"/>
                </a:lnTo>
                <a:lnTo>
                  <a:pt x="1159" y="772"/>
                </a:lnTo>
                <a:lnTo>
                  <a:pt x="1159" y="772"/>
                </a:lnTo>
                <a:lnTo>
                  <a:pt x="1166" y="765"/>
                </a:lnTo>
                <a:lnTo>
                  <a:pt x="1166" y="758"/>
                </a:lnTo>
                <a:lnTo>
                  <a:pt x="1159" y="751"/>
                </a:lnTo>
                <a:lnTo>
                  <a:pt x="1159" y="744"/>
                </a:lnTo>
                <a:lnTo>
                  <a:pt x="1159" y="737"/>
                </a:lnTo>
                <a:lnTo>
                  <a:pt x="1152" y="731"/>
                </a:lnTo>
                <a:lnTo>
                  <a:pt x="1152" y="737"/>
                </a:lnTo>
                <a:lnTo>
                  <a:pt x="1145" y="744"/>
                </a:lnTo>
                <a:lnTo>
                  <a:pt x="1145" y="751"/>
                </a:lnTo>
                <a:lnTo>
                  <a:pt x="1145" y="758"/>
                </a:lnTo>
                <a:lnTo>
                  <a:pt x="1145" y="765"/>
                </a:lnTo>
                <a:lnTo>
                  <a:pt x="1145" y="772"/>
                </a:lnTo>
                <a:lnTo>
                  <a:pt x="1145" y="779"/>
                </a:lnTo>
                <a:lnTo>
                  <a:pt x="1138" y="779"/>
                </a:lnTo>
                <a:lnTo>
                  <a:pt x="1138" y="786"/>
                </a:lnTo>
                <a:lnTo>
                  <a:pt x="1145" y="793"/>
                </a:lnTo>
                <a:lnTo>
                  <a:pt x="1145" y="799"/>
                </a:lnTo>
                <a:lnTo>
                  <a:pt x="1145" y="806"/>
                </a:lnTo>
                <a:lnTo>
                  <a:pt x="1145" y="813"/>
                </a:lnTo>
                <a:lnTo>
                  <a:pt x="1145" y="820"/>
                </a:lnTo>
                <a:lnTo>
                  <a:pt x="1152" y="820"/>
                </a:lnTo>
                <a:lnTo>
                  <a:pt x="1152" y="827"/>
                </a:lnTo>
                <a:close/>
                <a:moveTo>
                  <a:pt x="2152" y="827"/>
                </a:moveTo>
                <a:lnTo>
                  <a:pt x="2158" y="827"/>
                </a:lnTo>
                <a:lnTo>
                  <a:pt x="2165" y="820"/>
                </a:lnTo>
                <a:lnTo>
                  <a:pt x="2165" y="813"/>
                </a:lnTo>
                <a:lnTo>
                  <a:pt x="2172" y="813"/>
                </a:lnTo>
                <a:lnTo>
                  <a:pt x="2172" y="806"/>
                </a:lnTo>
                <a:lnTo>
                  <a:pt x="2179" y="799"/>
                </a:lnTo>
                <a:lnTo>
                  <a:pt x="2179" y="793"/>
                </a:lnTo>
                <a:lnTo>
                  <a:pt x="2179" y="793"/>
                </a:lnTo>
                <a:lnTo>
                  <a:pt x="2179" y="786"/>
                </a:lnTo>
                <a:lnTo>
                  <a:pt x="2179" y="779"/>
                </a:lnTo>
                <a:lnTo>
                  <a:pt x="2179" y="772"/>
                </a:lnTo>
                <a:lnTo>
                  <a:pt x="2172" y="772"/>
                </a:lnTo>
                <a:lnTo>
                  <a:pt x="2172" y="765"/>
                </a:lnTo>
                <a:lnTo>
                  <a:pt x="2179" y="758"/>
                </a:lnTo>
                <a:lnTo>
                  <a:pt x="2179" y="751"/>
                </a:lnTo>
                <a:lnTo>
                  <a:pt x="2179" y="751"/>
                </a:lnTo>
                <a:lnTo>
                  <a:pt x="2186" y="744"/>
                </a:lnTo>
                <a:lnTo>
                  <a:pt x="2186" y="744"/>
                </a:lnTo>
                <a:lnTo>
                  <a:pt x="2186" y="751"/>
                </a:lnTo>
                <a:lnTo>
                  <a:pt x="2186" y="758"/>
                </a:lnTo>
                <a:lnTo>
                  <a:pt x="2193" y="765"/>
                </a:lnTo>
                <a:lnTo>
                  <a:pt x="2193" y="765"/>
                </a:lnTo>
                <a:lnTo>
                  <a:pt x="2193" y="772"/>
                </a:lnTo>
                <a:lnTo>
                  <a:pt x="2193" y="779"/>
                </a:lnTo>
                <a:lnTo>
                  <a:pt x="2193" y="779"/>
                </a:lnTo>
                <a:lnTo>
                  <a:pt x="2193" y="786"/>
                </a:lnTo>
                <a:lnTo>
                  <a:pt x="2193" y="793"/>
                </a:lnTo>
                <a:lnTo>
                  <a:pt x="2193" y="799"/>
                </a:lnTo>
                <a:lnTo>
                  <a:pt x="2193" y="806"/>
                </a:lnTo>
                <a:lnTo>
                  <a:pt x="2193" y="806"/>
                </a:lnTo>
                <a:lnTo>
                  <a:pt x="2193" y="813"/>
                </a:lnTo>
                <a:lnTo>
                  <a:pt x="2193" y="820"/>
                </a:lnTo>
                <a:lnTo>
                  <a:pt x="2186" y="827"/>
                </a:lnTo>
                <a:lnTo>
                  <a:pt x="2186" y="834"/>
                </a:lnTo>
                <a:lnTo>
                  <a:pt x="2179" y="834"/>
                </a:lnTo>
                <a:lnTo>
                  <a:pt x="2165" y="834"/>
                </a:lnTo>
                <a:lnTo>
                  <a:pt x="2158" y="834"/>
                </a:lnTo>
                <a:lnTo>
                  <a:pt x="2152" y="827"/>
                </a:lnTo>
                <a:close/>
                <a:moveTo>
                  <a:pt x="193" y="799"/>
                </a:moveTo>
                <a:lnTo>
                  <a:pt x="193" y="793"/>
                </a:lnTo>
                <a:lnTo>
                  <a:pt x="187" y="779"/>
                </a:lnTo>
                <a:lnTo>
                  <a:pt x="180" y="779"/>
                </a:lnTo>
                <a:lnTo>
                  <a:pt x="180" y="772"/>
                </a:lnTo>
                <a:lnTo>
                  <a:pt x="173" y="779"/>
                </a:lnTo>
                <a:lnTo>
                  <a:pt x="166" y="779"/>
                </a:lnTo>
                <a:lnTo>
                  <a:pt x="159" y="793"/>
                </a:lnTo>
                <a:lnTo>
                  <a:pt x="159" y="799"/>
                </a:lnTo>
                <a:lnTo>
                  <a:pt x="166" y="806"/>
                </a:lnTo>
                <a:lnTo>
                  <a:pt x="166" y="813"/>
                </a:lnTo>
                <a:lnTo>
                  <a:pt x="173" y="813"/>
                </a:lnTo>
                <a:lnTo>
                  <a:pt x="180" y="813"/>
                </a:lnTo>
                <a:lnTo>
                  <a:pt x="187" y="806"/>
                </a:lnTo>
                <a:lnTo>
                  <a:pt x="193" y="799"/>
                </a:lnTo>
                <a:close/>
                <a:moveTo>
                  <a:pt x="469" y="772"/>
                </a:moveTo>
                <a:lnTo>
                  <a:pt x="469" y="772"/>
                </a:lnTo>
                <a:lnTo>
                  <a:pt x="476" y="765"/>
                </a:lnTo>
                <a:lnTo>
                  <a:pt x="476" y="765"/>
                </a:lnTo>
                <a:lnTo>
                  <a:pt x="483" y="765"/>
                </a:lnTo>
                <a:lnTo>
                  <a:pt x="490" y="772"/>
                </a:lnTo>
                <a:lnTo>
                  <a:pt x="490" y="772"/>
                </a:lnTo>
                <a:lnTo>
                  <a:pt x="490" y="772"/>
                </a:lnTo>
                <a:lnTo>
                  <a:pt x="483" y="779"/>
                </a:lnTo>
                <a:lnTo>
                  <a:pt x="476" y="779"/>
                </a:lnTo>
                <a:lnTo>
                  <a:pt x="476" y="779"/>
                </a:lnTo>
                <a:lnTo>
                  <a:pt x="469" y="779"/>
                </a:lnTo>
                <a:lnTo>
                  <a:pt x="469" y="779"/>
                </a:lnTo>
                <a:lnTo>
                  <a:pt x="469" y="772"/>
                </a:lnTo>
                <a:lnTo>
                  <a:pt x="469" y="772"/>
                </a:lnTo>
                <a:close/>
                <a:moveTo>
                  <a:pt x="573" y="772"/>
                </a:moveTo>
                <a:lnTo>
                  <a:pt x="573" y="765"/>
                </a:lnTo>
                <a:lnTo>
                  <a:pt x="580" y="758"/>
                </a:lnTo>
                <a:lnTo>
                  <a:pt x="586" y="758"/>
                </a:lnTo>
                <a:lnTo>
                  <a:pt x="593" y="758"/>
                </a:lnTo>
                <a:lnTo>
                  <a:pt x="600" y="758"/>
                </a:lnTo>
                <a:lnTo>
                  <a:pt x="607" y="765"/>
                </a:lnTo>
                <a:lnTo>
                  <a:pt x="607" y="772"/>
                </a:lnTo>
                <a:lnTo>
                  <a:pt x="607" y="779"/>
                </a:lnTo>
                <a:lnTo>
                  <a:pt x="600" y="779"/>
                </a:lnTo>
                <a:lnTo>
                  <a:pt x="593" y="786"/>
                </a:lnTo>
                <a:lnTo>
                  <a:pt x="586" y="786"/>
                </a:lnTo>
                <a:lnTo>
                  <a:pt x="580" y="786"/>
                </a:lnTo>
                <a:lnTo>
                  <a:pt x="573" y="779"/>
                </a:lnTo>
                <a:lnTo>
                  <a:pt x="573" y="772"/>
                </a:lnTo>
                <a:close/>
                <a:moveTo>
                  <a:pt x="1179" y="710"/>
                </a:moveTo>
                <a:lnTo>
                  <a:pt x="1179" y="703"/>
                </a:lnTo>
                <a:lnTo>
                  <a:pt x="1186" y="696"/>
                </a:lnTo>
                <a:lnTo>
                  <a:pt x="1186" y="689"/>
                </a:lnTo>
                <a:lnTo>
                  <a:pt x="1186" y="682"/>
                </a:lnTo>
                <a:lnTo>
                  <a:pt x="1186" y="675"/>
                </a:lnTo>
                <a:lnTo>
                  <a:pt x="1186" y="669"/>
                </a:lnTo>
                <a:lnTo>
                  <a:pt x="1193" y="662"/>
                </a:lnTo>
                <a:lnTo>
                  <a:pt x="1193" y="655"/>
                </a:lnTo>
                <a:lnTo>
                  <a:pt x="1186" y="648"/>
                </a:lnTo>
                <a:lnTo>
                  <a:pt x="1186" y="634"/>
                </a:lnTo>
                <a:lnTo>
                  <a:pt x="1186" y="627"/>
                </a:lnTo>
                <a:lnTo>
                  <a:pt x="1193" y="620"/>
                </a:lnTo>
                <a:lnTo>
                  <a:pt x="1200" y="620"/>
                </a:lnTo>
                <a:lnTo>
                  <a:pt x="1207" y="613"/>
                </a:lnTo>
                <a:lnTo>
                  <a:pt x="1214" y="607"/>
                </a:lnTo>
                <a:lnTo>
                  <a:pt x="1221" y="600"/>
                </a:lnTo>
                <a:lnTo>
                  <a:pt x="1221" y="593"/>
                </a:lnTo>
                <a:lnTo>
                  <a:pt x="1221" y="586"/>
                </a:lnTo>
                <a:lnTo>
                  <a:pt x="1221" y="579"/>
                </a:lnTo>
                <a:lnTo>
                  <a:pt x="1221" y="572"/>
                </a:lnTo>
                <a:lnTo>
                  <a:pt x="1214" y="565"/>
                </a:lnTo>
                <a:lnTo>
                  <a:pt x="1214" y="551"/>
                </a:lnTo>
                <a:lnTo>
                  <a:pt x="1214" y="545"/>
                </a:lnTo>
                <a:lnTo>
                  <a:pt x="1214" y="538"/>
                </a:lnTo>
                <a:lnTo>
                  <a:pt x="1207" y="538"/>
                </a:lnTo>
                <a:lnTo>
                  <a:pt x="1207" y="538"/>
                </a:lnTo>
                <a:lnTo>
                  <a:pt x="1207" y="545"/>
                </a:lnTo>
                <a:lnTo>
                  <a:pt x="1207" y="558"/>
                </a:lnTo>
                <a:lnTo>
                  <a:pt x="1200" y="565"/>
                </a:lnTo>
                <a:lnTo>
                  <a:pt x="1193" y="572"/>
                </a:lnTo>
                <a:lnTo>
                  <a:pt x="1186" y="579"/>
                </a:lnTo>
                <a:lnTo>
                  <a:pt x="1179" y="586"/>
                </a:lnTo>
                <a:lnTo>
                  <a:pt x="1179" y="586"/>
                </a:lnTo>
                <a:lnTo>
                  <a:pt x="1172" y="600"/>
                </a:lnTo>
                <a:lnTo>
                  <a:pt x="1172" y="607"/>
                </a:lnTo>
                <a:lnTo>
                  <a:pt x="1172" y="613"/>
                </a:lnTo>
                <a:lnTo>
                  <a:pt x="1172" y="620"/>
                </a:lnTo>
                <a:lnTo>
                  <a:pt x="1172" y="627"/>
                </a:lnTo>
                <a:lnTo>
                  <a:pt x="1172" y="634"/>
                </a:lnTo>
                <a:lnTo>
                  <a:pt x="1172" y="641"/>
                </a:lnTo>
                <a:lnTo>
                  <a:pt x="1172" y="648"/>
                </a:lnTo>
                <a:lnTo>
                  <a:pt x="1172" y="655"/>
                </a:lnTo>
                <a:lnTo>
                  <a:pt x="1172" y="662"/>
                </a:lnTo>
                <a:lnTo>
                  <a:pt x="1172" y="669"/>
                </a:lnTo>
                <a:lnTo>
                  <a:pt x="1172" y="675"/>
                </a:lnTo>
                <a:lnTo>
                  <a:pt x="1172" y="682"/>
                </a:lnTo>
                <a:lnTo>
                  <a:pt x="1172" y="689"/>
                </a:lnTo>
                <a:lnTo>
                  <a:pt x="1172" y="696"/>
                </a:lnTo>
                <a:lnTo>
                  <a:pt x="1172" y="703"/>
                </a:lnTo>
                <a:lnTo>
                  <a:pt x="1179" y="710"/>
                </a:lnTo>
                <a:close/>
                <a:moveTo>
                  <a:pt x="759" y="682"/>
                </a:moveTo>
                <a:lnTo>
                  <a:pt x="752" y="675"/>
                </a:lnTo>
                <a:lnTo>
                  <a:pt x="745" y="669"/>
                </a:lnTo>
                <a:lnTo>
                  <a:pt x="745" y="662"/>
                </a:lnTo>
                <a:lnTo>
                  <a:pt x="752" y="648"/>
                </a:lnTo>
                <a:lnTo>
                  <a:pt x="759" y="641"/>
                </a:lnTo>
                <a:lnTo>
                  <a:pt x="766" y="627"/>
                </a:lnTo>
                <a:lnTo>
                  <a:pt x="766" y="627"/>
                </a:lnTo>
                <a:lnTo>
                  <a:pt x="773" y="634"/>
                </a:lnTo>
                <a:lnTo>
                  <a:pt x="773" y="641"/>
                </a:lnTo>
                <a:lnTo>
                  <a:pt x="773" y="655"/>
                </a:lnTo>
                <a:lnTo>
                  <a:pt x="773" y="662"/>
                </a:lnTo>
                <a:lnTo>
                  <a:pt x="779" y="669"/>
                </a:lnTo>
                <a:lnTo>
                  <a:pt x="779" y="675"/>
                </a:lnTo>
                <a:lnTo>
                  <a:pt x="779" y="689"/>
                </a:lnTo>
                <a:lnTo>
                  <a:pt x="773" y="696"/>
                </a:lnTo>
                <a:lnTo>
                  <a:pt x="773" y="703"/>
                </a:lnTo>
                <a:lnTo>
                  <a:pt x="766" y="710"/>
                </a:lnTo>
                <a:lnTo>
                  <a:pt x="766" y="703"/>
                </a:lnTo>
                <a:lnTo>
                  <a:pt x="759" y="696"/>
                </a:lnTo>
                <a:lnTo>
                  <a:pt x="759" y="682"/>
                </a:lnTo>
                <a:close/>
                <a:moveTo>
                  <a:pt x="821" y="682"/>
                </a:moveTo>
                <a:lnTo>
                  <a:pt x="821" y="675"/>
                </a:lnTo>
                <a:lnTo>
                  <a:pt x="828" y="675"/>
                </a:lnTo>
                <a:lnTo>
                  <a:pt x="828" y="675"/>
                </a:lnTo>
                <a:lnTo>
                  <a:pt x="828" y="675"/>
                </a:lnTo>
                <a:lnTo>
                  <a:pt x="828" y="675"/>
                </a:lnTo>
                <a:lnTo>
                  <a:pt x="828" y="675"/>
                </a:lnTo>
                <a:lnTo>
                  <a:pt x="828" y="682"/>
                </a:lnTo>
                <a:lnTo>
                  <a:pt x="828" y="682"/>
                </a:lnTo>
                <a:lnTo>
                  <a:pt x="828" y="682"/>
                </a:lnTo>
                <a:lnTo>
                  <a:pt x="828" y="689"/>
                </a:lnTo>
                <a:lnTo>
                  <a:pt x="828" y="689"/>
                </a:lnTo>
                <a:lnTo>
                  <a:pt x="828" y="689"/>
                </a:lnTo>
                <a:lnTo>
                  <a:pt x="821" y="682"/>
                </a:lnTo>
                <a:lnTo>
                  <a:pt x="821" y="682"/>
                </a:lnTo>
                <a:close/>
                <a:moveTo>
                  <a:pt x="855" y="620"/>
                </a:moveTo>
                <a:lnTo>
                  <a:pt x="848" y="620"/>
                </a:lnTo>
                <a:lnTo>
                  <a:pt x="848" y="613"/>
                </a:lnTo>
                <a:lnTo>
                  <a:pt x="848" y="607"/>
                </a:lnTo>
                <a:lnTo>
                  <a:pt x="848" y="600"/>
                </a:lnTo>
                <a:lnTo>
                  <a:pt x="848" y="593"/>
                </a:lnTo>
                <a:lnTo>
                  <a:pt x="848" y="586"/>
                </a:lnTo>
                <a:lnTo>
                  <a:pt x="848" y="579"/>
                </a:lnTo>
                <a:lnTo>
                  <a:pt x="848" y="579"/>
                </a:lnTo>
                <a:lnTo>
                  <a:pt x="855" y="572"/>
                </a:lnTo>
                <a:lnTo>
                  <a:pt x="862" y="565"/>
                </a:lnTo>
                <a:lnTo>
                  <a:pt x="869" y="565"/>
                </a:lnTo>
                <a:lnTo>
                  <a:pt x="876" y="565"/>
                </a:lnTo>
                <a:lnTo>
                  <a:pt x="883" y="558"/>
                </a:lnTo>
                <a:lnTo>
                  <a:pt x="883" y="551"/>
                </a:lnTo>
                <a:lnTo>
                  <a:pt x="883" y="551"/>
                </a:lnTo>
                <a:lnTo>
                  <a:pt x="883" y="545"/>
                </a:lnTo>
                <a:lnTo>
                  <a:pt x="883" y="538"/>
                </a:lnTo>
                <a:lnTo>
                  <a:pt x="890" y="538"/>
                </a:lnTo>
                <a:lnTo>
                  <a:pt x="890" y="545"/>
                </a:lnTo>
                <a:lnTo>
                  <a:pt x="890" y="551"/>
                </a:lnTo>
                <a:lnTo>
                  <a:pt x="890" y="558"/>
                </a:lnTo>
                <a:lnTo>
                  <a:pt x="890" y="558"/>
                </a:lnTo>
                <a:lnTo>
                  <a:pt x="890" y="565"/>
                </a:lnTo>
                <a:lnTo>
                  <a:pt x="883" y="572"/>
                </a:lnTo>
                <a:lnTo>
                  <a:pt x="883" y="579"/>
                </a:lnTo>
                <a:lnTo>
                  <a:pt x="883" y="586"/>
                </a:lnTo>
                <a:lnTo>
                  <a:pt x="883" y="593"/>
                </a:lnTo>
                <a:lnTo>
                  <a:pt x="883" y="593"/>
                </a:lnTo>
                <a:lnTo>
                  <a:pt x="883" y="600"/>
                </a:lnTo>
                <a:lnTo>
                  <a:pt x="876" y="607"/>
                </a:lnTo>
                <a:lnTo>
                  <a:pt x="869" y="607"/>
                </a:lnTo>
                <a:lnTo>
                  <a:pt x="862" y="613"/>
                </a:lnTo>
                <a:lnTo>
                  <a:pt x="862" y="620"/>
                </a:lnTo>
                <a:lnTo>
                  <a:pt x="855" y="627"/>
                </a:lnTo>
                <a:lnTo>
                  <a:pt x="855" y="634"/>
                </a:lnTo>
                <a:lnTo>
                  <a:pt x="855" y="634"/>
                </a:lnTo>
                <a:lnTo>
                  <a:pt x="855" y="634"/>
                </a:lnTo>
                <a:lnTo>
                  <a:pt x="855" y="620"/>
                </a:lnTo>
                <a:close/>
                <a:moveTo>
                  <a:pt x="1800" y="593"/>
                </a:moveTo>
                <a:lnTo>
                  <a:pt x="1800" y="593"/>
                </a:lnTo>
                <a:lnTo>
                  <a:pt x="1800" y="593"/>
                </a:lnTo>
                <a:lnTo>
                  <a:pt x="1793" y="593"/>
                </a:lnTo>
                <a:lnTo>
                  <a:pt x="1793" y="593"/>
                </a:lnTo>
                <a:lnTo>
                  <a:pt x="1786" y="593"/>
                </a:lnTo>
                <a:lnTo>
                  <a:pt x="1786" y="593"/>
                </a:lnTo>
                <a:lnTo>
                  <a:pt x="1779" y="593"/>
                </a:lnTo>
                <a:lnTo>
                  <a:pt x="1779" y="593"/>
                </a:lnTo>
                <a:lnTo>
                  <a:pt x="1786" y="593"/>
                </a:lnTo>
                <a:lnTo>
                  <a:pt x="1786" y="593"/>
                </a:lnTo>
                <a:lnTo>
                  <a:pt x="1793" y="593"/>
                </a:lnTo>
                <a:lnTo>
                  <a:pt x="1800" y="593"/>
                </a:lnTo>
                <a:lnTo>
                  <a:pt x="1800" y="593"/>
                </a:lnTo>
                <a:lnTo>
                  <a:pt x="1800" y="593"/>
                </a:lnTo>
                <a:close/>
                <a:moveTo>
                  <a:pt x="1786" y="565"/>
                </a:moveTo>
                <a:lnTo>
                  <a:pt x="1786" y="551"/>
                </a:lnTo>
                <a:lnTo>
                  <a:pt x="1779" y="551"/>
                </a:lnTo>
                <a:lnTo>
                  <a:pt x="1765" y="545"/>
                </a:lnTo>
                <a:lnTo>
                  <a:pt x="1759" y="551"/>
                </a:lnTo>
                <a:lnTo>
                  <a:pt x="1752" y="558"/>
                </a:lnTo>
                <a:lnTo>
                  <a:pt x="1752" y="565"/>
                </a:lnTo>
                <a:lnTo>
                  <a:pt x="1752" y="579"/>
                </a:lnTo>
                <a:lnTo>
                  <a:pt x="1759" y="586"/>
                </a:lnTo>
                <a:lnTo>
                  <a:pt x="1765" y="593"/>
                </a:lnTo>
                <a:lnTo>
                  <a:pt x="1772" y="593"/>
                </a:lnTo>
                <a:lnTo>
                  <a:pt x="1779" y="593"/>
                </a:lnTo>
                <a:lnTo>
                  <a:pt x="1779" y="586"/>
                </a:lnTo>
                <a:lnTo>
                  <a:pt x="1786" y="572"/>
                </a:lnTo>
                <a:lnTo>
                  <a:pt x="1786" y="565"/>
                </a:lnTo>
                <a:close/>
                <a:moveTo>
                  <a:pt x="1834" y="565"/>
                </a:moveTo>
                <a:lnTo>
                  <a:pt x="1834" y="565"/>
                </a:lnTo>
                <a:lnTo>
                  <a:pt x="1834" y="565"/>
                </a:lnTo>
                <a:lnTo>
                  <a:pt x="1828" y="565"/>
                </a:lnTo>
                <a:lnTo>
                  <a:pt x="1828" y="565"/>
                </a:lnTo>
                <a:lnTo>
                  <a:pt x="1828" y="565"/>
                </a:lnTo>
                <a:lnTo>
                  <a:pt x="1828" y="565"/>
                </a:lnTo>
                <a:lnTo>
                  <a:pt x="1828" y="565"/>
                </a:lnTo>
                <a:lnTo>
                  <a:pt x="1828" y="565"/>
                </a:lnTo>
                <a:lnTo>
                  <a:pt x="1828" y="565"/>
                </a:lnTo>
                <a:lnTo>
                  <a:pt x="1828" y="565"/>
                </a:lnTo>
                <a:lnTo>
                  <a:pt x="1834" y="565"/>
                </a:lnTo>
                <a:lnTo>
                  <a:pt x="1834" y="565"/>
                </a:lnTo>
                <a:lnTo>
                  <a:pt x="1834" y="565"/>
                </a:lnTo>
                <a:lnTo>
                  <a:pt x="1834" y="565"/>
                </a:lnTo>
                <a:close/>
                <a:moveTo>
                  <a:pt x="1248" y="531"/>
                </a:moveTo>
                <a:lnTo>
                  <a:pt x="1248" y="531"/>
                </a:lnTo>
                <a:lnTo>
                  <a:pt x="1248" y="524"/>
                </a:lnTo>
                <a:lnTo>
                  <a:pt x="1241" y="517"/>
                </a:lnTo>
                <a:lnTo>
                  <a:pt x="1241" y="517"/>
                </a:lnTo>
                <a:lnTo>
                  <a:pt x="1241" y="510"/>
                </a:lnTo>
                <a:lnTo>
                  <a:pt x="1241" y="503"/>
                </a:lnTo>
                <a:lnTo>
                  <a:pt x="1241" y="496"/>
                </a:lnTo>
                <a:lnTo>
                  <a:pt x="1235" y="503"/>
                </a:lnTo>
                <a:lnTo>
                  <a:pt x="1235" y="510"/>
                </a:lnTo>
                <a:lnTo>
                  <a:pt x="1228" y="517"/>
                </a:lnTo>
                <a:lnTo>
                  <a:pt x="1221" y="524"/>
                </a:lnTo>
                <a:lnTo>
                  <a:pt x="1214" y="524"/>
                </a:lnTo>
                <a:lnTo>
                  <a:pt x="1207" y="531"/>
                </a:lnTo>
                <a:lnTo>
                  <a:pt x="1207" y="531"/>
                </a:lnTo>
                <a:lnTo>
                  <a:pt x="1214" y="538"/>
                </a:lnTo>
                <a:lnTo>
                  <a:pt x="1221" y="538"/>
                </a:lnTo>
                <a:lnTo>
                  <a:pt x="1235" y="545"/>
                </a:lnTo>
                <a:lnTo>
                  <a:pt x="1241" y="545"/>
                </a:lnTo>
                <a:lnTo>
                  <a:pt x="1241" y="538"/>
                </a:lnTo>
                <a:lnTo>
                  <a:pt x="1248" y="531"/>
                </a:lnTo>
                <a:close/>
                <a:moveTo>
                  <a:pt x="1455" y="531"/>
                </a:moveTo>
                <a:lnTo>
                  <a:pt x="1455" y="531"/>
                </a:lnTo>
                <a:lnTo>
                  <a:pt x="1455" y="524"/>
                </a:lnTo>
                <a:lnTo>
                  <a:pt x="1448" y="524"/>
                </a:lnTo>
                <a:lnTo>
                  <a:pt x="1448" y="524"/>
                </a:lnTo>
                <a:lnTo>
                  <a:pt x="1448" y="524"/>
                </a:lnTo>
                <a:lnTo>
                  <a:pt x="1448" y="524"/>
                </a:lnTo>
                <a:lnTo>
                  <a:pt x="1441" y="524"/>
                </a:lnTo>
                <a:lnTo>
                  <a:pt x="1441" y="531"/>
                </a:lnTo>
                <a:lnTo>
                  <a:pt x="1441" y="531"/>
                </a:lnTo>
                <a:lnTo>
                  <a:pt x="1441" y="538"/>
                </a:lnTo>
                <a:lnTo>
                  <a:pt x="1448" y="538"/>
                </a:lnTo>
                <a:lnTo>
                  <a:pt x="1448" y="538"/>
                </a:lnTo>
                <a:lnTo>
                  <a:pt x="1455" y="538"/>
                </a:lnTo>
                <a:lnTo>
                  <a:pt x="1455" y="531"/>
                </a:lnTo>
                <a:close/>
                <a:moveTo>
                  <a:pt x="1814" y="531"/>
                </a:moveTo>
                <a:lnTo>
                  <a:pt x="1807" y="524"/>
                </a:lnTo>
                <a:lnTo>
                  <a:pt x="1807" y="524"/>
                </a:lnTo>
                <a:lnTo>
                  <a:pt x="1800" y="524"/>
                </a:lnTo>
                <a:lnTo>
                  <a:pt x="1793" y="524"/>
                </a:lnTo>
                <a:lnTo>
                  <a:pt x="1786" y="531"/>
                </a:lnTo>
                <a:lnTo>
                  <a:pt x="1786" y="531"/>
                </a:lnTo>
                <a:lnTo>
                  <a:pt x="1786" y="538"/>
                </a:lnTo>
                <a:lnTo>
                  <a:pt x="1786" y="545"/>
                </a:lnTo>
                <a:lnTo>
                  <a:pt x="1793" y="551"/>
                </a:lnTo>
                <a:lnTo>
                  <a:pt x="1800" y="551"/>
                </a:lnTo>
                <a:lnTo>
                  <a:pt x="1807" y="551"/>
                </a:lnTo>
                <a:lnTo>
                  <a:pt x="1807" y="545"/>
                </a:lnTo>
                <a:lnTo>
                  <a:pt x="1807" y="545"/>
                </a:lnTo>
                <a:lnTo>
                  <a:pt x="1814" y="531"/>
                </a:lnTo>
                <a:close/>
                <a:moveTo>
                  <a:pt x="1924" y="531"/>
                </a:moveTo>
                <a:lnTo>
                  <a:pt x="1924" y="531"/>
                </a:lnTo>
                <a:lnTo>
                  <a:pt x="1917" y="531"/>
                </a:lnTo>
                <a:lnTo>
                  <a:pt x="1917" y="531"/>
                </a:lnTo>
                <a:lnTo>
                  <a:pt x="1910" y="531"/>
                </a:lnTo>
                <a:lnTo>
                  <a:pt x="1910" y="531"/>
                </a:lnTo>
                <a:lnTo>
                  <a:pt x="1910" y="531"/>
                </a:lnTo>
                <a:lnTo>
                  <a:pt x="1910" y="531"/>
                </a:lnTo>
                <a:lnTo>
                  <a:pt x="1910" y="538"/>
                </a:lnTo>
                <a:lnTo>
                  <a:pt x="1910" y="538"/>
                </a:lnTo>
                <a:lnTo>
                  <a:pt x="1910" y="538"/>
                </a:lnTo>
                <a:lnTo>
                  <a:pt x="1917" y="538"/>
                </a:lnTo>
                <a:lnTo>
                  <a:pt x="1917" y="538"/>
                </a:lnTo>
                <a:lnTo>
                  <a:pt x="1924" y="538"/>
                </a:lnTo>
                <a:lnTo>
                  <a:pt x="1924" y="531"/>
                </a:lnTo>
                <a:close/>
                <a:moveTo>
                  <a:pt x="1510" y="503"/>
                </a:moveTo>
                <a:lnTo>
                  <a:pt x="1517" y="496"/>
                </a:lnTo>
                <a:lnTo>
                  <a:pt x="1517" y="496"/>
                </a:lnTo>
                <a:lnTo>
                  <a:pt x="1524" y="489"/>
                </a:lnTo>
                <a:lnTo>
                  <a:pt x="1531" y="483"/>
                </a:lnTo>
                <a:lnTo>
                  <a:pt x="1538" y="476"/>
                </a:lnTo>
                <a:lnTo>
                  <a:pt x="1545" y="476"/>
                </a:lnTo>
                <a:lnTo>
                  <a:pt x="1545" y="469"/>
                </a:lnTo>
                <a:lnTo>
                  <a:pt x="1545" y="462"/>
                </a:lnTo>
                <a:lnTo>
                  <a:pt x="1538" y="455"/>
                </a:lnTo>
                <a:lnTo>
                  <a:pt x="1531" y="455"/>
                </a:lnTo>
                <a:lnTo>
                  <a:pt x="1524" y="455"/>
                </a:lnTo>
                <a:lnTo>
                  <a:pt x="1510" y="455"/>
                </a:lnTo>
                <a:lnTo>
                  <a:pt x="1503" y="455"/>
                </a:lnTo>
                <a:lnTo>
                  <a:pt x="1490" y="455"/>
                </a:lnTo>
                <a:lnTo>
                  <a:pt x="1483" y="455"/>
                </a:lnTo>
                <a:lnTo>
                  <a:pt x="1476" y="462"/>
                </a:lnTo>
                <a:lnTo>
                  <a:pt x="1469" y="462"/>
                </a:lnTo>
                <a:lnTo>
                  <a:pt x="1462" y="469"/>
                </a:lnTo>
                <a:lnTo>
                  <a:pt x="1462" y="476"/>
                </a:lnTo>
                <a:lnTo>
                  <a:pt x="1455" y="483"/>
                </a:lnTo>
                <a:lnTo>
                  <a:pt x="1455" y="489"/>
                </a:lnTo>
                <a:lnTo>
                  <a:pt x="1455" y="489"/>
                </a:lnTo>
                <a:lnTo>
                  <a:pt x="1455" y="496"/>
                </a:lnTo>
                <a:lnTo>
                  <a:pt x="1462" y="503"/>
                </a:lnTo>
                <a:lnTo>
                  <a:pt x="1462" y="510"/>
                </a:lnTo>
                <a:lnTo>
                  <a:pt x="1469" y="517"/>
                </a:lnTo>
                <a:lnTo>
                  <a:pt x="1476" y="517"/>
                </a:lnTo>
                <a:lnTo>
                  <a:pt x="1483" y="517"/>
                </a:lnTo>
                <a:lnTo>
                  <a:pt x="1497" y="517"/>
                </a:lnTo>
                <a:lnTo>
                  <a:pt x="1503" y="517"/>
                </a:lnTo>
                <a:lnTo>
                  <a:pt x="1510" y="510"/>
                </a:lnTo>
                <a:lnTo>
                  <a:pt x="1510" y="503"/>
                </a:lnTo>
                <a:close/>
                <a:moveTo>
                  <a:pt x="1848" y="503"/>
                </a:moveTo>
                <a:lnTo>
                  <a:pt x="1841" y="496"/>
                </a:lnTo>
                <a:lnTo>
                  <a:pt x="1834" y="496"/>
                </a:lnTo>
                <a:lnTo>
                  <a:pt x="1834" y="496"/>
                </a:lnTo>
                <a:lnTo>
                  <a:pt x="1828" y="496"/>
                </a:lnTo>
                <a:lnTo>
                  <a:pt x="1821" y="496"/>
                </a:lnTo>
                <a:lnTo>
                  <a:pt x="1821" y="503"/>
                </a:lnTo>
                <a:lnTo>
                  <a:pt x="1821" y="503"/>
                </a:lnTo>
                <a:lnTo>
                  <a:pt x="1821" y="510"/>
                </a:lnTo>
                <a:lnTo>
                  <a:pt x="1828" y="510"/>
                </a:lnTo>
                <a:lnTo>
                  <a:pt x="1828" y="517"/>
                </a:lnTo>
                <a:lnTo>
                  <a:pt x="1834" y="517"/>
                </a:lnTo>
                <a:lnTo>
                  <a:pt x="1841" y="510"/>
                </a:lnTo>
                <a:lnTo>
                  <a:pt x="1841" y="510"/>
                </a:lnTo>
                <a:lnTo>
                  <a:pt x="1848" y="503"/>
                </a:lnTo>
                <a:close/>
                <a:moveTo>
                  <a:pt x="1386" y="476"/>
                </a:moveTo>
                <a:lnTo>
                  <a:pt x="1386" y="476"/>
                </a:lnTo>
                <a:lnTo>
                  <a:pt x="1386" y="476"/>
                </a:lnTo>
                <a:lnTo>
                  <a:pt x="1386" y="476"/>
                </a:lnTo>
                <a:lnTo>
                  <a:pt x="1386" y="476"/>
                </a:lnTo>
                <a:lnTo>
                  <a:pt x="1386" y="476"/>
                </a:lnTo>
                <a:lnTo>
                  <a:pt x="1386" y="476"/>
                </a:lnTo>
                <a:lnTo>
                  <a:pt x="1386" y="476"/>
                </a:lnTo>
                <a:lnTo>
                  <a:pt x="1386" y="476"/>
                </a:lnTo>
                <a:lnTo>
                  <a:pt x="1386" y="476"/>
                </a:lnTo>
                <a:lnTo>
                  <a:pt x="1386" y="476"/>
                </a:lnTo>
                <a:lnTo>
                  <a:pt x="1386" y="476"/>
                </a:lnTo>
                <a:lnTo>
                  <a:pt x="1386" y="476"/>
                </a:lnTo>
                <a:lnTo>
                  <a:pt x="1386" y="476"/>
                </a:lnTo>
                <a:lnTo>
                  <a:pt x="1386" y="476"/>
                </a:lnTo>
                <a:close/>
                <a:moveTo>
                  <a:pt x="1807" y="476"/>
                </a:moveTo>
                <a:lnTo>
                  <a:pt x="1807" y="469"/>
                </a:lnTo>
                <a:lnTo>
                  <a:pt x="1800" y="469"/>
                </a:lnTo>
                <a:lnTo>
                  <a:pt x="1800" y="469"/>
                </a:lnTo>
                <a:lnTo>
                  <a:pt x="1800" y="469"/>
                </a:lnTo>
                <a:lnTo>
                  <a:pt x="1800" y="469"/>
                </a:lnTo>
                <a:lnTo>
                  <a:pt x="1793" y="476"/>
                </a:lnTo>
                <a:lnTo>
                  <a:pt x="1793" y="476"/>
                </a:lnTo>
                <a:lnTo>
                  <a:pt x="1800" y="483"/>
                </a:lnTo>
                <a:lnTo>
                  <a:pt x="1800" y="483"/>
                </a:lnTo>
                <a:lnTo>
                  <a:pt x="1800" y="483"/>
                </a:lnTo>
                <a:lnTo>
                  <a:pt x="1800" y="483"/>
                </a:lnTo>
                <a:lnTo>
                  <a:pt x="1807" y="483"/>
                </a:lnTo>
                <a:lnTo>
                  <a:pt x="1807" y="476"/>
                </a:lnTo>
                <a:lnTo>
                  <a:pt x="1807" y="476"/>
                </a:lnTo>
                <a:close/>
                <a:moveTo>
                  <a:pt x="1952" y="448"/>
                </a:moveTo>
                <a:lnTo>
                  <a:pt x="1952" y="441"/>
                </a:lnTo>
                <a:lnTo>
                  <a:pt x="1945" y="441"/>
                </a:lnTo>
                <a:lnTo>
                  <a:pt x="1938" y="441"/>
                </a:lnTo>
                <a:lnTo>
                  <a:pt x="1938" y="441"/>
                </a:lnTo>
                <a:lnTo>
                  <a:pt x="1931" y="441"/>
                </a:lnTo>
                <a:lnTo>
                  <a:pt x="1924" y="441"/>
                </a:lnTo>
                <a:lnTo>
                  <a:pt x="1917" y="441"/>
                </a:lnTo>
                <a:lnTo>
                  <a:pt x="1917" y="448"/>
                </a:lnTo>
                <a:lnTo>
                  <a:pt x="1924" y="448"/>
                </a:lnTo>
                <a:lnTo>
                  <a:pt x="1931" y="448"/>
                </a:lnTo>
                <a:lnTo>
                  <a:pt x="1931" y="455"/>
                </a:lnTo>
                <a:lnTo>
                  <a:pt x="1938" y="455"/>
                </a:lnTo>
                <a:lnTo>
                  <a:pt x="1945" y="462"/>
                </a:lnTo>
                <a:lnTo>
                  <a:pt x="1945" y="462"/>
                </a:lnTo>
                <a:lnTo>
                  <a:pt x="1945" y="462"/>
                </a:lnTo>
                <a:lnTo>
                  <a:pt x="1952" y="462"/>
                </a:lnTo>
                <a:lnTo>
                  <a:pt x="1952" y="462"/>
                </a:lnTo>
                <a:lnTo>
                  <a:pt x="1952" y="455"/>
                </a:lnTo>
                <a:lnTo>
                  <a:pt x="1952" y="448"/>
                </a:lnTo>
                <a:lnTo>
                  <a:pt x="1952" y="448"/>
                </a:lnTo>
                <a:close/>
                <a:moveTo>
                  <a:pt x="221" y="414"/>
                </a:moveTo>
                <a:lnTo>
                  <a:pt x="207" y="414"/>
                </a:lnTo>
                <a:lnTo>
                  <a:pt x="207" y="434"/>
                </a:lnTo>
                <a:lnTo>
                  <a:pt x="221" y="414"/>
                </a:lnTo>
                <a:close/>
                <a:moveTo>
                  <a:pt x="1779" y="414"/>
                </a:moveTo>
                <a:lnTo>
                  <a:pt x="1772" y="414"/>
                </a:lnTo>
                <a:lnTo>
                  <a:pt x="1772" y="414"/>
                </a:lnTo>
                <a:lnTo>
                  <a:pt x="1772" y="414"/>
                </a:lnTo>
                <a:lnTo>
                  <a:pt x="1765" y="414"/>
                </a:lnTo>
                <a:lnTo>
                  <a:pt x="1765" y="414"/>
                </a:lnTo>
                <a:lnTo>
                  <a:pt x="1765" y="421"/>
                </a:lnTo>
                <a:lnTo>
                  <a:pt x="1765" y="421"/>
                </a:lnTo>
                <a:lnTo>
                  <a:pt x="1772" y="427"/>
                </a:lnTo>
                <a:lnTo>
                  <a:pt x="1772" y="427"/>
                </a:lnTo>
                <a:lnTo>
                  <a:pt x="1772" y="427"/>
                </a:lnTo>
                <a:lnTo>
                  <a:pt x="1772" y="427"/>
                </a:lnTo>
                <a:lnTo>
                  <a:pt x="1772" y="421"/>
                </a:lnTo>
                <a:lnTo>
                  <a:pt x="1779" y="421"/>
                </a:lnTo>
                <a:lnTo>
                  <a:pt x="1779" y="414"/>
                </a:lnTo>
                <a:close/>
                <a:moveTo>
                  <a:pt x="1076" y="324"/>
                </a:moveTo>
                <a:lnTo>
                  <a:pt x="1076" y="324"/>
                </a:lnTo>
                <a:lnTo>
                  <a:pt x="1083" y="317"/>
                </a:lnTo>
                <a:lnTo>
                  <a:pt x="1090" y="310"/>
                </a:lnTo>
                <a:lnTo>
                  <a:pt x="1097" y="310"/>
                </a:lnTo>
                <a:lnTo>
                  <a:pt x="1104" y="303"/>
                </a:lnTo>
                <a:lnTo>
                  <a:pt x="1110" y="297"/>
                </a:lnTo>
                <a:lnTo>
                  <a:pt x="1117" y="297"/>
                </a:lnTo>
                <a:lnTo>
                  <a:pt x="1124" y="297"/>
                </a:lnTo>
                <a:lnTo>
                  <a:pt x="1138" y="297"/>
                </a:lnTo>
                <a:lnTo>
                  <a:pt x="1145" y="297"/>
                </a:lnTo>
                <a:lnTo>
                  <a:pt x="1152" y="297"/>
                </a:lnTo>
                <a:lnTo>
                  <a:pt x="1159" y="290"/>
                </a:lnTo>
                <a:lnTo>
                  <a:pt x="1159" y="283"/>
                </a:lnTo>
                <a:lnTo>
                  <a:pt x="1166" y="283"/>
                </a:lnTo>
                <a:lnTo>
                  <a:pt x="1172" y="276"/>
                </a:lnTo>
                <a:lnTo>
                  <a:pt x="1179" y="276"/>
                </a:lnTo>
                <a:lnTo>
                  <a:pt x="1186" y="269"/>
                </a:lnTo>
                <a:lnTo>
                  <a:pt x="1200" y="269"/>
                </a:lnTo>
                <a:lnTo>
                  <a:pt x="1207" y="269"/>
                </a:lnTo>
                <a:lnTo>
                  <a:pt x="1214" y="269"/>
                </a:lnTo>
                <a:lnTo>
                  <a:pt x="1221" y="262"/>
                </a:lnTo>
                <a:lnTo>
                  <a:pt x="1221" y="255"/>
                </a:lnTo>
                <a:lnTo>
                  <a:pt x="1228" y="248"/>
                </a:lnTo>
                <a:lnTo>
                  <a:pt x="1228" y="241"/>
                </a:lnTo>
                <a:lnTo>
                  <a:pt x="1235" y="241"/>
                </a:lnTo>
                <a:lnTo>
                  <a:pt x="1241" y="235"/>
                </a:lnTo>
                <a:lnTo>
                  <a:pt x="1248" y="235"/>
                </a:lnTo>
                <a:lnTo>
                  <a:pt x="1255" y="228"/>
                </a:lnTo>
                <a:lnTo>
                  <a:pt x="1262" y="221"/>
                </a:lnTo>
                <a:lnTo>
                  <a:pt x="1269" y="221"/>
                </a:lnTo>
                <a:lnTo>
                  <a:pt x="1276" y="221"/>
                </a:lnTo>
                <a:lnTo>
                  <a:pt x="1290" y="221"/>
                </a:lnTo>
                <a:lnTo>
                  <a:pt x="1297" y="221"/>
                </a:lnTo>
                <a:lnTo>
                  <a:pt x="1303" y="221"/>
                </a:lnTo>
                <a:lnTo>
                  <a:pt x="1303" y="214"/>
                </a:lnTo>
                <a:lnTo>
                  <a:pt x="1303" y="207"/>
                </a:lnTo>
                <a:lnTo>
                  <a:pt x="1303" y="200"/>
                </a:lnTo>
                <a:lnTo>
                  <a:pt x="1310" y="193"/>
                </a:lnTo>
                <a:lnTo>
                  <a:pt x="1317" y="186"/>
                </a:lnTo>
                <a:lnTo>
                  <a:pt x="1324" y="186"/>
                </a:lnTo>
                <a:lnTo>
                  <a:pt x="1331" y="179"/>
                </a:lnTo>
                <a:lnTo>
                  <a:pt x="1338" y="179"/>
                </a:lnTo>
                <a:lnTo>
                  <a:pt x="1352" y="179"/>
                </a:lnTo>
                <a:lnTo>
                  <a:pt x="1352" y="179"/>
                </a:lnTo>
                <a:lnTo>
                  <a:pt x="1359" y="173"/>
                </a:lnTo>
                <a:lnTo>
                  <a:pt x="1352" y="166"/>
                </a:lnTo>
                <a:lnTo>
                  <a:pt x="1345" y="159"/>
                </a:lnTo>
                <a:lnTo>
                  <a:pt x="1338" y="152"/>
                </a:lnTo>
                <a:lnTo>
                  <a:pt x="1331" y="152"/>
                </a:lnTo>
                <a:lnTo>
                  <a:pt x="1324" y="152"/>
                </a:lnTo>
                <a:lnTo>
                  <a:pt x="1317" y="152"/>
                </a:lnTo>
                <a:lnTo>
                  <a:pt x="1310" y="159"/>
                </a:lnTo>
                <a:lnTo>
                  <a:pt x="1303" y="159"/>
                </a:lnTo>
                <a:lnTo>
                  <a:pt x="1297" y="166"/>
                </a:lnTo>
                <a:lnTo>
                  <a:pt x="1290" y="166"/>
                </a:lnTo>
                <a:lnTo>
                  <a:pt x="1276" y="173"/>
                </a:lnTo>
                <a:lnTo>
                  <a:pt x="1269" y="173"/>
                </a:lnTo>
                <a:lnTo>
                  <a:pt x="1262" y="173"/>
                </a:lnTo>
                <a:lnTo>
                  <a:pt x="1248" y="173"/>
                </a:lnTo>
                <a:lnTo>
                  <a:pt x="1241" y="173"/>
                </a:lnTo>
                <a:lnTo>
                  <a:pt x="1235" y="179"/>
                </a:lnTo>
                <a:lnTo>
                  <a:pt x="1235" y="179"/>
                </a:lnTo>
                <a:lnTo>
                  <a:pt x="1228" y="186"/>
                </a:lnTo>
                <a:lnTo>
                  <a:pt x="1221" y="186"/>
                </a:lnTo>
                <a:lnTo>
                  <a:pt x="1214" y="193"/>
                </a:lnTo>
                <a:lnTo>
                  <a:pt x="1200" y="193"/>
                </a:lnTo>
                <a:lnTo>
                  <a:pt x="1193" y="200"/>
                </a:lnTo>
                <a:lnTo>
                  <a:pt x="1186" y="200"/>
                </a:lnTo>
                <a:lnTo>
                  <a:pt x="1179" y="200"/>
                </a:lnTo>
                <a:lnTo>
                  <a:pt x="1166" y="200"/>
                </a:lnTo>
                <a:lnTo>
                  <a:pt x="1159" y="200"/>
                </a:lnTo>
                <a:lnTo>
                  <a:pt x="1152" y="200"/>
                </a:lnTo>
                <a:lnTo>
                  <a:pt x="1152" y="207"/>
                </a:lnTo>
                <a:lnTo>
                  <a:pt x="1152" y="214"/>
                </a:lnTo>
                <a:lnTo>
                  <a:pt x="1152" y="221"/>
                </a:lnTo>
                <a:lnTo>
                  <a:pt x="1152" y="228"/>
                </a:lnTo>
                <a:lnTo>
                  <a:pt x="1159" y="228"/>
                </a:lnTo>
                <a:lnTo>
                  <a:pt x="1159" y="235"/>
                </a:lnTo>
                <a:lnTo>
                  <a:pt x="1159" y="241"/>
                </a:lnTo>
                <a:lnTo>
                  <a:pt x="1152" y="248"/>
                </a:lnTo>
                <a:lnTo>
                  <a:pt x="1145" y="248"/>
                </a:lnTo>
                <a:lnTo>
                  <a:pt x="1138" y="255"/>
                </a:lnTo>
                <a:lnTo>
                  <a:pt x="1131" y="255"/>
                </a:lnTo>
                <a:lnTo>
                  <a:pt x="1124" y="262"/>
                </a:lnTo>
                <a:lnTo>
                  <a:pt x="1117" y="262"/>
                </a:lnTo>
                <a:lnTo>
                  <a:pt x="1110" y="269"/>
                </a:lnTo>
                <a:lnTo>
                  <a:pt x="1104" y="269"/>
                </a:lnTo>
                <a:lnTo>
                  <a:pt x="1097" y="276"/>
                </a:lnTo>
                <a:lnTo>
                  <a:pt x="1090" y="276"/>
                </a:lnTo>
                <a:lnTo>
                  <a:pt x="1083" y="283"/>
                </a:lnTo>
                <a:lnTo>
                  <a:pt x="1076" y="283"/>
                </a:lnTo>
                <a:lnTo>
                  <a:pt x="1069" y="290"/>
                </a:lnTo>
                <a:lnTo>
                  <a:pt x="1062" y="290"/>
                </a:lnTo>
                <a:lnTo>
                  <a:pt x="1055" y="297"/>
                </a:lnTo>
                <a:lnTo>
                  <a:pt x="1048" y="303"/>
                </a:lnTo>
                <a:lnTo>
                  <a:pt x="1041" y="303"/>
                </a:lnTo>
                <a:lnTo>
                  <a:pt x="1035" y="310"/>
                </a:lnTo>
                <a:lnTo>
                  <a:pt x="1035" y="317"/>
                </a:lnTo>
                <a:lnTo>
                  <a:pt x="1035" y="324"/>
                </a:lnTo>
                <a:lnTo>
                  <a:pt x="1041" y="331"/>
                </a:lnTo>
                <a:lnTo>
                  <a:pt x="1048" y="331"/>
                </a:lnTo>
                <a:lnTo>
                  <a:pt x="1062" y="331"/>
                </a:lnTo>
                <a:lnTo>
                  <a:pt x="1069" y="331"/>
                </a:lnTo>
                <a:lnTo>
                  <a:pt x="1076" y="324"/>
                </a:lnTo>
                <a:close/>
                <a:moveTo>
                  <a:pt x="2427" y="179"/>
                </a:moveTo>
                <a:lnTo>
                  <a:pt x="2420" y="173"/>
                </a:lnTo>
                <a:lnTo>
                  <a:pt x="2414" y="173"/>
                </a:lnTo>
                <a:lnTo>
                  <a:pt x="2414" y="173"/>
                </a:lnTo>
                <a:lnTo>
                  <a:pt x="2407" y="173"/>
                </a:lnTo>
                <a:lnTo>
                  <a:pt x="2400" y="173"/>
                </a:lnTo>
                <a:lnTo>
                  <a:pt x="2393" y="166"/>
                </a:lnTo>
                <a:lnTo>
                  <a:pt x="2386" y="166"/>
                </a:lnTo>
                <a:lnTo>
                  <a:pt x="2379" y="166"/>
                </a:lnTo>
                <a:lnTo>
                  <a:pt x="2372" y="166"/>
                </a:lnTo>
                <a:lnTo>
                  <a:pt x="2365" y="166"/>
                </a:lnTo>
                <a:lnTo>
                  <a:pt x="2365" y="166"/>
                </a:lnTo>
                <a:lnTo>
                  <a:pt x="2358" y="166"/>
                </a:lnTo>
                <a:lnTo>
                  <a:pt x="2358" y="173"/>
                </a:lnTo>
                <a:lnTo>
                  <a:pt x="2358" y="179"/>
                </a:lnTo>
                <a:lnTo>
                  <a:pt x="2358" y="179"/>
                </a:lnTo>
                <a:lnTo>
                  <a:pt x="2365" y="186"/>
                </a:lnTo>
                <a:lnTo>
                  <a:pt x="2372" y="186"/>
                </a:lnTo>
                <a:lnTo>
                  <a:pt x="2379" y="186"/>
                </a:lnTo>
                <a:lnTo>
                  <a:pt x="2386" y="186"/>
                </a:lnTo>
                <a:lnTo>
                  <a:pt x="2393" y="186"/>
                </a:lnTo>
                <a:lnTo>
                  <a:pt x="2400" y="186"/>
                </a:lnTo>
                <a:lnTo>
                  <a:pt x="2400" y="179"/>
                </a:lnTo>
                <a:lnTo>
                  <a:pt x="2407" y="179"/>
                </a:lnTo>
                <a:lnTo>
                  <a:pt x="2414" y="179"/>
                </a:lnTo>
                <a:lnTo>
                  <a:pt x="2420" y="179"/>
                </a:lnTo>
                <a:lnTo>
                  <a:pt x="2427" y="179"/>
                </a:lnTo>
                <a:close/>
                <a:moveTo>
                  <a:pt x="1421" y="145"/>
                </a:moveTo>
                <a:lnTo>
                  <a:pt x="1421" y="138"/>
                </a:lnTo>
                <a:lnTo>
                  <a:pt x="1421" y="138"/>
                </a:lnTo>
                <a:lnTo>
                  <a:pt x="1414" y="131"/>
                </a:lnTo>
                <a:lnTo>
                  <a:pt x="1400" y="138"/>
                </a:lnTo>
                <a:lnTo>
                  <a:pt x="1393" y="138"/>
                </a:lnTo>
                <a:lnTo>
                  <a:pt x="1379" y="138"/>
                </a:lnTo>
                <a:lnTo>
                  <a:pt x="1372" y="138"/>
                </a:lnTo>
                <a:lnTo>
                  <a:pt x="1366" y="138"/>
                </a:lnTo>
                <a:lnTo>
                  <a:pt x="1359" y="138"/>
                </a:lnTo>
                <a:lnTo>
                  <a:pt x="1345" y="145"/>
                </a:lnTo>
                <a:lnTo>
                  <a:pt x="1338" y="145"/>
                </a:lnTo>
                <a:lnTo>
                  <a:pt x="1331" y="145"/>
                </a:lnTo>
                <a:lnTo>
                  <a:pt x="1331" y="152"/>
                </a:lnTo>
                <a:lnTo>
                  <a:pt x="1331" y="159"/>
                </a:lnTo>
                <a:lnTo>
                  <a:pt x="1338" y="166"/>
                </a:lnTo>
                <a:lnTo>
                  <a:pt x="1345" y="166"/>
                </a:lnTo>
                <a:lnTo>
                  <a:pt x="1359" y="173"/>
                </a:lnTo>
                <a:lnTo>
                  <a:pt x="1366" y="173"/>
                </a:lnTo>
                <a:lnTo>
                  <a:pt x="1379" y="173"/>
                </a:lnTo>
                <a:lnTo>
                  <a:pt x="1386" y="173"/>
                </a:lnTo>
                <a:lnTo>
                  <a:pt x="1393" y="173"/>
                </a:lnTo>
                <a:lnTo>
                  <a:pt x="1400" y="166"/>
                </a:lnTo>
                <a:lnTo>
                  <a:pt x="1400" y="159"/>
                </a:lnTo>
                <a:lnTo>
                  <a:pt x="1407" y="159"/>
                </a:lnTo>
                <a:lnTo>
                  <a:pt x="1414" y="152"/>
                </a:lnTo>
                <a:lnTo>
                  <a:pt x="1421" y="145"/>
                </a:lnTo>
                <a:close/>
                <a:moveTo>
                  <a:pt x="2289" y="145"/>
                </a:moveTo>
                <a:lnTo>
                  <a:pt x="2283" y="145"/>
                </a:lnTo>
                <a:lnTo>
                  <a:pt x="2283" y="145"/>
                </a:lnTo>
                <a:lnTo>
                  <a:pt x="2283" y="145"/>
                </a:lnTo>
                <a:lnTo>
                  <a:pt x="2276" y="145"/>
                </a:lnTo>
                <a:lnTo>
                  <a:pt x="2276" y="145"/>
                </a:lnTo>
                <a:lnTo>
                  <a:pt x="2269" y="145"/>
                </a:lnTo>
                <a:lnTo>
                  <a:pt x="2269" y="145"/>
                </a:lnTo>
                <a:lnTo>
                  <a:pt x="2269" y="145"/>
                </a:lnTo>
                <a:lnTo>
                  <a:pt x="2276" y="152"/>
                </a:lnTo>
                <a:lnTo>
                  <a:pt x="2276" y="152"/>
                </a:lnTo>
                <a:lnTo>
                  <a:pt x="2283" y="152"/>
                </a:lnTo>
                <a:lnTo>
                  <a:pt x="2283" y="152"/>
                </a:lnTo>
                <a:lnTo>
                  <a:pt x="2289" y="145"/>
                </a:lnTo>
                <a:lnTo>
                  <a:pt x="2289" y="145"/>
                </a:lnTo>
                <a:close/>
                <a:moveTo>
                  <a:pt x="1490" y="117"/>
                </a:moveTo>
                <a:lnTo>
                  <a:pt x="1483" y="117"/>
                </a:lnTo>
                <a:lnTo>
                  <a:pt x="1476" y="117"/>
                </a:lnTo>
                <a:lnTo>
                  <a:pt x="1476" y="111"/>
                </a:lnTo>
                <a:lnTo>
                  <a:pt x="1469" y="111"/>
                </a:lnTo>
                <a:lnTo>
                  <a:pt x="1462" y="111"/>
                </a:lnTo>
                <a:lnTo>
                  <a:pt x="1455" y="104"/>
                </a:lnTo>
                <a:lnTo>
                  <a:pt x="1448" y="104"/>
                </a:lnTo>
                <a:lnTo>
                  <a:pt x="1441" y="111"/>
                </a:lnTo>
                <a:lnTo>
                  <a:pt x="1434" y="111"/>
                </a:lnTo>
                <a:lnTo>
                  <a:pt x="1434" y="117"/>
                </a:lnTo>
                <a:lnTo>
                  <a:pt x="1434" y="117"/>
                </a:lnTo>
                <a:lnTo>
                  <a:pt x="1441" y="124"/>
                </a:lnTo>
                <a:lnTo>
                  <a:pt x="1448" y="124"/>
                </a:lnTo>
                <a:lnTo>
                  <a:pt x="1455" y="124"/>
                </a:lnTo>
                <a:lnTo>
                  <a:pt x="1462" y="124"/>
                </a:lnTo>
                <a:lnTo>
                  <a:pt x="1469" y="124"/>
                </a:lnTo>
                <a:lnTo>
                  <a:pt x="1476" y="124"/>
                </a:lnTo>
                <a:lnTo>
                  <a:pt x="1483" y="124"/>
                </a:lnTo>
                <a:lnTo>
                  <a:pt x="1483" y="124"/>
                </a:lnTo>
                <a:lnTo>
                  <a:pt x="1490" y="117"/>
                </a:lnTo>
                <a:close/>
              </a:path>
            </a:pathLst>
          </a:custGeom>
          <a:solidFill>
            <a:srgbClr val="9fde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4" name=""/>
          <p:cNvSpPr/>
          <p:nvPr/>
        </p:nvSpPr>
        <p:spPr>
          <a:xfrm>
            <a:off x="2276640" y="2727360"/>
            <a:ext cx="4543200" cy="2921040"/>
          </a:xfrm>
          <a:custGeom>
            <a:avLst/>
            <a:gdLst/>
            <a:ahLst/>
            <a:rect l="l" t="t" r="r" b="b"/>
            <a:pathLst>
              <a:path w="2862" h="1840">
                <a:moveTo>
                  <a:pt x="2483" y="1840"/>
                </a:moveTo>
                <a:lnTo>
                  <a:pt x="2510" y="1812"/>
                </a:lnTo>
                <a:lnTo>
                  <a:pt x="2538" y="1812"/>
                </a:lnTo>
                <a:lnTo>
                  <a:pt x="2565" y="1812"/>
                </a:lnTo>
                <a:lnTo>
                  <a:pt x="2600" y="1812"/>
                </a:lnTo>
                <a:lnTo>
                  <a:pt x="2627" y="1812"/>
                </a:lnTo>
                <a:lnTo>
                  <a:pt x="2655" y="1812"/>
                </a:lnTo>
                <a:lnTo>
                  <a:pt x="2689" y="1812"/>
                </a:lnTo>
                <a:lnTo>
                  <a:pt x="2717" y="1778"/>
                </a:lnTo>
                <a:lnTo>
                  <a:pt x="2717" y="1750"/>
                </a:lnTo>
                <a:lnTo>
                  <a:pt x="2717" y="1722"/>
                </a:lnTo>
                <a:lnTo>
                  <a:pt x="2717" y="1688"/>
                </a:lnTo>
                <a:lnTo>
                  <a:pt x="2745" y="1660"/>
                </a:lnTo>
                <a:lnTo>
                  <a:pt x="2745" y="1633"/>
                </a:lnTo>
                <a:lnTo>
                  <a:pt x="2745" y="1599"/>
                </a:lnTo>
                <a:lnTo>
                  <a:pt x="2745" y="1571"/>
                </a:lnTo>
                <a:lnTo>
                  <a:pt x="2772" y="1543"/>
                </a:lnTo>
                <a:lnTo>
                  <a:pt x="2772" y="1516"/>
                </a:lnTo>
                <a:lnTo>
                  <a:pt x="2772" y="1481"/>
                </a:lnTo>
                <a:lnTo>
                  <a:pt x="2772" y="1454"/>
                </a:lnTo>
                <a:lnTo>
                  <a:pt x="2807" y="1426"/>
                </a:lnTo>
                <a:lnTo>
                  <a:pt x="2807" y="1392"/>
                </a:lnTo>
                <a:lnTo>
                  <a:pt x="2807" y="1364"/>
                </a:lnTo>
                <a:lnTo>
                  <a:pt x="2807" y="1337"/>
                </a:lnTo>
                <a:lnTo>
                  <a:pt x="2834" y="1302"/>
                </a:lnTo>
                <a:lnTo>
                  <a:pt x="2834" y="1275"/>
                </a:lnTo>
                <a:lnTo>
                  <a:pt x="2834" y="1247"/>
                </a:lnTo>
                <a:lnTo>
                  <a:pt x="2834" y="1213"/>
                </a:lnTo>
                <a:lnTo>
                  <a:pt x="2862" y="1185"/>
                </a:lnTo>
                <a:lnTo>
                  <a:pt x="2862" y="1158"/>
                </a:lnTo>
                <a:lnTo>
                  <a:pt x="2862" y="1130"/>
                </a:lnTo>
                <a:lnTo>
                  <a:pt x="2862" y="1096"/>
                </a:lnTo>
                <a:lnTo>
                  <a:pt x="2862" y="1068"/>
                </a:lnTo>
                <a:lnTo>
                  <a:pt x="2862" y="1041"/>
                </a:lnTo>
                <a:lnTo>
                  <a:pt x="2862" y="1006"/>
                </a:lnTo>
                <a:lnTo>
                  <a:pt x="2862" y="979"/>
                </a:lnTo>
                <a:lnTo>
                  <a:pt x="2862" y="951"/>
                </a:lnTo>
                <a:lnTo>
                  <a:pt x="2862" y="917"/>
                </a:lnTo>
                <a:lnTo>
                  <a:pt x="2862" y="889"/>
                </a:lnTo>
                <a:lnTo>
                  <a:pt x="2862" y="861"/>
                </a:lnTo>
                <a:lnTo>
                  <a:pt x="2862" y="827"/>
                </a:lnTo>
                <a:lnTo>
                  <a:pt x="2862" y="799"/>
                </a:lnTo>
                <a:lnTo>
                  <a:pt x="2862" y="772"/>
                </a:lnTo>
                <a:lnTo>
                  <a:pt x="2862" y="744"/>
                </a:lnTo>
                <a:lnTo>
                  <a:pt x="2862" y="710"/>
                </a:lnTo>
                <a:lnTo>
                  <a:pt x="2862" y="682"/>
                </a:lnTo>
                <a:lnTo>
                  <a:pt x="2862" y="655"/>
                </a:lnTo>
                <a:lnTo>
                  <a:pt x="2862" y="620"/>
                </a:lnTo>
                <a:lnTo>
                  <a:pt x="2862" y="593"/>
                </a:lnTo>
                <a:lnTo>
                  <a:pt x="2862" y="565"/>
                </a:lnTo>
                <a:lnTo>
                  <a:pt x="2862" y="531"/>
                </a:lnTo>
                <a:lnTo>
                  <a:pt x="2862" y="503"/>
                </a:lnTo>
                <a:lnTo>
                  <a:pt x="2862" y="476"/>
                </a:lnTo>
                <a:lnTo>
                  <a:pt x="2862" y="448"/>
                </a:lnTo>
                <a:lnTo>
                  <a:pt x="2862" y="414"/>
                </a:lnTo>
                <a:lnTo>
                  <a:pt x="2862" y="386"/>
                </a:lnTo>
                <a:lnTo>
                  <a:pt x="2862" y="359"/>
                </a:lnTo>
                <a:lnTo>
                  <a:pt x="2862" y="324"/>
                </a:lnTo>
                <a:lnTo>
                  <a:pt x="2862" y="297"/>
                </a:lnTo>
                <a:lnTo>
                  <a:pt x="2862" y="269"/>
                </a:lnTo>
                <a:lnTo>
                  <a:pt x="2834" y="235"/>
                </a:lnTo>
                <a:lnTo>
                  <a:pt x="2834" y="207"/>
                </a:lnTo>
                <a:lnTo>
                  <a:pt x="2834" y="179"/>
                </a:lnTo>
                <a:lnTo>
                  <a:pt x="2834" y="145"/>
                </a:lnTo>
                <a:lnTo>
                  <a:pt x="2834" y="117"/>
                </a:lnTo>
                <a:lnTo>
                  <a:pt x="2807" y="90"/>
                </a:lnTo>
                <a:lnTo>
                  <a:pt x="2772" y="90"/>
                </a:lnTo>
                <a:lnTo>
                  <a:pt x="2745" y="90"/>
                </a:lnTo>
                <a:lnTo>
                  <a:pt x="2717" y="62"/>
                </a:lnTo>
                <a:lnTo>
                  <a:pt x="2689" y="62"/>
                </a:lnTo>
                <a:lnTo>
                  <a:pt x="2655" y="62"/>
                </a:lnTo>
                <a:lnTo>
                  <a:pt x="2627" y="28"/>
                </a:lnTo>
                <a:lnTo>
                  <a:pt x="2600" y="28"/>
                </a:lnTo>
                <a:lnTo>
                  <a:pt x="2565" y="28"/>
                </a:lnTo>
                <a:lnTo>
                  <a:pt x="2538" y="0"/>
                </a:lnTo>
                <a:lnTo>
                  <a:pt x="2510" y="0"/>
                </a:lnTo>
                <a:lnTo>
                  <a:pt x="2483" y="0"/>
                </a:lnTo>
                <a:lnTo>
                  <a:pt x="2448" y="0"/>
                </a:lnTo>
                <a:lnTo>
                  <a:pt x="2420" y="0"/>
                </a:lnTo>
                <a:lnTo>
                  <a:pt x="2393" y="0"/>
                </a:lnTo>
                <a:lnTo>
                  <a:pt x="2365" y="0"/>
                </a:lnTo>
                <a:lnTo>
                  <a:pt x="2331" y="0"/>
                </a:lnTo>
                <a:lnTo>
                  <a:pt x="2303" y="0"/>
                </a:lnTo>
                <a:lnTo>
                  <a:pt x="2276" y="0"/>
                </a:lnTo>
                <a:lnTo>
                  <a:pt x="2241" y="0"/>
                </a:lnTo>
                <a:lnTo>
                  <a:pt x="2214" y="0"/>
                </a:lnTo>
                <a:lnTo>
                  <a:pt x="2186" y="0"/>
                </a:lnTo>
                <a:lnTo>
                  <a:pt x="2158" y="0"/>
                </a:lnTo>
                <a:lnTo>
                  <a:pt x="2124" y="0"/>
                </a:lnTo>
                <a:lnTo>
                  <a:pt x="2096" y="0"/>
                </a:lnTo>
                <a:lnTo>
                  <a:pt x="2069" y="0"/>
                </a:lnTo>
                <a:lnTo>
                  <a:pt x="2034" y="0"/>
                </a:lnTo>
                <a:lnTo>
                  <a:pt x="2007" y="0"/>
                </a:lnTo>
                <a:lnTo>
                  <a:pt x="1979" y="0"/>
                </a:lnTo>
                <a:lnTo>
                  <a:pt x="1952" y="0"/>
                </a:lnTo>
                <a:lnTo>
                  <a:pt x="1938" y="0"/>
                </a:lnTo>
                <a:lnTo>
                  <a:pt x="1945" y="0"/>
                </a:lnTo>
                <a:lnTo>
                  <a:pt x="1952" y="7"/>
                </a:lnTo>
                <a:lnTo>
                  <a:pt x="1965" y="7"/>
                </a:lnTo>
                <a:lnTo>
                  <a:pt x="1972" y="7"/>
                </a:lnTo>
                <a:lnTo>
                  <a:pt x="1979" y="7"/>
                </a:lnTo>
                <a:lnTo>
                  <a:pt x="1993" y="7"/>
                </a:lnTo>
                <a:lnTo>
                  <a:pt x="2000" y="14"/>
                </a:lnTo>
                <a:lnTo>
                  <a:pt x="2007" y="14"/>
                </a:lnTo>
                <a:lnTo>
                  <a:pt x="2014" y="21"/>
                </a:lnTo>
                <a:lnTo>
                  <a:pt x="2027" y="21"/>
                </a:lnTo>
                <a:lnTo>
                  <a:pt x="2034" y="28"/>
                </a:lnTo>
                <a:lnTo>
                  <a:pt x="2041" y="28"/>
                </a:lnTo>
                <a:lnTo>
                  <a:pt x="2048" y="28"/>
                </a:lnTo>
                <a:lnTo>
                  <a:pt x="2055" y="35"/>
                </a:lnTo>
                <a:lnTo>
                  <a:pt x="2069" y="35"/>
                </a:lnTo>
                <a:lnTo>
                  <a:pt x="2076" y="42"/>
                </a:lnTo>
                <a:lnTo>
                  <a:pt x="2083" y="42"/>
                </a:lnTo>
                <a:lnTo>
                  <a:pt x="2096" y="42"/>
                </a:lnTo>
                <a:lnTo>
                  <a:pt x="2103" y="49"/>
                </a:lnTo>
                <a:lnTo>
                  <a:pt x="2110" y="49"/>
                </a:lnTo>
                <a:lnTo>
                  <a:pt x="2124" y="49"/>
                </a:lnTo>
                <a:lnTo>
                  <a:pt x="2131" y="55"/>
                </a:lnTo>
                <a:lnTo>
                  <a:pt x="2138" y="55"/>
                </a:lnTo>
                <a:lnTo>
                  <a:pt x="2145" y="55"/>
                </a:lnTo>
                <a:lnTo>
                  <a:pt x="2158" y="62"/>
                </a:lnTo>
                <a:lnTo>
                  <a:pt x="2165" y="62"/>
                </a:lnTo>
                <a:lnTo>
                  <a:pt x="2172" y="62"/>
                </a:lnTo>
                <a:lnTo>
                  <a:pt x="2186" y="69"/>
                </a:lnTo>
                <a:lnTo>
                  <a:pt x="2193" y="69"/>
                </a:lnTo>
                <a:lnTo>
                  <a:pt x="2200" y="69"/>
                </a:lnTo>
                <a:lnTo>
                  <a:pt x="2207" y="76"/>
                </a:lnTo>
                <a:lnTo>
                  <a:pt x="2221" y="76"/>
                </a:lnTo>
                <a:lnTo>
                  <a:pt x="2227" y="76"/>
                </a:lnTo>
                <a:lnTo>
                  <a:pt x="2234" y="83"/>
                </a:lnTo>
                <a:lnTo>
                  <a:pt x="2248" y="83"/>
                </a:lnTo>
                <a:lnTo>
                  <a:pt x="2255" y="90"/>
                </a:lnTo>
                <a:lnTo>
                  <a:pt x="2262" y="90"/>
                </a:lnTo>
                <a:lnTo>
                  <a:pt x="2269" y="90"/>
                </a:lnTo>
                <a:lnTo>
                  <a:pt x="2283" y="97"/>
                </a:lnTo>
                <a:lnTo>
                  <a:pt x="2289" y="97"/>
                </a:lnTo>
                <a:lnTo>
                  <a:pt x="2296" y="97"/>
                </a:lnTo>
                <a:lnTo>
                  <a:pt x="2310" y="104"/>
                </a:lnTo>
                <a:lnTo>
                  <a:pt x="2317" y="104"/>
                </a:lnTo>
                <a:lnTo>
                  <a:pt x="2324" y="104"/>
                </a:lnTo>
                <a:lnTo>
                  <a:pt x="2338" y="111"/>
                </a:lnTo>
                <a:lnTo>
                  <a:pt x="2345" y="111"/>
                </a:lnTo>
                <a:lnTo>
                  <a:pt x="2352" y="111"/>
                </a:lnTo>
                <a:lnTo>
                  <a:pt x="2358" y="117"/>
                </a:lnTo>
                <a:lnTo>
                  <a:pt x="2372" y="117"/>
                </a:lnTo>
                <a:lnTo>
                  <a:pt x="2379" y="124"/>
                </a:lnTo>
                <a:lnTo>
                  <a:pt x="2386" y="124"/>
                </a:lnTo>
                <a:lnTo>
                  <a:pt x="2393" y="124"/>
                </a:lnTo>
                <a:lnTo>
                  <a:pt x="2407" y="131"/>
                </a:lnTo>
                <a:lnTo>
                  <a:pt x="2414" y="131"/>
                </a:lnTo>
                <a:lnTo>
                  <a:pt x="2420" y="131"/>
                </a:lnTo>
                <a:lnTo>
                  <a:pt x="2434" y="138"/>
                </a:lnTo>
                <a:lnTo>
                  <a:pt x="2441" y="138"/>
                </a:lnTo>
                <a:lnTo>
                  <a:pt x="2448" y="145"/>
                </a:lnTo>
                <a:lnTo>
                  <a:pt x="2455" y="145"/>
                </a:lnTo>
                <a:lnTo>
                  <a:pt x="2462" y="152"/>
                </a:lnTo>
                <a:lnTo>
                  <a:pt x="2462" y="159"/>
                </a:lnTo>
                <a:lnTo>
                  <a:pt x="2469" y="166"/>
                </a:lnTo>
                <a:lnTo>
                  <a:pt x="2476" y="166"/>
                </a:lnTo>
                <a:lnTo>
                  <a:pt x="2483" y="173"/>
                </a:lnTo>
                <a:lnTo>
                  <a:pt x="2496" y="173"/>
                </a:lnTo>
                <a:lnTo>
                  <a:pt x="2503" y="179"/>
                </a:lnTo>
                <a:lnTo>
                  <a:pt x="2503" y="186"/>
                </a:lnTo>
                <a:lnTo>
                  <a:pt x="2510" y="186"/>
                </a:lnTo>
                <a:lnTo>
                  <a:pt x="2517" y="193"/>
                </a:lnTo>
                <a:lnTo>
                  <a:pt x="2524" y="200"/>
                </a:lnTo>
                <a:lnTo>
                  <a:pt x="2531" y="200"/>
                </a:lnTo>
                <a:lnTo>
                  <a:pt x="2538" y="207"/>
                </a:lnTo>
                <a:lnTo>
                  <a:pt x="2545" y="207"/>
                </a:lnTo>
                <a:lnTo>
                  <a:pt x="2551" y="214"/>
                </a:lnTo>
                <a:lnTo>
                  <a:pt x="2558" y="221"/>
                </a:lnTo>
                <a:lnTo>
                  <a:pt x="2558" y="228"/>
                </a:lnTo>
                <a:lnTo>
                  <a:pt x="2565" y="235"/>
                </a:lnTo>
                <a:lnTo>
                  <a:pt x="2572" y="235"/>
                </a:lnTo>
                <a:lnTo>
                  <a:pt x="2579" y="235"/>
                </a:lnTo>
                <a:lnTo>
                  <a:pt x="2586" y="241"/>
                </a:lnTo>
                <a:lnTo>
                  <a:pt x="2600" y="241"/>
                </a:lnTo>
                <a:lnTo>
                  <a:pt x="2600" y="248"/>
                </a:lnTo>
                <a:lnTo>
                  <a:pt x="2607" y="255"/>
                </a:lnTo>
                <a:lnTo>
                  <a:pt x="2614" y="262"/>
                </a:lnTo>
                <a:lnTo>
                  <a:pt x="2620" y="262"/>
                </a:lnTo>
                <a:lnTo>
                  <a:pt x="2620" y="269"/>
                </a:lnTo>
                <a:lnTo>
                  <a:pt x="2627" y="276"/>
                </a:lnTo>
                <a:lnTo>
                  <a:pt x="2634" y="276"/>
                </a:lnTo>
                <a:lnTo>
                  <a:pt x="2641" y="283"/>
                </a:lnTo>
                <a:lnTo>
                  <a:pt x="2648" y="283"/>
                </a:lnTo>
                <a:lnTo>
                  <a:pt x="2662" y="290"/>
                </a:lnTo>
                <a:lnTo>
                  <a:pt x="2669" y="297"/>
                </a:lnTo>
                <a:lnTo>
                  <a:pt x="2662" y="297"/>
                </a:lnTo>
                <a:lnTo>
                  <a:pt x="2648" y="297"/>
                </a:lnTo>
                <a:lnTo>
                  <a:pt x="2641" y="303"/>
                </a:lnTo>
                <a:lnTo>
                  <a:pt x="2627" y="303"/>
                </a:lnTo>
                <a:lnTo>
                  <a:pt x="2620" y="303"/>
                </a:lnTo>
                <a:lnTo>
                  <a:pt x="2614" y="303"/>
                </a:lnTo>
                <a:lnTo>
                  <a:pt x="2600" y="303"/>
                </a:lnTo>
                <a:lnTo>
                  <a:pt x="2593" y="303"/>
                </a:lnTo>
                <a:lnTo>
                  <a:pt x="2579" y="303"/>
                </a:lnTo>
                <a:lnTo>
                  <a:pt x="2572" y="303"/>
                </a:lnTo>
                <a:lnTo>
                  <a:pt x="2565" y="297"/>
                </a:lnTo>
                <a:lnTo>
                  <a:pt x="2551" y="297"/>
                </a:lnTo>
                <a:lnTo>
                  <a:pt x="2545" y="297"/>
                </a:lnTo>
                <a:lnTo>
                  <a:pt x="2538" y="297"/>
                </a:lnTo>
                <a:lnTo>
                  <a:pt x="2524" y="297"/>
                </a:lnTo>
                <a:lnTo>
                  <a:pt x="2517" y="297"/>
                </a:lnTo>
                <a:lnTo>
                  <a:pt x="2510" y="290"/>
                </a:lnTo>
                <a:lnTo>
                  <a:pt x="2496" y="290"/>
                </a:lnTo>
                <a:lnTo>
                  <a:pt x="2489" y="283"/>
                </a:lnTo>
                <a:lnTo>
                  <a:pt x="2483" y="283"/>
                </a:lnTo>
                <a:lnTo>
                  <a:pt x="2476" y="276"/>
                </a:lnTo>
                <a:lnTo>
                  <a:pt x="2469" y="276"/>
                </a:lnTo>
                <a:lnTo>
                  <a:pt x="2455" y="276"/>
                </a:lnTo>
                <a:lnTo>
                  <a:pt x="2448" y="283"/>
                </a:lnTo>
                <a:lnTo>
                  <a:pt x="2434" y="283"/>
                </a:lnTo>
                <a:lnTo>
                  <a:pt x="2427" y="290"/>
                </a:lnTo>
                <a:lnTo>
                  <a:pt x="2420" y="290"/>
                </a:lnTo>
                <a:lnTo>
                  <a:pt x="2420" y="297"/>
                </a:lnTo>
                <a:lnTo>
                  <a:pt x="2414" y="303"/>
                </a:lnTo>
                <a:lnTo>
                  <a:pt x="2420" y="310"/>
                </a:lnTo>
                <a:lnTo>
                  <a:pt x="2427" y="317"/>
                </a:lnTo>
                <a:lnTo>
                  <a:pt x="2434" y="317"/>
                </a:lnTo>
                <a:lnTo>
                  <a:pt x="2441" y="324"/>
                </a:lnTo>
                <a:lnTo>
                  <a:pt x="2448" y="324"/>
                </a:lnTo>
                <a:lnTo>
                  <a:pt x="2448" y="331"/>
                </a:lnTo>
                <a:lnTo>
                  <a:pt x="2448" y="338"/>
                </a:lnTo>
                <a:lnTo>
                  <a:pt x="2448" y="345"/>
                </a:lnTo>
                <a:lnTo>
                  <a:pt x="2448" y="352"/>
                </a:lnTo>
                <a:lnTo>
                  <a:pt x="2448" y="359"/>
                </a:lnTo>
                <a:lnTo>
                  <a:pt x="2441" y="359"/>
                </a:lnTo>
                <a:lnTo>
                  <a:pt x="2434" y="365"/>
                </a:lnTo>
                <a:lnTo>
                  <a:pt x="2427" y="372"/>
                </a:lnTo>
                <a:lnTo>
                  <a:pt x="2420" y="379"/>
                </a:lnTo>
                <a:lnTo>
                  <a:pt x="2414" y="379"/>
                </a:lnTo>
                <a:lnTo>
                  <a:pt x="2407" y="386"/>
                </a:lnTo>
                <a:lnTo>
                  <a:pt x="2400" y="393"/>
                </a:lnTo>
                <a:lnTo>
                  <a:pt x="2393" y="393"/>
                </a:lnTo>
                <a:lnTo>
                  <a:pt x="2386" y="400"/>
                </a:lnTo>
                <a:lnTo>
                  <a:pt x="2379" y="400"/>
                </a:lnTo>
                <a:lnTo>
                  <a:pt x="2372" y="407"/>
                </a:lnTo>
                <a:lnTo>
                  <a:pt x="2365" y="407"/>
                </a:lnTo>
                <a:lnTo>
                  <a:pt x="2358" y="414"/>
                </a:lnTo>
                <a:lnTo>
                  <a:pt x="2352" y="421"/>
                </a:lnTo>
                <a:lnTo>
                  <a:pt x="2345" y="421"/>
                </a:lnTo>
                <a:lnTo>
                  <a:pt x="2338" y="427"/>
                </a:lnTo>
                <a:lnTo>
                  <a:pt x="2324" y="427"/>
                </a:lnTo>
                <a:lnTo>
                  <a:pt x="2317" y="434"/>
                </a:lnTo>
                <a:lnTo>
                  <a:pt x="2310" y="434"/>
                </a:lnTo>
                <a:lnTo>
                  <a:pt x="2296" y="434"/>
                </a:lnTo>
                <a:lnTo>
                  <a:pt x="2289" y="427"/>
                </a:lnTo>
                <a:lnTo>
                  <a:pt x="2283" y="421"/>
                </a:lnTo>
                <a:lnTo>
                  <a:pt x="2276" y="421"/>
                </a:lnTo>
                <a:lnTo>
                  <a:pt x="2269" y="421"/>
                </a:lnTo>
                <a:lnTo>
                  <a:pt x="2255" y="421"/>
                </a:lnTo>
                <a:lnTo>
                  <a:pt x="2248" y="421"/>
                </a:lnTo>
                <a:lnTo>
                  <a:pt x="2234" y="427"/>
                </a:lnTo>
                <a:lnTo>
                  <a:pt x="2227" y="434"/>
                </a:lnTo>
                <a:lnTo>
                  <a:pt x="2221" y="434"/>
                </a:lnTo>
                <a:lnTo>
                  <a:pt x="2214" y="434"/>
                </a:lnTo>
                <a:lnTo>
                  <a:pt x="2207" y="434"/>
                </a:lnTo>
                <a:lnTo>
                  <a:pt x="2193" y="434"/>
                </a:lnTo>
                <a:lnTo>
                  <a:pt x="2186" y="434"/>
                </a:lnTo>
                <a:lnTo>
                  <a:pt x="2179" y="441"/>
                </a:lnTo>
                <a:lnTo>
                  <a:pt x="2172" y="441"/>
                </a:lnTo>
                <a:lnTo>
                  <a:pt x="2158" y="448"/>
                </a:lnTo>
                <a:lnTo>
                  <a:pt x="2152" y="448"/>
                </a:lnTo>
                <a:lnTo>
                  <a:pt x="2145" y="441"/>
                </a:lnTo>
                <a:lnTo>
                  <a:pt x="2131" y="441"/>
                </a:lnTo>
                <a:lnTo>
                  <a:pt x="2124" y="434"/>
                </a:lnTo>
                <a:lnTo>
                  <a:pt x="2117" y="434"/>
                </a:lnTo>
                <a:lnTo>
                  <a:pt x="2110" y="434"/>
                </a:lnTo>
                <a:lnTo>
                  <a:pt x="2096" y="441"/>
                </a:lnTo>
                <a:lnTo>
                  <a:pt x="2090" y="441"/>
                </a:lnTo>
                <a:lnTo>
                  <a:pt x="2076" y="441"/>
                </a:lnTo>
                <a:lnTo>
                  <a:pt x="2069" y="441"/>
                </a:lnTo>
                <a:lnTo>
                  <a:pt x="2062" y="441"/>
                </a:lnTo>
                <a:lnTo>
                  <a:pt x="2048" y="441"/>
                </a:lnTo>
                <a:lnTo>
                  <a:pt x="2041" y="441"/>
                </a:lnTo>
                <a:lnTo>
                  <a:pt x="2027" y="441"/>
                </a:lnTo>
                <a:lnTo>
                  <a:pt x="2021" y="441"/>
                </a:lnTo>
                <a:lnTo>
                  <a:pt x="2014" y="441"/>
                </a:lnTo>
                <a:lnTo>
                  <a:pt x="2000" y="448"/>
                </a:lnTo>
                <a:lnTo>
                  <a:pt x="1993" y="448"/>
                </a:lnTo>
                <a:lnTo>
                  <a:pt x="1986" y="455"/>
                </a:lnTo>
                <a:lnTo>
                  <a:pt x="1979" y="462"/>
                </a:lnTo>
                <a:lnTo>
                  <a:pt x="1972" y="462"/>
                </a:lnTo>
                <a:lnTo>
                  <a:pt x="1965" y="469"/>
                </a:lnTo>
                <a:lnTo>
                  <a:pt x="1959" y="469"/>
                </a:lnTo>
                <a:lnTo>
                  <a:pt x="1952" y="476"/>
                </a:lnTo>
                <a:lnTo>
                  <a:pt x="1945" y="483"/>
                </a:lnTo>
                <a:lnTo>
                  <a:pt x="1945" y="489"/>
                </a:lnTo>
                <a:lnTo>
                  <a:pt x="1938" y="496"/>
                </a:lnTo>
                <a:lnTo>
                  <a:pt x="1938" y="496"/>
                </a:lnTo>
                <a:lnTo>
                  <a:pt x="1938" y="503"/>
                </a:lnTo>
                <a:lnTo>
                  <a:pt x="1945" y="510"/>
                </a:lnTo>
                <a:lnTo>
                  <a:pt x="1945" y="517"/>
                </a:lnTo>
                <a:lnTo>
                  <a:pt x="1952" y="524"/>
                </a:lnTo>
                <a:lnTo>
                  <a:pt x="1959" y="524"/>
                </a:lnTo>
                <a:lnTo>
                  <a:pt x="1965" y="531"/>
                </a:lnTo>
                <a:lnTo>
                  <a:pt x="1965" y="538"/>
                </a:lnTo>
                <a:lnTo>
                  <a:pt x="1965" y="545"/>
                </a:lnTo>
                <a:lnTo>
                  <a:pt x="1965" y="551"/>
                </a:lnTo>
                <a:lnTo>
                  <a:pt x="1959" y="558"/>
                </a:lnTo>
                <a:lnTo>
                  <a:pt x="1959" y="565"/>
                </a:lnTo>
                <a:lnTo>
                  <a:pt x="1952" y="572"/>
                </a:lnTo>
                <a:lnTo>
                  <a:pt x="1952" y="572"/>
                </a:lnTo>
                <a:lnTo>
                  <a:pt x="1952" y="579"/>
                </a:lnTo>
                <a:lnTo>
                  <a:pt x="1952" y="586"/>
                </a:lnTo>
                <a:lnTo>
                  <a:pt x="1945" y="593"/>
                </a:lnTo>
                <a:lnTo>
                  <a:pt x="1945" y="600"/>
                </a:lnTo>
                <a:lnTo>
                  <a:pt x="1945" y="607"/>
                </a:lnTo>
                <a:lnTo>
                  <a:pt x="1938" y="613"/>
                </a:lnTo>
                <a:lnTo>
                  <a:pt x="1938" y="620"/>
                </a:lnTo>
                <a:lnTo>
                  <a:pt x="1938" y="627"/>
                </a:lnTo>
                <a:lnTo>
                  <a:pt x="1931" y="627"/>
                </a:lnTo>
                <a:lnTo>
                  <a:pt x="1931" y="634"/>
                </a:lnTo>
                <a:lnTo>
                  <a:pt x="1924" y="641"/>
                </a:lnTo>
                <a:lnTo>
                  <a:pt x="1917" y="648"/>
                </a:lnTo>
                <a:lnTo>
                  <a:pt x="1910" y="648"/>
                </a:lnTo>
                <a:lnTo>
                  <a:pt x="1903" y="655"/>
                </a:lnTo>
                <a:lnTo>
                  <a:pt x="1896" y="662"/>
                </a:lnTo>
                <a:lnTo>
                  <a:pt x="1890" y="662"/>
                </a:lnTo>
                <a:lnTo>
                  <a:pt x="1883" y="669"/>
                </a:lnTo>
                <a:lnTo>
                  <a:pt x="1869" y="669"/>
                </a:lnTo>
                <a:lnTo>
                  <a:pt x="1862" y="669"/>
                </a:lnTo>
                <a:lnTo>
                  <a:pt x="1855" y="669"/>
                </a:lnTo>
                <a:lnTo>
                  <a:pt x="1841" y="669"/>
                </a:lnTo>
                <a:lnTo>
                  <a:pt x="1834" y="669"/>
                </a:lnTo>
                <a:lnTo>
                  <a:pt x="1821" y="669"/>
                </a:lnTo>
                <a:lnTo>
                  <a:pt x="1814" y="662"/>
                </a:lnTo>
                <a:lnTo>
                  <a:pt x="1807" y="662"/>
                </a:lnTo>
                <a:lnTo>
                  <a:pt x="1800" y="655"/>
                </a:lnTo>
                <a:lnTo>
                  <a:pt x="1793" y="655"/>
                </a:lnTo>
                <a:lnTo>
                  <a:pt x="1786" y="648"/>
                </a:lnTo>
                <a:lnTo>
                  <a:pt x="1779" y="641"/>
                </a:lnTo>
                <a:lnTo>
                  <a:pt x="1779" y="634"/>
                </a:lnTo>
                <a:lnTo>
                  <a:pt x="1779" y="627"/>
                </a:lnTo>
                <a:lnTo>
                  <a:pt x="1772" y="620"/>
                </a:lnTo>
                <a:lnTo>
                  <a:pt x="1772" y="620"/>
                </a:lnTo>
                <a:lnTo>
                  <a:pt x="1772" y="613"/>
                </a:lnTo>
                <a:lnTo>
                  <a:pt x="1772" y="607"/>
                </a:lnTo>
                <a:lnTo>
                  <a:pt x="1772" y="600"/>
                </a:lnTo>
                <a:lnTo>
                  <a:pt x="1772" y="593"/>
                </a:lnTo>
                <a:lnTo>
                  <a:pt x="1765" y="586"/>
                </a:lnTo>
                <a:lnTo>
                  <a:pt x="1759" y="579"/>
                </a:lnTo>
                <a:lnTo>
                  <a:pt x="1752" y="579"/>
                </a:lnTo>
                <a:lnTo>
                  <a:pt x="1745" y="572"/>
                </a:lnTo>
                <a:lnTo>
                  <a:pt x="1738" y="572"/>
                </a:lnTo>
                <a:lnTo>
                  <a:pt x="1724" y="565"/>
                </a:lnTo>
                <a:lnTo>
                  <a:pt x="1717" y="565"/>
                </a:lnTo>
                <a:lnTo>
                  <a:pt x="1717" y="558"/>
                </a:lnTo>
                <a:lnTo>
                  <a:pt x="1710" y="551"/>
                </a:lnTo>
                <a:lnTo>
                  <a:pt x="1710" y="545"/>
                </a:lnTo>
                <a:lnTo>
                  <a:pt x="1710" y="538"/>
                </a:lnTo>
                <a:lnTo>
                  <a:pt x="1710" y="531"/>
                </a:lnTo>
                <a:lnTo>
                  <a:pt x="1710" y="524"/>
                </a:lnTo>
                <a:lnTo>
                  <a:pt x="1717" y="524"/>
                </a:lnTo>
                <a:lnTo>
                  <a:pt x="1717" y="517"/>
                </a:lnTo>
                <a:lnTo>
                  <a:pt x="1724" y="510"/>
                </a:lnTo>
                <a:lnTo>
                  <a:pt x="1724" y="503"/>
                </a:lnTo>
                <a:lnTo>
                  <a:pt x="1731" y="496"/>
                </a:lnTo>
                <a:lnTo>
                  <a:pt x="1731" y="489"/>
                </a:lnTo>
                <a:lnTo>
                  <a:pt x="1738" y="489"/>
                </a:lnTo>
                <a:lnTo>
                  <a:pt x="1738" y="483"/>
                </a:lnTo>
                <a:lnTo>
                  <a:pt x="1745" y="476"/>
                </a:lnTo>
                <a:lnTo>
                  <a:pt x="1745" y="469"/>
                </a:lnTo>
                <a:lnTo>
                  <a:pt x="1752" y="462"/>
                </a:lnTo>
                <a:lnTo>
                  <a:pt x="1752" y="455"/>
                </a:lnTo>
                <a:lnTo>
                  <a:pt x="1752" y="448"/>
                </a:lnTo>
                <a:lnTo>
                  <a:pt x="1752" y="441"/>
                </a:lnTo>
                <a:lnTo>
                  <a:pt x="1738" y="441"/>
                </a:lnTo>
                <a:lnTo>
                  <a:pt x="1731" y="448"/>
                </a:lnTo>
                <a:lnTo>
                  <a:pt x="1724" y="448"/>
                </a:lnTo>
                <a:lnTo>
                  <a:pt x="1724" y="455"/>
                </a:lnTo>
                <a:lnTo>
                  <a:pt x="1717" y="462"/>
                </a:lnTo>
                <a:lnTo>
                  <a:pt x="1710" y="469"/>
                </a:lnTo>
                <a:lnTo>
                  <a:pt x="1703" y="469"/>
                </a:lnTo>
                <a:lnTo>
                  <a:pt x="1697" y="469"/>
                </a:lnTo>
                <a:lnTo>
                  <a:pt x="1683" y="469"/>
                </a:lnTo>
                <a:lnTo>
                  <a:pt x="1676" y="476"/>
                </a:lnTo>
                <a:lnTo>
                  <a:pt x="1669" y="476"/>
                </a:lnTo>
                <a:lnTo>
                  <a:pt x="1669" y="483"/>
                </a:lnTo>
                <a:lnTo>
                  <a:pt x="1662" y="489"/>
                </a:lnTo>
                <a:lnTo>
                  <a:pt x="1655" y="489"/>
                </a:lnTo>
                <a:lnTo>
                  <a:pt x="1641" y="496"/>
                </a:lnTo>
                <a:lnTo>
                  <a:pt x="1634" y="503"/>
                </a:lnTo>
                <a:lnTo>
                  <a:pt x="1628" y="503"/>
                </a:lnTo>
                <a:lnTo>
                  <a:pt x="1621" y="510"/>
                </a:lnTo>
                <a:lnTo>
                  <a:pt x="1614" y="510"/>
                </a:lnTo>
                <a:lnTo>
                  <a:pt x="1607" y="517"/>
                </a:lnTo>
                <a:lnTo>
                  <a:pt x="1600" y="524"/>
                </a:lnTo>
                <a:lnTo>
                  <a:pt x="1593" y="524"/>
                </a:lnTo>
                <a:lnTo>
                  <a:pt x="1586" y="531"/>
                </a:lnTo>
                <a:lnTo>
                  <a:pt x="1579" y="538"/>
                </a:lnTo>
                <a:lnTo>
                  <a:pt x="1572" y="538"/>
                </a:lnTo>
                <a:lnTo>
                  <a:pt x="1572" y="545"/>
                </a:lnTo>
                <a:lnTo>
                  <a:pt x="1566" y="551"/>
                </a:lnTo>
                <a:lnTo>
                  <a:pt x="1559" y="551"/>
                </a:lnTo>
                <a:lnTo>
                  <a:pt x="1552" y="558"/>
                </a:lnTo>
                <a:lnTo>
                  <a:pt x="1545" y="565"/>
                </a:lnTo>
                <a:lnTo>
                  <a:pt x="1545" y="572"/>
                </a:lnTo>
                <a:lnTo>
                  <a:pt x="1545" y="579"/>
                </a:lnTo>
                <a:lnTo>
                  <a:pt x="1545" y="586"/>
                </a:lnTo>
                <a:lnTo>
                  <a:pt x="1538" y="593"/>
                </a:lnTo>
                <a:lnTo>
                  <a:pt x="1538" y="593"/>
                </a:lnTo>
                <a:lnTo>
                  <a:pt x="1531" y="600"/>
                </a:lnTo>
                <a:lnTo>
                  <a:pt x="1517" y="600"/>
                </a:lnTo>
                <a:lnTo>
                  <a:pt x="1510" y="593"/>
                </a:lnTo>
                <a:lnTo>
                  <a:pt x="1497" y="600"/>
                </a:lnTo>
                <a:lnTo>
                  <a:pt x="1490" y="600"/>
                </a:lnTo>
                <a:lnTo>
                  <a:pt x="1490" y="607"/>
                </a:lnTo>
                <a:lnTo>
                  <a:pt x="1483" y="613"/>
                </a:lnTo>
                <a:lnTo>
                  <a:pt x="1483" y="620"/>
                </a:lnTo>
                <a:lnTo>
                  <a:pt x="1483" y="627"/>
                </a:lnTo>
                <a:lnTo>
                  <a:pt x="1476" y="634"/>
                </a:lnTo>
                <a:lnTo>
                  <a:pt x="1476" y="641"/>
                </a:lnTo>
                <a:lnTo>
                  <a:pt x="1469" y="641"/>
                </a:lnTo>
                <a:lnTo>
                  <a:pt x="1469" y="648"/>
                </a:lnTo>
                <a:lnTo>
                  <a:pt x="1462" y="655"/>
                </a:lnTo>
                <a:lnTo>
                  <a:pt x="1462" y="662"/>
                </a:lnTo>
                <a:lnTo>
                  <a:pt x="1462" y="669"/>
                </a:lnTo>
                <a:lnTo>
                  <a:pt x="1462" y="675"/>
                </a:lnTo>
                <a:lnTo>
                  <a:pt x="1462" y="682"/>
                </a:lnTo>
                <a:lnTo>
                  <a:pt x="1462" y="689"/>
                </a:lnTo>
                <a:lnTo>
                  <a:pt x="1462" y="696"/>
                </a:lnTo>
                <a:lnTo>
                  <a:pt x="1462" y="703"/>
                </a:lnTo>
                <a:lnTo>
                  <a:pt x="1462" y="710"/>
                </a:lnTo>
                <a:lnTo>
                  <a:pt x="1455" y="710"/>
                </a:lnTo>
                <a:lnTo>
                  <a:pt x="1455" y="717"/>
                </a:lnTo>
                <a:lnTo>
                  <a:pt x="1455" y="724"/>
                </a:lnTo>
                <a:lnTo>
                  <a:pt x="1455" y="731"/>
                </a:lnTo>
                <a:lnTo>
                  <a:pt x="1455" y="737"/>
                </a:lnTo>
                <a:lnTo>
                  <a:pt x="1455" y="744"/>
                </a:lnTo>
                <a:lnTo>
                  <a:pt x="1455" y="751"/>
                </a:lnTo>
                <a:lnTo>
                  <a:pt x="1455" y="758"/>
                </a:lnTo>
                <a:lnTo>
                  <a:pt x="1455" y="765"/>
                </a:lnTo>
                <a:lnTo>
                  <a:pt x="1455" y="772"/>
                </a:lnTo>
                <a:lnTo>
                  <a:pt x="1455" y="772"/>
                </a:lnTo>
                <a:lnTo>
                  <a:pt x="1455" y="779"/>
                </a:lnTo>
                <a:lnTo>
                  <a:pt x="1455" y="786"/>
                </a:lnTo>
                <a:lnTo>
                  <a:pt x="1462" y="793"/>
                </a:lnTo>
                <a:lnTo>
                  <a:pt x="1462" y="799"/>
                </a:lnTo>
                <a:lnTo>
                  <a:pt x="1462" y="806"/>
                </a:lnTo>
                <a:lnTo>
                  <a:pt x="1462" y="813"/>
                </a:lnTo>
                <a:lnTo>
                  <a:pt x="1462" y="820"/>
                </a:lnTo>
                <a:lnTo>
                  <a:pt x="1462" y="827"/>
                </a:lnTo>
                <a:lnTo>
                  <a:pt x="1462" y="834"/>
                </a:lnTo>
                <a:lnTo>
                  <a:pt x="1462" y="841"/>
                </a:lnTo>
                <a:lnTo>
                  <a:pt x="1455" y="841"/>
                </a:lnTo>
                <a:lnTo>
                  <a:pt x="1455" y="848"/>
                </a:lnTo>
                <a:lnTo>
                  <a:pt x="1448" y="855"/>
                </a:lnTo>
                <a:lnTo>
                  <a:pt x="1441" y="861"/>
                </a:lnTo>
                <a:lnTo>
                  <a:pt x="1441" y="868"/>
                </a:lnTo>
                <a:lnTo>
                  <a:pt x="1428" y="868"/>
                </a:lnTo>
                <a:lnTo>
                  <a:pt x="1428" y="875"/>
                </a:lnTo>
                <a:lnTo>
                  <a:pt x="1421" y="882"/>
                </a:lnTo>
                <a:lnTo>
                  <a:pt x="1421" y="889"/>
                </a:lnTo>
                <a:lnTo>
                  <a:pt x="1421" y="896"/>
                </a:lnTo>
                <a:lnTo>
                  <a:pt x="1428" y="903"/>
                </a:lnTo>
                <a:lnTo>
                  <a:pt x="1434" y="903"/>
                </a:lnTo>
                <a:lnTo>
                  <a:pt x="1448" y="903"/>
                </a:lnTo>
                <a:lnTo>
                  <a:pt x="1455" y="903"/>
                </a:lnTo>
                <a:lnTo>
                  <a:pt x="1462" y="896"/>
                </a:lnTo>
                <a:lnTo>
                  <a:pt x="1462" y="889"/>
                </a:lnTo>
                <a:lnTo>
                  <a:pt x="1469" y="882"/>
                </a:lnTo>
                <a:lnTo>
                  <a:pt x="1469" y="875"/>
                </a:lnTo>
                <a:lnTo>
                  <a:pt x="1476" y="875"/>
                </a:lnTo>
                <a:lnTo>
                  <a:pt x="1476" y="875"/>
                </a:lnTo>
                <a:lnTo>
                  <a:pt x="1483" y="875"/>
                </a:lnTo>
                <a:lnTo>
                  <a:pt x="1490" y="882"/>
                </a:lnTo>
                <a:lnTo>
                  <a:pt x="1490" y="889"/>
                </a:lnTo>
                <a:lnTo>
                  <a:pt x="1490" y="896"/>
                </a:lnTo>
                <a:lnTo>
                  <a:pt x="1483" y="903"/>
                </a:lnTo>
                <a:lnTo>
                  <a:pt x="1476" y="910"/>
                </a:lnTo>
                <a:lnTo>
                  <a:pt x="1476" y="917"/>
                </a:lnTo>
                <a:lnTo>
                  <a:pt x="1469" y="917"/>
                </a:lnTo>
                <a:lnTo>
                  <a:pt x="1462" y="923"/>
                </a:lnTo>
                <a:lnTo>
                  <a:pt x="1455" y="930"/>
                </a:lnTo>
                <a:lnTo>
                  <a:pt x="1448" y="930"/>
                </a:lnTo>
                <a:lnTo>
                  <a:pt x="1441" y="923"/>
                </a:lnTo>
                <a:lnTo>
                  <a:pt x="1434" y="917"/>
                </a:lnTo>
                <a:lnTo>
                  <a:pt x="1434" y="910"/>
                </a:lnTo>
                <a:lnTo>
                  <a:pt x="1428" y="903"/>
                </a:lnTo>
                <a:lnTo>
                  <a:pt x="1428" y="903"/>
                </a:lnTo>
                <a:lnTo>
                  <a:pt x="1421" y="896"/>
                </a:lnTo>
                <a:lnTo>
                  <a:pt x="1414" y="889"/>
                </a:lnTo>
                <a:lnTo>
                  <a:pt x="1407" y="882"/>
                </a:lnTo>
                <a:lnTo>
                  <a:pt x="1407" y="875"/>
                </a:lnTo>
                <a:lnTo>
                  <a:pt x="1400" y="875"/>
                </a:lnTo>
                <a:lnTo>
                  <a:pt x="1400" y="868"/>
                </a:lnTo>
                <a:lnTo>
                  <a:pt x="1393" y="861"/>
                </a:lnTo>
                <a:lnTo>
                  <a:pt x="1393" y="855"/>
                </a:lnTo>
                <a:lnTo>
                  <a:pt x="1386" y="848"/>
                </a:lnTo>
                <a:lnTo>
                  <a:pt x="1386" y="841"/>
                </a:lnTo>
                <a:lnTo>
                  <a:pt x="1386" y="841"/>
                </a:lnTo>
                <a:lnTo>
                  <a:pt x="1379" y="834"/>
                </a:lnTo>
                <a:lnTo>
                  <a:pt x="1379" y="827"/>
                </a:lnTo>
                <a:lnTo>
                  <a:pt x="1379" y="820"/>
                </a:lnTo>
                <a:lnTo>
                  <a:pt x="1379" y="813"/>
                </a:lnTo>
                <a:lnTo>
                  <a:pt x="1379" y="806"/>
                </a:lnTo>
                <a:lnTo>
                  <a:pt x="1372" y="799"/>
                </a:lnTo>
                <a:lnTo>
                  <a:pt x="1372" y="793"/>
                </a:lnTo>
                <a:lnTo>
                  <a:pt x="1372" y="786"/>
                </a:lnTo>
                <a:lnTo>
                  <a:pt x="1372" y="779"/>
                </a:lnTo>
                <a:lnTo>
                  <a:pt x="1372" y="772"/>
                </a:lnTo>
                <a:lnTo>
                  <a:pt x="1366" y="772"/>
                </a:lnTo>
                <a:lnTo>
                  <a:pt x="1366" y="765"/>
                </a:lnTo>
                <a:lnTo>
                  <a:pt x="1366" y="758"/>
                </a:lnTo>
                <a:lnTo>
                  <a:pt x="1366" y="751"/>
                </a:lnTo>
                <a:lnTo>
                  <a:pt x="1359" y="744"/>
                </a:lnTo>
                <a:lnTo>
                  <a:pt x="1359" y="737"/>
                </a:lnTo>
                <a:lnTo>
                  <a:pt x="1359" y="731"/>
                </a:lnTo>
                <a:lnTo>
                  <a:pt x="1359" y="731"/>
                </a:lnTo>
                <a:lnTo>
                  <a:pt x="1352" y="731"/>
                </a:lnTo>
                <a:lnTo>
                  <a:pt x="1352" y="737"/>
                </a:lnTo>
                <a:lnTo>
                  <a:pt x="1345" y="744"/>
                </a:lnTo>
                <a:lnTo>
                  <a:pt x="1331" y="744"/>
                </a:lnTo>
                <a:lnTo>
                  <a:pt x="1324" y="751"/>
                </a:lnTo>
                <a:lnTo>
                  <a:pt x="1324" y="751"/>
                </a:lnTo>
                <a:lnTo>
                  <a:pt x="1317" y="758"/>
                </a:lnTo>
                <a:lnTo>
                  <a:pt x="1317" y="765"/>
                </a:lnTo>
                <a:lnTo>
                  <a:pt x="1310" y="772"/>
                </a:lnTo>
                <a:lnTo>
                  <a:pt x="1310" y="779"/>
                </a:lnTo>
                <a:lnTo>
                  <a:pt x="1303" y="786"/>
                </a:lnTo>
                <a:lnTo>
                  <a:pt x="1303" y="793"/>
                </a:lnTo>
                <a:lnTo>
                  <a:pt x="1297" y="799"/>
                </a:lnTo>
                <a:lnTo>
                  <a:pt x="1290" y="799"/>
                </a:lnTo>
                <a:lnTo>
                  <a:pt x="1290" y="806"/>
                </a:lnTo>
                <a:lnTo>
                  <a:pt x="1283" y="813"/>
                </a:lnTo>
                <a:lnTo>
                  <a:pt x="1283" y="820"/>
                </a:lnTo>
                <a:lnTo>
                  <a:pt x="1276" y="827"/>
                </a:lnTo>
                <a:lnTo>
                  <a:pt x="1269" y="827"/>
                </a:lnTo>
                <a:lnTo>
                  <a:pt x="1269" y="834"/>
                </a:lnTo>
                <a:lnTo>
                  <a:pt x="1262" y="841"/>
                </a:lnTo>
                <a:lnTo>
                  <a:pt x="1255" y="848"/>
                </a:lnTo>
                <a:lnTo>
                  <a:pt x="1248" y="848"/>
                </a:lnTo>
                <a:lnTo>
                  <a:pt x="1241" y="855"/>
                </a:lnTo>
                <a:lnTo>
                  <a:pt x="1241" y="861"/>
                </a:lnTo>
                <a:lnTo>
                  <a:pt x="1235" y="868"/>
                </a:lnTo>
                <a:lnTo>
                  <a:pt x="1235" y="875"/>
                </a:lnTo>
                <a:lnTo>
                  <a:pt x="1228" y="882"/>
                </a:lnTo>
                <a:lnTo>
                  <a:pt x="1228" y="889"/>
                </a:lnTo>
                <a:lnTo>
                  <a:pt x="1228" y="889"/>
                </a:lnTo>
                <a:lnTo>
                  <a:pt x="1235" y="896"/>
                </a:lnTo>
                <a:lnTo>
                  <a:pt x="1235" y="903"/>
                </a:lnTo>
                <a:lnTo>
                  <a:pt x="1241" y="910"/>
                </a:lnTo>
                <a:lnTo>
                  <a:pt x="1255" y="910"/>
                </a:lnTo>
                <a:lnTo>
                  <a:pt x="1262" y="917"/>
                </a:lnTo>
                <a:lnTo>
                  <a:pt x="1269" y="917"/>
                </a:lnTo>
                <a:lnTo>
                  <a:pt x="1276" y="917"/>
                </a:lnTo>
                <a:lnTo>
                  <a:pt x="1283" y="923"/>
                </a:lnTo>
                <a:lnTo>
                  <a:pt x="1276" y="930"/>
                </a:lnTo>
                <a:lnTo>
                  <a:pt x="1276" y="937"/>
                </a:lnTo>
                <a:lnTo>
                  <a:pt x="1269" y="944"/>
                </a:lnTo>
                <a:lnTo>
                  <a:pt x="1269" y="951"/>
                </a:lnTo>
                <a:lnTo>
                  <a:pt x="1269" y="958"/>
                </a:lnTo>
                <a:lnTo>
                  <a:pt x="1269" y="965"/>
                </a:lnTo>
                <a:lnTo>
                  <a:pt x="1269" y="972"/>
                </a:lnTo>
                <a:lnTo>
                  <a:pt x="1276" y="972"/>
                </a:lnTo>
                <a:lnTo>
                  <a:pt x="1276" y="979"/>
                </a:lnTo>
                <a:lnTo>
                  <a:pt x="1276" y="985"/>
                </a:lnTo>
                <a:lnTo>
                  <a:pt x="1276" y="992"/>
                </a:lnTo>
                <a:lnTo>
                  <a:pt x="1276" y="999"/>
                </a:lnTo>
                <a:lnTo>
                  <a:pt x="1276" y="1006"/>
                </a:lnTo>
                <a:lnTo>
                  <a:pt x="1276" y="1013"/>
                </a:lnTo>
                <a:lnTo>
                  <a:pt x="1276" y="1020"/>
                </a:lnTo>
                <a:lnTo>
                  <a:pt x="1276" y="1027"/>
                </a:lnTo>
                <a:lnTo>
                  <a:pt x="1283" y="1034"/>
                </a:lnTo>
                <a:lnTo>
                  <a:pt x="1283" y="1041"/>
                </a:lnTo>
                <a:lnTo>
                  <a:pt x="1283" y="1041"/>
                </a:lnTo>
                <a:lnTo>
                  <a:pt x="1283" y="1047"/>
                </a:lnTo>
                <a:lnTo>
                  <a:pt x="1283" y="1054"/>
                </a:lnTo>
                <a:lnTo>
                  <a:pt x="1290" y="1061"/>
                </a:lnTo>
                <a:lnTo>
                  <a:pt x="1290" y="1068"/>
                </a:lnTo>
                <a:lnTo>
                  <a:pt x="1290" y="1075"/>
                </a:lnTo>
                <a:lnTo>
                  <a:pt x="1290" y="1082"/>
                </a:lnTo>
                <a:lnTo>
                  <a:pt x="1290" y="1089"/>
                </a:lnTo>
                <a:lnTo>
                  <a:pt x="1290" y="1096"/>
                </a:lnTo>
                <a:lnTo>
                  <a:pt x="1297" y="1103"/>
                </a:lnTo>
                <a:lnTo>
                  <a:pt x="1297" y="1103"/>
                </a:lnTo>
                <a:lnTo>
                  <a:pt x="1297" y="1109"/>
                </a:lnTo>
                <a:lnTo>
                  <a:pt x="1297" y="1116"/>
                </a:lnTo>
                <a:lnTo>
                  <a:pt x="1297" y="1123"/>
                </a:lnTo>
                <a:lnTo>
                  <a:pt x="1303" y="1130"/>
                </a:lnTo>
                <a:lnTo>
                  <a:pt x="1303" y="1137"/>
                </a:lnTo>
                <a:lnTo>
                  <a:pt x="1310" y="1144"/>
                </a:lnTo>
                <a:lnTo>
                  <a:pt x="1310" y="1151"/>
                </a:lnTo>
                <a:lnTo>
                  <a:pt x="1310" y="1158"/>
                </a:lnTo>
                <a:lnTo>
                  <a:pt x="1297" y="1158"/>
                </a:lnTo>
                <a:lnTo>
                  <a:pt x="1290" y="1158"/>
                </a:lnTo>
                <a:lnTo>
                  <a:pt x="1283" y="1158"/>
                </a:lnTo>
                <a:lnTo>
                  <a:pt x="1269" y="1165"/>
                </a:lnTo>
                <a:lnTo>
                  <a:pt x="1262" y="1165"/>
                </a:lnTo>
                <a:lnTo>
                  <a:pt x="1255" y="1171"/>
                </a:lnTo>
                <a:lnTo>
                  <a:pt x="1248" y="1171"/>
                </a:lnTo>
                <a:lnTo>
                  <a:pt x="1241" y="1178"/>
                </a:lnTo>
                <a:lnTo>
                  <a:pt x="1241" y="1185"/>
                </a:lnTo>
                <a:lnTo>
                  <a:pt x="1235" y="1178"/>
                </a:lnTo>
                <a:lnTo>
                  <a:pt x="1228" y="1171"/>
                </a:lnTo>
                <a:lnTo>
                  <a:pt x="1228" y="1171"/>
                </a:lnTo>
                <a:lnTo>
                  <a:pt x="1221" y="1165"/>
                </a:lnTo>
                <a:lnTo>
                  <a:pt x="1221" y="1158"/>
                </a:lnTo>
                <a:lnTo>
                  <a:pt x="1221" y="1151"/>
                </a:lnTo>
                <a:lnTo>
                  <a:pt x="1214" y="1151"/>
                </a:lnTo>
                <a:lnTo>
                  <a:pt x="1214" y="1144"/>
                </a:lnTo>
                <a:lnTo>
                  <a:pt x="1221" y="1137"/>
                </a:lnTo>
                <a:lnTo>
                  <a:pt x="1221" y="1130"/>
                </a:lnTo>
                <a:lnTo>
                  <a:pt x="1221" y="1123"/>
                </a:lnTo>
                <a:lnTo>
                  <a:pt x="1221" y="1116"/>
                </a:lnTo>
                <a:lnTo>
                  <a:pt x="1221" y="1109"/>
                </a:lnTo>
                <a:lnTo>
                  <a:pt x="1221" y="1103"/>
                </a:lnTo>
                <a:lnTo>
                  <a:pt x="1221" y="1096"/>
                </a:lnTo>
                <a:lnTo>
                  <a:pt x="1221" y="1089"/>
                </a:lnTo>
                <a:lnTo>
                  <a:pt x="1228" y="1082"/>
                </a:lnTo>
                <a:lnTo>
                  <a:pt x="1228" y="1075"/>
                </a:lnTo>
                <a:lnTo>
                  <a:pt x="1228" y="1075"/>
                </a:lnTo>
                <a:lnTo>
                  <a:pt x="1228" y="1068"/>
                </a:lnTo>
                <a:lnTo>
                  <a:pt x="1228" y="1061"/>
                </a:lnTo>
                <a:lnTo>
                  <a:pt x="1221" y="1054"/>
                </a:lnTo>
                <a:lnTo>
                  <a:pt x="1214" y="1047"/>
                </a:lnTo>
                <a:lnTo>
                  <a:pt x="1207" y="1047"/>
                </a:lnTo>
                <a:lnTo>
                  <a:pt x="1200" y="1041"/>
                </a:lnTo>
                <a:lnTo>
                  <a:pt x="1207" y="1034"/>
                </a:lnTo>
                <a:lnTo>
                  <a:pt x="1214" y="1027"/>
                </a:lnTo>
                <a:lnTo>
                  <a:pt x="1221" y="1034"/>
                </a:lnTo>
                <a:lnTo>
                  <a:pt x="1221" y="1041"/>
                </a:lnTo>
                <a:lnTo>
                  <a:pt x="1228" y="1047"/>
                </a:lnTo>
                <a:lnTo>
                  <a:pt x="1235" y="1054"/>
                </a:lnTo>
                <a:lnTo>
                  <a:pt x="1241" y="1054"/>
                </a:lnTo>
                <a:lnTo>
                  <a:pt x="1248" y="1054"/>
                </a:lnTo>
                <a:lnTo>
                  <a:pt x="1248" y="1047"/>
                </a:lnTo>
                <a:lnTo>
                  <a:pt x="1255" y="1041"/>
                </a:lnTo>
                <a:lnTo>
                  <a:pt x="1262" y="1034"/>
                </a:lnTo>
                <a:lnTo>
                  <a:pt x="1262" y="1027"/>
                </a:lnTo>
                <a:lnTo>
                  <a:pt x="1262" y="1020"/>
                </a:lnTo>
                <a:lnTo>
                  <a:pt x="1262" y="1013"/>
                </a:lnTo>
                <a:lnTo>
                  <a:pt x="1262" y="1006"/>
                </a:lnTo>
                <a:lnTo>
                  <a:pt x="1255" y="1006"/>
                </a:lnTo>
                <a:lnTo>
                  <a:pt x="1248" y="999"/>
                </a:lnTo>
                <a:lnTo>
                  <a:pt x="1235" y="999"/>
                </a:lnTo>
                <a:lnTo>
                  <a:pt x="1228" y="992"/>
                </a:lnTo>
                <a:lnTo>
                  <a:pt x="1221" y="992"/>
                </a:lnTo>
                <a:lnTo>
                  <a:pt x="1214" y="985"/>
                </a:lnTo>
                <a:lnTo>
                  <a:pt x="1207" y="985"/>
                </a:lnTo>
                <a:lnTo>
                  <a:pt x="1200" y="979"/>
                </a:lnTo>
                <a:lnTo>
                  <a:pt x="1186" y="979"/>
                </a:lnTo>
                <a:lnTo>
                  <a:pt x="1179" y="979"/>
                </a:lnTo>
                <a:lnTo>
                  <a:pt x="1172" y="985"/>
                </a:lnTo>
                <a:lnTo>
                  <a:pt x="1172" y="985"/>
                </a:lnTo>
                <a:lnTo>
                  <a:pt x="1166" y="992"/>
                </a:lnTo>
                <a:lnTo>
                  <a:pt x="1166" y="999"/>
                </a:lnTo>
                <a:lnTo>
                  <a:pt x="1159" y="1006"/>
                </a:lnTo>
                <a:lnTo>
                  <a:pt x="1159" y="1013"/>
                </a:lnTo>
                <a:lnTo>
                  <a:pt x="1152" y="1020"/>
                </a:lnTo>
                <a:lnTo>
                  <a:pt x="1152" y="1020"/>
                </a:lnTo>
                <a:lnTo>
                  <a:pt x="1152" y="1027"/>
                </a:lnTo>
                <a:lnTo>
                  <a:pt x="1145" y="1034"/>
                </a:lnTo>
                <a:lnTo>
                  <a:pt x="1145" y="1041"/>
                </a:lnTo>
                <a:lnTo>
                  <a:pt x="1138" y="1047"/>
                </a:lnTo>
                <a:lnTo>
                  <a:pt x="1131" y="1054"/>
                </a:lnTo>
                <a:lnTo>
                  <a:pt x="1124" y="1054"/>
                </a:lnTo>
                <a:lnTo>
                  <a:pt x="1124" y="1061"/>
                </a:lnTo>
                <a:lnTo>
                  <a:pt x="1117" y="1068"/>
                </a:lnTo>
                <a:lnTo>
                  <a:pt x="1110" y="1075"/>
                </a:lnTo>
                <a:lnTo>
                  <a:pt x="1110" y="1082"/>
                </a:lnTo>
                <a:lnTo>
                  <a:pt x="1104" y="1082"/>
                </a:lnTo>
                <a:lnTo>
                  <a:pt x="1097" y="1089"/>
                </a:lnTo>
                <a:lnTo>
                  <a:pt x="1083" y="1089"/>
                </a:lnTo>
                <a:lnTo>
                  <a:pt x="1076" y="1089"/>
                </a:lnTo>
                <a:lnTo>
                  <a:pt x="1069" y="1089"/>
                </a:lnTo>
                <a:lnTo>
                  <a:pt x="1055" y="1089"/>
                </a:lnTo>
                <a:lnTo>
                  <a:pt x="1048" y="1089"/>
                </a:lnTo>
                <a:lnTo>
                  <a:pt x="1035" y="1089"/>
                </a:lnTo>
                <a:lnTo>
                  <a:pt x="1028" y="1096"/>
                </a:lnTo>
                <a:lnTo>
                  <a:pt x="1014" y="1096"/>
                </a:lnTo>
                <a:lnTo>
                  <a:pt x="1007" y="1096"/>
                </a:lnTo>
                <a:lnTo>
                  <a:pt x="1000" y="1096"/>
                </a:lnTo>
                <a:lnTo>
                  <a:pt x="993" y="1089"/>
                </a:lnTo>
                <a:lnTo>
                  <a:pt x="993" y="1082"/>
                </a:lnTo>
                <a:lnTo>
                  <a:pt x="993" y="1075"/>
                </a:lnTo>
                <a:lnTo>
                  <a:pt x="993" y="1068"/>
                </a:lnTo>
                <a:lnTo>
                  <a:pt x="986" y="1061"/>
                </a:lnTo>
                <a:lnTo>
                  <a:pt x="986" y="1054"/>
                </a:lnTo>
                <a:lnTo>
                  <a:pt x="979" y="1047"/>
                </a:lnTo>
                <a:lnTo>
                  <a:pt x="979" y="1047"/>
                </a:lnTo>
                <a:lnTo>
                  <a:pt x="979" y="1041"/>
                </a:lnTo>
                <a:lnTo>
                  <a:pt x="973" y="1034"/>
                </a:lnTo>
                <a:lnTo>
                  <a:pt x="966" y="1034"/>
                </a:lnTo>
                <a:lnTo>
                  <a:pt x="959" y="1034"/>
                </a:lnTo>
                <a:lnTo>
                  <a:pt x="945" y="1041"/>
                </a:lnTo>
                <a:lnTo>
                  <a:pt x="938" y="1041"/>
                </a:lnTo>
                <a:lnTo>
                  <a:pt x="924" y="1041"/>
                </a:lnTo>
                <a:lnTo>
                  <a:pt x="917" y="1041"/>
                </a:lnTo>
                <a:lnTo>
                  <a:pt x="910" y="1041"/>
                </a:lnTo>
                <a:lnTo>
                  <a:pt x="897" y="1047"/>
                </a:lnTo>
                <a:lnTo>
                  <a:pt x="890" y="1047"/>
                </a:lnTo>
                <a:lnTo>
                  <a:pt x="883" y="1047"/>
                </a:lnTo>
                <a:lnTo>
                  <a:pt x="869" y="1054"/>
                </a:lnTo>
                <a:lnTo>
                  <a:pt x="862" y="1054"/>
                </a:lnTo>
                <a:lnTo>
                  <a:pt x="855" y="1054"/>
                </a:lnTo>
                <a:lnTo>
                  <a:pt x="842" y="1054"/>
                </a:lnTo>
                <a:lnTo>
                  <a:pt x="835" y="1054"/>
                </a:lnTo>
                <a:lnTo>
                  <a:pt x="828" y="1054"/>
                </a:lnTo>
                <a:lnTo>
                  <a:pt x="814" y="1054"/>
                </a:lnTo>
                <a:lnTo>
                  <a:pt x="807" y="1047"/>
                </a:lnTo>
                <a:lnTo>
                  <a:pt x="800" y="1047"/>
                </a:lnTo>
                <a:lnTo>
                  <a:pt x="786" y="1041"/>
                </a:lnTo>
                <a:lnTo>
                  <a:pt x="779" y="1041"/>
                </a:lnTo>
                <a:lnTo>
                  <a:pt x="773" y="1034"/>
                </a:lnTo>
                <a:lnTo>
                  <a:pt x="766" y="1034"/>
                </a:lnTo>
                <a:lnTo>
                  <a:pt x="759" y="1027"/>
                </a:lnTo>
                <a:lnTo>
                  <a:pt x="752" y="1020"/>
                </a:lnTo>
                <a:lnTo>
                  <a:pt x="745" y="1020"/>
                </a:lnTo>
                <a:lnTo>
                  <a:pt x="738" y="1013"/>
                </a:lnTo>
                <a:lnTo>
                  <a:pt x="738" y="1006"/>
                </a:lnTo>
                <a:lnTo>
                  <a:pt x="738" y="999"/>
                </a:lnTo>
                <a:lnTo>
                  <a:pt x="731" y="992"/>
                </a:lnTo>
                <a:lnTo>
                  <a:pt x="731" y="985"/>
                </a:lnTo>
                <a:lnTo>
                  <a:pt x="731" y="985"/>
                </a:lnTo>
                <a:lnTo>
                  <a:pt x="731" y="979"/>
                </a:lnTo>
                <a:lnTo>
                  <a:pt x="731" y="972"/>
                </a:lnTo>
                <a:lnTo>
                  <a:pt x="731" y="965"/>
                </a:lnTo>
                <a:lnTo>
                  <a:pt x="731" y="958"/>
                </a:lnTo>
                <a:lnTo>
                  <a:pt x="731" y="951"/>
                </a:lnTo>
                <a:lnTo>
                  <a:pt x="724" y="944"/>
                </a:lnTo>
                <a:lnTo>
                  <a:pt x="724" y="937"/>
                </a:lnTo>
                <a:lnTo>
                  <a:pt x="724" y="930"/>
                </a:lnTo>
                <a:lnTo>
                  <a:pt x="724" y="923"/>
                </a:lnTo>
                <a:lnTo>
                  <a:pt x="724" y="917"/>
                </a:lnTo>
                <a:lnTo>
                  <a:pt x="724" y="917"/>
                </a:lnTo>
                <a:lnTo>
                  <a:pt x="724" y="910"/>
                </a:lnTo>
                <a:lnTo>
                  <a:pt x="724" y="903"/>
                </a:lnTo>
                <a:lnTo>
                  <a:pt x="724" y="896"/>
                </a:lnTo>
                <a:lnTo>
                  <a:pt x="724" y="889"/>
                </a:lnTo>
                <a:lnTo>
                  <a:pt x="724" y="882"/>
                </a:lnTo>
                <a:lnTo>
                  <a:pt x="724" y="875"/>
                </a:lnTo>
                <a:lnTo>
                  <a:pt x="724" y="868"/>
                </a:lnTo>
                <a:lnTo>
                  <a:pt x="724" y="861"/>
                </a:lnTo>
                <a:lnTo>
                  <a:pt x="724" y="855"/>
                </a:lnTo>
                <a:lnTo>
                  <a:pt x="724" y="848"/>
                </a:lnTo>
                <a:lnTo>
                  <a:pt x="724" y="848"/>
                </a:lnTo>
                <a:lnTo>
                  <a:pt x="724" y="841"/>
                </a:lnTo>
                <a:lnTo>
                  <a:pt x="724" y="834"/>
                </a:lnTo>
                <a:lnTo>
                  <a:pt x="724" y="827"/>
                </a:lnTo>
                <a:lnTo>
                  <a:pt x="724" y="820"/>
                </a:lnTo>
                <a:lnTo>
                  <a:pt x="724" y="813"/>
                </a:lnTo>
                <a:lnTo>
                  <a:pt x="717" y="806"/>
                </a:lnTo>
                <a:lnTo>
                  <a:pt x="717" y="799"/>
                </a:lnTo>
                <a:lnTo>
                  <a:pt x="717" y="793"/>
                </a:lnTo>
                <a:lnTo>
                  <a:pt x="717" y="793"/>
                </a:lnTo>
                <a:lnTo>
                  <a:pt x="717" y="786"/>
                </a:lnTo>
                <a:lnTo>
                  <a:pt x="717" y="779"/>
                </a:lnTo>
                <a:lnTo>
                  <a:pt x="717" y="772"/>
                </a:lnTo>
                <a:lnTo>
                  <a:pt x="711" y="765"/>
                </a:lnTo>
                <a:lnTo>
                  <a:pt x="711" y="758"/>
                </a:lnTo>
                <a:lnTo>
                  <a:pt x="704" y="758"/>
                </a:lnTo>
                <a:lnTo>
                  <a:pt x="697" y="765"/>
                </a:lnTo>
                <a:lnTo>
                  <a:pt x="690" y="772"/>
                </a:lnTo>
                <a:lnTo>
                  <a:pt x="690" y="779"/>
                </a:lnTo>
                <a:lnTo>
                  <a:pt x="690" y="786"/>
                </a:lnTo>
                <a:lnTo>
                  <a:pt x="690" y="793"/>
                </a:lnTo>
                <a:lnTo>
                  <a:pt x="690" y="799"/>
                </a:lnTo>
                <a:lnTo>
                  <a:pt x="683" y="806"/>
                </a:lnTo>
                <a:lnTo>
                  <a:pt x="683" y="813"/>
                </a:lnTo>
                <a:lnTo>
                  <a:pt x="676" y="813"/>
                </a:lnTo>
                <a:lnTo>
                  <a:pt x="676" y="820"/>
                </a:lnTo>
                <a:lnTo>
                  <a:pt x="669" y="827"/>
                </a:lnTo>
                <a:lnTo>
                  <a:pt x="662" y="834"/>
                </a:lnTo>
                <a:lnTo>
                  <a:pt x="662" y="841"/>
                </a:lnTo>
                <a:lnTo>
                  <a:pt x="662" y="841"/>
                </a:lnTo>
                <a:lnTo>
                  <a:pt x="662" y="848"/>
                </a:lnTo>
                <a:lnTo>
                  <a:pt x="662" y="855"/>
                </a:lnTo>
                <a:lnTo>
                  <a:pt x="662" y="861"/>
                </a:lnTo>
                <a:lnTo>
                  <a:pt x="662" y="868"/>
                </a:lnTo>
                <a:lnTo>
                  <a:pt x="655" y="875"/>
                </a:lnTo>
                <a:lnTo>
                  <a:pt x="655" y="882"/>
                </a:lnTo>
                <a:lnTo>
                  <a:pt x="655" y="889"/>
                </a:lnTo>
                <a:lnTo>
                  <a:pt x="655" y="896"/>
                </a:lnTo>
                <a:lnTo>
                  <a:pt x="655" y="903"/>
                </a:lnTo>
                <a:lnTo>
                  <a:pt x="655" y="910"/>
                </a:lnTo>
                <a:lnTo>
                  <a:pt x="648" y="917"/>
                </a:lnTo>
                <a:lnTo>
                  <a:pt x="648" y="917"/>
                </a:lnTo>
                <a:lnTo>
                  <a:pt x="648" y="923"/>
                </a:lnTo>
                <a:lnTo>
                  <a:pt x="648" y="930"/>
                </a:lnTo>
                <a:lnTo>
                  <a:pt x="648" y="937"/>
                </a:lnTo>
                <a:lnTo>
                  <a:pt x="648" y="944"/>
                </a:lnTo>
                <a:lnTo>
                  <a:pt x="648" y="951"/>
                </a:lnTo>
                <a:lnTo>
                  <a:pt x="642" y="958"/>
                </a:lnTo>
                <a:lnTo>
                  <a:pt x="642" y="965"/>
                </a:lnTo>
                <a:lnTo>
                  <a:pt x="642" y="972"/>
                </a:lnTo>
                <a:lnTo>
                  <a:pt x="642" y="979"/>
                </a:lnTo>
                <a:lnTo>
                  <a:pt x="642" y="979"/>
                </a:lnTo>
                <a:lnTo>
                  <a:pt x="642" y="985"/>
                </a:lnTo>
                <a:lnTo>
                  <a:pt x="642" y="992"/>
                </a:lnTo>
                <a:lnTo>
                  <a:pt x="635" y="999"/>
                </a:lnTo>
                <a:lnTo>
                  <a:pt x="635" y="1006"/>
                </a:lnTo>
                <a:lnTo>
                  <a:pt x="635" y="1013"/>
                </a:lnTo>
                <a:lnTo>
                  <a:pt x="635" y="1020"/>
                </a:lnTo>
                <a:lnTo>
                  <a:pt x="635" y="1027"/>
                </a:lnTo>
                <a:lnTo>
                  <a:pt x="635" y="1034"/>
                </a:lnTo>
                <a:lnTo>
                  <a:pt x="635" y="1041"/>
                </a:lnTo>
                <a:lnTo>
                  <a:pt x="628" y="1041"/>
                </a:lnTo>
                <a:lnTo>
                  <a:pt x="621" y="1047"/>
                </a:lnTo>
                <a:lnTo>
                  <a:pt x="614" y="1054"/>
                </a:lnTo>
                <a:lnTo>
                  <a:pt x="607" y="1061"/>
                </a:lnTo>
                <a:lnTo>
                  <a:pt x="600" y="1061"/>
                </a:lnTo>
                <a:lnTo>
                  <a:pt x="600" y="1068"/>
                </a:lnTo>
                <a:lnTo>
                  <a:pt x="607" y="1075"/>
                </a:lnTo>
                <a:lnTo>
                  <a:pt x="607" y="1082"/>
                </a:lnTo>
                <a:lnTo>
                  <a:pt x="614" y="1089"/>
                </a:lnTo>
                <a:lnTo>
                  <a:pt x="621" y="1089"/>
                </a:lnTo>
                <a:lnTo>
                  <a:pt x="628" y="1096"/>
                </a:lnTo>
                <a:lnTo>
                  <a:pt x="635" y="1103"/>
                </a:lnTo>
                <a:lnTo>
                  <a:pt x="635" y="1109"/>
                </a:lnTo>
                <a:lnTo>
                  <a:pt x="642" y="1116"/>
                </a:lnTo>
                <a:lnTo>
                  <a:pt x="648" y="1116"/>
                </a:lnTo>
                <a:lnTo>
                  <a:pt x="648" y="1123"/>
                </a:lnTo>
                <a:lnTo>
                  <a:pt x="648" y="1130"/>
                </a:lnTo>
                <a:lnTo>
                  <a:pt x="642" y="1137"/>
                </a:lnTo>
                <a:lnTo>
                  <a:pt x="635" y="1137"/>
                </a:lnTo>
                <a:lnTo>
                  <a:pt x="628" y="1144"/>
                </a:lnTo>
                <a:lnTo>
                  <a:pt x="614" y="1151"/>
                </a:lnTo>
                <a:lnTo>
                  <a:pt x="607" y="1151"/>
                </a:lnTo>
                <a:lnTo>
                  <a:pt x="600" y="1158"/>
                </a:lnTo>
                <a:lnTo>
                  <a:pt x="593" y="1158"/>
                </a:lnTo>
                <a:lnTo>
                  <a:pt x="586" y="1165"/>
                </a:lnTo>
                <a:lnTo>
                  <a:pt x="580" y="1171"/>
                </a:lnTo>
                <a:lnTo>
                  <a:pt x="573" y="1171"/>
                </a:lnTo>
                <a:lnTo>
                  <a:pt x="566" y="1178"/>
                </a:lnTo>
                <a:lnTo>
                  <a:pt x="559" y="1178"/>
                </a:lnTo>
                <a:lnTo>
                  <a:pt x="552" y="1185"/>
                </a:lnTo>
                <a:lnTo>
                  <a:pt x="545" y="1192"/>
                </a:lnTo>
                <a:lnTo>
                  <a:pt x="538" y="1192"/>
                </a:lnTo>
                <a:lnTo>
                  <a:pt x="538" y="1199"/>
                </a:lnTo>
                <a:lnTo>
                  <a:pt x="531" y="1206"/>
                </a:lnTo>
                <a:lnTo>
                  <a:pt x="524" y="1213"/>
                </a:lnTo>
                <a:lnTo>
                  <a:pt x="517" y="1213"/>
                </a:lnTo>
                <a:lnTo>
                  <a:pt x="511" y="1220"/>
                </a:lnTo>
                <a:lnTo>
                  <a:pt x="504" y="1220"/>
                </a:lnTo>
                <a:lnTo>
                  <a:pt x="497" y="1227"/>
                </a:lnTo>
                <a:lnTo>
                  <a:pt x="490" y="1233"/>
                </a:lnTo>
                <a:lnTo>
                  <a:pt x="483" y="1233"/>
                </a:lnTo>
                <a:lnTo>
                  <a:pt x="476" y="1240"/>
                </a:lnTo>
                <a:lnTo>
                  <a:pt x="469" y="1247"/>
                </a:lnTo>
                <a:lnTo>
                  <a:pt x="504" y="1275"/>
                </a:lnTo>
                <a:lnTo>
                  <a:pt x="531" y="1302"/>
                </a:lnTo>
                <a:lnTo>
                  <a:pt x="559" y="1337"/>
                </a:lnTo>
                <a:lnTo>
                  <a:pt x="593" y="1364"/>
                </a:lnTo>
                <a:lnTo>
                  <a:pt x="621" y="1392"/>
                </a:lnTo>
                <a:lnTo>
                  <a:pt x="648" y="1426"/>
                </a:lnTo>
                <a:lnTo>
                  <a:pt x="676" y="1454"/>
                </a:lnTo>
                <a:lnTo>
                  <a:pt x="711" y="1481"/>
                </a:lnTo>
                <a:lnTo>
                  <a:pt x="738" y="1516"/>
                </a:lnTo>
                <a:lnTo>
                  <a:pt x="766" y="1543"/>
                </a:lnTo>
                <a:lnTo>
                  <a:pt x="793" y="1571"/>
                </a:lnTo>
                <a:lnTo>
                  <a:pt x="828" y="1599"/>
                </a:lnTo>
                <a:lnTo>
                  <a:pt x="855" y="1633"/>
                </a:lnTo>
                <a:lnTo>
                  <a:pt x="883" y="1633"/>
                </a:lnTo>
                <a:lnTo>
                  <a:pt x="917" y="1660"/>
                </a:lnTo>
                <a:lnTo>
                  <a:pt x="945" y="1688"/>
                </a:lnTo>
                <a:lnTo>
                  <a:pt x="973" y="1722"/>
                </a:lnTo>
                <a:lnTo>
                  <a:pt x="1000" y="1750"/>
                </a:lnTo>
                <a:lnTo>
                  <a:pt x="1035" y="1778"/>
                </a:lnTo>
                <a:lnTo>
                  <a:pt x="1062" y="1812"/>
                </a:lnTo>
                <a:lnTo>
                  <a:pt x="1090" y="1840"/>
                </a:lnTo>
                <a:lnTo>
                  <a:pt x="1124" y="1840"/>
                </a:lnTo>
                <a:lnTo>
                  <a:pt x="1152" y="1840"/>
                </a:lnTo>
                <a:lnTo>
                  <a:pt x="1179" y="1840"/>
                </a:lnTo>
                <a:lnTo>
                  <a:pt x="1207" y="1840"/>
                </a:lnTo>
                <a:lnTo>
                  <a:pt x="1241" y="1840"/>
                </a:lnTo>
                <a:lnTo>
                  <a:pt x="1269" y="1840"/>
                </a:lnTo>
                <a:lnTo>
                  <a:pt x="1297" y="1840"/>
                </a:lnTo>
                <a:lnTo>
                  <a:pt x="1331" y="1840"/>
                </a:lnTo>
                <a:lnTo>
                  <a:pt x="1359" y="1840"/>
                </a:lnTo>
                <a:lnTo>
                  <a:pt x="1386" y="1840"/>
                </a:lnTo>
                <a:lnTo>
                  <a:pt x="1414" y="1840"/>
                </a:lnTo>
                <a:lnTo>
                  <a:pt x="1448" y="1840"/>
                </a:lnTo>
                <a:lnTo>
                  <a:pt x="1476" y="1840"/>
                </a:lnTo>
                <a:lnTo>
                  <a:pt x="1503" y="1840"/>
                </a:lnTo>
                <a:lnTo>
                  <a:pt x="1538" y="1840"/>
                </a:lnTo>
                <a:lnTo>
                  <a:pt x="1566" y="1840"/>
                </a:lnTo>
                <a:lnTo>
                  <a:pt x="1593" y="1840"/>
                </a:lnTo>
                <a:lnTo>
                  <a:pt x="1621" y="1840"/>
                </a:lnTo>
                <a:lnTo>
                  <a:pt x="1655" y="1840"/>
                </a:lnTo>
                <a:lnTo>
                  <a:pt x="1683" y="1840"/>
                </a:lnTo>
                <a:lnTo>
                  <a:pt x="1710" y="1840"/>
                </a:lnTo>
                <a:lnTo>
                  <a:pt x="1745" y="1840"/>
                </a:lnTo>
                <a:lnTo>
                  <a:pt x="1772" y="1840"/>
                </a:lnTo>
                <a:lnTo>
                  <a:pt x="1800" y="1840"/>
                </a:lnTo>
                <a:lnTo>
                  <a:pt x="1828" y="1840"/>
                </a:lnTo>
                <a:lnTo>
                  <a:pt x="1862" y="1840"/>
                </a:lnTo>
                <a:lnTo>
                  <a:pt x="1890" y="1840"/>
                </a:lnTo>
                <a:lnTo>
                  <a:pt x="1917" y="1840"/>
                </a:lnTo>
                <a:lnTo>
                  <a:pt x="1952" y="1840"/>
                </a:lnTo>
                <a:lnTo>
                  <a:pt x="1979" y="1840"/>
                </a:lnTo>
                <a:lnTo>
                  <a:pt x="2007" y="1840"/>
                </a:lnTo>
                <a:lnTo>
                  <a:pt x="2034" y="1840"/>
                </a:lnTo>
                <a:lnTo>
                  <a:pt x="2069" y="1840"/>
                </a:lnTo>
                <a:lnTo>
                  <a:pt x="2096" y="1840"/>
                </a:lnTo>
                <a:lnTo>
                  <a:pt x="2124" y="1840"/>
                </a:lnTo>
                <a:lnTo>
                  <a:pt x="2158" y="1840"/>
                </a:lnTo>
                <a:lnTo>
                  <a:pt x="2186" y="1840"/>
                </a:lnTo>
                <a:lnTo>
                  <a:pt x="2214" y="1840"/>
                </a:lnTo>
                <a:lnTo>
                  <a:pt x="2241" y="1840"/>
                </a:lnTo>
                <a:lnTo>
                  <a:pt x="2276" y="1840"/>
                </a:lnTo>
                <a:lnTo>
                  <a:pt x="2303" y="1840"/>
                </a:lnTo>
                <a:lnTo>
                  <a:pt x="2331" y="1840"/>
                </a:lnTo>
                <a:lnTo>
                  <a:pt x="2365" y="1840"/>
                </a:lnTo>
                <a:lnTo>
                  <a:pt x="2393" y="1840"/>
                </a:lnTo>
                <a:lnTo>
                  <a:pt x="2420" y="1840"/>
                </a:lnTo>
                <a:lnTo>
                  <a:pt x="2448" y="1840"/>
                </a:lnTo>
                <a:lnTo>
                  <a:pt x="2483" y="1840"/>
                </a:lnTo>
                <a:close/>
                <a:moveTo>
                  <a:pt x="449" y="1213"/>
                </a:moveTo>
                <a:lnTo>
                  <a:pt x="442" y="1213"/>
                </a:lnTo>
                <a:lnTo>
                  <a:pt x="442" y="1213"/>
                </a:lnTo>
                <a:lnTo>
                  <a:pt x="469" y="1247"/>
                </a:lnTo>
                <a:lnTo>
                  <a:pt x="449" y="1213"/>
                </a:lnTo>
                <a:close/>
                <a:moveTo>
                  <a:pt x="421" y="1185"/>
                </a:moveTo>
                <a:lnTo>
                  <a:pt x="414" y="1171"/>
                </a:lnTo>
                <a:lnTo>
                  <a:pt x="414" y="1185"/>
                </a:lnTo>
                <a:lnTo>
                  <a:pt x="421" y="1185"/>
                </a:lnTo>
                <a:close/>
                <a:moveTo>
                  <a:pt x="400" y="1158"/>
                </a:moveTo>
                <a:lnTo>
                  <a:pt x="386" y="1137"/>
                </a:lnTo>
                <a:lnTo>
                  <a:pt x="386" y="1158"/>
                </a:lnTo>
                <a:lnTo>
                  <a:pt x="400" y="1158"/>
                </a:lnTo>
                <a:close/>
                <a:moveTo>
                  <a:pt x="373" y="1130"/>
                </a:moveTo>
                <a:lnTo>
                  <a:pt x="352" y="1103"/>
                </a:lnTo>
                <a:lnTo>
                  <a:pt x="352" y="1130"/>
                </a:lnTo>
                <a:lnTo>
                  <a:pt x="373" y="1130"/>
                </a:lnTo>
                <a:close/>
                <a:moveTo>
                  <a:pt x="931" y="1130"/>
                </a:moveTo>
                <a:lnTo>
                  <a:pt x="938" y="1123"/>
                </a:lnTo>
                <a:lnTo>
                  <a:pt x="938" y="1123"/>
                </a:lnTo>
                <a:lnTo>
                  <a:pt x="945" y="1123"/>
                </a:lnTo>
                <a:lnTo>
                  <a:pt x="952" y="1123"/>
                </a:lnTo>
                <a:lnTo>
                  <a:pt x="959" y="1123"/>
                </a:lnTo>
                <a:lnTo>
                  <a:pt x="966" y="1123"/>
                </a:lnTo>
                <a:lnTo>
                  <a:pt x="973" y="1123"/>
                </a:lnTo>
                <a:lnTo>
                  <a:pt x="979" y="1123"/>
                </a:lnTo>
                <a:lnTo>
                  <a:pt x="979" y="1123"/>
                </a:lnTo>
                <a:lnTo>
                  <a:pt x="986" y="1123"/>
                </a:lnTo>
                <a:lnTo>
                  <a:pt x="993" y="1123"/>
                </a:lnTo>
                <a:lnTo>
                  <a:pt x="1000" y="1123"/>
                </a:lnTo>
                <a:lnTo>
                  <a:pt x="1007" y="1130"/>
                </a:lnTo>
                <a:lnTo>
                  <a:pt x="1000" y="1130"/>
                </a:lnTo>
                <a:lnTo>
                  <a:pt x="993" y="1130"/>
                </a:lnTo>
                <a:lnTo>
                  <a:pt x="986" y="1130"/>
                </a:lnTo>
                <a:lnTo>
                  <a:pt x="979" y="1130"/>
                </a:lnTo>
                <a:lnTo>
                  <a:pt x="979" y="1130"/>
                </a:lnTo>
                <a:lnTo>
                  <a:pt x="973" y="1130"/>
                </a:lnTo>
                <a:lnTo>
                  <a:pt x="966" y="1137"/>
                </a:lnTo>
                <a:lnTo>
                  <a:pt x="959" y="1137"/>
                </a:lnTo>
                <a:lnTo>
                  <a:pt x="952" y="1137"/>
                </a:lnTo>
                <a:lnTo>
                  <a:pt x="945" y="1137"/>
                </a:lnTo>
                <a:lnTo>
                  <a:pt x="938" y="1130"/>
                </a:lnTo>
                <a:lnTo>
                  <a:pt x="938" y="1130"/>
                </a:lnTo>
                <a:lnTo>
                  <a:pt x="931" y="1130"/>
                </a:lnTo>
                <a:close/>
                <a:moveTo>
                  <a:pt x="352" y="1096"/>
                </a:moveTo>
                <a:lnTo>
                  <a:pt x="345" y="1096"/>
                </a:lnTo>
                <a:lnTo>
                  <a:pt x="345" y="1089"/>
                </a:lnTo>
                <a:lnTo>
                  <a:pt x="338" y="1089"/>
                </a:lnTo>
                <a:lnTo>
                  <a:pt x="338" y="1082"/>
                </a:lnTo>
                <a:lnTo>
                  <a:pt x="331" y="1075"/>
                </a:lnTo>
                <a:lnTo>
                  <a:pt x="331" y="1075"/>
                </a:lnTo>
                <a:lnTo>
                  <a:pt x="324" y="1068"/>
                </a:lnTo>
                <a:lnTo>
                  <a:pt x="324" y="1068"/>
                </a:lnTo>
                <a:lnTo>
                  <a:pt x="324" y="1068"/>
                </a:lnTo>
                <a:lnTo>
                  <a:pt x="324" y="1096"/>
                </a:lnTo>
                <a:lnTo>
                  <a:pt x="352" y="1096"/>
                </a:lnTo>
                <a:close/>
                <a:moveTo>
                  <a:pt x="304" y="1041"/>
                </a:moveTo>
                <a:lnTo>
                  <a:pt x="297" y="1027"/>
                </a:lnTo>
                <a:lnTo>
                  <a:pt x="297" y="1041"/>
                </a:lnTo>
                <a:lnTo>
                  <a:pt x="304" y="1041"/>
                </a:lnTo>
                <a:close/>
                <a:moveTo>
                  <a:pt x="276" y="1006"/>
                </a:moveTo>
                <a:lnTo>
                  <a:pt x="262" y="992"/>
                </a:lnTo>
                <a:lnTo>
                  <a:pt x="262" y="1006"/>
                </a:lnTo>
                <a:lnTo>
                  <a:pt x="276" y="1006"/>
                </a:lnTo>
                <a:close/>
                <a:moveTo>
                  <a:pt x="255" y="979"/>
                </a:moveTo>
                <a:lnTo>
                  <a:pt x="235" y="958"/>
                </a:lnTo>
                <a:lnTo>
                  <a:pt x="235" y="979"/>
                </a:lnTo>
                <a:lnTo>
                  <a:pt x="255" y="979"/>
                </a:lnTo>
                <a:close/>
                <a:moveTo>
                  <a:pt x="1007" y="979"/>
                </a:moveTo>
                <a:lnTo>
                  <a:pt x="1007" y="972"/>
                </a:lnTo>
                <a:lnTo>
                  <a:pt x="1000" y="972"/>
                </a:lnTo>
                <a:lnTo>
                  <a:pt x="1000" y="979"/>
                </a:lnTo>
                <a:lnTo>
                  <a:pt x="1000" y="979"/>
                </a:lnTo>
                <a:lnTo>
                  <a:pt x="1000" y="985"/>
                </a:lnTo>
                <a:lnTo>
                  <a:pt x="1000" y="992"/>
                </a:lnTo>
                <a:lnTo>
                  <a:pt x="1000" y="992"/>
                </a:lnTo>
                <a:lnTo>
                  <a:pt x="1000" y="992"/>
                </a:lnTo>
                <a:lnTo>
                  <a:pt x="1007" y="992"/>
                </a:lnTo>
                <a:lnTo>
                  <a:pt x="1007" y="992"/>
                </a:lnTo>
                <a:lnTo>
                  <a:pt x="1007" y="992"/>
                </a:lnTo>
                <a:lnTo>
                  <a:pt x="1007" y="992"/>
                </a:lnTo>
                <a:lnTo>
                  <a:pt x="1007" y="985"/>
                </a:lnTo>
                <a:lnTo>
                  <a:pt x="1007" y="979"/>
                </a:lnTo>
                <a:close/>
                <a:moveTo>
                  <a:pt x="228" y="951"/>
                </a:moveTo>
                <a:lnTo>
                  <a:pt x="228" y="944"/>
                </a:lnTo>
                <a:lnTo>
                  <a:pt x="221" y="937"/>
                </a:lnTo>
                <a:lnTo>
                  <a:pt x="214" y="930"/>
                </a:lnTo>
                <a:lnTo>
                  <a:pt x="214" y="930"/>
                </a:lnTo>
                <a:lnTo>
                  <a:pt x="207" y="923"/>
                </a:lnTo>
                <a:lnTo>
                  <a:pt x="207" y="917"/>
                </a:lnTo>
                <a:lnTo>
                  <a:pt x="200" y="910"/>
                </a:lnTo>
                <a:lnTo>
                  <a:pt x="193" y="910"/>
                </a:lnTo>
                <a:lnTo>
                  <a:pt x="193" y="903"/>
                </a:lnTo>
                <a:lnTo>
                  <a:pt x="187" y="896"/>
                </a:lnTo>
                <a:lnTo>
                  <a:pt x="187" y="889"/>
                </a:lnTo>
                <a:lnTo>
                  <a:pt x="180" y="889"/>
                </a:lnTo>
                <a:lnTo>
                  <a:pt x="173" y="882"/>
                </a:lnTo>
                <a:lnTo>
                  <a:pt x="173" y="875"/>
                </a:lnTo>
                <a:lnTo>
                  <a:pt x="166" y="868"/>
                </a:lnTo>
                <a:lnTo>
                  <a:pt x="166" y="868"/>
                </a:lnTo>
                <a:lnTo>
                  <a:pt x="159" y="861"/>
                </a:lnTo>
                <a:lnTo>
                  <a:pt x="152" y="855"/>
                </a:lnTo>
                <a:lnTo>
                  <a:pt x="152" y="848"/>
                </a:lnTo>
                <a:lnTo>
                  <a:pt x="145" y="848"/>
                </a:lnTo>
                <a:lnTo>
                  <a:pt x="145" y="861"/>
                </a:lnTo>
                <a:lnTo>
                  <a:pt x="145" y="889"/>
                </a:lnTo>
                <a:lnTo>
                  <a:pt x="180" y="917"/>
                </a:lnTo>
                <a:lnTo>
                  <a:pt x="207" y="951"/>
                </a:lnTo>
                <a:lnTo>
                  <a:pt x="228" y="951"/>
                </a:lnTo>
                <a:close/>
                <a:moveTo>
                  <a:pt x="1048" y="951"/>
                </a:moveTo>
                <a:lnTo>
                  <a:pt x="1055" y="944"/>
                </a:lnTo>
                <a:lnTo>
                  <a:pt x="1062" y="937"/>
                </a:lnTo>
                <a:lnTo>
                  <a:pt x="1069" y="937"/>
                </a:lnTo>
                <a:lnTo>
                  <a:pt x="1076" y="937"/>
                </a:lnTo>
                <a:lnTo>
                  <a:pt x="1090" y="944"/>
                </a:lnTo>
                <a:lnTo>
                  <a:pt x="1097" y="944"/>
                </a:lnTo>
                <a:lnTo>
                  <a:pt x="1104" y="944"/>
                </a:lnTo>
                <a:lnTo>
                  <a:pt x="1110" y="937"/>
                </a:lnTo>
                <a:lnTo>
                  <a:pt x="1117" y="930"/>
                </a:lnTo>
                <a:lnTo>
                  <a:pt x="1117" y="923"/>
                </a:lnTo>
                <a:lnTo>
                  <a:pt x="1117" y="917"/>
                </a:lnTo>
                <a:lnTo>
                  <a:pt x="1110" y="910"/>
                </a:lnTo>
                <a:lnTo>
                  <a:pt x="1110" y="903"/>
                </a:lnTo>
                <a:lnTo>
                  <a:pt x="1104" y="896"/>
                </a:lnTo>
                <a:lnTo>
                  <a:pt x="1097" y="896"/>
                </a:lnTo>
                <a:lnTo>
                  <a:pt x="1097" y="889"/>
                </a:lnTo>
                <a:lnTo>
                  <a:pt x="1097" y="882"/>
                </a:lnTo>
                <a:lnTo>
                  <a:pt x="1097" y="875"/>
                </a:lnTo>
                <a:lnTo>
                  <a:pt x="1097" y="868"/>
                </a:lnTo>
                <a:lnTo>
                  <a:pt x="1097" y="861"/>
                </a:lnTo>
                <a:lnTo>
                  <a:pt x="1090" y="855"/>
                </a:lnTo>
                <a:lnTo>
                  <a:pt x="1090" y="848"/>
                </a:lnTo>
                <a:lnTo>
                  <a:pt x="1090" y="848"/>
                </a:lnTo>
                <a:lnTo>
                  <a:pt x="1083" y="841"/>
                </a:lnTo>
                <a:lnTo>
                  <a:pt x="1083" y="834"/>
                </a:lnTo>
                <a:lnTo>
                  <a:pt x="1076" y="827"/>
                </a:lnTo>
                <a:lnTo>
                  <a:pt x="1076" y="820"/>
                </a:lnTo>
                <a:lnTo>
                  <a:pt x="1076" y="813"/>
                </a:lnTo>
                <a:lnTo>
                  <a:pt x="1076" y="806"/>
                </a:lnTo>
                <a:lnTo>
                  <a:pt x="1076" y="806"/>
                </a:lnTo>
                <a:lnTo>
                  <a:pt x="1076" y="799"/>
                </a:lnTo>
                <a:lnTo>
                  <a:pt x="1069" y="793"/>
                </a:lnTo>
                <a:lnTo>
                  <a:pt x="1069" y="786"/>
                </a:lnTo>
                <a:lnTo>
                  <a:pt x="1069" y="779"/>
                </a:lnTo>
                <a:lnTo>
                  <a:pt x="1069" y="772"/>
                </a:lnTo>
                <a:lnTo>
                  <a:pt x="1069" y="765"/>
                </a:lnTo>
                <a:lnTo>
                  <a:pt x="1069" y="758"/>
                </a:lnTo>
                <a:lnTo>
                  <a:pt x="1069" y="751"/>
                </a:lnTo>
                <a:lnTo>
                  <a:pt x="1069" y="751"/>
                </a:lnTo>
                <a:lnTo>
                  <a:pt x="1062" y="744"/>
                </a:lnTo>
                <a:lnTo>
                  <a:pt x="1062" y="737"/>
                </a:lnTo>
                <a:lnTo>
                  <a:pt x="1062" y="731"/>
                </a:lnTo>
                <a:lnTo>
                  <a:pt x="1062" y="724"/>
                </a:lnTo>
                <a:lnTo>
                  <a:pt x="1055" y="717"/>
                </a:lnTo>
                <a:lnTo>
                  <a:pt x="1055" y="710"/>
                </a:lnTo>
                <a:lnTo>
                  <a:pt x="1055" y="703"/>
                </a:lnTo>
                <a:lnTo>
                  <a:pt x="1048" y="703"/>
                </a:lnTo>
                <a:lnTo>
                  <a:pt x="1048" y="696"/>
                </a:lnTo>
                <a:lnTo>
                  <a:pt x="1048" y="689"/>
                </a:lnTo>
                <a:lnTo>
                  <a:pt x="1041" y="682"/>
                </a:lnTo>
                <a:lnTo>
                  <a:pt x="1041" y="675"/>
                </a:lnTo>
                <a:lnTo>
                  <a:pt x="1041" y="669"/>
                </a:lnTo>
                <a:lnTo>
                  <a:pt x="1041" y="662"/>
                </a:lnTo>
                <a:lnTo>
                  <a:pt x="1041" y="655"/>
                </a:lnTo>
                <a:lnTo>
                  <a:pt x="1041" y="655"/>
                </a:lnTo>
                <a:lnTo>
                  <a:pt x="1041" y="648"/>
                </a:lnTo>
                <a:lnTo>
                  <a:pt x="1041" y="641"/>
                </a:lnTo>
                <a:lnTo>
                  <a:pt x="1041" y="634"/>
                </a:lnTo>
                <a:lnTo>
                  <a:pt x="1035" y="627"/>
                </a:lnTo>
                <a:lnTo>
                  <a:pt x="1035" y="620"/>
                </a:lnTo>
                <a:lnTo>
                  <a:pt x="1035" y="613"/>
                </a:lnTo>
                <a:lnTo>
                  <a:pt x="1028" y="607"/>
                </a:lnTo>
                <a:lnTo>
                  <a:pt x="1028" y="607"/>
                </a:lnTo>
                <a:lnTo>
                  <a:pt x="1028" y="600"/>
                </a:lnTo>
                <a:lnTo>
                  <a:pt x="1021" y="593"/>
                </a:lnTo>
                <a:lnTo>
                  <a:pt x="1021" y="586"/>
                </a:lnTo>
                <a:lnTo>
                  <a:pt x="1021" y="579"/>
                </a:lnTo>
                <a:lnTo>
                  <a:pt x="1021" y="572"/>
                </a:lnTo>
                <a:lnTo>
                  <a:pt x="1014" y="565"/>
                </a:lnTo>
                <a:lnTo>
                  <a:pt x="1014" y="558"/>
                </a:lnTo>
                <a:lnTo>
                  <a:pt x="1007" y="558"/>
                </a:lnTo>
                <a:lnTo>
                  <a:pt x="1007" y="551"/>
                </a:lnTo>
                <a:lnTo>
                  <a:pt x="1000" y="545"/>
                </a:lnTo>
                <a:lnTo>
                  <a:pt x="993" y="538"/>
                </a:lnTo>
                <a:lnTo>
                  <a:pt x="993" y="538"/>
                </a:lnTo>
                <a:lnTo>
                  <a:pt x="986" y="531"/>
                </a:lnTo>
                <a:lnTo>
                  <a:pt x="986" y="524"/>
                </a:lnTo>
                <a:lnTo>
                  <a:pt x="986" y="517"/>
                </a:lnTo>
                <a:lnTo>
                  <a:pt x="979" y="510"/>
                </a:lnTo>
                <a:lnTo>
                  <a:pt x="973" y="503"/>
                </a:lnTo>
                <a:lnTo>
                  <a:pt x="979" y="503"/>
                </a:lnTo>
                <a:lnTo>
                  <a:pt x="986" y="510"/>
                </a:lnTo>
                <a:lnTo>
                  <a:pt x="993" y="510"/>
                </a:lnTo>
                <a:lnTo>
                  <a:pt x="1000" y="510"/>
                </a:lnTo>
                <a:lnTo>
                  <a:pt x="1007" y="517"/>
                </a:lnTo>
                <a:lnTo>
                  <a:pt x="1014" y="517"/>
                </a:lnTo>
                <a:lnTo>
                  <a:pt x="1021" y="524"/>
                </a:lnTo>
                <a:lnTo>
                  <a:pt x="1028" y="531"/>
                </a:lnTo>
                <a:lnTo>
                  <a:pt x="1028" y="538"/>
                </a:lnTo>
                <a:lnTo>
                  <a:pt x="1041" y="538"/>
                </a:lnTo>
                <a:lnTo>
                  <a:pt x="1048" y="531"/>
                </a:lnTo>
                <a:lnTo>
                  <a:pt x="1048" y="531"/>
                </a:lnTo>
                <a:lnTo>
                  <a:pt x="1048" y="524"/>
                </a:lnTo>
                <a:lnTo>
                  <a:pt x="1048" y="517"/>
                </a:lnTo>
                <a:lnTo>
                  <a:pt x="1041" y="510"/>
                </a:lnTo>
                <a:lnTo>
                  <a:pt x="1041" y="503"/>
                </a:lnTo>
                <a:lnTo>
                  <a:pt x="1035" y="496"/>
                </a:lnTo>
                <a:lnTo>
                  <a:pt x="1035" y="489"/>
                </a:lnTo>
                <a:lnTo>
                  <a:pt x="1035" y="483"/>
                </a:lnTo>
                <a:lnTo>
                  <a:pt x="1035" y="483"/>
                </a:lnTo>
                <a:lnTo>
                  <a:pt x="1035" y="476"/>
                </a:lnTo>
                <a:lnTo>
                  <a:pt x="1028" y="469"/>
                </a:lnTo>
                <a:lnTo>
                  <a:pt x="1028" y="462"/>
                </a:lnTo>
                <a:lnTo>
                  <a:pt x="1028" y="455"/>
                </a:lnTo>
                <a:lnTo>
                  <a:pt x="1028" y="448"/>
                </a:lnTo>
                <a:lnTo>
                  <a:pt x="1021" y="441"/>
                </a:lnTo>
                <a:lnTo>
                  <a:pt x="1021" y="434"/>
                </a:lnTo>
                <a:lnTo>
                  <a:pt x="1021" y="434"/>
                </a:lnTo>
                <a:lnTo>
                  <a:pt x="1021" y="427"/>
                </a:lnTo>
                <a:lnTo>
                  <a:pt x="1014" y="421"/>
                </a:lnTo>
                <a:lnTo>
                  <a:pt x="1014" y="414"/>
                </a:lnTo>
                <a:lnTo>
                  <a:pt x="1014" y="407"/>
                </a:lnTo>
                <a:lnTo>
                  <a:pt x="1007" y="400"/>
                </a:lnTo>
                <a:lnTo>
                  <a:pt x="1007" y="393"/>
                </a:lnTo>
                <a:lnTo>
                  <a:pt x="1007" y="386"/>
                </a:lnTo>
                <a:lnTo>
                  <a:pt x="1007" y="386"/>
                </a:lnTo>
                <a:lnTo>
                  <a:pt x="1007" y="379"/>
                </a:lnTo>
                <a:lnTo>
                  <a:pt x="1014" y="372"/>
                </a:lnTo>
                <a:lnTo>
                  <a:pt x="1014" y="365"/>
                </a:lnTo>
                <a:lnTo>
                  <a:pt x="1021" y="359"/>
                </a:lnTo>
                <a:lnTo>
                  <a:pt x="1021" y="352"/>
                </a:lnTo>
                <a:lnTo>
                  <a:pt x="1021" y="345"/>
                </a:lnTo>
                <a:lnTo>
                  <a:pt x="1021" y="345"/>
                </a:lnTo>
                <a:lnTo>
                  <a:pt x="1021" y="338"/>
                </a:lnTo>
                <a:lnTo>
                  <a:pt x="1021" y="331"/>
                </a:lnTo>
                <a:lnTo>
                  <a:pt x="1021" y="324"/>
                </a:lnTo>
                <a:lnTo>
                  <a:pt x="1021" y="317"/>
                </a:lnTo>
                <a:lnTo>
                  <a:pt x="1021" y="310"/>
                </a:lnTo>
                <a:lnTo>
                  <a:pt x="1021" y="303"/>
                </a:lnTo>
                <a:lnTo>
                  <a:pt x="1014" y="297"/>
                </a:lnTo>
                <a:lnTo>
                  <a:pt x="1007" y="290"/>
                </a:lnTo>
                <a:lnTo>
                  <a:pt x="1000" y="290"/>
                </a:lnTo>
                <a:lnTo>
                  <a:pt x="1000" y="303"/>
                </a:lnTo>
                <a:lnTo>
                  <a:pt x="1000" y="310"/>
                </a:lnTo>
                <a:lnTo>
                  <a:pt x="1000" y="310"/>
                </a:lnTo>
                <a:lnTo>
                  <a:pt x="1000" y="317"/>
                </a:lnTo>
                <a:lnTo>
                  <a:pt x="1000" y="324"/>
                </a:lnTo>
                <a:lnTo>
                  <a:pt x="993" y="331"/>
                </a:lnTo>
                <a:lnTo>
                  <a:pt x="986" y="331"/>
                </a:lnTo>
                <a:lnTo>
                  <a:pt x="973" y="338"/>
                </a:lnTo>
                <a:lnTo>
                  <a:pt x="966" y="338"/>
                </a:lnTo>
                <a:lnTo>
                  <a:pt x="959" y="345"/>
                </a:lnTo>
                <a:lnTo>
                  <a:pt x="959" y="345"/>
                </a:lnTo>
                <a:lnTo>
                  <a:pt x="952" y="352"/>
                </a:lnTo>
                <a:lnTo>
                  <a:pt x="945" y="359"/>
                </a:lnTo>
                <a:lnTo>
                  <a:pt x="938" y="352"/>
                </a:lnTo>
                <a:lnTo>
                  <a:pt x="945" y="345"/>
                </a:lnTo>
                <a:lnTo>
                  <a:pt x="945" y="338"/>
                </a:lnTo>
                <a:lnTo>
                  <a:pt x="945" y="331"/>
                </a:lnTo>
                <a:lnTo>
                  <a:pt x="945" y="324"/>
                </a:lnTo>
                <a:lnTo>
                  <a:pt x="952" y="317"/>
                </a:lnTo>
                <a:lnTo>
                  <a:pt x="952" y="310"/>
                </a:lnTo>
                <a:lnTo>
                  <a:pt x="952" y="310"/>
                </a:lnTo>
                <a:lnTo>
                  <a:pt x="959" y="303"/>
                </a:lnTo>
                <a:lnTo>
                  <a:pt x="959" y="297"/>
                </a:lnTo>
                <a:lnTo>
                  <a:pt x="966" y="290"/>
                </a:lnTo>
                <a:lnTo>
                  <a:pt x="973" y="283"/>
                </a:lnTo>
                <a:lnTo>
                  <a:pt x="979" y="283"/>
                </a:lnTo>
                <a:lnTo>
                  <a:pt x="979" y="276"/>
                </a:lnTo>
                <a:lnTo>
                  <a:pt x="986" y="269"/>
                </a:lnTo>
                <a:lnTo>
                  <a:pt x="993" y="269"/>
                </a:lnTo>
                <a:lnTo>
                  <a:pt x="1000" y="262"/>
                </a:lnTo>
                <a:lnTo>
                  <a:pt x="1007" y="255"/>
                </a:lnTo>
                <a:lnTo>
                  <a:pt x="1007" y="248"/>
                </a:lnTo>
                <a:lnTo>
                  <a:pt x="1014" y="248"/>
                </a:lnTo>
                <a:lnTo>
                  <a:pt x="1021" y="241"/>
                </a:lnTo>
                <a:lnTo>
                  <a:pt x="1028" y="235"/>
                </a:lnTo>
                <a:lnTo>
                  <a:pt x="1028" y="228"/>
                </a:lnTo>
                <a:lnTo>
                  <a:pt x="1035" y="228"/>
                </a:lnTo>
                <a:lnTo>
                  <a:pt x="1041" y="221"/>
                </a:lnTo>
                <a:lnTo>
                  <a:pt x="1048" y="214"/>
                </a:lnTo>
                <a:lnTo>
                  <a:pt x="1055" y="214"/>
                </a:lnTo>
                <a:lnTo>
                  <a:pt x="1055" y="207"/>
                </a:lnTo>
                <a:lnTo>
                  <a:pt x="1062" y="200"/>
                </a:lnTo>
                <a:lnTo>
                  <a:pt x="1062" y="193"/>
                </a:lnTo>
                <a:lnTo>
                  <a:pt x="1069" y="186"/>
                </a:lnTo>
                <a:lnTo>
                  <a:pt x="1076" y="186"/>
                </a:lnTo>
                <a:lnTo>
                  <a:pt x="1090" y="186"/>
                </a:lnTo>
                <a:lnTo>
                  <a:pt x="1097" y="179"/>
                </a:lnTo>
                <a:lnTo>
                  <a:pt x="1104" y="179"/>
                </a:lnTo>
                <a:lnTo>
                  <a:pt x="1110" y="179"/>
                </a:lnTo>
                <a:lnTo>
                  <a:pt x="1124" y="173"/>
                </a:lnTo>
                <a:lnTo>
                  <a:pt x="1131" y="173"/>
                </a:lnTo>
                <a:lnTo>
                  <a:pt x="1138" y="166"/>
                </a:lnTo>
                <a:lnTo>
                  <a:pt x="1145" y="166"/>
                </a:lnTo>
                <a:lnTo>
                  <a:pt x="1159" y="166"/>
                </a:lnTo>
                <a:lnTo>
                  <a:pt x="1166" y="159"/>
                </a:lnTo>
                <a:lnTo>
                  <a:pt x="1172" y="159"/>
                </a:lnTo>
                <a:lnTo>
                  <a:pt x="1186" y="159"/>
                </a:lnTo>
                <a:lnTo>
                  <a:pt x="1193" y="159"/>
                </a:lnTo>
                <a:lnTo>
                  <a:pt x="1200" y="159"/>
                </a:lnTo>
                <a:lnTo>
                  <a:pt x="1214" y="152"/>
                </a:lnTo>
                <a:lnTo>
                  <a:pt x="1214" y="145"/>
                </a:lnTo>
                <a:lnTo>
                  <a:pt x="1228" y="145"/>
                </a:lnTo>
                <a:lnTo>
                  <a:pt x="1235" y="145"/>
                </a:lnTo>
                <a:lnTo>
                  <a:pt x="1241" y="138"/>
                </a:lnTo>
                <a:lnTo>
                  <a:pt x="1248" y="138"/>
                </a:lnTo>
                <a:lnTo>
                  <a:pt x="1262" y="138"/>
                </a:lnTo>
                <a:lnTo>
                  <a:pt x="1269" y="131"/>
                </a:lnTo>
                <a:lnTo>
                  <a:pt x="1276" y="131"/>
                </a:lnTo>
                <a:lnTo>
                  <a:pt x="1290" y="131"/>
                </a:lnTo>
                <a:lnTo>
                  <a:pt x="1297" y="131"/>
                </a:lnTo>
                <a:lnTo>
                  <a:pt x="1303" y="131"/>
                </a:lnTo>
                <a:lnTo>
                  <a:pt x="1310" y="124"/>
                </a:lnTo>
                <a:lnTo>
                  <a:pt x="1317" y="117"/>
                </a:lnTo>
                <a:lnTo>
                  <a:pt x="1331" y="117"/>
                </a:lnTo>
                <a:lnTo>
                  <a:pt x="1338" y="117"/>
                </a:lnTo>
                <a:lnTo>
                  <a:pt x="1345" y="111"/>
                </a:lnTo>
                <a:lnTo>
                  <a:pt x="1352" y="111"/>
                </a:lnTo>
                <a:lnTo>
                  <a:pt x="1366" y="104"/>
                </a:lnTo>
                <a:lnTo>
                  <a:pt x="1372" y="104"/>
                </a:lnTo>
                <a:lnTo>
                  <a:pt x="1379" y="104"/>
                </a:lnTo>
                <a:lnTo>
                  <a:pt x="1393" y="104"/>
                </a:lnTo>
                <a:lnTo>
                  <a:pt x="1400" y="104"/>
                </a:lnTo>
                <a:lnTo>
                  <a:pt x="1407" y="111"/>
                </a:lnTo>
                <a:lnTo>
                  <a:pt x="1414" y="111"/>
                </a:lnTo>
                <a:lnTo>
                  <a:pt x="1421" y="104"/>
                </a:lnTo>
                <a:lnTo>
                  <a:pt x="1428" y="97"/>
                </a:lnTo>
                <a:lnTo>
                  <a:pt x="1428" y="90"/>
                </a:lnTo>
                <a:lnTo>
                  <a:pt x="1434" y="90"/>
                </a:lnTo>
                <a:lnTo>
                  <a:pt x="1441" y="83"/>
                </a:lnTo>
                <a:lnTo>
                  <a:pt x="1455" y="83"/>
                </a:lnTo>
                <a:lnTo>
                  <a:pt x="1462" y="76"/>
                </a:lnTo>
                <a:lnTo>
                  <a:pt x="1469" y="76"/>
                </a:lnTo>
                <a:lnTo>
                  <a:pt x="1476" y="76"/>
                </a:lnTo>
                <a:lnTo>
                  <a:pt x="1490" y="76"/>
                </a:lnTo>
                <a:lnTo>
                  <a:pt x="1497" y="76"/>
                </a:lnTo>
                <a:lnTo>
                  <a:pt x="1503" y="83"/>
                </a:lnTo>
                <a:lnTo>
                  <a:pt x="1517" y="83"/>
                </a:lnTo>
                <a:lnTo>
                  <a:pt x="1524" y="83"/>
                </a:lnTo>
                <a:lnTo>
                  <a:pt x="1531" y="90"/>
                </a:lnTo>
                <a:lnTo>
                  <a:pt x="1538" y="90"/>
                </a:lnTo>
                <a:lnTo>
                  <a:pt x="1545" y="90"/>
                </a:lnTo>
                <a:lnTo>
                  <a:pt x="1552" y="83"/>
                </a:lnTo>
                <a:lnTo>
                  <a:pt x="1545" y="76"/>
                </a:lnTo>
                <a:lnTo>
                  <a:pt x="1545" y="69"/>
                </a:lnTo>
                <a:lnTo>
                  <a:pt x="1538" y="62"/>
                </a:lnTo>
                <a:lnTo>
                  <a:pt x="1538" y="55"/>
                </a:lnTo>
                <a:lnTo>
                  <a:pt x="1545" y="55"/>
                </a:lnTo>
                <a:lnTo>
                  <a:pt x="1552" y="49"/>
                </a:lnTo>
                <a:lnTo>
                  <a:pt x="1566" y="49"/>
                </a:lnTo>
                <a:lnTo>
                  <a:pt x="1572" y="49"/>
                </a:lnTo>
                <a:lnTo>
                  <a:pt x="1586" y="49"/>
                </a:lnTo>
                <a:lnTo>
                  <a:pt x="1593" y="49"/>
                </a:lnTo>
                <a:lnTo>
                  <a:pt x="1600" y="49"/>
                </a:lnTo>
                <a:lnTo>
                  <a:pt x="1607" y="49"/>
                </a:lnTo>
                <a:lnTo>
                  <a:pt x="1614" y="55"/>
                </a:lnTo>
                <a:lnTo>
                  <a:pt x="1621" y="62"/>
                </a:lnTo>
                <a:lnTo>
                  <a:pt x="1628" y="55"/>
                </a:lnTo>
                <a:lnTo>
                  <a:pt x="1634" y="49"/>
                </a:lnTo>
                <a:lnTo>
                  <a:pt x="1641" y="42"/>
                </a:lnTo>
                <a:lnTo>
                  <a:pt x="1641" y="42"/>
                </a:lnTo>
                <a:lnTo>
                  <a:pt x="1648" y="35"/>
                </a:lnTo>
                <a:lnTo>
                  <a:pt x="1648" y="28"/>
                </a:lnTo>
                <a:lnTo>
                  <a:pt x="1655" y="21"/>
                </a:lnTo>
                <a:lnTo>
                  <a:pt x="1662" y="21"/>
                </a:lnTo>
                <a:lnTo>
                  <a:pt x="1669" y="14"/>
                </a:lnTo>
                <a:lnTo>
                  <a:pt x="1676" y="14"/>
                </a:lnTo>
                <a:lnTo>
                  <a:pt x="1690" y="14"/>
                </a:lnTo>
                <a:lnTo>
                  <a:pt x="1697" y="14"/>
                </a:lnTo>
                <a:lnTo>
                  <a:pt x="1703" y="14"/>
                </a:lnTo>
                <a:lnTo>
                  <a:pt x="1717" y="14"/>
                </a:lnTo>
                <a:lnTo>
                  <a:pt x="1724" y="14"/>
                </a:lnTo>
                <a:lnTo>
                  <a:pt x="1731" y="7"/>
                </a:lnTo>
                <a:lnTo>
                  <a:pt x="1738" y="0"/>
                </a:lnTo>
                <a:lnTo>
                  <a:pt x="1745" y="0"/>
                </a:lnTo>
                <a:lnTo>
                  <a:pt x="1745" y="0"/>
                </a:lnTo>
                <a:lnTo>
                  <a:pt x="1710" y="0"/>
                </a:lnTo>
                <a:lnTo>
                  <a:pt x="1683" y="0"/>
                </a:lnTo>
                <a:lnTo>
                  <a:pt x="1655" y="0"/>
                </a:lnTo>
                <a:lnTo>
                  <a:pt x="1621" y="0"/>
                </a:lnTo>
                <a:lnTo>
                  <a:pt x="1593" y="0"/>
                </a:lnTo>
                <a:lnTo>
                  <a:pt x="1566" y="0"/>
                </a:lnTo>
                <a:lnTo>
                  <a:pt x="1538" y="0"/>
                </a:lnTo>
                <a:lnTo>
                  <a:pt x="1503" y="0"/>
                </a:lnTo>
                <a:lnTo>
                  <a:pt x="1476" y="0"/>
                </a:lnTo>
                <a:lnTo>
                  <a:pt x="1448" y="0"/>
                </a:lnTo>
                <a:lnTo>
                  <a:pt x="1414" y="0"/>
                </a:lnTo>
                <a:lnTo>
                  <a:pt x="1386" y="0"/>
                </a:lnTo>
                <a:lnTo>
                  <a:pt x="1359" y="0"/>
                </a:lnTo>
                <a:lnTo>
                  <a:pt x="1331" y="0"/>
                </a:lnTo>
                <a:lnTo>
                  <a:pt x="1297" y="0"/>
                </a:lnTo>
                <a:lnTo>
                  <a:pt x="1269" y="0"/>
                </a:lnTo>
                <a:lnTo>
                  <a:pt x="1241" y="0"/>
                </a:lnTo>
                <a:lnTo>
                  <a:pt x="1207" y="0"/>
                </a:lnTo>
                <a:lnTo>
                  <a:pt x="1179" y="0"/>
                </a:lnTo>
                <a:lnTo>
                  <a:pt x="1152" y="0"/>
                </a:lnTo>
                <a:lnTo>
                  <a:pt x="1124" y="0"/>
                </a:lnTo>
                <a:lnTo>
                  <a:pt x="1090" y="0"/>
                </a:lnTo>
                <a:lnTo>
                  <a:pt x="1062" y="0"/>
                </a:lnTo>
                <a:lnTo>
                  <a:pt x="1035" y="0"/>
                </a:lnTo>
                <a:lnTo>
                  <a:pt x="1000" y="0"/>
                </a:lnTo>
                <a:lnTo>
                  <a:pt x="973" y="0"/>
                </a:lnTo>
                <a:lnTo>
                  <a:pt x="945" y="0"/>
                </a:lnTo>
                <a:lnTo>
                  <a:pt x="917" y="0"/>
                </a:lnTo>
                <a:lnTo>
                  <a:pt x="883" y="0"/>
                </a:lnTo>
                <a:lnTo>
                  <a:pt x="855" y="0"/>
                </a:lnTo>
                <a:lnTo>
                  <a:pt x="828" y="0"/>
                </a:lnTo>
                <a:lnTo>
                  <a:pt x="793" y="0"/>
                </a:lnTo>
                <a:lnTo>
                  <a:pt x="766" y="0"/>
                </a:lnTo>
                <a:lnTo>
                  <a:pt x="738" y="0"/>
                </a:lnTo>
                <a:lnTo>
                  <a:pt x="711" y="0"/>
                </a:lnTo>
                <a:lnTo>
                  <a:pt x="676" y="0"/>
                </a:lnTo>
                <a:lnTo>
                  <a:pt x="648" y="28"/>
                </a:lnTo>
                <a:lnTo>
                  <a:pt x="621" y="62"/>
                </a:lnTo>
                <a:lnTo>
                  <a:pt x="593" y="90"/>
                </a:lnTo>
                <a:lnTo>
                  <a:pt x="559" y="117"/>
                </a:lnTo>
                <a:lnTo>
                  <a:pt x="531" y="145"/>
                </a:lnTo>
                <a:lnTo>
                  <a:pt x="504" y="145"/>
                </a:lnTo>
                <a:lnTo>
                  <a:pt x="469" y="179"/>
                </a:lnTo>
                <a:lnTo>
                  <a:pt x="442" y="207"/>
                </a:lnTo>
                <a:lnTo>
                  <a:pt x="414" y="235"/>
                </a:lnTo>
                <a:lnTo>
                  <a:pt x="386" y="269"/>
                </a:lnTo>
                <a:lnTo>
                  <a:pt x="352" y="297"/>
                </a:lnTo>
                <a:lnTo>
                  <a:pt x="324" y="324"/>
                </a:lnTo>
                <a:lnTo>
                  <a:pt x="297" y="359"/>
                </a:lnTo>
                <a:lnTo>
                  <a:pt x="262" y="359"/>
                </a:lnTo>
                <a:lnTo>
                  <a:pt x="235" y="386"/>
                </a:lnTo>
                <a:lnTo>
                  <a:pt x="235" y="407"/>
                </a:lnTo>
                <a:lnTo>
                  <a:pt x="249" y="407"/>
                </a:lnTo>
                <a:lnTo>
                  <a:pt x="255" y="414"/>
                </a:lnTo>
                <a:lnTo>
                  <a:pt x="255" y="414"/>
                </a:lnTo>
                <a:lnTo>
                  <a:pt x="255" y="421"/>
                </a:lnTo>
                <a:lnTo>
                  <a:pt x="255" y="427"/>
                </a:lnTo>
                <a:lnTo>
                  <a:pt x="249" y="427"/>
                </a:lnTo>
                <a:lnTo>
                  <a:pt x="242" y="434"/>
                </a:lnTo>
                <a:lnTo>
                  <a:pt x="235" y="441"/>
                </a:lnTo>
                <a:lnTo>
                  <a:pt x="228" y="448"/>
                </a:lnTo>
                <a:lnTo>
                  <a:pt x="221" y="455"/>
                </a:lnTo>
                <a:lnTo>
                  <a:pt x="221" y="455"/>
                </a:lnTo>
                <a:lnTo>
                  <a:pt x="214" y="462"/>
                </a:lnTo>
                <a:lnTo>
                  <a:pt x="207" y="469"/>
                </a:lnTo>
                <a:lnTo>
                  <a:pt x="200" y="462"/>
                </a:lnTo>
                <a:lnTo>
                  <a:pt x="200" y="462"/>
                </a:lnTo>
                <a:lnTo>
                  <a:pt x="193" y="455"/>
                </a:lnTo>
                <a:lnTo>
                  <a:pt x="193" y="448"/>
                </a:lnTo>
                <a:lnTo>
                  <a:pt x="180" y="448"/>
                </a:lnTo>
                <a:lnTo>
                  <a:pt x="145" y="476"/>
                </a:lnTo>
                <a:lnTo>
                  <a:pt x="118" y="503"/>
                </a:lnTo>
                <a:lnTo>
                  <a:pt x="90" y="531"/>
                </a:lnTo>
                <a:lnTo>
                  <a:pt x="56" y="565"/>
                </a:lnTo>
                <a:lnTo>
                  <a:pt x="28" y="565"/>
                </a:lnTo>
                <a:lnTo>
                  <a:pt x="0" y="593"/>
                </a:lnTo>
                <a:lnTo>
                  <a:pt x="0" y="620"/>
                </a:lnTo>
                <a:lnTo>
                  <a:pt x="0" y="655"/>
                </a:lnTo>
                <a:lnTo>
                  <a:pt x="0" y="682"/>
                </a:lnTo>
                <a:lnTo>
                  <a:pt x="21" y="682"/>
                </a:lnTo>
                <a:lnTo>
                  <a:pt x="28" y="682"/>
                </a:lnTo>
                <a:lnTo>
                  <a:pt x="28" y="682"/>
                </a:lnTo>
                <a:lnTo>
                  <a:pt x="28" y="675"/>
                </a:lnTo>
                <a:lnTo>
                  <a:pt x="28" y="675"/>
                </a:lnTo>
                <a:lnTo>
                  <a:pt x="28" y="675"/>
                </a:lnTo>
                <a:lnTo>
                  <a:pt x="28" y="675"/>
                </a:lnTo>
                <a:lnTo>
                  <a:pt x="28" y="682"/>
                </a:lnTo>
                <a:lnTo>
                  <a:pt x="28" y="682"/>
                </a:lnTo>
                <a:lnTo>
                  <a:pt x="28" y="682"/>
                </a:lnTo>
                <a:lnTo>
                  <a:pt x="28" y="682"/>
                </a:lnTo>
                <a:lnTo>
                  <a:pt x="28" y="682"/>
                </a:lnTo>
                <a:lnTo>
                  <a:pt x="28" y="710"/>
                </a:lnTo>
                <a:lnTo>
                  <a:pt x="28" y="744"/>
                </a:lnTo>
                <a:lnTo>
                  <a:pt x="56" y="772"/>
                </a:lnTo>
                <a:lnTo>
                  <a:pt x="90" y="799"/>
                </a:lnTo>
                <a:lnTo>
                  <a:pt x="111" y="799"/>
                </a:lnTo>
                <a:lnTo>
                  <a:pt x="118" y="793"/>
                </a:lnTo>
                <a:lnTo>
                  <a:pt x="118" y="793"/>
                </a:lnTo>
                <a:lnTo>
                  <a:pt x="124" y="786"/>
                </a:lnTo>
                <a:lnTo>
                  <a:pt x="131" y="779"/>
                </a:lnTo>
                <a:lnTo>
                  <a:pt x="131" y="772"/>
                </a:lnTo>
                <a:lnTo>
                  <a:pt x="138" y="772"/>
                </a:lnTo>
                <a:lnTo>
                  <a:pt x="145" y="765"/>
                </a:lnTo>
                <a:lnTo>
                  <a:pt x="152" y="765"/>
                </a:lnTo>
                <a:lnTo>
                  <a:pt x="166" y="765"/>
                </a:lnTo>
                <a:lnTo>
                  <a:pt x="173" y="765"/>
                </a:lnTo>
                <a:lnTo>
                  <a:pt x="187" y="765"/>
                </a:lnTo>
                <a:lnTo>
                  <a:pt x="193" y="765"/>
                </a:lnTo>
                <a:lnTo>
                  <a:pt x="200" y="765"/>
                </a:lnTo>
                <a:lnTo>
                  <a:pt x="207" y="772"/>
                </a:lnTo>
                <a:lnTo>
                  <a:pt x="214" y="772"/>
                </a:lnTo>
                <a:lnTo>
                  <a:pt x="221" y="779"/>
                </a:lnTo>
                <a:lnTo>
                  <a:pt x="221" y="786"/>
                </a:lnTo>
                <a:lnTo>
                  <a:pt x="228" y="793"/>
                </a:lnTo>
                <a:lnTo>
                  <a:pt x="228" y="799"/>
                </a:lnTo>
                <a:lnTo>
                  <a:pt x="235" y="799"/>
                </a:lnTo>
                <a:lnTo>
                  <a:pt x="242" y="799"/>
                </a:lnTo>
                <a:lnTo>
                  <a:pt x="255" y="793"/>
                </a:lnTo>
                <a:lnTo>
                  <a:pt x="262" y="793"/>
                </a:lnTo>
                <a:lnTo>
                  <a:pt x="269" y="799"/>
                </a:lnTo>
                <a:lnTo>
                  <a:pt x="269" y="806"/>
                </a:lnTo>
                <a:lnTo>
                  <a:pt x="262" y="806"/>
                </a:lnTo>
                <a:lnTo>
                  <a:pt x="255" y="813"/>
                </a:lnTo>
                <a:lnTo>
                  <a:pt x="255" y="820"/>
                </a:lnTo>
                <a:lnTo>
                  <a:pt x="249" y="827"/>
                </a:lnTo>
                <a:lnTo>
                  <a:pt x="249" y="827"/>
                </a:lnTo>
                <a:lnTo>
                  <a:pt x="255" y="834"/>
                </a:lnTo>
                <a:lnTo>
                  <a:pt x="262" y="841"/>
                </a:lnTo>
                <a:lnTo>
                  <a:pt x="269" y="841"/>
                </a:lnTo>
                <a:lnTo>
                  <a:pt x="276" y="841"/>
                </a:lnTo>
                <a:lnTo>
                  <a:pt x="283" y="841"/>
                </a:lnTo>
                <a:lnTo>
                  <a:pt x="290" y="834"/>
                </a:lnTo>
                <a:lnTo>
                  <a:pt x="297" y="834"/>
                </a:lnTo>
                <a:lnTo>
                  <a:pt x="304" y="827"/>
                </a:lnTo>
                <a:lnTo>
                  <a:pt x="311" y="820"/>
                </a:lnTo>
                <a:lnTo>
                  <a:pt x="318" y="820"/>
                </a:lnTo>
                <a:lnTo>
                  <a:pt x="324" y="813"/>
                </a:lnTo>
                <a:lnTo>
                  <a:pt x="331" y="813"/>
                </a:lnTo>
                <a:lnTo>
                  <a:pt x="345" y="813"/>
                </a:lnTo>
                <a:lnTo>
                  <a:pt x="352" y="813"/>
                </a:lnTo>
                <a:lnTo>
                  <a:pt x="359" y="813"/>
                </a:lnTo>
                <a:lnTo>
                  <a:pt x="373" y="813"/>
                </a:lnTo>
                <a:lnTo>
                  <a:pt x="380" y="820"/>
                </a:lnTo>
                <a:lnTo>
                  <a:pt x="386" y="820"/>
                </a:lnTo>
                <a:lnTo>
                  <a:pt x="393" y="820"/>
                </a:lnTo>
                <a:lnTo>
                  <a:pt x="400" y="827"/>
                </a:lnTo>
                <a:lnTo>
                  <a:pt x="407" y="834"/>
                </a:lnTo>
                <a:lnTo>
                  <a:pt x="407" y="834"/>
                </a:lnTo>
                <a:lnTo>
                  <a:pt x="400" y="841"/>
                </a:lnTo>
                <a:lnTo>
                  <a:pt x="393" y="848"/>
                </a:lnTo>
                <a:lnTo>
                  <a:pt x="386" y="855"/>
                </a:lnTo>
                <a:lnTo>
                  <a:pt x="386" y="861"/>
                </a:lnTo>
                <a:lnTo>
                  <a:pt x="386" y="861"/>
                </a:lnTo>
                <a:lnTo>
                  <a:pt x="380" y="868"/>
                </a:lnTo>
                <a:lnTo>
                  <a:pt x="380" y="875"/>
                </a:lnTo>
                <a:lnTo>
                  <a:pt x="373" y="882"/>
                </a:lnTo>
                <a:lnTo>
                  <a:pt x="373" y="889"/>
                </a:lnTo>
                <a:lnTo>
                  <a:pt x="380" y="896"/>
                </a:lnTo>
                <a:lnTo>
                  <a:pt x="380" y="896"/>
                </a:lnTo>
                <a:lnTo>
                  <a:pt x="386" y="903"/>
                </a:lnTo>
                <a:lnTo>
                  <a:pt x="393" y="910"/>
                </a:lnTo>
                <a:lnTo>
                  <a:pt x="393" y="917"/>
                </a:lnTo>
                <a:lnTo>
                  <a:pt x="400" y="917"/>
                </a:lnTo>
                <a:lnTo>
                  <a:pt x="407" y="923"/>
                </a:lnTo>
                <a:lnTo>
                  <a:pt x="407" y="930"/>
                </a:lnTo>
                <a:lnTo>
                  <a:pt x="421" y="930"/>
                </a:lnTo>
                <a:lnTo>
                  <a:pt x="428" y="930"/>
                </a:lnTo>
                <a:lnTo>
                  <a:pt x="435" y="930"/>
                </a:lnTo>
                <a:lnTo>
                  <a:pt x="442" y="930"/>
                </a:lnTo>
                <a:lnTo>
                  <a:pt x="449" y="923"/>
                </a:lnTo>
                <a:lnTo>
                  <a:pt x="455" y="917"/>
                </a:lnTo>
                <a:lnTo>
                  <a:pt x="462" y="917"/>
                </a:lnTo>
                <a:lnTo>
                  <a:pt x="469" y="910"/>
                </a:lnTo>
                <a:lnTo>
                  <a:pt x="476" y="903"/>
                </a:lnTo>
                <a:lnTo>
                  <a:pt x="483" y="903"/>
                </a:lnTo>
                <a:lnTo>
                  <a:pt x="490" y="896"/>
                </a:lnTo>
                <a:lnTo>
                  <a:pt x="490" y="896"/>
                </a:lnTo>
                <a:lnTo>
                  <a:pt x="497" y="889"/>
                </a:lnTo>
                <a:lnTo>
                  <a:pt x="504" y="882"/>
                </a:lnTo>
                <a:lnTo>
                  <a:pt x="511" y="882"/>
                </a:lnTo>
                <a:lnTo>
                  <a:pt x="517" y="875"/>
                </a:lnTo>
                <a:lnTo>
                  <a:pt x="524" y="868"/>
                </a:lnTo>
                <a:lnTo>
                  <a:pt x="531" y="868"/>
                </a:lnTo>
                <a:lnTo>
                  <a:pt x="538" y="861"/>
                </a:lnTo>
                <a:lnTo>
                  <a:pt x="545" y="861"/>
                </a:lnTo>
                <a:lnTo>
                  <a:pt x="552" y="855"/>
                </a:lnTo>
                <a:lnTo>
                  <a:pt x="559" y="855"/>
                </a:lnTo>
                <a:lnTo>
                  <a:pt x="566" y="855"/>
                </a:lnTo>
                <a:lnTo>
                  <a:pt x="580" y="848"/>
                </a:lnTo>
                <a:lnTo>
                  <a:pt x="586" y="848"/>
                </a:lnTo>
                <a:lnTo>
                  <a:pt x="593" y="848"/>
                </a:lnTo>
                <a:lnTo>
                  <a:pt x="600" y="841"/>
                </a:lnTo>
                <a:lnTo>
                  <a:pt x="607" y="841"/>
                </a:lnTo>
                <a:lnTo>
                  <a:pt x="614" y="834"/>
                </a:lnTo>
                <a:lnTo>
                  <a:pt x="621" y="834"/>
                </a:lnTo>
                <a:lnTo>
                  <a:pt x="628" y="827"/>
                </a:lnTo>
                <a:lnTo>
                  <a:pt x="642" y="827"/>
                </a:lnTo>
                <a:lnTo>
                  <a:pt x="648" y="820"/>
                </a:lnTo>
                <a:lnTo>
                  <a:pt x="655" y="820"/>
                </a:lnTo>
                <a:lnTo>
                  <a:pt x="655" y="813"/>
                </a:lnTo>
                <a:lnTo>
                  <a:pt x="662" y="806"/>
                </a:lnTo>
                <a:lnTo>
                  <a:pt x="669" y="806"/>
                </a:lnTo>
                <a:lnTo>
                  <a:pt x="669" y="799"/>
                </a:lnTo>
                <a:lnTo>
                  <a:pt x="669" y="793"/>
                </a:lnTo>
                <a:lnTo>
                  <a:pt x="662" y="786"/>
                </a:lnTo>
                <a:lnTo>
                  <a:pt x="662" y="779"/>
                </a:lnTo>
                <a:lnTo>
                  <a:pt x="662" y="772"/>
                </a:lnTo>
                <a:lnTo>
                  <a:pt x="662" y="772"/>
                </a:lnTo>
                <a:lnTo>
                  <a:pt x="662" y="765"/>
                </a:lnTo>
                <a:lnTo>
                  <a:pt x="669" y="758"/>
                </a:lnTo>
                <a:lnTo>
                  <a:pt x="669" y="751"/>
                </a:lnTo>
                <a:lnTo>
                  <a:pt x="669" y="744"/>
                </a:lnTo>
                <a:lnTo>
                  <a:pt x="676" y="737"/>
                </a:lnTo>
                <a:lnTo>
                  <a:pt x="676" y="737"/>
                </a:lnTo>
                <a:lnTo>
                  <a:pt x="676" y="731"/>
                </a:lnTo>
                <a:lnTo>
                  <a:pt x="676" y="724"/>
                </a:lnTo>
                <a:lnTo>
                  <a:pt x="676" y="717"/>
                </a:lnTo>
                <a:lnTo>
                  <a:pt x="676" y="710"/>
                </a:lnTo>
                <a:lnTo>
                  <a:pt x="676" y="703"/>
                </a:lnTo>
                <a:lnTo>
                  <a:pt x="676" y="703"/>
                </a:lnTo>
                <a:lnTo>
                  <a:pt x="683" y="696"/>
                </a:lnTo>
                <a:lnTo>
                  <a:pt x="697" y="689"/>
                </a:lnTo>
                <a:lnTo>
                  <a:pt x="704" y="689"/>
                </a:lnTo>
                <a:lnTo>
                  <a:pt x="711" y="689"/>
                </a:lnTo>
                <a:lnTo>
                  <a:pt x="717" y="696"/>
                </a:lnTo>
                <a:lnTo>
                  <a:pt x="717" y="703"/>
                </a:lnTo>
                <a:lnTo>
                  <a:pt x="724" y="703"/>
                </a:lnTo>
                <a:lnTo>
                  <a:pt x="724" y="710"/>
                </a:lnTo>
                <a:lnTo>
                  <a:pt x="731" y="717"/>
                </a:lnTo>
                <a:lnTo>
                  <a:pt x="731" y="724"/>
                </a:lnTo>
                <a:lnTo>
                  <a:pt x="738" y="731"/>
                </a:lnTo>
                <a:lnTo>
                  <a:pt x="745" y="731"/>
                </a:lnTo>
                <a:lnTo>
                  <a:pt x="752" y="737"/>
                </a:lnTo>
                <a:lnTo>
                  <a:pt x="752" y="744"/>
                </a:lnTo>
                <a:lnTo>
                  <a:pt x="752" y="751"/>
                </a:lnTo>
                <a:lnTo>
                  <a:pt x="752" y="751"/>
                </a:lnTo>
                <a:lnTo>
                  <a:pt x="759" y="758"/>
                </a:lnTo>
                <a:lnTo>
                  <a:pt x="759" y="765"/>
                </a:lnTo>
                <a:lnTo>
                  <a:pt x="759" y="772"/>
                </a:lnTo>
                <a:lnTo>
                  <a:pt x="759" y="779"/>
                </a:lnTo>
                <a:lnTo>
                  <a:pt x="766" y="786"/>
                </a:lnTo>
                <a:lnTo>
                  <a:pt x="773" y="786"/>
                </a:lnTo>
                <a:lnTo>
                  <a:pt x="786" y="786"/>
                </a:lnTo>
                <a:lnTo>
                  <a:pt x="793" y="786"/>
                </a:lnTo>
                <a:lnTo>
                  <a:pt x="800" y="786"/>
                </a:lnTo>
                <a:lnTo>
                  <a:pt x="807" y="793"/>
                </a:lnTo>
                <a:lnTo>
                  <a:pt x="807" y="799"/>
                </a:lnTo>
                <a:lnTo>
                  <a:pt x="814" y="806"/>
                </a:lnTo>
                <a:lnTo>
                  <a:pt x="821" y="806"/>
                </a:lnTo>
                <a:lnTo>
                  <a:pt x="828" y="813"/>
                </a:lnTo>
                <a:lnTo>
                  <a:pt x="835" y="813"/>
                </a:lnTo>
                <a:lnTo>
                  <a:pt x="842" y="820"/>
                </a:lnTo>
                <a:lnTo>
                  <a:pt x="848" y="827"/>
                </a:lnTo>
                <a:lnTo>
                  <a:pt x="848" y="827"/>
                </a:lnTo>
                <a:lnTo>
                  <a:pt x="855" y="834"/>
                </a:lnTo>
                <a:lnTo>
                  <a:pt x="862" y="841"/>
                </a:lnTo>
                <a:lnTo>
                  <a:pt x="869" y="841"/>
                </a:lnTo>
                <a:lnTo>
                  <a:pt x="876" y="848"/>
                </a:lnTo>
                <a:lnTo>
                  <a:pt x="883" y="848"/>
                </a:lnTo>
                <a:lnTo>
                  <a:pt x="890" y="855"/>
                </a:lnTo>
                <a:lnTo>
                  <a:pt x="897" y="861"/>
                </a:lnTo>
                <a:lnTo>
                  <a:pt x="897" y="861"/>
                </a:lnTo>
                <a:lnTo>
                  <a:pt x="904" y="868"/>
                </a:lnTo>
                <a:lnTo>
                  <a:pt x="910" y="875"/>
                </a:lnTo>
                <a:lnTo>
                  <a:pt x="917" y="875"/>
                </a:lnTo>
                <a:lnTo>
                  <a:pt x="924" y="882"/>
                </a:lnTo>
                <a:lnTo>
                  <a:pt x="931" y="889"/>
                </a:lnTo>
                <a:lnTo>
                  <a:pt x="938" y="889"/>
                </a:lnTo>
                <a:lnTo>
                  <a:pt x="938" y="896"/>
                </a:lnTo>
                <a:lnTo>
                  <a:pt x="945" y="896"/>
                </a:lnTo>
                <a:lnTo>
                  <a:pt x="952" y="903"/>
                </a:lnTo>
                <a:lnTo>
                  <a:pt x="959" y="910"/>
                </a:lnTo>
                <a:lnTo>
                  <a:pt x="966" y="910"/>
                </a:lnTo>
                <a:lnTo>
                  <a:pt x="973" y="917"/>
                </a:lnTo>
                <a:lnTo>
                  <a:pt x="979" y="923"/>
                </a:lnTo>
                <a:lnTo>
                  <a:pt x="986" y="923"/>
                </a:lnTo>
                <a:lnTo>
                  <a:pt x="986" y="930"/>
                </a:lnTo>
                <a:lnTo>
                  <a:pt x="993" y="937"/>
                </a:lnTo>
                <a:lnTo>
                  <a:pt x="1000" y="937"/>
                </a:lnTo>
                <a:lnTo>
                  <a:pt x="1007" y="944"/>
                </a:lnTo>
                <a:lnTo>
                  <a:pt x="1014" y="944"/>
                </a:lnTo>
                <a:lnTo>
                  <a:pt x="1021" y="951"/>
                </a:lnTo>
                <a:lnTo>
                  <a:pt x="1028" y="958"/>
                </a:lnTo>
                <a:lnTo>
                  <a:pt x="1035" y="958"/>
                </a:lnTo>
                <a:lnTo>
                  <a:pt x="1041" y="958"/>
                </a:lnTo>
                <a:lnTo>
                  <a:pt x="1041" y="958"/>
                </a:lnTo>
                <a:lnTo>
                  <a:pt x="1048" y="951"/>
                </a:lnTo>
                <a:close/>
                <a:moveTo>
                  <a:pt x="1221" y="951"/>
                </a:moveTo>
                <a:lnTo>
                  <a:pt x="1221" y="944"/>
                </a:lnTo>
                <a:lnTo>
                  <a:pt x="1221" y="937"/>
                </a:lnTo>
                <a:lnTo>
                  <a:pt x="1221" y="930"/>
                </a:lnTo>
                <a:lnTo>
                  <a:pt x="1221" y="923"/>
                </a:lnTo>
                <a:lnTo>
                  <a:pt x="1221" y="917"/>
                </a:lnTo>
                <a:lnTo>
                  <a:pt x="1214" y="917"/>
                </a:lnTo>
                <a:lnTo>
                  <a:pt x="1207" y="917"/>
                </a:lnTo>
                <a:lnTo>
                  <a:pt x="1200" y="923"/>
                </a:lnTo>
                <a:lnTo>
                  <a:pt x="1200" y="930"/>
                </a:lnTo>
                <a:lnTo>
                  <a:pt x="1200" y="930"/>
                </a:lnTo>
                <a:lnTo>
                  <a:pt x="1200" y="937"/>
                </a:lnTo>
                <a:lnTo>
                  <a:pt x="1200" y="944"/>
                </a:lnTo>
                <a:lnTo>
                  <a:pt x="1200" y="951"/>
                </a:lnTo>
                <a:lnTo>
                  <a:pt x="1207" y="958"/>
                </a:lnTo>
                <a:lnTo>
                  <a:pt x="1207" y="965"/>
                </a:lnTo>
                <a:lnTo>
                  <a:pt x="1207" y="972"/>
                </a:lnTo>
                <a:lnTo>
                  <a:pt x="1214" y="972"/>
                </a:lnTo>
                <a:lnTo>
                  <a:pt x="1214" y="965"/>
                </a:lnTo>
                <a:lnTo>
                  <a:pt x="1214" y="958"/>
                </a:lnTo>
                <a:lnTo>
                  <a:pt x="1221" y="951"/>
                </a:lnTo>
                <a:close/>
                <a:moveTo>
                  <a:pt x="138" y="827"/>
                </a:moveTo>
                <a:lnTo>
                  <a:pt x="118" y="806"/>
                </a:lnTo>
                <a:lnTo>
                  <a:pt x="118" y="827"/>
                </a:lnTo>
                <a:lnTo>
                  <a:pt x="138" y="827"/>
                </a:lnTo>
                <a:close/>
                <a:moveTo>
                  <a:pt x="1152" y="827"/>
                </a:moveTo>
                <a:lnTo>
                  <a:pt x="1152" y="827"/>
                </a:lnTo>
                <a:lnTo>
                  <a:pt x="1152" y="820"/>
                </a:lnTo>
                <a:lnTo>
                  <a:pt x="1159" y="813"/>
                </a:lnTo>
                <a:lnTo>
                  <a:pt x="1159" y="806"/>
                </a:lnTo>
                <a:lnTo>
                  <a:pt x="1159" y="799"/>
                </a:lnTo>
                <a:lnTo>
                  <a:pt x="1159" y="793"/>
                </a:lnTo>
                <a:lnTo>
                  <a:pt x="1159" y="786"/>
                </a:lnTo>
                <a:lnTo>
                  <a:pt x="1159" y="779"/>
                </a:lnTo>
                <a:lnTo>
                  <a:pt x="1159" y="772"/>
                </a:lnTo>
                <a:lnTo>
                  <a:pt x="1159" y="772"/>
                </a:lnTo>
                <a:lnTo>
                  <a:pt x="1166" y="765"/>
                </a:lnTo>
                <a:lnTo>
                  <a:pt x="1166" y="758"/>
                </a:lnTo>
                <a:lnTo>
                  <a:pt x="1159" y="751"/>
                </a:lnTo>
                <a:lnTo>
                  <a:pt x="1159" y="744"/>
                </a:lnTo>
                <a:lnTo>
                  <a:pt x="1159" y="737"/>
                </a:lnTo>
                <a:lnTo>
                  <a:pt x="1152" y="731"/>
                </a:lnTo>
                <a:lnTo>
                  <a:pt x="1152" y="737"/>
                </a:lnTo>
                <a:lnTo>
                  <a:pt x="1145" y="744"/>
                </a:lnTo>
                <a:lnTo>
                  <a:pt x="1145" y="751"/>
                </a:lnTo>
                <a:lnTo>
                  <a:pt x="1145" y="758"/>
                </a:lnTo>
                <a:lnTo>
                  <a:pt x="1145" y="765"/>
                </a:lnTo>
                <a:lnTo>
                  <a:pt x="1145" y="772"/>
                </a:lnTo>
                <a:lnTo>
                  <a:pt x="1145" y="779"/>
                </a:lnTo>
                <a:lnTo>
                  <a:pt x="1138" y="779"/>
                </a:lnTo>
                <a:lnTo>
                  <a:pt x="1138" y="786"/>
                </a:lnTo>
                <a:lnTo>
                  <a:pt x="1145" y="793"/>
                </a:lnTo>
                <a:lnTo>
                  <a:pt x="1145" y="799"/>
                </a:lnTo>
                <a:lnTo>
                  <a:pt x="1145" y="806"/>
                </a:lnTo>
                <a:lnTo>
                  <a:pt x="1145" y="813"/>
                </a:lnTo>
                <a:lnTo>
                  <a:pt x="1145" y="820"/>
                </a:lnTo>
                <a:lnTo>
                  <a:pt x="1152" y="820"/>
                </a:lnTo>
                <a:lnTo>
                  <a:pt x="1152" y="827"/>
                </a:lnTo>
                <a:close/>
                <a:moveTo>
                  <a:pt x="2152" y="827"/>
                </a:moveTo>
                <a:lnTo>
                  <a:pt x="2158" y="827"/>
                </a:lnTo>
                <a:lnTo>
                  <a:pt x="2165" y="820"/>
                </a:lnTo>
                <a:lnTo>
                  <a:pt x="2165" y="813"/>
                </a:lnTo>
                <a:lnTo>
                  <a:pt x="2172" y="813"/>
                </a:lnTo>
                <a:lnTo>
                  <a:pt x="2172" y="806"/>
                </a:lnTo>
                <a:lnTo>
                  <a:pt x="2179" y="799"/>
                </a:lnTo>
                <a:lnTo>
                  <a:pt x="2179" y="793"/>
                </a:lnTo>
                <a:lnTo>
                  <a:pt x="2179" y="793"/>
                </a:lnTo>
                <a:lnTo>
                  <a:pt x="2179" y="786"/>
                </a:lnTo>
                <a:lnTo>
                  <a:pt x="2179" y="779"/>
                </a:lnTo>
                <a:lnTo>
                  <a:pt x="2179" y="772"/>
                </a:lnTo>
                <a:lnTo>
                  <a:pt x="2172" y="772"/>
                </a:lnTo>
                <a:lnTo>
                  <a:pt x="2172" y="765"/>
                </a:lnTo>
                <a:lnTo>
                  <a:pt x="2179" y="758"/>
                </a:lnTo>
                <a:lnTo>
                  <a:pt x="2179" y="751"/>
                </a:lnTo>
                <a:lnTo>
                  <a:pt x="2179" y="751"/>
                </a:lnTo>
                <a:lnTo>
                  <a:pt x="2186" y="744"/>
                </a:lnTo>
                <a:lnTo>
                  <a:pt x="2186" y="744"/>
                </a:lnTo>
                <a:lnTo>
                  <a:pt x="2186" y="751"/>
                </a:lnTo>
                <a:lnTo>
                  <a:pt x="2186" y="758"/>
                </a:lnTo>
                <a:lnTo>
                  <a:pt x="2193" y="765"/>
                </a:lnTo>
                <a:lnTo>
                  <a:pt x="2193" y="765"/>
                </a:lnTo>
                <a:lnTo>
                  <a:pt x="2193" y="772"/>
                </a:lnTo>
                <a:lnTo>
                  <a:pt x="2193" y="779"/>
                </a:lnTo>
                <a:lnTo>
                  <a:pt x="2193" y="779"/>
                </a:lnTo>
                <a:lnTo>
                  <a:pt x="2193" y="786"/>
                </a:lnTo>
                <a:lnTo>
                  <a:pt x="2193" y="793"/>
                </a:lnTo>
                <a:lnTo>
                  <a:pt x="2193" y="799"/>
                </a:lnTo>
                <a:lnTo>
                  <a:pt x="2193" y="806"/>
                </a:lnTo>
                <a:lnTo>
                  <a:pt x="2193" y="806"/>
                </a:lnTo>
                <a:lnTo>
                  <a:pt x="2193" y="813"/>
                </a:lnTo>
                <a:lnTo>
                  <a:pt x="2193" y="820"/>
                </a:lnTo>
                <a:lnTo>
                  <a:pt x="2186" y="827"/>
                </a:lnTo>
                <a:lnTo>
                  <a:pt x="2186" y="834"/>
                </a:lnTo>
                <a:lnTo>
                  <a:pt x="2179" y="834"/>
                </a:lnTo>
                <a:lnTo>
                  <a:pt x="2165" y="834"/>
                </a:lnTo>
                <a:lnTo>
                  <a:pt x="2158" y="834"/>
                </a:lnTo>
                <a:lnTo>
                  <a:pt x="2152" y="827"/>
                </a:lnTo>
                <a:close/>
                <a:moveTo>
                  <a:pt x="193" y="799"/>
                </a:moveTo>
                <a:lnTo>
                  <a:pt x="193" y="793"/>
                </a:lnTo>
                <a:lnTo>
                  <a:pt x="187" y="779"/>
                </a:lnTo>
                <a:lnTo>
                  <a:pt x="180" y="779"/>
                </a:lnTo>
                <a:lnTo>
                  <a:pt x="180" y="772"/>
                </a:lnTo>
                <a:lnTo>
                  <a:pt x="173" y="779"/>
                </a:lnTo>
                <a:lnTo>
                  <a:pt x="166" y="779"/>
                </a:lnTo>
                <a:lnTo>
                  <a:pt x="159" y="793"/>
                </a:lnTo>
                <a:lnTo>
                  <a:pt x="159" y="799"/>
                </a:lnTo>
                <a:lnTo>
                  <a:pt x="166" y="806"/>
                </a:lnTo>
                <a:lnTo>
                  <a:pt x="166" y="813"/>
                </a:lnTo>
                <a:lnTo>
                  <a:pt x="173" y="813"/>
                </a:lnTo>
                <a:lnTo>
                  <a:pt x="180" y="813"/>
                </a:lnTo>
                <a:lnTo>
                  <a:pt x="187" y="806"/>
                </a:lnTo>
                <a:lnTo>
                  <a:pt x="193" y="799"/>
                </a:lnTo>
                <a:close/>
                <a:moveTo>
                  <a:pt x="469" y="772"/>
                </a:moveTo>
                <a:lnTo>
                  <a:pt x="469" y="772"/>
                </a:lnTo>
                <a:lnTo>
                  <a:pt x="476" y="765"/>
                </a:lnTo>
                <a:lnTo>
                  <a:pt x="476" y="765"/>
                </a:lnTo>
                <a:lnTo>
                  <a:pt x="483" y="765"/>
                </a:lnTo>
                <a:lnTo>
                  <a:pt x="490" y="772"/>
                </a:lnTo>
                <a:lnTo>
                  <a:pt x="490" y="772"/>
                </a:lnTo>
                <a:lnTo>
                  <a:pt x="490" y="772"/>
                </a:lnTo>
                <a:lnTo>
                  <a:pt x="483" y="779"/>
                </a:lnTo>
                <a:lnTo>
                  <a:pt x="476" y="779"/>
                </a:lnTo>
                <a:lnTo>
                  <a:pt x="476" y="779"/>
                </a:lnTo>
                <a:lnTo>
                  <a:pt x="469" y="779"/>
                </a:lnTo>
                <a:lnTo>
                  <a:pt x="469" y="779"/>
                </a:lnTo>
                <a:lnTo>
                  <a:pt x="469" y="772"/>
                </a:lnTo>
                <a:lnTo>
                  <a:pt x="469" y="772"/>
                </a:lnTo>
                <a:close/>
                <a:moveTo>
                  <a:pt x="573" y="772"/>
                </a:moveTo>
                <a:lnTo>
                  <a:pt x="573" y="765"/>
                </a:lnTo>
                <a:lnTo>
                  <a:pt x="580" y="758"/>
                </a:lnTo>
                <a:lnTo>
                  <a:pt x="586" y="758"/>
                </a:lnTo>
                <a:lnTo>
                  <a:pt x="593" y="758"/>
                </a:lnTo>
                <a:lnTo>
                  <a:pt x="600" y="758"/>
                </a:lnTo>
                <a:lnTo>
                  <a:pt x="607" y="765"/>
                </a:lnTo>
                <a:lnTo>
                  <a:pt x="607" y="772"/>
                </a:lnTo>
                <a:lnTo>
                  <a:pt x="607" y="779"/>
                </a:lnTo>
                <a:lnTo>
                  <a:pt x="600" y="779"/>
                </a:lnTo>
                <a:lnTo>
                  <a:pt x="593" y="786"/>
                </a:lnTo>
                <a:lnTo>
                  <a:pt x="586" y="786"/>
                </a:lnTo>
                <a:lnTo>
                  <a:pt x="580" y="786"/>
                </a:lnTo>
                <a:lnTo>
                  <a:pt x="573" y="779"/>
                </a:lnTo>
                <a:lnTo>
                  <a:pt x="573" y="772"/>
                </a:lnTo>
                <a:close/>
                <a:moveTo>
                  <a:pt x="1179" y="710"/>
                </a:moveTo>
                <a:lnTo>
                  <a:pt x="1179" y="703"/>
                </a:lnTo>
                <a:lnTo>
                  <a:pt x="1186" y="696"/>
                </a:lnTo>
                <a:lnTo>
                  <a:pt x="1186" y="689"/>
                </a:lnTo>
                <a:lnTo>
                  <a:pt x="1186" y="682"/>
                </a:lnTo>
                <a:lnTo>
                  <a:pt x="1186" y="675"/>
                </a:lnTo>
                <a:lnTo>
                  <a:pt x="1186" y="669"/>
                </a:lnTo>
                <a:lnTo>
                  <a:pt x="1193" y="662"/>
                </a:lnTo>
                <a:lnTo>
                  <a:pt x="1193" y="655"/>
                </a:lnTo>
                <a:lnTo>
                  <a:pt x="1186" y="648"/>
                </a:lnTo>
                <a:lnTo>
                  <a:pt x="1186" y="634"/>
                </a:lnTo>
                <a:lnTo>
                  <a:pt x="1186" y="627"/>
                </a:lnTo>
                <a:lnTo>
                  <a:pt x="1193" y="620"/>
                </a:lnTo>
                <a:lnTo>
                  <a:pt x="1200" y="620"/>
                </a:lnTo>
                <a:lnTo>
                  <a:pt x="1207" y="613"/>
                </a:lnTo>
                <a:lnTo>
                  <a:pt x="1214" y="607"/>
                </a:lnTo>
                <a:lnTo>
                  <a:pt x="1221" y="600"/>
                </a:lnTo>
                <a:lnTo>
                  <a:pt x="1221" y="593"/>
                </a:lnTo>
                <a:lnTo>
                  <a:pt x="1221" y="586"/>
                </a:lnTo>
                <a:lnTo>
                  <a:pt x="1221" y="579"/>
                </a:lnTo>
                <a:lnTo>
                  <a:pt x="1221" y="572"/>
                </a:lnTo>
                <a:lnTo>
                  <a:pt x="1214" y="565"/>
                </a:lnTo>
                <a:lnTo>
                  <a:pt x="1214" y="551"/>
                </a:lnTo>
                <a:lnTo>
                  <a:pt x="1214" y="545"/>
                </a:lnTo>
                <a:lnTo>
                  <a:pt x="1214" y="538"/>
                </a:lnTo>
                <a:lnTo>
                  <a:pt x="1207" y="538"/>
                </a:lnTo>
                <a:lnTo>
                  <a:pt x="1207" y="538"/>
                </a:lnTo>
                <a:lnTo>
                  <a:pt x="1207" y="545"/>
                </a:lnTo>
                <a:lnTo>
                  <a:pt x="1207" y="558"/>
                </a:lnTo>
                <a:lnTo>
                  <a:pt x="1200" y="565"/>
                </a:lnTo>
                <a:lnTo>
                  <a:pt x="1193" y="572"/>
                </a:lnTo>
                <a:lnTo>
                  <a:pt x="1186" y="579"/>
                </a:lnTo>
                <a:lnTo>
                  <a:pt x="1179" y="586"/>
                </a:lnTo>
                <a:lnTo>
                  <a:pt x="1179" y="586"/>
                </a:lnTo>
                <a:lnTo>
                  <a:pt x="1172" y="600"/>
                </a:lnTo>
                <a:lnTo>
                  <a:pt x="1172" y="607"/>
                </a:lnTo>
                <a:lnTo>
                  <a:pt x="1172" y="613"/>
                </a:lnTo>
                <a:lnTo>
                  <a:pt x="1172" y="620"/>
                </a:lnTo>
                <a:lnTo>
                  <a:pt x="1172" y="627"/>
                </a:lnTo>
                <a:lnTo>
                  <a:pt x="1172" y="634"/>
                </a:lnTo>
                <a:lnTo>
                  <a:pt x="1172" y="641"/>
                </a:lnTo>
                <a:lnTo>
                  <a:pt x="1172" y="648"/>
                </a:lnTo>
                <a:lnTo>
                  <a:pt x="1172" y="655"/>
                </a:lnTo>
                <a:lnTo>
                  <a:pt x="1172" y="662"/>
                </a:lnTo>
                <a:lnTo>
                  <a:pt x="1172" y="669"/>
                </a:lnTo>
                <a:lnTo>
                  <a:pt x="1172" y="675"/>
                </a:lnTo>
                <a:lnTo>
                  <a:pt x="1172" y="682"/>
                </a:lnTo>
                <a:lnTo>
                  <a:pt x="1172" y="689"/>
                </a:lnTo>
                <a:lnTo>
                  <a:pt x="1172" y="696"/>
                </a:lnTo>
                <a:lnTo>
                  <a:pt x="1172" y="703"/>
                </a:lnTo>
                <a:lnTo>
                  <a:pt x="1179" y="710"/>
                </a:lnTo>
                <a:close/>
                <a:moveTo>
                  <a:pt x="759" y="682"/>
                </a:moveTo>
                <a:lnTo>
                  <a:pt x="752" y="675"/>
                </a:lnTo>
                <a:lnTo>
                  <a:pt x="745" y="669"/>
                </a:lnTo>
                <a:lnTo>
                  <a:pt x="745" y="662"/>
                </a:lnTo>
                <a:lnTo>
                  <a:pt x="752" y="648"/>
                </a:lnTo>
                <a:lnTo>
                  <a:pt x="759" y="641"/>
                </a:lnTo>
                <a:lnTo>
                  <a:pt x="766" y="627"/>
                </a:lnTo>
                <a:lnTo>
                  <a:pt x="766" y="627"/>
                </a:lnTo>
                <a:lnTo>
                  <a:pt x="773" y="634"/>
                </a:lnTo>
                <a:lnTo>
                  <a:pt x="773" y="641"/>
                </a:lnTo>
                <a:lnTo>
                  <a:pt x="773" y="655"/>
                </a:lnTo>
                <a:lnTo>
                  <a:pt x="773" y="662"/>
                </a:lnTo>
                <a:lnTo>
                  <a:pt x="779" y="669"/>
                </a:lnTo>
                <a:lnTo>
                  <a:pt x="779" y="675"/>
                </a:lnTo>
                <a:lnTo>
                  <a:pt x="779" y="689"/>
                </a:lnTo>
                <a:lnTo>
                  <a:pt x="773" y="696"/>
                </a:lnTo>
                <a:lnTo>
                  <a:pt x="773" y="703"/>
                </a:lnTo>
                <a:lnTo>
                  <a:pt x="766" y="710"/>
                </a:lnTo>
                <a:lnTo>
                  <a:pt x="766" y="703"/>
                </a:lnTo>
                <a:lnTo>
                  <a:pt x="759" y="696"/>
                </a:lnTo>
                <a:lnTo>
                  <a:pt x="759" y="682"/>
                </a:lnTo>
                <a:close/>
                <a:moveTo>
                  <a:pt x="821" y="682"/>
                </a:moveTo>
                <a:lnTo>
                  <a:pt x="821" y="675"/>
                </a:lnTo>
                <a:lnTo>
                  <a:pt x="828" y="675"/>
                </a:lnTo>
                <a:lnTo>
                  <a:pt x="828" y="675"/>
                </a:lnTo>
                <a:lnTo>
                  <a:pt x="828" y="675"/>
                </a:lnTo>
                <a:lnTo>
                  <a:pt x="828" y="675"/>
                </a:lnTo>
                <a:lnTo>
                  <a:pt x="828" y="675"/>
                </a:lnTo>
                <a:lnTo>
                  <a:pt x="828" y="682"/>
                </a:lnTo>
                <a:lnTo>
                  <a:pt x="828" y="682"/>
                </a:lnTo>
                <a:lnTo>
                  <a:pt x="828" y="682"/>
                </a:lnTo>
                <a:lnTo>
                  <a:pt x="828" y="689"/>
                </a:lnTo>
                <a:lnTo>
                  <a:pt x="828" y="689"/>
                </a:lnTo>
                <a:lnTo>
                  <a:pt x="828" y="689"/>
                </a:lnTo>
                <a:lnTo>
                  <a:pt x="821" y="682"/>
                </a:lnTo>
                <a:lnTo>
                  <a:pt x="821" y="682"/>
                </a:lnTo>
                <a:close/>
                <a:moveTo>
                  <a:pt x="855" y="620"/>
                </a:moveTo>
                <a:lnTo>
                  <a:pt x="848" y="620"/>
                </a:lnTo>
                <a:lnTo>
                  <a:pt x="848" y="613"/>
                </a:lnTo>
                <a:lnTo>
                  <a:pt x="848" y="607"/>
                </a:lnTo>
                <a:lnTo>
                  <a:pt x="848" y="600"/>
                </a:lnTo>
                <a:lnTo>
                  <a:pt x="848" y="593"/>
                </a:lnTo>
                <a:lnTo>
                  <a:pt x="848" y="586"/>
                </a:lnTo>
                <a:lnTo>
                  <a:pt x="848" y="579"/>
                </a:lnTo>
                <a:lnTo>
                  <a:pt x="848" y="579"/>
                </a:lnTo>
                <a:lnTo>
                  <a:pt x="855" y="572"/>
                </a:lnTo>
                <a:lnTo>
                  <a:pt x="862" y="565"/>
                </a:lnTo>
                <a:lnTo>
                  <a:pt x="869" y="565"/>
                </a:lnTo>
                <a:lnTo>
                  <a:pt x="876" y="565"/>
                </a:lnTo>
                <a:lnTo>
                  <a:pt x="883" y="558"/>
                </a:lnTo>
                <a:lnTo>
                  <a:pt x="883" y="551"/>
                </a:lnTo>
                <a:lnTo>
                  <a:pt x="883" y="551"/>
                </a:lnTo>
                <a:lnTo>
                  <a:pt x="883" y="545"/>
                </a:lnTo>
                <a:lnTo>
                  <a:pt x="883" y="538"/>
                </a:lnTo>
                <a:lnTo>
                  <a:pt x="890" y="538"/>
                </a:lnTo>
                <a:lnTo>
                  <a:pt x="890" y="545"/>
                </a:lnTo>
                <a:lnTo>
                  <a:pt x="890" y="551"/>
                </a:lnTo>
                <a:lnTo>
                  <a:pt x="890" y="558"/>
                </a:lnTo>
                <a:lnTo>
                  <a:pt x="890" y="558"/>
                </a:lnTo>
                <a:lnTo>
                  <a:pt x="890" y="565"/>
                </a:lnTo>
                <a:lnTo>
                  <a:pt x="883" y="572"/>
                </a:lnTo>
                <a:lnTo>
                  <a:pt x="883" y="579"/>
                </a:lnTo>
                <a:lnTo>
                  <a:pt x="883" y="586"/>
                </a:lnTo>
                <a:lnTo>
                  <a:pt x="883" y="593"/>
                </a:lnTo>
                <a:lnTo>
                  <a:pt x="883" y="593"/>
                </a:lnTo>
                <a:lnTo>
                  <a:pt x="883" y="600"/>
                </a:lnTo>
                <a:lnTo>
                  <a:pt x="876" y="607"/>
                </a:lnTo>
                <a:lnTo>
                  <a:pt x="869" y="607"/>
                </a:lnTo>
                <a:lnTo>
                  <a:pt x="862" y="613"/>
                </a:lnTo>
                <a:lnTo>
                  <a:pt x="862" y="620"/>
                </a:lnTo>
                <a:lnTo>
                  <a:pt x="855" y="627"/>
                </a:lnTo>
                <a:lnTo>
                  <a:pt x="855" y="634"/>
                </a:lnTo>
                <a:lnTo>
                  <a:pt x="855" y="634"/>
                </a:lnTo>
                <a:lnTo>
                  <a:pt x="855" y="634"/>
                </a:lnTo>
                <a:lnTo>
                  <a:pt x="855" y="620"/>
                </a:lnTo>
                <a:close/>
                <a:moveTo>
                  <a:pt x="1800" y="593"/>
                </a:moveTo>
                <a:lnTo>
                  <a:pt x="1800" y="593"/>
                </a:lnTo>
                <a:lnTo>
                  <a:pt x="1800" y="593"/>
                </a:lnTo>
                <a:lnTo>
                  <a:pt x="1793" y="593"/>
                </a:lnTo>
                <a:lnTo>
                  <a:pt x="1793" y="593"/>
                </a:lnTo>
                <a:lnTo>
                  <a:pt x="1786" y="593"/>
                </a:lnTo>
                <a:lnTo>
                  <a:pt x="1786" y="593"/>
                </a:lnTo>
                <a:lnTo>
                  <a:pt x="1779" y="593"/>
                </a:lnTo>
                <a:lnTo>
                  <a:pt x="1779" y="593"/>
                </a:lnTo>
                <a:lnTo>
                  <a:pt x="1786" y="593"/>
                </a:lnTo>
                <a:lnTo>
                  <a:pt x="1786" y="593"/>
                </a:lnTo>
                <a:lnTo>
                  <a:pt x="1793" y="593"/>
                </a:lnTo>
                <a:lnTo>
                  <a:pt x="1800" y="593"/>
                </a:lnTo>
                <a:lnTo>
                  <a:pt x="1800" y="593"/>
                </a:lnTo>
                <a:lnTo>
                  <a:pt x="1800" y="593"/>
                </a:lnTo>
                <a:close/>
                <a:moveTo>
                  <a:pt x="1786" y="565"/>
                </a:moveTo>
                <a:lnTo>
                  <a:pt x="1786" y="551"/>
                </a:lnTo>
                <a:lnTo>
                  <a:pt x="1779" y="551"/>
                </a:lnTo>
                <a:lnTo>
                  <a:pt x="1765" y="545"/>
                </a:lnTo>
                <a:lnTo>
                  <a:pt x="1759" y="551"/>
                </a:lnTo>
                <a:lnTo>
                  <a:pt x="1752" y="558"/>
                </a:lnTo>
                <a:lnTo>
                  <a:pt x="1752" y="565"/>
                </a:lnTo>
                <a:lnTo>
                  <a:pt x="1752" y="579"/>
                </a:lnTo>
                <a:lnTo>
                  <a:pt x="1759" y="586"/>
                </a:lnTo>
                <a:lnTo>
                  <a:pt x="1765" y="593"/>
                </a:lnTo>
                <a:lnTo>
                  <a:pt x="1772" y="593"/>
                </a:lnTo>
                <a:lnTo>
                  <a:pt x="1779" y="593"/>
                </a:lnTo>
                <a:lnTo>
                  <a:pt x="1779" y="586"/>
                </a:lnTo>
                <a:lnTo>
                  <a:pt x="1786" y="572"/>
                </a:lnTo>
                <a:lnTo>
                  <a:pt x="1786" y="565"/>
                </a:lnTo>
                <a:close/>
                <a:moveTo>
                  <a:pt x="1834" y="565"/>
                </a:moveTo>
                <a:lnTo>
                  <a:pt x="1834" y="565"/>
                </a:lnTo>
                <a:lnTo>
                  <a:pt x="1834" y="565"/>
                </a:lnTo>
                <a:lnTo>
                  <a:pt x="1828" y="565"/>
                </a:lnTo>
                <a:lnTo>
                  <a:pt x="1828" y="565"/>
                </a:lnTo>
                <a:lnTo>
                  <a:pt x="1828" y="565"/>
                </a:lnTo>
                <a:lnTo>
                  <a:pt x="1828" y="565"/>
                </a:lnTo>
                <a:lnTo>
                  <a:pt x="1828" y="565"/>
                </a:lnTo>
                <a:lnTo>
                  <a:pt x="1828" y="565"/>
                </a:lnTo>
                <a:lnTo>
                  <a:pt x="1828" y="565"/>
                </a:lnTo>
                <a:lnTo>
                  <a:pt x="1828" y="565"/>
                </a:lnTo>
                <a:lnTo>
                  <a:pt x="1834" y="565"/>
                </a:lnTo>
                <a:lnTo>
                  <a:pt x="1834" y="565"/>
                </a:lnTo>
                <a:lnTo>
                  <a:pt x="1834" y="565"/>
                </a:lnTo>
                <a:lnTo>
                  <a:pt x="1834" y="565"/>
                </a:lnTo>
                <a:close/>
                <a:moveTo>
                  <a:pt x="1248" y="531"/>
                </a:moveTo>
                <a:lnTo>
                  <a:pt x="1248" y="531"/>
                </a:lnTo>
                <a:lnTo>
                  <a:pt x="1248" y="524"/>
                </a:lnTo>
                <a:lnTo>
                  <a:pt x="1241" y="517"/>
                </a:lnTo>
                <a:lnTo>
                  <a:pt x="1241" y="517"/>
                </a:lnTo>
                <a:lnTo>
                  <a:pt x="1241" y="510"/>
                </a:lnTo>
                <a:lnTo>
                  <a:pt x="1241" y="503"/>
                </a:lnTo>
                <a:lnTo>
                  <a:pt x="1241" y="496"/>
                </a:lnTo>
                <a:lnTo>
                  <a:pt x="1235" y="503"/>
                </a:lnTo>
                <a:lnTo>
                  <a:pt x="1235" y="510"/>
                </a:lnTo>
                <a:lnTo>
                  <a:pt x="1228" y="517"/>
                </a:lnTo>
                <a:lnTo>
                  <a:pt x="1221" y="524"/>
                </a:lnTo>
                <a:lnTo>
                  <a:pt x="1214" y="524"/>
                </a:lnTo>
                <a:lnTo>
                  <a:pt x="1207" y="531"/>
                </a:lnTo>
                <a:lnTo>
                  <a:pt x="1207" y="531"/>
                </a:lnTo>
                <a:lnTo>
                  <a:pt x="1214" y="538"/>
                </a:lnTo>
                <a:lnTo>
                  <a:pt x="1221" y="538"/>
                </a:lnTo>
                <a:lnTo>
                  <a:pt x="1235" y="545"/>
                </a:lnTo>
                <a:lnTo>
                  <a:pt x="1241" y="545"/>
                </a:lnTo>
                <a:lnTo>
                  <a:pt x="1241" y="538"/>
                </a:lnTo>
                <a:lnTo>
                  <a:pt x="1248" y="531"/>
                </a:lnTo>
                <a:close/>
                <a:moveTo>
                  <a:pt x="1455" y="531"/>
                </a:moveTo>
                <a:lnTo>
                  <a:pt x="1455" y="531"/>
                </a:lnTo>
                <a:lnTo>
                  <a:pt x="1455" y="524"/>
                </a:lnTo>
                <a:lnTo>
                  <a:pt x="1448" y="524"/>
                </a:lnTo>
                <a:lnTo>
                  <a:pt x="1448" y="524"/>
                </a:lnTo>
                <a:lnTo>
                  <a:pt x="1448" y="524"/>
                </a:lnTo>
                <a:lnTo>
                  <a:pt x="1448" y="524"/>
                </a:lnTo>
                <a:lnTo>
                  <a:pt x="1441" y="524"/>
                </a:lnTo>
                <a:lnTo>
                  <a:pt x="1441" y="531"/>
                </a:lnTo>
                <a:lnTo>
                  <a:pt x="1441" y="531"/>
                </a:lnTo>
                <a:lnTo>
                  <a:pt x="1441" y="538"/>
                </a:lnTo>
                <a:lnTo>
                  <a:pt x="1448" y="538"/>
                </a:lnTo>
                <a:lnTo>
                  <a:pt x="1448" y="538"/>
                </a:lnTo>
                <a:lnTo>
                  <a:pt x="1455" y="538"/>
                </a:lnTo>
                <a:lnTo>
                  <a:pt x="1455" y="531"/>
                </a:lnTo>
                <a:close/>
                <a:moveTo>
                  <a:pt x="1814" y="531"/>
                </a:moveTo>
                <a:lnTo>
                  <a:pt x="1807" y="524"/>
                </a:lnTo>
                <a:lnTo>
                  <a:pt x="1807" y="524"/>
                </a:lnTo>
                <a:lnTo>
                  <a:pt x="1800" y="524"/>
                </a:lnTo>
                <a:lnTo>
                  <a:pt x="1793" y="524"/>
                </a:lnTo>
                <a:lnTo>
                  <a:pt x="1786" y="531"/>
                </a:lnTo>
                <a:lnTo>
                  <a:pt x="1786" y="531"/>
                </a:lnTo>
                <a:lnTo>
                  <a:pt x="1786" y="538"/>
                </a:lnTo>
                <a:lnTo>
                  <a:pt x="1786" y="545"/>
                </a:lnTo>
                <a:lnTo>
                  <a:pt x="1793" y="551"/>
                </a:lnTo>
                <a:lnTo>
                  <a:pt x="1800" y="551"/>
                </a:lnTo>
                <a:lnTo>
                  <a:pt x="1807" y="551"/>
                </a:lnTo>
                <a:lnTo>
                  <a:pt x="1807" y="545"/>
                </a:lnTo>
                <a:lnTo>
                  <a:pt x="1807" y="545"/>
                </a:lnTo>
                <a:lnTo>
                  <a:pt x="1814" y="531"/>
                </a:lnTo>
                <a:close/>
                <a:moveTo>
                  <a:pt x="1924" y="531"/>
                </a:moveTo>
                <a:lnTo>
                  <a:pt x="1924" y="531"/>
                </a:lnTo>
                <a:lnTo>
                  <a:pt x="1917" y="531"/>
                </a:lnTo>
                <a:lnTo>
                  <a:pt x="1917" y="531"/>
                </a:lnTo>
                <a:lnTo>
                  <a:pt x="1910" y="531"/>
                </a:lnTo>
                <a:lnTo>
                  <a:pt x="1910" y="531"/>
                </a:lnTo>
                <a:lnTo>
                  <a:pt x="1910" y="531"/>
                </a:lnTo>
                <a:lnTo>
                  <a:pt x="1910" y="531"/>
                </a:lnTo>
                <a:lnTo>
                  <a:pt x="1910" y="538"/>
                </a:lnTo>
                <a:lnTo>
                  <a:pt x="1910" y="538"/>
                </a:lnTo>
                <a:lnTo>
                  <a:pt x="1910" y="538"/>
                </a:lnTo>
                <a:lnTo>
                  <a:pt x="1917" y="538"/>
                </a:lnTo>
                <a:lnTo>
                  <a:pt x="1917" y="538"/>
                </a:lnTo>
                <a:lnTo>
                  <a:pt x="1924" y="538"/>
                </a:lnTo>
                <a:lnTo>
                  <a:pt x="1924" y="531"/>
                </a:lnTo>
                <a:close/>
                <a:moveTo>
                  <a:pt x="1510" y="503"/>
                </a:moveTo>
                <a:lnTo>
                  <a:pt x="1517" y="496"/>
                </a:lnTo>
                <a:lnTo>
                  <a:pt x="1517" y="496"/>
                </a:lnTo>
                <a:lnTo>
                  <a:pt x="1524" y="489"/>
                </a:lnTo>
                <a:lnTo>
                  <a:pt x="1531" y="483"/>
                </a:lnTo>
                <a:lnTo>
                  <a:pt x="1538" y="476"/>
                </a:lnTo>
                <a:lnTo>
                  <a:pt x="1545" y="476"/>
                </a:lnTo>
                <a:lnTo>
                  <a:pt x="1545" y="469"/>
                </a:lnTo>
                <a:lnTo>
                  <a:pt x="1545" y="462"/>
                </a:lnTo>
                <a:lnTo>
                  <a:pt x="1538" y="455"/>
                </a:lnTo>
                <a:lnTo>
                  <a:pt x="1531" y="455"/>
                </a:lnTo>
                <a:lnTo>
                  <a:pt x="1524" y="455"/>
                </a:lnTo>
                <a:lnTo>
                  <a:pt x="1510" y="455"/>
                </a:lnTo>
                <a:lnTo>
                  <a:pt x="1503" y="455"/>
                </a:lnTo>
                <a:lnTo>
                  <a:pt x="1490" y="455"/>
                </a:lnTo>
                <a:lnTo>
                  <a:pt x="1483" y="455"/>
                </a:lnTo>
                <a:lnTo>
                  <a:pt x="1476" y="462"/>
                </a:lnTo>
                <a:lnTo>
                  <a:pt x="1469" y="462"/>
                </a:lnTo>
                <a:lnTo>
                  <a:pt x="1462" y="469"/>
                </a:lnTo>
                <a:lnTo>
                  <a:pt x="1462" y="476"/>
                </a:lnTo>
                <a:lnTo>
                  <a:pt x="1455" y="483"/>
                </a:lnTo>
                <a:lnTo>
                  <a:pt x="1455" y="489"/>
                </a:lnTo>
                <a:lnTo>
                  <a:pt x="1455" y="489"/>
                </a:lnTo>
                <a:lnTo>
                  <a:pt x="1455" y="496"/>
                </a:lnTo>
                <a:lnTo>
                  <a:pt x="1462" y="503"/>
                </a:lnTo>
                <a:lnTo>
                  <a:pt x="1462" y="510"/>
                </a:lnTo>
                <a:lnTo>
                  <a:pt x="1469" y="517"/>
                </a:lnTo>
                <a:lnTo>
                  <a:pt x="1476" y="517"/>
                </a:lnTo>
                <a:lnTo>
                  <a:pt x="1483" y="517"/>
                </a:lnTo>
                <a:lnTo>
                  <a:pt x="1497" y="517"/>
                </a:lnTo>
                <a:lnTo>
                  <a:pt x="1503" y="517"/>
                </a:lnTo>
                <a:lnTo>
                  <a:pt x="1510" y="510"/>
                </a:lnTo>
                <a:lnTo>
                  <a:pt x="1510" y="503"/>
                </a:lnTo>
                <a:close/>
                <a:moveTo>
                  <a:pt x="1848" y="503"/>
                </a:moveTo>
                <a:lnTo>
                  <a:pt x="1841" y="496"/>
                </a:lnTo>
                <a:lnTo>
                  <a:pt x="1834" y="496"/>
                </a:lnTo>
                <a:lnTo>
                  <a:pt x="1834" y="496"/>
                </a:lnTo>
                <a:lnTo>
                  <a:pt x="1828" y="496"/>
                </a:lnTo>
                <a:lnTo>
                  <a:pt x="1821" y="496"/>
                </a:lnTo>
                <a:lnTo>
                  <a:pt x="1821" y="503"/>
                </a:lnTo>
                <a:lnTo>
                  <a:pt x="1821" y="503"/>
                </a:lnTo>
                <a:lnTo>
                  <a:pt x="1821" y="510"/>
                </a:lnTo>
                <a:lnTo>
                  <a:pt x="1828" y="510"/>
                </a:lnTo>
                <a:lnTo>
                  <a:pt x="1828" y="517"/>
                </a:lnTo>
                <a:lnTo>
                  <a:pt x="1834" y="517"/>
                </a:lnTo>
                <a:lnTo>
                  <a:pt x="1841" y="510"/>
                </a:lnTo>
                <a:lnTo>
                  <a:pt x="1841" y="510"/>
                </a:lnTo>
                <a:lnTo>
                  <a:pt x="1848" y="503"/>
                </a:lnTo>
                <a:close/>
                <a:moveTo>
                  <a:pt x="1386" y="476"/>
                </a:moveTo>
                <a:lnTo>
                  <a:pt x="1386" y="476"/>
                </a:lnTo>
                <a:lnTo>
                  <a:pt x="1386" y="476"/>
                </a:lnTo>
                <a:lnTo>
                  <a:pt x="1386" y="476"/>
                </a:lnTo>
                <a:lnTo>
                  <a:pt x="1386" y="476"/>
                </a:lnTo>
                <a:lnTo>
                  <a:pt x="1386" y="476"/>
                </a:lnTo>
                <a:lnTo>
                  <a:pt x="1386" y="476"/>
                </a:lnTo>
                <a:lnTo>
                  <a:pt x="1386" y="476"/>
                </a:lnTo>
                <a:lnTo>
                  <a:pt x="1386" y="476"/>
                </a:lnTo>
                <a:lnTo>
                  <a:pt x="1386" y="476"/>
                </a:lnTo>
                <a:lnTo>
                  <a:pt x="1386" y="476"/>
                </a:lnTo>
                <a:lnTo>
                  <a:pt x="1386" y="476"/>
                </a:lnTo>
                <a:lnTo>
                  <a:pt x="1386" y="476"/>
                </a:lnTo>
                <a:lnTo>
                  <a:pt x="1386" y="476"/>
                </a:lnTo>
                <a:lnTo>
                  <a:pt x="1386" y="476"/>
                </a:lnTo>
                <a:close/>
                <a:moveTo>
                  <a:pt x="1807" y="476"/>
                </a:moveTo>
                <a:lnTo>
                  <a:pt x="1807" y="469"/>
                </a:lnTo>
                <a:lnTo>
                  <a:pt x="1800" y="469"/>
                </a:lnTo>
                <a:lnTo>
                  <a:pt x="1800" y="469"/>
                </a:lnTo>
                <a:lnTo>
                  <a:pt x="1800" y="469"/>
                </a:lnTo>
                <a:lnTo>
                  <a:pt x="1800" y="469"/>
                </a:lnTo>
                <a:lnTo>
                  <a:pt x="1793" y="476"/>
                </a:lnTo>
                <a:lnTo>
                  <a:pt x="1793" y="476"/>
                </a:lnTo>
                <a:lnTo>
                  <a:pt x="1800" y="483"/>
                </a:lnTo>
                <a:lnTo>
                  <a:pt x="1800" y="483"/>
                </a:lnTo>
                <a:lnTo>
                  <a:pt x="1800" y="483"/>
                </a:lnTo>
                <a:lnTo>
                  <a:pt x="1800" y="483"/>
                </a:lnTo>
                <a:lnTo>
                  <a:pt x="1807" y="483"/>
                </a:lnTo>
                <a:lnTo>
                  <a:pt x="1807" y="476"/>
                </a:lnTo>
                <a:lnTo>
                  <a:pt x="1807" y="476"/>
                </a:lnTo>
                <a:close/>
                <a:moveTo>
                  <a:pt x="1952" y="448"/>
                </a:moveTo>
                <a:lnTo>
                  <a:pt x="1952" y="441"/>
                </a:lnTo>
                <a:lnTo>
                  <a:pt x="1945" y="441"/>
                </a:lnTo>
                <a:lnTo>
                  <a:pt x="1938" y="441"/>
                </a:lnTo>
                <a:lnTo>
                  <a:pt x="1938" y="441"/>
                </a:lnTo>
                <a:lnTo>
                  <a:pt x="1931" y="441"/>
                </a:lnTo>
                <a:lnTo>
                  <a:pt x="1924" y="441"/>
                </a:lnTo>
                <a:lnTo>
                  <a:pt x="1917" y="441"/>
                </a:lnTo>
                <a:lnTo>
                  <a:pt x="1917" y="448"/>
                </a:lnTo>
                <a:lnTo>
                  <a:pt x="1924" y="448"/>
                </a:lnTo>
                <a:lnTo>
                  <a:pt x="1931" y="448"/>
                </a:lnTo>
                <a:lnTo>
                  <a:pt x="1931" y="455"/>
                </a:lnTo>
                <a:lnTo>
                  <a:pt x="1938" y="455"/>
                </a:lnTo>
                <a:lnTo>
                  <a:pt x="1945" y="462"/>
                </a:lnTo>
                <a:lnTo>
                  <a:pt x="1945" y="462"/>
                </a:lnTo>
                <a:lnTo>
                  <a:pt x="1945" y="462"/>
                </a:lnTo>
                <a:lnTo>
                  <a:pt x="1952" y="462"/>
                </a:lnTo>
                <a:lnTo>
                  <a:pt x="1952" y="462"/>
                </a:lnTo>
                <a:lnTo>
                  <a:pt x="1952" y="455"/>
                </a:lnTo>
                <a:lnTo>
                  <a:pt x="1952" y="448"/>
                </a:lnTo>
                <a:lnTo>
                  <a:pt x="1952" y="448"/>
                </a:lnTo>
                <a:close/>
                <a:moveTo>
                  <a:pt x="221" y="414"/>
                </a:moveTo>
                <a:lnTo>
                  <a:pt x="207" y="414"/>
                </a:lnTo>
                <a:lnTo>
                  <a:pt x="207" y="434"/>
                </a:lnTo>
                <a:lnTo>
                  <a:pt x="221" y="414"/>
                </a:lnTo>
                <a:close/>
                <a:moveTo>
                  <a:pt x="1779" y="414"/>
                </a:moveTo>
                <a:lnTo>
                  <a:pt x="1772" y="414"/>
                </a:lnTo>
                <a:lnTo>
                  <a:pt x="1772" y="414"/>
                </a:lnTo>
                <a:lnTo>
                  <a:pt x="1772" y="414"/>
                </a:lnTo>
                <a:lnTo>
                  <a:pt x="1765" y="414"/>
                </a:lnTo>
                <a:lnTo>
                  <a:pt x="1765" y="414"/>
                </a:lnTo>
                <a:lnTo>
                  <a:pt x="1765" y="421"/>
                </a:lnTo>
                <a:lnTo>
                  <a:pt x="1765" y="421"/>
                </a:lnTo>
                <a:lnTo>
                  <a:pt x="1772" y="427"/>
                </a:lnTo>
                <a:lnTo>
                  <a:pt x="1772" y="427"/>
                </a:lnTo>
                <a:lnTo>
                  <a:pt x="1772" y="427"/>
                </a:lnTo>
                <a:lnTo>
                  <a:pt x="1772" y="427"/>
                </a:lnTo>
                <a:lnTo>
                  <a:pt x="1772" y="421"/>
                </a:lnTo>
                <a:lnTo>
                  <a:pt x="1779" y="421"/>
                </a:lnTo>
                <a:lnTo>
                  <a:pt x="1779" y="414"/>
                </a:lnTo>
                <a:close/>
                <a:moveTo>
                  <a:pt x="1076" y="324"/>
                </a:moveTo>
                <a:lnTo>
                  <a:pt x="1076" y="324"/>
                </a:lnTo>
                <a:lnTo>
                  <a:pt x="1083" y="317"/>
                </a:lnTo>
                <a:lnTo>
                  <a:pt x="1090" y="310"/>
                </a:lnTo>
                <a:lnTo>
                  <a:pt x="1097" y="310"/>
                </a:lnTo>
                <a:lnTo>
                  <a:pt x="1104" y="303"/>
                </a:lnTo>
                <a:lnTo>
                  <a:pt x="1110" y="297"/>
                </a:lnTo>
                <a:lnTo>
                  <a:pt x="1117" y="297"/>
                </a:lnTo>
                <a:lnTo>
                  <a:pt x="1124" y="297"/>
                </a:lnTo>
                <a:lnTo>
                  <a:pt x="1138" y="297"/>
                </a:lnTo>
                <a:lnTo>
                  <a:pt x="1145" y="297"/>
                </a:lnTo>
                <a:lnTo>
                  <a:pt x="1152" y="297"/>
                </a:lnTo>
                <a:lnTo>
                  <a:pt x="1159" y="290"/>
                </a:lnTo>
                <a:lnTo>
                  <a:pt x="1159" y="283"/>
                </a:lnTo>
                <a:lnTo>
                  <a:pt x="1166" y="283"/>
                </a:lnTo>
                <a:lnTo>
                  <a:pt x="1172" y="276"/>
                </a:lnTo>
                <a:lnTo>
                  <a:pt x="1179" y="276"/>
                </a:lnTo>
                <a:lnTo>
                  <a:pt x="1186" y="269"/>
                </a:lnTo>
                <a:lnTo>
                  <a:pt x="1200" y="269"/>
                </a:lnTo>
                <a:lnTo>
                  <a:pt x="1207" y="269"/>
                </a:lnTo>
                <a:lnTo>
                  <a:pt x="1214" y="269"/>
                </a:lnTo>
                <a:lnTo>
                  <a:pt x="1221" y="262"/>
                </a:lnTo>
                <a:lnTo>
                  <a:pt x="1221" y="255"/>
                </a:lnTo>
                <a:lnTo>
                  <a:pt x="1228" y="248"/>
                </a:lnTo>
                <a:lnTo>
                  <a:pt x="1228" y="241"/>
                </a:lnTo>
                <a:lnTo>
                  <a:pt x="1235" y="241"/>
                </a:lnTo>
                <a:lnTo>
                  <a:pt x="1241" y="235"/>
                </a:lnTo>
                <a:lnTo>
                  <a:pt x="1248" y="235"/>
                </a:lnTo>
                <a:lnTo>
                  <a:pt x="1255" y="228"/>
                </a:lnTo>
                <a:lnTo>
                  <a:pt x="1262" y="221"/>
                </a:lnTo>
                <a:lnTo>
                  <a:pt x="1269" y="221"/>
                </a:lnTo>
                <a:lnTo>
                  <a:pt x="1276" y="221"/>
                </a:lnTo>
                <a:lnTo>
                  <a:pt x="1290" y="221"/>
                </a:lnTo>
                <a:lnTo>
                  <a:pt x="1297" y="221"/>
                </a:lnTo>
                <a:lnTo>
                  <a:pt x="1303" y="221"/>
                </a:lnTo>
                <a:lnTo>
                  <a:pt x="1303" y="214"/>
                </a:lnTo>
                <a:lnTo>
                  <a:pt x="1303" y="207"/>
                </a:lnTo>
                <a:lnTo>
                  <a:pt x="1303" y="200"/>
                </a:lnTo>
                <a:lnTo>
                  <a:pt x="1310" y="193"/>
                </a:lnTo>
                <a:lnTo>
                  <a:pt x="1317" y="186"/>
                </a:lnTo>
                <a:lnTo>
                  <a:pt x="1324" y="186"/>
                </a:lnTo>
                <a:lnTo>
                  <a:pt x="1331" y="179"/>
                </a:lnTo>
                <a:lnTo>
                  <a:pt x="1338" y="179"/>
                </a:lnTo>
                <a:lnTo>
                  <a:pt x="1352" y="179"/>
                </a:lnTo>
                <a:lnTo>
                  <a:pt x="1352" y="179"/>
                </a:lnTo>
                <a:lnTo>
                  <a:pt x="1359" y="173"/>
                </a:lnTo>
                <a:lnTo>
                  <a:pt x="1352" y="166"/>
                </a:lnTo>
                <a:lnTo>
                  <a:pt x="1345" y="159"/>
                </a:lnTo>
                <a:lnTo>
                  <a:pt x="1338" y="152"/>
                </a:lnTo>
                <a:lnTo>
                  <a:pt x="1331" y="152"/>
                </a:lnTo>
                <a:lnTo>
                  <a:pt x="1324" y="152"/>
                </a:lnTo>
                <a:lnTo>
                  <a:pt x="1317" y="152"/>
                </a:lnTo>
                <a:lnTo>
                  <a:pt x="1310" y="159"/>
                </a:lnTo>
                <a:lnTo>
                  <a:pt x="1303" y="159"/>
                </a:lnTo>
                <a:lnTo>
                  <a:pt x="1297" y="166"/>
                </a:lnTo>
                <a:lnTo>
                  <a:pt x="1290" y="166"/>
                </a:lnTo>
                <a:lnTo>
                  <a:pt x="1276" y="173"/>
                </a:lnTo>
                <a:lnTo>
                  <a:pt x="1269" y="173"/>
                </a:lnTo>
                <a:lnTo>
                  <a:pt x="1262" y="173"/>
                </a:lnTo>
                <a:lnTo>
                  <a:pt x="1248" y="173"/>
                </a:lnTo>
                <a:lnTo>
                  <a:pt x="1241" y="173"/>
                </a:lnTo>
                <a:lnTo>
                  <a:pt x="1235" y="179"/>
                </a:lnTo>
                <a:lnTo>
                  <a:pt x="1235" y="179"/>
                </a:lnTo>
                <a:lnTo>
                  <a:pt x="1228" y="186"/>
                </a:lnTo>
                <a:lnTo>
                  <a:pt x="1221" y="186"/>
                </a:lnTo>
                <a:lnTo>
                  <a:pt x="1214" y="193"/>
                </a:lnTo>
                <a:lnTo>
                  <a:pt x="1200" y="193"/>
                </a:lnTo>
                <a:lnTo>
                  <a:pt x="1193" y="200"/>
                </a:lnTo>
                <a:lnTo>
                  <a:pt x="1186" y="200"/>
                </a:lnTo>
                <a:lnTo>
                  <a:pt x="1179" y="200"/>
                </a:lnTo>
                <a:lnTo>
                  <a:pt x="1166" y="200"/>
                </a:lnTo>
                <a:lnTo>
                  <a:pt x="1159" y="200"/>
                </a:lnTo>
                <a:lnTo>
                  <a:pt x="1152" y="200"/>
                </a:lnTo>
                <a:lnTo>
                  <a:pt x="1152" y="207"/>
                </a:lnTo>
                <a:lnTo>
                  <a:pt x="1152" y="214"/>
                </a:lnTo>
                <a:lnTo>
                  <a:pt x="1152" y="221"/>
                </a:lnTo>
                <a:lnTo>
                  <a:pt x="1152" y="228"/>
                </a:lnTo>
                <a:lnTo>
                  <a:pt x="1159" y="228"/>
                </a:lnTo>
                <a:lnTo>
                  <a:pt x="1159" y="235"/>
                </a:lnTo>
                <a:lnTo>
                  <a:pt x="1159" y="241"/>
                </a:lnTo>
                <a:lnTo>
                  <a:pt x="1152" y="248"/>
                </a:lnTo>
                <a:lnTo>
                  <a:pt x="1145" y="248"/>
                </a:lnTo>
                <a:lnTo>
                  <a:pt x="1138" y="255"/>
                </a:lnTo>
                <a:lnTo>
                  <a:pt x="1131" y="255"/>
                </a:lnTo>
                <a:lnTo>
                  <a:pt x="1124" y="262"/>
                </a:lnTo>
                <a:lnTo>
                  <a:pt x="1117" y="262"/>
                </a:lnTo>
                <a:lnTo>
                  <a:pt x="1110" y="269"/>
                </a:lnTo>
                <a:lnTo>
                  <a:pt x="1104" y="269"/>
                </a:lnTo>
                <a:lnTo>
                  <a:pt x="1097" y="276"/>
                </a:lnTo>
                <a:lnTo>
                  <a:pt x="1090" y="276"/>
                </a:lnTo>
                <a:lnTo>
                  <a:pt x="1083" y="283"/>
                </a:lnTo>
                <a:lnTo>
                  <a:pt x="1076" y="283"/>
                </a:lnTo>
                <a:lnTo>
                  <a:pt x="1069" y="290"/>
                </a:lnTo>
                <a:lnTo>
                  <a:pt x="1062" y="290"/>
                </a:lnTo>
                <a:lnTo>
                  <a:pt x="1055" y="297"/>
                </a:lnTo>
                <a:lnTo>
                  <a:pt x="1048" y="303"/>
                </a:lnTo>
                <a:lnTo>
                  <a:pt x="1041" y="303"/>
                </a:lnTo>
                <a:lnTo>
                  <a:pt x="1035" y="310"/>
                </a:lnTo>
                <a:lnTo>
                  <a:pt x="1035" y="317"/>
                </a:lnTo>
                <a:lnTo>
                  <a:pt x="1035" y="324"/>
                </a:lnTo>
                <a:lnTo>
                  <a:pt x="1041" y="331"/>
                </a:lnTo>
                <a:lnTo>
                  <a:pt x="1048" y="331"/>
                </a:lnTo>
                <a:lnTo>
                  <a:pt x="1062" y="331"/>
                </a:lnTo>
                <a:lnTo>
                  <a:pt x="1069" y="331"/>
                </a:lnTo>
                <a:lnTo>
                  <a:pt x="1076" y="324"/>
                </a:lnTo>
                <a:close/>
                <a:moveTo>
                  <a:pt x="2427" y="179"/>
                </a:moveTo>
                <a:lnTo>
                  <a:pt x="2420" y="173"/>
                </a:lnTo>
                <a:lnTo>
                  <a:pt x="2414" y="173"/>
                </a:lnTo>
                <a:lnTo>
                  <a:pt x="2414" y="173"/>
                </a:lnTo>
                <a:lnTo>
                  <a:pt x="2407" y="173"/>
                </a:lnTo>
                <a:lnTo>
                  <a:pt x="2400" y="173"/>
                </a:lnTo>
                <a:lnTo>
                  <a:pt x="2393" y="166"/>
                </a:lnTo>
                <a:lnTo>
                  <a:pt x="2386" y="166"/>
                </a:lnTo>
                <a:lnTo>
                  <a:pt x="2379" y="166"/>
                </a:lnTo>
                <a:lnTo>
                  <a:pt x="2372" y="166"/>
                </a:lnTo>
                <a:lnTo>
                  <a:pt x="2365" y="166"/>
                </a:lnTo>
                <a:lnTo>
                  <a:pt x="2365" y="166"/>
                </a:lnTo>
                <a:lnTo>
                  <a:pt x="2358" y="166"/>
                </a:lnTo>
                <a:lnTo>
                  <a:pt x="2358" y="173"/>
                </a:lnTo>
                <a:lnTo>
                  <a:pt x="2358" y="179"/>
                </a:lnTo>
                <a:lnTo>
                  <a:pt x="2358" y="179"/>
                </a:lnTo>
                <a:lnTo>
                  <a:pt x="2365" y="186"/>
                </a:lnTo>
                <a:lnTo>
                  <a:pt x="2372" y="186"/>
                </a:lnTo>
                <a:lnTo>
                  <a:pt x="2379" y="186"/>
                </a:lnTo>
                <a:lnTo>
                  <a:pt x="2386" y="186"/>
                </a:lnTo>
                <a:lnTo>
                  <a:pt x="2393" y="186"/>
                </a:lnTo>
                <a:lnTo>
                  <a:pt x="2400" y="186"/>
                </a:lnTo>
                <a:lnTo>
                  <a:pt x="2400" y="179"/>
                </a:lnTo>
                <a:lnTo>
                  <a:pt x="2407" y="179"/>
                </a:lnTo>
                <a:lnTo>
                  <a:pt x="2414" y="179"/>
                </a:lnTo>
                <a:lnTo>
                  <a:pt x="2420" y="179"/>
                </a:lnTo>
                <a:lnTo>
                  <a:pt x="2427" y="179"/>
                </a:lnTo>
                <a:close/>
                <a:moveTo>
                  <a:pt x="1421" y="145"/>
                </a:moveTo>
                <a:lnTo>
                  <a:pt x="1421" y="138"/>
                </a:lnTo>
                <a:lnTo>
                  <a:pt x="1421" y="138"/>
                </a:lnTo>
                <a:lnTo>
                  <a:pt x="1414" y="131"/>
                </a:lnTo>
                <a:lnTo>
                  <a:pt x="1400" y="138"/>
                </a:lnTo>
                <a:lnTo>
                  <a:pt x="1393" y="138"/>
                </a:lnTo>
                <a:lnTo>
                  <a:pt x="1379" y="138"/>
                </a:lnTo>
                <a:lnTo>
                  <a:pt x="1372" y="138"/>
                </a:lnTo>
                <a:lnTo>
                  <a:pt x="1366" y="138"/>
                </a:lnTo>
                <a:lnTo>
                  <a:pt x="1359" y="138"/>
                </a:lnTo>
                <a:lnTo>
                  <a:pt x="1345" y="145"/>
                </a:lnTo>
                <a:lnTo>
                  <a:pt x="1338" y="145"/>
                </a:lnTo>
                <a:lnTo>
                  <a:pt x="1331" y="145"/>
                </a:lnTo>
                <a:lnTo>
                  <a:pt x="1331" y="152"/>
                </a:lnTo>
                <a:lnTo>
                  <a:pt x="1331" y="159"/>
                </a:lnTo>
                <a:lnTo>
                  <a:pt x="1338" y="166"/>
                </a:lnTo>
                <a:lnTo>
                  <a:pt x="1345" y="166"/>
                </a:lnTo>
                <a:lnTo>
                  <a:pt x="1359" y="173"/>
                </a:lnTo>
                <a:lnTo>
                  <a:pt x="1366" y="173"/>
                </a:lnTo>
                <a:lnTo>
                  <a:pt x="1379" y="173"/>
                </a:lnTo>
                <a:lnTo>
                  <a:pt x="1386" y="173"/>
                </a:lnTo>
                <a:lnTo>
                  <a:pt x="1393" y="173"/>
                </a:lnTo>
                <a:lnTo>
                  <a:pt x="1400" y="166"/>
                </a:lnTo>
                <a:lnTo>
                  <a:pt x="1400" y="159"/>
                </a:lnTo>
                <a:lnTo>
                  <a:pt x="1407" y="159"/>
                </a:lnTo>
                <a:lnTo>
                  <a:pt x="1414" y="152"/>
                </a:lnTo>
                <a:lnTo>
                  <a:pt x="1421" y="145"/>
                </a:lnTo>
                <a:close/>
                <a:moveTo>
                  <a:pt x="2289" y="145"/>
                </a:moveTo>
                <a:lnTo>
                  <a:pt x="2283" y="145"/>
                </a:lnTo>
                <a:lnTo>
                  <a:pt x="2283" y="145"/>
                </a:lnTo>
                <a:lnTo>
                  <a:pt x="2283" y="145"/>
                </a:lnTo>
                <a:lnTo>
                  <a:pt x="2276" y="145"/>
                </a:lnTo>
                <a:lnTo>
                  <a:pt x="2276" y="145"/>
                </a:lnTo>
                <a:lnTo>
                  <a:pt x="2269" y="145"/>
                </a:lnTo>
                <a:lnTo>
                  <a:pt x="2269" y="145"/>
                </a:lnTo>
                <a:lnTo>
                  <a:pt x="2269" y="145"/>
                </a:lnTo>
                <a:lnTo>
                  <a:pt x="2276" y="152"/>
                </a:lnTo>
                <a:lnTo>
                  <a:pt x="2276" y="152"/>
                </a:lnTo>
                <a:lnTo>
                  <a:pt x="2283" y="152"/>
                </a:lnTo>
                <a:lnTo>
                  <a:pt x="2283" y="152"/>
                </a:lnTo>
                <a:lnTo>
                  <a:pt x="2289" y="145"/>
                </a:lnTo>
                <a:lnTo>
                  <a:pt x="2289" y="145"/>
                </a:lnTo>
                <a:close/>
                <a:moveTo>
                  <a:pt x="1490" y="117"/>
                </a:moveTo>
                <a:lnTo>
                  <a:pt x="1483" y="117"/>
                </a:lnTo>
                <a:lnTo>
                  <a:pt x="1476" y="117"/>
                </a:lnTo>
                <a:lnTo>
                  <a:pt x="1476" y="111"/>
                </a:lnTo>
                <a:lnTo>
                  <a:pt x="1469" y="111"/>
                </a:lnTo>
                <a:lnTo>
                  <a:pt x="1462" y="111"/>
                </a:lnTo>
                <a:lnTo>
                  <a:pt x="1455" y="104"/>
                </a:lnTo>
                <a:lnTo>
                  <a:pt x="1448" y="104"/>
                </a:lnTo>
                <a:lnTo>
                  <a:pt x="1441" y="111"/>
                </a:lnTo>
                <a:lnTo>
                  <a:pt x="1434" y="111"/>
                </a:lnTo>
                <a:lnTo>
                  <a:pt x="1434" y="117"/>
                </a:lnTo>
                <a:lnTo>
                  <a:pt x="1434" y="117"/>
                </a:lnTo>
                <a:lnTo>
                  <a:pt x="1441" y="124"/>
                </a:lnTo>
                <a:lnTo>
                  <a:pt x="1448" y="124"/>
                </a:lnTo>
                <a:lnTo>
                  <a:pt x="1455" y="124"/>
                </a:lnTo>
                <a:lnTo>
                  <a:pt x="1462" y="124"/>
                </a:lnTo>
                <a:lnTo>
                  <a:pt x="1469" y="124"/>
                </a:lnTo>
                <a:lnTo>
                  <a:pt x="1476" y="124"/>
                </a:lnTo>
                <a:lnTo>
                  <a:pt x="1483" y="124"/>
                </a:lnTo>
                <a:lnTo>
                  <a:pt x="1483" y="124"/>
                </a:lnTo>
                <a:lnTo>
                  <a:pt x="1490" y="117"/>
                </a:lnTo>
                <a:close/>
                <a:moveTo>
                  <a:pt x="2483" y="1840"/>
                </a:moveTo>
                <a:lnTo>
                  <a:pt x="2510" y="1812"/>
                </a:lnTo>
                <a:lnTo>
                  <a:pt x="2538" y="1812"/>
                </a:lnTo>
                <a:lnTo>
                  <a:pt x="2565" y="1812"/>
                </a:lnTo>
                <a:lnTo>
                  <a:pt x="2600" y="1812"/>
                </a:lnTo>
                <a:lnTo>
                  <a:pt x="2627" y="1812"/>
                </a:lnTo>
                <a:lnTo>
                  <a:pt x="2655" y="1812"/>
                </a:lnTo>
                <a:lnTo>
                  <a:pt x="2689" y="1812"/>
                </a:lnTo>
                <a:lnTo>
                  <a:pt x="2717" y="1778"/>
                </a:lnTo>
                <a:lnTo>
                  <a:pt x="2717" y="1750"/>
                </a:lnTo>
                <a:lnTo>
                  <a:pt x="2717" y="1722"/>
                </a:lnTo>
                <a:lnTo>
                  <a:pt x="2717" y="1688"/>
                </a:lnTo>
                <a:lnTo>
                  <a:pt x="2745" y="1660"/>
                </a:lnTo>
                <a:lnTo>
                  <a:pt x="2745" y="1633"/>
                </a:lnTo>
                <a:lnTo>
                  <a:pt x="2745" y="1599"/>
                </a:lnTo>
                <a:lnTo>
                  <a:pt x="2745" y="1571"/>
                </a:lnTo>
                <a:lnTo>
                  <a:pt x="2772" y="1543"/>
                </a:lnTo>
                <a:lnTo>
                  <a:pt x="2772" y="1516"/>
                </a:lnTo>
                <a:lnTo>
                  <a:pt x="2772" y="1481"/>
                </a:lnTo>
                <a:lnTo>
                  <a:pt x="2772" y="1454"/>
                </a:lnTo>
                <a:lnTo>
                  <a:pt x="2807" y="1426"/>
                </a:lnTo>
                <a:lnTo>
                  <a:pt x="2807" y="1392"/>
                </a:lnTo>
                <a:lnTo>
                  <a:pt x="2807" y="1364"/>
                </a:lnTo>
                <a:lnTo>
                  <a:pt x="2807" y="1337"/>
                </a:lnTo>
                <a:lnTo>
                  <a:pt x="2834" y="1302"/>
                </a:lnTo>
                <a:lnTo>
                  <a:pt x="2834" y="1275"/>
                </a:lnTo>
                <a:lnTo>
                  <a:pt x="2834" y="1247"/>
                </a:lnTo>
                <a:lnTo>
                  <a:pt x="2834" y="1213"/>
                </a:lnTo>
                <a:lnTo>
                  <a:pt x="2862" y="1185"/>
                </a:lnTo>
                <a:lnTo>
                  <a:pt x="2862" y="1158"/>
                </a:lnTo>
                <a:lnTo>
                  <a:pt x="2862" y="1130"/>
                </a:lnTo>
                <a:lnTo>
                  <a:pt x="2862" y="1096"/>
                </a:lnTo>
                <a:lnTo>
                  <a:pt x="2862" y="1068"/>
                </a:lnTo>
                <a:lnTo>
                  <a:pt x="2862" y="1041"/>
                </a:lnTo>
                <a:lnTo>
                  <a:pt x="2862" y="1006"/>
                </a:lnTo>
                <a:lnTo>
                  <a:pt x="2862" y="979"/>
                </a:lnTo>
                <a:lnTo>
                  <a:pt x="2862" y="951"/>
                </a:lnTo>
                <a:lnTo>
                  <a:pt x="2862" y="917"/>
                </a:lnTo>
                <a:lnTo>
                  <a:pt x="2862" y="889"/>
                </a:lnTo>
                <a:lnTo>
                  <a:pt x="2862" y="861"/>
                </a:lnTo>
                <a:lnTo>
                  <a:pt x="2862" y="827"/>
                </a:lnTo>
                <a:lnTo>
                  <a:pt x="2862" y="799"/>
                </a:lnTo>
                <a:lnTo>
                  <a:pt x="2862" y="772"/>
                </a:lnTo>
                <a:lnTo>
                  <a:pt x="2862" y="744"/>
                </a:lnTo>
                <a:lnTo>
                  <a:pt x="2862" y="710"/>
                </a:lnTo>
                <a:lnTo>
                  <a:pt x="2862" y="682"/>
                </a:lnTo>
                <a:lnTo>
                  <a:pt x="2862" y="655"/>
                </a:lnTo>
                <a:lnTo>
                  <a:pt x="2862" y="620"/>
                </a:lnTo>
                <a:lnTo>
                  <a:pt x="2862" y="593"/>
                </a:lnTo>
                <a:lnTo>
                  <a:pt x="2862" y="565"/>
                </a:lnTo>
                <a:lnTo>
                  <a:pt x="2862" y="531"/>
                </a:lnTo>
                <a:lnTo>
                  <a:pt x="2862" y="503"/>
                </a:lnTo>
                <a:lnTo>
                  <a:pt x="2862" y="476"/>
                </a:lnTo>
                <a:lnTo>
                  <a:pt x="2862" y="448"/>
                </a:lnTo>
                <a:lnTo>
                  <a:pt x="2862" y="414"/>
                </a:lnTo>
                <a:lnTo>
                  <a:pt x="2862" y="386"/>
                </a:lnTo>
                <a:lnTo>
                  <a:pt x="2862" y="359"/>
                </a:lnTo>
                <a:lnTo>
                  <a:pt x="2862" y="324"/>
                </a:lnTo>
                <a:lnTo>
                  <a:pt x="2862" y="297"/>
                </a:lnTo>
                <a:lnTo>
                  <a:pt x="2862" y="269"/>
                </a:lnTo>
                <a:lnTo>
                  <a:pt x="2834" y="235"/>
                </a:lnTo>
                <a:lnTo>
                  <a:pt x="2834" y="207"/>
                </a:lnTo>
                <a:lnTo>
                  <a:pt x="2834" y="179"/>
                </a:lnTo>
                <a:lnTo>
                  <a:pt x="2834" y="145"/>
                </a:lnTo>
                <a:lnTo>
                  <a:pt x="2834" y="117"/>
                </a:lnTo>
                <a:lnTo>
                  <a:pt x="2807" y="90"/>
                </a:lnTo>
                <a:lnTo>
                  <a:pt x="2772" y="90"/>
                </a:lnTo>
                <a:lnTo>
                  <a:pt x="2745" y="90"/>
                </a:lnTo>
                <a:lnTo>
                  <a:pt x="2717" y="62"/>
                </a:lnTo>
                <a:lnTo>
                  <a:pt x="2689" y="62"/>
                </a:lnTo>
                <a:lnTo>
                  <a:pt x="2655" y="62"/>
                </a:lnTo>
                <a:lnTo>
                  <a:pt x="2627" y="28"/>
                </a:lnTo>
                <a:lnTo>
                  <a:pt x="2600" y="28"/>
                </a:lnTo>
                <a:lnTo>
                  <a:pt x="2565" y="28"/>
                </a:lnTo>
                <a:lnTo>
                  <a:pt x="2538" y="0"/>
                </a:lnTo>
                <a:lnTo>
                  <a:pt x="2510" y="0"/>
                </a:lnTo>
                <a:lnTo>
                  <a:pt x="2483" y="0"/>
                </a:lnTo>
                <a:lnTo>
                  <a:pt x="2448" y="0"/>
                </a:lnTo>
                <a:lnTo>
                  <a:pt x="2420" y="0"/>
                </a:lnTo>
                <a:lnTo>
                  <a:pt x="2393" y="0"/>
                </a:lnTo>
                <a:lnTo>
                  <a:pt x="2365" y="0"/>
                </a:lnTo>
                <a:lnTo>
                  <a:pt x="2331" y="0"/>
                </a:lnTo>
                <a:lnTo>
                  <a:pt x="2303" y="0"/>
                </a:lnTo>
                <a:lnTo>
                  <a:pt x="2276" y="0"/>
                </a:lnTo>
                <a:lnTo>
                  <a:pt x="2241" y="0"/>
                </a:lnTo>
                <a:lnTo>
                  <a:pt x="2214" y="0"/>
                </a:lnTo>
                <a:lnTo>
                  <a:pt x="2186" y="0"/>
                </a:lnTo>
                <a:lnTo>
                  <a:pt x="2158" y="0"/>
                </a:lnTo>
                <a:lnTo>
                  <a:pt x="2124" y="0"/>
                </a:lnTo>
                <a:lnTo>
                  <a:pt x="2096" y="0"/>
                </a:lnTo>
                <a:lnTo>
                  <a:pt x="2069" y="0"/>
                </a:lnTo>
                <a:lnTo>
                  <a:pt x="2034" y="0"/>
                </a:lnTo>
                <a:lnTo>
                  <a:pt x="2007" y="0"/>
                </a:lnTo>
                <a:lnTo>
                  <a:pt x="1979" y="0"/>
                </a:lnTo>
                <a:lnTo>
                  <a:pt x="1952" y="0"/>
                </a:lnTo>
                <a:lnTo>
                  <a:pt x="1917" y="0"/>
                </a:lnTo>
                <a:lnTo>
                  <a:pt x="1890" y="0"/>
                </a:lnTo>
                <a:lnTo>
                  <a:pt x="1862" y="0"/>
                </a:lnTo>
                <a:lnTo>
                  <a:pt x="1828" y="0"/>
                </a:lnTo>
                <a:lnTo>
                  <a:pt x="1800" y="0"/>
                </a:lnTo>
                <a:lnTo>
                  <a:pt x="1772" y="0"/>
                </a:lnTo>
                <a:lnTo>
                  <a:pt x="1745" y="0"/>
                </a:lnTo>
                <a:lnTo>
                  <a:pt x="1710" y="0"/>
                </a:lnTo>
                <a:lnTo>
                  <a:pt x="1683" y="0"/>
                </a:lnTo>
                <a:lnTo>
                  <a:pt x="1655" y="0"/>
                </a:lnTo>
                <a:lnTo>
                  <a:pt x="1621" y="0"/>
                </a:lnTo>
                <a:lnTo>
                  <a:pt x="1593" y="0"/>
                </a:lnTo>
                <a:lnTo>
                  <a:pt x="1566" y="0"/>
                </a:lnTo>
                <a:lnTo>
                  <a:pt x="1538" y="0"/>
                </a:lnTo>
                <a:lnTo>
                  <a:pt x="1503" y="0"/>
                </a:lnTo>
                <a:lnTo>
                  <a:pt x="1476" y="0"/>
                </a:lnTo>
                <a:lnTo>
                  <a:pt x="1448" y="0"/>
                </a:lnTo>
                <a:lnTo>
                  <a:pt x="1414" y="0"/>
                </a:lnTo>
                <a:lnTo>
                  <a:pt x="1386" y="0"/>
                </a:lnTo>
                <a:lnTo>
                  <a:pt x="1359" y="0"/>
                </a:lnTo>
                <a:lnTo>
                  <a:pt x="1331" y="0"/>
                </a:lnTo>
                <a:lnTo>
                  <a:pt x="1297" y="0"/>
                </a:lnTo>
                <a:lnTo>
                  <a:pt x="1269" y="0"/>
                </a:lnTo>
                <a:lnTo>
                  <a:pt x="1241" y="0"/>
                </a:lnTo>
                <a:lnTo>
                  <a:pt x="1207" y="0"/>
                </a:lnTo>
                <a:lnTo>
                  <a:pt x="1179" y="0"/>
                </a:lnTo>
                <a:lnTo>
                  <a:pt x="1152" y="0"/>
                </a:lnTo>
                <a:lnTo>
                  <a:pt x="1124" y="0"/>
                </a:lnTo>
                <a:lnTo>
                  <a:pt x="1090" y="0"/>
                </a:lnTo>
                <a:lnTo>
                  <a:pt x="1062" y="0"/>
                </a:lnTo>
                <a:lnTo>
                  <a:pt x="1035" y="0"/>
                </a:lnTo>
                <a:lnTo>
                  <a:pt x="1000" y="0"/>
                </a:lnTo>
                <a:lnTo>
                  <a:pt x="973" y="0"/>
                </a:lnTo>
                <a:lnTo>
                  <a:pt x="945" y="0"/>
                </a:lnTo>
                <a:lnTo>
                  <a:pt x="917" y="0"/>
                </a:lnTo>
                <a:lnTo>
                  <a:pt x="883" y="0"/>
                </a:lnTo>
                <a:lnTo>
                  <a:pt x="855" y="0"/>
                </a:lnTo>
                <a:lnTo>
                  <a:pt x="828" y="0"/>
                </a:lnTo>
                <a:lnTo>
                  <a:pt x="793" y="0"/>
                </a:lnTo>
                <a:lnTo>
                  <a:pt x="766" y="0"/>
                </a:lnTo>
                <a:lnTo>
                  <a:pt x="738" y="0"/>
                </a:lnTo>
                <a:lnTo>
                  <a:pt x="711" y="0"/>
                </a:lnTo>
                <a:lnTo>
                  <a:pt x="676" y="0"/>
                </a:lnTo>
                <a:lnTo>
                  <a:pt x="648" y="28"/>
                </a:lnTo>
                <a:lnTo>
                  <a:pt x="621" y="62"/>
                </a:lnTo>
                <a:lnTo>
                  <a:pt x="593" y="90"/>
                </a:lnTo>
                <a:lnTo>
                  <a:pt x="559" y="117"/>
                </a:lnTo>
                <a:lnTo>
                  <a:pt x="531" y="145"/>
                </a:lnTo>
                <a:lnTo>
                  <a:pt x="504" y="145"/>
                </a:lnTo>
                <a:lnTo>
                  <a:pt x="469" y="179"/>
                </a:lnTo>
                <a:lnTo>
                  <a:pt x="442" y="207"/>
                </a:lnTo>
                <a:lnTo>
                  <a:pt x="414" y="235"/>
                </a:lnTo>
                <a:lnTo>
                  <a:pt x="386" y="269"/>
                </a:lnTo>
                <a:lnTo>
                  <a:pt x="352" y="297"/>
                </a:lnTo>
                <a:lnTo>
                  <a:pt x="324" y="324"/>
                </a:lnTo>
                <a:lnTo>
                  <a:pt x="297" y="359"/>
                </a:lnTo>
                <a:lnTo>
                  <a:pt x="262" y="359"/>
                </a:lnTo>
                <a:lnTo>
                  <a:pt x="235" y="386"/>
                </a:lnTo>
                <a:lnTo>
                  <a:pt x="207" y="414"/>
                </a:lnTo>
                <a:lnTo>
                  <a:pt x="180" y="448"/>
                </a:lnTo>
                <a:lnTo>
                  <a:pt x="145" y="476"/>
                </a:lnTo>
                <a:lnTo>
                  <a:pt x="118" y="503"/>
                </a:lnTo>
                <a:lnTo>
                  <a:pt x="90" y="531"/>
                </a:lnTo>
                <a:lnTo>
                  <a:pt x="56" y="565"/>
                </a:lnTo>
                <a:lnTo>
                  <a:pt x="28" y="565"/>
                </a:lnTo>
                <a:lnTo>
                  <a:pt x="0" y="593"/>
                </a:lnTo>
                <a:lnTo>
                  <a:pt x="0" y="620"/>
                </a:lnTo>
                <a:lnTo>
                  <a:pt x="0" y="655"/>
                </a:lnTo>
                <a:lnTo>
                  <a:pt x="0" y="682"/>
                </a:lnTo>
                <a:lnTo>
                  <a:pt x="28" y="710"/>
                </a:lnTo>
                <a:lnTo>
                  <a:pt x="28" y="744"/>
                </a:lnTo>
                <a:lnTo>
                  <a:pt x="56" y="772"/>
                </a:lnTo>
                <a:lnTo>
                  <a:pt x="90" y="799"/>
                </a:lnTo>
                <a:lnTo>
                  <a:pt x="118" y="827"/>
                </a:lnTo>
                <a:lnTo>
                  <a:pt x="145" y="861"/>
                </a:lnTo>
                <a:lnTo>
                  <a:pt x="145" y="889"/>
                </a:lnTo>
                <a:lnTo>
                  <a:pt x="180" y="917"/>
                </a:lnTo>
                <a:lnTo>
                  <a:pt x="207" y="951"/>
                </a:lnTo>
                <a:lnTo>
                  <a:pt x="235" y="979"/>
                </a:lnTo>
                <a:lnTo>
                  <a:pt x="262" y="1006"/>
                </a:lnTo>
                <a:lnTo>
                  <a:pt x="297" y="1041"/>
                </a:lnTo>
                <a:lnTo>
                  <a:pt x="324" y="1068"/>
                </a:lnTo>
                <a:lnTo>
                  <a:pt x="324" y="1096"/>
                </a:lnTo>
                <a:lnTo>
                  <a:pt x="352" y="1130"/>
                </a:lnTo>
                <a:lnTo>
                  <a:pt x="386" y="1158"/>
                </a:lnTo>
                <a:lnTo>
                  <a:pt x="414" y="1185"/>
                </a:lnTo>
                <a:lnTo>
                  <a:pt x="442" y="1213"/>
                </a:lnTo>
                <a:lnTo>
                  <a:pt x="469" y="1247"/>
                </a:lnTo>
                <a:lnTo>
                  <a:pt x="504" y="1275"/>
                </a:lnTo>
                <a:lnTo>
                  <a:pt x="531" y="1302"/>
                </a:lnTo>
                <a:lnTo>
                  <a:pt x="559" y="1337"/>
                </a:lnTo>
                <a:lnTo>
                  <a:pt x="593" y="1364"/>
                </a:lnTo>
                <a:lnTo>
                  <a:pt x="621" y="1392"/>
                </a:lnTo>
                <a:lnTo>
                  <a:pt x="648" y="1426"/>
                </a:lnTo>
                <a:lnTo>
                  <a:pt x="676" y="1454"/>
                </a:lnTo>
                <a:lnTo>
                  <a:pt x="711" y="1481"/>
                </a:lnTo>
                <a:lnTo>
                  <a:pt x="738" y="1516"/>
                </a:lnTo>
                <a:lnTo>
                  <a:pt x="766" y="1543"/>
                </a:lnTo>
                <a:lnTo>
                  <a:pt x="793" y="1571"/>
                </a:lnTo>
                <a:lnTo>
                  <a:pt x="828" y="1599"/>
                </a:lnTo>
                <a:lnTo>
                  <a:pt x="855" y="1633"/>
                </a:lnTo>
                <a:lnTo>
                  <a:pt x="883" y="1633"/>
                </a:lnTo>
                <a:lnTo>
                  <a:pt x="917" y="1660"/>
                </a:lnTo>
                <a:lnTo>
                  <a:pt x="945" y="1688"/>
                </a:lnTo>
                <a:lnTo>
                  <a:pt x="973" y="1722"/>
                </a:lnTo>
                <a:lnTo>
                  <a:pt x="1000" y="1750"/>
                </a:lnTo>
                <a:lnTo>
                  <a:pt x="1035" y="1778"/>
                </a:lnTo>
                <a:lnTo>
                  <a:pt x="1062" y="1812"/>
                </a:lnTo>
                <a:lnTo>
                  <a:pt x="1090" y="1840"/>
                </a:lnTo>
                <a:lnTo>
                  <a:pt x="1124" y="1840"/>
                </a:lnTo>
                <a:lnTo>
                  <a:pt x="1152" y="1840"/>
                </a:lnTo>
                <a:lnTo>
                  <a:pt x="1179" y="1840"/>
                </a:lnTo>
                <a:lnTo>
                  <a:pt x="1207" y="1840"/>
                </a:lnTo>
                <a:lnTo>
                  <a:pt x="1241" y="1840"/>
                </a:lnTo>
                <a:lnTo>
                  <a:pt x="1269" y="1840"/>
                </a:lnTo>
                <a:lnTo>
                  <a:pt x="1297" y="1840"/>
                </a:lnTo>
                <a:lnTo>
                  <a:pt x="1331" y="1840"/>
                </a:lnTo>
                <a:lnTo>
                  <a:pt x="1359" y="1840"/>
                </a:lnTo>
                <a:lnTo>
                  <a:pt x="1386" y="1840"/>
                </a:lnTo>
                <a:lnTo>
                  <a:pt x="1414" y="1840"/>
                </a:lnTo>
                <a:lnTo>
                  <a:pt x="1448" y="1840"/>
                </a:lnTo>
                <a:lnTo>
                  <a:pt x="1476" y="1840"/>
                </a:lnTo>
                <a:lnTo>
                  <a:pt x="1503" y="1840"/>
                </a:lnTo>
                <a:lnTo>
                  <a:pt x="1538" y="1840"/>
                </a:lnTo>
                <a:lnTo>
                  <a:pt x="1566" y="1840"/>
                </a:lnTo>
                <a:lnTo>
                  <a:pt x="1593" y="1840"/>
                </a:lnTo>
                <a:lnTo>
                  <a:pt x="1621" y="1840"/>
                </a:lnTo>
                <a:lnTo>
                  <a:pt x="1655" y="1840"/>
                </a:lnTo>
                <a:lnTo>
                  <a:pt x="1683" y="1840"/>
                </a:lnTo>
                <a:lnTo>
                  <a:pt x="1710" y="1840"/>
                </a:lnTo>
                <a:lnTo>
                  <a:pt x="1745" y="1840"/>
                </a:lnTo>
                <a:lnTo>
                  <a:pt x="1772" y="1840"/>
                </a:lnTo>
                <a:lnTo>
                  <a:pt x="1800" y="1840"/>
                </a:lnTo>
                <a:lnTo>
                  <a:pt x="1828" y="1840"/>
                </a:lnTo>
                <a:lnTo>
                  <a:pt x="1862" y="1840"/>
                </a:lnTo>
                <a:lnTo>
                  <a:pt x="1890" y="1840"/>
                </a:lnTo>
                <a:lnTo>
                  <a:pt x="1917" y="1840"/>
                </a:lnTo>
                <a:lnTo>
                  <a:pt x="1952" y="1840"/>
                </a:lnTo>
                <a:lnTo>
                  <a:pt x="1979" y="1840"/>
                </a:lnTo>
                <a:lnTo>
                  <a:pt x="2007" y="1840"/>
                </a:lnTo>
                <a:lnTo>
                  <a:pt x="2034" y="1840"/>
                </a:lnTo>
                <a:lnTo>
                  <a:pt x="2069" y="1840"/>
                </a:lnTo>
                <a:lnTo>
                  <a:pt x="2096" y="1840"/>
                </a:lnTo>
                <a:lnTo>
                  <a:pt x="2124" y="1840"/>
                </a:lnTo>
                <a:lnTo>
                  <a:pt x="2158" y="1840"/>
                </a:lnTo>
                <a:lnTo>
                  <a:pt x="2186" y="1840"/>
                </a:lnTo>
                <a:lnTo>
                  <a:pt x="2214" y="1840"/>
                </a:lnTo>
                <a:lnTo>
                  <a:pt x="2241" y="1840"/>
                </a:lnTo>
                <a:lnTo>
                  <a:pt x="2276" y="1840"/>
                </a:lnTo>
                <a:lnTo>
                  <a:pt x="2303" y="1840"/>
                </a:lnTo>
                <a:lnTo>
                  <a:pt x="2331" y="1840"/>
                </a:lnTo>
                <a:lnTo>
                  <a:pt x="2365" y="1840"/>
                </a:lnTo>
                <a:lnTo>
                  <a:pt x="2393" y="1840"/>
                </a:lnTo>
                <a:lnTo>
                  <a:pt x="2420" y="1840"/>
                </a:lnTo>
                <a:lnTo>
                  <a:pt x="2448" y="1840"/>
                </a:lnTo>
                <a:lnTo>
                  <a:pt x="2483" y="1840"/>
                </a:lnTo>
                <a:close/>
              </a:path>
            </a:pathLst>
          </a:custGeom>
          <a:solidFill>
            <a:srgbClr val="7fdb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5" name=""/>
          <p:cNvSpPr/>
          <p:nvPr/>
        </p:nvSpPr>
        <p:spPr>
          <a:xfrm>
            <a:off x="3349800" y="3033720"/>
            <a:ext cx="10800" cy="33480"/>
          </a:xfrm>
          <a:custGeom>
            <a:avLst/>
            <a:gdLst/>
            <a:ahLst/>
            <a:rect l="l" t="t" r="r" b="b"/>
            <a:pathLst>
              <a:path w="7" h="21">
                <a:moveTo>
                  <a:pt x="7" y="14"/>
                </a:move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0" y="0"/>
                </a:lnTo>
                <a:lnTo>
                  <a:pt x="0" y="0"/>
                </a:lnTo>
                <a:lnTo>
                  <a:pt x="0" y="7"/>
                </a:lnTo>
                <a:lnTo>
                  <a:pt x="0" y="7"/>
                </a:lnTo>
                <a:lnTo>
                  <a:pt x="0" y="14"/>
                </a:lnTo>
                <a:lnTo>
                  <a:pt x="0" y="14"/>
                </a:lnTo>
                <a:lnTo>
                  <a:pt x="0" y="21"/>
                </a:lnTo>
                <a:lnTo>
                  <a:pt x="0" y="21"/>
                </a:lnTo>
                <a:lnTo>
                  <a:pt x="0" y="21"/>
                </a:lnTo>
                <a:lnTo>
                  <a:pt x="7" y="21"/>
                </a:lnTo>
                <a:lnTo>
                  <a:pt x="7" y="14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6" name=""/>
          <p:cNvSpPr/>
          <p:nvPr/>
        </p:nvSpPr>
        <p:spPr>
          <a:xfrm>
            <a:off x="3711600" y="2957400"/>
            <a:ext cx="20520" cy="54000"/>
          </a:xfrm>
          <a:custGeom>
            <a:avLst/>
            <a:gdLst/>
            <a:ahLst/>
            <a:rect l="l" t="t" r="r" b="b"/>
            <a:pathLst>
              <a:path w="13" h="34">
                <a:moveTo>
                  <a:pt x="13" y="34"/>
                </a:moveTo>
                <a:lnTo>
                  <a:pt x="13" y="28"/>
                </a:lnTo>
                <a:lnTo>
                  <a:pt x="13" y="28"/>
                </a:lnTo>
                <a:lnTo>
                  <a:pt x="13" y="21"/>
                </a:lnTo>
                <a:lnTo>
                  <a:pt x="13" y="14"/>
                </a:lnTo>
                <a:lnTo>
                  <a:pt x="13" y="14"/>
                </a:lnTo>
                <a:lnTo>
                  <a:pt x="13" y="14"/>
                </a:lnTo>
                <a:lnTo>
                  <a:pt x="13" y="7"/>
                </a:lnTo>
                <a:lnTo>
                  <a:pt x="13" y="7"/>
                </a:lnTo>
                <a:lnTo>
                  <a:pt x="6" y="0"/>
                </a:lnTo>
                <a:lnTo>
                  <a:pt x="6" y="7"/>
                </a:lnTo>
                <a:lnTo>
                  <a:pt x="0" y="7"/>
                </a:lnTo>
                <a:lnTo>
                  <a:pt x="0" y="7"/>
                </a:lnTo>
                <a:lnTo>
                  <a:pt x="0" y="14"/>
                </a:lnTo>
                <a:lnTo>
                  <a:pt x="0" y="14"/>
                </a:lnTo>
                <a:lnTo>
                  <a:pt x="0" y="21"/>
                </a:lnTo>
                <a:lnTo>
                  <a:pt x="6" y="21"/>
                </a:lnTo>
                <a:lnTo>
                  <a:pt x="6" y="28"/>
                </a:lnTo>
                <a:lnTo>
                  <a:pt x="6" y="34"/>
                </a:lnTo>
                <a:lnTo>
                  <a:pt x="13" y="34"/>
                </a:lnTo>
                <a:lnTo>
                  <a:pt x="13" y="34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7" name=""/>
          <p:cNvSpPr/>
          <p:nvPr/>
        </p:nvSpPr>
        <p:spPr>
          <a:xfrm>
            <a:off x="3382920" y="2903400"/>
            <a:ext cx="22320" cy="76320"/>
          </a:xfrm>
          <a:custGeom>
            <a:avLst/>
            <a:gdLst/>
            <a:ahLst/>
            <a:rect l="l" t="t" r="r" b="b"/>
            <a:pathLst>
              <a:path w="14" h="48">
                <a:moveTo>
                  <a:pt x="14" y="34"/>
                </a:moveTo>
                <a:lnTo>
                  <a:pt x="14" y="34"/>
                </a:lnTo>
                <a:lnTo>
                  <a:pt x="14" y="27"/>
                </a:lnTo>
                <a:lnTo>
                  <a:pt x="14" y="27"/>
                </a:lnTo>
                <a:lnTo>
                  <a:pt x="14" y="20"/>
                </a:lnTo>
                <a:lnTo>
                  <a:pt x="14" y="13"/>
                </a:lnTo>
                <a:lnTo>
                  <a:pt x="14" y="13"/>
                </a:lnTo>
                <a:lnTo>
                  <a:pt x="14" y="6"/>
                </a:lnTo>
                <a:lnTo>
                  <a:pt x="14" y="0"/>
                </a:lnTo>
                <a:lnTo>
                  <a:pt x="7" y="6"/>
                </a:lnTo>
                <a:lnTo>
                  <a:pt x="7" y="13"/>
                </a:lnTo>
                <a:lnTo>
                  <a:pt x="7" y="20"/>
                </a:lnTo>
                <a:lnTo>
                  <a:pt x="0" y="20"/>
                </a:lnTo>
                <a:lnTo>
                  <a:pt x="0" y="27"/>
                </a:lnTo>
                <a:lnTo>
                  <a:pt x="0" y="27"/>
                </a:lnTo>
                <a:lnTo>
                  <a:pt x="0" y="34"/>
                </a:lnTo>
                <a:lnTo>
                  <a:pt x="7" y="41"/>
                </a:lnTo>
                <a:lnTo>
                  <a:pt x="7" y="41"/>
                </a:lnTo>
                <a:lnTo>
                  <a:pt x="14" y="48"/>
                </a:lnTo>
                <a:lnTo>
                  <a:pt x="14" y="41"/>
                </a:lnTo>
                <a:lnTo>
                  <a:pt x="14" y="34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8" name=""/>
          <p:cNvSpPr/>
          <p:nvPr/>
        </p:nvSpPr>
        <p:spPr>
          <a:xfrm>
            <a:off x="3405240" y="2814480"/>
            <a:ext cx="54000" cy="55800"/>
          </a:xfrm>
          <a:custGeom>
            <a:avLst/>
            <a:gdLst/>
            <a:ahLst/>
            <a:rect l="l" t="t" r="r" b="b"/>
            <a:pathLst>
              <a:path w="34" h="35">
                <a:moveTo>
                  <a:pt x="27" y="35"/>
                </a:moveTo>
                <a:lnTo>
                  <a:pt x="27" y="28"/>
                </a:lnTo>
                <a:lnTo>
                  <a:pt x="34" y="21"/>
                </a:lnTo>
                <a:lnTo>
                  <a:pt x="34" y="21"/>
                </a:lnTo>
                <a:lnTo>
                  <a:pt x="34" y="14"/>
                </a:lnTo>
                <a:lnTo>
                  <a:pt x="34" y="7"/>
                </a:lnTo>
                <a:lnTo>
                  <a:pt x="34" y="7"/>
                </a:lnTo>
                <a:lnTo>
                  <a:pt x="27" y="0"/>
                </a:lnTo>
                <a:lnTo>
                  <a:pt x="27" y="0"/>
                </a:lnTo>
                <a:lnTo>
                  <a:pt x="20" y="0"/>
                </a:lnTo>
                <a:lnTo>
                  <a:pt x="6" y="0"/>
                </a:lnTo>
                <a:lnTo>
                  <a:pt x="0" y="0"/>
                </a:lnTo>
                <a:lnTo>
                  <a:pt x="0" y="7"/>
                </a:lnTo>
                <a:lnTo>
                  <a:pt x="0" y="7"/>
                </a:lnTo>
                <a:lnTo>
                  <a:pt x="0" y="14"/>
                </a:lnTo>
                <a:lnTo>
                  <a:pt x="0" y="21"/>
                </a:lnTo>
                <a:lnTo>
                  <a:pt x="6" y="21"/>
                </a:lnTo>
                <a:lnTo>
                  <a:pt x="13" y="28"/>
                </a:lnTo>
                <a:lnTo>
                  <a:pt x="20" y="35"/>
                </a:lnTo>
                <a:lnTo>
                  <a:pt x="27" y="35"/>
                </a:lnTo>
                <a:lnTo>
                  <a:pt x="27" y="35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9" name=""/>
          <p:cNvSpPr/>
          <p:nvPr/>
        </p:nvSpPr>
        <p:spPr>
          <a:xfrm>
            <a:off x="3394080" y="2749680"/>
            <a:ext cx="11160" cy="64800"/>
          </a:xfrm>
          <a:custGeom>
            <a:avLst/>
            <a:gdLst/>
            <a:ahLst/>
            <a:rect l="l" t="t" r="r" b="b"/>
            <a:pathLst>
              <a:path w="7" h="41">
                <a:moveTo>
                  <a:pt x="7" y="14"/>
                </a:moveTo>
                <a:lnTo>
                  <a:pt x="7" y="7"/>
                </a:lnTo>
                <a:lnTo>
                  <a:pt x="7" y="0"/>
                </a:lnTo>
                <a:lnTo>
                  <a:pt x="7" y="0"/>
                </a:lnTo>
                <a:lnTo>
                  <a:pt x="0" y="0"/>
                </a:lnTo>
                <a:lnTo>
                  <a:pt x="0" y="14"/>
                </a:lnTo>
                <a:lnTo>
                  <a:pt x="0" y="21"/>
                </a:lnTo>
                <a:lnTo>
                  <a:pt x="0" y="28"/>
                </a:lnTo>
                <a:lnTo>
                  <a:pt x="0" y="35"/>
                </a:lnTo>
                <a:lnTo>
                  <a:pt x="0" y="41"/>
                </a:lnTo>
                <a:lnTo>
                  <a:pt x="7" y="41"/>
                </a:lnTo>
                <a:lnTo>
                  <a:pt x="7" y="41"/>
                </a:lnTo>
                <a:lnTo>
                  <a:pt x="7" y="35"/>
                </a:lnTo>
                <a:lnTo>
                  <a:pt x="7" y="28"/>
                </a:lnTo>
                <a:lnTo>
                  <a:pt x="7" y="14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0" name=""/>
          <p:cNvSpPr/>
          <p:nvPr/>
        </p:nvSpPr>
        <p:spPr>
          <a:xfrm>
            <a:off x="4356000" y="5527800"/>
            <a:ext cx="165240" cy="120600"/>
          </a:xfrm>
          <a:custGeom>
            <a:avLst/>
            <a:gdLst/>
            <a:ahLst/>
            <a:rect l="l" t="t" r="r" b="b"/>
            <a:pathLst>
              <a:path w="104" h="76">
                <a:moveTo>
                  <a:pt x="0" y="76"/>
                </a:moveTo>
                <a:lnTo>
                  <a:pt x="7" y="69"/>
                </a:lnTo>
                <a:lnTo>
                  <a:pt x="7" y="62"/>
                </a:lnTo>
                <a:lnTo>
                  <a:pt x="14" y="62"/>
                </a:lnTo>
                <a:lnTo>
                  <a:pt x="21" y="55"/>
                </a:lnTo>
                <a:lnTo>
                  <a:pt x="21" y="48"/>
                </a:lnTo>
                <a:lnTo>
                  <a:pt x="28" y="41"/>
                </a:lnTo>
                <a:lnTo>
                  <a:pt x="28" y="34"/>
                </a:lnTo>
                <a:lnTo>
                  <a:pt x="35" y="34"/>
                </a:lnTo>
                <a:lnTo>
                  <a:pt x="35" y="27"/>
                </a:lnTo>
                <a:lnTo>
                  <a:pt x="42" y="20"/>
                </a:lnTo>
                <a:lnTo>
                  <a:pt x="49" y="20"/>
                </a:lnTo>
                <a:lnTo>
                  <a:pt x="62" y="20"/>
                </a:lnTo>
                <a:lnTo>
                  <a:pt x="69" y="14"/>
                </a:lnTo>
                <a:lnTo>
                  <a:pt x="69" y="7"/>
                </a:lnTo>
                <a:lnTo>
                  <a:pt x="76" y="0"/>
                </a:lnTo>
                <a:lnTo>
                  <a:pt x="76" y="0"/>
                </a:lnTo>
                <a:lnTo>
                  <a:pt x="83" y="0"/>
                </a:lnTo>
                <a:lnTo>
                  <a:pt x="90" y="0"/>
                </a:lnTo>
                <a:lnTo>
                  <a:pt x="97" y="7"/>
                </a:lnTo>
                <a:lnTo>
                  <a:pt x="104" y="14"/>
                </a:lnTo>
                <a:lnTo>
                  <a:pt x="97" y="20"/>
                </a:lnTo>
                <a:lnTo>
                  <a:pt x="90" y="20"/>
                </a:lnTo>
                <a:lnTo>
                  <a:pt x="76" y="20"/>
                </a:lnTo>
                <a:lnTo>
                  <a:pt x="69" y="27"/>
                </a:lnTo>
                <a:lnTo>
                  <a:pt x="69" y="34"/>
                </a:lnTo>
                <a:lnTo>
                  <a:pt x="69" y="41"/>
                </a:lnTo>
                <a:lnTo>
                  <a:pt x="69" y="48"/>
                </a:lnTo>
                <a:lnTo>
                  <a:pt x="69" y="55"/>
                </a:lnTo>
                <a:lnTo>
                  <a:pt x="76" y="55"/>
                </a:lnTo>
                <a:lnTo>
                  <a:pt x="76" y="62"/>
                </a:lnTo>
                <a:lnTo>
                  <a:pt x="76" y="69"/>
                </a:lnTo>
                <a:lnTo>
                  <a:pt x="76" y="76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1" name=""/>
          <p:cNvSpPr/>
          <p:nvPr/>
        </p:nvSpPr>
        <p:spPr>
          <a:xfrm flipH="1">
            <a:off x="6764040" y="2990880"/>
            <a:ext cx="11160" cy="11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2" name=""/>
          <p:cNvSpPr/>
          <p:nvPr/>
        </p:nvSpPr>
        <p:spPr>
          <a:xfrm>
            <a:off x="6359400" y="3002040"/>
            <a:ext cx="405000" cy="928440"/>
          </a:xfrm>
          <a:custGeom>
            <a:avLst/>
            <a:gdLst/>
            <a:ahLst/>
            <a:rect l="l" t="t" r="r" b="b"/>
            <a:pathLst>
              <a:path w="255" h="585">
                <a:moveTo>
                  <a:pt x="255" y="0"/>
                </a:moveTo>
                <a:lnTo>
                  <a:pt x="248" y="0"/>
                </a:lnTo>
                <a:lnTo>
                  <a:pt x="248" y="6"/>
                </a:lnTo>
                <a:lnTo>
                  <a:pt x="248" y="13"/>
                </a:lnTo>
                <a:lnTo>
                  <a:pt x="248" y="20"/>
                </a:lnTo>
                <a:lnTo>
                  <a:pt x="248" y="27"/>
                </a:lnTo>
                <a:lnTo>
                  <a:pt x="248" y="34"/>
                </a:lnTo>
                <a:lnTo>
                  <a:pt x="255" y="41"/>
                </a:lnTo>
                <a:lnTo>
                  <a:pt x="255" y="48"/>
                </a:lnTo>
                <a:lnTo>
                  <a:pt x="255" y="55"/>
                </a:lnTo>
                <a:lnTo>
                  <a:pt x="255" y="62"/>
                </a:lnTo>
                <a:lnTo>
                  <a:pt x="255" y="62"/>
                </a:lnTo>
                <a:lnTo>
                  <a:pt x="255" y="68"/>
                </a:lnTo>
                <a:lnTo>
                  <a:pt x="248" y="75"/>
                </a:lnTo>
                <a:lnTo>
                  <a:pt x="241" y="82"/>
                </a:lnTo>
                <a:lnTo>
                  <a:pt x="235" y="82"/>
                </a:lnTo>
                <a:lnTo>
                  <a:pt x="228" y="89"/>
                </a:lnTo>
                <a:lnTo>
                  <a:pt x="221" y="96"/>
                </a:lnTo>
                <a:lnTo>
                  <a:pt x="214" y="96"/>
                </a:lnTo>
                <a:lnTo>
                  <a:pt x="207" y="103"/>
                </a:lnTo>
                <a:lnTo>
                  <a:pt x="200" y="110"/>
                </a:lnTo>
                <a:lnTo>
                  <a:pt x="200" y="117"/>
                </a:lnTo>
                <a:lnTo>
                  <a:pt x="200" y="124"/>
                </a:lnTo>
                <a:lnTo>
                  <a:pt x="200" y="130"/>
                </a:lnTo>
                <a:lnTo>
                  <a:pt x="193" y="130"/>
                </a:lnTo>
                <a:lnTo>
                  <a:pt x="186" y="137"/>
                </a:lnTo>
                <a:lnTo>
                  <a:pt x="179" y="144"/>
                </a:lnTo>
                <a:lnTo>
                  <a:pt x="173" y="151"/>
                </a:lnTo>
                <a:lnTo>
                  <a:pt x="173" y="151"/>
                </a:lnTo>
                <a:lnTo>
                  <a:pt x="166" y="158"/>
                </a:lnTo>
                <a:lnTo>
                  <a:pt x="166" y="165"/>
                </a:lnTo>
                <a:lnTo>
                  <a:pt x="166" y="172"/>
                </a:lnTo>
                <a:lnTo>
                  <a:pt x="173" y="179"/>
                </a:lnTo>
                <a:lnTo>
                  <a:pt x="179" y="186"/>
                </a:lnTo>
                <a:lnTo>
                  <a:pt x="173" y="192"/>
                </a:lnTo>
                <a:lnTo>
                  <a:pt x="173" y="186"/>
                </a:lnTo>
                <a:lnTo>
                  <a:pt x="166" y="179"/>
                </a:lnTo>
                <a:lnTo>
                  <a:pt x="159" y="179"/>
                </a:lnTo>
                <a:lnTo>
                  <a:pt x="145" y="179"/>
                </a:lnTo>
                <a:lnTo>
                  <a:pt x="131" y="179"/>
                </a:lnTo>
                <a:lnTo>
                  <a:pt x="124" y="179"/>
                </a:lnTo>
                <a:lnTo>
                  <a:pt x="117" y="186"/>
                </a:lnTo>
                <a:lnTo>
                  <a:pt x="117" y="192"/>
                </a:lnTo>
                <a:lnTo>
                  <a:pt x="117" y="199"/>
                </a:lnTo>
                <a:lnTo>
                  <a:pt x="117" y="206"/>
                </a:lnTo>
                <a:lnTo>
                  <a:pt x="124" y="213"/>
                </a:lnTo>
                <a:lnTo>
                  <a:pt x="131" y="213"/>
                </a:lnTo>
                <a:lnTo>
                  <a:pt x="138" y="213"/>
                </a:lnTo>
                <a:lnTo>
                  <a:pt x="152" y="220"/>
                </a:lnTo>
                <a:lnTo>
                  <a:pt x="159" y="220"/>
                </a:lnTo>
                <a:lnTo>
                  <a:pt x="159" y="227"/>
                </a:lnTo>
                <a:lnTo>
                  <a:pt x="166" y="234"/>
                </a:lnTo>
                <a:lnTo>
                  <a:pt x="166" y="241"/>
                </a:lnTo>
                <a:lnTo>
                  <a:pt x="166" y="248"/>
                </a:lnTo>
                <a:lnTo>
                  <a:pt x="159" y="254"/>
                </a:lnTo>
                <a:lnTo>
                  <a:pt x="152" y="261"/>
                </a:lnTo>
                <a:lnTo>
                  <a:pt x="145" y="268"/>
                </a:lnTo>
                <a:lnTo>
                  <a:pt x="138" y="268"/>
                </a:lnTo>
                <a:lnTo>
                  <a:pt x="131" y="275"/>
                </a:lnTo>
                <a:lnTo>
                  <a:pt x="131" y="282"/>
                </a:lnTo>
                <a:lnTo>
                  <a:pt x="131" y="289"/>
                </a:lnTo>
                <a:lnTo>
                  <a:pt x="124" y="296"/>
                </a:lnTo>
                <a:lnTo>
                  <a:pt x="124" y="303"/>
                </a:lnTo>
                <a:lnTo>
                  <a:pt x="124" y="303"/>
                </a:lnTo>
                <a:lnTo>
                  <a:pt x="117" y="310"/>
                </a:lnTo>
                <a:lnTo>
                  <a:pt x="117" y="316"/>
                </a:lnTo>
                <a:lnTo>
                  <a:pt x="117" y="323"/>
                </a:lnTo>
                <a:lnTo>
                  <a:pt x="110" y="330"/>
                </a:lnTo>
                <a:lnTo>
                  <a:pt x="110" y="337"/>
                </a:lnTo>
                <a:lnTo>
                  <a:pt x="110" y="344"/>
                </a:lnTo>
                <a:lnTo>
                  <a:pt x="104" y="351"/>
                </a:lnTo>
                <a:lnTo>
                  <a:pt x="104" y="358"/>
                </a:lnTo>
                <a:lnTo>
                  <a:pt x="104" y="358"/>
                </a:lnTo>
                <a:lnTo>
                  <a:pt x="97" y="365"/>
                </a:lnTo>
                <a:lnTo>
                  <a:pt x="97" y="372"/>
                </a:lnTo>
                <a:lnTo>
                  <a:pt x="97" y="378"/>
                </a:lnTo>
                <a:lnTo>
                  <a:pt x="97" y="385"/>
                </a:lnTo>
                <a:lnTo>
                  <a:pt x="97" y="392"/>
                </a:lnTo>
                <a:lnTo>
                  <a:pt x="90" y="399"/>
                </a:lnTo>
                <a:lnTo>
                  <a:pt x="90" y="406"/>
                </a:lnTo>
                <a:lnTo>
                  <a:pt x="90" y="413"/>
                </a:lnTo>
                <a:lnTo>
                  <a:pt x="90" y="420"/>
                </a:lnTo>
                <a:lnTo>
                  <a:pt x="83" y="427"/>
                </a:lnTo>
                <a:lnTo>
                  <a:pt x="83" y="427"/>
                </a:lnTo>
                <a:lnTo>
                  <a:pt x="76" y="434"/>
                </a:lnTo>
                <a:lnTo>
                  <a:pt x="76" y="440"/>
                </a:lnTo>
                <a:lnTo>
                  <a:pt x="83" y="447"/>
                </a:lnTo>
                <a:lnTo>
                  <a:pt x="90" y="454"/>
                </a:lnTo>
                <a:lnTo>
                  <a:pt x="97" y="461"/>
                </a:lnTo>
                <a:lnTo>
                  <a:pt x="104" y="461"/>
                </a:lnTo>
                <a:lnTo>
                  <a:pt x="104" y="468"/>
                </a:lnTo>
                <a:lnTo>
                  <a:pt x="110" y="475"/>
                </a:lnTo>
                <a:lnTo>
                  <a:pt x="110" y="482"/>
                </a:lnTo>
                <a:lnTo>
                  <a:pt x="104" y="489"/>
                </a:lnTo>
                <a:lnTo>
                  <a:pt x="104" y="496"/>
                </a:lnTo>
                <a:lnTo>
                  <a:pt x="97" y="502"/>
                </a:lnTo>
                <a:lnTo>
                  <a:pt x="97" y="509"/>
                </a:lnTo>
                <a:lnTo>
                  <a:pt x="104" y="509"/>
                </a:lnTo>
                <a:lnTo>
                  <a:pt x="110" y="516"/>
                </a:lnTo>
                <a:lnTo>
                  <a:pt x="117" y="523"/>
                </a:lnTo>
                <a:lnTo>
                  <a:pt x="124" y="523"/>
                </a:lnTo>
                <a:lnTo>
                  <a:pt x="131" y="530"/>
                </a:lnTo>
                <a:lnTo>
                  <a:pt x="131" y="537"/>
                </a:lnTo>
                <a:lnTo>
                  <a:pt x="131" y="544"/>
                </a:lnTo>
                <a:lnTo>
                  <a:pt x="131" y="551"/>
                </a:lnTo>
                <a:lnTo>
                  <a:pt x="124" y="558"/>
                </a:lnTo>
                <a:lnTo>
                  <a:pt x="117" y="564"/>
                </a:lnTo>
                <a:lnTo>
                  <a:pt x="110" y="564"/>
                </a:lnTo>
                <a:lnTo>
                  <a:pt x="104" y="558"/>
                </a:lnTo>
                <a:lnTo>
                  <a:pt x="97" y="551"/>
                </a:lnTo>
                <a:lnTo>
                  <a:pt x="90" y="551"/>
                </a:lnTo>
                <a:lnTo>
                  <a:pt x="83" y="551"/>
                </a:lnTo>
                <a:lnTo>
                  <a:pt x="76" y="558"/>
                </a:lnTo>
                <a:lnTo>
                  <a:pt x="76" y="564"/>
                </a:lnTo>
                <a:lnTo>
                  <a:pt x="69" y="571"/>
                </a:lnTo>
                <a:lnTo>
                  <a:pt x="69" y="578"/>
                </a:lnTo>
                <a:lnTo>
                  <a:pt x="62" y="585"/>
                </a:lnTo>
                <a:lnTo>
                  <a:pt x="55" y="585"/>
                </a:lnTo>
                <a:lnTo>
                  <a:pt x="48" y="578"/>
                </a:lnTo>
                <a:lnTo>
                  <a:pt x="42" y="571"/>
                </a:lnTo>
                <a:lnTo>
                  <a:pt x="42" y="564"/>
                </a:lnTo>
                <a:lnTo>
                  <a:pt x="35" y="558"/>
                </a:lnTo>
                <a:lnTo>
                  <a:pt x="28" y="558"/>
                </a:lnTo>
                <a:lnTo>
                  <a:pt x="28" y="551"/>
                </a:lnTo>
                <a:lnTo>
                  <a:pt x="21" y="544"/>
                </a:lnTo>
                <a:lnTo>
                  <a:pt x="21" y="537"/>
                </a:lnTo>
                <a:lnTo>
                  <a:pt x="21" y="530"/>
                </a:lnTo>
                <a:lnTo>
                  <a:pt x="21" y="523"/>
                </a:lnTo>
                <a:lnTo>
                  <a:pt x="21" y="516"/>
                </a:lnTo>
                <a:lnTo>
                  <a:pt x="21" y="509"/>
                </a:lnTo>
                <a:lnTo>
                  <a:pt x="21" y="502"/>
                </a:lnTo>
                <a:lnTo>
                  <a:pt x="14" y="496"/>
                </a:lnTo>
                <a:lnTo>
                  <a:pt x="7" y="489"/>
                </a:lnTo>
                <a:lnTo>
                  <a:pt x="0" y="482"/>
                </a:lnTo>
                <a:lnTo>
                  <a:pt x="0" y="482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3" name=""/>
          <p:cNvSpPr/>
          <p:nvPr/>
        </p:nvSpPr>
        <p:spPr>
          <a:xfrm>
            <a:off x="6359400" y="3767040"/>
            <a:ext cx="1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4" name=""/>
          <p:cNvSpPr/>
          <p:nvPr/>
        </p:nvSpPr>
        <p:spPr>
          <a:xfrm>
            <a:off x="6249960" y="3809880"/>
            <a:ext cx="66600" cy="66960"/>
          </a:xfrm>
          <a:custGeom>
            <a:avLst/>
            <a:gdLst/>
            <a:ahLst/>
            <a:rect l="l" t="t" r="r" b="b"/>
            <a:pathLst>
              <a:path w="42" h="42">
                <a:moveTo>
                  <a:pt x="21" y="0"/>
                </a:moveTo>
                <a:lnTo>
                  <a:pt x="21" y="7"/>
                </a:lnTo>
                <a:lnTo>
                  <a:pt x="14" y="7"/>
                </a:lnTo>
                <a:lnTo>
                  <a:pt x="14" y="7"/>
                </a:lnTo>
                <a:lnTo>
                  <a:pt x="14" y="7"/>
                </a:lnTo>
                <a:lnTo>
                  <a:pt x="14" y="7"/>
                </a:lnTo>
                <a:lnTo>
                  <a:pt x="14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14"/>
                </a:lnTo>
                <a:lnTo>
                  <a:pt x="7" y="14"/>
                </a:lnTo>
                <a:lnTo>
                  <a:pt x="7" y="14"/>
                </a:lnTo>
                <a:lnTo>
                  <a:pt x="7" y="14"/>
                </a:lnTo>
                <a:lnTo>
                  <a:pt x="7" y="21"/>
                </a:lnTo>
                <a:lnTo>
                  <a:pt x="7" y="21"/>
                </a:lnTo>
                <a:lnTo>
                  <a:pt x="7" y="21"/>
                </a:lnTo>
                <a:lnTo>
                  <a:pt x="7" y="28"/>
                </a:lnTo>
                <a:lnTo>
                  <a:pt x="14" y="28"/>
                </a:lnTo>
                <a:lnTo>
                  <a:pt x="14" y="28"/>
                </a:lnTo>
                <a:lnTo>
                  <a:pt x="14" y="21"/>
                </a:lnTo>
                <a:lnTo>
                  <a:pt x="14" y="21"/>
                </a:lnTo>
                <a:lnTo>
                  <a:pt x="14" y="21"/>
                </a:lnTo>
                <a:lnTo>
                  <a:pt x="14" y="21"/>
                </a:lnTo>
                <a:lnTo>
                  <a:pt x="14" y="14"/>
                </a:lnTo>
                <a:lnTo>
                  <a:pt x="14" y="14"/>
                </a:lnTo>
                <a:lnTo>
                  <a:pt x="14" y="14"/>
                </a:lnTo>
                <a:lnTo>
                  <a:pt x="21" y="14"/>
                </a:lnTo>
                <a:lnTo>
                  <a:pt x="21" y="14"/>
                </a:lnTo>
                <a:lnTo>
                  <a:pt x="21" y="14"/>
                </a:lnTo>
                <a:lnTo>
                  <a:pt x="28" y="14"/>
                </a:lnTo>
                <a:lnTo>
                  <a:pt x="28" y="14"/>
                </a:lnTo>
                <a:lnTo>
                  <a:pt x="28" y="14"/>
                </a:lnTo>
                <a:lnTo>
                  <a:pt x="35" y="14"/>
                </a:lnTo>
                <a:lnTo>
                  <a:pt x="35" y="14"/>
                </a:lnTo>
                <a:lnTo>
                  <a:pt x="35" y="14"/>
                </a:lnTo>
                <a:lnTo>
                  <a:pt x="35" y="21"/>
                </a:lnTo>
                <a:lnTo>
                  <a:pt x="42" y="21"/>
                </a:lnTo>
                <a:lnTo>
                  <a:pt x="42" y="21"/>
                </a:lnTo>
                <a:lnTo>
                  <a:pt x="42" y="21"/>
                </a:lnTo>
                <a:lnTo>
                  <a:pt x="42" y="28"/>
                </a:lnTo>
                <a:lnTo>
                  <a:pt x="42" y="28"/>
                </a:lnTo>
                <a:lnTo>
                  <a:pt x="42" y="28"/>
                </a:lnTo>
                <a:lnTo>
                  <a:pt x="42" y="35"/>
                </a:lnTo>
                <a:lnTo>
                  <a:pt x="42" y="35"/>
                </a:lnTo>
                <a:lnTo>
                  <a:pt x="35" y="35"/>
                </a:lnTo>
                <a:lnTo>
                  <a:pt x="35" y="35"/>
                </a:lnTo>
                <a:lnTo>
                  <a:pt x="35" y="42"/>
                </a:lnTo>
                <a:lnTo>
                  <a:pt x="28" y="42"/>
                </a:lnTo>
                <a:lnTo>
                  <a:pt x="28" y="42"/>
                </a:lnTo>
                <a:lnTo>
                  <a:pt x="28" y="42"/>
                </a:lnTo>
                <a:lnTo>
                  <a:pt x="21" y="42"/>
                </a:lnTo>
                <a:lnTo>
                  <a:pt x="21" y="42"/>
                </a:lnTo>
                <a:lnTo>
                  <a:pt x="14" y="35"/>
                </a:lnTo>
                <a:lnTo>
                  <a:pt x="7" y="35"/>
                </a:lnTo>
                <a:lnTo>
                  <a:pt x="7" y="28"/>
                </a:lnTo>
                <a:lnTo>
                  <a:pt x="0" y="21"/>
                </a:lnTo>
                <a:lnTo>
                  <a:pt x="0" y="21"/>
                </a:lnTo>
                <a:lnTo>
                  <a:pt x="0" y="14"/>
                </a:lnTo>
                <a:lnTo>
                  <a:pt x="0" y="14"/>
                </a:lnTo>
                <a:lnTo>
                  <a:pt x="0" y="7"/>
                </a:lnTo>
                <a:lnTo>
                  <a:pt x="0" y="7"/>
                </a:lnTo>
                <a:lnTo>
                  <a:pt x="7" y="7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14" y="0"/>
                </a:lnTo>
                <a:lnTo>
                  <a:pt x="14" y="0"/>
                </a:lnTo>
                <a:lnTo>
                  <a:pt x="14" y="0"/>
                </a:lnTo>
                <a:lnTo>
                  <a:pt x="21" y="0"/>
                </a:lnTo>
                <a:lnTo>
                  <a:pt x="21" y="0"/>
                </a:lnTo>
                <a:close/>
                <a:moveTo>
                  <a:pt x="21" y="35"/>
                </a:moveTo>
                <a:lnTo>
                  <a:pt x="21" y="35"/>
                </a:lnTo>
                <a:lnTo>
                  <a:pt x="21" y="35"/>
                </a:lnTo>
                <a:lnTo>
                  <a:pt x="21" y="35"/>
                </a:lnTo>
                <a:lnTo>
                  <a:pt x="21" y="35"/>
                </a:lnTo>
                <a:lnTo>
                  <a:pt x="28" y="35"/>
                </a:lnTo>
                <a:lnTo>
                  <a:pt x="28" y="35"/>
                </a:lnTo>
                <a:lnTo>
                  <a:pt x="28" y="35"/>
                </a:lnTo>
                <a:lnTo>
                  <a:pt x="28" y="35"/>
                </a:lnTo>
                <a:lnTo>
                  <a:pt x="28" y="35"/>
                </a:lnTo>
                <a:lnTo>
                  <a:pt x="28" y="35"/>
                </a:lnTo>
                <a:lnTo>
                  <a:pt x="35" y="35"/>
                </a:lnTo>
                <a:lnTo>
                  <a:pt x="35" y="35"/>
                </a:lnTo>
                <a:lnTo>
                  <a:pt x="35" y="35"/>
                </a:lnTo>
                <a:lnTo>
                  <a:pt x="35" y="28"/>
                </a:lnTo>
                <a:lnTo>
                  <a:pt x="35" y="28"/>
                </a:lnTo>
                <a:lnTo>
                  <a:pt x="35" y="28"/>
                </a:lnTo>
                <a:lnTo>
                  <a:pt x="35" y="28"/>
                </a:lnTo>
                <a:lnTo>
                  <a:pt x="35" y="21"/>
                </a:lnTo>
                <a:lnTo>
                  <a:pt x="35" y="21"/>
                </a:lnTo>
                <a:lnTo>
                  <a:pt x="35" y="21"/>
                </a:lnTo>
                <a:lnTo>
                  <a:pt x="28" y="21"/>
                </a:lnTo>
                <a:lnTo>
                  <a:pt x="28" y="14"/>
                </a:lnTo>
                <a:lnTo>
                  <a:pt x="28" y="14"/>
                </a:lnTo>
                <a:lnTo>
                  <a:pt x="28" y="14"/>
                </a:lnTo>
                <a:lnTo>
                  <a:pt x="21" y="14"/>
                </a:lnTo>
                <a:lnTo>
                  <a:pt x="21" y="14"/>
                </a:lnTo>
                <a:lnTo>
                  <a:pt x="21" y="21"/>
                </a:lnTo>
                <a:lnTo>
                  <a:pt x="21" y="21"/>
                </a:lnTo>
                <a:lnTo>
                  <a:pt x="14" y="21"/>
                </a:lnTo>
                <a:lnTo>
                  <a:pt x="14" y="21"/>
                </a:lnTo>
                <a:lnTo>
                  <a:pt x="14" y="21"/>
                </a:lnTo>
                <a:lnTo>
                  <a:pt x="14" y="28"/>
                </a:lnTo>
                <a:lnTo>
                  <a:pt x="14" y="28"/>
                </a:lnTo>
                <a:lnTo>
                  <a:pt x="14" y="28"/>
                </a:lnTo>
                <a:lnTo>
                  <a:pt x="21" y="28"/>
                </a:lnTo>
                <a:lnTo>
                  <a:pt x="21" y="35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5" name=""/>
          <p:cNvSpPr/>
          <p:nvPr/>
        </p:nvSpPr>
        <p:spPr>
          <a:xfrm>
            <a:off x="6283440" y="3767040"/>
            <a:ext cx="64800" cy="65160"/>
          </a:xfrm>
          <a:custGeom>
            <a:avLst/>
            <a:gdLst/>
            <a:ahLst/>
            <a:rect l="l" t="t" r="r" b="b"/>
            <a:pathLst>
              <a:path w="41" h="41">
                <a:moveTo>
                  <a:pt x="14" y="34"/>
                </a:moveTo>
                <a:lnTo>
                  <a:pt x="7" y="27"/>
                </a:lnTo>
                <a:lnTo>
                  <a:pt x="7" y="27"/>
                </a:lnTo>
                <a:lnTo>
                  <a:pt x="7" y="27"/>
                </a:lnTo>
                <a:lnTo>
                  <a:pt x="7" y="20"/>
                </a:lnTo>
                <a:lnTo>
                  <a:pt x="7" y="20"/>
                </a:lnTo>
                <a:lnTo>
                  <a:pt x="0" y="20"/>
                </a:lnTo>
                <a:lnTo>
                  <a:pt x="0" y="14"/>
                </a:lnTo>
                <a:lnTo>
                  <a:pt x="0" y="14"/>
                </a:lnTo>
                <a:lnTo>
                  <a:pt x="7" y="14"/>
                </a:lnTo>
                <a:lnTo>
                  <a:pt x="7" y="14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14" y="7"/>
                </a:lnTo>
                <a:lnTo>
                  <a:pt x="14" y="7"/>
                </a:lnTo>
                <a:lnTo>
                  <a:pt x="14" y="7"/>
                </a:lnTo>
                <a:lnTo>
                  <a:pt x="14" y="0"/>
                </a:lnTo>
                <a:lnTo>
                  <a:pt x="14" y="0"/>
                </a:lnTo>
                <a:lnTo>
                  <a:pt x="21" y="7"/>
                </a:lnTo>
                <a:lnTo>
                  <a:pt x="21" y="7"/>
                </a:lnTo>
                <a:lnTo>
                  <a:pt x="21" y="7"/>
                </a:lnTo>
                <a:lnTo>
                  <a:pt x="21" y="7"/>
                </a:lnTo>
                <a:lnTo>
                  <a:pt x="27" y="7"/>
                </a:lnTo>
                <a:lnTo>
                  <a:pt x="27" y="7"/>
                </a:lnTo>
                <a:lnTo>
                  <a:pt x="27" y="7"/>
                </a:lnTo>
                <a:lnTo>
                  <a:pt x="34" y="14"/>
                </a:lnTo>
                <a:lnTo>
                  <a:pt x="34" y="14"/>
                </a:lnTo>
                <a:lnTo>
                  <a:pt x="34" y="14"/>
                </a:lnTo>
                <a:lnTo>
                  <a:pt x="41" y="20"/>
                </a:lnTo>
                <a:lnTo>
                  <a:pt x="41" y="20"/>
                </a:lnTo>
                <a:lnTo>
                  <a:pt x="41" y="20"/>
                </a:lnTo>
                <a:lnTo>
                  <a:pt x="41" y="27"/>
                </a:lnTo>
                <a:lnTo>
                  <a:pt x="41" y="27"/>
                </a:lnTo>
                <a:lnTo>
                  <a:pt x="41" y="27"/>
                </a:lnTo>
                <a:lnTo>
                  <a:pt x="41" y="34"/>
                </a:lnTo>
                <a:lnTo>
                  <a:pt x="41" y="34"/>
                </a:lnTo>
                <a:lnTo>
                  <a:pt x="41" y="34"/>
                </a:lnTo>
                <a:lnTo>
                  <a:pt x="41" y="34"/>
                </a:lnTo>
                <a:lnTo>
                  <a:pt x="41" y="41"/>
                </a:lnTo>
                <a:lnTo>
                  <a:pt x="34" y="41"/>
                </a:lnTo>
                <a:lnTo>
                  <a:pt x="34" y="41"/>
                </a:lnTo>
                <a:lnTo>
                  <a:pt x="34" y="41"/>
                </a:lnTo>
                <a:lnTo>
                  <a:pt x="27" y="41"/>
                </a:lnTo>
                <a:lnTo>
                  <a:pt x="27" y="41"/>
                </a:lnTo>
                <a:lnTo>
                  <a:pt x="21" y="41"/>
                </a:lnTo>
                <a:lnTo>
                  <a:pt x="21" y="34"/>
                </a:lnTo>
                <a:lnTo>
                  <a:pt x="14" y="34"/>
                </a:lnTo>
                <a:close/>
                <a:moveTo>
                  <a:pt x="14" y="27"/>
                </a:moveTo>
                <a:lnTo>
                  <a:pt x="21" y="34"/>
                </a:lnTo>
                <a:lnTo>
                  <a:pt x="21" y="34"/>
                </a:lnTo>
                <a:lnTo>
                  <a:pt x="27" y="34"/>
                </a:lnTo>
                <a:lnTo>
                  <a:pt x="27" y="41"/>
                </a:lnTo>
                <a:lnTo>
                  <a:pt x="34" y="41"/>
                </a:lnTo>
                <a:lnTo>
                  <a:pt x="34" y="41"/>
                </a:lnTo>
                <a:lnTo>
                  <a:pt x="34" y="34"/>
                </a:lnTo>
                <a:lnTo>
                  <a:pt x="34" y="34"/>
                </a:lnTo>
                <a:lnTo>
                  <a:pt x="34" y="34"/>
                </a:lnTo>
                <a:lnTo>
                  <a:pt x="41" y="34"/>
                </a:lnTo>
                <a:lnTo>
                  <a:pt x="41" y="34"/>
                </a:lnTo>
                <a:lnTo>
                  <a:pt x="41" y="27"/>
                </a:lnTo>
                <a:lnTo>
                  <a:pt x="34" y="27"/>
                </a:lnTo>
                <a:lnTo>
                  <a:pt x="34" y="20"/>
                </a:lnTo>
                <a:lnTo>
                  <a:pt x="34" y="20"/>
                </a:lnTo>
                <a:lnTo>
                  <a:pt x="27" y="14"/>
                </a:lnTo>
                <a:lnTo>
                  <a:pt x="27" y="14"/>
                </a:lnTo>
                <a:lnTo>
                  <a:pt x="21" y="14"/>
                </a:lnTo>
                <a:lnTo>
                  <a:pt x="21" y="7"/>
                </a:lnTo>
                <a:lnTo>
                  <a:pt x="21" y="7"/>
                </a:lnTo>
                <a:lnTo>
                  <a:pt x="14" y="7"/>
                </a:lnTo>
                <a:lnTo>
                  <a:pt x="14" y="7"/>
                </a:lnTo>
                <a:lnTo>
                  <a:pt x="14" y="7"/>
                </a:lnTo>
                <a:lnTo>
                  <a:pt x="7" y="14"/>
                </a:lnTo>
                <a:lnTo>
                  <a:pt x="7" y="14"/>
                </a:lnTo>
                <a:lnTo>
                  <a:pt x="7" y="14"/>
                </a:lnTo>
                <a:lnTo>
                  <a:pt x="7" y="14"/>
                </a:lnTo>
                <a:lnTo>
                  <a:pt x="7" y="14"/>
                </a:lnTo>
                <a:lnTo>
                  <a:pt x="7" y="20"/>
                </a:lnTo>
                <a:lnTo>
                  <a:pt x="14" y="20"/>
                </a:lnTo>
                <a:lnTo>
                  <a:pt x="14" y="27"/>
                </a:lnTo>
                <a:lnTo>
                  <a:pt x="14" y="27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6" name=""/>
          <p:cNvSpPr/>
          <p:nvPr/>
        </p:nvSpPr>
        <p:spPr>
          <a:xfrm flipH="1">
            <a:off x="6238440" y="3876840"/>
            <a:ext cx="11160" cy="10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7" name=""/>
          <p:cNvSpPr/>
          <p:nvPr/>
        </p:nvSpPr>
        <p:spPr>
          <a:xfrm>
            <a:off x="4925880" y="3887640"/>
            <a:ext cx="1312920" cy="1071720"/>
          </a:xfrm>
          <a:custGeom>
            <a:avLst/>
            <a:gdLst/>
            <a:ahLst/>
            <a:rect l="l" t="t" r="r" b="b"/>
            <a:pathLst>
              <a:path w="827" h="675">
                <a:moveTo>
                  <a:pt x="827" y="0"/>
                </a:moveTo>
                <a:lnTo>
                  <a:pt x="820" y="6"/>
                </a:lnTo>
                <a:lnTo>
                  <a:pt x="814" y="6"/>
                </a:lnTo>
                <a:lnTo>
                  <a:pt x="807" y="13"/>
                </a:lnTo>
                <a:lnTo>
                  <a:pt x="807" y="20"/>
                </a:lnTo>
                <a:lnTo>
                  <a:pt x="800" y="20"/>
                </a:lnTo>
                <a:lnTo>
                  <a:pt x="786" y="27"/>
                </a:lnTo>
                <a:lnTo>
                  <a:pt x="779" y="34"/>
                </a:lnTo>
                <a:lnTo>
                  <a:pt x="772" y="34"/>
                </a:lnTo>
                <a:lnTo>
                  <a:pt x="772" y="41"/>
                </a:lnTo>
                <a:lnTo>
                  <a:pt x="765" y="48"/>
                </a:lnTo>
                <a:lnTo>
                  <a:pt x="758" y="55"/>
                </a:lnTo>
                <a:lnTo>
                  <a:pt x="751" y="55"/>
                </a:lnTo>
                <a:lnTo>
                  <a:pt x="745" y="62"/>
                </a:lnTo>
                <a:lnTo>
                  <a:pt x="738" y="68"/>
                </a:lnTo>
                <a:lnTo>
                  <a:pt x="731" y="68"/>
                </a:lnTo>
                <a:lnTo>
                  <a:pt x="724" y="75"/>
                </a:lnTo>
                <a:lnTo>
                  <a:pt x="717" y="82"/>
                </a:lnTo>
                <a:lnTo>
                  <a:pt x="710" y="82"/>
                </a:lnTo>
                <a:lnTo>
                  <a:pt x="703" y="89"/>
                </a:lnTo>
                <a:lnTo>
                  <a:pt x="703" y="96"/>
                </a:lnTo>
                <a:lnTo>
                  <a:pt x="696" y="103"/>
                </a:lnTo>
                <a:lnTo>
                  <a:pt x="696" y="110"/>
                </a:lnTo>
                <a:lnTo>
                  <a:pt x="696" y="117"/>
                </a:lnTo>
                <a:lnTo>
                  <a:pt x="696" y="124"/>
                </a:lnTo>
                <a:lnTo>
                  <a:pt x="696" y="124"/>
                </a:lnTo>
                <a:lnTo>
                  <a:pt x="696" y="130"/>
                </a:lnTo>
                <a:lnTo>
                  <a:pt x="689" y="137"/>
                </a:lnTo>
                <a:lnTo>
                  <a:pt x="689" y="144"/>
                </a:lnTo>
                <a:lnTo>
                  <a:pt x="689" y="151"/>
                </a:lnTo>
                <a:lnTo>
                  <a:pt x="689" y="158"/>
                </a:lnTo>
                <a:lnTo>
                  <a:pt x="689" y="165"/>
                </a:lnTo>
                <a:lnTo>
                  <a:pt x="689" y="172"/>
                </a:lnTo>
                <a:lnTo>
                  <a:pt x="689" y="179"/>
                </a:lnTo>
                <a:lnTo>
                  <a:pt x="683" y="186"/>
                </a:lnTo>
                <a:lnTo>
                  <a:pt x="683" y="192"/>
                </a:lnTo>
                <a:lnTo>
                  <a:pt x="683" y="199"/>
                </a:lnTo>
                <a:lnTo>
                  <a:pt x="683" y="199"/>
                </a:lnTo>
                <a:lnTo>
                  <a:pt x="683" y="206"/>
                </a:lnTo>
                <a:lnTo>
                  <a:pt x="683" y="213"/>
                </a:lnTo>
                <a:lnTo>
                  <a:pt x="683" y="220"/>
                </a:lnTo>
                <a:lnTo>
                  <a:pt x="676" y="227"/>
                </a:lnTo>
                <a:lnTo>
                  <a:pt x="676" y="234"/>
                </a:lnTo>
                <a:lnTo>
                  <a:pt x="676" y="241"/>
                </a:lnTo>
                <a:lnTo>
                  <a:pt x="676" y="248"/>
                </a:lnTo>
                <a:lnTo>
                  <a:pt x="676" y="254"/>
                </a:lnTo>
                <a:lnTo>
                  <a:pt x="676" y="261"/>
                </a:lnTo>
                <a:lnTo>
                  <a:pt x="676" y="268"/>
                </a:lnTo>
                <a:lnTo>
                  <a:pt x="676" y="275"/>
                </a:lnTo>
                <a:lnTo>
                  <a:pt x="676" y="275"/>
                </a:lnTo>
                <a:lnTo>
                  <a:pt x="676" y="282"/>
                </a:lnTo>
                <a:lnTo>
                  <a:pt x="676" y="289"/>
                </a:lnTo>
                <a:lnTo>
                  <a:pt x="676" y="296"/>
                </a:lnTo>
                <a:lnTo>
                  <a:pt x="676" y="303"/>
                </a:lnTo>
                <a:lnTo>
                  <a:pt x="676" y="310"/>
                </a:lnTo>
                <a:lnTo>
                  <a:pt x="676" y="316"/>
                </a:lnTo>
                <a:lnTo>
                  <a:pt x="683" y="323"/>
                </a:lnTo>
                <a:lnTo>
                  <a:pt x="683" y="330"/>
                </a:lnTo>
                <a:lnTo>
                  <a:pt x="689" y="330"/>
                </a:lnTo>
                <a:lnTo>
                  <a:pt x="689" y="337"/>
                </a:lnTo>
                <a:lnTo>
                  <a:pt x="689" y="344"/>
                </a:lnTo>
                <a:lnTo>
                  <a:pt x="689" y="351"/>
                </a:lnTo>
                <a:lnTo>
                  <a:pt x="689" y="358"/>
                </a:lnTo>
                <a:lnTo>
                  <a:pt x="683" y="365"/>
                </a:lnTo>
                <a:lnTo>
                  <a:pt x="676" y="372"/>
                </a:lnTo>
                <a:lnTo>
                  <a:pt x="669" y="372"/>
                </a:lnTo>
                <a:lnTo>
                  <a:pt x="655" y="372"/>
                </a:lnTo>
                <a:lnTo>
                  <a:pt x="648" y="372"/>
                </a:lnTo>
                <a:lnTo>
                  <a:pt x="634" y="372"/>
                </a:lnTo>
                <a:lnTo>
                  <a:pt x="627" y="372"/>
                </a:lnTo>
                <a:lnTo>
                  <a:pt x="620" y="372"/>
                </a:lnTo>
                <a:lnTo>
                  <a:pt x="607" y="372"/>
                </a:lnTo>
                <a:lnTo>
                  <a:pt x="600" y="372"/>
                </a:lnTo>
                <a:lnTo>
                  <a:pt x="586" y="372"/>
                </a:lnTo>
                <a:lnTo>
                  <a:pt x="579" y="372"/>
                </a:lnTo>
                <a:lnTo>
                  <a:pt x="572" y="372"/>
                </a:lnTo>
                <a:lnTo>
                  <a:pt x="558" y="372"/>
                </a:lnTo>
                <a:lnTo>
                  <a:pt x="552" y="378"/>
                </a:lnTo>
                <a:lnTo>
                  <a:pt x="545" y="378"/>
                </a:lnTo>
                <a:lnTo>
                  <a:pt x="531" y="385"/>
                </a:lnTo>
                <a:lnTo>
                  <a:pt x="524" y="385"/>
                </a:lnTo>
                <a:lnTo>
                  <a:pt x="517" y="392"/>
                </a:lnTo>
                <a:lnTo>
                  <a:pt x="510" y="399"/>
                </a:lnTo>
                <a:lnTo>
                  <a:pt x="510" y="399"/>
                </a:lnTo>
                <a:lnTo>
                  <a:pt x="510" y="406"/>
                </a:lnTo>
                <a:lnTo>
                  <a:pt x="510" y="413"/>
                </a:lnTo>
                <a:lnTo>
                  <a:pt x="510" y="420"/>
                </a:lnTo>
                <a:lnTo>
                  <a:pt x="503" y="427"/>
                </a:lnTo>
                <a:lnTo>
                  <a:pt x="503" y="434"/>
                </a:lnTo>
                <a:lnTo>
                  <a:pt x="496" y="440"/>
                </a:lnTo>
                <a:lnTo>
                  <a:pt x="483" y="440"/>
                </a:lnTo>
                <a:lnTo>
                  <a:pt x="476" y="447"/>
                </a:lnTo>
                <a:lnTo>
                  <a:pt x="469" y="447"/>
                </a:lnTo>
                <a:lnTo>
                  <a:pt x="462" y="447"/>
                </a:lnTo>
                <a:lnTo>
                  <a:pt x="448" y="454"/>
                </a:lnTo>
                <a:lnTo>
                  <a:pt x="441" y="454"/>
                </a:lnTo>
                <a:lnTo>
                  <a:pt x="434" y="461"/>
                </a:lnTo>
                <a:lnTo>
                  <a:pt x="434" y="468"/>
                </a:lnTo>
                <a:lnTo>
                  <a:pt x="441" y="475"/>
                </a:lnTo>
                <a:lnTo>
                  <a:pt x="441" y="482"/>
                </a:lnTo>
                <a:lnTo>
                  <a:pt x="441" y="482"/>
                </a:lnTo>
                <a:lnTo>
                  <a:pt x="434" y="489"/>
                </a:lnTo>
                <a:lnTo>
                  <a:pt x="427" y="496"/>
                </a:lnTo>
                <a:lnTo>
                  <a:pt x="414" y="496"/>
                </a:lnTo>
                <a:lnTo>
                  <a:pt x="407" y="502"/>
                </a:lnTo>
                <a:lnTo>
                  <a:pt x="400" y="502"/>
                </a:lnTo>
                <a:lnTo>
                  <a:pt x="386" y="502"/>
                </a:lnTo>
                <a:lnTo>
                  <a:pt x="379" y="502"/>
                </a:lnTo>
                <a:lnTo>
                  <a:pt x="372" y="509"/>
                </a:lnTo>
                <a:lnTo>
                  <a:pt x="365" y="509"/>
                </a:lnTo>
                <a:lnTo>
                  <a:pt x="365" y="516"/>
                </a:lnTo>
                <a:lnTo>
                  <a:pt x="372" y="523"/>
                </a:lnTo>
                <a:lnTo>
                  <a:pt x="386" y="523"/>
                </a:lnTo>
                <a:lnTo>
                  <a:pt x="393" y="530"/>
                </a:lnTo>
                <a:lnTo>
                  <a:pt x="400" y="530"/>
                </a:lnTo>
                <a:lnTo>
                  <a:pt x="400" y="537"/>
                </a:lnTo>
                <a:lnTo>
                  <a:pt x="407" y="544"/>
                </a:lnTo>
                <a:lnTo>
                  <a:pt x="414" y="551"/>
                </a:lnTo>
                <a:lnTo>
                  <a:pt x="414" y="551"/>
                </a:lnTo>
                <a:lnTo>
                  <a:pt x="421" y="558"/>
                </a:lnTo>
                <a:lnTo>
                  <a:pt x="421" y="564"/>
                </a:lnTo>
                <a:lnTo>
                  <a:pt x="421" y="571"/>
                </a:lnTo>
                <a:lnTo>
                  <a:pt x="427" y="578"/>
                </a:lnTo>
                <a:lnTo>
                  <a:pt x="434" y="585"/>
                </a:lnTo>
                <a:lnTo>
                  <a:pt x="434" y="592"/>
                </a:lnTo>
                <a:lnTo>
                  <a:pt x="441" y="592"/>
                </a:lnTo>
                <a:lnTo>
                  <a:pt x="441" y="599"/>
                </a:lnTo>
                <a:lnTo>
                  <a:pt x="441" y="606"/>
                </a:lnTo>
                <a:lnTo>
                  <a:pt x="434" y="613"/>
                </a:lnTo>
                <a:lnTo>
                  <a:pt x="427" y="613"/>
                </a:lnTo>
                <a:lnTo>
                  <a:pt x="421" y="613"/>
                </a:lnTo>
                <a:lnTo>
                  <a:pt x="414" y="606"/>
                </a:lnTo>
                <a:lnTo>
                  <a:pt x="407" y="599"/>
                </a:lnTo>
                <a:lnTo>
                  <a:pt x="400" y="599"/>
                </a:lnTo>
                <a:lnTo>
                  <a:pt x="386" y="599"/>
                </a:lnTo>
                <a:lnTo>
                  <a:pt x="379" y="599"/>
                </a:lnTo>
                <a:lnTo>
                  <a:pt x="372" y="606"/>
                </a:lnTo>
                <a:lnTo>
                  <a:pt x="365" y="606"/>
                </a:lnTo>
                <a:lnTo>
                  <a:pt x="358" y="613"/>
                </a:lnTo>
                <a:lnTo>
                  <a:pt x="352" y="620"/>
                </a:lnTo>
                <a:lnTo>
                  <a:pt x="345" y="620"/>
                </a:lnTo>
                <a:lnTo>
                  <a:pt x="338" y="626"/>
                </a:lnTo>
                <a:lnTo>
                  <a:pt x="331" y="626"/>
                </a:lnTo>
                <a:lnTo>
                  <a:pt x="317" y="626"/>
                </a:lnTo>
                <a:lnTo>
                  <a:pt x="310" y="626"/>
                </a:lnTo>
                <a:lnTo>
                  <a:pt x="296" y="626"/>
                </a:lnTo>
                <a:lnTo>
                  <a:pt x="290" y="626"/>
                </a:lnTo>
                <a:lnTo>
                  <a:pt x="276" y="626"/>
                </a:lnTo>
                <a:lnTo>
                  <a:pt x="276" y="633"/>
                </a:lnTo>
                <a:lnTo>
                  <a:pt x="269" y="640"/>
                </a:lnTo>
                <a:lnTo>
                  <a:pt x="262" y="647"/>
                </a:lnTo>
                <a:lnTo>
                  <a:pt x="255" y="647"/>
                </a:lnTo>
                <a:lnTo>
                  <a:pt x="255" y="654"/>
                </a:lnTo>
                <a:lnTo>
                  <a:pt x="248" y="661"/>
                </a:lnTo>
                <a:lnTo>
                  <a:pt x="241" y="668"/>
                </a:lnTo>
                <a:lnTo>
                  <a:pt x="234" y="668"/>
                </a:lnTo>
                <a:lnTo>
                  <a:pt x="221" y="675"/>
                </a:lnTo>
                <a:lnTo>
                  <a:pt x="214" y="675"/>
                </a:lnTo>
                <a:lnTo>
                  <a:pt x="207" y="668"/>
                </a:lnTo>
                <a:lnTo>
                  <a:pt x="193" y="668"/>
                </a:lnTo>
                <a:lnTo>
                  <a:pt x="186" y="668"/>
                </a:lnTo>
                <a:lnTo>
                  <a:pt x="179" y="661"/>
                </a:lnTo>
                <a:lnTo>
                  <a:pt x="172" y="654"/>
                </a:lnTo>
                <a:lnTo>
                  <a:pt x="165" y="654"/>
                </a:lnTo>
                <a:lnTo>
                  <a:pt x="159" y="647"/>
                </a:lnTo>
                <a:lnTo>
                  <a:pt x="152" y="640"/>
                </a:lnTo>
                <a:lnTo>
                  <a:pt x="145" y="640"/>
                </a:lnTo>
                <a:lnTo>
                  <a:pt x="138" y="633"/>
                </a:lnTo>
                <a:lnTo>
                  <a:pt x="138" y="626"/>
                </a:lnTo>
                <a:lnTo>
                  <a:pt x="131" y="626"/>
                </a:lnTo>
                <a:lnTo>
                  <a:pt x="117" y="626"/>
                </a:lnTo>
                <a:lnTo>
                  <a:pt x="110" y="626"/>
                </a:lnTo>
                <a:lnTo>
                  <a:pt x="103" y="633"/>
                </a:lnTo>
                <a:lnTo>
                  <a:pt x="96" y="626"/>
                </a:lnTo>
                <a:lnTo>
                  <a:pt x="96" y="620"/>
                </a:lnTo>
                <a:lnTo>
                  <a:pt x="90" y="613"/>
                </a:lnTo>
                <a:lnTo>
                  <a:pt x="90" y="606"/>
                </a:lnTo>
                <a:lnTo>
                  <a:pt x="90" y="599"/>
                </a:lnTo>
                <a:lnTo>
                  <a:pt x="83" y="592"/>
                </a:lnTo>
                <a:lnTo>
                  <a:pt x="76" y="585"/>
                </a:lnTo>
                <a:lnTo>
                  <a:pt x="69" y="585"/>
                </a:lnTo>
                <a:lnTo>
                  <a:pt x="55" y="585"/>
                </a:lnTo>
                <a:lnTo>
                  <a:pt x="48" y="578"/>
                </a:lnTo>
                <a:lnTo>
                  <a:pt x="41" y="585"/>
                </a:lnTo>
                <a:lnTo>
                  <a:pt x="34" y="585"/>
                </a:lnTo>
                <a:lnTo>
                  <a:pt x="28" y="592"/>
                </a:lnTo>
                <a:lnTo>
                  <a:pt x="21" y="599"/>
                </a:lnTo>
                <a:lnTo>
                  <a:pt x="14" y="606"/>
                </a:lnTo>
                <a:lnTo>
                  <a:pt x="7" y="606"/>
                </a:lnTo>
                <a:lnTo>
                  <a:pt x="0" y="606"/>
                </a:lnTo>
                <a:lnTo>
                  <a:pt x="14" y="599"/>
                </a:lnTo>
                <a:lnTo>
                  <a:pt x="28" y="599"/>
                </a:lnTo>
                <a:lnTo>
                  <a:pt x="34" y="592"/>
                </a:lnTo>
                <a:lnTo>
                  <a:pt x="41" y="592"/>
                </a:lnTo>
                <a:lnTo>
                  <a:pt x="41" y="578"/>
                </a:lnTo>
                <a:lnTo>
                  <a:pt x="41" y="571"/>
                </a:lnTo>
                <a:lnTo>
                  <a:pt x="34" y="571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8" name=""/>
          <p:cNvSpPr/>
          <p:nvPr/>
        </p:nvSpPr>
        <p:spPr>
          <a:xfrm>
            <a:off x="4979880" y="4794120"/>
            <a:ext cx="1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9" name=""/>
          <p:cNvSpPr/>
          <p:nvPr/>
        </p:nvSpPr>
        <p:spPr>
          <a:xfrm>
            <a:off x="4881600" y="4675320"/>
            <a:ext cx="66600" cy="64800"/>
          </a:xfrm>
          <a:custGeom>
            <a:avLst/>
            <a:gdLst/>
            <a:ahLst/>
            <a:rect l="l" t="t" r="r" b="b"/>
            <a:pathLst>
              <a:path w="42" h="41">
                <a:moveTo>
                  <a:pt x="42" y="27"/>
                </a:moveTo>
                <a:lnTo>
                  <a:pt x="35" y="20"/>
                </a:lnTo>
                <a:lnTo>
                  <a:pt x="35" y="20"/>
                </a:lnTo>
                <a:lnTo>
                  <a:pt x="35" y="20"/>
                </a:lnTo>
                <a:lnTo>
                  <a:pt x="35" y="20"/>
                </a:lnTo>
                <a:lnTo>
                  <a:pt x="35" y="13"/>
                </a:lnTo>
                <a:lnTo>
                  <a:pt x="35" y="13"/>
                </a:lnTo>
                <a:lnTo>
                  <a:pt x="35" y="13"/>
                </a:lnTo>
                <a:lnTo>
                  <a:pt x="35" y="13"/>
                </a:lnTo>
                <a:lnTo>
                  <a:pt x="35" y="13"/>
                </a:lnTo>
                <a:lnTo>
                  <a:pt x="35" y="6"/>
                </a:lnTo>
                <a:lnTo>
                  <a:pt x="35" y="6"/>
                </a:lnTo>
                <a:lnTo>
                  <a:pt x="35" y="6"/>
                </a:lnTo>
                <a:lnTo>
                  <a:pt x="35" y="6"/>
                </a:lnTo>
                <a:lnTo>
                  <a:pt x="28" y="6"/>
                </a:lnTo>
                <a:lnTo>
                  <a:pt x="28" y="6"/>
                </a:lnTo>
                <a:lnTo>
                  <a:pt x="28" y="6"/>
                </a:lnTo>
                <a:lnTo>
                  <a:pt x="28" y="6"/>
                </a:lnTo>
                <a:lnTo>
                  <a:pt x="21" y="6"/>
                </a:lnTo>
                <a:lnTo>
                  <a:pt x="21" y="13"/>
                </a:lnTo>
                <a:lnTo>
                  <a:pt x="21" y="13"/>
                </a:lnTo>
                <a:lnTo>
                  <a:pt x="14" y="13"/>
                </a:lnTo>
                <a:lnTo>
                  <a:pt x="21" y="13"/>
                </a:lnTo>
                <a:lnTo>
                  <a:pt x="21" y="13"/>
                </a:lnTo>
                <a:lnTo>
                  <a:pt x="21" y="13"/>
                </a:lnTo>
                <a:lnTo>
                  <a:pt x="21" y="13"/>
                </a:lnTo>
                <a:lnTo>
                  <a:pt x="21" y="13"/>
                </a:lnTo>
                <a:lnTo>
                  <a:pt x="28" y="13"/>
                </a:lnTo>
                <a:lnTo>
                  <a:pt x="28" y="20"/>
                </a:lnTo>
                <a:lnTo>
                  <a:pt x="28" y="20"/>
                </a:lnTo>
                <a:lnTo>
                  <a:pt x="28" y="20"/>
                </a:lnTo>
                <a:lnTo>
                  <a:pt x="28" y="20"/>
                </a:lnTo>
                <a:lnTo>
                  <a:pt x="28" y="27"/>
                </a:lnTo>
                <a:lnTo>
                  <a:pt x="28" y="27"/>
                </a:lnTo>
                <a:lnTo>
                  <a:pt x="28" y="34"/>
                </a:lnTo>
                <a:lnTo>
                  <a:pt x="28" y="34"/>
                </a:lnTo>
                <a:lnTo>
                  <a:pt x="28" y="34"/>
                </a:lnTo>
                <a:lnTo>
                  <a:pt x="28" y="41"/>
                </a:lnTo>
                <a:lnTo>
                  <a:pt x="21" y="41"/>
                </a:lnTo>
                <a:lnTo>
                  <a:pt x="21" y="41"/>
                </a:lnTo>
                <a:lnTo>
                  <a:pt x="21" y="41"/>
                </a:lnTo>
                <a:lnTo>
                  <a:pt x="21" y="41"/>
                </a:lnTo>
                <a:lnTo>
                  <a:pt x="14" y="41"/>
                </a:lnTo>
                <a:lnTo>
                  <a:pt x="14" y="41"/>
                </a:lnTo>
                <a:lnTo>
                  <a:pt x="14" y="41"/>
                </a:lnTo>
                <a:lnTo>
                  <a:pt x="14" y="41"/>
                </a:lnTo>
                <a:lnTo>
                  <a:pt x="7" y="41"/>
                </a:lnTo>
                <a:lnTo>
                  <a:pt x="7" y="41"/>
                </a:lnTo>
                <a:lnTo>
                  <a:pt x="7" y="41"/>
                </a:lnTo>
                <a:lnTo>
                  <a:pt x="7" y="41"/>
                </a:lnTo>
                <a:lnTo>
                  <a:pt x="0" y="34"/>
                </a:lnTo>
                <a:lnTo>
                  <a:pt x="0" y="34"/>
                </a:lnTo>
                <a:lnTo>
                  <a:pt x="0" y="27"/>
                </a:lnTo>
                <a:lnTo>
                  <a:pt x="0" y="27"/>
                </a:lnTo>
                <a:lnTo>
                  <a:pt x="0" y="20"/>
                </a:lnTo>
                <a:lnTo>
                  <a:pt x="7" y="20"/>
                </a:lnTo>
                <a:lnTo>
                  <a:pt x="7" y="13"/>
                </a:lnTo>
                <a:lnTo>
                  <a:pt x="14" y="13"/>
                </a:lnTo>
                <a:lnTo>
                  <a:pt x="14" y="6"/>
                </a:lnTo>
                <a:lnTo>
                  <a:pt x="21" y="6"/>
                </a:lnTo>
                <a:lnTo>
                  <a:pt x="21" y="6"/>
                </a:lnTo>
                <a:lnTo>
                  <a:pt x="28" y="0"/>
                </a:lnTo>
                <a:lnTo>
                  <a:pt x="35" y="6"/>
                </a:lnTo>
                <a:lnTo>
                  <a:pt x="35" y="6"/>
                </a:lnTo>
                <a:lnTo>
                  <a:pt x="35" y="6"/>
                </a:lnTo>
                <a:lnTo>
                  <a:pt x="42" y="6"/>
                </a:lnTo>
                <a:lnTo>
                  <a:pt x="42" y="13"/>
                </a:lnTo>
                <a:lnTo>
                  <a:pt x="42" y="13"/>
                </a:lnTo>
                <a:lnTo>
                  <a:pt x="42" y="13"/>
                </a:lnTo>
                <a:lnTo>
                  <a:pt x="42" y="13"/>
                </a:lnTo>
                <a:lnTo>
                  <a:pt x="42" y="20"/>
                </a:lnTo>
                <a:lnTo>
                  <a:pt x="42" y="20"/>
                </a:lnTo>
                <a:lnTo>
                  <a:pt x="42" y="20"/>
                </a:lnTo>
                <a:lnTo>
                  <a:pt x="42" y="27"/>
                </a:lnTo>
                <a:close/>
                <a:moveTo>
                  <a:pt x="7" y="20"/>
                </a:moveTo>
                <a:lnTo>
                  <a:pt x="7" y="20"/>
                </a:lnTo>
                <a:lnTo>
                  <a:pt x="7" y="20"/>
                </a:lnTo>
                <a:lnTo>
                  <a:pt x="7" y="27"/>
                </a:lnTo>
                <a:lnTo>
                  <a:pt x="7" y="27"/>
                </a:lnTo>
                <a:lnTo>
                  <a:pt x="7" y="27"/>
                </a:lnTo>
                <a:lnTo>
                  <a:pt x="7" y="27"/>
                </a:lnTo>
                <a:lnTo>
                  <a:pt x="7" y="27"/>
                </a:lnTo>
                <a:lnTo>
                  <a:pt x="7" y="27"/>
                </a:lnTo>
                <a:lnTo>
                  <a:pt x="7" y="34"/>
                </a:lnTo>
                <a:lnTo>
                  <a:pt x="7" y="34"/>
                </a:lnTo>
                <a:lnTo>
                  <a:pt x="7" y="34"/>
                </a:lnTo>
                <a:lnTo>
                  <a:pt x="7" y="34"/>
                </a:lnTo>
                <a:lnTo>
                  <a:pt x="7" y="34"/>
                </a:lnTo>
                <a:lnTo>
                  <a:pt x="14" y="34"/>
                </a:lnTo>
                <a:lnTo>
                  <a:pt x="14" y="34"/>
                </a:lnTo>
                <a:lnTo>
                  <a:pt x="14" y="34"/>
                </a:lnTo>
                <a:lnTo>
                  <a:pt x="14" y="34"/>
                </a:lnTo>
                <a:lnTo>
                  <a:pt x="21" y="34"/>
                </a:lnTo>
                <a:lnTo>
                  <a:pt x="21" y="34"/>
                </a:lnTo>
                <a:lnTo>
                  <a:pt x="21" y="34"/>
                </a:lnTo>
                <a:lnTo>
                  <a:pt x="21" y="34"/>
                </a:lnTo>
                <a:lnTo>
                  <a:pt x="21" y="34"/>
                </a:lnTo>
                <a:lnTo>
                  <a:pt x="28" y="27"/>
                </a:lnTo>
                <a:lnTo>
                  <a:pt x="28" y="27"/>
                </a:lnTo>
                <a:lnTo>
                  <a:pt x="28" y="27"/>
                </a:lnTo>
                <a:lnTo>
                  <a:pt x="28" y="27"/>
                </a:lnTo>
                <a:lnTo>
                  <a:pt x="21" y="20"/>
                </a:lnTo>
                <a:lnTo>
                  <a:pt x="21" y="20"/>
                </a:lnTo>
                <a:lnTo>
                  <a:pt x="21" y="20"/>
                </a:lnTo>
                <a:lnTo>
                  <a:pt x="21" y="20"/>
                </a:lnTo>
                <a:lnTo>
                  <a:pt x="21" y="20"/>
                </a:lnTo>
                <a:lnTo>
                  <a:pt x="14" y="20"/>
                </a:lnTo>
                <a:lnTo>
                  <a:pt x="14" y="20"/>
                </a:lnTo>
                <a:lnTo>
                  <a:pt x="14" y="20"/>
                </a:lnTo>
                <a:lnTo>
                  <a:pt x="14" y="20"/>
                </a:lnTo>
                <a:lnTo>
                  <a:pt x="7" y="2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0" name=""/>
          <p:cNvSpPr/>
          <p:nvPr/>
        </p:nvSpPr>
        <p:spPr>
          <a:xfrm>
            <a:off x="4915080" y="4718160"/>
            <a:ext cx="64800" cy="64800"/>
          </a:xfrm>
          <a:custGeom>
            <a:avLst/>
            <a:gdLst/>
            <a:ahLst/>
            <a:rect l="l" t="t" r="r" b="b"/>
            <a:pathLst>
              <a:path w="41" h="41">
                <a:moveTo>
                  <a:pt x="14" y="7"/>
                </a:moveTo>
                <a:lnTo>
                  <a:pt x="14" y="7"/>
                </a:lnTo>
                <a:lnTo>
                  <a:pt x="21" y="7"/>
                </a:lnTo>
                <a:lnTo>
                  <a:pt x="21" y="7"/>
                </a:lnTo>
                <a:lnTo>
                  <a:pt x="28" y="0"/>
                </a:lnTo>
                <a:lnTo>
                  <a:pt x="28" y="0"/>
                </a:lnTo>
                <a:lnTo>
                  <a:pt x="28" y="0"/>
                </a:lnTo>
                <a:lnTo>
                  <a:pt x="35" y="0"/>
                </a:lnTo>
                <a:lnTo>
                  <a:pt x="35" y="0"/>
                </a:lnTo>
                <a:lnTo>
                  <a:pt x="35" y="0"/>
                </a:lnTo>
                <a:lnTo>
                  <a:pt x="35" y="0"/>
                </a:lnTo>
                <a:lnTo>
                  <a:pt x="41" y="7"/>
                </a:lnTo>
                <a:lnTo>
                  <a:pt x="41" y="7"/>
                </a:lnTo>
                <a:lnTo>
                  <a:pt x="41" y="7"/>
                </a:lnTo>
                <a:lnTo>
                  <a:pt x="41" y="7"/>
                </a:lnTo>
                <a:lnTo>
                  <a:pt x="41" y="14"/>
                </a:lnTo>
                <a:lnTo>
                  <a:pt x="41" y="14"/>
                </a:lnTo>
                <a:lnTo>
                  <a:pt x="41" y="14"/>
                </a:lnTo>
                <a:lnTo>
                  <a:pt x="41" y="14"/>
                </a:lnTo>
                <a:lnTo>
                  <a:pt x="41" y="14"/>
                </a:lnTo>
                <a:lnTo>
                  <a:pt x="41" y="21"/>
                </a:lnTo>
                <a:lnTo>
                  <a:pt x="41" y="21"/>
                </a:lnTo>
                <a:lnTo>
                  <a:pt x="41" y="21"/>
                </a:lnTo>
                <a:lnTo>
                  <a:pt x="41" y="21"/>
                </a:lnTo>
                <a:lnTo>
                  <a:pt x="41" y="28"/>
                </a:lnTo>
                <a:lnTo>
                  <a:pt x="41" y="28"/>
                </a:lnTo>
                <a:lnTo>
                  <a:pt x="35" y="28"/>
                </a:lnTo>
                <a:lnTo>
                  <a:pt x="35" y="28"/>
                </a:lnTo>
                <a:lnTo>
                  <a:pt x="35" y="35"/>
                </a:lnTo>
                <a:lnTo>
                  <a:pt x="28" y="35"/>
                </a:lnTo>
                <a:lnTo>
                  <a:pt x="28" y="35"/>
                </a:lnTo>
                <a:lnTo>
                  <a:pt x="28" y="41"/>
                </a:lnTo>
                <a:lnTo>
                  <a:pt x="21" y="41"/>
                </a:lnTo>
                <a:lnTo>
                  <a:pt x="21" y="41"/>
                </a:lnTo>
                <a:lnTo>
                  <a:pt x="21" y="41"/>
                </a:lnTo>
                <a:lnTo>
                  <a:pt x="14" y="41"/>
                </a:lnTo>
                <a:lnTo>
                  <a:pt x="14" y="41"/>
                </a:lnTo>
                <a:lnTo>
                  <a:pt x="14" y="41"/>
                </a:lnTo>
                <a:lnTo>
                  <a:pt x="7" y="41"/>
                </a:lnTo>
                <a:lnTo>
                  <a:pt x="7" y="35"/>
                </a:lnTo>
                <a:lnTo>
                  <a:pt x="7" y="35"/>
                </a:lnTo>
                <a:lnTo>
                  <a:pt x="7" y="35"/>
                </a:lnTo>
                <a:lnTo>
                  <a:pt x="0" y="28"/>
                </a:lnTo>
                <a:lnTo>
                  <a:pt x="0" y="28"/>
                </a:lnTo>
                <a:lnTo>
                  <a:pt x="0" y="28"/>
                </a:lnTo>
                <a:lnTo>
                  <a:pt x="7" y="21"/>
                </a:lnTo>
                <a:lnTo>
                  <a:pt x="7" y="21"/>
                </a:lnTo>
                <a:lnTo>
                  <a:pt x="7" y="14"/>
                </a:lnTo>
                <a:lnTo>
                  <a:pt x="14" y="7"/>
                </a:lnTo>
                <a:close/>
                <a:moveTo>
                  <a:pt x="21" y="14"/>
                </a:moveTo>
                <a:lnTo>
                  <a:pt x="14" y="21"/>
                </a:lnTo>
                <a:lnTo>
                  <a:pt x="14" y="21"/>
                </a:lnTo>
                <a:lnTo>
                  <a:pt x="7" y="21"/>
                </a:lnTo>
                <a:lnTo>
                  <a:pt x="7" y="28"/>
                </a:lnTo>
                <a:lnTo>
                  <a:pt x="7" y="28"/>
                </a:lnTo>
                <a:lnTo>
                  <a:pt x="7" y="28"/>
                </a:lnTo>
                <a:lnTo>
                  <a:pt x="7" y="35"/>
                </a:lnTo>
                <a:lnTo>
                  <a:pt x="7" y="35"/>
                </a:lnTo>
                <a:lnTo>
                  <a:pt x="14" y="35"/>
                </a:lnTo>
                <a:lnTo>
                  <a:pt x="14" y="35"/>
                </a:lnTo>
                <a:lnTo>
                  <a:pt x="14" y="35"/>
                </a:lnTo>
                <a:lnTo>
                  <a:pt x="14" y="35"/>
                </a:lnTo>
                <a:lnTo>
                  <a:pt x="21" y="35"/>
                </a:lnTo>
                <a:lnTo>
                  <a:pt x="21" y="35"/>
                </a:lnTo>
                <a:lnTo>
                  <a:pt x="28" y="35"/>
                </a:lnTo>
                <a:lnTo>
                  <a:pt x="28" y="28"/>
                </a:lnTo>
                <a:lnTo>
                  <a:pt x="35" y="28"/>
                </a:lnTo>
                <a:lnTo>
                  <a:pt x="35" y="21"/>
                </a:lnTo>
                <a:lnTo>
                  <a:pt x="35" y="21"/>
                </a:lnTo>
                <a:lnTo>
                  <a:pt x="41" y="14"/>
                </a:lnTo>
                <a:lnTo>
                  <a:pt x="41" y="14"/>
                </a:lnTo>
                <a:lnTo>
                  <a:pt x="41" y="14"/>
                </a:lnTo>
                <a:lnTo>
                  <a:pt x="41" y="14"/>
                </a:lnTo>
                <a:lnTo>
                  <a:pt x="35" y="7"/>
                </a:lnTo>
                <a:lnTo>
                  <a:pt x="35" y="7"/>
                </a:lnTo>
                <a:lnTo>
                  <a:pt x="35" y="7"/>
                </a:lnTo>
                <a:lnTo>
                  <a:pt x="35" y="7"/>
                </a:lnTo>
                <a:lnTo>
                  <a:pt x="28" y="7"/>
                </a:lnTo>
                <a:lnTo>
                  <a:pt x="28" y="7"/>
                </a:lnTo>
                <a:lnTo>
                  <a:pt x="28" y="7"/>
                </a:lnTo>
                <a:lnTo>
                  <a:pt x="21" y="14"/>
                </a:lnTo>
                <a:lnTo>
                  <a:pt x="21" y="14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1" name=""/>
          <p:cNvSpPr/>
          <p:nvPr/>
        </p:nvSpPr>
        <p:spPr>
          <a:xfrm flipV="1">
            <a:off x="4881600" y="4663800"/>
            <a:ext cx="1440" cy="11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2" name=""/>
          <p:cNvSpPr/>
          <p:nvPr/>
        </p:nvSpPr>
        <p:spPr>
          <a:xfrm>
            <a:off x="4280040" y="4619520"/>
            <a:ext cx="941400" cy="1028880"/>
          </a:xfrm>
          <a:custGeom>
            <a:avLst/>
            <a:gdLst/>
            <a:ahLst/>
            <a:rect l="l" t="t" r="r" b="b"/>
            <a:pathLst>
              <a:path w="593" h="648">
                <a:moveTo>
                  <a:pt x="379" y="28"/>
                </a:moveTo>
                <a:lnTo>
                  <a:pt x="372" y="21"/>
                </a:lnTo>
                <a:lnTo>
                  <a:pt x="372" y="14"/>
                </a:lnTo>
                <a:lnTo>
                  <a:pt x="372" y="7"/>
                </a:lnTo>
                <a:lnTo>
                  <a:pt x="366" y="0"/>
                </a:lnTo>
                <a:lnTo>
                  <a:pt x="359" y="0"/>
                </a:lnTo>
                <a:lnTo>
                  <a:pt x="352" y="0"/>
                </a:lnTo>
                <a:lnTo>
                  <a:pt x="345" y="7"/>
                </a:lnTo>
                <a:lnTo>
                  <a:pt x="338" y="14"/>
                </a:lnTo>
                <a:lnTo>
                  <a:pt x="338" y="21"/>
                </a:lnTo>
                <a:lnTo>
                  <a:pt x="331" y="28"/>
                </a:lnTo>
                <a:lnTo>
                  <a:pt x="338" y="35"/>
                </a:lnTo>
                <a:lnTo>
                  <a:pt x="338" y="41"/>
                </a:lnTo>
                <a:lnTo>
                  <a:pt x="345" y="48"/>
                </a:lnTo>
                <a:lnTo>
                  <a:pt x="345" y="48"/>
                </a:lnTo>
                <a:lnTo>
                  <a:pt x="345" y="55"/>
                </a:lnTo>
                <a:lnTo>
                  <a:pt x="352" y="62"/>
                </a:lnTo>
                <a:lnTo>
                  <a:pt x="352" y="69"/>
                </a:lnTo>
                <a:lnTo>
                  <a:pt x="352" y="76"/>
                </a:lnTo>
                <a:lnTo>
                  <a:pt x="352" y="83"/>
                </a:lnTo>
                <a:lnTo>
                  <a:pt x="359" y="90"/>
                </a:lnTo>
                <a:lnTo>
                  <a:pt x="366" y="90"/>
                </a:lnTo>
                <a:lnTo>
                  <a:pt x="372" y="97"/>
                </a:lnTo>
                <a:lnTo>
                  <a:pt x="372" y="103"/>
                </a:lnTo>
                <a:lnTo>
                  <a:pt x="372" y="110"/>
                </a:lnTo>
                <a:lnTo>
                  <a:pt x="372" y="117"/>
                </a:lnTo>
                <a:lnTo>
                  <a:pt x="372" y="124"/>
                </a:lnTo>
                <a:lnTo>
                  <a:pt x="366" y="131"/>
                </a:lnTo>
                <a:lnTo>
                  <a:pt x="366" y="138"/>
                </a:lnTo>
                <a:lnTo>
                  <a:pt x="359" y="138"/>
                </a:lnTo>
                <a:lnTo>
                  <a:pt x="352" y="131"/>
                </a:lnTo>
                <a:lnTo>
                  <a:pt x="345" y="124"/>
                </a:lnTo>
                <a:lnTo>
                  <a:pt x="338" y="117"/>
                </a:lnTo>
                <a:lnTo>
                  <a:pt x="331" y="117"/>
                </a:lnTo>
                <a:lnTo>
                  <a:pt x="324" y="117"/>
                </a:lnTo>
                <a:lnTo>
                  <a:pt x="310" y="110"/>
                </a:lnTo>
                <a:lnTo>
                  <a:pt x="304" y="110"/>
                </a:lnTo>
                <a:lnTo>
                  <a:pt x="297" y="117"/>
                </a:lnTo>
                <a:lnTo>
                  <a:pt x="297" y="124"/>
                </a:lnTo>
                <a:lnTo>
                  <a:pt x="297" y="131"/>
                </a:lnTo>
                <a:lnTo>
                  <a:pt x="297" y="138"/>
                </a:lnTo>
                <a:lnTo>
                  <a:pt x="297" y="138"/>
                </a:lnTo>
                <a:lnTo>
                  <a:pt x="297" y="145"/>
                </a:lnTo>
                <a:lnTo>
                  <a:pt x="290" y="152"/>
                </a:lnTo>
                <a:lnTo>
                  <a:pt x="290" y="159"/>
                </a:lnTo>
                <a:lnTo>
                  <a:pt x="290" y="165"/>
                </a:lnTo>
                <a:lnTo>
                  <a:pt x="297" y="172"/>
                </a:lnTo>
                <a:lnTo>
                  <a:pt x="297" y="179"/>
                </a:lnTo>
                <a:lnTo>
                  <a:pt x="304" y="179"/>
                </a:lnTo>
                <a:lnTo>
                  <a:pt x="310" y="172"/>
                </a:lnTo>
                <a:lnTo>
                  <a:pt x="317" y="165"/>
                </a:lnTo>
                <a:lnTo>
                  <a:pt x="331" y="165"/>
                </a:lnTo>
                <a:lnTo>
                  <a:pt x="338" y="165"/>
                </a:lnTo>
                <a:lnTo>
                  <a:pt x="352" y="165"/>
                </a:lnTo>
                <a:lnTo>
                  <a:pt x="359" y="165"/>
                </a:lnTo>
                <a:lnTo>
                  <a:pt x="366" y="165"/>
                </a:lnTo>
                <a:lnTo>
                  <a:pt x="366" y="172"/>
                </a:lnTo>
                <a:lnTo>
                  <a:pt x="372" y="179"/>
                </a:lnTo>
                <a:lnTo>
                  <a:pt x="379" y="186"/>
                </a:lnTo>
                <a:lnTo>
                  <a:pt x="379" y="193"/>
                </a:lnTo>
                <a:lnTo>
                  <a:pt x="386" y="200"/>
                </a:lnTo>
                <a:lnTo>
                  <a:pt x="393" y="200"/>
                </a:lnTo>
                <a:lnTo>
                  <a:pt x="393" y="207"/>
                </a:lnTo>
                <a:lnTo>
                  <a:pt x="400" y="214"/>
                </a:lnTo>
                <a:lnTo>
                  <a:pt x="400" y="221"/>
                </a:lnTo>
                <a:lnTo>
                  <a:pt x="407" y="227"/>
                </a:lnTo>
                <a:lnTo>
                  <a:pt x="414" y="234"/>
                </a:lnTo>
                <a:lnTo>
                  <a:pt x="414" y="234"/>
                </a:lnTo>
                <a:lnTo>
                  <a:pt x="421" y="241"/>
                </a:lnTo>
                <a:lnTo>
                  <a:pt x="428" y="248"/>
                </a:lnTo>
                <a:lnTo>
                  <a:pt x="428" y="255"/>
                </a:lnTo>
                <a:lnTo>
                  <a:pt x="435" y="262"/>
                </a:lnTo>
                <a:lnTo>
                  <a:pt x="435" y="269"/>
                </a:lnTo>
                <a:lnTo>
                  <a:pt x="441" y="269"/>
                </a:lnTo>
                <a:lnTo>
                  <a:pt x="448" y="276"/>
                </a:lnTo>
                <a:lnTo>
                  <a:pt x="448" y="283"/>
                </a:lnTo>
                <a:lnTo>
                  <a:pt x="455" y="289"/>
                </a:lnTo>
                <a:lnTo>
                  <a:pt x="455" y="296"/>
                </a:lnTo>
                <a:lnTo>
                  <a:pt x="462" y="303"/>
                </a:lnTo>
                <a:lnTo>
                  <a:pt x="469" y="303"/>
                </a:lnTo>
                <a:lnTo>
                  <a:pt x="469" y="310"/>
                </a:lnTo>
                <a:lnTo>
                  <a:pt x="476" y="317"/>
                </a:lnTo>
                <a:lnTo>
                  <a:pt x="483" y="324"/>
                </a:lnTo>
                <a:lnTo>
                  <a:pt x="490" y="331"/>
                </a:lnTo>
                <a:lnTo>
                  <a:pt x="490" y="338"/>
                </a:lnTo>
                <a:lnTo>
                  <a:pt x="497" y="345"/>
                </a:lnTo>
                <a:lnTo>
                  <a:pt x="503" y="345"/>
                </a:lnTo>
                <a:lnTo>
                  <a:pt x="510" y="351"/>
                </a:lnTo>
                <a:lnTo>
                  <a:pt x="517" y="345"/>
                </a:lnTo>
                <a:lnTo>
                  <a:pt x="524" y="345"/>
                </a:lnTo>
                <a:lnTo>
                  <a:pt x="524" y="338"/>
                </a:lnTo>
                <a:lnTo>
                  <a:pt x="531" y="331"/>
                </a:lnTo>
                <a:lnTo>
                  <a:pt x="538" y="324"/>
                </a:lnTo>
                <a:lnTo>
                  <a:pt x="538" y="317"/>
                </a:lnTo>
                <a:lnTo>
                  <a:pt x="545" y="310"/>
                </a:lnTo>
                <a:lnTo>
                  <a:pt x="552" y="310"/>
                </a:lnTo>
                <a:lnTo>
                  <a:pt x="566" y="303"/>
                </a:lnTo>
                <a:lnTo>
                  <a:pt x="572" y="310"/>
                </a:lnTo>
                <a:lnTo>
                  <a:pt x="579" y="310"/>
                </a:lnTo>
                <a:lnTo>
                  <a:pt x="586" y="317"/>
                </a:lnTo>
                <a:lnTo>
                  <a:pt x="593" y="317"/>
                </a:lnTo>
                <a:lnTo>
                  <a:pt x="593" y="324"/>
                </a:lnTo>
                <a:lnTo>
                  <a:pt x="586" y="331"/>
                </a:lnTo>
                <a:lnTo>
                  <a:pt x="572" y="331"/>
                </a:lnTo>
                <a:lnTo>
                  <a:pt x="566" y="331"/>
                </a:lnTo>
                <a:lnTo>
                  <a:pt x="559" y="331"/>
                </a:lnTo>
                <a:lnTo>
                  <a:pt x="545" y="331"/>
                </a:lnTo>
                <a:lnTo>
                  <a:pt x="538" y="331"/>
                </a:lnTo>
                <a:lnTo>
                  <a:pt x="531" y="331"/>
                </a:lnTo>
                <a:lnTo>
                  <a:pt x="524" y="338"/>
                </a:lnTo>
                <a:lnTo>
                  <a:pt x="517" y="345"/>
                </a:lnTo>
                <a:lnTo>
                  <a:pt x="510" y="351"/>
                </a:lnTo>
                <a:lnTo>
                  <a:pt x="510" y="358"/>
                </a:lnTo>
                <a:lnTo>
                  <a:pt x="497" y="358"/>
                </a:lnTo>
                <a:lnTo>
                  <a:pt x="490" y="365"/>
                </a:lnTo>
                <a:lnTo>
                  <a:pt x="483" y="365"/>
                </a:lnTo>
                <a:lnTo>
                  <a:pt x="476" y="372"/>
                </a:lnTo>
                <a:lnTo>
                  <a:pt x="469" y="372"/>
                </a:lnTo>
                <a:lnTo>
                  <a:pt x="462" y="379"/>
                </a:lnTo>
                <a:lnTo>
                  <a:pt x="448" y="379"/>
                </a:lnTo>
                <a:lnTo>
                  <a:pt x="441" y="386"/>
                </a:lnTo>
                <a:lnTo>
                  <a:pt x="435" y="386"/>
                </a:lnTo>
                <a:lnTo>
                  <a:pt x="428" y="386"/>
                </a:lnTo>
                <a:lnTo>
                  <a:pt x="414" y="393"/>
                </a:lnTo>
                <a:lnTo>
                  <a:pt x="414" y="400"/>
                </a:lnTo>
                <a:lnTo>
                  <a:pt x="407" y="400"/>
                </a:lnTo>
                <a:lnTo>
                  <a:pt x="400" y="407"/>
                </a:lnTo>
                <a:lnTo>
                  <a:pt x="393" y="413"/>
                </a:lnTo>
                <a:lnTo>
                  <a:pt x="386" y="413"/>
                </a:lnTo>
                <a:lnTo>
                  <a:pt x="379" y="420"/>
                </a:lnTo>
                <a:lnTo>
                  <a:pt x="366" y="420"/>
                </a:lnTo>
                <a:lnTo>
                  <a:pt x="359" y="420"/>
                </a:lnTo>
                <a:lnTo>
                  <a:pt x="345" y="420"/>
                </a:lnTo>
                <a:lnTo>
                  <a:pt x="338" y="420"/>
                </a:lnTo>
                <a:lnTo>
                  <a:pt x="331" y="427"/>
                </a:lnTo>
                <a:lnTo>
                  <a:pt x="324" y="427"/>
                </a:lnTo>
                <a:lnTo>
                  <a:pt x="317" y="434"/>
                </a:lnTo>
                <a:lnTo>
                  <a:pt x="310" y="441"/>
                </a:lnTo>
                <a:lnTo>
                  <a:pt x="304" y="441"/>
                </a:lnTo>
                <a:lnTo>
                  <a:pt x="297" y="448"/>
                </a:lnTo>
                <a:lnTo>
                  <a:pt x="283" y="448"/>
                </a:lnTo>
                <a:lnTo>
                  <a:pt x="276" y="455"/>
                </a:lnTo>
                <a:lnTo>
                  <a:pt x="269" y="455"/>
                </a:lnTo>
                <a:lnTo>
                  <a:pt x="262" y="462"/>
                </a:lnTo>
                <a:lnTo>
                  <a:pt x="255" y="468"/>
                </a:lnTo>
                <a:lnTo>
                  <a:pt x="248" y="468"/>
                </a:lnTo>
                <a:lnTo>
                  <a:pt x="241" y="475"/>
                </a:lnTo>
                <a:lnTo>
                  <a:pt x="241" y="482"/>
                </a:lnTo>
                <a:lnTo>
                  <a:pt x="235" y="489"/>
                </a:lnTo>
                <a:lnTo>
                  <a:pt x="235" y="496"/>
                </a:lnTo>
                <a:lnTo>
                  <a:pt x="228" y="503"/>
                </a:lnTo>
                <a:lnTo>
                  <a:pt x="228" y="503"/>
                </a:lnTo>
                <a:lnTo>
                  <a:pt x="221" y="510"/>
                </a:lnTo>
                <a:lnTo>
                  <a:pt x="221" y="517"/>
                </a:lnTo>
                <a:lnTo>
                  <a:pt x="214" y="524"/>
                </a:lnTo>
                <a:lnTo>
                  <a:pt x="200" y="524"/>
                </a:lnTo>
                <a:lnTo>
                  <a:pt x="193" y="530"/>
                </a:lnTo>
                <a:lnTo>
                  <a:pt x="193" y="537"/>
                </a:lnTo>
                <a:lnTo>
                  <a:pt x="193" y="544"/>
                </a:lnTo>
                <a:lnTo>
                  <a:pt x="193" y="544"/>
                </a:lnTo>
                <a:lnTo>
                  <a:pt x="193" y="558"/>
                </a:lnTo>
                <a:lnTo>
                  <a:pt x="186" y="565"/>
                </a:lnTo>
                <a:lnTo>
                  <a:pt x="179" y="565"/>
                </a:lnTo>
                <a:lnTo>
                  <a:pt x="179" y="558"/>
                </a:lnTo>
                <a:lnTo>
                  <a:pt x="172" y="551"/>
                </a:lnTo>
                <a:lnTo>
                  <a:pt x="166" y="544"/>
                </a:lnTo>
                <a:lnTo>
                  <a:pt x="166" y="537"/>
                </a:lnTo>
                <a:lnTo>
                  <a:pt x="159" y="530"/>
                </a:lnTo>
                <a:lnTo>
                  <a:pt x="152" y="530"/>
                </a:lnTo>
                <a:lnTo>
                  <a:pt x="145" y="530"/>
                </a:lnTo>
                <a:lnTo>
                  <a:pt x="138" y="537"/>
                </a:lnTo>
                <a:lnTo>
                  <a:pt x="131" y="544"/>
                </a:lnTo>
                <a:lnTo>
                  <a:pt x="124" y="544"/>
                </a:lnTo>
                <a:lnTo>
                  <a:pt x="110" y="551"/>
                </a:lnTo>
                <a:lnTo>
                  <a:pt x="104" y="551"/>
                </a:lnTo>
                <a:lnTo>
                  <a:pt x="97" y="551"/>
                </a:lnTo>
                <a:lnTo>
                  <a:pt x="90" y="558"/>
                </a:lnTo>
                <a:lnTo>
                  <a:pt x="76" y="558"/>
                </a:lnTo>
                <a:lnTo>
                  <a:pt x="69" y="558"/>
                </a:lnTo>
                <a:lnTo>
                  <a:pt x="62" y="565"/>
                </a:lnTo>
                <a:lnTo>
                  <a:pt x="48" y="565"/>
                </a:lnTo>
                <a:lnTo>
                  <a:pt x="41" y="572"/>
                </a:lnTo>
                <a:lnTo>
                  <a:pt x="35" y="572"/>
                </a:lnTo>
                <a:lnTo>
                  <a:pt x="21" y="572"/>
                </a:lnTo>
                <a:lnTo>
                  <a:pt x="14" y="579"/>
                </a:lnTo>
                <a:lnTo>
                  <a:pt x="7" y="586"/>
                </a:lnTo>
                <a:lnTo>
                  <a:pt x="7" y="592"/>
                </a:lnTo>
                <a:lnTo>
                  <a:pt x="7" y="599"/>
                </a:lnTo>
                <a:lnTo>
                  <a:pt x="7" y="599"/>
                </a:lnTo>
                <a:lnTo>
                  <a:pt x="0" y="606"/>
                </a:lnTo>
                <a:lnTo>
                  <a:pt x="0" y="613"/>
                </a:lnTo>
                <a:lnTo>
                  <a:pt x="0" y="620"/>
                </a:lnTo>
                <a:lnTo>
                  <a:pt x="0" y="627"/>
                </a:lnTo>
                <a:lnTo>
                  <a:pt x="0" y="634"/>
                </a:lnTo>
                <a:lnTo>
                  <a:pt x="0" y="641"/>
                </a:lnTo>
                <a:lnTo>
                  <a:pt x="0" y="648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3" name=""/>
          <p:cNvSpPr/>
          <p:nvPr/>
        </p:nvSpPr>
        <p:spPr>
          <a:xfrm>
            <a:off x="4411800" y="5637240"/>
            <a:ext cx="64800" cy="11160"/>
          </a:xfrm>
          <a:custGeom>
            <a:avLst/>
            <a:gdLst/>
            <a:ahLst/>
            <a:rect l="l" t="t" r="r" b="b"/>
            <a:pathLst>
              <a:path w="41" h="7">
                <a:moveTo>
                  <a:pt x="41" y="7"/>
                </a:moveTo>
                <a:lnTo>
                  <a:pt x="34" y="0"/>
                </a:lnTo>
                <a:lnTo>
                  <a:pt x="27" y="0"/>
                </a:lnTo>
                <a:lnTo>
                  <a:pt x="21" y="0"/>
                </a:lnTo>
                <a:lnTo>
                  <a:pt x="21" y="0"/>
                </a:lnTo>
                <a:lnTo>
                  <a:pt x="14" y="0"/>
                </a:lnTo>
                <a:lnTo>
                  <a:pt x="7" y="0"/>
                </a:lnTo>
                <a:lnTo>
                  <a:pt x="7" y="0"/>
                </a:lnTo>
                <a:lnTo>
                  <a:pt x="0" y="7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4" name=""/>
          <p:cNvSpPr/>
          <p:nvPr/>
        </p:nvSpPr>
        <p:spPr>
          <a:xfrm>
            <a:off x="4684680" y="5440320"/>
            <a:ext cx="44640" cy="31680"/>
          </a:xfrm>
          <a:custGeom>
            <a:avLst/>
            <a:gdLst/>
            <a:ahLst/>
            <a:rect l="l" t="t" r="r" b="b"/>
            <a:pathLst>
              <a:path w="28" h="20">
                <a:moveTo>
                  <a:pt x="0" y="13"/>
                </a:moveTo>
                <a:lnTo>
                  <a:pt x="7" y="7"/>
                </a:lnTo>
                <a:lnTo>
                  <a:pt x="7" y="7"/>
                </a:lnTo>
                <a:lnTo>
                  <a:pt x="14" y="0"/>
                </a:lnTo>
                <a:lnTo>
                  <a:pt x="21" y="0"/>
                </a:lnTo>
                <a:lnTo>
                  <a:pt x="21" y="7"/>
                </a:lnTo>
                <a:lnTo>
                  <a:pt x="28" y="7"/>
                </a:lnTo>
                <a:lnTo>
                  <a:pt x="28" y="7"/>
                </a:lnTo>
                <a:lnTo>
                  <a:pt x="28" y="13"/>
                </a:lnTo>
                <a:lnTo>
                  <a:pt x="21" y="13"/>
                </a:lnTo>
                <a:lnTo>
                  <a:pt x="21" y="20"/>
                </a:lnTo>
                <a:lnTo>
                  <a:pt x="14" y="20"/>
                </a:lnTo>
                <a:lnTo>
                  <a:pt x="14" y="20"/>
                </a:lnTo>
                <a:lnTo>
                  <a:pt x="7" y="13"/>
                </a:lnTo>
                <a:lnTo>
                  <a:pt x="0" y="13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5" name=""/>
          <p:cNvSpPr/>
          <p:nvPr/>
        </p:nvSpPr>
        <p:spPr>
          <a:xfrm>
            <a:off x="4903920" y="5156280"/>
            <a:ext cx="66600" cy="42840"/>
          </a:xfrm>
          <a:custGeom>
            <a:avLst/>
            <a:gdLst/>
            <a:ahLst/>
            <a:rect l="l" t="t" r="r" b="b"/>
            <a:pathLst>
              <a:path w="42" h="27">
                <a:moveTo>
                  <a:pt x="42" y="13"/>
                </a:moveTo>
                <a:lnTo>
                  <a:pt x="35" y="7"/>
                </a:lnTo>
                <a:lnTo>
                  <a:pt x="35" y="0"/>
                </a:lnTo>
                <a:lnTo>
                  <a:pt x="28" y="0"/>
                </a:lnTo>
                <a:lnTo>
                  <a:pt x="21" y="0"/>
                </a:lnTo>
                <a:lnTo>
                  <a:pt x="7" y="7"/>
                </a:lnTo>
                <a:lnTo>
                  <a:pt x="0" y="7"/>
                </a:lnTo>
                <a:lnTo>
                  <a:pt x="0" y="13"/>
                </a:lnTo>
                <a:lnTo>
                  <a:pt x="7" y="20"/>
                </a:lnTo>
                <a:lnTo>
                  <a:pt x="14" y="27"/>
                </a:lnTo>
                <a:lnTo>
                  <a:pt x="21" y="27"/>
                </a:lnTo>
                <a:lnTo>
                  <a:pt x="28" y="27"/>
                </a:lnTo>
                <a:lnTo>
                  <a:pt x="35" y="27"/>
                </a:lnTo>
                <a:lnTo>
                  <a:pt x="35" y="20"/>
                </a:lnTo>
                <a:lnTo>
                  <a:pt x="42" y="13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6" name=""/>
          <p:cNvSpPr/>
          <p:nvPr/>
        </p:nvSpPr>
        <p:spPr>
          <a:xfrm>
            <a:off x="5286240" y="5046840"/>
            <a:ext cx="66960" cy="42840"/>
          </a:xfrm>
          <a:custGeom>
            <a:avLst/>
            <a:gdLst/>
            <a:ahLst/>
            <a:rect l="l" t="t" r="r" b="b"/>
            <a:pathLst>
              <a:path w="42" h="27">
                <a:moveTo>
                  <a:pt x="0" y="20"/>
                </a:moveTo>
                <a:lnTo>
                  <a:pt x="7" y="14"/>
                </a:lnTo>
                <a:lnTo>
                  <a:pt x="7" y="7"/>
                </a:lnTo>
                <a:lnTo>
                  <a:pt x="14" y="0"/>
                </a:lnTo>
                <a:lnTo>
                  <a:pt x="21" y="0"/>
                </a:lnTo>
                <a:lnTo>
                  <a:pt x="28" y="7"/>
                </a:lnTo>
                <a:lnTo>
                  <a:pt x="35" y="7"/>
                </a:lnTo>
                <a:lnTo>
                  <a:pt x="42" y="14"/>
                </a:lnTo>
                <a:lnTo>
                  <a:pt x="42" y="20"/>
                </a:lnTo>
                <a:lnTo>
                  <a:pt x="42" y="27"/>
                </a:lnTo>
                <a:lnTo>
                  <a:pt x="35" y="27"/>
                </a:lnTo>
                <a:lnTo>
                  <a:pt x="21" y="27"/>
                </a:lnTo>
                <a:lnTo>
                  <a:pt x="14" y="27"/>
                </a:lnTo>
                <a:lnTo>
                  <a:pt x="7" y="27"/>
                </a:lnTo>
                <a:lnTo>
                  <a:pt x="0" y="2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7" name=""/>
          <p:cNvSpPr/>
          <p:nvPr/>
        </p:nvSpPr>
        <p:spPr>
          <a:xfrm>
            <a:off x="6480000" y="4740120"/>
            <a:ext cx="33480" cy="33480"/>
          </a:xfrm>
          <a:custGeom>
            <a:avLst/>
            <a:gdLst/>
            <a:ahLst/>
            <a:rect l="l" t="t" r="r" b="b"/>
            <a:pathLst>
              <a:path w="21" h="21">
                <a:moveTo>
                  <a:pt x="0" y="7"/>
                </a:moveTo>
                <a:lnTo>
                  <a:pt x="7" y="0"/>
                </a:lnTo>
                <a:lnTo>
                  <a:pt x="7" y="0"/>
                </a:lnTo>
                <a:lnTo>
                  <a:pt x="14" y="0"/>
                </a:lnTo>
                <a:lnTo>
                  <a:pt x="14" y="7"/>
                </a:lnTo>
                <a:lnTo>
                  <a:pt x="21" y="7"/>
                </a:lnTo>
                <a:lnTo>
                  <a:pt x="21" y="14"/>
                </a:lnTo>
                <a:lnTo>
                  <a:pt x="14" y="14"/>
                </a:lnTo>
                <a:lnTo>
                  <a:pt x="14" y="21"/>
                </a:lnTo>
                <a:lnTo>
                  <a:pt x="14" y="21"/>
                </a:lnTo>
                <a:lnTo>
                  <a:pt x="7" y="21"/>
                </a:lnTo>
                <a:lnTo>
                  <a:pt x="7" y="21"/>
                </a:lnTo>
                <a:lnTo>
                  <a:pt x="7" y="21"/>
                </a:lnTo>
                <a:lnTo>
                  <a:pt x="7" y="14"/>
                </a:lnTo>
                <a:lnTo>
                  <a:pt x="0" y="7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8" name=""/>
          <p:cNvSpPr/>
          <p:nvPr/>
        </p:nvSpPr>
        <p:spPr>
          <a:xfrm>
            <a:off x="5035680" y="4707000"/>
            <a:ext cx="11160" cy="1440"/>
          </a:xfrm>
          <a:custGeom>
            <a:avLst/>
            <a:gdLst/>
            <a:ahLst/>
            <a:rect l="l" t="t" r="r" b="b"/>
            <a:pathLst>
              <a:path w="7" h="0">
                <a:moveTo>
                  <a:pt x="7" y="0"/>
                </a:move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9" name=""/>
          <p:cNvSpPr/>
          <p:nvPr/>
        </p:nvSpPr>
        <p:spPr>
          <a:xfrm>
            <a:off x="4959360" y="4641840"/>
            <a:ext cx="42840" cy="33480"/>
          </a:xfrm>
          <a:custGeom>
            <a:avLst/>
            <a:gdLst/>
            <a:ahLst/>
            <a:rect l="l" t="t" r="r" b="b"/>
            <a:pathLst>
              <a:path w="27" h="21">
                <a:moveTo>
                  <a:pt x="27" y="7"/>
                </a:moveTo>
                <a:lnTo>
                  <a:pt x="27" y="7"/>
                </a:lnTo>
                <a:lnTo>
                  <a:pt x="27" y="0"/>
                </a:lnTo>
                <a:lnTo>
                  <a:pt x="20" y="0"/>
                </a:lnTo>
                <a:lnTo>
                  <a:pt x="13" y="0"/>
                </a:lnTo>
                <a:lnTo>
                  <a:pt x="7" y="0"/>
                </a:lnTo>
                <a:lnTo>
                  <a:pt x="0" y="7"/>
                </a:lnTo>
                <a:lnTo>
                  <a:pt x="0" y="14"/>
                </a:lnTo>
                <a:lnTo>
                  <a:pt x="0" y="14"/>
                </a:lnTo>
                <a:lnTo>
                  <a:pt x="7" y="21"/>
                </a:lnTo>
                <a:lnTo>
                  <a:pt x="13" y="21"/>
                </a:lnTo>
                <a:lnTo>
                  <a:pt x="20" y="21"/>
                </a:lnTo>
                <a:lnTo>
                  <a:pt x="27" y="21"/>
                </a:lnTo>
                <a:lnTo>
                  <a:pt x="27" y="14"/>
                </a:lnTo>
                <a:lnTo>
                  <a:pt x="27" y="7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0" name=""/>
          <p:cNvSpPr/>
          <p:nvPr/>
        </p:nvSpPr>
        <p:spPr>
          <a:xfrm>
            <a:off x="4881600" y="4498920"/>
            <a:ext cx="66600" cy="55440"/>
          </a:xfrm>
          <a:custGeom>
            <a:avLst/>
            <a:gdLst/>
            <a:ahLst/>
            <a:rect l="l" t="t" r="r" b="b"/>
            <a:pathLst>
              <a:path w="42" h="35">
                <a:moveTo>
                  <a:pt x="35" y="21"/>
                </a:moveTo>
                <a:lnTo>
                  <a:pt x="35" y="14"/>
                </a:lnTo>
                <a:lnTo>
                  <a:pt x="35" y="14"/>
                </a:lnTo>
                <a:lnTo>
                  <a:pt x="35" y="14"/>
                </a:lnTo>
                <a:lnTo>
                  <a:pt x="35" y="14"/>
                </a:lnTo>
                <a:lnTo>
                  <a:pt x="35" y="14"/>
                </a:lnTo>
                <a:lnTo>
                  <a:pt x="35" y="7"/>
                </a:lnTo>
                <a:lnTo>
                  <a:pt x="35" y="7"/>
                </a:lnTo>
                <a:lnTo>
                  <a:pt x="35" y="7"/>
                </a:lnTo>
                <a:lnTo>
                  <a:pt x="35" y="7"/>
                </a:lnTo>
                <a:lnTo>
                  <a:pt x="35" y="7"/>
                </a:lnTo>
                <a:lnTo>
                  <a:pt x="35" y="7"/>
                </a:lnTo>
                <a:lnTo>
                  <a:pt x="35" y="0"/>
                </a:lnTo>
                <a:lnTo>
                  <a:pt x="35" y="0"/>
                </a:lnTo>
                <a:lnTo>
                  <a:pt x="28" y="0"/>
                </a:lnTo>
                <a:lnTo>
                  <a:pt x="28" y="0"/>
                </a:lnTo>
                <a:lnTo>
                  <a:pt x="28" y="0"/>
                </a:lnTo>
                <a:lnTo>
                  <a:pt x="28" y="0"/>
                </a:lnTo>
                <a:lnTo>
                  <a:pt x="21" y="0"/>
                </a:lnTo>
                <a:lnTo>
                  <a:pt x="21" y="7"/>
                </a:lnTo>
                <a:lnTo>
                  <a:pt x="21" y="7"/>
                </a:lnTo>
                <a:lnTo>
                  <a:pt x="14" y="7"/>
                </a:lnTo>
                <a:lnTo>
                  <a:pt x="14" y="7"/>
                </a:lnTo>
                <a:lnTo>
                  <a:pt x="21" y="7"/>
                </a:lnTo>
                <a:lnTo>
                  <a:pt x="21" y="7"/>
                </a:lnTo>
                <a:lnTo>
                  <a:pt x="21" y="7"/>
                </a:lnTo>
                <a:lnTo>
                  <a:pt x="21" y="7"/>
                </a:lnTo>
                <a:lnTo>
                  <a:pt x="21" y="7"/>
                </a:lnTo>
                <a:lnTo>
                  <a:pt x="28" y="14"/>
                </a:lnTo>
                <a:lnTo>
                  <a:pt x="28" y="14"/>
                </a:lnTo>
                <a:lnTo>
                  <a:pt x="28" y="14"/>
                </a:lnTo>
                <a:lnTo>
                  <a:pt x="28" y="14"/>
                </a:lnTo>
                <a:lnTo>
                  <a:pt x="28" y="21"/>
                </a:lnTo>
                <a:lnTo>
                  <a:pt x="28" y="21"/>
                </a:lnTo>
                <a:lnTo>
                  <a:pt x="28" y="28"/>
                </a:lnTo>
                <a:lnTo>
                  <a:pt x="28" y="28"/>
                </a:lnTo>
                <a:lnTo>
                  <a:pt x="21" y="28"/>
                </a:lnTo>
                <a:lnTo>
                  <a:pt x="21" y="35"/>
                </a:lnTo>
                <a:lnTo>
                  <a:pt x="21" y="35"/>
                </a:lnTo>
                <a:lnTo>
                  <a:pt x="21" y="35"/>
                </a:lnTo>
                <a:lnTo>
                  <a:pt x="14" y="35"/>
                </a:lnTo>
                <a:lnTo>
                  <a:pt x="14" y="35"/>
                </a:lnTo>
                <a:lnTo>
                  <a:pt x="14" y="35"/>
                </a:lnTo>
                <a:lnTo>
                  <a:pt x="7" y="35"/>
                </a:lnTo>
                <a:lnTo>
                  <a:pt x="7" y="35"/>
                </a:lnTo>
                <a:lnTo>
                  <a:pt x="7" y="35"/>
                </a:lnTo>
                <a:lnTo>
                  <a:pt x="7" y="35"/>
                </a:lnTo>
                <a:lnTo>
                  <a:pt x="7" y="35"/>
                </a:lnTo>
                <a:lnTo>
                  <a:pt x="0" y="28"/>
                </a:lnTo>
                <a:lnTo>
                  <a:pt x="0" y="28"/>
                </a:lnTo>
                <a:lnTo>
                  <a:pt x="0" y="28"/>
                </a:lnTo>
                <a:lnTo>
                  <a:pt x="0" y="21"/>
                </a:lnTo>
                <a:lnTo>
                  <a:pt x="0" y="21"/>
                </a:lnTo>
                <a:lnTo>
                  <a:pt x="0" y="14"/>
                </a:lnTo>
                <a:lnTo>
                  <a:pt x="0" y="14"/>
                </a:lnTo>
                <a:lnTo>
                  <a:pt x="0" y="7"/>
                </a:lnTo>
                <a:lnTo>
                  <a:pt x="7" y="7"/>
                </a:lnTo>
                <a:lnTo>
                  <a:pt x="7" y="7"/>
                </a:lnTo>
                <a:lnTo>
                  <a:pt x="14" y="0"/>
                </a:lnTo>
                <a:lnTo>
                  <a:pt x="21" y="0"/>
                </a:lnTo>
                <a:lnTo>
                  <a:pt x="28" y="0"/>
                </a:lnTo>
                <a:lnTo>
                  <a:pt x="28" y="0"/>
                </a:lnTo>
                <a:lnTo>
                  <a:pt x="35" y="0"/>
                </a:lnTo>
                <a:lnTo>
                  <a:pt x="35" y="0"/>
                </a:lnTo>
                <a:lnTo>
                  <a:pt x="35" y="0"/>
                </a:lnTo>
                <a:lnTo>
                  <a:pt x="42" y="0"/>
                </a:lnTo>
                <a:lnTo>
                  <a:pt x="42" y="7"/>
                </a:lnTo>
                <a:lnTo>
                  <a:pt x="42" y="7"/>
                </a:lnTo>
                <a:lnTo>
                  <a:pt x="42" y="7"/>
                </a:lnTo>
                <a:lnTo>
                  <a:pt x="42" y="14"/>
                </a:lnTo>
                <a:lnTo>
                  <a:pt x="42" y="14"/>
                </a:lnTo>
                <a:lnTo>
                  <a:pt x="42" y="14"/>
                </a:lnTo>
                <a:lnTo>
                  <a:pt x="42" y="21"/>
                </a:lnTo>
                <a:lnTo>
                  <a:pt x="35" y="21"/>
                </a:lnTo>
                <a:close/>
                <a:moveTo>
                  <a:pt x="7" y="14"/>
                </a:moveTo>
                <a:lnTo>
                  <a:pt x="7" y="14"/>
                </a:lnTo>
                <a:lnTo>
                  <a:pt x="7" y="14"/>
                </a:lnTo>
                <a:lnTo>
                  <a:pt x="7" y="14"/>
                </a:lnTo>
                <a:lnTo>
                  <a:pt x="7" y="14"/>
                </a:lnTo>
                <a:lnTo>
                  <a:pt x="7" y="21"/>
                </a:lnTo>
                <a:lnTo>
                  <a:pt x="7" y="21"/>
                </a:lnTo>
                <a:lnTo>
                  <a:pt x="0" y="21"/>
                </a:lnTo>
                <a:lnTo>
                  <a:pt x="0" y="21"/>
                </a:lnTo>
                <a:lnTo>
                  <a:pt x="0" y="21"/>
                </a:lnTo>
                <a:lnTo>
                  <a:pt x="7" y="21"/>
                </a:lnTo>
                <a:lnTo>
                  <a:pt x="7" y="28"/>
                </a:lnTo>
                <a:lnTo>
                  <a:pt x="7" y="28"/>
                </a:lnTo>
                <a:lnTo>
                  <a:pt x="7" y="28"/>
                </a:lnTo>
                <a:lnTo>
                  <a:pt x="7" y="28"/>
                </a:lnTo>
                <a:lnTo>
                  <a:pt x="7" y="28"/>
                </a:lnTo>
                <a:lnTo>
                  <a:pt x="7" y="28"/>
                </a:lnTo>
                <a:lnTo>
                  <a:pt x="14" y="28"/>
                </a:lnTo>
                <a:lnTo>
                  <a:pt x="14" y="28"/>
                </a:lnTo>
                <a:lnTo>
                  <a:pt x="14" y="28"/>
                </a:lnTo>
                <a:lnTo>
                  <a:pt x="21" y="28"/>
                </a:lnTo>
                <a:lnTo>
                  <a:pt x="21" y="28"/>
                </a:lnTo>
                <a:lnTo>
                  <a:pt x="21" y="28"/>
                </a:lnTo>
                <a:lnTo>
                  <a:pt x="21" y="21"/>
                </a:lnTo>
                <a:lnTo>
                  <a:pt x="21" y="21"/>
                </a:lnTo>
                <a:lnTo>
                  <a:pt x="21" y="21"/>
                </a:lnTo>
                <a:lnTo>
                  <a:pt x="21" y="21"/>
                </a:lnTo>
                <a:lnTo>
                  <a:pt x="21" y="14"/>
                </a:lnTo>
                <a:lnTo>
                  <a:pt x="21" y="14"/>
                </a:lnTo>
                <a:lnTo>
                  <a:pt x="21" y="14"/>
                </a:lnTo>
                <a:lnTo>
                  <a:pt x="21" y="14"/>
                </a:lnTo>
                <a:lnTo>
                  <a:pt x="21" y="14"/>
                </a:lnTo>
                <a:lnTo>
                  <a:pt x="14" y="14"/>
                </a:lnTo>
                <a:lnTo>
                  <a:pt x="14" y="14"/>
                </a:lnTo>
                <a:lnTo>
                  <a:pt x="14" y="14"/>
                </a:lnTo>
                <a:lnTo>
                  <a:pt x="7" y="14"/>
                </a:lnTo>
                <a:lnTo>
                  <a:pt x="7" y="14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1" name=""/>
          <p:cNvSpPr/>
          <p:nvPr/>
        </p:nvSpPr>
        <p:spPr>
          <a:xfrm>
            <a:off x="4915080" y="4543560"/>
            <a:ext cx="64800" cy="54000"/>
          </a:xfrm>
          <a:custGeom>
            <a:avLst/>
            <a:gdLst/>
            <a:ahLst/>
            <a:rect l="l" t="t" r="r" b="b"/>
            <a:pathLst>
              <a:path w="41" h="34">
                <a:moveTo>
                  <a:pt x="7" y="7"/>
                </a:moveTo>
                <a:lnTo>
                  <a:pt x="14" y="0"/>
                </a:lnTo>
                <a:lnTo>
                  <a:pt x="14" y="0"/>
                </a:lnTo>
                <a:lnTo>
                  <a:pt x="21" y="0"/>
                </a:lnTo>
                <a:lnTo>
                  <a:pt x="21" y="0"/>
                </a:lnTo>
                <a:lnTo>
                  <a:pt x="21" y="0"/>
                </a:lnTo>
                <a:lnTo>
                  <a:pt x="28" y="0"/>
                </a:lnTo>
                <a:lnTo>
                  <a:pt x="28" y="0"/>
                </a:lnTo>
                <a:lnTo>
                  <a:pt x="28" y="0"/>
                </a:lnTo>
                <a:lnTo>
                  <a:pt x="35" y="0"/>
                </a:lnTo>
                <a:lnTo>
                  <a:pt x="35" y="0"/>
                </a:lnTo>
                <a:lnTo>
                  <a:pt x="35" y="0"/>
                </a:lnTo>
                <a:lnTo>
                  <a:pt x="35" y="0"/>
                </a:lnTo>
                <a:lnTo>
                  <a:pt x="41" y="7"/>
                </a:lnTo>
                <a:lnTo>
                  <a:pt x="41" y="7"/>
                </a:lnTo>
                <a:lnTo>
                  <a:pt x="41" y="7"/>
                </a:lnTo>
                <a:lnTo>
                  <a:pt x="41" y="7"/>
                </a:lnTo>
                <a:lnTo>
                  <a:pt x="41" y="14"/>
                </a:lnTo>
                <a:lnTo>
                  <a:pt x="41" y="14"/>
                </a:lnTo>
                <a:lnTo>
                  <a:pt x="41" y="14"/>
                </a:lnTo>
                <a:lnTo>
                  <a:pt x="41" y="14"/>
                </a:lnTo>
                <a:lnTo>
                  <a:pt x="35" y="14"/>
                </a:lnTo>
                <a:lnTo>
                  <a:pt x="35" y="21"/>
                </a:lnTo>
                <a:lnTo>
                  <a:pt x="35" y="21"/>
                </a:lnTo>
                <a:lnTo>
                  <a:pt x="35" y="21"/>
                </a:lnTo>
                <a:lnTo>
                  <a:pt x="35" y="21"/>
                </a:lnTo>
                <a:lnTo>
                  <a:pt x="35" y="27"/>
                </a:lnTo>
                <a:lnTo>
                  <a:pt x="28" y="27"/>
                </a:lnTo>
                <a:lnTo>
                  <a:pt x="28" y="27"/>
                </a:lnTo>
                <a:lnTo>
                  <a:pt x="21" y="27"/>
                </a:lnTo>
                <a:lnTo>
                  <a:pt x="21" y="34"/>
                </a:lnTo>
                <a:lnTo>
                  <a:pt x="21" y="34"/>
                </a:lnTo>
                <a:lnTo>
                  <a:pt x="14" y="34"/>
                </a:lnTo>
                <a:lnTo>
                  <a:pt x="14" y="34"/>
                </a:lnTo>
                <a:lnTo>
                  <a:pt x="7" y="34"/>
                </a:lnTo>
                <a:lnTo>
                  <a:pt x="7" y="34"/>
                </a:lnTo>
                <a:lnTo>
                  <a:pt x="7" y="34"/>
                </a:lnTo>
                <a:lnTo>
                  <a:pt x="7" y="34"/>
                </a:lnTo>
                <a:lnTo>
                  <a:pt x="0" y="34"/>
                </a:lnTo>
                <a:lnTo>
                  <a:pt x="0" y="27"/>
                </a:lnTo>
                <a:lnTo>
                  <a:pt x="0" y="27"/>
                </a:lnTo>
                <a:lnTo>
                  <a:pt x="0" y="27"/>
                </a:lnTo>
                <a:lnTo>
                  <a:pt x="0" y="21"/>
                </a:lnTo>
                <a:lnTo>
                  <a:pt x="0" y="21"/>
                </a:lnTo>
                <a:lnTo>
                  <a:pt x="0" y="21"/>
                </a:lnTo>
                <a:lnTo>
                  <a:pt x="0" y="14"/>
                </a:lnTo>
                <a:lnTo>
                  <a:pt x="0" y="14"/>
                </a:lnTo>
                <a:lnTo>
                  <a:pt x="7" y="7"/>
                </a:lnTo>
                <a:lnTo>
                  <a:pt x="7" y="7"/>
                </a:lnTo>
                <a:close/>
                <a:moveTo>
                  <a:pt x="14" y="7"/>
                </a:moveTo>
                <a:lnTo>
                  <a:pt x="7" y="14"/>
                </a:lnTo>
                <a:lnTo>
                  <a:pt x="7" y="14"/>
                </a:lnTo>
                <a:lnTo>
                  <a:pt x="7" y="14"/>
                </a:lnTo>
                <a:lnTo>
                  <a:pt x="0" y="21"/>
                </a:lnTo>
                <a:lnTo>
                  <a:pt x="0" y="21"/>
                </a:lnTo>
                <a:lnTo>
                  <a:pt x="0" y="21"/>
                </a:lnTo>
                <a:lnTo>
                  <a:pt x="0" y="27"/>
                </a:lnTo>
                <a:lnTo>
                  <a:pt x="0" y="27"/>
                </a:lnTo>
                <a:lnTo>
                  <a:pt x="7" y="27"/>
                </a:lnTo>
                <a:lnTo>
                  <a:pt x="7" y="27"/>
                </a:lnTo>
                <a:lnTo>
                  <a:pt x="7" y="27"/>
                </a:lnTo>
                <a:lnTo>
                  <a:pt x="7" y="27"/>
                </a:lnTo>
                <a:lnTo>
                  <a:pt x="14" y="27"/>
                </a:lnTo>
                <a:lnTo>
                  <a:pt x="14" y="27"/>
                </a:lnTo>
                <a:lnTo>
                  <a:pt x="21" y="27"/>
                </a:lnTo>
                <a:lnTo>
                  <a:pt x="21" y="21"/>
                </a:lnTo>
                <a:lnTo>
                  <a:pt x="28" y="21"/>
                </a:lnTo>
                <a:lnTo>
                  <a:pt x="28" y="21"/>
                </a:lnTo>
                <a:lnTo>
                  <a:pt x="35" y="14"/>
                </a:lnTo>
                <a:lnTo>
                  <a:pt x="35" y="14"/>
                </a:lnTo>
                <a:lnTo>
                  <a:pt x="35" y="14"/>
                </a:lnTo>
                <a:lnTo>
                  <a:pt x="35" y="7"/>
                </a:lnTo>
                <a:lnTo>
                  <a:pt x="35" y="7"/>
                </a:lnTo>
                <a:lnTo>
                  <a:pt x="35" y="7"/>
                </a:lnTo>
                <a:lnTo>
                  <a:pt x="35" y="7"/>
                </a:lnTo>
                <a:lnTo>
                  <a:pt x="28" y="7"/>
                </a:lnTo>
                <a:lnTo>
                  <a:pt x="28" y="0"/>
                </a:lnTo>
                <a:lnTo>
                  <a:pt x="28" y="0"/>
                </a:lnTo>
                <a:lnTo>
                  <a:pt x="28" y="0"/>
                </a:lnTo>
                <a:lnTo>
                  <a:pt x="21" y="7"/>
                </a:lnTo>
                <a:lnTo>
                  <a:pt x="21" y="7"/>
                </a:lnTo>
                <a:lnTo>
                  <a:pt x="14" y="7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2" name=""/>
          <p:cNvSpPr/>
          <p:nvPr/>
        </p:nvSpPr>
        <p:spPr>
          <a:xfrm>
            <a:off x="4881600" y="4478400"/>
            <a:ext cx="1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3" name=""/>
          <p:cNvSpPr/>
          <p:nvPr/>
        </p:nvSpPr>
        <p:spPr>
          <a:xfrm>
            <a:off x="4718160" y="4357800"/>
            <a:ext cx="252360" cy="295200"/>
          </a:xfrm>
          <a:custGeom>
            <a:avLst/>
            <a:gdLst/>
            <a:ahLst/>
            <a:rect l="l" t="t" r="r" b="b"/>
            <a:pathLst>
              <a:path w="159" h="186">
                <a:moveTo>
                  <a:pt x="103" y="76"/>
                </a:moveTo>
                <a:lnTo>
                  <a:pt x="96" y="69"/>
                </a:lnTo>
                <a:lnTo>
                  <a:pt x="96" y="62"/>
                </a:lnTo>
                <a:lnTo>
                  <a:pt x="90" y="62"/>
                </a:lnTo>
                <a:lnTo>
                  <a:pt x="90" y="55"/>
                </a:lnTo>
                <a:lnTo>
                  <a:pt x="83" y="48"/>
                </a:lnTo>
                <a:lnTo>
                  <a:pt x="83" y="41"/>
                </a:lnTo>
                <a:lnTo>
                  <a:pt x="76" y="34"/>
                </a:lnTo>
                <a:lnTo>
                  <a:pt x="69" y="27"/>
                </a:lnTo>
                <a:lnTo>
                  <a:pt x="69" y="20"/>
                </a:lnTo>
                <a:lnTo>
                  <a:pt x="62" y="14"/>
                </a:lnTo>
                <a:lnTo>
                  <a:pt x="62" y="14"/>
                </a:lnTo>
                <a:lnTo>
                  <a:pt x="55" y="7"/>
                </a:lnTo>
                <a:lnTo>
                  <a:pt x="48" y="0"/>
                </a:lnTo>
                <a:lnTo>
                  <a:pt x="34" y="0"/>
                </a:lnTo>
                <a:lnTo>
                  <a:pt x="28" y="0"/>
                </a:lnTo>
                <a:lnTo>
                  <a:pt x="21" y="7"/>
                </a:lnTo>
                <a:lnTo>
                  <a:pt x="21" y="14"/>
                </a:lnTo>
                <a:lnTo>
                  <a:pt x="14" y="20"/>
                </a:lnTo>
                <a:lnTo>
                  <a:pt x="7" y="27"/>
                </a:lnTo>
                <a:lnTo>
                  <a:pt x="7" y="27"/>
                </a:lnTo>
                <a:lnTo>
                  <a:pt x="0" y="34"/>
                </a:lnTo>
                <a:lnTo>
                  <a:pt x="0" y="41"/>
                </a:lnTo>
                <a:lnTo>
                  <a:pt x="7" y="48"/>
                </a:lnTo>
                <a:lnTo>
                  <a:pt x="14" y="48"/>
                </a:lnTo>
                <a:lnTo>
                  <a:pt x="28" y="55"/>
                </a:lnTo>
                <a:lnTo>
                  <a:pt x="34" y="62"/>
                </a:lnTo>
                <a:lnTo>
                  <a:pt x="34" y="62"/>
                </a:lnTo>
                <a:lnTo>
                  <a:pt x="41" y="69"/>
                </a:lnTo>
                <a:lnTo>
                  <a:pt x="48" y="76"/>
                </a:lnTo>
                <a:lnTo>
                  <a:pt x="55" y="82"/>
                </a:lnTo>
                <a:lnTo>
                  <a:pt x="62" y="82"/>
                </a:lnTo>
                <a:lnTo>
                  <a:pt x="69" y="89"/>
                </a:lnTo>
                <a:lnTo>
                  <a:pt x="76" y="96"/>
                </a:lnTo>
                <a:lnTo>
                  <a:pt x="76" y="103"/>
                </a:lnTo>
                <a:lnTo>
                  <a:pt x="76" y="110"/>
                </a:lnTo>
                <a:lnTo>
                  <a:pt x="83" y="117"/>
                </a:lnTo>
                <a:lnTo>
                  <a:pt x="83" y="117"/>
                </a:lnTo>
                <a:lnTo>
                  <a:pt x="90" y="124"/>
                </a:lnTo>
                <a:lnTo>
                  <a:pt x="96" y="131"/>
                </a:lnTo>
                <a:lnTo>
                  <a:pt x="96" y="138"/>
                </a:lnTo>
                <a:lnTo>
                  <a:pt x="96" y="144"/>
                </a:lnTo>
                <a:lnTo>
                  <a:pt x="96" y="151"/>
                </a:lnTo>
                <a:lnTo>
                  <a:pt x="96" y="158"/>
                </a:lnTo>
                <a:lnTo>
                  <a:pt x="103" y="158"/>
                </a:lnTo>
                <a:lnTo>
                  <a:pt x="117" y="165"/>
                </a:lnTo>
                <a:lnTo>
                  <a:pt x="124" y="172"/>
                </a:lnTo>
                <a:lnTo>
                  <a:pt x="131" y="172"/>
                </a:lnTo>
                <a:lnTo>
                  <a:pt x="138" y="179"/>
                </a:lnTo>
                <a:lnTo>
                  <a:pt x="145" y="186"/>
                </a:lnTo>
                <a:lnTo>
                  <a:pt x="145" y="186"/>
                </a:lnTo>
                <a:lnTo>
                  <a:pt x="152" y="186"/>
                </a:lnTo>
                <a:lnTo>
                  <a:pt x="152" y="179"/>
                </a:lnTo>
                <a:lnTo>
                  <a:pt x="159" y="172"/>
                </a:lnTo>
                <a:lnTo>
                  <a:pt x="159" y="158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4" name=""/>
          <p:cNvSpPr/>
          <p:nvPr/>
        </p:nvSpPr>
        <p:spPr>
          <a:xfrm>
            <a:off x="4782960" y="4554360"/>
            <a:ext cx="44640" cy="32040"/>
          </a:xfrm>
          <a:custGeom>
            <a:avLst/>
            <a:gdLst/>
            <a:ahLst/>
            <a:rect l="l" t="t" r="r" b="b"/>
            <a:pathLst>
              <a:path w="28" h="20">
                <a:moveTo>
                  <a:pt x="28" y="7"/>
                </a:moveTo>
                <a:lnTo>
                  <a:pt x="21" y="0"/>
                </a:lnTo>
                <a:lnTo>
                  <a:pt x="21" y="0"/>
                </a:lnTo>
                <a:lnTo>
                  <a:pt x="14" y="0"/>
                </a:lnTo>
                <a:lnTo>
                  <a:pt x="7" y="0"/>
                </a:lnTo>
                <a:lnTo>
                  <a:pt x="0" y="7"/>
                </a:lnTo>
                <a:lnTo>
                  <a:pt x="0" y="7"/>
                </a:lnTo>
                <a:lnTo>
                  <a:pt x="0" y="14"/>
                </a:lnTo>
                <a:lnTo>
                  <a:pt x="7" y="20"/>
                </a:lnTo>
                <a:lnTo>
                  <a:pt x="14" y="20"/>
                </a:lnTo>
                <a:lnTo>
                  <a:pt x="14" y="20"/>
                </a:lnTo>
                <a:lnTo>
                  <a:pt x="21" y="20"/>
                </a:lnTo>
                <a:lnTo>
                  <a:pt x="21" y="14"/>
                </a:lnTo>
                <a:lnTo>
                  <a:pt x="28" y="14"/>
                </a:lnTo>
                <a:lnTo>
                  <a:pt x="28" y="7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5" name=""/>
          <p:cNvSpPr/>
          <p:nvPr/>
        </p:nvSpPr>
        <p:spPr>
          <a:xfrm>
            <a:off x="4740120" y="4498920"/>
            <a:ext cx="32040" cy="44640"/>
          </a:xfrm>
          <a:custGeom>
            <a:avLst/>
            <a:gdLst/>
            <a:ahLst/>
            <a:rect l="l" t="t" r="r" b="b"/>
            <a:pathLst>
              <a:path w="20" h="28">
                <a:moveTo>
                  <a:pt x="20" y="14"/>
                </a:moveTo>
                <a:lnTo>
                  <a:pt x="20" y="7"/>
                </a:lnTo>
                <a:lnTo>
                  <a:pt x="14" y="0"/>
                </a:lnTo>
                <a:lnTo>
                  <a:pt x="7" y="0"/>
                </a:lnTo>
                <a:lnTo>
                  <a:pt x="0" y="7"/>
                </a:lnTo>
                <a:lnTo>
                  <a:pt x="0" y="7"/>
                </a:lnTo>
                <a:lnTo>
                  <a:pt x="0" y="14"/>
                </a:lnTo>
                <a:lnTo>
                  <a:pt x="0" y="21"/>
                </a:lnTo>
                <a:lnTo>
                  <a:pt x="7" y="28"/>
                </a:lnTo>
                <a:lnTo>
                  <a:pt x="7" y="28"/>
                </a:lnTo>
                <a:lnTo>
                  <a:pt x="14" y="28"/>
                </a:lnTo>
                <a:lnTo>
                  <a:pt x="14" y="28"/>
                </a:lnTo>
                <a:lnTo>
                  <a:pt x="20" y="28"/>
                </a:lnTo>
                <a:lnTo>
                  <a:pt x="20" y="21"/>
                </a:lnTo>
                <a:lnTo>
                  <a:pt x="20" y="14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6" name=""/>
          <p:cNvSpPr/>
          <p:nvPr/>
        </p:nvSpPr>
        <p:spPr>
          <a:xfrm>
            <a:off x="6426360" y="4214880"/>
            <a:ext cx="31680" cy="33120"/>
          </a:xfrm>
          <a:custGeom>
            <a:avLst/>
            <a:gdLst/>
            <a:ahLst/>
            <a:rect l="l" t="t" r="r" b="b"/>
            <a:pathLst>
              <a:path w="20" h="21">
                <a:moveTo>
                  <a:pt x="0" y="14"/>
                </a:moveTo>
                <a:lnTo>
                  <a:pt x="6" y="7"/>
                </a:lnTo>
                <a:lnTo>
                  <a:pt x="6" y="7"/>
                </a:lnTo>
                <a:lnTo>
                  <a:pt x="13" y="0"/>
                </a:lnTo>
                <a:lnTo>
                  <a:pt x="13" y="0"/>
                </a:lnTo>
                <a:lnTo>
                  <a:pt x="13" y="0"/>
                </a:lnTo>
                <a:lnTo>
                  <a:pt x="20" y="7"/>
                </a:lnTo>
                <a:lnTo>
                  <a:pt x="20" y="7"/>
                </a:lnTo>
                <a:lnTo>
                  <a:pt x="20" y="14"/>
                </a:lnTo>
                <a:lnTo>
                  <a:pt x="20" y="14"/>
                </a:lnTo>
                <a:lnTo>
                  <a:pt x="13" y="14"/>
                </a:lnTo>
                <a:lnTo>
                  <a:pt x="13" y="21"/>
                </a:lnTo>
                <a:lnTo>
                  <a:pt x="6" y="14"/>
                </a:lnTo>
                <a:lnTo>
                  <a:pt x="6" y="14"/>
                </a:lnTo>
                <a:lnTo>
                  <a:pt x="0" y="14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7" name=""/>
          <p:cNvSpPr/>
          <p:nvPr/>
        </p:nvSpPr>
        <p:spPr>
          <a:xfrm>
            <a:off x="6151680" y="4040280"/>
            <a:ext cx="21960" cy="11160"/>
          </a:xfrm>
          <a:custGeom>
            <a:avLst/>
            <a:gdLst/>
            <a:ahLst/>
            <a:rect l="l" t="t" r="r" b="b"/>
            <a:pathLst>
              <a:path w="14" h="7">
                <a:moveTo>
                  <a:pt x="0" y="0"/>
                </a:moveTo>
                <a:lnTo>
                  <a:pt x="0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14" y="0"/>
                </a:lnTo>
                <a:lnTo>
                  <a:pt x="14" y="7"/>
                </a:lnTo>
                <a:lnTo>
                  <a:pt x="14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0" y="7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8" name=""/>
          <p:cNvSpPr/>
          <p:nvPr/>
        </p:nvSpPr>
        <p:spPr>
          <a:xfrm flipV="1">
            <a:off x="2790720" y="3843000"/>
            <a:ext cx="11160" cy="11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9" name=""/>
          <p:cNvSpPr/>
          <p:nvPr/>
        </p:nvSpPr>
        <p:spPr>
          <a:xfrm>
            <a:off x="2801880" y="3635280"/>
            <a:ext cx="405000" cy="208080"/>
          </a:xfrm>
          <a:custGeom>
            <a:avLst/>
            <a:gdLst/>
            <a:ahLst/>
            <a:rect l="l" t="t" r="r" b="b"/>
            <a:pathLst>
              <a:path w="255" h="131">
                <a:moveTo>
                  <a:pt x="0" y="131"/>
                </a:moveTo>
                <a:lnTo>
                  <a:pt x="0" y="124"/>
                </a:lnTo>
                <a:lnTo>
                  <a:pt x="7" y="124"/>
                </a:lnTo>
                <a:lnTo>
                  <a:pt x="7" y="117"/>
                </a:lnTo>
                <a:lnTo>
                  <a:pt x="7" y="110"/>
                </a:lnTo>
                <a:lnTo>
                  <a:pt x="14" y="103"/>
                </a:lnTo>
                <a:lnTo>
                  <a:pt x="14" y="97"/>
                </a:lnTo>
                <a:lnTo>
                  <a:pt x="21" y="90"/>
                </a:lnTo>
                <a:lnTo>
                  <a:pt x="28" y="83"/>
                </a:lnTo>
                <a:lnTo>
                  <a:pt x="35" y="83"/>
                </a:lnTo>
                <a:lnTo>
                  <a:pt x="42" y="83"/>
                </a:lnTo>
                <a:lnTo>
                  <a:pt x="55" y="83"/>
                </a:lnTo>
                <a:lnTo>
                  <a:pt x="62" y="90"/>
                </a:lnTo>
                <a:lnTo>
                  <a:pt x="76" y="90"/>
                </a:lnTo>
                <a:lnTo>
                  <a:pt x="83" y="97"/>
                </a:lnTo>
                <a:lnTo>
                  <a:pt x="90" y="97"/>
                </a:lnTo>
                <a:lnTo>
                  <a:pt x="97" y="103"/>
                </a:lnTo>
                <a:lnTo>
                  <a:pt x="104" y="110"/>
                </a:lnTo>
                <a:lnTo>
                  <a:pt x="111" y="117"/>
                </a:lnTo>
                <a:lnTo>
                  <a:pt x="111" y="117"/>
                </a:lnTo>
                <a:lnTo>
                  <a:pt x="118" y="117"/>
                </a:lnTo>
                <a:lnTo>
                  <a:pt x="131" y="110"/>
                </a:lnTo>
                <a:lnTo>
                  <a:pt x="138" y="110"/>
                </a:lnTo>
                <a:lnTo>
                  <a:pt x="145" y="103"/>
                </a:lnTo>
                <a:lnTo>
                  <a:pt x="159" y="103"/>
                </a:lnTo>
                <a:lnTo>
                  <a:pt x="166" y="97"/>
                </a:lnTo>
                <a:lnTo>
                  <a:pt x="173" y="97"/>
                </a:lnTo>
                <a:lnTo>
                  <a:pt x="173" y="90"/>
                </a:lnTo>
                <a:lnTo>
                  <a:pt x="180" y="83"/>
                </a:lnTo>
                <a:lnTo>
                  <a:pt x="180" y="76"/>
                </a:lnTo>
                <a:lnTo>
                  <a:pt x="180" y="69"/>
                </a:lnTo>
                <a:lnTo>
                  <a:pt x="180" y="62"/>
                </a:lnTo>
                <a:lnTo>
                  <a:pt x="186" y="55"/>
                </a:lnTo>
                <a:lnTo>
                  <a:pt x="186" y="48"/>
                </a:lnTo>
                <a:lnTo>
                  <a:pt x="186" y="41"/>
                </a:lnTo>
                <a:lnTo>
                  <a:pt x="193" y="35"/>
                </a:lnTo>
                <a:lnTo>
                  <a:pt x="193" y="35"/>
                </a:lnTo>
                <a:lnTo>
                  <a:pt x="200" y="28"/>
                </a:lnTo>
                <a:lnTo>
                  <a:pt x="200" y="21"/>
                </a:lnTo>
                <a:lnTo>
                  <a:pt x="207" y="14"/>
                </a:lnTo>
                <a:lnTo>
                  <a:pt x="221" y="14"/>
                </a:lnTo>
                <a:lnTo>
                  <a:pt x="228" y="14"/>
                </a:lnTo>
                <a:lnTo>
                  <a:pt x="242" y="14"/>
                </a:lnTo>
                <a:lnTo>
                  <a:pt x="249" y="7"/>
                </a:lnTo>
                <a:lnTo>
                  <a:pt x="255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0" name=""/>
          <p:cNvSpPr/>
          <p:nvPr/>
        </p:nvSpPr>
        <p:spPr>
          <a:xfrm>
            <a:off x="3206880" y="3635280"/>
            <a:ext cx="1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1" name=""/>
          <p:cNvSpPr/>
          <p:nvPr/>
        </p:nvSpPr>
        <p:spPr>
          <a:xfrm>
            <a:off x="3186000" y="3570120"/>
            <a:ext cx="76320" cy="54000"/>
          </a:xfrm>
          <a:custGeom>
            <a:avLst/>
            <a:gdLst/>
            <a:ahLst/>
            <a:rect l="l" t="t" r="r" b="b"/>
            <a:pathLst>
              <a:path w="48" h="34">
                <a:moveTo>
                  <a:pt x="20" y="0"/>
                </a:moveTo>
                <a:lnTo>
                  <a:pt x="20" y="0"/>
                </a:lnTo>
                <a:lnTo>
                  <a:pt x="13" y="0"/>
                </a:lnTo>
                <a:lnTo>
                  <a:pt x="13" y="0"/>
                </a:lnTo>
                <a:lnTo>
                  <a:pt x="13" y="0"/>
                </a:lnTo>
                <a:lnTo>
                  <a:pt x="13" y="7"/>
                </a:lnTo>
                <a:lnTo>
                  <a:pt x="13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14"/>
                </a:lnTo>
                <a:lnTo>
                  <a:pt x="7" y="14"/>
                </a:lnTo>
                <a:lnTo>
                  <a:pt x="7" y="14"/>
                </a:lnTo>
                <a:lnTo>
                  <a:pt x="7" y="14"/>
                </a:lnTo>
                <a:lnTo>
                  <a:pt x="7" y="14"/>
                </a:lnTo>
                <a:lnTo>
                  <a:pt x="13" y="14"/>
                </a:lnTo>
                <a:lnTo>
                  <a:pt x="13" y="20"/>
                </a:lnTo>
                <a:lnTo>
                  <a:pt x="13" y="20"/>
                </a:lnTo>
                <a:lnTo>
                  <a:pt x="13" y="20"/>
                </a:lnTo>
                <a:lnTo>
                  <a:pt x="20" y="20"/>
                </a:lnTo>
                <a:lnTo>
                  <a:pt x="20" y="20"/>
                </a:lnTo>
                <a:lnTo>
                  <a:pt x="20" y="20"/>
                </a:lnTo>
                <a:lnTo>
                  <a:pt x="20" y="20"/>
                </a:lnTo>
                <a:lnTo>
                  <a:pt x="20" y="20"/>
                </a:lnTo>
                <a:lnTo>
                  <a:pt x="20" y="20"/>
                </a:lnTo>
                <a:lnTo>
                  <a:pt x="20" y="14"/>
                </a:lnTo>
                <a:lnTo>
                  <a:pt x="20" y="14"/>
                </a:lnTo>
                <a:lnTo>
                  <a:pt x="20" y="14"/>
                </a:lnTo>
                <a:lnTo>
                  <a:pt x="20" y="14"/>
                </a:lnTo>
                <a:lnTo>
                  <a:pt x="20" y="7"/>
                </a:lnTo>
                <a:lnTo>
                  <a:pt x="20" y="7"/>
                </a:lnTo>
                <a:lnTo>
                  <a:pt x="20" y="7"/>
                </a:lnTo>
                <a:lnTo>
                  <a:pt x="27" y="7"/>
                </a:lnTo>
                <a:lnTo>
                  <a:pt x="27" y="0"/>
                </a:lnTo>
                <a:lnTo>
                  <a:pt x="34" y="0"/>
                </a:lnTo>
                <a:lnTo>
                  <a:pt x="34" y="0"/>
                </a:lnTo>
                <a:lnTo>
                  <a:pt x="34" y="7"/>
                </a:lnTo>
                <a:lnTo>
                  <a:pt x="41" y="7"/>
                </a:lnTo>
                <a:lnTo>
                  <a:pt x="41" y="7"/>
                </a:lnTo>
                <a:lnTo>
                  <a:pt x="41" y="7"/>
                </a:lnTo>
                <a:lnTo>
                  <a:pt x="41" y="7"/>
                </a:lnTo>
                <a:lnTo>
                  <a:pt x="48" y="7"/>
                </a:lnTo>
                <a:lnTo>
                  <a:pt x="48" y="14"/>
                </a:lnTo>
                <a:lnTo>
                  <a:pt x="48" y="14"/>
                </a:lnTo>
                <a:lnTo>
                  <a:pt x="48" y="14"/>
                </a:lnTo>
                <a:lnTo>
                  <a:pt x="48" y="14"/>
                </a:lnTo>
                <a:lnTo>
                  <a:pt x="48" y="20"/>
                </a:lnTo>
                <a:lnTo>
                  <a:pt x="48" y="20"/>
                </a:lnTo>
                <a:lnTo>
                  <a:pt x="48" y="20"/>
                </a:lnTo>
                <a:lnTo>
                  <a:pt x="48" y="27"/>
                </a:lnTo>
                <a:lnTo>
                  <a:pt x="41" y="27"/>
                </a:lnTo>
                <a:lnTo>
                  <a:pt x="41" y="27"/>
                </a:lnTo>
                <a:lnTo>
                  <a:pt x="41" y="27"/>
                </a:lnTo>
                <a:lnTo>
                  <a:pt x="34" y="34"/>
                </a:lnTo>
                <a:lnTo>
                  <a:pt x="34" y="34"/>
                </a:lnTo>
                <a:lnTo>
                  <a:pt x="27" y="27"/>
                </a:lnTo>
                <a:lnTo>
                  <a:pt x="20" y="27"/>
                </a:lnTo>
                <a:lnTo>
                  <a:pt x="13" y="27"/>
                </a:lnTo>
                <a:lnTo>
                  <a:pt x="13" y="27"/>
                </a:lnTo>
                <a:lnTo>
                  <a:pt x="7" y="20"/>
                </a:lnTo>
                <a:lnTo>
                  <a:pt x="7" y="20"/>
                </a:lnTo>
                <a:lnTo>
                  <a:pt x="7" y="14"/>
                </a:lnTo>
                <a:lnTo>
                  <a:pt x="0" y="14"/>
                </a:lnTo>
                <a:lnTo>
                  <a:pt x="0" y="7"/>
                </a:lnTo>
                <a:lnTo>
                  <a:pt x="7" y="7"/>
                </a:lnTo>
                <a:lnTo>
                  <a:pt x="7" y="7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13" y="0"/>
                </a:lnTo>
                <a:lnTo>
                  <a:pt x="13" y="0"/>
                </a:lnTo>
                <a:lnTo>
                  <a:pt x="13" y="0"/>
                </a:lnTo>
                <a:lnTo>
                  <a:pt x="20" y="0"/>
                </a:lnTo>
                <a:close/>
                <a:moveTo>
                  <a:pt x="27" y="27"/>
                </a:moveTo>
                <a:lnTo>
                  <a:pt x="27" y="27"/>
                </a:lnTo>
                <a:lnTo>
                  <a:pt x="34" y="27"/>
                </a:lnTo>
                <a:lnTo>
                  <a:pt x="34" y="27"/>
                </a:lnTo>
                <a:lnTo>
                  <a:pt x="34" y="27"/>
                </a:lnTo>
                <a:lnTo>
                  <a:pt x="34" y="27"/>
                </a:lnTo>
                <a:lnTo>
                  <a:pt x="34" y="27"/>
                </a:lnTo>
                <a:lnTo>
                  <a:pt x="41" y="27"/>
                </a:lnTo>
                <a:lnTo>
                  <a:pt x="41" y="27"/>
                </a:lnTo>
                <a:lnTo>
                  <a:pt x="41" y="20"/>
                </a:lnTo>
                <a:lnTo>
                  <a:pt x="41" y="20"/>
                </a:lnTo>
                <a:lnTo>
                  <a:pt x="41" y="20"/>
                </a:lnTo>
                <a:lnTo>
                  <a:pt x="41" y="20"/>
                </a:lnTo>
                <a:lnTo>
                  <a:pt x="41" y="20"/>
                </a:lnTo>
                <a:lnTo>
                  <a:pt x="41" y="14"/>
                </a:lnTo>
                <a:lnTo>
                  <a:pt x="41" y="14"/>
                </a:lnTo>
                <a:lnTo>
                  <a:pt x="41" y="14"/>
                </a:lnTo>
                <a:lnTo>
                  <a:pt x="41" y="14"/>
                </a:lnTo>
                <a:lnTo>
                  <a:pt x="41" y="14"/>
                </a:lnTo>
                <a:lnTo>
                  <a:pt x="34" y="7"/>
                </a:lnTo>
                <a:lnTo>
                  <a:pt x="34" y="7"/>
                </a:lnTo>
                <a:lnTo>
                  <a:pt x="34" y="7"/>
                </a:lnTo>
                <a:lnTo>
                  <a:pt x="34" y="7"/>
                </a:lnTo>
                <a:lnTo>
                  <a:pt x="27" y="7"/>
                </a:lnTo>
                <a:lnTo>
                  <a:pt x="27" y="7"/>
                </a:lnTo>
                <a:lnTo>
                  <a:pt x="27" y="7"/>
                </a:lnTo>
                <a:lnTo>
                  <a:pt x="27" y="14"/>
                </a:lnTo>
                <a:lnTo>
                  <a:pt x="27" y="14"/>
                </a:lnTo>
                <a:lnTo>
                  <a:pt x="20" y="14"/>
                </a:lnTo>
                <a:lnTo>
                  <a:pt x="20" y="14"/>
                </a:lnTo>
                <a:lnTo>
                  <a:pt x="20" y="20"/>
                </a:lnTo>
                <a:lnTo>
                  <a:pt x="20" y="20"/>
                </a:lnTo>
                <a:lnTo>
                  <a:pt x="20" y="20"/>
                </a:lnTo>
                <a:lnTo>
                  <a:pt x="27" y="20"/>
                </a:lnTo>
                <a:lnTo>
                  <a:pt x="27" y="20"/>
                </a:lnTo>
                <a:lnTo>
                  <a:pt x="27" y="27"/>
                </a:lnTo>
                <a:lnTo>
                  <a:pt x="27" y="27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2" name=""/>
          <p:cNvSpPr/>
          <p:nvPr/>
        </p:nvSpPr>
        <p:spPr>
          <a:xfrm>
            <a:off x="3206880" y="3514680"/>
            <a:ext cx="77760" cy="55440"/>
          </a:xfrm>
          <a:custGeom>
            <a:avLst/>
            <a:gdLst/>
            <a:ahLst/>
            <a:rect l="l" t="t" r="r" b="b"/>
            <a:pathLst>
              <a:path w="49" h="35">
                <a:moveTo>
                  <a:pt x="21" y="28"/>
                </a:moveTo>
                <a:lnTo>
                  <a:pt x="14" y="28"/>
                </a:lnTo>
                <a:lnTo>
                  <a:pt x="14" y="28"/>
                </a:lnTo>
                <a:lnTo>
                  <a:pt x="7" y="28"/>
                </a:lnTo>
                <a:lnTo>
                  <a:pt x="7" y="28"/>
                </a:lnTo>
                <a:lnTo>
                  <a:pt x="7" y="21"/>
                </a:lnTo>
                <a:lnTo>
                  <a:pt x="0" y="21"/>
                </a:lnTo>
                <a:lnTo>
                  <a:pt x="0" y="21"/>
                </a:lnTo>
                <a:lnTo>
                  <a:pt x="0" y="21"/>
                </a:lnTo>
                <a:lnTo>
                  <a:pt x="0" y="14"/>
                </a:lnTo>
                <a:lnTo>
                  <a:pt x="0" y="14"/>
                </a:lnTo>
                <a:lnTo>
                  <a:pt x="0" y="14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7" y="7"/>
                </a:lnTo>
                <a:lnTo>
                  <a:pt x="7" y="7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14" y="0"/>
                </a:lnTo>
                <a:lnTo>
                  <a:pt x="14" y="0"/>
                </a:lnTo>
                <a:lnTo>
                  <a:pt x="14" y="0"/>
                </a:lnTo>
                <a:lnTo>
                  <a:pt x="14" y="0"/>
                </a:lnTo>
                <a:lnTo>
                  <a:pt x="21" y="0"/>
                </a:lnTo>
                <a:lnTo>
                  <a:pt x="21" y="0"/>
                </a:lnTo>
                <a:lnTo>
                  <a:pt x="21" y="0"/>
                </a:lnTo>
                <a:lnTo>
                  <a:pt x="28" y="0"/>
                </a:lnTo>
                <a:lnTo>
                  <a:pt x="28" y="0"/>
                </a:lnTo>
                <a:lnTo>
                  <a:pt x="35" y="7"/>
                </a:lnTo>
                <a:lnTo>
                  <a:pt x="35" y="7"/>
                </a:lnTo>
                <a:lnTo>
                  <a:pt x="35" y="7"/>
                </a:lnTo>
                <a:lnTo>
                  <a:pt x="42" y="7"/>
                </a:lnTo>
                <a:lnTo>
                  <a:pt x="42" y="7"/>
                </a:lnTo>
                <a:lnTo>
                  <a:pt x="42" y="14"/>
                </a:lnTo>
                <a:lnTo>
                  <a:pt x="42" y="14"/>
                </a:lnTo>
                <a:lnTo>
                  <a:pt x="42" y="14"/>
                </a:lnTo>
                <a:lnTo>
                  <a:pt x="49" y="21"/>
                </a:lnTo>
                <a:lnTo>
                  <a:pt x="49" y="21"/>
                </a:lnTo>
                <a:lnTo>
                  <a:pt x="49" y="21"/>
                </a:lnTo>
                <a:lnTo>
                  <a:pt x="42" y="21"/>
                </a:lnTo>
                <a:lnTo>
                  <a:pt x="42" y="28"/>
                </a:lnTo>
                <a:lnTo>
                  <a:pt x="42" y="28"/>
                </a:lnTo>
                <a:lnTo>
                  <a:pt x="42" y="28"/>
                </a:lnTo>
                <a:lnTo>
                  <a:pt x="35" y="35"/>
                </a:lnTo>
                <a:lnTo>
                  <a:pt x="35" y="35"/>
                </a:lnTo>
                <a:lnTo>
                  <a:pt x="28" y="35"/>
                </a:lnTo>
                <a:lnTo>
                  <a:pt x="21" y="35"/>
                </a:lnTo>
                <a:lnTo>
                  <a:pt x="21" y="28"/>
                </a:lnTo>
                <a:close/>
                <a:moveTo>
                  <a:pt x="21" y="28"/>
                </a:moveTo>
                <a:lnTo>
                  <a:pt x="28" y="28"/>
                </a:lnTo>
                <a:lnTo>
                  <a:pt x="28" y="28"/>
                </a:lnTo>
                <a:lnTo>
                  <a:pt x="35" y="28"/>
                </a:lnTo>
                <a:lnTo>
                  <a:pt x="35" y="28"/>
                </a:lnTo>
                <a:lnTo>
                  <a:pt x="35" y="28"/>
                </a:lnTo>
                <a:lnTo>
                  <a:pt x="42" y="28"/>
                </a:lnTo>
                <a:lnTo>
                  <a:pt x="42" y="28"/>
                </a:lnTo>
                <a:lnTo>
                  <a:pt x="42" y="21"/>
                </a:lnTo>
                <a:lnTo>
                  <a:pt x="42" y="21"/>
                </a:lnTo>
                <a:lnTo>
                  <a:pt x="42" y="21"/>
                </a:lnTo>
                <a:lnTo>
                  <a:pt x="42" y="14"/>
                </a:lnTo>
                <a:lnTo>
                  <a:pt x="42" y="14"/>
                </a:lnTo>
                <a:lnTo>
                  <a:pt x="35" y="14"/>
                </a:lnTo>
                <a:lnTo>
                  <a:pt x="35" y="14"/>
                </a:lnTo>
                <a:lnTo>
                  <a:pt x="28" y="7"/>
                </a:lnTo>
                <a:lnTo>
                  <a:pt x="28" y="7"/>
                </a:lnTo>
                <a:lnTo>
                  <a:pt x="21" y="7"/>
                </a:lnTo>
                <a:lnTo>
                  <a:pt x="14" y="7"/>
                </a:lnTo>
                <a:lnTo>
                  <a:pt x="14" y="7"/>
                </a:lnTo>
                <a:lnTo>
                  <a:pt x="14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14"/>
                </a:lnTo>
                <a:lnTo>
                  <a:pt x="7" y="14"/>
                </a:lnTo>
                <a:lnTo>
                  <a:pt x="7" y="14"/>
                </a:lnTo>
                <a:lnTo>
                  <a:pt x="7" y="14"/>
                </a:lnTo>
                <a:lnTo>
                  <a:pt x="7" y="21"/>
                </a:lnTo>
                <a:lnTo>
                  <a:pt x="7" y="21"/>
                </a:lnTo>
                <a:lnTo>
                  <a:pt x="14" y="21"/>
                </a:lnTo>
                <a:lnTo>
                  <a:pt x="14" y="21"/>
                </a:lnTo>
                <a:lnTo>
                  <a:pt x="21" y="28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3" name=""/>
          <p:cNvSpPr/>
          <p:nvPr/>
        </p:nvSpPr>
        <p:spPr>
          <a:xfrm>
            <a:off x="3262320" y="3494160"/>
            <a:ext cx="1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4" name=""/>
          <p:cNvSpPr/>
          <p:nvPr/>
        </p:nvSpPr>
        <p:spPr>
          <a:xfrm>
            <a:off x="3262320" y="2727360"/>
            <a:ext cx="623880" cy="766800"/>
          </a:xfrm>
          <a:custGeom>
            <a:avLst/>
            <a:gdLst/>
            <a:ahLst/>
            <a:rect l="l" t="t" r="r" b="b"/>
            <a:pathLst>
              <a:path w="393" h="483">
                <a:moveTo>
                  <a:pt x="0" y="483"/>
                </a:moveTo>
                <a:lnTo>
                  <a:pt x="0" y="476"/>
                </a:lnTo>
                <a:lnTo>
                  <a:pt x="7" y="469"/>
                </a:lnTo>
                <a:lnTo>
                  <a:pt x="7" y="462"/>
                </a:lnTo>
                <a:lnTo>
                  <a:pt x="7" y="455"/>
                </a:lnTo>
                <a:lnTo>
                  <a:pt x="14" y="448"/>
                </a:lnTo>
                <a:lnTo>
                  <a:pt x="14" y="441"/>
                </a:lnTo>
                <a:lnTo>
                  <a:pt x="21" y="434"/>
                </a:lnTo>
                <a:lnTo>
                  <a:pt x="21" y="434"/>
                </a:lnTo>
                <a:lnTo>
                  <a:pt x="27" y="427"/>
                </a:lnTo>
                <a:lnTo>
                  <a:pt x="27" y="421"/>
                </a:lnTo>
                <a:lnTo>
                  <a:pt x="27" y="414"/>
                </a:lnTo>
                <a:lnTo>
                  <a:pt x="34" y="407"/>
                </a:lnTo>
                <a:lnTo>
                  <a:pt x="34" y="400"/>
                </a:lnTo>
                <a:lnTo>
                  <a:pt x="34" y="393"/>
                </a:lnTo>
                <a:lnTo>
                  <a:pt x="41" y="386"/>
                </a:lnTo>
                <a:lnTo>
                  <a:pt x="41" y="379"/>
                </a:lnTo>
                <a:lnTo>
                  <a:pt x="41" y="372"/>
                </a:lnTo>
                <a:lnTo>
                  <a:pt x="48" y="365"/>
                </a:lnTo>
                <a:lnTo>
                  <a:pt x="48" y="359"/>
                </a:lnTo>
                <a:lnTo>
                  <a:pt x="55" y="359"/>
                </a:lnTo>
                <a:lnTo>
                  <a:pt x="55" y="352"/>
                </a:lnTo>
                <a:lnTo>
                  <a:pt x="62" y="345"/>
                </a:lnTo>
                <a:lnTo>
                  <a:pt x="62" y="338"/>
                </a:lnTo>
                <a:lnTo>
                  <a:pt x="62" y="331"/>
                </a:lnTo>
                <a:lnTo>
                  <a:pt x="69" y="324"/>
                </a:lnTo>
                <a:lnTo>
                  <a:pt x="69" y="317"/>
                </a:lnTo>
                <a:lnTo>
                  <a:pt x="69" y="310"/>
                </a:lnTo>
                <a:lnTo>
                  <a:pt x="76" y="303"/>
                </a:lnTo>
                <a:lnTo>
                  <a:pt x="76" y="297"/>
                </a:lnTo>
                <a:lnTo>
                  <a:pt x="76" y="290"/>
                </a:lnTo>
                <a:lnTo>
                  <a:pt x="83" y="290"/>
                </a:lnTo>
                <a:lnTo>
                  <a:pt x="83" y="283"/>
                </a:lnTo>
                <a:lnTo>
                  <a:pt x="90" y="276"/>
                </a:lnTo>
                <a:lnTo>
                  <a:pt x="90" y="269"/>
                </a:lnTo>
                <a:lnTo>
                  <a:pt x="96" y="262"/>
                </a:lnTo>
                <a:lnTo>
                  <a:pt x="103" y="255"/>
                </a:lnTo>
                <a:lnTo>
                  <a:pt x="103" y="255"/>
                </a:lnTo>
                <a:lnTo>
                  <a:pt x="110" y="248"/>
                </a:lnTo>
                <a:lnTo>
                  <a:pt x="110" y="241"/>
                </a:lnTo>
                <a:lnTo>
                  <a:pt x="110" y="235"/>
                </a:lnTo>
                <a:lnTo>
                  <a:pt x="110" y="228"/>
                </a:lnTo>
                <a:lnTo>
                  <a:pt x="117" y="221"/>
                </a:lnTo>
                <a:lnTo>
                  <a:pt x="124" y="214"/>
                </a:lnTo>
                <a:lnTo>
                  <a:pt x="131" y="207"/>
                </a:lnTo>
                <a:lnTo>
                  <a:pt x="138" y="207"/>
                </a:lnTo>
                <a:lnTo>
                  <a:pt x="145" y="200"/>
                </a:lnTo>
                <a:lnTo>
                  <a:pt x="152" y="193"/>
                </a:lnTo>
                <a:lnTo>
                  <a:pt x="158" y="193"/>
                </a:lnTo>
                <a:lnTo>
                  <a:pt x="165" y="186"/>
                </a:lnTo>
                <a:lnTo>
                  <a:pt x="172" y="179"/>
                </a:lnTo>
                <a:lnTo>
                  <a:pt x="179" y="179"/>
                </a:lnTo>
                <a:lnTo>
                  <a:pt x="186" y="173"/>
                </a:lnTo>
                <a:lnTo>
                  <a:pt x="193" y="166"/>
                </a:lnTo>
                <a:lnTo>
                  <a:pt x="207" y="166"/>
                </a:lnTo>
                <a:lnTo>
                  <a:pt x="207" y="173"/>
                </a:lnTo>
                <a:lnTo>
                  <a:pt x="214" y="179"/>
                </a:lnTo>
                <a:lnTo>
                  <a:pt x="221" y="186"/>
                </a:lnTo>
                <a:lnTo>
                  <a:pt x="227" y="186"/>
                </a:lnTo>
                <a:lnTo>
                  <a:pt x="234" y="193"/>
                </a:lnTo>
                <a:lnTo>
                  <a:pt x="241" y="200"/>
                </a:lnTo>
                <a:lnTo>
                  <a:pt x="248" y="207"/>
                </a:lnTo>
                <a:lnTo>
                  <a:pt x="248" y="207"/>
                </a:lnTo>
                <a:lnTo>
                  <a:pt x="255" y="214"/>
                </a:lnTo>
                <a:lnTo>
                  <a:pt x="262" y="221"/>
                </a:lnTo>
                <a:lnTo>
                  <a:pt x="269" y="228"/>
                </a:lnTo>
                <a:lnTo>
                  <a:pt x="276" y="228"/>
                </a:lnTo>
                <a:lnTo>
                  <a:pt x="276" y="235"/>
                </a:lnTo>
                <a:lnTo>
                  <a:pt x="283" y="241"/>
                </a:lnTo>
                <a:lnTo>
                  <a:pt x="289" y="248"/>
                </a:lnTo>
                <a:lnTo>
                  <a:pt x="289" y="255"/>
                </a:lnTo>
                <a:lnTo>
                  <a:pt x="296" y="262"/>
                </a:lnTo>
                <a:lnTo>
                  <a:pt x="303" y="255"/>
                </a:lnTo>
                <a:lnTo>
                  <a:pt x="310" y="255"/>
                </a:lnTo>
                <a:lnTo>
                  <a:pt x="317" y="248"/>
                </a:lnTo>
                <a:lnTo>
                  <a:pt x="324" y="241"/>
                </a:lnTo>
                <a:lnTo>
                  <a:pt x="331" y="241"/>
                </a:lnTo>
                <a:lnTo>
                  <a:pt x="338" y="235"/>
                </a:lnTo>
                <a:lnTo>
                  <a:pt x="345" y="228"/>
                </a:lnTo>
                <a:lnTo>
                  <a:pt x="352" y="221"/>
                </a:lnTo>
                <a:lnTo>
                  <a:pt x="358" y="221"/>
                </a:lnTo>
                <a:lnTo>
                  <a:pt x="372" y="214"/>
                </a:lnTo>
                <a:lnTo>
                  <a:pt x="379" y="214"/>
                </a:lnTo>
                <a:lnTo>
                  <a:pt x="386" y="207"/>
                </a:lnTo>
                <a:lnTo>
                  <a:pt x="393" y="207"/>
                </a:lnTo>
                <a:lnTo>
                  <a:pt x="393" y="200"/>
                </a:lnTo>
                <a:lnTo>
                  <a:pt x="393" y="193"/>
                </a:lnTo>
                <a:lnTo>
                  <a:pt x="393" y="186"/>
                </a:lnTo>
                <a:lnTo>
                  <a:pt x="386" y="179"/>
                </a:lnTo>
                <a:lnTo>
                  <a:pt x="372" y="173"/>
                </a:lnTo>
                <a:lnTo>
                  <a:pt x="365" y="173"/>
                </a:lnTo>
                <a:lnTo>
                  <a:pt x="358" y="173"/>
                </a:lnTo>
                <a:lnTo>
                  <a:pt x="352" y="166"/>
                </a:lnTo>
                <a:lnTo>
                  <a:pt x="345" y="159"/>
                </a:lnTo>
                <a:lnTo>
                  <a:pt x="345" y="152"/>
                </a:lnTo>
                <a:lnTo>
                  <a:pt x="345" y="145"/>
                </a:lnTo>
                <a:lnTo>
                  <a:pt x="338" y="138"/>
                </a:lnTo>
                <a:lnTo>
                  <a:pt x="331" y="131"/>
                </a:lnTo>
                <a:lnTo>
                  <a:pt x="331" y="124"/>
                </a:lnTo>
                <a:lnTo>
                  <a:pt x="324" y="124"/>
                </a:lnTo>
                <a:lnTo>
                  <a:pt x="331" y="117"/>
                </a:lnTo>
                <a:lnTo>
                  <a:pt x="331" y="111"/>
                </a:lnTo>
                <a:lnTo>
                  <a:pt x="345" y="111"/>
                </a:lnTo>
                <a:lnTo>
                  <a:pt x="352" y="104"/>
                </a:lnTo>
                <a:lnTo>
                  <a:pt x="358" y="97"/>
                </a:lnTo>
                <a:lnTo>
                  <a:pt x="365" y="97"/>
                </a:lnTo>
                <a:lnTo>
                  <a:pt x="372" y="90"/>
                </a:lnTo>
                <a:lnTo>
                  <a:pt x="372" y="83"/>
                </a:lnTo>
                <a:lnTo>
                  <a:pt x="372" y="76"/>
                </a:lnTo>
                <a:lnTo>
                  <a:pt x="372" y="69"/>
                </a:lnTo>
                <a:lnTo>
                  <a:pt x="365" y="62"/>
                </a:lnTo>
                <a:lnTo>
                  <a:pt x="358" y="55"/>
                </a:lnTo>
                <a:lnTo>
                  <a:pt x="352" y="55"/>
                </a:lnTo>
                <a:lnTo>
                  <a:pt x="352" y="49"/>
                </a:lnTo>
                <a:lnTo>
                  <a:pt x="345" y="42"/>
                </a:lnTo>
                <a:lnTo>
                  <a:pt x="338" y="35"/>
                </a:lnTo>
                <a:lnTo>
                  <a:pt x="331" y="35"/>
                </a:lnTo>
                <a:lnTo>
                  <a:pt x="324" y="28"/>
                </a:lnTo>
                <a:lnTo>
                  <a:pt x="317" y="21"/>
                </a:lnTo>
                <a:lnTo>
                  <a:pt x="317" y="14"/>
                </a:lnTo>
                <a:lnTo>
                  <a:pt x="310" y="7"/>
                </a:lnTo>
                <a:lnTo>
                  <a:pt x="303" y="7"/>
                </a:lnTo>
                <a:lnTo>
                  <a:pt x="296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5" name=""/>
          <p:cNvSpPr/>
          <p:nvPr/>
        </p:nvSpPr>
        <p:spPr>
          <a:xfrm>
            <a:off x="3141720" y="2935440"/>
            <a:ext cx="1440" cy="10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6" name=""/>
          <p:cNvSpPr/>
          <p:nvPr/>
        </p:nvSpPr>
        <p:spPr>
          <a:xfrm>
            <a:off x="3032280" y="2946240"/>
            <a:ext cx="109440" cy="196920"/>
          </a:xfrm>
          <a:custGeom>
            <a:avLst/>
            <a:gdLst/>
            <a:ahLst/>
            <a:rect l="l" t="t" r="r" b="b"/>
            <a:pathLst>
              <a:path w="69" h="124">
                <a:moveTo>
                  <a:pt x="69" y="0"/>
                </a:moveTo>
                <a:lnTo>
                  <a:pt x="62" y="7"/>
                </a:lnTo>
                <a:lnTo>
                  <a:pt x="55" y="14"/>
                </a:lnTo>
                <a:lnTo>
                  <a:pt x="55" y="21"/>
                </a:lnTo>
                <a:lnTo>
                  <a:pt x="55" y="28"/>
                </a:lnTo>
                <a:lnTo>
                  <a:pt x="48" y="35"/>
                </a:lnTo>
                <a:lnTo>
                  <a:pt x="41" y="41"/>
                </a:lnTo>
                <a:lnTo>
                  <a:pt x="41" y="48"/>
                </a:lnTo>
                <a:lnTo>
                  <a:pt x="35" y="55"/>
                </a:lnTo>
                <a:lnTo>
                  <a:pt x="28" y="62"/>
                </a:lnTo>
                <a:lnTo>
                  <a:pt x="28" y="69"/>
                </a:lnTo>
                <a:lnTo>
                  <a:pt x="21" y="69"/>
                </a:lnTo>
                <a:lnTo>
                  <a:pt x="14" y="76"/>
                </a:lnTo>
                <a:lnTo>
                  <a:pt x="7" y="83"/>
                </a:lnTo>
                <a:lnTo>
                  <a:pt x="0" y="90"/>
                </a:lnTo>
                <a:lnTo>
                  <a:pt x="0" y="97"/>
                </a:lnTo>
                <a:lnTo>
                  <a:pt x="0" y="103"/>
                </a:lnTo>
                <a:lnTo>
                  <a:pt x="7" y="110"/>
                </a:lnTo>
                <a:lnTo>
                  <a:pt x="14" y="117"/>
                </a:lnTo>
                <a:lnTo>
                  <a:pt x="21" y="124"/>
                </a:lnTo>
                <a:lnTo>
                  <a:pt x="28" y="124"/>
                </a:lnTo>
                <a:lnTo>
                  <a:pt x="35" y="124"/>
                </a:lnTo>
                <a:lnTo>
                  <a:pt x="41" y="117"/>
                </a:lnTo>
                <a:lnTo>
                  <a:pt x="48" y="110"/>
                </a:lnTo>
                <a:lnTo>
                  <a:pt x="48" y="97"/>
                </a:lnTo>
                <a:lnTo>
                  <a:pt x="55" y="90"/>
                </a:lnTo>
                <a:lnTo>
                  <a:pt x="62" y="90"/>
                </a:lnTo>
                <a:lnTo>
                  <a:pt x="62" y="103"/>
                </a:lnTo>
                <a:lnTo>
                  <a:pt x="55" y="110"/>
                </a:lnTo>
                <a:lnTo>
                  <a:pt x="48" y="110"/>
                </a:lnTo>
                <a:lnTo>
                  <a:pt x="41" y="117"/>
                </a:lnTo>
                <a:lnTo>
                  <a:pt x="35" y="124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7" name=""/>
          <p:cNvSpPr/>
          <p:nvPr/>
        </p:nvSpPr>
        <p:spPr>
          <a:xfrm>
            <a:off x="3087720" y="3143160"/>
            <a:ext cx="1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8" name=""/>
          <p:cNvSpPr/>
          <p:nvPr/>
        </p:nvSpPr>
        <p:spPr>
          <a:xfrm>
            <a:off x="3009960" y="3208320"/>
            <a:ext cx="77760" cy="55440"/>
          </a:xfrm>
          <a:custGeom>
            <a:avLst/>
            <a:gdLst/>
            <a:ahLst/>
            <a:rect l="l" t="t" r="r" b="b"/>
            <a:pathLst>
              <a:path w="49" h="35">
                <a:moveTo>
                  <a:pt x="21" y="0"/>
                </a:moveTo>
                <a:lnTo>
                  <a:pt x="21" y="7"/>
                </a:lnTo>
                <a:lnTo>
                  <a:pt x="14" y="7"/>
                </a:lnTo>
                <a:lnTo>
                  <a:pt x="14" y="7"/>
                </a:lnTo>
                <a:lnTo>
                  <a:pt x="14" y="7"/>
                </a:lnTo>
                <a:lnTo>
                  <a:pt x="14" y="7"/>
                </a:lnTo>
                <a:lnTo>
                  <a:pt x="14" y="7"/>
                </a:lnTo>
                <a:lnTo>
                  <a:pt x="7" y="7"/>
                </a:lnTo>
                <a:lnTo>
                  <a:pt x="7" y="14"/>
                </a:lnTo>
                <a:lnTo>
                  <a:pt x="7" y="14"/>
                </a:lnTo>
                <a:lnTo>
                  <a:pt x="7" y="14"/>
                </a:lnTo>
                <a:lnTo>
                  <a:pt x="7" y="14"/>
                </a:lnTo>
                <a:lnTo>
                  <a:pt x="7" y="14"/>
                </a:lnTo>
                <a:lnTo>
                  <a:pt x="7" y="14"/>
                </a:lnTo>
                <a:lnTo>
                  <a:pt x="7" y="21"/>
                </a:lnTo>
                <a:lnTo>
                  <a:pt x="7" y="21"/>
                </a:lnTo>
                <a:lnTo>
                  <a:pt x="7" y="21"/>
                </a:lnTo>
                <a:lnTo>
                  <a:pt x="14" y="21"/>
                </a:lnTo>
                <a:lnTo>
                  <a:pt x="14" y="21"/>
                </a:lnTo>
                <a:lnTo>
                  <a:pt x="14" y="28"/>
                </a:lnTo>
                <a:lnTo>
                  <a:pt x="21" y="28"/>
                </a:lnTo>
                <a:lnTo>
                  <a:pt x="21" y="28"/>
                </a:lnTo>
                <a:lnTo>
                  <a:pt x="21" y="28"/>
                </a:lnTo>
                <a:lnTo>
                  <a:pt x="21" y="28"/>
                </a:lnTo>
                <a:lnTo>
                  <a:pt x="21" y="21"/>
                </a:lnTo>
                <a:lnTo>
                  <a:pt x="21" y="21"/>
                </a:lnTo>
                <a:lnTo>
                  <a:pt x="21" y="21"/>
                </a:lnTo>
                <a:lnTo>
                  <a:pt x="21" y="21"/>
                </a:lnTo>
                <a:lnTo>
                  <a:pt x="21" y="14"/>
                </a:lnTo>
                <a:lnTo>
                  <a:pt x="21" y="14"/>
                </a:lnTo>
                <a:lnTo>
                  <a:pt x="21" y="14"/>
                </a:lnTo>
                <a:lnTo>
                  <a:pt x="21" y="14"/>
                </a:lnTo>
                <a:lnTo>
                  <a:pt x="21" y="7"/>
                </a:lnTo>
                <a:lnTo>
                  <a:pt x="28" y="7"/>
                </a:lnTo>
                <a:lnTo>
                  <a:pt x="28" y="7"/>
                </a:lnTo>
                <a:lnTo>
                  <a:pt x="35" y="7"/>
                </a:lnTo>
                <a:lnTo>
                  <a:pt x="35" y="7"/>
                </a:lnTo>
                <a:lnTo>
                  <a:pt x="35" y="7"/>
                </a:lnTo>
                <a:lnTo>
                  <a:pt x="42" y="7"/>
                </a:lnTo>
                <a:lnTo>
                  <a:pt x="42" y="14"/>
                </a:lnTo>
                <a:lnTo>
                  <a:pt x="42" y="14"/>
                </a:lnTo>
                <a:lnTo>
                  <a:pt x="42" y="14"/>
                </a:lnTo>
                <a:lnTo>
                  <a:pt x="49" y="14"/>
                </a:lnTo>
                <a:lnTo>
                  <a:pt x="49" y="14"/>
                </a:lnTo>
                <a:lnTo>
                  <a:pt x="49" y="21"/>
                </a:lnTo>
                <a:lnTo>
                  <a:pt x="49" y="21"/>
                </a:lnTo>
                <a:lnTo>
                  <a:pt x="49" y="21"/>
                </a:lnTo>
                <a:lnTo>
                  <a:pt x="49" y="21"/>
                </a:lnTo>
                <a:lnTo>
                  <a:pt x="49" y="28"/>
                </a:lnTo>
                <a:lnTo>
                  <a:pt x="49" y="28"/>
                </a:lnTo>
                <a:lnTo>
                  <a:pt x="42" y="28"/>
                </a:lnTo>
                <a:lnTo>
                  <a:pt x="42" y="35"/>
                </a:lnTo>
                <a:lnTo>
                  <a:pt x="42" y="35"/>
                </a:lnTo>
                <a:lnTo>
                  <a:pt x="35" y="35"/>
                </a:lnTo>
                <a:lnTo>
                  <a:pt x="35" y="35"/>
                </a:lnTo>
                <a:lnTo>
                  <a:pt x="28" y="35"/>
                </a:lnTo>
                <a:lnTo>
                  <a:pt x="28" y="35"/>
                </a:lnTo>
                <a:lnTo>
                  <a:pt x="21" y="35"/>
                </a:lnTo>
                <a:lnTo>
                  <a:pt x="14" y="35"/>
                </a:lnTo>
                <a:lnTo>
                  <a:pt x="14" y="28"/>
                </a:lnTo>
                <a:lnTo>
                  <a:pt x="7" y="28"/>
                </a:lnTo>
                <a:lnTo>
                  <a:pt x="7" y="21"/>
                </a:lnTo>
                <a:lnTo>
                  <a:pt x="7" y="21"/>
                </a:lnTo>
                <a:lnTo>
                  <a:pt x="0" y="14"/>
                </a:lnTo>
                <a:lnTo>
                  <a:pt x="0" y="14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0"/>
                </a:lnTo>
                <a:lnTo>
                  <a:pt x="14" y="0"/>
                </a:lnTo>
                <a:lnTo>
                  <a:pt x="14" y="0"/>
                </a:lnTo>
                <a:lnTo>
                  <a:pt x="14" y="0"/>
                </a:lnTo>
                <a:lnTo>
                  <a:pt x="21" y="0"/>
                </a:lnTo>
                <a:close/>
                <a:moveTo>
                  <a:pt x="28" y="28"/>
                </a:moveTo>
                <a:lnTo>
                  <a:pt x="28" y="28"/>
                </a:lnTo>
                <a:lnTo>
                  <a:pt x="35" y="28"/>
                </a:lnTo>
                <a:lnTo>
                  <a:pt x="35" y="35"/>
                </a:lnTo>
                <a:lnTo>
                  <a:pt x="35" y="35"/>
                </a:lnTo>
                <a:lnTo>
                  <a:pt x="35" y="28"/>
                </a:lnTo>
                <a:lnTo>
                  <a:pt x="35" y="28"/>
                </a:lnTo>
                <a:lnTo>
                  <a:pt x="42" y="28"/>
                </a:lnTo>
                <a:lnTo>
                  <a:pt x="42" y="28"/>
                </a:lnTo>
                <a:lnTo>
                  <a:pt x="42" y="28"/>
                </a:lnTo>
                <a:lnTo>
                  <a:pt x="42" y="28"/>
                </a:lnTo>
                <a:lnTo>
                  <a:pt x="42" y="28"/>
                </a:lnTo>
                <a:lnTo>
                  <a:pt x="42" y="28"/>
                </a:lnTo>
                <a:lnTo>
                  <a:pt x="42" y="28"/>
                </a:lnTo>
                <a:lnTo>
                  <a:pt x="42" y="21"/>
                </a:lnTo>
                <a:lnTo>
                  <a:pt x="42" y="21"/>
                </a:lnTo>
                <a:lnTo>
                  <a:pt x="42" y="21"/>
                </a:lnTo>
                <a:lnTo>
                  <a:pt x="42" y="21"/>
                </a:lnTo>
                <a:lnTo>
                  <a:pt x="42" y="14"/>
                </a:lnTo>
                <a:lnTo>
                  <a:pt x="35" y="14"/>
                </a:lnTo>
                <a:lnTo>
                  <a:pt x="35" y="14"/>
                </a:lnTo>
                <a:lnTo>
                  <a:pt x="35" y="14"/>
                </a:lnTo>
                <a:lnTo>
                  <a:pt x="35" y="14"/>
                </a:lnTo>
                <a:lnTo>
                  <a:pt x="28" y="14"/>
                </a:lnTo>
                <a:lnTo>
                  <a:pt x="28" y="14"/>
                </a:lnTo>
                <a:lnTo>
                  <a:pt x="28" y="14"/>
                </a:lnTo>
                <a:lnTo>
                  <a:pt x="28" y="14"/>
                </a:lnTo>
                <a:lnTo>
                  <a:pt x="21" y="14"/>
                </a:lnTo>
                <a:lnTo>
                  <a:pt x="21" y="21"/>
                </a:lnTo>
                <a:lnTo>
                  <a:pt x="21" y="21"/>
                </a:lnTo>
                <a:lnTo>
                  <a:pt x="21" y="21"/>
                </a:lnTo>
                <a:lnTo>
                  <a:pt x="21" y="21"/>
                </a:lnTo>
                <a:lnTo>
                  <a:pt x="21" y="28"/>
                </a:lnTo>
                <a:lnTo>
                  <a:pt x="28" y="28"/>
                </a:lnTo>
                <a:lnTo>
                  <a:pt x="28" y="28"/>
                </a:lnTo>
                <a:lnTo>
                  <a:pt x="28" y="28"/>
                </a:lnTo>
                <a:lnTo>
                  <a:pt x="28" y="28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9" name=""/>
          <p:cNvSpPr/>
          <p:nvPr/>
        </p:nvSpPr>
        <p:spPr>
          <a:xfrm>
            <a:off x="3032280" y="3165480"/>
            <a:ext cx="75960" cy="54000"/>
          </a:xfrm>
          <a:custGeom>
            <a:avLst/>
            <a:gdLst/>
            <a:ahLst/>
            <a:rect l="l" t="t" r="r" b="b"/>
            <a:pathLst>
              <a:path w="48" h="34">
                <a:moveTo>
                  <a:pt x="21" y="27"/>
                </a:moveTo>
                <a:lnTo>
                  <a:pt x="14" y="27"/>
                </a:lnTo>
                <a:lnTo>
                  <a:pt x="14" y="27"/>
                </a:lnTo>
                <a:lnTo>
                  <a:pt x="7" y="21"/>
                </a:lnTo>
                <a:lnTo>
                  <a:pt x="7" y="21"/>
                </a:lnTo>
                <a:lnTo>
                  <a:pt x="7" y="21"/>
                </a:lnTo>
                <a:lnTo>
                  <a:pt x="7" y="21"/>
                </a:lnTo>
                <a:lnTo>
                  <a:pt x="0" y="14"/>
                </a:lnTo>
                <a:lnTo>
                  <a:pt x="0" y="14"/>
                </a:lnTo>
                <a:lnTo>
                  <a:pt x="0" y="14"/>
                </a:lnTo>
                <a:lnTo>
                  <a:pt x="0" y="14"/>
                </a:lnTo>
                <a:lnTo>
                  <a:pt x="0" y="7"/>
                </a:lnTo>
                <a:lnTo>
                  <a:pt x="0" y="7"/>
                </a:lnTo>
                <a:lnTo>
                  <a:pt x="7" y="7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14" y="0"/>
                </a:lnTo>
                <a:lnTo>
                  <a:pt x="14" y="0"/>
                </a:lnTo>
                <a:lnTo>
                  <a:pt x="14" y="0"/>
                </a:lnTo>
                <a:lnTo>
                  <a:pt x="14" y="0"/>
                </a:lnTo>
                <a:lnTo>
                  <a:pt x="21" y="0"/>
                </a:lnTo>
                <a:lnTo>
                  <a:pt x="21" y="0"/>
                </a:lnTo>
                <a:lnTo>
                  <a:pt x="21" y="0"/>
                </a:lnTo>
                <a:lnTo>
                  <a:pt x="21" y="0"/>
                </a:lnTo>
                <a:lnTo>
                  <a:pt x="28" y="0"/>
                </a:lnTo>
                <a:lnTo>
                  <a:pt x="28" y="0"/>
                </a:lnTo>
                <a:lnTo>
                  <a:pt x="35" y="0"/>
                </a:lnTo>
                <a:lnTo>
                  <a:pt x="35" y="7"/>
                </a:lnTo>
                <a:lnTo>
                  <a:pt x="41" y="7"/>
                </a:lnTo>
                <a:lnTo>
                  <a:pt x="41" y="7"/>
                </a:lnTo>
                <a:lnTo>
                  <a:pt x="41" y="7"/>
                </a:lnTo>
                <a:lnTo>
                  <a:pt x="41" y="14"/>
                </a:lnTo>
                <a:lnTo>
                  <a:pt x="48" y="14"/>
                </a:lnTo>
                <a:lnTo>
                  <a:pt x="48" y="14"/>
                </a:lnTo>
                <a:lnTo>
                  <a:pt x="48" y="14"/>
                </a:lnTo>
                <a:lnTo>
                  <a:pt x="48" y="21"/>
                </a:lnTo>
                <a:lnTo>
                  <a:pt x="48" y="21"/>
                </a:lnTo>
                <a:lnTo>
                  <a:pt x="48" y="21"/>
                </a:lnTo>
                <a:lnTo>
                  <a:pt x="41" y="27"/>
                </a:lnTo>
                <a:lnTo>
                  <a:pt x="41" y="27"/>
                </a:lnTo>
                <a:lnTo>
                  <a:pt x="41" y="27"/>
                </a:lnTo>
                <a:lnTo>
                  <a:pt x="35" y="34"/>
                </a:lnTo>
                <a:lnTo>
                  <a:pt x="35" y="34"/>
                </a:lnTo>
                <a:lnTo>
                  <a:pt x="28" y="34"/>
                </a:lnTo>
                <a:lnTo>
                  <a:pt x="28" y="27"/>
                </a:lnTo>
                <a:lnTo>
                  <a:pt x="21" y="27"/>
                </a:lnTo>
                <a:close/>
                <a:moveTo>
                  <a:pt x="21" y="21"/>
                </a:moveTo>
                <a:lnTo>
                  <a:pt x="28" y="27"/>
                </a:lnTo>
                <a:lnTo>
                  <a:pt x="28" y="27"/>
                </a:lnTo>
                <a:lnTo>
                  <a:pt x="35" y="27"/>
                </a:lnTo>
                <a:lnTo>
                  <a:pt x="35" y="27"/>
                </a:lnTo>
                <a:lnTo>
                  <a:pt x="35" y="27"/>
                </a:lnTo>
                <a:lnTo>
                  <a:pt x="41" y="27"/>
                </a:lnTo>
                <a:lnTo>
                  <a:pt x="41" y="21"/>
                </a:lnTo>
                <a:lnTo>
                  <a:pt x="41" y="21"/>
                </a:lnTo>
                <a:lnTo>
                  <a:pt x="41" y="21"/>
                </a:lnTo>
                <a:lnTo>
                  <a:pt x="41" y="21"/>
                </a:lnTo>
                <a:lnTo>
                  <a:pt x="41" y="14"/>
                </a:lnTo>
                <a:lnTo>
                  <a:pt x="41" y="14"/>
                </a:lnTo>
                <a:lnTo>
                  <a:pt x="41" y="14"/>
                </a:lnTo>
                <a:lnTo>
                  <a:pt x="35" y="14"/>
                </a:lnTo>
                <a:lnTo>
                  <a:pt x="35" y="7"/>
                </a:lnTo>
                <a:lnTo>
                  <a:pt x="28" y="7"/>
                </a:lnTo>
                <a:lnTo>
                  <a:pt x="21" y="7"/>
                </a:lnTo>
                <a:lnTo>
                  <a:pt x="21" y="7"/>
                </a:lnTo>
                <a:lnTo>
                  <a:pt x="14" y="0"/>
                </a:lnTo>
                <a:lnTo>
                  <a:pt x="14" y="0"/>
                </a:lnTo>
                <a:lnTo>
                  <a:pt x="14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14"/>
                </a:lnTo>
                <a:lnTo>
                  <a:pt x="7" y="14"/>
                </a:lnTo>
                <a:lnTo>
                  <a:pt x="7" y="14"/>
                </a:lnTo>
                <a:lnTo>
                  <a:pt x="7" y="14"/>
                </a:lnTo>
                <a:lnTo>
                  <a:pt x="14" y="21"/>
                </a:lnTo>
                <a:lnTo>
                  <a:pt x="14" y="21"/>
                </a:lnTo>
                <a:lnTo>
                  <a:pt x="21" y="2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0" name=""/>
          <p:cNvSpPr/>
          <p:nvPr/>
        </p:nvSpPr>
        <p:spPr>
          <a:xfrm>
            <a:off x="3032280" y="3286080"/>
            <a:ext cx="1440" cy="11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1" name=""/>
          <p:cNvSpPr/>
          <p:nvPr/>
        </p:nvSpPr>
        <p:spPr>
          <a:xfrm>
            <a:off x="2374920" y="3297240"/>
            <a:ext cx="701640" cy="403200"/>
          </a:xfrm>
          <a:custGeom>
            <a:avLst/>
            <a:gdLst/>
            <a:ahLst/>
            <a:rect l="l" t="t" r="r" b="b"/>
            <a:pathLst>
              <a:path w="442" h="254">
                <a:moveTo>
                  <a:pt x="414" y="0"/>
                </a:moveTo>
                <a:lnTo>
                  <a:pt x="407" y="6"/>
                </a:lnTo>
                <a:lnTo>
                  <a:pt x="407" y="13"/>
                </a:lnTo>
                <a:lnTo>
                  <a:pt x="407" y="20"/>
                </a:lnTo>
                <a:lnTo>
                  <a:pt x="400" y="27"/>
                </a:lnTo>
                <a:lnTo>
                  <a:pt x="400" y="27"/>
                </a:lnTo>
                <a:lnTo>
                  <a:pt x="393" y="34"/>
                </a:lnTo>
                <a:lnTo>
                  <a:pt x="387" y="41"/>
                </a:lnTo>
                <a:lnTo>
                  <a:pt x="387" y="48"/>
                </a:lnTo>
                <a:lnTo>
                  <a:pt x="380" y="55"/>
                </a:lnTo>
                <a:lnTo>
                  <a:pt x="387" y="68"/>
                </a:lnTo>
                <a:lnTo>
                  <a:pt x="387" y="75"/>
                </a:lnTo>
                <a:lnTo>
                  <a:pt x="393" y="82"/>
                </a:lnTo>
                <a:lnTo>
                  <a:pt x="400" y="82"/>
                </a:lnTo>
                <a:lnTo>
                  <a:pt x="414" y="82"/>
                </a:lnTo>
                <a:lnTo>
                  <a:pt x="421" y="75"/>
                </a:lnTo>
                <a:lnTo>
                  <a:pt x="428" y="68"/>
                </a:lnTo>
                <a:lnTo>
                  <a:pt x="435" y="62"/>
                </a:lnTo>
                <a:lnTo>
                  <a:pt x="442" y="62"/>
                </a:lnTo>
                <a:lnTo>
                  <a:pt x="442" y="62"/>
                </a:lnTo>
                <a:lnTo>
                  <a:pt x="442" y="68"/>
                </a:lnTo>
                <a:lnTo>
                  <a:pt x="442" y="75"/>
                </a:lnTo>
                <a:lnTo>
                  <a:pt x="442" y="89"/>
                </a:lnTo>
                <a:lnTo>
                  <a:pt x="442" y="96"/>
                </a:lnTo>
                <a:lnTo>
                  <a:pt x="442" y="103"/>
                </a:lnTo>
                <a:lnTo>
                  <a:pt x="435" y="110"/>
                </a:lnTo>
                <a:lnTo>
                  <a:pt x="435" y="117"/>
                </a:lnTo>
                <a:lnTo>
                  <a:pt x="428" y="117"/>
                </a:lnTo>
                <a:lnTo>
                  <a:pt x="428" y="124"/>
                </a:lnTo>
                <a:lnTo>
                  <a:pt x="421" y="130"/>
                </a:lnTo>
                <a:lnTo>
                  <a:pt x="421" y="137"/>
                </a:lnTo>
                <a:lnTo>
                  <a:pt x="414" y="144"/>
                </a:lnTo>
                <a:lnTo>
                  <a:pt x="414" y="158"/>
                </a:lnTo>
                <a:lnTo>
                  <a:pt x="414" y="158"/>
                </a:lnTo>
                <a:lnTo>
                  <a:pt x="407" y="165"/>
                </a:lnTo>
                <a:lnTo>
                  <a:pt x="400" y="158"/>
                </a:lnTo>
                <a:lnTo>
                  <a:pt x="387" y="151"/>
                </a:lnTo>
                <a:lnTo>
                  <a:pt x="380" y="144"/>
                </a:lnTo>
                <a:lnTo>
                  <a:pt x="380" y="137"/>
                </a:lnTo>
                <a:lnTo>
                  <a:pt x="380" y="130"/>
                </a:lnTo>
                <a:lnTo>
                  <a:pt x="387" y="124"/>
                </a:lnTo>
                <a:lnTo>
                  <a:pt x="387" y="117"/>
                </a:lnTo>
                <a:lnTo>
                  <a:pt x="393" y="110"/>
                </a:lnTo>
                <a:lnTo>
                  <a:pt x="400" y="103"/>
                </a:lnTo>
                <a:lnTo>
                  <a:pt x="407" y="96"/>
                </a:lnTo>
                <a:lnTo>
                  <a:pt x="407" y="89"/>
                </a:lnTo>
                <a:lnTo>
                  <a:pt x="407" y="82"/>
                </a:lnTo>
                <a:lnTo>
                  <a:pt x="400" y="75"/>
                </a:lnTo>
                <a:lnTo>
                  <a:pt x="393" y="68"/>
                </a:lnTo>
                <a:lnTo>
                  <a:pt x="387" y="62"/>
                </a:lnTo>
                <a:lnTo>
                  <a:pt x="380" y="62"/>
                </a:lnTo>
                <a:lnTo>
                  <a:pt x="380" y="62"/>
                </a:lnTo>
                <a:lnTo>
                  <a:pt x="373" y="68"/>
                </a:lnTo>
                <a:lnTo>
                  <a:pt x="373" y="75"/>
                </a:lnTo>
                <a:lnTo>
                  <a:pt x="373" y="82"/>
                </a:lnTo>
                <a:lnTo>
                  <a:pt x="373" y="89"/>
                </a:lnTo>
                <a:lnTo>
                  <a:pt x="366" y="103"/>
                </a:lnTo>
                <a:lnTo>
                  <a:pt x="366" y="110"/>
                </a:lnTo>
                <a:lnTo>
                  <a:pt x="359" y="110"/>
                </a:lnTo>
                <a:lnTo>
                  <a:pt x="352" y="117"/>
                </a:lnTo>
                <a:lnTo>
                  <a:pt x="345" y="117"/>
                </a:lnTo>
                <a:lnTo>
                  <a:pt x="338" y="124"/>
                </a:lnTo>
                <a:lnTo>
                  <a:pt x="338" y="130"/>
                </a:lnTo>
                <a:lnTo>
                  <a:pt x="338" y="144"/>
                </a:lnTo>
                <a:lnTo>
                  <a:pt x="338" y="151"/>
                </a:lnTo>
                <a:lnTo>
                  <a:pt x="331" y="158"/>
                </a:lnTo>
                <a:lnTo>
                  <a:pt x="324" y="158"/>
                </a:lnTo>
                <a:lnTo>
                  <a:pt x="318" y="165"/>
                </a:lnTo>
                <a:lnTo>
                  <a:pt x="311" y="172"/>
                </a:lnTo>
                <a:lnTo>
                  <a:pt x="304" y="179"/>
                </a:lnTo>
                <a:lnTo>
                  <a:pt x="297" y="179"/>
                </a:lnTo>
                <a:lnTo>
                  <a:pt x="290" y="186"/>
                </a:lnTo>
                <a:lnTo>
                  <a:pt x="283" y="192"/>
                </a:lnTo>
                <a:lnTo>
                  <a:pt x="269" y="199"/>
                </a:lnTo>
                <a:lnTo>
                  <a:pt x="262" y="206"/>
                </a:lnTo>
                <a:lnTo>
                  <a:pt x="262" y="206"/>
                </a:lnTo>
                <a:lnTo>
                  <a:pt x="256" y="199"/>
                </a:lnTo>
                <a:lnTo>
                  <a:pt x="249" y="192"/>
                </a:lnTo>
                <a:lnTo>
                  <a:pt x="242" y="186"/>
                </a:lnTo>
                <a:lnTo>
                  <a:pt x="235" y="179"/>
                </a:lnTo>
                <a:lnTo>
                  <a:pt x="221" y="179"/>
                </a:lnTo>
                <a:lnTo>
                  <a:pt x="207" y="186"/>
                </a:lnTo>
                <a:lnTo>
                  <a:pt x="200" y="186"/>
                </a:lnTo>
                <a:lnTo>
                  <a:pt x="200" y="192"/>
                </a:lnTo>
                <a:lnTo>
                  <a:pt x="193" y="199"/>
                </a:lnTo>
                <a:lnTo>
                  <a:pt x="187" y="206"/>
                </a:lnTo>
                <a:lnTo>
                  <a:pt x="180" y="213"/>
                </a:lnTo>
                <a:lnTo>
                  <a:pt x="173" y="220"/>
                </a:lnTo>
                <a:lnTo>
                  <a:pt x="166" y="220"/>
                </a:lnTo>
                <a:lnTo>
                  <a:pt x="152" y="227"/>
                </a:lnTo>
                <a:lnTo>
                  <a:pt x="145" y="227"/>
                </a:lnTo>
                <a:lnTo>
                  <a:pt x="138" y="234"/>
                </a:lnTo>
                <a:lnTo>
                  <a:pt x="138" y="241"/>
                </a:lnTo>
                <a:lnTo>
                  <a:pt x="131" y="248"/>
                </a:lnTo>
                <a:lnTo>
                  <a:pt x="125" y="254"/>
                </a:lnTo>
                <a:lnTo>
                  <a:pt x="111" y="254"/>
                </a:lnTo>
                <a:lnTo>
                  <a:pt x="104" y="254"/>
                </a:lnTo>
                <a:lnTo>
                  <a:pt x="90" y="248"/>
                </a:lnTo>
                <a:lnTo>
                  <a:pt x="83" y="241"/>
                </a:lnTo>
                <a:lnTo>
                  <a:pt x="83" y="234"/>
                </a:lnTo>
                <a:lnTo>
                  <a:pt x="76" y="234"/>
                </a:lnTo>
                <a:lnTo>
                  <a:pt x="69" y="227"/>
                </a:lnTo>
                <a:lnTo>
                  <a:pt x="56" y="227"/>
                </a:lnTo>
                <a:lnTo>
                  <a:pt x="42" y="227"/>
                </a:lnTo>
                <a:lnTo>
                  <a:pt x="35" y="227"/>
                </a:lnTo>
                <a:lnTo>
                  <a:pt x="21" y="227"/>
                </a:lnTo>
                <a:lnTo>
                  <a:pt x="14" y="220"/>
                </a:lnTo>
                <a:lnTo>
                  <a:pt x="7" y="213"/>
                </a:lnTo>
                <a:lnTo>
                  <a:pt x="0" y="206"/>
                </a:lnTo>
                <a:lnTo>
                  <a:pt x="0" y="199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2" name=""/>
          <p:cNvSpPr/>
          <p:nvPr/>
        </p:nvSpPr>
        <p:spPr>
          <a:xfrm>
            <a:off x="2309760" y="3624120"/>
            <a:ext cx="480960" cy="241560"/>
          </a:xfrm>
          <a:custGeom>
            <a:avLst/>
            <a:gdLst/>
            <a:ahLst/>
            <a:rect l="l" t="t" r="r" b="b"/>
            <a:pathLst>
              <a:path w="303" h="152">
                <a:moveTo>
                  <a:pt x="28" y="0"/>
                </a:moveTo>
                <a:lnTo>
                  <a:pt x="28" y="0"/>
                </a:lnTo>
                <a:lnTo>
                  <a:pt x="21" y="7"/>
                </a:lnTo>
                <a:lnTo>
                  <a:pt x="14" y="7"/>
                </a:lnTo>
                <a:lnTo>
                  <a:pt x="7" y="14"/>
                </a:lnTo>
                <a:lnTo>
                  <a:pt x="7" y="21"/>
                </a:lnTo>
                <a:lnTo>
                  <a:pt x="0" y="21"/>
                </a:lnTo>
                <a:lnTo>
                  <a:pt x="0" y="28"/>
                </a:lnTo>
                <a:lnTo>
                  <a:pt x="0" y="35"/>
                </a:lnTo>
                <a:lnTo>
                  <a:pt x="0" y="42"/>
                </a:lnTo>
                <a:lnTo>
                  <a:pt x="7" y="42"/>
                </a:lnTo>
                <a:lnTo>
                  <a:pt x="14" y="48"/>
                </a:lnTo>
                <a:lnTo>
                  <a:pt x="21" y="48"/>
                </a:lnTo>
                <a:lnTo>
                  <a:pt x="28" y="55"/>
                </a:lnTo>
                <a:lnTo>
                  <a:pt x="35" y="55"/>
                </a:lnTo>
                <a:lnTo>
                  <a:pt x="41" y="62"/>
                </a:lnTo>
                <a:lnTo>
                  <a:pt x="48" y="62"/>
                </a:lnTo>
                <a:lnTo>
                  <a:pt x="55" y="62"/>
                </a:lnTo>
                <a:lnTo>
                  <a:pt x="62" y="62"/>
                </a:lnTo>
                <a:lnTo>
                  <a:pt x="69" y="62"/>
                </a:lnTo>
                <a:lnTo>
                  <a:pt x="83" y="69"/>
                </a:lnTo>
                <a:lnTo>
                  <a:pt x="90" y="69"/>
                </a:lnTo>
                <a:lnTo>
                  <a:pt x="97" y="69"/>
                </a:lnTo>
                <a:lnTo>
                  <a:pt x="103" y="69"/>
                </a:lnTo>
                <a:lnTo>
                  <a:pt x="110" y="69"/>
                </a:lnTo>
                <a:lnTo>
                  <a:pt x="117" y="76"/>
                </a:lnTo>
                <a:lnTo>
                  <a:pt x="124" y="76"/>
                </a:lnTo>
                <a:lnTo>
                  <a:pt x="131" y="83"/>
                </a:lnTo>
                <a:lnTo>
                  <a:pt x="138" y="90"/>
                </a:lnTo>
                <a:lnTo>
                  <a:pt x="145" y="90"/>
                </a:lnTo>
                <a:lnTo>
                  <a:pt x="152" y="90"/>
                </a:lnTo>
                <a:lnTo>
                  <a:pt x="159" y="97"/>
                </a:lnTo>
                <a:lnTo>
                  <a:pt x="166" y="97"/>
                </a:lnTo>
                <a:lnTo>
                  <a:pt x="172" y="97"/>
                </a:lnTo>
                <a:lnTo>
                  <a:pt x="186" y="97"/>
                </a:lnTo>
                <a:lnTo>
                  <a:pt x="193" y="97"/>
                </a:lnTo>
                <a:lnTo>
                  <a:pt x="200" y="97"/>
                </a:lnTo>
                <a:lnTo>
                  <a:pt x="207" y="97"/>
                </a:lnTo>
                <a:lnTo>
                  <a:pt x="214" y="97"/>
                </a:lnTo>
                <a:lnTo>
                  <a:pt x="228" y="97"/>
                </a:lnTo>
                <a:lnTo>
                  <a:pt x="234" y="90"/>
                </a:lnTo>
                <a:lnTo>
                  <a:pt x="241" y="90"/>
                </a:lnTo>
                <a:lnTo>
                  <a:pt x="248" y="90"/>
                </a:lnTo>
                <a:lnTo>
                  <a:pt x="255" y="97"/>
                </a:lnTo>
                <a:lnTo>
                  <a:pt x="262" y="97"/>
                </a:lnTo>
                <a:lnTo>
                  <a:pt x="262" y="104"/>
                </a:lnTo>
                <a:lnTo>
                  <a:pt x="269" y="110"/>
                </a:lnTo>
                <a:lnTo>
                  <a:pt x="269" y="117"/>
                </a:lnTo>
                <a:lnTo>
                  <a:pt x="269" y="124"/>
                </a:lnTo>
                <a:lnTo>
                  <a:pt x="269" y="131"/>
                </a:lnTo>
                <a:lnTo>
                  <a:pt x="269" y="131"/>
                </a:lnTo>
                <a:lnTo>
                  <a:pt x="269" y="138"/>
                </a:lnTo>
                <a:lnTo>
                  <a:pt x="276" y="145"/>
                </a:lnTo>
                <a:lnTo>
                  <a:pt x="283" y="145"/>
                </a:lnTo>
                <a:lnTo>
                  <a:pt x="290" y="145"/>
                </a:lnTo>
                <a:lnTo>
                  <a:pt x="303" y="152"/>
                </a:lnTo>
                <a:lnTo>
                  <a:pt x="303" y="145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3" name=""/>
          <p:cNvSpPr/>
          <p:nvPr/>
        </p:nvSpPr>
        <p:spPr>
          <a:xfrm>
            <a:off x="3021120" y="3843360"/>
            <a:ext cx="1440" cy="11160"/>
          </a:xfrm>
          <a:custGeom>
            <a:avLst/>
            <a:gdLst/>
            <a:ahLst/>
            <a:rect l="l" t="t" r="r" b="b"/>
            <a:pathLst>
              <a:path w="0" h="7">
                <a:moveTo>
                  <a:pt x="0" y="7"/>
                </a:move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0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4" name=""/>
          <p:cNvSpPr/>
          <p:nvPr/>
        </p:nvSpPr>
        <p:spPr>
          <a:xfrm>
            <a:off x="5549760" y="3733920"/>
            <a:ext cx="33480" cy="87120"/>
          </a:xfrm>
          <a:custGeom>
            <a:avLst/>
            <a:gdLst/>
            <a:ahLst/>
            <a:rect l="l" t="t" r="r" b="b"/>
            <a:pathLst>
              <a:path w="21" h="55">
                <a:moveTo>
                  <a:pt x="7" y="48"/>
                </a:moveTo>
                <a:lnTo>
                  <a:pt x="14" y="41"/>
                </a:lnTo>
                <a:lnTo>
                  <a:pt x="21" y="35"/>
                </a:lnTo>
                <a:lnTo>
                  <a:pt x="21" y="35"/>
                </a:lnTo>
                <a:lnTo>
                  <a:pt x="21" y="28"/>
                </a:lnTo>
                <a:lnTo>
                  <a:pt x="21" y="21"/>
                </a:lnTo>
                <a:lnTo>
                  <a:pt x="14" y="14"/>
                </a:lnTo>
                <a:lnTo>
                  <a:pt x="14" y="7"/>
                </a:lnTo>
                <a:lnTo>
                  <a:pt x="7" y="0"/>
                </a:lnTo>
                <a:lnTo>
                  <a:pt x="0" y="0"/>
                </a:lnTo>
                <a:lnTo>
                  <a:pt x="0" y="7"/>
                </a:lnTo>
                <a:lnTo>
                  <a:pt x="0" y="14"/>
                </a:lnTo>
                <a:lnTo>
                  <a:pt x="0" y="21"/>
                </a:lnTo>
                <a:lnTo>
                  <a:pt x="0" y="28"/>
                </a:lnTo>
                <a:lnTo>
                  <a:pt x="0" y="35"/>
                </a:lnTo>
                <a:lnTo>
                  <a:pt x="0" y="35"/>
                </a:lnTo>
                <a:lnTo>
                  <a:pt x="0" y="41"/>
                </a:lnTo>
                <a:lnTo>
                  <a:pt x="0" y="48"/>
                </a:lnTo>
                <a:lnTo>
                  <a:pt x="7" y="55"/>
                </a:lnTo>
                <a:lnTo>
                  <a:pt x="7" y="55"/>
                </a:lnTo>
                <a:lnTo>
                  <a:pt x="7" y="48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5" name=""/>
          <p:cNvSpPr/>
          <p:nvPr/>
        </p:nvSpPr>
        <p:spPr>
          <a:xfrm flipH="1" flipV="1">
            <a:off x="2276280" y="3700080"/>
            <a:ext cx="21960" cy="11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6" name=""/>
          <p:cNvSpPr/>
          <p:nvPr/>
        </p:nvSpPr>
        <p:spPr>
          <a:xfrm flipV="1">
            <a:off x="2276640" y="3711240"/>
            <a:ext cx="2196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7" name=""/>
          <p:cNvSpPr/>
          <p:nvPr/>
        </p:nvSpPr>
        <p:spPr>
          <a:xfrm>
            <a:off x="4192560" y="3668760"/>
            <a:ext cx="11160" cy="1440"/>
          </a:xfrm>
          <a:custGeom>
            <a:avLst/>
            <a:gdLst/>
            <a:ahLst/>
            <a:rect l="l" t="t" r="r" b="b"/>
            <a:pathLst>
              <a:path w="7" h="0">
                <a:moveTo>
                  <a:pt x="7" y="0"/>
                </a:moveTo>
                <a:lnTo>
                  <a:pt x="7" y="0"/>
                </a:lnTo>
                <a:lnTo>
                  <a:pt x="7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7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8" name=""/>
          <p:cNvSpPr/>
          <p:nvPr/>
        </p:nvSpPr>
        <p:spPr>
          <a:xfrm>
            <a:off x="5594400" y="3592440"/>
            <a:ext cx="54000" cy="119160"/>
          </a:xfrm>
          <a:custGeom>
            <a:avLst/>
            <a:gdLst/>
            <a:ahLst/>
            <a:rect l="l" t="t" r="r" b="b"/>
            <a:pathLst>
              <a:path w="34" h="75">
                <a:moveTo>
                  <a:pt x="20" y="48"/>
                </a:moveTo>
                <a:lnTo>
                  <a:pt x="27" y="41"/>
                </a:lnTo>
                <a:lnTo>
                  <a:pt x="34" y="34"/>
                </a:lnTo>
                <a:lnTo>
                  <a:pt x="34" y="27"/>
                </a:lnTo>
                <a:lnTo>
                  <a:pt x="27" y="20"/>
                </a:lnTo>
                <a:lnTo>
                  <a:pt x="20" y="6"/>
                </a:lnTo>
                <a:lnTo>
                  <a:pt x="13" y="0"/>
                </a:lnTo>
                <a:lnTo>
                  <a:pt x="6" y="0"/>
                </a:lnTo>
                <a:lnTo>
                  <a:pt x="0" y="6"/>
                </a:lnTo>
                <a:lnTo>
                  <a:pt x="0" y="20"/>
                </a:lnTo>
                <a:lnTo>
                  <a:pt x="0" y="27"/>
                </a:lnTo>
                <a:lnTo>
                  <a:pt x="0" y="34"/>
                </a:lnTo>
                <a:lnTo>
                  <a:pt x="0" y="41"/>
                </a:lnTo>
                <a:lnTo>
                  <a:pt x="0" y="48"/>
                </a:lnTo>
                <a:lnTo>
                  <a:pt x="0" y="62"/>
                </a:lnTo>
                <a:lnTo>
                  <a:pt x="6" y="68"/>
                </a:lnTo>
                <a:lnTo>
                  <a:pt x="6" y="75"/>
                </a:lnTo>
                <a:lnTo>
                  <a:pt x="6" y="75"/>
                </a:lnTo>
                <a:lnTo>
                  <a:pt x="13" y="68"/>
                </a:lnTo>
                <a:lnTo>
                  <a:pt x="13" y="62"/>
                </a:lnTo>
                <a:lnTo>
                  <a:pt x="20" y="48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9" name=""/>
          <p:cNvSpPr/>
          <p:nvPr/>
        </p:nvSpPr>
        <p:spPr>
          <a:xfrm>
            <a:off x="5626080" y="3514680"/>
            <a:ext cx="44640" cy="87480"/>
          </a:xfrm>
          <a:custGeom>
            <a:avLst/>
            <a:gdLst/>
            <a:ahLst/>
            <a:rect l="l" t="t" r="r" b="b"/>
            <a:pathLst>
              <a:path w="28" h="55">
                <a:moveTo>
                  <a:pt x="21" y="35"/>
                </a:moveTo>
                <a:lnTo>
                  <a:pt x="21" y="35"/>
                </a:lnTo>
                <a:lnTo>
                  <a:pt x="28" y="28"/>
                </a:lnTo>
                <a:lnTo>
                  <a:pt x="28" y="21"/>
                </a:lnTo>
                <a:lnTo>
                  <a:pt x="28" y="14"/>
                </a:lnTo>
                <a:lnTo>
                  <a:pt x="21" y="7"/>
                </a:lnTo>
                <a:lnTo>
                  <a:pt x="21" y="7"/>
                </a:lnTo>
                <a:lnTo>
                  <a:pt x="14" y="0"/>
                </a:lnTo>
                <a:lnTo>
                  <a:pt x="7" y="7"/>
                </a:lnTo>
                <a:lnTo>
                  <a:pt x="0" y="14"/>
                </a:lnTo>
                <a:lnTo>
                  <a:pt x="0" y="21"/>
                </a:lnTo>
                <a:lnTo>
                  <a:pt x="0" y="28"/>
                </a:lnTo>
                <a:lnTo>
                  <a:pt x="0" y="28"/>
                </a:lnTo>
                <a:lnTo>
                  <a:pt x="7" y="35"/>
                </a:lnTo>
                <a:lnTo>
                  <a:pt x="7" y="42"/>
                </a:lnTo>
                <a:lnTo>
                  <a:pt x="14" y="49"/>
                </a:lnTo>
                <a:lnTo>
                  <a:pt x="14" y="55"/>
                </a:lnTo>
                <a:lnTo>
                  <a:pt x="14" y="55"/>
                </a:lnTo>
                <a:lnTo>
                  <a:pt x="21" y="55"/>
                </a:lnTo>
                <a:lnTo>
                  <a:pt x="21" y="49"/>
                </a:lnTo>
                <a:lnTo>
                  <a:pt x="21" y="35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0" name=""/>
          <p:cNvSpPr/>
          <p:nvPr/>
        </p:nvSpPr>
        <p:spPr>
          <a:xfrm>
            <a:off x="2759040" y="3438360"/>
            <a:ext cx="65160" cy="76320"/>
          </a:xfrm>
          <a:custGeom>
            <a:avLst/>
            <a:gdLst/>
            <a:ahLst/>
            <a:rect l="l" t="t" r="r" b="b"/>
            <a:pathLst>
              <a:path w="41" h="48">
                <a:moveTo>
                  <a:pt x="41" y="28"/>
                </a:moveTo>
                <a:lnTo>
                  <a:pt x="34" y="14"/>
                </a:lnTo>
                <a:lnTo>
                  <a:pt x="27" y="7"/>
                </a:lnTo>
                <a:lnTo>
                  <a:pt x="27" y="0"/>
                </a:lnTo>
                <a:lnTo>
                  <a:pt x="20" y="0"/>
                </a:lnTo>
                <a:lnTo>
                  <a:pt x="14" y="7"/>
                </a:lnTo>
                <a:lnTo>
                  <a:pt x="7" y="14"/>
                </a:lnTo>
                <a:lnTo>
                  <a:pt x="0" y="21"/>
                </a:lnTo>
                <a:lnTo>
                  <a:pt x="0" y="28"/>
                </a:lnTo>
                <a:lnTo>
                  <a:pt x="7" y="35"/>
                </a:lnTo>
                <a:lnTo>
                  <a:pt x="14" y="41"/>
                </a:lnTo>
                <a:lnTo>
                  <a:pt x="20" y="48"/>
                </a:lnTo>
                <a:lnTo>
                  <a:pt x="27" y="41"/>
                </a:lnTo>
                <a:lnTo>
                  <a:pt x="34" y="35"/>
                </a:lnTo>
                <a:lnTo>
                  <a:pt x="41" y="28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1" name=""/>
          <p:cNvSpPr/>
          <p:nvPr/>
        </p:nvSpPr>
        <p:spPr>
          <a:xfrm>
            <a:off x="2790720" y="3317760"/>
            <a:ext cx="131760" cy="142920"/>
          </a:xfrm>
          <a:custGeom>
            <a:avLst/>
            <a:gdLst/>
            <a:ahLst/>
            <a:rect l="l" t="t" r="r" b="b"/>
            <a:pathLst>
              <a:path w="83" h="90">
                <a:moveTo>
                  <a:pt x="42" y="76"/>
                </a:moveTo>
                <a:lnTo>
                  <a:pt x="42" y="69"/>
                </a:lnTo>
                <a:lnTo>
                  <a:pt x="49" y="62"/>
                </a:lnTo>
                <a:lnTo>
                  <a:pt x="56" y="55"/>
                </a:lnTo>
                <a:lnTo>
                  <a:pt x="56" y="49"/>
                </a:lnTo>
                <a:lnTo>
                  <a:pt x="62" y="42"/>
                </a:lnTo>
                <a:lnTo>
                  <a:pt x="69" y="35"/>
                </a:lnTo>
                <a:lnTo>
                  <a:pt x="76" y="35"/>
                </a:lnTo>
                <a:lnTo>
                  <a:pt x="83" y="28"/>
                </a:lnTo>
                <a:lnTo>
                  <a:pt x="83" y="21"/>
                </a:lnTo>
                <a:lnTo>
                  <a:pt x="83" y="14"/>
                </a:lnTo>
                <a:lnTo>
                  <a:pt x="76" y="7"/>
                </a:lnTo>
                <a:lnTo>
                  <a:pt x="69" y="0"/>
                </a:lnTo>
                <a:lnTo>
                  <a:pt x="62" y="0"/>
                </a:lnTo>
                <a:lnTo>
                  <a:pt x="56" y="0"/>
                </a:lnTo>
                <a:lnTo>
                  <a:pt x="49" y="7"/>
                </a:lnTo>
                <a:lnTo>
                  <a:pt x="49" y="14"/>
                </a:lnTo>
                <a:lnTo>
                  <a:pt x="42" y="21"/>
                </a:lnTo>
                <a:lnTo>
                  <a:pt x="35" y="28"/>
                </a:lnTo>
                <a:lnTo>
                  <a:pt x="35" y="35"/>
                </a:lnTo>
                <a:lnTo>
                  <a:pt x="28" y="42"/>
                </a:lnTo>
                <a:lnTo>
                  <a:pt x="21" y="42"/>
                </a:lnTo>
                <a:lnTo>
                  <a:pt x="14" y="49"/>
                </a:lnTo>
                <a:lnTo>
                  <a:pt x="14" y="55"/>
                </a:lnTo>
                <a:lnTo>
                  <a:pt x="7" y="62"/>
                </a:lnTo>
                <a:lnTo>
                  <a:pt x="0" y="69"/>
                </a:lnTo>
                <a:lnTo>
                  <a:pt x="7" y="76"/>
                </a:lnTo>
                <a:lnTo>
                  <a:pt x="14" y="83"/>
                </a:lnTo>
                <a:lnTo>
                  <a:pt x="21" y="83"/>
                </a:lnTo>
                <a:lnTo>
                  <a:pt x="28" y="90"/>
                </a:lnTo>
                <a:lnTo>
                  <a:pt x="35" y="90"/>
                </a:lnTo>
                <a:lnTo>
                  <a:pt x="42" y="83"/>
                </a:lnTo>
                <a:lnTo>
                  <a:pt x="42" y="76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2" name=""/>
          <p:cNvSpPr/>
          <p:nvPr/>
        </p:nvSpPr>
        <p:spPr>
          <a:xfrm>
            <a:off x="6534000" y="3351240"/>
            <a:ext cx="22320" cy="54000"/>
          </a:xfrm>
          <a:custGeom>
            <a:avLst/>
            <a:gdLst/>
            <a:ahLst/>
            <a:rect l="l" t="t" r="r" b="b"/>
            <a:pathLst>
              <a:path w="14" h="34">
                <a:moveTo>
                  <a:pt x="14" y="21"/>
                </a:moveTo>
                <a:lnTo>
                  <a:pt x="7" y="14"/>
                </a:lnTo>
                <a:lnTo>
                  <a:pt x="7" y="7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0" y="0"/>
                </a:lnTo>
                <a:lnTo>
                  <a:pt x="0" y="7"/>
                </a:lnTo>
                <a:lnTo>
                  <a:pt x="0" y="7"/>
                </a:lnTo>
                <a:lnTo>
                  <a:pt x="0" y="14"/>
                </a:lnTo>
                <a:lnTo>
                  <a:pt x="0" y="21"/>
                </a:lnTo>
                <a:lnTo>
                  <a:pt x="0" y="28"/>
                </a:lnTo>
                <a:lnTo>
                  <a:pt x="7" y="34"/>
                </a:lnTo>
                <a:lnTo>
                  <a:pt x="7" y="28"/>
                </a:lnTo>
                <a:lnTo>
                  <a:pt x="14" y="21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3" name=""/>
          <p:cNvSpPr/>
          <p:nvPr/>
        </p:nvSpPr>
        <p:spPr>
          <a:xfrm>
            <a:off x="2900520" y="3241800"/>
            <a:ext cx="55440" cy="87120"/>
          </a:xfrm>
          <a:custGeom>
            <a:avLst/>
            <a:gdLst/>
            <a:ahLst/>
            <a:rect l="l" t="t" r="r" b="b"/>
            <a:pathLst>
              <a:path w="35" h="55">
                <a:moveTo>
                  <a:pt x="35" y="35"/>
                </a:moveTo>
                <a:lnTo>
                  <a:pt x="35" y="21"/>
                </a:lnTo>
                <a:lnTo>
                  <a:pt x="28" y="7"/>
                </a:lnTo>
                <a:lnTo>
                  <a:pt x="21" y="0"/>
                </a:lnTo>
                <a:lnTo>
                  <a:pt x="21" y="0"/>
                </a:lnTo>
                <a:lnTo>
                  <a:pt x="14" y="7"/>
                </a:lnTo>
                <a:lnTo>
                  <a:pt x="7" y="14"/>
                </a:lnTo>
                <a:lnTo>
                  <a:pt x="0" y="28"/>
                </a:lnTo>
                <a:lnTo>
                  <a:pt x="0" y="41"/>
                </a:lnTo>
                <a:lnTo>
                  <a:pt x="7" y="48"/>
                </a:lnTo>
                <a:lnTo>
                  <a:pt x="14" y="55"/>
                </a:lnTo>
                <a:lnTo>
                  <a:pt x="21" y="55"/>
                </a:lnTo>
                <a:lnTo>
                  <a:pt x="28" y="55"/>
                </a:lnTo>
                <a:lnTo>
                  <a:pt x="35" y="48"/>
                </a:lnTo>
                <a:lnTo>
                  <a:pt x="35" y="35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4" name=""/>
          <p:cNvSpPr/>
          <p:nvPr/>
        </p:nvSpPr>
        <p:spPr>
          <a:xfrm>
            <a:off x="2933640" y="3110040"/>
            <a:ext cx="142920" cy="153720"/>
          </a:xfrm>
          <a:custGeom>
            <a:avLst/>
            <a:gdLst/>
            <a:ahLst/>
            <a:rect l="l" t="t" r="r" b="b"/>
            <a:pathLst>
              <a:path w="90" h="97">
                <a:moveTo>
                  <a:pt x="41" y="83"/>
                </a:moveTo>
                <a:lnTo>
                  <a:pt x="41" y="76"/>
                </a:lnTo>
                <a:lnTo>
                  <a:pt x="48" y="69"/>
                </a:lnTo>
                <a:lnTo>
                  <a:pt x="55" y="62"/>
                </a:lnTo>
                <a:lnTo>
                  <a:pt x="62" y="62"/>
                </a:lnTo>
                <a:lnTo>
                  <a:pt x="76" y="56"/>
                </a:lnTo>
                <a:lnTo>
                  <a:pt x="83" y="56"/>
                </a:lnTo>
                <a:lnTo>
                  <a:pt x="90" y="49"/>
                </a:lnTo>
                <a:lnTo>
                  <a:pt x="90" y="42"/>
                </a:lnTo>
                <a:lnTo>
                  <a:pt x="83" y="35"/>
                </a:lnTo>
                <a:lnTo>
                  <a:pt x="83" y="28"/>
                </a:lnTo>
                <a:lnTo>
                  <a:pt x="76" y="14"/>
                </a:lnTo>
                <a:lnTo>
                  <a:pt x="69" y="7"/>
                </a:lnTo>
                <a:lnTo>
                  <a:pt x="62" y="0"/>
                </a:lnTo>
                <a:lnTo>
                  <a:pt x="55" y="0"/>
                </a:lnTo>
                <a:lnTo>
                  <a:pt x="55" y="7"/>
                </a:lnTo>
                <a:lnTo>
                  <a:pt x="48" y="14"/>
                </a:lnTo>
                <a:lnTo>
                  <a:pt x="41" y="21"/>
                </a:lnTo>
                <a:lnTo>
                  <a:pt x="41" y="28"/>
                </a:lnTo>
                <a:lnTo>
                  <a:pt x="35" y="35"/>
                </a:lnTo>
                <a:lnTo>
                  <a:pt x="28" y="42"/>
                </a:lnTo>
                <a:lnTo>
                  <a:pt x="28" y="49"/>
                </a:lnTo>
                <a:lnTo>
                  <a:pt x="21" y="56"/>
                </a:lnTo>
                <a:lnTo>
                  <a:pt x="14" y="62"/>
                </a:lnTo>
                <a:lnTo>
                  <a:pt x="7" y="69"/>
                </a:lnTo>
                <a:lnTo>
                  <a:pt x="0" y="76"/>
                </a:lnTo>
                <a:lnTo>
                  <a:pt x="0" y="83"/>
                </a:lnTo>
                <a:lnTo>
                  <a:pt x="0" y="90"/>
                </a:lnTo>
                <a:lnTo>
                  <a:pt x="14" y="97"/>
                </a:lnTo>
                <a:lnTo>
                  <a:pt x="21" y="97"/>
                </a:lnTo>
                <a:lnTo>
                  <a:pt x="28" y="97"/>
                </a:lnTo>
                <a:lnTo>
                  <a:pt x="35" y="97"/>
                </a:lnTo>
                <a:lnTo>
                  <a:pt x="41" y="83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5" name=""/>
          <p:cNvSpPr/>
          <p:nvPr/>
        </p:nvSpPr>
        <p:spPr>
          <a:xfrm>
            <a:off x="2813040" y="3198960"/>
            <a:ext cx="33480" cy="20520"/>
          </a:xfrm>
          <a:custGeom>
            <a:avLst/>
            <a:gdLst/>
            <a:ahLst/>
            <a:rect l="l" t="t" r="r" b="b"/>
            <a:pathLst>
              <a:path w="21" h="13">
                <a:moveTo>
                  <a:pt x="0" y="13"/>
                </a:moveTo>
                <a:lnTo>
                  <a:pt x="0" y="13"/>
                </a:lnTo>
                <a:lnTo>
                  <a:pt x="7" y="13"/>
                </a:lnTo>
                <a:lnTo>
                  <a:pt x="7" y="6"/>
                </a:lnTo>
                <a:lnTo>
                  <a:pt x="14" y="6"/>
                </a:lnTo>
                <a:lnTo>
                  <a:pt x="14" y="6"/>
                </a:lnTo>
                <a:lnTo>
                  <a:pt x="14" y="6"/>
                </a:lnTo>
                <a:lnTo>
                  <a:pt x="21" y="0"/>
                </a:lnTo>
                <a:lnTo>
                  <a:pt x="21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6" name=""/>
          <p:cNvSpPr/>
          <p:nvPr/>
        </p:nvSpPr>
        <p:spPr>
          <a:xfrm>
            <a:off x="2889360" y="3154320"/>
            <a:ext cx="1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7" name=""/>
          <p:cNvSpPr/>
          <p:nvPr/>
        </p:nvSpPr>
        <p:spPr>
          <a:xfrm flipV="1">
            <a:off x="2933640" y="3088800"/>
            <a:ext cx="11160" cy="11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8" name=""/>
          <p:cNvSpPr/>
          <p:nvPr/>
        </p:nvSpPr>
        <p:spPr>
          <a:xfrm flipV="1">
            <a:off x="2933640" y="309996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9" name=""/>
          <p:cNvSpPr/>
          <p:nvPr/>
        </p:nvSpPr>
        <p:spPr>
          <a:xfrm>
            <a:off x="2998800" y="3011400"/>
            <a:ext cx="33480" cy="22320"/>
          </a:xfrm>
          <a:custGeom>
            <a:avLst/>
            <a:gdLst/>
            <a:ahLst/>
            <a:rect l="l" t="t" r="r" b="b"/>
            <a:pathLst>
              <a:path w="21" h="14">
                <a:moveTo>
                  <a:pt x="0" y="14"/>
                </a:move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14" y="7"/>
                </a:lnTo>
                <a:lnTo>
                  <a:pt x="14" y="0"/>
                </a:lnTo>
                <a:lnTo>
                  <a:pt x="14" y="0"/>
                </a:lnTo>
                <a:lnTo>
                  <a:pt x="21" y="0"/>
                </a:lnTo>
                <a:lnTo>
                  <a:pt x="21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0" name=""/>
          <p:cNvSpPr/>
          <p:nvPr/>
        </p:nvSpPr>
        <p:spPr>
          <a:xfrm>
            <a:off x="3875040" y="2990880"/>
            <a:ext cx="54000" cy="31680"/>
          </a:xfrm>
          <a:custGeom>
            <a:avLst/>
            <a:gdLst/>
            <a:ahLst/>
            <a:rect l="l" t="t" r="r" b="b"/>
            <a:pathLst>
              <a:path w="34" h="20">
                <a:moveTo>
                  <a:pt x="34" y="13"/>
                </a:moveTo>
                <a:lnTo>
                  <a:pt x="34" y="7"/>
                </a:lnTo>
                <a:lnTo>
                  <a:pt x="28" y="0"/>
                </a:lnTo>
                <a:lnTo>
                  <a:pt x="28" y="0"/>
                </a:lnTo>
                <a:lnTo>
                  <a:pt x="14" y="0"/>
                </a:lnTo>
                <a:lnTo>
                  <a:pt x="7" y="0"/>
                </a:lnTo>
                <a:lnTo>
                  <a:pt x="0" y="7"/>
                </a:lnTo>
                <a:lnTo>
                  <a:pt x="0" y="7"/>
                </a:lnTo>
                <a:lnTo>
                  <a:pt x="0" y="13"/>
                </a:lnTo>
                <a:lnTo>
                  <a:pt x="7" y="20"/>
                </a:lnTo>
                <a:lnTo>
                  <a:pt x="14" y="20"/>
                </a:lnTo>
                <a:lnTo>
                  <a:pt x="21" y="20"/>
                </a:lnTo>
                <a:lnTo>
                  <a:pt x="28" y="20"/>
                </a:lnTo>
                <a:lnTo>
                  <a:pt x="28" y="20"/>
                </a:lnTo>
                <a:lnTo>
                  <a:pt x="34" y="13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1" name=""/>
          <p:cNvSpPr/>
          <p:nvPr/>
        </p:nvSpPr>
        <p:spPr>
          <a:xfrm flipV="1">
            <a:off x="3076560" y="2957040"/>
            <a:ext cx="3168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2" name=""/>
          <p:cNvSpPr/>
          <p:nvPr/>
        </p:nvSpPr>
        <p:spPr>
          <a:xfrm>
            <a:off x="6742080" y="2913120"/>
            <a:ext cx="33480" cy="33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3" name=""/>
          <p:cNvSpPr/>
          <p:nvPr/>
        </p:nvSpPr>
        <p:spPr>
          <a:xfrm>
            <a:off x="3568680" y="2847960"/>
            <a:ext cx="33480" cy="33480"/>
          </a:xfrm>
          <a:custGeom>
            <a:avLst/>
            <a:gdLst/>
            <a:ahLst/>
            <a:rect l="l" t="t" r="r" b="b"/>
            <a:pathLst>
              <a:path w="21" h="21">
                <a:moveTo>
                  <a:pt x="0" y="14"/>
                </a:moveTo>
                <a:lnTo>
                  <a:pt x="0" y="7"/>
                </a:lnTo>
                <a:lnTo>
                  <a:pt x="7" y="7"/>
                </a:lnTo>
                <a:lnTo>
                  <a:pt x="7" y="0"/>
                </a:lnTo>
                <a:lnTo>
                  <a:pt x="14" y="0"/>
                </a:lnTo>
                <a:lnTo>
                  <a:pt x="14" y="7"/>
                </a:lnTo>
                <a:lnTo>
                  <a:pt x="21" y="7"/>
                </a:lnTo>
                <a:lnTo>
                  <a:pt x="21" y="14"/>
                </a:lnTo>
                <a:lnTo>
                  <a:pt x="21" y="14"/>
                </a:lnTo>
                <a:lnTo>
                  <a:pt x="21" y="21"/>
                </a:lnTo>
                <a:lnTo>
                  <a:pt x="14" y="21"/>
                </a:lnTo>
                <a:lnTo>
                  <a:pt x="7" y="21"/>
                </a:lnTo>
                <a:lnTo>
                  <a:pt x="7" y="21"/>
                </a:lnTo>
                <a:lnTo>
                  <a:pt x="0" y="21"/>
                </a:lnTo>
                <a:lnTo>
                  <a:pt x="0" y="14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4" name=""/>
          <p:cNvSpPr/>
          <p:nvPr/>
        </p:nvSpPr>
        <p:spPr>
          <a:xfrm>
            <a:off x="6676920" y="2870280"/>
            <a:ext cx="55800" cy="22320"/>
          </a:xfrm>
          <a:custGeom>
            <a:avLst/>
            <a:gdLst/>
            <a:ahLst/>
            <a:rect l="l" t="t" r="r" b="b"/>
            <a:pathLst>
              <a:path w="35" h="14">
                <a:moveTo>
                  <a:pt x="0" y="0"/>
                </a:moveTo>
                <a:lnTo>
                  <a:pt x="0" y="0"/>
                </a:lnTo>
                <a:lnTo>
                  <a:pt x="7" y="7"/>
                </a:lnTo>
                <a:lnTo>
                  <a:pt x="7" y="7"/>
                </a:lnTo>
                <a:lnTo>
                  <a:pt x="14" y="7"/>
                </a:lnTo>
                <a:lnTo>
                  <a:pt x="14" y="14"/>
                </a:lnTo>
                <a:lnTo>
                  <a:pt x="21" y="14"/>
                </a:lnTo>
                <a:lnTo>
                  <a:pt x="28" y="14"/>
                </a:lnTo>
                <a:lnTo>
                  <a:pt x="35" y="14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5" name=""/>
          <p:cNvSpPr/>
          <p:nvPr/>
        </p:nvSpPr>
        <p:spPr>
          <a:xfrm>
            <a:off x="6446880" y="2771640"/>
            <a:ext cx="1440" cy="180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6" name=""/>
          <p:cNvSpPr/>
          <p:nvPr/>
        </p:nvSpPr>
        <p:spPr>
          <a:xfrm>
            <a:off x="6118200" y="2727360"/>
            <a:ext cx="88920" cy="11160"/>
          </a:xfrm>
          <a:custGeom>
            <a:avLst/>
            <a:gdLst/>
            <a:ahLst/>
            <a:rect l="l" t="t" r="r" b="b"/>
            <a:pathLst>
              <a:path w="56" h="7">
                <a:moveTo>
                  <a:pt x="0" y="0"/>
                </a:moveTo>
                <a:lnTo>
                  <a:pt x="0" y="0"/>
                </a:lnTo>
                <a:lnTo>
                  <a:pt x="7" y="0"/>
                </a:lnTo>
                <a:lnTo>
                  <a:pt x="14" y="0"/>
                </a:lnTo>
                <a:lnTo>
                  <a:pt x="21" y="0"/>
                </a:lnTo>
                <a:lnTo>
                  <a:pt x="21" y="7"/>
                </a:lnTo>
                <a:lnTo>
                  <a:pt x="28" y="7"/>
                </a:lnTo>
                <a:lnTo>
                  <a:pt x="35" y="7"/>
                </a:lnTo>
                <a:lnTo>
                  <a:pt x="42" y="7"/>
                </a:lnTo>
                <a:lnTo>
                  <a:pt x="42" y="0"/>
                </a:lnTo>
                <a:lnTo>
                  <a:pt x="49" y="0"/>
                </a:lnTo>
                <a:lnTo>
                  <a:pt x="56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7" name=""/>
          <p:cNvSpPr/>
          <p:nvPr/>
        </p:nvSpPr>
        <p:spPr>
          <a:xfrm>
            <a:off x="3448080" y="2727360"/>
            <a:ext cx="3186000" cy="2395440"/>
          </a:xfrm>
          <a:custGeom>
            <a:avLst/>
            <a:gdLst/>
            <a:ahLst/>
            <a:rect l="l" t="t" r="r" b="b"/>
            <a:pathLst>
              <a:path w="2007" h="1509">
                <a:moveTo>
                  <a:pt x="1448" y="0"/>
                </a:moveTo>
                <a:lnTo>
                  <a:pt x="1462" y="0"/>
                </a:lnTo>
                <a:lnTo>
                  <a:pt x="1469" y="7"/>
                </a:lnTo>
                <a:lnTo>
                  <a:pt x="1476" y="7"/>
                </a:lnTo>
                <a:lnTo>
                  <a:pt x="1483" y="7"/>
                </a:lnTo>
                <a:lnTo>
                  <a:pt x="1496" y="7"/>
                </a:lnTo>
                <a:lnTo>
                  <a:pt x="1503" y="14"/>
                </a:lnTo>
                <a:lnTo>
                  <a:pt x="1510" y="14"/>
                </a:lnTo>
                <a:lnTo>
                  <a:pt x="1524" y="14"/>
                </a:lnTo>
                <a:lnTo>
                  <a:pt x="1531" y="14"/>
                </a:lnTo>
                <a:lnTo>
                  <a:pt x="1538" y="14"/>
                </a:lnTo>
                <a:lnTo>
                  <a:pt x="1551" y="21"/>
                </a:lnTo>
                <a:lnTo>
                  <a:pt x="1558" y="21"/>
                </a:lnTo>
                <a:lnTo>
                  <a:pt x="1565" y="21"/>
                </a:lnTo>
                <a:lnTo>
                  <a:pt x="1579" y="21"/>
                </a:lnTo>
                <a:lnTo>
                  <a:pt x="1586" y="21"/>
                </a:lnTo>
                <a:lnTo>
                  <a:pt x="1593" y="21"/>
                </a:lnTo>
                <a:lnTo>
                  <a:pt x="1600" y="28"/>
                </a:lnTo>
                <a:lnTo>
                  <a:pt x="1614" y="28"/>
                </a:lnTo>
                <a:lnTo>
                  <a:pt x="1620" y="28"/>
                </a:lnTo>
                <a:lnTo>
                  <a:pt x="1627" y="28"/>
                </a:lnTo>
                <a:lnTo>
                  <a:pt x="1634" y="35"/>
                </a:lnTo>
                <a:lnTo>
                  <a:pt x="1634" y="42"/>
                </a:lnTo>
                <a:lnTo>
                  <a:pt x="1641" y="49"/>
                </a:lnTo>
                <a:lnTo>
                  <a:pt x="1641" y="55"/>
                </a:lnTo>
                <a:lnTo>
                  <a:pt x="1641" y="62"/>
                </a:lnTo>
                <a:lnTo>
                  <a:pt x="1655" y="62"/>
                </a:lnTo>
                <a:lnTo>
                  <a:pt x="1662" y="62"/>
                </a:lnTo>
                <a:lnTo>
                  <a:pt x="1669" y="62"/>
                </a:lnTo>
                <a:lnTo>
                  <a:pt x="1682" y="69"/>
                </a:lnTo>
                <a:lnTo>
                  <a:pt x="1689" y="69"/>
                </a:lnTo>
                <a:lnTo>
                  <a:pt x="1696" y="69"/>
                </a:lnTo>
                <a:lnTo>
                  <a:pt x="1710" y="69"/>
                </a:lnTo>
                <a:lnTo>
                  <a:pt x="1717" y="69"/>
                </a:lnTo>
                <a:lnTo>
                  <a:pt x="1717" y="76"/>
                </a:lnTo>
                <a:lnTo>
                  <a:pt x="1724" y="83"/>
                </a:lnTo>
                <a:lnTo>
                  <a:pt x="1724" y="90"/>
                </a:lnTo>
                <a:lnTo>
                  <a:pt x="1731" y="97"/>
                </a:lnTo>
                <a:lnTo>
                  <a:pt x="1738" y="97"/>
                </a:lnTo>
                <a:lnTo>
                  <a:pt x="1745" y="97"/>
                </a:lnTo>
                <a:lnTo>
                  <a:pt x="1758" y="97"/>
                </a:lnTo>
                <a:lnTo>
                  <a:pt x="1765" y="90"/>
                </a:lnTo>
                <a:lnTo>
                  <a:pt x="1765" y="90"/>
                </a:lnTo>
                <a:lnTo>
                  <a:pt x="1765" y="83"/>
                </a:lnTo>
                <a:lnTo>
                  <a:pt x="1765" y="76"/>
                </a:lnTo>
                <a:lnTo>
                  <a:pt x="1765" y="69"/>
                </a:lnTo>
                <a:lnTo>
                  <a:pt x="1765" y="62"/>
                </a:lnTo>
                <a:lnTo>
                  <a:pt x="1772" y="55"/>
                </a:lnTo>
                <a:lnTo>
                  <a:pt x="1779" y="62"/>
                </a:lnTo>
                <a:lnTo>
                  <a:pt x="1779" y="69"/>
                </a:lnTo>
                <a:lnTo>
                  <a:pt x="1786" y="76"/>
                </a:lnTo>
                <a:lnTo>
                  <a:pt x="1786" y="83"/>
                </a:lnTo>
                <a:lnTo>
                  <a:pt x="1793" y="83"/>
                </a:lnTo>
                <a:lnTo>
                  <a:pt x="1800" y="90"/>
                </a:lnTo>
                <a:lnTo>
                  <a:pt x="1807" y="90"/>
                </a:lnTo>
                <a:lnTo>
                  <a:pt x="1813" y="97"/>
                </a:lnTo>
                <a:lnTo>
                  <a:pt x="1813" y="104"/>
                </a:lnTo>
                <a:lnTo>
                  <a:pt x="1813" y="111"/>
                </a:lnTo>
                <a:lnTo>
                  <a:pt x="1813" y="117"/>
                </a:lnTo>
                <a:lnTo>
                  <a:pt x="1813" y="124"/>
                </a:lnTo>
                <a:lnTo>
                  <a:pt x="1813" y="131"/>
                </a:lnTo>
                <a:lnTo>
                  <a:pt x="1813" y="131"/>
                </a:lnTo>
                <a:lnTo>
                  <a:pt x="1820" y="138"/>
                </a:lnTo>
                <a:lnTo>
                  <a:pt x="1820" y="145"/>
                </a:lnTo>
                <a:lnTo>
                  <a:pt x="1820" y="152"/>
                </a:lnTo>
                <a:lnTo>
                  <a:pt x="1820" y="159"/>
                </a:lnTo>
                <a:lnTo>
                  <a:pt x="1820" y="166"/>
                </a:lnTo>
                <a:lnTo>
                  <a:pt x="1820" y="173"/>
                </a:lnTo>
                <a:lnTo>
                  <a:pt x="1827" y="179"/>
                </a:lnTo>
                <a:lnTo>
                  <a:pt x="1834" y="179"/>
                </a:lnTo>
                <a:lnTo>
                  <a:pt x="1841" y="186"/>
                </a:lnTo>
                <a:lnTo>
                  <a:pt x="1848" y="186"/>
                </a:lnTo>
                <a:lnTo>
                  <a:pt x="1855" y="193"/>
                </a:lnTo>
                <a:lnTo>
                  <a:pt x="1855" y="200"/>
                </a:lnTo>
                <a:lnTo>
                  <a:pt x="1862" y="207"/>
                </a:lnTo>
                <a:lnTo>
                  <a:pt x="1862" y="207"/>
                </a:lnTo>
                <a:lnTo>
                  <a:pt x="1876" y="214"/>
                </a:lnTo>
                <a:lnTo>
                  <a:pt x="1882" y="214"/>
                </a:lnTo>
                <a:lnTo>
                  <a:pt x="1889" y="214"/>
                </a:lnTo>
                <a:lnTo>
                  <a:pt x="1896" y="221"/>
                </a:lnTo>
                <a:lnTo>
                  <a:pt x="1903" y="228"/>
                </a:lnTo>
                <a:lnTo>
                  <a:pt x="1903" y="235"/>
                </a:lnTo>
                <a:lnTo>
                  <a:pt x="1910" y="235"/>
                </a:lnTo>
                <a:lnTo>
                  <a:pt x="1917" y="241"/>
                </a:lnTo>
                <a:lnTo>
                  <a:pt x="1924" y="248"/>
                </a:lnTo>
                <a:lnTo>
                  <a:pt x="1931" y="248"/>
                </a:lnTo>
                <a:lnTo>
                  <a:pt x="1938" y="248"/>
                </a:lnTo>
                <a:lnTo>
                  <a:pt x="1951" y="255"/>
                </a:lnTo>
                <a:lnTo>
                  <a:pt x="1951" y="255"/>
                </a:lnTo>
                <a:lnTo>
                  <a:pt x="1958" y="262"/>
                </a:lnTo>
                <a:lnTo>
                  <a:pt x="1965" y="269"/>
                </a:lnTo>
                <a:lnTo>
                  <a:pt x="1965" y="276"/>
                </a:lnTo>
                <a:lnTo>
                  <a:pt x="1972" y="276"/>
                </a:lnTo>
                <a:lnTo>
                  <a:pt x="1986" y="283"/>
                </a:lnTo>
                <a:lnTo>
                  <a:pt x="1993" y="283"/>
                </a:lnTo>
                <a:lnTo>
                  <a:pt x="2000" y="290"/>
                </a:lnTo>
                <a:lnTo>
                  <a:pt x="2007" y="290"/>
                </a:lnTo>
                <a:lnTo>
                  <a:pt x="2007" y="297"/>
                </a:lnTo>
                <a:lnTo>
                  <a:pt x="2000" y="303"/>
                </a:lnTo>
                <a:lnTo>
                  <a:pt x="2000" y="310"/>
                </a:lnTo>
                <a:lnTo>
                  <a:pt x="1993" y="310"/>
                </a:lnTo>
                <a:lnTo>
                  <a:pt x="1993" y="317"/>
                </a:lnTo>
                <a:lnTo>
                  <a:pt x="1986" y="324"/>
                </a:lnTo>
                <a:lnTo>
                  <a:pt x="1986" y="331"/>
                </a:lnTo>
                <a:lnTo>
                  <a:pt x="1979" y="338"/>
                </a:lnTo>
                <a:lnTo>
                  <a:pt x="1972" y="338"/>
                </a:lnTo>
                <a:lnTo>
                  <a:pt x="1958" y="331"/>
                </a:lnTo>
                <a:lnTo>
                  <a:pt x="1951" y="331"/>
                </a:lnTo>
                <a:lnTo>
                  <a:pt x="1938" y="331"/>
                </a:lnTo>
                <a:lnTo>
                  <a:pt x="1931" y="324"/>
                </a:lnTo>
                <a:lnTo>
                  <a:pt x="1924" y="324"/>
                </a:lnTo>
                <a:lnTo>
                  <a:pt x="1917" y="331"/>
                </a:lnTo>
                <a:lnTo>
                  <a:pt x="1903" y="331"/>
                </a:lnTo>
                <a:lnTo>
                  <a:pt x="1896" y="331"/>
                </a:lnTo>
                <a:lnTo>
                  <a:pt x="1889" y="331"/>
                </a:lnTo>
                <a:lnTo>
                  <a:pt x="1876" y="331"/>
                </a:lnTo>
                <a:lnTo>
                  <a:pt x="1869" y="331"/>
                </a:lnTo>
                <a:lnTo>
                  <a:pt x="1862" y="331"/>
                </a:lnTo>
                <a:lnTo>
                  <a:pt x="1855" y="324"/>
                </a:lnTo>
                <a:lnTo>
                  <a:pt x="1848" y="317"/>
                </a:lnTo>
                <a:lnTo>
                  <a:pt x="1841" y="317"/>
                </a:lnTo>
                <a:lnTo>
                  <a:pt x="1827" y="317"/>
                </a:lnTo>
                <a:lnTo>
                  <a:pt x="1820" y="317"/>
                </a:lnTo>
                <a:lnTo>
                  <a:pt x="1813" y="317"/>
                </a:lnTo>
                <a:lnTo>
                  <a:pt x="1800" y="317"/>
                </a:lnTo>
                <a:lnTo>
                  <a:pt x="1793" y="317"/>
                </a:lnTo>
                <a:lnTo>
                  <a:pt x="1779" y="317"/>
                </a:lnTo>
                <a:lnTo>
                  <a:pt x="1772" y="317"/>
                </a:lnTo>
                <a:lnTo>
                  <a:pt x="1765" y="317"/>
                </a:lnTo>
                <a:lnTo>
                  <a:pt x="1758" y="310"/>
                </a:lnTo>
                <a:lnTo>
                  <a:pt x="1758" y="303"/>
                </a:lnTo>
                <a:lnTo>
                  <a:pt x="1751" y="297"/>
                </a:lnTo>
                <a:lnTo>
                  <a:pt x="1745" y="297"/>
                </a:lnTo>
                <a:lnTo>
                  <a:pt x="1738" y="290"/>
                </a:lnTo>
                <a:lnTo>
                  <a:pt x="1724" y="290"/>
                </a:lnTo>
                <a:lnTo>
                  <a:pt x="1717" y="297"/>
                </a:lnTo>
                <a:lnTo>
                  <a:pt x="1710" y="297"/>
                </a:lnTo>
                <a:lnTo>
                  <a:pt x="1717" y="303"/>
                </a:lnTo>
                <a:lnTo>
                  <a:pt x="1724" y="310"/>
                </a:lnTo>
                <a:lnTo>
                  <a:pt x="1731" y="310"/>
                </a:lnTo>
                <a:lnTo>
                  <a:pt x="1731" y="317"/>
                </a:lnTo>
                <a:lnTo>
                  <a:pt x="1738" y="324"/>
                </a:lnTo>
                <a:lnTo>
                  <a:pt x="1738" y="331"/>
                </a:lnTo>
                <a:lnTo>
                  <a:pt x="1745" y="331"/>
                </a:lnTo>
                <a:lnTo>
                  <a:pt x="1751" y="338"/>
                </a:lnTo>
                <a:lnTo>
                  <a:pt x="1758" y="338"/>
                </a:lnTo>
                <a:lnTo>
                  <a:pt x="1765" y="345"/>
                </a:lnTo>
                <a:lnTo>
                  <a:pt x="1772" y="345"/>
                </a:lnTo>
                <a:lnTo>
                  <a:pt x="1779" y="352"/>
                </a:lnTo>
                <a:lnTo>
                  <a:pt x="1786" y="359"/>
                </a:lnTo>
                <a:lnTo>
                  <a:pt x="1786" y="359"/>
                </a:lnTo>
                <a:lnTo>
                  <a:pt x="1793" y="365"/>
                </a:lnTo>
                <a:lnTo>
                  <a:pt x="1800" y="372"/>
                </a:lnTo>
                <a:lnTo>
                  <a:pt x="1807" y="379"/>
                </a:lnTo>
                <a:lnTo>
                  <a:pt x="1807" y="379"/>
                </a:lnTo>
                <a:lnTo>
                  <a:pt x="1813" y="386"/>
                </a:lnTo>
                <a:lnTo>
                  <a:pt x="1813" y="393"/>
                </a:lnTo>
                <a:lnTo>
                  <a:pt x="1820" y="400"/>
                </a:lnTo>
                <a:lnTo>
                  <a:pt x="1820" y="407"/>
                </a:lnTo>
                <a:lnTo>
                  <a:pt x="1827" y="407"/>
                </a:lnTo>
                <a:lnTo>
                  <a:pt x="1834" y="414"/>
                </a:lnTo>
                <a:lnTo>
                  <a:pt x="1841" y="421"/>
                </a:lnTo>
                <a:lnTo>
                  <a:pt x="1834" y="427"/>
                </a:lnTo>
                <a:lnTo>
                  <a:pt x="1827" y="427"/>
                </a:lnTo>
                <a:lnTo>
                  <a:pt x="1820" y="434"/>
                </a:lnTo>
                <a:lnTo>
                  <a:pt x="1813" y="434"/>
                </a:lnTo>
                <a:lnTo>
                  <a:pt x="1800" y="434"/>
                </a:lnTo>
                <a:lnTo>
                  <a:pt x="1793" y="441"/>
                </a:lnTo>
                <a:lnTo>
                  <a:pt x="1793" y="448"/>
                </a:lnTo>
                <a:lnTo>
                  <a:pt x="1786" y="448"/>
                </a:lnTo>
                <a:lnTo>
                  <a:pt x="1786" y="455"/>
                </a:lnTo>
                <a:lnTo>
                  <a:pt x="1779" y="462"/>
                </a:lnTo>
                <a:lnTo>
                  <a:pt x="1779" y="469"/>
                </a:lnTo>
                <a:lnTo>
                  <a:pt x="1779" y="476"/>
                </a:lnTo>
                <a:lnTo>
                  <a:pt x="1779" y="483"/>
                </a:lnTo>
                <a:lnTo>
                  <a:pt x="1779" y="489"/>
                </a:lnTo>
                <a:lnTo>
                  <a:pt x="1772" y="489"/>
                </a:lnTo>
                <a:lnTo>
                  <a:pt x="1772" y="496"/>
                </a:lnTo>
                <a:lnTo>
                  <a:pt x="1765" y="503"/>
                </a:lnTo>
                <a:lnTo>
                  <a:pt x="1758" y="510"/>
                </a:lnTo>
                <a:lnTo>
                  <a:pt x="1758" y="510"/>
                </a:lnTo>
                <a:lnTo>
                  <a:pt x="1745" y="517"/>
                </a:lnTo>
                <a:lnTo>
                  <a:pt x="1738" y="524"/>
                </a:lnTo>
                <a:lnTo>
                  <a:pt x="1731" y="524"/>
                </a:lnTo>
                <a:lnTo>
                  <a:pt x="1724" y="531"/>
                </a:lnTo>
                <a:lnTo>
                  <a:pt x="1717" y="531"/>
                </a:lnTo>
                <a:lnTo>
                  <a:pt x="1710" y="538"/>
                </a:lnTo>
                <a:lnTo>
                  <a:pt x="1703" y="538"/>
                </a:lnTo>
                <a:lnTo>
                  <a:pt x="1696" y="538"/>
                </a:lnTo>
                <a:lnTo>
                  <a:pt x="1682" y="538"/>
                </a:lnTo>
                <a:lnTo>
                  <a:pt x="1676" y="538"/>
                </a:lnTo>
                <a:lnTo>
                  <a:pt x="1669" y="531"/>
                </a:lnTo>
                <a:lnTo>
                  <a:pt x="1662" y="531"/>
                </a:lnTo>
                <a:lnTo>
                  <a:pt x="1655" y="524"/>
                </a:lnTo>
                <a:lnTo>
                  <a:pt x="1648" y="524"/>
                </a:lnTo>
                <a:lnTo>
                  <a:pt x="1634" y="524"/>
                </a:lnTo>
                <a:lnTo>
                  <a:pt x="1627" y="517"/>
                </a:lnTo>
                <a:lnTo>
                  <a:pt x="1620" y="517"/>
                </a:lnTo>
                <a:lnTo>
                  <a:pt x="1614" y="510"/>
                </a:lnTo>
                <a:lnTo>
                  <a:pt x="1607" y="510"/>
                </a:lnTo>
                <a:lnTo>
                  <a:pt x="1600" y="503"/>
                </a:lnTo>
                <a:lnTo>
                  <a:pt x="1593" y="503"/>
                </a:lnTo>
                <a:lnTo>
                  <a:pt x="1579" y="496"/>
                </a:lnTo>
                <a:lnTo>
                  <a:pt x="1572" y="496"/>
                </a:lnTo>
                <a:lnTo>
                  <a:pt x="1565" y="489"/>
                </a:lnTo>
                <a:lnTo>
                  <a:pt x="1558" y="489"/>
                </a:lnTo>
                <a:lnTo>
                  <a:pt x="1551" y="489"/>
                </a:lnTo>
                <a:lnTo>
                  <a:pt x="1545" y="483"/>
                </a:lnTo>
                <a:lnTo>
                  <a:pt x="1538" y="483"/>
                </a:lnTo>
                <a:lnTo>
                  <a:pt x="1531" y="476"/>
                </a:lnTo>
                <a:lnTo>
                  <a:pt x="1524" y="469"/>
                </a:lnTo>
                <a:lnTo>
                  <a:pt x="1517" y="462"/>
                </a:lnTo>
                <a:lnTo>
                  <a:pt x="1517" y="455"/>
                </a:lnTo>
                <a:lnTo>
                  <a:pt x="1510" y="455"/>
                </a:lnTo>
                <a:lnTo>
                  <a:pt x="1496" y="455"/>
                </a:lnTo>
                <a:lnTo>
                  <a:pt x="1489" y="455"/>
                </a:lnTo>
                <a:lnTo>
                  <a:pt x="1483" y="462"/>
                </a:lnTo>
                <a:lnTo>
                  <a:pt x="1469" y="462"/>
                </a:lnTo>
                <a:lnTo>
                  <a:pt x="1462" y="462"/>
                </a:lnTo>
                <a:lnTo>
                  <a:pt x="1455" y="469"/>
                </a:lnTo>
                <a:lnTo>
                  <a:pt x="1448" y="469"/>
                </a:lnTo>
                <a:lnTo>
                  <a:pt x="1434" y="469"/>
                </a:lnTo>
                <a:lnTo>
                  <a:pt x="1427" y="469"/>
                </a:lnTo>
                <a:lnTo>
                  <a:pt x="1420" y="469"/>
                </a:lnTo>
                <a:lnTo>
                  <a:pt x="1407" y="469"/>
                </a:lnTo>
                <a:lnTo>
                  <a:pt x="1400" y="469"/>
                </a:lnTo>
                <a:lnTo>
                  <a:pt x="1393" y="476"/>
                </a:lnTo>
                <a:lnTo>
                  <a:pt x="1386" y="476"/>
                </a:lnTo>
                <a:lnTo>
                  <a:pt x="1379" y="483"/>
                </a:lnTo>
                <a:lnTo>
                  <a:pt x="1372" y="483"/>
                </a:lnTo>
                <a:lnTo>
                  <a:pt x="1365" y="489"/>
                </a:lnTo>
                <a:lnTo>
                  <a:pt x="1358" y="496"/>
                </a:lnTo>
                <a:lnTo>
                  <a:pt x="1352" y="496"/>
                </a:lnTo>
                <a:lnTo>
                  <a:pt x="1345" y="503"/>
                </a:lnTo>
                <a:lnTo>
                  <a:pt x="1338" y="510"/>
                </a:lnTo>
                <a:lnTo>
                  <a:pt x="1338" y="517"/>
                </a:lnTo>
                <a:lnTo>
                  <a:pt x="1331" y="524"/>
                </a:lnTo>
                <a:lnTo>
                  <a:pt x="1331" y="524"/>
                </a:lnTo>
                <a:lnTo>
                  <a:pt x="1324" y="524"/>
                </a:lnTo>
                <a:lnTo>
                  <a:pt x="1317" y="517"/>
                </a:lnTo>
                <a:lnTo>
                  <a:pt x="1317" y="510"/>
                </a:lnTo>
                <a:lnTo>
                  <a:pt x="1317" y="503"/>
                </a:lnTo>
                <a:lnTo>
                  <a:pt x="1317" y="496"/>
                </a:lnTo>
                <a:lnTo>
                  <a:pt x="1324" y="489"/>
                </a:lnTo>
                <a:lnTo>
                  <a:pt x="1324" y="483"/>
                </a:lnTo>
                <a:lnTo>
                  <a:pt x="1331" y="476"/>
                </a:lnTo>
                <a:lnTo>
                  <a:pt x="1331" y="476"/>
                </a:lnTo>
                <a:lnTo>
                  <a:pt x="1324" y="469"/>
                </a:lnTo>
                <a:lnTo>
                  <a:pt x="1310" y="469"/>
                </a:lnTo>
                <a:lnTo>
                  <a:pt x="1303" y="469"/>
                </a:lnTo>
                <a:lnTo>
                  <a:pt x="1296" y="476"/>
                </a:lnTo>
                <a:lnTo>
                  <a:pt x="1289" y="483"/>
                </a:lnTo>
                <a:lnTo>
                  <a:pt x="1289" y="489"/>
                </a:lnTo>
                <a:lnTo>
                  <a:pt x="1289" y="489"/>
                </a:lnTo>
                <a:lnTo>
                  <a:pt x="1289" y="496"/>
                </a:lnTo>
                <a:lnTo>
                  <a:pt x="1289" y="503"/>
                </a:lnTo>
                <a:lnTo>
                  <a:pt x="1283" y="510"/>
                </a:lnTo>
                <a:lnTo>
                  <a:pt x="1283" y="517"/>
                </a:lnTo>
                <a:lnTo>
                  <a:pt x="1283" y="524"/>
                </a:lnTo>
                <a:lnTo>
                  <a:pt x="1283" y="531"/>
                </a:lnTo>
                <a:lnTo>
                  <a:pt x="1283" y="538"/>
                </a:lnTo>
                <a:lnTo>
                  <a:pt x="1276" y="538"/>
                </a:lnTo>
                <a:lnTo>
                  <a:pt x="1276" y="545"/>
                </a:lnTo>
                <a:lnTo>
                  <a:pt x="1276" y="551"/>
                </a:lnTo>
                <a:lnTo>
                  <a:pt x="1276" y="558"/>
                </a:lnTo>
                <a:lnTo>
                  <a:pt x="1269" y="565"/>
                </a:lnTo>
                <a:lnTo>
                  <a:pt x="1269" y="572"/>
                </a:lnTo>
                <a:lnTo>
                  <a:pt x="1269" y="579"/>
                </a:lnTo>
                <a:lnTo>
                  <a:pt x="1262" y="579"/>
                </a:lnTo>
                <a:lnTo>
                  <a:pt x="1262" y="586"/>
                </a:lnTo>
                <a:lnTo>
                  <a:pt x="1262" y="593"/>
                </a:lnTo>
                <a:lnTo>
                  <a:pt x="1262" y="600"/>
                </a:lnTo>
                <a:lnTo>
                  <a:pt x="1255" y="607"/>
                </a:lnTo>
                <a:lnTo>
                  <a:pt x="1255" y="613"/>
                </a:lnTo>
                <a:lnTo>
                  <a:pt x="1255" y="620"/>
                </a:lnTo>
                <a:lnTo>
                  <a:pt x="1248" y="620"/>
                </a:lnTo>
                <a:lnTo>
                  <a:pt x="1248" y="627"/>
                </a:lnTo>
                <a:lnTo>
                  <a:pt x="1248" y="634"/>
                </a:lnTo>
                <a:lnTo>
                  <a:pt x="1241" y="641"/>
                </a:lnTo>
                <a:lnTo>
                  <a:pt x="1241" y="648"/>
                </a:lnTo>
                <a:lnTo>
                  <a:pt x="1241" y="655"/>
                </a:lnTo>
                <a:lnTo>
                  <a:pt x="1241" y="662"/>
                </a:lnTo>
                <a:lnTo>
                  <a:pt x="1234" y="662"/>
                </a:lnTo>
                <a:lnTo>
                  <a:pt x="1227" y="669"/>
                </a:lnTo>
                <a:lnTo>
                  <a:pt x="1221" y="675"/>
                </a:lnTo>
                <a:lnTo>
                  <a:pt x="1221" y="682"/>
                </a:lnTo>
                <a:lnTo>
                  <a:pt x="1221" y="689"/>
                </a:lnTo>
                <a:lnTo>
                  <a:pt x="1221" y="689"/>
                </a:lnTo>
                <a:lnTo>
                  <a:pt x="1227" y="696"/>
                </a:lnTo>
                <a:lnTo>
                  <a:pt x="1227" y="703"/>
                </a:lnTo>
                <a:lnTo>
                  <a:pt x="1227" y="710"/>
                </a:lnTo>
                <a:lnTo>
                  <a:pt x="1221" y="717"/>
                </a:lnTo>
                <a:lnTo>
                  <a:pt x="1221" y="724"/>
                </a:lnTo>
                <a:lnTo>
                  <a:pt x="1207" y="724"/>
                </a:lnTo>
                <a:lnTo>
                  <a:pt x="1200" y="731"/>
                </a:lnTo>
                <a:lnTo>
                  <a:pt x="1193" y="731"/>
                </a:lnTo>
                <a:lnTo>
                  <a:pt x="1186" y="731"/>
                </a:lnTo>
                <a:lnTo>
                  <a:pt x="1172" y="731"/>
                </a:lnTo>
                <a:lnTo>
                  <a:pt x="1165" y="731"/>
                </a:lnTo>
                <a:lnTo>
                  <a:pt x="1158" y="731"/>
                </a:lnTo>
                <a:lnTo>
                  <a:pt x="1145" y="731"/>
                </a:lnTo>
                <a:lnTo>
                  <a:pt x="1138" y="724"/>
                </a:lnTo>
                <a:lnTo>
                  <a:pt x="1131" y="724"/>
                </a:lnTo>
                <a:lnTo>
                  <a:pt x="1117" y="724"/>
                </a:lnTo>
                <a:lnTo>
                  <a:pt x="1110" y="724"/>
                </a:lnTo>
                <a:lnTo>
                  <a:pt x="1103" y="731"/>
                </a:lnTo>
                <a:lnTo>
                  <a:pt x="1090" y="731"/>
                </a:lnTo>
                <a:lnTo>
                  <a:pt x="1083" y="731"/>
                </a:lnTo>
                <a:lnTo>
                  <a:pt x="1069" y="731"/>
                </a:lnTo>
                <a:lnTo>
                  <a:pt x="1062" y="737"/>
                </a:lnTo>
                <a:lnTo>
                  <a:pt x="1062" y="737"/>
                </a:lnTo>
                <a:lnTo>
                  <a:pt x="1055" y="744"/>
                </a:lnTo>
                <a:lnTo>
                  <a:pt x="1055" y="751"/>
                </a:lnTo>
                <a:lnTo>
                  <a:pt x="1048" y="758"/>
                </a:lnTo>
                <a:lnTo>
                  <a:pt x="1041" y="765"/>
                </a:lnTo>
                <a:lnTo>
                  <a:pt x="1041" y="765"/>
                </a:lnTo>
                <a:lnTo>
                  <a:pt x="1034" y="772"/>
                </a:lnTo>
                <a:lnTo>
                  <a:pt x="1034" y="779"/>
                </a:lnTo>
                <a:lnTo>
                  <a:pt x="1027" y="786"/>
                </a:lnTo>
                <a:lnTo>
                  <a:pt x="1027" y="786"/>
                </a:lnTo>
                <a:lnTo>
                  <a:pt x="1021" y="793"/>
                </a:lnTo>
                <a:lnTo>
                  <a:pt x="1014" y="799"/>
                </a:lnTo>
                <a:lnTo>
                  <a:pt x="1014" y="806"/>
                </a:lnTo>
                <a:lnTo>
                  <a:pt x="1007" y="813"/>
                </a:lnTo>
                <a:lnTo>
                  <a:pt x="1007" y="813"/>
                </a:lnTo>
                <a:lnTo>
                  <a:pt x="1000" y="820"/>
                </a:lnTo>
                <a:lnTo>
                  <a:pt x="1000" y="827"/>
                </a:lnTo>
                <a:lnTo>
                  <a:pt x="993" y="834"/>
                </a:lnTo>
                <a:lnTo>
                  <a:pt x="993" y="841"/>
                </a:lnTo>
                <a:lnTo>
                  <a:pt x="986" y="841"/>
                </a:lnTo>
                <a:lnTo>
                  <a:pt x="979" y="848"/>
                </a:lnTo>
                <a:lnTo>
                  <a:pt x="979" y="855"/>
                </a:lnTo>
                <a:lnTo>
                  <a:pt x="972" y="861"/>
                </a:lnTo>
                <a:lnTo>
                  <a:pt x="972" y="868"/>
                </a:lnTo>
                <a:lnTo>
                  <a:pt x="972" y="868"/>
                </a:lnTo>
                <a:lnTo>
                  <a:pt x="965" y="875"/>
                </a:lnTo>
                <a:lnTo>
                  <a:pt x="965" y="882"/>
                </a:lnTo>
                <a:lnTo>
                  <a:pt x="965" y="889"/>
                </a:lnTo>
                <a:lnTo>
                  <a:pt x="965" y="896"/>
                </a:lnTo>
                <a:lnTo>
                  <a:pt x="965" y="903"/>
                </a:lnTo>
                <a:lnTo>
                  <a:pt x="959" y="910"/>
                </a:lnTo>
                <a:lnTo>
                  <a:pt x="959" y="910"/>
                </a:lnTo>
                <a:lnTo>
                  <a:pt x="952" y="917"/>
                </a:lnTo>
                <a:lnTo>
                  <a:pt x="952" y="923"/>
                </a:lnTo>
                <a:lnTo>
                  <a:pt x="945" y="930"/>
                </a:lnTo>
                <a:lnTo>
                  <a:pt x="938" y="923"/>
                </a:lnTo>
                <a:lnTo>
                  <a:pt x="931" y="917"/>
                </a:lnTo>
                <a:lnTo>
                  <a:pt x="931" y="910"/>
                </a:lnTo>
                <a:lnTo>
                  <a:pt x="924" y="903"/>
                </a:lnTo>
                <a:lnTo>
                  <a:pt x="924" y="896"/>
                </a:lnTo>
                <a:lnTo>
                  <a:pt x="924" y="896"/>
                </a:lnTo>
                <a:lnTo>
                  <a:pt x="924" y="889"/>
                </a:lnTo>
                <a:lnTo>
                  <a:pt x="924" y="882"/>
                </a:lnTo>
                <a:lnTo>
                  <a:pt x="924" y="875"/>
                </a:lnTo>
                <a:lnTo>
                  <a:pt x="924" y="875"/>
                </a:lnTo>
                <a:lnTo>
                  <a:pt x="917" y="868"/>
                </a:lnTo>
                <a:lnTo>
                  <a:pt x="917" y="855"/>
                </a:lnTo>
                <a:lnTo>
                  <a:pt x="917" y="848"/>
                </a:lnTo>
                <a:lnTo>
                  <a:pt x="917" y="848"/>
                </a:lnTo>
                <a:lnTo>
                  <a:pt x="917" y="855"/>
                </a:lnTo>
                <a:lnTo>
                  <a:pt x="917" y="868"/>
                </a:lnTo>
                <a:lnTo>
                  <a:pt x="917" y="875"/>
                </a:lnTo>
                <a:lnTo>
                  <a:pt x="910" y="875"/>
                </a:lnTo>
                <a:lnTo>
                  <a:pt x="910" y="882"/>
                </a:lnTo>
                <a:lnTo>
                  <a:pt x="910" y="889"/>
                </a:lnTo>
                <a:lnTo>
                  <a:pt x="910" y="896"/>
                </a:lnTo>
                <a:lnTo>
                  <a:pt x="910" y="903"/>
                </a:lnTo>
                <a:lnTo>
                  <a:pt x="910" y="903"/>
                </a:lnTo>
                <a:lnTo>
                  <a:pt x="910" y="910"/>
                </a:lnTo>
                <a:lnTo>
                  <a:pt x="910" y="917"/>
                </a:lnTo>
                <a:lnTo>
                  <a:pt x="910" y="923"/>
                </a:lnTo>
                <a:lnTo>
                  <a:pt x="910" y="930"/>
                </a:lnTo>
                <a:lnTo>
                  <a:pt x="917" y="937"/>
                </a:lnTo>
                <a:lnTo>
                  <a:pt x="910" y="944"/>
                </a:lnTo>
                <a:lnTo>
                  <a:pt x="910" y="951"/>
                </a:lnTo>
                <a:lnTo>
                  <a:pt x="903" y="951"/>
                </a:lnTo>
                <a:lnTo>
                  <a:pt x="896" y="958"/>
                </a:lnTo>
                <a:lnTo>
                  <a:pt x="883" y="958"/>
                </a:lnTo>
                <a:lnTo>
                  <a:pt x="876" y="951"/>
                </a:lnTo>
                <a:lnTo>
                  <a:pt x="862" y="951"/>
                </a:lnTo>
                <a:lnTo>
                  <a:pt x="855" y="951"/>
                </a:lnTo>
                <a:lnTo>
                  <a:pt x="848" y="951"/>
                </a:lnTo>
                <a:lnTo>
                  <a:pt x="841" y="951"/>
                </a:lnTo>
                <a:lnTo>
                  <a:pt x="828" y="958"/>
                </a:lnTo>
                <a:lnTo>
                  <a:pt x="821" y="958"/>
                </a:lnTo>
                <a:lnTo>
                  <a:pt x="814" y="965"/>
                </a:lnTo>
                <a:lnTo>
                  <a:pt x="807" y="965"/>
                </a:lnTo>
                <a:lnTo>
                  <a:pt x="800" y="972"/>
                </a:lnTo>
                <a:lnTo>
                  <a:pt x="793" y="972"/>
                </a:lnTo>
                <a:lnTo>
                  <a:pt x="786" y="979"/>
                </a:lnTo>
                <a:lnTo>
                  <a:pt x="779" y="985"/>
                </a:lnTo>
                <a:lnTo>
                  <a:pt x="779" y="985"/>
                </a:lnTo>
                <a:lnTo>
                  <a:pt x="772" y="992"/>
                </a:lnTo>
                <a:lnTo>
                  <a:pt x="772" y="999"/>
                </a:lnTo>
                <a:lnTo>
                  <a:pt x="772" y="1006"/>
                </a:lnTo>
                <a:lnTo>
                  <a:pt x="765" y="1013"/>
                </a:lnTo>
                <a:lnTo>
                  <a:pt x="759" y="1013"/>
                </a:lnTo>
                <a:lnTo>
                  <a:pt x="752" y="1013"/>
                </a:lnTo>
                <a:lnTo>
                  <a:pt x="738" y="1013"/>
                </a:lnTo>
                <a:lnTo>
                  <a:pt x="731" y="1013"/>
                </a:lnTo>
                <a:lnTo>
                  <a:pt x="717" y="1013"/>
                </a:lnTo>
                <a:lnTo>
                  <a:pt x="710" y="1013"/>
                </a:lnTo>
                <a:lnTo>
                  <a:pt x="710" y="1006"/>
                </a:lnTo>
                <a:lnTo>
                  <a:pt x="703" y="999"/>
                </a:lnTo>
                <a:lnTo>
                  <a:pt x="696" y="999"/>
                </a:lnTo>
                <a:lnTo>
                  <a:pt x="690" y="992"/>
                </a:lnTo>
                <a:lnTo>
                  <a:pt x="690" y="985"/>
                </a:lnTo>
                <a:lnTo>
                  <a:pt x="683" y="979"/>
                </a:lnTo>
                <a:lnTo>
                  <a:pt x="676" y="979"/>
                </a:lnTo>
                <a:lnTo>
                  <a:pt x="669" y="972"/>
                </a:lnTo>
                <a:lnTo>
                  <a:pt x="662" y="965"/>
                </a:lnTo>
                <a:lnTo>
                  <a:pt x="655" y="965"/>
                </a:lnTo>
                <a:lnTo>
                  <a:pt x="648" y="958"/>
                </a:lnTo>
                <a:lnTo>
                  <a:pt x="641" y="951"/>
                </a:lnTo>
                <a:lnTo>
                  <a:pt x="641" y="951"/>
                </a:lnTo>
                <a:lnTo>
                  <a:pt x="634" y="944"/>
                </a:lnTo>
                <a:lnTo>
                  <a:pt x="628" y="937"/>
                </a:lnTo>
                <a:lnTo>
                  <a:pt x="621" y="937"/>
                </a:lnTo>
                <a:lnTo>
                  <a:pt x="614" y="937"/>
                </a:lnTo>
                <a:lnTo>
                  <a:pt x="614" y="944"/>
                </a:lnTo>
                <a:lnTo>
                  <a:pt x="614" y="951"/>
                </a:lnTo>
                <a:lnTo>
                  <a:pt x="614" y="958"/>
                </a:lnTo>
                <a:lnTo>
                  <a:pt x="614" y="965"/>
                </a:lnTo>
                <a:lnTo>
                  <a:pt x="614" y="972"/>
                </a:lnTo>
                <a:lnTo>
                  <a:pt x="621" y="979"/>
                </a:lnTo>
                <a:lnTo>
                  <a:pt x="621" y="979"/>
                </a:lnTo>
                <a:lnTo>
                  <a:pt x="628" y="985"/>
                </a:lnTo>
                <a:lnTo>
                  <a:pt x="628" y="992"/>
                </a:lnTo>
                <a:lnTo>
                  <a:pt x="634" y="999"/>
                </a:lnTo>
                <a:lnTo>
                  <a:pt x="634" y="1006"/>
                </a:lnTo>
                <a:lnTo>
                  <a:pt x="641" y="1006"/>
                </a:lnTo>
                <a:lnTo>
                  <a:pt x="641" y="1013"/>
                </a:lnTo>
                <a:lnTo>
                  <a:pt x="648" y="1020"/>
                </a:lnTo>
                <a:lnTo>
                  <a:pt x="655" y="1027"/>
                </a:lnTo>
                <a:lnTo>
                  <a:pt x="655" y="1034"/>
                </a:lnTo>
                <a:lnTo>
                  <a:pt x="662" y="1034"/>
                </a:lnTo>
                <a:lnTo>
                  <a:pt x="662" y="1041"/>
                </a:lnTo>
                <a:lnTo>
                  <a:pt x="669" y="1047"/>
                </a:lnTo>
                <a:lnTo>
                  <a:pt x="669" y="1054"/>
                </a:lnTo>
                <a:lnTo>
                  <a:pt x="669" y="1061"/>
                </a:lnTo>
                <a:lnTo>
                  <a:pt x="669" y="1068"/>
                </a:lnTo>
                <a:lnTo>
                  <a:pt x="676" y="1068"/>
                </a:lnTo>
                <a:lnTo>
                  <a:pt x="683" y="1075"/>
                </a:lnTo>
                <a:lnTo>
                  <a:pt x="683" y="1082"/>
                </a:lnTo>
                <a:lnTo>
                  <a:pt x="690" y="1089"/>
                </a:lnTo>
                <a:lnTo>
                  <a:pt x="690" y="1096"/>
                </a:lnTo>
                <a:lnTo>
                  <a:pt x="696" y="1096"/>
                </a:lnTo>
                <a:lnTo>
                  <a:pt x="696" y="1103"/>
                </a:lnTo>
                <a:lnTo>
                  <a:pt x="703" y="1109"/>
                </a:lnTo>
                <a:lnTo>
                  <a:pt x="703" y="1116"/>
                </a:lnTo>
                <a:lnTo>
                  <a:pt x="710" y="1123"/>
                </a:lnTo>
                <a:lnTo>
                  <a:pt x="717" y="1123"/>
                </a:lnTo>
                <a:lnTo>
                  <a:pt x="717" y="1130"/>
                </a:lnTo>
                <a:lnTo>
                  <a:pt x="717" y="1137"/>
                </a:lnTo>
                <a:lnTo>
                  <a:pt x="717" y="1144"/>
                </a:lnTo>
                <a:lnTo>
                  <a:pt x="710" y="1151"/>
                </a:lnTo>
                <a:lnTo>
                  <a:pt x="710" y="1158"/>
                </a:lnTo>
                <a:lnTo>
                  <a:pt x="703" y="1158"/>
                </a:lnTo>
                <a:lnTo>
                  <a:pt x="696" y="1165"/>
                </a:lnTo>
                <a:lnTo>
                  <a:pt x="690" y="1171"/>
                </a:lnTo>
                <a:lnTo>
                  <a:pt x="683" y="1171"/>
                </a:lnTo>
                <a:lnTo>
                  <a:pt x="676" y="1178"/>
                </a:lnTo>
                <a:lnTo>
                  <a:pt x="669" y="1178"/>
                </a:lnTo>
                <a:lnTo>
                  <a:pt x="662" y="1185"/>
                </a:lnTo>
                <a:lnTo>
                  <a:pt x="655" y="1192"/>
                </a:lnTo>
                <a:lnTo>
                  <a:pt x="648" y="1192"/>
                </a:lnTo>
                <a:lnTo>
                  <a:pt x="641" y="1192"/>
                </a:lnTo>
                <a:lnTo>
                  <a:pt x="628" y="1199"/>
                </a:lnTo>
                <a:lnTo>
                  <a:pt x="621" y="1199"/>
                </a:lnTo>
                <a:lnTo>
                  <a:pt x="614" y="1199"/>
                </a:lnTo>
                <a:lnTo>
                  <a:pt x="600" y="1199"/>
                </a:lnTo>
                <a:lnTo>
                  <a:pt x="593" y="1199"/>
                </a:lnTo>
                <a:lnTo>
                  <a:pt x="586" y="1199"/>
                </a:lnTo>
                <a:lnTo>
                  <a:pt x="572" y="1199"/>
                </a:lnTo>
                <a:lnTo>
                  <a:pt x="565" y="1199"/>
                </a:lnTo>
                <a:lnTo>
                  <a:pt x="559" y="1199"/>
                </a:lnTo>
                <a:lnTo>
                  <a:pt x="545" y="1199"/>
                </a:lnTo>
                <a:lnTo>
                  <a:pt x="538" y="1206"/>
                </a:lnTo>
                <a:lnTo>
                  <a:pt x="531" y="1206"/>
                </a:lnTo>
                <a:lnTo>
                  <a:pt x="524" y="1213"/>
                </a:lnTo>
                <a:lnTo>
                  <a:pt x="524" y="1220"/>
                </a:lnTo>
                <a:lnTo>
                  <a:pt x="524" y="1227"/>
                </a:lnTo>
                <a:lnTo>
                  <a:pt x="524" y="1233"/>
                </a:lnTo>
                <a:lnTo>
                  <a:pt x="524" y="1240"/>
                </a:lnTo>
                <a:lnTo>
                  <a:pt x="524" y="1240"/>
                </a:lnTo>
                <a:lnTo>
                  <a:pt x="517" y="1247"/>
                </a:lnTo>
                <a:lnTo>
                  <a:pt x="517" y="1254"/>
                </a:lnTo>
                <a:lnTo>
                  <a:pt x="517" y="1261"/>
                </a:lnTo>
                <a:lnTo>
                  <a:pt x="510" y="1268"/>
                </a:lnTo>
                <a:lnTo>
                  <a:pt x="510" y="1275"/>
                </a:lnTo>
                <a:lnTo>
                  <a:pt x="510" y="1282"/>
                </a:lnTo>
                <a:lnTo>
                  <a:pt x="503" y="1289"/>
                </a:lnTo>
                <a:lnTo>
                  <a:pt x="503" y="1289"/>
                </a:lnTo>
                <a:lnTo>
                  <a:pt x="497" y="1289"/>
                </a:lnTo>
                <a:lnTo>
                  <a:pt x="490" y="1289"/>
                </a:lnTo>
                <a:lnTo>
                  <a:pt x="476" y="1282"/>
                </a:lnTo>
                <a:lnTo>
                  <a:pt x="469" y="1282"/>
                </a:lnTo>
                <a:lnTo>
                  <a:pt x="462" y="1282"/>
                </a:lnTo>
                <a:lnTo>
                  <a:pt x="448" y="1282"/>
                </a:lnTo>
                <a:lnTo>
                  <a:pt x="441" y="1282"/>
                </a:lnTo>
                <a:lnTo>
                  <a:pt x="434" y="1282"/>
                </a:lnTo>
                <a:lnTo>
                  <a:pt x="421" y="1282"/>
                </a:lnTo>
                <a:lnTo>
                  <a:pt x="414" y="1282"/>
                </a:lnTo>
                <a:lnTo>
                  <a:pt x="407" y="1289"/>
                </a:lnTo>
                <a:lnTo>
                  <a:pt x="393" y="1289"/>
                </a:lnTo>
                <a:lnTo>
                  <a:pt x="386" y="1289"/>
                </a:lnTo>
                <a:lnTo>
                  <a:pt x="379" y="1295"/>
                </a:lnTo>
                <a:lnTo>
                  <a:pt x="379" y="1295"/>
                </a:lnTo>
                <a:lnTo>
                  <a:pt x="379" y="1302"/>
                </a:lnTo>
                <a:lnTo>
                  <a:pt x="379" y="1309"/>
                </a:lnTo>
                <a:lnTo>
                  <a:pt x="386" y="1316"/>
                </a:lnTo>
                <a:lnTo>
                  <a:pt x="386" y="1323"/>
                </a:lnTo>
                <a:lnTo>
                  <a:pt x="393" y="1330"/>
                </a:lnTo>
                <a:lnTo>
                  <a:pt x="393" y="1330"/>
                </a:lnTo>
                <a:lnTo>
                  <a:pt x="393" y="1337"/>
                </a:lnTo>
                <a:lnTo>
                  <a:pt x="400" y="1344"/>
                </a:lnTo>
                <a:lnTo>
                  <a:pt x="407" y="1351"/>
                </a:lnTo>
                <a:lnTo>
                  <a:pt x="407" y="1357"/>
                </a:lnTo>
                <a:lnTo>
                  <a:pt x="414" y="1357"/>
                </a:lnTo>
                <a:lnTo>
                  <a:pt x="414" y="1364"/>
                </a:lnTo>
                <a:lnTo>
                  <a:pt x="407" y="1364"/>
                </a:lnTo>
                <a:lnTo>
                  <a:pt x="400" y="1357"/>
                </a:lnTo>
                <a:lnTo>
                  <a:pt x="393" y="1357"/>
                </a:lnTo>
                <a:lnTo>
                  <a:pt x="393" y="1351"/>
                </a:lnTo>
                <a:lnTo>
                  <a:pt x="386" y="1344"/>
                </a:lnTo>
                <a:lnTo>
                  <a:pt x="379" y="1344"/>
                </a:lnTo>
                <a:lnTo>
                  <a:pt x="372" y="1337"/>
                </a:lnTo>
                <a:lnTo>
                  <a:pt x="366" y="1337"/>
                </a:lnTo>
                <a:lnTo>
                  <a:pt x="359" y="1330"/>
                </a:lnTo>
                <a:lnTo>
                  <a:pt x="352" y="1323"/>
                </a:lnTo>
                <a:lnTo>
                  <a:pt x="345" y="1323"/>
                </a:lnTo>
                <a:lnTo>
                  <a:pt x="338" y="1316"/>
                </a:lnTo>
                <a:lnTo>
                  <a:pt x="331" y="1316"/>
                </a:lnTo>
                <a:lnTo>
                  <a:pt x="324" y="1309"/>
                </a:lnTo>
                <a:lnTo>
                  <a:pt x="310" y="1309"/>
                </a:lnTo>
                <a:lnTo>
                  <a:pt x="303" y="1309"/>
                </a:lnTo>
                <a:lnTo>
                  <a:pt x="297" y="1302"/>
                </a:lnTo>
                <a:lnTo>
                  <a:pt x="290" y="1302"/>
                </a:lnTo>
                <a:lnTo>
                  <a:pt x="276" y="1302"/>
                </a:lnTo>
                <a:lnTo>
                  <a:pt x="269" y="1295"/>
                </a:lnTo>
                <a:lnTo>
                  <a:pt x="262" y="1295"/>
                </a:lnTo>
                <a:lnTo>
                  <a:pt x="255" y="1295"/>
                </a:lnTo>
                <a:lnTo>
                  <a:pt x="241" y="1289"/>
                </a:lnTo>
                <a:lnTo>
                  <a:pt x="235" y="1289"/>
                </a:lnTo>
                <a:lnTo>
                  <a:pt x="228" y="1289"/>
                </a:lnTo>
                <a:lnTo>
                  <a:pt x="221" y="1282"/>
                </a:lnTo>
                <a:lnTo>
                  <a:pt x="207" y="1282"/>
                </a:lnTo>
                <a:lnTo>
                  <a:pt x="200" y="1282"/>
                </a:lnTo>
                <a:lnTo>
                  <a:pt x="193" y="1275"/>
                </a:lnTo>
                <a:lnTo>
                  <a:pt x="186" y="1275"/>
                </a:lnTo>
                <a:lnTo>
                  <a:pt x="172" y="1275"/>
                </a:lnTo>
                <a:lnTo>
                  <a:pt x="166" y="1268"/>
                </a:lnTo>
                <a:lnTo>
                  <a:pt x="159" y="1268"/>
                </a:lnTo>
                <a:lnTo>
                  <a:pt x="152" y="1268"/>
                </a:lnTo>
                <a:lnTo>
                  <a:pt x="138" y="1268"/>
                </a:lnTo>
                <a:lnTo>
                  <a:pt x="131" y="1261"/>
                </a:lnTo>
                <a:lnTo>
                  <a:pt x="124" y="1261"/>
                </a:lnTo>
                <a:lnTo>
                  <a:pt x="110" y="1261"/>
                </a:lnTo>
                <a:lnTo>
                  <a:pt x="104" y="1261"/>
                </a:lnTo>
                <a:lnTo>
                  <a:pt x="97" y="1261"/>
                </a:lnTo>
                <a:lnTo>
                  <a:pt x="83" y="1261"/>
                </a:lnTo>
                <a:lnTo>
                  <a:pt x="76" y="1261"/>
                </a:lnTo>
                <a:lnTo>
                  <a:pt x="69" y="1261"/>
                </a:lnTo>
                <a:lnTo>
                  <a:pt x="62" y="1261"/>
                </a:lnTo>
                <a:lnTo>
                  <a:pt x="55" y="1268"/>
                </a:lnTo>
                <a:lnTo>
                  <a:pt x="48" y="1275"/>
                </a:lnTo>
                <a:lnTo>
                  <a:pt x="48" y="1282"/>
                </a:lnTo>
                <a:lnTo>
                  <a:pt x="41" y="1289"/>
                </a:lnTo>
                <a:lnTo>
                  <a:pt x="35" y="1289"/>
                </a:lnTo>
                <a:lnTo>
                  <a:pt x="35" y="1295"/>
                </a:lnTo>
                <a:lnTo>
                  <a:pt x="28" y="1302"/>
                </a:lnTo>
                <a:lnTo>
                  <a:pt x="28" y="1309"/>
                </a:lnTo>
                <a:lnTo>
                  <a:pt x="28" y="1316"/>
                </a:lnTo>
                <a:lnTo>
                  <a:pt x="28" y="1316"/>
                </a:lnTo>
                <a:lnTo>
                  <a:pt x="28" y="1323"/>
                </a:lnTo>
                <a:lnTo>
                  <a:pt x="28" y="1330"/>
                </a:lnTo>
                <a:lnTo>
                  <a:pt x="28" y="1337"/>
                </a:lnTo>
                <a:lnTo>
                  <a:pt x="21" y="1344"/>
                </a:lnTo>
                <a:lnTo>
                  <a:pt x="21" y="1351"/>
                </a:lnTo>
                <a:lnTo>
                  <a:pt x="21" y="1357"/>
                </a:lnTo>
                <a:lnTo>
                  <a:pt x="21" y="1364"/>
                </a:lnTo>
                <a:lnTo>
                  <a:pt x="21" y="1364"/>
                </a:lnTo>
                <a:lnTo>
                  <a:pt x="21" y="1371"/>
                </a:lnTo>
                <a:lnTo>
                  <a:pt x="21" y="1378"/>
                </a:lnTo>
                <a:lnTo>
                  <a:pt x="14" y="1385"/>
                </a:lnTo>
                <a:lnTo>
                  <a:pt x="14" y="1392"/>
                </a:lnTo>
                <a:lnTo>
                  <a:pt x="14" y="1399"/>
                </a:lnTo>
                <a:lnTo>
                  <a:pt x="14" y="1406"/>
                </a:lnTo>
                <a:lnTo>
                  <a:pt x="14" y="1413"/>
                </a:lnTo>
                <a:lnTo>
                  <a:pt x="14" y="1413"/>
                </a:lnTo>
                <a:lnTo>
                  <a:pt x="14" y="1419"/>
                </a:lnTo>
                <a:lnTo>
                  <a:pt x="14" y="1426"/>
                </a:lnTo>
                <a:lnTo>
                  <a:pt x="7" y="1433"/>
                </a:lnTo>
                <a:lnTo>
                  <a:pt x="7" y="1440"/>
                </a:lnTo>
                <a:lnTo>
                  <a:pt x="7" y="1447"/>
                </a:lnTo>
                <a:lnTo>
                  <a:pt x="7" y="1454"/>
                </a:lnTo>
                <a:lnTo>
                  <a:pt x="7" y="1454"/>
                </a:lnTo>
                <a:lnTo>
                  <a:pt x="7" y="1461"/>
                </a:lnTo>
                <a:lnTo>
                  <a:pt x="7" y="1468"/>
                </a:lnTo>
                <a:lnTo>
                  <a:pt x="0" y="1475"/>
                </a:lnTo>
                <a:lnTo>
                  <a:pt x="0" y="1481"/>
                </a:lnTo>
                <a:lnTo>
                  <a:pt x="0" y="1488"/>
                </a:lnTo>
                <a:lnTo>
                  <a:pt x="0" y="1495"/>
                </a:lnTo>
                <a:lnTo>
                  <a:pt x="0" y="1502"/>
                </a:lnTo>
                <a:lnTo>
                  <a:pt x="0" y="1502"/>
                </a:lnTo>
                <a:lnTo>
                  <a:pt x="0" y="1509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8" name=""/>
          <p:cNvSpPr/>
          <p:nvPr/>
        </p:nvSpPr>
        <p:spPr>
          <a:xfrm>
            <a:off x="4367160" y="4675320"/>
            <a:ext cx="55440" cy="87120"/>
          </a:xfrm>
          <a:custGeom>
            <a:avLst/>
            <a:gdLst/>
            <a:ahLst/>
            <a:rect l="l" t="t" r="r" b="b"/>
            <a:pathLst>
              <a:path w="35" h="55">
                <a:moveTo>
                  <a:pt x="7" y="48"/>
                </a:moveTo>
                <a:lnTo>
                  <a:pt x="0" y="41"/>
                </a:lnTo>
                <a:lnTo>
                  <a:pt x="0" y="34"/>
                </a:lnTo>
                <a:lnTo>
                  <a:pt x="0" y="34"/>
                </a:lnTo>
                <a:lnTo>
                  <a:pt x="0" y="27"/>
                </a:lnTo>
                <a:lnTo>
                  <a:pt x="0" y="20"/>
                </a:lnTo>
                <a:lnTo>
                  <a:pt x="0" y="13"/>
                </a:lnTo>
                <a:lnTo>
                  <a:pt x="0" y="6"/>
                </a:lnTo>
                <a:lnTo>
                  <a:pt x="7" y="0"/>
                </a:lnTo>
                <a:lnTo>
                  <a:pt x="14" y="0"/>
                </a:lnTo>
                <a:lnTo>
                  <a:pt x="21" y="6"/>
                </a:lnTo>
                <a:lnTo>
                  <a:pt x="28" y="6"/>
                </a:lnTo>
                <a:lnTo>
                  <a:pt x="35" y="13"/>
                </a:lnTo>
                <a:lnTo>
                  <a:pt x="35" y="20"/>
                </a:lnTo>
                <a:lnTo>
                  <a:pt x="35" y="27"/>
                </a:lnTo>
                <a:lnTo>
                  <a:pt x="35" y="34"/>
                </a:lnTo>
                <a:lnTo>
                  <a:pt x="28" y="34"/>
                </a:lnTo>
                <a:lnTo>
                  <a:pt x="21" y="41"/>
                </a:lnTo>
                <a:lnTo>
                  <a:pt x="14" y="48"/>
                </a:lnTo>
                <a:lnTo>
                  <a:pt x="14" y="55"/>
                </a:lnTo>
                <a:lnTo>
                  <a:pt x="7" y="48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9" name=""/>
          <p:cNvSpPr/>
          <p:nvPr/>
        </p:nvSpPr>
        <p:spPr>
          <a:xfrm>
            <a:off x="5505480" y="3559320"/>
            <a:ext cx="493560" cy="688680"/>
          </a:xfrm>
          <a:custGeom>
            <a:avLst/>
            <a:gdLst/>
            <a:ahLst/>
            <a:rect l="l" t="t" r="r" b="b"/>
            <a:pathLst>
              <a:path w="311" h="434">
                <a:moveTo>
                  <a:pt x="0" y="427"/>
                </a:moveTo>
                <a:lnTo>
                  <a:pt x="0" y="420"/>
                </a:lnTo>
                <a:lnTo>
                  <a:pt x="7" y="413"/>
                </a:lnTo>
                <a:lnTo>
                  <a:pt x="7" y="406"/>
                </a:lnTo>
                <a:lnTo>
                  <a:pt x="14" y="399"/>
                </a:lnTo>
                <a:lnTo>
                  <a:pt x="14" y="393"/>
                </a:lnTo>
                <a:lnTo>
                  <a:pt x="21" y="393"/>
                </a:lnTo>
                <a:lnTo>
                  <a:pt x="21" y="386"/>
                </a:lnTo>
                <a:lnTo>
                  <a:pt x="28" y="379"/>
                </a:lnTo>
                <a:lnTo>
                  <a:pt x="35" y="372"/>
                </a:lnTo>
                <a:lnTo>
                  <a:pt x="35" y="365"/>
                </a:lnTo>
                <a:lnTo>
                  <a:pt x="42" y="358"/>
                </a:lnTo>
                <a:lnTo>
                  <a:pt x="42" y="351"/>
                </a:lnTo>
                <a:lnTo>
                  <a:pt x="42" y="344"/>
                </a:lnTo>
                <a:lnTo>
                  <a:pt x="35" y="344"/>
                </a:lnTo>
                <a:lnTo>
                  <a:pt x="35" y="337"/>
                </a:lnTo>
                <a:lnTo>
                  <a:pt x="42" y="331"/>
                </a:lnTo>
                <a:lnTo>
                  <a:pt x="49" y="324"/>
                </a:lnTo>
                <a:lnTo>
                  <a:pt x="49" y="324"/>
                </a:lnTo>
                <a:lnTo>
                  <a:pt x="56" y="317"/>
                </a:lnTo>
                <a:lnTo>
                  <a:pt x="56" y="310"/>
                </a:lnTo>
                <a:lnTo>
                  <a:pt x="62" y="303"/>
                </a:lnTo>
                <a:lnTo>
                  <a:pt x="69" y="296"/>
                </a:lnTo>
                <a:lnTo>
                  <a:pt x="76" y="296"/>
                </a:lnTo>
                <a:lnTo>
                  <a:pt x="83" y="289"/>
                </a:lnTo>
                <a:lnTo>
                  <a:pt x="83" y="282"/>
                </a:lnTo>
                <a:lnTo>
                  <a:pt x="90" y="275"/>
                </a:lnTo>
                <a:lnTo>
                  <a:pt x="90" y="269"/>
                </a:lnTo>
                <a:lnTo>
                  <a:pt x="90" y="262"/>
                </a:lnTo>
                <a:lnTo>
                  <a:pt x="90" y="255"/>
                </a:lnTo>
                <a:lnTo>
                  <a:pt x="90" y="248"/>
                </a:lnTo>
                <a:lnTo>
                  <a:pt x="90" y="241"/>
                </a:lnTo>
                <a:lnTo>
                  <a:pt x="90" y="234"/>
                </a:lnTo>
                <a:lnTo>
                  <a:pt x="90" y="234"/>
                </a:lnTo>
                <a:lnTo>
                  <a:pt x="97" y="227"/>
                </a:lnTo>
                <a:lnTo>
                  <a:pt x="97" y="220"/>
                </a:lnTo>
                <a:lnTo>
                  <a:pt x="97" y="213"/>
                </a:lnTo>
                <a:lnTo>
                  <a:pt x="104" y="207"/>
                </a:lnTo>
                <a:lnTo>
                  <a:pt x="104" y="200"/>
                </a:lnTo>
                <a:lnTo>
                  <a:pt x="111" y="193"/>
                </a:lnTo>
                <a:lnTo>
                  <a:pt x="111" y="186"/>
                </a:lnTo>
                <a:lnTo>
                  <a:pt x="111" y="179"/>
                </a:lnTo>
                <a:lnTo>
                  <a:pt x="111" y="172"/>
                </a:lnTo>
                <a:lnTo>
                  <a:pt x="118" y="172"/>
                </a:lnTo>
                <a:lnTo>
                  <a:pt x="118" y="165"/>
                </a:lnTo>
                <a:lnTo>
                  <a:pt x="124" y="158"/>
                </a:lnTo>
                <a:lnTo>
                  <a:pt x="131" y="151"/>
                </a:lnTo>
                <a:lnTo>
                  <a:pt x="138" y="145"/>
                </a:lnTo>
                <a:lnTo>
                  <a:pt x="138" y="145"/>
                </a:lnTo>
                <a:lnTo>
                  <a:pt x="145" y="138"/>
                </a:lnTo>
                <a:lnTo>
                  <a:pt x="145" y="131"/>
                </a:lnTo>
                <a:lnTo>
                  <a:pt x="145" y="124"/>
                </a:lnTo>
                <a:lnTo>
                  <a:pt x="145" y="117"/>
                </a:lnTo>
                <a:lnTo>
                  <a:pt x="145" y="110"/>
                </a:lnTo>
                <a:lnTo>
                  <a:pt x="145" y="103"/>
                </a:lnTo>
                <a:lnTo>
                  <a:pt x="145" y="96"/>
                </a:lnTo>
                <a:lnTo>
                  <a:pt x="152" y="89"/>
                </a:lnTo>
                <a:lnTo>
                  <a:pt x="152" y="83"/>
                </a:lnTo>
                <a:lnTo>
                  <a:pt x="159" y="83"/>
                </a:lnTo>
                <a:lnTo>
                  <a:pt x="159" y="76"/>
                </a:lnTo>
                <a:lnTo>
                  <a:pt x="166" y="69"/>
                </a:lnTo>
                <a:lnTo>
                  <a:pt x="166" y="62"/>
                </a:lnTo>
                <a:lnTo>
                  <a:pt x="166" y="55"/>
                </a:lnTo>
                <a:lnTo>
                  <a:pt x="166" y="48"/>
                </a:lnTo>
                <a:lnTo>
                  <a:pt x="166" y="41"/>
                </a:lnTo>
                <a:lnTo>
                  <a:pt x="166" y="34"/>
                </a:lnTo>
                <a:lnTo>
                  <a:pt x="166" y="27"/>
                </a:lnTo>
                <a:lnTo>
                  <a:pt x="166" y="21"/>
                </a:lnTo>
                <a:lnTo>
                  <a:pt x="166" y="14"/>
                </a:lnTo>
                <a:lnTo>
                  <a:pt x="166" y="7"/>
                </a:lnTo>
                <a:lnTo>
                  <a:pt x="173" y="7"/>
                </a:lnTo>
                <a:lnTo>
                  <a:pt x="180" y="0"/>
                </a:lnTo>
                <a:lnTo>
                  <a:pt x="187" y="0"/>
                </a:lnTo>
                <a:lnTo>
                  <a:pt x="200" y="0"/>
                </a:lnTo>
                <a:lnTo>
                  <a:pt x="207" y="7"/>
                </a:lnTo>
                <a:lnTo>
                  <a:pt x="214" y="7"/>
                </a:lnTo>
                <a:lnTo>
                  <a:pt x="221" y="14"/>
                </a:lnTo>
                <a:lnTo>
                  <a:pt x="228" y="21"/>
                </a:lnTo>
                <a:lnTo>
                  <a:pt x="235" y="21"/>
                </a:lnTo>
                <a:lnTo>
                  <a:pt x="242" y="27"/>
                </a:lnTo>
                <a:lnTo>
                  <a:pt x="249" y="27"/>
                </a:lnTo>
                <a:lnTo>
                  <a:pt x="255" y="34"/>
                </a:lnTo>
                <a:lnTo>
                  <a:pt x="269" y="34"/>
                </a:lnTo>
                <a:lnTo>
                  <a:pt x="276" y="41"/>
                </a:lnTo>
                <a:lnTo>
                  <a:pt x="283" y="41"/>
                </a:lnTo>
                <a:lnTo>
                  <a:pt x="283" y="48"/>
                </a:lnTo>
                <a:lnTo>
                  <a:pt x="283" y="55"/>
                </a:lnTo>
                <a:lnTo>
                  <a:pt x="290" y="62"/>
                </a:lnTo>
                <a:lnTo>
                  <a:pt x="297" y="69"/>
                </a:lnTo>
                <a:lnTo>
                  <a:pt x="311" y="69"/>
                </a:lnTo>
                <a:lnTo>
                  <a:pt x="311" y="69"/>
                </a:lnTo>
                <a:lnTo>
                  <a:pt x="304" y="76"/>
                </a:lnTo>
                <a:lnTo>
                  <a:pt x="297" y="83"/>
                </a:lnTo>
                <a:lnTo>
                  <a:pt x="290" y="89"/>
                </a:lnTo>
                <a:lnTo>
                  <a:pt x="283" y="89"/>
                </a:lnTo>
                <a:lnTo>
                  <a:pt x="283" y="96"/>
                </a:lnTo>
                <a:lnTo>
                  <a:pt x="276" y="103"/>
                </a:lnTo>
                <a:lnTo>
                  <a:pt x="269" y="110"/>
                </a:lnTo>
                <a:lnTo>
                  <a:pt x="262" y="110"/>
                </a:lnTo>
                <a:lnTo>
                  <a:pt x="255" y="117"/>
                </a:lnTo>
                <a:lnTo>
                  <a:pt x="249" y="124"/>
                </a:lnTo>
                <a:lnTo>
                  <a:pt x="242" y="131"/>
                </a:lnTo>
                <a:lnTo>
                  <a:pt x="242" y="131"/>
                </a:lnTo>
                <a:lnTo>
                  <a:pt x="235" y="138"/>
                </a:lnTo>
                <a:lnTo>
                  <a:pt x="235" y="145"/>
                </a:lnTo>
                <a:lnTo>
                  <a:pt x="235" y="151"/>
                </a:lnTo>
                <a:lnTo>
                  <a:pt x="235" y="158"/>
                </a:lnTo>
                <a:lnTo>
                  <a:pt x="235" y="165"/>
                </a:lnTo>
                <a:lnTo>
                  <a:pt x="235" y="172"/>
                </a:lnTo>
                <a:lnTo>
                  <a:pt x="242" y="179"/>
                </a:lnTo>
                <a:lnTo>
                  <a:pt x="242" y="186"/>
                </a:lnTo>
                <a:lnTo>
                  <a:pt x="242" y="193"/>
                </a:lnTo>
                <a:lnTo>
                  <a:pt x="242" y="193"/>
                </a:lnTo>
                <a:lnTo>
                  <a:pt x="242" y="200"/>
                </a:lnTo>
                <a:lnTo>
                  <a:pt x="242" y="207"/>
                </a:lnTo>
                <a:lnTo>
                  <a:pt x="242" y="213"/>
                </a:lnTo>
                <a:lnTo>
                  <a:pt x="242" y="220"/>
                </a:lnTo>
                <a:lnTo>
                  <a:pt x="242" y="227"/>
                </a:lnTo>
                <a:lnTo>
                  <a:pt x="242" y="234"/>
                </a:lnTo>
                <a:lnTo>
                  <a:pt x="249" y="241"/>
                </a:lnTo>
                <a:lnTo>
                  <a:pt x="249" y="248"/>
                </a:lnTo>
                <a:lnTo>
                  <a:pt x="249" y="255"/>
                </a:lnTo>
                <a:lnTo>
                  <a:pt x="255" y="262"/>
                </a:lnTo>
                <a:lnTo>
                  <a:pt x="255" y="269"/>
                </a:lnTo>
                <a:lnTo>
                  <a:pt x="255" y="275"/>
                </a:lnTo>
                <a:lnTo>
                  <a:pt x="255" y="275"/>
                </a:lnTo>
                <a:lnTo>
                  <a:pt x="255" y="282"/>
                </a:lnTo>
                <a:lnTo>
                  <a:pt x="249" y="289"/>
                </a:lnTo>
                <a:lnTo>
                  <a:pt x="249" y="296"/>
                </a:lnTo>
                <a:lnTo>
                  <a:pt x="249" y="303"/>
                </a:lnTo>
                <a:lnTo>
                  <a:pt x="249" y="310"/>
                </a:lnTo>
                <a:lnTo>
                  <a:pt x="249" y="317"/>
                </a:lnTo>
                <a:lnTo>
                  <a:pt x="249" y="324"/>
                </a:lnTo>
                <a:lnTo>
                  <a:pt x="249" y="331"/>
                </a:lnTo>
                <a:lnTo>
                  <a:pt x="242" y="337"/>
                </a:lnTo>
                <a:lnTo>
                  <a:pt x="235" y="337"/>
                </a:lnTo>
                <a:lnTo>
                  <a:pt x="235" y="344"/>
                </a:lnTo>
                <a:lnTo>
                  <a:pt x="228" y="351"/>
                </a:lnTo>
                <a:lnTo>
                  <a:pt x="228" y="358"/>
                </a:lnTo>
                <a:lnTo>
                  <a:pt x="228" y="365"/>
                </a:lnTo>
                <a:lnTo>
                  <a:pt x="228" y="372"/>
                </a:lnTo>
                <a:lnTo>
                  <a:pt x="228" y="379"/>
                </a:lnTo>
                <a:lnTo>
                  <a:pt x="228" y="386"/>
                </a:lnTo>
                <a:lnTo>
                  <a:pt x="228" y="393"/>
                </a:lnTo>
                <a:lnTo>
                  <a:pt x="228" y="399"/>
                </a:lnTo>
                <a:lnTo>
                  <a:pt x="221" y="406"/>
                </a:lnTo>
                <a:lnTo>
                  <a:pt x="221" y="413"/>
                </a:lnTo>
                <a:lnTo>
                  <a:pt x="214" y="420"/>
                </a:lnTo>
                <a:lnTo>
                  <a:pt x="207" y="420"/>
                </a:lnTo>
                <a:lnTo>
                  <a:pt x="200" y="420"/>
                </a:lnTo>
                <a:lnTo>
                  <a:pt x="193" y="420"/>
                </a:lnTo>
                <a:lnTo>
                  <a:pt x="180" y="420"/>
                </a:lnTo>
                <a:lnTo>
                  <a:pt x="173" y="420"/>
                </a:lnTo>
                <a:lnTo>
                  <a:pt x="159" y="420"/>
                </a:lnTo>
                <a:lnTo>
                  <a:pt x="152" y="427"/>
                </a:lnTo>
                <a:lnTo>
                  <a:pt x="138" y="427"/>
                </a:lnTo>
                <a:lnTo>
                  <a:pt x="131" y="427"/>
                </a:lnTo>
                <a:lnTo>
                  <a:pt x="124" y="427"/>
                </a:lnTo>
                <a:lnTo>
                  <a:pt x="111" y="427"/>
                </a:lnTo>
                <a:lnTo>
                  <a:pt x="104" y="427"/>
                </a:lnTo>
                <a:lnTo>
                  <a:pt x="90" y="427"/>
                </a:lnTo>
                <a:lnTo>
                  <a:pt x="83" y="427"/>
                </a:lnTo>
                <a:lnTo>
                  <a:pt x="69" y="427"/>
                </a:lnTo>
                <a:lnTo>
                  <a:pt x="62" y="427"/>
                </a:lnTo>
                <a:lnTo>
                  <a:pt x="56" y="427"/>
                </a:lnTo>
                <a:lnTo>
                  <a:pt x="42" y="427"/>
                </a:lnTo>
                <a:lnTo>
                  <a:pt x="35" y="427"/>
                </a:lnTo>
                <a:lnTo>
                  <a:pt x="21" y="427"/>
                </a:lnTo>
                <a:lnTo>
                  <a:pt x="14" y="434"/>
                </a:lnTo>
                <a:lnTo>
                  <a:pt x="0" y="427"/>
                </a:lnTo>
                <a:lnTo>
                  <a:pt x="0" y="427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0" name=""/>
          <p:cNvSpPr/>
          <p:nvPr/>
        </p:nvSpPr>
        <p:spPr>
          <a:xfrm>
            <a:off x="4344840" y="4073400"/>
            <a:ext cx="66960" cy="119160"/>
          </a:xfrm>
          <a:custGeom>
            <a:avLst/>
            <a:gdLst/>
            <a:ahLst/>
            <a:rect l="l" t="t" r="r" b="b"/>
            <a:pathLst>
              <a:path w="42" h="75">
                <a:moveTo>
                  <a:pt x="35" y="69"/>
                </a:moveTo>
                <a:lnTo>
                  <a:pt x="35" y="69"/>
                </a:lnTo>
                <a:lnTo>
                  <a:pt x="35" y="62"/>
                </a:lnTo>
                <a:lnTo>
                  <a:pt x="35" y="55"/>
                </a:lnTo>
                <a:lnTo>
                  <a:pt x="35" y="48"/>
                </a:lnTo>
                <a:lnTo>
                  <a:pt x="35" y="41"/>
                </a:lnTo>
                <a:lnTo>
                  <a:pt x="35" y="34"/>
                </a:lnTo>
                <a:lnTo>
                  <a:pt x="42" y="27"/>
                </a:lnTo>
                <a:lnTo>
                  <a:pt x="42" y="20"/>
                </a:lnTo>
                <a:lnTo>
                  <a:pt x="42" y="20"/>
                </a:lnTo>
                <a:lnTo>
                  <a:pt x="35" y="13"/>
                </a:lnTo>
                <a:lnTo>
                  <a:pt x="28" y="7"/>
                </a:lnTo>
                <a:lnTo>
                  <a:pt x="28" y="0"/>
                </a:lnTo>
                <a:lnTo>
                  <a:pt x="21" y="7"/>
                </a:lnTo>
                <a:lnTo>
                  <a:pt x="14" y="13"/>
                </a:lnTo>
                <a:lnTo>
                  <a:pt x="14" y="20"/>
                </a:lnTo>
                <a:lnTo>
                  <a:pt x="7" y="27"/>
                </a:lnTo>
                <a:lnTo>
                  <a:pt x="7" y="34"/>
                </a:lnTo>
                <a:lnTo>
                  <a:pt x="0" y="34"/>
                </a:lnTo>
                <a:lnTo>
                  <a:pt x="0" y="41"/>
                </a:lnTo>
                <a:lnTo>
                  <a:pt x="0" y="48"/>
                </a:lnTo>
                <a:lnTo>
                  <a:pt x="7" y="48"/>
                </a:lnTo>
                <a:lnTo>
                  <a:pt x="14" y="55"/>
                </a:lnTo>
                <a:lnTo>
                  <a:pt x="14" y="62"/>
                </a:lnTo>
                <a:lnTo>
                  <a:pt x="21" y="69"/>
                </a:lnTo>
                <a:lnTo>
                  <a:pt x="28" y="75"/>
                </a:lnTo>
                <a:lnTo>
                  <a:pt x="35" y="69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1" name=""/>
          <p:cNvSpPr/>
          <p:nvPr/>
        </p:nvSpPr>
        <p:spPr>
          <a:xfrm>
            <a:off x="5319720" y="4127400"/>
            <a:ext cx="174600" cy="76320"/>
          </a:xfrm>
          <a:custGeom>
            <a:avLst/>
            <a:gdLst/>
            <a:ahLst/>
            <a:rect l="l" t="t" r="r" b="b"/>
            <a:pathLst>
              <a:path w="110" h="48">
                <a:moveTo>
                  <a:pt x="0" y="35"/>
                </a:moveTo>
                <a:lnTo>
                  <a:pt x="7" y="35"/>
                </a:lnTo>
                <a:lnTo>
                  <a:pt x="14" y="35"/>
                </a:lnTo>
                <a:lnTo>
                  <a:pt x="21" y="35"/>
                </a:lnTo>
                <a:lnTo>
                  <a:pt x="28" y="35"/>
                </a:lnTo>
                <a:lnTo>
                  <a:pt x="35" y="35"/>
                </a:lnTo>
                <a:lnTo>
                  <a:pt x="42" y="28"/>
                </a:lnTo>
                <a:lnTo>
                  <a:pt x="48" y="28"/>
                </a:lnTo>
                <a:lnTo>
                  <a:pt x="55" y="28"/>
                </a:lnTo>
                <a:lnTo>
                  <a:pt x="62" y="28"/>
                </a:lnTo>
                <a:lnTo>
                  <a:pt x="69" y="21"/>
                </a:lnTo>
                <a:lnTo>
                  <a:pt x="76" y="21"/>
                </a:lnTo>
                <a:lnTo>
                  <a:pt x="76" y="14"/>
                </a:lnTo>
                <a:lnTo>
                  <a:pt x="83" y="14"/>
                </a:lnTo>
                <a:lnTo>
                  <a:pt x="83" y="7"/>
                </a:lnTo>
                <a:lnTo>
                  <a:pt x="90" y="0"/>
                </a:lnTo>
                <a:lnTo>
                  <a:pt x="97" y="0"/>
                </a:lnTo>
                <a:lnTo>
                  <a:pt x="110" y="7"/>
                </a:lnTo>
                <a:lnTo>
                  <a:pt x="110" y="7"/>
                </a:lnTo>
                <a:lnTo>
                  <a:pt x="110" y="7"/>
                </a:lnTo>
                <a:lnTo>
                  <a:pt x="104" y="14"/>
                </a:lnTo>
                <a:lnTo>
                  <a:pt x="97" y="14"/>
                </a:lnTo>
                <a:lnTo>
                  <a:pt x="90" y="21"/>
                </a:lnTo>
                <a:lnTo>
                  <a:pt x="83" y="21"/>
                </a:lnTo>
                <a:lnTo>
                  <a:pt x="83" y="28"/>
                </a:lnTo>
                <a:lnTo>
                  <a:pt x="83" y="35"/>
                </a:lnTo>
                <a:lnTo>
                  <a:pt x="76" y="35"/>
                </a:lnTo>
                <a:lnTo>
                  <a:pt x="76" y="41"/>
                </a:lnTo>
                <a:lnTo>
                  <a:pt x="69" y="48"/>
                </a:lnTo>
                <a:lnTo>
                  <a:pt x="62" y="48"/>
                </a:lnTo>
                <a:lnTo>
                  <a:pt x="55" y="48"/>
                </a:lnTo>
                <a:lnTo>
                  <a:pt x="48" y="48"/>
                </a:lnTo>
                <a:lnTo>
                  <a:pt x="42" y="48"/>
                </a:lnTo>
                <a:lnTo>
                  <a:pt x="35" y="48"/>
                </a:lnTo>
                <a:lnTo>
                  <a:pt x="28" y="41"/>
                </a:lnTo>
                <a:lnTo>
                  <a:pt x="21" y="41"/>
                </a:lnTo>
                <a:lnTo>
                  <a:pt x="14" y="41"/>
                </a:lnTo>
                <a:lnTo>
                  <a:pt x="7" y="41"/>
                </a:lnTo>
                <a:lnTo>
                  <a:pt x="0" y="35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2" name=""/>
          <p:cNvSpPr/>
          <p:nvPr/>
        </p:nvSpPr>
        <p:spPr>
          <a:xfrm>
            <a:off x="2944800" y="4073400"/>
            <a:ext cx="65160" cy="76320"/>
          </a:xfrm>
          <a:custGeom>
            <a:avLst/>
            <a:gdLst/>
            <a:ahLst/>
            <a:rect l="l" t="t" r="r" b="b"/>
            <a:pathLst>
              <a:path w="41" h="48">
                <a:moveTo>
                  <a:pt x="28" y="41"/>
                </a:moveTo>
                <a:lnTo>
                  <a:pt x="34" y="34"/>
                </a:lnTo>
                <a:lnTo>
                  <a:pt x="34" y="27"/>
                </a:lnTo>
                <a:lnTo>
                  <a:pt x="41" y="27"/>
                </a:lnTo>
                <a:lnTo>
                  <a:pt x="41" y="20"/>
                </a:lnTo>
                <a:lnTo>
                  <a:pt x="41" y="13"/>
                </a:lnTo>
                <a:lnTo>
                  <a:pt x="41" y="13"/>
                </a:lnTo>
                <a:lnTo>
                  <a:pt x="34" y="7"/>
                </a:lnTo>
                <a:lnTo>
                  <a:pt x="28" y="0"/>
                </a:lnTo>
                <a:lnTo>
                  <a:pt x="21" y="0"/>
                </a:lnTo>
                <a:lnTo>
                  <a:pt x="14" y="0"/>
                </a:lnTo>
                <a:lnTo>
                  <a:pt x="7" y="7"/>
                </a:lnTo>
                <a:lnTo>
                  <a:pt x="0" y="13"/>
                </a:lnTo>
                <a:lnTo>
                  <a:pt x="0" y="13"/>
                </a:lnTo>
                <a:lnTo>
                  <a:pt x="0" y="20"/>
                </a:lnTo>
                <a:lnTo>
                  <a:pt x="0" y="27"/>
                </a:lnTo>
                <a:lnTo>
                  <a:pt x="7" y="34"/>
                </a:lnTo>
                <a:lnTo>
                  <a:pt x="7" y="34"/>
                </a:lnTo>
                <a:lnTo>
                  <a:pt x="14" y="41"/>
                </a:lnTo>
                <a:lnTo>
                  <a:pt x="21" y="48"/>
                </a:lnTo>
                <a:lnTo>
                  <a:pt x="28" y="41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3" name=""/>
          <p:cNvSpPr/>
          <p:nvPr/>
        </p:nvSpPr>
        <p:spPr>
          <a:xfrm>
            <a:off x="5560920" y="4073400"/>
            <a:ext cx="42840" cy="20880"/>
          </a:xfrm>
          <a:custGeom>
            <a:avLst/>
            <a:gdLst/>
            <a:ahLst/>
            <a:rect l="l" t="t" r="r" b="b"/>
            <a:pathLst>
              <a:path w="27" h="13">
                <a:moveTo>
                  <a:pt x="27" y="13"/>
                </a:moveTo>
                <a:lnTo>
                  <a:pt x="27" y="7"/>
                </a:lnTo>
                <a:lnTo>
                  <a:pt x="27" y="0"/>
                </a:lnTo>
                <a:lnTo>
                  <a:pt x="27" y="0"/>
                </a:lnTo>
                <a:lnTo>
                  <a:pt x="27" y="0"/>
                </a:lnTo>
                <a:lnTo>
                  <a:pt x="21" y="0"/>
                </a:lnTo>
                <a:lnTo>
                  <a:pt x="14" y="0"/>
                </a:lnTo>
                <a:lnTo>
                  <a:pt x="7" y="7"/>
                </a:lnTo>
                <a:lnTo>
                  <a:pt x="7" y="7"/>
                </a:lnTo>
                <a:lnTo>
                  <a:pt x="0" y="13"/>
                </a:lnTo>
                <a:lnTo>
                  <a:pt x="7" y="13"/>
                </a:lnTo>
                <a:lnTo>
                  <a:pt x="14" y="13"/>
                </a:lnTo>
                <a:lnTo>
                  <a:pt x="21" y="13"/>
                </a:lnTo>
                <a:lnTo>
                  <a:pt x="27" y="13"/>
                </a:lnTo>
                <a:lnTo>
                  <a:pt x="27" y="13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4" name=""/>
          <p:cNvSpPr/>
          <p:nvPr/>
        </p:nvSpPr>
        <p:spPr>
          <a:xfrm>
            <a:off x="4751280" y="4006800"/>
            <a:ext cx="11160" cy="77760"/>
          </a:xfrm>
          <a:custGeom>
            <a:avLst/>
            <a:gdLst/>
            <a:ahLst/>
            <a:rect l="l" t="t" r="r" b="b"/>
            <a:pathLst>
              <a:path w="7" h="49">
                <a:moveTo>
                  <a:pt x="7" y="21"/>
                </a:moveTo>
                <a:lnTo>
                  <a:pt x="7" y="14"/>
                </a:lnTo>
                <a:lnTo>
                  <a:pt x="7" y="7"/>
                </a:lnTo>
                <a:lnTo>
                  <a:pt x="7" y="0"/>
                </a:lnTo>
                <a:lnTo>
                  <a:pt x="7" y="0"/>
                </a:lnTo>
                <a:lnTo>
                  <a:pt x="7" y="7"/>
                </a:lnTo>
                <a:lnTo>
                  <a:pt x="7" y="14"/>
                </a:lnTo>
                <a:lnTo>
                  <a:pt x="0" y="21"/>
                </a:lnTo>
                <a:lnTo>
                  <a:pt x="7" y="35"/>
                </a:lnTo>
                <a:lnTo>
                  <a:pt x="7" y="42"/>
                </a:lnTo>
                <a:lnTo>
                  <a:pt x="7" y="49"/>
                </a:lnTo>
                <a:lnTo>
                  <a:pt x="7" y="49"/>
                </a:lnTo>
                <a:lnTo>
                  <a:pt x="7" y="42"/>
                </a:lnTo>
                <a:lnTo>
                  <a:pt x="7" y="35"/>
                </a:lnTo>
                <a:lnTo>
                  <a:pt x="7" y="21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5" name=""/>
          <p:cNvSpPr/>
          <p:nvPr/>
        </p:nvSpPr>
        <p:spPr>
          <a:xfrm>
            <a:off x="4915080" y="3876840"/>
            <a:ext cx="55440" cy="174600"/>
          </a:xfrm>
          <a:custGeom>
            <a:avLst/>
            <a:gdLst/>
            <a:ahLst/>
            <a:rect l="l" t="t" r="r" b="b"/>
            <a:pathLst>
              <a:path w="35" h="110">
                <a:moveTo>
                  <a:pt x="28" y="103"/>
                </a:moveTo>
                <a:lnTo>
                  <a:pt x="28" y="96"/>
                </a:lnTo>
                <a:lnTo>
                  <a:pt x="35" y="89"/>
                </a:lnTo>
                <a:lnTo>
                  <a:pt x="35" y="82"/>
                </a:lnTo>
                <a:lnTo>
                  <a:pt x="35" y="75"/>
                </a:lnTo>
                <a:lnTo>
                  <a:pt x="35" y="69"/>
                </a:lnTo>
                <a:lnTo>
                  <a:pt x="35" y="62"/>
                </a:lnTo>
                <a:lnTo>
                  <a:pt x="35" y="55"/>
                </a:lnTo>
                <a:lnTo>
                  <a:pt x="28" y="48"/>
                </a:lnTo>
                <a:lnTo>
                  <a:pt x="28" y="41"/>
                </a:lnTo>
                <a:lnTo>
                  <a:pt x="28" y="41"/>
                </a:lnTo>
                <a:lnTo>
                  <a:pt x="28" y="34"/>
                </a:lnTo>
                <a:lnTo>
                  <a:pt x="28" y="20"/>
                </a:lnTo>
                <a:lnTo>
                  <a:pt x="21" y="13"/>
                </a:lnTo>
                <a:lnTo>
                  <a:pt x="21" y="7"/>
                </a:lnTo>
                <a:lnTo>
                  <a:pt x="21" y="0"/>
                </a:lnTo>
                <a:lnTo>
                  <a:pt x="21" y="7"/>
                </a:lnTo>
                <a:lnTo>
                  <a:pt x="21" y="13"/>
                </a:lnTo>
                <a:lnTo>
                  <a:pt x="14" y="27"/>
                </a:lnTo>
                <a:lnTo>
                  <a:pt x="14" y="34"/>
                </a:lnTo>
                <a:lnTo>
                  <a:pt x="14" y="41"/>
                </a:lnTo>
                <a:lnTo>
                  <a:pt x="7" y="41"/>
                </a:lnTo>
                <a:lnTo>
                  <a:pt x="7" y="48"/>
                </a:lnTo>
                <a:lnTo>
                  <a:pt x="7" y="55"/>
                </a:lnTo>
                <a:lnTo>
                  <a:pt x="7" y="62"/>
                </a:lnTo>
                <a:lnTo>
                  <a:pt x="0" y="69"/>
                </a:lnTo>
                <a:lnTo>
                  <a:pt x="0" y="75"/>
                </a:lnTo>
                <a:lnTo>
                  <a:pt x="0" y="89"/>
                </a:lnTo>
                <a:lnTo>
                  <a:pt x="0" y="96"/>
                </a:lnTo>
                <a:lnTo>
                  <a:pt x="0" y="103"/>
                </a:lnTo>
                <a:lnTo>
                  <a:pt x="7" y="110"/>
                </a:lnTo>
                <a:lnTo>
                  <a:pt x="21" y="110"/>
                </a:lnTo>
                <a:lnTo>
                  <a:pt x="28" y="103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6" name=""/>
          <p:cNvSpPr/>
          <p:nvPr/>
        </p:nvSpPr>
        <p:spPr>
          <a:xfrm>
            <a:off x="2933640" y="2727360"/>
            <a:ext cx="1521000" cy="1225440"/>
          </a:xfrm>
          <a:custGeom>
            <a:avLst/>
            <a:gdLst/>
            <a:ahLst/>
            <a:rect l="l" t="t" r="r" b="b"/>
            <a:pathLst>
              <a:path w="958" h="772">
                <a:moveTo>
                  <a:pt x="0" y="772"/>
                </a:moveTo>
                <a:lnTo>
                  <a:pt x="7" y="765"/>
                </a:lnTo>
                <a:lnTo>
                  <a:pt x="14" y="765"/>
                </a:lnTo>
                <a:lnTo>
                  <a:pt x="21" y="758"/>
                </a:lnTo>
                <a:lnTo>
                  <a:pt x="28" y="758"/>
                </a:lnTo>
                <a:lnTo>
                  <a:pt x="35" y="751"/>
                </a:lnTo>
                <a:lnTo>
                  <a:pt x="41" y="744"/>
                </a:lnTo>
                <a:lnTo>
                  <a:pt x="41" y="744"/>
                </a:lnTo>
                <a:lnTo>
                  <a:pt x="55" y="737"/>
                </a:lnTo>
                <a:lnTo>
                  <a:pt x="62" y="737"/>
                </a:lnTo>
                <a:lnTo>
                  <a:pt x="69" y="731"/>
                </a:lnTo>
                <a:lnTo>
                  <a:pt x="69" y="724"/>
                </a:lnTo>
                <a:lnTo>
                  <a:pt x="76" y="724"/>
                </a:lnTo>
                <a:lnTo>
                  <a:pt x="83" y="717"/>
                </a:lnTo>
                <a:lnTo>
                  <a:pt x="83" y="710"/>
                </a:lnTo>
                <a:lnTo>
                  <a:pt x="90" y="703"/>
                </a:lnTo>
                <a:lnTo>
                  <a:pt x="97" y="703"/>
                </a:lnTo>
                <a:lnTo>
                  <a:pt x="97" y="696"/>
                </a:lnTo>
                <a:lnTo>
                  <a:pt x="103" y="689"/>
                </a:lnTo>
                <a:lnTo>
                  <a:pt x="110" y="682"/>
                </a:lnTo>
                <a:lnTo>
                  <a:pt x="110" y="682"/>
                </a:lnTo>
                <a:lnTo>
                  <a:pt x="110" y="675"/>
                </a:lnTo>
                <a:lnTo>
                  <a:pt x="117" y="669"/>
                </a:lnTo>
                <a:lnTo>
                  <a:pt x="124" y="662"/>
                </a:lnTo>
                <a:lnTo>
                  <a:pt x="131" y="662"/>
                </a:lnTo>
                <a:lnTo>
                  <a:pt x="145" y="662"/>
                </a:lnTo>
                <a:lnTo>
                  <a:pt x="152" y="662"/>
                </a:lnTo>
                <a:lnTo>
                  <a:pt x="159" y="669"/>
                </a:lnTo>
                <a:lnTo>
                  <a:pt x="159" y="675"/>
                </a:lnTo>
                <a:lnTo>
                  <a:pt x="166" y="682"/>
                </a:lnTo>
                <a:lnTo>
                  <a:pt x="166" y="689"/>
                </a:lnTo>
                <a:lnTo>
                  <a:pt x="166" y="696"/>
                </a:lnTo>
                <a:lnTo>
                  <a:pt x="166" y="696"/>
                </a:lnTo>
                <a:lnTo>
                  <a:pt x="172" y="703"/>
                </a:lnTo>
                <a:lnTo>
                  <a:pt x="172" y="710"/>
                </a:lnTo>
                <a:lnTo>
                  <a:pt x="172" y="717"/>
                </a:lnTo>
                <a:lnTo>
                  <a:pt x="179" y="717"/>
                </a:lnTo>
                <a:lnTo>
                  <a:pt x="193" y="717"/>
                </a:lnTo>
                <a:lnTo>
                  <a:pt x="200" y="710"/>
                </a:lnTo>
                <a:lnTo>
                  <a:pt x="207" y="703"/>
                </a:lnTo>
                <a:lnTo>
                  <a:pt x="214" y="703"/>
                </a:lnTo>
                <a:lnTo>
                  <a:pt x="214" y="696"/>
                </a:lnTo>
                <a:lnTo>
                  <a:pt x="221" y="689"/>
                </a:lnTo>
                <a:lnTo>
                  <a:pt x="221" y="682"/>
                </a:lnTo>
                <a:lnTo>
                  <a:pt x="221" y="675"/>
                </a:lnTo>
                <a:lnTo>
                  <a:pt x="221" y="669"/>
                </a:lnTo>
                <a:lnTo>
                  <a:pt x="221" y="669"/>
                </a:lnTo>
                <a:lnTo>
                  <a:pt x="221" y="662"/>
                </a:lnTo>
                <a:lnTo>
                  <a:pt x="221" y="655"/>
                </a:lnTo>
                <a:lnTo>
                  <a:pt x="221" y="648"/>
                </a:lnTo>
                <a:lnTo>
                  <a:pt x="221" y="641"/>
                </a:lnTo>
                <a:lnTo>
                  <a:pt x="221" y="634"/>
                </a:lnTo>
                <a:lnTo>
                  <a:pt x="221" y="627"/>
                </a:lnTo>
                <a:lnTo>
                  <a:pt x="221" y="627"/>
                </a:lnTo>
                <a:lnTo>
                  <a:pt x="221" y="620"/>
                </a:lnTo>
                <a:lnTo>
                  <a:pt x="228" y="613"/>
                </a:lnTo>
                <a:lnTo>
                  <a:pt x="228" y="607"/>
                </a:lnTo>
                <a:lnTo>
                  <a:pt x="234" y="600"/>
                </a:lnTo>
                <a:lnTo>
                  <a:pt x="241" y="600"/>
                </a:lnTo>
                <a:lnTo>
                  <a:pt x="241" y="593"/>
                </a:lnTo>
                <a:lnTo>
                  <a:pt x="241" y="586"/>
                </a:lnTo>
                <a:lnTo>
                  <a:pt x="241" y="579"/>
                </a:lnTo>
                <a:lnTo>
                  <a:pt x="241" y="572"/>
                </a:lnTo>
                <a:lnTo>
                  <a:pt x="241" y="565"/>
                </a:lnTo>
                <a:lnTo>
                  <a:pt x="241" y="558"/>
                </a:lnTo>
                <a:lnTo>
                  <a:pt x="234" y="558"/>
                </a:lnTo>
                <a:lnTo>
                  <a:pt x="234" y="551"/>
                </a:lnTo>
                <a:lnTo>
                  <a:pt x="234" y="545"/>
                </a:lnTo>
                <a:lnTo>
                  <a:pt x="234" y="538"/>
                </a:lnTo>
                <a:lnTo>
                  <a:pt x="228" y="531"/>
                </a:lnTo>
                <a:lnTo>
                  <a:pt x="228" y="524"/>
                </a:lnTo>
                <a:lnTo>
                  <a:pt x="228" y="517"/>
                </a:lnTo>
                <a:lnTo>
                  <a:pt x="228" y="517"/>
                </a:lnTo>
                <a:lnTo>
                  <a:pt x="234" y="510"/>
                </a:lnTo>
                <a:lnTo>
                  <a:pt x="241" y="503"/>
                </a:lnTo>
                <a:lnTo>
                  <a:pt x="248" y="503"/>
                </a:lnTo>
                <a:lnTo>
                  <a:pt x="255" y="496"/>
                </a:lnTo>
                <a:lnTo>
                  <a:pt x="255" y="489"/>
                </a:lnTo>
                <a:lnTo>
                  <a:pt x="262" y="483"/>
                </a:lnTo>
                <a:lnTo>
                  <a:pt x="262" y="483"/>
                </a:lnTo>
                <a:lnTo>
                  <a:pt x="262" y="476"/>
                </a:lnTo>
                <a:lnTo>
                  <a:pt x="269" y="469"/>
                </a:lnTo>
                <a:lnTo>
                  <a:pt x="269" y="462"/>
                </a:lnTo>
                <a:lnTo>
                  <a:pt x="283" y="462"/>
                </a:lnTo>
                <a:lnTo>
                  <a:pt x="290" y="455"/>
                </a:lnTo>
                <a:lnTo>
                  <a:pt x="297" y="455"/>
                </a:lnTo>
                <a:lnTo>
                  <a:pt x="297" y="448"/>
                </a:lnTo>
                <a:lnTo>
                  <a:pt x="303" y="441"/>
                </a:lnTo>
                <a:lnTo>
                  <a:pt x="310" y="434"/>
                </a:lnTo>
                <a:lnTo>
                  <a:pt x="317" y="434"/>
                </a:lnTo>
                <a:lnTo>
                  <a:pt x="324" y="427"/>
                </a:lnTo>
                <a:lnTo>
                  <a:pt x="331" y="427"/>
                </a:lnTo>
                <a:lnTo>
                  <a:pt x="331" y="421"/>
                </a:lnTo>
                <a:lnTo>
                  <a:pt x="338" y="414"/>
                </a:lnTo>
                <a:lnTo>
                  <a:pt x="345" y="414"/>
                </a:lnTo>
                <a:lnTo>
                  <a:pt x="352" y="407"/>
                </a:lnTo>
                <a:lnTo>
                  <a:pt x="359" y="400"/>
                </a:lnTo>
                <a:lnTo>
                  <a:pt x="365" y="400"/>
                </a:lnTo>
                <a:lnTo>
                  <a:pt x="372" y="393"/>
                </a:lnTo>
                <a:lnTo>
                  <a:pt x="379" y="386"/>
                </a:lnTo>
                <a:lnTo>
                  <a:pt x="386" y="386"/>
                </a:lnTo>
                <a:lnTo>
                  <a:pt x="386" y="379"/>
                </a:lnTo>
                <a:lnTo>
                  <a:pt x="393" y="372"/>
                </a:lnTo>
                <a:lnTo>
                  <a:pt x="400" y="372"/>
                </a:lnTo>
                <a:lnTo>
                  <a:pt x="407" y="365"/>
                </a:lnTo>
                <a:lnTo>
                  <a:pt x="414" y="359"/>
                </a:lnTo>
                <a:lnTo>
                  <a:pt x="414" y="359"/>
                </a:lnTo>
                <a:lnTo>
                  <a:pt x="421" y="352"/>
                </a:lnTo>
                <a:lnTo>
                  <a:pt x="428" y="345"/>
                </a:lnTo>
                <a:lnTo>
                  <a:pt x="434" y="345"/>
                </a:lnTo>
                <a:lnTo>
                  <a:pt x="441" y="338"/>
                </a:lnTo>
                <a:lnTo>
                  <a:pt x="448" y="331"/>
                </a:lnTo>
                <a:lnTo>
                  <a:pt x="455" y="331"/>
                </a:lnTo>
                <a:lnTo>
                  <a:pt x="455" y="324"/>
                </a:lnTo>
                <a:lnTo>
                  <a:pt x="462" y="317"/>
                </a:lnTo>
                <a:lnTo>
                  <a:pt x="469" y="317"/>
                </a:lnTo>
                <a:lnTo>
                  <a:pt x="476" y="310"/>
                </a:lnTo>
                <a:lnTo>
                  <a:pt x="483" y="310"/>
                </a:lnTo>
                <a:lnTo>
                  <a:pt x="490" y="303"/>
                </a:lnTo>
                <a:lnTo>
                  <a:pt x="503" y="303"/>
                </a:lnTo>
                <a:lnTo>
                  <a:pt x="510" y="303"/>
                </a:lnTo>
                <a:lnTo>
                  <a:pt x="517" y="297"/>
                </a:lnTo>
                <a:lnTo>
                  <a:pt x="524" y="297"/>
                </a:lnTo>
                <a:lnTo>
                  <a:pt x="531" y="290"/>
                </a:lnTo>
                <a:lnTo>
                  <a:pt x="538" y="290"/>
                </a:lnTo>
                <a:lnTo>
                  <a:pt x="545" y="283"/>
                </a:lnTo>
                <a:lnTo>
                  <a:pt x="545" y="276"/>
                </a:lnTo>
                <a:lnTo>
                  <a:pt x="552" y="269"/>
                </a:lnTo>
                <a:lnTo>
                  <a:pt x="559" y="269"/>
                </a:lnTo>
                <a:lnTo>
                  <a:pt x="565" y="262"/>
                </a:lnTo>
                <a:lnTo>
                  <a:pt x="572" y="255"/>
                </a:lnTo>
                <a:lnTo>
                  <a:pt x="572" y="255"/>
                </a:lnTo>
                <a:lnTo>
                  <a:pt x="579" y="248"/>
                </a:lnTo>
                <a:lnTo>
                  <a:pt x="586" y="241"/>
                </a:lnTo>
                <a:lnTo>
                  <a:pt x="593" y="241"/>
                </a:lnTo>
                <a:lnTo>
                  <a:pt x="593" y="235"/>
                </a:lnTo>
                <a:lnTo>
                  <a:pt x="600" y="228"/>
                </a:lnTo>
                <a:lnTo>
                  <a:pt x="607" y="221"/>
                </a:lnTo>
                <a:lnTo>
                  <a:pt x="614" y="221"/>
                </a:lnTo>
                <a:lnTo>
                  <a:pt x="621" y="214"/>
                </a:lnTo>
                <a:lnTo>
                  <a:pt x="621" y="207"/>
                </a:lnTo>
                <a:lnTo>
                  <a:pt x="627" y="207"/>
                </a:lnTo>
                <a:lnTo>
                  <a:pt x="634" y="200"/>
                </a:lnTo>
                <a:lnTo>
                  <a:pt x="634" y="193"/>
                </a:lnTo>
                <a:lnTo>
                  <a:pt x="634" y="186"/>
                </a:lnTo>
                <a:lnTo>
                  <a:pt x="641" y="179"/>
                </a:lnTo>
                <a:lnTo>
                  <a:pt x="641" y="173"/>
                </a:lnTo>
                <a:lnTo>
                  <a:pt x="641" y="173"/>
                </a:lnTo>
                <a:lnTo>
                  <a:pt x="648" y="166"/>
                </a:lnTo>
                <a:lnTo>
                  <a:pt x="655" y="159"/>
                </a:lnTo>
                <a:lnTo>
                  <a:pt x="662" y="159"/>
                </a:lnTo>
                <a:lnTo>
                  <a:pt x="669" y="159"/>
                </a:lnTo>
                <a:lnTo>
                  <a:pt x="683" y="159"/>
                </a:lnTo>
                <a:lnTo>
                  <a:pt x="690" y="152"/>
                </a:lnTo>
                <a:lnTo>
                  <a:pt x="696" y="152"/>
                </a:lnTo>
                <a:lnTo>
                  <a:pt x="703" y="152"/>
                </a:lnTo>
                <a:lnTo>
                  <a:pt x="717" y="145"/>
                </a:lnTo>
                <a:lnTo>
                  <a:pt x="724" y="145"/>
                </a:lnTo>
                <a:lnTo>
                  <a:pt x="731" y="138"/>
                </a:lnTo>
                <a:lnTo>
                  <a:pt x="738" y="138"/>
                </a:lnTo>
                <a:lnTo>
                  <a:pt x="745" y="131"/>
                </a:lnTo>
                <a:lnTo>
                  <a:pt x="752" y="131"/>
                </a:lnTo>
                <a:lnTo>
                  <a:pt x="758" y="131"/>
                </a:lnTo>
                <a:lnTo>
                  <a:pt x="772" y="124"/>
                </a:lnTo>
                <a:lnTo>
                  <a:pt x="779" y="124"/>
                </a:lnTo>
                <a:lnTo>
                  <a:pt x="786" y="124"/>
                </a:lnTo>
                <a:lnTo>
                  <a:pt x="793" y="124"/>
                </a:lnTo>
                <a:lnTo>
                  <a:pt x="807" y="124"/>
                </a:lnTo>
                <a:lnTo>
                  <a:pt x="814" y="117"/>
                </a:lnTo>
                <a:lnTo>
                  <a:pt x="821" y="117"/>
                </a:lnTo>
                <a:lnTo>
                  <a:pt x="827" y="111"/>
                </a:lnTo>
                <a:lnTo>
                  <a:pt x="834" y="104"/>
                </a:lnTo>
                <a:lnTo>
                  <a:pt x="841" y="104"/>
                </a:lnTo>
                <a:lnTo>
                  <a:pt x="848" y="97"/>
                </a:lnTo>
                <a:lnTo>
                  <a:pt x="855" y="97"/>
                </a:lnTo>
                <a:lnTo>
                  <a:pt x="862" y="97"/>
                </a:lnTo>
                <a:lnTo>
                  <a:pt x="869" y="90"/>
                </a:lnTo>
                <a:lnTo>
                  <a:pt x="883" y="90"/>
                </a:lnTo>
                <a:lnTo>
                  <a:pt x="889" y="90"/>
                </a:lnTo>
                <a:lnTo>
                  <a:pt x="896" y="83"/>
                </a:lnTo>
                <a:lnTo>
                  <a:pt x="903" y="83"/>
                </a:lnTo>
                <a:lnTo>
                  <a:pt x="910" y="76"/>
                </a:lnTo>
                <a:lnTo>
                  <a:pt x="917" y="69"/>
                </a:lnTo>
                <a:lnTo>
                  <a:pt x="924" y="69"/>
                </a:lnTo>
                <a:lnTo>
                  <a:pt x="931" y="62"/>
                </a:lnTo>
                <a:lnTo>
                  <a:pt x="931" y="62"/>
                </a:lnTo>
                <a:lnTo>
                  <a:pt x="938" y="55"/>
                </a:lnTo>
                <a:lnTo>
                  <a:pt x="945" y="49"/>
                </a:lnTo>
                <a:lnTo>
                  <a:pt x="945" y="42"/>
                </a:lnTo>
                <a:lnTo>
                  <a:pt x="952" y="42"/>
                </a:lnTo>
                <a:lnTo>
                  <a:pt x="958" y="35"/>
                </a:lnTo>
                <a:lnTo>
                  <a:pt x="958" y="28"/>
                </a:lnTo>
                <a:lnTo>
                  <a:pt x="958" y="21"/>
                </a:lnTo>
                <a:lnTo>
                  <a:pt x="952" y="21"/>
                </a:lnTo>
                <a:lnTo>
                  <a:pt x="945" y="14"/>
                </a:lnTo>
                <a:lnTo>
                  <a:pt x="938" y="7"/>
                </a:lnTo>
                <a:lnTo>
                  <a:pt x="931" y="7"/>
                </a:lnTo>
                <a:lnTo>
                  <a:pt x="931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7" name=""/>
          <p:cNvSpPr/>
          <p:nvPr/>
        </p:nvSpPr>
        <p:spPr>
          <a:xfrm>
            <a:off x="2408400" y="3198960"/>
            <a:ext cx="480960" cy="480960"/>
          </a:xfrm>
          <a:custGeom>
            <a:avLst/>
            <a:gdLst/>
            <a:ahLst/>
            <a:rect l="l" t="t" r="r" b="b"/>
            <a:pathLst>
              <a:path w="303" h="303">
                <a:moveTo>
                  <a:pt x="303" y="0"/>
                </a:moveTo>
                <a:lnTo>
                  <a:pt x="303" y="0"/>
                </a:lnTo>
                <a:lnTo>
                  <a:pt x="297" y="6"/>
                </a:lnTo>
                <a:lnTo>
                  <a:pt x="290" y="13"/>
                </a:lnTo>
                <a:lnTo>
                  <a:pt x="290" y="20"/>
                </a:lnTo>
                <a:lnTo>
                  <a:pt x="290" y="20"/>
                </a:lnTo>
                <a:lnTo>
                  <a:pt x="283" y="27"/>
                </a:lnTo>
                <a:lnTo>
                  <a:pt x="283" y="34"/>
                </a:lnTo>
                <a:lnTo>
                  <a:pt x="276" y="34"/>
                </a:lnTo>
                <a:lnTo>
                  <a:pt x="269" y="41"/>
                </a:lnTo>
                <a:lnTo>
                  <a:pt x="269" y="48"/>
                </a:lnTo>
                <a:lnTo>
                  <a:pt x="262" y="55"/>
                </a:lnTo>
                <a:lnTo>
                  <a:pt x="255" y="55"/>
                </a:lnTo>
                <a:lnTo>
                  <a:pt x="255" y="62"/>
                </a:lnTo>
                <a:lnTo>
                  <a:pt x="248" y="68"/>
                </a:lnTo>
                <a:lnTo>
                  <a:pt x="241" y="68"/>
                </a:lnTo>
                <a:lnTo>
                  <a:pt x="241" y="75"/>
                </a:lnTo>
                <a:lnTo>
                  <a:pt x="235" y="82"/>
                </a:lnTo>
                <a:lnTo>
                  <a:pt x="235" y="89"/>
                </a:lnTo>
                <a:lnTo>
                  <a:pt x="228" y="89"/>
                </a:lnTo>
                <a:lnTo>
                  <a:pt x="221" y="96"/>
                </a:lnTo>
                <a:lnTo>
                  <a:pt x="221" y="103"/>
                </a:lnTo>
                <a:lnTo>
                  <a:pt x="214" y="110"/>
                </a:lnTo>
                <a:lnTo>
                  <a:pt x="214" y="110"/>
                </a:lnTo>
                <a:lnTo>
                  <a:pt x="207" y="117"/>
                </a:lnTo>
                <a:lnTo>
                  <a:pt x="200" y="124"/>
                </a:lnTo>
                <a:lnTo>
                  <a:pt x="200" y="124"/>
                </a:lnTo>
                <a:lnTo>
                  <a:pt x="193" y="130"/>
                </a:lnTo>
                <a:lnTo>
                  <a:pt x="193" y="137"/>
                </a:lnTo>
                <a:lnTo>
                  <a:pt x="186" y="144"/>
                </a:lnTo>
                <a:lnTo>
                  <a:pt x="179" y="144"/>
                </a:lnTo>
                <a:lnTo>
                  <a:pt x="179" y="151"/>
                </a:lnTo>
                <a:lnTo>
                  <a:pt x="172" y="158"/>
                </a:lnTo>
                <a:lnTo>
                  <a:pt x="172" y="165"/>
                </a:lnTo>
                <a:lnTo>
                  <a:pt x="166" y="165"/>
                </a:lnTo>
                <a:lnTo>
                  <a:pt x="159" y="172"/>
                </a:lnTo>
                <a:lnTo>
                  <a:pt x="159" y="179"/>
                </a:lnTo>
                <a:lnTo>
                  <a:pt x="152" y="179"/>
                </a:lnTo>
                <a:lnTo>
                  <a:pt x="145" y="186"/>
                </a:lnTo>
                <a:lnTo>
                  <a:pt x="138" y="186"/>
                </a:lnTo>
                <a:lnTo>
                  <a:pt x="138" y="192"/>
                </a:lnTo>
                <a:lnTo>
                  <a:pt x="131" y="199"/>
                </a:lnTo>
                <a:lnTo>
                  <a:pt x="131" y="206"/>
                </a:lnTo>
                <a:lnTo>
                  <a:pt x="131" y="213"/>
                </a:lnTo>
                <a:lnTo>
                  <a:pt x="131" y="220"/>
                </a:lnTo>
                <a:lnTo>
                  <a:pt x="131" y="227"/>
                </a:lnTo>
                <a:lnTo>
                  <a:pt x="131" y="227"/>
                </a:lnTo>
                <a:lnTo>
                  <a:pt x="131" y="234"/>
                </a:lnTo>
                <a:lnTo>
                  <a:pt x="124" y="241"/>
                </a:lnTo>
                <a:lnTo>
                  <a:pt x="117" y="241"/>
                </a:lnTo>
                <a:lnTo>
                  <a:pt x="110" y="248"/>
                </a:lnTo>
                <a:lnTo>
                  <a:pt x="110" y="254"/>
                </a:lnTo>
                <a:lnTo>
                  <a:pt x="110" y="261"/>
                </a:lnTo>
                <a:lnTo>
                  <a:pt x="110" y="268"/>
                </a:lnTo>
                <a:lnTo>
                  <a:pt x="110" y="268"/>
                </a:lnTo>
                <a:lnTo>
                  <a:pt x="110" y="275"/>
                </a:lnTo>
                <a:lnTo>
                  <a:pt x="110" y="282"/>
                </a:lnTo>
                <a:lnTo>
                  <a:pt x="104" y="289"/>
                </a:lnTo>
                <a:lnTo>
                  <a:pt x="104" y="296"/>
                </a:lnTo>
                <a:lnTo>
                  <a:pt x="97" y="303"/>
                </a:lnTo>
                <a:lnTo>
                  <a:pt x="90" y="303"/>
                </a:lnTo>
                <a:lnTo>
                  <a:pt x="90" y="296"/>
                </a:lnTo>
                <a:lnTo>
                  <a:pt x="83" y="296"/>
                </a:lnTo>
                <a:lnTo>
                  <a:pt x="76" y="289"/>
                </a:lnTo>
                <a:lnTo>
                  <a:pt x="76" y="282"/>
                </a:lnTo>
                <a:lnTo>
                  <a:pt x="69" y="275"/>
                </a:lnTo>
                <a:lnTo>
                  <a:pt x="62" y="275"/>
                </a:lnTo>
                <a:lnTo>
                  <a:pt x="55" y="268"/>
                </a:lnTo>
                <a:lnTo>
                  <a:pt x="48" y="268"/>
                </a:lnTo>
                <a:lnTo>
                  <a:pt x="41" y="268"/>
                </a:lnTo>
                <a:lnTo>
                  <a:pt x="28" y="268"/>
                </a:lnTo>
                <a:lnTo>
                  <a:pt x="21" y="268"/>
                </a:lnTo>
                <a:lnTo>
                  <a:pt x="14" y="268"/>
                </a:lnTo>
                <a:lnTo>
                  <a:pt x="7" y="268"/>
                </a:lnTo>
                <a:lnTo>
                  <a:pt x="0" y="261"/>
                </a:lnTo>
                <a:lnTo>
                  <a:pt x="0" y="261"/>
                </a:lnTo>
                <a:lnTo>
                  <a:pt x="0" y="254"/>
                </a:lnTo>
                <a:lnTo>
                  <a:pt x="0" y="248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8" name=""/>
          <p:cNvSpPr/>
          <p:nvPr/>
        </p:nvSpPr>
        <p:spPr>
          <a:xfrm>
            <a:off x="2276640" y="3657600"/>
            <a:ext cx="10800" cy="11160"/>
          </a:xfrm>
          <a:custGeom>
            <a:avLst/>
            <a:gdLst/>
            <a:ahLst/>
            <a:rect l="l" t="t" r="r" b="b"/>
            <a:pathLst>
              <a:path w="7" h="7">
                <a:moveTo>
                  <a:pt x="7" y="0"/>
                </a:moveTo>
                <a:lnTo>
                  <a:pt x="7" y="0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9" name=""/>
          <p:cNvSpPr/>
          <p:nvPr/>
        </p:nvSpPr>
        <p:spPr>
          <a:xfrm>
            <a:off x="2276640" y="3733920"/>
            <a:ext cx="657000" cy="218880"/>
          </a:xfrm>
          <a:custGeom>
            <a:avLst/>
            <a:gdLst/>
            <a:ahLst/>
            <a:rect l="l" t="t" r="r" b="b"/>
            <a:pathLst>
              <a:path w="414" h="138">
                <a:moveTo>
                  <a:pt x="0" y="35"/>
                </a:moveTo>
                <a:lnTo>
                  <a:pt x="7" y="28"/>
                </a:lnTo>
                <a:lnTo>
                  <a:pt x="7" y="28"/>
                </a:lnTo>
                <a:lnTo>
                  <a:pt x="14" y="21"/>
                </a:lnTo>
                <a:lnTo>
                  <a:pt x="21" y="14"/>
                </a:lnTo>
                <a:lnTo>
                  <a:pt x="21" y="7"/>
                </a:lnTo>
                <a:lnTo>
                  <a:pt x="28" y="0"/>
                </a:lnTo>
                <a:lnTo>
                  <a:pt x="35" y="7"/>
                </a:lnTo>
                <a:lnTo>
                  <a:pt x="42" y="7"/>
                </a:lnTo>
                <a:lnTo>
                  <a:pt x="49" y="14"/>
                </a:lnTo>
                <a:lnTo>
                  <a:pt x="49" y="21"/>
                </a:lnTo>
                <a:lnTo>
                  <a:pt x="56" y="28"/>
                </a:lnTo>
                <a:lnTo>
                  <a:pt x="56" y="35"/>
                </a:lnTo>
                <a:lnTo>
                  <a:pt x="56" y="41"/>
                </a:lnTo>
                <a:lnTo>
                  <a:pt x="56" y="41"/>
                </a:lnTo>
                <a:lnTo>
                  <a:pt x="62" y="41"/>
                </a:lnTo>
                <a:lnTo>
                  <a:pt x="69" y="41"/>
                </a:lnTo>
                <a:lnTo>
                  <a:pt x="83" y="41"/>
                </a:lnTo>
                <a:lnTo>
                  <a:pt x="90" y="35"/>
                </a:lnTo>
                <a:lnTo>
                  <a:pt x="104" y="35"/>
                </a:lnTo>
                <a:lnTo>
                  <a:pt x="111" y="35"/>
                </a:lnTo>
                <a:lnTo>
                  <a:pt x="118" y="35"/>
                </a:lnTo>
                <a:lnTo>
                  <a:pt x="124" y="41"/>
                </a:lnTo>
                <a:lnTo>
                  <a:pt x="124" y="48"/>
                </a:lnTo>
                <a:lnTo>
                  <a:pt x="124" y="55"/>
                </a:lnTo>
                <a:lnTo>
                  <a:pt x="124" y="62"/>
                </a:lnTo>
                <a:lnTo>
                  <a:pt x="124" y="62"/>
                </a:lnTo>
                <a:lnTo>
                  <a:pt x="118" y="69"/>
                </a:lnTo>
                <a:lnTo>
                  <a:pt x="111" y="69"/>
                </a:lnTo>
                <a:lnTo>
                  <a:pt x="104" y="69"/>
                </a:lnTo>
                <a:lnTo>
                  <a:pt x="97" y="69"/>
                </a:lnTo>
                <a:lnTo>
                  <a:pt x="83" y="69"/>
                </a:lnTo>
                <a:lnTo>
                  <a:pt x="69" y="76"/>
                </a:lnTo>
                <a:lnTo>
                  <a:pt x="62" y="76"/>
                </a:lnTo>
                <a:lnTo>
                  <a:pt x="62" y="76"/>
                </a:lnTo>
                <a:lnTo>
                  <a:pt x="62" y="83"/>
                </a:lnTo>
                <a:lnTo>
                  <a:pt x="76" y="83"/>
                </a:lnTo>
                <a:lnTo>
                  <a:pt x="83" y="83"/>
                </a:lnTo>
                <a:lnTo>
                  <a:pt x="97" y="83"/>
                </a:lnTo>
                <a:lnTo>
                  <a:pt x="104" y="83"/>
                </a:lnTo>
                <a:lnTo>
                  <a:pt x="111" y="83"/>
                </a:lnTo>
                <a:lnTo>
                  <a:pt x="124" y="83"/>
                </a:lnTo>
                <a:lnTo>
                  <a:pt x="131" y="90"/>
                </a:lnTo>
                <a:lnTo>
                  <a:pt x="138" y="90"/>
                </a:lnTo>
                <a:lnTo>
                  <a:pt x="145" y="97"/>
                </a:lnTo>
                <a:lnTo>
                  <a:pt x="152" y="97"/>
                </a:lnTo>
                <a:lnTo>
                  <a:pt x="159" y="90"/>
                </a:lnTo>
                <a:lnTo>
                  <a:pt x="166" y="83"/>
                </a:lnTo>
                <a:lnTo>
                  <a:pt x="173" y="76"/>
                </a:lnTo>
                <a:lnTo>
                  <a:pt x="173" y="76"/>
                </a:lnTo>
                <a:lnTo>
                  <a:pt x="180" y="69"/>
                </a:lnTo>
                <a:lnTo>
                  <a:pt x="180" y="62"/>
                </a:lnTo>
                <a:lnTo>
                  <a:pt x="180" y="55"/>
                </a:lnTo>
                <a:lnTo>
                  <a:pt x="180" y="48"/>
                </a:lnTo>
                <a:lnTo>
                  <a:pt x="187" y="48"/>
                </a:lnTo>
                <a:lnTo>
                  <a:pt x="193" y="41"/>
                </a:lnTo>
                <a:lnTo>
                  <a:pt x="200" y="41"/>
                </a:lnTo>
                <a:lnTo>
                  <a:pt x="207" y="41"/>
                </a:lnTo>
                <a:lnTo>
                  <a:pt x="221" y="41"/>
                </a:lnTo>
                <a:lnTo>
                  <a:pt x="228" y="48"/>
                </a:lnTo>
                <a:lnTo>
                  <a:pt x="235" y="48"/>
                </a:lnTo>
                <a:lnTo>
                  <a:pt x="249" y="48"/>
                </a:lnTo>
                <a:lnTo>
                  <a:pt x="255" y="41"/>
                </a:lnTo>
                <a:lnTo>
                  <a:pt x="262" y="41"/>
                </a:lnTo>
                <a:lnTo>
                  <a:pt x="269" y="48"/>
                </a:lnTo>
                <a:lnTo>
                  <a:pt x="269" y="55"/>
                </a:lnTo>
                <a:lnTo>
                  <a:pt x="269" y="62"/>
                </a:lnTo>
                <a:lnTo>
                  <a:pt x="269" y="69"/>
                </a:lnTo>
                <a:lnTo>
                  <a:pt x="269" y="76"/>
                </a:lnTo>
                <a:lnTo>
                  <a:pt x="269" y="76"/>
                </a:lnTo>
                <a:lnTo>
                  <a:pt x="269" y="83"/>
                </a:lnTo>
                <a:lnTo>
                  <a:pt x="269" y="90"/>
                </a:lnTo>
                <a:lnTo>
                  <a:pt x="262" y="97"/>
                </a:lnTo>
                <a:lnTo>
                  <a:pt x="262" y="103"/>
                </a:lnTo>
                <a:lnTo>
                  <a:pt x="262" y="110"/>
                </a:lnTo>
                <a:lnTo>
                  <a:pt x="262" y="110"/>
                </a:lnTo>
                <a:lnTo>
                  <a:pt x="269" y="117"/>
                </a:lnTo>
                <a:lnTo>
                  <a:pt x="276" y="124"/>
                </a:lnTo>
                <a:lnTo>
                  <a:pt x="283" y="124"/>
                </a:lnTo>
                <a:lnTo>
                  <a:pt x="290" y="124"/>
                </a:lnTo>
                <a:lnTo>
                  <a:pt x="304" y="131"/>
                </a:lnTo>
                <a:lnTo>
                  <a:pt x="311" y="131"/>
                </a:lnTo>
                <a:lnTo>
                  <a:pt x="318" y="131"/>
                </a:lnTo>
                <a:lnTo>
                  <a:pt x="324" y="131"/>
                </a:lnTo>
                <a:lnTo>
                  <a:pt x="338" y="131"/>
                </a:lnTo>
                <a:lnTo>
                  <a:pt x="345" y="131"/>
                </a:lnTo>
                <a:lnTo>
                  <a:pt x="352" y="124"/>
                </a:lnTo>
                <a:lnTo>
                  <a:pt x="359" y="124"/>
                </a:lnTo>
                <a:lnTo>
                  <a:pt x="366" y="117"/>
                </a:lnTo>
                <a:lnTo>
                  <a:pt x="380" y="117"/>
                </a:lnTo>
                <a:lnTo>
                  <a:pt x="386" y="117"/>
                </a:lnTo>
                <a:lnTo>
                  <a:pt x="386" y="117"/>
                </a:lnTo>
                <a:lnTo>
                  <a:pt x="393" y="124"/>
                </a:lnTo>
                <a:lnTo>
                  <a:pt x="400" y="131"/>
                </a:lnTo>
                <a:lnTo>
                  <a:pt x="407" y="131"/>
                </a:lnTo>
                <a:lnTo>
                  <a:pt x="414" y="138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0" name=""/>
          <p:cNvSpPr/>
          <p:nvPr/>
        </p:nvSpPr>
        <p:spPr>
          <a:xfrm>
            <a:off x="4619520" y="3548160"/>
            <a:ext cx="306360" cy="371520"/>
          </a:xfrm>
          <a:custGeom>
            <a:avLst/>
            <a:gdLst/>
            <a:ahLst/>
            <a:rect l="l" t="t" r="r" b="b"/>
            <a:pathLst>
              <a:path w="193" h="234">
                <a:moveTo>
                  <a:pt x="41" y="227"/>
                </a:moveTo>
                <a:lnTo>
                  <a:pt x="55" y="220"/>
                </a:lnTo>
                <a:lnTo>
                  <a:pt x="62" y="220"/>
                </a:lnTo>
                <a:lnTo>
                  <a:pt x="69" y="220"/>
                </a:lnTo>
                <a:lnTo>
                  <a:pt x="83" y="220"/>
                </a:lnTo>
                <a:lnTo>
                  <a:pt x="90" y="220"/>
                </a:lnTo>
                <a:lnTo>
                  <a:pt x="103" y="220"/>
                </a:lnTo>
                <a:lnTo>
                  <a:pt x="110" y="220"/>
                </a:lnTo>
                <a:lnTo>
                  <a:pt x="117" y="220"/>
                </a:lnTo>
                <a:lnTo>
                  <a:pt x="124" y="214"/>
                </a:lnTo>
                <a:lnTo>
                  <a:pt x="124" y="207"/>
                </a:lnTo>
                <a:lnTo>
                  <a:pt x="124" y="200"/>
                </a:lnTo>
                <a:lnTo>
                  <a:pt x="124" y="193"/>
                </a:lnTo>
                <a:lnTo>
                  <a:pt x="131" y="186"/>
                </a:lnTo>
                <a:lnTo>
                  <a:pt x="131" y="179"/>
                </a:lnTo>
                <a:lnTo>
                  <a:pt x="131" y="172"/>
                </a:lnTo>
                <a:lnTo>
                  <a:pt x="131" y="165"/>
                </a:lnTo>
                <a:lnTo>
                  <a:pt x="131" y="158"/>
                </a:lnTo>
                <a:lnTo>
                  <a:pt x="131" y="152"/>
                </a:lnTo>
                <a:lnTo>
                  <a:pt x="138" y="145"/>
                </a:lnTo>
                <a:lnTo>
                  <a:pt x="138" y="138"/>
                </a:lnTo>
                <a:lnTo>
                  <a:pt x="138" y="138"/>
                </a:lnTo>
                <a:lnTo>
                  <a:pt x="138" y="131"/>
                </a:lnTo>
                <a:lnTo>
                  <a:pt x="145" y="124"/>
                </a:lnTo>
                <a:lnTo>
                  <a:pt x="145" y="117"/>
                </a:lnTo>
                <a:lnTo>
                  <a:pt x="152" y="110"/>
                </a:lnTo>
                <a:lnTo>
                  <a:pt x="158" y="103"/>
                </a:lnTo>
                <a:lnTo>
                  <a:pt x="158" y="96"/>
                </a:lnTo>
                <a:lnTo>
                  <a:pt x="165" y="90"/>
                </a:lnTo>
                <a:lnTo>
                  <a:pt x="165" y="90"/>
                </a:lnTo>
                <a:lnTo>
                  <a:pt x="165" y="83"/>
                </a:lnTo>
                <a:lnTo>
                  <a:pt x="172" y="76"/>
                </a:lnTo>
                <a:lnTo>
                  <a:pt x="172" y="69"/>
                </a:lnTo>
                <a:lnTo>
                  <a:pt x="179" y="62"/>
                </a:lnTo>
                <a:lnTo>
                  <a:pt x="179" y="55"/>
                </a:lnTo>
                <a:lnTo>
                  <a:pt x="186" y="48"/>
                </a:lnTo>
                <a:lnTo>
                  <a:pt x="186" y="41"/>
                </a:lnTo>
                <a:lnTo>
                  <a:pt x="193" y="34"/>
                </a:lnTo>
                <a:lnTo>
                  <a:pt x="193" y="34"/>
                </a:lnTo>
                <a:lnTo>
                  <a:pt x="193" y="28"/>
                </a:lnTo>
                <a:lnTo>
                  <a:pt x="193" y="21"/>
                </a:lnTo>
                <a:lnTo>
                  <a:pt x="193" y="14"/>
                </a:lnTo>
                <a:lnTo>
                  <a:pt x="186" y="7"/>
                </a:lnTo>
                <a:lnTo>
                  <a:pt x="179" y="0"/>
                </a:lnTo>
                <a:lnTo>
                  <a:pt x="172" y="7"/>
                </a:lnTo>
                <a:lnTo>
                  <a:pt x="158" y="7"/>
                </a:lnTo>
                <a:lnTo>
                  <a:pt x="152" y="7"/>
                </a:lnTo>
                <a:lnTo>
                  <a:pt x="145" y="14"/>
                </a:lnTo>
                <a:lnTo>
                  <a:pt x="138" y="21"/>
                </a:lnTo>
                <a:lnTo>
                  <a:pt x="131" y="21"/>
                </a:lnTo>
                <a:lnTo>
                  <a:pt x="124" y="28"/>
                </a:lnTo>
                <a:lnTo>
                  <a:pt x="117" y="34"/>
                </a:lnTo>
                <a:lnTo>
                  <a:pt x="110" y="34"/>
                </a:lnTo>
                <a:lnTo>
                  <a:pt x="103" y="41"/>
                </a:lnTo>
                <a:lnTo>
                  <a:pt x="96" y="48"/>
                </a:lnTo>
                <a:lnTo>
                  <a:pt x="96" y="55"/>
                </a:lnTo>
                <a:lnTo>
                  <a:pt x="90" y="62"/>
                </a:lnTo>
                <a:lnTo>
                  <a:pt x="90" y="69"/>
                </a:lnTo>
                <a:lnTo>
                  <a:pt x="83" y="76"/>
                </a:lnTo>
                <a:lnTo>
                  <a:pt x="83" y="76"/>
                </a:lnTo>
                <a:lnTo>
                  <a:pt x="83" y="90"/>
                </a:lnTo>
                <a:lnTo>
                  <a:pt x="76" y="90"/>
                </a:lnTo>
                <a:lnTo>
                  <a:pt x="69" y="96"/>
                </a:lnTo>
                <a:lnTo>
                  <a:pt x="62" y="103"/>
                </a:lnTo>
                <a:lnTo>
                  <a:pt x="55" y="103"/>
                </a:lnTo>
                <a:lnTo>
                  <a:pt x="41" y="103"/>
                </a:lnTo>
                <a:lnTo>
                  <a:pt x="34" y="103"/>
                </a:lnTo>
                <a:lnTo>
                  <a:pt x="27" y="110"/>
                </a:lnTo>
                <a:lnTo>
                  <a:pt x="21" y="110"/>
                </a:lnTo>
                <a:lnTo>
                  <a:pt x="21" y="117"/>
                </a:lnTo>
                <a:lnTo>
                  <a:pt x="21" y="124"/>
                </a:lnTo>
                <a:lnTo>
                  <a:pt x="14" y="131"/>
                </a:lnTo>
                <a:lnTo>
                  <a:pt x="14" y="138"/>
                </a:lnTo>
                <a:lnTo>
                  <a:pt x="14" y="145"/>
                </a:lnTo>
                <a:lnTo>
                  <a:pt x="14" y="152"/>
                </a:lnTo>
                <a:lnTo>
                  <a:pt x="14" y="158"/>
                </a:lnTo>
                <a:lnTo>
                  <a:pt x="14" y="165"/>
                </a:lnTo>
                <a:lnTo>
                  <a:pt x="14" y="172"/>
                </a:lnTo>
                <a:lnTo>
                  <a:pt x="14" y="179"/>
                </a:lnTo>
                <a:lnTo>
                  <a:pt x="14" y="186"/>
                </a:lnTo>
                <a:lnTo>
                  <a:pt x="14" y="193"/>
                </a:lnTo>
                <a:lnTo>
                  <a:pt x="14" y="193"/>
                </a:lnTo>
                <a:lnTo>
                  <a:pt x="7" y="200"/>
                </a:lnTo>
                <a:lnTo>
                  <a:pt x="7" y="207"/>
                </a:lnTo>
                <a:lnTo>
                  <a:pt x="0" y="214"/>
                </a:lnTo>
                <a:lnTo>
                  <a:pt x="0" y="220"/>
                </a:lnTo>
                <a:lnTo>
                  <a:pt x="0" y="227"/>
                </a:lnTo>
                <a:lnTo>
                  <a:pt x="0" y="234"/>
                </a:lnTo>
                <a:lnTo>
                  <a:pt x="7" y="234"/>
                </a:lnTo>
                <a:lnTo>
                  <a:pt x="14" y="234"/>
                </a:lnTo>
                <a:lnTo>
                  <a:pt x="27" y="227"/>
                </a:lnTo>
                <a:lnTo>
                  <a:pt x="34" y="227"/>
                </a:lnTo>
                <a:lnTo>
                  <a:pt x="41" y="227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1" name=""/>
          <p:cNvSpPr/>
          <p:nvPr/>
        </p:nvSpPr>
        <p:spPr>
          <a:xfrm>
            <a:off x="4148280" y="3711600"/>
            <a:ext cx="1440" cy="66600"/>
          </a:xfrm>
          <a:custGeom>
            <a:avLst/>
            <a:gdLst/>
            <a:ahLst/>
            <a:rect l="l" t="t" r="r" b="b"/>
            <a:pathLst>
              <a:path w="0" h="42">
                <a:moveTo>
                  <a:pt x="0" y="35"/>
                </a:moveTo>
                <a:lnTo>
                  <a:pt x="0" y="28"/>
                </a:lnTo>
                <a:lnTo>
                  <a:pt x="0" y="28"/>
                </a:lnTo>
                <a:lnTo>
                  <a:pt x="0" y="21"/>
                </a:lnTo>
                <a:lnTo>
                  <a:pt x="0" y="14"/>
                </a:lnTo>
                <a:lnTo>
                  <a:pt x="0" y="14"/>
                </a:lnTo>
                <a:lnTo>
                  <a:pt x="0" y="7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7"/>
                </a:lnTo>
                <a:lnTo>
                  <a:pt x="0" y="14"/>
                </a:lnTo>
                <a:lnTo>
                  <a:pt x="0" y="14"/>
                </a:lnTo>
                <a:lnTo>
                  <a:pt x="0" y="21"/>
                </a:lnTo>
                <a:lnTo>
                  <a:pt x="0" y="21"/>
                </a:lnTo>
                <a:lnTo>
                  <a:pt x="0" y="28"/>
                </a:lnTo>
                <a:lnTo>
                  <a:pt x="0" y="35"/>
                </a:lnTo>
                <a:lnTo>
                  <a:pt x="0" y="35"/>
                </a:lnTo>
                <a:lnTo>
                  <a:pt x="0" y="42"/>
                </a:lnTo>
                <a:lnTo>
                  <a:pt x="0" y="42"/>
                </a:lnTo>
                <a:lnTo>
                  <a:pt x="0" y="35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2" name=""/>
          <p:cNvSpPr/>
          <p:nvPr/>
        </p:nvSpPr>
        <p:spPr>
          <a:xfrm>
            <a:off x="4159080" y="3635280"/>
            <a:ext cx="44640" cy="44640"/>
          </a:xfrm>
          <a:custGeom>
            <a:avLst/>
            <a:gdLst/>
            <a:ahLst/>
            <a:rect l="l" t="t" r="r" b="b"/>
            <a:pathLst>
              <a:path w="28" h="28">
                <a:moveTo>
                  <a:pt x="28" y="21"/>
                </a:moveTo>
                <a:lnTo>
                  <a:pt x="28" y="14"/>
                </a:lnTo>
                <a:lnTo>
                  <a:pt x="28" y="7"/>
                </a:lnTo>
                <a:lnTo>
                  <a:pt x="28" y="0"/>
                </a:lnTo>
                <a:lnTo>
                  <a:pt x="28" y="0"/>
                </a:lnTo>
                <a:lnTo>
                  <a:pt x="21" y="0"/>
                </a:lnTo>
                <a:lnTo>
                  <a:pt x="14" y="0"/>
                </a:lnTo>
                <a:lnTo>
                  <a:pt x="7" y="7"/>
                </a:lnTo>
                <a:lnTo>
                  <a:pt x="0" y="14"/>
                </a:lnTo>
                <a:lnTo>
                  <a:pt x="0" y="21"/>
                </a:lnTo>
                <a:lnTo>
                  <a:pt x="7" y="28"/>
                </a:lnTo>
                <a:lnTo>
                  <a:pt x="14" y="28"/>
                </a:lnTo>
                <a:lnTo>
                  <a:pt x="21" y="28"/>
                </a:lnTo>
                <a:lnTo>
                  <a:pt x="28" y="28"/>
                </a:lnTo>
                <a:lnTo>
                  <a:pt x="28" y="21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3" name=""/>
          <p:cNvSpPr/>
          <p:nvPr/>
        </p:nvSpPr>
        <p:spPr>
          <a:xfrm>
            <a:off x="3436920" y="3570120"/>
            <a:ext cx="11160" cy="11160"/>
          </a:xfrm>
          <a:custGeom>
            <a:avLst/>
            <a:gdLst/>
            <a:ahLst/>
            <a:rect l="l" t="t" r="r" b="b"/>
            <a:pathLst>
              <a:path w="7" h="7">
                <a:moveTo>
                  <a:pt x="7" y="0"/>
                </a:move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4" name=""/>
          <p:cNvSpPr/>
          <p:nvPr/>
        </p:nvSpPr>
        <p:spPr>
          <a:xfrm>
            <a:off x="3765600" y="3537000"/>
            <a:ext cx="55440" cy="55440"/>
          </a:xfrm>
          <a:custGeom>
            <a:avLst/>
            <a:gdLst/>
            <a:ahLst/>
            <a:rect l="l" t="t" r="r" b="b"/>
            <a:pathLst>
              <a:path w="35" h="35">
                <a:moveTo>
                  <a:pt x="35" y="21"/>
                </a:moveTo>
                <a:lnTo>
                  <a:pt x="35" y="21"/>
                </a:lnTo>
                <a:lnTo>
                  <a:pt x="35" y="14"/>
                </a:lnTo>
                <a:lnTo>
                  <a:pt x="28" y="7"/>
                </a:lnTo>
                <a:lnTo>
                  <a:pt x="21" y="7"/>
                </a:lnTo>
                <a:lnTo>
                  <a:pt x="14" y="0"/>
                </a:lnTo>
                <a:lnTo>
                  <a:pt x="14" y="0"/>
                </a:lnTo>
                <a:lnTo>
                  <a:pt x="7" y="0"/>
                </a:lnTo>
                <a:lnTo>
                  <a:pt x="7" y="0"/>
                </a:lnTo>
                <a:lnTo>
                  <a:pt x="0" y="7"/>
                </a:lnTo>
                <a:lnTo>
                  <a:pt x="0" y="7"/>
                </a:lnTo>
                <a:lnTo>
                  <a:pt x="0" y="14"/>
                </a:lnTo>
                <a:lnTo>
                  <a:pt x="7" y="21"/>
                </a:lnTo>
                <a:lnTo>
                  <a:pt x="7" y="28"/>
                </a:lnTo>
                <a:lnTo>
                  <a:pt x="7" y="28"/>
                </a:lnTo>
                <a:lnTo>
                  <a:pt x="7" y="35"/>
                </a:lnTo>
                <a:lnTo>
                  <a:pt x="14" y="35"/>
                </a:lnTo>
                <a:lnTo>
                  <a:pt x="28" y="35"/>
                </a:lnTo>
                <a:lnTo>
                  <a:pt x="35" y="35"/>
                </a:lnTo>
                <a:lnTo>
                  <a:pt x="35" y="28"/>
                </a:lnTo>
                <a:lnTo>
                  <a:pt x="35" y="21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5" name=""/>
          <p:cNvSpPr/>
          <p:nvPr/>
        </p:nvSpPr>
        <p:spPr>
          <a:xfrm>
            <a:off x="4246560" y="3570120"/>
            <a:ext cx="1440" cy="180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6" name=""/>
          <p:cNvSpPr/>
          <p:nvPr/>
        </p:nvSpPr>
        <p:spPr>
          <a:xfrm>
            <a:off x="2484360" y="3483000"/>
            <a:ext cx="55800" cy="20520"/>
          </a:xfrm>
          <a:custGeom>
            <a:avLst/>
            <a:gdLst/>
            <a:ahLst/>
            <a:rect l="l" t="t" r="r" b="b"/>
            <a:pathLst>
              <a:path w="35" h="13">
                <a:moveTo>
                  <a:pt x="0" y="13"/>
                </a:moveTo>
                <a:lnTo>
                  <a:pt x="7" y="13"/>
                </a:lnTo>
                <a:lnTo>
                  <a:pt x="14" y="13"/>
                </a:lnTo>
                <a:lnTo>
                  <a:pt x="14" y="13"/>
                </a:lnTo>
                <a:lnTo>
                  <a:pt x="21" y="13"/>
                </a:lnTo>
                <a:lnTo>
                  <a:pt x="28" y="13"/>
                </a:lnTo>
                <a:lnTo>
                  <a:pt x="28" y="7"/>
                </a:lnTo>
                <a:lnTo>
                  <a:pt x="28" y="7"/>
                </a:lnTo>
                <a:lnTo>
                  <a:pt x="35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7" name=""/>
          <p:cNvSpPr/>
          <p:nvPr/>
        </p:nvSpPr>
        <p:spPr>
          <a:xfrm>
            <a:off x="3591000" y="3373560"/>
            <a:ext cx="196920" cy="152280"/>
          </a:xfrm>
          <a:custGeom>
            <a:avLst/>
            <a:gdLst/>
            <a:ahLst/>
            <a:rect l="l" t="t" r="r" b="b"/>
            <a:pathLst>
              <a:path w="124" h="96">
                <a:moveTo>
                  <a:pt x="124" y="69"/>
                </a:moveTo>
                <a:lnTo>
                  <a:pt x="117" y="62"/>
                </a:lnTo>
                <a:lnTo>
                  <a:pt x="117" y="55"/>
                </a:lnTo>
                <a:lnTo>
                  <a:pt x="110" y="48"/>
                </a:lnTo>
                <a:lnTo>
                  <a:pt x="110" y="48"/>
                </a:lnTo>
                <a:lnTo>
                  <a:pt x="103" y="41"/>
                </a:lnTo>
                <a:lnTo>
                  <a:pt x="103" y="34"/>
                </a:lnTo>
                <a:lnTo>
                  <a:pt x="103" y="27"/>
                </a:lnTo>
                <a:lnTo>
                  <a:pt x="110" y="20"/>
                </a:lnTo>
                <a:lnTo>
                  <a:pt x="110" y="14"/>
                </a:lnTo>
                <a:lnTo>
                  <a:pt x="110" y="7"/>
                </a:lnTo>
                <a:lnTo>
                  <a:pt x="103" y="7"/>
                </a:lnTo>
                <a:lnTo>
                  <a:pt x="96" y="0"/>
                </a:lnTo>
                <a:lnTo>
                  <a:pt x="89" y="0"/>
                </a:lnTo>
                <a:lnTo>
                  <a:pt x="76" y="0"/>
                </a:lnTo>
                <a:lnTo>
                  <a:pt x="69" y="0"/>
                </a:lnTo>
                <a:lnTo>
                  <a:pt x="62" y="7"/>
                </a:lnTo>
                <a:lnTo>
                  <a:pt x="55" y="7"/>
                </a:lnTo>
                <a:lnTo>
                  <a:pt x="48" y="14"/>
                </a:lnTo>
                <a:lnTo>
                  <a:pt x="41" y="20"/>
                </a:lnTo>
                <a:lnTo>
                  <a:pt x="41" y="27"/>
                </a:lnTo>
                <a:lnTo>
                  <a:pt x="34" y="27"/>
                </a:lnTo>
                <a:lnTo>
                  <a:pt x="27" y="34"/>
                </a:lnTo>
                <a:lnTo>
                  <a:pt x="20" y="41"/>
                </a:lnTo>
                <a:lnTo>
                  <a:pt x="20" y="41"/>
                </a:lnTo>
                <a:lnTo>
                  <a:pt x="14" y="48"/>
                </a:lnTo>
                <a:lnTo>
                  <a:pt x="14" y="55"/>
                </a:lnTo>
                <a:lnTo>
                  <a:pt x="7" y="62"/>
                </a:lnTo>
                <a:lnTo>
                  <a:pt x="0" y="69"/>
                </a:lnTo>
                <a:lnTo>
                  <a:pt x="0" y="69"/>
                </a:lnTo>
                <a:lnTo>
                  <a:pt x="7" y="76"/>
                </a:lnTo>
                <a:lnTo>
                  <a:pt x="14" y="82"/>
                </a:lnTo>
                <a:lnTo>
                  <a:pt x="20" y="82"/>
                </a:lnTo>
                <a:lnTo>
                  <a:pt x="27" y="89"/>
                </a:lnTo>
                <a:lnTo>
                  <a:pt x="34" y="89"/>
                </a:lnTo>
                <a:lnTo>
                  <a:pt x="41" y="82"/>
                </a:lnTo>
                <a:lnTo>
                  <a:pt x="48" y="82"/>
                </a:lnTo>
                <a:lnTo>
                  <a:pt x="62" y="76"/>
                </a:lnTo>
                <a:lnTo>
                  <a:pt x="69" y="76"/>
                </a:lnTo>
                <a:lnTo>
                  <a:pt x="76" y="69"/>
                </a:lnTo>
                <a:lnTo>
                  <a:pt x="82" y="69"/>
                </a:lnTo>
                <a:lnTo>
                  <a:pt x="96" y="76"/>
                </a:lnTo>
                <a:lnTo>
                  <a:pt x="103" y="76"/>
                </a:lnTo>
                <a:lnTo>
                  <a:pt x="103" y="82"/>
                </a:lnTo>
                <a:lnTo>
                  <a:pt x="110" y="89"/>
                </a:lnTo>
                <a:lnTo>
                  <a:pt x="117" y="96"/>
                </a:lnTo>
                <a:lnTo>
                  <a:pt x="117" y="96"/>
                </a:lnTo>
                <a:lnTo>
                  <a:pt x="117" y="89"/>
                </a:lnTo>
                <a:lnTo>
                  <a:pt x="117" y="89"/>
                </a:lnTo>
                <a:lnTo>
                  <a:pt x="124" y="76"/>
                </a:lnTo>
                <a:lnTo>
                  <a:pt x="124" y="69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8" name=""/>
          <p:cNvSpPr/>
          <p:nvPr/>
        </p:nvSpPr>
        <p:spPr>
          <a:xfrm flipV="1">
            <a:off x="2562120" y="3438360"/>
            <a:ext cx="1800" cy="22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9" name=""/>
          <p:cNvSpPr/>
          <p:nvPr/>
        </p:nvSpPr>
        <p:spPr>
          <a:xfrm>
            <a:off x="5867280" y="3427560"/>
            <a:ext cx="22320" cy="33120"/>
          </a:xfrm>
          <a:custGeom>
            <a:avLst/>
            <a:gdLst/>
            <a:ahLst/>
            <a:rect l="l" t="t" r="r" b="b"/>
            <a:pathLst>
              <a:path w="14" h="21">
                <a:moveTo>
                  <a:pt x="14" y="7"/>
                </a:moveTo>
                <a:lnTo>
                  <a:pt x="14" y="0"/>
                </a:lnTo>
                <a:lnTo>
                  <a:pt x="7" y="0"/>
                </a:lnTo>
                <a:lnTo>
                  <a:pt x="0" y="0"/>
                </a:lnTo>
                <a:lnTo>
                  <a:pt x="0" y="7"/>
                </a:lnTo>
                <a:lnTo>
                  <a:pt x="0" y="7"/>
                </a:lnTo>
                <a:lnTo>
                  <a:pt x="0" y="14"/>
                </a:lnTo>
                <a:lnTo>
                  <a:pt x="0" y="21"/>
                </a:lnTo>
                <a:lnTo>
                  <a:pt x="7" y="21"/>
                </a:lnTo>
                <a:lnTo>
                  <a:pt x="14" y="21"/>
                </a:lnTo>
                <a:lnTo>
                  <a:pt x="14" y="21"/>
                </a:lnTo>
                <a:lnTo>
                  <a:pt x="14" y="21"/>
                </a:lnTo>
                <a:lnTo>
                  <a:pt x="14" y="14"/>
                </a:lnTo>
                <a:lnTo>
                  <a:pt x="14" y="14"/>
                </a:lnTo>
                <a:lnTo>
                  <a:pt x="14" y="7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0" name=""/>
          <p:cNvSpPr/>
          <p:nvPr/>
        </p:nvSpPr>
        <p:spPr>
          <a:xfrm flipV="1">
            <a:off x="2604960" y="3384720"/>
            <a:ext cx="1800" cy="10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1" name=""/>
          <p:cNvSpPr/>
          <p:nvPr/>
        </p:nvSpPr>
        <p:spPr>
          <a:xfrm flipV="1">
            <a:off x="2649600" y="3339720"/>
            <a:ext cx="22320" cy="11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2" name=""/>
          <p:cNvSpPr/>
          <p:nvPr/>
        </p:nvSpPr>
        <p:spPr>
          <a:xfrm flipV="1">
            <a:off x="2692440" y="3296880"/>
            <a:ext cx="44280" cy="20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3" name=""/>
          <p:cNvSpPr/>
          <p:nvPr/>
        </p:nvSpPr>
        <p:spPr>
          <a:xfrm>
            <a:off x="2747880" y="3241800"/>
            <a:ext cx="76320" cy="44280"/>
          </a:xfrm>
          <a:custGeom>
            <a:avLst/>
            <a:gdLst/>
            <a:ahLst/>
            <a:rect l="l" t="t" r="r" b="b"/>
            <a:pathLst>
              <a:path w="48" h="28">
                <a:moveTo>
                  <a:pt x="0" y="28"/>
                </a:moveTo>
                <a:lnTo>
                  <a:pt x="7" y="28"/>
                </a:lnTo>
                <a:lnTo>
                  <a:pt x="14" y="28"/>
                </a:lnTo>
                <a:lnTo>
                  <a:pt x="27" y="21"/>
                </a:lnTo>
                <a:lnTo>
                  <a:pt x="27" y="21"/>
                </a:lnTo>
                <a:lnTo>
                  <a:pt x="34" y="14"/>
                </a:lnTo>
                <a:lnTo>
                  <a:pt x="41" y="14"/>
                </a:lnTo>
                <a:lnTo>
                  <a:pt x="48" y="7"/>
                </a:lnTo>
                <a:lnTo>
                  <a:pt x="48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4" name=""/>
          <p:cNvSpPr/>
          <p:nvPr/>
        </p:nvSpPr>
        <p:spPr>
          <a:xfrm flipV="1">
            <a:off x="2835360" y="3198600"/>
            <a:ext cx="4428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5" name=""/>
          <p:cNvSpPr/>
          <p:nvPr/>
        </p:nvSpPr>
        <p:spPr>
          <a:xfrm>
            <a:off x="5353200" y="2727360"/>
            <a:ext cx="10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6" name=""/>
          <p:cNvSpPr/>
          <p:nvPr/>
        </p:nvSpPr>
        <p:spPr>
          <a:xfrm>
            <a:off x="5364000" y="2727360"/>
            <a:ext cx="1149480" cy="480960"/>
          </a:xfrm>
          <a:custGeom>
            <a:avLst/>
            <a:gdLst/>
            <a:ahLst/>
            <a:rect l="l" t="t" r="r" b="b"/>
            <a:pathLst>
              <a:path w="724" h="303">
                <a:moveTo>
                  <a:pt x="0" y="0"/>
                </a:moveTo>
                <a:lnTo>
                  <a:pt x="7" y="7"/>
                </a:lnTo>
                <a:lnTo>
                  <a:pt x="20" y="7"/>
                </a:lnTo>
                <a:lnTo>
                  <a:pt x="27" y="7"/>
                </a:lnTo>
                <a:lnTo>
                  <a:pt x="34" y="7"/>
                </a:lnTo>
                <a:lnTo>
                  <a:pt x="48" y="7"/>
                </a:lnTo>
                <a:lnTo>
                  <a:pt x="55" y="14"/>
                </a:lnTo>
                <a:lnTo>
                  <a:pt x="62" y="14"/>
                </a:lnTo>
                <a:lnTo>
                  <a:pt x="69" y="21"/>
                </a:lnTo>
                <a:lnTo>
                  <a:pt x="82" y="21"/>
                </a:lnTo>
                <a:lnTo>
                  <a:pt x="89" y="28"/>
                </a:lnTo>
                <a:lnTo>
                  <a:pt x="96" y="28"/>
                </a:lnTo>
                <a:lnTo>
                  <a:pt x="103" y="28"/>
                </a:lnTo>
                <a:lnTo>
                  <a:pt x="110" y="35"/>
                </a:lnTo>
                <a:lnTo>
                  <a:pt x="124" y="35"/>
                </a:lnTo>
                <a:lnTo>
                  <a:pt x="131" y="42"/>
                </a:lnTo>
                <a:lnTo>
                  <a:pt x="138" y="42"/>
                </a:lnTo>
                <a:lnTo>
                  <a:pt x="151" y="42"/>
                </a:lnTo>
                <a:lnTo>
                  <a:pt x="158" y="49"/>
                </a:lnTo>
                <a:lnTo>
                  <a:pt x="165" y="49"/>
                </a:lnTo>
                <a:lnTo>
                  <a:pt x="179" y="49"/>
                </a:lnTo>
                <a:lnTo>
                  <a:pt x="186" y="55"/>
                </a:lnTo>
                <a:lnTo>
                  <a:pt x="193" y="55"/>
                </a:lnTo>
                <a:lnTo>
                  <a:pt x="200" y="55"/>
                </a:lnTo>
                <a:lnTo>
                  <a:pt x="213" y="62"/>
                </a:lnTo>
                <a:lnTo>
                  <a:pt x="220" y="62"/>
                </a:lnTo>
                <a:lnTo>
                  <a:pt x="227" y="62"/>
                </a:lnTo>
                <a:lnTo>
                  <a:pt x="241" y="69"/>
                </a:lnTo>
                <a:lnTo>
                  <a:pt x="248" y="69"/>
                </a:lnTo>
                <a:lnTo>
                  <a:pt x="255" y="69"/>
                </a:lnTo>
                <a:lnTo>
                  <a:pt x="262" y="76"/>
                </a:lnTo>
                <a:lnTo>
                  <a:pt x="276" y="76"/>
                </a:lnTo>
                <a:lnTo>
                  <a:pt x="282" y="76"/>
                </a:lnTo>
                <a:lnTo>
                  <a:pt x="289" y="83"/>
                </a:lnTo>
                <a:lnTo>
                  <a:pt x="303" y="83"/>
                </a:lnTo>
                <a:lnTo>
                  <a:pt x="310" y="90"/>
                </a:lnTo>
                <a:lnTo>
                  <a:pt x="317" y="90"/>
                </a:lnTo>
                <a:lnTo>
                  <a:pt x="324" y="90"/>
                </a:lnTo>
                <a:lnTo>
                  <a:pt x="338" y="97"/>
                </a:lnTo>
                <a:lnTo>
                  <a:pt x="344" y="97"/>
                </a:lnTo>
                <a:lnTo>
                  <a:pt x="351" y="97"/>
                </a:lnTo>
                <a:lnTo>
                  <a:pt x="365" y="104"/>
                </a:lnTo>
                <a:lnTo>
                  <a:pt x="372" y="104"/>
                </a:lnTo>
                <a:lnTo>
                  <a:pt x="379" y="104"/>
                </a:lnTo>
                <a:lnTo>
                  <a:pt x="393" y="111"/>
                </a:lnTo>
                <a:lnTo>
                  <a:pt x="400" y="111"/>
                </a:lnTo>
                <a:lnTo>
                  <a:pt x="407" y="111"/>
                </a:lnTo>
                <a:lnTo>
                  <a:pt x="413" y="117"/>
                </a:lnTo>
                <a:lnTo>
                  <a:pt x="427" y="117"/>
                </a:lnTo>
                <a:lnTo>
                  <a:pt x="434" y="124"/>
                </a:lnTo>
                <a:lnTo>
                  <a:pt x="441" y="124"/>
                </a:lnTo>
                <a:lnTo>
                  <a:pt x="448" y="124"/>
                </a:lnTo>
                <a:lnTo>
                  <a:pt x="462" y="131"/>
                </a:lnTo>
                <a:lnTo>
                  <a:pt x="469" y="131"/>
                </a:lnTo>
                <a:lnTo>
                  <a:pt x="475" y="131"/>
                </a:lnTo>
                <a:lnTo>
                  <a:pt x="489" y="138"/>
                </a:lnTo>
                <a:lnTo>
                  <a:pt x="496" y="138"/>
                </a:lnTo>
                <a:lnTo>
                  <a:pt x="503" y="145"/>
                </a:lnTo>
                <a:lnTo>
                  <a:pt x="510" y="145"/>
                </a:lnTo>
                <a:lnTo>
                  <a:pt x="517" y="152"/>
                </a:lnTo>
                <a:lnTo>
                  <a:pt x="517" y="159"/>
                </a:lnTo>
                <a:lnTo>
                  <a:pt x="524" y="166"/>
                </a:lnTo>
                <a:lnTo>
                  <a:pt x="531" y="166"/>
                </a:lnTo>
                <a:lnTo>
                  <a:pt x="538" y="173"/>
                </a:lnTo>
                <a:lnTo>
                  <a:pt x="551" y="173"/>
                </a:lnTo>
                <a:lnTo>
                  <a:pt x="558" y="179"/>
                </a:lnTo>
                <a:lnTo>
                  <a:pt x="558" y="186"/>
                </a:lnTo>
                <a:lnTo>
                  <a:pt x="565" y="186"/>
                </a:lnTo>
                <a:lnTo>
                  <a:pt x="572" y="193"/>
                </a:lnTo>
                <a:lnTo>
                  <a:pt x="579" y="200"/>
                </a:lnTo>
                <a:lnTo>
                  <a:pt x="586" y="200"/>
                </a:lnTo>
                <a:lnTo>
                  <a:pt x="593" y="207"/>
                </a:lnTo>
                <a:lnTo>
                  <a:pt x="600" y="207"/>
                </a:lnTo>
                <a:lnTo>
                  <a:pt x="606" y="214"/>
                </a:lnTo>
                <a:lnTo>
                  <a:pt x="613" y="221"/>
                </a:lnTo>
                <a:lnTo>
                  <a:pt x="613" y="228"/>
                </a:lnTo>
                <a:lnTo>
                  <a:pt x="620" y="235"/>
                </a:lnTo>
                <a:lnTo>
                  <a:pt x="627" y="235"/>
                </a:lnTo>
                <a:lnTo>
                  <a:pt x="634" y="235"/>
                </a:lnTo>
                <a:lnTo>
                  <a:pt x="641" y="241"/>
                </a:lnTo>
                <a:lnTo>
                  <a:pt x="655" y="241"/>
                </a:lnTo>
                <a:lnTo>
                  <a:pt x="655" y="248"/>
                </a:lnTo>
                <a:lnTo>
                  <a:pt x="662" y="255"/>
                </a:lnTo>
                <a:lnTo>
                  <a:pt x="669" y="262"/>
                </a:lnTo>
                <a:lnTo>
                  <a:pt x="675" y="262"/>
                </a:lnTo>
                <a:lnTo>
                  <a:pt x="675" y="269"/>
                </a:lnTo>
                <a:lnTo>
                  <a:pt x="682" y="276"/>
                </a:lnTo>
                <a:lnTo>
                  <a:pt x="689" y="276"/>
                </a:lnTo>
                <a:lnTo>
                  <a:pt x="696" y="283"/>
                </a:lnTo>
                <a:lnTo>
                  <a:pt x="703" y="283"/>
                </a:lnTo>
                <a:lnTo>
                  <a:pt x="717" y="290"/>
                </a:lnTo>
                <a:lnTo>
                  <a:pt x="724" y="297"/>
                </a:lnTo>
                <a:lnTo>
                  <a:pt x="717" y="297"/>
                </a:lnTo>
                <a:lnTo>
                  <a:pt x="703" y="297"/>
                </a:lnTo>
                <a:lnTo>
                  <a:pt x="696" y="303"/>
                </a:lnTo>
                <a:lnTo>
                  <a:pt x="682" y="303"/>
                </a:lnTo>
                <a:lnTo>
                  <a:pt x="675" y="303"/>
                </a:lnTo>
                <a:lnTo>
                  <a:pt x="669" y="303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7" name=""/>
          <p:cNvSpPr/>
          <p:nvPr/>
        </p:nvSpPr>
        <p:spPr>
          <a:xfrm>
            <a:off x="6426360" y="3208320"/>
            <a:ext cx="1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8" name=""/>
          <p:cNvSpPr/>
          <p:nvPr/>
        </p:nvSpPr>
        <p:spPr>
          <a:xfrm>
            <a:off x="6249960" y="3143160"/>
            <a:ext cx="33480" cy="76320"/>
          </a:xfrm>
          <a:custGeom>
            <a:avLst/>
            <a:gdLst/>
            <a:ahLst/>
            <a:rect l="l" t="t" r="r" b="b"/>
            <a:pathLst>
              <a:path w="21" h="48">
                <a:moveTo>
                  <a:pt x="14" y="48"/>
                </a:moveTo>
                <a:lnTo>
                  <a:pt x="7" y="41"/>
                </a:lnTo>
                <a:lnTo>
                  <a:pt x="14" y="7"/>
                </a:lnTo>
                <a:lnTo>
                  <a:pt x="14" y="14"/>
                </a:lnTo>
                <a:lnTo>
                  <a:pt x="7" y="14"/>
                </a:lnTo>
                <a:lnTo>
                  <a:pt x="7" y="14"/>
                </a:lnTo>
                <a:lnTo>
                  <a:pt x="7" y="14"/>
                </a:lnTo>
                <a:lnTo>
                  <a:pt x="7" y="14"/>
                </a:lnTo>
                <a:lnTo>
                  <a:pt x="0" y="14"/>
                </a:lnTo>
                <a:lnTo>
                  <a:pt x="0" y="14"/>
                </a:lnTo>
                <a:lnTo>
                  <a:pt x="0" y="14"/>
                </a:lnTo>
                <a:lnTo>
                  <a:pt x="0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14" y="7"/>
                </a:lnTo>
                <a:lnTo>
                  <a:pt x="14" y="0"/>
                </a:lnTo>
                <a:lnTo>
                  <a:pt x="14" y="0"/>
                </a:lnTo>
                <a:lnTo>
                  <a:pt x="14" y="0"/>
                </a:lnTo>
                <a:lnTo>
                  <a:pt x="21" y="0"/>
                </a:lnTo>
                <a:lnTo>
                  <a:pt x="14" y="48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9" name=""/>
          <p:cNvSpPr/>
          <p:nvPr/>
        </p:nvSpPr>
        <p:spPr>
          <a:xfrm>
            <a:off x="6294600" y="3154320"/>
            <a:ext cx="53640" cy="65160"/>
          </a:xfrm>
          <a:custGeom>
            <a:avLst/>
            <a:gdLst/>
            <a:ahLst/>
            <a:rect l="l" t="t" r="r" b="b"/>
            <a:pathLst>
              <a:path w="34" h="41">
                <a:moveTo>
                  <a:pt x="34" y="14"/>
                </a:moveTo>
                <a:lnTo>
                  <a:pt x="27" y="14"/>
                </a:lnTo>
                <a:lnTo>
                  <a:pt x="27" y="14"/>
                </a:lnTo>
                <a:lnTo>
                  <a:pt x="27" y="7"/>
                </a:lnTo>
                <a:lnTo>
                  <a:pt x="27" y="7"/>
                </a:lnTo>
                <a:lnTo>
                  <a:pt x="27" y="7"/>
                </a:lnTo>
                <a:lnTo>
                  <a:pt x="27" y="7"/>
                </a:lnTo>
                <a:lnTo>
                  <a:pt x="20" y="7"/>
                </a:lnTo>
                <a:lnTo>
                  <a:pt x="20" y="7"/>
                </a:lnTo>
                <a:lnTo>
                  <a:pt x="20" y="7"/>
                </a:lnTo>
                <a:lnTo>
                  <a:pt x="20" y="7"/>
                </a:lnTo>
                <a:lnTo>
                  <a:pt x="20" y="7"/>
                </a:lnTo>
                <a:lnTo>
                  <a:pt x="14" y="7"/>
                </a:lnTo>
                <a:lnTo>
                  <a:pt x="14" y="7"/>
                </a:lnTo>
                <a:lnTo>
                  <a:pt x="14" y="7"/>
                </a:lnTo>
                <a:lnTo>
                  <a:pt x="14" y="7"/>
                </a:lnTo>
                <a:lnTo>
                  <a:pt x="14" y="7"/>
                </a:lnTo>
                <a:lnTo>
                  <a:pt x="14" y="7"/>
                </a:lnTo>
                <a:lnTo>
                  <a:pt x="7" y="14"/>
                </a:lnTo>
                <a:lnTo>
                  <a:pt x="7" y="14"/>
                </a:lnTo>
                <a:lnTo>
                  <a:pt x="7" y="14"/>
                </a:lnTo>
                <a:lnTo>
                  <a:pt x="7" y="21"/>
                </a:lnTo>
                <a:lnTo>
                  <a:pt x="7" y="21"/>
                </a:lnTo>
                <a:lnTo>
                  <a:pt x="7" y="14"/>
                </a:lnTo>
                <a:lnTo>
                  <a:pt x="14" y="14"/>
                </a:lnTo>
                <a:lnTo>
                  <a:pt x="14" y="14"/>
                </a:lnTo>
                <a:lnTo>
                  <a:pt x="14" y="14"/>
                </a:lnTo>
                <a:lnTo>
                  <a:pt x="14" y="14"/>
                </a:lnTo>
                <a:lnTo>
                  <a:pt x="14" y="14"/>
                </a:lnTo>
                <a:lnTo>
                  <a:pt x="20" y="14"/>
                </a:lnTo>
                <a:lnTo>
                  <a:pt x="20" y="14"/>
                </a:lnTo>
                <a:lnTo>
                  <a:pt x="20" y="14"/>
                </a:lnTo>
                <a:lnTo>
                  <a:pt x="27" y="21"/>
                </a:lnTo>
                <a:lnTo>
                  <a:pt x="27" y="21"/>
                </a:lnTo>
                <a:lnTo>
                  <a:pt x="27" y="21"/>
                </a:lnTo>
                <a:lnTo>
                  <a:pt x="27" y="28"/>
                </a:lnTo>
                <a:lnTo>
                  <a:pt x="27" y="28"/>
                </a:lnTo>
                <a:lnTo>
                  <a:pt x="27" y="34"/>
                </a:lnTo>
                <a:lnTo>
                  <a:pt x="27" y="34"/>
                </a:lnTo>
                <a:lnTo>
                  <a:pt x="27" y="34"/>
                </a:lnTo>
                <a:lnTo>
                  <a:pt x="27" y="34"/>
                </a:lnTo>
                <a:lnTo>
                  <a:pt x="27" y="41"/>
                </a:lnTo>
                <a:lnTo>
                  <a:pt x="27" y="41"/>
                </a:lnTo>
                <a:lnTo>
                  <a:pt x="20" y="41"/>
                </a:lnTo>
                <a:lnTo>
                  <a:pt x="20" y="41"/>
                </a:lnTo>
                <a:lnTo>
                  <a:pt x="20" y="41"/>
                </a:lnTo>
                <a:lnTo>
                  <a:pt x="20" y="41"/>
                </a:lnTo>
                <a:lnTo>
                  <a:pt x="14" y="41"/>
                </a:lnTo>
                <a:lnTo>
                  <a:pt x="14" y="41"/>
                </a:lnTo>
                <a:lnTo>
                  <a:pt x="14" y="41"/>
                </a:lnTo>
                <a:lnTo>
                  <a:pt x="7" y="41"/>
                </a:lnTo>
                <a:lnTo>
                  <a:pt x="7" y="41"/>
                </a:lnTo>
                <a:lnTo>
                  <a:pt x="7" y="41"/>
                </a:lnTo>
                <a:lnTo>
                  <a:pt x="0" y="34"/>
                </a:lnTo>
                <a:lnTo>
                  <a:pt x="0" y="34"/>
                </a:lnTo>
                <a:lnTo>
                  <a:pt x="0" y="28"/>
                </a:lnTo>
                <a:lnTo>
                  <a:pt x="0" y="28"/>
                </a:lnTo>
                <a:lnTo>
                  <a:pt x="0" y="21"/>
                </a:lnTo>
                <a:lnTo>
                  <a:pt x="0" y="14"/>
                </a:lnTo>
                <a:lnTo>
                  <a:pt x="7" y="7"/>
                </a:lnTo>
                <a:lnTo>
                  <a:pt x="7" y="7"/>
                </a:lnTo>
                <a:lnTo>
                  <a:pt x="7" y="0"/>
                </a:lnTo>
                <a:lnTo>
                  <a:pt x="14" y="0"/>
                </a:lnTo>
                <a:lnTo>
                  <a:pt x="14" y="0"/>
                </a:lnTo>
                <a:lnTo>
                  <a:pt x="20" y="0"/>
                </a:lnTo>
                <a:lnTo>
                  <a:pt x="20" y="0"/>
                </a:lnTo>
                <a:lnTo>
                  <a:pt x="20" y="0"/>
                </a:lnTo>
                <a:lnTo>
                  <a:pt x="27" y="0"/>
                </a:lnTo>
                <a:lnTo>
                  <a:pt x="27" y="0"/>
                </a:lnTo>
                <a:lnTo>
                  <a:pt x="27" y="7"/>
                </a:lnTo>
                <a:lnTo>
                  <a:pt x="27" y="7"/>
                </a:lnTo>
                <a:lnTo>
                  <a:pt x="34" y="7"/>
                </a:lnTo>
                <a:lnTo>
                  <a:pt x="34" y="14"/>
                </a:lnTo>
                <a:lnTo>
                  <a:pt x="34" y="14"/>
                </a:lnTo>
                <a:close/>
                <a:moveTo>
                  <a:pt x="7" y="28"/>
                </a:moveTo>
                <a:lnTo>
                  <a:pt x="7" y="28"/>
                </a:lnTo>
                <a:lnTo>
                  <a:pt x="7" y="28"/>
                </a:lnTo>
                <a:lnTo>
                  <a:pt x="7" y="34"/>
                </a:lnTo>
                <a:lnTo>
                  <a:pt x="7" y="34"/>
                </a:lnTo>
                <a:lnTo>
                  <a:pt x="7" y="34"/>
                </a:lnTo>
                <a:lnTo>
                  <a:pt x="7" y="34"/>
                </a:lnTo>
                <a:lnTo>
                  <a:pt x="7" y="34"/>
                </a:lnTo>
                <a:lnTo>
                  <a:pt x="7" y="34"/>
                </a:lnTo>
                <a:lnTo>
                  <a:pt x="7" y="41"/>
                </a:lnTo>
                <a:lnTo>
                  <a:pt x="14" y="41"/>
                </a:lnTo>
                <a:lnTo>
                  <a:pt x="14" y="41"/>
                </a:lnTo>
                <a:lnTo>
                  <a:pt x="14" y="41"/>
                </a:lnTo>
                <a:lnTo>
                  <a:pt x="14" y="41"/>
                </a:lnTo>
                <a:lnTo>
                  <a:pt x="14" y="41"/>
                </a:lnTo>
                <a:lnTo>
                  <a:pt x="20" y="41"/>
                </a:lnTo>
                <a:lnTo>
                  <a:pt x="20" y="41"/>
                </a:lnTo>
                <a:lnTo>
                  <a:pt x="20" y="34"/>
                </a:lnTo>
                <a:lnTo>
                  <a:pt x="20" y="34"/>
                </a:lnTo>
                <a:lnTo>
                  <a:pt x="20" y="34"/>
                </a:lnTo>
                <a:lnTo>
                  <a:pt x="20" y="34"/>
                </a:lnTo>
                <a:lnTo>
                  <a:pt x="20" y="28"/>
                </a:lnTo>
                <a:lnTo>
                  <a:pt x="20" y="28"/>
                </a:lnTo>
                <a:lnTo>
                  <a:pt x="20" y="28"/>
                </a:lnTo>
                <a:lnTo>
                  <a:pt x="20" y="21"/>
                </a:lnTo>
                <a:lnTo>
                  <a:pt x="20" y="21"/>
                </a:lnTo>
                <a:lnTo>
                  <a:pt x="20" y="21"/>
                </a:lnTo>
                <a:lnTo>
                  <a:pt x="20" y="21"/>
                </a:lnTo>
                <a:lnTo>
                  <a:pt x="14" y="21"/>
                </a:lnTo>
                <a:lnTo>
                  <a:pt x="14" y="21"/>
                </a:lnTo>
                <a:lnTo>
                  <a:pt x="14" y="21"/>
                </a:lnTo>
                <a:lnTo>
                  <a:pt x="14" y="21"/>
                </a:lnTo>
                <a:lnTo>
                  <a:pt x="7" y="21"/>
                </a:lnTo>
                <a:lnTo>
                  <a:pt x="7" y="21"/>
                </a:lnTo>
                <a:lnTo>
                  <a:pt x="7" y="21"/>
                </a:lnTo>
                <a:lnTo>
                  <a:pt x="7" y="28"/>
                </a:lnTo>
                <a:lnTo>
                  <a:pt x="7" y="28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0" name=""/>
          <p:cNvSpPr/>
          <p:nvPr/>
        </p:nvSpPr>
        <p:spPr>
          <a:xfrm>
            <a:off x="6348240" y="3165480"/>
            <a:ext cx="44640" cy="65160"/>
          </a:xfrm>
          <a:custGeom>
            <a:avLst/>
            <a:gdLst/>
            <a:ahLst/>
            <a:rect l="l" t="t" r="r" b="b"/>
            <a:pathLst>
              <a:path w="28" h="41">
                <a:moveTo>
                  <a:pt x="0" y="21"/>
                </a:moveTo>
                <a:lnTo>
                  <a:pt x="0" y="14"/>
                </a:lnTo>
                <a:lnTo>
                  <a:pt x="0" y="14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0"/>
                </a:lnTo>
                <a:lnTo>
                  <a:pt x="7" y="0"/>
                </a:lnTo>
                <a:lnTo>
                  <a:pt x="14" y="0"/>
                </a:lnTo>
                <a:lnTo>
                  <a:pt x="14" y="0"/>
                </a:lnTo>
                <a:lnTo>
                  <a:pt x="14" y="0"/>
                </a:lnTo>
                <a:lnTo>
                  <a:pt x="21" y="0"/>
                </a:lnTo>
                <a:lnTo>
                  <a:pt x="21" y="0"/>
                </a:lnTo>
                <a:lnTo>
                  <a:pt x="21" y="0"/>
                </a:lnTo>
                <a:lnTo>
                  <a:pt x="21" y="0"/>
                </a:lnTo>
                <a:lnTo>
                  <a:pt x="28" y="0"/>
                </a:lnTo>
                <a:lnTo>
                  <a:pt x="28" y="0"/>
                </a:lnTo>
                <a:lnTo>
                  <a:pt x="28" y="0"/>
                </a:lnTo>
                <a:lnTo>
                  <a:pt x="28" y="7"/>
                </a:lnTo>
                <a:lnTo>
                  <a:pt x="28" y="7"/>
                </a:lnTo>
                <a:lnTo>
                  <a:pt x="28" y="7"/>
                </a:lnTo>
                <a:lnTo>
                  <a:pt x="28" y="7"/>
                </a:lnTo>
                <a:lnTo>
                  <a:pt x="28" y="7"/>
                </a:lnTo>
                <a:lnTo>
                  <a:pt x="28" y="14"/>
                </a:lnTo>
                <a:lnTo>
                  <a:pt x="28" y="14"/>
                </a:lnTo>
                <a:lnTo>
                  <a:pt x="28" y="14"/>
                </a:lnTo>
                <a:lnTo>
                  <a:pt x="28" y="21"/>
                </a:lnTo>
                <a:lnTo>
                  <a:pt x="28" y="21"/>
                </a:lnTo>
                <a:lnTo>
                  <a:pt x="28" y="27"/>
                </a:lnTo>
                <a:lnTo>
                  <a:pt x="28" y="27"/>
                </a:lnTo>
                <a:lnTo>
                  <a:pt x="28" y="34"/>
                </a:lnTo>
                <a:lnTo>
                  <a:pt x="28" y="34"/>
                </a:lnTo>
                <a:lnTo>
                  <a:pt x="28" y="34"/>
                </a:lnTo>
                <a:lnTo>
                  <a:pt x="28" y="41"/>
                </a:lnTo>
                <a:lnTo>
                  <a:pt x="21" y="41"/>
                </a:lnTo>
                <a:lnTo>
                  <a:pt x="21" y="41"/>
                </a:lnTo>
                <a:lnTo>
                  <a:pt x="21" y="41"/>
                </a:lnTo>
                <a:lnTo>
                  <a:pt x="21" y="41"/>
                </a:lnTo>
                <a:lnTo>
                  <a:pt x="14" y="41"/>
                </a:lnTo>
                <a:lnTo>
                  <a:pt x="14" y="41"/>
                </a:lnTo>
                <a:lnTo>
                  <a:pt x="14" y="41"/>
                </a:lnTo>
                <a:lnTo>
                  <a:pt x="7" y="41"/>
                </a:lnTo>
                <a:lnTo>
                  <a:pt x="7" y="41"/>
                </a:lnTo>
                <a:lnTo>
                  <a:pt x="7" y="41"/>
                </a:lnTo>
                <a:lnTo>
                  <a:pt x="0" y="34"/>
                </a:lnTo>
                <a:lnTo>
                  <a:pt x="0" y="34"/>
                </a:lnTo>
                <a:lnTo>
                  <a:pt x="0" y="27"/>
                </a:lnTo>
                <a:lnTo>
                  <a:pt x="0" y="27"/>
                </a:lnTo>
                <a:lnTo>
                  <a:pt x="0" y="21"/>
                </a:lnTo>
                <a:close/>
                <a:moveTo>
                  <a:pt x="7" y="21"/>
                </a:moveTo>
                <a:lnTo>
                  <a:pt x="7" y="27"/>
                </a:lnTo>
                <a:lnTo>
                  <a:pt x="7" y="27"/>
                </a:lnTo>
                <a:lnTo>
                  <a:pt x="7" y="34"/>
                </a:lnTo>
                <a:lnTo>
                  <a:pt x="7" y="34"/>
                </a:lnTo>
                <a:lnTo>
                  <a:pt x="7" y="34"/>
                </a:lnTo>
                <a:lnTo>
                  <a:pt x="7" y="41"/>
                </a:lnTo>
                <a:lnTo>
                  <a:pt x="14" y="41"/>
                </a:lnTo>
                <a:lnTo>
                  <a:pt x="14" y="41"/>
                </a:lnTo>
                <a:lnTo>
                  <a:pt x="14" y="41"/>
                </a:lnTo>
                <a:lnTo>
                  <a:pt x="14" y="41"/>
                </a:lnTo>
                <a:lnTo>
                  <a:pt x="21" y="41"/>
                </a:lnTo>
                <a:lnTo>
                  <a:pt x="21" y="34"/>
                </a:lnTo>
                <a:lnTo>
                  <a:pt x="21" y="34"/>
                </a:lnTo>
                <a:lnTo>
                  <a:pt x="21" y="34"/>
                </a:lnTo>
                <a:lnTo>
                  <a:pt x="21" y="27"/>
                </a:lnTo>
                <a:lnTo>
                  <a:pt x="28" y="21"/>
                </a:lnTo>
                <a:lnTo>
                  <a:pt x="28" y="21"/>
                </a:lnTo>
                <a:lnTo>
                  <a:pt x="28" y="14"/>
                </a:lnTo>
                <a:lnTo>
                  <a:pt x="28" y="14"/>
                </a:lnTo>
                <a:lnTo>
                  <a:pt x="28" y="7"/>
                </a:lnTo>
                <a:lnTo>
                  <a:pt x="21" y="7"/>
                </a:lnTo>
                <a:lnTo>
                  <a:pt x="21" y="7"/>
                </a:lnTo>
                <a:lnTo>
                  <a:pt x="21" y="7"/>
                </a:lnTo>
                <a:lnTo>
                  <a:pt x="21" y="7"/>
                </a:lnTo>
                <a:lnTo>
                  <a:pt x="14" y="0"/>
                </a:lnTo>
                <a:lnTo>
                  <a:pt x="14" y="7"/>
                </a:lnTo>
                <a:lnTo>
                  <a:pt x="14" y="7"/>
                </a:lnTo>
                <a:lnTo>
                  <a:pt x="14" y="7"/>
                </a:lnTo>
                <a:lnTo>
                  <a:pt x="14" y="7"/>
                </a:lnTo>
                <a:lnTo>
                  <a:pt x="7" y="14"/>
                </a:lnTo>
                <a:lnTo>
                  <a:pt x="7" y="14"/>
                </a:lnTo>
                <a:lnTo>
                  <a:pt x="7" y="2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1" name=""/>
          <p:cNvSpPr/>
          <p:nvPr/>
        </p:nvSpPr>
        <p:spPr>
          <a:xfrm flipH="1">
            <a:off x="6206760" y="3165480"/>
            <a:ext cx="11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2" name=""/>
          <p:cNvSpPr/>
          <p:nvPr/>
        </p:nvSpPr>
        <p:spPr>
          <a:xfrm>
            <a:off x="4970520" y="3165480"/>
            <a:ext cx="1236600" cy="623880"/>
          </a:xfrm>
          <a:custGeom>
            <a:avLst/>
            <a:gdLst/>
            <a:ahLst/>
            <a:rect l="l" t="t" r="r" b="b"/>
            <a:pathLst>
              <a:path w="779" h="393">
                <a:moveTo>
                  <a:pt x="779" y="0"/>
                </a:moveTo>
                <a:lnTo>
                  <a:pt x="772" y="0"/>
                </a:lnTo>
                <a:lnTo>
                  <a:pt x="758" y="0"/>
                </a:lnTo>
                <a:lnTo>
                  <a:pt x="751" y="7"/>
                </a:lnTo>
                <a:lnTo>
                  <a:pt x="737" y="7"/>
                </a:lnTo>
                <a:lnTo>
                  <a:pt x="730" y="14"/>
                </a:lnTo>
                <a:lnTo>
                  <a:pt x="723" y="14"/>
                </a:lnTo>
                <a:lnTo>
                  <a:pt x="723" y="21"/>
                </a:lnTo>
                <a:lnTo>
                  <a:pt x="717" y="27"/>
                </a:lnTo>
                <a:lnTo>
                  <a:pt x="723" y="34"/>
                </a:lnTo>
                <a:lnTo>
                  <a:pt x="730" y="41"/>
                </a:lnTo>
                <a:lnTo>
                  <a:pt x="737" y="41"/>
                </a:lnTo>
                <a:lnTo>
                  <a:pt x="744" y="48"/>
                </a:lnTo>
                <a:lnTo>
                  <a:pt x="751" y="48"/>
                </a:lnTo>
                <a:lnTo>
                  <a:pt x="751" y="55"/>
                </a:lnTo>
                <a:lnTo>
                  <a:pt x="751" y="62"/>
                </a:lnTo>
                <a:lnTo>
                  <a:pt x="751" y="69"/>
                </a:lnTo>
                <a:lnTo>
                  <a:pt x="751" y="76"/>
                </a:lnTo>
                <a:lnTo>
                  <a:pt x="751" y="83"/>
                </a:lnTo>
                <a:lnTo>
                  <a:pt x="744" y="83"/>
                </a:lnTo>
                <a:lnTo>
                  <a:pt x="737" y="89"/>
                </a:lnTo>
                <a:lnTo>
                  <a:pt x="730" y="96"/>
                </a:lnTo>
                <a:lnTo>
                  <a:pt x="723" y="103"/>
                </a:lnTo>
                <a:lnTo>
                  <a:pt x="717" y="103"/>
                </a:lnTo>
                <a:lnTo>
                  <a:pt x="710" y="110"/>
                </a:lnTo>
                <a:lnTo>
                  <a:pt x="703" y="117"/>
                </a:lnTo>
                <a:lnTo>
                  <a:pt x="696" y="117"/>
                </a:lnTo>
                <a:lnTo>
                  <a:pt x="689" y="124"/>
                </a:lnTo>
                <a:lnTo>
                  <a:pt x="682" y="124"/>
                </a:lnTo>
                <a:lnTo>
                  <a:pt x="675" y="131"/>
                </a:lnTo>
                <a:lnTo>
                  <a:pt x="668" y="131"/>
                </a:lnTo>
                <a:lnTo>
                  <a:pt x="661" y="138"/>
                </a:lnTo>
                <a:lnTo>
                  <a:pt x="655" y="145"/>
                </a:lnTo>
                <a:lnTo>
                  <a:pt x="648" y="145"/>
                </a:lnTo>
                <a:lnTo>
                  <a:pt x="641" y="151"/>
                </a:lnTo>
                <a:lnTo>
                  <a:pt x="627" y="151"/>
                </a:lnTo>
                <a:lnTo>
                  <a:pt x="620" y="158"/>
                </a:lnTo>
                <a:lnTo>
                  <a:pt x="613" y="158"/>
                </a:lnTo>
                <a:lnTo>
                  <a:pt x="599" y="158"/>
                </a:lnTo>
                <a:lnTo>
                  <a:pt x="592" y="151"/>
                </a:lnTo>
                <a:lnTo>
                  <a:pt x="586" y="145"/>
                </a:lnTo>
                <a:lnTo>
                  <a:pt x="579" y="145"/>
                </a:lnTo>
                <a:lnTo>
                  <a:pt x="572" y="145"/>
                </a:lnTo>
                <a:lnTo>
                  <a:pt x="558" y="145"/>
                </a:lnTo>
                <a:lnTo>
                  <a:pt x="551" y="145"/>
                </a:lnTo>
                <a:lnTo>
                  <a:pt x="537" y="151"/>
                </a:lnTo>
                <a:lnTo>
                  <a:pt x="530" y="158"/>
                </a:lnTo>
                <a:lnTo>
                  <a:pt x="524" y="158"/>
                </a:lnTo>
                <a:lnTo>
                  <a:pt x="517" y="158"/>
                </a:lnTo>
                <a:lnTo>
                  <a:pt x="510" y="158"/>
                </a:lnTo>
                <a:lnTo>
                  <a:pt x="496" y="158"/>
                </a:lnTo>
                <a:lnTo>
                  <a:pt x="489" y="158"/>
                </a:lnTo>
                <a:lnTo>
                  <a:pt x="482" y="165"/>
                </a:lnTo>
                <a:lnTo>
                  <a:pt x="475" y="165"/>
                </a:lnTo>
                <a:lnTo>
                  <a:pt x="461" y="172"/>
                </a:lnTo>
                <a:lnTo>
                  <a:pt x="455" y="172"/>
                </a:lnTo>
                <a:lnTo>
                  <a:pt x="448" y="165"/>
                </a:lnTo>
                <a:lnTo>
                  <a:pt x="434" y="165"/>
                </a:lnTo>
                <a:lnTo>
                  <a:pt x="427" y="158"/>
                </a:lnTo>
                <a:lnTo>
                  <a:pt x="420" y="158"/>
                </a:lnTo>
                <a:lnTo>
                  <a:pt x="413" y="158"/>
                </a:lnTo>
                <a:lnTo>
                  <a:pt x="399" y="165"/>
                </a:lnTo>
                <a:lnTo>
                  <a:pt x="393" y="165"/>
                </a:lnTo>
                <a:lnTo>
                  <a:pt x="379" y="165"/>
                </a:lnTo>
                <a:lnTo>
                  <a:pt x="372" y="165"/>
                </a:lnTo>
                <a:lnTo>
                  <a:pt x="365" y="165"/>
                </a:lnTo>
                <a:lnTo>
                  <a:pt x="351" y="165"/>
                </a:lnTo>
                <a:lnTo>
                  <a:pt x="344" y="165"/>
                </a:lnTo>
                <a:lnTo>
                  <a:pt x="330" y="165"/>
                </a:lnTo>
                <a:lnTo>
                  <a:pt x="324" y="165"/>
                </a:lnTo>
                <a:lnTo>
                  <a:pt x="317" y="165"/>
                </a:lnTo>
                <a:lnTo>
                  <a:pt x="303" y="172"/>
                </a:lnTo>
                <a:lnTo>
                  <a:pt x="296" y="172"/>
                </a:lnTo>
                <a:lnTo>
                  <a:pt x="289" y="179"/>
                </a:lnTo>
                <a:lnTo>
                  <a:pt x="282" y="186"/>
                </a:lnTo>
                <a:lnTo>
                  <a:pt x="275" y="186"/>
                </a:lnTo>
                <a:lnTo>
                  <a:pt x="268" y="193"/>
                </a:lnTo>
                <a:lnTo>
                  <a:pt x="262" y="193"/>
                </a:lnTo>
                <a:lnTo>
                  <a:pt x="255" y="200"/>
                </a:lnTo>
                <a:lnTo>
                  <a:pt x="248" y="207"/>
                </a:lnTo>
                <a:lnTo>
                  <a:pt x="248" y="213"/>
                </a:lnTo>
                <a:lnTo>
                  <a:pt x="241" y="220"/>
                </a:lnTo>
                <a:lnTo>
                  <a:pt x="241" y="220"/>
                </a:lnTo>
                <a:lnTo>
                  <a:pt x="241" y="227"/>
                </a:lnTo>
                <a:lnTo>
                  <a:pt x="248" y="234"/>
                </a:lnTo>
                <a:lnTo>
                  <a:pt x="248" y="241"/>
                </a:lnTo>
                <a:lnTo>
                  <a:pt x="255" y="248"/>
                </a:lnTo>
                <a:lnTo>
                  <a:pt x="262" y="248"/>
                </a:lnTo>
                <a:lnTo>
                  <a:pt x="268" y="255"/>
                </a:lnTo>
                <a:lnTo>
                  <a:pt x="268" y="262"/>
                </a:lnTo>
                <a:lnTo>
                  <a:pt x="268" y="269"/>
                </a:lnTo>
                <a:lnTo>
                  <a:pt x="268" y="275"/>
                </a:lnTo>
                <a:lnTo>
                  <a:pt x="262" y="282"/>
                </a:lnTo>
                <a:lnTo>
                  <a:pt x="262" y="289"/>
                </a:lnTo>
                <a:lnTo>
                  <a:pt x="255" y="296"/>
                </a:lnTo>
                <a:lnTo>
                  <a:pt x="255" y="296"/>
                </a:lnTo>
                <a:lnTo>
                  <a:pt x="255" y="303"/>
                </a:lnTo>
                <a:lnTo>
                  <a:pt x="255" y="310"/>
                </a:lnTo>
                <a:lnTo>
                  <a:pt x="248" y="317"/>
                </a:lnTo>
                <a:lnTo>
                  <a:pt x="248" y="324"/>
                </a:lnTo>
                <a:lnTo>
                  <a:pt x="248" y="331"/>
                </a:lnTo>
                <a:lnTo>
                  <a:pt x="241" y="337"/>
                </a:lnTo>
                <a:lnTo>
                  <a:pt x="241" y="344"/>
                </a:lnTo>
                <a:lnTo>
                  <a:pt x="241" y="351"/>
                </a:lnTo>
                <a:lnTo>
                  <a:pt x="234" y="351"/>
                </a:lnTo>
                <a:lnTo>
                  <a:pt x="234" y="358"/>
                </a:lnTo>
                <a:lnTo>
                  <a:pt x="227" y="365"/>
                </a:lnTo>
                <a:lnTo>
                  <a:pt x="220" y="372"/>
                </a:lnTo>
                <a:lnTo>
                  <a:pt x="213" y="372"/>
                </a:lnTo>
                <a:lnTo>
                  <a:pt x="206" y="379"/>
                </a:lnTo>
                <a:lnTo>
                  <a:pt x="199" y="386"/>
                </a:lnTo>
                <a:lnTo>
                  <a:pt x="193" y="386"/>
                </a:lnTo>
                <a:lnTo>
                  <a:pt x="186" y="393"/>
                </a:lnTo>
                <a:lnTo>
                  <a:pt x="172" y="393"/>
                </a:lnTo>
                <a:lnTo>
                  <a:pt x="165" y="393"/>
                </a:lnTo>
                <a:lnTo>
                  <a:pt x="158" y="393"/>
                </a:lnTo>
                <a:lnTo>
                  <a:pt x="144" y="393"/>
                </a:lnTo>
                <a:lnTo>
                  <a:pt x="137" y="393"/>
                </a:lnTo>
                <a:lnTo>
                  <a:pt x="124" y="393"/>
                </a:lnTo>
                <a:lnTo>
                  <a:pt x="117" y="386"/>
                </a:lnTo>
                <a:lnTo>
                  <a:pt x="110" y="386"/>
                </a:lnTo>
                <a:lnTo>
                  <a:pt x="103" y="379"/>
                </a:lnTo>
                <a:lnTo>
                  <a:pt x="96" y="379"/>
                </a:lnTo>
                <a:lnTo>
                  <a:pt x="89" y="372"/>
                </a:lnTo>
                <a:lnTo>
                  <a:pt x="82" y="365"/>
                </a:lnTo>
                <a:lnTo>
                  <a:pt x="82" y="358"/>
                </a:lnTo>
                <a:lnTo>
                  <a:pt x="82" y="351"/>
                </a:lnTo>
                <a:lnTo>
                  <a:pt x="75" y="344"/>
                </a:lnTo>
                <a:lnTo>
                  <a:pt x="75" y="344"/>
                </a:lnTo>
                <a:lnTo>
                  <a:pt x="75" y="337"/>
                </a:lnTo>
                <a:lnTo>
                  <a:pt x="75" y="331"/>
                </a:lnTo>
                <a:lnTo>
                  <a:pt x="75" y="324"/>
                </a:lnTo>
                <a:lnTo>
                  <a:pt x="75" y="317"/>
                </a:lnTo>
                <a:lnTo>
                  <a:pt x="68" y="310"/>
                </a:lnTo>
                <a:lnTo>
                  <a:pt x="62" y="303"/>
                </a:lnTo>
                <a:lnTo>
                  <a:pt x="55" y="303"/>
                </a:lnTo>
                <a:lnTo>
                  <a:pt x="48" y="296"/>
                </a:lnTo>
                <a:lnTo>
                  <a:pt x="41" y="296"/>
                </a:lnTo>
                <a:lnTo>
                  <a:pt x="27" y="289"/>
                </a:lnTo>
                <a:lnTo>
                  <a:pt x="20" y="289"/>
                </a:lnTo>
                <a:lnTo>
                  <a:pt x="20" y="282"/>
                </a:lnTo>
                <a:lnTo>
                  <a:pt x="13" y="275"/>
                </a:lnTo>
                <a:lnTo>
                  <a:pt x="13" y="269"/>
                </a:lnTo>
                <a:lnTo>
                  <a:pt x="13" y="262"/>
                </a:lnTo>
                <a:lnTo>
                  <a:pt x="13" y="255"/>
                </a:lnTo>
                <a:lnTo>
                  <a:pt x="13" y="248"/>
                </a:lnTo>
                <a:lnTo>
                  <a:pt x="20" y="248"/>
                </a:lnTo>
                <a:lnTo>
                  <a:pt x="20" y="241"/>
                </a:lnTo>
                <a:lnTo>
                  <a:pt x="27" y="234"/>
                </a:lnTo>
                <a:lnTo>
                  <a:pt x="27" y="227"/>
                </a:lnTo>
                <a:lnTo>
                  <a:pt x="34" y="220"/>
                </a:lnTo>
                <a:lnTo>
                  <a:pt x="34" y="213"/>
                </a:lnTo>
                <a:lnTo>
                  <a:pt x="41" y="213"/>
                </a:lnTo>
                <a:lnTo>
                  <a:pt x="41" y="207"/>
                </a:lnTo>
                <a:lnTo>
                  <a:pt x="48" y="200"/>
                </a:lnTo>
                <a:lnTo>
                  <a:pt x="48" y="193"/>
                </a:lnTo>
                <a:lnTo>
                  <a:pt x="55" y="186"/>
                </a:lnTo>
                <a:lnTo>
                  <a:pt x="55" y="179"/>
                </a:lnTo>
                <a:lnTo>
                  <a:pt x="55" y="172"/>
                </a:lnTo>
                <a:lnTo>
                  <a:pt x="55" y="165"/>
                </a:lnTo>
                <a:lnTo>
                  <a:pt x="41" y="165"/>
                </a:lnTo>
                <a:lnTo>
                  <a:pt x="34" y="172"/>
                </a:lnTo>
                <a:lnTo>
                  <a:pt x="27" y="172"/>
                </a:lnTo>
                <a:lnTo>
                  <a:pt x="27" y="179"/>
                </a:lnTo>
                <a:lnTo>
                  <a:pt x="20" y="186"/>
                </a:lnTo>
                <a:lnTo>
                  <a:pt x="13" y="193"/>
                </a:lnTo>
                <a:lnTo>
                  <a:pt x="6" y="193"/>
                </a:lnTo>
                <a:lnTo>
                  <a:pt x="0" y="193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3" name=""/>
          <p:cNvSpPr/>
          <p:nvPr/>
        </p:nvSpPr>
        <p:spPr>
          <a:xfrm>
            <a:off x="4970520" y="3471840"/>
            <a:ext cx="1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4" name=""/>
          <p:cNvSpPr/>
          <p:nvPr/>
        </p:nvSpPr>
        <p:spPr>
          <a:xfrm>
            <a:off x="4805280" y="3514680"/>
            <a:ext cx="44640" cy="66600"/>
          </a:xfrm>
          <a:custGeom>
            <a:avLst/>
            <a:gdLst/>
            <a:ahLst/>
            <a:rect l="l" t="t" r="r" b="b"/>
            <a:pathLst>
              <a:path w="28" h="42">
                <a:moveTo>
                  <a:pt x="28" y="42"/>
                </a:moveTo>
                <a:lnTo>
                  <a:pt x="28" y="42"/>
                </a:lnTo>
                <a:lnTo>
                  <a:pt x="7" y="14"/>
                </a:lnTo>
                <a:lnTo>
                  <a:pt x="7" y="14"/>
                </a:lnTo>
                <a:lnTo>
                  <a:pt x="7" y="14"/>
                </a:lnTo>
                <a:lnTo>
                  <a:pt x="7" y="14"/>
                </a:lnTo>
                <a:lnTo>
                  <a:pt x="7" y="14"/>
                </a:lnTo>
                <a:lnTo>
                  <a:pt x="7" y="21"/>
                </a:lnTo>
                <a:lnTo>
                  <a:pt x="0" y="21"/>
                </a:lnTo>
                <a:lnTo>
                  <a:pt x="0" y="21"/>
                </a:lnTo>
                <a:lnTo>
                  <a:pt x="0" y="21"/>
                </a:lnTo>
                <a:lnTo>
                  <a:pt x="0" y="21"/>
                </a:lnTo>
                <a:lnTo>
                  <a:pt x="0" y="14"/>
                </a:lnTo>
                <a:lnTo>
                  <a:pt x="0" y="14"/>
                </a:lnTo>
                <a:lnTo>
                  <a:pt x="0" y="14"/>
                </a:lnTo>
                <a:lnTo>
                  <a:pt x="0" y="7"/>
                </a:lnTo>
                <a:lnTo>
                  <a:pt x="0" y="7"/>
                </a:lnTo>
                <a:lnTo>
                  <a:pt x="7" y="7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28" y="4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5" name=""/>
          <p:cNvSpPr/>
          <p:nvPr/>
        </p:nvSpPr>
        <p:spPr>
          <a:xfrm>
            <a:off x="4849920" y="3483000"/>
            <a:ext cx="54000" cy="76320"/>
          </a:xfrm>
          <a:custGeom>
            <a:avLst/>
            <a:gdLst/>
            <a:ahLst/>
            <a:rect l="l" t="t" r="r" b="b"/>
            <a:pathLst>
              <a:path w="34" h="48">
                <a:moveTo>
                  <a:pt x="20" y="7"/>
                </a:moveTo>
                <a:lnTo>
                  <a:pt x="13" y="13"/>
                </a:lnTo>
                <a:lnTo>
                  <a:pt x="13" y="13"/>
                </a:lnTo>
                <a:lnTo>
                  <a:pt x="13" y="7"/>
                </a:lnTo>
                <a:lnTo>
                  <a:pt x="13" y="7"/>
                </a:lnTo>
                <a:lnTo>
                  <a:pt x="13" y="7"/>
                </a:lnTo>
                <a:lnTo>
                  <a:pt x="13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13"/>
                </a:lnTo>
                <a:lnTo>
                  <a:pt x="7" y="13"/>
                </a:lnTo>
                <a:lnTo>
                  <a:pt x="7" y="13"/>
                </a:lnTo>
                <a:lnTo>
                  <a:pt x="0" y="13"/>
                </a:lnTo>
                <a:lnTo>
                  <a:pt x="0" y="13"/>
                </a:lnTo>
                <a:lnTo>
                  <a:pt x="0" y="20"/>
                </a:lnTo>
                <a:lnTo>
                  <a:pt x="0" y="20"/>
                </a:lnTo>
                <a:lnTo>
                  <a:pt x="7" y="20"/>
                </a:lnTo>
                <a:lnTo>
                  <a:pt x="7" y="27"/>
                </a:lnTo>
                <a:lnTo>
                  <a:pt x="7" y="27"/>
                </a:lnTo>
                <a:lnTo>
                  <a:pt x="7" y="27"/>
                </a:lnTo>
                <a:lnTo>
                  <a:pt x="7" y="27"/>
                </a:lnTo>
                <a:lnTo>
                  <a:pt x="7" y="27"/>
                </a:lnTo>
                <a:lnTo>
                  <a:pt x="7" y="27"/>
                </a:lnTo>
                <a:lnTo>
                  <a:pt x="7" y="20"/>
                </a:lnTo>
                <a:lnTo>
                  <a:pt x="7" y="20"/>
                </a:lnTo>
                <a:lnTo>
                  <a:pt x="13" y="20"/>
                </a:lnTo>
                <a:lnTo>
                  <a:pt x="13" y="20"/>
                </a:lnTo>
                <a:lnTo>
                  <a:pt x="13" y="20"/>
                </a:lnTo>
                <a:lnTo>
                  <a:pt x="13" y="20"/>
                </a:lnTo>
                <a:lnTo>
                  <a:pt x="20" y="13"/>
                </a:lnTo>
                <a:lnTo>
                  <a:pt x="20" y="13"/>
                </a:lnTo>
                <a:lnTo>
                  <a:pt x="20" y="20"/>
                </a:lnTo>
                <a:lnTo>
                  <a:pt x="27" y="20"/>
                </a:lnTo>
                <a:lnTo>
                  <a:pt x="27" y="20"/>
                </a:lnTo>
                <a:lnTo>
                  <a:pt x="27" y="20"/>
                </a:lnTo>
                <a:lnTo>
                  <a:pt x="34" y="27"/>
                </a:lnTo>
                <a:lnTo>
                  <a:pt x="34" y="27"/>
                </a:lnTo>
                <a:lnTo>
                  <a:pt x="34" y="27"/>
                </a:lnTo>
                <a:lnTo>
                  <a:pt x="34" y="27"/>
                </a:lnTo>
                <a:lnTo>
                  <a:pt x="34" y="34"/>
                </a:lnTo>
                <a:lnTo>
                  <a:pt x="34" y="34"/>
                </a:lnTo>
                <a:lnTo>
                  <a:pt x="34" y="34"/>
                </a:lnTo>
                <a:lnTo>
                  <a:pt x="34" y="34"/>
                </a:lnTo>
                <a:lnTo>
                  <a:pt x="34" y="41"/>
                </a:lnTo>
                <a:lnTo>
                  <a:pt x="34" y="41"/>
                </a:lnTo>
                <a:lnTo>
                  <a:pt x="27" y="41"/>
                </a:lnTo>
                <a:lnTo>
                  <a:pt x="27" y="41"/>
                </a:lnTo>
                <a:lnTo>
                  <a:pt x="27" y="41"/>
                </a:lnTo>
                <a:lnTo>
                  <a:pt x="27" y="48"/>
                </a:lnTo>
                <a:lnTo>
                  <a:pt x="20" y="48"/>
                </a:lnTo>
                <a:lnTo>
                  <a:pt x="20" y="48"/>
                </a:lnTo>
                <a:lnTo>
                  <a:pt x="13" y="48"/>
                </a:lnTo>
                <a:lnTo>
                  <a:pt x="13" y="41"/>
                </a:lnTo>
                <a:lnTo>
                  <a:pt x="7" y="41"/>
                </a:lnTo>
                <a:lnTo>
                  <a:pt x="7" y="41"/>
                </a:lnTo>
                <a:lnTo>
                  <a:pt x="7" y="34"/>
                </a:lnTo>
                <a:lnTo>
                  <a:pt x="0" y="27"/>
                </a:lnTo>
                <a:lnTo>
                  <a:pt x="0" y="20"/>
                </a:lnTo>
                <a:lnTo>
                  <a:pt x="0" y="20"/>
                </a:lnTo>
                <a:lnTo>
                  <a:pt x="0" y="13"/>
                </a:lnTo>
                <a:lnTo>
                  <a:pt x="0" y="13"/>
                </a:lnTo>
                <a:lnTo>
                  <a:pt x="0" y="7"/>
                </a:lnTo>
                <a:lnTo>
                  <a:pt x="0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13" y="0"/>
                </a:lnTo>
                <a:lnTo>
                  <a:pt x="13" y="0"/>
                </a:lnTo>
                <a:lnTo>
                  <a:pt x="13" y="7"/>
                </a:lnTo>
                <a:lnTo>
                  <a:pt x="20" y="7"/>
                </a:lnTo>
                <a:lnTo>
                  <a:pt x="20" y="7"/>
                </a:lnTo>
                <a:lnTo>
                  <a:pt x="20" y="7"/>
                </a:lnTo>
                <a:close/>
                <a:moveTo>
                  <a:pt x="13" y="34"/>
                </a:moveTo>
                <a:lnTo>
                  <a:pt x="13" y="34"/>
                </a:lnTo>
                <a:lnTo>
                  <a:pt x="13" y="41"/>
                </a:lnTo>
                <a:lnTo>
                  <a:pt x="13" y="41"/>
                </a:lnTo>
                <a:lnTo>
                  <a:pt x="13" y="41"/>
                </a:lnTo>
                <a:lnTo>
                  <a:pt x="13" y="41"/>
                </a:lnTo>
                <a:lnTo>
                  <a:pt x="20" y="41"/>
                </a:lnTo>
                <a:lnTo>
                  <a:pt x="20" y="41"/>
                </a:lnTo>
                <a:lnTo>
                  <a:pt x="20" y="41"/>
                </a:lnTo>
                <a:lnTo>
                  <a:pt x="20" y="41"/>
                </a:lnTo>
                <a:lnTo>
                  <a:pt x="20" y="41"/>
                </a:lnTo>
                <a:lnTo>
                  <a:pt x="27" y="41"/>
                </a:lnTo>
                <a:lnTo>
                  <a:pt x="27" y="41"/>
                </a:lnTo>
                <a:lnTo>
                  <a:pt x="27" y="41"/>
                </a:lnTo>
                <a:lnTo>
                  <a:pt x="27" y="41"/>
                </a:lnTo>
                <a:lnTo>
                  <a:pt x="27" y="34"/>
                </a:lnTo>
                <a:lnTo>
                  <a:pt x="27" y="34"/>
                </a:lnTo>
                <a:lnTo>
                  <a:pt x="27" y="34"/>
                </a:lnTo>
                <a:lnTo>
                  <a:pt x="27" y="34"/>
                </a:lnTo>
                <a:lnTo>
                  <a:pt x="27" y="27"/>
                </a:lnTo>
                <a:lnTo>
                  <a:pt x="27" y="27"/>
                </a:lnTo>
                <a:lnTo>
                  <a:pt x="27" y="27"/>
                </a:lnTo>
                <a:lnTo>
                  <a:pt x="27" y="27"/>
                </a:lnTo>
                <a:lnTo>
                  <a:pt x="20" y="20"/>
                </a:lnTo>
                <a:lnTo>
                  <a:pt x="20" y="20"/>
                </a:lnTo>
                <a:lnTo>
                  <a:pt x="20" y="20"/>
                </a:lnTo>
                <a:lnTo>
                  <a:pt x="20" y="20"/>
                </a:lnTo>
                <a:lnTo>
                  <a:pt x="13" y="20"/>
                </a:lnTo>
                <a:lnTo>
                  <a:pt x="13" y="20"/>
                </a:lnTo>
                <a:lnTo>
                  <a:pt x="13" y="27"/>
                </a:lnTo>
                <a:lnTo>
                  <a:pt x="13" y="27"/>
                </a:lnTo>
                <a:lnTo>
                  <a:pt x="13" y="27"/>
                </a:lnTo>
                <a:lnTo>
                  <a:pt x="13" y="27"/>
                </a:lnTo>
                <a:lnTo>
                  <a:pt x="13" y="27"/>
                </a:lnTo>
                <a:lnTo>
                  <a:pt x="13" y="34"/>
                </a:lnTo>
                <a:lnTo>
                  <a:pt x="13" y="34"/>
                </a:lnTo>
                <a:lnTo>
                  <a:pt x="13" y="34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6" name=""/>
          <p:cNvSpPr/>
          <p:nvPr/>
        </p:nvSpPr>
        <p:spPr>
          <a:xfrm>
            <a:off x="4892760" y="3460680"/>
            <a:ext cx="55440" cy="65160"/>
          </a:xfrm>
          <a:custGeom>
            <a:avLst/>
            <a:gdLst/>
            <a:ahLst/>
            <a:rect l="l" t="t" r="r" b="b"/>
            <a:pathLst>
              <a:path w="35" h="41">
                <a:moveTo>
                  <a:pt x="7" y="27"/>
                </a:moveTo>
                <a:lnTo>
                  <a:pt x="7" y="27"/>
                </a:lnTo>
                <a:lnTo>
                  <a:pt x="0" y="21"/>
                </a:lnTo>
                <a:lnTo>
                  <a:pt x="0" y="21"/>
                </a:lnTo>
                <a:lnTo>
                  <a:pt x="0" y="21"/>
                </a:lnTo>
                <a:lnTo>
                  <a:pt x="0" y="14"/>
                </a:lnTo>
                <a:lnTo>
                  <a:pt x="0" y="14"/>
                </a:lnTo>
                <a:lnTo>
                  <a:pt x="0" y="14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14" y="0"/>
                </a:lnTo>
                <a:lnTo>
                  <a:pt x="14" y="0"/>
                </a:lnTo>
                <a:lnTo>
                  <a:pt x="14" y="0"/>
                </a:lnTo>
                <a:lnTo>
                  <a:pt x="14" y="0"/>
                </a:lnTo>
                <a:lnTo>
                  <a:pt x="14" y="0"/>
                </a:lnTo>
                <a:lnTo>
                  <a:pt x="21" y="0"/>
                </a:lnTo>
                <a:lnTo>
                  <a:pt x="21" y="0"/>
                </a:lnTo>
                <a:lnTo>
                  <a:pt x="21" y="0"/>
                </a:lnTo>
                <a:lnTo>
                  <a:pt x="21" y="7"/>
                </a:lnTo>
                <a:lnTo>
                  <a:pt x="21" y="7"/>
                </a:lnTo>
                <a:lnTo>
                  <a:pt x="28" y="7"/>
                </a:lnTo>
                <a:lnTo>
                  <a:pt x="28" y="7"/>
                </a:lnTo>
                <a:lnTo>
                  <a:pt x="28" y="14"/>
                </a:lnTo>
                <a:lnTo>
                  <a:pt x="28" y="14"/>
                </a:lnTo>
                <a:lnTo>
                  <a:pt x="35" y="21"/>
                </a:lnTo>
                <a:lnTo>
                  <a:pt x="35" y="21"/>
                </a:lnTo>
                <a:lnTo>
                  <a:pt x="35" y="21"/>
                </a:lnTo>
                <a:lnTo>
                  <a:pt x="35" y="27"/>
                </a:lnTo>
                <a:lnTo>
                  <a:pt x="35" y="27"/>
                </a:lnTo>
                <a:lnTo>
                  <a:pt x="35" y="27"/>
                </a:lnTo>
                <a:lnTo>
                  <a:pt x="35" y="34"/>
                </a:lnTo>
                <a:lnTo>
                  <a:pt x="35" y="34"/>
                </a:lnTo>
                <a:lnTo>
                  <a:pt x="35" y="34"/>
                </a:lnTo>
                <a:lnTo>
                  <a:pt x="35" y="41"/>
                </a:lnTo>
                <a:lnTo>
                  <a:pt x="35" y="41"/>
                </a:lnTo>
                <a:lnTo>
                  <a:pt x="28" y="41"/>
                </a:lnTo>
                <a:lnTo>
                  <a:pt x="28" y="41"/>
                </a:lnTo>
                <a:lnTo>
                  <a:pt x="21" y="41"/>
                </a:lnTo>
                <a:lnTo>
                  <a:pt x="21" y="41"/>
                </a:lnTo>
                <a:lnTo>
                  <a:pt x="21" y="41"/>
                </a:lnTo>
                <a:lnTo>
                  <a:pt x="14" y="41"/>
                </a:lnTo>
                <a:lnTo>
                  <a:pt x="14" y="34"/>
                </a:lnTo>
                <a:lnTo>
                  <a:pt x="7" y="34"/>
                </a:lnTo>
                <a:lnTo>
                  <a:pt x="7" y="27"/>
                </a:lnTo>
                <a:close/>
                <a:moveTo>
                  <a:pt x="7" y="27"/>
                </a:moveTo>
                <a:lnTo>
                  <a:pt x="14" y="27"/>
                </a:lnTo>
                <a:lnTo>
                  <a:pt x="14" y="34"/>
                </a:lnTo>
                <a:lnTo>
                  <a:pt x="21" y="34"/>
                </a:lnTo>
                <a:lnTo>
                  <a:pt x="21" y="34"/>
                </a:lnTo>
                <a:lnTo>
                  <a:pt x="21" y="41"/>
                </a:lnTo>
                <a:lnTo>
                  <a:pt x="21" y="41"/>
                </a:lnTo>
                <a:lnTo>
                  <a:pt x="28" y="41"/>
                </a:lnTo>
                <a:lnTo>
                  <a:pt x="28" y="34"/>
                </a:lnTo>
                <a:lnTo>
                  <a:pt x="28" y="34"/>
                </a:lnTo>
                <a:lnTo>
                  <a:pt x="28" y="34"/>
                </a:lnTo>
                <a:lnTo>
                  <a:pt x="28" y="34"/>
                </a:lnTo>
                <a:lnTo>
                  <a:pt x="28" y="27"/>
                </a:lnTo>
                <a:lnTo>
                  <a:pt x="28" y="27"/>
                </a:lnTo>
                <a:lnTo>
                  <a:pt x="28" y="27"/>
                </a:lnTo>
                <a:lnTo>
                  <a:pt x="28" y="21"/>
                </a:lnTo>
                <a:lnTo>
                  <a:pt x="28" y="14"/>
                </a:lnTo>
                <a:lnTo>
                  <a:pt x="21" y="14"/>
                </a:lnTo>
                <a:lnTo>
                  <a:pt x="21" y="7"/>
                </a:lnTo>
                <a:lnTo>
                  <a:pt x="21" y="7"/>
                </a:lnTo>
                <a:lnTo>
                  <a:pt x="14" y="7"/>
                </a:lnTo>
                <a:lnTo>
                  <a:pt x="14" y="7"/>
                </a:lnTo>
                <a:lnTo>
                  <a:pt x="14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14"/>
                </a:lnTo>
                <a:lnTo>
                  <a:pt x="7" y="14"/>
                </a:lnTo>
                <a:lnTo>
                  <a:pt x="7" y="21"/>
                </a:lnTo>
                <a:lnTo>
                  <a:pt x="7" y="21"/>
                </a:lnTo>
                <a:lnTo>
                  <a:pt x="7" y="27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7" name=""/>
          <p:cNvSpPr/>
          <p:nvPr/>
        </p:nvSpPr>
        <p:spPr>
          <a:xfrm flipH="1">
            <a:off x="4772160" y="3581280"/>
            <a:ext cx="10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8" name=""/>
          <p:cNvSpPr/>
          <p:nvPr/>
        </p:nvSpPr>
        <p:spPr>
          <a:xfrm>
            <a:off x="4226040" y="3581280"/>
            <a:ext cx="546120" cy="644760"/>
          </a:xfrm>
          <a:custGeom>
            <a:avLst/>
            <a:gdLst/>
            <a:ahLst/>
            <a:rect l="l" t="t" r="r" b="b"/>
            <a:pathLst>
              <a:path w="344" h="406">
                <a:moveTo>
                  <a:pt x="344" y="0"/>
                </a:moveTo>
                <a:lnTo>
                  <a:pt x="344" y="7"/>
                </a:lnTo>
                <a:lnTo>
                  <a:pt x="338" y="13"/>
                </a:lnTo>
                <a:lnTo>
                  <a:pt x="331" y="13"/>
                </a:lnTo>
                <a:lnTo>
                  <a:pt x="324" y="20"/>
                </a:lnTo>
                <a:lnTo>
                  <a:pt x="317" y="27"/>
                </a:lnTo>
                <a:lnTo>
                  <a:pt x="317" y="34"/>
                </a:lnTo>
                <a:lnTo>
                  <a:pt x="317" y="41"/>
                </a:lnTo>
                <a:lnTo>
                  <a:pt x="317" y="48"/>
                </a:lnTo>
                <a:lnTo>
                  <a:pt x="310" y="55"/>
                </a:lnTo>
                <a:lnTo>
                  <a:pt x="310" y="55"/>
                </a:lnTo>
                <a:lnTo>
                  <a:pt x="303" y="62"/>
                </a:lnTo>
                <a:lnTo>
                  <a:pt x="289" y="62"/>
                </a:lnTo>
                <a:lnTo>
                  <a:pt x="282" y="55"/>
                </a:lnTo>
                <a:lnTo>
                  <a:pt x="269" y="62"/>
                </a:lnTo>
                <a:lnTo>
                  <a:pt x="262" y="62"/>
                </a:lnTo>
                <a:lnTo>
                  <a:pt x="262" y="69"/>
                </a:lnTo>
                <a:lnTo>
                  <a:pt x="255" y="75"/>
                </a:lnTo>
                <a:lnTo>
                  <a:pt x="255" y="82"/>
                </a:lnTo>
                <a:lnTo>
                  <a:pt x="255" y="89"/>
                </a:lnTo>
                <a:lnTo>
                  <a:pt x="248" y="96"/>
                </a:lnTo>
                <a:lnTo>
                  <a:pt x="248" y="103"/>
                </a:lnTo>
                <a:lnTo>
                  <a:pt x="241" y="103"/>
                </a:lnTo>
                <a:lnTo>
                  <a:pt x="241" y="110"/>
                </a:lnTo>
                <a:lnTo>
                  <a:pt x="234" y="117"/>
                </a:lnTo>
                <a:lnTo>
                  <a:pt x="234" y="124"/>
                </a:lnTo>
                <a:lnTo>
                  <a:pt x="234" y="131"/>
                </a:lnTo>
                <a:lnTo>
                  <a:pt x="234" y="137"/>
                </a:lnTo>
                <a:lnTo>
                  <a:pt x="234" y="144"/>
                </a:lnTo>
                <a:lnTo>
                  <a:pt x="234" y="151"/>
                </a:lnTo>
                <a:lnTo>
                  <a:pt x="234" y="158"/>
                </a:lnTo>
                <a:lnTo>
                  <a:pt x="234" y="165"/>
                </a:lnTo>
                <a:lnTo>
                  <a:pt x="234" y="172"/>
                </a:lnTo>
                <a:lnTo>
                  <a:pt x="227" y="172"/>
                </a:lnTo>
                <a:lnTo>
                  <a:pt x="227" y="179"/>
                </a:lnTo>
                <a:lnTo>
                  <a:pt x="227" y="186"/>
                </a:lnTo>
                <a:lnTo>
                  <a:pt x="227" y="193"/>
                </a:lnTo>
                <a:lnTo>
                  <a:pt x="227" y="199"/>
                </a:lnTo>
                <a:lnTo>
                  <a:pt x="227" y="206"/>
                </a:lnTo>
                <a:lnTo>
                  <a:pt x="227" y="213"/>
                </a:lnTo>
                <a:lnTo>
                  <a:pt x="227" y="220"/>
                </a:lnTo>
                <a:lnTo>
                  <a:pt x="227" y="227"/>
                </a:lnTo>
                <a:lnTo>
                  <a:pt x="227" y="234"/>
                </a:lnTo>
                <a:lnTo>
                  <a:pt x="227" y="234"/>
                </a:lnTo>
                <a:lnTo>
                  <a:pt x="227" y="241"/>
                </a:lnTo>
                <a:lnTo>
                  <a:pt x="227" y="248"/>
                </a:lnTo>
                <a:lnTo>
                  <a:pt x="234" y="255"/>
                </a:lnTo>
                <a:lnTo>
                  <a:pt x="234" y="261"/>
                </a:lnTo>
                <a:lnTo>
                  <a:pt x="234" y="268"/>
                </a:lnTo>
                <a:lnTo>
                  <a:pt x="234" y="275"/>
                </a:lnTo>
                <a:lnTo>
                  <a:pt x="234" y="282"/>
                </a:lnTo>
                <a:lnTo>
                  <a:pt x="234" y="289"/>
                </a:lnTo>
                <a:lnTo>
                  <a:pt x="234" y="296"/>
                </a:lnTo>
                <a:lnTo>
                  <a:pt x="234" y="303"/>
                </a:lnTo>
                <a:lnTo>
                  <a:pt x="227" y="303"/>
                </a:lnTo>
                <a:lnTo>
                  <a:pt x="227" y="310"/>
                </a:lnTo>
                <a:lnTo>
                  <a:pt x="220" y="317"/>
                </a:lnTo>
                <a:lnTo>
                  <a:pt x="213" y="323"/>
                </a:lnTo>
                <a:lnTo>
                  <a:pt x="213" y="330"/>
                </a:lnTo>
                <a:lnTo>
                  <a:pt x="200" y="330"/>
                </a:lnTo>
                <a:lnTo>
                  <a:pt x="200" y="337"/>
                </a:lnTo>
                <a:lnTo>
                  <a:pt x="193" y="344"/>
                </a:lnTo>
                <a:lnTo>
                  <a:pt x="193" y="351"/>
                </a:lnTo>
                <a:lnTo>
                  <a:pt x="193" y="358"/>
                </a:lnTo>
                <a:lnTo>
                  <a:pt x="200" y="365"/>
                </a:lnTo>
                <a:lnTo>
                  <a:pt x="206" y="365"/>
                </a:lnTo>
                <a:lnTo>
                  <a:pt x="220" y="365"/>
                </a:lnTo>
                <a:lnTo>
                  <a:pt x="227" y="365"/>
                </a:lnTo>
                <a:lnTo>
                  <a:pt x="234" y="358"/>
                </a:lnTo>
                <a:lnTo>
                  <a:pt x="234" y="351"/>
                </a:lnTo>
                <a:lnTo>
                  <a:pt x="241" y="344"/>
                </a:lnTo>
                <a:lnTo>
                  <a:pt x="241" y="337"/>
                </a:lnTo>
                <a:lnTo>
                  <a:pt x="248" y="337"/>
                </a:lnTo>
                <a:lnTo>
                  <a:pt x="248" y="337"/>
                </a:lnTo>
                <a:lnTo>
                  <a:pt x="255" y="337"/>
                </a:lnTo>
                <a:lnTo>
                  <a:pt x="262" y="344"/>
                </a:lnTo>
                <a:lnTo>
                  <a:pt x="262" y="351"/>
                </a:lnTo>
                <a:lnTo>
                  <a:pt x="262" y="358"/>
                </a:lnTo>
                <a:lnTo>
                  <a:pt x="255" y="365"/>
                </a:lnTo>
                <a:lnTo>
                  <a:pt x="248" y="372"/>
                </a:lnTo>
                <a:lnTo>
                  <a:pt x="248" y="379"/>
                </a:lnTo>
                <a:lnTo>
                  <a:pt x="241" y="379"/>
                </a:lnTo>
                <a:lnTo>
                  <a:pt x="234" y="385"/>
                </a:lnTo>
                <a:lnTo>
                  <a:pt x="227" y="392"/>
                </a:lnTo>
                <a:lnTo>
                  <a:pt x="220" y="392"/>
                </a:lnTo>
                <a:lnTo>
                  <a:pt x="213" y="385"/>
                </a:lnTo>
                <a:lnTo>
                  <a:pt x="206" y="379"/>
                </a:lnTo>
                <a:lnTo>
                  <a:pt x="206" y="372"/>
                </a:lnTo>
                <a:lnTo>
                  <a:pt x="200" y="365"/>
                </a:lnTo>
                <a:lnTo>
                  <a:pt x="200" y="365"/>
                </a:lnTo>
                <a:lnTo>
                  <a:pt x="193" y="358"/>
                </a:lnTo>
                <a:lnTo>
                  <a:pt x="186" y="351"/>
                </a:lnTo>
                <a:lnTo>
                  <a:pt x="179" y="344"/>
                </a:lnTo>
                <a:lnTo>
                  <a:pt x="179" y="337"/>
                </a:lnTo>
                <a:lnTo>
                  <a:pt x="172" y="337"/>
                </a:lnTo>
                <a:lnTo>
                  <a:pt x="172" y="330"/>
                </a:lnTo>
                <a:lnTo>
                  <a:pt x="165" y="323"/>
                </a:lnTo>
                <a:lnTo>
                  <a:pt x="165" y="317"/>
                </a:lnTo>
                <a:lnTo>
                  <a:pt x="158" y="310"/>
                </a:lnTo>
                <a:lnTo>
                  <a:pt x="158" y="303"/>
                </a:lnTo>
                <a:lnTo>
                  <a:pt x="158" y="303"/>
                </a:lnTo>
                <a:lnTo>
                  <a:pt x="151" y="296"/>
                </a:lnTo>
                <a:lnTo>
                  <a:pt x="151" y="289"/>
                </a:lnTo>
                <a:lnTo>
                  <a:pt x="151" y="282"/>
                </a:lnTo>
                <a:lnTo>
                  <a:pt x="151" y="275"/>
                </a:lnTo>
                <a:lnTo>
                  <a:pt x="151" y="268"/>
                </a:lnTo>
                <a:lnTo>
                  <a:pt x="144" y="261"/>
                </a:lnTo>
                <a:lnTo>
                  <a:pt x="144" y="255"/>
                </a:lnTo>
                <a:lnTo>
                  <a:pt x="144" y="248"/>
                </a:lnTo>
                <a:lnTo>
                  <a:pt x="144" y="241"/>
                </a:lnTo>
                <a:lnTo>
                  <a:pt x="144" y="234"/>
                </a:lnTo>
                <a:lnTo>
                  <a:pt x="138" y="234"/>
                </a:lnTo>
                <a:lnTo>
                  <a:pt x="138" y="227"/>
                </a:lnTo>
                <a:lnTo>
                  <a:pt x="138" y="220"/>
                </a:lnTo>
                <a:lnTo>
                  <a:pt x="138" y="213"/>
                </a:lnTo>
                <a:lnTo>
                  <a:pt x="131" y="206"/>
                </a:lnTo>
                <a:lnTo>
                  <a:pt x="131" y="199"/>
                </a:lnTo>
                <a:lnTo>
                  <a:pt x="131" y="193"/>
                </a:lnTo>
                <a:lnTo>
                  <a:pt x="131" y="193"/>
                </a:lnTo>
                <a:lnTo>
                  <a:pt x="124" y="193"/>
                </a:lnTo>
                <a:lnTo>
                  <a:pt x="124" y="199"/>
                </a:lnTo>
                <a:lnTo>
                  <a:pt x="117" y="206"/>
                </a:lnTo>
                <a:lnTo>
                  <a:pt x="103" y="206"/>
                </a:lnTo>
                <a:lnTo>
                  <a:pt x="96" y="213"/>
                </a:lnTo>
                <a:lnTo>
                  <a:pt x="96" y="213"/>
                </a:lnTo>
                <a:lnTo>
                  <a:pt x="89" y="220"/>
                </a:lnTo>
                <a:lnTo>
                  <a:pt x="89" y="227"/>
                </a:lnTo>
                <a:lnTo>
                  <a:pt x="82" y="234"/>
                </a:lnTo>
                <a:lnTo>
                  <a:pt x="82" y="241"/>
                </a:lnTo>
                <a:lnTo>
                  <a:pt x="75" y="248"/>
                </a:lnTo>
                <a:lnTo>
                  <a:pt x="75" y="255"/>
                </a:lnTo>
                <a:lnTo>
                  <a:pt x="69" y="261"/>
                </a:lnTo>
                <a:lnTo>
                  <a:pt x="62" y="261"/>
                </a:lnTo>
                <a:lnTo>
                  <a:pt x="62" y="268"/>
                </a:lnTo>
                <a:lnTo>
                  <a:pt x="55" y="275"/>
                </a:lnTo>
                <a:lnTo>
                  <a:pt x="55" y="282"/>
                </a:lnTo>
                <a:lnTo>
                  <a:pt x="48" y="289"/>
                </a:lnTo>
                <a:lnTo>
                  <a:pt x="41" y="289"/>
                </a:lnTo>
                <a:lnTo>
                  <a:pt x="41" y="296"/>
                </a:lnTo>
                <a:lnTo>
                  <a:pt x="34" y="303"/>
                </a:lnTo>
                <a:lnTo>
                  <a:pt x="27" y="310"/>
                </a:lnTo>
                <a:lnTo>
                  <a:pt x="20" y="310"/>
                </a:lnTo>
                <a:lnTo>
                  <a:pt x="13" y="317"/>
                </a:lnTo>
                <a:lnTo>
                  <a:pt x="13" y="323"/>
                </a:lnTo>
                <a:lnTo>
                  <a:pt x="7" y="330"/>
                </a:lnTo>
                <a:lnTo>
                  <a:pt x="7" y="337"/>
                </a:lnTo>
                <a:lnTo>
                  <a:pt x="0" y="344"/>
                </a:lnTo>
                <a:lnTo>
                  <a:pt x="0" y="351"/>
                </a:lnTo>
                <a:lnTo>
                  <a:pt x="0" y="351"/>
                </a:lnTo>
                <a:lnTo>
                  <a:pt x="7" y="358"/>
                </a:lnTo>
                <a:lnTo>
                  <a:pt x="7" y="365"/>
                </a:lnTo>
                <a:lnTo>
                  <a:pt x="13" y="372"/>
                </a:lnTo>
                <a:lnTo>
                  <a:pt x="27" y="372"/>
                </a:lnTo>
                <a:lnTo>
                  <a:pt x="34" y="379"/>
                </a:lnTo>
                <a:lnTo>
                  <a:pt x="41" y="379"/>
                </a:lnTo>
                <a:lnTo>
                  <a:pt x="48" y="379"/>
                </a:lnTo>
                <a:lnTo>
                  <a:pt x="55" y="385"/>
                </a:lnTo>
                <a:lnTo>
                  <a:pt x="48" y="392"/>
                </a:lnTo>
                <a:lnTo>
                  <a:pt x="48" y="399"/>
                </a:lnTo>
                <a:lnTo>
                  <a:pt x="41" y="406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9" name=""/>
          <p:cNvSpPr/>
          <p:nvPr/>
        </p:nvSpPr>
        <p:spPr>
          <a:xfrm>
            <a:off x="4290840" y="4226040"/>
            <a:ext cx="1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0" name=""/>
          <p:cNvSpPr/>
          <p:nvPr/>
        </p:nvSpPr>
        <p:spPr>
          <a:xfrm>
            <a:off x="4268880" y="4259160"/>
            <a:ext cx="66600" cy="31680"/>
          </a:xfrm>
          <a:custGeom>
            <a:avLst/>
            <a:gdLst/>
            <a:ahLst/>
            <a:rect l="l" t="t" r="r" b="b"/>
            <a:pathLst>
              <a:path w="42" h="20">
                <a:moveTo>
                  <a:pt x="0" y="20"/>
                </a:moveTo>
                <a:lnTo>
                  <a:pt x="0" y="14"/>
                </a:lnTo>
                <a:lnTo>
                  <a:pt x="35" y="7"/>
                </a:lnTo>
                <a:lnTo>
                  <a:pt x="28" y="7"/>
                </a:lnTo>
                <a:lnTo>
                  <a:pt x="28" y="7"/>
                </a:lnTo>
                <a:lnTo>
                  <a:pt x="28" y="7"/>
                </a:lnTo>
                <a:lnTo>
                  <a:pt x="28" y="7"/>
                </a:lnTo>
                <a:lnTo>
                  <a:pt x="28" y="0"/>
                </a:lnTo>
                <a:lnTo>
                  <a:pt x="28" y="0"/>
                </a:lnTo>
                <a:lnTo>
                  <a:pt x="21" y="0"/>
                </a:lnTo>
                <a:lnTo>
                  <a:pt x="21" y="0"/>
                </a:lnTo>
                <a:lnTo>
                  <a:pt x="28" y="0"/>
                </a:lnTo>
                <a:lnTo>
                  <a:pt x="28" y="0"/>
                </a:lnTo>
                <a:lnTo>
                  <a:pt x="35" y="0"/>
                </a:lnTo>
                <a:lnTo>
                  <a:pt x="35" y="0"/>
                </a:lnTo>
                <a:lnTo>
                  <a:pt x="35" y="7"/>
                </a:lnTo>
                <a:lnTo>
                  <a:pt x="35" y="7"/>
                </a:lnTo>
                <a:lnTo>
                  <a:pt x="42" y="7"/>
                </a:lnTo>
                <a:lnTo>
                  <a:pt x="42" y="7"/>
                </a:lnTo>
                <a:lnTo>
                  <a:pt x="42" y="7"/>
                </a:lnTo>
                <a:lnTo>
                  <a:pt x="42" y="14"/>
                </a:lnTo>
                <a:lnTo>
                  <a:pt x="0" y="2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1" name=""/>
          <p:cNvSpPr/>
          <p:nvPr/>
        </p:nvSpPr>
        <p:spPr>
          <a:xfrm>
            <a:off x="4268880" y="4302000"/>
            <a:ext cx="75960" cy="55800"/>
          </a:xfrm>
          <a:custGeom>
            <a:avLst/>
            <a:gdLst/>
            <a:ahLst/>
            <a:rect l="l" t="t" r="r" b="b"/>
            <a:pathLst>
              <a:path w="48" h="35">
                <a:moveTo>
                  <a:pt x="35" y="28"/>
                </a:moveTo>
                <a:lnTo>
                  <a:pt x="35" y="21"/>
                </a:lnTo>
                <a:lnTo>
                  <a:pt x="42" y="21"/>
                </a:lnTo>
                <a:lnTo>
                  <a:pt x="42" y="21"/>
                </a:lnTo>
                <a:lnTo>
                  <a:pt x="42" y="21"/>
                </a:lnTo>
                <a:lnTo>
                  <a:pt x="42" y="21"/>
                </a:lnTo>
                <a:lnTo>
                  <a:pt x="42" y="21"/>
                </a:lnTo>
                <a:lnTo>
                  <a:pt x="42" y="21"/>
                </a:lnTo>
                <a:lnTo>
                  <a:pt x="42" y="14"/>
                </a:lnTo>
                <a:lnTo>
                  <a:pt x="42" y="14"/>
                </a:lnTo>
                <a:lnTo>
                  <a:pt x="42" y="14"/>
                </a:lnTo>
                <a:lnTo>
                  <a:pt x="42" y="14"/>
                </a:lnTo>
                <a:lnTo>
                  <a:pt x="42" y="14"/>
                </a:lnTo>
                <a:lnTo>
                  <a:pt x="42" y="14"/>
                </a:lnTo>
                <a:lnTo>
                  <a:pt x="42" y="7"/>
                </a:lnTo>
                <a:lnTo>
                  <a:pt x="35" y="7"/>
                </a:lnTo>
                <a:lnTo>
                  <a:pt x="35" y="7"/>
                </a:lnTo>
                <a:lnTo>
                  <a:pt x="35" y="7"/>
                </a:lnTo>
                <a:lnTo>
                  <a:pt x="35" y="7"/>
                </a:lnTo>
                <a:lnTo>
                  <a:pt x="28" y="7"/>
                </a:lnTo>
                <a:lnTo>
                  <a:pt x="28" y="7"/>
                </a:lnTo>
                <a:lnTo>
                  <a:pt x="21" y="7"/>
                </a:lnTo>
                <a:lnTo>
                  <a:pt x="28" y="7"/>
                </a:lnTo>
                <a:lnTo>
                  <a:pt x="28" y="7"/>
                </a:lnTo>
                <a:lnTo>
                  <a:pt x="28" y="7"/>
                </a:lnTo>
                <a:lnTo>
                  <a:pt x="28" y="14"/>
                </a:lnTo>
                <a:lnTo>
                  <a:pt x="28" y="14"/>
                </a:lnTo>
                <a:lnTo>
                  <a:pt x="28" y="14"/>
                </a:lnTo>
                <a:lnTo>
                  <a:pt x="28" y="14"/>
                </a:lnTo>
                <a:lnTo>
                  <a:pt x="35" y="14"/>
                </a:lnTo>
                <a:lnTo>
                  <a:pt x="35" y="21"/>
                </a:lnTo>
                <a:lnTo>
                  <a:pt x="28" y="21"/>
                </a:lnTo>
                <a:lnTo>
                  <a:pt x="28" y="28"/>
                </a:lnTo>
                <a:lnTo>
                  <a:pt x="28" y="28"/>
                </a:lnTo>
                <a:lnTo>
                  <a:pt x="28" y="28"/>
                </a:lnTo>
                <a:lnTo>
                  <a:pt x="28" y="28"/>
                </a:lnTo>
                <a:lnTo>
                  <a:pt x="21" y="35"/>
                </a:lnTo>
                <a:lnTo>
                  <a:pt x="21" y="35"/>
                </a:lnTo>
                <a:lnTo>
                  <a:pt x="14" y="35"/>
                </a:lnTo>
                <a:lnTo>
                  <a:pt x="14" y="35"/>
                </a:lnTo>
                <a:lnTo>
                  <a:pt x="14" y="35"/>
                </a:lnTo>
                <a:lnTo>
                  <a:pt x="14" y="35"/>
                </a:lnTo>
                <a:lnTo>
                  <a:pt x="7" y="35"/>
                </a:lnTo>
                <a:lnTo>
                  <a:pt x="7" y="28"/>
                </a:lnTo>
                <a:lnTo>
                  <a:pt x="7" y="28"/>
                </a:lnTo>
                <a:lnTo>
                  <a:pt x="7" y="28"/>
                </a:lnTo>
                <a:lnTo>
                  <a:pt x="7" y="28"/>
                </a:lnTo>
                <a:lnTo>
                  <a:pt x="0" y="28"/>
                </a:lnTo>
                <a:lnTo>
                  <a:pt x="0" y="21"/>
                </a:lnTo>
                <a:lnTo>
                  <a:pt x="0" y="21"/>
                </a:lnTo>
                <a:lnTo>
                  <a:pt x="0" y="21"/>
                </a:lnTo>
                <a:lnTo>
                  <a:pt x="0" y="14"/>
                </a:lnTo>
                <a:lnTo>
                  <a:pt x="0" y="14"/>
                </a:lnTo>
                <a:lnTo>
                  <a:pt x="7" y="7"/>
                </a:lnTo>
                <a:lnTo>
                  <a:pt x="7" y="7"/>
                </a:lnTo>
                <a:lnTo>
                  <a:pt x="14" y="7"/>
                </a:lnTo>
                <a:lnTo>
                  <a:pt x="14" y="0"/>
                </a:lnTo>
                <a:lnTo>
                  <a:pt x="21" y="0"/>
                </a:lnTo>
                <a:lnTo>
                  <a:pt x="28" y="0"/>
                </a:lnTo>
                <a:lnTo>
                  <a:pt x="35" y="0"/>
                </a:lnTo>
                <a:lnTo>
                  <a:pt x="35" y="0"/>
                </a:lnTo>
                <a:lnTo>
                  <a:pt x="42" y="7"/>
                </a:lnTo>
                <a:lnTo>
                  <a:pt x="42" y="7"/>
                </a:lnTo>
                <a:lnTo>
                  <a:pt x="42" y="7"/>
                </a:lnTo>
                <a:lnTo>
                  <a:pt x="48" y="14"/>
                </a:lnTo>
                <a:lnTo>
                  <a:pt x="48" y="14"/>
                </a:lnTo>
                <a:lnTo>
                  <a:pt x="48" y="14"/>
                </a:lnTo>
                <a:lnTo>
                  <a:pt x="48" y="21"/>
                </a:lnTo>
                <a:lnTo>
                  <a:pt x="48" y="21"/>
                </a:lnTo>
                <a:lnTo>
                  <a:pt x="48" y="21"/>
                </a:lnTo>
                <a:lnTo>
                  <a:pt x="42" y="28"/>
                </a:lnTo>
                <a:lnTo>
                  <a:pt x="42" y="28"/>
                </a:lnTo>
                <a:lnTo>
                  <a:pt x="42" y="28"/>
                </a:lnTo>
                <a:lnTo>
                  <a:pt x="35" y="28"/>
                </a:lnTo>
                <a:close/>
                <a:moveTo>
                  <a:pt x="14" y="7"/>
                </a:moveTo>
                <a:lnTo>
                  <a:pt x="14" y="7"/>
                </a:lnTo>
                <a:lnTo>
                  <a:pt x="14" y="7"/>
                </a:lnTo>
                <a:lnTo>
                  <a:pt x="14" y="14"/>
                </a:lnTo>
                <a:lnTo>
                  <a:pt x="7" y="14"/>
                </a:lnTo>
                <a:lnTo>
                  <a:pt x="7" y="14"/>
                </a:lnTo>
                <a:lnTo>
                  <a:pt x="7" y="14"/>
                </a:lnTo>
                <a:lnTo>
                  <a:pt x="7" y="14"/>
                </a:lnTo>
                <a:lnTo>
                  <a:pt x="7" y="14"/>
                </a:lnTo>
                <a:lnTo>
                  <a:pt x="7" y="14"/>
                </a:lnTo>
                <a:lnTo>
                  <a:pt x="7" y="21"/>
                </a:lnTo>
                <a:lnTo>
                  <a:pt x="7" y="21"/>
                </a:lnTo>
                <a:lnTo>
                  <a:pt x="7" y="21"/>
                </a:lnTo>
                <a:lnTo>
                  <a:pt x="7" y="21"/>
                </a:lnTo>
                <a:lnTo>
                  <a:pt x="7" y="21"/>
                </a:lnTo>
                <a:lnTo>
                  <a:pt x="7" y="28"/>
                </a:lnTo>
                <a:lnTo>
                  <a:pt x="7" y="28"/>
                </a:lnTo>
                <a:lnTo>
                  <a:pt x="14" y="28"/>
                </a:lnTo>
                <a:lnTo>
                  <a:pt x="14" y="28"/>
                </a:lnTo>
                <a:lnTo>
                  <a:pt x="14" y="28"/>
                </a:lnTo>
                <a:lnTo>
                  <a:pt x="21" y="28"/>
                </a:lnTo>
                <a:lnTo>
                  <a:pt x="21" y="28"/>
                </a:lnTo>
                <a:lnTo>
                  <a:pt x="21" y="28"/>
                </a:lnTo>
                <a:lnTo>
                  <a:pt x="21" y="28"/>
                </a:lnTo>
                <a:lnTo>
                  <a:pt x="28" y="21"/>
                </a:lnTo>
                <a:lnTo>
                  <a:pt x="28" y="21"/>
                </a:lnTo>
                <a:lnTo>
                  <a:pt x="28" y="21"/>
                </a:lnTo>
                <a:lnTo>
                  <a:pt x="28" y="21"/>
                </a:lnTo>
                <a:lnTo>
                  <a:pt x="28" y="14"/>
                </a:lnTo>
                <a:lnTo>
                  <a:pt x="28" y="14"/>
                </a:lnTo>
                <a:lnTo>
                  <a:pt x="28" y="14"/>
                </a:lnTo>
                <a:lnTo>
                  <a:pt x="21" y="14"/>
                </a:lnTo>
                <a:lnTo>
                  <a:pt x="21" y="14"/>
                </a:lnTo>
                <a:lnTo>
                  <a:pt x="21" y="7"/>
                </a:lnTo>
                <a:lnTo>
                  <a:pt x="21" y="7"/>
                </a:lnTo>
                <a:lnTo>
                  <a:pt x="21" y="7"/>
                </a:lnTo>
                <a:lnTo>
                  <a:pt x="14" y="7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2" name=""/>
          <p:cNvSpPr/>
          <p:nvPr/>
        </p:nvSpPr>
        <p:spPr>
          <a:xfrm>
            <a:off x="4280040" y="4357800"/>
            <a:ext cx="75960" cy="54000"/>
          </a:xfrm>
          <a:custGeom>
            <a:avLst/>
            <a:gdLst/>
            <a:ahLst/>
            <a:rect l="l" t="t" r="r" b="b"/>
            <a:pathLst>
              <a:path w="48" h="34">
                <a:moveTo>
                  <a:pt x="21" y="0"/>
                </a:moveTo>
                <a:lnTo>
                  <a:pt x="21" y="0"/>
                </a:lnTo>
                <a:lnTo>
                  <a:pt x="28" y="0"/>
                </a:lnTo>
                <a:lnTo>
                  <a:pt x="28" y="0"/>
                </a:lnTo>
                <a:lnTo>
                  <a:pt x="35" y="0"/>
                </a:lnTo>
                <a:lnTo>
                  <a:pt x="35" y="0"/>
                </a:lnTo>
                <a:lnTo>
                  <a:pt x="35" y="0"/>
                </a:lnTo>
                <a:lnTo>
                  <a:pt x="41" y="7"/>
                </a:lnTo>
                <a:lnTo>
                  <a:pt x="41" y="7"/>
                </a:lnTo>
                <a:lnTo>
                  <a:pt x="41" y="7"/>
                </a:lnTo>
                <a:lnTo>
                  <a:pt x="41" y="7"/>
                </a:lnTo>
                <a:lnTo>
                  <a:pt x="41" y="14"/>
                </a:lnTo>
                <a:lnTo>
                  <a:pt x="48" y="14"/>
                </a:lnTo>
                <a:lnTo>
                  <a:pt x="48" y="14"/>
                </a:lnTo>
                <a:lnTo>
                  <a:pt x="48" y="14"/>
                </a:lnTo>
                <a:lnTo>
                  <a:pt x="48" y="20"/>
                </a:lnTo>
                <a:lnTo>
                  <a:pt x="41" y="20"/>
                </a:lnTo>
                <a:lnTo>
                  <a:pt x="41" y="20"/>
                </a:lnTo>
                <a:lnTo>
                  <a:pt x="41" y="20"/>
                </a:lnTo>
                <a:lnTo>
                  <a:pt x="41" y="20"/>
                </a:lnTo>
                <a:lnTo>
                  <a:pt x="41" y="27"/>
                </a:lnTo>
                <a:lnTo>
                  <a:pt x="41" y="27"/>
                </a:lnTo>
                <a:lnTo>
                  <a:pt x="41" y="27"/>
                </a:lnTo>
                <a:lnTo>
                  <a:pt x="35" y="27"/>
                </a:lnTo>
                <a:lnTo>
                  <a:pt x="35" y="27"/>
                </a:lnTo>
                <a:lnTo>
                  <a:pt x="35" y="27"/>
                </a:lnTo>
                <a:lnTo>
                  <a:pt x="28" y="27"/>
                </a:lnTo>
                <a:lnTo>
                  <a:pt x="28" y="27"/>
                </a:lnTo>
                <a:lnTo>
                  <a:pt x="28" y="27"/>
                </a:lnTo>
                <a:lnTo>
                  <a:pt x="21" y="34"/>
                </a:lnTo>
                <a:lnTo>
                  <a:pt x="21" y="34"/>
                </a:lnTo>
                <a:lnTo>
                  <a:pt x="14" y="34"/>
                </a:lnTo>
                <a:lnTo>
                  <a:pt x="14" y="34"/>
                </a:lnTo>
                <a:lnTo>
                  <a:pt x="7" y="27"/>
                </a:lnTo>
                <a:lnTo>
                  <a:pt x="7" y="27"/>
                </a:lnTo>
                <a:lnTo>
                  <a:pt x="7" y="27"/>
                </a:lnTo>
                <a:lnTo>
                  <a:pt x="7" y="27"/>
                </a:lnTo>
                <a:lnTo>
                  <a:pt x="0" y="27"/>
                </a:lnTo>
                <a:lnTo>
                  <a:pt x="0" y="27"/>
                </a:lnTo>
                <a:lnTo>
                  <a:pt x="0" y="20"/>
                </a:lnTo>
                <a:lnTo>
                  <a:pt x="0" y="20"/>
                </a:lnTo>
                <a:lnTo>
                  <a:pt x="0" y="14"/>
                </a:lnTo>
                <a:lnTo>
                  <a:pt x="0" y="14"/>
                </a:lnTo>
                <a:lnTo>
                  <a:pt x="0" y="14"/>
                </a:lnTo>
                <a:lnTo>
                  <a:pt x="0" y="7"/>
                </a:lnTo>
                <a:lnTo>
                  <a:pt x="7" y="7"/>
                </a:lnTo>
                <a:lnTo>
                  <a:pt x="7" y="7"/>
                </a:lnTo>
                <a:lnTo>
                  <a:pt x="14" y="0"/>
                </a:lnTo>
                <a:lnTo>
                  <a:pt x="21" y="0"/>
                </a:lnTo>
                <a:close/>
                <a:moveTo>
                  <a:pt x="21" y="7"/>
                </a:moveTo>
                <a:lnTo>
                  <a:pt x="14" y="7"/>
                </a:lnTo>
                <a:lnTo>
                  <a:pt x="14" y="7"/>
                </a:lnTo>
                <a:lnTo>
                  <a:pt x="7" y="14"/>
                </a:lnTo>
                <a:lnTo>
                  <a:pt x="7" y="14"/>
                </a:lnTo>
                <a:lnTo>
                  <a:pt x="7" y="14"/>
                </a:lnTo>
                <a:lnTo>
                  <a:pt x="7" y="14"/>
                </a:lnTo>
                <a:lnTo>
                  <a:pt x="7" y="20"/>
                </a:lnTo>
                <a:lnTo>
                  <a:pt x="7" y="20"/>
                </a:lnTo>
                <a:lnTo>
                  <a:pt x="7" y="20"/>
                </a:lnTo>
                <a:lnTo>
                  <a:pt x="7" y="20"/>
                </a:lnTo>
                <a:lnTo>
                  <a:pt x="7" y="20"/>
                </a:lnTo>
                <a:lnTo>
                  <a:pt x="7" y="27"/>
                </a:lnTo>
                <a:lnTo>
                  <a:pt x="14" y="27"/>
                </a:lnTo>
                <a:lnTo>
                  <a:pt x="14" y="27"/>
                </a:lnTo>
                <a:lnTo>
                  <a:pt x="21" y="27"/>
                </a:lnTo>
                <a:lnTo>
                  <a:pt x="21" y="27"/>
                </a:lnTo>
                <a:lnTo>
                  <a:pt x="28" y="27"/>
                </a:lnTo>
                <a:lnTo>
                  <a:pt x="35" y="20"/>
                </a:lnTo>
                <a:lnTo>
                  <a:pt x="35" y="20"/>
                </a:lnTo>
                <a:lnTo>
                  <a:pt x="41" y="20"/>
                </a:lnTo>
                <a:lnTo>
                  <a:pt x="41" y="20"/>
                </a:lnTo>
                <a:lnTo>
                  <a:pt x="41" y="14"/>
                </a:lnTo>
                <a:lnTo>
                  <a:pt x="41" y="14"/>
                </a:lnTo>
                <a:lnTo>
                  <a:pt x="41" y="14"/>
                </a:lnTo>
                <a:lnTo>
                  <a:pt x="41" y="14"/>
                </a:lnTo>
                <a:lnTo>
                  <a:pt x="41" y="7"/>
                </a:lnTo>
                <a:lnTo>
                  <a:pt x="41" y="7"/>
                </a:lnTo>
                <a:lnTo>
                  <a:pt x="35" y="7"/>
                </a:lnTo>
                <a:lnTo>
                  <a:pt x="35" y="7"/>
                </a:lnTo>
                <a:lnTo>
                  <a:pt x="28" y="7"/>
                </a:lnTo>
                <a:lnTo>
                  <a:pt x="28" y="7"/>
                </a:lnTo>
                <a:lnTo>
                  <a:pt x="21" y="7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3" name=""/>
          <p:cNvSpPr/>
          <p:nvPr/>
        </p:nvSpPr>
        <p:spPr>
          <a:xfrm>
            <a:off x="4324320" y="4433760"/>
            <a:ext cx="1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4" name=""/>
          <p:cNvSpPr/>
          <p:nvPr/>
        </p:nvSpPr>
        <p:spPr>
          <a:xfrm>
            <a:off x="3436920" y="4270320"/>
            <a:ext cx="919080" cy="338040"/>
          </a:xfrm>
          <a:custGeom>
            <a:avLst/>
            <a:gdLst/>
            <a:ahLst/>
            <a:rect l="l" t="t" r="r" b="b"/>
            <a:pathLst>
              <a:path w="579" h="213">
                <a:moveTo>
                  <a:pt x="559" y="103"/>
                </a:moveTo>
                <a:lnTo>
                  <a:pt x="559" y="110"/>
                </a:lnTo>
                <a:lnTo>
                  <a:pt x="559" y="117"/>
                </a:lnTo>
                <a:lnTo>
                  <a:pt x="559" y="124"/>
                </a:lnTo>
                <a:lnTo>
                  <a:pt x="566" y="131"/>
                </a:lnTo>
                <a:lnTo>
                  <a:pt x="566" y="131"/>
                </a:lnTo>
                <a:lnTo>
                  <a:pt x="566" y="137"/>
                </a:lnTo>
                <a:lnTo>
                  <a:pt x="566" y="144"/>
                </a:lnTo>
                <a:lnTo>
                  <a:pt x="566" y="151"/>
                </a:lnTo>
                <a:lnTo>
                  <a:pt x="572" y="158"/>
                </a:lnTo>
                <a:lnTo>
                  <a:pt x="572" y="165"/>
                </a:lnTo>
                <a:lnTo>
                  <a:pt x="579" y="172"/>
                </a:lnTo>
                <a:lnTo>
                  <a:pt x="579" y="179"/>
                </a:lnTo>
                <a:lnTo>
                  <a:pt x="579" y="186"/>
                </a:lnTo>
                <a:lnTo>
                  <a:pt x="566" y="186"/>
                </a:lnTo>
                <a:lnTo>
                  <a:pt x="559" y="186"/>
                </a:lnTo>
                <a:lnTo>
                  <a:pt x="552" y="186"/>
                </a:lnTo>
                <a:lnTo>
                  <a:pt x="538" y="193"/>
                </a:lnTo>
                <a:lnTo>
                  <a:pt x="531" y="193"/>
                </a:lnTo>
                <a:lnTo>
                  <a:pt x="524" y="199"/>
                </a:lnTo>
                <a:lnTo>
                  <a:pt x="517" y="199"/>
                </a:lnTo>
                <a:lnTo>
                  <a:pt x="510" y="206"/>
                </a:lnTo>
                <a:lnTo>
                  <a:pt x="510" y="213"/>
                </a:lnTo>
                <a:lnTo>
                  <a:pt x="504" y="206"/>
                </a:lnTo>
                <a:lnTo>
                  <a:pt x="497" y="199"/>
                </a:lnTo>
                <a:lnTo>
                  <a:pt x="497" y="199"/>
                </a:lnTo>
                <a:lnTo>
                  <a:pt x="490" y="193"/>
                </a:lnTo>
                <a:lnTo>
                  <a:pt x="490" y="186"/>
                </a:lnTo>
                <a:lnTo>
                  <a:pt x="490" y="179"/>
                </a:lnTo>
                <a:lnTo>
                  <a:pt x="483" y="179"/>
                </a:lnTo>
                <a:lnTo>
                  <a:pt x="483" y="172"/>
                </a:lnTo>
                <a:lnTo>
                  <a:pt x="490" y="165"/>
                </a:lnTo>
                <a:lnTo>
                  <a:pt x="490" y="158"/>
                </a:lnTo>
                <a:lnTo>
                  <a:pt x="490" y="151"/>
                </a:lnTo>
                <a:lnTo>
                  <a:pt x="490" y="144"/>
                </a:lnTo>
                <a:lnTo>
                  <a:pt x="490" y="137"/>
                </a:lnTo>
                <a:lnTo>
                  <a:pt x="490" y="131"/>
                </a:lnTo>
                <a:lnTo>
                  <a:pt x="490" y="124"/>
                </a:lnTo>
                <a:lnTo>
                  <a:pt x="490" y="117"/>
                </a:lnTo>
                <a:lnTo>
                  <a:pt x="497" y="110"/>
                </a:lnTo>
                <a:lnTo>
                  <a:pt x="497" y="103"/>
                </a:lnTo>
                <a:lnTo>
                  <a:pt x="497" y="103"/>
                </a:lnTo>
                <a:lnTo>
                  <a:pt x="497" y="96"/>
                </a:lnTo>
                <a:lnTo>
                  <a:pt x="497" y="89"/>
                </a:lnTo>
                <a:lnTo>
                  <a:pt x="490" y="82"/>
                </a:lnTo>
                <a:lnTo>
                  <a:pt x="483" y="75"/>
                </a:lnTo>
                <a:lnTo>
                  <a:pt x="476" y="75"/>
                </a:lnTo>
                <a:lnTo>
                  <a:pt x="469" y="69"/>
                </a:lnTo>
                <a:lnTo>
                  <a:pt x="476" y="62"/>
                </a:lnTo>
                <a:lnTo>
                  <a:pt x="483" y="55"/>
                </a:lnTo>
                <a:lnTo>
                  <a:pt x="490" y="62"/>
                </a:lnTo>
                <a:lnTo>
                  <a:pt x="490" y="69"/>
                </a:lnTo>
                <a:lnTo>
                  <a:pt x="497" y="75"/>
                </a:lnTo>
                <a:lnTo>
                  <a:pt x="504" y="82"/>
                </a:lnTo>
                <a:lnTo>
                  <a:pt x="510" y="82"/>
                </a:lnTo>
                <a:lnTo>
                  <a:pt x="517" y="82"/>
                </a:lnTo>
                <a:lnTo>
                  <a:pt x="517" y="75"/>
                </a:lnTo>
                <a:lnTo>
                  <a:pt x="524" y="69"/>
                </a:lnTo>
                <a:lnTo>
                  <a:pt x="531" y="62"/>
                </a:lnTo>
                <a:lnTo>
                  <a:pt x="531" y="55"/>
                </a:lnTo>
                <a:lnTo>
                  <a:pt x="531" y="48"/>
                </a:lnTo>
                <a:lnTo>
                  <a:pt x="531" y="41"/>
                </a:lnTo>
                <a:lnTo>
                  <a:pt x="531" y="34"/>
                </a:lnTo>
                <a:lnTo>
                  <a:pt x="524" y="34"/>
                </a:lnTo>
                <a:lnTo>
                  <a:pt x="517" y="27"/>
                </a:lnTo>
                <a:lnTo>
                  <a:pt x="504" y="27"/>
                </a:lnTo>
                <a:lnTo>
                  <a:pt x="497" y="20"/>
                </a:lnTo>
                <a:lnTo>
                  <a:pt x="490" y="20"/>
                </a:lnTo>
                <a:lnTo>
                  <a:pt x="483" y="13"/>
                </a:lnTo>
                <a:lnTo>
                  <a:pt x="476" y="13"/>
                </a:lnTo>
                <a:lnTo>
                  <a:pt x="469" y="7"/>
                </a:lnTo>
                <a:lnTo>
                  <a:pt x="455" y="7"/>
                </a:lnTo>
                <a:lnTo>
                  <a:pt x="448" y="7"/>
                </a:lnTo>
                <a:lnTo>
                  <a:pt x="441" y="13"/>
                </a:lnTo>
                <a:lnTo>
                  <a:pt x="441" y="13"/>
                </a:lnTo>
                <a:lnTo>
                  <a:pt x="435" y="20"/>
                </a:lnTo>
                <a:lnTo>
                  <a:pt x="435" y="27"/>
                </a:lnTo>
                <a:lnTo>
                  <a:pt x="428" y="34"/>
                </a:lnTo>
                <a:lnTo>
                  <a:pt x="428" y="41"/>
                </a:lnTo>
                <a:lnTo>
                  <a:pt x="421" y="48"/>
                </a:lnTo>
                <a:lnTo>
                  <a:pt x="421" y="48"/>
                </a:lnTo>
                <a:lnTo>
                  <a:pt x="421" y="55"/>
                </a:lnTo>
                <a:lnTo>
                  <a:pt x="414" y="62"/>
                </a:lnTo>
                <a:lnTo>
                  <a:pt x="414" y="69"/>
                </a:lnTo>
                <a:lnTo>
                  <a:pt x="407" y="75"/>
                </a:lnTo>
                <a:lnTo>
                  <a:pt x="400" y="82"/>
                </a:lnTo>
                <a:lnTo>
                  <a:pt x="393" y="82"/>
                </a:lnTo>
                <a:lnTo>
                  <a:pt x="393" y="89"/>
                </a:lnTo>
                <a:lnTo>
                  <a:pt x="386" y="96"/>
                </a:lnTo>
                <a:lnTo>
                  <a:pt x="379" y="103"/>
                </a:lnTo>
                <a:lnTo>
                  <a:pt x="379" y="110"/>
                </a:lnTo>
                <a:lnTo>
                  <a:pt x="373" y="110"/>
                </a:lnTo>
                <a:lnTo>
                  <a:pt x="366" y="117"/>
                </a:lnTo>
                <a:lnTo>
                  <a:pt x="352" y="117"/>
                </a:lnTo>
                <a:lnTo>
                  <a:pt x="345" y="117"/>
                </a:lnTo>
                <a:lnTo>
                  <a:pt x="338" y="117"/>
                </a:lnTo>
                <a:lnTo>
                  <a:pt x="324" y="117"/>
                </a:lnTo>
                <a:lnTo>
                  <a:pt x="317" y="117"/>
                </a:lnTo>
                <a:lnTo>
                  <a:pt x="304" y="117"/>
                </a:lnTo>
                <a:lnTo>
                  <a:pt x="297" y="124"/>
                </a:lnTo>
                <a:lnTo>
                  <a:pt x="283" y="124"/>
                </a:lnTo>
                <a:lnTo>
                  <a:pt x="276" y="124"/>
                </a:lnTo>
                <a:lnTo>
                  <a:pt x="269" y="124"/>
                </a:lnTo>
                <a:lnTo>
                  <a:pt x="262" y="117"/>
                </a:lnTo>
                <a:lnTo>
                  <a:pt x="262" y="110"/>
                </a:lnTo>
                <a:lnTo>
                  <a:pt x="262" y="103"/>
                </a:lnTo>
                <a:lnTo>
                  <a:pt x="262" y="96"/>
                </a:lnTo>
                <a:lnTo>
                  <a:pt x="255" y="89"/>
                </a:lnTo>
                <a:lnTo>
                  <a:pt x="255" y="82"/>
                </a:lnTo>
                <a:lnTo>
                  <a:pt x="248" y="75"/>
                </a:lnTo>
                <a:lnTo>
                  <a:pt x="248" y="75"/>
                </a:lnTo>
                <a:lnTo>
                  <a:pt x="248" y="69"/>
                </a:lnTo>
                <a:lnTo>
                  <a:pt x="242" y="62"/>
                </a:lnTo>
                <a:lnTo>
                  <a:pt x="235" y="62"/>
                </a:lnTo>
                <a:lnTo>
                  <a:pt x="228" y="62"/>
                </a:lnTo>
                <a:lnTo>
                  <a:pt x="214" y="69"/>
                </a:lnTo>
                <a:lnTo>
                  <a:pt x="207" y="69"/>
                </a:lnTo>
                <a:lnTo>
                  <a:pt x="193" y="69"/>
                </a:lnTo>
                <a:lnTo>
                  <a:pt x="186" y="69"/>
                </a:lnTo>
                <a:lnTo>
                  <a:pt x="179" y="69"/>
                </a:lnTo>
                <a:lnTo>
                  <a:pt x="166" y="75"/>
                </a:lnTo>
                <a:lnTo>
                  <a:pt x="159" y="75"/>
                </a:lnTo>
                <a:lnTo>
                  <a:pt x="152" y="75"/>
                </a:lnTo>
                <a:lnTo>
                  <a:pt x="138" y="82"/>
                </a:lnTo>
                <a:lnTo>
                  <a:pt x="131" y="82"/>
                </a:lnTo>
                <a:lnTo>
                  <a:pt x="124" y="82"/>
                </a:lnTo>
                <a:lnTo>
                  <a:pt x="111" y="82"/>
                </a:lnTo>
                <a:lnTo>
                  <a:pt x="104" y="82"/>
                </a:lnTo>
                <a:lnTo>
                  <a:pt x="97" y="82"/>
                </a:lnTo>
                <a:lnTo>
                  <a:pt x="83" y="82"/>
                </a:lnTo>
                <a:lnTo>
                  <a:pt x="76" y="75"/>
                </a:lnTo>
                <a:lnTo>
                  <a:pt x="69" y="75"/>
                </a:lnTo>
                <a:lnTo>
                  <a:pt x="55" y="69"/>
                </a:lnTo>
                <a:lnTo>
                  <a:pt x="48" y="69"/>
                </a:lnTo>
                <a:lnTo>
                  <a:pt x="42" y="62"/>
                </a:lnTo>
                <a:lnTo>
                  <a:pt x="35" y="62"/>
                </a:lnTo>
                <a:lnTo>
                  <a:pt x="28" y="55"/>
                </a:lnTo>
                <a:lnTo>
                  <a:pt x="21" y="48"/>
                </a:lnTo>
                <a:lnTo>
                  <a:pt x="14" y="48"/>
                </a:lnTo>
                <a:lnTo>
                  <a:pt x="7" y="41"/>
                </a:lnTo>
                <a:lnTo>
                  <a:pt x="7" y="34"/>
                </a:lnTo>
                <a:lnTo>
                  <a:pt x="7" y="27"/>
                </a:lnTo>
                <a:lnTo>
                  <a:pt x="0" y="20"/>
                </a:lnTo>
                <a:lnTo>
                  <a:pt x="0" y="13"/>
                </a:lnTo>
                <a:lnTo>
                  <a:pt x="0" y="13"/>
                </a:lnTo>
                <a:lnTo>
                  <a:pt x="0" y="7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5" name=""/>
          <p:cNvSpPr/>
          <p:nvPr/>
        </p:nvSpPr>
        <p:spPr>
          <a:xfrm>
            <a:off x="3436920" y="4270320"/>
            <a:ext cx="1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6" name=""/>
          <p:cNvSpPr/>
          <p:nvPr/>
        </p:nvSpPr>
        <p:spPr>
          <a:xfrm>
            <a:off x="3394080" y="4094280"/>
            <a:ext cx="76320" cy="21960"/>
          </a:xfrm>
          <a:custGeom>
            <a:avLst/>
            <a:gdLst/>
            <a:ahLst/>
            <a:rect l="l" t="t" r="r" b="b"/>
            <a:pathLst>
              <a:path w="48" h="14">
                <a:moveTo>
                  <a:pt x="0" y="14"/>
                </a:moveTo>
                <a:lnTo>
                  <a:pt x="0" y="7"/>
                </a:lnTo>
                <a:lnTo>
                  <a:pt x="34" y="7"/>
                </a:lnTo>
                <a:lnTo>
                  <a:pt x="34" y="7"/>
                </a:lnTo>
                <a:lnTo>
                  <a:pt x="34" y="7"/>
                </a:lnTo>
                <a:lnTo>
                  <a:pt x="34" y="7"/>
                </a:lnTo>
                <a:lnTo>
                  <a:pt x="34" y="0"/>
                </a:lnTo>
                <a:lnTo>
                  <a:pt x="34" y="0"/>
                </a:lnTo>
                <a:lnTo>
                  <a:pt x="34" y="0"/>
                </a:lnTo>
                <a:lnTo>
                  <a:pt x="27" y="0"/>
                </a:lnTo>
                <a:lnTo>
                  <a:pt x="27" y="0"/>
                </a:lnTo>
                <a:lnTo>
                  <a:pt x="34" y="0"/>
                </a:lnTo>
                <a:lnTo>
                  <a:pt x="34" y="0"/>
                </a:lnTo>
                <a:lnTo>
                  <a:pt x="34" y="0"/>
                </a:lnTo>
                <a:lnTo>
                  <a:pt x="41" y="0"/>
                </a:lnTo>
                <a:lnTo>
                  <a:pt x="41" y="7"/>
                </a:lnTo>
                <a:lnTo>
                  <a:pt x="41" y="7"/>
                </a:lnTo>
                <a:lnTo>
                  <a:pt x="41" y="7"/>
                </a:lnTo>
                <a:lnTo>
                  <a:pt x="48" y="7"/>
                </a:lnTo>
                <a:lnTo>
                  <a:pt x="48" y="7"/>
                </a:lnTo>
                <a:lnTo>
                  <a:pt x="48" y="14"/>
                </a:lnTo>
                <a:lnTo>
                  <a:pt x="0" y="14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7" name=""/>
          <p:cNvSpPr/>
          <p:nvPr/>
        </p:nvSpPr>
        <p:spPr>
          <a:xfrm>
            <a:off x="3394080" y="4138560"/>
            <a:ext cx="76320" cy="44640"/>
          </a:xfrm>
          <a:custGeom>
            <a:avLst/>
            <a:gdLst/>
            <a:ahLst/>
            <a:rect l="l" t="t" r="r" b="b"/>
            <a:pathLst>
              <a:path w="48" h="28">
                <a:moveTo>
                  <a:pt x="34" y="28"/>
                </a:moveTo>
                <a:lnTo>
                  <a:pt x="34" y="21"/>
                </a:lnTo>
                <a:lnTo>
                  <a:pt x="34" y="21"/>
                </a:lnTo>
                <a:lnTo>
                  <a:pt x="41" y="21"/>
                </a:lnTo>
                <a:lnTo>
                  <a:pt x="41" y="21"/>
                </a:lnTo>
                <a:lnTo>
                  <a:pt x="41" y="21"/>
                </a:lnTo>
                <a:lnTo>
                  <a:pt x="41" y="21"/>
                </a:lnTo>
                <a:lnTo>
                  <a:pt x="41" y="21"/>
                </a:lnTo>
                <a:lnTo>
                  <a:pt x="41" y="14"/>
                </a:lnTo>
                <a:lnTo>
                  <a:pt x="41" y="14"/>
                </a:lnTo>
                <a:lnTo>
                  <a:pt x="41" y="14"/>
                </a:lnTo>
                <a:lnTo>
                  <a:pt x="41" y="14"/>
                </a:lnTo>
                <a:lnTo>
                  <a:pt x="41" y="14"/>
                </a:lnTo>
                <a:lnTo>
                  <a:pt x="41" y="14"/>
                </a:lnTo>
                <a:lnTo>
                  <a:pt x="41" y="7"/>
                </a:lnTo>
                <a:lnTo>
                  <a:pt x="41" y="7"/>
                </a:lnTo>
                <a:lnTo>
                  <a:pt x="34" y="7"/>
                </a:lnTo>
                <a:lnTo>
                  <a:pt x="34" y="7"/>
                </a:lnTo>
                <a:lnTo>
                  <a:pt x="34" y="7"/>
                </a:lnTo>
                <a:lnTo>
                  <a:pt x="34" y="7"/>
                </a:lnTo>
                <a:lnTo>
                  <a:pt x="27" y="7"/>
                </a:lnTo>
                <a:lnTo>
                  <a:pt x="27" y="7"/>
                </a:lnTo>
                <a:lnTo>
                  <a:pt x="27" y="7"/>
                </a:lnTo>
                <a:lnTo>
                  <a:pt x="27" y="7"/>
                </a:lnTo>
                <a:lnTo>
                  <a:pt x="27" y="7"/>
                </a:lnTo>
                <a:lnTo>
                  <a:pt x="27" y="7"/>
                </a:lnTo>
                <a:lnTo>
                  <a:pt x="27" y="14"/>
                </a:lnTo>
                <a:lnTo>
                  <a:pt x="34" y="14"/>
                </a:lnTo>
                <a:lnTo>
                  <a:pt x="34" y="14"/>
                </a:lnTo>
                <a:lnTo>
                  <a:pt x="34" y="14"/>
                </a:lnTo>
                <a:lnTo>
                  <a:pt x="34" y="21"/>
                </a:lnTo>
                <a:lnTo>
                  <a:pt x="27" y="21"/>
                </a:lnTo>
                <a:lnTo>
                  <a:pt x="27" y="21"/>
                </a:lnTo>
                <a:lnTo>
                  <a:pt x="27" y="28"/>
                </a:lnTo>
                <a:lnTo>
                  <a:pt x="27" y="28"/>
                </a:lnTo>
                <a:lnTo>
                  <a:pt x="20" y="28"/>
                </a:lnTo>
                <a:lnTo>
                  <a:pt x="20" y="28"/>
                </a:lnTo>
                <a:lnTo>
                  <a:pt x="20" y="28"/>
                </a:lnTo>
                <a:lnTo>
                  <a:pt x="13" y="28"/>
                </a:lnTo>
                <a:lnTo>
                  <a:pt x="13" y="28"/>
                </a:lnTo>
                <a:lnTo>
                  <a:pt x="13" y="28"/>
                </a:lnTo>
                <a:lnTo>
                  <a:pt x="7" y="28"/>
                </a:lnTo>
                <a:lnTo>
                  <a:pt x="7" y="28"/>
                </a:lnTo>
                <a:lnTo>
                  <a:pt x="7" y="28"/>
                </a:lnTo>
                <a:lnTo>
                  <a:pt x="7" y="28"/>
                </a:lnTo>
                <a:lnTo>
                  <a:pt x="7" y="21"/>
                </a:lnTo>
                <a:lnTo>
                  <a:pt x="0" y="21"/>
                </a:lnTo>
                <a:lnTo>
                  <a:pt x="0" y="21"/>
                </a:lnTo>
                <a:lnTo>
                  <a:pt x="0" y="21"/>
                </a:lnTo>
                <a:lnTo>
                  <a:pt x="0" y="14"/>
                </a:lnTo>
                <a:lnTo>
                  <a:pt x="0" y="14"/>
                </a:lnTo>
                <a:lnTo>
                  <a:pt x="0" y="7"/>
                </a:lnTo>
                <a:lnTo>
                  <a:pt x="7" y="7"/>
                </a:lnTo>
                <a:lnTo>
                  <a:pt x="7" y="7"/>
                </a:lnTo>
                <a:lnTo>
                  <a:pt x="7" y="0"/>
                </a:lnTo>
                <a:lnTo>
                  <a:pt x="13" y="0"/>
                </a:lnTo>
                <a:lnTo>
                  <a:pt x="20" y="0"/>
                </a:lnTo>
                <a:lnTo>
                  <a:pt x="20" y="0"/>
                </a:lnTo>
                <a:lnTo>
                  <a:pt x="27" y="0"/>
                </a:lnTo>
                <a:lnTo>
                  <a:pt x="34" y="0"/>
                </a:lnTo>
                <a:lnTo>
                  <a:pt x="41" y="0"/>
                </a:lnTo>
                <a:lnTo>
                  <a:pt x="41" y="7"/>
                </a:lnTo>
                <a:lnTo>
                  <a:pt x="41" y="7"/>
                </a:lnTo>
                <a:lnTo>
                  <a:pt x="48" y="7"/>
                </a:lnTo>
                <a:lnTo>
                  <a:pt x="48" y="14"/>
                </a:lnTo>
                <a:lnTo>
                  <a:pt x="48" y="14"/>
                </a:lnTo>
                <a:lnTo>
                  <a:pt x="48" y="21"/>
                </a:lnTo>
                <a:lnTo>
                  <a:pt x="48" y="21"/>
                </a:lnTo>
                <a:lnTo>
                  <a:pt x="48" y="21"/>
                </a:lnTo>
                <a:lnTo>
                  <a:pt x="41" y="28"/>
                </a:lnTo>
                <a:lnTo>
                  <a:pt x="41" y="28"/>
                </a:lnTo>
                <a:lnTo>
                  <a:pt x="41" y="28"/>
                </a:lnTo>
                <a:lnTo>
                  <a:pt x="41" y="28"/>
                </a:lnTo>
                <a:lnTo>
                  <a:pt x="34" y="28"/>
                </a:lnTo>
                <a:close/>
                <a:moveTo>
                  <a:pt x="13" y="7"/>
                </a:moveTo>
                <a:lnTo>
                  <a:pt x="13" y="7"/>
                </a:lnTo>
                <a:lnTo>
                  <a:pt x="13" y="7"/>
                </a:lnTo>
                <a:lnTo>
                  <a:pt x="13" y="7"/>
                </a:lnTo>
                <a:lnTo>
                  <a:pt x="13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14"/>
                </a:lnTo>
                <a:lnTo>
                  <a:pt x="7" y="14"/>
                </a:lnTo>
                <a:lnTo>
                  <a:pt x="7" y="14"/>
                </a:lnTo>
                <a:lnTo>
                  <a:pt x="7" y="14"/>
                </a:lnTo>
                <a:lnTo>
                  <a:pt x="7" y="14"/>
                </a:lnTo>
                <a:lnTo>
                  <a:pt x="7" y="14"/>
                </a:lnTo>
                <a:lnTo>
                  <a:pt x="7" y="21"/>
                </a:lnTo>
                <a:lnTo>
                  <a:pt x="7" y="21"/>
                </a:lnTo>
                <a:lnTo>
                  <a:pt x="7" y="21"/>
                </a:lnTo>
                <a:lnTo>
                  <a:pt x="13" y="21"/>
                </a:lnTo>
                <a:lnTo>
                  <a:pt x="13" y="21"/>
                </a:lnTo>
                <a:lnTo>
                  <a:pt x="13" y="21"/>
                </a:lnTo>
                <a:lnTo>
                  <a:pt x="13" y="21"/>
                </a:lnTo>
                <a:lnTo>
                  <a:pt x="20" y="21"/>
                </a:lnTo>
                <a:lnTo>
                  <a:pt x="20" y="21"/>
                </a:lnTo>
                <a:lnTo>
                  <a:pt x="20" y="21"/>
                </a:lnTo>
                <a:lnTo>
                  <a:pt x="20" y="21"/>
                </a:lnTo>
                <a:lnTo>
                  <a:pt x="27" y="21"/>
                </a:lnTo>
                <a:lnTo>
                  <a:pt x="27" y="21"/>
                </a:lnTo>
                <a:lnTo>
                  <a:pt x="27" y="14"/>
                </a:lnTo>
                <a:lnTo>
                  <a:pt x="27" y="14"/>
                </a:lnTo>
                <a:lnTo>
                  <a:pt x="27" y="14"/>
                </a:lnTo>
                <a:lnTo>
                  <a:pt x="27" y="14"/>
                </a:lnTo>
                <a:lnTo>
                  <a:pt x="27" y="7"/>
                </a:lnTo>
                <a:lnTo>
                  <a:pt x="20" y="7"/>
                </a:lnTo>
                <a:lnTo>
                  <a:pt x="20" y="7"/>
                </a:lnTo>
                <a:lnTo>
                  <a:pt x="20" y="7"/>
                </a:lnTo>
                <a:lnTo>
                  <a:pt x="20" y="7"/>
                </a:lnTo>
                <a:lnTo>
                  <a:pt x="13" y="7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8" name=""/>
          <p:cNvSpPr/>
          <p:nvPr/>
        </p:nvSpPr>
        <p:spPr>
          <a:xfrm>
            <a:off x="3394080" y="4192560"/>
            <a:ext cx="76320" cy="44640"/>
          </a:xfrm>
          <a:custGeom>
            <a:avLst/>
            <a:gdLst/>
            <a:ahLst/>
            <a:rect l="l" t="t" r="r" b="b"/>
            <a:pathLst>
              <a:path w="48" h="28">
                <a:moveTo>
                  <a:pt x="27" y="0"/>
                </a:moveTo>
                <a:lnTo>
                  <a:pt x="27" y="0"/>
                </a:lnTo>
                <a:lnTo>
                  <a:pt x="34" y="0"/>
                </a:lnTo>
                <a:lnTo>
                  <a:pt x="34" y="0"/>
                </a:lnTo>
                <a:lnTo>
                  <a:pt x="34" y="0"/>
                </a:lnTo>
                <a:lnTo>
                  <a:pt x="41" y="0"/>
                </a:lnTo>
                <a:lnTo>
                  <a:pt x="41" y="7"/>
                </a:lnTo>
                <a:lnTo>
                  <a:pt x="41" y="7"/>
                </a:lnTo>
                <a:lnTo>
                  <a:pt x="48" y="7"/>
                </a:lnTo>
                <a:lnTo>
                  <a:pt x="48" y="7"/>
                </a:lnTo>
                <a:lnTo>
                  <a:pt x="48" y="7"/>
                </a:lnTo>
                <a:lnTo>
                  <a:pt x="48" y="14"/>
                </a:lnTo>
                <a:lnTo>
                  <a:pt x="48" y="14"/>
                </a:lnTo>
                <a:lnTo>
                  <a:pt x="48" y="14"/>
                </a:lnTo>
                <a:lnTo>
                  <a:pt x="48" y="21"/>
                </a:lnTo>
                <a:lnTo>
                  <a:pt x="48" y="21"/>
                </a:lnTo>
                <a:lnTo>
                  <a:pt x="48" y="21"/>
                </a:lnTo>
                <a:lnTo>
                  <a:pt x="48" y="21"/>
                </a:lnTo>
                <a:lnTo>
                  <a:pt x="48" y="21"/>
                </a:lnTo>
                <a:lnTo>
                  <a:pt x="41" y="28"/>
                </a:lnTo>
                <a:lnTo>
                  <a:pt x="41" y="28"/>
                </a:lnTo>
                <a:lnTo>
                  <a:pt x="41" y="28"/>
                </a:lnTo>
                <a:lnTo>
                  <a:pt x="41" y="28"/>
                </a:lnTo>
                <a:lnTo>
                  <a:pt x="34" y="28"/>
                </a:lnTo>
                <a:lnTo>
                  <a:pt x="34" y="28"/>
                </a:lnTo>
                <a:lnTo>
                  <a:pt x="34" y="28"/>
                </a:lnTo>
                <a:lnTo>
                  <a:pt x="34" y="28"/>
                </a:lnTo>
                <a:lnTo>
                  <a:pt x="27" y="28"/>
                </a:lnTo>
                <a:lnTo>
                  <a:pt x="27" y="28"/>
                </a:lnTo>
                <a:lnTo>
                  <a:pt x="20" y="28"/>
                </a:lnTo>
                <a:lnTo>
                  <a:pt x="20" y="28"/>
                </a:lnTo>
                <a:lnTo>
                  <a:pt x="13" y="28"/>
                </a:lnTo>
                <a:lnTo>
                  <a:pt x="13" y="28"/>
                </a:lnTo>
                <a:lnTo>
                  <a:pt x="7" y="28"/>
                </a:lnTo>
                <a:lnTo>
                  <a:pt x="7" y="28"/>
                </a:lnTo>
                <a:lnTo>
                  <a:pt x="7" y="28"/>
                </a:lnTo>
                <a:lnTo>
                  <a:pt x="7" y="21"/>
                </a:lnTo>
                <a:lnTo>
                  <a:pt x="7" y="21"/>
                </a:lnTo>
                <a:lnTo>
                  <a:pt x="0" y="21"/>
                </a:lnTo>
                <a:lnTo>
                  <a:pt x="0" y="21"/>
                </a:lnTo>
                <a:lnTo>
                  <a:pt x="0" y="14"/>
                </a:lnTo>
                <a:lnTo>
                  <a:pt x="0" y="14"/>
                </a:lnTo>
                <a:lnTo>
                  <a:pt x="0" y="7"/>
                </a:lnTo>
                <a:lnTo>
                  <a:pt x="7" y="7"/>
                </a:lnTo>
                <a:lnTo>
                  <a:pt x="7" y="7"/>
                </a:lnTo>
                <a:lnTo>
                  <a:pt x="7" y="0"/>
                </a:lnTo>
                <a:lnTo>
                  <a:pt x="13" y="0"/>
                </a:lnTo>
                <a:lnTo>
                  <a:pt x="20" y="0"/>
                </a:lnTo>
                <a:lnTo>
                  <a:pt x="27" y="0"/>
                </a:lnTo>
                <a:close/>
                <a:moveTo>
                  <a:pt x="27" y="7"/>
                </a:moveTo>
                <a:lnTo>
                  <a:pt x="20" y="7"/>
                </a:lnTo>
                <a:lnTo>
                  <a:pt x="13" y="7"/>
                </a:lnTo>
                <a:lnTo>
                  <a:pt x="13" y="7"/>
                </a:lnTo>
                <a:lnTo>
                  <a:pt x="13" y="7"/>
                </a:lnTo>
                <a:lnTo>
                  <a:pt x="7" y="7"/>
                </a:lnTo>
                <a:lnTo>
                  <a:pt x="7" y="14"/>
                </a:lnTo>
                <a:lnTo>
                  <a:pt x="7" y="14"/>
                </a:lnTo>
                <a:lnTo>
                  <a:pt x="7" y="14"/>
                </a:lnTo>
                <a:lnTo>
                  <a:pt x="7" y="14"/>
                </a:lnTo>
                <a:lnTo>
                  <a:pt x="7" y="21"/>
                </a:lnTo>
                <a:lnTo>
                  <a:pt x="7" y="21"/>
                </a:lnTo>
                <a:lnTo>
                  <a:pt x="13" y="21"/>
                </a:lnTo>
                <a:lnTo>
                  <a:pt x="13" y="21"/>
                </a:lnTo>
                <a:lnTo>
                  <a:pt x="13" y="21"/>
                </a:lnTo>
                <a:lnTo>
                  <a:pt x="20" y="21"/>
                </a:lnTo>
                <a:lnTo>
                  <a:pt x="27" y="21"/>
                </a:lnTo>
                <a:lnTo>
                  <a:pt x="27" y="21"/>
                </a:lnTo>
                <a:lnTo>
                  <a:pt x="34" y="21"/>
                </a:lnTo>
                <a:lnTo>
                  <a:pt x="34" y="21"/>
                </a:lnTo>
                <a:lnTo>
                  <a:pt x="41" y="21"/>
                </a:lnTo>
                <a:lnTo>
                  <a:pt x="41" y="21"/>
                </a:lnTo>
                <a:lnTo>
                  <a:pt x="41" y="21"/>
                </a:lnTo>
                <a:lnTo>
                  <a:pt x="41" y="14"/>
                </a:lnTo>
                <a:lnTo>
                  <a:pt x="41" y="14"/>
                </a:lnTo>
                <a:lnTo>
                  <a:pt x="41" y="14"/>
                </a:lnTo>
                <a:lnTo>
                  <a:pt x="41" y="14"/>
                </a:lnTo>
                <a:lnTo>
                  <a:pt x="41" y="7"/>
                </a:lnTo>
                <a:lnTo>
                  <a:pt x="41" y="7"/>
                </a:lnTo>
                <a:lnTo>
                  <a:pt x="34" y="7"/>
                </a:lnTo>
                <a:lnTo>
                  <a:pt x="34" y="7"/>
                </a:lnTo>
                <a:lnTo>
                  <a:pt x="27" y="7"/>
                </a:lnTo>
                <a:lnTo>
                  <a:pt x="27" y="7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9" name=""/>
          <p:cNvSpPr/>
          <p:nvPr/>
        </p:nvSpPr>
        <p:spPr>
          <a:xfrm flipV="1">
            <a:off x="3425760" y="4051440"/>
            <a:ext cx="1800" cy="10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0" name=""/>
          <p:cNvSpPr/>
          <p:nvPr/>
        </p:nvSpPr>
        <p:spPr>
          <a:xfrm>
            <a:off x="3021120" y="3930480"/>
            <a:ext cx="404640" cy="776520"/>
          </a:xfrm>
          <a:custGeom>
            <a:avLst/>
            <a:gdLst/>
            <a:ahLst/>
            <a:rect l="l" t="t" r="r" b="b"/>
            <a:pathLst>
              <a:path w="255" h="489">
                <a:moveTo>
                  <a:pt x="255" y="76"/>
                </a:moveTo>
                <a:lnTo>
                  <a:pt x="255" y="69"/>
                </a:lnTo>
                <a:lnTo>
                  <a:pt x="255" y="62"/>
                </a:lnTo>
                <a:lnTo>
                  <a:pt x="255" y="55"/>
                </a:lnTo>
                <a:lnTo>
                  <a:pt x="248" y="48"/>
                </a:lnTo>
                <a:lnTo>
                  <a:pt x="248" y="41"/>
                </a:lnTo>
                <a:lnTo>
                  <a:pt x="248" y="35"/>
                </a:lnTo>
                <a:lnTo>
                  <a:pt x="248" y="35"/>
                </a:lnTo>
                <a:lnTo>
                  <a:pt x="248" y="28"/>
                </a:lnTo>
                <a:lnTo>
                  <a:pt x="248" y="21"/>
                </a:lnTo>
                <a:lnTo>
                  <a:pt x="248" y="14"/>
                </a:lnTo>
                <a:lnTo>
                  <a:pt x="242" y="7"/>
                </a:lnTo>
                <a:lnTo>
                  <a:pt x="242" y="0"/>
                </a:lnTo>
                <a:lnTo>
                  <a:pt x="235" y="0"/>
                </a:lnTo>
                <a:lnTo>
                  <a:pt x="228" y="7"/>
                </a:lnTo>
                <a:lnTo>
                  <a:pt x="221" y="14"/>
                </a:lnTo>
                <a:lnTo>
                  <a:pt x="221" y="21"/>
                </a:lnTo>
                <a:lnTo>
                  <a:pt x="221" y="28"/>
                </a:lnTo>
                <a:lnTo>
                  <a:pt x="221" y="35"/>
                </a:lnTo>
                <a:lnTo>
                  <a:pt x="221" y="41"/>
                </a:lnTo>
                <a:lnTo>
                  <a:pt x="214" y="48"/>
                </a:lnTo>
                <a:lnTo>
                  <a:pt x="214" y="55"/>
                </a:lnTo>
                <a:lnTo>
                  <a:pt x="207" y="55"/>
                </a:lnTo>
                <a:lnTo>
                  <a:pt x="207" y="62"/>
                </a:lnTo>
                <a:lnTo>
                  <a:pt x="200" y="69"/>
                </a:lnTo>
                <a:lnTo>
                  <a:pt x="193" y="76"/>
                </a:lnTo>
                <a:lnTo>
                  <a:pt x="193" y="83"/>
                </a:lnTo>
                <a:lnTo>
                  <a:pt x="193" y="83"/>
                </a:lnTo>
                <a:lnTo>
                  <a:pt x="193" y="90"/>
                </a:lnTo>
                <a:lnTo>
                  <a:pt x="193" y="97"/>
                </a:lnTo>
                <a:lnTo>
                  <a:pt x="193" y="103"/>
                </a:lnTo>
                <a:lnTo>
                  <a:pt x="193" y="110"/>
                </a:lnTo>
                <a:lnTo>
                  <a:pt x="186" y="117"/>
                </a:lnTo>
                <a:lnTo>
                  <a:pt x="186" y="124"/>
                </a:lnTo>
                <a:lnTo>
                  <a:pt x="186" y="131"/>
                </a:lnTo>
                <a:lnTo>
                  <a:pt x="186" y="138"/>
                </a:lnTo>
                <a:lnTo>
                  <a:pt x="186" y="145"/>
                </a:lnTo>
                <a:lnTo>
                  <a:pt x="186" y="152"/>
                </a:lnTo>
                <a:lnTo>
                  <a:pt x="179" y="159"/>
                </a:lnTo>
                <a:lnTo>
                  <a:pt x="179" y="159"/>
                </a:lnTo>
                <a:lnTo>
                  <a:pt x="179" y="165"/>
                </a:lnTo>
                <a:lnTo>
                  <a:pt x="179" y="172"/>
                </a:lnTo>
                <a:lnTo>
                  <a:pt x="179" y="179"/>
                </a:lnTo>
                <a:lnTo>
                  <a:pt x="179" y="186"/>
                </a:lnTo>
                <a:lnTo>
                  <a:pt x="179" y="193"/>
                </a:lnTo>
                <a:lnTo>
                  <a:pt x="173" y="200"/>
                </a:lnTo>
                <a:lnTo>
                  <a:pt x="173" y="207"/>
                </a:lnTo>
                <a:lnTo>
                  <a:pt x="173" y="214"/>
                </a:lnTo>
                <a:lnTo>
                  <a:pt x="173" y="221"/>
                </a:lnTo>
                <a:lnTo>
                  <a:pt x="173" y="221"/>
                </a:lnTo>
                <a:lnTo>
                  <a:pt x="173" y="227"/>
                </a:lnTo>
                <a:lnTo>
                  <a:pt x="173" y="234"/>
                </a:lnTo>
                <a:lnTo>
                  <a:pt x="166" y="241"/>
                </a:lnTo>
                <a:lnTo>
                  <a:pt x="166" y="248"/>
                </a:lnTo>
                <a:lnTo>
                  <a:pt x="166" y="255"/>
                </a:lnTo>
                <a:lnTo>
                  <a:pt x="166" y="262"/>
                </a:lnTo>
                <a:lnTo>
                  <a:pt x="166" y="269"/>
                </a:lnTo>
                <a:lnTo>
                  <a:pt x="166" y="276"/>
                </a:lnTo>
                <a:lnTo>
                  <a:pt x="166" y="283"/>
                </a:lnTo>
                <a:lnTo>
                  <a:pt x="159" y="283"/>
                </a:lnTo>
                <a:lnTo>
                  <a:pt x="152" y="289"/>
                </a:lnTo>
                <a:lnTo>
                  <a:pt x="145" y="296"/>
                </a:lnTo>
                <a:lnTo>
                  <a:pt x="138" y="303"/>
                </a:lnTo>
                <a:lnTo>
                  <a:pt x="131" y="303"/>
                </a:lnTo>
                <a:lnTo>
                  <a:pt x="131" y="310"/>
                </a:lnTo>
                <a:lnTo>
                  <a:pt x="138" y="317"/>
                </a:lnTo>
                <a:lnTo>
                  <a:pt x="138" y="324"/>
                </a:lnTo>
                <a:lnTo>
                  <a:pt x="145" y="331"/>
                </a:lnTo>
                <a:lnTo>
                  <a:pt x="152" y="331"/>
                </a:lnTo>
                <a:lnTo>
                  <a:pt x="159" y="338"/>
                </a:lnTo>
                <a:lnTo>
                  <a:pt x="166" y="345"/>
                </a:lnTo>
                <a:lnTo>
                  <a:pt x="166" y="351"/>
                </a:lnTo>
                <a:lnTo>
                  <a:pt x="173" y="358"/>
                </a:lnTo>
                <a:lnTo>
                  <a:pt x="179" y="358"/>
                </a:lnTo>
                <a:lnTo>
                  <a:pt x="179" y="365"/>
                </a:lnTo>
                <a:lnTo>
                  <a:pt x="179" y="372"/>
                </a:lnTo>
                <a:lnTo>
                  <a:pt x="173" y="379"/>
                </a:lnTo>
                <a:lnTo>
                  <a:pt x="166" y="379"/>
                </a:lnTo>
                <a:lnTo>
                  <a:pt x="159" y="386"/>
                </a:lnTo>
                <a:lnTo>
                  <a:pt x="145" y="393"/>
                </a:lnTo>
                <a:lnTo>
                  <a:pt x="138" y="393"/>
                </a:lnTo>
                <a:lnTo>
                  <a:pt x="131" y="400"/>
                </a:lnTo>
                <a:lnTo>
                  <a:pt x="124" y="400"/>
                </a:lnTo>
                <a:lnTo>
                  <a:pt x="117" y="407"/>
                </a:lnTo>
                <a:lnTo>
                  <a:pt x="111" y="413"/>
                </a:lnTo>
                <a:lnTo>
                  <a:pt x="104" y="413"/>
                </a:lnTo>
                <a:lnTo>
                  <a:pt x="97" y="420"/>
                </a:lnTo>
                <a:lnTo>
                  <a:pt x="90" y="420"/>
                </a:lnTo>
                <a:lnTo>
                  <a:pt x="83" y="427"/>
                </a:lnTo>
                <a:lnTo>
                  <a:pt x="76" y="434"/>
                </a:lnTo>
                <a:lnTo>
                  <a:pt x="69" y="434"/>
                </a:lnTo>
                <a:lnTo>
                  <a:pt x="69" y="441"/>
                </a:lnTo>
                <a:lnTo>
                  <a:pt x="62" y="448"/>
                </a:lnTo>
                <a:lnTo>
                  <a:pt x="55" y="455"/>
                </a:lnTo>
                <a:lnTo>
                  <a:pt x="48" y="455"/>
                </a:lnTo>
                <a:lnTo>
                  <a:pt x="42" y="462"/>
                </a:lnTo>
                <a:lnTo>
                  <a:pt x="35" y="462"/>
                </a:lnTo>
                <a:lnTo>
                  <a:pt x="28" y="469"/>
                </a:lnTo>
                <a:lnTo>
                  <a:pt x="21" y="475"/>
                </a:lnTo>
                <a:lnTo>
                  <a:pt x="14" y="475"/>
                </a:lnTo>
                <a:lnTo>
                  <a:pt x="7" y="482"/>
                </a:lnTo>
                <a:lnTo>
                  <a:pt x="0" y="489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1" name=""/>
          <p:cNvSpPr/>
          <p:nvPr/>
        </p:nvSpPr>
        <p:spPr>
          <a:xfrm flipH="1">
            <a:off x="2977920" y="4653000"/>
            <a:ext cx="11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2" name=""/>
          <p:cNvSpPr/>
          <p:nvPr/>
        </p:nvSpPr>
        <p:spPr>
          <a:xfrm flipH="1" flipV="1">
            <a:off x="2989440" y="4653000"/>
            <a:ext cx="3168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3" name=""/>
          <p:cNvSpPr/>
          <p:nvPr/>
        </p:nvSpPr>
        <p:spPr>
          <a:xfrm flipH="1" flipV="1">
            <a:off x="2933280" y="4586040"/>
            <a:ext cx="11160" cy="21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4" name=""/>
          <p:cNvSpPr/>
          <p:nvPr/>
        </p:nvSpPr>
        <p:spPr>
          <a:xfrm flipH="1" flipV="1">
            <a:off x="2889000" y="4532400"/>
            <a:ext cx="21960" cy="33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5" name=""/>
          <p:cNvSpPr/>
          <p:nvPr/>
        </p:nvSpPr>
        <p:spPr>
          <a:xfrm flipH="1" flipV="1">
            <a:off x="2835360" y="4478040"/>
            <a:ext cx="3312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6" name=""/>
          <p:cNvSpPr/>
          <p:nvPr/>
        </p:nvSpPr>
        <p:spPr>
          <a:xfrm>
            <a:off x="3754440" y="4510080"/>
            <a:ext cx="120600" cy="22320"/>
          </a:xfrm>
          <a:custGeom>
            <a:avLst/>
            <a:gdLst/>
            <a:ahLst/>
            <a:rect l="l" t="t" r="r" b="b"/>
            <a:pathLst>
              <a:path w="76" h="14">
                <a:moveTo>
                  <a:pt x="0" y="7"/>
                </a:moveTo>
                <a:lnTo>
                  <a:pt x="7" y="0"/>
                </a:lnTo>
                <a:lnTo>
                  <a:pt x="7" y="0"/>
                </a:lnTo>
                <a:lnTo>
                  <a:pt x="14" y="0"/>
                </a:lnTo>
                <a:lnTo>
                  <a:pt x="21" y="0"/>
                </a:lnTo>
                <a:lnTo>
                  <a:pt x="28" y="0"/>
                </a:lnTo>
                <a:lnTo>
                  <a:pt x="35" y="0"/>
                </a:lnTo>
                <a:lnTo>
                  <a:pt x="42" y="0"/>
                </a:lnTo>
                <a:lnTo>
                  <a:pt x="48" y="0"/>
                </a:lnTo>
                <a:lnTo>
                  <a:pt x="48" y="0"/>
                </a:lnTo>
                <a:lnTo>
                  <a:pt x="55" y="0"/>
                </a:lnTo>
                <a:lnTo>
                  <a:pt x="62" y="0"/>
                </a:lnTo>
                <a:lnTo>
                  <a:pt x="69" y="0"/>
                </a:lnTo>
                <a:lnTo>
                  <a:pt x="76" y="7"/>
                </a:lnTo>
                <a:lnTo>
                  <a:pt x="69" y="7"/>
                </a:lnTo>
                <a:lnTo>
                  <a:pt x="62" y="7"/>
                </a:lnTo>
                <a:lnTo>
                  <a:pt x="55" y="7"/>
                </a:lnTo>
                <a:lnTo>
                  <a:pt x="48" y="7"/>
                </a:lnTo>
                <a:lnTo>
                  <a:pt x="48" y="7"/>
                </a:lnTo>
                <a:lnTo>
                  <a:pt x="42" y="7"/>
                </a:lnTo>
                <a:lnTo>
                  <a:pt x="35" y="14"/>
                </a:lnTo>
                <a:lnTo>
                  <a:pt x="28" y="14"/>
                </a:lnTo>
                <a:lnTo>
                  <a:pt x="21" y="14"/>
                </a:lnTo>
                <a:lnTo>
                  <a:pt x="14" y="14"/>
                </a:lnTo>
                <a:lnTo>
                  <a:pt x="7" y="7"/>
                </a:lnTo>
                <a:lnTo>
                  <a:pt x="7" y="7"/>
                </a:lnTo>
                <a:lnTo>
                  <a:pt x="0" y="7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7" name=""/>
          <p:cNvSpPr/>
          <p:nvPr/>
        </p:nvSpPr>
        <p:spPr>
          <a:xfrm>
            <a:off x="2790720" y="4422600"/>
            <a:ext cx="44640" cy="44640"/>
          </a:xfrm>
          <a:custGeom>
            <a:avLst/>
            <a:gdLst/>
            <a:ahLst/>
            <a:rect l="l" t="t" r="r" b="b"/>
            <a:pathLst>
              <a:path w="28" h="28">
                <a:moveTo>
                  <a:pt x="28" y="28"/>
                </a:moveTo>
                <a:lnTo>
                  <a:pt x="21" y="28"/>
                </a:lnTo>
                <a:lnTo>
                  <a:pt x="21" y="21"/>
                </a:lnTo>
                <a:lnTo>
                  <a:pt x="14" y="21"/>
                </a:lnTo>
                <a:lnTo>
                  <a:pt x="14" y="14"/>
                </a:lnTo>
                <a:lnTo>
                  <a:pt x="7" y="7"/>
                </a:lnTo>
                <a:lnTo>
                  <a:pt x="7" y="7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8" name=""/>
          <p:cNvSpPr/>
          <p:nvPr/>
        </p:nvSpPr>
        <p:spPr>
          <a:xfrm flipH="1" flipV="1">
            <a:off x="2747520" y="4357440"/>
            <a:ext cx="11160" cy="21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9" name=""/>
          <p:cNvSpPr/>
          <p:nvPr/>
        </p:nvSpPr>
        <p:spPr>
          <a:xfrm flipH="1" flipV="1">
            <a:off x="2692440" y="4302000"/>
            <a:ext cx="22320" cy="22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0" name=""/>
          <p:cNvSpPr/>
          <p:nvPr/>
        </p:nvSpPr>
        <p:spPr>
          <a:xfrm flipH="1" flipV="1">
            <a:off x="2649600" y="4247640"/>
            <a:ext cx="3168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1" name=""/>
          <p:cNvSpPr/>
          <p:nvPr/>
        </p:nvSpPr>
        <p:spPr>
          <a:xfrm>
            <a:off x="3863880" y="4270320"/>
            <a:ext cx="11160" cy="31680"/>
          </a:xfrm>
          <a:custGeom>
            <a:avLst/>
            <a:gdLst/>
            <a:ahLst/>
            <a:rect l="l" t="t" r="r" b="b"/>
            <a:pathLst>
              <a:path w="7" h="20">
                <a:moveTo>
                  <a:pt x="7" y="7"/>
                </a:moveTo>
                <a:lnTo>
                  <a:pt x="7" y="0"/>
                </a:lnTo>
                <a:lnTo>
                  <a:pt x="0" y="0"/>
                </a:lnTo>
                <a:lnTo>
                  <a:pt x="0" y="7"/>
                </a:lnTo>
                <a:lnTo>
                  <a:pt x="0" y="7"/>
                </a:lnTo>
                <a:lnTo>
                  <a:pt x="0" y="13"/>
                </a:lnTo>
                <a:lnTo>
                  <a:pt x="0" y="20"/>
                </a:lnTo>
                <a:lnTo>
                  <a:pt x="0" y="20"/>
                </a:lnTo>
                <a:lnTo>
                  <a:pt x="0" y="20"/>
                </a:lnTo>
                <a:lnTo>
                  <a:pt x="7" y="20"/>
                </a:lnTo>
                <a:lnTo>
                  <a:pt x="7" y="20"/>
                </a:lnTo>
                <a:lnTo>
                  <a:pt x="7" y="20"/>
                </a:lnTo>
                <a:lnTo>
                  <a:pt x="7" y="20"/>
                </a:lnTo>
                <a:lnTo>
                  <a:pt x="7" y="13"/>
                </a:lnTo>
                <a:lnTo>
                  <a:pt x="7" y="7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2" name=""/>
          <p:cNvSpPr/>
          <p:nvPr/>
        </p:nvSpPr>
        <p:spPr>
          <a:xfrm>
            <a:off x="2506680" y="4073400"/>
            <a:ext cx="131760" cy="163800"/>
          </a:xfrm>
          <a:custGeom>
            <a:avLst/>
            <a:gdLst/>
            <a:ahLst/>
            <a:rect l="l" t="t" r="r" b="b"/>
            <a:pathLst>
              <a:path w="83" h="103">
                <a:moveTo>
                  <a:pt x="83" y="103"/>
                </a:moveTo>
                <a:lnTo>
                  <a:pt x="83" y="96"/>
                </a:lnTo>
                <a:lnTo>
                  <a:pt x="76" y="89"/>
                </a:lnTo>
                <a:lnTo>
                  <a:pt x="69" y="82"/>
                </a:lnTo>
                <a:lnTo>
                  <a:pt x="69" y="82"/>
                </a:lnTo>
                <a:lnTo>
                  <a:pt x="62" y="75"/>
                </a:lnTo>
                <a:lnTo>
                  <a:pt x="62" y="69"/>
                </a:lnTo>
                <a:lnTo>
                  <a:pt x="55" y="62"/>
                </a:lnTo>
                <a:lnTo>
                  <a:pt x="48" y="62"/>
                </a:lnTo>
                <a:lnTo>
                  <a:pt x="48" y="55"/>
                </a:lnTo>
                <a:lnTo>
                  <a:pt x="42" y="48"/>
                </a:lnTo>
                <a:lnTo>
                  <a:pt x="42" y="41"/>
                </a:lnTo>
                <a:lnTo>
                  <a:pt x="35" y="41"/>
                </a:lnTo>
                <a:lnTo>
                  <a:pt x="28" y="34"/>
                </a:lnTo>
                <a:lnTo>
                  <a:pt x="28" y="27"/>
                </a:lnTo>
                <a:lnTo>
                  <a:pt x="21" y="20"/>
                </a:lnTo>
                <a:lnTo>
                  <a:pt x="21" y="20"/>
                </a:lnTo>
                <a:lnTo>
                  <a:pt x="14" y="13"/>
                </a:lnTo>
                <a:lnTo>
                  <a:pt x="7" y="7"/>
                </a:lnTo>
                <a:lnTo>
                  <a:pt x="7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3" name=""/>
          <p:cNvSpPr/>
          <p:nvPr/>
        </p:nvSpPr>
        <p:spPr>
          <a:xfrm flipV="1">
            <a:off x="3940200" y="4225680"/>
            <a:ext cx="11160" cy="11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4" name=""/>
          <p:cNvSpPr/>
          <p:nvPr/>
        </p:nvSpPr>
        <p:spPr>
          <a:xfrm>
            <a:off x="3951360" y="4149720"/>
            <a:ext cx="98280" cy="76320"/>
          </a:xfrm>
          <a:custGeom>
            <a:avLst/>
            <a:gdLst/>
            <a:ahLst/>
            <a:rect l="l" t="t" r="r" b="b"/>
            <a:pathLst>
              <a:path w="62" h="48">
                <a:moveTo>
                  <a:pt x="0" y="48"/>
                </a:moveTo>
                <a:lnTo>
                  <a:pt x="7" y="41"/>
                </a:lnTo>
                <a:lnTo>
                  <a:pt x="14" y="41"/>
                </a:lnTo>
                <a:lnTo>
                  <a:pt x="21" y="41"/>
                </a:lnTo>
                <a:lnTo>
                  <a:pt x="35" y="48"/>
                </a:lnTo>
                <a:lnTo>
                  <a:pt x="42" y="48"/>
                </a:lnTo>
                <a:lnTo>
                  <a:pt x="49" y="48"/>
                </a:lnTo>
                <a:lnTo>
                  <a:pt x="55" y="41"/>
                </a:lnTo>
                <a:lnTo>
                  <a:pt x="62" y="34"/>
                </a:lnTo>
                <a:lnTo>
                  <a:pt x="62" y="27"/>
                </a:lnTo>
                <a:lnTo>
                  <a:pt x="62" y="21"/>
                </a:lnTo>
                <a:lnTo>
                  <a:pt x="55" y="14"/>
                </a:lnTo>
                <a:lnTo>
                  <a:pt x="55" y="7"/>
                </a:lnTo>
                <a:lnTo>
                  <a:pt x="49" y="0"/>
                </a:lnTo>
                <a:lnTo>
                  <a:pt x="42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5" name=""/>
          <p:cNvSpPr/>
          <p:nvPr/>
        </p:nvSpPr>
        <p:spPr>
          <a:xfrm>
            <a:off x="4017960" y="4149720"/>
            <a:ext cx="1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6" name=""/>
          <p:cNvSpPr/>
          <p:nvPr/>
        </p:nvSpPr>
        <p:spPr>
          <a:xfrm>
            <a:off x="3951360" y="3975120"/>
            <a:ext cx="66600" cy="31680"/>
          </a:xfrm>
          <a:custGeom>
            <a:avLst/>
            <a:gdLst/>
            <a:ahLst/>
            <a:rect l="l" t="t" r="r" b="b"/>
            <a:pathLst>
              <a:path w="42" h="20">
                <a:moveTo>
                  <a:pt x="0" y="20"/>
                </a:moveTo>
                <a:lnTo>
                  <a:pt x="0" y="13"/>
                </a:lnTo>
                <a:lnTo>
                  <a:pt x="35" y="7"/>
                </a:lnTo>
                <a:lnTo>
                  <a:pt x="35" y="7"/>
                </a:lnTo>
                <a:lnTo>
                  <a:pt x="28" y="7"/>
                </a:lnTo>
                <a:lnTo>
                  <a:pt x="28" y="7"/>
                </a:lnTo>
                <a:lnTo>
                  <a:pt x="28" y="0"/>
                </a:lnTo>
                <a:lnTo>
                  <a:pt x="28" y="0"/>
                </a:lnTo>
                <a:lnTo>
                  <a:pt x="28" y="0"/>
                </a:lnTo>
                <a:lnTo>
                  <a:pt x="28" y="0"/>
                </a:lnTo>
                <a:lnTo>
                  <a:pt x="21" y="0"/>
                </a:lnTo>
                <a:lnTo>
                  <a:pt x="28" y="0"/>
                </a:lnTo>
                <a:lnTo>
                  <a:pt x="28" y="0"/>
                </a:lnTo>
                <a:lnTo>
                  <a:pt x="35" y="0"/>
                </a:lnTo>
                <a:lnTo>
                  <a:pt x="35" y="0"/>
                </a:lnTo>
                <a:lnTo>
                  <a:pt x="35" y="0"/>
                </a:lnTo>
                <a:lnTo>
                  <a:pt x="35" y="7"/>
                </a:lnTo>
                <a:lnTo>
                  <a:pt x="42" y="7"/>
                </a:lnTo>
                <a:lnTo>
                  <a:pt x="42" y="7"/>
                </a:lnTo>
                <a:lnTo>
                  <a:pt x="42" y="7"/>
                </a:lnTo>
                <a:lnTo>
                  <a:pt x="42" y="7"/>
                </a:lnTo>
                <a:lnTo>
                  <a:pt x="0" y="2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7" name=""/>
          <p:cNvSpPr/>
          <p:nvPr/>
        </p:nvSpPr>
        <p:spPr>
          <a:xfrm>
            <a:off x="3962520" y="4017960"/>
            <a:ext cx="66600" cy="55440"/>
          </a:xfrm>
          <a:custGeom>
            <a:avLst/>
            <a:gdLst/>
            <a:ahLst/>
            <a:rect l="l" t="t" r="r" b="b"/>
            <a:pathLst>
              <a:path w="42" h="35">
                <a:moveTo>
                  <a:pt x="35" y="28"/>
                </a:moveTo>
                <a:lnTo>
                  <a:pt x="35" y="21"/>
                </a:lnTo>
                <a:lnTo>
                  <a:pt x="35" y="21"/>
                </a:lnTo>
                <a:lnTo>
                  <a:pt x="35" y="21"/>
                </a:lnTo>
                <a:lnTo>
                  <a:pt x="42" y="21"/>
                </a:lnTo>
                <a:lnTo>
                  <a:pt x="42" y="21"/>
                </a:lnTo>
                <a:lnTo>
                  <a:pt x="42" y="14"/>
                </a:lnTo>
                <a:lnTo>
                  <a:pt x="42" y="14"/>
                </a:lnTo>
                <a:lnTo>
                  <a:pt x="42" y="14"/>
                </a:lnTo>
                <a:lnTo>
                  <a:pt x="42" y="14"/>
                </a:lnTo>
                <a:lnTo>
                  <a:pt x="42" y="14"/>
                </a:lnTo>
                <a:lnTo>
                  <a:pt x="42" y="7"/>
                </a:lnTo>
                <a:lnTo>
                  <a:pt x="35" y="7"/>
                </a:lnTo>
                <a:lnTo>
                  <a:pt x="35" y="7"/>
                </a:lnTo>
                <a:lnTo>
                  <a:pt x="35" y="7"/>
                </a:lnTo>
                <a:lnTo>
                  <a:pt x="35" y="7"/>
                </a:lnTo>
                <a:lnTo>
                  <a:pt x="35" y="7"/>
                </a:lnTo>
                <a:lnTo>
                  <a:pt x="28" y="7"/>
                </a:lnTo>
                <a:lnTo>
                  <a:pt x="28" y="7"/>
                </a:lnTo>
                <a:lnTo>
                  <a:pt x="28" y="7"/>
                </a:lnTo>
                <a:lnTo>
                  <a:pt x="21" y="7"/>
                </a:lnTo>
                <a:lnTo>
                  <a:pt x="21" y="7"/>
                </a:lnTo>
                <a:lnTo>
                  <a:pt x="21" y="7"/>
                </a:lnTo>
                <a:lnTo>
                  <a:pt x="21" y="7"/>
                </a:lnTo>
                <a:lnTo>
                  <a:pt x="28" y="7"/>
                </a:lnTo>
                <a:lnTo>
                  <a:pt x="28" y="7"/>
                </a:lnTo>
                <a:lnTo>
                  <a:pt x="28" y="14"/>
                </a:lnTo>
                <a:lnTo>
                  <a:pt x="28" y="14"/>
                </a:lnTo>
                <a:lnTo>
                  <a:pt x="28" y="14"/>
                </a:lnTo>
                <a:lnTo>
                  <a:pt x="28" y="14"/>
                </a:lnTo>
                <a:lnTo>
                  <a:pt x="28" y="21"/>
                </a:lnTo>
                <a:lnTo>
                  <a:pt x="28" y="21"/>
                </a:lnTo>
                <a:lnTo>
                  <a:pt x="28" y="21"/>
                </a:lnTo>
                <a:lnTo>
                  <a:pt x="28" y="28"/>
                </a:lnTo>
                <a:lnTo>
                  <a:pt x="28" y="28"/>
                </a:lnTo>
                <a:lnTo>
                  <a:pt x="21" y="28"/>
                </a:lnTo>
                <a:lnTo>
                  <a:pt x="21" y="28"/>
                </a:lnTo>
                <a:lnTo>
                  <a:pt x="21" y="35"/>
                </a:lnTo>
                <a:lnTo>
                  <a:pt x="14" y="35"/>
                </a:lnTo>
                <a:lnTo>
                  <a:pt x="14" y="35"/>
                </a:lnTo>
                <a:lnTo>
                  <a:pt x="14" y="35"/>
                </a:lnTo>
                <a:lnTo>
                  <a:pt x="7" y="35"/>
                </a:lnTo>
                <a:lnTo>
                  <a:pt x="7" y="35"/>
                </a:lnTo>
                <a:lnTo>
                  <a:pt x="7" y="28"/>
                </a:lnTo>
                <a:lnTo>
                  <a:pt x="7" y="28"/>
                </a:lnTo>
                <a:lnTo>
                  <a:pt x="0" y="28"/>
                </a:lnTo>
                <a:lnTo>
                  <a:pt x="0" y="28"/>
                </a:lnTo>
                <a:lnTo>
                  <a:pt x="0" y="28"/>
                </a:lnTo>
                <a:lnTo>
                  <a:pt x="0" y="21"/>
                </a:lnTo>
                <a:lnTo>
                  <a:pt x="0" y="21"/>
                </a:lnTo>
                <a:lnTo>
                  <a:pt x="0" y="21"/>
                </a:lnTo>
                <a:lnTo>
                  <a:pt x="0" y="14"/>
                </a:lnTo>
                <a:lnTo>
                  <a:pt x="0" y="14"/>
                </a:lnTo>
                <a:lnTo>
                  <a:pt x="0" y="7"/>
                </a:lnTo>
                <a:lnTo>
                  <a:pt x="7" y="7"/>
                </a:lnTo>
                <a:lnTo>
                  <a:pt x="7" y="7"/>
                </a:lnTo>
                <a:lnTo>
                  <a:pt x="14" y="0"/>
                </a:lnTo>
                <a:lnTo>
                  <a:pt x="14" y="0"/>
                </a:lnTo>
                <a:lnTo>
                  <a:pt x="21" y="0"/>
                </a:lnTo>
                <a:lnTo>
                  <a:pt x="28" y="0"/>
                </a:lnTo>
                <a:lnTo>
                  <a:pt x="35" y="0"/>
                </a:lnTo>
                <a:lnTo>
                  <a:pt x="35" y="0"/>
                </a:lnTo>
                <a:lnTo>
                  <a:pt x="42" y="0"/>
                </a:lnTo>
                <a:lnTo>
                  <a:pt x="42" y="7"/>
                </a:lnTo>
                <a:lnTo>
                  <a:pt x="42" y="7"/>
                </a:lnTo>
                <a:lnTo>
                  <a:pt x="42" y="14"/>
                </a:lnTo>
                <a:lnTo>
                  <a:pt x="42" y="14"/>
                </a:lnTo>
                <a:lnTo>
                  <a:pt x="42" y="14"/>
                </a:lnTo>
                <a:lnTo>
                  <a:pt x="42" y="21"/>
                </a:lnTo>
                <a:lnTo>
                  <a:pt x="42" y="21"/>
                </a:lnTo>
                <a:lnTo>
                  <a:pt x="42" y="21"/>
                </a:lnTo>
                <a:lnTo>
                  <a:pt x="42" y="21"/>
                </a:lnTo>
                <a:lnTo>
                  <a:pt x="42" y="28"/>
                </a:lnTo>
                <a:lnTo>
                  <a:pt x="35" y="28"/>
                </a:lnTo>
                <a:close/>
                <a:moveTo>
                  <a:pt x="14" y="7"/>
                </a:moveTo>
                <a:lnTo>
                  <a:pt x="14" y="7"/>
                </a:lnTo>
                <a:lnTo>
                  <a:pt x="7" y="7"/>
                </a:lnTo>
                <a:lnTo>
                  <a:pt x="7" y="14"/>
                </a:lnTo>
                <a:lnTo>
                  <a:pt x="7" y="14"/>
                </a:lnTo>
                <a:lnTo>
                  <a:pt x="7" y="14"/>
                </a:lnTo>
                <a:lnTo>
                  <a:pt x="7" y="14"/>
                </a:lnTo>
                <a:lnTo>
                  <a:pt x="7" y="14"/>
                </a:lnTo>
                <a:lnTo>
                  <a:pt x="7" y="14"/>
                </a:lnTo>
                <a:lnTo>
                  <a:pt x="7" y="21"/>
                </a:lnTo>
                <a:lnTo>
                  <a:pt x="7" y="21"/>
                </a:lnTo>
                <a:lnTo>
                  <a:pt x="7" y="21"/>
                </a:lnTo>
                <a:lnTo>
                  <a:pt x="7" y="21"/>
                </a:lnTo>
                <a:lnTo>
                  <a:pt x="7" y="21"/>
                </a:lnTo>
                <a:lnTo>
                  <a:pt x="7" y="21"/>
                </a:lnTo>
                <a:lnTo>
                  <a:pt x="7" y="28"/>
                </a:lnTo>
                <a:lnTo>
                  <a:pt x="7" y="28"/>
                </a:lnTo>
                <a:lnTo>
                  <a:pt x="7" y="28"/>
                </a:lnTo>
                <a:lnTo>
                  <a:pt x="14" y="28"/>
                </a:lnTo>
                <a:lnTo>
                  <a:pt x="14" y="28"/>
                </a:lnTo>
                <a:lnTo>
                  <a:pt x="14" y="28"/>
                </a:lnTo>
                <a:lnTo>
                  <a:pt x="21" y="28"/>
                </a:lnTo>
                <a:lnTo>
                  <a:pt x="21" y="28"/>
                </a:lnTo>
                <a:lnTo>
                  <a:pt x="21" y="21"/>
                </a:lnTo>
                <a:lnTo>
                  <a:pt x="21" y="21"/>
                </a:lnTo>
                <a:lnTo>
                  <a:pt x="21" y="21"/>
                </a:lnTo>
                <a:lnTo>
                  <a:pt x="21" y="21"/>
                </a:lnTo>
                <a:lnTo>
                  <a:pt x="21" y="21"/>
                </a:lnTo>
                <a:lnTo>
                  <a:pt x="21" y="14"/>
                </a:lnTo>
                <a:lnTo>
                  <a:pt x="21" y="14"/>
                </a:lnTo>
                <a:lnTo>
                  <a:pt x="21" y="14"/>
                </a:lnTo>
                <a:lnTo>
                  <a:pt x="21" y="14"/>
                </a:lnTo>
                <a:lnTo>
                  <a:pt x="21" y="7"/>
                </a:lnTo>
                <a:lnTo>
                  <a:pt x="21" y="7"/>
                </a:lnTo>
                <a:lnTo>
                  <a:pt x="14" y="7"/>
                </a:lnTo>
                <a:lnTo>
                  <a:pt x="14" y="7"/>
                </a:lnTo>
                <a:lnTo>
                  <a:pt x="14" y="7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8" name=""/>
          <p:cNvSpPr/>
          <p:nvPr/>
        </p:nvSpPr>
        <p:spPr>
          <a:xfrm>
            <a:off x="3973680" y="4073400"/>
            <a:ext cx="75960" cy="42840"/>
          </a:xfrm>
          <a:custGeom>
            <a:avLst/>
            <a:gdLst/>
            <a:ahLst/>
            <a:rect l="l" t="t" r="r" b="b"/>
            <a:pathLst>
              <a:path w="48" h="27">
                <a:moveTo>
                  <a:pt x="21" y="0"/>
                </a:moveTo>
                <a:lnTo>
                  <a:pt x="21" y="0"/>
                </a:lnTo>
                <a:lnTo>
                  <a:pt x="28" y="0"/>
                </a:lnTo>
                <a:lnTo>
                  <a:pt x="28" y="0"/>
                </a:lnTo>
                <a:lnTo>
                  <a:pt x="35" y="0"/>
                </a:lnTo>
                <a:lnTo>
                  <a:pt x="35" y="0"/>
                </a:lnTo>
                <a:lnTo>
                  <a:pt x="35" y="0"/>
                </a:lnTo>
                <a:lnTo>
                  <a:pt x="41" y="0"/>
                </a:lnTo>
                <a:lnTo>
                  <a:pt x="41" y="0"/>
                </a:lnTo>
                <a:lnTo>
                  <a:pt x="41" y="7"/>
                </a:lnTo>
                <a:lnTo>
                  <a:pt x="41" y="7"/>
                </a:lnTo>
                <a:lnTo>
                  <a:pt x="41" y="7"/>
                </a:lnTo>
                <a:lnTo>
                  <a:pt x="48" y="7"/>
                </a:lnTo>
                <a:lnTo>
                  <a:pt x="48" y="13"/>
                </a:lnTo>
                <a:lnTo>
                  <a:pt x="48" y="13"/>
                </a:lnTo>
                <a:lnTo>
                  <a:pt x="48" y="13"/>
                </a:lnTo>
                <a:lnTo>
                  <a:pt x="48" y="13"/>
                </a:lnTo>
                <a:lnTo>
                  <a:pt x="48" y="20"/>
                </a:lnTo>
                <a:lnTo>
                  <a:pt x="41" y="20"/>
                </a:lnTo>
                <a:lnTo>
                  <a:pt x="41" y="20"/>
                </a:lnTo>
                <a:lnTo>
                  <a:pt x="41" y="20"/>
                </a:lnTo>
                <a:lnTo>
                  <a:pt x="41" y="20"/>
                </a:lnTo>
                <a:lnTo>
                  <a:pt x="41" y="20"/>
                </a:lnTo>
                <a:lnTo>
                  <a:pt x="41" y="27"/>
                </a:lnTo>
                <a:lnTo>
                  <a:pt x="35" y="27"/>
                </a:lnTo>
                <a:lnTo>
                  <a:pt x="35" y="27"/>
                </a:lnTo>
                <a:lnTo>
                  <a:pt x="35" y="27"/>
                </a:lnTo>
                <a:lnTo>
                  <a:pt x="28" y="27"/>
                </a:lnTo>
                <a:lnTo>
                  <a:pt x="28" y="27"/>
                </a:lnTo>
                <a:lnTo>
                  <a:pt x="21" y="27"/>
                </a:lnTo>
                <a:lnTo>
                  <a:pt x="21" y="27"/>
                </a:lnTo>
                <a:lnTo>
                  <a:pt x="14" y="27"/>
                </a:lnTo>
                <a:lnTo>
                  <a:pt x="14" y="27"/>
                </a:lnTo>
                <a:lnTo>
                  <a:pt x="14" y="27"/>
                </a:lnTo>
                <a:lnTo>
                  <a:pt x="7" y="27"/>
                </a:lnTo>
                <a:lnTo>
                  <a:pt x="7" y="27"/>
                </a:lnTo>
                <a:lnTo>
                  <a:pt x="7" y="27"/>
                </a:lnTo>
                <a:lnTo>
                  <a:pt x="7" y="27"/>
                </a:lnTo>
                <a:lnTo>
                  <a:pt x="0" y="27"/>
                </a:lnTo>
                <a:lnTo>
                  <a:pt x="0" y="20"/>
                </a:lnTo>
                <a:lnTo>
                  <a:pt x="0" y="20"/>
                </a:lnTo>
                <a:lnTo>
                  <a:pt x="0" y="20"/>
                </a:lnTo>
                <a:lnTo>
                  <a:pt x="0" y="13"/>
                </a:lnTo>
                <a:lnTo>
                  <a:pt x="0" y="13"/>
                </a:lnTo>
                <a:lnTo>
                  <a:pt x="0" y="7"/>
                </a:lnTo>
                <a:lnTo>
                  <a:pt x="7" y="7"/>
                </a:lnTo>
                <a:lnTo>
                  <a:pt x="7" y="7"/>
                </a:lnTo>
                <a:lnTo>
                  <a:pt x="14" y="0"/>
                </a:lnTo>
                <a:lnTo>
                  <a:pt x="21" y="0"/>
                </a:lnTo>
                <a:close/>
                <a:moveTo>
                  <a:pt x="21" y="7"/>
                </a:moveTo>
                <a:lnTo>
                  <a:pt x="14" y="7"/>
                </a:lnTo>
                <a:lnTo>
                  <a:pt x="14" y="7"/>
                </a:lnTo>
                <a:lnTo>
                  <a:pt x="7" y="13"/>
                </a:lnTo>
                <a:lnTo>
                  <a:pt x="7" y="13"/>
                </a:lnTo>
                <a:lnTo>
                  <a:pt x="7" y="13"/>
                </a:lnTo>
                <a:lnTo>
                  <a:pt x="7" y="13"/>
                </a:lnTo>
                <a:lnTo>
                  <a:pt x="7" y="20"/>
                </a:lnTo>
                <a:lnTo>
                  <a:pt x="7" y="20"/>
                </a:lnTo>
                <a:lnTo>
                  <a:pt x="7" y="20"/>
                </a:lnTo>
                <a:lnTo>
                  <a:pt x="7" y="20"/>
                </a:lnTo>
                <a:lnTo>
                  <a:pt x="7" y="20"/>
                </a:lnTo>
                <a:lnTo>
                  <a:pt x="7" y="27"/>
                </a:lnTo>
                <a:lnTo>
                  <a:pt x="14" y="27"/>
                </a:lnTo>
                <a:lnTo>
                  <a:pt x="14" y="27"/>
                </a:lnTo>
                <a:lnTo>
                  <a:pt x="21" y="27"/>
                </a:lnTo>
                <a:lnTo>
                  <a:pt x="28" y="20"/>
                </a:lnTo>
                <a:lnTo>
                  <a:pt x="28" y="20"/>
                </a:lnTo>
                <a:lnTo>
                  <a:pt x="35" y="20"/>
                </a:lnTo>
                <a:lnTo>
                  <a:pt x="35" y="20"/>
                </a:lnTo>
                <a:lnTo>
                  <a:pt x="41" y="20"/>
                </a:lnTo>
                <a:lnTo>
                  <a:pt x="41" y="13"/>
                </a:lnTo>
                <a:lnTo>
                  <a:pt x="41" y="13"/>
                </a:lnTo>
                <a:lnTo>
                  <a:pt x="41" y="13"/>
                </a:lnTo>
                <a:lnTo>
                  <a:pt x="41" y="13"/>
                </a:lnTo>
                <a:lnTo>
                  <a:pt x="41" y="7"/>
                </a:lnTo>
                <a:lnTo>
                  <a:pt x="41" y="7"/>
                </a:lnTo>
                <a:lnTo>
                  <a:pt x="35" y="7"/>
                </a:lnTo>
                <a:lnTo>
                  <a:pt x="35" y="7"/>
                </a:lnTo>
                <a:lnTo>
                  <a:pt x="35" y="7"/>
                </a:lnTo>
                <a:lnTo>
                  <a:pt x="28" y="7"/>
                </a:lnTo>
                <a:lnTo>
                  <a:pt x="28" y="7"/>
                </a:lnTo>
                <a:lnTo>
                  <a:pt x="21" y="7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9" name=""/>
          <p:cNvSpPr/>
          <p:nvPr/>
        </p:nvSpPr>
        <p:spPr>
          <a:xfrm flipV="1">
            <a:off x="3973680" y="3930120"/>
            <a:ext cx="1440" cy="11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0" name=""/>
          <p:cNvSpPr/>
          <p:nvPr/>
        </p:nvSpPr>
        <p:spPr>
          <a:xfrm>
            <a:off x="3765600" y="2727360"/>
            <a:ext cx="1281240" cy="1203120"/>
          </a:xfrm>
          <a:custGeom>
            <a:avLst/>
            <a:gdLst/>
            <a:ahLst/>
            <a:rect l="l" t="t" r="r" b="b"/>
            <a:pathLst>
              <a:path w="807" h="758">
                <a:moveTo>
                  <a:pt x="131" y="758"/>
                </a:moveTo>
                <a:lnTo>
                  <a:pt x="131" y="751"/>
                </a:lnTo>
                <a:lnTo>
                  <a:pt x="131" y="751"/>
                </a:lnTo>
                <a:lnTo>
                  <a:pt x="124" y="744"/>
                </a:lnTo>
                <a:lnTo>
                  <a:pt x="124" y="737"/>
                </a:lnTo>
                <a:lnTo>
                  <a:pt x="124" y="731"/>
                </a:lnTo>
                <a:lnTo>
                  <a:pt x="124" y="724"/>
                </a:lnTo>
                <a:lnTo>
                  <a:pt x="117" y="717"/>
                </a:lnTo>
                <a:lnTo>
                  <a:pt x="117" y="710"/>
                </a:lnTo>
                <a:lnTo>
                  <a:pt x="117" y="703"/>
                </a:lnTo>
                <a:lnTo>
                  <a:pt x="110" y="703"/>
                </a:lnTo>
                <a:lnTo>
                  <a:pt x="110" y="696"/>
                </a:lnTo>
                <a:lnTo>
                  <a:pt x="110" y="689"/>
                </a:lnTo>
                <a:lnTo>
                  <a:pt x="103" y="682"/>
                </a:lnTo>
                <a:lnTo>
                  <a:pt x="103" y="675"/>
                </a:lnTo>
                <a:lnTo>
                  <a:pt x="103" y="669"/>
                </a:lnTo>
                <a:lnTo>
                  <a:pt x="103" y="662"/>
                </a:lnTo>
                <a:lnTo>
                  <a:pt x="103" y="655"/>
                </a:lnTo>
                <a:lnTo>
                  <a:pt x="103" y="655"/>
                </a:lnTo>
                <a:lnTo>
                  <a:pt x="103" y="648"/>
                </a:lnTo>
                <a:lnTo>
                  <a:pt x="103" y="641"/>
                </a:lnTo>
                <a:lnTo>
                  <a:pt x="103" y="634"/>
                </a:lnTo>
                <a:lnTo>
                  <a:pt x="97" y="627"/>
                </a:lnTo>
                <a:lnTo>
                  <a:pt x="97" y="620"/>
                </a:lnTo>
                <a:lnTo>
                  <a:pt x="97" y="613"/>
                </a:lnTo>
                <a:lnTo>
                  <a:pt x="90" y="607"/>
                </a:lnTo>
                <a:lnTo>
                  <a:pt x="90" y="607"/>
                </a:lnTo>
                <a:lnTo>
                  <a:pt x="90" y="600"/>
                </a:lnTo>
                <a:lnTo>
                  <a:pt x="83" y="593"/>
                </a:lnTo>
                <a:lnTo>
                  <a:pt x="83" y="586"/>
                </a:lnTo>
                <a:lnTo>
                  <a:pt x="83" y="579"/>
                </a:lnTo>
                <a:lnTo>
                  <a:pt x="83" y="572"/>
                </a:lnTo>
                <a:lnTo>
                  <a:pt x="76" y="565"/>
                </a:lnTo>
                <a:lnTo>
                  <a:pt x="76" y="558"/>
                </a:lnTo>
                <a:lnTo>
                  <a:pt x="69" y="558"/>
                </a:lnTo>
                <a:lnTo>
                  <a:pt x="69" y="551"/>
                </a:lnTo>
                <a:lnTo>
                  <a:pt x="62" y="545"/>
                </a:lnTo>
                <a:lnTo>
                  <a:pt x="55" y="538"/>
                </a:lnTo>
                <a:lnTo>
                  <a:pt x="55" y="538"/>
                </a:lnTo>
                <a:lnTo>
                  <a:pt x="48" y="531"/>
                </a:lnTo>
                <a:lnTo>
                  <a:pt x="48" y="524"/>
                </a:lnTo>
                <a:lnTo>
                  <a:pt x="48" y="517"/>
                </a:lnTo>
                <a:lnTo>
                  <a:pt x="41" y="510"/>
                </a:lnTo>
                <a:lnTo>
                  <a:pt x="35" y="503"/>
                </a:lnTo>
                <a:lnTo>
                  <a:pt x="41" y="503"/>
                </a:lnTo>
                <a:lnTo>
                  <a:pt x="48" y="510"/>
                </a:lnTo>
                <a:lnTo>
                  <a:pt x="55" y="510"/>
                </a:lnTo>
                <a:lnTo>
                  <a:pt x="62" y="510"/>
                </a:lnTo>
                <a:lnTo>
                  <a:pt x="69" y="517"/>
                </a:lnTo>
                <a:lnTo>
                  <a:pt x="76" y="517"/>
                </a:lnTo>
                <a:lnTo>
                  <a:pt x="83" y="524"/>
                </a:lnTo>
                <a:lnTo>
                  <a:pt x="90" y="531"/>
                </a:lnTo>
                <a:lnTo>
                  <a:pt x="90" y="538"/>
                </a:lnTo>
                <a:lnTo>
                  <a:pt x="103" y="538"/>
                </a:lnTo>
                <a:lnTo>
                  <a:pt x="110" y="531"/>
                </a:lnTo>
                <a:lnTo>
                  <a:pt x="110" y="531"/>
                </a:lnTo>
                <a:lnTo>
                  <a:pt x="110" y="524"/>
                </a:lnTo>
                <a:lnTo>
                  <a:pt x="110" y="517"/>
                </a:lnTo>
                <a:lnTo>
                  <a:pt x="103" y="510"/>
                </a:lnTo>
                <a:lnTo>
                  <a:pt x="103" y="503"/>
                </a:lnTo>
                <a:lnTo>
                  <a:pt x="97" y="496"/>
                </a:lnTo>
                <a:lnTo>
                  <a:pt x="97" y="489"/>
                </a:lnTo>
                <a:lnTo>
                  <a:pt x="97" y="483"/>
                </a:lnTo>
                <a:lnTo>
                  <a:pt x="97" y="483"/>
                </a:lnTo>
                <a:lnTo>
                  <a:pt x="97" y="476"/>
                </a:lnTo>
                <a:lnTo>
                  <a:pt x="90" y="469"/>
                </a:lnTo>
                <a:lnTo>
                  <a:pt x="90" y="462"/>
                </a:lnTo>
                <a:lnTo>
                  <a:pt x="90" y="455"/>
                </a:lnTo>
                <a:lnTo>
                  <a:pt x="90" y="448"/>
                </a:lnTo>
                <a:lnTo>
                  <a:pt x="83" y="441"/>
                </a:lnTo>
                <a:lnTo>
                  <a:pt x="83" y="434"/>
                </a:lnTo>
                <a:lnTo>
                  <a:pt x="83" y="434"/>
                </a:lnTo>
                <a:lnTo>
                  <a:pt x="83" y="427"/>
                </a:lnTo>
                <a:lnTo>
                  <a:pt x="76" y="421"/>
                </a:lnTo>
                <a:lnTo>
                  <a:pt x="76" y="414"/>
                </a:lnTo>
                <a:lnTo>
                  <a:pt x="76" y="407"/>
                </a:lnTo>
                <a:lnTo>
                  <a:pt x="69" y="400"/>
                </a:lnTo>
                <a:lnTo>
                  <a:pt x="69" y="393"/>
                </a:lnTo>
                <a:lnTo>
                  <a:pt x="69" y="386"/>
                </a:lnTo>
                <a:lnTo>
                  <a:pt x="69" y="386"/>
                </a:lnTo>
                <a:lnTo>
                  <a:pt x="69" y="379"/>
                </a:lnTo>
                <a:lnTo>
                  <a:pt x="76" y="372"/>
                </a:lnTo>
                <a:lnTo>
                  <a:pt x="76" y="365"/>
                </a:lnTo>
                <a:lnTo>
                  <a:pt x="83" y="359"/>
                </a:lnTo>
                <a:lnTo>
                  <a:pt x="83" y="352"/>
                </a:lnTo>
                <a:lnTo>
                  <a:pt x="83" y="345"/>
                </a:lnTo>
                <a:lnTo>
                  <a:pt x="83" y="345"/>
                </a:lnTo>
                <a:lnTo>
                  <a:pt x="83" y="338"/>
                </a:lnTo>
                <a:lnTo>
                  <a:pt x="83" y="331"/>
                </a:lnTo>
                <a:lnTo>
                  <a:pt x="83" y="324"/>
                </a:lnTo>
                <a:lnTo>
                  <a:pt x="83" y="317"/>
                </a:lnTo>
                <a:lnTo>
                  <a:pt x="83" y="310"/>
                </a:lnTo>
                <a:lnTo>
                  <a:pt x="83" y="303"/>
                </a:lnTo>
                <a:lnTo>
                  <a:pt x="76" y="297"/>
                </a:lnTo>
                <a:lnTo>
                  <a:pt x="69" y="290"/>
                </a:lnTo>
                <a:lnTo>
                  <a:pt x="62" y="290"/>
                </a:lnTo>
                <a:lnTo>
                  <a:pt x="62" y="303"/>
                </a:lnTo>
                <a:lnTo>
                  <a:pt x="62" y="310"/>
                </a:lnTo>
                <a:lnTo>
                  <a:pt x="62" y="310"/>
                </a:lnTo>
                <a:lnTo>
                  <a:pt x="62" y="317"/>
                </a:lnTo>
                <a:lnTo>
                  <a:pt x="62" y="324"/>
                </a:lnTo>
                <a:lnTo>
                  <a:pt x="55" y="331"/>
                </a:lnTo>
                <a:lnTo>
                  <a:pt x="48" y="331"/>
                </a:lnTo>
                <a:lnTo>
                  <a:pt x="35" y="338"/>
                </a:lnTo>
                <a:lnTo>
                  <a:pt x="28" y="338"/>
                </a:lnTo>
                <a:lnTo>
                  <a:pt x="21" y="345"/>
                </a:lnTo>
                <a:lnTo>
                  <a:pt x="21" y="345"/>
                </a:lnTo>
                <a:lnTo>
                  <a:pt x="14" y="352"/>
                </a:lnTo>
                <a:lnTo>
                  <a:pt x="7" y="359"/>
                </a:lnTo>
                <a:lnTo>
                  <a:pt x="0" y="352"/>
                </a:lnTo>
                <a:lnTo>
                  <a:pt x="7" y="345"/>
                </a:lnTo>
                <a:lnTo>
                  <a:pt x="7" y="338"/>
                </a:lnTo>
                <a:lnTo>
                  <a:pt x="7" y="331"/>
                </a:lnTo>
                <a:lnTo>
                  <a:pt x="7" y="324"/>
                </a:lnTo>
                <a:lnTo>
                  <a:pt x="14" y="317"/>
                </a:lnTo>
                <a:lnTo>
                  <a:pt x="14" y="310"/>
                </a:lnTo>
                <a:lnTo>
                  <a:pt x="14" y="310"/>
                </a:lnTo>
                <a:lnTo>
                  <a:pt x="21" y="303"/>
                </a:lnTo>
                <a:lnTo>
                  <a:pt x="21" y="297"/>
                </a:lnTo>
                <a:lnTo>
                  <a:pt x="28" y="290"/>
                </a:lnTo>
                <a:lnTo>
                  <a:pt x="35" y="283"/>
                </a:lnTo>
                <a:lnTo>
                  <a:pt x="41" y="283"/>
                </a:lnTo>
                <a:lnTo>
                  <a:pt x="41" y="276"/>
                </a:lnTo>
                <a:lnTo>
                  <a:pt x="48" y="269"/>
                </a:lnTo>
                <a:lnTo>
                  <a:pt x="55" y="269"/>
                </a:lnTo>
                <a:lnTo>
                  <a:pt x="62" y="262"/>
                </a:lnTo>
                <a:lnTo>
                  <a:pt x="69" y="255"/>
                </a:lnTo>
                <a:lnTo>
                  <a:pt x="69" y="248"/>
                </a:lnTo>
                <a:lnTo>
                  <a:pt x="76" y="248"/>
                </a:lnTo>
                <a:lnTo>
                  <a:pt x="83" y="241"/>
                </a:lnTo>
                <a:lnTo>
                  <a:pt x="90" y="235"/>
                </a:lnTo>
                <a:lnTo>
                  <a:pt x="90" y="228"/>
                </a:lnTo>
                <a:lnTo>
                  <a:pt x="97" y="228"/>
                </a:lnTo>
                <a:lnTo>
                  <a:pt x="103" y="221"/>
                </a:lnTo>
                <a:lnTo>
                  <a:pt x="110" y="214"/>
                </a:lnTo>
                <a:lnTo>
                  <a:pt x="117" y="214"/>
                </a:lnTo>
                <a:lnTo>
                  <a:pt x="117" y="207"/>
                </a:lnTo>
                <a:lnTo>
                  <a:pt x="124" y="200"/>
                </a:lnTo>
                <a:lnTo>
                  <a:pt x="124" y="193"/>
                </a:lnTo>
                <a:lnTo>
                  <a:pt x="131" y="186"/>
                </a:lnTo>
                <a:lnTo>
                  <a:pt x="138" y="186"/>
                </a:lnTo>
                <a:lnTo>
                  <a:pt x="152" y="186"/>
                </a:lnTo>
                <a:lnTo>
                  <a:pt x="159" y="179"/>
                </a:lnTo>
                <a:lnTo>
                  <a:pt x="166" y="179"/>
                </a:lnTo>
                <a:lnTo>
                  <a:pt x="172" y="179"/>
                </a:lnTo>
                <a:lnTo>
                  <a:pt x="186" y="173"/>
                </a:lnTo>
                <a:lnTo>
                  <a:pt x="193" y="173"/>
                </a:lnTo>
                <a:lnTo>
                  <a:pt x="200" y="166"/>
                </a:lnTo>
                <a:lnTo>
                  <a:pt x="207" y="166"/>
                </a:lnTo>
                <a:lnTo>
                  <a:pt x="221" y="166"/>
                </a:lnTo>
                <a:lnTo>
                  <a:pt x="228" y="159"/>
                </a:lnTo>
                <a:lnTo>
                  <a:pt x="234" y="159"/>
                </a:lnTo>
                <a:lnTo>
                  <a:pt x="248" y="159"/>
                </a:lnTo>
                <a:lnTo>
                  <a:pt x="255" y="159"/>
                </a:lnTo>
                <a:lnTo>
                  <a:pt x="262" y="159"/>
                </a:lnTo>
                <a:lnTo>
                  <a:pt x="276" y="152"/>
                </a:lnTo>
                <a:lnTo>
                  <a:pt x="276" y="145"/>
                </a:lnTo>
                <a:lnTo>
                  <a:pt x="290" y="145"/>
                </a:lnTo>
                <a:lnTo>
                  <a:pt x="297" y="145"/>
                </a:lnTo>
                <a:lnTo>
                  <a:pt x="303" y="138"/>
                </a:lnTo>
                <a:lnTo>
                  <a:pt x="310" y="138"/>
                </a:lnTo>
                <a:lnTo>
                  <a:pt x="324" y="138"/>
                </a:lnTo>
                <a:lnTo>
                  <a:pt x="331" y="131"/>
                </a:lnTo>
                <a:lnTo>
                  <a:pt x="338" y="131"/>
                </a:lnTo>
                <a:lnTo>
                  <a:pt x="352" y="131"/>
                </a:lnTo>
                <a:lnTo>
                  <a:pt x="359" y="131"/>
                </a:lnTo>
                <a:lnTo>
                  <a:pt x="365" y="131"/>
                </a:lnTo>
                <a:lnTo>
                  <a:pt x="372" y="124"/>
                </a:lnTo>
                <a:lnTo>
                  <a:pt x="379" y="117"/>
                </a:lnTo>
                <a:lnTo>
                  <a:pt x="393" y="117"/>
                </a:lnTo>
                <a:lnTo>
                  <a:pt x="400" y="117"/>
                </a:lnTo>
                <a:lnTo>
                  <a:pt x="407" y="111"/>
                </a:lnTo>
                <a:lnTo>
                  <a:pt x="414" y="111"/>
                </a:lnTo>
                <a:lnTo>
                  <a:pt x="428" y="104"/>
                </a:lnTo>
                <a:lnTo>
                  <a:pt x="434" y="104"/>
                </a:lnTo>
                <a:lnTo>
                  <a:pt x="441" y="104"/>
                </a:lnTo>
                <a:lnTo>
                  <a:pt x="455" y="104"/>
                </a:lnTo>
                <a:lnTo>
                  <a:pt x="462" y="104"/>
                </a:lnTo>
                <a:lnTo>
                  <a:pt x="469" y="111"/>
                </a:lnTo>
                <a:lnTo>
                  <a:pt x="476" y="111"/>
                </a:lnTo>
                <a:lnTo>
                  <a:pt x="483" y="104"/>
                </a:lnTo>
                <a:lnTo>
                  <a:pt x="490" y="97"/>
                </a:lnTo>
                <a:lnTo>
                  <a:pt x="490" y="90"/>
                </a:lnTo>
                <a:lnTo>
                  <a:pt x="496" y="90"/>
                </a:lnTo>
                <a:lnTo>
                  <a:pt x="503" y="83"/>
                </a:lnTo>
                <a:lnTo>
                  <a:pt x="517" y="83"/>
                </a:lnTo>
                <a:lnTo>
                  <a:pt x="524" y="76"/>
                </a:lnTo>
                <a:lnTo>
                  <a:pt x="531" y="76"/>
                </a:lnTo>
                <a:lnTo>
                  <a:pt x="538" y="76"/>
                </a:lnTo>
                <a:lnTo>
                  <a:pt x="552" y="76"/>
                </a:lnTo>
                <a:lnTo>
                  <a:pt x="559" y="76"/>
                </a:lnTo>
                <a:lnTo>
                  <a:pt x="565" y="83"/>
                </a:lnTo>
                <a:lnTo>
                  <a:pt x="579" y="83"/>
                </a:lnTo>
                <a:lnTo>
                  <a:pt x="586" y="83"/>
                </a:lnTo>
                <a:lnTo>
                  <a:pt x="593" y="90"/>
                </a:lnTo>
                <a:lnTo>
                  <a:pt x="600" y="90"/>
                </a:lnTo>
                <a:lnTo>
                  <a:pt x="607" y="90"/>
                </a:lnTo>
                <a:lnTo>
                  <a:pt x="614" y="83"/>
                </a:lnTo>
                <a:lnTo>
                  <a:pt x="607" y="76"/>
                </a:lnTo>
                <a:lnTo>
                  <a:pt x="607" y="69"/>
                </a:lnTo>
                <a:lnTo>
                  <a:pt x="600" y="62"/>
                </a:lnTo>
                <a:lnTo>
                  <a:pt x="600" y="55"/>
                </a:lnTo>
                <a:lnTo>
                  <a:pt x="607" y="55"/>
                </a:lnTo>
                <a:lnTo>
                  <a:pt x="614" y="49"/>
                </a:lnTo>
                <a:lnTo>
                  <a:pt x="628" y="49"/>
                </a:lnTo>
                <a:lnTo>
                  <a:pt x="634" y="49"/>
                </a:lnTo>
                <a:lnTo>
                  <a:pt x="648" y="49"/>
                </a:lnTo>
                <a:lnTo>
                  <a:pt x="655" y="49"/>
                </a:lnTo>
                <a:lnTo>
                  <a:pt x="662" y="49"/>
                </a:lnTo>
                <a:lnTo>
                  <a:pt x="669" y="49"/>
                </a:lnTo>
                <a:lnTo>
                  <a:pt x="676" y="55"/>
                </a:lnTo>
                <a:lnTo>
                  <a:pt x="683" y="62"/>
                </a:lnTo>
                <a:lnTo>
                  <a:pt x="690" y="55"/>
                </a:lnTo>
                <a:lnTo>
                  <a:pt x="696" y="49"/>
                </a:lnTo>
                <a:lnTo>
                  <a:pt x="703" y="42"/>
                </a:lnTo>
                <a:lnTo>
                  <a:pt x="703" y="42"/>
                </a:lnTo>
                <a:lnTo>
                  <a:pt x="710" y="35"/>
                </a:lnTo>
                <a:lnTo>
                  <a:pt x="710" y="28"/>
                </a:lnTo>
                <a:lnTo>
                  <a:pt x="717" y="21"/>
                </a:lnTo>
                <a:lnTo>
                  <a:pt x="724" y="21"/>
                </a:lnTo>
                <a:lnTo>
                  <a:pt x="731" y="14"/>
                </a:lnTo>
                <a:lnTo>
                  <a:pt x="738" y="14"/>
                </a:lnTo>
                <a:lnTo>
                  <a:pt x="752" y="14"/>
                </a:lnTo>
                <a:lnTo>
                  <a:pt x="759" y="14"/>
                </a:lnTo>
                <a:lnTo>
                  <a:pt x="765" y="14"/>
                </a:lnTo>
                <a:lnTo>
                  <a:pt x="779" y="14"/>
                </a:lnTo>
                <a:lnTo>
                  <a:pt x="786" y="14"/>
                </a:lnTo>
                <a:lnTo>
                  <a:pt x="793" y="7"/>
                </a:lnTo>
                <a:lnTo>
                  <a:pt x="800" y="0"/>
                </a:lnTo>
                <a:lnTo>
                  <a:pt x="807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1" name=""/>
          <p:cNvSpPr/>
          <p:nvPr/>
        </p:nvSpPr>
        <p:spPr>
          <a:xfrm>
            <a:off x="2583000" y="3373560"/>
            <a:ext cx="98280" cy="98280"/>
          </a:xfrm>
          <a:custGeom>
            <a:avLst/>
            <a:gdLst/>
            <a:ahLst/>
            <a:rect l="l" t="t" r="r" b="b"/>
            <a:pathLst>
              <a:path w="62" h="62">
                <a:moveTo>
                  <a:pt x="42" y="0"/>
                </a:moveTo>
                <a:lnTo>
                  <a:pt x="56" y="0"/>
                </a:lnTo>
                <a:lnTo>
                  <a:pt x="62" y="7"/>
                </a:lnTo>
                <a:lnTo>
                  <a:pt x="62" y="7"/>
                </a:lnTo>
                <a:lnTo>
                  <a:pt x="62" y="14"/>
                </a:lnTo>
                <a:lnTo>
                  <a:pt x="62" y="20"/>
                </a:lnTo>
                <a:lnTo>
                  <a:pt x="56" y="20"/>
                </a:lnTo>
                <a:lnTo>
                  <a:pt x="49" y="27"/>
                </a:lnTo>
                <a:lnTo>
                  <a:pt x="42" y="34"/>
                </a:lnTo>
                <a:lnTo>
                  <a:pt x="35" y="41"/>
                </a:lnTo>
                <a:lnTo>
                  <a:pt x="28" y="48"/>
                </a:lnTo>
                <a:lnTo>
                  <a:pt x="28" y="48"/>
                </a:lnTo>
                <a:lnTo>
                  <a:pt x="21" y="55"/>
                </a:lnTo>
                <a:lnTo>
                  <a:pt x="14" y="62"/>
                </a:lnTo>
                <a:lnTo>
                  <a:pt x="7" y="55"/>
                </a:lnTo>
                <a:lnTo>
                  <a:pt x="7" y="55"/>
                </a:lnTo>
                <a:lnTo>
                  <a:pt x="0" y="48"/>
                </a:lnTo>
                <a:lnTo>
                  <a:pt x="0" y="41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2" name=""/>
          <p:cNvSpPr/>
          <p:nvPr/>
        </p:nvSpPr>
        <p:spPr>
          <a:xfrm>
            <a:off x="2309760" y="3798720"/>
            <a:ext cx="11160" cy="11160"/>
          </a:xfrm>
          <a:custGeom>
            <a:avLst/>
            <a:gdLst/>
            <a:ahLst/>
            <a:rect l="l" t="t" r="r" b="b"/>
            <a:pathLst>
              <a:path w="7" h="7">
                <a:moveTo>
                  <a:pt x="0" y="7"/>
                </a:moveTo>
                <a:lnTo>
                  <a:pt x="7" y="7"/>
                </a:lnTo>
                <a:lnTo>
                  <a:pt x="7" y="7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3" name=""/>
          <p:cNvSpPr/>
          <p:nvPr/>
        </p:nvSpPr>
        <p:spPr>
          <a:xfrm flipV="1">
            <a:off x="2452680" y="3986280"/>
            <a:ext cx="1116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4" name=""/>
          <p:cNvSpPr/>
          <p:nvPr/>
        </p:nvSpPr>
        <p:spPr>
          <a:xfrm>
            <a:off x="2463840" y="3941640"/>
            <a:ext cx="492120" cy="262080"/>
          </a:xfrm>
          <a:custGeom>
            <a:avLst/>
            <a:gdLst/>
            <a:ahLst/>
            <a:rect l="l" t="t" r="r" b="b"/>
            <a:pathLst>
              <a:path w="310" h="165">
                <a:moveTo>
                  <a:pt x="0" y="28"/>
                </a:moveTo>
                <a:lnTo>
                  <a:pt x="0" y="28"/>
                </a:lnTo>
                <a:lnTo>
                  <a:pt x="6" y="21"/>
                </a:lnTo>
                <a:lnTo>
                  <a:pt x="13" y="14"/>
                </a:lnTo>
                <a:lnTo>
                  <a:pt x="13" y="7"/>
                </a:lnTo>
                <a:lnTo>
                  <a:pt x="20" y="7"/>
                </a:lnTo>
                <a:lnTo>
                  <a:pt x="27" y="0"/>
                </a:lnTo>
                <a:lnTo>
                  <a:pt x="34" y="0"/>
                </a:lnTo>
                <a:lnTo>
                  <a:pt x="48" y="0"/>
                </a:lnTo>
                <a:lnTo>
                  <a:pt x="55" y="0"/>
                </a:lnTo>
                <a:lnTo>
                  <a:pt x="69" y="0"/>
                </a:lnTo>
                <a:lnTo>
                  <a:pt x="75" y="0"/>
                </a:lnTo>
                <a:lnTo>
                  <a:pt x="82" y="0"/>
                </a:lnTo>
                <a:lnTo>
                  <a:pt x="89" y="7"/>
                </a:lnTo>
                <a:lnTo>
                  <a:pt x="96" y="7"/>
                </a:lnTo>
                <a:lnTo>
                  <a:pt x="103" y="14"/>
                </a:lnTo>
                <a:lnTo>
                  <a:pt x="103" y="21"/>
                </a:lnTo>
                <a:lnTo>
                  <a:pt x="110" y="28"/>
                </a:lnTo>
                <a:lnTo>
                  <a:pt x="110" y="34"/>
                </a:lnTo>
                <a:lnTo>
                  <a:pt x="117" y="34"/>
                </a:lnTo>
                <a:lnTo>
                  <a:pt x="124" y="34"/>
                </a:lnTo>
                <a:lnTo>
                  <a:pt x="137" y="28"/>
                </a:lnTo>
                <a:lnTo>
                  <a:pt x="144" y="28"/>
                </a:lnTo>
                <a:lnTo>
                  <a:pt x="151" y="34"/>
                </a:lnTo>
                <a:lnTo>
                  <a:pt x="151" y="41"/>
                </a:lnTo>
                <a:lnTo>
                  <a:pt x="144" y="41"/>
                </a:lnTo>
                <a:lnTo>
                  <a:pt x="137" y="48"/>
                </a:lnTo>
                <a:lnTo>
                  <a:pt x="137" y="55"/>
                </a:lnTo>
                <a:lnTo>
                  <a:pt x="131" y="62"/>
                </a:lnTo>
                <a:lnTo>
                  <a:pt x="131" y="62"/>
                </a:lnTo>
                <a:lnTo>
                  <a:pt x="137" y="69"/>
                </a:lnTo>
                <a:lnTo>
                  <a:pt x="144" y="76"/>
                </a:lnTo>
                <a:lnTo>
                  <a:pt x="151" y="76"/>
                </a:lnTo>
                <a:lnTo>
                  <a:pt x="158" y="76"/>
                </a:lnTo>
                <a:lnTo>
                  <a:pt x="165" y="76"/>
                </a:lnTo>
                <a:lnTo>
                  <a:pt x="172" y="69"/>
                </a:lnTo>
                <a:lnTo>
                  <a:pt x="179" y="69"/>
                </a:lnTo>
                <a:lnTo>
                  <a:pt x="186" y="62"/>
                </a:lnTo>
                <a:lnTo>
                  <a:pt x="193" y="55"/>
                </a:lnTo>
                <a:lnTo>
                  <a:pt x="200" y="55"/>
                </a:lnTo>
                <a:lnTo>
                  <a:pt x="206" y="48"/>
                </a:lnTo>
                <a:lnTo>
                  <a:pt x="213" y="48"/>
                </a:lnTo>
                <a:lnTo>
                  <a:pt x="227" y="48"/>
                </a:lnTo>
                <a:lnTo>
                  <a:pt x="234" y="48"/>
                </a:lnTo>
                <a:lnTo>
                  <a:pt x="241" y="48"/>
                </a:lnTo>
                <a:lnTo>
                  <a:pt x="255" y="48"/>
                </a:lnTo>
                <a:lnTo>
                  <a:pt x="262" y="55"/>
                </a:lnTo>
                <a:lnTo>
                  <a:pt x="268" y="55"/>
                </a:lnTo>
                <a:lnTo>
                  <a:pt x="275" y="55"/>
                </a:lnTo>
                <a:lnTo>
                  <a:pt x="282" y="62"/>
                </a:lnTo>
                <a:lnTo>
                  <a:pt x="289" y="69"/>
                </a:lnTo>
                <a:lnTo>
                  <a:pt x="289" y="69"/>
                </a:lnTo>
                <a:lnTo>
                  <a:pt x="282" y="76"/>
                </a:lnTo>
                <a:lnTo>
                  <a:pt x="275" y="83"/>
                </a:lnTo>
                <a:lnTo>
                  <a:pt x="268" y="90"/>
                </a:lnTo>
                <a:lnTo>
                  <a:pt x="268" y="96"/>
                </a:lnTo>
                <a:lnTo>
                  <a:pt x="268" y="96"/>
                </a:lnTo>
                <a:lnTo>
                  <a:pt x="262" y="103"/>
                </a:lnTo>
                <a:lnTo>
                  <a:pt x="262" y="110"/>
                </a:lnTo>
                <a:lnTo>
                  <a:pt x="255" y="117"/>
                </a:lnTo>
                <a:lnTo>
                  <a:pt x="255" y="124"/>
                </a:lnTo>
                <a:lnTo>
                  <a:pt x="262" y="131"/>
                </a:lnTo>
                <a:lnTo>
                  <a:pt x="262" y="131"/>
                </a:lnTo>
                <a:lnTo>
                  <a:pt x="268" y="138"/>
                </a:lnTo>
                <a:lnTo>
                  <a:pt x="275" y="145"/>
                </a:lnTo>
                <a:lnTo>
                  <a:pt x="275" y="152"/>
                </a:lnTo>
                <a:lnTo>
                  <a:pt x="282" y="152"/>
                </a:lnTo>
                <a:lnTo>
                  <a:pt x="289" y="158"/>
                </a:lnTo>
                <a:lnTo>
                  <a:pt x="289" y="165"/>
                </a:lnTo>
                <a:lnTo>
                  <a:pt x="303" y="165"/>
                </a:lnTo>
                <a:lnTo>
                  <a:pt x="310" y="165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5" name=""/>
          <p:cNvSpPr/>
          <p:nvPr/>
        </p:nvSpPr>
        <p:spPr>
          <a:xfrm>
            <a:off x="2955960" y="4203720"/>
            <a:ext cx="1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6" name=""/>
          <p:cNvSpPr/>
          <p:nvPr/>
        </p:nvSpPr>
        <p:spPr>
          <a:xfrm>
            <a:off x="2978280" y="4149720"/>
            <a:ext cx="42840" cy="65160"/>
          </a:xfrm>
          <a:custGeom>
            <a:avLst/>
            <a:gdLst/>
            <a:ahLst/>
            <a:rect l="l" t="t" r="r" b="b"/>
            <a:pathLst>
              <a:path w="27" h="41">
                <a:moveTo>
                  <a:pt x="27" y="34"/>
                </a:moveTo>
                <a:lnTo>
                  <a:pt x="20" y="41"/>
                </a:lnTo>
                <a:lnTo>
                  <a:pt x="7" y="7"/>
                </a:lnTo>
                <a:lnTo>
                  <a:pt x="7" y="7"/>
                </a:lnTo>
                <a:lnTo>
                  <a:pt x="7" y="14"/>
                </a:lnTo>
                <a:lnTo>
                  <a:pt x="7" y="14"/>
                </a:lnTo>
                <a:lnTo>
                  <a:pt x="0" y="14"/>
                </a:lnTo>
                <a:lnTo>
                  <a:pt x="0" y="14"/>
                </a:lnTo>
                <a:lnTo>
                  <a:pt x="0" y="21"/>
                </a:lnTo>
                <a:lnTo>
                  <a:pt x="0" y="21"/>
                </a:lnTo>
                <a:lnTo>
                  <a:pt x="0" y="21"/>
                </a:lnTo>
                <a:lnTo>
                  <a:pt x="0" y="14"/>
                </a:lnTo>
                <a:lnTo>
                  <a:pt x="0" y="14"/>
                </a:lnTo>
                <a:lnTo>
                  <a:pt x="0" y="14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7" y="0"/>
                </a:lnTo>
                <a:lnTo>
                  <a:pt x="27" y="34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7" name=""/>
          <p:cNvSpPr/>
          <p:nvPr/>
        </p:nvSpPr>
        <p:spPr>
          <a:xfrm>
            <a:off x="3009960" y="4116240"/>
            <a:ext cx="66600" cy="66960"/>
          </a:xfrm>
          <a:custGeom>
            <a:avLst/>
            <a:gdLst/>
            <a:ahLst/>
            <a:rect l="l" t="t" r="r" b="b"/>
            <a:pathLst>
              <a:path w="42" h="42">
                <a:moveTo>
                  <a:pt x="28" y="7"/>
                </a:moveTo>
                <a:lnTo>
                  <a:pt x="21" y="7"/>
                </a:lnTo>
                <a:lnTo>
                  <a:pt x="21" y="7"/>
                </a:lnTo>
                <a:lnTo>
                  <a:pt x="21" y="7"/>
                </a:lnTo>
                <a:lnTo>
                  <a:pt x="21" y="7"/>
                </a:lnTo>
                <a:lnTo>
                  <a:pt x="21" y="7"/>
                </a:lnTo>
                <a:lnTo>
                  <a:pt x="14" y="7"/>
                </a:lnTo>
                <a:lnTo>
                  <a:pt x="14" y="7"/>
                </a:lnTo>
                <a:lnTo>
                  <a:pt x="14" y="7"/>
                </a:lnTo>
                <a:lnTo>
                  <a:pt x="14" y="7"/>
                </a:lnTo>
                <a:lnTo>
                  <a:pt x="14" y="7"/>
                </a:lnTo>
                <a:lnTo>
                  <a:pt x="14" y="7"/>
                </a:lnTo>
                <a:lnTo>
                  <a:pt x="7" y="7"/>
                </a:lnTo>
                <a:lnTo>
                  <a:pt x="7" y="7"/>
                </a:lnTo>
                <a:lnTo>
                  <a:pt x="7" y="14"/>
                </a:lnTo>
                <a:lnTo>
                  <a:pt x="7" y="14"/>
                </a:lnTo>
                <a:lnTo>
                  <a:pt x="7" y="14"/>
                </a:lnTo>
                <a:lnTo>
                  <a:pt x="7" y="14"/>
                </a:lnTo>
                <a:lnTo>
                  <a:pt x="7" y="21"/>
                </a:lnTo>
                <a:lnTo>
                  <a:pt x="7" y="21"/>
                </a:lnTo>
                <a:lnTo>
                  <a:pt x="14" y="21"/>
                </a:lnTo>
                <a:lnTo>
                  <a:pt x="14" y="28"/>
                </a:lnTo>
                <a:lnTo>
                  <a:pt x="14" y="28"/>
                </a:lnTo>
                <a:lnTo>
                  <a:pt x="14" y="21"/>
                </a:lnTo>
                <a:lnTo>
                  <a:pt x="14" y="21"/>
                </a:lnTo>
                <a:lnTo>
                  <a:pt x="14" y="21"/>
                </a:lnTo>
                <a:lnTo>
                  <a:pt x="14" y="21"/>
                </a:lnTo>
                <a:lnTo>
                  <a:pt x="14" y="21"/>
                </a:lnTo>
                <a:lnTo>
                  <a:pt x="21" y="14"/>
                </a:lnTo>
                <a:lnTo>
                  <a:pt x="21" y="14"/>
                </a:lnTo>
                <a:lnTo>
                  <a:pt x="21" y="14"/>
                </a:lnTo>
                <a:lnTo>
                  <a:pt x="21" y="14"/>
                </a:lnTo>
                <a:lnTo>
                  <a:pt x="28" y="14"/>
                </a:lnTo>
                <a:lnTo>
                  <a:pt x="28" y="14"/>
                </a:lnTo>
                <a:lnTo>
                  <a:pt x="35" y="14"/>
                </a:lnTo>
                <a:lnTo>
                  <a:pt x="35" y="14"/>
                </a:lnTo>
                <a:lnTo>
                  <a:pt x="35" y="21"/>
                </a:lnTo>
                <a:lnTo>
                  <a:pt x="35" y="21"/>
                </a:lnTo>
                <a:lnTo>
                  <a:pt x="42" y="21"/>
                </a:lnTo>
                <a:lnTo>
                  <a:pt x="42" y="28"/>
                </a:lnTo>
                <a:lnTo>
                  <a:pt x="42" y="28"/>
                </a:lnTo>
                <a:lnTo>
                  <a:pt x="42" y="28"/>
                </a:lnTo>
                <a:lnTo>
                  <a:pt x="42" y="28"/>
                </a:lnTo>
                <a:lnTo>
                  <a:pt x="42" y="35"/>
                </a:lnTo>
                <a:lnTo>
                  <a:pt x="42" y="35"/>
                </a:lnTo>
                <a:lnTo>
                  <a:pt x="42" y="35"/>
                </a:lnTo>
                <a:lnTo>
                  <a:pt x="35" y="35"/>
                </a:lnTo>
                <a:lnTo>
                  <a:pt x="35" y="42"/>
                </a:lnTo>
                <a:lnTo>
                  <a:pt x="35" y="42"/>
                </a:lnTo>
                <a:lnTo>
                  <a:pt x="35" y="42"/>
                </a:lnTo>
                <a:lnTo>
                  <a:pt x="28" y="42"/>
                </a:lnTo>
                <a:lnTo>
                  <a:pt x="28" y="42"/>
                </a:lnTo>
                <a:lnTo>
                  <a:pt x="28" y="42"/>
                </a:lnTo>
                <a:lnTo>
                  <a:pt x="21" y="42"/>
                </a:lnTo>
                <a:lnTo>
                  <a:pt x="21" y="42"/>
                </a:lnTo>
                <a:lnTo>
                  <a:pt x="14" y="42"/>
                </a:lnTo>
                <a:lnTo>
                  <a:pt x="14" y="35"/>
                </a:lnTo>
                <a:lnTo>
                  <a:pt x="7" y="28"/>
                </a:lnTo>
                <a:lnTo>
                  <a:pt x="7" y="28"/>
                </a:lnTo>
                <a:lnTo>
                  <a:pt x="7" y="21"/>
                </a:lnTo>
                <a:lnTo>
                  <a:pt x="0" y="14"/>
                </a:lnTo>
                <a:lnTo>
                  <a:pt x="0" y="14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0"/>
                </a:lnTo>
                <a:lnTo>
                  <a:pt x="14" y="0"/>
                </a:lnTo>
                <a:lnTo>
                  <a:pt x="14" y="0"/>
                </a:lnTo>
                <a:lnTo>
                  <a:pt x="14" y="0"/>
                </a:lnTo>
                <a:lnTo>
                  <a:pt x="21" y="0"/>
                </a:lnTo>
                <a:lnTo>
                  <a:pt x="21" y="0"/>
                </a:lnTo>
                <a:lnTo>
                  <a:pt x="21" y="0"/>
                </a:lnTo>
                <a:lnTo>
                  <a:pt x="28" y="0"/>
                </a:lnTo>
                <a:lnTo>
                  <a:pt x="28" y="7"/>
                </a:lnTo>
                <a:close/>
                <a:moveTo>
                  <a:pt x="21" y="35"/>
                </a:moveTo>
                <a:lnTo>
                  <a:pt x="21" y="35"/>
                </a:lnTo>
                <a:lnTo>
                  <a:pt x="21" y="35"/>
                </a:lnTo>
                <a:lnTo>
                  <a:pt x="21" y="35"/>
                </a:lnTo>
                <a:lnTo>
                  <a:pt x="21" y="35"/>
                </a:lnTo>
                <a:lnTo>
                  <a:pt x="21" y="42"/>
                </a:lnTo>
                <a:lnTo>
                  <a:pt x="21" y="42"/>
                </a:lnTo>
                <a:lnTo>
                  <a:pt x="28" y="42"/>
                </a:lnTo>
                <a:lnTo>
                  <a:pt x="28" y="42"/>
                </a:lnTo>
                <a:lnTo>
                  <a:pt x="28" y="42"/>
                </a:lnTo>
                <a:lnTo>
                  <a:pt x="28" y="42"/>
                </a:lnTo>
                <a:lnTo>
                  <a:pt x="28" y="42"/>
                </a:lnTo>
                <a:lnTo>
                  <a:pt x="35" y="35"/>
                </a:lnTo>
                <a:lnTo>
                  <a:pt x="35" y="35"/>
                </a:lnTo>
                <a:lnTo>
                  <a:pt x="35" y="35"/>
                </a:lnTo>
                <a:lnTo>
                  <a:pt x="35" y="35"/>
                </a:lnTo>
                <a:lnTo>
                  <a:pt x="35" y="35"/>
                </a:lnTo>
                <a:lnTo>
                  <a:pt x="35" y="28"/>
                </a:lnTo>
                <a:lnTo>
                  <a:pt x="35" y="28"/>
                </a:lnTo>
                <a:lnTo>
                  <a:pt x="35" y="28"/>
                </a:lnTo>
                <a:lnTo>
                  <a:pt x="35" y="28"/>
                </a:lnTo>
                <a:lnTo>
                  <a:pt x="35" y="21"/>
                </a:lnTo>
                <a:lnTo>
                  <a:pt x="28" y="21"/>
                </a:lnTo>
                <a:lnTo>
                  <a:pt x="28" y="21"/>
                </a:lnTo>
                <a:lnTo>
                  <a:pt x="28" y="21"/>
                </a:lnTo>
                <a:lnTo>
                  <a:pt x="28" y="21"/>
                </a:lnTo>
                <a:lnTo>
                  <a:pt x="21" y="21"/>
                </a:lnTo>
                <a:lnTo>
                  <a:pt x="21" y="21"/>
                </a:lnTo>
                <a:lnTo>
                  <a:pt x="21" y="21"/>
                </a:lnTo>
                <a:lnTo>
                  <a:pt x="21" y="21"/>
                </a:lnTo>
                <a:lnTo>
                  <a:pt x="21" y="21"/>
                </a:lnTo>
                <a:lnTo>
                  <a:pt x="14" y="28"/>
                </a:lnTo>
                <a:lnTo>
                  <a:pt x="14" y="28"/>
                </a:lnTo>
                <a:lnTo>
                  <a:pt x="14" y="28"/>
                </a:lnTo>
                <a:lnTo>
                  <a:pt x="14" y="28"/>
                </a:lnTo>
                <a:lnTo>
                  <a:pt x="14" y="35"/>
                </a:lnTo>
                <a:lnTo>
                  <a:pt x="21" y="35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8" name=""/>
          <p:cNvSpPr/>
          <p:nvPr/>
        </p:nvSpPr>
        <p:spPr>
          <a:xfrm>
            <a:off x="3065400" y="4084560"/>
            <a:ext cx="54000" cy="76320"/>
          </a:xfrm>
          <a:custGeom>
            <a:avLst/>
            <a:gdLst/>
            <a:ahLst/>
            <a:rect l="l" t="t" r="r" b="b"/>
            <a:pathLst>
              <a:path w="34" h="48">
                <a:moveTo>
                  <a:pt x="7" y="34"/>
                </a:moveTo>
                <a:lnTo>
                  <a:pt x="0" y="27"/>
                </a:lnTo>
                <a:lnTo>
                  <a:pt x="0" y="27"/>
                </a:lnTo>
                <a:lnTo>
                  <a:pt x="0" y="20"/>
                </a:lnTo>
                <a:lnTo>
                  <a:pt x="0" y="20"/>
                </a:lnTo>
                <a:lnTo>
                  <a:pt x="0" y="20"/>
                </a:lnTo>
                <a:lnTo>
                  <a:pt x="0" y="13"/>
                </a:lnTo>
                <a:lnTo>
                  <a:pt x="0" y="13"/>
                </a:lnTo>
                <a:lnTo>
                  <a:pt x="0" y="13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7" y="6"/>
                </a:lnTo>
                <a:lnTo>
                  <a:pt x="7" y="6"/>
                </a:lnTo>
                <a:lnTo>
                  <a:pt x="7" y="6"/>
                </a:lnTo>
                <a:lnTo>
                  <a:pt x="7" y="6"/>
                </a:lnTo>
                <a:lnTo>
                  <a:pt x="14" y="0"/>
                </a:lnTo>
                <a:lnTo>
                  <a:pt x="14" y="0"/>
                </a:lnTo>
                <a:lnTo>
                  <a:pt x="14" y="6"/>
                </a:lnTo>
                <a:lnTo>
                  <a:pt x="14" y="6"/>
                </a:lnTo>
                <a:lnTo>
                  <a:pt x="14" y="6"/>
                </a:lnTo>
                <a:lnTo>
                  <a:pt x="20" y="6"/>
                </a:lnTo>
                <a:lnTo>
                  <a:pt x="20" y="6"/>
                </a:lnTo>
                <a:lnTo>
                  <a:pt x="20" y="6"/>
                </a:lnTo>
                <a:lnTo>
                  <a:pt x="20" y="6"/>
                </a:lnTo>
                <a:lnTo>
                  <a:pt x="20" y="13"/>
                </a:lnTo>
                <a:lnTo>
                  <a:pt x="27" y="13"/>
                </a:lnTo>
                <a:lnTo>
                  <a:pt x="27" y="13"/>
                </a:lnTo>
                <a:lnTo>
                  <a:pt x="27" y="20"/>
                </a:lnTo>
                <a:lnTo>
                  <a:pt x="27" y="20"/>
                </a:lnTo>
                <a:lnTo>
                  <a:pt x="34" y="20"/>
                </a:lnTo>
                <a:lnTo>
                  <a:pt x="34" y="27"/>
                </a:lnTo>
                <a:lnTo>
                  <a:pt x="34" y="27"/>
                </a:lnTo>
                <a:lnTo>
                  <a:pt x="34" y="34"/>
                </a:lnTo>
                <a:lnTo>
                  <a:pt x="34" y="34"/>
                </a:lnTo>
                <a:lnTo>
                  <a:pt x="34" y="34"/>
                </a:lnTo>
                <a:lnTo>
                  <a:pt x="34" y="41"/>
                </a:lnTo>
                <a:lnTo>
                  <a:pt x="34" y="41"/>
                </a:lnTo>
                <a:lnTo>
                  <a:pt x="34" y="41"/>
                </a:lnTo>
                <a:lnTo>
                  <a:pt x="27" y="41"/>
                </a:lnTo>
                <a:lnTo>
                  <a:pt x="27" y="41"/>
                </a:lnTo>
                <a:lnTo>
                  <a:pt x="27" y="48"/>
                </a:lnTo>
                <a:lnTo>
                  <a:pt x="20" y="48"/>
                </a:lnTo>
                <a:lnTo>
                  <a:pt x="20" y="48"/>
                </a:lnTo>
                <a:lnTo>
                  <a:pt x="14" y="48"/>
                </a:lnTo>
                <a:lnTo>
                  <a:pt x="14" y="41"/>
                </a:lnTo>
                <a:lnTo>
                  <a:pt x="14" y="41"/>
                </a:lnTo>
                <a:lnTo>
                  <a:pt x="7" y="34"/>
                </a:lnTo>
                <a:lnTo>
                  <a:pt x="7" y="34"/>
                </a:lnTo>
                <a:close/>
                <a:moveTo>
                  <a:pt x="7" y="27"/>
                </a:moveTo>
                <a:lnTo>
                  <a:pt x="14" y="34"/>
                </a:lnTo>
                <a:lnTo>
                  <a:pt x="14" y="34"/>
                </a:lnTo>
                <a:lnTo>
                  <a:pt x="14" y="41"/>
                </a:lnTo>
                <a:lnTo>
                  <a:pt x="20" y="41"/>
                </a:lnTo>
                <a:lnTo>
                  <a:pt x="20" y="41"/>
                </a:lnTo>
                <a:lnTo>
                  <a:pt x="20" y="41"/>
                </a:lnTo>
                <a:lnTo>
                  <a:pt x="27" y="41"/>
                </a:lnTo>
                <a:lnTo>
                  <a:pt x="27" y="41"/>
                </a:lnTo>
                <a:lnTo>
                  <a:pt x="27" y="41"/>
                </a:lnTo>
                <a:lnTo>
                  <a:pt x="27" y="41"/>
                </a:lnTo>
                <a:lnTo>
                  <a:pt x="27" y="34"/>
                </a:lnTo>
                <a:lnTo>
                  <a:pt x="27" y="34"/>
                </a:lnTo>
                <a:lnTo>
                  <a:pt x="27" y="34"/>
                </a:lnTo>
                <a:lnTo>
                  <a:pt x="27" y="27"/>
                </a:lnTo>
                <a:lnTo>
                  <a:pt x="27" y="27"/>
                </a:lnTo>
                <a:lnTo>
                  <a:pt x="20" y="20"/>
                </a:lnTo>
                <a:lnTo>
                  <a:pt x="20" y="13"/>
                </a:lnTo>
                <a:lnTo>
                  <a:pt x="20" y="13"/>
                </a:lnTo>
                <a:lnTo>
                  <a:pt x="14" y="13"/>
                </a:lnTo>
                <a:lnTo>
                  <a:pt x="14" y="6"/>
                </a:lnTo>
                <a:lnTo>
                  <a:pt x="14" y="6"/>
                </a:lnTo>
                <a:lnTo>
                  <a:pt x="7" y="6"/>
                </a:lnTo>
                <a:lnTo>
                  <a:pt x="7" y="6"/>
                </a:lnTo>
                <a:lnTo>
                  <a:pt x="7" y="6"/>
                </a:lnTo>
                <a:lnTo>
                  <a:pt x="7" y="13"/>
                </a:lnTo>
                <a:lnTo>
                  <a:pt x="7" y="13"/>
                </a:lnTo>
                <a:lnTo>
                  <a:pt x="7" y="13"/>
                </a:lnTo>
                <a:lnTo>
                  <a:pt x="0" y="13"/>
                </a:lnTo>
                <a:lnTo>
                  <a:pt x="0" y="20"/>
                </a:lnTo>
                <a:lnTo>
                  <a:pt x="7" y="20"/>
                </a:lnTo>
                <a:lnTo>
                  <a:pt x="7" y="27"/>
                </a:lnTo>
                <a:lnTo>
                  <a:pt x="7" y="27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9" name=""/>
          <p:cNvSpPr/>
          <p:nvPr/>
        </p:nvSpPr>
        <p:spPr>
          <a:xfrm>
            <a:off x="3130560" y="4094280"/>
            <a:ext cx="11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0" name=""/>
          <p:cNvSpPr/>
          <p:nvPr/>
        </p:nvSpPr>
        <p:spPr>
          <a:xfrm>
            <a:off x="3141720" y="3821040"/>
            <a:ext cx="798480" cy="426960"/>
          </a:xfrm>
          <a:custGeom>
            <a:avLst/>
            <a:gdLst/>
            <a:ahLst/>
            <a:rect l="l" t="t" r="r" b="b"/>
            <a:pathLst>
              <a:path w="503" h="269">
                <a:moveTo>
                  <a:pt x="0" y="172"/>
                </a:moveTo>
                <a:lnTo>
                  <a:pt x="7" y="166"/>
                </a:lnTo>
                <a:lnTo>
                  <a:pt x="14" y="166"/>
                </a:lnTo>
                <a:lnTo>
                  <a:pt x="21" y="166"/>
                </a:lnTo>
                <a:lnTo>
                  <a:pt x="35" y="159"/>
                </a:lnTo>
                <a:lnTo>
                  <a:pt x="41" y="159"/>
                </a:lnTo>
                <a:lnTo>
                  <a:pt x="48" y="159"/>
                </a:lnTo>
                <a:lnTo>
                  <a:pt x="55" y="152"/>
                </a:lnTo>
                <a:lnTo>
                  <a:pt x="62" y="152"/>
                </a:lnTo>
                <a:lnTo>
                  <a:pt x="69" y="145"/>
                </a:lnTo>
                <a:lnTo>
                  <a:pt x="76" y="145"/>
                </a:lnTo>
                <a:lnTo>
                  <a:pt x="83" y="138"/>
                </a:lnTo>
                <a:lnTo>
                  <a:pt x="97" y="138"/>
                </a:lnTo>
                <a:lnTo>
                  <a:pt x="103" y="131"/>
                </a:lnTo>
                <a:lnTo>
                  <a:pt x="110" y="131"/>
                </a:lnTo>
                <a:lnTo>
                  <a:pt x="110" y="124"/>
                </a:lnTo>
                <a:lnTo>
                  <a:pt x="117" y="117"/>
                </a:lnTo>
                <a:lnTo>
                  <a:pt x="124" y="117"/>
                </a:lnTo>
                <a:lnTo>
                  <a:pt x="124" y="110"/>
                </a:lnTo>
                <a:lnTo>
                  <a:pt x="124" y="104"/>
                </a:lnTo>
                <a:lnTo>
                  <a:pt x="117" y="97"/>
                </a:lnTo>
                <a:lnTo>
                  <a:pt x="117" y="90"/>
                </a:lnTo>
                <a:lnTo>
                  <a:pt x="117" y="83"/>
                </a:lnTo>
                <a:lnTo>
                  <a:pt x="117" y="83"/>
                </a:lnTo>
                <a:lnTo>
                  <a:pt x="117" y="76"/>
                </a:lnTo>
                <a:lnTo>
                  <a:pt x="124" y="69"/>
                </a:lnTo>
                <a:lnTo>
                  <a:pt x="124" y="62"/>
                </a:lnTo>
                <a:lnTo>
                  <a:pt x="124" y="55"/>
                </a:lnTo>
                <a:lnTo>
                  <a:pt x="131" y="48"/>
                </a:lnTo>
                <a:lnTo>
                  <a:pt x="131" y="48"/>
                </a:lnTo>
                <a:lnTo>
                  <a:pt x="131" y="42"/>
                </a:lnTo>
                <a:lnTo>
                  <a:pt x="131" y="35"/>
                </a:lnTo>
                <a:lnTo>
                  <a:pt x="131" y="28"/>
                </a:lnTo>
                <a:lnTo>
                  <a:pt x="131" y="21"/>
                </a:lnTo>
                <a:lnTo>
                  <a:pt x="131" y="14"/>
                </a:lnTo>
                <a:lnTo>
                  <a:pt x="131" y="14"/>
                </a:lnTo>
                <a:lnTo>
                  <a:pt x="138" y="7"/>
                </a:lnTo>
                <a:lnTo>
                  <a:pt x="152" y="0"/>
                </a:lnTo>
                <a:lnTo>
                  <a:pt x="159" y="0"/>
                </a:lnTo>
                <a:lnTo>
                  <a:pt x="166" y="0"/>
                </a:lnTo>
                <a:lnTo>
                  <a:pt x="172" y="7"/>
                </a:lnTo>
                <a:lnTo>
                  <a:pt x="172" y="14"/>
                </a:lnTo>
                <a:lnTo>
                  <a:pt x="179" y="14"/>
                </a:lnTo>
                <a:lnTo>
                  <a:pt x="179" y="21"/>
                </a:lnTo>
                <a:lnTo>
                  <a:pt x="186" y="28"/>
                </a:lnTo>
                <a:lnTo>
                  <a:pt x="186" y="35"/>
                </a:lnTo>
                <a:lnTo>
                  <a:pt x="193" y="42"/>
                </a:lnTo>
                <a:lnTo>
                  <a:pt x="200" y="42"/>
                </a:lnTo>
                <a:lnTo>
                  <a:pt x="207" y="48"/>
                </a:lnTo>
                <a:lnTo>
                  <a:pt x="207" y="55"/>
                </a:lnTo>
                <a:lnTo>
                  <a:pt x="207" y="62"/>
                </a:lnTo>
                <a:lnTo>
                  <a:pt x="207" y="62"/>
                </a:lnTo>
                <a:lnTo>
                  <a:pt x="214" y="69"/>
                </a:lnTo>
                <a:lnTo>
                  <a:pt x="214" y="76"/>
                </a:lnTo>
                <a:lnTo>
                  <a:pt x="214" y="83"/>
                </a:lnTo>
                <a:lnTo>
                  <a:pt x="214" y="90"/>
                </a:lnTo>
                <a:lnTo>
                  <a:pt x="221" y="97"/>
                </a:lnTo>
                <a:lnTo>
                  <a:pt x="228" y="97"/>
                </a:lnTo>
                <a:lnTo>
                  <a:pt x="241" y="97"/>
                </a:lnTo>
                <a:lnTo>
                  <a:pt x="248" y="97"/>
                </a:lnTo>
                <a:lnTo>
                  <a:pt x="255" y="97"/>
                </a:lnTo>
                <a:lnTo>
                  <a:pt x="262" y="104"/>
                </a:lnTo>
                <a:lnTo>
                  <a:pt x="262" y="110"/>
                </a:lnTo>
                <a:lnTo>
                  <a:pt x="269" y="117"/>
                </a:lnTo>
                <a:lnTo>
                  <a:pt x="276" y="117"/>
                </a:lnTo>
                <a:lnTo>
                  <a:pt x="283" y="124"/>
                </a:lnTo>
                <a:lnTo>
                  <a:pt x="290" y="124"/>
                </a:lnTo>
                <a:lnTo>
                  <a:pt x="297" y="131"/>
                </a:lnTo>
                <a:lnTo>
                  <a:pt x="303" y="138"/>
                </a:lnTo>
                <a:lnTo>
                  <a:pt x="303" y="138"/>
                </a:lnTo>
                <a:lnTo>
                  <a:pt x="310" y="145"/>
                </a:lnTo>
                <a:lnTo>
                  <a:pt x="317" y="152"/>
                </a:lnTo>
                <a:lnTo>
                  <a:pt x="324" y="152"/>
                </a:lnTo>
                <a:lnTo>
                  <a:pt x="331" y="159"/>
                </a:lnTo>
                <a:lnTo>
                  <a:pt x="338" y="159"/>
                </a:lnTo>
                <a:lnTo>
                  <a:pt x="345" y="166"/>
                </a:lnTo>
                <a:lnTo>
                  <a:pt x="352" y="172"/>
                </a:lnTo>
                <a:lnTo>
                  <a:pt x="352" y="172"/>
                </a:lnTo>
                <a:lnTo>
                  <a:pt x="359" y="179"/>
                </a:lnTo>
                <a:lnTo>
                  <a:pt x="365" y="186"/>
                </a:lnTo>
                <a:lnTo>
                  <a:pt x="372" y="186"/>
                </a:lnTo>
                <a:lnTo>
                  <a:pt x="379" y="193"/>
                </a:lnTo>
                <a:lnTo>
                  <a:pt x="386" y="200"/>
                </a:lnTo>
                <a:lnTo>
                  <a:pt x="393" y="200"/>
                </a:lnTo>
                <a:lnTo>
                  <a:pt x="393" y="207"/>
                </a:lnTo>
                <a:lnTo>
                  <a:pt x="400" y="207"/>
                </a:lnTo>
                <a:lnTo>
                  <a:pt x="407" y="214"/>
                </a:lnTo>
                <a:lnTo>
                  <a:pt x="414" y="221"/>
                </a:lnTo>
                <a:lnTo>
                  <a:pt x="421" y="221"/>
                </a:lnTo>
                <a:lnTo>
                  <a:pt x="428" y="228"/>
                </a:lnTo>
                <a:lnTo>
                  <a:pt x="434" y="234"/>
                </a:lnTo>
                <a:lnTo>
                  <a:pt x="441" y="234"/>
                </a:lnTo>
                <a:lnTo>
                  <a:pt x="441" y="241"/>
                </a:lnTo>
                <a:lnTo>
                  <a:pt x="448" y="248"/>
                </a:lnTo>
                <a:lnTo>
                  <a:pt x="455" y="248"/>
                </a:lnTo>
                <a:lnTo>
                  <a:pt x="462" y="255"/>
                </a:lnTo>
                <a:lnTo>
                  <a:pt x="469" y="255"/>
                </a:lnTo>
                <a:lnTo>
                  <a:pt x="476" y="262"/>
                </a:lnTo>
                <a:lnTo>
                  <a:pt x="483" y="269"/>
                </a:lnTo>
                <a:lnTo>
                  <a:pt x="490" y="269"/>
                </a:lnTo>
                <a:lnTo>
                  <a:pt x="496" y="269"/>
                </a:lnTo>
                <a:lnTo>
                  <a:pt x="496" y="269"/>
                </a:lnTo>
                <a:lnTo>
                  <a:pt x="503" y="262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1" name=""/>
          <p:cNvSpPr/>
          <p:nvPr/>
        </p:nvSpPr>
        <p:spPr>
          <a:xfrm>
            <a:off x="4181400" y="4183200"/>
            <a:ext cx="33480" cy="87120"/>
          </a:xfrm>
          <a:custGeom>
            <a:avLst/>
            <a:gdLst/>
            <a:ahLst/>
            <a:rect l="l" t="t" r="r" b="b"/>
            <a:pathLst>
              <a:path w="21" h="55">
                <a:moveTo>
                  <a:pt x="21" y="34"/>
                </a:moveTo>
                <a:lnTo>
                  <a:pt x="21" y="27"/>
                </a:lnTo>
                <a:lnTo>
                  <a:pt x="21" y="20"/>
                </a:lnTo>
                <a:lnTo>
                  <a:pt x="21" y="13"/>
                </a:lnTo>
                <a:lnTo>
                  <a:pt x="21" y="6"/>
                </a:lnTo>
                <a:lnTo>
                  <a:pt x="21" y="0"/>
                </a:lnTo>
                <a:lnTo>
                  <a:pt x="14" y="0"/>
                </a:lnTo>
                <a:lnTo>
                  <a:pt x="7" y="0"/>
                </a:lnTo>
                <a:lnTo>
                  <a:pt x="0" y="6"/>
                </a:lnTo>
                <a:lnTo>
                  <a:pt x="0" y="13"/>
                </a:lnTo>
                <a:lnTo>
                  <a:pt x="0" y="13"/>
                </a:lnTo>
                <a:lnTo>
                  <a:pt x="0" y="20"/>
                </a:lnTo>
                <a:lnTo>
                  <a:pt x="0" y="27"/>
                </a:lnTo>
                <a:lnTo>
                  <a:pt x="0" y="34"/>
                </a:lnTo>
                <a:lnTo>
                  <a:pt x="7" y="41"/>
                </a:lnTo>
                <a:lnTo>
                  <a:pt x="7" y="48"/>
                </a:lnTo>
                <a:lnTo>
                  <a:pt x="7" y="55"/>
                </a:lnTo>
                <a:lnTo>
                  <a:pt x="14" y="55"/>
                </a:lnTo>
                <a:lnTo>
                  <a:pt x="14" y="48"/>
                </a:lnTo>
                <a:lnTo>
                  <a:pt x="14" y="41"/>
                </a:lnTo>
                <a:lnTo>
                  <a:pt x="21" y="34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2" name=""/>
          <p:cNvSpPr/>
          <p:nvPr/>
        </p:nvSpPr>
        <p:spPr>
          <a:xfrm flipH="1" flipV="1">
            <a:off x="2463840" y="4006440"/>
            <a:ext cx="3168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3" name=""/>
          <p:cNvSpPr/>
          <p:nvPr/>
        </p:nvSpPr>
        <p:spPr>
          <a:xfrm>
            <a:off x="4083120" y="3887640"/>
            <a:ext cx="44280" cy="152640"/>
          </a:xfrm>
          <a:custGeom>
            <a:avLst/>
            <a:gdLst/>
            <a:ahLst/>
            <a:rect l="l" t="t" r="r" b="b"/>
            <a:pathLst>
              <a:path w="28" h="96">
                <a:moveTo>
                  <a:pt x="14" y="96"/>
                </a:moveTo>
                <a:lnTo>
                  <a:pt x="14" y="96"/>
                </a:lnTo>
                <a:lnTo>
                  <a:pt x="14" y="89"/>
                </a:lnTo>
                <a:lnTo>
                  <a:pt x="21" y="82"/>
                </a:lnTo>
                <a:lnTo>
                  <a:pt x="21" y="75"/>
                </a:lnTo>
                <a:lnTo>
                  <a:pt x="21" y="68"/>
                </a:lnTo>
                <a:lnTo>
                  <a:pt x="21" y="62"/>
                </a:lnTo>
                <a:lnTo>
                  <a:pt x="21" y="55"/>
                </a:lnTo>
                <a:lnTo>
                  <a:pt x="21" y="48"/>
                </a:lnTo>
                <a:lnTo>
                  <a:pt x="21" y="41"/>
                </a:lnTo>
                <a:lnTo>
                  <a:pt x="21" y="41"/>
                </a:lnTo>
                <a:lnTo>
                  <a:pt x="28" y="34"/>
                </a:lnTo>
                <a:lnTo>
                  <a:pt x="28" y="27"/>
                </a:lnTo>
                <a:lnTo>
                  <a:pt x="21" y="20"/>
                </a:lnTo>
                <a:lnTo>
                  <a:pt x="21" y="13"/>
                </a:lnTo>
                <a:lnTo>
                  <a:pt x="21" y="6"/>
                </a:lnTo>
                <a:lnTo>
                  <a:pt x="14" y="0"/>
                </a:lnTo>
                <a:lnTo>
                  <a:pt x="14" y="6"/>
                </a:lnTo>
                <a:lnTo>
                  <a:pt x="7" y="13"/>
                </a:lnTo>
                <a:lnTo>
                  <a:pt x="7" y="20"/>
                </a:lnTo>
                <a:lnTo>
                  <a:pt x="7" y="27"/>
                </a:lnTo>
                <a:lnTo>
                  <a:pt x="7" y="34"/>
                </a:lnTo>
                <a:lnTo>
                  <a:pt x="7" y="41"/>
                </a:lnTo>
                <a:lnTo>
                  <a:pt x="7" y="48"/>
                </a:lnTo>
                <a:lnTo>
                  <a:pt x="0" y="48"/>
                </a:lnTo>
                <a:lnTo>
                  <a:pt x="0" y="55"/>
                </a:lnTo>
                <a:lnTo>
                  <a:pt x="7" y="62"/>
                </a:lnTo>
                <a:lnTo>
                  <a:pt x="7" y="68"/>
                </a:lnTo>
                <a:lnTo>
                  <a:pt x="7" y="75"/>
                </a:lnTo>
                <a:lnTo>
                  <a:pt x="7" y="82"/>
                </a:lnTo>
                <a:lnTo>
                  <a:pt x="7" y="89"/>
                </a:lnTo>
                <a:lnTo>
                  <a:pt x="14" y="89"/>
                </a:lnTo>
                <a:lnTo>
                  <a:pt x="14" y="96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4" name=""/>
          <p:cNvSpPr/>
          <p:nvPr/>
        </p:nvSpPr>
        <p:spPr>
          <a:xfrm>
            <a:off x="5692680" y="3908520"/>
            <a:ext cx="65160" cy="142920"/>
          </a:xfrm>
          <a:custGeom>
            <a:avLst/>
            <a:gdLst/>
            <a:ahLst/>
            <a:rect l="l" t="t" r="r" b="b"/>
            <a:pathLst>
              <a:path w="41" h="90">
                <a:moveTo>
                  <a:pt x="0" y="83"/>
                </a:moveTo>
                <a:lnTo>
                  <a:pt x="6" y="83"/>
                </a:lnTo>
                <a:lnTo>
                  <a:pt x="13" y="76"/>
                </a:lnTo>
                <a:lnTo>
                  <a:pt x="13" y="69"/>
                </a:lnTo>
                <a:lnTo>
                  <a:pt x="20" y="69"/>
                </a:lnTo>
                <a:lnTo>
                  <a:pt x="20" y="62"/>
                </a:lnTo>
                <a:lnTo>
                  <a:pt x="27" y="55"/>
                </a:lnTo>
                <a:lnTo>
                  <a:pt x="27" y="49"/>
                </a:lnTo>
                <a:lnTo>
                  <a:pt x="27" y="49"/>
                </a:lnTo>
                <a:lnTo>
                  <a:pt x="27" y="42"/>
                </a:lnTo>
                <a:lnTo>
                  <a:pt x="27" y="35"/>
                </a:lnTo>
                <a:lnTo>
                  <a:pt x="27" y="28"/>
                </a:lnTo>
                <a:lnTo>
                  <a:pt x="20" y="28"/>
                </a:lnTo>
                <a:lnTo>
                  <a:pt x="20" y="21"/>
                </a:lnTo>
                <a:lnTo>
                  <a:pt x="27" y="14"/>
                </a:lnTo>
                <a:lnTo>
                  <a:pt x="27" y="7"/>
                </a:lnTo>
                <a:lnTo>
                  <a:pt x="27" y="7"/>
                </a:lnTo>
                <a:lnTo>
                  <a:pt x="34" y="0"/>
                </a:lnTo>
                <a:lnTo>
                  <a:pt x="34" y="0"/>
                </a:lnTo>
                <a:lnTo>
                  <a:pt x="34" y="7"/>
                </a:lnTo>
                <a:lnTo>
                  <a:pt x="34" y="14"/>
                </a:lnTo>
                <a:lnTo>
                  <a:pt x="41" y="21"/>
                </a:lnTo>
                <a:lnTo>
                  <a:pt x="41" y="21"/>
                </a:lnTo>
                <a:lnTo>
                  <a:pt x="41" y="28"/>
                </a:lnTo>
                <a:lnTo>
                  <a:pt x="41" y="35"/>
                </a:lnTo>
                <a:lnTo>
                  <a:pt x="41" y="35"/>
                </a:lnTo>
                <a:lnTo>
                  <a:pt x="41" y="42"/>
                </a:lnTo>
                <a:lnTo>
                  <a:pt x="41" y="49"/>
                </a:lnTo>
                <a:lnTo>
                  <a:pt x="41" y="55"/>
                </a:lnTo>
                <a:lnTo>
                  <a:pt x="41" y="62"/>
                </a:lnTo>
                <a:lnTo>
                  <a:pt x="41" y="62"/>
                </a:lnTo>
                <a:lnTo>
                  <a:pt x="41" y="69"/>
                </a:lnTo>
                <a:lnTo>
                  <a:pt x="41" y="76"/>
                </a:lnTo>
                <a:lnTo>
                  <a:pt x="34" y="83"/>
                </a:lnTo>
                <a:lnTo>
                  <a:pt x="34" y="90"/>
                </a:lnTo>
                <a:lnTo>
                  <a:pt x="27" y="90"/>
                </a:lnTo>
                <a:lnTo>
                  <a:pt x="13" y="90"/>
                </a:lnTo>
                <a:lnTo>
                  <a:pt x="6" y="90"/>
                </a:lnTo>
                <a:lnTo>
                  <a:pt x="0" y="83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5" name=""/>
          <p:cNvSpPr/>
          <p:nvPr/>
        </p:nvSpPr>
        <p:spPr>
          <a:xfrm>
            <a:off x="2529000" y="3952800"/>
            <a:ext cx="54000" cy="65160"/>
          </a:xfrm>
          <a:custGeom>
            <a:avLst/>
            <a:gdLst/>
            <a:ahLst/>
            <a:rect l="l" t="t" r="r" b="b"/>
            <a:pathLst>
              <a:path w="34" h="41">
                <a:moveTo>
                  <a:pt x="34" y="27"/>
                </a:moveTo>
                <a:lnTo>
                  <a:pt x="34" y="21"/>
                </a:lnTo>
                <a:lnTo>
                  <a:pt x="28" y="7"/>
                </a:lnTo>
                <a:lnTo>
                  <a:pt x="21" y="7"/>
                </a:lnTo>
                <a:lnTo>
                  <a:pt x="21" y="0"/>
                </a:lnTo>
                <a:lnTo>
                  <a:pt x="14" y="7"/>
                </a:lnTo>
                <a:lnTo>
                  <a:pt x="7" y="7"/>
                </a:lnTo>
                <a:lnTo>
                  <a:pt x="0" y="21"/>
                </a:lnTo>
                <a:lnTo>
                  <a:pt x="0" y="27"/>
                </a:lnTo>
                <a:lnTo>
                  <a:pt x="7" y="34"/>
                </a:lnTo>
                <a:lnTo>
                  <a:pt x="7" y="41"/>
                </a:lnTo>
                <a:lnTo>
                  <a:pt x="14" y="41"/>
                </a:lnTo>
                <a:lnTo>
                  <a:pt x="21" y="41"/>
                </a:lnTo>
                <a:lnTo>
                  <a:pt x="28" y="34"/>
                </a:lnTo>
                <a:lnTo>
                  <a:pt x="34" y="27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6" name=""/>
          <p:cNvSpPr/>
          <p:nvPr/>
        </p:nvSpPr>
        <p:spPr>
          <a:xfrm>
            <a:off x="3021120" y="3941640"/>
            <a:ext cx="33120" cy="22320"/>
          </a:xfrm>
          <a:custGeom>
            <a:avLst/>
            <a:gdLst/>
            <a:ahLst/>
            <a:rect l="l" t="t" r="r" b="b"/>
            <a:pathLst>
              <a:path w="21" h="14">
                <a:moveTo>
                  <a:pt x="0" y="7"/>
                </a:moveTo>
                <a:lnTo>
                  <a:pt x="0" y="7"/>
                </a:lnTo>
                <a:lnTo>
                  <a:pt x="7" y="0"/>
                </a:lnTo>
                <a:lnTo>
                  <a:pt x="7" y="0"/>
                </a:lnTo>
                <a:lnTo>
                  <a:pt x="14" y="0"/>
                </a:lnTo>
                <a:lnTo>
                  <a:pt x="21" y="7"/>
                </a:lnTo>
                <a:lnTo>
                  <a:pt x="21" y="7"/>
                </a:lnTo>
                <a:lnTo>
                  <a:pt x="21" y="7"/>
                </a:lnTo>
                <a:lnTo>
                  <a:pt x="14" y="14"/>
                </a:lnTo>
                <a:lnTo>
                  <a:pt x="7" y="14"/>
                </a:lnTo>
                <a:lnTo>
                  <a:pt x="7" y="14"/>
                </a:lnTo>
                <a:lnTo>
                  <a:pt x="0" y="14"/>
                </a:lnTo>
                <a:lnTo>
                  <a:pt x="0" y="14"/>
                </a:lnTo>
                <a:lnTo>
                  <a:pt x="0" y="7"/>
                </a:lnTo>
                <a:lnTo>
                  <a:pt x="0" y="7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7" name=""/>
          <p:cNvSpPr/>
          <p:nvPr/>
        </p:nvSpPr>
        <p:spPr>
          <a:xfrm>
            <a:off x="3186000" y="3930480"/>
            <a:ext cx="54000" cy="44640"/>
          </a:xfrm>
          <a:custGeom>
            <a:avLst/>
            <a:gdLst/>
            <a:ahLst/>
            <a:rect l="l" t="t" r="r" b="b"/>
            <a:pathLst>
              <a:path w="34" h="28">
                <a:moveTo>
                  <a:pt x="0" y="14"/>
                </a:moveTo>
                <a:lnTo>
                  <a:pt x="0" y="7"/>
                </a:lnTo>
                <a:lnTo>
                  <a:pt x="7" y="0"/>
                </a:lnTo>
                <a:lnTo>
                  <a:pt x="13" y="0"/>
                </a:lnTo>
                <a:lnTo>
                  <a:pt x="20" y="0"/>
                </a:lnTo>
                <a:lnTo>
                  <a:pt x="27" y="0"/>
                </a:lnTo>
                <a:lnTo>
                  <a:pt x="34" y="7"/>
                </a:lnTo>
                <a:lnTo>
                  <a:pt x="34" y="14"/>
                </a:lnTo>
                <a:lnTo>
                  <a:pt x="34" y="21"/>
                </a:lnTo>
                <a:lnTo>
                  <a:pt x="27" y="21"/>
                </a:lnTo>
                <a:lnTo>
                  <a:pt x="20" y="28"/>
                </a:lnTo>
                <a:lnTo>
                  <a:pt x="13" y="28"/>
                </a:lnTo>
                <a:lnTo>
                  <a:pt x="7" y="28"/>
                </a:lnTo>
                <a:lnTo>
                  <a:pt x="0" y="21"/>
                </a:lnTo>
                <a:lnTo>
                  <a:pt x="0" y="14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8" name=""/>
          <p:cNvSpPr/>
          <p:nvPr/>
        </p:nvSpPr>
        <p:spPr>
          <a:xfrm>
            <a:off x="4137120" y="3581280"/>
            <a:ext cx="77760" cy="273240"/>
          </a:xfrm>
          <a:custGeom>
            <a:avLst/>
            <a:gdLst/>
            <a:ahLst/>
            <a:rect l="l" t="t" r="r" b="b"/>
            <a:pathLst>
              <a:path w="49" h="172">
                <a:moveTo>
                  <a:pt x="7" y="172"/>
                </a:moveTo>
                <a:lnTo>
                  <a:pt x="7" y="165"/>
                </a:lnTo>
                <a:lnTo>
                  <a:pt x="14" y="158"/>
                </a:lnTo>
                <a:lnTo>
                  <a:pt x="14" y="151"/>
                </a:lnTo>
                <a:lnTo>
                  <a:pt x="14" y="144"/>
                </a:lnTo>
                <a:lnTo>
                  <a:pt x="14" y="137"/>
                </a:lnTo>
                <a:lnTo>
                  <a:pt x="14" y="131"/>
                </a:lnTo>
                <a:lnTo>
                  <a:pt x="21" y="124"/>
                </a:lnTo>
                <a:lnTo>
                  <a:pt x="21" y="117"/>
                </a:lnTo>
                <a:lnTo>
                  <a:pt x="14" y="110"/>
                </a:lnTo>
                <a:lnTo>
                  <a:pt x="14" y="96"/>
                </a:lnTo>
                <a:lnTo>
                  <a:pt x="14" y="89"/>
                </a:lnTo>
                <a:lnTo>
                  <a:pt x="21" y="82"/>
                </a:lnTo>
                <a:lnTo>
                  <a:pt x="28" y="82"/>
                </a:lnTo>
                <a:lnTo>
                  <a:pt x="35" y="75"/>
                </a:lnTo>
                <a:lnTo>
                  <a:pt x="42" y="69"/>
                </a:lnTo>
                <a:lnTo>
                  <a:pt x="49" y="62"/>
                </a:lnTo>
                <a:lnTo>
                  <a:pt x="49" y="55"/>
                </a:lnTo>
                <a:lnTo>
                  <a:pt x="49" y="48"/>
                </a:lnTo>
                <a:lnTo>
                  <a:pt x="49" y="41"/>
                </a:lnTo>
                <a:lnTo>
                  <a:pt x="49" y="34"/>
                </a:lnTo>
                <a:lnTo>
                  <a:pt x="42" y="27"/>
                </a:lnTo>
                <a:lnTo>
                  <a:pt x="42" y="13"/>
                </a:lnTo>
                <a:lnTo>
                  <a:pt x="42" y="7"/>
                </a:lnTo>
                <a:lnTo>
                  <a:pt x="42" y="0"/>
                </a:lnTo>
                <a:lnTo>
                  <a:pt x="35" y="0"/>
                </a:lnTo>
                <a:lnTo>
                  <a:pt x="35" y="0"/>
                </a:lnTo>
                <a:lnTo>
                  <a:pt x="35" y="7"/>
                </a:lnTo>
                <a:lnTo>
                  <a:pt x="35" y="20"/>
                </a:lnTo>
                <a:lnTo>
                  <a:pt x="28" y="27"/>
                </a:lnTo>
                <a:lnTo>
                  <a:pt x="21" y="34"/>
                </a:lnTo>
                <a:lnTo>
                  <a:pt x="14" y="41"/>
                </a:lnTo>
                <a:lnTo>
                  <a:pt x="7" y="48"/>
                </a:lnTo>
                <a:lnTo>
                  <a:pt x="7" y="48"/>
                </a:lnTo>
                <a:lnTo>
                  <a:pt x="0" y="62"/>
                </a:lnTo>
                <a:lnTo>
                  <a:pt x="0" y="69"/>
                </a:lnTo>
                <a:lnTo>
                  <a:pt x="0" y="75"/>
                </a:lnTo>
                <a:lnTo>
                  <a:pt x="0" y="82"/>
                </a:lnTo>
                <a:lnTo>
                  <a:pt x="0" y="89"/>
                </a:lnTo>
                <a:lnTo>
                  <a:pt x="0" y="96"/>
                </a:lnTo>
                <a:lnTo>
                  <a:pt x="0" y="103"/>
                </a:lnTo>
                <a:lnTo>
                  <a:pt x="0" y="110"/>
                </a:lnTo>
                <a:lnTo>
                  <a:pt x="0" y="117"/>
                </a:lnTo>
                <a:lnTo>
                  <a:pt x="0" y="124"/>
                </a:lnTo>
                <a:lnTo>
                  <a:pt x="0" y="131"/>
                </a:lnTo>
                <a:lnTo>
                  <a:pt x="0" y="137"/>
                </a:lnTo>
                <a:lnTo>
                  <a:pt x="0" y="144"/>
                </a:lnTo>
                <a:lnTo>
                  <a:pt x="0" y="151"/>
                </a:lnTo>
                <a:lnTo>
                  <a:pt x="0" y="158"/>
                </a:lnTo>
                <a:lnTo>
                  <a:pt x="0" y="165"/>
                </a:lnTo>
                <a:lnTo>
                  <a:pt x="7" y="172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9" name=""/>
          <p:cNvSpPr/>
          <p:nvPr/>
        </p:nvSpPr>
        <p:spPr>
          <a:xfrm>
            <a:off x="3459240" y="3722760"/>
            <a:ext cx="54000" cy="131760"/>
          </a:xfrm>
          <a:custGeom>
            <a:avLst/>
            <a:gdLst/>
            <a:ahLst/>
            <a:rect l="l" t="t" r="r" b="b"/>
            <a:pathLst>
              <a:path w="34" h="83">
                <a:moveTo>
                  <a:pt x="14" y="55"/>
                </a:moveTo>
                <a:lnTo>
                  <a:pt x="7" y="48"/>
                </a:lnTo>
                <a:lnTo>
                  <a:pt x="0" y="42"/>
                </a:lnTo>
                <a:lnTo>
                  <a:pt x="0" y="35"/>
                </a:lnTo>
                <a:lnTo>
                  <a:pt x="7" y="21"/>
                </a:lnTo>
                <a:lnTo>
                  <a:pt x="14" y="14"/>
                </a:lnTo>
                <a:lnTo>
                  <a:pt x="21" y="0"/>
                </a:lnTo>
                <a:lnTo>
                  <a:pt x="21" y="0"/>
                </a:lnTo>
                <a:lnTo>
                  <a:pt x="28" y="7"/>
                </a:lnTo>
                <a:lnTo>
                  <a:pt x="28" y="14"/>
                </a:lnTo>
                <a:lnTo>
                  <a:pt x="28" y="28"/>
                </a:lnTo>
                <a:lnTo>
                  <a:pt x="28" y="35"/>
                </a:lnTo>
                <a:lnTo>
                  <a:pt x="34" y="42"/>
                </a:lnTo>
                <a:lnTo>
                  <a:pt x="34" y="48"/>
                </a:lnTo>
                <a:lnTo>
                  <a:pt x="34" y="62"/>
                </a:lnTo>
                <a:lnTo>
                  <a:pt x="28" y="69"/>
                </a:lnTo>
                <a:lnTo>
                  <a:pt x="28" y="76"/>
                </a:lnTo>
                <a:lnTo>
                  <a:pt x="21" y="83"/>
                </a:lnTo>
                <a:lnTo>
                  <a:pt x="21" y="76"/>
                </a:lnTo>
                <a:lnTo>
                  <a:pt x="14" y="69"/>
                </a:lnTo>
                <a:lnTo>
                  <a:pt x="14" y="55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0" name=""/>
          <p:cNvSpPr/>
          <p:nvPr/>
        </p:nvSpPr>
        <p:spPr>
          <a:xfrm>
            <a:off x="3579840" y="3798720"/>
            <a:ext cx="11160" cy="22320"/>
          </a:xfrm>
          <a:custGeom>
            <a:avLst/>
            <a:gdLst/>
            <a:ahLst/>
            <a:rect l="l" t="t" r="r" b="b"/>
            <a:pathLst>
              <a:path w="7" h="14">
                <a:moveTo>
                  <a:pt x="0" y="7"/>
                </a:moveTo>
                <a:lnTo>
                  <a:pt x="0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14"/>
                </a:lnTo>
                <a:lnTo>
                  <a:pt x="7" y="14"/>
                </a:lnTo>
                <a:lnTo>
                  <a:pt x="7" y="14"/>
                </a:lnTo>
                <a:lnTo>
                  <a:pt x="0" y="7"/>
                </a:lnTo>
                <a:lnTo>
                  <a:pt x="0" y="7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1" name=""/>
          <p:cNvSpPr/>
          <p:nvPr/>
        </p:nvSpPr>
        <p:spPr>
          <a:xfrm>
            <a:off x="3622680" y="3581280"/>
            <a:ext cx="66600" cy="152640"/>
          </a:xfrm>
          <a:custGeom>
            <a:avLst/>
            <a:gdLst/>
            <a:ahLst/>
            <a:rect l="l" t="t" r="r" b="b"/>
            <a:pathLst>
              <a:path w="42" h="96">
                <a:moveTo>
                  <a:pt x="7" y="82"/>
                </a:moveTo>
                <a:lnTo>
                  <a:pt x="0" y="82"/>
                </a:lnTo>
                <a:lnTo>
                  <a:pt x="0" y="75"/>
                </a:lnTo>
                <a:lnTo>
                  <a:pt x="0" y="69"/>
                </a:lnTo>
                <a:lnTo>
                  <a:pt x="0" y="62"/>
                </a:lnTo>
                <a:lnTo>
                  <a:pt x="0" y="55"/>
                </a:lnTo>
                <a:lnTo>
                  <a:pt x="0" y="48"/>
                </a:lnTo>
                <a:lnTo>
                  <a:pt x="0" y="41"/>
                </a:lnTo>
                <a:lnTo>
                  <a:pt x="0" y="41"/>
                </a:lnTo>
                <a:lnTo>
                  <a:pt x="7" y="34"/>
                </a:lnTo>
                <a:lnTo>
                  <a:pt x="14" y="27"/>
                </a:lnTo>
                <a:lnTo>
                  <a:pt x="21" y="27"/>
                </a:lnTo>
                <a:lnTo>
                  <a:pt x="28" y="27"/>
                </a:lnTo>
                <a:lnTo>
                  <a:pt x="35" y="20"/>
                </a:lnTo>
                <a:lnTo>
                  <a:pt x="35" y="13"/>
                </a:lnTo>
                <a:lnTo>
                  <a:pt x="35" y="13"/>
                </a:lnTo>
                <a:lnTo>
                  <a:pt x="35" y="7"/>
                </a:lnTo>
                <a:lnTo>
                  <a:pt x="35" y="0"/>
                </a:lnTo>
                <a:lnTo>
                  <a:pt x="42" y="0"/>
                </a:lnTo>
                <a:lnTo>
                  <a:pt x="42" y="7"/>
                </a:lnTo>
                <a:lnTo>
                  <a:pt x="42" y="13"/>
                </a:lnTo>
                <a:lnTo>
                  <a:pt x="42" y="20"/>
                </a:lnTo>
                <a:lnTo>
                  <a:pt x="42" y="20"/>
                </a:lnTo>
                <a:lnTo>
                  <a:pt x="42" y="27"/>
                </a:lnTo>
                <a:lnTo>
                  <a:pt x="35" y="34"/>
                </a:lnTo>
                <a:lnTo>
                  <a:pt x="35" y="41"/>
                </a:lnTo>
                <a:lnTo>
                  <a:pt x="35" y="48"/>
                </a:lnTo>
                <a:lnTo>
                  <a:pt x="35" y="55"/>
                </a:lnTo>
                <a:lnTo>
                  <a:pt x="35" y="55"/>
                </a:lnTo>
                <a:lnTo>
                  <a:pt x="35" y="62"/>
                </a:lnTo>
                <a:lnTo>
                  <a:pt x="28" y="69"/>
                </a:lnTo>
                <a:lnTo>
                  <a:pt x="21" y="69"/>
                </a:lnTo>
                <a:lnTo>
                  <a:pt x="14" y="75"/>
                </a:lnTo>
                <a:lnTo>
                  <a:pt x="14" y="82"/>
                </a:lnTo>
                <a:lnTo>
                  <a:pt x="7" y="89"/>
                </a:lnTo>
                <a:lnTo>
                  <a:pt x="7" y="96"/>
                </a:lnTo>
                <a:lnTo>
                  <a:pt x="7" y="96"/>
                </a:lnTo>
                <a:lnTo>
                  <a:pt x="7" y="96"/>
                </a:lnTo>
                <a:lnTo>
                  <a:pt x="7" y="82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2" name=""/>
          <p:cNvSpPr/>
          <p:nvPr/>
        </p:nvSpPr>
        <p:spPr>
          <a:xfrm>
            <a:off x="5100480" y="3668760"/>
            <a:ext cx="33480" cy="1440"/>
          </a:xfrm>
          <a:custGeom>
            <a:avLst/>
            <a:gdLst/>
            <a:ahLst/>
            <a:rect l="l" t="t" r="r" b="b"/>
            <a:pathLst>
              <a:path w="21" h="0">
                <a:moveTo>
                  <a:pt x="21" y="0"/>
                </a:moveTo>
                <a:lnTo>
                  <a:pt x="21" y="0"/>
                </a:lnTo>
                <a:lnTo>
                  <a:pt x="21" y="0"/>
                </a:lnTo>
                <a:lnTo>
                  <a:pt x="14" y="0"/>
                </a:lnTo>
                <a:lnTo>
                  <a:pt x="14" y="0"/>
                </a:lnTo>
                <a:lnTo>
                  <a:pt x="7" y="0"/>
                </a:lnTo>
                <a:lnTo>
                  <a:pt x="7" y="0"/>
                </a:lnTo>
                <a:lnTo>
                  <a:pt x="0" y="0"/>
                </a:lnTo>
                <a:lnTo>
                  <a:pt x="0" y="0"/>
                </a:lnTo>
                <a:lnTo>
                  <a:pt x="7" y="0"/>
                </a:lnTo>
                <a:lnTo>
                  <a:pt x="7" y="0"/>
                </a:lnTo>
                <a:lnTo>
                  <a:pt x="14" y="0"/>
                </a:lnTo>
                <a:lnTo>
                  <a:pt x="21" y="0"/>
                </a:lnTo>
                <a:lnTo>
                  <a:pt x="21" y="0"/>
                </a:lnTo>
                <a:lnTo>
                  <a:pt x="21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3" name=""/>
          <p:cNvSpPr/>
          <p:nvPr/>
        </p:nvSpPr>
        <p:spPr>
          <a:xfrm>
            <a:off x="5057640" y="3592440"/>
            <a:ext cx="54000" cy="76320"/>
          </a:xfrm>
          <a:custGeom>
            <a:avLst/>
            <a:gdLst/>
            <a:ahLst/>
            <a:rect l="l" t="t" r="r" b="b"/>
            <a:pathLst>
              <a:path w="34" h="48">
                <a:moveTo>
                  <a:pt x="34" y="20"/>
                </a:moveTo>
                <a:lnTo>
                  <a:pt x="34" y="6"/>
                </a:lnTo>
                <a:lnTo>
                  <a:pt x="27" y="6"/>
                </a:lnTo>
                <a:lnTo>
                  <a:pt x="13" y="0"/>
                </a:lnTo>
                <a:lnTo>
                  <a:pt x="7" y="6"/>
                </a:lnTo>
                <a:lnTo>
                  <a:pt x="0" y="13"/>
                </a:lnTo>
                <a:lnTo>
                  <a:pt x="0" y="20"/>
                </a:lnTo>
                <a:lnTo>
                  <a:pt x="0" y="34"/>
                </a:lnTo>
                <a:lnTo>
                  <a:pt x="7" y="41"/>
                </a:lnTo>
                <a:lnTo>
                  <a:pt x="13" y="48"/>
                </a:lnTo>
                <a:lnTo>
                  <a:pt x="20" y="48"/>
                </a:lnTo>
                <a:lnTo>
                  <a:pt x="27" y="48"/>
                </a:lnTo>
                <a:lnTo>
                  <a:pt x="27" y="41"/>
                </a:lnTo>
                <a:lnTo>
                  <a:pt x="34" y="27"/>
                </a:lnTo>
                <a:lnTo>
                  <a:pt x="34" y="2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4" name=""/>
          <p:cNvSpPr/>
          <p:nvPr/>
        </p:nvSpPr>
        <p:spPr>
          <a:xfrm>
            <a:off x="5178600" y="3624120"/>
            <a:ext cx="9360" cy="1800"/>
          </a:xfrm>
          <a:custGeom>
            <a:avLst/>
            <a:gdLst/>
            <a:ahLst/>
            <a:rect l="l" t="t" r="r" b="b"/>
            <a:pathLst>
              <a:path w="6" h="0">
                <a:moveTo>
                  <a:pt x="6" y="0"/>
                </a:moveTo>
                <a:lnTo>
                  <a:pt x="6" y="0"/>
                </a:lnTo>
                <a:lnTo>
                  <a:pt x="6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6" y="0"/>
                </a:lnTo>
                <a:lnTo>
                  <a:pt x="6" y="0"/>
                </a:lnTo>
                <a:lnTo>
                  <a:pt x="6" y="0"/>
                </a:lnTo>
                <a:lnTo>
                  <a:pt x="6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5" name=""/>
          <p:cNvSpPr/>
          <p:nvPr/>
        </p:nvSpPr>
        <p:spPr>
          <a:xfrm>
            <a:off x="4192560" y="3514680"/>
            <a:ext cx="65160" cy="77760"/>
          </a:xfrm>
          <a:custGeom>
            <a:avLst/>
            <a:gdLst/>
            <a:ahLst/>
            <a:rect l="l" t="t" r="r" b="b"/>
            <a:pathLst>
              <a:path w="41" h="49">
                <a:moveTo>
                  <a:pt x="41" y="35"/>
                </a:moveTo>
                <a:lnTo>
                  <a:pt x="41" y="35"/>
                </a:lnTo>
                <a:lnTo>
                  <a:pt x="41" y="28"/>
                </a:lnTo>
                <a:lnTo>
                  <a:pt x="34" y="21"/>
                </a:lnTo>
                <a:lnTo>
                  <a:pt x="34" y="21"/>
                </a:lnTo>
                <a:lnTo>
                  <a:pt x="34" y="14"/>
                </a:lnTo>
                <a:lnTo>
                  <a:pt x="34" y="7"/>
                </a:lnTo>
                <a:lnTo>
                  <a:pt x="34" y="0"/>
                </a:lnTo>
                <a:lnTo>
                  <a:pt x="28" y="7"/>
                </a:lnTo>
                <a:lnTo>
                  <a:pt x="28" y="14"/>
                </a:lnTo>
                <a:lnTo>
                  <a:pt x="21" y="21"/>
                </a:lnTo>
                <a:lnTo>
                  <a:pt x="14" y="28"/>
                </a:lnTo>
                <a:lnTo>
                  <a:pt x="7" y="28"/>
                </a:lnTo>
                <a:lnTo>
                  <a:pt x="0" y="35"/>
                </a:lnTo>
                <a:lnTo>
                  <a:pt x="0" y="35"/>
                </a:lnTo>
                <a:lnTo>
                  <a:pt x="7" y="42"/>
                </a:lnTo>
                <a:lnTo>
                  <a:pt x="14" y="42"/>
                </a:lnTo>
                <a:lnTo>
                  <a:pt x="28" y="49"/>
                </a:lnTo>
                <a:lnTo>
                  <a:pt x="34" y="49"/>
                </a:lnTo>
                <a:lnTo>
                  <a:pt x="34" y="42"/>
                </a:lnTo>
                <a:lnTo>
                  <a:pt x="41" y="35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6" name=""/>
          <p:cNvSpPr/>
          <p:nvPr/>
        </p:nvSpPr>
        <p:spPr>
          <a:xfrm>
            <a:off x="4564080" y="3559320"/>
            <a:ext cx="22320" cy="21960"/>
          </a:xfrm>
          <a:custGeom>
            <a:avLst/>
            <a:gdLst/>
            <a:ahLst/>
            <a:rect l="l" t="t" r="r" b="b"/>
            <a:pathLst>
              <a:path w="14" h="14">
                <a:moveTo>
                  <a:pt x="14" y="7"/>
                </a:moveTo>
                <a:lnTo>
                  <a:pt x="14" y="7"/>
                </a:lnTo>
                <a:lnTo>
                  <a:pt x="14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0" y="0"/>
                </a:lnTo>
                <a:lnTo>
                  <a:pt x="0" y="7"/>
                </a:lnTo>
                <a:lnTo>
                  <a:pt x="0" y="7"/>
                </a:lnTo>
                <a:lnTo>
                  <a:pt x="0" y="14"/>
                </a:lnTo>
                <a:lnTo>
                  <a:pt x="7" y="14"/>
                </a:lnTo>
                <a:lnTo>
                  <a:pt x="7" y="14"/>
                </a:lnTo>
                <a:lnTo>
                  <a:pt x="14" y="14"/>
                </a:lnTo>
                <a:lnTo>
                  <a:pt x="14" y="7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7" name=""/>
          <p:cNvSpPr/>
          <p:nvPr/>
        </p:nvSpPr>
        <p:spPr>
          <a:xfrm>
            <a:off x="5111640" y="3559320"/>
            <a:ext cx="44640" cy="42840"/>
          </a:xfrm>
          <a:custGeom>
            <a:avLst/>
            <a:gdLst/>
            <a:ahLst/>
            <a:rect l="l" t="t" r="r" b="b"/>
            <a:pathLst>
              <a:path w="28" h="27">
                <a:moveTo>
                  <a:pt x="28" y="7"/>
                </a:moveTo>
                <a:lnTo>
                  <a:pt x="21" y="0"/>
                </a:lnTo>
                <a:lnTo>
                  <a:pt x="21" y="0"/>
                </a:lnTo>
                <a:lnTo>
                  <a:pt x="14" y="0"/>
                </a:lnTo>
                <a:lnTo>
                  <a:pt x="7" y="0"/>
                </a:lnTo>
                <a:lnTo>
                  <a:pt x="0" y="7"/>
                </a:lnTo>
                <a:lnTo>
                  <a:pt x="0" y="7"/>
                </a:lnTo>
                <a:lnTo>
                  <a:pt x="0" y="14"/>
                </a:lnTo>
                <a:lnTo>
                  <a:pt x="0" y="21"/>
                </a:lnTo>
                <a:lnTo>
                  <a:pt x="7" y="27"/>
                </a:lnTo>
                <a:lnTo>
                  <a:pt x="14" y="27"/>
                </a:lnTo>
                <a:lnTo>
                  <a:pt x="21" y="27"/>
                </a:lnTo>
                <a:lnTo>
                  <a:pt x="21" y="21"/>
                </a:lnTo>
                <a:lnTo>
                  <a:pt x="21" y="21"/>
                </a:lnTo>
                <a:lnTo>
                  <a:pt x="28" y="7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8" name=""/>
          <p:cNvSpPr/>
          <p:nvPr/>
        </p:nvSpPr>
        <p:spPr>
          <a:xfrm>
            <a:off x="5308560" y="3570120"/>
            <a:ext cx="22320" cy="11160"/>
          </a:xfrm>
          <a:custGeom>
            <a:avLst/>
            <a:gdLst/>
            <a:ahLst/>
            <a:rect l="l" t="t" r="r" b="b"/>
            <a:pathLst>
              <a:path w="14" h="7">
                <a:moveTo>
                  <a:pt x="14" y="0"/>
                </a:moveTo>
                <a:lnTo>
                  <a:pt x="14" y="0"/>
                </a:lnTo>
                <a:lnTo>
                  <a:pt x="7" y="0"/>
                </a:lnTo>
                <a:lnTo>
                  <a:pt x="7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7" y="7"/>
                </a:lnTo>
                <a:lnTo>
                  <a:pt x="7" y="7"/>
                </a:lnTo>
                <a:lnTo>
                  <a:pt x="14" y="7"/>
                </a:lnTo>
                <a:lnTo>
                  <a:pt x="14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9" name=""/>
          <p:cNvSpPr/>
          <p:nvPr/>
        </p:nvSpPr>
        <p:spPr>
          <a:xfrm>
            <a:off x="4586400" y="3449520"/>
            <a:ext cx="142920" cy="98640"/>
          </a:xfrm>
          <a:custGeom>
            <a:avLst/>
            <a:gdLst/>
            <a:ahLst/>
            <a:rect l="l" t="t" r="r" b="b"/>
            <a:pathLst>
              <a:path w="90" h="62">
                <a:moveTo>
                  <a:pt x="55" y="48"/>
                </a:moveTo>
                <a:lnTo>
                  <a:pt x="62" y="41"/>
                </a:lnTo>
                <a:lnTo>
                  <a:pt x="62" y="41"/>
                </a:lnTo>
                <a:lnTo>
                  <a:pt x="69" y="34"/>
                </a:lnTo>
                <a:lnTo>
                  <a:pt x="76" y="28"/>
                </a:lnTo>
                <a:lnTo>
                  <a:pt x="83" y="21"/>
                </a:lnTo>
                <a:lnTo>
                  <a:pt x="90" y="21"/>
                </a:lnTo>
                <a:lnTo>
                  <a:pt x="90" y="14"/>
                </a:lnTo>
                <a:lnTo>
                  <a:pt x="90" y="7"/>
                </a:lnTo>
                <a:lnTo>
                  <a:pt x="83" y="0"/>
                </a:lnTo>
                <a:lnTo>
                  <a:pt x="76" y="0"/>
                </a:lnTo>
                <a:lnTo>
                  <a:pt x="69" y="0"/>
                </a:lnTo>
                <a:lnTo>
                  <a:pt x="55" y="0"/>
                </a:lnTo>
                <a:lnTo>
                  <a:pt x="48" y="0"/>
                </a:lnTo>
                <a:lnTo>
                  <a:pt x="35" y="0"/>
                </a:lnTo>
                <a:lnTo>
                  <a:pt x="28" y="0"/>
                </a:lnTo>
                <a:lnTo>
                  <a:pt x="21" y="7"/>
                </a:lnTo>
                <a:lnTo>
                  <a:pt x="14" y="7"/>
                </a:lnTo>
                <a:lnTo>
                  <a:pt x="7" y="14"/>
                </a:lnTo>
                <a:lnTo>
                  <a:pt x="7" y="21"/>
                </a:lnTo>
                <a:lnTo>
                  <a:pt x="0" y="28"/>
                </a:lnTo>
                <a:lnTo>
                  <a:pt x="0" y="34"/>
                </a:lnTo>
                <a:lnTo>
                  <a:pt x="0" y="34"/>
                </a:lnTo>
                <a:lnTo>
                  <a:pt x="0" y="41"/>
                </a:lnTo>
                <a:lnTo>
                  <a:pt x="7" y="48"/>
                </a:lnTo>
                <a:lnTo>
                  <a:pt x="7" y="55"/>
                </a:lnTo>
                <a:lnTo>
                  <a:pt x="14" y="62"/>
                </a:lnTo>
                <a:lnTo>
                  <a:pt x="21" y="62"/>
                </a:lnTo>
                <a:lnTo>
                  <a:pt x="28" y="62"/>
                </a:lnTo>
                <a:lnTo>
                  <a:pt x="42" y="62"/>
                </a:lnTo>
                <a:lnTo>
                  <a:pt x="48" y="62"/>
                </a:lnTo>
                <a:lnTo>
                  <a:pt x="55" y="55"/>
                </a:lnTo>
                <a:lnTo>
                  <a:pt x="55" y="48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0" name=""/>
          <p:cNvSpPr/>
          <p:nvPr/>
        </p:nvSpPr>
        <p:spPr>
          <a:xfrm>
            <a:off x="5167440" y="3514680"/>
            <a:ext cx="42840" cy="33480"/>
          </a:xfrm>
          <a:custGeom>
            <a:avLst/>
            <a:gdLst/>
            <a:ahLst/>
            <a:rect l="l" t="t" r="r" b="b"/>
            <a:pathLst>
              <a:path w="27" h="21">
                <a:moveTo>
                  <a:pt x="27" y="7"/>
                </a:moveTo>
                <a:lnTo>
                  <a:pt x="20" y="0"/>
                </a:lnTo>
                <a:lnTo>
                  <a:pt x="13" y="0"/>
                </a:lnTo>
                <a:lnTo>
                  <a:pt x="13" y="0"/>
                </a:lnTo>
                <a:lnTo>
                  <a:pt x="7" y="0"/>
                </a:lnTo>
                <a:lnTo>
                  <a:pt x="0" y="0"/>
                </a:lnTo>
                <a:lnTo>
                  <a:pt x="0" y="7"/>
                </a:lnTo>
                <a:lnTo>
                  <a:pt x="0" y="7"/>
                </a:lnTo>
                <a:lnTo>
                  <a:pt x="0" y="14"/>
                </a:lnTo>
                <a:lnTo>
                  <a:pt x="7" y="14"/>
                </a:lnTo>
                <a:lnTo>
                  <a:pt x="7" y="21"/>
                </a:lnTo>
                <a:lnTo>
                  <a:pt x="13" y="21"/>
                </a:lnTo>
                <a:lnTo>
                  <a:pt x="20" y="14"/>
                </a:lnTo>
                <a:lnTo>
                  <a:pt x="20" y="14"/>
                </a:lnTo>
                <a:lnTo>
                  <a:pt x="27" y="7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1" name=""/>
          <p:cNvSpPr/>
          <p:nvPr/>
        </p:nvSpPr>
        <p:spPr>
          <a:xfrm>
            <a:off x="4476600" y="3483000"/>
            <a:ext cx="180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2" name=""/>
          <p:cNvSpPr/>
          <p:nvPr/>
        </p:nvSpPr>
        <p:spPr>
          <a:xfrm>
            <a:off x="5122800" y="3471840"/>
            <a:ext cx="22320" cy="22320"/>
          </a:xfrm>
          <a:custGeom>
            <a:avLst/>
            <a:gdLst/>
            <a:ahLst/>
            <a:rect l="l" t="t" r="r" b="b"/>
            <a:pathLst>
              <a:path w="14" h="14">
                <a:moveTo>
                  <a:pt x="14" y="7"/>
                </a:moveTo>
                <a:lnTo>
                  <a:pt x="14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0" y="7"/>
                </a:lnTo>
                <a:lnTo>
                  <a:pt x="0" y="7"/>
                </a:lnTo>
                <a:lnTo>
                  <a:pt x="7" y="14"/>
                </a:lnTo>
                <a:lnTo>
                  <a:pt x="7" y="14"/>
                </a:lnTo>
                <a:lnTo>
                  <a:pt x="7" y="14"/>
                </a:lnTo>
                <a:lnTo>
                  <a:pt x="7" y="14"/>
                </a:lnTo>
                <a:lnTo>
                  <a:pt x="14" y="14"/>
                </a:lnTo>
                <a:lnTo>
                  <a:pt x="14" y="7"/>
                </a:lnTo>
                <a:lnTo>
                  <a:pt x="14" y="7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3" name=""/>
          <p:cNvSpPr/>
          <p:nvPr/>
        </p:nvSpPr>
        <p:spPr>
          <a:xfrm>
            <a:off x="5319720" y="3427560"/>
            <a:ext cx="55440" cy="33120"/>
          </a:xfrm>
          <a:custGeom>
            <a:avLst/>
            <a:gdLst/>
            <a:ahLst/>
            <a:rect l="l" t="t" r="r" b="b"/>
            <a:pathLst>
              <a:path w="35" h="21">
                <a:moveTo>
                  <a:pt x="35" y="7"/>
                </a:moveTo>
                <a:lnTo>
                  <a:pt x="35" y="0"/>
                </a:lnTo>
                <a:lnTo>
                  <a:pt x="28" y="0"/>
                </a:lnTo>
                <a:lnTo>
                  <a:pt x="21" y="0"/>
                </a:lnTo>
                <a:lnTo>
                  <a:pt x="21" y="0"/>
                </a:lnTo>
                <a:lnTo>
                  <a:pt x="14" y="0"/>
                </a:lnTo>
                <a:lnTo>
                  <a:pt x="7" y="0"/>
                </a:lnTo>
                <a:lnTo>
                  <a:pt x="0" y="0"/>
                </a:lnTo>
                <a:lnTo>
                  <a:pt x="0" y="7"/>
                </a:lnTo>
                <a:lnTo>
                  <a:pt x="7" y="7"/>
                </a:lnTo>
                <a:lnTo>
                  <a:pt x="14" y="7"/>
                </a:lnTo>
                <a:lnTo>
                  <a:pt x="14" y="14"/>
                </a:lnTo>
                <a:lnTo>
                  <a:pt x="21" y="14"/>
                </a:lnTo>
                <a:lnTo>
                  <a:pt x="28" y="21"/>
                </a:lnTo>
                <a:lnTo>
                  <a:pt x="28" y="21"/>
                </a:lnTo>
                <a:lnTo>
                  <a:pt x="28" y="21"/>
                </a:lnTo>
                <a:lnTo>
                  <a:pt x="35" y="21"/>
                </a:lnTo>
                <a:lnTo>
                  <a:pt x="35" y="21"/>
                </a:lnTo>
                <a:lnTo>
                  <a:pt x="35" y="14"/>
                </a:lnTo>
                <a:lnTo>
                  <a:pt x="35" y="7"/>
                </a:lnTo>
                <a:lnTo>
                  <a:pt x="35" y="7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4" name=""/>
          <p:cNvSpPr/>
          <p:nvPr/>
        </p:nvSpPr>
        <p:spPr>
          <a:xfrm flipV="1">
            <a:off x="2604960" y="3384720"/>
            <a:ext cx="22320" cy="31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5" name=""/>
          <p:cNvSpPr/>
          <p:nvPr/>
        </p:nvSpPr>
        <p:spPr>
          <a:xfrm>
            <a:off x="5078520" y="3384720"/>
            <a:ext cx="21960" cy="20520"/>
          </a:xfrm>
          <a:custGeom>
            <a:avLst/>
            <a:gdLst/>
            <a:ahLst/>
            <a:rect l="l" t="t" r="r" b="b"/>
            <a:pathLst>
              <a:path w="14" h="13">
                <a:moveTo>
                  <a:pt x="14" y="0"/>
                </a:move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0" y="0"/>
                </a:lnTo>
                <a:lnTo>
                  <a:pt x="0" y="0"/>
                </a:lnTo>
                <a:lnTo>
                  <a:pt x="0" y="7"/>
                </a:lnTo>
                <a:lnTo>
                  <a:pt x="0" y="7"/>
                </a:lnTo>
                <a:lnTo>
                  <a:pt x="7" y="13"/>
                </a:lnTo>
                <a:lnTo>
                  <a:pt x="7" y="13"/>
                </a:lnTo>
                <a:lnTo>
                  <a:pt x="7" y="13"/>
                </a:lnTo>
                <a:lnTo>
                  <a:pt x="7" y="13"/>
                </a:lnTo>
                <a:lnTo>
                  <a:pt x="7" y="7"/>
                </a:lnTo>
                <a:lnTo>
                  <a:pt x="14" y="7"/>
                </a:lnTo>
                <a:lnTo>
                  <a:pt x="14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6" name=""/>
          <p:cNvSpPr/>
          <p:nvPr/>
        </p:nvSpPr>
        <p:spPr>
          <a:xfrm>
            <a:off x="3919680" y="2968560"/>
            <a:ext cx="514080" cy="284400"/>
          </a:xfrm>
          <a:custGeom>
            <a:avLst/>
            <a:gdLst/>
            <a:ahLst/>
            <a:rect l="l" t="t" r="r" b="b"/>
            <a:pathLst>
              <a:path w="324" h="179">
                <a:moveTo>
                  <a:pt x="41" y="172"/>
                </a:moveTo>
                <a:lnTo>
                  <a:pt x="41" y="172"/>
                </a:lnTo>
                <a:lnTo>
                  <a:pt x="48" y="165"/>
                </a:lnTo>
                <a:lnTo>
                  <a:pt x="55" y="158"/>
                </a:lnTo>
                <a:lnTo>
                  <a:pt x="62" y="158"/>
                </a:lnTo>
                <a:lnTo>
                  <a:pt x="69" y="151"/>
                </a:lnTo>
                <a:lnTo>
                  <a:pt x="75" y="145"/>
                </a:lnTo>
                <a:lnTo>
                  <a:pt x="82" y="145"/>
                </a:lnTo>
                <a:lnTo>
                  <a:pt x="89" y="145"/>
                </a:lnTo>
                <a:lnTo>
                  <a:pt x="103" y="145"/>
                </a:lnTo>
                <a:lnTo>
                  <a:pt x="110" y="145"/>
                </a:lnTo>
                <a:lnTo>
                  <a:pt x="117" y="145"/>
                </a:lnTo>
                <a:lnTo>
                  <a:pt x="124" y="138"/>
                </a:lnTo>
                <a:lnTo>
                  <a:pt x="124" y="131"/>
                </a:lnTo>
                <a:lnTo>
                  <a:pt x="131" y="131"/>
                </a:lnTo>
                <a:lnTo>
                  <a:pt x="137" y="124"/>
                </a:lnTo>
                <a:lnTo>
                  <a:pt x="144" y="124"/>
                </a:lnTo>
                <a:lnTo>
                  <a:pt x="151" y="117"/>
                </a:lnTo>
                <a:lnTo>
                  <a:pt x="165" y="117"/>
                </a:lnTo>
                <a:lnTo>
                  <a:pt x="172" y="117"/>
                </a:lnTo>
                <a:lnTo>
                  <a:pt x="179" y="117"/>
                </a:lnTo>
                <a:lnTo>
                  <a:pt x="186" y="110"/>
                </a:lnTo>
                <a:lnTo>
                  <a:pt x="186" y="103"/>
                </a:lnTo>
                <a:lnTo>
                  <a:pt x="193" y="96"/>
                </a:lnTo>
                <a:lnTo>
                  <a:pt x="193" y="89"/>
                </a:lnTo>
                <a:lnTo>
                  <a:pt x="200" y="89"/>
                </a:lnTo>
                <a:lnTo>
                  <a:pt x="206" y="83"/>
                </a:lnTo>
                <a:lnTo>
                  <a:pt x="213" y="83"/>
                </a:lnTo>
                <a:lnTo>
                  <a:pt x="220" y="76"/>
                </a:lnTo>
                <a:lnTo>
                  <a:pt x="227" y="69"/>
                </a:lnTo>
                <a:lnTo>
                  <a:pt x="234" y="69"/>
                </a:lnTo>
                <a:lnTo>
                  <a:pt x="241" y="69"/>
                </a:lnTo>
                <a:lnTo>
                  <a:pt x="255" y="69"/>
                </a:lnTo>
                <a:lnTo>
                  <a:pt x="262" y="69"/>
                </a:lnTo>
                <a:lnTo>
                  <a:pt x="268" y="69"/>
                </a:lnTo>
                <a:lnTo>
                  <a:pt x="268" y="62"/>
                </a:lnTo>
                <a:lnTo>
                  <a:pt x="268" y="55"/>
                </a:lnTo>
                <a:lnTo>
                  <a:pt x="268" y="48"/>
                </a:lnTo>
                <a:lnTo>
                  <a:pt x="275" y="41"/>
                </a:lnTo>
                <a:lnTo>
                  <a:pt x="282" y="34"/>
                </a:lnTo>
                <a:lnTo>
                  <a:pt x="289" y="34"/>
                </a:lnTo>
                <a:lnTo>
                  <a:pt x="296" y="27"/>
                </a:lnTo>
                <a:lnTo>
                  <a:pt x="303" y="27"/>
                </a:lnTo>
                <a:lnTo>
                  <a:pt x="317" y="27"/>
                </a:lnTo>
                <a:lnTo>
                  <a:pt x="317" y="27"/>
                </a:lnTo>
                <a:lnTo>
                  <a:pt x="324" y="21"/>
                </a:lnTo>
                <a:lnTo>
                  <a:pt x="317" y="14"/>
                </a:lnTo>
                <a:lnTo>
                  <a:pt x="310" y="7"/>
                </a:lnTo>
                <a:lnTo>
                  <a:pt x="303" y="0"/>
                </a:lnTo>
                <a:lnTo>
                  <a:pt x="296" y="0"/>
                </a:lnTo>
                <a:lnTo>
                  <a:pt x="289" y="0"/>
                </a:lnTo>
                <a:lnTo>
                  <a:pt x="282" y="0"/>
                </a:lnTo>
                <a:lnTo>
                  <a:pt x="275" y="7"/>
                </a:lnTo>
                <a:lnTo>
                  <a:pt x="268" y="7"/>
                </a:lnTo>
                <a:lnTo>
                  <a:pt x="262" y="14"/>
                </a:lnTo>
                <a:lnTo>
                  <a:pt x="255" y="14"/>
                </a:lnTo>
                <a:lnTo>
                  <a:pt x="241" y="21"/>
                </a:lnTo>
                <a:lnTo>
                  <a:pt x="234" y="21"/>
                </a:lnTo>
                <a:lnTo>
                  <a:pt x="227" y="21"/>
                </a:lnTo>
                <a:lnTo>
                  <a:pt x="213" y="21"/>
                </a:lnTo>
                <a:lnTo>
                  <a:pt x="206" y="21"/>
                </a:lnTo>
                <a:lnTo>
                  <a:pt x="200" y="27"/>
                </a:lnTo>
                <a:lnTo>
                  <a:pt x="200" y="27"/>
                </a:lnTo>
                <a:lnTo>
                  <a:pt x="193" y="34"/>
                </a:lnTo>
                <a:lnTo>
                  <a:pt x="186" y="34"/>
                </a:lnTo>
                <a:lnTo>
                  <a:pt x="179" y="41"/>
                </a:lnTo>
                <a:lnTo>
                  <a:pt x="165" y="41"/>
                </a:lnTo>
                <a:lnTo>
                  <a:pt x="158" y="48"/>
                </a:lnTo>
                <a:lnTo>
                  <a:pt x="151" y="48"/>
                </a:lnTo>
                <a:lnTo>
                  <a:pt x="144" y="48"/>
                </a:lnTo>
                <a:lnTo>
                  <a:pt x="131" y="48"/>
                </a:lnTo>
                <a:lnTo>
                  <a:pt x="124" y="48"/>
                </a:lnTo>
                <a:lnTo>
                  <a:pt x="117" y="48"/>
                </a:lnTo>
                <a:lnTo>
                  <a:pt x="117" y="55"/>
                </a:lnTo>
                <a:lnTo>
                  <a:pt x="117" y="62"/>
                </a:lnTo>
                <a:lnTo>
                  <a:pt x="117" y="69"/>
                </a:lnTo>
                <a:lnTo>
                  <a:pt x="117" y="76"/>
                </a:lnTo>
                <a:lnTo>
                  <a:pt x="124" y="76"/>
                </a:lnTo>
                <a:lnTo>
                  <a:pt x="124" y="83"/>
                </a:lnTo>
                <a:lnTo>
                  <a:pt x="124" y="89"/>
                </a:lnTo>
                <a:lnTo>
                  <a:pt x="117" y="96"/>
                </a:lnTo>
                <a:lnTo>
                  <a:pt x="110" y="96"/>
                </a:lnTo>
                <a:lnTo>
                  <a:pt x="103" y="103"/>
                </a:lnTo>
                <a:lnTo>
                  <a:pt x="96" y="103"/>
                </a:lnTo>
                <a:lnTo>
                  <a:pt x="89" y="110"/>
                </a:lnTo>
                <a:lnTo>
                  <a:pt x="82" y="110"/>
                </a:lnTo>
                <a:lnTo>
                  <a:pt x="75" y="117"/>
                </a:lnTo>
                <a:lnTo>
                  <a:pt x="69" y="117"/>
                </a:lnTo>
                <a:lnTo>
                  <a:pt x="62" y="124"/>
                </a:lnTo>
                <a:lnTo>
                  <a:pt x="55" y="124"/>
                </a:lnTo>
                <a:lnTo>
                  <a:pt x="48" y="131"/>
                </a:lnTo>
                <a:lnTo>
                  <a:pt x="41" y="131"/>
                </a:lnTo>
                <a:lnTo>
                  <a:pt x="34" y="138"/>
                </a:lnTo>
                <a:lnTo>
                  <a:pt x="27" y="138"/>
                </a:lnTo>
                <a:lnTo>
                  <a:pt x="20" y="145"/>
                </a:lnTo>
                <a:lnTo>
                  <a:pt x="13" y="151"/>
                </a:lnTo>
                <a:lnTo>
                  <a:pt x="6" y="151"/>
                </a:lnTo>
                <a:lnTo>
                  <a:pt x="0" y="158"/>
                </a:lnTo>
                <a:lnTo>
                  <a:pt x="0" y="165"/>
                </a:lnTo>
                <a:lnTo>
                  <a:pt x="0" y="172"/>
                </a:lnTo>
                <a:lnTo>
                  <a:pt x="6" y="179"/>
                </a:lnTo>
                <a:lnTo>
                  <a:pt x="13" y="179"/>
                </a:lnTo>
                <a:lnTo>
                  <a:pt x="27" y="179"/>
                </a:lnTo>
                <a:lnTo>
                  <a:pt x="34" y="179"/>
                </a:lnTo>
                <a:lnTo>
                  <a:pt x="41" y="172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7" name=""/>
          <p:cNvSpPr/>
          <p:nvPr/>
        </p:nvSpPr>
        <p:spPr>
          <a:xfrm>
            <a:off x="6019920" y="2990880"/>
            <a:ext cx="109440" cy="31680"/>
          </a:xfrm>
          <a:custGeom>
            <a:avLst/>
            <a:gdLst/>
            <a:ahLst/>
            <a:rect l="l" t="t" r="r" b="b"/>
            <a:pathLst>
              <a:path w="69" h="20">
                <a:moveTo>
                  <a:pt x="69" y="13"/>
                </a:moveTo>
                <a:lnTo>
                  <a:pt x="62" y="7"/>
                </a:lnTo>
                <a:lnTo>
                  <a:pt x="56" y="7"/>
                </a:lnTo>
                <a:lnTo>
                  <a:pt x="56" y="7"/>
                </a:lnTo>
                <a:lnTo>
                  <a:pt x="49" y="7"/>
                </a:lnTo>
                <a:lnTo>
                  <a:pt x="42" y="7"/>
                </a:lnTo>
                <a:lnTo>
                  <a:pt x="35" y="0"/>
                </a:lnTo>
                <a:lnTo>
                  <a:pt x="28" y="0"/>
                </a:lnTo>
                <a:lnTo>
                  <a:pt x="21" y="0"/>
                </a:lnTo>
                <a:lnTo>
                  <a:pt x="14" y="0"/>
                </a:lnTo>
                <a:lnTo>
                  <a:pt x="7" y="0"/>
                </a:lnTo>
                <a:lnTo>
                  <a:pt x="7" y="0"/>
                </a:lnTo>
                <a:lnTo>
                  <a:pt x="0" y="0"/>
                </a:lnTo>
                <a:lnTo>
                  <a:pt x="0" y="7"/>
                </a:lnTo>
                <a:lnTo>
                  <a:pt x="0" y="13"/>
                </a:lnTo>
                <a:lnTo>
                  <a:pt x="0" y="13"/>
                </a:lnTo>
                <a:lnTo>
                  <a:pt x="7" y="20"/>
                </a:lnTo>
                <a:lnTo>
                  <a:pt x="14" y="20"/>
                </a:lnTo>
                <a:lnTo>
                  <a:pt x="21" y="20"/>
                </a:lnTo>
                <a:lnTo>
                  <a:pt x="28" y="20"/>
                </a:lnTo>
                <a:lnTo>
                  <a:pt x="35" y="20"/>
                </a:lnTo>
                <a:lnTo>
                  <a:pt x="42" y="20"/>
                </a:lnTo>
                <a:lnTo>
                  <a:pt x="42" y="13"/>
                </a:lnTo>
                <a:lnTo>
                  <a:pt x="49" y="13"/>
                </a:lnTo>
                <a:lnTo>
                  <a:pt x="56" y="13"/>
                </a:lnTo>
                <a:lnTo>
                  <a:pt x="62" y="13"/>
                </a:lnTo>
                <a:lnTo>
                  <a:pt x="69" y="13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8" name=""/>
          <p:cNvSpPr/>
          <p:nvPr/>
        </p:nvSpPr>
        <p:spPr>
          <a:xfrm>
            <a:off x="4389480" y="2935440"/>
            <a:ext cx="142920" cy="66600"/>
          </a:xfrm>
          <a:custGeom>
            <a:avLst/>
            <a:gdLst/>
            <a:ahLst/>
            <a:rect l="l" t="t" r="r" b="b"/>
            <a:pathLst>
              <a:path w="90" h="42">
                <a:moveTo>
                  <a:pt x="90" y="14"/>
                </a:moveTo>
                <a:lnTo>
                  <a:pt x="90" y="7"/>
                </a:lnTo>
                <a:lnTo>
                  <a:pt x="90" y="7"/>
                </a:lnTo>
                <a:lnTo>
                  <a:pt x="83" y="0"/>
                </a:lnTo>
                <a:lnTo>
                  <a:pt x="69" y="7"/>
                </a:lnTo>
                <a:lnTo>
                  <a:pt x="62" y="7"/>
                </a:lnTo>
                <a:lnTo>
                  <a:pt x="48" y="7"/>
                </a:lnTo>
                <a:lnTo>
                  <a:pt x="41" y="7"/>
                </a:lnTo>
                <a:lnTo>
                  <a:pt x="35" y="7"/>
                </a:lnTo>
                <a:lnTo>
                  <a:pt x="28" y="7"/>
                </a:lnTo>
                <a:lnTo>
                  <a:pt x="14" y="14"/>
                </a:lnTo>
                <a:lnTo>
                  <a:pt x="7" y="14"/>
                </a:lnTo>
                <a:lnTo>
                  <a:pt x="0" y="14"/>
                </a:lnTo>
                <a:lnTo>
                  <a:pt x="0" y="21"/>
                </a:lnTo>
                <a:lnTo>
                  <a:pt x="0" y="28"/>
                </a:lnTo>
                <a:lnTo>
                  <a:pt x="7" y="35"/>
                </a:lnTo>
                <a:lnTo>
                  <a:pt x="14" y="35"/>
                </a:lnTo>
                <a:lnTo>
                  <a:pt x="28" y="42"/>
                </a:lnTo>
                <a:lnTo>
                  <a:pt x="35" y="42"/>
                </a:lnTo>
                <a:lnTo>
                  <a:pt x="48" y="42"/>
                </a:lnTo>
                <a:lnTo>
                  <a:pt x="55" y="42"/>
                </a:lnTo>
                <a:lnTo>
                  <a:pt x="62" y="42"/>
                </a:lnTo>
                <a:lnTo>
                  <a:pt x="69" y="35"/>
                </a:lnTo>
                <a:lnTo>
                  <a:pt x="69" y="28"/>
                </a:lnTo>
                <a:lnTo>
                  <a:pt x="76" y="28"/>
                </a:lnTo>
                <a:lnTo>
                  <a:pt x="83" y="21"/>
                </a:lnTo>
                <a:lnTo>
                  <a:pt x="90" y="14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9" name=""/>
          <p:cNvSpPr/>
          <p:nvPr/>
        </p:nvSpPr>
        <p:spPr>
          <a:xfrm>
            <a:off x="5878440" y="2957400"/>
            <a:ext cx="31680" cy="11160"/>
          </a:xfrm>
          <a:custGeom>
            <a:avLst/>
            <a:gdLst/>
            <a:ahLst/>
            <a:rect l="l" t="t" r="r" b="b"/>
            <a:pathLst>
              <a:path w="20" h="7">
                <a:moveTo>
                  <a:pt x="20" y="0"/>
                </a:moveTo>
                <a:lnTo>
                  <a:pt x="14" y="0"/>
                </a:lnTo>
                <a:lnTo>
                  <a:pt x="14" y="0"/>
                </a:lnTo>
                <a:lnTo>
                  <a:pt x="14" y="0"/>
                </a:lnTo>
                <a:lnTo>
                  <a:pt x="7" y="0"/>
                </a:lnTo>
                <a:lnTo>
                  <a:pt x="7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7" y="7"/>
                </a:lnTo>
                <a:lnTo>
                  <a:pt x="7" y="7"/>
                </a:lnTo>
                <a:lnTo>
                  <a:pt x="14" y="7"/>
                </a:lnTo>
                <a:lnTo>
                  <a:pt x="14" y="7"/>
                </a:lnTo>
                <a:lnTo>
                  <a:pt x="20" y="0"/>
                </a:lnTo>
                <a:lnTo>
                  <a:pt x="2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0" name=""/>
          <p:cNvSpPr/>
          <p:nvPr/>
        </p:nvSpPr>
        <p:spPr>
          <a:xfrm>
            <a:off x="4552920" y="2892600"/>
            <a:ext cx="88920" cy="31680"/>
          </a:xfrm>
          <a:custGeom>
            <a:avLst/>
            <a:gdLst/>
            <a:ahLst/>
            <a:rect l="l" t="t" r="r" b="b"/>
            <a:pathLst>
              <a:path w="56" h="20">
                <a:moveTo>
                  <a:pt x="56" y="13"/>
                </a:moveTo>
                <a:lnTo>
                  <a:pt x="49" y="13"/>
                </a:lnTo>
                <a:lnTo>
                  <a:pt x="42" y="13"/>
                </a:lnTo>
                <a:lnTo>
                  <a:pt x="42" y="7"/>
                </a:lnTo>
                <a:lnTo>
                  <a:pt x="35" y="7"/>
                </a:lnTo>
                <a:lnTo>
                  <a:pt x="28" y="7"/>
                </a:lnTo>
                <a:lnTo>
                  <a:pt x="21" y="0"/>
                </a:lnTo>
                <a:lnTo>
                  <a:pt x="14" y="0"/>
                </a:lnTo>
                <a:lnTo>
                  <a:pt x="7" y="7"/>
                </a:lnTo>
                <a:lnTo>
                  <a:pt x="0" y="7"/>
                </a:lnTo>
                <a:lnTo>
                  <a:pt x="0" y="13"/>
                </a:lnTo>
                <a:lnTo>
                  <a:pt x="0" y="13"/>
                </a:lnTo>
                <a:lnTo>
                  <a:pt x="7" y="20"/>
                </a:lnTo>
                <a:lnTo>
                  <a:pt x="14" y="20"/>
                </a:lnTo>
                <a:lnTo>
                  <a:pt x="21" y="20"/>
                </a:lnTo>
                <a:lnTo>
                  <a:pt x="28" y="20"/>
                </a:lnTo>
                <a:lnTo>
                  <a:pt x="35" y="20"/>
                </a:lnTo>
                <a:lnTo>
                  <a:pt x="42" y="20"/>
                </a:lnTo>
                <a:lnTo>
                  <a:pt x="49" y="20"/>
                </a:lnTo>
                <a:lnTo>
                  <a:pt x="49" y="20"/>
                </a:lnTo>
                <a:lnTo>
                  <a:pt x="56" y="13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1" name=""/>
          <p:cNvSpPr/>
          <p:nvPr/>
        </p:nvSpPr>
        <p:spPr>
          <a:xfrm>
            <a:off x="3448080" y="1317600"/>
            <a:ext cx="3535200" cy="4811760"/>
          </a:xfrm>
          <a:custGeom>
            <a:avLst/>
            <a:gdLst/>
            <a:ahLst/>
            <a:rect l="l" t="t" r="r" b="b"/>
            <a:pathLst>
              <a:path w="2227" h="3031">
                <a:moveTo>
                  <a:pt x="379" y="3031"/>
                </a:moveTo>
                <a:lnTo>
                  <a:pt x="407" y="3003"/>
                </a:lnTo>
                <a:lnTo>
                  <a:pt x="441" y="3003"/>
                </a:lnTo>
                <a:lnTo>
                  <a:pt x="469" y="2969"/>
                </a:lnTo>
                <a:lnTo>
                  <a:pt x="503" y="2941"/>
                </a:lnTo>
                <a:lnTo>
                  <a:pt x="531" y="2907"/>
                </a:lnTo>
                <a:lnTo>
                  <a:pt x="565" y="2907"/>
                </a:lnTo>
                <a:lnTo>
                  <a:pt x="593" y="2879"/>
                </a:lnTo>
                <a:lnTo>
                  <a:pt x="628" y="2845"/>
                </a:lnTo>
                <a:lnTo>
                  <a:pt x="662" y="2845"/>
                </a:lnTo>
                <a:lnTo>
                  <a:pt x="690" y="2817"/>
                </a:lnTo>
                <a:lnTo>
                  <a:pt x="724" y="2783"/>
                </a:lnTo>
                <a:lnTo>
                  <a:pt x="752" y="2783"/>
                </a:lnTo>
                <a:lnTo>
                  <a:pt x="786" y="2748"/>
                </a:lnTo>
                <a:lnTo>
                  <a:pt x="814" y="2721"/>
                </a:lnTo>
                <a:lnTo>
                  <a:pt x="848" y="2686"/>
                </a:lnTo>
                <a:lnTo>
                  <a:pt x="876" y="2686"/>
                </a:lnTo>
                <a:lnTo>
                  <a:pt x="910" y="2659"/>
                </a:lnTo>
                <a:lnTo>
                  <a:pt x="938" y="2624"/>
                </a:lnTo>
                <a:lnTo>
                  <a:pt x="972" y="2624"/>
                </a:lnTo>
                <a:lnTo>
                  <a:pt x="1007" y="2597"/>
                </a:lnTo>
                <a:lnTo>
                  <a:pt x="1034" y="2562"/>
                </a:lnTo>
                <a:lnTo>
                  <a:pt x="1069" y="2535"/>
                </a:lnTo>
                <a:lnTo>
                  <a:pt x="1096" y="2535"/>
                </a:lnTo>
                <a:lnTo>
                  <a:pt x="1131" y="2500"/>
                </a:lnTo>
                <a:lnTo>
                  <a:pt x="1158" y="2473"/>
                </a:lnTo>
                <a:lnTo>
                  <a:pt x="1179" y="2473"/>
                </a:lnTo>
                <a:lnTo>
                  <a:pt x="1186" y="2466"/>
                </a:lnTo>
                <a:lnTo>
                  <a:pt x="1193" y="2459"/>
                </a:lnTo>
                <a:lnTo>
                  <a:pt x="1193" y="2452"/>
                </a:lnTo>
                <a:lnTo>
                  <a:pt x="1200" y="2452"/>
                </a:lnTo>
                <a:lnTo>
                  <a:pt x="1207" y="2445"/>
                </a:lnTo>
                <a:lnTo>
                  <a:pt x="1207" y="2445"/>
                </a:lnTo>
                <a:lnTo>
                  <a:pt x="1214" y="2445"/>
                </a:lnTo>
                <a:lnTo>
                  <a:pt x="1221" y="2438"/>
                </a:lnTo>
                <a:lnTo>
                  <a:pt x="1221" y="2438"/>
                </a:lnTo>
                <a:lnTo>
                  <a:pt x="1255" y="2404"/>
                </a:lnTo>
                <a:lnTo>
                  <a:pt x="1283" y="2376"/>
                </a:lnTo>
                <a:lnTo>
                  <a:pt x="1303" y="2376"/>
                </a:lnTo>
                <a:lnTo>
                  <a:pt x="1303" y="2363"/>
                </a:lnTo>
                <a:lnTo>
                  <a:pt x="1296" y="2356"/>
                </a:lnTo>
                <a:lnTo>
                  <a:pt x="1289" y="2349"/>
                </a:lnTo>
                <a:lnTo>
                  <a:pt x="1289" y="2349"/>
                </a:lnTo>
                <a:lnTo>
                  <a:pt x="1283" y="2342"/>
                </a:lnTo>
                <a:lnTo>
                  <a:pt x="1276" y="2349"/>
                </a:lnTo>
                <a:lnTo>
                  <a:pt x="1269" y="2356"/>
                </a:lnTo>
                <a:lnTo>
                  <a:pt x="1262" y="2356"/>
                </a:lnTo>
                <a:lnTo>
                  <a:pt x="1255" y="2363"/>
                </a:lnTo>
                <a:lnTo>
                  <a:pt x="1248" y="2369"/>
                </a:lnTo>
                <a:lnTo>
                  <a:pt x="1248" y="2376"/>
                </a:lnTo>
                <a:lnTo>
                  <a:pt x="1241" y="2376"/>
                </a:lnTo>
                <a:lnTo>
                  <a:pt x="1234" y="2383"/>
                </a:lnTo>
                <a:lnTo>
                  <a:pt x="1227" y="2390"/>
                </a:lnTo>
                <a:lnTo>
                  <a:pt x="1221" y="2390"/>
                </a:lnTo>
                <a:lnTo>
                  <a:pt x="1214" y="2397"/>
                </a:lnTo>
                <a:lnTo>
                  <a:pt x="1207" y="2397"/>
                </a:lnTo>
                <a:lnTo>
                  <a:pt x="1200" y="2404"/>
                </a:lnTo>
                <a:lnTo>
                  <a:pt x="1193" y="2411"/>
                </a:lnTo>
                <a:lnTo>
                  <a:pt x="1186" y="2411"/>
                </a:lnTo>
                <a:lnTo>
                  <a:pt x="1186" y="2418"/>
                </a:lnTo>
                <a:lnTo>
                  <a:pt x="1179" y="2425"/>
                </a:lnTo>
                <a:lnTo>
                  <a:pt x="1172" y="2425"/>
                </a:lnTo>
                <a:lnTo>
                  <a:pt x="1165" y="2431"/>
                </a:lnTo>
                <a:lnTo>
                  <a:pt x="1158" y="2438"/>
                </a:lnTo>
                <a:lnTo>
                  <a:pt x="1152" y="2438"/>
                </a:lnTo>
                <a:lnTo>
                  <a:pt x="1145" y="2445"/>
                </a:lnTo>
                <a:lnTo>
                  <a:pt x="1138" y="2445"/>
                </a:lnTo>
                <a:lnTo>
                  <a:pt x="1131" y="2452"/>
                </a:lnTo>
                <a:lnTo>
                  <a:pt x="1124" y="2459"/>
                </a:lnTo>
                <a:lnTo>
                  <a:pt x="1124" y="2459"/>
                </a:lnTo>
                <a:lnTo>
                  <a:pt x="1117" y="2466"/>
                </a:lnTo>
                <a:lnTo>
                  <a:pt x="1110" y="2473"/>
                </a:lnTo>
                <a:lnTo>
                  <a:pt x="1103" y="2473"/>
                </a:lnTo>
                <a:lnTo>
                  <a:pt x="1096" y="2480"/>
                </a:lnTo>
                <a:lnTo>
                  <a:pt x="1090" y="2487"/>
                </a:lnTo>
                <a:lnTo>
                  <a:pt x="1083" y="2487"/>
                </a:lnTo>
                <a:lnTo>
                  <a:pt x="1076" y="2493"/>
                </a:lnTo>
                <a:lnTo>
                  <a:pt x="1069" y="2493"/>
                </a:lnTo>
                <a:lnTo>
                  <a:pt x="1069" y="2500"/>
                </a:lnTo>
                <a:lnTo>
                  <a:pt x="1062" y="2507"/>
                </a:lnTo>
                <a:lnTo>
                  <a:pt x="1055" y="2507"/>
                </a:lnTo>
                <a:lnTo>
                  <a:pt x="1048" y="2514"/>
                </a:lnTo>
                <a:lnTo>
                  <a:pt x="1041" y="2521"/>
                </a:lnTo>
                <a:lnTo>
                  <a:pt x="1034" y="2521"/>
                </a:lnTo>
                <a:lnTo>
                  <a:pt x="1027" y="2528"/>
                </a:lnTo>
                <a:lnTo>
                  <a:pt x="1021" y="2535"/>
                </a:lnTo>
                <a:lnTo>
                  <a:pt x="1014" y="2535"/>
                </a:lnTo>
                <a:lnTo>
                  <a:pt x="1007" y="2542"/>
                </a:lnTo>
                <a:lnTo>
                  <a:pt x="1007" y="2542"/>
                </a:lnTo>
                <a:lnTo>
                  <a:pt x="1000" y="2548"/>
                </a:lnTo>
                <a:lnTo>
                  <a:pt x="993" y="2555"/>
                </a:lnTo>
                <a:lnTo>
                  <a:pt x="986" y="2555"/>
                </a:lnTo>
                <a:lnTo>
                  <a:pt x="979" y="2562"/>
                </a:lnTo>
                <a:lnTo>
                  <a:pt x="972" y="2569"/>
                </a:lnTo>
                <a:lnTo>
                  <a:pt x="965" y="2569"/>
                </a:lnTo>
                <a:lnTo>
                  <a:pt x="959" y="2576"/>
                </a:lnTo>
                <a:lnTo>
                  <a:pt x="952" y="2583"/>
                </a:lnTo>
                <a:lnTo>
                  <a:pt x="945" y="2583"/>
                </a:lnTo>
                <a:lnTo>
                  <a:pt x="945" y="2590"/>
                </a:lnTo>
                <a:lnTo>
                  <a:pt x="938" y="2590"/>
                </a:lnTo>
                <a:lnTo>
                  <a:pt x="931" y="2597"/>
                </a:lnTo>
                <a:lnTo>
                  <a:pt x="924" y="2604"/>
                </a:lnTo>
                <a:lnTo>
                  <a:pt x="917" y="2604"/>
                </a:lnTo>
                <a:lnTo>
                  <a:pt x="910" y="2610"/>
                </a:lnTo>
                <a:lnTo>
                  <a:pt x="903" y="2617"/>
                </a:lnTo>
                <a:lnTo>
                  <a:pt x="896" y="2617"/>
                </a:lnTo>
                <a:lnTo>
                  <a:pt x="890" y="2624"/>
                </a:lnTo>
                <a:lnTo>
                  <a:pt x="890" y="2631"/>
                </a:lnTo>
                <a:lnTo>
                  <a:pt x="883" y="2631"/>
                </a:lnTo>
                <a:lnTo>
                  <a:pt x="876" y="2638"/>
                </a:lnTo>
                <a:lnTo>
                  <a:pt x="869" y="2638"/>
                </a:lnTo>
                <a:lnTo>
                  <a:pt x="862" y="2645"/>
                </a:lnTo>
                <a:lnTo>
                  <a:pt x="855" y="2652"/>
                </a:lnTo>
                <a:lnTo>
                  <a:pt x="848" y="2652"/>
                </a:lnTo>
                <a:lnTo>
                  <a:pt x="841" y="2659"/>
                </a:lnTo>
                <a:lnTo>
                  <a:pt x="834" y="2659"/>
                </a:lnTo>
                <a:lnTo>
                  <a:pt x="828" y="2666"/>
                </a:lnTo>
                <a:lnTo>
                  <a:pt x="821" y="2666"/>
                </a:lnTo>
                <a:lnTo>
                  <a:pt x="814" y="2666"/>
                </a:lnTo>
                <a:lnTo>
                  <a:pt x="807" y="2672"/>
                </a:lnTo>
                <a:lnTo>
                  <a:pt x="800" y="2679"/>
                </a:lnTo>
                <a:lnTo>
                  <a:pt x="800" y="2679"/>
                </a:lnTo>
                <a:lnTo>
                  <a:pt x="793" y="2686"/>
                </a:lnTo>
                <a:lnTo>
                  <a:pt x="786" y="2693"/>
                </a:lnTo>
                <a:lnTo>
                  <a:pt x="779" y="2686"/>
                </a:lnTo>
                <a:lnTo>
                  <a:pt x="779" y="2679"/>
                </a:lnTo>
                <a:lnTo>
                  <a:pt x="786" y="2672"/>
                </a:lnTo>
                <a:lnTo>
                  <a:pt x="793" y="2666"/>
                </a:lnTo>
                <a:lnTo>
                  <a:pt x="793" y="2659"/>
                </a:lnTo>
                <a:lnTo>
                  <a:pt x="793" y="2652"/>
                </a:lnTo>
                <a:lnTo>
                  <a:pt x="800" y="2638"/>
                </a:lnTo>
                <a:lnTo>
                  <a:pt x="807" y="2631"/>
                </a:lnTo>
                <a:lnTo>
                  <a:pt x="807" y="2624"/>
                </a:lnTo>
                <a:lnTo>
                  <a:pt x="814" y="2617"/>
                </a:lnTo>
                <a:lnTo>
                  <a:pt x="814" y="2610"/>
                </a:lnTo>
                <a:lnTo>
                  <a:pt x="821" y="2604"/>
                </a:lnTo>
                <a:lnTo>
                  <a:pt x="821" y="2597"/>
                </a:lnTo>
                <a:lnTo>
                  <a:pt x="828" y="2590"/>
                </a:lnTo>
                <a:lnTo>
                  <a:pt x="828" y="2576"/>
                </a:lnTo>
                <a:lnTo>
                  <a:pt x="834" y="2569"/>
                </a:lnTo>
                <a:lnTo>
                  <a:pt x="834" y="2562"/>
                </a:lnTo>
                <a:lnTo>
                  <a:pt x="841" y="2555"/>
                </a:lnTo>
                <a:lnTo>
                  <a:pt x="841" y="2548"/>
                </a:lnTo>
                <a:lnTo>
                  <a:pt x="848" y="2542"/>
                </a:lnTo>
                <a:lnTo>
                  <a:pt x="848" y="2535"/>
                </a:lnTo>
                <a:lnTo>
                  <a:pt x="855" y="2521"/>
                </a:lnTo>
                <a:lnTo>
                  <a:pt x="855" y="2514"/>
                </a:lnTo>
                <a:lnTo>
                  <a:pt x="855" y="2507"/>
                </a:lnTo>
                <a:lnTo>
                  <a:pt x="855" y="2500"/>
                </a:lnTo>
                <a:lnTo>
                  <a:pt x="855" y="2487"/>
                </a:lnTo>
                <a:lnTo>
                  <a:pt x="862" y="2480"/>
                </a:lnTo>
                <a:lnTo>
                  <a:pt x="862" y="2473"/>
                </a:lnTo>
                <a:lnTo>
                  <a:pt x="862" y="2459"/>
                </a:lnTo>
                <a:lnTo>
                  <a:pt x="862" y="2452"/>
                </a:lnTo>
                <a:lnTo>
                  <a:pt x="862" y="2445"/>
                </a:lnTo>
                <a:lnTo>
                  <a:pt x="862" y="2438"/>
                </a:lnTo>
                <a:lnTo>
                  <a:pt x="855" y="2431"/>
                </a:lnTo>
                <a:lnTo>
                  <a:pt x="848" y="2425"/>
                </a:lnTo>
                <a:lnTo>
                  <a:pt x="841" y="2425"/>
                </a:lnTo>
                <a:lnTo>
                  <a:pt x="834" y="2425"/>
                </a:lnTo>
                <a:lnTo>
                  <a:pt x="828" y="2418"/>
                </a:lnTo>
                <a:lnTo>
                  <a:pt x="821" y="2418"/>
                </a:lnTo>
                <a:lnTo>
                  <a:pt x="814" y="2418"/>
                </a:lnTo>
                <a:lnTo>
                  <a:pt x="807" y="2418"/>
                </a:lnTo>
                <a:lnTo>
                  <a:pt x="800" y="2418"/>
                </a:lnTo>
                <a:lnTo>
                  <a:pt x="793" y="2418"/>
                </a:lnTo>
                <a:lnTo>
                  <a:pt x="786" y="2425"/>
                </a:lnTo>
                <a:lnTo>
                  <a:pt x="779" y="2425"/>
                </a:lnTo>
                <a:lnTo>
                  <a:pt x="772" y="2425"/>
                </a:lnTo>
                <a:lnTo>
                  <a:pt x="765" y="2425"/>
                </a:lnTo>
                <a:lnTo>
                  <a:pt x="759" y="2425"/>
                </a:lnTo>
                <a:lnTo>
                  <a:pt x="752" y="2425"/>
                </a:lnTo>
                <a:lnTo>
                  <a:pt x="745" y="2425"/>
                </a:lnTo>
                <a:lnTo>
                  <a:pt x="738" y="2425"/>
                </a:lnTo>
                <a:lnTo>
                  <a:pt x="731" y="2425"/>
                </a:lnTo>
                <a:lnTo>
                  <a:pt x="724" y="2425"/>
                </a:lnTo>
                <a:lnTo>
                  <a:pt x="717" y="2425"/>
                </a:lnTo>
                <a:lnTo>
                  <a:pt x="710" y="2418"/>
                </a:lnTo>
                <a:lnTo>
                  <a:pt x="703" y="2418"/>
                </a:lnTo>
                <a:lnTo>
                  <a:pt x="696" y="2411"/>
                </a:lnTo>
                <a:lnTo>
                  <a:pt x="690" y="2411"/>
                </a:lnTo>
                <a:lnTo>
                  <a:pt x="683" y="2404"/>
                </a:lnTo>
                <a:lnTo>
                  <a:pt x="676" y="2397"/>
                </a:lnTo>
                <a:lnTo>
                  <a:pt x="669" y="2397"/>
                </a:lnTo>
                <a:lnTo>
                  <a:pt x="662" y="2390"/>
                </a:lnTo>
                <a:lnTo>
                  <a:pt x="655" y="2390"/>
                </a:lnTo>
                <a:lnTo>
                  <a:pt x="648" y="2383"/>
                </a:lnTo>
                <a:lnTo>
                  <a:pt x="648" y="2383"/>
                </a:lnTo>
                <a:lnTo>
                  <a:pt x="641" y="2376"/>
                </a:lnTo>
                <a:lnTo>
                  <a:pt x="634" y="2376"/>
                </a:lnTo>
                <a:lnTo>
                  <a:pt x="628" y="2369"/>
                </a:lnTo>
                <a:lnTo>
                  <a:pt x="621" y="2369"/>
                </a:lnTo>
                <a:lnTo>
                  <a:pt x="614" y="2363"/>
                </a:lnTo>
                <a:lnTo>
                  <a:pt x="607" y="2363"/>
                </a:lnTo>
                <a:lnTo>
                  <a:pt x="600" y="2356"/>
                </a:lnTo>
                <a:lnTo>
                  <a:pt x="593" y="2356"/>
                </a:lnTo>
                <a:lnTo>
                  <a:pt x="586" y="2349"/>
                </a:lnTo>
                <a:lnTo>
                  <a:pt x="579" y="2349"/>
                </a:lnTo>
                <a:lnTo>
                  <a:pt x="572" y="2342"/>
                </a:lnTo>
                <a:lnTo>
                  <a:pt x="565" y="2342"/>
                </a:lnTo>
                <a:lnTo>
                  <a:pt x="559" y="2335"/>
                </a:lnTo>
                <a:lnTo>
                  <a:pt x="552" y="2335"/>
                </a:lnTo>
                <a:lnTo>
                  <a:pt x="552" y="2328"/>
                </a:lnTo>
                <a:lnTo>
                  <a:pt x="545" y="2328"/>
                </a:lnTo>
                <a:lnTo>
                  <a:pt x="538" y="2321"/>
                </a:lnTo>
                <a:lnTo>
                  <a:pt x="524" y="2314"/>
                </a:lnTo>
                <a:lnTo>
                  <a:pt x="524" y="2314"/>
                </a:lnTo>
                <a:lnTo>
                  <a:pt x="531" y="2307"/>
                </a:lnTo>
                <a:lnTo>
                  <a:pt x="538" y="2301"/>
                </a:lnTo>
                <a:lnTo>
                  <a:pt x="538" y="2294"/>
                </a:lnTo>
                <a:lnTo>
                  <a:pt x="545" y="2287"/>
                </a:lnTo>
                <a:lnTo>
                  <a:pt x="552" y="2280"/>
                </a:lnTo>
                <a:lnTo>
                  <a:pt x="552" y="2273"/>
                </a:lnTo>
                <a:lnTo>
                  <a:pt x="559" y="2266"/>
                </a:lnTo>
                <a:lnTo>
                  <a:pt x="565" y="2259"/>
                </a:lnTo>
                <a:lnTo>
                  <a:pt x="572" y="2252"/>
                </a:lnTo>
                <a:lnTo>
                  <a:pt x="572" y="2245"/>
                </a:lnTo>
                <a:lnTo>
                  <a:pt x="579" y="2239"/>
                </a:lnTo>
                <a:lnTo>
                  <a:pt x="579" y="2225"/>
                </a:lnTo>
                <a:lnTo>
                  <a:pt x="579" y="2218"/>
                </a:lnTo>
                <a:lnTo>
                  <a:pt x="572" y="2218"/>
                </a:lnTo>
                <a:lnTo>
                  <a:pt x="565" y="2211"/>
                </a:lnTo>
                <a:lnTo>
                  <a:pt x="559" y="2218"/>
                </a:lnTo>
                <a:lnTo>
                  <a:pt x="552" y="2218"/>
                </a:lnTo>
                <a:lnTo>
                  <a:pt x="552" y="2225"/>
                </a:lnTo>
                <a:lnTo>
                  <a:pt x="545" y="2225"/>
                </a:lnTo>
                <a:lnTo>
                  <a:pt x="538" y="2232"/>
                </a:lnTo>
                <a:lnTo>
                  <a:pt x="531" y="2232"/>
                </a:lnTo>
                <a:lnTo>
                  <a:pt x="524" y="2239"/>
                </a:lnTo>
                <a:lnTo>
                  <a:pt x="517" y="2239"/>
                </a:lnTo>
                <a:lnTo>
                  <a:pt x="510" y="2245"/>
                </a:lnTo>
                <a:lnTo>
                  <a:pt x="503" y="2245"/>
                </a:lnTo>
                <a:lnTo>
                  <a:pt x="497" y="2252"/>
                </a:lnTo>
                <a:lnTo>
                  <a:pt x="490" y="2252"/>
                </a:lnTo>
                <a:lnTo>
                  <a:pt x="483" y="2245"/>
                </a:lnTo>
                <a:lnTo>
                  <a:pt x="476" y="2245"/>
                </a:lnTo>
                <a:lnTo>
                  <a:pt x="469" y="2239"/>
                </a:lnTo>
                <a:lnTo>
                  <a:pt x="462" y="2232"/>
                </a:lnTo>
                <a:lnTo>
                  <a:pt x="462" y="2225"/>
                </a:lnTo>
                <a:lnTo>
                  <a:pt x="455" y="2218"/>
                </a:lnTo>
                <a:lnTo>
                  <a:pt x="455" y="2211"/>
                </a:lnTo>
                <a:lnTo>
                  <a:pt x="448" y="2204"/>
                </a:lnTo>
                <a:lnTo>
                  <a:pt x="441" y="2197"/>
                </a:lnTo>
                <a:lnTo>
                  <a:pt x="441" y="2190"/>
                </a:lnTo>
                <a:lnTo>
                  <a:pt x="434" y="2183"/>
                </a:lnTo>
                <a:lnTo>
                  <a:pt x="434" y="2170"/>
                </a:lnTo>
                <a:lnTo>
                  <a:pt x="428" y="2163"/>
                </a:lnTo>
                <a:lnTo>
                  <a:pt x="421" y="2156"/>
                </a:lnTo>
                <a:lnTo>
                  <a:pt x="421" y="2156"/>
                </a:lnTo>
                <a:lnTo>
                  <a:pt x="414" y="2149"/>
                </a:lnTo>
                <a:lnTo>
                  <a:pt x="407" y="2142"/>
                </a:lnTo>
                <a:lnTo>
                  <a:pt x="400" y="2135"/>
                </a:lnTo>
                <a:lnTo>
                  <a:pt x="400" y="2128"/>
                </a:lnTo>
                <a:lnTo>
                  <a:pt x="393" y="2121"/>
                </a:lnTo>
                <a:lnTo>
                  <a:pt x="393" y="2108"/>
                </a:lnTo>
                <a:lnTo>
                  <a:pt x="393" y="2101"/>
                </a:lnTo>
                <a:lnTo>
                  <a:pt x="393" y="2094"/>
                </a:lnTo>
                <a:lnTo>
                  <a:pt x="393" y="2080"/>
                </a:lnTo>
                <a:lnTo>
                  <a:pt x="393" y="2073"/>
                </a:lnTo>
                <a:lnTo>
                  <a:pt x="393" y="2066"/>
                </a:lnTo>
                <a:lnTo>
                  <a:pt x="386" y="2059"/>
                </a:lnTo>
                <a:lnTo>
                  <a:pt x="386" y="2046"/>
                </a:lnTo>
                <a:lnTo>
                  <a:pt x="379" y="2039"/>
                </a:lnTo>
                <a:lnTo>
                  <a:pt x="379" y="2032"/>
                </a:lnTo>
                <a:lnTo>
                  <a:pt x="379" y="2025"/>
                </a:lnTo>
                <a:lnTo>
                  <a:pt x="386" y="2018"/>
                </a:lnTo>
                <a:lnTo>
                  <a:pt x="386" y="2004"/>
                </a:lnTo>
                <a:lnTo>
                  <a:pt x="393" y="1997"/>
                </a:lnTo>
                <a:lnTo>
                  <a:pt x="393" y="1991"/>
                </a:lnTo>
                <a:lnTo>
                  <a:pt x="400" y="1984"/>
                </a:lnTo>
                <a:lnTo>
                  <a:pt x="400" y="1977"/>
                </a:lnTo>
                <a:lnTo>
                  <a:pt x="400" y="1963"/>
                </a:lnTo>
                <a:lnTo>
                  <a:pt x="400" y="1956"/>
                </a:lnTo>
                <a:lnTo>
                  <a:pt x="400" y="1949"/>
                </a:lnTo>
                <a:lnTo>
                  <a:pt x="400" y="1935"/>
                </a:lnTo>
                <a:lnTo>
                  <a:pt x="400" y="1929"/>
                </a:lnTo>
                <a:lnTo>
                  <a:pt x="400" y="1922"/>
                </a:lnTo>
                <a:lnTo>
                  <a:pt x="393" y="1915"/>
                </a:lnTo>
                <a:lnTo>
                  <a:pt x="393" y="1901"/>
                </a:lnTo>
                <a:lnTo>
                  <a:pt x="393" y="1894"/>
                </a:lnTo>
                <a:lnTo>
                  <a:pt x="393" y="1887"/>
                </a:lnTo>
                <a:lnTo>
                  <a:pt x="393" y="1873"/>
                </a:lnTo>
                <a:lnTo>
                  <a:pt x="393" y="1867"/>
                </a:lnTo>
                <a:lnTo>
                  <a:pt x="393" y="1860"/>
                </a:lnTo>
                <a:lnTo>
                  <a:pt x="386" y="1846"/>
                </a:lnTo>
                <a:lnTo>
                  <a:pt x="386" y="1839"/>
                </a:lnTo>
                <a:lnTo>
                  <a:pt x="379" y="1839"/>
                </a:lnTo>
                <a:lnTo>
                  <a:pt x="372" y="1832"/>
                </a:lnTo>
                <a:lnTo>
                  <a:pt x="366" y="1832"/>
                </a:lnTo>
                <a:lnTo>
                  <a:pt x="359" y="1832"/>
                </a:lnTo>
                <a:lnTo>
                  <a:pt x="352" y="1832"/>
                </a:lnTo>
                <a:lnTo>
                  <a:pt x="345" y="1832"/>
                </a:lnTo>
                <a:lnTo>
                  <a:pt x="338" y="1832"/>
                </a:lnTo>
                <a:lnTo>
                  <a:pt x="331" y="1832"/>
                </a:lnTo>
                <a:lnTo>
                  <a:pt x="324" y="1839"/>
                </a:lnTo>
                <a:lnTo>
                  <a:pt x="317" y="1839"/>
                </a:lnTo>
                <a:lnTo>
                  <a:pt x="310" y="1846"/>
                </a:lnTo>
                <a:lnTo>
                  <a:pt x="310" y="1853"/>
                </a:lnTo>
                <a:lnTo>
                  <a:pt x="310" y="1860"/>
                </a:lnTo>
                <a:lnTo>
                  <a:pt x="310" y="1867"/>
                </a:lnTo>
                <a:lnTo>
                  <a:pt x="310" y="1880"/>
                </a:lnTo>
                <a:lnTo>
                  <a:pt x="303" y="1887"/>
                </a:lnTo>
                <a:lnTo>
                  <a:pt x="303" y="1894"/>
                </a:lnTo>
                <a:lnTo>
                  <a:pt x="297" y="1894"/>
                </a:lnTo>
                <a:lnTo>
                  <a:pt x="283" y="1901"/>
                </a:lnTo>
                <a:lnTo>
                  <a:pt x="283" y="1908"/>
                </a:lnTo>
                <a:lnTo>
                  <a:pt x="276" y="1915"/>
                </a:lnTo>
                <a:lnTo>
                  <a:pt x="276" y="1922"/>
                </a:lnTo>
                <a:lnTo>
                  <a:pt x="276" y="1929"/>
                </a:lnTo>
                <a:lnTo>
                  <a:pt x="276" y="1942"/>
                </a:lnTo>
                <a:lnTo>
                  <a:pt x="276" y="1949"/>
                </a:lnTo>
                <a:lnTo>
                  <a:pt x="269" y="1956"/>
                </a:lnTo>
                <a:lnTo>
                  <a:pt x="262" y="1956"/>
                </a:lnTo>
                <a:lnTo>
                  <a:pt x="255" y="1963"/>
                </a:lnTo>
                <a:lnTo>
                  <a:pt x="248" y="1970"/>
                </a:lnTo>
                <a:lnTo>
                  <a:pt x="248" y="1977"/>
                </a:lnTo>
                <a:lnTo>
                  <a:pt x="248" y="1984"/>
                </a:lnTo>
                <a:lnTo>
                  <a:pt x="248" y="1997"/>
                </a:lnTo>
                <a:lnTo>
                  <a:pt x="248" y="2004"/>
                </a:lnTo>
                <a:lnTo>
                  <a:pt x="248" y="2011"/>
                </a:lnTo>
                <a:lnTo>
                  <a:pt x="241" y="2018"/>
                </a:lnTo>
                <a:lnTo>
                  <a:pt x="235" y="2025"/>
                </a:lnTo>
                <a:lnTo>
                  <a:pt x="235" y="2032"/>
                </a:lnTo>
                <a:lnTo>
                  <a:pt x="228" y="2039"/>
                </a:lnTo>
                <a:lnTo>
                  <a:pt x="228" y="2053"/>
                </a:lnTo>
                <a:lnTo>
                  <a:pt x="228" y="2059"/>
                </a:lnTo>
                <a:lnTo>
                  <a:pt x="228" y="2066"/>
                </a:lnTo>
                <a:lnTo>
                  <a:pt x="228" y="2080"/>
                </a:lnTo>
                <a:lnTo>
                  <a:pt x="228" y="2087"/>
                </a:lnTo>
                <a:lnTo>
                  <a:pt x="228" y="2094"/>
                </a:lnTo>
                <a:lnTo>
                  <a:pt x="228" y="2108"/>
                </a:lnTo>
                <a:lnTo>
                  <a:pt x="221" y="2115"/>
                </a:lnTo>
                <a:lnTo>
                  <a:pt x="221" y="2121"/>
                </a:lnTo>
                <a:lnTo>
                  <a:pt x="221" y="2128"/>
                </a:lnTo>
                <a:lnTo>
                  <a:pt x="221" y="2142"/>
                </a:lnTo>
                <a:lnTo>
                  <a:pt x="221" y="2149"/>
                </a:lnTo>
                <a:lnTo>
                  <a:pt x="221" y="2156"/>
                </a:lnTo>
                <a:lnTo>
                  <a:pt x="221" y="2170"/>
                </a:lnTo>
                <a:lnTo>
                  <a:pt x="214" y="2177"/>
                </a:lnTo>
                <a:lnTo>
                  <a:pt x="214" y="2183"/>
                </a:lnTo>
                <a:lnTo>
                  <a:pt x="214" y="2190"/>
                </a:lnTo>
                <a:lnTo>
                  <a:pt x="214" y="2204"/>
                </a:lnTo>
                <a:lnTo>
                  <a:pt x="214" y="2211"/>
                </a:lnTo>
                <a:lnTo>
                  <a:pt x="214" y="2218"/>
                </a:lnTo>
                <a:lnTo>
                  <a:pt x="214" y="2232"/>
                </a:lnTo>
                <a:lnTo>
                  <a:pt x="214" y="2239"/>
                </a:lnTo>
                <a:lnTo>
                  <a:pt x="207" y="2245"/>
                </a:lnTo>
                <a:lnTo>
                  <a:pt x="207" y="2259"/>
                </a:lnTo>
                <a:lnTo>
                  <a:pt x="207" y="2266"/>
                </a:lnTo>
                <a:lnTo>
                  <a:pt x="200" y="2273"/>
                </a:lnTo>
                <a:lnTo>
                  <a:pt x="207" y="2280"/>
                </a:lnTo>
                <a:lnTo>
                  <a:pt x="214" y="2287"/>
                </a:lnTo>
                <a:lnTo>
                  <a:pt x="221" y="2287"/>
                </a:lnTo>
                <a:lnTo>
                  <a:pt x="228" y="2280"/>
                </a:lnTo>
                <a:lnTo>
                  <a:pt x="228" y="2273"/>
                </a:lnTo>
                <a:lnTo>
                  <a:pt x="228" y="2266"/>
                </a:lnTo>
                <a:lnTo>
                  <a:pt x="228" y="2252"/>
                </a:lnTo>
                <a:lnTo>
                  <a:pt x="235" y="2245"/>
                </a:lnTo>
                <a:lnTo>
                  <a:pt x="241" y="2245"/>
                </a:lnTo>
                <a:lnTo>
                  <a:pt x="248" y="2245"/>
                </a:lnTo>
                <a:lnTo>
                  <a:pt x="255" y="2239"/>
                </a:lnTo>
                <a:lnTo>
                  <a:pt x="255" y="2232"/>
                </a:lnTo>
                <a:lnTo>
                  <a:pt x="262" y="2218"/>
                </a:lnTo>
                <a:lnTo>
                  <a:pt x="269" y="2211"/>
                </a:lnTo>
                <a:lnTo>
                  <a:pt x="269" y="2211"/>
                </a:lnTo>
                <a:lnTo>
                  <a:pt x="276" y="2204"/>
                </a:lnTo>
                <a:lnTo>
                  <a:pt x="283" y="2204"/>
                </a:lnTo>
                <a:lnTo>
                  <a:pt x="290" y="2197"/>
                </a:lnTo>
                <a:lnTo>
                  <a:pt x="297" y="2190"/>
                </a:lnTo>
                <a:lnTo>
                  <a:pt x="303" y="2190"/>
                </a:lnTo>
                <a:lnTo>
                  <a:pt x="310" y="2183"/>
                </a:lnTo>
                <a:lnTo>
                  <a:pt x="317" y="2177"/>
                </a:lnTo>
                <a:lnTo>
                  <a:pt x="324" y="2177"/>
                </a:lnTo>
                <a:lnTo>
                  <a:pt x="331" y="2177"/>
                </a:lnTo>
                <a:lnTo>
                  <a:pt x="338" y="2183"/>
                </a:lnTo>
                <a:lnTo>
                  <a:pt x="345" y="2183"/>
                </a:lnTo>
                <a:lnTo>
                  <a:pt x="345" y="2190"/>
                </a:lnTo>
                <a:lnTo>
                  <a:pt x="352" y="2197"/>
                </a:lnTo>
                <a:lnTo>
                  <a:pt x="359" y="2204"/>
                </a:lnTo>
                <a:lnTo>
                  <a:pt x="366" y="2204"/>
                </a:lnTo>
                <a:lnTo>
                  <a:pt x="372" y="2211"/>
                </a:lnTo>
                <a:lnTo>
                  <a:pt x="379" y="2218"/>
                </a:lnTo>
                <a:lnTo>
                  <a:pt x="379" y="2225"/>
                </a:lnTo>
                <a:lnTo>
                  <a:pt x="386" y="2232"/>
                </a:lnTo>
                <a:lnTo>
                  <a:pt x="393" y="2232"/>
                </a:lnTo>
                <a:lnTo>
                  <a:pt x="400" y="2239"/>
                </a:lnTo>
                <a:lnTo>
                  <a:pt x="407" y="2245"/>
                </a:lnTo>
                <a:lnTo>
                  <a:pt x="414" y="2252"/>
                </a:lnTo>
                <a:lnTo>
                  <a:pt x="414" y="2252"/>
                </a:lnTo>
                <a:lnTo>
                  <a:pt x="421" y="2259"/>
                </a:lnTo>
                <a:lnTo>
                  <a:pt x="428" y="2266"/>
                </a:lnTo>
                <a:lnTo>
                  <a:pt x="434" y="2273"/>
                </a:lnTo>
                <a:lnTo>
                  <a:pt x="441" y="2280"/>
                </a:lnTo>
                <a:lnTo>
                  <a:pt x="448" y="2280"/>
                </a:lnTo>
                <a:lnTo>
                  <a:pt x="448" y="2287"/>
                </a:lnTo>
                <a:lnTo>
                  <a:pt x="455" y="2294"/>
                </a:lnTo>
                <a:lnTo>
                  <a:pt x="462" y="2301"/>
                </a:lnTo>
                <a:lnTo>
                  <a:pt x="462" y="2307"/>
                </a:lnTo>
                <a:lnTo>
                  <a:pt x="462" y="2321"/>
                </a:lnTo>
                <a:lnTo>
                  <a:pt x="469" y="2328"/>
                </a:lnTo>
                <a:lnTo>
                  <a:pt x="469" y="2335"/>
                </a:lnTo>
                <a:lnTo>
                  <a:pt x="476" y="2342"/>
                </a:lnTo>
                <a:lnTo>
                  <a:pt x="476" y="2349"/>
                </a:lnTo>
                <a:lnTo>
                  <a:pt x="483" y="2356"/>
                </a:lnTo>
                <a:lnTo>
                  <a:pt x="483" y="2369"/>
                </a:lnTo>
                <a:lnTo>
                  <a:pt x="490" y="2376"/>
                </a:lnTo>
                <a:lnTo>
                  <a:pt x="490" y="2383"/>
                </a:lnTo>
                <a:lnTo>
                  <a:pt x="497" y="2390"/>
                </a:lnTo>
                <a:lnTo>
                  <a:pt x="497" y="2397"/>
                </a:lnTo>
                <a:lnTo>
                  <a:pt x="503" y="2404"/>
                </a:lnTo>
                <a:lnTo>
                  <a:pt x="503" y="2411"/>
                </a:lnTo>
                <a:lnTo>
                  <a:pt x="510" y="2418"/>
                </a:lnTo>
                <a:lnTo>
                  <a:pt x="517" y="2425"/>
                </a:lnTo>
                <a:lnTo>
                  <a:pt x="517" y="2431"/>
                </a:lnTo>
                <a:lnTo>
                  <a:pt x="524" y="2438"/>
                </a:lnTo>
                <a:lnTo>
                  <a:pt x="524" y="2445"/>
                </a:lnTo>
                <a:lnTo>
                  <a:pt x="531" y="2459"/>
                </a:lnTo>
                <a:lnTo>
                  <a:pt x="538" y="2466"/>
                </a:lnTo>
                <a:lnTo>
                  <a:pt x="538" y="2473"/>
                </a:lnTo>
                <a:lnTo>
                  <a:pt x="545" y="2480"/>
                </a:lnTo>
                <a:lnTo>
                  <a:pt x="552" y="2487"/>
                </a:lnTo>
                <a:lnTo>
                  <a:pt x="552" y="2493"/>
                </a:lnTo>
                <a:lnTo>
                  <a:pt x="559" y="2500"/>
                </a:lnTo>
                <a:lnTo>
                  <a:pt x="559" y="2507"/>
                </a:lnTo>
                <a:lnTo>
                  <a:pt x="565" y="2514"/>
                </a:lnTo>
                <a:lnTo>
                  <a:pt x="572" y="2521"/>
                </a:lnTo>
                <a:lnTo>
                  <a:pt x="572" y="2528"/>
                </a:lnTo>
                <a:lnTo>
                  <a:pt x="579" y="2535"/>
                </a:lnTo>
                <a:lnTo>
                  <a:pt x="586" y="2542"/>
                </a:lnTo>
                <a:lnTo>
                  <a:pt x="586" y="2548"/>
                </a:lnTo>
                <a:lnTo>
                  <a:pt x="593" y="2555"/>
                </a:lnTo>
                <a:lnTo>
                  <a:pt x="593" y="2562"/>
                </a:lnTo>
                <a:lnTo>
                  <a:pt x="593" y="2569"/>
                </a:lnTo>
                <a:lnTo>
                  <a:pt x="593" y="2583"/>
                </a:lnTo>
                <a:lnTo>
                  <a:pt x="586" y="2590"/>
                </a:lnTo>
                <a:lnTo>
                  <a:pt x="579" y="2597"/>
                </a:lnTo>
                <a:lnTo>
                  <a:pt x="579" y="2604"/>
                </a:lnTo>
                <a:lnTo>
                  <a:pt x="572" y="2610"/>
                </a:lnTo>
                <a:lnTo>
                  <a:pt x="565" y="2617"/>
                </a:lnTo>
                <a:lnTo>
                  <a:pt x="565" y="2624"/>
                </a:lnTo>
                <a:lnTo>
                  <a:pt x="559" y="2631"/>
                </a:lnTo>
                <a:lnTo>
                  <a:pt x="559" y="2638"/>
                </a:lnTo>
                <a:lnTo>
                  <a:pt x="552" y="2645"/>
                </a:lnTo>
                <a:lnTo>
                  <a:pt x="545" y="2652"/>
                </a:lnTo>
                <a:lnTo>
                  <a:pt x="538" y="2659"/>
                </a:lnTo>
                <a:lnTo>
                  <a:pt x="538" y="2666"/>
                </a:lnTo>
                <a:lnTo>
                  <a:pt x="531" y="2672"/>
                </a:lnTo>
                <a:lnTo>
                  <a:pt x="524" y="2679"/>
                </a:lnTo>
                <a:lnTo>
                  <a:pt x="524" y="2686"/>
                </a:lnTo>
                <a:lnTo>
                  <a:pt x="517" y="2693"/>
                </a:lnTo>
                <a:lnTo>
                  <a:pt x="510" y="2700"/>
                </a:lnTo>
                <a:lnTo>
                  <a:pt x="503" y="2707"/>
                </a:lnTo>
                <a:lnTo>
                  <a:pt x="503" y="2714"/>
                </a:lnTo>
                <a:lnTo>
                  <a:pt x="497" y="2721"/>
                </a:lnTo>
                <a:lnTo>
                  <a:pt x="490" y="2728"/>
                </a:lnTo>
                <a:lnTo>
                  <a:pt x="490" y="2734"/>
                </a:lnTo>
                <a:lnTo>
                  <a:pt x="483" y="2734"/>
                </a:lnTo>
                <a:lnTo>
                  <a:pt x="476" y="2741"/>
                </a:lnTo>
                <a:lnTo>
                  <a:pt x="476" y="2748"/>
                </a:lnTo>
                <a:lnTo>
                  <a:pt x="469" y="2755"/>
                </a:lnTo>
                <a:lnTo>
                  <a:pt x="462" y="2762"/>
                </a:lnTo>
                <a:lnTo>
                  <a:pt x="455" y="2769"/>
                </a:lnTo>
                <a:lnTo>
                  <a:pt x="455" y="2776"/>
                </a:lnTo>
                <a:lnTo>
                  <a:pt x="448" y="2783"/>
                </a:lnTo>
                <a:lnTo>
                  <a:pt x="441" y="2790"/>
                </a:lnTo>
                <a:lnTo>
                  <a:pt x="441" y="2796"/>
                </a:lnTo>
                <a:lnTo>
                  <a:pt x="434" y="2803"/>
                </a:lnTo>
                <a:lnTo>
                  <a:pt x="428" y="2810"/>
                </a:lnTo>
                <a:lnTo>
                  <a:pt x="428" y="2817"/>
                </a:lnTo>
                <a:lnTo>
                  <a:pt x="421" y="2824"/>
                </a:lnTo>
                <a:lnTo>
                  <a:pt x="414" y="2831"/>
                </a:lnTo>
                <a:lnTo>
                  <a:pt x="414" y="2838"/>
                </a:lnTo>
                <a:lnTo>
                  <a:pt x="407" y="2845"/>
                </a:lnTo>
                <a:lnTo>
                  <a:pt x="400" y="2852"/>
                </a:lnTo>
                <a:lnTo>
                  <a:pt x="393" y="2852"/>
                </a:lnTo>
                <a:lnTo>
                  <a:pt x="386" y="2858"/>
                </a:lnTo>
                <a:lnTo>
                  <a:pt x="386" y="2865"/>
                </a:lnTo>
                <a:lnTo>
                  <a:pt x="379" y="2872"/>
                </a:lnTo>
                <a:lnTo>
                  <a:pt x="372" y="2879"/>
                </a:lnTo>
                <a:lnTo>
                  <a:pt x="366" y="2879"/>
                </a:lnTo>
                <a:lnTo>
                  <a:pt x="359" y="2879"/>
                </a:lnTo>
                <a:lnTo>
                  <a:pt x="352" y="2886"/>
                </a:lnTo>
                <a:lnTo>
                  <a:pt x="345" y="2886"/>
                </a:lnTo>
                <a:lnTo>
                  <a:pt x="338" y="2886"/>
                </a:lnTo>
                <a:lnTo>
                  <a:pt x="331" y="2893"/>
                </a:lnTo>
                <a:lnTo>
                  <a:pt x="324" y="2893"/>
                </a:lnTo>
                <a:lnTo>
                  <a:pt x="317" y="2893"/>
                </a:lnTo>
                <a:lnTo>
                  <a:pt x="310" y="2900"/>
                </a:lnTo>
                <a:lnTo>
                  <a:pt x="303" y="2900"/>
                </a:lnTo>
                <a:lnTo>
                  <a:pt x="297" y="2900"/>
                </a:lnTo>
                <a:lnTo>
                  <a:pt x="290" y="2907"/>
                </a:lnTo>
                <a:lnTo>
                  <a:pt x="283" y="2907"/>
                </a:lnTo>
                <a:lnTo>
                  <a:pt x="276" y="2907"/>
                </a:lnTo>
                <a:lnTo>
                  <a:pt x="269" y="2914"/>
                </a:lnTo>
                <a:lnTo>
                  <a:pt x="262" y="2914"/>
                </a:lnTo>
                <a:lnTo>
                  <a:pt x="255" y="2914"/>
                </a:lnTo>
                <a:lnTo>
                  <a:pt x="248" y="2920"/>
                </a:lnTo>
                <a:lnTo>
                  <a:pt x="241" y="2920"/>
                </a:lnTo>
                <a:lnTo>
                  <a:pt x="235" y="2927"/>
                </a:lnTo>
                <a:lnTo>
                  <a:pt x="228" y="2927"/>
                </a:lnTo>
                <a:lnTo>
                  <a:pt x="221" y="2927"/>
                </a:lnTo>
                <a:lnTo>
                  <a:pt x="214" y="2934"/>
                </a:lnTo>
                <a:lnTo>
                  <a:pt x="207" y="2934"/>
                </a:lnTo>
                <a:lnTo>
                  <a:pt x="200" y="2934"/>
                </a:lnTo>
                <a:lnTo>
                  <a:pt x="193" y="2941"/>
                </a:lnTo>
                <a:lnTo>
                  <a:pt x="186" y="2941"/>
                </a:lnTo>
                <a:lnTo>
                  <a:pt x="179" y="2941"/>
                </a:lnTo>
                <a:lnTo>
                  <a:pt x="172" y="2948"/>
                </a:lnTo>
                <a:lnTo>
                  <a:pt x="166" y="2948"/>
                </a:lnTo>
                <a:lnTo>
                  <a:pt x="186" y="2969"/>
                </a:lnTo>
                <a:lnTo>
                  <a:pt x="221" y="2969"/>
                </a:lnTo>
                <a:lnTo>
                  <a:pt x="255" y="3003"/>
                </a:lnTo>
                <a:lnTo>
                  <a:pt x="283" y="3003"/>
                </a:lnTo>
                <a:lnTo>
                  <a:pt x="317" y="3031"/>
                </a:lnTo>
                <a:lnTo>
                  <a:pt x="345" y="3031"/>
                </a:lnTo>
                <a:lnTo>
                  <a:pt x="379" y="3031"/>
                </a:lnTo>
                <a:close/>
                <a:moveTo>
                  <a:pt x="1345" y="2342"/>
                </a:moveTo>
                <a:lnTo>
                  <a:pt x="1379" y="2314"/>
                </a:lnTo>
                <a:lnTo>
                  <a:pt x="1393" y="2314"/>
                </a:lnTo>
                <a:lnTo>
                  <a:pt x="1393" y="2307"/>
                </a:lnTo>
                <a:lnTo>
                  <a:pt x="1400" y="2301"/>
                </a:lnTo>
                <a:lnTo>
                  <a:pt x="1407" y="2294"/>
                </a:lnTo>
                <a:lnTo>
                  <a:pt x="1420" y="2294"/>
                </a:lnTo>
                <a:lnTo>
                  <a:pt x="1427" y="2287"/>
                </a:lnTo>
                <a:lnTo>
                  <a:pt x="1427" y="2280"/>
                </a:lnTo>
                <a:lnTo>
                  <a:pt x="1427" y="2273"/>
                </a:lnTo>
                <a:lnTo>
                  <a:pt x="1420" y="2259"/>
                </a:lnTo>
                <a:lnTo>
                  <a:pt x="1414" y="2259"/>
                </a:lnTo>
                <a:lnTo>
                  <a:pt x="1407" y="2252"/>
                </a:lnTo>
                <a:lnTo>
                  <a:pt x="1400" y="2259"/>
                </a:lnTo>
                <a:lnTo>
                  <a:pt x="1393" y="2266"/>
                </a:lnTo>
                <a:lnTo>
                  <a:pt x="1386" y="2273"/>
                </a:lnTo>
                <a:lnTo>
                  <a:pt x="1379" y="2280"/>
                </a:lnTo>
                <a:lnTo>
                  <a:pt x="1372" y="2287"/>
                </a:lnTo>
                <a:lnTo>
                  <a:pt x="1365" y="2294"/>
                </a:lnTo>
                <a:lnTo>
                  <a:pt x="1358" y="2294"/>
                </a:lnTo>
                <a:lnTo>
                  <a:pt x="1352" y="2301"/>
                </a:lnTo>
                <a:lnTo>
                  <a:pt x="1345" y="2307"/>
                </a:lnTo>
                <a:lnTo>
                  <a:pt x="1331" y="2307"/>
                </a:lnTo>
                <a:lnTo>
                  <a:pt x="1324" y="2314"/>
                </a:lnTo>
                <a:lnTo>
                  <a:pt x="1324" y="2321"/>
                </a:lnTo>
                <a:lnTo>
                  <a:pt x="1310" y="2328"/>
                </a:lnTo>
                <a:lnTo>
                  <a:pt x="1303" y="2328"/>
                </a:lnTo>
                <a:lnTo>
                  <a:pt x="1296" y="2335"/>
                </a:lnTo>
                <a:lnTo>
                  <a:pt x="1289" y="2342"/>
                </a:lnTo>
                <a:lnTo>
                  <a:pt x="1289" y="2349"/>
                </a:lnTo>
                <a:lnTo>
                  <a:pt x="1289" y="2349"/>
                </a:lnTo>
                <a:lnTo>
                  <a:pt x="1296" y="2356"/>
                </a:lnTo>
                <a:lnTo>
                  <a:pt x="1310" y="2363"/>
                </a:lnTo>
                <a:lnTo>
                  <a:pt x="1317" y="2363"/>
                </a:lnTo>
                <a:lnTo>
                  <a:pt x="1324" y="2363"/>
                </a:lnTo>
                <a:lnTo>
                  <a:pt x="1331" y="2356"/>
                </a:lnTo>
                <a:lnTo>
                  <a:pt x="1338" y="2356"/>
                </a:lnTo>
                <a:lnTo>
                  <a:pt x="1345" y="2349"/>
                </a:lnTo>
                <a:lnTo>
                  <a:pt x="1345" y="2342"/>
                </a:lnTo>
                <a:close/>
                <a:moveTo>
                  <a:pt x="1476" y="2252"/>
                </a:moveTo>
                <a:lnTo>
                  <a:pt x="1469" y="2239"/>
                </a:lnTo>
                <a:lnTo>
                  <a:pt x="1455" y="2232"/>
                </a:lnTo>
                <a:lnTo>
                  <a:pt x="1448" y="2225"/>
                </a:lnTo>
                <a:lnTo>
                  <a:pt x="1441" y="2225"/>
                </a:lnTo>
                <a:lnTo>
                  <a:pt x="1434" y="2232"/>
                </a:lnTo>
                <a:lnTo>
                  <a:pt x="1420" y="2239"/>
                </a:lnTo>
                <a:lnTo>
                  <a:pt x="1420" y="2245"/>
                </a:lnTo>
                <a:lnTo>
                  <a:pt x="1420" y="2252"/>
                </a:lnTo>
                <a:lnTo>
                  <a:pt x="1427" y="2259"/>
                </a:lnTo>
                <a:lnTo>
                  <a:pt x="1441" y="2266"/>
                </a:lnTo>
                <a:lnTo>
                  <a:pt x="1448" y="2266"/>
                </a:lnTo>
                <a:lnTo>
                  <a:pt x="1455" y="2266"/>
                </a:lnTo>
                <a:lnTo>
                  <a:pt x="1462" y="2259"/>
                </a:lnTo>
                <a:lnTo>
                  <a:pt x="1476" y="2252"/>
                </a:lnTo>
                <a:close/>
                <a:moveTo>
                  <a:pt x="1517" y="2218"/>
                </a:moveTo>
                <a:lnTo>
                  <a:pt x="1517" y="2211"/>
                </a:lnTo>
                <a:lnTo>
                  <a:pt x="1524" y="2204"/>
                </a:lnTo>
                <a:lnTo>
                  <a:pt x="1531" y="2197"/>
                </a:lnTo>
                <a:lnTo>
                  <a:pt x="1538" y="2197"/>
                </a:lnTo>
                <a:lnTo>
                  <a:pt x="1545" y="2190"/>
                </a:lnTo>
                <a:lnTo>
                  <a:pt x="1551" y="2183"/>
                </a:lnTo>
                <a:lnTo>
                  <a:pt x="1558" y="2183"/>
                </a:lnTo>
                <a:lnTo>
                  <a:pt x="1565" y="2170"/>
                </a:lnTo>
                <a:lnTo>
                  <a:pt x="1565" y="2163"/>
                </a:lnTo>
                <a:lnTo>
                  <a:pt x="1565" y="2156"/>
                </a:lnTo>
                <a:lnTo>
                  <a:pt x="1565" y="2149"/>
                </a:lnTo>
                <a:lnTo>
                  <a:pt x="1565" y="2135"/>
                </a:lnTo>
                <a:lnTo>
                  <a:pt x="1558" y="2128"/>
                </a:lnTo>
                <a:lnTo>
                  <a:pt x="1558" y="2121"/>
                </a:lnTo>
                <a:lnTo>
                  <a:pt x="1551" y="2115"/>
                </a:lnTo>
                <a:lnTo>
                  <a:pt x="1551" y="2101"/>
                </a:lnTo>
                <a:lnTo>
                  <a:pt x="1545" y="2094"/>
                </a:lnTo>
                <a:lnTo>
                  <a:pt x="1545" y="2087"/>
                </a:lnTo>
                <a:lnTo>
                  <a:pt x="1538" y="2080"/>
                </a:lnTo>
                <a:lnTo>
                  <a:pt x="1538" y="2066"/>
                </a:lnTo>
                <a:lnTo>
                  <a:pt x="1538" y="2059"/>
                </a:lnTo>
                <a:lnTo>
                  <a:pt x="1545" y="2053"/>
                </a:lnTo>
                <a:lnTo>
                  <a:pt x="1551" y="2046"/>
                </a:lnTo>
                <a:lnTo>
                  <a:pt x="1551" y="2039"/>
                </a:lnTo>
                <a:lnTo>
                  <a:pt x="1558" y="2032"/>
                </a:lnTo>
                <a:lnTo>
                  <a:pt x="1558" y="2025"/>
                </a:lnTo>
                <a:lnTo>
                  <a:pt x="1551" y="2018"/>
                </a:lnTo>
                <a:lnTo>
                  <a:pt x="1551" y="2004"/>
                </a:lnTo>
                <a:lnTo>
                  <a:pt x="1545" y="2004"/>
                </a:lnTo>
                <a:lnTo>
                  <a:pt x="1538" y="1997"/>
                </a:lnTo>
                <a:lnTo>
                  <a:pt x="1531" y="2004"/>
                </a:lnTo>
                <a:lnTo>
                  <a:pt x="1524" y="2011"/>
                </a:lnTo>
                <a:lnTo>
                  <a:pt x="1517" y="2025"/>
                </a:lnTo>
                <a:lnTo>
                  <a:pt x="1517" y="2032"/>
                </a:lnTo>
                <a:lnTo>
                  <a:pt x="1510" y="2039"/>
                </a:lnTo>
                <a:lnTo>
                  <a:pt x="1503" y="2039"/>
                </a:lnTo>
                <a:lnTo>
                  <a:pt x="1496" y="2046"/>
                </a:lnTo>
                <a:lnTo>
                  <a:pt x="1489" y="2053"/>
                </a:lnTo>
                <a:lnTo>
                  <a:pt x="1489" y="2059"/>
                </a:lnTo>
                <a:lnTo>
                  <a:pt x="1483" y="2066"/>
                </a:lnTo>
                <a:lnTo>
                  <a:pt x="1476" y="2073"/>
                </a:lnTo>
                <a:lnTo>
                  <a:pt x="1469" y="2073"/>
                </a:lnTo>
                <a:lnTo>
                  <a:pt x="1462" y="2080"/>
                </a:lnTo>
                <a:lnTo>
                  <a:pt x="1455" y="2080"/>
                </a:lnTo>
                <a:lnTo>
                  <a:pt x="1448" y="2080"/>
                </a:lnTo>
                <a:lnTo>
                  <a:pt x="1441" y="2087"/>
                </a:lnTo>
                <a:lnTo>
                  <a:pt x="1434" y="2087"/>
                </a:lnTo>
                <a:lnTo>
                  <a:pt x="1427" y="2094"/>
                </a:lnTo>
                <a:lnTo>
                  <a:pt x="1420" y="2101"/>
                </a:lnTo>
                <a:lnTo>
                  <a:pt x="1414" y="2108"/>
                </a:lnTo>
                <a:lnTo>
                  <a:pt x="1414" y="2115"/>
                </a:lnTo>
                <a:lnTo>
                  <a:pt x="1407" y="2115"/>
                </a:lnTo>
                <a:lnTo>
                  <a:pt x="1400" y="2115"/>
                </a:lnTo>
                <a:lnTo>
                  <a:pt x="1393" y="2121"/>
                </a:lnTo>
                <a:lnTo>
                  <a:pt x="1379" y="2121"/>
                </a:lnTo>
                <a:lnTo>
                  <a:pt x="1372" y="2121"/>
                </a:lnTo>
                <a:lnTo>
                  <a:pt x="1365" y="2128"/>
                </a:lnTo>
                <a:lnTo>
                  <a:pt x="1365" y="2135"/>
                </a:lnTo>
                <a:lnTo>
                  <a:pt x="1372" y="2149"/>
                </a:lnTo>
                <a:lnTo>
                  <a:pt x="1372" y="2156"/>
                </a:lnTo>
                <a:lnTo>
                  <a:pt x="1379" y="2163"/>
                </a:lnTo>
                <a:lnTo>
                  <a:pt x="1386" y="2163"/>
                </a:lnTo>
                <a:lnTo>
                  <a:pt x="1393" y="2170"/>
                </a:lnTo>
                <a:lnTo>
                  <a:pt x="1400" y="2177"/>
                </a:lnTo>
                <a:lnTo>
                  <a:pt x="1407" y="2177"/>
                </a:lnTo>
                <a:lnTo>
                  <a:pt x="1414" y="2183"/>
                </a:lnTo>
                <a:lnTo>
                  <a:pt x="1414" y="2190"/>
                </a:lnTo>
                <a:lnTo>
                  <a:pt x="1420" y="2197"/>
                </a:lnTo>
                <a:lnTo>
                  <a:pt x="1427" y="2204"/>
                </a:lnTo>
                <a:lnTo>
                  <a:pt x="1434" y="2204"/>
                </a:lnTo>
                <a:lnTo>
                  <a:pt x="1441" y="2211"/>
                </a:lnTo>
                <a:lnTo>
                  <a:pt x="1448" y="2218"/>
                </a:lnTo>
                <a:lnTo>
                  <a:pt x="1455" y="2225"/>
                </a:lnTo>
                <a:lnTo>
                  <a:pt x="1455" y="2232"/>
                </a:lnTo>
                <a:lnTo>
                  <a:pt x="1462" y="2239"/>
                </a:lnTo>
                <a:lnTo>
                  <a:pt x="1469" y="2245"/>
                </a:lnTo>
                <a:lnTo>
                  <a:pt x="1476" y="2252"/>
                </a:lnTo>
                <a:lnTo>
                  <a:pt x="1503" y="2218"/>
                </a:lnTo>
                <a:lnTo>
                  <a:pt x="1517" y="2218"/>
                </a:lnTo>
                <a:close/>
                <a:moveTo>
                  <a:pt x="910" y="2190"/>
                </a:moveTo>
                <a:lnTo>
                  <a:pt x="910" y="2177"/>
                </a:lnTo>
                <a:lnTo>
                  <a:pt x="910" y="2170"/>
                </a:lnTo>
                <a:lnTo>
                  <a:pt x="910" y="2163"/>
                </a:lnTo>
                <a:lnTo>
                  <a:pt x="917" y="2156"/>
                </a:lnTo>
                <a:lnTo>
                  <a:pt x="917" y="2149"/>
                </a:lnTo>
                <a:lnTo>
                  <a:pt x="917" y="2135"/>
                </a:lnTo>
                <a:lnTo>
                  <a:pt x="917" y="2128"/>
                </a:lnTo>
                <a:lnTo>
                  <a:pt x="924" y="2121"/>
                </a:lnTo>
                <a:lnTo>
                  <a:pt x="924" y="2121"/>
                </a:lnTo>
                <a:lnTo>
                  <a:pt x="931" y="2115"/>
                </a:lnTo>
                <a:lnTo>
                  <a:pt x="938" y="2108"/>
                </a:lnTo>
                <a:lnTo>
                  <a:pt x="945" y="2101"/>
                </a:lnTo>
                <a:lnTo>
                  <a:pt x="952" y="2101"/>
                </a:lnTo>
                <a:lnTo>
                  <a:pt x="952" y="2094"/>
                </a:lnTo>
                <a:lnTo>
                  <a:pt x="945" y="2087"/>
                </a:lnTo>
                <a:lnTo>
                  <a:pt x="938" y="2080"/>
                </a:lnTo>
                <a:lnTo>
                  <a:pt x="931" y="2080"/>
                </a:lnTo>
                <a:lnTo>
                  <a:pt x="931" y="2073"/>
                </a:lnTo>
                <a:lnTo>
                  <a:pt x="924" y="2066"/>
                </a:lnTo>
                <a:lnTo>
                  <a:pt x="917" y="2059"/>
                </a:lnTo>
                <a:lnTo>
                  <a:pt x="910" y="2059"/>
                </a:lnTo>
                <a:lnTo>
                  <a:pt x="910" y="2053"/>
                </a:lnTo>
                <a:lnTo>
                  <a:pt x="903" y="2053"/>
                </a:lnTo>
                <a:lnTo>
                  <a:pt x="896" y="2053"/>
                </a:lnTo>
                <a:lnTo>
                  <a:pt x="890" y="2046"/>
                </a:lnTo>
                <a:lnTo>
                  <a:pt x="883" y="2046"/>
                </a:lnTo>
                <a:lnTo>
                  <a:pt x="876" y="2046"/>
                </a:lnTo>
                <a:lnTo>
                  <a:pt x="869" y="2046"/>
                </a:lnTo>
                <a:lnTo>
                  <a:pt x="862" y="2039"/>
                </a:lnTo>
                <a:lnTo>
                  <a:pt x="855" y="2039"/>
                </a:lnTo>
                <a:lnTo>
                  <a:pt x="848" y="2039"/>
                </a:lnTo>
                <a:lnTo>
                  <a:pt x="841" y="2039"/>
                </a:lnTo>
                <a:lnTo>
                  <a:pt x="834" y="2039"/>
                </a:lnTo>
                <a:lnTo>
                  <a:pt x="828" y="2032"/>
                </a:lnTo>
                <a:lnTo>
                  <a:pt x="821" y="2032"/>
                </a:lnTo>
                <a:lnTo>
                  <a:pt x="821" y="2032"/>
                </a:lnTo>
                <a:lnTo>
                  <a:pt x="814" y="2032"/>
                </a:lnTo>
                <a:lnTo>
                  <a:pt x="807" y="2032"/>
                </a:lnTo>
                <a:lnTo>
                  <a:pt x="800" y="2039"/>
                </a:lnTo>
                <a:lnTo>
                  <a:pt x="793" y="2039"/>
                </a:lnTo>
                <a:lnTo>
                  <a:pt x="786" y="2046"/>
                </a:lnTo>
                <a:lnTo>
                  <a:pt x="779" y="2046"/>
                </a:lnTo>
                <a:lnTo>
                  <a:pt x="772" y="2053"/>
                </a:lnTo>
                <a:lnTo>
                  <a:pt x="765" y="2059"/>
                </a:lnTo>
                <a:lnTo>
                  <a:pt x="765" y="2059"/>
                </a:lnTo>
                <a:lnTo>
                  <a:pt x="765" y="2066"/>
                </a:lnTo>
                <a:lnTo>
                  <a:pt x="765" y="2066"/>
                </a:lnTo>
                <a:lnTo>
                  <a:pt x="772" y="2073"/>
                </a:lnTo>
                <a:lnTo>
                  <a:pt x="786" y="2073"/>
                </a:lnTo>
                <a:lnTo>
                  <a:pt x="793" y="2073"/>
                </a:lnTo>
                <a:lnTo>
                  <a:pt x="800" y="2080"/>
                </a:lnTo>
                <a:lnTo>
                  <a:pt x="807" y="2080"/>
                </a:lnTo>
                <a:lnTo>
                  <a:pt x="807" y="2087"/>
                </a:lnTo>
                <a:lnTo>
                  <a:pt x="814" y="2087"/>
                </a:lnTo>
                <a:lnTo>
                  <a:pt x="821" y="2094"/>
                </a:lnTo>
                <a:lnTo>
                  <a:pt x="828" y="2101"/>
                </a:lnTo>
                <a:lnTo>
                  <a:pt x="828" y="2108"/>
                </a:lnTo>
                <a:lnTo>
                  <a:pt x="834" y="2115"/>
                </a:lnTo>
                <a:lnTo>
                  <a:pt x="841" y="2115"/>
                </a:lnTo>
                <a:lnTo>
                  <a:pt x="841" y="2121"/>
                </a:lnTo>
                <a:lnTo>
                  <a:pt x="848" y="2128"/>
                </a:lnTo>
                <a:lnTo>
                  <a:pt x="848" y="2135"/>
                </a:lnTo>
                <a:lnTo>
                  <a:pt x="855" y="2142"/>
                </a:lnTo>
                <a:lnTo>
                  <a:pt x="862" y="2149"/>
                </a:lnTo>
                <a:lnTo>
                  <a:pt x="862" y="2156"/>
                </a:lnTo>
                <a:lnTo>
                  <a:pt x="869" y="2163"/>
                </a:lnTo>
                <a:lnTo>
                  <a:pt x="869" y="2170"/>
                </a:lnTo>
                <a:lnTo>
                  <a:pt x="876" y="2177"/>
                </a:lnTo>
                <a:lnTo>
                  <a:pt x="883" y="2177"/>
                </a:lnTo>
                <a:lnTo>
                  <a:pt x="890" y="2183"/>
                </a:lnTo>
                <a:lnTo>
                  <a:pt x="896" y="2183"/>
                </a:lnTo>
                <a:lnTo>
                  <a:pt x="896" y="2183"/>
                </a:lnTo>
                <a:lnTo>
                  <a:pt x="903" y="2190"/>
                </a:lnTo>
                <a:lnTo>
                  <a:pt x="910" y="2190"/>
                </a:lnTo>
                <a:close/>
                <a:moveTo>
                  <a:pt x="1172" y="2094"/>
                </a:moveTo>
                <a:lnTo>
                  <a:pt x="1172" y="2087"/>
                </a:lnTo>
                <a:lnTo>
                  <a:pt x="1179" y="2073"/>
                </a:lnTo>
                <a:lnTo>
                  <a:pt x="1179" y="2066"/>
                </a:lnTo>
                <a:lnTo>
                  <a:pt x="1172" y="2059"/>
                </a:lnTo>
                <a:lnTo>
                  <a:pt x="1172" y="2046"/>
                </a:lnTo>
                <a:lnTo>
                  <a:pt x="1165" y="2039"/>
                </a:lnTo>
                <a:lnTo>
                  <a:pt x="1158" y="2039"/>
                </a:lnTo>
                <a:lnTo>
                  <a:pt x="1158" y="2046"/>
                </a:lnTo>
                <a:lnTo>
                  <a:pt x="1152" y="2059"/>
                </a:lnTo>
                <a:lnTo>
                  <a:pt x="1145" y="2066"/>
                </a:lnTo>
                <a:lnTo>
                  <a:pt x="1145" y="2073"/>
                </a:lnTo>
                <a:lnTo>
                  <a:pt x="1138" y="2080"/>
                </a:lnTo>
                <a:lnTo>
                  <a:pt x="1131" y="2087"/>
                </a:lnTo>
                <a:lnTo>
                  <a:pt x="1131" y="2094"/>
                </a:lnTo>
                <a:lnTo>
                  <a:pt x="1131" y="2101"/>
                </a:lnTo>
                <a:lnTo>
                  <a:pt x="1145" y="2108"/>
                </a:lnTo>
                <a:lnTo>
                  <a:pt x="1152" y="2108"/>
                </a:lnTo>
                <a:lnTo>
                  <a:pt x="1158" y="2108"/>
                </a:lnTo>
                <a:lnTo>
                  <a:pt x="1165" y="2101"/>
                </a:lnTo>
                <a:lnTo>
                  <a:pt x="1172" y="2094"/>
                </a:lnTo>
                <a:close/>
                <a:moveTo>
                  <a:pt x="1593" y="1997"/>
                </a:moveTo>
                <a:lnTo>
                  <a:pt x="1593" y="1997"/>
                </a:lnTo>
                <a:lnTo>
                  <a:pt x="1600" y="1991"/>
                </a:lnTo>
                <a:lnTo>
                  <a:pt x="1607" y="1984"/>
                </a:lnTo>
                <a:lnTo>
                  <a:pt x="1614" y="1977"/>
                </a:lnTo>
                <a:lnTo>
                  <a:pt x="1614" y="1977"/>
                </a:lnTo>
                <a:lnTo>
                  <a:pt x="1620" y="1970"/>
                </a:lnTo>
                <a:lnTo>
                  <a:pt x="1627" y="1963"/>
                </a:lnTo>
                <a:lnTo>
                  <a:pt x="1634" y="1956"/>
                </a:lnTo>
                <a:lnTo>
                  <a:pt x="1634" y="1956"/>
                </a:lnTo>
                <a:lnTo>
                  <a:pt x="1641" y="1949"/>
                </a:lnTo>
                <a:lnTo>
                  <a:pt x="1648" y="1942"/>
                </a:lnTo>
                <a:lnTo>
                  <a:pt x="1648" y="1935"/>
                </a:lnTo>
                <a:lnTo>
                  <a:pt x="1655" y="1929"/>
                </a:lnTo>
                <a:lnTo>
                  <a:pt x="1655" y="1922"/>
                </a:lnTo>
                <a:lnTo>
                  <a:pt x="1662" y="1915"/>
                </a:lnTo>
                <a:lnTo>
                  <a:pt x="1662" y="1908"/>
                </a:lnTo>
                <a:lnTo>
                  <a:pt x="1662" y="1901"/>
                </a:lnTo>
                <a:lnTo>
                  <a:pt x="1662" y="1894"/>
                </a:lnTo>
                <a:lnTo>
                  <a:pt x="1669" y="1880"/>
                </a:lnTo>
                <a:lnTo>
                  <a:pt x="1662" y="1873"/>
                </a:lnTo>
                <a:lnTo>
                  <a:pt x="1662" y="1867"/>
                </a:lnTo>
                <a:lnTo>
                  <a:pt x="1655" y="1873"/>
                </a:lnTo>
                <a:lnTo>
                  <a:pt x="1648" y="1880"/>
                </a:lnTo>
                <a:lnTo>
                  <a:pt x="1641" y="1880"/>
                </a:lnTo>
                <a:lnTo>
                  <a:pt x="1634" y="1880"/>
                </a:lnTo>
                <a:lnTo>
                  <a:pt x="1627" y="1887"/>
                </a:lnTo>
                <a:lnTo>
                  <a:pt x="1627" y="1887"/>
                </a:lnTo>
                <a:lnTo>
                  <a:pt x="1620" y="1894"/>
                </a:lnTo>
                <a:lnTo>
                  <a:pt x="1614" y="1901"/>
                </a:lnTo>
                <a:lnTo>
                  <a:pt x="1607" y="1908"/>
                </a:lnTo>
                <a:lnTo>
                  <a:pt x="1607" y="1908"/>
                </a:lnTo>
                <a:lnTo>
                  <a:pt x="1600" y="1915"/>
                </a:lnTo>
                <a:lnTo>
                  <a:pt x="1593" y="1922"/>
                </a:lnTo>
                <a:lnTo>
                  <a:pt x="1593" y="1929"/>
                </a:lnTo>
                <a:lnTo>
                  <a:pt x="1586" y="1935"/>
                </a:lnTo>
                <a:lnTo>
                  <a:pt x="1579" y="1942"/>
                </a:lnTo>
                <a:lnTo>
                  <a:pt x="1579" y="1942"/>
                </a:lnTo>
                <a:lnTo>
                  <a:pt x="1572" y="1949"/>
                </a:lnTo>
                <a:lnTo>
                  <a:pt x="1565" y="1956"/>
                </a:lnTo>
                <a:lnTo>
                  <a:pt x="1565" y="1963"/>
                </a:lnTo>
                <a:lnTo>
                  <a:pt x="1558" y="1970"/>
                </a:lnTo>
                <a:lnTo>
                  <a:pt x="1551" y="1977"/>
                </a:lnTo>
                <a:lnTo>
                  <a:pt x="1545" y="1984"/>
                </a:lnTo>
                <a:lnTo>
                  <a:pt x="1545" y="1991"/>
                </a:lnTo>
                <a:lnTo>
                  <a:pt x="1538" y="1991"/>
                </a:lnTo>
                <a:lnTo>
                  <a:pt x="1538" y="1997"/>
                </a:lnTo>
                <a:lnTo>
                  <a:pt x="1538" y="2004"/>
                </a:lnTo>
                <a:lnTo>
                  <a:pt x="1545" y="2011"/>
                </a:lnTo>
                <a:lnTo>
                  <a:pt x="1551" y="2018"/>
                </a:lnTo>
                <a:lnTo>
                  <a:pt x="1558" y="2018"/>
                </a:lnTo>
                <a:lnTo>
                  <a:pt x="1565" y="2025"/>
                </a:lnTo>
                <a:lnTo>
                  <a:pt x="1572" y="2025"/>
                </a:lnTo>
                <a:lnTo>
                  <a:pt x="1579" y="2018"/>
                </a:lnTo>
                <a:lnTo>
                  <a:pt x="1579" y="2018"/>
                </a:lnTo>
                <a:lnTo>
                  <a:pt x="1586" y="2011"/>
                </a:lnTo>
                <a:lnTo>
                  <a:pt x="1593" y="1997"/>
                </a:lnTo>
                <a:close/>
                <a:moveTo>
                  <a:pt x="1882" y="1873"/>
                </a:moveTo>
                <a:lnTo>
                  <a:pt x="1882" y="1846"/>
                </a:lnTo>
                <a:lnTo>
                  <a:pt x="1910" y="1811"/>
                </a:lnTo>
                <a:lnTo>
                  <a:pt x="1944" y="1784"/>
                </a:lnTo>
                <a:lnTo>
                  <a:pt x="1944" y="1749"/>
                </a:lnTo>
                <a:lnTo>
                  <a:pt x="1944" y="1722"/>
                </a:lnTo>
                <a:lnTo>
                  <a:pt x="1944" y="1694"/>
                </a:lnTo>
                <a:lnTo>
                  <a:pt x="1938" y="1701"/>
                </a:lnTo>
                <a:lnTo>
                  <a:pt x="1938" y="1708"/>
                </a:lnTo>
                <a:lnTo>
                  <a:pt x="1931" y="1715"/>
                </a:lnTo>
                <a:lnTo>
                  <a:pt x="1924" y="1722"/>
                </a:lnTo>
                <a:lnTo>
                  <a:pt x="1917" y="1729"/>
                </a:lnTo>
                <a:lnTo>
                  <a:pt x="1917" y="1729"/>
                </a:lnTo>
                <a:lnTo>
                  <a:pt x="1910" y="1736"/>
                </a:lnTo>
                <a:lnTo>
                  <a:pt x="1903" y="1729"/>
                </a:lnTo>
                <a:lnTo>
                  <a:pt x="1896" y="1729"/>
                </a:lnTo>
                <a:lnTo>
                  <a:pt x="1889" y="1729"/>
                </a:lnTo>
                <a:lnTo>
                  <a:pt x="1882" y="1722"/>
                </a:lnTo>
                <a:lnTo>
                  <a:pt x="1876" y="1722"/>
                </a:lnTo>
                <a:lnTo>
                  <a:pt x="1869" y="1722"/>
                </a:lnTo>
                <a:lnTo>
                  <a:pt x="1862" y="1722"/>
                </a:lnTo>
                <a:lnTo>
                  <a:pt x="1855" y="1722"/>
                </a:lnTo>
                <a:lnTo>
                  <a:pt x="1848" y="1715"/>
                </a:lnTo>
                <a:lnTo>
                  <a:pt x="1848" y="1708"/>
                </a:lnTo>
                <a:lnTo>
                  <a:pt x="1848" y="1701"/>
                </a:lnTo>
                <a:lnTo>
                  <a:pt x="1848" y="1694"/>
                </a:lnTo>
                <a:lnTo>
                  <a:pt x="1841" y="1681"/>
                </a:lnTo>
                <a:lnTo>
                  <a:pt x="1841" y="1681"/>
                </a:lnTo>
                <a:lnTo>
                  <a:pt x="1834" y="1674"/>
                </a:lnTo>
                <a:lnTo>
                  <a:pt x="1827" y="1667"/>
                </a:lnTo>
                <a:lnTo>
                  <a:pt x="1820" y="1667"/>
                </a:lnTo>
                <a:lnTo>
                  <a:pt x="1813" y="1660"/>
                </a:lnTo>
                <a:lnTo>
                  <a:pt x="1807" y="1660"/>
                </a:lnTo>
                <a:lnTo>
                  <a:pt x="1800" y="1653"/>
                </a:lnTo>
                <a:lnTo>
                  <a:pt x="1793" y="1646"/>
                </a:lnTo>
                <a:lnTo>
                  <a:pt x="1793" y="1646"/>
                </a:lnTo>
                <a:lnTo>
                  <a:pt x="1786" y="1646"/>
                </a:lnTo>
                <a:lnTo>
                  <a:pt x="1779" y="1646"/>
                </a:lnTo>
                <a:lnTo>
                  <a:pt x="1772" y="1653"/>
                </a:lnTo>
                <a:lnTo>
                  <a:pt x="1765" y="1660"/>
                </a:lnTo>
                <a:lnTo>
                  <a:pt x="1758" y="1660"/>
                </a:lnTo>
                <a:lnTo>
                  <a:pt x="1751" y="1667"/>
                </a:lnTo>
                <a:lnTo>
                  <a:pt x="1745" y="1667"/>
                </a:lnTo>
                <a:lnTo>
                  <a:pt x="1745" y="1674"/>
                </a:lnTo>
                <a:lnTo>
                  <a:pt x="1738" y="1674"/>
                </a:lnTo>
                <a:lnTo>
                  <a:pt x="1731" y="1681"/>
                </a:lnTo>
                <a:lnTo>
                  <a:pt x="1724" y="1687"/>
                </a:lnTo>
                <a:lnTo>
                  <a:pt x="1717" y="1694"/>
                </a:lnTo>
                <a:lnTo>
                  <a:pt x="1717" y="1694"/>
                </a:lnTo>
                <a:lnTo>
                  <a:pt x="1710" y="1701"/>
                </a:lnTo>
                <a:lnTo>
                  <a:pt x="1703" y="1701"/>
                </a:lnTo>
                <a:lnTo>
                  <a:pt x="1696" y="1708"/>
                </a:lnTo>
                <a:lnTo>
                  <a:pt x="1689" y="1715"/>
                </a:lnTo>
                <a:lnTo>
                  <a:pt x="1682" y="1715"/>
                </a:lnTo>
                <a:lnTo>
                  <a:pt x="1689" y="1722"/>
                </a:lnTo>
                <a:lnTo>
                  <a:pt x="1696" y="1722"/>
                </a:lnTo>
                <a:lnTo>
                  <a:pt x="1703" y="1729"/>
                </a:lnTo>
                <a:lnTo>
                  <a:pt x="1710" y="1729"/>
                </a:lnTo>
                <a:lnTo>
                  <a:pt x="1710" y="1736"/>
                </a:lnTo>
                <a:lnTo>
                  <a:pt x="1717" y="1736"/>
                </a:lnTo>
                <a:lnTo>
                  <a:pt x="1724" y="1736"/>
                </a:lnTo>
                <a:lnTo>
                  <a:pt x="1738" y="1736"/>
                </a:lnTo>
                <a:lnTo>
                  <a:pt x="1745" y="1743"/>
                </a:lnTo>
                <a:lnTo>
                  <a:pt x="1745" y="1743"/>
                </a:lnTo>
                <a:lnTo>
                  <a:pt x="1751" y="1749"/>
                </a:lnTo>
                <a:lnTo>
                  <a:pt x="1751" y="1756"/>
                </a:lnTo>
                <a:lnTo>
                  <a:pt x="1745" y="1770"/>
                </a:lnTo>
                <a:lnTo>
                  <a:pt x="1745" y="1777"/>
                </a:lnTo>
                <a:lnTo>
                  <a:pt x="1745" y="1784"/>
                </a:lnTo>
                <a:lnTo>
                  <a:pt x="1751" y="1791"/>
                </a:lnTo>
                <a:lnTo>
                  <a:pt x="1751" y="1798"/>
                </a:lnTo>
                <a:lnTo>
                  <a:pt x="1758" y="1805"/>
                </a:lnTo>
                <a:lnTo>
                  <a:pt x="1765" y="1811"/>
                </a:lnTo>
                <a:lnTo>
                  <a:pt x="1772" y="1818"/>
                </a:lnTo>
                <a:lnTo>
                  <a:pt x="1772" y="1818"/>
                </a:lnTo>
                <a:lnTo>
                  <a:pt x="1779" y="1825"/>
                </a:lnTo>
                <a:lnTo>
                  <a:pt x="1786" y="1832"/>
                </a:lnTo>
                <a:lnTo>
                  <a:pt x="1793" y="1839"/>
                </a:lnTo>
                <a:lnTo>
                  <a:pt x="1793" y="1846"/>
                </a:lnTo>
                <a:lnTo>
                  <a:pt x="1800" y="1846"/>
                </a:lnTo>
                <a:lnTo>
                  <a:pt x="1807" y="1853"/>
                </a:lnTo>
                <a:lnTo>
                  <a:pt x="1813" y="1860"/>
                </a:lnTo>
                <a:lnTo>
                  <a:pt x="1813" y="1867"/>
                </a:lnTo>
                <a:lnTo>
                  <a:pt x="1820" y="1873"/>
                </a:lnTo>
                <a:lnTo>
                  <a:pt x="1827" y="1873"/>
                </a:lnTo>
                <a:lnTo>
                  <a:pt x="1834" y="1880"/>
                </a:lnTo>
                <a:lnTo>
                  <a:pt x="1834" y="1887"/>
                </a:lnTo>
                <a:lnTo>
                  <a:pt x="1841" y="1894"/>
                </a:lnTo>
                <a:lnTo>
                  <a:pt x="1848" y="1901"/>
                </a:lnTo>
                <a:lnTo>
                  <a:pt x="1855" y="1901"/>
                </a:lnTo>
                <a:lnTo>
                  <a:pt x="1882" y="1873"/>
                </a:lnTo>
                <a:close/>
                <a:moveTo>
                  <a:pt x="1786" y="1722"/>
                </a:moveTo>
                <a:lnTo>
                  <a:pt x="1786" y="1715"/>
                </a:lnTo>
                <a:lnTo>
                  <a:pt x="1786" y="1715"/>
                </a:lnTo>
                <a:lnTo>
                  <a:pt x="1793" y="1715"/>
                </a:lnTo>
                <a:lnTo>
                  <a:pt x="1793" y="1715"/>
                </a:lnTo>
                <a:lnTo>
                  <a:pt x="1800" y="1715"/>
                </a:lnTo>
                <a:lnTo>
                  <a:pt x="1800" y="1715"/>
                </a:lnTo>
                <a:lnTo>
                  <a:pt x="1800" y="1722"/>
                </a:lnTo>
                <a:lnTo>
                  <a:pt x="1800" y="1722"/>
                </a:lnTo>
                <a:lnTo>
                  <a:pt x="1793" y="1722"/>
                </a:lnTo>
                <a:lnTo>
                  <a:pt x="1793" y="1722"/>
                </a:lnTo>
                <a:lnTo>
                  <a:pt x="1793" y="1722"/>
                </a:lnTo>
                <a:lnTo>
                  <a:pt x="1786" y="1722"/>
                </a:lnTo>
                <a:lnTo>
                  <a:pt x="1786" y="1722"/>
                </a:lnTo>
                <a:lnTo>
                  <a:pt x="1786" y="1722"/>
                </a:lnTo>
                <a:close/>
                <a:moveTo>
                  <a:pt x="821" y="1687"/>
                </a:moveTo>
                <a:lnTo>
                  <a:pt x="821" y="1681"/>
                </a:lnTo>
                <a:lnTo>
                  <a:pt x="821" y="1681"/>
                </a:lnTo>
                <a:lnTo>
                  <a:pt x="821" y="1674"/>
                </a:lnTo>
                <a:lnTo>
                  <a:pt x="814" y="1674"/>
                </a:lnTo>
                <a:lnTo>
                  <a:pt x="814" y="1674"/>
                </a:lnTo>
                <a:lnTo>
                  <a:pt x="814" y="1681"/>
                </a:lnTo>
                <a:lnTo>
                  <a:pt x="814" y="1681"/>
                </a:lnTo>
                <a:lnTo>
                  <a:pt x="807" y="1687"/>
                </a:lnTo>
                <a:lnTo>
                  <a:pt x="814" y="1687"/>
                </a:lnTo>
                <a:lnTo>
                  <a:pt x="814" y="1687"/>
                </a:lnTo>
                <a:lnTo>
                  <a:pt x="814" y="1687"/>
                </a:lnTo>
                <a:lnTo>
                  <a:pt x="821" y="1687"/>
                </a:lnTo>
                <a:lnTo>
                  <a:pt x="821" y="1687"/>
                </a:lnTo>
                <a:lnTo>
                  <a:pt x="821" y="1687"/>
                </a:lnTo>
                <a:close/>
                <a:moveTo>
                  <a:pt x="1972" y="1687"/>
                </a:moveTo>
                <a:lnTo>
                  <a:pt x="1972" y="1653"/>
                </a:lnTo>
                <a:lnTo>
                  <a:pt x="1972" y="1646"/>
                </a:lnTo>
                <a:lnTo>
                  <a:pt x="1972" y="1653"/>
                </a:lnTo>
                <a:lnTo>
                  <a:pt x="1965" y="1660"/>
                </a:lnTo>
                <a:lnTo>
                  <a:pt x="1965" y="1660"/>
                </a:lnTo>
                <a:lnTo>
                  <a:pt x="1958" y="1667"/>
                </a:lnTo>
                <a:lnTo>
                  <a:pt x="1958" y="1674"/>
                </a:lnTo>
                <a:lnTo>
                  <a:pt x="1958" y="1681"/>
                </a:lnTo>
                <a:lnTo>
                  <a:pt x="1951" y="1681"/>
                </a:lnTo>
                <a:lnTo>
                  <a:pt x="1951" y="1687"/>
                </a:lnTo>
                <a:lnTo>
                  <a:pt x="1972" y="1687"/>
                </a:lnTo>
                <a:close/>
                <a:moveTo>
                  <a:pt x="483" y="1653"/>
                </a:moveTo>
                <a:lnTo>
                  <a:pt x="476" y="1646"/>
                </a:lnTo>
                <a:lnTo>
                  <a:pt x="469" y="1646"/>
                </a:lnTo>
                <a:lnTo>
                  <a:pt x="462" y="1639"/>
                </a:lnTo>
                <a:lnTo>
                  <a:pt x="455" y="1646"/>
                </a:lnTo>
                <a:lnTo>
                  <a:pt x="448" y="1646"/>
                </a:lnTo>
                <a:lnTo>
                  <a:pt x="441" y="1653"/>
                </a:lnTo>
                <a:lnTo>
                  <a:pt x="448" y="1660"/>
                </a:lnTo>
                <a:lnTo>
                  <a:pt x="448" y="1667"/>
                </a:lnTo>
                <a:lnTo>
                  <a:pt x="455" y="1674"/>
                </a:lnTo>
                <a:lnTo>
                  <a:pt x="462" y="1681"/>
                </a:lnTo>
                <a:lnTo>
                  <a:pt x="469" y="1681"/>
                </a:lnTo>
                <a:lnTo>
                  <a:pt x="476" y="1674"/>
                </a:lnTo>
                <a:lnTo>
                  <a:pt x="476" y="1667"/>
                </a:lnTo>
                <a:lnTo>
                  <a:pt x="483" y="1653"/>
                </a:lnTo>
                <a:close/>
                <a:moveTo>
                  <a:pt x="890" y="1653"/>
                </a:moveTo>
                <a:lnTo>
                  <a:pt x="896" y="1653"/>
                </a:lnTo>
                <a:lnTo>
                  <a:pt x="903" y="1646"/>
                </a:lnTo>
                <a:lnTo>
                  <a:pt x="910" y="1646"/>
                </a:lnTo>
                <a:lnTo>
                  <a:pt x="910" y="1639"/>
                </a:lnTo>
                <a:lnTo>
                  <a:pt x="917" y="1632"/>
                </a:lnTo>
                <a:lnTo>
                  <a:pt x="924" y="1625"/>
                </a:lnTo>
                <a:lnTo>
                  <a:pt x="924" y="1619"/>
                </a:lnTo>
                <a:lnTo>
                  <a:pt x="931" y="1605"/>
                </a:lnTo>
                <a:lnTo>
                  <a:pt x="931" y="1598"/>
                </a:lnTo>
                <a:lnTo>
                  <a:pt x="938" y="1591"/>
                </a:lnTo>
                <a:lnTo>
                  <a:pt x="945" y="1591"/>
                </a:lnTo>
                <a:lnTo>
                  <a:pt x="952" y="1584"/>
                </a:lnTo>
                <a:lnTo>
                  <a:pt x="959" y="1577"/>
                </a:lnTo>
                <a:lnTo>
                  <a:pt x="965" y="1570"/>
                </a:lnTo>
                <a:lnTo>
                  <a:pt x="972" y="1563"/>
                </a:lnTo>
                <a:lnTo>
                  <a:pt x="972" y="1557"/>
                </a:lnTo>
                <a:lnTo>
                  <a:pt x="979" y="1550"/>
                </a:lnTo>
                <a:lnTo>
                  <a:pt x="986" y="1543"/>
                </a:lnTo>
                <a:lnTo>
                  <a:pt x="993" y="1543"/>
                </a:lnTo>
                <a:lnTo>
                  <a:pt x="993" y="1536"/>
                </a:lnTo>
                <a:lnTo>
                  <a:pt x="1000" y="1529"/>
                </a:lnTo>
                <a:lnTo>
                  <a:pt x="993" y="1522"/>
                </a:lnTo>
                <a:lnTo>
                  <a:pt x="986" y="1515"/>
                </a:lnTo>
                <a:lnTo>
                  <a:pt x="979" y="1508"/>
                </a:lnTo>
                <a:lnTo>
                  <a:pt x="972" y="1501"/>
                </a:lnTo>
                <a:lnTo>
                  <a:pt x="965" y="1501"/>
                </a:lnTo>
                <a:lnTo>
                  <a:pt x="959" y="1501"/>
                </a:lnTo>
                <a:lnTo>
                  <a:pt x="952" y="1508"/>
                </a:lnTo>
                <a:lnTo>
                  <a:pt x="945" y="1508"/>
                </a:lnTo>
                <a:lnTo>
                  <a:pt x="938" y="1515"/>
                </a:lnTo>
                <a:lnTo>
                  <a:pt x="931" y="1522"/>
                </a:lnTo>
                <a:lnTo>
                  <a:pt x="931" y="1529"/>
                </a:lnTo>
                <a:lnTo>
                  <a:pt x="924" y="1536"/>
                </a:lnTo>
                <a:lnTo>
                  <a:pt x="917" y="1543"/>
                </a:lnTo>
                <a:lnTo>
                  <a:pt x="910" y="1543"/>
                </a:lnTo>
                <a:lnTo>
                  <a:pt x="903" y="1550"/>
                </a:lnTo>
                <a:lnTo>
                  <a:pt x="896" y="1557"/>
                </a:lnTo>
                <a:lnTo>
                  <a:pt x="890" y="1563"/>
                </a:lnTo>
                <a:lnTo>
                  <a:pt x="890" y="1570"/>
                </a:lnTo>
                <a:lnTo>
                  <a:pt x="883" y="1577"/>
                </a:lnTo>
                <a:lnTo>
                  <a:pt x="876" y="1584"/>
                </a:lnTo>
                <a:lnTo>
                  <a:pt x="869" y="1584"/>
                </a:lnTo>
                <a:lnTo>
                  <a:pt x="862" y="1577"/>
                </a:lnTo>
                <a:lnTo>
                  <a:pt x="855" y="1570"/>
                </a:lnTo>
                <a:lnTo>
                  <a:pt x="855" y="1557"/>
                </a:lnTo>
                <a:lnTo>
                  <a:pt x="848" y="1550"/>
                </a:lnTo>
                <a:lnTo>
                  <a:pt x="855" y="1543"/>
                </a:lnTo>
                <a:lnTo>
                  <a:pt x="855" y="1529"/>
                </a:lnTo>
                <a:lnTo>
                  <a:pt x="855" y="1522"/>
                </a:lnTo>
                <a:lnTo>
                  <a:pt x="862" y="1515"/>
                </a:lnTo>
                <a:lnTo>
                  <a:pt x="869" y="1508"/>
                </a:lnTo>
                <a:lnTo>
                  <a:pt x="876" y="1508"/>
                </a:lnTo>
                <a:lnTo>
                  <a:pt x="883" y="1501"/>
                </a:lnTo>
                <a:lnTo>
                  <a:pt x="890" y="1501"/>
                </a:lnTo>
                <a:lnTo>
                  <a:pt x="896" y="1495"/>
                </a:lnTo>
                <a:lnTo>
                  <a:pt x="896" y="1481"/>
                </a:lnTo>
                <a:lnTo>
                  <a:pt x="903" y="1474"/>
                </a:lnTo>
                <a:lnTo>
                  <a:pt x="903" y="1467"/>
                </a:lnTo>
                <a:lnTo>
                  <a:pt x="903" y="1453"/>
                </a:lnTo>
                <a:lnTo>
                  <a:pt x="896" y="1446"/>
                </a:lnTo>
                <a:lnTo>
                  <a:pt x="896" y="1439"/>
                </a:lnTo>
                <a:lnTo>
                  <a:pt x="890" y="1433"/>
                </a:lnTo>
                <a:lnTo>
                  <a:pt x="890" y="1426"/>
                </a:lnTo>
                <a:lnTo>
                  <a:pt x="883" y="1419"/>
                </a:lnTo>
                <a:lnTo>
                  <a:pt x="876" y="1412"/>
                </a:lnTo>
                <a:lnTo>
                  <a:pt x="869" y="1405"/>
                </a:lnTo>
                <a:lnTo>
                  <a:pt x="862" y="1398"/>
                </a:lnTo>
                <a:lnTo>
                  <a:pt x="855" y="1398"/>
                </a:lnTo>
                <a:lnTo>
                  <a:pt x="855" y="1391"/>
                </a:lnTo>
                <a:lnTo>
                  <a:pt x="848" y="1384"/>
                </a:lnTo>
                <a:lnTo>
                  <a:pt x="841" y="1377"/>
                </a:lnTo>
                <a:lnTo>
                  <a:pt x="834" y="1371"/>
                </a:lnTo>
                <a:lnTo>
                  <a:pt x="834" y="1364"/>
                </a:lnTo>
                <a:lnTo>
                  <a:pt x="834" y="1357"/>
                </a:lnTo>
                <a:lnTo>
                  <a:pt x="834" y="1343"/>
                </a:lnTo>
                <a:lnTo>
                  <a:pt x="834" y="1336"/>
                </a:lnTo>
                <a:lnTo>
                  <a:pt x="841" y="1329"/>
                </a:lnTo>
                <a:lnTo>
                  <a:pt x="841" y="1315"/>
                </a:lnTo>
                <a:lnTo>
                  <a:pt x="841" y="1309"/>
                </a:lnTo>
                <a:lnTo>
                  <a:pt x="841" y="1302"/>
                </a:lnTo>
                <a:lnTo>
                  <a:pt x="841" y="1288"/>
                </a:lnTo>
                <a:lnTo>
                  <a:pt x="841" y="1281"/>
                </a:lnTo>
                <a:lnTo>
                  <a:pt x="834" y="1274"/>
                </a:lnTo>
                <a:lnTo>
                  <a:pt x="828" y="1274"/>
                </a:lnTo>
                <a:lnTo>
                  <a:pt x="814" y="1274"/>
                </a:lnTo>
                <a:lnTo>
                  <a:pt x="814" y="1281"/>
                </a:lnTo>
                <a:lnTo>
                  <a:pt x="807" y="1288"/>
                </a:lnTo>
                <a:lnTo>
                  <a:pt x="800" y="1295"/>
                </a:lnTo>
                <a:lnTo>
                  <a:pt x="793" y="1295"/>
                </a:lnTo>
                <a:lnTo>
                  <a:pt x="786" y="1302"/>
                </a:lnTo>
                <a:lnTo>
                  <a:pt x="779" y="1309"/>
                </a:lnTo>
                <a:lnTo>
                  <a:pt x="779" y="1315"/>
                </a:lnTo>
                <a:lnTo>
                  <a:pt x="772" y="1322"/>
                </a:lnTo>
                <a:lnTo>
                  <a:pt x="765" y="1329"/>
                </a:lnTo>
                <a:lnTo>
                  <a:pt x="759" y="1336"/>
                </a:lnTo>
                <a:lnTo>
                  <a:pt x="752" y="1336"/>
                </a:lnTo>
                <a:lnTo>
                  <a:pt x="752" y="1343"/>
                </a:lnTo>
                <a:lnTo>
                  <a:pt x="745" y="1350"/>
                </a:lnTo>
                <a:lnTo>
                  <a:pt x="745" y="1364"/>
                </a:lnTo>
                <a:lnTo>
                  <a:pt x="738" y="1371"/>
                </a:lnTo>
                <a:lnTo>
                  <a:pt x="738" y="1377"/>
                </a:lnTo>
                <a:lnTo>
                  <a:pt x="731" y="1384"/>
                </a:lnTo>
                <a:lnTo>
                  <a:pt x="731" y="1398"/>
                </a:lnTo>
                <a:lnTo>
                  <a:pt x="724" y="1405"/>
                </a:lnTo>
                <a:lnTo>
                  <a:pt x="724" y="1412"/>
                </a:lnTo>
                <a:lnTo>
                  <a:pt x="724" y="1419"/>
                </a:lnTo>
                <a:lnTo>
                  <a:pt x="717" y="1433"/>
                </a:lnTo>
                <a:lnTo>
                  <a:pt x="717" y="1439"/>
                </a:lnTo>
                <a:lnTo>
                  <a:pt x="717" y="1446"/>
                </a:lnTo>
                <a:lnTo>
                  <a:pt x="724" y="1460"/>
                </a:lnTo>
                <a:lnTo>
                  <a:pt x="717" y="1467"/>
                </a:lnTo>
                <a:lnTo>
                  <a:pt x="717" y="1474"/>
                </a:lnTo>
                <a:lnTo>
                  <a:pt x="717" y="1481"/>
                </a:lnTo>
                <a:lnTo>
                  <a:pt x="710" y="1488"/>
                </a:lnTo>
                <a:lnTo>
                  <a:pt x="703" y="1495"/>
                </a:lnTo>
                <a:lnTo>
                  <a:pt x="696" y="1501"/>
                </a:lnTo>
                <a:lnTo>
                  <a:pt x="690" y="1508"/>
                </a:lnTo>
                <a:lnTo>
                  <a:pt x="683" y="1515"/>
                </a:lnTo>
                <a:lnTo>
                  <a:pt x="676" y="1522"/>
                </a:lnTo>
                <a:lnTo>
                  <a:pt x="669" y="1529"/>
                </a:lnTo>
                <a:lnTo>
                  <a:pt x="669" y="1536"/>
                </a:lnTo>
                <a:lnTo>
                  <a:pt x="676" y="1536"/>
                </a:lnTo>
                <a:lnTo>
                  <a:pt x="683" y="1543"/>
                </a:lnTo>
                <a:lnTo>
                  <a:pt x="690" y="1550"/>
                </a:lnTo>
                <a:lnTo>
                  <a:pt x="696" y="1550"/>
                </a:lnTo>
                <a:lnTo>
                  <a:pt x="703" y="1557"/>
                </a:lnTo>
                <a:lnTo>
                  <a:pt x="710" y="1557"/>
                </a:lnTo>
                <a:lnTo>
                  <a:pt x="717" y="1563"/>
                </a:lnTo>
                <a:lnTo>
                  <a:pt x="724" y="1563"/>
                </a:lnTo>
                <a:lnTo>
                  <a:pt x="731" y="1557"/>
                </a:lnTo>
                <a:lnTo>
                  <a:pt x="738" y="1557"/>
                </a:lnTo>
                <a:lnTo>
                  <a:pt x="745" y="1550"/>
                </a:lnTo>
                <a:lnTo>
                  <a:pt x="752" y="1543"/>
                </a:lnTo>
                <a:lnTo>
                  <a:pt x="752" y="1536"/>
                </a:lnTo>
                <a:lnTo>
                  <a:pt x="759" y="1529"/>
                </a:lnTo>
                <a:lnTo>
                  <a:pt x="759" y="1515"/>
                </a:lnTo>
                <a:lnTo>
                  <a:pt x="759" y="1508"/>
                </a:lnTo>
                <a:lnTo>
                  <a:pt x="759" y="1501"/>
                </a:lnTo>
                <a:lnTo>
                  <a:pt x="765" y="1495"/>
                </a:lnTo>
                <a:lnTo>
                  <a:pt x="765" y="1481"/>
                </a:lnTo>
                <a:lnTo>
                  <a:pt x="772" y="1474"/>
                </a:lnTo>
                <a:lnTo>
                  <a:pt x="772" y="1467"/>
                </a:lnTo>
                <a:lnTo>
                  <a:pt x="779" y="1460"/>
                </a:lnTo>
                <a:lnTo>
                  <a:pt x="786" y="1453"/>
                </a:lnTo>
                <a:lnTo>
                  <a:pt x="786" y="1446"/>
                </a:lnTo>
                <a:lnTo>
                  <a:pt x="793" y="1439"/>
                </a:lnTo>
                <a:lnTo>
                  <a:pt x="800" y="1433"/>
                </a:lnTo>
                <a:lnTo>
                  <a:pt x="807" y="1426"/>
                </a:lnTo>
                <a:lnTo>
                  <a:pt x="807" y="1419"/>
                </a:lnTo>
                <a:lnTo>
                  <a:pt x="814" y="1412"/>
                </a:lnTo>
                <a:lnTo>
                  <a:pt x="821" y="1412"/>
                </a:lnTo>
                <a:lnTo>
                  <a:pt x="828" y="1412"/>
                </a:lnTo>
                <a:lnTo>
                  <a:pt x="834" y="1419"/>
                </a:lnTo>
                <a:lnTo>
                  <a:pt x="841" y="1426"/>
                </a:lnTo>
                <a:lnTo>
                  <a:pt x="841" y="1439"/>
                </a:lnTo>
                <a:lnTo>
                  <a:pt x="841" y="1446"/>
                </a:lnTo>
                <a:lnTo>
                  <a:pt x="841" y="1453"/>
                </a:lnTo>
                <a:lnTo>
                  <a:pt x="841" y="1467"/>
                </a:lnTo>
                <a:lnTo>
                  <a:pt x="841" y="1474"/>
                </a:lnTo>
                <a:lnTo>
                  <a:pt x="834" y="1481"/>
                </a:lnTo>
                <a:lnTo>
                  <a:pt x="834" y="1495"/>
                </a:lnTo>
                <a:lnTo>
                  <a:pt x="834" y="1501"/>
                </a:lnTo>
                <a:lnTo>
                  <a:pt x="834" y="1508"/>
                </a:lnTo>
                <a:lnTo>
                  <a:pt x="834" y="1522"/>
                </a:lnTo>
                <a:lnTo>
                  <a:pt x="834" y="1529"/>
                </a:lnTo>
                <a:lnTo>
                  <a:pt x="834" y="1536"/>
                </a:lnTo>
                <a:lnTo>
                  <a:pt x="834" y="1550"/>
                </a:lnTo>
                <a:lnTo>
                  <a:pt x="834" y="1557"/>
                </a:lnTo>
                <a:lnTo>
                  <a:pt x="834" y="1563"/>
                </a:lnTo>
                <a:lnTo>
                  <a:pt x="828" y="1577"/>
                </a:lnTo>
                <a:lnTo>
                  <a:pt x="828" y="1584"/>
                </a:lnTo>
                <a:lnTo>
                  <a:pt x="828" y="1591"/>
                </a:lnTo>
                <a:lnTo>
                  <a:pt x="828" y="1605"/>
                </a:lnTo>
                <a:lnTo>
                  <a:pt x="834" y="1612"/>
                </a:lnTo>
                <a:lnTo>
                  <a:pt x="834" y="1619"/>
                </a:lnTo>
                <a:lnTo>
                  <a:pt x="834" y="1632"/>
                </a:lnTo>
                <a:lnTo>
                  <a:pt x="828" y="1639"/>
                </a:lnTo>
                <a:lnTo>
                  <a:pt x="828" y="1646"/>
                </a:lnTo>
                <a:lnTo>
                  <a:pt x="828" y="1653"/>
                </a:lnTo>
                <a:lnTo>
                  <a:pt x="828" y="1660"/>
                </a:lnTo>
                <a:lnTo>
                  <a:pt x="834" y="1667"/>
                </a:lnTo>
                <a:lnTo>
                  <a:pt x="841" y="1674"/>
                </a:lnTo>
                <a:lnTo>
                  <a:pt x="855" y="1674"/>
                </a:lnTo>
                <a:lnTo>
                  <a:pt x="862" y="1674"/>
                </a:lnTo>
                <a:lnTo>
                  <a:pt x="869" y="1667"/>
                </a:lnTo>
                <a:lnTo>
                  <a:pt x="876" y="1667"/>
                </a:lnTo>
                <a:lnTo>
                  <a:pt x="883" y="1660"/>
                </a:lnTo>
                <a:lnTo>
                  <a:pt x="890" y="1653"/>
                </a:lnTo>
                <a:close/>
                <a:moveTo>
                  <a:pt x="503" y="1625"/>
                </a:moveTo>
                <a:lnTo>
                  <a:pt x="503" y="1619"/>
                </a:lnTo>
                <a:lnTo>
                  <a:pt x="510" y="1612"/>
                </a:lnTo>
                <a:lnTo>
                  <a:pt x="510" y="1605"/>
                </a:lnTo>
                <a:lnTo>
                  <a:pt x="517" y="1598"/>
                </a:lnTo>
                <a:lnTo>
                  <a:pt x="517" y="1591"/>
                </a:lnTo>
                <a:lnTo>
                  <a:pt x="517" y="1577"/>
                </a:lnTo>
                <a:lnTo>
                  <a:pt x="524" y="1570"/>
                </a:lnTo>
                <a:lnTo>
                  <a:pt x="524" y="1563"/>
                </a:lnTo>
                <a:lnTo>
                  <a:pt x="524" y="1557"/>
                </a:lnTo>
                <a:lnTo>
                  <a:pt x="524" y="1550"/>
                </a:lnTo>
                <a:lnTo>
                  <a:pt x="517" y="1543"/>
                </a:lnTo>
                <a:lnTo>
                  <a:pt x="517" y="1536"/>
                </a:lnTo>
                <a:lnTo>
                  <a:pt x="510" y="1529"/>
                </a:lnTo>
                <a:lnTo>
                  <a:pt x="510" y="1522"/>
                </a:lnTo>
                <a:lnTo>
                  <a:pt x="503" y="1522"/>
                </a:lnTo>
                <a:lnTo>
                  <a:pt x="497" y="1522"/>
                </a:lnTo>
                <a:lnTo>
                  <a:pt x="497" y="1529"/>
                </a:lnTo>
                <a:lnTo>
                  <a:pt x="490" y="1536"/>
                </a:lnTo>
                <a:lnTo>
                  <a:pt x="483" y="1543"/>
                </a:lnTo>
                <a:lnTo>
                  <a:pt x="483" y="1550"/>
                </a:lnTo>
                <a:lnTo>
                  <a:pt x="483" y="1557"/>
                </a:lnTo>
                <a:lnTo>
                  <a:pt x="483" y="1563"/>
                </a:lnTo>
                <a:lnTo>
                  <a:pt x="483" y="1570"/>
                </a:lnTo>
                <a:lnTo>
                  <a:pt x="483" y="1577"/>
                </a:lnTo>
                <a:lnTo>
                  <a:pt x="483" y="1591"/>
                </a:lnTo>
                <a:lnTo>
                  <a:pt x="483" y="1598"/>
                </a:lnTo>
                <a:lnTo>
                  <a:pt x="490" y="1605"/>
                </a:lnTo>
                <a:lnTo>
                  <a:pt x="490" y="1612"/>
                </a:lnTo>
                <a:lnTo>
                  <a:pt x="490" y="1619"/>
                </a:lnTo>
                <a:lnTo>
                  <a:pt x="497" y="1625"/>
                </a:lnTo>
                <a:lnTo>
                  <a:pt x="503" y="1632"/>
                </a:lnTo>
                <a:lnTo>
                  <a:pt x="503" y="1625"/>
                </a:lnTo>
                <a:close/>
                <a:moveTo>
                  <a:pt x="1724" y="1591"/>
                </a:moveTo>
                <a:lnTo>
                  <a:pt x="1731" y="1584"/>
                </a:lnTo>
                <a:lnTo>
                  <a:pt x="1745" y="1577"/>
                </a:lnTo>
                <a:lnTo>
                  <a:pt x="1751" y="1570"/>
                </a:lnTo>
                <a:lnTo>
                  <a:pt x="1758" y="1563"/>
                </a:lnTo>
                <a:lnTo>
                  <a:pt x="1765" y="1557"/>
                </a:lnTo>
                <a:lnTo>
                  <a:pt x="1772" y="1550"/>
                </a:lnTo>
                <a:lnTo>
                  <a:pt x="1779" y="1543"/>
                </a:lnTo>
                <a:lnTo>
                  <a:pt x="1786" y="1536"/>
                </a:lnTo>
                <a:lnTo>
                  <a:pt x="1793" y="1536"/>
                </a:lnTo>
                <a:lnTo>
                  <a:pt x="1800" y="1536"/>
                </a:lnTo>
                <a:lnTo>
                  <a:pt x="1813" y="1536"/>
                </a:lnTo>
                <a:lnTo>
                  <a:pt x="1820" y="1536"/>
                </a:lnTo>
                <a:lnTo>
                  <a:pt x="1827" y="1536"/>
                </a:lnTo>
                <a:lnTo>
                  <a:pt x="1841" y="1536"/>
                </a:lnTo>
                <a:lnTo>
                  <a:pt x="1848" y="1536"/>
                </a:lnTo>
                <a:lnTo>
                  <a:pt x="1855" y="1543"/>
                </a:lnTo>
                <a:lnTo>
                  <a:pt x="1869" y="1543"/>
                </a:lnTo>
                <a:lnTo>
                  <a:pt x="1876" y="1543"/>
                </a:lnTo>
                <a:lnTo>
                  <a:pt x="1889" y="1543"/>
                </a:lnTo>
                <a:lnTo>
                  <a:pt x="1896" y="1543"/>
                </a:lnTo>
                <a:lnTo>
                  <a:pt x="1903" y="1543"/>
                </a:lnTo>
                <a:lnTo>
                  <a:pt x="1917" y="1543"/>
                </a:lnTo>
                <a:lnTo>
                  <a:pt x="1924" y="1543"/>
                </a:lnTo>
                <a:lnTo>
                  <a:pt x="1931" y="1543"/>
                </a:lnTo>
                <a:lnTo>
                  <a:pt x="1944" y="1543"/>
                </a:lnTo>
                <a:lnTo>
                  <a:pt x="1951" y="1543"/>
                </a:lnTo>
                <a:lnTo>
                  <a:pt x="1958" y="1543"/>
                </a:lnTo>
                <a:lnTo>
                  <a:pt x="1972" y="1543"/>
                </a:lnTo>
                <a:lnTo>
                  <a:pt x="1979" y="1543"/>
                </a:lnTo>
                <a:lnTo>
                  <a:pt x="1986" y="1536"/>
                </a:lnTo>
                <a:lnTo>
                  <a:pt x="2000" y="1536"/>
                </a:lnTo>
                <a:lnTo>
                  <a:pt x="2007" y="1529"/>
                </a:lnTo>
                <a:lnTo>
                  <a:pt x="2007" y="1529"/>
                </a:lnTo>
                <a:lnTo>
                  <a:pt x="2007" y="1529"/>
                </a:lnTo>
                <a:lnTo>
                  <a:pt x="2007" y="1515"/>
                </a:lnTo>
                <a:lnTo>
                  <a:pt x="2000" y="1508"/>
                </a:lnTo>
                <a:lnTo>
                  <a:pt x="2000" y="1501"/>
                </a:lnTo>
                <a:lnTo>
                  <a:pt x="1993" y="1495"/>
                </a:lnTo>
                <a:lnTo>
                  <a:pt x="1986" y="1488"/>
                </a:lnTo>
                <a:lnTo>
                  <a:pt x="1979" y="1488"/>
                </a:lnTo>
                <a:lnTo>
                  <a:pt x="1979" y="1481"/>
                </a:lnTo>
                <a:lnTo>
                  <a:pt x="1972" y="1474"/>
                </a:lnTo>
                <a:lnTo>
                  <a:pt x="1965" y="1474"/>
                </a:lnTo>
                <a:lnTo>
                  <a:pt x="1958" y="1474"/>
                </a:lnTo>
                <a:lnTo>
                  <a:pt x="1951" y="1474"/>
                </a:lnTo>
                <a:lnTo>
                  <a:pt x="1944" y="1474"/>
                </a:lnTo>
                <a:lnTo>
                  <a:pt x="1938" y="1474"/>
                </a:lnTo>
                <a:lnTo>
                  <a:pt x="1931" y="1474"/>
                </a:lnTo>
                <a:lnTo>
                  <a:pt x="1924" y="1474"/>
                </a:lnTo>
                <a:lnTo>
                  <a:pt x="1917" y="1467"/>
                </a:lnTo>
                <a:lnTo>
                  <a:pt x="1910" y="1467"/>
                </a:lnTo>
                <a:lnTo>
                  <a:pt x="1903" y="1467"/>
                </a:lnTo>
                <a:lnTo>
                  <a:pt x="1896" y="1467"/>
                </a:lnTo>
                <a:lnTo>
                  <a:pt x="1889" y="1467"/>
                </a:lnTo>
                <a:lnTo>
                  <a:pt x="1882" y="1467"/>
                </a:lnTo>
                <a:lnTo>
                  <a:pt x="1876" y="1467"/>
                </a:lnTo>
                <a:lnTo>
                  <a:pt x="1876" y="1460"/>
                </a:lnTo>
                <a:lnTo>
                  <a:pt x="1876" y="1446"/>
                </a:lnTo>
                <a:lnTo>
                  <a:pt x="1876" y="1439"/>
                </a:lnTo>
                <a:lnTo>
                  <a:pt x="1882" y="1433"/>
                </a:lnTo>
                <a:lnTo>
                  <a:pt x="1889" y="1426"/>
                </a:lnTo>
                <a:lnTo>
                  <a:pt x="1896" y="1426"/>
                </a:lnTo>
                <a:lnTo>
                  <a:pt x="1896" y="1419"/>
                </a:lnTo>
                <a:lnTo>
                  <a:pt x="1903" y="1412"/>
                </a:lnTo>
                <a:lnTo>
                  <a:pt x="1910" y="1412"/>
                </a:lnTo>
                <a:lnTo>
                  <a:pt x="1917" y="1405"/>
                </a:lnTo>
                <a:lnTo>
                  <a:pt x="1924" y="1398"/>
                </a:lnTo>
                <a:lnTo>
                  <a:pt x="1924" y="1391"/>
                </a:lnTo>
                <a:lnTo>
                  <a:pt x="1931" y="1391"/>
                </a:lnTo>
                <a:lnTo>
                  <a:pt x="1938" y="1384"/>
                </a:lnTo>
                <a:lnTo>
                  <a:pt x="1944" y="1377"/>
                </a:lnTo>
                <a:lnTo>
                  <a:pt x="1951" y="1371"/>
                </a:lnTo>
                <a:lnTo>
                  <a:pt x="1951" y="1371"/>
                </a:lnTo>
                <a:lnTo>
                  <a:pt x="1958" y="1364"/>
                </a:lnTo>
                <a:lnTo>
                  <a:pt x="1965" y="1357"/>
                </a:lnTo>
                <a:lnTo>
                  <a:pt x="1972" y="1350"/>
                </a:lnTo>
                <a:lnTo>
                  <a:pt x="1972" y="1343"/>
                </a:lnTo>
                <a:lnTo>
                  <a:pt x="1979" y="1336"/>
                </a:lnTo>
                <a:lnTo>
                  <a:pt x="1979" y="1329"/>
                </a:lnTo>
                <a:lnTo>
                  <a:pt x="1979" y="1322"/>
                </a:lnTo>
                <a:lnTo>
                  <a:pt x="1986" y="1309"/>
                </a:lnTo>
                <a:lnTo>
                  <a:pt x="1986" y="1302"/>
                </a:lnTo>
                <a:lnTo>
                  <a:pt x="1993" y="1295"/>
                </a:lnTo>
                <a:lnTo>
                  <a:pt x="1993" y="1288"/>
                </a:lnTo>
                <a:lnTo>
                  <a:pt x="2000" y="1281"/>
                </a:lnTo>
                <a:lnTo>
                  <a:pt x="2000" y="1274"/>
                </a:lnTo>
                <a:lnTo>
                  <a:pt x="2000" y="1260"/>
                </a:lnTo>
                <a:lnTo>
                  <a:pt x="2007" y="1253"/>
                </a:lnTo>
                <a:lnTo>
                  <a:pt x="2007" y="1247"/>
                </a:lnTo>
                <a:lnTo>
                  <a:pt x="2013" y="1240"/>
                </a:lnTo>
                <a:lnTo>
                  <a:pt x="2013" y="1233"/>
                </a:lnTo>
                <a:lnTo>
                  <a:pt x="2013" y="1226"/>
                </a:lnTo>
                <a:lnTo>
                  <a:pt x="2020" y="1219"/>
                </a:lnTo>
                <a:lnTo>
                  <a:pt x="2020" y="1212"/>
                </a:lnTo>
                <a:lnTo>
                  <a:pt x="2027" y="1205"/>
                </a:lnTo>
                <a:lnTo>
                  <a:pt x="2027" y="1191"/>
                </a:lnTo>
                <a:lnTo>
                  <a:pt x="2034" y="1185"/>
                </a:lnTo>
                <a:lnTo>
                  <a:pt x="2034" y="1178"/>
                </a:lnTo>
                <a:lnTo>
                  <a:pt x="2034" y="1171"/>
                </a:lnTo>
                <a:lnTo>
                  <a:pt x="2041" y="1171"/>
                </a:lnTo>
                <a:lnTo>
                  <a:pt x="2048" y="1178"/>
                </a:lnTo>
                <a:lnTo>
                  <a:pt x="2048" y="1191"/>
                </a:lnTo>
                <a:lnTo>
                  <a:pt x="2055" y="1198"/>
                </a:lnTo>
                <a:lnTo>
                  <a:pt x="2055" y="1205"/>
                </a:lnTo>
                <a:lnTo>
                  <a:pt x="2062" y="1212"/>
                </a:lnTo>
                <a:lnTo>
                  <a:pt x="2062" y="1219"/>
                </a:lnTo>
                <a:lnTo>
                  <a:pt x="2069" y="1226"/>
                </a:lnTo>
                <a:lnTo>
                  <a:pt x="2069" y="1233"/>
                </a:lnTo>
                <a:lnTo>
                  <a:pt x="2069" y="1219"/>
                </a:lnTo>
                <a:lnTo>
                  <a:pt x="2069" y="1185"/>
                </a:lnTo>
                <a:lnTo>
                  <a:pt x="2069" y="1157"/>
                </a:lnTo>
                <a:lnTo>
                  <a:pt x="2069" y="1123"/>
                </a:lnTo>
                <a:lnTo>
                  <a:pt x="2069" y="1095"/>
                </a:lnTo>
                <a:lnTo>
                  <a:pt x="2069" y="1061"/>
                </a:lnTo>
                <a:lnTo>
                  <a:pt x="2103" y="1033"/>
                </a:lnTo>
                <a:lnTo>
                  <a:pt x="2103" y="999"/>
                </a:lnTo>
                <a:lnTo>
                  <a:pt x="2103" y="964"/>
                </a:lnTo>
                <a:lnTo>
                  <a:pt x="2103" y="937"/>
                </a:lnTo>
                <a:lnTo>
                  <a:pt x="2103" y="902"/>
                </a:lnTo>
                <a:lnTo>
                  <a:pt x="2103" y="875"/>
                </a:lnTo>
                <a:lnTo>
                  <a:pt x="2103" y="840"/>
                </a:lnTo>
                <a:lnTo>
                  <a:pt x="2131" y="813"/>
                </a:lnTo>
                <a:lnTo>
                  <a:pt x="2131" y="778"/>
                </a:lnTo>
                <a:lnTo>
                  <a:pt x="2131" y="751"/>
                </a:lnTo>
                <a:lnTo>
                  <a:pt x="2131" y="716"/>
                </a:lnTo>
                <a:lnTo>
                  <a:pt x="2131" y="689"/>
                </a:lnTo>
                <a:lnTo>
                  <a:pt x="2131" y="654"/>
                </a:lnTo>
                <a:lnTo>
                  <a:pt x="2131" y="627"/>
                </a:lnTo>
                <a:lnTo>
                  <a:pt x="2165" y="592"/>
                </a:lnTo>
                <a:lnTo>
                  <a:pt x="2165" y="558"/>
                </a:lnTo>
                <a:lnTo>
                  <a:pt x="2165" y="530"/>
                </a:lnTo>
                <a:lnTo>
                  <a:pt x="2165" y="496"/>
                </a:lnTo>
                <a:lnTo>
                  <a:pt x="2165" y="468"/>
                </a:lnTo>
                <a:lnTo>
                  <a:pt x="2165" y="434"/>
                </a:lnTo>
                <a:lnTo>
                  <a:pt x="2165" y="406"/>
                </a:lnTo>
                <a:lnTo>
                  <a:pt x="2193" y="372"/>
                </a:lnTo>
                <a:lnTo>
                  <a:pt x="2193" y="344"/>
                </a:lnTo>
                <a:lnTo>
                  <a:pt x="2193" y="310"/>
                </a:lnTo>
                <a:lnTo>
                  <a:pt x="2193" y="282"/>
                </a:lnTo>
                <a:lnTo>
                  <a:pt x="2193" y="248"/>
                </a:lnTo>
                <a:lnTo>
                  <a:pt x="2193" y="213"/>
                </a:lnTo>
                <a:lnTo>
                  <a:pt x="2193" y="186"/>
                </a:lnTo>
                <a:lnTo>
                  <a:pt x="2227" y="151"/>
                </a:lnTo>
                <a:lnTo>
                  <a:pt x="2227" y="124"/>
                </a:lnTo>
                <a:lnTo>
                  <a:pt x="2227" y="89"/>
                </a:lnTo>
                <a:lnTo>
                  <a:pt x="2227" y="62"/>
                </a:lnTo>
                <a:lnTo>
                  <a:pt x="2227" y="27"/>
                </a:lnTo>
                <a:lnTo>
                  <a:pt x="2227" y="0"/>
                </a:lnTo>
                <a:lnTo>
                  <a:pt x="2193" y="0"/>
                </a:lnTo>
                <a:lnTo>
                  <a:pt x="2165" y="0"/>
                </a:lnTo>
                <a:lnTo>
                  <a:pt x="2131" y="0"/>
                </a:lnTo>
                <a:lnTo>
                  <a:pt x="2103" y="0"/>
                </a:lnTo>
                <a:lnTo>
                  <a:pt x="2069" y="27"/>
                </a:lnTo>
                <a:lnTo>
                  <a:pt x="2034" y="27"/>
                </a:lnTo>
                <a:lnTo>
                  <a:pt x="2007" y="27"/>
                </a:lnTo>
                <a:lnTo>
                  <a:pt x="1972" y="62"/>
                </a:lnTo>
                <a:lnTo>
                  <a:pt x="1944" y="62"/>
                </a:lnTo>
                <a:lnTo>
                  <a:pt x="1910" y="89"/>
                </a:lnTo>
                <a:lnTo>
                  <a:pt x="1882" y="89"/>
                </a:lnTo>
                <a:lnTo>
                  <a:pt x="1848" y="89"/>
                </a:lnTo>
                <a:lnTo>
                  <a:pt x="1820" y="124"/>
                </a:lnTo>
                <a:lnTo>
                  <a:pt x="1786" y="124"/>
                </a:lnTo>
                <a:lnTo>
                  <a:pt x="1758" y="151"/>
                </a:lnTo>
                <a:lnTo>
                  <a:pt x="1724" y="151"/>
                </a:lnTo>
                <a:lnTo>
                  <a:pt x="1689" y="151"/>
                </a:lnTo>
                <a:lnTo>
                  <a:pt x="1662" y="186"/>
                </a:lnTo>
                <a:lnTo>
                  <a:pt x="1627" y="186"/>
                </a:lnTo>
                <a:lnTo>
                  <a:pt x="1600" y="213"/>
                </a:lnTo>
                <a:lnTo>
                  <a:pt x="1565" y="213"/>
                </a:lnTo>
                <a:lnTo>
                  <a:pt x="1538" y="213"/>
                </a:lnTo>
                <a:lnTo>
                  <a:pt x="1503" y="248"/>
                </a:lnTo>
                <a:lnTo>
                  <a:pt x="1476" y="248"/>
                </a:lnTo>
                <a:lnTo>
                  <a:pt x="1441" y="282"/>
                </a:lnTo>
                <a:lnTo>
                  <a:pt x="1414" y="282"/>
                </a:lnTo>
                <a:lnTo>
                  <a:pt x="1379" y="282"/>
                </a:lnTo>
                <a:lnTo>
                  <a:pt x="1345" y="310"/>
                </a:lnTo>
                <a:lnTo>
                  <a:pt x="1317" y="310"/>
                </a:lnTo>
                <a:lnTo>
                  <a:pt x="1283" y="344"/>
                </a:lnTo>
                <a:lnTo>
                  <a:pt x="1255" y="344"/>
                </a:lnTo>
                <a:lnTo>
                  <a:pt x="1221" y="344"/>
                </a:lnTo>
                <a:lnTo>
                  <a:pt x="1193" y="372"/>
                </a:lnTo>
                <a:lnTo>
                  <a:pt x="1158" y="372"/>
                </a:lnTo>
                <a:lnTo>
                  <a:pt x="1131" y="406"/>
                </a:lnTo>
                <a:lnTo>
                  <a:pt x="1096" y="406"/>
                </a:lnTo>
                <a:lnTo>
                  <a:pt x="1069" y="406"/>
                </a:lnTo>
                <a:lnTo>
                  <a:pt x="1034" y="434"/>
                </a:lnTo>
                <a:lnTo>
                  <a:pt x="1007" y="434"/>
                </a:lnTo>
                <a:lnTo>
                  <a:pt x="972" y="468"/>
                </a:lnTo>
                <a:lnTo>
                  <a:pt x="938" y="468"/>
                </a:lnTo>
                <a:lnTo>
                  <a:pt x="910" y="468"/>
                </a:lnTo>
                <a:lnTo>
                  <a:pt x="876" y="496"/>
                </a:lnTo>
                <a:lnTo>
                  <a:pt x="876" y="530"/>
                </a:lnTo>
                <a:lnTo>
                  <a:pt x="848" y="558"/>
                </a:lnTo>
                <a:lnTo>
                  <a:pt x="848" y="592"/>
                </a:lnTo>
                <a:lnTo>
                  <a:pt x="814" y="627"/>
                </a:lnTo>
                <a:lnTo>
                  <a:pt x="814" y="654"/>
                </a:lnTo>
                <a:lnTo>
                  <a:pt x="786" y="689"/>
                </a:lnTo>
                <a:lnTo>
                  <a:pt x="786" y="716"/>
                </a:lnTo>
                <a:lnTo>
                  <a:pt x="752" y="751"/>
                </a:lnTo>
                <a:lnTo>
                  <a:pt x="752" y="778"/>
                </a:lnTo>
                <a:lnTo>
                  <a:pt x="724" y="813"/>
                </a:lnTo>
                <a:lnTo>
                  <a:pt x="724" y="840"/>
                </a:lnTo>
                <a:lnTo>
                  <a:pt x="724" y="875"/>
                </a:lnTo>
                <a:lnTo>
                  <a:pt x="690" y="902"/>
                </a:lnTo>
                <a:lnTo>
                  <a:pt x="690" y="937"/>
                </a:lnTo>
                <a:lnTo>
                  <a:pt x="662" y="964"/>
                </a:lnTo>
                <a:lnTo>
                  <a:pt x="662" y="999"/>
                </a:lnTo>
                <a:lnTo>
                  <a:pt x="628" y="1033"/>
                </a:lnTo>
                <a:lnTo>
                  <a:pt x="628" y="1061"/>
                </a:lnTo>
                <a:lnTo>
                  <a:pt x="593" y="1095"/>
                </a:lnTo>
                <a:lnTo>
                  <a:pt x="593" y="1123"/>
                </a:lnTo>
                <a:lnTo>
                  <a:pt x="565" y="1157"/>
                </a:lnTo>
                <a:lnTo>
                  <a:pt x="565" y="1185"/>
                </a:lnTo>
                <a:lnTo>
                  <a:pt x="531" y="1219"/>
                </a:lnTo>
                <a:lnTo>
                  <a:pt x="531" y="1247"/>
                </a:lnTo>
                <a:lnTo>
                  <a:pt x="531" y="1281"/>
                </a:lnTo>
                <a:lnTo>
                  <a:pt x="503" y="1309"/>
                </a:lnTo>
                <a:lnTo>
                  <a:pt x="503" y="1343"/>
                </a:lnTo>
                <a:lnTo>
                  <a:pt x="469" y="1377"/>
                </a:lnTo>
                <a:lnTo>
                  <a:pt x="469" y="1405"/>
                </a:lnTo>
                <a:lnTo>
                  <a:pt x="441" y="1439"/>
                </a:lnTo>
                <a:lnTo>
                  <a:pt x="441" y="1460"/>
                </a:lnTo>
                <a:lnTo>
                  <a:pt x="448" y="1460"/>
                </a:lnTo>
                <a:lnTo>
                  <a:pt x="455" y="1453"/>
                </a:lnTo>
                <a:lnTo>
                  <a:pt x="462" y="1453"/>
                </a:lnTo>
                <a:lnTo>
                  <a:pt x="469" y="1446"/>
                </a:lnTo>
                <a:lnTo>
                  <a:pt x="476" y="1439"/>
                </a:lnTo>
                <a:lnTo>
                  <a:pt x="476" y="1433"/>
                </a:lnTo>
                <a:lnTo>
                  <a:pt x="483" y="1426"/>
                </a:lnTo>
                <a:lnTo>
                  <a:pt x="490" y="1426"/>
                </a:lnTo>
                <a:lnTo>
                  <a:pt x="497" y="1419"/>
                </a:lnTo>
                <a:lnTo>
                  <a:pt x="497" y="1412"/>
                </a:lnTo>
                <a:lnTo>
                  <a:pt x="503" y="1405"/>
                </a:lnTo>
                <a:lnTo>
                  <a:pt x="510" y="1398"/>
                </a:lnTo>
                <a:lnTo>
                  <a:pt x="517" y="1391"/>
                </a:lnTo>
                <a:lnTo>
                  <a:pt x="524" y="1384"/>
                </a:lnTo>
                <a:lnTo>
                  <a:pt x="524" y="1377"/>
                </a:lnTo>
                <a:lnTo>
                  <a:pt x="531" y="1371"/>
                </a:lnTo>
                <a:lnTo>
                  <a:pt x="538" y="1371"/>
                </a:lnTo>
                <a:lnTo>
                  <a:pt x="545" y="1364"/>
                </a:lnTo>
                <a:lnTo>
                  <a:pt x="545" y="1357"/>
                </a:lnTo>
                <a:lnTo>
                  <a:pt x="552" y="1350"/>
                </a:lnTo>
                <a:lnTo>
                  <a:pt x="559" y="1343"/>
                </a:lnTo>
                <a:lnTo>
                  <a:pt x="565" y="1336"/>
                </a:lnTo>
                <a:lnTo>
                  <a:pt x="572" y="1329"/>
                </a:lnTo>
                <a:lnTo>
                  <a:pt x="572" y="1322"/>
                </a:lnTo>
                <a:lnTo>
                  <a:pt x="579" y="1315"/>
                </a:lnTo>
                <a:lnTo>
                  <a:pt x="586" y="1309"/>
                </a:lnTo>
                <a:lnTo>
                  <a:pt x="593" y="1309"/>
                </a:lnTo>
                <a:lnTo>
                  <a:pt x="593" y="1302"/>
                </a:lnTo>
                <a:lnTo>
                  <a:pt x="600" y="1295"/>
                </a:lnTo>
                <a:lnTo>
                  <a:pt x="607" y="1288"/>
                </a:lnTo>
                <a:lnTo>
                  <a:pt x="614" y="1281"/>
                </a:lnTo>
                <a:lnTo>
                  <a:pt x="621" y="1274"/>
                </a:lnTo>
                <a:lnTo>
                  <a:pt x="621" y="1267"/>
                </a:lnTo>
                <a:lnTo>
                  <a:pt x="628" y="1260"/>
                </a:lnTo>
                <a:lnTo>
                  <a:pt x="634" y="1253"/>
                </a:lnTo>
                <a:lnTo>
                  <a:pt x="641" y="1253"/>
                </a:lnTo>
                <a:lnTo>
                  <a:pt x="641" y="1247"/>
                </a:lnTo>
                <a:lnTo>
                  <a:pt x="648" y="1240"/>
                </a:lnTo>
                <a:lnTo>
                  <a:pt x="655" y="1233"/>
                </a:lnTo>
                <a:lnTo>
                  <a:pt x="662" y="1226"/>
                </a:lnTo>
                <a:lnTo>
                  <a:pt x="662" y="1219"/>
                </a:lnTo>
                <a:lnTo>
                  <a:pt x="669" y="1212"/>
                </a:lnTo>
                <a:lnTo>
                  <a:pt x="676" y="1205"/>
                </a:lnTo>
                <a:lnTo>
                  <a:pt x="683" y="1198"/>
                </a:lnTo>
                <a:lnTo>
                  <a:pt x="690" y="1191"/>
                </a:lnTo>
                <a:lnTo>
                  <a:pt x="690" y="1191"/>
                </a:lnTo>
                <a:lnTo>
                  <a:pt x="696" y="1185"/>
                </a:lnTo>
                <a:lnTo>
                  <a:pt x="703" y="1178"/>
                </a:lnTo>
                <a:lnTo>
                  <a:pt x="710" y="1171"/>
                </a:lnTo>
                <a:lnTo>
                  <a:pt x="717" y="1164"/>
                </a:lnTo>
                <a:lnTo>
                  <a:pt x="724" y="1164"/>
                </a:lnTo>
                <a:lnTo>
                  <a:pt x="731" y="1164"/>
                </a:lnTo>
                <a:lnTo>
                  <a:pt x="738" y="1164"/>
                </a:lnTo>
                <a:lnTo>
                  <a:pt x="745" y="1164"/>
                </a:lnTo>
                <a:lnTo>
                  <a:pt x="752" y="1171"/>
                </a:lnTo>
                <a:lnTo>
                  <a:pt x="759" y="1178"/>
                </a:lnTo>
                <a:lnTo>
                  <a:pt x="765" y="1178"/>
                </a:lnTo>
                <a:lnTo>
                  <a:pt x="772" y="1178"/>
                </a:lnTo>
                <a:lnTo>
                  <a:pt x="779" y="1178"/>
                </a:lnTo>
                <a:lnTo>
                  <a:pt x="786" y="1185"/>
                </a:lnTo>
                <a:lnTo>
                  <a:pt x="793" y="1185"/>
                </a:lnTo>
                <a:lnTo>
                  <a:pt x="800" y="1185"/>
                </a:lnTo>
                <a:lnTo>
                  <a:pt x="807" y="1191"/>
                </a:lnTo>
                <a:lnTo>
                  <a:pt x="814" y="1191"/>
                </a:lnTo>
                <a:lnTo>
                  <a:pt x="821" y="1191"/>
                </a:lnTo>
                <a:lnTo>
                  <a:pt x="828" y="1198"/>
                </a:lnTo>
                <a:lnTo>
                  <a:pt x="834" y="1198"/>
                </a:lnTo>
                <a:lnTo>
                  <a:pt x="841" y="1198"/>
                </a:lnTo>
                <a:lnTo>
                  <a:pt x="848" y="1198"/>
                </a:lnTo>
                <a:lnTo>
                  <a:pt x="855" y="1198"/>
                </a:lnTo>
                <a:lnTo>
                  <a:pt x="862" y="1198"/>
                </a:lnTo>
                <a:lnTo>
                  <a:pt x="869" y="1191"/>
                </a:lnTo>
                <a:lnTo>
                  <a:pt x="876" y="1191"/>
                </a:lnTo>
                <a:lnTo>
                  <a:pt x="883" y="1185"/>
                </a:lnTo>
                <a:lnTo>
                  <a:pt x="890" y="1178"/>
                </a:lnTo>
                <a:lnTo>
                  <a:pt x="896" y="1178"/>
                </a:lnTo>
                <a:lnTo>
                  <a:pt x="903" y="1171"/>
                </a:lnTo>
                <a:lnTo>
                  <a:pt x="903" y="1164"/>
                </a:lnTo>
                <a:lnTo>
                  <a:pt x="910" y="1157"/>
                </a:lnTo>
                <a:lnTo>
                  <a:pt x="917" y="1150"/>
                </a:lnTo>
                <a:lnTo>
                  <a:pt x="917" y="1143"/>
                </a:lnTo>
                <a:lnTo>
                  <a:pt x="924" y="1136"/>
                </a:lnTo>
                <a:lnTo>
                  <a:pt x="924" y="1129"/>
                </a:lnTo>
                <a:lnTo>
                  <a:pt x="931" y="1123"/>
                </a:lnTo>
                <a:lnTo>
                  <a:pt x="938" y="1116"/>
                </a:lnTo>
                <a:lnTo>
                  <a:pt x="945" y="1116"/>
                </a:lnTo>
                <a:lnTo>
                  <a:pt x="952" y="1116"/>
                </a:lnTo>
                <a:lnTo>
                  <a:pt x="959" y="1109"/>
                </a:lnTo>
                <a:lnTo>
                  <a:pt x="965" y="1109"/>
                </a:lnTo>
                <a:lnTo>
                  <a:pt x="972" y="1109"/>
                </a:lnTo>
                <a:lnTo>
                  <a:pt x="979" y="1109"/>
                </a:lnTo>
                <a:lnTo>
                  <a:pt x="986" y="1109"/>
                </a:lnTo>
                <a:lnTo>
                  <a:pt x="993" y="1109"/>
                </a:lnTo>
                <a:lnTo>
                  <a:pt x="1000" y="1109"/>
                </a:lnTo>
                <a:lnTo>
                  <a:pt x="1007" y="1109"/>
                </a:lnTo>
                <a:lnTo>
                  <a:pt x="1014" y="1109"/>
                </a:lnTo>
                <a:lnTo>
                  <a:pt x="1021" y="1102"/>
                </a:lnTo>
                <a:lnTo>
                  <a:pt x="1027" y="1102"/>
                </a:lnTo>
                <a:lnTo>
                  <a:pt x="1041" y="1102"/>
                </a:lnTo>
                <a:lnTo>
                  <a:pt x="1048" y="1102"/>
                </a:lnTo>
                <a:lnTo>
                  <a:pt x="1055" y="1102"/>
                </a:lnTo>
                <a:lnTo>
                  <a:pt x="1062" y="1102"/>
                </a:lnTo>
                <a:lnTo>
                  <a:pt x="1069" y="1102"/>
                </a:lnTo>
                <a:lnTo>
                  <a:pt x="1076" y="1102"/>
                </a:lnTo>
                <a:lnTo>
                  <a:pt x="1083" y="1102"/>
                </a:lnTo>
                <a:lnTo>
                  <a:pt x="1090" y="1102"/>
                </a:lnTo>
                <a:lnTo>
                  <a:pt x="1096" y="1102"/>
                </a:lnTo>
                <a:lnTo>
                  <a:pt x="1103" y="1102"/>
                </a:lnTo>
                <a:lnTo>
                  <a:pt x="1110" y="1102"/>
                </a:lnTo>
                <a:lnTo>
                  <a:pt x="1117" y="1102"/>
                </a:lnTo>
                <a:lnTo>
                  <a:pt x="1124" y="1102"/>
                </a:lnTo>
                <a:lnTo>
                  <a:pt x="1131" y="1102"/>
                </a:lnTo>
                <a:lnTo>
                  <a:pt x="1138" y="1102"/>
                </a:lnTo>
                <a:lnTo>
                  <a:pt x="1152" y="1102"/>
                </a:lnTo>
                <a:lnTo>
                  <a:pt x="1158" y="1102"/>
                </a:lnTo>
                <a:lnTo>
                  <a:pt x="1158" y="1102"/>
                </a:lnTo>
                <a:lnTo>
                  <a:pt x="1165" y="1109"/>
                </a:lnTo>
                <a:lnTo>
                  <a:pt x="1165" y="1123"/>
                </a:lnTo>
                <a:lnTo>
                  <a:pt x="1172" y="1129"/>
                </a:lnTo>
                <a:lnTo>
                  <a:pt x="1179" y="1136"/>
                </a:lnTo>
                <a:lnTo>
                  <a:pt x="1186" y="1136"/>
                </a:lnTo>
                <a:lnTo>
                  <a:pt x="1186" y="1143"/>
                </a:lnTo>
                <a:lnTo>
                  <a:pt x="1193" y="1150"/>
                </a:lnTo>
                <a:lnTo>
                  <a:pt x="1200" y="1157"/>
                </a:lnTo>
                <a:lnTo>
                  <a:pt x="1200" y="1171"/>
                </a:lnTo>
                <a:lnTo>
                  <a:pt x="1207" y="1178"/>
                </a:lnTo>
                <a:lnTo>
                  <a:pt x="1207" y="1185"/>
                </a:lnTo>
                <a:lnTo>
                  <a:pt x="1214" y="1191"/>
                </a:lnTo>
                <a:lnTo>
                  <a:pt x="1221" y="1198"/>
                </a:lnTo>
                <a:lnTo>
                  <a:pt x="1221" y="1205"/>
                </a:lnTo>
                <a:lnTo>
                  <a:pt x="1227" y="1212"/>
                </a:lnTo>
                <a:lnTo>
                  <a:pt x="1227" y="1219"/>
                </a:lnTo>
                <a:lnTo>
                  <a:pt x="1234" y="1226"/>
                </a:lnTo>
                <a:lnTo>
                  <a:pt x="1241" y="1233"/>
                </a:lnTo>
                <a:lnTo>
                  <a:pt x="1248" y="1240"/>
                </a:lnTo>
                <a:lnTo>
                  <a:pt x="1255" y="1247"/>
                </a:lnTo>
                <a:lnTo>
                  <a:pt x="1262" y="1240"/>
                </a:lnTo>
                <a:lnTo>
                  <a:pt x="1269" y="1240"/>
                </a:lnTo>
                <a:lnTo>
                  <a:pt x="1269" y="1233"/>
                </a:lnTo>
                <a:lnTo>
                  <a:pt x="1276" y="1219"/>
                </a:lnTo>
                <a:lnTo>
                  <a:pt x="1276" y="1212"/>
                </a:lnTo>
                <a:lnTo>
                  <a:pt x="1276" y="1205"/>
                </a:lnTo>
                <a:lnTo>
                  <a:pt x="1276" y="1191"/>
                </a:lnTo>
                <a:lnTo>
                  <a:pt x="1276" y="1185"/>
                </a:lnTo>
                <a:lnTo>
                  <a:pt x="1276" y="1178"/>
                </a:lnTo>
                <a:lnTo>
                  <a:pt x="1276" y="1164"/>
                </a:lnTo>
                <a:lnTo>
                  <a:pt x="1276" y="1157"/>
                </a:lnTo>
                <a:lnTo>
                  <a:pt x="1276" y="1150"/>
                </a:lnTo>
                <a:lnTo>
                  <a:pt x="1283" y="1136"/>
                </a:lnTo>
                <a:lnTo>
                  <a:pt x="1283" y="1129"/>
                </a:lnTo>
                <a:lnTo>
                  <a:pt x="1283" y="1123"/>
                </a:lnTo>
                <a:lnTo>
                  <a:pt x="1283" y="1109"/>
                </a:lnTo>
                <a:lnTo>
                  <a:pt x="1283" y="1102"/>
                </a:lnTo>
                <a:lnTo>
                  <a:pt x="1283" y="1095"/>
                </a:lnTo>
                <a:lnTo>
                  <a:pt x="1283" y="1088"/>
                </a:lnTo>
                <a:lnTo>
                  <a:pt x="1289" y="1081"/>
                </a:lnTo>
                <a:lnTo>
                  <a:pt x="1296" y="1074"/>
                </a:lnTo>
                <a:lnTo>
                  <a:pt x="1303" y="1067"/>
                </a:lnTo>
                <a:lnTo>
                  <a:pt x="1310" y="1067"/>
                </a:lnTo>
                <a:lnTo>
                  <a:pt x="1317" y="1061"/>
                </a:lnTo>
                <a:lnTo>
                  <a:pt x="1324" y="1054"/>
                </a:lnTo>
                <a:lnTo>
                  <a:pt x="1331" y="1047"/>
                </a:lnTo>
                <a:lnTo>
                  <a:pt x="1331" y="1047"/>
                </a:lnTo>
                <a:lnTo>
                  <a:pt x="1338" y="1040"/>
                </a:lnTo>
                <a:lnTo>
                  <a:pt x="1345" y="1033"/>
                </a:lnTo>
                <a:lnTo>
                  <a:pt x="1352" y="1033"/>
                </a:lnTo>
                <a:lnTo>
                  <a:pt x="1358" y="1026"/>
                </a:lnTo>
                <a:lnTo>
                  <a:pt x="1365" y="1019"/>
                </a:lnTo>
                <a:lnTo>
                  <a:pt x="1372" y="1012"/>
                </a:lnTo>
                <a:lnTo>
                  <a:pt x="1379" y="1012"/>
                </a:lnTo>
                <a:lnTo>
                  <a:pt x="1386" y="1005"/>
                </a:lnTo>
                <a:lnTo>
                  <a:pt x="1393" y="1005"/>
                </a:lnTo>
                <a:lnTo>
                  <a:pt x="1393" y="999"/>
                </a:lnTo>
                <a:lnTo>
                  <a:pt x="1400" y="992"/>
                </a:lnTo>
                <a:lnTo>
                  <a:pt x="1407" y="992"/>
                </a:lnTo>
                <a:lnTo>
                  <a:pt x="1414" y="985"/>
                </a:lnTo>
                <a:lnTo>
                  <a:pt x="1420" y="978"/>
                </a:lnTo>
                <a:lnTo>
                  <a:pt x="1427" y="978"/>
                </a:lnTo>
                <a:lnTo>
                  <a:pt x="1434" y="978"/>
                </a:lnTo>
                <a:lnTo>
                  <a:pt x="1441" y="971"/>
                </a:lnTo>
                <a:lnTo>
                  <a:pt x="1448" y="971"/>
                </a:lnTo>
                <a:lnTo>
                  <a:pt x="1455" y="971"/>
                </a:lnTo>
                <a:lnTo>
                  <a:pt x="1462" y="971"/>
                </a:lnTo>
                <a:lnTo>
                  <a:pt x="1469" y="964"/>
                </a:lnTo>
                <a:lnTo>
                  <a:pt x="1476" y="964"/>
                </a:lnTo>
                <a:lnTo>
                  <a:pt x="1483" y="971"/>
                </a:lnTo>
                <a:lnTo>
                  <a:pt x="1489" y="978"/>
                </a:lnTo>
                <a:lnTo>
                  <a:pt x="1489" y="992"/>
                </a:lnTo>
                <a:lnTo>
                  <a:pt x="1489" y="999"/>
                </a:lnTo>
                <a:lnTo>
                  <a:pt x="1496" y="1005"/>
                </a:lnTo>
                <a:lnTo>
                  <a:pt x="1496" y="1012"/>
                </a:lnTo>
                <a:lnTo>
                  <a:pt x="1503" y="1026"/>
                </a:lnTo>
                <a:lnTo>
                  <a:pt x="1503" y="1033"/>
                </a:lnTo>
                <a:lnTo>
                  <a:pt x="1510" y="1040"/>
                </a:lnTo>
                <a:lnTo>
                  <a:pt x="1510" y="1047"/>
                </a:lnTo>
                <a:lnTo>
                  <a:pt x="1517" y="1054"/>
                </a:lnTo>
                <a:lnTo>
                  <a:pt x="1517" y="1061"/>
                </a:lnTo>
                <a:lnTo>
                  <a:pt x="1524" y="1074"/>
                </a:lnTo>
                <a:lnTo>
                  <a:pt x="1524" y="1081"/>
                </a:lnTo>
                <a:lnTo>
                  <a:pt x="1531" y="1088"/>
                </a:lnTo>
                <a:lnTo>
                  <a:pt x="1531" y="1095"/>
                </a:lnTo>
                <a:lnTo>
                  <a:pt x="1538" y="1102"/>
                </a:lnTo>
                <a:lnTo>
                  <a:pt x="1538" y="1109"/>
                </a:lnTo>
                <a:lnTo>
                  <a:pt x="1545" y="1123"/>
                </a:lnTo>
                <a:lnTo>
                  <a:pt x="1545" y="1129"/>
                </a:lnTo>
                <a:lnTo>
                  <a:pt x="1551" y="1136"/>
                </a:lnTo>
                <a:lnTo>
                  <a:pt x="1551" y="1143"/>
                </a:lnTo>
                <a:lnTo>
                  <a:pt x="1558" y="1150"/>
                </a:lnTo>
                <a:lnTo>
                  <a:pt x="1558" y="1164"/>
                </a:lnTo>
                <a:lnTo>
                  <a:pt x="1565" y="1171"/>
                </a:lnTo>
                <a:lnTo>
                  <a:pt x="1565" y="1178"/>
                </a:lnTo>
                <a:lnTo>
                  <a:pt x="1572" y="1185"/>
                </a:lnTo>
                <a:lnTo>
                  <a:pt x="1572" y="1191"/>
                </a:lnTo>
                <a:lnTo>
                  <a:pt x="1579" y="1198"/>
                </a:lnTo>
                <a:lnTo>
                  <a:pt x="1579" y="1212"/>
                </a:lnTo>
                <a:lnTo>
                  <a:pt x="1586" y="1219"/>
                </a:lnTo>
                <a:lnTo>
                  <a:pt x="1586" y="1226"/>
                </a:lnTo>
                <a:lnTo>
                  <a:pt x="1593" y="1233"/>
                </a:lnTo>
                <a:lnTo>
                  <a:pt x="1593" y="1240"/>
                </a:lnTo>
                <a:lnTo>
                  <a:pt x="1600" y="1247"/>
                </a:lnTo>
                <a:lnTo>
                  <a:pt x="1600" y="1260"/>
                </a:lnTo>
                <a:lnTo>
                  <a:pt x="1607" y="1267"/>
                </a:lnTo>
                <a:lnTo>
                  <a:pt x="1607" y="1274"/>
                </a:lnTo>
                <a:lnTo>
                  <a:pt x="1614" y="1281"/>
                </a:lnTo>
                <a:lnTo>
                  <a:pt x="1614" y="1288"/>
                </a:lnTo>
                <a:lnTo>
                  <a:pt x="1620" y="1295"/>
                </a:lnTo>
                <a:lnTo>
                  <a:pt x="1620" y="1309"/>
                </a:lnTo>
                <a:lnTo>
                  <a:pt x="1627" y="1315"/>
                </a:lnTo>
                <a:lnTo>
                  <a:pt x="1627" y="1322"/>
                </a:lnTo>
                <a:lnTo>
                  <a:pt x="1634" y="1329"/>
                </a:lnTo>
                <a:lnTo>
                  <a:pt x="1634" y="1336"/>
                </a:lnTo>
                <a:lnTo>
                  <a:pt x="1641" y="1350"/>
                </a:lnTo>
                <a:lnTo>
                  <a:pt x="1641" y="1357"/>
                </a:lnTo>
                <a:lnTo>
                  <a:pt x="1648" y="1364"/>
                </a:lnTo>
                <a:lnTo>
                  <a:pt x="1648" y="1371"/>
                </a:lnTo>
                <a:lnTo>
                  <a:pt x="1641" y="1377"/>
                </a:lnTo>
                <a:lnTo>
                  <a:pt x="1634" y="1384"/>
                </a:lnTo>
                <a:lnTo>
                  <a:pt x="1627" y="1384"/>
                </a:lnTo>
                <a:lnTo>
                  <a:pt x="1620" y="1384"/>
                </a:lnTo>
                <a:lnTo>
                  <a:pt x="1614" y="1384"/>
                </a:lnTo>
                <a:lnTo>
                  <a:pt x="1607" y="1384"/>
                </a:lnTo>
                <a:lnTo>
                  <a:pt x="1600" y="1384"/>
                </a:lnTo>
                <a:lnTo>
                  <a:pt x="1593" y="1384"/>
                </a:lnTo>
                <a:lnTo>
                  <a:pt x="1579" y="1384"/>
                </a:lnTo>
                <a:lnTo>
                  <a:pt x="1572" y="1384"/>
                </a:lnTo>
                <a:lnTo>
                  <a:pt x="1565" y="1384"/>
                </a:lnTo>
                <a:lnTo>
                  <a:pt x="1558" y="1384"/>
                </a:lnTo>
                <a:lnTo>
                  <a:pt x="1551" y="1384"/>
                </a:lnTo>
                <a:lnTo>
                  <a:pt x="1545" y="1384"/>
                </a:lnTo>
                <a:lnTo>
                  <a:pt x="1538" y="1384"/>
                </a:lnTo>
                <a:lnTo>
                  <a:pt x="1531" y="1384"/>
                </a:lnTo>
                <a:lnTo>
                  <a:pt x="1524" y="1384"/>
                </a:lnTo>
                <a:lnTo>
                  <a:pt x="1517" y="1384"/>
                </a:lnTo>
                <a:lnTo>
                  <a:pt x="1510" y="1384"/>
                </a:lnTo>
                <a:lnTo>
                  <a:pt x="1503" y="1384"/>
                </a:lnTo>
                <a:lnTo>
                  <a:pt x="1496" y="1384"/>
                </a:lnTo>
                <a:lnTo>
                  <a:pt x="1489" y="1384"/>
                </a:lnTo>
                <a:lnTo>
                  <a:pt x="1483" y="1391"/>
                </a:lnTo>
                <a:lnTo>
                  <a:pt x="1476" y="1398"/>
                </a:lnTo>
                <a:lnTo>
                  <a:pt x="1469" y="1405"/>
                </a:lnTo>
                <a:lnTo>
                  <a:pt x="1469" y="1405"/>
                </a:lnTo>
                <a:lnTo>
                  <a:pt x="1483" y="1412"/>
                </a:lnTo>
                <a:lnTo>
                  <a:pt x="1489" y="1412"/>
                </a:lnTo>
                <a:lnTo>
                  <a:pt x="1496" y="1412"/>
                </a:lnTo>
                <a:lnTo>
                  <a:pt x="1503" y="1419"/>
                </a:lnTo>
                <a:lnTo>
                  <a:pt x="1503" y="1419"/>
                </a:lnTo>
                <a:lnTo>
                  <a:pt x="1510" y="1426"/>
                </a:lnTo>
                <a:lnTo>
                  <a:pt x="1517" y="1426"/>
                </a:lnTo>
                <a:lnTo>
                  <a:pt x="1531" y="1433"/>
                </a:lnTo>
                <a:lnTo>
                  <a:pt x="1538" y="1433"/>
                </a:lnTo>
                <a:lnTo>
                  <a:pt x="1545" y="1433"/>
                </a:lnTo>
                <a:lnTo>
                  <a:pt x="1551" y="1439"/>
                </a:lnTo>
                <a:lnTo>
                  <a:pt x="1558" y="1439"/>
                </a:lnTo>
                <a:lnTo>
                  <a:pt x="1565" y="1446"/>
                </a:lnTo>
                <a:lnTo>
                  <a:pt x="1572" y="1446"/>
                </a:lnTo>
                <a:lnTo>
                  <a:pt x="1579" y="1446"/>
                </a:lnTo>
                <a:lnTo>
                  <a:pt x="1586" y="1453"/>
                </a:lnTo>
                <a:lnTo>
                  <a:pt x="1593" y="1453"/>
                </a:lnTo>
                <a:lnTo>
                  <a:pt x="1600" y="1460"/>
                </a:lnTo>
                <a:lnTo>
                  <a:pt x="1607" y="1460"/>
                </a:lnTo>
                <a:lnTo>
                  <a:pt x="1607" y="1467"/>
                </a:lnTo>
                <a:lnTo>
                  <a:pt x="1614" y="1467"/>
                </a:lnTo>
                <a:lnTo>
                  <a:pt x="1627" y="1467"/>
                </a:lnTo>
                <a:lnTo>
                  <a:pt x="1634" y="1467"/>
                </a:lnTo>
                <a:lnTo>
                  <a:pt x="1641" y="1467"/>
                </a:lnTo>
                <a:lnTo>
                  <a:pt x="1648" y="1467"/>
                </a:lnTo>
                <a:lnTo>
                  <a:pt x="1655" y="1467"/>
                </a:lnTo>
                <a:lnTo>
                  <a:pt x="1662" y="1467"/>
                </a:lnTo>
                <a:lnTo>
                  <a:pt x="1669" y="1460"/>
                </a:lnTo>
                <a:lnTo>
                  <a:pt x="1676" y="1453"/>
                </a:lnTo>
                <a:lnTo>
                  <a:pt x="1682" y="1453"/>
                </a:lnTo>
                <a:lnTo>
                  <a:pt x="1689" y="1453"/>
                </a:lnTo>
                <a:lnTo>
                  <a:pt x="1696" y="1460"/>
                </a:lnTo>
                <a:lnTo>
                  <a:pt x="1696" y="1467"/>
                </a:lnTo>
                <a:lnTo>
                  <a:pt x="1703" y="1474"/>
                </a:lnTo>
                <a:lnTo>
                  <a:pt x="1703" y="1488"/>
                </a:lnTo>
                <a:lnTo>
                  <a:pt x="1703" y="1495"/>
                </a:lnTo>
                <a:lnTo>
                  <a:pt x="1710" y="1501"/>
                </a:lnTo>
                <a:lnTo>
                  <a:pt x="1710" y="1515"/>
                </a:lnTo>
                <a:lnTo>
                  <a:pt x="1710" y="1522"/>
                </a:lnTo>
                <a:lnTo>
                  <a:pt x="1710" y="1529"/>
                </a:lnTo>
                <a:lnTo>
                  <a:pt x="1703" y="1536"/>
                </a:lnTo>
                <a:lnTo>
                  <a:pt x="1703" y="1550"/>
                </a:lnTo>
                <a:lnTo>
                  <a:pt x="1703" y="1557"/>
                </a:lnTo>
                <a:lnTo>
                  <a:pt x="1703" y="1563"/>
                </a:lnTo>
                <a:lnTo>
                  <a:pt x="1703" y="1577"/>
                </a:lnTo>
                <a:lnTo>
                  <a:pt x="1703" y="1584"/>
                </a:lnTo>
                <a:lnTo>
                  <a:pt x="1703" y="1591"/>
                </a:lnTo>
                <a:lnTo>
                  <a:pt x="1710" y="1598"/>
                </a:lnTo>
                <a:lnTo>
                  <a:pt x="1717" y="1598"/>
                </a:lnTo>
                <a:lnTo>
                  <a:pt x="1724" y="1591"/>
                </a:lnTo>
                <a:close/>
                <a:moveTo>
                  <a:pt x="1014" y="1467"/>
                </a:moveTo>
                <a:lnTo>
                  <a:pt x="1007" y="1460"/>
                </a:lnTo>
                <a:lnTo>
                  <a:pt x="1000" y="1460"/>
                </a:lnTo>
                <a:lnTo>
                  <a:pt x="993" y="1460"/>
                </a:lnTo>
                <a:lnTo>
                  <a:pt x="986" y="1460"/>
                </a:lnTo>
                <a:lnTo>
                  <a:pt x="979" y="1460"/>
                </a:lnTo>
                <a:lnTo>
                  <a:pt x="972" y="1467"/>
                </a:lnTo>
                <a:lnTo>
                  <a:pt x="972" y="1467"/>
                </a:lnTo>
                <a:lnTo>
                  <a:pt x="972" y="1474"/>
                </a:lnTo>
                <a:lnTo>
                  <a:pt x="979" y="1474"/>
                </a:lnTo>
                <a:lnTo>
                  <a:pt x="986" y="1481"/>
                </a:lnTo>
                <a:lnTo>
                  <a:pt x="993" y="1481"/>
                </a:lnTo>
                <a:lnTo>
                  <a:pt x="1000" y="1481"/>
                </a:lnTo>
                <a:lnTo>
                  <a:pt x="1007" y="1474"/>
                </a:lnTo>
                <a:lnTo>
                  <a:pt x="1014" y="1467"/>
                </a:lnTo>
                <a:close/>
                <a:moveTo>
                  <a:pt x="903" y="999"/>
                </a:moveTo>
                <a:lnTo>
                  <a:pt x="896" y="992"/>
                </a:lnTo>
                <a:lnTo>
                  <a:pt x="890" y="985"/>
                </a:lnTo>
                <a:lnTo>
                  <a:pt x="883" y="985"/>
                </a:lnTo>
                <a:lnTo>
                  <a:pt x="876" y="978"/>
                </a:lnTo>
                <a:lnTo>
                  <a:pt x="876" y="971"/>
                </a:lnTo>
                <a:lnTo>
                  <a:pt x="869" y="964"/>
                </a:lnTo>
                <a:lnTo>
                  <a:pt x="862" y="957"/>
                </a:lnTo>
                <a:lnTo>
                  <a:pt x="862" y="943"/>
                </a:lnTo>
                <a:lnTo>
                  <a:pt x="855" y="937"/>
                </a:lnTo>
                <a:lnTo>
                  <a:pt x="855" y="930"/>
                </a:lnTo>
                <a:lnTo>
                  <a:pt x="848" y="923"/>
                </a:lnTo>
                <a:lnTo>
                  <a:pt x="841" y="916"/>
                </a:lnTo>
                <a:lnTo>
                  <a:pt x="834" y="909"/>
                </a:lnTo>
                <a:lnTo>
                  <a:pt x="834" y="902"/>
                </a:lnTo>
                <a:lnTo>
                  <a:pt x="828" y="895"/>
                </a:lnTo>
                <a:lnTo>
                  <a:pt x="828" y="888"/>
                </a:lnTo>
                <a:lnTo>
                  <a:pt x="821" y="881"/>
                </a:lnTo>
                <a:lnTo>
                  <a:pt x="814" y="875"/>
                </a:lnTo>
                <a:lnTo>
                  <a:pt x="807" y="868"/>
                </a:lnTo>
                <a:lnTo>
                  <a:pt x="807" y="861"/>
                </a:lnTo>
                <a:lnTo>
                  <a:pt x="800" y="854"/>
                </a:lnTo>
                <a:lnTo>
                  <a:pt x="793" y="847"/>
                </a:lnTo>
                <a:lnTo>
                  <a:pt x="793" y="840"/>
                </a:lnTo>
                <a:lnTo>
                  <a:pt x="793" y="833"/>
                </a:lnTo>
                <a:lnTo>
                  <a:pt x="786" y="819"/>
                </a:lnTo>
                <a:lnTo>
                  <a:pt x="793" y="813"/>
                </a:lnTo>
                <a:lnTo>
                  <a:pt x="793" y="806"/>
                </a:lnTo>
                <a:lnTo>
                  <a:pt x="793" y="792"/>
                </a:lnTo>
                <a:lnTo>
                  <a:pt x="800" y="785"/>
                </a:lnTo>
                <a:lnTo>
                  <a:pt x="800" y="778"/>
                </a:lnTo>
                <a:lnTo>
                  <a:pt x="800" y="771"/>
                </a:lnTo>
                <a:lnTo>
                  <a:pt x="807" y="758"/>
                </a:lnTo>
                <a:lnTo>
                  <a:pt x="807" y="751"/>
                </a:lnTo>
                <a:lnTo>
                  <a:pt x="807" y="744"/>
                </a:lnTo>
                <a:lnTo>
                  <a:pt x="814" y="737"/>
                </a:lnTo>
                <a:lnTo>
                  <a:pt x="814" y="723"/>
                </a:lnTo>
                <a:lnTo>
                  <a:pt x="821" y="716"/>
                </a:lnTo>
                <a:lnTo>
                  <a:pt x="821" y="709"/>
                </a:lnTo>
                <a:lnTo>
                  <a:pt x="828" y="702"/>
                </a:lnTo>
                <a:lnTo>
                  <a:pt x="828" y="696"/>
                </a:lnTo>
                <a:lnTo>
                  <a:pt x="834" y="682"/>
                </a:lnTo>
                <a:lnTo>
                  <a:pt x="834" y="675"/>
                </a:lnTo>
                <a:lnTo>
                  <a:pt x="834" y="668"/>
                </a:lnTo>
                <a:lnTo>
                  <a:pt x="834" y="654"/>
                </a:lnTo>
                <a:lnTo>
                  <a:pt x="834" y="647"/>
                </a:lnTo>
                <a:lnTo>
                  <a:pt x="841" y="640"/>
                </a:lnTo>
                <a:lnTo>
                  <a:pt x="841" y="627"/>
                </a:lnTo>
                <a:lnTo>
                  <a:pt x="848" y="627"/>
                </a:lnTo>
                <a:lnTo>
                  <a:pt x="855" y="620"/>
                </a:lnTo>
                <a:lnTo>
                  <a:pt x="862" y="613"/>
                </a:lnTo>
                <a:lnTo>
                  <a:pt x="869" y="606"/>
                </a:lnTo>
                <a:lnTo>
                  <a:pt x="876" y="599"/>
                </a:lnTo>
                <a:lnTo>
                  <a:pt x="876" y="599"/>
                </a:lnTo>
                <a:lnTo>
                  <a:pt x="883" y="599"/>
                </a:lnTo>
                <a:lnTo>
                  <a:pt x="890" y="599"/>
                </a:lnTo>
                <a:lnTo>
                  <a:pt x="896" y="599"/>
                </a:lnTo>
                <a:lnTo>
                  <a:pt x="910" y="599"/>
                </a:lnTo>
                <a:lnTo>
                  <a:pt x="917" y="606"/>
                </a:lnTo>
                <a:lnTo>
                  <a:pt x="924" y="606"/>
                </a:lnTo>
                <a:lnTo>
                  <a:pt x="931" y="606"/>
                </a:lnTo>
                <a:lnTo>
                  <a:pt x="938" y="606"/>
                </a:lnTo>
                <a:lnTo>
                  <a:pt x="945" y="606"/>
                </a:lnTo>
                <a:lnTo>
                  <a:pt x="952" y="606"/>
                </a:lnTo>
                <a:lnTo>
                  <a:pt x="959" y="613"/>
                </a:lnTo>
                <a:lnTo>
                  <a:pt x="965" y="613"/>
                </a:lnTo>
                <a:lnTo>
                  <a:pt x="972" y="620"/>
                </a:lnTo>
                <a:lnTo>
                  <a:pt x="979" y="620"/>
                </a:lnTo>
                <a:lnTo>
                  <a:pt x="986" y="627"/>
                </a:lnTo>
                <a:lnTo>
                  <a:pt x="986" y="634"/>
                </a:lnTo>
                <a:lnTo>
                  <a:pt x="993" y="640"/>
                </a:lnTo>
                <a:lnTo>
                  <a:pt x="1000" y="640"/>
                </a:lnTo>
                <a:lnTo>
                  <a:pt x="1007" y="647"/>
                </a:lnTo>
                <a:lnTo>
                  <a:pt x="1014" y="654"/>
                </a:lnTo>
                <a:lnTo>
                  <a:pt x="1021" y="661"/>
                </a:lnTo>
                <a:lnTo>
                  <a:pt x="1021" y="668"/>
                </a:lnTo>
                <a:lnTo>
                  <a:pt x="1021" y="675"/>
                </a:lnTo>
                <a:lnTo>
                  <a:pt x="1021" y="689"/>
                </a:lnTo>
                <a:lnTo>
                  <a:pt x="1021" y="696"/>
                </a:lnTo>
                <a:lnTo>
                  <a:pt x="1021" y="702"/>
                </a:lnTo>
                <a:lnTo>
                  <a:pt x="1027" y="716"/>
                </a:lnTo>
                <a:lnTo>
                  <a:pt x="1027" y="723"/>
                </a:lnTo>
                <a:lnTo>
                  <a:pt x="1027" y="737"/>
                </a:lnTo>
                <a:lnTo>
                  <a:pt x="1027" y="744"/>
                </a:lnTo>
                <a:lnTo>
                  <a:pt x="1034" y="751"/>
                </a:lnTo>
                <a:lnTo>
                  <a:pt x="1041" y="751"/>
                </a:lnTo>
                <a:lnTo>
                  <a:pt x="1048" y="751"/>
                </a:lnTo>
                <a:lnTo>
                  <a:pt x="1055" y="751"/>
                </a:lnTo>
                <a:lnTo>
                  <a:pt x="1062" y="751"/>
                </a:lnTo>
                <a:lnTo>
                  <a:pt x="1069" y="751"/>
                </a:lnTo>
                <a:lnTo>
                  <a:pt x="1076" y="758"/>
                </a:lnTo>
                <a:lnTo>
                  <a:pt x="1083" y="764"/>
                </a:lnTo>
                <a:lnTo>
                  <a:pt x="1083" y="771"/>
                </a:lnTo>
                <a:lnTo>
                  <a:pt x="1090" y="778"/>
                </a:lnTo>
                <a:lnTo>
                  <a:pt x="1090" y="792"/>
                </a:lnTo>
                <a:lnTo>
                  <a:pt x="1090" y="799"/>
                </a:lnTo>
                <a:lnTo>
                  <a:pt x="1090" y="806"/>
                </a:lnTo>
                <a:lnTo>
                  <a:pt x="1083" y="819"/>
                </a:lnTo>
                <a:lnTo>
                  <a:pt x="1083" y="826"/>
                </a:lnTo>
                <a:lnTo>
                  <a:pt x="1083" y="833"/>
                </a:lnTo>
                <a:lnTo>
                  <a:pt x="1083" y="847"/>
                </a:lnTo>
                <a:lnTo>
                  <a:pt x="1090" y="854"/>
                </a:lnTo>
                <a:lnTo>
                  <a:pt x="1083" y="868"/>
                </a:lnTo>
                <a:lnTo>
                  <a:pt x="1083" y="875"/>
                </a:lnTo>
                <a:lnTo>
                  <a:pt x="1076" y="881"/>
                </a:lnTo>
                <a:lnTo>
                  <a:pt x="1076" y="888"/>
                </a:lnTo>
                <a:lnTo>
                  <a:pt x="1069" y="888"/>
                </a:lnTo>
                <a:lnTo>
                  <a:pt x="1062" y="895"/>
                </a:lnTo>
                <a:lnTo>
                  <a:pt x="1055" y="902"/>
                </a:lnTo>
                <a:lnTo>
                  <a:pt x="1048" y="902"/>
                </a:lnTo>
                <a:lnTo>
                  <a:pt x="1041" y="902"/>
                </a:lnTo>
                <a:lnTo>
                  <a:pt x="1034" y="909"/>
                </a:lnTo>
                <a:lnTo>
                  <a:pt x="1027" y="916"/>
                </a:lnTo>
                <a:lnTo>
                  <a:pt x="1021" y="916"/>
                </a:lnTo>
                <a:lnTo>
                  <a:pt x="1014" y="923"/>
                </a:lnTo>
                <a:lnTo>
                  <a:pt x="1007" y="923"/>
                </a:lnTo>
                <a:lnTo>
                  <a:pt x="1000" y="923"/>
                </a:lnTo>
                <a:lnTo>
                  <a:pt x="993" y="923"/>
                </a:lnTo>
                <a:lnTo>
                  <a:pt x="979" y="923"/>
                </a:lnTo>
                <a:lnTo>
                  <a:pt x="972" y="923"/>
                </a:lnTo>
                <a:lnTo>
                  <a:pt x="972" y="930"/>
                </a:lnTo>
                <a:lnTo>
                  <a:pt x="965" y="943"/>
                </a:lnTo>
                <a:lnTo>
                  <a:pt x="965" y="950"/>
                </a:lnTo>
                <a:lnTo>
                  <a:pt x="959" y="957"/>
                </a:lnTo>
                <a:lnTo>
                  <a:pt x="952" y="957"/>
                </a:lnTo>
                <a:lnTo>
                  <a:pt x="945" y="964"/>
                </a:lnTo>
                <a:lnTo>
                  <a:pt x="938" y="971"/>
                </a:lnTo>
                <a:lnTo>
                  <a:pt x="938" y="978"/>
                </a:lnTo>
                <a:lnTo>
                  <a:pt x="931" y="985"/>
                </a:lnTo>
                <a:lnTo>
                  <a:pt x="931" y="992"/>
                </a:lnTo>
                <a:lnTo>
                  <a:pt x="924" y="999"/>
                </a:lnTo>
                <a:lnTo>
                  <a:pt x="917" y="1005"/>
                </a:lnTo>
                <a:lnTo>
                  <a:pt x="910" y="1012"/>
                </a:lnTo>
                <a:lnTo>
                  <a:pt x="903" y="1005"/>
                </a:lnTo>
                <a:lnTo>
                  <a:pt x="903" y="999"/>
                </a:lnTo>
                <a:close/>
                <a:moveTo>
                  <a:pt x="1717" y="558"/>
                </a:moveTo>
                <a:lnTo>
                  <a:pt x="1717" y="558"/>
                </a:lnTo>
                <a:lnTo>
                  <a:pt x="1724" y="551"/>
                </a:lnTo>
                <a:lnTo>
                  <a:pt x="1724" y="544"/>
                </a:lnTo>
                <a:lnTo>
                  <a:pt x="1731" y="544"/>
                </a:lnTo>
                <a:lnTo>
                  <a:pt x="1738" y="537"/>
                </a:lnTo>
                <a:lnTo>
                  <a:pt x="1745" y="537"/>
                </a:lnTo>
                <a:lnTo>
                  <a:pt x="1745" y="530"/>
                </a:lnTo>
                <a:lnTo>
                  <a:pt x="1751" y="523"/>
                </a:lnTo>
                <a:lnTo>
                  <a:pt x="1751" y="510"/>
                </a:lnTo>
                <a:lnTo>
                  <a:pt x="1751" y="503"/>
                </a:lnTo>
                <a:lnTo>
                  <a:pt x="1751" y="503"/>
                </a:lnTo>
                <a:lnTo>
                  <a:pt x="1758" y="496"/>
                </a:lnTo>
                <a:lnTo>
                  <a:pt x="1765" y="496"/>
                </a:lnTo>
                <a:lnTo>
                  <a:pt x="1772" y="489"/>
                </a:lnTo>
                <a:lnTo>
                  <a:pt x="1779" y="482"/>
                </a:lnTo>
                <a:lnTo>
                  <a:pt x="1786" y="482"/>
                </a:lnTo>
                <a:lnTo>
                  <a:pt x="1786" y="482"/>
                </a:lnTo>
                <a:lnTo>
                  <a:pt x="1793" y="496"/>
                </a:lnTo>
                <a:lnTo>
                  <a:pt x="1786" y="503"/>
                </a:lnTo>
                <a:lnTo>
                  <a:pt x="1786" y="503"/>
                </a:lnTo>
                <a:lnTo>
                  <a:pt x="1779" y="510"/>
                </a:lnTo>
                <a:lnTo>
                  <a:pt x="1772" y="516"/>
                </a:lnTo>
                <a:lnTo>
                  <a:pt x="1772" y="523"/>
                </a:lnTo>
                <a:lnTo>
                  <a:pt x="1765" y="523"/>
                </a:lnTo>
                <a:lnTo>
                  <a:pt x="1765" y="530"/>
                </a:lnTo>
                <a:lnTo>
                  <a:pt x="1758" y="537"/>
                </a:lnTo>
                <a:lnTo>
                  <a:pt x="1758" y="544"/>
                </a:lnTo>
                <a:lnTo>
                  <a:pt x="1751" y="544"/>
                </a:lnTo>
                <a:lnTo>
                  <a:pt x="1745" y="551"/>
                </a:lnTo>
                <a:lnTo>
                  <a:pt x="1745" y="558"/>
                </a:lnTo>
                <a:lnTo>
                  <a:pt x="1738" y="565"/>
                </a:lnTo>
                <a:lnTo>
                  <a:pt x="1738" y="572"/>
                </a:lnTo>
                <a:lnTo>
                  <a:pt x="1731" y="578"/>
                </a:lnTo>
                <a:lnTo>
                  <a:pt x="1724" y="585"/>
                </a:lnTo>
                <a:lnTo>
                  <a:pt x="1724" y="585"/>
                </a:lnTo>
                <a:lnTo>
                  <a:pt x="1717" y="578"/>
                </a:lnTo>
                <a:lnTo>
                  <a:pt x="1717" y="572"/>
                </a:lnTo>
                <a:lnTo>
                  <a:pt x="1717" y="558"/>
                </a:lnTo>
                <a:close/>
                <a:moveTo>
                  <a:pt x="379" y="3031"/>
                </a:moveTo>
                <a:lnTo>
                  <a:pt x="407" y="3003"/>
                </a:lnTo>
                <a:lnTo>
                  <a:pt x="441" y="3003"/>
                </a:lnTo>
                <a:lnTo>
                  <a:pt x="469" y="2969"/>
                </a:lnTo>
                <a:lnTo>
                  <a:pt x="503" y="2941"/>
                </a:lnTo>
                <a:lnTo>
                  <a:pt x="531" y="2907"/>
                </a:lnTo>
                <a:lnTo>
                  <a:pt x="565" y="2907"/>
                </a:lnTo>
                <a:lnTo>
                  <a:pt x="593" y="2879"/>
                </a:lnTo>
                <a:lnTo>
                  <a:pt x="628" y="2845"/>
                </a:lnTo>
                <a:lnTo>
                  <a:pt x="662" y="2845"/>
                </a:lnTo>
                <a:lnTo>
                  <a:pt x="690" y="2817"/>
                </a:lnTo>
                <a:lnTo>
                  <a:pt x="724" y="2783"/>
                </a:lnTo>
                <a:lnTo>
                  <a:pt x="752" y="2783"/>
                </a:lnTo>
                <a:lnTo>
                  <a:pt x="786" y="2748"/>
                </a:lnTo>
                <a:lnTo>
                  <a:pt x="814" y="2721"/>
                </a:lnTo>
                <a:lnTo>
                  <a:pt x="848" y="2686"/>
                </a:lnTo>
                <a:lnTo>
                  <a:pt x="876" y="2686"/>
                </a:lnTo>
                <a:lnTo>
                  <a:pt x="910" y="2659"/>
                </a:lnTo>
                <a:lnTo>
                  <a:pt x="938" y="2624"/>
                </a:lnTo>
                <a:lnTo>
                  <a:pt x="972" y="2624"/>
                </a:lnTo>
                <a:lnTo>
                  <a:pt x="1007" y="2597"/>
                </a:lnTo>
                <a:lnTo>
                  <a:pt x="1034" y="2562"/>
                </a:lnTo>
                <a:lnTo>
                  <a:pt x="1069" y="2535"/>
                </a:lnTo>
                <a:lnTo>
                  <a:pt x="1096" y="2535"/>
                </a:lnTo>
                <a:lnTo>
                  <a:pt x="1131" y="2500"/>
                </a:lnTo>
                <a:lnTo>
                  <a:pt x="1158" y="2473"/>
                </a:lnTo>
                <a:lnTo>
                  <a:pt x="1193" y="2473"/>
                </a:lnTo>
                <a:lnTo>
                  <a:pt x="1221" y="2438"/>
                </a:lnTo>
                <a:lnTo>
                  <a:pt x="1255" y="2404"/>
                </a:lnTo>
                <a:lnTo>
                  <a:pt x="1283" y="2376"/>
                </a:lnTo>
                <a:lnTo>
                  <a:pt x="1317" y="2376"/>
                </a:lnTo>
                <a:lnTo>
                  <a:pt x="1345" y="2342"/>
                </a:lnTo>
                <a:lnTo>
                  <a:pt x="1379" y="2314"/>
                </a:lnTo>
                <a:lnTo>
                  <a:pt x="1414" y="2314"/>
                </a:lnTo>
                <a:lnTo>
                  <a:pt x="1441" y="2280"/>
                </a:lnTo>
                <a:lnTo>
                  <a:pt x="1476" y="2252"/>
                </a:lnTo>
                <a:lnTo>
                  <a:pt x="1503" y="2218"/>
                </a:lnTo>
                <a:lnTo>
                  <a:pt x="1538" y="2218"/>
                </a:lnTo>
                <a:lnTo>
                  <a:pt x="1565" y="2190"/>
                </a:lnTo>
                <a:lnTo>
                  <a:pt x="1600" y="2156"/>
                </a:lnTo>
                <a:lnTo>
                  <a:pt x="1620" y="2156"/>
                </a:lnTo>
                <a:lnTo>
                  <a:pt x="1627" y="2149"/>
                </a:lnTo>
                <a:lnTo>
                  <a:pt x="1627" y="2149"/>
                </a:lnTo>
                <a:lnTo>
                  <a:pt x="1627" y="2142"/>
                </a:lnTo>
                <a:lnTo>
                  <a:pt x="1634" y="2142"/>
                </a:lnTo>
                <a:lnTo>
                  <a:pt x="1641" y="2135"/>
                </a:lnTo>
                <a:lnTo>
                  <a:pt x="1641" y="2135"/>
                </a:lnTo>
                <a:lnTo>
                  <a:pt x="1648" y="2135"/>
                </a:lnTo>
                <a:lnTo>
                  <a:pt x="1655" y="2135"/>
                </a:lnTo>
                <a:lnTo>
                  <a:pt x="1662" y="2128"/>
                </a:lnTo>
                <a:lnTo>
                  <a:pt x="1676" y="2108"/>
                </a:lnTo>
                <a:lnTo>
                  <a:pt x="1676" y="2101"/>
                </a:lnTo>
                <a:lnTo>
                  <a:pt x="1676" y="2094"/>
                </a:lnTo>
                <a:lnTo>
                  <a:pt x="1676" y="2087"/>
                </a:lnTo>
                <a:lnTo>
                  <a:pt x="1676" y="2080"/>
                </a:lnTo>
                <a:lnTo>
                  <a:pt x="1669" y="2073"/>
                </a:lnTo>
                <a:lnTo>
                  <a:pt x="1669" y="2066"/>
                </a:lnTo>
                <a:lnTo>
                  <a:pt x="1669" y="2059"/>
                </a:lnTo>
                <a:lnTo>
                  <a:pt x="1676" y="2053"/>
                </a:lnTo>
                <a:lnTo>
                  <a:pt x="1682" y="2046"/>
                </a:lnTo>
                <a:lnTo>
                  <a:pt x="1682" y="2046"/>
                </a:lnTo>
                <a:lnTo>
                  <a:pt x="1689" y="2039"/>
                </a:lnTo>
                <a:lnTo>
                  <a:pt x="1696" y="2032"/>
                </a:lnTo>
                <a:lnTo>
                  <a:pt x="1703" y="2032"/>
                </a:lnTo>
                <a:lnTo>
                  <a:pt x="1703" y="2025"/>
                </a:lnTo>
                <a:lnTo>
                  <a:pt x="1710" y="2018"/>
                </a:lnTo>
                <a:lnTo>
                  <a:pt x="1710" y="2011"/>
                </a:lnTo>
                <a:lnTo>
                  <a:pt x="1717" y="2004"/>
                </a:lnTo>
                <a:lnTo>
                  <a:pt x="1717" y="1997"/>
                </a:lnTo>
                <a:lnTo>
                  <a:pt x="1724" y="1991"/>
                </a:lnTo>
                <a:lnTo>
                  <a:pt x="1724" y="1984"/>
                </a:lnTo>
                <a:lnTo>
                  <a:pt x="1724" y="1977"/>
                </a:lnTo>
                <a:lnTo>
                  <a:pt x="1724" y="1970"/>
                </a:lnTo>
                <a:lnTo>
                  <a:pt x="1724" y="1963"/>
                </a:lnTo>
                <a:lnTo>
                  <a:pt x="1731" y="1956"/>
                </a:lnTo>
                <a:lnTo>
                  <a:pt x="1738" y="1956"/>
                </a:lnTo>
                <a:lnTo>
                  <a:pt x="1745" y="1956"/>
                </a:lnTo>
                <a:lnTo>
                  <a:pt x="1751" y="1956"/>
                </a:lnTo>
                <a:lnTo>
                  <a:pt x="1758" y="1963"/>
                </a:lnTo>
                <a:lnTo>
                  <a:pt x="1765" y="1970"/>
                </a:lnTo>
                <a:lnTo>
                  <a:pt x="1765" y="1970"/>
                </a:lnTo>
                <a:lnTo>
                  <a:pt x="1772" y="1977"/>
                </a:lnTo>
                <a:lnTo>
                  <a:pt x="1779" y="1984"/>
                </a:lnTo>
                <a:lnTo>
                  <a:pt x="1779" y="1984"/>
                </a:lnTo>
                <a:lnTo>
                  <a:pt x="1786" y="1991"/>
                </a:lnTo>
                <a:lnTo>
                  <a:pt x="1793" y="1997"/>
                </a:lnTo>
                <a:lnTo>
                  <a:pt x="1820" y="1970"/>
                </a:lnTo>
                <a:lnTo>
                  <a:pt x="1820" y="1935"/>
                </a:lnTo>
                <a:lnTo>
                  <a:pt x="1848" y="1908"/>
                </a:lnTo>
                <a:lnTo>
                  <a:pt x="1882" y="1873"/>
                </a:lnTo>
                <a:lnTo>
                  <a:pt x="1882" y="1846"/>
                </a:lnTo>
                <a:lnTo>
                  <a:pt x="1910" y="1811"/>
                </a:lnTo>
                <a:lnTo>
                  <a:pt x="1944" y="1784"/>
                </a:lnTo>
                <a:lnTo>
                  <a:pt x="1944" y="1749"/>
                </a:lnTo>
                <a:lnTo>
                  <a:pt x="1944" y="1722"/>
                </a:lnTo>
                <a:lnTo>
                  <a:pt x="1972" y="1687"/>
                </a:lnTo>
                <a:lnTo>
                  <a:pt x="1972" y="1653"/>
                </a:lnTo>
                <a:lnTo>
                  <a:pt x="1972" y="1625"/>
                </a:lnTo>
                <a:lnTo>
                  <a:pt x="2007" y="1591"/>
                </a:lnTo>
                <a:lnTo>
                  <a:pt x="2007" y="1563"/>
                </a:lnTo>
                <a:lnTo>
                  <a:pt x="2007" y="1529"/>
                </a:lnTo>
                <a:lnTo>
                  <a:pt x="2007" y="1501"/>
                </a:lnTo>
                <a:lnTo>
                  <a:pt x="2034" y="1467"/>
                </a:lnTo>
                <a:lnTo>
                  <a:pt x="2034" y="1439"/>
                </a:lnTo>
                <a:lnTo>
                  <a:pt x="2034" y="1405"/>
                </a:lnTo>
                <a:lnTo>
                  <a:pt x="2034" y="1377"/>
                </a:lnTo>
                <a:lnTo>
                  <a:pt x="2034" y="1343"/>
                </a:lnTo>
                <a:lnTo>
                  <a:pt x="2034" y="1309"/>
                </a:lnTo>
                <a:lnTo>
                  <a:pt x="2034" y="1281"/>
                </a:lnTo>
                <a:lnTo>
                  <a:pt x="2069" y="1247"/>
                </a:lnTo>
                <a:lnTo>
                  <a:pt x="2069" y="1219"/>
                </a:lnTo>
                <a:lnTo>
                  <a:pt x="2069" y="1185"/>
                </a:lnTo>
                <a:lnTo>
                  <a:pt x="2069" y="1157"/>
                </a:lnTo>
                <a:lnTo>
                  <a:pt x="2069" y="1123"/>
                </a:lnTo>
                <a:lnTo>
                  <a:pt x="2069" y="1095"/>
                </a:lnTo>
                <a:lnTo>
                  <a:pt x="2069" y="1061"/>
                </a:lnTo>
                <a:lnTo>
                  <a:pt x="2103" y="1033"/>
                </a:lnTo>
                <a:lnTo>
                  <a:pt x="2103" y="999"/>
                </a:lnTo>
                <a:lnTo>
                  <a:pt x="2103" y="964"/>
                </a:lnTo>
                <a:lnTo>
                  <a:pt x="2103" y="937"/>
                </a:lnTo>
                <a:lnTo>
                  <a:pt x="2103" y="902"/>
                </a:lnTo>
                <a:lnTo>
                  <a:pt x="2103" y="875"/>
                </a:lnTo>
                <a:lnTo>
                  <a:pt x="2103" y="840"/>
                </a:lnTo>
                <a:lnTo>
                  <a:pt x="2131" y="813"/>
                </a:lnTo>
                <a:lnTo>
                  <a:pt x="2131" y="778"/>
                </a:lnTo>
                <a:lnTo>
                  <a:pt x="2131" y="751"/>
                </a:lnTo>
                <a:lnTo>
                  <a:pt x="2131" y="716"/>
                </a:lnTo>
                <a:lnTo>
                  <a:pt x="2131" y="689"/>
                </a:lnTo>
                <a:lnTo>
                  <a:pt x="2131" y="654"/>
                </a:lnTo>
                <a:lnTo>
                  <a:pt x="2131" y="627"/>
                </a:lnTo>
                <a:lnTo>
                  <a:pt x="2165" y="592"/>
                </a:lnTo>
                <a:lnTo>
                  <a:pt x="2165" y="558"/>
                </a:lnTo>
                <a:lnTo>
                  <a:pt x="2165" y="530"/>
                </a:lnTo>
                <a:lnTo>
                  <a:pt x="2165" y="496"/>
                </a:lnTo>
                <a:lnTo>
                  <a:pt x="2165" y="468"/>
                </a:lnTo>
                <a:lnTo>
                  <a:pt x="2165" y="434"/>
                </a:lnTo>
                <a:lnTo>
                  <a:pt x="2165" y="406"/>
                </a:lnTo>
                <a:lnTo>
                  <a:pt x="2193" y="372"/>
                </a:lnTo>
                <a:lnTo>
                  <a:pt x="2193" y="344"/>
                </a:lnTo>
                <a:lnTo>
                  <a:pt x="2193" y="310"/>
                </a:lnTo>
                <a:lnTo>
                  <a:pt x="2193" y="282"/>
                </a:lnTo>
                <a:lnTo>
                  <a:pt x="2193" y="248"/>
                </a:lnTo>
                <a:lnTo>
                  <a:pt x="2193" y="213"/>
                </a:lnTo>
                <a:lnTo>
                  <a:pt x="2193" y="186"/>
                </a:lnTo>
                <a:lnTo>
                  <a:pt x="2227" y="151"/>
                </a:lnTo>
                <a:lnTo>
                  <a:pt x="2227" y="124"/>
                </a:lnTo>
                <a:lnTo>
                  <a:pt x="2227" y="89"/>
                </a:lnTo>
                <a:lnTo>
                  <a:pt x="2227" y="62"/>
                </a:lnTo>
                <a:lnTo>
                  <a:pt x="2227" y="27"/>
                </a:lnTo>
                <a:lnTo>
                  <a:pt x="2227" y="0"/>
                </a:lnTo>
                <a:lnTo>
                  <a:pt x="2193" y="0"/>
                </a:lnTo>
                <a:lnTo>
                  <a:pt x="2165" y="0"/>
                </a:lnTo>
                <a:lnTo>
                  <a:pt x="2131" y="0"/>
                </a:lnTo>
                <a:lnTo>
                  <a:pt x="2103" y="0"/>
                </a:lnTo>
                <a:lnTo>
                  <a:pt x="2069" y="27"/>
                </a:lnTo>
                <a:lnTo>
                  <a:pt x="2034" y="27"/>
                </a:lnTo>
                <a:lnTo>
                  <a:pt x="2007" y="27"/>
                </a:lnTo>
                <a:lnTo>
                  <a:pt x="1972" y="62"/>
                </a:lnTo>
                <a:lnTo>
                  <a:pt x="1944" y="62"/>
                </a:lnTo>
                <a:lnTo>
                  <a:pt x="1910" y="89"/>
                </a:lnTo>
                <a:lnTo>
                  <a:pt x="1882" y="89"/>
                </a:lnTo>
                <a:lnTo>
                  <a:pt x="1848" y="89"/>
                </a:lnTo>
                <a:lnTo>
                  <a:pt x="1820" y="124"/>
                </a:lnTo>
                <a:lnTo>
                  <a:pt x="1786" y="124"/>
                </a:lnTo>
                <a:lnTo>
                  <a:pt x="1758" y="151"/>
                </a:lnTo>
                <a:lnTo>
                  <a:pt x="1724" y="151"/>
                </a:lnTo>
                <a:lnTo>
                  <a:pt x="1689" y="151"/>
                </a:lnTo>
                <a:lnTo>
                  <a:pt x="1662" y="186"/>
                </a:lnTo>
                <a:lnTo>
                  <a:pt x="1627" y="186"/>
                </a:lnTo>
                <a:lnTo>
                  <a:pt x="1600" y="213"/>
                </a:lnTo>
                <a:lnTo>
                  <a:pt x="1565" y="213"/>
                </a:lnTo>
                <a:lnTo>
                  <a:pt x="1538" y="213"/>
                </a:lnTo>
                <a:lnTo>
                  <a:pt x="1503" y="248"/>
                </a:lnTo>
                <a:lnTo>
                  <a:pt x="1476" y="248"/>
                </a:lnTo>
                <a:lnTo>
                  <a:pt x="1441" y="282"/>
                </a:lnTo>
                <a:lnTo>
                  <a:pt x="1414" y="282"/>
                </a:lnTo>
                <a:lnTo>
                  <a:pt x="1379" y="282"/>
                </a:lnTo>
                <a:lnTo>
                  <a:pt x="1345" y="310"/>
                </a:lnTo>
                <a:lnTo>
                  <a:pt x="1317" y="310"/>
                </a:lnTo>
                <a:lnTo>
                  <a:pt x="1283" y="344"/>
                </a:lnTo>
                <a:lnTo>
                  <a:pt x="1255" y="344"/>
                </a:lnTo>
                <a:lnTo>
                  <a:pt x="1221" y="344"/>
                </a:lnTo>
                <a:lnTo>
                  <a:pt x="1193" y="372"/>
                </a:lnTo>
                <a:lnTo>
                  <a:pt x="1158" y="372"/>
                </a:lnTo>
                <a:lnTo>
                  <a:pt x="1131" y="406"/>
                </a:lnTo>
                <a:lnTo>
                  <a:pt x="1096" y="406"/>
                </a:lnTo>
                <a:lnTo>
                  <a:pt x="1069" y="406"/>
                </a:lnTo>
                <a:lnTo>
                  <a:pt x="1034" y="434"/>
                </a:lnTo>
                <a:lnTo>
                  <a:pt x="1007" y="434"/>
                </a:lnTo>
                <a:lnTo>
                  <a:pt x="972" y="468"/>
                </a:lnTo>
                <a:lnTo>
                  <a:pt x="938" y="468"/>
                </a:lnTo>
                <a:lnTo>
                  <a:pt x="910" y="468"/>
                </a:lnTo>
                <a:lnTo>
                  <a:pt x="876" y="496"/>
                </a:lnTo>
                <a:lnTo>
                  <a:pt x="876" y="530"/>
                </a:lnTo>
                <a:lnTo>
                  <a:pt x="848" y="558"/>
                </a:lnTo>
                <a:lnTo>
                  <a:pt x="848" y="592"/>
                </a:lnTo>
                <a:lnTo>
                  <a:pt x="814" y="627"/>
                </a:lnTo>
                <a:lnTo>
                  <a:pt x="814" y="654"/>
                </a:lnTo>
                <a:lnTo>
                  <a:pt x="786" y="689"/>
                </a:lnTo>
                <a:lnTo>
                  <a:pt x="786" y="716"/>
                </a:lnTo>
                <a:lnTo>
                  <a:pt x="752" y="751"/>
                </a:lnTo>
                <a:lnTo>
                  <a:pt x="752" y="778"/>
                </a:lnTo>
                <a:lnTo>
                  <a:pt x="724" y="813"/>
                </a:lnTo>
                <a:lnTo>
                  <a:pt x="724" y="840"/>
                </a:lnTo>
                <a:lnTo>
                  <a:pt x="724" y="875"/>
                </a:lnTo>
                <a:lnTo>
                  <a:pt x="690" y="902"/>
                </a:lnTo>
                <a:lnTo>
                  <a:pt x="690" y="937"/>
                </a:lnTo>
                <a:lnTo>
                  <a:pt x="662" y="964"/>
                </a:lnTo>
                <a:lnTo>
                  <a:pt x="662" y="999"/>
                </a:lnTo>
                <a:lnTo>
                  <a:pt x="628" y="1033"/>
                </a:lnTo>
                <a:lnTo>
                  <a:pt x="628" y="1061"/>
                </a:lnTo>
                <a:lnTo>
                  <a:pt x="593" y="1095"/>
                </a:lnTo>
                <a:lnTo>
                  <a:pt x="593" y="1123"/>
                </a:lnTo>
                <a:lnTo>
                  <a:pt x="565" y="1157"/>
                </a:lnTo>
                <a:lnTo>
                  <a:pt x="565" y="1185"/>
                </a:lnTo>
                <a:lnTo>
                  <a:pt x="531" y="1219"/>
                </a:lnTo>
                <a:lnTo>
                  <a:pt x="531" y="1247"/>
                </a:lnTo>
                <a:lnTo>
                  <a:pt x="531" y="1281"/>
                </a:lnTo>
                <a:lnTo>
                  <a:pt x="503" y="1309"/>
                </a:lnTo>
                <a:lnTo>
                  <a:pt x="503" y="1343"/>
                </a:lnTo>
                <a:lnTo>
                  <a:pt x="469" y="1377"/>
                </a:lnTo>
                <a:lnTo>
                  <a:pt x="469" y="1405"/>
                </a:lnTo>
                <a:lnTo>
                  <a:pt x="441" y="1439"/>
                </a:lnTo>
                <a:lnTo>
                  <a:pt x="441" y="1467"/>
                </a:lnTo>
                <a:lnTo>
                  <a:pt x="407" y="1501"/>
                </a:lnTo>
                <a:lnTo>
                  <a:pt x="407" y="1529"/>
                </a:lnTo>
                <a:lnTo>
                  <a:pt x="379" y="1563"/>
                </a:lnTo>
                <a:lnTo>
                  <a:pt x="379" y="1591"/>
                </a:lnTo>
                <a:lnTo>
                  <a:pt x="345" y="1625"/>
                </a:lnTo>
                <a:lnTo>
                  <a:pt x="345" y="1653"/>
                </a:lnTo>
                <a:lnTo>
                  <a:pt x="345" y="1687"/>
                </a:lnTo>
                <a:lnTo>
                  <a:pt x="345" y="1715"/>
                </a:lnTo>
                <a:lnTo>
                  <a:pt x="352" y="1722"/>
                </a:lnTo>
                <a:lnTo>
                  <a:pt x="352" y="1729"/>
                </a:lnTo>
                <a:lnTo>
                  <a:pt x="352" y="1743"/>
                </a:lnTo>
                <a:lnTo>
                  <a:pt x="352" y="1749"/>
                </a:lnTo>
                <a:lnTo>
                  <a:pt x="352" y="1763"/>
                </a:lnTo>
                <a:lnTo>
                  <a:pt x="352" y="1770"/>
                </a:lnTo>
                <a:lnTo>
                  <a:pt x="352" y="1777"/>
                </a:lnTo>
                <a:lnTo>
                  <a:pt x="345" y="1784"/>
                </a:lnTo>
                <a:lnTo>
                  <a:pt x="338" y="1791"/>
                </a:lnTo>
                <a:lnTo>
                  <a:pt x="338" y="1798"/>
                </a:lnTo>
                <a:lnTo>
                  <a:pt x="331" y="1805"/>
                </a:lnTo>
                <a:lnTo>
                  <a:pt x="331" y="1811"/>
                </a:lnTo>
                <a:lnTo>
                  <a:pt x="324" y="1818"/>
                </a:lnTo>
                <a:lnTo>
                  <a:pt x="317" y="1825"/>
                </a:lnTo>
                <a:lnTo>
                  <a:pt x="310" y="1825"/>
                </a:lnTo>
                <a:lnTo>
                  <a:pt x="303" y="1832"/>
                </a:lnTo>
                <a:lnTo>
                  <a:pt x="297" y="1832"/>
                </a:lnTo>
                <a:lnTo>
                  <a:pt x="290" y="1839"/>
                </a:lnTo>
                <a:lnTo>
                  <a:pt x="290" y="1846"/>
                </a:lnTo>
                <a:lnTo>
                  <a:pt x="290" y="1853"/>
                </a:lnTo>
                <a:lnTo>
                  <a:pt x="290" y="1867"/>
                </a:lnTo>
                <a:lnTo>
                  <a:pt x="297" y="1873"/>
                </a:lnTo>
                <a:lnTo>
                  <a:pt x="290" y="1880"/>
                </a:lnTo>
                <a:lnTo>
                  <a:pt x="290" y="1887"/>
                </a:lnTo>
                <a:lnTo>
                  <a:pt x="276" y="1887"/>
                </a:lnTo>
                <a:lnTo>
                  <a:pt x="269" y="1894"/>
                </a:lnTo>
                <a:lnTo>
                  <a:pt x="262" y="1894"/>
                </a:lnTo>
                <a:lnTo>
                  <a:pt x="255" y="1901"/>
                </a:lnTo>
                <a:lnTo>
                  <a:pt x="255" y="1908"/>
                </a:lnTo>
                <a:lnTo>
                  <a:pt x="262" y="1915"/>
                </a:lnTo>
                <a:lnTo>
                  <a:pt x="262" y="1929"/>
                </a:lnTo>
                <a:lnTo>
                  <a:pt x="262" y="1935"/>
                </a:lnTo>
                <a:lnTo>
                  <a:pt x="262" y="1942"/>
                </a:lnTo>
                <a:lnTo>
                  <a:pt x="255" y="1949"/>
                </a:lnTo>
                <a:lnTo>
                  <a:pt x="248" y="1956"/>
                </a:lnTo>
                <a:lnTo>
                  <a:pt x="241" y="1956"/>
                </a:lnTo>
                <a:lnTo>
                  <a:pt x="235" y="1963"/>
                </a:lnTo>
                <a:lnTo>
                  <a:pt x="228" y="1963"/>
                </a:lnTo>
                <a:lnTo>
                  <a:pt x="228" y="1977"/>
                </a:lnTo>
                <a:lnTo>
                  <a:pt x="228" y="1984"/>
                </a:lnTo>
                <a:lnTo>
                  <a:pt x="235" y="1991"/>
                </a:lnTo>
                <a:lnTo>
                  <a:pt x="235" y="2004"/>
                </a:lnTo>
                <a:lnTo>
                  <a:pt x="228" y="2004"/>
                </a:lnTo>
                <a:lnTo>
                  <a:pt x="221" y="2011"/>
                </a:lnTo>
                <a:lnTo>
                  <a:pt x="214" y="2018"/>
                </a:lnTo>
                <a:lnTo>
                  <a:pt x="207" y="2025"/>
                </a:lnTo>
                <a:lnTo>
                  <a:pt x="200" y="2025"/>
                </a:lnTo>
                <a:lnTo>
                  <a:pt x="200" y="2032"/>
                </a:lnTo>
                <a:lnTo>
                  <a:pt x="200" y="2046"/>
                </a:lnTo>
                <a:lnTo>
                  <a:pt x="200" y="2053"/>
                </a:lnTo>
                <a:lnTo>
                  <a:pt x="200" y="2059"/>
                </a:lnTo>
                <a:lnTo>
                  <a:pt x="193" y="2066"/>
                </a:lnTo>
                <a:lnTo>
                  <a:pt x="186" y="2073"/>
                </a:lnTo>
                <a:lnTo>
                  <a:pt x="179" y="2080"/>
                </a:lnTo>
                <a:lnTo>
                  <a:pt x="172" y="2087"/>
                </a:lnTo>
                <a:lnTo>
                  <a:pt x="172" y="2094"/>
                </a:lnTo>
                <a:lnTo>
                  <a:pt x="166" y="2101"/>
                </a:lnTo>
                <a:lnTo>
                  <a:pt x="166" y="2108"/>
                </a:lnTo>
                <a:lnTo>
                  <a:pt x="166" y="2121"/>
                </a:lnTo>
                <a:lnTo>
                  <a:pt x="159" y="2128"/>
                </a:lnTo>
                <a:lnTo>
                  <a:pt x="159" y="2135"/>
                </a:lnTo>
                <a:lnTo>
                  <a:pt x="152" y="2142"/>
                </a:lnTo>
                <a:lnTo>
                  <a:pt x="145" y="2149"/>
                </a:lnTo>
                <a:lnTo>
                  <a:pt x="145" y="2156"/>
                </a:lnTo>
                <a:lnTo>
                  <a:pt x="138" y="2163"/>
                </a:lnTo>
                <a:lnTo>
                  <a:pt x="138" y="2170"/>
                </a:lnTo>
                <a:lnTo>
                  <a:pt x="131" y="2177"/>
                </a:lnTo>
                <a:lnTo>
                  <a:pt x="124" y="2183"/>
                </a:lnTo>
                <a:lnTo>
                  <a:pt x="117" y="2183"/>
                </a:lnTo>
                <a:lnTo>
                  <a:pt x="117" y="2190"/>
                </a:lnTo>
                <a:lnTo>
                  <a:pt x="110" y="2197"/>
                </a:lnTo>
                <a:lnTo>
                  <a:pt x="117" y="2211"/>
                </a:lnTo>
                <a:lnTo>
                  <a:pt x="117" y="2218"/>
                </a:lnTo>
                <a:lnTo>
                  <a:pt x="110" y="2225"/>
                </a:lnTo>
                <a:lnTo>
                  <a:pt x="104" y="2232"/>
                </a:lnTo>
                <a:lnTo>
                  <a:pt x="104" y="2239"/>
                </a:lnTo>
                <a:lnTo>
                  <a:pt x="90" y="2245"/>
                </a:lnTo>
                <a:lnTo>
                  <a:pt x="83" y="2245"/>
                </a:lnTo>
                <a:lnTo>
                  <a:pt x="83" y="2252"/>
                </a:lnTo>
                <a:lnTo>
                  <a:pt x="83" y="2259"/>
                </a:lnTo>
                <a:lnTo>
                  <a:pt x="83" y="2273"/>
                </a:lnTo>
                <a:lnTo>
                  <a:pt x="90" y="2280"/>
                </a:lnTo>
                <a:lnTo>
                  <a:pt x="83" y="2287"/>
                </a:lnTo>
                <a:lnTo>
                  <a:pt x="83" y="2294"/>
                </a:lnTo>
                <a:lnTo>
                  <a:pt x="76" y="2301"/>
                </a:lnTo>
                <a:lnTo>
                  <a:pt x="69" y="2307"/>
                </a:lnTo>
                <a:lnTo>
                  <a:pt x="62" y="2314"/>
                </a:lnTo>
                <a:lnTo>
                  <a:pt x="55" y="2314"/>
                </a:lnTo>
                <a:lnTo>
                  <a:pt x="55" y="2328"/>
                </a:lnTo>
                <a:lnTo>
                  <a:pt x="62" y="2335"/>
                </a:lnTo>
                <a:lnTo>
                  <a:pt x="62" y="2349"/>
                </a:lnTo>
                <a:lnTo>
                  <a:pt x="55" y="2356"/>
                </a:lnTo>
                <a:lnTo>
                  <a:pt x="55" y="2363"/>
                </a:lnTo>
                <a:lnTo>
                  <a:pt x="48" y="2369"/>
                </a:lnTo>
                <a:lnTo>
                  <a:pt x="48" y="2376"/>
                </a:lnTo>
                <a:lnTo>
                  <a:pt x="41" y="2383"/>
                </a:lnTo>
                <a:lnTo>
                  <a:pt x="41" y="2397"/>
                </a:lnTo>
                <a:lnTo>
                  <a:pt x="41" y="2404"/>
                </a:lnTo>
                <a:lnTo>
                  <a:pt x="41" y="2411"/>
                </a:lnTo>
                <a:lnTo>
                  <a:pt x="41" y="2425"/>
                </a:lnTo>
                <a:lnTo>
                  <a:pt x="41" y="2431"/>
                </a:lnTo>
                <a:lnTo>
                  <a:pt x="41" y="2438"/>
                </a:lnTo>
                <a:lnTo>
                  <a:pt x="35" y="2452"/>
                </a:lnTo>
                <a:lnTo>
                  <a:pt x="35" y="2459"/>
                </a:lnTo>
                <a:lnTo>
                  <a:pt x="35" y="2466"/>
                </a:lnTo>
                <a:lnTo>
                  <a:pt x="41" y="2473"/>
                </a:lnTo>
                <a:lnTo>
                  <a:pt x="41" y="2480"/>
                </a:lnTo>
                <a:lnTo>
                  <a:pt x="55" y="2480"/>
                </a:lnTo>
                <a:lnTo>
                  <a:pt x="62" y="2480"/>
                </a:lnTo>
                <a:lnTo>
                  <a:pt x="69" y="2480"/>
                </a:lnTo>
                <a:lnTo>
                  <a:pt x="76" y="2473"/>
                </a:lnTo>
                <a:lnTo>
                  <a:pt x="76" y="2466"/>
                </a:lnTo>
                <a:lnTo>
                  <a:pt x="83" y="2459"/>
                </a:lnTo>
                <a:lnTo>
                  <a:pt x="90" y="2452"/>
                </a:lnTo>
                <a:lnTo>
                  <a:pt x="97" y="2452"/>
                </a:lnTo>
                <a:lnTo>
                  <a:pt x="104" y="2445"/>
                </a:lnTo>
                <a:lnTo>
                  <a:pt x="110" y="2445"/>
                </a:lnTo>
                <a:lnTo>
                  <a:pt x="110" y="2438"/>
                </a:lnTo>
                <a:lnTo>
                  <a:pt x="117" y="2425"/>
                </a:lnTo>
                <a:lnTo>
                  <a:pt x="117" y="2418"/>
                </a:lnTo>
                <a:lnTo>
                  <a:pt x="117" y="2411"/>
                </a:lnTo>
                <a:lnTo>
                  <a:pt x="124" y="2404"/>
                </a:lnTo>
                <a:lnTo>
                  <a:pt x="131" y="2397"/>
                </a:lnTo>
                <a:lnTo>
                  <a:pt x="138" y="2397"/>
                </a:lnTo>
                <a:lnTo>
                  <a:pt x="145" y="2390"/>
                </a:lnTo>
                <a:lnTo>
                  <a:pt x="145" y="2383"/>
                </a:lnTo>
                <a:lnTo>
                  <a:pt x="152" y="2376"/>
                </a:lnTo>
                <a:lnTo>
                  <a:pt x="159" y="2376"/>
                </a:lnTo>
                <a:lnTo>
                  <a:pt x="166" y="2376"/>
                </a:lnTo>
                <a:lnTo>
                  <a:pt x="172" y="2383"/>
                </a:lnTo>
                <a:lnTo>
                  <a:pt x="172" y="2390"/>
                </a:lnTo>
                <a:lnTo>
                  <a:pt x="179" y="2404"/>
                </a:lnTo>
                <a:lnTo>
                  <a:pt x="179" y="2411"/>
                </a:lnTo>
                <a:lnTo>
                  <a:pt x="186" y="2418"/>
                </a:lnTo>
                <a:lnTo>
                  <a:pt x="186" y="2425"/>
                </a:lnTo>
                <a:lnTo>
                  <a:pt x="193" y="2431"/>
                </a:lnTo>
                <a:lnTo>
                  <a:pt x="193" y="2445"/>
                </a:lnTo>
                <a:lnTo>
                  <a:pt x="200" y="2452"/>
                </a:lnTo>
                <a:lnTo>
                  <a:pt x="200" y="2459"/>
                </a:lnTo>
                <a:lnTo>
                  <a:pt x="207" y="2466"/>
                </a:lnTo>
                <a:lnTo>
                  <a:pt x="207" y="2473"/>
                </a:lnTo>
                <a:lnTo>
                  <a:pt x="214" y="2480"/>
                </a:lnTo>
                <a:lnTo>
                  <a:pt x="214" y="2487"/>
                </a:lnTo>
                <a:lnTo>
                  <a:pt x="221" y="2493"/>
                </a:lnTo>
                <a:lnTo>
                  <a:pt x="228" y="2500"/>
                </a:lnTo>
                <a:lnTo>
                  <a:pt x="228" y="2514"/>
                </a:lnTo>
                <a:lnTo>
                  <a:pt x="235" y="2521"/>
                </a:lnTo>
                <a:lnTo>
                  <a:pt x="235" y="2528"/>
                </a:lnTo>
                <a:lnTo>
                  <a:pt x="241" y="2535"/>
                </a:lnTo>
                <a:lnTo>
                  <a:pt x="241" y="2542"/>
                </a:lnTo>
                <a:lnTo>
                  <a:pt x="248" y="2548"/>
                </a:lnTo>
                <a:lnTo>
                  <a:pt x="248" y="2555"/>
                </a:lnTo>
                <a:lnTo>
                  <a:pt x="255" y="2562"/>
                </a:lnTo>
                <a:lnTo>
                  <a:pt x="255" y="2576"/>
                </a:lnTo>
                <a:lnTo>
                  <a:pt x="262" y="2583"/>
                </a:lnTo>
                <a:lnTo>
                  <a:pt x="262" y="2590"/>
                </a:lnTo>
                <a:lnTo>
                  <a:pt x="269" y="2597"/>
                </a:lnTo>
                <a:lnTo>
                  <a:pt x="276" y="2604"/>
                </a:lnTo>
                <a:lnTo>
                  <a:pt x="276" y="2610"/>
                </a:lnTo>
                <a:lnTo>
                  <a:pt x="283" y="2617"/>
                </a:lnTo>
                <a:lnTo>
                  <a:pt x="283" y="2624"/>
                </a:lnTo>
                <a:lnTo>
                  <a:pt x="290" y="2631"/>
                </a:lnTo>
                <a:lnTo>
                  <a:pt x="290" y="2645"/>
                </a:lnTo>
                <a:lnTo>
                  <a:pt x="297" y="2652"/>
                </a:lnTo>
                <a:lnTo>
                  <a:pt x="297" y="2659"/>
                </a:lnTo>
                <a:lnTo>
                  <a:pt x="303" y="2666"/>
                </a:lnTo>
                <a:lnTo>
                  <a:pt x="303" y="2672"/>
                </a:lnTo>
                <a:lnTo>
                  <a:pt x="310" y="2679"/>
                </a:lnTo>
                <a:lnTo>
                  <a:pt x="310" y="2686"/>
                </a:lnTo>
                <a:lnTo>
                  <a:pt x="317" y="2693"/>
                </a:lnTo>
                <a:lnTo>
                  <a:pt x="317" y="2707"/>
                </a:lnTo>
                <a:lnTo>
                  <a:pt x="324" y="2714"/>
                </a:lnTo>
                <a:lnTo>
                  <a:pt x="331" y="2721"/>
                </a:lnTo>
                <a:lnTo>
                  <a:pt x="331" y="2728"/>
                </a:lnTo>
                <a:lnTo>
                  <a:pt x="338" y="2734"/>
                </a:lnTo>
                <a:lnTo>
                  <a:pt x="345" y="2741"/>
                </a:lnTo>
                <a:lnTo>
                  <a:pt x="345" y="2748"/>
                </a:lnTo>
                <a:lnTo>
                  <a:pt x="338" y="2755"/>
                </a:lnTo>
                <a:lnTo>
                  <a:pt x="338" y="2755"/>
                </a:lnTo>
                <a:lnTo>
                  <a:pt x="324" y="2762"/>
                </a:lnTo>
                <a:lnTo>
                  <a:pt x="317" y="2762"/>
                </a:lnTo>
                <a:lnTo>
                  <a:pt x="310" y="2762"/>
                </a:lnTo>
                <a:lnTo>
                  <a:pt x="303" y="2762"/>
                </a:lnTo>
                <a:lnTo>
                  <a:pt x="297" y="2769"/>
                </a:lnTo>
                <a:lnTo>
                  <a:pt x="290" y="2769"/>
                </a:lnTo>
                <a:lnTo>
                  <a:pt x="283" y="2776"/>
                </a:lnTo>
                <a:lnTo>
                  <a:pt x="276" y="2776"/>
                </a:lnTo>
                <a:lnTo>
                  <a:pt x="269" y="2783"/>
                </a:lnTo>
                <a:lnTo>
                  <a:pt x="262" y="2783"/>
                </a:lnTo>
                <a:lnTo>
                  <a:pt x="255" y="2783"/>
                </a:lnTo>
                <a:lnTo>
                  <a:pt x="248" y="2790"/>
                </a:lnTo>
                <a:lnTo>
                  <a:pt x="241" y="2790"/>
                </a:lnTo>
                <a:lnTo>
                  <a:pt x="235" y="2796"/>
                </a:lnTo>
                <a:lnTo>
                  <a:pt x="228" y="2796"/>
                </a:lnTo>
                <a:lnTo>
                  <a:pt x="221" y="2796"/>
                </a:lnTo>
                <a:lnTo>
                  <a:pt x="214" y="2803"/>
                </a:lnTo>
                <a:lnTo>
                  <a:pt x="207" y="2803"/>
                </a:lnTo>
                <a:lnTo>
                  <a:pt x="200" y="2803"/>
                </a:lnTo>
                <a:lnTo>
                  <a:pt x="193" y="2810"/>
                </a:lnTo>
                <a:lnTo>
                  <a:pt x="186" y="2810"/>
                </a:lnTo>
                <a:lnTo>
                  <a:pt x="179" y="2810"/>
                </a:lnTo>
                <a:lnTo>
                  <a:pt x="172" y="2817"/>
                </a:lnTo>
                <a:lnTo>
                  <a:pt x="166" y="2817"/>
                </a:lnTo>
                <a:lnTo>
                  <a:pt x="159" y="2817"/>
                </a:lnTo>
                <a:lnTo>
                  <a:pt x="152" y="2824"/>
                </a:lnTo>
                <a:lnTo>
                  <a:pt x="145" y="2824"/>
                </a:lnTo>
                <a:lnTo>
                  <a:pt x="138" y="2831"/>
                </a:lnTo>
                <a:lnTo>
                  <a:pt x="131" y="2831"/>
                </a:lnTo>
                <a:lnTo>
                  <a:pt x="124" y="2831"/>
                </a:lnTo>
                <a:lnTo>
                  <a:pt x="117" y="2838"/>
                </a:lnTo>
                <a:lnTo>
                  <a:pt x="110" y="2838"/>
                </a:lnTo>
                <a:lnTo>
                  <a:pt x="104" y="2838"/>
                </a:lnTo>
                <a:lnTo>
                  <a:pt x="97" y="2845"/>
                </a:lnTo>
                <a:lnTo>
                  <a:pt x="90" y="2845"/>
                </a:lnTo>
                <a:lnTo>
                  <a:pt x="83" y="2845"/>
                </a:lnTo>
                <a:lnTo>
                  <a:pt x="76" y="2852"/>
                </a:lnTo>
                <a:lnTo>
                  <a:pt x="69" y="2852"/>
                </a:lnTo>
                <a:lnTo>
                  <a:pt x="62" y="2852"/>
                </a:lnTo>
                <a:lnTo>
                  <a:pt x="55" y="2858"/>
                </a:lnTo>
                <a:lnTo>
                  <a:pt x="48" y="2858"/>
                </a:lnTo>
                <a:lnTo>
                  <a:pt x="41" y="2858"/>
                </a:lnTo>
                <a:lnTo>
                  <a:pt x="35" y="2865"/>
                </a:lnTo>
                <a:lnTo>
                  <a:pt x="28" y="2865"/>
                </a:lnTo>
                <a:lnTo>
                  <a:pt x="21" y="2872"/>
                </a:lnTo>
                <a:lnTo>
                  <a:pt x="14" y="2872"/>
                </a:lnTo>
                <a:lnTo>
                  <a:pt x="7" y="2872"/>
                </a:lnTo>
                <a:lnTo>
                  <a:pt x="0" y="2879"/>
                </a:lnTo>
                <a:lnTo>
                  <a:pt x="35" y="2879"/>
                </a:lnTo>
                <a:lnTo>
                  <a:pt x="62" y="2907"/>
                </a:lnTo>
                <a:lnTo>
                  <a:pt x="97" y="2907"/>
                </a:lnTo>
                <a:lnTo>
                  <a:pt x="124" y="2941"/>
                </a:lnTo>
                <a:lnTo>
                  <a:pt x="159" y="2941"/>
                </a:lnTo>
                <a:lnTo>
                  <a:pt x="186" y="2969"/>
                </a:lnTo>
                <a:lnTo>
                  <a:pt x="221" y="2969"/>
                </a:lnTo>
                <a:lnTo>
                  <a:pt x="255" y="3003"/>
                </a:lnTo>
                <a:lnTo>
                  <a:pt x="283" y="3003"/>
                </a:lnTo>
                <a:lnTo>
                  <a:pt x="317" y="3031"/>
                </a:lnTo>
                <a:lnTo>
                  <a:pt x="345" y="3031"/>
                </a:lnTo>
                <a:lnTo>
                  <a:pt x="379" y="3031"/>
                </a:lnTo>
                <a:close/>
                <a:moveTo>
                  <a:pt x="35" y="2500"/>
                </a:moveTo>
                <a:lnTo>
                  <a:pt x="35" y="2500"/>
                </a:lnTo>
                <a:lnTo>
                  <a:pt x="35" y="2500"/>
                </a:lnTo>
                <a:lnTo>
                  <a:pt x="35" y="2500"/>
                </a:lnTo>
                <a:lnTo>
                  <a:pt x="35" y="2500"/>
                </a:lnTo>
                <a:lnTo>
                  <a:pt x="35" y="2493"/>
                </a:lnTo>
                <a:lnTo>
                  <a:pt x="35" y="2493"/>
                </a:lnTo>
                <a:lnTo>
                  <a:pt x="35" y="2500"/>
                </a:lnTo>
                <a:lnTo>
                  <a:pt x="35" y="2500"/>
                </a:lnTo>
                <a:lnTo>
                  <a:pt x="35" y="2500"/>
                </a:lnTo>
                <a:lnTo>
                  <a:pt x="35" y="2500"/>
                </a:lnTo>
                <a:lnTo>
                  <a:pt x="35" y="2500"/>
                </a:lnTo>
                <a:lnTo>
                  <a:pt x="35" y="2500"/>
                </a:lnTo>
                <a:lnTo>
                  <a:pt x="35" y="2500"/>
                </a:lnTo>
                <a:lnTo>
                  <a:pt x="35" y="2500"/>
                </a:lnTo>
                <a:close/>
                <a:moveTo>
                  <a:pt x="1083" y="2404"/>
                </a:moveTo>
                <a:lnTo>
                  <a:pt x="1090" y="2397"/>
                </a:lnTo>
                <a:lnTo>
                  <a:pt x="1090" y="2390"/>
                </a:lnTo>
                <a:lnTo>
                  <a:pt x="1096" y="2383"/>
                </a:lnTo>
                <a:lnTo>
                  <a:pt x="1096" y="2376"/>
                </a:lnTo>
                <a:lnTo>
                  <a:pt x="1103" y="2369"/>
                </a:lnTo>
                <a:lnTo>
                  <a:pt x="1110" y="2363"/>
                </a:lnTo>
                <a:lnTo>
                  <a:pt x="1110" y="2356"/>
                </a:lnTo>
                <a:lnTo>
                  <a:pt x="1117" y="2349"/>
                </a:lnTo>
                <a:lnTo>
                  <a:pt x="1110" y="2342"/>
                </a:lnTo>
                <a:lnTo>
                  <a:pt x="1110" y="2335"/>
                </a:lnTo>
                <a:lnTo>
                  <a:pt x="1103" y="2328"/>
                </a:lnTo>
                <a:lnTo>
                  <a:pt x="1096" y="2321"/>
                </a:lnTo>
                <a:lnTo>
                  <a:pt x="1090" y="2314"/>
                </a:lnTo>
                <a:lnTo>
                  <a:pt x="1083" y="2307"/>
                </a:lnTo>
                <a:lnTo>
                  <a:pt x="1083" y="2301"/>
                </a:lnTo>
                <a:lnTo>
                  <a:pt x="1076" y="2301"/>
                </a:lnTo>
                <a:lnTo>
                  <a:pt x="1069" y="2294"/>
                </a:lnTo>
                <a:lnTo>
                  <a:pt x="1069" y="2287"/>
                </a:lnTo>
                <a:lnTo>
                  <a:pt x="1062" y="2280"/>
                </a:lnTo>
                <a:lnTo>
                  <a:pt x="1055" y="2273"/>
                </a:lnTo>
                <a:lnTo>
                  <a:pt x="1055" y="2266"/>
                </a:lnTo>
                <a:lnTo>
                  <a:pt x="1048" y="2259"/>
                </a:lnTo>
                <a:lnTo>
                  <a:pt x="1041" y="2252"/>
                </a:lnTo>
                <a:lnTo>
                  <a:pt x="1034" y="2245"/>
                </a:lnTo>
                <a:lnTo>
                  <a:pt x="1027" y="2245"/>
                </a:lnTo>
                <a:lnTo>
                  <a:pt x="1027" y="2239"/>
                </a:lnTo>
                <a:lnTo>
                  <a:pt x="1021" y="2232"/>
                </a:lnTo>
                <a:lnTo>
                  <a:pt x="1014" y="2225"/>
                </a:lnTo>
                <a:lnTo>
                  <a:pt x="1007" y="2225"/>
                </a:lnTo>
                <a:lnTo>
                  <a:pt x="1000" y="2218"/>
                </a:lnTo>
                <a:lnTo>
                  <a:pt x="1000" y="2211"/>
                </a:lnTo>
                <a:lnTo>
                  <a:pt x="993" y="2204"/>
                </a:lnTo>
                <a:lnTo>
                  <a:pt x="993" y="2190"/>
                </a:lnTo>
                <a:lnTo>
                  <a:pt x="993" y="2183"/>
                </a:lnTo>
                <a:lnTo>
                  <a:pt x="993" y="2170"/>
                </a:lnTo>
                <a:lnTo>
                  <a:pt x="993" y="2163"/>
                </a:lnTo>
                <a:lnTo>
                  <a:pt x="1000" y="2156"/>
                </a:lnTo>
                <a:lnTo>
                  <a:pt x="1000" y="2149"/>
                </a:lnTo>
                <a:lnTo>
                  <a:pt x="1007" y="2149"/>
                </a:lnTo>
                <a:lnTo>
                  <a:pt x="1014" y="2149"/>
                </a:lnTo>
                <a:lnTo>
                  <a:pt x="1021" y="2149"/>
                </a:lnTo>
                <a:lnTo>
                  <a:pt x="1027" y="2149"/>
                </a:lnTo>
                <a:lnTo>
                  <a:pt x="1034" y="2149"/>
                </a:lnTo>
                <a:lnTo>
                  <a:pt x="1041" y="2156"/>
                </a:lnTo>
                <a:lnTo>
                  <a:pt x="1048" y="2156"/>
                </a:lnTo>
                <a:lnTo>
                  <a:pt x="1055" y="2156"/>
                </a:lnTo>
                <a:lnTo>
                  <a:pt x="1062" y="2156"/>
                </a:lnTo>
                <a:lnTo>
                  <a:pt x="1069" y="2163"/>
                </a:lnTo>
                <a:lnTo>
                  <a:pt x="1076" y="2163"/>
                </a:lnTo>
                <a:lnTo>
                  <a:pt x="1083" y="2163"/>
                </a:lnTo>
                <a:lnTo>
                  <a:pt x="1090" y="2170"/>
                </a:lnTo>
                <a:lnTo>
                  <a:pt x="1096" y="2163"/>
                </a:lnTo>
                <a:lnTo>
                  <a:pt x="1103" y="2163"/>
                </a:lnTo>
                <a:lnTo>
                  <a:pt x="1110" y="2163"/>
                </a:lnTo>
                <a:lnTo>
                  <a:pt x="1117" y="2156"/>
                </a:lnTo>
                <a:lnTo>
                  <a:pt x="1124" y="2156"/>
                </a:lnTo>
                <a:lnTo>
                  <a:pt x="1131" y="2156"/>
                </a:lnTo>
                <a:lnTo>
                  <a:pt x="1138" y="2156"/>
                </a:lnTo>
                <a:lnTo>
                  <a:pt x="1145" y="2156"/>
                </a:lnTo>
                <a:lnTo>
                  <a:pt x="1152" y="2156"/>
                </a:lnTo>
                <a:lnTo>
                  <a:pt x="1158" y="2149"/>
                </a:lnTo>
                <a:lnTo>
                  <a:pt x="1165" y="2149"/>
                </a:lnTo>
                <a:lnTo>
                  <a:pt x="1172" y="2142"/>
                </a:lnTo>
                <a:lnTo>
                  <a:pt x="1172" y="2135"/>
                </a:lnTo>
                <a:lnTo>
                  <a:pt x="1179" y="2128"/>
                </a:lnTo>
                <a:lnTo>
                  <a:pt x="1186" y="2121"/>
                </a:lnTo>
                <a:lnTo>
                  <a:pt x="1186" y="2115"/>
                </a:lnTo>
                <a:lnTo>
                  <a:pt x="1193" y="2108"/>
                </a:lnTo>
                <a:lnTo>
                  <a:pt x="1200" y="2101"/>
                </a:lnTo>
                <a:lnTo>
                  <a:pt x="1200" y="2094"/>
                </a:lnTo>
                <a:lnTo>
                  <a:pt x="1207" y="2087"/>
                </a:lnTo>
                <a:lnTo>
                  <a:pt x="1214" y="2080"/>
                </a:lnTo>
                <a:lnTo>
                  <a:pt x="1214" y="2073"/>
                </a:lnTo>
                <a:lnTo>
                  <a:pt x="1221" y="2066"/>
                </a:lnTo>
                <a:lnTo>
                  <a:pt x="1221" y="2059"/>
                </a:lnTo>
                <a:lnTo>
                  <a:pt x="1227" y="2053"/>
                </a:lnTo>
                <a:lnTo>
                  <a:pt x="1234" y="2053"/>
                </a:lnTo>
                <a:lnTo>
                  <a:pt x="1241" y="2046"/>
                </a:lnTo>
                <a:lnTo>
                  <a:pt x="1241" y="2039"/>
                </a:lnTo>
                <a:lnTo>
                  <a:pt x="1248" y="2032"/>
                </a:lnTo>
                <a:lnTo>
                  <a:pt x="1248" y="2018"/>
                </a:lnTo>
                <a:lnTo>
                  <a:pt x="1255" y="2018"/>
                </a:lnTo>
                <a:lnTo>
                  <a:pt x="1262" y="2018"/>
                </a:lnTo>
                <a:lnTo>
                  <a:pt x="1269" y="2025"/>
                </a:lnTo>
                <a:lnTo>
                  <a:pt x="1269" y="2032"/>
                </a:lnTo>
                <a:lnTo>
                  <a:pt x="1276" y="2039"/>
                </a:lnTo>
                <a:lnTo>
                  <a:pt x="1283" y="2039"/>
                </a:lnTo>
                <a:lnTo>
                  <a:pt x="1289" y="2046"/>
                </a:lnTo>
                <a:lnTo>
                  <a:pt x="1296" y="2046"/>
                </a:lnTo>
                <a:lnTo>
                  <a:pt x="1303" y="2053"/>
                </a:lnTo>
                <a:lnTo>
                  <a:pt x="1310" y="2053"/>
                </a:lnTo>
                <a:lnTo>
                  <a:pt x="1317" y="2059"/>
                </a:lnTo>
                <a:lnTo>
                  <a:pt x="1324" y="2059"/>
                </a:lnTo>
                <a:lnTo>
                  <a:pt x="1331" y="2066"/>
                </a:lnTo>
                <a:lnTo>
                  <a:pt x="1338" y="2066"/>
                </a:lnTo>
                <a:lnTo>
                  <a:pt x="1345" y="2066"/>
                </a:lnTo>
                <a:lnTo>
                  <a:pt x="1352" y="2073"/>
                </a:lnTo>
                <a:lnTo>
                  <a:pt x="1358" y="2080"/>
                </a:lnTo>
                <a:lnTo>
                  <a:pt x="1365" y="2087"/>
                </a:lnTo>
                <a:lnTo>
                  <a:pt x="1365" y="2087"/>
                </a:lnTo>
                <a:lnTo>
                  <a:pt x="1365" y="2094"/>
                </a:lnTo>
                <a:lnTo>
                  <a:pt x="1365" y="2101"/>
                </a:lnTo>
                <a:lnTo>
                  <a:pt x="1358" y="2101"/>
                </a:lnTo>
                <a:lnTo>
                  <a:pt x="1345" y="2101"/>
                </a:lnTo>
                <a:lnTo>
                  <a:pt x="1338" y="2101"/>
                </a:lnTo>
                <a:lnTo>
                  <a:pt x="1331" y="2108"/>
                </a:lnTo>
                <a:lnTo>
                  <a:pt x="1324" y="2108"/>
                </a:lnTo>
                <a:lnTo>
                  <a:pt x="1317" y="2108"/>
                </a:lnTo>
                <a:lnTo>
                  <a:pt x="1310" y="2108"/>
                </a:lnTo>
                <a:lnTo>
                  <a:pt x="1303" y="2108"/>
                </a:lnTo>
                <a:lnTo>
                  <a:pt x="1296" y="2108"/>
                </a:lnTo>
                <a:lnTo>
                  <a:pt x="1289" y="2108"/>
                </a:lnTo>
                <a:lnTo>
                  <a:pt x="1283" y="2108"/>
                </a:lnTo>
                <a:lnTo>
                  <a:pt x="1276" y="2108"/>
                </a:lnTo>
                <a:lnTo>
                  <a:pt x="1269" y="2108"/>
                </a:lnTo>
                <a:lnTo>
                  <a:pt x="1262" y="2108"/>
                </a:lnTo>
                <a:lnTo>
                  <a:pt x="1255" y="2115"/>
                </a:lnTo>
                <a:lnTo>
                  <a:pt x="1248" y="2115"/>
                </a:lnTo>
                <a:lnTo>
                  <a:pt x="1248" y="2121"/>
                </a:lnTo>
                <a:lnTo>
                  <a:pt x="1241" y="2128"/>
                </a:lnTo>
                <a:lnTo>
                  <a:pt x="1234" y="2128"/>
                </a:lnTo>
                <a:lnTo>
                  <a:pt x="1227" y="2135"/>
                </a:lnTo>
                <a:lnTo>
                  <a:pt x="1221" y="2142"/>
                </a:lnTo>
                <a:lnTo>
                  <a:pt x="1214" y="2142"/>
                </a:lnTo>
                <a:lnTo>
                  <a:pt x="1207" y="2142"/>
                </a:lnTo>
                <a:lnTo>
                  <a:pt x="1200" y="2142"/>
                </a:lnTo>
                <a:lnTo>
                  <a:pt x="1193" y="2142"/>
                </a:lnTo>
                <a:lnTo>
                  <a:pt x="1186" y="2142"/>
                </a:lnTo>
                <a:lnTo>
                  <a:pt x="1179" y="2142"/>
                </a:lnTo>
                <a:lnTo>
                  <a:pt x="1172" y="2149"/>
                </a:lnTo>
                <a:lnTo>
                  <a:pt x="1172" y="2156"/>
                </a:lnTo>
                <a:lnTo>
                  <a:pt x="1165" y="2163"/>
                </a:lnTo>
                <a:lnTo>
                  <a:pt x="1165" y="2170"/>
                </a:lnTo>
                <a:lnTo>
                  <a:pt x="1172" y="2177"/>
                </a:lnTo>
                <a:lnTo>
                  <a:pt x="1172" y="2190"/>
                </a:lnTo>
                <a:lnTo>
                  <a:pt x="1172" y="2197"/>
                </a:lnTo>
                <a:lnTo>
                  <a:pt x="1179" y="2204"/>
                </a:lnTo>
                <a:lnTo>
                  <a:pt x="1179" y="2211"/>
                </a:lnTo>
                <a:lnTo>
                  <a:pt x="1186" y="2218"/>
                </a:lnTo>
                <a:lnTo>
                  <a:pt x="1186" y="2225"/>
                </a:lnTo>
                <a:lnTo>
                  <a:pt x="1193" y="2232"/>
                </a:lnTo>
                <a:lnTo>
                  <a:pt x="1200" y="2239"/>
                </a:lnTo>
                <a:lnTo>
                  <a:pt x="1207" y="2239"/>
                </a:lnTo>
                <a:lnTo>
                  <a:pt x="1214" y="2245"/>
                </a:lnTo>
                <a:lnTo>
                  <a:pt x="1214" y="2252"/>
                </a:lnTo>
                <a:lnTo>
                  <a:pt x="1221" y="2259"/>
                </a:lnTo>
                <a:lnTo>
                  <a:pt x="1227" y="2252"/>
                </a:lnTo>
                <a:lnTo>
                  <a:pt x="1227" y="2239"/>
                </a:lnTo>
                <a:lnTo>
                  <a:pt x="1234" y="2232"/>
                </a:lnTo>
                <a:lnTo>
                  <a:pt x="1234" y="2225"/>
                </a:lnTo>
                <a:lnTo>
                  <a:pt x="1241" y="2218"/>
                </a:lnTo>
                <a:lnTo>
                  <a:pt x="1241" y="2211"/>
                </a:lnTo>
                <a:lnTo>
                  <a:pt x="1241" y="2204"/>
                </a:lnTo>
                <a:lnTo>
                  <a:pt x="1248" y="2190"/>
                </a:lnTo>
                <a:lnTo>
                  <a:pt x="1248" y="2183"/>
                </a:lnTo>
                <a:lnTo>
                  <a:pt x="1255" y="2177"/>
                </a:lnTo>
                <a:lnTo>
                  <a:pt x="1255" y="2177"/>
                </a:lnTo>
                <a:lnTo>
                  <a:pt x="1262" y="2177"/>
                </a:lnTo>
                <a:lnTo>
                  <a:pt x="1269" y="2177"/>
                </a:lnTo>
                <a:lnTo>
                  <a:pt x="1283" y="2183"/>
                </a:lnTo>
                <a:lnTo>
                  <a:pt x="1289" y="2183"/>
                </a:lnTo>
                <a:lnTo>
                  <a:pt x="1296" y="2183"/>
                </a:lnTo>
                <a:lnTo>
                  <a:pt x="1303" y="2190"/>
                </a:lnTo>
                <a:lnTo>
                  <a:pt x="1310" y="2190"/>
                </a:lnTo>
                <a:lnTo>
                  <a:pt x="1317" y="2190"/>
                </a:lnTo>
                <a:lnTo>
                  <a:pt x="1317" y="2197"/>
                </a:lnTo>
                <a:lnTo>
                  <a:pt x="1324" y="2197"/>
                </a:lnTo>
                <a:lnTo>
                  <a:pt x="1331" y="2204"/>
                </a:lnTo>
                <a:lnTo>
                  <a:pt x="1338" y="2211"/>
                </a:lnTo>
                <a:lnTo>
                  <a:pt x="1345" y="2211"/>
                </a:lnTo>
                <a:lnTo>
                  <a:pt x="1352" y="2218"/>
                </a:lnTo>
                <a:lnTo>
                  <a:pt x="1352" y="2225"/>
                </a:lnTo>
                <a:lnTo>
                  <a:pt x="1345" y="2232"/>
                </a:lnTo>
                <a:lnTo>
                  <a:pt x="1345" y="2245"/>
                </a:lnTo>
                <a:lnTo>
                  <a:pt x="1345" y="2252"/>
                </a:lnTo>
                <a:lnTo>
                  <a:pt x="1338" y="2259"/>
                </a:lnTo>
                <a:lnTo>
                  <a:pt x="1331" y="2259"/>
                </a:lnTo>
                <a:lnTo>
                  <a:pt x="1324" y="2266"/>
                </a:lnTo>
                <a:lnTo>
                  <a:pt x="1317" y="2273"/>
                </a:lnTo>
                <a:lnTo>
                  <a:pt x="1317" y="2273"/>
                </a:lnTo>
                <a:lnTo>
                  <a:pt x="1310" y="2280"/>
                </a:lnTo>
                <a:lnTo>
                  <a:pt x="1303" y="2287"/>
                </a:lnTo>
                <a:lnTo>
                  <a:pt x="1296" y="2287"/>
                </a:lnTo>
                <a:lnTo>
                  <a:pt x="1289" y="2294"/>
                </a:lnTo>
                <a:lnTo>
                  <a:pt x="1283" y="2301"/>
                </a:lnTo>
                <a:lnTo>
                  <a:pt x="1276" y="2307"/>
                </a:lnTo>
                <a:lnTo>
                  <a:pt x="1276" y="2307"/>
                </a:lnTo>
                <a:lnTo>
                  <a:pt x="1269" y="2314"/>
                </a:lnTo>
                <a:lnTo>
                  <a:pt x="1262" y="2321"/>
                </a:lnTo>
                <a:lnTo>
                  <a:pt x="1255" y="2321"/>
                </a:lnTo>
                <a:lnTo>
                  <a:pt x="1248" y="2328"/>
                </a:lnTo>
                <a:lnTo>
                  <a:pt x="1241" y="2328"/>
                </a:lnTo>
                <a:lnTo>
                  <a:pt x="1234" y="2335"/>
                </a:lnTo>
                <a:lnTo>
                  <a:pt x="1234" y="2342"/>
                </a:lnTo>
                <a:lnTo>
                  <a:pt x="1227" y="2342"/>
                </a:lnTo>
                <a:lnTo>
                  <a:pt x="1221" y="2349"/>
                </a:lnTo>
                <a:lnTo>
                  <a:pt x="1214" y="2356"/>
                </a:lnTo>
                <a:lnTo>
                  <a:pt x="1207" y="2356"/>
                </a:lnTo>
                <a:lnTo>
                  <a:pt x="1200" y="2363"/>
                </a:lnTo>
                <a:lnTo>
                  <a:pt x="1193" y="2363"/>
                </a:lnTo>
                <a:lnTo>
                  <a:pt x="1186" y="2369"/>
                </a:lnTo>
                <a:lnTo>
                  <a:pt x="1186" y="2376"/>
                </a:lnTo>
                <a:lnTo>
                  <a:pt x="1179" y="2376"/>
                </a:lnTo>
                <a:lnTo>
                  <a:pt x="1172" y="2383"/>
                </a:lnTo>
                <a:lnTo>
                  <a:pt x="1165" y="2390"/>
                </a:lnTo>
                <a:lnTo>
                  <a:pt x="1158" y="2390"/>
                </a:lnTo>
                <a:lnTo>
                  <a:pt x="1152" y="2397"/>
                </a:lnTo>
                <a:lnTo>
                  <a:pt x="1145" y="2397"/>
                </a:lnTo>
                <a:lnTo>
                  <a:pt x="1138" y="2404"/>
                </a:lnTo>
                <a:lnTo>
                  <a:pt x="1138" y="2411"/>
                </a:lnTo>
                <a:lnTo>
                  <a:pt x="1131" y="2411"/>
                </a:lnTo>
                <a:lnTo>
                  <a:pt x="1124" y="2418"/>
                </a:lnTo>
                <a:lnTo>
                  <a:pt x="1117" y="2418"/>
                </a:lnTo>
                <a:lnTo>
                  <a:pt x="1110" y="2425"/>
                </a:lnTo>
                <a:lnTo>
                  <a:pt x="1103" y="2425"/>
                </a:lnTo>
                <a:lnTo>
                  <a:pt x="1096" y="2418"/>
                </a:lnTo>
                <a:lnTo>
                  <a:pt x="1090" y="2418"/>
                </a:lnTo>
                <a:lnTo>
                  <a:pt x="1083" y="2404"/>
                </a:lnTo>
                <a:close/>
                <a:moveTo>
                  <a:pt x="710" y="2280"/>
                </a:moveTo>
                <a:lnTo>
                  <a:pt x="710" y="2273"/>
                </a:lnTo>
                <a:lnTo>
                  <a:pt x="717" y="2259"/>
                </a:lnTo>
                <a:lnTo>
                  <a:pt x="717" y="2252"/>
                </a:lnTo>
                <a:lnTo>
                  <a:pt x="724" y="2245"/>
                </a:lnTo>
                <a:lnTo>
                  <a:pt x="724" y="2239"/>
                </a:lnTo>
                <a:lnTo>
                  <a:pt x="731" y="2232"/>
                </a:lnTo>
                <a:lnTo>
                  <a:pt x="738" y="2225"/>
                </a:lnTo>
                <a:lnTo>
                  <a:pt x="738" y="2211"/>
                </a:lnTo>
                <a:lnTo>
                  <a:pt x="745" y="2204"/>
                </a:lnTo>
                <a:lnTo>
                  <a:pt x="752" y="2197"/>
                </a:lnTo>
                <a:lnTo>
                  <a:pt x="759" y="2197"/>
                </a:lnTo>
                <a:lnTo>
                  <a:pt x="765" y="2197"/>
                </a:lnTo>
                <a:lnTo>
                  <a:pt x="772" y="2204"/>
                </a:lnTo>
                <a:lnTo>
                  <a:pt x="779" y="2211"/>
                </a:lnTo>
                <a:lnTo>
                  <a:pt x="786" y="2218"/>
                </a:lnTo>
                <a:lnTo>
                  <a:pt x="793" y="2225"/>
                </a:lnTo>
                <a:lnTo>
                  <a:pt x="800" y="2232"/>
                </a:lnTo>
                <a:lnTo>
                  <a:pt x="800" y="2239"/>
                </a:lnTo>
                <a:lnTo>
                  <a:pt x="807" y="2239"/>
                </a:lnTo>
                <a:lnTo>
                  <a:pt x="814" y="2245"/>
                </a:lnTo>
                <a:lnTo>
                  <a:pt x="821" y="2252"/>
                </a:lnTo>
                <a:lnTo>
                  <a:pt x="828" y="2252"/>
                </a:lnTo>
                <a:lnTo>
                  <a:pt x="834" y="2259"/>
                </a:lnTo>
                <a:lnTo>
                  <a:pt x="841" y="2266"/>
                </a:lnTo>
                <a:lnTo>
                  <a:pt x="848" y="2266"/>
                </a:lnTo>
                <a:lnTo>
                  <a:pt x="862" y="2273"/>
                </a:lnTo>
                <a:lnTo>
                  <a:pt x="869" y="2280"/>
                </a:lnTo>
                <a:lnTo>
                  <a:pt x="869" y="2280"/>
                </a:lnTo>
                <a:lnTo>
                  <a:pt x="869" y="2287"/>
                </a:lnTo>
                <a:lnTo>
                  <a:pt x="862" y="2294"/>
                </a:lnTo>
                <a:lnTo>
                  <a:pt x="855" y="2294"/>
                </a:lnTo>
                <a:lnTo>
                  <a:pt x="841" y="2301"/>
                </a:lnTo>
                <a:lnTo>
                  <a:pt x="834" y="2301"/>
                </a:lnTo>
                <a:lnTo>
                  <a:pt x="828" y="2307"/>
                </a:lnTo>
                <a:lnTo>
                  <a:pt x="821" y="2307"/>
                </a:lnTo>
                <a:lnTo>
                  <a:pt x="814" y="2307"/>
                </a:lnTo>
                <a:lnTo>
                  <a:pt x="807" y="2307"/>
                </a:lnTo>
                <a:lnTo>
                  <a:pt x="800" y="2307"/>
                </a:lnTo>
                <a:lnTo>
                  <a:pt x="793" y="2307"/>
                </a:lnTo>
                <a:lnTo>
                  <a:pt x="786" y="2307"/>
                </a:lnTo>
                <a:lnTo>
                  <a:pt x="772" y="2307"/>
                </a:lnTo>
                <a:lnTo>
                  <a:pt x="765" y="2307"/>
                </a:lnTo>
                <a:lnTo>
                  <a:pt x="759" y="2307"/>
                </a:lnTo>
                <a:lnTo>
                  <a:pt x="752" y="2307"/>
                </a:lnTo>
                <a:lnTo>
                  <a:pt x="745" y="2301"/>
                </a:lnTo>
                <a:lnTo>
                  <a:pt x="738" y="2301"/>
                </a:lnTo>
                <a:lnTo>
                  <a:pt x="731" y="2294"/>
                </a:lnTo>
                <a:lnTo>
                  <a:pt x="724" y="2287"/>
                </a:lnTo>
                <a:lnTo>
                  <a:pt x="717" y="2287"/>
                </a:lnTo>
                <a:lnTo>
                  <a:pt x="710" y="2280"/>
                </a:lnTo>
                <a:close/>
                <a:moveTo>
                  <a:pt x="159" y="2032"/>
                </a:moveTo>
                <a:lnTo>
                  <a:pt x="159" y="2032"/>
                </a:lnTo>
                <a:lnTo>
                  <a:pt x="159" y="2046"/>
                </a:lnTo>
                <a:lnTo>
                  <a:pt x="159" y="2032"/>
                </a:lnTo>
                <a:close/>
                <a:moveTo>
                  <a:pt x="193" y="1997"/>
                </a:moveTo>
                <a:lnTo>
                  <a:pt x="200" y="1970"/>
                </a:lnTo>
                <a:lnTo>
                  <a:pt x="186" y="1970"/>
                </a:lnTo>
                <a:lnTo>
                  <a:pt x="186" y="1997"/>
                </a:lnTo>
                <a:lnTo>
                  <a:pt x="186" y="2004"/>
                </a:lnTo>
                <a:lnTo>
                  <a:pt x="193" y="1997"/>
                </a:lnTo>
                <a:close/>
                <a:moveTo>
                  <a:pt x="1090" y="1997"/>
                </a:moveTo>
                <a:lnTo>
                  <a:pt x="1083" y="1991"/>
                </a:lnTo>
                <a:lnTo>
                  <a:pt x="1083" y="1984"/>
                </a:lnTo>
                <a:lnTo>
                  <a:pt x="1076" y="1977"/>
                </a:lnTo>
                <a:lnTo>
                  <a:pt x="1076" y="1970"/>
                </a:lnTo>
                <a:lnTo>
                  <a:pt x="1069" y="1963"/>
                </a:lnTo>
                <a:lnTo>
                  <a:pt x="1069" y="1956"/>
                </a:lnTo>
                <a:lnTo>
                  <a:pt x="1069" y="1942"/>
                </a:lnTo>
                <a:lnTo>
                  <a:pt x="1069" y="1935"/>
                </a:lnTo>
                <a:lnTo>
                  <a:pt x="1062" y="1929"/>
                </a:lnTo>
                <a:lnTo>
                  <a:pt x="1055" y="1929"/>
                </a:lnTo>
                <a:lnTo>
                  <a:pt x="1048" y="1929"/>
                </a:lnTo>
                <a:lnTo>
                  <a:pt x="1034" y="1929"/>
                </a:lnTo>
                <a:lnTo>
                  <a:pt x="1034" y="1935"/>
                </a:lnTo>
                <a:lnTo>
                  <a:pt x="1027" y="1942"/>
                </a:lnTo>
                <a:lnTo>
                  <a:pt x="1021" y="1949"/>
                </a:lnTo>
                <a:lnTo>
                  <a:pt x="1014" y="1949"/>
                </a:lnTo>
                <a:lnTo>
                  <a:pt x="1007" y="1956"/>
                </a:lnTo>
                <a:lnTo>
                  <a:pt x="1000" y="1956"/>
                </a:lnTo>
                <a:lnTo>
                  <a:pt x="993" y="1963"/>
                </a:lnTo>
                <a:lnTo>
                  <a:pt x="986" y="1963"/>
                </a:lnTo>
                <a:lnTo>
                  <a:pt x="979" y="1963"/>
                </a:lnTo>
                <a:lnTo>
                  <a:pt x="972" y="1963"/>
                </a:lnTo>
                <a:lnTo>
                  <a:pt x="965" y="1963"/>
                </a:lnTo>
                <a:lnTo>
                  <a:pt x="959" y="1956"/>
                </a:lnTo>
                <a:lnTo>
                  <a:pt x="952" y="1949"/>
                </a:lnTo>
                <a:lnTo>
                  <a:pt x="945" y="1942"/>
                </a:lnTo>
                <a:lnTo>
                  <a:pt x="945" y="1935"/>
                </a:lnTo>
                <a:lnTo>
                  <a:pt x="938" y="1929"/>
                </a:lnTo>
                <a:lnTo>
                  <a:pt x="931" y="1929"/>
                </a:lnTo>
                <a:lnTo>
                  <a:pt x="924" y="1929"/>
                </a:lnTo>
                <a:lnTo>
                  <a:pt x="917" y="1929"/>
                </a:lnTo>
                <a:lnTo>
                  <a:pt x="910" y="1929"/>
                </a:lnTo>
                <a:lnTo>
                  <a:pt x="903" y="1929"/>
                </a:lnTo>
                <a:lnTo>
                  <a:pt x="896" y="1929"/>
                </a:lnTo>
                <a:lnTo>
                  <a:pt x="890" y="1929"/>
                </a:lnTo>
                <a:lnTo>
                  <a:pt x="883" y="1922"/>
                </a:lnTo>
                <a:lnTo>
                  <a:pt x="876" y="1922"/>
                </a:lnTo>
                <a:lnTo>
                  <a:pt x="869" y="1908"/>
                </a:lnTo>
                <a:lnTo>
                  <a:pt x="869" y="1908"/>
                </a:lnTo>
                <a:lnTo>
                  <a:pt x="876" y="1901"/>
                </a:lnTo>
                <a:lnTo>
                  <a:pt x="883" y="1901"/>
                </a:lnTo>
                <a:lnTo>
                  <a:pt x="883" y="1894"/>
                </a:lnTo>
                <a:lnTo>
                  <a:pt x="890" y="1880"/>
                </a:lnTo>
                <a:lnTo>
                  <a:pt x="890" y="1873"/>
                </a:lnTo>
                <a:lnTo>
                  <a:pt x="896" y="1867"/>
                </a:lnTo>
                <a:lnTo>
                  <a:pt x="903" y="1867"/>
                </a:lnTo>
                <a:lnTo>
                  <a:pt x="910" y="1867"/>
                </a:lnTo>
                <a:lnTo>
                  <a:pt x="917" y="1867"/>
                </a:lnTo>
                <a:lnTo>
                  <a:pt x="924" y="1867"/>
                </a:lnTo>
                <a:lnTo>
                  <a:pt x="931" y="1867"/>
                </a:lnTo>
                <a:lnTo>
                  <a:pt x="938" y="1867"/>
                </a:lnTo>
                <a:lnTo>
                  <a:pt x="952" y="1873"/>
                </a:lnTo>
                <a:lnTo>
                  <a:pt x="959" y="1873"/>
                </a:lnTo>
                <a:lnTo>
                  <a:pt x="965" y="1873"/>
                </a:lnTo>
                <a:lnTo>
                  <a:pt x="972" y="1873"/>
                </a:lnTo>
                <a:lnTo>
                  <a:pt x="979" y="1873"/>
                </a:lnTo>
                <a:lnTo>
                  <a:pt x="979" y="1867"/>
                </a:lnTo>
                <a:lnTo>
                  <a:pt x="986" y="1860"/>
                </a:lnTo>
                <a:lnTo>
                  <a:pt x="993" y="1853"/>
                </a:lnTo>
                <a:lnTo>
                  <a:pt x="993" y="1846"/>
                </a:lnTo>
                <a:lnTo>
                  <a:pt x="1000" y="1839"/>
                </a:lnTo>
                <a:lnTo>
                  <a:pt x="1007" y="1832"/>
                </a:lnTo>
                <a:lnTo>
                  <a:pt x="1014" y="1825"/>
                </a:lnTo>
                <a:lnTo>
                  <a:pt x="1021" y="1825"/>
                </a:lnTo>
                <a:lnTo>
                  <a:pt x="1027" y="1825"/>
                </a:lnTo>
                <a:lnTo>
                  <a:pt x="1034" y="1825"/>
                </a:lnTo>
                <a:lnTo>
                  <a:pt x="1041" y="1825"/>
                </a:lnTo>
                <a:lnTo>
                  <a:pt x="1048" y="1825"/>
                </a:lnTo>
                <a:lnTo>
                  <a:pt x="1055" y="1818"/>
                </a:lnTo>
                <a:lnTo>
                  <a:pt x="1062" y="1818"/>
                </a:lnTo>
                <a:lnTo>
                  <a:pt x="1069" y="1811"/>
                </a:lnTo>
                <a:lnTo>
                  <a:pt x="1076" y="1811"/>
                </a:lnTo>
                <a:lnTo>
                  <a:pt x="1083" y="1805"/>
                </a:lnTo>
                <a:lnTo>
                  <a:pt x="1090" y="1805"/>
                </a:lnTo>
                <a:lnTo>
                  <a:pt x="1096" y="1798"/>
                </a:lnTo>
                <a:lnTo>
                  <a:pt x="1103" y="1798"/>
                </a:lnTo>
                <a:lnTo>
                  <a:pt x="1110" y="1798"/>
                </a:lnTo>
                <a:lnTo>
                  <a:pt x="1117" y="1798"/>
                </a:lnTo>
                <a:lnTo>
                  <a:pt x="1124" y="1791"/>
                </a:lnTo>
                <a:lnTo>
                  <a:pt x="1131" y="1784"/>
                </a:lnTo>
                <a:lnTo>
                  <a:pt x="1138" y="1777"/>
                </a:lnTo>
                <a:lnTo>
                  <a:pt x="1138" y="1770"/>
                </a:lnTo>
                <a:lnTo>
                  <a:pt x="1145" y="1763"/>
                </a:lnTo>
                <a:lnTo>
                  <a:pt x="1145" y="1756"/>
                </a:lnTo>
                <a:lnTo>
                  <a:pt x="1152" y="1749"/>
                </a:lnTo>
                <a:lnTo>
                  <a:pt x="1158" y="1749"/>
                </a:lnTo>
                <a:lnTo>
                  <a:pt x="1165" y="1743"/>
                </a:lnTo>
                <a:lnTo>
                  <a:pt x="1172" y="1736"/>
                </a:lnTo>
                <a:lnTo>
                  <a:pt x="1172" y="1729"/>
                </a:lnTo>
                <a:lnTo>
                  <a:pt x="1179" y="1722"/>
                </a:lnTo>
                <a:lnTo>
                  <a:pt x="1186" y="1715"/>
                </a:lnTo>
                <a:lnTo>
                  <a:pt x="1186" y="1708"/>
                </a:lnTo>
                <a:lnTo>
                  <a:pt x="1193" y="1701"/>
                </a:lnTo>
                <a:lnTo>
                  <a:pt x="1200" y="1694"/>
                </a:lnTo>
                <a:lnTo>
                  <a:pt x="1207" y="1687"/>
                </a:lnTo>
                <a:lnTo>
                  <a:pt x="1214" y="1687"/>
                </a:lnTo>
                <a:lnTo>
                  <a:pt x="1221" y="1681"/>
                </a:lnTo>
                <a:lnTo>
                  <a:pt x="1227" y="1681"/>
                </a:lnTo>
                <a:lnTo>
                  <a:pt x="1234" y="1681"/>
                </a:lnTo>
                <a:lnTo>
                  <a:pt x="1241" y="1681"/>
                </a:lnTo>
                <a:lnTo>
                  <a:pt x="1248" y="1681"/>
                </a:lnTo>
                <a:lnTo>
                  <a:pt x="1255" y="1681"/>
                </a:lnTo>
                <a:lnTo>
                  <a:pt x="1262" y="1681"/>
                </a:lnTo>
                <a:lnTo>
                  <a:pt x="1269" y="1687"/>
                </a:lnTo>
                <a:lnTo>
                  <a:pt x="1276" y="1687"/>
                </a:lnTo>
                <a:lnTo>
                  <a:pt x="1283" y="1687"/>
                </a:lnTo>
                <a:lnTo>
                  <a:pt x="1289" y="1687"/>
                </a:lnTo>
                <a:lnTo>
                  <a:pt x="1296" y="1687"/>
                </a:lnTo>
                <a:lnTo>
                  <a:pt x="1303" y="1687"/>
                </a:lnTo>
                <a:lnTo>
                  <a:pt x="1310" y="1687"/>
                </a:lnTo>
                <a:lnTo>
                  <a:pt x="1317" y="1681"/>
                </a:lnTo>
                <a:lnTo>
                  <a:pt x="1324" y="1681"/>
                </a:lnTo>
                <a:lnTo>
                  <a:pt x="1331" y="1681"/>
                </a:lnTo>
                <a:lnTo>
                  <a:pt x="1338" y="1681"/>
                </a:lnTo>
                <a:lnTo>
                  <a:pt x="1345" y="1681"/>
                </a:lnTo>
                <a:lnTo>
                  <a:pt x="1358" y="1687"/>
                </a:lnTo>
                <a:lnTo>
                  <a:pt x="1358" y="1687"/>
                </a:lnTo>
                <a:lnTo>
                  <a:pt x="1358" y="1694"/>
                </a:lnTo>
                <a:lnTo>
                  <a:pt x="1358" y="1701"/>
                </a:lnTo>
                <a:lnTo>
                  <a:pt x="1352" y="1708"/>
                </a:lnTo>
                <a:lnTo>
                  <a:pt x="1345" y="1715"/>
                </a:lnTo>
                <a:lnTo>
                  <a:pt x="1338" y="1722"/>
                </a:lnTo>
                <a:lnTo>
                  <a:pt x="1338" y="1729"/>
                </a:lnTo>
                <a:lnTo>
                  <a:pt x="1331" y="1736"/>
                </a:lnTo>
                <a:lnTo>
                  <a:pt x="1324" y="1743"/>
                </a:lnTo>
                <a:lnTo>
                  <a:pt x="1317" y="1749"/>
                </a:lnTo>
                <a:lnTo>
                  <a:pt x="1310" y="1749"/>
                </a:lnTo>
                <a:lnTo>
                  <a:pt x="1310" y="1756"/>
                </a:lnTo>
                <a:lnTo>
                  <a:pt x="1303" y="1763"/>
                </a:lnTo>
                <a:lnTo>
                  <a:pt x="1296" y="1770"/>
                </a:lnTo>
                <a:lnTo>
                  <a:pt x="1289" y="1777"/>
                </a:lnTo>
                <a:lnTo>
                  <a:pt x="1289" y="1784"/>
                </a:lnTo>
                <a:lnTo>
                  <a:pt x="1283" y="1791"/>
                </a:lnTo>
                <a:lnTo>
                  <a:pt x="1276" y="1798"/>
                </a:lnTo>
                <a:lnTo>
                  <a:pt x="1269" y="1798"/>
                </a:lnTo>
                <a:lnTo>
                  <a:pt x="1262" y="1805"/>
                </a:lnTo>
                <a:lnTo>
                  <a:pt x="1262" y="1811"/>
                </a:lnTo>
                <a:lnTo>
                  <a:pt x="1255" y="1818"/>
                </a:lnTo>
                <a:lnTo>
                  <a:pt x="1248" y="1825"/>
                </a:lnTo>
                <a:lnTo>
                  <a:pt x="1241" y="1832"/>
                </a:lnTo>
                <a:lnTo>
                  <a:pt x="1234" y="1839"/>
                </a:lnTo>
                <a:lnTo>
                  <a:pt x="1234" y="1846"/>
                </a:lnTo>
                <a:lnTo>
                  <a:pt x="1227" y="1846"/>
                </a:lnTo>
                <a:lnTo>
                  <a:pt x="1221" y="1853"/>
                </a:lnTo>
                <a:lnTo>
                  <a:pt x="1214" y="1860"/>
                </a:lnTo>
                <a:lnTo>
                  <a:pt x="1214" y="1867"/>
                </a:lnTo>
                <a:lnTo>
                  <a:pt x="1207" y="1873"/>
                </a:lnTo>
                <a:lnTo>
                  <a:pt x="1200" y="1880"/>
                </a:lnTo>
                <a:lnTo>
                  <a:pt x="1193" y="1887"/>
                </a:lnTo>
                <a:lnTo>
                  <a:pt x="1186" y="1887"/>
                </a:lnTo>
                <a:lnTo>
                  <a:pt x="1179" y="1894"/>
                </a:lnTo>
                <a:lnTo>
                  <a:pt x="1172" y="1894"/>
                </a:lnTo>
                <a:lnTo>
                  <a:pt x="1165" y="1894"/>
                </a:lnTo>
                <a:lnTo>
                  <a:pt x="1158" y="1901"/>
                </a:lnTo>
                <a:lnTo>
                  <a:pt x="1152" y="1901"/>
                </a:lnTo>
                <a:lnTo>
                  <a:pt x="1152" y="1908"/>
                </a:lnTo>
                <a:lnTo>
                  <a:pt x="1145" y="1915"/>
                </a:lnTo>
                <a:lnTo>
                  <a:pt x="1138" y="1922"/>
                </a:lnTo>
                <a:lnTo>
                  <a:pt x="1138" y="1929"/>
                </a:lnTo>
                <a:lnTo>
                  <a:pt x="1131" y="1942"/>
                </a:lnTo>
                <a:lnTo>
                  <a:pt x="1131" y="1949"/>
                </a:lnTo>
                <a:lnTo>
                  <a:pt x="1124" y="1956"/>
                </a:lnTo>
                <a:lnTo>
                  <a:pt x="1124" y="1963"/>
                </a:lnTo>
                <a:lnTo>
                  <a:pt x="1117" y="1970"/>
                </a:lnTo>
                <a:lnTo>
                  <a:pt x="1110" y="1977"/>
                </a:lnTo>
                <a:lnTo>
                  <a:pt x="1110" y="1984"/>
                </a:lnTo>
                <a:lnTo>
                  <a:pt x="1103" y="1991"/>
                </a:lnTo>
                <a:lnTo>
                  <a:pt x="1103" y="2004"/>
                </a:lnTo>
                <a:lnTo>
                  <a:pt x="1096" y="2004"/>
                </a:lnTo>
                <a:lnTo>
                  <a:pt x="1090" y="1997"/>
                </a:lnTo>
                <a:close/>
                <a:moveTo>
                  <a:pt x="228" y="1935"/>
                </a:moveTo>
                <a:lnTo>
                  <a:pt x="235" y="1908"/>
                </a:lnTo>
                <a:lnTo>
                  <a:pt x="221" y="1908"/>
                </a:lnTo>
                <a:lnTo>
                  <a:pt x="221" y="1935"/>
                </a:lnTo>
                <a:lnTo>
                  <a:pt x="221" y="1949"/>
                </a:lnTo>
                <a:lnTo>
                  <a:pt x="228" y="1935"/>
                </a:lnTo>
                <a:close/>
                <a:moveTo>
                  <a:pt x="1338" y="1935"/>
                </a:moveTo>
                <a:lnTo>
                  <a:pt x="1338" y="1929"/>
                </a:lnTo>
                <a:lnTo>
                  <a:pt x="1338" y="1922"/>
                </a:lnTo>
                <a:lnTo>
                  <a:pt x="1345" y="1908"/>
                </a:lnTo>
                <a:lnTo>
                  <a:pt x="1352" y="1901"/>
                </a:lnTo>
                <a:lnTo>
                  <a:pt x="1352" y="1894"/>
                </a:lnTo>
                <a:lnTo>
                  <a:pt x="1358" y="1894"/>
                </a:lnTo>
                <a:lnTo>
                  <a:pt x="1365" y="1887"/>
                </a:lnTo>
                <a:lnTo>
                  <a:pt x="1372" y="1880"/>
                </a:lnTo>
                <a:lnTo>
                  <a:pt x="1372" y="1873"/>
                </a:lnTo>
                <a:lnTo>
                  <a:pt x="1379" y="1867"/>
                </a:lnTo>
                <a:lnTo>
                  <a:pt x="1386" y="1860"/>
                </a:lnTo>
                <a:lnTo>
                  <a:pt x="1393" y="1853"/>
                </a:lnTo>
                <a:lnTo>
                  <a:pt x="1393" y="1846"/>
                </a:lnTo>
                <a:lnTo>
                  <a:pt x="1400" y="1839"/>
                </a:lnTo>
                <a:lnTo>
                  <a:pt x="1407" y="1832"/>
                </a:lnTo>
                <a:lnTo>
                  <a:pt x="1414" y="1825"/>
                </a:lnTo>
                <a:lnTo>
                  <a:pt x="1420" y="1818"/>
                </a:lnTo>
                <a:lnTo>
                  <a:pt x="1420" y="1811"/>
                </a:lnTo>
                <a:lnTo>
                  <a:pt x="1427" y="1805"/>
                </a:lnTo>
                <a:lnTo>
                  <a:pt x="1434" y="1798"/>
                </a:lnTo>
                <a:lnTo>
                  <a:pt x="1441" y="1791"/>
                </a:lnTo>
                <a:lnTo>
                  <a:pt x="1441" y="1784"/>
                </a:lnTo>
                <a:lnTo>
                  <a:pt x="1448" y="1777"/>
                </a:lnTo>
                <a:lnTo>
                  <a:pt x="1455" y="1770"/>
                </a:lnTo>
                <a:lnTo>
                  <a:pt x="1462" y="1763"/>
                </a:lnTo>
                <a:lnTo>
                  <a:pt x="1462" y="1756"/>
                </a:lnTo>
                <a:lnTo>
                  <a:pt x="1469" y="1749"/>
                </a:lnTo>
                <a:lnTo>
                  <a:pt x="1476" y="1749"/>
                </a:lnTo>
                <a:lnTo>
                  <a:pt x="1483" y="1743"/>
                </a:lnTo>
                <a:lnTo>
                  <a:pt x="1489" y="1736"/>
                </a:lnTo>
                <a:lnTo>
                  <a:pt x="1496" y="1729"/>
                </a:lnTo>
                <a:lnTo>
                  <a:pt x="1503" y="1729"/>
                </a:lnTo>
                <a:lnTo>
                  <a:pt x="1510" y="1722"/>
                </a:lnTo>
                <a:lnTo>
                  <a:pt x="1517" y="1715"/>
                </a:lnTo>
                <a:lnTo>
                  <a:pt x="1517" y="1715"/>
                </a:lnTo>
                <a:lnTo>
                  <a:pt x="1524" y="1708"/>
                </a:lnTo>
                <a:lnTo>
                  <a:pt x="1531" y="1701"/>
                </a:lnTo>
                <a:lnTo>
                  <a:pt x="1538" y="1694"/>
                </a:lnTo>
                <a:lnTo>
                  <a:pt x="1545" y="1694"/>
                </a:lnTo>
                <a:lnTo>
                  <a:pt x="1551" y="1694"/>
                </a:lnTo>
                <a:lnTo>
                  <a:pt x="1558" y="1694"/>
                </a:lnTo>
                <a:lnTo>
                  <a:pt x="1565" y="1701"/>
                </a:lnTo>
                <a:lnTo>
                  <a:pt x="1572" y="1701"/>
                </a:lnTo>
                <a:lnTo>
                  <a:pt x="1579" y="1701"/>
                </a:lnTo>
                <a:lnTo>
                  <a:pt x="1593" y="1701"/>
                </a:lnTo>
                <a:lnTo>
                  <a:pt x="1600" y="1701"/>
                </a:lnTo>
                <a:lnTo>
                  <a:pt x="1607" y="1694"/>
                </a:lnTo>
                <a:lnTo>
                  <a:pt x="1614" y="1694"/>
                </a:lnTo>
                <a:lnTo>
                  <a:pt x="1620" y="1694"/>
                </a:lnTo>
                <a:lnTo>
                  <a:pt x="1627" y="1701"/>
                </a:lnTo>
                <a:lnTo>
                  <a:pt x="1634" y="1708"/>
                </a:lnTo>
                <a:lnTo>
                  <a:pt x="1634" y="1715"/>
                </a:lnTo>
                <a:lnTo>
                  <a:pt x="1641" y="1722"/>
                </a:lnTo>
                <a:lnTo>
                  <a:pt x="1641" y="1729"/>
                </a:lnTo>
                <a:lnTo>
                  <a:pt x="1655" y="1736"/>
                </a:lnTo>
                <a:lnTo>
                  <a:pt x="1662" y="1736"/>
                </a:lnTo>
                <a:lnTo>
                  <a:pt x="1669" y="1736"/>
                </a:lnTo>
                <a:lnTo>
                  <a:pt x="1676" y="1743"/>
                </a:lnTo>
                <a:lnTo>
                  <a:pt x="1682" y="1743"/>
                </a:lnTo>
                <a:lnTo>
                  <a:pt x="1689" y="1749"/>
                </a:lnTo>
                <a:lnTo>
                  <a:pt x="1696" y="1749"/>
                </a:lnTo>
                <a:lnTo>
                  <a:pt x="1696" y="1756"/>
                </a:lnTo>
                <a:lnTo>
                  <a:pt x="1689" y="1763"/>
                </a:lnTo>
                <a:lnTo>
                  <a:pt x="1682" y="1770"/>
                </a:lnTo>
                <a:lnTo>
                  <a:pt x="1676" y="1777"/>
                </a:lnTo>
                <a:lnTo>
                  <a:pt x="1669" y="1784"/>
                </a:lnTo>
                <a:lnTo>
                  <a:pt x="1662" y="1784"/>
                </a:lnTo>
                <a:lnTo>
                  <a:pt x="1655" y="1784"/>
                </a:lnTo>
                <a:lnTo>
                  <a:pt x="1648" y="1791"/>
                </a:lnTo>
                <a:lnTo>
                  <a:pt x="1641" y="1791"/>
                </a:lnTo>
                <a:lnTo>
                  <a:pt x="1634" y="1791"/>
                </a:lnTo>
                <a:lnTo>
                  <a:pt x="1627" y="1798"/>
                </a:lnTo>
                <a:lnTo>
                  <a:pt x="1620" y="1798"/>
                </a:lnTo>
                <a:lnTo>
                  <a:pt x="1614" y="1805"/>
                </a:lnTo>
                <a:lnTo>
                  <a:pt x="1607" y="1805"/>
                </a:lnTo>
                <a:lnTo>
                  <a:pt x="1600" y="1805"/>
                </a:lnTo>
                <a:lnTo>
                  <a:pt x="1593" y="1811"/>
                </a:lnTo>
                <a:lnTo>
                  <a:pt x="1586" y="1811"/>
                </a:lnTo>
                <a:lnTo>
                  <a:pt x="1579" y="1811"/>
                </a:lnTo>
                <a:lnTo>
                  <a:pt x="1572" y="1811"/>
                </a:lnTo>
                <a:lnTo>
                  <a:pt x="1565" y="1818"/>
                </a:lnTo>
                <a:lnTo>
                  <a:pt x="1558" y="1825"/>
                </a:lnTo>
                <a:lnTo>
                  <a:pt x="1558" y="1839"/>
                </a:lnTo>
                <a:lnTo>
                  <a:pt x="1565" y="1846"/>
                </a:lnTo>
                <a:lnTo>
                  <a:pt x="1565" y="1860"/>
                </a:lnTo>
                <a:lnTo>
                  <a:pt x="1565" y="1867"/>
                </a:lnTo>
                <a:lnTo>
                  <a:pt x="1565" y="1873"/>
                </a:lnTo>
                <a:lnTo>
                  <a:pt x="1565" y="1880"/>
                </a:lnTo>
                <a:lnTo>
                  <a:pt x="1558" y="1894"/>
                </a:lnTo>
                <a:lnTo>
                  <a:pt x="1558" y="1901"/>
                </a:lnTo>
                <a:lnTo>
                  <a:pt x="1551" y="1908"/>
                </a:lnTo>
                <a:lnTo>
                  <a:pt x="1545" y="1915"/>
                </a:lnTo>
                <a:lnTo>
                  <a:pt x="1545" y="1922"/>
                </a:lnTo>
                <a:lnTo>
                  <a:pt x="1538" y="1929"/>
                </a:lnTo>
                <a:lnTo>
                  <a:pt x="1531" y="1935"/>
                </a:lnTo>
                <a:lnTo>
                  <a:pt x="1524" y="1935"/>
                </a:lnTo>
                <a:lnTo>
                  <a:pt x="1517" y="1942"/>
                </a:lnTo>
                <a:lnTo>
                  <a:pt x="1510" y="1949"/>
                </a:lnTo>
                <a:lnTo>
                  <a:pt x="1503" y="1956"/>
                </a:lnTo>
                <a:lnTo>
                  <a:pt x="1496" y="1956"/>
                </a:lnTo>
                <a:lnTo>
                  <a:pt x="1489" y="1956"/>
                </a:lnTo>
                <a:lnTo>
                  <a:pt x="1483" y="1956"/>
                </a:lnTo>
                <a:lnTo>
                  <a:pt x="1476" y="1949"/>
                </a:lnTo>
                <a:lnTo>
                  <a:pt x="1469" y="1949"/>
                </a:lnTo>
                <a:lnTo>
                  <a:pt x="1462" y="1949"/>
                </a:lnTo>
                <a:lnTo>
                  <a:pt x="1455" y="1949"/>
                </a:lnTo>
                <a:lnTo>
                  <a:pt x="1448" y="1949"/>
                </a:lnTo>
                <a:lnTo>
                  <a:pt x="1441" y="1949"/>
                </a:lnTo>
                <a:lnTo>
                  <a:pt x="1434" y="1949"/>
                </a:lnTo>
                <a:lnTo>
                  <a:pt x="1427" y="1949"/>
                </a:lnTo>
                <a:lnTo>
                  <a:pt x="1414" y="1949"/>
                </a:lnTo>
                <a:lnTo>
                  <a:pt x="1407" y="1949"/>
                </a:lnTo>
                <a:lnTo>
                  <a:pt x="1400" y="1949"/>
                </a:lnTo>
                <a:lnTo>
                  <a:pt x="1393" y="1942"/>
                </a:lnTo>
                <a:lnTo>
                  <a:pt x="1386" y="1942"/>
                </a:lnTo>
                <a:lnTo>
                  <a:pt x="1379" y="1942"/>
                </a:lnTo>
                <a:lnTo>
                  <a:pt x="1372" y="1942"/>
                </a:lnTo>
                <a:lnTo>
                  <a:pt x="1365" y="1942"/>
                </a:lnTo>
                <a:lnTo>
                  <a:pt x="1358" y="1942"/>
                </a:lnTo>
                <a:lnTo>
                  <a:pt x="1352" y="1942"/>
                </a:lnTo>
                <a:lnTo>
                  <a:pt x="1345" y="1942"/>
                </a:lnTo>
                <a:lnTo>
                  <a:pt x="1338" y="1935"/>
                </a:lnTo>
                <a:close/>
                <a:moveTo>
                  <a:pt x="262" y="1873"/>
                </a:moveTo>
                <a:lnTo>
                  <a:pt x="269" y="1846"/>
                </a:lnTo>
                <a:lnTo>
                  <a:pt x="255" y="1846"/>
                </a:lnTo>
                <a:lnTo>
                  <a:pt x="255" y="1873"/>
                </a:lnTo>
                <a:lnTo>
                  <a:pt x="255" y="1894"/>
                </a:lnTo>
                <a:lnTo>
                  <a:pt x="262" y="1873"/>
                </a:lnTo>
                <a:close/>
                <a:moveTo>
                  <a:pt x="503" y="1846"/>
                </a:moveTo>
                <a:lnTo>
                  <a:pt x="497" y="1832"/>
                </a:lnTo>
                <a:lnTo>
                  <a:pt x="497" y="1825"/>
                </a:lnTo>
                <a:lnTo>
                  <a:pt x="497" y="1818"/>
                </a:lnTo>
                <a:lnTo>
                  <a:pt x="497" y="1818"/>
                </a:lnTo>
                <a:lnTo>
                  <a:pt x="497" y="1811"/>
                </a:lnTo>
                <a:lnTo>
                  <a:pt x="503" y="1805"/>
                </a:lnTo>
                <a:lnTo>
                  <a:pt x="510" y="1805"/>
                </a:lnTo>
                <a:lnTo>
                  <a:pt x="517" y="1805"/>
                </a:lnTo>
                <a:lnTo>
                  <a:pt x="524" y="1805"/>
                </a:lnTo>
                <a:lnTo>
                  <a:pt x="524" y="1805"/>
                </a:lnTo>
                <a:lnTo>
                  <a:pt x="531" y="1811"/>
                </a:lnTo>
                <a:lnTo>
                  <a:pt x="531" y="1818"/>
                </a:lnTo>
                <a:lnTo>
                  <a:pt x="531" y="1825"/>
                </a:lnTo>
                <a:lnTo>
                  <a:pt x="531" y="1832"/>
                </a:lnTo>
                <a:lnTo>
                  <a:pt x="531" y="1839"/>
                </a:lnTo>
                <a:lnTo>
                  <a:pt x="524" y="1846"/>
                </a:lnTo>
                <a:lnTo>
                  <a:pt x="517" y="1846"/>
                </a:lnTo>
                <a:lnTo>
                  <a:pt x="510" y="1853"/>
                </a:lnTo>
                <a:lnTo>
                  <a:pt x="503" y="1846"/>
                </a:lnTo>
                <a:lnTo>
                  <a:pt x="503" y="1846"/>
                </a:lnTo>
                <a:close/>
                <a:moveTo>
                  <a:pt x="772" y="1846"/>
                </a:moveTo>
                <a:lnTo>
                  <a:pt x="765" y="1832"/>
                </a:lnTo>
                <a:lnTo>
                  <a:pt x="765" y="1825"/>
                </a:lnTo>
                <a:lnTo>
                  <a:pt x="759" y="1818"/>
                </a:lnTo>
                <a:lnTo>
                  <a:pt x="752" y="1818"/>
                </a:lnTo>
                <a:lnTo>
                  <a:pt x="745" y="1818"/>
                </a:lnTo>
                <a:lnTo>
                  <a:pt x="738" y="1811"/>
                </a:lnTo>
                <a:lnTo>
                  <a:pt x="731" y="1805"/>
                </a:lnTo>
                <a:lnTo>
                  <a:pt x="724" y="1798"/>
                </a:lnTo>
                <a:lnTo>
                  <a:pt x="717" y="1798"/>
                </a:lnTo>
                <a:lnTo>
                  <a:pt x="717" y="1798"/>
                </a:lnTo>
                <a:lnTo>
                  <a:pt x="710" y="1805"/>
                </a:lnTo>
                <a:lnTo>
                  <a:pt x="703" y="1811"/>
                </a:lnTo>
                <a:lnTo>
                  <a:pt x="696" y="1818"/>
                </a:lnTo>
                <a:lnTo>
                  <a:pt x="690" y="1818"/>
                </a:lnTo>
                <a:lnTo>
                  <a:pt x="683" y="1825"/>
                </a:lnTo>
                <a:lnTo>
                  <a:pt x="676" y="1825"/>
                </a:lnTo>
                <a:lnTo>
                  <a:pt x="669" y="1825"/>
                </a:lnTo>
                <a:lnTo>
                  <a:pt x="662" y="1825"/>
                </a:lnTo>
                <a:lnTo>
                  <a:pt x="648" y="1825"/>
                </a:lnTo>
                <a:lnTo>
                  <a:pt x="641" y="1825"/>
                </a:lnTo>
                <a:lnTo>
                  <a:pt x="634" y="1825"/>
                </a:lnTo>
                <a:lnTo>
                  <a:pt x="628" y="1818"/>
                </a:lnTo>
                <a:lnTo>
                  <a:pt x="628" y="1811"/>
                </a:lnTo>
                <a:lnTo>
                  <a:pt x="634" y="1798"/>
                </a:lnTo>
                <a:lnTo>
                  <a:pt x="634" y="1791"/>
                </a:lnTo>
                <a:lnTo>
                  <a:pt x="634" y="1784"/>
                </a:lnTo>
                <a:lnTo>
                  <a:pt x="628" y="1777"/>
                </a:lnTo>
                <a:lnTo>
                  <a:pt x="621" y="1770"/>
                </a:lnTo>
                <a:lnTo>
                  <a:pt x="614" y="1763"/>
                </a:lnTo>
                <a:lnTo>
                  <a:pt x="614" y="1756"/>
                </a:lnTo>
                <a:lnTo>
                  <a:pt x="607" y="1749"/>
                </a:lnTo>
                <a:lnTo>
                  <a:pt x="607" y="1743"/>
                </a:lnTo>
                <a:lnTo>
                  <a:pt x="600" y="1736"/>
                </a:lnTo>
                <a:lnTo>
                  <a:pt x="593" y="1729"/>
                </a:lnTo>
                <a:lnTo>
                  <a:pt x="586" y="1729"/>
                </a:lnTo>
                <a:lnTo>
                  <a:pt x="579" y="1722"/>
                </a:lnTo>
                <a:lnTo>
                  <a:pt x="572" y="1715"/>
                </a:lnTo>
                <a:lnTo>
                  <a:pt x="565" y="1715"/>
                </a:lnTo>
                <a:lnTo>
                  <a:pt x="559" y="1708"/>
                </a:lnTo>
                <a:lnTo>
                  <a:pt x="559" y="1701"/>
                </a:lnTo>
                <a:lnTo>
                  <a:pt x="552" y="1694"/>
                </a:lnTo>
                <a:lnTo>
                  <a:pt x="545" y="1694"/>
                </a:lnTo>
                <a:lnTo>
                  <a:pt x="538" y="1687"/>
                </a:lnTo>
                <a:lnTo>
                  <a:pt x="531" y="1681"/>
                </a:lnTo>
                <a:lnTo>
                  <a:pt x="524" y="1674"/>
                </a:lnTo>
                <a:lnTo>
                  <a:pt x="524" y="1667"/>
                </a:lnTo>
                <a:lnTo>
                  <a:pt x="517" y="1660"/>
                </a:lnTo>
                <a:lnTo>
                  <a:pt x="517" y="1646"/>
                </a:lnTo>
                <a:lnTo>
                  <a:pt x="517" y="1639"/>
                </a:lnTo>
                <a:lnTo>
                  <a:pt x="517" y="1632"/>
                </a:lnTo>
                <a:lnTo>
                  <a:pt x="524" y="1619"/>
                </a:lnTo>
                <a:lnTo>
                  <a:pt x="524" y="1612"/>
                </a:lnTo>
                <a:lnTo>
                  <a:pt x="524" y="1605"/>
                </a:lnTo>
                <a:lnTo>
                  <a:pt x="531" y="1598"/>
                </a:lnTo>
                <a:lnTo>
                  <a:pt x="531" y="1584"/>
                </a:lnTo>
                <a:lnTo>
                  <a:pt x="538" y="1577"/>
                </a:lnTo>
                <a:lnTo>
                  <a:pt x="538" y="1570"/>
                </a:lnTo>
                <a:lnTo>
                  <a:pt x="538" y="1563"/>
                </a:lnTo>
                <a:lnTo>
                  <a:pt x="538" y="1550"/>
                </a:lnTo>
                <a:lnTo>
                  <a:pt x="538" y="1543"/>
                </a:lnTo>
                <a:lnTo>
                  <a:pt x="538" y="1529"/>
                </a:lnTo>
                <a:lnTo>
                  <a:pt x="545" y="1522"/>
                </a:lnTo>
                <a:lnTo>
                  <a:pt x="545" y="1522"/>
                </a:lnTo>
                <a:lnTo>
                  <a:pt x="552" y="1515"/>
                </a:lnTo>
                <a:lnTo>
                  <a:pt x="565" y="1508"/>
                </a:lnTo>
                <a:lnTo>
                  <a:pt x="572" y="1508"/>
                </a:lnTo>
                <a:lnTo>
                  <a:pt x="579" y="1501"/>
                </a:lnTo>
                <a:lnTo>
                  <a:pt x="579" y="1495"/>
                </a:lnTo>
                <a:lnTo>
                  <a:pt x="586" y="1488"/>
                </a:lnTo>
                <a:lnTo>
                  <a:pt x="586" y="1481"/>
                </a:lnTo>
                <a:lnTo>
                  <a:pt x="593" y="1474"/>
                </a:lnTo>
                <a:lnTo>
                  <a:pt x="600" y="1467"/>
                </a:lnTo>
                <a:lnTo>
                  <a:pt x="600" y="1481"/>
                </a:lnTo>
                <a:lnTo>
                  <a:pt x="607" y="1488"/>
                </a:lnTo>
                <a:lnTo>
                  <a:pt x="607" y="1495"/>
                </a:lnTo>
                <a:lnTo>
                  <a:pt x="607" y="1501"/>
                </a:lnTo>
                <a:lnTo>
                  <a:pt x="614" y="1508"/>
                </a:lnTo>
                <a:lnTo>
                  <a:pt x="621" y="1508"/>
                </a:lnTo>
                <a:lnTo>
                  <a:pt x="628" y="1515"/>
                </a:lnTo>
                <a:lnTo>
                  <a:pt x="634" y="1522"/>
                </a:lnTo>
                <a:lnTo>
                  <a:pt x="641" y="1529"/>
                </a:lnTo>
                <a:lnTo>
                  <a:pt x="641" y="1536"/>
                </a:lnTo>
                <a:lnTo>
                  <a:pt x="641" y="1543"/>
                </a:lnTo>
                <a:lnTo>
                  <a:pt x="641" y="1557"/>
                </a:lnTo>
                <a:lnTo>
                  <a:pt x="641" y="1563"/>
                </a:lnTo>
                <a:lnTo>
                  <a:pt x="641" y="1570"/>
                </a:lnTo>
                <a:lnTo>
                  <a:pt x="641" y="1584"/>
                </a:lnTo>
                <a:lnTo>
                  <a:pt x="641" y="1591"/>
                </a:lnTo>
                <a:lnTo>
                  <a:pt x="641" y="1598"/>
                </a:lnTo>
                <a:lnTo>
                  <a:pt x="641" y="1612"/>
                </a:lnTo>
                <a:lnTo>
                  <a:pt x="641" y="1619"/>
                </a:lnTo>
                <a:lnTo>
                  <a:pt x="641" y="1632"/>
                </a:lnTo>
                <a:lnTo>
                  <a:pt x="648" y="1639"/>
                </a:lnTo>
                <a:lnTo>
                  <a:pt x="648" y="1646"/>
                </a:lnTo>
                <a:lnTo>
                  <a:pt x="648" y="1660"/>
                </a:lnTo>
                <a:lnTo>
                  <a:pt x="648" y="1667"/>
                </a:lnTo>
                <a:lnTo>
                  <a:pt x="648" y="1674"/>
                </a:lnTo>
                <a:lnTo>
                  <a:pt x="648" y="1687"/>
                </a:lnTo>
                <a:lnTo>
                  <a:pt x="648" y="1694"/>
                </a:lnTo>
                <a:lnTo>
                  <a:pt x="655" y="1708"/>
                </a:lnTo>
                <a:lnTo>
                  <a:pt x="655" y="1715"/>
                </a:lnTo>
                <a:lnTo>
                  <a:pt x="662" y="1722"/>
                </a:lnTo>
                <a:lnTo>
                  <a:pt x="662" y="1722"/>
                </a:lnTo>
                <a:lnTo>
                  <a:pt x="669" y="1715"/>
                </a:lnTo>
                <a:lnTo>
                  <a:pt x="683" y="1715"/>
                </a:lnTo>
                <a:lnTo>
                  <a:pt x="690" y="1708"/>
                </a:lnTo>
                <a:lnTo>
                  <a:pt x="696" y="1701"/>
                </a:lnTo>
                <a:lnTo>
                  <a:pt x="703" y="1694"/>
                </a:lnTo>
                <a:lnTo>
                  <a:pt x="710" y="1694"/>
                </a:lnTo>
                <a:lnTo>
                  <a:pt x="717" y="1694"/>
                </a:lnTo>
                <a:lnTo>
                  <a:pt x="724" y="1694"/>
                </a:lnTo>
                <a:lnTo>
                  <a:pt x="724" y="1701"/>
                </a:lnTo>
                <a:lnTo>
                  <a:pt x="731" y="1715"/>
                </a:lnTo>
                <a:lnTo>
                  <a:pt x="731" y="1722"/>
                </a:lnTo>
                <a:lnTo>
                  <a:pt x="731" y="1736"/>
                </a:lnTo>
                <a:lnTo>
                  <a:pt x="731" y="1743"/>
                </a:lnTo>
                <a:lnTo>
                  <a:pt x="731" y="1749"/>
                </a:lnTo>
                <a:lnTo>
                  <a:pt x="738" y="1756"/>
                </a:lnTo>
                <a:lnTo>
                  <a:pt x="745" y="1763"/>
                </a:lnTo>
                <a:lnTo>
                  <a:pt x="752" y="1770"/>
                </a:lnTo>
                <a:lnTo>
                  <a:pt x="759" y="1770"/>
                </a:lnTo>
                <a:lnTo>
                  <a:pt x="765" y="1763"/>
                </a:lnTo>
                <a:lnTo>
                  <a:pt x="772" y="1763"/>
                </a:lnTo>
                <a:lnTo>
                  <a:pt x="779" y="1756"/>
                </a:lnTo>
                <a:lnTo>
                  <a:pt x="786" y="1763"/>
                </a:lnTo>
                <a:lnTo>
                  <a:pt x="793" y="1763"/>
                </a:lnTo>
                <a:lnTo>
                  <a:pt x="800" y="1770"/>
                </a:lnTo>
                <a:lnTo>
                  <a:pt x="800" y="1777"/>
                </a:lnTo>
                <a:lnTo>
                  <a:pt x="807" y="1784"/>
                </a:lnTo>
                <a:lnTo>
                  <a:pt x="814" y="1798"/>
                </a:lnTo>
                <a:lnTo>
                  <a:pt x="814" y="1805"/>
                </a:lnTo>
                <a:lnTo>
                  <a:pt x="821" y="1811"/>
                </a:lnTo>
                <a:lnTo>
                  <a:pt x="821" y="1818"/>
                </a:lnTo>
                <a:lnTo>
                  <a:pt x="828" y="1825"/>
                </a:lnTo>
                <a:lnTo>
                  <a:pt x="834" y="1832"/>
                </a:lnTo>
                <a:lnTo>
                  <a:pt x="834" y="1839"/>
                </a:lnTo>
                <a:lnTo>
                  <a:pt x="834" y="1846"/>
                </a:lnTo>
                <a:lnTo>
                  <a:pt x="828" y="1853"/>
                </a:lnTo>
                <a:lnTo>
                  <a:pt x="821" y="1860"/>
                </a:lnTo>
                <a:lnTo>
                  <a:pt x="814" y="1860"/>
                </a:lnTo>
                <a:lnTo>
                  <a:pt x="807" y="1860"/>
                </a:lnTo>
                <a:lnTo>
                  <a:pt x="800" y="1860"/>
                </a:lnTo>
                <a:lnTo>
                  <a:pt x="793" y="1860"/>
                </a:lnTo>
                <a:lnTo>
                  <a:pt x="786" y="1853"/>
                </a:lnTo>
                <a:lnTo>
                  <a:pt x="779" y="1853"/>
                </a:lnTo>
                <a:lnTo>
                  <a:pt x="772" y="1846"/>
                </a:lnTo>
                <a:close/>
                <a:moveTo>
                  <a:pt x="297" y="1811"/>
                </a:moveTo>
                <a:lnTo>
                  <a:pt x="310" y="1784"/>
                </a:lnTo>
                <a:lnTo>
                  <a:pt x="283" y="1784"/>
                </a:lnTo>
                <a:lnTo>
                  <a:pt x="283" y="1811"/>
                </a:lnTo>
                <a:lnTo>
                  <a:pt x="283" y="1832"/>
                </a:lnTo>
                <a:lnTo>
                  <a:pt x="297" y="1811"/>
                </a:lnTo>
                <a:close/>
                <a:moveTo>
                  <a:pt x="331" y="1749"/>
                </a:moveTo>
                <a:lnTo>
                  <a:pt x="345" y="1722"/>
                </a:lnTo>
                <a:lnTo>
                  <a:pt x="317" y="1722"/>
                </a:lnTo>
                <a:lnTo>
                  <a:pt x="317" y="1749"/>
                </a:lnTo>
                <a:lnTo>
                  <a:pt x="317" y="1777"/>
                </a:lnTo>
                <a:lnTo>
                  <a:pt x="331" y="1749"/>
                </a:lnTo>
                <a:close/>
                <a:moveTo>
                  <a:pt x="938" y="1722"/>
                </a:moveTo>
                <a:lnTo>
                  <a:pt x="938" y="1715"/>
                </a:lnTo>
                <a:lnTo>
                  <a:pt x="938" y="1715"/>
                </a:lnTo>
                <a:lnTo>
                  <a:pt x="938" y="1715"/>
                </a:lnTo>
                <a:lnTo>
                  <a:pt x="938" y="1715"/>
                </a:lnTo>
                <a:lnTo>
                  <a:pt x="938" y="1722"/>
                </a:lnTo>
                <a:lnTo>
                  <a:pt x="945" y="1722"/>
                </a:lnTo>
                <a:lnTo>
                  <a:pt x="938" y="1722"/>
                </a:lnTo>
                <a:lnTo>
                  <a:pt x="938" y="1722"/>
                </a:lnTo>
                <a:lnTo>
                  <a:pt x="938" y="1722"/>
                </a:lnTo>
                <a:lnTo>
                  <a:pt x="938" y="1722"/>
                </a:lnTo>
                <a:lnTo>
                  <a:pt x="938" y="1722"/>
                </a:lnTo>
                <a:lnTo>
                  <a:pt x="938" y="1722"/>
                </a:lnTo>
                <a:lnTo>
                  <a:pt x="938" y="1722"/>
                </a:lnTo>
                <a:lnTo>
                  <a:pt x="938" y="1722"/>
                </a:lnTo>
                <a:close/>
                <a:moveTo>
                  <a:pt x="1682" y="1653"/>
                </a:moveTo>
                <a:lnTo>
                  <a:pt x="1689" y="1653"/>
                </a:lnTo>
                <a:lnTo>
                  <a:pt x="1696" y="1646"/>
                </a:lnTo>
                <a:lnTo>
                  <a:pt x="1703" y="1639"/>
                </a:lnTo>
                <a:lnTo>
                  <a:pt x="1703" y="1639"/>
                </a:lnTo>
                <a:lnTo>
                  <a:pt x="1710" y="1632"/>
                </a:lnTo>
                <a:lnTo>
                  <a:pt x="1717" y="1625"/>
                </a:lnTo>
                <a:lnTo>
                  <a:pt x="1717" y="1619"/>
                </a:lnTo>
                <a:lnTo>
                  <a:pt x="1724" y="1612"/>
                </a:lnTo>
                <a:lnTo>
                  <a:pt x="1731" y="1612"/>
                </a:lnTo>
                <a:lnTo>
                  <a:pt x="1738" y="1605"/>
                </a:lnTo>
                <a:lnTo>
                  <a:pt x="1738" y="1598"/>
                </a:lnTo>
                <a:lnTo>
                  <a:pt x="1745" y="1591"/>
                </a:lnTo>
                <a:lnTo>
                  <a:pt x="1751" y="1584"/>
                </a:lnTo>
                <a:lnTo>
                  <a:pt x="1758" y="1584"/>
                </a:lnTo>
                <a:lnTo>
                  <a:pt x="1758" y="1577"/>
                </a:lnTo>
                <a:lnTo>
                  <a:pt x="1765" y="1570"/>
                </a:lnTo>
                <a:lnTo>
                  <a:pt x="1772" y="1563"/>
                </a:lnTo>
                <a:lnTo>
                  <a:pt x="1772" y="1557"/>
                </a:lnTo>
                <a:lnTo>
                  <a:pt x="1779" y="1550"/>
                </a:lnTo>
                <a:lnTo>
                  <a:pt x="1786" y="1550"/>
                </a:lnTo>
                <a:lnTo>
                  <a:pt x="1793" y="1550"/>
                </a:lnTo>
                <a:lnTo>
                  <a:pt x="1800" y="1543"/>
                </a:lnTo>
                <a:lnTo>
                  <a:pt x="1807" y="1550"/>
                </a:lnTo>
                <a:lnTo>
                  <a:pt x="1813" y="1550"/>
                </a:lnTo>
                <a:lnTo>
                  <a:pt x="1820" y="1550"/>
                </a:lnTo>
                <a:lnTo>
                  <a:pt x="1827" y="1550"/>
                </a:lnTo>
                <a:lnTo>
                  <a:pt x="1834" y="1550"/>
                </a:lnTo>
                <a:lnTo>
                  <a:pt x="1841" y="1550"/>
                </a:lnTo>
                <a:lnTo>
                  <a:pt x="1848" y="1550"/>
                </a:lnTo>
                <a:lnTo>
                  <a:pt x="1855" y="1557"/>
                </a:lnTo>
                <a:lnTo>
                  <a:pt x="1855" y="1557"/>
                </a:lnTo>
                <a:lnTo>
                  <a:pt x="1862" y="1557"/>
                </a:lnTo>
                <a:lnTo>
                  <a:pt x="1869" y="1557"/>
                </a:lnTo>
                <a:lnTo>
                  <a:pt x="1876" y="1557"/>
                </a:lnTo>
                <a:lnTo>
                  <a:pt x="1882" y="1557"/>
                </a:lnTo>
                <a:lnTo>
                  <a:pt x="1889" y="1557"/>
                </a:lnTo>
                <a:lnTo>
                  <a:pt x="1896" y="1557"/>
                </a:lnTo>
                <a:lnTo>
                  <a:pt x="1903" y="1563"/>
                </a:lnTo>
                <a:lnTo>
                  <a:pt x="1910" y="1563"/>
                </a:lnTo>
                <a:lnTo>
                  <a:pt x="1917" y="1563"/>
                </a:lnTo>
                <a:lnTo>
                  <a:pt x="1910" y="1570"/>
                </a:lnTo>
                <a:lnTo>
                  <a:pt x="1910" y="1584"/>
                </a:lnTo>
                <a:lnTo>
                  <a:pt x="1910" y="1591"/>
                </a:lnTo>
                <a:lnTo>
                  <a:pt x="1910" y="1598"/>
                </a:lnTo>
                <a:lnTo>
                  <a:pt x="1903" y="1605"/>
                </a:lnTo>
                <a:lnTo>
                  <a:pt x="1903" y="1612"/>
                </a:lnTo>
                <a:lnTo>
                  <a:pt x="1903" y="1619"/>
                </a:lnTo>
                <a:lnTo>
                  <a:pt x="1896" y="1632"/>
                </a:lnTo>
                <a:lnTo>
                  <a:pt x="1896" y="1639"/>
                </a:lnTo>
                <a:lnTo>
                  <a:pt x="1896" y="1646"/>
                </a:lnTo>
                <a:lnTo>
                  <a:pt x="1889" y="1653"/>
                </a:lnTo>
                <a:lnTo>
                  <a:pt x="1882" y="1660"/>
                </a:lnTo>
                <a:lnTo>
                  <a:pt x="1876" y="1653"/>
                </a:lnTo>
                <a:lnTo>
                  <a:pt x="1876" y="1653"/>
                </a:lnTo>
                <a:lnTo>
                  <a:pt x="1869" y="1646"/>
                </a:lnTo>
                <a:lnTo>
                  <a:pt x="1862" y="1646"/>
                </a:lnTo>
                <a:lnTo>
                  <a:pt x="1855" y="1639"/>
                </a:lnTo>
                <a:lnTo>
                  <a:pt x="1848" y="1639"/>
                </a:lnTo>
                <a:lnTo>
                  <a:pt x="1841" y="1632"/>
                </a:lnTo>
                <a:lnTo>
                  <a:pt x="1834" y="1632"/>
                </a:lnTo>
                <a:lnTo>
                  <a:pt x="1834" y="1625"/>
                </a:lnTo>
                <a:lnTo>
                  <a:pt x="1827" y="1619"/>
                </a:lnTo>
                <a:lnTo>
                  <a:pt x="1820" y="1619"/>
                </a:lnTo>
                <a:lnTo>
                  <a:pt x="1813" y="1612"/>
                </a:lnTo>
                <a:lnTo>
                  <a:pt x="1807" y="1612"/>
                </a:lnTo>
                <a:lnTo>
                  <a:pt x="1800" y="1605"/>
                </a:lnTo>
                <a:lnTo>
                  <a:pt x="1793" y="1605"/>
                </a:lnTo>
                <a:lnTo>
                  <a:pt x="1786" y="1598"/>
                </a:lnTo>
                <a:lnTo>
                  <a:pt x="1786" y="1605"/>
                </a:lnTo>
                <a:lnTo>
                  <a:pt x="1779" y="1605"/>
                </a:lnTo>
                <a:lnTo>
                  <a:pt x="1772" y="1612"/>
                </a:lnTo>
                <a:lnTo>
                  <a:pt x="1765" y="1619"/>
                </a:lnTo>
                <a:lnTo>
                  <a:pt x="1758" y="1619"/>
                </a:lnTo>
                <a:lnTo>
                  <a:pt x="1751" y="1625"/>
                </a:lnTo>
                <a:lnTo>
                  <a:pt x="1751" y="1632"/>
                </a:lnTo>
                <a:lnTo>
                  <a:pt x="1745" y="1632"/>
                </a:lnTo>
                <a:lnTo>
                  <a:pt x="1738" y="1639"/>
                </a:lnTo>
                <a:lnTo>
                  <a:pt x="1731" y="1639"/>
                </a:lnTo>
                <a:lnTo>
                  <a:pt x="1724" y="1646"/>
                </a:lnTo>
                <a:lnTo>
                  <a:pt x="1717" y="1646"/>
                </a:lnTo>
                <a:lnTo>
                  <a:pt x="1710" y="1653"/>
                </a:lnTo>
                <a:lnTo>
                  <a:pt x="1710" y="1653"/>
                </a:lnTo>
                <a:lnTo>
                  <a:pt x="1703" y="1660"/>
                </a:lnTo>
                <a:lnTo>
                  <a:pt x="1696" y="1667"/>
                </a:lnTo>
                <a:lnTo>
                  <a:pt x="1689" y="1660"/>
                </a:lnTo>
                <a:lnTo>
                  <a:pt x="1682" y="1653"/>
                </a:lnTo>
                <a:close/>
                <a:moveTo>
                  <a:pt x="531" y="1467"/>
                </a:moveTo>
                <a:lnTo>
                  <a:pt x="531" y="1467"/>
                </a:lnTo>
                <a:lnTo>
                  <a:pt x="531" y="1460"/>
                </a:lnTo>
                <a:lnTo>
                  <a:pt x="538" y="1460"/>
                </a:lnTo>
                <a:lnTo>
                  <a:pt x="538" y="1467"/>
                </a:lnTo>
                <a:lnTo>
                  <a:pt x="545" y="1467"/>
                </a:lnTo>
                <a:lnTo>
                  <a:pt x="545" y="1474"/>
                </a:lnTo>
                <a:lnTo>
                  <a:pt x="538" y="1481"/>
                </a:lnTo>
                <a:lnTo>
                  <a:pt x="538" y="1481"/>
                </a:lnTo>
                <a:lnTo>
                  <a:pt x="538" y="1488"/>
                </a:lnTo>
                <a:lnTo>
                  <a:pt x="531" y="1488"/>
                </a:lnTo>
                <a:lnTo>
                  <a:pt x="531" y="1488"/>
                </a:lnTo>
                <a:lnTo>
                  <a:pt x="531" y="1481"/>
                </a:lnTo>
                <a:lnTo>
                  <a:pt x="531" y="1474"/>
                </a:lnTo>
                <a:lnTo>
                  <a:pt x="531" y="1467"/>
                </a:lnTo>
                <a:close/>
                <a:moveTo>
                  <a:pt x="876" y="937"/>
                </a:moveTo>
                <a:lnTo>
                  <a:pt x="869" y="930"/>
                </a:lnTo>
                <a:lnTo>
                  <a:pt x="869" y="916"/>
                </a:lnTo>
                <a:lnTo>
                  <a:pt x="862" y="909"/>
                </a:lnTo>
                <a:lnTo>
                  <a:pt x="855" y="909"/>
                </a:lnTo>
                <a:lnTo>
                  <a:pt x="848" y="902"/>
                </a:lnTo>
                <a:lnTo>
                  <a:pt x="841" y="902"/>
                </a:lnTo>
                <a:lnTo>
                  <a:pt x="841" y="895"/>
                </a:lnTo>
                <a:lnTo>
                  <a:pt x="834" y="888"/>
                </a:lnTo>
                <a:lnTo>
                  <a:pt x="828" y="875"/>
                </a:lnTo>
                <a:lnTo>
                  <a:pt x="828" y="868"/>
                </a:lnTo>
                <a:lnTo>
                  <a:pt x="821" y="861"/>
                </a:lnTo>
                <a:lnTo>
                  <a:pt x="814" y="854"/>
                </a:lnTo>
                <a:lnTo>
                  <a:pt x="814" y="847"/>
                </a:lnTo>
                <a:lnTo>
                  <a:pt x="807" y="840"/>
                </a:lnTo>
                <a:lnTo>
                  <a:pt x="807" y="833"/>
                </a:lnTo>
                <a:lnTo>
                  <a:pt x="800" y="826"/>
                </a:lnTo>
                <a:lnTo>
                  <a:pt x="800" y="819"/>
                </a:lnTo>
                <a:lnTo>
                  <a:pt x="800" y="806"/>
                </a:lnTo>
                <a:lnTo>
                  <a:pt x="800" y="799"/>
                </a:lnTo>
                <a:lnTo>
                  <a:pt x="807" y="792"/>
                </a:lnTo>
                <a:lnTo>
                  <a:pt x="807" y="785"/>
                </a:lnTo>
                <a:lnTo>
                  <a:pt x="814" y="771"/>
                </a:lnTo>
                <a:lnTo>
                  <a:pt x="814" y="764"/>
                </a:lnTo>
                <a:lnTo>
                  <a:pt x="821" y="758"/>
                </a:lnTo>
                <a:lnTo>
                  <a:pt x="821" y="751"/>
                </a:lnTo>
                <a:lnTo>
                  <a:pt x="828" y="744"/>
                </a:lnTo>
                <a:lnTo>
                  <a:pt x="828" y="737"/>
                </a:lnTo>
                <a:lnTo>
                  <a:pt x="834" y="730"/>
                </a:lnTo>
                <a:lnTo>
                  <a:pt x="834" y="716"/>
                </a:lnTo>
                <a:lnTo>
                  <a:pt x="834" y="709"/>
                </a:lnTo>
                <a:lnTo>
                  <a:pt x="841" y="702"/>
                </a:lnTo>
                <a:lnTo>
                  <a:pt x="841" y="696"/>
                </a:lnTo>
                <a:lnTo>
                  <a:pt x="841" y="682"/>
                </a:lnTo>
                <a:lnTo>
                  <a:pt x="841" y="675"/>
                </a:lnTo>
                <a:lnTo>
                  <a:pt x="848" y="668"/>
                </a:lnTo>
                <a:lnTo>
                  <a:pt x="848" y="661"/>
                </a:lnTo>
                <a:lnTo>
                  <a:pt x="855" y="661"/>
                </a:lnTo>
                <a:lnTo>
                  <a:pt x="862" y="661"/>
                </a:lnTo>
                <a:lnTo>
                  <a:pt x="876" y="668"/>
                </a:lnTo>
                <a:lnTo>
                  <a:pt x="883" y="668"/>
                </a:lnTo>
                <a:lnTo>
                  <a:pt x="890" y="668"/>
                </a:lnTo>
                <a:lnTo>
                  <a:pt x="896" y="668"/>
                </a:lnTo>
                <a:lnTo>
                  <a:pt x="903" y="668"/>
                </a:lnTo>
                <a:lnTo>
                  <a:pt x="910" y="668"/>
                </a:lnTo>
                <a:lnTo>
                  <a:pt x="917" y="675"/>
                </a:lnTo>
                <a:lnTo>
                  <a:pt x="924" y="675"/>
                </a:lnTo>
                <a:lnTo>
                  <a:pt x="931" y="675"/>
                </a:lnTo>
                <a:lnTo>
                  <a:pt x="938" y="675"/>
                </a:lnTo>
                <a:lnTo>
                  <a:pt x="945" y="675"/>
                </a:lnTo>
                <a:lnTo>
                  <a:pt x="952" y="682"/>
                </a:lnTo>
                <a:lnTo>
                  <a:pt x="959" y="682"/>
                </a:lnTo>
                <a:lnTo>
                  <a:pt x="965" y="689"/>
                </a:lnTo>
                <a:lnTo>
                  <a:pt x="965" y="696"/>
                </a:lnTo>
                <a:lnTo>
                  <a:pt x="965" y="709"/>
                </a:lnTo>
                <a:lnTo>
                  <a:pt x="965" y="716"/>
                </a:lnTo>
                <a:lnTo>
                  <a:pt x="965" y="723"/>
                </a:lnTo>
                <a:lnTo>
                  <a:pt x="965" y="737"/>
                </a:lnTo>
                <a:lnTo>
                  <a:pt x="965" y="744"/>
                </a:lnTo>
                <a:lnTo>
                  <a:pt x="965" y="751"/>
                </a:lnTo>
                <a:lnTo>
                  <a:pt x="965" y="764"/>
                </a:lnTo>
                <a:lnTo>
                  <a:pt x="965" y="771"/>
                </a:lnTo>
                <a:lnTo>
                  <a:pt x="965" y="778"/>
                </a:lnTo>
                <a:lnTo>
                  <a:pt x="965" y="792"/>
                </a:lnTo>
                <a:lnTo>
                  <a:pt x="965" y="799"/>
                </a:lnTo>
                <a:lnTo>
                  <a:pt x="965" y="806"/>
                </a:lnTo>
                <a:lnTo>
                  <a:pt x="959" y="813"/>
                </a:lnTo>
                <a:lnTo>
                  <a:pt x="959" y="826"/>
                </a:lnTo>
                <a:lnTo>
                  <a:pt x="952" y="833"/>
                </a:lnTo>
                <a:lnTo>
                  <a:pt x="952" y="840"/>
                </a:lnTo>
                <a:lnTo>
                  <a:pt x="945" y="847"/>
                </a:lnTo>
                <a:lnTo>
                  <a:pt x="945" y="854"/>
                </a:lnTo>
                <a:lnTo>
                  <a:pt x="938" y="861"/>
                </a:lnTo>
                <a:lnTo>
                  <a:pt x="931" y="868"/>
                </a:lnTo>
                <a:lnTo>
                  <a:pt x="931" y="875"/>
                </a:lnTo>
                <a:lnTo>
                  <a:pt x="924" y="881"/>
                </a:lnTo>
                <a:lnTo>
                  <a:pt x="924" y="888"/>
                </a:lnTo>
                <a:lnTo>
                  <a:pt x="917" y="895"/>
                </a:lnTo>
                <a:lnTo>
                  <a:pt x="910" y="909"/>
                </a:lnTo>
                <a:lnTo>
                  <a:pt x="910" y="916"/>
                </a:lnTo>
                <a:lnTo>
                  <a:pt x="903" y="923"/>
                </a:lnTo>
                <a:lnTo>
                  <a:pt x="903" y="930"/>
                </a:lnTo>
                <a:lnTo>
                  <a:pt x="896" y="937"/>
                </a:lnTo>
                <a:lnTo>
                  <a:pt x="890" y="943"/>
                </a:lnTo>
                <a:lnTo>
                  <a:pt x="883" y="943"/>
                </a:lnTo>
                <a:lnTo>
                  <a:pt x="876" y="943"/>
                </a:lnTo>
                <a:lnTo>
                  <a:pt x="876" y="937"/>
                </a:lnTo>
                <a:close/>
              </a:path>
            </a:pathLst>
          </a:custGeom>
          <a:solidFill>
            <a:srgbClr val="ffe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2" name=""/>
          <p:cNvSpPr/>
          <p:nvPr/>
        </p:nvSpPr>
        <p:spPr>
          <a:xfrm>
            <a:off x="3228840" y="1317600"/>
            <a:ext cx="3754440" cy="4811760"/>
          </a:xfrm>
          <a:custGeom>
            <a:avLst/>
            <a:gdLst/>
            <a:ahLst/>
            <a:rect l="l" t="t" r="r" b="b"/>
            <a:pathLst>
              <a:path w="2365" h="3031">
                <a:moveTo>
                  <a:pt x="517" y="3031"/>
                </a:moveTo>
                <a:lnTo>
                  <a:pt x="545" y="3003"/>
                </a:lnTo>
                <a:lnTo>
                  <a:pt x="579" y="3003"/>
                </a:lnTo>
                <a:lnTo>
                  <a:pt x="607" y="2969"/>
                </a:lnTo>
                <a:lnTo>
                  <a:pt x="641" y="2941"/>
                </a:lnTo>
                <a:lnTo>
                  <a:pt x="669" y="2907"/>
                </a:lnTo>
                <a:lnTo>
                  <a:pt x="703" y="2907"/>
                </a:lnTo>
                <a:lnTo>
                  <a:pt x="731" y="2879"/>
                </a:lnTo>
                <a:lnTo>
                  <a:pt x="766" y="2845"/>
                </a:lnTo>
                <a:lnTo>
                  <a:pt x="800" y="2845"/>
                </a:lnTo>
                <a:lnTo>
                  <a:pt x="828" y="2817"/>
                </a:lnTo>
                <a:lnTo>
                  <a:pt x="862" y="2783"/>
                </a:lnTo>
                <a:lnTo>
                  <a:pt x="890" y="2783"/>
                </a:lnTo>
                <a:lnTo>
                  <a:pt x="924" y="2748"/>
                </a:lnTo>
                <a:lnTo>
                  <a:pt x="952" y="2721"/>
                </a:lnTo>
                <a:lnTo>
                  <a:pt x="986" y="2686"/>
                </a:lnTo>
                <a:lnTo>
                  <a:pt x="1014" y="2686"/>
                </a:lnTo>
                <a:lnTo>
                  <a:pt x="1048" y="2659"/>
                </a:lnTo>
                <a:lnTo>
                  <a:pt x="1076" y="2624"/>
                </a:lnTo>
                <a:lnTo>
                  <a:pt x="1110" y="2624"/>
                </a:lnTo>
                <a:lnTo>
                  <a:pt x="1145" y="2597"/>
                </a:lnTo>
                <a:lnTo>
                  <a:pt x="1172" y="2562"/>
                </a:lnTo>
                <a:lnTo>
                  <a:pt x="1207" y="2535"/>
                </a:lnTo>
                <a:lnTo>
                  <a:pt x="1234" y="2535"/>
                </a:lnTo>
                <a:lnTo>
                  <a:pt x="1269" y="2500"/>
                </a:lnTo>
                <a:lnTo>
                  <a:pt x="1296" y="2473"/>
                </a:lnTo>
                <a:lnTo>
                  <a:pt x="1331" y="2473"/>
                </a:lnTo>
                <a:lnTo>
                  <a:pt x="1359" y="2438"/>
                </a:lnTo>
                <a:lnTo>
                  <a:pt x="1393" y="2404"/>
                </a:lnTo>
                <a:lnTo>
                  <a:pt x="1421" y="2376"/>
                </a:lnTo>
                <a:lnTo>
                  <a:pt x="1455" y="2376"/>
                </a:lnTo>
                <a:lnTo>
                  <a:pt x="1483" y="2342"/>
                </a:lnTo>
                <a:lnTo>
                  <a:pt x="1517" y="2314"/>
                </a:lnTo>
                <a:lnTo>
                  <a:pt x="1552" y="2314"/>
                </a:lnTo>
                <a:lnTo>
                  <a:pt x="1579" y="2280"/>
                </a:lnTo>
                <a:lnTo>
                  <a:pt x="1614" y="2252"/>
                </a:lnTo>
                <a:lnTo>
                  <a:pt x="1641" y="2218"/>
                </a:lnTo>
                <a:lnTo>
                  <a:pt x="1676" y="2218"/>
                </a:lnTo>
                <a:lnTo>
                  <a:pt x="1703" y="2190"/>
                </a:lnTo>
                <a:lnTo>
                  <a:pt x="1738" y="2156"/>
                </a:lnTo>
                <a:lnTo>
                  <a:pt x="1758" y="2156"/>
                </a:lnTo>
                <a:lnTo>
                  <a:pt x="1765" y="2149"/>
                </a:lnTo>
                <a:lnTo>
                  <a:pt x="1765" y="2149"/>
                </a:lnTo>
                <a:lnTo>
                  <a:pt x="1765" y="2142"/>
                </a:lnTo>
                <a:lnTo>
                  <a:pt x="1772" y="2142"/>
                </a:lnTo>
                <a:lnTo>
                  <a:pt x="1779" y="2135"/>
                </a:lnTo>
                <a:lnTo>
                  <a:pt x="1779" y="2135"/>
                </a:lnTo>
                <a:lnTo>
                  <a:pt x="1786" y="2135"/>
                </a:lnTo>
                <a:lnTo>
                  <a:pt x="1793" y="2135"/>
                </a:lnTo>
                <a:lnTo>
                  <a:pt x="1800" y="2128"/>
                </a:lnTo>
                <a:lnTo>
                  <a:pt x="1814" y="2108"/>
                </a:lnTo>
                <a:lnTo>
                  <a:pt x="1814" y="2101"/>
                </a:lnTo>
                <a:lnTo>
                  <a:pt x="1814" y="2094"/>
                </a:lnTo>
                <a:lnTo>
                  <a:pt x="1814" y="2087"/>
                </a:lnTo>
                <a:lnTo>
                  <a:pt x="1814" y="2080"/>
                </a:lnTo>
                <a:lnTo>
                  <a:pt x="1807" y="2073"/>
                </a:lnTo>
                <a:lnTo>
                  <a:pt x="1807" y="2066"/>
                </a:lnTo>
                <a:lnTo>
                  <a:pt x="1807" y="2059"/>
                </a:lnTo>
                <a:lnTo>
                  <a:pt x="1814" y="2053"/>
                </a:lnTo>
                <a:lnTo>
                  <a:pt x="1820" y="2046"/>
                </a:lnTo>
                <a:lnTo>
                  <a:pt x="1820" y="2046"/>
                </a:lnTo>
                <a:lnTo>
                  <a:pt x="1827" y="2039"/>
                </a:lnTo>
                <a:lnTo>
                  <a:pt x="1834" y="2032"/>
                </a:lnTo>
                <a:lnTo>
                  <a:pt x="1841" y="2032"/>
                </a:lnTo>
                <a:lnTo>
                  <a:pt x="1841" y="2025"/>
                </a:lnTo>
                <a:lnTo>
                  <a:pt x="1848" y="2018"/>
                </a:lnTo>
                <a:lnTo>
                  <a:pt x="1848" y="2011"/>
                </a:lnTo>
                <a:lnTo>
                  <a:pt x="1855" y="2004"/>
                </a:lnTo>
                <a:lnTo>
                  <a:pt x="1855" y="1997"/>
                </a:lnTo>
                <a:lnTo>
                  <a:pt x="1862" y="1991"/>
                </a:lnTo>
                <a:lnTo>
                  <a:pt x="1862" y="1984"/>
                </a:lnTo>
                <a:lnTo>
                  <a:pt x="1862" y="1977"/>
                </a:lnTo>
                <a:lnTo>
                  <a:pt x="1862" y="1970"/>
                </a:lnTo>
                <a:lnTo>
                  <a:pt x="1862" y="1963"/>
                </a:lnTo>
                <a:lnTo>
                  <a:pt x="1869" y="1956"/>
                </a:lnTo>
                <a:lnTo>
                  <a:pt x="1876" y="1956"/>
                </a:lnTo>
                <a:lnTo>
                  <a:pt x="1883" y="1956"/>
                </a:lnTo>
                <a:lnTo>
                  <a:pt x="1889" y="1956"/>
                </a:lnTo>
                <a:lnTo>
                  <a:pt x="1896" y="1963"/>
                </a:lnTo>
                <a:lnTo>
                  <a:pt x="1903" y="1970"/>
                </a:lnTo>
                <a:lnTo>
                  <a:pt x="1903" y="1970"/>
                </a:lnTo>
                <a:lnTo>
                  <a:pt x="1910" y="1977"/>
                </a:lnTo>
                <a:lnTo>
                  <a:pt x="1917" y="1984"/>
                </a:lnTo>
                <a:lnTo>
                  <a:pt x="1917" y="1984"/>
                </a:lnTo>
                <a:lnTo>
                  <a:pt x="1924" y="1991"/>
                </a:lnTo>
                <a:lnTo>
                  <a:pt x="1931" y="1997"/>
                </a:lnTo>
                <a:lnTo>
                  <a:pt x="1958" y="1970"/>
                </a:lnTo>
                <a:lnTo>
                  <a:pt x="1958" y="1935"/>
                </a:lnTo>
                <a:lnTo>
                  <a:pt x="1986" y="1908"/>
                </a:lnTo>
                <a:lnTo>
                  <a:pt x="2020" y="1873"/>
                </a:lnTo>
                <a:lnTo>
                  <a:pt x="2020" y="1846"/>
                </a:lnTo>
                <a:lnTo>
                  <a:pt x="2048" y="1811"/>
                </a:lnTo>
                <a:lnTo>
                  <a:pt x="2082" y="1784"/>
                </a:lnTo>
                <a:lnTo>
                  <a:pt x="2082" y="1749"/>
                </a:lnTo>
                <a:lnTo>
                  <a:pt x="2082" y="1722"/>
                </a:lnTo>
                <a:lnTo>
                  <a:pt x="2110" y="1687"/>
                </a:lnTo>
                <a:lnTo>
                  <a:pt x="2110" y="1653"/>
                </a:lnTo>
                <a:lnTo>
                  <a:pt x="2110" y="1625"/>
                </a:lnTo>
                <a:lnTo>
                  <a:pt x="2145" y="1591"/>
                </a:lnTo>
                <a:lnTo>
                  <a:pt x="2145" y="1563"/>
                </a:lnTo>
                <a:lnTo>
                  <a:pt x="2145" y="1529"/>
                </a:lnTo>
                <a:lnTo>
                  <a:pt x="2145" y="1501"/>
                </a:lnTo>
                <a:lnTo>
                  <a:pt x="2172" y="1467"/>
                </a:lnTo>
                <a:lnTo>
                  <a:pt x="2172" y="1439"/>
                </a:lnTo>
                <a:lnTo>
                  <a:pt x="2172" y="1405"/>
                </a:lnTo>
                <a:lnTo>
                  <a:pt x="2172" y="1377"/>
                </a:lnTo>
                <a:lnTo>
                  <a:pt x="2172" y="1343"/>
                </a:lnTo>
                <a:lnTo>
                  <a:pt x="2172" y="1309"/>
                </a:lnTo>
                <a:lnTo>
                  <a:pt x="2172" y="1281"/>
                </a:lnTo>
                <a:lnTo>
                  <a:pt x="2207" y="1247"/>
                </a:lnTo>
                <a:lnTo>
                  <a:pt x="2207" y="1219"/>
                </a:lnTo>
                <a:lnTo>
                  <a:pt x="2207" y="1185"/>
                </a:lnTo>
                <a:lnTo>
                  <a:pt x="2207" y="1157"/>
                </a:lnTo>
                <a:lnTo>
                  <a:pt x="2207" y="1123"/>
                </a:lnTo>
                <a:lnTo>
                  <a:pt x="2207" y="1095"/>
                </a:lnTo>
                <a:lnTo>
                  <a:pt x="2207" y="1061"/>
                </a:lnTo>
                <a:lnTo>
                  <a:pt x="2241" y="1033"/>
                </a:lnTo>
                <a:lnTo>
                  <a:pt x="2241" y="999"/>
                </a:lnTo>
                <a:lnTo>
                  <a:pt x="2241" y="964"/>
                </a:lnTo>
                <a:lnTo>
                  <a:pt x="2241" y="937"/>
                </a:lnTo>
                <a:lnTo>
                  <a:pt x="2241" y="902"/>
                </a:lnTo>
                <a:lnTo>
                  <a:pt x="2241" y="875"/>
                </a:lnTo>
                <a:lnTo>
                  <a:pt x="2241" y="840"/>
                </a:lnTo>
                <a:lnTo>
                  <a:pt x="2269" y="813"/>
                </a:lnTo>
                <a:lnTo>
                  <a:pt x="2269" y="778"/>
                </a:lnTo>
                <a:lnTo>
                  <a:pt x="2269" y="751"/>
                </a:lnTo>
                <a:lnTo>
                  <a:pt x="2269" y="716"/>
                </a:lnTo>
                <a:lnTo>
                  <a:pt x="2269" y="689"/>
                </a:lnTo>
                <a:lnTo>
                  <a:pt x="2269" y="654"/>
                </a:lnTo>
                <a:lnTo>
                  <a:pt x="2269" y="627"/>
                </a:lnTo>
                <a:lnTo>
                  <a:pt x="2303" y="592"/>
                </a:lnTo>
                <a:lnTo>
                  <a:pt x="2303" y="558"/>
                </a:lnTo>
                <a:lnTo>
                  <a:pt x="2303" y="530"/>
                </a:lnTo>
                <a:lnTo>
                  <a:pt x="2303" y="496"/>
                </a:lnTo>
                <a:lnTo>
                  <a:pt x="2303" y="468"/>
                </a:lnTo>
                <a:lnTo>
                  <a:pt x="2303" y="434"/>
                </a:lnTo>
                <a:lnTo>
                  <a:pt x="2303" y="406"/>
                </a:lnTo>
                <a:lnTo>
                  <a:pt x="2331" y="372"/>
                </a:lnTo>
                <a:lnTo>
                  <a:pt x="2331" y="344"/>
                </a:lnTo>
                <a:lnTo>
                  <a:pt x="2331" y="310"/>
                </a:lnTo>
                <a:lnTo>
                  <a:pt x="2331" y="282"/>
                </a:lnTo>
                <a:lnTo>
                  <a:pt x="2331" y="248"/>
                </a:lnTo>
                <a:lnTo>
                  <a:pt x="2331" y="213"/>
                </a:lnTo>
                <a:lnTo>
                  <a:pt x="2331" y="186"/>
                </a:lnTo>
                <a:lnTo>
                  <a:pt x="2365" y="151"/>
                </a:lnTo>
                <a:lnTo>
                  <a:pt x="2365" y="124"/>
                </a:lnTo>
                <a:lnTo>
                  <a:pt x="2365" y="89"/>
                </a:lnTo>
                <a:lnTo>
                  <a:pt x="2365" y="62"/>
                </a:lnTo>
                <a:lnTo>
                  <a:pt x="2365" y="27"/>
                </a:lnTo>
                <a:lnTo>
                  <a:pt x="2365" y="0"/>
                </a:lnTo>
                <a:lnTo>
                  <a:pt x="2331" y="0"/>
                </a:lnTo>
                <a:lnTo>
                  <a:pt x="2303" y="0"/>
                </a:lnTo>
                <a:lnTo>
                  <a:pt x="2269" y="0"/>
                </a:lnTo>
                <a:lnTo>
                  <a:pt x="2241" y="0"/>
                </a:lnTo>
                <a:lnTo>
                  <a:pt x="2207" y="27"/>
                </a:lnTo>
                <a:lnTo>
                  <a:pt x="2172" y="27"/>
                </a:lnTo>
                <a:lnTo>
                  <a:pt x="2145" y="27"/>
                </a:lnTo>
                <a:lnTo>
                  <a:pt x="2110" y="62"/>
                </a:lnTo>
                <a:lnTo>
                  <a:pt x="2082" y="62"/>
                </a:lnTo>
                <a:lnTo>
                  <a:pt x="2048" y="89"/>
                </a:lnTo>
                <a:lnTo>
                  <a:pt x="2020" y="89"/>
                </a:lnTo>
                <a:lnTo>
                  <a:pt x="1986" y="89"/>
                </a:lnTo>
                <a:lnTo>
                  <a:pt x="1958" y="124"/>
                </a:lnTo>
                <a:lnTo>
                  <a:pt x="1924" y="124"/>
                </a:lnTo>
                <a:lnTo>
                  <a:pt x="1896" y="151"/>
                </a:lnTo>
                <a:lnTo>
                  <a:pt x="1862" y="151"/>
                </a:lnTo>
                <a:lnTo>
                  <a:pt x="1827" y="151"/>
                </a:lnTo>
                <a:lnTo>
                  <a:pt x="1800" y="186"/>
                </a:lnTo>
                <a:lnTo>
                  <a:pt x="1765" y="186"/>
                </a:lnTo>
                <a:lnTo>
                  <a:pt x="1738" y="213"/>
                </a:lnTo>
                <a:lnTo>
                  <a:pt x="1703" y="213"/>
                </a:lnTo>
                <a:lnTo>
                  <a:pt x="1676" y="213"/>
                </a:lnTo>
                <a:lnTo>
                  <a:pt x="1641" y="248"/>
                </a:lnTo>
                <a:lnTo>
                  <a:pt x="1614" y="248"/>
                </a:lnTo>
                <a:lnTo>
                  <a:pt x="1579" y="282"/>
                </a:lnTo>
                <a:lnTo>
                  <a:pt x="1552" y="282"/>
                </a:lnTo>
                <a:lnTo>
                  <a:pt x="1517" y="282"/>
                </a:lnTo>
                <a:lnTo>
                  <a:pt x="1483" y="310"/>
                </a:lnTo>
                <a:lnTo>
                  <a:pt x="1455" y="310"/>
                </a:lnTo>
                <a:lnTo>
                  <a:pt x="1421" y="344"/>
                </a:lnTo>
                <a:lnTo>
                  <a:pt x="1393" y="344"/>
                </a:lnTo>
                <a:lnTo>
                  <a:pt x="1359" y="344"/>
                </a:lnTo>
                <a:lnTo>
                  <a:pt x="1331" y="372"/>
                </a:lnTo>
                <a:lnTo>
                  <a:pt x="1296" y="372"/>
                </a:lnTo>
                <a:lnTo>
                  <a:pt x="1269" y="406"/>
                </a:lnTo>
                <a:lnTo>
                  <a:pt x="1234" y="406"/>
                </a:lnTo>
                <a:lnTo>
                  <a:pt x="1207" y="406"/>
                </a:lnTo>
                <a:lnTo>
                  <a:pt x="1172" y="434"/>
                </a:lnTo>
                <a:lnTo>
                  <a:pt x="1145" y="434"/>
                </a:lnTo>
                <a:lnTo>
                  <a:pt x="1110" y="468"/>
                </a:lnTo>
                <a:lnTo>
                  <a:pt x="1076" y="468"/>
                </a:lnTo>
                <a:lnTo>
                  <a:pt x="1048" y="468"/>
                </a:lnTo>
                <a:lnTo>
                  <a:pt x="1014" y="496"/>
                </a:lnTo>
                <a:lnTo>
                  <a:pt x="1014" y="530"/>
                </a:lnTo>
                <a:lnTo>
                  <a:pt x="986" y="558"/>
                </a:lnTo>
                <a:lnTo>
                  <a:pt x="986" y="592"/>
                </a:lnTo>
                <a:lnTo>
                  <a:pt x="952" y="627"/>
                </a:lnTo>
                <a:lnTo>
                  <a:pt x="952" y="654"/>
                </a:lnTo>
                <a:lnTo>
                  <a:pt x="924" y="689"/>
                </a:lnTo>
                <a:lnTo>
                  <a:pt x="924" y="716"/>
                </a:lnTo>
                <a:lnTo>
                  <a:pt x="890" y="751"/>
                </a:lnTo>
                <a:lnTo>
                  <a:pt x="890" y="778"/>
                </a:lnTo>
                <a:lnTo>
                  <a:pt x="862" y="813"/>
                </a:lnTo>
                <a:lnTo>
                  <a:pt x="862" y="840"/>
                </a:lnTo>
                <a:lnTo>
                  <a:pt x="862" y="875"/>
                </a:lnTo>
                <a:lnTo>
                  <a:pt x="828" y="902"/>
                </a:lnTo>
                <a:lnTo>
                  <a:pt x="828" y="937"/>
                </a:lnTo>
                <a:lnTo>
                  <a:pt x="800" y="964"/>
                </a:lnTo>
                <a:lnTo>
                  <a:pt x="800" y="999"/>
                </a:lnTo>
                <a:lnTo>
                  <a:pt x="766" y="1033"/>
                </a:lnTo>
                <a:lnTo>
                  <a:pt x="766" y="1061"/>
                </a:lnTo>
                <a:lnTo>
                  <a:pt x="731" y="1095"/>
                </a:lnTo>
                <a:lnTo>
                  <a:pt x="731" y="1123"/>
                </a:lnTo>
                <a:lnTo>
                  <a:pt x="703" y="1157"/>
                </a:lnTo>
                <a:lnTo>
                  <a:pt x="703" y="1185"/>
                </a:lnTo>
                <a:lnTo>
                  <a:pt x="669" y="1219"/>
                </a:lnTo>
                <a:lnTo>
                  <a:pt x="669" y="1247"/>
                </a:lnTo>
                <a:lnTo>
                  <a:pt x="669" y="1281"/>
                </a:lnTo>
                <a:lnTo>
                  <a:pt x="641" y="1309"/>
                </a:lnTo>
                <a:lnTo>
                  <a:pt x="641" y="1343"/>
                </a:lnTo>
                <a:lnTo>
                  <a:pt x="607" y="1377"/>
                </a:lnTo>
                <a:lnTo>
                  <a:pt x="607" y="1405"/>
                </a:lnTo>
                <a:lnTo>
                  <a:pt x="579" y="1439"/>
                </a:lnTo>
                <a:lnTo>
                  <a:pt x="579" y="1467"/>
                </a:lnTo>
                <a:lnTo>
                  <a:pt x="545" y="1501"/>
                </a:lnTo>
                <a:lnTo>
                  <a:pt x="545" y="1529"/>
                </a:lnTo>
                <a:lnTo>
                  <a:pt x="517" y="1563"/>
                </a:lnTo>
                <a:lnTo>
                  <a:pt x="517" y="1591"/>
                </a:lnTo>
                <a:lnTo>
                  <a:pt x="483" y="1625"/>
                </a:lnTo>
                <a:lnTo>
                  <a:pt x="483" y="1653"/>
                </a:lnTo>
                <a:lnTo>
                  <a:pt x="483" y="1687"/>
                </a:lnTo>
                <a:lnTo>
                  <a:pt x="483" y="1715"/>
                </a:lnTo>
                <a:lnTo>
                  <a:pt x="490" y="1722"/>
                </a:lnTo>
                <a:lnTo>
                  <a:pt x="490" y="1729"/>
                </a:lnTo>
                <a:lnTo>
                  <a:pt x="490" y="1743"/>
                </a:lnTo>
                <a:lnTo>
                  <a:pt x="490" y="1749"/>
                </a:lnTo>
                <a:lnTo>
                  <a:pt x="490" y="1763"/>
                </a:lnTo>
                <a:lnTo>
                  <a:pt x="490" y="1770"/>
                </a:lnTo>
                <a:lnTo>
                  <a:pt x="490" y="1777"/>
                </a:lnTo>
                <a:lnTo>
                  <a:pt x="483" y="1784"/>
                </a:lnTo>
                <a:lnTo>
                  <a:pt x="476" y="1791"/>
                </a:lnTo>
                <a:lnTo>
                  <a:pt x="476" y="1798"/>
                </a:lnTo>
                <a:lnTo>
                  <a:pt x="469" y="1805"/>
                </a:lnTo>
                <a:lnTo>
                  <a:pt x="469" y="1811"/>
                </a:lnTo>
                <a:lnTo>
                  <a:pt x="462" y="1818"/>
                </a:lnTo>
                <a:lnTo>
                  <a:pt x="455" y="1825"/>
                </a:lnTo>
                <a:lnTo>
                  <a:pt x="448" y="1825"/>
                </a:lnTo>
                <a:lnTo>
                  <a:pt x="441" y="1832"/>
                </a:lnTo>
                <a:lnTo>
                  <a:pt x="435" y="1832"/>
                </a:lnTo>
                <a:lnTo>
                  <a:pt x="428" y="1839"/>
                </a:lnTo>
                <a:lnTo>
                  <a:pt x="428" y="1846"/>
                </a:lnTo>
                <a:lnTo>
                  <a:pt x="428" y="1853"/>
                </a:lnTo>
                <a:lnTo>
                  <a:pt x="428" y="1867"/>
                </a:lnTo>
                <a:lnTo>
                  <a:pt x="435" y="1873"/>
                </a:lnTo>
                <a:lnTo>
                  <a:pt x="428" y="1880"/>
                </a:lnTo>
                <a:lnTo>
                  <a:pt x="428" y="1887"/>
                </a:lnTo>
                <a:lnTo>
                  <a:pt x="414" y="1887"/>
                </a:lnTo>
                <a:lnTo>
                  <a:pt x="407" y="1894"/>
                </a:lnTo>
                <a:lnTo>
                  <a:pt x="400" y="1894"/>
                </a:lnTo>
                <a:lnTo>
                  <a:pt x="393" y="1901"/>
                </a:lnTo>
                <a:lnTo>
                  <a:pt x="393" y="1908"/>
                </a:lnTo>
                <a:lnTo>
                  <a:pt x="400" y="1915"/>
                </a:lnTo>
                <a:lnTo>
                  <a:pt x="400" y="1929"/>
                </a:lnTo>
                <a:lnTo>
                  <a:pt x="400" y="1935"/>
                </a:lnTo>
                <a:lnTo>
                  <a:pt x="400" y="1942"/>
                </a:lnTo>
                <a:lnTo>
                  <a:pt x="393" y="1949"/>
                </a:lnTo>
                <a:lnTo>
                  <a:pt x="386" y="1956"/>
                </a:lnTo>
                <a:lnTo>
                  <a:pt x="379" y="1956"/>
                </a:lnTo>
                <a:lnTo>
                  <a:pt x="373" y="1963"/>
                </a:lnTo>
                <a:lnTo>
                  <a:pt x="366" y="1963"/>
                </a:lnTo>
                <a:lnTo>
                  <a:pt x="366" y="1977"/>
                </a:lnTo>
                <a:lnTo>
                  <a:pt x="366" y="1984"/>
                </a:lnTo>
                <a:lnTo>
                  <a:pt x="373" y="1991"/>
                </a:lnTo>
                <a:lnTo>
                  <a:pt x="373" y="2004"/>
                </a:lnTo>
                <a:lnTo>
                  <a:pt x="366" y="2004"/>
                </a:lnTo>
                <a:lnTo>
                  <a:pt x="359" y="2011"/>
                </a:lnTo>
                <a:lnTo>
                  <a:pt x="352" y="2018"/>
                </a:lnTo>
                <a:lnTo>
                  <a:pt x="345" y="2025"/>
                </a:lnTo>
                <a:lnTo>
                  <a:pt x="338" y="2025"/>
                </a:lnTo>
                <a:lnTo>
                  <a:pt x="338" y="2032"/>
                </a:lnTo>
                <a:lnTo>
                  <a:pt x="338" y="2046"/>
                </a:lnTo>
                <a:lnTo>
                  <a:pt x="338" y="2053"/>
                </a:lnTo>
                <a:lnTo>
                  <a:pt x="338" y="2059"/>
                </a:lnTo>
                <a:lnTo>
                  <a:pt x="331" y="2066"/>
                </a:lnTo>
                <a:lnTo>
                  <a:pt x="324" y="2073"/>
                </a:lnTo>
                <a:lnTo>
                  <a:pt x="317" y="2080"/>
                </a:lnTo>
                <a:lnTo>
                  <a:pt x="310" y="2087"/>
                </a:lnTo>
                <a:lnTo>
                  <a:pt x="310" y="2094"/>
                </a:lnTo>
                <a:lnTo>
                  <a:pt x="304" y="2101"/>
                </a:lnTo>
                <a:lnTo>
                  <a:pt x="304" y="2108"/>
                </a:lnTo>
                <a:lnTo>
                  <a:pt x="304" y="2121"/>
                </a:lnTo>
                <a:lnTo>
                  <a:pt x="297" y="2128"/>
                </a:lnTo>
                <a:lnTo>
                  <a:pt x="297" y="2135"/>
                </a:lnTo>
                <a:lnTo>
                  <a:pt x="290" y="2142"/>
                </a:lnTo>
                <a:lnTo>
                  <a:pt x="283" y="2149"/>
                </a:lnTo>
                <a:lnTo>
                  <a:pt x="283" y="2156"/>
                </a:lnTo>
                <a:lnTo>
                  <a:pt x="276" y="2163"/>
                </a:lnTo>
                <a:lnTo>
                  <a:pt x="276" y="2170"/>
                </a:lnTo>
                <a:lnTo>
                  <a:pt x="269" y="2177"/>
                </a:lnTo>
                <a:lnTo>
                  <a:pt x="262" y="2183"/>
                </a:lnTo>
                <a:lnTo>
                  <a:pt x="255" y="2183"/>
                </a:lnTo>
                <a:lnTo>
                  <a:pt x="255" y="2190"/>
                </a:lnTo>
                <a:lnTo>
                  <a:pt x="248" y="2197"/>
                </a:lnTo>
                <a:lnTo>
                  <a:pt x="255" y="2211"/>
                </a:lnTo>
                <a:lnTo>
                  <a:pt x="255" y="2218"/>
                </a:lnTo>
                <a:lnTo>
                  <a:pt x="248" y="2225"/>
                </a:lnTo>
                <a:lnTo>
                  <a:pt x="242" y="2232"/>
                </a:lnTo>
                <a:lnTo>
                  <a:pt x="242" y="2239"/>
                </a:lnTo>
                <a:lnTo>
                  <a:pt x="228" y="2245"/>
                </a:lnTo>
                <a:lnTo>
                  <a:pt x="221" y="2245"/>
                </a:lnTo>
                <a:lnTo>
                  <a:pt x="221" y="2252"/>
                </a:lnTo>
                <a:lnTo>
                  <a:pt x="221" y="2259"/>
                </a:lnTo>
                <a:lnTo>
                  <a:pt x="221" y="2273"/>
                </a:lnTo>
                <a:lnTo>
                  <a:pt x="228" y="2280"/>
                </a:lnTo>
                <a:lnTo>
                  <a:pt x="221" y="2287"/>
                </a:lnTo>
                <a:lnTo>
                  <a:pt x="221" y="2294"/>
                </a:lnTo>
                <a:lnTo>
                  <a:pt x="214" y="2301"/>
                </a:lnTo>
                <a:lnTo>
                  <a:pt x="207" y="2307"/>
                </a:lnTo>
                <a:lnTo>
                  <a:pt x="200" y="2314"/>
                </a:lnTo>
                <a:lnTo>
                  <a:pt x="193" y="2314"/>
                </a:lnTo>
                <a:lnTo>
                  <a:pt x="193" y="2328"/>
                </a:lnTo>
                <a:lnTo>
                  <a:pt x="200" y="2335"/>
                </a:lnTo>
                <a:lnTo>
                  <a:pt x="200" y="2349"/>
                </a:lnTo>
                <a:lnTo>
                  <a:pt x="193" y="2356"/>
                </a:lnTo>
                <a:lnTo>
                  <a:pt x="193" y="2363"/>
                </a:lnTo>
                <a:lnTo>
                  <a:pt x="186" y="2369"/>
                </a:lnTo>
                <a:lnTo>
                  <a:pt x="186" y="2376"/>
                </a:lnTo>
                <a:lnTo>
                  <a:pt x="179" y="2383"/>
                </a:lnTo>
                <a:lnTo>
                  <a:pt x="179" y="2397"/>
                </a:lnTo>
                <a:lnTo>
                  <a:pt x="179" y="2404"/>
                </a:lnTo>
                <a:lnTo>
                  <a:pt x="179" y="2411"/>
                </a:lnTo>
                <a:lnTo>
                  <a:pt x="179" y="2425"/>
                </a:lnTo>
                <a:lnTo>
                  <a:pt x="179" y="2431"/>
                </a:lnTo>
                <a:lnTo>
                  <a:pt x="179" y="2438"/>
                </a:lnTo>
                <a:lnTo>
                  <a:pt x="173" y="2452"/>
                </a:lnTo>
                <a:lnTo>
                  <a:pt x="173" y="2459"/>
                </a:lnTo>
                <a:lnTo>
                  <a:pt x="173" y="2466"/>
                </a:lnTo>
                <a:lnTo>
                  <a:pt x="179" y="2473"/>
                </a:lnTo>
                <a:lnTo>
                  <a:pt x="179" y="2480"/>
                </a:lnTo>
                <a:lnTo>
                  <a:pt x="193" y="2480"/>
                </a:lnTo>
                <a:lnTo>
                  <a:pt x="200" y="2480"/>
                </a:lnTo>
                <a:lnTo>
                  <a:pt x="207" y="2480"/>
                </a:lnTo>
                <a:lnTo>
                  <a:pt x="214" y="2473"/>
                </a:lnTo>
                <a:lnTo>
                  <a:pt x="214" y="2466"/>
                </a:lnTo>
                <a:lnTo>
                  <a:pt x="221" y="2459"/>
                </a:lnTo>
                <a:lnTo>
                  <a:pt x="228" y="2452"/>
                </a:lnTo>
                <a:lnTo>
                  <a:pt x="235" y="2452"/>
                </a:lnTo>
                <a:lnTo>
                  <a:pt x="242" y="2445"/>
                </a:lnTo>
                <a:lnTo>
                  <a:pt x="248" y="2445"/>
                </a:lnTo>
                <a:lnTo>
                  <a:pt x="248" y="2438"/>
                </a:lnTo>
                <a:lnTo>
                  <a:pt x="255" y="2425"/>
                </a:lnTo>
                <a:lnTo>
                  <a:pt x="255" y="2418"/>
                </a:lnTo>
                <a:lnTo>
                  <a:pt x="255" y="2411"/>
                </a:lnTo>
                <a:lnTo>
                  <a:pt x="262" y="2404"/>
                </a:lnTo>
                <a:lnTo>
                  <a:pt x="269" y="2397"/>
                </a:lnTo>
                <a:lnTo>
                  <a:pt x="276" y="2397"/>
                </a:lnTo>
                <a:lnTo>
                  <a:pt x="283" y="2390"/>
                </a:lnTo>
                <a:lnTo>
                  <a:pt x="283" y="2383"/>
                </a:lnTo>
                <a:lnTo>
                  <a:pt x="290" y="2376"/>
                </a:lnTo>
                <a:lnTo>
                  <a:pt x="297" y="2376"/>
                </a:lnTo>
                <a:lnTo>
                  <a:pt x="304" y="2376"/>
                </a:lnTo>
                <a:lnTo>
                  <a:pt x="310" y="2383"/>
                </a:lnTo>
                <a:lnTo>
                  <a:pt x="310" y="2390"/>
                </a:lnTo>
                <a:lnTo>
                  <a:pt x="317" y="2404"/>
                </a:lnTo>
                <a:lnTo>
                  <a:pt x="317" y="2411"/>
                </a:lnTo>
                <a:lnTo>
                  <a:pt x="324" y="2418"/>
                </a:lnTo>
                <a:lnTo>
                  <a:pt x="324" y="2425"/>
                </a:lnTo>
                <a:lnTo>
                  <a:pt x="331" y="2431"/>
                </a:lnTo>
                <a:lnTo>
                  <a:pt x="331" y="2445"/>
                </a:lnTo>
                <a:lnTo>
                  <a:pt x="338" y="2452"/>
                </a:lnTo>
                <a:lnTo>
                  <a:pt x="338" y="2459"/>
                </a:lnTo>
                <a:lnTo>
                  <a:pt x="345" y="2466"/>
                </a:lnTo>
                <a:lnTo>
                  <a:pt x="345" y="2473"/>
                </a:lnTo>
                <a:lnTo>
                  <a:pt x="352" y="2480"/>
                </a:lnTo>
                <a:lnTo>
                  <a:pt x="352" y="2487"/>
                </a:lnTo>
                <a:lnTo>
                  <a:pt x="359" y="2493"/>
                </a:lnTo>
                <a:lnTo>
                  <a:pt x="366" y="2500"/>
                </a:lnTo>
                <a:lnTo>
                  <a:pt x="366" y="2514"/>
                </a:lnTo>
                <a:lnTo>
                  <a:pt x="373" y="2521"/>
                </a:lnTo>
                <a:lnTo>
                  <a:pt x="373" y="2528"/>
                </a:lnTo>
                <a:lnTo>
                  <a:pt x="379" y="2535"/>
                </a:lnTo>
                <a:lnTo>
                  <a:pt x="379" y="2542"/>
                </a:lnTo>
                <a:lnTo>
                  <a:pt x="386" y="2548"/>
                </a:lnTo>
                <a:lnTo>
                  <a:pt x="386" y="2555"/>
                </a:lnTo>
                <a:lnTo>
                  <a:pt x="393" y="2562"/>
                </a:lnTo>
                <a:lnTo>
                  <a:pt x="393" y="2576"/>
                </a:lnTo>
                <a:lnTo>
                  <a:pt x="400" y="2583"/>
                </a:lnTo>
                <a:lnTo>
                  <a:pt x="400" y="2590"/>
                </a:lnTo>
                <a:lnTo>
                  <a:pt x="407" y="2597"/>
                </a:lnTo>
                <a:lnTo>
                  <a:pt x="414" y="2604"/>
                </a:lnTo>
                <a:lnTo>
                  <a:pt x="414" y="2610"/>
                </a:lnTo>
                <a:lnTo>
                  <a:pt x="421" y="2617"/>
                </a:lnTo>
                <a:lnTo>
                  <a:pt x="421" y="2624"/>
                </a:lnTo>
                <a:lnTo>
                  <a:pt x="428" y="2631"/>
                </a:lnTo>
                <a:lnTo>
                  <a:pt x="428" y="2645"/>
                </a:lnTo>
                <a:lnTo>
                  <a:pt x="435" y="2652"/>
                </a:lnTo>
                <a:lnTo>
                  <a:pt x="435" y="2659"/>
                </a:lnTo>
                <a:lnTo>
                  <a:pt x="441" y="2666"/>
                </a:lnTo>
                <a:lnTo>
                  <a:pt x="441" y="2672"/>
                </a:lnTo>
                <a:lnTo>
                  <a:pt x="448" y="2679"/>
                </a:lnTo>
                <a:lnTo>
                  <a:pt x="448" y="2686"/>
                </a:lnTo>
                <a:lnTo>
                  <a:pt x="455" y="2693"/>
                </a:lnTo>
                <a:lnTo>
                  <a:pt x="455" y="2707"/>
                </a:lnTo>
                <a:lnTo>
                  <a:pt x="462" y="2714"/>
                </a:lnTo>
                <a:lnTo>
                  <a:pt x="469" y="2721"/>
                </a:lnTo>
                <a:lnTo>
                  <a:pt x="469" y="2728"/>
                </a:lnTo>
                <a:lnTo>
                  <a:pt x="476" y="2734"/>
                </a:lnTo>
                <a:lnTo>
                  <a:pt x="483" y="2741"/>
                </a:lnTo>
                <a:lnTo>
                  <a:pt x="483" y="2748"/>
                </a:lnTo>
                <a:lnTo>
                  <a:pt x="476" y="2755"/>
                </a:lnTo>
                <a:lnTo>
                  <a:pt x="476" y="2755"/>
                </a:lnTo>
                <a:lnTo>
                  <a:pt x="462" y="2762"/>
                </a:lnTo>
                <a:lnTo>
                  <a:pt x="455" y="2762"/>
                </a:lnTo>
                <a:lnTo>
                  <a:pt x="448" y="2762"/>
                </a:lnTo>
                <a:lnTo>
                  <a:pt x="441" y="2762"/>
                </a:lnTo>
                <a:lnTo>
                  <a:pt x="435" y="2769"/>
                </a:lnTo>
                <a:lnTo>
                  <a:pt x="428" y="2769"/>
                </a:lnTo>
                <a:lnTo>
                  <a:pt x="421" y="2776"/>
                </a:lnTo>
                <a:lnTo>
                  <a:pt x="414" y="2776"/>
                </a:lnTo>
                <a:lnTo>
                  <a:pt x="407" y="2783"/>
                </a:lnTo>
                <a:lnTo>
                  <a:pt x="400" y="2783"/>
                </a:lnTo>
                <a:lnTo>
                  <a:pt x="393" y="2783"/>
                </a:lnTo>
                <a:lnTo>
                  <a:pt x="386" y="2790"/>
                </a:lnTo>
                <a:lnTo>
                  <a:pt x="379" y="2790"/>
                </a:lnTo>
                <a:lnTo>
                  <a:pt x="373" y="2796"/>
                </a:lnTo>
                <a:lnTo>
                  <a:pt x="366" y="2796"/>
                </a:lnTo>
                <a:lnTo>
                  <a:pt x="359" y="2796"/>
                </a:lnTo>
                <a:lnTo>
                  <a:pt x="352" y="2803"/>
                </a:lnTo>
                <a:lnTo>
                  <a:pt x="345" y="2803"/>
                </a:lnTo>
                <a:lnTo>
                  <a:pt x="338" y="2803"/>
                </a:lnTo>
                <a:lnTo>
                  <a:pt x="331" y="2810"/>
                </a:lnTo>
                <a:lnTo>
                  <a:pt x="324" y="2810"/>
                </a:lnTo>
                <a:lnTo>
                  <a:pt x="317" y="2810"/>
                </a:lnTo>
                <a:lnTo>
                  <a:pt x="310" y="2817"/>
                </a:lnTo>
                <a:lnTo>
                  <a:pt x="304" y="2817"/>
                </a:lnTo>
                <a:lnTo>
                  <a:pt x="297" y="2817"/>
                </a:lnTo>
                <a:lnTo>
                  <a:pt x="290" y="2824"/>
                </a:lnTo>
                <a:lnTo>
                  <a:pt x="283" y="2824"/>
                </a:lnTo>
                <a:lnTo>
                  <a:pt x="276" y="2831"/>
                </a:lnTo>
                <a:lnTo>
                  <a:pt x="269" y="2831"/>
                </a:lnTo>
                <a:lnTo>
                  <a:pt x="262" y="2831"/>
                </a:lnTo>
                <a:lnTo>
                  <a:pt x="255" y="2838"/>
                </a:lnTo>
                <a:lnTo>
                  <a:pt x="248" y="2838"/>
                </a:lnTo>
                <a:lnTo>
                  <a:pt x="242" y="2838"/>
                </a:lnTo>
                <a:lnTo>
                  <a:pt x="235" y="2845"/>
                </a:lnTo>
                <a:lnTo>
                  <a:pt x="228" y="2845"/>
                </a:lnTo>
                <a:lnTo>
                  <a:pt x="221" y="2845"/>
                </a:lnTo>
                <a:lnTo>
                  <a:pt x="214" y="2852"/>
                </a:lnTo>
                <a:lnTo>
                  <a:pt x="207" y="2852"/>
                </a:lnTo>
                <a:lnTo>
                  <a:pt x="200" y="2852"/>
                </a:lnTo>
                <a:lnTo>
                  <a:pt x="193" y="2858"/>
                </a:lnTo>
                <a:lnTo>
                  <a:pt x="186" y="2858"/>
                </a:lnTo>
                <a:lnTo>
                  <a:pt x="179" y="2858"/>
                </a:lnTo>
                <a:lnTo>
                  <a:pt x="173" y="2865"/>
                </a:lnTo>
                <a:lnTo>
                  <a:pt x="166" y="2865"/>
                </a:lnTo>
                <a:lnTo>
                  <a:pt x="159" y="2872"/>
                </a:lnTo>
                <a:lnTo>
                  <a:pt x="152" y="2872"/>
                </a:lnTo>
                <a:lnTo>
                  <a:pt x="145" y="2872"/>
                </a:lnTo>
                <a:lnTo>
                  <a:pt x="138" y="2879"/>
                </a:lnTo>
                <a:lnTo>
                  <a:pt x="173" y="2879"/>
                </a:lnTo>
                <a:lnTo>
                  <a:pt x="200" y="2907"/>
                </a:lnTo>
                <a:lnTo>
                  <a:pt x="235" y="2907"/>
                </a:lnTo>
                <a:lnTo>
                  <a:pt x="262" y="2941"/>
                </a:lnTo>
                <a:lnTo>
                  <a:pt x="297" y="2941"/>
                </a:lnTo>
                <a:lnTo>
                  <a:pt x="324" y="2969"/>
                </a:lnTo>
                <a:lnTo>
                  <a:pt x="359" y="2969"/>
                </a:lnTo>
                <a:lnTo>
                  <a:pt x="393" y="3003"/>
                </a:lnTo>
                <a:lnTo>
                  <a:pt x="421" y="3003"/>
                </a:lnTo>
                <a:lnTo>
                  <a:pt x="455" y="3031"/>
                </a:lnTo>
                <a:lnTo>
                  <a:pt x="483" y="3031"/>
                </a:lnTo>
                <a:lnTo>
                  <a:pt x="517" y="3031"/>
                </a:lnTo>
                <a:close/>
                <a:moveTo>
                  <a:pt x="173" y="2500"/>
                </a:moveTo>
                <a:lnTo>
                  <a:pt x="173" y="2500"/>
                </a:lnTo>
                <a:lnTo>
                  <a:pt x="173" y="2500"/>
                </a:lnTo>
                <a:lnTo>
                  <a:pt x="173" y="2500"/>
                </a:lnTo>
                <a:lnTo>
                  <a:pt x="173" y="2500"/>
                </a:lnTo>
                <a:lnTo>
                  <a:pt x="173" y="2493"/>
                </a:lnTo>
                <a:lnTo>
                  <a:pt x="173" y="2493"/>
                </a:lnTo>
                <a:lnTo>
                  <a:pt x="173" y="2500"/>
                </a:lnTo>
                <a:lnTo>
                  <a:pt x="173" y="2500"/>
                </a:lnTo>
                <a:lnTo>
                  <a:pt x="173" y="2500"/>
                </a:lnTo>
                <a:lnTo>
                  <a:pt x="173" y="2500"/>
                </a:lnTo>
                <a:lnTo>
                  <a:pt x="173" y="2500"/>
                </a:lnTo>
                <a:lnTo>
                  <a:pt x="173" y="2500"/>
                </a:lnTo>
                <a:lnTo>
                  <a:pt x="173" y="2500"/>
                </a:lnTo>
                <a:lnTo>
                  <a:pt x="173" y="2500"/>
                </a:lnTo>
                <a:close/>
                <a:moveTo>
                  <a:pt x="1221" y="2404"/>
                </a:moveTo>
                <a:lnTo>
                  <a:pt x="1228" y="2397"/>
                </a:lnTo>
                <a:lnTo>
                  <a:pt x="1228" y="2390"/>
                </a:lnTo>
                <a:lnTo>
                  <a:pt x="1234" y="2383"/>
                </a:lnTo>
                <a:lnTo>
                  <a:pt x="1234" y="2376"/>
                </a:lnTo>
                <a:lnTo>
                  <a:pt x="1241" y="2369"/>
                </a:lnTo>
                <a:lnTo>
                  <a:pt x="1248" y="2363"/>
                </a:lnTo>
                <a:lnTo>
                  <a:pt x="1248" y="2356"/>
                </a:lnTo>
                <a:lnTo>
                  <a:pt x="1255" y="2349"/>
                </a:lnTo>
                <a:lnTo>
                  <a:pt x="1248" y="2342"/>
                </a:lnTo>
                <a:lnTo>
                  <a:pt x="1248" y="2335"/>
                </a:lnTo>
                <a:lnTo>
                  <a:pt x="1241" y="2328"/>
                </a:lnTo>
                <a:lnTo>
                  <a:pt x="1234" y="2321"/>
                </a:lnTo>
                <a:lnTo>
                  <a:pt x="1228" y="2314"/>
                </a:lnTo>
                <a:lnTo>
                  <a:pt x="1221" y="2307"/>
                </a:lnTo>
                <a:lnTo>
                  <a:pt x="1221" y="2301"/>
                </a:lnTo>
                <a:lnTo>
                  <a:pt x="1214" y="2301"/>
                </a:lnTo>
                <a:lnTo>
                  <a:pt x="1207" y="2294"/>
                </a:lnTo>
                <a:lnTo>
                  <a:pt x="1207" y="2287"/>
                </a:lnTo>
                <a:lnTo>
                  <a:pt x="1200" y="2280"/>
                </a:lnTo>
                <a:lnTo>
                  <a:pt x="1193" y="2273"/>
                </a:lnTo>
                <a:lnTo>
                  <a:pt x="1193" y="2266"/>
                </a:lnTo>
                <a:lnTo>
                  <a:pt x="1186" y="2259"/>
                </a:lnTo>
                <a:lnTo>
                  <a:pt x="1179" y="2252"/>
                </a:lnTo>
                <a:lnTo>
                  <a:pt x="1172" y="2245"/>
                </a:lnTo>
                <a:lnTo>
                  <a:pt x="1165" y="2245"/>
                </a:lnTo>
                <a:lnTo>
                  <a:pt x="1165" y="2239"/>
                </a:lnTo>
                <a:lnTo>
                  <a:pt x="1159" y="2232"/>
                </a:lnTo>
                <a:lnTo>
                  <a:pt x="1152" y="2225"/>
                </a:lnTo>
                <a:lnTo>
                  <a:pt x="1145" y="2225"/>
                </a:lnTo>
                <a:lnTo>
                  <a:pt x="1138" y="2218"/>
                </a:lnTo>
                <a:lnTo>
                  <a:pt x="1138" y="2211"/>
                </a:lnTo>
                <a:lnTo>
                  <a:pt x="1131" y="2204"/>
                </a:lnTo>
                <a:lnTo>
                  <a:pt x="1131" y="2190"/>
                </a:lnTo>
                <a:lnTo>
                  <a:pt x="1131" y="2183"/>
                </a:lnTo>
                <a:lnTo>
                  <a:pt x="1131" y="2170"/>
                </a:lnTo>
                <a:lnTo>
                  <a:pt x="1131" y="2163"/>
                </a:lnTo>
                <a:lnTo>
                  <a:pt x="1138" y="2156"/>
                </a:lnTo>
                <a:lnTo>
                  <a:pt x="1138" y="2149"/>
                </a:lnTo>
                <a:lnTo>
                  <a:pt x="1145" y="2149"/>
                </a:lnTo>
                <a:lnTo>
                  <a:pt x="1152" y="2149"/>
                </a:lnTo>
                <a:lnTo>
                  <a:pt x="1159" y="2149"/>
                </a:lnTo>
                <a:lnTo>
                  <a:pt x="1165" y="2149"/>
                </a:lnTo>
                <a:lnTo>
                  <a:pt x="1172" y="2149"/>
                </a:lnTo>
                <a:lnTo>
                  <a:pt x="1179" y="2156"/>
                </a:lnTo>
                <a:lnTo>
                  <a:pt x="1186" y="2156"/>
                </a:lnTo>
                <a:lnTo>
                  <a:pt x="1193" y="2156"/>
                </a:lnTo>
                <a:lnTo>
                  <a:pt x="1200" y="2156"/>
                </a:lnTo>
                <a:lnTo>
                  <a:pt x="1207" y="2163"/>
                </a:lnTo>
                <a:lnTo>
                  <a:pt x="1214" y="2163"/>
                </a:lnTo>
                <a:lnTo>
                  <a:pt x="1221" y="2163"/>
                </a:lnTo>
                <a:lnTo>
                  <a:pt x="1228" y="2170"/>
                </a:lnTo>
                <a:lnTo>
                  <a:pt x="1234" y="2163"/>
                </a:lnTo>
                <a:lnTo>
                  <a:pt x="1241" y="2163"/>
                </a:lnTo>
                <a:lnTo>
                  <a:pt x="1248" y="2163"/>
                </a:lnTo>
                <a:lnTo>
                  <a:pt x="1255" y="2156"/>
                </a:lnTo>
                <a:lnTo>
                  <a:pt x="1262" y="2156"/>
                </a:lnTo>
                <a:lnTo>
                  <a:pt x="1269" y="2156"/>
                </a:lnTo>
                <a:lnTo>
                  <a:pt x="1276" y="2156"/>
                </a:lnTo>
                <a:lnTo>
                  <a:pt x="1283" y="2156"/>
                </a:lnTo>
                <a:lnTo>
                  <a:pt x="1290" y="2156"/>
                </a:lnTo>
                <a:lnTo>
                  <a:pt x="1296" y="2149"/>
                </a:lnTo>
                <a:lnTo>
                  <a:pt x="1303" y="2149"/>
                </a:lnTo>
                <a:lnTo>
                  <a:pt x="1310" y="2142"/>
                </a:lnTo>
                <a:lnTo>
                  <a:pt x="1310" y="2135"/>
                </a:lnTo>
                <a:lnTo>
                  <a:pt x="1317" y="2128"/>
                </a:lnTo>
                <a:lnTo>
                  <a:pt x="1324" y="2121"/>
                </a:lnTo>
                <a:lnTo>
                  <a:pt x="1324" y="2115"/>
                </a:lnTo>
                <a:lnTo>
                  <a:pt x="1331" y="2108"/>
                </a:lnTo>
                <a:lnTo>
                  <a:pt x="1338" y="2101"/>
                </a:lnTo>
                <a:lnTo>
                  <a:pt x="1338" y="2094"/>
                </a:lnTo>
                <a:lnTo>
                  <a:pt x="1345" y="2087"/>
                </a:lnTo>
                <a:lnTo>
                  <a:pt x="1352" y="2080"/>
                </a:lnTo>
                <a:lnTo>
                  <a:pt x="1352" y="2073"/>
                </a:lnTo>
                <a:lnTo>
                  <a:pt x="1359" y="2066"/>
                </a:lnTo>
                <a:lnTo>
                  <a:pt x="1359" y="2059"/>
                </a:lnTo>
                <a:lnTo>
                  <a:pt x="1365" y="2053"/>
                </a:lnTo>
                <a:lnTo>
                  <a:pt x="1372" y="2053"/>
                </a:lnTo>
                <a:lnTo>
                  <a:pt x="1379" y="2046"/>
                </a:lnTo>
                <a:lnTo>
                  <a:pt x="1379" y="2039"/>
                </a:lnTo>
                <a:lnTo>
                  <a:pt x="1386" y="2032"/>
                </a:lnTo>
                <a:lnTo>
                  <a:pt x="1386" y="2018"/>
                </a:lnTo>
                <a:lnTo>
                  <a:pt x="1393" y="2018"/>
                </a:lnTo>
                <a:lnTo>
                  <a:pt x="1400" y="2018"/>
                </a:lnTo>
                <a:lnTo>
                  <a:pt x="1407" y="2025"/>
                </a:lnTo>
                <a:lnTo>
                  <a:pt x="1407" y="2032"/>
                </a:lnTo>
                <a:lnTo>
                  <a:pt x="1414" y="2039"/>
                </a:lnTo>
                <a:lnTo>
                  <a:pt x="1421" y="2039"/>
                </a:lnTo>
                <a:lnTo>
                  <a:pt x="1427" y="2046"/>
                </a:lnTo>
                <a:lnTo>
                  <a:pt x="1434" y="2046"/>
                </a:lnTo>
                <a:lnTo>
                  <a:pt x="1441" y="2053"/>
                </a:lnTo>
                <a:lnTo>
                  <a:pt x="1448" y="2053"/>
                </a:lnTo>
                <a:lnTo>
                  <a:pt x="1455" y="2059"/>
                </a:lnTo>
                <a:lnTo>
                  <a:pt x="1462" y="2059"/>
                </a:lnTo>
                <a:lnTo>
                  <a:pt x="1469" y="2066"/>
                </a:lnTo>
                <a:lnTo>
                  <a:pt x="1476" y="2066"/>
                </a:lnTo>
                <a:lnTo>
                  <a:pt x="1483" y="2066"/>
                </a:lnTo>
                <a:lnTo>
                  <a:pt x="1490" y="2073"/>
                </a:lnTo>
                <a:lnTo>
                  <a:pt x="1496" y="2080"/>
                </a:lnTo>
                <a:lnTo>
                  <a:pt x="1503" y="2087"/>
                </a:lnTo>
                <a:lnTo>
                  <a:pt x="1503" y="2087"/>
                </a:lnTo>
                <a:lnTo>
                  <a:pt x="1503" y="2094"/>
                </a:lnTo>
                <a:lnTo>
                  <a:pt x="1503" y="2101"/>
                </a:lnTo>
                <a:lnTo>
                  <a:pt x="1496" y="2101"/>
                </a:lnTo>
                <a:lnTo>
                  <a:pt x="1483" y="2101"/>
                </a:lnTo>
                <a:lnTo>
                  <a:pt x="1476" y="2101"/>
                </a:lnTo>
                <a:lnTo>
                  <a:pt x="1469" y="2108"/>
                </a:lnTo>
                <a:lnTo>
                  <a:pt x="1462" y="2108"/>
                </a:lnTo>
                <a:lnTo>
                  <a:pt x="1455" y="2108"/>
                </a:lnTo>
                <a:lnTo>
                  <a:pt x="1448" y="2108"/>
                </a:lnTo>
                <a:lnTo>
                  <a:pt x="1441" y="2108"/>
                </a:lnTo>
                <a:lnTo>
                  <a:pt x="1434" y="2108"/>
                </a:lnTo>
                <a:lnTo>
                  <a:pt x="1427" y="2108"/>
                </a:lnTo>
                <a:lnTo>
                  <a:pt x="1421" y="2108"/>
                </a:lnTo>
                <a:lnTo>
                  <a:pt x="1414" y="2108"/>
                </a:lnTo>
                <a:lnTo>
                  <a:pt x="1407" y="2108"/>
                </a:lnTo>
                <a:lnTo>
                  <a:pt x="1400" y="2108"/>
                </a:lnTo>
                <a:lnTo>
                  <a:pt x="1393" y="2115"/>
                </a:lnTo>
                <a:lnTo>
                  <a:pt x="1386" y="2115"/>
                </a:lnTo>
                <a:lnTo>
                  <a:pt x="1386" y="2121"/>
                </a:lnTo>
                <a:lnTo>
                  <a:pt x="1379" y="2128"/>
                </a:lnTo>
                <a:lnTo>
                  <a:pt x="1372" y="2128"/>
                </a:lnTo>
                <a:lnTo>
                  <a:pt x="1365" y="2135"/>
                </a:lnTo>
                <a:lnTo>
                  <a:pt x="1359" y="2142"/>
                </a:lnTo>
                <a:lnTo>
                  <a:pt x="1352" y="2142"/>
                </a:lnTo>
                <a:lnTo>
                  <a:pt x="1345" y="2142"/>
                </a:lnTo>
                <a:lnTo>
                  <a:pt x="1338" y="2142"/>
                </a:lnTo>
                <a:lnTo>
                  <a:pt x="1331" y="2142"/>
                </a:lnTo>
                <a:lnTo>
                  <a:pt x="1324" y="2142"/>
                </a:lnTo>
                <a:lnTo>
                  <a:pt x="1317" y="2142"/>
                </a:lnTo>
                <a:lnTo>
                  <a:pt x="1310" y="2149"/>
                </a:lnTo>
                <a:lnTo>
                  <a:pt x="1310" y="2156"/>
                </a:lnTo>
                <a:lnTo>
                  <a:pt x="1303" y="2163"/>
                </a:lnTo>
                <a:lnTo>
                  <a:pt x="1303" y="2170"/>
                </a:lnTo>
                <a:lnTo>
                  <a:pt x="1310" y="2177"/>
                </a:lnTo>
                <a:lnTo>
                  <a:pt x="1310" y="2190"/>
                </a:lnTo>
                <a:lnTo>
                  <a:pt x="1310" y="2197"/>
                </a:lnTo>
                <a:lnTo>
                  <a:pt x="1317" y="2204"/>
                </a:lnTo>
                <a:lnTo>
                  <a:pt x="1317" y="2211"/>
                </a:lnTo>
                <a:lnTo>
                  <a:pt x="1324" y="2218"/>
                </a:lnTo>
                <a:lnTo>
                  <a:pt x="1324" y="2225"/>
                </a:lnTo>
                <a:lnTo>
                  <a:pt x="1331" y="2232"/>
                </a:lnTo>
                <a:lnTo>
                  <a:pt x="1338" y="2239"/>
                </a:lnTo>
                <a:lnTo>
                  <a:pt x="1345" y="2239"/>
                </a:lnTo>
                <a:lnTo>
                  <a:pt x="1352" y="2245"/>
                </a:lnTo>
                <a:lnTo>
                  <a:pt x="1352" y="2252"/>
                </a:lnTo>
                <a:lnTo>
                  <a:pt x="1359" y="2259"/>
                </a:lnTo>
                <a:lnTo>
                  <a:pt x="1365" y="2252"/>
                </a:lnTo>
                <a:lnTo>
                  <a:pt x="1365" y="2239"/>
                </a:lnTo>
                <a:lnTo>
                  <a:pt x="1372" y="2232"/>
                </a:lnTo>
                <a:lnTo>
                  <a:pt x="1372" y="2225"/>
                </a:lnTo>
                <a:lnTo>
                  <a:pt x="1379" y="2218"/>
                </a:lnTo>
                <a:lnTo>
                  <a:pt x="1379" y="2211"/>
                </a:lnTo>
                <a:lnTo>
                  <a:pt x="1379" y="2204"/>
                </a:lnTo>
                <a:lnTo>
                  <a:pt x="1386" y="2190"/>
                </a:lnTo>
                <a:lnTo>
                  <a:pt x="1386" y="2183"/>
                </a:lnTo>
                <a:lnTo>
                  <a:pt x="1393" y="2177"/>
                </a:lnTo>
                <a:lnTo>
                  <a:pt x="1393" y="2177"/>
                </a:lnTo>
                <a:lnTo>
                  <a:pt x="1400" y="2177"/>
                </a:lnTo>
                <a:lnTo>
                  <a:pt x="1407" y="2177"/>
                </a:lnTo>
                <a:lnTo>
                  <a:pt x="1421" y="2183"/>
                </a:lnTo>
                <a:lnTo>
                  <a:pt x="1427" y="2183"/>
                </a:lnTo>
                <a:lnTo>
                  <a:pt x="1434" y="2183"/>
                </a:lnTo>
                <a:lnTo>
                  <a:pt x="1441" y="2190"/>
                </a:lnTo>
                <a:lnTo>
                  <a:pt x="1448" y="2190"/>
                </a:lnTo>
                <a:lnTo>
                  <a:pt x="1455" y="2190"/>
                </a:lnTo>
                <a:lnTo>
                  <a:pt x="1455" y="2197"/>
                </a:lnTo>
                <a:lnTo>
                  <a:pt x="1462" y="2197"/>
                </a:lnTo>
                <a:lnTo>
                  <a:pt x="1469" y="2204"/>
                </a:lnTo>
                <a:lnTo>
                  <a:pt x="1476" y="2211"/>
                </a:lnTo>
                <a:lnTo>
                  <a:pt x="1483" y="2211"/>
                </a:lnTo>
                <a:lnTo>
                  <a:pt x="1490" y="2218"/>
                </a:lnTo>
                <a:lnTo>
                  <a:pt x="1490" y="2225"/>
                </a:lnTo>
                <a:lnTo>
                  <a:pt x="1483" y="2232"/>
                </a:lnTo>
                <a:lnTo>
                  <a:pt x="1483" y="2245"/>
                </a:lnTo>
                <a:lnTo>
                  <a:pt x="1483" y="2252"/>
                </a:lnTo>
                <a:lnTo>
                  <a:pt x="1476" y="2259"/>
                </a:lnTo>
                <a:lnTo>
                  <a:pt x="1469" y="2259"/>
                </a:lnTo>
                <a:lnTo>
                  <a:pt x="1462" y="2266"/>
                </a:lnTo>
                <a:lnTo>
                  <a:pt x="1455" y="2273"/>
                </a:lnTo>
                <a:lnTo>
                  <a:pt x="1455" y="2273"/>
                </a:lnTo>
                <a:lnTo>
                  <a:pt x="1448" y="2280"/>
                </a:lnTo>
                <a:lnTo>
                  <a:pt x="1441" y="2287"/>
                </a:lnTo>
                <a:lnTo>
                  <a:pt x="1434" y="2287"/>
                </a:lnTo>
                <a:lnTo>
                  <a:pt x="1427" y="2294"/>
                </a:lnTo>
                <a:lnTo>
                  <a:pt x="1421" y="2301"/>
                </a:lnTo>
                <a:lnTo>
                  <a:pt x="1414" y="2307"/>
                </a:lnTo>
                <a:lnTo>
                  <a:pt x="1414" y="2307"/>
                </a:lnTo>
                <a:lnTo>
                  <a:pt x="1407" y="2314"/>
                </a:lnTo>
                <a:lnTo>
                  <a:pt x="1400" y="2321"/>
                </a:lnTo>
                <a:lnTo>
                  <a:pt x="1393" y="2321"/>
                </a:lnTo>
                <a:lnTo>
                  <a:pt x="1386" y="2328"/>
                </a:lnTo>
                <a:lnTo>
                  <a:pt x="1379" y="2328"/>
                </a:lnTo>
                <a:lnTo>
                  <a:pt x="1372" y="2335"/>
                </a:lnTo>
                <a:lnTo>
                  <a:pt x="1372" y="2342"/>
                </a:lnTo>
                <a:lnTo>
                  <a:pt x="1365" y="2342"/>
                </a:lnTo>
                <a:lnTo>
                  <a:pt x="1359" y="2349"/>
                </a:lnTo>
                <a:lnTo>
                  <a:pt x="1352" y="2356"/>
                </a:lnTo>
                <a:lnTo>
                  <a:pt x="1345" y="2356"/>
                </a:lnTo>
                <a:lnTo>
                  <a:pt x="1338" y="2363"/>
                </a:lnTo>
                <a:lnTo>
                  <a:pt x="1331" y="2363"/>
                </a:lnTo>
                <a:lnTo>
                  <a:pt x="1324" y="2369"/>
                </a:lnTo>
                <a:lnTo>
                  <a:pt x="1324" y="2376"/>
                </a:lnTo>
                <a:lnTo>
                  <a:pt x="1317" y="2376"/>
                </a:lnTo>
                <a:lnTo>
                  <a:pt x="1310" y="2383"/>
                </a:lnTo>
                <a:lnTo>
                  <a:pt x="1303" y="2390"/>
                </a:lnTo>
                <a:lnTo>
                  <a:pt x="1296" y="2390"/>
                </a:lnTo>
                <a:lnTo>
                  <a:pt x="1290" y="2397"/>
                </a:lnTo>
                <a:lnTo>
                  <a:pt x="1283" y="2397"/>
                </a:lnTo>
                <a:lnTo>
                  <a:pt x="1276" y="2404"/>
                </a:lnTo>
                <a:lnTo>
                  <a:pt x="1276" y="2411"/>
                </a:lnTo>
                <a:lnTo>
                  <a:pt x="1269" y="2411"/>
                </a:lnTo>
                <a:lnTo>
                  <a:pt x="1262" y="2418"/>
                </a:lnTo>
                <a:lnTo>
                  <a:pt x="1255" y="2418"/>
                </a:lnTo>
                <a:lnTo>
                  <a:pt x="1248" y="2425"/>
                </a:lnTo>
                <a:lnTo>
                  <a:pt x="1241" y="2425"/>
                </a:lnTo>
                <a:lnTo>
                  <a:pt x="1234" y="2418"/>
                </a:lnTo>
                <a:lnTo>
                  <a:pt x="1228" y="2418"/>
                </a:lnTo>
                <a:lnTo>
                  <a:pt x="1221" y="2404"/>
                </a:lnTo>
                <a:close/>
                <a:moveTo>
                  <a:pt x="848" y="2280"/>
                </a:moveTo>
                <a:lnTo>
                  <a:pt x="848" y="2273"/>
                </a:lnTo>
                <a:lnTo>
                  <a:pt x="855" y="2259"/>
                </a:lnTo>
                <a:lnTo>
                  <a:pt x="855" y="2252"/>
                </a:lnTo>
                <a:lnTo>
                  <a:pt x="862" y="2245"/>
                </a:lnTo>
                <a:lnTo>
                  <a:pt x="862" y="2239"/>
                </a:lnTo>
                <a:lnTo>
                  <a:pt x="869" y="2232"/>
                </a:lnTo>
                <a:lnTo>
                  <a:pt x="876" y="2225"/>
                </a:lnTo>
                <a:lnTo>
                  <a:pt x="876" y="2211"/>
                </a:lnTo>
                <a:lnTo>
                  <a:pt x="883" y="2204"/>
                </a:lnTo>
                <a:lnTo>
                  <a:pt x="890" y="2197"/>
                </a:lnTo>
                <a:lnTo>
                  <a:pt x="897" y="2197"/>
                </a:lnTo>
                <a:lnTo>
                  <a:pt x="903" y="2197"/>
                </a:lnTo>
                <a:lnTo>
                  <a:pt x="910" y="2204"/>
                </a:lnTo>
                <a:lnTo>
                  <a:pt x="917" y="2211"/>
                </a:lnTo>
                <a:lnTo>
                  <a:pt x="924" y="2218"/>
                </a:lnTo>
                <a:lnTo>
                  <a:pt x="931" y="2225"/>
                </a:lnTo>
                <a:lnTo>
                  <a:pt x="938" y="2232"/>
                </a:lnTo>
                <a:lnTo>
                  <a:pt x="938" y="2239"/>
                </a:lnTo>
                <a:lnTo>
                  <a:pt x="945" y="2239"/>
                </a:lnTo>
                <a:lnTo>
                  <a:pt x="952" y="2245"/>
                </a:lnTo>
                <a:lnTo>
                  <a:pt x="959" y="2252"/>
                </a:lnTo>
                <a:lnTo>
                  <a:pt x="966" y="2252"/>
                </a:lnTo>
                <a:lnTo>
                  <a:pt x="972" y="2259"/>
                </a:lnTo>
                <a:lnTo>
                  <a:pt x="979" y="2266"/>
                </a:lnTo>
                <a:lnTo>
                  <a:pt x="986" y="2266"/>
                </a:lnTo>
                <a:lnTo>
                  <a:pt x="1000" y="2273"/>
                </a:lnTo>
                <a:lnTo>
                  <a:pt x="1007" y="2280"/>
                </a:lnTo>
                <a:lnTo>
                  <a:pt x="1007" y="2280"/>
                </a:lnTo>
                <a:lnTo>
                  <a:pt x="1007" y="2287"/>
                </a:lnTo>
                <a:lnTo>
                  <a:pt x="1000" y="2294"/>
                </a:lnTo>
                <a:lnTo>
                  <a:pt x="993" y="2294"/>
                </a:lnTo>
                <a:lnTo>
                  <a:pt x="979" y="2301"/>
                </a:lnTo>
                <a:lnTo>
                  <a:pt x="972" y="2301"/>
                </a:lnTo>
                <a:lnTo>
                  <a:pt x="966" y="2307"/>
                </a:lnTo>
                <a:lnTo>
                  <a:pt x="959" y="2307"/>
                </a:lnTo>
                <a:lnTo>
                  <a:pt x="952" y="2307"/>
                </a:lnTo>
                <a:lnTo>
                  <a:pt x="945" y="2307"/>
                </a:lnTo>
                <a:lnTo>
                  <a:pt x="938" y="2307"/>
                </a:lnTo>
                <a:lnTo>
                  <a:pt x="931" y="2307"/>
                </a:lnTo>
                <a:lnTo>
                  <a:pt x="924" y="2307"/>
                </a:lnTo>
                <a:lnTo>
                  <a:pt x="910" y="2307"/>
                </a:lnTo>
                <a:lnTo>
                  <a:pt x="903" y="2307"/>
                </a:lnTo>
                <a:lnTo>
                  <a:pt x="897" y="2307"/>
                </a:lnTo>
                <a:lnTo>
                  <a:pt x="890" y="2307"/>
                </a:lnTo>
                <a:lnTo>
                  <a:pt x="883" y="2301"/>
                </a:lnTo>
                <a:lnTo>
                  <a:pt x="876" y="2301"/>
                </a:lnTo>
                <a:lnTo>
                  <a:pt x="869" y="2294"/>
                </a:lnTo>
                <a:lnTo>
                  <a:pt x="862" y="2287"/>
                </a:lnTo>
                <a:lnTo>
                  <a:pt x="855" y="2287"/>
                </a:lnTo>
                <a:lnTo>
                  <a:pt x="848" y="2280"/>
                </a:lnTo>
                <a:close/>
                <a:moveTo>
                  <a:pt x="297" y="2032"/>
                </a:moveTo>
                <a:lnTo>
                  <a:pt x="297" y="2032"/>
                </a:lnTo>
                <a:lnTo>
                  <a:pt x="297" y="2046"/>
                </a:lnTo>
                <a:lnTo>
                  <a:pt x="297" y="2032"/>
                </a:lnTo>
                <a:close/>
                <a:moveTo>
                  <a:pt x="331" y="1997"/>
                </a:moveTo>
                <a:lnTo>
                  <a:pt x="338" y="1970"/>
                </a:lnTo>
                <a:lnTo>
                  <a:pt x="324" y="1970"/>
                </a:lnTo>
                <a:lnTo>
                  <a:pt x="324" y="1997"/>
                </a:lnTo>
                <a:lnTo>
                  <a:pt x="324" y="2004"/>
                </a:lnTo>
                <a:lnTo>
                  <a:pt x="331" y="1997"/>
                </a:lnTo>
                <a:close/>
                <a:moveTo>
                  <a:pt x="1228" y="1997"/>
                </a:moveTo>
                <a:lnTo>
                  <a:pt x="1221" y="1991"/>
                </a:lnTo>
                <a:lnTo>
                  <a:pt x="1221" y="1984"/>
                </a:lnTo>
                <a:lnTo>
                  <a:pt x="1214" y="1977"/>
                </a:lnTo>
                <a:lnTo>
                  <a:pt x="1214" y="1970"/>
                </a:lnTo>
                <a:lnTo>
                  <a:pt x="1207" y="1963"/>
                </a:lnTo>
                <a:lnTo>
                  <a:pt x="1207" y="1956"/>
                </a:lnTo>
                <a:lnTo>
                  <a:pt x="1207" y="1942"/>
                </a:lnTo>
                <a:lnTo>
                  <a:pt x="1207" y="1935"/>
                </a:lnTo>
                <a:lnTo>
                  <a:pt x="1200" y="1929"/>
                </a:lnTo>
                <a:lnTo>
                  <a:pt x="1193" y="1929"/>
                </a:lnTo>
                <a:lnTo>
                  <a:pt x="1186" y="1929"/>
                </a:lnTo>
                <a:lnTo>
                  <a:pt x="1172" y="1929"/>
                </a:lnTo>
                <a:lnTo>
                  <a:pt x="1172" y="1935"/>
                </a:lnTo>
                <a:lnTo>
                  <a:pt x="1165" y="1942"/>
                </a:lnTo>
                <a:lnTo>
                  <a:pt x="1159" y="1949"/>
                </a:lnTo>
                <a:lnTo>
                  <a:pt x="1152" y="1949"/>
                </a:lnTo>
                <a:lnTo>
                  <a:pt x="1145" y="1956"/>
                </a:lnTo>
                <a:lnTo>
                  <a:pt x="1138" y="1956"/>
                </a:lnTo>
                <a:lnTo>
                  <a:pt x="1131" y="1963"/>
                </a:lnTo>
                <a:lnTo>
                  <a:pt x="1124" y="1963"/>
                </a:lnTo>
                <a:lnTo>
                  <a:pt x="1117" y="1963"/>
                </a:lnTo>
                <a:lnTo>
                  <a:pt x="1110" y="1963"/>
                </a:lnTo>
                <a:lnTo>
                  <a:pt x="1103" y="1963"/>
                </a:lnTo>
                <a:lnTo>
                  <a:pt x="1097" y="1956"/>
                </a:lnTo>
                <a:lnTo>
                  <a:pt x="1090" y="1949"/>
                </a:lnTo>
                <a:lnTo>
                  <a:pt x="1083" y="1942"/>
                </a:lnTo>
                <a:lnTo>
                  <a:pt x="1083" y="1935"/>
                </a:lnTo>
                <a:lnTo>
                  <a:pt x="1076" y="1929"/>
                </a:lnTo>
                <a:lnTo>
                  <a:pt x="1069" y="1929"/>
                </a:lnTo>
                <a:lnTo>
                  <a:pt x="1062" y="1929"/>
                </a:lnTo>
                <a:lnTo>
                  <a:pt x="1055" y="1929"/>
                </a:lnTo>
                <a:lnTo>
                  <a:pt x="1048" y="1929"/>
                </a:lnTo>
                <a:lnTo>
                  <a:pt x="1041" y="1929"/>
                </a:lnTo>
                <a:lnTo>
                  <a:pt x="1034" y="1929"/>
                </a:lnTo>
                <a:lnTo>
                  <a:pt x="1028" y="1929"/>
                </a:lnTo>
                <a:lnTo>
                  <a:pt x="1021" y="1922"/>
                </a:lnTo>
                <a:lnTo>
                  <a:pt x="1014" y="1922"/>
                </a:lnTo>
                <a:lnTo>
                  <a:pt x="1007" y="1908"/>
                </a:lnTo>
                <a:lnTo>
                  <a:pt x="1007" y="1908"/>
                </a:lnTo>
                <a:lnTo>
                  <a:pt x="1014" y="1901"/>
                </a:lnTo>
                <a:lnTo>
                  <a:pt x="1021" y="1901"/>
                </a:lnTo>
                <a:lnTo>
                  <a:pt x="1021" y="1894"/>
                </a:lnTo>
                <a:lnTo>
                  <a:pt x="1028" y="1880"/>
                </a:lnTo>
                <a:lnTo>
                  <a:pt x="1028" y="1873"/>
                </a:lnTo>
                <a:lnTo>
                  <a:pt x="1034" y="1867"/>
                </a:lnTo>
                <a:lnTo>
                  <a:pt x="1041" y="1867"/>
                </a:lnTo>
                <a:lnTo>
                  <a:pt x="1048" y="1867"/>
                </a:lnTo>
                <a:lnTo>
                  <a:pt x="1055" y="1867"/>
                </a:lnTo>
                <a:lnTo>
                  <a:pt x="1062" y="1867"/>
                </a:lnTo>
                <a:lnTo>
                  <a:pt x="1069" y="1867"/>
                </a:lnTo>
                <a:lnTo>
                  <a:pt x="1076" y="1867"/>
                </a:lnTo>
                <a:lnTo>
                  <a:pt x="1090" y="1873"/>
                </a:lnTo>
                <a:lnTo>
                  <a:pt x="1097" y="1873"/>
                </a:lnTo>
                <a:lnTo>
                  <a:pt x="1103" y="1873"/>
                </a:lnTo>
                <a:lnTo>
                  <a:pt x="1110" y="1873"/>
                </a:lnTo>
                <a:lnTo>
                  <a:pt x="1117" y="1873"/>
                </a:lnTo>
                <a:lnTo>
                  <a:pt x="1117" y="1867"/>
                </a:lnTo>
                <a:lnTo>
                  <a:pt x="1124" y="1860"/>
                </a:lnTo>
                <a:lnTo>
                  <a:pt x="1131" y="1853"/>
                </a:lnTo>
                <a:lnTo>
                  <a:pt x="1131" y="1846"/>
                </a:lnTo>
                <a:lnTo>
                  <a:pt x="1138" y="1839"/>
                </a:lnTo>
                <a:lnTo>
                  <a:pt x="1145" y="1832"/>
                </a:lnTo>
                <a:lnTo>
                  <a:pt x="1152" y="1825"/>
                </a:lnTo>
                <a:lnTo>
                  <a:pt x="1159" y="1825"/>
                </a:lnTo>
                <a:lnTo>
                  <a:pt x="1165" y="1825"/>
                </a:lnTo>
                <a:lnTo>
                  <a:pt x="1172" y="1825"/>
                </a:lnTo>
                <a:lnTo>
                  <a:pt x="1179" y="1825"/>
                </a:lnTo>
                <a:lnTo>
                  <a:pt x="1186" y="1825"/>
                </a:lnTo>
                <a:lnTo>
                  <a:pt x="1193" y="1818"/>
                </a:lnTo>
                <a:lnTo>
                  <a:pt x="1200" y="1818"/>
                </a:lnTo>
                <a:lnTo>
                  <a:pt x="1207" y="1811"/>
                </a:lnTo>
                <a:lnTo>
                  <a:pt x="1214" y="1811"/>
                </a:lnTo>
                <a:lnTo>
                  <a:pt x="1221" y="1805"/>
                </a:lnTo>
                <a:lnTo>
                  <a:pt x="1228" y="1805"/>
                </a:lnTo>
                <a:lnTo>
                  <a:pt x="1234" y="1798"/>
                </a:lnTo>
                <a:lnTo>
                  <a:pt x="1241" y="1798"/>
                </a:lnTo>
                <a:lnTo>
                  <a:pt x="1248" y="1798"/>
                </a:lnTo>
                <a:lnTo>
                  <a:pt x="1255" y="1798"/>
                </a:lnTo>
                <a:lnTo>
                  <a:pt x="1262" y="1791"/>
                </a:lnTo>
                <a:lnTo>
                  <a:pt x="1269" y="1784"/>
                </a:lnTo>
                <a:lnTo>
                  <a:pt x="1276" y="1777"/>
                </a:lnTo>
                <a:lnTo>
                  <a:pt x="1276" y="1770"/>
                </a:lnTo>
                <a:lnTo>
                  <a:pt x="1283" y="1763"/>
                </a:lnTo>
                <a:lnTo>
                  <a:pt x="1283" y="1756"/>
                </a:lnTo>
                <a:lnTo>
                  <a:pt x="1290" y="1749"/>
                </a:lnTo>
                <a:lnTo>
                  <a:pt x="1296" y="1749"/>
                </a:lnTo>
                <a:lnTo>
                  <a:pt x="1303" y="1743"/>
                </a:lnTo>
                <a:lnTo>
                  <a:pt x="1310" y="1736"/>
                </a:lnTo>
                <a:lnTo>
                  <a:pt x="1310" y="1729"/>
                </a:lnTo>
                <a:lnTo>
                  <a:pt x="1317" y="1722"/>
                </a:lnTo>
                <a:lnTo>
                  <a:pt x="1324" y="1715"/>
                </a:lnTo>
                <a:lnTo>
                  <a:pt x="1324" y="1708"/>
                </a:lnTo>
                <a:lnTo>
                  <a:pt x="1331" y="1701"/>
                </a:lnTo>
                <a:lnTo>
                  <a:pt x="1338" y="1694"/>
                </a:lnTo>
                <a:lnTo>
                  <a:pt x="1345" y="1687"/>
                </a:lnTo>
                <a:lnTo>
                  <a:pt x="1352" y="1687"/>
                </a:lnTo>
                <a:lnTo>
                  <a:pt x="1359" y="1681"/>
                </a:lnTo>
                <a:lnTo>
                  <a:pt x="1365" y="1681"/>
                </a:lnTo>
                <a:lnTo>
                  <a:pt x="1372" y="1681"/>
                </a:lnTo>
                <a:lnTo>
                  <a:pt x="1379" y="1681"/>
                </a:lnTo>
                <a:lnTo>
                  <a:pt x="1386" y="1681"/>
                </a:lnTo>
                <a:lnTo>
                  <a:pt x="1393" y="1681"/>
                </a:lnTo>
                <a:lnTo>
                  <a:pt x="1400" y="1681"/>
                </a:lnTo>
                <a:lnTo>
                  <a:pt x="1407" y="1687"/>
                </a:lnTo>
                <a:lnTo>
                  <a:pt x="1414" y="1687"/>
                </a:lnTo>
                <a:lnTo>
                  <a:pt x="1421" y="1687"/>
                </a:lnTo>
                <a:lnTo>
                  <a:pt x="1427" y="1687"/>
                </a:lnTo>
                <a:lnTo>
                  <a:pt x="1434" y="1687"/>
                </a:lnTo>
                <a:lnTo>
                  <a:pt x="1441" y="1687"/>
                </a:lnTo>
                <a:lnTo>
                  <a:pt x="1448" y="1687"/>
                </a:lnTo>
                <a:lnTo>
                  <a:pt x="1455" y="1681"/>
                </a:lnTo>
                <a:lnTo>
                  <a:pt x="1462" y="1681"/>
                </a:lnTo>
                <a:lnTo>
                  <a:pt x="1469" y="1681"/>
                </a:lnTo>
                <a:lnTo>
                  <a:pt x="1476" y="1681"/>
                </a:lnTo>
                <a:lnTo>
                  <a:pt x="1483" y="1681"/>
                </a:lnTo>
                <a:lnTo>
                  <a:pt x="1496" y="1687"/>
                </a:lnTo>
                <a:lnTo>
                  <a:pt x="1496" y="1687"/>
                </a:lnTo>
                <a:lnTo>
                  <a:pt x="1496" y="1694"/>
                </a:lnTo>
                <a:lnTo>
                  <a:pt x="1496" y="1701"/>
                </a:lnTo>
                <a:lnTo>
                  <a:pt x="1490" y="1708"/>
                </a:lnTo>
                <a:lnTo>
                  <a:pt x="1483" y="1715"/>
                </a:lnTo>
                <a:lnTo>
                  <a:pt x="1476" y="1722"/>
                </a:lnTo>
                <a:lnTo>
                  <a:pt x="1476" y="1729"/>
                </a:lnTo>
                <a:lnTo>
                  <a:pt x="1469" y="1736"/>
                </a:lnTo>
                <a:lnTo>
                  <a:pt x="1462" y="1743"/>
                </a:lnTo>
                <a:lnTo>
                  <a:pt x="1455" y="1749"/>
                </a:lnTo>
                <a:lnTo>
                  <a:pt x="1448" y="1749"/>
                </a:lnTo>
                <a:lnTo>
                  <a:pt x="1448" y="1756"/>
                </a:lnTo>
                <a:lnTo>
                  <a:pt x="1441" y="1763"/>
                </a:lnTo>
                <a:lnTo>
                  <a:pt x="1434" y="1770"/>
                </a:lnTo>
                <a:lnTo>
                  <a:pt x="1427" y="1777"/>
                </a:lnTo>
                <a:lnTo>
                  <a:pt x="1427" y="1784"/>
                </a:lnTo>
                <a:lnTo>
                  <a:pt x="1421" y="1791"/>
                </a:lnTo>
                <a:lnTo>
                  <a:pt x="1414" y="1798"/>
                </a:lnTo>
                <a:lnTo>
                  <a:pt x="1407" y="1798"/>
                </a:lnTo>
                <a:lnTo>
                  <a:pt x="1400" y="1805"/>
                </a:lnTo>
                <a:lnTo>
                  <a:pt x="1400" y="1811"/>
                </a:lnTo>
                <a:lnTo>
                  <a:pt x="1393" y="1818"/>
                </a:lnTo>
                <a:lnTo>
                  <a:pt x="1386" y="1825"/>
                </a:lnTo>
                <a:lnTo>
                  <a:pt x="1379" y="1832"/>
                </a:lnTo>
                <a:lnTo>
                  <a:pt x="1372" y="1839"/>
                </a:lnTo>
                <a:lnTo>
                  <a:pt x="1372" y="1846"/>
                </a:lnTo>
                <a:lnTo>
                  <a:pt x="1365" y="1846"/>
                </a:lnTo>
                <a:lnTo>
                  <a:pt x="1359" y="1853"/>
                </a:lnTo>
                <a:lnTo>
                  <a:pt x="1352" y="1860"/>
                </a:lnTo>
                <a:lnTo>
                  <a:pt x="1352" y="1867"/>
                </a:lnTo>
                <a:lnTo>
                  <a:pt x="1345" y="1873"/>
                </a:lnTo>
                <a:lnTo>
                  <a:pt x="1338" y="1880"/>
                </a:lnTo>
                <a:lnTo>
                  <a:pt x="1331" y="1887"/>
                </a:lnTo>
                <a:lnTo>
                  <a:pt x="1324" y="1887"/>
                </a:lnTo>
                <a:lnTo>
                  <a:pt x="1317" y="1894"/>
                </a:lnTo>
                <a:lnTo>
                  <a:pt x="1310" y="1894"/>
                </a:lnTo>
                <a:lnTo>
                  <a:pt x="1303" y="1894"/>
                </a:lnTo>
                <a:lnTo>
                  <a:pt x="1296" y="1901"/>
                </a:lnTo>
                <a:lnTo>
                  <a:pt x="1290" y="1901"/>
                </a:lnTo>
                <a:lnTo>
                  <a:pt x="1290" y="1908"/>
                </a:lnTo>
                <a:lnTo>
                  <a:pt x="1283" y="1915"/>
                </a:lnTo>
                <a:lnTo>
                  <a:pt x="1276" y="1922"/>
                </a:lnTo>
                <a:lnTo>
                  <a:pt x="1276" y="1929"/>
                </a:lnTo>
                <a:lnTo>
                  <a:pt x="1269" y="1942"/>
                </a:lnTo>
                <a:lnTo>
                  <a:pt x="1269" y="1949"/>
                </a:lnTo>
                <a:lnTo>
                  <a:pt x="1262" y="1956"/>
                </a:lnTo>
                <a:lnTo>
                  <a:pt x="1262" y="1963"/>
                </a:lnTo>
                <a:lnTo>
                  <a:pt x="1255" y="1970"/>
                </a:lnTo>
                <a:lnTo>
                  <a:pt x="1248" y="1977"/>
                </a:lnTo>
                <a:lnTo>
                  <a:pt x="1248" y="1984"/>
                </a:lnTo>
                <a:lnTo>
                  <a:pt x="1241" y="1991"/>
                </a:lnTo>
                <a:lnTo>
                  <a:pt x="1241" y="2004"/>
                </a:lnTo>
                <a:lnTo>
                  <a:pt x="1234" y="2004"/>
                </a:lnTo>
                <a:lnTo>
                  <a:pt x="1228" y="1997"/>
                </a:lnTo>
                <a:close/>
                <a:moveTo>
                  <a:pt x="366" y="1935"/>
                </a:moveTo>
                <a:lnTo>
                  <a:pt x="373" y="1908"/>
                </a:lnTo>
                <a:lnTo>
                  <a:pt x="359" y="1908"/>
                </a:lnTo>
                <a:lnTo>
                  <a:pt x="359" y="1935"/>
                </a:lnTo>
                <a:lnTo>
                  <a:pt x="359" y="1949"/>
                </a:lnTo>
                <a:lnTo>
                  <a:pt x="366" y="1935"/>
                </a:lnTo>
                <a:close/>
                <a:moveTo>
                  <a:pt x="1476" y="1935"/>
                </a:moveTo>
                <a:lnTo>
                  <a:pt x="1476" y="1929"/>
                </a:lnTo>
                <a:lnTo>
                  <a:pt x="1476" y="1922"/>
                </a:lnTo>
                <a:lnTo>
                  <a:pt x="1483" y="1908"/>
                </a:lnTo>
                <a:lnTo>
                  <a:pt x="1490" y="1901"/>
                </a:lnTo>
                <a:lnTo>
                  <a:pt x="1490" y="1894"/>
                </a:lnTo>
                <a:lnTo>
                  <a:pt x="1496" y="1894"/>
                </a:lnTo>
                <a:lnTo>
                  <a:pt x="1503" y="1887"/>
                </a:lnTo>
                <a:lnTo>
                  <a:pt x="1510" y="1880"/>
                </a:lnTo>
                <a:lnTo>
                  <a:pt x="1510" y="1873"/>
                </a:lnTo>
                <a:lnTo>
                  <a:pt x="1517" y="1867"/>
                </a:lnTo>
                <a:lnTo>
                  <a:pt x="1524" y="1860"/>
                </a:lnTo>
                <a:lnTo>
                  <a:pt x="1531" y="1853"/>
                </a:lnTo>
                <a:lnTo>
                  <a:pt x="1531" y="1846"/>
                </a:lnTo>
                <a:lnTo>
                  <a:pt x="1538" y="1839"/>
                </a:lnTo>
                <a:lnTo>
                  <a:pt x="1545" y="1832"/>
                </a:lnTo>
                <a:lnTo>
                  <a:pt x="1552" y="1825"/>
                </a:lnTo>
                <a:lnTo>
                  <a:pt x="1558" y="1818"/>
                </a:lnTo>
                <a:lnTo>
                  <a:pt x="1558" y="1811"/>
                </a:lnTo>
                <a:lnTo>
                  <a:pt x="1565" y="1805"/>
                </a:lnTo>
                <a:lnTo>
                  <a:pt x="1572" y="1798"/>
                </a:lnTo>
                <a:lnTo>
                  <a:pt x="1579" y="1791"/>
                </a:lnTo>
                <a:lnTo>
                  <a:pt x="1579" y="1784"/>
                </a:lnTo>
                <a:lnTo>
                  <a:pt x="1586" y="1777"/>
                </a:lnTo>
                <a:lnTo>
                  <a:pt x="1593" y="1770"/>
                </a:lnTo>
                <a:lnTo>
                  <a:pt x="1600" y="1763"/>
                </a:lnTo>
                <a:lnTo>
                  <a:pt x="1600" y="1756"/>
                </a:lnTo>
                <a:lnTo>
                  <a:pt x="1607" y="1749"/>
                </a:lnTo>
                <a:lnTo>
                  <a:pt x="1614" y="1749"/>
                </a:lnTo>
                <a:lnTo>
                  <a:pt x="1621" y="1743"/>
                </a:lnTo>
                <a:lnTo>
                  <a:pt x="1627" y="1736"/>
                </a:lnTo>
                <a:lnTo>
                  <a:pt x="1634" y="1729"/>
                </a:lnTo>
                <a:lnTo>
                  <a:pt x="1641" y="1729"/>
                </a:lnTo>
                <a:lnTo>
                  <a:pt x="1648" y="1722"/>
                </a:lnTo>
                <a:lnTo>
                  <a:pt x="1655" y="1715"/>
                </a:lnTo>
                <a:lnTo>
                  <a:pt x="1655" y="1715"/>
                </a:lnTo>
                <a:lnTo>
                  <a:pt x="1662" y="1708"/>
                </a:lnTo>
                <a:lnTo>
                  <a:pt x="1669" y="1701"/>
                </a:lnTo>
                <a:lnTo>
                  <a:pt x="1676" y="1694"/>
                </a:lnTo>
                <a:lnTo>
                  <a:pt x="1683" y="1694"/>
                </a:lnTo>
                <a:lnTo>
                  <a:pt x="1689" y="1694"/>
                </a:lnTo>
                <a:lnTo>
                  <a:pt x="1696" y="1694"/>
                </a:lnTo>
                <a:lnTo>
                  <a:pt x="1703" y="1701"/>
                </a:lnTo>
                <a:lnTo>
                  <a:pt x="1710" y="1701"/>
                </a:lnTo>
                <a:lnTo>
                  <a:pt x="1717" y="1701"/>
                </a:lnTo>
                <a:lnTo>
                  <a:pt x="1731" y="1701"/>
                </a:lnTo>
                <a:lnTo>
                  <a:pt x="1738" y="1701"/>
                </a:lnTo>
                <a:lnTo>
                  <a:pt x="1745" y="1694"/>
                </a:lnTo>
                <a:lnTo>
                  <a:pt x="1752" y="1694"/>
                </a:lnTo>
                <a:lnTo>
                  <a:pt x="1758" y="1694"/>
                </a:lnTo>
                <a:lnTo>
                  <a:pt x="1765" y="1701"/>
                </a:lnTo>
                <a:lnTo>
                  <a:pt x="1772" y="1708"/>
                </a:lnTo>
                <a:lnTo>
                  <a:pt x="1772" y="1715"/>
                </a:lnTo>
                <a:lnTo>
                  <a:pt x="1779" y="1722"/>
                </a:lnTo>
                <a:lnTo>
                  <a:pt x="1779" y="1729"/>
                </a:lnTo>
                <a:lnTo>
                  <a:pt x="1793" y="1736"/>
                </a:lnTo>
                <a:lnTo>
                  <a:pt x="1800" y="1736"/>
                </a:lnTo>
                <a:lnTo>
                  <a:pt x="1807" y="1736"/>
                </a:lnTo>
                <a:lnTo>
                  <a:pt x="1814" y="1743"/>
                </a:lnTo>
                <a:lnTo>
                  <a:pt x="1820" y="1743"/>
                </a:lnTo>
                <a:lnTo>
                  <a:pt x="1827" y="1749"/>
                </a:lnTo>
                <a:lnTo>
                  <a:pt x="1834" y="1749"/>
                </a:lnTo>
                <a:lnTo>
                  <a:pt x="1834" y="1756"/>
                </a:lnTo>
                <a:lnTo>
                  <a:pt x="1827" y="1763"/>
                </a:lnTo>
                <a:lnTo>
                  <a:pt x="1820" y="1770"/>
                </a:lnTo>
                <a:lnTo>
                  <a:pt x="1814" y="1777"/>
                </a:lnTo>
                <a:lnTo>
                  <a:pt x="1807" y="1784"/>
                </a:lnTo>
                <a:lnTo>
                  <a:pt x="1800" y="1784"/>
                </a:lnTo>
                <a:lnTo>
                  <a:pt x="1793" y="1784"/>
                </a:lnTo>
                <a:lnTo>
                  <a:pt x="1786" y="1791"/>
                </a:lnTo>
                <a:lnTo>
                  <a:pt x="1779" y="1791"/>
                </a:lnTo>
                <a:lnTo>
                  <a:pt x="1772" y="1791"/>
                </a:lnTo>
                <a:lnTo>
                  <a:pt x="1765" y="1798"/>
                </a:lnTo>
                <a:lnTo>
                  <a:pt x="1758" y="1798"/>
                </a:lnTo>
                <a:lnTo>
                  <a:pt x="1752" y="1805"/>
                </a:lnTo>
                <a:lnTo>
                  <a:pt x="1745" y="1805"/>
                </a:lnTo>
                <a:lnTo>
                  <a:pt x="1738" y="1805"/>
                </a:lnTo>
                <a:lnTo>
                  <a:pt x="1731" y="1811"/>
                </a:lnTo>
                <a:lnTo>
                  <a:pt x="1724" y="1811"/>
                </a:lnTo>
                <a:lnTo>
                  <a:pt x="1717" y="1811"/>
                </a:lnTo>
                <a:lnTo>
                  <a:pt x="1710" y="1811"/>
                </a:lnTo>
                <a:lnTo>
                  <a:pt x="1703" y="1818"/>
                </a:lnTo>
                <a:lnTo>
                  <a:pt x="1696" y="1825"/>
                </a:lnTo>
                <a:lnTo>
                  <a:pt x="1696" y="1839"/>
                </a:lnTo>
                <a:lnTo>
                  <a:pt x="1703" y="1846"/>
                </a:lnTo>
                <a:lnTo>
                  <a:pt x="1703" y="1860"/>
                </a:lnTo>
                <a:lnTo>
                  <a:pt x="1703" y="1867"/>
                </a:lnTo>
                <a:lnTo>
                  <a:pt x="1703" y="1873"/>
                </a:lnTo>
                <a:lnTo>
                  <a:pt x="1703" y="1880"/>
                </a:lnTo>
                <a:lnTo>
                  <a:pt x="1696" y="1894"/>
                </a:lnTo>
                <a:lnTo>
                  <a:pt x="1696" y="1901"/>
                </a:lnTo>
                <a:lnTo>
                  <a:pt x="1689" y="1908"/>
                </a:lnTo>
                <a:lnTo>
                  <a:pt x="1683" y="1915"/>
                </a:lnTo>
                <a:lnTo>
                  <a:pt x="1683" y="1922"/>
                </a:lnTo>
                <a:lnTo>
                  <a:pt x="1676" y="1929"/>
                </a:lnTo>
                <a:lnTo>
                  <a:pt x="1669" y="1935"/>
                </a:lnTo>
                <a:lnTo>
                  <a:pt x="1662" y="1935"/>
                </a:lnTo>
                <a:lnTo>
                  <a:pt x="1655" y="1942"/>
                </a:lnTo>
                <a:lnTo>
                  <a:pt x="1648" y="1949"/>
                </a:lnTo>
                <a:lnTo>
                  <a:pt x="1641" y="1956"/>
                </a:lnTo>
                <a:lnTo>
                  <a:pt x="1634" y="1956"/>
                </a:lnTo>
                <a:lnTo>
                  <a:pt x="1627" y="1956"/>
                </a:lnTo>
                <a:lnTo>
                  <a:pt x="1621" y="1956"/>
                </a:lnTo>
                <a:lnTo>
                  <a:pt x="1614" y="1949"/>
                </a:lnTo>
                <a:lnTo>
                  <a:pt x="1607" y="1949"/>
                </a:lnTo>
                <a:lnTo>
                  <a:pt x="1600" y="1949"/>
                </a:lnTo>
                <a:lnTo>
                  <a:pt x="1593" y="1949"/>
                </a:lnTo>
                <a:lnTo>
                  <a:pt x="1586" y="1949"/>
                </a:lnTo>
                <a:lnTo>
                  <a:pt x="1579" y="1949"/>
                </a:lnTo>
                <a:lnTo>
                  <a:pt x="1572" y="1949"/>
                </a:lnTo>
                <a:lnTo>
                  <a:pt x="1565" y="1949"/>
                </a:lnTo>
                <a:lnTo>
                  <a:pt x="1552" y="1949"/>
                </a:lnTo>
                <a:lnTo>
                  <a:pt x="1545" y="1949"/>
                </a:lnTo>
                <a:lnTo>
                  <a:pt x="1538" y="1949"/>
                </a:lnTo>
                <a:lnTo>
                  <a:pt x="1531" y="1942"/>
                </a:lnTo>
                <a:lnTo>
                  <a:pt x="1524" y="1942"/>
                </a:lnTo>
                <a:lnTo>
                  <a:pt x="1517" y="1942"/>
                </a:lnTo>
                <a:lnTo>
                  <a:pt x="1510" y="1942"/>
                </a:lnTo>
                <a:lnTo>
                  <a:pt x="1503" y="1942"/>
                </a:lnTo>
                <a:lnTo>
                  <a:pt x="1496" y="1942"/>
                </a:lnTo>
                <a:lnTo>
                  <a:pt x="1490" y="1942"/>
                </a:lnTo>
                <a:lnTo>
                  <a:pt x="1483" y="1942"/>
                </a:lnTo>
                <a:lnTo>
                  <a:pt x="1476" y="1935"/>
                </a:lnTo>
                <a:close/>
                <a:moveTo>
                  <a:pt x="400" y="1873"/>
                </a:moveTo>
                <a:lnTo>
                  <a:pt x="407" y="1846"/>
                </a:lnTo>
                <a:lnTo>
                  <a:pt x="393" y="1846"/>
                </a:lnTo>
                <a:lnTo>
                  <a:pt x="393" y="1873"/>
                </a:lnTo>
                <a:lnTo>
                  <a:pt x="393" y="1894"/>
                </a:lnTo>
                <a:lnTo>
                  <a:pt x="400" y="1873"/>
                </a:lnTo>
                <a:close/>
                <a:moveTo>
                  <a:pt x="641" y="1846"/>
                </a:moveTo>
                <a:lnTo>
                  <a:pt x="635" y="1832"/>
                </a:lnTo>
                <a:lnTo>
                  <a:pt x="635" y="1825"/>
                </a:lnTo>
                <a:lnTo>
                  <a:pt x="635" y="1818"/>
                </a:lnTo>
                <a:lnTo>
                  <a:pt x="635" y="1818"/>
                </a:lnTo>
                <a:lnTo>
                  <a:pt x="635" y="1811"/>
                </a:lnTo>
                <a:lnTo>
                  <a:pt x="641" y="1805"/>
                </a:lnTo>
                <a:lnTo>
                  <a:pt x="648" y="1805"/>
                </a:lnTo>
                <a:lnTo>
                  <a:pt x="655" y="1805"/>
                </a:lnTo>
                <a:lnTo>
                  <a:pt x="662" y="1805"/>
                </a:lnTo>
                <a:lnTo>
                  <a:pt x="662" y="1805"/>
                </a:lnTo>
                <a:lnTo>
                  <a:pt x="669" y="1811"/>
                </a:lnTo>
                <a:lnTo>
                  <a:pt x="669" y="1818"/>
                </a:lnTo>
                <a:lnTo>
                  <a:pt x="669" y="1825"/>
                </a:lnTo>
                <a:lnTo>
                  <a:pt x="669" y="1832"/>
                </a:lnTo>
                <a:lnTo>
                  <a:pt x="669" y="1839"/>
                </a:lnTo>
                <a:lnTo>
                  <a:pt x="662" y="1846"/>
                </a:lnTo>
                <a:lnTo>
                  <a:pt x="655" y="1846"/>
                </a:lnTo>
                <a:lnTo>
                  <a:pt x="648" y="1853"/>
                </a:lnTo>
                <a:lnTo>
                  <a:pt x="641" y="1846"/>
                </a:lnTo>
                <a:lnTo>
                  <a:pt x="641" y="1846"/>
                </a:lnTo>
                <a:close/>
                <a:moveTo>
                  <a:pt x="910" y="1846"/>
                </a:moveTo>
                <a:lnTo>
                  <a:pt x="903" y="1832"/>
                </a:lnTo>
                <a:lnTo>
                  <a:pt x="903" y="1825"/>
                </a:lnTo>
                <a:lnTo>
                  <a:pt x="897" y="1818"/>
                </a:lnTo>
                <a:lnTo>
                  <a:pt x="890" y="1818"/>
                </a:lnTo>
                <a:lnTo>
                  <a:pt x="883" y="1818"/>
                </a:lnTo>
                <a:lnTo>
                  <a:pt x="876" y="1811"/>
                </a:lnTo>
                <a:lnTo>
                  <a:pt x="869" y="1805"/>
                </a:lnTo>
                <a:lnTo>
                  <a:pt x="862" y="1798"/>
                </a:lnTo>
                <a:lnTo>
                  <a:pt x="855" y="1798"/>
                </a:lnTo>
                <a:lnTo>
                  <a:pt x="855" y="1798"/>
                </a:lnTo>
                <a:lnTo>
                  <a:pt x="848" y="1805"/>
                </a:lnTo>
                <a:lnTo>
                  <a:pt x="841" y="1811"/>
                </a:lnTo>
                <a:lnTo>
                  <a:pt x="834" y="1818"/>
                </a:lnTo>
                <a:lnTo>
                  <a:pt x="828" y="1818"/>
                </a:lnTo>
                <a:lnTo>
                  <a:pt x="821" y="1825"/>
                </a:lnTo>
                <a:lnTo>
                  <a:pt x="814" y="1825"/>
                </a:lnTo>
                <a:lnTo>
                  <a:pt x="807" y="1825"/>
                </a:lnTo>
                <a:lnTo>
                  <a:pt x="800" y="1825"/>
                </a:lnTo>
                <a:lnTo>
                  <a:pt x="786" y="1825"/>
                </a:lnTo>
                <a:lnTo>
                  <a:pt x="779" y="1825"/>
                </a:lnTo>
                <a:lnTo>
                  <a:pt x="772" y="1825"/>
                </a:lnTo>
                <a:lnTo>
                  <a:pt x="766" y="1818"/>
                </a:lnTo>
                <a:lnTo>
                  <a:pt x="766" y="1811"/>
                </a:lnTo>
                <a:lnTo>
                  <a:pt x="772" y="1798"/>
                </a:lnTo>
                <a:lnTo>
                  <a:pt x="772" y="1791"/>
                </a:lnTo>
                <a:lnTo>
                  <a:pt x="772" y="1784"/>
                </a:lnTo>
                <a:lnTo>
                  <a:pt x="766" y="1777"/>
                </a:lnTo>
                <a:lnTo>
                  <a:pt x="759" y="1770"/>
                </a:lnTo>
                <a:lnTo>
                  <a:pt x="752" y="1763"/>
                </a:lnTo>
                <a:lnTo>
                  <a:pt x="752" y="1756"/>
                </a:lnTo>
                <a:lnTo>
                  <a:pt x="745" y="1749"/>
                </a:lnTo>
                <a:lnTo>
                  <a:pt x="745" y="1743"/>
                </a:lnTo>
                <a:lnTo>
                  <a:pt x="738" y="1736"/>
                </a:lnTo>
                <a:lnTo>
                  <a:pt x="731" y="1729"/>
                </a:lnTo>
                <a:lnTo>
                  <a:pt x="724" y="1729"/>
                </a:lnTo>
                <a:lnTo>
                  <a:pt x="717" y="1722"/>
                </a:lnTo>
                <a:lnTo>
                  <a:pt x="710" y="1715"/>
                </a:lnTo>
                <a:lnTo>
                  <a:pt x="703" y="1715"/>
                </a:lnTo>
                <a:lnTo>
                  <a:pt x="697" y="1708"/>
                </a:lnTo>
                <a:lnTo>
                  <a:pt x="697" y="1701"/>
                </a:lnTo>
                <a:lnTo>
                  <a:pt x="690" y="1694"/>
                </a:lnTo>
                <a:lnTo>
                  <a:pt x="683" y="1694"/>
                </a:lnTo>
                <a:lnTo>
                  <a:pt x="676" y="1687"/>
                </a:lnTo>
                <a:lnTo>
                  <a:pt x="669" y="1681"/>
                </a:lnTo>
                <a:lnTo>
                  <a:pt x="662" y="1674"/>
                </a:lnTo>
                <a:lnTo>
                  <a:pt x="662" y="1667"/>
                </a:lnTo>
                <a:lnTo>
                  <a:pt x="655" y="1660"/>
                </a:lnTo>
                <a:lnTo>
                  <a:pt x="655" y="1646"/>
                </a:lnTo>
                <a:lnTo>
                  <a:pt x="655" y="1639"/>
                </a:lnTo>
                <a:lnTo>
                  <a:pt x="655" y="1632"/>
                </a:lnTo>
                <a:lnTo>
                  <a:pt x="662" y="1619"/>
                </a:lnTo>
                <a:lnTo>
                  <a:pt x="662" y="1612"/>
                </a:lnTo>
                <a:lnTo>
                  <a:pt x="662" y="1605"/>
                </a:lnTo>
                <a:lnTo>
                  <a:pt x="669" y="1598"/>
                </a:lnTo>
                <a:lnTo>
                  <a:pt x="669" y="1584"/>
                </a:lnTo>
                <a:lnTo>
                  <a:pt x="676" y="1577"/>
                </a:lnTo>
                <a:lnTo>
                  <a:pt x="676" y="1570"/>
                </a:lnTo>
                <a:lnTo>
                  <a:pt x="676" y="1563"/>
                </a:lnTo>
                <a:lnTo>
                  <a:pt x="676" y="1550"/>
                </a:lnTo>
                <a:lnTo>
                  <a:pt x="676" y="1543"/>
                </a:lnTo>
                <a:lnTo>
                  <a:pt x="676" y="1529"/>
                </a:lnTo>
                <a:lnTo>
                  <a:pt x="683" y="1522"/>
                </a:lnTo>
                <a:lnTo>
                  <a:pt x="683" y="1522"/>
                </a:lnTo>
                <a:lnTo>
                  <a:pt x="690" y="1515"/>
                </a:lnTo>
                <a:lnTo>
                  <a:pt x="703" y="1508"/>
                </a:lnTo>
                <a:lnTo>
                  <a:pt x="710" y="1508"/>
                </a:lnTo>
                <a:lnTo>
                  <a:pt x="717" y="1501"/>
                </a:lnTo>
                <a:lnTo>
                  <a:pt x="717" y="1495"/>
                </a:lnTo>
                <a:lnTo>
                  <a:pt x="724" y="1488"/>
                </a:lnTo>
                <a:lnTo>
                  <a:pt x="724" y="1481"/>
                </a:lnTo>
                <a:lnTo>
                  <a:pt x="731" y="1474"/>
                </a:lnTo>
                <a:lnTo>
                  <a:pt x="738" y="1467"/>
                </a:lnTo>
                <a:lnTo>
                  <a:pt x="738" y="1481"/>
                </a:lnTo>
                <a:lnTo>
                  <a:pt x="745" y="1488"/>
                </a:lnTo>
                <a:lnTo>
                  <a:pt x="745" y="1495"/>
                </a:lnTo>
                <a:lnTo>
                  <a:pt x="745" y="1501"/>
                </a:lnTo>
                <a:lnTo>
                  <a:pt x="752" y="1508"/>
                </a:lnTo>
                <a:lnTo>
                  <a:pt x="759" y="1508"/>
                </a:lnTo>
                <a:lnTo>
                  <a:pt x="766" y="1515"/>
                </a:lnTo>
                <a:lnTo>
                  <a:pt x="772" y="1522"/>
                </a:lnTo>
                <a:lnTo>
                  <a:pt x="779" y="1529"/>
                </a:lnTo>
                <a:lnTo>
                  <a:pt x="779" y="1536"/>
                </a:lnTo>
                <a:lnTo>
                  <a:pt x="779" y="1543"/>
                </a:lnTo>
                <a:lnTo>
                  <a:pt x="779" y="1557"/>
                </a:lnTo>
                <a:lnTo>
                  <a:pt x="779" y="1563"/>
                </a:lnTo>
                <a:lnTo>
                  <a:pt x="779" y="1570"/>
                </a:lnTo>
                <a:lnTo>
                  <a:pt x="779" y="1584"/>
                </a:lnTo>
                <a:lnTo>
                  <a:pt x="779" y="1591"/>
                </a:lnTo>
                <a:lnTo>
                  <a:pt x="779" y="1598"/>
                </a:lnTo>
                <a:lnTo>
                  <a:pt x="779" y="1612"/>
                </a:lnTo>
                <a:lnTo>
                  <a:pt x="779" y="1619"/>
                </a:lnTo>
                <a:lnTo>
                  <a:pt x="779" y="1632"/>
                </a:lnTo>
                <a:lnTo>
                  <a:pt x="786" y="1639"/>
                </a:lnTo>
                <a:lnTo>
                  <a:pt x="786" y="1646"/>
                </a:lnTo>
                <a:lnTo>
                  <a:pt x="786" y="1660"/>
                </a:lnTo>
                <a:lnTo>
                  <a:pt x="786" y="1667"/>
                </a:lnTo>
                <a:lnTo>
                  <a:pt x="786" y="1674"/>
                </a:lnTo>
                <a:lnTo>
                  <a:pt x="786" y="1687"/>
                </a:lnTo>
                <a:lnTo>
                  <a:pt x="786" y="1694"/>
                </a:lnTo>
                <a:lnTo>
                  <a:pt x="793" y="1708"/>
                </a:lnTo>
                <a:lnTo>
                  <a:pt x="793" y="1715"/>
                </a:lnTo>
                <a:lnTo>
                  <a:pt x="800" y="1722"/>
                </a:lnTo>
                <a:lnTo>
                  <a:pt x="800" y="1722"/>
                </a:lnTo>
                <a:lnTo>
                  <a:pt x="807" y="1715"/>
                </a:lnTo>
                <a:lnTo>
                  <a:pt x="821" y="1715"/>
                </a:lnTo>
                <a:lnTo>
                  <a:pt x="828" y="1708"/>
                </a:lnTo>
                <a:lnTo>
                  <a:pt x="834" y="1701"/>
                </a:lnTo>
                <a:lnTo>
                  <a:pt x="841" y="1694"/>
                </a:lnTo>
                <a:lnTo>
                  <a:pt x="848" y="1694"/>
                </a:lnTo>
                <a:lnTo>
                  <a:pt x="855" y="1694"/>
                </a:lnTo>
                <a:lnTo>
                  <a:pt x="862" y="1694"/>
                </a:lnTo>
                <a:lnTo>
                  <a:pt x="862" y="1701"/>
                </a:lnTo>
                <a:lnTo>
                  <a:pt x="869" y="1715"/>
                </a:lnTo>
                <a:lnTo>
                  <a:pt x="869" y="1722"/>
                </a:lnTo>
                <a:lnTo>
                  <a:pt x="869" y="1736"/>
                </a:lnTo>
                <a:lnTo>
                  <a:pt x="869" y="1743"/>
                </a:lnTo>
                <a:lnTo>
                  <a:pt x="869" y="1749"/>
                </a:lnTo>
                <a:lnTo>
                  <a:pt x="876" y="1756"/>
                </a:lnTo>
                <a:lnTo>
                  <a:pt x="883" y="1763"/>
                </a:lnTo>
                <a:lnTo>
                  <a:pt x="890" y="1770"/>
                </a:lnTo>
                <a:lnTo>
                  <a:pt x="897" y="1770"/>
                </a:lnTo>
                <a:lnTo>
                  <a:pt x="903" y="1763"/>
                </a:lnTo>
                <a:lnTo>
                  <a:pt x="910" y="1763"/>
                </a:lnTo>
                <a:lnTo>
                  <a:pt x="917" y="1756"/>
                </a:lnTo>
                <a:lnTo>
                  <a:pt x="924" y="1763"/>
                </a:lnTo>
                <a:lnTo>
                  <a:pt x="931" y="1763"/>
                </a:lnTo>
                <a:lnTo>
                  <a:pt x="938" y="1770"/>
                </a:lnTo>
                <a:lnTo>
                  <a:pt x="938" y="1777"/>
                </a:lnTo>
                <a:lnTo>
                  <a:pt x="945" y="1784"/>
                </a:lnTo>
                <a:lnTo>
                  <a:pt x="952" y="1798"/>
                </a:lnTo>
                <a:lnTo>
                  <a:pt x="952" y="1805"/>
                </a:lnTo>
                <a:lnTo>
                  <a:pt x="959" y="1811"/>
                </a:lnTo>
                <a:lnTo>
                  <a:pt x="959" y="1818"/>
                </a:lnTo>
                <a:lnTo>
                  <a:pt x="966" y="1825"/>
                </a:lnTo>
                <a:lnTo>
                  <a:pt x="972" y="1832"/>
                </a:lnTo>
                <a:lnTo>
                  <a:pt x="972" y="1839"/>
                </a:lnTo>
                <a:lnTo>
                  <a:pt x="972" y="1846"/>
                </a:lnTo>
                <a:lnTo>
                  <a:pt x="966" y="1853"/>
                </a:lnTo>
                <a:lnTo>
                  <a:pt x="959" y="1860"/>
                </a:lnTo>
                <a:lnTo>
                  <a:pt x="952" y="1860"/>
                </a:lnTo>
                <a:lnTo>
                  <a:pt x="945" y="1860"/>
                </a:lnTo>
                <a:lnTo>
                  <a:pt x="938" y="1860"/>
                </a:lnTo>
                <a:lnTo>
                  <a:pt x="931" y="1860"/>
                </a:lnTo>
                <a:lnTo>
                  <a:pt x="924" y="1853"/>
                </a:lnTo>
                <a:lnTo>
                  <a:pt x="917" y="1853"/>
                </a:lnTo>
                <a:lnTo>
                  <a:pt x="910" y="1846"/>
                </a:lnTo>
                <a:close/>
                <a:moveTo>
                  <a:pt x="435" y="1811"/>
                </a:moveTo>
                <a:lnTo>
                  <a:pt x="448" y="1784"/>
                </a:lnTo>
                <a:lnTo>
                  <a:pt x="421" y="1784"/>
                </a:lnTo>
                <a:lnTo>
                  <a:pt x="421" y="1811"/>
                </a:lnTo>
                <a:lnTo>
                  <a:pt x="421" y="1832"/>
                </a:lnTo>
                <a:lnTo>
                  <a:pt x="435" y="1811"/>
                </a:lnTo>
                <a:close/>
                <a:moveTo>
                  <a:pt x="469" y="1749"/>
                </a:moveTo>
                <a:lnTo>
                  <a:pt x="483" y="1722"/>
                </a:lnTo>
                <a:lnTo>
                  <a:pt x="455" y="1722"/>
                </a:lnTo>
                <a:lnTo>
                  <a:pt x="455" y="1749"/>
                </a:lnTo>
                <a:lnTo>
                  <a:pt x="455" y="1777"/>
                </a:lnTo>
                <a:lnTo>
                  <a:pt x="469" y="1749"/>
                </a:lnTo>
                <a:close/>
                <a:moveTo>
                  <a:pt x="1076" y="1722"/>
                </a:moveTo>
                <a:lnTo>
                  <a:pt x="1076" y="1715"/>
                </a:lnTo>
                <a:lnTo>
                  <a:pt x="1076" y="1715"/>
                </a:lnTo>
                <a:lnTo>
                  <a:pt x="1076" y="1715"/>
                </a:lnTo>
                <a:lnTo>
                  <a:pt x="1076" y="1715"/>
                </a:lnTo>
                <a:lnTo>
                  <a:pt x="1076" y="1722"/>
                </a:lnTo>
                <a:lnTo>
                  <a:pt x="1083" y="1722"/>
                </a:lnTo>
                <a:lnTo>
                  <a:pt x="1076" y="1722"/>
                </a:lnTo>
                <a:lnTo>
                  <a:pt x="1076" y="1722"/>
                </a:lnTo>
                <a:lnTo>
                  <a:pt x="1076" y="1722"/>
                </a:lnTo>
                <a:lnTo>
                  <a:pt x="1076" y="1722"/>
                </a:lnTo>
                <a:lnTo>
                  <a:pt x="1076" y="1722"/>
                </a:lnTo>
                <a:lnTo>
                  <a:pt x="1076" y="1722"/>
                </a:lnTo>
                <a:lnTo>
                  <a:pt x="1076" y="1722"/>
                </a:lnTo>
                <a:lnTo>
                  <a:pt x="1076" y="1722"/>
                </a:lnTo>
                <a:close/>
                <a:moveTo>
                  <a:pt x="1820" y="1653"/>
                </a:moveTo>
                <a:lnTo>
                  <a:pt x="1827" y="1653"/>
                </a:lnTo>
                <a:lnTo>
                  <a:pt x="1834" y="1646"/>
                </a:lnTo>
                <a:lnTo>
                  <a:pt x="1841" y="1639"/>
                </a:lnTo>
                <a:lnTo>
                  <a:pt x="1841" y="1639"/>
                </a:lnTo>
                <a:lnTo>
                  <a:pt x="1848" y="1632"/>
                </a:lnTo>
                <a:lnTo>
                  <a:pt x="1855" y="1625"/>
                </a:lnTo>
                <a:lnTo>
                  <a:pt x="1855" y="1619"/>
                </a:lnTo>
                <a:lnTo>
                  <a:pt x="1862" y="1612"/>
                </a:lnTo>
                <a:lnTo>
                  <a:pt x="1869" y="1612"/>
                </a:lnTo>
                <a:lnTo>
                  <a:pt x="1876" y="1605"/>
                </a:lnTo>
                <a:lnTo>
                  <a:pt x="1876" y="1598"/>
                </a:lnTo>
                <a:lnTo>
                  <a:pt x="1883" y="1591"/>
                </a:lnTo>
                <a:lnTo>
                  <a:pt x="1889" y="1584"/>
                </a:lnTo>
                <a:lnTo>
                  <a:pt x="1896" y="1584"/>
                </a:lnTo>
                <a:lnTo>
                  <a:pt x="1896" y="1577"/>
                </a:lnTo>
                <a:lnTo>
                  <a:pt x="1903" y="1570"/>
                </a:lnTo>
                <a:lnTo>
                  <a:pt x="1910" y="1563"/>
                </a:lnTo>
                <a:lnTo>
                  <a:pt x="1910" y="1557"/>
                </a:lnTo>
                <a:lnTo>
                  <a:pt x="1917" y="1550"/>
                </a:lnTo>
                <a:lnTo>
                  <a:pt x="1924" y="1550"/>
                </a:lnTo>
                <a:lnTo>
                  <a:pt x="1931" y="1550"/>
                </a:lnTo>
                <a:lnTo>
                  <a:pt x="1938" y="1543"/>
                </a:lnTo>
                <a:lnTo>
                  <a:pt x="1945" y="1550"/>
                </a:lnTo>
                <a:lnTo>
                  <a:pt x="1951" y="1550"/>
                </a:lnTo>
                <a:lnTo>
                  <a:pt x="1958" y="1550"/>
                </a:lnTo>
                <a:lnTo>
                  <a:pt x="1965" y="1550"/>
                </a:lnTo>
                <a:lnTo>
                  <a:pt x="1972" y="1550"/>
                </a:lnTo>
                <a:lnTo>
                  <a:pt x="1979" y="1550"/>
                </a:lnTo>
                <a:lnTo>
                  <a:pt x="1986" y="1550"/>
                </a:lnTo>
                <a:lnTo>
                  <a:pt x="1993" y="1557"/>
                </a:lnTo>
                <a:lnTo>
                  <a:pt x="1993" y="1557"/>
                </a:lnTo>
                <a:lnTo>
                  <a:pt x="2000" y="1557"/>
                </a:lnTo>
                <a:lnTo>
                  <a:pt x="2007" y="1557"/>
                </a:lnTo>
                <a:lnTo>
                  <a:pt x="2014" y="1557"/>
                </a:lnTo>
                <a:lnTo>
                  <a:pt x="2020" y="1557"/>
                </a:lnTo>
                <a:lnTo>
                  <a:pt x="2027" y="1557"/>
                </a:lnTo>
                <a:lnTo>
                  <a:pt x="2034" y="1557"/>
                </a:lnTo>
                <a:lnTo>
                  <a:pt x="2041" y="1563"/>
                </a:lnTo>
                <a:lnTo>
                  <a:pt x="2048" y="1563"/>
                </a:lnTo>
                <a:lnTo>
                  <a:pt x="2055" y="1563"/>
                </a:lnTo>
                <a:lnTo>
                  <a:pt x="2048" y="1570"/>
                </a:lnTo>
                <a:lnTo>
                  <a:pt x="2048" y="1584"/>
                </a:lnTo>
                <a:lnTo>
                  <a:pt x="2048" y="1591"/>
                </a:lnTo>
                <a:lnTo>
                  <a:pt x="2048" y="1598"/>
                </a:lnTo>
                <a:lnTo>
                  <a:pt x="2041" y="1605"/>
                </a:lnTo>
                <a:lnTo>
                  <a:pt x="2041" y="1612"/>
                </a:lnTo>
                <a:lnTo>
                  <a:pt x="2041" y="1619"/>
                </a:lnTo>
                <a:lnTo>
                  <a:pt x="2034" y="1632"/>
                </a:lnTo>
                <a:lnTo>
                  <a:pt x="2034" y="1639"/>
                </a:lnTo>
                <a:lnTo>
                  <a:pt x="2034" y="1646"/>
                </a:lnTo>
                <a:lnTo>
                  <a:pt x="2027" y="1653"/>
                </a:lnTo>
                <a:lnTo>
                  <a:pt x="2020" y="1660"/>
                </a:lnTo>
                <a:lnTo>
                  <a:pt x="2014" y="1653"/>
                </a:lnTo>
                <a:lnTo>
                  <a:pt x="2014" y="1653"/>
                </a:lnTo>
                <a:lnTo>
                  <a:pt x="2007" y="1646"/>
                </a:lnTo>
                <a:lnTo>
                  <a:pt x="2000" y="1646"/>
                </a:lnTo>
                <a:lnTo>
                  <a:pt x="1993" y="1639"/>
                </a:lnTo>
                <a:lnTo>
                  <a:pt x="1986" y="1639"/>
                </a:lnTo>
                <a:lnTo>
                  <a:pt x="1979" y="1632"/>
                </a:lnTo>
                <a:lnTo>
                  <a:pt x="1972" y="1632"/>
                </a:lnTo>
                <a:lnTo>
                  <a:pt x="1972" y="1625"/>
                </a:lnTo>
                <a:lnTo>
                  <a:pt x="1965" y="1619"/>
                </a:lnTo>
                <a:lnTo>
                  <a:pt x="1958" y="1619"/>
                </a:lnTo>
                <a:lnTo>
                  <a:pt x="1951" y="1612"/>
                </a:lnTo>
                <a:lnTo>
                  <a:pt x="1945" y="1612"/>
                </a:lnTo>
                <a:lnTo>
                  <a:pt x="1938" y="1605"/>
                </a:lnTo>
                <a:lnTo>
                  <a:pt x="1931" y="1605"/>
                </a:lnTo>
                <a:lnTo>
                  <a:pt x="1924" y="1598"/>
                </a:lnTo>
                <a:lnTo>
                  <a:pt x="1924" y="1605"/>
                </a:lnTo>
                <a:lnTo>
                  <a:pt x="1917" y="1605"/>
                </a:lnTo>
                <a:lnTo>
                  <a:pt x="1910" y="1612"/>
                </a:lnTo>
                <a:lnTo>
                  <a:pt x="1903" y="1619"/>
                </a:lnTo>
                <a:lnTo>
                  <a:pt x="1896" y="1619"/>
                </a:lnTo>
                <a:lnTo>
                  <a:pt x="1889" y="1625"/>
                </a:lnTo>
                <a:lnTo>
                  <a:pt x="1889" y="1632"/>
                </a:lnTo>
                <a:lnTo>
                  <a:pt x="1883" y="1632"/>
                </a:lnTo>
                <a:lnTo>
                  <a:pt x="1876" y="1639"/>
                </a:lnTo>
                <a:lnTo>
                  <a:pt x="1869" y="1639"/>
                </a:lnTo>
                <a:lnTo>
                  <a:pt x="1862" y="1646"/>
                </a:lnTo>
                <a:lnTo>
                  <a:pt x="1855" y="1646"/>
                </a:lnTo>
                <a:lnTo>
                  <a:pt x="1848" y="1653"/>
                </a:lnTo>
                <a:lnTo>
                  <a:pt x="1848" y="1653"/>
                </a:lnTo>
                <a:lnTo>
                  <a:pt x="1841" y="1660"/>
                </a:lnTo>
                <a:lnTo>
                  <a:pt x="1834" y="1667"/>
                </a:lnTo>
                <a:lnTo>
                  <a:pt x="1827" y="1660"/>
                </a:lnTo>
                <a:lnTo>
                  <a:pt x="1820" y="1653"/>
                </a:lnTo>
                <a:close/>
                <a:moveTo>
                  <a:pt x="669" y="1467"/>
                </a:moveTo>
                <a:lnTo>
                  <a:pt x="669" y="1467"/>
                </a:lnTo>
                <a:lnTo>
                  <a:pt x="669" y="1460"/>
                </a:lnTo>
                <a:lnTo>
                  <a:pt x="676" y="1460"/>
                </a:lnTo>
                <a:lnTo>
                  <a:pt x="676" y="1467"/>
                </a:lnTo>
                <a:lnTo>
                  <a:pt x="683" y="1467"/>
                </a:lnTo>
                <a:lnTo>
                  <a:pt x="683" y="1474"/>
                </a:lnTo>
                <a:lnTo>
                  <a:pt x="676" y="1481"/>
                </a:lnTo>
                <a:lnTo>
                  <a:pt x="676" y="1481"/>
                </a:lnTo>
                <a:lnTo>
                  <a:pt x="676" y="1488"/>
                </a:lnTo>
                <a:lnTo>
                  <a:pt x="669" y="1488"/>
                </a:lnTo>
                <a:lnTo>
                  <a:pt x="669" y="1488"/>
                </a:lnTo>
                <a:lnTo>
                  <a:pt x="669" y="1481"/>
                </a:lnTo>
                <a:lnTo>
                  <a:pt x="669" y="1474"/>
                </a:lnTo>
                <a:lnTo>
                  <a:pt x="669" y="1467"/>
                </a:lnTo>
                <a:close/>
                <a:moveTo>
                  <a:pt x="1014" y="937"/>
                </a:moveTo>
                <a:lnTo>
                  <a:pt x="1007" y="930"/>
                </a:lnTo>
                <a:lnTo>
                  <a:pt x="1007" y="916"/>
                </a:lnTo>
                <a:lnTo>
                  <a:pt x="1000" y="909"/>
                </a:lnTo>
                <a:lnTo>
                  <a:pt x="993" y="909"/>
                </a:lnTo>
                <a:lnTo>
                  <a:pt x="986" y="902"/>
                </a:lnTo>
                <a:lnTo>
                  <a:pt x="979" y="902"/>
                </a:lnTo>
                <a:lnTo>
                  <a:pt x="979" y="895"/>
                </a:lnTo>
                <a:lnTo>
                  <a:pt x="972" y="888"/>
                </a:lnTo>
                <a:lnTo>
                  <a:pt x="966" y="875"/>
                </a:lnTo>
                <a:lnTo>
                  <a:pt x="966" y="868"/>
                </a:lnTo>
                <a:lnTo>
                  <a:pt x="959" y="861"/>
                </a:lnTo>
                <a:lnTo>
                  <a:pt x="952" y="854"/>
                </a:lnTo>
                <a:lnTo>
                  <a:pt x="952" y="847"/>
                </a:lnTo>
                <a:lnTo>
                  <a:pt x="945" y="840"/>
                </a:lnTo>
                <a:lnTo>
                  <a:pt x="945" y="833"/>
                </a:lnTo>
                <a:lnTo>
                  <a:pt x="938" y="826"/>
                </a:lnTo>
                <a:lnTo>
                  <a:pt x="938" y="819"/>
                </a:lnTo>
                <a:lnTo>
                  <a:pt x="938" y="806"/>
                </a:lnTo>
                <a:lnTo>
                  <a:pt x="938" y="799"/>
                </a:lnTo>
                <a:lnTo>
                  <a:pt x="945" y="792"/>
                </a:lnTo>
                <a:lnTo>
                  <a:pt x="945" y="785"/>
                </a:lnTo>
                <a:lnTo>
                  <a:pt x="952" y="771"/>
                </a:lnTo>
                <a:lnTo>
                  <a:pt x="952" y="764"/>
                </a:lnTo>
                <a:lnTo>
                  <a:pt x="959" y="758"/>
                </a:lnTo>
                <a:lnTo>
                  <a:pt x="959" y="751"/>
                </a:lnTo>
                <a:lnTo>
                  <a:pt x="966" y="744"/>
                </a:lnTo>
                <a:lnTo>
                  <a:pt x="966" y="737"/>
                </a:lnTo>
                <a:lnTo>
                  <a:pt x="972" y="730"/>
                </a:lnTo>
                <a:lnTo>
                  <a:pt x="972" y="716"/>
                </a:lnTo>
                <a:lnTo>
                  <a:pt x="972" y="709"/>
                </a:lnTo>
                <a:lnTo>
                  <a:pt x="979" y="702"/>
                </a:lnTo>
                <a:lnTo>
                  <a:pt x="979" y="696"/>
                </a:lnTo>
                <a:lnTo>
                  <a:pt x="979" y="682"/>
                </a:lnTo>
                <a:lnTo>
                  <a:pt x="979" y="675"/>
                </a:lnTo>
                <a:lnTo>
                  <a:pt x="986" y="668"/>
                </a:lnTo>
                <a:lnTo>
                  <a:pt x="986" y="661"/>
                </a:lnTo>
                <a:lnTo>
                  <a:pt x="993" y="661"/>
                </a:lnTo>
                <a:lnTo>
                  <a:pt x="1000" y="661"/>
                </a:lnTo>
                <a:lnTo>
                  <a:pt x="1014" y="668"/>
                </a:lnTo>
                <a:lnTo>
                  <a:pt x="1021" y="668"/>
                </a:lnTo>
                <a:lnTo>
                  <a:pt x="1028" y="668"/>
                </a:lnTo>
                <a:lnTo>
                  <a:pt x="1034" y="668"/>
                </a:lnTo>
                <a:lnTo>
                  <a:pt x="1041" y="668"/>
                </a:lnTo>
                <a:lnTo>
                  <a:pt x="1048" y="668"/>
                </a:lnTo>
                <a:lnTo>
                  <a:pt x="1055" y="675"/>
                </a:lnTo>
                <a:lnTo>
                  <a:pt x="1062" y="675"/>
                </a:lnTo>
                <a:lnTo>
                  <a:pt x="1069" y="675"/>
                </a:lnTo>
                <a:lnTo>
                  <a:pt x="1076" y="675"/>
                </a:lnTo>
                <a:lnTo>
                  <a:pt x="1083" y="675"/>
                </a:lnTo>
                <a:lnTo>
                  <a:pt x="1090" y="682"/>
                </a:lnTo>
                <a:lnTo>
                  <a:pt x="1097" y="682"/>
                </a:lnTo>
                <a:lnTo>
                  <a:pt x="1103" y="689"/>
                </a:lnTo>
                <a:lnTo>
                  <a:pt x="1103" y="696"/>
                </a:lnTo>
                <a:lnTo>
                  <a:pt x="1103" y="709"/>
                </a:lnTo>
                <a:lnTo>
                  <a:pt x="1103" y="716"/>
                </a:lnTo>
                <a:lnTo>
                  <a:pt x="1103" y="723"/>
                </a:lnTo>
                <a:lnTo>
                  <a:pt x="1103" y="737"/>
                </a:lnTo>
                <a:lnTo>
                  <a:pt x="1103" y="744"/>
                </a:lnTo>
                <a:lnTo>
                  <a:pt x="1103" y="751"/>
                </a:lnTo>
                <a:lnTo>
                  <a:pt x="1103" y="764"/>
                </a:lnTo>
                <a:lnTo>
                  <a:pt x="1103" y="771"/>
                </a:lnTo>
                <a:lnTo>
                  <a:pt x="1103" y="778"/>
                </a:lnTo>
                <a:lnTo>
                  <a:pt x="1103" y="792"/>
                </a:lnTo>
                <a:lnTo>
                  <a:pt x="1103" y="799"/>
                </a:lnTo>
                <a:lnTo>
                  <a:pt x="1103" y="806"/>
                </a:lnTo>
                <a:lnTo>
                  <a:pt x="1097" y="813"/>
                </a:lnTo>
                <a:lnTo>
                  <a:pt x="1097" y="826"/>
                </a:lnTo>
                <a:lnTo>
                  <a:pt x="1090" y="833"/>
                </a:lnTo>
                <a:lnTo>
                  <a:pt x="1090" y="840"/>
                </a:lnTo>
                <a:lnTo>
                  <a:pt x="1083" y="847"/>
                </a:lnTo>
                <a:lnTo>
                  <a:pt x="1083" y="854"/>
                </a:lnTo>
                <a:lnTo>
                  <a:pt x="1076" y="861"/>
                </a:lnTo>
                <a:lnTo>
                  <a:pt x="1069" y="868"/>
                </a:lnTo>
                <a:lnTo>
                  <a:pt x="1069" y="875"/>
                </a:lnTo>
                <a:lnTo>
                  <a:pt x="1062" y="881"/>
                </a:lnTo>
                <a:lnTo>
                  <a:pt x="1062" y="888"/>
                </a:lnTo>
                <a:lnTo>
                  <a:pt x="1055" y="895"/>
                </a:lnTo>
                <a:lnTo>
                  <a:pt x="1048" y="909"/>
                </a:lnTo>
                <a:lnTo>
                  <a:pt x="1048" y="916"/>
                </a:lnTo>
                <a:lnTo>
                  <a:pt x="1041" y="923"/>
                </a:lnTo>
                <a:lnTo>
                  <a:pt x="1041" y="930"/>
                </a:lnTo>
                <a:lnTo>
                  <a:pt x="1034" y="937"/>
                </a:lnTo>
                <a:lnTo>
                  <a:pt x="1028" y="943"/>
                </a:lnTo>
                <a:lnTo>
                  <a:pt x="1021" y="943"/>
                </a:lnTo>
                <a:lnTo>
                  <a:pt x="1014" y="943"/>
                </a:lnTo>
                <a:lnTo>
                  <a:pt x="1014" y="937"/>
                </a:lnTo>
                <a:close/>
                <a:moveTo>
                  <a:pt x="517" y="3031"/>
                </a:moveTo>
                <a:lnTo>
                  <a:pt x="545" y="3003"/>
                </a:lnTo>
                <a:lnTo>
                  <a:pt x="579" y="3003"/>
                </a:lnTo>
                <a:lnTo>
                  <a:pt x="607" y="2969"/>
                </a:lnTo>
                <a:lnTo>
                  <a:pt x="641" y="2941"/>
                </a:lnTo>
                <a:lnTo>
                  <a:pt x="669" y="2907"/>
                </a:lnTo>
                <a:lnTo>
                  <a:pt x="703" y="2907"/>
                </a:lnTo>
                <a:lnTo>
                  <a:pt x="731" y="2879"/>
                </a:lnTo>
                <a:lnTo>
                  <a:pt x="766" y="2845"/>
                </a:lnTo>
                <a:lnTo>
                  <a:pt x="800" y="2845"/>
                </a:lnTo>
                <a:lnTo>
                  <a:pt x="828" y="2817"/>
                </a:lnTo>
                <a:lnTo>
                  <a:pt x="862" y="2783"/>
                </a:lnTo>
                <a:lnTo>
                  <a:pt x="890" y="2783"/>
                </a:lnTo>
                <a:lnTo>
                  <a:pt x="924" y="2748"/>
                </a:lnTo>
                <a:lnTo>
                  <a:pt x="952" y="2721"/>
                </a:lnTo>
                <a:lnTo>
                  <a:pt x="986" y="2686"/>
                </a:lnTo>
                <a:lnTo>
                  <a:pt x="1014" y="2686"/>
                </a:lnTo>
                <a:lnTo>
                  <a:pt x="1048" y="2659"/>
                </a:lnTo>
                <a:lnTo>
                  <a:pt x="1076" y="2624"/>
                </a:lnTo>
                <a:lnTo>
                  <a:pt x="1110" y="2624"/>
                </a:lnTo>
                <a:lnTo>
                  <a:pt x="1145" y="2597"/>
                </a:lnTo>
                <a:lnTo>
                  <a:pt x="1172" y="2562"/>
                </a:lnTo>
                <a:lnTo>
                  <a:pt x="1207" y="2535"/>
                </a:lnTo>
                <a:lnTo>
                  <a:pt x="1234" y="2535"/>
                </a:lnTo>
                <a:lnTo>
                  <a:pt x="1269" y="2500"/>
                </a:lnTo>
                <a:lnTo>
                  <a:pt x="1296" y="2473"/>
                </a:lnTo>
                <a:lnTo>
                  <a:pt x="1331" y="2473"/>
                </a:lnTo>
                <a:lnTo>
                  <a:pt x="1359" y="2438"/>
                </a:lnTo>
                <a:lnTo>
                  <a:pt x="1393" y="2404"/>
                </a:lnTo>
                <a:lnTo>
                  <a:pt x="1421" y="2376"/>
                </a:lnTo>
                <a:lnTo>
                  <a:pt x="1455" y="2376"/>
                </a:lnTo>
                <a:lnTo>
                  <a:pt x="1483" y="2342"/>
                </a:lnTo>
                <a:lnTo>
                  <a:pt x="1517" y="2314"/>
                </a:lnTo>
                <a:lnTo>
                  <a:pt x="1552" y="2314"/>
                </a:lnTo>
                <a:lnTo>
                  <a:pt x="1579" y="2280"/>
                </a:lnTo>
                <a:lnTo>
                  <a:pt x="1614" y="2252"/>
                </a:lnTo>
                <a:lnTo>
                  <a:pt x="1641" y="2218"/>
                </a:lnTo>
                <a:lnTo>
                  <a:pt x="1676" y="2218"/>
                </a:lnTo>
                <a:lnTo>
                  <a:pt x="1703" y="2190"/>
                </a:lnTo>
                <a:lnTo>
                  <a:pt x="1738" y="2156"/>
                </a:lnTo>
                <a:lnTo>
                  <a:pt x="1765" y="2156"/>
                </a:lnTo>
                <a:lnTo>
                  <a:pt x="1800" y="2128"/>
                </a:lnTo>
                <a:lnTo>
                  <a:pt x="1827" y="2094"/>
                </a:lnTo>
                <a:lnTo>
                  <a:pt x="1862" y="2059"/>
                </a:lnTo>
                <a:lnTo>
                  <a:pt x="1896" y="2059"/>
                </a:lnTo>
                <a:lnTo>
                  <a:pt x="1896" y="2032"/>
                </a:lnTo>
                <a:lnTo>
                  <a:pt x="1924" y="1997"/>
                </a:lnTo>
                <a:lnTo>
                  <a:pt x="1958" y="1970"/>
                </a:lnTo>
                <a:lnTo>
                  <a:pt x="1958" y="1935"/>
                </a:lnTo>
                <a:lnTo>
                  <a:pt x="1986" y="1908"/>
                </a:lnTo>
                <a:lnTo>
                  <a:pt x="2020" y="1873"/>
                </a:lnTo>
                <a:lnTo>
                  <a:pt x="2020" y="1846"/>
                </a:lnTo>
                <a:lnTo>
                  <a:pt x="2048" y="1811"/>
                </a:lnTo>
                <a:lnTo>
                  <a:pt x="2082" y="1784"/>
                </a:lnTo>
                <a:lnTo>
                  <a:pt x="2082" y="1749"/>
                </a:lnTo>
                <a:lnTo>
                  <a:pt x="2082" y="1722"/>
                </a:lnTo>
                <a:lnTo>
                  <a:pt x="2110" y="1687"/>
                </a:lnTo>
                <a:lnTo>
                  <a:pt x="2110" y="1653"/>
                </a:lnTo>
                <a:lnTo>
                  <a:pt x="2110" y="1625"/>
                </a:lnTo>
                <a:lnTo>
                  <a:pt x="2145" y="1591"/>
                </a:lnTo>
                <a:lnTo>
                  <a:pt x="2145" y="1563"/>
                </a:lnTo>
                <a:lnTo>
                  <a:pt x="2145" y="1529"/>
                </a:lnTo>
                <a:lnTo>
                  <a:pt x="2145" y="1501"/>
                </a:lnTo>
                <a:lnTo>
                  <a:pt x="2172" y="1467"/>
                </a:lnTo>
                <a:lnTo>
                  <a:pt x="2172" y="1439"/>
                </a:lnTo>
                <a:lnTo>
                  <a:pt x="2172" y="1405"/>
                </a:lnTo>
                <a:lnTo>
                  <a:pt x="2172" y="1377"/>
                </a:lnTo>
                <a:lnTo>
                  <a:pt x="2172" y="1343"/>
                </a:lnTo>
                <a:lnTo>
                  <a:pt x="2172" y="1309"/>
                </a:lnTo>
                <a:lnTo>
                  <a:pt x="2172" y="1281"/>
                </a:lnTo>
                <a:lnTo>
                  <a:pt x="2207" y="1247"/>
                </a:lnTo>
                <a:lnTo>
                  <a:pt x="2207" y="1219"/>
                </a:lnTo>
                <a:lnTo>
                  <a:pt x="2207" y="1185"/>
                </a:lnTo>
                <a:lnTo>
                  <a:pt x="2207" y="1157"/>
                </a:lnTo>
                <a:lnTo>
                  <a:pt x="2207" y="1123"/>
                </a:lnTo>
                <a:lnTo>
                  <a:pt x="2207" y="1095"/>
                </a:lnTo>
                <a:lnTo>
                  <a:pt x="2207" y="1061"/>
                </a:lnTo>
                <a:lnTo>
                  <a:pt x="2241" y="1033"/>
                </a:lnTo>
                <a:lnTo>
                  <a:pt x="2241" y="999"/>
                </a:lnTo>
                <a:lnTo>
                  <a:pt x="2241" y="964"/>
                </a:lnTo>
                <a:lnTo>
                  <a:pt x="2241" y="937"/>
                </a:lnTo>
                <a:lnTo>
                  <a:pt x="2241" y="902"/>
                </a:lnTo>
                <a:lnTo>
                  <a:pt x="2241" y="875"/>
                </a:lnTo>
                <a:lnTo>
                  <a:pt x="2241" y="840"/>
                </a:lnTo>
                <a:lnTo>
                  <a:pt x="2269" y="813"/>
                </a:lnTo>
                <a:lnTo>
                  <a:pt x="2269" y="778"/>
                </a:lnTo>
                <a:lnTo>
                  <a:pt x="2269" y="751"/>
                </a:lnTo>
                <a:lnTo>
                  <a:pt x="2269" y="716"/>
                </a:lnTo>
                <a:lnTo>
                  <a:pt x="2269" y="689"/>
                </a:lnTo>
                <a:lnTo>
                  <a:pt x="2269" y="654"/>
                </a:lnTo>
                <a:lnTo>
                  <a:pt x="2269" y="627"/>
                </a:lnTo>
                <a:lnTo>
                  <a:pt x="2303" y="592"/>
                </a:lnTo>
                <a:lnTo>
                  <a:pt x="2303" y="558"/>
                </a:lnTo>
                <a:lnTo>
                  <a:pt x="2303" y="530"/>
                </a:lnTo>
                <a:lnTo>
                  <a:pt x="2303" y="496"/>
                </a:lnTo>
                <a:lnTo>
                  <a:pt x="2303" y="468"/>
                </a:lnTo>
                <a:lnTo>
                  <a:pt x="2303" y="434"/>
                </a:lnTo>
                <a:lnTo>
                  <a:pt x="2303" y="406"/>
                </a:lnTo>
                <a:lnTo>
                  <a:pt x="2331" y="372"/>
                </a:lnTo>
                <a:lnTo>
                  <a:pt x="2331" y="344"/>
                </a:lnTo>
                <a:lnTo>
                  <a:pt x="2331" y="310"/>
                </a:lnTo>
                <a:lnTo>
                  <a:pt x="2331" y="282"/>
                </a:lnTo>
                <a:lnTo>
                  <a:pt x="2331" y="248"/>
                </a:lnTo>
                <a:lnTo>
                  <a:pt x="2331" y="213"/>
                </a:lnTo>
                <a:lnTo>
                  <a:pt x="2331" y="186"/>
                </a:lnTo>
                <a:lnTo>
                  <a:pt x="2365" y="151"/>
                </a:lnTo>
                <a:lnTo>
                  <a:pt x="2365" y="124"/>
                </a:lnTo>
                <a:lnTo>
                  <a:pt x="2365" y="89"/>
                </a:lnTo>
                <a:lnTo>
                  <a:pt x="2365" y="62"/>
                </a:lnTo>
                <a:lnTo>
                  <a:pt x="2365" y="27"/>
                </a:lnTo>
                <a:lnTo>
                  <a:pt x="2365" y="0"/>
                </a:lnTo>
                <a:lnTo>
                  <a:pt x="2331" y="0"/>
                </a:lnTo>
                <a:lnTo>
                  <a:pt x="2303" y="0"/>
                </a:lnTo>
                <a:lnTo>
                  <a:pt x="2269" y="0"/>
                </a:lnTo>
                <a:lnTo>
                  <a:pt x="2241" y="0"/>
                </a:lnTo>
                <a:lnTo>
                  <a:pt x="2207" y="27"/>
                </a:lnTo>
                <a:lnTo>
                  <a:pt x="2172" y="27"/>
                </a:lnTo>
                <a:lnTo>
                  <a:pt x="2145" y="27"/>
                </a:lnTo>
                <a:lnTo>
                  <a:pt x="2110" y="62"/>
                </a:lnTo>
                <a:lnTo>
                  <a:pt x="2082" y="62"/>
                </a:lnTo>
                <a:lnTo>
                  <a:pt x="2048" y="89"/>
                </a:lnTo>
                <a:lnTo>
                  <a:pt x="2020" y="89"/>
                </a:lnTo>
                <a:lnTo>
                  <a:pt x="1986" y="89"/>
                </a:lnTo>
                <a:lnTo>
                  <a:pt x="1958" y="124"/>
                </a:lnTo>
                <a:lnTo>
                  <a:pt x="1924" y="124"/>
                </a:lnTo>
                <a:lnTo>
                  <a:pt x="1896" y="151"/>
                </a:lnTo>
                <a:lnTo>
                  <a:pt x="1862" y="151"/>
                </a:lnTo>
                <a:lnTo>
                  <a:pt x="1827" y="151"/>
                </a:lnTo>
                <a:lnTo>
                  <a:pt x="1800" y="186"/>
                </a:lnTo>
                <a:lnTo>
                  <a:pt x="1765" y="186"/>
                </a:lnTo>
                <a:lnTo>
                  <a:pt x="1738" y="213"/>
                </a:lnTo>
                <a:lnTo>
                  <a:pt x="1703" y="213"/>
                </a:lnTo>
                <a:lnTo>
                  <a:pt x="1676" y="213"/>
                </a:lnTo>
                <a:lnTo>
                  <a:pt x="1641" y="248"/>
                </a:lnTo>
                <a:lnTo>
                  <a:pt x="1614" y="248"/>
                </a:lnTo>
                <a:lnTo>
                  <a:pt x="1579" y="282"/>
                </a:lnTo>
                <a:lnTo>
                  <a:pt x="1552" y="282"/>
                </a:lnTo>
                <a:lnTo>
                  <a:pt x="1517" y="282"/>
                </a:lnTo>
                <a:lnTo>
                  <a:pt x="1483" y="310"/>
                </a:lnTo>
                <a:lnTo>
                  <a:pt x="1455" y="310"/>
                </a:lnTo>
                <a:lnTo>
                  <a:pt x="1421" y="344"/>
                </a:lnTo>
                <a:lnTo>
                  <a:pt x="1393" y="344"/>
                </a:lnTo>
                <a:lnTo>
                  <a:pt x="1359" y="344"/>
                </a:lnTo>
                <a:lnTo>
                  <a:pt x="1331" y="372"/>
                </a:lnTo>
                <a:lnTo>
                  <a:pt x="1296" y="372"/>
                </a:lnTo>
                <a:lnTo>
                  <a:pt x="1269" y="406"/>
                </a:lnTo>
                <a:lnTo>
                  <a:pt x="1234" y="406"/>
                </a:lnTo>
                <a:lnTo>
                  <a:pt x="1207" y="406"/>
                </a:lnTo>
                <a:lnTo>
                  <a:pt x="1172" y="434"/>
                </a:lnTo>
                <a:lnTo>
                  <a:pt x="1145" y="434"/>
                </a:lnTo>
                <a:lnTo>
                  <a:pt x="1110" y="468"/>
                </a:lnTo>
                <a:lnTo>
                  <a:pt x="1076" y="468"/>
                </a:lnTo>
                <a:lnTo>
                  <a:pt x="1048" y="468"/>
                </a:lnTo>
                <a:lnTo>
                  <a:pt x="1014" y="496"/>
                </a:lnTo>
                <a:lnTo>
                  <a:pt x="1014" y="530"/>
                </a:lnTo>
                <a:lnTo>
                  <a:pt x="986" y="558"/>
                </a:lnTo>
                <a:lnTo>
                  <a:pt x="986" y="592"/>
                </a:lnTo>
                <a:lnTo>
                  <a:pt x="952" y="627"/>
                </a:lnTo>
                <a:lnTo>
                  <a:pt x="952" y="654"/>
                </a:lnTo>
                <a:lnTo>
                  <a:pt x="924" y="689"/>
                </a:lnTo>
                <a:lnTo>
                  <a:pt x="924" y="716"/>
                </a:lnTo>
                <a:lnTo>
                  <a:pt x="890" y="751"/>
                </a:lnTo>
                <a:lnTo>
                  <a:pt x="890" y="778"/>
                </a:lnTo>
                <a:lnTo>
                  <a:pt x="862" y="813"/>
                </a:lnTo>
                <a:lnTo>
                  <a:pt x="862" y="840"/>
                </a:lnTo>
                <a:lnTo>
                  <a:pt x="862" y="875"/>
                </a:lnTo>
                <a:lnTo>
                  <a:pt x="828" y="902"/>
                </a:lnTo>
                <a:lnTo>
                  <a:pt x="828" y="937"/>
                </a:lnTo>
                <a:lnTo>
                  <a:pt x="800" y="964"/>
                </a:lnTo>
                <a:lnTo>
                  <a:pt x="800" y="999"/>
                </a:lnTo>
                <a:lnTo>
                  <a:pt x="766" y="1033"/>
                </a:lnTo>
                <a:lnTo>
                  <a:pt x="766" y="1061"/>
                </a:lnTo>
                <a:lnTo>
                  <a:pt x="731" y="1095"/>
                </a:lnTo>
                <a:lnTo>
                  <a:pt x="731" y="1123"/>
                </a:lnTo>
                <a:lnTo>
                  <a:pt x="703" y="1157"/>
                </a:lnTo>
                <a:lnTo>
                  <a:pt x="703" y="1185"/>
                </a:lnTo>
                <a:lnTo>
                  <a:pt x="669" y="1219"/>
                </a:lnTo>
                <a:lnTo>
                  <a:pt x="669" y="1247"/>
                </a:lnTo>
                <a:lnTo>
                  <a:pt x="669" y="1281"/>
                </a:lnTo>
                <a:lnTo>
                  <a:pt x="641" y="1309"/>
                </a:lnTo>
                <a:lnTo>
                  <a:pt x="641" y="1343"/>
                </a:lnTo>
                <a:lnTo>
                  <a:pt x="607" y="1377"/>
                </a:lnTo>
                <a:lnTo>
                  <a:pt x="607" y="1405"/>
                </a:lnTo>
                <a:lnTo>
                  <a:pt x="579" y="1439"/>
                </a:lnTo>
                <a:lnTo>
                  <a:pt x="579" y="1467"/>
                </a:lnTo>
                <a:lnTo>
                  <a:pt x="545" y="1501"/>
                </a:lnTo>
                <a:lnTo>
                  <a:pt x="545" y="1529"/>
                </a:lnTo>
                <a:lnTo>
                  <a:pt x="517" y="1563"/>
                </a:lnTo>
                <a:lnTo>
                  <a:pt x="517" y="1591"/>
                </a:lnTo>
                <a:lnTo>
                  <a:pt x="483" y="1625"/>
                </a:lnTo>
                <a:lnTo>
                  <a:pt x="483" y="1653"/>
                </a:lnTo>
                <a:lnTo>
                  <a:pt x="483" y="1687"/>
                </a:lnTo>
                <a:lnTo>
                  <a:pt x="455" y="1722"/>
                </a:lnTo>
                <a:lnTo>
                  <a:pt x="455" y="1749"/>
                </a:lnTo>
                <a:lnTo>
                  <a:pt x="421" y="1784"/>
                </a:lnTo>
                <a:lnTo>
                  <a:pt x="421" y="1811"/>
                </a:lnTo>
                <a:lnTo>
                  <a:pt x="393" y="1846"/>
                </a:lnTo>
                <a:lnTo>
                  <a:pt x="393" y="1873"/>
                </a:lnTo>
                <a:lnTo>
                  <a:pt x="359" y="1908"/>
                </a:lnTo>
                <a:lnTo>
                  <a:pt x="359" y="1935"/>
                </a:lnTo>
                <a:lnTo>
                  <a:pt x="324" y="1970"/>
                </a:lnTo>
                <a:lnTo>
                  <a:pt x="324" y="1997"/>
                </a:lnTo>
                <a:lnTo>
                  <a:pt x="297" y="2032"/>
                </a:lnTo>
                <a:lnTo>
                  <a:pt x="297" y="2059"/>
                </a:lnTo>
                <a:lnTo>
                  <a:pt x="297" y="2094"/>
                </a:lnTo>
                <a:lnTo>
                  <a:pt x="262" y="2128"/>
                </a:lnTo>
                <a:lnTo>
                  <a:pt x="262" y="2156"/>
                </a:lnTo>
                <a:lnTo>
                  <a:pt x="235" y="2190"/>
                </a:lnTo>
                <a:lnTo>
                  <a:pt x="235" y="2218"/>
                </a:lnTo>
                <a:lnTo>
                  <a:pt x="200" y="2252"/>
                </a:lnTo>
                <a:lnTo>
                  <a:pt x="200" y="2280"/>
                </a:lnTo>
                <a:lnTo>
                  <a:pt x="173" y="2314"/>
                </a:lnTo>
                <a:lnTo>
                  <a:pt x="173" y="2342"/>
                </a:lnTo>
                <a:lnTo>
                  <a:pt x="138" y="2376"/>
                </a:lnTo>
                <a:lnTo>
                  <a:pt x="138" y="2404"/>
                </a:lnTo>
                <a:lnTo>
                  <a:pt x="138" y="2438"/>
                </a:lnTo>
                <a:lnTo>
                  <a:pt x="111" y="2473"/>
                </a:lnTo>
                <a:lnTo>
                  <a:pt x="111" y="2500"/>
                </a:lnTo>
                <a:lnTo>
                  <a:pt x="76" y="2528"/>
                </a:lnTo>
                <a:lnTo>
                  <a:pt x="76" y="2528"/>
                </a:lnTo>
                <a:lnTo>
                  <a:pt x="76" y="2535"/>
                </a:lnTo>
                <a:lnTo>
                  <a:pt x="76" y="2535"/>
                </a:lnTo>
                <a:lnTo>
                  <a:pt x="76" y="2535"/>
                </a:lnTo>
                <a:lnTo>
                  <a:pt x="76" y="2535"/>
                </a:lnTo>
                <a:lnTo>
                  <a:pt x="76" y="2535"/>
                </a:lnTo>
                <a:lnTo>
                  <a:pt x="76" y="2535"/>
                </a:lnTo>
                <a:lnTo>
                  <a:pt x="76" y="2535"/>
                </a:lnTo>
                <a:lnTo>
                  <a:pt x="76" y="2562"/>
                </a:lnTo>
                <a:lnTo>
                  <a:pt x="55" y="2590"/>
                </a:lnTo>
                <a:lnTo>
                  <a:pt x="55" y="2590"/>
                </a:lnTo>
                <a:lnTo>
                  <a:pt x="55" y="2590"/>
                </a:lnTo>
                <a:lnTo>
                  <a:pt x="55" y="2597"/>
                </a:lnTo>
                <a:lnTo>
                  <a:pt x="48" y="2597"/>
                </a:lnTo>
                <a:lnTo>
                  <a:pt x="48" y="2597"/>
                </a:lnTo>
                <a:lnTo>
                  <a:pt x="48" y="2604"/>
                </a:lnTo>
                <a:lnTo>
                  <a:pt x="48" y="2604"/>
                </a:lnTo>
                <a:lnTo>
                  <a:pt x="48" y="2604"/>
                </a:lnTo>
                <a:lnTo>
                  <a:pt x="48" y="2624"/>
                </a:lnTo>
                <a:lnTo>
                  <a:pt x="28" y="2645"/>
                </a:lnTo>
                <a:lnTo>
                  <a:pt x="28" y="2652"/>
                </a:lnTo>
                <a:lnTo>
                  <a:pt x="28" y="2652"/>
                </a:lnTo>
                <a:lnTo>
                  <a:pt x="28" y="2659"/>
                </a:lnTo>
                <a:lnTo>
                  <a:pt x="28" y="2666"/>
                </a:lnTo>
                <a:lnTo>
                  <a:pt x="21" y="2666"/>
                </a:lnTo>
                <a:lnTo>
                  <a:pt x="21" y="2672"/>
                </a:lnTo>
                <a:lnTo>
                  <a:pt x="21" y="2672"/>
                </a:lnTo>
                <a:lnTo>
                  <a:pt x="14" y="2679"/>
                </a:lnTo>
                <a:lnTo>
                  <a:pt x="14" y="2686"/>
                </a:lnTo>
                <a:lnTo>
                  <a:pt x="0" y="2700"/>
                </a:lnTo>
                <a:lnTo>
                  <a:pt x="7" y="2707"/>
                </a:lnTo>
                <a:lnTo>
                  <a:pt x="7" y="2707"/>
                </a:lnTo>
                <a:lnTo>
                  <a:pt x="14" y="2707"/>
                </a:lnTo>
                <a:lnTo>
                  <a:pt x="21" y="2707"/>
                </a:lnTo>
                <a:lnTo>
                  <a:pt x="28" y="2714"/>
                </a:lnTo>
                <a:lnTo>
                  <a:pt x="28" y="2714"/>
                </a:lnTo>
                <a:lnTo>
                  <a:pt x="35" y="2714"/>
                </a:lnTo>
                <a:lnTo>
                  <a:pt x="35" y="2721"/>
                </a:lnTo>
                <a:lnTo>
                  <a:pt x="42" y="2728"/>
                </a:lnTo>
                <a:lnTo>
                  <a:pt x="42" y="2728"/>
                </a:lnTo>
                <a:lnTo>
                  <a:pt x="48" y="2734"/>
                </a:lnTo>
                <a:lnTo>
                  <a:pt x="48" y="2741"/>
                </a:lnTo>
                <a:lnTo>
                  <a:pt x="55" y="2748"/>
                </a:lnTo>
                <a:lnTo>
                  <a:pt x="55" y="2755"/>
                </a:lnTo>
                <a:lnTo>
                  <a:pt x="48" y="2755"/>
                </a:lnTo>
                <a:lnTo>
                  <a:pt x="48" y="2762"/>
                </a:lnTo>
                <a:lnTo>
                  <a:pt x="42" y="2769"/>
                </a:lnTo>
                <a:lnTo>
                  <a:pt x="42" y="2776"/>
                </a:lnTo>
                <a:lnTo>
                  <a:pt x="42" y="2783"/>
                </a:lnTo>
                <a:lnTo>
                  <a:pt x="35" y="2783"/>
                </a:lnTo>
                <a:lnTo>
                  <a:pt x="28" y="2790"/>
                </a:lnTo>
                <a:lnTo>
                  <a:pt x="28" y="2790"/>
                </a:lnTo>
                <a:lnTo>
                  <a:pt x="21" y="2790"/>
                </a:lnTo>
                <a:lnTo>
                  <a:pt x="48" y="2817"/>
                </a:lnTo>
                <a:lnTo>
                  <a:pt x="76" y="2817"/>
                </a:lnTo>
                <a:lnTo>
                  <a:pt x="111" y="2845"/>
                </a:lnTo>
                <a:lnTo>
                  <a:pt x="138" y="2879"/>
                </a:lnTo>
                <a:lnTo>
                  <a:pt x="173" y="2879"/>
                </a:lnTo>
                <a:lnTo>
                  <a:pt x="200" y="2907"/>
                </a:lnTo>
                <a:lnTo>
                  <a:pt x="235" y="2907"/>
                </a:lnTo>
                <a:lnTo>
                  <a:pt x="262" y="2941"/>
                </a:lnTo>
                <a:lnTo>
                  <a:pt x="297" y="2941"/>
                </a:lnTo>
                <a:lnTo>
                  <a:pt x="324" y="2969"/>
                </a:lnTo>
                <a:lnTo>
                  <a:pt x="359" y="2969"/>
                </a:lnTo>
                <a:lnTo>
                  <a:pt x="393" y="3003"/>
                </a:lnTo>
                <a:lnTo>
                  <a:pt x="421" y="3003"/>
                </a:lnTo>
                <a:lnTo>
                  <a:pt x="455" y="3031"/>
                </a:lnTo>
                <a:lnTo>
                  <a:pt x="483" y="3031"/>
                </a:lnTo>
                <a:lnTo>
                  <a:pt x="517" y="3031"/>
                </a:lnTo>
                <a:close/>
                <a:moveTo>
                  <a:pt x="1627" y="1846"/>
                </a:moveTo>
                <a:lnTo>
                  <a:pt x="1634" y="1839"/>
                </a:lnTo>
                <a:lnTo>
                  <a:pt x="1641" y="1832"/>
                </a:lnTo>
                <a:lnTo>
                  <a:pt x="1641" y="1825"/>
                </a:lnTo>
                <a:lnTo>
                  <a:pt x="1648" y="1818"/>
                </a:lnTo>
                <a:lnTo>
                  <a:pt x="1655" y="1811"/>
                </a:lnTo>
                <a:lnTo>
                  <a:pt x="1662" y="1805"/>
                </a:lnTo>
                <a:lnTo>
                  <a:pt x="1662" y="1798"/>
                </a:lnTo>
                <a:lnTo>
                  <a:pt x="1669" y="1798"/>
                </a:lnTo>
                <a:lnTo>
                  <a:pt x="1676" y="1798"/>
                </a:lnTo>
                <a:lnTo>
                  <a:pt x="1676" y="1805"/>
                </a:lnTo>
                <a:lnTo>
                  <a:pt x="1676" y="1811"/>
                </a:lnTo>
                <a:lnTo>
                  <a:pt x="1683" y="1825"/>
                </a:lnTo>
                <a:lnTo>
                  <a:pt x="1683" y="1832"/>
                </a:lnTo>
                <a:lnTo>
                  <a:pt x="1683" y="1839"/>
                </a:lnTo>
                <a:lnTo>
                  <a:pt x="1683" y="1846"/>
                </a:lnTo>
                <a:lnTo>
                  <a:pt x="1683" y="1860"/>
                </a:lnTo>
                <a:lnTo>
                  <a:pt x="1676" y="1867"/>
                </a:lnTo>
                <a:lnTo>
                  <a:pt x="1676" y="1873"/>
                </a:lnTo>
                <a:lnTo>
                  <a:pt x="1669" y="1873"/>
                </a:lnTo>
                <a:lnTo>
                  <a:pt x="1662" y="1873"/>
                </a:lnTo>
                <a:lnTo>
                  <a:pt x="1655" y="1873"/>
                </a:lnTo>
                <a:lnTo>
                  <a:pt x="1648" y="1867"/>
                </a:lnTo>
                <a:lnTo>
                  <a:pt x="1641" y="1867"/>
                </a:lnTo>
                <a:lnTo>
                  <a:pt x="1634" y="1860"/>
                </a:lnTo>
                <a:lnTo>
                  <a:pt x="1634" y="1853"/>
                </a:lnTo>
                <a:lnTo>
                  <a:pt x="1627" y="1846"/>
                </a:lnTo>
                <a:close/>
                <a:moveTo>
                  <a:pt x="917" y="1811"/>
                </a:moveTo>
                <a:lnTo>
                  <a:pt x="917" y="1805"/>
                </a:lnTo>
                <a:lnTo>
                  <a:pt x="917" y="1805"/>
                </a:lnTo>
                <a:lnTo>
                  <a:pt x="917" y="1798"/>
                </a:lnTo>
                <a:lnTo>
                  <a:pt x="924" y="1798"/>
                </a:lnTo>
                <a:lnTo>
                  <a:pt x="924" y="1805"/>
                </a:lnTo>
                <a:lnTo>
                  <a:pt x="931" y="1805"/>
                </a:lnTo>
                <a:lnTo>
                  <a:pt x="931" y="1811"/>
                </a:lnTo>
                <a:lnTo>
                  <a:pt x="931" y="1818"/>
                </a:lnTo>
                <a:lnTo>
                  <a:pt x="924" y="1818"/>
                </a:lnTo>
                <a:lnTo>
                  <a:pt x="924" y="1818"/>
                </a:lnTo>
                <a:lnTo>
                  <a:pt x="924" y="1825"/>
                </a:lnTo>
                <a:lnTo>
                  <a:pt x="917" y="1818"/>
                </a:lnTo>
                <a:lnTo>
                  <a:pt x="917" y="1818"/>
                </a:lnTo>
                <a:lnTo>
                  <a:pt x="917" y="1811"/>
                </a:lnTo>
                <a:close/>
                <a:moveTo>
                  <a:pt x="697" y="1625"/>
                </a:moveTo>
                <a:lnTo>
                  <a:pt x="697" y="1619"/>
                </a:lnTo>
                <a:lnTo>
                  <a:pt x="690" y="1605"/>
                </a:lnTo>
                <a:lnTo>
                  <a:pt x="690" y="1598"/>
                </a:lnTo>
                <a:lnTo>
                  <a:pt x="690" y="1584"/>
                </a:lnTo>
                <a:lnTo>
                  <a:pt x="690" y="1577"/>
                </a:lnTo>
                <a:lnTo>
                  <a:pt x="690" y="1563"/>
                </a:lnTo>
                <a:lnTo>
                  <a:pt x="697" y="1557"/>
                </a:lnTo>
                <a:lnTo>
                  <a:pt x="697" y="1550"/>
                </a:lnTo>
                <a:lnTo>
                  <a:pt x="703" y="1536"/>
                </a:lnTo>
                <a:lnTo>
                  <a:pt x="703" y="1529"/>
                </a:lnTo>
                <a:lnTo>
                  <a:pt x="710" y="1522"/>
                </a:lnTo>
                <a:lnTo>
                  <a:pt x="717" y="1515"/>
                </a:lnTo>
                <a:lnTo>
                  <a:pt x="724" y="1508"/>
                </a:lnTo>
                <a:lnTo>
                  <a:pt x="731" y="1508"/>
                </a:lnTo>
                <a:lnTo>
                  <a:pt x="738" y="1508"/>
                </a:lnTo>
                <a:lnTo>
                  <a:pt x="745" y="1508"/>
                </a:lnTo>
                <a:lnTo>
                  <a:pt x="752" y="1515"/>
                </a:lnTo>
                <a:lnTo>
                  <a:pt x="759" y="1522"/>
                </a:lnTo>
                <a:lnTo>
                  <a:pt x="766" y="1529"/>
                </a:lnTo>
                <a:lnTo>
                  <a:pt x="766" y="1543"/>
                </a:lnTo>
                <a:lnTo>
                  <a:pt x="766" y="1550"/>
                </a:lnTo>
                <a:lnTo>
                  <a:pt x="759" y="1563"/>
                </a:lnTo>
                <a:lnTo>
                  <a:pt x="759" y="1570"/>
                </a:lnTo>
                <a:lnTo>
                  <a:pt x="759" y="1584"/>
                </a:lnTo>
                <a:lnTo>
                  <a:pt x="759" y="1591"/>
                </a:lnTo>
                <a:lnTo>
                  <a:pt x="759" y="1598"/>
                </a:lnTo>
                <a:lnTo>
                  <a:pt x="752" y="1612"/>
                </a:lnTo>
                <a:lnTo>
                  <a:pt x="752" y="1619"/>
                </a:lnTo>
                <a:lnTo>
                  <a:pt x="752" y="1625"/>
                </a:lnTo>
                <a:lnTo>
                  <a:pt x="745" y="1639"/>
                </a:lnTo>
                <a:lnTo>
                  <a:pt x="738" y="1646"/>
                </a:lnTo>
                <a:lnTo>
                  <a:pt x="738" y="1653"/>
                </a:lnTo>
                <a:lnTo>
                  <a:pt x="731" y="1653"/>
                </a:lnTo>
                <a:lnTo>
                  <a:pt x="724" y="1653"/>
                </a:lnTo>
                <a:lnTo>
                  <a:pt x="717" y="1646"/>
                </a:lnTo>
                <a:lnTo>
                  <a:pt x="710" y="1639"/>
                </a:lnTo>
                <a:lnTo>
                  <a:pt x="703" y="1632"/>
                </a:lnTo>
                <a:lnTo>
                  <a:pt x="697" y="1625"/>
                </a:lnTo>
                <a:close/>
                <a:moveTo>
                  <a:pt x="1924" y="1563"/>
                </a:moveTo>
                <a:lnTo>
                  <a:pt x="1924" y="1563"/>
                </a:lnTo>
                <a:lnTo>
                  <a:pt x="1924" y="1563"/>
                </a:lnTo>
                <a:lnTo>
                  <a:pt x="1924" y="1563"/>
                </a:lnTo>
                <a:lnTo>
                  <a:pt x="1924" y="1563"/>
                </a:lnTo>
                <a:lnTo>
                  <a:pt x="1931" y="1563"/>
                </a:lnTo>
                <a:lnTo>
                  <a:pt x="1931" y="1563"/>
                </a:lnTo>
                <a:lnTo>
                  <a:pt x="1931" y="1563"/>
                </a:lnTo>
                <a:lnTo>
                  <a:pt x="1931" y="1563"/>
                </a:lnTo>
                <a:lnTo>
                  <a:pt x="1931" y="1563"/>
                </a:lnTo>
                <a:lnTo>
                  <a:pt x="1924" y="1563"/>
                </a:lnTo>
                <a:lnTo>
                  <a:pt x="1924" y="1563"/>
                </a:lnTo>
                <a:lnTo>
                  <a:pt x="1924" y="1563"/>
                </a:lnTo>
                <a:lnTo>
                  <a:pt x="1924" y="1563"/>
                </a:lnTo>
                <a:lnTo>
                  <a:pt x="1924" y="1563"/>
                </a:lnTo>
                <a:close/>
                <a:moveTo>
                  <a:pt x="979" y="875"/>
                </a:moveTo>
                <a:lnTo>
                  <a:pt x="979" y="868"/>
                </a:lnTo>
                <a:lnTo>
                  <a:pt x="979" y="861"/>
                </a:lnTo>
                <a:lnTo>
                  <a:pt x="972" y="854"/>
                </a:lnTo>
                <a:lnTo>
                  <a:pt x="972" y="847"/>
                </a:lnTo>
                <a:lnTo>
                  <a:pt x="966" y="840"/>
                </a:lnTo>
                <a:lnTo>
                  <a:pt x="959" y="833"/>
                </a:lnTo>
                <a:lnTo>
                  <a:pt x="952" y="826"/>
                </a:lnTo>
                <a:lnTo>
                  <a:pt x="952" y="819"/>
                </a:lnTo>
                <a:lnTo>
                  <a:pt x="952" y="813"/>
                </a:lnTo>
                <a:lnTo>
                  <a:pt x="952" y="806"/>
                </a:lnTo>
                <a:lnTo>
                  <a:pt x="952" y="799"/>
                </a:lnTo>
                <a:lnTo>
                  <a:pt x="959" y="792"/>
                </a:lnTo>
                <a:lnTo>
                  <a:pt x="959" y="785"/>
                </a:lnTo>
                <a:lnTo>
                  <a:pt x="966" y="778"/>
                </a:lnTo>
                <a:lnTo>
                  <a:pt x="972" y="771"/>
                </a:lnTo>
                <a:lnTo>
                  <a:pt x="972" y="764"/>
                </a:lnTo>
                <a:lnTo>
                  <a:pt x="979" y="758"/>
                </a:lnTo>
                <a:lnTo>
                  <a:pt x="979" y="751"/>
                </a:lnTo>
                <a:lnTo>
                  <a:pt x="979" y="744"/>
                </a:lnTo>
                <a:lnTo>
                  <a:pt x="986" y="737"/>
                </a:lnTo>
                <a:lnTo>
                  <a:pt x="986" y="730"/>
                </a:lnTo>
                <a:lnTo>
                  <a:pt x="993" y="730"/>
                </a:lnTo>
                <a:lnTo>
                  <a:pt x="1000" y="730"/>
                </a:lnTo>
                <a:lnTo>
                  <a:pt x="1007" y="730"/>
                </a:lnTo>
                <a:lnTo>
                  <a:pt x="1014" y="730"/>
                </a:lnTo>
                <a:lnTo>
                  <a:pt x="1021" y="737"/>
                </a:lnTo>
                <a:lnTo>
                  <a:pt x="1028" y="737"/>
                </a:lnTo>
                <a:lnTo>
                  <a:pt x="1034" y="744"/>
                </a:lnTo>
                <a:lnTo>
                  <a:pt x="1034" y="751"/>
                </a:lnTo>
                <a:lnTo>
                  <a:pt x="1041" y="758"/>
                </a:lnTo>
                <a:lnTo>
                  <a:pt x="1041" y="764"/>
                </a:lnTo>
                <a:lnTo>
                  <a:pt x="1041" y="771"/>
                </a:lnTo>
                <a:lnTo>
                  <a:pt x="1041" y="778"/>
                </a:lnTo>
                <a:lnTo>
                  <a:pt x="1041" y="792"/>
                </a:lnTo>
                <a:lnTo>
                  <a:pt x="1041" y="799"/>
                </a:lnTo>
                <a:lnTo>
                  <a:pt x="1041" y="806"/>
                </a:lnTo>
                <a:lnTo>
                  <a:pt x="1041" y="813"/>
                </a:lnTo>
                <a:lnTo>
                  <a:pt x="1034" y="819"/>
                </a:lnTo>
                <a:lnTo>
                  <a:pt x="1034" y="826"/>
                </a:lnTo>
                <a:lnTo>
                  <a:pt x="1028" y="833"/>
                </a:lnTo>
                <a:lnTo>
                  <a:pt x="1028" y="840"/>
                </a:lnTo>
                <a:lnTo>
                  <a:pt x="1021" y="847"/>
                </a:lnTo>
                <a:lnTo>
                  <a:pt x="1014" y="854"/>
                </a:lnTo>
                <a:lnTo>
                  <a:pt x="1014" y="861"/>
                </a:lnTo>
                <a:lnTo>
                  <a:pt x="1007" y="868"/>
                </a:lnTo>
                <a:lnTo>
                  <a:pt x="1007" y="875"/>
                </a:lnTo>
                <a:lnTo>
                  <a:pt x="1000" y="875"/>
                </a:lnTo>
                <a:lnTo>
                  <a:pt x="993" y="881"/>
                </a:lnTo>
                <a:lnTo>
                  <a:pt x="986" y="881"/>
                </a:lnTo>
                <a:lnTo>
                  <a:pt x="979" y="875"/>
                </a:lnTo>
                <a:close/>
              </a:path>
            </a:pathLst>
          </a:custGeom>
          <a:solidFill>
            <a:srgbClr val="ff9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3" name=""/>
          <p:cNvSpPr/>
          <p:nvPr/>
        </p:nvSpPr>
        <p:spPr>
          <a:xfrm>
            <a:off x="3197160" y="1317600"/>
            <a:ext cx="3786120" cy="4811760"/>
          </a:xfrm>
          <a:custGeom>
            <a:avLst/>
            <a:gdLst/>
            <a:ahLst/>
            <a:rect l="l" t="t" r="r" b="b"/>
            <a:pathLst>
              <a:path w="2385" h="3031">
                <a:moveTo>
                  <a:pt x="537" y="3031"/>
                </a:moveTo>
                <a:lnTo>
                  <a:pt x="565" y="3003"/>
                </a:lnTo>
                <a:lnTo>
                  <a:pt x="599" y="3003"/>
                </a:lnTo>
                <a:lnTo>
                  <a:pt x="627" y="2969"/>
                </a:lnTo>
                <a:lnTo>
                  <a:pt x="661" y="2941"/>
                </a:lnTo>
                <a:lnTo>
                  <a:pt x="689" y="2907"/>
                </a:lnTo>
                <a:lnTo>
                  <a:pt x="723" y="2907"/>
                </a:lnTo>
                <a:lnTo>
                  <a:pt x="751" y="2879"/>
                </a:lnTo>
                <a:lnTo>
                  <a:pt x="786" y="2845"/>
                </a:lnTo>
                <a:lnTo>
                  <a:pt x="820" y="2845"/>
                </a:lnTo>
                <a:lnTo>
                  <a:pt x="848" y="2817"/>
                </a:lnTo>
                <a:lnTo>
                  <a:pt x="882" y="2783"/>
                </a:lnTo>
                <a:lnTo>
                  <a:pt x="910" y="2783"/>
                </a:lnTo>
                <a:lnTo>
                  <a:pt x="944" y="2748"/>
                </a:lnTo>
                <a:lnTo>
                  <a:pt x="972" y="2721"/>
                </a:lnTo>
                <a:lnTo>
                  <a:pt x="1006" y="2686"/>
                </a:lnTo>
                <a:lnTo>
                  <a:pt x="1034" y="2686"/>
                </a:lnTo>
                <a:lnTo>
                  <a:pt x="1068" y="2659"/>
                </a:lnTo>
                <a:lnTo>
                  <a:pt x="1096" y="2624"/>
                </a:lnTo>
                <a:lnTo>
                  <a:pt x="1130" y="2624"/>
                </a:lnTo>
                <a:lnTo>
                  <a:pt x="1165" y="2597"/>
                </a:lnTo>
                <a:lnTo>
                  <a:pt x="1192" y="2562"/>
                </a:lnTo>
                <a:lnTo>
                  <a:pt x="1227" y="2535"/>
                </a:lnTo>
                <a:lnTo>
                  <a:pt x="1254" y="2535"/>
                </a:lnTo>
                <a:lnTo>
                  <a:pt x="1289" y="2500"/>
                </a:lnTo>
                <a:lnTo>
                  <a:pt x="1316" y="2473"/>
                </a:lnTo>
                <a:lnTo>
                  <a:pt x="1351" y="2473"/>
                </a:lnTo>
                <a:lnTo>
                  <a:pt x="1379" y="2438"/>
                </a:lnTo>
                <a:lnTo>
                  <a:pt x="1413" y="2404"/>
                </a:lnTo>
                <a:lnTo>
                  <a:pt x="1441" y="2376"/>
                </a:lnTo>
                <a:lnTo>
                  <a:pt x="1475" y="2376"/>
                </a:lnTo>
                <a:lnTo>
                  <a:pt x="1503" y="2342"/>
                </a:lnTo>
                <a:lnTo>
                  <a:pt x="1537" y="2314"/>
                </a:lnTo>
                <a:lnTo>
                  <a:pt x="1572" y="2314"/>
                </a:lnTo>
                <a:lnTo>
                  <a:pt x="1599" y="2280"/>
                </a:lnTo>
                <a:lnTo>
                  <a:pt x="1634" y="2252"/>
                </a:lnTo>
                <a:lnTo>
                  <a:pt x="1661" y="2218"/>
                </a:lnTo>
                <a:lnTo>
                  <a:pt x="1696" y="2218"/>
                </a:lnTo>
                <a:lnTo>
                  <a:pt x="1723" y="2190"/>
                </a:lnTo>
                <a:lnTo>
                  <a:pt x="1758" y="2156"/>
                </a:lnTo>
                <a:lnTo>
                  <a:pt x="1785" y="2156"/>
                </a:lnTo>
                <a:lnTo>
                  <a:pt x="1820" y="2128"/>
                </a:lnTo>
                <a:lnTo>
                  <a:pt x="1847" y="2094"/>
                </a:lnTo>
                <a:lnTo>
                  <a:pt x="1882" y="2059"/>
                </a:lnTo>
                <a:lnTo>
                  <a:pt x="1916" y="2059"/>
                </a:lnTo>
                <a:lnTo>
                  <a:pt x="1916" y="2032"/>
                </a:lnTo>
                <a:lnTo>
                  <a:pt x="1944" y="1997"/>
                </a:lnTo>
                <a:lnTo>
                  <a:pt x="1978" y="1970"/>
                </a:lnTo>
                <a:lnTo>
                  <a:pt x="1978" y="1935"/>
                </a:lnTo>
                <a:lnTo>
                  <a:pt x="2006" y="1908"/>
                </a:lnTo>
                <a:lnTo>
                  <a:pt x="2040" y="1873"/>
                </a:lnTo>
                <a:lnTo>
                  <a:pt x="2040" y="1846"/>
                </a:lnTo>
                <a:lnTo>
                  <a:pt x="2068" y="1811"/>
                </a:lnTo>
                <a:lnTo>
                  <a:pt x="2102" y="1784"/>
                </a:lnTo>
                <a:lnTo>
                  <a:pt x="2102" y="1749"/>
                </a:lnTo>
                <a:lnTo>
                  <a:pt x="2102" y="1722"/>
                </a:lnTo>
                <a:lnTo>
                  <a:pt x="2130" y="1687"/>
                </a:lnTo>
                <a:lnTo>
                  <a:pt x="2130" y="1653"/>
                </a:lnTo>
                <a:lnTo>
                  <a:pt x="2130" y="1625"/>
                </a:lnTo>
                <a:lnTo>
                  <a:pt x="2165" y="1591"/>
                </a:lnTo>
                <a:lnTo>
                  <a:pt x="2165" y="1563"/>
                </a:lnTo>
                <a:lnTo>
                  <a:pt x="2165" y="1529"/>
                </a:lnTo>
                <a:lnTo>
                  <a:pt x="2165" y="1501"/>
                </a:lnTo>
                <a:lnTo>
                  <a:pt x="2192" y="1467"/>
                </a:lnTo>
                <a:lnTo>
                  <a:pt x="2192" y="1439"/>
                </a:lnTo>
                <a:lnTo>
                  <a:pt x="2192" y="1405"/>
                </a:lnTo>
                <a:lnTo>
                  <a:pt x="2192" y="1377"/>
                </a:lnTo>
                <a:lnTo>
                  <a:pt x="2192" y="1343"/>
                </a:lnTo>
                <a:lnTo>
                  <a:pt x="2192" y="1309"/>
                </a:lnTo>
                <a:lnTo>
                  <a:pt x="2192" y="1281"/>
                </a:lnTo>
                <a:lnTo>
                  <a:pt x="2227" y="1247"/>
                </a:lnTo>
                <a:lnTo>
                  <a:pt x="2227" y="1219"/>
                </a:lnTo>
                <a:lnTo>
                  <a:pt x="2227" y="1185"/>
                </a:lnTo>
                <a:lnTo>
                  <a:pt x="2227" y="1157"/>
                </a:lnTo>
                <a:lnTo>
                  <a:pt x="2227" y="1123"/>
                </a:lnTo>
                <a:lnTo>
                  <a:pt x="2227" y="1095"/>
                </a:lnTo>
                <a:lnTo>
                  <a:pt x="2227" y="1061"/>
                </a:lnTo>
                <a:lnTo>
                  <a:pt x="2261" y="1033"/>
                </a:lnTo>
                <a:lnTo>
                  <a:pt x="2261" y="999"/>
                </a:lnTo>
                <a:lnTo>
                  <a:pt x="2261" y="964"/>
                </a:lnTo>
                <a:lnTo>
                  <a:pt x="2261" y="937"/>
                </a:lnTo>
                <a:lnTo>
                  <a:pt x="2261" y="902"/>
                </a:lnTo>
                <a:lnTo>
                  <a:pt x="2261" y="875"/>
                </a:lnTo>
                <a:lnTo>
                  <a:pt x="2261" y="840"/>
                </a:lnTo>
                <a:lnTo>
                  <a:pt x="2289" y="813"/>
                </a:lnTo>
                <a:lnTo>
                  <a:pt x="2289" y="778"/>
                </a:lnTo>
                <a:lnTo>
                  <a:pt x="2289" y="751"/>
                </a:lnTo>
                <a:lnTo>
                  <a:pt x="2289" y="716"/>
                </a:lnTo>
                <a:lnTo>
                  <a:pt x="2289" y="689"/>
                </a:lnTo>
                <a:lnTo>
                  <a:pt x="2289" y="654"/>
                </a:lnTo>
                <a:lnTo>
                  <a:pt x="2289" y="627"/>
                </a:lnTo>
                <a:lnTo>
                  <a:pt x="2323" y="592"/>
                </a:lnTo>
                <a:lnTo>
                  <a:pt x="2323" y="558"/>
                </a:lnTo>
                <a:lnTo>
                  <a:pt x="2323" y="530"/>
                </a:lnTo>
                <a:lnTo>
                  <a:pt x="2323" y="496"/>
                </a:lnTo>
                <a:lnTo>
                  <a:pt x="2323" y="468"/>
                </a:lnTo>
                <a:lnTo>
                  <a:pt x="2323" y="434"/>
                </a:lnTo>
                <a:lnTo>
                  <a:pt x="2323" y="406"/>
                </a:lnTo>
                <a:lnTo>
                  <a:pt x="2351" y="372"/>
                </a:lnTo>
                <a:lnTo>
                  <a:pt x="2351" y="344"/>
                </a:lnTo>
                <a:lnTo>
                  <a:pt x="2351" y="310"/>
                </a:lnTo>
                <a:lnTo>
                  <a:pt x="2351" y="282"/>
                </a:lnTo>
                <a:lnTo>
                  <a:pt x="2351" y="248"/>
                </a:lnTo>
                <a:lnTo>
                  <a:pt x="2351" y="213"/>
                </a:lnTo>
                <a:lnTo>
                  <a:pt x="2351" y="186"/>
                </a:lnTo>
                <a:lnTo>
                  <a:pt x="2385" y="151"/>
                </a:lnTo>
                <a:lnTo>
                  <a:pt x="2385" y="124"/>
                </a:lnTo>
                <a:lnTo>
                  <a:pt x="2385" y="89"/>
                </a:lnTo>
                <a:lnTo>
                  <a:pt x="2385" y="62"/>
                </a:lnTo>
                <a:lnTo>
                  <a:pt x="2385" y="27"/>
                </a:lnTo>
                <a:lnTo>
                  <a:pt x="2385" y="0"/>
                </a:lnTo>
                <a:lnTo>
                  <a:pt x="2351" y="0"/>
                </a:lnTo>
                <a:lnTo>
                  <a:pt x="2323" y="0"/>
                </a:lnTo>
                <a:lnTo>
                  <a:pt x="2289" y="0"/>
                </a:lnTo>
                <a:lnTo>
                  <a:pt x="2261" y="0"/>
                </a:lnTo>
                <a:lnTo>
                  <a:pt x="2227" y="27"/>
                </a:lnTo>
                <a:lnTo>
                  <a:pt x="2192" y="27"/>
                </a:lnTo>
                <a:lnTo>
                  <a:pt x="2165" y="27"/>
                </a:lnTo>
                <a:lnTo>
                  <a:pt x="2130" y="62"/>
                </a:lnTo>
                <a:lnTo>
                  <a:pt x="2102" y="62"/>
                </a:lnTo>
                <a:lnTo>
                  <a:pt x="2068" y="89"/>
                </a:lnTo>
                <a:lnTo>
                  <a:pt x="2040" y="89"/>
                </a:lnTo>
                <a:lnTo>
                  <a:pt x="2006" y="89"/>
                </a:lnTo>
                <a:lnTo>
                  <a:pt x="1978" y="124"/>
                </a:lnTo>
                <a:lnTo>
                  <a:pt x="1944" y="124"/>
                </a:lnTo>
                <a:lnTo>
                  <a:pt x="1916" y="151"/>
                </a:lnTo>
                <a:lnTo>
                  <a:pt x="1882" y="151"/>
                </a:lnTo>
                <a:lnTo>
                  <a:pt x="1847" y="151"/>
                </a:lnTo>
                <a:lnTo>
                  <a:pt x="1820" y="186"/>
                </a:lnTo>
                <a:lnTo>
                  <a:pt x="1785" y="186"/>
                </a:lnTo>
                <a:lnTo>
                  <a:pt x="1758" y="213"/>
                </a:lnTo>
                <a:lnTo>
                  <a:pt x="1723" y="213"/>
                </a:lnTo>
                <a:lnTo>
                  <a:pt x="1696" y="213"/>
                </a:lnTo>
                <a:lnTo>
                  <a:pt x="1661" y="248"/>
                </a:lnTo>
                <a:lnTo>
                  <a:pt x="1634" y="248"/>
                </a:lnTo>
                <a:lnTo>
                  <a:pt x="1599" y="282"/>
                </a:lnTo>
                <a:lnTo>
                  <a:pt x="1572" y="282"/>
                </a:lnTo>
                <a:lnTo>
                  <a:pt x="1537" y="282"/>
                </a:lnTo>
                <a:lnTo>
                  <a:pt x="1503" y="310"/>
                </a:lnTo>
                <a:lnTo>
                  <a:pt x="1475" y="310"/>
                </a:lnTo>
                <a:lnTo>
                  <a:pt x="1441" y="344"/>
                </a:lnTo>
                <a:lnTo>
                  <a:pt x="1413" y="344"/>
                </a:lnTo>
                <a:lnTo>
                  <a:pt x="1379" y="344"/>
                </a:lnTo>
                <a:lnTo>
                  <a:pt x="1351" y="372"/>
                </a:lnTo>
                <a:lnTo>
                  <a:pt x="1316" y="372"/>
                </a:lnTo>
                <a:lnTo>
                  <a:pt x="1289" y="406"/>
                </a:lnTo>
                <a:lnTo>
                  <a:pt x="1254" y="406"/>
                </a:lnTo>
                <a:lnTo>
                  <a:pt x="1227" y="406"/>
                </a:lnTo>
                <a:lnTo>
                  <a:pt x="1192" y="434"/>
                </a:lnTo>
                <a:lnTo>
                  <a:pt x="1165" y="434"/>
                </a:lnTo>
                <a:lnTo>
                  <a:pt x="1130" y="468"/>
                </a:lnTo>
                <a:lnTo>
                  <a:pt x="1096" y="468"/>
                </a:lnTo>
                <a:lnTo>
                  <a:pt x="1068" y="468"/>
                </a:lnTo>
                <a:lnTo>
                  <a:pt x="1034" y="496"/>
                </a:lnTo>
                <a:lnTo>
                  <a:pt x="1034" y="530"/>
                </a:lnTo>
                <a:lnTo>
                  <a:pt x="1006" y="558"/>
                </a:lnTo>
                <a:lnTo>
                  <a:pt x="1006" y="592"/>
                </a:lnTo>
                <a:lnTo>
                  <a:pt x="972" y="627"/>
                </a:lnTo>
                <a:lnTo>
                  <a:pt x="972" y="654"/>
                </a:lnTo>
                <a:lnTo>
                  <a:pt x="944" y="689"/>
                </a:lnTo>
                <a:lnTo>
                  <a:pt x="944" y="716"/>
                </a:lnTo>
                <a:lnTo>
                  <a:pt x="910" y="751"/>
                </a:lnTo>
                <a:lnTo>
                  <a:pt x="910" y="778"/>
                </a:lnTo>
                <a:lnTo>
                  <a:pt x="882" y="813"/>
                </a:lnTo>
                <a:lnTo>
                  <a:pt x="882" y="840"/>
                </a:lnTo>
                <a:lnTo>
                  <a:pt x="882" y="875"/>
                </a:lnTo>
                <a:lnTo>
                  <a:pt x="848" y="902"/>
                </a:lnTo>
                <a:lnTo>
                  <a:pt x="848" y="937"/>
                </a:lnTo>
                <a:lnTo>
                  <a:pt x="820" y="964"/>
                </a:lnTo>
                <a:lnTo>
                  <a:pt x="820" y="999"/>
                </a:lnTo>
                <a:lnTo>
                  <a:pt x="786" y="1033"/>
                </a:lnTo>
                <a:lnTo>
                  <a:pt x="786" y="1061"/>
                </a:lnTo>
                <a:lnTo>
                  <a:pt x="751" y="1095"/>
                </a:lnTo>
                <a:lnTo>
                  <a:pt x="751" y="1123"/>
                </a:lnTo>
                <a:lnTo>
                  <a:pt x="723" y="1157"/>
                </a:lnTo>
                <a:lnTo>
                  <a:pt x="723" y="1185"/>
                </a:lnTo>
                <a:lnTo>
                  <a:pt x="689" y="1219"/>
                </a:lnTo>
                <a:lnTo>
                  <a:pt x="689" y="1247"/>
                </a:lnTo>
                <a:lnTo>
                  <a:pt x="689" y="1281"/>
                </a:lnTo>
                <a:lnTo>
                  <a:pt x="661" y="1309"/>
                </a:lnTo>
                <a:lnTo>
                  <a:pt x="661" y="1343"/>
                </a:lnTo>
                <a:lnTo>
                  <a:pt x="627" y="1377"/>
                </a:lnTo>
                <a:lnTo>
                  <a:pt x="627" y="1405"/>
                </a:lnTo>
                <a:lnTo>
                  <a:pt x="599" y="1439"/>
                </a:lnTo>
                <a:lnTo>
                  <a:pt x="599" y="1467"/>
                </a:lnTo>
                <a:lnTo>
                  <a:pt x="565" y="1501"/>
                </a:lnTo>
                <a:lnTo>
                  <a:pt x="565" y="1529"/>
                </a:lnTo>
                <a:lnTo>
                  <a:pt x="537" y="1563"/>
                </a:lnTo>
                <a:lnTo>
                  <a:pt x="537" y="1591"/>
                </a:lnTo>
                <a:lnTo>
                  <a:pt x="503" y="1625"/>
                </a:lnTo>
                <a:lnTo>
                  <a:pt x="503" y="1653"/>
                </a:lnTo>
                <a:lnTo>
                  <a:pt x="503" y="1687"/>
                </a:lnTo>
                <a:lnTo>
                  <a:pt x="475" y="1722"/>
                </a:lnTo>
                <a:lnTo>
                  <a:pt x="475" y="1749"/>
                </a:lnTo>
                <a:lnTo>
                  <a:pt x="441" y="1784"/>
                </a:lnTo>
                <a:lnTo>
                  <a:pt x="441" y="1811"/>
                </a:lnTo>
                <a:lnTo>
                  <a:pt x="413" y="1846"/>
                </a:lnTo>
                <a:lnTo>
                  <a:pt x="413" y="1873"/>
                </a:lnTo>
                <a:lnTo>
                  <a:pt x="379" y="1908"/>
                </a:lnTo>
                <a:lnTo>
                  <a:pt x="379" y="1935"/>
                </a:lnTo>
                <a:lnTo>
                  <a:pt x="344" y="1970"/>
                </a:lnTo>
                <a:lnTo>
                  <a:pt x="344" y="1997"/>
                </a:lnTo>
                <a:lnTo>
                  <a:pt x="317" y="2032"/>
                </a:lnTo>
                <a:lnTo>
                  <a:pt x="317" y="2059"/>
                </a:lnTo>
                <a:lnTo>
                  <a:pt x="317" y="2094"/>
                </a:lnTo>
                <a:lnTo>
                  <a:pt x="282" y="2128"/>
                </a:lnTo>
                <a:lnTo>
                  <a:pt x="282" y="2156"/>
                </a:lnTo>
                <a:lnTo>
                  <a:pt x="255" y="2190"/>
                </a:lnTo>
                <a:lnTo>
                  <a:pt x="255" y="2218"/>
                </a:lnTo>
                <a:lnTo>
                  <a:pt x="220" y="2252"/>
                </a:lnTo>
                <a:lnTo>
                  <a:pt x="220" y="2280"/>
                </a:lnTo>
                <a:lnTo>
                  <a:pt x="193" y="2314"/>
                </a:lnTo>
                <a:lnTo>
                  <a:pt x="193" y="2342"/>
                </a:lnTo>
                <a:lnTo>
                  <a:pt x="158" y="2376"/>
                </a:lnTo>
                <a:lnTo>
                  <a:pt x="158" y="2404"/>
                </a:lnTo>
                <a:lnTo>
                  <a:pt x="158" y="2438"/>
                </a:lnTo>
                <a:lnTo>
                  <a:pt x="131" y="2473"/>
                </a:lnTo>
                <a:lnTo>
                  <a:pt x="131" y="2500"/>
                </a:lnTo>
                <a:lnTo>
                  <a:pt x="96" y="2528"/>
                </a:lnTo>
                <a:lnTo>
                  <a:pt x="96" y="2528"/>
                </a:lnTo>
                <a:lnTo>
                  <a:pt x="96" y="2535"/>
                </a:lnTo>
                <a:lnTo>
                  <a:pt x="96" y="2535"/>
                </a:lnTo>
                <a:lnTo>
                  <a:pt x="96" y="2535"/>
                </a:lnTo>
                <a:lnTo>
                  <a:pt x="96" y="2535"/>
                </a:lnTo>
                <a:lnTo>
                  <a:pt x="96" y="2535"/>
                </a:lnTo>
                <a:lnTo>
                  <a:pt x="96" y="2535"/>
                </a:lnTo>
                <a:lnTo>
                  <a:pt x="96" y="2535"/>
                </a:lnTo>
                <a:lnTo>
                  <a:pt x="96" y="2562"/>
                </a:lnTo>
                <a:lnTo>
                  <a:pt x="75" y="2590"/>
                </a:lnTo>
                <a:lnTo>
                  <a:pt x="75" y="2590"/>
                </a:lnTo>
                <a:lnTo>
                  <a:pt x="75" y="2590"/>
                </a:lnTo>
                <a:lnTo>
                  <a:pt x="75" y="2597"/>
                </a:lnTo>
                <a:lnTo>
                  <a:pt x="68" y="2597"/>
                </a:lnTo>
                <a:lnTo>
                  <a:pt x="68" y="2597"/>
                </a:lnTo>
                <a:lnTo>
                  <a:pt x="68" y="2604"/>
                </a:lnTo>
                <a:lnTo>
                  <a:pt x="68" y="2604"/>
                </a:lnTo>
                <a:lnTo>
                  <a:pt x="68" y="2604"/>
                </a:lnTo>
                <a:lnTo>
                  <a:pt x="68" y="2624"/>
                </a:lnTo>
                <a:lnTo>
                  <a:pt x="48" y="2645"/>
                </a:lnTo>
                <a:lnTo>
                  <a:pt x="48" y="2652"/>
                </a:lnTo>
                <a:lnTo>
                  <a:pt x="48" y="2652"/>
                </a:lnTo>
                <a:lnTo>
                  <a:pt x="48" y="2659"/>
                </a:lnTo>
                <a:lnTo>
                  <a:pt x="48" y="2666"/>
                </a:lnTo>
                <a:lnTo>
                  <a:pt x="41" y="2666"/>
                </a:lnTo>
                <a:lnTo>
                  <a:pt x="41" y="2672"/>
                </a:lnTo>
                <a:lnTo>
                  <a:pt x="41" y="2672"/>
                </a:lnTo>
                <a:lnTo>
                  <a:pt x="34" y="2679"/>
                </a:lnTo>
                <a:lnTo>
                  <a:pt x="34" y="2686"/>
                </a:lnTo>
                <a:lnTo>
                  <a:pt x="20" y="2700"/>
                </a:lnTo>
                <a:lnTo>
                  <a:pt x="27" y="2707"/>
                </a:lnTo>
                <a:lnTo>
                  <a:pt x="27" y="2707"/>
                </a:lnTo>
                <a:lnTo>
                  <a:pt x="34" y="2707"/>
                </a:lnTo>
                <a:lnTo>
                  <a:pt x="41" y="2707"/>
                </a:lnTo>
                <a:lnTo>
                  <a:pt x="48" y="2714"/>
                </a:lnTo>
                <a:lnTo>
                  <a:pt x="48" y="2714"/>
                </a:lnTo>
                <a:lnTo>
                  <a:pt x="55" y="2714"/>
                </a:lnTo>
                <a:lnTo>
                  <a:pt x="55" y="2721"/>
                </a:lnTo>
                <a:lnTo>
                  <a:pt x="62" y="2728"/>
                </a:lnTo>
                <a:lnTo>
                  <a:pt x="62" y="2728"/>
                </a:lnTo>
                <a:lnTo>
                  <a:pt x="68" y="2734"/>
                </a:lnTo>
                <a:lnTo>
                  <a:pt x="68" y="2741"/>
                </a:lnTo>
                <a:lnTo>
                  <a:pt x="75" y="2748"/>
                </a:lnTo>
                <a:lnTo>
                  <a:pt x="75" y="2755"/>
                </a:lnTo>
                <a:lnTo>
                  <a:pt x="68" y="2755"/>
                </a:lnTo>
                <a:lnTo>
                  <a:pt x="68" y="2762"/>
                </a:lnTo>
                <a:lnTo>
                  <a:pt x="62" y="2769"/>
                </a:lnTo>
                <a:lnTo>
                  <a:pt x="62" y="2776"/>
                </a:lnTo>
                <a:lnTo>
                  <a:pt x="62" y="2783"/>
                </a:lnTo>
                <a:lnTo>
                  <a:pt x="55" y="2783"/>
                </a:lnTo>
                <a:lnTo>
                  <a:pt x="48" y="2790"/>
                </a:lnTo>
                <a:lnTo>
                  <a:pt x="48" y="2790"/>
                </a:lnTo>
                <a:lnTo>
                  <a:pt x="41" y="2790"/>
                </a:lnTo>
                <a:lnTo>
                  <a:pt x="68" y="2817"/>
                </a:lnTo>
                <a:lnTo>
                  <a:pt x="96" y="2817"/>
                </a:lnTo>
                <a:lnTo>
                  <a:pt x="131" y="2845"/>
                </a:lnTo>
                <a:lnTo>
                  <a:pt x="158" y="2879"/>
                </a:lnTo>
                <a:lnTo>
                  <a:pt x="193" y="2879"/>
                </a:lnTo>
                <a:lnTo>
                  <a:pt x="220" y="2907"/>
                </a:lnTo>
                <a:lnTo>
                  <a:pt x="255" y="2907"/>
                </a:lnTo>
                <a:lnTo>
                  <a:pt x="282" y="2941"/>
                </a:lnTo>
                <a:lnTo>
                  <a:pt x="317" y="2941"/>
                </a:lnTo>
                <a:lnTo>
                  <a:pt x="344" y="2969"/>
                </a:lnTo>
                <a:lnTo>
                  <a:pt x="379" y="2969"/>
                </a:lnTo>
                <a:lnTo>
                  <a:pt x="413" y="3003"/>
                </a:lnTo>
                <a:lnTo>
                  <a:pt x="441" y="3003"/>
                </a:lnTo>
                <a:lnTo>
                  <a:pt x="475" y="3031"/>
                </a:lnTo>
                <a:lnTo>
                  <a:pt x="503" y="3031"/>
                </a:lnTo>
                <a:lnTo>
                  <a:pt x="537" y="3031"/>
                </a:lnTo>
                <a:close/>
                <a:moveTo>
                  <a:pt x="1647" y="1846"/>
                </a:moveTo>
                <a:lnTo>
                  <a:pt x="1654" y="1839"/>
                </a:lnTo>
                <a:lnTo>
                  <a:pt x="1661" y="1832"/>
                </a:lnTo>
                <a:lnTo>
                  <a:pt x="1661" y="1825"/>
                </a:lnTo>
                <a:lnTo>
                  <a:pt x="1668" y="1818"/>
                </a:lnTo>
                <a:lnTo>
                  <a:pt x="1675" y="1811"/>
                </a:lnTo>
                <a:lnTo>
                  <a:pt x="1682" y="1805"/>
                </a:lnTo>
                <a:lnTo>
                  <a:pt x="1682" y="1798"/>
                </a:lnTo>
                <a:lnTo>
                  <a:pt x="1689" y="1798"/>
                </a:lnTo>
                <a:lnTo>
                  <a:pt x="1696" y="1798"/>
                </a:lnTo>
                <a:lnTo>
                  <a:pt x="1696" y="1805"/>
                </a:lnTo>
                <a:lnTo>
                  <a:pt x="1696" y="1811"/>
                </a:lnTo>
                <a:lnTo>
                  <a:pt x="1703" y="1825"/>
                </a:lnTo>
                <a:lnTo>
                  <a:pt x="1703" y="1832"/>
                </a:lnTo>
                <a:lnTo>
                  <a:pt x="1703" y="1839"/>
                </a:lnTo>
                <a:lnTo>
                  <a:pt x="1703" y="1846"/>
                </a:lnTo>
                <a:lnTo>
                  <a:pt x="1703" y="1860"/>
                </a:lnTo>
                <a:lnTo>
                  <a:pt x="1696" y="1867"/>
                </a:lnTo>
                <a:lnTo>
                  <a:pt x="1696" y="1873"/>
                </a:lnTo>
                <a:lnTo>
                  <a:pt x="1689" y="1873"/>
                </a:lnTo>
                <a:lnTo>
                  <a:pt x="1682" y="1873"/>
                </a:lnTo>
                <a:lnTo>
                  <a:pt x="1675" y="1873"/>
                </a:lnTo>
                <a:lnTo>
                  <a:pt x="1668" y="1867"/>
                </a:lnTo>
                <a:lnTo>
                  <a:pt x="1661" y="1867"/>
                </a:lnTo>
                <a:lnTo>
                  <a:pt x="1654" y="1860"/>
                </a:lnTo>
                <a:lnTo>
                  <a:pt x="1654" y="1853"/>
                </a:lnTo>
                <a:lnTo>
                  <a:pt x="1647" y="1846"/>
                </a:lnTo>
                <a:close/>
                <a:moveTo>
                  <a:pt x="937" y="1811"/>
                </a:moveTo>
                <a:lnTo>
                  <a:pt x="937" y="1805"/>
                </a:lnTo>
                <a:lnTo>
                  <a:pt x="937" y="1805"/>
                </a:lnTo>
                <a:lnTo>
                  <a:pt x="937" y="1798"/>
                </a:lnTo>
                <a:lnTo>
                  <a:pt x="944" y="1798"/>
                </a:lnTo>
                <a:lnTo>
                  <a:pt x="944" y="1805"/>
                </a:lnTo>
                <a:lnTo>
                  <a:pt x="951" y="1805"/>
                </a:lnTo>
                <a:lnTo>
                  <a:pt x="951" y="1811"/>
                </a:lnTo>
                <a:lnTo>
                  <a:pt x="951" y="1818"/>
                </a:lnTo>
                <a:lnTo>
                  <a:pt x="944" y="1818"/>
                </a:lnTo>
                <a:lnTo>
                  <a:pt x="944" y="1818"/>
                </a:lnTo>
                <a:lnTo>
                  <a:pt x="944" y="1825"/>
                </a:lnTo>
                <a:lnTo>
                  <a:pt x="937" y="1818"/>
                </a:lnTo>
                <a:lnTo>
                  <a:pt x="937" y="1818"/>
                </a:lnTo>
                <a:lnTo>
                  <a:pt x="937" y="1811"/>
                </a:lnTo>
                <a:close/>
                <a:moveTo>
                  <a:pt x="717" y="1625"/>
                </a:moveTo>
                <a:lnTo>
                  <a:pt x="717" y="1619"/>
                </a:lnTo>
                <a:lnTo>
                  <a:pt x="710" y="1605"/>
                </a:lnTo>
                <a:lnTo>
                  <a:pt x="710" y="1598"/>
                </a:lnTo>
                <a:lnTo>
                  <a:pt x="710" y="1584"/>
                </a:lnTo>
                <a:lnTo>
                  <a:pt x="710" y="1577"/>
                </a:lnTo>
                <a:lnTo>
                  <a:pt x="710" y="1563"/>
                </a:lnTo>
                <a:lnTo>
                  <a:pt x="717" y="1557"/>
                </a:lnTo>
                <a:lnTo>
                  <a:pt x="717" y="1550"/>
                </a:lnTo>
                <a:lnTo>
                  <a:pt x="723" y="1536"/>
                </a:lnTo>
                <a:lnTo>
                  <a:pt x="723" y="1529"/>
                </a:lnTo>
                <a:lnTo>
                  <a:pt x="730" y="1522"/>
                </a:lnTo>
                <a:lnTo>
                  <a:pt x="737" y="1515"/>
                </a:lnTo>
                <a:lnTo>
                  <a:pt x="744" y="1508"/>
                </a:lnTo>
                <a:lnTo>
                  <a:pt x="751" y="1508"/>
                </a:lnTo>
                <a:lnTo>
                  <a:pt x="758" y="1508"/>
                </a:lnTo>
                <a:lnTo>
                  <a:pt x="765" y="1508"/>
                </a:lnTo>
                <a:lnTo>
                  <a:pt x="772" y="1515"/>
                </a:lnTo>
                <a:lnTo>
                  <a:pt x="779" y="1522"/>
                </a:lnTo>
                <a:lnTo>
                  <a:pt x="786" y="1529"/>
                </a:lnTo>
                <a:lnTo>
                  <a:pt x="786" y="1543"/>
                </a:lnTo>
                <a:lnTo>
                  <a:pt x="786" y="1550"/>
                </a:lnTo>
                <a:lnTo>
                  <a:pt x="779" y="1563"/>
                </a:lnTo>
                <a:lnTo>
                  <a:pt x="779" y="1570"/>
                </a:lnTo>
                <a:lnTo>
                  <a:pt x="779" y="1584"/>
                </a:lnTo>
                <a:lnTo>
                  <a:pt x="779" y="1591"/>
                </a:lnTo>
                <a:lnTo>
                  <a:pt x="779" y="1598"/>
                </a:lnTo>
                <a:lnTo>
                  <a:pt x="772" y="1612"/>
                </a:lnTo>
                <a:lnTo>
                  <a:pt x="772" y="1619"/>
                </a:lnTo>
                <a:lnTo>
                  <a:pt x="772" y="1625"/>
                </a:lnTo>
                <a:lnTo>
                  <a:pt x="765" y="1639"/>
                </a:lnTo>
                <a:lnTo>
                  <a:pt x="758" y="1646"/>
                </a:lnTo>
                <a:lnTo>
                  <a:pt x="758" y="1653"/>
                </a:lnTo>
                <a:lnTo>
                  <a:pt x="751" y="1653"/>
                </a:lnTo>
                <a:lnTo>
                  <a:pt x="744" y="1653"/>
                </a:lnTo>
                <a:lnTo>
                  <a:pt x="737" y="1646"/>
                </a:lnTo>
                <a:lnTo>
                  <a:pt x="730" y="1639"/>
                </a:lnTo>
                <a:lnTo>
                  <a:pt x="723" y="1632"/>
                </a:lnTo>
                <a:lnTo>
                  <a:pt x="717" y="1625"/>
                </a:lnTo>
                <a:close/>
                <a:moveTo>
                  <a:pt x="1944" y="1563"/>
                </a:moveTo>
                <a:lnTo>
                  <a:pt x="1944" y="1563"/>
                </a:lnTo>
                <a:lnTo>
                  <a:pt x="1944" y="1563"/>
                </a:lnTo>
                <a:lnTo>
                  <a:pt x="1944" y="1563"/>
                </a:lnTo>
                <a:lnTo>
                  <a:pt x="1944" y="1563"/>
                </a:lnTo>
                <a:lnTo>
                  <a:pt x="1951" y="1563"/>
                </a:lnTo>
                <a:lnTo>
                  <a:pt x="1951" y="1563"/>
                </a:lnTo>
                <a:lnTo>
                  <a:pt x="1951" y="1563"/>
                </a:lnTo>
                <a:lnTo>
                  <a:pt x="1951" y="1563"/>
                </a:lnTo>
                <a:lnTo>
                  <a:pt x="1951" y="1563"/>
                </a:lnTo>
                <a:lnTo>
                  <a:pt x="1944" y="1563"/>
                </a:lnTo>
                <a:lnTo>
                  <a:pt x="1944" y="1563"/>
                </a:lnTo>
                <a:lnTo>
                  <a:pt x="1944" y="1563"/>
                </a:lnTo>
                <a:lnTo>
                  <a:pt x="1944" y="1563"/>
                </a:lnTo>
                <a:lnTo>
                  <a:pt x="1944" y="1563"/>
                </a:lnTo>
                <a:close/>
                <a:moveTo>
                  <a:pt x="999" y="875"/>
                </a:moveTo>
                <a:lnTo>
                  <a:pt x="999" y="868"/>
                </a:lnTo>
                <a:lnTo>
                  <a:pt x="999" y="861"/>
                </a:lnTo>
                <a:lnTo>
                  <a:pt x="992" y="854"/>
                </a:lnTo>
                <a:lnTo>
                  <a:pt x="992" y="847"/>
                </a:lnTo>
                <a:lnTo>
                  <a:pt x="986" y="840"/>
                </a:lnTo>
                <a:lnTo>
                  <a:pt x="979" y="833"/>
                </a:lnTo>
                <a:lnTo>
                  <a:pt x="972" y="826"/>
                </a:lnTo>
                <a:lnTo>
                  <a:pt x="972" y="819"/>
                </a:lnTo>
                <a:lnTo>
                  <a:pt x="972" y="813"/>
                </a:lnTo>
                <a:lnTo>
                  <a:pt x="972" y="806"/>
                </a:lnTo>
                <a:lnTo>
                  <a:pt x="972" y="799"/>
                </a:lnTo>
                <a:lnTo>
                  <a:pt x="979" y="792"/>
                </a:lnTo>
                <a:lnTo>
                  <a:pt x="979" y="785"/>
                </a:lnTo>
                <a:lnTo>
                  <a:pt x="986" y="778"/>
                </a:lnTo>
                <a:lnTo>
                  <a:pt x="992" y="771"/>
                </a:lnTo>
                <a:lnTo>
                  <a:pt x="992" y="764"/>
                </a:lnTo>
                <a:lnTo>
                  <a:pt x="999" y="758"/>
                </a:lnTo>
                <a:lnTo>
                  <a:pt x="999" y="751"/>
                </a:lnTo>
                <a:lnTo>
                  <a:pt x="999" y="744"/>
                </a:lnTo>
                <a:lnTo>
                  <a:pt x="1006" y="737"/>
                </a:lnTo>
                <a:lnTo>
                  <a:pt x="1006" y="730"/>
                </a:lnTo>
                <a:lnTo>
                  <a:pt x="1013" y="730"/>
                </a:lnTo>
                <a:lnTo>
                  <a:pt x="1020" y="730"/>
                </a:lnTo>
                <a:lnTo>
                  <a:pt x="1027" y="730"/>
                </a:lnTo>
                <a:lnTo>
                  <a:pt x="1034" y="730"/>
                </a:lnTo>
                <a:lnTo>
                  <a:pt x="1041" y="737"/>
                </a:lnTo>
                <a:lnTo>
                  <a:pt x="1048" y="737"/>
                </a:lnTo>
                <a:lnTo>
                  <a:pt x="1054" y="744"/>
                </a:lnTo>
                <a:lnTo>
                  <a:pt x="1054" y="751"/>
                </a:lnTo>
                <a:lnTo>
                  <a:pt x="1061" y="758"/>
                </a:lnTo>
                <a:lnTo>
                  <a:pt x="1061" y="764"/>
                </a:lnTo>
                <a:lnTo>
                  <a:pt x="1061" y="771"/>
                </a:lnTo>
                <a:lnTo>
                  <a:pt x="1061" y="778"/>
                </a:lnTo>
                <a:lnTo>
                  <a:pt x="1061" y="792"/>
                </a:lnTo>
                <a:lnTo>
                  <a:pt x="1061" y="799"/>
                </a:lnTo>
                <a:lnTo>
                  <a:pt x="1061" y="806"/>
                </a:lnTo>
                <a:lnTo>
                  <a:pt x="1061" y="813"/>
                </a:lnTo>
                <a:lnTo>
                  <a:pt x="1054" y="819"/>
                </a:lnTo>
                <a:lnTo>
                  <a:pt x="1054" y="826"/>
                </a:lnTo>
                <a:lnTo>
                  <a:pt x="1048" y="833"/>
                </a:lnTo>
                <a:lnTo>
                  <a:pt x="1048" y="840"/>
                </a:lnTo>
                <a:lnTo>
                  <a:pt x="1041" y="847"/>
                </a:lnTo>
                <a:lnTo>
                  <a:pt x="1034" y="854"/>
                </a:lnTo>
                <a:lnTo>
                  <a:pt x="1034" y="861"/>
                </a:lnTo>
                <a:lnTo>
                  <a:pt x="1027" y="868"/>
                </a:lnTo>
                <a:lnTo>
                  <a:pt x="1027" y="875"/>
                </a:lnTo>
                <a:lnTo>
                  <a:pt x="1020" y="875"/>
                </a:lnTo>
                <a:lnTo>
                  <a:pt x="1013" y="881"/>
                </a:lnTo>
                <a:lnTo>
                  <a:pt x="1006" y="881"/>
                </a:lnTo>
                <a:lnTo>
                  <a:pt x="999" y="875"/>
                </a:lnTo>
                <a:close/>
                <a:moveTo>
                  <a:pt x="537" y="3031"/>
                </a:moveTo>
                <a:lnTo>
                  <a:pt x="565" y="3003"/>
                </a:lnTo>
                <a:lnTo>
                  <a:pt x="599" y="3003"/>
                </a:lnTo>
                <a:lnTo>
                  <a:pt x="627" y="2969"/>
                </a:lnTo>
                <a:lnTo>
                  <a:pt x="661" y="2941"/>
                </a:lnTo>
                <a:lnTo>
                  <a:pt x="689" y="2907"/>
                </a:lnTo>
                <a:lnTo>
                  <a:pt x="723" y="2907"/>
                </a:lnTo>
                <a:lnTo>
                  <a:pt x="751" y="2879"/>
                </a:lnTo>
                <a:lnTo>
                  <a:pt x="786" y="2845"/>
                </a:lnTo>
                <a:lnTo>
                  <a:pt x="820" y="2845"/>
                </a:lnTo>
                <a:lnTo>
                  <a:pt x="848" y="2817"/>
                </a:lnTo>
                <a:lnTo>
                  <a:pt x="882" y="2783"/>
                </a:lnTo>
                <a:lnTo>
                  <a:pt x="910" y="2783"/>
                </a:lnTo>
                <a:lnTo>
                  <a:pt x="944" y="2748"/>
                </a:lnTo>
                <a:lnTo>
                  <a:pt x="972" y="2721"/>
                </a:lnTo>
                <a:lnTo>
                  <a:pt x="1006" y="2686"/>
                </a:lnTo>
                <a:lnTo>
                  <a:pt x="1034" y="2686"/>
                </a:lnTo>
                <a:lnTo>
                  <a:pt x="1068" y="2659"/>
                </a:lnTo>
                <a:lnTo>
                  <a:pt x="1096" y="2624"/>
                </a:lnTo>
                <a:lnTo>
                  <a:pt x="1130" y="2624"/>
                </a:lnTo>
                <a:lnTo>
                  <a:pt x="1165" y="2597"/>
                </a:lnTo>
                <a:lnTo>
                  <a:pt x="1192" y="2562"/>
                </a:lnTo>
                <a:lnTo>
                  <a:pt x="1227" y="2535"/>
                </a:lnTo>
                <a:lnTo>
                  <a:pt x="1254" y="2535"/>
                </a:lnTo>
                <a:lnTo>
                  <a:pt x="1289" y="2500"/>
                </a:lnTo>
                <a:lnTo>
                  <a:pt x="1316" y="2473"/>
                </a:lnTo>
                <a:lnTo>
                  <a:pt x="1351" y="2473"/>
                </a:lnTo>
                <a:lnTo>
                  <a:pt x="1379" y="2438"/>
                </a:lnTo>
                <a:lnTo>
                  <a:pt x="1413" y="2404"/>
                </a:lnTo>
                <a:lnTo>
                  <a:pt x="1441" y="2376"/>
                </a:lnTo>
                <a:lnTo>
                  <a:pt x="1475" y="2376"/>
                </a:lnTo>
                <a:lnTo>
                  <a:pt x="1503" y="2342"/>
                </a:lnTo>
                <a:lnTo>
                  <a:pt x="1537" y="2314"/>
                </a:lnTo>
                <a:lnTo>
                  <a:pt x="1572" y="2314"/>
                </a:lnTo>
                <a:lnTo>
                  <a:pt x="1599" y="2280"/>
                </a:lnTo>
                <a:lnTo>
                  <a:pt x="1634" y="2252"/>
                </a:lnTo>
                <a:lnTo>
                  <a:pt x="1661" y="2218"/>
                </a:lnTo>
                <a:lnTo>
                  <a:pt x="1696" y="2218"/>
                </a:lnTo>
                <a:lnTo>
                  <a:pt x="1723" y="2190"/>
                </a:lnTo>
                <a:lnTo>
                  <a:pt x="1758" y="2156"/>
                </a:lnTo>
                <a:lnTo>
                  <a:pt x="1785" y="2156"/>
                </a:lnTo>
                <a:lnTo>
                  <a:pt x="1820" y="2128"/>
                </a:lnTo>
                <a:lnTo>
                  <a:pt x="1847" y="2094"/>
                </a:lnTo>
                <a:lnTo>
                  <a:pt x="1882" y="2059"/>
                </a:lnTo>
                <a:lnTo>
                  <a:pt x="1916" y="2059"/>
                </a:lnTo>
                <a:lnTo>
                  <a:pt x="1916" y="2032"/>
                </a:lnTo>
                <a:lnTo>
                  <a:pt x="1944" y="1997"/>
                </a:lnTo>
                <a:lnTo>
                  <a:pt x="1978" y="1970"/>
                </a:lnTo>
                <a:lnTo>
                  <a:pt x="1978" y="1935"/>
                </a:lnTo>
                <a:lnTo>
                  <a:pt x="2006" y="1908"/>
                </a:lnTo>
                <a:lnTo>
                  <a:pt x="2040" y="1873"/>
                </a:lnTo>
                <a:lnTo>
                  <a:pt x="2040" y="1846"/>
                </a:lnTo>
                <a:lnTo>
                  <a:pt x="2068" y="1811"/>
                </a:lnTo>
                <a:lnTo>
                  <a:pt x="2102" y="1784"/>
                </a:lnTo>
                <a:lnTo>
                  <a:pt x="2102" y="1749"/>
                </a:lnTo>
                <a:lnTo>
                  <a:pt x="2102" y="1722"/>
                </a:lnTo>
                <a:lnTo>
                  <a:pt x="2130" y="1687"/>
                </a:lnTo>
                <a:lnTo>
                  <a:pt x="2130" y="1653"/>
                </a:lnTo>
                <a:lnTo>
                  <a:pt x="2130" y="1625"/>
                </a:lnTo>
                <a:lnTo>
                  <a:pt x="2165" y="1591"/>
                </a:lnTo>
                <a:lnTo>
                  <a:pt x="2165" y="1563"/>
                </a:lnTo>
                <a:lnTo>
                  <a:pt x="2165" y="1529"/>
                </a:lnTo>
                <a:lnTo>
                  <a:pt x="2165" y="1501"/>
                </a:lnTo>
                <a:lnTo>
                  <a:pt x="2192" y="1467"/>
                </a:lnTo>
                <a:lnTo>
                  <a:pt x="2192" y="1439"/>
                </a:lnTo>
                <a:lnTo>
                  <a:pt x="2192" y="1405"/>
                </a:lnTo>
                <a:lnTo>
                  <a:pt x="2192" y="1377"/>
                </a:lnTo>
                <a:lnTo>
                  <a:pt x="2192" y="1343"/>
                </a:lnTo>
                <a:lnTo>
                  <a:pt x="2192" y="1309"/>
                </a:lnTo>
                <a:lnTo>
                  <a:pt x="2192" y="1281"/>
                </a:lnTo>
                <a:lnTo>
                  <a:pt x="2227" y="1247"/>
                </a:lnTo>
                <a:lnTo>
                  <a:pt x="2227" y="1219"/>
                </a:lnTo>
                <a:lnTo>
                  <a:pt x="2227" y="1185"/>
                </a:lnTo>
                <a:lnTo>
                  <a:pt x="2227" y="1157"/>
                </a:lnTo>
                <a:lnTo>
                  <a:pt x="2227" y="1123"/>
                </a:lnTo>
                <a:lnTo>
                  <a:pt x="2227" y="1095"/>
                </a:lnTo>
                <a:lnTo>
                  <a:pt x="2227" y="1061"/>
                </a:lnTo>
                <a:lnTo>
                  <a:pt x="2261" y="1033"/>
                </a:lnTo>
                <a:lnTo>
                  <a:pt x="2261" y="999"/>
                </a:lnTo>
                <a:lnTo>
                  <a:pt x="2261" y="964"/>
                </a:lnTo>
                <a:lnTo>
                  <a:pt x="2261" y="937"/>
                </a:lnTo>
                <a:lnTo>
                  <a:pt x="2261" y="902"/>
                </a:lnTo>
                <a:lnTo>
                  <a:pt x="2261" y="875"/>
                </a:lnTo>
                <a:lnTo>
                  <a:pt x="2261" y="840"/>
                </a:lnTo>
                <a:lnTo>
                  <a:pt x="2289" y="813"/>
                </a:lnTo>
                <a:lnTo>
                  <a:pt x="2289" y="778"/>
                </a:lnTo>
                <a:lnTo>
                  <a:pt x="2289" y="751"/>
                </a:lnTo>
                <a:lnTo>
                  <a:pt x="2289" y="716"/>
                </a:lnTo>
                <a:lnTo>
                  <a:pt x="2289" y="689"/>
                </a:lnTo>
                <a:lnTo>
                  <a:pt x="2289" y="654"/>
                </a:lnTo>
                <a:lnTo>
                  <a:pt x="2289" y="627"/>
                </a:lnTo>
                <a:lnTo>
                  <a:pt x="2323" y="592"/>
                </a:lnTo>
                <a:lnTo>
                  <a:pt x="2323" y="558"/>
                </a:lnTo>
                <a:lnTo>
                  <a:pt x="2323" y="530"/>
                </a:lnTo>
                <a:lnTo>
                  <a:pt x="2323" y="496"/>
                </a:lnTo>
                <a:lnTo>
                  <a:pt x="2323" y="468"/>
                </a:lnTo>
                <a:lnTo>
                  <a:pt x="2323" y="434"/>
                </a:lnTo>
                <a:lnTo>
                  <a:pt x="2323" y="406"/>
                </a:lnTo>
                <a:lnTo>
                  <a:pt x="2351" y="372"/>
                </a:lnTo>
                <a:lnTo>
                  <a:pt x="2351" y="344"/>
                </a:lnTo>
                <a:lnTo>
                  <a:pt x="2351" y="310"/>
                </a:lnTo>
                <a:lnTo>
                  <a:pt x="2351" y="282"/>
                </a:lnTo>
                <a:lnTo>
                  <a:pt x="2351" y="248"/>
                </a:lnTo>
                <a:lnTo>
                  <a:pt x="2351" y="213"/>
                </a:lnTo>
                <a:lnTo>
                  <a:pt x="2351" y="186"/>
                </a:lnTo>
                <a:lnTo>
                  <a:pt x="2385" y="151"/>
                </a:lnTo>
                <a:lnTo>
                  <a:pt x="2385" y="124"/>
                </a:lnTo>
                <a:lnTo>
                  <a:pt x="2385" y="89"/>
                </a:lnTo>
                <a:lnTo>
                  <a:pt x="2385" y="62"/>
                </a:lnTo>
                <a:lnTo>
                  <a:pt x="2385" y="27"/>
                </a:lnTo>
                <a:lnTo>
                  <a:pt x="2385" y="0"/>
                </a:lnTo>
                <a:lnTo>
                  <a:pt x="2351" y="0"/>
                </a:lnTo>
                <a:lnTo>
                  <a:pt x="2323" y="0"/>
                </a:lnTo>
                <a:lnTo>
                  <a:pt x="2289" y="0"/>
                </a:lnTo>
                <a:lnTo>
                  <a:pt x="2261" y="0"/>
                </a:lnTo>
                <a:lnTo>
                  <a:pt x="2227" y="27"/>
                </a:lnTo>
                <a:lnTo>
                  <a:pt x="2192" y="27"/>
                </a:lnTo>
                <a:lnTo>
                  <a:pt x="2165" y="27"/>
                </a:lnTo>
                <a:lnTo>
                  <a:pt x="2130" y="62"/>
                </a:lnTo>
                <a:lnTo>
                  <a:pt x="2102" y="62"/>
                </a:lnTo>
                <a:lnTo>
                  <a:pt x="2068" y="89"/>
                </a:lnTo>
                <a:lnTo>
                  <a:pt x="2040" y="89"/>
                </a:lnTo>
                <a:lnTo>
                  <a:pt x="2006" y="89"/>
                </a:lnTo>
                <a:lnTo>
                  <a:pt x="1978" y="124"/>
                </a:lnTo>
                <a:lnTo>
                  <a:pt x="1944" y="124"/>
                </a:lnTo>
                <a:lnTo>
                  <a:pt x="1916" y="151"/>
                </a:lnTo>
                <a:lnTo>
                  <a:pt x="1882" y="151"/>
                </a:lnTo>
                <a:lnTo>
                  <a:pt x="1847" y="151"/>
                </a:lnTo>
                <a:lnTo>
                  <a:pt x="1820" y="186"/>
                </a:lnTo>
                <a:lnTo>
                  <a:pt x="1785" y="186"/>
                </a:lnTo>
                <a:lnTo>
                  <a:pt x="1758" y="213"/>
                </a:lnTo>
                <a:lnTo>
                  <a:pt x="1723" y="213"/>
                </a:lnTo>
                <a:lnTo>
                  <a:pt x="1696" y="213"/>
                </a:lnTo>
                <a:lnTo>
                  <a:pt x="1661" y="248"/>
                </a:lnTo>
                <a:lnTo>
                  <a:pt x="1634" y="248"/>
                </a:lnTo>
                <a:lnTo>
                  <a:pt x="1599" y="282"/>
                </a:lnTo>
                <a:lnTo>
                  <a:pt x="1572" y="282"/>
                </a:lnTo>
                <a:lnTo>
                  <a:pt x="1537" y="282"/>
                </a:lnTo>
                <a:lnTo>
                  <a:pt x="1503" y="310"/>
                </a:lnTo>
                <a:lnTo>
                  <a:pt x="1475" y="310"/>
                </a:lnTo>
                <a:lnTo>
                  <a:pt x="1441" y="344"/>
                </a:lnTo>
                <a:lnTo>
                  <a:pt x="1413" y="344"/>
                </a:lnTo>
                <a:lnTo>
                  <a:pt x="1379" y="344"/>
                </a:lnTo>
                <a:lnTo>
                  <a:pt x="1351" y="372"/>
                </a:lnTo>
                <a:lnTo>
                  <a:pt x="1316" y="372"/>
                </a:lnTo>
                <a:lnTo>
                  <a:pt x="1289" y="406"/>
                </a:lnTo>
                <a:lnTo>
                  <a:pt x="1254" y="406"/>
                </a:lnTo>
                <a:lnTo>
                  <a:pt x="1227" y="406"/>
                </a:lnTo>
                <a:lnTo>
                  <a:pt x="1192" y="434"/>
                </a:lnTo>
                <a:lnTo>
                  <a:pt x="1165" y="434"/>
                </a:lnTo>
                <a:lnTo>
                  <a:pt x="1130" y="468"/>
                </a:lnTo>
                <a:lnTo>
                  <a:pt x="1096" y="468"/>
                </a:lnTo>
                <a:lnTo>
                  <a:pt x="1068" y="468"/>
                </a:lnTo>
                <a:lnTo>
                  <a:pt x="1034" y="496"/>
                </a:lnTo>
                <a:lnTo>
                  <a:pt x="1034" y="530"/>
                </a:lnTo>
                <a:lnTo>
                  <a:pt x="1006" y="558"/>
                </a:lnTo>
                <a:lnTo>
                  <a:pt x="1006" y="592"/>
                </a:lnTo>
                <a:lnTo>
                  <a:pt x="972" y="627"/>
                </a:lnTo>
                <a:lnTo>
                  <a:pt x="972" y="654"/>
                </a:lnTo>
                <a:lnTo>
                  <a:pt x="944" y="689"/>
                </a:lnTo>
                <a:lnTo>
                  <a:pt x="944" y="716"/>
                </a:lnTo>
                <a:lnTo>
                  <a:pt x="910" y="751"/>
                </a:lnTo>
                <a:lnTo>
                  <a:pt x="910" y="778"/>
                </a:lnTo>
                <a:lnTo>
                  <a:pt x="882" y="813"/>
                </a:lnTo>
                <a:lnTo>
                  <a:pt x="882" y="840"/>
                </a:lnTo>
                <a:lnTo>
                  <a:pt x="882" y="875"/>
                </a:lnTo>
                <a:lnTo>
                  <a:pt x="848" y="902"/>
                </a:lnTo>
                <a:lnTo>
                  <a:pt x="848" y="937"/>
                </a:lnTo>
                <a:lnTo>
                  <a:pt x="820" y="964"/>
                </a:lnTo>
                <a:lnTo>
                  <a:pt x="820" y="999"/>
                </a:lnTo>
                <a:lnTo>
                  <a:pt x="786" y="1033"/>
                </a:lnTo>
                <a:lnTo>
                  <a:pt x="786" y="1061"/>
                </a:lnTo>
                <a:lnTo>
                  <a:pt x="751" y="1095"/>
                </a:lnTo>
                <a:lnTo>
                  <a:pt x="751" y="1123"/>
                </a:lnTo>
                <a:lnTo>
                  <a:pt x="723" y="1157"/>
                </a:lnTo>
                <a:lnTo>
                  <a:pt x="723" y="1185"/>
                </a:lnTo>
                <a:lnTo>
                  <a:pt x="689" y="1219"/>
                </a:lnTo>
                <a:lnTo>
                  <a:pt x="689" y="1247"/>
                </a:lnTo>
                <a:lnTo>
                  <a:pt x="689" y="1281"/>
                </a:lnTo>
                <a:lnTo>
                  <a:pt x="661" y="1309"/>
                </a:lnTo>
                <a:lnTo>
                  <a:pt x="661" y="1343"/>
                </a:lnTo>
                <a:lnTo>
                  <a:pt x="627" y="1377"/>
                </a:lnTo>
                <a:lnTo>
                  <a:pt x="627" y="1405"/>
                </a:lnTo>
                <a:lnTo>
                  <a:pt x="599" y="1439"/>
                </a:lnTo>
                <a:lnTo>
                  <a:pt x="599" y="1467"/>
                </a:lnTo>
                <a:lnTo>
                  <a:pt x="565" y="1501"/>
                </a:lnTo>
                <a:lnTo>
                  <a:pt x="565" y="1529"/>
                </a:lnTo>
                <a:lnTo>
                  <a:pt x="537" y="1563"/>
                </a:lnTo>
                <a:lnTo>
                  <a:pt x="537" y="1591"/>
                </a:lnTo>
                <a:lnTo>
                  <a:pt x="503" y="1625"/>
                </a:lnTo>
                <a:lnTo>
                  <a:pt x="503" y="1653"/>
                </a:lnTo>
                <a:lnTo>
                  <a:pt x="503" y="1687"/>
                </a:lnTo>
                <a:lnTo>
                  <a:pt x="475" y="1722"/>
                </a:lnTo>
                <a:lnTo>
                  <a:pt x="475" y="1749"/>
                </a:lnTo>
                <a:lnTo>
                  <a:pt x="441" y="1784"/>
                </a:lnTo>
                <a:lnTo>
                  <a:pt x="441" y="1811"/>
                </a:lnTo>
                <a:lnTo>
                  <a:pt x="413" y="1846"/>
                </a:lnTo>
                <a:lnTo>
                  <a:pt x="413" y="1873"/>
                </a:lnTo>
                <a:lnTo>
                  <a:pt x="379" y="1908"/>
                </a:lnTo>
                <a:lnTo>
                  <a:pt x="379" y="1935"/>
                </a:lnTo>
                <a:lnTo>
                  <a:pt x="344" y="1970"/>
                </a:lnTo>
                <a:lnTo>
                  <a:pt x="344" y="1997"/>
                </a:lnTo>
                <a:lnTo>
                  <a:pt x="317" y="2032"/>
                </a:lnTo>
                <a:lnTo>
                  <a:pt x="317" y="2059"/>
                </a:lnTo>
                <a:lnTo>
                  <a:pt x="317" y="2094"/>
                </a:lnTo>
                <a:lnTo>
                  <a:pt x="282" y="2128"/>
                </a:lnTo>
                <a:lnTo>
                  <a:pt x="282" y="2156"/>
                </a:lnTo>
                <a:lnTo>
                  <a:pt x="255" y="2190"/>
                </a:lnTo>
                <a:lnTo>
                  <a:pt x="255" y="2218"/>
                </a:lnTo>
                <a:lnTo>
                  <a:pt x="220" y="2252"/>
                </a:lnTo>
                <a:lnTo>
                  <a:pt x="220" y="2280"/>
                </a:lnTo>
                <a:lnTo>
                  <a:pt x="193" y="2314"/>
                </a:lnTo>
                <a:lnTo>
                  <a:pt x="193" y="2342"/>
                </a:lnTo>
                <a:lnTo>
                  <a:pt x="158" y="2376"/>
                </a:lnTo>
                <a:lnTo>
                  <a:pt x="158" y="2404"/>
                </a:lnTo>
                <a:lnTo>
                  <a:pt x="158" y="2438"/>
                </a:lnTo>
                <a:lnTo>
                  <a:pt x="131" y="2473"/>
                </a:lnTo>
                <a:lnTo>
                  <a:pt x="131" y="2500"/>
                </a:lnTo>
                <a:lnTo>
                  <a:pt x="96" y="2535"/>
                </a:lnTo>
                <a:lnTo>
                  <a:pt x="96" y="2562"/>
                </a:lnTo>
                <a:lnTo>
                  <a:pt x="68" y="2597"/>
                </a:lnTo>
                <a:lnTo>
                  <a:pt x="68" y="2624"/>
                </a:lnTo>
                <a:lnTo>
                  <a:pt x="34" y="2659"/>
                </a:lnTo>
                <a:lnTo>
                  <a:pt x="34" y="2686"/>
                </a:lnTo>
                <a:lnTo>
                  <a:pt x="0" y="2721"/>
                </a:lnTo>
                <a:lnTo>
                  <a:pt x="0" y="2748"/>
                </a:lnTo>
                <a:lnTo>
                  <a:pt x="0" y="2783"/>
                </a:lnTo>
                <a:lnTo>
                  <a:pt x="34" y="2783"/>
                </a:lnTo>
                <a:lnTo>
                  <a:pt x="68" y="2817"/>
                </a:lnTo>
                <a:lnTo>
                  <a:pt x="96" y="2817"/>
                </a:lnTo>
                <a:lnTo>
                  <a:pt x="131" y="2845"/>
                </a:lnTo>
                <a:lnTo>
                  <a:pt x="158" y="2879"/>
                </a:lnTo>
                <a:lnTo>
                  <a:pt x="193" y="2879"/>
                </a:lnTo>
                <a:lnTo>
                  <a:pt x="220" y="2907"/>
                </a:lnTo>
                <a:lnTo>
                  <a:pt x="255" y="2907"/>
                </a:lnTo>
                <a:lnTo>
                  <a:pt x="282" y="2941"/>
                </a:lnTo>
                <a:lnTo>
                  <a:pt x="317" y="2941"/>
                </a:lnTo>
                <a:lnTo>
                  <a:pt x="344" y="2969"/>
                </a:lnTo>
                <a:lnTo>
                  <a:pt x="379" y="2969"/>
                </a:lnTo>
                <a:lnTo>
                  <a:pt x="413" y="3003"/>
                </a:lnTo>
                <a:lnTo>
                  <a:pt x="441" y="3003"/>
                </a:lnTo>
                <a:lnTo>
                  <a:pt x="475" y="3031"/>
                </a:lnTo>
                <a:lnTo>
                  <a:pt x="503" y="3031"/>
                </a:lnTo>
                <a:lnTo>
                  <a:pt x="537" y="3031"/>
                </a:lnTo>
                <a:close/>
              </a:path>
            </a:pathLst>
          </a:custGeom>
          <a:solidFill>
            <a:srgbClr val="ff3a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4" name=""/>
          <p:cNvSpPr/>
          <p:nvPr/>
        </p:nvSpPr>
        <p:spPr>
          <a:xfrm>
            <a:off x="3720960" y="1328760"/>
            <a:ext cx="3251520" cy="5237280"/>
          </a:xfrm>
          <a:custGeom>
            <a:avLst/>
            <a:gdLst/>
            <a:ahLst/>
            <a:rect l="l" t="t" r="r" b="b"/>
            <a:pathLst>
              <a:path w="2048" h="3299">
                <a:moveTo>
                  <a:pt x="718" y="3299"/>
                </a:moveTo>
                <a:lnTo>
                  <a:pt x="752" y="3265"/>
                </a:lnTo>
                <a:lnTo>
                  <a:pt x="787" y="3265"/>
                </a:lnTo>
                <a:lnTo>
                  <a:pt x="821" y="3265"/>
                </a:lnTo>
                <a:lnTo>
                  <a:pt x="855" y="3230"/>
                </a:lnTo>
                <a:lnTo>
                  <a:pt x="890" y="3230"/>
                </a:lnTo>
                <a:lnTo>
                  <a:pt x="924" y="3230"/>
                </a:lnTo>
                <a:lnTo>
                  <a:pt x="959" y="3196"/>
                </a:lnTo>
                <a:lnTo>
                  <a:pt x="993" y="3196"/>
                </a:lnTo>
                <a:lnTo>
                  <a:pt x="1028" y="3196"/>
                </a:lnTo>
                <a:lnTo>
                  <a:pt x="1062" y="3161"/>
                </a:lnTo>
                <a:lnTo>
                  <a:pt x="1090" y="3161"/>
                </a:lnTo>
                <a:lnTo>
                  <a:pt x="1090" y="3127"/>
                </a:lnTo>
                <a:lnTo>
                  <a:pt x="1124" y="3093"/>
                </a:lnTo>
                <a:lnTo>
                  <a:pt x="1124" y="3058"/>
                </a:lnTo>
                <a:lnTo>
                  <a:pt x="1159" y="3024"/>
                </a:lnTo>
                <a:lnTo>
                  <a:pt x="1159" y="2996"/>
                </a:lnTo>
                <a:lnTo>
                  <a:pt x="1193" y="2962"/>
                </a:lnTo>
                <a:lnTo>
                  <a:pt x="1193" y="2927"/>
                </a:lnTo>
                <a:lnTo>
                  <a:pt x="1228" y="2893"/>
                </a:lnTo>
                <a:lnTo>
                  <a:pt x="1228" y="2858"/>
                </a:lnTo>
                <a:lnTo>
                  <a:pt x="1262" y="2824"/>
                </a:lnTo>
                <a:lnTo>
                  <a:pt x="1262" y="2789"/>
                </a:lnTo>
                <a:lnTo>
                  <a:pt x="1297" y="2755"/>
                </a:lnTo>
                <a:lnTo>
                  <a:pt x="1297" y="2721"/>
                </a:lnTo>
                <a:lnTo>
                  <a:pt x="1331" y="2686"/>
                </a:lnTo>
                <a:lnTo>
                  <a:pt x="1331" y="2652"/>
                </a:lnTo>
                <a:lnTo>
                  <a:pt x="1366" y="2617"/>
                </a:lnTo>
                <a:lnTo>
                  <a:pt x="1366" y="2583"/>
                </a:lnTo>
                <a:lnTo>
                  <a:pt x="1400" y="2548"/>
                </a:lnTo>
                <a:lnTo>
                  <a:pt x="1400" y="2514"/>
                </a:lnTo>
                <a:lnTo>
                  <a:pt x="1428" y="2493"/>
                </a:lnTo>
                <a:lnTo>
                  <a:pt x="1428" y="2480"/>
                </a:lnTo>
                <a:lnTo>
                  <a:pt x="1428" y="2473"/>
                </a:lnTo>
                <a:lnTo>
                  <a:pt x="1435" y="2459"/>
                </a:lnTo>
                <a:lnTo>
                  <a:pt x="1435" y="2445"/>
                </a:lnTo>
                <a:lnTo>
                  <a:pt x="1435" y="2438"/>
                </a:lnTo>
                <a:lnTo>
                  <a:pt x="1442" y="2424"/>
                </a:lnTo>
                <a:lnTo>
                  <a:pt x="1442" y="2418"/>
                </a:lnTo>
                <a:lnTo>
                  <a:pt x="1442" y="2404"/>
                </a:lnTo>
                <a:lnTo>
                  <a:pt x="1442" y="2397"/>
                </a:lnTo>
                <a:lnTo>
                  <a:pt x="1448" y="2383"/>
                </a:lnTo>
                <a:lnTo>
                  <a:pt x="1448" y="2376"/>
                </a:lnTo>
                <a:lnTo>
                  <a:pt x="1448" y="2362"/>
                </a:lnTo>
                <a:lnTo>
                  <a:pt x="1455" y="2349"/>
                </a:lnTo>
                <a:lnTo>
                  <a:pt x="1455" y="2342"/>
                </a:lnTo>
                <a:lnTo>
                  <a:pt x="1455" y="2328"/>
                </a:lnTo>
                <a:lnTo>
                  <a:pt x="1462" y="2321"/>
                </a:lnTo>
                <a:lnTo>
                  <a:pt x="1462" y="2307"/>
                </a:lnTo>
                <a:lnTo>
                  <a:pt x="1462" y="2300"/>
                </a:lnTo>
                <a:lnTo>
                  <a:pt x="1462" y="2287"/>
                </a:lnTo>
                <a:lnTo>
                  <a:pt x="1469" y="2280"/>
                </a:lnTo>
                <a:lnTo>
                  <a:pt x="1469" y="2266"/>
                </a:lnTo>
                <a:lnTo>
                  <a:pt x="1469" y="2252"/>
                </a:lnTo>
                <a:lnTo>
                  <a:pt x="1476" y="2245"/>
                </a:lnTo>
                <a:lnTo>
                  <a:pt x="1476" y="2232"/>
                </a:lnTo>
                <a:lnTo>
                  <a:pt x="1469" y="2225"/>
                </a:lnTo>
                <a:lnTo>
                  <a:pt x="1462" y="2218"/>
                </a:lnTo>
                <a:lnTo>
                  <a:pt x="1455" y="2211"/>
                </a:lnTo>
                <a:lnTo>
                  <a:pt x="1448" y="2211"/>
                </a:lnTo>
                <a:lnTo>
                  <a:pt x="1442" y="2204"/>
                </a:lnTo>
                <a:lnTo>
                  <a:pt x="1435" y="2204"/>
                </a:lnTo>
                <a:lnTo>
                  <a:pt x="1428" y="2197"/>
                </a:lnTo>
                <a:lnTo>
                  <a:pt x="1428" y="2190"/>
                </a:lnTo>
                <a:lnTo>
                  <a:pt x="1421" y="2183"/>
                </a:lnTo>
                <a:lnTo>
                  <a:pt x="1414" y="2176"/>
                </a:lnTo>
                <a:lnTo>
                  <a:pt x="1407" y="2170"/>
                </a:lnTo>
                <a:lnTo>
                  <a:pt x="1400" y="2163"/>
                </a:lnTo>
                <a:lnTo>
                  <a:pt x="1400" y="2156"/>
                </a:lnTo>
                <a:lnTo>
                  <a:pt x="1393" y="2149"/>
                </a:lnTo>
                <a:lnTo>
                  <a:pt x="1386" y="2142"/>
                </a:lnTo>
                <a:lnTo>
                  <a:pt x="1379" y="2135"/>
                </a:lnTo>
                <a:lnTo>
                  <a:pt x="1373" y="2135"/>
                </a:lnTo>
                <a:lnTo>
                  <a:pt x="1366" y="2128"/>
                </a:lnTo>
                <a:lnTo>
                  <a:pt x="1359" y="2128"/>
                </a:lnTo>
                <a:lnTo>
                  <a:pt x="1352" y="2128"/>
                </a:lnTo>
                <a:lnTo>
                  <a:pt x="1345" y="2128"/>
                </a:lnTo>
                <a:lnTo>
                  <a:pt x="1338" y="2128"/>
                </a:lnTo>
                <a:lnTo>
                  <a:pt x="1331" y="2128"/>
                </a:lnTo>
                <a:lnTo>
                  <a:pt x="1324" y="2128"/>
                </a:lnTo>
                <a:lnTo>
                  <a:pt x="1317" y="2128"/>
                </a:lnTo>
                <a:lnTo>
                  <a:pt x="1311" y="2128"/>
                </a:lnTo>
                <a:lnTo>
                  <a:pt x="1304" y="2128"/>
                </a:lnTo>
                <a:lnTo>
                  <a:pt x="1297" y="2128"/>
                </a:lnTo>
                <a:lnTo>
                  <a:pt x="1290" y="2128"/>
                </a:lnTo>
                <a:lnTo>
                  <a:pt x="1283" y="2128"/>
                </a:lnTo>
                <a:lnTo>
                  <a:pt x="1276" y="2128"/>
                </a:lnTo>
                <a:lnTo>
                  <a:pt x="1269" y="2128"/>
                </a:lnTo>
                <a:lnTo>
                  <a:pt x="1262" y="2128"/>
                </a:lnTo>
                <a:lnTo>
                  <a:pt x="1255" y="2128"/>
                </a:lnTo>
                <a:lnTo>
                  <a:pt x="1248" y="2128"/>
                </a:lnTo>
                <a:lnTo>
                  <a:pt x="1242" y="2128"/>
                </a:lnTo>
                <a:lnTo>
                  <a:pt x="1235" y="2128"/>
                </a:lnTo>
                <a:lnTo>
                  <a:pt x="1228" y="2128"/>
                </a:lnTo>
                <a:lnTo>
                  <a:pt x="1221" y="2128"/>
                </a:lnTo>
                <a:lnTo>
                  <a:pt x="1214" y="2128"/>
                </a:lnTo>
                <a:lnTo>
                  <a:pt x="1207" y="2128"/>
                </a:lnTo>
                <a:lnTo>
                  <a:pt x="1200" y="2128"/>
                </a:lnTo>
                <a:lnTo>
                  <a:pt x="1193" y="2128"/>
                </a:lnTo>
                <a:lnTo>
                  <a:pt x="1186" y="2128"/>
                </a:lnTo>
                <a:lnTo>
                  <a:pt x="1180" y="2128"/>
                </a:lnTo>
                <a:lnTo>
                  <a:pt x="1166" y="2128"/>
                </a:lnTo>
                <a:lnTo>
                  <a:pt x="1159" y="2128"/>
                </a:lnTo>
                <a:lnTo>
                  <a:pt x="1152" y="2128"/>
                </a:lnTo>
                <a:lnTo>
                  <a:pt x="1145" y="2128"/>
                </a:lnTo>
                <a:lnTo>
                  <a:pt x="1138" y="2128"/>
                </a:lnTo>
                <a:lnTo>
                  <a:pt x="1131" y="2128"/>
                </a:lnTo>
                <a:lnTo>
                  <a:pt x="1124" y="2128"/>
                </a:lnTo>
                <a:lnTo>
                  <a:pt x="1117" y="2128"/>
                </a:lnTo>
                <a:lnTo>
                  <a:pt x="1111" y="2128"/>
                </a:lnTo>
                <a:lnTo>
                  <a:pt x="1104" y="2121"/>
                </a:lnTo>
                <a:lnTo>
                  <a:pt x="1097" y="2121"/>
                </a:lnTo>
                <a:lnTo>
                  <a:pt x="1090" y="2121"/>
                </a:lnTo>
                <a:lnTo>
                  <a:pt x="1083" y="2121"/>
                </a:lnTo>
                <a:lnTo>
                  <a:pt x="1076" y="2121"/>
                </a:lnTo>
                <a:lnTo>
                  <a:pt x="1069" y="2121"/>
                </a:lnTo>
                <a:lnTo>
                  <a:pt x="1062" y="2121"/>
                </a:lnTo>
                <a:lnTo>
                  <a:pt x="1055" y="2121"/>
                </a:lnTo>
                <a:lnTo>
                  <a:pt x="1049" y="2121"/>
                </a:lnTo>
                <a:lnTo>
                  <a:pt x="1042" y="2121"/>
                </a:lnTo>
                <a:lnTo>
                  <a:pt x="1035" y="2121"/>
                </a:lnTo>
                <a:lnTo>
                  <a:pt x="1028" y="2121"/>
                </a:lnTo>
                <a:lnTo>
                  <a:pt x="1021" y="2121"/>
                </a:lnTo>
                <a:lnTo>
                  <a:pt x="1014" y="2114"/>
                </a:lnTo>
                <a:lnTo>
                  <a:pt x="1000" y="2114"/>
                </a:lnTo>
                <a:lnTo>
                  <a:pt x="1000" y="2108"/>
                </a:lnTo>
                <a:lnTo>
                  <a:pt x="1000" y="2108"/>
                </a:lnTo>
                <a:lnTo>
                  <a:pt x="1007" y="2101"/>
                </a:lnTo>
                <a:lnTo>
                  <a:pt x="1014" y="2101"/>
                </a:lnTo>
                <a:lnTo>
                  <a:pt x="1028" y="2101"/>
                </a:lnTo>
                <a:lnTo>
                  <a:pt x="1035" y="2094"/>
                </a:lnTo>
                <a:lnTo>
                  <a:pt x="1042" y="2087"/>
                </a:lnTo>
                <a:lnTo>
                  <a:pt x="1042" y="2080"/>
                </a:lnTo>
                <a:lnTo>
                  <a:pt x="1049" y="2073"/>
                </a:lnTo>
                <a:lnTo>
                  <a:pt x="1055" y="2066"/>
                </a:lnTo>
                <a:lnTo>
                  <a:pt x="1062" y="2059"/>
                </a:lnTo>
                <a:lnTo>
                  <a:pt x="1069" y="2059"/>
                </a:lnTo>
                <a:lnTo>
                  <a:pt x="1076" y="2052"/>
                </a:lnTo>
                <a:lnTo>
                  <a:pt x="1076" y="2046"/>
                </a:lnTo>
                <a:lnTo>
                  <a:pt x="1083" y="2039"/>
                </a:lnTo>
                <a:lnTo>
                  <a:pt x="1090" y="2032"/>
                </a:lnTo>
                <a:lnTo>
                  <a:pt x="1097" y="2025"/>
                </a:lnTo>
                <a:lnTo>
                  <a:pt x="1104" y="2018"/>
                </a:lnTo>
                <a:lnTo>
                  <a:pt x="1111" y="2018"/>
                </a:lnTo>
                <a:lnTo>
                  <a:pt x="1117" y="2011"/>
                </a:lnTo>
                <a:lnTo>
                  <a:pt x="1124" y="2004"/>
                </a:lnTo>
                <a:lnTo>
                  <a:pt x="1124" y="1997"/>
                </a:lnTo>
                <a:lnTo>
                  <a:pt x="1131" y="1990"/>
                </a:lnTo>
                <a:lnTo>
                  <a:pt x="1138" y="1984"/>
                </a:lnTo>
                <a:lnTo>
                  <a:pt x="1145" y="1977"/>
                </a:lnTo>
                <a:lnTo>
                  <a:pt x="1152" y="1977"/>
                </a:lnTo>
                <a:lnTo>
                  <a:pt x="1159" y="1970"/>
                </a:lnTo>
                <a:lnTo>
                  <a:pt x="1166" y="1963"/>
                </a:lnTo>
                <a:lnTo>
                  <a:pt x="1173" y="1956"/>
                </a:lnTo>
                <a:lnTo>
                  <a:pt x="1173" y="1949"/>
                </a:lnTo>
                <a:lnTo>
                  <a:pt x="1180" y="1942"/>
                </a:lnTo>
                <a:lnTo>
                  <a:pt x="1186" y="1935"/>
                </a:lnTo>
                <a:lnTo>
                  <a:pt x="1193" y="1935"/>
                </a:lnTo>
                <a:lnTo>
                  <a:pt x="1200" y="1928"/>
                </a:lnTo>
                <a:lnTo>
                  <a:pt x="1207" y="1922"/>
                </a:lnTo>
                <a:lnTo>
                  <a:pt x="1214" y="1915"/>
                </a:lnTo>
                <a:lnTo>
                  <a:pt x="1214" y="1908"/>
                </a:lnTo>
                <a:lnTo>
                  <a:pt x="1221" y="1901"/>
                </a:lnTo>
                <a:lnTo>
                  <a:pt x="1228" y="1894"/>
                </a:lnTo>
                <a:lnTo>
                  <a:pt x="1235" y="1894"/>
                </a:lnTo>
                <a:lnTo>
                  <a:pt x="1242" y="1887"/>
                </a:lnTo>
                <a:lnTo>
                  <a:pt x="1248" y="1880"/>
                </a:lnTo>
                <a:lnTo>
                  <a:pt x="1255" y="1873"/>
                </a:lnTo>
                <a:lnTo>
                  <a:pt x="1262" y="1866"/>
                </a:lnTo>
                <a:lnTo>
                  <a:pt x="1262" y="1860"/>
                </a:lnTo>
                <a:lnTo>
                  <a:pt x="1269" y="1860"/>
                </a:lnTo>
                <a:lnTo>
                  <a:pt x="1276" y="1853"/>
                </a:lnTo>
                <a:lnTo>
                  <a:pt x="1283" y="1846"/>
                </a:lnTo>
                <a:lnTo>
                  <a:pt x="1290" y="1839"/>
                </a:lnTo>
                <a:lnTo>
                  <a:pt x="1297" y="1832"/>
                </a:lnTo>
                <a:lnTo>
                  <a:pt x="1304" y="1825"/>
                </a:lnTo>
                <a:lnTo>
                  <a:pt x="1311" y="1818"/>
                </a:lnTo>
                <a:lnTo>
                  <a:pt x="1311" y="1818"/>
                </a:lnTo>
                <a:lnTo>
                  <a:pt x="1317" y="1811"/>
                </a:lnTo>
                <a:lnTo>
                  <a:pt x="1324" y="1804"/>
                </a:lnTo>
                <a:lnTo>
                  <a:pt x="1331" y="1798"/>
                </a:lnTo>
                <a:lnTo>
                  <a:pt x="1338" y="1791"/>
                </a:lnTo>
                <a:lnTo>
                  <a:pt x="1345" y="1784"/>
                </a:lnTo>
                <a:lnTo>
                  <a:pt x="1352" y="1784"/>
                </a:lnTo>
                <a:lnTo>
                  <a:pt x="1359" y="1777"/>
                </a:lnTo>
                <a:lnTo>
                  <a:pt x="1359" y="1770"/>
                </a:lnTo>
                <a:lnTo>
                  <a:pt x="1366" y="1756"/>
                </a:lnTo>
                <a:lnTo>
                  <a:pt x="1366" y="1749"/>
                </a:lnTo>
                <a:lnTo>
                  <a:pt x="1366" y="1736"/>
                </a:lnTo>
                <a:lnTo>
                  <a:pt x="1366" y="1729"/>
                </a:lnTo>
                <a:lnTo>
                  <a:pt x="1359" y="1722"/>
                </a:lnTo>
                <a:lnTo>
                  <a:pt x="1352" y="1722"/>
                </a:lnTo>
                <a:lnTo>
                  <a:pt x="1345" y="1715"/>
                </a:lnTo>
                <a:lnTo>
                  <a:pt x="1338" y="1708"/>
                </a:lnTo>
                <a:lnTo>
                  <a:pt x="1331" y="1701"/>
                </a:lnTo>
                <a:lnTo>
                  <a:pt x="1331" y="1687"/>
                </a:lnTo>
                <a:lnTo>
                  <a:pt x="1331" y="1674"/>
                </a:lnTo>
                <a:lnTo>
                  <a:pt x="1324" y="1674"/>
                </a:lnTo>
                <a:lnTo>
                  <a:pt x="1317" y="1674"/>
                </a:lnTo>
                <a:lnTo>
                  <a:pt x="1311" y="1674"/>
                </a:lnTo>
                <a:lnTo>
                  <a:pt x="1304" y="1674"/>
                </a:lnTo>
                <a:lnTo>
                  <a:pt x="1297" y="1674"/>
                </a:lnTo>
                <a:lnTo>
                  <a:pt x="1290" y="1674"/>
                </a:lnTo>
                <a:lnTo>
                  <a:pt x="1283" y="1674"/>
                </a:lnTo>
                <a:lnTo>
                  <a:pt x="1276" y="1674"/>
                </a:lnTo>
                <a:lnTo>
                  <a:pt x="1269" y="1674"/>
                </a:lnTo>
                <a:lnTo>
                  <a:pt x="1262" y="1674"/>
                </a:lnTo>
                <a:lnTo>
                  <a:pt x="1255" y="1674"/>
                </a:lnTo>
                <a:lnTo>
                  <a:pt x="1248" y="1674"/>
                </a:lnTo>
                <a:lnTo>
                  <a:pt x="1242" y="1674"/>
                </a:lnTo>
                <a:lnTo>
                  <a:pt x="1235" y="1674"/>
                </a:lnTo>
                <a:lnTo>
                  <a:pt x="1228" y="1680"/>
                </a:lnTo>
                <a:lnTo>
                  <a:pt x="1221" y="1680"/>
                </a:lnTo>
                <a:lnTo>
                  <a:pt x="1207" y="1680"/>
                </a:lnTo>
                <a:lnTo>
                  <a:pt x="1200" y="1680"/>
                </a:lnTo>
                <a:lnTo>
                  <a:pt x="1193" y="1680"/>
                </a:lnTo>
                <a:lnTo>
                  <a:pt x="1186" y="1680"/>
                </a:lnTo>
                <a:lnTo>
                  <a:pt x="1180" y="1680"/>
                </a:lnTo>
                <a:lnTo>
                  <a:pt x="1173" y="1680"/>
                </a:lnTo>
                <a:lnTo>
                  <a:pt x="1166" y="1680"/>
                </a:lnTo>
                <a:lnTo>
                  <a:pt x="1159" y="1680"/>
                </a:lnTo>
                <a:lnTo>
                  <a:pt x="1152" y="1680"/>
                </a:lnTo>
                <a:lnTo>
                  <a:pt x="1145" y="1687"/>
                </a:lnTo>
                <a:lnTo>
                  <a:pt x="1138" y="1687"/>
                </a:lnTo>
                <a:lnTo>
                  <a:pt x="1131" y="1687"/>
                </a:lnTo>
                <a:lnTo>
                  <a:pt x="1124" y="1687"/>
                </a:lnTo>
                <a:lnTo>
                  <a:pt x="1117" y="1687"/>
                </a:lnTo>
                <a:lnTo>
                  <a:pt x="1111" y="1687"/>
                </a:lnTo>
                <a:lnTo>
                  <a:pt x="1104" y="1687"/>
                </a:lnTo>
                <a:lnTo>
                  <a:pt x="1097" y="1694"/>
                </a:lnTo>
                <a:lnTo>
                  <a:pt x="1090" y="1694"/>
                </a:lnTo>
                <a:lnTo>
                  <a:pt x="1083" y="1694"/>
                </a:lnTo>
                <a:lnTo>
                  <a:pt x="1076" y="1701"/>
                </a:lnTo>
                <a:lnTo>
                  <a:pt x="1069" y="1701"/>
                </a:lnTo>
                <a:lnTo>
                  <a:pt x="1062" y="1701"/>
                </a:lnTo>
                <a:lnTo>
                  <a:pt x="1055" y="1708"/>
                </a:lnTo>
                <a:lnTo>
                  <a:pt x="1049" y="1708"/>
                </a:lnTo>
                <a:lnTo>
                  <a:pt x="1042" y="1715"/>
                </a:lnTo>
                <a:lnTo>
                  <a:pt x="1035" y="1715"/>
                </a:lnTo>
                <a:lnTo>
                  <a:pt x="1028" y="1715"/>
                </a:lnTo>
                <a:lnTo>
                  <a:pt x="1021" y="1722"/>
                </a:lnTo>
                <a:lnTo>
                  <a:pt x="1014" y="1722"/>
                </a:lnTo>
                <a:lnTo>
                  <a:pt x="1007" y="1722"/>
                </a:lnTo>
                <a:lnTo>
                  <a:pt x="1000" y="1729"/>
                </a:lnTo>
                <a:lnTo>
                  <a:pt x="993" y="1729"/>
                </a:lnTo>
                <a:lnTo>
                  <a:pt x="986" y="1736"/>
                </a:lnTo>
                <a:lnTo>
                  <a:pt x="980" y="1736"/>
                </a:lnTo>
                <a:lnTo>
                  <a:pt x="973" y="1736"/>
                </a:lnTo>
                <a:lnTo>
                  <a:pt x="966" y="1742"/>
                </a:lnTo>
                <a:lnTo>
                  <a:pt x="959" y="1742"/>
                </a:lnTo>
                <a:lnTo>
                  <a:pt x="952" y="1742"/>
                </a:lnTo>
                <a:lnTo>
                  <a:pt x="945" y="1736"/>
                </a:lnTo>
                <a:lnTo>
                  <a:pt x="945" y="1729"/>
                </a:lnTo>
                <a:lnTo>
                  <a:pt x="945" y="1722"/>
                </a:lnTo>
                <a:lnTo>
                  <a:pt x="952" y="1708"/>
                </a:lnTo>
                <a:lnTo>
                  <a:pt x="952" y="1701"/>
                </a:lnTo>
                <a:lnTo>
                  <a:pt x="959" y="1687"/>
                </a:lnTo>
                <a:lnTo>
                  <a:pt x="959" y="1680"/>
                </a:lnTo>
                <a:lnTo>
                  <a:pt x="966" y="1674"/>
                </a:lnTo>
                <a:lnTo>
                  <a:pt x="973" y="1660"/>
                </a:lnTo>
                <a:lnTo>
                  <a:pt x="973" y="1653"/>
                </a:lnTo>
                <a:lnTo>
                  <a:pt x="980" y="1646"/>
                </a:lnTo>
                <a:lnTo>
                  <a:pt x="980" y="1632"/>
                </a:lnTo>
                <a:lnTo>
                  <a:pt x="986" y="1625"/>
                </a:lnTo>
                <a:lnTo>
                  <a:pt x="986" y="1618"/>
                </a:lnTo>
                <a:lnTo>
                  <a:pt x="993" y="1605"/>
                </a:lnTo>
                <a:lnTo>
                  <a:pt x="1000" y="1598"/>
                </a:lnTo>
                <a:lnTo>
                  <a:pt x="1000" y="1591"/>
                </a:lnTo>
                <a:lnTo>
                  <a:pt x="1007" y="1577"/>
                </a:lnTo>
                <a:lnTo>
                  <a:pt x="1007" y="1570"/>
                </a:lnTo>
                <a:lnTo>
                  <a:pt x="1014" y="1556"/>
                </a:lnTo>
                <a:lnTo>
                  <a:pt x="1014" y="1550"/>
                </a:lnTo>
                <a:lnTo>
                  <a:pt x="1021" y="1543"/>
                </a:lnTo>
                <a:lnTo>
                  <a:pt x="1028" y="1536"/>
                </a:lnTo>
                <a:lnTo>
                  <a:pt x="1028" y="1529"/>
                </a:lnTo>
                <a:lnTo>
                  <a:pt x="1035" y="1515"/>
                </a:lnTo>
                <a:lnTo>
                  <a:pt x="1042" y="1508"/>
                </a:lnTo>
                <a:lnTo>
                  <a:pt x="1042" y="1501"/>
                </a:lnTo>
                <a:lnTo>
                  <a:pt x="1049" y="1488"/>
                </a:lnTo>
                <a:lnTo>
                  <a:pt x="1049" y="1481"/>
                </a:lnTo>
                <a:lnTo>
                  <a:pt x="1049" y="1467"/>
                </a:lnTo>
                <a:lnTo>
                  <a:pt x="1049" y="1453"/>
                </a:lnTo>
                <a:lnTo>
                  <a:pt x="1049" y="1446"/>
                </a:lnTo>
                <a:lnTo>
                  <a:pt x="1049" y="1432"/>
                </a:lnTo>
                <a:lnTo>
                  <a:pt x="1049" y="1426"/>
                </a:lnTo>
                <a:lnTo>
                  <a:pt x="1049" y="1412"/>
                </a:lnTo>
                <a:lnTo>
                  <a:pt x="1049" y="1398"/>
                </a:lnTo>
                <a:lnTo>
                  <a:pt x="1049" y="1391"/>
                </a:lnTo>
                <a:lnTo>
                  <a:pt x="1055" y="1377"/>
                </a:lnTo>
                <a:lnTo>
                  <a:pt x="1055" y="1364"/>
                </a:lnTo>
                <a:lnTo>
                  <a:pt x="1055" y="1357"/>
                </a:lnTo>
                <a:lnTo>
                  <a:pt x="1055" y="1343"/>
                </a:lnTo>
                <a:lnTo>
                  <a:pt x="1055" y="1336"/>
                </a:lnTo>
                <a:lnTo>
                  <a:pt x="1055" y="1322"/>
                </a:lnTo>
                <a:lnTo>
                  <a:pt x="1055" y="1308"/>
                </a:lnTo>
                <a:lnTo>
                  <a:pt x="1055" y="1302"/>
                </a:lnTo>
                <a:lnTo>
                  <a:pt x="1055" y="1288"/>
                </a:lnTo>
                <a:lnTo>
                  <a:pt x="1062" y="1281"/>
                </a:lnTo>
                <a:lnTo>
                  <a:pt x="1069" y="1281"/>
                </a:lnTo>
                <a:lnTo>
                  <a:pt x="1076" y="1281"/>
                </a:lnTo>
                <a:lnTo>
                  <a:pt x="1083" y="1281"/>
                </a:lnTo>
                <a:lnTo>
                  <a:pt x="1090" y="1288"/>
                </a:lnTo>
                <a:lnTo>
                  <a:pt x="1097" y="1288"/>
                </a:lnTo>
                <a:lnTo>
                  <a:pt x="1104" y="1295"/>
                </a:lnTo>
                <a:lnTo>
                  <a:pt x="1111" y="1295"/>
                </a:lnTo>
                <a:lnTo>
                  <a:pt x="1117" y="1302"/>
                </a:lnTo>
                <a:lnTo>
                  <a:pt x="1124" y="1302"/>
                </a:lnTo>
                <a:lnTo>
                  <a:pt x="1131" y="1308"/>
                </a:lnTo>
                <a:lnTo>
                  <a:pt x="1138" y="1308"/>
                </a:lnTo>
                <a:lnTo>
                  <a:pt x="1145" y="1308"/>
                </a:lnTo>
                <a:lnTo>
                  <a:pt x="1152" y="1315"/>
                </a:lnTo>
                <a:lnTo>
                  <a:pt x="1159" y="1315"/>
                </a:lnTo>
                <a:lnTo>
                  <a:pt x="1166" y="1322"/>
                </a:lnTo>
                <a:lnTo>
                  <a:pt x="1173" y="1322"/>
                </a:lnTo>
                <a:lnTo>
                  <a:pt x="1180" y="1329"/>
                </a:lnTo>
                <a:lnTo>
                  <a:pt x="1186" y="1329"/>
                </a:lnTo>
                <a:lnTo>
                  <a:pt x="1193" y="1336"/>
                </a:lnTo>
                <a:lnTo>
                  <a:pt x="1200" y="1336"/>
                </a:lnTo>
                <a:lnTo>
                  <a:pt x="1207" y="1336"/>
                </a:lnTo>
                <a:lnTo>
                  <a:pt x="1214" y="1343"/>
                </a:lnTo>
                <a:lnTo>
                  <a:pt x="1221" y="1343"/>
                </a:lnTo>
                <a:lnTo>
                  <a:pt x="1228" y="1350"/>
                </a:lnTo>
                <a:lnTo>
                  <a:pt x="1235" y="1350"/>
                </a:lnTo>
                <a:lnTo>
                  <a:pt x="1242" y="1357"/>
                </a:lnTo>
                <a:lnTo>
                  <a:pt x="1248" y="1357"/>
                </a:lnTo>
                <a:lnTo>
                  <a:pt x="1255" y="1364"/>
                </a:lnTo>
                <a:lnTo>
                  <a:pt x="1262" y="1364"/>
                </a:lnTo>
                <a:lnTo>
                  <a:pt x="1269" y="1370"/>
                </a:lnTo>
                <a:lnTo>
                  <a:pt x="1276" y="1370"/>
                </a:lnTo>
                <a:lnTo>
                  <a:pt x="1283" y="1370"/>
                </a:lnTo>
                <a:lnTo>
                  <a:pt x="1290" y="1377"/>
                </a:lnTo>
                <a:lnTo>
                  <a:pt x="1297" y="1377"/>
                </a:lnTo>
                <a:lnTo>
                  <a:pt x="1304" y="1384"/>
                </a:lnTo>
                <a:lnTo>
                  <a:pt x="1311" y="1384"/>
                </a:lnTo>
                <a:lnTo>
                  <a:pt x="1317" y="1391"/>
                </a:lnTo>
                <a:lnTo>
                  <a:pt x="1324" y="1391"/>
                </a:lnTo>
                <a:lnTo>
                  <a:pt x="1331" y="1398"/>
                </a:lnTo>
                <a:lnTo>
                  <a:pt x="1338" y="1398"/>
                </a:lnTo>
                <a:lnTo>
                  <a:pt x="1345" y="1398"/>
                </a:lnTo>
                <a:lnTo>
                  <a:pt x="1352" y="1405"/>
                </a:lnTo>
                <a:lnTo>
                  <a:pt x="1359" y="1405"/>
                </a:lnTo>
                <a:lnTo>
                  <a:pt x="1366" y="1412"/>
                </a:lnTo>
                <a:lnTo>
                  <a:pt x="1373" y="1412"/>
                </a:lnTo>
                <a:lnTo>
                  <a:pt x="1379" y="1419"/>
                </a:lnTo>
                <a:lnTo>
                  <a:pt x="1386" y="1419"/>
                </a:lnTo>
                <a:lnTo>
                  <a:pt x="1393" y="1426"/>
                </a:lnTo>
                <a:lnTo>
                  <a:pt x="1400" y="1426"/>
                </a:lnTo>
                <a:lnTo>
                  <a:pt x="1407" y="1426"/>
                </a:lnTo>
                <a:lnTo>
                  <a:pt x="1414" y="1432"/>
                </a:lnTo>
                <a:lnTo>
                  <a:pt x="1421" y="1432"/>
                </a:lnTo>
                <a:lnTo>
                  <a:pt x="1428" y="1439"/>
                </a:lnTo>
                <a:lnTo>
                  <a:pt x="1435" y="1439"/>
                </a:lnTo>
                <a:lnTo>
                  <a:pt x="1442" y="1446"/>
                </a:lnTo>
                <a:lnTo>
                  <a:pt x="1448" y="1446"/>
                </a:lnTo>
                <a:lnTo>
                  <a:pt x="1455" y="1446"/>
                </a:lnTo>
                <a:lnTo>
                  <a:pt x="1462" y="1453"/>
                </a:lnTo>
                <a:lnTo>
                  <a:pt x="1469" y="1453"/>
                </a:lnTo>
                <a:lnTo>
                  <a:pt x="1476" y="1453"/>
                </a:lnTo>
                <a:lnTo>
                  <a:pt x="1483" y="1460"/>
                </a:lnTo>
                <a:lnTo>
                  <a:pt x="1483" y="1460"/>
                </a:lnTo>
                <a:lnTo>
                  <a:pt x="1490" y="1467"/>
                </a:lnTo>
                <a:lnTo>
                  <a:pt x="1497" y="1474"/>
                </a:lnTo>
                <a:lnTo>
                  <a:pt x="1504" y="1474"/>
                </a:lnTo>
                <a:lnTo>
                  <a:pt x="1517" y="1474"/>
                </a:lnTo>
                <a:lnTo>
                  <a:pt x="1524" y="1474"/>
                </a:lnTo>
                <a:lnTo>
                  <a:pt x="1531" y="1474"/>
                </a:lnTo>
                <a:lnTo>
                  <a:pt x="1538" y="1467"/>
                </a:lnTo>
                <a:lnTo>
                  <a:pt x="1538" y="1460"/>
                </a:lnTo>
                <a:lnTo>
                  <a:pt x="1538" y="1446"/>
                </a:lnTo>
                <a:lnTo>
                  <a:pt x="1538" y="1432"/>
                </a:lnTo>
                <a:lnTo>
                  <a:pt x="1545" y="1426"/>
                </a:lnTo>
                <a:lnTo>
                  <a:pt x="1545" y="1412"/>
                </a:lnTo>
                <a:lnTo>
                  <a:pt x="1552" y="1405"/>
                </a:lnTo>
                <a:lnTo>
                  <a:pt x="1552" y="1398"/>
                </a:lnTo>
                <a:lnTo>
                  <a:pt x="1559" y="1384"/>
                </a:lnTo>
                <a:lnTo>
                  <a:pt x="1566" y="1377"/>
                </a:lnTo>
                <a:lnTo>
                  <a:pt x="1566" y="1370"/>
                </a:lnTo>
                <a:lnTo>
                  <a:pt x="1573" y="1357"/>
                </a:lnTo>
                <a:lnTo>
                  <a:pt x="1573" y="1350"/>
                </a:lnTo>
                <a:lnTo>
                  <a:pt x="1573" y="1336"/>
                </a:lnTo>
                <a:lnTo>
                  <a:pt x="1573" y="1329"/>
                </a:lnTo>
                <a:lnTo>
                  <a:pt x="1579" y="1315"/>
                </a:lnTo>
                <a:lnTo>
                  <a:pt x="1579" y="1302"/>
                </a:lnTo>
                <a:lnTo>
                  <a:pt x="1579" y="1295"/>
                </a:lnTo>
                <a:lnTo>
                  <a:pt x="1586" y="1281"/>
                </a:lnTo>
                <a:lnTo>
                  <a:pt x="1586" y="1274"/>
                </a:lnTo>
                <a:lnTo>
                  <a:pt x="1586" y="1260"/>
                </a:lnTo>
                <a:lnTo>
                  <a:pt x="1593" y="1253"/>
                </a:lnTo>
                <a:lnTo>
                  <a:pt x="1593" y="1240"/>
                </a:lnTo>
                <a:lnTo>
                  <a:pt x="1600" y="1233"/>
                </a:lnTo>
                <a:lnTo>
                  <a:pt x="1600" y="1219"/>
                </a:lnTo>
                <a:lnTo>
                  <a:pt x="1607" y="1212"/>
                </a:lnTo>
                <a:lnTo>
                  <a:pt x="1607" y="1198"/>
                </a:lnTo>
                <a:lnTo>
                  <a:pt x="1607" y="1191"/>
                </a:lnTo>
                <a:lnTo>
                  <a:pt x="1614" y="1178"/>
                </a:lnTo>
                <a:lnTo>
                  <a:pt x="1614" y="1171"/>
                </a:lnTo>
                <a:lnTo>
                  <a:pt x="1614" y="1157"/>
                </a:lnTo>
                <a:lnTo>
                  <a:pt x="1614" y="1150"/>
                </a:lnTo>
                <a:lnTo>
                  <a:pt x="1621" y="1136"/>
                </a:lnTo>
                <a:lnTo>
                  <a:pt x="1621" y="1129"/>
                </a:lnTo>
                <a:lnTo>
                  <a:pt x="1628" y="1116"/>
                </a:lnTo>
                <a:lnTo>
                  <a:pt x="1628" y="1109"/>
                </a:lnTo>
                <a:lnTo>
                  <a:pt x="1635" y="1095"/>
                </a:lnTo>
                <a:lnTo>
                  <a:pt x="1635" y="1088"/>
                </a:lnTo>
                <a:lnTo>
                  <a:pt x="1635" y="1074"/>
                </a:lnTo>
                <a:lnTo>
                  <a:pt x="1641" y="1067"/>
                </a:lnTo>
                <a:lnTo>
                  <a:pt x="1641" y="1054"/>
                </a:lnTo>
                <a:lnTo>
                  <a:pt x="1641" y="1047"/>
                </a:lnTo>
                <a:lnTo>
                  <a:pt x="1648" y="1033"/>
                </a:lnTo>
                <a:lnTo>
                  <a:pt x="1648" y="1026"/>
                </a:lnTo>
                <a:lnTo>
                  <a:pt x="1648" y="1012"/>
                </a:lnTo>
                <a:lnTo>
                  <a:pt x="1655" y="998"/>
                </a:lnTo>
                <a:lnTo>
                  <a:pt x="1655" y="992"/>
                </a:lnTo>
                <a:lnTo>
                  <a:pt x="1655" y="978"/>
                </a:lnTo>
                <a:lnTo>
                  <a:pt x="1662" y="971"/>
                </a:lnTo>
                <a:lnTo>
                  <a:pt x="1662" y="964"/>
                </a:lnTo>
                <a:lnTo>
                  <a:pt x="1669" y="950"/>
                </a:lnTo>
                <a:lnTo>
                  <a:pt x="1669" y="943"/>
                </a:lnTo>
                <a:lnTo>
                  <a:pt x="1676" y="930"/>
                </a:lnTo>
                <a:lnTo>
                  <a:pt x="1676" y="923"/>
                </a:lnTo>
                <a:lnTo>
                  <a:pt x="1676" y="909"/>
                </a:lnTo>
                <a:lnTo>
                  <a:pt x="1676" y="895"/>
                </a:lnTo>
                <a:lnTo>
                  <a:pt x="1683" y="888"/>
                </a:lnTo>
                <a:lnTo>
                  <a:pt x="1683" y="874"/>
                </a:lnTo>
                <a:lnTo>
                  <a:pt x="1683" y="868"/>
                </a:lnTo>
                <a:lnTo>
                  <a:pt x="1690" y="854"/>
                </a:lnTo>
                <a:lnTo>
                  <a:pt x="1690" y="847"/>
                </a:lnTo>
                <a:lnTo>
                  <a:pt x="1690" y="833"/>
                </a:lnTo>
                <a:lnTo>
                  <a:pt x="1697" y="826"/>
                </a:lnTo>
                <a:lnTo>
                  <a:pt x="1697" y="812"/>
                </a:lnTo>
                <a:lnTo>
                  <a:pt x="1704" y="806"/>
                </a:lnTo>
                <a:lnTo>
                  <a:pt x="1704" y="799"/>
                </a:lnTo>
                <a:lnTo>
                  <a:pt x="1710" y="785"/>
                </a:lnTo>
                <a:lnTo>
                  <a:pt x="1710" y="771"/>
                </a:lnTo>
                <a:lnTo>
                  <a:pt x="1710" y="764"/>
                </a:lnTo>
                <a:lnTo>
                  <a:pt x="1717" y="751"/>
                </a:lnTo>
                <a:lnTo>
                  <a:pt x="1717" y="744"/>
                </a:lnTo>
                <a:lnTo>
                  <a:pt x="1717" y="730"/>
                </a:lnTo>
                <a:lnTo>
                  <a:pt x="1717" y="723"/>
                </a:lnTo>
                <a:lnTo>
                  <a:pt x="1724" y="709"/>
                </a:lnTo>
                <a:lnTo>
                  <a:pt x="1724" y="702"/>
                </a:lnTo>
                <a:lnTo>
                  <a:pt x="1731" y="689"/>
                </a:lnTo>
                <a:lnTo>
                  <a:pt x="1731" y="682"/>
                </a:lnTo>
                <a:lnTo>
                  <a:pt x="1738" y="668"/>
                </a:lnTo>
                <a:lnTo>
                  <a:pt x="1738" y="661"/>
                </a:lnTo>
                <a:lnTo>
                  <a:pt x="1745" y="647"/>
                </a:lnTo>
                <a:lnTo>
                  <a:pt x="1745" y="640"/>
                </a:lnTo>
                <a:lnTo>
                  <a:pt x="1745" y="627"/>
                </a:lnTo>
                <a:lnTo>
                  <a:pt x="1745" y="620"/>
                </a:lnTo>
                <a:lnTo>
                  <a:pt x="1752" y="606"/>
                </a:lnTo>
                <a:lnTo>
                  <a:pt x="1752" y="599"/>
                </a:lnTo>
                <a:lnTo>
                  <a:pt x="1752" y="585"/>
                </a:lnTo>
                <a:lnTo>
                  <a:pt x="1759" y="571"/>
                </a:lnTo>
                <a:lnTo>
                  <a:pt x="1759" y="565"/>
                </a:lnTo>
                <a:lnTo>
                  <a:pt x="1759" y="551"/>
                </a:lnTo>
                <a:lnTo>
                  <a:pt x="1766" y="544"/>
                </a:lnTo>
                <a:lnTo>
                  <a:pt x="1766" y="537"/>
                </a:lnTo>
                <a:lnTo>
                  <a:pt x="1772" y="523"/>
                </a:lnTo>
                <a:lnTo>
                  <a:pt x="1772" y="516"/>
                </a:lnTo>
                <a:lnTo>
                  <a:pt x="1779" y="503"/>
                </a:lnTo>
                <a:lnTo>
                  <a:pt x="1779" y="496"/>
                </a:lnTo>
                <a:lnTo>
                  <a:pt x="1779" y="482"/>
                </a:lnTo>
                <a:lnTo>
                  <a:pt x="1779" y="475"/>
                </a:lnTo>
                <a:lnTo>
                  <a:pt x="1786" y="461"/>
                </a:lnTo>
                <a:lnTo>
                  <a:pt x="1786" y="447"/>
                </a:lnTo>
                <a:lnTo>
                  <a:pt x="1786" y="441"/>
                </a:lnTo>
                <a:lnTo>
                  <a:pt x="1793" y="427"/>
                </a:lnTo>
                <a:lnTo>
                  <a:pt x="1793" y="420"/>
                </a:lnTo>
                <a:lnTo>
                  <a:pt x="1800" y="406"/>
                </a:lnTo>
                <a:lnTo>
                  <a:pt x="1800" y="399"/>
                </a:lnTo>
                <a:lnTo>
                  <a:pt x="1807" y="392"/>
                </a:lnTo>
                <a:lnTo>
                  <a:pt x="1807" y="379"/>
                </a:lnTo>
                <a:lnTo>
                  <a:pt x="1807" y="372"/>
                </a:lnTo>
                <a:lnTo>
                  <a:pt x="1814" y="358"/>
                </a:lnTo>
                <a:lnTo>
                  <a:pt x="1814" y="351"/>
                </a:lnTo>
                <a:lnTo>
                  <a:pt x="1814" y="337"/>
                </a:lnTo>
                <a:lnTo>
                  <a:pt x="1821" y="323"/>
                </a:lnTo>
                <a:lnTo>
                  <a:pt x="1821" y="317"/>
                </a:lnTo>
                <a:lnTo>
                  <a:pt x="1821" y="303"/>
                </a:lnTo>
                <a:lnTo>
                  <a:pt x="1821" y="296"/>
                </a:lnTo>
                <a:lnTo>
                  <a:pt x="1828" y="282"/>
                </a:lnTo>
                <a:lnTo>
                  <a:pt x="1828" y="275"/>
                </a:lnTo>
                <a:lnTo>
                  <a:pt x="1835" y="261"/>
                </a:lnTo>
                <a:lnTo>
                  <a:pt x="1835" y="255"/>
                </a:lnTo>
                <a:lnTo>
                  <a:pt x="1841" y="241"/>
                </a:lnTo>
                <a:lnTo>
                  <a:pt x="1841" y="234"/>
                </a:lnTo>
                <a:lnTo>
                  <a:pt x="1848" y="227"/>
                </a:lnTo>
                <a:lnTo>
                  <a:pt x="1855" y="220"/>
                </a:lnTo>
                <a:lnTo>
                  <a:pt x="1862" y="220"/>
                </a:lnTo>
                <a:lnTo>
                  <a:pt x="1869" y="220"/>
                </a:lnTo>
                <a:lnTo>
                  <a:pt x="1876" y="227"/>
                </a:lnTo>
                <a:lnTo>
                  <a:pt x="1883" y="241"/>
                </a:lnTo>
                <a:lnTo>
                  <a:pt x="1883" y="248"/>
                </a:lnTo>
                <a:lnTo>
                  <a:pt x="1883" y="261"/>
                </a:lnTo>
                <a:lnTo>
                  <a:pt x="1890" y="268"/>
                </a:lnTo>
                <a:lnTo>
                  <a:pt x="1890" y="282"/>
                </a:lnTo>
                <a:lnTo>
                  <a:pt x="1897" y="289"/>
                </a:lnTo>
                <a:lnTo>
                  <a:pt x="1897" y="303"/>
                </a:lnTo>
                <a:lnTo>
                  <a:pt x="1903" y="310"/>
                </a:lnTo>
                <a:lnTo>
                  <a:pt x="1903" y="323"/>
                </a:lnTo>
                <a:lnTo>
                  <a:pt x="1903" y="330"/>
                </a:lnTo>
                <a:lnTo>
                  <a:pt x="1910" y="337"/>
                </a:lnTo>
                <a:lnTo>
                  <a:pt x="1910" y="351"/>
                </a:lnTo>
                <a:lnTo>
                  <a:pt x="1917" y="358"/>
                </a:lnTo>
                <a:lnTo>
                  <a:pt x="1917" y="372"/>
                </a:lnTo>
                <a:lnTo>
                  <a:pt x="1924" y="379"/>
                </a:lnTo>
                <a:lnTo>
                  <a:pt x="1924" y="392"/>
                </a:lnTo>
                <a:lnTo>
                  <a:pt x="1931" y="399"/>
                </a:lnTo>
                <a:lnTo>
                  <a:pt x="1931" y="413"/>
                </a:lnTo>
                <a:lnTo>
                  <a:pt x="1931" y="420"/>
                </a:lnTo>
                <a:lnTo>
                  <a:pt x="1938" y="434"/>
                </a:lnTo>
                <a:lnTo>
                  <a:pt x="1938" y="441"/>
                </a:lnTo>
                <a:lnTo>
                  <a:pt x="1945" y="454"/>
                </a:lnTo>
                <a:lnTo>
                  <a:pt x="1945" y="461"/>
                </a:lnTo>
                <a:lnTo>
                  <a:pt x="1952" y="475"/>
                </a:lnTo>
                <a:lnTo>
                  <a:pt x="1952" y="482"/>
                </a:lnTo>
                <a:lnTo>
                  <a:pt x="1952" y="496"/>
                </a:lnTo>
                <a:lnTo>
                  <a:pt x="1959" y="503"/>
                </a:lnTo>
                <a:lnTo>
                  <a:pt x="1959" y="509"/>
                </a:lnTo>
                <a:lnTo>
                  <a:pt x="1966" y="523"/>
                </a:lnTo>
                <a:lnTo>
                  <a:pt x="1966" y="530"/>
                </a:lnTo>
                <a:lnTo>
                  <a:pt x="1972" y="544"/>
                </a:lnTo>
                <a:lnTo>
                  <a:pt x="1972" y="551"/>
                </a:lnTo>
                <a:lnTo>
                  <a:pt x="1979" y="544"/>
                </a:lnTo>
                <a:lnTo>
                  <a:pt x="1979" y="509"/>
                </a:lnTo>
                <a:lnTo>
                  <a:pt x="1979" y="475"/>
                </a:lnTo>
                <a:lnTo>
                  <a:pt x="1979" y="441"/>
                </a:lnTo>
                <a:lnTo>
                  <a:pt x="1979" y="406"/>
                </a:lnTo>
                <a:lnTo>
                  <a:pt x="1979" y="372"/>
                </a:lnTo>
                <a:lnTo>
                  <a:pt x="2014" y="344"/>
                </a:lnTo>
                <a:lnTo>
                  <a:pt x="2014" y="310"/>
                </a:lnTo>
                <a:lnTo>
                  <a:pt x="2014" y="275"/>
                </a:lnTo>
                <a:lnTo>
                  <a:pt x="2014" y="241"/>
                </a:lnTo>
                <a:lnTo>
                  <a:pt x="2014" y="206"/>
                </a:lnTo>
                <a:lnTo>
                  <a:pt x="2014" y="172"/>
                </a:lnTo>
                <a:lnTo>
                  <a:pt x="2048" y="137"/>
                </a:lnTo>
                <a:lnTo>
                  <a:pt x="2048" y="103"/>
                </a:lnTo>
                <a:lnTo>
                  <a:pt x="2048" y="69"/>
                </a:lnTo>
                <a:lnTo>
                  <a:pt x="2048" y="34"/>
                </a:lnTo>
                <a:lnTo>
                  <a:pt x="2048" y="0"/>
                </a:lnTo>
                <a:lnTo>
                  <a:pt x="2014" y="0"/>
                </a:lnTo>
                <a:lnTo>
                  <a:pt x="1979" y="0"/>
                </a:lnTo>
                <a:lnTo>
                  <a:pt x="1945" y="0"/>
                </a:lnTo>
                <a:lnTo>
                  <a:pt x="1910" y="34"/>
                </a:lnTo>
                <a:lnTo>
                  <a:pt x="1876" y="34"/>
                </a:lnTo>
                <a:lnTo>
                  <a:pt x="1876" y="69"/>
                </a:lnTo>
                <a:lnTo>
                  <a:pt x="1883" y="75"/>
                </a:lnTo>
                <a:lnTo>
                  <a:pt x="1883" y="82"/>
                </a:lnTo>
                <a:lnTo>
                  <a:pt x="1883" y="96"/>
                </a:lnTo>
                <a:lnTo>
                  <a:pt x="1883" y="103"/>
                </a:lnTo>
                <a:lnTo>
                  <a:pt x="1876" y="117"/>
                </a:lnTo>
                <a:lnTo>
                  <a:pt x="1876" y="124"/>
                </a:lnTo>
                <a:lnTo>
                  <a:pt x="1869" y="131"/>
                </a:lnTo>
                <a:lnTo>
                  <a:pt x="1869" y="144"/>
                </a:lnTo>
                <a:lnTo>
                  <a:pt x="1862" y="151"/>
                </a:lnTo>
                <a:lnTo>
                  <a:pt x="1855" y="158"/>
                </a:lnTo>
                <a:lnTo>
                  <a:pt x="1855" y="165"/>
                </a:lnTo>
                <a:lnTo>
                  <a:pt x="1848" y="172"/>
                </a:lnTo>
                <a:lnTo>
                  <a:pt x="1841" y="172"/>
                </a:lnTo>
                <a:lnTo>
                  <a:pt x="1835" y="165"/>
                </a:lnTo>
                <a:lnTo>
                  <a:pt x="1828" y="158"/>
                </a:lnTo>
                <a:lnTo>
                  <a:pt x="1821" y="151"/>
                </a:lnTo>
                <a:lnTo>
                  <a:pt x="1814" y="144"/>
                </a:lnTo>
                <a:lnTo>
                  <a:pt x="1807" y="137"/>
                </a:lnTo>
                <a:lnTo>
                  <a:pt x="1807" y="124"/>
                </a:lnTo>
                <a:lnTo>
                  <a:pt x="1800" y="117"/>
                </a:lnTo>
                <a:lnTo>
                  <a:pt x="1793" y="110"/>
                </a:lnTo>
                <a:lnTo>
                  <a:pt x="1786" y="103"/>
                </a:lnTo>
                <a:lnTo>
                  <a:pt x="1786" y="103"/>
                </a:lnTo>
                <a:lnTo>
                  <a:pt x="1793" y="96"/>
                </a:lnTo>
                <a:lnTo>
                  <a:pt x="1800" y="96"/>
                </a:lnTo>
                <a:lnTo>
                  <a:pt x="1814" y="96"/>
                </a:lnTo>
                <a:lnTo>
                  <a:pt x="1821" y="89"/>
                </a:lnTo>
                <a:lnTo>
                  <a:pt x="1828" y="89"/>
                </a:lnTo>
                <a:lnTo>
                  <a:pt x="1835" y="82"/>
                </a:lnTo>
                <a:lnTo>
                  <a:pt x="1841" y="82"/>
                </a:lnTo>
                <a:lnTo>
                  <a:pt x="1848" y="82"/>
                </a:lnTo>
                <a:lnTo>
                  <a:pt x="1848" y="75"/>
                </a:lnTo>
                <a:lnTo>
                  <a:pt x="1855" y="75"/>
                </a:lnTo>
                <a:lnTo>
                  <a:pt x="1862" y="69"/>
                </a:lnTo>
                <a:lnTo>
                  <a:pt x="1869" y="69"/>
                </a:lnTo>
                <a:lnTo>
                  <a:pt x="1841" y="69"/>
                </a:lnTo>
                <a:lnTo>
                  <a:pt x="1807" y="69"/>
                </a:lnTo>
                <a:lnTo>
                  <a:pt x="1779" y="69"/>
                </a:lnTo>
                <a:lnTo>
                  <a:pt x="1745" y="103"/>
                </a:lnTo>
                <a:lnTo>
                  <a:pt x="1710" y="103"/>
                </a:lnTo>
                <a:lnTo>
                  <a:pt x="1676" y="137"/>
                </a:lnTo>
                <a:lnTo>
                  <a:pt x="1641" y="137"/>
                </a:lnTo>
                <a:lnTo>
                  <a:pt x="1607" y="172"/>
                </a:lnTo>
                <a:lnTo>
                  <a:pt x="1573" y="172"/>
                </a:lnTo>
                <a:lnTo>
                  <a:pt x="1538" y="206"/>
                </a:lnTo>
                <a:lnTo>
                  <a:pt x="1504" y="206"/>
                </a:lnTo>
                <a:lnTo>
                  <a:pt x="1469" y="206"/>
                </a:lnTo>
                <a:lnTo>
                  <a:pt x="1435" y="241"/>
                </a:lnTo>
                <a:lnTo>
                  <a:pt x="1400" y="241"/>
                </a:lnTo>
                <a:lnTo>
                  <a:pt x="1366" y="275"/>
                </a:lnTo>
                <a:lnTo>
                  <a:pt x="1331" y="275"/>
                </a:lnTo>
                <a:lnTo>
                  <a:pt x="1297" y="310"/>
                </a:lnTo>
                <a:lnTo>
                  <a:pt x="1262" y="310"/>
                </a:lnTo>
                <a:lnTo>
                  <a:pt x="1228" y="344"/>
                </a:lnTo>
                <a:lnTo>
                  <a:pt x="1193" y="344"/>
                </a:lnTo>
                <a:lnTo>
                  <a:pt x="1159" y="344"/>
                </a:lnTo>
                <a:lnTo>
                  <a:pt x="1124" y="372"/>
                </a:lnTo>
                <a:lnTo>
                  <a:pt x="1090" y="372"/>
                </a:lnTo>
                <a:lnTo>
                  <a:pt x="1062" y="406"/>
                </a:lnTo>
                <a:lnTo>
                  <a:pt x="1028" y="406"/>
                </a:lnTo>
                <a:lnTo>
                  <a:pt x="993" y="441"/>
                </a:lnTo>
                <a:lnTo>
                  <a:pt x="959" y="441"/>
                </a:lnTo>
                <a:lnTo>
                  <a:pt x="924" y="475"/>
                </a:lnTo>
                <a:lnTo>
                  <a:pt x="890" y="475"/>
                </a:lnTo>
                <a:lnTo>
                  <a:pt x="855" y="475"/>
                </a:lnTo>
                <a:lnTo>
                  <a:pt x="821" y="509"/>
                </a:lnTo>
                <a:lnTo>
                  <a:pt x="787" y="544"/>
                </a:lnTo>
                <a:lnTo>
                  <a:pt x="752" y="578"/>
                </a:lnTo>
                <a:lnTo>
                  <a:pt x="752" y="613"/>
                </a:lnTo>
                <a:lnTo>
                  <a:pt x="718" y="647"/>
                </a:lnTo>
                <a:lnTo>
                  <a:pt x="683" y="682"/>
                </a:lnTo>
                <a:lnTo>
                  <a:pt x="649" y="716"/>
                </a:lnTo>
                <a:lnTo>
                  <a:pt x="649" y="751"/>
                </a:lnTo>
                <a:lnTo>
                  <a:pt x="614" y="785"/>
                </a:lnTo>
                <a:lnTo>
                  <a:pt x="580" y="819"/>
                </a:lnTo>
                <a:lnTo>
                  <a:pt x="545" y="854"/>
                </a:lnTo>
                <a:lnTo>
                  <a:pt x="545" y="888"/>
                </a:lnTo>
                <a:lnTo>
                  <a:pt x="511" y="916"/>
                </a:lnTo>
                <a:lnTo>
                  <a:pt x="476" y="950"/>
                </a:lnTo>
                <a:lnTo>
                  <a:pt x="476" y="985"/>
                </a:lnTo>
                <a:lnTo>
                  <a:pt x="442" y="1019"/>
                </a:lnTo>
                <a:lnTo>
                  <a:pt x="442" y="1054"/>
                </a:lnTo>
                <a:lnTo>
                  <a:pt x="442" y="1088"/>
                </a:lnTo>
                <a:lnTo>
                  <a:pt x="407" y="1122"/>
                </a:lnTo>
                <a:lnTo>
                  <a:pt x="407" y="1157"/>
                </a:lnTo>
                <a:lnTo>
                  <a:pt x="373" y="1191"/>
                </a:lnTo>
                <a:lnTo>
                  <a:pt x="373" y="1226"/>
                </a:lnTo>
                <a:lnTo>
                  <a:pt x="338" y="1260"/>
                </a:lnTo>
                <a:lnTo>
                  <a:pt x="338" y="1295"/>
                </a:lnTo>
                <a:lnTo>
                  <a:pt x="311" y="1329"/>
                </a:lnTo>
                <a:lnTo>
                  <a:pt x="311" y="1364"/>
                </a:lnTo>
                <a:lnTo>
                  <a:pt x="276" y="1398"/>
                </a:lnTo>
                <a:lnTo>
                  <a:pt x="276" y="1426"/>
                </a:lnTo>
                <a:lnTo>
                  <a:pt x="276" y="1460"/>
                </a:lnTo>
                <a:lnTo>
                  <a:pt x="242" y="1494"/>
                </a:lnTo>
                <a:lnTo>
                  <a:pt x="242" y="1529"/>
                </a:lnTo>
                <a:lnTo>
                  <a:pt x="207" y="1563"/>
                </a:lnTo>
                <a:lnTo>
                  <a:pt x="207" y="1598"/>
                </a:lnTo>
                <a:lnTo>
                  <a:pt x="173" y="1632"/>
                </a:lnTo>
                <a:lnTo>
                  <a:pt x="173" y="1667"/>
                </a:lnTo>
                <a:lnTo>
                  <a:pt x="138" y="1701"/>
                </a:lnTo>
                <a:lnTo>
                  <a:pt x="138" y="1736"/>
                </a:lnTo>
                <a:lnTo>
                  <a:pt x="138" y="1770"/>
                </a:lnTo>
                <a:lnTo>
                  <a:pt x="104" y="1804"/>
                </a:lnTo>
                <a:lnTo>
                  <a:pt x="104" y="1804"/>
                </a:lnTo>
                <a:lnTo>
                  <a:pt x="111" y="1811"/>
                </a:lnTo>
                <a:lnTo>
                  <a:pt x="118" y="1818"/>
                </a:lnTo>
                <a:lnTo>
                  <a:pt x="125" y="1825"/>
                </a:lnTo>
                <a:lnTo>
                  <a:pt x="131" y="1825"/>
                </a:lnTo>
                <a:lnTo>
                  <a:pt x="138" y="1825"/>
                </a:lnTo>
                <a:lnTo>
                  <a:pt x="145" y="1825"/>
                </a:lnTo>
                <a:lnTo>
                  <a:pt x="152" y="1825"/>
                </a:lnTo>
                <a:lnTo>
                  <a:pt x="159" y="1825"/>
                </a:lnTo>
                <a:lnTo>
                  <a:pt x="173" y="1825"/>
                </a:lnTo>
                <a:lnTo>
                  <a:pt x="180" y="1832"/>
                </a:lnTo>
                <a:lnTo>
                  <a:pt x="187" y="1839"/>
                </a:lnTo>
                <a:lnTo>
                  <a:pt x="194" y="1839"/>
                </a:lnTo>
                <a:lnTo>
                  <a:pt x="200" y="1846"/>
                </a:lnTo>
                <a:lnTo>
                  <a:pt x="207" y="1853"/>
                </a:lnTo>
                <a:lnTo>
                  <a:pt x="214" y="1853"/>
                </a:lnTo>
                <a:lnTo>
                  <a:pt x="221" y="1860"/>
                </a:lnTo>
                <a:lnTo>
                  <a:pt x="228" y="1866"/>
                </a:lnTo>
                <a:lnTo>
                  <a:pt x="235" y="1866"/>
                </a:lnTo>
                <a:lnTo>
                  <a:pt x="242" y="1873"/>
                </a:lnTo>
                <a:lnTo>
                  <a:pt x="249" y="1880"/>
                </a:lnTo>
                <a:lnTo>
                  <a:pt x="256" y="1880"/>
                </a:lnTo>
                <a:lnTo>
                  <a:pt x="262" y="1887"/>
                </a:lnTo>
                <a:lnTo>
                  <a:pt x="269" y="1894"/>
                </a:lnTo>
                <a:lnTo>
                  <a:pt x="276" y="1894"/>
                </a:lnTo>
                <a:lnTo>
                  <a:pt x="283" y="1901"/>
                </a:lnTo>
                <a:lnTo>
                  <a:pt x="290" y="1901"/>
                </a:lnTo>
                <a:lnTo>
                  <a:pt x="297" y="1908"/>
                </a:lnTo>
                <a:lnTo>
                  <a:pt x="304" y="1915"/>
                </a:lnTo>
                <a:lnTo>
                  <a:pt x="311" y="1915"/>
                </a:lnTo>
                <a:lnTo>
                  <a:pt x="318" y="1922"/>
                </a:lnTo>
                <a:lnTo>
                  <a:pt x="331" y="1922"/>
                </a:lnTo>
                <a:lnTo>
                  <a:pt x="338" y="1922"/>
                </a:lnTo>
                <a:lnTo>
                  <a:pt x="345" y="1922"/>
                </a:lnTo>
                <a:lnTo>
                  <a:pt x="352" y="1928"/>
                </a:lnTo>
                <a:lnTo>
                  <a:pt x="359" y="1928"/>
                </a:lnTo>
                <a:lnTo>
                  <a:pt x="366" y="1935"/>
                </a:lnTo>
                <a:lnTo>
                  <a:pt x="373" y="1935"/>
                </a:lnTo>
                <a:lnTo>
                  <a:pt x="380" y="1942"/>
                </a:lnTo>
                <a:lnTo>
                  <a:pt x="387" y="1949"/>
                </a:lnTo>
                <a:lnTo>
                  <a:pt x="393" y="1956"/>
                </a:lnTo>
                <a:lnTo>
                  <a:pt x="400" y="1963"/>
                </a:lnTo>
                <a:lnTo>
                  <a:pt x="407" y="1970"/>
                </a:lnTo>
                <a:lnTo>
                  <a:pt x="407" y="1977"/>
                </a:lnTo>
                <a:lnTo>
                  <a:pt x="421" y="1984"/>
                </a:lnTo>
                <a:lnTo>
                  <a:pt x="428" y="1990"/>
                </a:lnTo>
                <a:lnTo>
                  <a:pt x="435" y="1997"/>
                </a:lnTo>
                <a:lnTo>
                  <a:pt x="435" y="2004"/>
                </a:lnTo>
                <a:lnTo>
                  <a:pt x="435" y="2018"/>
                </a:lnTo>
                <a:lnTo>
                  <a:pt x="428" y="2025"/>
                </a:lnTo>
                <a:lnTo>
                  <a:pt x="421" y="2039"/>
                </a:lnTo>
                <a:lnTo>
                  <a:pt x="414" y="2046"/>
                </a:lnTo>
                <a:lnTo>
                  <a:pt x="407" y="2052"/>
                </a:lnTo>
                <a:lnTo>
                  <a:pt x="400" y="2059"/>
                </a:lnTo>
                <a:lnTo>
                  <a:pt x="393" y="2066"/>
                </a:lnTo>
                <a:lnTo>
                  <a:pt x="393" y="2073"/>
                </a:lnTo>
                <a:lnTo>
                  <a:pt x="387" y="2087"/>
                </a:lnTo>
                <a:lnTo>
                  <a:pt x="387" y="2101"/>
                </a:lnTo>
                <a:lnTo>
                  <a:pt x="393" y="2108"/>
                </a:lnTo>
                <a:lnTo>
                  <a:pt x="393" y="2121"/>
                </a:lnTo>
                <a:lnTo>
                  <a:pt x="400" y="2128"/>
                </a:lnTo>
                <a:lnTo>
                  <a:pt x="407" y="2142"/>
                </a:lnTo>
                <a:lnTo>
                  <a:pt x="407" y="2149"/>
                </a:lnTo>
                <a:lnTo>
                  <a:pt x="414" y="2156"/>
                </a:lnTo>
                <a:lnTo>
                  <a:pt x="421" y="2170"/>
                </a:lnTo>
                <a:lnTo>
                  <a:pt x="421" y="2176"/>
                </a:lnTo>
                <a:lnTo>
                  <a:pt x="428" y="2190"/>
                </a:lnTo>
                <a:lnTo>
                  <a:pt x="435" y="2197"/>
                </a:lnTo>
                <a:lnTo>
                  <a:pt x="435" y="2211"/>
                </a:lnTo>
                <a:lnTo>
                  <a:pt x="435" y="2218"/>
                </a:lnTo>
                <a:lnTo>
                  <a:pt x="428" y="2225"/>
                </a:lnTo>
                <a:lnTo>
                  <a:pt x="414" y="2232"/>
                </a:lnTo>
                <a:lnTo>
                  <a:pt x="407" y="2232"/>
                </a:lnTo>
                <a:lnTo>
                  <a:pt x="400" y="2232"/>
                </a:lnTo>
                <a:lnTo>
                  <a:pt x="393" y="2232"/>
                </a:lnTo>
                <a:lnTo>
                  <a:pt x="387" y="2232"/>
                </a:lnTo>
                <a:lnTo>
                  <a:pt x="380" y="2225"/>
                </a:lnTo>
                <a:lnTo>
                  <a:pt x="373" y="2225"/>
                </a:lnTo>
                <a:lnTo>
                  <a:pt x="366" y="2225"/>
                </a:lnTo>
                <a:lnTo>
                  <a:pt x="352" y="2225"/>
                </a:lnTo>
                <a:lnTo>
                  <a:pt x="345" y="2225"/>
                </a:lnTo>
                <a:lnTo>
                  <a:pt x="338" y="2225"/>
                </a:lnTo>
                <a:lnTo>
                  <a:pt x="331" y="2218"/>
                </a:lnTo>
                <a:lnTo>
                  <a:pt x="325" y="2218"/>
                </a:lnTo>
                <a:lnTo>
                  <a:pt x="318" y="2218"/>
                </a:lnTo>
                <a:lnTo>
                  <a:pt x="311" y="2218"/>
                </a:lnTo>
                <a:lnTo>
                  <a:pt x="304" y="2218"/>
                </a:lnTo>
                <a:lnTo>
                  <a:pt x="297" y="2218"/>
                </a:lnTo>
                <a:lnTo>
                  <a:pt x="283" y="2211"/>
                </a:lnTo>
                <a:lnTo>
                  <a:pt x="276" y="2211"/>
                </a:lnTo>
                <a:lnTo>
                  <a:pt x="269" y="2211"/>
                </a:lnTo>
                <a:lnTo>
                  <a:pt x="262" y="2211"/>
                </a:lnTo>
                <a:lnTo>
                  <a:pt x="256" y="2211"/>
                </a:lnTo>
                <a:lnTo>
                  <a:pt x="249" y="2211"/>
                </a:lnTo>
                <a:lnTo>
                  <a:pt x="242" y="2211"/>
                </a:lnTo>
                <a:lnTo>
                  <a:pt x="235" y="2204"/>
                </a:lnTo>
                <a:lnTo>
                  <a:pt x="228" y="2204"/>
                </a:lnTo>
                <a:lnTo>
                  <a:pt x="214" y="2204"/>
                </a:lnTo>
                <a:lnTo>
                  <a:pt x="207" y="2204"/>
                </a:lnTo>
                <a:lnTo>
                  <a:pt x="200" y="2204"/>
                </a:lnTo>
                <a:lnTo>
                  <a:pt x="194" y="2204"/>
                </a:lnTo>
                <a:lnTo>
                  <a:pt x="187" y="2197"/>
                </a:lnTo>
                <a:lnTo>
                  <a:pt x="180" y="2197"/>
                </a:lnTo>
                <a:lnTo>
                  <a:pt x="173" y="2197"/>
                </a:lnTo>
                <a:lnTo>
                  <a:pt x="166" y="2197"/>
                </a:lnTo>
                <a:lnTo>
                  <a:pt x="159" y="2197"/>
                </a:lnTo>
                <a:lnTo>
                  <a:pt x="152" y="2190"/>
                </a:lnTo>
                <a:lnTo>
                  <a:pt x="138" y="2190"/>
                </a:lnTo>
                <a:lnTo>
                  <a:pt x="131" y="2183"/>
                </a:lnTo>
                <a:lnTo>
                  <a:pt x="125" y="2183"/>
                </a:lnTo>
                <a:lnTo>
                  <a:pt x="118" y="2176"/>
                </a:lnTo>
                <a:lnTo>
                  <a:pt x="118" y="2163"/>
                </a:lnTo>
                <a:lnTo>
                  <a:pt x="111" y="2149"/>
                </a:lnTo>
                <a:lnTo>
                  <a:pt x="111" y="2142"/>
                </a:lnTo>
                <a:lnTo>
                  <a:pt x="111" y="2128"/>
                </a:lnTo>
                <a:lnTo>
                  <a:pt x="111" y="2114"/>
                </a:lnTo>
                <a:lnTo>
                  <a:pt x="111" y="2101"/>
                </a:lnTo>
                <a:lnTo>
                  <a:pt x="104" y="2094"/>
                </a:lnTo>
                <a:lnTo>
                  <a:pt x="104" y="2080"/>
                </a:lnTo>
                <a:lnTo>
                  <a:pt x="104" y="2066"/>
                </a:lnTo>
                <a:lnTo>
                  <a:pt x="104" y="2052"/>
                </a:lnTo>
                <a:lnTo>
                  <a:pt x="104" y="2046"/>
                </a:lnTo>
                <a:lnTo>
                  <a:pt x="104" y="2032"/>
                </a:lnTo>
                <a:lnTo>
                  <a:pt x="97" y="2018"/>
                </a:lnTo>
                <a:lnTo>
                  <a:pt x="97" y="2004"/>
                </a:lnTo>
                <a:lnTo>
                  <a:pt x="97" y="1997"/>
                </a:lnTo>
                <a:lnTo>
                  <a:pt x="97" y="1984"/>
                </a:lnTo>
                <a:lnTo>
                  <a:pt x="97" y="1970"/>
                </a:lnTo>
                <a:lnTo>
                  <a:pt x="90" y="1956"/>
                </a:lnTo>
                <a:lnTo>
                  <a:pt x="90" y="1949"/>
                </a:lnTo>
                <a:lnTo>
                  <a:pt x="90" y="1935"/>
                </a:lnTo>
                <a:lnTo>
                  <a:pt x="90" y="1922"/>
                </a:lnTo>
                <a:lnTo>
                  <a:pt x="90" y="1908"/>
                </a:lnTo>
                <a:lnTo>
                  <a:pt x="83" y="1901"/>
                </a:lnTo>
                <a:lnTo>
                  <a:pt x="83" y="1887"/>
                </a:lnTo>
                <a:lnTo>
                  <a:pt x="83" y="1873"/>
                </a:lnTo>
                <a:lnTo>
                  <a:pt x="83" y="1860"/>
                </a:lnTo>
                <a:lnTo>
                  <a:pt x="90" y="1853"/>
                </a:lnTo>
                <a:lnTo>
                  <a:pt x="69" y="1873"/>
                </a:lnTo>
                <a:lnTo>
                  <a:pt x="69" y="1908"/>
                </a:lnTo>
                <a:lnTo>
                  <a:pt x="69" y="1935"/>
                </a:lnTo>
                <a:lnTo>
                  <a:pt x="69" y="1970"/>
                </a:lnTo>
                <a:lnTo>
                  <a:pt x="69" y="2004"/>
                </a:lnTo>
                <a:lnTo>
                  <a:pt x="35" y="2039"/>
                </a:lnTo>
                <a:lnTo>
                  <a:pt x="35" y="2073"/>
                </a:lnTo>
                <a:lnTo>
                  <a:pt x="35" y="2108"/>
                </a:lnTo>
                <a:lnTo>
                  <a:pt x="35" y="2142"/>
                </a:lnTo>
                <a:lnTo>
                  <a:pt x="0" y="2176"/>
                </a:lnTo>
                <a:lnTo>
                  <a:pt x="0" y="2211"/>
                </a:lnTo>
                <a:lnTo>
                  <a:pt x="0" y="2245"/>
                </a:lnTo>
                <a:lnTo>
                  <a:pt x="0" y="2280"/>
                </a:lnTo>
                <a:lnTo>
                  <a:pt x="0" y="2314"/>
                </a:lnTo>
                <a:lnTo>
                  <a:pt x="0" y="2349"/>
                </a:lnTo>
                <a:lnTo>
                  <a:pt x="0" y="2383"/>
                </a:lnTo>
                <a:lnTo>
                  <a:pt x="0" y="2418"/>
                </a:lnTo>
                <a:lnTo>
                  <a:pt x="0" y="2452"/>
                </a:lnTo>
                <a:lnTo>
                  <a:pt x="0" y="2480"/>
                </a:lnTo>
                <a:lnTo>
                  <a:pt x="0" y="2514"/>
                </a:lnTo>
                <a:lnTo>
                  <a:pt x="0" y="2548"/>
                </a:lnTo>
                <a:lnTo>
                  <a:pt x="0" y="2583"/>
                </a:lnTo>
                <a:lnTo>
                  <a:pt x="35" y="2617"/>
                </a:lnTo>
                <a:lnTo>
                  <a:pt x="35" y="2652"/>
                </a:lnTo>
                <a:lnTo>
                  <a:pt x="35" y="2686"/>
                </a:lnTo>
                <a:lnTo>
                  <a:pt x="35" y="2721"/>
                </a:lnTo>
                <a:lnTo>
                  <a:pt x="35" y="2755"/>
                </a:lnTo>
                <a:lnTo>
                  <a:pt x="35" y="2789"/>
                </a:lnTo>
                <a:lnTo>
                  <a:pt x="35" y="2824"/>
                </a:lnTo>
                <a:lnTo>
                  <a:pt x="35" y="2858"/>
                </a:lnTo>
                <a:lnTo>
                  <a:pt x="35" y="2893"/>
                </a:lnTo>
                <a:lnTo>
                  <a:pt x="69" y="2927"/>
                </a:lnTo>
                <a:lnTo>
                  <a:pt x="69" y="2955"/>
                </a:lnTo>
                <a:lnTo>
                  <a:pt x="76" y="2955"/>
                </a:lnTo>
                <a:lnTo>
                  <a:pt x="83" y="2948"/>
                </a:lnTo>
                <a:lnTo>
                  <a:pt x="83" y="2948"/>
                </a:lnTo>
                <a:lnTo>
                  <a:pt x="90" y="2941"/>
                </a:lnTo>
                <a:lnTo>
                  <a:pt x="97" y="2934"/>
                </a:lnTo>
                <a:lnTo>
                  <a:pt x="104" y="2934"/>
                </a:lnTo>
                <a:lnTo>
                  <a:pt x="111" y="2934"/>
                </a:lnTo>
                <a:lnTo>
                  <a:pt x="118" y="2927"/>
                </a:lnTo>
                <a:lnTo>
                  <a:pt x="125" y="2927"/>
                </a:lnTo>
                <a:lnTo>
                  <a:pt x="131" y="2920"/>
                </a:lnTo>
                <a:lnTo>
                  <a:pt x="138" y="2920"/>
                </a:lnTo>
                <a:lnTo>
                  <a:pt x="145" y="2913"/>
                </a:lnTo>
                <a:lnTo>
                  <a:pt x="152" y="2913"/>
                </a:lnTo>
                <a:lnTo>
                  <a:pt x="159" y="2920"/>
                </a:lnTo>
                <a:lnTo>
                  <a:pt x="159" y="2920"/>
                </a:lnTo>
                <a:lnTo>
                  <a:pt x="166" y="2920"/>
                </a:lnTo>
                <a:lnTo>
                  <a:pt x="173" y="2920"/>
                </a:lnTo>
                <a:lnTo>
                  <a:pt x="180" y="2927"/>
                </a:lnTo>
                <a:lnTo>
                  <a:pt x="187" y="2927"/>
                </a:lnTo>
                <a:lnTo>
                  <a:pt x="194" y="2927"/>
                </a:lnTo>
                <a:lnTo>
                  <a:pt x="200" y="2927"/>
                </a:lnTo>
                <a:lnTo>
                  <a:pt x="207" y="2934"/>
                </a:lnTo>
                <a:lnTo>
                  <a:pt x="214" y="2941"/>
                </a:lnTo>
                <a:lnTo>
                  <a:pt x="214" y="2948"/>
                </a:lnTo>
                <a:lnTo>
                  <a:pt x="221" y="2955"/>
                </a:lnTo>
                <a:lnTo>
                  <a:pt x="221" y="2969"/>
                </a:lnTo>
                <a:lnTo>
                  <a:pt x="228" y="2975"/>
                </a:lnTo>
                <a:lnTo>
                  <a:pt x="228" y="2982"/>
                </a:lnTo>
                <a:lnTo>
                  <a:pt x="235" y="2996"/>
                </a:lnTo>
                <a:lnTo>
                  <a:pt x="235" y="3003"/>
                </a:lnTo>
                <a:lnTo>
                  <a:pt x="235" y="3017"/>
                </a:lnTo>
                <a:lnTo>
                  <a:pt x="242" y="3024"/>
                </a:lnTo>
                <a:lnTo>
                  <a:pt x="242" y="3031"/>
                </a:lnTo>
                <a:lnTo>
                  <a:pt x="249" y="3044"/>
                </a:lnTo>
                <a:lnTo>
                  <a:pt x="249" y="3051"/>
                </a:lnTo>
                <a:lnTo>
                  <a:pt x="249" y="3065"/>
                </a:lnTo>
                <a:lnTo>
                  <a:pt x="249" y="3072"/>
                </a:lnTo>
                <a:lnTo>
                  <a:pt x="249" y="3086"/>
                </a:lnTo>
                <a:lnTo>
                  <a:pt x="249" y="3093"/>
                </a:lnTo>
                <a:lnTo>
                  <a:pt x="249" y="3106"/>
                </a:lnTo>
                <a:lnTo>
                  <a:pt x="249" y="3113"/>
                </a:lnTo>
                <a:lnTo>
                  <a:pt x="256" y="3127"/>
                </a:lnTo>
                <a:lnTo>
                  <a:pt x="256" y="3134"/>
                </a:lnTo>
                <a:lnTo>
                  <a:pt x="256" y="3148"/>
                </a:lnTo>
                <a:lnTo>
                  <a:pt x="276" y="3161"/>
                </a:lnTo>
                <a:lnTo>
                  <a:pt x="311" y="3196"/>
                </a:lnTo>
                <a:lnTo>
                  <a:pt x="338" y="3196"/>
                </a:lnTo>
                <a:lnTo>
                  <a:pt x="373" y="3230"/>
                </a:lnTo>
                <a:lnTo>
                  <a:pt x="407" y="3230"/>
                </a:lnTo>
                <a:lnTo>
                  <a:pt x="442" y="3230"/>
                </a:lnTo>
                <a:lnTo>
                  <a:pt x="476" y="3265"/>
                </a:lnTo>
                <a:lnTo>
                  <a:pt x="511" y="3265"/>
                </a:lnTo>
                <a:lnTo>
                  <a:pt x="545" y="3299"/>
                </a:lnTo>
                <a:lnTo>
                  <a:pt x="580" y="3299"/>
                </a:lnTo>
                <a:lnTo>
                  <a:pt x="614" y="3299"/>
                </a:lnTo>
                <a:lnTo>
                  <a:pt x="649" y="3299"/>
                </a:lnTo>
                <a:lnTo>
                  <a:pt x="683" y="3299"/>
                </a:lnTo>
                <a:lnTo>
                  <a:pt x="718" y="3299"/>
                </a:lnTo>
                <a:close/>
                <a:moveTo>
                  <a:pt x="331" y="2962"/>
                </a:moveTo>
                <a:lnTo>
                  <a:pt x="331" y="2948"/>
                </a:lnTo>
                <a:lnTo>
                  <a:pt x="325" y="2934"/>
                </a:lnTo>
                <a:lnTo>
                  <a:pt x="325" y="2927"/>
                </a:lnTo>
                <a:lnTo>
                  <a:pt x="318" y="2913"/>
                </a:lnTo>
                <a:lnTo>
                  <a:pt x="318" y="2900"/>
                </a:lnTo>
                <a:lnTo>
                  <a:pt x="311" y="2886"/>
                </a:lnTo>
                <a:lnTo>
                  <a:pt x="311" y="2879"/>
                </a:lnTo>
                <a:lnTo>
                  <a:pt x="304" y="2865"/>
                </a:lnTo>
                <a:lnTo>
                  <a:pt x="297" y="2858"/>
                </a:lnTo>
                <a:lnTo>
                  <a:pt x="290" y="2851"/>
                </a:lnTo>
                <a:lnTo>
                  <a:pt x="283" y="2845"/>
                </a:lnTo>
                <a:lnTo>
                  <a:pt x="276" y="2831"/>
                </a:lnTo>
                <a:lnTo>
                  <a:pt x="276" y="2824"/>
                </a:lnTo>
                <a:lnTo>
                  <a:pt x="269" y="2810"/>
                </a:lnTo>
                <a:lnTo>
                  <a:pt x="262" y="2803"/>
                </a:lnTo>
                <a:lnTo>
                  <a:pt x="256" y="2789"/>
                </a:lnTo>
                <a:lnTo>
                  <a:pt x="249" y="2789"/>
                </a:lnTo>
                <a:lnTo>
                  <a:pt x="242" y="2783"/>
                </a:lnTo>
                <a:lnTo>
                  <a:pt x="235" y="2789"/>
                </a:lnTo>
                <a:lnTo>
                  <a:pt x="228" y="2789"/>
                </a:lnTo>
                <a:lnTo>
                  <a:pt x="221" y="2796"/>
                </a:lnTo>
                <a:lnTo>
                  <a:pt x="214" y="2803"/>
                </a:lnTo>
                <a:lnTo>
                  <a:pt x="200" y="2810"/>
                </a:lnTo>
                <a:lnTo>
                  <a:pt x="194" y="2810"/>
                </a:lnTo>
                <a:lnTo>
                  <a:pt x="187" y="2810"/>
                </a:lnTo>
                <a:lnTo>
                  <a:pt x="180" y="2810"/>
                </a:lnTo>
                <a:lnTo>
                  <a:pt x="173" y="2803"/>
                </a:lnTo>
                <a:lnTo>
                  <a:pt x="166" y="2803"/>
                </a:lnTo>
                <a:lnTo>
                  <a:pt x="152" y="2796"/>
                </a:lnTo>
                <a:lnTo>
                  <a:pt x="145" y="2789"/>
                </a:lnTo>
                <a:lnTo>
                  <a:pt x="138" y="2789"/>
                </a:lnTo>
                <a:lnTo>
                  <a:pt x="131" y="2783"/>
                </a:lnTo>
                <a:lnTo>
                  <a:pt x="125" y="2783"/>
                </a:lnTo>
                <a:lnTo>
                  <a:pt x="118" y="2776"/>
                </a:lnTo>
                <a:lnTo>
                  <a:pt x="111" y="2776"/>
                </a:lnTo>
                <a:lnTo>
                  <a:pt x="97" y="2769"/>
                </a:lnTo>
                <a:lnTo>
                  <a:pt x="90" y="2769"/>
                </a:lnTo>
                <a:lnTo>
                  <a:pt x="83" y="2762"/>
                </a:lnTo>
                <a:lnTo>
                  <a:pt x="76" y="2762"/>
                </a:lnTo>
                <a:lnTo>
                  <a:pt x="69" y="2755"/>
                </a:lnTo>
                <a:lnTo>
                  <a:pt x="76" y="2741"/>
                </a:lnTo>
                <a:lnTo>
                  <a:pt x="76" y="2727"/>
                </a:lnTo>
                <a:lnTo>
                  <a:pt x="83" y="2714"/>
                </a:lnTo>
                <a:lnTo>
                  <a:pt x="83" y="2700"/>
                </a:lnTo>
                <a:lnTo>
                  <a:pt x="83" y="2693"/>
                </a:lnTo>
                <a:lnTo>
                  <a:pt x="83" y="2679"/>
                </a:lnTo>
                <a:lnTo>
                  <a:pt x="83" y="2665"/>
                </a:lnTo>
                <a:lnTo>
                  <a:pt x="83" y="2652"/>
                </a:lnTo>
                <a:lnTo>
                  <a:pt x="83" y="2638"/>
                </a:lnTo>
                <a:lnTo>
                  <a:pt x="83" y="2624"/>
                </a:lnTo>
                <a:lnTo>
                  <a:pt x="83" y="2610"/>
                </a:lnTo>
                <a:lnTo>
                  <a:pt x="83" y="2597"/>
                </a:lnTo>
                <a:lnTo>
                  <a:pt x="83" y="2590"/>
                </a:lnTo>
                <a:lnTo>
                  <a:pt x="83" y="2576"/>
                </a:lnTo>
                <a:lnTo>
                  <a:pt x="83" y="2562"/>
                </a:lnTo>
                <a:lnTo>
                  <a:pt x="83" y="2548"/>
                </a:lnTo>
                <a:lnTo>
                  <a:pt x="83" y="2535"/>
                </a:lnTo>
                <a:lnTo>
                  <a:pt x="90" y="2521"/>
                </a:lnTo>
                <a:lnTo>
                  <a:pt x="90" y="2507"/>
                </a:lnTo>
                <a:lnTo>
                  <a:pt x="90" y="2500"/>
                </a:lnTo>
                <a:lnTo>
                  <a:pt x="97" y="2486"/>
                </a:lnTo>
                <a:lnTo>
                  <a:pt x="104" y="2473"/>
                </a:lnTo>
                <a:lnTo>
                  <a:pt x="104" y="2466"/>
                </a:lnTo>
                <a:lnTo>
                  <a:pt x="111" y="2452"/>
                </a:lnTo>
                <a:lnTo>
                  <a:pt x="118" y="2445"/>
                </a:lnTo>
                <a:lnTo>
                  <a:pt x="125" y="2438"/>
                </a:lnTo>
                <a:lnTo>
                  <a:pt x="131" y="2438"/>
                </a:lnTo>
                <a:lnTo>
                  <a:pt x="138" y="2438"/>
                </a:lnTo>
                <a:lnTo>
                  <a:pt x="145" y="2438"/>
                </a:lnTo>
                <a:lnTo>
                  <a:pt x="159" y="2438"/>
                </a:lnTo>
                <a:lnTo>
                  <a:pt x="166" y="2438"/>
                </a:lnTo>
                <a:lnTo>
                  <a:pt x="173" y="2445"/>
                </a:lnTo>
                <a:lnTo>
                  <a:pt x="180" y="2445"/>
                </a:lnTo>
                <a:lnTo>
                  <a:pt x="187" y="2445"/>
                </a:lnTo>
                <a:lnTo>
                  <a:pt x="200" y="2445"/>
                </a:lnTo>
                <a:lnTo>
                  <a:pt x="207" y="2445"/>
                </a:lnTo>
                <a:lnTo>
                  <a:pt x="214" y="2445"/>
                </a:lnTo>
                <a:lnTo>
                  <a:pt x="221" y="2452"/>
                </a:lnTo>
                <a:lnTo>
                  <a:pt x="228" y="2452"/>
                </a:lnTo>
                <a:lnTo>
                  <a:pt x="235" y="2452"/>
                </a:lnTo>
                <a:lnTo>
                  <a:pt x="249" y="2452"/>
                </a:lnTo>
                <a:lnTo>
                  <a:pt x="256" y="2452"/>
                </a:lnTo>
                <a:lnTo>
                  <a:pt x="262" y="2452"/>
                </a:lnTo>
                <a:lnTo>
                  <a:pt x="269" y="2459"/>
                </a:lnTo>
                <a:lnTo>
                  <a:pt x="276" y="2459"/>
                </a:lnTo>
                <a:lnTo>
                  <a:pt x="290" y="2459"/>
                </a:lnTo>
                <a:lnTo>
                  <a:pt x="297" y="2459"/>
                </a:lnTo>
                <a:lnTo>
                  <a:pt x="304" y="2459"/>
                </a:lnTo>
                <a:lnTo>
                  <a:pt x="311" y="2459"/>
                </a:lnTo>
                <a:lnTo>
                  <a:pt x="318" y="2466"/>
                </a:lnTo>
                <a:lnTo>
                  <a:pt x="325" y="2466"/>
                </a:lnTo>
                <a:lnTo>
                  <a:pt x="338" y="2466"/>
                </a:lnTo>
                <a:lnTo>
                  <a:pt x="345" y="2466"/>
                </a:lnTo>
                <a:lnTo>
                  <a:pt x="352" y="2466"/>
                </a:lnTo>
                <a:lnTo>
                  <a:pt x="359" y="2466"/>
                </a:lnTo>
                <a:lnTo>
                  <a:pt x="366" y="2473"/>
                </a:lnTo>
                <a:lnTo>
                  <a:pt x="373" y="2473"/>
                </a:lnTo>
                <a:lnTo>
                  <a:pt x="387" y="2473"/>
                </a:lnTo>
                <a:lnTo>
                  <a:pt x="393" y="2473"/>
                </a:lnTo>
                <a:lnTo>
                  <a:pt x="400" y="2473"/>
                </a:lnTo>
                <a:lnTo>
                  <a:pt x="407" y="2473"/>
                </a:lnTo>
                <a:lnTo>
                  <a:pt x="414" y="2480"/>
                </a:lnTo>
                <a:lnTo>
                  <a:pt x="428" y="2480"/>
                </a:lnTo>
                <a:lnTo>
                  <a:pt x="435" y="2480"/>
                </a:lnTo>
                <a:lnTo>
                  <a:pt x="442" y="2480"/>
                </a:lnTo>
                <a:lnTo>
                  <a:pt x="449" y="2480"/>
                </a:lnTo>
                <a:lnTo>
                  <a:pt x="456" y="2480"/>
                </a:lnTo>
                <a:lnTo>
                  <a:pt x="462" y="2480"/>
                </a:lnTo>
                <a:lnTo>
                  <a:pt x="476" y="2486"/>
                </a:lnTo>
                <a:lnTo>
                  <a:pt x="483" y="2486"/>
                </a:lnTo>
                <a:lnTo>
                  <a:pt x="490" y="2486"/>
                </a:lnTo>
                <a:lnTo>
                  <a:pt x="497" y="2486"/>
                </a:lnTo>
                <a:lnTo>
                  <a:pt x="504" y="2486"/>
                </a:lnTo>
                <a:lnTo>
                  <a:pt x="518" y="2493"/>
                </a:lnTo>
                <a:lnTo>
                  <a:pt x="524" y="2493"/>
                </a:lnTo>
                <a:lnTo>
                  <a:pt x="531" y="2500"/>
                </a:lnTo>
                <a:lnTo>
                  <a:pt x="538" y="2507"/>
                </a:lnTo>
                <a:lnTo>
                  <a:pt x="538" y="2521"/>
                </a:lnTo>
                <a:lnTo>
                  <a:pt x="545" y="2528"/>
                </a:lnTo>
                <a:lnTo>
                  <a:pt x="552" y="2541"/>
                </a:lnTo>
                <a:lnTo>
                  <a:pt x="552" y="2555"/>
                </a:lnTo>
                <a:lnTo>
                  <a:pt x="559" y="2562"/>
                </a:lnTo>
                <a:lnTo>
                  <a:pt x="566" y="2576"/>
                </a:lnTo>
                <a:lnTo>
                  <a:pt x="566" y="2583"/>
                </a:lnTo>
                <a:lnTo>
                  <a:pt x="573" y="2590"/>
                </a:lnTo>
                <a:lnTo>
                  <a:pt x="580" y="2597"/>
                </a:lnTo>
                <a:lnTo>
                  <a:pt x="587" y="2603"/>
                </a:lnTo>
                <a:lnTo>
                  <a:pt x="593" y="2610"/>
                </a:lnTo>
                <a:lnTo>
                  <a:pt x="607" y="2617"/>
                </a:lnTo>
                <a:lnTo>
                  <a:pt x="614" y="2617"/>
                </a:lnTo>
                <a:lnTo>
                  <a:pt x="621" y="2624"/>
                </a:lnTo>
                <a:lnTo>
                  <a:pt x="628" y="2631"/>
                </a:lnTo>
                <a:lnTo>
                  <a:pt x="635" y="2638"/>
                </a:lnTo>
                <a:lnTo>
                  <a:pt x="642" y="2645"/>
                </a:lnTo>
                <a:lnTo>
                  <a:pt x="649" y="2645"/>
                </a:lnTo>
                <a:lnTo>
                  <a:pt x="656" y="2652"/>
                </a:lnTo>
                <a:lnTo>
                  <a:pt x="662" y="2652"/>
                </a:lnTo>
                <a:lnTo>
                  <a:pt x="676" y="2645"/>
                </a:lnTo>
                <a:lnTo>
                  <a:pt x="683" y="2645"/>
                </a:lnTo>
                <a:lnTo>
                  <a:pt x="690" y="2645"/>
                </a:lnTo>
                <a:lnTo>
                  <a:pt x="697" y="2645"/>
                </a:lnTo>
                <a:lnTo>
                  <a:pt x="704" y="2645"/>
                </a:lnTo>
                <a:lnTo>
                  <a:pt x="711" y="2645"/>
                </a:lnTo>
                <a:lnTo>
                  <a:pt x="724" y="2645"/>
                </a:lnTo>
                <a:lnTo>
                  <a:pt x="731" y="2645"/>
                </a:lnTo>
                <a:lnTo>
                  <a:pt x="738" y="2645"/>
                </a:lnTo>
                <a:lnTo>
                  <a:pt x="745" y="2645"/>
                </a:lnTo>
                <a:lnTo>
                  <a:pt x="752" y="2645"/>
                </a:lnTo>
                <a:lnTo>
                  <a:pt x="766" y="2638"/>
                </a:lnTo>
                <a:lnTo>
                  <a:pt x="773" y="2638"/>
                </a:lnTo>
                <a:lnTo>
                  <a:pt x="780" y="2631"/>
                </a:lnTo>
                <a:lnTo>
                  <a:pt x="787" y="2631"/>
                </a:lnTo>
                <a:lnTo>
                  <a:pt x="793" y="2631"/>
                </a:lnTo>
                <a:lnTo>
                  <a:pt x="800" y="2624"/>
                </a:lnTo>
                <a:lnTo>
                  <a:pt x="814" y="2624"/>
                </a:lnTo>
                <a:lnTo>
                  <a:pt x="821" y="2624"/>
                </a:lnTo>
                <a:lnTo>
                  <a:pt x="828" y="2617"/>
                </a:lnTo>
                <a:lnTo>
                  <a:pt x="835" y="2617"/>
                </a:lnTo>
                <a:lnTo>
                  <a:pt x="842" y="2610"/>
                </a:lnTo>
                <a:lnTo>
                  <a:pt x="849" y="2610"/>
                </a:lnTo>
                <a:lnTo>
                  <a:pt x="855" y="2610"/>
                </a:lnTo>
                <a:lnTo>
                  <a:pt x="869" y="2603"/>
                </a:lnTo>
                <a:lnTo>
                  <a:pt x="876" y="2603"/>
                </a:lnTo>
                <a:lnTo>
                  <a:pt x="883" y="2597"/>
                </a:lnTo>
                <a:lnTo>
                  <a:pt x="890" y="2597"/>
                </a:lnTo>
                <a:lnTo>
                  <a:pt x="904" y="2597"/>
                </a:lnTo>
                <a:lnTo>
                  <a:pt x="911" y="2603"/>
                </a:lnTo>
                <a:lnTo>
                  <a:pt x="918" y="2610"/>
                </a:lnTo>
                <a:lnTo>
                  <a:pt x="924" y="2617"/>
                </a:lnTo>
                <a:lnTo>
                  <a:pt x="924" y="2631"/>
                </a:lnTo>
                <a:lnTo>
                  <a:pt x="924" y="2645"/>
                </a:lnTo>
                <a:lnTo>
                  <a:pt x="924" y="2659"/>
                </a:lnTo>
                <a:lnTo>
                  <a:pt x="924" y="2672"/>
                </a:lnTo>
                <a:lnTo>
                  <a:pt x="924" y="2679"/>
                </a:lnTo>
                <a:lnTo>
                  <a:pt x="924" y="2693"/>
                </a:lnTo>
                <a:lnTo>
                  <a:pt x="924" y="2707"/>
                </a:lnTo>
                <a:lnTo>
                  <a:pt x="924" y="2721"/>
                </a:lnTo>
                <a:lnTo>
                  <a:pt x="918" y="2734"/>
                </a:lnTo>
                <a:lnTo>
                  <a:pt x="918" y="2748"/>
                </a:lnTo>
                <a:lnTo>
                  <a:pt x="911" y="2755"/>
                </a:lnTo>
                <a:lnTo>
                  <a:pt x="904" y="2762"/>
                </a:lnTo>
                <a:lnTo>
                  <a:pt x="897" y="2762"/>
                </a:lnTo>
                <a:lnTo>
                  <a:pt x="883" y="2762"/>
                </a:lnTo>
                <a:lnTo>
                  <a:pt x="876" y="2769"/>
                </a:lnTo>
                <a:lnTo>
                  <a:pt x="869" y="2776"/>
                </a:lnTo>
                <a:lnTo>
                  <a:pt x="862" y="2776"/>
                </a:lnTo>
                <a:lnTo>
                  <a:pt x="855" y="2783"/>
                </a:lnTo>
                <a:lnTo>
                  <a:pt x="849" y="2789"/>
                </a:lnTo>
                <a:lnTo>
                  <a:pt x="842" y="2796"/>
                </a:lnTo>
                <a:lnTo>
                  <a:pt x="835" y="2803"/>
                </a:lnTo>
                <a:lnTo>
                  <a:pt x="828" y="2810"/>
                </a:lnTo>
                <a:lnTo>
                  <a:pt x="821" y="2810"/>
                </a:lnTo>
                <a:lnTo>
                  <a:pt x="814" y="2817"/>
                </a:lnTo>
                <a:lnTo>
                  <a:pt x="807" y="2824"/>
                </a:lnTo>
                <a:lnTo>
                  <a:pt x="800" y="2831"/>
                </a:lnTo>
                <a:lnTo>
                  <a:pt x="787" y="2831"/>
                </a:lnTo>
                <a:lnTo>
                  <a:pt x="780" y="2838"/>
                </a:lnTo>
                <a:lnTo>
                  <a:pt x="773" y="2838"/>
                </a:lnTo>
                <a:lnTo>
                  <a:pt x="766" y="2838"/>
                </a:lnTo>
                <a:lnTo>
                  <a:pt x="759" y="2845"/>
                </a:lnTo>
                <a:lnTo>
                  <a:pt x="752" y="2845"/>
                </a:lnTo>
                <a:lnTo>
                  <a:pt x="738" y="2845"/>
                </a:lnTo>
                <a:lnTo>
                  <a:pt x="731" y="2845"/>
                </a:lnTo>
                <a:lnTo>
                  <a:pt x="724" y="2845"/>
                </a:lnTo>
                <a:lnTo>
                  <a:pt x="718" y="2851"/>
                </a:lnTo>
                <a:lnTo>
                  <a:pt x="711" y="2851"/>
                </a:lnTo>
                <a:lnTo>
                  <a:pt x="704" y="2858"/>
                </a:lnTo>
                <a:lnTo>
                  <a:pt x="690" y="2858"/>
                </a:lnTo>
                <a:lnTo>
                  <a:pt x="683" y="2865"/>
                </a:lnTo>
                <a:lnTo>
                  <a:pt x="676" y="2865"/>
                </a:lnTo>
                <a:lnTo>
                  <a:pt x="669" y="2865"/>
                </a:lnTo>
                <a:lnTo>
                  <a:pt x="662" y="2872"/>
                </a:lnTo>
                <a:lnTo>
                  <a:pt x="656" y="2872"/>
                </a:lnTo>
                <a:lnTo>
                  <a:pt x="649" y="2879"/>
                </a:lnTo>
                <a:lnTo>
                  <a:pt x="635" y="2879"/>
                </a:lnTo>
                <a:lnTo>
                  <a:pt x="628" y="2886"/>
                </a:lnTo>
                <a:lnTo>
                  <a:pt x="621" y="2886"/>
                </a:lnTo>
                <a:lnTo>
                  <a:pt x="614" y="2886"/>
                </a:lnTo>
                <a:lnTo>
                  <a:pt x="607" y="2893"/>
                </a:lnTo>
                <a:lnTo>
                  <a:pt x="600" y="2893"/>
                </a:lnTo>
                <a:lnTo>
                  <a:pt x="587" y="2900"/>
                </a:lnTo>
                <a:lnTo>
                  <a:pt x="580" y="2900"/>
                </a:lnTo>
                <a:lnTo>
                  <a:pt x="573" y="2907"/>
                </a:lnTo>
                <a:lnTo>
                  <a:pt x="566" y="2907"/>
                </a:lnTo>
                <a:lnTo>
                  <a:pt x="559" y="2907"/>
                </a:lnTo>
                <a:lnTo>
                  <a:pt x="552" y="2913"/>
                </a:lnTo>
                <a:lnTo>
                  <a:pt x="545" y="2913"/>
                </a:lnTo>
                <a:lnTo>
                  <a:pt x="531" y="2920"/>
                </a:lnTo>
                <a:lnTo>
                  <a:pt x="524" y="2920"/>
                </a:lnTo>
                <a:lnTo>
                  <a:pt x="518" y="2927"/>
                </a:lnTo>
                <a:lnTo>
                  <a:pt x="511" y="2927"/>
                </a:lnTo>
                <a:lnTo>
                  <a:pt x="504" y="2927"/>
                </a:lnTo>
                <a:lnTo>
                  <a:pt x="497" y="2934"/>
                </a:lnTo>
                <a:lnTo>
                  <a:pt x="483" y="2934"/>
                </a:lnTo>
                <a:lnTo>
                  <a:pt x="476" y="2941"/>
                </a:lnTo>
                <a:lnTo>
                  <a:pt x="469" y="2941"/>
                </a:lnTo>
                <a:lnTo>
                  <a:pt x="462" y="2941"/>
                </a:lnTo>
                <a:lnTo>
                  <a:pt x="456" y="2948"/>
                </a:lnTo>
                <a:lnTo>
                  <a:pt x="449" y="2948"/>
                </a:lnTo>
                <a:lnTo>
                  <a:pt x="442" y="2955"/>
                </a:lnTo>
                <a:lnTo>
                  <a:pt x="428" y="2955"/>
                </a:lnTo>
                <a:lnTo>
                  <a:pt x="421" y="2955"/>
                </a:lnTo>
                <a:lnTo>
                  <a:pt x="414" y="2962"/>
                </a:lnTo>
                <a:lnTo>
                  <a:pt x="407" y="2962"/>
                </a:lnTo>
                <a:lnTo>
                  <a:pt x="400" y="2969"/>
                </a:lnTo>
                <a:lnTo>
                  <a:pt x="393" y="2969"/>
                </a:lnTo>
                <a:lnTo>
                  <a:pt x="380" y="2969"/>
                </a:lnTo>
                <a:lnTo>
                  <a:pt x="373" y="2975"/>
                </a:lnTo>
                <a:lnTo>
                  <a:pt x="366" y="2982"/>
                </a:lnTo>
                <a:lnTo>
                  <a:pt x="359" y="2982"/>
                </a:lnTo>
                <a:lnTo>
                  <a:pt x="352" y="2982"/>
                </a:lnTo>
                <a:lnTo>
                  <a:pt x="345" y="2982"/>
                </a:lnTo>
                <a:lnTo>
                  <a:pt x="338" y="2969"/>
                </a:lnTo>
                <a:lnTo>
                  <a:pt x="331" y="2962"/>
                </a:lnTo>
                <a:close/>
                <a:moveTo>
                  <a:pt x="752" y="2142"/>
                </a:moveTo>
                <a:lnTo>
                  <a:pt x="759" y="2142"/>
                </a:lnTo>
                <a:lnTo>
                  <a:pt x="773" y="2142"/>
                </a:lnTo>
                <a:lnTo>
                  <a:pt x="780" y="2142"/>
                </a:lnTo>
                <a:lnTo>
                  <a:pt x="793" y="2142"/>
                </a:lnTo>
                <a:lnTo>
                  <a:pt x="800" y="2142"/>
                </a:lnTo>
                <a:lnTo>
                  <a:pt x="814" y="2142"/>
                </a:lnTo>
                <a:lnTo>
                  <a:pt x="821" y="2142"/>
                </a:lnTo>
                <a:lnTo>
                  <a:pt x="835" y="2142"/>
                </a:lnTo>
                <a:lnTo>
                  <a:pt x="849" y="2142"/>
                </a:lnTo>
                <a:lnTo>
                  <a:pt x="855" y="2142"/>
                </a:lnTo>
                <a:lnTo>
                  <a:pt x="849" y="2142"/>
                </a:lnTo>
                <a:lnTo>
                  <a:pt x="835" y="2142"/>
                </a:lnTo>
                <a:lnTo>
                  <a:pt x="821" y="2142"/>
                </a:lnTo>
                <a:lnTo>
                  <a:pt x="814" y="2142"/>
                </a:lnTo>
                <a:lnTo>
                  <a:pt x="800" y="2142"/>
                </a:lnTo>
                <a:lnTo>
                  <a:pt x="793" y="2142"/>
                </a:lnTo>
                <a:lnTo>
                  <a:pt x="780" y="2142"/>
                </a:lnTo>
                <a:lnTo>
                  <a:pt x="773" y="2142"/>
                </a:lnTo>
                <a:lnTo>
                  <a:pt x="759" y="2142"/>
                </a:lnTo>
                <a:lnTo>
                  <a:pt x="752" y="2142"/>
                </a:lnTo>
                <a:close/>
                <a:moveTo>
                  <a:pt x="924" y="2108"/>
                </a:moveTo>
                <a:lnTo>
                  <a:pt x="938" y="2108"/>
                </a:lnTo>
                <a:lnTo>
                  <a:pt x="945" y="2108"/>
                </a:lnTo>
                <a:lnTo>
                  <a:pt x="952" y="2108"/>
                </a:lnTo>
                <a:lnTo>
                  <a:pt x="959" y="2108"/>
                </a:lnTo>
                <a:lnTo>
                  <a:pt x="952" y="2108"/>
                </a:lnTo>
                <a:lnTo>
                  <a:pt x="945" y="2108"/>
                </a:lnTo>
                <a:lnTo>
                  <a:pt x="938" y="2108"/>
                </a:lnTo>
                <a:lnTo>
                  <a:pt x="924" y="2108"/>
                </a:lnTo>
                <a:close/>
                <a:moveTo>
                  <a:pt x="297" y="1667"/>
                </a:moveTo>
                <a:lnTo>
                  <a:pt x="304" y="1660"/>
                </a:lnTo>
                <a:lnTo>
                  <a:pt x="311" y="1653"/>
                </a:lnTo>
                <a:lnTo>
                  <a:pt x="311" y="1646"/>
                </a:lnTo>
                <a:lnTo>
                  <a:pt x="318" y="1632"/>
                </a:lnTo>
                <a:lnTo>
                  <a:pt x="318" y="1618"/>
                </a:lnTo>
                <a:lnTo>
                  <a:pt x="325" y="1612"/>
                </a:lnTo>
                <a:lnTo>
                  <a:pt x="325" y="1598"/>
                </a:lnTo>
                <a:lnTo>
                  <a:pt x="331" y="1591"/>
                </a:lnTo>
                <a:lnTo>
                  <a:pt x="338" y="1584"/>
                </a:lnTo>
                <a:lnTo>
                  <a:pt x="338" y="1570"/>
                </a:lnTo>
                <a:lnTo>
                  <a:pt x="345" y="1563"/>
                </a:lnTo>
                <a:lnTo>
                  <a:pt x="352" y="1550"/>
                </a:lnTo>
                <a:lnTo>
                  <a:pt x="352" y="1543"/>
                </a:lnTo>
                <a:lnTo>
                  <a:pt x="359" y="1529"/>
                </a:lnTo>
                <a:lnTo>
                  <a:pt x="359" y="1522"/>
                </a:lnTo>
                <a:lnTo>
                  <a:pt x="366" y="1508"/>
                </a:lnTo>
                <a:lnTo>
                  <a:pt x="366" y="1501"/>
                </a:lnTo>
                <a:lnTo>
                  <a:pt x="373" y="1488"/>
                </a:lnTo>
                <a:lnTo>
                  <a:pt x="380" y="1481"/>
                </a:lnTo>
                <a:lnTo>
                  <a:pt x="380" y="1467"/>
                </a:lnTo>
                <a:lnTo>
                  <a:pt x="387" y="1460"/>
                </a:lnTo>
                <a:lnTo>
                  <a:pt x="387" y="1446"/>
                </a:lnTo>
                <a:lnTo>
                  <a:pt x="393" y="1439"/>
                </a:lnTo>
                <a:lnTo>
                  <a:pt x="393" y="1426"/>
                </a:lnTo>
                <a:lnTo>
                  <a:pt x="400" y="1419"/>
                </a:lnTo>
                <a:lnTo>
                  <a:pt x="407" y="1405"/>
                </a:lnTo>
                <a:lnTo>
                  <a:pt x="407" y="1398"/>
                </a:lnTo>
                <a:lnTo>
                  <a:pt x="414" y="1384"/>
                </a:lnTo>
                <a:lnTo>
                  <a:pt x="414" y="1377"/>
                </a:lnTo>
                <a:lnTo>
                  <a:pt x="421" y="1364"/>
                </a:lnTo>
                <a:lnTo>
                  <a:pt x="421" y="1357"/>
                </a:lnTo>
                <a:lnTo>
                  <a:pt x="428" y="1343"/>
                </a:lnTo>
                <a:lnTo>
                  <a:pt x="428" y="1336"/>
                </a:lnTo>
                <a:lnTo>
                  <a:pt x="435" y="1322"/>
                </a:lnTo>
                <a:lnTo>
                  <a:pt x="442" y="1315"/>
                </a:lnTo>
                <a:lnTo>
                  <a:pt x="442" y="1302"/>
                </a:lnTo>
                <a:lnTo>
                  <a:pt x="442" y="1288"/>
                </a:lnTo>
                <a:lnTo>
                  <a:pt x="442" y="1274"/>
                </a:lnTo>
                <a:lnTo>
                  <a:pt x="435" y="1267"/>
                </a:lnTo>
                <a:lnTo>
                  <a:pt x="442" y="1253"/>
                </a:lnTo>
                <a:lnTo>
                  <a:pt x="449" y="1253"/>
                </a:lnTo>
                <a:lnTo>
                  <a:pt x="456" y="1246"/>
                </a:lnTo>
                <a:lnTo>
                  <a:pt x="462" y="1246"/>
                </a:lnTo>
                <a:lnTo>
                  <a:pt x="469" y="1246"/>
                </a:lnTo>
                <a:lnTo>
                  <a:pt x="476" y="1246"/>
                </a:lnTo>
                <a:lnTo>
                  <a:pt x="483" y="1246"/>
                </a:lnTo>
                <a:lnTo>
                  <a:pt x="490" y="1246"/>
                </a:lnTo>
                <a:lnTo>
                  <a:pt x="497" y="1246"/>
                </a:lnTo>
                <a:lnTo>
                  <a:pt x="504" y="1246"/>
                </a:lnTo>
                <a:lnTo>
                  <a:pt x="511" y="1246"/>
                </a:lnTo>
                <a:lnTo>
                  <a:pt x="518" y="1240"/>
                </a:lnTo>
                <a:lnTo>
                  <a:pt x="531" y="1233"/>
                </a:lnTo>
                <a:lnTo>
                  <a:pt x="538" y="1233"/>
                </a:lnTo>
                <a:lnTo>
                  <a:pt x="545" y="1226"/>
                </a:lnTo>
                <a:lnTo>
                  <a:pt x="552" y="1226"/>
                </a:lnTo>
                <a:lnTo>
                  <a:pt x="559" y="1233"/>
                </a:lnTo>
                <a:lnTo>
                  <a:pt x="566" y="1233"/>
                </a:lnTo>
                <a:lnTo>
                  <a:pt x="573" y="1240"/>
                </a:lnTo>
                <a:lnTo>
                  <a:pt x="580" y="1246"/>
                </a:lnTo>
                <a:lnTo>
                  <a:pt x="587" y="1246"/>
                </a:lnTo>
                <a:lnTo>
                  <a:pt x="593" y="1246"/>
                </a:lnTo>
                <a:lnTo>
                  <a:pt x="600" y="1240"/>
                </a:lnTo>
                <a:lnTo>
                  <a:pt x="607" y="1240"/>
                </a:lnTo>
                <a:lnTo>
                  <a:pt x="614" y="1233"/>
                </a:lnTo>
                <a:lnTo>
                  <a:pt x="621" y="1233"/>
                </a:lnTo>
                <a:lnTo>
                  <a:pt x="628" y="1233"/>
                </a:lnTo>
                <a:lnTo>
                  <a:pt x="635" y="1233"/>
                </a:lnTo>
                <a:lnTo>
                  <a:pt x="649" y="1226"/>
                </a:lnTo>
                <a:lnTo>
                  <a:pt x="656" y="1226"/>
                </a:lnTo>
                <a:lnTo>
                  <a:pt x="662" y="1226"/>
                </a:lnTo>
                <a:lnTo>
                  <a:pt x="669" y="1219"/>
                </a:lnTo>
                <a:lnTo>
                  <a:pt x="676" y="1219"/>
                </a:lnTo>
                <a:lnTo>
                  <a:pt x="683" y="1219"/>
                </a:lnTo>
                <a:lnTo>
                  <a:pt x="690" y="1219"/>
                </a:lnTo>
                <a:lnTo>
                  <a:pt x="697" y="1212"/>
                </a:lnTo>
                <a:lnTo>
                  <a:pt x="704" y="1212"/>
                </a:lnTo>
                <a:lnTo>
                  <a:pt x="711" y="1212"/>
                </a:lnTo>
                <a:lnTo>
                  <a:pt x="718" y="1212"/>
                </a:lnTo>
                <a:lnTo>
                  <a:pt x="724" y="1205"/>
                </a:lnTo>
                <a:lnTo>
                  <a:pt x="731" y="1205"/>
                </a:lnTo>
                <a:lnTo>
                  <a:pt x="745" y="1205"/>
                </a:lnTo>
                <a:lnTo>
                  <a:pt x="752" y="1205"/>
                </a:lnTo>
                <a:lnTo>
                  <a:pt x="759" y="1198"/>
                </a:lnTo>
                <a:lnTo>
                  <a:pt x="766" y="1198"/>
                </a:lnTo>
                <a:lnTo>
                  <a:pt x="773" y="1198"/>
                </a:lnTo>
                <a:lnTo>
                  <a:pt x="780" y="1198"/>
                </a:lnTo>
                <a:lnTo>
                  <a:pt x="787" y="1205"/>
                </a:lnTo>
                <a:lnTo>
                  <a:pt x="787" y="1219"/>
                </a:lnTo>
                <a:lnTo>
                  <a:pt x="793" y="1233"/>
                </a:lnTo>
                <a:lnTo>
                  <a:pt x="793" y="1240"/>
                </a:lnTo>
                <a:lnTo>
                  <a:pt x="800" y="1253"/>
                </a:lnTo>
                <a:lnTo>
                  <a:pt x="800" y="1267"/>
                </a:lnTo>
                <a:lnTo>
                  <a:pt x="807" y="1274"/>
                </a:lnTo>
                <a:lnTo>
                  <a:pt x="807" y="1288"/>
                </a:lnTo>
                <a:lnTo>
                  <a:pt x="807" y="1302"/>
                </a:lnTo>
                <a:lnTo>
                  <a:pt x="814" y="1308"/>
                </a:lnTo>
                <a:lnTo>
                  <a:pt x="814" y="1322"/>
                </a:lnTo>
                <a:lnTo>
                  <a:pt x="821" y="1329"/>
                </a:lnTo>
                <a:lnTo>
                  <a:pt x="828" y="1336"/>
                </a:lnTo>
                <a:lnTo>
                  <a:pt x="828" y="1350"/>
                </a:lnTo>
                <a:lnTo>
                  <a:pt x="835" y="1357"/>
                </a:lnTo>
                <a:lnTo>
                  <a:pt x="842" y="1364"/>
                </a:lnTo>
                <a:lnTo>
                  <a:pt x="849" y="1377"/>
                </a:lnTo>
                <a:lnTo>
                  <a:pt x="849" y="1384"/>
                </a:lnTo>
                <a:lnTo>
                  <a:pt x="855" y="1391"/>
                </a:lnTo>
                <a:lnTo>
                  <a:pt x="862" y="1405"/>
                </a:lnTo>
                <a:lnTo>
                  <a:pt x="862" y="1419"/>
                </a:lnTo>
                <a:lnTo>
                  <a:pt x="855" y="1426"/>
                </a:lnTo>
                <a:lnTo>
                  <a:pt x="849" y="1432"/>
                </a:lnTo>
                <a:lnTo>
                  <a:pt x="842" y="1439"/>
                </a:lnTo>
                <a:lnTo>
                  <a:pt x="835" y="1439"/>
                </a:lnTo>
                <a:lnTo>
                  <a:pt x="828" y="1446"/>
                </a:lnTo>
                <a:lnTo>
                  <a:pt x="821" y="1446"/>
                </a:lnTo>
                <a:lnTo>
                  <a:pt x="814" y="1453"/>
                </a:lnTo>
                <a:lnTo>
                  <a:pt x="807" y="1460"/>
                </a:lnTo>
                <a:lnTo>
                  <a:pt x="800" y="1460"/>
                </a:lnTo>
                <a:lnTo>
                  <a:pt x="793" y="1467"/>
                </a:lnTo>
                <a:lnTo>
                  <a:pt x="787" y="1474"/>
                </a:lnTo>
                <a:lnTo>
                  <a:pt x="780" y="1474"/>
                </a:lnTo>
                <a:lnTo>
                  <a:pt x="773" y="1481"/>
                </a:lnTo>
                <a:lnTo>
                  <a:pt x="766" y="1488"/>
                </a:lnTo>
                <a:lnTo>
                  <a:pt x="759" y="1488"/>
                </a:lnTo>
                <a:lnTo>
                  <a:pt x="752" y="1494"/>
                </a:lnTo>
                <a:lnTo>
                  <a:pt x="745" y="1494"/>
                </a:lnTo>
                <a:lnTo>
                  <a:pt x="738" y="1501"/>
                </a:lnTo>
                <a:lnTo>
                  <a:pt x="731" y="1508"/>
                </a:lnTo>
                <a:lnTo>
                  <a:pt x="724" y="1508"/>
                </a:lnTo>
                <a:lnTo>
                  <a:pt x="718" y="1515"/>
                </a:lnTo>
                <a:lnTo>
                  <a:pt x="711" y="1515"/>
                </a:lnTo>
                <a:lnTo>
                  <a:pt x="704" y="1522"/>
                </a:lnTo>
                <a:lnTo>
                  <a:pt x="697" y="1522"/>
                </a:lnTo>
                <a:lnTo>
                  <a:pt x="690" y="1529"/>
                </a:lnTo>
                <a:lnTo>
                  <a:pt x="683" y="1536"/>
                </a:lnTo>
                <a:lnTo>
                  <a:pt x="676" y="1536"/>
                </a:lnTo>
                <a:lnTo>
                  <a:pt x="662" y="1543"/>
                </a:lnTo>
                <a:lnTo>
                  <a:pt x="656" y="1543"/>
                </a:lnTo>
                <a:lnTo>
                  <a:pt x="649" y="1550"/>
                </a:lnTo>
                <a:lnTo>
                  <a:pt x="649" y="1556"/>
                </a:lnTo>
                <a:lnTo>
                  <a:pt x="642" y="1570"/>
                </a:lnTo>
                <a:lnTo>
                  <a:pt x="635" y="1577"/>
                </a:lnTo>
                <a:lnTo>
                  <a:pt x="628" y="1584"/>
                </a:lnTo>
                <a:lnTo>
                  <a:pt x="628" y="1598"/>
                </a:lnTo>
                <a:lnTo>
                  <a:pt x="621" y="1605"/>
                </a:lnTo>
                <a:lnTo>
                  <a:pt x="614" y="1612"/>
                </a:lnTo>
                <a:lnTo>
                  <a:pt x="614" y="1625"/>
                </a:lnTo>
                <a:lnTo>
                  <a:pt x="607" y="1632"/>
                </a:lnTo>
                <a:lnTo>
                  <a:pt x="600" y="1639"/>
                </a:lnTo>
                <a:lnTo>
                  <a:pt x="593" y="1646"/>
                </a:lnTo>
                <a:lnTo>
                  <a:pt x="587" y="1653"/>
                </a:lnTo>
                <a:lnTo>
                  <a:pt x="580" y="1660"/>
                </a:lnTo>
                <a:lnTo>
                  <a:pt x="573" y="1660"/>
                </a:lnTo>
                <a:lnTo>
                  <a:pt x="566" y="1667"/>
                </a:lnTo>
                <a:lnTo>
                  <a:pt x="559" y="1667"/>
                </a:lnTo>
                <a:lnTo>
                  <a:pt x="552" y="1674"/>
                </a:lnTo>
                <a:lnTo>
                  <a:pt x="545" y="1674"/>
                </a:lnTo>
                <a:lnTo>
                  <a:pt x="538" y="1680"/>
                </a:lnTo>
                <a:lnTo>
                  <a:pt x="531" y="1680"/>
                </a:lnTo>
                <a:lnTo>
                  <a:pt x="524" y="1687"/>
                </a:lnTo>
                <a:lnTo>
                  <a:pt x="518" y="1687"/>
                </a:lnTo>
                <a:lnTo>
                  <a:pt x="511" y="1694"/>
                </a:lnTo>
                <a:lnTo>
                  <a:pt x="497" y="1694"/>
                </a:lnTo>
                <a:lnTo>
                  <a:pt x="490" y="1694"/>
                </a:lnTo>
                <a:lnTo>
                  <a:pt x="483" y="1694"/>
                </a:lnTo>
                <a:lnTo>
                  <a:pt x="476" y="1694"/>
                </a:lnTo>
                <a:lnTo>
                  <a:pt x="469" y="1694"/>
                </a:lnTo>
                <a:lnTo>
                  <a:pt x="462" y="1694"/>
                </a:lnTo>
                <a:lnTo>
                  <a:pt x="456" y="1694"/>
                </a:lnTo>
                <a:lnTo>
                  <a:pt x="449" y="1694"/>
                </a:lnTo>
                <a:lnTo>
                  <a:pt x="442" y="1694"/>
                </a:lnTo>
                <a:lnTo>
                  <a:pt x="435" y="1694"/>
                </a:lnTo>
                <a:lnTo>
                  <a:pt x="428" y="1694"/>
                </a:lnTo>
                <a:lnTo>
                  <a:pt x="414" y="1694"/>
                </a:lnTo>
                <a:lnTo>
                  <a:pt x="407" y="1694"/>
                </a:lnTo>
                <a:lnTo>
                  <a:pt x="400" y="1694"/>
                </a:lnTo>
                <a:lnTo>
                  <a:pt x="393" y="1694"/>
                </a:lnTo>
                <a:lnTo>
                  <a:pt x="387" y="1694"/>
                </a:lnTo>
                <a:lnTo>
                  <a:pt x="380" y="1687"/>
                </a:lnTo>
                <a:lnTo>
                  <a:pt x="373" y="1687"/>
                </a:lnTo>
                <a:lnTo>
                  <a:pt x="366" y="1687"/>
                </a:lnTo>
                <a:lnTo>
                  <a:pt x="359" y="1687"/>
                </a:lnTo>
                <a:lnTo>
                  <a:pt x="352" y="1687"/>
                </a:lnTo>
                <a:lnTo>
                  <a:pt x="338" y="1687"/>
                </a:lnTo>
                <a:lnTo>
                  <a:pt x="331" y="1687"/>
                </a:lnTo>
                <a:lnTo>
                  <a:pt x="325" y="1680"/>
                </a:lnTo>
                <a:lnTo>
                  <a:pt x="318" y="1680"/>
                </a:lnTo>
                <a:lnTo>
                  <a:pt x="311" y="1674"/>
                </a:lnTo>
                <a:lnTo>
                  <a:pt x="304" y="1674"/>
                </a:lnTo>
                <a:lnTo>
                  <a:pt x="297" y="1667"/>
                </a:lnTo>
                <a:close/>
                <a:moveTo>
                  <a:pt x="718" y="916"/>
                </a:moveTo>
                <a:lnTo>
                  <a:pt x="718" y="902"/>
                </a:lnTo>
                <a:lnTo>
                  <a:pt x="718" y="888"/>
                </a:lnTo>
                <a:lnTo>
                  <a:pt x="724" y="874"/>
                </a:lnTo>
                <a:lnTo>
                  <a:pt x="731" y="868"/>
                </a:lnTo>
                <a:lnTo>
                  <a:pt x="738" y="861"/>
                </a:lnTo>
                <a:lnTo>
                  <a:pt x="745" y="854"/>
                </a:lnTo>
                <a:lnTo>
                  <a:pt x="759" y="847"/>
                </a:lnTo>
                <a:lnTo>
                  <a:pt x="766" y="833"/>
                </a:lnTo>
                <a:lnTo>
                  <a:pt x="773" y="826"/>
                </a:lnTo>
                <a:lnTo>
                  <a:pt x="780" y="819"/>
                </a:lnTo>
                <a:lnTo>
                  <a:pt x="793" y="819"/>
                </a:lnTo>
                <a:lnTo>
                  <a:pt x="800" y="819"/>
                </a:lnTo>
                <a:lnTo>
                  <a:pt x="814" y="819"/>
                </a:lnTo>
                <a:lnTo>
                  <a:pt x="821" y="819"/>
                </a:lnTo>
                <a:lnTo>
                  <a:pt x="821" y="799"/>
                </a:lnTo>
                <a:lnTo>
                  <a:pt x="821" y="785"/>
                </a:lnTo>
                <a:lnTo>
                  <a:pt x="814" y="771"/>
                </a:lnTo>
                <a:lnTo>
                  <a:pt x="807" y="757"/>
                </a:lnTo>
                <a:lnTo>
                  <a:pt x="800" y="751"/>
                </a:lnTo>
                <a:lnTo>
                  <a:pt x="800" y="737"/>
                </a:lnTo>
                <a:lnTo>
                  <a:pt x="793" y="723"/>
                </a:lnTo>
                <a:lnTo>
                  <a:pt x="787" y="716"/>
                </a:lnTo>
                <a:lnTo>
                  <a:pt x="780" y="702"/>
                </a:lnTo>
                <a:lnTo>
                  <a:pt x="773" y="689"/>
                </a:lnTo>
                <a:lnTo>
                  <a:pt x="766" y="675"/>
                </a:lnTo>
                <a:lnTo>
                  <a:pt x="766" y="661"/>
                </a:lnTo>
                <a:lnTo>
                  <a:pt x="766" y="647"/>
                </a:lnTo>
                <a:lnTo>
                  <a:pt x="773" y="633"/>
                </a:lnTo>
                <a:lnTo>
                  <a:pt x="787" y="627"/>
                </a:lnTo>
                <a:lnTo>
                  <a:pt x="793" y="613"/>
                </a:lnTo>
                <a:lnTo>
                  <a:pt x="800" y="606"/>
                </a:lnTo>
                <a:lnTo>
                  <a:pt x="807" y="592"/>
                </a:lnTo>
                <a:lnTo>
                  <a:pt x="814" y="585"/>
                </a:lnTo>
                <a:lnTo>
                  <a:pt x="821" y="571"/>
                </a:lnTo>
                <a:lnTo>
                  <a:pt x="828" y="565"/>
                </a:lnTo>
                <a:lnTo>
                  <a:pt x="842" y="565"/>
                </a:lnTo>
                <a:lnTo>
                  <a:pt x="849" y="565"/>
                </a:lnTo>
                <a:lnTo>
                  <a:pt x="855" y="565"/>
                </a:lnTo>
                <a:lnTo>
                  <a:pt x="869" y="558"/>
                </a:lnTo>
                <a:lnTo>
                  <a:pt x="876" y="558"/>
                </a:lnTo>
                <a:lnTo>
                  <a:pt x="890" y="558"/>
                </a:lnTo>
                <a:lnTo>
                  <a:pt x="897" y="551"/>
                </a:lnTo>
                <a:lnTo>
                  <a:pt x="904" y="551"/>
                </a:lnTo>
                <a:lnTo>
                  <a:pt x="918" y="544"/>
                </a:lnTo>
                <a:lnTo>
                  <a:pt x="924" y="544"/>
                </a:lnTo>
                <a:lnTo>
                  <a:pt x="938" y="544"/>
                </a:lnTo>
                <a:lnTo>
                  <a:pt x="945" y="537"/>
                </a:lnTo>
                <a:lnTo>
                  <a:pt x="952" y="537"/>
                </a:lnTo>
                <a:lnTo>
                  <a:pt x="966" y="537"/>
                </a:lnTo>
                <a:lnTo>
                  <a:pt x="973" y="537"/>
                </a:lnTo>
                <a:lnTo>
                  <a:pt x="986" y="537"/>
                </a:lnTo>
                <a:lnTo>
                  <a:pt x="993" y="537"/>
                </a:lnTo>
                <a:lnTo>
                  <a:pt x="1007" y="544"/>
                </a:lnTo>
                <a:lnTo>
                  <a:pt x="1014" y="544"/>
                </a:lnTo>
                <a:lnTo>
                  <a:pt x="1021" y="544"/>
                </a:lnTo>
                <a:lnTo>
                  <a:pt x="1035" y="551"/>
                </a:lnTo>
                <a:lnTo>
                  <a:pt x="1042" y="565"/>
                </a:lnTo>
                <a:lnTo>
                  <a:pt x="1049" y="571"/>
                </a:lnTo>
                <a:lnTo>
                  <a:pt x="1055" y="578"/>
                </a:lnTo>
                <a:lnTo>
                  <a:pt x="1069" y="578"/>
                </a:lnTo>
                <a:lnTo>
                  <a:pt x="1076" y="585"/>
                </a:lnTo>
                <a:lnTo>
                  <a:pt x="1083" y="578"/>
                </a:lnTo>
                <a:lnTo>
                  <a:pt x="1097" y="578"/>
                </a:lnTo>
                <a:lnTo>
                  <a:pt x="1104" y="578"/>
                </a:lnTo>
                <a:lnTo>
                  <a:pt x="1117" y="578"/>
                </a:lnTo>
                <a:lnTo>
                  <a:pt x="1124" y="578"/>
                </a:lnTo>
                <a:lnTo>
                  <a:pt x="1131" y="585"/>
                </a:lnTo>
                <a:lnTo>
                  <a:pt x="1145" y="592"/>
                </a:lnTo>
                <a:lnTo>
                  <a:pt x="1152" y="599"/>
                </a:lnTo>
                <a:lnTo>
                  <a:pt x="1159" y="613"/>
                </a:lnTo>
                <a:lnTo>
                  <a:pt x="1166" y="613"/>
                </a:lnTo>
                <a:lnTo>
                  <a:pt x="1180" y="620"/>
                </a:lnTo>
                <a:lnTo>
                  <a:pt x="1186" y="613"/>
                </a:lnTo>
                <a:lnTo>
                  <a:pt x="1200" y="613"/>
                </a:lnTo>
                <a:lnTo>
                  <a:pt x="1207" y="606"/>
                </a:lnTo>
                <a:lnTo>
                  <a:pt x="1221" y="606"/>
                </a:lnTo>
                <a:lnTo>
                  <a:pt x="1228" y="613"/>
                </a:lnTo>
                <a:lnTo>
                  <a:pt x="1235" y="620"/>
                </a:lnTo>
                <a:lnTo>
                  <a:pt x="1235" y="640"/>
                </a:lnTo>
                <a:lnTo>
                  <a:pt x="1228" y="647"/>
                </a:lnTo>
                <a:lnTo>
                  <a:pt x="1221" y="654"/>
                </a:lnTo>
                <a:lnTo>
                  <a:pt x="1207" y="647"/>
                </a:lnTo>
                <a:lnTo>
                  <a:pt x="1193" y="647"/>
                </a:lnTo>
                <a:lnTo>
                  <a:pt x="1186" y="647"/>
                </a:lnTo>
                <a:lnTo>
                  <a:pt x="1180" y="654"/>
                </a:lnTo>
                <a:lnTo>
                  <a:pt x="1173" y="668"/>
                </a:lnTo>
                <a:lnTo>
                  <a:pt x="1166" y="682"/>
                </a:lnTo>
                <a:lnTo>
                  <a:pt x="1152" y="689"/>
                </a:lnTo>
                <a:lnTo>
                  <a:pt x="1145" y="702"/>
                </a:lnTo>
                <a:lnTo>
                  <a:pt x="1138" y="709"/>
                </a:lnTo>
                <a:lnTo>
                  <a:pt x="1131" y="716"/>
                </a:lnTo>
                <a:lnTo>
                  <a:pt x="1117" y="716"/>
                </a:lnTo>
                <a:lnTo>
                  <a:pt x="1111" y="716"/>
                </a:lnTo>
                <a:lnTo>
                  <a:pt x="1104" y="716"/>
                </a:lnTo>
                <a:lnTo>
                  <a:pt x="1090" y="716"/>
                </a:lnTo>
                <a:lnTo>
                  <a:pt x="1083" y="723"/>
                </a:lnTo>
                <a:lnTo>
                  <a:pt x="1076" y="730"/>
                </a:lnTo>
                <a:lnTo>
                  <a:pt x="1069" y="737"/>
                </a:lnTo>
                <a:lnTo>
                  <a:pt x="1055" y="751"/>
                </a:lnTo>
                <a:lnTo>
                  <a:pt x="1049" y="757"/>
                </a:lnTo>
                <a:lnTo>
                  <a:pt x="1042" y="771"/>
                </a:lnTo>
                <a:lnTo>
                  <a:pt x="1035" y="778"/>
                </a:lnTo>
                <a:lnTo>
                  <a:pt x="1028" y="785"/>
                </a:lnTo>
                <a:lnTo>
                  <a:pt x="1014" y="785"/>
                </a:lnTo>
                <a:lnTo>
                  <a:pt x="1007" y="785"/>
                </a:lnTo>
                <a:lnTo>
                  <a:pt x="993" y="785"/>
                </a:lnTo>
                <a:lnTo>
                  <a:pt x="986" y="785"/>
                </a:lnTo>
                <a:lnTo>
                  <a:pt x="980" y="792"/>
                </a:lnTo>
                <a:lnTo>
                  <a:pt x="973" y="799"/>
                </a:lnTo>
                <a:lnTo>
                  <a:pt x="959" y="812"/>
                </a:lnTo>
                <a:lnTo>
                  <a:pt x="952" y="819"/>
                </a:lnTo>
                <a:lnTo>
                  <a:pt x="945" y="833"/>
                </a:lnTo>
                <a:lnTo>
                  <a:pt x="938" y="840"/>
                </a:lnTo>
                <a:lnTo>
                  <a:pt x="931" y="847"/>
                </a:lnTo>
                <a:lnTo>
                  <a:pt x="918" y="854"/>
                </a:lnTo>
                <a:lnTo>
                  <a:pt x="911" y="854"/>
                </a:lnTo>
                <a:lnTo>
                  <a:pt x="904" y="854"/>
                </a:lnTo>
                <a:lnTo>
                  <a:pt x="890" y="854"/>
                </a:lnTo>
                <a:lnTo>
                  <a:pt x="883" y="847"/>
                </a:lnTo>
                <a:lnTo>
                  <a:pt x="869" y="847"/>
                </a:lnTo>
                <a:lnTo>
                  <a:pt x="862" y="847"/>
                </a:lnTo>
                <a:lnTo>
                  <a:pt x="849" y="854"/>
                </a:lnTo>
                <a:lnTo>
                  <a:pt x="842" y="861"/>
                </a:lnTo>
                <a:lnTo>
                  <a:pt x="835" y="868"/>
                </a:lnTo>
                <a:lnTo>
                  <a:pt x="828" y="881"/>
                </a:lnTo>
                <a:lnTo>
                  <a:pt x="821" y="888"/>
                </a:lnTo>
                <a:lnTo>
                  <a:pt x="807" y="888"/>
                </a:lnTo>
                <a:lnTo>
                  <a:pt x="800" y="881"/>
                </a:lnTo>
                <a:lnTo>
                  <a:pt x="787" y="881"/>
                </a:lnTo>
                <a:lnTo>
                  <a:pt x="780" y="888"/>
                </a:lnTo>
                <a:lnTo>
                  <a:pt x="773" y="895"/>
                </a:lnTo>
                <a:lnTo>
                  <a:pt x="766" y="909"/>
                </a:lnTo>
                <a:lnTo>
                  <a:pt x="759" y="916"/>
                </a:lnTo>
                <a:lnTo>
                  <a:pt x="745" y="923"/>
                </a:lnTo>
                <a:lnTo>
                  <a:pt x="738" y="923"/>
                </a:lnTo>
                <a:lnTo>
                  <a:pt x="724" y="923"/>
                </a:lnTo>
                <a:lnTo>
                  <a:pt x="718" y="916"/>
                </a:lnTo>
                <a:close/>
                <a:moveTo>
                  <a:pt x="1359" y="716"/>
                </a:moveTo>
                <a:lnTo>
                  <a:pt x="1359" y="709"/>
                </a:lnTo>
                <a:lnTo>
                  <a:pt x="1352" y="695"/>
                </a:lnTo>
                <a:lnTo>
                  <a:pt x="1352" y="695"/>
                </a:lnTo>
                <a:lnTo>
                  <a:pt x="1345" y="689"/>
                </a:lnTo>
                <a:lnTo>
                  <a:pt x="1338" y="682"/>
                </a:lnTo>
                <a:lnTo>
                  <a:pt x="1331" y="675"/>
                </a:lnTo>
                <a:lnTo>
                  <a:pt x="1324" y="675"/>
                </a:lnTo>
                <a:lnTo>
                  <a:pt x="1324" y="668"/>
                </a:lnTo>
                <a:lnTo>
                  <a:pt x="1317" y="668"/>
                </a:lnTo>
                <a:lnTo>
                  <a:pt x="1311" y="661"/>
                </a:lnTo>
                <a:lnTo>
                  <a:pt x="1304" y="654"/>
                </a:lnTo>
                <a:lnTo>
                  <a:pt x="1304" y="647"/>
                </a:lnTo>
                <a:lnTo>
                  <a:pt x="1297" y="633"/>
                </a:lnTo>
                <a:lnTo>
                  <a:pt x="1297" y="627"/>
                </a:lnTo>
                <a:lnTo>
                  <a:pt x="1297" y="620"/>
                </a:lnTo>
                <a:lnTo>
                  <a:pt x="1304" y="606"/>
                </a:lnTo>
                <a:lnTo>
                  <a:pt x="1304" y="606"/>
                </a:lnTo>
                <a:lnTo>
                  <a:pt x="1311" y="599"/>
                </a:lnTo>
                <a:lnTo>
                  <a:pt x="1317" y="592"/>
                </a:lnTo>
                <a:lnTo>
                  <a:pt x="1324" y="592"/>
                </a:lnTo>
                <a:lnTo>
                  <a:pt x="1331" y="585"/>
                </a:lnTo>
                <a:lnTo>
                  <a:pt x="1338" y="585"/>
                </a:lnTo>
                <a:lnTo>
                  <a:pt x="1338" y="578"/>
                </a:lnTo>
                <a:lnTo>
                  <a:pt x="1345" y="571"/>
                </a:lnTo>
                <a:lnTo>
                  <a:pt x="1352" y="571"/>
                </a:lnTo>
                <a:lnTo>
                  <a:pt x="1359" y="565"/>
                </a:lnTo>
                <a:lnTo>
                  <a:pt x="1359" y="558"/>
                </a:lnTo>
                <a:lnTo>
                  <a:pt x="1366" y="558"/>
                </a:lnTo>
                <a:lnTo>
                  <a:pt x="1373" y="558"/>
                </a:lnTo>
                <a:lnTo>
                  <a:pt x="1379" y="558"/>
                </a:lnTo>
                <a:lnTo>
                  <a:pt x="1386" y="551"/>
                </a:lnTo>
                <a:lnTo>
                  <a:pt x="1393" y="551"/>
                </a:lnTo>
                <a:lnTo>
                  <a:pt x="1400" y="544"/>
                </a:lnTo>
                <a:lnTo>
                  <a:pt x="1400" y="544"/>
                </a:lnTo>
                <a:lnTo>
                  <a:pt x="1407" y="558"/>
                </a:lnTo>
                <a:lnTo>
                  <a:pt x="1407" y="565"/>
                </a:lnTo>
                <a:lnTo>
                  <a:pt x="1400" y="578"/>
                </a:lnTo>
                <a:lnTo>
                  <a:pt x="1400" y="585"/>
                </a:lnTo>
                <a:lnTo>
                  <a:pt x="1400" y="592"/>
                </a:lnTo>
                <a:lnTo>
                  <a:pt x="1407" y="606"/>
                </a:lnTo>
                <a:lnTo>
                  <a:pt x="1407" y="613"/>
                </a:lnTo>
                <a:lnTo>
                  <a:pt x="1407" y="627"/>
                </a:lnTo>
                <a:lnTo>
                  <a:pt x="1407" y="633"/>
                </a:lnTo>
                <a:lnTo>
                  <a:pt x="1407" y="640"/>
                </a:lnTo>
                <a:lnTo>
                  <a:pt x="1407" y="654"/>
                </a:lnTo>
                <a:lnTo>
                  <a:pt x="1400" y="661"/>
                </a:lnTo>
                <a:lnTo>
                  <a:pt x="1400" y="668"/>
                </a:lnTo>
                <a:lnTo>
                  <a:pt x="1400" y="675"/>
                </a:lnTo>
                <a:lnTo>
                  <a:pt x="1400" y="689"/>
                </a:lnTo>
                <a:lnTo>
                  <a:pt x="1393" y="695"/>
                </a:lnTo>
                <a:lnTo>
                  <a:pt x="1386" y="702"/>
                </a:lnTo>
                <a:lnTo>
                  <a:pt x="1386" y="709"/>
                </a:lnTo>
                <a:lnTo>
                  <a:pt x="1379" y="716"/>
                </a:lnTo>
                <a:lnTo>
                  <a:pt x="1373" y="716"/>
                </a:lnTo>
                <a:lnTo>
                  <a:pt x="1366" y="716"/>
                </a:lnTo>
                <a:lnTo>
                  <a:pt x="1359" y="716"/>
                </a:lnTo>
                <a:close/>
                <a:moveTo>
                  <a:pt x="718" y="3299"/>
                </a:moveTo>
                <a:lnTo>
                  <a:pt x="752" y="3265"/>
                </a:lnTo>
                <a:lnTo>
                  <a:pt x="787" y="3265"/>
                </a:lnTo>
                <a:lnTo>
                  <a:pt x="821" y="3265"/>
                </a:lnTo>
                <a:lnTo>
                  <a:pt x="855" y="3230"/>
                </a:lnTo>
                <a:lnTo>
                  <a:pt x="890" y="3230"/>
                </a:lnTo>
                <a:lnTo>
                  <a:pt x="924" y="3230"/>
                </a:lnTo>
                <a:lnTo>
                  <a:pt x="959" y="3196"/>
                </a:lnTo>
                <a:lnTo>
                  <a:pt x="993" y="3196"/>
                </a:lnTo>
                <a:lnTo>
                  <a:pt x="1028" y="3196"/>
                </a:lnTo>
                <a:lnTo>
                  <a:pt x="1062" y="3161"/>
                </a:lnTo>
                <a:lnTo>
                  <a:pt x="1090" y="3161"/>
                </a:lnTo>
                <a:lnTo>
                  <a:pt x="1090" y="3127"/>
                </a:lnTo>
                <a:lnTo>
                  <a:pt x="1124" y="3093"/>
                </a:lnTo>
                <a:lnTo>
                  <a:pt x="1124" y="3058"/>
                </a:lnTo>
                <a:lnTo>
                  <a:pt x="1159" y="3024"/>
                </a:lnTo>
                <a:lnTo>
                  <a:pt x="1159" y="2996"/>
                </a:lnTo>
                <a:lnTo>
                  <a:pt x="1193" y="2962"/>
                </a:lnTo>
                <a:lnTo>
                  <a:pt x="1193" y="2927"/>
                </a:lnTo>
                <a:lnTo>
                  <a:pt x="1228" y="2893"/>
                </a:lnTo>
                <a:lnTo>
                  <a:pt x="1228" y="2858"/>
                </a:lnTo>
                <a:lnTo>
                  <a:pt x="1262" y="2824"/>
                </a:lnTo>
                <a:lnTo>
                  <a:pt x="1262" y="2789"/>
                </a:lnTo>
                <a:lnTo>
                  <a:pt x="1297" y="2755"/>
                </a:lnTo>
                <a:lnTo>
                  <a:pt x="1297" y="2721"/>
                </a:lnTo>
                <a:lnTo>
                  <a:pt x="1331" y="2686"/>
                </a:lnTo>
                <a:lnTo>
                  <a:pt x="1331" y="2652"/>
                </a:lnTo>
                <a:lnTo>
                  <a:pt x="1366" y="2617"/>
                </a:lnTo>
                <a:lnTo>
                  <a:pt x="1366" y="2583"/>
                </a:lnTo>
                <a:lnTo>
                  <a:pt x="1400" y="2548"/>
                </a:lnTo>
                <a:lnTo>
                  <a:pt x="1400" y="2514"/>
                </a:lnTo>
                <a:lnTo>
                  <a:pt x="1435" y="2480"/>
                </a:lnTo>
                <a:lnTo>
                  <a:pt x="1435" y="2452"/>
                </a:lnTo>
                <a:lnTo>
                  <a:pt x="1469" y="2418"/>
                </a:lnTo>
                <a:lnTo>
                  <a:pt x="1469" y="2383"/>
                </a:lnTo>
                <a:lnTo>
                  <a:pt x="1504" y="2349"/>
                </a:lnTo>
                <a:lnTo>
                  <a:pt x="1504" y="2314"/>
                </a:lnTo>
                <a:lnTo>
                  <a:pt x="1538" y="2280"/>
                </a:lnTo>
                <a:lnTo>
                  <a:pt x="1538" y="2245"/>
                </a:lnTo>
                <a:lnTo>
                  <a:pt x="1573" y="2211"/>
                </a:lnTo>
                <a:lnTo>
                  <a:pt x="1573" y="2176"/>
                </a:lnTo>
                <a:lnTo>
                  <a:pt x="1607" y="2142"/>
                </a:lnTo>
                <a:lnTo>
                  <a:pt x="1607" y="2108"/>
                </a:lnTo>
                <a:lnTo>
                  <a:pt x="1641" y="2073"/>
                </a:lnTo>
                <a:lnTo>
                  <a:pt x="1641" y="2039"/>
                </a:lnTo>
                <a:lnTo>
                  <a:pt x="1676" y="2004"/>
                </a:lnTo>
                <a:lnTo>
                  <a:pt x="1676" y="1970"/>
                </a:lnTo>
                <a:lnTo>
                  <a:pt x="1710" y="1935"/>
                </a:lnTo>
                <a:lnTo>
                  <a:pt x="1710" y="1908"/>
                </a:lnTo>
                <a:lnTo>
                  <a:pt x="1745" y="1873"/>
                </a:lnTo>
                <a:lnTo>
                  <a:pt x="1745" y="1866"/>
                </a:lnTo>
                <a:lnTo>
                  <a:pt x="1738" y="1866"/>
                </a:lnTo>
                <a:lnTo>
                  <a:pt x="1731" y="1866"/>
                </a:lnTo>
                <a:lnTo>
                  <a:pt x="1724" y="1860"/>
                </a:lnTo>
                <a:lnTo>
                  <a:pt x="1717" y="1860"/>
                </a:lnTo>
                <a:lnTo>
                  <a:pt x="1710" y="1853"/>
                </a:lnTo>
                <a:lnTo>
                  <a:pt x="1704" y="1853"/>
                </a:lnTo>
                <a:lnTo>
                  <a:pt x="1697" y="1853"/>
                </a:lnTo>
                <a:lnTo>
                  <a:pt x="1690" y="1846"/>
                </a:lnTo>
                <a:lnTo>
                  <a:pt x="1683" y="1839"/>
                </a:lnTo>
                <a:lnTo>
                  <a:pt x="1676" y="1832"/>
                </a:lnTo>
                <a:lnTo>
                  <a:pt x="1676" y="1825"/>
                </a:lnTo>
                <a:lnTo>
                  <a:pt x="1669" y="1818"/>
                </a:lnTo>
                <a:lnTo>
                  <a:pt x="1662" y="1825"/>
                </a:lnTo>
                <a:lnTo>
                  <a:pt x="1655" y="1825"/>
                </a:lnTo>
                <a:lnTo>
                  <a:pt x="1648" y="1832"/>
                </a:lnTo>
                <a:lnTo>
                  <a:pt x="1641" y="1832"/>
                </a:lnTo>
                <a:lnTo>
                  <a:pt x="1635" y="1825"/>
                </a:lnTo>
                <a:lnTo>
                  <a:pt x="1628" y="1818"/>
                </a:lnTo>
                <a:lnTo>
                  <a:pt x="1621" y="1811"/>
                </a:lnTo>
                <a:lnTo>
                  <a:pt x="1621" y="1804"/>
                </a:lnTo>
                <a:lnTo>
                  <a:pt x="1614" y="1798"/>
                </a:lnTo>
                <a:lnTo>
                  <a:pt x="1607" y="1798"/>
                </a:lnTo>
                <a:lnTo>
                  <a:pt x="1600" y="1798"/>
                </a:lnTo>
                <a:lnTo>
                  <a:pt x="1593" y="1798"/>
                </a:lnTo>
                <a:lnTo>
                  <a:pt x="1586" y="1798"/>
                </a:lnTo>
                <a:lnTo>
                  <a:pt x="1579" y="1791"/>
                </a:lnTo>
                <a:lnTo>
                  <a:pt x="1573" y="1791"/>
                </a:lnTo>
                <a:lnTo>
                  <a:pt x="1566" y="1784"/>
                </a:lnTo>
                <a:lnTo>
                  <a:pt x="1559" y="1784"/>
                </a:lnTo>
                <a:lnTo>
                  <a:pt x="1552" y="1777"/>
                </a:lnTo>
                <a:lnTo>
                  <a:pt x="1545" y="1770"/>
                </a:lnTo>
                <a:lnTo>
                  <a:pt x="1538" y="1770"/>
                </a:lnTo>
                <a:lnTo>
                  <a:pt x="1531" y="1763"/>
                </a:lnTo>
                <a:lnTo>
                  <a:pt x="1524" y="1763"/>
                </a:lnTo>
                <a:lnTo>
                  <a:pt x="1517" y="1756"/>
                </a:lnTo>
                <a:lnTo>
                  <a:pt x="1510" y="1756"/>
                </a:lnTo>
                <a:lnTo>
                  <a:pt x="1504" y="1756"/>
                </a:lnTo>
                <a:lnTo>
                  <a:pt x="1497" y="1756"/>
                </a:lnTo>
                <a:lnTo>
                  <a:pt x="1490" y="1756"/>
                </a:lnTo>
                <a:lnTo>
                  <a:pt x="1483" y="1749"/>
                </a:lnTo>
                <a:lnTo>
                  <a:pt x="1476" y="1749"/>
                </a:lnTo>
                <a:lnTo>
                  <a:pt x="1476" y="1736"/>
                </a:lnTo>
                <a:lnTo>
                  <a:pt x="1469" y="1729"/>
                </a:lnTo>
                <a:lnTo>
                  <a:pt x="1469" y="1715"/>
                </a:lnTo>
                <a:lnTo>
                  <a:pt x="1469" y="1715"/>
                </a:lnTo>
                <a:lnTo>
                  <a:pt x="1462" y="1722"/>
                </a:lnTo>
                <a:lnTo>
                  <a:pt x="1455" y="1736"/>
                </a:lnTo>
                <a:lnTo>
                  <a:pt x="1448" y="1736"/>
                </a:lnTo>
                <a:lnTo>
                  <a:pt x="1442" y="1742"/>
                </a:lnTo>
                <a:lnTo>
                  <a:pt x="1435" y="1736"/>
                </a:lnTo>
                <a:lnTo>
                  <a:pt x="1428" y="1736"/>
                </a:lnTo>
                <a:lnTo>
                  <a:pt x="1421" y="1729"/>
                </a:lnTo>
                <a:lnTo>
                  <a:pt x="1414" y="1729"/>
                </a:lnTo>
                <a:lnTo>
                  <a:pt x="1407" y="1722"/>
                </a:lnTo>
                <a:lnTo>
                  <a:pt x="1400" y="1722"/>
                </a:lnTo>
                <a:lnTo>
                  <a:pt x="1393" y="1715"/>
                </a:lnTo>
                <a:lnTo>
                  <a:pt x="1386" y="1708"/>
                </a:lnTo>
                <a:lnTo>
                  <a:pt x="1386" y="1694"/>
                </a:lnTo>
                <a:lnTo>
                  <a:pt x="1393" y="1687"/>
                </a:lnTo>
                <a:lnTo>
                  <a:pt x="1400" y="1680"/>
                </a:lnTo>
                <a:lnTo>
                  <a:pt x="1407" y="1674"/>
                </a:lnTo>
                <a:lnTo>
                  <a:pt x="1414" y="1674"/>
                </a:lnTo>
                <a:lnTo>
                  <a:pt x="1414" y="1667"/>
                </a:lnTo>
                <a:lnTo>
                  <a:pt x="1421" y="1660"/>
                </a:lnTo>
                <a:lnTo>
                  <a:pt x="1428" y="1653"/>
                </a:lnTo>
                <a:lnTo>
                  <a:pt x="1435" y="1646"/>
                </a:lnTo>
                <a:lnTo>
                  <a:pt x="1442" y="1639"/>
                </a:lnTo>
                <a:lnTo>
                  <a:pt x="1448" y="1639"/>
                </a:lnTo>
                <a:lnTo>
                  <a:pt x="1455" y="1632"/>
                </a:lnTo>
                <a:lnTo>
                  <a:pt x="1462" y="1618"/>
                </a:lnTo>
                <a:lnTo>
                  <a:pt x="1462" y="1618"/>
                </a:lnTo>
                <a:lnTo>
                  <a:pt x="1469" y="1618"/>
                </a:lnTo>
                <a:lnTo>
                  <a:pt x="1476" y="1625"/>
                </a:lnTo>
                <a:lnTo>
                  <a:pt x="1476" y="1639"/>
                </a:lnTo>
                <a:lnTo>
                  <a:pt x="1476" y="1646"/>
                </a:lnTo>
                <a:lnTo>
                  <a:pt x="1476" y="1660"/>
                </a:lnTo>
                <a:lnTo>
                  <a:pt x="1476" y="1667"/>
                </a:lnTo>
                <a:lnTo>
                  <a:pt x="1469" y="1680"/>
                </a:lnTo>
                <a:lnTo>
                  <a:pt x="1469" y="1694"/>
                </a:lnTo>
                <a:lnTo>
                  <a:pt x="1469" y="1701"/>
                </a:lnTo>
                <a:lnTo>
                  <a:pt x="1476" y="1708"/>
                </a:lnTo>
                <a:lnTo>
                  <a:pt x="1483" y="1715"/>
                </a:lnTo>
                <a:lnTo>
                  <a:pt x="1490" y="1715"/>
                </a:lnTo>
                <a:lnTo>
                  <a:pt x="1497" y="1715"/>
                </a:lnTo>
                <a:lnTo>
                  <a:pt x="1504" y="1715"/>
                </a:lnTo>
                <a:lnTo>
                  <a:pt x="1510" y="1715"/>
                </a:lnTo>
                <a:lnTo>
                  <a:pt x="1517" y="1715"/>
                </a:lnTo>
                <a:lnTo>
                  <a:pt x="1524" y="1715"/>
                </a:lnTo>
                <a:lnTo>
                  <a:pt x="1531" y="1715"/>
                </a:lnTo>
                <a:lnTo>
                  <a:pt x="1538" y="1722"/>
                </a:lnTo>
                <a:lnTo>
                  <a:pt x="1545" y="1722"/>
                </a:lnTo>
                <a:lnTo>
                  <a:pt x="1552" y="1722"/>
                </a:lnTo>
                <a:lnTo>
                  <a:pt x="1559" y="1729"/>
                </a:lnTo>
                <a:lnTo>
                  <a:pt x="1566" y="1729"/>
                </a:lnTo>
                <a:lnTo>
                  <a:pt x="1573" y="1729"/>
                </a:lnTo>
                <a:lnTo>
                  <a:pt x="1579" y="1736"/>
                </a:lnTo>
                <a:lnTo>
                  <a:pt x="1586" y="1736"/>
                </a:lnTo>
                <a:lnTo>
                  <a:pt x="1593" y="1736"/>
                </a:lnTo>
                <a:lnTo>
                  <a:pt x="1600" y="1742"/>
                </a:lnTo>
                <a:lnTo>
                  <a:pt x="1607" y="1742"/>
                </a:lnTo>
                <a:lnTo>
                  <a:pt x="1614" y="1742"/>
                </a:lnTo>
                <a:lnTo>
                  <a:pt x="1621" y="1742"/>
                </a:lnTo>
                <a:lnTo>
                  <a:pt x="1628" y="1742"/>
                </a:lnTo>
                <a:lnTo>
                  <a:pt x="1635" y="1736"/>
                </a:lnTo>
                <a:lnTo>
                  <a:pt x="1641" y="1736"/>
                </a:lnTo>
                <a:lnTo>
                  <a:pt x="1648" y="1736"/>
                </a:lnTo>
                <a:lnTo>
                  <a:pt x="1655" y="1736"/>
                </a:lnTo>
                <a:lnTo>
                  <a:pt x="1662" y="1742"/>
                </a:lnTo>
                <a:lnTo>
                  <a:pt x="1669" y="1742"/>
                </a:lnTo>
                <a:lnTo>
                  <a:pt x="1676" y="1749"/>
                </a:lnTo>
                <a:lnTo>
                  <a:pt x="1683" y="1749"/>
                </a:lnTo>
                <a:lnTo>
                  <a:pt x="1690" y="1756"/>
                </a:lnTo>
                <a:lnTo>
                  <a:pt x="1697" y="1756"/>
                </a:lnTo>
                <a:lnTo>
                  <a:pt x="1704" y="1763"/>
                </a:lnTo>
                <a:lnTo>
                  <a:pt x="1710" y="1756"/>
                </a:lnTo>
                <a:lnTo>
                  <a:pt x="1710" y="1749"/>
                </a:lnTo>
                <a:lnTo>
                  <a:pt x="1717" y="1742"/>
                </a:lnTo>
                <a:lnTo>
                  <a:pt x="1717" y="1729"/>
                </a:lnTo>
                <a:lnTo>
                  <a:pt x="1717" y="1715"/>
                </a:lnTo>
                <a:lnTo>
                  <a:pt x="1710" y="1708"/>
                </a:lnTo>
                <a:lnTo>
                  <a:pt x="1710" y="1694"/>
                </a:lnTo>
                <a:lnTo>
                  <a:pt x="1704" y="1687"/>
                </a:lnTo>
                <a:lnTo>
                  <a:pt x="1697" y="1680"/>
                </a:lnTo>
                <a:lnTo>
                  <a:pt x="1697" y="1674"/>
                </a:lnTo>
                <a:lnTo>
                  <a:pt x="1690" y="1667"/>
                </a:lnTo>
                <a:lnTo>
                  <a:pt x="1683" y="1660"/>
                </a:lnTo>
                <a:lnTo>
                  <a:pt x="1683" y="1646"/>
                </a:lnTo>
                <a:lnTo>
                  <a:pt x="1676" y="1639"/>
                </a:lnTo>
                <a:lnTo>
                  <a:pt x="1676" y="1632"/>
                </a:lnTo>
                <a:lnTo>
                  <a:pt x="1676" y="1618"/>
                </a:lnTo>
                <a:lnTo>
                  <a:pt x="1669" y="1612"/>
                </a:lnTo>
                <a:lnTo>
                  <a:pt x="1669" y="1598"/>
                </a:lnTo>
                <a:lnTo>
                  <a:pt x="1669" y="1584"/>
                </a:lnTo>
                <a:lnTo>
                  <a:pt x="1669" y="1577"/>
                </a:lnTo>
                <a:lnTo>
                  <a:pt x="1669" y="1563"/>
                </a:lnTo>
                <a:lnTo>
                  <a:pt x="1676" y="1556"/>
                </a:lnTo>
                <a:lnTo>
                  <a:pt x="1676" y="1543"/>
                </a:lnTo>
                <a:lnTo>
                  <a:pt x="1683" y="1536"/>
                </a:lnTo>
                <a:lnTo>
                  <a:pt x="1683" y="1522"/>
                </a:lnTo>
                <a:lnTo>
                  <a:pt x="1683" y="1515"/>
                </a:lnTo>
                <a:lnTo>
                  <a:pt x="1690" y="1501"/>
                </a:lnTo>
                <a:lnTo>
                  <a:pt x="1690" y="1494"/>
                </a:lnTo>
                <a:lnTo>
                  <a:pt x="1690" y="1481"/>
                </a:lnTo>
                <a:lnTo>
                  <a:pt x="1697" y="1474"/>
                </a:lnTo>
                <a:lnTo>
                  <a:pt x="1697" y="1460"/>
                </a:lnTo>
                <a:lnTo>
                  <a:pt x="1697" y="1453"/>
                </a:lnTo>
                <a:lnTo>
                  <a:pt x="1704" y="1439"/>
                </a:lnTo>
                <a:lnTo>
                  <a:pt x="1704" y="1432"/>
                </a:lnTo>
                <a:lnTo>
                  <a:pt x="1704" y="1419"/>
                </a:lnTo>
                <a:lnTo>
                  <a:pt x="1710" y="1412"/>
                </a:lnTo>
                <a:lnTo>
                  <a:pt x="1710" y="1398"/>
                </a:lnTo>
                <a:lnTo>
                  <a:pt x="1717" y="1391"/>
                </a:lnTo>
                <a:lnTo>
                  <a:pt x="1717" y="1384"/>
                </a:lnTo>
                <a:lnTo>
                  <a:pt x="1717" y="1370"/>
                </a:lnTo>
                <a:lnTo>
                  <a:pt x="1724" y="1364"/>
                </a:lnTo>
                <a:lnTo>
                  <a:pt x="1724" y="1350"/>
                </a:lnTo>
                <a:lnTo>
                  <a:pt x="1724" y="1343"/>
                </a:lnTo>
                <a:lnTo>
                  <a:pt x="1731" y="1329"/>
                </a:lnTo>
                <a:lnTo>
                  <a:pt x="1731" y="1322"/>
                </a:lnTo>
                <a:lnTo>
                  <a:pt x="1731" y="1308"/>
                </a:lnTo>
                <a:lnTo>
                  <a:pt x="1738" y="1302"/>
                </a:lnTo>
                <a:lnTo>
                  <a:pt x="1738" y="1288"/>
                </a:lnTo>
                <a:lnTo>
                  <a:pt x="1738" y="1281"/>
                </a:lnTo>
                <a:lnTo>
                  <a:pt x="1745" y="1267"/>
                </a:lnTo>
                <a:lnTo>
                  <a:pt x="1745" y="1260"/>
                </a:lnTo>
                <a:lnTo>
                  <a:pt x="1752" y="1246"/>
                </a:lnTo>
                <a:lnTo>
                  <a:pt x="1752" y="1240"/>
                </a:lnTo>
                <a:lnTo>
                  <a:pt x="1752" y="1226"/>
                </a:lnTo>
                <a:lnTo>
                  <a:pt x="1759" y="1219"/>
                </a:lnTo>
                <a:lnTo>
                  <a:pt x="1759" y="1205"/>
                </a:lnTo>
                <a:lnTo>
                  <a:pt x="1759" y="1198"/>
                </a:lnTo>
                <a:lnTo>
                  <a:pt x="1766" y="1184"/>
                </a:lnTo>
                <a:lnTo>
                  <a:pt x="1766" y="1178"/>
                </a:lnTo>
                <a:lnTo>
                  <a:pt x="1766" y="1164"/>
                </a:lnTo>
                <a:lnTo>
                  <a:pt x="1772" y="1157"/>
                </a:lnTo>
                <a:lnTo>
                  <a:pt x="1772" y="1143"/>
                </a:lnTo>
                <a:lnTo>
                  <a:pt x="1779" y="1136"/>
                </a:lnTo>
                <a:lnTo>
                  <a:pt x="1779" y="1129"/>
                </a:lnTo>
                <a:lnTo>
                  <a:pt x="1779" y="1116"/>
                </a:lnTo>
                <a:lnTo>
                  <a:pt x="1786" y="1109"/>
                </a:lnTo>
                <a:lnTo>
                  <a:pt x="1786" y="1095"/>
                </a:lnTo>
                <a:lnTo>
                  <a:pt x="1786" y="1088"/>
                </a:lnTo>
                <a:lnTo>
                  <a:pt x="1793" y="1074"/>
                </a:lnTo>
                <a:lnTo>
                  <a:pt x="1793" y="1067"/>
                </a:lnTo>
                <a:lnTo>
                  <a:pt x="1793" y="1054"/>
                </a:lnTo>
                <a:lnTo>
                  <a:pt x="1800" y="1047"/>
                </a:lnTo>
                <a:lnTo>
                  <a:pt x="1800" y="1033"/>
                </a:lnTo>
                <a:lnTo>
                  <a:pt x="1800" y="1026"/>
                </a:lnTo>
                <a:lnTo>
                  <a:pt x="1807" y="1012"/>
                </a:lnTo>
                <a:lnTo>
                  <a:pt x="1807" y="998"/>
                </a:lnTo>
                <a:lnTo>
                  <a:pt x="1814" y="998"/>
                </a:lnTo>
                <a:lnTo>
                  <a:pt x="1814" y="998"/>
                </a:lnTo>
                <a:lnTo>
                  <a:pt x="1821" y="1012"/>
                </a:lnTo>
                <a:lnTo>
                  <a:pt x="1828" y="1026"/>
                </a:lnTo>
                <a:lnTo>
                  <a:pt x="1828" y="1033"/>
                </a:lnTo>
                <a:lnTo>
                  <a:pt x="1835" y="1040"/>
                </a:lnTo>
                <a:lnTo>
                  <a:pt x="1835" y="1054"/>
                </a:lnTo>
                <a:lnTo>
                  <a:pt x="1841" y="1060"/>
                </a:lnTo>
                <a:lnTo>
                  <a:pt x="1841" y="1067"/>
                </a:lnTo>
                <a:lnTo>
                  <a:pt x="1841" y="1081"/>
                </a:lnTo>
                <a:lnTo>
                  <a:pt x="1848" y="1088"/>
                </a:lnTo>
                <a:lnTo>
                  <a:pt x="1848" y="1102"/>
                </a:lnTo>
                <a:lnTo>
                  <a:pt x="1855" y="1109"/>
                </a:lnTo>
                <a:lnTo>
                  <a:pt x="1855" y="1122"/>
                </a:lnTo>
                <a:lnTo>
                  <a:pt x="1862" y="1129"/>
                </a:lnTo>
                <a:lnTo>
                  <a:pt x="1862" y="1136"/>
                </a:lnTo>
                <a:lnTo>
                  <a:pt x="1876" y="1122"/>
                </a:lnTo>
                <a:lnTo>
                  <a:pt x="1876" y="1088"/>
                </a:lnTo>
                <a:lnTo>
                  <a:pt x="1876" y="1054"/>
                </a:lnTo>
                <a:lnTo>
                  <a:pt x="1876" y="1019"/>
                </a:lnTo>
                <a:lnTo>
                  <a:pt x="1876" y="985"/>
                </a:lnTo>
                <a:lnTo>
                  <a:pt x="1910" y="950"/>
                </a:lnTo>
                <a:lnTo>
                  <a:pt x="1910" y="916"/>
                </a:lnTo>
                <a:lnTo>
                  <a:pt x="1910" y="888"/>
                </a:lnTo>
                <a:lnTo>
                  <a:pt x="1910" y="854"/>
                </a:lnTo>
                <a:lnTo>
                  <a:pt x="1910" y="819"/>
                </a:lnTo>
                <a:lnTo>
                  <a:pt x="1910" y="785"/>
                </a:lnTo>
                <a:lnTo>
                  <a:pt x="1945" y="751"/>
                </a:lnTo>
                <a:lnTo>
                  <a:pt x="1945" y="716"/>
                </a:lnTo>
                <a:lnTo>
                  <a:pt x="1945" y="682"/>
                </a:lnTo>
                <a:lnTo>
                  <a:pt x="1945" y="647"/>
                </a:lnTo>
                <a:lnTo>
                  <a:pt x="1945" y="613"/>
                </a:lnTo>
                <a:lnTo>
                  <a:pt x="1945" y="578"/>
                </a:lnTo>
                <a:lnTo>
                  <a:pt x="1979" y="544"/>
                </a:lnTo>
                <a:lnTo>
                  <a:pt x="1979" y="509"/>
                </a:lnTo>
                <a:lnTo>
                  <a:pt x="1979" y="475"/>
                </a:lnTo>
                <a:lnTo>
                  <a:pt x="1979" y="441"/>
                </a:lnTo>
                <a:lnTo>
                  <a:pt x="1979" y="406"/>
                </a:lnTo>
                <a:lnTo>
                  <a:pt x="1979" y="372"/>
                </a:lnTo>
                <a:lnTo>
                  <a:pt x="2014" y="344"/>
                </a:lnTo>
                <a:lnTo>
                  <a:pt x="2014" y="310"/>
                </a:lnTo>
                <a:lnTo>
                  <a:pt x="2014" y="275"/>
                </a:lnTo>
                <a:lnTo>
                  <a:pt x="2014" y="241"/>
                </a:lnTo>
                <a:lnTo>
                  <a:pt x="2014" y="206"/>
                </a:lnTo>
                <a:lnTo>
                  <a:pt x="2014" y="172"/>
                </a:lnTo>
                <a:lnTo>
                  <a:pt x="2048" y="137"/>
                </a:lnTo>
                <a:lnTo>
                  <a:pt x="2048" y="103"/>
                </a:lnTo>
                <a:lnTo>
                  <a:pt x="2048" y="69"/>
                </a:lnTo>
                <a:lnTo>
                  <a:pt x="2048" y="34"/>
                </a:lnTo>
                <a:lnTo>
                  <a:pt x="2048" y="0"/>
                </a:lnTo>
                <a:lnTo>
                  <a:pt x="2014" y="0"/>
                </a:lnTo>
                <a:lnTo>
                  <a:pt x="1979" y="0"/>
                </a:lnTo>
                <a:lnTo>
                  <a:pt x="1945" y="0"/>
                </a:lnTo>
                <a:lnTo>
                  <a:pt x="1910" y="34"/>
                </a:lnTo>
                <a:lnTo>
                  <a:pt x="1876" y="34"/>
                </a:lnTo>
                <a:lnTo>
                  <a:pt x="1841" y="69"/>
                </a:lnTo>
                <a:lnTo>
                  <a:pt x="1807" y="69"/>
                </a:lnTo>
                <a:lnTo>
                  <a:pt x="1779" y="69"/>
                </a:lnTo>
                <a:lnTo>
                  <a:pt x="1745" y="103"/>
                </a:lnTo>
                <a:lnTo>
                  <a:pt x="1710" y="103"/>
                </a:lnTo>
                <a:lnTo>
                  <a:pt x="1676" y="137"/>
                </a:lnTo>
                <a:lnTo>
                  <a:pt x="1641" y="137"/>
                </a:lnTo>
                <a:lnTo>
                  <a:pt x="1607" y="172"/>
                </a:lnTo>
                <a:lnTo>
                  <a:pt x="1573" y="172"/>
                </a:lnTo>
                <a:lnTo>
                  <a:pt x="1538" y="206"/>
                </a:lnTo>
                <a:lnTo>
                  <a:pt x="1504" y="206"/>
                </a:lnTo>
                <a:lnTo>
                  <a:pt x="1469" y="206"/>
                </a:lnTo>
                <a:lnTo>
                  <a:pt x="1435" y="241"/>
                </a:lnTo>
                <a:lnTo>
                  <a:pt x="1400" y="241"/>
                </a:lnTo>
                <a:lnTo>
                  <a:pt x="1366" y="275"/>
                </a:lnTo>
                <a:lnTo>
                  <a:pt x="1331" y="275"/>
                </a:lnTo>
                <a:lnTo>
                  <a:pt x="1297" y="310"/>
                </a:lnTo>
                <a:lnTo>
                  <a:pt x="1262" y="310"/>
                </a:lnTo>
                <a:lnTo>
                  <a:pt x="1228" y="344"/>
                </a:lnTo>
                <a:lnTo>
                  <a:pt x="1193" y="344"/>
                </a:lnTo>
                <a:lnTo>
                  <a:pt x="1159" y="344"/>
                </a:lnTo>
                <a:lnTo>
                  <a:pt x="1124" y="372"/>
                </a:lnTo>
                <a:lnTo>
                  <a:pt x="1090" y="372"/>
                </a:lnTo>
                <a:lnTo>
                  <a:pt x="1062" y="406"/>
                </a:lnTo>
                <a:lnTo>
                  <a:pt x="1028" y="406"/>
                </a:lnTo>
                <a:lnTo>
                  <a:pt x="993" y="441"/>
                </a:lnTo>
                <a:lnTo>
                  <a:pt x="959" y="441"/>
                </a:lnTo>
                <a:lnTo>
                  <a:pt x="924" y="475"/>
                </a:lnTo>
                <a:lnTo>
                  <a:pt x="890" y="475"/>
                </a:lnTo>
                <a:lnTo>
                  <a:pt x="855" y="475"/>
                </a:lnTo>
                <a:lnTo>
                  <a:pt x="821" y="509"/>
                </a:lnTo>
                <a:lnTo>
                  <a:pt x="787" y="544"/>
                </a:lnTo>
                <a:lnTo>
                  <a:pt x="752" y="578"/>
                </a:lnTo>
                <a:lnTo>
                  <a:pt x="752" y="613"/>
                </a:lnTo>
                <a:lnTo>
                  <a:pt x="718" y="647"/>
                </a:lnTo>
                <a:lnTo>
                  <a:pt x="683" y="682"/>
                </a:lnTo>
                <a:lnTo>
                  <a:pt x="649" y="716"/>
                </a:lnTo>
                <a:lnTo>
                  <a:pt x="649" y="751"/>
                </a:lnTo>
                <a:lnTo>
                  <a:pt x="614" y="785"/>
                </a:lnTo>
                <a:lnTo>
                  <a:pt x="580" y="819"/>
                </a:lnTo>
                <a:lnTo>
                  <a:pt x="545" y="854"/>
                </a:lnTo>
                <a:lnTo>
                  <a:pt x="545" y="888"/>
                </a:lnTo>
                <a:lnTo>
                  <a:pt x="511" y="916"/>
                </a:lnTo>
                <a:lnTo>
                  <a:pt x="476" y="950"/>
                </a:lnTo>
                <a:lnTo>
                  <a:pt x="476" y="985"/>
                </a:lnTo>
                <a:lnTo>
                  <a:pt x="442" y="1019"/>
                </a:lnTo>
                <a:lnTo>
                  <a:pt x="442" y="1054"/>
                </a:lnTo>
                <a:lnTo>
                  <a:pt x="442" y="1088"/>
                </a:lnTo>
                <a:lnTo>
                  <a:pt x="407" y="1122"/>
                </a:lnTo>
                <a:lnTo>
                  <a:pt x="407" y="1157"/>
                </a:lnTo>
                <a:lnTo>
                  <a:pt x="373" y="1191"/>
                </a:lnTo>
                <a:lnTo>
                  <a:pt x="373" y="1226"/>
                </a:lnTo>
                <a:lnTo>
                  <a:pt x="338" y="1260"/>
                </a:lnTo>
                <a:lnTo>
                  <a:pt x="338" y="1295"/>
                </a:lnTo>
                <a:lnTo>
                  <a:pt x="311" y="1329"/>
                </a:lnTo>
                <a:lnTo>
                  <a:pt x="311" y="1364"/>
                </a:lnTo>
                <a:lnTo>
                  <a:pt x="276" y="1398"/>
                </a:lnTo>
                <a:lnTo>
                  <a:pt x="276" y="1426"/>
                </a:lnTo>
                <a:lnTo>
                  <a:pt x="276" y="1460"/>
                </a:lnTo>
                <a:lnTo>
                  <a:pt x="242" y="1494"/>
                </a:lnTo>
                <a:lnTo>
                  <a:pt x="242" y="1529"/>
                </a:lnTo>
                <a:lnTo>
                  <a:pt x="207" y="1563"/>
                </a:lnTo>
                <a:lnTo>
                  <a:pt x="207" y="1598"/>
                </a:lnTo>
                <a:lnTo>
                  <a:pt x="173" y="1632"/>
                </a:lnTo>
                <a:lnTo>
                  <a:pt x="173" y="1667"/>
                </a:lnTo>
                <a:lnTo>
                  <a:pt x="138" y="1701"/>
                </a:lnTo>
                <a:lnTo>
                  <a:pt x="138" y="1736"/>
                </a:lnTo>
                <a:lnTo>
                  <a:pt x="138" y="1770"/>
                </a:lnTo>
                <a:lnTo>
                  <a:pt x="104" y="1804"/>
                </a:lnTo>
                <a:lnTo>
                  <a:pt x="104" y="1839"/>
                </a:lnTo>
                <a:lnTo>
                  <a:pt x="69" y="1873"/>
                </a:lnTo>
                <a:lnTo>
                  <a:pt x="69" y="1908"/>
                </a:lnTo>
                <a:lnTo>
                  <a:pt x="69" y="1935"/>
                </a:lnTo>
                <a:lnTo>
                  <a:pt x="69" y="1970"/>
                </a:lnTo>
                <a:lnTo>
                  <a:pt x="69" y="2004"/>
                </a:lnTo>
                <a:lnTo>
                  <a:pt x="35" y="2039"/>
                </a:lnTo>
                <a:lnTo>
                  <a:pt x="35" y="2073"/>
                </a:lnTo>
                <a:lnTo>
                  <a:pt x="35" y="2108"/>
                </a:lnTo>
                <a:lnTo>
                  <a:pt x="35" y="2142"/>
                </a:lnTo>
                <a:lnTo>
                  <a:pt x="0" y="2176"/>
                </a:lnTo>
                <a:lnTo>
                  <a:pt x="0" y="2211"/>
                </a:lnTo>
                <a:lnTo>
                  <a:pt x="0" y="2245"/>
                </a:lnTo>
                <a:lnTo>
                  <a:pt x="0" y="2280"/>
                </a:lnTo>
                <a:lnTo>
                  <a:pt x="0" y="2314"/>
                </a:lnTo>
                <a:lnTo>
                  <a:pt x="0" y="2349"/>
                </a:lnTo>
                <a:lnTo>
                  <a:pt x="0" y="2383"/>
                </a:lnTo>
                <a:lnTo>
                  <a:pt x="0" y="2418"/>
                </a:lnTo>
                <a:lnTo>
                  <a:pt x="0" y="2452"/>
                </a:lnTo>
                <a:lnTo>
                  <a:pt x="0" y="2480"/>
                </a:lnTo>
                <a:lnTo>
                  <a:pt x="0" y="2514"/>
                </a:lnTo>
                <a:lnTo>
                  <a:pt x="0" y="2548"/>
                </a:lnTo>
                <a:lnTo>
                  <a:pt x="0" y="2583"/>
                </a:lnTo>
                <a:lnTo>
                  <a:pt x="35" y="2617"/>
                </a:lnTo>
                <a:lnTo>
                  <a:pt x="35" y="2652"/>
                </a:lnTo>
                <a:lnTo>
                  <a:pt x="35" y="2686"/>
                </a:lnTo>
                <a:lnTo>
                  <a:pt x="35" y="2721"/>
                </a:lnTo>
                <a:lnTo>
                  <a:pt x="35" y="2755"/>
                </a:lnTo>
                <a:lnTo>
                  <a:pt x="35" y="2789"/>
                </a:lnTo>
                <a:lnTo>
                  <a:pt x="35" y="2824"/>
                </a:lnTo>
                <a:lnTo>
                  <a:pt x="35" y="2858"/>
                </a:lnTo>
                <a:lnTo>
                  <a:pt x="35" y="2893"/>
                </a:lnTo>
                <a:lnTo>
                  <a:pt x="69" y="2927"/>
                </a:lnTo>
                <a:lnTo>
                  <a:pt x="69" y="2962"/>
                </a:lnTo>
                <a:lnTo>
                  <a:pt x="90" y="2982"/>
                </a:lnTo>
                <a:lnTo>
                  <a:pt x="97" y="2975"/>
                </a:lnTo>
                <a:lnTo>
                  <a:pt x="104" y="2975"/>
                </a:lnTo>
                <a:lnTo>
                  <a:pt x="111" y="2969"/>
                </a:lnTo>
                <a:lnTo>
                  <a:pt x="118" y="2969"/>
                </a:lnTo>
                <a:lnTo>
                  <a:pt x="125" y="2962"/>
                </a:lnTo>
                <a:lnTo>
                  <a:pt x="131" y="2962"/>
                </a:lnTo>
                <a:lnTo>
                  <a:pt x="138" y="2962"/>
                </a:lnTo>
                <a:lnTo>
                  <a:pt x="152" y="2955"/>
                </a:lnTo>
                <a:lnTo>
                  <a:pt x="159" y="2955"/>
                </a:lnTo>
                <a:lnTo>
                  <a:pt x="166" y="2962"/>
                </a:lnTo>
                <a:lnTo>
                  <a:pt x="173" y="2962"/>
                </a:lnTo>
                <a:lnTo>
                  <a:pt x="180" y="2969"/>
                </a:lnTo>
                <a:lnTo>
                  <a:pt x="180" y="2975"/>
                </a:lnTo>
                <a:lnTo>
                  <a:pt x="187" y="2982"/>
                </a:lnTo>
                <a:lnTo>
                  <a:pt x="194" y="2996"/>
                </a:lnTo>
                <a:lnTo>
                  <a:pt x="200" y="3003"/>
                </a:lnTo>
                <a:lnTo>
                  <a:pt x="200" y="3017"/>
                </a:lnTo>
                <a:lnTo>
                  <a:pt x="200" y="3024"/>
                </a:lnTo>
                <a:lnTo>
                  <a:pt x="194" y="3037"/>
                </a:lnTo>
                <a:lnTo>
                  <a:pt x="194" y="3044"/>
                </a:lnTo>
                <a:lnTo>
                  <a:pt x="187" y="3058"/>
                </a:lnTo>
                <a:lnTo>
                  <a:pt x="187" y="3065"/>
                </a:lnTo>
                <a:lnTo>
                  <a:pt x="187" y="3079"/>
                </a:lnTo>
                <a:lnTo>
                  <a:pt x="207" y="3093"/>
                </a:lnTo>
                <a:lnTo>
                  <a:pt x="242" y="3127"/>
                </a:lnTo>
                <a:lnTo>
                  <a:pt x="276" y="3161"/>
                </a:lnTo>
                <a:lnTo>
                  <a:pt x="311" y="3196"/>
                </a:lnTo>
                <a:lnTo>
                  <a:pt x="338" y="3196"/>
                </a:lnTo>
                <a:lnTo>
                  <a:pt x="373" y="3230"/>
                </a:lnTo>
                <a:lnTo>
                  <a:pt x="407" y="3230"/>
                </a:lnTo>
                <a:lnTo>
                  <a:pt x="442" y="3230"/>
                </a:lnTo>
                <a:lnTo>
                  <a:pt x="476" y="3265"/>
                </a:lnTo>
                <a:lnTo>
                  <a:pt x="511" y="3265"/>
                </a:lnTo>
                <a:lnTo>
                  <a:pt x="545" y="3299"/>
                </a:lnTo>
                <a:lnTo>
                  <a:pt x="580" y="3299"/>
                </a:lnTo>
                <a:lnTo>
                  <a:pt x="614" y="3299"/>
                </a:lnTo>
                <a:lnTo>
                  <a:pt x="649" y="3299"/>
                </a:lnTo>
                <a:lnTo>
                  <a:pt x="683" y="3299"/>
                </a:lnTo>
                <a:lnTo>
                  <a:pt x="718" y="3299"/>
                </a:lnTo>
                <a:close/>
                <a:moveTo>
                  <a:pt x="373" y="2858"/>
                </a:moveTo>
                <a:lnTo>
                  <a:pt x="373" y="2845"/>
                </a:lnTo>
                <a:lnTo>
                  <a:pt x="366" y="2831"/>
                </a:lnTo>
                <a:lnTo>
                  <a:pt x="366" y="2824"/>
                </a:lnTo>
                <a:lnTo>
                  <a:pt x="359" y="2817"/>
                </a:lnTo>
                <a:lnTo>
                  <a:pt x="352" y="2810"/>
                </a:lnTo>
                <a:lnTo>
                  <a:pt x="345" y="2810"/>
                </a:lnTo>
                <a:lnTo>
                  <a:pt x="338" y="2803"/>
                </a:lnTo>
                <a:lnTo>
                  <a:pt x="325" y="2803"/>
                </a:lnTo>
                <a:lnTo>
                  <a:pt x="318" y="2796"/>
                </a:lnTo>
                <a:lnTo>
                  <a:pt x="318" y="2789"/>
                </a:lnTo>
                <a:lnTo>
                  <a:pt x="318" y="2776"/>
                </a:lnTo>
                <a:lnTo>
                  <a:pt x="318" y="2762"/>
                </a:lnTo>
                <a:lnTo>
                  <a:pt x="318" y="2748"/>
                </a:lnTo>
                <a:lnTo>
                  <a:pt x="311" y="2748"/>
                </a:lnTo>
                <a:lnTo>
                  <a:pt x="297" y="2741"/>
                </a:lnTo>
                <a:lnTo>
                  <a:pt x="290" y="2734"/>
                </a:lnTo>
                <a:lnTo>
                  <a:pt x="283" y="2734"/>
                </a:lnTo>
                <a:lnTo>
                  <a:pt x="276" y="2734"/>
                </a:lnTo>
                <a:lnTo>
                  <a:pt x="269" y="2734"/>
                </a:lnTo>
                <a:lnTo>
                  <a:pt x="262" y="2734"/>
                </a:lnTo>
                <a:lnTo>
                  <a:pt x="256" y="2734"/>
                </a:lnTo>
                <a:lnTo>
                  <a:pt x="249" y="2734"/>
                </a:lnTo>
                <a:lnTo>
                  <a:pt x="242" y="2734"/>
                </a:lnTo>
                <a:lnTo>
                  <a:pt x="228" y="2727"/>
                </a:lnTo>
                <a:lnTo>
                  <a:pt x="221" y="2727"/>
                </a:lnTo>
                <a:lnTo>
                  <a:pt x="214" y="2727"/>
                </a:lnTo>
                <a:lnTo>
                  <a:pt x="214" y="2721"/>
                </a:lnTo>
                <a:lnTo>
                  <a:pt x="214" y="2707"/>
                </a:lnTo>
                <a:lnTo>
                  <a:pt x="221" y="2700"/>
                </a:lnTo>
                <a:lnTo>
                  <a:pt x="228" y="2686"/>
                </a:lnTo>
                <a:lnTo>
                  <a:pt x="228" y="2672"/>
                </a:lnTo>
                <a:lnTo>
                  <a:pt x="235" y="2665"/>
                </a:lnTo>
                <a:lnTo>
                  <a:pt x="235" y="2652"/>
                </a:lnTo>
                <a:lnTo>
                  <a:pt x="242" y="2645"/>
                </a:lnTo>
                <a:lnTo>
                  <a:pt x="242" y="2631"/>
                </a:lnTo>
                <a:lnTo>
                  <a:pt x="249" y="2624"/>
                </a:lnTo>
                <a:lnTo>
                  <a:pt x="249" y="2610"/>
                </a:lnTo>
                <a:lnTo>
                  <a:pt x="256" y="2597"/>
                </a:lnTo>
                <a:lnTo>
                  <a:pt x="256" y="2590"/>
                </a:lnTo>
                <a:lnTo>
                  <a:pt x="262" y="2583"/>
                </a:lnTo>
                <a:lnTo>
                  <a:pt x="269" y="2576"/>
                </a:lnTo>
                <a:lnTo>
                  <a:pt x="276" y="2576"/>
                </a:lnTo>
                <a:lnTo>
                  <a:pt x="283" y="2576"/>
                </a:lnTo>
                <a:lnTo>
                  <a:pt x="297" y="2576"/>
                </a:lnTo>
                <a:lnTo>
                  <a:pt x="304" y="2583"/>
                </a:lnTo>
                <a:lnTo>
                  <a:pt x="311" y="2583"/>
                </a:lnTo>
                <a:lnTo>
                  <a:pt x="318" y="2583"/>
                </a:lnTo>
                <a:lnTo>
                  <a:pt x="325" y="2583"/>
                </a:lnTo>
                <a:lnTo>
                  <a:pt x="331" y="2583"/>
                </a:lnTo>
                <a:lnTo>
                  <a:pt x="338" y="2583"/>
                </a:lnTo>
                <a:lnTo>
                  <a:pt x="345" y="2590"/>
                </a:lnTo>
                <a:lnTo>
                  <a:pt x="352" y="2590"/>
                </a:lnTo>
                <a:lnTo>
                  <a:pt x="366" y="2590"/>
                </a:lnTo>
                <a:lnTo>
                  <a:pt x="373" y="2590"/>
                </a:lnTo>
                <a:lnTo>
                  <a:pt x="380" y="2590"/>
                </a:lnTo>
                <a:lnTo>
                  <a:pt x="387" y="2590"/>
                </a:lnTo>
                <a:lnTo>
                  <a:pt x="393" y="2590"/>
                </a:lnTo>
                <a:lnTo>
                  <a:pt x="400" y="2597"/>
                </a:lnTo>
                <a:lnTo>
                  <a:pt x="407" y="2597"/>
                </a:lnTo>
                <a:lnTo>
                  <a:pt x="414" y="2597"/>
                </a:lnTo>
                <a:lnTo>
                  <a:pt x="421" y="2597"/>
                </a:lnTo>
                <a:lnTo>
                  <a:pt x="428" y="2597"/>
                </a:lnTo>
                <a:lnTo>
                  <a:pt x="442" y="2597"/>
                </a:lnTo>
                <a:lnTo>
                  <a:pt x="449" y="2603"/>
                </a:lnTo>
                <a:lnTo>
                  <a:pt x="456" y="2603"/>
                </a:lnTo>
                <a:lnTo>
                  <a:pt x="462" y="2603"/>
                </a:lnTo>
                <a:lnTo>
                  <a:pt x="469" y="2610"/>
                </a:lnTo>
                <a:lnTo>
                  <a:pt x="476" y="2617"/>
                </a:lnTo>
                <a:lnTo>
                  <a:pt x="483" y="2624"/>
                </a:lnTo>
                <a:lnTo>
                  <a:pt x="483" y="2631"/>
                </a:lnTo>
                <a:lnTo>
                  <a:pt x="490" y="2645"/>
                </a:lnTo>
                <a:lnTo>
                  <a:pt x="497" y="2652"/>
                </a:lnTo>
                <a:lnTo>
                  <a:pt x="504" y="2659"/>
                </a:lnTo>
                <a:lnTo>
                  <a:pt x="511" y="2665"/>
                </a:lnTo>
                <a:lnTo>
                  <a:pt x="518" y="2672"/>
                </a:lnTo>
                <a:lnTo>
                  <a:pt x="524" y="2672"/>
                </a:lnTo>
                <a:lnTo>
                  <a:pt x="531" y="2679"/>
                </a:lnTo>
                <a:lnTo>
                  <a:pt x="538" y="2686"/>
                </a:lnTo>
                <a:lnTo>
                  <a:pt x="545" y="2693"/>
                </a:lnTo>
                <a:lnTo>
                  <a:pt x="552" y="2693"/>
                </a:lnTo>
                <a:lnTo>
                  <a:pt x="559" y="2700"/>
                </a:lnTo>
                <a:lnTo>
                  <a:pt x="566" y="2707"/>
                </a:lnTo>
                <a:lnTo>
                  <a:pt x="573" y="2714"/>
                </a:lnTo>
                <a:lnTo>
                  <a:pt x="580" y="2714"/>
                </a:lnTo>
                <a:lnTo>
                  <a:pt x="587" y="2721"/>
                </a:lnTo>
                <a:lnTo>
                  <a:pt x="593" y="2727"/>
                </a:lnTo>
                <a:lnTo>
                  <a:pt x="600" y="2734"/>
                </a:lnTo>
                <a:lnTo>
                  <a:pt x="607" y="2734"/>
                </a:lnTo>
                <a:lnTo>
                  <a:pt x="614" y="2741"/>
                </a:lnTo>
                <a:lnTo>
                  <a:pt x="621" y="2741"/>
                </a:lnTo>
                <a:lnTo>
                  <a:pt x="628" y="2748"/>
                </a:lnTo>
                <a:lnTo>
                  <a:pt x="635" y="2755"/>
                </a:lnTo>
                <a:lnTo>
                  <a:pt x="635" y="2769"/>
                </a:lnTo>
                <a:lnTo>
                  <a:pt x="628" y="2783"/>
                </a:lnTo>
                <a:lnTo>
                  <a:pt x="621" y="2789"/>
                </a:lnTo>
                <a:lnTo>
                  <a:pt x="614" y="2789"/>
                </a:lnTo>
                <a:lnTo>
                  <a:pt x="607" y="2796"/>
                </a:lnTo>
                <a:lnTo>
                  <a:pt x="600" y="2796"/>
                </a:lnTo>
                <a:lnTo>
                  <a:pt x="593" y="2796"/>
                </a:lnTo>
                <a:lnTo>
                  <a:pt x="580" y="2803"/>
                </a:lnTo>
                <a:lnTo>
                  <a:pt x="573" y="2803"/>
                </a:lnTo>
                <a:lnTo>
                  <a:pt x="566" y="2803"/>
                </a:lnTo>
                <a:lnTo>
                  <a:pt x="559" y="2810"/>
                </a:lnTo>
                <a:lnTo>
                  <a:pt x="552" y="2810"/>
                </a:lnTo>
                <a:lnTo>
                  <a:pt x="545" y="2817"/>
                </a:lnTo>
                <a:lnTo>
                  <a:pt x="538" y="2817"/>
                </a:lnTo>
                <a:lnTo>
                  <a:pt x="531" y="2817"/>
                </a:lnTo>
                <a:lnTo>
                  <a:pt x="524" y="2824"/>
                </a:lnTo>
                <a:lnTo>
                  <a:pt x="518" y="2824"/>
                </a:lnTo>
                <a:lnTo>
                  <a:pt x="511" y="2824"/>
                </a:lnTo>
                <a:lnTo>
                  <a:pt x="504" y="2831"/>
                </a:lnTo>
                <a:lnTo>
                  <a:pt x="497" y="2831"/>
                </a:lnTo>
                <a:lnTo>
                  <a:pt x="483" y="2838"/>
                </a:lnTo>
                <a:lnTo>
                  <a:pt x="476" y="2838"/>
                </a:lnTo>
                <a:lnTo>
                  <a:pt x="469" y="2838"/>
                </a:lnTo>
                <a:lnTo>
                  <a:pt x="462" y="2845"/>
                </a:lnTo>
                <a:lnTo>
                  <a:pt x="456" y="2845"/>
                </a:lnTo>
                <a:lnTo>
                  <a:pt x="449" y="2845"/>
                </a:lnTo>
                <a:lnTo>
                  <a:pt x="442" y="2851"/>
                </a:lnTo>
                <a:lnTo>
                  <a:pt x="435" y="2851"/>
                </a:lnTo>
                <a:lnTo>
                  <a:pt x="428" y="2858"/>
                </a:lnTo>
                <a:lnTo>
                  <a:pt x="421" y="2858"/>
                </a:lnTo>
                <a:lnTo>
                  <a:pt x="414" y="2858"/>
                </a:lnTo>
                <a:lnTo>
                  <a:pt x="400" y="2865"/>
                </a:lnTo>
                <a:lnTo>
                  <a:pt x="393" y="2865"/>
                </a:lnTo>
                <a:lnTo>
                  <a:pt x="387" y="2865"/>
                </a:lnTo>
                <a:lnTo>
                  <a:pt x="380" y="2865"/>
                </a:lnTo>
                <a:lnTo>
                  <a:pt x="373" y="2858"/>
                </a:lnTo>
                <a:close/>
                <a:moveTo>
                  <a:pt x="1021" y="1667"/>
                </a:moveTo>
                <a:lnTo>
                  <a:pt x="1021" y="1660"/>
                </a:lnTo>
                <a:lnTo>
                  <a:pt x="1028" y="1646"/>
                </a:lnTo>
                <a:lnTo>
                  <a:pt x="1028" y="1632"/>
                </a:lnTo>
                <a:lnTo>
                  <a:pt x="1035" y="1625"/>
                </a:lnTo>
                <a:lnTo>
                  <a:pt x="1035" y="1618"/>
                </a:lnTo>
                <a:lnTo>
                  <a:pt x="1042" y="1605"/>
                </a:lnTo>
                <a:lnTo>
                  <a:pt x="1042" y="1598"/>
                </a:lnTo>
                <a:lnTo>
                  <a:pt x="1049" y="1584"/>
                </a:lnTo>
                <a:lnTo>
                  <a:pt x="1049" y="1577"/>
                </a:lnTo>
                <a:lnTo>
                  <a:pt x="1055" y="1563"/>
                </a:lnTo>
                <a:lnTo>
                  <a:pt x="1062" y="1556"/>
                </a:lnTo>
                <a:lnTo>
                  <a:pt x="1069" y="1556"/>
                </a:lnTo>
                <a:lnTo>
                  <a:pt x="1076" y="1550"/>
                </a:lnTo>
                <a:lnTo>
                  <a:pt x="1083" y="1543"/>
                </a:lnTo>
                <a:lnTo>
                  <a:pt x="1090" y="1536"/>
                </a:lnTo>
                <a:lnTo>
                  <a:pt x="1097" y="1529"/>
                </a:lnTo>
                <a:lnTo>
                  <a:pt x="1097" y="1522"/>
                </a:lnTo>
                <a:lnTo>
                  <a:pt x="1097" y="1508"/>
                </a:lnTo>
                <a:lnTo>
                  <a:pt x="1097" y="1494"/>
                </a:lnTo>
                <a:lnTo>
                  <a:pt x="1097" y="1488"/>
                </a:lnTo>
                <a:lnTo>
                  <a:pt x="1104" y="1474"/>
                </a:lnTo>
                <a:lnTo>
                  <a:pt x="1104" y="1467"/>
                </a:lnTo>
                <a:lnTo>
                  <a:pt x="1111" y="1453"/>
                </a:lnTo>
                <a:lnTo>
                  <a:pt x="1117" y="1446"/>
                </a:lnTo>
                <a:lnTo>
                  <a:pt x="1124" y="1439"/>
                </a:lnTo>
                <a:lnTo>
                  <a:pt x="1131" y="1439"/>
                </a:lnTo>
                <a:lnTo>
                  <a:pt x="1138" y="1439"/>
                </a:lnTo>
                <a:lnTo>
                  <a:pt x="1145" y="1446"/>
                </a:lnTo>
                <a:lnTo>
                  <a:pt x="1152" y="1446"/>
                </a:lnTo>
                <a:lnTo>
                  <a:pt x="1159" y="1453"/>
                </a:lnTo>
                <a:lnTo>
                  <a:pt x="1166" y="1460"/>
                </a:lnTo>
                <a:lnTo>
                  <a:pt x="1173" y="1460"/>
                </a:lnTo>
                <a:lnTo>
                  <a:pt x="1180" y="1467"/>
                </a:lnTo>
                <a:lnTo>
                  <a:pt x="1186" y="1467"/>
                </a:lnTo>
                <a:lnTo>
                  <a:pt x="1193" y="1474"/>
                </a:lnTo>
                <a:lnTo>
                  <a:pt x="1200" y="1474"/>
                </a:lnTo>
                <a:lnTo>
                  <a:pt x="1207" y="1481"/>
                </a:lnTo>
                <a:lnTo>
                  <a:pt x="1214" y="1481"/>
                </a:lnTo>
                <a:lnTo>
                  <a:pt x="1221" y="1481"/>
                </a:lnTo>
                <a:lnTo>
                  <a:pt x="1228" y="1488"/>
                </a:lnTo>
                <a:lnTo>
                  <a:pt x="1235" y="1488"/>
                </a:lnTo>
                <a:lnTo>
                  <a:pt x="1242" y="1494"/>
                </a:lnTo>
                <a:lnTo>
                  <a:pt x="1248" y="1494"/>
                </a:lnTo>
                <a:lnTo>
                  <a:pt x="1255" y="1501"/>
                </a:lnTo>
                <a:lnTo>
                  <a:pt x="1262" y="1501"/>
                </a:lnTo>
                <a:lnTo>
                  <a:pt x="1269" y="1508"/>
                </a:lnTo>
                <a:lnTo>
                  <a:pt x="1276" y="1508"/>
                </a:lnTo>
                <a:lnTo>
                  <a:pt x="1283" y="1515"/>
                </a:lnTo>
                <a:lnTo>
                  <a:pt x="1290" y="1515"/>
                </a:lnTo>
                <a:lnTo>
                  <a:pt x="1304" y="1522"/>
                </a:lnTo>
                <a:lnTo>
                  <a:pt x="1311" y="1522"/>
                </a:lnTo>
                <a:lnTo>
                  <a:pt x="1317" y="1522"/>
                </a:lnTo>
                <a:lnTo>
                  <a:pt x="1324" y="1529"/>
                </a:lnTo>
                <a:lnTo>
                  <a:pt x="1324" y="1536"/>
                </a:lnTo>
                <a:lnTo>
                  <a:pt x="1317" y="1536"/>
                </a:lnTo>
                <a:lnTo>
                  <a:pt x="1311" y="1543"/>
                </a:lnTo>
                <a:lnTo>
                  <a:pt x="1304" y="1550"/>
                </a:lnTo>
                <a:lnTo>
                  <a:pt x="1297" y="1556"/>
                </a:lnTo>
                <a:lnTo>
                  <a:pt x="1297" y="1570"/>
                </a:lnTo>
                <a:lnTo>
                  <a:pt x="1290" y="1577"/>
                </a:lnTo>
                <a:lnTo>
                  <a:pt x="1283" y="1584"/>
                </a:lnTo>
                <a:lnTo>
                  <a:pt x="1276" y="1591"/>
                </a:lnTo>
                <a:lnTo>
                  <a:pt x="1269" y="1591"/>
                </a:lnTo>
                <a:lnTo>
                  <a:pt x="1262" y="1598"/>
                </a:lnTo>
                <a:lnTo>
                  <a:pt x="1255" y="1605"/>
                </a:lnTo>
                <a:lnTo>
                  <a:pt x="1248" y="1612"/>
                </a:lnTo>
                <a:lnTo>
                  <a:pt x="1242" y="1612"/>
                </a:lnTo>
                <a:lnTo>
                  <a:pt x="1235" y="1618"/>
                </a:lnTo>
                <a:lnTo>
                  <a:pt x="1228" y="1618"/>
                </a:lnTo>
                <a:lnTo>
                  <a:pt x="1221" y="1625"/>
                </a:lnTo>
                <a:lnTo>
                  <a:pt x="1214" y="1625"/>
                </a:lnTo>
                <a:lnTo>
                  <a:pt x="1207" y="1625"/>
                </a:lnTo>
                <a:lnTo>
                  <a:pt x="1200" y="1625"/>
                </a:lnTo>
                <a:lnTo>
                  <a:pt x="1193" y="1632"/>
                </a:lnTo>
                <a:lnTo>
                  <a:pt x="1186" y="1632"/>
                </a:lnTo>
                <a:lnTo>
                  <a:pt x="1180" y="1632"/>
                </a:lnTo>
                <a:lnTo>
                  <a:pt x="1173" y="1632"/>
                </a:lnTo>
                <a:lnTo>
                  <a:pt x="1166" y="1632"/>
                </a:lnTo>
                <a:lnTo>
                  <a:pt x="1152" y="1632"/>
                </a:lnTo>
                <a:lnTo>
                  <a:pt x="1145" y="1632"/>
                </a:lnTo>
                <a:lnTo>
                  <a:pt x="1138" y="1632"/>
                </a:lnTo>
                <a:lnTo>
                  <a:pt x="1131" y="1639"/>
                </a:lnTo>
                <a:lnTo>
                  <a:pt x="1124" y="1639"/>
                </a:lnTo>
                <a:lnTo>
                  <a:pt x="1117" y="1639"/>
                </a:lnTo>
                <a:lnTo>
                  <a:pt x="1111" y="1639"/>
                </a:lnTo>
                <a:lnTo>
                  <a:pt x="1104" y="1646"/>
                </a:lnTo>
                <a:lnTo>
                  <a:pt x="1097" y="1646"/>
                </a:lnTo>
                <a:lnTo>
                  <a:pt x="1090" y="1646"/>
                </a:lnTo>
                <a:lnTo>
                  <a:pt x="1083" y="1653"/>
                </a:lnTo>
                <a:lnTo>
                  <a:pt x="1076" y="1653"/>
                </a:lnTo>
                <a:lnTo>
                  <a:pt x="1069" y="1660"/>
                </a:lnTo>
                <a:lnTo>
                  <a:pt x="1062" y="1660"/>
                </a:lnTo>
                <a:lnTo>
                  <a:pt x="1055" y="1660"/>
                </a:lnTo>
                <a:lnTo>
                  <a:pt x="1049" y="1667"/>
                </a:lnTo>
                <a:lnTo>
                  <a:pt x="1042" y="1667"/>
                </a:lnTo>
                <a:lnTo>
                  <a:pt x="1035" y="1674"/>
                </a:lnTo>
                <a:lnTo>
                  <a:pt x="1028" y="1674"/>
                </a:lnTo>
                <a:lnTo>
                  <a:pt x="1021" y="1667"/>
                </a:lnTo>
                <a:close/>
                <a:moveTo>
                  <a:pt x="407" y="1598"/>
                </a:moveTo>
                <a:lnTo>
                  <a:pt x="400" y="1591"/>
                </a:lnTo>
                <a:lnTo>
                  <a:pt x="400" y="1577"/>
                </a:lnTo>
                <a:lnTo>
                  <a:pt x="400" y="1570"/>
                </a:lnTo>
                <a:lnTo>
                  <a:pt x="407" y="1556"/>
                </a:lnTo>
                <a:lnTo>
                  <a:pt x="407" y="1550"/>
                </a:lnTo>
                <a:lnTo>
                  <a:pt x="414" y="1543"/>
                </a:lnTo>
                <a:lnTo>
                  <a:pt x="414" y="1529"/>
                </a:lnTo>
                <a:lnTo>
                  <a:pt x="421" y="1522"/>
                </a:lnTo>
                <a:lnTo>
                  <a:pt x="421" y="1515"/>
                </a:lnTo>
                <a:lnTo>
                  <a:pt x="428" y="1501"/>
                </a:lnTo>
                <a:lnTo>
                  <a:pt x="428" y="1494"/>
                </a:lnTo>
                <a:lnTo>
                  <a:pt x="435" y="1488"/>
                </a:lnTo>
                <a:lnTo>
                  <a:pt x="435" y="1481"/>
                </a:lnTo>
                <a:lnTo>
                  <a:pt x="442" y="1467"/>
                </a:lnTo>
                <a:lnTo>
                  <a:pt x="442" y="1460"/>
                </a:lnTo>
                <a:lnTo>
                  <a:pt x="449" y="1453"/>
                </a:lnTo>
                <a:lnTo>
                  <a:pt x="449" y="1439"/>
                </a:lnTo>
                <a:lnTo>
                  <a:pt x="456" y="1432"/>
                </a:lnTo>
                <a:lnTo>
                  <a:pt x="456" y="1419"/>
                </a:lnTo>
                <a:lnTo>
                  <a:pt x="462" y="1412"/>
                </a:lnTo>
                <a:lnTo>
                  <a:pt x="462" y="1405"/>
                </a:lnTo>
                <a:lnTo>
                  <a:pt x="462" y="1391"/>
                </a:lnTo>
                <a:lnTo>
                  <a:pt x="469" y="1384"/>
                </a:lnTo>
                <a:lnTo>
                  <a:pt x="469" y="1370"/>
                </a:lnTo>
                <a:lnTo>
                  <a:pt x="469" y="1364"/>
                </a:lnTo>
                <a:lnTo>
                  <a:pt x="476" y="1357"/>
                </a:lnTo>
                <a:lnTo>
                  <a:pt x="476" y="1343"/>
                </a:lnTo>
                <a:lnTo>
                  <a:pt x="476" y="1336"/>
                </a:lnTo>
                <a:lnTo>
                  <a:pt x="476" y="1322"/>
                </a:lnTo>
                <a:lnTo>
                  <a:pt x="476" y="1315"/>
                </a:lnTo>
                <a:lnTo>
                  <a:pt x="469" y="1302"/>
                </a:lnTo>
                <a:lnTo>
                  <a:pt x="469" y="1295"/>
                </a:lnTo>
                <a:lnTo>
                  <a:pt x="476" y="1288"/>
                </a:lnTo>
                <a:lnTo>
                  <a:pt x="483" y="1281"/>
                </a:lnTo>
                <a:lnTo>
                  <a:pt x="490" y="1281"/>
                </a:lnTo>
                <a:lnTo>
                  <a:pt x="497" y="1274"/>
                </a:lnTo>
                <a:lnTo>
                  <a:pt x="504" y="1274"/>
                </a:lnTo>
                <a:lnTo>
                  <a:pt x="511" y="1274"/>
                </a:lnTo>
                <a:lnTo>
                  <a:pt x="518" y="1267"/>
                </a:lnTo>
                <a:lnTo>
                  <a:pt x="524" y="1274"/>
                </a:lnTo>
                <a:lnTo>
                  <a:pt x="531" y="1274"/>
                </a:lnTo>
                <a:lnTo>
                  <a:pt x="538" y="1274"/>
                </a:lnTo>
                <a:lnTo>
                  <a:pt x="538" y="1274"/>
                </a:lnTo>
                <a:lnTo>
                  <a:pt x="545" y="1281"/>
                </a:lnTo>
                <a:lnTo>
                  <a:pt x="552" y="1281"/>
                </a:lnTo>
                <a:lnTo>
                  <a:pt x="559" y="1281"/>
                </a:lnTo>
                <a:lnTo>
                  <a:pt x="566" y="1288"/>
                </a:lnTo>
                <a:lnTo>
                  <a:pt x="573" y="1295"/>
                </a:lnTo>
                <a:lnTo>
                  <a:pt x="580" y="1295"/>
                </a:lnTo>
                <a:lnTo>
                  <a:pt x="587" y="1302"/>
                </a:lnTo>
                <a:lnTo>
                  <a:pt x="593" y="1302"/>
                </a:lnTo>
                <a:lnTo>
                  <a:pt x="600" y="1302"/>
                </a:lnTo>
                <a:lnTo>
                  <a:pt x="607" y="1308"/>
                </a:lnTo>
                <a:lnTo>
                  <a:pt x="614" y="1308"/>
                </a:lnTo>
                <a:lnTo>
                  <a:pt x="621" y="1308"/>
                </a:lnTo>
                <a:lnTo>
                  <a:pt x="621" y="1308"/>
                </a:lnTo>
                <a:lnTo>
                  <a:pt x="628" y="1315"/>
                </a:lnTo>
                <a:lnTo>
                  <a:pt x="635" y="1315"/>
                </a:lnTo>
                <a:lnTo>
                  <a:pt x="642" y="1322"/>
                </a:lnTo>
                <a:lnTo>
                  <a:pt x="649" y="1322"/>
                </a:lnTo>
                <a:lnTo>
                  <a:pt x="656" y="1322"/>
                </a:lnTo>
                <a:lnTo>
                  <a:pt x="662" y="1329"/>
                </a:lnTo>
                <a:lnTo>
                  <a:pt x="669" y="1336"/>
                </a:lnTo>
                <a:lnTo>
                  <a:pt x="669" y="1343"/>
                </a:lnTo>
                <a:lnTo>
                  <a:pt x="676" y="1350"/>
                </a:lnTo>
                <a:lnTo>
                  <a:pt x="683" y="1350"/>
                </a:lnTo>
                <a:lnTo>
                  <a:pt x="690" y="1357"/>
                </a:lnTo>
                <a:lnTo>
                  <a:pt x="697" y="1364"/>
                </a:lnTo>
                <a:lnTo>
                  <a:pt x="690" y="1364"/>
                </a:lnTo>
                <a:lnTo>
                  <a:pt x="683" y="1364"/>
                </a:lnTo>
                <a:lnTo>
                  <a:pt x="676" y="1370"/>
                </a:lnTo>
                <a:lnTo>
                  <a:pt x="676" y="1377"/>
                </a:lnTo>
                <a:lnTo>
                  <a:pt x="669" y="1391"/>
                </a:lnTo>
                <a:lnTo>
                  <a:pt x="669" y="1398"/>
                </a:lnTo>
                <a:lnTo>
                  <a:pt x="662" y="1405"/>
                </a:lnTo>
                <a:lnTo>
                  <a:pt x="656" y="1412"/>
                </a:lnTo>
                <a:lnTo>
                  <a:pt x="656" y="1419"/>
                </a:lnTo>
                <a:lnTo>
                  <a:pt x="649" y="1426"/>
                </a:lnTo>
                <a:lnTo>
                  <a:pt x="642" y="1439"/>
                </a:lnTo>
                <a:lnTo>
                  <a:pt x="642" y="1446"/>
                </a:lnTo>
                <a:lnTo>
                  <a:pt x="635" y="1453"/>
                </a:lnTo>
                <a:lnTo>
                  <a:pt x="628" y="1460"/>
                </a:lnTo>
                <a:lnTo>
                  <a:pt x="628" y="1467"/>
                </a:lnTo>
                <a:lnTo>
                  <a:pt x="621" y="1474"/>
                </a:lnTo>
                <a:lnTo>
                  <a:pt x="621" y="1481"/>
                </a:lnTo>
                <a:lnTo>
                  <a:pt x="614" y="1494"/>
                </a:lnTo>
                <a:lnTo>
                  <a:pt x="607" y="1501"/>
                </a:lnTo>
                <a:lnTo>
                  <a:pt x="607" y="1508"/>
                </a:lnTo>
                <a:lnTo>
                  <a:pt x="600" y="1515"/>
                </a:lnTo>
                <a:lnTo>
                  <a:pt x="593" y="1522"/>
                </a:lnTo>
                <a:lnTo>
                  <a:pt x="593" y="1529"/>
                </a:lnTo>
                <a:lnTo>
                  <a:pt x="587" y="1536"/>
                </a:lnTo>
                <a:lnTo>
                  <a:pt x="580" y="1550"/>
                </a:lnTo>
                <a:lnTo>
                  <a:pt x="580" y="1556"/>
                </a:lnTo>
                <a:lnTo>
                  <a:pt x="573" y="1563"/>
                </a:lnTo>
                <a:lnTo>
                  <a:pt x="566" y="1570"/>
                </a:lnTo>
                <a:lnTo>
                  <a:pt x="566" y="1577"/>
                </a:lnTo>
                <a:lnTo>
                  <a:pt x="559" y="1584"/>
                </a:lnTo>
                <a:lnTo>
                  <a:pt x="552" y="1591"/>
                </a:lnTo>
                <a:lnTo>
                  <a:pt x="545" y="1591"/>
                </a:lnTo>
                <a:lnTo>
                  <a:pt x="538" y="1598"/>
                </a:lnTo>
                <a:lnTo>
                  <a:pt x="531" y="1598"/>
                </a:lnTo>
                <a:lnTo>
                  <a:pt x="524" y="1598"/>
                </a:lnTo>
                <a:lnTo>
                  <a:pt x="524" y="1605"/>
                </a:lnTo>
                <a:lnTo>
                  <a:pt x="518" y="1605"/>
                </a:lnTo>
                <a:lnTo>
                  <a:pt x="511" y="1612"/>
                </a:lnTo>
                <a:lnTo>
                  <a:pt x="504" y="1612"/>
                </a:lnTo>
                <a:lnTo>
                  <a:pt x="497" y="1612"/>
                </a:lnTo>
                <a:lnTo>
                  <a:pt x="490" y="1612"/>
                </a:lnTo>
                <a:lnTo>
                  <a:pt x="483" y="1612"/>
                </a:lnTo>
                <a:lnTo>
                  <a:pt x="476" y="1605"/>
                </a:lnTo>
                <a:lnTo>
                  <a:pt x="469" y="1605"/>
                </a:lnTo>
                <a:lnTo>
                  <a:pt x="462" y="1605"/>
                </a:lnTo>
                <a:lnTo>
                  <a:pt x="456" y="1605"/>
                </a:lnTo>
                <a:lnTo>
                  <a:pt x="449" y="1605"/>
                </a:lnTo>
                <a:lnTo>
                  <a:pt x="442" y="1605"/>
                </a:lnTo>
                <a:lnTo>
                  <a:pt x="435" y="1605"/>
                </a:lnTo>
                <a:lnTo>
                  <a:pt x="428" y="1605"/>
                </a:lnTo>
                <a:lnTo>
                  <a:pt x="421" y="1605"/>
                </a:lnTo>
                <a:lnTo>
                  <a:pt x="414" y="1605"/>
                </a:lnTo>
                <a:lnTo>
                  <a:pt x="407" y="1605"/>
                </a:lnTo>
                <a:lnTo>
                  <a:pt x="407" y="1598"/>
                </a:lnTo>
                <a:close/>
              </a:path>
            </a:pathLst>
          </a:custGeom>
          <a:solidFill>
            <a:srgbClr val="b3e1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5" name=""/>
          <p:cNvSpPr/>
          <p:nvPr/>
        </p:nvSpPr>
        <p:spPr>
          <a:xfrm>
            <a:off x="3720960" y="1328760"/>
            <a:ext cx="3251520" cy="5237280"/>
          </a:xfrm>
          <a:custGeom>
            <a:avLst/>
            <a:gdLst/>
            <a:ahLst/>
            <a:rect l="l" t="t" r="r" b="b"/>
            <a:pathLst>
              <a:path w="2048" h="3299">
                <a:moveTo>
                  <a:pt x="718" y="3299"/>
                </a:moveTo>
                <a:lnTo>
                  <a:pt x="752" y="3265"/>
                </a:lnTo>
                <a:lnTo>
                  <a:pt x="787" y="3265"/>
                </a:lnTo>
                <a:lnTo>
                  <a:pt x="821" y="3265"/>
                </a:lnTo>
                <a:lnTo>
                  <a:pt x="855" y="3230"/>
                </a:lnTo>
                <a:lnTo>
                  <a:pt x="890" y="3230"/>
                </a:lnTo>
                <a:lnTo>
                  <a:pt x="924" y="3230"/>
                </a:lnTo>
                <a:lnTo>
                  <a:pt x="959" y="3196"/>
                </a:lnTo>
                <a:lnTo>
                  <a:pt x="993" y="3196"/>
                </a:lnTo>
                <a:lnTo>
                  <a:pt x="1028" y="3196"/>
                </a:lnTo>
                <a:lnTo>
                  <a:pt x="1062" y="3161"/>
                </a:lnTo>
                <a:lnTo>
                  <a:pt x="1090" y="3161"/>
                </a:lnTo>
                <a:lnTo>
                  <a:pt x="1090" y="3127"/>
                </a:lnTo>
                <a:lnTo>
                  <a:pt x="1124" y="3093"/>
                </a:lnTo>
                <a:lnTo>
                  <a:pt x="1124" y="3058"/>
                </a:lnTo>
                <a:lnTo>
                  <a:pt x="1159" y="3024"/>
                </a:lnTo>
                <a:lnTo>
                  <a:pt x="1159" y="2996"/>
                </a:lnTo>
                <a:lnTo>
                  <a:pt x="1193" y="2962"/>
                </a:lnTo>
                <a:lnTo>
                  <a:pt x="1193" y="2927"/>
                </a:lnTo>
                <a:lnTo>
                  <a:pt x="1228" y="2893"/>
                </a:lnTo>
                <a:lnTo>
                  <a:pt x="1228" y="2858"/>
                </a:lnTo>
                <a:lnTo>
                  <a:pt x="1262" y="2824"/>
                </a:lnTo>
                <a:lnTo>
                  <a:pt x="1262" y="2789"/>
                </a:lnTo>
                <a:lnTo>
                  <a:pt x="1297" y="2755"/>
                </a:lnTo>
                <a:lnTo>
                  <a:pt x="1297" y="2721"/>
                </a:lnTo>
                <a:lnTo>
                  <a:pt x="1331" y="2686"/>
                </a:lnTo>
                <a:lnTo>
                  <a:pt x="1331" y="2652"/>
                </a:lnTo>
                <a:lnTo>
                  <a:pt x="1366" y="2617"/>
                </a:lnTo>
                <a:lnTo>
                  <a:pt x="1366" y="2583"/>
                </a:lnTo>
                <a:lnTo>
                  <a:pt x="1400" y="2548"/>
                </a:lnTo>
                <a:lnTo>
                  <a:pt x="1400" y="2514"/>
                </a:lnTo>
                <a:lnTo>
                  <a:pt x="1435" y="2480"/>
                </a:lnTo>
                <a:lnTo>
                  <a:pt x="1435" y="2452"/>
                </a:lnTo>
                <a:lnTo>
                  <a:pt x="1469" y="2418"/>
                </a:lnTo>
                <a:lnTo>
                  <a:pt x="1469" y="2383"/>
                </a:lnTo>
                <a:lnTo>
                  <a:pt x="1504" y="2349"/>
                </a:lnTo>
                <a:lnTo>
                  <a:pt x="1504" y="2314"/>
                </a:lnTo>
                <a:lnTo>
                  <a:pt x="1538" y="2280"/>
                </a:lnTo>
                <a:lnTo>
                  <a:pt x="1538" y="2245"/>
                </a:lnTo>
                <a:lnTo>
                  <a:pt x="1573" y="2211"/>
                </a:lnTo>
                <a:lnTo>
                  <a:pt x="1573" y="2176"/>
                </a:lnTo>
                <a:lnTo>
                  <a:pt x="1607" y="2142"/>
                </a:lnTo>
                <a:lnTo>
                  <a:pt x="1607" y="2108"/>
                </a:lnTo>
                <a:lnTo>
                  <a:pt x="1641" y="2073"/>
                </a:lnTo>
                <a:lnTo>
                  <a:pt x="1641" y="2039"/>
                </a:lnTo>
                <a:lnTo>
                  <a:pt x="1676" y="2004"/>
                </a:lnTo>
                <a:lnTo>
                  <a:pt x="1676" y="1970"/>
                </a:lnTo>
                <a:lnTo>
                  <a:pt x="1710" y="1935"/>
                </a:lnTo>
                <a:lnTo>
                  <a:pt x="1710" y="1908"/>
                </a:lnTo>
                <a:lnTo>
                  <a:pt x="1745" y="1873"/>
                </a:lnTo>
                <a:lnTo>
                  <a:pt x="1745" y="1866"/>
                </a:lnTo>
                <a:lnTo>
                  <a:pt x="1738" y="1866"/>
                </a:lnTo>
                <a:lnTo>
                  <a:pt x="1731" y="1866"/>
                </a:lnTo>
                <a:lnTo>
                  <a:pt x="1724" y="1860"/>
                </a:lnTo>
                <a:lnTo>
                  <a:pt x="1717" y="1860"/>
                </a:lnTo>
                <a:lnTo>
                  <a:pt x="1710" y="1853"/>
                </a:lnTo>
                <a:lnTo>
                  <a:pt x="1704" y="1853"/>
                </a:lnTo>
                <a:lnTo>
                  <a:pt x="1697" y="1853"/>
                </a:lnTo>
                <a:lnTo>
                  <a:pt x="1690" y="1846"/>
                </a:lnTo>
                <a:lnTo>
                  <a:pt x="1683" y="1839"/>
                </a:lnTo>
                <a:lnTo>
                  <a:pt x="1676" y="1832"/>
                </a:lnTo>
                <a:lnTo>
                  <a:pt x="1676" y="1825"/>
                </a:lnTo>
                <a:lnTo>
                  <a:pt x="1669" y="1818"/>
                </a:lnTo>
                <a:lnTo>
                  <a:pt x="1662" y="1825"/>
                </a:lnTo>
                <a:lnTo>
                  <a:pt x="1655" y="1825"/>
                </a:lnTo>
                <a:lnTo>
                  <a:pt x="1648" y="1832"/>
                </a:lnTo>
                <a:lnTo>
                  <a:pt x="1641" y="1832"/>
                </a:lnTo>
                <a:lnTo>
                  <a:pt x="1635" y="1825"/>
                </a:lnTo>
                <a:lnTo>
                  <a:pt x="1628" y="1818"/>
                </a:lnTo>
                <a:lnTo>
                  <a:pt x="1621" y="1811"/>
                </a:lnTo>
                <a:lnTo>
                  <a:pt x="1621" y="1804"/>
                </a:lnTo>
                <a:lnTo>
                  <a:pt x="1614" y="1798"/>
                </a:lnTo>
                <a:lnTo>
                  <a:pt x="1607" y="1798"/>
                </a:lnTo>
                <a:lnTo>
                  <a:pt x="1600" y="1798"/>
                </a:lnTo>
                <a:lnTo>
                  <a:pt x="1593" y="1798"/>
                </a:lnTo>
                <a:lnTo>
                  <a:pt x="1586" y="1798"/>
                </a:lnTo>
                <a:lnTo>
                  <a:pt x="1579" y="1791"/>
                </a:lnTo>
                <a:lnTo>
                  <a:pt x="1573" y="1791"/>
                </a:lnTo>
                <a:lnTo>
                  <a:pt x="1566" y="1784"/>
                </a:lnTo>
                <a:lnTo>
                  <a:pt x="1559" y="1784"/>
                </a:lnTo>
                <a:lnTo>
                  <a:pt x="1552" y="1777"/>
                </a:lnTo>
                <a:lnTo>
                  <a:pt x="1545" y="1770"/>
                </a:lnTo>
                <a:lnTo>
                  <a:pt x="1538" y="1770"/>
                </a:lnTo>
                <a:lnTo>
                  <a:pt x="1531" y="1763"/>
                </a:lnTo>
                <a:lnTo>
                  <a:pt x="1524" y="1763"/>
                </a:lnTo>
                <a:lnTo>
                  <a:pt x="1517" y="1756"/>
                </a:lnTo>
                <a:lnTo>
                  <a:pt x="1510" y="1756"/>
                </a:lnTo>
                <a:lnTo>
                  <a:pt x="1504" y="1756"/>
                </a:lnTo>
                <a:lnTo>
                  <a:pt x="1497" y="1756"/>
                </a:lnTo>
                <a:lnTo>
                  <a:pt x="1490" y="1756"/>
                </a:lnTo>
                <a:lnTo>
                  <a:pt x="1483" y="1749"/>
                </a:lnTo>
                <a:lnTo>
                  <a:pt x="1476" y="1749"/>
                </a:lnTo>
                <a:lnTo>
                  <a:pt x="1476" y="1736"/>
                </a:lnTo>
                <a:lnTo>
                  <a:pt x="1469" y="1729"/>
                </a:lnTo>
                <a:lnTo>
                  <a:pt x="1469" y="1715"/>
                </a:lnTo>
                <a:lnTo>
                  <a:pt x="1469" y="1715"/>
                </a:lnTo>
                <a:lnTo>
                  <a:pt x="1462" y="1722"/>
                </a:lnTo>
                <a:lnTo>
                  <a:pt x="1455" y="1736"/>
                </a:lnTo>
                <a:lnTo>
                  <a:pt x="1448" y="1736"/>
                </a:lnTo>
                <a:lnTo>
                  <a:pt x="1442" y="1742"/>
                </a:lnTo>
                <a:lnTo>
                  <a:pt x="1435" y="1736"/>
                </a:lnTo>
                <a:lnTo>
                  <a:pt x="1428" y="1736"/>
                </a:lnTo>
                <a:lnTo>
                  <a:pt x="1421" y="1729"/>
                </a:lnTo>
                <a:lnTo>
                  <a:pt x="1414" y="1729"/>
                </a:lnTo>
                <a:lnTo>
                  <a:pt x="1407" y="1722"/>
                </a:lnTo>
                <a:lnTo>
                  <a:pt x="1400" y="1722"/>
                </a:lnTo>
                <a:lnTo>
                  <a:pt x="1393" y="1715"/>
                </a:lnTo>
                <a:lnTo>
                  <a:pt x="1386" y="1708"/>
                </a:lnTo>
                <a:lnTo>
                  <a:pt x="1386" y="1694"/>
                </a:lnTo>
                <a:lnTo>
                  <a:pt x="1393" y="1687"/>
                </a:lnTo>
                <a:lnTo>
                  <a:pt x="1400" y="1680"/>
                </a:lnTo>
                <a:lnTo>
                  <a:pt x="1407" y="1674"/>
                </a:lnTo>
                <a:lnTo>
                  <a:pt x="1414" y="1674"/>
                </a:lnTo>
                <a:lnTo>
                  <a:pt x="1414" y="1667"/>
                </a:lnTo>
                <a:lnTo>
                  <a:pt x="1421" y="1660"/>
                </a:lnTo>
                <a:lnTo>
                  <a:pt x="1428" y="1653"/>
                </a:lnTo>
                <a:lnTo>
                  <a:pt x="1435" y="1646"/>
                </a:lnTo>
                <a:lnTo>
                  <a:pt x="1442" y="1639"/>
                </a:lnTo>
                <a:lnTo>
                  <a:pt x="1448" y="1639"/>
                </a:lnTo>
                <a:lnTo>
                  <a:pt x="1455" y="1632"/>
                </a:lnTo>
                <a:lnTo>
                  <a:pt x="1462" y="1618"/>
                </a:lnTo>
                <a:lnTo>
                  <a:pt x="1462" y="1618"/>
                </a:lnTo>
                <a:lnTo>
                  <a:pt x="1469" y="1618"/>
                </a:lnTo>
                <a:lnTo>
                  <a:pt x="1476" y="1625"/>
                </a:lnTo>
                <a:lnTo>
                  <a:pt x="1476" y="1639"/>
                </a:lnTo>
                <a:lnTo>
                  <a:pt x="1476" y="1646"/>
                </a:lnTo>
                <a:lnTo>
                  <a:pt x="1476" y="1660"/>
                </a:lnTo>
                <a:lnTo>
                  <a:pt x="1476" y="1667"/>
                </a:lnTo>
                <a:lnTo>
                  <a:pt x="1469" y="1680"/>
                </a:lnTo>
                <a:lnTo>
                  <a:pt x="1469" y="1694"/>
                </a:lnTo>
                <a:lnTo>
                  <a:pt x="1469" y="1701"/>
                </a:lnTo>
                <a:lnTo>
                  <a:pt x="1476" y="1708"/>
                </a:lnTo>
                <a:lnTo>
                  <a:pt x="1483" y="1715"/>
                </a:lnTo>
                <a:lnTo>
                  <a:pt x="1490" y="1715"/>
                </a:lnTo>
                <a:lnTo>
                  <a:pt x="1497" y="1715"/>
                </a:lnTo>
                <a:lnTo>
                  <a:pt x="1504" y="1715"/>
                </a:lnTo>
                <a:lnTo>
                  <a:pt x="1510" y="1715"/>
                </a:lnTo>
                <a:lnTo>
                  <a:pt x="1517" y="1715"/>
                </a:lnTo>
                <a:lnTo>
                  <a:pt x="1524" y="1715"/>
                </a:lnTo>
                <a:lnTo>
                  <a:pt x="1531" y="1715"/>
                </a:lnTo>
                <a:lnTo>
                  <a:pt x="1538" y="1722"/>
                </a:lnTo>
                <a:lnTo>
                  <a:pt x="1545" y="1722"/>
                </a:lnTo>
                <a:lnTo>
                  <a:pt x="1552" y="1722"/>
                </a:lnTo>
                <a:lnTo>
                  <a:pt x="1559" y="1729"/>
                </a:lnTo>
                <a:lnTo>
                  <a:pt x="1566" y="1729"/>
                </a:lnTo>
                <a:lnTo>
                  <a:pt x="1573" y="1729"/>
                </a:lnTo>
                <a:lnTo>
                  <a:pt x="1579" y="1736"/>
                </a:lnTo>
                <a:lnTo>
                  <a:pt x="1586" y="1736"/>
                </a:lnTo>
                <a:lnTo>
                  <a:pt x="1593" y="1736"/>
                </a:lnTo>
                <a:lnTo>
                  <a:pt x="1600" y="1742"/>
                </a:lnTo>
                <a:lnTo>
                  <a:pt x="1607" y="1742"/>
                </a:lnTo>
                <a:lnTo>
                  <a:pt x="1614" y="1742"/>
                </a:lnTo>
                <a:lnTo>
                  <a:pt x="1621" y="1742"/>
                </a:lnTo>
                <a:lnTo>
                  <a:pt x="1628" y="1742"/>
                </a:lnTo>
                <a:lnTo>
                  <a:pt x="1635" y="1736"/>
                </a:lnTo>
                <a:lnTo>
                  <a:pt x="1641" y="1736"/>
                </a:lnTo>
                <a:lnTo>
                  <a:pt x="1648" y="1736"/>
                </a:lnTo>
                <a:lnTo>
                  <a:pt x="1655" y="1736"/>
                </a:lnTo>
                <a:lnTo>
                  <a:pt x="1662" y="1742"/>
                </a:lnTo>
                <a:lnTo>
                  <a:pt x="1669" y="1742"/>
                </a:lnTo>
                <a:lnTo>
                  <a:pt x="1676" y="1749"/>
                </a:lnTo>
                <a:lnTo>
                  <a:pt x="1683" y="1749"/>
                </a:lnTo>
                <a:lnTo>
                  <a:pt x="1690" y="1756"/>
                </a:lnTo>
                <a:lnTo>
                  <a:pt x="1697" y="1756"/>
                </a:lnTo>
                <a:lnTo>
                  <a:pt x="1704" y="1763"/>
                </a:lnTo>
                <a:lnTo>
                  <a:pt x="1710" y="1756"/>
                </a:lnTo>
                <a:lnTo>
                  <a:pt x="1710" y="1749"/>
                </a:lnTo>
                <a:lnTo>
                  <a:pt x="1717" y="1742"/>
                </a:lnTo>
                <a:lnTo>
                  <a:pt x="1717" y="1729"/>
                </a:lnTo>
                <a:lnTo>
                  <a:pt x="1717" y="1715"/>
                </a:lnTo>
                <a:lnTo>
                  <a:pt x="1710" y="1708"/>
                </a:lnTo>
                <a:lnTo>
                  <a:pt x="1710" y="1694"/>
                </a:lnTo>
                <a:lnTo>
                  <a:pt x="1704" y="1687"/>
                </a:lnTo>
                <a:lnTo>
                  <a:pt x="1697" y="1680"/>
                </a:lnTo>
                <a:lnTo>
                  <a:pt x="1697" y="1674"/>
                </a:lnTo>
                <a:lnTo>
                  <a:pt x="1690" y="1667"/>
                </a:lnTo>
                <a:lnTo>
                  <a:pt x="1683" y="1660"/>
                </a:lnTo>
                <a:lnTo>
                  <a:pt x="1683" y="1646"/>
                </a:lnTo>
                <a:lnTo>
                  <a:pt x="1676" y="1639"/>
                </a:lnTo>
                <a:lnTo>
                  <a:pt x="1676" y="1632"/>
                </a:lnTo>
                <a:lnTo>
                  <a:pt x="1676" y="1618"/>
                </a:lnTo>
                <a:lnTo>
                  <a:pt x="1669" y="1612"/>
                </a:lnTo>
                <a:lnTo>
                  <a:pt x="1669" y="1598"/>
                </a:lnTo>
                <a:lnTo>
                  <a:pt x="1669" y="1584"/>
                </a:lnTo>
                <a:lnTo>
                  <a:pt x="1669" y="1577"/>
                </a:lnTo>
                <a:lnTo>
                  <a:pt x="1669" y="1563"/>
                </a:lnTo>
                <a:lnTo>
                  <a:pt x="1676" y="1556"/>
                </a:lnTo>
                <a:lnTo>
                  <a:pt x="1676" y="1543"/>
                </a:lnTo>
                <a:lnTo>
                  <a:pt x="1683" y="1536"/>
                </a:lnTo>
                <a:lnTo>
                  <a:pt x="1683" y="1522"/>
                </a:lnTo>
                <a:lnTo>
                  <a:pt x="1683" y="1515"/>
                </a:lnTo>
                <a:lnTo>
                  <a:pt x="1690" y="1501"/>
                </a:lnTo>
                <a:lnTo>
                  <a:pt x="1690" y="1494"/>
                </a:lnTo>
                <a:lnTo>
                  <a:pt x="1690" y="1481"/>
                </a:lnTo>
                <a:lnTo>
                  <a:pt x="1697" y="1474"/>
                </a:lnTo>
                <a:lnTo>
                  <a:pt x="1697" y="1460"/>
                </a:lnTo>
                <a:lnTo>
                  <a:pt x="1697" y="1453"/>
                </a:lnTo>
                <a:lnTo>
                  <a:pt x="1704" y="1439"/>
                </a:lnTo>
                <a:lnTo>
                  <a:pt x="1704" y="1432"/>
                </a:lnTo>
                <a:lnTo>
                  <a:pt x="1704" y="1419"/>
                </a:lnTo>
                <a:lnTo>
                  <a:pt x="1710" y="1412"/>
                </a:lnTo>
                <a:lnTo>
                  <a:pt x="1710" y="1398"/>
                </a:lnTo>
                <a:lnTo>
                  <a:pt x="1717" y="1391"/>
                </a:lnTo>
                <a:lnTo>
                  <a:pt x="1717" y="1384"/>
                </a:lnTo>
                <a:lnTo>
                  <a:pt x="1717" y="1370"/>
                </a:lnTo>
                <a:lnTo>
                  <a:pt x="1724" y="1364"/>
                </a:lnTo>
                <a:lnTo>
                  <a:pt x="1724" y="1350"/>
                </a:lnTo>
                <a:lnTo>
                  <a:pt x="1724" y="1343"/>
                </a:lnTo>
                <a:lnTo>
                  <a:pt x="1731" y="1329"/>
                </a:lnTo>
                <a:lnTo>
                  <a:pt x="1731" y="1322"/>
                </a:lnTo>
                <a:lnTo>
                  <a:pt x="1731" y="1308"/>
                </a:lnTo>
                <a:lnTo>
                  <a:pt x="1738" y="1302"/>
                </a:lnTo>
                <a:lnTo>
                  <a:pt x="1738" y="1288"/>
                </a:lnTo>
                <a:lnTo>
                  <a:pt x="1738" y="1281"/>
                </a:lnTo>
                <a:lnTo>
                  <a:pt x="1745" y="1267"/>
                </a:lnTo>
                <a:lnTo>
                  <a:pt x="1745" y="1260"/>
                </a:lnTo>
                <a:lnTo>
                  <a:pt x="1752" y="1246"/>
                </a:lnTo>
                <a:lnTo>
                  <a:pt x="1752" y="1240"/>
                </a:lnTo>
                <a:lnTo>
                  <a:pt x="1752" y="1226"/>
                </a:lnTo>
                <a:lnTo>
                  <a:pt x="1759" y="1219"/>
                </a:lnTo>
                <a:lnTo>
                  <a:pt x="1759" y="1205"/>
                </a:lnTo>
                <a:lnTo>
                  <a:pt x="1759" y="1198"/>
                </a:lnTo>
                <a:lnTo>
                  <a:pt x="1766" y="1184"/>
                </a:lnTo>
                <a:lnTo>
                  <a:pt x="1766" y="1178"/>
                </a:lnTo>
                <a:lnTo>
                  <a:pt x="1766" y="1164"/>
                </a:lnTo>
                <a:lnTo>
                  <a:pt x="1772" y="1157"/>
                </a:lnTo>
                <a:lnTo>
                  <a:pt x="1772" y="1143"/>
                </a:lnTo>
                <a:lnTo>
                  <a:pt x="1779" y="1136"/>
                </a:lnTo>
                <a:lnTo>
                  <a:pt x="1779" y="1129"/>
                </a:lnTo>
                <a:lnTo>
                  <a:pt x="1779" y="1116"/>
                </a:lnTo>
                <a:lnTo>
                  <a:pt x="1786" y="1109"/>
                </a:lnTo>
                <a:lnTo>
                  <a:pt x="1786" y="1095"/>
                </a:lnTo>
                <a:lnTo>
                  <a:pt x="1786" y="1088"/>
                </a:lnTo>
                <a:lnTo>
                  <a:pt x="1793" y="1074"/>
                </a:lnTo>
                <a:lnTo>
                  <a:pt x="1793" y="1067"/>
                </a:lnTo>
                <a:lnTo>
                  <a:pt x="1793" y="1054"/>
                </a:lnTo>
                <a:lnTo>
                  <a:pt x="1800" y="1047"/>
                </a:lnTo>
                <a:lnTo>
                  <a:pt x="1800" y="1033"/>
                </a:lnTo>
                <a:lnTo>
                  <a:pt x="1800" y="1026"/>
                </a:lnTo>
                <a:lnTo>
                  <a:pt x="1807" y="1012"/>
                </a:lnTo>
                <a:lnTo>
                  <a:pt x="1807" y="998"/>
                </a:lnTo>
                <a:lnTo>
                  <a:pt x="1814" y="998"/>
                </a:lnTo>
                <a:lnTo>
                  <a:pt x="1814" y="998"/>
                </a:lnTo>
                <a:lnTo>
                  <a:pt x="1821" y="1012"/>
                </a:lnTo>
                <a:lnTo>
                  <a:pt x="1828" y="1026"/>
                </a:lnTo>
                <a:lnTo>
                  <a:pt x="1828" y="1033"/>
                </a:lnTo>
                <a:lnTo>
                  <a:pt x="1835" y="1040"/>
                </a:lnTo>
                <a:lnTo>
                  <a:pt x="1835" y="1054"/>
                </a:lnTo>
                <a:lnTo>
                  <a:pt x="1841" y="1060"/>
                </a:lnTo>
                <a:lnTo>
                  <a:pt x="1841" y="1067"/>
                </a:lnTo>
                <a:lnTo>
                  <a:pt x="1841" y="1081"/>
                </a:lnTo>
                <a:lnTo>
                  <a:pt x="1848" y="1088"/>
                </a:lnTo>
                <a:lnTo>
                  <a:pt x="1848" y="1102"/>
                </a:lnTo>
                <a:lnTo>
                  <a:pt x="1855" y="1109"/>
                </a:lnTo>
                <a:lnTo>
                  <a:pt x="1855" y="1122"/>
                </a:lnTo>
                <a:lnTo>
                  <a:pt x="1862" y="1129"/>
                </a:lnTo>
                <a:lnTo>
                  <a:pt x="1862" y="1136"/>
                </a:lnTo>
                <a:lnTo>
                  <a:pt x="1876" y="1122"/>
                </a:lnTo>
                <a:lnTo>
                  <a:pt x="1876" y="1088"/>
                </a:lnTo>
                <a:lnTo>
                  <a:pt x="1876" y="1054"/>
                </a:lnTo>
                <a:lnTo>
                  <a:pt x="1876" y="1019"/>
                </a:lnTo>
                <a:lnTo>
                  <a:pt x="1876" y="985"/>
                </a:lnTo>
                <a:lnTo>
                  <a:pt x="1910" y="950"/>
                </a:lnTo>
                <a:lnTo>
                  <a:pt x="1910" y="916"/>
                </a:lnTo>
                <a:lnTo>
                  <a:pt x="1910" y="888"/>
                </a:lnTo>
                <a:lnTo>
                  <a:pt x="1910" y="854"/>
                </a:lnTo>
                <a:lnTo>
                  <a:pt x="1910" y="819"/>
                </a:lnTo>
                <a:lnTo>
                  <a:pt x="1910" y="785"/>
                </a:lnTo>
                <a:lnTo>
                  <a:pt x="1945" y="751"/>
                </a:lnTo>
                <a:lnTo>
                  <a:pt x="1945" y="716"/>
                </a:lnTo>
                <a:lnTo>
                  <a:pt x="1945" y="682"/>
                </a:lnTo>
                <a:lnTo>
                  <a:pt x="1945" y="647"/>
                </a:lnTo>
                <a:lnTo>
                  <a:pt x="1945" y="613"/>
                </a:lnTo>
                <a:lnTo>
                  <a:pt x="1945" y="578"/>
                </a:lnTo>
                <a:lnTo>
                  <a:pt x="1979" y="544"/>
                </a:lnTo>
                <a:lnTo>
                  <a:pt x="1979" y="509"/>
                </a:lnTo>
                <a:lnTo>
                  <a:pt x="1979" y="475"/>
                </a:lnTo>
                <a:lnTo>
                  <a:pt x="1979" y="441"/>
                </a:lnTo>
                <a:lnTo>
                  <a:pt x="1979" y="406"/>
                </a:lnTo>
                <a:lnTo>
                  <a:pt x="1979" y="372"/>
                </a:lnTo>
                <a:lnTo>
                  <a:pt x="2014" y="344"/>
                </a:lnTo>
                <a:lnTo>
                  <a:pt x="2014" y="310"/>
                </a:lnTo>
                <a:lnTo>
                  <a:pt x="2014" y="275"/>
                </a:lnTo>
                <a:lnTo>
                  <a:pt x="2014" y="241"/>
                </a:lnTo>
                <a:lnTo>
                  <a:pt x="2014" y="206"/>
                </a:lnTo>
                <a:lnTo>
                  <a:pt x="2014" y="172"/>
                </a:lnTo>
                <a:lnTo>
                  <a:pt x="2048" y="137"/>
                </a:lnTo>
                <a:lnTo>
                  <a:pt x="2048" y="103"/>
                </a:lnTo>
                <a:lnTo>
                  <a:pt x="2048" y="69"/>
                </a:lnTo>
                <a:lnTo>
                  <a:pt x="2048" y="34"/>
                </a:lnTo>
                <a:lnTo>
                  <a:pt x="2048" y="0"/>
                </a:lnTo>
                <a:lnTo>
                  <a:pt x="2014" y="0"/>
                </a:lnTo>
                <a:lnTo>
                  <a:pt x="1979" y="0"/>
                </a:lnTo>
                <a:lnTo>
                  <a:pt x="1945" y="0"/>
                </a:lnTo>
                <a:lnTo>
                  <a:pt x="1910" y="34"/>
                </a:lnTo>
                <a:lnTo>
                  <a:pt x="1876" y="34"/>
                </a:lnTo>
                <a:lnTo>
                  <a:pt x="1841" y="69"/>
                </a:lnTo>
                <a:lnTo>
                  <a:pt x="1807" y="69"/>
                </a:lnTo>
                <a:lnTo>
                  <a:pt x="1779" y="69"/>
                </a:lnTo>
                <a:lnTo>
                  <a:pt x="1745" y="103"/>
                </a:lnTo>
                <a:lnTo>
                  <a:pt x="1710" y="103"/>
                </a:lnTo>
                <a:lnTo>
                  <a:pt x="1676" y="137"/>
                </a:lnTo>
                <a:lnTo>
                  <a:pt x="1641" y="137"/>
                </a:lnTo>
                <a:lnTo>
                  <a:pt x="1607" y="172"/>
                </a:lnTo>
                <a:lnTo>
                  <a:pt x="1573" y="172"/>
                </a:lnTo>
                <a:lnTo>
                  <a:pt x="1538" y="206"/>
                </a:lnTo>
                <a:lnTo>
                  <a:pt x="1504" y="206"/>
                </a:lnTo>
                <a:lnTo>
                  <a:pt x="1469" y="206"/>
                </a:lnTo>
                <a:lnTo>
                  <a:pt x="1435" y="241"/>
                </a:lnTo>
                <a:lnTo>
                  <a:pt x="1400" y="241"/>
                </a:lnTo>
                <a:lnTo>
                  <a:pt x="1366" y="275"/>
                </a:lnTo>
                <a:lnTo>
                  <a:pt x="1331" y="275"/>
                </a:lnTo>
                <a:lnTo>
                  <a:pt x="1297" y="310"/>
                </a:lnTo>
                <a:lnTo>
                  <a:pt x="1262" y="310"/>
                </a:lnTo>
                <a:lnTo>
                  <a:pt x="1228" y="344"/>
                </a:lnTo>
                <a:lnTo>
                  <a:pt x="1193" y="344"/>
                </a:lnTo>
                <a:lnTo>
                  <a:pt x="1159" y="344"/>
                </a:lnTo>
                <a:lnTo>
                  <a:pt x="1124" y="372"/>
                </a:lnTo>
                <a:lnTo>
                  <a:pt x="1090" y="372"/>
                </a:lnTo>
                <a:lnTo>
                  <a:pt x="1062" y="406"/>
                </a:lnTo>
                <a:lnTo>
                  <a:pt x="1028" y="406"/>
                </a:lnTo>
                <a:lnTo>
                  <a:pt x="993" y="441"/>
                </a:lnTo>
                <a:lnTo>
                  <a:pt x="959" y="441"/>
                </a:lnTo>
                <a:lnTo>
                  <a:pt x="924" y="475"/>
                </a:lnTo>
                <a:lnTo>
                  <a:pt x="890" y="475"/>
                </a:lnTo>
                <a:lnTo>
                  <a:pt x="855" y="475"/>
                </a:lnTo>
                <a:lnTo>
                  <a:pt x="821" y="509"/>
                </a:lnTo>
                <a:lnTo>
                  <a:pt x="787" y="544"/>
                </a:lnTo>
                <a:lnTo>
                  <a:pt x="752" y="578"/>
                </a:lnTo>
                <a:lnTo>
                  <a:pt x="752" y="613"/>
                </a:lnTo>
                <a:lnTo>
                  <a:pt x="718" y="647"/>
                </a:lnTo>
                <a:lnTo>
                  <a:pt x="683" y="682"/>
                </a:lnTo>
                <a:lnTo>
                  <a:pt x="649" y="716"/>
                </a:lnTo>
                <a:lnTo>
                  <a:pt x="649" y="751"/>
                </a:lnTo>
                <a:lnTo>
                  <a:pt x="614" y="785"/>
                </a:lnTo>
                <a:lnTo>
                  <a:pt x="580" y="819"/>
                </a:lnTo>
                <a:lnTo>
                  <a:pt x="545" y="854"/>
                </a:lnTo>
                <a:lnTo>
                  <a:pt x="545" y="888"/>
                </a:lnTo>
                <a:lnTo>
                  <a:pt x="511" y="916"/>
                </a:lnTo>
                <a:lnTo>
                  <a:pt x="476" y="950"/>
                </a:lnTo>
                <a:lnTo>
                  <a:pt x="476" y="985"/>
                </a:lnTo>
                <a:lnTo>
                  <a:pt x="442" y="1019"/>
                </a:lnTo>
                <a:lnTo>
                  <a:pt x="442" y="1054"/>
                </a:lnTo>
                <a:lnTo>
                  <a:pt x="442" y="1088"/>
                </a:lnTo>
                <a:lnTo>
                  <a:pt x="407" y="1122"/>
                </a:lnTo>
                <a:lnTo>
                  <a:pt x="407" y="1157"/>
                </a:lnTo>
                <a:lnTo>
                  <a:pt x="373" y="1191"/>
                </a:lnTo>
                <a:lnTo>
                  <a:pt x="373" y="1226"/>
                </a:lnTo>
                <a:lnTo>
                  <a:pt x="338" y="1260"/>
                </a:lnTo>
                <a:lnTo>
                  <a:pt x="338" y="1295"/>
                </a:lnTo>
                <a:lnTo>
                  <a:pt x="311" y="1329"/>
                </a:lnTo>
                <a:lnTo>
                  <a:pt x="311" y="1364"/>
                </a:lnTo>
                <a:lnTo>
                  <a:pt x="276" y="1398"/>
                </a:lnTo>
                <a:lnTo>
                  <a:pt x="276" y="1426"/>
                </a:lnTo>
                <a:lnTo>
                  <a:pt x="276" y="1460"/>
                </a:lnTo>
                <a:lnTo>
                  <a:pt x="242" y="1494"/>
                </a:lnTo>
                <a:lnTo>
                  <a:pt x="242" y="1529"/>
                </a:lnTo>
                <a:lnTo>
                  <a:pt x="207" y="1563"/>
                </a:lnTo>
                <a:lnTo>
                  <a:pt x="207" y="1598"/>
                </a:lnTo>
                <a:lnTo>
                  <a:pt x="173" y="1632"/>
                </a:lnTo>
                <a:lnTo>
                  <a:pt x="173" y="1667"/>
                </a:lnTo>
                <a:lnTo>
                  <a:pt x="138" y="1701"/>
                </a:lnTo>
                <a:lnTo>
                  <a:pt x="138" y="1736"/>
                </a:lnTo>
                <a:lnTo>
                  <a:pt x="138" y="1770"/>
                </a:lnTo>
                <a:lnTo>
                  <a:pt x="104" y="1804"/>
                </a:lnTo>
                <a:lnTo>
                  <a:pt x="104" y="1839"/>
                </a:lnTo>
                <a:lnTo>
                  <a:pt x="69" y="1873"/>
                </a:lnTo>
                <a:lnTo>
                  <a:pt x="69" y="1908"/>
                </a:lnTo>
                <a:lnTo>
                  <a:pt x="69" y="1935"/>
                </a:lnTo>
                <a:lnTo>
                  <a:pt x="69" y="1970"/>
                </a:lnTo>
                <a:lnTo>
                  <a:pt x="69" y="2004"/>
                </a:lnTo>
                <a:lnTo>
                  <a:pt x="35" y="2039"/>
                </a:lnTo>
                <a:lnTo>
                  <a:pt x="35" y="2073"/>
                </a:lnTo>
                <a:lnTo>
                  <a:pt x="35" y="2108"/>
                </a:lnTo>
                <a:lnTo>
                  <a:pt x="35" y="2142"/>
                </a:lnTo>
                <a:lnTo>
                  <a:pt x="0" y="2176"/>
                </a:lnTo>
                <a:lnTo>
                  <a:pt x="0" y="2211"/>
                </a:lnTo>
                <a:lnTo>
                  <a:pt x="0" y="2245"/>
                </a:lnTo>
                <a:lnTo>
                  <a:pt x="0" y="2280"/>
                </a:lnTo>
                <a:lnTo>
                  <a:pt x="0" y="2314"/>
                </a:lnTo>
                <a:lnTo>
                  <a:pt x="0" y="2349"/>
                </a:lnTo>
                <a:lnTo>
                  <a:pt x="0" y="2383"/>
                </a:lnTo>
                <a:lnTo>
                  <a:pt x="0" y="2418"/>
                </a:lnTo>
                <a:lnTo>
                  <a:pt x="0" y="2452"/>
                </a:lnTo>
                <a:lnTo>
                  <a:pt x="0" y="2480"/>
                </a:lnTo>
                <a:lnTo>
                  <a:pt x="0" y="2514"/>
                </a:lnTo>
                <a:lnTo>
                  <a:pt x="0" y="2548"/>
                </a:lnTo>
                <a:lnTo>
                  <a:pt x="0" y="2583"/>
                </a:lnTo>
                <a:lnTo>
                  <a:pt x="35" y="2617"/>
                </a:lnTo>
                <a:lnTo>
                  <a:pt x="35" y="2652"/>
                </a:lnTo>
                <a:lnTo>
                  <a:pt x="35" y="2686"/>
                </a:lnTo>
                <a:lnTo>
                  <a:pt x="35" y="2721"/>
                </a:lnTo>
                <a:lnTo>
                  <a:pt x="35" y="2755"/>
                </a:lnTo>
                <a:lnTo>
                  <a:pt x="35" y="2789"/>
                </a:lnTo>
                <a:lnTo>
                  <a:pt x="35" y="2824"/>
                </a:lnTo>
                <a:lnTo>
                  <a:pt x="35" y="2858"/>
                </a:lnTo>
                <a:lnTo>
                  <a:pt x="35" y="2893"/>
                </a:lnTo>
                <a:lnTo>
                  <a:pt x="69" y="2927"/>
                </a:lnTo>
                <a:lnTo>
                  <a:pt x="69" y="2962"/>
                </a:lnTo>
                <a:lnTo>
                  <a:pt x="90" y="2982"/>
                </a:lnTo>
                <a:lnTo>
                  <a:pt x="97" y="2975"/>
                </a:lnTo>
                <a:lnTo>
                  <a:pt x="104" y="2975"/>
                </a:lnTo>
                <a:lnTo>
                  <a:pt x="111" y="2969"/>
                </a:lnTo>
                <a:lnTo>
                  <a:pt x="118" y="2969"/>
                </a:lnTo>
                <a:lnTo>
                  <a:pt x="125" y="2962"/>
                </a:lnTo>
                <a:lnTo>
                  <a:pt x="131" y="2962"/>
                </a:lnTo>
                <a:lnTo>
                  <a:pt x="138" y="2962"/>
                </a:lnTo>
                <a:lnTo>
                  <a:pt x="152" y="2955"/>
                </a:lnTo>
                <a:lnTo>
                  <a:pt x="159" y="2955"/>
                </a:lnTo>
                <a:lnTo>
                  <a:pt x="166" y="2962"/>
                </a:lnTo>
                <a:lnTo>
                  <a:pt x="173" y="2962"/>
                </a:lnTo>
                <a:lnTo>
                  <a:pt x="180" y="2969"/>
                </a:lnTo>
                <a:lnTo>
                  <a:pt x="180" y="2975"/>
                </a:lnTo>
                <a:lnTo>
                  <a:pt x="187" y="2982"/>
                </a:lnTo>
                <a:lnTo>
                  <a:pt x="194" y="2996"/>
                </a:lnTo>
                <a:lnTo>
                  <a:pt x="200" y="3003"/>
                </a:lnTo>
                <a:lnTo>
                  <a:pt x="200" y="3017"/>
                </a:lnTo>
                <a:lnTo>
                  <a:pt x="200" y="3024"/>
                </a:lnTo>
                <a:lnTo>
                  <a:pt x="194" y="3037"/>
                </a:lnTo>
                <a:lnTo>
                  <a:pt x="194" y="3044"/>
                </a:lnTo>
                <a:lnTo>
                  <a:pt x="187" y="3058"/>
                </a:lnTo>
                <a:lnTo>
                  <a:pt x="187" y="3065"/>
                </a:lnTo>
                <a:lnTo>
                  <a:pt x="187" y="3079"/>
                </a:lnTo>
                <a:lnTo>
                  <a:pt x="207" y="3093"/>
                </a:lnTo>
                <a:lnTo>
                  <a:pt x="242" y="3127"/>
                </a:lnTo>
                <a:lnTo>
                  <a:pt x="276" y="3161"/>
                </a:lnTo>
                <a:lnTo>
                  <a:pt x="311" y="3196"/>
                </a:lnTo>
                <a:lnTo>
                  <a:pt x="338" y="3196"/>
                </a:lnTo>
                <a:lnTo>
                  <a:pt x="373" y="3230"/>
                </a:lnTo>
                <a:lnTo>
                  <a:pt x="407" y="3230"/>
                </a:lnTo>
                <a:lnTo>
                  <a:pt x="442" y="3230"/>
                </a:lnTo>
                <a:lnTo>
                  <a:pt x="476" y="3265"/>
                </a:lnTo>
                <a:lnTo>
                  <a:pt x="511" y="3265"/>
                </a:lnTo>
                <a:lnTo>
                  <a:pt x="545" y="3299"/>
                </a:lnTo>
                <a:lnTo>
                  <a:pt x="580" y="3299"/>
                </a:lnTo>
                <a:lnTo>
                  <a:pt x="614" y="3299"/>
                </a:lnTo>
                <a:lnTo>
                  <a:pt x="649" y="3299"/>
                </a:lnTo>
                <a:lnTo>
                  <a:pt x="683" y="3299"/>
                </a:lnTo>
                <a:lnTo>
                  <a:pt x="718" y="3299"/>
                </a:lnTo>
                <a:close/>
                <a:moveTo>
                  <a:pt x="373" y="2858"/>
                </a:moveTo>
                <a:lnTo>
                  <a:pt x="373" y="2845"/>
                </a:lnTo>
                <a:lnTo>
                  <a:pt x="366" y="2831"/>
                </a:lnTo>
                <a:lnTo>
                  <a:pt x="366" y="2824"/>
                </a:lnTo>
                <a:lnTo>
                  <a:pt x="359" y="2817"/>
                </a:lnTo>
                <a:lnTo>
                  <a:pt x="352" y="2810"/>
                </a:lnTo>
                <a:lnTo>
                  <a:pt x="345" y="2810"/>
                </a:lnTo>
                <a:lnTo>
                  <a:pt x="338" y="2803"/>
                </a:lnTo>
                <a:lnTo>
                  <a:pt x="325" y="2803"/>
                </a:lnTo>
                <a:lnTo>
                  <a:pt x="318" y="2796"/>
                </a:lnTo>
                <a:lnTo>
                  <a:pt x="318" y="2789"/>
                </a:lnTo>
                <a:lnTo>
                  <a:pt x="318" y="2776"/>
                </a:lnTo>
                <a:lnTo>
                  <a:pt x="318" y="2762"/>
                </a:lnTo>
                <a:lnTo>
                  <a:pt x="318" y="2748"/>
                </a:lnTo>
                <a:lnTo>
                  <a:pt x="311" y="2748"/>
                </a:lnTo>
                <a:lnTo>
                  <a:pt x="297" y="2741"/>
                </a:lnTo>
                <a:lnTo>
                  <a:pt x="290" y="2734"/>
                </a:lnTo>
                <a:lnTo>
                  <a:pt x="283" y="2734"/>
                </a:lnTo>
                <a:lnTo>
                  <a:pt x="276" y="2734"/>
                </a:lnTo>
                <a:lnTo>
                  <a:pt x="269" y="2734"/>
                </a:lnTo>
                <a:lnTo>
                  <a:pt x="262" y="2734"/>
                </a:lnTo>
                <a:lnTo>
                  <a:pt x="256" y="2734"/>
                </a:lnTo>
                <a:lnTo>
                  <a:pt x="249" y="2734"/>
                </a:lnTo>
                <a:lnTo>
                  <a:pt x="242" y="2734"/>
                </a:lnTo>
                <a:lnTo>
                  <a:pt x="228" y="2727"/>
                </a:lnTo>
                <a:lnTo>
                  <a:pt x="221" y="2727"/>
                </a:lnTo>
                <a:lnTo>
                  <a:pt x="214" y="2727"/>
                </a:lnTo>
                <a:lnTo>
                  <a:pt x="214" y="2721"/>
                </a:lnTo>
                <a:lnTo>
                  <a:pt x="214" y="2707"/>
                </a:lnTo>
                <a:lnTo>
                  <a:pt x="221" y="2700"/>
                </a:lnTo>
                <a:lnTo>
                  <a:pt x="228" y="2686"/>
                </a:lnTo>
                <a:lnTo>
                  <a:pt x="228" y="2672"/>
                </a:lnTo>
                <a:lnTo>
                  <a:pt x="235" y="2665"/>
                </a:lnTo>
                <a:lnTo>
                  <a:pt x="235" y="2652"/>
                </a:lnTo>
                <a:lnTo>
                  <a:pt x="242" y="2645"/>
                </a:lnTo>
                <a:lnTo>
                  <a:pt x="242" y="2631"/>
                </a:lnTo>
                <a:lnTo>
                  <a:pt x="249" y="2624"/>
                </a:lnTo>
                <a:lnTo>
                  <a:pt x="249" y="2610"/>
                </a:lnTo>
                <a:lnTo>
                  <a:pt x="256" y="2597"/>
                </a:lnTo>
                <a:lnTo>
                  <a:pt x="256" y="2590"/>
                </a:lnTo>
                <a:lnTo>
                  <a:pt x="262" y="2583"/>
                </a:lnTo>
                <a:lnTo>
                  <a:pt x="269" y="2576"/>
                </a:lnTo>
                <a:lnTo>
                  <a:pt x="276" y="2576"/>
                </a:lnTo>
                <a:lnTo>
                  <a:pt x="283" y="2576"/>
                </a:lnTo>
                <a:lnTo>
                  <a:pt x="297" y="2576"/>
                </a:lnTo>
                <a:lnTo>
                  <a:pt x="304" y="2583"/>
                </a:lnTo>
                <a:lnTo>
                  <a:pt x="311" y="2583"/>
                </a:lnTo>
                <a:lnTo>
                  <a:pt x="318" y="2583"/>
                </a:lnTo>
                <a:lnTo>
                  <a:pt x="325" y="2583"/>
                </a:lnTo>
                <a:lnTo>
                  <a:pt x="331" y="2583"/>
                </a:lnTo>
                <a:lnTo>
                  <a:pt x="338" y="2583"/>
                </a:lnTo>
                <a:lnTo>
                  <a:pt x="345" y="2590"/>
                </a:lnTo>
                <a:lnTo>
                  <a:pt x="352" y="2590"/>
                </a:lnTo>
                <a:lnTo>
                  <a:pt x="366" y="2590"/>
                </a:lnTo>
                <a:lnTo>
                  <a:pt x="373" y="2590"/>
                </a:lnTo>
                <a:lnTo>
                  <a:pt x="380" y="2590"/>
                </a:lnTo>
                <a:lnTo>
                  <a:pt x="387" y="2590"/>
                </a:lnTo>
                <a:lnTo>
                  <a:pt x="393" y="2590"/>
                </a:lnTo>
                <a:lnTo>
                  <a:pt x="400" y="2597"/>
                </a:lnTo>
                <a:lnTo>
                  <a:pt x="407" y="2597"/>
                </a:lnTo>
                <a:lnTo>
                  <a:pt x="414" y="2597"/>
                </a:lnTo>
                <a:lnTo>
                  <a:pt x="421" y="2597"/>
                </a:lnTo>
                <a:lnTo>
                  <a:pt x="428" y="2597"/>
                </a:lnTo>
                <a:lnTo>
                  <a:pt x="442" y="2597"/>
                </a:lnTo>
                <a:lnTo>
                  <a:pt x="449" y="2603"/>
                </a:lnTo>
                <a:lnTo>
                  <a:pt x="456" y="2603"/>
                </a:lnTo>
                <a:lnTo>
                  <a:pt x="462" y="2603"/>
                </a:lnTo>
                <a:lnTo>
                  <a:pt x="469" y="2610"/>
                </a:lnTo>
                <a:lnTo>
                  <a:pt x="476" y="2617"/>
                </a:lnTo>
                <a:lnTo>
                  <a:pt x="483" y="2624"/>
                </a:lnTo>
                <a:lnTo>
                  <a:pt x="483" y="2631"/>
                </a:lnTo>
                <a:lnTo>
                  <a:pt x="490" y="2645"/>
                </a:lnTo>
                <a:lnTo>
                  <a:pt x="497" y="2652"/>
                </a:lnTo>
                <a:lnTo>
                  <a:pt x="504" y="2659"/>
                </a:lnTo>
                <a:lnTo>
                  <a:pt x="511" y="2665"/>
                </a:lnTo>
                <a:lnTo>
                  <a:pt x="518" y="2672"/>
                </a:lnTo>
                <a:lnTo>
                  <a:pt x="524" y="2672"/>
                </a:lnTo>
                <a:lnTo>
                  <a:pt x="531" y="2679"/>
                </a:lnTo>
                <a:lnTo>
                  <a:pt x="538" y="2686"/>
                </a:lnTo>
                <a:lnTo>
                  <a:pt x="545" y="2693"/>
                </a:lnTo>
                <a:lnTo>
                  <a:pt x="552" y="2693"/>
                </a:lnTo>
                <a:lnTo>
                  <a:pt x="559" y="2700"/>
                </a:lnTo>
                <a:lnTo>
                  <a:pt x="566" y="2707"/>
                </a:lnTo>
                <a:lnTo>
                  <a:pt x="573" y="2714"/>
                </a:lnTo>
                <a:lnTo>
                  <a:pt x="580" y="2714"/>
                </a:lnTo>
                <a:lnTo>
                  <a:pt x="587" y="2721"/>
                </a:lnTo>
                <a:lnTo>
                  <a:pt x="593" y="2727"/>
                </a:lnTo>
                <a:lnTo>
                  <a:pt x="600" y="2734"/>
                </a:lnTo>
                <a:lnTo>
                  <a:pt x="607" y="2734"/>
                </a:lnTo>
                <a:lnTo>
                  <a:pt x="614" y="2741"/>
                </a:lnTo>
                <a:lnTo>
                  <a:pt x="621" y="2741"/>
                </a:lnTo>
                <a:lnTo>
                  <a:pt x="628" y="2748"/>
                </a:lnTo>
                <a:lnTo>
                  <a:pt x="635" y="2755"/>
                </a:lnTo>
                <a:lnTo>
                  <a:pt x="635" y="2769"/>
                </a:lnTo>
                <a:lnTo>
                  <a:pt x="628" y="2783"/>
                </a:lnTo>
                <a:lnTo>
                  <a:pt x="621" y="2789"/>
                </a:lnTo>
                <a:lnTo>
                  <a:pt x="614" y="2789"/>
                </a:lnTo>
                <a:lnTo>
                  <a:pt x="607" y="2796"/>
                </a:lnTo>
                <a:lnTo>
                  <a:pt x="600" y="2796"/>
                </a:lnTo>
                <a:lnTo>
                  <a:pt x="593" y="2796"/>
                </a:lnTo>
                <a:lnTo>
                  <a:pt x="580" y="2803"/>
                </a:lnTo>
                <a:lnTo>
                  <a:pt x="573" y="2803"/>
                </a:lnTo>
                <a:lnTo>
                  <a:pt x="566" y="2803"/>
                </a:lnTo>
                <a:lnTo>
                  <a:pt x="559" y="2810"/>
                </a:lnTo>
                <a:lnTo>
                  <a:pt x="552" y="2810"/>
                </a:lnTo>
                <a:lnTo>
                  <a:pt x="545" y="2817"/>
                </a:lnTo>
                <a:lnTo>
                  <a:pt x="538" y="2817"/>
                </a:lnTo>
                <a:lnTo>
                  <a:pt x="531" y="2817"/>
                </a:lnTo>
                <a:lnTo>
                  <a:pt x="524" y="2824"/>
                </a:lnTo>
                <a:lnTo>
                  <a:pt x="518" y="2824"/>
                </a:lnTo>
                <a:lnTo>
                  <a:pt x="511" y="2824"/>
                </a:lnTo>
                <a:lnTo>
                  <a:pt x="504" y="2831"/>
                </a:lnTo>
                <a:lnTo>
                  <a:pt x="497" y="2831"/>
                </a:lnTo>
                <a:lnTo>
                  <a:pt x="483" y="2838"/>
                </a:lnTo>
                <a:lnTo>
                  <a:pt x="476" y="2838"/>
                </a:lnTo>
                <a:lnTo>
                  <a:pt x="469" y="2838"/>
                </a:lnTo>
                <a:lnTo>
                  <a:pt x="462" y="2845"/>
                </a:lnTo>
                <a:lnTo>
                  <a:pt x="456" y="2845"/>
                </a:lnTo>
                <a:lnTo>
                  <a:pt x="449" y="2845"/>
                </a:lnTo>
                <a:lnTo>
                  <a:pt x="442" y="2851"/>
                </a:lnTo>
                <a:lnTo>
                  <a:pt x="435" y="2851"/>
                </a:lnTo>
                <a:lnTo>
                  <a:pt x="428" y="2858"/>
                </a:lnTo>
                <a:lnTo>
                  <a:pt x="421" y="2858"/>
                </a:lnTo>
                <a:lnTo>
                  <a:pt x="414" y="2858"/>
                </a:lnTo>
                <a:lnTo>
                  <a:pt x="400" y="2865"/>
                </a:lnTo>
                <a:lnTo>
                  <a:pt x="393" y="2865"/>
                </a:lnTo>
                <a:lnTo>
                  <a:pt x="387" y="2865"/>
                </a:lnTo>
                <a:lnTo>
                  <a:pt x="380" y="2865"/>
                </a:lnTo>
                <a:lnTo>
                  <a:pt x="373" y="2858"/>
                </a:lnTo>
                <a:close/>
                <a:moveTo>
                  <a:pt x="1021" y="1667"/>
                </a:moveTo>
                <a:lnTo>
                  <a:pt x="1021" y="1660"/>
                </a:lnTo>
                <a:lnTo>
                  <a:pt x="1028" y="1646"/>
                </a:lnTo>
                <a:lnTo>
                  <a:pt x="1028" y="1632"/>
                </a:lnTo>
                <a:lnTo>
                  <a:pt x="1035" y="1625"/>
                </a:lnTo>
                <a:lnTo>
                  <a:pt x="1035" y="1618"/>
                </a:lnTo>
                <a:lnTo>
                  <a:pt x="1042" y="1605"/>
                </a:lnTo>
                <a:lnTo>
                  <a:pt x="1042" y="1598"/>
                </a:lnTo>
                <a:lnTo>
                  <a:pt x="1049" y="1584"/>
                </a:lnTo>
                <a:lnTo>
                  <a:pt x="1049" y="1577"/>
                </a:lnTo>
                <a:lnTo>
                  <a:pt x="1055" y="1563"/>
                </a:lnTo>
                <a:lnTo>
                  <a:pt x="1062" y="1556"/>
                </a:lnTo>
                <a:lnTo>
                  <a:pt x="1069" y="1556"/>
                </a:lnTo>
                <a:lnTo>
                  <a:pt x="1076" y="1550"/>
                </a:lnTo>
                <a:lnTo>
                  <a:pt x="1083" y="1543"/>
                </a:lnTo>
                <a:lnTo>
                  <a:pt x="1090" y="1536"/>
                </a:lnTo>
                <a:lnTo>
                  <a:pt x="1097" y="1529"/>
                </a:lnTo>
                <a:lnTo>
                  <a:pt x="1097" y="1522"/>
                </a:lnTo>
                <a:lnTo>
                  <a:pt x="1097" y="1508"/>
                </a:lnTo>
                <a:lnTo>
                  <a:pt x="1097" y="1494"/>
                </a:lnTo>
                <a:lnTo>
                  <a:pt x="1097" y="1488"/>
                </a:lnTo>
                <a:lnTo>
                  <a:pt x="1104" y="1474"/>
                </a:lnTo>
                <a:lnTo>
                  <a:pt x="1104" y="1467"/>
                </a:lnTo>
                <a:lnTo>
                  <a:pt x="1111" y="1453"/>
                </a:lnTo>
                <a:lnTo>
                  <a:pt x="1117" y="1446"/>
                </a:lnTo>
                <a:lnTo>
                  <a:pt x="1124" y="1439"/>
                </a:lnTo>
                <a:lnTo>
                  <a:pt x="1131" y="1439"/>
                </a:lnTo>
                <a:lnTo>
                  <a:pt x="1138" y="1439"/>
                </a:lnTo>
                <a:lnTo>
                  <a:pt x="1145" y="1446"/>
                </a:lnTo>
                <a:lnTo>
                  <a:pt x="1152" y="1446"/>
                </a:lnTo>
                <a:lnTo>
                  <a:pt x="1159" y="1453"/>
                </a:lnTo>
                <a:lnTo>
                  <a:pt x="1166" y="1460"/>
                </a:lnTo>
                <a:lnTo>
                  <a:pt x="1173" y="1460"/>
                </a:lnTo>
                <a:lnTo>
                  <a:pt x="1180" y="1467"/>
                </a:lnTo>
                <a:lnTo>
                  <a:pt x="1186" y="1467"/>
                </a:lnTo>
                <a:lnTo>
                  <a:pt x="1193" y="1474"/>
                </a:lnTo>
                <a:lnTo>
                  <a:pt x="1200" y="1474"/>
                </a:lnTo>
                <a:lnTo>
                  <a:pt x="1207" y="1481"/>
                </a:lnTo>
                <a:lnTo>
                  <a:pt x="1214" y="1481"/>
                </a:lnTo>
                <a:lnTo>
                  <a:pt x="1221" y="1481"/>
                </a:lnTo>
                <a:lnTo>
                  <a:pt x="1228" y="1488"/>
                </a:lnTo>
                <a:lnTo>
                  <a:pt x="1235" y="1488"/>
                </a:lnTo>
                <a:lnTo>
                  <a:pt x="1242" y="1494"/>
                </a:lnTo>
                <a:lnTo>
                  <a:pt x="1248" y="1494"/>
                </a:lnTo>
                <a:lnTo>
                  <a:pt x="1255" y="1501"/>
                </a:lnTo>
                <a:lnTo>
                  <a:pt x="1262" y="1501"/>
                </a:lnTo>
                <a:lnTo>
                  <a:pt x="1269" y="1508"/>
                </a:lnTo>
                <a:lnTo>
                  <a:pt x="1276" y="1508"/>
                </a:lnTo>
                <a:lnTo>
                  <a:pt x="1283" y="1515"/>
                </a:lnTo>
                <a:lnTo>
                  <a:pt x="1290" y="1515"/>
                </a:lnTo>
                <a:lnTo>
                  <a:pt x="1304" y="1522"/>
                </a:lnTo>
                <a:lnTo>
                  <a:pt x="1311" y="1522"/>
                </a:lnTo>
                <a:lnTo>
                  <a:pt x="1317" y="1522"/>
                </a:lnTo>
                <a:lnTo>
                  <a:pt x="1324" y="1529"/>
                </a:lnTo>
                <a:lnTo>
                  <a:pt x="1324" y="1536"/>
                </a:lnTo>
                <a:lnTo>
                  <a:pt x="1317" y="1536"/>
                </a:lnTo>
                <a:lnTo>
                  <a:pt x="1311" y="1543"/>
                </a:lnTo>
                <a:lnTo>
                  <a:pt x="1304" y="1550"/>
                </a:lnTo>
                <a:lnTo>
                  <a:pt x="1297" y="1556"/>
                </a:lnTo>
                <a:lnTo>
                  <a:pt x="1297" y="1570"/>
                </a:lnTo>
                <a:lnTo>
                  <a:pt x="1290" y="1577"/>
                </a:lnTo>
                <a:lnTo>
                  <a:pt x="1283" y="1584"/>
                </a:lnTo>
                <a:lnTo>
                  <a:pt x="1276" y="1591"/>
                </a:lnTo>
                <a:lnTo>
                  <a:pt x="1269" y="1591"/>
                </a:lnTo>
                <a:lnTo>
                  <a:pt x="1262" y="1598"/>
                </a:lnTo>
                <a:lnTo>
                  <a:pt x="1255" y="1605"/>
                </a:lnTo>
                <a:lnTo>
                  <a:pt x="1248" y="1612"/>
                </a:lnTo>
                <a:lnTo>
                  <a:pt x="1242" y="1612"/>
                </a:lnTo>
                <a:lnTo>
                  <a:pt x="1235" y="1618"/>
                </a:lnTo>
                <a:lnTo>
                  <a:pt x="1228" y="1618"/>
                </a:lnTo>
                <a:lnTo>
                  <a:pt x="1221" y="1625"/>
                </a:lnTo>
                <a:lnTo>
                  <a:pt x="1214" y="1625"/>
                </a:lnTo>
                <a:lnTo>
                  <a:pt x="1207" y="1625"/>
                </a:lnTo>
                <a:lnTo>
                  <a:pt x="1200" y="1625"/>
                </a:lnTo>
                <a:lnTo>
                  <a:pt x="1193" y="1632"/>
                </a:lnTo>
                <a:lnTo>
                  <a:pt x="1186" y="1632"/>
                </a:lnTo>
                <a:lnTo>
                  <a:pt x="1180" y="1632"/>
                </a:lnTo>
                <a:lnTo>
                  <a:pt x="1173" y="1632"/>
                </a:lnTo>
                <a:lnTo>
                  <a:pt x="1166" y="1632"/>
                </a:lnTo>
                <a:lnTo>
                  <a:pt x="1152" y="1632"/>
                </a:lnTo>
                <a:lnTo>
                  <a:pt x="1145" y="1632"/>
                </a:lnTo>
                <a:lnTo>
                  <a:pt x="1138" y="1632"/>
                </a:lnTo>
                <a:lnTo>
                  <a:pt x="1131" y="1639"/>
                </a:lnTo>
                <a:lnTo>
                  <a:pt x="1124" y="1639"/>
                </a:lnTo>
                <a:lnTo>
                  <a:pt x="1117" y="1639"/>
                </a:lnTo>
                <a:lnTo>
                  <a:pt x="1111" y="1639"/>
                </a:lnTo>
                <a:lnTo>
                  <a:pt x="1104" y="1646"/>
                </a:lnTo>
                <a:lnTo>
                  <a:pt x="1097" y="1646"/>
                </a:lnTo>
                <a:lnTo>
                  <a:pt x="1090" y="1646"/>
                </a:lnTo>
                <a:lnTo>
                  <a:pt x="1083" y="1653"/>
                </a:lnTo>
                <a:lnTo>
                  <a:pt x="1076" y="1653"/>
                </a:lnTo>
                <a:lnTo>
                  <a:pt x="1069" y="1660"/>
                </a:lnTo>
                <a:lnTo>
                  <a:pt x="1062" y="1660"/>
                </a:lnTo>
                <a:lnTo>
                  <a:pt x="1055" y="1660"/>
                </a:lnTo>
                <a:lnTo>
                  <a:pt x="1049" y="1667"/>
                </a:lnTo>
                <a:lnTo>
                  <a:pt x="1042" y="1667"/>
                </a:lnTo>
                <a:lnTo>
                  <a:pt x="1035" y="1674"/>
                </a:lnTo>
                <a:lnTo>
                  <a:pt x="1028" y="1674"/>
                </a:lnTo>
                <a:lnTo>
                  <a:pt x="1021" y="1667"/>
                </a:lnTo>
                <a:close/>
                <a:moveTo>
                  <a:pt x="407" y="1598"/>
                </a:moveTo>
                <a:lnTo>
                  <a:pt x="400" y="1591"/>
                </a:lnTo>
                <a:lnTo>
                  <a:pt x="400" y="1577"/>
                </a:lnTo>
                <a:lnTo>
                  <a:pt x="400" y="1570"/>
                </a:lnTo>
                <a:lnTo>
                  <a:pt x="407" y="1556"/>
                </a:lnTo>
                <a:lnTo>
                  <a:pt x="407" y="1550"/>
                </a:lnTo>
                <a:lnTo>
                  <a:pt x="414" y="1543"/>
                </a:lnTo>
                <a:lnTo>
                  <a:pt x="414" y="1529"/>
                </a:lnTo>
                <a:lnTo>
                  <a:pt x="421" y="1522"/>
                </a:lnTo>
                <a:lnTo>
                  <a:pt x="421" y="1515"/>
                </a:lnTo>
                <a:lnTo>
                  <a:pt x="428" y="1501"/>
                </a:lnTo>
                <a:lnTo>
                  <a:pt x="428" y="1494"/>
                </a:lnTo>
                <a:lnTo>
                  <a:pt x="435" y="1488"/>
                </a:lnTo>
                <a:lnTo>
                  <a:pt x="435" y="1481"/>
                </a:lnTo>
                <a:lnTo>
                  <a:pt x="442" y="1467"/>
                </a:lnTo>
                <a:lnTo>
                  <a:pt x="442" y="1460"/>
                </a:lnTo>
                <a:lnTo>
                  <a:pt x="449" y="1453"/>
                </a:lnTo>
                <a:lnTo>
                  <a:pt x="449" y="1439"/>
                </a:lnTo>
                <a:lnTo>
                  <a:pt x="456" y="1432"/>
                </a:lnTo>
                <a:lnTo>
                  <a:pt x="456" y="1419"/>
                </a:lnTo>
                <a:lnTo>
                  <a:pt x="462" y="1412"/>
                </a:lnTo>
                <a:lnTo>
                  <a:pt x="462" y="1405"/>
                </a:lnTo>
                <a:lnTo>
                  <a:pt x="462" y="1391"/>
                </a:lnTo>
                <a:lnTo>
                  <a:pt x="469" y="1384"/>
                </a:lnTo>
                <a:lnTo>
                  <a:pt x="469" y="1370"/>
                </a:lnTo>
                <a:lnTo>
                  <a:pt x="469" y="1364"/>
                </a:lnTo>
                <a:lnTo>
                  <a:pt x="476" y="1357"/>
                </a:lnTo>
                <a:lnTo>
                  <a:pt x="476" y="1343"/>
                </a:lnTo>
                <a:lnTo>
                  <a:pt x="476" y="1336"/>
                </a:lnTo>
                <a:lnTo>
                  <a:pt x="476" y="1322"/>
                </a:lnTo>
                <a:lnTo>
                  <a:pt x="476" y="1315"/>
                </a:lnTo>
                <a:lnTo>
                  <a:pt x="469" y="1302"/>
                </a:lnTo>
                <a:lnTo>
                  <a:pt x="469" y="1295"/>
                </a:lnTo>
                <a:lnTo>
                  <a:pt x="476" y="1288"/>
                </a:lnTo>
                <a:lnTo>
                  <a:pt x="483" y="1281"/>
                </a:lnTo>
                <a:lnTo>
                  <a:pt x="490" y="1281"/>
                </a:lnTo>
                <a:lnTo>
                  <a:pt x="497" y="1274"/>
                </a:lnTo>
                <a:lnTo>
                  <a:pt x="504" y="1274"/>
                </a:lnTo>
                <a:lnTo>
                  <a:pt x="511" y="1274"/>
                </a:lnTo>
                <a:lnTo>
                  <a:pt x="518" y="1267"/>
                </a:lnTo>
                <a:lnTo>
                  <a:pt x="524" y="1274"/>
                </a:lnTo>
                <a:lnTo>
                  <a:pt x="531" y="1274"/>
                </a:lnTo>
                <a:lnTo>
                  <a:pt x="538" y="1274"/>
                </a:lnTo>
                <a:lnTo>
                  <a:pt x="538" y="1274"/>
                </a:lnTo>
                <a:lnTo>
                  <a:pt x="545" y="1281"/>
                </a:lnTo>
                <a:lnTo>
                  <a:pt x="552" y="1281"/>
                </a:lnTo>
                <a:lnTo>
                  <a:pt x="559" y="1281"/>
                </a:lnTo>
                <a:lnTo>
                  <a:pt x="566" y="1288"/>
                </a:lnTo>
                <a:lnTo>
                  <a:pt x="573" y="1295"/>
                </a:lnTo>
                <a:lnTo>
                  <a:pt x="580" y="1295"/>
                </a:lnTo>
                <a:lnTo>
                  <a:pt x="587" y="1302"/>
                </a:lnTo>
                <a:lnTo>
                  <a:pt x="593" y="1302"/>
                </a:lnTo>
                <a:lnTo>
                  <a:pt x="600" y="1302"/>
                </a:lnTo>
                <a:lnTo>
                  <a:pt x="607" y="1308"/>
                </a:lnTo>
                <a:lnTo>
                  <a:pt x="614" y="1308"/>
                </a:lnTo>
                <a:lnTo>
                  <a:pt x="621" y="1308"/>
                </a:lnTo>
                <a:lnTo>
                  <a:pt x="621" y="1308"/>
                </a:lnTo>
                <a:lnTo>
                  <a:pt x="628" y="1315"/>
                </a:lnTo>
                <a:lnTo>
                  <a:pt x="635" y="1315"/>
                </a:lnTo>
                <a:lnTo>
                  <a:pt x="642" y="1322"/>
                </a:lnTo>
                <a:lnTo>
                  <a:pt x="649" y="1322"/>
                </a:lnTo>
                <a:lnTo>
                  <a:pt x="656" y="1322"/>
                </a:lnTo>
                <a:lnTo>
                  <a:pt x="662" y="1329"/>
                </a:lnTo>
                <a:lnTo>
                  <a:pt x="669" y="1336"/>
                </a:lnTo>
                <a:lnTo>
                  <a:pt x="669" y="1343"/>
                </a:lnTo>
                <a:lnTo>
                  <a:pt x="676" y="1350"/>
                </a:lnTo>
                <a:lnTo>
                  <a:pt x="683" y="1350"/>
                </a:lnTo>
                <a:lnTo>
                  <a:pt x="690" y="1357"/>
                </a:lnTo>
                <a:lnTo>
                  <a:pt x="697" y="1364"/>
                </a:lnTo>
                <a:lnTo>
                  <a:pt x="690" y="1364"/>
                </a:lnTo>
                <a:lnTo>
                  <a:pt x="683" y="1364"/>
                </a:lnTo>
                <a:lnTo>
                  <a:pt x="676" y="1370"/>
                </a:lnTo>
                <a:lnTo>
                  <a:pt x="676" y="1377"/>
                </a:lnTo>
                <a:lnTo>
                  <a:pt x="669" y="1391"/>
                </a:lnTo>
                <a:lnTo>
                  <a:pt x="669" y="1398"/>
                </a:lnTo>
                <a:lnTo>
                  <a:pt x="662" y="1405"/>
                </a:lnTo>
                <a:lnTo>
                  <a:pt x="656" y="1412"/>
                </a:lnTo>
                <a:lnTo>
                  <a:pt x="656" y="1419"/>
                </a:lnTo>
                <a:lnTo>
                  <a:pt x="649" y="1426"/>
                </a:lnTo>
                <a:lnTo>
                  <a:pt x="642" y="1439"/>
                </a:lnTo>
                <a:lnTo>
                  <a:pt x="642" y="1446"/>
                </a:lnTo>
                <a:lnTo>
                  <a:pt x="635" y="1453"/>
                </a:lnTo>
                <a:lnTo>
                  <a:pt x="628" y="1460"/>
                </a:lnTo>
                <a:lnTo>
                  <a:pt x="628" y="1467"/>
                </a:lnTo>
                <a:lnTo>
                  <a:pt x="621" y="1474"/>
                </a:lnTo>
                <a:lnTo>
                  <a:pt x="621" y="1481"/>
                </a:lnTo>
                <a:lnTo>
                  <a:pt x="614" y="1494"/>
                </a:lnTo>
                <a:lnTo>
                  <a:pt x="607" y="1501"/>
                </a:lnTo>
                <a:lnTo>
                  <a:pt x="607" y="1508"/>
                </a:lnTo>
                <a:lnTo>
                  <a:pt x="600" y="1515"/>
                </a:lnTo>
                <a:lnTo>
                  <a:pt x="593" y="1522"/>
                </a:lnTo>
                <a:lnTo>
                  <a:pt x="593" y="1529"/>
                </a:lnTo>
                <a:lnTo>
                  <a:pt x="587" y="1536"/>
                </a:lnTo>
                <a:lnTo>
                  <a:pt x="580" y="1550"/>
                </a:lnTo>
                <a:lnTo>
                  <a:pt x="580" y="1556"/>
                </a:lnTo>
                <a:lnTo>
                  <a:pt x="573" y="1563"/>
                </a:lnTo>
                <a:lnTo>
                  <a:pt x="566" y="1570"/>
                </a:lnTo>
                <a:lnTo>
                  <a:pt x="566" y="1577"/>
                </a:lnTo>
                <a:lnTo>
                  <a:pt x="559" y="1584"/>
                </a:lnTo>
                <a:lnTo>
                  <a:pt x="552" y="1591"/>
                </a:lnTo>
                <a:lnTo>
                  <a:pt x="545" y="1591"/>
                </a:lnTo>
                <a:lnTo>
                  <a:pt x="538" y="1598"/>
                </a:lnTo>
                <a:lnTo>
                  <a:pt x="531" y="1598"/>
                </a:lnTo>
                <a:lnTo>
                  <a:pt x="524" y="1598"/>
                </a:lnTo>
                <a:lnTo>
                  <a:pt x="524" y="1605"/>
                </a:lnTo>
                <a:lnTo>
                  <a:pt x="518" y="1605"/>
                </a:lnTo>
                <a:lnTo>
                  <a:pt x="511" y="1612"/>
                </a:lnTo>
                <a:lnTo>
                  <a:pt x="504" y="1612"/>
                </a:lnTo>
                <a:lnTo>
                  <a:pt x="497" y="1612"/>
                </a:lnTo>
                <a:lnTo>
                  <a:pt x="490" y="1612"/>
                </a:lnTo>
                <a:lnTo>
                  <a:pt x="483" y="1612"/>
                </a:lnTo>
                <a:lnTo>
                  <a:pt x="476" y="1605"/>
                </a:lnTo>
                <a:lnTo>
                  <a:pt x="469" y="1605"/>
                </a:lnTo>
                <a:lnTo>
                  <a:pt x="462" y="1605"/>
                </a:lnTo>
                <a:lnTo>
                  <a:pt x="456" y="1605"/>
                </a:lnTo>
                <a:lnTo>
                  <a:pt x="449" y="1605"/>
                </a:lnTo>
                <a:lnTo>
                  <a:pt x="442" y="1605"/>
                </a:lnTo>
                <a:lnTo>
                  <a:pt x="435" y="1605"/>
                </a:lnTo>
                <a:lnTo>
                  <a:pt x="428" y="1605"/>
                </a:lnTo>
                <a:lnTo>
                  <a:pt x="421" y="1605"/>
                </a:lnTo>
                <a:lnTo>
                  <a:pt x="414" y="1605"/>
                </a:lnTo>
                <a:lnTo>
                  <a:pt x="407" y="1605"/>
                </a:lnTo>
                <a:lnTo>
                  <a:pt x="407" y="1598"/>
                </a:lnTo>
                <a:close/>
                <a:moveTo>
                  <a:pt x="718" y="3299"/>
                </a:moveTo>
                <a:lnTo>
                  <a:pt x="752" y="3265"/>
                </a:lnTo>
                <a:lnTo>
                  <a:pt x="787" y="3265"/>
                </a:lnTo>
                <a:lnTo>
                  <a:pt x="821" y="3265"/>
                </a:lnTo>
                <a:lnTo>
                  <a:pt x="855" y="3230"/>
                </a:lnTo>
                <a:lnTo>
                  <a:pt x="890" y="3230"/>
                </a:lnTo>
                <a:lnTo>
                  <a:pt x="924" y="3230"/>
                </a:lnTo>
                <a:lnTo>
                  <a:pt x="959" y="3196"/>
                </a:lnTo>
                <a:lnTo>
                  <a:pt x="993" y="3196"/>
                </a:lnTo>
                <a:lnTo>
                  <a:pt x="1028" y="3196"/>
                </a:lnTo>
                <a:lnTo>
                  <a:pt x="1062" y="3161"/>
                </a:lnTo>
                <a:lnTo>
                  <a:pt x="1090" y="3161"/>
                </a:lnTo>
                <a:lnTo>
                  <a:pt x="1090" y="3127"/>
                </a:lnTo>
                <a:lnTo>
                  <a:pt x="1124" y="3093"/>
                </a:lnTo>
                <a:lnTo>
                  <a:pt x="1124" y="3058"/>
                </a:lnTo>
                <a:lnTo>
                  <a:pt x="1159" y="3024"/>
                </a:lnTo>
                <a:lnTo>
                  <a:pt x="1159" y="2996"/>
                </a:lnTo>
                <a:lnTo>
                  <a:pt x="1193" y="2962"/>
                </a:lnTo>
                <a:lnTo>
                  <a:pt x="1193" y="2927"/>
                </a:lnTo>
                <a:lnTo>
                  <a:pt x="1228" y="2893"/>
                </a:lnTo>
                <a:lnTo>
                  <a:pt x="1228" y="2858"/>
                </a:lnTo>
                <a:lnTo>
                  <a:pt x="1262" y="2824"/>
                </a:lnTo>
                <a:lnTo>
                  <a:pt x="1262" y="2789"/>
                </a:lnTo>
                <a:lnTo>
                  <a:pt x="1297" y="2755"/>
                </a:lnTo>
                <a:lnTo>
                  <a:pt x="1297" y="2721"/>
                </a:lnTo>
                <a:lnTo>
                  <a:pt x="1331" y="2686"/>
                </a:lnTo>
                <a:lnTo>
                  <a:pt x="1331" y="2652"/>
                </a:lnTo>
                <a:lnTo>
                  <a:pt x="1366" y="2617"/>
                </a:lnTo>
                <a:lnTo>
                  <a:pt x="1366" y="2583"/>
                </a:lnTo>
                <a:lnTo>
                  <a:pt x="1400" y="2548"/>
                </a:lnTo>
                <a:lnTo>
                  <a:pt x="1400" y="2514"/>
                </a:lnTo>
                <a:lnTo>
                  <a:pt x="1435" y="2480"/>
                </a:lnTo>
                <a:lnTo>
                  <a:pt x="1435" y="2452"/>
                </a:lnTo>
                <a:lnTo>
                  <a:pt x="1469" y="2418"/>
                </a:lnTo>
                <a:lnTo>
                  <a:pt x="1469" y="2383"/>
                </a:lnTo>
                <a:lnTo>
                  <a:pt x="1504" y="2349"/>
                </a:lnTo>
                <a:lnTo>
                  <a:pt x="1504" y="2314"/>
                </a:lnTo>
                <a:lnTo>
                  <a:pt x="1538" y="2280"/>
                </a:lnTo>
                <a:lnTo>
                  <a:pt x="1538" y="2245"/>
                </a:lnTo>
                <a:lnTo>
                  <a:pt x="1573" y="2211"/>
                </a:lnTo>
                <a:lnTo>
                  <a:pt x="1573" y="2176"/>
                </a:lnTo>
                <a:lnTo>
                  <a:pt x="1607" y="2142"/>
                </a:lnTo>
                <a:lnTo>
                  <a:pt x="1607" y="2108"/>
                </a:lnTo>
                <a:lnTo>
                  <a:pt x="1641" y="2073"/>
                </a:lnTo>
                <a:lnTo>
                  <a:pt x="1641" y="2039"/>
                </a:lnTo>
                <a:lnTo>
                  <a:pt x="1676" y="2004"/>
                </a:lnTo>
                <a:lnTo>
                  <a:pt x="1676" y="1970"/>
                </a:lnTo>
                <a:lnTo>
                  <a:pt x="1710" y="1935"/>
                </a:lnTo>
                <a:lnTo>
                  <a:pt x="1710" y="1908"/>
                </a:lnTo>
                <a:lnTo>
                  <a:pt x="1745" y="1873"/>
                </a:lnTo>
                <a:lnTo>
                  <a:pt x="1745" y="1839"/>
                </a:lnTo>
                <a:lnTo>
                  <a:pt x="1745" y="1804"/>
                </a:lnTo>
                <a:lnTo>
                  <a:pt x="1745" y="1770"/>
                </a:lnTo>
                <a:lnTo>
                  <a:pt x="1779" y="1736"/>
                </a:lnTo>
                <a:lnTo>
                  <a:pt x="1779" y="1701"/>
                </a:lnTo>
                <a:lnTo>
                  <a:pt x="1779" y="1667"/>
                </a:lnTo>
                <a:lnTo>
                  <a:pt x="1779" y="1632"/>
                </a:lnTo>
                <a:lnTo>
                  <a:pt x="1779" y="1598"/>
                </a:lnTo>
                <a:lnTo>
                  <a:pt x="1779" y="1563"/>
                </a:lnTo>
                <a:lnTo>
                  <a:pt x="1807" y="1529"/>
                </a:lnTo>
                <a:lnTo>
                  <a:pt x="1807" y="1494"/>
                </a:lnTo>
                <a:lnTo>
                  <a:pt x="1807" y="1460"/>
                </a:lnTo>
                <a:lnTo>
                  <a:pt x="1807" y="1426"/>
                </a:lnTo>
                <a:lnTo>
                  <a:pt x="1807" y="1398"/>
                </a:lnTo>
                <a:lnTo>
                  <a:pt x="1807" y="1364"/>
                </a:lnTo>
                <a:lnTo>
                  <a:pt x="1841" y="1329"/>
                </a:lnTo>
                <a:lnTo>
                  <a:pt x="1841" y="1295"/>
                </a:lnTo>
                <a:lnTo>
                  <a:pt x="1841" y="1260"/>
                </a:lnTo>
                <a:lnTo>
                  <a:pt x="1841" y="1226"/>
                </a:lnTo>
                <a:lnTo>
                  <a:pt x="1841" y="1191"/>
                </a:lnTo>
                <a:lnTo>
                  <a:pt x="1841" y="1157"/>
                </a:lnTo>
                <a:lnTo>
                  <a:pt x="1876" y="1122"/>
                </a:lnTo>
                <a:lnTo>
                  <a:pt x="1876" y="1088"/>
                </a:lnTo>
                <a:lnTo>
                  <a:pt x="1876" y="1054"/>
                </a:lnTo>
                <a:lnTo>
                  <a:pt x="1876" y="1019"/>
                </a:lnTo>
                <a:lnTo>
                  <a:pt x="1876" y="985"/>
                </a:lnTo>
                <a:lnTo>
                  <a:pt x="1910" y="950"/>
                </a:lnTo>
                <a:lnTo>
                  <a:pt x="1910" y="916"/>
                </a:lnTo>
                <a:lnTo>
                  <a:pt x="1910" y="888"/>
                </a:lnTo>
                <a:lnTo>
                  <a:pt x="1910" y="854"/>
                </a:lnTo>
                <a:lnTo>
                  <a:pt x="1910" y="819"/>
                </a:lnTo>
                <a:lnTo>
                  <a:pt x="1910" y="785"/>
                </a:lnTo>
                <a:lnTo>
                  <a:pt x="1945" y="751"/>
                </a:lnTo>
                <a:lnTo>
                  <a:pt x="1945" y="716"/>
                </a:lnTo>
                <a:lnTo>
                  <a:pt x="1945" y="682"/>
                </a:lnTo>
                <a:lnTo>
                  <a:pt x="1945" y="647"/>
                </a:lnTo>
                <a:lnTo>
                  <a:pt x="1945" y="613"/>
                </a:lnTo>
                <a:lnTo>
                  <a:pt x="1945" y="578"/>
                </a:lnTo>
                <a:lnTo>
                  <a:pt x="1979" y="544"/>
                </a:lnTo>
                <a:lnTo>
                  <a:pt x="1979" y="509"/>
                </a:lnTo>
                <a:lnTo>
                  <a:pt x="1979" y="475"/>
                </a:lnTo>
                <a:lnTo>
                  <a:pt x="1979" y="441"/>
                </a:lnTo>
                <a:lnTo>
                  <a:pt x="1979" y="406"/>
                </a:lnTo>
                <a:lnTo>
                  <a:pt x="1979" y="372"/>
                </a:lnTo>
                <a:lnTo>
                  <a:pt x="2014" y="344"/>
                </a:lnTo>
                <a:lnTo>
                  <a:pt x="2014" y="310"/>
                </a:lnTo>
                <a:lnTo>
                  <a:pt x="2014" y="275"/>
                </a:lnTo>
                <a:lnTo>
                  <a:pt x="2014" y="241"/>
                </a:lnTo>
                <a:lnTo>
                  <a:pt x="2014" y="206"/>
                </a:lnTo>
                <a:lnTo>
                  <a:pt x="2014" y="172"/>
                </a:lnTo>
                <a:lnTo>
                  <a:pt x="2048" y="137"/>
                </a:lnTo>
                <a:lnTo>
                  <a:pt x="2048" y="103"/>
                </a:lnTo>
                <a:lnTo>
                  <a:pt x="2048" y="69"/>
                </a:lnTo>
                <a:lnTo>
                  <a:pt x="2048" y="34"/>
                </a:lnTo>
                <a:lnTo>
                  <a:pt x="2048" y="0"/>
                </a:lnTo>
                <a:lnTo>
                  <a:pt x="2014" y="0"/>
                </a:lnTo>
                <a:lnTo>
                  <a:pt x="1979" y="0"/>
                </a:lnTo>
                <a:lnTo>
                  <a:pt x="1945" y="0"/>
                </a:lnTo>
                <a:lnTo>
                  <a:pt x="1910" y="34"/>
                </a:lnTo>
                <a:lnTo>
                  <a:pt x="1876" y="34"/>
                </a:lnTo>
                <a:lnTo>
                  <a:pt x="1841" y="69"/>
                </a:lnTo>
                <a:lnTo>
                  <a:pt x="1807" y="69"/>
                </a:lnTo>
                <a:lnTo>
                  <a:pt x="1779" y="69"/>
                </a:lnTo>
                <a:lnTo>
                  <a:pt x="1745" y="103"/>
                </a:lnTo>
                <a:lnTo>
                  <a:pt x="1710" y="103"/>
                </a:lnTo>
                <a:lnTo>
                  <a:pt x="1676" y="137"/>
                </a:lnTo>
                <a:lnTo>
                  <a:pt x="1641" y="137"/>
                </a:lnTo>
                <a:lnTo>
                  <a:pt x="1607" y="172"/>
                </a:lnTo>
                <a:lnTo>
                  <a:pt x="1573" y="172"/>
                </a:lnTo>
                <a:lnTo>
                  <a:pt x="1538" y="206"/>
                </a:lnTo>
                <a:lnTo>
                  <a:pt x="1504" y="206"/>
                </a:lnTo>
                <a:lnTo>
                  <a:pt x="1469" y="206"/>
                </a:lnTo>
                <a:lnTo>
                  <a:pt x="1435" y="241"/>
                </a:lnTo>
                <a:lnTo>
                  <a:pt x="1400" y="241"/>
                </a:lnTo>
                <a:lnTo>
                  <a:pt x="1366" y="275"/>
                </a:lnTo>
                <a:lnTo>
                  <a:pt x="1331" y="275"/>
                </a:lnTo>
                <a:lnTo>
                  <a:pt x="1297" y="310"/>
                </a:lnTo>
                <a:lnTo>
                  <a:pt x="1262" y="310"/>
                </a:lnTo>
                <a:lnTo>
                  <a:pt x="1228" y="344"/>
                </a:lnTo>
                <a:lnTo>
                  <a:pt x="1193" y="344"/>
                </a:lnTo>
                <a:lnTo>
                  <a:pt x="1159" y="344"/>
                </a:lnTo>
                <a:lnTo>
                  <a:pt x="1124" y="372"/>
                </a:lnTo>
                <a:lnTo>
                  <a:pt x="1090" y="372"/>
                </a:lnTo>
                <a:lnTo>
                  <a:pt x="1062" y="406"/>
                </a:lnTo>
                <a:lnTo>
                  <a:pt x="1028" y="406"/>
                </a:lnTo>
                <a:lnTo>
                  <a:pt x="993" y="441"/>
                </a:lnTo>
                <a:lnTo>
                  <a:pt x="959" y="441"/>
                </a:lnTo>
                <a:lnTo>
                  <a:pt x="924" y="475"/>
                </a:lnTo>
                <a:lnTo>
                  <a:pt x="890" y="475"/>
                </a:lnTo>
                <a:lnTo>
                  <a:pt x="855" y="475"/>
                </a:lnTo>
                <a:lnTo>
                  <a:pt x="821" y="509"/>
                </a:lnTo>
                <a:lnTo>
                  <a:pt x="787" y="544"/>
                </a:lnTo>
                <a:lnTo>
                  <a:pt x="752" y="578"/>
                </a:lnTo>
                <a:lnTo>
                  <a:pt x="752" y="613"/>
                </a:lnTo>
                <a:lnTo>
                  <a:pt x="718" y="647"/>
                </a:lnTo>
                <a:lnTo>
                  <a:pt x="683" y="682"/>
                </a:lnTo>
                <a:lnTo>
                  <a:pt x="649" y="716"/>
                </a:lnTo>
                <a:lnTo>
                  <a:pt x="649" y="751"/>
                </a:lnTo>
                <a:lnTo>
                  <a:pt x="614" y="785"/>
                </a:lnTo>
                <a:lnTo>
                  <a:pt x="580" y="819"/>
                </a:lnTo>
                <a:lnTo>
                  <a:pt x="545" y="854"/>
                </a:lnTo>
                <a:lnTo>
                  <a:pt x="545" y="888"/>
                </a:lnTo>
                <a:lnTo>
                  <a:pt x="511" y="916"/>
                </a:lnTo>
                <a:lnTo>
                  <a:pt x="476" y="950"/>
                </a:lnTo>
                <a:lnTo>
                  <a:pt x="476" y="985"/>
                </a:lnTo>
                <a:lnTo>
                  <a:pt x="442" y="1019"/>
                </a:lnTo>
                <a:lnTo>
                  <a:pt x="442" y="1054"/>
                </a:lnTo>
                <a:lnTo>
                  <a:pt x="442" y="1088"/>
                </a:lnTo>
                <a:lnTo>
                  <a:pt x="407" y="1122"/>
                </a:lnTo>
                <a:lnTo>
                  <a:pt x="407" y="1157"/>
                </a:lnTo>
                <a:lnTo>
                  <a:pt x="373" y="1191"/>
                </a:lnTo>
                <a:lnTo>
                  <a:pt x="373" y="1226"/>
                </a:lnTo>
                <a:lnTo>
                  <a:pt x="338" y="1260"/>
                </a:lnTo>
                <a:lnTo>
                  <a:pt x="338" y="1295"/>
                </a:lnTo>
                <a:lnTo>
                  <a:pt x="311" y="1329"/>
                </a:lnTo>
                <a:lnTo>
                  <a:pt x="311" y="1364"/>
                </a:lnTo>
                <a:lnTo>
                  <a:pt x="276" y="1398"/>
                </a:lnTo>
                <a:lnTo>
                  <a:pt x="276" y="1426"/>
                </a:lnTo>
                <a:lnTo>
                  <a:pt x="276" y="1460"/>
                </a:lnTo>
                <a:lnTo>
                  <a:pt x="242" y="1494"/>
                </a:lnTo>
                <a:lnTo>
                  <a:pt x="242" y="1529"/>
                </a:lnTo>
                <a:lnTo>
                  <a:pt x="207" y="1563"/>
                </a:lnTo>
                <a:lnTo>
                  <a:pt x="207" y="1598"/>
                </a:lnTo>
                <a:lnTo>
                  <a:pt x="173" y="1632"/>
                </a:lnTo>
                <a:lnTo>
                  <a:pt x="173" y="1667"/>
                </a:lnTo>
                <a:lnTo>
                  <a:pt x="138" y="1701"/>
                </a:lnTo>
                <a:lnTo>
                  <a:pt x="138" y="1736"/>
                </a:lnTo>
                <a:lnTo>
                  <a:pt x="138" y="1770"/>
                </a:lnTo>
                <a:lnTo>
                  <a:pt x="104" y="1804"/>
                </a:lnTo>
                <a:lnTo>
                  <a:pt x="104" y="1839"/>
                </a:lnTo>
                <a:lnTo>
                  <a:pt x="69" y="1873"/>
                </a:lnTo>
                <a:lnTo>
                  <a:pt x="69" y="1908"/>
                </a:lnTo>
                <a:lnTo>
                  <a:pt x="69" y="1935"/>
                </a:lnTo>
                <a:lnTo>
                  <a:pt x="69" y="1970"/>
                </a:lnTo>
                <a:lnTo>
                  <a:pt x="69" y="2004"/>
                </a:lnTo>
                <a:lnTo>
                  <a:pt x="35" y="2039"/>
                </a:lnTo>
                <a:lnTo>
                  <a:pt x="35" y="2073"/>
                </a:lnTo>
                <a:lnTo>
                  <a:pt x="35" y="2108"/>
                </a:lnTo>
                <a:lnTo>
                  <a:pt x="35" y="2142"/>
                </a:lnTo>
                <a:lnTo>
                  <a:pt x="0" y="2176"/>
                </a:lnTo>
                <a:lnTo>
                  <a:pt x="0" y="2211"/>
                </a:lnTo>
                <a:lnTo>
                  <a:pt x="0" y="2245"/>
                </a:lnTo>
                <a:lnTo>
                  <a:pt x="0" y="2280"/>
                </a:lnTo>
                <a:lnTo>
                  <a:pt x="0" y="2314"/>
                </a:lnTo>
                <a:lnTo>
                  <a:pt x="0" y="2349"/>
                </a:lnTo>
                <a:lnTo>
                  <a:pt x="0" y="2383"/>
                </a:lnTo>
                <a:lnTo>
                  <a:pt x="0" y="2418"/>
                </a:lnTo>
                <a:lnTo>
                  <a:pt x="0" y="2452"/>
                </a:lnTo>
                <a:lnTo>
                  <a:pt x="0" y="2480"/>
                </a:lnTo>
                <a:lnTo>
                  <a:pt x="0" y="2514"/>
                </a:lnTo>
                <a:lnTo>
                  <a:pt x="0" y="2548"/>
                </a:lnTo>
                <a:lnTo>
                  <a:pt x="0" y="2583"/>
                </a:lnTo>
                <a:lnTo>
                  <a:pt x="35" y="2617"/>
                </a:lnTo>
                <a:lnTo>
                  <a:pt x="35" y="2652"/>
                </a:lnTo>
                <a:lnTo>
                  <a:pt x="35" y="2686"/>
                </a:lnTo>
                <a:lnTo>
                  <a:pt x="35" y="2721"/>
                </a:lnTo>
                <a:lnTo>
                  <a:pt x="35" y="2755"/>
                </a:lnTo>
                <a:lnTo>
                  <a:pt x="35" y="2789"/>
                </a:lnTo>
                <a:lnTo>
                  <a:pt x="35" y="2824"/>
                </a:lnTo>
                <a:lnTo>
                  <a:pt x="35" y="2858"/>
                </a:lnTo>
                <a:lnTo>
                  <a:pt x="35" y="2893"/>
                </a:lnTo>
                <a:lnTo>
                  <a:pt x="69" y="2927"/>
                </a:lnTo>
                <a:lnTo>
                  <a:pt x="69" y="2962"/>
                </a:lnTo>
                <a:lnTo>
                  <a:pt x="104" y="2996"/>
                </a:lnTo>
                <a:lnTo>
                  <a:pt x="138" y="3024"/>
                </a:lnTo>
                <a:lnTo>
                  <a:pt x="173" y="3058"/>
                </a:lnTo>
                <a:lnTo>
                  <a:pt x="207" y="3093"/>
                </a:lnTo>
                <a:lnTo>
                  <a:pt x="242" y="3127"/>
                </a:lnTo>
                <a:lnTo>
                  <a:pt x="276" y="3161"/>
                </a:lnTo>
                <a:lnTo>
                  <a:pt x="311" y="3196"/>
                </a:lnTo>
                <a:lnTo>
                  <a:pt x="338" y="3196"/>
                </a:lnTo>
                <a:lnTo>
                  <a:pt x="373" y="3230"/>
                </a:lnTo>
                <a:lnTo>
                  <a:pt x="407" y="3230"/>
                </a:lnTo>
                <a:lnTo>
                  <a:pt x="442" y="3230"/>
                </a:lnTo>
                <a:lnTo>
                  <a:pt x="476" y="3265"/>
                </a:lnTo>
                <a:lnTo>
                  <a:pt x="511" y="3265"/>
                </a:lnTo>
                <a:lnTo>
                  <a:pt x="545" y="3299"/>
                </a:lnTo>
                <a:lnTo>
                  <a:pt x="580" y="3299"/>
                </a:lnTo>
                <a:lnTo>
                  <a:pt x="614" y="3299"/>
                </a:lnTo>
                <a:lnTo>
                  <a:pt x="649" y="3299"/>
                </a:lnTo>
                <a:lnTo>
                  <a:pt x="683" y="3299"/>
                </a:lnTo>
                <a:lnTo>
                  <a:pt x="718" y="3299"/>
                </a:lnTo>
                <a:close/>
                <a:moveTo>
                  <a:pt x="373" y="2755"/>
                </a:moveTo>
                <a:lnTo>
                  <a:pt x="387" y="2734"/>
                </a:lnTo>
                <a:lnTo>
                  <a:pt x="393" y="2721"/>
                </a:lnTo>
                <a:lnTo>
                  <a:pt x="400" y="2714"/>
                </a:lnTo>
                <a:lnTo>
                  <a:pt x="407" y="2714"/>
                </a:lnTo>
                <a:lnTo>
                  <a:pt x="414" y="2727"/>
                </a:lnTo>
                <a:lnTo>
                  <a:pt x="414" y="2741"/>
                </a:lnTo>
                <a:lnTo>
                  <a:pt x="407" y="2755"/>
                </a:lnTo>
                <a:lnTo>
                  <a:pt x="407" y="2762"/>
                </a:lnTo>
                <a:lnTo>
                  <a:pt x="400" y="2762"/>
                </a:lnTo>
                <a:lnTo>
                  <a:pt x="387" y="2755"/>
                </a:lnTo>
                <a:lnTo>
                  <a:pt x="373" y="2755"/>
                </a:lnTo>
                <a:close/>
                <a:moveTo>
                  <a:pt x="511" y="1494"/>
                </a:moveTo>
                <a:lnTo>
                  <a:pt x="511" y="1488"/>
                </a:lnTo>
                <a:lnTo>
                  <a:pt x="511" y="1474"/>
                </a:lnTo>
                <a:lnTo>
                  <a:pt x="511" y="1467"/>
                </a:lnTo>
                <a:lnTo>
                  <a:pt x="511" y="1453"/>
                </a:lnTo>
                <a:lnTo>
                  <a:pt x="511" y="1446"/>
                </a:lnTo>
                <a:lnTo>
                  <a:pt x="511" y="1439"/>
                </a:lnTo>
                <a:lnTo>
                  <a:pt x="511" y="1426"/>
                </a:lnTo>
                <a:lnTo>
                  <a:pt x="511" y="1412"/>
                </a:lnTo>
                <a:lnTo>
                  <a:pt x="511" y="1398"/>
                </a:lnTo>
                <a:lnTo>
                  <a:pt x="511" y="1398"/>
                </a:lnTo>
                <a:lnTo>
                  <a:pt x="511" y="1398"/>
                </a:lnTo>
                <a:lnTo>
                  <a:pt x="511" y="1412"/>
                </a:lnTo>
                <a:lnTo>
                  <a:pt x="511" y="1426"/>
                </a:lnTo>
                <a:lnTo>
                  <a:pt x="511" y="1439"/>
                </a:lnTo>
                <a:lnTo>
                  <a:pt x="511" y="1446"/>
                </a:lnTo>
                <a:lnTo>
                  <a:pt x="511" y="1453"/>
                </a:lnTo>
                <a:lnTo>
                  <a:pt x="511" y="1467"/>
                </a:lnTo>
                <a:lnTo>
                  <a:pt x="511" y="1474"/>
                </a:lnTo>
                <a:lnTo>
                  <a:pt x="511" y="1488"/>
                </a:lnTo>
                <a:lnTo>
                  <a:pt x="511" y="1494"/>
                </a:lnTo>
                <a:close/>
                <a:moveTo>
                  <a:pt x="511" y="1329"/>
                </a:moveTo>
                <a:lnTo>
                  <a:pt x="497" y="1315"/>
                </a:lnTo>
                <a:lnTo>
                  <a:pt x="497" y="1302"/>
                </a:lnTo>
                <a:lnTo>
                  <a:pt x="497" y="1295"/>
                </a:lnTo>
                <a:lnTo>
                  <a:pt x="504" y="1288"/>
                </a:lnTo>
                <a:lnTo>
                  <a:pt x="511" y="1288"/>
                </a:lnTo>
                <a:lnTo>
                  <a:pt x="518" y="1281"/>
                </a:lnTo>
                <a:lnTo>
                  <a:pt x="524" y="1281"/>
                </a:lnTo>
                <a:lnTo>
                  <a:pt x="531" y="1288"/>
                </a:lnTo>
                <a:lnTo>
                  <a:pt x="538" y="1295"/>
                </a:lnTo>
                <a:lnTo>
                  <a:pt x="545" y="1302"/>
                </a:lnTo>
                <a:lnTo>
                  <a:pt x="545" y="1315"/>
                </a:lnTo>
                <a:lnTo>
                  <a:pt x="552" y="1322"/>
                </a:lnTo>
                <a:lnTo>
                  <a:pt x="566" y="1322"/>
                </a:lnTo>
                <a:lnTo>
                  <a:pt x="573" y="1322"/>
                </a:lnTo>
                <a:lnTo>
                  <a:pt x="580" y="1329"/>
                </a:lnTo>
                <a:lnTo>
                  <a:pt x="580" y="1329"/>
                </a:lnTo>
                <a:lnTo>
                  <a:pt x="573" y="1329"/>
                </a:lnTo>
                <a:lnTo>
                  <a:pt x="566" y="1336"/>
                </a:lnTo>
                <a:lnTo>
                  <a:pt x="552" y="1343"/>
                </a:lnTo>
                <a:lnTo>
                  <a:pt x="545" y="1343"/>
                </a:lnTo>
                <a:lnTo>
                  <a:pt x="531" y="1350"/>
                </a:lnTo>
                <a:lnTo>
                  <a:pt x="524" y="1350"/>
                </a:lnTo>
                <a:lnTo>
                  <a:pt x="518" y="1350"/>
                </a:lnTo>
                <a:lnTo>
                  <a:pt x="511" y="1350"/>
                </a:lnTo>
                <a:lnTo>
                  <a:pt x="511" y="1343"/>
                </a:lnTo>
                <a:lnTo>
                  <a:pt x="511" y="1329"/>
                </a:lnTo>
                <a:close/>
              </a:path>
            </a:pathLst>
          </a:custGeom>
          <a:solidFill>
            <a:srgbClr val="73c7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6" name=""/>
          <p:cNvSpPr/>
          <p:nvPr/>
        </p:nvSpPr>
        <p:spPr>
          <a:xfrm>
            <a:off x="3720960" y="1328760"/>
            <a:ext cx="3251520" cy="5237280"/>
          </a:xfrm>
          <a:custGeom>
            <a:avLst/>
            <a:gdLst/>
            <a:ahLst/>
            <a:rect l="l" t="t" r="r" b="b"/>
            <a:pathLst>
              <a:path w="2048" h="3299">
                <a:moveTo>
                  <a:pt x="718" y="3299"/>
                </a:moveTo>
                <a:lnTo>
                  <a:pt x="752" y="3265"/>
                </a:lnTo>
                <a:lnTo>
                  <a:pt x="787" y="3265"/>
                </a:lnTo>
                <a:lnTo>
                  <a:pt x="821" y="3265"/>
                </a:lnTo>
                <a:lnTo>
                  <a:pt x="855" y="3230"/>
                </a:lnTo>
                <a:lnTo>
                  <a:pt x="890" y="3230"/>
                </a:lnTo>
                <a:lnTo>
                  <a:pt x="924" y="3230"/>
                </a:lnTo>
                <a:lnTo>
                  <a:pt x="959" y="3196"/>
                </a:lnTo>
                <a:lnTo>
                  <a:pt x="993" y="3196"/>
                </a:lnTo>
                <a:lnTo>
                  <a:pt x="1028" y="3196"/>
                </a:lnTo>
                <a:lnTo>
                  <a:pt x="1062" y="3161"/>
                </a:lnTo>
                <a:lnTo>
                  <a:pt x="1090" y="3161"/>
                </a:lnTo>
                <a:lnTo>
                  <a:pt x="1090" y="3127"/>
                </a:lnTo>
                <a:lnTo>
                  <a:pt x="1124" y="3093"/>
                </a:lnTo>
                <a:lnTo>
                  <a:pt x="1124" y="3058"/>
                </a:lnTo>
                <a:lnTo>
                  <a:pt x="1159" y="3024"/>
                </a:lnTo>
                <a:lnTo>
                  <a:pt x="1159" y="2996"/>
                </a:lnTo>
                <a:lnTo>
                  <a:pt x="1193" y="2962"/>
                </a:lnTo>
                <a:lnTo>
                  <a:pt x="1193" y="2927"/>
                </a:lnTo>
                <a:lnTo>
                  <a:pt x="1228" y="2893"/>
                </a:lnTo>
                <a:lnTo>
                  <a:pt x="1228" y="2858"/>
                </a:lnTo>
                <a:lnTo>
                  <a:pt x="1262" y="2824"/>
                </a:lnTo>
                <a:lnTo>
                  <a:pt x="1262" y="2789"/>
                </a:lnTo>
                <a:lnTo>
                  <a:pt x="1297" y="2755"/>
                </a:lnTo>
                <a:lnTo>
                  <a:pt x="1297" y="2721"/>
                </a:lnTo>
                <a:lnTo>
                  <a:pt x="1331" y="2686"/>
                </a:lnTo>
                <a:lnTo>
                  <a:pt x="1331" y="2652"/>
                </a:lnTo>
                <a:lnTo>
                  <a:pt x="1366" y="2617"/>
                </a:lnTo>
                <a:lnTo>
                  <a:pt x="1366" y="2583"/>
                </a:lnTo>
                <a:lnTo>
                  <a:pt x="1400" y="2548"/>
                </a:lnTo>
                <a:lnTo>
                  <a:pt x="1400" y="2514"/>
                </a:lnTo>
                <a:lnTo>
                  <a:pt x="1435" y="2480"/>
                </a:lnTo>
                <a:lnTo>
                  <a:pt x="1435" y="2452"/>
                </a:lnTo>
                <a:lnTo>
                  <a:pt x="1469" y="2418"/>
                </a:lnTo>
                <a:lnTo>
                  <a:pt x="1469" y="2383"/>
                </a:lnTo>
                <a:lnTo>
                  <a:pt x="1504" y="2349"/>
                </a:lnTo>
                <a:lnTo>
                  <a:pt x="1504" y="2314"/>
                </a:lnTo>
                <a:lnTo>
                  <a:pt x="1538" y="2280"/>
                </a:lnTo>
                <a:lnTo>
                  <a:pt x="1538" y="2245"/>
                </a:lnTo>
                <a:lnTo>
                  <a:pt x="1573" y="2211"/>
                </a:lnTo>
                <a:lnTo>
                  <a:pt x="1573" y="2176"/>
                </a:lnTo>
                <a:lnTo>
                  <a:pt x="1607" y="2142"/>
                </a:lnTo>
                <a:lnTo>
                  <a:pt x="1607" y="2108"/>
                </a:lnTo>
                <a:lnTo>
                  <a:pt x="1641" y="2073"/>
                </a:lnTo>
                <a:lnTo>
                  <a:pt x="1641" y="2039"/>
                </a:lnTo>
                <a:lnTo>
                  <a:pt x="1676" y="2004"/>
                </a:lnTo>
                <a:lnTo>
                  <a:pt x="1676" y="1970"/>
                </a:lnTo>
                <a:lnTo>
                  <a:pt x="1710" y="1935"/>
                </a:lnTo>
                <a:lnTo>
                  <a:pt x="1710" y="1908"/>
                </a:lnTo>
                <a:lnTo>
                  <a:pt x="1745" y="1873"/>
                </a:lnTo>
                <a:lnTo>
                  <a:pt x="1745" y="1839"/>
                </a:lnTo>
                <a:lnTo>
                  <a:pt x="1745" y="1804"/>
                </a:lnTo>
                <a:lnTo>
                  <a:pt x="1745" y="1770"/>
                </a:lnTo>
                <a:lnTo>
                  <a:pt x="1779" y="1736"/>
                </a:lnTo>
                <a:lnTo>
                  <a:pt x="1779" y="1701"/>
                </a:lnTo>
                <a:lnTo>
                  <a:pt x="1779" y="1667"/>
                </a:lnTo>
                <a:lnTo>
                  <a:pt x="1779" y="1632"/>
                </a:lnTo>
                <a:lnTo>
                  <a:pt x="1779" y="1598"/>
                </a:lnTo>
                <a:lnTo>
                  <a:pt x="1779" y="1563"/>
                </a:lnTo>
                <a:lnTo>
                  <a:pt x="1807" y="1529"/>
                </a:lnTo>
                <a:lnTo>
                  <a:pt x="1807" y="1494"/>
                </a:lnTo>
                <a:lnTo>
                  <a:pt x="1807" y="1460"/>
                </a:lnTo>
                <a:lnTo>
                  <a:pt x="1807" y="1426"/>
                </a:lnTo>
                <a:lnTo>
                  <a:pt x="1807" y="1398"/>
                </a:lnTo>
                <a:lnTo>
                  <a:pt x="1807" y="1364"/>
                </a:lnTo>
                <a:lnTo>
                  <a:pt x="1841" y="1329"/>
                </a:lnTo>
                <a:lnTo>
                  <a:pt x="1841" y="1295"/>
                </a:lnTo>
                <a:lnTo>
                  <a:pt x="1841" y="1260"/>
                </a:lnTo>
                <a:lnTo>
                  <a:pt x="1841" y="1226"/>
                </a:lnTo>
                <a:lnTo>
                  <a:pt x="1841" y="1191"/>
                </a:lnTo>
                <a:lnTo>
                  <a:pt x="1841" y="1157"/>
                </a:lnTo>
                <a:lnTo>
                  <a:pt x="1876" y="1122"/>
                </a:lnTo>
                <a:lnTo>
                  <a:pt x="1876" y="1088"/>
                </a:lnTo>
                <a:lnTo>
                  <a:pt x="1876" y="1054"/>
                </a:lnTo>
                <a:lnTo>
                  <a:pt x="1876" y="1019"/>
                </a:lnTo>
                <a:lnTo>
                  <a:pt x="1876" y="985"/>
                </a:lnTo>
                <a:lnTo>
                  <a:pt x="1910" y="950"/>
                </a:lnTo>
                <a:lnTo>
                  <a:pt x="1910" y="916"/>
                </a:lnTo>
                <a:lnTo>
                  <a:pt x="1910" y="888"/>
                </a:lnTo>
                <a:lnTo>
                  <a:pt x="1910" y="854"/>
                </a:lnTo>
                <a:lnTo>
                  <a:pt x="1910" y="819"/>
                </a:lnTo>
                <a:lnTo>
                  <a:pt x="1910" y="785"/>
                </a:lnTo>
                <a:lnTo>
                  <a:pt x="1945" y="751"/>
                </a:lnTo>
                <a:lnTo>
                  <a:pt x="1945" y="716"/>
                </a:lnTo>
                <a:lnTo>
                  <a:pt x="1945" y="682"/>
                </a:lnTo>
                <a:lnTo>
                  <a:pt x="1945" y="647"/>
                </a:lnTo>
                <a:lnTo>
                  <a:pt x="1945" y="613"/>
                </a:lnTo>
                <a:lnTo>
                  <a:pt x="1945" y="578"/>
                </a:lnTo>
                <a:lnTo>
                  <a:pt x="1979" y="544"/>
                </a:lnTo>
                <a:lnTo>
                  <a:pt x="1979" y="509"/>
                </a:lnTo>
                <a:lnTo>
                  <a:pt x="1979" y="475"/>
                </a:lnTo>
                <a:lnTo>
                  <a:pt x="1979" y="441"/>
                </a:lnTo>
                <a:lnTo>
                  <a:pt x="1979" y="406"/>
                </a:lnTo>
                <a:lnTo>
                  <a:pt x="1979" y="372"/>
                </a:lnTo>
                <a:lnTo>
                  <a:pt x="2014" y="344"/>
                </a:lnTo>
                <a:lnTo>
                  <a:pt x="2014" y="310"/>
                </a:lnTo>
                <a:lnTo>
                  <a:pt x="2014" y="275"/>
                </a:lnTo>
                <a:lnTo>
                  <a:pt x="2014" y="241"/>
                </a:lnTo>
                <a:lnTo>
                  <a:pt x="2014" y="206"/>
                </a:lnTo>
                <a:lnTo>
                  <a:pt x="2014" y="172"/>
                </a:lnTo>
                <a:lnTo>
                  <a:pt x="2048" y="137"/>
                </a:lnTo>
                <a:lnTo>
                  <a:pt x="2048" y="103"/>
                </a:lnTo>
                <a:lnTo>
                  <a:pt x="2048" y="69"/>
                </a:lnTo>
                <a:lnTo>
                  <a:pt x="2048" y="34"/>
                </a:lnTo>
                <a:lnTo>
                  <a:pt x="2048" y="0"/>
                </a:lnTo>
                <a:lnTo>
                  <a:pt x="2014" y="0"/>
                </a:lnTo>
                <a:lnTo>
                  <a:pt x="1979" y="0"/>
                </a:lnTo>
                <a:lnTo>
                  <a:pt x="1945" y="0"/>
                </a:lnTo>
                <a:lnTo>
                  <a:pt x="1910" y="34"/>
                </a:lnTo>
                <a:lnTo>
                  <a:pt x="1876" y="34"/>
                </a:lnTo>
                <a:lnTo>
                  <a:pt x="1841" y="69"/>
                </a:lnTo>
                <a:lnTo>
                  <a:pt x="1807" y="69"/>
                </a:lnTo>
                <a:lnTo>
                  <a:pt x="1779" y="69"/>
                </a:lnTo>
                <a:lnTo>
                  <a:pt x="1745" y="103"/>
                </a:lnTo>
                <a:lnTo>
                  <a:pt x="1710" y="103"/>
                </a:lnTo>
                <a:lnTo>
                  <a:pt x="1676" y="137"/>
                </a:lnTo>
                <a:lnTo>
                  <a:pt x="1641" y="137"/>
                </a:lnTo>
                <a:lnTo>
                  <a:pt x="1607" y="172"/>
                </a:lnTo>
                <a:lnTo>
                  <a:pt x="1573" y="172"/>
                </a:lnTo>
                <a:lnTo>
                  <a:pt x="1538" y="206"/>
                </a:lnTo>
                <a:lnTo>
                  <a:pt x="1504" y="206"/>
                </a:lnTo>
                <a:lnTo>
                  <a:pt x="1469" y="206"/>
                </a:lnTo>
                <a:lnTo>
                  <a:pt x="1435" y="241"/>
                </a:lnTo>
                <a:lnTo>
                  <a:pt x="1400" y="241"/>
                </a:lnTo>
                <a:lnTo>
                  <a:pt x="1366" y="275"/>
                </a:lnTo>
                <a:lnTo>
                  <a:pt x="1331" y="275"/>
                </a:lnTo>
                <a:lnTo>
                  <a:pt x="1297" y="310"/>
                </a:lnTo>
                <a:lnTo>
                  <a:pt x="1262" y="310"/>
                </a:lnTo>
                <a:lnTo>
                  <a:pt x="1228" y="344"/>
                </a:lnTo>
                <a:lnTo>
                  <a:pt x="1193" y="344"/>
                </a:lnTo>
                <a:lnTo>
                  <a:pt x="1159" y="344"/>
                </a:lnTo>
                <a:lnTo>
                  <a:pt x="1124" y="372"/>
                </a:lnTo>
                <a:lnTo>
                  <a:pt x="1090" y="372"/>
                </a:lnTo>
                <a:lnTo>
                  <a:pt x="1062" y="406"/>
                </a:lnTo>
                <a:lnTo>
                  <a:pt x="1028" y="406"/>
                </a:lnTo>
                <a:lnTo>
                  <a:pt x="993" y="441"/>
                </a:lnTo>
                <a:lnTo>
                  <a:pt x="959" y="441"/>
                </a:lnTo>
                <a:lnTo>
                  <a:pt x="924" y="475"/>
                </a:lnTo>
                <a:lnTo>
                  <a:pt x="890" y="475"/>
                </a:lnTo>
                <a:lnTo>
                  <a:pt x="855" y="475"/>
                </a:lnTo>
                <a:lnTo>
                  <a:pt x="821" y="509"/>
                </a:lnTo>
                <a:lnTo>
                  <a:pt x="787" y="544"/>
                </a:lnTo>
                <a:lnTo>
                  <a:pt x="752" y="578"/>
                </a:lnTo>
                <a:lnTo>
                  <a:pt x="752" y="613"/>
                </a:lnTo>
                <a:lnTo>
                  <a:pt x="718" y="647"/>
                </a:lnTo>
                <a:lnTo>
                  <a:pt x="683" y="682"/>
                </a:lnTo>
                <a:lnTo>
                  <a:pt x="649" y="716"/>
                </a:lnTo>
                <a:lnTo>
                  <a:pt x="649" y="751"/>
                </a:lnTo>
                <a:lnTo>
                  <a:pt x="614" y="785"/>
                </a:lnTo>
                <a:lnTo>
                  <a:pt x="580" y="819"/>
                </a:lnTo>
                <a:lnTo>
                  <a:pt x="545" y="854"/>
                </a:lnTo>
                <a:lnTo>
                  <a:pt x="545" y="888"/>
                </a:lnTo>
                <a:lnTo>
                  <a:pt x="511" y="916"/>
                </a:lnTo>
                <a:lnTo>
                  <a:pt x="476" y="950"/>
                </a:lnTo>
                <a:lnTo>
                  <a:pt x="476" y="985"/>
                </a:lnTo>
                <a:lnTo>
                  <a:pt x="442" y="1019"/>
                </a:lnTo>
                <a:lnTo>
                  <a:pt x="442" y="1054"/>
                </a:lnTo>
                <a:lnTo>
                  <a:pt x="442" y="1088"/>
                </a:lnTo>
                <a:lnTo>
                  <a:pt x="407" y="1122"/>
                </a:lnTo>
                <a:lnTo>
                  <a:pt x="407" y="1157"/>
                </a:lnTo>
                <a:lnTo>
                  <a:pt x="373" y="1191"/>
                </a:lnTo>
                <a:lnTo>
                  <a:pt x="373" y="1226"/>
                </a:lnTo>
                <a:lnTo>
                  <a:pt x="338" y="1260"/>
                </a:lnTo>
                <a:lnTo>
                  <a:pt x="338" y="1295"/>
                </a:lnTo>
                <a:lnTo>
                  <a:pt x="311" y="1329"/>
                </a:lnTo>
                <a:lnTo>
                  <a:pt x="311" y="1364"/>
                </a:lnTo>
                <a:lnTo>
                  <a:pt x="276" y="1398"/>
                </a:lnTo>
                <a:lnTo>
                  <a:pt x="276" y="1426"/>
                </a:lnTo>
                <a:lnTo>
                  <a:pt x="276" y="1460"/>
                </a:lnTo>
                <a:lnTo>
                  <a:pt x="242" y="1494"/>
                </a:lnTo>
                <a:lnTo>
                  <a:pt x="242" y="1529"/>
                </a:lnTo>
                <a:lnTo>
                  <a:pt x="207" y="1563"/>
                </a:lnTo>
                <a:lnTo>
                  <a:pt x="207" y="1598"/>
                </a:lnTo>
                <a:lnTo>
                  <a:pt x="173" y="1632"/>
                </a:lnTo>
                <a:lnTo>
                  <a:pt x="173" y="1667"/>
                </a:lnTo>
                <a:lnTo>
                  <a:pt x="138" y="1701"/>
                </a:lnTo>
                <a:lnTo>
                  <a:pt x="138" y="1736"/>
                </a:lnTo>
                <a:lnTo>
                  <a:pt x="138" y="1770"/>
                </a:lnTo>
                <a:lnTo>
                  <a:pt x="104" y="1804"/>
                </a:lnTo>
                <a:lnTo>
                  <a:pt x="104" y="1839"/>
                </a:lnTo>
                <a:lnTo>
                  <a:pt x="69" y="1873"/>
                </a:lnTo>
                <a:lnTo>
                  <a:pt x="69" y="1908"/>
                </a:lnTo>
                <a:lnTo>
                  <a:pt x="69" y="1935"/>
                </a:lnTo>
                <a:lnTo>
                  <a:pt x="69" y="1970"/>
                </a:lnTo>
                <a:lnTo>
                  <a:pt x="69" y="2004"/>
                </a:lnTo>
                <a:lnTo>
                  <a:pt x="35" y="2039"/>
                </a:lnTo>
                <a:lnTo>
                  <a:pt x="35" y="2073"/>
                </a:lnTo>
                <a:lnTo>
                  <a:pt x="35" y="2108"/>
                </a:lnTo>
                <a:lnTo>
                  <a:pt x="35" y="2142"/>
                </a:lnTo>
                <a:lnTo>
                  <a:pt x="0" y="2176"/>
                </a:lnTo>
                <a:lnTo>
                  <a:pt x="0" y="2211"/>
                </a:lnTo>
                <a:lnTo>
                  <a:pt x="0" y="2245"/>
                </a:lnTo>
                <a:lnTo>
                  <a:pt x="0" y="2280"/>
                </a:lnTo>
                <a:lnTo>
                  <a:pt x="0" y="2314"/>
                </a:lnTo>
                <a:lnTo>
                  <a:pt x="0" y="2349"/>
                </a:lnTo>
                <a:lnTo>
                  <a:pt x="0" y="2383"/>
                </a:lnTo>
                <a:lnTo>
                  <a:pt x="0" y="2418"/>
                </a:lnTo>
                <a:lnTo>
                  <a:pt x="0" y="2452"/>
                </a:lnTo>
                <a:lnTo>
                  <a:pt x="0" y="2480"/>
                </a:lnTo>
                <a:lnTo>
                  <a:pt x="0" y="2514"/>
                </a:lnTo>
                <a:lnTo>
                  <a:pt x="0" y="2548"/>
                </a:lnTo>
                <a:lnTo>
                  <a:pt x="0" y="2583"/>
                </a:lnTo>
                <a:lnTo>
                  <a:pt x="35" y="2617"/>
                </a:lnTo>
                <a:lnTo>
                  <a:pt x="35" y="2652"/>
                </a:lnTo>
                <a:lnTo>
                  <a:pt x="35" y="2686"/>
                </a:lnTo>
                <a:lnTo>
                  <a:pt x="35" y="2721"/>
                </a:lnTo>
                <a:lnTo>
                  <a:pt x="35" y="2755"/>
                </a:lnTo>
                <a:lnTo>
                  <a:pt x="35" y="2789"/>
                </a:lnTo>
                <a:lnTo>
                  <a:pt x="35" y="2824"/>
                </a:lnTo>
                <a:lnTo>
                  <a:pt x="35" y="2858"/>
                </a:lnTo>
                <a:lnTo>
                  <a:pt x="35" y="2893"/>
                </a:lnTo>
                <a:lnTo>
                  <a:pt x="69" y="2927"/>
                </a:lnTo>
                <a:lnTo>
                  <a:pt x="69" y="2962"/>
                </a:lnTo>
                <a:lnTo>
                  <a:pt x="104" y="2996"/>
                </a:lnTo>
                <a:lnTo>
                  <a:pt x="138" y="3024"/>
                </a:lnTo>
                <a:lnTo>
                  <a:pt x="173" y="3058"/>
                </a:lnTo>
                <a:lnTo>
                  <a:pt x="207" y="3093"/>
                </a:lnTo>
                <a:lnTo>
                  <a:pt x="242" y="3127"/>
                </a:lnTo>
                <a:lnTo>
                  <a:pt x="276" y="3161"/>
                </a:lnTo>
                <a:lnTo>
                  <a:pt x="311" y="3196"/>
                </a:lnTo>
                <a:lnTo>
                  <a:pt x="338" y="3196"/>
                </a:lnTo>
                <a:lnTo>
                  <a:pt x="373" y="3230"/>
                </a:lnTo>
                <a:lnTo>
                  <a:pt x="407" y="3230"/>
                </a:lnTo>
                <a:lnTo>
                  <a:pt x="442" y="3230"/>
                </a:lnTo>
                <a:lnTo>
                  <a:pt x="476" y="3265"/>
                </a:lnTo>
                <a:lnTo>
                  <a:pt x="511" y="3265"/>
                </a:lnTo>
                <a:lnTo>
                  <a:pt x="545" y="3299"/>
                </a:lnTo>
                <a:lnTo>
                  <a:pt x="580" y="3299"/>
                </a:lnTo>
                <a:lnTo>
                  <a:pt x="614" y="3299"/>
                </a:lnTo>
                <a:lnTo>
                  <a:pt x="649" y="3299"/>
                </a:lnTo>
                <a:lnTo>
                  <a:pt x="683" y="3299"/>
                </a:lnTo>
                <a:lnTo>
                  <a:pt x="718" y="3299"/>
                </a:lnTo>
                <a:close/>
                <a:moveTo>
                  <a:pt x="373" y="2755"/>
                </a:moveTo>
                <a:lnTo>
                  <a:pt x="387" y="2734"/>
                </a:lnTo>
                <a:lnTo>
                  <a:pt x="393" y="2721"/>
                </a:lnTo>
                <a:lnTo>
                  <a:pt x="400" y="2714"/>
                </a:lnTo>
                <a:lnTo>
                  <a:pt x="407" y="2714"/>
                </a:lnTo>
                <a:lnTo>
                  <a:pt x="414" y="2727"/>
                </a:lnTo>
                <a:lnTo>
                  <a:pt x="414" y="2741"/>
                </a:lnTo>
                <a:lnTo>
                  <a:pt x="407" y="2755"/>
                </a:lnTo>
                <a:lnTo>
                  <a:pt x="407" y="2762"/>
                </a:lnTo>
                <a:lnTo>
                  <a:pt x="400" y="2762"/>
                </a:lnTo>
                <a:lnTo>
                  <a:pt x="387" y="2755"/>
                </a:lnTo>
                <a:lnTo>
                  <a:pt x="373" y="2755"/>
                </a:lnTo>
                <a:close/>
                <a:moveTo>
                  <a:pt x="511" y="1494"/>
                </a:moveTo>
                <a:lnTo>
                  <a:pt x="511" y="1488"/>
                </a:lnTo>
                <a:lnTo>
                  <a:pt x="511" y="1474"/>
                </a:lnTo>
                <a:lnTo>
                  <a:pt x="511" y="1467"/>
                </a:lnTo>
                <a:lnTo>
                  <a:pt x="511" y="1453"/>
                </a:lnTo>
                <a:lnTo>
                  <a:pt x="511" y="1446"/>
                </a:lnTo>
                <a:lnTo>
                  <a:pt x="511" y="1439"/>
                </a:lnTo>
                <a:lnTo>
                  <a:pt x="511" y="1426"/>
                </a:lnTo>
                <a:lnTo>
                  <a:pt x="511" y="1412"/>
                </a:lnTo>
                <a:lnTo>
                  <a:pt x="511" y="1398"/>
                </a:lnTo>
                <a:lnTo>
                  <a:pt x="511" y="1398"/>
                </a:lnTo>
                <a:lnTo>
                  <a:pt x="511" y="1398"/>
                </a:lnTo>
                <a:lnTo>
                  <a:pt x="511" y="1412"/>
                </a:lnTo>
                <a:lnTo>
                  <a:pt x="511" y="1426"/>
                </a:lnTo>
                <a:lnTo>
                  <a:pt x="511" y="1439"/>
                </a:lnTo>
                <a:lnTo>
                  <a:pt x="511" y="1446"/>
                </a:lnTo>
                <a:lnTo>
                  <a:pt x="511" y="1453"/>
                </a:lnTo>
                <a:lnTo>
                  <a:pt x="511" y="1467"/>
                </a:lnTo>
                <a:lnTo>
                  <a:pt x="511" y="1474"/>
                </a:lnTo>
                <a:lnTo>
                  <a:pt x="511" y="1488"/>
                </a:lnTo>
                <a:lnTo>
                  <a:pt x="511" y="1494"/>
                </a:lnTo>
                <a:close/>
                <a:moveTo>
                  <a:pt x="511" y="1329"/>
                </a:moveTo>
                <a:lnTo>
                  <a:pt x="497" y="1315"/>
                </a:lnTo>
                <a:lnTo>
                  <a:pt x="497" y="1302"/>
                </a:lnTo>
                <a:lnTo>
                  <a:pt x="497" y="1295"/>
                </a:lnTo>
                <a:lnTo>
                  <a:pt x="504" y="1288"/>
                </a:lnTo>
                <a:lnTo>
                  <a:pt x="511" y="1288"/>
                </a:lnTo>
                <a:lnTo>
                  <a:pt x="518" y="1281"/>
                </a:lnTo>
                <a:lnTo>
                  <a:pt x="524" y="1281"/>
                </a:lnTo>
                <a:lnTo>
                  <a:pt x="531" y="1288"/>
                </a:lnTo>
                <a:lnTo>
                  <a:pt x="538" y="1295"/>
                </a:lnTo>
                <a:lnTo>
                  <a:pt x="545" y="1302"/>
                </a:lnTo>
                <a:lnTo>
                  <a:pt x="545" y="1315"/>
                </a:lnTo>
                <a:lnTo>
                  <a:pt x="552" y="1322"/>
                </a:lnTo>
                <a:lnTo>
                  <a:pt x="566" y="1322"/>
                </a:lnTo>
                <a:lnTo>
                  <a:pt x="573" y="1322"/>
                </a:lnTo>
                <a:lnTo>
                  <a:pt x="580" y="1329"/>
                </a:lnTo>
                <a:lnTo>
                  <a:pt x="580" y="1329"/>
                </a:lnTo>
                <a:lnTo>
                  <a:pt x="573" y="1329"/>
                </a:lnTo>
                <a:lnTo>
                  <a:pt x="566" y="1336"/>
                </a:lnTo>
                <a:lnTo>
                  <a:pt x="552" y="1343"/>
                </a:lnTo>
                <a:lnTo>
                  <a:pt x="545" y="1343"/>
                </a:lnTo>
                <a:lnTo>
                  <a:pt x="531" y="1350"/>
                </a:lnTo>
                <a:lnTo>
                  <a:pt x="524" y="1350"/>
                </a:lnTo>
                <a:lnTo>
                  <a:pt x="518" y="1350"/>
                </a:lnTo>
                <a:lnTo>
                  <a:pt x="511" y="1350"/>
                </a:lnTo>
                <a:lnTo>
                  <a:pt x="511" y="1343"/>
                </a:lnTo>
                <a:lnTo>
                  <a:pt x="511" y="1329"/>
                </a:lnTo>
                <a:close/>
                <a:moveTo>
                  <a:pt x="718" y="3299"/>
                </a:moveTo>
                <a:lnTo>
                  <a:pt x="752" y="3265"/>
                </a:lnTo>
                <a:lnTo>
                  <a:pt x="787" y="3265"/>
                </a:lnTo>
                <a:lnTo>
                  <a:pt x="821" y="3265"/>
                </a:lnTo>
                <a:lnTo>
                  <a:pt x="855" y="3230"/>
                </a:lnTo>
                <a:lnTo>
                  <a:pt x="890" y="3230"/>
                </a:lnTo>
                <a:lnTo>
                  <a:pt x="924" y="3230"/>
                </a:lnTo>
                <a:lnTo>
                  <a:pt x="959" y="3196"/>
                </a:lnTo>
                <a:lnTo>
                  <a:pt x="993" y="3196"/>
                </a:lnTo>
                <a:lnTo>
                  <a:pt x="1028" y="3196"/>
                </a:lnTo>
                <a:lnTo>
                  <a:pt x="1062" y="3161"/>
                </a:lnTo>
                <a:lnTo>
                  <a:pt x="1090" y="3161"/>
                </a:lnTo>
                <a:lnTo>
                  <a:pt x="1090" y="3127"/>
                </a:lnTo>
                <a:lnTo>
                  <a:pt x="1124" y="3093"/>
                </a:lnTo>
                <a:lnTo>
                  <a:pt x="1124" y="3058"/>
                </a:lnTo>
                <a:lnTo>
                  <a:pt x="1159" y="3024"/>
                </a:lnTo>
                <a:lnTo>
                  <a:pt x="1159" y="2996"/>
                </a:lnTo>
                <a:lnTo>
                  <a:pt x="1193" y="2962"/>
                </a:lnTo>
                <a:lnTo>
                  <a:pt x="1193" y="2927"/>
                </a:lnTo>
                <a:lnTo>
                  <a:pt x="1228" y="2893"/>
                </a:lnTo>
                <a:lnTo>
                  <a:pt x="1228" y="2858"/>
                </a:lnTo>
                <a:lnTo>
                  <a:pt x="1262" y="2824"/>
                </a:lnTo>
                <a:lnTo>
                  <a:pt x="1262" y="2789"/>
                </a:lnTo>
                <a:lnTo>
                  <a:pt x="1297" y="2755"/>
                </a:lnTo>
                <a:lnTo>
                  <a:pt x="1297" y="2721"/>
                </a:lnTo>
                <a:lnTo>
                  <a:pt x="1331" y="2686"/>
                </a:lnTo>
                <a:lnTo>
                  <a:pt x="1331" y="2652"/>
                </a:lnTo>
                <a:lnTo>
                  <a:pt x="1366" y="2617"/>
                </a:lnTo>
                <a:lnTo>
                  <a:pt x="1366" y="2583"/>
                </a:lnTo>
                <a:lnTo>
                  <a:pt x="1400" y="2548"/>
                </a:lnTo>
                <a:lnTo>
                  <a:pt x="1400" y="2514"/>
                </a:lnTo>
                <a:lnTo>
                  <a:pt x="1435" y="2480"/>
                </a:lnTo>
                <a:lnTo>
                  <a:pt x="1435" y="2452"/>
                </a:lnTo>
                <a:lnTo>
                  <a:pt x="1469" y="2418"/>
                </a:lnTo>
                <a:lnTo>
                  <a:pt x="1469" y="2383"/>
                </a:lnTo>
                <a:lnTo>
                  <a:pt x="1504" y="2349"/>
                </a:lnTo>
                <a:lnTo>
                  <a:pt x="1504" y="2314"/>
                </a:lnTo>
                <a:lnTo>
                  <a:pt x="1538" y="2280"/>
                </a:lnTo>
                <a:lnTo>
                  <a:pt x="1538" y="2245"/>
                </a:lnTo>
                <a:lnTo>
                  <a:pt x="1573" y="2211"/>
                </a:lnTo>
                <a:lnTo>
                  <a:pt x="1573" y="2176"/>
                </a:lnTo>
                <a:lnTo>
                  <a:pt x="1607" y="2142"/>
                </a:lnTo>
                <a:lnTo>
                  <a:pt x="1607" y="2108"/>
                </a:lnTo>
                <a:lnTo>
                  <a:pt x="1641" y="2073"/>
                </a:lnTo>
                <a:lnTo>
                  <a:pt x="1641" y="2039"/>
                </a:lnTo>
                <a:lnTo>
                  <a:pt x="1676" y="2004"/>
                </a:lnTo>
                <a:lnTo>
                  <a:pt x="1676" y="1970"/>
                </a:lnTo>
                <a:lnTo>
                  <a:pt x="1710" y="1935"/>
                </a:lnTo>
                <a:lnTo>
                  <a:pt x="1710" y="1908"/>
                </a:lnTo>
                <a:lnTo>
                  <a:pt x="1745" y="1873"/>
                </a:lnTo>
                <a:lnTo>
                  <a:pt x="1745" y="1839"/>
                </a:lnTo>
                <a:lnTo>
                  <a:pt x="1745" y="1804"/>
                </a:lnTo>
                <a:lnTo>
                  <a:pt x="1745" y="1770"/>
                </a:lnTo>
                <a:lnTo>
                  <a:pt x="1779" y="1736"/>
                </a:lnTo>
                <a:lnTo>
                  <a:pt x="1779" y="1701"/>
                </a:lnTo>
                <a:lnTo>
                  <a:pt x="1779" y="1667"/>
                </a:lnTo>
                <a:lnTo>
                  <a:pt x="1779" y="1632"/>
                </a:lnTo>
                <a:lnTo>
                  <a:pt x="1779" y="1598"/>
                </a:lnTo>
                <a:lnTo>
                  <a:pt x="1779" y="1563"/>
                </a:lnTo>
                <a:lnTo>
                  <a:pt x="1807" y="1529"/>
                </a:lnTo>
                <a:lnTo>
                  <a:pt x="1807" y="1494"/>
                </a:lnTo>
                <a:lnTo>
                  <a:pt x="1807" y="1460"/>
                </a:lnTo>
                <a:lnTo>
                  <a:pt x="1807" y="1426"/>
                </a:lnTo>
                <a:lnTo>
                  <a:pt x="1807" y="1398"/>
                </a:lnTo>
                <a:lnTo>
                  <a:pt x="1807" y="1364"/>
                </a:lnTo>
                <a:lnTo>
                  <a:pt x="1841" y="1329"/>
                </a:lnTo>
                <a:lnTo>
                  <a:pt x="1841" y="1295"/>
                </a:lnTo>
                <a:lnTo>
                  <a:pt x="1841" y="1260"/>
                </a:lnTo>
                <a:lnTo>
                  <a:pt x="1841" y="1226"/>
                </a:lnTo>
                <a:lnTo>
                  <a:pt x="1841" y="1191"/>
                </a:lnTo>
                <a:lnTo>
                  <a:pt x="1841" y="1157"/>
                </a:lnTo>
                <a:lnTo>
                  <a:pt x="1876" y="1122"/>
                </a:lnTo>
                <a:lnTo>
                  <a:pt x="1876" y="1088"/>
                </a:lnTo>
                <a:lnTo>
                  <a:pt x="1876" y="1054"/>
                </a:lnTo>
                <a:lnTo>
                  <a:pt x="1876" y="1019"/>
                </a:lnTo>
                <a:lnTo>
                  <a:pt x="1876" y="985"/>
                </a:lnTo>
                <a:lnTo>
                  <a:pt x="1910" y="950"/>
                </a:lnTo>
                <a:lnTo>
                  <a:pt x="1910" y="916"/>
                </a:lnTo>
                <a:lnTo>
                  <a:pt x="1910" y="888"/>
                </a:lnTo>
                <a:lnTo>
                  <a:pt x="1910" y="854"/>
                </a:lnTo>
                <a:lnTo>
                  <a:pt x="1910" y="819"/>
                </a:lnTo>
                <a:lnTo>
                  <a:pt x="1910" y="785"/>
                </a:lnTo>
                <a:lnTo>
                  <a:pt x="1945" y="751"/>
                </a:lnTo>
                <a:lnTo>
                  <a:pt x="1945" y="716"/>
                </a:lnTo>
                <a:lnTo>
                  <a:pt x="1945" y="682"/>
                </a:lnTo>
                <a:lnTo>
                  <a:pt x="1945" y="647"/>
                </a:lnTo>
                <a:lnTo>
                  <a:pt x="1945" y="613"/>
                </a:lnTo>
                <a:lnTo>
                  <a:pt x="1945" y="578"/>
                </a:lnTo>
                <a:lnTo>
                  <a:pt x="1979" y="544"/>
                </a:lnTo>
                <a:lnTo>
                  <a:pt x="1979" y="509"/>
                </a:lnTo>
                <a:lnTo>
                  <a:pt x="1979" y="475"/>
                </a:lnTo>
                <a:lnTo>
                  <a:pt x="1979" y="441"/>
                </a:lnTo>
                <a:lnTo>
                  <a:pt x="1979" y="406"/>
                </a:lnTo>
                <a:lnTo>
                  <a:pt x="1979" y="372"/>
                </a:lnTo>
                <a:lnTo>
                  <a:pt x="2014" y="344"/>
                </a:lnTo>
                <a:lnTo>
                  <a:pt x="2014" y="310"/>
                </a:lnTo>
                <a:lnTo>
                  <a:pt x="2014" y="275"/>
                </a:lnTo>
                <a:lnTo>
                  <a:pt x="2014" y="241"/>
                </a:lnTo>
                <a:lnTo>
                  <a:pt x="2014" y="206"/>
                </a:lnTo>
                <a:lnTo>
                  <a:pt x="2014" y="172"/>
                </a:lnTo>
                <a:lnTo>
                  <a:pt x="2048" y="137"/>
                </a:lnTo>
                <a:lnTo>
                  <a:pt x="2048" y="103"/>
                </a:lnTo>
                <a:lnTo>
                  <a:pt x="2048" y="69"/>
                </a:lnTo>
                <a:lnTo>
                  <a:pt x="2048" y="34"/>
                </a:lnTo>
                <a:lnTo>
                  <a:pt x="2048" y="0"/>
                </a:lnTo>
                <a:lnTo>
                  <a:pt x="2014" y="0"/>
                </a:lnTo>
                <a:lnTo>
                  <a:pt x="1979" y="0"/>
                </a:lnTo>
                <a:lnTo>
                  <a:pt x="1945" y="0"/>
                </a:lnTo>
                <a:lnTo>
                  <a:pt x="1910" y="34"/>
                </a:lnTo>
                <a:lnTo>
                  <a:pt x="1876" y="34"/>
                </a:lnTo>
                <a:lnTo>
                  <a:pt x="1841" y="69"/>
                </a:lnTo>
                <a:lnTo>
                  <a:pt x="1807" y="69"/>
                </a:lnTo>
                <a:lnTo>
                  <a:pt x="1779" y="69"/>
                </a:lnTo>
                <a:lnTo>
                  <a:pt x="1745" y="103"/>
                </a:lnTo>
                <a:lnTo>
                  <a:pt x="1710" y="103"/>
                </a:lnTo>
                <a:lnTo>
                  <a:pt x="1676" y="137"/>
                </a:lnTo>
                <a:lnTo>
                  <a:pt x="1641" y="137"/>
                </a:lnTo>
                <a:lnTo>
                  <a:pt x="1607" y="172"/>
                </a:lnTo>
                <a:lnTo>
                  <a:pt x="1573" y="172"/>
                </a:lnTo>
                <a:lnTo>
                  <a:pt x="1538" y="206"/>
                </a:lnTo>
                <a:lnTo>
                  <a:pt x="1504" y="206"/>
                </a:lnTo>
                <a:lnTo>
                  <a:pt x="1469" y="206"/>
                </a:lnTo>
                <a:lnTo>
                  <a:pt x="1435" y="241"/>
                </a:lnTo>
                <a:lnTo>
                  <a:pt x="1400" y="241"/>
                </a:lnTo>
                <a:lnTo>
                  <a:pt x="1366" y="275"/>
                </a:lnTo>
                <a:lnTo>
                  <a:pt x="1331" y="275"/>
                </a:lnTo>
                <a:lnTo>
                  <a:pt x="1297" y="310"/>
                </a:lnTo>
                <a:lnTo>
                  <a:pt x="1262" y="310"/>
                </a:lnTo>
                <a:lnTo>
                  <a:pt x="1228" y="344"/>
                </a:lnTo>
                <a:lnTo>
                  <a:pt x="1193" y="344"/>
                </a:lnTo>
                <a:lnTo>
                  <a:pt x="1159" y="344"/>
                </a:lnTo>
                <a:lnTo>
                  <a:pt x="1124" y="372"/>
                </a:lnTo>
                <a:lnTo>
                  <a:pt x="1090" y="372"/>
                </a:lnTo>
                <a:lnTo>
                  <a:pt x="1062" y="406"/>
                </a:lnTo>
                <a:lnTo>
                  <a:pt x="1028" y="406"/>
                </a:lnTo>
                <a:lnTo>
                  <a:pt x="993" y="441"/>
                </a:lnTo>
                <a:lnTo>
                  <a:pt x="959" y="441"/>
                </a:lnTo>
                <a:lnTo>
                  <a:pt x="924" y="475"/>
                </a:lnTo>
                <a:lnTo>
                  <a:pt x="890" y="475"/>
                </a:lnTo>
                <a:lnTo>
                  <a:pt x="855" y="475"/>
                </a:lnTo>
                <a:lnTo>
                  <a:pt x="821" y="509"/>
                </a:lnTo>
                <a:lnTo>
                  <a:pt x="787" y="544"/>
                </a:lnTo>
                <a:lnTo>
                  <a:pt x="752" y="578"/>
                </a:lnTo>
                <a:lnTo>
                  <a:pt x="752" y="613"/>
                </a:lnTo>
                <a:lnTo>
                  <a:pt x="718" y="647"/>
                </a:lnTo>
                <a:lnTo>
                  <a:pt x="683" y="682"/>
                </a:lnTo>
                <a:lnTo>
                  <a:pt x="649" y="716"/>
                </a:lnTo>
                <a:lnTo>
                  <a:pt x="649" y="751"/>
                </a:lnTo>
                <a:lnTo>
                  <a:pt x="614" y="785"/>
                </a:lnTo>
                <a:lnTo>
                  <a:pt x="580" y="819"/>
                </a:lnTo>
                <a:lnTo>
                  <a:pt x="545" y="854"/>
                </a:lnTo>
                <a:lnTo>
                  <a:pt x="545" y="888"/>
                </a:lnTo>
                <a:lnTo>
                  <a:pt x="511" y="916"/>
                </a:lnTo>
                <a:lnTo>
                  <a:pt x="476" y="950"/>
                </a:lnTo>
                <a:lnTo>
                  <a:pt x="476" y="985"/>
                </a:lnTo>
                <a:lnTo>
                  <a:pt x="442" y="1019"/>
                </a:lnTo>
                <a:lnTo>
                  <a:pt x="442" y="1054"/>
                </a:lnTo>
                <a:lnTo>
                  <a:pt x="442" y="1088"/>
                </a:lnTo>
                <a:lnTo>
                  <a:pt x="407" y="1122"/>
                </a:lnTo>
                <a:lnTo>
                  <a:pt x="407" y="1157"/>
                </a:lnTo>
                <a:lnTo>
                  <a:pt x="373" y="1191"/>
                </a:lnTo>
                <a:lnTo>
                  <a:pt x="373" y="1226"/>
                </a:lnTo>
                <a:lnTo>
                  <a:pt x="338" y="1260"/>
                </a:lnTo>
                <a:lnTo>
                  <a:pt x="338" y="1295"/>
                </a:lnTo>
                <a:lnTo>
                  <a:pt x="311" y="1329"/>
                </a:lnTo>
                <a:lnTo>
                  <a:pt x="311" y="1364"/>
                </a:lnTo>
                <a:lnTo>
                  <a:pt x="276" y="1398"/>
                </a:lnTo>
                <a:lnTo>
                  <a:pt x="276" y="1426"/>
                </a:lnTo>
                <a:lnTo>
                  <a:pt x="276" y="1460"/>
                </a:lnTo>
                <a:lnTo>
                  <a:pt x="242" y="1494"/>
                </a:lnTo>
                <a:lnTo>
                  <a:pt x="242" y="1529"/>
                </a:lnTo>
                <a:lnTo>
                  <a:pt x="207" y="1563"/>
                </a:lnTo>
                <a:lnTo>
                  <a:pt x="207" y="1598"/>
                </a:lnTo>
                <a:lnTo>
                  <a:pt x="173" y="1632"/>
                </a:lnTo>
                <a:lnTo>
                  <a:pt x="173" y="1667"/>
                </a:lnTo>
                <a:lnTo>
                  <a:pt x="138" y="1701"/>
                </a:lnTo>
                <a:lnTo>
                  <a:pt x="138" y="1736"/>
                </a:lnTo>
                <a:lnTo>
                  <a:pt x="138" y="1770"/>
                </a:lnTo>
                <a:lnTo>
                  <a:pt x="104" y="1804"/>
                </a:lnTo>
                <a:lnTo>
                  <a:pt x="104" y="1839"/>
                </a:lnTo>
                <a:lnTo>
                  <a:pt x="69" y="1873"/>
                </a:lnTo>
                <a:lnTo>
                  <a:pt x="69" y="1908"/>
                </a:lnTo>
                <a:lnTo>
                  <a:pt x="69" y="1935"/>
                </a:lnTo>
                <a:lnTo>
                  <a:pt x="69" y="1970"/>
                </a:lnTo>
                <a:lnTo>
                  <a:pt x="69" y="2004"/>
                </a:lnTo>
                <a:lnTo>
                  <a:pt x="35" y="2039"/>
                </a:lnTo>
                <a:lnTo>
                  <a:pt x="35" y="2073"/>
                </a:lnTo>
                <a:lnTo>
                  <a:pt x="35" y="2108"/>
                </a:lnTo>
                <a:lnTo>
                  <a:pt x="35" y="2142"/>
                </a:lnTo>
                <a:lnTo>
                  <a:pt x="0" y="2176"/>
                </a:lnTo>
                <a:lnTo>
                  <a:pt x="0" y="2211"/>
                </a:lnTo>
                <a:lnTo>
                  <a:pt x="0" y="2245"/>
                </a:lnTo>
                <a:lnTo>
                  <a:pt x="0" y="2280"/>
                </a:lnTo>
                <a:lnTo>
                  <a:pt x="0" y="2314"/>
                </a:lnTo>
                <a:lnTo>
                  <a:pt x="0" y="2349"/>
                </a:lnTo>
                <a:lnTo>
                  <a:pt x="0" y="2383"/>
                </a:lnTo>
                <a:lnTo>
                  <a:pt x="0" y="2418"/>
                </a:lnTo>
                <a:lnTo>
                  <a:pt x="0" y="2452"/>
                </a:lnTo>
                <a:lnTo>
                  <a:pt x="0" y="2480"/>
                </a:lnTo>
                <a:lnTo>
                  <a:pt x="0" y="2514"/>
                </a:lnTo>
                <a:lnTo>
                  <a:pt x="0" y="2548"/>
                </a:lnTo>
                <a:lnTo>
                  <a:pt x="0" y="2583"/>
                </a:lnTo>
                <a:lnTo>
                  <a:pt x="35" y="2617"/>
                </a:lnTo>
                <a:lnTo>
                  <a:pt x="35" y="2652"/>
                </a:lnTo>
                <a:lnTo>
                  <a:pt x="35" y="2686"/>
                </a:lnTo>
                <a:lnTo>
                  <a:pt x="35" y="2721"/>
                </a:lnTo>
                <a:lnTo>
                  <a:pt x="35" y="2755"/>
                </a:lnTo>
                <a:lnTo>
                  <a:pt x="35" y="2789"/>
                </a:lnTo>
                <a:lnTo>
                  <a:pt x="35" y="2824"/>
                </a:lnTo>
                <a:lnTo>
                  <a:pt x="35" y="2858"/>
                </a:lnTo>
                <a:lnTo>
                  <a:pt x="35" y="2893"/>
                </a:lnTo>
                <a:lnTo>
                  <a:pt x="69" y="2927"/>
                </a:lnTo>
                <a:lnTo>
                  <a:pt x="69" y="2962"/>
                </a:lnTo>
                <a:lnTo>
                  <a:pt x="104" y="2996"/>
                </a:lnTo>
                <a:lnTo>
                  <a:pt x="138" y="3024"/>
                </a:lnTo>
                <a:lnTo>
                  <a:pt x="173" y="3058"/>
                </a:lnTo>
                <a:lnTo>
                  <a:pt x="207" y="3093"/>
                </a:lnTo>
                <a:lnTo>
                  <a:pt x="242" y="3127"/>
                </a:lnTo>
                <a:lnTo>
                  <a:pt x="276" y="3161"/>
                </a:lnTo>
                <a:lnTo>
                  <a:pt x="311" y="3196"/>
                </a:lnTo>
                <a:lnTo>
                  <a:pt x="338" y="3196"/>
                </a:lnTo>
                <a:lnTo>
                  <a:pt x="373" y="3230"/>
                </a:lnTo>
                <a:lnTo>
                  <a:pt x="407" y="3230"/>
                </a:lnTo>
                <a:lnTo>
                  <a:pt x="442" y="3230"/>
                </a:lnTo>
                <a:lnTo>
                  <a:pt x="476" y="3265"/>
                </a:lnTo>
                <a:lnTo>
                  <a:pt x="511" y="3265"/>
                </a:lnTo>
                <a:lnTo>
                  <a:pt x="545" y="3299"/>
                </a:lnTo>
                <a:lnTo>
                  <a:pt x="580" y="3299"/>
                </a:lnTo>
                <a:lnTo>
                  <a:pt x="614" y="3299"/>
                </a:lnTo>
                <a:lnTo>
                  <a:pt x="649" y="3299"/>
                </a:lnTo>
                <a:lnTo>
                  <a:pt x="683" y="3299"/>
                </a:lnTo>
                <a:lnTo>
                  <a:pt x="718" y="3299"/>
                </a:lnTo>
                <a:close/>
              </a:path>
            </a:pathLst>
          </a:custGeom>
          <a:solidFill>
            <a:srgbClr val="33ae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7" name=""/>
          <p:cNvSpPr/>
          <p:nvPr/>
        </p:nvSpPr>
        <p:spPr>
          <a:xfrm>
            <a:off x="2112840" y="2060640"/>
            <a:ext cx="87480" cy="87120"/>
          </a:xfrm>
          <a:custGeom>
            <a:avLst/>
            <a:gdLst/>
            <a:ahLst/>
            <a:rect l="l" t="t" r="r" b="b"/>
            <a:pathLst>
              <a:path w="55" h="55">
                <a:moveTo>
                  <a:pt x="28" y="55"/>
                </a:moveTo>
                <a:lnTo>
                  <a:pt x="34" y="55"/>
                </a:lnTo>
                <a:lnTo>
                  <a:pt x="34" y="35"/>
                </a:lnTo>
                <a:lnTo>
                  <a:pt x="55" y="35"/>
                </a:lnTo>
                <a:lnTo>
                  <a:pt x="55" y="28"/>
                </a:lnTo>
                <a:lnTo>
                  <a:pt x="34" y="28"/>
                </a:lnTo>
                <a:lnTo>
                  <a:pt x="34" y="0"/>
                </a:lnTo>
                <a:lnTo>
                  <a:pt x="28" y="0"/>
                </a:lnTo>
                <a:lnTo>
                  <a:pt x="28" y="28"/>
                </a:lnTo>
                <a:lnTo>
                  <a:pt x="0" y="28"/>
                </a:lnTo>
                <a:lnTo>
                  <a:pt x="0" y="35"/>
                </a:lnTo>
                <a:lnTo>
                  <a:pt x="28" y="35"/>
                </a:lnTo>
                <a:lnTo>
                  <a:pt x="28" y="55"/>
                </a:lnTo>
                <a:close/>
              </a:path>
            </a:pathLst>
          </a:custGeom>
          <a:solidFill>
            <a:srgbClr val="0000ff"/>
          </a:solidFill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8" name=""/>
          <p:cNvSpPr/>
          <p:nvPr/>
        </p:nvSpPr>
        <p:spPr>
          <a:xfrm>
            <a:off x="7300800" y="2060640"/>
            <a:ext cx="87480" cy="87120"/>
          </a:xfrm>
          <a:custGeom>
            <a:avLst/>
            <a:gdLst/>
            <a:ahLst/>
            <a:rect l="l" t="t" r="r" b="b"/>
            <a:pathLst>
              <a:path w="55" h="55">
                <a:moveTo>
                  <a:pt x="28" y="55"/>
                </a:moveTo>
                <a:lnTo>
                  <a:pt x="35" y="55"/>
                </a:lnTo>
                <a:lnTo>
                  <a:pt x="35" y="35"/>
                </a:lnTo>
                <a:lnTo>
                  <a:pt x="55" y="35"/>
                </a:lnTo>
                <a:lnTo>
                  <a:pt x="55" y="28"/>
                </a:lnTo>
                <a:lnTo>
                  <a:pt x="35" y="28"/>
                </a:lnTo>
                <a:lnTo>
                  <a:pt x="35" y="0"/>
                </a:lnTo>
                <a:lnTo>
                  <a:pt x="28" y="0"/>
                </a:lnTo>
                <a:lnTo>
                  <a:pt x="28" y="28"/>
                </a:lnTo>
                <a:lnTo>
                  <a:pt x="0" y="28"/>
                </a:lnTo>
                <a:lnTo>
                  <a:pt x="0" y="35"/>
                </a:lnTo>
                <a:lnTo>
                  <a:pt x="28" y="35"/>
                </a:lnTo>
                <a:lnTo>
                  <a:pt x="28" y="55"/>
                </a:lnTo>
                <a:close/>
              </a:path>
            </a:pathLst>
          </a:custGeom>
          <a:solidFill>
            <a:srgbClr val="0000ff"/>
          </a:solidFill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9" name=""/>
          <p:cNvSpPr/>
          <p:nvPr/>
        </p:nvSpPr>
        <p:spPr>
          <a:xfrm>
            <a:off x="7311960" y="5735520"/>
            <a:ext cx="87480" cy="98640"/>
          </a:xfrm>
          <a:custGeom>
            <a:avLst/>
            <a:gdLst/>
            <a:ahLst/>
            <a:rect l="l" t="t" r="r" b="b"/>
            <a:pathLst>
              <a:path w="55" h="62">
                <a:moveTo>
                  <a:pt x="28" y="62"/>
                </a:moveTo>
                <a:lnTo>
                  <a:pt x="28" y="62"/>
                </a:lnTo>
                <a:lnTo>
                  <a:pt x="28" y="34"/>
                </a:lnTo>
                <a:lnTo>
                  <a:pt x="55" y="34"/>
                </a:lnTo>
                <a:lnTo>
                  <a:pt x="55" y="27"/>
                </a:lnTo>
                <a:lnTo>
                  <a:pt x="28" y="27"/>
                </a:lnTo>
                <a:lnTo>
                  <a:pt x="28" y="0"/>
                </a:lnTo>
                <a:lnTo>
                  <a:pt x="28" y="0"/>
                </a:lnTo>
                <a:lnTo>
                  <a:pt x="28" y="27"/>
                </a:lnTo>
                <a:lnTo>
                  <a:pt x="0" y="27"/>
                </a:lnTo>
                <a:lnTo>
                  <a:pt x="0" y="34"/>
                </a:lnTo>
                <a:lnTo>
                  <a:pt x="28" y="34"/>
                </a:lnTo>
                <a:lnTo>
                  <a:pt x="28" y="62"/>
                </a:lnTo>
                <a:close/>
              </a:path>
            </a:pathLst>
          </a:custGeom>
          <a:solidFill>
            <a:srgbClr val="0000ff"/>
          </a:solidFill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0" name=""/>
          <p:cNvSpPr/>
          <p:nvPr/>
        </p:nvSpPr>
        <p:spPr>
          <a:xfrm>
            <a:off x="2112840" y="5735520"/>
            <a:ext cx="87480" cy="98640"/>
          </a:xfrm>
          <a:custGeom>
            <a:avLst/>
            <a:gdLst/>
            <a:ahLst/>
            <a:rect l="l" t="t" r="r" b="b"/>
            <a:pathLst>
              <a:path w="55" h="62">
                <a:moveTo>
                  <a:pt x="28" y="62"/>
                </a:moveTo>
                <a:lnTo>
                  <a:pt x="34" y="62"/>
                </a:lnTo>
                <a:lnTo>
                  <a:pt x="34" y="34"/>
                </a:lnTo>
                <a:lnTo>
                  <a:pt x="55" y="34"/>
                </a:lnTo>
                <a:lnTo>
                  <a:pt x="55" y="27"/>
                </a:lnTo>
                <a:lnTo>
                  <a:pt x="34" y="27"/>
                </a:lnTo>
                <a:lnTo>
                  <a:pt x="34" y="0"/>
                </a:lnTo>
                <a:lnTo>
                  <a:pt x="28" y="0"/>
                </a:lnTo>
                <a:lnTo>
                  <a:pt x="28" y="27"/>
                </a:lnTo>
                <a:lnTo>
                  <a:pt x="0" y="27"/>
                </a:lnTo>
                <a:lnTo>
                  <a:pt x="0" y="34"/>
                </a:lnTo>
                <a:lnTo>
                  <a:pt x="28" y="34"/>
                </a:lnTo>
                <a:lnTo>
                  <a:pt x="28" y="62"/>
                </a:lnTo>
                <a:close/>
              </a:path>
            </a:pathLst>
          </a:custGeom>
          <a:solidFill>
            <a:srgbClr val="0000ff"/>
          </a:solidFill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41" name=""/>
          <p:cNvGrpSpPr/>
          <p:nvPr/>
        </p:nvGrpSpPr>
        <p:grpSpPr>
          <a:xfrm>
            <a:off x="2911320" y="2102760"/>
            <a:ext cx="3973680" cy="3601080"/>
            <a:chOff x="2911320" y="2102760"/>
            <a:chExt cx="3973680" cy="3601080"/>
          </a:xfrm>
        </p:grpSpPr>
        <p:sp>
          <p:nvSpPr>
            <p:cNvPr id="6642" name=""/>
            <p:cNvSpPr/>
            <p:nvPr/>
          </p:nvSpPr>
          <p:spPr>
            <a:xfrm rot="17760000">
              <a:off x="4148280" y="221076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3" name=""/>
            <p:cNvSpPr/>
            <p:nvPr/>
          </p:nvSpPr>
          <p:spPr>
            <a:xfrm rot="17760000">
              <a:off x="4182120" y="2140560"/>
              <a:ext cx="84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4" name=""/>
            <p:cNvSpPr/>
            <p:nvPr/>
          </p:nvSpPr>
          <p:spPr>
            <a:xfrm rot="17280000">
              <a:off x="4403880" y="217152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5" name=""/>
            <p:cNvSpPr/>
            <p:nvPr/>
          </p:nvSpPr>
          <p:spPr>
            <a:xfrm rot="17280000">
              <a:off x="4437000" y="209340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6" name=""/>
            <p:cNvSpPr/>
            <p:nvPr/>
          </p:nvSpPr>
          <p:spPr>
            <a:xfrm>
              <a:off x="3951360" y="4203720"/>
              <a:ext cx="44280" cy="223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7" name=""/>
            <p:cNvSpPr/>
            <p:nvPr/>
          </p:nvSpPr>
          <p:spPr>
            <a:xfrm>
              <a:off x="4017960" y="4259160"/>
              <a:ext cx="20520" cy="3168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7" y="0"/>
                  </a:moveTo>
                  <a:lnTo>
                    <a:pt x="13" y="0"/>
                  </a:lnTo>
                  <a:lnTo>
                    <a:pt x="0" y="2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8" name=""/>
            <p:cNvSpPr/>
            <p:nvPr/>
          </p:nvSpPr>
          <p:spPr>
            <a:xfrm flipH="1">
              <a:off x="3984120" y="4324320"/>
              <a:ext cx="11160" cy="446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9" name=""/>
            <p:cNvSpPr/>
            <p:nvPr/>
          </p:nvSpPr>
          <p:spPr>
            <a:xfrm>
              <a:off x="4006800" y="4400640"/>
              <a:ext cx="31680" cy="331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0" name=""/>
            <p:cNvSpPr/>
            <p:nvPr/>
          </p:nvSpPr>
          <p:spPr>
            <a:xfrm>
              <a:off x="4083120" y="4456080"/>
              <a:ext cx="33120" cy="223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1" name=""/>
            <p:cNvSpPr/>
            <p:nvPr/>
          </p:nvSpPr>
          <p:spPr>
            <a:xfrm>
              <a:off x="4148280" y="4510080"/>
              <a:ext cx="44280" cy="223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2" name=""/>
            <p:cNvSpPr/>
            <p:nvPr/>
          </p:nvSpPr>
          <p:spPr>
            <a:xfrm>
              <a:off x="4226040" y="4565520"/>
              <a:ext cx="31680" cy="208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3" name=""/>
            <p:cNvSpPr/>
            <p:nvPr/>
          </p:nvSpPr>
          <p:spPr>
            <a:xfrm>
              <a:off x="4290840" y="4619520"/>
              <a:ext cx="44640" cy="223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4" name=""/>
            <p:cNvSpPr/>
            <p:nvPr/>
          </p:nvSpPr>
          <p:spPr>
            <a:xfrm>
              <a:off x="4367160" y="4664160"/>
              <a:ext cx="33480" cy="316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5" name=""/>
            <p:cNvSpPr/>
            <p:nvPr/>
          </p:nvSpPr>
          <p:spPr>
            <a:xfrm>
              <a:off x="4444920" y="4718160"/>
              <a:ext cx="180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6" name=""/>
            <p:cNvSpPr/>
            <p:nvPr/>
          </p:nvSpPr>
          <p:spPr>
            <a:xfrm>
              <a:off x="5659560" y="4510080"/>
              <a:ext cx="5400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7" name=""/>
            <p:cNvSpPr/>
            <p:nvPr/>
          </p:nvSpPr>
          <p:spPr>
            <a:xfrm>
              <a:off x="5713560" y="4554360"/>
              <a:ext cx="33120" cy="11160"/>
            </a:xfrm>
            <a:custGeom>
              <a:avLst/>
              <a:gdLst/>
              <a:ahLst/>
              <a:rect l="l" t="t" r="r" b="b"/>
              <a:pathLst>
                <a:path w="21" h="7">
                  <a:moveTo>
                    <a:pt x="0" y="0"/>
                  </a:moveTo>
                  <a:lnTo>
                    <a:pt x="0" y="0"/>
                  </a:lnTo>
                  <a:lnTo>
                    <a:pt x="21" y="7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8" name=""/>
            <p:cNvSpPr/>
            <p:nvPr/>
          </p:nvSpPr>
          <p:spPr>
            <a:xfrm>
              <a:off x="5791320" y="4586400"/>
              <a:ext cx="31680" cy="21960"/>
            </a:xfrm>
            <a:custGeom>
              <a:avLst/>
              <a:gdLst/>
              <a:ahLst/>
              <a:rect l="l" t="t" r="r" b="b"/>
              <a:pathLst>
                <a:path w="20" h="14">
                  <a:moveTo>
                    <a:pt x="0" y="0"/>
                  </a:moveTo>
                  <a:lnTo>
                    <a:pt x="20" y="14"/>
                  </a:lnTo>
                  <a:lnTo>
                    <a:pt x="20" y="14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9" name=""/>
            <p:cNvSpPr/>
            <p:nvPr/>
          </p:nvSpPr>
          <p:spPr>
            <a:xfrm>
              <a:off x="5867280" y="4619520"/>
              <a:ext cx="42840" cy="111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0" name=""/>
            <p:cNvSpPr/>
            <p:nvPr/>
          </p:nvSpPr>
          <p:spPr>
            <a:xfrm>
              <a:off x="5637240" y="3963960"/>
              <a:ext cx="11160" cy="42840"/>
            </a:xfrm>
            <a:custGeom>
              <a:avLst/>
              <a:gdLst/>
              <a:ahLst/>
              <a:rect l="l" t="t" r="r" b="b"/>
              <a:pathLst>
                <a:path w="7" h="27">
                  <a:moveTo>
                    <a:pt x="7" y="0"/>
                  </a:moveTo>
                  <a:lnTo>
                    <a:pt x="0" y="27"/>
                  </a:lnTo>
                  <a:lnTo>
                    <a:pt x="0" y="27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1" name=""/>
            <p:cNvSpPr/>
            <p:nvPr/>
          </p:nvSpPr>
          <p:spPr>
            <a:xfrm>
              <a:off x="5637240" y="4051440"/>
              <a:ext cx="1440" cy="428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2" name=""/>
            <p:cNvSpPr/>
            <p:nvPr/>
          </p:nvSpPr>
          <p:spPr>
            <a:xfrm>
              <a:off x="5637240" y="4149720"/>
              <a:ext cx="1440" cy="428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3" name=""/>
            <p:cNvSpPr/>
            <p:nvPr/>
          </p:nvSpPr>
          <p:spPr>
            <a:xfrm>
              <a:off x="5626080" y="4237200"/>
              <a:ext cx="1440" cy="442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4" name=""/>
            <p:cNvSpPr/>
            <p:nvPr/>
          </p:nvSpPr>
          <p:spPr>
            <a:xfrm>
              <a:off x="5626080" y="4324320"/>
              <a:ext cx="22320" cy="2232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0" y="0"/>
                  </a:moveTo>
                  <a:lnTo>
                    <a:pt x="0" y="14"/>
                  </a:lnTo>
                  <a:lnTo>
                    <a:pt x="14" y="14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5" name=""/>
            <p:cNvSpPr/>
            <p:nvPr/>
          </p:nvSpPr>
          <p:spPr>
            <a:xfrm flipH="1">
              <a:off x="5659200" y="4379760"/>
              <a:ext cx="11160" cy="428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6" name=""/>
            <p:cNvSpPr/>
            <p:nvPr/>
          </p:nvSpPr>
          <p:spPr>
            <a:xfrm>
              <a:off x="5659560" y="4467240"/>
              <a:ext cx="1440" cy="428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7" name=""/>
            <p:cNvSpPr/>
            <p:nvPr/>
          </p:nvSpPr>
          <p:spPr>
            <a:xfrm>
              <a:off x="4641840" y="5089680"/>
              <a:ext cx="11160" cy="442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8" name=""/>
            <p:cNvSpPr/>
            <p:nvPr/>
          </p:nvSpPr>
          <p:spPr>
            <a:xfrm>
              <a:off x="4662360" y="5176800"/>
              <a:ext cx="11160" cy="446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9" name=""/>
            <p:cNvSpPr/>
            <p:nvPr/>
          </p:nvSpPr>
          <p:spPr>
            <a:xfrm>
              <a:off x="4684680" y="5265720"/>
              <a:ext cx="1800" cy="428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0" name=""/>
            <p:cNvSpPr/>
            <p:nvPr/>
          </p:nvSpPr>
          <p:spPr>
            <a:xfrm>
              <a:off x="4695840" y="5353200"/>
              <a:ext cx="11160" cy="428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1" name=""/>
            <p:cNvSpPr/>
            <p:nvPr/>
          </p:nvSpPr>
          <p:spPr>
            <a:xfrm>
              <a:off x="4718160" y="5440320"/>
              <a:ext cx="11160" cy="428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2" name=""/>
            <p:cNvSpPr/>
            <p:nvPr/>
          </p:nvSpPr>
          <p:spPr>
            <a:xfrm>
              <a:off x="4729320" y="5527800"/>
              <a:ext cx="10800" cy="428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3" name=""/>
            <p:cNvSpPr/>
            <p:nvPr/>
          </p:nvSpPr>
          <p:spPr>
            <a:xfrm>
              <a:off x="4751280" y="5614920"/>
              <a:ext cx="11160" cy="428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4" name=""/>
            <p:cNvSpPr/>
            <p:nvPr/>
          </p:nvSpPr>
          <p:spPr>
            <a:xfrm>
              <a:off x="4673520" y="5078520"/>
              <a:ext cx="11160" cy="442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5" name=""/>
            <p:cNvSpPr/>
            <p:nvPr/>
          </p:nvSpPr>
          <p:spPr>
            <a:xfrm>
              <a:off x="4707000" y="5156280"/>
              <a:ext cx="22320" cy="428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6" name=""/>
            <p:cNvSpPr/>
            <p:nvPr/>
          </p:nvSpPr>
          <p:spPr>
            <a:xfrm>
              <a:off x="4751280" y="5243400"/>
              <a:ext cx="20880" cy="320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7" name=""/>
            <p:cNvSpPr/>
            <p:nvPr/>
          </p:nvSpPr>
          <p:spPr>
            <a:xfrm>
              <a:off x="4782960" y="5319720"/>
              <a:ext cx="22320" cy="334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8" name=""/>
            <p:cNvSpPr/>
            <p:nvPr/>
          </p:nvSpPr>
          <p:spPr>
            <a:xfrm>
              <a:off x="4827600" y="5396040"/>
              <a:ext cx="22320" cy="442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9" name=""/>
            <p:cNvSpPr/>
            <p:nvPr/>
          </p:nvSpPr>
          <p:spPr>
            <a:xfrm flipV="1">
              <a:off x="4729320" y="5482800"/>
              <a:ext cx="42840" cy="111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0" name=""/>
            <p:cNvSpPr/>
            <p:nvPr/>
          </p:nvSpPr>
          <p:spPr>
            <a:xfrm>
              <a:off x="4816440" y="5451480"/>
              <a:ext cx="33480" cy="9360"/>
            </a:xfrm>
            <a:custGeom>
              <a:avLst/>
              <a:gdLst/>
              <a:ahLst/>
              <a:rect l="l" t="t" r="r" b="b"/>
              <a:pathLst>
                <a:path w="21" h="6">
                  <a:moveTo>
                    <a:pt x="0" y="6"/>
                  </a:moveTo>
                  <a:lnTo>
                    <a:pt x="7" y="6"/>
                  </a:lnTo>
                  <a:lnTo>
                    <a:pt x="21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1" name=""/>
            <p:cNvSpPr/>
            <p:nvPr/>
          </p:nvSpPr>
          <p:spPr>
            <a:xfrm>
              <a:off x="4892760" y="5396040"/>
              <a:ext cx="33120" cy="33120"/>
            </a:xfrm>
            <a:custGeom>
              <a:avLst/>
              <a:gdLst/>
              <a:ahLst/>
              <a:rect l="l" t="t" r="r" b="b"/>
              <a:pathLst>
                <a:path w="21" h="21">
                  <a:moveTo>
                    <a:pt x="0" y="21"/>
                  </a:moveTo>
                  <a:lnTo>
                    <a:pt x="21" y="7"/>
                  </a:lnTo>
                  <a:lnTo>
                    <a:pt x="21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2" name=""/>
            <p:cNvSpPr/>
            <p:nvPr/>
          </p:nvSpPr>
          <p:spPr>
            <a:xfrm>
              <a:off x="4970520" y="5384880"/>
              <a:ext cx="42840" cy="1440"/>
            </a:xfrm>
            <a:custGeom>
              <a:avLst/>
              <a:gdLst/>
              <a:ahLst/>
              <a:rect l="l" t="t" r="r" b="b"/>
              <a:pathLst>
                <a:path w="27" h="0">
                  <a:moveTo>
                    <a:pt x="0" y="0"/>
                  </a:moveTo>
                  <a:lnTo>
                    <a:pt x="27" y="0"/>
                  </a:lnTo>
                  <a:lnTo>
                    <a:pt x="27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3" name=""/>
            <p:cNvSpPr/>
            <p:nvPr/>
          </p:nvSpPr>
          <p:spPr>
            <a:xfrm>
              <a:off x="5057640" y="5373720"/>
              <a:ext cx="42840" cy="11160"/>
            </a:xfrm>
            <a:custGeom>
              <a:avLst/>
              <a:gdLst/>
              <a:ahLst/>
              <a:rect l="l" t="t" r="r" b="b"/>
              <a:pathLst>
                <a:path w="27" h="7">
                  <a:moveTo>
                    <a:pt x="0" y="7"/>
                  </a:moveTo>
                  <a:lnTo>
                    <a:pt x="13" y="0"/>
                  </a:lnTo>
                  <a:lnTo>
                    <a:pt x="27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4" name=""/>
            <p:cNvSpPr/>
            <p:nvPr/>
          </p:nvSpPr>
          <p:spPr>
            <a:xfrm flipV="1">
              <a:off x="5145120" y="5362200"/>
              <a:ext cx="42840" cy="111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5" name=""/>
            <p:cNvSpPr/>
            <p:nvPr/>
          </p:nvSpPr>
          <p:spPr>
            <a:xfrm>
              <a:off x="5221440" y="5373720"/>
              <a:ext cx="1440" cy="442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6" name=""/>
            <p:cNvSpPr/>
            <p:nvPr/>
          </p:nvSpPr>
          <p:spPr>
            <a:xfrm>
              <a:off x="5221440" y="5460840"/>
              <a:ext cx="1440" cy="446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7" name=""/>
            <p:cNvSpPr/>
            <p:nvPr/>
          </p:nvSpPr>
          <p:spPr>
            <a:xfrm>
              <a:off x="5232240" y="5549760"/>
              <a:ext cx="1800" cy="428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8" name=""/>
            <p:cNvSpPr/>
            <p:nvPr/>
          </p:nvSpPr>
          <p:spPr>
            <a:xfrm>
              <a:off x="5232240" y="5637240"/>
              <a:ext cx="1800" cy="316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9" name=""/>
            <p:cNvSpPr/>
            <p:nvPr/>
          </p:nvSpPr>
          <p:spPr>
            <a:xfrm>
              <a:off x="5407200" y="4675320"/>
              <a:ext cx="4428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0" name=""/>
            <p:cNvSpPr/>
            <p:nvPr/>
          </p:nvSpPr>
          <p:spPr>
            <a:xfrm>
              <a:off x="5494320" y="4675320"/>
              <a:ext cx="1440" cy="428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1" name=""/>
            <p:cNvSpPr/>
            <p:nvPr/>
          </p:nvSpPr>
          <p:spPr>
            <a:xfrm>
              <a:off x="5484960" y="4762440"/>
              <a:ext cx="1440" cy="540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2" name=""/>
            <p:cNvSpPr/>
            <p:nvPr/>
          </p:nvSpPr>
          <p:spPr>
            <a:xfrm>
              <a:off x="5473800" y="4861080"/>
              <a:ext cx="11160" cy="42840"/>
            </a:xfrm>
            <a:custGeom>
              <a:avLst/>
              <a:gdLst/>
              <a:ahLst/>
              <a:rect l="l" t="t" r="r" b="b"/>
              <a:pathLst>
                <a:path w="7" h="27">
                  <a:moveTo>
                    <a:pt x="7" y="0"/>
                  </a:moveTo>
                  <a:lnTo>
                    <a:pt x="0" y="7"/>
                  </a:lnTo>
                  <a:lnTo>
                    <a:pt x="7" y="27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3" name=""/>
            <p:cNvSpPr/>
            <p:nvPr/>
          </p:nvSpPr>
          <p:spPr>
            <a:xfrm>
              <a:off x="5494320" y="4937040"/>
              <a:ext cx="11160" cy="42840"/>
            </a:xfrm>
            <a:custGeom>
              <a:avLst/>
              <a:gdLst/>
              <a:ahLst/>
              <a:rect l="l" t="t" r="r" b="b"/>
              <a:pathLst>
                <a:path w="7" h="27">
                  <a:moveTo>
                    <a:pt x="0" y="0"/>
                  </a:moveTo>
                  <a:lnTo>
                    <a:pt x="0" y="7"/>
                  </a:lnTo>
                  <a:lnTo>
                    <a:pt x="7" y="27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4" name=""/>
            <p:cNvSpPr/>
            <p:nvPr/>
          </p:nvSpPr>
          <p:spPr>
            <a:xfrm>
              <a:off x="5516640" y="5024520"/>
              <a:ext cx="11160" cy="442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5" name=""/>
            <p:cNvSpPr/>
            <p:nvPr/>
          </p:nvSpPr>
          <p:spPr>
            <a:xfrm>
              <a:off x="5538960" y="5111640"/>
              <a:ext cx="1440" cy="446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6" name=""/>
            <p:cNvSpPr/>
            <p:nvPr/>
          </p:nvSpPr>
          <p:spPr>
            <a:xfrm>
              <a:off x="5527800" y="5199120"/>
              <a:ext cx="11160" cy="44280"/>
            </a:xfrm>
            <a:custGeom>
              <a:avLst/>
              <a:gdLst/>
              <a:ahLst/>
              <a:rect l="l" t="t" r="r" b="b"/>
              <a:pathLst>
                <a:path w="7" h="28">
                  <a:moveTo>
                    <a:pt x="7" y="0"/>
                  </a:moveTo>
                  <a:lnTo>
                    <a:pt x="7" y="21"/>
                  </a:lnTo>
                  <a:lnTo>
                    <a:pt x="0" y="28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7" name=""/>
            <p:cNvSpPr/>
            <p:nvPr/>
          </p:nvSpPr>
          <p:spPr>
            <a:xfrm flipH="1">
              <a:off x="5505120" y="5286240"/>
              <a:ext cx="11160" cy="446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8" name=""/>
            <p:cNvSpPr/>
            <p:nvPr/>
          </p:nvSpPr>
          <p:spPr>
            <a:xfrm>
              <a:off x="4170240" y="5297400"/>
              <a:ext cx="55800" cy="1116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0" y="0"/>
                  </a:moveTo>
                  <a:lnTo>
                    <a:pt x="28" y="7"/>
                  </a:lnTo>
                  <a:lnTo>
                    <a:pt x="35" y="7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9" name=""/>
            <p:cNvSpPr/>
            <p:nvPr/>
          </p:nvSpPr>
          <p:spPr>
            <a:xfrm>
              <a:off x="4268880" y="5308560"/>
              <a:ext cx="44280" cy="18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0" name=""/>
            <p:cNvSpPr/>
            <p:nvPr/>
          </p:nvSpPr>
          <p:spPr>
            <a:xfrm>
              <a:off x="4356000" y="5275440"/>
              <a:ext cx="1800" cy="44280"/>
            </a:xfrm>
            <a:custGeom>
              <a:avLst/>
              <a:gdLst/>
              <a:ahLst/>
              <a:rect l="l" t="t" r="r" b="b"/>
              <a:pathLst>
                <a:path w="0" h="28">
                  <a:moveTo>
                    <a:pt x="0" y="28"/>
                  </a:moveTo>
                  <a:lnTo>
                    <a:pt x="0" y="28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1" name=""/>
            <p:cNvSpPr/>
            <p:nvPr/>
          </p:nvSpPr>
          <p:spPr>
            <a:xfrm flipV="1">
              <a:off x="4356000" y="5187600"/>
              <a:ext cx="1800" cy="442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2" name=""/>
            <p:cNvSpPr/>
            <p:nvPr/>
          </p:nvSpPr>
          <p:spPr>
            <a:xfrm flipV="1">
              <a:off x="4378320" y="5144760"/>
              <a:ext cx="44280" cy="111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3" name=""/>
            <p:cNvSpPr/>
            <p:nvPr/>
          </p:nvSpPr>
          <p:spPr>
            <a:xfrm flipV="1">
              <a:off x="4465800" y="5111640"/>
              <a:ext cx="44280" cy="223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4" name=""/>
            <p:cNvSpPr/>
            <p:nvPr/>
          </p:nvSpPr>
          <p:spPr>
            <a:xfrm flipV="1">
              <a:off x="4552920" y="5089680"/>
              <a:ext cx="44640" cy="108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5" name=""/>
            <p:cNvSpPr/>
            <p:nvPr/>
          </p:nvSpPr>
          <p:spPr>
            <a:xfrm>
              <a:off x="4641840" y="5068800"/>
              <a:ext cx="31680" cy="9720"/>
            </a:xfrm>
            <a:custGeom>
              <a:avLst/>
              <a:gdLst/>
              <a:ahLst/>
              <a:rect l="l" t="t" r="r" b="b"/>
              <a:pathLst>
                <a:path w="20" h="6">
                  <a:moveTo>
                    <a:pt x="0" y="6"/>
                  </a:moveTo>
                  <a:lnTo>
                    <a:pt x="20" y="6"/>
                  </a:lnTo>
                  <a:lnTo>
                    <a:pt x="13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6" name=""/>
            <p:cNvSpPr/>
            <p:nvPr/>
          </p:nvSpPr>
          <p:spPr>
            <a:xfrm flipH="1" flipV="1">
              <a:off x="4630680" y="4990680"/>
              <a:ext cx="22320" cy="334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7" name=""/>
            <p:cNvSpPr/>
            <p:nvPr/>
          </p:nvSpPr>
          <p:spPr>
            <a:xfrm>
              <a:off x="4608360" y="4925880"/>
              <a:ext cx="44640" cy="22320"/>
            </a:xfrm>
            <a:custGeom>
              <a:avLst/>
              <a:gdLst/>
              <a:ahLst/>
              <a:rect l="l" t="t" r="r" b="b"/>
              <a:pathLst>
                <a:path w="28" h="14">
                  <a:moveTo>
                    <a:pt x="0" y="14"/>
                  </a:moveTo>
                  <a:lnTo>
                    <a:pt x="0" y="14"/>
                  </a:lnTo>
                  <a:lnTo>
                    <a:pt x="28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8" name=""/>
            <p:cNvSpPr/>
            <p:nvPr/>
          </p:nvSpPr>
          <p:spPr>
            <a:xfrm>
              <a:off x="4684680" y="4892760"/>
              <a:ext cx="44640" cy="11160"/>
            </a:xfrm>
            <a:custGeom>
              <a:avLst/>
              <a:gdLst/>
              <a:ahLst/>
              <a:rect l="l" t="t" r="r" b="b"/>
              <a:pathLst>
                <a:path w="28" h="7">
                  <a:moveTo>
                    <a:pt x="0" y="7"/>
                  </a:moveTo>
                  <a:lnTo>
                    <a:pt x="14" y="7"/>
                  </a:lnTo>
                  <a:lnTo>
                    <a:pt x="28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9" name=""/>
            <p:cNvSpPr/>
            <p:nvPr/>
          </p:nvSpPr>
          <p:spPr>
            <a:xfrm>
              <a:off x="4772160" y="4849920"/>
              <a:ext cx="33120" cy="21960"/>
            </a:xfrm>
            <a:custGeom>
              <a:avLst/>
              <a:gdLst/>
              <a:ahLst/>
              <a:rect l="l" t="t" r="r" b="b"/>
              <a:pathLst>
                <a:path w="21" h="14">
                  <a:moveTo>
                    <a:pt x="0" y="14"/>
                  </a:moveTo>
                  <a:lnTo>
                    <a:pt x="14" y="7"/>
                  </a:lnTo>
                  <a:lnTo>
                    <a:pt x="21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0" name=""/>
            <p:cNvSpPr/>
            <p:nvPr/>
          </p:nvSpPr>
          <p:spPr>
            <a:xfrm flipV="1">
              <a:off x="4849920" y="4816440"/>
              <a:ext cx="42840" cy="223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1" name=""/>
            <p:cNvSpPr/>
            <p:nvPr/>
          </p:nvSpPr>
          <p:spPr>
            <a:xfrm flipV="1">
              <a:off x="4937040" y="4782600"/>
              <a:ext cx="33480" cy="111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2" name=""/>
            <p:cNvSpPr/>
            <p:nvPr/>
          </p:nvSpPr>
          <p:spPr>
            <a:xfrm flipV="1">
              <a:off x="5013360" y="4740120"/>
              <a:ext cx="44280" cy="223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3" name=""/>
            <p:cNvSpPr/>
            <p:nvPr/>
          </p:nvSpPr>
          <p:spPr>
            <a:xfrm flipV="1">
              <a:off x="5089680" y="4707000"/>
              <a:ext cx="44280" cy="223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4" name=""/>
            <p:cNvSpPr/>
            <p:nvPr/>
          </p:nvSpPr>
          <p:spPr>
            <a:xfrm>
              <a:off x="5178600" y="4675320"/>
              <a:ext cx="42840" cy="9360"/>
            </a:xfrm>
            <a:custGeom>
              <a:avLst/>
              <a:gdLst/>
              <a:ahLst/>
              <a:rect l="l" t="t" r="r" b="b"/>
              <a:pathLst>
                <a:path w="27" h="6">
                  <a:moveTo>
                    <a:pt x="0" y="6"/>
                  </a:moveTo>
                  <a:lnTo>
                    <a:pt x="20" y="0"/>
                  </a:lnTo>
                  <a:lnTo>
                    <a:pt x="27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5" name=""/>
            <p:cNvSpPr/>
            <p:nvPr/>
          </p:nvSpPr>
          <p:spPr>
            <a:xfrm>
              <a:off x="5265720" y="4675320"/>
              <a:ext cx="4284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6" name=""/>
            <p:cNvSpPr/>
            <p:nvPr/>
          </p:nvSpPr>
          <p:spPr>
            <a:xfrm>
              <a:off x="5353200" y="4675320"/>
              <a:ext cx="4284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7" name=""/>
            <p:cNvSpPr/>
            <p:nvPr/>
          </p:nvSpPr>
          <p:spPr>
            <a:xfrm>
              <a:off x="5386320" y="4707000"/>
              <a:ext cx="9720" cy="44280"/>
            </a:xfrm>
            <a:custGeom>
              <a:avLst/>
              <a:gdLst/>
              <a:ahLst/>
              <a:rect l="l" t="t" r="r" b="b"/>
              <a:pathLst>
                <a:path w="6" h="28">
                  <a:moveTo>
                    <a:pt x="6" y="0"/>
                  </a:moveTo>
                  <a:lnTo>
                    <a:pt x="6" y="7"/>
                  </a:lnTo>
                  <a:lnTo>
                    <a:pt x="0" y="28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8" name=""/>
            <p:cNvSpPr/>
            <p:nvPr/>
          </p:nvSpPr>
          <p:spPr>
            <a:xfrm flipH="1">
              <a:off x="5363640" y="4794120"/>
              <a:ext cx="11160" cy="446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9" name=""/>
            <p:cNvSpPr/>
            <p:nvPr/>
          </p:nvSpPr>
          <p:spPr>
            <a:xfrm>
              <a:off x="5330880" y="4881600"/>
              <a:ext cx="11160" cy="44280"/>
            </a:xfrm>
            <a:custGeom>
              <a:avLst/>
              <a:gdLst/>
              <a:ahLst/>
              <a:rect l="l" t="t" r="r" b="b"/>
              <a:pathLst>
                <a:path w="7" h="28">
                  <a:moveTo>
                    <a:pt x="7" y="0"/>
                  </a:moveTo>
                  <a:lnTo>
                    <a:pt x="7" y="21"/>
                  </a:lnTo>
                  <a:lnTo>
                    <a:pt x="0" y="28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0" name=""/>
            <p:cNvSpPr/>
            <p:nvPr/>
          </p:nvSpPr>
          <p:spPr>
            <a:xfrm>
              <a:off x="5276880" y="4948200"/>
              <a:ext cx="20520" cy="22320"/>
            </a:xfrm>
            <a:custGeom>
              <a:avLst/>
              <a:gdLst/>
              <a:ahLst/>
              <a:rect l="l" t="t" r="r" b="b"/>
              <a:pathLst>
                <a:path w="13" h="14">
                  <a:moveTo>
                    <a:pt x="13" y="0"/>
                  </a:moveTo>
                  <a:lnTo>
                    <a:pt x="0" y="0"/>
                  </a:lnTo>
                  <a:lnTo>
                    <a:pt x="0" y="14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1" name=""/>
            <p:cNvSpPr/>
            <p:nvPr/>
          </p:nvSpPr>
          <p:spPr>
            <a:xfrm>
              <a:off x="5297400" y="5013360"/>
              <a:ext cx="22320" cy="442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2" name=""/>
            <p:cNvSpPr/>
            <p:nvPr/>
          </p:nvSpPr>
          <p:spPr>
            <a:xfrm>
              <a:off x="5330880" y="5089680"/>
              <a:ext cx="22320" cy="442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3" name=""/>
            <p:cNvSpPr/>
            <p:nvPr/>
          </p:nvSpPr>
          <p:spPr>
            <a:xfrm>
              <a:off x="5375160" y="5176800"/>
              <a:ext cx="11160" cy="446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4" name=""/>
            <p:cNvSpPr/>
            <p:nvPr/>
          </p:nvSpPr>
          <p:spPr>
            <a:xfrm>
              <a:off x="5407200" y="5254560"/>
              <a:ext cx="21960" cy="428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5" name=""/>
            <p:cNvSpPr/>
            <p:nvPr/>
          </p:nvSpPr>
          <p:spPr>
            <a:xfrm>
              <a:off x="5440320" y="5342040"/>
              <a:ext cx="33480" cy="20520"/>
            </a:xfrm>
            <a:custGeom>
              <a:avLst/>
              <a:gdLst/>
              <a:ahLst/>
              <a:rect l="l" t="t" r="r" b="b"/>
              <a:pathLst>
                <a:path w="21" h="13">
                  <a:moveTo>
                    <a:pt x="0" y="0"/>
                  </a:moveTo>
                  <a:lnTo>
                    <a:pt x="7" y="7"/>
                  </a:lnTo>
                  <a:lnTo>
                    <a:pt x="21" y="13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6" name=""/>
            <p:cNvSpPr/>
            <p:nvPr/>
          </p:nvSpPr>
          <p:spPr>
            <a:xfrm>
              <a:off x="5527800" y="5362560"/>
              <a:ext cx="4428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7" name=""/>
            <p:cNvSpPr/>
            <p:nvPr/>
          </p:nvSpPr>
          <p:spPr>
            <a:xfrm>
              <a:off x="5614920" y="5373720"/>
              <a:ext cx="4464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8" name=""/>
            <p:cNvSpPr/>
            <p:nvPr/>
          </p:nvSpPr>
          <p:spPr>
            <a:xfrm>
              <a:off x="5702400" y="5384880"/>
              <a:ext cx="33120" cy="331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9" name=""/>
            <p:cNvSpPr/>
            <p:nvPr/>
          </p:nvSpPr>
          <p:spPr>
            <a:xfrm>
              <a:off x="5769000" y="5440320"/>
              <a:ext cx="42840" cy="205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0" name=""/>
            <p:cNvSpPr/>
            <p:nvPr/>
          </p:nvSpPr>
          <p:spPr>
            <a:xfrm>
              <a:off x="5845320" y="5483160"/>
              <a:ext cx="44280" cy="223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1" name=""/>
            <p:cNvSpPr/>
            <p:nvPr/>
          </p:nvSpPr>
          <p:spPr>
            <a:xfrm>
              <a:off x="5921280" y="5527800"/>
              <a:ext cx="44640" cy="219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2" name=""/>
            <p:cNvSpPr/>
            <p:nvPr/>
          </p:nvSpPr>
          <p:spPr>
            <a:xfrm>
              <a:off x="5943600" y="5581800"/>
              <a:ext cx="11160" cy="44280"/>
            </a:xfrm>
            <a:custGeom>
              <a:avLst/>
              <a:gdLst/>
              <a:ahLst/>
              <a:rect l="l" t="t" r="r" b="b"/>
              <a:pathLst>
                <a:path w="7" h="28">
                  <a:moveTo>
                    <a:pt x="7" y="0"/>
                  </a:moveTo>
                  <a:lnTo>
                    <a:pt x="0" y="14"/>
                  </a:lnTo>
                  <a:lnTo>
                    <a:pt x="0" y="28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3" name=""/>
            <p:cNvSpPr/>
            <p:nvPr/>
          </p:nvSpPr>
          <p:spPr>
            <a:xfrm>
              <a:off x="2911320" y="3306600"/>
              <a:ext cx="820800" cy="405000"/>
            </a:xfrm>
            <a:custGeom>
              <a:avLst/>
              <a:gdLst/>
              <a:ahLst/>
              <a:rect l="l" t="t" r="r" b="b"/>
              <a:pathLst>
                <a:path w="517" h="255">
                  <a:moveTo>
                    <a:pt x="517" y="49"/>
                  </a:moveTo>
                  <a:lnTo>
                    <a:pt x="469" y="42"/>
                  </a:lnTo>
                  <a:lnTo>
                    <a:pt x="324" y="21"/>
                  </a:lnTo>
                  <a:lnTo>
                    <a:pt x="228" y="7"/>
                  </a:lnTo>
                  <a:lnTo>
                    <a:pt x="159" y="0"/>
                  </a:lnTo>
                  <a:lnTo>
                    <a:pt x="166" y="69"/>
                  </a:lnTo>
                  <a:lnTo>
                    <a:pt x="166" y="131"/>
                  </a:lnTo>
                  <a:lnTo>
                    <a:pt x="159" y="138"/>
                  </a:lnTo>
                  <a:lnTo>
                    <a:pt x="152" y="159"/>
                  </a:lnTo>
                  <a:lnTo>
                    <a:pt x="111" y="193"/>
                  </a:lnTo>
                  <a:lnTo>
                    <a:pt x="42" y="235"/>
                  </a:lnTo>
                  <a:lnTo>
                    <a:pt x="0" y="255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4" name=""/>
            <p:cNvSpPr/>
            <p:nvPr/>
          </p:nvSpPr>
          <p:spPr>
            <a:xfrm>
              <a:off x="4203720" y="5133960"/>
              <a:ext cx="1440" cy="428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5" name=""/>
            <p:cNvSpPr/>
            <p:nvPr/>
          </p:nvSpPr>
          <p:spPr>
            <a:xfrm flipH="1">
              <a:off x="4181040" y="5221440"/>
              <a:ext cx="11160" cy="442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6" name=""/>
            <p:cNvSpPr/>
            <p:nvPr/>
          </p:nvSpPr>
          <p:spPr>
            <a:xfrm flipH="1">
              <a:off x="4169880" y="5308560"/>
              <a:ext cx="11160" cy="446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7" name=""/>
            <p:cNvSpPr/>
            <p:nvPr/>
          </p:nvSpPr>
          <p:spPr>
            <a:xfrm>
              <a:off x="4159080" y="5396040"/>
              <a:ext cx="1800" cy="442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8" name=""/>
            <p:cNvSpPr/>
            <p:nvPr/>
          </p:nvSpPr>
          <p:spPr>
            <a:xfrm flipH="1">
              <a:off x="4136760" y="5483160"/>
              <a:ext cx="11160" cy="446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9" name=""/>
            <p:cNvSpPr/>
            <p:nvPr/>
          </p:nvSpPr>
          <p:spPr>
            <a:xfrm flipH="1">
              <a:off x="4127040" y="5570640"/>
              <a:ext cx="9720" cy="442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0" name=""/>
            <p:cNvSpPr/>
            <p:nvPr/>
          </p:nvSpPr>
          <p:spPr>
            <a:xfrm>
              <a:off x="4116240" y="5657760"/>
              <a:ext cx="1800" cy="334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1" name=""/>
            <p:cNvSpPr/>
            <p:nvPr/>
          </p:nvSpPr>
          <p:spPr>
            <a:xfrm flipV="1">
              <a:off x="4203720" y="5035320"/>
              <a:ext cx="11160" cy="982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2" name=""/>
            <p:cNvSpPr/>
            <p:nvPr/>
          </p:nvSpPr>
          <p:spPr>
            <a:xfrm flipV="1">
              <a:off x="4237200" y="4881600"/>
              <a:ext cx="53640" cy="777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3" name=""/>
            <p:cNvSpPr/>
            <p:nvPr/>
          </p:nvSpPr>
          <p:spPr>
            <a:xfrm flipV="1">
              <a:off x="4356000" y="4750920"/>
              <a:ext cx="55800" cy="651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4" name=""/>
            <p:cNvSpPr/>
            <p:nvPr/>
          </p:nvSpPr>
          <p:spPr>
            <a:xfrm flipV="1">
              <a:off x="4465800" y="4619160"/>
              <a:ext cx="66600" cy="651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5" name=""/>
            <p:cNvSpPr/>
            <p:nvPr/>
          </p:nvSpPr>
          <p:spPr>
            <a:xfrm>
              <a:off x="4586400" y="4487760"/>
              <a:ext cx="66600" cy="66600"/>
            </a:xfrm>
            <a:custGeom>
              <a:avLst/>
              <a:gdLst/>
              <a:ahLst/>
              <a:rect l="l" t="t" r="r" b="b"/>
              <a:pathLst>
                <a:path w="42" h="42">
                  <a:moveTo>
                    <a:pt x="0" y="42"/>
                  </a:moveTo>
                  <a:lnTo>
                    <a:pt x="21" y="21"/>
                  </a:lnTo>
                  <a:lnTo>
                    <a:pt x="42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6" name=""/>
            <p:cNvSpPr/>
            <p:nvPr/>
          </p:nvSpPr>
          <p:spPr>
            <a:xfrm>
              <a:off x="4707000" y="4368960"/>
              <a:ext cx="65160" cy="536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0" y="34"/>
                  </a:moveTo>
                  <a:lnTo>
                    <a:pt x="28" y="0"/>
                  </a:lnTo>
                  <a:lnTo>
                    <a:pt x="41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7" name=""/>
            <p:cNvSpPr/>
            <p:nvPr/>
          </p:nvSpPr>
          <p:spPr>
            <a:xfrm flipV="1">
              <a:off x="4861080" y="4346280"/>
              <a:ext cx="42840" cy="111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8" name=""/>
            <p:cNvSpPr/>
            <p:nvPr/>
          </p:nvSpPr>
          <p:spPr>
            <a:xfrm>
              <a:off x="2911320" y="3711600"/>
              <a:ext cx="44640" cy="223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9" name=""/>
            <p:cNvSpPr/>
            <p:nvPr/>
          </p:nvSpPr>
          <p:spPr>
            <a:xfrm>
              <a:off x="2998800" y="3745080"/>
              <a:ext cx="44280" cy="108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0" name=""/>
            <p:cNvSpPr/>
            <p:nvPr/>
          </p:nvSpPr>
          <p:spPr>
            <a:xfrm>
              <a:off x="3021120" y="3778200"/>
              <a:ext cx="21960" cy="42840"/>
            </a:xfrm>
            <a:custGeom>
              <a:avLst/>
              <a:gdLst/>
              <a:ahLst/>
              <a:rect l="l" t="t" r="r" b="b"/>
              <a:pathLst>
                <a:path w="14" h="27">
                  <a:moveTo>
                    <a:pt x="14" y="0"/>
                  </a:moveTo>
                  <a:lnTo>
                    <a:pt x="14" y="7"/>
                  </a:lnTo>
                  <a:lnTo>
                    <a:pt x="0" y="20"/>
                  </a:lnTo>
                  <a:lnTo>
                    <a:pt x="0" y="27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1" name=""/>
            <p:cNvSpPr/>
            <p:nvPr/>
          </p:nvSpPr>
          <p:spPr>
            <a:xfrm>
              <a:off x="2978280" y="3854520"/>
              <a:ext cx="20520" cy="42840"/>
            </a:xfrm>
            <a:custGeom>
              <a:avLst/>
              <a:gdLst/>
              <a:ahLst/>
              <a:rect l="l" t="t" r="r" b="b"/>
              <a:pathLst>
                <a:path w="13" h="27">
                  <a:moveTo>
                    <a:pt x="13" y="0"/>
                  </a:moveTo>
                  <a:lnTo>
                    <a:pt x="7" y="7"/>
                  </a:lnTo>
                  <a:lnTo>
                    <a:pt x="7" y="14"/>
                  </a:lnTo>
                  <a:lnTo>
                    <a:pt x="0" y="21"/>
                  </a:lnTo>
                  <a:lnTo>
                    <a:pt x="0" y="27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2" name=""/>
            <p:cNvSpPr/>
            <p:nvPr/>
          </p:nvSpPr>
          <p:spPr>
            <a:xfrm>
              <a:off x="2967120" y="3941640"/>
              <a:ext cx="1440" cy="44640"/>
            </a:xfrm>
            <a:custGeom>
              <a:avLst/>
              <a:gdLst/>
              <a:ahLst/>
              <a:rect l="l" t="t" r="r" b="b"/>
              <a:pathLst>
                <a:path w="0" h="28">
                  <a:moveTo>
                    <a:pt x="0" y="0"/>
                  </a:moveTo>
                  <a:lnTo>
                    <a:pt x="0" y="0"/>
                  </a:lnTo>
                  <a:lnTo>
                    <a:pt x="0" y="21"/>
                  </a:lnTo>
                  <a:lnTo>
                    <a:pt x="0" y="28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3" name=""/>
            <p:cNvSpPr/>
            <p:nvPr/>
          </p:nvSpPr>
          <p:spPr>
            <a:xfrm>
              <a:off x="2955960" y="4029120"/>
              <a:ext cx="1440" cy="44280"/>
            </a:xfrm>
            <a:custGeom>
              <a:avLst/>
              <a:gdLst/>
              <a:ahLst/>
              <a:rect l="l" t="t" r="r" b="b"/>
              <a:pathLst>
                <a:path w="0" h="28">
                  <a:moveTo>
                    <a:pt x="0" y="0"/>
                  </a:moveTo>
                  <a:lnTo>
                    <a:pt x="0" y="0"/>
                  </a:lnTo>
                  <a:lnTo>
                    <a:pt x="0" y="14"/>
                  </a:lnTo>
                  <a:lnTo>
                    <a:pt x="0" y="28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4" name=""/>
            <p:cNvSpPr/>
            <p:nvPr/>
          </p:nvSpPr>
          <p:spPr>
            <a:xfrm>
              <a:off x="2955960" y="4116240"/>
              <a:ext cx="1440" cy="44640"/>
            </a:xfrm>
            <a:custGeom>
              <a:avLst/>
              <a:gdLst/>
              <a:ahLst/>
              <a:rect l="l" t="t" r="r" b="b"/>
              <a:pathLst>
                <a:path w="0" h="28">
                  <a:moveTo>
                    <a:pt x="0" y="0"/>
                  </a:moveTo>
                  <a:lnTo>
                    <a:pt x="0" y="7"/>
                  </a:lnTo>
                  <a:lnTo>
                    <a:pt x="0" y="21"/>
                  </a:lnTo>
                  <a:lnTo>
                    <a:pt x="0" y="28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5" name=""/>
            <p:cNvSpPr/>
            <p:nvPr/>
          </p:nvSpPr>
          <p:spPr>
            <a:xfrm>
              <a:off x="2944800" y="4203720"/>
              <a:ext cx="11160" cy="44280"/>
            </a:xfrm>
            <a:custGeom>
              <a:avLst/>
              <a:gdLst/>
              <a:ahLst/>
              <a:rect l="l" t="t" r="r" b="b"/>
              <a:pathLst>
                <a:path w="7" h="28">
                  <a:moveTo>
                    <a:pt x="0" y="0"/>
                  </a:moveTo>
                  <a:lnTo>
                    <a:pt x="7" y="14"/>
                  </a:lnTo>
                  <a:lnTo>
                    <a:pt x="7" y="21"/>
                  </a:lnTo>
                  <a:lnTo>
                    <a:pt x="7" y="28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6" name=""/>
            <p:cNvSpPr/>
            <p:nvPr/>
          </p:nvSpPr>
          <p:spPr>
            <a:xfrm>
              <a:off x="2978280" y="4290840"/>
              <a:ext cx="11160" cy="33480"/>
            </a:xfrm>
            <a:custGeom>
              <a:avLst/>
              <a:gdLst/>
              <a:ahLst/>
              <a:rect l="l" t="t" r="r" b="b"/>
              <a:pathLst>
                <a:path w="7" h="21">
                  <a:moveTo>
                    <a:pt x="0" y="0"/>
                  </a:moveTo>
                  <a:lnTo>
                    <a:pt x="0" y="0"/>
                  </a:lnTo>
                  <a:lnTo>
                    <a:pt x="0" y="14"/>
                  </a:lnTo>
                  <a:lnTo>
                    <a:pt x="7" y="21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7" name=""/>
            <p:cNvSpPr/>
            <p:nvPr/>
          </p:nvSpPr>
          <p:spPr>
            <a:xfrm>
              <a:off x="2998800" y="4368960"/>
              <a:ext cx="11160" cy="42840"/>
            </a:xfrm>
            <a:custGeom>
              <a:avLst/>
              <a:gdLst/>
              <a:ahLst/>
              <a:rect l="l" t="t" r="r" b="b"/>
              <a:pathLst>
                <a:path w="7" h="27">
                  <a:moveTo>
                    <a:pt x="0" y="0"/>
                  </a:moveTo>
                  <a:lnTo>
                    <a:pt x="0" y="13"/>
                  </a:lnTo>
                  <a:lnTo>
                    <a:pt x="0" y="27"/>
                  </a:lnTo>
                  <a:lnTo>
                    <a:pt x="7" y="27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8" name=""/>
            <p:cNvSpPr/>
            <p:nvPr/>
          </p:nvSpPr>
          <p:spPr>
            <a:xfrm>
              <a:off x="3032280" y="4456080"/>
              <a:ext cx="1440" cy="42840"/>
            </a:xfrm>
            <a:custGeom>
              <a:avLst/>
              <a:gdLst/>
              <a:ahLst/>
              <a:rect l="l" t="t" r="r" b="b"/>
              <a:pathLst>
                <a:path w="0" h="27">
                  <a:moveTo>
                    <a:pt x="0" y="0"/>
                  </a:moveTo>
                  <a:lnTo>
                    <a:pt x="0" y="0"/>
                  </a:lnTo>
                  <a:lnTo>
                    <a:pt x="0" y="7"/>
                  </a:lnTo>
                  <a:lnTo>
                    <a:pt x="0" y="27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9" name=""/>
            <p:cNvSpPr/>
            <p:nvPr/>
          </p:nvSpPr>
          <p:spPr>
            <a:xfrm>
              <a:off x="3032280" y="4543560"/>
              <a:ext cx="1440" cy="42840"/>
            </a:xfrm>
            <a:custGeom>
              <a:avLst/>
              <a:gdLst/>
              <a:ahLst/>
              <a:rect l="l" t="t" r="r" b="b"/>
              <a:pathLst>
                <a:path w="0" h="27">
                  <a:moveTo>
                    <a:pt x="0" y="0"/>
                  </a:moveTo>
                  <a:lnTo>
                    <a:pt x="0" y="27"/>
                  </a:lnTo>
                  <a:lnTo>
                    <a:pt x="0" y="27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0" name=""/>
            <p:cNvSpPr/>
            <p:nvPr/>
          </p:nvSpPr>
          <p:spPr>
            <a:xfrm>
              <a:off x="3032280" y="4630680"/>
              <a:ext cx="1440" cy="44640"/>
            </a:xfrm>
            <a:custGeom>
              <a:avLst/>
              <a:gdLst/>
              <a:ahLst/>
              <a:rect l="l" t="t" r="r" b="b"/>
              <a:pathLst>
                <a:path w="0" h="28">
                  <a:moveTo>
                    <a:pt x="0" y="0"/>
                  </a:moveTo>
                  <a:lnTo>
                    <a:pt x="0" y="7"/>
                  </a:lnTo>
                  <a:lnTo>
                    <a:pt x="0" y="14"/>
                  </a:lnTo>
                  <a:lnTo>
                    <a:pt x="0" y="28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1" name=""/>
            <p:cNvSpPr/>
            <p:nvPr/>
          </p:nvSpPr>
          <p:spPr>
            <a:xfrm>
              <a:off x="3032280" y="4718160"/>
              <a:ext cx="10800" cy="44280"/>
            </a:xfrm>
            <a:custGeom>
              <a:avLst/>
              <a:gdLst/>
              <a:ahLst/>
              <a:rect l="l" t="t" r="r" b="b"/>
              <a:pathLst>
                <a:path w="7" h="28">
                  <a:moveTo>
                    <a:pt x="0" y="0"/>
                  </a:moveTo>
                  <a:lnTo>
                    <a:pt x="0" y="0"/>
                  </a:lnTo>
                  <a:lnTo>
                    <a:pt x="7" y="28"/>
                  </a:lnTo>
                  <a:lnTo>
                    <a:pt x="7" y="28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2" name=""/>
            <p:cNvSpPr/>
            <p:nvPr/>
          </p:nvSpPr>
          <p:spPr>
            <a:xfrm>
              <a:off x="3076560" y="4794120"/>
              <a:ext cx="31680" cy="11160"/>
            </a:xfrm>
            <a:custGeom>
              <a:avLst/>
              <a:gdLst/>
              <a:ahLst/>
              <a:rect l="l" t="t" r="r" b="b"/>
              <a:pathLst>
                <a:path w="20" h="7">
                  <a:moveTo>
                    <a:pt x="0" y="0"/>
                  </a:moveTo>
                  <a:lnTo>
                    <a:pt x="13" y="0"/>
                  </a:lnTo>
                  <a:lnTo>
                    <a:pt x="20" y="7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3" name=""/>
            <p:cNvSpPr/>
            <p:nvPr/>
          </p:nvSpPr>
          <p:spPr>
            <a:xfrm>
              <a:off x="3152880" y="4816440"/>
              <a:ext cx="1440" cy="446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4" name=""/>
            <p:cNvSpPr/>
            <p:nvPr/>
          </p:nvSpPr>
          <p:spPr>
            <a:xfrm>
              <a:off x="3152880" y="4903920"/>
              <a:ext cx="44280" cy="21960"/>
            </a:xfrm>
            <a:custGeom>
              <a:avLst/>
              <a:gdLst/>
              <a:ahLst/>
              <a:rect l="l" t="t" r="r" b="b"/>
              <a:pathLst>
                <a:path w="28" h="14">
                  <a:moveTo>
                    <a:pt x="0" y="0"/>
                  </a:moveTo>
                  <a:lnTo>
                    <a:pt x="0" y="7"/>
                  </a:lnTo>
                  <a:lnTo>
                    <a:pt x="7" y="7"/>
                  </a:lnTo>
                  <a:lnTo>
                    <a:pt x="28" y="14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5" name=""/>
            <p:cNvSpPr/>
            <p:nvPr/>
          </p:nvSpPr>
          <p:spPr>
            <a:xfrm>
              <a:off x="3240000" y="4937040"/>
              <a:ext cx="44640" cy="1800"/>
            </a:xfrm>
            <a:custGeom>
              <a:avLst/>
              <a:gdLst/>
              <a:ahLst/>
              <a:rect l="l" t="t" r="r" b="b"/>
              <a:pathLst>
                <a:path w="28" h="0">
                  <a:moveTo>
                    <a:pt x="0" y="0"/>
                  </a:moveTo>
                  <a:lnTo>
                    <a:pt x="0" y="0"/>
                  </a:lnTo>
                  <a:lnTo>
                    <a:pt x="28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6" name=""/>
            <p:cNvSpPr/>
            <p:nvPr/>
          </p:nvSpPr>
          <p:spPr>
            <a:xfrm>
              <a:off x="3327480" y="4948200"/>
              <a:ext cx="44280" cy="111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7" name=""/>
            <p:cNvSpPr/>
            <p:nvPr/>
          </p:nvSpPr>
          <p:spPr>
            <a:xfrm>
              <a:off x="3414600" y="4970520"/>
              <a:ext cx="44640" cy="9360"/>
            </a:xfrm>
            <a:custGeom>
              <a:avLst/>
              <a:gdLst/>
              <a:ahLst/>
              <a:rect l="l" t="t" r="r" b="b"/>
              <a:pathLst>
                <a:path w="28" h="6">
                  <a:moveTo>
                    <a:pt x="0" y="0"/>
                  </a:moveTo>
                  <a:lnTo>
                    <a:pt x="21" y="0"/>
                  </a:lnTo>
                  <a:lnTo>
                    <a:pt x="28" y="6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8" name=""/>
            <p:cNvSpPr/>
            <p:nvPr/>
          </p:nvSpPr>
          <p:spPr>
            <a:xfrm>
              <a:off x="3503520" y="4979880"/>
              <a:ext cx="42840" cy="111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9" name=""/>
            <p:cNvSpPr/>
            <p:nvPr/>
          </p:nvSpPr>
          <p:spPr>
            <a:xfrm>
              <a:off x="3591000" y="4979880"/>
              <a:ext cx="31680" cy="11160"/>
            </a:xfrm>
            <a:custGeom>
              <a:avLst/>
              <a:gdLst/>
              <a:ahLst/>
              <a:rect l="l" t="t" r="r" b="b"/>
              <a:pathLst>
                <a:path w="20" h="7">
                  <a:moveTo>
                    <a:pt x="0" y="7"/>
                  </a:moveTo>
                  <a:lnTo>
                    <a:pt x="7" y="0"/>
                  </a:lnTo>
                  <a:lnTo>
                    <a:pt x="14" y="0"/>
                  </a:lnTo>
                  <a:lnTo>
                    <a:pt x="20" y="7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0" name=""/>
            <p:cNvSpPr/>
            <p:nvPr/>
          </p:nvSpPr>
          <p:spPr>
            <a:xfrm>
              <a:off x="3666960" y="5013360"/>
              <a:ext cx="33480" cy="223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1" name=""/>
            <p:cNvSpPr/>
            <p:nvPr/>
          </p:nvSpPr>
          <p:spPr>
            <a:xfrm>
              <a:off x="3743280" y="5046840"/>
              <a:ext cx="22320" cy="31680"/>
            </a:xfrm>
            <a:custGeom>
              <a:avLst/>
              <a:gdLst/>
              <a:ahLst/>
              <a:rect l="l" t="t" r="r" b="b"/>
              <a:pathLst>
                <a:path w="14" h="20">
                  <a:moveTo>
                    <a:pt x="0" y="0"/>
                  </a:moveTo>
                  <a:lnTo>
                    <a:pt x="14" y="7"/>
                  </a:lnTo>
                  <a:lnTo>
                    <a:pt x="14" y="14"/>
                  </a:lnTo>
                  <a:lnTo>
                    <a:pt x="14" y="2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2" name=""/>
            <p:cNvSpPr/>
            <p:nvPr/>
          </p:nvSpPr>
          <p:spPr>
            <a:xfrm flipH="1">
              <a:off x="3754080" y="5122800"/>
              <a:ext cx="11160" cy="446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3" name=""/>
            <p:cNvSpPr/>
            <p:nvPr/>
          </p:nvSpPr>
          <p:spPr>
            <a:xfrm>
              <a:off x="3743280" y="5210280"/>
              <a:ext cx="1800" cy="44280"/>
            </a:xfrm>
            <a:custGeom>
              <a:avLst/>
              <a:gdLst/>
              <a:ahLst/>
              <a:rect l="l" t="t" r="r" b="b"/>
              <a:pathLst>
                <a:path w="0" h="28">
                  <a:moveTo>
                    <a:pt x="0" y="0"/>
                  </a:moveTo>
                  <a:lnTo>
                    <a:pt x="0" y="14"/>
                  </a:lnTo>
                  <a:lnTo>
                    <a:pt x="0" y="28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4" name=""/>
            <p:cNvSpPr/>
            <p:nvPr/>
          </p:nvSpPr>
          <p:spPr>
            <a:xfrm flipH="1">
              <a:off x="3720600" y="5297400"/>
              <a:ext cx="11160" cy="446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5" name=""/>
            <p:cNvSpPr/>
            <p:nvPr/>
          </p:nvSpPr>
          <p:spPr>
            <a:xfrm>
              <a:off x="3700440" y="5384880"/>
              <a:ext cx="11160" cy="44280"/>
            </a:xfrm>
            <a:custGeom>
              <a:avLst/>
              <a:gdLst/>
              <a:ahLst/>
              <a:rect l="l" t="t" r="r" b="b"/>
              <a:pathLst>
                <a:path w="7" h="28">
                  <a:moveTo>
                    <a:pt x="7" y="0"/>
                  </a:moveTo>
                  <a:lnTo>
                    <a:pt x="0" y="21"/>
                  </a:lnTo>
                  <a:lnTo>
                    <a:pt x="0" y="28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6" name=""/>
            <p:cNvSpPr/>
            <p:nvPr/>
          </p:nvSpPr>
          <p:spPr>
            <a:xfrm flipH="1">
              <a:off x="3688920" y="5472000"/>
              <a:ext cx="11160" cy="446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7" name=""/>
            <p:cNvSpPr/>
            <p:nvPr/>
          </p:nvSpPr>
          <p:spPr>
            <a:xfrm flipH="1">
              <a:off x="3677760" y="5559480"/>
              <a:ext cx="11160" cy="442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8" name=""/>
            <p:cNvSpPr/>
            <p:nvPr/>
          </p:nvSpPr>
          <p:spPr>
            <a:xfrm>
              <a:off x="3678120" y="5648400"/>
              <a:ext cx="1800" cy="428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9" name=""/>
            <p:cNvSpPr/>
            <p:nvPr/>
          </p:nvSpPr>
          <p:spPr>
            <a:xfrm flipH="1">
              <a:off x="6545160" y="5614920"/>
              <a:ext cx="44640" cy="18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0" name=""/>
            <p:cNvSpPr/>
            <p:nvPr/>
          </p:nvSpPr>
          <p:spPr>
            <a:xfrm flipH="1">
              <a:off x="6446880" y="5626080"/>
              <a:ext cx="5544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1" name=""/>
            <p:cNvSpPr/>
            <p:nvPr/>
          </p:nvSpPr>
          <p:spPr>
            <a:xfrm flipH="1">
              <a:off x="6359400" y="5626080"/>
              <a:ext cx="4464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2" name=""/>
            <p:cNvSpPr/>
            <p:nvPr/>
          </p:nvSpPr>
          <p:spPr>
            <a:xfrm flipH="1">
              <a:off x="6271920" y="5626080"/>
              <a:ext cx="44280" cy="111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3" name=""/>
            <p:cNvSpPr/>
            <p:nvPr/>
          </p:nvSpPr>
          <p:spPr>
            <a:xfrm flipH="1">
              <a:off x="6184440" y="5637240"/>
              <a:ext cx="4284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4" name=""/>
            <p:cNvSpPr/>
            <p:nvPr/>
          </p:nvSpPr>
          <p:spPr>
            <a:xfrm flipH="1">
              <a:off x="6097320" y="5637240"/>
              <a:ext cx="4284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5" name=""/>
            <p:cNvSpPr/>
            <p:nvPr/>
          </p:nvSpPr>
          <p:spPr>
            <a:xfrm flipH="1">
              <a:off x="6009840" y="5648400"/>
              <a:ext cx="4284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6" name=""/>
            <p:cNvSpPr/>
            <p:nvPr/>
          </p:nvSpPr>
          <p:spPr>
            <a:xfrm flipH="1">
              <a:off x="5921280" y="5648400"/>
              <a:ext cx="4464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7" name=""/>
            <p:cNvSpPr/>
            <p:nvPr/>
          </p:nvSpPr>
          <p:spPr>
            <a:xfrm flipH="1">
              <a:off x="5822640" y="5657760"/>
              <a:ext cx="44280" cy="18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8" name=""/>
            <p:cNvSpPr/>
            <p:nvPr/>
          </p:nvSpPr>
          <p:spPr>
            <a:xfrm flipH="1">
              <a:off x="5735520" y="5657760"/>
              <a:ext cx="44640" cy="18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9" name=""/>
            <p:cNvSpPr/>
            <p:nvPr/>
          </p:nvSpPr>
          <p:spPr>
            <a:xfrm flipH="1">
              <a:off x="5648040" y="5657760"/>
              <a:ext cx="44280" cy="18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0" name=""/>
            <p:cNvSpPr/>
            <p:nvPr/>
          </p:nvSpPr>
          <p:spPr>
            <a:xfrm flipH="1">
              <a:off x="5560560" y="5657760"/>
              <a:ext cx="42840" cy="18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1" name=""/>
            <p:cNvSpPr/>
            <p:nvPr/>
          </p:nvSpPr>
          <p:spPr>
            <a:xfrm flipH="1">
              <a:off x="5473440" y="5668920"/>
              <a:ext cx="42840" cy="18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2" name=""/>
            <p:cNvSpPr/>
            <p:nvPr/>
          </p:nvSpPr>
          <p:spPr>
            <a:xfrm flipH="1">
              <a:off x="5385960" y="5668920"/>
              <a:ext cx="42840" cy="18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3" name=""/>
            <p:cNvSpPr/>
            <p:nvPr/>
          </p:nvSpPr>
          <p:spPr>
            <a:xfrm flipH="1">
              <a:off x="5285880" y="5668920"/>
              <a:ext cx="55800" cy="18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4" name=""/>
            <p:cNvSpPr/>
            <p:nvPr/>
          </p:nvSpPr>
          <p:spPr>
            <a:xfrm flipH="1">
              <a:off x="5198760" y="5668920"/>
              <a:ext cx="44280" cy="18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5" name=""/>
            <p:cNvSpPr/>
            <p:nvPr/>
          </p:nvSpPr>
          <p:spPr>
            <a:xfrm flipH="1">
              <a:off x="5111640" y="5680080"/>
              <a:ext cx="4464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6" name=""/>
            <p:cNvSpPr/>
            <p:nvPr/>
          </p:nvSpPr>
          <p:spPr>
            <a:xfrm flipH="1">
              <a:off x="5024160" y="5680080"/>
              <a:ext cx="4428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7" name=""/>
            <p:cNvSpPr/>
            <p:nvPr/>
          </p:nvSpPr>
          <p:spPr>
            <a:xfrm flipH="1">
              <a:off x="4936680" y="5680080"/>
              <a:ext cx="4284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8" name=""/>
            <p:cNvSpPr/>
            <p:nvPr/>
          </p:nvSpPr>
          <p:spPr>
            <a:xfrm flipH="1">
              <a:off x="4849560" y="5680080"/>
              <a:ext cx="42840" cy="111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9" name=""/>
            <p:cNvSpPr/>
            <p:nvPr/>
          </p:nvSpPr>
          <p:spPr>
            <a:xfrm flipH="1">
              <a:off x="4762080" y="5691240"/>
              <a:ext cx="4284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0" name=""/>
            <p:cNvSpPr/>
            <p:nvPr/>
          </p:nvSpPr>
          <p:spPr>
            <a:xfrm>
              <a:off x="4662360" y="5691240"/>
              <a:ext cx="55800" cy="1440"/>
            </a:xfrm>
            <a:custGeom>
              <a:avLst/>
              <a:gdLst/>
              <a:ahLst/>
              <a:rect l="l" t="t" r="r" b="b"/>
              <a:pathLst>
                <a:path w="35" h="0">
                  <a:moveTo>
                    <a:pt x="35" y="0"/>
                  </a:moveTo>
                  <a:lnTo>
                    <a:pt x="28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1" name=""/>
            <p:cNvSpPr/>
            <p:nvPr/>
          </p:nvSpPr>
          <p:spPr>
            <a:xfrm flipH="1">
              <a:off x="4574880" y="5691240"/>
              <a:ext cx="4428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2" name=""/>
            <p:cNvSpPr/>
            <p:nvPr/>
          </p:nvSpPr>
          <p:spPr>
            <a:xfrm flipH="1">
              <a:off x="4487760" y="5691240"/>
              <a:ext cx="4464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3" name=""/>
            <p:cNvSpPr/>
            <p:nvPr/>
          </p:nvSpPr>
          <p:spPr>
            <a:xfrm flipH="1">
              <a:off x="4400280" y="5691240"/>
              <a:ext cx="4428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4" name=""/>
            <p:cNvSpPr/>
            <p:nvPr/>
          </p:nvSpPr>
          <p:spPr>
            <a:xfrm flipH="1">
              <a:off x="4312800" y="5691240"/>
              <a:ext cx="4284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5" name=""/>
            <p:cNvSpPr/>
            <p:nvPr/>
          </p:nvSpPr>
          <p:spPr>
            <a:xfrm>
              <a:off x="4226040" y="5691240"/>
              <a:ext cx="42840" cy="1440"/>
            </a:xfrm>
            <a:custGeom>
              <a:avLst/>
              <a:gdLst/>
              <a:ahLst/>
              <a:rect l="l" t="t" r="r" b="b"/>
              <a:pathLst>
                <a:path w="27" h="0">
                  <a:moveTo>
                    <a:pt x="27" y="0"/>
                  </a:moveTo>
                  <a:lnTo>
                    <a:pt x="2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6" name=""/>
            <p:cNvSpPr/>
            <p:nvPr/>
          </p:nvSpPr>
          <p:spPr>
            <a:xfrm flipH="1">
              <a:off x="4136760" y="5691240"/>
              <a:ext cx="4428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7" name=""/>
            <p:cNvSpPr/>
            <p:nvPr/>
          </p:nvSpPr>
          <p:spPr>
            <a:xfrm flipH="1">
              <a:off x="4038480" y="5691240"/>
              <a:ext cx="4464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8" name=""/>
            <p:cNvSpPr/>
            <p:nvPr/>
          </p:nvSpPr>
          <p:spPr>
            <a:xfrm>
              <a:off x="3951360" y="5691240"/>
              <a:ext cx="44280" cy="1440"/>
            </a:xfrm>
            <a:custGeom>
              <a:avLst/>
              <a:gdLst/>
              <a:ahLst/>
              <a:rect l="l" t="t" r="r" b="b"/>
              <a:pathLst>
                <a:path w="28" h="0">
                  <a:moveTo>
                    <a:pt x="28" y="0"/>
                  </a:moveTo>
                  <a:lnTo>
                    <a:pt x="21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9" name=""/>
            <p:cNvSpPr/>
            <p:nvPr/>
          </p:nvSpPr>
          <p:spPr>
            <a:xfrm flipH="1">
              <a:off x="3863880" y="5691240"/>
              <a:ext cx="4464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0" name=""/>
            <p:cNvSpPr/>
            <p:nvPr/>
          </p:nvSpPr>
          <p:spPr>
            <a:xfrm flipH="1">
              <a:off x="3776400" y="5691240"/>
              <a:ext cx="4428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1" name=""/>
            <p:cNvSpPr/>
            <p:nvPr/>
          </p:nvSpPr>
          <p:spPr>
            <a:xfrm flipH="1">
              <a:off x="3688920" y="5691240"/>
              <a:ext cx="4284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2" name=""/>
            <p:cNvSpPr/>
            <p:nvPr/>
          </p:nvSpPr>
          <p:spPr>
            <a:xfrm flipH="1">
              <a:off x="3601800" y="5702400"/>
              <a:ext cx="4284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3" name=""/>
            <p:cNvSpPr/>
            <p:nvPr/>
          </p:nvSpPr>
          <p:spPr>
            <a:xfrm flipH="1">
              <a:off x="3503160" y="5702400"/>
              <a:ext cx="4284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4" name=""/>
            <p:cNvSpPr/>
            <p:nvPr/>
          </p:nvSpPr>
          <p:spPr>
            <a:xfrm>
              <a:off x="3414600" y="5702400"/>
              <a:ext cx="44640" cy="1440"/>
            </a:xfrm>
            <a:custGeom>
              <a:avLst/>
              <a:gdLst/>
              <a:ahLst/>
              <a:rect l="l" t="t" r="r" b="b"/>
              <a:pathLst>
                <a:path w="28" h="0">
                  <a:moveTo>
                    <a:pt x="28" y="0"/>
                  </a:moveTo>
                  <a:lnTo>
                    <a:pt x="14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5" name=""/>
            <p:cNvSpPr/>
            <p:nvPr/>
          </p:nvSpPr>
          <p:spPr>
            <a:xfrm flipH="1">
              <a:off x="3327120" y="5702400"/>
              <a:ext cx="4428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6" name=""/>
            <p:cNvSpPr/>
            <p:nvPr/>
          </p:nvSpPr>
          <p:spPr>
            <a:xfrm flipH="1">
              <a:off x="3240000" y="5702400"/>
              <a:ext cx="4464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7" name=""/>
            <p:cNvSpPr/>
            <p:nvPr/>
          </p:nvSpPr>
          <p:spPr>
            <a:xfrm flipH="1">
              <a:off x="3152520" y="5702400"/>
              <a:ext cx="4428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8" name=""/>
            <p:cNvSpPr/>
            <p:nvPr/>
          </p:nvSpPr>
          <p:spPr>
            <a:xfrm flipV="1">
              <a:off x="6578640" y="5570280"/>
              <a:ext cx="11160" cy="442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9" name=""/>
            <p:cNvSpPr/>
            <p:nvPr/>
          </p:nvSpPr>
          <p:spPr>
            <a:xfrm flipV="1">
              <a:off x="6600960" y="5483160"/>
              <a:ext cx="10800" cy="446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0" name=""/>
            <p:cNvSpPr/>
            <p:nvPr/>
          </p:nvSpPr>
          <p:spPr>
            <a:xfrm>
              <a:off x="6622920" y="5407200"/>
              <a:ext cx="11160" cy="44280"/>
            </a:xfrm>
            <a:custGeom>
              <a:avLst/>
              <a:gdLst/>
              <a:ahLst/>
              <a:rect l="l" t="t" r="r" b="b"/>
              <a:pathLst>
                <a:path w="7" h="28">
                  <a:moveTo>
                    <a:pt x="0" y="28"/>
                  </a:moveTo>
                  <a:lnTo>
                    <a:pt x="7" y="21"/>
                  </a:lnTo>
                  <a:lnTo>
                    <a:pt x="0" y="14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1" name=""/>
            <p:cNvSpPr/>
            <p:nvPr/>
          </p:nvSpPr>
          <p:spPr>
            <a:xfrm>
              <a:off x="6567480" y="5330880"/>
              <a:ext cx="33480" cy="31680"/>
            </a:xfrm>
            <a:custGeom>
              <a:avLst/>
              <a:gdLst/>
              <a:ahLst/>
              <a:rect l="l" t="t" r="r" b="b"/>
              <a:pathLst>
                <a:path w="21" h="20">
                  <a:moveTo>
                    <a:pt x="21" y="20"/>
                  </a:moveTo>
                  <a:lnTo>
                    <a:pt x="14" y="20"/>
                  </a:lnTo>
                  <a:lnTo>
                    <a:pt x="7" y="14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2" name=""/>
            <p:cNvSpPr/>
            <p:nvPr/>
          </p:nvSpPr>
          <p:spPr>
            <a:xfrm>
              <a:off x="6513480" y="5265720"/>
              <a:ext cx="31680" cy="316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20" y="20"/>
                  </a:moveTo>
                  <a:lnTo>
                    <a:pt x="13" y="13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3" name=""/>
            <p:cNvSpPr/>
            <p:nvPr/>
          </p:nvSpPr>
          <p:spPr>
            <a:xfrm>
              <a:off x="6491160" y="5221440"/>
              <a:ext cx="180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4" name=""/>
            <p:cNvSpPr/>
            <p:nvPr/>
          </p:nvSpPr>
          <p:spPr>
            <a:xfrm>
              <a:off x="6513480" y="5210280"/>
              <a:ext cx="11160" cy="44280"/>
            </a:xfrm>
            <a:custGeom>
              <a:avLst/>
              <a:gdLst/>
              <a:ahLst/>
              <a:rect l="l" t="t" r="r" b="b"/>
              <a:pathLst>
                <a:path w="7" h="28">
                  <a:moveTo>
                    <a:pt x="0" y="28"/>
                  </a:moveTo>
                  <a:lnTo>
                    <a:pt x="7" y="7"/>
                  </a:lnTo>
                  <a:lnTo>
                    <a:pt x="7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5" name=""/>
            <p:cNvSpPr/>
            <p:nvPr/>
          </p:nvSpPr>
          <p:spPr>
            <a:xfrm>
              <a:off x="6524640" y="5122800"/>
              <a:ext cx="9360" cy="44640"/>
            </a:xfrm>
            <a:custGeom>
              <a:avLst/>
              <a:gdLst/>
              <a:ahLst/>
              <a:rect l="l" t="t" r="r" b="b"/>
              <a:pathLst>
                <a:path w="6" h="28">
                  <a:moveTo>
                    <a:pt x="6" y="28"/>
                  </a:moveTo>
                  <a:lnTo>
                    <a:pt x="0" y="21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6" name=""/>
            <p:cNvSpPr/>
            <p:nvPr/>
          </p:nvSpPr>
          <p:spPr>
            <a:xfrm>
              <a:off x="6469200" y="5046840"/>
              <a:ext cx="33120" cy="42840"/>
            </a:xfrm>
            <a:custGeom>
              <a:avLst/>
              <a:gdLst/>
              <a:ahLst/>
              <a:rect l="l" t="t" r="r" b="b"/>
              <a:pathLst>
                <a:path w="21" h="27">
                  <a:moveTo>
                    <a:pt x="21" y="27"/>
                  </a:moveTo>
                  <a:lnTo>
                    <a:pt x="7" y="7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7" name=""/>
            <p:cNvSpPr/>
            <p:nvPr/>
          </p:nvSpPr>
          <p:spPr>
            <a:xfrm>
              <a:off x="6458040" y="4970520"/>
              <a:ext cx="1440" cy="42840"/>
            </a:xfrm>
            <a:custGeom>
              <a:avLst/>
              <a:gdLst/>
              <a:ahLst/>
              <a:rect l="l" t="t" r="r" b="b"/>
              <a:pathLst>
                <a:path w="0" h="27">
                  <a:moveTo>
                    <a:pt x="0" y="27"/>
                  </a:move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8" name=""/>
            <p:cNvSpPr/>
            <p:nvPr/>
          </p:nvSpPr>
          <p:spPr>
            <a:xfrm>
              <a:off x="6458040" y="4881600"/>
              <a:ext cx="1440" cy="44280"/>
            </a:xfrm>
            <a:custGeom>
              <a:avLst/>
              <a:gdLst/>
              <a:ahLst/>
              <a:rect l="l" t="t" r="r" b="b"/>
              <a:pathLst>
                <a:path w="0" h="28">
                  <a:moveTo>
                    <a:pt x="0" y="28"/>
                  </a:moveTo>
                  <a:lnTo>
                    <a:pt x="0" y="14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9" name=""/>
            <p:cNvSpPr/>
            <p:nvPr/>
          </p:nvSpPr>
          <p:spPr>
            <a:xfrm>
              <a:off x="6458040" y="4794120"/>
              <a:ext cx="1440" cy="44640"/>
            </a:xfrm>
            <a:custGeom>
              <a:avLst/>
              <a:gdLst/>
              <a:ahLst/>
              <a:rect l="l" t="t" r="r" b="b"/>
              <a:pathLst>
                <a:path w="0" h="28">
                  <a:moveTo>
                    <a:pt x="0" y="28"/>
                  </a:moveTo>
                  <a:lnTo>
                    <a:pt x="0" y="21"/>
                  </a:lnTo>
                  <a:lnTo>
                    <a:pt x="0" y="7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0" name=""/>
            <p:cNvSpPr/>
            <p:nvPr/>
          </p:nvSpPr>
          <p:spPr>
            <a:xfrm>
              <a:off x="6480000" y="4707000"/>
              <a:ext cx="11160" cy="44280"/>
            </a:xfrm>
            <a:custGeom>
              <a:avLst/>
              <a:gdLst/>
              <a:ahLst/>
              <a:rect l="l" t="t" r="r" b="b"/>
              <a:pathLst>
                <a:path w="7" h="28">
                  <a:moveTo>
                    <a:pt x="0" y="28"/>
                  </a:moveTo>
                  <a:lnTo>
                    <a:pt x="7" y="21"/>
                  </a:lnTo>
                  <a:lnTo>
                    <a:pt x="7" y="7"/>
                  </a:lnTo>
                  <a:lnTo>
                    <a:pt x="7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1" name=""/>
            <p:cNvSpPr/>
            <p:nvPr/>
          </p:nvSpPr>
          <p:spPr>
            <a:xfrm>
              <a:off x="6513480" y="4630680"/>
              <a:ext cx="11160" cy="44640"/>
            </a:xfrm>
            <a:custGeom>
              <a:avLst/>
              <a:gdLst/>
              <a:ahLst/>
              <a:rect l="l" t="t" r="r" b="b"/>
              <a:pathLst>
                <a:path w="7" h="28">
                  <a:moveTo>
                    <a:pt x="0" y="28"/>
                  </a:moveTo>
                  <a:lnTo>
                    <a:pt x="7" y="21"/>
                  </a:lnTo>
                  <a:lnTo>
                    <a:pt x="7" y="14"/>
                  </a:lnTo>
                  <a:lnTo>
                    <a:pt x="7" y="0"/>
                  </a:lnTo>
                  <a:lnTo>
                    <a:pt x="7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2" name=""/>
            <p:cNvSpPr/>
            <p:nvPr/>
          </p:nvSpPr>
          <p:spPr>
            <a:xfrm>
              <a:off x="6534000" y="4576680"/>
              <a:ext cx="44640" cy="9720"/>
            </a:xfrm>
            <a:custGeom>
              <a:avLst/>
              <a:gdLst/>
              <a:ahLst/>
              <a:rect l="l" t="t" r="r" b="b"/>
              <a:pathLst>
                <a:path w="28" h="6">
                  <a:moveTo>
                    <a:pt x="0" y="6"/>
                  </a:moveTo>
                  <a:lnTo>
                    <a:pt x="7" y="6"/>
                  </a:lnTo>
                  <a:lnTo>
                    <a:pt x="28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3" name=""/>
            <p:cNvSpPr/>
            <p:nvPr/>
          </p:nvSpPr>
          <p:spPr>
            <a:xfrm>
              <a:off x="6622920" y="4554360"/>
              <a:ext cx="42840" cy="22320"/>
            </a:xfrm>
            <a:custGeom>
              <a:avLst/>
              <a:gdLst/>
              <a:ahLst/>
              <a:rect l="l" t="t" r="r" b="b"/>
              <a:pathLst>
                <a:path w="27" h="14">
                  <a:moveTo>
                    <a:pt x="0" y="14"/>
                  </a:moveTo>
                  <a:lnTo>
                    <a:pt x="13" y="7"/>
                  </a:lnTo>
                  <a:lnTo>
                    <a:pt x="27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4" name=""/>
            <p:cNvSpPr/>
            <p:nvPr/>
          </p:nvSpPr>
          <p:spPr>
            <a:xfrm>
              <a:off x="6699240" y="4521240"/>
              <a:ext cx="42840" cy="22320"/>
            </a:xfrm>
            <a:custGeom>
              <a:avLst/>
              <a:gdLst/>
              <a:ahLst/>
              <a:rect l="l" t="t" r="r" b="b"/>
              <a:pathLst>
                <a:path w="27" h="14">
                  <a:moveTo>
                    <a:pt x="0" y="14"/>
                  </a:moveTo>
                  <a:lnTo>
                    <a:pt x="21" y="0"/>
                  </a:lnTo>
                  <a:lnTo>
                    <a:pt x="27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5" name=""/>
            <p:cNvSpPr/>
            <p:nvPr/>
          </p:nvSpPr>
          <p:spPr>
            <a:xfrm>
              <a:off x="6775560" y="4467240"/>
              <a:ext cx="33120" cy="20520"/>
            </a:xfrm>
            <a:custGeom>
              <a:avLst/>
              <a:gdLst/>
              <a:ahLst/>
              <a:rect l="l" t="t" r="r" b="b"/>
              <a:pathLst>
                <a:path w="21" h="13">
                  <a:moveTo>
                    <a:pt x="0" y="13"/>
                  </a:moveTo>
                  <a:lnTo>
                    <a:pt x="0" y="13"/>
                  </a:lnTo>
                  <a:lnTo>
                    <a:pt x="21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6" name=""/>
            <p:cNvSpPr/>
            <p:nvPr/>
          </p:nvSpPr>
          <p:spPr>
            <a:xfrm>
              <a:off x="6851520" y="4411800"/>
              <a:ext cx="33480" cy="21960"/>
            </a:xfrm>
            <a:custGeom>
              <a:avLst/>
              <a:gdLst/>
              <a:ahLst/>
              <a:rect l="l" t="t" r="r" b="b"/>
              <a:pathLst>
                <a:path w="21" h="14">
                  <a:moveTo>
                    <a:pt x="0" y="14"/>
                  </a:moveTo>
                  <a:lnTo>
                    <a:pt x="0" y="14"/>
                  </a:lnTo>
                  <a:lnTo>
                    <a:pt x="21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7" name=""/>
            <p:cNvSpPr/>
            <p:nvPr/>
          </p:nvSpPr>
          <p:spPr>
            <a:xfrm>
              <a:off x="5221440" y="3679920"/>
              <a:ext cx="207720" cy="217440"/>
            </a:xfrm>
            <a:custGeom>
              <a:avLst/>
              <a:gdLst/>
              <a:ahLst/>
              <a:rect l="l" t="t" r="r" b="b"/>
              <a:pathLst>
                <a:path w="131" h="137">
                  <a:moveTo>
                    <a:pt x="0" y="41"/>
                  </a:moveTo>
                  <a:lnTo>
                    <a:pt x="7" y="110"/>
                  </a:lnTo>
                  <a:lnTo>
                    <a:pt x="35" y="131"/>
                  </a:lnTo>
                  <a:lnTo>
                    <a:pt x="90" y="137"/>
                  </a:lnTo>
                  <a:lnTo>
                    <a:pt x="124" y="103"/>
                  </a:lnTo>
                  <a:lnTo>
                    <a:pt x="131" y="48"/>
                  </a:lnTo>
                  <a:lnTo>
                    <a:pt x="90" y="27"/>
                  </a:lnTo>
                  <a:lnTo>
                    <a:pt x="55" y="0"/>
                  </a:lnTo>
                  <a:lnTo>
                    <a:pt x="35" y="13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8" name=""/>
            <p:cNvSpPr/>
            <p:nvPr/>
          </p:nvSpPr>
          <p:spPr>
            <a:xfrm>
              <a:off x="5035680" y="4290840"/>
              <a:ext cx="42840" cy="111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9" name=""/>
            <p:cNvSpPr/>
            <p:nvPr/>
          </p:nvSpPr>
          <p:spPr>
            <a:xfrm>
              <a:off x="5122800" y="4313160"/>
              <a:ext cx="44640" cy="111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0" name=""/>
            <p:cNvSpPr/>
            <p:nvPr/>
          </p:nvSpPr>
          <p:spPr>
            <a:xfrm flipV="1">
              <a:off x="5187960" y="4269960"/>
              <a:ext cx="11160" cy="428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1" name=""/>
            <p:cNvSpPr/>
            <p:nvPr/>
          </p:nvSpPr>
          <p:spPr>
            <a:xfrm flipV="1">
              <a:off x="5210280" y="4182840"/>
              <a:ext cx="1440" cy="428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42" name=""/>
          <p:cNvGrpSpPr/>
          <p:nvPr/>
        </p:nvGrpSpPr>
        <p:grpSpPr>
          <a:xfrm>
            <a:off x="3174480" y="2203560"/>
            <a:ext cx="3754800" cy="3498840"/>
            <a:chOff x="3174480" y="2203560"/>
            <a:chExt cx="3754800" cy="3498840"/>
          </a:xfrm>
        </p:grpSpPr>
        <p:sp>
          <p:nvSpPr>
            <p:cNvPr id="6843" name=""/>
            <p:cNvSpPr/>
            <p:nvPr/>
          </p:nvSpPr>
          <p:spPr>
            <a:xfrm flipV="1">
              <a:off x="5221440" y="4084560"/>
              <a:ext cx="10800" cy="540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4" name=""/>
            <p:cNvSpPr/>
            <p:nvPr/>
          </p:nvSpPr>
          <p:spPr>
            <a:xfrm flipV="1">
              <a:off x="5232240" y="3995640"/>
              <a:ext cx="1800" cy="446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5" name=""/>
            <p:cNvSpPr/>
            <p:nvPr/>
          </p:nvSpPr>
          <p:spPr>
            <a:xfrm>
              <a:off x="5221440" y="3919680"/>
              <a:ext cx="10800" cy="44280"/>
            </a:xfrm>
            <a:custGeom>
              <a:avLst/>
              <a:gdLst/>
              <a:ahLst/>
              <a:rect l="l" t="t" r="r" b="b"/>
              <a:pathLst>
                <a:path w="7" h="28">
                  <a:moveTo>
                    <a:pt x="0" y="28"/>
                  </a:moveTo>
                  <a:lnTo>
                    <a:pt x="0" y="28"/>
                  </a:lnTo>
                  <a:lnTo>
                    <a:pt x="7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6" name=""/>
            <p:cNvSpPr/>
            <p:nvPr/>
          </p:nvSpPr>
          <p:spPr>
            <a:xfrm>
              <a:off x="5265720" y="3919680"/>
              <a:ext cx="42840" cy="10800"/>
            </a:xfrm>
            <a:custGeom>
              <a:avLst/>
              <a:gdLst/>
              <a:ahLst/>
              <a:rect l="l" t="t" r="r" b="b"/>
              <a:pathLst>
                <a:path w="27" h="7">
                  <a:moveTo>
                    <a:pt x="0" y="0"/>
                  </a:moveTo>
                  <a:lnTo>
                    <a:pt x="20" y="7"/>
                  </a:lnTo>
                  <a:lnTo>
                    <a:pt x="27" y="7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7" name=""/>
            <p:cNvSpPr/>
            <p:nvPr/>
          </p:nvSpPr>
          <p:spPr>
            <a:xfrm>
              <a:off x="5353200" y="3941640"/>
              <a:ext cx="42840" cy="111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8" name=""/>
            <p:cNvSpPr/>
            <p:nvPr/>
          </p:nvSpPr>
          <p:spPr>
            <a:xfrm>
              <a:off x="5396040" y="3809880"/>
              <a:ext cx="1533240" cy="612720"/>
            </a:xfrm>
            <a:custGeom>
              <a:avLst/>
              <a:gdLst/>
              <a:ahLst/>
              <a:rect l="l" t="t" r="r" b="b"/>
              <a:pathLst>
                <a:path w="966" h="386">
                  <a:moveTo>
                    <a:pt x="966" y="386"/>
                  </a:moveTo>
                  <a:lnTo>
                    <a:pt x="842" y="352"/>
                  </a:lnTo>
                  <a:lnTo>
                    <a:pt x="835" y="345"/>
                  </a:lnTo>
                  <a:lnTo>
                    <a:pt x="828" y="345"/>
                  </a:lnTo>
                  <a:lnTo>
                    <a:pt x="814" y="338"/>
                  </a:lnTo>
                  <a:lnTo>
                    <a:pt x="724" y="310"/>
                  </a:lnTo>
                  <a:lnTo>
                    <a:pt x="538" y="166"/>
                  </a:lnTo>
                  <a:lnTo>
                    <a:pt x="504" y="159"/>
                  </a:lnTo>
                  <a:lnTo>
                    <a:pt x="324" y="117"/>
                  </a:lnTo>
                  <a:lnTo>
                    <a:pt x="269" y="111"/>
                  </a:lnTo>
                  <a:lnTo>
                    <a:pt x="166" y="104"/>
                  </a:lnTo>
                  <a:lnTo>
                    <a:pt x="159" y="97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9" name=""/>
            <p:cNvSpPr/>
            <p:nvPr/>
          </p:nvSpPr>
          <p:spPr>
            <a:xfrm>
              <a:off x="5407200" y="3821040"/>
              <a:ext cx="1440" cy="446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0" name=""/>
            <p:cNvSpPr/>
            <p:nvPr/>
          </p:nvSpPr>
          <p:spPr>
            <a:xfrm>
              <a:off x="5407200" y="3908520"/>
              <a:ext cx="1440" cy="55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1" name=""/>
            <p:cNvSpPr/>
            <p:nvPr/>
          </p:nvSpPr>
          <p:spPr>
            <a:xfrm>
              <a:off x="5407200" y="4006800"/>
              <a:ext cx="1440" cy="446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2" name=""/>
            <p:cNvSpPr/>
            <p:nvPr/>
          </p:nvSpPr>
          <p:spPr>
            <a:xfrm>
              <a:off x="5407200" y="4094280"/>
              <a:ext cx="1440" cy="44280"/>
            </a:xfrm>
            <a:custGeom>
              <a:avLst/>
              <a:gdLst/>
              <a:ahLst/>
              <a:rect l="l" t="t" r="r" b="b"/>
              <a:pathLst>
                <a:path w="0" h="28">
                  <a:moveTo>
                    <a:pt x="0" y="0"/>
                  </a:moveTo>
                  <a:lnTo>
                    <a:pt x="0" y="14"/>
                  </a:lnTo>
                  <a:lnTo>
                    <a:pt x="0" y="28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3" name=""/>
            <p:cNvSpPr/>
            <p:nvPr/>
          </p:nvSpPr>
          <p:spPr>
            <a:xfrm>
              <a:off x="5407200" y="4183200"/>
              <a:ext cx="1440" cy="42840"/>
            </a:xfrm>
            <a:custGeom>
              <a:avLst/>
              <a:gdLst/>
              <a:ahLst/>
              <a:rect l="l" t="t" r="r" b="b"/>
              <a:pathLst>
                <a:path w="0" h="27">
                  <a:moveTo>
                    <a:pt x="0" y="0"/>
                  </a:moveTo>
                  <a:lnTo>
                    <a:pt x="0" y="20"/>
                  </a:lnTo>
                  <a:lnTo>
                    <a:pt x="0" y="27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4" name=""/>
            <p:cNvSpPr/>
            <p:nvPr/>
          </p:nvSpPr>
          <p:spPr>
            <a:xfrm>
              <a:off x="5407200" y="4270320"/>
              <a:ext cx="1440" cy="42840"/>
            </a:xfrm>
            <a:custGeom>
              <a:avLst/>
              <a:gdLst/>
              <a:ahLst/>
              <a:rect l="l" t="t" r="r" b="b"/>
              <a:pathLst>
                <a:path w="0" h="27">
                  <a:moveTo>
                    <a:pt x="0" y="0"/>
                  </a:moveTo>
                  <a:lnTo>
                    <a:pt x="0" y="13"/>
                  </a:lnTo>
                  <a:lnTo>
                    <a:pt x="0" y="27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5" name=""/>
            <p:cNvSpPr/>
            <p:nvPr/>
          </p:nvSpPr>
          <p:spPr>
            <a:xfrm>
              <a:off x="5407200" y="4357800"/>
              <a:ext cx="1440" cy="428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6" name=""/>
            <p:cNvSpPr/>
            <p:nvPr/>
          </p:nvSpPr>
          <p:spPr>
            <a:xfrm>
              <a:off x="5407200" y="4444920"/>
              <a:ext cx="1440" cy="54000"/>
            </a:xfrm>
            <a:custGeom>
              <a:avLst/>
              <a:gdLst/>
              <a:ahLst/>
              <a:rect l="l" t="t" r="r" b="b"/>
              <a:pathLst>
                <a:path w="0" h="34">
                  <a:moveTo>
                    <a:pt x="0" y="0"/>
                  </a:moveTo>
                  <a:lnTo>
                    <a:pt x="0" y="7"/>
                  </a:lnTo>
                  <a:lnTo>
                    <a:pt x="0" y="34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7" name=""/>
            <p:cNvSpPr/>
            <p:nvPr/>
          </p:nvSpPr>
          <p:spPr>
            <a:xfrm>
              <a:off x="5407200" y="4543560"/>
              <a:ext cx="1440" cy="428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8" name=""/>
            <p:cNvSpPr/>
            <p:nvPr/>
          </p:nvSpPr>
          <p:spPr>
            <a:xfrm>
              <a:off x="5407200" y="4630680"/>
              <a:ext cx="1440" cy="334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9" name=""/>
            <p:cNvSpPr/>
            <p:nvPr/>
          </p:nvSpPr>
          <p:spPr>
            <a:xfrm flipV="1">
              <a:off x="3459240" y="5657760"/>
              <a:ext cx="1440" cy="446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0" name=""/>
            <p:cNvSpPr/>
            <p:nvPr/>
          </p:nvSpPr>
          <p:spPr>
            <a:xfrm>
              <a:off x="3436920" y="5570640"/>
              <a:ext cx="11160" cy="44280"/>
            </a:xfrm>
            <a:custGeom>
              <a:avLst/>
              <a:gdLst/>
              <a:ahLst/>
              <a:rect l="l" t="t" r="r" b="b"/>
              <a:pathLst>
                <a:path w="7" h="28">
                  <a:moveTo>
                    <a:pt x="7" y="28"/>
                  </a:moveTo>
                  <a:lnTo>
                    <a:pt x="0" y="7"/>
                  </a:lnTo>
                  <a:lnTo>
                    <a:pt x="7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1" name=""/>
            <p:cNvSpPr/>
            <p:nvPr/>
          </p:nvSpPr>
          <p:spPr>
            <a:xfrm>
              <a:off x="3470400" y="5494320"/>
              <a:ext cx="21960" cy="44640"/>
            </a:xfrm>
            <a:custGeom>
              <a:avLst/>
              <a:gdLst/>
              <a:ahLst/>
              <a:rect l="l" t="t" r="r" b="b"/>
              <a:pathLst>
                <a:path w="14" h="28">
                  <a:moveTo>
                    <a:pt x="0" y="28"/>
                  </a:moveTo>
                  <a:lnTo>
                    <a:pt x="14" y="0"/>
                  </a:lnTo>
                  <a:lnTo>
                    <a:pt x="14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2" name=""/>
            <p:cNvSpPr/>
            <p:nvPr/>
          </p:nvSpPr>
          <p:spPr>
            <a:xfrm>
              <a:off x="3436920" y="5418000"/>
              <a:ext cx="33480" cy="33480"/>
            </a:xfrm>
            <a:custGeom>
              <a:avLst/>
              <a:gdLst/>
              <a:ahLst/>
              <a:rect l="l" t="t" r="r" b="b"/>
              <a:pathLst>
                <a:path w="21" h="21">
                  <a:moveTo>
                    <a:pt x="21" y="21"/>
                  </a:moveTo>
                  <a:lnTo>
                    <a:pt x="14" y="14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3" name=""/>
            <p:cNvSpPr/>
            <p:nvPr/>
          </p:nvSpPr>
          <p:spPr>
            <a:xfrm>
              <a:off x="3382920" y="5353200"/>
              <a:ext cx="31680" cy="316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20" y="20"/>
                  </a:moveTo>
                  <a:lnTo>
                    <a:pt x="7" y="6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4" name=""/>
            <p:cNvSpPr/>
            <p:nvPr/>
          </p:nvSpPr>
          <p:spPr>
            <a:xfrm flipH="1" flipV="1">
              <a:off x="3327480" y="5275440"/>
              <a:ext cx="33120" cy="331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5" name=""/>
            <p:cNvSpPr/>
            <p:nvPr/>
          </p:nvSpPr>
          <p:spPr>
            <a:xfrm>
              <a:off x="3273480" y="5210280"/>
              <a:ext cx="31680" cy="33120"/>
            </a:xfrm>
            <a:custGeom>
              <a:avLst/>
              <a:gdLst/>
              <a:ahLst/>
              <a:rect l="l" t="t" r="r" b="b"/>
              <a:pathLst>
                <a:path w="20" h="21">
                  <a:moveTo>
                    <a:pt x="20" y="21"/>
                  </a:moveTo>
                  <a:lnTo>
                    <a:pt x="20" y="21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6" name=""/>
            <p:cNvSpPr/>
            <p:nvPr/>
          </p:nvSpPr>
          <p:spPr>
            <a:xfrm flipV="1">
              <a:off x="3273480" y="5122800"/>
              <a:ext cx="11160" cy="446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7" name=""/>
            <p:cNvSpPr/>
            <p:nvPr/>
          </p:nvSpPr>
          <p:spPr>
            <a:xfrm flipV="1">
              <a:off x="3295800" y="5035320"/>
              <a:ext cx="1440" cy="428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8" name=""/>
            <p:cNvSpPr/>
            <p:nvPr/>
          </p:nvSpPr>
          <p:spPr>
            <a:xfrm flipV="1">
              <a:off x="3305160" y="4947840"/>
              <a:ext cx="11160" cy="428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9" name=""/>
            <p:cNvSpPr/>
            <p:nvPr/>
          </p:nvSpPr>
          <p:spPr>
            <a:xfrm flipV="1">
              <a:off x="3327480" y="4860720"/>
              <a:ext cx="11160" cy="428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0" name=""/>
            <p:cNvSpPr/>
            <p:nvPr/>
          </p:nvSpPr>
          <p:spPr>
            <a:xfrm flipV="1">
              <a:off x="3338640" y="4773240"/>
              <a:ext cx="11160" cy="428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1" name=""/>
            <p:cNvSpPr/>
            <p:nvPr/>
          </p:nvSpPr>
          <p:spPr>
            <a:xfrm>
              <a:off x="3360600" y="4684680"/>
              <a:ext cx="11160" cy="44640"/>
            </a:xfrm>
            <a:custGeom>
              <a:avLst/>
              <a:gdLst/>
              <a:ahLst/>
              <a:rect l="l" t="t" r="r" b="b"/>
              <a:pathLst>
                <a:path w="7" h="28">
                  <a:moveTo>
                    <a:pt x="0" y="28"/>
                  </a:moveTo>
                  <a:lnTo>
                    <a:pt x="0" y="21"/>
                  </a:lnTo>
                  <a:lnTo>
                    <a:pt x="7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2" name=""/>
            <p:cNvSpPr/>
            <p:nvPr/>
          </p:nvSpPr>
          <p:spPr>
            <a:xfrm flipV="1">
              <a:off x="3382920" y="4597200"/>
              <a:ext cx="11160" cy="442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3" name=""/>
            <p:cNvSpPr/>
            <p:nvPr/>
          </p:nvSpPr>
          <p:spPr>
            <a:xfrm>
              <a:off x="3414600" y="4510080"/>
              <a:ext cx="1800" cy="44280"/>
            </a:xfrm>
            <a:custGeom>
              <a:avLst/>
              <a:gdLst/>
              <a:ahLst/>
              <a:rect l="l" t="t" r="r" b="b"/>
              <a:pathLst>
                <a:path w="0" h="28">
                  <a:moveTo>
                    <a:pt x="0" y="28"/>
                  </a:moveTo>
                  <a:lnTo>
                    <a:pt x="0" y="21"/>
                  </a:lnTo>
                  <a:lnTo>
                    <a:pt x="0" y="7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4" name=""/>
            <p:cNvSpPr/>
            <p:nvPr/>
          </p:nvSpPr>
          <p:spPr>
            <a:xfrm>
              <a:off x="3436920" y="4444920"/>
              <a:ext cx="11160" cy="33480"/>
            </a:xfrm>
            <a:custGeom>
              <a:avLst/>
              <a:gdLst/>
              <a:ahLst/>
              <a:rect l="l" t="t" r="r" b="b"/>
              <a:pathLst>
                <a:path w="7" h="21">
                  <a:moveTo>
                    <a:pt x="0" y="21"/>
                  </a:moveTo>
                  <a:lnTo>
                    <a:pt x="0" y="21"/>
                  </a:lnTo>
                  <a:lnTo>
                    <a:pt x="0" y="7"/>
                  </a:lnTo>
                  <a:lnTo>
                    <a:pt x="0" y="7"/>
                  </a:lnTo>
                  <a:lnTo>
                    <a:pt x="7" y="0"/>
                  </a:lnTo>
                  <a:lnTo>
                    <a:pt x="7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5" name=""/>
            <p:cNvSpPr/>
            <p:nvPr/>
          </p:nvSpPr>
          <p:spPr>
            <a:xfrm>
              <a:off x="3492360" y="4444920"/>
              <a:ext cx="42840" cy="11160"/>
            </a:xfrm>
            <a:custGeom>
              <a:avLst/>
              <a:gdLst/>
              <a:ahLst/>
              <a:rect l="l" t="t" r="r" b="b"/>
              <a:pathLst>
                <a:path w="27" h="7">
                  <a:moveTo>
                    <a:pt x="0" y="7"/>
                  </a:moveTo>
                  <a:lnTo>
                    <a:pt x="7" y="7"/>
                  </a:lnTo>
                  <a:lnTo>
                    <a:pt x="20" y="0"/>
                  </a:lnTo>
                  <a:lnTo>
                    <a:pt x="27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6" name=""/>
            <p:cNvSpPr/>
            <p:nvPr/>
          </p:nvSpPr>
          <p:spPr>
            <a:xfrm>
              <a:off x="3579840" y="4456080"/>
              <a:ext cx="42840" cy="11160"/>
            </a:xfrm>
            <a:custGeom>
              <a:avLst/>
              <a:gdLst/>
              <a:ahLst/>
              <a:rect l="l" t="t" r="r" b="b"/>
              <a:pathLst>
                <a:path w="27" h="7">
                  <a:moveTo>
                    <a:pt x="0" y="0"/>
                  </a:moveTo>
                  <a:lnTo>
                    <a:pt x="0" y="0"/>
                  </a:lnTo>
                  <a:lnTo>
                    <a:pt x="14" y="7"/>
                  </a:lnTo>
                  <a:lnTo>
                    <a:pt x="27" y="7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7" name=""/>
            <p:cNvSpPr/>
            <p:nvPr/>
          </p:nvSpPr>
          <p:spPr>
            <a:xfrm>
              <a:off x="3666960" y="4478400"/>
              <a:ext cx="44640" cy="9360"/>
            </a:xfrm>
            <a:custGeom>
              <a:avLst/>
              <a:gdLst/>
              <a:ahLst/>
              <a:rect l="l" t="t" r="r" b="b"/>
              <a:pathLst>
                <a:path w="28" h="6">
                  <a:moveTo>
                    <a:pt x="0" y="0"/>
                  </a:moveTo>
                  <a:lnTo>
                    <a:pt x="0" y="0"/>
                  </a:lnTo>
                  <a:lnTo>
                    <a:pt x="14" y="6"/>
                  </a:lnTo>
                  <a:lnTo>
                    <a:pt x="28" y="6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8" name=""/>
            <p:cNvSpPr/>
            <p:nvPr/>
          </p:nvSpPr>
          <p:spPr>
            <a:xfrm>
              <a:off x="3743280" y="4498920"/>
              <a:ext cx="33480" cy="22320"/>
            </a:xfrm>
            <a:custGeom>
              <a:avLst/>
              <a:gdLst/>
              <a:ahLst/>
              <a:rect l="l" t="t" r="r" b="b"/>
              <a:pathLst>
                <a:path w="21" h="14">
                  <a:moveTo>
                    <a:pt x="0" y="7"/>
                  </a:moveTo>
                  <a:lnTo>
                    <a:pt x="0" y="7"/>
                  </a:lnTo>
                  <a:lnTo>
                    <a:pt x="7" y="14"/>
                  </a:lnTo>
                  <a:lnTo>
                    <a:pt x="14" y="7"/>
                  </a:lnTo>
                  <a:lnTo>
                    <a:pt x="21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9" name=""/>
            <p:cNvSpPr/>
            <p:nvPr/>
          </p:nvSpPr>
          <p:spPr>
            <a:xfrm flipV="1">
              <a:off x="3798720" y="4422240"/>
              <a:ext cx="22320" cy="334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0" name=""/>
            <p:cNvSpPr/>
            <p:nvPr/>
          </p:nvSpPr>
          <p:spPr>
            <a:xfrm flipV="1">
              <a:off x="3841920" y="4346640"/>
              <a:ext cx="21960" cy="331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1" name=""/>
            <p:cNvSpPr/>
            <p:nvPr/>
          </p:nvSpPr>
          <p:spPr>
            <a:xfrm flipV="1">
              <a:off x="3886200" y="4270320"/>
              <a:ext cx="22320" cy="316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2" name=""/>
            <p:cNvSpPr/>
            <p:nvPr/>
          </p:nvSpPr>
          <p:spPr>
            <a:xfrm>
              <a:off x="3940200" y="4192560"/>
              <a:ext cx="22320" cy="33480"/>
            </a:xfrm>
            <a:custGeom>
              <a:avLst/>
              <a:gdLst/>
              <a:ahLst/>
              <a:rect l="l" t="t" r="r" b="b"/>
              <a:pathLst>
                <a:path w="14" h="21">
                  <a:moveTo>
                    <a:pt x="0" y="21"/>
                  </a:moveTo>
                  <a:lnTo>
                    <a:pt x="0" y="21"/>
                  </a:lnTo>
                  <a:lnTo>
                    <a:pt x="7" y="7"/>
                  </a:lnTo>
                  <a:lnTo>
                    <a:pt x="14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3" name=""/>
            <p:cNvSpPr/>
            <p:nvPr/>
          </p:nvSpPr>
          <p:spPr>
            <a:xfrm>
              <a:off x="3995640" y="4127400"/>
              <a:ext cx="33480" cy="44640"/>
            </a:xfrm>
            <a:custGeom>
              <a:avLst/>
              <a:gdLst/>
              <a:ahLst/>
              <a:rect l="l" t="t" r="r" b="b"/>
              <a:pathLst>
                <a:path w="21" h="28">
                  <a:moveTo>
                    <a:pt x="0" y="28"/>
                  </a:moveTo>
                  <a:lnTo>
                    <a:pt x="7" y="21"/>
                  </a:lnTo>
                  <a:lnTo>
                    <a:pt x="14" y="7"/>
                  </a:lnTo>
                  <a:lnTo>
                    <a:pt x="21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4" name=""/>
            <p:cNvSpPr/>
            <p:nvPr/>
          </p:nvSpPr>
          <p:spPr>
            <a:xfrm>
              <a:off x="4060800" y="4105440"/>
              <a:ext cx="33480" cy="10800"/>
            </a:xfrm>
            <a:custGeom>
              <a:avLst/>
              <a:gdLst/>
              <a:ahLst/>
              <a:rect l="l" t="t" r="r" b="b"/>
              <a:pathLst>
                <a:path w="21" h="7">
                  <a:moveTo>
                    <a:pt x="0" y="0"/>
                  </a:moveTo>
                  <a:lnTo>
                    <a:pt x="7" y="0"/>
                  </a:lnTo>
                  <a:lnTo>
                    <a:pt x="14" y="0"/>
                  </a:lnTo>
                  <a:lnTo>
                    <a:pt x="21" y="7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5" name=""/>
            <p:cNvSpPr/>
            <p:nvPr/>
          </p:nvSpPr>
          <p:spPr>
            <a:xfrm>
              <a:off x="4137120" y="4127400"/>
              <a:ext cx="33120" cy="11160"/>
            </a:xfrm>
            <a:custGeom>
              <a:avLst/>
              <a:gdLst/>
              <a:ahLst/>
              <a:rect l="l" t="t" r="r" b="b"/>
              <a:pathLst>
                <a:path w="21" h="7">
                  <a:moveTo>
                    <a:pt x="0" y="0"/>
                  </a:moveTo>
                  <a:lnTo>
                    <a:pt x="0" y="0"/>
                  </a:lnTo>
                  <a:lnTo>
                    <a:pt x="21" y="7"/>
                  </a:lnTo>
                  <a:lnTo>
                    <a:pt x="21" y="7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6" name=""/>
            <p:cNvSpPr/>
            <p:nvPr/>
          </p:nvSpPr>
          <p:spPr>
            <a:xfrm>
              <a:off x="4214880" y="4138560"/>
              <a:ext cx="42840" cy="11160"/>
            </a:xfrm>
            <a:custGeom>
              <a:avLst/>
              <a:gdLst/>
              <a:ahLst/>
              <a:rect l="l" t="t" r="r" b="b"/>
              <a:pathLst>
                <a:path w="27" h="7">
                  <a:moveTo>
                    <a:pt x="0" y="7"/>
                  </a:moveTo>
                  <a:lnTo>
                    <a:pt x="14" y="7"/>
                  </a:lnTo>
                  <a:lnTo>
                    <a:pt x="20" y="0"/>
                  </a:lnTo>
                  <a:lnTo>
                    <a:pt x="27" y="7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7" name=""/>
            <p:cNvSpPr/>
            <p:nvPr/>
          </p:nvSpPr>
          <p:spPr>
            <a:xfrm>
              <a:off x="4302000" y="4160880"/>
              <a:ext cx="42840" cy="11160"/>
            </a:xfrm>
            <a:custGeom>
              <a:avLst/>
              <a:gdLst/>
              <a:ahLst/>
              <a:rect l="l" t="t" r="r" b="b"/>
              <a:pathLst>
                <a:path w="27" h="7">
                  <a:moveTo>
                    <a:pt x="0" y="0"/>
                  </a:moveTo>
                  <a:lnTo>
                    <a:pt x="7" y="7"/>
                  </a:lnTo>
                  <a:lnTo>
                    <a:pt x="21" y="0"/>
                  </a:lnTo>
                  <a:lnTo>
                    <a:pt x="27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8" name=""/>
            <p:cNvSpPr/>
            <p:nvPr/>
          </p:nvSpPr>
          <p:spPr>
            <a:xfrm>
              <a:off x="4378320" y="4116240"/>
              <a:ext cx="44280" cy="22320"/>
            </a:xfrm>
            <a:custGeom>
              <a:avLst/>
              <a:gdLst/>
              <a:ahLst/>
              <a:rect l="l" t="t" r="r" b="b"/>
              <a:pathLst>
                <a:path w="28" h="14">
                  <a:moveTo>
                    <a:pt x="0" y="14"/>
                  </a:moveTo>
                  <a:lnTo>
                    <a:pt x="7" y="7"/>
                  </a:lnTo>
                  <a:lnTo>
                    <a:pt x="28" y="0"/>
                  </a:lnTo>
                  <a:lnTo>
                    <a:pt x="28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9" name=""/>
            <p:cNvSpPr/>
            <p:nvPr/>
          </p:nvSpPr>
          <p:spPr>
            <a:xfrm>
              <a:off x="4465800" y="4116240"/>
              <a:ext cx="44280" cy="11160"/>
            </a:xfrm>
            <a:custGeom>
              <a:avLst/>
              <a:gdLst/>
              <a:ahLst/>
              <a:rect l="l" t="t" r="r" b="b"/>
              <a:pathLst>
                <a:path w="28" h="7">
                  <a:moveTo>
                    <a:pt x="0" y="0"/>
                  </a:moveTo>
                  <a:lnTo>
                    <a:pt x="0" y="0"/>
                  </a:lnTo>
                  <a:lnTo>
                    <a:pt x="28" y="7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0" name=""/>
            <p:cNvSpPr/>
            <p:nvPr/>
          </p:nvSpPr>
          <p:spPr>
            <a:xfrm>
              <a:off x="4552920" y="4138560"/>
              <a:ext cx="44640" cy="1800"/>
            </a:xfrm>
            <a:custGeom>
              <a:avLst/>
              <a:gdLst/>
              <a:ahLst/>
              <a:rect l="l" t="t" r="r" b="b"/>
              <a:pathLst>
                <a:path w="28" h="0">
                  <a:moveTo>
                    <a:pt x="0" y="0"/>
                  </a:moveTo>
                  <a:lnTo>
                    <a:pt x="21" y="0"/>
                  </a:lnTo>
                  <a:lnTo>
                    <a:pt x="28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1" name=""/>
            <p:cNvSpPr/>
            <p:nvPr/>
          </p:nvSpPr>
          <p:spPr>
            <a:xfrm>
              <a:off x="4641840" y="4149720"/>
              <a:ext cx="42840" cy="11160"/>
            </a:xfrm>
            <a:custGeom>
              <a:avLst/>
              <a:gdLst/>
              <a:ahLst/>
              <a:rect l="l" t="t" r="r" b="b"/>
              <a:pathLst>
                <a:path w="27" h="7">
                  <a:moveTo>
                    <a:pt x="0" y="0"/>
                  </a:moveTo>
                  <a:lnTo>
                    <a:pt x="7" y="0"/>
                  </a:lnTo>
                  <a:lnTo>
                    <a:pt x="27" y="7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2" name=""/>
            <p:cNvSpPr/>
            <p:nvPr/>
          </p:nvSpPr>
          <p:spPr>
            <a:xfrm>
              <a:off x="4729320" y="4172040"/>
              <a:ext cx="42840" cy="20520"/>
            </a:xfrm>
            <a:custGeom>
              <a:avLst/>
              <a:gdLst/>
              <a:ahLst/>
              <a:rect l="l" t="t" r="r" b="b"/>
              <a:pathLst>
                <a:path w="27" h="13">
                  <a:moveTo>
                    <a:pt x="0" y="0"/>
                  </a:moveTo>
                  <a:lnTo>
                    <a:pt x="14" y="7"/>
                  </a:lnTo>
                  <a:lnTo>
                    <a:pt x="27" y="13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3" name=""/>
            <p:cNvSpPr/>
            <p:nvPr/>
          </p:nvSpPr>
          <p:spPr>
            <a:xfrm>
              <a:off x="4816440" y="4203720"/>
              <a:ext cx="44640" cy="1440"/>
            </a:xfrm>
            <a:custGeom>
              <a:avLst/>
              <a:gdLst/>
              <a:ahLst/>
              <a:rect l="l" t="t" r="r" b="b"/>
              <a:pathLst>
                <a:path w="28" h="0">
                  <a:moveTo>
                    <a:pt x="0" y="0"/>
                  </a:moveTo>
                  <a:lnTo>
                    <a:pt x="14" y="0"/>
                  </a:lnTo>
                  <a:lnTo>
                    <a:pt x="28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4" name=""/>
            <p:cNvSpPr/>
            <p:nvPr/>
          </p:nvSpPr>
          <p:spPr>
            <a:xfrm>
              <a:off x="4903920" y="4203720"/>
              <a:ext cx="44280" cy="1440"/>
            </a:xfrm>
            <a:custGeom>
              <a:avLst/>
              <a:gdLst/>
              <a:ahLst/>
              <a:rect l="l" t="t" r="r" b="b"/>
              <a:pathLst>
                <a:path w="28" h="0">
                  <a:moveTo>
                    <a:pt x="0" y="0"/>
                  </a:moveTo>
                  <a:lnTo>
                    <a:pt x="0" y="0"/>
                  </a:lnTo>
                  <a:lnTo>
                    <a:pt x="14" y="0"/>
                  </a:lnTo>
                  <a:lnTo>
                    <a:pt x="28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5" name=""/>
            <p:cNvSpPr/>
            <p:nvPr/>
          </p:nvSpPr>
          <p:spPr>
            <a:xfrm flipV="1">
              <a:off x="4979880" y="4160520"/>
              <a:ext cx="11160" cy="428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6" name=""/>
            <p:cNvSpPr/>
            <p:nvPr/>
          </p:nvSpPr>
          <p:spPr>
            <a:xfrm>
              <a:off x="5002200" y="4105440"/>
              <a:ext cx="44640" cy="10800"/>
            </a:xfrm>
            <a:custGeom>
              <a:avLst/>
              <a:gdLst/>
              <a:ahLst/>
              <a:rect l="l" t="t" r="r" b="b"/>
              <a:pathLst>
                <a:path w="28" h="7">
                  <a:moveTo>
                    <a:pt x="0" y="7"/>
                  </a:moveTo>
                  <a:lnTo>
                    <a:pt x="7" y="0"/>
                  </a:lnTo>
                  <a:lnTo>
                    <a:pt x="28" y="7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7" name=""/>
            <p:cNvSpPr/>
            <p:nvPr/>
          </p:nvSpPr>
          <p:spPr>
            <a:xfrm>
              <a:off x="5078520" y="4084560"/>
              <a:ext cx="21960" cy="42840"/>
            </a:xfrm>
            <a:custGeom>
              <a:avLst/>
              <a:gdLst/>
              <a:ahLst/>
              <a:rect l="l" t="t" r="r" b="b"/>
              <a:pathLst>
                <a:path w="14" h="27">
                  <a:moveTo>
                    <a:pt x="0" y="27"/>
                  </a:moveTo>
                  <a:lnTo>
                    <a:pt x="7" y="27"/>
                  </a:lnTo>
                  <a:lnTo>
                    <a:pt x="14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8" name=""/>
            <p:cNvSpPr/>
            <p:nvPr/>
          </p:nvSpPr>
          <p:spPr>
            <a:xfrm flipV="1">
              <a:off x="5111640" y="4006440"/>
              <a:ext cx="11160" cy="334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9" name=""/>
            <p:cNvSpPr/>
            <p:nvPr/>
          </p:nvSpPr>
          <p:spPr>
            <a:xfrm>
              <a:off x="5133960" y="3919680"/>
              <a:ext cx="22320" cy="44280"/>
            </a:xfrm>
            <a:custGeom>
              <a:avLst/>
              <a:gdLst/>
              <a:ahLst/>
              <a:rect l="l" t="t" r="r" b="b"/>
              <a:pathLst>
                <a:path w="14" h="28">
                  <a:moveTo>
                    <a:pt x="0" y="28"/>
                  </a:moveTo>
                  <a:lnTo>
                    <a:pt x="7" y="0"/>
                  </a:lnTo>
                  <a:lnTo>
                    <a:pt x="14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0" name=""/>
            <p:cNvSpPr/>
            <p:nvPr/>
          </p:nvSpPr>
          <p:spPr>
            <a:xfrm flipV="1">
              <a:off x="5167440" y="3832200"/>
              <a:ext cx="11160" cy="446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1" name=""/>
            <p:cNvSpPr/>
            <p:nvPr/>
          </p:nvSpPr>
          <p:spPr>
            <a:xfrm flipV="1">
              <a:off x="5187960" y="3744720"/>
              <a:ext cx="11160" cy="442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2" name=""/>
            <p:cNvSpPr/>
            <p:nvPr/>
          </p:nvSpPr>
          <p:spPr>
            <a:xfrm flipH="1">
              <a:off x="5046840" y="3691080"/>
              <a:ext cx="10800" cy="428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3" name=""/>
            <p:cNvSpPr/>
            <p:nvPr/>
          </p:nvSpPr>
          <p:spPr>
            <a:xfrm>
              <a:off x="5024520" y="3778200"/>
              <a:ext cx="11160" cy="31680"/>
            </a:xfrm>
            <a:custGeom>
              <a:avLst/>
              <a:gdLst/>
              <a:ahLst/>
              <a:rect l="l" t="t" r="r" b="b"/>
              <a:pathLst>
                <a:path w="7" h="20">
                  <a:moveTo>
                    <a:pt x="7" y="0"/>
                  </a:moveTo>
                  <a:lnTo>
                    <a:pt x="7" y="20"/>
                  </a:lnTo>
                  <a:lnTo>
                    <a:pt x="0" y="2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4" name=""/>
            <p:cNvSpPr/>
            <p:nvPr/>
          </p:nvSpPr>
          <p:spPr>
            <a:xfrm flipH="1">
              <a:off x="4936680" y="3798720"/>
              <a:ext cx="42840" cy="18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5" name=""/>
            <p:cNvSpPr/>
            <p:nvPr/>
          </p:nvSpPr>
          <p:spPr>
            <a:xfrm flipH="1">
              <a:off x="4849560" y="3789360"/>
              <a:ext cx="4284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6" name=""/>
            <p:cNvSpPr/>
            <p:nvPr/>
          </p:nvSpPr>
          <p:spPr>
            <a:xfrm flipH="1" flipV="1">
              <a:off x="4762080" y="3766680"/>
              <a:ext cx="42840" cy="111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7" name=""/>
            <p:cNvSpPr/>
            <p:nvPr/>
          </p:nvSpPr>
          <p:spPr>
            <a:xfrm flipH="1" flipV="1">
              <a:off x="4673520" y="3755520"/>
              <a:ext cx="44640" cy="111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8" name=""/>
            <p:cNvSpPr/>
            <p:nvPr/>
          </p:nvSpPr>
          <p:spPr>
            <a:xfrm flipH="1" flipV="1">
              <a:off x="4575240" y="3745080"/>
              <a:ext cx="55440" cy="108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9" name=""/>
            <p:cNvSpPr/>
            <p:nvPr/>
          </p:nvSpPr>
          <p:spPr>
            <a:xfrm flipH="1">
              <a:off x="4487760" y="3733920"/>
              <a:ext cx="4464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0" name=""/>
            <p:cNvSpPr/>
            <p:nvPr/>
          </p:nvSpPr>
          <p:spPr>
            <a:xfrm flipH="1">
              <a:off x="4400280" y="3722760"/>
              <a:ext cx="4428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1" name=""/>
            <p:cNvSpPr/>
            <p:nvPr/>
          </p:nvSpPr>
          <p:spPr>
            <a:xfrm flipH="1" flipV="1">
              <a:off x="4312800" y="3700080"/>
              <a:ext cx="42840" cy="111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2" name=""/>
            <p:cNvSpPr/>
            <p:nvPr/>
          </p:nvSpPr>
          <p:spPr>
            <a:xfrm flipH="1" flipV="1">
              <a:off x="4225680" y="3691080"/>
              <a:ext cx="42840" cy="93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3" name=""/>
            <p:cNvSpPr/>
            <p:nvPr/>
          </p:nvSpPr>
          <p:spPr>
            <a:xfrm flipH="1" flipV="1">
              <a:off x="4136760" y="3679560"/>
              <a:ext cx="44280" cy="111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4" name=""/>
            <p:cNvSpPr/>
            <p:nvPr/>
          </p:nvSpPr>
          <p:spPr>
            <a:xfrm flipH="1">
              <a:off x="4049640" y="3668760"/>
              <a:ext cx="4464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5" name=""/>
            <p:cNvSpPr/>
            <p:nvPr/>
          </p:nvSpPr>
          <p:spPr>
            <a:xfrm flipH="1">
              <a:off x="3962160" y="3657600"/>
              <a:ext cx="4428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6" name=""/>
            <p:cNvSpPr/>
            <p:nvPr/>
          </p:nvSpPr>
          <p:spPr>
            <a:xfrm flipH="1" flipV="1">
              <a:off x="3875040" y="3634920"/>
              <a:ext cx="44640" cy="111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7" name=""/>
            <p:cNvSpPr/>
            <p:nvPr/>
          </p:nvSpPr>
          <p:spPr>
            <a:xfrm flipH="1" flipV="1">
              <a:off x="3787560" y="3623760"/>
              <a:ext cx="42840" cy="111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8" name=""/>
            <p:cNvSpPr/>
            <p:nvPr/>
          </p:nvSpPr>
          <p:spPr>
            <a:xfrm flipH="1" flipV="1">
              <a:off x="3700080" y="3613320"/>
              <a:ext cx="42840" cy="108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9" name=""/>
            <p:cNvSpPr/>
            <p:nvPr/>
          </p:nvSpPr>
          <p:spPr>
            <a:xfrm flipH="1" flipV="1">
              <a:off x="3612960" y="3601800"/>
              <a:ext cx="42840" cy="111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0" name=""/>
            <p:cNvSpPr/>
            <p:nvPr/>
          </p:nvSpPr>
          <p:spPr>
            <a:xfrm flipH="1">
              <a:off x="3524040" y="3592440"/>
              <a:ext cx="44280" cy="18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1" name=""/>
            <p:cNvSpPr/>
            <p:nvPr/>
          </p:nvSpPr>
          <p:spPr>
            <a:xfrm flipH="1">
              <a:off x="3436920" y="3581280"/>
              <a:ext cx="44640" cy="18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2" name=""/>
            <p:cNvSpPr/>
            <p:nvPr/>
          </p:nvSpPr>
          <p:spPr>
            <a:xfrm flipH="1" flipV="1">
              <a:off x="3349440" y="3559320"/>
              <a:ext cx="44280" cy="108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3" name=""/>
            <p:cNvSpPr/>
            <p:nvPr/>
          </p:nvSpPr>
          <p:spPr>
            <a:xfrm flipH="1" flipV="1">
              <a:off x="3251160" y="3547800"/>
              <a:ext cx="54000" cy="111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4" name=""/>
            <p:cNvSpPr/>
            <p:nvPr/>
          </p:nvSpPr>
          <p:spPr>
            <a:xfrm flipH="1" flipV="1">
              <a:off x="3174480" y="3536640"/>
              <a:ext cx="32040" cy="111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5" name=""/>
            <p:cNvSpPr/>
            <p:nvPr/>
          </p:nvSpPr>
          <p:spPr>
            <a:xfrm>
              <a:off x="5440320" y="3121200"/>
              <a:ext cx="4464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6" name=""/>
            <p:cNvSpPr/>
            <p:nvPr/>
          </p:nvSpPr>
          <p:spPr>
            <a:xfrm flipH="1" flipV="1">
              <a:off x="5451120" y="3339720"/>
              <a:ext cx="42840" cy="111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7" name=""/>
            <p:cNvSpPr/>
            <p:nvPr/>
          </p:nvSpPr>
          <p:spPr>
            <a:xfrm flipV="1">
              <a:off x="5451480" y="3252600"/>
              <a:ext cx="1440" cy="442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8" name=""/>
            <p:cNvSpPr/>
            <p:nvPr/>
          </p:nvSpPr>
          <p:spPr>
            <a:xfrm flipV="1">
              <a:off x="5440320" y="3165120"/>
              <a:ext cx="1800" cy="428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9" name=""/>
            <p:cNvSpPr/>
            <p:nvPr/>
          </p:nvSpPr>
          <p:spPr>
            <a:xfrm>
              <a:off x="5429160" y="3078000"/>
              <a:ext cx="11160" cy="43200"/>
            </a:xfrm>
            <a:custGeom>
              <a:avLst/>
              <a:gdLst/>
              <a:ahLst/>
              <a:rect l="l" t="t" r="r" b="b"/>
              <a:pathLst>
                <a:path w="7" h="27">
                  <a:moveTo>
                    <a:pt x="7" y="27"/>
                  </a:moveTo>
                  <a:lnTo>
                    <a:pt x="0" y="7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0" name=""/>
            <p:cNvSpPr/>
            <p:nvPr/>
          </p:nvSpPr>
          <p:spPr>
            <a:xfrm>
              <a:off x="5473800" y="3438360"/>
              <a:ext cx="20520" cy="44640"/>
            </a:xfrm>
            <a:custGeom>
              <a:avLst/>
              <a:gdLst/>
              <a:ahLst/>
              <a:rect l="l" t="t" r="r" b="b"/>
              <a:pathLst>
                <a:path w="13" h="28">
                  <a:moveTo>
                    <a:pt x="0" y="28"/>
                  </a:moveTo>
                  <a:lnTo>
                    <a:pt x="0" y="14"/>
                  </a:lnTo>
                  <a:lnTo>
                    <a:pt x="13" y="7"/>
                  </a:lnTo>
                  <a:lnTo>
                    <a:pt x="13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1" name=""/>
            <p:cNvSpPr/>
            <p:nvPr/>
          </p:nvSpPr>
          <p:spPr>
            <a:xfrm flipV="1">
              <a:off x="5494320" y="3350880"/>
              <a:ext cx="1440" cy="442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2" name=""/>
            <p:cNvSpPr/>
            <p:nvPr/>
          </p:nvSpPr>
          <p:spPr>
            <a:xfrm>
              <a:off x="5494320" y="3263760"/>
              <a:ext cx="11160" cy="42840"/>
            </a:xfrm>
            <a:custGeom>
              <a:avLst/>
              <a:gdLst/>
              <a:ahLst/>
              <a:rect l="l" t="t" r="r" b="b"/>
              <a:pathLst>
                <a:path w="7" h="27">
                  <a:moveTo>
                    <a:pt x="0" y="27"/>
                  </a:moveTo>
                  <a:lnTo>
                    <a:pt x="7" y="27"/>
                  </a:lnTo>
                  <a:lnTo>
                    <a:pt x="7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3" name=""/>
            <p:cNvSpPr/>
            <p:nvPr/>
          </p:nvSpPr>
          <p:spPr>
            <a:xfrm flipV="1">
              <a:off x="5505480" y="3176280"/>
              <a:ext cx="1440" cy="428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4" name=""/>
            <p:cNvSpPr/>
            <p:nvPr/>
          </p:nvSpPr>
          <p:spPr>
            <a:xfrm>
              <a:off x="5516640" y="3089160"/>
              <a:ext cx="1440" cy="42840"/>
            </a:xfrm>
            <a:custGeom>
              <a:avLst/>
              <a:gdLst/>
              <a:ahLst/>
              <a:rect l="l" t="t" r="r" b="b"/>
              <a:pathLst>
                <a:path w="0" h="27">
                  <a:moveTo>
                    <a:pt x="0" y="27"/>
                  </a:moveTo>
                  <a:lnTo>
                    <a:pt x="0" y="2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5" name=""/>
            <p:cNvSpPr/>
            <p:nvPr/>
          </p:nvSpPr>
          <p:spPr>
            <a:xfrm>
              <a:off x="5527800" y="3056040"/>
              <a:ext cx="44280" cy="11160"/>
            </a:xfrm>
            <a:custGeom>
              <a:avLst/>
              <a:gdLst/>
              <a:ahLst/>
              <a:rect l="l" t="t" r="r" b="b"/>
              <a:pathLst>
                <a:path w="28" h="7">
                  <a:moveTo>
                    <a:pt x="0" y="0"/>
                  </a:moveTo>
                  <a:lnTo>
                    <a:pt x="28" y="7"/>
                  </a:lnTo>
                  <a:lnTo>
                    <a:pt x="28" y="7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6" name=""/>
            <p:cNvSpPr/>
            <p:nvPr/>
          </p:nvSpPr>
          <p:spPr>
            <a:xfrm>
              <a:off x="5603760" y="3011400"/>
              <a:ext cx="22320" cy="33480"/>
            </a:xfrm>
            <a:custGeom>
              <a:avLst/>
              <a:gdLst/>
              <a:ahLst/>
              <a:rect l="l" t="t" r="r" b="b"/>
              <a:pathLst>
                <a:path w="14" h="21">
                  <a:moveTo>
                    <a:pt x="0" y="21"/>
                  </a:moveTo>
                  <a:lnTo>
                    <a:pt x="7" y="7"/>
                  </a:lnTo>
                  <a:lnTo>
                    <a:pt x="14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7" name=""/>
            <p:cNvSpPr/>
            <p:nvPr/>
          </p:nvSpPr>
          <p:spPr>
            <a:xfrm flipV="1">
              <a:off x="5648400" y="2935440"/>
              <a:ext cx="22320" cy="331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8" name=""/>
            <p:cNvSpPr/>
            <p:nvPr/>
          </p:nvSpPr>
          <p:spPr>
            <a:xfrm flipH="1">
              <a:off x="6819480" y="2836800"/>
              <a:ext cx="11160" cy="446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9" name=""/>
            <p:cNvSpPr/>
            <p:nvPr/>
          </p:nvSpPr>
          <p:spPr>
            <a:xfrm>
              <a:off x="6786720" y="2924280"/>
              <a:ext cx="10800" cy="33120"/>
            </a:xfrm>
            <a:custGeom>
              <a:avLst/>
              <a:gdLst/>
              <a:ahLst/>
              <a:rect l="l" t="t" r="r" b="b"/>
              <a:pathLst>
                <a:path w="7" h="21">
                  <a:moveTo>
                    <a:pt x="7" y="0"/>
                  </a:moveTo>
                  <a:lnTo>
                    <a:pt x="0" y="21"/>
                  </a:lnTo>
                  <a:lnTo>
                    <a:pt x="0" y="21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0" name=""/>
            <p:cNvSpPr/>
            <p:nvPr/>
          </p:nvSpPr>
          <p:spPr>
            <a:xfrm>
              <a:off x="6764400" y="3002040"/>
              <a:ext cx="11160" cy="42840"/>
            </a:xfrm>
            <a:custGeom>
              <a:avLst/>
              <a:gdLst/>
              <a:ahLst/>
              <a:rect l="l" t="t" r="r" b="b"/>
              <a:pathLst>
                <a:path w="7" h="27">
                  <a:moveTo>
                    <a:pt x="7" y="0"/>
                  </a:moveTo>
                  <a:lnTo>
                    <a:pt x="0" y="27"/>
                  </a:lnTo>
                  <a:lnTo>
                    <a:pt x="0" y="27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1" name=""/>
            <p:cNvSpPr/>
            <p:nvPr/>
          </p:nvSpPr>
          <p:spPr>
            <a:xfrm>
              <a:off x="6732720" y="3089160"/>
              <a:ext cx="20520" cy="42840"/>
            </a:xfrm>
            <a:custGeom>
              <a:avLst/>
              <a:gdLst/>
              <a:ahLst/>
              <a:rect l="l" t="t" r="r" b="b"/>
              <a:pathLst>
                <a:path w="13" h="27">
                  <a:moveTo>
                    <a:pt x="13" y="0"/>
                  </a:moveTo>
                  <a:lnTo>
                    <a:pt x="13" y="13"/>
                  </a:lnTo>
                  <a:lnTo>
                    <a:pt x="6" y="27"/>
                  </a:lnTo>
                  <a:lnTo>
                    <a:pt x="0" y="27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2" name=""/>
            <p:cNvSpPr/>
            <p:nvPr/>
          </p:nvSpPr>
          <p:spPr>
            <a:xfrm>
              <a:off x="6665760" y="3154320"/>
              <a:ext cx="33480" cy="22320"/>
            </a:xfrm>
            <a:custGeom>
              <a:avLst/>
              <a:gdLst/>
              <a:ahLst/>
              <a:rect l="l" t="t" r="r" b="b"/>
              <a:pathLst>
                <a:path w="21" h="14">
                  <a:moveTo>
                    <a:pt x="21" y="0"/>
                  </a:moveTo>
                  <a:lnTo>
                    <a:pt x="0" y="14"/>
                  </a:lnTo>
                  <a:lnTo>
                    <a:pt x="0" y="14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3" name=""/>
            <p:cNvSpPr/>
            <p:nvPr/>
          </p:nvSpPr>
          <p:spPr>
            <a:xfrm>
              <a:off x="6611760" y="3208320"/>
              <a:ext cx="22320" cy="44640"/>
            </a:xfrm>
            <a:custGeom>
              <a:avLst/>
              <a:gdLst/>
              <a:ahLst/>
              <a:rect l="l" t="t" r="r" b="b"/>
              <a:pathLst>
                <a:path w="14" h="28">
                  <a:moveTo>
                    <a:pt x="14" y="0"/>
                  </a:moveTo>
                  <a:lnTo>
                    <a:pt x="7" y="14"/>
                  </a:lnTo>
                  <a:lnTo>
                    <a:pt x="0" y="28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4" name=""/>
            <p:cNvSpPr/>
            <p:nvPr/>
          </p:nvSpPr>
          <p:spPr>
            <a:xfrm>
              <a:off x="6567480" y="3286080"/>
              <a:ext cx="22320" cy="42840"/>
            </a:xfrm>
            <a:custGeom>
              <a:avLst/>
              <a:gdLst/>
              <a:ahLst/>
              <a:rect l="l" t="t" r="r" b="b"/>
              <a:pathLst>
                <a:path w="14" h="27">
                  <a:moveTo>
                    <a:pt x="14" y="0"/>
                  </a:moveTo>
                  <a:lnTo>
                    <a:pt x="7" y="13"/>
                  </a:lnTo>
                  <a:lnTo>
                    <a:pt x="0" y="27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5" name=""/>
            <p:cNvSpPr/>
            <p:nvPr/>
          </p:nvSpPr>
          <p:spPr>
            <a:xfrm>
              <a:off x="6513480" y="3362400"/>
              <a:ext cx="20520" cy="33120"/>
            </a:xfrm>
            <a:custGeom>
              <a:avLst/>
              <a:gdLst/>
              <a:ahLst/>
              <a:rect l="l" t="t" r="r" b="b"/>
              <a:pathLst>
                <a:path w="13" h="21">
                  <a:moveTo>
                    <a:pt x="13" y="0"/>
                  </a:moveTo>
                  <a:lnTo>
                    <a:pt x="7" y="7"/>
                  </a:lnTo>
                  <a:lnTo>
                    <a:pt x="0" y="21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6" name=""/>
            <p:cNvSpPr/>
            <p:nvPr/>
          </p:nvSpPr>
          <p:spPr>
            <a:xfrm>
              <a:off x="6480000" y="3438360"/>
              <a:ext cx="11160" cy="44640"/>
            </a:xfrm>
            <a:custGeom>
              <a:avLst/>
              <a:gdLst/>
              <a:ahLst/>
              <a:rect l="l" t="t" r="r" b="b"/>
              <a:pathLst>
                <a:path w="7" h="28">
                  <a:moveTo>
                    <a:pt x="7" y="0"/>
                  </a:moveTo>
                  <a:lnTo>
                    <a:pt x="7" y="0"/>
                  </a:lnTo>
                  <a:lnTo>
                    <a:pt x="0" y="21"/>
                  </a:lnTo>
                  <a:lnTo>
                    <a:pt x="0" y="28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7" name=""/>
            <p:cNvSpPr/>
            <p:nvPr/>
          </p:nvSpPr>
          <p:spPr>
            <a:xfrm>
              <a:off x="6458040" y="3514680"/>
              <a:ext cx="11160" cy="44640"/>
            </a:xfrm>
            <a:custGeom>
              <a:avLst/>
              <a:gdLst/>
              <a:ahLst/>
              <a:rect l="l" t="t" r="r" b="b"/>
              <a:pathLst>
                <a:path w="7" h="28">
                  <a:moveTo>
                    <a:pt x="0" y="0"/>
                  </a:moveTo>
                  <a:lnTo>
                    <a:pt x="0" y="14"/>
                  </a:lnTo>
                  <a:lnTo>
                    <a:pt x="7" y="28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8" name=""/>
            <p:cNvSpPr/>
            <p:nvPr/>
          </p:nvSpPr>
          <p:spPr>
            <a:xfrm>
              <a:off x="6458040" y="3602160"/>
              <a:ext cx="11160" cy="44280"/>
            </a:xfrm>
            <a:custGeom>
              <a:avLst/>
              <a:gdLst/>
              <a:ahLst/>
              <a:rect l="l" t="t" r="r" b="b"/>
              <a:pathLst>
                <a:path w="7" h="28">
                  <a:moveTo>
                    <a:pt x="7" y="0"/>
                  </a:moveTo>
                  <a:lnTo>
                    <a:pt x="7" y="21"/>
                  </a:lnTo>
                  <a:lnTo>
                    <a:pt x="0" y="28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9" name=""/>
            <p:cNvSpPr/>
            <p:nvPr/>
          </p:nvSpPr>
          <p:spPr>
            <a:xfrm>
              <a:off x="6426360" y="3691080"/>
              <a:ext cx="20520" cy="3168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3" y="0"/>
                  </a:moveTo>
                  <a:lnTo>
                    <a:pt x="13" y="13"/>
                  </a:lnTo>
                  <a:lnTo>
                    <a:pt x="0" y="20"/>
                  </a:lnTo>
                  <a:lnTo>
                    <a:pt x="0" y="2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0" name=""/>
            <p:cNvSpPr/>
            <p:nvPr/>
          </p:nvSpPr>
          <p:spPr>
            <a:xfrm>
              <a:off x="6370560" y="3711600"/>
              <a:ext cx="11160" cy="44280"/>
            </a:xfrm>
            <a:custGeom>
              <a:avLst/>
              <a:gdLst/>
              <a:ahLst/>
              <a:rect l="l" t="t" r="r" b="b"/>
              <a:pathLst>
                <a:path w="7" h="28">
                  <a:moveTo>
                    <a:pt x="7" y="0"/>
                  </a:moveTo>
                  <a:lnTo>
                    <a:pt x="7" y="0"/>
                  </a:lnTo>
                  <a:lnTo>
                    <a:pt x="0" y="14"/>
                  </a:lnTo>
                  <a:lnTo>
                    <a:pt x="0" y="28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1" name=""/>
            <p:cNvSpPr/>
            <p:nvPr/>
          </p:nvSpPr>
          <p:spPr>
            <a:xfrm>
              <a:off x="6348240" y="3789360"/>
              <a:ext cx="11160" cy="42840"/>
            </a:xfrm>
            <a:custGeom>
              <a:avLst/>
              <a:gdLst/>
              <a:ahLst/>
              <a:rect l="l" t="t" r="r" b="b"/>
              <a:pathLst>
                <a:path w="7" h="27">
                  <a:moveTo>
                    <a:pt x="0" y="0"/>
                  </a:moveTo>
                  <a:lnTo>
                    <a:pt x="7" y="13"/>
                  </a:lnTo>
                  <a:lnTo>
                    <a:pt x="7" y="27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2" name=""/>
            <p:cNvSpPr/>
            <p:nvPr/>
          </p:nvSpPr>
          <p:spPr>
            <a:xfrm>
              <a:off x="6348240" y="3876840"/>
              <a:ext cx="1800" cy="42840"/>
            </a:xfrm>
            <a:custGeom>
              <a:avLst/>
              <a:gdLst/>
              <a:ahLst/>
              <a:rect l="l" t="t" r="r" b="b"/>
              <a:pathLst>
                <a:path w="0" h="27">
                  <a:moveTo>
                    <a:pt x="0" y="0"/>
                  </a:moveTo>
                  <a:lnTo>
                    <a:pt x="0" y="7"/>
                  </a:lnTo>
                  <a:lnTo>
                    <a:pt x="0" y="27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3" name=""/>
            <p:cNvSpPr/>
            <p:nvPr/>
          </p:nvSpPr>
          <p:spPr>
            <a:xfrm>
              <a:off x="6337440" y="3963960"/>
              <a:ext cx="1440" cy="54000"/>
            </a:xfrm>
            <a:custGeom>
              <a:avLst/>
              <a:gdLst/>
              <a:ahLst/>
              <a:rect l="l" t="t" r="r" b="b"/>
              <a:pathLst>
                <a:path w="0" h="34">
                  <a:moveTo>
                    <a:pt x="0" y="0"/>
                  </a:moveTo>
                  <a:lnTo>
                    <a:pt x="0" y="7"/>
                  </a:lnTo>
                  <a:lnTo>
                    <a:pt x="0" y="34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4" name=""/>
            <p:cNvSpPr/>
            <p:nvPr/>
          </p:nvSpPr>
          <p:spPr>
            <a:xfrm>
              <a:off x="6316560" y="4062240"/>
              <a:ext cx="9720" cy="2232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0"/>
                  </a:moveTo>
                  <a:lnTo>
                    <a:pt x="6" y="14"/>
                  </a:lnTo>
                  <a:lnTo>
                    <a:pt x="0" y="7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5" name=""/>
            <p:cNvSpPr/>
            <p:nvPr/>
          </p:nvSpPr>
          <p:spPr>
            <a:xfrm>
              <a:off x="6249960" y="4094280"/>
              <a:ext cx="33480" cy="33120"/>
            </a:xfrm>
            <a:custGeom>
              <a:avLst/>
              <a:gdLst/>
              <a:ahLst/>
              <a:rect l="l" t="t" r="r" b="b"/>
              <a:pathLst>
                <a:path w="21" h="21">
                  <a:moveTo>
                    <a:pt x="21" y="0"/>
                  </a:moveTo>
                  <a:lnTo>
                    <a:pt x="0" y="21"/>
                  </a:lnTo>
                  <a:lnTo>
                    <a:pt x="0" y="21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6" name=""/>
            <p:cNvSpPr/>
            <p:nvPr/>
          </p:nvSpPr>
          <p:spPr>
            <a:xfrm flipH="1">
              <a:off x="6195960" y="4160880"/>
              <a:ext cx="31680" cy="428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7" name=""/>
            <p:cNvSpPr/>
            <p:nvPr/>
          </p:nvSpPr>
          <p:spPr>
            <a:xfrm flipH="1">
              <a:off x="6151320" y="4237200"/>
              <a:ext cx="21960" cy="331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8" name=""/>
            <p:cNvSpPr/>
            <p:nvPr/>
          </p:nvSpPr>
          <p:spPr>
            <a:xfrm flipH="1">
              <a:off x="6097320" y="4313160"/>
              <a:ext cx="20520" cy="334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9" name=""/>
            <p:cNvSpPr/>
            <p:nvPr/>
          </p:nvSpPr>
          <p:spPr>
            <a:xfrm>
              <a:off x="6031080" y="4335480"/>
              <a:ext cx="21960" cy="2232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14" y="0"/>
                  </a:moveTo>
                  <a:lnTo>
                    <a:pt x="7" y="0"/>
                  </a:lnTo>
                  <a:lnTo>
                    <a:pt x="0" y="14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0" name=""/>
            <p:cNvSpPr/>
            <p:nvPr/>
          </p:nvSpPr>
          <p:spPr>
            <a:xfrm>
              <a:off x="5999040" y="4400640"/>
              <a:ext cx="20880" cy="44280"/>
            </a:xfrm>
            <a:custGeom>
              <a:avLst/>
              <a:gdLst/>
              <a:ahLst/>
              <a:rect l="l" t="t" r="r" b="b"/>
              <a:pathLst>
                <a:path w="13" h="28">
                  <a:moveTo>
                    <a:pt x="13" y="0"/>
                  </a:moveTo>
                  <a:lnTo>
                    <a:pt x="7" y="7"/>
                  </a:lnTo>
                  <a:lnTo>
                    <a:pt x="0" y="28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1" name=""/>
            <p:cNvSpPr/>
            <p:nvPr/>
          </p:nvSpPr>
          <p:spPr>
            <a:xfrm flipH="1">
              <a:off x="5977080" y="4487760"/>
              <a:ext cx="10800" cy="446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2" name=""/>
            <p:cNvSpPr/>
            <p:nvPr/>
          </p:nvSpPr>
          <p:spPr>
            <a:xfrm flipH="1">
              <a:off x="5943600" y="4565520"/>
              <a:ext cx="22320" cy="428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3" name=""/>
            <p:cNvSpPr/>
            <p:nvPr/>
          </p:nvSpPr>
          <p:spPr>
            <a:xfrm flipH="1">
              <a:off x="5920920" y="4653000"/>
              <a:ext cx="11160" cy="428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4" name=""/>
            <p:cNvSpPr/>
            <p:nvPr/>
          </p:nvSpPr>
          <p:spPr>
            <a:xfrm flipH="1">
              <a:off x="5889240" y="4740120"/>
              <a:ext cx="11160" cy="428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5" name=""/>
            <p:cNvSpPr/>
            <p:nvPr/>
          </p:nvSpPr>
          <p:spPr>
            <a:xfrm flipH="1">
              <a:off x="5856120" y="4827600"/>
              <a:ext cx="22320" cy="334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6" name=""/>
            <p:cNvSpPr/>
            <p:nvPr/>
          </p:nvSpPr>
          <p:spPr>
            <a:xfrm flipH="1">
              <a:off x="5833800" y="4903920"/>
              <a:ext cx="11160" cy="442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7" name=""/>
            <p:cNvSpPr/>
            <p:nvPr/>
          </p:nvSpPr>
          <p:spPr>
            <a:xfrm flipH="1">
              <a:off x="5802120" y="4991040"/>
              <a:ext cx="20520" cy="446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8" name=""/>
            <p:cNvSpPr/>
            <p:nvPr/>
          </p:nvSpPr>
          <p:spPr>
            <a:xfrm>
              <a:off x="5943600" y="2662200"/>
              <a:ext cx="44280" cy="111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9" name=""/>
            <p:cNvSpPr/>
            <p:nvPr/>
          </p:nvSpPr>
          <p:spPr>
            <a:xfrm>
              <a:off x="6031080" y="2673360"/>
              <a:ext cx="4428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0" name=""/>
            <p:cNvSpPr/>
            <p:nvPr/>
          </p:nvSpPr>
          <p:spPr>
            <a:xfrm>
              <a:off x="6118200" y="2673360"/>
              <a:ext cx="4464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1" name=""/>
            <p:cNvSpPr/>
            <p:nvPr/>
          </p:nvSpPr>
          <p:spPr>
            <a:xfrm>
              <a:off x="6218280" y="2684520"/>
              <a:ext cx="31680" cy="11160"/>
            </a:xfrm>
            <a:custGeom>
              <a:avLst/>
              <a:gdLst/>
              <a:ahLst/>
              <a:rect l="l" t="t" r="r" b="b"/>
              <a:pathLst>
                <a:path w="20" h="7">
                  <a:moveTo>
                    <a:pt x="0" y="0"/>
                  </a:moveTo>
                  <a:lnTo>
                    <a:pt x="0" y="0"/>
                  </a:lnTo>
                  <a:lnTo>
                    <a:pt x="20" y="7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2" name=""/>
            <p:cNvSpPr/>
            <p:nvPr/>
          </p:nvSpPr>
          <p:spPr>
            <a:xfrm>
              <a:off x="6294600" y="2716200"/>
              <a:ext cx="42840" cy="223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3" name=""/>
            <p:cNvSpPr/>
            <p:nvPr/>
          </p:nvSpPr>
          <p:spPr>
            <a:xfrm>
              <a:off x="6370560" y="2749680"/>
              <a:ext cx="44640" cy="219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4" name=""/>
            <p:cNvSpPr/>
            <p:nvPr/>
          </p:nvSpPr>
          <p:spPr>
            <a:xfrm>
              <a:off x="6458040" y="2793960"/>
              <a:ext cx="44280" cy="111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5" name=""/>
            <p:cNvSpPr/>
            <p:nvPr/>
          </p:nvSpPr>
          <p:spPr>
            <a:xfrm>
              <a:off x="6534000" y="2825640"/>
              <a:ext cx="44640" cy="223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6" name=""/>
            <p:cNvSpPr/>
            <p:nvPr/>
          </p:nvSpPr>
          <p:spPr>
            <a:xfrm>
              <a:off x="6622920" y="2859120"/>
              <a:ext cx="32040" cy="223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7" name=""/>
            <p:cNvSpPr/>
            <p:nvPr/>
          </p:nvSpPr>
          <p:spPr>
            <a:xfrm>
              <a:off x="6699240" y="2836800"/>
              <a:ext cx="33480" cy="33480"/>
            </a:xfrm>
            <a:custGeom>
              <a:avLst/>
              <a:gdLst/>
              <a:ahLst/>
              <a:rect l="l" t="t" r="r" b="b"/>
              <a:pathLst>
                <a:path w="21" h="21">
                  <a:moveTo>
                    <a:pt x="0" y="21"/>
                  </a:moveTo>
                  <a:lnTo>
                    <a:pt x="14" y="0"/>
                  </a:lnTo>
                  <a:lnTo>
                    <a:pt x="21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8" name=""/>
            <p:cNvSpPr/>
            <p:nvPr/>
          </p:nvSpPr>
          <p:spPr>
            <a:xfrm>
              <a:off x="6775560" y="2836800"/>
              <a:ext cx="44280" cy="18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9" name=""/>
            <p:cNvSpPr/>
            <p:nvPr/>
          </p:nvSpPr>
          <p:spPr>
            <a:xfrm>
              <a:off x="6207120" y="2684520"/>
              <a:ext cx="1440" cy="428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0" name=""/>
            <p:cNvSpPr/>
            <p:nvPr/>
          </p:nvSpPr>
          <p:spPr>
            <a:xfrm>
              <a:off x="6195960" y="2771640"/>
              <a:ext cx="1800" cy="42840"/>
            </a:xfrm>
            <a:custGeom>
              <a:avLst/>
              <a:gdLst/>
              <a:ahLst/>
              <a:rect l="l" t="t" r="r" b="b"/>
              <a:pathLst>
                <a:path w="0" h="27">
                  <a:moveTo>
                    <a:pt x="0" y="0"/>
                  </a:moveTo>
                  <a:lnTo>
                    <a:pt x="0" y="27"/>
                  </a:lnTo>
                  <a:lnTo>
                    <a:pt x="0" y="27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1" name=""/>
            <p:cNvSpPr/>
            <p:nvPr/>
          </p:nvSpPr>
          <p:spPr>
            <a:xfrm flipH="1">
              <a:off x="6173280" y="2859120"/>
              <a:ext cx="11160" cy="442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2" name=""/>
            <p:cNvSpPr/>
            <p:nvPr/>
          </p:nvSpPr>
          <p:spPr>
            <a:xfrm>
              <a:off x="6140520" y="2946240"/>
              <a:ext cx="11160" cy="44640"/>
            </a:xfrm>
            <a:custGeom>
              <a:avLst/>
              <a:gdLst/>
              <a:ahLst/>
              <a:rect l="l" t="t" r="r" b="b"/>
              <a:pathLst>
                <a:path w="7" h="28">
                  <a:moveTo>
                    <a:pt x="7" y="0"/>
                  </a:moveTo>
                  <a:lnTo>
                    <a:pt x="7" y="0"/>
                  </a:lnTo>
                  <a:lnTo>
                    <a:pt x="0" y="21"/>
                  </a:lnTo>
                  <a:lnTo>
                    <a:pt x="0" y="28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3" name=""/>
            <p:cNvSpPr/>
            <p:nvPr/>
          </p:nvSpPr>
          <p:spPr>
            <a:xfrm>
              <a:off x="6118200" y="3022560"/>
              <a:ext cx="11160" cy="44640"/>
            </a:xfrm>
            <a:custGeom>
              <a:avLst/>
              <a:gdLst/>
              <a:ahLst/>
              <a:rect l="l" t="t" r="r" b="b"/>
              <a:pathLst>
                <a:path w="7" h="28">
                  <a:moveTo>
                    <a:pt x="7" y="0"/>
                  </a:moveTo>
                  <a:lnTo>
                    <a:pt x="0" y="7"/>
                  </a:lnTo>
                  <a:lnTo>
                    <a:pt x="0" y="28"/>
                  </a:lnTo>
                  <a:lnTo>
                    <a:pt x="0" y="28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4" name=""/>
            <p:cNvSpPr/>
            <p:nvPr/>
          </p:nvSpPr>
          <p:spPr>
            <a:xfrm>
              <a:off x="6118200" y="3121200"/>
              <a:ext cx="22320" cy="33120"/>
            </a:xfrm>
            <a:custGeom>
              <a:avLst/>
              <a:gdLst/>
              <a:ahLst/>
              <a:rect l="l" t="t" r="r" b="b"/>
              <a:pathLst>
                <a:path w="14" h="21">
                  <a:moveTo>
                    <a:pt x="0" y="0"/>
                  </a:moveTo>
                  <a:lnTo>
                    <a:pt x="7" y="7"/>
                  </a:lnTo>
                  <a:lnTo>
                    <a:pt x="7" y="7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4" y="21"/>
                  </a:lnTo>
                  <a:lnTo>
                    <a:pt x="14" y="21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5" name=""/>
            <p:cNvSpPr/>
            <p:nvPr/>
          </p:nvSpPr>
          <p:spPr>
            <a:xfrm>
              <a:off x="6097680" y="3198960"/>
              <a:ext cx="31680" cy="316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20" y="0"/>
                  </a:moveTo>
                  <a:lnTo>
                    <a:pt x="20" y="6"/>
                  </a:lnTo>
                  <a:lnTo>
                    <a:pt x="13" y="6"/>
                  </a:lnTo>
                  <a:lnTo>
                    <a:pt x="0" y="2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6" name=""/>
            <p:cNvSpPr/>
            <p:nvPr/>
          </p:nvSpPr>
          <p:spPr>
            <a:xfrm>
              <a:off x="6041880" y="3263760"/>
              <a:ext cx="44640" cy="11160"/>
            </a:xfrm>
            <a:custGeom>
              <a:avLst/>
              <a:gdLst/>
              <a:ahLst/>
              <a:rect l="l" t="t" r="r" b="b"/>
              <a:pathLst>
                <a:path w="28" h="7">
                  <a:moveTo>
                    <a:pt x="28" y="0"/>
                  </a:moveTo>
                  <a:lnTo>
                    <a:pt x="14" y="7"/>
                  </a:lnTo>
                  <a:lnTo>
                    <a:pt x="0" y="7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7" name=""/>
            <p:cNvSpPr/>
            <p:nvPr/>
          </p:nvSpPr>
          <p:spPr>
            <a:xfrm>
              <a:off x="5965920" y="3263760"/>
              <a:ext cx="33120" cy="11160"/>
            </a:xfrm>
            <a:custGeom>
              <a:avLst/>
              <a:gdLst/>
              <a:ahLst/>
              <a:rect l="l" t="t" r="r" b="b"/>
              <a:pathLst>
                <a:path w="21" h="7">
                  <a:moveTo>
                    <a:pt x="21" y="7"/>
                  </a:moveTo>
                  <a:lnTo>
                    <a:pt x="14" y="7"/>
                  </a:lnTo>
                  <a:lnTo>
                    <a:pt x="0" y="0"/>
                  </a:lnTo>
                  <a:lnTo>
                    <a:pt x="0" y="7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8" name=""/>
            <p:cNvSpPr/>
            <p:nvPr/>
          </p:nvSpPr>
          <p:spPr>
            <a:xfrm>
              <a:off x="5921280" y="3317760"/>
              <a:ext cx="22320" cy="33480"/>
            </a:xfrm>
            <a:custGeom>
              <a:avLst/>
              <a:gdLst/>
              <a:ahLst/>
              <a:rect l="l" t="t" r="r" b="b"/>
              <a:pathLst>
                <a:path w="14" h="21">
                  <a:moveTo>
                    <a:pt x="14" y="0"/>
                  </a:moveTo>
                  <a:lnTo>
                    <a:pt x="0" y="7"/>
                  </a:lnTo>
                  <a:lnTo>
                    <a:pt x="0" y="21"/>
                  </a:lnTo>
                  <a:lnTo>
                    <a:pt x="0" y="21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9" name=""/>
            <p:cNvSpPr/>
            <p:nvPr/>
          </p:nvSpPr>
          <p:spPr>
            <a:xfrm>
              <a:off x="5910120" y="3395520"/>
              <a:ext cx="22320" cy="20880"/>
            </a:xfrm>
            <a:custGeom>
              <a:avLst/>
              <a:gdLst/>
              <a:ahLst/>
              <a:rect l="l" t="t" r="r" b="b"/>
              <a:pathLst>
                <a:path w="14" h="13">
                  <a:moveTo>
                    <a:pt x="14" y="0"/>
                  </a:moveTo>
                  <a:lnTo>
                    <a:pt x="14" y="0"/>
                  </a:lnTo>
                  <a:lnTo>
                    <a:pt x="14" y="13"/>
                  </a:lnTo>
                  <a:lnTo>
                    <a:pt x="0" y="13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0" name=""/>
            <p:cNvSpPr/>
            <p:nvPr/>
          </p:nvSpPr>
          <p:spPr>
            <a:xfrm>
              <a:off x="5856120" y="3438360"/>
              <a:ext cx="22320" cy="44640"/>
            </a:xfrm>
            <a:custGeom>
              <a:avLst/>
              <a:gdLst/>
              <a:ahLst/>
              <a:rect l="l" t="t" r="r" b="b"/>
              <a:pathLst>
                <a:path w="14" h="28">
                  <a:moveTo>
                    <a:pt x="14" y="0"/>
                  </a:moveTo>
                  <a:lnTo>
                    <a:pt x="7" y="14"/>
                  </a:lnTo>
                  <a:lnTo>
                    <a:pt x="0" y="28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1" name=""/>
            <p:cNvSpPr/>
            <p:nvPr/>
          </p:nvSpPr>
          <p:spPr>
            <a:xfrm>
              <a:off x="5802480" y="3514680"/>
              <a:ext cx="31680" cy="44640"/>
            </a:xfrm>
            <a:custGeom>
              <a:avLst/>
              <a:gdLst/>
              <a:ahLst/>
              <a:rect l="l" t="t" r="r" b="b"/>
              <a:pathLst>
                <a:path w="20" h="28">
                  <a:moveTo>
                    <a:pt x="20" y="0"/>
                  </a:moveTo>
                  <a:lnTo>
                    <a:pt x="13" y="14"/>
                  </a:lnTo>
                  <a:lnTo>
                    <a:pt x="0" y="28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2" name=""/>
            <p:cNvSpPr/>
            <p:nvPr/>
          </p:nvSpPr>
          <p:spPr>
            <a:xfrm>
              <a:off x="5746680" y="3537000"/>
              <a:ext cx="33480" cy="33120"/>
            </a:xfrm>
            <a:custGeom>
              <a:avLst/>
              <a:gdLst/>
              <a:ahLst/>
              <a:rect l="l" t="t" r="r" b="b"/>
              <a:pathLst>
                <a:path w="21" h="21">
                  <a:moveTo>
                    <a:pt x="21" y="21"/>
                  </a:moveTo>
                  <a:lnTo>
                    <a:pt x="7" y="14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3" name=""/>
            <p:cNvSpPr/>
            <p:nvPr/>
          </p:nvSpPr>
          <p:spPr>
            <a:xfrm flipH="1" flipV="1">
              <a:off x="5670360" y="3503160"/>
              <a:ext cx="42840" cy="111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4" name=""/>
            <p:cNvSpPr/>
            <p:nvPr/>
          </p:nvSpPr>
          <p:spPr>
            <a:xfrm flipH="1" flipV="1">
              <a:off x="5582880" y="3494160"/>
              <a:ext cx="42840" cy="93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5" name=""/>
            <p:cNvSpPr/>
            <p:nvPr/>
          </p:nvSpPr>
          <p:spPr>
            <a:xfrm flipH="1">
              <a:off x="5494320" y="3494160"/>
              <a:ext cx="4464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6" name=""/>
            <p:cNvSpPr/>
            <p:nvPr/>
          </p:nvSpPr>
          <p:spPr>
            <a:xfrm>
              <a:off x="5473800" y="3503520"/>
              <a:ext cx="1440" cy="446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7" name=""/>
            <p:cNvSpPr/>
            <p:nvPr/>
          </p:nvSpPr>
          <p:spPr>
            <a:xfrm>
              <a:off x="5418000" y="3592440"/>
              <a:ext cx="44640" cy="1800"/>
            </a:xfrm>
            <a:custGeom>
              <a:avLst/>
              <a:gdLst/>
              <a:ahLst/>
              <a:rect l="l" t="t" r="r" b="b"/>
              <a:pathLst>
                <a:path w="28" h="0">
                  <a:moveTo>
                    <a:pt x="28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8" name=""/>
            <p:cNvSpPr/>
            <p:nvPr/>
          </p:nvSpPr>
          <p:spPr>
            <a:xfrm>
              <a:off x="5418000" y="3635280"/>
              <a:ext cx="1800" cy="446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9" name=""/>
            <p:cNvSpPr/>
            <p:nvPr/>
          </p:nvSpPr>
          <p:spPr>
            <a:xfrm>
              <a:off x="5353200" y="3679920"/>
              <a:ext cx="33120" cy="20520"/>
            </a:xfrm>
            <a:custGeom>
              <a:avLst/>
              <a:gdLst/>
              <a:ahLst/>
              <a:rect l="l" t="t" r="r" b="b"/>
              <a:pathLst>
                <a:path w="21" h="13">
                  <a:moveTo>
                    <a:pt x="21" y="7"/>
                  </a:moveTo>
                  <a:lnTo>
                    <a:pt x="0" y="0"/>
                  </a:lnTo>
                  <a:lnTo>
                    <a:pt x="0" y="13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0" name=""/>
            <p:cNvSpPr/>
            <p:nvPr/>
          </p:nvSpPr>
          <p:spPr>
            <a:xfrm>
              <a:off x="5068800" y="3317760"/>
              <a:ext cx="20880" cy="33480"/>
            </a:xfrm>
            <a:custGeom>
              <a:avLst/>
              <a:gdLst/>
              <a:ahLst/>
              <a:rect l="l" t="t" r="r" b="b"/>
              <a:pathLst>
                <a:path w="13" h="21">
                  <a:moveTo>
                    <a:pt x="13" y="21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1" name=""/>
            <p:cNvSpPr/>
            <p:nvPr/>
          </p:nvSpPr>
          <p:spPr>
            <a:xfrm>
              <a:off x="5057640" y="3230640"/>
              <a:ext cx="1800" cy="44280"/>
            </a:xfrm>
            <a:custGeom>
              <a:avLst/>
              <a:gdLst/>
              <a:ahLst/>
              <a:rect l="l" t="t" r="r" b="b"/>
              <a:pathLst>
                <a:path w="0" h="28">
                  <a:moveTo>
                    <a:pt x="0" y="28"/>
                  </a:moveTo>
                  <a:lnTo>
                    <a:pt x="0" y="7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2" name=""/>
            <p:cNvSpPr/>
            <p:nvPr/>
          </p:nvSpPr>
          <p:spPr>
            <a:xfrm>
              <a:off x="5057640" y="3143160"/>
              <a:ext cx="1800" cy="44640"/>
            </a:xfrm>
            <a:custGeom>
              <a:avLst/>
              <a:gdLst/>
              <a:ahLst/>
              <a:rect l="l" t="t" r="r" b="b"/>
              <a:pathLst>
                <a:path w="0" h="28">
                  <a:moveTo>
                    <a:pt x="0" y="28"/>
                  </a:moveTo>
                  <a:lnTo>
                    <a:pt x="0" y="28"/>
                  </a:lnTo>
                  <a:lnTo>
                    <a:pt x="0" y="14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3" name=""/>
            <p:cNvSpPr/>
            <p:nvPr/>
          </p:nvSpPr>
          <p:spPr>
            <a:xfrm>
              <a:off x="5068800" y="3056040"/>
              <a:ext cx="1800" cy="44280"/>
            </a:xfrm>
            <a:custGeom>
              <a:avLst/>
              <a:gdLst/>
              <a:ahLst/>
              <a:rect l="l" t="t" r="r" b="b"/>
              <a:pathLst>
                <a:path w="0" h="28">
                  <a:moveTo>
                    <a:pt x="0" y="28"/>
                  </a:moveTo>
                  <a:lnTo>
                    <a:pt x="0" y="21"/>
                  </a:lnTo>
                  <a:lnTo>
                    <a:pt x="0" y="7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4" name=""/>
            <p:cNvSpPr/>
            <p:nvPr/>
          </p:nvSpPr>
          <p:spPr>
            <a:xfrm>
              <a:off x="5013360" y="2990880"/>
              <a:ext cx="33480" cy="20520"/>
            </a:xfrm>
            <a:custGeom>
              <a:avLst/>
              <a:gdLst/>
              <a:ahLst/>
              <a:rect l="l" t="t" r="r" b="b"/>
              <a:pathLst>
                <a:path w="21" h="13">
                  <a:moveTo>
                    <a:pt x="21" y="13"/>
                  </a:moveTo>
                  <a:lnTo>
                    <a:pt x="0" y="7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5" name=""/>
            <p:cNvSpPr/>
            <p:nvPr/>
          </p:nvSpPr>
          <p:spPr>
            <a:xfrm>
              <a:off x="4959360" y="2913120"/>
              <a:ext cx="20520" cy="44280"/>
            </a:xfrm>
            <a:custGeom>
              <a:avLst/>
              <a:gdLst/>
              <a:ahLst/>
              <a:rect l="l" t="t" r="r" b="b"/>
              <a:pathLst>
                <a:path w="13" h="28">
                  <a:moveTo>
                    <a:pt x="13" y="28"/>
                  </a:moveTo>
                  <a:lnTo>
                    <a:pt x="7" y="7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6" name=""/>
            <p:cNvSpPr/>
            <p:nvPr/>
          </p:nvSpPr>
          <p:spPr>
            <a:xfrm>
              <a:off x="4903920" y="2847960"/>
              <a:ext cx="33120" cy="33480"/>
            </a:xfrm>
            <a:custGeom>
              <a:avLst/>
              <a:gdLst/>
              <a:ahLst/>
              <a:rect l="l" t="t" r="r" b="b"/>
              <a:pathLst>
                <a:path w="21" h="21">
                  <a:moveTo>
                    <a:pt x="21" y="21"/>
                  </a:moveTo>
                  <a:lnTo>
                    <a:pt x="14" y="14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7" name=""/>
            <p:cNvSpPr/>
            <p:nvPr/>
          </p:nvSpPr>
          <p:spPr>
            <a:xfrm flipH="1" flipV="1">
              <a:off x="4849560" y="2782800"/>
              <a:ext cx="20520" cy="316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8" name=""/>
            <p:cNvSpPr/>
            <p:nvPr/>
          </p:nvSpPr>
          <p:spPr>
            <a:xfrm>
              <a:off x="4794120" y="2716200"/>
              <a:ext cx="22320" cy="33480"/>
            </a:xfrm>
            <a:custGeom>
              <a:avLst/>
              <a:gdLst/>
              <a:ahLst/>
              <a:rect l="l" t="t" r="r" b="b"/>
              <a:pathLst>
                <a:path w="14" h="21">
                  <a:moveTo>
                    <a:pt x="14" y="21"/>
                  </a:moveTo>
                  <a:lnTo>
                    <a:pt x="7" y="21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9" name=""/>
            <p:cNvSpPr/>
            <p:nvPr/>
          </p:nvSpPr>
          <p:spPr>
            <a:xfrm>
              <a:off x="4729320" y="2662200"/>
              <a:ext cx="33120" cy="11160"/>
            </a:xfrm>
            <a:custGeom>
              <a:avLst/>
              <a:gdLst/>
              <a:ahLst/>
              <a:rect l="l" t="t" r="r" b="b"/>
              <a:pathLst>
                <a:path w="21" h="7">
                  <a:moveTo>
                    <a:pt x="21" y="7"/>
                  </a:moveTo>
                  <a:lnTo>
                    <a:pt x="14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0" name=""/>
            <p:cNvSpPr/>
            <p:nvPr/>
          </p:nvSpPr>
          <p:spPr>
            <a:xfrm flipH="1" flipV="1">
              <a:off x="5254560" y="3646440"/>
              <a:ext cx="22320" cy="446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1" name=""/>
            <p:cNvSpPr/>
            <p:nvPr/>
          </p:nvSpPr>
          <p:spPr>
            <a:xfrm>
              <a:off x="5221440" y="3570120"/>
              <a:ext cx="10800" cy="32040"/>
            </a:xfrm>
            <a:custGeom>
              <a:avLst/>
              <a:gdLst/>
              <a:ahLst/>
              <a:rect l="l" t="t" r="r" b="b"/>
              <a:pathLst>
                <a:path w="7" h="20">
                  <a:moveTo>
                    <a:pt x="7" y="20"/>
                  </a:moveTo>
                  <a:lnTo>
                    <a:pt x="0" y="7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2" name=""/>
            <p:cNvSpPr/>
            <p:nvPr/>
          </p:nvSpPr>
          <p:spPr>
            <a:xfrm>
              <a:off x="5178600" y="3483000"/>
              <a:ext cx="20520" cy="42840"/>
            </a:xfrm>
            <a:custGeom>
              <a:avLst/>
              <a:gdLst/>
              <a:ahLst/>
              <a:rect l="l" t="t" r="r" b="b"/>
              <a:pathLst>
                <a:path w="13" h="27">
                  <a:moveTo>
                    <a:pt x="13" y="27"/>
                  </a:moveTo>
                  <a:lnTo>
                    <a:pt x="6" y="13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3" name=""/>
            <p:cNvSpPr/>
            <p:nvPr/>
          </p:nvSpPr>
          <p:spPr>
            <a:xfrm>
              <a:off x="5133960" y="3405240"/>
              <a:ext cx="33480" cy="44280"/>
            </a:xfrm>
            <a:custGeom>
              <a:avLst/>
              <a:gdLst/>
              <a:ahLst/>
              <a:rect l="l" t="t" r="r" b="b"/>
              <a:pathLst>
                <a:path w="21" h="28">
                  <a:moveTo>
                    <a:pt x="21" y="28"/>
                  </a:moveTo>
                  <a:lnTo>
                    <a:pt x="7" y="7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4" name=""/>
            <p:cNvSpPr/>
            <p:nvPr/>
          </p:nvSpPr>
          <p:spPr>
            <a:xfrm>
              <a:off x="5089680" y="3340080"/>
              <a:ext cx="10800" cy="33480"/>
            </a:xfrm>
            <a:custGeom>
              <a:avLst/>
              <a:gdLst/>
              <a:ahLst/>
              <a:rect l="l" t="t" r="r" b="b"/>
              <a:pathLst>
                <a:path w="7" h="21">
                  <a:moveTo>
                    <a:pt x="7" y="21"/>
                  </a:moveTo>
                  <a:lnTo>
                    <a:pt x="7" y="21"/>
                  </a:lnTo>
                  <a:lnTo>
                    <a:pt x="0" y="7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5" name=""/>
            <p:cNvSpPr/>
            <p:nvPr/>
          </p:nvSpPr>
          <p:spPr>
            <a:xfrm flipV="1">
              <a:off x="5100480" y="3252600"/>
              <a:ext cx="11160" cy="442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6" name=""/>
            <p:cNvSpPr/>
            <p:nvPr/>
          </p:nvSpPr>
          <p:spPr>
            <a:xfrm flipV="1">
              <a:off x="5111640" y="3154320"/>
              <a:ext cx="11160" cy="446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7" name=""/>
            <p:cNvSpPr/>
            <p:nvPr/>
          </p:nvSpPr>
          <p:spPr>
            <a:xfrm flipV="1">
              <a:off x="5122800" y="3066840"/>
              <a:ext cx="11160" cy="428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8" name=""/>
            <p:cNvSpPr/>
            <p:nvPr/>
          </p:nvSpPr>
          <p:spPr>
            <a:xfrm flipV="1">
              <a:off x="5145120" y="2979360"/>
              <a:ext cx="1440" cy="428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9" name=""/>
            <p:cNvSpPr/>
            <p:nvPr/>
          </p:nvSpPr>
          <p:spPr>
            <a:xfrm>
              <a:off x="5156280" y="2892600"/>
              <a:ext cx="11160" cy="42840"/>
            </a:xfrm>
            <a:custGeom>
              <a:avLst/>
              <a:gdLst/>
              <a:ahLst/>
              <a:rect l="l" t="t" r="r" b="b"/>
              <a:pathLst>
                <a:path w="7" h="27">
                  <a:moveTo>
                    <a:pt x="0" y="27"/>
                  </a:moveTo>
                  <a:lnTo>
                    <a:pt x="0" y="20"/>
                  </a:lnTo>
                  <a:lnTo>
                    <a:pt x="7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0" name=""/>
            <p:cNvSpPr/>
            <p:nvPr/>
          </p:nvSpPr>
          <p:spPr>
            <a:xfrm flipV="1">
              <a:off x="5167440" y="2804760"/>
              <a:ext cx="11160" cy="428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1" name=""/>
            <p:cNvSpPr/>
            <p:nvPr/>
          </p:nvSpPr>
          <p:spPr>
            <a:xfrm flipV="1">
              <a:off x="5178600" y="2716200"/>
              <a:ext cx="9360" cy="446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2" name=""/>
            <p:cNvSpPr/>
            <p:nvPr/>
          </p:nvSpPr>
          <p:spPr>
            <a:xfrm flipV="1">
              <a:off x="5199120" y="2628720"/>
              <a:ext cx="1440" cy="442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3" name=""/>
            <p:cNvSpPr/>
            <p:nvPr/>
          </p:nvSpPr>
          <p:spPr>
            <a:xfrm flipV="1">
              <a:off x="5210280" y="2541240"/>
              <a:ext cx="1440" cy="442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4" name=""/>
            <p:cNvSpPr/>
            <p:nvPr/>
          </p:nvSpPr>
          <p:spPr>
            <a:xfrm flipV="1">
              <a:off x="5221440" y="2454120"/>
              <a:ext cx="1440" cy="446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5" name=""/>
            <p:cNvSpPr/>
            <p:nvPr/>
          </p:nvSpPr>
          <p:spPr>
            <a:xfrm flipV="1">
              <a:off x="5232240" y="2366640"/>
              <a:ext cx="1800" cy="442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6" name=""/>
            <p:cNvSpPr/>
            <p:nvPr/>
          </p:nvSpPr>
          <p:spPr>
            <a:xfrm>
              <a:off x="5243400" y="2290680"/>
              <a:ext cx="22320" cy="33480"/>
            </a:xfrm>
            <a:custGeom>
              <a:avLst/>
              <a:gdLst/>
              <a:ahLst/>
              <a:rect l="l" t="t" r="r" b="b"/>
              <a:pathLst>
                <a:path w="14" h="21">
                  <a:moveTo>
                    <a:pt x="0" y="21"/>
                  </a:moveTo>
                  <a:lnTo>
                    <a:pt x="0" y="0"/>
                  </a:lnTo>
                  <a:lnTo>
                    <a:pt x="14" y="7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7" name=""/>
            <p:cNvSpPr/>
            <p:nvPr/>
          </p:nvSpPr>
          <p:spPr>
            <a:xfrm>
              <a:off x="5308560" y="2301840"/>
              <a:ext cx="44640" cy="111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8" name=""/>
            <p:cNvSpPr/>
            <p:nvPr/>
          </p:nvSpPr>
          <p:spPr>
            <a:xfrm>
              <a:off x="5396040" y="2301840"/>
              <a:ext cx="33120" cy="22320"/>
            </a:xfrm>
            <a:custGeom>
              <a:avLst/>
              <a:gdLst/>
              <a:ahLst/>
              <a:rect l="l" t="t" r="r" b="b"/>
              <a:pathLst>
                <a:path w="21" h="14">
                  <a:moveTo>
                    <a:pt x="0" y="14"/>
                  </a:moveTo>
                  <a:lnTo>
                    <a:pt x="7" y="14"/>
                  </a:lnTo>
                  <a:lnTo>
                    <a:pt x="21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9" name=""/>
            <p:cNvSpPr/>
            <p:nvPr/>
          </p:nvSpPr>
          <p:spPr>
            <a:xfrm flipV="1">
              <a:off x="5451480" y="2235240"/>
              <a:ext cx="33480" cy="331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0" name=""/>
            <p:cNvSpPr/>
            <p:nvPr/>
          </p:nvSpPr>
          <p:spPr>
            <a:xfrm>
              <a:off x="5516640" y="2203560"/>
              <a:ext cx="33120" cy="219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1" name=""/>
            <p:cNvSpPr/>
            <p:nvPr/>
          </p:nvSpPr>
          <p:spPr>
            <a:xfrm>
              <a:off x="5594400" y="2235240"/>
              <a:ext cx="42840" cy="223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2" name=""/>
            <p:cNvSpPr/>
            <p:nvPr/>
          </p:nvSpPr>
          <p:spPr>
            <a:xfrm>
              <a:off x="5670720" y="2279520"/>
              <a:ext cx="42840" cy="111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3" name=""/>
            <p:cNvSpPr/>
            <p:nvPr/>
          </p:nvSpPr>
          <p:spPr>
            <a:xfrm>
              <a:off x="5757840" y="2313000"/>
              <a:ext cx="44640" cy="20520"/>
            </a:xfrm>
            <a:custGeom>
              <a:avLst/>
              <a:gdLst/>
              <a:ahLst/>
              <a:rect l="l" t="t" r="r" b="b"/>
              <a:pathLst>
                <a:path w="28" h="13">
                  <a:moveTo>
                    <a:pt x="0" y="0"/>
                  </a:moveTo>
                  <a:lnTo>
                    <a:pt x="21" y="7"/>
                  </a:lnTo>
                  <a:lnTo>
                    <a:pt x="28" y="13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4" name=""/>
            <p:cNvSpPr/>
            <p:nvPr/>
          </p:nvSpPr>
          <p:spPr>
            <a:xfrm>
              <a:off x="5834160" y="2344680"/>
              <a:ext cx="44280" cy="22320"/>
            </a:xfrm>
            <a:custGeom>
              <a:avLst/>
              <a:gdLst/>
              <a:ahLst/>
              <a:rect l="l" t="t" r="r" b="b"/>
              <a:pathLst>
                <a:path w="28" h="14">
                  <a:moveTo>
                    <a:pt x="0" y="0"/>
                  </a:moveTo>
                  <a:lnTo>
                    <a:pt x="21" y="14"/>
                  </a:lnTo>
                  <a:lnTo>
                    <a:pt x="28" y="14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5" name=""/>
            <p:cNvSpPr/>
            <p:nvPr/>
          </p:nvSpPr>
          <p:spPr>
            <a:xfrm>
              <a:off x="5921280" y="2389320"/>
              <a:ext cx="33480" cy="21960"/>
            </a:xfrm>
            <a:custGeom>
              <a:avLst/>
              <a:gdLst/>
              <a:ahLst/>
              <a:rect l="l" t="t" r="r" b="b"/>
              <a:pathLst>
                <a:path w="21" h="14">
                  <a:moveTo>
                    <a:pt x="0" y="0"/>
                  </a:moveTo>
                  <a:lnTo>
                    <a:pt x="14" y="0"/>
                  </a:lnTo>
                  <a:lnTo>
                    <a:pt x="21" y="14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6" name=""/>
            <p:cNvSpPr/>
            <p:nvPr/>
          </p:nvSpPr>
          <p:spPr>
            <a:xfrm>
              <a:off x="5965920" y="2454120"/>
              <a:ext cx="1440" cy="44640"/>
            </a:xfrm>
            <a:custGeom>
              <a:avLst/>
              <a:gdLst/>
              <a:ahLst/>
              <a:rect l="l" t="t" r="r" b="b"/>
              <a:pathLst>
                <a:path w="0" h="28">
                  <a:moveTo>
                    <a:pt x="0" y="0"/>
                  </a:moveTo>
                  <a:lnTo>
                    <a:pt x="0" y="7"/>
                  </a:lnTo>
                  <a:lnTo>
                    <a:pt x="0" y="28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7" name=""/>
            <p:cNvSpPr/>
            <p:nvPr/>
          </p:nvSpPr>
          <p:spPr>
            <a:xfrm flipH="1">
              <a:off x="5943240" y="2541600"/>
              <a:ext cx="11160" cy="442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8" name=""/>
            <p:cNvSpPr/>
            <p:nvPr/>
          </p:nvSpPr>
          <p:spPr>
            <a:xfrm>
              <a:off x="5943600" y="2629080"/>
              <a:ext cx="1440" cy="44280"/>
            </a:xfrm>
            <a:custGeom>
              <a:avLst/>
              <a:gdLst/>
              <a:ahLst/>
              <a:rect l="l" t="t" r="r" b="b"/>
              <a:pathLst>
                <a:path w="0" h="28">
                  <a:moveTo>
                    <a:pt x="0" y="0"/>
                  </a:moveTo>
                  <a:lnTo>
                    <a:pt x="0" y="28"/>
                  </a:lnTo>
                  <a:lnTo>
                    <a:pt x="0" y="21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9" name=""/>
            <p:cNvSpPr/>
            <p:nvPr/>
          </p:nvSpPr>
          <p:spPr>
            <a:xfrm flipH="1" flipV="1">
              <a:off x="4652640" y="2650680"/>
              <a:ext cx="42840" cy="111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0" name=""/>
            <p:cNvSpPr/>
            <p:nvPr/>
          </p:nvSpPr>
          <p:spPr>
            <a:xfrm>
              <a:off x="4597560" y="2684520"/>
              <a:ext cx="33120" cy="22320"/>
            </a:xfrm>
            <a:custGeom>
              <a:avLst/>
              <a:gdLst/>
              <a:ahLst/>
              <a:rect l="l" t="t" r="r" b="b"/>
              <a:pathLst>
                <a:path w="21" h="14">
                  <a:moveTo>
                    <a:pt x="21" y="0"/>
                  </a:moveTo>
                  <a:lnTo>
                    <a:pt x="7" y="7"/>
                  </a:lnTo>
                  <a:lnTo>
                    <a:pt x="0" y="14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1" name=""/>
            <p:cNvSpPr/>
            <p:nvPr/>
          </p:nvSpPr>
          <p:spPr>
            <a:xfrm>
              <a:off x="4521240" y="2727360"/>
              <a:ext cx="31680" cy="22320"/>
            </a:xfrm>
            <a:custGeom>
              <a:avLst/>
              <a:gdLst/>
              <a:ahLst/>
              <a:rect l="l" t="t" r="r" b="b"/>
              <a:pathLst>
                <a:path w="20" h="14">
                  <a:moveTo>
                    <a:pt x="20" y="0"/>
                  </a:moveTo>
                  <a:lnTo>
                    <a:pt x="7" y="7"/>
                  </a:lnTo>
                  <a:lnTo>
                    <a:pt x="0" y="14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2" name=""/>
            <p:cNvSpPr/>
            <p:nvPr/>
          </p:nvSpPr>
          <p:spPr>
            <a:xfrm>
              <a:off x="4476600" y="2793960"/>
              <a:ext cx="33480" cy="31680"/>
            </a:xfrm>
            <a:custGeom>
              <a:avLst/>
              <a:gdLst/>
              <a:ahLst/>
              <a:rect l="l" t="t" r="r" b="b"/>
              <a:pathLst>
                <a:path w="21" h="20">
                  <a:moveTo>
                    <a:pt x="21" y="0"/>
                  </a:moveTo>
                  <a:lnTo>
                    <a:pt x="14" y="7"/>
                  </a:lnTo>
                  <a:lnTo>
                    <a:pt x="7" y="13"/>
                  </a:lnTo>
                  <a:lnTo>
                    <a:pt x="0" y="2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43" name=""/>
          <p:cNvGrpSpPr/>
          <p:nvPr/>
        </p:nvGrpSpPr>
        <p:grpSpPr>
          <a:xfrm>
            <a:off x="2157480" y="2104920"/>
            <a:ext cx="5199120" cy="4014720"/>
            <a:chOff x="2157480" y="2104920"/>
            <a:chExt cx="5199120" cy="4014720"/>
          </a:xfrm>
        </p:grpSpPr>
        <p:sp>
          <p:nvSpPr>
            <p:cNvPr id="7044" name=""/>
            <p:cNvSpPr/>
            <p:nvPr/>
          </p:nvSpPr>
          <p:spPr>
            <a:xfrm>
              <a:off x="4400640" y="2859120"/>
              <a:ext cx="44280" cy="22320"/>
            </a:xfrm>
            <a:custGeom>
              <a:avLst/>
              <a:gdLst/>
              <a:ahLst/>
              <a:rect l="l" t="t" r="r" b="b"/>
              <a:pathLst>
                <a:path w="28" h="14">
                  <a:moveTo>
                    <a:pt x="28" y="0"/>
                  </a:moveTo>
                  <a:lnTo>
                    <a:pt x="21" y="0"/>
                  </a:lnTo>
                  <a:lnTo>
                    <a:pt x="0" y="14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5" name=""/>
            <p:cNvSpPr/>
            <p:nvPr/>
          </p:nvSpPr>
          <p:spPr>
            <a:xfrm>
              <a:off x="4335480" y="2913120"/>
              <a:ext cx="42840" cy="22320"/>
            </a:xfrm>
            <a:custGeom>
              <a:avLst/>
              <a:gdLst/>
              <a:ahLst/>
              <a:rect l="l" t="t" r="r" b="b"/>
              <a:pathLst>
                <a:path w="27" h="14">
                  <a:moveTo>
                    <a:pt x="27" y="0"/>
                  </a:moveTo>
                  <a:lnTo>
                    <a:pt x="20" y="0"/>
                  </a:lnTo>
                  <a:lnTo>
                    <a:pt x="0" y="14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6" name=""/>
            <p:cNvSpPr/>
            <p:nvPr/>
          </p:nvSpPr>
          <p:spPr>
            <a:xfrm>
              <a:off x="4268880" y="2957400"/>
              <a:ext cx="33120" cy="11160"/>
            </a:xfrm>
            <a:custGeom>
              <a:avLst/>
              <a:gdLst/>
              <a:ahLst/>
              <a:rect l="l" t="t" r="r" b="b"/>
              <a:pathLst>
                <a:path w="21" h="7">
                  <a:moveTo>
                    <a:pt x="21" y="0"/>
                  </a:moveTo>
                  <a:lnTo>
                    <a:pt x="14" y="7"/>
                  </a:lnTo>
                  <a:lnTo>
                    <a:pt x="0" y="7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7" name=""/>
            <p:cNvSpPr/>
            <p:nvPr/>
          </p:nvSpPr>
          <p:spPr>
            <a:xfrm>
              <a:off x="4237200" y="2870280"/>
              <a:ext cx="9360" cy="42840"/>
            </a:xfrm>
            <a:custGeom>
              <a:avLst/>
              <a:gdLst/>
              <a:ahLst/>
              <a:rect l="l" t="t" r="r" b="b"/>
              <a:pathLst>
                <a:path w="6" h="27">
                  <a:moveTo>
                    <a:pt x="6" y="27"/>
                  </a:moveTo>
                  <a:lnTo>
                    <a:pt x="6" y="27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8" name=""/>
            <p:cNvSpPr/>
            <p:nvPr/>
          </p:nvSpPr>
          <p:spPr>
            <a:xfrm flipH="1" flipV="1">
              <a:off x="4192560" y="2870280"/>
              <a:ext cx="44640" cy="223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9" name=""/>
            <p:cNvSpPr/>
            <p:nvPr/>
          </p:nvSpPr>
          <p:spPr>
            <a:xfrm flipH="1" flipV="1">
              <a:off x="4127400" y="2814480"/>
              <a:ext cx="31680" cy="223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0" name=""/>
            <p:cNvSpPr/>
            <p:nvPr/>
          </p:nvSpPr>
          <p:spPr>
            <a:xfrm>
              <a:off x="4060800" y="2814480"/>
              <a:ext cx="33480" cy="33480"/>
            </a:xfrm>
            <a:custGeom>
              <a:avLst/>
              <a:gdLst/>
              <a:ahLst/>
              <a:rect l="l" t="t" r="r" b="b"/>
              <a:pathLst>
                <a:path w="21" h="21">
                  <a:moveTo>
                    <a:pt x="21" y="0"/>
                  </a:moveTo>
                  <a:lnTo>
                    <a:pt x="7" y="7"/>
                  </a:lnTo>
                  <a:lnTo>
                    <a:pt x="0" y="21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1" name=""/>
            <p:cNvSpPr/>
            <p:nvPr/>
          </p:nvSpPr>
          <p:spPr>
            <a:xfrm>
              <a:off x="3984480" y="2870280"/>
              <a:ext cx="44640" cy="22320"/>
            </a:xfrm>
            <a:custGeom>
              <a:avLst/>
              <a:gdLst/>
              <a:ahLst/>
              <a:rect l="l" t="t" r="r" b="b"/>
              <a:pathLst>
                <a:path w="28" h="14">
                  <a:moveTo>
                    <a:pt x="28" y="0"/>
                  </a:moveTo>
                  <a:lnTo>
                    <a:pt x="14" y="7"/>
                  </a:lnTo>
                  <a:lnTo>
                    <a:pt x="0" y="14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2" name=""/>
            <p:cNvSpPr/>
            <p:nvPr/>
          </p:nvSpPr>
          <p:spPr>
            <a:xfrm>
              <a:off x="3919680" y="2924280"/>
              <a:ext cx="31680" cy="21960"/>
            </a:xfrm>
            <a:custGeom>
              <a:avLst/>
              <a:gdLst/>
              <a:ahLst/>
              <a:rect l="l" t="t" r="r" b="b"/>
              <a:pathLst>
                <a:path w="20" h="14">
                  <a:moveTo>
                    <a:pt x="20" y="0"/>
                  </a:moveTo>
                  <a:lnTo>
                    <a:pt x="6" y="14"/>
                  </a:lnTo>
                  <a:lnTo>
                    <a:pt x="0" y="14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3" name=""/>
            <p:cNvSpPr/>
            <p:nvPr/>
          </p:nvSpPr>
          <p:spPr>
            <a:xfrm flipH="1">
              <a:off x="3874680" y="2979720"/>
              <a:ext cx="11160" cy="111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4" name=""/>
            <p:cNvSpPr/>
            <p:nvPr/>
          </p:nvSpPr>
          <p:spPr>
            <a:xfrm>
              <a:off x="3720960" y="2968560"/>
              <a:ext cx="22320" cy="416160"/>
            </a:xfrm>
            <a:custGeom>
              <a:avLst/>
              <a:gdLst/>
              <a:ahLst/>
              <a:rect l="l" t="t" r="r" b="b"/>
              <a:pathLst>
                <a:path w="14" h="262">
                  <a:moveTo>
                    <a:pt x="14" y="0"/>
                  </a:moveTo>
                  <a:lnTo>
                    <a:pt x="14" y="21"/>
                  </a:lnTo>
                  <a:lnTo>
                    <a:pt x="7" y="34"/>
                  </a:lnTo>
                  <a:lnTo>
                    <a:pt x="0" y="55"/>
                  </a:lnTo>
                  <a:lnTo>
                    <a:pt x="0" y="76"/>
                  </a:lnTo>
                  <a:lnTo>
                    <a:pt x="7" y="96"/>
                  </a:lnTo>
                  <a:lnTo>
                    <a:pt x="7" y="131"/>
                  </a:lnTo>
                  <a:lnTo>
                    <a:pt x="7" y="151"/>
                  </a:lnTo>
                  <a:lnTo>
                    <a:pt x="14" y="172"/>
                  </a:lnTo>
                  <a:lnTo>
                    <a:pt x="14" y="193"/>
                  </a:lnTo>
                  <a:lnTo>
                    <a:pt x="14" y="227"/>
                  </a:lnTo>
                  <a:lnTo>
                    <a:pt x="14" y="241"/>
                  </a:lnTo>
                  <a:lnTo>
                    <a:pt x="14" y="262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5" name=""/>
            <p:cNvSpPr/>
            <p:nvPr/>
          </p:nvSpPr>
          <p:spPr>
            <a:xfrm>
              <a:off x="3754440" y="2968560"/>
              <a:ext cx="1500120" cy="787320"/>
            </a:xfrm>
            <a:custGeom>
              <a:avLst/>
              <a:gdLst/>
              <a:ahLst/>
              <a:rect l="l" t="t" r="r" b="b"/>
              <a:pathLst>
                <a:path w="945" h="496">
                  <a:moveTo>
                    <a:pt x="945" y="496"/>
                  </a:moveTo>
                  <a:lnTo>
                    <a:pt x="876" y="468"/>
                  </a:lnTo>
                  <a:lnTo>
                    <a:pt x="759" y="434"/>
                  </a:lnTo>
                  <a:lnTo>
                    <a:pt x="641" y="386"/>
                  </a:lnTo>
                  <a:lnTo>
                    <a:pt x="593" y="337"/>
                  </a:lnTo>
                  <a:lnTo>
                    <a:pt x="531" y="310"/>
                  </a:lnTo>
                  <a:lnTo>
                    <a:pt x="455" y="255"/>
                  </a:lnTo>
                  <a:lnTo>
                    <a:pt x="379" y="193"/>
                  </a:lnTo>
                  <a:lnTo>
                    <a:pt x="338" y="158"/>
                  </a:lnTo>
                  <a:lnTo>
                    <a:pt x="310" y="138"/>
                  </a:lnTo>
                  <a:lnTo>
                    <a:pt x="255" y="76"/>
                  </a:lnTo>
                  <a:lnTo>
                    <a:pt x="235" y="62"/>
                  </a:lnTo>
                  <a:lnTo>
                    <a:pt x="104" y="27"/>
                  </a:lnTo>
                  <a:lnTo>
                    <a:pt x="55" y="7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6" name=""/>
            <p:cNvSpPr/>
            <p:nvPr/>
          </p:nvSpPr>
          <p:spPr>
            <a:xfrm>
              <a:off x="5494320" y="3340080"/>
              <a:ext cx="4464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7" name=""/>
            <p:cNvSpPr/>
            <p:nvPr/>
          </p:nvSpPr>
          <p:spPr>
            <a:xfrm>
              <a:off x="5583240" y="3340080"/>
              <a:ext cx="42840" cy="1440"/>
            </a:xfrm>
            <a:custGeom>
              <a:avLst/>
              <a:gdLst/>
              <a:ahLst/>
              <a:rect l="l" t="t" r="r" b="b"/>
              <a:pathLst>
                <a:path w="27" h="0">
                  <a:moveTo>
                    <a:pt x="0" y="0"/>
                  </a:moveTo>
                  <a:lnTo>
                    <a:pt x="27" y="0"/>
                  </a:lnTo>
                  <a:lnTo>
                    <a:pt x="27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8" name=""/>
            <p:cNvSpPr/>
            <p:nvPr/>
          </p:nvSpPr>
          <p:spPr>
            <a:xfrm>
              <a:off x="5648400" y="3274920"/>
              <a:ext cx="33120" cy="22320"/>
            </a:xfrm>
            <a:custGeom>
              <a:avLst/>
              <a:gdLst/>
              <a:ahLst/>
              <a:rect l="l" t="t" r="r" b="b"/>
              <a:pathLst>
                <a:path w="21" h="14">
                  <a:moveTo>
                    <a:pt x="0" y="14"/>
                  </a:moveTo>
                  <a:lnTo>
                    <a:pt x="14" y="0"/>
                  </a:lnTo>
                  <a:lnTo>
                    <a:pt x="21" y="7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9" name=""/>
            <p:cNvSpPr/>
            <p:nvPr/>
          </p:nvSpPr>
          <p:spPr>
            <a:xfrm>
              <a:off x="5429160" y="3056040"/>
              <a:ext cx="4464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0" name=""/>
            <p:cNvSpPr/>
            <p:nvPr/>
          </p:nvSpPr>
          <p:spPr>
            <a:xfrm>
              <a:off x="2638440" y="3691080"/>
              <a:ext cx="272880" cy="64800"/>
            </a:xfrm>
            <a:custGeom>
              <a:avLst/>
              <a:gdLst/>
              <a:ahLst/>
              <a:rect l="l" t="t" r="r" b="b"/>
              <a:pathLst>
                <a:path w="172" h="41">
                  <a:moveTo>
                    <a:pt x="172" y="13"/>
                  </a:moveTo>
                  <a:lnTo>
                    <a:pt x="165" y="13"/>
                  </a:lnTo>
                  <a:lnTo>
                    <a:pt x="152" y="13"/>
                  </a:lnTo>
                  <a:lnTo>
                    <a:pt x="131" y="6"/>
                  </a:lnTo>
                  <a:lnTo>
                    <a:pt x="124" y="0"/>
                  </a:lnTo>
                  <a:lnTo>
                    <a:pt x="110" y="0"/>
                  </a:lnTo>
                  <a:lnTo>
                    <a:pt x="103" y="0"/>
                  </a:lnTo>
                  <a:lnTo>
                    <a:pt x="96" y="6"/>
                  </a:lnTo>
                  <a:lnTo>
                    <a:pt x="90" y="20"/>
                  </a:lnTo>
                  <a:lnTo>
                    <a:pt x="83" y="27"/>
                  </a:lnTo>
                  <a:lnTo>
                    <a:pt x="76" y="27"/>
                  </a:lnTo>
                  <a:lnTo>
                    <a:pt x="55" y="34"/>
                  </a:lnTo>
                  <a:lnTo>
                    <a:pt x="0" y="41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1" name=""/>
            <p:cNvSpPr/>
            <p:nvPr/>
          </p:nvSpPr>
          <p:spPr>
            <a:xfrm>
              <a:off x="4903920" y="4324320"/>
              <a:ext cx="33120" cy="22320"/>
            </a:xfrm>
            <a:custGeom>
              <a:avLst/>
              <a:gdLst/>
              <a:ahLst/>
              <a:rect l="l" t="t" r="r" b="b"/>
              <a:pathLst>
                <a:path w="21" h="14">
                  <a:moveTo>
                    <a:pt x="0" y="14"/>
                  </a:moveTo>
                  <a:lnTo>
                    <a:pt x="21" y="7"/>
                  </a:lnTo>
                  <a:lnTo>
                    <a:pt x="21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2" name=""/>
            <p:cNvSpPr/>
            <p:nvPr/>
          </p:nvSpPr>
          <p:spPr>
            <a:xfrm flipV="1">
              <a:off x="4959360" y="4236840"/>
              <a:ext cx="11160" cy="442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3" name=""/>
            <p:cNvSpPr/>
            <p:nvPr/>
          </p:nvSpPr>
          <p:spPr>
            <a:xfrm>
              <a:off x="4937040" y="4335480"/>
              <a:ext cx="42840" cy="111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4" name=""/>
            <p:cNvSpPr/>
            <p:nvPr/>
          </p:nvSpPr>
          <p:spPr>
            <a:xfrm flipV="1">
              <a:off x="5013360" y="4313160"/>
              <a:ext cx="22320" cy="446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5" name=""/>
            <p:cNvSpPr/>
            <p:nvPr/>
          </p:nvSpPr>
          <p:spPr>
            <a:xfrm flipV="1">
              <a:off x="5046840" y="4225680"/>
              <a:ext cx="10800" cy="442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6" name=""/>
            <p:cNvSpPr/>
            <p:nvPr/>
          </p:nvSpPr>
          <p:spPr>
            <a:xfrm flipV="1">
              <a:off x="5068800" y="4138560"/>
              <a:ext cx="9720" cy="446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7" name=""/>
            <p:cNvSpPr/>
            <p:nvPr/>
          </p:nvSpPr>
          <p:spPr>
            <a:xfrm flipV="1">
              <a:off x="4543560" y="4084200"/>
              <a:ext cx="9360" cy="428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8" name=""/>
            <p:cNvSpPr/>
            <p:nvPr/>
          </p:nvSpPr>
          <p:spPr>
            <a:xfrm flipV="1">
              <a:off x="4564080" y="3995640"/>
              <a:ext cx="11160" cy="446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9" name=""/>
            <p:cNvSpPr/>
            <p:nvPr/>
          </p:nvSpPr>
          <p:spPr>
            <a:xfrm flipV="1">
              <a:off x="4597560" y="3908160"/>
              <a:ext cx="10800" cy="442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0" name=""/>
            <p:cNvSpPr/>
            <p:nvPr/>
          </p:nvSpPr>
          <p:spPr>
            <a:xfrm flipV="1">
              <a:off x="4619520" y="3831840"/>
              <a:ext cx="11160" cy="334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1" name=""/>
            <p:cNvSpPr/>
            <p:nvPr/>
          </p:nvSpPr>
          <p:spPr>
            <a:xfrm flipV="1">
              <a:off x="4641840" y="3755520"/>
              <a:ext cx="11160" cy="334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2" name=""/>
            <p:cNvSpPr/>
            <p:nvPr/>
          </p:nvSpPr>
          <p:spPr>
            <a:xfrm>
              <a:off x="4487760" y="4675320"/>
              <a:ext cx="44640" cy="93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3" name=""/>
            <p:cNvSpPr/>
            <p:nvPr/>
          </p:nvSpPr>
          <p:spPr>
            <a:xfrm flipH="1">
              <a:off x="4543560" y="4707000"/>
              <a:ext cx="9360" cy="442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4" name=""/>
            <p:cNvSpPr/>
            <p:nvPr/>
          </p:nvSpPr>
          <p:spPr>
            <a:xfrm flipH="1">
              <a:off x="4520880" y="4794120"/>
              <a:ext cx="11160" cy="446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5" name=""/>
            <p:cNvSpPr/>
            <p:nvPr/>
          </p:nvSpPr>
          <p:spPr>
            <a:xfrm>
              <a:off x="4543560" y="4861080"/>
              <a:ext cx="31680" cy="20520"/>
            </a:xfrm>
            <a:custGeom>
              <a:avLst/>
              <a:gdLst/>
              <a:ahLst/>
              <a:rect l="l" t="t" r="r" b="b"/>
              <a:pathLst>
                <a:path w="20" h="13">
                  <a:moveTo>
                    <a:pt x="0" y="0"/>
                  </a:moveTo>
                  <a:lnTo>
                    <a:pt x="6" y="7"/>
                  </a:lnTo>
                  <a:lnTo>
                    <a:pt x="20" y="13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6" name=""/>
            <p:cNvSpPr/>
            <p:nvPr/>
          </p:nvSpPr>
          <p:spPr>
            <a:xfrm>
              <a:off x="4619520" y="4903920"/>
              <a:ext cx="22320" cy="2196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0" y="0"/>
                  </a:moveTo>
                  <a:lnTo>
                    <a:pt x="14" y="7"/>
                  </a:lnTo>
                  <a:lnTo>
                    <a:pt x="0" y="14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7" name=""/>
            <p:cNvSpPr/>
            <p:nvPr/>
          </p:nvSpPr>
          <p:spPr>
            <a:xfrm flipV="1">
              <a:off x="4673520" y="5068440"/>
              <a:ext cx="44640" cy="9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8" name=""/>
            <p:cNvSpPr/>
            <p:nvPr/>
          </p:nvSpPr>
          <p:spPr>
            <a:xfrm flipH="1">
              <a:off x="5001840" y="4357800"/>
              <a:ext cx="11160" cy="428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9" name=""/>
            <p:cNvSpPr/>
            <p:nvPr/>
          </p:nvSpPr>
          <p:spPr>
            <a:xfrm flipH="1">
              <a:off x="4970160" y="4444920"/>
              <a:ext cx="20520" cy="428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0" name=""/>
            <p:cNvSpPr/>
            <p:nvPr/>
          </p:nvSpPr>
          <p:spPr>
            <a:xfrm flipH="1">
              <a:off x="4947840" y="4532400"/>
              <a:ext cx="11160" cy="442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1" name=""/>
            <p:cNvSpPr/>
            <p:nvPr/>
          </p:nvSpPr>
          <p:spPr>
            <a:xfrm>
              <a:off x="4937040" y="4619520"/>
              <a:ext cx="1800" cy="44640"/>
            </a:xfrm>
            <a:custGeom>
              <a:avLst/>
              <a:gdLst/>
              <a:ahLst/>
              <a:rect l="l" t="t" r="r" b="b"/>
              <a:pathLst>
                <a:path w="0" h="28">
                  <a:moveTo>
                    <a:pt x="0" y="0"/>
                  </a:moveTo>
                  <a:lnTo>
                    <a:pt x="0" y="21"/>
                  </a:lnTo>
                  <a:lnTo>
                    <a:pt x="0" y="28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2" name=""/>
            <p:cNvSpPr/>
            <p:nvPr/>
          </p:nvSpPr>
          <p:spPr>
            <a:xfrm>
              <a:off x="4948200" y="4707000"/>
              <a:ext cx="22320" cy="331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3" name=""/>
            <p:cNvSpPr/>
            <p:nvPr/>
          </p:nvSpPr>
          <p:spPr>
            <a:xfrm>
              <a:off x="4707000" y="4422600"/>
              <a:ext cx="22320" cy="44640"/>
            </a:xfrm>
            <a:custGeom>
              <a:avLst/>
              <a:gdLst/>
              <a:ahLst/>
              <a:rect l="l" t="t" r="r" b="b"/>
              <a:pathLst>
                <a:path w="14" h="28">
                  <a:moveTo>
                    <a:pt x="0" y="0"/>
                  </a:moveTo>
                  <a:lnTo>
                    <a:pt x="7" y="21"/>
                  </a:lnTo>
                  <a:lnTo>
                    <a:pt x="14" y="28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4" name=""/>
            <p:cNvSpPr/>
            <p:nvPr/>
          </p:nvSpPr>
          <p:spPr>
            <a:xfrm>
              <a:off x="4751280" y="4487760"/>
              <a:ext cx="1800" cy="446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5" name=""/>
            <p:cNvSpPr/>
            <p:nvPr/>
          </p:nvSpPr>
          <p:spPr>
            <a:xfrm>
              <a:off x="4762440" y="4565520"/>
              <a:ext cx="42840" cy="111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6" name=""/>
            <p:cNvSpPr/>
            <p:nvPr/>
          </p:nvSpPr>
          <p:spPr>
            <a:xfrm>
              <a:off x="4849920" y="4565520"/>
              <a:ext cx="20520" cy="3204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0" y="20"/>
                  </a:moveTo>
                  <a:lnTo>
                    <a:pt x="7" y="20"/>
                  </a:lnTo>
                  <a:lnTo>
                    <a:pt x="13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7" name=""/>
            <p:cNvSpPr/>
            <p:nvPr/>
          </p:nvSpPr>
          <p:spPr>
            <a:xfrm flipV="1">
              <a:off x="4881600" y="4478040"/>
              <a:ext cx="11160" cy="428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8" name=""/>
            <p:cNvSpPr/>
            <p:nvPr/>
          </p:nvSpPr>
          <p:spPr>
            <a:xfrm flipV="1">
              <a:off x="4903920" y="4389120"/>
              <a:ext cx="11160" cy="442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9" name=""/>
            <p:cNvSpPr/>
            <p:nvPr/>
          </p:nvSpPr>
          <p:spPr>
            <a:xfrm>
              <a:off x="4937040" y="4346640"/>
              <a:ext cx="180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0" name=""/>
            <p:cNvSpPr/>
            <p:nvPr/>
          </p:nvSpPr>
          <p:spPr>
            <a:xfrm>
              <a:off x="4641840" y="3340080"/>
              <a:ext cx="1440" cy="446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1" name=""/>
            <p:cNvSpPr/>
            <p:nvPr/>
          </p:nvSpPr>
          <p:spPr>
            <a:xfrm>
              <a:off x="4630680" y="3427560"/>
              <a:ext cx="1800" cy="442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2" name=""/>
            <p:cNvSpPr/>
            <p:nvPr/>
          </p:nvSpPr>
          <p:spPr>
            <a:xfrm flipV="1">
              <a:off x="4816440" y="3558960"/>
              <a:ext cx="22320" cy="428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3" name=""/>
            <p:cNvSpPr/>
            <p:nvPr/>
          </p:nvSpPr>
          <p:spPr>
            <a:xfrm flipV="1">
              <a:off x="4849920" y="3471480"/>
              <a:ext cx="1440" cy="428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4" name=""/>
            <p:cNvSpPr/>
            <p:nvPr/>
          </p:nvSpPr>
          <p:spPr>
            <a:xfrm flipV="1">
              <a:off x="4861080" y="3384360"/>
              <a:ext cx="1440" cy="428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5" name=""/>
            <p:cNvSpPr/>
            <p:nvPr/>
          </p:nvSpPr>
          <p:spPr>
            <a:xfrm flipV="1">
              <a:off x="4861080" y="3328560"/>
              <a:ext cx="1440" cy="111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6" name=""/>
            <p:cNvSpPr/>
            <p:nvPr/>
          </p:nvSpPr>
          <p:spPr>
            <a:xfrm flipV="1">
              <a:off x="4695840" y="3471480"/>
              <a:ext cx="11160" cy="428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7" name=""/>
            <p:cNvSpPr/>
            <p:nvPr/>
          </p:nvSpPr>
          <p:spPr>
            <a:xfrm>
              <a:off x="4718160" y="3438360"/>
              <a:ext cx="44280" cy="18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8" name=""/>
            <p:cNvSpPr/>
            <p:nvPr/>
          </p:nvSpPr>
          <p:spPr>
            <a:xfrm>
              <a:off x="4805280" y="3427560"/>
              <a:ext cx="22320" cy="2196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0" y="14"/>
                  </a:moveTo>
                  <a:lnTo>
                    <a:pt x="14" y="14"/>
                  </a:lnTo>
                  <a:lnTo>
                    <a:pt x="14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9" name=""/>
            <p:cNvSpPr/>
            <p:nvPr/>
          </p:nvSpPr>
          <p:spPr>
            <a:xfrm flipV="1">
              <a:off x="4827600" y="3373200"/>
              <a:ext cx="1440" cy="111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0" name=""/>
            <p:cNvSpPr/>
            <p:nvPr/>
          </p:nvSpPr>
          <p:spPr>
            <a:xfrm>
              <a:off x="4268880" y="2957400"/>
              <a:ext cx="33120" cy="22320"/>
            </a:xfrm>
            <a:custGeom>
              <a:avLst/>
              <a:gdLst/>
              <a:ahLst/>
              <a:rect l="l" t="t" r="r" b="b"/>
              <a:pathLst>
                <a:path w="21" h="14">
                  <a:moveTo>
                    <a:pt x="0" y="7"/>
                  </a:moveTo>
                  <a:lnTo>
                    <a:pt x="0" y="14"/>
                  </a:lnTo>
                  <a:lnTo>
                    <a:pt x="7" y="14"/>
                  </a:lnTo>
                  <a:lnTo>
                    <a:pt x="21" y="14"/>
                  </a:lnTo>
                  <a:lnTo>
                    <a:pt x="21" y="7"/>
                  </a:lnTo>
                  <a:lnTo>
                    <a:pt x="21" y="0"/>
                  </a:lnTo>
                  <a:lnTo>
                    <a:pt x="14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1" name=""/>
            <p:cNvSpPr/>
            <p:nvPr/>
          </p:nvSpPr>
          <p:spPr>
            <a:xfrm>
              <a:off x="5845320" y="2344680"/>
              <a:ext cx="33120" cy="33480"/>
            </a:xfrm>
            <a:custGeom>
              <a:avLst/>
              <a:gdLst/>
              <a:ahLst/>
              <a:rect l="l" t="t" r="r" b="b"/>
              <a:pathLst>
                <a:path w="21" h="21">
                  <a:moveTo>
                    <a:pt x="0" y="7"/>
                  </a:moveTo>
                  <a:lnTo>
                    <a:pt x="0" y="14"/>
                  </a:lnTo>
                  <a:lnTo>
                    <a:pt x="14" y="21"/>
                  </a:lnTo>
                  <a:lnTo>
                    <a:pt x="21" y="14"/>
                  </a:lnTo>
                  <a:lnTo>
                    <a:pt x="21" y="7"/>
                  </a:lnTo>
                  <a:lnTo>
                    <a:pt x="21" y="7"/>
                  </a:lnTo>
                  <a:lnTo>
                    <a:pt x="14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2" name=""/>
            <p:cNvSpPr/>
            <p:nvPr/>
          </p:nvSpPr>
          <p:spPr>
            <a:xfrm>
              <a:off x="6808680" y="2859120"/>
              <a:ext cx="42840" cy="44280"/>
            </a:xfrm>
            <a:custGeom>
              <a:avLst/>
              <a:gdLst/>
              <a:ahLst/>
              <a:rect l="l" t="t" r="r" b="b"/>
              <a:pathLst>
                <a:path w="27" h="28">
                  <a:moveTo>
                    <a:pt x="0" y="7"/>
                  </a:moveTo>
                  <a:lnTo>
                    <a:pt x="0" y="21"/>
                  </a:lnTo>
                  <a:lnTo>
                    <a:pt x="14" y="28"/>
                  </a:lnTo>
                  <a:lnTo>
                    <a:pt x="21" y="21"/>
                  </a:lnTo>
                  <a:lnTo>
                    <a:pt x="27" y="7"/>
                  </a:lnTo>
                  <a:lnTo>
                    <a:pt x="21" y="0"/>
                  </a:lnTo>
                  <a:lnTo>
                    <a:pt x="14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3" name=""/>
            <p:cNvSpPr/>
            <p:nvPr/>
          </p:nvSpPr>
          <p:spPr>
            <a:xfrm>
              <a:off x="6842520" y="2760840"/>
              <a:ext cx="15624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MAISA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4" name=""/>
            <p:cNvSpPr/>
            <p:nvPr/>
          </p:nvSpPr>
          <p:spPr>
            <a:xfrm>
              <a:off x="6200280" y="3209760"/>
              <a:ext cx="24012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Furna Feia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5" name=""/>
            <p:cNvSpPr/>
            <p:nvPr/>
          </p:nvSpPr>
          <p:spPr>
            <a:xfrm>
              <a:off x="6118200" y="3165480"/>
              <a:ext cx="100080" cy="65160"/>
            </a:xfrm>
            <a:custGeom>
              <a:avLst/>
              <a:gdLst/>
              <a:ahLst/>
              <a:rect l="l" t="t" r="r" b="b"/>
              <a:pathLst>
                <a:path w="63" h="41">
                  <a:moveTo>
                    <a:pt x="14" y="27"/>
                  </a:moveTo>
                  <a:lnTo>
                    <a:pt x="0" y="21"/>
                  </a:lnTo>
                  <a:lnTo>
                    <a:pt x="21" y="14"/>
                  </a:lnTo>
                  <a:lnTo>
                    <a:pt x="21" y="7"/>
                  </a:lnTo>
                  <a:lnTo>
                    <a:pt x="28" y="14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5" y="14"/>
                  </a:lnTo>
                  <a:lnTo>
                    <a:pt x="63" y="21"/>
                  </a:lnTo>
                  <a:lnTo>
                    <a:pt x="35" y="27"/>
                  </a:lnTo>
                  <a:lnTo>
                    <a:pt x="35" y="41"/>
                  </a:lnTo>
                  <a:lnTo>
                    <a:pt x="35" y="41"/>
                  </a:lnTo>
                  <a:lnTo>
                    <a:pt x="28" y="34"/>
                  </a:lnTo>
                  <a:lnTo>
                    <a:pt x="21" y="41"/>
                  </a:lnTo>
                  <a:lnTo>
                    <a:pt x="21" y="34"/>
                  </a:lnTo>
                  <a:lnTo>
                    <a:pt x="7" y="34"/>
                  </a:lnTo>
                  <a:lnTo>
                    <a:pt x="14" y="27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6" name=""/>
            <p:cNvSpPr/>
            <p:nvPr/>
          </p:nvSpPr>
          <p:spPr>
            <a:xfrm>
              <a:off x="5648400" y="2892600"/>
              <a:ext cx="54000" cy="31680"/>
            </a:xfrm>
            <a:custGeom>
              <a:avLst/>
              <a:gdLst/>
              <a:ahLst/>
              <a:rect l="l" t="t" r="r" b="b"/>
              <a:pathLst>
                <a:path w="34" h="20">
                  <a:moveTo>
                    <a:pt x="0" y="7"/>
                  </a:moveTo>
                  <a:lnTo>
                    <a:pt x="0" y="13"/>
                  </a:lnTo>
                  <a:lnTo>
                    <a:pt x="14" y="20"/>
                  </a:lnTo>
                  <a:lnTo>
                    <a:pt x="28" y="20"/>
                  </a:lnTo>
                  <a:lnTo>
                    <a:pt x="34" y="7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7" name=""/>
            <p:cNvSpPr/>
            <p:nvPr/>
          </p:nvSpPr>
          <p:spPr>
            <a:xfrm>
              <a:off x="5452920" y="2793960"/>
              <a:ext cx="21420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Vila Nova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8" name=""/>
            <p:cNvSpPr/>
            <p:nvPr/>
          </p:nvSpPr>
          <p:spPr>
            <a:xfrm>
              <a:off x="5473800" y="3263760"/>
              <a:ext cx="54000" cy="33480"/>
            </a:xfrm>
            <a:custGeom>
              <a:avLst/>
              <a:gdLst/>
              <a:ahLst/>
              <a:rect l="l" t="t" r="r" b="b"/>
              <a:pathLst>
                <a:path w="34" h="21">
                  <a:moveTo>
                    <a:pt x="0" y="7"/>
                  </a:moveTo>
                  <a:lnTo>
                    <a:pt x="7" y="21"/>
                  </a:lnTo>
                  <a:lnTo>
                    <a:pt x="20" y="21"/>
                  </a:lnTo>
                  <a:lnTo>
                    <a:pt x="34" y="21"/>
                  </a:lnTo>
                  <a:lnTo>
                    <a:pt x="34" y="14"/>
                  </a:lnTo>
                  <a:lnTo>
                    <a:pt x="34" y="7"/>
                  </a:lnTo>
                  <a:lnTo>
                    <a:pt x="20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9" name=""/>
            <p:cNvSpPr/>
            <p:nvPr/>
          </p:nvSpPr>
          <p:spPr>
            <a:xfrm>
              <a:off x="5346720" y="3187800"/>
              <a:ext cx="36648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Toca da Raposa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0" name=""/>
            <p:cNvSpPr/>
            <p:nvPr/>
          </p:nvSpPr>
          <p:spPr>
            <a:xfrm>
              <a:off x="6272280" y="4051440"/>
              <a:ext cx="54000" cy="33120"/>
            </a:xfrm>
            <a:custGeom>
              <a:avLst/>
              <a:gdLst/>
              <a:ahLst/>
              <a:rect l="l" t="t" r="r" b="b"/>
              <a:pathLst>
                <a:path w="34" h="21">
                  <a:moveTo>
                    <a:pt x="0" y="0"/>
                  </a:moveTo>
                  <a:lnTo>
                    <a:pt x="7" y="14"/>
                  </a:lnTo>
                  <a:lnTo>
                    <a:pt x="21" y="21"/>
                  </a:lnTo>
                  <a:lnTo>
                    <a:pt x="34" y="14"/>
                  </a:lnTo>
                  <a:lnTo>
                    <a:pt x="34" y="7"/>
                  </a:lnTo>
                  <a:lnTo>
                    <a:pt x="34" y="0"/>
                  </a:lnTo>
                  <a:lnTo>
                    <a:pt x="2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1" name=""/>
            <p:cNvSpPr/>
            <p:nvPr/>
          </p:nvSpPr>
          <p:spPr>
            <a:xfrm>
              <a:off x="6361920" y="4019400"/>
              <a:ext cx="17748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400" spc="-1" strike="noStrike">
                  <a:solidFill>
                    <a:srgbClr val="000000"/>
                  </a:solidFill>
                  <a:latin typeface="Arial"/>
                </a:rPr>
                <a:t>Juremal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2" name=""/>
            <p:cNvSpPr/>
            <p:nvPr/>
          </p:nvSpPr>
          <p:spPr>
            <a:xfrm>
              <a:off x="6614280" y="4183200"/>
              <a:ext cx="21420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Vertentes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3" name=""/>
            <p:cNvSpPr/>
            <p:nvPr/>
          </p:nvSpPr>
          <p:spPr>
            <a:xfrm>
              <a:off x="6534000" y="4237200"/>
              <a:ext cx="66960" cy="44280"/>
            </a:xfrm>
            <a:custGeom>
              <a:avLst/>
              <a:gdLst/>
              <a:ahLst/>
              <a:rect l="l" t="t" r="r" b="b"/>
              <a:pathLst>
                <a:path w="42" h="28">
                  <a:moveTo>
                    <a:pt x="0" y="7"/>
                  </a:moveTo>
                  <a:lnTo>
                    <a:pt x="7" y="21"/>
                  </a:lnTo>
                  <a:lnTo>
                    <a:pt x="21" y="28"/>
                  </a:lnTo>
                  <a:lnTo>
                    <a:pt x="42" y="28"/>
                  </a:lnTo>
                  <a:lnTo>
                    <a:pt x="42" y="14"/>
                  </a:lnTo>
                  <a:lnTo>
                    <a:pt x="42" y="7"/>
                  </a:lnTo>
                  <a:lnTo>
                    <a:pt x="28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4" name=""/>
            <p:cNvSpPr/>
            <p:nvPr/>
          </p:nvSpPr>
          <p:spPr>
            <a:xfrm>
              <a:off x="6567480" y="5362560"/>
              <a:ext cx="87480" cy="55440"/>
            </a:xfrm>
            <a:custGeom>
              <a:avLst/>
              <a:gdLst/>
              <a:ahLst/>
              <a:rect l="l" t="t" r="r" b="b"/>
              <a:pathLst>
                <a:path w="55" h="35">
                  <a:moveTo>
                    <a:pt x="0" y="7"/>
                  </a:moveTo>
                  <a:lnTo>
                    <a:pt x="7" y="28"/>
                  </a:lnTo>
                  <a:lnTo>
                    <a:pt x="28" y="35"/>
                  </a:lnTo>
                  <a:lnTo>
                    <a:pt x="48" y="28"/>
                  </a:lnTo>
                  <a:lnTo>
                    <a:pt x="55" y="14"/>
                  </a:lnTo>
                  <a:lnTo>
                    <a:pt x="48" y="7"/>
                  </a:lnTo>
                  <a:lnTo>
                    <a:pt x="35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5" name=""/>
            <p:cNvSpPr/>
            <p:nvPr/>
          </p:nvSpPr>
          <p:spPr>
            <a:xfrm>
              <a:off x="6629400" y="5288040"/>
              <a:ext cx="40320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Barreira Vermelha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6" name=""/>
            <p:cNvSpPr/>
            <p:nvPr/>
          </p:nvSpPr>
          <p:spPr>
            <a:xfrm>
              <a:off x="3133080" y="5724360"/>
              <a:ext cx="29808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Baixa Branca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7" name=""/>
            <p:cNvSpPr/>
            <p:nvPr/>
          </p:nvSpPr>
          <p:spPr>
            <a:xfrm>
              <a:off x="3218040" y="5691240"/>
              <a:ext cx="55440" cy="33120"/>
            </a:xfrm>
            <a:custGeom>
              <a:avLst/>
              <a:gdLst/>
              <a:ahLst/>
              <a:rect l="l" t="t" r="r" b="b"/>
              <a:pathLst>
                <a:path w="35" h="21">
                  <a:moveTo>
                    <a:pt x="0" y="0"/>
                  </a:moveTo>
                  <a:lnTo>
                    <a:pt x="7" y="14"/>
                  </a:lnTo>
                  <a:lnTo>
                    <a:pt x="21" y="21"/>
                  </a:lnTo>
                  <a:lnTo>
                    <a:pt x="35" y="14"/>
                  </a:lnTo>
                  <a:lnTo>
                    <a:pt x="35" y="7"/>
                  </a:lnTo>
                  <a:lnTo>
                    <a:pt x="35" y="0"/>
                  </a:lnTo>
                  <a:lnTo>
                    <a:pt x="2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8" name=""/>
            <p:cNvSpPr/>
            <p:nvPr/>
          </p:nvSpPr>
          <p:spPr>
            <a:xfrm>
              <a:off x="3009960" y="4740120"/>
              <a:ext cx="55440" cy="33480"/>
            </a:xfrm>
            <a:custGeom>
              <a:avLst/>
              <a:gdLst/>
              <a:ahLst/>
              <a:rect l="l" t="t" r="r" b="b"/>
              <a:pathLst>
                <a:path w="35" h="21">
                  <a:moveTo>
                    <a:pt x="0" y="7"/>
                  </a:moveTo>
                  <a:lnTo>
                    <a:pt x="0" y="14"/>
                  </a:lnTo>
                  <a:lnTo>
                    <a:pt x="14" y="21"/>
                  </a:lnTo>
                  <a:lnTo>
                    <a:pt x="28" y="21"/>
                  </a:lnTo>
                  <a:lnTo>
                    <a:pt x="35" y="7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9" name=""/>
            <p:cNvSpPr/>
            <p:nvPr/>
          </p:nvSpPr>
          <p:spPr>
            <a:xfrm>
              <a:off x="2978280" y="4324320"/>
              <a:ext cx="54000" cy="33480"/>
            </a:xfrm>
            <a:custGeom>
              <a:avLst/>
              <a:gdLst/>
              <a:ahLst/>
              <a:rect l="l" t="t" r="r" b="b"/>
              <a:pathLst>
                <a:path w="34" h="21">
                  <a:moveTo>
                    <a:pt x="0" y="7"/>
                  </a:moveTo>
                  <a:lnTo>
                    <a:pt x="0" y="21"/>
                  </a:lnTo>
                  <a:lnTo>
                    <a:pt x="13" y="21"/>
                  </a:lnTo>
                  <a:lnTo>
                    <a:pt x="27" y="21"/>
                  </a:lnTo>
                  <a:lnTo>
                    <a:pt x="34" y="14"/>
                  </a:lnTo>
                  <a:lnTo>
                    <a:pt x="27" y="7"/>
                  </a:lnTo>
                  <a:lnTo>
                    <a:pt x="20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0" name=""/>
            <p:cNvSpPr/>
            <p:nvPr/>
          </p:nvSpPr>
          <p:spPr>
            <a:xfrm>
              <a:off x="3044520" y="4270320"/>
              <a:ext cx="13032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400" spc="-1" strike="noStrike">
                  <a:solidFill>
                    <a:srgbClr val="000000"/>
                  </a:solidFill>
                  <a:latin typeface="Arial"/>
                </a:rPr>
                <a:t>Ubaia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1" name=""/>
            <p:cNvSpPr/>
            <p:nvPr/>
          </p:nvSpPr>
          <p:spPr>
            <a:xfrm>
              <a:off x="3066840" y="4675320"/>
              <a:ext cx="15912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Maxixe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2" name=""/>
            <p:cNvSpPr/>
            <p:nvPr/>
          </p:nvSpPr>
          <p:spPr>
            <a:xfrm>
              <a:off x="3034440" y="3232080"/>
              <a:ext cx="30996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Bom Sucesso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3" name=""/>
            <p:cNvSpPr/>
            <p:nvPr/>
          </p:nvSpPr>
          <p:spPr>
            <a:xfrm>
              <a:off x="3097080" y="3306600"/>
              <a:ext cx="55800" cy="33480"/>
            </a:xfrm>
            <a:custGeom>
              <a:avLst/>
              <a:gdLst/>
              <a:ahLst/>
              <a:rect l="l" t="t" r="r" b="b"/>
              <a:pathLst>
                <a:path w="35" h="21">
                  <a:moveTo>
                    <a:pt x="0" y="7"/>
                  </a:moveTo>
                  <a:lnTo>
                    <a:pt x="0" y="14"/>
                  </a:lnTo>
                  <a:lnTo>
                    <a:pt x="14" y="21"/>
                  </a:lnTo>
                  <a:lnTo>
                    <a:pt x="28" y="21"/>
                  </a:lnTo>
                  <a:lnTo>
                    <a:pt x="35" y="7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4" name=""/>
            <p:cNvSpPr/>
            <p:nvPr/>
          </p:nvSpPr>
          <p:spPr>
            <a:xfrm>
              <a:off x="4718160" y="4346640"/>
              <a:ext cx="54000" cy="33120"/>
            </a:xfrm>
            <a:custGeom>
              <a:avLst/>
              <a:gdLst/>
              <a:ahLst/>
              <a:rect l="l" t="t" r="r" b="b"/>
              <a:pathLst>
                <a:path w="34" h="21">
                  <a:moveTo>
                    <a:pt x="0" y="0"/>
                  </a:moveTo>
                  <a:lnTo>
                    <a:pt x="0" y="14"/>
                  </a:lnTo>
                  <a:lnTo>
                    <a:pt x="14" y="21"/>
                  </a:lnTo>
                  <a:lnTo>
                    <a:pt x="28" y="14"/>
                  </a:lnTo>
                  <a:lnTo>
                    <a:pt x="34" y="7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5" name=""/>
            <p:cNvSpPr/>
            <p:nvPr/>
          </p:nvSpPr>
          <p:spPr>
            <a:xfrm>
              <a:off x="4634640" y="4259160"/>
              <a:ext cx="25380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Catingueira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6" name=""/>
            <p:cNvSpPr/>
            <p:nvPr/>
          </p:nvSpPr>
          <p:spPr>
            <a:xfrm>
              <a:off x="5364000" y="4653000"/>
              <a:ext cx="54000" cy="31680"/>
            </a:xfrm>
            <a:custGeom>
              <a:avLst/>
              <a:gdLst/>
              <a:ahLst/>
              <a:rect l="l" t="t" r="r" b="b"/>
              <a:pathLst>
                <a:path w="34" h="20">
                  <a:moveTo>
                    <a:pt x="0" y="7"/>
                  </a:moveTo>
                  <a:lnTo>
                    <a:pt x="7" y="20"/>
                  </a:lnTo>
                  <a:lnTo>
                    <a:pt x="20" y="20"/>
                  </a:lnTo>
                  <a:lnTo>
                    <a:pt x="34" y="20"/>
                  </a:lnTo>
                  <a:lnTo>
                    <a:pt x="34" y="14"/>
                  </a:lnTo>
                  <a:lnTo>
                    <a:pt x="34" y="7"/>
                  </a:lnTo>
                  <a:lnTo>
                    <a:pt x="20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7" name=""/>
            <p:cNvSpPr/>
            <p:nvPr/>
          </p:nvSpPr>
          <p:spPr>
            <a:xfrm>
              <a:off x="5442840" y="4576680"/>
              <a:ext cx="21852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Boa Água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8" name=""/>
            <p:cNvSpPr/>
            <p:nvPr/>
          </p:nvSpPr>
          <p:spPr>
            <a:xfrm>
              <a:off x="4662360" y="5373720"/>
              <a:ext cx="55800" cy="33480"/>
            </a:xfrm>
            <a:custGeom>
              <a:avLst/>
              <a:gdLst/>
              <a:ahLst/>
              <a:rect l="l" t="t" r="r" b="b"/>
              <a:pathLst>
                <a:path w="35" h="21">
                  <a:moveTo>
                    <a:pt x="0" y="0"/>
                  </a:moveTo>
                  <a:lnTo>
                    <a:pt x="7" y="14"/>
                  </a:lnTo>
                  <a:lnTo>
                    <a:pt x="21" y="21"/>
                  </a:lnTo>
                  <a:lnTo>
                    <a:pt x="35" y="21"/>
                  </a:lnTo>
                  <a:lnTo>
                    <a:pt x="35" y="7"/>
                  </a:lnTo>
                  <a:lnTo>
                    <a:pt x="35" y="0"/>
                  </a:lnTo>
                  <a:lnTo>
                    <a:pt x="2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9" name=""/>
            <p:cNvSpPr/>
            <p:nvPr/>
          </p:nvSpPr>
          <p:spPr>
            <a:xfrm>
              <a:off x="4523040" y="5308560"/>
              <a:ext cx="14688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Canaã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0" name=""/>
            <p:cNvSpPr/>
            <p:nvPr/>
          </p:nvSpPr>
          <p:spPr>
            <a:xfrm>
              <a:off x="4347000" y="3767040"/>
              <a:ext cx="16848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400" spc="-1" strike="noStrike">
                  <a:solidFill>
                    <a:srgbClr val="000000"/>
                  </a:solidFill>
                  <a:latin typeface="Arial"/>
                </a:rPr>
                <a:t>Velame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1" name=""/>
            <p:cNvSpPr/>
            <p:nvPr/>
          </p:nvSpPr>
          <p:spPr>
            <a:xfrm>
              <a:off x="4261320" y="4019400"/>
              <a:ext cx="24012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Sumidouro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2" name=""/>
            <p:cNvSpPr/>
            <p:nvPr/>
          </p:nvSpPr>
          <p:spPr>
            <a:xfrm>
              <a:off x="5825160" y="2270160"/>
              <a:ext cx="28116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Pico Estreito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3" name=""/>
            <p:cNvSpPr/>
            <p:nvPr/>
          </p:nvSpPr>
          <p:spPr>
            <a:xfrm>
              <a:off x="4630680" y="2629080"/>
              <a:ext cx="54000" cy="33120"/>
            </a:xfrm>
            <a:custGeom>
              <a:avLst/>
              <a:gdLst/>
              <a:ahLst/>
              <a:rect l="l" t="t" r="r" b="b"/>
              <a:pathLst>
                <a:path w="34" h="21">
                  <a:moveTo>
                    <a:pt x="0" y="7"/>
                  </a:moveTo>
                  <a:lnTo>
                    <a:pt x="0" y="14"/>
                  </a:lnTo>
                  <a:lnTo>
                    <a:pt x="14" y="21"/>
                  </a:lnTo>
                  <a:lnTo>
                    <a:pt x="27" y="21"/>
                  </a:lnTo>
                  <a:lnTo>
                    <a:pt x="34" y="7"/>
                  </a:lnTo>
                  <a:lnTo>
                    <a:pt x="27" y="0"/>
                  </a:lnTo>
                  <a:lnTo>
                    <a:pt x="20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4" name=""/>
            <p:cNvSpPr/>
            <p:nvPr/>
          </p:nvSpPr>
          <p:spPr>
            <a:xfrm>
              <a:off x="4501440" y="2543040"/>
              <a:ext cx="14868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400" spc="-1" strike="noStrike">
                  <a:solidFill>
                    <a:srgbClr val="000000"/>
                  </a:solidFill>
                  <a:latin typeface="Arial"/>
                </a:rPr>
                <a:t>Lajeiro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5" name=""/>
            <p:cNvSpPr/>
            <p:nvPr/>
          </p:nvSpPr>
          <p:spPr>
            <a:xfrm>
              <a:off x="5035680" y="3022560"/>
              <a:ext cx="54000" cy="33480"/>
            </a:xfrm>
            <a:custGeom>
              <a:avLst/>
              <a:gdLst/>
              <a:ahLst/>
              <a:rect l="l" t="t" r="r" b="b"/>
              <a:pathLst>
                <a:path w="34" h="21">
                  <a:moveTo>
                    <a:pt x="0" y="7"/>
                  </a:moveTo>
                  <a:lnTo>
                    <a:pt x="7" y="21"/>
                  </a:lnTo>
                  <a:lnTo>
                    <a:pt x="21" y="21"/>
                  </a:lnTo>
                  <a:lnTo>
                    <a:pt x="34" y="21"/>
                  </a:lnTo>
                  <a:lnTo>
                    <a:pt x="34" y="7"/>
                  </a:lnTo>
                  <a:lnTo>
                    <a:pt x="27" y="7"/>
                  </a:lnTo>
                  <a:lnTo>
                    <a:pt x="21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6" name=""/>
            <p:cNvSpPr/>
            <p:nvPr/>
          </p:nvSpPr>
          <p:spPr>
            <a:xfrm>
              <a:off x="4679280" y="3035160"/>
              <a:ext cx="34524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Furna de Pedra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7" name=""/>
            <p:cNvSpPr/>
            <p:nvPr/>
          </p:nvSpPr>
          <p:spPr>
            <a:xfrm>
              <a:off x="4219920" y="2990880"/>
              <a:ext cx="26424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Formigueiro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8" name=""/>
            <p:cNvSpPr/>
            <p:nvPr/>
          </p:nvSpPr>
          <p:spPr>
            <a:xfrm>
              <a:off x="4532400" y="3405240"/>
              <a:ext cx="54000" cy="44280"/>
            </a:xfrm>
            <a:custGeom>
              <a:avLst/>
              <a:gdLst/>
              <a:ahLst/>
              <a:rect l="l" t="t" r="r" b="b"/>
              <a:pathLst>
                <a:path w="34" h="28">
                  <a:moveTo>
                    <a:pt x="0" y="7"/>
                  </a:moveTo>
                  <a:lnTo>
                    <a:pt x="7" y="21"/>
                  </a:lnTo>
                  <a:lnTo>
                    <a:pt x="20" y="28"/>
                  </a:lnTo>
                  <a:lnTo>
                    <a:pt x="34" y="21"/>
                  </a:lnTo>
                  <a:lnTo>
                    <a:pt x="34" y="14"/>
                  </a:lnTo>
                  <a:lnTo>
                    <a:pt x="27" y="7"/>
                  </a:lnTo>
                  <a:lnTo>
                    <a:pt x="20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9" name=""/>
            <p:cNvSpPr/>
            <p:nvPr/>
          </p:nvSpPr>
          <p:spPr>
            <a:xfrm>
              <a:off x="4401720" y="3449520"/>
              <a:ext cx="16236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Currais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0" name=""/>
            <p:cNvSpPr/>
            <p:nvPr/>
          </p:nvSpPr>
          <p:spPr>
            <a:xfrm>
              <a:off x="3929040" y="4172040"/>
              <a:ext cx="55440" cy="31680"/>
            </a:xfrm>
            <a:custGeom>
              <a:avLst/>
              <a:gdLst/>
              <a:ahLst/>
              <a:rect l="l" t="t" r="r" b="b"/>
              <a:pathLst>
                <a:path w="35" h="20">
                  <a:moveTo>
                    <a:pt x="0" y="7"/>
                  </a:moveTo>
                  <a:lnTo>
                    <a:pt x="0" y="20"/>
                  </a:lnTo>
                  <a:lnTo>
                    <a:pt x="14" y="20"/>
                  </a:lnTo>
                  <a:lnTo>
                    <a:pt x="28" y="20"/>
                  </a:lnTo>
                  <a:lnTo>
                    <a:pt x="35" y="7"/>
                  </a:lnTo>
                  <a:lnTo>
                    <a:pt x="28" y="7"/>
                  </a:lnTo>
                  <a:lnTo>
                    <a:pt x="21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1" name=""/>
            <p:cNvSpPr/>
            <p:nvPr/>
          </p:nvSpPr>
          <p:spPr>
            <a:xfrm>
              <a:off x="3746520" y="4084560"/>
              <a:ext cx="20952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Mato Alto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2" name=""/>
            <p:cNvSpPr/>
            <p:nvPr/>
          </p:nvSpPr>
          <p:spPr>
            <a:xfrm>
              <a:off x="5133960" y="4290840"/>
              <a:ext cx="54000" cy="33480"/>
            </a:xfrm>
            <a:custGeom>
              <a:avLst/>
              <a:gdLst/>
              <a:ahLst/>
              <a:rect l="l" t="t" r="r" b="b"/>
              <a:pathLst>
                <a:path w="34" h="21">
                  <a:moveTo>
                    <a:pt x="0" y="7"/>
                  </a:moveTo>
                  <a:lnTo>
                    <a:pt x="7" y="21"/>
                  </a:lnTo>
                  <a:lnTo>
                    <a:pt x="21" y="21"/>
                  </a:lnTo>
                  <a:lnTo>
                    <a:pt x="34" y="21"/>
                  </a:lnTo>
                  <a:lnTo>
                    <a:pt x="34" y="14"/>
                  </a:lnTo>
                  <a:lnTo>
                    <a:pt x="28" y="7"/>
                  </a:lnTo>
                  <a:lnTo>
                    <a:pt x="21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3" name=""/>
            <p:cNvSpPr/>
            <p:nvPr/>
          </p:nvSpPr>
          <p:spPr>
            <a:xfrm>
              <a:off x="5051880" y="4335480"/>
              <a:ext cx="34200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Vereda do Anel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4" name=""/>
            <p:cNvSpPr/>
            <p:nvPr/>
          </p:nvSpPr>
          <p:spPr>
            <a:xfrm>
              <a:off x="5527800" y="3876840"/>
              <a:ext cx="55440" cy="31680"/>
            </a:xfrm>
            <a:custGeom>
              <a:avLst/>
              <a:gdLst/>
              <a:ahLst/>
              <a:rect l="l" t="t" r="r" b="b"/>
              <a:pathLst>
                <a:path w="35" h="20">
                  <a:moveTo>
                    <a:pt x="0" y="7"/>
                  </a:moveTo>
                  <a:lnTo>
                    <a:pt x="0" y="20"/>
                  </a:lnTo>
                  <a:lnTo>
                    <a:pt x="14" y="20"/>
                  </a:lnTo>
                  <a:lnTo>
                    <a:pt x="28" y="20"/>
                  </a:lnTo>
                  <a:lnTo>
                    <a:pt x="35" y="7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5" name=""/>
            <p:cNvSpPr/>
            <p:nvPr/>
          </p:nvSpPr>
          <p:spPr>
            <a:xfrm>
              <a:off x="5576040" y="3811680"/>
              <a:ext cx="29340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Moinho Novo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6" name=""/>
            <p:cNvSpPr/>
            <p:nvPr/>
          </p:nvSpPr>
          <p:spPr>
            <a:xfrm>
              <a:off x="5187960" y="5680080"/>
              <a:ext cx="55440" cy="33480"/>
            </a:xfrm>
            <a:custGeom>
              <a:avLst/>
              <a:gdLst/>
              <a:ahLst/>
              <a:rect l="l" t="t" r="r" b="b"/>
              <a:pathLst>
                <a:path w="35" h="21">
                  <a:moveTo>
                    <a:pt x="0" y="7"/>
                  </a:moveTo>
                  <a:lnTo>
                    <a:pt x="7" y="21"/>
                  </a:lnTo>
                  <a:lnTo>
                    <a:pt x="21" y="21"/>
                  </a:lnTo>
                  <a:lnTo>
                    <a:pt x="35" y="21"/>
                  </a:lnTo>
                  <a:lnTo>
                    <a:pt x="35" y="14"/>
                  </a:lnTo>
                  <a:lnTo>
                    <a:pt x="35" y="7"/>
                  </a:lnTo>
                  <a:lnTo>
                    <a:pt x="21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7" name=""/>
            <p:cNvSpPr/>
            <p:nvPr/>
          </p:nvSpPr>
          <p:spPr>
            <a:xfrm>
              <a:off x="5160240" y="5746680"/>
              <a:ext cx="25992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Trinta e Um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8" name=""/>
            <p:cNvSpPr/>
            <p:nvPr/>
          </p:nvSpPr>
          <p:spPr>
            <a:xfrm>
              <a:off x="3054240" y="3778200"/>
              <a:ext cx="54000" cy="31680"/>
            </a:xfrm>
            <a:custGeom>
              <a:avLst/>
              <a:gdLst/>
              <a:ahLst/>
              <a:rect l="l" t="t" r="r" b="b"/>
              <a:pathLst>
                <a:path w="34" h="20">
                  <a:moveTo>
                    <a:pt x="0" y="7"/>
                  </a:moveTo>
                  <a:lnTo>
                    <a:pt x="7" y="20"/>
                  </a:lnTo>
                  <a:lnTo>
                    <a:pt x="21" y="20"/>
                  </a:lnTo>
                  <a:lnTo>
                    <a:pt x="34" y="20"/>
                  </a:lnTo>
                  <a:lnTo>
                    <a:pt x="34" y="13"/>
                  </a:lnTo>
                  <a:lnTo>
                    <a:pt x="34" y="7"/>
                  </a:lnTo>
                  <a:lnTo>
                    <a:pt x="21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9" name=""/>
            <p:cNvSpPr/>
            <p:nvPr/>
          </p:nvSpPr>
          <p:spPr>
            <a:xfrm>
              <a:off x="3069000" y="3679920"/>
              <a:ext cx="31320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Baixa do Félix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0" name=""/>
            <p:cNvSpPr/>
            <p:nvPr/>
          </p:nvSpPr>
          <p:spPr>
            <a:xfrm>
              <a:off x="3711600" y="2935440"/>
              <a:ext cx="31680" cy="21960"/>
            </a:xfrm>
            <a:custGeom>
              <a:avLst/>
              <a:gdLst/>
              <a:ahLst/>
              <a:rect l="l" t="t" r="r" b="b"/>
              <a:pathLst>
                <a:path w="20" h="14">
                  <a:moveTo>
                    <a:pt x="20" y="14"/>
                  </a:moveTo>
                  <a:lnTo>
                    <a:pt x="6" y="7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1" name=""/>
            <p:cNvSpPr/>
            <p:nvPr/>
          </p:nvSpPr>
          <p:spPr>
            <a:xfrm>
              <a:off x="3633840" y="2881440"/>
              <a:ext cx="44280" cy="31680"/>
            </a:xfrm>
            <a:custGeom>
              <a:avLst/>
              <a:gdLst/>
              <a:ahLst/>
              <a:rect l="l" t="t" r="r" b="b"/>
              <a:pathLst>
                <a:path w="28" h="20">
                  <a:moveTo>
                    <a:pt x="28" y="20"/>
                  </a:moveTo>
                  <a:lnTo>
                    <a:pt x="7" y="7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2" name=""/>
            <p:cNvSpPr/>
            <p:nvPr/>
          </p:nvSpPr>
          <p:spPr>
            <a:xfrm>
              <a:off x="3546360" y="2859120"/>
              <a:ext cx="44640" cy="11160"/>
            </a:xfrm>
            <a:custGeom>
              <a:avLst/>
              <a:gdLst/>
              <a:ahLst/>
              <a:rect l="l" t="t" r="r" b="b"/>
              <a:pathLst>
                <a:path w="28" h="7">
                  <a:moveTo>
                    <a:pt x="28" y="7"/>
                  </a:moveTo>
                  <a:lnTo>
                    <a:pt x="21" y="7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3" name=""/>
            <p:cNvSpPr/>
            <p:nvPr/>
          </p:nvSpPr>
          <p:spPr>
            <a:xfrm>
              <a:off x="3481560" y="2814480"/>
              <a:ext cx="31680" cy="33480"/>
            </a:xfrm>
            <a:custGeom>
              <a:avLst/>
              <a:gdLst/>
              <a:ahLst/>
              <a:rect l="l" t="t" r="r" b="b"/>
              <a:pathLst>
                <a:path w="20" h="21">
                  <a:moveTo>
                    <a:pt x="20" y="21"/>
                  </a:moveTo>
                  <a:lnTo>
                    <a:pt x="14" y="14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4" name=""/>
            <p:cNvSpPr/>
            <p:nvPr/>
          </p:nvSpPr>
          <p:spPr>
            <a:xfrm flipH="1" flipV="1">
              <a:off x="3425760" y="2738160"/>
              <a:ext cx="22320" cy="442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5" name=""/>
            <p:cNvSpPr/>
            <p:nvPr/>
          </p:nvSpPr>
          <p:spPr>
            <a:xfrm flipH="1" flipV="1">
              <a:off x="3382920" y="2695320"/>
              <a:ext cx="22320" cy="111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6" name=""/>
            <p:cNvSpPr/>
            <p:nvPr/>
          </p:nvSpPr>
          <p:spPr>
            <a:xfrm>
              <a:off x="3732120" y="3395520"/>
              <a:ext cx="22320" cy="32040"/>
            </a:xfrm>
            <a:custGeom>
              <a:avLst/>
              <a:gdLst/>
              <a:ahLst/>
              <a:rect l="l" t="t" r="r" b="b"/>
              <a:pathLst>
                <a:path w="14" h="20">
                  <a:moveTo>
                    <a:pt x="0" y="0"/>
                  </a:moveTo>
                  <a:lnTo>
                    <a:pt x="0" y="13"/>
                  </a:lnTo>
                  <a:lnTo>
                    <a:pt x="0" y="20"/>
                  </a:lnTo>
                  <a:lnTo>
                    <a:pt x="14" y="2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7" name=""/>
            <p:cNvSpPr/>
            <p:nvPr/>
          </p:nvSpPr>
          <p:spPr>
            <a:xfrm>
              <a:off x="3798720" y="3416400"/>
              <a:ext cx="32040" cy="11160"/>
            </a:xfrm>
            <a:custGeom>
              <a:avLst/>
              <a:gdLst/>
              <a:ahLst/>
              <a:rect l="l" t="t" r="r" b="b"/>
              <a:pathLst>
                <a:path w="20" h="7">
                  <a:moveTo>
                    <a:pt x="0" y="7"/>
                  </a:moveTo>
                  <a:lnTo>
                    <a:pt x="0" y="7"/>
                  </a:lnTo>
                  <a:lnTo>
                    <a:pt x="2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8" name=""/>
            <p:cNvSpPr/>
            <p:nvPr/>
          </p:nvSpPr>
          <p:spPr>
            <a:xfrm>
              <a:off x="3875040" y="3405240"/>
              <a:ext cx="44640" cy="11160"/>
            </a:xfrm>
            <a:custGeom>
              <a:avLst/>
              <a:gdLst/>
              <a:ahLst/>
              <a:rect l="l" t="t" r="r" b="b"/>
              <a:pathLst>
                <a:path w="28" h="7">
                  <a:moveTo>
                    <a:pt x="0" y="0"/>
                  </a:moveTo>
                  <a:lnTo>
                    <a:pt x="7" y="0"/>
                  </a:lnTo>
                  <a:lnTo>
                    <a:pt x="14" y="0"/>
                  </a:lnTo>
                  <a:lnTo>
                    <a:pt x="28" y="7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9" name=""/>
            <p:cNvSpPr/>
            <p:nvPr/>
          </p:nvSpPr>
          <p:spPr>
            <a:xfrm>
              <a:off x="3962520" y="3427560"/>
              <a:ext cx="44280" cy="1440"/>
            </a:xfrm>
            <a:custGeom>
              <a:avLst/>
              <a:gdLst/>
              <a:ahLst/>
              <a:rect l="l" t="t" r="r" b="b"/>
              <a:pathLst>
                <a:path w="28" h="0">
                  <a:moveTo>
                    <a:pt x="0" y="0"/>
                  </a:moveTo>
                  <a:lnTo>
                    <a:pt x="21" y="0"/>
                  </a:lnTo>
                  <a:lnTo>
                    <a:pt x="28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0" name=""/>
            <p:cNvSpPr/>
            <p:nvPr/>
          </p:nvSpPr>
          <p:spPr>
            <a:xfrm>
              <a:off x="4049640" y="3416400"/>
              <a:ext cx="44640" cy="11160"/>
            </a:xfrm>
            <a:custGeom>
              <a:avLst/>
              <a:gdLst/>
              <a:ahLst/>
              <a:rect l="l" t="t" r="r" b="b"/>
              <a:pathLst>
                <a:path w="28" h="7">
                  <a:moveTo>
                    <a:pt x="0" y="7"/>
                  </a:moveTo>
                  <a:lnTo>
                    <a:pt x="21" y="7"/>
                  </a:lnTo>
                  <a:lnTo>
                    <a:pt x="28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1" name=""/>
            <p:cNvSpPr/>
            <p:nvPr/>
          </p:nvSpPr>
          <p:spPr>
            <a:xfrm>
              <a:off x="4137120" y="3362400"/>
              <a:ext cx="21960" cy="33120"/>
            </a:xfrm>
            <a:custGeom>
              <a:avLst/>
              <a:gdLst/>
              <a:ahLst/>
              <a:rect l="l" t="t" r="r" b="b"/>
              <a:pathLst>
                <a:path w="14" h="21">
                  <a:moveTo>
                    <a:pt x="0" y="21"/>
                  </a:moveTo>
                  <a:lnTo>
                    <a:pt x="0" y="21"/>
                  </a:lnTo>
                  <a:lnTo>
                    <a:pt x="14" y="0"/>
                  </a:lnTo>
                  <a:lnTo>
                    <a:pt x="14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2" name=""/>
            <p:cNvSpPr/>
            <p:nvPr/>
          </p:nvSpPr>
          <p:spPr>
            <a:xfrm>
              <a:off x="4203720" y="3362400"/>
              <a:ext cx="4284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3" name=""/>
            <p:cNvSpPr/>
            <p:nvPr/>
          </p:nvSpPr>
          <p:spPr>
            <a:xfrm>
              <a:off x="4290840" y="3373560"/>
              <a:ext cx="44640" cy="111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4" name=""/>
            <p:cNvSpPr/>
            <p:nvPr/>
          </p:nvSpPr>
          <p:spPr>
            <a:xfrm>
              <a:off x="4378320" y="3384720"/>
              <a:ext cx="44280" cy="108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5" name=""/>
            <p:cNvSpPr/>
            <p:nvPr/>
          </p:nvSpPr>
          <p:spPr>
            <a:xfrm>
              <a:off x="4465800" y="3395520"/>
              <a:ext cx="44280" cy="9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6" name=""/>
            <p:cNvSpPr/>
            <p:nvPr/>
          </p:nvSpPr>
          <p:spPr>
            <a:xfrm rot="900000">
              <a:off x="6890760" y="4229280"/>
              <a:ext cx="3420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7" name=""/>
            <p:cNvSpPr/>
            <p:nvPr/>
          </p:nvSpPr>
          <p:spPr>
            <a:xfrm rot="900000">
              <a:off x="6926040" y="4238640"/>
              <a:ext cx="1440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8" name=""/>
            <p:cNvSpPr/>
            <p:nvPr/>
          </p:nvSpPr>
          <p:spPr>
            <a:xfrm rot="900000">
              <a:off x="6936840" y="4238640"/>
              <a:ext cx="1440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9" name=""/>
            <p:cNvSpPr/>
            <p:nvPr/>
          </p:nvSpPr>
          <p:spPr>
            <a:xfrm rot="900000">
              <a:off x="6956640" y="4254480"/>
              <a:ext cx="4176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0" name=""/>
            <p:cNvSpPr/>
            <p:nvPr/>
          </p:nvSpPr>
          <p:spPr>
            <a:xfrm rot="900000">
              <a:off x="6989400" y="4262400"/>
              <a:ext cx="2808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1" name=""/>
            <p:cNvSpPr/>
            <p:nvPr/>
          </p:nvSpPr>
          <p:spPr>
            <a:xfrm rot="900000">
              <a:off x="7022160" y="4262040"/>
              <a:ext cx="2664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2" name=""/>
            <p:cNvSpPr/>
            <p:nvPr/>
          </p:nvSpPr>
          <p:spPr>
            <a:xfrm rot="900000">
              <a:off x="7044480" y="4273560"/>
              <a:ext cx="2664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3" name=""/>
            <p:cNvSpPr/>
            <p:nvPr/>
          </p:nvSpPr>
          <p:spPr>
            <a:xfrm rot="900000">
              <a:off x="7065720" y="4284720"/>
              <a:ext cx="2808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4" name=""/>
            <p:cNvSpPr/>
            <p:nvPr/>
          </p:nvSpPr>
          <p:spPr>
            <a:xfrm rot="900000">
              <a:off x="7098840" y="4284720"/>
              <a:ext cx="1764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5" name=""/>
            <p:cNvSpPr/>
            <p:nvPr/>
          </p:nvSpPr>
          <p:spPr>
            <a:xfrm rot="900000">
              <a:off x="7110360" y="4295520"/>
              <a:ext cx="2808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ó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6" name=""/>
            <p:cNvSpPr/>
            <p:nvPr/>
          </p:nvSpPr>
          <p:spPr>
            <a:xfrm rot="900000">
              <a:off x="7144920" y="4294080"/>
              <a:ext cx="1440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7" name=""/>
            <p:cNvSpPr/>
            <p:nvPr/>
          </p:nvSpPr>
          <p:spPr>
            <a:xfrm rot="900000">
              <a:off x="7154640" y="4307040"/>
              <a:ext cx="1764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8" name=""/>
            <p:cNvSpPr/>
            <p:nvPr/>
          </p:nvSpPr>
          <p:spPr>
            <a:xfrm rot="900000">
              <a:off x="7164000" y="4307040"/>
              <a:ext cx="2808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9" name=""/>
            <p:cNvSpPr/>
            <p:nvPr/>
          </p:nvSpPr>
          <p:spPr>
            <a:xfrm rot="900000">
              <a:off x="7197480" y="4317840"/>
              <a:ext cx="2808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0" name=""/>
            <p:cNvSpPr/>
            <p:nvPr/>
          </p:nvSpPr>
          <p:spPr>
            <a:xfrm rot="900000">
              <a:off x="7221240" y="4316400"/>
              <a:ext cx="1440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1" name=""/>
            <p:cNvSpPr/>
            <p:nvPr/>
          </p:nvSpPr>
          <p:spPr>
            <a:xfrm rot="900000">
              <a:off x="7241400" y="4327560"/>
              <a:ext cx="2664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2" name=""/>
            <p:cNvSpPr/>
            <p:nvPr/>
          </p:nvSpPr>
          <p:spPr>
            <a:xfrm rot="900000">
              <a:off x="7264440" y="4330800"/>
              <a:ext cx="4176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3" name=""/>
            <p:cNvSpPr/>
            <p:nvPr/>
          </p:nvSpPr>
          <p:spPr>
            <a:xfrm rot="900000">
              <a:off x="7295760" y="4338720"/>
              <a:ext cx="1764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4" name=""/>
            <p:cNvSpPr/>
            <p:nvPr/>
          </p:nvSpPr>
          <p:spPr>
            <a:xfrm>
              <a:off x="6950160" y="4389480"/>
              <a:ext cx="187200" cy="44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5" name=""/>
            <p:cNvSpPr/>
            <p:nvPr/>
          </p:nvSpPr>
          <p:spPr>
            <a:xfrm>
              <a:off x="7059600" y="4368960"/>
              <a:ext cx="77760" cy="64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6" name=""/>
            <p:cNvSpPr/>
            <p:nvPr/>
          </p:nvSpPr>
          <p:spPr>
            <a:xfrm flipV="1">
              <a:off x="7039080" y="4433760"/>
              <a:ext cx="98280" cy="22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7" name=""/>
            <p:cNvSpPr/>
            <p:nvPr/>
          </p:nvSpPr>
          <p:spPr>
            <a:xfrm rot="21540000">
              <a:off x="2263320" y="3633840"/>
              <a:ext cx="3420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8" name=""/>
            <p:cNvSpPr/>
            <p:nvPr/>
          </p:nvSpPr>
          <p:spPr>
            <a:xfrm rot="21540000">
              <a:off x="2297160" y="3633480"/>
              <a:ext cx="1440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9" name=""/>
            <p:cNvSpPr/>
            <p:nvPr/>
          </p:nvSpPr>
          <p:spPr>
            <a:xfrm rot="21540000">
              <a:off x="2308320" y="3633480"/>
              <a:ext cx="1440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0" name=""/>
            <p:cNvSpPr/>
            <p:nvPr/>
          </p:nvSpPr>
          <p:spPr>
            <a:xfrm rot="21540000">
              <a:off x="2319120" y="3633840"/>
              <a:ext cx="4032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1" name=""/>
            <p:cNvSpPr/>
            <p:nvPr/>
          </p:nvSpPr>
          <p:spPr>
            <a:xfrm rot="21540000">
              <a:off x="2363760" y="3633840"/>
              <a:ext cx="2808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2" name=""/>
            <p:cNvSpPr/>
            <p:nvPr/>
          </p:nvSpPr>
          <p:spPr>
            <a:xfrm rot="21540000">
              <a:off x="2384280" y="3633480"/>
              <a:ext cx="1152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3" name=""/>
            <p:cNvSpPr/>
            <p:nvPr/>
          </p:nvSpPr>
          <p:spPr>
            <a:xfrm rot="21540000">
              <a:off x="2395080" y="3633840"/>
              <a:ext cx="2664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4" name=""/>
            <p:cNvSpPr/>
            <p:nvPr/>
          </p:nvSpPr>
          <p:spPr>
            <a:xfrm rot="21540000">
              <a:off x="2428920" y="3624120"/>
              <a:ext cx="2808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5" name=""/>
            <p:cNvSpPr/>
            <p:nvPr/>
          </p:nvSpPr>
          <p:spPr>
            <a:xfrm rot="21540000">
              <a:off x="2451240" y="3623760"/>
              <a:ext cx="1764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6" name=""/>
            <p:cNvSpPr/>
            <p:nvPr/>
          </p:nvSpPr>
          <p:spPr>
            <a:xfrm rot="21540000">
              <a:off x="2471760" y="3624120"/>
              <a:ext cx="2808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é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7" name=""/>
            <p:cNvSpPr/>
            <p:nvPr/>
          </p:nvSpPr>
          <p:spPr>
            <a:xfrm rot="21540000">
              <a:off x="2494080" y="3623760"/>
              <a:ext cx="1440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8" name=""/>
            <p:cNvSpPr/>
            <p:nvPr/>
          </p:nvSpPr>
          <p:spPr>
            <a:xfrm rot="21540000">
              <a:off x="2516040" y="3623760"/>
              <a:ext cx="1764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9" name=""/>
            <p:cNvSpPr/>
            <p:nvPr/>
          </p:nvSpPr>
          <p:spPr>
            <a:xfrm rot="21540000">
              <a:off x="2527560" y="3624120"/>
              <a:ext cx="2808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0" name=""/>
            <p:cNvSpPr/>
            <p:nvPr/>
          </p:nvSpPr>
          <p:spPr>
            <a:xfrm rot="21540000">
              <a:off x="2560680" y="3624120"/>
              <a:ext cx="2808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1" name=""/>
            <p:cNvSpPr/>
            <p:nvPr/>
          </p:nvSpPr>
          <p:spPr>
            <a:xfrm rot="21540000">
              <a:off x="2581200" y="3623760"/>
              <a:ext cx="1440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2" name=""/>
            <p:cNvSpPr/>
            <p:nvPr/>
          </p:nvSpPr>
          <p:spPr>
            <a:xfrm rot="21540000">
              <a:off x="2603160" y="3624120"/>
              <a:ext cx="2664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3" name=""/>
            <p:cNvSpPr/>
            <p:nvPr/>
          </p:nvSpPr>
          <p:spPr>
            <a:xfrm rot="21540000">
              <a:off x="2626200" y="3623760"/>
              <a:ext cx="4176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4" name=""/>
            <p:cNvSpPr/>
            <p:nvPr/>
          </p:nvSpPr>
          <p:spPr>
            <a:xfrm rot="21540000">
              <a:off x="2670120" y="3623760"/>
              <a:ext cx="1764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5" name=""/>
            <p:cNvSpPr/>
            <p:nvPr/>
          </p:nvSpPr>
          <p:spPr>
            <a:xfrm>
              <a:off x="2397240" y="3798720"/>
              <a:ext cx="1965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6" name=""/>
            <p:cNvSpPr/>
            <p:nvPr/>
          </p:nvSpPr>
          <p:spPr>
            <a:xfrm flipH="1" flipV="1">
              <a:off x="2397240" y="3798720"/>
              <a:ext cx="87120" cy="44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7" name=""/>
            <p:cNvSpPr/>
            <p:nvPr/>
          </p:nvSpPr>
          <p:spPr>
            <a:xfrm flipH="1">
              <a:off x="2396880" y="3755880"/>
              <a:ext cx="98280" cy="42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8" name=""/>
            <p:cNvSpPr/>
            <p:nvPr/>
          </p:nvSpPr>
          <p:spPr>
            <a:xfrm>
              <a:off x="3065400" y="3767040"/>
              <a:ext cx="42840" cy="111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9" name=""/>
            <p:cNvSpPr/>
            <p:nvPr/>
          </p:nvSpPr>
          <p:spPr>
            <a:xfrm>
              <a:off x="3152880" y="3789360"/>
              <a:ext cx="44280" cy="93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0" name=""/>
            <p:cNvSpPr/>
            <p:nvPr/>
          </p:nvSpPr>
          <p:spPr>
            <a:xfrm>
              <a:off x="3228840" y="3821040"/>
              <a:ext cx="33480" cy="18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1" name=""/>
            <p:cNvSpPr/>
            <p:nvPr/>
          </p:nvSpPr>
          <p:spPr>
            <a:xfrm>
              <a:off x="4226040" y="316548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0"/>
                  </a:moveTo>
                  <a:lnTo>
                    <a:pt x="7" y="0"/>
                  </a:lnTo>
                  <a:lnTo>
                    <a:pt x="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2" name=""/>
            <p:cNvSpPr/>
            <p:nvPr/>
          </p:nvSpPr>
          <p:spPr>
            <a:xfrm>
              <a:off x="3633840" y="36021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0"/>
                  </a:move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3" name=""/>
            <p:cNvSpPr/>
            <p:nvPr/>
          </p:nvSpPr>
          <p:spPr>
            <a:xfrm>
              <a:off x="4641840" y="5691240"/>
              <a:ext cx="11160" cy="1440"/>
            </a:xfrm>
            <a:custGeom>
              <a:avLst/>
              <a:gdLst/>
              <a:ahLst/>
              <a:rect l="l" t="t" r="r" b="b"/>
              <a:pathLst>
                <a:path w="7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4" name=""/>
            <p:cNvSpPr/>
            <p:nvPr/>
          </p:nvSpPr>
          <p:spPr>
            <a:xfrm>
              <a:off x="5156280" y="4695840"/>
              <a:ext cx="11160" cy="1440"/>
            </a:xfrm>
            <a:custGeom>
              <a:avLst/>
              <a:gdLst/>
              <a:ahLst/>
              <a:rect l="l" t="t" r="r" b="b"/>
              <a:pathLst>
                <a:path w="7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5" name=""/>
            <p:cNvSpPr/>
            <p:nvPr/>
          </p:nvSpPr>
          <p:spPr>
            <a:xfrm>
              <a:off x="4619520" y="451008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6" name=""/>
            <p:cNvSpPr/>
            <p:nvPr/>
          </p:nvSpPr>
          <p:spPr>
            <a:xfrm>
              <a:off x="6108840" y="4313160"/>
              <a:ext cx="1440" cy="11160"/>
            </a:xfrm>
            <a:custGeom>
              <a:avLst/>
              <a:gdLst/>
              <a:ahLst/>
              <a:rect l="l" t="t" r="r" b="b"/>
              <a:pathLst>
                <a:path w="0" h="7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7" name=""/>
            <p:cNvSpPr/>
            <p:nvPr/>
          </p:nvSpPr>
          <p:spPr>
            <a:xfrm>
              <a:off x="3830760" y="438948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8" name=""/>
            <p:cNvSpPr/>
            <p:nvPr/>
          </p:nvSpPr>
          <p:spPr>
            <a:xfrm>
              <a:off x="5921280" y="33177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9" name=""/>
            <p:cNvSpPr/>
            <p:nvPr/>
          </p:nvSpPr>
          <p:spPr>
            <a:xfrm>
              <a:off x="4707000" y="5440320"/>
              <a:ext cx="11160" cy="1800"/>
            </a:xfrm>
            <a:custGeom>
              <a:avLst/>
              <a:gdLst/>
              <a:ahLst/>
              <a:rect l="l" t="t" r="r" b="b"/>
              <a:pathLst>
                <a:path w="7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0" name=""/>
            <p:cNvSpPr/>
            <p:nvPr/>
          </p:nvSpPr>
          <p:spPr>
            <a:xfrm>
              <a:off x="2287440" y="3865680"/>
              <a:ext cx="11160" cy="1440"/>
            </a:xfrm>
            <a:custGeom>
              <a:avLst/>
              <a:gdLst/>
              <a:ahLst/>
              <a:rect l="l" t="t" r="r" b="b"/>
              <a:pathLst>
                <a:path w="7" h="0">
                  <a:moveTo>
                    <a:pt x="7" y="0"/>
                  </a:move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1" name=""/>
            <p:cNvSpPr/>
            <p:nvPr/>
          </p:nvSpPr>
          <p:spPr>
            <a:xfrm>
              <a:off x="2879640" y="3876840"/>
              <a:ext cx="9720" cy="1080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6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2" name=""/>
            <p:cNvSpPr/>
            <p:nvPr/>
          </p:nvSpPr>
          <p:spPr>
            <a:xfrm>
              <a:off x="2889360" y="379872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0"/>
                  </a:move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" y="0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3" name=""/>
            <p:cNvSpPr/>
            <p:nvPr/>
          </p:nvSpPr>
          <p:spPr>
            <a:xfrm>
              <a:off x="3492360" y="3941640"/>
              <a:ext cx="11160" cy="1800"/>
            </a:xfrm>
            <a:custGeom>
              <a:avLst/>
              <a:gdLst/>
              <a:ahLst/>
              <a:rect l="l" t="t" r="r" b="b"/>
              <a:pathLst>
                <a:path w="7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4" name=""/>
            <p:cNvSpPr/>
            <p:nvPr/>
          </p:nvSpPr>
          <p:spPr>
            <a:xfrm>
              <a:off x="2868480" y="353700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5" name=""/>
            <p:cNvSpPr/>
            <p:nvPr/>
          </p:nvSpPr>
          <p:spPr>
            <a:xfrm>
              <a:off x="2157480" y="5778360"/>
              <a:ext cx="51991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6" name=""/>
            <p:cNvSpPr/>
            <p:nvPr/>
          </p:nvSpPr>
          <p:spPr>
            <a:xfrm flipV="1">
              <a:off x="2506680" y="5778360"/>
              <a:ext cx="1440" cy="66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7" name=""/>
            <p:cNvSpPr/>
            <p:nvPr/>
          </p:nvSpPr>
          <p:spPr>
            <a:xfrm flipV="1">
              <a:off x="3119400" y="5778360"/>
              <a:ext cx="1800" cy="66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8" name=""/>
            <p:cNvSpPr/>
            <p:nvPr/>
          </p:nvSpPr>
          <p:spPr>
            <a:xfrm flipV="1">
              <a:off x="3720960" y="5778360"/>
              <a:ext cx="1800" cy="66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9" name=""/>
            <p:cNvSpPr/>
            <p:nvPr/>
          </p:nvSpPr>
          <p:spPr>
            <a:xfrm flipV="1">
              <a:off x="4335480" y="5778360"/>
              <a:ext cx="1440" cy="66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0" name=""/>
            <p:cNvSpPr/>
            <p:nvPr/>
          </p:nvSpPr>
          <p:spPr>
            <a:xfrm flipV="1">
              <a:off x="4937040" y="5778360"/>
              <a:ext cx="1800" cy="66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1" name=""/>
            <p:cNvSpPr/>
            <p:nvPr/>
          </p:nvSpPr>
          <p:spPr>
            <a:xfrm flipV="1">
              <a:off x="5538960" y="5778360"/>
              <a:ext cx="1440" cy="66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2" name=""/>
            <p:cNvSpPr/>
            <p:nvPr/>
          </p:nvSpPr>
          <p:spPr>
            <a:xfrm flipV="1">
              <a:off x="6151680" y="5778360"/>
              <a:ext cx="1440" cy="66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3" name=""/>
            <p:cNvSpPr/>
            <p:nvPr/>
          </p:nvSpPr>
          <p:spPr>
            <a:xfrm flipV="1">
              <a:off x="6753240" y="5778360"/>
              <a:ext cx="1440" cy="66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4" name=""/>
            <p:cNvSpPr/>
            <p:nvPr/>
          </p:nvSpPr>
          <p:spPr>
            <a:xfrm>
              <a:off x="2356200" y="5845320"/>
              <a:ext cx="3391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63000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5" name=""/>
            <p:cNvSpPr/>
            <p:nvPr/>
          </p:nvSpPr>
          <p:spPr>
            <a:xfrm>
              <a:off x="2957760" y="5845320"/>
              <a:ext cx="3391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63500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6" name=""/>
            <p:cNvSpPr/>
            <p:nvPr/>
          </p:nvSpPr>
          <p:spPr>
            <a:xfrm>
              <a:off x="3570480" y="5845320"/>
              <a:ext cx="3391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64000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7" name=""/>
            <p:cNvSpPr/>
            <p:nvPr/>
          </p:nvSpPr>
          <p:spPr>
            <a:xfrm>
              <a:off x="4172040" y="5845320"/>
              <a:ext cx="3391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64500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8" name=""/>
            <p:cNvSpPr/>
            <p:nvPr/>
          </p:nvSpPr>
          <p:spPr>
            <a:xfrm>
              <a:off x="4773960" y="5845320"/>
              <a:ext cx="3391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65000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9" name=""/>
            <p:cNvSpPr/>
            <p:nvPr/>
          </p:nvSpPr>
          <p:spPr>
            <a:xfrm>
              <a:off x="5388120" y="5845320"/>
              <a:ext cx="3391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65500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0" name=""/>
            <p:cNvSpPr/>
            <p:nvPr/>
          </p:nvSpPr>
          <p:spPr>
            <a:xfrm>
              <a:off x="5989680" y="5845320"/>
              <a:ext cx="3391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66000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1" name=""/>
            <p:cNvSpPr/>
            <p:nvPr/>
          </p:nvSpPr>
          <p:spPr>
            <a:xfrm>
              <a:off x="6591600" y="5845320"/>
              <a:ext cx="3391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66500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2" name=""/>
            <p:cNvSpPr/>
            <p:nvPr/>
          </p:nvSpPr>
          <p:spPr>
            <a:xfrm>
              <a:off x="4431960" y="5997600"/>
              <a:ext cx="681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UTM Leste (m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3" name=""/>
            <p:cNvSpPr/>
            <p:nvPr/>
          </p:nvSpPr>
          <p:spPr>
            <a:xfrm flipV="1">
              <a:off x="2506680" y="2104920"/>
              <a:ext cx="1440" cy="3673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44" name=""/>
          <p:cNvSpPr/>
          <p:nvPr/>
        </p:nvSpPr>
        <p:spPr>
          <a:xfrm flipV="1">
            <a:off x="3119400" y="2104920"/>
            <a:ext cx="1800" cy="3673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5" name=""/>
          <p:cNvSpPr/>
          <p:nvPr/>
        </p:nvSpPr>
        <p:spPr>
          <a:xfrm flipV="1">
            <a:off x="3720960" y="2104920"/>
            <a:ext cx="1800" cy="3673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6" name=""/>
          <p:cNvSpPr/>
          <p:nvPr/>
        </p:nvSpPr>
        <p:spPr>
          <a:xfrm flipV="1">
            <a:off x="4335480" y="2104920"/>
            <a:ext cx="1440" cy="3673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7" name=""/>
          <p:cNvSpPr/>
          <p:nvPr/>
        </p:nvSpPr>
        <p:spPr>
          <a:xfrm flipV="1">
            <a:off x="4937040" y="2104920"/>
            <a:ext cx="1800" cy="3673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8" name=""/>
          <p:cNvSpPr/>
          <p:nvPr/>
        </p:nvSpPr>
        <p:spPr>
          <a:xfrm flipV="1">
            <a:off x="5538960" y="2104920"/>
            <a:ext cx="1440" cy="3673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9" name=""/>
          <p:cNvSpPr/>
          <p:nvPr/>
        </p:nvSpPr>
        <p:spPr>
          <a:xfrm flipV="1">
            <a:off x="6151680" y="2104920"/>
            <a:ext cx="1440" cy="3673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0" name=""/>
          <p:cNvSpPr/>
          <p:nvPr/>
        </p:nvSpPr>
        <p:spPr>
          <a:xfrm flipV="1">
            <a:off x="6753240" y="2104920"/>
            <a:ext cx="1440" cy="3673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1" name=""/>
          <p:cNvSpPr/>
          <p:nvPr/>
        </p:nvSpPr>
        <p:spPr>
          <a:xfrm>
            <a:off x="2157480" y="2104920"/>
            <a:ext cx="51991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2" name=""/>
          <p:cNvSpPr/>
          <p:nvPr/>
        </p:nvSpPr>
        <p:spPr>
          <a:xfrm flipV="1">
            <a:off x="2506680" y="2037960"/>
            <a:ext cx="1440" cy="66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3" name=""/>
          <p:cNvSpPr/>
          <p:nvPr/>
        </p:nvSpPr>
        <p:spPr>
          <a:xfrm flipV="1">
            <a:off x="3119400" y="2037960"/>
            <a:ext cx="1800" cy="66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4" name=""/>
          <p:cNvSpPr/>
          <p:nvPr/>
        </p:nvSpPr>
        <p:spPr>
          <a:xfrm flipV="1">
            <a:off x="3720960" y="2037960"/>
            <a:ext cx="1800" cy="66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5" name=""/>
          <p:cNvSpPr/>
          <p:nvPr/>
        </p:nvSpPr>
        <p:spPr>
          <a:xfrm flipV="1">
            <a:off x="4335480" y="2037960"/>
            <a:ext cx="1440" cy="66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6" name=""/>
          <p:cNvSpPr/>
          <p:nvPr/>
        </p:nvSpPr>
        <p:spPr>
          <a:xfrm flipV="1">
            <a:off x="4937040" y="2037960"/>
            <a:ext cx="1800" cy="66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7" name=""/>
          <p:cNvSpPr/>
          <p:nvPr/>
        </p:nvSpPr>
        <p:spPr>
          <a:xfrm flipV="1">
            <a:off x="5538960" y="2037960"/>
            <a:ext cx="1440" cy="66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8" name=""/>
          <p:cNvSpPr/>
          <p:nvPr/>
        </p:nvSpPr>
        <p:spPr>
          <a:xfrm flipV="1">
            <a:off x="6151680" y="2037960"/>
            <a:ext cx="1440" cy="66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9" name=""/>
          <p:cNvSpPr/>
          <p:nvPr/>
        </p:nvSpPr>
        <p:spPr>
          <a:xfrm flipV="1">
            <a:off x="6753240" y="2037960"/>
            <a:ext cx="1440" cy="66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0" name=""/>
          <p:cNvSpPr/>
          <p:nvPr/>
        </p:nvSpPr>
        <p:spPr>
          <a:xfrm flipV="1">
            <a:off x="2157480" y="2104920"/>
            <a:ext cx="1440" cy="3673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1" name=""/>
          <p:cNvSpPr/>
          <p:nvPr/>
        </p:nvSpPr>
        <p:spPr>
          <a:xfrm flipH="1">
            <a:off x="2090520" y="5396040"/>
            <a:ext cx="66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2" name=""/>
          <p:cNvSpPr/>
          <p:nvPr/>
        </p:nvSpPr>
        <p:spPr>
          <a:xfrm flipH="1">
            <a:off x="2090520" y="4794120"/>
            <a:ext cx="666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3" name=""/>
          <p:cNvSpPr/>
          <p:nvPr/>
        </p:nvSpPr>
        <p:spPr>
          <a:xfrm flipH="1">
            <a:off x="2090520" y="4183200"/>
            <a:ext cx="66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4" name=""/>
          <p:cNvSpPr/>
          <p:nvPr/>
        </p:nvSpPr>
        <p:spPr>
          <a:xfrm flipH="1">
            <a:off x="2090520" y="3581280"/>
            <a:ext cx="666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5" name=""/>
          <p:cNvSpPr/>
          <p:nvPr/>
        </p:nvSpPr>
        <p:spPr>
          <a:xfrm flipH="1">
            <a:off x="2090520" y="2968560"/>
            <a:ext cx="666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6" name=""/>
          <p:cNvSpPr/>
          <p:nvPr/>
        </p:nvSpPr>
        <p:spPr>
          <a:xfrm flipH="1">
            <a:off x="2090520" y="2367000"/>
            <a:ext cx="66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7" name=""/>
          <p:cNvSpPr/>
          <p:nvPr/>
        </p:nvSpPr>
        <p:spPr>
          <a:xfrm>
            <a:off x="1710360" y="5330880"/>
            <a:ext cx="3952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9425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8" name=""/>
          <p:cNvSpPr/>
          <p:nvPr/>
        </p:nvSpPr>
        <p:spPr>
          <a:xfrm>
            <a:off x="1710360" y="4729320"/>
            <a:ext cx="3952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943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9" name=""/>
          <p:cNvSpPr/>
          <p:nvPr/>
        </p:nvSpPr>
        <p:spPr>
          <a:xfrm>
            <a:off x="1710360" y="4116240"/>
            <a:ext cx="3952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9435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0" name=""/>
          <p:cNvSpPr/>
          <p:nvPr/>
        </p:nvSpPr>
        <p:spPr>
          <a:xfrm>
            <a:off x="1710360" y="3514680"/>
            <a:ext cx="3952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944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1" name=""/>
          <p:cNvSpPr/>
          <p:nvPr/>
        </p:nvSpPr>
        <p:spPr>
          <a:xfrm>
            <a:off x="1710360" y="2903400"/>
            <a:ext cx="3952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9445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2" name=""/>
          <p:cNvSpPr/>
          <p:nvPr/>
        </p:nvSpPr>
        <p:spPr>
          <a:xfrm>
            <a:off x="1710360" y="2301840"/>
            <a:ext cx="3952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945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3" name=""/>
          <p:cNvSpPr/>
          <p:nvPr/>
        </p:nvSpPr>
        <p:spPr>
          <a:xfrm rot="16200000">
            <a:off x="1565640" y="4172400"/>
            <a:ext cx="73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4" name=""/>
          <p:cNvSpPr/>
          <p:nvPr/>
        </p:nvSpPr>
        <p:spPr>
          <a:xfrm rot="16200000">
            <a:off x="1570680" y="4100400"/>
            <a:ext cx="63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5" name=""/>
          <p:cNvSpPr/>
          <p:nvPr/>
        </p:nvSpPr>
        <p:spPr>
          <a:xfrm rot="16200000">
            <a:off x="1559520" y="4035240"/>
            <a:ext cx="8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6" name=""/>
          <p:cNvSpPr/>
          <p:nvPr/>
        </p:nvSpPr>
        <p:spPr>
          <a:xfrm rot="16200000">
            <a:off x="1587600" y="3986280"/>
            <a:ext cx="295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7" name=""/>
          <p:cNvSpPr/>
          <p:nvPr/>
        </p:nvSpPr>
        <p:spPr>
          <a:xfrm rot="16200000">
            <a:off x="1565640" y="3931200"/>
            <a:ext cx="73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8" name=""/>
          <p:cNvSpPr/>
          <p:nvPr/>
        </p:nvSpPr>
        <p:spPr>
          <a:xfrm rot="16200000">
            <a:off x="1573920" y="387396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9" name=""/>
          <p:cNvSpPr/>
          <p:nvPr/>
        </p:nvSpPr>
        <p:spPr>
          <a:xfrm rot="16200000">
            <a:off x="1585440" y="3830400"/>
            <a:ext cx="342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0" name=""/>
          <p:cNvSpPr/>
          <p:nvPr/>
        </p:nvSpPr>
        <p:spPr>
          <a:xfrm rot="16200000">
            <a:off x="1587600" y="3801240"/>
            <a:ext cx="295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1" name=""/>
          <p:cNvSpPr/>
          <p:nvPr/>
        </p:nvSpPr>
        <p:spPr>
          <a:xfrm rot="16200000">
            <a:off x="1573920" y="376452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2" name=""/>
          <p:cNvSpPr/>
          <p:nvPr/>
        </p:nvSpPr>
        <p:spPr>
          <a:xfrm rot="16200000">
            <a:off x="1587600" y="3722760"/>
            <a:ext cx="295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3" name=""/>
          <p:cNvSpPr/>
          <p:nvPr/>
        </p:nvSpPr>
        <p:spPr>
          <a:xfrm rot="16200000">
            <a:off x="1585440" y="3689280"/>
            <a:ext cx="342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4" name=""/>
          <p:cNvSpPr/>
          <p:nvPr/>
        </p:nvSpPr>
        <p:spPr>
          <a:xfrm rot="16200000">
            <a:off x="1559520" y="3628800"/>
            <a:ext cx="8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5" name=""/>
          <p:cNvSpPr/>
          <p:nvPr/>
        </p:nvSpPr>
        <p:spPr>
          <a:xfrm rot="16200000">
            <a:off x="1585440" y="3579480"/>
            <a:ext cx="342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6" name=""/>
          <p:cNvSpPr/>
          <p:nvPr/>
        </p:nvSpPr>
        <p:spPr>
          <a:xfrm>
            <a:off x="2157480" y="5396040"/>
            <a:ext cx="5199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7" name=""/>
          <p:cNvSpPr/>
          <p:nvPr/>
        </p:nvSpPr>
        <p:spPr>
          <a:xfrm>
            <a:off x="2157480" y="4794120"/>
            <a:ext cx="51991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8" name=""/>
          <p:cNvSpPr/>
          <p:nvPr/>
        </p:nvSpPr>
        <p:spPr>
          <a:xfrm>
            <a:off x="2157480" y="4183200"/>
            <a:ext cx="5199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9" name=""/>
          <p:cNvSpPr/>
          <p:nvPr/>
        </p:nvSpPr>
        <p:spPr>
          <a:xfrm>
            <a:off x="2157480" y="3581280"/>
            <a:ext cx="51991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0" name=""/>
          <p:cNvSpPr/>
          <p:nvPr/>
        </p:nvSpPr>
        <p:spPr>
          <a:xfrm>
            <a:off x="2157480" y="2968560"/>
            <a:ext cx="51991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1" name=""/>
          <p:cNvSpPr/>
          <p:nvPr/>
        </p:nvSpPr>
        <p:spPr>
          <a:xfrm>
            <a:off x="2157480" y="2367000"/>
            <a:ext cx="5199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2" name=""/>
          <p:cNvSpPr/>
          <p:nvPr/>
        </p:nvSpPr>
        <p:spPr>
          <a:xfrm flipV="1">
            <a:off x="7356600" y="2104920"/>
            <a:ext cx="1440" cy="3673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3" name=""/>
          <p:cNvSpPr/>
          <p:nvPr/>
        </p:nvSpPr>
        <p:spPr>
          <a:xfrm flipH="1">
            <a:off x="7356600" y="5396040"/>
            <a:ext cx="64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4" name=""/>
          <p:cNvSpPr/>
          <p:nvPr/>
        </p:nvSpPr>
        <p:spPr>
          <a:xfrm flipH="1">
            <a:off x="7356600" y="4794120"/>
            <a:ext cx="64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5" name=""/>
          <p:cNvSpPr/>
          <p:nvPr/>
        </p:nvSpPr>
        <p:spPr>
          <a:xfrm flipH="1">
            <a:off x="7356600" y="4183200"/>
            <a:ext cx="64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6" name=""/>
          <p:cNvSpPr/>
          <p:nvPr/>
        </p:nvSpPr>
        <p:spPr>
          <a:xfrm flipH="1">
            <a:off x="7356600" y="3581280"/>
            <a:ext cx="64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7" name=""/>
          <p:cNvSpPr/>
          <p:nvPr/>
        </p:nvSpPr>
        <p:spPr>
          <a:xfrm flipH="1">
            <a:off x="7356600" y="2968560"/>
            <a:ext cx="64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8" name=""/>
          <p:cNvSpPr/>
          <p:nvPr/>
        </p:nvSpPr>
        <p:spPr>
          <a:xfrm flipH="1">
            <a:off x="7356600" y="2367000"/>
            <a:ext cx="64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9" name=""/>
          <p:cNvSpPr/>
          <p:nvPr/>
        </p:nvSpPr>
        <p:spPr>
          <a:xfrm>
            <a:off x="2135160" y="2082960"/>
            <a:ext cx="54000" cy="53640"/>
          </a:xfrm>
          <a:custGeom>
            <a:avLst/>
            <a:gdLst/>
            <a:ahLst/>
            <a:rect l="l" t="t" r="r" b="b"/>
            <a:pathLst>
              <a:path w="34" h="34">
                <a:moveTo>
                  <a:pt x="14" y="34"/>
                </a:moveTo>
                <a:lnTo>
                  <a:pt x="20" y="34"/>
                </a:lnTo>
                <a:lnTo>
                  <a:pt x="20" y="21"/>
                </a:lnTo>
                <a:lnTo>
                  <a:pt x="34" y="21"/>
                </a:lnTo>
                <a:lnTo>
                  <a:pt x="34" y="14"/>
                </a:lnTo>
                <a:lnTo>
                  <a:pt x="20" y="14"/>
                </a:lnTo>
                <a:lnTo>
                  <a:pt x="20" y="0"/>
                </a:lnTo>
                <a:lnTo>
                  <a:pt x="14" y="0"/>
                </a:lnTo>
                <a:lnTo>
                  <a:pt x="14" y="14"/>
                </a:lnTo>
                <a:lnTo>
                  <a:pt x="0" y="14"/>
                </a:lnTo>
                <a:lnTo>
                  <a:pt x="0" y="21"/>
                </a:lnTo>
                <a:lnTo>
                  <a:pt x="14" y="21"/>
                </a:lnTo>
                <a:lnTo>
                  <a:pt x="14" y="34"/>
                </a:lnTo>
                <a:close/>
              </a:path>
            </a:pathLst>
          </a:custGeom>
          <a:solidFill>
            <a:srgbClr val="ff00ff"/>
          </a:solidFill>
          <a:ln w="0">
            <a:solidFill>
              <a:srgbClr val="ff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0" name=""/>
          <p:cNvSpPr/>
          <p:nvPr/>
        </p:nvSpPr>
        <p:spPr>
          <a:xfrm>
            <a:off x="7323120" y="2082960"/>
            <a:ext cx="54000" cy="53640"/>
          </a:xfrm>
          <a:custGeom>
            <a:avLst/>
            <a:gdLst/>
            <a:ahLst/>
            <a:rect l="l" t="t" r="r" b="b"/>
            <a:pathLst>
              <a:path w="34" h="34">
                <a:moveTo>
                  <a:pt x="14" y="34"/>
                </a:moveTo>
                <a:lnTo>
                  <a:pt x="21" y="34"/>
                </a:lnTo>
                <a:lnTo>
                  <a:pt x="21" y="21"/>
                </a:lnTo>
                <a:lnTo>
                  <a:pt x="34" y="21"/>
                </a:lnTo>
                <a:lnTo>
                  <a:pt x="34" y="14"/>
                </a:lnTo>
                <a:lnTo>
                  <a:pt x="21" y="14"/>
                </a:lnTo>
                <a:lnTo>
                  <a:pt x="21" y="0"/>
                </a:lnTo>
                <a:lnTo>
                  <a:pt x="14" y="0"/>
                </a:lnTo>
                <a:lnTo>
                  <a:pt x="14" y="14"/>
                </a:lnTo>
                <a:lnTo>
                  <a:pt x="0" y="14"/>
                </a:lnTo>
                <a:lnTo>
                  <a:pt x="0" y="21"/>
                </a:lnTo>
                <a:lnTo>
                  <a:pt x="14" y="21"/>
                </a:lnTo>
                <a:lnTo>
                  <a:pt x="14" y="34"/>
                </a:lnTo>
                <a:close/>
              </a:path>
            </a:pathLst>
          </a:custGeom>
          <a:solidFill>
            <a:srgbClr val="ff00ff"/>
          </a:solidFill>
          <a:ln w="0">
            <a:solidFill>
              <a:srgbClr val="ff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1" name=""/>
          <p:cNvSpPr/>
          <p:nvPr/>
        </p:nvSpPr>
        <p:spPr>
          <a:xfrm>
            <a:off x="7334280" y="5756400"/>
            <a:ext cx="42840" cy="55440"/>
          </a:xfrm>
          <a:custGeom>
            <a:avLst/>
            <a:gdLst/>
            <a:ahLst/>
            <a:rect l="l" t="t" r="r" b="b"/>
            <a:pathLst>
              <a:path w="27" h="35">
                <a:moveTo>
                  <a:pt x="14" y="35"/>
                </a:moveTo>
                <a:lnTo>
                  <a:pt x="14" y="35"/>
                </a:lnTo>
                <a:lnTo>
                  <a:pt x="14" y="21"/>
                </a:lnTo>
                <a:lnTo>
                  <a:pt x="27" y="21"/>
                </a:lnTo>
                <a:lnTo>
                  <a:pt x="27" y="14"/>
                </a:lnTo>
                <a:lnTo>
                  <a:pt x="14" y="14"/>
                </a:lnTo>
                <a:lnTo>
                  <a:pt x="14" y="0"/>
                </a:lnTo>
                <a:lnTo>
                  <a:pt x="14" y="0"/>
                </a:lnTo>
                <a:lnTo>
                  <a:pt x="14" y="14"/>
                </a:lnTo>
                <a:lnTo>
                  <a:pt x="0" y="14"/>
                </a:lnTo>
                <a:lnTo>
                  <a:pt x="0" y="21"/>
                </a:lnTo>
                <a:lnTo>
                  <a:pt x="14" y="21"/>
                </a:lnTo>
                <a:lnTo>
                  <a:pt x="14" y="35"/>
                </a:lnTo>
                <a:close/>
              </a:path>
            </a:pathLst>
          </a:custGeom>
          <a:solidFill>
            <a:srgbClr val="ff00ff"/>
          </a:solidFill>
          <a:ln w="0">
            <a:solidFill>
              <a:srgbClr val="ff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2" name=""/>
          <p:cNvSpPr/>
          <p:nvPr/>
        </p:nvSpPr>
        <p:spPr>
          <a:xfrm>
            <a:off x="2135160" y="5756400"/>
            <a:ext cx="54000" cy="55440"/>
          </a:xfrm>
          <a:custGeom>
            <a:avLst/>
            <a:gdLst/>
            <a:ahLst/>
            <a:rect l="l" t="t" r="r" b="b"/>
            <a:pathLst>
              <a:path w="34" h="35">
                <a:moveTo>
                  <a:pt x="14" y="35"/>
                </a:moveTo>
                <a:lnTo>
                  <a:pt x="20" y="35"/>
                </a:lnTo>
                <a:lnTo>
                  <a:pt x="20" y="21"/>
                </a:lnTo>
                <a:lnTo>
                  <a:pt x="34" y="21"/>
                </a:lnTo>
                <a:lnTo>
                  <a:pt x="34" y="14"/>
                </a:lnTo>
                <a:lnTo>
                  <a:pt x="20" y="14"/>
                </a:lnTo>
                <a:lnTo>
                  <a:pt x="20" y="0"/>
                </a:lnTo>
                <a:lnTo>
                  <a:pt x="14" y="0"/>
                </a:lnTo>
                <a:lnTo>
                  <a:pt x="14" y="14"/>
                </a:lnTo>
                <a:lnTo>
                  <a:pt x="0" y="14"/>
                </a:lnTo>
                <a:lnTo>
                  <a:pt x="0" y="21"/>
                </a:lnTo>
                <a:lnTo>
                  <a:pt x="14" y="21"/>
                </a:lnTo>
                <a:lnTo>
                  <a:pt x="14" y="35"/>
                </a:lnTo>
                <a:close/>
              </a:path>
            </a:pathLst>
          </a:custGeom>
          <a:solidFill>
            <a:srgbClr val="ff00ff"/>
          </a:solidFill>
          <a:ln w="0">
            <a:solidFill>
              <a:srgbClr val="ff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3" name=""/>
          <p:cNvSpPr/>
          <p:nvPr/>
        </p:nvSpPr>
        <p:spPr>
          <a:xfrm>
            <a:off x="5462640" y="3679920"/>
            <a:ext cx="328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600" spc="-1" strike="noStrike">
                <a:solidFill>
                  <a:srgbClr val="000000"/>
                </a:solidFill>
                <a:latin typeface="Arial"/>
              </a:rPr>
              <a:t>Barauna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4" name=""/>
          <p:cNvSpPr/>
          <p:nvPr/>
        </p:nvSpPr>
        <p:spPr>
          <a:xfrm flipV="1">
            <a:off x="2835360" y="5603400"/>
            <a:ext cx="75960" cy="163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5" name=""/>
          <p:cNvSpPr/>
          <p:nvPr/>
        </p:nvSpPr>
        <p:spPr>
          <a:xfrm flipV="1">
            <a:off x="2989440" y="5285880"/>
            <a:ext cx="75960" cy="1652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6" name=""/>
          <p:cNvSpPr/>
          <p:nvPr/>
        </p:nvSpPr>
        <p:spPr>
          <a:xfrm flipV="1">
            <a:off x="3141720" y="4970160"/>
            <a:ext cx="76320" cy="1522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7" name=""/>
          <p:cNvSpPr/>
          <p:nvPr/>
        </p:nvSpPr>
        <p:spPr>
          <a:xfrm flipV="1">
            <a:off x="3295800" y="4641840"/>
            <a:ext cx="87120" cy="163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8" name=""/>
          <p:cNvSpPr/>
          <p:nvPr/>
        </p:nvSpPr>
        <p:spPr>
          <a:xfrm flipV="1">
            <a:off x="3459240" y="4324320"/>
            <a:ext cx="75960" cy="163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9" name=""/>
          <p:cNvSpPr/>
          <p:nvPr/>
        </p:nvSpPr>
        <p:spPr>
          <a:xfrm flipV="1">
            <a:off x="3613320" y="4006800"/>
            <a:ext cx="75960" cy="1540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0" name=""/>
          <p:cNvSpPr/>
          <p:nvPr/>
        </p:nvSpPr>
        <p:spPr>
          <a:xfrm>
            <a:off x="3765600" y="3679920"/>
            <a:ext cx="76320" cy="163440"/>
          </a:xfrm>
          <a:custGeom>
            <a:avLst/>
            <a:gdLst/>
            <a:ahLst/>
            <a:rect l="l" t="t" r="r" b="b"/>
            <a:pathLst>
              <a:path w="48" h="103">
                <a:moveTo>
                  <a:pt x="0" y="103"/>
                </a:moveTo>
                <a:lnTo>
                  <a:pt x="48" y="7"/>
                </a:lnTo>
                <a:lnTo>
                  <a:pt x="48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1" name=""/>
          <p:cNvSpPr/>
          <p:nvPr/>
        </p:nvSpPr>
        <p:spPr>
          <a:xfrm flipV="1">
            <a:off x="3908520" y="3339720"/>
            <a:ext cx="54000" cy="1746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2" name=""/>
          <p:cNvSpPr/>
          <p:nvPr/>
        </p:nvSpPr>
        <p:spPr>
          <a:xfrm flipV="1">
            <a:off x="4029120" y="3011040"/>
            <a:ext cx="54000" cy="1652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3" name=""/>
          <p:cNvSpPr/>
          <p:nvPr/>
        </p:nvSpPr>
        <p:spPr>
          <a:xfrm flipV="1">
            <a:off x="4148280" y="2673360"/>
            <a:ext cx="55440" cy="163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4" name=""/>
          <p:cNvSpPr/>
          <p:nvPr/>
        </p:nvSpPr>
        <p:spPr>
          <a:xfrm flipV="1">
            <a:off x="4268880" y="2333520"/>
            <a:ext cx="55440" cy="1764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5" name=""/>
          <p:cNvSpPr/>
          <p:nvPr/>
        </p:nvSpPr>
        <p:spPr>
          <a:xfrm flipV="1">
            <a:off x="4389480" y="2028960"/>
            <a:ext cx="44280" cy="1411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16" name=""/>
          <p:cNvGrpSpPr/>
          <p:nvPr/>
        </p:nvGrpSpPr>
        <p:grpSpPr>
          <a:xfrm>
            <a:off x="741240" y="2203560"/>
            <a:ext cx="643680" cy="3651480"/>
            <a:chOff x="741240" y="2203560"/>
            <a:chExt cx="643680" cy="3651480"/>
          </a:xfrm>
        </p:grpSpPr>
        <p:sp>
          <p:nvSpPr>
            <p:cNvPr id="7317" name=""/>
            <p:cNvSpPr/>
            <p:nvPr/>
          </p:nvSpPr>
          <p:spPr>
            <a:xfrm>
              <a:off x="1050840" y="5057640"/>
              <a:ext cx="230400" cy="72072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8" name=""/>
            <p:cNvSpPr/>
            <p:nvPr/>
          </p:nvSpPr>
          <p:spPr>
            <a:xfrm>
              <a:off x="1050840" y="4346640"/>
              <a:ext cx="230400" cy="711000"/>
            </a:xfrm>
            <a:prstGeom prst="rect">
              <a:avLst/>
            </a:prstGeom>
            <a:solidFill>
              <a:srgbClr val="b3e10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9" name=""/>
            <p:cNvSpPr/>
            <p:nvPr/>
          </p:nvSpPr>
          <p:spPr>
            <a:xfrm>
              <a:off x="1050840" y="3635280"/>
              <a:ext cx="230400" cy="711360"/>
            </a:xfrm>
            <a:prstGeom prst="rect">
              <a:avLst/>
            </a:prstGeom>
            <a:solidFill>
              <a:srgbClr val="73c71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0" name=""/>
            <p:cNvSpPr/>
            <p:nvPr/>
          </p:nvSpPr>
          <p:spPr>
            <a:xfrm>
              <a:off x="1050840" y="2913120"/>
              <a:ext cx="230400" cy="722160"/>
            </a:xfrm>
            <a:prstGeom prst="rect">
              <a:avLst/>
            </a:prstGeom>
            <a:solidFill>
              <a:srgbClr val="33ae28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1" name=""/>
            <p:cNvSpPr/>
            <p:nvPr/>
          </p:nvSpPr>
          <p:spPr>
            <a:xfrm>
              <a:off x="1050840" y="2203560"/>
              <a:ext cx="230400" cy="709560"/>
            </a:xfrm>
            <a:prstGeom prst="rect">
              <a:avLst/>
            </a:prstGeom>
            <a:solidFill>
              <a:srgbClr val="009933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2" name=""/>
            <p:cNvSpPr/>
            <p:nvPr/>
          </p:nvSpPr>
          <p:spPr>
            <a:xfrm>
              <a:off x="1314000" y="57024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3" name=""/>
            <p:cNvSpPr/>
            <p:nvPr/>
          </p:nvSpPr>
          <p:spPr>
            <a:xfrm>
              <a:off x="1314000" y="49798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4" name=""/>
            <p:cNvSpPr/>
            <p:nvPr/>
          </p:nvSpPr>
          <p:spPr>
            <a:xfrm>
              <a:off x="1314000" y="42688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5" name=""/>
            <p:cNvSpPr/>
            <p:nvPr/>
          </p:nvSpPr>
          <p:spPr>
            <a:xfrm>
              <a:off x="1314000" y="35593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6" name=""/>
            <p:cNvSpPr/>
            <p:nvPr/>
          </p:nvSpPr>
          <p:spPr>
            <a:xfrm>
              <a:off x="1314000" y="28368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7" name=""/>
            <p:cNvSpPr/>
            <p:nvPr/>
          </p:nvSpPr>
          <p:spPr>
            <a:xfrm rot="16200000">
              <a:off x="799560" y="501588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8" name=""/>
            <p:cNvSpPr/>
            <p:nvPr/>
          </p:nvSpPr>
          <p:spPr>
            <a:xfrm rot="16200000">
              <a:off x="771480" y="495396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9" name=""/>
            <p:cNvSpPr/>
            <p:nvPr/>
          </p:nvSpPr>
          <p:spPr>
            <a:xfrm rot="16200000">
              <a:off x="775080" y="4872240"/>
              <a:ext cx="84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0" name=""/>
            <p:cNvSpPr/>
            <p:nvPr/>
          </p:nvSpPr>
          <p:spPr>
            <a:xfrm rot="16200000">
              <a:off x="799560" y="48078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1" name=""/>
            <p:cNvSpPr/>
            <p:nvPr/>
          </p:nvSpPr>
          <p:spPr>
            <a:xfrm rot="16200000">
              <a:off x="795600" y="477360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2" name=""/>
            <p:cNvSpPr/>
            <p:nvPr/>
          </p:nvSpPr>
          <p:spPr>
            <a:xfrm rot="16200000">
              <a:off x="799560" y="473184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3" name=""/>
            <p:cNvSpPr/>
            <p:nvPr/>
          </p:nvSpPr>
          <p:spPr>
            <a:xfrm rot="16200000">
              <a:off x="775080" y="4675320"/>
              <a:ext cx="84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4" name=""/>
            <p:cNvSpPr/>
            <p:nvPr/>
          </p:nvSpPr>
          <p:spPr>
            <a:xfrm rot="16200000">
              <a:off x="781920" y="46047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5" name=""/>
            <p:cNvSpPr/>
            <p:nvPr/>
          </p:nvSpPr>
          <p:spPr>
            <a:xfrm rot="16200000">
              <a:off x="785160" y="453384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6" name=""/>
            <p:cNvSpPr/>
            <p:nvPr/>
          </p:nvSpPr>
          <p:spPr>
            <a:xfrm rot="16200000">
              <a:off x="781920" y="44730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7" name=""/>
            <p:cNvSpPr/>
            <p:nvPr/>
          </p:nvSpPr>
          <p:spPr>
            <a:xfrm rot="16200000">
              <a:off x="785160" y="439992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8" name=""/>
            <p:cNvSpPr/>
            <p:nvPr/>
          </p:nvSpPr>
          <p:spPr>
            <a:xfrm rot="16200000">
              <a:off x="799560" y="436032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9" name=""/>
            <p:cNvSpPr/>
            <p:nvPr/>
          </p:nvSpPr>
          <p:spPr>
            <a:xfrm rot="16200000">
              <a:off x="799560" y="431568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0" name=""/>
            <p:cNvSpPr/>
            <p:nvPr/>
          </p:nvSpPr>
          <p:spPr>
            <a:xfrm rot="16200000">
              <a:off x="775080" y="4259520"/>
              <a:ext cx="84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1" name=""/>
            <p:cNvSpPr/>
            <p:nvPr/>
          </p:nvSpPr>
          <p:spPr>
            <a:xfrm rot="16200000">
              <a:off x="781920" y="41889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2" name=""/>
            <p:cNvSpPr/>
            <p:nvPr/>
          </p:nvSpPr>
          <p:spPr>
            <a:xfrm rot="16200000">
              <a:off x="781920" y="41126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3" name=""/>
            <p:cNvSpPr/>
            <p:nvPr/>
          </p:nvSpPr>
          <p:spPr>
            <a:xfrm rot="16200000">
              <a:off x="781920" y="40474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4" name=""/>
            <p:cNvSpPr/>
            <p:nvPr/>
          </p:nvSpPr>
          <p:spPr>
            <a:xfrm rot="16200000">
              <a:off x="781920" y="39808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5" name=""/>
            <p:cNvSpPr/>
            <p:nvPr/>
          </p:nvSpPr>
          <p:spPr>
            <a:xfrm rot="16200000">
              <a:off x="781920" y="39157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6" name=""/>
            <p:cNvSpPr/>
            <p:nvPr/>
          </p:nvSpPr>
          <p:spPr>
            <a:xfrm rot="16200000">
              <a:off x="781920" y="38397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7" name=""/>
            <p:cNvSpPr/>
            <p:nvPr/>
          </p:nvSpPr>
          <p:spPr>
            <a:xfrm rot="16200000">
              <a:off x="781920" y="37746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8" name=""/>
            <p:cNvSpPr/>
            <p:nvPr/>
          </p:nvSpPr>
          <p:spPr>
            <a:xfrm rot="16200000">
              <a:off x="781920" y="37080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9" name=""/>
            <p:cNvSpPr/>
            <p:nvPr/>
          </p:nvSpPr>
          <p:spPr>
            <a:xfrm rot="16200000">
              <a:off x="781920" y="36316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0" name=""/>
            <p:cNvSpPr/>
            <p:nvPr/>
          </p:nvSpPr>
          <p:spPr>
            <a:xfrm rot="16200000">
              <a:off x="785160" y="357012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1" name=""/>
            <p:cNvSpPr/>
            <p:nvPr/>
          </p:nvSpPr>
          <p:spPr>
            <a:xfrm rot="16200000">
              <a:off x="799560" y="35172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2" name=""/>
            <p:cNvSpPr/>
            <p:nvPr/>
          </p:nvSpPr>
          <p:spPr>
            <a:xfrm rot="16200000">
              <a:off x="799560" y="348552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3" name=""/>
            <p:cNvSpPr/>
            <p:nvPr/>
          </p:nvSpPr>
          <p:spPr>
            <a:xfrm rot="16200000">
              <a:off x="771480" y="342360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4" name=""/>
            <p:cNvSpPr/>
            <p:nvPr/>
          </p:nvSpPr>
          <p:spPr>
            <a:xfrm rot="16200000">
              <a:off x="781920" y="33476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5" name=""/>
            <p:cNvSpPr/>
            <p:nvPr/>
          </p:nvSpPr>
          <p:spPr>
            <a:xfrm rot="16200000">
              <a:off x="785160" y="328608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6" name=""/>
            <p:cNvSpPr/>
            <p:nvPr/>
          </p:nvSpPr>
          <p:spPr>
            <a:xfrm rot="16200000">
              <a:off x="781920" y="32158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7" name=""/>
            <p:cNvSpPr/>
            <p:nvPr/>
          </p:nvSpPr>
          <p:spPr>
            <a:xfrm rot="16200000">
              <a:off x="799560" y="31680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8" name=""/>
            <p:cNvSpPr/>
            <p:nvPr/>
          </p:nvSpPr>
          <p:spPr>
            <a:xfrm rot="16200000">
              <a:off x="803520" y="3127320"/>
              <a:ext cx="28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9" name=""/>
            <p:cNvSpPr/>
            <p:nvPr/>
          </p:nvSpPr>
          <p:spPr>
            <a:xfrm rot="16200000">
              <a:off x="785160" y="308916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0" name=""/>
            <p:cNvSpPr/>
            <p:nvPr/>
          </p:nvSpPr>
          <p:spPr>
            <a:xfrm rot="16200000">
              <a:off x="781920" y="30189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1" name=""/>
            <p:cNvSpPr/>
            <p:nvPr/>
          </p:nvSpPr>
          <p:spPr>
            <a:xfrm rot="16200000">
              <a:off x="781920" y="29538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2" name=""/>
            <p:cNvSpPr/>
            <p:nvPr/>
          </p:nvSpPr>
          <p:spPr>
            <a:xfrm rot="16200000">
              <a:off x="781920" y="28886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3" name=""/>
            <p:cNvSpPr/>
            <p:nvPr/>
          </p:nvSpPr>
          <p:spPr>
            <a:xfrm rot="16200000">
              <a:off x="785160" y="281448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64" name=""/>
          <p:cNvSpPr/>
          <p:nvPr/>
        </p:nvSpPr>
        <p:spPr>
          <a:xfrm>
            <a:off x="2578320" y="1206360"/>
            <a:ext cx="4677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CP dos Poços Secos, Abandonados e Desativados / Nível Dinâmi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5" name=""/>
          <p:cNvSpPr/>
          <p:nvPr/>
        </p:nvSpPr>
        <p:spPr>
          <a:xfrm>
            <a:off x="8166240" y="4521240"/>
            <a:ext cx="230040" cy="1192320"/>
          </a:xfrm>
          <a:prstGeom prst="rect">
            <a:avLst/>
          </a:prstGeom>
          <a:solidFill>
            <a:srgbClr val="ffe8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6" name=""/>
          <p:cNvSpPr/>
          <p:nvPr/>
        </p:nvSpPr>
        <p:spPr>
          <a:xfrm>
            <a:off x="8166240" y="3328920"/>
            <a:ext cx="230040" cy="1192320"/>
          </a:xfrm>
          <a:prstGeom prst="rect">
            <a:avLst/>
          </a:prstGeom>
          <a:solidFill>
            <a:srgbClr val="ff91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7" name=""/>
          <p:cNvSpPr/>
          <p:nvPr/>
        </p:nvSpPr>
        <p:spPr>
          <a:xfrm>
            <a:off x="8166240" y="2136600"/>
            <a:ext cx="230040" cy="1192320"/>
          </a:xfrm>
          <a:prstGeom prst="rect">
            <a:avLst/>
          </a:prstGeom>
          <a:solidFill>
            <a:srgbClr val="ff3a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8" name=""/>
          <p:cNvSpPr/>
          <p:nvPr/>
        </p:nvSpPr>
        <p:spPr>
          <a:xfrm>
            <a:off x="8416440" y="56358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9" name=""/>
          <p:cNvSpPr/>
          <p:nvPr/>
        </p:nvSpPr>
        <p:spPr>
          <a:xfrm>
            <a:off x="8416440" y="444492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0" name=""/>
          <p:cNvSpPr/>
          <p:nvPr/>
        </p:nvSpPr>
        <p:spPr>
          <a:xfrm>
            <a:off x="8416440" y="325296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1" name=""/>
          <p:cNvSpPr/>
          <p:nvPr/>
        </p:nvSpPr>
        <p:spPr>
          <a:xfrm rot="16200000">
            <a:off x="7910640" y="4386240"/>
            <a:ext cx="92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2" name=""/>
          <p:cNvSpPr/>
          <p:nvPr/>
        </p:nvSpPr>
        <p:spPr>
          <a:xfrm rot="16200000">
            <a:off x="7938720" y="4315680"/>
            <a:ext cx="35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í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3" name=""/>
          <p:cNvSpPr/>
          <p:nvPr/>
        </p:nvSpPr>
        <p:spPr>
          <a:xfrm rot="16200000">
            <a:off x="7924320" y="42703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4" name=""/>
          <p:cNvSpPr/>
          <p:nvPr/>
        </p:nvSpPr>
        <p:spPr>
          <a:xfrm rot="16200000">
            <a:off x="7921080" y="42112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5" name=""/>
          <p:cNvSpPr/>
          <p:nvPr/>
        </p:nvSpPr>
        <p:spPr>
          <a:xfrm rot="16200000">
            <a:off x="7942680" y="4155840"/>
            <a:ext cx="28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6" name=""/>
          <p:cNvSpPr/>
          <p:nvPr/>
        </p:nvSpPr>
        <p:spPr>
          <a:xfrm rot="16200000">
            <a:off x="7938720" y="4129920"/>
            <a:ext cx="35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7" name=""/>
          <p:cNvSpPr/>
          <p:nvPr/>
        </p:nvSpPr>
        <p:spPr>
          <a:xfrm rot="16200000">
            <a:off x="7910640" y="4068720"/>
            <a:ext cx="92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8" name=""/>
          <p:cNvSpPr/>
          <p:nvPr/>
        </p:nvSpPr>
        <p:spPr>
          <a:xfrm rot="16200000">
            <a:off x="7942680" y="4001760"/>
            <a:ext cx="28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9" name=""/>
          <p:cNvSpPr/>
          <p:nvPr/>
        </p:nvSpPr>
        <p:spPr>
          <a:xfrm rot="16200000">
            <a:off x="7921080" y="39603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0" name=""/>
          <p:cNvSpPr/>
          <p:nvPr/>
        </p:nvSpPr>
        <p:spPr>
          <a:xfrm rot="16200000">
            <a:off x="7921080" y="38937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â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1" name=""/>
          <p:cNvSpPr/>
          <p:nvPr/>
        </p:nvSpPr>
        <p:spPr>
          <a:xfrm rot="16200000">
            <a:off x="7903800" y="37980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2" name=""/>
          <p:cNvSpPr/>
          <p:nvPr/>
        </p:nvSpPr>
        <p:spPr>
          <a:xfrm rot="16200000">
            <a:off x="7942680" y="3736800"/>
            <a:ext cx="28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3" name=""/>
          <p:cNvSpPr/>
          <p:nvPr/>
        </p:nvSpPr>
        <p:spPr>
          <a:xfrm rot="16200000">
            <a:off x="7924320" y="36871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4" name=""/>
          <p:cNvSpPr/>
          <p:nvPr/>
        </p:nvSpPr>
        <p:spPr>
          <a:xfrm rot="16200000">
            <a:off x="7921080" y="362844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5" name=""/>
          <p:cNvSpPr/>
          <p:nvPr/>
        </p:nvSpPr>
        <p:spPr>
          <a:xfrm rot="16200000">
            <a:off x="7938720" y="3569760"/>
            <a:ext cx="35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6" name=""/>
          <p:cNvSpPr/>
          <p:nvPr/>
        </p:nvSpPr>
        <p:spPr>
          <a:xfrm rot="16200000">
            <a:off x="7934760" y="3533760"/>
            <a:ext cx="43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7" name=""/>
          <p:cNvSpPr/>
          <p:nvPr/>
        </p:nvSpPr>
        <p:spPr>
          <a:xfrm rot="16200000">
            <a:off x="7903800" y="3459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8" name=""/>
          <p:cNvSpPr/>
          <p:nvPr/>
        </p:nvSpPr>
        <p:spPr>
          <a:xfrm rot="16200000">
            <a:off x="7921080" y="33778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9" name=""/>
          <p:cNvSpPr/>
          <p:nvPr/>
        </p:nvSpPr>
        <p:spPr>
          <a:xfrm rot="16200000">
            <a:off x="7938720" y="3328200"/>
            <a:ext cx="35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0" name=""/>
          <p:cNvSpPr/>
          <p:nvPr/>
        </p:nvSpPr>
        <p:spPr>
          <a:xfrm rot="16200000">
            <a:off x="7934760" y="3294360"/>
            <a:ext cx="43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1" name=""/>
          <p:cNvSpPr/>
          <p:nvPr/>
        </p:nvSpPr>
        <p:spPr>
          <a:xfrm rot="16200000">
            <a:off x="7921080" y="32349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2" name=""/>
          <p:cNvSpPr/>
          <p:nvPr/>
        </p:nvSpPr>
        <p:spPr>
          <a:xfrm rot="16200000">
            <a:off x="7924320" y="316224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3" name=""/>
          <p:cNvSpPr/>
          <p:nvPr/>
        </p:nvSpPr>
        <p:spPr>
          <a:xfrm rot="16200000">
            <a:off x="7934760" y="3117960"/>
            <a:ext cx="43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4" name=""/>
          <p:cNvSpPr/>
          <p:nvPr/>
        </p:nvSpPr>
        <p:spPr>
          <a:xfrm>
            <a:off x="2397240" y="2268360"/>
            <a:ext cx="492120" cy="492480"/>
          </a:xfrm>
          <a:prstGeom prst="ellipse">
            <a:avLst/>
          </a:pr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5" name=""/>
          <p:cNvSpPr/>
          <p:nvPr/>
        </p:nvSpPr>
        <p:spPr>
          <a:xfrm>
            <a:off x="2494800" y="2378160"/>
            <a:ext cx="284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7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7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9" dur="500"/>
                                        <p:tgtEl>
                                          <p:spTgt spid="6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4" dur="500"/>
                                        <p:tgtEl>
                                          <p:spTgt spid="6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6" name=""/>
          <p:cNvSpPr/>
          <p:nvPr/>
        </p:nvSpPr>
        <p:spPr>
          <a:xfrm>
            <a:off x="1332000" y="333360"/>
            <a:ext cx="817236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99"/>
                </a:solidFill>
                <a:latin typeface="Tahoma"/>
              </a:rPr>
              <a:t>BARAUNAS – RN</a:t>
            </a:r>
            <a:br>
              <a:rPr sz="2400"/>
            </a:br>
            <a:r>
              <a:rPr b="0" lang="pt-BR" sz="2400" spc="-1" strike="noStrike">
                <a:solidFill>
                  <a:srgbClr val="333399"/>
                </a:solidFill>
                <a:latin typeface="Tahoma"/>
              </a:rPr>
              <a:t>Aquífero Jandaíra – Profundidade dos Poç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97" name=""/>
          <p:cNvGrpSpPr/>
          <p:nvPr/>
        </p:nvGrpSpPr>
        <p:grpSpPr>
          <a:xfrm>
            <a:off x="1740960" y="2514600"/>
            <a:ext cx="4899600" cy="3139920"/>
            <a:chOff x="1740960" y="2514600"/>
            <a:chExt cx="4899600" cy="3139920"/>
          </a:xfrm>
        </p:grpSpPr>
        <p:sp>
          <p:nvSpPr>
            <p:cNvPr id="7398" name=""/>
            <p:cNvSpPr/>
            <p:nvPr/>
          </p:nvSpPr>
          <p:spPr>
            <a:xfrm>
              <a:off x="1741320" y="2514600"/>
              <a:ext cx="4899240" cy="3139920"/>
            </a:xfrm>
            <a:custGeom>
              <a:avLst/>
              <a:gdLst/>
              <a:ahLst/>
              <a:rect l="l" t="t" r="r" b="b"/>
              <a:pathLst>
                <a:path w="3086" h="1978">
                  <a:moveTo>
                    <a:pt x="1412" y="1978"/>
                  </a:moveTo>
                  <a:lnTo>
                    <a:pt x="1418" y="1973"/>
                  </a:lnTo>
                  <a:lnTo>
                    <a:pt x="1423" y="1968"/>
                  </a:lnTo>
                  <a:lnTo>
                    <a:pt x="1429" y="1962"/>
                  </a:lnTo>
                  <a:lnTo>
                    <a:pt x="1434" y="1957"/>
                  </a:lnTo>
                  <a:lnTo>
                    <a:pt x="1440" y="1951"/>
                  </a:lnTo>
                  <a:lnTo>
                    <a:pt x="1440" y="1946"/>
                  </a:lnTo>
                  <a:lnTo>
                    <a:pt x="1445" y="1940"/>
                  </a:lnTo>
                  <a:lnTo>
                    <a:pt x="1451" y="1935"/>
                  </a:lnTo>
                  <a:lnTo>
                    <a:pt x="1456" y="1929"/>
                  </a:lnTo>
                  <a:lnTo>
                    <a:pt x="1461" y="1924"/>
                  </a:lnTo>
                  <a:lnTo>
                    <a:pt x="1467" y="1918"/>
                  </a:lnTo>
                  <a:lnTo>
                    <a:pt x="1478" y="1918"/>
                  </a:lnTo>
                  <a:lnTo>
                    <a:pt x="1483" y="1913"/>
                  </a:lnTo>
                  <a:lnTo>
                    <a:pt x="1489" y="1908"/>
                  </a:lnTo>
                  <a:lnTo>
                    <a:pt x="1494" y="1902"/>
                  </a:lnTo>
                  <a:lnTo>
                    <a:pt x="1494" y="1897"/>
                  </a:lnTo>
                  <a:lnTo>
                    <a:pt x="1505" y="1897"/>
                  </a:lnTo>
                  <a:lnTo>
                    <a:pt x="1516" y="1902"/>
                  </a:lnTo>
                  <a:lnTo>
                    <a:pt x="1521" y="1908"/>
                  </a:lnTo>
                  <a:lnTo>
                    <a:pt x="1521" y="1913"/>
                  </a:lnTo>
                  <a:lnTo>
                    <a:pt x="1516" y="1918"/>
                  </a:lnTo>
                  <a:lnTo>
                    <a:pt x="1511" y="1918"/>
                  </a:lnTo>
                  <a:lnTo>
                    <a:pt x="1500" y="1924"/>
                  </a:lnTo>
                  <a:lnTo>
                    <a:pt x="1489" y="1929"/>
                  </a:lnTo>
                  <a:lnTo>
                    <a:pt x="1489" y="1935"/>
                  </a:lnTo>
                  <a:lnTo>
                    <a:pt x="1489" y="1940"/>
                  </a:lnTo>
                  <a:lnTo>
                    <a:pt x="1489" y="1946"/>
                  </a:lnTo>
                  <a:lnTo>
                    <a:pt x="1489" y="1957"/>
                  </a:lnTo>
                  <a:lnTo>
                    <a:pt x="1494" y="1962"/>
                  </a:lnTo>
                  <a:lnTo>
                    <a:pt x="1494" y="1968"/>
                  </a:lnTo>
                  <a:lnTo>
                    <a:pt x="1494" y="1973"/>
                  </a:lnTo>
                  <a:lnTo>
                    <a:pt x="1500" y="1978"/>
                  </a:lnTo>
                  <a:lnTo>
                    <a:pt x="1527" y="1978"/>
                  </a:lnTo>
                  <a:lnTo>
                    <a:pt x="1560" y="1978"/>
                  </a:lnTo>
                  <a:lnTo>
                    <a:pt x="1592" y="1978"/>
                  </a:lnTo>
                  <a:lnTo>
                    <a:pt x="1625" y="1978"/>
                  </a:lnTo>
                  <a:lnTo>
                    <a:pt x="1658" y="1978"/>
                  </a:lnTo>
                  <a:lnTo>
                    <a:pt x="1685" y="1978"/>
                  </a:lnTo>
                  <a:lnTo>
                    <a:pt x="1718" y="1978"/>
                  </a:lnTo>
                  <a:lnTo>
                    <a:pt x="1750" y="1978"/>
                  </a:lnTo>
                  <a:lnTo>
                    <a:pt x="1783" y="1978"/>
                  </a:lnTo>
                  <a:lnTo>
                    <a:pt x="1816" y="1978"/>
                  </a:lnTo>
                  <a:lnTo>
                    <a:pt x="1849" y="1978"/>
                  </a:lnTo>
                  <a:lnTo>
                    <a:pt x="1876" y="1978"/>
                  </a:lnTo>
                  <a:lnTo>
                    <a:pt x="1909" y="1978"/>
                  </a:lnTo>
                  <a:lnTo>
                    <a:pt x="1941" y="1978"/>
                  </a:lnTo>
                  <a:lnTo>
                    <a:pt x="1974" y="1978"/>
                  </a:lnTo>
                  <a:lnTo>
                    <a:pt x="2007" y="1978"/>
                  </a:lnTo>
                  <a:lnTo>
                    <a:pt x="2039" y="1978"/>
                  </a:lnTo>
                  <a:lnTo>
                    <a:pt x="2067" y="1978"/>
                  </a:lnTo>
                  <a:lnTo>
                    <a:pt x="2099" y="1978"/>
                  </a:lnTo>
                  <a:lnTo>
                    <a:pt x="2132" y="1978"/>
                  </a:lnTo>
                  <a:lnTo>
                    <a:pt x="2165" y="1978"/>
                  </a:lnTo>
                  <a:lnTo>
                    <a:pt x="2198" y="1978"/>
                  </a:lnTo>
                  <a:lnTo>
                    <a:pt x="2230" y="1978"/>
                  </a:lnTo>
                  <a:lnTo>
                    <a:pt x="2258" y="1978"/>
                  </a:lnTo>
                  <a:lnTo>
                    <a:pt x="2290" y="1978"/>
                  </a:lnTo>
                  <a:lnTo>
                    <a:pt x="2323" y="1978"/>
                  </a:lnTo>
                  <a:lnTo>
                    <a:pt x="2356" y="1978"/>
                  </a:lnTo>
                  <a:lnTo>
                    <a:pt x="2388" y="1978"/>
                  </a:lnTo>
                  <a:lnTo>
                    <a:pt x="2421" y="1978"/>
                  </a:lnTo>
                  <a:lnTo>
                    <a:pt x="2448" y="1978"/>
                  </a:lnTo>
                  <a:lnTo>
                    <a:pt x="2481" y="1978"/>
                  </a:lnTo>
                  <a:lnTo>
                    <a:pt x="2514" y="1978"/>
                  </a:lnTo>
                  <a:lnTo>
                    <a:pt x="2546" y="1978"/>
                  </a:lnTo>
                  <a:lnTo>
                    <a:pt x="2579" y="1978"/>
                  </a:lnTo>
                  <a:lnTo>
                    <a:pt x="2612" y="1978"/>
                  </a:lnTo>
                  <a:lnTo>
                    <a:pt x="2639" y="1978"/>
                  </a:lnTo>
                  <a:lnTo>
                    <a:pt x="2672" y="1978"/>
                  </a:lnTo>
                  <a:lnTo>
                    <a:pt x="2705" y="1946"/>
                  </a:lnTo>
                  <a:lnTo>
                    <a:pt x="2737" y="1946"/>
                  </a:lnTo>
                  <a:lnTo>
                    <a:pt x="2770" y="1946"/>
                  </a:lnTo>
                  <a:lnTo>
                    <a:pt x="2797" y="1946"/>
                  </a:lnTo>
                  <a:lnTo>
                    <a:pt x="2830" y="1946"/>
                  </a:lnTo>
                  <a:lnTo>
                    <a:pt x="2863" y="1946"/>
                  </a:lnTo>
                  <a:lnTo>
                    <a:pt x="2895" y="1946"/>
                  </a:lnTo>
                  <a:lnTo>
                    <a:pt x="2928" y="1918"/>
                  </a:lnTo>
                  <a:lnTo>
                    <a:pt x="2928" y="1886"/>
                  </a:lnTo>
                  <a:lnTo>
                    <a:pt x="2928" y="1853"/>
                  </a:lnTo>
                  <a:lnTo>
                    <a:pt x="2928" y="1820"/>
                  </a:lnTo>
                  <a:lnTo>
                    <a:pt x="2961" y="1788"/>
                  </a:lnTo>
                  <a:lnTo>
                    <a:pt x="2961" y="1755"/>
                  </a:lnTo>
                  <a:lnTo>
                    <a:pt x="2961" y="1722"/>
                  </a:lnTo>
                  <a:lnTo>
                    <a:pt x="2961" y="1695"/>
                  </a:lnTo>
                  <a:lnTo>
                    <a:pt x="2988" y="1662"/>
                  </a:lnTo>
                  <a:lnTo>
                    <a:pt x="2988" y="1630"/>
                  </a:lnTo>
                  <a:lnTo>
                    <a:pt x="2988" y="1597"/>
                  </a:lnTo>
                  <a:lnTo>
                    <a:pt x="2988" y="1564"/>
                  </a:lnTo>
                  <a:lnTo>
                    <a:pt x="3021" y="1531"/>
                  </a:lnTo>
                  <a:lnTo>
                    <a:pt x="3021" y="1499"/>
                  </a:lnTo>
                  <a:lnTo>
                    <a:pt x="3021" y="1472"/>
                  </a:lnTo>
                  <a:lnTo>
                    <a:pt x="3021" y="1439"/>
                  </a:lnTo>
                  <a:lnTo>
                    <a:pt x="3054" y="1406"/>
                  </a:lnTo>
                  <a:lnTo>
                    <a:pt x="3054" y="1373"/>
                  </a:lnTo>
                  <a:lnTo>
                    <a:pt x="3054" y="1341"/>
                  </a:lnTo>
                  <a:lnTo>
                    <a:pt x="3054" y="1308"/>
                  </a:lnTo>
                  <a:lnTo>
                    <a:pt x="3086" y="1275"/>
                  </a:lnTo>
                  <a:lnTo>
                    <a:pt x="3086" y="1248"/>
                  </a:lnTo>
                  <a:lnTo>
                    <a:pt x="3086" y="1215"/>
                  </a:lnTo>
                  <a:lnTo>
                    <a:pt x="3086" y="1183"/>
                  </a:lnTo>
                  <a:lnTo>
                    <a:pt x="3086" y="1150"/>
                  </a:lnTo>
                  <a:lnTo>
                    <a:pt x="3086" y="1117"/>
                  </a:lnTo>
                  <a:lnTo>
                    <a:pt x="3086" y="1085"/>
                  </a:lnTo>
                  <a:lnTo>
                    <a:pt x="3086" y="1052"/>
                  </a:lnTo>
                  <a:lnTo>
                    <a:pt x="3086" y="1025"/>
                  </a:lnTo>
                  <a:lnTo>
                    <a:pt x="3086" y="992"/>
                  </a:lnTo>
                  <a:lnTo>
                    <a:pt x="3086" y="959"/>
                  </a:lnTo>
                  <a:lnTo>
                    <a:pt x="3086" y="927"/>
                  </a:lnTo>
                  <a:lnTo>
                    <a:pt x="3086" y="894"/>
                  </a:lnTo>
                  <a:lnTo>
                    <a:pt x="3086" y="861"/>
                  </a:lnTo>
                  <a:lnTo>
                    <a:pt x="3086" y="828"/>
                  </a:lnTo>
                  <a:lnTo>
                    <a:pt x="3086" y="801"/>
                  </a:lnTo>
                  <a:lnTo>
                    <a:pt x="3086" y="768"/>
                  </a:lnTo>
                  <a:lnTo>
                    <a:pt x="3086" y="736"/>
                  </a:lnTo>
                  <a:lnTo>
                    <a:pt x="3086" y="703"/>
                  </a:lnTo>
                  <a:lnTo>
                    <a:pt x="3086" y="670"/>
                  </a:lnTo>
                  <a:lnTo>
                    <a:pt x="3086" y="638"/>
                  </a:lnTo>
                  <a:lnTo>
                    <a:pt x="3086" y="605"/>
                  </a:lnTo>
                  <a:lnTo>
                    <a:pt x="3086" y="572"/>
                  </a:lnTo>
                  <a:lnTo>
                    <a:pt x="3086" y="545"/>
                  </a:lnTo>
                  <a:lnTo>
                    <a:pt x="3086" y="512"/>
                  </a:lnTo>
                  <a:lnTo>
                    <a:pt x="3086" y="480"/>
                  </a:lnTo>
                  <a:lnTo>
                    <a:pt x="3086" y="447"/>
                  </a:lnTo>
                  <a:lnTo>
                    <a:pt x="3086" y="414"/>
                  </a:lnTo>
                  <a:lnTo>
                    <a:pt x="3086" y="381"/>
                  </a:lnTo>
                  <a:lnTo>
                    <a:pt x="3086" y="354"/>
                  </a:lnTo>
                  <a:lnTo>
                    <a:pt x="3086" y="322"/>
                  </a:lnTo>
                  <a:lnTo>
                    <a:pt x="3086" y="289"/>
                  </a:lnTo>
                  <a:lnTo>
                    <a:pt x="3054" y="256"/>
                  </a:lnTo>
                  <a:lnTo>
                    <a:pt x="3054" y="223"/>
                  </a:lnTo>
                  <a:lnTo>
                    <a:pt x="3054" y="191"/>
                  </a:lnTo>
                  <a:lnTo>
                    <a:pt x="3054" y="180"/>
                  </a:lnTo>
                  <a:lnTo>
                    <a:pt x="3048" y="185"/>
                  </a:lnTo>
                  <a:lnTo>
                    <a:pt x="3043" y="191"/>
                  </a:lnTo>
                  <a:lnTo>
                    <a:pt x="3037" y="196"/>
                  </a:lnTo>
                  <a:lnTo>
                    <a:pt x="3037" y="202"/>
                  </a:lnTo>
                  <a:lnTo>
                    <a:pt x="3037" y="207"/>
                  </a:lnTo>
                  <a:lnTo>
                    <a:pt x="3037" y="218"/>
                  </a:lnTo>
                  <a:lnTo>
                    <a:pt x="3043" y="223"/>
                  </a:lnTo>
                  <a:lnTo>
                    <a:pt x="3048" y="229"/>
                  </a:lnTo>
                  <a:lnTo>
                    <a:pt x="3048" y="234"/>
                  </a:lnTo>
                  <a:lnTo>
                    <a:pt x="3048" y="245"/>
                  </a:lnTo>
                  <a:lnTo>
                    <a:pt x="3048" y="251"/>
                  </a:lnTo>
                  <a:lnTo>
                    <a:pt x="3048" y="256"/>
                  </a:lnTo>
                  <a:lnTo>
                    <a:pt x="3043" y="262"/>
                  </a:lnTo>
                  <a:lnTo>
                    <a:pt x="3037" y="267"/>
                  </a:lnTo>
                  <a:lnTo>
                    <a:pt x="3032" y="272"/>
                  </a:lnTo>
                  <a:lnTo>
                    <a:pt x="3021" y="278"/>
                  </a:lnTo>
                  <a:lnTo>
                    <a:pt x="3015" y="283"/>
                  </a:lnTo>
                  <a:lnTo>
                    <a:pt x="3004" y="289"/>
                  </a:lnTo>
                  <a:lnTo>
                    <a:pt x="2999" y="294"/>
                  </a:lnTo>
                  <a:lnTo>
                    <a:pt x="2994" y="300"/>
                  </a:lnTo>
                  <a:lnTo>
                    <a:pt x="2988" y="305"/>
                  </a:lnTo>
                  <a:lnTo>
                    <a:pt x="2988" y="311"/>
                  </a:lnTo>
                  <a:lnTo>
                    <a:pt x="2988" y="316"/>
                  </a:lnTo>
                  <a:lnTo>
                    <a:pt x="2983" y="322"/>
                  </a:lnTo>
                  <a:lnTo>
                    <a:pt x="2977" y="327"/>
                  </a:lnTo>
                  <a:lnTo>
                    <a:pt x="2972" y="332"/>
                  </a:lnTo>
                  <a:lnTo>
                    <a:pt x="2966" y="338"/>
                  </a:lnTo>
                  <a:lnTo>
                    <a:pt x="2961" y="343"/>
                  </a:lnTo>
                  <a:lnTo>
                    <a:pt x="2955" y="354"/>
                  </a:lnTo>
                  <a:lnTo>
                    <a:pt x="2950" y="360"/>
                  </a:lnTo>
                  <a:lnTo>
                    <a:pt x="2950" y="365"/>
                  </a:lnTo>
                  <a:lnTo>
                    <a:pt x="2950" y="376"/>
                  </a:lnTo>
                  <a:lnTo>
                    <a:pt x="2955" y="381"/>
                  </a:lnTo>
                  <a:lnTo>
                    <a:pt x="2966" y="387"/>
                  </a:lnTo>
                  <a:lnTo>
                    <a:pt x="2961" y="392"/>
                  </a:lnTo>
                  <a:lnTo>
                    <a:pt x="2955" y="387"/>
                  </a:lnTo>
                  <a:lnTo>
                    <a:pt x="2950" y="376"/>
                  </a:lnTo>
                  <a:lnTo>
                    <a:pt x="2939" y="376"/>
                  </a:lnTo>
                  <a:lnTo>
                    <a:pt x="2928" y="376"/>
                  </a:lnTo>
                  <a:lnTo>
                    <a:pt x="2917" y="381"/>
                  </a:lnTo>
                  <a:lnTo>
                    <a:pt x="2906" y="381"/>
                  </a:lnTo>
                  <a:lnTo>
                    <a:pt x="2901" y="387"/>
                  </a:lnTo>
                  <a:lnTo>
                    <a:pt x="2895" y="392"/>
                  </a:lnTo>
                  <a:lnTo>
                    <a:pt x="2895" y="398"/>
                  </a:lnTo>
                  <a:lnTo>
                    <a:pt x="2901" y="409"/>
                  </a:lnTo>
                  <a:lnTo>
                    <a:pt x="2906" y="414"/>
                  </a:lnTo>
                  <a:lnTo>
                    <a:pt x="2912" y="420"/>
                  </a:lnTo>
                  <a:lnTo>
                    <a:pt x="2923" y="420"/>
                  </a:lnTo>
                  <a:lnTo>
                    <a:pt x="2934" y="420"/>
                  </a:lnTo>
                  <a:lnTo>
                    <a:pt x="2939" y="425"/>
                  </a:lnTo>
                  <a:lnTo>
                    <a:pt x="2944" y="436"/>
                  </a:lnTo>
                  <a:lnTo>
                    <a:pt x="2950" y="441"/>
                  </a:lnTo>
                  <a:lnTo>
                    <a:pt x="2950" y="447"/>
                  </a:lnTo>
                  <a:lnTo>
                    <a:pt x="2944" y="452"/>
                  </a:lnTo>
                  <a:lnTo>
                    <a:pt x="2944" y="463"/>
                  </a:lnTo>
                  <a:lnTo>
                    <a:pt x="2934" y="469"/>
                  </a:lnTo>
                  <a:lnTo>
                    <a:pt x="2928" y="474"/>
                  </a:lnTo>
                  <a:lnTo>
                    <a:pt x="2923" y="480"/>
                  </a:lnTo>
                  <a:lnTo>
                    <a:pt x="2917" y="485"/>
                  </a:lnTo>
                  <a:lnTo>
                    <a:pt x="2912" y="490"/>
                  </a:lnTo>
                  <a:lnTo>
                    <a:pt x="2912" y="496"/>
                  </a:lnTo>
                  <a:lnTo>
                    <a:pt x="2906" y="501"/>
                  </a:lnTo>
                  <a:lnTo>
                    <a:pt x="2906" y="507"/>
                  </a:lnTo>
                  <a:lnTo>
                    <a:pt x="2901" y="518"/>
                  </a:lnTo>
                  <a:lnTo>
                    <a:pt x="2901" y="523"/>
                  </a:lnTo>
                  <a:lnTo>
                    <a:pt x="2895" y="529"/>
                  </a:lnTo>
                  <a:lnTo>
                    <a:pt x="2895" y="534"/>
                  </a:lnTo>
                  <a:lnTo>
                    <a:pt x="2895" y="545"/>
                  </a:lnTo>
                  <a:lnTo>
                    <a:pt x="2890" y="550"/>
                  </a:lnTo>
                  <a:lnTo>
                    <a:pt x="2890" y="556"/>
                  </a:lnTo>
                  <a:lnTo>
                    <a:pt x="2885" y="561"/>
                  </a:lnTo>
                  <a:lnTo>
                    <a:pt x="2885" y="567"/>
                  </a:lnTo>
                  <a:lnTo>
                    <a:pt x="2879" y="578"/>
                  </a:lnTo>
                  <a:lnTo>
                    <a:pt x="2879" y="583"/>
                  </a:lnTo>
                  <a:lnTo>
                    <a:pt x="2874" y="589"/>
                  </a:lnTo>
                  <a:lnTo>
                    <a:pt x="2874" y="594"/>
                  </a:lnTo>
                  <a:lnTo>
                    <a:pt x="2874" y="599"/>
                  </a:lnTo>
                  <a:lnTo>
                    <a:pt x="2874" y="610"/>
                  </a:lnTo>
                  <a:lnTo>
                    <a:pt x="2874" y="616"/>
                  </a:lnTo>
                  <a:lnTo>
                    <a:pt x="2868" y="621"/>
                  </a:lnTo>
                  <a:lnTo>
                    <a:pt x="2868" y="632"/>
                  </a:lnTo>
                  <a:lnTo>
                    <a:pt x="2868" y="638"/>
                  </a:lnTo>
                  <a:lnTo>
                    <a:pt x="2863" y="643"/>
                  </a:lnTo>
                  <a:lnTo>
                    <a:pt x="2857" y="649"/>
                  </a:lnTo>
                  <a:lnTo>
                    <a:pt x="2857" y="654"/>
                  </a:lnTo>
                  <a:lnTo>
                    <a:pt x="2857" y="665"/>
                  </a:lnTo>
                  <a:lnTo>
                    <a:pt x="2857" y="670"/>
                  </a:lnTo>
                  <a:lnTo>
                    <a:pt x="2868" y="676"/>
                  </a:lnTo>
                  <a:lnTo>
                    <a:pt x="2874" y="681"/>
                  </a:lnTo>
                  <a:lnTo>
                    <a:pt x="2879" y="687"/>
                  </a:lnTo>
                  <a:lnTo>
                    <a:pt x="2885" y="692"/>
                  </a:lnTo>
                  <a:lnTo>
                    <a:pt x="2890" y="698"/>
                  </a:lnTo>
                  <a:lnTo>
                    <a:pt x="2890" y="703"/>
                  </a:lnTo>
                  <a:lnTo>
                    <a:pt x="2885" y="714"/>
                  </a:lnTo>
                  <a:lnTo>
                    <a:pt x="2879" y="719"/>
                  </a:lnTo>
                  <a:lnTo>
                    <a:pt x="2879" y="725"/>
                  </a:lnTo>
                  <a:lnTo>
                    <a:pt x="2879" y="730"/>
                  </a:lnTo>
                  <a:lnTo>
                    <a:pt x="2885" y="736"/>
                  </a:lnTo>
                  <a:lnTo>
                    <a:pt x="2890" y="741"/>
                  </a:lnTo>
                  <a:lnTo>
                    <a:pt x="2901" y="747"/>
                  </a:lnTo>
                  <a:lnTo>
                    <a:pt x="2906" y="752"/>
                  </a:lnTo>
                  <a:lnTo>
                    <a:pt x="2912" y="758"/>
                  </a:lnTo>
                  <a:lnTo>
                    <a:pt x="2912" y="763"/>
                  </a:lnTo>
                  <a:lnTo>
                    <a:pt x="2912" y="774"/>
                  </a:lnTo>
                  <a:lnTo>
                    <a:pt x="2912" y="785"/>
                  </a:lnTo>
                  <a:lnTo>
                    <a:pt x="2906" y="790"/>
                  </a:lnTo>
                  <a:lnTo>
                    <a:pt x="2901" y="796"/>
                  </a:lnTo>
                  <a:lnTo>
                    <a:pt x="2890" y="796"/>
                  </a:lnTo>
                  <a:lnTo>
                    <a:pt x="2885" y="790"/>
                  </a:lnTo>
                  <a:lnTo>
                    <a:pt x="2874" y="785"/>
                  </a:lnTo>
                  <a:lnTo>
                    <a:pt x="2868" y="779"/>
                  </a:lnTo>
                  <a:lnTo>
                    <a:pt x="2863" y="779"/>
                  </a:lnTo>
                  <a:lnTo>
                    <a:pt x="2857" y="785"/>
                  </a:lnTo>
                  <a:lnTo>
                    <a:pt x="2852" y="790"/>
                  </a:lnTo>
                  <a:lnTo>
                    <a:pt x="2852" y="801"/>
                  </a:lnTo>
                  <a:lnTo>
                    <a:pt x="2841" y="807"/>
                  </a:lnTo>
                  <a:lnTo>
                    <a:pt x="2835" y="812"/>
                  </a:lnTo>
                  <a:lnTo>
                    <a:pt x="2830" y="812"/>
                  </a:lnTo>
                  <a:lnTo>
                    <a:pt x="2825" y="812"/>
                  </a:lnTo>
                  <a:lnTo>
                    <a:pt x="2819" y="801"/>
                  </a:lnTo>
                  <a:lnTo>
                    <a:pt x="2814" y="796"/>
                  </a:lnTo>
                  <a:lnTo>
                    <a:pt x="2808" y="790"/>
                  </a:lnTo>
                  <a:lnTo>
                    <a:pt x="2803" y="785"/>
                  </a:lnTo>
                  <a:lnTo>
                    <a:pt x="2797" y="779"/>
                  </a:lnTo>
                  <a:lnTo>
                    <a:pt x="2797" y="774"/>
                  </a:lnTo>
                  <a:lnTo>
                    <a:pt x="2792" y="763"/>
                  </a:lnTo>
                  <a:lnTo>
                    <a:pt x="2792" y="758"/>
                  </a:lnTo>
                  <a:lnTo>
                    <a:pt x="2792" y="752"/>
                  </a:lnTo>
                  <a:lnTo>
                    <a:pt x="2792" y="747"/>
                  </a:lnTo>
                  <a:lnTo>
                    <a:pt x="2792" y="736"/>
                  </a:lnTo>
                  <a:lnTo>
                    <a:pt x="2792" y="730"/>
                  </a:lnTo>
                  <a:lnTo>
                    <a:pt x="2786" y="719"/>
                  </a:lnTo>
                  <a:lnTo>
                    <a:pt x="2781" y="714"/>
                  </a:lnTo>
                  <a:lnTo>
                    <a:pt x="2775" y="708"/>
                  </a:lnTo>
                  <a:lnTo>
                    <a:pt x="2770" y="708"/>
                  </a:lnTo>
                  <a:lnTo>
                    <a:pt x="2765" y="708"/>
                  </a:lnTo>
                  <a:lnTo>
                    <a:pt x="2759" y="714"/>
                  </a:lnTo>
                  <a:lnTo>
                    <a:pt x="2754" y="719"/>
                  </a:lnTo>
                  <a:lnTo>
                    <a:pt x="2748" y="730"/>
                  </a:lnTo>
                  <a:lnTo>
                    <a:pt x="2743" y="736"/>
                  </a:lnTo>
                  <a:lnTo>
                    <a:pt x="2737" y="741"/>
                  </a:lnTo>
                  <a:lnTo>
                    <a:pt x="2732" y="747"/>
                  </a:lnTo>
                  <a:lnTo>
                    <a:pt x="2726" y="752"/>
                  </a:lnTo>
                  <a:lnTo>
                    <a:pt x="2721" y="758"/>
                  </a:lnTo>
                  <a:lnTo>
                    <a:pt x="2715" y="763"/>
                  </a:lnTo>
                  <a:lnTo>
                    <a:pt x="2710" y="768"/>
                  </a:lnTo>
                  <a:lnTo>
                    <a:pt x="2705" y="774"/>
                  </a:lnTo>
                  <a:lnTo>
                    <a:pt x="2694" y="779"/>
                  </a:lnTo>
                  <a:lnTo>
                    <a:pt x="2688" y="785"/>
                  </a:lnTo>
                  <a:lnTo>
                    <a:pt x="2683" y="790"/>
                  </a:lnTo>
                  <a:lnTo>
                    <a:pt x="2677" y="796"/>
                  </a:lnTo>
                  <a:lnTo>
                    <a:pt x="2672" y="801"/>
                  </a:lnTo>
                  <a:lnTo>
                    <a:pt x="2666" y="807"/>
                  </a:lnTo>
                  <a:lnTo>
                    <a:pt x="2656" y="812"/>
                  </a:lnTo>
                  <a:lnTo>
                    <a:pt x="2650" y="817"/>
                  </a:lnTo>
                  <a:lnTo>
                    <a:pt x="2639" y="823"/>
                  </a:lnTo>
                  <a:lnTo>
                    <a:pt x="2634" y="828"/>
                  </a:lnTo>
                  <a:lnTo>
                    <a:pt x="2628" y="834"/>
                  </a:lnTo>
                  <a:lnTo>
                    <a:pt x="2623" y="839"/>
                  </a:lnTo>
                  <a:lnTo>
                    <a:pt x="2617" y="845"/>
                  </a:lnTo>
                  <a:lnTo>
                    <a:pt x="2606" y="850"/>
                  </a:lnTo>
                  <a:lnTo>
                    <a:pt x="2601" y="856"/>
                  </a:lnTo>
                  <a:lnTo>
                    <a:pt x="2596" y="856"/>
                  </a:lnTo>
                  <a:lnTo>
                    <a:pt x="2585" y="861"/>
                  </a:lnTo>
                  <a:lnTo>
                    <a:pt x="2579" y="867"/>
                  </a:lnTo>
                  <a:lnTo>
                    <a:pt x="2574" y="872"/>
                  </a:lnTo>
                  <a:lnTo>
                    <a:pt x="2563" y="877"/>
                  </a:lnTo>
                  <a:lnTo>
                    <a:pt x="2557" y="883"/>
                  </a:lnTo>
                  <a:lnTo>
                    <a:pt x="2552" y="888"/>
                  </a:lnTo>
                  <a:lnTo>
                    <a:pt x="2552" y="899"/>
                  </a:lnTo>
                  <a:lnTo>
                    <a:pt x="2552" y="905"/>
                  </a:lnTo>
                  <a:lnTo>
                    <a:pt x="2546" y="910"/>
                  </a:lnTo>
                  <a:lnTo>
                    <a:pt x="2546" y="916"/>
                  </a:lnTo>
                  <a:lnTo>
                    <a:pt x="2546" y="927"/>
                  </a:lnTo>
                  <a:lnTo>
                    <a:pt x="2546" y="932"/>
                  </a:lnTo>
                  <a:lnTo>
                    <a:pt x="2546" y="937"/>
                  </a:lnTo>
                  <a:lnTo>
                    <a:pt x="2541" y="943"/>
                  </a:lnTo>
                  <a:lnTo>
                    <a:pt x="2541" y="948"/>
                  </a:lnTo>
                  <a:lnTo>
                    <a:pt x="2541" y="959"/>
                  </a:lnTo>
                  <a:lnTo>
                    <a:pt x="2541" y="965"/>
                  </a:lnTo>
                  <a:lnTo>
                    <a:pt x="2541" y="970"/>
                  </a:lnTo>
                  <a:lnTo>
                    <a:pt x="2541" y="976"/>
                  </a:lnTo>
                  <a:lnTo>
                    <a:pt x="2536" y="986"/>
                  </a:lnTo>
                  <a:lnTo>
                    <a:pt x="2536" y="992"/>
                  </a:lnTo>
                  <a:lnTo>
                    <a:pt x="2536" y="997"/>
                  </a:lnTo>
                  <a:lnTo>
                    <a:pt x="2536" y="1003"/>
                  </a:lnTo>
                  <a:lnTo>
                    <a:pt x="2536" y="1014"/>
                  </a:lnTo>
                  <a:lnTo>
                    <a:pt x="2530" y="1019"/>
                  </a:lnTo>
                  <a:lnTo>
                    <a:pt x="2530" y="1025"/>
                  </a:lnTo>
                  <a:lnTo>
                    <a:pt x="2530" y="1030"/>
                  </a:lnTo>
                  <a:lnTo>
                    <a:pt x="2525" y="1041"/>
                  </a:lnTo>
                  <a:lnTo>
                    <a:pt x="2525" y="1046"/>
                  </a:lnTo>
                  <a:lnTo>
                    <a:pt x="2525" y="1052"/>
                  </a:lnTo>
                  <a:lnTo>
                    <a:pt x="2525" y="1057"/>
                  </a:lnTo>
                  <a:lnTo>
                    <a:pt x="2525" y="1068"/>
                  </a:lnTo>
                  <a:lnTo>
                    <a:pt x="2525" y="1074"/>
                  </a:lnTo>
                  <a:lnTo>
                    <a:pt x="2525" y="1079"/>
                  </a:lnTo>
                  <a:lnTo>
                    <a:pt x="2525" y="1085"/>
                  </a:lnTo>
                  <a:lnTo>
                    <a:pt x="2525" y="1095"/>
                  </a:lnTo>
                  <a:lnTo>
                    <a:pt x="2525" y="1101"/>
                  </a:lnTo>
                  <a:lnTo>
                    <a:pt x="2525" y="1106"/>
                  </a:lnTo>
                  <a:lnTo>
                    <a:pt x="2525" y="1112"/>
                  </a:lnTo>
                  <a:lnTo>
                    <a:pt x="2525" y="1123"/>
                  </a:lnTo>
                  <a:lnTo>
                    <a:pt x="2530" y="1128"/>
                  </a:lnTo>
                  <a:lnTo>
                    <a:pt x="2536" y="1134"/>
                  </a:lnTo>
                  <a:lnTo>
                    <a:pt x="2536" y="1139"/>
                  </a:lnTo>
                  <a:lnTo>
                    <a:pt x="2541" y="1145"/>
                  </a:lnTo>
                  <a:lnTo>
                    <a:pt x="2546" y="1155"/>
                  </a:lnTo>
                  <a:lnTo>
                    <a:pt x="2546" y="1161"/>
                  </a:lnTo>
                  <a:lnTo>
                    <a:pt x="2541" y="1166"/>
                  </a:lnTo>
                  <a:lnTo>
                    <a:pt x="2541" y="1177"/>
                  </a:lnTo>
                  <a:lnTo>
                    <a:pt x="2536" y="1183"/>
                  </a:lnTo>
                  <a:lnTo>
                    <a:pt x="2525" y="1183"/>
                  </a:lnTo>
                  <a:lnTo>
                    <a:pt x="2519" y="1188"/>
                  </a:lnTo>
                  <a:lnTo>
                    <a:pt x="2508" y="1188"/>
                  </a:lnTo>
                  <a:lnTo>
                    <a:pt x="2497" y="1188"/>
                  </a:lnTo>
                  <a:lnTo>
                    <a:pt x="2487" y="1188"/>
                  </a:lnTo>
                  <a:lnTo>
                    <a:pt x="2476" y="1188"/>
                  </a:lnTo>
                  <a:lnTo>
                    <a:pt x="2465" y="1188"/>
                  </a:lnTo>
                  <a:lnTo>
                    <a:pt x="2454" y="1188"/>
                  </a:lnTo>
                  <a:lnTo>
                    <a:pt x="2443" y="1188"/>
                  </a:lnTo>
                  <a:lnTo>
                    <a:pt x="2432" y="1188"/>
                  </a:lnTo>
                  <a:lnTo>
                    <a:pt x="2421" y="1188"/>
                  </a:lnTo>
                  <a:lnTo>
                    <a:pt x="2410" y="1188"/>
                  </a:lnTo>
                  <a:lnTo>
                    <a:pt x="2399" y="1188"/>
                  </a:lnTo>
                  <a:lnTo>
                    <a:pt x="2394" y="1194"/>
                  </a:lnTo>
                  <a:lnTo>
                    <a:pt x="2383" y="1194"/>
                  </a:lnTo>
                  <a:lnTo>
                    <a:pt x="2372" y="1199"/>
                  </a:lnTo>
                  <a:lnTo>
                    <a:pt x="2367" y="1204"/>
                  </a:lnTo>
                  <a:lnTo>
                    <a:pt x="2361" y="1210"/>
                  </a:lnTo>
                  <a:lnTo>
                    <a:pt x="2350" y="1215"/>
                  </a:lnTo>
                  <a:lnTo>
                    <a:pt x="2350" y="1221"/>
                  </a:lnTo>
                  <a:lnTo>
                    <a:pt x="2345" y="1226"/>
                  </a:lnTo>
                  <a:lnTo>
                    <a:pt x="2350" y="1232"/>
                  </a:lnTo>
                  <a:lnTo>
                    <a:pt x="2345" y="1243"/>
                  </a:lnTo>
                  <a:lnTo>
                    <a:pt x="2345" y="1248"/>
                  </a:lnTo>
                  <a:lnTo>
                    <a:pt x="2339" y="1254"/>
                  </a:lnTo>
                  <a:lnTo>
                    <a:pt x="2334" y="1259"/>
                  </a:lnTo>
                  <a:lnTo>
                    <a:pt x="2323" y="1264"/>
                  </a:lnTo>
                  <a:lnTo>
                    <a:pt x="2312" y="1264"/>
                  </a:lnTo>
                  <a:lnTo>
                    <a:pt x="2307" y="1270"/>
                  </a:lnTo>
                  <a:lnTo>
                    <a:pt x="2296" y="1270"/>
                  </a:lnTo>
                  <a:lnTo>
                    <a:pt x="2285" y="1275"/>
                  </a:lnTo>
                  <a:lnTo>
                    <a:pt x="2274" y="1275"/>
                  </a:lnTo>
                  <a:lnTo>
                    <a:pt x="2268" y="1281"/>
                  </a:lnTo>
                  <a:lnTo>
                    <a:pt x="2268" y="1286"/>
                  </a:lnTo>
                  <a:lnTo>
                    <a:pt x="2274" y="1297"/>
                  </a:lnTo>
                  <a:lnTo>
                    <a:pt x="2274" y="1303"/>
                  </a:lnTo>
                  <a:lnTo>
                    <a:pt x="2274" y="1308"/>
                  </a:lnTo>
                  <a:lnTo>
                    <a:pt x="2268" y="1313"/>
                  </a:lnTo>
                  <a:lnTo>
                    <a:pt x="2258" y="1319"/>
                  </a:lnTo>
                  <a:lnTo>
                    <a:pt x="2247" y="1324"/>
                  </a:lnTo>
                  <a:lnTo>
                    <a:pt x="2236" y="1324"/>
                  </a:lnTo>
                  <a:lnTo>
                    <a:pt x="2230" y="1330"/>
                  </a:lnTo>
                  <a:lnTo>
                    <a:pt x="2219" y="1330"/>
                  </a:lnTo>
                  <a:lnTo>
                    <a:pt x="2208" y="1330"/>
                  </a:lnTo>
                  <a:lnTo>
                    <a:pt x="2198" y="1335"/>
                  </a:lnTo>
                  <a:lnTo>
                    <a:pt x="2192" y="1341"/>
                  </a:lnTo>
                  <a:lnTo>
                    <a:pt x="2192" y="1346"/>
                  </a:lnTo>
                  <a:lnTo>
                    <a:pt x="2203" y="1346"/>
                  </a:lnTo>
                  <a:lnTo>
                    <a:pt x="2214" y="1352"/>
                  </a:lnTo>
                  <a:lnTo>
                    <a:pt x="2219" y="1357"/>
                  </a:lnTo>
                  <a:lnTo>
                    <a:pt x="2225" y="1363"/>
                  </a:lnTo>
                  <a:lnTo>
                    <a:pt x="2236" y="1363"/>
                  </a:lnTo>
                  <a:lnTo>
                    <a:pt x="2241" y="1373"/>
                  </a:lnTo>
                  <a:lnTo>
                    <a:pt x="2247" y="1379"/>
                  </a:lnTo>
                  <a:lnTo>
                    <a:pt x="2247" y="1384"/>
                  </a:lnTo>
                  <a:lnTo>
                    <a:pt x="2252" y="1390"/>
                  </a:lnTo>
                  <a:lnTo>
                    <a:pt x="2252" y="1395"/>
                  </a:lnTo>
                  <a:lnTo>
                    <a:pt x="2258" y="1406"/>
                  </a:lnTo>
                  <a:lnTo>
                    <a:pt x="2258" y="1412"/>
                  </a:lnTo>
                  <a:lnTo>
                    <a:pt x="2263" y="1417"/>
                  </a:lnTo>
                  <a:lnTo>
                    <a:pt x="2268" y="1422"/>
                  </a:lnTo>
                  <a:lnTo>
                    <a:pt x="2274" y="1428"/>
                  </a:lnTo>
                  <a:lnTo>
                    <a:pt x="2279" y="1433"/>
                  </a:lnTo>
                  <a:lnTo>
                    <a:pt x="2274" y="1439"/>
                  </a:lnTo>
                  <a:lnTo>
                    <a:pt x="2268" y="1444"/>
                  </a:lnTo>
                  <a:lnTo>
                    <a:pt x="2258" y="1450"/>
                  </a:lnTo>
                  <a:lnTo>
                    <a:pt x="2247" y="1444"/>
                  </a:lnTo>
                  <a:lnTo>
                    <a:pt x="2241" y="1439"/>
                  </a:lnTo>
                  <a:lnTo>
                    <a:pt x="2236" y="1433"/>
                  </a:lnTo>
                  <a:lnTo>
                    <a:pt x="2230" y="1428"/>
                  </a:lnTo>
                  <a:lnTo>
                    <a:pt x="2219" y="1428"/>
                  </a:lnTo>
                  <a:lnTo>
                    <a:pt x="2208" y="1433"/>
                  </a:lnTo>
                  <a:lnTo>
                    <a:pt x="2198" y="1433"/>
                  </a:lnTo>
                  <a:lnTo>
                    <a:pt x="2192" y="1439"/>
                  </a:lnTo>
                  <a:lnTo>
                    <a:pt x="2181" y="1444"/>
                  </a:lnTo>
                  <a:lnTo>
                    <a:pt x="2176" y="1450"/>
                  </a:lnTo>
                  <a:lnTo>
                    <a:pt x="2170" y="1455"/>
                  </a:lnTo>
                  <a:lnTo>
                    <a:pt x="2165" y="1461"/>
                  </a:lnTo>
                  <a:lnTo>
                    <a:pt x="2154" y="1461"/>
                  </a:lnTo>
                  <a:lnTo>
                    <a:pt x="2143" y="1461"/>
                  </a:lnTo>
                  <a:lnTo>
                    <a:pt x="2132" y="1461"/>
                  </a:lnTo>
                  <a:lnTo>
                    <a:pt x="2121" y="1461"/>
                  </a:lnTo>
                  <a:lnTo>
                    <a:pt x="2110" y="1461"/>
                  </a:lnTo>
                  <a:lnTo>
                    <a:pt x="2099" y="1466"/>
                  </a:lnTo>
                  <a:lnTo>
                    <a:pt x="2094" y="1472"/>
                  </a:lnTo>
                  <a:lnTo>
                    <a:pt x="2088" y="1477"/>
                  </a:lnTo>
                  <a:lnTo>
                    <a:pt x="2083" y="1482"/>
                  </a:lnTo>
                  <a:lnTo>
                    <a:pt x="2078" y="1488"/>
                  </a:lnTo>
                  <a:lnTo>
                    <a:pt x="2072" y="1493"/>
                  </a:lnTo>
                  <a:lnTo>
                    <a:pt x="2067" y="1499"/>
                  </a:lnTo>
                  <a:lnTo>
                    <a:pt x="2061" y="1504"/>
                  </a:lnTo>
                  <a:lnTo>
                    <a:pt x="2050" y="1510"/>
                  </a:lnTo>
                  <a:lnTo>
                    <a:pt x="2039" y="1510"/>
                  </a:lnTo>
                  <a:lnTo>
                    <a:pt x="2029" y="1510"/>
                  </a:lnTo>
                  <a:lnTo>
                    <a:pt x="2018" y="1510"/>
                  </a:lnTo>
                  <a:lnTo>
                    <a:pt x="2007" y="1504"/>
                  </a:lnTo>
                  <a:lnTo>
                    <a:pt x="2001" y="1504"/>
                  </a:lnTo>
                  <a:lnTo>
                    <a:pt x="1990" y="1499"/>
                  </a:lnTo>
                  <a:lnTo>
                    <a:pt x="1985" y="1493"/>
                  </a:lnTo>
                  <a:lnTo>
                    <a:pt x="1979" y="1488"/>
                  </a:lnTo>
                  <a:lnTo>
                    <a:pt x="1974" y="1482"/>
                  </a:lnTo>
                  <a:lnTo>
                    <a:pt x="1963" y="1477"/>
                  </a:lnTo>
                  <a:lnTo>
                    <a:pt x="1958" y="1472"/>
                  </a:lnTo>
                  <a:lnTo>
                    <a:pt x="1952" y="1466"/>
                  </a:lnTo>
                  <a:lnTo>
                    <a:pt x="1947" y="1461"/>
                  </a:lnTo>
                  <a:lnTo>
                    <a:pt x="1941" y="1461"/>
                  </a:lnTo>
                  <a:lnTo>
                    <a:pt x="1930" y="1461"/>
                  </a:lnTo>
                  <a:lnTo>
                    <a:pt x="1919" y="1466"/>
                  </a:lnTo>
                  <a:lnTo>
                    <a:pt x="1909" y="1466"/>
                  </a:lnTo>
                  <a:lnTo>
                    <a:pt x="1903" y="1461"/>
                  </a:lnTo>
                  <a:lnTo>
                    <a:pt x="1903" y="1455"/>
                  </a:lnTo>
                  <a:lnTo>
                    <a:pt x="1898" y="1450"/>
                  </a:lnTo>
                  <a:lnTo>
                    <a:pt x="1898" y="1439"/>
                  </a:lnTo>
                  <a:lnTo>
                    <a:pt x="1892" y="1433"/>
                  </a:lnTo>
                  <a:lnTo>
                    <a:pt x="1887" y="1428"/>
                  </a:lnTo>
                  <a:lnTo>
                    <a:pt x="1881" y="1422"/>
                  </a:lnTo>
                  <a:lnTo>
                    <a:pt x="1870" y="1417"/>
                  </a:lnTo>
                  <a:lnTo>
                    <a:pt x="1859" y="1417"/>
                  </a:lnTo>
                  <a:lnTo>
                    <a:pt x="1854" y="1412"/>
                  </a:lnTo>
                  <a:lnTo>
                    <a:pt x="1843" y="1417"/>
                  </a:lnTo>
                  <a:lnTo>
                    <a:pt x="1832" y="1417"/>
                  </a:lnTo>
                  <a:lnTo>
                    <a:pt x="1827" y="1422"/>
                  </a:lnTo>
                  <a:lnTo>
                    <a:pt x="1821" y="1428"/>
                  </a:lnTo>
                  <a:lnTo>
                    <a:pt x="1816" y="1439"/>
                  </a:lnTo>
                  <a:lnTo>
                    <a:pt x="1810" y="1439"/>
                  </a:lnTo>
                  <a:lnTo>
                    <a:pt x="1805" y="1439"/>
                  </a:lnTo>
                  <a:lnTo>
                    <a:pt x="1816" y="1433"/>
                  </a:lnTo>
                  <a:lnTo>
                    <a:pt x="1827" y="1433"/>
                  </a:lnTo>
                  <a:lnTo>
                    <a:pt x="1838" y="1428"/>
                  </a:lnTo>
                  <a:lnTo>
                    <a:pt x="1843" y="1422"/>
                  </a:lnTo>
                  <a:lnTo>
                    <a:pt x="1843" y="1412"/>
                  </a:lnTo>
                  <a:lnTo>
                    <a:pt x="1843" y="1406"/>
                  </a:lnTo>
                  <a:lnTo>
                    <a:pt x="1838" y="1401"/>
                  </a:lnTo>
                  <a:lnTo>
                    <a:pt x="1832" y="1395"/>
                  </a:lnTo>
                  <a:lnTo>
                    <a:pt x="1827" y="1390"/>
                  </a:lnTo>
                  <a:lnTo>
                    <a:pt x="1821" y="1384"/>
                  </a:lnTo>
                  <a:lnTo>
                    <a:pt x="1816" y="1379"/>
                  </a:lnTo>
                  <a:lnTo>
                    <a:pt x="1810" y="1373"/>
                  </a:lnTo>
                  <a:lnTo>
                    <a:pt x="1805" y="1368"/>
                  </a:lnTo>
                  <a:lnTo>
                    <a:pt x="1800" y="1357"/>
                  </a:lnTo>
                  <a:lnTo>
                    <a:pt x="1800" y="1352"/>
                  </a:lnTo>
                  <a:lnTo>
                    <a:pt x="1794" y="1346"/>
                  </a:lnTo>
                  <a:lnTo>
                    <a:pt x="1789" y="1341"/>
                  </a:lnTo>
                  <a:lnTo>
                    <a:pt x="1783" y="1335"/>
                  </a:lnTo>
                  <a:lnTo>
                    <a:pt x="1778" y="1330"/>
                  </a:lnTo>
                  <a:lnTo>
                    <a:pt x="1772" y="1324"/>
                  </a:lnTo>
                  <a:lnTo>
                    <a:pt x="1767" y="1319"/>
                  </a:lnTo>
                  <a:lnTo>
                    <a:pt x="1767" y="1308"/>
                  </a:lnTo>
                  <a:lnTo>
                    <a:pt x="1761" y="1303"/>
                  </a:lnTo>
                  <a:lnTo>
                    <a:pt x="1761" y="1292"/>
                  </a:lnTo>
                  <a:lnTo>
                    <a:pt x="1756" y="1286"/>
                  </a:lnTo>
                  <a:lnTo>
                    <a:pt x="1750" y="1286"/>
                  </a:lnTo>
                  <a:lnTo>
                    <a:pt x="1745" y="1286"/>
                  </a:lnTo>
                  <a:lnTo>
                    <a:pt x="1734" y="1292"/>
                  </a:lnTo>
                  <a:lnTo>
                    <a:pt x="1729" y="1297"/>
                  </a:lnTo>
                  <a:lnTo>
                    <a:pt x="1723" y="1303"/>
                  </a:lnTo>
                  <a:lnTo>
                    <a:pt x="1723" y="1313"/>
                  </a:lnTo>
                  <a:lnTo>
                    <a:pt x="1723" y="1319"/>
                  </a:lnTo>
                  <a:lnTo>
                    <a:pt x="1723" y="1324"/>
                  </a:lnTo>
                  <a:lnTo>
                    <a:pt x="1729" y="1330"/>
                  </a:lnTo>
                  <a:lnTo>
                    <a:pt x="1734" y="1341"/>
                  </a:lnTo>
                  <a:lnTo>
                    <a:pt x="1734" y="1346"/>
                  </a:lnTo>
                  <a:lnTo>
                    <a:pt x="1740" y="1352"/>
                  </a:lnTo>
                  <a:lnTo>
                    <a:pt x="1740" y="1357"/>
                  </a:lnTo>
                  <a:lnTo>
                    <a:pt x="1740" y="1368"/>
                  </a:lnTo>
                  <a:lnTo>
                    <a:pt x="1745" y="1373"/>
                  </a:lnTo>
                  <a:lnTo>
                    <a:pt x="1750" y="1379"/>
                  </a:lnTo>
                  <a:lnTo>
                    <a:pt x="1756" y="1384"/>
                  </a:lnTo>
                  <a:lnTo>
                    <a:pt x="1761" y="1390"/>
                  </a:lnTo>
                  <a:lnTo>
                    <a:pt x="1761" y="1395"/>
                  </a:lnTo>
                  <a:lnTo>
                    <a:pt x="1767" y="1401"/>
                  </a:lnTo>
                  <a:lnTo>
                    <a:pt x="1767" y="1412"/>
                  </a:lnTo>
                  <a:lnTo>
                    <a:pt x="1761" y="1417"/>
                  </a:lnTo>
                  <a:lnTo>
                    <a:pt x="1756" y="1428"/>
                  </a:lnTo>
                  <a:lnTo>
                    <a:pt x="1750" y="1433"/>
                  </a:lnTo>
                  <a:lnTo>
                    <a:pt x="1745" y="1428"/>
                  </a:lnTo>
                  <a:lnTo>
                    <a:pt x="1740" y="1428"/>
                  </a:lnTo>
                  <a:lnTo>
                    <a:pt x="1734" y="1417"/>
                  </a:lnTo>
                  <a:lnTo>
                    <a:pt x="1729" y="1412"/>
                  </a:lnTo>
                  <a:lnTo>
                    <a:pt x="1718" y="1406"/>
                  </a:lnTo>
                  <a:lnTo>
                    <a:pt x="1707" y="1406"/>
                  </a:lnTo>
                  <a:lnTo>
                    <a:pt x="1696" y="1406"/>
                  </a:lnTo>
                  <a:lnTo>
                    <a:pt x="1690" y="1401"/>
                  </a:lnTo>
                  <a:lnTo>
                    <a:pt x="1680" y="1406"/>
                  </a:lnTo>
                  <a:lnTo>
                    <a:pt x="1680" y="1417"/>
                  </a:lnTo>
                  <a:lnTo>
                    <a:pt x="1680" y="1422"/>
                  </a:lnTo>
                  <a:lnTo>
                    <a:pt x="1680" y="1428"/>
                  </a:lnTo>
                  <a:lnTo>
                    <a:pt x="1680" y="1433"/>
                  </a:lnTo>
                  <a:lnTo>
                    <a:pt x="1680" y="1444"/>
                  </a:lnTo>
                  <a:lnTo>
                    <a:pt x="1680" y="1450"/>
                  </a:lnTo>
                  <a:lnTo>
                    <a:pt x="1674" y="1455"/>
                  </a:lnTo>
                  <a:lnTo>
                    <a:pt x="1674" y="1461"/>
                  </a:lnTo>
                  <a:lnTo>
                    <a:pt x="1680" y="1472"/>
                  </a:lnTo>
                  <a:lnTo>
                    <a:pt x="1685" y="1477"/>
                  </a:lnTo>
                  <a:lnTo>
                    <a:pt x="1690" y="1477"/>
                  </a:lnTo>
                  <a:lnTo>
                    <a:pt x="1696" y="1466"/>
                  </a:lnTo>
                  <a:lnTo>
                    <a:pt x="1707" y="1466"/>
                  </a:lnTo>
                  <a:lnTo>
                    <a:pt x="1718" y="1461"/>
                  </a:lnTo>
                  <a:lnTo>
                    <a:pt x="1729" y="1461"/>
                  </a:lnTo>
                  <a:lnTo>
                    <a:pt x="1740" y="1461"/>
                  </a:lnTo>
                  <a:lnTo>
                    <a:pt x="1750" y="1461"/>
                  </a:lnTo>
                  <a:lnTo>
                    <a:pt x="1756" y="1466"/>
                  </a:lnTo>
                  <a:lnTo>
                    <a:pt x="1756" y="1472"/>
                  </a:lnTo>
                  <a:lnTo>
                    <a:pt x="1761" y="1477"/>
                  </a:lnTo>
                  <a:lnTo>
                    <a:pt x="1767" y="1482"/>
                  </a:lnTo>
                  <a:lnTo>
                    <a:pt x="1772" y="1488"/>
                  </a:lnTo>
                  <a:lnTo>
                    <a:pt x="1778" y="1499"/>
                  </a:lnTo>
                  <a:lnTo>
                    <a:pt x="1783" y="1504"/>
                  </a:lnTo>
                  <a:lnTo>
                    <a:pt x="1789" y="1510"/>
                  </a:lnTo>
                  <a:lnTo>
                    <a:pt x="1789" y="1515"/>
                  </a:lnTo>
                  <a:lnTo>
                    <a:pt x="1794" y="1521"/>
                  </a:lnTo>
                  <a:lnTo>
                    <a:pt x="1800" y="1526"/>
                  </a:lnTo>
                  <a:lnTo>
                    <a:pt x="1805" y="1531"/>
                  </a:lnTo>
                  <a:lnTo>
                    <a:pt x="1810" y="1537"/>
                  </a:lnTo>
                  <a:lnTo>
                    <a:pt x="1816" y="1548"/>
                  </a:lnTo>
                  <a:lnTo>
                    <a:pt x="1816" y="1553"/>
                  </a:lnTo>
                  <a:lnTo>
                    <a:pt x="1821" y="1559"/>
                  </a:lnTo>
                  <a:lnTo>
                    <a:pt x="1827" y="1564"/>
                  </a:lnTo>
                  <a:lnTo>
                    <a:pt x="1832" y="1570"/>
                  </a:lnTo>
                  <a:lnTo>
                    <a:pt x="1838" y="1575"/>
                  </a:lnTo>
                  <a:lnTo>
                    <a:pt x="1843" y="1581"/>
                  </a:lnTo>
                  <a:lnTo>
                    <a:pt x="1843" y="1586"/>
                  </a:lnTo>
                  <a:lnTo>
                    <a:pt x="1849" y="1597"/>
                  </a:lnTo>
                  <a:lnTo>
                    <a:pt x="1854" y="1602"/>
                  </a:lnTo>
                  <a:lnTo>
                    <a:pt x="1859" y="1608"/>
                  </a:lnTo>
                  <a:lnTo>
                    <a:pt x="1865" y="1613"/>
                  </a:lnTo>
                  <a:lnTo>
                    <a:pt x="1870" y="1619"/>
                  </a:lnTo>
                  <a:lnTo>
                    <a:pt x="1876" y="1624"/>
                  </a:lnTo>
                  <a:lnTo>
                    <a:pt x="1881" y="1630"/>
                  </a:lnTo>
                  <a:lnTo>
                    <a:pt x="1887" y="1635"/>
                  </a:lnTo>
                  <a:lnTo>
                    <a:pt x="1892" y="1646"/>
                  </a:lnTo>
                  <a:lnTo>
                    <a:pt x="1898" y="1651"/>
                  </a:lnTo>
                  <a:lnTo>
                    <a:pt x="1903" y="1657"/>
                  </a:lnTo>
                  <a:lnTo>
                    <a:pt x="1909" y="1657"/>
                  </a:lnTo>
                  <a:lnTo>
                    <a:pt x="1914" y="1657"/>
                  </a:lnTo>
                  <a:lnTo>
                    <a:pt x="1925" y="1651"/>
                  </a:lnTo>
                  <a:lnTo>
                    <a:pt x="1930" y="1646"/>
                  </a:lnTo>
                  <a:lnTo>
                    <a:pt x="1936" y="1635"/>
                  </a:lnTo>
                  <a:lnTo>
                    <a:pt x="1936" y="1630"/>
                  </a:lnTo>
                  <a:lnTo>
                    <a:pt x="1941" y="1624"/>
                  </a:lnTo>
                  <a:lnTo>
                    <a:pt x="1947" y="1619"/>
                  </a:lnTo>
                  <a:lnTo>
                    <a:pt x="1958" y="1613"/>
                  </a:lnTo>
                  <a:lnTo>
                    <a:pt x="1969" y="1613"/>
                  </a:lnTo>
                  <a:lnTo>
                    <a:pt x="1979" y="1613"/>
                  </a:lnTo>
                  <a:lnTo>
                    <a:pt x="1985" y="1619"/>
                  </a:lnTo>
                  <a:lnTo>
                    <a:pt x="1996" y="1624"/>
                  </a:lnTo>
                  <a:lnTo>
                    <a:pt x="2001" y="1630"/>
                  </a:lnTo>
                  <a:lnTo>
                    <a:pt x="2001" y="1635"/>
                  </a:lnTo>
                  <a:lnTo>
                    <a:pt x="1990" y="1635"/>
                  </a:lnTo>
                  <a:lnTo>
                    <a:pt x="1979" y="1640"/>
                  </a:lnTo>
                  <a:lnTo>
                    <a:pt x="1969" y="1640"/>
                  </a:lnTo>
                  <a:lnTo>
                    <a:pt x="1958" y="1635"/>
                  </a:lnTo>
                  <a:lnTo>
                    <a:pt x="1947" y="1635"/>
                  </a:lnTo>
                  <a:lnTo>
                    <a:pt x="1941" y="1640"/>
                  </a:lnTo>
                  <a:lnTo>
                    <a:pt x="1930" y="1640"/>
                  </a:lnTo>
                  <a:lnTo>
                    <a:pt x="1925" y="1646"/>
                  </a:lnTo>
                  <a:lnTo>
                    <a:pt x="1919" y="1657"/>
                  </a:lnTo>
                  <a:lnTo>
                    <a:pt x="1914" y="1662"/>
                  </a:lnTo>
                  <a:lnTo>
                    <a:pt x="1909" y="1668"/>
                  </a:lnTo>
                  <a:lnTo>
                    <a:pt x="1898" y="1668"/>
                  </a:lnTo>
                  <a:lnTo>
                    <a:pt x="1892" y="1673"/>
                  </a:lnTo>
                  <a:lnTo>
                    <a:pt x="1881" y="1679"/>
                  </a:lnTo>
                  <a:lnTo>
                    <a:pt x="1870" y="1679"/>
                  </a:lnTo>
                  <a:lnTo>
                    <a:pt x="1865" y="1684"/>
                  </a:lnTo>
                  <a:lnTo>
                    <a:pt x="1854" y="1690"/>
                  </a:lnTo>
                  <a:lnTo>
                    <a:pt x="1849" y="1695"/>
                  </a:lnTo>
                  <a:lnTo>
                    <a:pt x="1838" y="1695"/>
                  </a:lnTo>
                  <a:lnTo>
                    <a:pt x="1827" y="1700"/>
                  </a:lnTo>
                  <a:lnTo>
                    <a:pt x="1816" y="1700"/>
                  </a:lnTo>
                  <a:lnTo>
                    <a:pt x="1810" y="1706"/>
                  </a:lnTo>
                  <a:lnTo>
                    <a:pt x="1805" y="1711"/>
                  </a:lnTo>
                  <a:lnTo>
                    <a:pt x="1800" y="1717"/>
                  </a:lnTo>
                  <a:lnTo>
                    <a:pt x="1794" y="1722"/>
                  </a:lnTo>
                  <a:lnTo>
                    <a:pt x="1789" y="1728"/>
                  </a:lnTo>
                  <a:lnTo>
                    <a:pt x="1778" y="1733"/>
                  </a:lnTo>
                  <a:lnTo>
                    <a:pt x="1767" y="1733"/>
                  </a:lnTo>
                  <a:lnTo>
                    <a:pt x="1756" y="1733"/>
                  </a:lnTo>
                  <a:lnTo>
                    <a:pt x="1745" y="1733"/>
                  </a:lnTo>
                  <a:lnTo>
                    <a:pt x="1734" y="1739"/>
                  </a:lnTo>
                  <a:lnTo>
                    <a:pt x="1723" y="1739"/>
                  </a:lnTo>
                  <a:lnTo>
                    <a:pt x="1718" y="1739"/>
                  </a:lnTo>
                  <a:lnTo>
                    <a:pt x="1707" y="1744"/>
                  </a:lnTo>
                  <a:lnTo>
                    <a:pt x="1701" y="1749"/>
                  </a:lnTo>
                  <a:lnTo>
                    <a:pt x="1696" y="1755"/>
                  </a:lnTo>
                  <a:lnTo>
                    <a:pt x="1685" y="1760"/>
                  </a:lnTo>
                  <a:lnTo>
                    <a:pt x="1680" y="1766"/>
                  </a:lnTo>
                  <a:lnTo>
                    <a:pt x="1669" y="1766"/>
                  </a:lnTo>
                  <a:lnTo>
                    <a:pt x="1658" y="1771"/>
                  </a:lnTo>
                  <a:lnTo>
                    <a:pt x="1652" y="1777"/>
                  </a:lnTo>
                  <a:lnTo>
                    <a:pt x="1641" y="1782"/>
                  </a:lnTo>
                  <a:lnTo>
                    <a:pt x="1636" y="1788"/>
                  </a:lnTo>
                  <a:lnTo>
                    <a:pt x="1630" y="1793"/>
                  </a:lnTo>
                  <a:lnTo>
                    <a:pt x="1625" y="1799"/>
                  </a:lnTo>
                  <a:lnTo>
                    <a:pt x="1620" y="1804"/>
                  </a:lnTo>
                  <a:lnTo>
                    <a:pt x="1614" y="1809"/>
                  </a:lnTo>
                  <a:lnTo>
                    <a:pt x="1609" y="1815"/>
                  </a:lnTo>
                  <a:lnTo>
                    <a:pt x="1609" y="1820"/>
                  </a:lnTo>
                  <a:lnTo>
                    <a:pt x="1603" y="1826"/>
                  </a:lnTo>
                  <a:lnTo>
                    <a:pt x="1603" y="1837"/>
                  </a:lnTo>
                  <a:lnTo>
                    <a:pt x="1598" y="1842"/>
                  </a:lnTo>
                  <a:lnTo>
                    <a:pt x="1587" y="1848"/>
                  </a:lnTo>
                  <a:lnTo>
                    <a:pt x="1581" y="1848"/>
                  </a:lnTo>
                  <a:lnTo>
                    <a:pt x="1571" y="1853"/>
                  </a:lnTo>
                  <a:lnTo>
                    <a:pt x="1571" y="1859"/>
                  </a:lnTo>
                  <a:lnTo>
                    <a:pt x="1571" y="1864"/>
                  </a:lnTo>
                  <a:lnTo>
                    <a:pt x="1571" y="1875"/>
                  </a:lnTo>
                  <a:lnTo>
                    <a:pt x="1571" y="1880"/>
                  </a:lnTo>
                  <a:lnTo>
                    <a:pt x="1565" y="1891"/>
                  </a:lnTo>
                  <a:lnTo>
                    <a:pt x="1560" y="1891"/>
                  </a:lnTo>
                  <a:lnTo>
                    <a:pt x="1549" y="1886"/>
                  </a:lnTo>
                  <a:lnTo>
                    <a:pt x="1543" y="1880"/>
                  </a:lnTo>
                  <a:lnTo>
                    <a:pt x="1543" y="1869"/>
                  </a:lnTo>
                  <a:lnTo>
                    <a:pt x="1538" y="1864"/>
                  </a:lnTo>
                  <a:lnTo>
                    <a:pt x="1532" y="1859"/>
                  </a:lnTo>
                  <a:lnTo>
                    <a:pt x="1527" y="1853"/>
                  </a:lnTo>
                  <a:lnTo>
                    <a:pt x="1521" y="1859"/>
                  </a:lnTo>
                  <a:lnTo>
                    <a:pt x="1511" y="1864"/>
                  </a:lnTo>
                  <a:lnTo>
                    <a:pt x="1505" y="1864"/>
                  </a:lnTo>
                  <a:lnTo>
                    <a:pt x="1494" y="1869"/>
                  </a:lnTo>
                  <a:lnTo>
                    <a:pt x="1483" y="1875"/>
                  </a:lnTo>
                  <a:lnTo>
                    <a:pt x="1472" y="1875"/>
                  </a:lnTo>
                  <a:lnTo>
                    <a:pt x="1461" y="1880"/>
                  </a:lnTo>
                  <a:lnTo>
                    <a:pt x="1456" y="1880"/>
                  </a:lnTo>
                  <a:lnTo>
                    <a:pt x="1445" y="1886"/>
                  </a:lnTo>
                  <a:lnTo>
                    <a:pt x="1434" y="1886"/>
                  </a:lnTo>
                  <a:lnTo>
                    <a:pt x="1429" y="1891"/>
                  </a:lnTo>
                  <a:lnTo>
                    <a:pt x="1418" y="1891"/>
                  </a:lnTo>
                  <a:lnTo>
                    <a:pt x="1407" y="1897"/>
                  </a:lnTo>
                  <a:lnTo>
                    <a:pt x="1396" y="1897"/>
                  </a:lnTo>
                  <a:lnTo>
                    <a:pt x="1385" y="1902"/>
                  </a:lnTo>
                  <a:lnTo>
                    <a:pt x="1380" y="1908"/>
                  </a:lnTo>
                  <a:lnTo>
                    <a:pt x="1369" y="1913"/>
                  </a:lnTo>
                  <a:lnTo>
                    <a:pt x="1369" y="1918"/>
                  </a:lnTo>
                  <a:lnTo>
                    <a:pt x="1369" y="1924"/>
                  </a:lnTo>
                  <a:lnTo>
                    <a:pt x="1369" y="1935"/>
                  </a:lnTo>
                  <a:lnTo>
                    <a:pt x="1363" y="1940"/>
                  </a:lnTo>
                  <a:lnTo>
                    <a:pt x="1363" y="1946"/>
                  </a:lnTo>
                  <a:lnTo>
                    <a:pt x="1363" y="1951"/>
                  </a:lnTo>
                  <a:lnTo>
                    <a:pt x="1363" y="1962"/>
                  </a:lnTo>
                  <a:lnTo>
                    <a:pt x="1363" y="1968"/>
                  </a:lnTo>
                  <a:lnTo>
                    <a:pt x="1363" y="1973"/>
                  </a:lnTo>
                  <a:lnTo>
                    <a:pt x="1363" y="1978"/>
                  </a:lnTo>
                  <a:lnTo>
                    <a:pt x="1369" y="1978"/>
                  </a:lnTo>
                  <a:lnTo>
                    <a:pt x="1401" y="1978"/>
                  </a:lnTo>
                  <a:lnTo>
                    <a:pt x="1412" y="1978"/>
                  </a:lnTo>
                  <a:close/>
                  <a:moveTo>
                    <a:pt x="1494" y="1978"/>
                  </a:moveTo>
                  <a:lnTo>
                    <a:pt x="1483" y="1973"/>
                  </a:lnTo>
                  <a:lnTo>
                    <a:pt x="1478" y="1973"/>
                  </a:lnTo>
                  <a:lnTo>
                    <a:pt x="1472" y="1973"/>
                  </a:lnTo>
                  <a:lnTo>
                    <a:pt x="1467" y="1968"/>
                  </a:lnTo>
                  <a:lnTo>
                    <a:pt x="1467" y="1973"/>
                  </a:lnTo>
                  <a:lnTo>
                    <a:pt x="1461" y="1973"/>
                  </a:lnTo>
                  <a:lnTo>
                    <a:pt x="1456" y="1973"/>
                  </a:lnTo>
                  <a:lnTo>
                    <a:pt x="1456" y="1978"/>
                  </a:lnTo>
                  <a:lnTo>
                    <a:pt x="1467" y="1978"/>
                  </a:lnTo>
                  <a:lnTo>
                    <a:pt x="1494" y="1978"/>
                  </a:lnTo>
                  <a:close/>
                  <a:moveTo>
                    <a:pt x="1641" y="1853"/>
                  </a:moveTo>
                  <a:lnTo>
                    <a:pt x="1641" y="1848"/>
                  </a:lnTo>
                  <a:lnTo>
                    <a:pt x="1647" y="1842"/>
                  </a:lnTo>
                  <a:lnTo>
                    <a:pt x="1652" y="1842"/>
                  </a:lnTo>
                  <a:lnTo>
                    <a:pt x="1658" y="1842"/>
                  </a:lnTo>
                  <a:lnTo>
                    <a:pt x="1658" y="1842"/>
                  </a:lnTo>
                  <a:lnTo>
                    <a:pt x="1663" y="1848"/>
                  </a:lnTo>
                  <a:lnTo>
                    <a:pt x="1663" y="1853"/>
                  </a:lnTo>
                  <a:lnTo>
                    <a:pt x="1663" y="1853"/>
                  </a:lnTo>
                  <a:lnTo>
                    <a:pt x="1663" y="1859"/>
                  </a:lnTo>
                  <a:lnTo>
                    <a:pt x="1658" y="1859"/>
                  </a:lnTo>
                  <a:lnTo>
                    <a:pt x="1652" y="1859"/>
                  </a:lnTo>
                  <a:lnTo>
                    <a:pt x="1647" y="1859"/>
                  </a:lnTo>
                  <a:lnTo>
                    <a:pt x="1641" y="1859"/>
                  </a:lnTo>
                  <a:lnTo>
                    <a:pt x="1641" y="1853"/>
                  </a:lnTo>
                  <a:close/>
                  <a:moveTo>
                    <a:pt x="1827" y="1662"/>
                  </a:moveTo>
                  <a:lnTo>
                    <a:pt x="1827" y="1651"/>
                  </a:lnTo>
                  <a:lnTo>
                    <a:pt x="1821" y="1646"/>
                  </a:lnTo>
                  <a:lnTo>
                    <a:pt x="1810" y="1646"/>
                  </a:lnTo>
                  <a:lnTo>
                    <a:pt x="1805" y="1646"/>
                  </a:lnTo>
                  <a:lnTo>
                    <a:pt x="1794" y="1651"/>
                  </a:lnTo>
                  <a:lnTo>
                    <a:pt x="1789" y="1657"/>
                  </a:lnTo>
                  <a:lnTo>
                    <a:pt x="1789" y="1662"/>
                  </a:lnTo>
                  <a:lnTo>
                    <a:pt x="1789" y="1668"/>
                  </a:lnTo>
                  <a:lnTo>
                    <a:pt x="1800" y="1673"/>
                  </a:lnTo>
                  <a:lnTo>
                    <a:pt x="1810" y="1679"/>
                  </a:lnTo>
                  <a:lnTo>
                    <a:pt x="1816" y="1679"/>
                  </a:lnTo>
                  <a:lnTo>
                    <a:pt x="1821" y="1679"/>
                  </a:lnTo>
                  <a:lnTo>
                    <a:pt x="1827" y="1668"/>
                  </a:lnTo>
                  <a:lnTo>
                    <a:pt x="1827" y="1662"/>
                  </a:lnTo>
                  <a:close/>
                  <a:moveTo>
                    <a:pt x="2045" y="1597"/>
                  </a:moveTo>
                  <a:lnTo>
                    <a:pt x="2050" y="1586"/>
                  </a:lnTo>
                  <a:lnTo>
                    <a:pt x="2056" y="1581"/>
                  </a:lnTo>
                  <a:lnTo>
                    <a:pt x="2061" y="1575"/>
                  </a:lnTo>
                  <a:lnTo>
                    <a:pt x="2067" y="1575"/>
                  </a:lnTo>
                  <a:lnTo>
                    <a:pt x="2078" y="1575"/>
                  </a:lnTo>
                  <a:lnTo>
                    <a:pt x="2083" y="1581"/>
                  </a:lnTo>
                  <a:lnTo>
                    <a:pt x="2088" y="1586"/>
                  </a:lnTo>
                  <a:lnTo>
                    <a:pt x="2094" y="1597"/>
                  </a:lnTo>
                  <a:lnTo>
                    <a:pt x="2088" y="1602"/>
                  </a:lnTo>
                  <a:lnTo>
                    <a:pt x="2078" y="1602"/>
                  </a:lnTo>
                  <a:lnTo>
                    <a:pt x="2072" y="1608"/>
                  </a:lnTo>
                  <a:lnTo>
                    <a:pt x="2061" y="1602"/>
                  </a:lnTo>
                  <a:lnTo>
                    <a:pt x="2050" y="1602"/>
                  </a:lnTo>
                  <a:lnTo>
                    <a:pt x="2045" y="1597"/>
                  </a:lnTo>
                  <a:close/>
                  <a:moveTo>
                    <a:pt x="2857" y="1373"/>
                  </a:moveTo>
                  <a:lnTo>
                    <a:pt x="2857" y="1368"/>
                  </a:lnTo>
                  <a:lnTo>
                    <a:pt x="2863" y="1368"/>
                  </a:lnTo>
                  <a:lnTo>
                    <a:pt x="2868" y="1368"/>
                  </a:lnTo>
                  <a:lnTo>
                    <a:pt x="2874" y="1368"/>
                  </a:lnTo>
                  <a:lnTo>
                    <a:pt x="2874" y="1373"/>
                  </a:lnTo>
                  <a:lnTo>
                    <a:pt x="2874" y="1379"/>
                  </a:lnTo>
                  <a:lnTo>
                    <a:pt x="2874" y="1384"/>
                  </a:lnTo>
                  <a:lnTo>
                    <a:pt x="2868" y="1384"/>
                  </a:lnTo>
                  <a:lnTo>
                    <a:pt x="2863" y="1390"/>
                  </a:lnTo>
                  <a:lnTo>
                    <a:pt x="2863" y="1390"/>
                  </a:lnTo>
                  <a:lnTo>
                    <a:pt x="2863" y="1390"/>
                  </a:lnTo>
                  <a:lnTo>
                    <a:pt x="2857" y="1384"/>
                  </a:lnTo>
                  <a:lnTo>
                    <a:pt x="2857" y="1379"/>
                  </a:lnTo>
                  <a:lnTo>
                    <a:pt x="2857" y="1373"/>
                  </a:lnTo>
                  <a:close/>
                  <a:moveTo>
                    <a:pt x="1881" y="1341"/>
                  </a:moveTo>
                  <a:lnTo>
                    <a:pt x="1881" y="1341"/>
                  </a:lnTo>
                  <a:lnTo>
                    <a:pt x="1876" y="1341"/>
                  </a:lnTo>
                  <a:lnTo>
                    <a:pt x="1876" y="1341"/>
                  </a:lnTo>
                  <a:lnTo>
                    <a:pt x="1876" y="1341"/>
                  </a:lnTo>
                  <a:lnTo>
                    <a:pt x="1876" y="1341"/>
                  </a:lnTo>
                  <a:lnTo>
                    <a:pt x="1876" y="1341"/>
                  </a:lnTo>
                  <a:lnTo>
                    <a:pt x="1876" y="1341"/>
                  </a:lnTo>
                  <a:lnTo>
                    <a:pt x="1876" y="1341"/>
                  </a:lnTo>
                  <a:lnTo>
                    <a:pt x="1876" y="1341"/>
                  </a:lnTo>
                  <a:lnTo>
                    <a:pt x="1876" y="1341"/>
                  </a:lnTo>
                  <a:lnTo>
                    <a:pt x="1876" y="1341"/>
                  </a:lnTo>
                  <a:lnTo>
                    <a:pt x="1876" y="1341"/>
                  </a:lnTo>
                  <a:lnTo>
                    <a:pt x="1881" y="1341"/>
                  </a:lnTo>
                  <a:lnTo>
                    <a:pt x="1881" y="1341"/>
                  </a:lnTo>
                  <a:close/>
                  <a:moveTo>
                    <a:pt x="1854" y="1308"/>
                  </a:moveTo>
                  <a:lnTo>
                    <a:pt x="1854" y="1303"/>
                  </a:lnTo>
                  <a:lnTo>
                    <a:pt x="1849" y="1297"/>
                  </a:lnTo>
                  <a:lnTo>
                    <a:pt x="1843" y="1297"/>
                  </a:lnTo>
                  <a:lnTo>
                    <a:pt x="1838" y="1297"/>
                  </a:lnTo>
                  <a:lnTo>
                    <a:pt x="1827" y="1303"/>
                  </a:lnTo>
                  <a:lnTo>
                    <a:pt x="1821" y="1308"/>
                  </a:lnTo>
                  <a:lnTo>
                    <a:pt x="1821" y="1308"/>
                  </a:lnTo>
                  <a:lnTo>
                    <a:pt x="1821" y="1313"/>
                  </a:lnTo>
                  <a:lnTo>
                    <a:pt x="1827" y="1319"/>
                  </a:lnTo>
                  <a:lnTo>
                    <a:pt x="1838" y="1319"/>
                  </a:lnTo>
                  <a:lnTo>
                    <a:pt x="1843" y="1324"/>
                  </a:lnTo>
                  <a:lnTo>
                    <a:pt x="1849" y="1319"/>
                  </a:lnTo>
                  <a:lnTo>
                    <a:pt x="1854" y="1313"/>
                  </a:lnTo>
                  <a:lnTo>
                    <a:pt x="1854" y="1308"/>
                  </a:lnTo>
                  <a:close/>
                  <a:moveTo>
                    <a:pt x="1832" y="1275"/>
                  </a:moveTo>
                  <a:lnTo>
                    <a:pt x="1827" y="1270"/>
                  </a:lnTo>
                  <a:lnTo>
                    <a:pt x="1821" y="1264"/>
                  </a:lnTo>
                  <a:lnTo>
                    <a:pt x="1816" y="1259"/>
                  </a:lnTo>
                  <a:lnTo>
                    <a:pt x="1810" y="1254"/>
                  </a:lnTo>
                  <a:lnTo>
                    <a:pt x="1810" y="1248"/>
                  </a:lnTo>
                  <a:lnTo>
                    <a:pt x="1805" y="1237"/>
                  </a:lnTo>
                  <a:lnTo>
                    <a:pt x="1800" y="1232"/>
                  </a:lnTo>
                  <a:lnTo>
                    <a:pt x="1794" y="1226"/>
                  </a:lnTo>
                  <a:lnTo>
                    <a:pt x="1789" y="1221"/>
                  </a:lnTo>
                  <a:lnTo>
                    <a:pt x="1789" y="1215"/>
                  </a:lnTo>
                  <a:lnTo>
                    <a:pt x="1783" y="1210"/>
                  </a:lnTo>
                  <a:lnTo>
                    <a:pt x="1778" y="1199"/>
                  </a:lnTo>
                  <a:lnTo>
                    <a:pt x="1772" y="1194"/>
                  </a:lnTo>
                  <a:lnTo>
                    <a:pt x="1772" y="1188"/>
                  </a:lnTo>
                  <a:lnTo>
                    <a:pt x="1767" y="1183"/>
                  </a:lnTo>
                  <a:lnTo>
                    <a:pt x="1761" y="1177"/>
                  </a:lnTo>
                  <a:lnTo>
                    <a:pt x="1756" y="1166"/>
                  </a:lnTo>
                  <a:lnTo>
                    <a:pt x="1750" y="1161"/>
                  </a:lnTo>
                  <a:lnTo>
                    <a:pt x="1750" y="1155"/>
                  </a:lnTo>
                  <a:lnTo>
                    <a:pt x="1745" y="1150"/>
                  </a:lnTo>
                  <a:lnTo>
                    <a:pt x="1740" y="1145"/>
                  </a:lnTo>
                  <a:lnTo>
                    <a:pt x="1734" y="1139"/>
                  </a:lnTo>
                  <a:lnTo>
                    <a:pt x="1729" y="1128"/>
                  </a:lnTo>
                  <a:lnTo>
                    <a:pt x="1729" y="1123"/>
                  </a:lnTo>
                  <a:lnTo>
                    <a:pt x="1723" y="1117"/>
                  </a:lnTo>
                  <a:lnTo>
                    <a:pt x="1718" y="1112"/>
                  </a:lnTo>
                  <a:lnTo>
                    <a:pt x="1707" y="1106"/>
                  </a:lnTo>
                  <a:lnTo>
                    <a:pt x="1696" y="1101"/>
                  </a:lnTo>
                  <a:lnTo>
                    <a:pt x="1685" y="1106"/>
                  </a:lnTo>
                  <a:lnTo>
                    <a:pt x="1680" y="1112"/>
                  </a:lnTo>
                  <a:lnTo>
                    <a:pt x="1680" y="1117"/>
                  </a:lnTo>
                  <a:lnTo>
                    <a:pt x="1674" y="1123"/>
                  </a:lnTo>
                  <a:lnTo>
                    <a:pt x="1669" y="1134"/>
                  </a:lnTo>
                  <a:lnTo>
                    <a:pt x="1663" y="1139"/>
                  </a:lnTo>
                  <a:lnTo>
                    <a:pt x="1658" y="1145"/>
                  </a:lnTo>
                  <a:lnTo>
                    <a:pt x="1663" y="1150"/>
                  </a:lnTo>
                  <a:lnTo>
                    <a:pt x="1669" y="1155"/>
                  </a:lnTo>
                  <a:lnTo>
                    <a:pt x="1674" y="1161"/>
                  </a:lnTo>
                  <a:lnTo>
                    <a:pt x="1685" y="1166"/>
                  </a:lnTo>
                  <a:lnTo>
                    <a:pt x="1690" y="1172"/>
                  </a:lnTo>
                  <a:lnTo>
                    <a:pt x="1701" y="1177"/>
                  </a:lnTo>
                  <a:lnTo>
                    <a:pt x="1707" y="1183"/>
                  </a:lnTo>
                  <a:lnTo>
                    <a:pt x="1712" y="1188"/>
                  </a:lnTo>
                  <a:lnTo>
                    <a:pt x="1718" y="1194"/>
                  </a:lnTo>
                  <a:lnTo>
                    <a:pt x="1723" y="1199"/>
                  </a:lnTo>
                  <a:lnTo>
                    <a:pt x="1729" y="1204"/>
                  </a:lnTo>
                  <a:lnTo>
                    <a:pt x="1734" y="1210"/>
                  </a:lnTo>
                  <a:lnTo>
                    <a:pt x="1740" y="1215"/>
                  </a:lnTo>
                  <a:lnTo>
                    <a:pt x="1745" y="1221"/>
                  </a:lnTo>
                  <a:lnTo>
                    <a:pt x="1745" y="1226"/>
                  </a:lnTo>
                  <a:lnTo>
                    <a:pt x="1750" y="1237"/>
                  </a:lnTo>
                  <a:lnTo>
                    <a:pt x="1756" y="1243"/>
                  </a:lnTo>
                  <a:lnTo>
                    <a:pt x="1761" y="1248"/>
                  </a:lnTo>
                  <a:lnTo>
                    <a:pt x="1767" y="1254"/>
                  </a:lnTo>
                  <a:lnTo>
                    <a:pt x="1761" y="1259"/>
                  </a:lnTo>
                  <a:lnTo>
                    <a:pt x="1761" y="1270"/>
                  </a:lnTo>
                  <a:lnTo>
                    <a:pt x="1767" y="1275"/>
                  </a:lnTo>
                  <a:lnTo>
                    <a:pt x="1772" y="1281"/>
                  </a:lnTo>
                  <a:lnTo>
                    <a:pt x="1783" y="1281"/>
                  </a:lnTo>
                  <a:lnTo>
                    <a:pt x="1789" y="1286"/>
                  </a:lnTo>
                  <a:lnTo>
                    <a:pt x="1800" y="1297"/>
                  </a:lnTo>
                  <a:lnTo>
                    <a:pt x="1805" y="1303"/>
                  </a:lnTo>
                  <a:lnTo>
                    <a:pt x="1810" y="1308"/>
                  </a:lnTo>
                  <a:lnTo>
                    <a:pt x="1816" y="1308"/>
                  </a:lnTo>
                  <a:lnTo>
                    <a:pt x="1821" y="1303"/>
                  </a:lnTo>
                  <a:lnTo>
                    <a:pt x="1827" y="1297"/>
                  </a:lnTo>
                  <a:lnTo>
                    <a:pt x="1827" y="1286"/>
                  </a:lnTo>
                  <a:lnTo>
                    <a:pt x="1832" y="1275"/>
                  </a:lnTo>
                  <a:close/>
                  <a:moveTo>
                    <a:pt x="1734" y="1248"/>
                  </a:moveTo>
                  <a:lnTo>
                    <a:pt x="1729" y="1243"/>
                  </a:lnTo>
                  <a:lnTo>
                    <a:pt x="1723" y="1243"/>
                  </a:lnTo>
                  <a:lnTo>
                    <a:pt x="1718" y="1243"/>
                  </a:lnTo>
                  <a:lnTo>
                    <a:pt x="1707" y="1243"/>
                  </a:lnTo>
                  <a:lnTo>
                    <a:pt x="1701" y="1243"/>
                  </a:lnTo>
                  <a:lnTo>
                    <a:pt x="1701" y="1248"/>
                  </a:lnTo>
                  <a:lnTo>
                    <a:pt x="1707" y="1254"/>
                  </a:lnTo>
                  <a:lnTo>
                    <a:pt x="1712" y="1259"/>
                  </a:lnTo>
                  <a:lnTo>
                    <a:pt x="1718" y="1259"/>
                  </a:lnTo>
                  <a:lnTo>
                    <a:pt x="1723" y="1264"/>
                  </a:lnTo>
                  <a:lnTo>
                    <a:pt x="1723" y="1259"/>
                  </a:lnTo>
                  <a:lnTo>
                    <a:pt x="1729" y="1259"/>
                  </a:lnTo>
                  <a:lnTo>
                    <a:pt x="1729" y="1254"/>
                  </a:lnTo>
                  <a:lnTo>
                    <a:pt x="1734" y="1248"/>
                  </a:lnTo>
                  <a:close/>
                  <a:moveTo>
                    <a:pt x="1696" y="1215"/>
                  </a:moveTo>
                  <a:lnTo>
                    <a:pt x="1690" y="1204"/>
                  </a:lnTo>
                  <a:lnTo>
                    <a:pt x="1690" y="1204"/>
                  </a:lnTo>
                  <a:lnTo>
                    <a:pt x="1680" y="1204"/>
                  </a:lnTo>
                  <a:lnTo>
                    <a:pt x="1674" y="1210"/>
                  </a:lnTo>
                  <a:lnTo>
                    <a:pt x="1669" y="1215"/>
                  </a:lnTo>
                  <a:lnTo>
                    <a:pt x="1669" y="1221"/>
                  </a:lnTo>
                  <a:lnTo>
                    <a:pt x="1674" y="1226"/>
                  </a:lnTo>
                  <a:lnTo>
                    <a:pt x="1680" y="1232"/>
                  </a:lnTo>
                  <a:lnTo>
                    <a:pt x="1685" y="1232"/>
                  </a:lnTo>
                  <a:lnTo>
                    <a:pt x="1690" y="1237"/>
                  </a:lnTo>
                  <a:lnTo>
                    <a:pt x="1690" y="1232"/>
                  </a:lnTo>
                  <a:lnTo>
                    <a:pt x="1696" y="1226"/>
                  </a:lnTo>
                  <a:lnTo>
                    <a:pt x="1696" y="1221"/>
                  </a:lnTo>
                  <a:lnTo>
                    <a:pt x="1696" y="1215"/>
                  </a:lnTo>
                  <a:close/>
                  <a:moveTo>
                    <a:pt x="2819" y="1025"/>
                  </a:moveTo>
                  <a:lnTo>
                    <a:pt x="2825" y="1019"/>
                  </a:lnTo>
                  <a:lnTo>
                    <a:pt x="2825" y="1014"/>
                  </a:lnTo>
                  <a:lnTo>
                    <a:pt x="2830" y="1014"/>
                  </a:lnTo>
                  <a:lnTo>
                    <a:pt x="2830" y="1008"/>
                  </a:lnTo>
                  <a:lnTo>
                    <a:pt x="2835" y="1014"/>
                  </a:lnTo>
                  <a:lnTo>
                    <a:pt x="2835" y="1014"/>
                  </a:lnTo>
                  <a:lnTo>
                    <a:pt x="2835" y="1019"/>
                  </a:lnTo>
                  <a:lnTo>
                    <a:pt x="2835" y="1019"/>
                  </a:lnTo>
                  <a:lnTo>
                    <a:pt x="2835" y="1025"/>
                  </a:lnTo>
                  <a:lnTo>
                    <a:pt x="2835" y="1025"/>
                  </a:lnTo>
                  <a:lnTo>
                    <a:pt x="2830" y="1030"/>
                  </a:lnTo>
                  <a:lnTo>
                    <a:pt x="2825" y="1030"/>
                  </a:lnTo>
                  <a:lnTo>
                    <a:pt x="2825" y="1025"/>
                  </a:lnTo>
                  <a:lnTo>
                    <a:pt x="2819" y="1025"/>
                  </a:lnTo>
                  <a:close/>
                  <a:moveTo>
                    <a:pt x="2628" y="894"/>
                  </a:moveTo>
                  <a:lnTo>
                    <a:pt x="2634" y="894"/>
                  </a:lnTo>
                  <a:lnTo>
                    <a:pt x="2634" y="888"/>
                  </a:lnTo>
                  <a:lnTo>
                    <a:pt x="2639" y="888"/>
                  </a:lnTo>
                  <a:lnTo>
                    <a:pt x="2639" y="888"/>
                  </a:lnTo>
                  <a:lnTo>
                    <a:pt x="2639" y="888"/>
                  </a:lnTo>
                  <a:lnTo>
                    <a:pt x="2645" y="894"/>
                  </a:lnTo>
                  <a:lnTo>
                    <a:pt x="2645" y="894"/>
                  </a:lnTo>
                  <a:lnTo>
                    <a:pt x="2645" y="894"/>
                  </a:lnTo>
                  <a:lnTo>
                    <a:pt x="2639" y="899"/>
                  </a:lnTo>
                  <a:lnTo>
                    <a:pt x="2639" y="899"/>
                  </a:lnTo>
                  <a:lnTo>
                    <a:pt x="2639" y="899"/>
                  </a:lnTo>
                  <a:lnTo>
                    <a:pt x="2634" y="899"/>
                  </a:lnTo>
                  <a:lnTo>
                    <a:pt x="2634" y="894"/>
                  </a:lnTo>
                  <a:lnTo>
                    <a:pt x="2628" y="894"/>
                  </a:lnTo>
                  <a:close/>
                  <a:moveTo>
                    <a:pt x="355" y="768"/>
                  </a:moveTo>
                  <a:lnTo>
                    <a:pt x="360" y="758"/>
                  </a:lnTo>
                  <a:lnTo>
                    <a:pt x="360" y="752"/>
                  </a:lnTo>
                  <a:lnTo>
                    <a:pt x="366" y="747"/>
                  </a:lnTo>
                  <a:lnTo>
                    <a:pt x="366" y="741"/>
                  </a:lnTo>
                  <a:lnTo>
                    <a:pt x="371" y="730"/>
                  </a:lnTo>
                  <a:lnTo>
                    <a:pt x="371" y="725"/>
                  </a:lnTo>
                  <a:lnTo>
                    <a:pt x="376" y="719"/>
                  </a:lnTo>
                  <a:lnTo>
                    <a:pt x="376" y="714"/>
                  </a:lnTo>
                  <a:lnTo>
                    <a:pt x="387" y="708"/>
                  </a:lnTo>
                  <a:lnTo>
                    <a:pt x="398" y="708"/>
                  </a:lnTo>
                  <a:lnTo>
                    <a:pt x="409" y="708"/>
                  </a:lnTo>
                  <a:lnTo>
                    <a:pt x="420" y="708"/>
                  </a:lnTo>
                  <a:lnTo>
                    <a:pt x="431" y="708"/>
                  </a:lnTo>
                  <a:lnTo>
                    <a:pt x="442" y="714"/>
                  </a:lnTo>
                  <a:lnTo>
                    <a:pt x="447" y="719"/>
                  </a:lnTo>
                  <a:lnTo>
                    <a:pt x="458" y="719"/>
                  </a:lnTo>
                  <a:lnTo>
                    <a:pt x="464" y="725"/>
                  </a:lnTo>
                  <a:lnTo>
                    <a:pt x="469" y="730"/>
                  </a:lnTo>
                  <a:lnTo>
                    <a:pt x="475" y="741"/>
                  </a:lnTo>
                  <a:lnTo>
                    <a:pt x="480" y="741"/>
                  </a:lnTo>
                  <a:lnTo>
                    <a:pt x="491" y="741"/>
                  </a:lnTo>
                  <a:lnTo>
                    <a:pt x="496" y="736"/>
                  </a:lnTo>
                  <a:lnTo>
                    <a:pt x="507" y="730"/>
                  </a:lnTo>
                  <a:lnTo>
                    <a:pt x="518" y="730"/>
                  </a:lnTo>
                  <a:lnTo>
                    <a:pt x="529" y="725"/>
                  </a:lnTo>
                  <a:lnTo>
                    <a:pt x="540" y="725"/>
                  </a:lnTo>
                  <a:lnTo>
                    <a:pt x="545" y="719"/>
                  </a:lnTo>
                  <a:lnTo>
                    <a:pt x="551" y="714"/>
                  </a:lnTo>
                  <a:lnTo>
                    <a:pt x="551" y="703"/>
                  </a:lnTo>
                  <a:lnTo>
                    <a:pt x="551" y="698"/>
                  </a:lnTo>
                  <a:lnTo>
                    <a:pt x="556" y="692"/>
                  </a:lnTo>
                  <a:lnTo>
                    <a:pt x="556" y="681"/>
                  </a:lnTo>
                  <a:lnTo>
                    <a:pt x="556" y="676"/>
                  </a:lnTo>
                  <a:lnTo>
                    <a:pt x="562" y="670"/>
                  </a:lnTo>
                  <a:lnTo>
                    <a:pt x="562" y="665"/>
                  </a:lnTo>
                  <a:lnTo>
                    <a:pt x="567" y="654"/>
                  </a:lnTo>
                  <a:lnTo>
                    <a:pt x="567" y="649"/>
                  </a:lnTo>
                  <a:lnTo>
                    <a:pt x="573" y="643"/>
                  </a:lnTo>
                  <a:lnTo>
                    <a:pt x="578" y="638"/>
                  </a:lnTo>
                  <a:lnTo>
                    <a:pt x="584" y="632"/>
                  </a:lnTo>
                  <a:lnTo>
                    <a:pt x="595" y="632"/>
                  </a:lnTo>
                  <a:lnTo>
                    <a:pt x="611" y="632"/>
                  </a:lnTo>
                  <a:lnTo>
                    <a:pt x="622" y="627"/>
                  </a:lnTo>
                  <a:lnTo>
                    <a:pt x="627" y="627"/>
                  </a:lnTo>
                  <a:lnTo>
                    <a:pt x="638" y="621"/>
                  </a:lnTo>
                  <a:lnTo>
                    <a:pt x="644" y="616"/>
                  </a:lnTo>
                  <a:lnTo>
                    <a:pt x="644" y="605"/>
                  </a:lnTo>
                  <a:lnTo>
                    <a:pt x="649" y="599"/>
                  </a:lnTo>
                  <a:lnTo>
                    <a:pt x="649" y="594"/>
                  </a:lnTo>
                  <a:lnTo>
                    <a:pt x="655" y="589"/>
                  </a:lnTo>
                  <a:lnTo>
                    <a:pt x="655" y="578"/>
                  </a:lnTo>
                  <a:lnTo>
                    <a:pt x="655" y="572"/>
                  </a:lnTo>
                  <a:lnTo>
                    <a:pt x="660" y="567"/>
                  </a:lnTo>
                  <a:lnTo>
                    <a:pt x="660" y="561"/>
                  </a:lnTo>
                  <a:lnTo>
                    <a:pt x="660" y="550"/>
                  </a:lnTo>
                  <a:lnTo>
                    <a:pt x="660" y="545"/>
                  </a:lnTo>
                  <a:lnTo>
                    <a:pt x="665" y="540"/>
                  </a:lnTo>
                  <a:lnTo>
                    <a:pt x="665" y="534"/>
                  </a:lnTo>
                  <a:lnTo>
                    <a:pt x="671" y="523"/>
                  </a:lnTo>
                  <a:lnTo>
                    <a:pt x="671" y="518"/>
                  </a:lnTo>
                  <a:lnTo>
                    <a:pt x="671" y="512"/>
                  </a:lnTo>
                  <a:lnTo>
                    <a:pt x="676" y="507"/>
                  </a:lnTo>
                  <a:lnTo>
                    <a:pt x="676" y="496"/>
                  </a:lnTo>
                  <a:lnTo>
                    <a:pt x="682" y="490"/>
                  </a:lnTo>
                  <a:lnTo>
                    <a:pt x="682" y="485"/>
                  </a:lnTo>
                  <a:lnTo>
                    <a:pt x="687" y="480"/>
                  </a:lnTo>
                  <a:lnTo>
                    <a:pt x="693" y="469"/>
                  </a:lnTo>
                  <a:lnTo>
                    <a:pt x="693" y="463"/>
                  </a:lnTo>
                  <a:lnTo>
                    <a:pt x="698" y="458"/>
                  </a:lnTo>
                  <a:lnTo>
                    <a:pt x="704" y="452"/>
                  </a:lnTo>
                  <a:lnTo>
                    <a:pt x="704" y="447"/>
                  </a:lnTo>
                  <a:lnTo>
                    <a:pt x="709" y="436"/>
                  </a:lnTo>
                  <a:lnTo>
                    <a:pt x="709" y="431"/>
                  </a:lnTo>
                  <a:lnTo>
                    <a:pt x="709" y="425"/>
                  </a:lnTo>
                  <a:lnTo>
                    <a:pt x="715" y="414"/>
                  </a:lnTo>
                  <a:lnTo>
                    <a:pt x="715" y="409"/>
                  </a:lnTo>
                  <a:lnTo>
                    <a:pt x="720" y="403"/>
                  </a:lnTo>
                  <a:lnTo>
                    <a:pt x="720" y="398"/>
                  </a:lnTo>
                  <a:lnTo>
                    <a:pt x="725" y="392"/>
                  </a:lnTo>
                  <a:lnTo>
                    <a:pt x="725" y="381"/>
                  </a:lnTo>
                  <a:lnTo>
                    <a:pt x="731" y="376"/>
                  </a:lnTo>
                  <a:lnTo>
                    <a:pt x="736" y="371"/>
                  </a:lnTo>
                  <a:lnTo>
                    <a:pt x="736" y="365"/>
                  </a:lnTo>
                  <a:lnTo>
                    <a:pt x="742" y="360"/>
                  </a:lnTo>
                  <a:lnTo>
                    <a:pt x="747" y="349"/>
                  </a:lnTo>
                  <a:lnTo>
                    <a:pt x="747" y="343"/>
                  </a:lnTo>
                  <a:lnTo>
                    <a:pt x="747" y="338"/>
                  </a:lnTo>
                  <a:lnTo>
                    <a:pt x="753" y="332"/>
                  </a:lnTo>
                  <a:lnTo>
                    <a:pt x="753" y="322"/>
                  </a:lnTo>
                  <a:lnTo>
                    <a:pt x="753" y="316"/>
                  </a:lnTo>
                  <a:lnTo>
                    <a:pt x="758" y="311"/>
                  </a:lnTo>
                  <a:lnTo>
                    <a:pt x="758" y="300"/>
                  </a:lnTo>
                  <a:lnTo>
                    <a:pt x="764" y="294"/>
                  </a:lnTo>
                  <a:lnTo>
                    <a:pt x="769" y="289"/>
                  </a:lnTo>
                  <a:lnTo>
                    <a:pt x="774" y="283"/>
                  </a:lnTo>
                  <a:lnTo>
                    <a:pt x="780" y="278"/>
                  </a:lnTo>
                  <a:lnTo>
                    <a:pt x="785" y="272"/>
                  </a:lnTo>
                  <a:lnTo>
                    <a:pt x="791" y="267"/>
                  </a:lnTo>
                  <a:lnTo>
                    <a:pt x="791" y="256"/>
                  </a:lnTo>
                  <a:lnTo>
                    <a:pt x="791" y="251"/>
                  </a:lnTo>
                  <a:lnTo>
                    <a:pt x="791" y="245"/>
                  </a:lnTo>
                  <a:lnTo>
                    <a:pt x="796" y="240"/>
                  </a:lnTo>
                  <a:lnTo>
                    <a:pt x="802" y="229"/>
                  </a:lnTo>
                  <a:lnTo>
                    <a:pt x="807" y="229"/>
                  </a:lnTo>
                  <a:lnTo>
                    <a:pt x="818" y="223"/>
                  </a:lnTo>
                  <a:lnTo>
                    <a:pt x="824" y="218"/>
                  </a:lnTo>
                  <a:lnTo>
                    <a:pt x="834" y="213"/>
                  </a:lnTo>
                  <a:lnTo>
                    <a:pt x="840" y="207"/>
                  </a:lnTo>
                  <a:lnTo>
                    <a:pt x="845" y="202"/>
                  </a:lnTo>
                  <a:lnTo>
                    <a:pt x="856" y="196"/>
                  </a:lnTo>
                  <a:lnTo>
                    <a:pt x="862" y="191"/>
                  </a:lnTo>
                  <a:lnTo>
                    <a:pt x="873" y="185"/>
                  </a:lnTo>
                  <a:lnTo>
                    <a:pt x="884" y="180"/>
                  </a:lnTo>
                  <a:lnTo>
                    <a:pt x="889" y="180"/>
                  </a:lnTo>
                  <a:lnTo>
                    <a:pt x="894" y="185"/>
                  </a:lnTo>
                  <a:lnTo>
                    <a:pt x="900" y="196"/>
                  </a:lnTo>
                  <a:lnTo>
                    <a:pt x="905" y="202"/>
                  </a:lnTo>
                  <a:lnTo>
                    <a:pt x="916" y="202"/>
                  </a:lnTo>
                  <a:lnTo>
                    <a:pt x="922" y="207"/>
                  </a:lnTo>
                  <a:lnTo>
                    <a:pt x="933" y="213"/>
                  </a:lnTo>
                  <a:lnTo>
                    <a:pt x="938" y="218"/>
                  </a:lnTo>
                  <a:lnTo>
                    <a:pt x="944" y="229"/>
                  </a:lnTo>
                  <a:lnTo>
                    <a:pt x="949" y="234"/>
                  </a:lnTo>
                  <a:lnTo>
                    <a:pt x="954" y="240"/>
                  </a:lnTo>
                  <a:lnTo>
                    <a:pt x="960" y="245"/>
                  </a:lnTo>
                  <a:lnTo>
                    <a:pt x="965" y="251"/>
                  </a:lnTo>
                  <a:lnTo>
                    <a:pt x="971" y="256"/>
                  </a:lnTo>
                  <a:lnTo>
                    <a:pt x="976" y="262"/>
                  </a:lnTo>
                  <a:lnTo>
                    <a:pt x="982" y="272"/>
                  </a:lnTo>
                  <a:lnTo>
                    <a:pt x="982" y="278"/>
                  </a:lnTo>
                  <a:lnTo>
                    <a:pt x="987" y="278"/>
                  </a:lnTo>
                  <a:lnTo>
                    <a:pt x="998" y="278"/>
                  </a:lnTo>
                  <a:lnTo>
                    <a:pt x="1003" y="272"/>
                  </a:lnTo>
                  <a:lnTo>
                    <a:pt x="1014" y="267"/>
                  </a:lnTo>
                  <a:lnTo>
                    <a:pt x="1020" y="262"/>
                  </a:lnTo>
                  <a:lnTo>
                    <a:pt x="1031" y="256"/>
                  </a:lnTo>
                  <a:lnTo>
                    <a:pt x="1036" y="251"/>
                  </a:lnTo>
                  <a:lnTo>
                    <a:pt x="1042" y="245"/>
                  </a:lnTo>
                  <a:lnTo>
                    <a:pt x="1047" y="240"/>
                  </a:lnTo>
                  <a:lnTo>
                    <a:pt x="1058" y="234"/>
                  </a:lnTo>
                  <a:lnTo>
                    <a:pt x="1069" y="234"/>
                  </a:lnTo>
                  <a:lnTo>
                    <a:pt x="1080" y="229"/>
                  </a:lnTo>
                  <a:lnTo>
                    <a:pt x="1085" y="229"/>
                  </a:lnTo>
                  <a:lnTo>
                    <a:pt x="1091" y="218"/>
                  </a:lnTo>
                  <a:lnTo>
                    <a:pt x="1096" y="213"/>
                  </a:lnTo>
                  <a:lnTo>
                    <a:pt x="1096" y="207"/>
                  </a:lnTo>
                  <a:lnTo>
                    <a:pt x="1091" y="196"/>
                  </a:lnTo>
                  <a:lnTo>
                    <a:pt x="1085" y="191"/>
                  </a:lnTo>
                  <a:lnTo>
                    <a:pt x="1074" y="191"/>
                  </a:lnTo>
                  <a:lnTo>
                    <a:pt x="1063" y="185"/>
                  </a:lnTo>
                  <a:lnTo>
                    <a:pt x="1053" y="185"/>
                  </a:lnTo>
                  <a:lnTo>
                    <a:pt x="1047" y="180"/>
                  </a:lnTo>
                  <a:lnTo>
                    <a:pt x="1047" y="174"/>
                  </a:lnTo>
                  <a:lnTo>
                    <a:pt x="1042" y="169"/>
                  </a:lnTo>
                  <a:lnTo>
                    <a:pt x="1042" y="158"/>
                  </a:lnTo>
                  <a:lnTo>
                    <a:pt x="1036" y="153"/>
                  </a:lnTo>
                  <a:lnTo>
                    <a:pt x="1031" y="142"/>
                  </a:lnTo>
                  <a:lnTo>
                    <a:pt x="1025" y="136"/>
                  </a:lnTo>
                  <a:lnTo>
                    <a:pt x="1025" y="131"/>
                  </a:lnTo>
                  <a:lnTo>
                    <a:pt x="1025" y="125"/>
                  </a:lnTo>
                  <a:lnTo>
                    <a:pt x="1031" y="120"/>
                  </a:lnTo>
                  <a:lnTo>
                    <a:pt x="1042" y="114"/>
                  </a:lnTo>
                  <a:lnTo>
                    <a:pt x="1047" y="109"/>
                  </a:lnTo>
                  <a:lnTo>
                    <a:pt x="1058" y="109"/>
                  </a:lnTo>
                  <a:lnTo>
                    <a:pt x="1069" y="104"/>
                  </a:lnTo>
                  <a:lnTo>
                    <a:pt x="1074" y="98"/>
                  </a:lnTo>
                  <a:lnTo>
                    <a:pt x="1074" y="93"/>
                  </a:lnTo>
                  <a:lnTo>
                    <a:pt x="1074" y="82"/>
                  </a:lnTo>
                  <a:lnTo>
                    <a:pt x="1069" y="76"/>
                  </a:lnTo>
                  <a:lnTo>
                    <a:pt x="1063" y="71"/>
                  </a:lnTo>
                  <a:lnTo>
                    <a:pt x="1058" y="60"/>
                  </a:lnTo>
                  <a:lnTo>
                    <a:pt x="1053" y="54"/>
                  </a:lnTo>
                  <a:lnTo>
                    <a:pt x="1047" y="49"/>
                  </a:lnTo>
                  <a:lnTo>
                    <a:pt x="1042" y="44"/>
                  </a:lnTo>
                  <a:lnTo>
                    <a:pt x="1036" y="38"/>
                  </a:lnTo>
                  <a:lnTo>
                    <a:pt x="1031" y="33"/>
                  </a:lnTo>
                  <a:lnTo>
                    <a:pt x="1020" y="27"/>
                  </a:lnTo>
                  <a:lnTo>
                    <a:pt x="1014" y="22"/>
                  </a:lnTo>
                  <a:lnTo>
                    <a:pt x="1009" y="16"/>
                  </a:lnTo>
                  <a:lnTo>
                    <a:pt x="1003" y="11"/>
                  </a:lnTo>
                  <a:lnTo>
                    <a:pt x="998" y="5"/>
                  </a:lnTo>
                  <a:lnTo>
                    <a:pt x="993" y="0"/>
                  </a:lnTo>
                  <a:lnTo>
                    <a:pt x="987" y="0"/>
                  </a:lnTo>
                  <a:lnTo>
                    <a:pt x="954" y="0"/>
                  </a:lnTo>
                  <a:lnTo>
                    <a:pt x="922" y="0"/>
                  </a:lnTo>
                  <a:lnTo>
                    <a:pt x="894" y="0"/>
                  </a:lnTo>
                  <a:lnTo>
                    <a:pt x="862" y="0"/>
                  </a:lnTo>
                  <a:lnTo>
                    <a:pt x="829" y="0"/>
                  </a:lnTo>
                  <a:lnTo>
                    <a:pt x="796" y="0"/>
                  </a:lnTo>
                  <a:lnTo>
                    <a:pt x="764" y="0"/>
                  </a:lnTo>
                  <a:lnTo>
                    <a:pt x="731" y="0"/>
                  </a:lnTo>
                  <a:lnTo>
                    <a:pt x="704" y="33"/>
                  </a:lnTo>
                  <a:lnTo>
                    <a:pt x="671" y="65"/>
                  </a:lnTo>
                  <a:lnTo>
                    <a:pt x="638" y="98"/>
                  </a:lnTo>
                  <a:lnTo>
                    <a:pt x="605" y="125"/>
                  </a:lnTo>
                  <a:lnTo>
                    <a:pt x="589" y="142"/>
                  </a:lnTo>
                  <a:lnTo>
                    <a:pt x="584" y="153"/>
                  </a:lnTo>
                  <a:lnTo>
                    <a:pt x="584" y="158"/>
                  </a:lnTo>
                  <a:lnTo>
                    <a:pt x="578" y="163"/>
                  </a:lnTo>
                  <a:lnTo>
                    <a:pt x="573" y="169"/>
                  </a:lnTo>
                  <a:lnTo>
                    <a:pt x="573" y="180"/>
                  </a:lnTo>
                  <a:lnTo>
                    <a:pt x="567" y="185"/>
                  </a:lnTo>
                  <a:lnTo>
                    <a:pt x="562" y="191"/>
                  </a:lnTo>
                  <a:lnTo>
                    <a:pt x="556" y="202"/>
                  </a:lnTo>
                  <a:lnTo>
                    <a:pt x="551" y="207"/>
                  </a:lnTo>
                  <a:lnTo>
                    <a:pt x="545" y="213"/>
                  </a:lnTo>
                  <a:lnTo>
                    <a:pt x="540" y="218"/>
                  </a:lnTo>
                  <a:lnTo>
                    <a:pt x="540" y="229"/>
                  </a:lnTo>
                  <a:lnTo>
                    <a:pt x="529" y="234"/>
                  </a:lnTo>
                  <a:lnTo>
                    <a:pt x="524" y="240"/>
                  </a:lnTo>
                  <a:lnTo>
                    <a:pt x="518" y="245"/>
                  </a:lnTo>
                  <a:lnTo>
                    <a:pt x="513" y="251"/>
                  </a:lnTo>
                  <a:lnTo>
                    <a:pt x="518" y="262"/>
                  </a:lnTo>
                  <a:lnTo>
                    <a:pt x="518" y="267"/>
                  </a:lnTo>
                  <a:lnTo>
                    <a:pt x="529" y="278"/>
                  </a:lnTo>
                  <a:lnTo>
                    <a:pt x="535" y="283"/>
                  </a:lnTo>
                  <a:lnTo>
                    <a:pt x="545" y="283"/>
                  </a:lnTo>
                  <a:lnTo>
                    <a:pt x="551" y="278"/>
                  </a:lnTo>
                  <a:lnTo>
                    <a:pt x="556" y="272"/>
                  </a:lnTo>
                  <a:lnTo>
                    <a:pt x="562" y="267"/>
                  </a:lnTo>
                  <a:lnTo>
                    <a:pt x="567" y="256"/>
                  </a:lnTo>
                  <a:lnTo>
                    <a:pt x="573" y="245"/>
                  </a:lnTo>
                  <a:lnTo>
                    <a:pt x="578" y="251"/>
                  </a:lnTo>
                  <a:lnTo>
                    <a:pt x="584" y="256"/>
                  </a:lnTo>
                  <a:lnTo>
                    <a:pt x="578" y="267"/>
                  </a:lnTo>
                  <a:lnTo>
                    <a:pt x="567" y="272"/>
                  </a:lnTo>
                  <a:lnTo>
                    <a:pt x="562" y="278"/>
                  </a:lnTo>
                  <a:lnTo>
                    <a:pt x="556" y="283"/>
                  </a:lnTo>
                  <a:lnTo>
                    <a:pt x="551" y="289"/>
                  </a:lnTo>
                  <a:lnTo>
                    <a:pt x="551" y="294"/>
                  </a:lnTo>
                  <a:lnTo>
                    <a:pt x="551" y="305"/>
                  </a:lnTo>
                  <a:lnTo>
                    <a:pt x="545" y="311"/>
                  </a:lnTo>
                  <a:lnTo>
                    <a:pt x="545" y="322"/>
                  </a:lnTo>
                  <a:lnTo>
                    <a:pt x="540" y="327"/>
                  </a:lnTo>
                  <a:lnTo>
                    <a:pt x="535" y="332"/>
                  </a:lnTo>
                  <a:lnTo>
                    <a:pt x="535" y="338"/>
                  </a:lnTo>
                  <a:lnTo>
                    <a:pt x="535" y="349"/>
                  </a:lnTo>
                  <a:lnTo>
                    <a:pt x="529" y="354"/>
                  </a:lnTo>
                  <a:lnTo>
                    <a:pt x="524" y="365"/>
                  </a:lnTo>
                  <a:lnTo>
                    <a:pt x="524" y="371"/>
                  </a:lnTo>
                  <a:lnTo>
                    <a:pt x="518" y="376"/>
                  </a:lnTo>
                  <a:lnTo>
                    <a:pt x="513" y="381"/>
                  </a:lnTo>
                  <a:lnTo>
                    <a:pt x="507" y="392"/>
                  </a:lnTo>
                  <a:lnTo>
                    <a:pt x="507" y="398"/>
                  </a:lnTo>
                  <a:lnTo>
                    <a:pt x="507" y="403"/>
                  </a:lnTo>
                  <a:lnTo>
                    <a:pt x="502" y="414"/>
                  </a:lnTo>
                  <a:lnTo>
                    <a:pt x="496" y="420"/>
                  </a:lnTo>
                  <a:lnTo>
                    <a:pt x="491" y="425"/>
                  </a:lnTo>
                  <a:lnTo>
                    <a:pt x="486" y="431"/>
                  </a:lnTo>
                  <a:lnTo>
                    <a:pt x="480" y="441"/>
                  </a:lnTo>
                  <a:lnTo>
                    <a:pt x="480" y="447"/>
                  </a:lnTo>
                  <a:lnTo>
                    <a:pt x="486" y="458"/>
                  </a:lnTo>
                  <a:lnTo>
                    <a:pt x="486" y="469"/>
                  </a:lnTo>
                  <a:lnTo>
                    <a:pt x="496" y="474"/>
                  </a:lnTo>
                  <a:lnTo>
                    <a:pt x="502" y="480"/>
                  </a:lnTo>
                  <a:lnTo>
                    <a:pt x="513" y="480"/>
                  </a:lnTo>
                  <a:lnTo>
                    <a:pt x="524" y="469"/>
                  </a:lnTo>
                  <a:lnTo>
                    <a:pt x="529" y="463"/>
                  </a:lnTo>
                  <a:lnTo>
                    <a:pt x="535" y="458"/>
                  </a:lnTo>
                  <a:lnTo>
                    <a:pt x="540" y="452"/>
                  </a:lnTo>
                  <a:lnTo>
                    <a:pt x="545" y="452"/>
                  </a:lnTo>
                  <a:lnTo>
                    <a:pt x="545" y="458"/>
                  </a:lnTo>
                  <a:lnTo>
                    <a:pt x="545" y="469"/>
                  </a:lnTo>
                  <a:lnTo>
                    <a:pt x="545" y="480"/>
                  </a:lnTo>
                  <a:lnTo>
                    <a:pt x="545" y="485"/>
                  </a:lnTo>
                  <a:lnTo>
                    <a:pt x="545" y="496"/>
                  </a:lnTo>
                  <a:lnTo>
                    <a:pt x="540" y="501"/>
                  </a:lnTo>
                  <a:lnTo>
                    <a:pt x="535" y="507"/>
                  </a:lnTo>
                  <a:lnTo>
                    <a:pt x="529" y="518"/>
                  </a:lnTo>
                  <a:lnTo>
                    <a:pt x="529" y="523"/>
                  </a:lnTo>
                  <a:lnTo>
                    <a:pt x="524" y="529"/>
                  </a:lnTo>
                  <a:lnTo>
                    <a:pt x="518" y="534"/>
                  </a:lnTo>
                  <a:lnTo>
                    <a:pt x="518" y="545"/>
                  </a:lnTo>
                  <a:lnTo>
                    <a:pt x="518" y="556"/>
                  </a:lnTo>
                  <a:lnTo>
                    <a:pt x="513" y="561"/>
                  </a:lnTo>
                  <a:lnTo>
                    <a:pt x="507" y="561"/>
                  </a:lnTo>
                  <a:lnTo>
                    <a:pt x="496" y="556"/>
                  </a:lnTo>
                  <a:lnTo>
                    <a:pt x="491" y="550"/>
                  </a:lnTo>
                  <a:lnTo>
                    <a:pt x="480" y="545"/>
                  </a:lnTo>
                  <a:lnTo>
                    <a:pt x="480" y="534"/>
                  </a:lnTo>
                  <a:lnTo>
                    <a:pt x="480" y="529"/>
                  </a:lnTo>
                  <a:lnTo>
                    <a:pt x="480" y="518"/>
                  </a:lnTo>
                  <a:lnTo>
                    <a:pt x="486" y="512"/>
                  </a:lnTo>
                  <a:lnTo>
                    <a:pt x="496" y="507"/>
                  </a:lnTo>
                  <a:lnTo>
                    <a:pt x="502" y="501"/>
                  </a:lnTo>
                  <a:lnTo>
                    <a:pt x="507" y="490"/>
                  </a:lnTo>
                  <a:lnTo>
                    <a:pt x="507" y="485"/>
                  </a:lnTo>
                  <a:lnTo>
                    <a:pt x="507" y="480"/>
                  </a:lnTo>
                  <a:lnTo>
                    <a:pt x="502" y="469"/>
                  </a:lnTo>
                  <a:lnTo>
                    <a:pt x="496" y="458"/>
                  </a:lnTo>
                  <a:lnTo>
                    <a:pt x="491" y="452"/>
                  </a:lnTo>
                  <a:lnTo>
                    <a:pt x="480" y="452"/>
                  </a:lnTo>
                  <a:lnTo>
                    <a:pt x="475" y="452"/>
                  </a:lnTo>
                  <a:lnTo>
                    <a:pt x="475" y="458"/>
                  </a:lnTo>
                  <a:lnTo>
                    <a:pt x="469" y="463"/>
                  </a:lnTo>
                  <a:lnTo>
                    <a:pt x="469" y="474"/>
                  </a:lnTo>
                  <a:lnTo>
                    <a:pt x="469" y="485"/>
                  </a:lnTo>
                  <a:lnTo>
                    <a:pt x="469" y="496"/>
                  </a:lnTo>
                  <a:lnTo>
                    <a:pt x="464" y="501"/>
                  </a:lnTo>
                  <a:lnTo>
                    <a:pt x="458" y="507"/>
                  </a:lnTo>
                  <a:lnTo>
                    <a:pt x="453" y="512"/>
                  </a:lnTo>
                  <a:lnTo>
                    <a:pt x="442" y="518"/>
                  </a:lnTo>
                  <a:lnTo>
                    <a:pt x="436" y="523"/>
                  </a:lnTo>
                  <a:lnTo>
                    <a:pt x="436" y="529"/>
                  </a:lnTo>
                  <a:lnTo>
                    <a:pt x="431" y="540"/>
                  </a:lnTo>
                  <a:lnTo>
                    <a:pt x="431" y="545"/>
                  </a:lnTo>
                  <a:lnTo>
                    <a:pt x="426" y="556"/>
                  </a:lnTo>
                  <a:lnTo>
                    <a:pt x="420" y="561"/>
                  </a:lnTo>
                  <a:lnTo>
                    <a:pt x="415" y="567"/>
                  </a:lnTo>
                  <a:lnTo>
                    <a:pt x="404" y="572"/>
                  </a:lnTo>
                  <a:lnTo>
                    <a:pt x="398" y="578"/>
                  </a:lnTo>
                  <a:lnTo>
                    <a:pt x="387" y="583"/>
                  </a:lnTo>
                  <a:lnTo>
                    <a:pt x="382" y="589"/>
                  </a:lnTo>
                  <a:lnTo>
                    <a:pt x="371" y="594"/>
                  </a:lnTo>
                  <a:lnTo>
                    <a:pt x="366" y="605"/>
                  </a:lnTo>
                  <a:lnTo>
                    <a:pt x="355" y="605"/>
                  </a:lnTo>
                  <a:lnTo>
                    <a:pt x="349" y="605"/>
                  </a:lnTo>
                  <a:lnTo>
                    <a:pt x="344" y="599"/>
                  </a:lnTo>
                  <a:lnTo>
                    <a:pt x="338" y="594"/>
                  </a:lnTo>
                  <a:lnTo>
                    <a:pt x="327" y="583"/>
                  </a:lnTo>
                  <a:lnTo>
                    <a:pt x="322" y="578"/>
                  </a:lnTo>
                  <a:lnTo>
                    <a:pt x="306" y="578"/>
                  </a:lnTo>
                  <a:lnTo>
                    <a:pt x="295" y="583"/>
                  </a:lnTo>
                  <a:lnTo>
                    <a:pt x="289" y="589"/>
                  </a:lnTo>
                  <a:lnTo>
                    <a:pt x="284" y="594"/>
                  </a:lnTo>
                  <a:lnTo>
                    <a:pt x="278" y="605"/>
                  </a:lnTo>
                  <a:lnTo>
                    <a:pt x="273" y="610"/>
                  </a:lnTo>
                  <a:lnTo>
                    <a:pt x="267" y="616"/>
                  </a:lnTo>
                  <a:lnTo>
                    <a:pt x="257" y="621"/>
                  </a:lnTo>
                  <a:lnTo>
                    <a:pt x="246" y="627"/>
                  </a:lnTo>
                  <a:lnTo>
                    <a:pt x="235" y="627"/>
                  </a:lnTo>
                  <a:lnTo>
                    <a:pt x="224" y="632"/>
                  </a:lnTo>
                  <a:lnTo>
                    <a:pt x="224" y="638"/>
                  </a:lnTo>
                  <a:lnTo>
                    <a:pt x="218" y="649"/>
                  </a:lnTo>
                  <a:lnTo>
                    <a:pt x="213" y="654"/>
                  </a:lnTo>
                  <a:lnTo>
                    <a:pt x="202" y="659"/>
                  </a:lnTo>
                  <a:lnTo>
                    <a:pt x="191" y="659"/>
                  </a:lnTo>
                  <a:lnTo>
                    <a:pt x="180" y="659"/>
                  </a:lnTo>
                  <a:lnTo>
                    <a:pt x="169" y="654"/>
                  </a:lnTo>
                  <a:lnTo>
                    <a:pt x="164" y="649"/>
                  </a:lnTo>
                  <a:lnTo>
                    <a:pt x="158" y="643"/>
                  </a:lnTo>
                  <a:lnTo>
                    <a:pt x="153" y="638"/>
                  </a:lnTo>
                  <a:lnTo>
                    <a:pt x="142" y="632"/>
                  </a:lnTo>
                  <a:lnTo>
                    <a:pt x="131" y="627"/>
                  </a:lnTo>
                  <a:lnTo>
                    <a:pt x="120" y="627"/>
                  </a:lnTo>
                  <a:lnTo>
                    <a:pt x="109" y="627"/>
                  </a:lnTo>
                  <a:lnTo>
                    <a:pt x="98" y="627"/>
                  </a:lnTo>
                  <a:lnTo>
                    <a:pt x="87" y="627"/>
                  </a:lnTo>
                  <a:lnTo>
                    <a:pt x="77" y="616"/>
                  </a:lnTo>
                  <a:lnTo>
                    <a:pt x="71" y="610"/>
                  </a:lnTo>
                  <a:lnTo>
                    <a:pt x="71" y="605"/>
                  </a:lnTo>
                  <a:lnTo>
                    <a:pt x="66" y="605"/>
                  </a:lnTo>
                  <a:lnTo>
                    <a:pt x="60" y="605"/>
                  </a:lnTo>
                  <a:lnTo>
                    <a:pt x="55" y="610"/>
                  </a:lnTo>
                  <a:lnTo>
                    <a:pt x="44" y="616"/>
                  </a:lnTo>
                  <a:lnTo>
                    <a:pt x="38" y="621"/>
                  </a:lnTo>
                  <a:lnTo>
                    <a:pt x="33" y="621"/>
                  </a:lnTo>
                  <a:lnTo>
                    <a:pt x="28" y="627"/>
                  </a:lnTo>
                  <a:lnTo>
                    <a:pt x="28" y="632"/>
                  </a:lnTo>
                  <a:lnTo>
                    <a:pt x="22" y="638"/>
                  </a:lnTo>
                  <a:lnTo>
                    <a:pt x="22" y="643"/>
                  </a:lnTo>
                  <a:lnTo>
                    <a:pt x="28" y="654"/>
                  </a:lnTo>
                  <a:lnTo>
                    <a:pt x="33" y="654"/>
                  </a:lnTo>
                  <a:lnTo>
                    <a:pt x="38" y="659"/>
                  </a:lnTo>
                  <a:lnTo>
                    <a:pt x="44" y="665"/>
                  </a:lnTo>
                  <a:lnTo>
                    <a:pt x="55" y="665"/>
                  </a:lnTo>
                  <a:lnTo>
                    <a:pt x="60" y="670"/>
                  </a:lnTo>
                  <a:lnTo>
                    <a:pt x="71" y="670"/>
                  </a:lnTo>
                  <a:lnTo>
                    <a:pt x="77" y="676"/>
                  </a:lnTo>
                  <a:lnTo>
                    <a:pt x="87" y="676"/>
                  </a:lnTo>
                  <a:lnTo>
                    <a:pt x="93" y="676"/>
                  </a:lnTo>
                  <a:lnTo>
                    <a:pt x="104" y="681"/>
                  </a:lnTo>
                  <a:lnTo>
                    <a:pt x="109" y="681"/>
                  </a:lnTo>
                  <a:lnTo>
                    <a:pt x="120" y="681"/>
                  </a:lnTo>
                  <a:lnTo>
                    <a:pt x="131" y="681"/>
                  </a:lnTo>
                  <a:lnTo>
                    <a:pt x="137" y="687"/>
                  </a:lnTo>
                  <a:lnTo>
                    <a:pt x="147" y="687"/>
                  </a:lnTo>
                  <a:lnTo>
                    <a:pt x="153" y="687"/>
                  </a:lnTo>
                  <a:lnTo>
                    <a:pt x="164" y="692"/>
                  </a:lnTo>
                  <a:lnTo>
                    <a:pt x="169" y="698"/>
                  </a:lnTo>
                  <a:lnTo>
                    <a:pt x="169" y="703"/>
                  </a:lnTo>
                  <a:lnTo>
                    <a:pt x="180" y="708"/>
                  </a:lnTo>
                  <a:lnTo>
                    <a:pt x="186" y="708"/>
                  </a:lnTo>
                  <a:lnTo>
                    <a:pt x="197" y="708"/>
                  </a:lnTo>
                  <a:lnTo>
                    <a:pt x="207" y="708"/>
                  </a:lnTo>
                  <a:lnTo>
                    <a:pt x="213" y="708"/>
                  </a:lnTo>
                  <a:lnTo>
                    <a:pt x="224" y="708"/>
                  </a:lnTo>
                  <a:lnTo>
                    <a:pt x="229" y="708"/>
                  </a:lnTo>
                  <a:lnTo>
                    <a:pt x="240" y="714"/>
                  </a:lnTo>
                  <a:lnTo>
                    <a:pt x="251" y="714"/>
                  </a:lnTo>
                  <a:lnTo>
                    <a:pt x="257" y="714"/>
                  </a:lnTo>
                  <a:lnTo>
                    <a:pt x="267" y="708"/>
                  </a:lnTo>
                  <a:lnTo>
                    <a:pt x="278" y="708"/>
                  </a:lnTo>
                  <a:lnTo>
                    <a:pt x="284" y="708"/>
                  </a:lnTo>
                  <a:lnTo>
                    <a:pt x="295" y="708"/>
                  </a:lnTo>
                  <a:lnTo>
                    <a:pt x="300" y="708"/>
                  </a:lnTo>
                  <a:lnTo>
                    <a:pt x="306" y="714"/>
                  </a:lnTo>
                  <a:lnTo>
                    <a:pt x="311" y="719"/>
                  </a:lnTo>
                  <a:lnTo>
                    <a:pt x="316" y="725"/>
                  </a:lnTo>
                  <a:lnTo>
                    <a:pt x="316" y="736"/>
                  </a:lnTo>
                  <a:lnTo>
                    <a:pt x="316" y="741"/>
                  </a:lnTo>
                  <a:lnTo>
                    <a:pt x="316" y="747"/>
                  </a:lnTo>
                  <a:lnTo>
                    <a:pt x="316" y="752"/>
                  </a:lnTo>
                  <a:lnTo>
                    <a:pt x="316" y="758"/>
                  </a:lnTo>
                  <a:lnTo>
                    <a:pt x="322" y="763"/>
                  </a:lnTo>
                  <a:lnTo>
                    <a:pt x="333" y="763"/>
                  </a:lnTo>
                  <a:lnTo>
                    <a:pt x="338" y="768"/>
                  </a:lnTo>
                  <a:lnTo>
                    <a:pt x="349" y="768"/>
                  </a:lnTo>
                  <a:lnTo>
                    <a:pt x="355" y="768"/>
                  </a:lnTo>
                  <a:close/>
                  <a:moveTo>
                    <a:pt x="513" y="768"/>
                  </a:moveTo>
                  <a:lnTo>
                    <a:pt x="513" y="763"/>
                  </a:lnTo>
                  <a:lnTo>
                    <a:pt x="513" y="763"/>
                  </a:lnTo>
                  <a:lnTo>
                    <a:pt x="513" y="763"/>
                  </a:lnTo>
                  <a:lnTo>
                    <a:pt x="513" y="763"/>
                  </a:lnTo>
                  <a:lnTo>
                    <a:pt x="513" y="763"/>
                  </a:lnTo>
                  <a:lnTo>
                    <a:pt x="513" y="763"/>
                  </a:lnTo>
                  <a:lnTo>
                    <a:pt x="507" y="763"/>
                  </a:lnTo>
                  <a:lnTo>
                    <a:pt x="507" y="763"/>
                  </a:lnTo>
                  <a:lnTo>
                    <a:pt x="507" y="763"/>
                  </a:lnTo>
                  <a:lnTo>
                    <a:pt x="507" y="763"/>
                  </a:lnTo>
                  <a:lnTo>
                    <a:pt x="507" y="768"/>
                  </a:lnTo>
                  <a:lnTo>
                    <a:pt x="507" y="768"/>
                  </a:lnTo>
                  <a:lnTo>
                    <a:pt x="513" y="768"/>
                  </a:lnTo>
                  <a:lnTo>
                    <a:pt x="513" y="768"/>
                  </a:lnTo>
                  <a:close/>
                  <a:moveTo>
                    <a:pt x="2230" y="736"/>
                  </a:moveTo>
                  <a:lnTo>
                    <a:pt x="2236" y="730"/>
                  </a:lnTo>
                  <a:lnTo>
                    <a:pt x="2241" y="725"/>
                  </a:lnTo>
                  <a:lnTo>
                    <a:pt x="2241" y="719"/>
                  </a:lnTo>
                  <a:lnTo>
                    <a:pt x="2247" y="708"/>
                  </a:lnTo>
                  <a:lnTo>
                    <a:pt x="2241" y="703"/>
                  </a:lnTo>
                  <a:lnTo>
                    <a:pt x="2241" y="698"/>
                  </a:lnTo>
                  <a:lnTo>
                    <a:pt x="2236" y="687"/>
                  </a:lnTo>
                  <a:lnTo>
                    <a:pt x="2230" y="681"/>
                  </a:lnTo>
                  <a:lnTo>
                    <a:pt x="2225" y="681"/>
                  </a:lnTo>
                  <a:lnTo>
                    <a:pt x="2225" y="687"/>
                  </a:lnTo>
                  <a:lnTo>
                    <a:pt x="2225" y="698"/>
                  </a:lnTo>
                  <a:lnTo>
                    <a:pt x="2225" y="703"/>
                  </a:lnTo>
                  <a:lnTo>
                    <a:pt x="2225" y="714"/>
                  </a:lnTo>
                  <a:lnTo>
                    <a:pt x="2225" y="719"/>
                  </a:lnTo>
                  <a:lnTo>
                    <a:pt x="2225" y="725"/>
                  </a:lnTo>
                  <a:lnTo>
                    <a:pt x="2225" y="730"/>
                  </a:lnTo>
                  <a:lnTo>
                    <a:pt x="2225" y="736"/>
                  </a:lnTo>
                  <a:lnTo>
                    <a:pt x="2225" y="741"/>
                  </a:lnTo>
                  <a:lnTo>
                    <a:pt x="2230" y="741"/>
                  </a:lnTo>
                  <a:lnTo>
                    <a:pt x="2230" y="736"/>
                  </a:lnTo>
                  <a:close/>
                  <a:moveTo>
                    <a:pt x="22" y="670"/>
                  </a:moveTo>
                  <a:lnTo>
                    <a:pt x="0" y="659"/>
                  </a:lnTo>
                  <a:lnTo>
                    <a:pt x="0" y="670"/>
                  </a:lnTo>
                  <a:lnTo>
                    <a:pt x="0" y="692"/>
                  </a:lnTo>
                  <a:lnTo>
                    <a:pt x="22" y="670"/>
                  </a:lnTo>
                  <a:close/>
                  <a:moveTo>
                    <a:pt x="1309" y="638"/>
                  </a:moveTo>
                  <a:lnTo>
                    <a:pt x="1309" y="638"/>
                  </a:lnTo>
                  <a:lnTo>
                    <a:pt x="1309" y="638"/>
                  </a:lnTo>
                  <a:lnTo>
                    <a:pt x="1309" y="638"/>
                  </a:lnTo>
                  <a:lnTo>
                    <a:pt x="1303" y="638"/>
                  </a:lnTo>
                  <a:lnTo>
                    <a:pt x="1303" y="638"/>
                  </a:lnTo>
                  <a:lnTo>
                    <a:pt x="1303" y="638"/>
                  </a:lnTo>
                  <a:lnTo>
                    <a:pt x="1303" y="638"/>
                  </a:lnTo>
                  <a:lnTo>
                    <a:pt x="1303" y="638"/>
                  </a:lnTo>
                  <a:lnTo>
                    <a:pt x="1303" y="638"/>
                  </a:lnTo>
                  <a:lnTo>
                    <a:pt x="1303" y="638"/>
                  </a:lnTo>
                  <a:lnTo>
                    <a:pt x="1303" y="638"/>
                  </a:lnTo>
                  <a:lnTo>
                    <a:pt x="1303" y="638"/>
                  </a:lnTo>
                  <a:lnTo>
                    <a:pt x="1309" y="638"/>
                  </a:lnTo>
                  <a:lnTo>
                    <a:pt x="1309" y="638"/>
                  </a:lnTo>
                  <a:close/>
                  <a:moveTo>
                    <a:pt x="2274" y="638"/>
                  </a:moveTo>
                  <a:lnTo>
                    <a:pt x="2279" y="632"/>
                  </a:lnTo>
                  <a:lnTo>
                    <a:pt x="2285" y="621"/>
                  </a:lnTo>
                  <a:lnTo>
                    <a:pt x="2290" y="616"/>
                  </a:lnTo>
                  <a:lnTo>
                    <a:pt x="2285" y="605"/>
                  </a:lnTo>
                  <a:lnTo>
                    <a:pt x="2274" y="594"/>
                  </a:lnTo>
                  <a:lnTo>
                    <a:pt x="2268" y="589"/>
                  </a:lnTo>
                  <a:lnTo>
                    <a:pt x="2258" y="589"/>
                  </a:lnTo>
                  <a:lnTo>
                    <a:pt x="2252" y="594"/>
                  </a:lnTo>
                  <a:lnTo>
                    <a:pt x="2252" y="605"/>
                  </a:lnTo>
                  <a:lnTo>
                    <a:pt x="2252" y="616"/>
                  </a:lnTo>
                  <a:lnTo>
                    <a:pt x="2252" y="621"/>
                  </a:lnTo>
                  <a:lnTo>
                    <a:pt x="2252" y="632"/>
                  </a:lnTo>
                  <a:lnTo>
                    <a:pt x="2252" y="643"/>
                  </a:lnTo>
                  <a:lnTo>
                    <a:pt x="2258" y="654"/>
                  </a:lnTo>
                  <a:lnTo>
                    <a:pt x="2258" y="659"/>
                  </a:lnTo>
                  <a:lnTo>
                    <a:pt x="2258" y="670"/>
                  </a:lnTo>
                  <a:lnTo>
                    <a:pt x="2263" y="670"/>
                  </a:lnTo>
                  <a:lnTo>
                    <a:pt x="2263" y="665"/>
                  </a:lnTo>
                  <a:lnTo>
                    <a:pt x="2268" y="654"/>
                  </a:lnTo>
                  <a:lnTo>
                    <a:pt x="2274" y="638"/>
                  </a:lnTo>
                  <a:close/>
                  <a:moveTo>
                    <a:pt x="2301" y="572"/>
                  </a:moveTo>
                  <a:lnTo>
                    <a:pt x="2301" y="567"/>
                  </a:lnTo>
                  <a:lnTo>
                    <a:pt x="2301" y="561"/>
                  </a:lnTo>
                  <a:lnTo>
                    <a:pt x="2301" y="556"/>
                  </a:lnTo>
                  <a:lnTo>
                    <a:pt x="2301" y="550"/>
                  </a:lnTo>
                  <a:lnTo>
                    <a:pt x="2301" y="545"/>
                  </a:lnTo>
                  <a:lnTo>
                    <a:pt x="2296" y="540"/>
                  </a:lnTo>
                  <a:lnTo>
                    <a:pt x="2290" y="540"/>
                  </a:lnTo>
                  <a:lnTo>
                    <a:pt x="2285" y="545"/>
                  </a:lnTo>
                  <a:lnTo>
                    <a:pt x="2279" y="550"/>
                  </a:lnTo>
                  <a:lnTo>
                    <a:pt x="2279" y="556"/>
                  </a:lnTo>
                  <a:lnTo>
                    <a:pt x="2279" y="561"/>
                  </a:lnTo>
                  <a:lnTo>
                    <a:pt x="2279" y="567"/>
                  </a:lnTo>
                  <a:lnTo>
                    <a:pt x="2279" y="572"/>
                  </a:lnTo>
                  <a:lnTo>
                    <a:pt x="2285" y="583"/>
                  </a:lnTo>
                  <a:lnTo>
                    <a:pt x="2285" y="589"/>
                  </a:lnTo>
                  <a:lnTo>
                    <a:pt x="2290" y="594"/>
                  </a:lnTo>
                  <a:lnTo>
                    <a:pt x="2290" y="594"/>
                  </a:lnTo>
                  <a:lnTo>
                    <a:pt x="2296" y="594"/>
                  </a:lnTo>
                  <a:lnTo>
                    <a:pt x="2296" y="583"/>
                  </a:lnTo>
                  <a:lnTo>
                    <a:pt x="2301" y="572"/>
                  </a:lnTo>
                  <a:close/>
                  <a:moveTo>
                    <a:pt x="371" y="512"/>
                  </a:moveTo>
                  <a:lnTo>
                    <a:pt x="366" y="496"/>
                  </a:lnTo>
                  <a:lnTo>
                    <a:pt x="360" y="490"/>
                  </a:lnTo>
                  <a:lnTo>
                    <a:pt x="355" y="485"/>
                  </a:lnTo>
                  <a:lnTo>
                    <a:pt x="349" y="485"/>
                  </a:lnTo>
                  <a:lnTo>
                    <a:pt x="344" y="485"/>
                  </a:lnTo>
                  <a:lnTo>
                    <a:pt x="338" y="496"/>
                  </a:lnTo>
                  <a:lnTo>
                    <a:pt x="333" y="501"/>
                  </a:lnTo>
                  <a:lnTo>
                    <a:pt x="333" y="512"/>
                  </a:lnTo>
                  <a:lnTo>
                    <a:pt x="338" y="523"/>
                  </a:lnTo>
                  <a:lnTo>
                    <a:pt x="344" y="529"/>
                  </a:lnTo>
                  <a:lnTo>
                    <a:pt x="355" y="534"/>
                  </a:lnTo>
                  <a:lnTo>
                    <a:pt x="360" y="529"/>
                  </a:lnTo>
                  <a:lnTo>
                    <a:pt x="366" y="523"/>
                  </a:lnTo>
                  <a:lnTo>
                    <a:pt x="371" y="512"/>
                  </a:lnTo>
                  <a:close/>
                  <a:moveTo>
                    <a:pt x="398" y="480"/>
                  </a:moveTo>
                  <a:lnTo>
                    <a:pt x="398" y="474"/>
                  </a:lnTo>
                  <a:lnTo>
                    <a:pt x="404" y="469"/>
                  </a:lnTo>
                  <a:lnTo>
                    <a:pt x="409" y="458"/>
                  </a:lnTo>
                  <a:lnTo>
                    <a:pt x="415" y="452"/>
                  </a:lnTo>
                  <a:lnTo>
                    <a:pt x="420" y="447"/>
                  </a:lnTo>
                  <a:lnTo>
                    <a:pt x="426" y="441"/>
                  </a:lnTo>
                  <a:lnTo>
                    <a:pt x="431" y="436"/>
                  </a:lnTo>
                  <a:lnTo>
                    <a:pt x="436" y="431"/>
                  </a:lnTo>
                  <a:lnTo>
                    <a:pt x="442" y="420"/>
                  </a:lnTo>
                  <a:lnTo>
                    <a:pt x="442" y="414"/>
                  </a:lnTo>
                  <a:lnTo>
                    <a:pt x="436" y="409"/>
                  </a:lnTo>
                  <a:lnTo>
                    <a:pt x="426" y="403"/>
                  </a:lnTo>
                  <a:lnTo>
                    <a:pt x="415" y="398"/>
                  </a:lnTo>
                  <a:lnTo>
                    <a:pt x="409" y="403"/>
                  </a:lnTo>
                  <a:lnTo>
                    <a:pt x="404" y="409"/>
                  </a:lnTo>
                  <a:lnTo>
                    <a:pt x="398" y="420"/>
                  </a:lnTo>
                  <a:lnTo>
                    <a:pt x="398" y="425"/>
                  </a:lnTo>
                  <a:lnTo>
                    <a:pt x="393" y="431"/>
                  </a:lnTo>
                  <a:lnTo>
                    <a:pt x="387" y="436"/>
                  </a:lnTo>
                  <a:lnTo>
                    <a:pt x="382" y="441"/>
                  </a:lnTo>
                  <a:lnTo>
                    <a:pt x="376" y="447"/>
                  </a:lnTo>
                  <a:lnTo>
                    <a:pt x="371" y="452"/>
                  </a:lnTo>
                  <a:lnTo>
                    <a:pt x="366" y="463"/>
                  </a:lnTo>
                  <a:lnTo>
                    <a:pt x="360" y="469"/>
                  </a:lnTo>
                  <a:lnTo>
                    <a:pt x="355" y="474"/>
                  </a:lnTo>
                  <a:lnTo>
                    <a:pt x="360" y="480"/>
                  </a:lnTo>
                  <a:lnTo>
                    <a:pt x="366" y="490"/>
                  </a:lnTo>
                  <a:lnTo>
                    <a:pt x="371" y="496"/>
                  </a:lnTo>
                  <a:lnTo>
                    <a:pt x="382" y="496"/>
                  </a:lnTo>
                  <a:lnTo>
                    <a:pt x="387" y="496"/>
                  </a:lnTo>
                  <a:lnTo>
                    <a:pt x="393" y="490"/>
                  </a:lnTo>
                  <a:lnTo>
                    <a:pt x="398" y="480"/>
                  </a:lnTo>
                  <a:close/>
                  <a:moveTo>
                    <a:pt x="2906" y="447"/>
                  </a:moveTo>
                  <a:lnTo>
                    <a:pt x="2901" y="436"/>
                  </a:lnTo>
                  <a:lnTo>
                    <a:pt x="2901" y="431"/>
                  </a:lnTo>
                  <a:lnTo>
                    <a:pt x="2901" y="425"/>
                  </a:lnTo>
                  <a:lnTo>
                    <a:pt x="2895" y="420"/>
                  </a:lnTo>
                  <a:lnTo>
                    <a:pt x="2895" y="420"/>
                  </a:lnTo>
                  <a:lnTo>
                    <a:pt x="2895" y="425"/>
                  </a:lnTo>
                  <a:lnTo>
                    <a:pt x="2890" y="431"/>
                  </a:lnTo>
                  <a:lnTo>
                    <a:pt x="2890" y="436"/>
                  </a:lnTo>
                  <a:lnTo>
                    <a:pt x="2890" y="441"/>
                  </a:lnTo>
                  <a:lnTo>
                    <a:pt x="2890" y="447"/>
                  </a:lnTo>
                  <a:lnTo>
                    <a:pt x="2895" y="452"/>
                  </a:lnTo>
                  <a:lnTo>
                    <a:pt x="2895" y="458"/>
                  </a:lnTo>
                  <a:lnTo>
                    <a:pt x="2901" y="452"/>
                  </a:lnTo>
                  <a:lnTo>
                    <a:pt x="2906" y="447"/>
                  </a:lnTo>
                  <a:close/>
                  <a:moveTo>
                    <a:pt x="469" y="381"/>
                  </a:moveTo>
                  <a:lnTo>
                    <a:pt x="464" y="371"/>
                  </a:lnTo>
                  <a:lnTo>
                    <a:pt x="458" y="360"/>
                  </a:lnTo>
                  <a:lnTo>
                    <a:pt x="453" y="354"/>
                  </a:lnTo>
                  <a:lnTo>
                    <a:pt x="447" y="354"/>
                  </a:lnTo>
                  <a:lnTo>
                    <a:pt x="436" y="360"/>
                  </a:lnTo>
                  <a:lnTo>
                    <a:pt x="431" y="365"/>
                  </a:lnTo>
                  <a:lnTo>
                    <a:pt x="431" y="376"/>
                  </a:lnTo>
                  <a:lnTo>
                    <a:pt x="431" y="392"/>
                  </a:lnTo>
                  <a:lnTo>
                    <a:pt x="436" y="403"/>
                  </a:lnTo>
                  <a:lnTo>
                    <a:pt x="442" y="409"/>
                  </a:lnTo>
                  <a:lnTo>
                    <a:pt x="447" y="409"/>
                  </a:lnTo>
                  <a:lnTo>
                    <a:pt x="458" y="409"/>
                  </a:lnTo>
                  <a:lnTo>
                    <a:pt x="464" y="398"/>
                  </a:lnTo>
                  <a:lnTo>
                    <a:pt x="469" y="381"/>
                  </a:lnTo>
                  <a:close/>
                  <a:moveTo>
                    <a:pt x="491" y="354"/>
                  </a:moveTo>
                  <a:lnTo>
                    <a:pt x="496" y="343"/>
                  </a:lnTo>
                  <a:lnTo>
                    <a:pt x="502" y="338"/>
                  </a:lnTo>
                  <a:lnTo>
                    <a:pt x="507" y="327"/>
                  </a:lnTo>
                  <a:lnTo>
                    <a:pt x="518" y="327"/>
                  </a:lnTo>
                  <a:lnTo>
                    <a:pt x="529" y="322"/>
                  </a:lnTo>
                  <a:lnTo>
                    <a:pt x="540" y="322"/>
                  </a:lnTo>
                  <a:lnTo>
                    <a:pt x="545" y="316"/>
                  </a:lnTo>
                  <a:lnTo>
                    <a:pt x="545" y="305"/>
                  </a:lnTo>
                  <a:lnTo>
                    <a:pt x="540" y="300"/>
                  </a:lnTo>
                  <a:lnTo>
                    <a:pt x="535" y="289"/>
                  </a:lnTo>
                  <a:lnTo>
                    <a:pt x="529" y="278"/>
                  </a:lnTo>
                  <a:lnTo>
                    <a:pt x="524" y="267"/>
                  </a:lnTo>
                  <a:lnTo>
                    <a:pt x="518" y="262"/>
                  </a:lnTo>
                  <a:lnTo>
                    <a:pt x="513" y="262"/>
                  </a:lnTo>
                  <a:lnTo>
                    <a:pt x="507" y="267"/>
                  </a:lnTo>
                  <a:lnTo>
                    <a:pt x="502" y="272"/>
                  </a:lnTo>
                  <a:lnTo>
                    <a:pt x="496" y="283"/>
                  </a:lnTo>
                  <a:lnTo>
                    <a:pt x="491" y="289"/>
                  </a:lnTo>
                  <a:lnTo>
                    <a:pt x="486" y="300"/>
                  </a:lnTo>
                  <a:lnTo>
                    <a:pt x="480" y="305"/>
                  </a:lnTo>
                  <a:lnTo>
                    <a:pt x="475" y="311"/>
                  </a:lnTo>
                  <a:lnTo>
                    <a:pt x="469" y="322"/>
                  </a:lnTo>
                  <a:lnTo>
                    <a:pt x="464" y="327"/>
                  </a:lnTo>
                  <a:lnTo>
                    <a:pt x="458" y="332"/>
                  </a:lnTo>
                  <a:lnTo>
                    <a:pt x="447" y="343"/>
                  </a:lnTo>
                  <a:lnTo>
                    <a:pt x="447" y="349"/>
                  </a:lnTo>
                  <a:lnTo>
                    <a:pt x="453" y="354"/>
                  </a:lnTo>
                  <a:lnTo>
                    <a:pt x="458" y="365"/>
                  </a:lnTo>
                  <a:lnTo>
                    <a:pt x="475" y="365"/>
                  </a:lnTo>
                  <a:lnTo>
                    <a:pt x="480" y="365"/>
                  </a:lnTo>
                  <a:lnTo>
                    <a:pt x="491" y="360"/>
                  </a:lnTo>
                  <a:lnTo>
                    <a:pt x="491" y="354"/>
                  </a:lnTo>
                  <a:close/>
                  <a:moveTo>
                    <a:pt x="387" y="322"/>
                  </a:moveTo>
                  <a:lnTo>
                    <a:pt x="382" y="322"/>
                  </a:lnTo>
                  <a:lnTo>
                    <a:pt x="366" y="338"/>
                  </a:lnTo>
                  <a:lnTo>
                    <a:pt x="371" y="332"/>
                  </a:lnTo>
                  <a:lnTo>
                    <a:pt x="376" y="332"/>
                  </a:lnTo>
                  <a:lnTo>
                    <a:pt x="376" y="332"/>
                  </a:lnTo>
                  <a:lnTo>
                    <a:pt x="376" y="327"/>
                  </a:lnTo>
                  <a:lnTo>
                    <a:pt x="382" y="327"/>
                  </a:lnTo>
                  <a:lnTo>
                    <a:pt x="382" y="322"/>
                  </a:lnTo>
                  <a:lnTo>
                    <a:pt x="387" y="322"/>
                  </a:lnTo>
                  <a:lnTo>
                    <a:pt x="387" y="322"/>
                  </a:lnTo>
                  <a:close/>
                  <a:moveTo>
                    <a:pt x="420" y="289"/>
                  </a:moveTo>
                  <a:lnTo>
                    <a:pt x="415" y="289"/>
                  </a:lnTo>
                  <a:lnTo>
                    <a:pt x="415" y="289"/>
                  </a:lnTo>
                  <a:lnTo>
                    <a:pt x="420" y="289"/>
                  </a:lnTo>
                  <a:close/>
                  <a:moveTo>
                    <a:pt x="447" y="256"/>
                  </a:moveTo>
                  <a:lnTo>
                    <a:pt x="458" y="245"/>
                  </a:lnTo>
                  <a:lnTo>
                    <a:pt x="447" y="256"/>
                  </a:lnTo>
                  <a:lnTo>
                    <a:pt x="447" y="256"/>
                  </a:lnTo>
                  <a:lnTo>
                    <a:pt x="447" y="256"/>
                  </a:lnTo>
                  <a:close/>
                  <a:moveTo>
                    <a:pt x="518" y="191"/>
                  </a:moveTo>
                  <a:lnTo>
                    <a:pt x="513" y="191"/>
                  </a:lnTo>
                  <a:lnTo>
                    <a:pt x="496" y="207"/>
                  </a:lnTo>
                  <a:lnTo>
                    <a:pt x="496" y="207"/>
                  </a:lnTo>
                  <a:lnTo>
                    <a:pt x="502" y="202"/>
                  </a:lnTo>
                  <a:lnTo>
                    <a:pt x="502" y="202"/>
                  </a:lnTo>
                  <a:lnTo>
                    <a:pt x="507" y="196"/>
                  </a:lnTo>
                  <a:lnTo>
                    <a:pt x="507" y="196"/>
                  </a:lnTo>
                  <a:lnTo>
                    <a:pt x="513" y="196"/>
                  </a:lnTo>
                  <a:lnTo>
                    <a:pt x="513" y="196"/>
                  </a:lnTo>
                  <a:lnTo>
                    <a:pt x="518" y="191"/>
                  </a:lnTo>
                  <a:close/>
                  <a:moveTo>
                    <a:pt x="1123" y="191"/>
                  </a:moveTo>
                  <a:lnTo>
                    <a:pt x="1118" y="185"/>
                  </a:lnTo>
                  <a:lnTo>
                    <a:pt x="1118" y="180"/>
                  </a:lnTo>
                  <a:lnTo>
                    <a:pt x="1113" y="174"/>
                  </a:lnTo>
                  <a:lnTo>
                    <a:pt x="1107" y="180"/>
                  </a:lnTo>
                  <a:lnTo>
                    <a:pt x="1096" y="180"/>
                  </a:lnTo>
                  <a:lnTo>
                    <a:pt x="1091" y="185"/>
                  </a:lnTo>
                  <a:lnTo>
                    <a:pt x="1085" y="191"/>
                  </a:lnTo>
                  <a:lnTo>
                    <a:pt x="1085" y="196"/>
                  </a:lnTo>
                  <a:lnTo>
                    <a:pt x="1091" y="202"/>
                  </a:lnTo>
                  <a:lnTo>
                    <a:pt x="1102" y="202"/>
                  </a:lnTo>
                  <a:lnTo>
                    <a:pt x="1107" y="202"/>
                  </a:lnTo>
                  <a:lnTo>
                    <a:pt x="1118" y="202"/>
                  </a:lnTo>
                  <a:lnTo>
                    <a:pt x="1118" y="196"/>
                  </a:lnTo>
                  <a:lnTo>
                    <a:pt x="1123" y="191"/>
                  </a:lnTo>
                  <a:close/>
                  <a:moveTo>
                    <a:pt x="567" y="158"/>
                  </a:moveTo>
                  <a:lnTo>
                    <a:pt x="545" y="158"/>
                  </a:lnTo>
                  <a:lnTo>
                    <a:pt x="545" y="180"/>
                  </a:lnTo>
                  <a:lnTo>
                    <a:pt x="567" y="158"/>
                  </a:lnTo>
                  <a:close/>
                  <a:moveTo>
                    <a:pt x="3054" y="125"/>
                  </a:moveTo>
                  <a:lnTo>
                    <a:pt x="3037" y="125"/>
                  </a:lnTo>
                  <a:lnTo>
                    <a:pt x="3054" y="147"/>
                  </a:lnTo>
                  <a:lnTo>
                    <a:pt x="3054" y="125"/>
                  </a:lnTo>
                  <a:close/>
                  <a:moveTo>
                    <a:pt x="878" y="98"/>
                  </a:moveTo>
                  <a:lnTo>
                    <a:pt x="884" y="93"/>
                  </a:lnTo>
                  <a:lnTo>
                    <a:pt x="884" y="87"/>
                  </a:lnTo>
                  <a:lnTo>
                    <a:pt x="889" y="87"/>
                  </a:lnTo>
                  <a:lnTo>
                    <a:pt x="894" y="87"/>
                  </a:lnTo>
                  <a:lnTo>
                    <a:pt x="900" y="87"/>
                  </a:lnTo>
                  <a:lnTo>
                    <a:pt x="900" y="93"/>
                  </a:lnTo>
                  <a:lnTo>
                    <a:pt x="905" y="93"/>
                  </a:lnTo>
                  <a:lnTo>
                    <a:pt x="905" y="98"/>
                  </a:lnTo>
                  <a:lnTo>
                    <a:pt x="900" y="104"/>
                  </a:lnTo>
                  <a:lnTo>
                    <a:pt x="894" y="104"/>
                  </a:lnTo>
                  <a:lnTo>
                    <a:pt x="889" y="104"/>
                  </a:lnTo>
                  <a:lnTo>
                    <a:pt x="884" y="104"/>
                  </a:lnTo>
                  <a:lnTo>
                    <a:pt x="884" y="104"/>
                  </a:lnTo>
                  <a:lnTo>
                    <a:pt x="878" y="98"/>
                  </a:lnTo>
                  <a:close/>
                  <a:moveTo>
                    <a:pt x="3021" y="98"/>
                  </a:moveTo>
                  <a:lnTo>
                    <a:pt x="2988" y="98"/>
                  </a:lnTo>
                  <a:lnTo>
                    <a:pt x="2983" y="98"/>
                  </a:lnTo>
                  <a:lnTo>
                    <a:pt x="2988" y="98"/>
                  </a:lnTo>
                  <a:lnTo>
                    <a:pt x="2994" y="104"/>
                  </a:lnTo>
                  <a:lnTo>
                    <a:pt x="2994" y="104"/>
                  </a:lnTo>
                  <a:lnTo>
                    <a:pt x="2999" y="109"/>
                  </a:lnTo>
                  <a:lnTo>
                    <a:pt x="3004" y="109"/>
                  </a:lnTo>
                  <a:lnTo>
                    <a:pt x="3010" y="109"/>
                  </a:lnTo>
                  <a:lnTo>
                    <a:pt x="3015" y="114"/>
                  </a:lnTo>
                  <a:lnTo>
                    <a:pt x="3021" y="114"/>
                  </a:lnTo>
                  <a:lnTo>
                    <a:pt x="3021" y="98"/>
                  </a:lnTo>
                  <a:close/>
                  <a:moveTo>
                    <a:pt x="2830" y="33"/>
                  </a:moveTo>
                  <a:lnTo>
                    <a:pt x="2830" y="33"/>
                  </a:lnTo>
                  <a:lnTo>
                    <a:pt x="2830" y="33"/>
                  </a:lnTo>
                  <a:lnTo>
                    <a:pt x="2830" y="33"/>
                  </a:lnTo>
                  <a:lnTo>
                    <a:pt x="2830" y="33"/>
                  </a:lnTo>
                  <a:lnTo>
                    <a:pt x="2830" y="33"/>
                  </a:lnTo>
                  <a:lnTo>
                    <a:pt x="2830" y="33"/>
                  </a:lnTo>
                  <a:lnTo>
                    <a:pt x="2830" y="33"/>
                  </a:lnTo>
                  <a:lnTo>
                    <a:pt x="2830" y="33"/>
                  </a:lnTo>
                  <a:lnTo>
                    <a:pt x="2830" y="33"/>
                  </a:lnTo>
                  <a:lnTo>
                    <a:pt x="2830" y="33"/>
                  </a:lnTo>
                  <a:close/>
                  <a:moveTo>
                    <a:pt x="2666" y="0"/>
                  </a:moveTo>
                  <a:lnTo>
                    <a:pt x="2639" y="0"/>
                  </a:lnTo>
                  <a:lnTo>
                    <a:pt x="2612" y="0"/>
                  </a:lnTo>
                  <a:lnTo>
                    <a:pt x="2606" y="0"/>
                  </a:lnTo>
                  <a:lnTo>
                    <a:pt x="2612" y="0"/>
                  </a:lnTo>
                  <a:lnTo>
                    <a:pt x="2617" y="0"/>
                  </a:lnTo>
                  <a:lnTo>
                    <a:pt x="2623" y="5"/>
                  </a:lnTo>
                  <a:lnTo>
                    <a:pt x="2628" y="5"/>
                  </a:lnTo>
                  <a:lnTo>
                    <a:pt x="2634" y="5"/>
                  </a:lnTo>
                  <a:lnTo>
                    <a:pt x="2639" y="5"/>
                  </a:lnTo>
                  <a:lnTo>
                    <a:pt x="2645" y="5"/>
                  </a:lnTo>
                  <a:lnTo>
                    <a:pt x="2650" y="5"/>
                  </a:lnTo>
                  <a:lnTo>
                    <a:pt x="2656" y="5"/>
                  </a:lnTo>
                  <a:lnTo>
                    <a:pt x="2661" y="0"/>
                  </a:lnTo>
                  <a:lnTo>
                    <a:pt x="2666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9" name=""/>
            <p:cNvSpPr/>
            <p:nvPr/>
          </p:nvSpPr>
          <p:spPr>
            <a:xfrm>
              <a:off x="1741320" y="2514600"/>
              <a:ext cx="4899240" cy="3139920"/>
            </a:xfrm>
            <a:custGeom>
              <a:avLst/>
              <a:gdLst/>
              <a:ahLst/>
              <a:rect l="l" t="t" r="r" b="b"/>
              <a:pathLst>
                <a:path w="3086" h="1978">
                  <a:moveTo>
                    <a:pt x="1412" y="1978"/>
                  </a:moveTo>
                  <a:lnTo>
                    <a:pt x="1418" y="1973"/>
                  </a:lnTo>
                  <a:lnTo>
                    <a:pt x="1423" y="1968"/>
                  </a:lnTo>
                  <a:lnTo>
                    <a:pt x="1429" y="1962"/>
                  </a:lnTo>
                  <a:lnTo>
                    <a:pt x="1434" y="1957"/>
                  </a:lnTo>
                  <a:lnTo>
                    <a:pt x="1440" y="1951"/>
                  </a:lnTo>
                  <a:lnTo>
                    <a:pt x="1440" y="1946"/>
                  </a:lnTo>
                  <a:lnTo>
                    <a:pt x="1445" y="1940"/>
                  </a:lnTo>
                  <a:lnTo>
                    <a:pt x="1451" y="1935"/>
                  </a:lnTo>
                  <a:lnTo>
                    <a:pt x="1456" y="1929"/>
                  </a:lnTo>
                  <a:lnTo>
                    <a:pt x="1461" y="1924"/>
                  </a:lnTo>
                  <a:lnTo>
                    <a:pt x="1467" y="1918"/>
                  </a:lnTo>
                  <a:lnTo>
                    <a:pt x="1478" y="1918"/>
                  </a:lnTo>
                  <a:lnTo>
                    <a:pt x="1483" y="1913"/>
                  </a:lnTo>
                  <a:lnTo>
                    <a:pt x="1489" y="1908"/>
                  </a:lnTo>
                  <a:lnTo>
                    <a:pt x="1494" y="1902"/>
                  </a:lnTo>
                  <a:lnTo>
                    <a:pt x="1494" y="1897"/>
                  </a:lnTo>
                  <a:lnTo>
                    <a:pt x="1505" y="1897"/>
                  </a:lnTo>
                  <a:lnTo>
                    <a:pt x="1516" y="1902"/>
                  </a:lnTo>
                  <a:lnTo>
                    <a:pt x="1521" y="1908"/>
                  </a:lnTo>
                  <a:lnTo>
                    <a:pt x="1521" y="1913"/>
                  </a:lnTo>
                  <a:lnTo>
                    <a:pt x="1516" y="1918"/>
                  </a:lnTo>
                  <a:lnTo>
                    <a:pt x="1511" y="1918"/>
                  </a:lnTo>
                  <a:lnTo>
                    <a:pt x="1500" y="1924"/>
                  </a:lnTo>
                  <a:lnTo>
                    <a:pt x="1489" y="1929"/>
                  </a:lnTo>
                  <a:lnTo>
                    <a:pt x="1489" y="1935"/>
                  </a:lnTo>
                  <a:lnTo>
                    <a:pt x="1489" y="1940"/>
                  </a:lnTo>
                  <a:lnTo>
                    <a:pt x="1489" y="1946"/>
                  </a:lnTo>
                  <a:lnTo>
                    <a:pt x="1489" y="1957"/>
                  </a:lnTo>
                  <a:lnTo>
                    <a:pt x="1494" y="1962"/>
                  </a:lnTo>
                  <a:lnTo>
                    <a:pt x="1494" y="1968"/>
                  </a:lnTo>
                  <a:lnTo>
                    <a:pt x="1494" y="1973"/>
                  </a:lnTo>
                  <a:lnTo>
                    <a:pt x="1500" y="1978"/>
                  </a:lnTo>
                  <a:lnTo>
                    <a:pt x="1527" y="1978"/>
                  </a:lnTo>
                  <a:lnTo>
                    <a:pt x="1560" y="1978"/>
                  </a:lnTo>
                  <a:lnTo>
                    <a:pt x="1592" y="1978"/>
                  </a:lnTo>
                  <a:lnTo>
                    <a:pt x="1625" y="1978"/>
                  </a:lnTo>
                  <a:lnTo>
                    <a:pt x="1658" y="1978"/>
                  </a:lnTo>
                  <a:lnTo>
                    <a:pt x="1685" y="1978"/>
                  </a:lnTo>
                  <a:lnTo>
                    <a:pt x="1718" y="1978"/>
                  </a:lnTo>
                  <a:lnTo>
                    <a:pt x="1750" y="1978"/>
                  </a:lnTo>
                  <a:lnTo>
                    <a:pt x="1783" y="1978"/>
                  </a:lnTo>
                  <a:lnTo>
                    <a:pt x="1816" y="1978"/>
                  </a:lnTo>
                  <a:lnTo>
                    <a:pt x="1849" y="1978"/>
                  </a:lnTo>
                  <a:lnTo>
                    <a:pt x="1876" y="1978"/>
                  </a:lnTo>
                  <a:lnTo>
                    <a:pt x="1909" y="1978"/>
                  </a:lnTo>
                  <a:lnTo>
                    <a:pt x="1941" y="1978"/>
                  </a:lnTo>
                  <a:lnTo>
                    <a:pt x="1974" y="1978"/>
                  </a:lnTo>
                  <a:lnTo>
                    <a:pt x="2007" y="1978"/>
                  </a:lnTo>
                  <a:lnTo>
                    <a:pt x="2039" y="1978"/>
                  </a:lnTo>
                  <a:lnTo>
                    <a:pt x="2067" y="1978"/>
                  </a:lnTo>
                  <a:lnTo>
                    <a:pt x="2099" y="1978"/>
                  </a:lnTo>
                  <a:lnTo>
                    <a:pt x="2132" y="1978"/>
                  </a:lnTo>
                  <a:lnTo>
                    <a:pt x="2165" y="1978"/>
                  </a:lnTo>
                  <a:lnTo>
                    <a:pt x="2198" y="1978"/>
                  </a:lnTo>
                  <a:lnTo>
                    <a:pt x="2230" y="1978"/>
                  </a:lnTo>
                  <a:lnTo>
                    <a:pt x="2258" y="1978"/>
                  </a:lnTo>
                  <a:lnTo>
                    <a:pt x="2290" y="1978"/>
                  </a:lnTo>
                  <a:lnTo>
                    <a:pt x="2323" y="1978"/>
                  </a:lnTo>
                  <a:lnTo>
                    <a:pt x="2356" y="1978"/>
                  </a:lnTo>
                  <a:lnTo>
                    <a:pt x="2388" y="1978"/>
                  </a:lnTo>
                  <a:lnTo>
                    <a:pt x="2421" y="1978"/>
                  </a:lnTo>
                  <a:lnTo>
                    <a:pt x="2448" y="1978"/>
                  </a:lnTo>
                  <a:lnTo>
                    <a:pt x="2481" y="1978"/>
                  </a:lnTo>
                  <a:lnTo>
                    <a:pt x="2514" y="1978"/>
                  </a:lnTo>
                  <a:lnTo>
                    <a:pt x="2546" y="1978"/>
                  </a:lnTo>
                  <a:lnTo>
                    <a:pt x="2579" y="1978"/>
                  </a:lnTo>
                  <a:lnTo>
                    <a:pt x="2612" y="1978"/>
                  </a:lnTo>
                  <a:lnTo>
                    <a:pt x="2639" y="1978"/>
                  </a:lnTo>
                  <a:lnTo>
                    <a:pt x="2672" y="1978"/>
                  </a:lnTo>
                  <a:lnTo>
                    <a:pt x="2705" y="1946"/>
                  </a:lnTo>
                  <a:lnTo>
                    <a:pt x="2737" y="1946"/>
                  </a:lnTo>
                  <a:lnTo>
                    <a:pt x="2770" y="1946"/>
                  </a:lnTo>
                  <a:lnTo>
                    <a:pt x="2797" y="1946"/>
                  </a:lnTo>
                  <a:lnTo>
                    <a:pt x="2830" y="1946"/>
                  </a:lnTo>
                  <a:lnTo>
                    <a:pt x="2863" y="1946"/>
                  </a:lnTo>
                  <a:lnTo>
                    <a:pt x="2895" y="1946"/>
                  </a:lnTo>
                  <a:lnTo>
                    <a:pt x="2928" y="1918"/>
                  </a:lnTo>
                  <a:lnTo>
                    <a:pt x="2928" y="1886"/>
                  </a:lnTo>
                  <a:lnTo>
                    <a:pt x="2928" y="1853"/>
                  </a:lnTo>
                  <a:lnTo>
                    <a:pt x="2928" y="1820"/>
                  </a:lnTo>
                  <a:lnTo>
                    <a:pt x="2961" y="1788"/>
                  </a:lnTo>
                  <a:lnTo>
                    <a:pt x="2961" y="1755"/>
                  </a:lnTo>
                  <a:lnTo>
                    <a:pt x="2961" y="1722"/>
                  </a:lnTo>
                  <a:lnTo>
                    <a:pt x="2961" y="1695"/>
                  </a:lnTo>
                  <a:lnTo>
                    <a:pt x="2988" y="1662"/>
                  </a:lnTo>
                  <a:lnTo>
                    <a:pt x="2988" y="1630"/>
                  </a:lnTo>
                  <a:lnTo>
                    <a:pt x="2988" y="1597"/>
                  </a:lnTo>
                  <a:lnTo>
                    <a:pt x="2988" y="1564"/>
                  </a:lnTo>
                  <a:lnTo>
                    <a:pt x="3021" y="1531"/>
                  </a:lnTo>
                  <a:lnTo>
                    <a:pt x="3021" y="1499"/>
                  </a:lnTo>
                  <a:lnTo>
                    <a:pt x="3021" y="1472"/>
                  </a:lnTo>
                  <a:lnTo>
                    <a:pt x="3021" y="1439"/>
                  </a:lnTo>
                  <a:lnTo>
                    <a:pt x="3054" y="1406"/>
                  </a:lnTo>
                  <a:lnTo>
                    <a:pt x="3054" y="1373"/>
                  </a:lnTo>
                  <a:lnTo>
                    <a:pt x="3054" y="1341"/>
                  </a:lnTo>
                  <a:lnTo>
                    <a:pt x="3054" y="1308"/>
                  </a:lnTo>
                  <a:lnTo>
                    <a:pt x="3086" y="1275"/>
                  </a:lnTo>
                  <a:lnTo>
                    <a:pt x="3086" y="1248"/>
                  </a:lnTo>
                  <a:lnTo>
                    <a:pt x="3086" y="1215"/>
                  </a:lnTo>
                  <a:lnTo>
                    <a:pt x="3086" y="1183"/>
                  </a:lnTo>
                  <a:lnTo>
                    <a:pt x="3086" y="1150"/>
                  </a:lnTo>
                  <a:lnTo>
                    <a:pt x="3086" y="1117"/>
                  </a:lnTo>
                  <a:lnTo>
                    <a:pt x="3086" y="1085"/>
                  </a:lnTo>
                  <a:lnTo>
                    <a:pt x="3086" y="1052"/>
                  </a:lnTo>
                  <a:lnTo>
                    <a:pt x="3086" y="1025"/>
                  </a:lnTo>
                  <a:lnTo>
                    <a:pt x="3086" y="992"/>
                  </a:lnTo>
                  <a:lnTo>
                    <a:pt x="3086" y="959"/>
                  </a:lnTo>
                  <a:lnTo>
                    <a:pt x="3086" y="927"/>
                  </a:lnTo>
                  <a:lnTo>
                    <a:pt x="3086" y="894"/>
                  </a:lnTo>
                  <a:lnTo>
                    <a:pt x="3086" y="861"/>
                  </a:lnTo>
                  <a:lnTo>
                    <a:pt x="3086" y="828"/>
                  </a:lnTo>
                  <a:lnTo>
                    <a:pt x="3086" y="801"/>
                  </a:lnTo>
                  <a:lnTo>
                    <a:pt x="3086" y="768"/>
                  </a:lnTo>
                  <a:lnTo>
                    <a:pt x="3086" y="736"/>
                  </a:lnTo>
                  <a:lnTo>
                    <a:pt x="3086" y="703"/>
                  </a:lnTo>
                  <a:lnTo>
                    <a:pt x="3086" y="670"/>
                  </a:lnTo>
                  <a:lnTo>
                    <a:pt x="3086" y="638"/>
                  </a:lnTo>
                  <a:lnTo>
                    <a:pt x="3086" y="605"/>
                  </a:lnTo>
                  <a:lnTo>
                    <a:pt x="3086" y="572"/>
                  </a:lnTo>
                  <a:lnTo>
                    <a:pt x="3086" y="545"/>
                  </a:lnTo>
                  <a:lnTo>
                    <a:pt x="3086" y="512"/>
                  </a:lnTo>
                  <a:lnTo>
                    <a:pt x="3086" y="480"/>
                  </a:lnTo>
                  <a:lnTo>
                    <a:pt x="3086" y="447"/>
                  </a:lnTo>
                  <a:lnTo>
                    <a:pt x="3086" y="414"/>
                  </a:lnTo>
                  <a:lnTo>
                    <a:pt x="3086" y="381"/>
                  </a:lnTo>
                  <a:lnTo>
                    <a:pt x="3086" y="354"/>
                  </a:lnTo>
                  <a:lnTo>
                    <a:pt x="3086" y="322"/>
                  </a:lnTo>
                  <a:lnTo>
                    <a:pt x="3086" y="289"/>
                  </a:lnTo>
                  <a:lnTo>
                    <a:pt x="3054" y="256"/>
                  </a:lnTo>
                  <a:lnTo>
                    <a:pt x="3054" y="223"/>
                  </a:lnTo>
                  <a:lnTo>
                    <a:pt x="3054" y="191"/>
                  </a:lnTo>
                  <a:lnTo>
                    <a:pt x="3054" y="180"/>
                  </a:lnTo>
                  <a:lnTo>
                    <a:pt x="3048" y="185"/>
                  </a:lnTo>
                  <a:lnTo>
                    <a:pt x="3043" y="191"/>
                  </a:lnTo>
                  <a:lnTo>
                    <a:pt x="3037" y="196"/>
                  </a:lnTo>
                  <a:lnTo>
                    <a:pt x="3037" y="202"/>
                  </a:lnTo>
                  <a:lnTo>
                    <a:pt x="3037" y="207"/>
                  </a:lnTo>
                  <a:lnTo>
                    <a:pt x="3037" y="218"/>
                  </a:lnTo>
                  <a:lnTo>
                    <a:pt x="3043" y="223"/>
                  </a:lnTo>
                  <a:lnTo>
                    <a:pt x="3048" y="229"/>
                  </a:lnTo>
                  <a:lnTo>
                    <a:pt x="3048" y="234"/>
                  </a:lnTo>
                  <a:lnTo>
                    <a:pt x="3048" y="245"/>
                  </a:lnTo>
                  <a:lnTo>
                    <a:pt x="3048" y="251"/>
                  </a:lnTo>
                  <a:lnTo>
                    <a:pt x="3048" y="256"/>
                  </a:lnTo>
                  <a:lnTo>
                    <a:pt x="3043" y="262"/>
                  </a:lnTo>
                  <a:lnTo>
                    <a:pt x="3037" y="267"/>
                  </a:lnTo>
                  <a:lnTo>
                    <a:pt x="3032" y="272"/>
                  </a:lnTo>
                  <a:lnTo>
                    <a:pt x="3021" y="278"/>
                  </a:lnTo>
                  <a:lnTo>
                    <a:pt x="3015" y="283"/>
                  </a:lnTo>
                  <a:lnTo>
                    <a:pt x="3004" y="289"/>
                  </a:lnTo>
                  <a:lnTo>
                    <a:pt x="2999" y="294"/>
                  </a:lnTo>
                  <a:lnTo>
                    <a:pt x="2994" y="300"/>
                  </a:lnTo>
                  <a:lnTo>
                    <a:pt x="2988" y="305"/>
                  </a:lnTo>
                  <a:lnTo>
                    <a:pt x="2988" y="311"/>
                  </a:lnTo>
                  <a:lnTo>
                    <a:pt x="2988" y="316"/>
                  </a:lnTo>
                  <a:lnTo>
                    <a:pt x="2983" y="322"/>
                  </a:lnTo>
                  <a:lnTo>
                    <a:pt x="2977" y="327"/>
                  </a:lnTo>
                  <a:lnTo>
                    <a:pt x="2972" y="332"/>
                  </a:lnTo>
                  <a:lnTo>
                    <a:pt x="2966" y="338"/>
                  </a:lnTo>
                  <a:lnTo>
                    <a:pt x="2961" y="343"/>
                  </a:lnTo>
                  <a:lnTo>
                    <a:pt x="2955" y="354"/>
                  </a:lnTo>
                  <a:lnTo>
                    <a:pt x="2950" y="360"/>
                  </a:lnTo>
                  <a:lnTo>
                    <a:pt x="2950" y="365"/>
                  </a:lnTo>
                  <a:lnTo>
                    <a:pt x="2950" y="376"/>
                  </a:lnTo>
                  <a:lnTo>
                    <a:pt x="2955" y="381"/>
                  </a:lnTo>
                  <a:lnTo>
                    <a:pt x="2966" y="387"/>
                  </a:lnTo>
                  <a:lnTo>
                    <a:pt x="2961" y="392"/>
                  </a:lnTo>
                  <a:lnTo>
                    <a:pt x="2955" y="387"/>
                  </a:lnTo>
                  <a:lnTo>
                    <a:pt x="2950" y="376"/>
                  </a:lnTo>
                  <a:lnTo>
                    <a:pt x="2939" y="376"/>
                  </a:lnTo>
                  <a:lnTo>
                    <a:pt x="2928" y="376"/>
                  </a:lnTo>
                  <a:lnTo>
                    <a:pt x="2917" y="381"/>
                  </a:lnTo>
                  <a:lnTo>
                    <a:pt x="2906" y="381"/>
                  </a:lnTo>
                  <a:lnTo>
                    <a:pt x="2901" y="387"/>
                  </a:lnTo>
                  <a:lnTo>
                    <a:pt x="2895" y="392"/>
                  </a:lnTo>
                  <a:lnTo>
                    <a:pt x="2895" y="398"/>
                  </a:lnTo>
                  <a:lnTo>
                    <a:pt x="2901" y="409"/>
                  </a:lnTo>
                  <a:lnTo>
                    <a:pt x="2906" y="414"/>
                  </a:lnTo>
                  <a:lnTo>
                    <a:pt x="2912" y="420"/>
                  </a:lnTo>
                  <a:lnTo>
                    <a:pt x="2923" y="420"/>
                  </a:lnTo>
                  <a:lnTo>
                    <a:pt x="2934" y="420"/>
                  </a:lnTo>
                  <a:lnTo>
                    <a:pt x="2939" y="425"/>
                  </a:lnTo>
                  <a:lnTo>
                    <a:pt x="2944" y="436"/>
                  </a:lnTo>
                  <a:lnTo>
                    <a:pt x="2950" y="441"/>
                  </a:lnTo>
                  <a:lnTo>
                    <a:pt x="2950" y="447"/>
                  </a:lnTo>
                  <a:lnTo>
                    <a:pt x="2944" y="452"/>
                  </a:lnTo>
                  <a:lnTo>
                    <a:pt x="2944" y="463"/>
                  </a:lnTo>
                  <a:lnTo>
                    <a:pt x="2934" y="469"/>
                  </a:lnTo>
                  <a:lnTo>
                    <a:pt x="2928" y="474"/>
                  </a:lnTo>
                  <a:lnTo>
                    <a:pt x="2923" y="480"/>
                  </a:lnTo>
                  <a:lnTo>
                    <a:pt x="2917" y="485"/>
                  </a:lnTo>
                  <a:lnTo>
                    <a:pt x="2912" y="490"/>
                  </a:lnTo>
                  <a:lnTo>
                    <a:pt x="2912" y="496"/>
                  </a:lnTo>
                  <a:lnTo>
                    <a:pt x="2906" y="501"/>
                  </a:lnTo>
                  <a:lnTo>
                    <a:pt x="2906" y="507"/>
                  </a:lnTo>
                  <a:lnTo>
                    <a:pt x="2901" y="518"/>
                  </a:lnTo>
                  <a:lnTo>
                    <a:pt x="2901" y="523"/>
                  </a:lnTo>
                  <a:lnTo>
                    <a:pt x="2895" y="529"/>
                  </a:lnTo>
                  <a:lnTo>
                    <a:pt x="2895" y="534"/>
                  </a:lnTo>
                  <a:lnTo>
                    <a:pt x="2895" y="545"/>
                  </a:lnTo>
                  <a:lnTo>
                    <a:pt x="2890" y="550"/>
                  </a:lnTo>
                  <a:lnTo>
                    <a:pt x="2890" y="556"/>
                  </a:lnTo>
                  <a:lnTo>
                    <a:pt x="2885" y="561"/>
                  </a:lnTo>
                  <a:lnTo>
                    <a:pt x="2885" y="567"/>
                  </a:lnTo>
                  <a:lnTo>
                    <a:pt x="2879" y="578"/>
                  </a:lnTo>
                  <a:lnTo>
                    <a:pt x="2879" y="583"/>
                  </a:lnTo>
                  <a:lnTo>
                    <a:pt x="2874" y="589"/>
                  </a:lnTo>
                  <a:lnTo>
                    <a:pt x="2874" y="594"/>
                  </a:lnTo>
                  <a:lnTo>
                    <a:pt x="2874" y="599"/>
                  </a:lnTo>
                  <a:lnTo>
                    <a:pt x="2874" y="610"/>
                  </a:lnTo>
                  <a:lnTo>
                    <a:pt x="2874" y="616"/>
                  </a:lnTo>
                  <a:lnTo>
                    <a:pt x="2868" y="621"/>
                  </a:lnTo>
                  <a:lnTo>
                    <a:pt x="2868" y="632"/>
                  </a:lnTo>
                  <a:lnTo>
                    <a:pt x="2868" y="638"/>
                  </a:lnTo>
                  <a:lnTo>
                    <a:pt x="2863" y="643"/>
                  </a:lnTo>
                  <a:lnTo>
                    <a:pt x="2857" y="649"/>
                  </a:lnTo>
                  <a:lnTo>
                    <a:pt x="2857" y="654"/>
                  </a:lnTo>
                  <a:lnTo>
                    <a:pt x="2857" y="665"/>
                  </a:lnTo>
                  <a:lnTo>
                    <a:pt x="2857" y="670"/>
                  </a:lnTo>
                  <a:lnTo>
                    <a:pt x="2868" y="676"/>
                  </a:lnTo>
                  <a:lnTo>
                    <a:pt x="2874" y="681"/>
                  </a:lnTo>
                  <a:lnTo>
                    <a:pt x="2879" y="687"/>
                  </a:lnTo>
                  <a:lnTo>
                    <a:pt x="2885" y="692"/>
                  </a:lnTo>
                  <a:lnTo>
                    <a:pt x="2890" y="698"/>
                  </a:lnTo>
                  <a:lnTo>
                    <a:pt x="2890" y="703"/>
                  </a:lnTo>
                  <a:lnTo>
                    <a:pt x="2885" y="714"/>
                  </a:lnTo>
                  <a:lnTo>
                    <a:pt x="2879" y="719"/>
                  </a:lnTo>
                  <a:lnTo>
                    <a:pt x="2879" y="725"/>
                  </a:lnTo>
                  <a:lnTo>
                    <a:pt x="2879" y="730"/>
                  </a:lnTo>
                  <a:lnTo>
                    <a:pt x="2885" y="736"/>
                  </a:lnTo>
                  <a:lnTo>
                    <a:pt x="2890" y="741"/>
                  </a:lnTo>
                  <a:lnTo>
                    <a:pt x="2901" y="747"/>
                  </a:lnTo>
                  <a:lnTo>
                    <a:pt x="2906" y="752"/>
                  </a:lnTo>
                  <a:lnTo>
                    <a:pt x="2912" y="758"/>
                  </a:lnTo>
                  <a:lnTo>
                    <a:pt x="2912" y="763"/>
                  </a:lnTo>
                  <a:lnTo>
                    <a:pt x="2912" y="774"/>
                  </a:lnTo>
                  <a:lnTo>
                    <a:pt x="2912" y="785"/>
                  </a:lnTo>
                  <a:lnTo>
                    <a:pt x="2906" y="790"/>
                  </a:lnTo>
                  <a:lnTo>
                    <a:pt x="2901" y="796"/>
                  </a:lnTo>
                  <a:lnTo>
                    <a:pt x="2890" y="796"/>
                  </a:lnTo>
                  <a:lnTo>
                    <a:pt x="2885" y="790"/>
                  </a:lnTo>
                  <a:lnTo>
                    <a:pt x="2874" y="785"/>
                  </a:lnTo>
                  <a:lnTo>
                    <a:pt x="2868" y="779"/>
                  </a:lnTo>
                  <a:lnTo>
                    <a:pt x="2863" y="779"/>
                  </a:lnTo>
                  <a:lnTo>
                    <a:pt x="2857" y="785"/>
                  </a:lnTo>
                  <a:lnTo>
                    <a:pt x="2852" y="790"/>
                  </a:lnTo>
                  <a:lnTo>
                    <a:pt x="2852" y="801"/>
                  </a:lnTo>
                  <a:lnTo>
                    <a:pt x="2841" y="807"/>
                  </a:lnTo>
                  <a:lnTo>
                    <a:pt x="2835" y="812"/>
                  </a:lnTo>
                  <a:lnTo>
                    <a:pt x="2830" y="812"/>
                  </a:lnTo>
                  <a:lnTo>
                    <a:pt x="2825" y="812"/>
                  </a:lnTo>
                  <a:lnTo>
                    <a:pt x="2819" y="801"/>
                  </a:lnTo>
                  <a:lnTo>
                    <a:pt x="2814" y="796"/>
                  </a:lnTo>
                  <a:lnTo>
                    <a:pt x="2808" y="790"/>
                  </a:lnTo>
                  <a:lnTo>
                    <a:pt x="2803" y="785"/>
                  </a:lnTo>
                  <a:lnTo>
                    <a:pt x="2797" y="779"/>
                  </a:lnTo>
                  <a:lnTo>
                    <a:pt x="2797" y="774"/>
                  </a:lnTo>
                  <a:lnTo>
                    <a:pt x="2792" y="763"/>
                  </a:lnTo>
                  <a:lnTo>
                    <a:pt x="2792" y="758"/>
                  </a:lnTo>
                  <a:lnTo>
                    <a:pt x="2792" y="752"/>
                  </a:lnTo>
                  <a:lnTo>
                    <a:pt x="2792" y="747"/>
                  </a:lnTo>
                  <a:lnTo>
                    <a:pt x="2792" y="736"/>
                  </a:lnTo>
                  <a:lnTo>
                    <a:pt x="2792" y="730"/>
                  </a:lnTo>
                  <a:lnTo>
                    <a:pt x="2786" y="719"/>
                  </a:lnTo>
                  <a:lnTo>
                    <a:pt x="2781" y="714"/>
                  </a:lnTo>
                  <a:lnTo>
                    <a:pt x="2775" y="708"/>
                  </a:lnTo>
                  <a:lnTo>
                    <a:pt x="2770" y="708"/>
                  </a:lnTo>
                  <a:lnTo>
                    <a:pt x="2765" y="708"/>
                  </a:lnTo>
                  <a:lnTo>
                    <a:pt x="2759" y="714"/>
                  </a:lnTo>
                  <a:lnTo>
                    <a:pt x="2754" y="719"/>
                  </a:lnTo>
                  <a:lnTo>
                    <a:pt x="2748" y="730"/>
                  </a:lnTo>
                  <a:lnTo>
                    <a:pt x="2743" y="736"/>
                  </a:lnTo>
                  <a:lnTo>
                    <a:pt x="2737" y="741"/>
                  </a:lnTo>
                  <a:lnTo>
                    <a:pt x="2732" y="747"/>
                  </a:lnTo>
                  <a:lnTo>
                    <a:pt x="2726" y="752"/>
                  </a:lnTo>
                  <a:lnTo>
                    <a:pt x="2721" y="758"/>
                  </a:lnTo>
                  <a:lnTo>
                    <a:pt x="2715" y="763"/>
                  </a:lnTo>
                  <a:lnTo>
                    <a:pt x="2710" y="768"/>
                  </a:lnTo>
                  <a:lnTo>
                    <a:pt x="2705" y="774"/>
                  </a:lnTo>
                  <a:lnTo>
                    <a:pt x="2694" y="779"/>
                  </a:lnTo>
                  <a:lnTo>
                    <a:pt x="2688" y="785"/>
                  </a:lnTo>
                  <a:lnTo>
                    <a:pt x="2683" y="790"/>
                  </a:lnTo>
                  <a:lnTo>
                    <a:pt x="2677" y="796"/>
                  </a:lnTo>
                  <a:lnTo>
                    <a:pt x="2672" y="801"/>
                  </a:lnTo>
                  <a:lnTo>
                    <a:pt x="2666" y="807"/>
                  </a:lnTo>
                  <a:lnTo>
                    <a:pt x="2656" y="812"/>
                  </a:lnTo>
                  <a:lnTo>
                    <a:pt x="2650" y="817"/>
                  </a:lnTo>
                  <a:lnTo>
                    <a:pt x="2639" y="823"/>
                  </a:lnTo>
                  <a:lnTo>
                    <a:pt x="2634" y="828"/>
                  </a:lnTo>
                  <a:lnTo>
                    <a:pt x="2628" y="834"/>
                  </a:lnTo>
                  <a:lnTo>
                    <a:pt x="2623" y="839"/>
                  </a:lnTo>
                  <a:lnTo>
                    <a:pt x="2617" y="845"/>
                  </a:lnTo>
                  <a:lnTo>
                    <a:pt x="2606" y="850"/>
                  </a:lnTo>
                  <a:lnTo>
                    <a:pt x="2601" y="856"/>
                  </a:lnTo>
                  <a:lnTo>
                    <a:pt x="2596" y="856"/>
                  </a:lnTo>
                  <a:lnTo>
                    <a:pt x="2585" y="861"/>
                  </a:lnTo>
                  <a:lnTo>
                    <a:pt x="2579" y="867"/>
                  </a:lnTo>
                  <a:lnTo>
                    <a:pt x="2574" y="872"/>
                  </a:lnTo>
                  <a:lnTo>
                    <a:pt x="2563" y="877"/>
                  </a:lnTo>
                  <a:lnTo>
                    <a:pt x="2557" y="883"/>
                  </a:lnTo>
                  <a:lnTo>
                    <a:pt x="2552" y="888"/>
                  </a:lnTo>
                  <a:lnTo>
                    <a:pt x="2552" y="899"/>
                  </a:lnTo>
                  <a:lnTo>
                    <a:pt x="2552" y="905"/>
                  </a:lnTo>
                  <a:lnTo>
                    <a:pt x="2546" y="910"/>
                  </a:lnTo>
                  <a:lnTo>
                    <a:pt x="2546" y="916"/>
                  </a:lnTo>
                  <a:lnTo>
                    <a:pt x="2546" y="927"/>
                  </a:lnTo>
                  <a:lnTo>
                    <a:pt x="2546" y="932"/>
                  </a:lnTo>
                  <a:lnTo>
                    <a:pt x="2546" y="937"/>
                  </a:lnTo>
                  <a:lnTo>
                    <a:pt x="2541" y="943"/>
                  </a:lnTo>
                  <a:lnTo>
                    <a:pt x="2541" y="948"/>
                  </a:lnTo>
                  <a:lnTo>
                    <a:pt x="2541" y="959"/>
                  </a:lnTo>
                  <a:lnTo>
                    <a:pt x="2541" y="965"/>
                  </a:lnTo>
                  <a:lnTo>
                    <a:pt x="2541" y="970"/>
                  </a:lnTo>
                  <a:lnTo>
                    <a:pt x="2541" y="976"/>
                  </a:lnTo>
                  <a:lnTo>
                    <a:pt x="2536" y="986"/>
                  </a:lnTo>
                  <a:lnTo>
                    <a:pt x="2536" y="992"/>
                  </a:lnTo>
                  <a:lnTo>
                    <a:pt x="2536" y="997"/>
                  </a:lnTo>
                  <a:lnTo>
                    <a:pt x="2536" y="1003"/>
                  </a:lnTo>
                  <a:lnTo>
                    <a:pt x="2536" y="1014"/>
                  </a:lnTo>
                  <a:lnTo>
                    <a:pt x="2530" y="1019"/>
                  </a:lnTo>
                  <a:lnTo>
                    <a:pt x="2530" y="1025"/>
                  </a:lnTo>
                  <a:lnTo>
                    <a:pt x="2530" y="1030"/>
                  </a:lnTo>
                  <a:lnTo>
                    <a:pt x="2525" y="1041"/>
                  </a:lnTo>
                  <a:lnTo>
                    <a:pt x="2525" y="1046"/>
                  </a:lnTo>
                  <a:lnTo>
                    <a:pt x="2525" y="1052"/>
                  </a:lnTo>
                  <a:lnTo>
                    <a:pt x="2525" y="1057"/>
                  </a:lnTo>
                  <a:lnTo>
                    <a:pt x="2525" y="1068"/>
                  </a:lnTo>
                  <a:lnTo>
                    <a:pt x="2525" y="1074"/>
                  </a:lnTo>
                  <a:lnTo>
                    <a:pt x="2525" y="1079"/>
                  </a:lnTo>
                  <a:lnTo>
                    <a:pt x="2525" y="1085"/>
                  </a:lnTo>
                  <a:lnTo>
                    <a:pt x="2525" y="1095"/>
                  </a:lnTo>
                  <a:lnTo>
                    <a:pt x="2525" y="1101"/>
                  </a:lnTo>
                  <a:lnTo>
                    <a:pt x="2525" y="1106"/>
                  </a:lnTo>
                  <a:lnTo>
                    <a:pt x="2525" y="1112"/>
                  </a:lnTo>
                  <a:lnTo>
                    <a:pt x="2525" y="1123"/>
                  </a:lnTo>
                  <a:lnTo>
                    <a:pt x="2530" y="1128"/>
                  </a:lnTo>
                  <a:lnTo>
                    <a:pt x="2536" y="1134"/>
                  </a:lnTo>
                  <a:lnTo>
                    <a:pt x="2536" y="1139"/>
                  </a:lnTo>
                  <a:lnTo>
                    <a:pt x="2541" y="1145"/>
                  </a:lnTo>
                  <a:lnTo>
                    <a:pt x="2546" y="1155"/>
                  </a:lnTo>
                  <a:lnTo>
                    <a:pt x="2546" y="1161"/>
                  </a:lnTo>
                  <a:lnTo>
                    <a:pt x="2541" y="1166"/>
                  </a:lnTo>
                  <a:lnTo>
                    <a:pt x="2541" y="1177"/>
                  </a:lnTo>
                  <a:lnTo>
                    <a:pt x="2536" y="1183"/>
                  </a:lnTo>
                  <a:lnTo>
                    <a:pt x="2525" y="1183"/>
                  </a:lnTo>
                  <a:lnTo>
                    <a:pt x="2519" y="1188"/>
                  </a:lnTo>
                  <a:lnTo>
                    <a:pt x="2508" y="1188"/>
                  </a:lnTo>
                  <a:lnTo>
                    <a:pt x="2497" y="1188"/>
                  </a:lnTo>
                  <a:lnTo>
                    <a:pt x="2487" y="1188"/>
                  </a:lnTo>
                  <a:lnTo>
                    <a:pt x="2476" y="1188"/>
                  </a:lnTo>
                  <a:lnTo>
                    <a:pt x="2465" y="1188"/>
                  </a:lnTo>
                  <a:lnTo>
                    <a:pt x="2454" y="1188"/>
                  </a:lnTo>
                  <a:lnTo>
                    <a:pt x="2443" y="1188"/>
                  </a:lnTo>
                  <a:lnTo>
                    <a:pt x="2432" y="1188"/>
                  </a:lnTo>
                  <a:lnTo>
                    <a:pt x="2421" y="1188"/>
                  </a:lnTo>
                  <a:lnTo>
                    <a:pt x="2410" y="1188"/>
                  </a:lnTo>
                  <a:lnTo>
                    <a:pt x="2399" y="1188"/>
                  </a:lnTo>
                  <a:lnTo>
                    <a:pt x="2394" y="1194"/>
                  </a:lnTo>
                  <a:lnTo>
                    <a:pt x="2383" y="1194"/>
                  </a:lnTo>
                  <a:lnTo>
                    <a:pt x="2372" y="1199"/>
                  </a:lnTo>
                  <a:lnTo>
                    <a:pt x="2367" y="1204"/>
                  </a:lnTo>
                  <a:lnTo>
                    <a:pt x="2361" y="1210"/>
                  </a:lnTo>
                  <a:lnTo>
                    <a:pt x="2350" y="1215"/>
                  </a:lnTo>
                  <a:lnTo>
                    <a:pt x="2350" y="1221"/>
                  </a:lnTo>
                  <a:lnTo>
                    <a:pt x="2345" y="1226"/>
                  </a:lnTo>
                  <a:lnTo>
                    <a:pt x="2350" y="1232"/>
                  </a:lnTo>
                  <a:lnTo>
                    <a:pt x="2345" y="1243"/>
                  </a:lnTo>
                  <a:lnTo>
                    <a:pt x="2345" y="1248"/>
                  </a:lnTo>
                  <a:lnTo>
                    <a:pt x="2339" y="1254"/>
                  </a:lnTo>
                  <a:lnTo>
                    <a:pt x="2334" y="1259"/>
                  </a:lnTo>
                  <a:lnTo>
                    <a:pt x="2323" y="1264"/>
                  </a:lnTo>
                  <a:lnTo>
                    <a:pt x="2312" y="1264"/>
                  </a:lnTo>
                  <a:lnTo>
                    <a:pt x="2307" y="1270"/>
                  </a:lnTo>
                  <a:lnTo>
                    <a:pt x="2296" y="1270"/>
                  </a:lnTo>
                  <a:lnTo>
                    <a:pt x="2285" y="1275"/>
                  </a:lnTo>
                  <a:lnTo>
                    <a:pt x="2274" y="1275"/>
                  </a:lnTo>
                  <a:lnTo>
                    <a:pt x="2268" y="1281"/>
                  </a:lnTo>
                  <a:lnTo>
                    <a:pt x="2268" y="1286"/>
                  </a:lnTo>
                  <a:lnTo>
                    <a:pt x="2274" y="1297"/>
                  </a:lnTo>
                  <a:lnTo>
                    <a:pt x="2274" y="1303"/>
                  </a:lnTo>
                  <a:lnTo>
                    <a:pt x="2274" y="1308"/>
                  </a:lnTo>
                  <a:lnTo>
                    <a:pt x="2268" y="1313"/>
                  </a:lnTo>
                  <a:lnTo>
                    <a:pt x="2258" y="1319"/>
                  </a:lnTo>
                  <a:lnTo>
                    <a:pt x="2247" y="1324"/>
                  </a:lnTo>
                  <a:lnTo>
                    <a:pt x="2236" y="1324"/>
                  </a:lnTo>
                  <a:lnTo>
                    <a:pt x="2230" y="1330"/>
                  </a:lnTo>
                  <a:lnTo>
                    <a:pt x="2219" y="1330"/>
                  </a:lnTo>
                  <a:lnTo>
                    <a:pt x="2208" y="1330"/>
                  </a:lnTo>
                  <a:lnTo>
                    <a:pt x="2198" y="1335"/>
                  </a:lnTo>
                  <a:lnTo>
                    <a:pt x="2192" y="1341"/>
                  </a:lnTo>
                  <a:lnTo>
                    <a:pt x="2192" y="1346"/>
                  </a:lnTo>
                  <a:lnTo>
                    <a:pt x="2203" y="1346"/>
                  </a:lnTo>
                  <a:lnTo>
                    <a:pt x="2214" y="1352"/>
                  </a:lnTo>
                  <a:lnTo>
                    <a:pt x="2219" y="1357"/>
                  </a:lnTo>
                  <a:lnTo>
                    <a:pt x="2225" y="1363"/>
                  </a:lnTo>
                  <a:lnTo>
                    <a:pt x="2236" y="1363"/>
                  </a:lnTo>
                  <a:lnTo>
                    <a:pt x="2241" y="1373"/>
                  </a:lnTo>
                  <a:lnTo>
                    <a:pt x="2247" y="1379"/>
                  </a:lnTo>
                  <a:lnTo>
                    <a:pt x="2247" y="1384"/>
                  </a:lnTo>
                  <a:lnTo>
                    <a:pt x="2252" y="1390"/>
                  </a:lnTo>
                  <a:lnTo>
                    <a:pt x="2252" y="1395"/>
                  </a:lnTo>
                  <a:lnTo>
                    <a:pt x="2258" y="1406"/>
                  </a:lnTo>
                  <a:lnTo>
                    <a:pt x="2258" y="1412"/>
                  </a:lnTo>
                  <a:lnTo>
                    <a:pt x="2263" y="1417"/>
                  </a:lnTo>
                  <a:lnTo>
                    <a:pt x="2268" y="1422"/>
                  </a:lnTo>
                  <a:lnTo>
                    <a:pt x="2274" y="1428"/>
                  </a:lnTo>
                  <a:lnTo>
                    <a:pt x="2279" y="1433"/>
                  </a:lnTo>
                  <a:lnTo>
                    <a:pt x="2274" y="1439"/>
                  </a:lnTo>
                  <a:lnTo>
                    <a:pt x="2268" y="1444"/>
                  </a:lnTo>
                  <a:lnTo>
                    <a:pt x="2258" y="1450"/>
                  </a:lnTo>
                  <a:lnTo>
                    <a:pt x="2247" y="1444"/>
                  </a:lnTo>
                  <a:lnTo>
                    <a:pt x="2241" y="1439"/>
                  </a:lnTo>
                  <a:lnTo>
                    <a:pt x="2236" y="1433"/>
                  </a:lnTo>
                  <a:lnTo>
                    <a:pt x="2230" y="1428"/>
                  </a:lnTo>
                  <a:lnTo>
                    <a:pt x="2219" y="1428"/>
                  </a:lnTo>
                  <a:lnTo>
                    <a:pt x="2208" y="1433"/>
                  </a:lnTo>
                  <a:lnTo>
                    <a:pt x="2198" y="1433"/>
                  </a:lnTo>
                  <a:lnTo>
                    <a:pt x="2192" y="1439"/>
                  </a:lnTo>
                  <a:lnTo>
                    <a:pt x="2181" y="1444"/>
                  </a:lnTo>
                  <a:lnTo>
                    <a:pt x="2176" y="1450"/>
                  </a:lnTo>
                  <a:lnTo>
                    <a:pt x="2170" y="1455"/>
                  </a:lnTo>
                  <a:lnTo>
                    <a:pt x="2165" y="1461"/>
                  </a:lnTo>
                  <a:lnTo>
                    <a:pt x="2154" y="1461"/>
                  </a:lnTo>
                  <a:lnTo>
                    <a:pt x="2143" y="1461"/>
                  </a:lnTo>
                  <a:lnTo>
                    <a:pt x="2132" y="1461"/>
                  </a:lnTo>
                  <a:lnTo>
                    <a:pt x="2121" y="1461"/>
                  </a:lnTo>
                  <a:lnTo>
                    <a:pt x="2110" y="1461"/>
                  </a:lnTo>
                  <a:lnTo>
                    <a:pt x="2099" y="1466"/>
                  </a:lnTo>
                  <a:lnTo>
                    <a:pt x="2094" y="1472"/>
                  </a:lnTo>
                  <a:lnTo>
                    <a:pt x="2088" y="1477"/>
                  </a:lnTo>
                  <a:lnTo>
                    <a:pt x="2083" y="1482"/>
                  </a:lnTo>
                  <a:lnTo>
                    <a:pt x="2078" y="1488"/>
                  </a:lnTo>
                  <a:lnTo>
                    <a:pt x="2072" y="1493"/>
                  </a:lnTo>
                  <a:lnTo>
                    <a:pt x="2067" y="1499"/>
                  </a:lnTo>
                  <a:lnTo>
                    <a:pt x="2061" y="1504"/>
                  </a:lnTo>
                  <a:lnTo>
                    <a:pt x="2050" y="1510"/>
                  </a:lnTo>
                  <a:lnTo>
                    <a:pt x="2039" y="1510"/>
                  </a:lnTo>
                  <a:lnTo>
                    <a:pt x="2029" y="1510"/>
                  </a:lnTo>
                  <a:lnTo>
                    <a:pt x="2018" y="1510"/>
                  </a:lnTo>
                  <a:lnTo>
                    <a:pt x="2007" y="1504"/>
                  </a:lnTo>
                  <a:lnTo>
                    <a:pt x="2001" y="1504"/>
                  </a:lnTo>
                  <a:lnTo>
                    <a:pt x="1990" y="1499"/>
                  </a:lnTo>
                  <a:lnTo>
                    <a:pt x="1985" y="1493"/>
                  </a:lnTo>
                  <a:lnTo>
                    <a:pt x="1979" y="1488"/>
                  </a:lnTo>
                  <a:lnTo>
                    <a:pt x="1974" y="1482"/>
                  </a:lnTo>
                  <a:lnTo>
                    <a:pt x="1963" y="1477"/>
                  </a:lnTo>
                  <a:lnTo>
                    <a:pt x="1958" y="1472"/>
                  </a:lnTo>
                  <a:lnTo>
                    <a:pt x="1952" y="1466"/>
                  </a:lnTo>
                  <a:lnTo>
                    <a:pt x="1947" y="1461"/>
                  </a:lnTo>
                  <a:lnTo>
                    <a:pt x="1941" y="1461"/>
                  </a:lnTo>
                  <a:lnTo>
                    <a:pt x="1930" y="1461"/>
                  </a:lnTo>
                  <a:lnTo>
                    <a:pt x="1919" y="1466"/>
                  </a:lnTo>
                  <a:lnTo>
                    <a:pt x="1909" y="1466"/>
                  </a:lnTo>
                  <a:lnTo>
                    <a:pt x="1903" y="1461"/>
                  </a:lnTo>
                  <a:lnTo>
                    <a:pt x="1903" y="1455"/>
                  </a:lnTo>
                  <a:lnTo>
                    <a:pt x="1898" y="1450"/>
                  </a:lnTo>
                  <a:lnTo>
                    <a:pt x="1898" y="1439"/>
                  </a:lnTo>
                  <a:lnTo>
                    <a:pt x="1892" y="1433"/>
                  </a:lnTo>
                  <a:lnTo>
                    <a:pt x="1887" y="1428"/>
                  </a:lnTo>
                  <a:lnTo>
                    <a:pt x="1881" y="1422"/>
                  </a:lnTo>
                  <a:lnTo>
                    <a:pt x="1870" y="1417"/>
                  </a:lnTo>
                  <a:lnTo>
                    <a:pt x="1859" y="1417"/>
                  </a:lnTo>
                  <a:lnTo>
                    <a:pt x="1854" y="1412"/>
                  </a:lnTo>
                  <a:lnTo>
                    <a:pt x="1843" y="1417"/>
                  </a:lnTo>
                  <a:lnTo>
                    <a:pt x="1832" y="1417"/>
                  </a:lnTo>
                  <a:lnTo>
                    <a:pt x="1827" y="1422"/>
                  </a:lnTo>
                  <a:lnTo>
                    <a:pt x="1821" y="1428"/>
                  </a:lnTo>
                  <a:lnTo>
                    <a:pt x="1816" y="1439"/>
                  </a:lnTo>
                  <a:lnTo>
                    <a:pt x="1810" y="1439"/>
                  </a:lnTo>
                  <a:lnTo>
                    <a:pt x="1805" y="1439"/>
                  </a:lnTo>
                  <a:lnTo>
                    <a:pt x="1816" y="1433"/>
                  </a:lnTo>
                  <a:lnTo>
                    <a:pt x="1827" y="1433"/>
                  </a:lnTo>
                  <a:lnTo>
                    <a:pt x="1838" y="1428"/>
                  </a:lnTo>
                  <a:lnTo>
                    <a:pt x="1843" y="1422"/>
                  </a:lnTo>
                  <a:lnTo>
                    <a:pt x="1843" y="1412"/>
                  </a:lnTo>
                  <a:lnTo>
                    <a:pt x="1843" y="1406"/>
                  </a:lnTo>
                  <a:lnTo>
                    <a:pt x="1838" y="1401"/>
                  </a:lnTo>
                  <a:lnTo>
                    <a:pt x="1832" y="1395"/>
                  </a:lnTo>
                  <a:lnTo>
                    <a:pt x="1827" y="1390"/>
                  </a:lnTo>
                  <a:lnTo>
                    <a:pt x="1821" y="1384"/>
                  </a:lnTo>
                  <a:lnTo>
                    <a:pt x="1816" y="1379"/>
                  </a:lnTo>
                  <a:lnTo>
                    <a:pt x="1810" y="1373"/>
                  </a:lnTo>
                  <a:lnTo>
                    <a:pt x="1805" y="1368"/>
                  </a:lnTo>
                  <a:lnTo>
                    <a:pt x="1800" y="1357"/>
                  </a:lnTo>
                  <a:lnTo>
                    <a:pt x="1800" y="1352"/>
                  </a:lnTo>
                  <a:lnTo>
                    <a:pt x="1794" y="1346"/>
                  </a:lnTo>
                  <a:lnTo>
                    <a:pt x="1789" y="1341"/>
                  </a:lnTo>
                  <a:lnTo>
                    <a:pt x="1783" y="1335"/>
                  </a:lnTo>
                  <a:lnTo>
                    <a:pt x="1778" y="1330"/>
                  </a:lnTo>
                  <a:lnTo>
                    <a:pt x="1772" y="1324"/>
                  </a:lnTo>
                  <a:lnTo>
                    <a:pt x="1767" y="1319"/>
                  </a:lnTo>
                  <a:lnTo>
                    <a:pt x="1767" y="1308"/>
                  </a:lnTo>
                  <a:lnTo>
                    <a:pt x="1761" y="1303"/>
                  </a:lnTo>
                  <a:lnTo>
                    <a:pt x="1761" y="1292"/>
                  </a:lnTo>
                  <a:lnTo>
                    <a:pt x="1756" y="1286"/>
                  </a:lnTo>
                  <a:lnTo>
                    <a:pt x="1750" y="1286"/>
                  </a:lnTo>
                  <a:lnTo>
                    <a:pt x="1745" y="1286"/>
                  </a:lnTo>
                  <a:lnTo>
                    <a:pt x="1734" y="1292"/>
                  </a:lnTo>
                  <a:lnTo>
                    <a:pt x="1729" y="1297"/>
                  </a:lnTo>
                  <a:lnTo>
                    <a:pt x="1723" y="1303"/>
                  </a:lnTo>
                  <a:lnTo>
                    <a:pt x="1723" y="1313"/>
                  </a:lnTo>
                  <a:lnTo>
                    <a:pt x="1723" y="1319"/>
                  </a:lnTo>
                  <a:lnTo>
                    <a:pt x="1723" y="1324"/>
                  </a:lnTo>
                  <a:lnTo>
                    <a:pt x="1729" y="1330"/>
                  </a:lnTo>
                  <a:lnTo>
                    <a:pt x="1734" y="1341"/>
                  </a:lnTo>
                  <a:lnTo>
                    <a:pt x="1734" y="1346"/>
                  </a:lnTo>
                  <a:lnTo>
                    <a:pt x="1740" y="1352"/>
                  </a:lnTo>
                  <a:lnTo>
                    <a:pt x="1740" y="1357"/>
                  </a:lnTo>
                  <a:lnTo>
                    <a:pt x="1740" y="1368"/>
                  </a:lnTo>
                  <a:lnTo>
                    <a:pt x="1745" y="1373"/>
                  </a:lnTo>
                  <a:lnTo>
                    <a:pt x="1750" y="1379"/>
                  </a:lnTo>
                  <a:lnTo>
                    <a:pt x="1756" y="1384"/>
                  </a:lnTo>
                  <a:lnTo>
                    <a:pt x="1761" y="1390"/>
                  </a:lnTo>
                  <a:lnTo>
                    <a:pt x="1761" y="1395"/>
                  </a:lnTo>
                  <a:lnTo>
                    <a:pt x="1767" y="1401"/>
                  </a:lnTo>
                  <a:lnTo>
                    <a:pt x="1767" y="1412"/>
                  </a:lnTo>
                  <a:lnTo>
                    <a:pt x="1761" y="1417"/>
                  </a:lnTo>
                  <a:lnTo>
                    <a:pt x="1756" y="1428"/>
                  </a:lnTo>
                  <a:lnTo>
                    <a:pt x="1750" y="1433"/>
                  </a:lnTo>
                  <a:lnTo>
                    <a:pt x="1745" y="1428"/>
                  </a:lnTo>
                  <a:lnTo>
                    <a:pt x="1740" y="1428"/>
                  </a:lnTo>
                  <a:lnTo>
                    <a:pt x="1734" y="1417"/>
                  </a:lnTo>
                  <a:lnTo>
                    <a:pt x="1729" y="1412"/>
                  </a:lnTo>
                  <a:lnTo>
                    <a:pt x="1718" y="1406"/>
                  </a:lnTo>
                  <a:lnTo>
                    <a:pt x="1707" y="1406"/>
                  </a:lnTo>
                  <a:lnTo>
                    <a:pt x="1696" y="1406"/>
                  </a:lnTo>
                  <a:lnTo>
                    <a:pt x="1690" y="1401"/>
                  </a:lnTo>
                  <a:lnTo>
                    <a:pt x="1680" y="1406"/>
                  </a:lnTo>
                  <a:lnTo>
                    <a:pt x="1680" y="1417"/>
                  </a:lnTo>
                  <a:lnTo>
                    <a:pt x="1680" y="1422"/>
                  </a:lnTo>
                  <a:lnTo>
                    <a:pt x="1680" y="1428"/>
                  </a:lnTo>
                  <a:lnTo>
                    <a:pt x="1680" y="1433"/>
                  </a:lnTo>
                  <a:lnTo>
                    <a:pt x="1680" y="1444"/>
                  </a:lnTo>
                  <a:lnTo>
                    <a:pt x="1680" y="1450"/>
                  </a:lnTo>
                  <a:lnTo>
                    <a:pt x="1674" y="1455"/>
                  </a:lnTo>
                  <a:lnTo>
                    <a:pt x="1674" y="1461"/>
                  </a:lnTo>
                  <a:lnTo>
                    <a:pt x="1680" y="1472"/>
                  </a:lnTo>
                  <a:lnTo>
                    <a:pt x="1685" y="1477"/>
                  </a:lnTo>
                  <a:lnTo>
                    <a:pt x="1690" y="1477"/>
                  </a:lnTo>
                  <a:lnTo>
                    <a:pt x="1696" y="1466"/>
                  </a:lnTo>
                  <a:lnTo>
                    <a:pt x="1707" y="1466"/>
                  </a:lnTo>
                  <a:lnTo>
                    <a:pt x="1718" y="1461"/>
                  </a:lnTo>
                  <a:lnTo>
                    <a:pt x="1729" y="1461"/>
                  </a:lnTo>
                  <a:lnTo>
                    <a:pt x="1740" y="1461"/>
                  </a:lnTo>
                  <a:lnTo>
                    <a:pt x="1750" y="1461"/>
                  </a:lnTo>
                  <a:lnTo>
                    <a:pt x="1756" y="1466"/>
                  </a:lnTo>
                  <a:lnTo>
                    <a:pt x="1756" y="1472"/>
                  </a:lnTo>
                  <a:lnTo>
                    <a:pt x="1761" y="1477"/>
                  </a:lnTo>
                  <a:lnTo>
                    <a:pt x="1767" y="1482"/>
                  </a:lnTo>
                  <a:lnTo>
                    <a:pt x="1772" y="1488"/>
                  </a:lnTo>
                  <a:lnTo>
                    <a:pt x="1778" y="1499"/>
                  </a:lnTo>
                  <a:lnTo>
                    <a:pt x="1783" y="1504"/>
                  </a:lnTo>
                  <a:lnTo>
                    <a:pt x="1789" y="1510"/>
                  </a:lnTo>
                  <a:lnTo>
                    <a:pt x="1789" y="1515"/>
                  </a:lnTo>
                  <a:lnTo>
                    <a:pt x="1794" y="1521"/>
                  </a:lnTo>
                  <a:lnTo>
                    <a:pt x="1800" y="1526"/>
                  </a:lnTo>
                  <a:lnTo>
                    <a:pt x="1805" y="1531"/>
                  </a:lnTo>
                  <a:lnTo>
                    <a:pt x="1810" y="1537"/>
                  </a:lnTo>
                  <a:lnTo>
                    <a:pt x="1816" y="1548"/>
                  </a:lnTo>
                  <a:lnTo>
                    <a:pt x="1816" y="1553"/>
                  </a:lnTo>
                  <a:lnTo>
                    <a:pt x="1821" y="1559"/>
                  </a:lnTo>
                  <a:lnTo>
                    <a:pt x="1827" y="1564"/>
                  </a:lnTo>
                  <a:lnTo>
                    <a:pt x="1832" y="1570"/>
                  </a:lnTo>
                  <a:lnTo>
                    <a:pt x="1838" y="1575"/>
                  </a:lnTo>
                  <a:lnTo>
                    <a:pt x="1843" y="1581"/>
                  </a:lnTo>
                  <a:lnTo>
                    <a:pt x="1843" y="1586"/>
                  </a:lnTo>
                  <a:lnTo>
                    <a:pt x="1849" y="1597"/>
                  </a:lnTo>
                  <a:lnTo>
                    <a:pt x="1854" y="1602"/>
                  </a:lnTo>
                  <a:lnTo>
                    <a:pt x="1859" y="1608"/>
                  </a:lnTo>
                  <a:lnTo>
                    <a:pt x="1865" y="1613"/>
                  </a:lnTo>
                  <a:lnTo>
                    <a:pt x="1870" y="1619"/>
                  </a:lnTo>
                  <a:lnTo>
                    <a:pt x="1876" y="1624"/>
                  </a:lnTo>
                  <a:lnTo>
                    <a:pt x="1881" y="1630"/>
                  </a:lnTo>
                  <a:lnTo>
                    <a:pt x="1887" y="1635"/>
                  </a:lnTo>
                  <a:lnTo>
                    <a:pt x="1892" y="1646"/>
                  </a:lnTo>
                  <a:lnTo>
                    <a:pt x="1898" y="1651"/>
                  </a:lnTo>
                  <a:lnTo>
                    <a:pt x="1903" y="1657"/>
                  </a:lnTo>
                  <a:lnTo>
                    <a:pt x="1909" y="1657"/>
                  </a:lnTo>
                  <a:lnTo>
                    <a:pt x="1914" y="1657"/>
                  </a:lnTo>
                  <a:lnTo>
                    <a:pt x="1925" y="1651"/>
                  </a:lnTo>
                  <a:lnTo>
                    <a:pt x="1930" y="1646"/>
                  </a:lnTo>
                  <a:lnTo>
                    <a:pt x="1936" y="1635"/>
                  </a:lnTo>
                  <a:lnTo>
                    <a:pt x="1936" y="1630"/>
                  </a:lnTo>
                  <a:lnTo>
                    <a:pt x="1941" y="1624"/>
                  </a:lnTo>
                  <a:lnTo>
                    <a:pt x="1947" y="1619"/>
                  </a:lnTo>
                  <a:lnTo>
                    <a:pt x="1958" y="1613"/>
                  </a:lnTo>
                  <a:lnTo>
                    <a:pt x="1969" y="1613"/>
                  </a:lnTo>
                  <a:lnTo>
                    <a:pt x="1979" y="1613"/>
                  </a:lnTo>
                  <a:lnTo>
                    <a:pt x="1985" y="1619"/>
                  </a:lnTo>
                  <a:lnTo>
                    <a:pt x="1996" y="1624"/>
                  </a:lnTo>
                  <a:lnTo>
                    <a:pt x="2001" y="1630"/>
                  </a:lnTo>
                  <a:lnTo>
                    <a:pt x="2001" y="1635"/>
                  </a:lnTo>
                  <a:lnTo>
                    <a:pt x="1990" y="1635"/>
                  </a:lnTo>
                  <a:lnTo>
                    <a:pt x="1979" y="1640"/>
                  </a:lnTo>
                  <a:lnTo>
                    <a:pt x="1969" y="1640"/>
                  </a:lnTo>
                  <a:lnTo>
                    <a:pt x="1958" y="1635"/>
                  </a:lnTo>
                  <a:lnTo>
                    <a:pt x="1947" y="1635"/>
                  </a:lnTo>
                  <a:lnTo>
                    <a:pt x="1941" y="1640"/>
                  </a:lnTo>
                  <a:lnTo>
                    <a:pt x="1930" y="1640"/>
                  </a:lnTo>
                  <a:lnTo>
                    <a:pt x="1925" y="1646"/>
                  </a:lnTo>
                  <a:lnTo>
                    <a:pt x="1919" y="1657"/>
                  </a:lnTo>
                  <a:lnTo>
                    <a:pt x="1914" y="1662"/>
                  </a:lnTo>
                  <a:lnTo>
                    <a:pt x="1909" y="1668"/>
                  </a:lnTo>
                  <a:lnTo>
                    <a:pt x="1898" y="1668"/>
                  </a:lnTo>
                  <a:lnTo>
                    <a:pt x="1892" y="1673"/>
                  </a:lnTo>
                  <a:lnTo>
                    <a:pt x="1881" y="1679"/>
                  </a:lnTo>
                  <a:lnTo>
                    <a:pt x="1870" y="1679"/>
                  </a:lnTo>
                  <a:lnTo>
                    <a:pt x="1865" y="1684"/>
                  </a:lnTo>
                  <a:lnTo>
                    <a:pt x="1854" y="1690"/>
                  </a:lnTo>
                  <a:lnTo>
                    <a:pt x="1849" y="1695"/>
                  </a:lnTo>
                  <a:lnTo>
                    <a:pt x="1838" y="1695"/>
                  </a:lnTo>
                  <a:lnTo>
                    <a:pt x="1827" y="1700"/>
                  </a:lnTo>
                  <a:lnTo>
                    <a:pt x="1816" y="1700"/>
                  </a:lnTo>
                  <a:lnTo>
                    <a:pt x="1810" y="1706"/>
                  </a:lnTo>
                  <a:lnTo>
                    <a:pt x="1805" y="1711"/>
                  </a:lnTo>
                  <a:lnTo>
                    <a:pt x="1800" y="1717"/>
                  </a:lnTo>
                  <a:lnTo>
                    <a:pt x="1794" y="1722"/>
                  </a:lnTo>
                  <a:lnTo>
                    <a:pt x="1789" y="1728"/>
                  </a:lnTo>
                  <a:lnTo>
                    <a:pt x="1778" y="1733"/>
                  </a:lnTo>
                  <a:lnTo>
                    <a:pt x="1767" y="1733"/>
                  </a:lnTo>
                  <a:lnTo>
                    <a:pt x="1756" y="1733"/>
                  </a:lnTo>
                  <a:lnTo>
                    <a:pt x="1745" y="1733"/>
                  </a:lnTo>
                  <a:lnTo>
                    <a:pt x="1734" y="1739"/>
                  </a:lnTo>
                  <a:lnTo>
                    <a:pt x="1723" y="1739"/>
                  </a:lnTo>
                  <a:lnTo>
                    <a:pt x="1718" y="1739"/>
                  </a:lnTo>
                  <a:lnTo>
                    <a:pt x="1707" y="1744"/>
                  </a:lnTo>
                  <a:lnTo>
                    <a:pt x="1701" y="1749"/>
                  </a:lnTo>
                  <a:lnTo>
                    <a:pt x="1696" y="1755"/>
                  </a:lnTo>
                  <a:lnTo>
                    <a:pt x="1685" y="1760"/>
                  </a:lnTo>
                  <a:lnTo>
                    <a:pt x="1680" y="1766"/>
                  </a:lnTo>
                  <a:lnTo>
                    <a:pt x="1669" y="1766"/>
                  </a:lnTo>
                  <a:lnTo>
                    <a:pt x="1658" y="1771"/>
                  </a:lnTo>
                  <a:lnTo>
                    <a:pt x="1652" y="1777"/>
                  </a:lnTo>
                  <a:lnTo>
                    <a:pt x="1641" y="1782"/>
                  </a:lnTo>
                  <a:lnTo>
                    <a:pt x="1636" y="1788"/>
                  </a:lnTo>
                  <a:lnTo>
                    <a:pt x="1630" y="1793"/>
                  </a:lnTo>
                  <a:lnTo>
                    <a:pt x="1625" y="1799"/>
                  </a:lnTo>
                  <a:lnTo>
                    <a:pt x="1620" y="1804"/>
                  </a:lnTo>
                  <a:lnTo>
                    <a:pt x="1614" y="1809"/>
                  </a:lnTo>
                  <a:lnTo>
                    <a:pt x="1609" y="1815"/>
                  </a:lnTo>
                  <a:lnTo>
                    <a:pt x="1609" y="1820"/>
                  </a:lnTo>
                  <a:lnTo>
                    <a:pt x="1603" y="1826"/>
                  </a:lnTo>
                  <a:lnTo>
                    <a:pt x="1603" y="1837"/>
                  </a:lnTo>
                  <a:lnTo>
                    <a:pt x="1598" y="1842"/>
                  </a:lnTo>
                  <a:lnTo>
                    <a:pt x="1587" y="1848"/>
                  </a:lnTo>
                  <a:lnTo>
                    <a:pt x="1581" y="1848"/>
                  </a:lnTo>
                  <a:lnTo>
                    <a:pt x="1571" y="1853"/>
                  </a:lnTo>
                  <a:lnTo>
                    <a:pt x="1571" y="1859"/>
                  </a:lnTo>
                  <a:lnTo>
                    <a:pt x="1571" y="1864"/>
                  </a:lnTo>
                  <a:lnTo>
                    <a:pt x="1571" y="1875"/>
                  </a:lnTo>
                  <a:lnTo>
                    <a:pt x="1571" y="1880"/>
                  </a:lnTo>
                  <a:lnTo>
                    <a:pt x="1565" y="1891"/>
                  </a:lnTo>
                  <a:lnTo>
                    <a:pt x="1560" y="1891"/>
                  </a:lnTo>
                  <a:lnTo>
                    <a:pt x="1549" y="1886"/>
                  </a:lnTo>
                  <a:lnTo>
                    <a:pt x="1543" y="1880"/>
                  </a:lnTo>
                  <a:lnTo>
                    <a:pt x="1543" y="1869"/>
                  </a:lnTo>
                  <a:lnTo>
                    <a:pt x="1538" y="1864"/>
                  </a:lnTo>
                  <a:lnTo>
                    <a:pt x="1532" y="1859"/>
                  </a:lnTo>
                  <a:lnTo>
                    <a:pt x="1527" y="1853"/>
                  </a:lnTo>
                  <a:lnTo>
                    <a:pt x="1521" y="1859"/>
                  </a:lnTo>
                  <a:lnTo>
                    <a:pt x="1511" y="1864"/>
                  </a:lnTo>
                  <a:lnTo>
                    <a:pt x="1505" y="1864"/>
                  </a:lnTo>
                  <a:lnTo>
                    <a:pt x="1494" y="1869"/>
                  </a:lnTo>
                  <a:lnTo>
                    <a:pt x="1483" y="1875"/>
                  </a:lnTo>
                  <a:lnTo>
                    <a:pt x="1472" y="1875"/>
                  </a:lnTo>
                  <a:lnTo>
                    <a:pt x="1461" y="1880"/>
                  </a:lnTo>
                  <a:lnTo>
                    <a:pt x="1456" y="1880"/>
                  </a:lnTo>
                  <a:lnTo>
                    <a:pt x="1445" y="1886"/>
                  </a:lnTo>
                  <a:lnTo>
                    <a:pt x="1434" y="1886"/>
                  </a:lnTo>
                  <a:lnTo>
                    <a:pt x="1429" y="1891"/>
                  </a:lnTo>
                  <a:lnTo>
                    <a:pt x="1418" y="1891"/>
                  </a:lnTo>
                  <a:lnTo>
                    <a:pt x="1407" y="1897"/>
                  </a:lnTo>
                  <a:lnTo>
                    <a:pt x="1396" y="1897"/>
                  </a:lnTo>
                  <a:lnTo>
                    <a:pt x="1385" y="1902"/>
                  </a:lnTo>
                  <a:lnTo>
                    <a:pt x="1380" y="1908"/>
                  </a:lnTo>
                  <a:lnTo>
                    <a:pt x="1369" y="1913"/>
                  </a:lnTo>
                  <a:lnTo>
                    <a:pt x="1369" y="1918"/>
                  </a:lnTo>
                  <a:lnTo>
                    <a:pt x="1369" y="1924"/>
                  </a:lnTo>
                  <a:lnTo>
                    <a:pt x="1369" y="1935"/>
                  </a:lnTo>
                  <a:lnTo>
                    <a:pt x="1363" y="1940"/>
                  </a:lnTo>
                  <a:lnTo>
                    <a:pt x="1363" y="1946"/>
                  </a:lnTo>
                  <a:lnTo>
                    <a:pt x="1363" y="1951"/>
                  </a:lnTo>
                  <a:lnTo>
                    <a:pt x="1363" y="1962"/>
                  </a:lnTo>
                  <a:lnTo>
                    <a:pt x="1363" y="1968"/>
                  </a:lnTo>
                  <a:lnTo>
                    <a:pt x="1363" y="1973"/>
                  </a:lnTo>
                  <a:lnTo>
                    <a:pt x="1363" y="1978"/>
                  </a:lnTo>
                  <a:lnTo>
                    <a:pt x="1369" y="1978"/>
                  </a:lnTo>
                  <a:lnTo>
                    <a:pt x="1401" y="1978"/>
                  </a:lnTo>
                  <a:lnTo>
                    <a:pt x="1412" y="1978"/>
                  </a:lnTo>
                  <a:close/>
                  <a:moveTo>
                    <a:pt x="1494" y="1978"/>
                  </a:moveTo>
                  <a:lnTo>
                    <a:pt x="1483" y="1973"/>
                  </a:lnTo>
                  <a:lnTo>
                    <a:pt x="1478" y="1973"/>
                  </a:lnTo>
                  <a:lnTo>
                    <a:pt x="1472" y="1973"/>
                  </a:lnTo>
                  <a:lnTo>
                    <a:pt x="1467" y="1968"/>
                  </a:lnTo>
                  <a:lnTo>
                    <a:pt x="1467" y="1973"/>
                  </a:lnTo>
                  <a:lnTo>
                    <a:pt x="1461" y="1973"/>
                  </a:lnTo>
                  <a:lnTo>
                    <a:pt x="1456" y="1973"/>
                  </a:lnTo>
                  <a:lnTo>
                    <a:pt x="1456" y="1978"/>
                  </a:lnTo>
                  <a:lnTo>
                    <a:pt x="1467" y="1978"/>
                  </a:lnTo>
                  <a:lnTo>
                    <a:pt x="1494" y="1978"/>
                  </a:lnTo>
                  <a:close/>
                  <a:moveTo>
                    <a:pt x="1641" y="1853"/>
                  </a:moveTo>
                  <a:lnTo>
                    <a:pt x="1641" y="1848"/>
                  </a:lnTo>
                  <a:lnTo>
                    <a:pt x="1647" y="1842"/>
                  </a:lnTo>
                  <a:lnTo>
                    <a:pt x="1652" y="1842"/>
                  </a:lnTo>
                  <a:lnTo>
                    <a:pt x="1658" y="1842"/>
                  </a:lnTo>
                  <a:lnTo>
                    <a:pt x="1658" y="1842"/>
                  </a:lnTo>
                  <a:lnTo>
                    <a:pt x="1663" y="1848"/>
                  </a:lnTo>
                  <a:lnTo>
                    <a:pt x="1663" y="1853"/>
                  </a:lnTo>
                  <a:lnTo>
                    <a:pt x="1663" y="1853"/>
                  </a:lnTo>
                  <a:lnTo>
                    <a:pt x="1663" y="1859"/>
                  </a:lnTo>
                  <a:lnTo>
                    <a:pt x="1658" y="1859"/>
                  </a:lnTo>
                  <a:lnTo>
                    <a:pt x="1652" y="1859"/>
                  </a:lnTo>
                  <a:lnTo>
                    <a:pt x="1647" y="1859"/>
                  </a:lnTo>
                  <a:lnTo>
                    <a:pt x="1641" y="1859"/>
                  </a:lnTo>
                  <a:lnTo>
                    <a:pt x="1641" y="1853"/>
                  </a:lnTo>
                  <a:close/>
                  <a:moveTo>
                    <a:pt x="1827" y="1662"/>
                  </a:moveTo>
                  <a:lnTo>
                    <a:pt x="1827" y="1651"/>
                  </a:lnTo>
                  <a:lnTo>
                    <a:pt x="1821" y="1646"/>
                  </a:lnTo>
                  <a:lnTo>
                    <a:pt x="1810" y="1646"/>
                  </a:lnTo>
                  <a:lnTo>
                    <a:pt x="1805" y="1646"/>
                  </a:lnTo>
                  <a:lnTo>
                    <a:pt x="1794" y="1651"/>
                  </a:lnTo>
                  <a:lnTo>
                    <a:pt x="1789" y="1657"/>
                  </a:lnTo>
                  <a:lnTo>
                    <a:pt x="1789" y="1662"/>
                  </a:lnTo>
                  <a:lnTo>
                    <a:pt x="1789" y="1668"/>
                  </a:lnTo>
                  <a:lnTo>
                    <a:pt x="1800" y="1673"/>
                  </a:lnTo>
                  <a:lnTo>
                    <a:pt x="1810" y="1679"/>
                  </a:lnTo>
                  <a:lnTo>
                    <a:pt x="1816" y="1679"/>
                  </a:lnTo>
                  <a:lnTo>
                    <a:pt x="1821" y="1679"/>
                  </a:lnTo>
                  <a:lnTo>
                    <a:pt x="1827" y="1668"/>
                  </a:lnTo>
                  <a:lnTo>
                    <a:pt x="1827" y="1662"/>
                  </a:lnTo>
                  <a:close/>
                  <a:moveTo>
                    <a:pt x="2045" y="1597"/>
                  </a:moveTo>
                  <a:lnTo>
                    <a:pt x="2050" y="1586"/>
                  </a:lnTo>
                  <a:lnTo>
                    <a:pt x="2056" y="1581"/>
                  </a:lnTo>
                  <a:lnTo>
                    <a:pt x="2061" y="1575"/>
                  </a:lnTo>
                  <a:lnTo>
                    <a:pt x="2067" y="1575"/>
                  </a:lnTo>
                  <a:lnTo>
                    <a:pt x="2078" y="1575"/>
                  </a:lnTo>
                  <a:lnTo>
                    <a:pt x="2083" y="1581"/>
                  </a:lnTo>
                  <a:lnTo>
                    <a:pt x="2088" y="1586"/>
                  </a:lnTo>
                  <a:lnTo>
                    <a:pt x="2094" y="1597"/>
                  </a:lnTo>
                  <a:lnTo>
                    <a:pt x="2088" y="1602"/>
                  </a:lnTo>
                  <a:lnTo>
                    <a:pt x="2078" y="1602"/>
                  </a:lnTo>
                  <a:lnTo>
                    <a:pt x="2072" y="1608"/>
                  </a:lnTo>
                  <a:lnTo>
                    <a:pt x="2061" y="1602"/>
                  </a:lnTo>
                  <a:lnTo>
                    <a:pt x="2050" y="1602"/>
                  </a:lnTo>
                  <a:lnTo>
                    <a:pt x="2045" y="1597"/>
                  </a:lnTo>
                  <a:close/>
                  <a:moveTo>
                    <a:pt x="2857" y="1373"/>
                  </a:moveTo>
                  <a:lnTo>
                    <a:pt x="2857" y="1368"/>
                  </a:lnTo>
                  <a:lnTo>
                    <a:pt x="2863" y="1368"/>
                  </a:lnTo>
                  <a:lnTo>
                    <a:pt x="2868" y="1368"/>
                  </a:lnTo>
                  <a:lnTo>
                    <a:pt x="2874" y="1368"/>
                  </a:lnTo>
                  <a:lnTo>
                    <a:pt x="2874" y="1373"/>
                  </a:lnTo>
                  <a:lnTo>
                    <a:pt x="2874" y="1379"/>
                  </a:lnTo>
                  <a:lnTo>
                    <a:pt x="2874" y="1384"/>
                  </a:lnTo>
                  <a:lnTo>
                    <a:pt x="2868" y="1384"/>
                  </a:lnTo>
                  <a:lnTo>
                    <a:pt x="2863" y="1390"/>
                  </a:lnTo>
                  <a:lnTo>
                    <a:pt x="2863" y="1390"/>
                  </a:lnTo>
                  <a:lnTo>
                    <a:pt x="2863" y="1390"/>
                  </a:lnTo>
                  <a:lnTo>
                    <a:pt x="2857" y="1384"/>
                  </a:lnTo>
                  <a:lnTo>
                    <a:pt x="2857" y="1379"/>
                  </a:lnTo>
                  <a:lnTo>
                    <a:pt x="2857" y="1373"/>
                  </a:lnTo>
                  <a:close/>
                  <a:moveTo>
                    <a:pt x="1881" y="1341"/>
                  </a:moveTo>
                  <a:lnTo>
                    <a:pt x="1881" y="1341"/>
                  </a:lnTo>
                  <a:lnTo>
                    <a:pt x="1876" y="1341"/>
                  </a:lnTo>
                  <a:lnTo>
                    <a:pt x="1876" y="1341"/>
                  </a:lnTo>
                  <a:lnTo>
                    <a:pt x="1876" y="1341"/>
                  </a:lnTo>
                  <a:lnTo>
                    <a:pt x="1876" y="1341"/>
                  </a:lnTo>
                  <a:lnTo>
                    <a:pt x="1876" y="1341"/>
                  </a:lnTo>
                  <a:lnTo>
                    <a:pt x="1876" y="1341"/>
                  </a:lnTo>
                  <a:lnTo>
                    <a:pt x="1876" y="1341"/>
                  </a:lnTo>
                  <a:lnTo>
                    <a:pt x="1876" y="1341"/>
                  </a:lnTo>
                  <a:lnTo>
                    <a:pt x="1876" y="1341"/>
                  </a:lnTo>
                  <a:lnTo>
                    <a:pt x="1876" y="1341"/>
                  </a:lnTo>
                  <a:lnTo>
                    <a:pt x="1876" y="1341"/>
                  </a:lnTo>
                  <a:lnTo>
                    <a:pt x="1881" y="1341"/>
                  </a:lnTo>
                  <a:lnTo>
                    <a:pt x="1881" y="1341"/>
                  </a:lnTo>
                  <a:close/>
                  <a:moveTo>
                    <a:pt x="1854" y="1308"/>
                  </a:moveTo>
                  <a:lnTo>
                    <a:pt x="1854" y="1303"/>
                  </a:lnTo>
                  <a:lnTo>
                    <a:pt x="1849" y="1297"/>
                  </a:lnTo>
                  <a:lnTo>
                    <a:pt x="1843" y="1297"/>
                  </a:lnTo>
                  <a:lnTo>
                    <a:pt x="1838" y="1297"/>
                  </a:lnTo>
                  <a:lnTo>
                    <a:pt x="1827" y="1303"/>
                  </a:lnTo>
                  <a:lnTo>
                    <a:pt x="1821" y="1308"/>
                  </a:lnTo>
                  <a:lnTo>
                    <a:pt x="1821" y="1308"/>
                  </a:lnTo>
                  <a:lnTo>
                    <a:pt x="1821" y="1313"/>
                  </a:lnTo>
                  <a:lnTo>
                    <a:pt x="1827" y="1319"/>
                  </a:lnTo>
                  <a:lnTo>
                    <a:pt x="1838" y="1319"/>
                  </a:lnTo>
                  <a:lnTo>
                    <a:pt x="1843" y="1324"/>
                  </a:lnTo>
                  <a:lnTo>
                    <a:pt x="1849" y="1319"/>
                  </a:lnTo>
                  <a:lnTo>
                    <a:pt x="1854" y="1313"/>
                  </a:lnTo>
                  <a:lnTo>
                    <a:pt x="1854" y="1308"/>
                  </a:lnTo>
                  <a:close/>
                  <a:moveTo>
                    <a:pt x="1832" y="1275"/>
                  </a:moveTo>
                  <a:lnTo>
                    <a:pt x="1827" y="1270"/>
                  </a:lnTo>
                  <a:lnTo>
                    <a:pt x="1821" y="1264"/>
                  </a:lnTo>
                  <a:lnTo>
                    <a:pt x="1816" y="1259"/>
                  </a:lnTo>
                  <a:lnTo>
                    <a:pt x="1810" y="1254"/>
                  </a:lnTo>
                  <a:lnTo>
                    <a:pt x="1810" y="1248"/>
                  </a:lnTo>
                  <a:lnTo>
                    <a:pt x="1805" y="1237"/>
                  </a:lnTo>
                  <a:lnTo>
                    <a:pt x="1800" y="1232"/>
                  </a:lnTo>
                  <a:lnTo>
                    <a:pt x="1794" y="1226"/>
                  </a:lnTo>
                  <a:lnTo>
                    <a:pt x="1789" y="1221"/>
                  </a:lnTo>
                  <a:lnTo>
                    <a:pt x="1789" y="1215"/>
                  </a:lnTo>
                  <a:lnTo>
                    <a:pt x="1783" y="1210"/>
                  </a:lnTo>
                  <a:lnTo>
                    <a:pt x="1778" y="1199"/>
                  </a:lnTo>
                  <a:lnTo>
                    <a:pt x="1772" y="1194"/>
                  </a:lnTo>
                  <a:lnTo>
                    <a:pt x="1772" y="1188"/>
                  </a:lnTo>
                  <a:lnTo>
                    <a:pt x="1767" y="1183"/>
                  </a:lnTo>
                  <a:lnTo>
                    <a:pt x="1761" y="1177"/>
                  </a:lnTo>
                  <a:lnTo>
                    <a:pt x="1756" y="1166"/>
                  </a:lnTo>
                  <a:lnTo>
                    <a:pt x="1750" y="1161"/>
                  </a:lnTo>
                  <a:lnTo>
                    <a:pt x="1750" y="1155"/>
                  </a:lnTo>
                  <a:lnTo>
                    <a:pt x="1745" y="1150"/>
                  </a:lnTo>
                  <a:lnTo>
                    <a:pt x="1740" y="1145"/>
                  </a:lnTo>
                  <a:lnTo>
                    <a:pt x="1734" y="1139"/>
                  </a:lnTo>
                  <a:lnTo>
                    <a:pt x="1729" y="1128"/>
                  </a:lnTo>
                  <a:lnTo>
                    <a:pt x="1729" y="1123"/>
                  </a:lnTo>
                  <a:lnTo>
                    <a:pt x="1723" y="1117"/>
                  </a:lnTo>
                  <a:lnTo>
                    <a:pt x="1718" y="1112"/>
                  </a:lnTo>
                  <a:lnTo>
                    <a:pt x="1707" y="1106"/>
                  </a:lnTo>
                  <a:lnTo>
                    <a:pt x="1696" y="1101"/>
                  </a:lnTo>
                  <a:lnTo>
                    <a:pt x="1685" y="1106"/>
                  </a:lnTo>
                  <a:lnTo>
                    <a:pt x="1680" y="1112"/>
                  </a:lnTo>
                  <a:lnTo>
                    <a:pt x="1680" y="1117"/>
                  </a:lnTo>
                  <a:lnTo>
                    <a:pt x="1674" y="1123"/>
                  </a:lnTo>
                  <a:lnTo>
                    <a:pt x="1669" y="1134"/>
                  </a:lnTo>
                  <a:lnTo>
                    <a:pt x="1663" y="1139"/>
                  </a:lnTo>
                  <a:lnTo>
                    <a:pt x="1658" y="1145"/>
                  </a:lnTo>
                  <a:lnTo>
                    <a:pt x="1663" y="1150"/>
                  </a:lnTo>
                  <a:lnTo>
                    <a:pt x="1669" y="1155"/>
                  </a:lnTo>
                  <a:lnTo>
                    <a:pt x="1674" y="1161"/>
                  </a:lnTo>
                  <a:lnTo>
                    <a:pt x="1685" y="1166"/>
                  </a:lnTo>
                  <a:lnTo>
                    <a:pt x="1690" y="1172"/>
                  </a:lnTo>
                  <a:lnTo>
                    <a:pt x="1701" y="1177"/>
                  </a:lnTo>
                  <a:lnTo>
                    <a:pt x="1707" y="1183"/>
                  </a:lnTo>
                  <a:lnTo>
                    <a:pt x="1712" y="1188"/>
                  </a:lnTo>
                  <a:lnTo>
                    <a:pt x="1718" y="1194"/>
                  </a:lnTo>
                  <a:lnTo>
                    <a:pt x="1723" y="1199"/>
                  </a:lnTo>
                  <a:lnTo>
                    <a:pt x="1729" y="1204"/>
                  </a:lnTo>
                  <a:lnTo>
                    <a:pt x="1734" y="1210"/>
                  </a:lnTo>
                  <a:lnTo>
                    <a:pt x="1740" y="1215"/>
                  </a:lnTo>
                  <a:lnTo>
                    <a:pt x="1745" y="1221"/>
                  </a:lnTo>
                  <a:lnTo>
                    <a:pt x="1745" y="1226"/>
                  </a:lnTo>
                  <a:lnTo>
                    <a:pt x="1750" y="1237"/>
                  </a:lnTo>
                  <a:lnTo>
                    <a:pt x="1756" y="1243"/>
                  </a:lnTo>
                  <a:lnTo>
                    <a:pt x="1761" y="1248"/>
                  </a:lnTo>
                  <a:lnTo>
                    <a:pt x="1767" y="1254"/>
                  </a:lnTo>
                  <a:lnTo>
                    <a:pt x="1761" y="1259"/>
                  </a:lnTo>
                  <a:lnTo>
                    <a:pt x="1761" y="1270"/>
                  </a:lnTo>
                  <a:lnTo>
                    <a:pt x="1767" y="1275"/>
                  </a:lnTo>
                  <a:lnTo>
                    <a:pt x="1772" y="1281"/>
                  </a:lnTo>
                  <a:lnTo>
                    <a:pt x="1783" y="1281"/>
                  </a:lnTo>
                  <a:lnTo>
                    <a:pt x="1789" y="1286"/>
                  </a:lnTo>
                  <a:lnTo>
                    <a:pt x="1800" y="1297"/>
                  </a:lnTo>
                  <a:lnTo>
                    <a:pt x="1805" y="1303"/>
                  </a:lnTo>
                  <a:lnTo>
                    <a:pt x="1810" y="1308"/>
                  </a:lnTo>
                  <a:lnTo>
                    <a:pt x="1816" y="1308"/>
                  </a:lnTo>
                  <a:lnTo>
                    <a:pt x="1821" y="1303"/>
                  </a:lnTo>
                  <a:lnTo>
                    <a:pt x="1827" y="1297"/>
                  </a:lnTo>
                  <a:lnTo>
                    <a:pt x="1827" y="1286"/>
                  </a:lnTo>
                  <a:lnTo>
                    <a:pt x="1832" y="1275"/>
                  </a:lnTo>
                  <a:close/>
                  <a:moveTo>
                    <a:pt x="1734" y="1248"/>
                  </a:moveTo>
                  <a:lnTo>
                    <a:pt x="1729" y="1243"/>
                  </a:lnTo>
                  <a:lnTo>
                    <a:pt x="1723" y="1243"/>
                  </a:lnTo>
                  <a:lnTo>
                    <a:pt x="1718" y="1243"/>
                  </a:lnTo>
                  <a:lnTo>
                    <a:pt x="1707" y="1243"/>
                  </a:lnTo>
                  <a:lnTo>
                    <a:pt x="1701" y="1243"/>
                  </a:lnTo>
                  <a:lnTo>
                    <a:pt x="1701" y="1248"/>
                  </a:lnTo>
                  <a:lnTo>
                    <a:pt x="1707" y="1254"/>
                  </a:lnTo>
                  <a:lnTo>
                    <a:pt x="1712" y="1259"/>
                  </a:lnTo>
                  <a:lnTo>
                    <a:pt x="1718" y="1259"/>
                  </a:lnTo>
                  <a:lnTo>
                    <a:pt x="1723" y="1264"/>
                  </a:lnTo>
                  <a:lnTo>
                    <a:pt x="1723" y="1259"/>
                  </a:lnTo>
                  <a:lnTo>
                    <a:pt x="1729" y="1259"/>
                  </a:lnTo>
                  <a:lnTo>
                    <a:pt x="1729" y="1254"/>
                  </a:lnTo>
                  <a:lnTo>
                    <a:pt x="1734" y="1248"/>
                  </a:lnTo>
                  <a:close/>
                  <a:moveTo>
                    <a:pt x="1696" y="1215"/>
                  </a:moveTo>
                  <a:lnTo>
                    <a:pt x="1690" y="1204"/>
                  </a:lnTo>
                  <a:lnTo>
                    <a:pt x="1690" y="1204"/>
                  </a:lnTo>
                  <a:lnTo>
                    <a:pt x="1680" y="1204"/>
                  </a:lnTo>
                  <a:lnTo>
                    <a:pt x="1674" y="1210"/>
                  </a:lnTo>
                  <a:lnTo>
                    <a:pt x="1669" y="1215"/>
                  </a:lnTo>
                  <a:lnTo>
                    <a:pt x="1669" y="1221"/>
                  </a:lnTo>
                  <a:lnTo>
                    <a:pt x="1674" y="1226"/>
                  </a:lnTo>
                  <a:lnTo>
                    <a:pt x="1680" y="1232"/>
                  </a:lnTo>
                  <a:lnTo>
                    <a:pt x="1685" y="1232"/>
                  </a:lnTo>
                  <a:lnTo>
                    <a:pt x="1690" y="1237"/>
                  </a:lnTo>
                  <a:lnTo>
                    <a:pt x="1690" y="1232"/>
                  </a:lnTo>
                  <a:lnTo>
                    <a:pt x="1696" y="1226"/>
                  </a:lnTo>
                  <a:lnTo>
                    <a:pt x="1696" y="1221"/>
                  </a:lnTo>
                  <a:lnTo>
                    <a:pt x="1696" y="1215"/>
                  </a:lnTo>
                  <a:close/>
                  <a:moveTo>
                    <a:pt x="2819" y="1025"/>
                  </a:moveTo>
                  <a:lnTo>
                    <a:pt x="2825" y="1019"/>
                  </a:lnTo>
                  <a:lnTo>
                    <a:pt x="2825" y="1014"/>
                  </a:lnTo>
                  <a:lnTo>
                    <a:pt x="2830" y="1014"/>
                  </a:lnTo>
                  <a:lnTo>
                    <a:pt x="2830" y="1008"/>
                  </a:lnTo>
                  <a:lnTo>
                    <a:pt x="2835" y="1014"/>
                  </a:lnTo>
                  <a:lnTo>
                    <a:pt x="2835" y="1014"/>
                  </a:lnTo>
                  <a:lnTo>
                    <a:pt x="2835" y="1019"/>
                  </a:lnTo>
                  <a:lnTo>
                    <a:pt x="2835" y="1019"/>
                  </a:lnTo>
                  <a:lnTo>
                    <a:pt x="2835" y="1025"/>
                  </a:lnTo>
                  <a:lnTo>
                    <a:pt x="2835" y="1025"/>
                  </a:lnTo>
                  <a:lnTo>
                    <a:pt x="2830" y="1030"/>
                  </a:lnTo>
                  <a:lnTo>
                    <a:pt x="2825" y="1030"/>
                  </a:lnTo>
                  <a:lnTo>
                    <a:pt x="2825" y="1025"/>
                  </a:lnTo>
                  <a:lnTo>
                    <a:pt x="2819" y="1025"/>
                  </a:lnTo>
                  <a:close/>
                  <a:moveTo>
                    <a:pt x="2628" y="894"/>
                  </a:moveTo>
                  <a:lnTo>
                    <a:pt x="2634" y="894"/>
                  </a:lnTo>
                  <a:lnTo>
                    <a:pt x="2634" y="888"/>
                  </a:lnTo>
                  <a:lnTo>
                    <a:pt x="2639" y="888"/>
                  </a:lnTo>
                  <a:lnTo>
                    <a:pt x="2639" y="888"/>
                  </a:lnTo>
                  <a:lnTo>
                    <a:pt x="2639" y="888"/>
                  </a:lnTo>
                  <a:lnTo>
                    <a:pt x="2645" y="894"/>
                  </a:lnTo>
                  <a:lnTo>
                    <a:pt x="2645" y="894"/>
                  </a:lnTo>
                  <a:lnTo>
                    <a:pt x="2645" y="894"/>
                  </a:lnTo>
                  <a:lnTo>
                    <a:pt x="2639" y="899"/>
                  </a:lnTo>
                  <a:lnTo>
                    <a:pt x="2639" y="899"/>
                  </a:lnTo>
                  <a:lnTo>
                    <a:pt x="2639" y="899"/>
                  </a:lnTo>
                  <a:lnTo>
                    <a:pt x="2634" y="899"/>
                  </a:lnTo>
                  <a:lnTo>
                    <a:pt x="2634" y="894"/>
                  </a:lnTo>
                  <a:lnTo>
                    <a:pt x="2628" y="894"/>
                  </a:lnTo>
                  <a:close/>
                  <a:moveTo>
                    <a:pt x="355" y="768"/>
                  </a:moveTo>
                  <a:lnTo>
                    <a:pt x="360" y="758"/>
                  </a:lnTo>
                  <a:lnTo>
                    <a:pt x="360" y="752"/>
                  </a:lnTo>
                  <a:lnTo>
                    <a:pt x="366" y="747"/>
                  </a:lnTo>
                  <a:lnTo>
                    <a:pt x="366" y="741"/>
                  </a:lnTo>
                  <a:lnTo>
                    <a:pt x="371" y="730"/>
                  </a:lnTo>
                  <a:lnTo>
                    <a:pt x="371" y="725"/>
                  </a:lnTo>
                  <a:lnTo>
                    <a:pt x="376" y="719"/>
                  </a:lnTo>
                  <a:lnTo>
                    <a:pt x="376" y="714"/>
                  </a:lnTo>
                  <a:lnTo>
                    <a:pt x="387" y="708"/>
                  </a:lnTo>
                  <a:lnTo>
                    <a:pt x="398" y="708"/>
                  </a:lnTo>
                  <a:lnTo>
                    <a:pt x="409" y="708"/>
                  </a:lnTo>
                  <a:lnTo>
                    <a:pt x="420" y="708"/>
                  </a:lnTo>
                  <a:lnTo>
                    <a:pt x="431" y="708"/>
                  </a:lnTo>
                  <a:lnTo>
                    <a:pt x="442" y="714"/>
                  </a:lnTo>
                  <a:lnTo>
                    <a:pt x="447" y="719"/>
                  </a:lnTo>
                  <a:lnTo>
                    <a:pt x="458" y="719"/>
                  </a:lnTo>
                  <a:lnTo>
                    <a:pt x="464" y="725"/>
                  </a:lnTo>
                  <a:lnTo>
                    <a:pt x="469" y="730"/>
                  </a:lnTo>
                  <a:lnTo>
                    <a:pt x="475" y="741"/>
                  </a:lnTo>
                  <a:lnTo>
                    <a:pt x="480" y="741"/>
                  </a:lnTo>
                  <a:lnTo>
                    <a:pt x="491" y="741"/>
                  </a:lnTo>
                  <a:lnTo>
                    <a:pt x="496" y="736"/>
                  </a:lnTo>
                  <a:lnTo>
                    <a:pt x="507" y="730"/>
                  </a:lnTo>
                  <a:lnTo>
                    <a:pt x="518" y="730"/>
                  </a:lnTo>
                  <a:lnTo>
                    <a:pt x="529" y="725"/>
                  </a:lnTo>
                  <a:lnTo>
                    <a:pt x="540" y="725"/>
                  </a:lnTo>
                  <a:lnTo>
                    <a:pt x="545" y="719"/>
                  </a:lnTo>
                  <a:lnTo>
                    <a:pt x="551" y="714"/>
                  </a:lnTo>
                  <a:lnTo>
                    <a:pt x="551" y="703"/>
                  </a:lnTo>
                  <a:lnTo>
                    <a:pt x="551" y="698"/>
                  </a:lnTo>
                  <a:lnTo>
                    <a:pt x="556" y="692"/>
                  </a:lnTo>
                  <a:lnTo>
                    <a:pt x="556" y="681"/>
                  </a:lnTo>
                  <a:lnTo>
                    <a:pt x="556" y="676"/>
                  </a:lnTo>
                  <a:lnTo>
                    <a:pt x="562" y="670"/>
                  </a:lnTo>
                  <a:lnTo>
                    <a:pt x="562" y="665"/>
                  </a:lnTo>
                  <a:lnTo>
                    <a:pt x="567" y="654"/>
                  </a:lnTo>
                  <a:lnTo>
                    <a:pt x="567" y="649"/>
                  </a:lnTo>
                  <a:lnTo>
                    <a:pt x="573" y="643"/>
                  </a:lnTo>
                  <a:lnTo>
                    <a:pt x="578" y="638"/>
                  </a:lnTo>
                  <a:lnTo>
                    <a:pt x="584" y="632"/>
                  </a:lnTo>
                  <a:lnTo>
                    <a:pt x="595" y="632"/>
                  </a:lnTo>
                  <a:lnTo>
                    <a:pt x="611" y="632"/>
                  </a:lnTo>
                  <a:lnTo>
                    <a:pt x="622" y="627"/>
                  </a:lnTo>
                  <a:lnTo>
                    <a:pt x="627" y="627"/>
                  </a:lnTo>
                  <a:lnTo>
                    <a:pt x="638" y="621"/>
                  </a:lnTo>
                  <a:lnTo>
                    <a:pt x="644" y="616"/>
                  </a:lnTo>
                  <a:lnTo>
                    <a:pt x="644" y="605"/>
                  </a:lnTo>
                  <a:lnTo>
                    <a:pt x="649" y="599"/>
                  </a:lnTo>
                  <a:lnTo>
                    <a:pt x="649" y="594"/>
                  </a:lnTo>
                  <a:lnTo>
                    <a:pt x="655" y="589"/>
                  </a:lnTo>
                  <a:lnTo>
                    <a:pt x="655" y="578"/>
                  </a:lnTo>
                  <a:lnTo>
                    <a:pt x="655" y="572"/>
                  </a:lnTo>
                  <a:lnTo>
                    <a:pt x="660" y="567"/>
                  </a:lnTo>
                  <a:lnTo>
                    <a:pt x="660" y="561"/>
                  </a:lnTo>
                  <a:lnTo>
                    <a:pt x="660" y="550"/>
                  </a:lnTo>
                  <a:lnTo>
                    <a:pt x="660" y="545"/>
                  </a:lnTo>
                  <a:lnTo>
                    <a:pt x="665" y="540"/>
                  </a:lnTo>
                  <a:lnTo>
                    <a:pt x="665" y="534"/>
                  </a:lnTo>
                  <a:lnTo>
                    <a:pt x="671" y="523"/>
                  </a:lnTo>
                  <a:lnTo>
                    <a:pt x="671" y="518"/>
                  </a:lnTo>
                  <a:lnTo>
                    <a:pt x="671" y="512"/>
                  </a:lnTo>
                  <a:lnTo>
                    <a:pt x="676" y="507"/>
                  </a:lnTo>
                  <a:lnTo>
                    <a:pt x="676" y="496"/>
                  </a:lnTo>
                  <a:lnTo>
                    <a:pt x="682" y="490"/>
                  </a:lnTo>
                  <a:lnTo>
                    <a:pt x="682" y="485"/>
                  </a:lnTo>
                  <a:lnTo>
                    <a:pt x="687" y="480"/>
                  </a:lnTo>
                  <a:lnTo>
                    <a:pt x="693" y="469"/>
                  </a:lnTo>
                  <a:lnTo>
                    <a:pt x="693" y="463"/>
                  </a:lnTo>
                  <a:lnTo>
                    <a:pt x="698" y="458"/>
                  </a:lnTo>
                  <a:lnTo>
                    <a:pt x="704" y="452"/>
                  </a:lnTo>
                  <a:lnTo>
                    <a:pt x="704" y="447"/>
                  </a:lnTo>
                  <a:lnTo>
                    <a:pt x="709" y="436"/>
                  </a:lnTo>
                  <a:lnTo>
                    <a:pt x="709" y="431"/>
                  </a:lnTo>
                  <a:lnTo>
                    <a:pt x="709" y="425"/>
                  </a:lnTo>
                  <a:lnTo>
                    <a:pt x="715" y="414"/>
                  </a:lnTo>
                  <a:lnTo>
                    <a:pt x="715" y="409"/>
                  </a:lnTo>
                  <a:lnTo>
                    <a:pt x="720" y="403"/>
                  </a:lnTo>
                  <a:lnTo>
                    <a:pt x="720" y="398"/>
                  </a:lnTo>
                  <a:lnTo>
                    <a:pt x="725" y="392"/>
                  </a:lnTo>
                  <a:lnTo>
                    <a:pt x="725" y="381"/>
                  </a:lnTo>
                  <a:lnTo>
                    <a:pt x="731" y="376"/>
                  </a:lnTo>
                  <a:lnTo>
                    <a:pt x="736" y="371"/>
                  </a:lnTo>
                  <a:lnTo>
                    <a:pt x="736" y="365"/>
                  </a:lnTo>
                  <a:lnTo>
                    <a:pt x="742" y="360"/>
                  </a:lnTo>
                  <a:lnTo>
                    <a:pt x="747" y="349"/>
                  </a:lnTo>
                  <a:lnTo>
                    <a:pt x="747" y="343"/>
                  </a:lnTo>
                  <a:lnTo>
                    <a:pt x="747" y="338"/>
                  </a:lnTo>
                  <a:lnTo>
                    <a:pt x="753" y="332"/>
                  </a:lnTo>
                  <a:lnTo>
                    <a:pt x="753" y="322"/>
                  </a:lnTo>
                  <a:lnTo>
                    <a:pt x="753" y="316"/>
                  </a:lnTo>
                  <a:lnTo>
                    <a:pt x="758" y="311"/>
                  </a:lnTo>
                  <a:lnTo>
                    <a:pt x="758" y="300"/>
                  </a:lnTo>
                  <a:lnTo>
                    <a:pt x="764" y="294"/>
                  </a:lnTo>
                  <a:lnTo>
                    <a:pt x="769" y="289"/>
                  </a:lnTo>
                  <a:lnTo>
                    <a:pt x="774" y="283"/>
                  </a:lnTo>
                  <a:lnTo>
                    <a:pt x="780" y="278"/>
                  </a:lnTo>
                  <a:lnTo>
                    <a:pt x="785" y="272"/>
                  </a:lnTo>
                  <a:lnTo>
                    <a:pt x="791" y="267"/>
                  </a:lnTo>
                  <a:lnTo>
                    <a:pt x="791" y="256"/>
                  </a:lnTo>
                  <a:lnTo>
                    <a:pt x="791" y="251"/>
                  </a:lnTo>
                  <a:lnTo>
                    <a:pt x="791" y="245"/>
                  </a:lnTo>
                  <a:lnTo>
                    <a:pt x="796" y="240"/>
                  </a:lnTo>
                  <a:lnTo>
                    <a:pt x="802" y="229"/>
                  </a:lnTo>
                  <a:lnTo>
                    <a:pt x="807" y="229"/>
                  </a:lnTo>
                  <a:lnTo>
                    <a:pt x="818" y="223"/>
                  </a:lnTo>
                  <a:lnTo>
                    <a:pt x="824" y="218"/>
                  </a:lnTo>
                  <a:lnTo>
                    <a:pt x="834" y="213"/>
                  </a:lnTo>
                  <a:lnTo>
                    <a:pt x="840" y="207"/>
                  </a:lnTo>
                  <a:lnTo>
                    <a:pt x="845" y="202"/>
                  </a:lnTo>
                  <a:lnTo>
                    <a:pt x="856" y="196"/>
                  </a:lnTo>
                  <a:lnTo>
                    <a:pt x="862" y="191"/>
                  </a:lnTo>
                  <a:lnTo>
                    <a:pt x="873" y="185"/>
                  </a:lnTo>
                  <a:lnTo>
                    <a:pt x="884" y="180"/>
                  </a:lnTo>
                  <a:lnTo>
                    <a:pt x="889" y="180"/>
                  </a:lnTo>
                  <a:lnTo>
                    <a:pt x="894" y="185"/>
                  </a:lnTo>
                  <a:lnTo>
                    <a:pt x="900" y="196"/>
                  </a:lnTo>
                  <a:lnTo>
                    <a:pt x="905" y="202"/>
                  </a:lnTo>
                  <a:lnTo>
                    <a:pt x="916" y="202"/>
                  </a:lnTo>
                  <a:lnTo>
                    <a:pt x="922" y="207"/>
                  </a:lnTo>
                  <a:lnTo>
                    <a:pt x="933" y="213"/>
                  </a:lnTo>
                  <a:lnTo>
                    <a:pt x="938" y="218"/>
                  </a:lnTo>
                  <a:lnTo>
                    <a:pt x="944" y="229"/>
                  </a:lnTo>
                  <a:lnTo>
                    <a:pt x="949" y="234"/>
                  </a:lnTo>
                  <a:lnTo>
                    <a:pt x="954" y="240"/>
                  </a:lnTo>
                  <a:lnTo>
                    <a:pt x="960" y="245"/>
                  </a:lnTo>
                  <a:lnTo>
                    <a:pt x="965" y="251"/>
                  </a:lnTo>
                  <a:lnTo>
                    <a:pt x="971" y="256"/>
                  </a:lnTo>
                  <a:lnTo>
                    <a:pt x="976" y="262"/>
                  </a:lnTo>
                  <a:lnTo>
                    <a:pt x="982" y="272"/>
                  </a:lnTo>
                  <a:lnTo>
                    <a:pt x="982" y="278"/>
                  </a:lnTo>
                  <a:lnTo>
                    <a:pt x="987" y="278"/>
                  </a:lnTo>
                  <a:lnTo>
                    <a:pt x="998" y="278"/>
                  </a:lnTo>
                  <a:lnTo>
                    <a:pt x="1003" y="272"/>
                  </a:lnTo>
                  <a:lnTo>
                    <a:pt x="1014" y="267"/>
                  </a:lnTo>
                  <a:lnTo>
                    <a:pt x="1020" y="262"/>
                  </a:lnTo>
                  <a:lnTo>
                    <a:pt x="1031" y="256"/>
                  </a:lnTo>
                  <a:lnTo>
                    <a:pt x="1036" y="251"/>
                  </a:lnTo>
                  <a:lnTo>
                    <a:pt x="1042" y="245"/>
                  </a:lnTo>
                  <a:lnTo>
                    <a:pt x="1047" y="240"/>
                  </a:lnTo>
                  <a:lnTo>
                    <a:pt x="1058" y="234"/>
                  </a:lnTo>
                  <a:lnTo>
                    <a:pt x="1069" y="234"/>
                  </a:lnTo>
                  <a:lnTo>
                    <a:pt x="1080" y="229"/>
                  </a:lnTo>
                  <a:lnTo>
                    <a:pt x="1085" y="229"/>
                  </a:lnTo>
                  <a:lnTo>
                    <a:pt x="1091" y="218"/>
                  </a:lnTo>
                  <a:lnTo>
                    <a:pt x="1096" y="213"/>
                  </a:lnTo>
                  <a:lnTo>
                    <a:pt x="1096" y="207"/>
                  </a:lnTo>
                  <a:lnTo>
                    <a:pt x="1091" y="196"/>
                  </a:lnTo>
                  <a:lnTo>
                    <a:pt x="1085" y="191"/>
                  </a:lnTo>
                  <a:lnTo>
                    <a:pt x="1074" y="191"/>
                  </a:lnTo>
                  <a:lnTo>
                    <a:pt x="1063" y="185"/>
                  </a:lnTo>
                  <a:lnTo>
                    <a:pt x="1053" y="185"/>
                  </a:lnTo>
                  <a:lnTo>
                    <a:pt x="1047" y="180"/>
                  </a:lnTo>
                  <a:lnTo>
                    <a:pt x="1047" y="174"/>
                  </a:lnTo>
                  <a:lnTo>
                    <a:pt x="1042" y="169"/>
                  </a:lnTo>
                  <a:lnTo>
                    <a:pt x="1042" y="158"/>
                  </a:lnTo>
                  <a:lnTo>
                    <a:pt x="1036" y="153"/>
                  </a:lnTo>
                  <a:lnTo>
                    <a:pt x="1031" y="142"/>
                  </a:lnTo>
                  <a:lnTo>
                    <a:pt x="1025" y="136"/>
                  </a:lnTo>
                  <a:lnTo>
                    <a:pt x="1025" y="131"/>
                  </a:lnTo>
                  <a:lnTo>
                    <a:pt x="1025" y="125"/>
                  </a:lnTo>
                  <a:lnTo>
                    <a:pt x="1031" y="120"/>
                  </a:lnTo>
                  <a:lnTo>
                    <a:pt x="1042" y="114"/>
                  </a:lnTo>
                  <a:lnTo>
                    <a:pt x="1047" y="109"/>
                  </a:lnTo>
                  <a:lnTo>
                    <a:pt x="1058" y="109"/>
                  </a:lnTo>
                  <a:lnTo>
                    <a:pt x="1069" y="104"/>
                  </a:lnTo>
                  <a:lnTo>
                    <a:pt x="1074" y="98"/>
                  </a:lnTo>
                  <a:lnTo>
                    <a:pt x="1074" y="93"/>
                  </a:lnTo>
                  <a:lnTo>
                    <a:pt x="1074" y="82"/>
                  </a:lnTo>
                  <a:lnTo>
                    <a:pt x="1069" y="76"/>
                  </a:lnTo>
                  <a:lnTo>
                    <a:pt x="1063" y="71"/>
                  </a:lnTo>
                  <a:lnTo>
                    <a:pt x="1058" y="60"/>
                  </a:lnTo>
                  <a:lnTo>
                    <a:pt x="1053" y="54"/>
                  </a:lnTo>
                  <a:lnTo>
                    <a:pt x="1047" y="49"/>
                  </a:lnTo>
                  <a:lnTo>
                    <a:pt x="1042" y="44"/>
                  </a:lnTo>
                  <a:lnTo>
                    <a:pt x="1036" y="38"/>
                  </a:lnTo>
                  <a:lnTo>
                    <a:pt x="1031" y="33"/>
                  </a:lnTo>
                  <a:lnTo>
                    <a:pt x="1020" y="27"/>
                  </a:lnTo>
                  <a:lnTo>
                    <a:pt x="1014" y="22"/>
                  </a:lnTo>
                  <a:lnTo>
                    <a:pt x="1009" y="16"/>
                  </a:lnTo>
                  <a:lnTo>
                    <a:pt x="1003" y="11"/>
                  </a:lnTo>
                  <a:lnTo>
                    <a:pt x="998" y="5"/>
                  </a:lnTo>
                  <a:lnTo>
                    <a:pt x="993" y="0"/>
                  </a:lnTo>
                  <a:lnTo>
                    <a:pt x="987" y="0"/>
                  </a:lnTo>
                  <a:lnTo>
                    <a:pt x="954" y="0"/>
                  </a:lnTo>
                  <a:lnTo>
                    <a:pt x="922" y="0"/>
                  </a:lnTo>
                  <a:lnTo>
                    <a:pt x="894" y="0"/>
                  </a:lnTo>
                  <a:lnTo>
                    <a:pt x="862" y="0"/>
                  </a:lnTo>
                  <a:lnTo>
                    <a:pt x="829" y="0"/>
                  </a:lnTo>
                  <a:lnTo>
                    <a:pt x="796" y="0"/>
                  </a:lnTo>
                  <a:lnTo>
                    <a:pt x="764" y="0"/>
                  </a:lnTo>
                  <a:lnTo>
                    <a:pt x="731" y="0"/>
                  </a:lnTo>
                  <a:lnTo>
                    <a:pt x="704" y="33"/>
                  </a:lnTo>
                  <a:lnTo>
                    <a:pt x="671" y="65"/>
                  </a:lnTo>
                  <a:lnTo>
                    <a:pt x="638" y="98"/>
                  </a:lnTo>
                  <a:lnTo>
                    <a:pt x="605" y="125"/>
                  </a:lnTo>
                  <a:lnTo>
                    <a:pt x="589" y="142"/>
                  </a:lnTo>
                  <a:lnTo>
                    <a:pt x="584" y="153"/>
                  </a:lnTo>
                  <a:lnTo>
                    <a:pt x="584" y="158"/>
                  </a:lnTo>
                  <a:lnTo>
                    <a:pt x="578" y="163"/>
                  </a:lnTo>
                  <a:lnTo>
                    <a:pt x="573" y="169"/>
                  </a:lnTo>
                  <a:lnTo>
                    <a:pt x="573" y="180"/>
                  </a:lnTo>
                  <a:lnTo>
                    <a:pt x="567" y="185"/>
                  </a:lnTo>
                  <a:lnTo>
                    <a:pt x="562" y="191"/>
                  </a:lnTo>
                  <a:lnTo>
                    <a:pt x="556" y="202"/>
                  </a:lnTo>
                  <a:lnTo>
                    <a:pt x="551" y="207"/>
                  </a:lnTo>
                  <a:lnTo>
                    <a:pt x="545" y="213"/>
                  </a:lnTo>
                  <a:lnTo>
                    <a:pt x="540" y="218"/>
                  </a:lnTo>
                  <a:lnTo>
                    <a:pt x="540" y="229"/>
                  </a:lnTo>
                  <a:lnTo>
                    <a:pt x="529" y="234"/>
                  </a:lnTo>
                  <a:lnTo>
                    <a:pt x="524" y="240"/>
                  </a:lnTo>
                  <a:lnTo>
                    <a:pt x="518" y="245"/>
                  </a:lnTo>
                  <a:lnTo>
                    <a:pt x="513" y="251"/>
                  </a:lnTo>
                  <a:lnTo>
                    <a:pt x="518" y="262"/>
                  </a:lnTo>
                  <a:lnTo>
                    <a:pt x="518" y="267"/>
                  </a:lnTo>
                  <a:lnTo>
                    <a:pt x="529" y="278"/>
                  </a:lnTo>
                  <a:lnTo>
                    <a:pt x="535" y="283"/>
                  </a:lnTo>
                  <a:lnTo>
                    <a:pt x="545" y="283"/>
                  </a:lnTo>
                  <a:lnTo>
                    <a:pt x="551" y="278"/>
                  </a:lnTo>
                  <a:lnTo>
                    <a:pt x="556" y="272"/>
                  </a:lnTo>
                  <a:lnTo>
                    <a:pt x="562" y="267"/>
                  </a:lnTo>
                  <a:lnTo>
                    <a:pt x="567" y="256"/>
                  </a:lnTo>
                  <a:lnTo>
                    <a:pt x="573" y="245"/>
                  </a:lnTo>
                  <a:lnTo>
                    <a:pt x="578" y="251"/>
                  </a:lnTo>
                  <a:lnTo>
                    <a:pt x="584" y="256"/>
                  </a:lnTo>
                  <a:lnTo>
                    <a:pt x="578" y="267"/>
                  </a:lnTo>
                  <a:lnTo>
                    <a:pt x="567" y="272"/>
                  </a:lnTo>
                  <a:lnTo>
                    <a:pt x="562" y="278"/>
                  </a:lnTo>
                  <a:lnTo>
                    <a:pt x="556" y="283"/>
                  </a:lnTo>
                  <a:lnTo>
                    <a:pt x="551" y="289"/>
                  </a:lnTo>
                  <a:lnTo>
                    <a:pt x="551" y="294"/>
                  </a:lnTo>
                  <a:lnTo>
                    <a:pt x="551" y="305"/>
                  </a:lnTo>
                  <a:lnTo>
                    <a:pt x="545" y="311"/>
                  </a:lnTo>
                  <a:lnTo>
                    <a:pt x="545" y="322"/>
                  </a:lnTo>
                  <a:lnTo>
                    <a:pt x="540" y="327"/>
                  </a:lnTo>
                  <a:lnTo>
                    <a:pt x="535" y="332"/>
                  </a:lnTo>
                  <a:lnTo>
                    <a:pt x="535" y="338"/>
                  </a:lnTo>
                  <a:lnTo>
                    <a:pt x="535" y="349"/>
                  </a:lnTo>
                  <a:lnTo>
                    <a:pt x="529" y="354"/>
                  </a:lnTo>
                  <a:lnTo>
                    <a:pt x="524" y="365"/>
                  </a:lnTo>
                  <a:lnTo>
                    <a:pt x="524" y="371"/>
                  </a:lnTo>
                  <a:lnTo>
                    <a:pt x="518" y="376"/>
                  </a:lnTo>
                  <a:lnTo>
                    <a:pt x="513" y="381"/>
                  </a:lnTo>
                  <a:lnTo>
                    <a:pt x="507" y="392"/>
                  </a:lnTo>
                  <a:lnTo>
                    <a:pt x="507" y="398"/>
                  </a:lnTo>
                  <a:lnTo>
                    <a:pt x="507" y="403"/>
                  </a:lnTo>
                  <a:lnTo>
                    <a:pt x="502" y="414"/>
                  </a:lnTo>
                  <a:lnTo>
                    <a:pt x="496" y="420"/>
                  </a:lnTo>
                  <a:lnTo>
                    <a:pt x="491" y="425"/>
                  </a:lnTo>
                  <a:lnTo>
                    <a:pt x="486" y="431"/>
                  </a:lnTo>
                  <a:lnTo>
                    <a:pt x="480" y="441"/>
                  </a:lnTo>
                  <a:lnTo>
                    <a:pt x="480" y="447"/>
                  </a:lnTo>
                  <a:lnTo>
                    <a:pt x="486" y="458"/>
                  </a:lnTo>
                  <a:lnTo>
                    <a:pt x="486" y="469"/>
                  </a:lnTo>
                  <a:lnTo>
                    <a:pt x="496" y="474"/>
                  </a:lnTo>
                  <a:lnTo>
                    <a:pt x="502" y="480"/>
                  </a:lnTo>
                  <a:lnTo>
                    <a:pt x="513" y="480"/>
                  </a:lnTo>
                  <a:lnTo>
                    <a:pt x="524" y="469"/>
                  </a:lnTo>
                  <a:lnTo>
                    <a:pt x="529" y="463"/>
                  </a:lnTo>
                  <a:lnTo>
                    <a:pt x="535" y="458"/>
                  </a:lnTo>
                  <a:lnTo>
                    <a:pt x="540" y="452"/>
                  </a:lnTo>
                  <a:lnTo>
                    <a:pt x="545" y="452"/>
                  </a:lnTo>
                  <a:lnTo>
                    <a:pt x="545" y="458"/>
                  </a:lnTo>
                  <a:lnTo>
                    <a:pt x="545" y="469"/>
                  </a:lnTo>
                  <a:lnTo>
                    <a:pt x="545" y="480"/>
                  </a:lnTo>
                  <a:lnTo>
                    <a:pt x="545" y="485"/>
                  </a:lnTo>
                  <a:lnTo>
                    <a:pt x="545" y="496"/>
                  </a:lnTo>
                  <a:lnTo>
                    <a:pt x="540" y="501"/>
                  </a:lnTo>
                  <a:lnTo>
                    <a:pt x="535" y="507"/>
                  </a:lnTo>
                  <a:lnTo>
                    <a:pt x="529" y="518"/>
                  </a:lnTo>
                  <a:lnTo>
                    <a:pt x="529" y="523"/>
                  </a:lnTo>
                  <a:lnTo>
                    <a:pt x="524" y="529"/>
                  </a:lnTo>
                  <a:lnTo>
                    <a:pt x="518" y="534"/>
                  </a:lnTo>
                  <a:lnTo>
                    <a:pt x="518" y="545"/>
                  </a:lnTo>
                  <a:lnTo>
                    <a:pt x="518" y="556"/>
                  </a:lnTo>
                  <a:lnTo>
                    <a:pt x="513" y="561"/>
                  </a:lnTo>
                  <a:lnTo>
                    <a:pt x="507" y="561"/>
                  </a:lnTo>
                  <a:lnTo>
                    <a:pt x="496" y="556"/>
                  </a:lnTo>
                  <a:lnTo>
                    <a:pt x="491" y="550"/>
                  </a:lnTo>
                  <a:lnTo>
                    <a:pt x="480" y="545"/>
                  </a:lnTo>
                  <a:lnTo>
                    <a:pt x="480" y="534"/>
                  </a:lnTo>
                  <a:lnTo>
                    <a:pt x="480" y="529"/>
                  </a:lnTo>
                  <a:lnTo>
                    <a:pt x="480" y="518"/>
                  </a:lnTo>
                  <a:lnTo>
                    <a:pt x="486" y="512"/>
                  </a:lnTo>
                  <a:lnTo>
                    <a:pt x="496" y="507"/>
                  </a:lnTo>
                  <a:lnTo>
                    <a:pt x="502" y="501"/>
                  </a:lnTo>
                  <a:lnTo>
                    <a:pt x="507" y="490"/>
                  </a:lnTo>
                  <a:lnTo>
                    <a:pt x="507" y="485"/>
                  </a:lnTo>
                  <a:lnTo>
                    <a:pt x="507" y="480"/>
                  </a:lnTo>
                  <a:lnTo>
                    <a:pt x="502" y="469"/>
                  </a:lnTo>
                  <a:lnTo>
                    <a:pt x="496" y="458"/>
                  </a:lnTo>
                  <a:lnTo>
                    <a:pt x="491" y="452"/>
                  </a:lnTo>
                  <a:lnTo>
                    <a:pt x="480" y="452"/>
                  </a:lnTo>
                  <a:lnTo>
                    <a:pt x="475" y="452"/>
                  </a:lnTo>
                  <a:lnTo>
                    <a:pt x="475" y="458"/>
                  </a:lnTo>
                  <a:lnTo>
                    <a:pt x="469" y="463"/>
                  </a:lnTo>
                  <a:lnTo>
                    <a:pt x="469" y="474"/>
                  </a:lnTo>
                  <a:lnTo>
                    <a:pt x="469" y="485"/>
                  </a:lnTo>
                  <a:lnTo>
                    <a:pt x="469" y="496"/>
                  </a:lnTo>
                  <a:lnTo>
                    <a:pt x="464" y="501"/>
                  </a:lnTo>
                  <a:lnTo>
                    <a:pt x="458" y="507"/>
                  </a:lnTo>
                  <a:lnTo>
                    <a:pt x="453" y="512"/>
                  </a:lnTo>
                  <a:lnTo>
                    <a:pt x="442" y="518"/>
                  </a:lnTo>
                  <a:lnTo>
                    <a:pt x="436" y="523"/>
                  </a:lnTo>
                  <a:lnTo>
                    <a:pt x="436" y="529"/>
                  </a:lnTo>
                  <a:lnTo>
                    <a:pt x="431" y="540"/>
                  </a:lnTo>
                  <a:lnTo>
                    <a:pt x="431" y="545"/>
                  </a:lnTo>
                  <a:lnTo>
                    <a:pt x="426" y="556"/>
                  </a:lnTo>
                  <a:lnTo>
                    <a:pt x="420" y="561"/>
                  </a:lnTo>
                  <a:lnTo>
                    <a:pt x="415" y="567"/>
                  </a:lnTo>
                  <a:lnTo>
                    <a:pt x="404" y="572"/>
                  </a:lnTo>
                  <a:lnTo>
                    <a:pt x="398" y="578"/>
                  </a:lnTo>
                  <a:lnTo>
                    <a:pt x="387" y="583"/>
                  </a:lnTo>
                  <a:lnTo>
                    <a:pt x="382" y="589"/>
                  </a:lnTo>
                  <a:lnTo>
                    <a:pt x="371" y="594"/>
                  </a:lnTo>
                  <a:lnTo>
                    <a:pt x="366" y="605"/>
                  </a:lnTo>
                  <a:lnTo>
                    <a:pt x="355" y="605"/>
                  </a:lnTo>
                  <a:lnTo>
                    <a:pt x="349" y="605"/>
                  </a:lnTo>
                  <a:lnTo>
                    <a:pt x="344" y="599"/>
                  </a:lnTo>
                  <a:lnTo>
                    <a:pt x="338" y="594"/>
                  </a:lnTo>
                  <a:lnTo>
                    <a:pt x="327" y="583"/>
                  </a:lnTo>
                  <a:lnTo>
                    <a:pt x="322" y="578"/>
                  </a:lnTo>
                  <a:lnTo>
                    <a:pt x="306" y="578"/>
                  </a:lnTo>
                  <a:lnTo>
                    <a:pt x="295" y="583"/>
                  </a:lnTo>
                  <a:lnTo>
                    <a:pt x="289" y="589"/>
                  </a:lnTo>
                  <a:lnTo>
                    <a:pt x="284" y="594"/>
                  </a:lnTo>
                  <a:lnTo>
                    <a:pt x="278" y="605"/>
                  </a:lnTo>
                  <a:lnTo>
                    <a:pt x="273" y="610"/>
                  </a:lnTo>
                  <a:lnTo>
                    <a:pt x="267" y="616"/>
                  </a:lnTo>
                  <a:lnTo>
                    <a:pt x="257" y="621"/>
                  </a:lnTo>
                  <a:lnTo>
                    <a:pt x="246" y="627"/>
                  </a:lnTo>
                  <a:lnTo>
                    <a:pt x="235" y="627"/>
                  </a:lnTo>
                  <a:lnTo>
                    <a:pt x="224" y="632"/>
                  </a:lnTo>
                  <a:lnTo>
                    <a:pt x="224" y="638"/>
                  </a:lnTo>
                  <a:lnTo>
                    <a:pt x="218" y="649"/>
                  </a:lnTo>
                  <a:lnTo>
                    <a:pt x="213" y="654"/>
                  </a:lnTo>
                  <a:lnTo>
                    <a:pt x="202" y="659"/>
                  </a:lnTo>
                  <a:lnTo>
                    <a:pt x="191" y="659"/>
                  </a:lnTo>
                  <a:lnTo>
                    <a:pt x="180" y="659"/>
                  </a:lnTo>
                  <a:lnTo>
                    <a:pt x="169" y="654"/>
                  </a:lnTo>
                  <a:lnTo>
                    <a:pt x="164" y="649"/>
                  </a:lnTo>
                  <a:lnTo>
                    <a:pt x="158" y="643"/>
                  </a:lnTo>
                  <a:lnTo>
                    <a:pt x="153" y="638"/>
                  </a:lnTo>
                  <a:lnTo>
                    <a:pt x="142" y="632"/>
                  </a:lnTo>
                  <a:lnTo>
                    <a:pt x="131" y="627"/>
                  </a:lnTo>
                  <a:lnTo>
                    <a:pt x="120" y="627"/>
                  </a:lnTo>
                  <a:lnTo>
                    <a:pt x="109" y="627"/>
                  </a:lnTo>
                  <a:lnTo>
                    <a:pt x="98" y="627"/>
                  </a:lnTo>
                  <a:lnTo>
                    <a:pt x="87" y="627"/>
                  </a:lnTo>
                  <a:lnTo>
                    <a:pt x="77" y="616"/>
                  </a:lnTo>
                  <a:lnTo>
                    <a:pt x="71" y="610"/>
                  </a:lnTo>
                  <a:lnTo>
                    <a:pt x="71" y="605"/>
                  </a:lnTo>
                  <a:lnTo>
                    <a:pt x="66" y="605"/>
                  </a:lnTo>
                  <a:lnTo>
                    <a:pt x="60" y="605"/>
                  </a:lnTo>
                  <a:lnTo>
                    <a:pt x="55" y="610"/>
                  </a:lnTo>
                  <a:lnTo>
                    <a:pt x="44" y="616"/>
                  </a:lnTo>
                  <a:lnTo>
                    <a:pt x="38" y="621"/>
                  </a:lnTo>
                  <a:lnTo>
                    <a:pt x="33" y="621"/>
                  </a:lnTo>
                  <a:lnTo>
                    <a:pt x="28" y="627"/>
                  </a:lnTo>
                  <a:lnTo>
                    <a:pt x="28" y="632"/>
                  </a:lnTo>
                  <a:lnTo>
                    <a:pt x="22" y="638"/>
                  </a:lnTo>
                  <a:lnTo>
                    <a:pt x="22" y="643"/>
                  </a:lnTo>
                  <a:lnTo>
                    <a:pt x="28" y="654"/>
                  </a:lnTo>
                  <a:lnTo>
                    <a:pt x="33" y="654"/>
                  </a:lnTo>
                  <a:lnTo>
                    <a:pt x="38" y="659"/>
                  </a:lnTo>
                  <a:lnTo>
                    <a:pt x="44" y="665"/>
                  </a:lnTo>
                  <a:lnTo>
                    <a:pt x="55" y="665"/>
                  </a:lnTo>
                  <a:lnTo>
                    <a:pt x="60" y="670"/>
                  </a:lnTo>
                  <a:lnTo>
                    <a:pt x="71" y="670"/>
                  </a:lnTo>
                  <a:lnTo>
                    <a:pt x="77" y="676"/>
                  </a:lnTo>
                  <a:lnTo>
                    <a:pt x="87" y="676"/>
                  </a:lnTo>
                  <a:lnTo>
                    <a:pt x="93" y="676"/>
                  </a:lnTo>
                  <a:lnTo>
                    <a:pt x="104" y="681"/>
                  </a:lnTo>
                  <a:lnTo>
                    <a:pt x="109" y="681"/>
                  </a:lnTo>
                  <a:lnTo>
                    <a:pt x="120" y="681"/>
                  </a:lnTo>
                  <a:lnTo>
                    <a:pt x="131" y="681"/>
                  </a:lnTo>
                  <a:lnTo>
                    <a:pt x="137" y="687"/>
                  </a:lnTo>
                  <a:lnTo>
                    <a:pt x="147" y="687"/>
                  </a:lnTo>
                  <a:lnTo>
                    <a:pt x="153" y="687"/>
                  </a:lnTo>
                  <a:lnTo>
                    <a:pt x="164" y="692"/>
                  </a:lnTo>
                  <a:lnTo>
                    <a:pt x="169" y="698"/>
                  </a:lnTo>
                  <a:lnTo>
                    <a:pt x="169" y="703"/>
                  </a:lnTo>
                  <a:lnTo>
                    <a:pt x="180" y="708"/>
                  </a:lnTo>
                  <a:lnTo>
                    <a:pt x="186" y="708"/>
                  </a:lnTo>
                  <a:lnTo>
                    <a:pt x="197" y="708"/>
                  </a:lnTo>
                  <a:lnTo>
                    <a:pt x="207" y="708"/>
                  </a:lnTo>
                  <a:lnTo>
                    <a:pt x="213" y="708"/>
                  </a:lnTo>
                  <a:lnTo>
                    <a:pt x="224" y="708"/>
                  </a:lnTo>
                  <a:lnTo>
                    <a:pt x="229" y="708"/>
                  </a:lnTo>
                  <a:lnTo>
                    <a:pt x="240" y="714"/>
                  </a:lnTo>
                  <a:lnTo>
                    <a:pt x="251" y="714"/>
                  </a:lnTo>
                  <a:lnTo>
                    <a:pt x="257" y="714"/>
                  </a:lnTo>
                  <a:lnTo>
                    <a:pt x="267" y="708"/>
                  </a:lnTo>
                  <a:lnTo>
                    <a:pt x="278" y="708"/>
                  </a:lnTo>
                  <a:lnTo>
                    <a:pt x="284" y="708"/>
                  </a:lnTo>
                  <a:lnTo>
                    <a:pt x="295" y="708"/>
                  </a:lnTo>
                  <a:lnTo>
                    <a:pt x="300" y="708"/>
                  </a:lnTo>
                  <a:lnTo>
                    <a:pt x="306" y="714"/>
                  </a:lnTo>
                  <a:lnTo>
                    <a:pt x="311" y="719"/>
                  </a:lnTo>
                  <a:lnTo>
                    <a:pt x="316" y="725"/>
                  </a:lnTo>
                  <a:lnTo>
                    <a:pt x="316" y="736"/>
                  </a:lnTo>
                  <a:lnTo>
                    <a:pt x="316" y="741"/>
                  </a:lnTo>
                  <a:lnTo>
                    <a:pt x="316" y="747"/>
                  </a:lnTo>
                  <a:lnTo>
                    <a:pt x="316" y="752"/>
                  </a:lnTo>
                  <a:lnTo>
                    <a:pt x="316" y="758"/>
                  </a:lnTo>
                  <a:lnTo>
                    <a:pt x="322" y="763"/>
                  </a:lnTo>
                  <a:lnTo>
                    <a:pt x="333" y="763"/>
                  </a:lnTo>
                  <a:lnTo>
                    <a:pt x="338" y="768"/>
                  </a:lnTo>
                  <a:lnTo>
                    <a:pt x="349" y="768"/>
                  </a:lnTo>
                  <a:lnTo>
                    <a:pt x="355" y="768"/>
                  </a:lnTo>
                  <a:close/>
                  <a:moveTo>
                    <a:pt x="513" y="768"/>
                  </a:moveTo>
                  <a:lnTo>
                    <a:pt x="513" y="763"/>
                  </a:lnTo>
                  <a:lnTo>
                    <a:pt x="513" y="763"/>
                  </a:lnTo>
                  <a:lnTo>
                    <a:pt x="513" y="763"/>
                  </a:lnTo>
                  <a:lnTo>
                    <a:pt x="513" y="763"/>
                  </a:lnTo>
                  <a:lnTo>
                    <a:pt x="513" y="763"/>
                  </a:lnTo>
                  <a:lnTo>
                    <a:pt x="513" y="763"/>
                  </a:lnTo>
                  <a:lnTo>
                    <a:pt x="507" y="763"/>
                  </a:lnTo>
                  <a:lnTo>
                    <a:pt x="507" y="763"/>
                  </a:lnTo>
                  <a:lnTo>
                    <a:pt x="507" y="763"/>
                  </a:lnTo>
                  <a:lnTo>
                    <a:pt x="507" y="763"/>
                  </a:lnTo>
                  <a:lnTo>
                    <a:pt x="507" y="768"/>
                  </a:lnTo>
                  <a:lnTo>
                    <a:pt x="507" y="768"/>
                  </a:lnTo>
                  <a:lnTo>
                    <a:pt x="513" y="768"/>
                  </a:lnTo>
                  <a:lnTo>
                    <a:pt x="513" y="768"/>
                  </a:lnTo>
                  <a:close/>
                  <a:moveTo>
                    <a:pt x="2230" y="736"/>
                  </a:moveTo>
                  <a:lnTo>
                    <a:pt x="2236" y="730"/>
                  </a:lnTo>
                  <a:lnTo>
                    <a:pt x="2241" y="725"/>
                  </a:lnTo>
                  <a:lnTo>
                    <a:pt x="2241" y="719"/>
                  </a:lnTo>
                  <a:lnTo>
                    <a:pt x="2247" y="708"/>
                  </a:lnTo>
                  <a:lnTo>
                    <a:pt x="2241" y="703"/>
                  </a:lnTo>
                  <a:lnTo>
                    <a:pt x="2241" y="698"/>
                  </a:lnTo>
                  <a:lnTo>
                    <a:pt x="2236" y="687"/>
                  </a:lnTo>
                  <a:lnTo>
                    <a:pt x="2230" y="681"/>
                  </a:lnTo>
                  <a:lnTo>
                    <a:pt x="2225" y="681"/>
                  </a:lnTo>
                  <a:lnTo>
                    <a:pt x="2225" y="687"/>
                  </a:lnTo>
                  <a:lnTo>
                    <a:pt x="2225" y="698"/>
                  </a:lnTo>
                  <a:lnTo>
                    <a:pt x="2225" y="703"/>
                  </a:lnTo>
                  <a:lnTo>
                    <a:pt x="2225" y="714"/>
                  </a:lnTo>
                  <a:lnTo>
                    <a:pt x="2225" y="719"/>
                  </a:lnTo>
                  <a:lnTo>
                    <a:pt x="2225" y="725"/>
                  </a:lnTo>
                  <a:lnTo>
                    <a:pt x="2225" y="730"/>
                  </a:lnTo>
                  <a:lnTo>
                    <a:pt x="2225" y="736"/>
                  </a:lnTo>
                  <a:lnTo>
                    <a:pt x="2225" y="741"/>
                  </a:lnTo>
                  <a:lnTo>
                    <a:pt x="2230" y="741"/>
                  </a:lnTo>
                  <a:lnTo>
                    <a:pt x="2230" y="736"/>
                  </a:lnTo>
                  <a:close/>
                  <a:moveTo>
                    <a:pt x="22" y="670"/>
                  </a:moveTo>
                  <a:lnTo>
                    <a:pt x="0" y="659"/>
                  </a:lnTo>
                  <a:lnTo>
                    <a:pt x="0" y="670"/>
                  </a:lnTo>
                  <a:lnTo>
                    <a:pt x="0" y="692"/>
                  </a:lnTo>
                  <a:lnTo>
                    <a:pt x="22" y="670"/>
                  </a:lnTo>
                  <a:close/>
                  <a:moveTo>
                    <a:pt x="1309" y="638"/>
                  </a:moveTo>
                  <a:lnTo>
                    <a:pt x="1309" y="638"/>
                  </a:lnTo>
                  <a:lnTo>
                    <a:pt x="1309" y="638"/>
                  </a:lnTo>
                  <a:lnTo>
                    <a:pt x="1309" y="638"/>
                  </a:lnTo>
                  <a:lnTo>
                    <a:pt x="1303" y="638"/>
                  </a:lnTo>
                  <a:lnTo>
                    <a:pt x="1303" y="638"/>
                  </a:lnTo>
                  <a:lnTo>
                    <a:pt x="1303" y="638"/>
                  </a:lnTo>
                  <a:lnTo>
                    <a:pt x="1303" y="638"/>
                  </a:lnTo>
                  <a:lnTo>
                    <a:pt x="1303" y="638"/>
                  </a:lnTo>
                  <a:lnTo>
                    <a:pt x="1303" y="638"/>
                  </a:lnTo>
                  <a:lnTo>
                    <a:pt x="1303" y="638"/>
                  </a:lnTo>
                  <a:lnTo>
                    <a:pt x="1303" y="638"/>
                  </a:lnTo>
                  <a:lnTo>
                    <a:pt x="1303" y="638"/>
                  </a:lnTo>
                  <a:lnTo>
                    <a:pt x="1309" y="638"/>
                  </a:lnTo>
                  <a:lnTo>
                    <a:pt x="1309" y="638"/>
                  </a:lnTo>
                  <a:close/>
                  <a:moveTo>
                    <a:pt x="2274" y="638"/>
                  </a:moveTo>
                  <a:lnTo>
                    <a:pt x="2279" y="632"/>
                  </a:lnTo>
                  <a:lnTo>
                    <a:pt x="2285" y="621"/>
                  </a:lnTo>
                  <a:lnTo>
                    <a:pt x="2290" y="616"/>
                  </a:lnTo>
                  <a:lnTo>
                    <a:pt x="2285" y="605"/>
                  </a:lnTo>
                  <a:lnTo>
                    <a:pt x="2274" y="594"/>
                  </a:lnTo>
                  <a:lnTo>
                    <a:pt x="2268" y="589"/>
                  </a:lnTo>
                  <a:lnTo>
                    <a:pt x="2258" y="589"/>
                  </a:lnTo>
                  <a:lnTo>
                    <a:pt x="2252" y="594"/>
                  </a:lnTo>
                  <a:lnTo>
                    <a:pt x="2252" y="605"/>
                  </a:lnTo>
                  <a:lnTo>
                    <a:pt x="2252" y="616"/>
                  </a:lnTo>
                  <a:lnTo>
                    <a:pt x="2252" y="621"/>
                  </a:lnTo>
                  <a:lnTo>
                    <a:pt x="2252" y="632"/>
                  </a:lnTo>
                  <a:lnTo>
                    <a:pt x="2252" y="643"/>
                  </a:lnTo>
                  <a:lnTo>
                    <a:pt x="2258" y="654"/>
                  </a:lnTo>
                  <a:lnTo>
                    <a:pt x="2258" y="659"/>
                  </a:lnTo>
                  <a:lnTo>
                    <a:pt x="2258" y="670"/>
                  </a:lnTo>
                  <a:lnTo>
                    <a:pt x="2263" y="670"/>
                  </a:lnTo>
                  <a:lnTo>
                    <a:pt x="2263" y="665"/>
                  </a:lnTo>
                  <a:lnTo>
                    <a:pt x="2268" y="654"/>
                  </a:lnTo>
                  <a:lnTo>
                    <a:pt x="2274" y="638"/>
                  </a:lnTo>
                  <a:close/>
                  <a:moveTo>
                    <a:pt x="2301" y="572"/>
                  </a:moveTo>
                  <a:lnTo>
                    <a:pt x="2301" y="567"/>
                  </a:lnTo>
                  <a:lnTo>
                    <a:pt x="2301" y="561"/>
                  </a:lnTo>
                  <a:lnTo>
                    <a:pt x="2301" y="556"/>
                  </a:lnTo>
                  <a:lnTo>
                    <a:pt x="2301" y="550"/>
                  </a:lnTo>
                  <a:lnTo>
                    <a:pt x="2301" y="545"/>
                  </a:lnTo>
                  <a:lnTo>
                    <a:pt x="2296" y="540"/>
                  </a:lnTo>
                  <a:lnTo>
                    <a:pt x="2290" y="540"/>
                  </a:lnTo>
                  <a:lnTo>
                    <a:pt x="2285" y="545"/>
                  </a:lnTo>
                  <a:lnTo>
                    <a:pt x="2279" y="550"/>
                  </a:lnTo>
                  <a:lnTo>
                    <a:pt x="2279" y="556"/>
                  </a:lnTo>
                  <a:lnTo>
                    <a:pt x="2279" y="561"/>
                  </a:lnTo>
                  <a:lnTo>
                    <a:pt x="2279" y="567"/>
                  </a:lnTo>
                  <a:lnTo>
                    <a:pt x="2279" y="572"/>
                  </a:lnTo>
                  <a:lnTo>
                    <a:pt x="2285" y="583"/>
                  </a:lnTo>
                  <a:lnTo>
                    <a:pt x="2285" y="589"/>
                  </a:lnTo>
                  <a:lnTo>
                    <a:pt x="2290" y="594"/>
                  </a:lnTo>
                  <a:lnTo>
                    <a:pt x="2290" y="594"/>
                  </a:lnTo>
                  <a:lnTo>
                    <a:pt x="2296" y="594"/>
                  </a:lnTo>
                  <a:lnTo>
                    <a:pt x="2296" y="583"/>
                  </a:lnTo>
                  <a:lnTo>
                    <a:pt x="2301" y="572"/>
                  </a:lnTo>
                  <a:close/>
                  <a:moveTo>
                    <a:pt x="371" y="512"/>
                  </a:moveTo>
                  <a:lnTo>
                    <a:pt x="366" y="496"/>
                  </a:lnTo>
                  <a:lnTo>
                    <a:pt x="360" y="490"/>
                  </a:lnTo>
                  <a:lnTo>
                    <a:pt x="355" y="485"/>
                  </a:lnTo>
                  <a:lnTo>
                    <a:pt x="349" y="485"/>
                  </a:lnTo>
                  <a:lnTo>
                    <a:pt x="344" y="485"/>
                  </a:lnTo>
                  <a:lnTo>
                    <a:pt x="338" y="496"/>
                  </a:lnTo>
                  <a:lnTo>
                    <a:pt x="333" y="501"/>
                  </a:lnTo>
                  <a:lnTo>
                    <a:pt x="333" y="512"/>
                  </a:lnTo>
                  <a:lnTo>
                    <a:pt x="338" y="523"/>
                  </a:lnTo>
                  <a:lnTo>
                    <a:pt x="344" y="529"/>
                  </a:lnTo>
                  <a:lnTo>
                    <a:pt x="355" y="534"/>
                  </a:lnTo>
                  <a:lnTo>
                    <a:pt x="360" y="529"/>
                  </a:lnTo>
                  <a:lnTo>
                    <a:pt x="366" y="523"/>
                  </a:lnTo>
                  <a:lnTo>
                    <a:pt x="371" y="512"/>
                  </a:lnTo>
                  <a:close/>
                  <a:moveTo>
                    <a:pt x="398" y="480"/>
                  </a:moveTo>
                  <a:lnTo>
                    <a:pt x="398" y="474"/>
                  </a:lnTo>
                  <a:lnTo>
                    <a:pt x="404" y="469"/>
                  </a:lnTo>
                  <a:lnTo>
                    <a:pt x="409" y="458"/>
                  </a:lnTo>
                  <a:lnTo>
                    <a:pt x="415" y="452"/>
                  </a:lnTo>
                  <a:lnTo>
                    <a:pt x="420" y="447"/>
                  </a:lnTo>
                  <a:lnTo>
                    <a:pt x="426" y="441"/>
                  </a:lnTo>
                  <a:lnTo>
                    <a:pt x="431" y="436"/>
                  </a:lnTo>
                  <a:lnTo>
                    <a:pt x="436" y="431"/>
                  </a:lnTo>
                  <a:lnTo>
                    <a:pt x="442" y="420"/>
                  </a:lnTo>
                  <a:lnTo>
                    <a:pt x="442" y="414"/>
                  </a:lnTo>
                  <a:lnTo>
                    <a:pt x="436" y="409"/>
                  </a:lnTo>
                  <a:lnTo>
                    <a:pt x="426" y="403"/>
                  </a:lnTo>
                  <a:lnTo>
                    <a:pt x="415" y="398"/>
                  </a:lnTo>
                  <a:lnTo>
                    <a:pt x="409" y="403"/>
                  </a:lnTo>
                  <a:lnTo>
                    <a:pt x="404" y="409"/>
                  </a:lnTo>
                  <a:lnTo>
                    <a:pt x="398" y="420"/>
                  </a:lnTo>
                  <a:lnTo>
                    <a:pt x="398" y="425"/>
                  </a:lnTo>
                  <a:lnTo>
                    <a:pt x="393" y="431"/>
                  </a:lnTo>
                  <a:lnTo>
                    <a:pt x="387" y="436"/>
                  </a:lnTo>
                  <a:lnTo>
                    <a:pt x="382" y="441"/>
                  </a:lnTo>
                  <a:lnTo>
                    <a:pt x="376" y="447"/>
                  </a:lnTo>
                  <a:lnTo>
                    <a:pt x="371" y="452"/>
                  </a:lnTo>
                  <a:lnTo>
                    <a:pt x="366" y="463"/>
                  </a:lnTo>
                  <a:lnTo>
                    <a:pt x="360" y="469"/>
                  </a:lnTo>
                  <a:lnTo>
                    <a:pt x="355" y="474"/>
                  </a:lnTo>
                  <a:lnTo>
                    <a:pt x="360" y="480"/>
                  </a:lnTo>
                  <a:lnTo>
                    <a:pt x="366" y="490"/>
                  </a:lnTo>
                  <a:lnTo>
                    <a:pt x="371" y="496"/>
                  </a:lnTo>
                  <a:lnTo>
                    <a:pt x="382" y="496"/>
                  </a:lnTo>
                  <a:lnTo>
                    <a:pt x="387" y="496"/>
                  </a:lnTo>
                  <a:lnTo>
                    <a:pt x="393" y="490"/>
                  </a:lnTo>
                  <a:lnTo>
                    <a:pt x="398" y="480"/>
                  </a:lnTo>
                  <a:close/>
                  <a:moveTo>
                    <a:pt x="2906" y="447"/>
                  </a:moveTo>
                  <a:lnTo>
                    <a:pt x="2901" y="436"/>
                  </a:lnTo>
                  <a:lnTo>
                    <a:pt x="2901" y="431"/>
                  </a:lnTo>
                  <a:lnTo>
                    <a:pt x="2901" y="425"/>
                  </a:lnTo>
                  <a:lnTo>
                    <a:pt x="2895" y="420"/>
                  </a:lnTo>
                  <a:lnTo>
                    <a:pt x="2895" y="420"/>
                  </a:lnTo>
                  <a:lnTo>
                    <a:pt x="2895" y="425"/>
                  </a:lnTo>
                  <a:lnTo>
                    <a:pt x="2890" y="431"/>
                  </a:lnTo>
                  <a:lnTo>
                    <a:pt x="2890" y="436"/>
                  </a:lnTo>
                  <a:lnTo>
                    <a:pt x="2890" y="441"/>
                  </a:lnTo>
                  <a:lnTo>
                    <a:pt x="2890" y="447"/>
                  </a:lnTo>
                  <a:lnTo>
                    <a:pt x="2895" y="452"/>
                  </a:lnTo>
                  <a:lnTo>
                    <a:pt x="2895" y="458"/>
                  </a:lnTo>
                  <a:lnTo>
                    <a:pt x="2901" y="452"/>
                  </a:lnTo>
                  <a:lnTo>
                    <a:pt x="2906" y="447"/>
                  </a:lnTo>
                  <a:close/>
                  <a:moveTo>
                    <a:pt x="469" y="381"/>
                  </a:moveTo>
                  <a:lnTo>
                    <a:pt x="464" y="371"/>
                  </a:lnTo>
                  <a:lnTo>
                    <a:pt x="458" y="360"/>
                  </a:lnTo>
                  <a:lnTo>
                    <a:pt x="453" y="354"/>
                  </a:lnTo>
                  <a:lnTo>
                    <a:pt x="447" y="354"/>
                  </a:lnTo>
                  <a:lnTo>
                    <a:pt x="436" y="360"/>
                  </a:lnTo>
                  <a:lnTo>
                    <a:pt x="431" y="365"/>
                  </a:lnTo>
                  <a:lnTo>
                    <a:pt x="431" y="376"/>
                  </a:lnTo>
                  <a:lnTo>
                    <a:pt x="431" y="392"/>
                  </a:lnTo>
                  <a:lnTo>
                    <a:pt x="436" y="403"/>
                  </a:lnTo>
                  <a:lnTo>
                    <a:pt x="442" y="409"/>
                  </a:lnTo>
                  <a:lnTo>
                    <a:pt x="447" y="409"/>
                  </a:lnTo>
                  <a:lnTo>
                    <a:pt x="458" y="409"/>
                  </a:lnTo>
                  <a:lnTo>
                    <a:pt x="464" y="398"/>
                  </a:lnTo>
                  <a:lnTo>
                    <a:pt x="469" y="381"/>
                  </a:lnTo>
                  <a:close/>
                  <a:moveTo>
                    <a:pt x="491" y="354"/>
                  </a:moveTo>
                  <a:lnTo>
                    <a:pt x="496" y="343"/>
                  </a:lnTo>
                  <a:lnTo>
                    <a:pt x="502" y="338"/>
                  </a:lnTo>
                  <a:lnTo>
                    <a:pt x="507" y="327"/>
                  </a:lnTo>
                  <a:lnTo>
                    <a:pt x="518" y="327"/>
                  </a:lnTo>
                  <a:lnTo>
                    <a:pt x="529" y="322"/>
                  </a:lnTo>
                  <a:lnTo>
                    <a:pt x="540" y="322"/>
                  </a:lnTo>
                  <a:lnTo>
                    <a:pt x="545" y="316"/>
                  </a:lnTo>
                  <a:lnTo>
                    <a:pt x="545" y="305"/>
                  </a:lnTo>
                  <a:lnTo>
                    <a:pt x="540" y="300"/>
                  </a:lnTo>
                  <a:lnTo>
                    <a:pt x="535" y="289"/>
                  </a:lnTo>
                  <a:lnTo>
                    <a:pt x="529" y="278"/>
                  </a:lnTo>
                  <a:lnTo>
                    <a:pt x="524" y="267"/>
                  </a:lnTo>
                  <a:lnTo>
                    <a:pt x="518" y="262"/>
                  </a:lnTo>
                  <a:lnTo>
                    <a:pt x="513" y="262"/>
                  </a:lnTo>
                  <a:lnTo>
                    <a:pt x="507" y="267"/>
                  </a:lnTo>
                  <a:lnTo>
                    <a:pt x="502" y="272"/>
                  </a:lnTo>
                  <a:lnTo>
                    <a:pt x="496" y="283"/>
                  </a:lnTo>
                  <a:lnTo>
                    <a:pt x="491" y="289"/>
                  </a:lnTo>
                  <a:lnTo>
                    <a:pt x="486" y="300"/>
                  </a:lnTo>
                  <a:lnTo>
                    <a:pt x="480" y="305"/>
                  </a:lnTo>
                  <a:lnTo>
                    <a:pt x="475" y="311"/>
                  </a:lnTo>
                  <a:lnTo>
                    <a:pt x="469" y="322"/>
                  </a:lnTo>
                  <a:lnTo>
                    <a:pt x="464" y="327"/>
                  </a:lnTo>
                  <a:lnTo>
                    <a:pt x="458" y="332"/>
                  </a:lnTo>
                  <a:lnTo>
                    <a:pt x="447" y="343"/>
                  </a:lnTo>
                  <a:lnTo>
                    <a:pt x="447" y="349"/>
                  </a:lnTo>
                  <a:lnTo>
                    <a:pt x="453" y="354"/>
                  </a:lnTo>
                  <a:lnTo>
                    <a:pt x="458" y="365"/>
                  </a:lnTo>
                  <a:lnTo>
                    <a:pt x="475" y="365"/>
                  </a:lnTo>
                  <a:lnTo>
                    <a:pt x="480" y="365"/>
                  </a:lnTo>
                  <a:lnTo>
                    <a:pt x="491" y="360"/>
                  </a:lnTo>
                  <a:lnTo>
                    <a:pt x="491" y="354"/>
                  </a:lnTo>
                  <a:close/>
                  <a:moveTo>
                    <a:pt x="387" y="322"/>
                  </a:moveTo>
                  <a:lnTo>
                    <a:pt x="382" y="322"/>
                  </a:lnTo>
                  <a:lnTo>
                    <a:pt x="366" y="338"/>
                  </a:lnTo>
                  <a:lnTo>
                    <a:pt x="371" y="332"/>
                  </a:lnTo>
                  <a:lnTo>
                    <a:pt x="376" y="332"/>
                  </a:lnTo>
                  <a:lnTo>
                    <a:pt x="376" y="332"/>
                  </a:lnTo>
                  <a:lnTo>
                    <a:pt x="376" y="327"/>
                  </a:lnTo>
                  <a:lnTo>
                    <a:pt x="382" y="327"/>
                  </a:lnTo>
                  <a:lnTo>
                    <a:pt x="382" y="322"/>
                  </a:lnTo>
                  <a:lnTo>
                    <a:pt x="387" y="322"/>
                  </a:lnTo>
                  <a:lnTo>
                    <a:pt x="387" y="322"/>
                  </a:lnTo>
                  <a:close/>
                  <a:moveTo>
                    <a:pt x="420" y="289"/>
                  </a:moveTo>
                  <a:lnTo>
                    <a:pt x="415" y="289"/>
                  </a:lnTo>
                  <a:lnTo>
                    <a:pt x="415" y="289"/>
                  </a:lnTo>
                  <a:lnTo>
                    <a:pt x="420" y="289"/>
                  </a:lnTo>
                  <a:close/>
                  <a:moveTo>
                    <a:pt x="447" y="256"/>
                  </a:moveTo>
                  <a:lnTo>
                    <a:pt x="458" y="245"/>
                  </a:lnTo>
                  <a:lnTo>
                    <a:pt x="447" y="256"/>
                  </a:lnTo>
                  <a:lnTo>
                    <a:pt x="447" y="256"/>
                  </a:lnTo>
                  <a:lnTo>
                    <a:pt x="447" y="256"/>
                  </a:lnTo>
                  <a:close/>
                  <a:moveTo>
                    <a:pt x="518" y="191"/>
                  </a:moveTo>
                  <a:lnTo>
                    <a:pt x="513" y="191"/>
                  </a:lnTo>
                  <a:lnTo>
                    <a:pt x="496" y="207"/>
                  </a:lnTo>
                  <a:lnTo>
                    <a:pt x="496" y="207"/>
                  </a:lnTo>
                  <a:lnTo>
                    <a:pt x="502" y="202"/>
                  </a:lnTo>
                  <a:lnTo>
                    <a:pt x="502" y="202"/>
                  </a:lnTo>
                  <a:lnTo>
                    <a:pt x="507" y="196"/>
                  </a:lnTo>
                  <a:lnTo>
                    <a:pt x="507" y="196"/>
                  </a:lnTo>
                  <a:lnTo>
                    <a:pt x="513" y="196"/>
                  </a:lnTo>
                  <a:lnTo>
                    <a:pt x="513" y="196"/>
                  </a:lnTo>
                  <a:lnTo>
                    <a:pt x="518" y="191"/>
                  </a:lnTo>
                  <a:close/>
                  <a:moveTo>
                    <a:pt x="1123" y="191"/>
                  </a:moveTo>
                  <a:lnTo>
                    <a:pt x="1118" y="185"/>
                  </a:lnTo>
                  <a:lnTo>
                    <a:pt x="1118" y="180"/>
                  </a:lnTo>
                  <a:lnTo>
                    <a:pt x="1113" y="174"/>
                  </a:lnTo>
                  <a:lnTo>
                    <a:pt x="1107" y="180"/>
                  </a:lnTo>
                  <a:lnTo>
                    <a:pt x="1096" y="180"/>
                  </a:lnTo>
                  <a:lnTo>
                    <a:pt x="1091" y="185"/>
                  </a:lnTo>
                  <a:lnTo>
                    <a:pt x="1085" y="191"/>
                  </a:lnTo>
                  <a:lnTo>
                    <a:pt x="1085" y="196"/>
                  </a:lnTo>
                  <a:lnTo>
                    <a:pt x="1091" y="202"/>
                  </a:lnTo>
                  <a:lnTo>
                    <a:pt x="1102" y="202"/>
                  </a:lnTo>
                  <a:lnTo>
                    <a:pt x="1107" y="202"/>
                  </a:lnTo>
                  <a:lnTo>
                    <a:pt x="1118" y="202"/>
                  </a:lnTo>
                  <a:lnTo>
                    <a:pt x="1118" y="196"/>
                  </a:lnTo>
                  <a:lnTo>
                    <a:pt x="1123" y="191"/>
                  </a:lnTo>
                  <a:close/>
                  <a:moveTo>
                    <a:pt x="567" y="158"/>
                  </a:moveTo>
                  <a:lnTo>
                    <a:pt x="545" y="158"/>
                  </a:lnTo>
                  <a:lnTo>
                    <a:pt x="545" y="180"/>
                  </a:lnTo>
                  <a:lnTo>
                    <a:pt x="567" y="158"/>
                  </a:lnTo>
                  <a:close/>
                  <a:moveTo>
                    <a:pt x="3054" y="125"/>
                  </a:moveTo>
                  <a:lnTo>
                    <a:pt x="3037" y="125"/>
                  </a:lnTo>
                  <a:lnTo>
                    <a:pt x="3054" y="147"/>
                  </a:lnTo>
                  <a:lnTo>
                    <a:pt x="3054" y="125"/>
                  </a:lnTo>
                  <a:close/>
                  <a:moveTo>
                    <a:pt x="878" y="98"/>
                  </a:moveTo>
                  <a:lnTo>
                    <a:pt x="884" y="93"/>
                  </a:lnTo>
                  <a:lnTo>
                    <a:pt x="884" y="87"/>
                  </a:lnTo>
                  <a:lnTo>
                    <a:pt x="889" y="87"/>
                  </a:lnTo>
                  <a:lnTo>
                    <a:pt x="894" y="87"/>
                  </a:lnTo>
                  <a:lnTo>
                    <a:pt x="900" y="87"/>
                  </a:lnTo>
                  <a:lnTo>
                    <a:pt x="900" y="93"/>
                  </a:lnTo>
                  <a:lnTo>
                    <a:pt x="905" y="93"/>
                  </a:lnTo>
                  <a:lnTo>
                    <a:pt x="905" y="98"/>
                  </a:lnTo>
                  <a:lnTo>
                    <a:pt x="900" y="104"/>
                  </a:lnTo>
                  <a:lnTo>
                    <a:pt x="894" y="104"/>
                  </a:lnTo>
                  <a:lnTo>
                    <a:pt x="889" y="104"/>
                  </a:lnTo>
                  <a:lnTo>
                    <a:pt x="884" y="104"/>
                  </a:lnTo>
                  <a:lnTo>
                    <a:pt x="884" y="104"/>
                  </a:lnTo>
                  <a:lnTo>
                    <a:pt x="878" y="98"/>
                  </a:lnTo>
                  <a:close/>
                  <a:moveTo>
                    <a:pt x="3021" y="98"/>
                  </a:moveTo>
                  <a:lnTo>
                    <a:pt x="2988" y="98"/>
                  </a:lnTo>
                  <a:lnTo>
                    <a:pt x="2983" y="98"/>
                  </a:lnTo>
                  <a:lnTo>
                    <a:pt x="2988" y="98"/>
                  </a:lnTo>
                  <a:lnTo>
                    <a:pt x="2994" y="104"/>
                  </a:lnTo>
                  <a:lnTo>
                    <a:pt x="2994" y="104"/>
                  </a:lnTo>
                  <a:lnTo>
                    <a:pt x="2999" y="109"/>
                  </a:lnTo>
                  <a:lnTo>
                    <a:pt x="3004" y="109"/>
                  </a:lnTo>
                  <a:lnTo>
                    <a:pt x="3010" y="109"/>
                  </a:lnTo>
                  <a:lnTo>
                    <a:pt x="3015" y="114"/>
                  </a:lnTo>
                  <a:lnTo>
                    <a:pt x="3021" y="114"/>
                  </a:lnTo>
                  <a:lnTo>
                    <a:pt x="3021" y="98"/>
                  </a:lnTo>
                  <a:close/>
                  <a:moveTo>
                    <a:pt x="2830" y="33"/>
                  </a:moveTo>
                  <a:lnTo>
                    <a:pt x="2830" y="33"/>
                  </a:lnTo>
                  <a:lnTo>
                    <a:pt x="2830" y="33"/>
                  </a:lnTo>
                  <a:lnTo>
                    <a:pt x="2830" y="33"/>
                  </a:lnTo>
                  <a:lnTo>
                    <a:pt x="2830" y="33"/>
                  </a:lnTo>
                  <a:lnTo>
                    <a:pt x="2830" y="33"/>
                  </a:lnTo>
                  <a:lnTo>
                    <a:pt x="2830" y="33"/>
                  </a:lnTo>
                  <a:lnTo>
                    <a:pt x="2830" y="33"/>
                  </a:lnTo>
                  <a:lnTo>
                    <a:pt x="2830" y="33"/>
                  </a:lnTo>
                  <a:lnTo>
                    <a:pt x="2830" y="33"/>
                  </a:lnTo>
                  <a:lnTo>
                    <a:pt x="2830" y="33"/>
                  </a:lnTo>
                  <a:close/>
                  <a:moveTo>
                    <a:pt x="2666" y="0"/>
                  </a:moveTo>
                  <a:lnTo>
                    <a:pt x="2639" y="0"/>
                  </a:lnTo>
                  <a:lnTo>
                    <a:pt x="2612" y="0"/>
                  </a:lnTo>
                  <a:lnTo>
                    <a:pt x="2606" y="0"/>
                  </a:lnTo>
                  <a:lnTo>
                    <a:pt x="2612" y="0"/>
                  </a:lnTo>
                  <a:lnTo>
                    <a:pt x="2617" y="0"/>
                  </a:lnTo>
                  <a:lnTo>
                    <a:pt x="2623" y="5"/>
                  </a:lnTo>
                  <a:lnTo>
                    <a:pt x="2628" y="5"/>
                  </a:lnTo>
                  <a:lnTo>
                    <a:pt x="2634" y="5"/>
                  </a:lnTo>
                  <a:lnTo>
                    <a:pt x="2639" y="5"/>
                  </a:lnTo>
                  <a:lnTo>
                    <a:pt x="2645" y="5"/>
                  </a:lnTo>
                  <a:lnTo>
                    <a:pt x="2650" y="5"/>
                  </a:lnTo>
                  <a:lnTo>
                    <a:pt x="2656" y="5"/>
                  </a:lnTo>
                  <a:lnTo>
                    <a:pt x="2661" y="0"/>
                  </a:lnTo>
                  <a:lnTo>
                    <a:pt x="2666" y="0"/>
                  </a:lnTo>
                  <a:close/>
                  <a:moveTo>
                    <a:pt x="2672" y="1978"/>
                  </a:moveTo>
                  <a:lnTo>
                    <a:pt x="2705" y="1946"/>
                  </a:lnTo>
                  <a:lnTo>
                    <a:pt x="2737" y="1946"/>
                  </a:lnTo>
                  <a:lnTo>
                    <a:pt x="2770" y="1946"/>
                  </a:lnTo>
                  <a:lnTo>
                    <a:pt x="2797" y="1946"/>
                  </a:lnTo>
                  <a:lnTo>
                    <a:pt x="2830" y="1946"/>
                  </a:lnTo>
                  <a:lnTo>
                    <a:pt x="2863" y="1946"/>
                  </a:lnTo>
                  <a:lnTo>
                    <a:pt x="2895" y="1946"/>
                  </a:lnTo>
                  <a:lnTo>
                    <a:pt x="2928" y="1918"/>
                  </a:lnTo>
                  <a:lnTo>
                    <a:pt x="2928" y="1886"/>
                  </a:lnTo>
                  <a:lnTo>
                    <a:pt x="2928" y="1853"/>
                  </a:lnTo>
                  <a:lnTo>
                    <a:pt x="2928" y="1820"/>
                  </a:lnTo>
                  <a:lnTo>
                    <a:pt x="2961" y="1788"/>
                  </a:lnTo>
                  <a:lnTo>
                    <a:pt x="2961" y="1755"/>
                  </a:lnTo>
                  <a:lnTo>
                    <a:pt x="2961" y="1722"/>
                  </a:lnTo>
                  <a:lnTo>
                    <a:pt x="2961" y="1695"/>
                  </a:lnTo>
                  <a:lnTo>
                    <a:pt x="2988" y="1662"/>
                  </a:lnTo>
                  <a:lnTo>
                    <a:pt x="2988" y="1630"/>
                  </a:lnTo>
                  <a:lnTo>
                    <a:pt x="2988" y="1597"/>
                  </a:lnTo>
                  <a:lnTo>
                    <a:pt x="2988" y="1564"/>
                  </a:lnTo>
                  <a:lnTo>
                    <a:pt x="3021" y="1531"/>
                  </a:lnTo>
                  <a:lnTo>
                    <a:pt x="3021" y="1499"/>
                  </a:lnTo>
                  <a:lnTo>
                    <a:pt x="3021" y="1472"/>
                  </a:lnTo>
                  <a:lnTo>
                    <a:pt x="3021" y="1439"/>
                  </a:lnTo>
                  <a:lnTo>
                    <a:pt x="3054" y="1406"/>
                  </a:lnTo>
                  <a:lnTo>
                    <a:pt x="3054" y="1373"/>
                  </a:lnTo>
                  <a:lnTo>
                    <a:pt x="3054" y="1341"/>
                  </a:lnTo>
                  <a:lnTo>
                    <a:pt x="3054" y="1308"/>
                  </a:lnTo>
                  <a:lnTo>
                    <a:pt x="3086" y="1275"/>
                  </a:lnTo>
                  <a:lnTo>
                    <a:pt x="3086" y="1248"/>
                  </a:lnTo>
                  <a:lnTo>
                    <a:pt x="3086" y="1215"/>
                  </a:lnTo>
                  <a:lnTo>
                    <a:pt x="3086" y="1183"/>
                  </a:lnTo>
                  <a:lnTo>
                    <a:pt x="3086" y="1150"/>
                  </a:lnTo>
                  <a:lnTo>
                    <a:pt x="3086" y="1117"/>
                  </a:lnTo>
                  <a:lnTo>
                    <a:pt x="3086" y="1085"/>
                  </a:lnTo>
                  <a:lnTo>
                    <a:pt x="3086" y="1052"/>
                  </a:lnTo>
                  <a:lnTo>
                    <a:pt x="3086" y="1025"/>
                  </a:lnTo>
                  <a:lnTo>
                    <a:pt x="3086" y="992"/>
                  </a:lnTo>
                  <a:lnTo>
                    <a:pt x="3086" y="959"/>
                  </a:lnTo>
                  <a:lnTo>
                    <a:pt x="3086" y="927"/>
                  </a:lnTo>
                  <a:lnTo>
                    <a:pt x="3086" y="894"/>
                  </a:lnTo>
                  <a:lnTo>
                    <a:pt x="3086" y="861"/>
                  </a:lnTo>
                  <a:lnTo>
                    <a:pt x="3086" y="828"/>
                  </a:lnTo>
                  <a:lnTo>
                    <a:pt x="3086" y="801"/>
                  </a:lnTo>
                  <a:lnTo>
                    <a:pt x="3086" y="768"/>
                  </a:lnTo>
                  <a:lnTo>
                    <a:pt x="3086" y="736"/>
                  </a:lnTo>
                  <a:lnTo>
                    <a:pt x="3086" y="703"/>
                  </a:lnTo>
                  <a:lnTo>
                    <a:pt x="3086" y="670"/>
                  </a:lnTo>
                  <a:lnTo>
                    <a:pt x="3086" y="638"/>
                  </a:lnTo>
                  <a:lnTo>
                    <a:pt x="3086" y="605"/>
                  </a:lnTo>
                  <a:lnTo>
                    <a:pt x="3086" y="572"/>
                  </a:lnTo>
                  <a:lnTo>
                    <a:pt x="3086" y="545"/>
                  </a:lnTo>
                  <a:lnTo>
                    <a:pt x="3086" y="512"/>
                  </a:lnTo>
                  <a:lnTo>
                    <a:pt x="3086" y="480"/>
                  </a:lnTo>
                  <a:lnTo>
                    <a:pt x="3086" y="447"/>
                  </a:lnTo>
                  <a:lnTo>
                    <a:pt x="3086" y="414"/>
                  </a:lnTo>
                  <a:lnTo>
                    <a:pt x="3086" y="381"/>
                  </a:lnTo>
                  <a:lnTo>
                    <a:pt x="3086" y="354"/>
                  </a:lnTo>
                  <a:lnTo>
                    <a:pt x="3086" y="322"/>
                  </a:lnTo>
                  <a:lnTo>
                    <a:pt x="3086" y="289"/>
                  </a:lnTo>
                  <a:lnTo>
                    <a:pt x="3054" y="256"/>
                  </a:lnTo>
                  <a:lnTo>
                    <a:pt x="3054" y="223"/>
                  </a:lnTo>
                  <a:lnTo>
                    <a:pt x="3054" y="191"/>
                  </a:lnTo>
                  <a:lnTo>
                    <a:pt x="3054" y="158"/>
                  </a:lnTo>
                  <a:lnTo>
                    <a:pt x="3054" y="125"/>
                  </a:lnTo>
                  <a:lnTo>
                    <a:pt x="3021" y="98"/>
                  </a:lnTo>
                  <a:lnTo>
                    <a:pt x="2988" y="98"/>
                  </a:lnTo>
                  <a:lnTo>
                    <a:pt x="2961" y="98"/>
                  </a:lnTo>
                  <a:lnTo>
                    <a:pt x="2928" y="65"/>
                  </a:lnTo>
                  <a:lnTo>
                    <a:pt x="2895" y="65"/>
                  </a:lnTo>
                  <a:lnTo>
                    <a:pt x="2863" y="65"/>
                  </a:lnTo>
                  <a:lnTo>
                    <a:pt x="2830" y="33"/>
                  </a:lnTo>
                  <a:lnTo>
                    <a:pt x="2797" y="33"/>
                  </a:lnTo>
                  <a:lnTo>
                    <a:pt x="2770" y="33"/>
                  </a:lnTo>
                  <a:lnTo>
                    <a:pt x="2737" y="0"/>
                  </a:lnTo>
                  <a:lnTo>
                    <a:pt x="2705" y="0"/>
                  </a:lnTo>
                  <a:lnTo>
                    <a:pt x="2672" y="0"/>
                  </a:lnTo>
                  <a:lnTo>
                    <a:pt x="2639" y="0"/>
                  </a:lnTo>
                  <a:lnTo>
                    <a:pt x="2612" y="0"/>
                  </a:lnTo>
                  <a:lnTo>
                    <a:pt x="2579" y="0"/>
                  </a:lnTo>
                  <a:lnTo>
                    <a:pt x="2546" y="0"/>
                  </a:lnTo>
                  <a:lnTo>
                    <a:pt x="2514" y="0"/>
                  </a:lnTo>
                  <a:lnTo>
                    <a:pt x="2481" y="0"/>
                  </a:lnTo>
                  <a:lnTo>
                    <a:pt x="2448" y="0"/>
                  </a:lnTo>
                  <a:lnTo>
                    <a:pt x="2421" y="0"/>
                  </a:lnTo>
                  <a:lnTo>
                    <a:pt x="2388" y="0"/>
                  </a:lnTo>
                  <a:lnTo>
                    <a:pt x="2356" y="0"/>
                  </a:lnTo>
                  <a:lnTo>
                    <a:pt x="2323" y="0"/>
                  </a:lnTo>
                  <a:lnTo>
                    <a:pt x="2317" y="0"/>
                  </a:lnTo>
                  <a:lnTo>
                    <a:pt x="2323" y="5"/>
                  </a:lnTo>
                  <a:lnTo>
                    <a:pt x="2334" y="5"/>
                  </a:lnTo>
                  <a:lnTo>
                    <a:pt x="2339" y="11"/>
                  </a:lnTo>
                  <a:lnTo>
                    <a:pt x="2350" y="16"/>
                  </a:lnTo>
                  <a:lnTo>
                    <a:pt x="2361" y="16"/>
                  </a:lnTo>
                  <a:lnTo>
                    <a:pt x="2367" y="16"/>
                  </a:lnTo>
                  <a:lnTo>
                    <a:pt x="2377" y="16"/>
                  </a:lnTo>
                  <a:lnTo>
                    <a:pt x="2388" y="22"/>
                  </a:lnTo>
                  <a:lnTo>
                    <a:pt x="2399" y="22"/>
                  </a:lnTo>
                  <a:lnTo>
                    <a:pt x="2405" y="22"/>
                  </a:lnTo>
                  <a:lnTo>
                    <a:pt x="2416" y="22"/>
                  </a:lnTo>
                  <a:lnTo>
                    <a:pt x="2427" y="22"/>
                  </a:lnTo>
                  <a:lnTo>
                    <a:pt x="2437" y="22"/>
                  </a:lnTo>
                  <a:lnTo>
                    <a:pt x="2448" y="22"/>
                  </a:lnTo>
                  <a:lnTo>
                    <a:pt x="2454" y="27"/>
                  </a:lnTo>
                  <a:lnTo>
                    <a:pt x="2465" y="27"/>
                  </a:lnTo>
                  <a:lnTo>
                    <a:pt x="2476" y="27"/>
                  </a:lnTo>
                  <a:lnTo>
                    <a:pt x="2487" y="33"/>
                  </a:lnTo>
                  <a:lnTo>
                    <a:pt x="2492" y="33"/>
                  </a:lnTo>
                  <a:lnTo>
                    <a:pt x="2503" y="33"/>
                  </a:lnTo>
                  <a:lnTo>
                    <a:pt x="2508" y="38"/>
                  </a:lnTo>
                  <a:lnTo>
                    <a:pt x="2508" y="44"/>
                  </a:lnTo>
                  <a:lnTo>
                    <a:pt x="2514" y="54"/>
                  </a:lnTo>
                  <a:lnTo>
                    <a:pt x="2514" y="60"/>
                  </a:lnTo>
                  <a:lnTo>
                    <a:pt x="2519" y="65"/>
                  </a:lnTo>
                  <a:lnTo>
                    <a:pt x="2525" y="65"/>
                  </a:lnTo>
                  <a:lnTo>
                    <a:pt x="2536" y="71"/>
                  </a:lnTo>
                  <a:lnTo>
                    <a:pt x="2546" y="71"/>
                  </a:lnTo>
                  <a:lnTo>
                    <a:pt x="2557" y="76"/>
                  </a:lnTo>
                  <a:lnTo>
                    <a:pt x="2563" y="76"/>
                  </a:lnTo>
                  <a:lnTo>
                    <a:pt x="2574" y="82"/>
                  </a:lnTo>
                  <a:lnTo>
                    <a:pt x="2585" y="82"/>
                  </a:lnTo>
                  <a:lnTo>
                    <a:pt x="2590" y="82"/>
                  </a:lnTo>
                  <a:lnTo>
                    <a:pt x="2601" y="87"/>
                  </a:lnTo>
                  <a:lnTo>
                    <a:pt x="2612" y="87"/>
                  </a:lnTo>
                  <a:lnTo>
                    <a:pt x="2617" y="93"/>
                  </a:lnTo>
                  <a:lnTo>
                    <a:pt x="2628" y="93"/>
                  </a:lnTo>
                  <a:lnTo>
                    <a:pt x="2634" y="98"/>
                  </a:lnTo>
                  <a:lnTo>
                    <a:pt x="2645" y="104"/>
                  </a:lnTo>
                  <a:lnTo>
                    <a:pt x="2650" y="104"/>
                  </a:lnTo>
                  <a:lnTo>
                    <a:pt x="2656" y="109"/>
                  </a:lnTo>
                  <a:lnTo>
                    <a:pt x="2661" y="114"/>
                  </a:lnTo>
                  <a:lnTo>
                    <a:pt x="2672" y="120"/>
                  </a:lnTo>
                  <a:lnTo>
                    <a:pt x="2677" y="120"/>
                  </a:lnTo>
                  <a:lnTo>
                    <a:pt x="2688" y="125"/>
                  </a:lnTo>
                  <a:lnTo>
                    <a:pt x="2699" y="125"/>
                  </a:lnTo>
                  <a:lnTo>
                    <a:pt x="2705" y="131"/>
                  </a:lnTo>
                  <a:lnTo>
                    <a:pt x="2705" y="136"/>
                  </a:lnTo>
                  <a:lnTo>
                    <a:pt x="2705" y="147"/>
                  </a:lnTo>
                  <a:lnTo>
                    <a:pt x="2705" y="153"/>
                  </a:lnTo>
                  <a:lnTo>
                    <a:pt x="2705" y="158"/>
                  </a:lnTo>
                  <a:lnTo>
                    <a:pt x="2710" y="163"/>
                  </a:lnTo>
                  <a:lnTo>
                    <a:pt x="2721" y="169"/>
                  </a:lnTo>
                  <a:lnTo>
                    <a:pt x="2726" y="169"/>
                  </a:lnTo>
                  <a:lnTo>
                    <a:pt x="2732" y="174"/>
                  </a:lnTo>
                  <a:lnTo>
                    <a:pt x="2737" y="180"/>
                  </a:lnTo>
                  <a:lnTo>
                    <a:pt x="2743" y="185"/>
                  </a:lnTo>
                  <a:lnTo>
                    <a:pt x="2748" y="191"/>
                  </a:lnTo>
                  <a:lnTo>
                    <a:pt x="2754" y="196"/>
                  </a:lnTo>
                  <a:lnTo>
                    <a:pt x="2765" y="196"/>
                  </a:lnTo>
                  <a:lnTo>
                    <a:pt x="2770" y="202"/>
                  </a:lnTo>
                  <a:lnTo>
                    <a:pt x="2781" y="207"/>
                  </a:lnTo>
                  <a:lnTo>
                    <a:pt x="2781" y="213"/>
                  </a:lnTo>
                  <a:lnTo>
                    <a:pt x="2786" y="218"/>
                  </a:lnTo>
                  <a:lnTo>
                    <a:pt x="2792" y="223"/>
                  </a:lnTo>
                  <a:lnTo>
                    <a:pt x="2797" y="229"/>
                  </a:lnTo>
                  <a:lnTo>
                    <a:pt x="2808" y="234"/>
                  </a:lnTo>
                  <a:lnTo>
                    <a:pt x="2814" y="234"/>
                  </a:lnTo>
                  <a:lnTo>
                    <a:pt x="2825" y="240"/>
                  </a:lnTo>
                  <a:lnTo>
                    <a:pt x="2835" y="240"/>
                  </a:lnTo>
                  <a:lnTo>
                    <a:pt x="2841" y="245"/>
                  </a:lnTo>
                  <a:lnTo>
                    <a:pt x="2841" y="251"/>
                  </a:lnTo>
                  <a:lnTo>
                    <a:pt x="2846" y="256"/>
                  </a:lnTo>
                  <a:lnTo>
                    <a:pt x="2852" y="262"/>
                  </a:lnTo>
                  <a:lnTo>
                    <a:pt x="2863" y="267"/>
                  </a:lnTo>
                  <a:lnTo>
                    <a:pt x="2868" y="272"/>
                  </a:lnTo>
                  <a:lnTo>
                    <a:pt x="2879" y="272"/>
                  </a:lnTo>
                  <a:lnTo>
                    <a:pt x="2885" y="278"/>
                  </a:lnTo>
                  <a:lnTo>
                    <a:pt x="2895" y="283"/>
                  </a:lnTo>
                  <a:lnTo>
                    <a:pt x="2901" y="289"/>
                  </a:lnTo>
                  <a:lnTo>
                    <a:pt x="2901" y="294"/>
                  </a:lnTo>
                  <a:lnTo>
                    <a:pt x="2912" y="294"/>
                  </a:lnTo>
                  <a:lnTo>
                    <a:pt x="2917" y="300"/>
                  </a:lnTo>
                  <a:lnTo>
                    <a:pt x="2923" y="305"/>
                  </a:lnTo>
                  <a:lnTo>
                    <a:pt x="2934" y="311"/>
                  </a:lnTo>
                  <a:lnTo>
                    <a:pt x="2939" y="311"/>
                  </a:lnTo>
                  <a:lnTo>
                    <a:pt x="2950" y="316"/>
                  </a:lnTo>
                  <a:lnTo>
                    <a:pt x="2950" y="322"/>
                  </a:lnTo>
                  <a:lnTo>
                    <a:pt x="2950" y="327"/>
                  </a:lnTo>
                  <a:lnTo>
                    <a:pt x="2950" y="332"/>
                  </a:lnTo>
                  <a:lnTo>
                    <a:pt x="2944" y="338"/>
                  </a:lnTo>
                  <a:lnTo>
                    <a:pt x="2939" y="343"/>
                  </a:lnTo>
                  <a:lnTo>
                    <a:pt x="2934" y="354"/>
                  </a:lnTo>
                  <a:lnTo>
                    <a:pt x="2928" y="360"/>
                  </a:lnTo>
                  <a:lnTo>
                    <a:pt x="2917" y="360"/>
                  </a:lnTo>
                  <a:lnTo>
                    <a:pt x="2906" y="354"/>
                  </a:lnTo>
                  <a:lnTo>
                    <a:pt x="2895" y="354"/>
                  </a:lnTo>
                  <a:lnTo>
                    <a:pt x="2890" y="349"/>
                  </a:lnTo>
                  <a:lnTo>
                    <a:pt x="2879" y="349"/>
                  </a:lnTo>
                  <a:lnTo>
                    <a:pt x="2868" y="343"/>
                  </a:lnTo>
                  <a:lnTo>
                    <a:pt x="2857" y="349"/>
                  </a:lnTo>
                  <a:lnTo>
                    <a:pt x="2852" y="349"/>
                  </a:lnTo>
                  <a:lnTo>
                    <a:pt x="2841" y="349"/>
                  </a:lnTo>
                  <a:lnTo>
                    <a:pt x="2830" y="354"/>
                  </a:lnTo>
                  <a:lnTo>
                    <a:pt x="2825" y="349"/>
                  </a:lnTo>
                  <a:lnTo>
                    <a:pt x="2814" y="349"/>
                  </a:lnTo>
                  <a:lnTo>
                    <a:pt x="2803" y="349"/>
                  </a:lnTo>
                  <a:lnTo>
                    <a:pt x="2792" y="343"/>
                  </a:lnTo>
                  <a:lnTo>
                    <a:pt x="2786" y="343"/>
                  </a:lnTo>
                  <a:lnTo>
                    <a:pt x="2775" y="338"/>
                  </a:lnTo>
                  <a:lnTo>
                    <a:pt x="2770" y="338"/>
                  </a:lnTo>
                  <a:lnTo>
                    <a:pt x="2759" y="338"/>
                  </a:lnTo>
                  <a:lnTo>
                    <a:pt x="2748" y="338"/>
                  </a:lnTo>
                  <a:lnTo>
                    <a:pt x="2737" y="338"/>
                  </a:lnTo>
                  <a:lnTo>
                    <a:pt x="2726" y="338"/>
                  </a:lnTo>
                  <a:lnTo>
                    <a:pt x="2715" y="338"/>
                  </a:lnTo>
                  <a:lnTo>
                    <a:pt x="2710" y="338"/>
                  </a:lnTo>
                  <a:lnTo>
                    <a:pt x="2699" y="332"/>
                  </a:lnTo>
                  <a:lnTo>
                    <a:pt x="2694" y="327"/>
                  </a:lnTo>
                  <a:lnTo>
                    <a:pt x="2688" y="322"/>
                  </a:lnTo>
                  <a:lnTo>
                    <a:pt x="2683" y="316"/>
                  </a:lnTo>
                  <a:lnTo>
                    <a:pt x="2677" y="316"/>
                  </a:lnTo>
                  <a:lnTo>
                    <a:pt x="2666" y="311"/>
                  </a:lnTo>
                  <a:lnTo>
                    <a:pt x="2661" y="311"/>
                  </a:lnTo>
                  <a:lnTo>
                    <a:pt x="2650" y="311"/>
                  </a:lnTo>
                  <a:lnTo>
                    <a:pt x="2639" y="316"/>
                  </a:lnTo>
                  <a:lnTo>
                    <a:pt x="2628" y="322"/>
                  </a:lnTo>
                  <a:lnTo>
                    <a:pt x="2634" y="322"/>
                  </a:lnTo>
                  <a:lnTo>
                    <a:pt x="2645" y="327"/>
                  </a:lnTo>
                  <a:lnTo>
                    <a:pt x="2650" y="332"/>
                  </a:lnTo>
                  <a:lnTo>
                    <a:pt x="2656" y="338"/>
                  </a:lnTo>
                  <a:lnTo>
                    <a:pt x="2656" y="343"/>
                  </a:lnTo>
                  <a:lnTo>
                    <a:pt x="2661" y="349"/>
                  </a:lnTo>
                  <a:lnTo>
                    <a:pt x="2666" y="360"/>
                  </a:lnTo>
                  <a:lnTo>
                    <a:pt x="2672" y="365"/>
                  </a:lnTo>
                  <a:lnTo>
                    <a:pt x="2677" y="365"/>
                  </a:lnTo>
                  <a:lnTo>
                    <a:pt x="2683" y="371"/>
                  </a:lnTo>
                  <a:lnTo>
                    <a:pt x="2694" y="376"/>
                  </a:lnTo>
                  <a:lnTo>
                    <a:pt x="2699" y="376"/>
                  </a:lnTo>
                  <a:lnTo>
                    <a:pt x="2710" y="381"/>
                  </a:lnTo>
                  <a:lnTo>
                    <a:pt x="2710" y="387"/>
                  </a:lnTo>
                  <a:lnTo>
                    <a:pt x="2715" y="392"/>
                  </a:lnTo>
                  <a:lnTo>
                    <a:pt x="2721" y="398"/>
                  </a:lnTo>
                  <a:lnTo>
                    <a:pt x="2726" y="403"/>
                  </a:lnTo>
                  <a:lnTo>
                    <a:pt x="2732" y="409"/>
                  </a:lnTo>
                  <a:lnTo>
                    <a:pt x="2737" y="414"/>
                  </a:lnTo>
                  <a:lnTo>
                    <a:pt x="2743" y="420"/>
                  </a:lnTo>
                  <a:lnTo>
                    <a:pt x="2743" y="431"/>
                  </a:lnTo>
                  <a:lnTo>
                    <a:pt x="2748" y="436"/>
                  </a:lnTo>
                  <a:lnTo>
                    <a:pt x="2748" y="441"/>
                  </a:lnTo>
                  <a:lnTo>
                    <a:pt x="2743" y="447"/>
                  </a:lnTo>
                  <a:lnTo>
                    <a:pt x="2737" y="452"/>
                  </a:lnTo>
                  <a:lnTo>
                    <a:pt x="2726" y="452"/>
                  </a:lnTo>
                  <a:lnTo>
                    <a:pt x="2715" y="458"/>
                  </a:lnTo>
                  <a:lnTo>
                    <a:pt x="2710" y="458"/>
                  </a:lnTo>
                  <a:lnTo>
                    <a:pt x="2705" y="463"/>
                  </a:lnTo>
                  <a:lnTo>
                    <a:pt x="2699" y="469"/>
                  </a:lnTo>
                  <a:lnTo>
                    <a:pt x="2699" y="480"/>
                  </a:lnTo>
                  <a:lnTo>
                    <a:pt x="2694" y="485"/>
                  </a:lnTo>
                  <a:lnTo>
                    <a:pt x="2694" y="490"/>
                  </a:lnTo>
                  <a:lnTo>
                    <a:pt x="2688" y="496"/>
                  </a:lnTo>
                  <a:lnTo>
                    <a:pt x="2688" y="501"/>
                  </a:lnTo>
                  <a:lnTo>
                    <a:pt x="2683" y="507"/>
                  </a:lnTo>
                  <a:lnTo>
                    <a:pt x="2683" y="512"/>
                  </a:lnTo>
                  <a:lnTo>
                    <a:pt x="2677" y="518"/>
                  </a:lnTo>
                  <a:lnTo>
                    <a:pt x="2672" y="523"/>
                  </a:lnTo>
                  <a:lnTo>
                    <a:pt x="2666" y="529"/>
                  </a:lnTo>
                  <a:lnTo>
                    <a:pt x="2656" y="534"/>
                  </a:lnTo>
                  <a:lnTo>
                    <a:pt x="2650" y="534"/>
                  </a:lnTo>
                  <a:lnTo>
                    <a:pt x="2639" y="540"/>
                  </a:lnTo>
                  <a:lnTo>
                    <a:pt x="2634" y="545"/>
                  </a:lnTo>
                  <a:lnTo>
                    <a:pt x="2628" y="550"/>
                  </a:lnTo>
                  <a:lnTo>
                    <a:pt x="2617" y="556"/>
                  </a:lnTo>
                  <a:lnTo>
                    <a:pt x="2612" y="556"/>
                  </a:lnTo>
                  <a:lnTo>
                    <a:pt x="2601" y="561"/>
                  </a:lnTo>
                  <a:lnTo>
                    <a:pt x="2596" y="556"/>
                  </a:lnTo>
                  <a:lnTo>
                    <a:pt x="2585" y="556"/>
                  </a:lnTo>
                  <a:lnTo>
                    <a:pt x="2574" y="556"/>
                  </a:lnTo>
                  <a:lnTo>
                    <a:pt x="2563" y="550"/>
                  </a:lnTo>
                  <a:lnTo>
                    <a:pt x="2557" y="550"/>
                  </a:lnTo>
                  <a:lnTo>
                    <a:pt x="2546" y="545"/>
                  </a:lnTo>
                  <a:lnTo>
                    <a:pt x="2541" y="540"/>
                  </a:lnTo>
                  <a:lnTo>
                    <a:pt x="2530" y="540"/>
                  </a:lnTo>
                  <a:lnTo>
                    <a:pt x="2525" y="534"/>
                  </a:lnTo>
                  <a:lnTo>
                    <a:pt x="2514" y="534"/>
                  </a:lnTo>
                  <a:lnTo>
                    <a:pt x="2508" y="529"/>
                  </a:lnTo>
                  <a:lnTo>
                    <a:pt x="2497" y="523"/>
                  </a:lnTo>
                  <a:lnTo>
                    <a:pt x="2492" y="523"/>
                  </a:lnTo>
                  <a:lnTo>
                    <a:pt x="2481" y="518"/>
                  </a:lnTo>
                  <a:lnTo>
                    <a:pt x="2470" y="518"/>
                  </a:lnTo>
                  <a:lnTo>
                    <a:pt x="2465" y="512"/>
                  </a:lnTo>
                  <a:lnTo>
                    <a:pt x="2459" y="507"/>
                  </a:lnTo>
                  <a:lnTo>
                    <a:pt x="2459" y="501"/>
                  </a:lnTo>
                  <a:lnTo>
                    <a:pt x="2465" y="496"/>
                  </a:lnTo>
                  <a:lnTo>
                    <a:pt x="2465" y="485"/>
                  </a:lnTo>
                  <a:lnTo>
                    <a:pt x="2465" y="480"/>
                  </a:lnTo>
                  <a:lnTo>
                    <a:pt x="2459" y="474"/>
                  </a:lnTo>
                  <a:lnTo>
                    <a:pt x="2448" y="469"/>
                  </a:lnTo>
                  <a:lnTo>
                    <a:pt x="2443" y="469"/>
                  </a:lnTo>
                  <a:lnTo>
                    <a:pt x="2432" y="474"/>
                  </a:lnTo>
                  <a:lnTo>
                    <a:pt x="2421" y="480"/>
                  </a:lnTo>
                  <a:lnTo>
                    <a:pt x="2416" y="485"/>
                  </a:lnTo>
                  <a:lnTo>
                    <a:pt x="2410" y="485"/>
                  </a:lnTo>
                  <a:lnTo>
                    <a:pt x="2399" y="490"/>
                  </a:lnTo>
                  <a:lnTo>
                    <a:pt x="2388" y="490"/>
                  </a:lnTo>
                  <a:lnTo>
                    <a:pt x="2383" y="490"/>
                  </a:lnTo>
                  <a:lnTo>
                    <a:pt x="2372" y="496"/>
                  </a:lnTo>
                  <a:lnTo>
                    <a:pt x="2361" y="496"/>
                  </a:lnTo>
                  <a:lnTo>
                    <a:pt x="2350" y="496"/>
                  </a:lnTo>
                  <a:lnTo>
                    <a:pt x="2345" y="496"/>
                  </a:lnTo>
                  <a:lnTo>
                    <a:pt x="2334" y="496"/>
                  </a:lnTo>
                  <a:lnTo>
                    <a:pt x="2323" y="501"/>
                  </a:lnTo>
                  <a:lnTo>
                    <a:pt x="2312" y="501"/>
                  </a:lnTo>
                  <a:lnTo>
                    <a:pt x="2301" y="501"/>
                  </a:lnTo>
                  <a:lnTo>
                    <a:pt x="2296" y="501"/>
                  </a:lnTo>
                  <a:lnTo>
                    <a:pt x="2285" y="507"/>
                  </a:lnTo>
                  <a:lnTo>
                    <a:pt x="2279" y="512"/>
                  </a:lnTo>
                  <a:lnTo>
                    <a:pt x="2274" y="518"/>
                  </a:lnTo>
                  <a:lnTo>
                    <a:pt x="2268" y="523"/>
                  </a:lnTo>
                  <a:lnTo>
                    <a:pt x="2258" y="523"/>
                  </a:lnTo>
                  <a:lnTo>
                    <a:pt x="2252" y="529"/>
                  </a:lnTo>
                  <a:lnTo>
                    <a:pt x="2241" y="529"/>
                  </a:lnTo>
                  <a:lnTo>
                    <a:pt x="2236" y="534"/>
                  </a:lnTo>
                  <a:lnTo>
                    <a:pt x="2230" y="540"/>
                  </a:lnTo>
                  <a:lnTo>
                    <a:pt x="2225" y="545"/>
                  </a:lnTo>
                  <a:lnTo>
                    <a:pt x="2225" y="540"/>
                  </a:lnTo>
                  <a:lnTo>
                    <a:pt x="2230" y="534"/>
                  </a:lnTo>
                  <a:lnTo>
                    <a:pt x="2236" y="529"/>
                  </a:lnTo>
                  <a:lnTo>
                    <a:pt x="2241" y="523"/>
                  </a:lnTo>
                  <a:lnTo>
                    <a:pt x="2241" y="518"/>
                  </a:lnTo>
                  <a:lnTo>
                    <a:pt x="2241" y="512"/>
                  </a:lnTo>
                  <a:lnTo>
                    <a:pt x="2236" y="507"/>
                  </a:lnTo>
                  <a:lnTo>
                    <a:pt x="2225" y="501"/>
                  </a:lnTo>
                  <a:lnTo>
                    <a:pt x="2214" y="501"/>
                  </a:lnTo>
                  <a:lnTo>
                    <a:pt x="2208" y="501"/>
                  </a:lnTo>
                  <a:lnTo>
                    <a:pt x="2198" y="501"/>
                  </a:lnTo>
                  <a:lnTo>
                    <a:pt x="2187" y="507"/>
                  </a:lnTo>
                  <a:lnTo>
                    <a:pt x="2181" y="512"/>
                  </a:lnTo>
                  <a:lnTo>
                    <a:pt x="2176" y="518"/>
                  </a:lnTo>
                  <a:lnTo>
                    <a:pt x="2176" y="523"/>
                  </a:lnTo>
                  <a:lnTo>
                    <a:pt x="2176" y="529"/>
                  </a:lnTo>
                  <a:lnTo>
                    <a:pt x="2176" y="534"/>
                  </a:lnTo>
                  <a:lnTo>
                    <a:pt x="2176" y="540"/>
                  </a:lnTo>
                  <a:lnTo>
                    <a:pt x="2176" y="550"/>
                  </a:lnTo>
                  <a:lnTo>
                    <a:pt x="2170" y="556"/>
                  </a:lnTo>
                  <a:lnTo>
                    <a:pt x="2170" y="561"/>
                  </a:lnTo>
                  <a:lnTo>
                    <a:pt x="2170" y="567"/>
                  </a:lnTo>
                  <a:lnTo>
                    <a:pt x="2165" y="572"/>
                  </a:lnTo>
                  <a:lnTo>
                    <a:pt x="2165" y="578"/>
                  </a:lnTo>
                  <a:lnTo>
                    <a:pt x="2165" y="583"/>
                  </a:lnTo>
                  <a:lnTo>
                    <a:pt x="2159" y="594"/>
                  </a:lnTo>
                  <a:lnTo>
                    <a:pt x="2159" y="599"/>
                  </a:lnTo>
                  <a:lnTo>
                    <a:pt x="2154" y="605"/>
                  </a:lnTo>
                  <a:lnTo>
                    <a:pt x="2154" y="610"/>
                  </a:lnTo>
                  <a:lnTo>
                    <a:pt x="2154" y="616"/>
                  </a:lnTo>
                  <a:lnTo>
                    <a:pt x="2148" y="621"/>
                  </a:lnTo>
                  <a:lnTo>
                    <a:pt x="2148" y="627"/>
                  </a:lnTo>
                  <a:lnTo>
                    <a:pt x="2143" y="638"/>
                  </a:lnTo>
                  <a:lnTo>
                    <a:pt x="2143" y="643"/>
                  </a:lnTo>
                  <a:lnTo>
                    <a:pt x="2143" y="649"/>
                  </a:lnTo>
                  <a:lnTo>
                    <a:pt x="2138" y="654"/>
                  </a:lnTo>
                  <a:lnTo>
                    <a:pt x="2138" y="659"/>
                  </a:lnTo>
                  <a:lnTo>
                    <a:pt x="2132" y="665"/>
                  </a:lnTo>
                  <a:lnTo>
                    <a:pt x="2132" y="670"/>
                  </a:lnTo>
                  <a:lnTo>
                    <a:pt x="2132" y="676"/>
                  </a:lnTo>
                  <a:lnTo>
                    <a:pt x="2127" y="687"/>
                  </a:lnTo>
                  <a:lnTo>
                    <a:pt x="2127" y="692"/>
                  </a:lnTo>
                  <a:lnTo>
                    <a:pt x="2127" y="698"/>
                  </a:lnTo>
                  <a:lnTo>
                    <a:pt x="2121" y="703"/>
                  </a:lnTo>
                  <a:lnTo>
                    <a:pt x="2116" y="708"/>
                  </a:lnTo>
                  <a:lnTo>
                    <a:pt x="2116" y="714"/>
                  </a:lnTo>
                  <a:lnTo>
                    <a:pt x="2110" y="719"/>
                  </a:lnTo>
                  <a:lnTo>
                    <a:pt x="2105" y="725"/>
                  </a:lnTo>
                  <a:lnTo>
                    <a:pt x="2099" y="730"/>
                  </a:lnTo>
                  <a:lnTo>
                    <a:pt x="2094" y="736"/>
                  </a:lnTo>
                  <a:lnTo>
                    <a:pt x="2094" y="741"/>
                  </a:lnTo>
                  <a:lnTo>
                    <a:pt x="2099" y="747"/>
                  </a:lnTo>
                  <a:lnTo>
                    <a:pt x="2105" y="758"/>
                  </a:lnTo>
                  <a:lnTo>
                    <a:pt x="2105" y="763"/>
                  </a:lnTo>
                  <a:lnTo>
                    <a:pt x="2105" y="768"/>
                  </a:lnTo>
                  <a:lnTo>
                    <a:pt x="2099" y="774"/>
                  </a:lnTo>
                  <a:lnTo>
                    <a:pt x="2088" y="774"/>
                  </a:lnTo>
                  <a:lnTo>
                    <a:pt x="2083" y="774"/>
                  </a:lnTo>
                  <a:lnTo>
                    <a:pt x="2072" y="774"/>
                  </a:lnTo>
                  <a:lnTo>
                    <a:pt x="2061" y="774"/>
                  </a:lnTo>
                  <a:lnTo>
                    <a:pt x="2050" y="774"/>
                  </a:lnTo>
                  <a:lnTo>
                    <a:pt x="2039" y="774"/>
                  </a:lnTo>
                  <a:lnTo>
                    <a:pt x="2029" y="768"/>
                  </a:lnTo>
                  <a:lnTo>
                    <a:pt x="2023" y="768"/>
                  </a:lnTo>
                  <a:lnTo>
                    <a:pt x="2012" y="768"/>
                  </a:lnTo>
                  <a:lnTo>
                    <a:pt x="2001" y="768"/>
                  </a:lnTo>
                  <a:lnTo>
                    <a:pt x="1990" y="763"/>
                  </a:lnTo>
                  <a:lnTo>
                    <a:pt x="1985" y="763"/>
                  </a:lnTo>
                  <a:lnTo>
                    <a:pt x="1974" y="763"/>
                  </a:lnTo>
                  <a:lnTo>
                    <a:pt x="1963" y="763"/>
                  </a:lnTo>
                  <a:lnTo>
                    <a:pt x="1952" y="758"/>
                  </a:lnTo>
                  <a:lnTo>
                    <a:pt x="1947" y="758"/>
                  </a:lnTo>
                  <a:lnTo>
                    <a:pt x="1936" y="758"/>
                  </a:lnTo>
                  <a:lnTo>
                    <a:pt x="1925" y="758"/>
                  </a:lnTo>
                  <a:lnTo>
                    <a:pt x="1914" y="763"/>
                  </a:lnTo>
                  <a:lnTo>
                    <a:pt x="1909" y="763"/>
                  </a:lnTo>
                  <a:lnTo>
                    <a:pt x="1898" y="768"/>
                  </a:lnTo>
                  <a:lnTo>
                    <a:pt x="1892" y="768"/>
                  </a:lnTo>
                  <a:lnTo>
                    <a:pt x="1887" y="774"/>
                  </a:lnTo>
                  <a:lnTo>
                    <a:pt x="1881" y="779"/>
                  </a:lnTo>
                  <a:lnTo>
                    <a:pt x="1881" y="790"/>
                  </a:lnTo>
                  <a:lnTo>
                    <a:pt x="1876" y="796"/>
                  </a:lnTo>
                  <a:lnTo>
                    <a:pt x="1876" y="801"/>
                  </a:lnTo>
                  <a:lnTo>
                    <a:pt x="1870" y="807"/>
                  </a:lnTo>
                  <a:lnTo>
                    <a:pt x="1865" y="812"/>
                  </a:lnTo>
                  <a:lnTo>
                    <a:pt x="1859" y="817"/>
                  </a:lnTo>
                  <a:lnTo>
                    <a:pt x="1859" y="823"/>
                  </a:lnTo>
                  <a:lnTo>
                    <a:pt x="1854" y="828"/>
                  </a:lnTo>
                  <a:lnTo>
                    <a:pt x="1849" y="839"/>
                  </a:lnTo>
                  <a:lnTo>
                    <a:pt x="1843" y="834"/>
                  </a:lnTo>
                  <a:lnTo>
                    <a:pt x="1843" y="828"/>
                  </a:lnTo>
                  <a:lnTo>
                    <a:pt x="1843" y="823"/>
                  </a:lnTo>
                  <a:lnTo>
                    <a:pt x="1843" y="812"/>
                  </a:lnTo>
                  <a:lnTo>
                    <a:pt x="1838" y="807"/>
                  </a:lnTo>
                  <a:lnTo>
                    <a:pt x="1838" y="801"/>
                  </a:lnTo>
                  <a:lnTo>
                    <a:pt x="1838" y="796"/>
                  </a:lnTo>
                  <a:lnTo>
                    <a:pt x="1832" y="790"/>
                  </a:lnTo>
                  <a:lnTo>
                    <a:pt x="1832" y="785"/>
                  </a:lnTo>
                  <a:lnTo>
                    <a:pt x="1832" y="779"/>
                  </a:lnTo>
                  <a:lnTo>
                    <a:pt x="1838" y="774"/>
                  </a:lnTo>
                  <a:lnTo>
                    <a:pt x="1838" y="763"/>
                  </a:lnTo>
                  <a:lnTo>
                    <a:pt x="1838" y="758"/>
                  </a:lnTo>
                  <a:lnTo>
                    <a:pt x="1843" y="752"/>
                  </a:lnTo>
                  <a:lnTo>
                    <a:pt x="1849" y="747"/>
                  </a:lnTo>
                  <a:lnTo>
                    <a:pt x="1849" y="741"/>
                  </a:lnTo>
                  <a:lnTo>
                    <a:pt x="1854" y="736"/>
                  </a:lnTo>
                  <a:lnTo>
                    <a:pt x="1854" y="730"/>
                  </a:lnTo>
                  <a:lnTo>
                    <a:pt x="1854" y="725"/>
                  </a:lnTo>
                  <a:lnTo>
                    <a:pt x="1854" y="719"/>
                  </a:lnTo>
                  <a:lnTo>
                    <a:pt x="1854" y="708"/>
                  </a:lnTo>
                  <a:lnTo>
                    <a:pt x="1854" y="703"/>
                  </a:lnTo>
                  <a:lnTo>
                    <a:pt x="1849" y="698"/>
                  </a:lnTo>
                  <a:lnTo>
                    <a:pt x="1849" y="692"/>
                  </a:lnTo>
                  <a:lnTo>
                    <a:pt x="1843" y="692"/>
                  </a:lnTo>
                  <a:lnTo>
                    <a:pt x="1832" y="692"/>
                  </a:lnTo>
                  <a:lnTo>
                    <a:pt x="1821" y="698"/>
                  </a:lnTo>
                  <a:lnTo>
                    <a:pt x="1816" y="703"/>
                  </a:lnTo>
                  <a:lnTo>
                    <a:pt x="1810" y="708"/>
                  </a:lnTo>
                  <a:lnTo>
                    <a:pt x="1805" y="714"/>
                  </a:lnTo>
                  <a:lnTo>
                    <a:pt x="1805" y="719"/>
                  </a:lnTo>
                  <a:lnTo>
                    <a:pt x="1800" y="730"/>
                  </a:lnTo>
                  <a:lnTo>
                    <a:pt x="1794" y="736"/>
                  </a:lnTo>
                  <a:lnTo>
                    <a:pt x="1794" y="741"/>
                  </a:lnTo>
                  <a:lnTo>
                    <a:pt x="1794" y="747"/>
                  </a:lnTo>
                  <a:lnTo>
                    <a:pt x="1794" y="752"/>
                  </a:lnTo>
                  <a:lnTo>
                    <a:pt x="1794" y="758"/>
                  </a:lnTo>
                  <a:lnTo>
                    <a:pt x="1789" y="763"/>
                  </a:lnTo>
                  <a:lnTo>
                    <a:pt x="1789" y="774"/>
                  </a:lnTo>
                  <a:lnTo>
                    <a:pt x="1789" y="779"/>
                  </a:lnTo>
                  <a:lnTo>
                    <a:pt x="1789" y="785"/>
                  </a:lnTo>
                  <a:lnTo>
                    <a:pt x="1789" y="790"/>
                  </a:lnTo>
                  <a:lnTo>
                    <a:pt x="1789" y="796"/>
                  </a:lnTo>
                  <a:lnTo>
                    <a:pt x="1783" y="801"/>
                  </a:lnTo>
                  <a:lnTo>
                    <a:pt x="1783" y="812"/>
                  </a:lnTo>
                  <a:lnTo>
                    <a:pt x="1783" y="817"/>
                  </a:lnTo>
                  <a:lnTo>
                    <a:pt x="1778" y="823"/>
                  </a:lnTo>
                  <a:lnTo>
                    <a:pt x="1778" y="828"/>
                  </a:lnTo>
                  <a:lnTo>
                    <a:pt x="1778" y="834"/>
                  </a:lnTo>
                  <a:lnTo>
                    <a:pt x="1772" y="839"/>
                  </a:lnTo>
                  <a:lnTo>
                    <a:pt x="1772" y="845"/>
                  </a:lnTo>
                  <a:lnTo>
                    <a:pt x="1772" y="856"/>
                  </a:lnTo>
                  <a:lnTo>
                    <a:pt x="1772" y="861"/>
                  </a:lnTo>
                  <a:lnTo>
                    <a:pt x="1772" y="867"/>
                  </a:lnTo>
                  <a:lnTo>
                    <a:pt x="1772" y="872"/>
                  </a:lnTo>
                  <a:lnTo>
                    <a:pt x="1772" y="877"/>
                  </a:lnTo>
                  <a:lnTo>
                    <a:pt x="1772" y="883"/>
                  </a:lnTo>
                  <a:lnTo>
                    <a:pt x="1772" y="894"/>
                  </a:lnTo>
                  <a:lnTo>
                    <a:pt x="1772" y="899"/>
                  </a:lnTo>
                  <a:lnTo>
                    <a:pt x="1772" y="905"/>
                  </a:lnTo>
                  <a:lnTo>
                    <a:pt x="1772" y="910"/>
                  </a:lnTo>
                  <a:lnTo>
                    <a:pt x="1772" y="916"/>
                  </a:lnTo>
                  <a:lnTo>
                    <a:pt x="1772" y="921"/>
                  </a:lnTo>
                  <a:lnTo>
                    <a:pt x="1772" y="932"/>
                  </a:lnTo>
                  <a:lnTo>
                    <a:pt x="1767" y="937"/>
                  </a:lnTo>
                  <a:lnTo>
                    <a:pt x="1767" y="943"/>
                  </a:lnTo>
                  <a:lnTo>
                    <a:pt x="1767" y="948"/>
                  </a:lnTo>
                  <a:lnTo>
                    <a:pt x="1767" y="954"/>
                  </a:lnTo>
                  <a:lnTo>
                    <a:pt x="1767" y="959"/>
                  </a:lnTo>
                  <a:lnTo>
                    <a:pt x="1772" y="965"/>
                  </a:lnTo>
                  <a:lnTo>
                    <a:pt x="1772" y="976"/>
                  </a:lnTo>
                  <a:lnTo>
                    <a:pt x="1772" y="981"/>
                  </a:lnTo>
                  <a:lnTo>
                    <a:pt x="1767" y="986"/>
                  </a:lnTo>
                  <a:lnTo>
                    <a:pt x="1767" y="992"/>
                  </a:lnTo>
                  <a:lnTo>
                    <a:pt x="1767" y="1003"/>
                  </a:lnTo>
                  <a:lnTo>
                    <a:pt x="1761" y="1008"/>
                  </a:lnTo>
                  <a:lnTo>
                    <a:pt x="1756" y="1014"/>
                  </a:lnTo>
                  <a:lnTo>
                    <a:pt x="1750" y="1014"/>
                  </a:lnTo>
                  <a:lnTo>
                    <a:pt x="1745" y="1014"/>
                  </a:lnTo>
                  <a:lnTo>
                    <a:pt x="1734" y="1008"/>
                  </a:lnTo>
                  <a:lnTo>
                    <a:pt x="1729" y="1003"/>
                  </a:lnTo>
                  <a:lnTo>
                    <a:pt x="1718" y="1003"/>
                  </a:lnTo>
                  <a:lnTo>
                    <a:pt x="1712" y="1003"/>
                  </a:lnTo>
                  <a:lnTo>
                    <a:pt x="1701" y="1003"/>
                  </a:lnTo>
                  <a:lnTo>
                    <a:pt x="1696" y="1008"/>
                  </a:lnTo>
                  <a:lnTo>
                    <a:pt x="1685" y="1014"/>
                  </a:lnTo>
                  <a:lnTo>
                    <a:pt x="1680" y="1019"/>
                  </a:lnTo>
                  <a:lnTo>
                    <a:pt x="1674" y="1025"/>
                  </a:lnTo>
                  <a:lnTo>
                    <a:pt x="1669" y="1030"/>
                  </a:lnTo>
                  <a:lnTo>
                    <a:pt x="1658" y="1030"/>
                  </a:lnTo>
                  <a:lnTo>
                    <a:pt x="1647" y="1036"/>
                  </a:lnTo>
                  <a:lnTo>
                    <a:pt x="1641" y="1041"/>
                  </a:lnTo>
                  <a:lnTo>
                    <a:pt x="1636" y="1041"/>
                  </a:lnTo>
                  <a:lnTo>
                    <a:pt x="1625" y="1046"/>
                  </a:lnTo>
                  <a:lnTo>
                    <a:pt x="1625" y="1052"/>
                  </a:lnTo>
                  <a:lnTo>
                    <a:pt x="1620" y="1063"/>
                  </a:lnTo>
                  <a:lnTo>
                    <a:pt x="1614" y="1068"/>
                  </a:lnTo>
                  <a:lnTo>
                    <a:pt x="1609" y="1074"/>
                  </a:lnTo>
                  <a:lnTo>
                    <a:pt x="1598" y="1074"/>
                  </a:lnTo>
                  <a:lnTo>
                    <a:pt x="1592" y="1079"/>
                  </a:lnTo>
                  <a:lnTo>
                    <a:pt x="1587" y="1074"/>
                  </a:lnTo>
                  <a:lnTo>
                    <a:pt x="1581" y="1068"/>
                  </a:lnTo>
                  <a:lnTo>
                    <a:pt x="1576" y="1063"/>
                  </a:lnTo>
                  <a:lnTo>
                    <a:pt x="1571" y="1057"/>
                  </a:lnTo>
                  <a:lnTo>
                    <a:pt x="1565" y="1052"/>
                  </a:lnTo>
                  <a:lnTo>
                    <a:pt x="1560" y="1046"/>
                  </a:lnTo>
                  <a:lnTo>
                    <a:pt x="1554" y="1041"/>
                  </a:lnTo>
                  <a:lnTo>
                    <a:pt x="1543" y="1036"/>
                  </a:lnTo>
                  <a:lnTo>
                    <a:pt x="1538" y="1030"/>
                  </a:lnTo>
                  <a:lnTo>
                    <a:pt x="1532" y="1025"/>
                  </a:lnTo>
                  <a:lnTo>
                    <a:pt x="1527" y="1019"/>
                  </a:lnTo>
                  <a:lnTo>
                    <a:pt x="1516" y="1019"/>
                  </a:lnTo>
                  <a:lnTo>
                    <a:pt x="1511" y="1014"/>
                  </a:lnTo>
                  <a:lnTo>
                    <a:pt x="1505" y="1008"/>
                  </a:lnTo>
                  <a:lnTo>
                    <a:pt x="1500" y="1003"/>
                  </a:lnTo>
                  <a:lnTo>
                    <a:pt x="1494" y="997"/>
                  </a:lnTo>
                  <a:lnTo>
                    <a:pt x="1489" y="992"/>
                  </a:lnTo>
                  <a:lnTo>
                    <a:pt x="1478" y="986"/>
                  </a:lnTo>
                  <a:lnTo>
                    <a:pt x="1472" y="986"/>
                  </a:lnTo>
                  <a:lnTo>
                    <a:pt x="1467" y="981"/>
                  </a:lnTo>
                  <a:lnTo>
                    <a:pt x="1461" y="976"/>
                  </a:lnTo>
                  <a:lnTo>
                    <a:pt x="1456" y="970"/>
                  </a:lnTo>
                  <a:lnTo>
                    <a:pt x="1456" y="965"/>
                  </a:lnTo>
                  <a:lnTo>
                    <a:pt x="1456" y="954"/>
                  </a:lnTo>
                  <a:lnTo>
                    <a:pt x="1456" y="948"/>
                  </a:lnTo>
                  <a:lnTo>
                    <a:pt x="1456" y="943"/>
                  </a:lnTo>
                  <a:lnTo>
                    <a:pt x="1461" y="937"/>
                  </a:lnTo>
                  <a:lnTo>
                    <a:pt x="1467" y="932"/>
                  </a:lnTo>
                  <a:lnTo>
                    <a:pt x="1467" y="927"/>
                  </a:lnTo>
                  <a:lnTo>
                    <a:pt x="1467" y="921"/>
                  </a:lnTo>
                  <a:lnTo>
                    <a:pt x="1461" y="916"/>
                  </a:lnTo>
                  <a:lnTo>
                    <a:pt x="1456" y="910"/>
                  </a:lnTo>
                  <a:lnTo>
                    <a:pt x="1451" y="905"/>
                  </a:lnTo>
                  <a:lnTo>
                    <a:pt x="1440" y="899"/>
                  </a:lnTo>
                  <a:lnTo>
                    <a:pt x="1434" y="894"/>
                  </a:lnTo>
                  <a:lnTo>
                    <a:pt x="1429" y="899"/>
                  </a:lnTo>
                  <a:lnTo>
                    <a:pt x="1429" y="905"/>
                  </a:lnTo>
                  <a:lnTo>
                    <a:pt x="1423" y="910"/>
                  </a:lnTo>
                  <a:lnTo>
                    <a:pt x="1418" y="916"/>
                  </a:lnTo>
                  <a:lnTo>
                    <a:pt x="1412" y="921"/>
                  </a:lnTo>
                  <a:lnTo>
                    <a:pt x="1412" y="927"/>
                  </a:lnTo>
                  <a:lnTo>
                    <a:pt x="1407" y="932"/>
                  </a:lnTo>
                  <a:lnTo>
                    <a:pt x="1401" y="937"/>
                  </a:lnTo>
                  <a:lnTo>
                    <a:pt x="1396" y="943"/>
                  </a:lnTo>
                  <a:lnTo>
                    <a:pt x="1391" y="948"/>
                  </a:lnTo>
                  <a:lnTo>
                    <a:pt x="1385" y="954"/>
                  </a:lnTo>
                  <a:lnTo>
                    <a:pt x="1391" y="959"/>
                  </a:lnTo>
                  <a:lnTo>
                    <a:pt x="1396" y="965"/>
                  </a:lnTo>
                  <a:lnTo>
                    <a:pt x="1407" y="970"/>
                  </a:lnTo>
                  <a:lnTo>
                    <a:pt x="1412" y="970"/>
                  </a:lnTo>
                  <a:lnTo>
                    <a:pt x="1418" y="976"/>
                  </a:lnTo>
                  <a:lnTo>
                    <a:pt x="1423" y="986"/>
                  </a:lnTo>
                  <a:lnTo>
                    <a:pt x="1423" y="992"/>
                  </a:lnTo>
                  <a:lnTo>
                    <a:pt x="1429" y="997"/>
                  </a:lnTo>
                  <a:lnTo>
                    <a:pt x="1429" y="1003"/>
                  </a:lnTo>
                  <a:lnTo>
                    <a:pt x="1434" y="1008"/>
                  </a:lnTo>
                  <a:lnTo>
                    <a:pt x="1440" y="1014"/>
                  </a:lnTo>
                  <a:lnTo>
                    <a:pt x="1445" y="1019"/>
                  </a:lnTo>
                  <a:lnTo>
                    <a:pt x="1451" y="1025"/>
                  </a:lnTo>
                  <a:lnTo>
                    <a:pt x="1451" y="1030"/>
                  </a:lnTo>
                  <a:lnTo>
                    <a:pt x="1451" y="1036"/>
                  </a:lnTo>
                  <a:lnTo>
                    <a:pt x="1451" y="1041"/>
                  </a:lnTo>
                  <a:lnTo>
                    <a:pt x="1456" y="1052"/>
                  </a:lnTo>
                  <a:lnTo>
                    <a:pt x="1456" y="1057"/>
                  </a:lnTo>
                  <a:lnTo>
                    <a:pt x="1461" y="1063"/>
                  </a:lnTo>
                  <a:lnTo>
                    <a:pt x="1467" y="1068"/>
                  </a:lnTo>
                  <a:lnTo>
                    <a:pt x="1472" y="1074"/>
                  </a:lnTo>
                  <a:lnTo>
                    <a:pt x="1472" y="1079"/>
                  </a:lnTo>
                  <a:lnTo>
                    <a:pt x="1478" y="1085"/>
                  </a:lnTo>
                  <a:lnTo>
                    <a:pt x="1483" y="1090"/>
                  </a:lnTo>
                  <a:lnTo>
                    <a:pt x="1483" y="1095"/>
                  </a:lnTo>
                  <a:lnTo>
                    <a:pt x="1489" y="1101"/>
                  </a:lnTo>
                  <a:lnTo>
                    <a:pt x="1494" y="1106"/>
                  </a:lnTo>
                  <a:lnTo>
                    <a:pt x="1500" y="1112"/>
                  </a:lnTo>
                  <a:lnTo>
                    <a:pt x="1505" y="1117"/>
                  </a:lnTo>
                  <a:lnTo>
                    <a:pt x="1505" y="1123"/>
                  </a:lnTo>
                  <a:lnTo>
                    <a:pt x="1511" y="1128"/>
                  </a:lnTo>
                  <a:lnTo>
                    <a:pt x="1511" y="1139"/>
                  </a:lnTo>
                  <a:lnTo>
                    <a:pt x="1511" y="1145"/>
                  </a:lnTo>
                  <a:lnTo>
                    <a:pt x="1511" y="1150"/>
                  </a:lnTo>
                  <a:lnTo>
                    <a:pt x="1516" y="1155"/>
                  </a:lnTo>
                  <a:lnTo>
                    <a:pt x="1521" y="1161"/>
                  </a:lnTo>
                  <a:lnTo>
                    <a:pt x="1527" y="1166"/>
                  </a:lnTo>
                  <a:lnTo>
                    <a:pt x="1532" y="1172"/>
                  </a:lnTo>
                  <a:lnTo>
                    <a:pt x="1532" y="1177"/>
                  </a:lnTo>
                  <a:lnTo>
                    <a:pt x="1538" y="1183"/>
                  </a:lnTo>
                  <a:lnTo>
                    <a:pt x="1543" y="1188"/>
                  </a:lnTo>
                  <a:lnTo>
                    <a:pt x="1543" y="1194"/>
                  </a:lnTo>
                  <a:lnTo>
                    <a:pt x="1549" y="1199"/>
                  </a:lnTo>
                  <a:lnTo>
                    <a:pt x="1554" y="1204"/>
                  </a:lnTo>
                  <a:lnTo>
                    <a:pt x="1560" y="1210"/>
                  </a:lnTo>
                  <a:lnTo>
                    <a:pt x="1560" y="1221"/>
                  </a:lnTo>
                  <a:lnTo>
                    <a:pt x="1554" y="1226"/>
                  </a:lnTo>
                  <a:lnTo>
                    <a:pt x="1549" y="1232"/>
                  </a:lnTo>
                  <a:lnTo>
                    <a:pt x="1543" y="1237"/>
                  </a:lnTo>
                  <a:lnTo>
                    <a:pt x="1538" y="1237"/>
                  </a:lnTo>
                  <a:lnTo>
                    <a:pt x="1532" y="1243"/>
                  </a:lnTo>
                  <a:lnTo>
                    <a:pt x="1521" y="1248"/>
                  </a:lnTo>
                  <a:lnTo>
                    <a:pt x="1516" y="1254"/>
                  </a:lnTo>
                  <a:lnTo>
                    <a:pt x="1511" y="1259"/>
                  </a:lnTo>
                  <a:lnTo>
                    <a:pt x="1505" y="1264"/>
                  </a:lnTo>
                  <a:lnTo>
                    <a:pt x="1494" y="1264"/>
                  </a:lnTo>
                  <a:lnTo>
                    <a:pt x="1489" y="1270"/>
                  </a:lnTo>
                  <a:lnTo>
                    <a:pt x="1478" y="1275"/>
                  </a:lnTo>
                  <a:lnTo>
                    <a:pt x="1472" y="1275"/>
                  </a:lnTo>
                  <a:lnTo>
                    <a:pt x="1461" y="1275"/>
                  </a:lnTo>
                  <a:lnTo>
                    <a:pt x="1451" y="1281"/>
                  </a:lnTo>
                  <a:lnTo>
                    <a:pt x="1440" y="1281"/>
                  </a:lnTo>
                  <a:lnTo>
                    <a:pt x="1434" y="1281"/>
                  </a:lnTo>
                  <a:lnTo>
                    <a:pt x="1423" y="1281"/>
                  </a:lnTo>
                  <a:lnTo>
                    <a:pt x="1412" y="1281"/>
                  </a:lnTo>
                  <a:lnTo>
                    <a:pt x="1401" y="1281"/>
                  </a:lnTo>
                  <a:lnTo>
                    <a:pt x="1391" y="1281"/>
                  </a:lnTo>
                  <a:lnTo>
                    <a:pt x="1380" y="1286"/>
                  </a:lnTo>
                  <a:lnTo>
                    <a:pt x="1374" y="1286"/>
                  </a:lnTo>
                  <a:lnTo>
                    <a:pt x="1369" y="1292"/>
                  </a:lnTo>
                  <a:lnTo>
                    <a:pt x="1363" y="1297"/>
                  </a:lnTo>
                  <a:lnTo>
                    <a:pt x="1358" y="1303"/>
                  </a:lnTo>
                  <a:lnTo>
                    <a:pt x="1358" y="1308"/>
                  </a:lnTo>
                  <a:lnTo>
                    <a:pt x="1358" y="1313"/>
                  </a:lnTo>
                  <a:lnTo>
                    <a:pt x="1352" y="1319"/>
                  </a:lnTo>
                  <a:lnTo>
                    <a:pt x="1352" y="1324"/>
                  </a:lnTo>
                  <a:lnTo>
                    <a:pt x="1352" y="1335"/>
                  </a:lnTo>
                  <a:lnTo>
                    <a:pt x="1347" y="1341"/>
                  </a:lnTo>
                  <a:lnTo>
                    <a:pt x="1347" y="1346"/>
                  </a:lnTo>
                  <a:lnTo>
                    <a:pt x="1347" y="1357"/>
                  </a:lnTo>
                  <a:lnTo>
                    <a:pt x="1342" y="1363"/>
                  </a:lnTo>
                  <a:lnTo>
                    <a:pt x="1342" y="1368"/>
                  </a:lnTo>
                  <a:lnTo>
                    <a:pt x="1336" y="1368"/>
                  </a:lnTo>
                  <a:lnTo>
                    <a:pt x="1331" y="1363"/>
                  </a:lnTo>
                  <a:lnTo>
                    <a:pt x="1320" y="1357"/>
                  </a:lnTo>
                  <a:lnTo>
                    <a:pt x="1314" y="1352"/>
                  </a:lnTo>
                  <a:lnTo>
                    <a:pt x="1303" y="1346"/>
                  </a:lnTo>
                  <a:lnTo>
                    <a:pt x="1298" y="1346"/>
                  </a:lnTo>
                  <a:lnTo>
                    <a:pt x="1287" y="1341"/>
                  </a:lnTo>
                  <a:lnTo>
                    <a:pt x="1276" y="1341"/>
                  </a:lnTo>
                  <a:lnTo>
                    <a:pt x="1271" y="1341"/>
                  </a:lnTo>
                  <a:lnTo>
                    <a:pt x="1260" y="1341"/>
                  </a:lnTo>
                  <a:lnTo>
                    <a:pt x="1249" y="1341"/>
                  </a:lnTo>
                  <a:lnTo>
                    <a:pt x="1243" y="1346"/>
                  </a:lnTo>
                  <a:lnTo>
                    <a:pt x="1232" y="1346"/>
                  </a:lnTo>
                  <a:lnTo>
                    <a:pt x="1222" y="1346"/>
                  </a:lnTo>
                  <a:lnTo>
                    <a:pt x="1211" y="1352"/>
                  </a:lnTo>
                  <a:lnTo>
                    <a:pt x="1205" y="1352"/>
                  </a:lnTo>
                  <a:lnTo>
                    <a:pt x="1194" y="1352"/>
                  </a:lnTo>
                  <a:lnTo>
                    <a:pt x="1183" y="1352"/>
                  </a:lnTo>
                  <a:lnTo>
                    <a:pt x="1178" y="1357"/>
                  </a:lnTo>
                  <a:lnTo>
                    <a:pt x="1172" y="1363"/>
                  </a:lnTo>
                  <a:lnTo>
                    <a:pt x="1167" y="1368"/>
                  </a:lnTo>
                  <a:lnTo>
                    <a:pt x="1167" y="1373"/>
                  </a:lnTo>
                  <a:lnTo>
                    <a:pt x="1172" y="1384"/>
                  </a:lnTo>
                  <a:lnTo>
                    <a:pt x="1172" y="1390"/>
                  </a:lnTo>
                  <a:lnTo>
                    <a:pt x="1178" y="1395"/>
                  </a:lnTo>
                  <a:lnTo>
                    <a:pt x="1183" y="1401"/>
                  </a:lnTo>
                  <a:lnTo>
                    <a:pt x="1183" y="1406"/>
                  </a:lnTo>
                  <a:lnTo>
                    <a:pt x="1178" y="1412"/>
                  </a:lnTo>
                  <a:lnTo>
                    <a:pt x="1172" y="1406"/>
                  </a:lnTo>
                  <a:lnTo>
                    <a:pt x="1167" y="1401"/>
                  </a:lnTo>
                  <a:lnTo>
                    <a:pt x="1156" y="1395"/>
                  </a:lnTo>
                  <a:lnTo>
                    <a:pt x="1151" y="1395"/>
                  </a:lnTo>
                  <a:lnTo>
                    <a:pt x="1145" y="1390"/>
                  </a:lnTo>
                  <a:lnTo>
                    <a:pt x="1140" y="1384"/>
                  </a:lnTo>
                  <a:lnTo>
                    <a:pt x="1129" y="1379"/>
                  </a:lnTo>
                  <a:lnTo>
                    <a:pt x="1123" y="1379"/>
                  </a:lnTo>
                  <a:lnTo>
                    <a:pt x="1113" y="1373"/>
                  </a:lnTo>
                  <a:lnTo>
                    <a:pt x="1107" y="1368"/>
                  </a:lnTo>
                  <a:lnTo>
                    <a:pt x="1096" y="1368"/>
                  </a:lnTo>
                  <a:lnTo>
                    <a:pt x="1091" y="1363"/>
                  </a:lnTo>
                  <a:lnTo>
                    <a:pt x="1080" y="1363"/>
                  </a:lnTo>
                  <a:lnTo>
                    <a:pt x="1069" y="1363"/>
                  </a:lnTo>
                  <a:lnTo>
                    <a:pt x="1063" y="1357"/>
                  </a:lnTo>
                  <a:lnTo>
                    <a:pt x="1053" y="1357"/>
                  </a:lnTo>
                  <a:lnTo>
                    <a:pt x="1042" y="1352"/>
                  </a:lnTo>
                  <a:lnTo>
                    <a:pt x="1036" y="1352"/>
                  </a:lnTo>
                  <a:lnTo>
                    <a:pt x="1025" y="1346"/>
                  </a:lnTo>
                  <a:lnTo>
                    <a:pt x="1014" y="1346"/>
                  </a:lnTo>
                  <a:lnTo>
                    <a:pt x="1009" y="1346"/>
                  </a:lnTo>
                  <a:lnTo>
                    <a:pt x="998" y="1341"/>
                  </a:lnTo>
                  <a:lnTo>
                    <a:pt x="987" y="1341"/>
                  </a:lnTo>
                  <a:lnTo>
                    <a:pt x="982" y="1335"/>
                  </a:lnTo>
                  <a:lnTo>
                    <a:pt x="971" y="1335"/>
                  </a:lnTo>
                  <a:lnTo>
                    <a:pt x="960" y="1330"/>
                  </a:lnTo>
                  <a:lnTo>
                    <a:pt x="954" y="1330"/>
                  </a:lnTo>
                  <a:lnTo>
                    <a:pt x="944" y="1330"/>
                  </a:lnTo>
                  <a:lnTo>
                    <a:pt x="933" y="1324"/>
                  </a:lnTo>
                  <a:lnTo>
                    <a:pt x="927" y="1324"/>
                  </a:lnTo>
                  <a:lnTo>
                    <a:pt x="916" y="1319"/>
                  </a:lnTo>
                  <a:lnTo>
                    <a:pt x="905" y="1319"/>
                  </a:lnTo>
                  <a:lnTo>
                    <a:pt x="900" y="1313"/>
                  </a:lnTo>
                  <a:lnTo>
                    <a:pt x="889" y="1313"/>
                  </a:lnTo>
                  <a:lnTo>
                    <a:pt x="878" y="1313"/>
                  </a:lnTo>
                  <a:lnTo>
                    <a:pt x="873" y="1308"/>
                  </a:lnTo>
                  <a:lnTo>
                    <a:pt x="862" y="1308"/>
                  </a:lnTo>
                  <a:lnTo>
                    <a:pt x="851" y="1303"/>
                  </a:lnTo>
                  <a:lnTo>
                    <a:pt x="845" y="1303"/>
                  </a:lnTo>
                  <a:lnTo>
                    <a:pt x="834" y="1297"/>
                  </a:lnTo>
                  <a:lnTo>
                    <a:pt x="824" y="1297"/>
                  </a:lnTo>
                  <a:lnTo>
                    <a:pt x="818" y="1297"/>
                  </a:lnTo>
                  <a:lnTo>
                    <a:pt x="807" y="1297"/>
                  </a:lnTo>
                  <a:lnTo>
                    <a:pt x="796" y="1292"/>
                  </a:lnTo>
                  <a:lnTo>
                    <a:pt x="785" y="1286"/>
                  </a:lnTo>
                  <a:lnTo>
                    <a:pt x="780" y="1286"/>
                  </a:lnTo>
                  <a:lnTo>
                    <a:pt x="769" y="1281"/>
                  </a:lnTo>
                  <a:lnTo>
                    <a:pt x="764" y="1281"/>
                  </a:lnTo>
                  <a:lnTo>
                    <a:pt x="758" y="1286"/>
                  </a:lnTo>
                  <a:lnTo>
                    <a:pt x="753" y="1292"/>
                  </a:lnTo>
                  <a:lnTo>
                    <a:pt x="747" y="1297"/>
                  </a:lnTo>
                  <a:lnTo>
                    <a:pt x="747" y="1308"/>
                  </a:lnTo>
                  <a:lnTo>
                    <a:pt x="742" y="1313"/>
                  </a:lnTo>
                  <a:lnTo>
                    <a:pt x="742" y="1319"/>
                  </a:lnTo>
                  <a:lnTo>
                    <a:pt x="742" y="1324"/>
                  </a:lnTo>
                  <a:lnTo>
                    <a:pt x="742" y="1330"/>
                  </a:lnTo>
                  <a:lnTo>
                    <a:pt x="742" y="1341"/>
                  </a:lnTo>
                  <a:lnTo>
                    <a:pt x="736" y="1346"/>
                  </a:lnTo>
                  <a:lnTo>
                    <a:pt x="736" y="1352"/>
                  </a:lnTo>
                  <a:lnTo>
                    <a:pt x="736" y="1357"/>
                  </a:lnTo>
                  <a:lnTo>
                    <a:pt x="736" y="1363"/>
                  </a:lnTo>
                  <a:lnTo>
                    <a:pt x="736" y="1368"/>
                  </a:lnTo>
                  <a:lnTo>
                    <a:pt x="736" y="1373"/>
                  </a:lnTo>
                  <a:lnTo>
                    <a:pt x="731" y="1384"/>
                  </a:lnTo>
                  <a:lnTo>
                    <a:pt x="731" y="1390"/>
                  </a:lnTo>
                  <a:lnTo>
                    <a:pt x="731" y="1395"/>
                  </a:lnTo>
                  <a:lnTo>
                    <a:pt x="731" y="1401"/>
                  </a:lnTo>
                  <a:lnTo>
                    <a:pt x="731" y="1406"/>
                  </a:lnTo>
                  <a:lnTo>
                    <a:pt x="725" y="1412"/>
                  </a:lnTo>
                  <a:lnTo>
                    <a:pt x="725" y="1422"/>
                  </a:lnTo>
                  <a:lnTo>
                    <a:pt x="725" y="1428"/>
                  </a:lnTo>
                  <a:lnTo>
                    <a:pt x="725" y="1433"/>
                  </a:lnTo>
                  <a:lnTo>
                    <a:pt x="725" y="1439"/>
                  </a:lnTo>
                  <a:lnTo>
                    <a:pt x="725" y="1444"/>
                  </a:lnTo>
                  <a:lnTo>
                    <a:pt x="720" y="1450"/>
                  </a:lnTo>
                  <a:lnTo>
                    <a:pt x="720" y="1461"/>
                  </a:lnTo>
                  <a:lnTo>
                    <a:pt x="720" y="1466"/>
                  </a:lnTo>
                  <a:lnTo>
                    <a:pt x="720" y="1472"/>
                  </a:lnTo>
                  <a:lnTo>
                    <a:pt x="720" y="1477"/>
                  </a:lnTo>
                  <a:lnTo>
                    <a:pt x="720" y="1482"/>
                  </a:lnTo>
                  <a:lnTo>
                    <a:pt x="715" y="1488"/>
                  </a:lnTo>
                  <a:lnTo>
                    <a:pt x="715" y="1493"/>
                  </a:lnTo>
                  <a:lnTo>
                    <a:pt x="715" y="1504"/>
                  </a:lnTo>
                  <a:lnTo>
                    <a:pt x="715" y="1510"/>
                  </a:lnTo>
                  <a:lnTo>
                    <a:pt x="715" y="1515"/>
                  </a:lnTo>
                  <a:lnTo>
                    <a:pt x="715" y="1521"/>
                  </a:lnTo>
                  <a:lnTo>
                    <a:pt x="709" y="1526"/>
                  </a:lnTo>
                  <a:lnTo>
                    <a:pt x="709" y="1531"/>
                  </a:lnTo>
                  <a:lnTo>
                    <a:pt x="709" y="1542"/>
                  </a:lnTo>
                  <a:lnTo>
                    <a:pt x="731" y="1564"/>
                  </a:lnTo>
                  <a:lnTo>
                    <a:pt x="764" y="1597"/>
                  </a:lnTo>
                  <a:lnTo>
                    <a:pt x="796" y="1630"/>
                  </a:lnTo>
                  <a:lnTo>
                    <a:pt x="829" y="1662"/>
                  </a:lnTo>
                  <a:lnTo>
                    <a:pt x="862" y="1695"/>
                  </a:lnTo>
                  <a:lnTo>
                    <a:pt x="894" y="1722"/>
                  </a:lnTo>
                  <a:lnTo>
                    <a:pt x="922" y="1755"/>
                  </a:lnTo>
                  <a:lnTo>
                    <a:pt x="954" y="1755"/>
                  </a:lnTo>
                  <a:lnTo>
                    <a:pt x="987" y="1788"/>
                  </a:lnTo>
                  <a:lnTo>
                    <a:pt x="1020" y="1820"/>
                  </a:lnTo>
                  <a:lnTo>
                    <a:pt x="1053" y="1853"/>
                  </a:lnTo>
                  <a:lnTo>
                    <a:pt x="1085" y="1886"/>
                  </a:lnTo>
                  <a:lnTo>
                    <a:pt x="1113" y="1918"/>
                  </a:lnTo>
                  <a:lnTo>
                    <a:pt x="1145" y="1946"/>
                  </a:lnTo>
                  <a:lnTo>
                    <a:pt x="1178" y="1978"/>
                  </a:lnTo>
                  <a:lnTo>
                    <a:pt x="1211" y="1978"/>
                  </a:lnTo>
                  <a:lnTo>
                    <a:pt x="1243" y="1978"/>
                  </a:lnTo>
                  <a:lnTo>
                    <a:pt x="1276" y="1978"/>
                  </a:lnTo>
                  <a:lnTo>
                    <a:pt x="1303" y="1978"/>
                  </a:lnTo>
                  <a:lnTo>
                    <a:pt x="1336" y="1978"/>
                  </a:lnTo>
                  <a:lnTo>
                    <a:pt x="1369" y="1978"/>
                  </a:lnTo>
                  <a:lnTo>
                    <a:pt x="1401" y="1978"/>
                  </a:lnTo>
                  <a:lnTo>
                    <a:pt x="1434" y="1978"/>
                  </a:lnTo>
                  <a:lnTo>
                    <a:pt x="1467" y="1978"/>
                  </a:lnTo>
                  <a:lnTo>
                    <a:pt x="1494" y="1978"/>
                  </a:lnTo>
                  <a:lnTo>
                    <a:pt x="1527" y="1978"/>
                  </a:lnTo>
                  <a:lnTo>
                    <a:pt x="1560" y="1978"/>
                  </a:lnTo>
                  <a:lnTo>
                    <a:pt x="1592" y="1978"/>
                  </a:lnTo>
                  <a:lnTo>
                    <a:pt x="1625" y="1978"/>
                  </a:lnTo>
                  <a:lnTo>
                    <a:pt x="1658" y="1978"/>
                  </a:lnTo>
                  <a:lnTo>
                    <a:pt x="1685" y="1978"/>
                  </a:lnTo>
                  <a:lnTo>
                    <a:pt x="1718" y="1978"/>
                  </a:lnTo>
                  <a:lnTo>
                    <a:pt x="1750" y="1978"/>
                  </a:lnTo>
                  <a:lnTo>
                    <a:pt x="1783" y="1978"/>
                  </a:lnTo>
                  <a:lnTo>
                    <a:pt x="1816" y="1978"/>
                  </a:lnTo>
                  <a:lnTo>
                    <a:pt x="1849" y="1978"/>
                  </a:lnTo>
                  <a:lnTo>
                    <a:pt x="1876" y="1978"/>
                  </a:lnTo>
                  <a:lnTo>
                    <a:pt x="1909" y="1978"/>
                  </a:lnTo>
                  <a:lnTo>
                    <a:pt x="1941" y="1978"/>
                  </a:lnTo>
                  <a:lnTo>
                    <a:pt x="1974" y="1978"/>
                  </a:lnTo>
                  <a:lnTo>
                    <a:pt x="2007" y="1978"/>
                  </a:lnTo>
                  <a:lnTo>
                    <a:pt x="2039" y="1978"/>
                  </a:lnTo>
                  <a:lnTo>
                    <a:pt x="2067" y="1978"/>
                  </a:lnTo>
                  <a:lnTo>
                    <a:pt x="2099" y="1978"/>
                  </a:lnTo>
                  <a:lnTo>
                    <a:pt x="2132" y="1978"/>
                  </a:lnTo>
                  <a:lnTo>
                    <a:pt x="2165" y="1978"/>
                  </a:lnTo>
                  <a:lnTo>
                    <a:pt x="2198" y="1978"/>
                  </a:lnTo>
                  <a:lnTo>
                    <a:pt x="2230" y="1978"/>
                  </a:lnTo>
                  <a:lnTo>
                    <a:pt x="2258" y="1978"/>
                  </a:lnTo>
                  <a:lnTo>
                    <a:pt x="2290" y="1978"/>
                  </a:lnTo>
                  <a:lnTo>
                    <a:pt x="2323" y="1978"/>
                  </a:lnTo>
                  <a:lnTo>
                    <a:pt x="2356" y="1978"/>
                  </a:lnTo>
                  <a:lnTo>
                    <a:pt x="2388" y="1978"/>
                  </a:lnTo>
                  <a:lnTo>
                    <a:pt x="2421" y="1978"/>
                  </a:lnTo>
                  <a:lnTo>
                    <a:pt x="2448" y="1978"/>
                  </a:lnTo>
                  <a:lnTo>
                    <a:pt x="2481" y="1978"/>
                  </a:lnTo>
                  <a:lnTo>
                    <a:pt x="2514" y="1978"/>
                  </a:lnTo>
                  <a:lnTo>
                    <a:pt x="2546" y="1978"/>
                  </a:lnTo>
                  <a:lnTo>
                    <a:pt x="2579" y="1978"/>
                  </a:lnTo>
                  <a:lnTo>
                    <a:pt x="2612" y="1978"/>
                  </a:lnTo>
                  <a:lnTo>
                    <a:pt x="2639" y="1978"/>
                  </a:lnTo>
                  <a:lnTo>
                    <a:pt x="2672" y="1978"/>
                  </a:lnTo>
                  <a:close/>
                  <a:moveTo>
                    <a:pt x="1423" y="1341"/>
                  </a:moveTo>
                  <a:lnTo>
                    <a:pt x="1429" y="1335"/>
                  </a:lnTo>
                  <a:lnTo>
                    <a:pt x="1434" y="1330"/>
                  </a:lnTo>
                  <a:lnTo>
                    <a:pt x="1434" y="1330"/>
                  </a:lnTo>
                  <a:lnTo>
                    <a:pt x="1440" y="1335"/>
                  </a:lnTo>
                  <a:lnTo>
                    <a:pt x="1445" y="1341"/>
                  </a:lnTo>
                  <a:lnTo>
                    <a:pt x="1445" y="1346"/>
                  </a:lnTo>
                  <a:lnTo>
                    <a:pt x="1445" y="1352"/>
                  </a:lnTo>
                  <a:lnTo>
                    <a:pt x="1440" y="1357"/>
                  </a:lnTo>
                  <a:lnTo>
                    <a:pt x="1434" y="1357"/>
                  </a:lnTo>
                  <a:lnTo>
                    <a:pt x="1434" y="1363"/>
                  </a:lnTo>
                  <a:lnTo>
                    <a:pt x="1429" y="1357"/>
                  </a:lnTo>
                  <a:lnTo>
                    <a:pt x="1429" y="1357"/>
                  </a:lnTo>
                  <a:lnTo>
                    <a:pt x="1429" y="1352"/>
                  </a:lnTo>
                  <a:lnTo>
                    <a:pt x="1423" y="1341"/>
                  </a:lnTo>
                  <a:close/>
                  <a:moveTo>
                    <a:pt x="785" y="1248"/>
                  </a:moveTo>
                  <a:lnTo>
                    <a:pt x="774" y="1237"/>
                  </a:lnTo>
                  <a:lnTo>
                    <a:pt x="769" y="1237"/>
                  </a:lnTo>
                  <a:lnTo>
                    <a:pt x="764" y="1237"/>
                  </a:lnTo>
                  <a:lnTo>
                    <a:pt x="764" y="1243"/>
                  </a:lnTo>
                  <a:lnTo>
                    <a:pt x="758" y="1248"/>
                  </a:lnTo>
                  <a:lnTo>
                    <a:pt x="758" y="1259"/>
                  </a:lnTo>
                  <a:lnTo>
                    <a:pt x="764" y="1264"/>
                  </a:lnTo>
                  <a:lnTo>
                    <a:pt x="764" y="1270"/>
                  </a:lnTo>
                  <a:lnTo>
                    <a:pt x="764" y="1270"/>
                  </a:lnTo>
                  <a:lnTo>
                    <a:pt x="769" y="1270"/>
                  </a:lnTo>
                  <a:lnTo>
                    <a:pt x="774" y="1270"/>
                  </a:lnTo>
                  <a:lnTo>
                    <a:pt x="774" y="1264"/>
                  </a:lnTo>
                  <a:lnTo>
                    <a:pt x="780" y="1254"/>
                  </a:lnTo>
                  <a:lnTo>
                    <a:pt x="785" y="1248"/>
                  </a:lnTo>
                  <a:close/>
                  <a:moveTo>
                    <a:pt x="769" y="1025"/>
                  </a:moveTo>
                  <a:lnTo>
                    <a:pt x="769" y="1014"/>
                  </a:lnTo>
                  <a:lnTo>
                    <a:pt x="769" y="1008"/>
                  </a:lnTo>
                  <a:lnTo>
                    <a:pt x="769" y="1003"/>
                  </a:lnTo>
                  <a:lnTo>
                    <a:pt x="769" y="997"/>
                  </a:lnTo>
                  <a:lnTo>
                    <a:pt x="769" y="992"/>
                  </a:lnTo>
                  <a:lnTo>
                    <a:pt x="769" y="986"/>
                  </a:lnTo>
                  <a:lnTo>
                    <a:pt x="769" y="976"/>
                  </a:lnTo>
                  <a:lnTo>
                    <a:pt x="769" y="970"/>
                  </a:lnTo>
                  <a:lnTo>
                    <a:pt x="764" y="970"/>
                  </a:lnTo>
                  <a:lnTo>
                    <a:pt x="764" y="976"/>
                  </a:lnTo>
                  <a:lnTo>
                    <a:pt x="758" y="981"/>
                  </a:lnTo>
                  <a:lnTo>
                    <a:pt x="758" y="992"/>
                  </a:lnTo>
                  <a:lnTo>
                    <a:pt x="758" y="997"/>
                  </a:lnTo>
                  <a:lnTo>
                    <a:pt x="758" y="1003"/>
                  </a:lnTo>
                  <a:lnTo>
                    <a:pt x="758" y="1008"/>
                  </a:lnTo>
                  <a:lnTo>
                    <a:pt x="758" y="1014"/>
                  </a:lnTo>
                  <a:lnTo>
                    <a:pt x="764" y="1019"/>
                  </a:lnTo>
                  <a:lnTo>
                    <a:pt x="764" y="1030"/>
                  </a:lnTo>
                  <a:lnTo>
                    <a:pt x="764" y="1030"/>
                  </a:lnTo>
                  <a:lnTo>
                    <a:pt x="769" y="1025"/>
                  </a:lnTo>
                  <a:close/>
                  <a:moveTo>
                    <a:pt x="2219" y="992"/>
                  </a:moveTo>
                  <a:lnTo>
                    <a:pt x="2225" y="986"/>
                  </a:lnTo>
                  <a:lnTo>
                    <a:pt x="2230" y="976"/>
                  </a:lnTo>
                  <a:lnTo>
                    <a:pt x="2236" y="970"/>
                  </a:lnTo>
                  <a:lnTo>
                    <a:pt x="2241" y="965"/>
                  </a:lnTo>
                  <a:lnTo>
                    <a:pt x="2241" y="959"/>
                  </a:lnTo>
                  <a:lnTo>
                    <a:pt x="2247" y="954"/>
                  </a:lnTo>
                  <a:lnTo>
                    <a:pt x="2252" y="948"/>
                  </a:lnTo>
                  <a:lnTo>
                    <a:pt x="2258" y="937"/>
                  </a:lnTo>
                  <a:lnTo>
                    <a:pt x="2263" y="932"/>
                  </a:lnTo>
                  <a:lnTo>
                    <a:pt x="2268" y="927"/>
                  </a:lnTo>
                  <a:lnTo>
                    <a:pt x="2274" y="921"/>
                  </a:lnTo>
                  <a:lnTo>
                    <a:pt x="2279" y="916"/>
                  </a:lnTo>
                  <a:lnTo>
                    <a:pt x="2285" y="910"/>
                  </a:lnTo>
                  <a:lnTo>
                    <a:pt x="2290" y="905"/>
                  </a:lnTo>
                  <a:lnTo>
                    <a:pt x="2296" y="899"/>
                  </a:lnTo>
                  <a:lnTo>
                    <a:pt x="2301" y="888"/>
                  </a:lnTo>
                  <a:lnTo>
                    <a:pt x="2307" y="883"/>
                  </a:lnTo>
                  <a:lnTo>
                    <a:pt x="2312" y="877"/>
                  </a:lnTo>
                  <a:lnTo>
                    <a:pt x="2317" y="872"/>
                  </a:lnTo>
                  <a:lnTo>
                    <a:pt x="2317" y="867"/>
                  </a:lnTo>
                  <a:lnTo>
                    <a:pt x="2317" y="861"/>
                  </a:lnTo>
                  <a:lnTo>
                    <a:pt x="2312" y="850"/>
                  </a:lnTo>
                  <a:lnTo>
                    <a:pt x="2307" y="845"/>
                  </a:lnTo>
                  <a:lnTo>
                    <a:pt x="2301" y="839"/>
                  </a:lnTo>
                  <a:lnTo>
                    <a:pt x="2296" y="834"/>
                  </a:lnTo>
                  <a:lnTo>
                    <a:pt x="2296" y="828"/>
                  </a:lnTo>
                  <a:lnTo>
                    <a:pt x="2296" y="823"/>
                  </a:lnTo>
                  <a:lnTo>
                    <a:pt x="2301" y="812"/>
                  </a:lnTo>
                  <a:lnTo>
                    <a:pt x="2301" y="807"/>
                  </a:lnTo>
                  <a:lnTo>
                    <a:pt x="2307" y="801"/>
                  </a:lnTo>
                  <a:lnTo>
                    <a:pt x="2312" y="796"/>
                  </a:lnTo>
                  <a:lnTo>
                    <a:pt x="2312" y="785"/>
                  </a:lnTo>
                  <a:lnTo>
                    <a:pt x="2317" y="779"/>
                  </a:lnTo>
                  <a:lnTo>
                    <a:pt x="2317" y="774"/>
                  </a:lnTo>
                  <a:lnTo>
                    <a:pt x="2323" y="768"/>
                  </a:lnTo>
                  <a:lnTo>
                    <a:pt x="2323" y="758"/>
                  </a:lnTo>
                  <a:lnTo>
                    <a:pt x="2328" y="752"/>
                  </a:lnTo>
                  <a:lnTo>
                    <a:pt x="2334" y="747"/>
                  </a:lnTo>
                  <a:lnTo>
                    <a:pt x="2345" y="741"/>
                  </a:lnTo>
                  <a:lnTo>
                    <a:pt x="2350" y="736"/>
                  </a:lnTo>
                  <a:lnTo>
                    <a:pt x="2361" y="736"/>
                  </a:lnTo>
                  <a:lnTo>
                    <a:pt x="2372" y="736"/>
                  </a:lnTo>
                  <a:lnTo>
                    <a:pt x="2377" y="730"/>
                  </a:lnTo>
                  <a:lnTo>
                    <a:pt x="2383" y="719"/>
                  </a:lnTo>
                  <a:lnTo>
                    <a:pt x="2388" y="714"/>
                  </a:lnTo>
                  <a:lnTo>
                    <a:pt x="2388" y="708"/>
                  </a:lnTo>
                  <a:lnTo>
                    <a:pt x="2388" y="703"/>
                  </a:lnTo>
                  <a:lnTo>
                    <a:pt x="2394" y="692"/>
                  </a:lnTo>
                  <a:lnTo>
                    <a:pt x="2394" y="687"/>
                  </a:lnTo>
                  <a:lnTo>
                    <a:pt x="2394" y="681"/>
                  </a:lnTo>
                  <a:lnTo>
                    <a:pt x="2394" y="670"/>
                  </a:lnTo>
                  <a:lnTo>
                    <a:pt x="2388" y="665"/>
                  </a:lnTo>
                  <a:lnTo>
                    <a:pt x="2388" y="659"/>
                  </a:lnTo>
                  <a:lnTo>
                    <a:pt x="2383" y="654"/>
                  </a:lnTo>
                  <a:lnTo>
                    <a:pt x="2383" y="643"/>
                  </a:lnTo>
                  <a:lnTo>
                    <a:pt x="2383" y="638"/>
                  </a:lnTo>
                  <a:lnTo>
                    <a:pt x="2383" y="632"/>
                  </a:lnTo>
                  <a:lnTo>
                    <a:pt x="2383" y="621"/>
                  </a:lnTo>
                  <a:lnTo>
                    <a:pt x="2383" y="616"/>
                  </a:lnTo>
                  <a:lnTo>
                    <a:pt x="2383" y="610"/>
                  </a:lnTo>
                  <a:lnTo>
                    <a:pt x="2383" y="605"/>
                  </a:lnTo>
                  <a:lnTo>
                    <a:pt x="2377" y="594"/>
                  </a:lnTo>
                  <a:lnTo>
                    <a:pt x="2377" y="589"/>
                  </a:lnTo>
                  <a:lnTo>
                    <a:pt x="2377" y="583"/>
                  </a:lnTo>
                  <a:lnTo>
                    <a:pt x="2383" y="572"/>
                  </a:lnTo>
                  <a:lnTo>
                    <a:pt x="2388" y="572"/>
                  </a:lnTo>
                  <a:lnTo>
                    <a:pt x="2399" y="572"/>
                  </a:lnTo>
                  <a:lnTo>
                    <a:pt x="2405" y="578"/>
                  </a:lnTo>
                  <a:lnTo>
                    <a:pt x="2416" y="583"/>
                  </a:lnTo>
                  <a:lnTo>
                    <a:pt x="2421" y="589"/>
                  </a:lnTo>
                  <a:lnTo>
                    <a:pt x="2427" y="594"/>
                  </a:lnTo>
                  <a:lnTo>
                    <a:pt x="2432" y="599"/>
                  </a:lnTo>
                  <a:lnTo>
                    <a:pt x="2443" y="599"/>
                  </a:lnTo>
                  <a:lnTo>
                    <a:pt x="2454" y="605"/>
                  </a:lnTo>
                  <a:lnTo>
                    <a:pt x="2465" y="605"/>
                  </a:lnTo>
                  <a:lnTo>
                    <a:pt x="2470" y="610"/>
                  </a:lnTo>
                  <a:lnTo>
                    <a:pt x="2470" y="616"/>
                  </a:lnTo>
                  <a:lnTo>
                    <a:pt x="2470" y="621"/>
                  </a:lnTo>
                  <a:lnTo>
                    <a:pt x="2459" y="632"/>
                  </a:lnTo>
                  <a:lnTo>
                    <a:pt x="2454" y="638"/>
                  </a:lnTo>
                  <a:lnTo>
                    <a:pt x="2448" y="643"/>
                  </a:lnTo>
                  <a:lnTo>
                    <a:pt x="2443" y="649"/>
                  </a:lnTo>
                  <a:lnTo>
                    <a:pt x="2437" y="654"/>
                  </a:lnTo>
                  <a:lnTo>
                    <a:pt x="2437" y="665"/>
                  </a:lnTo>
                  <a:lnTo>
                    <a:pt x="2437" y="670"/>
                  </a:lnTo>
                  <a:lnTo>
                    <a:pt x="2437" y="676"/>
                  </a:lnTo>
                  <a:lnTo>
                    <a:pt x="2437" y="687"/>
                  </a:lnTo>
                  <a:lnTo>
                    <a:pt x="2437" y="692"/>
                  </a:lnTo>
                  <a:lnTo>
                    <a:pt x="2437" y="698"/>
                  </a:lnTo>
                  <a:lnTo>
                    <a:pt x="2437" y="703"/>
                  </a:lnTo>
                  <a:lnTo>
                    <a:pt x="2432" y="714"/>
                  </a:lnTo>
                  <a:lnTo>
                    <a:pt x="2432" y="719"/>
                  </a:lnTo>
                  <a:lnTo>
                    <a:pt x="2432" y="725"/>
                  </a:lnTo>
                  <a:lnTo>
                    <a:pt x="2432" y="736"/>
                  </a:lnTo>
                  <a:lnTo>
                    <a:pt x="2432" y="741"/>
                  </a:lnTo>
                  <a:lnTo>
                    <a:pt x="2437" y="747"/>
                  </a:lnTo>
                  <a:lnTo>
                    <a:pt x="2437" y="752"/>
                  </a:lnTo>
                  <a:lnTo>
                    <a:pt x="2437" y="763"/>
                  </a:lnTo>
                  <a:lnTo>
                    <a:pt x="2437" y="768"/>
                  </a:lnTo>
                  <a:lnTo>
                    <a:pt x="2437" y="774"/>
                  </a:lnTo>
                  <a:lnTo>
                    <a:pt x="2437" y="779"/>
                  </a:lnTo>
                  <a:lnTo>
                    <a:pt x="2437" y="790"/>
                  </a:lnTo>
                  <a:lnTo>
                    <a:pt x="2437" y="796"/>
                  </a:lnTo>
                  <a:lnTo>
                    <a:pt x="2437" y="801"/>
                  </a:lnTo>
                  <a:lnTo>
                    <a:pt x="2437" y="812"/>
                  </a:lnTo>
                  <a:lnTo>
                    <a:pt x="2443" y="817"/>
                  </a:lnTo>
                  <a:lnTo>
                    <a:pt x="2443" y="823"/>
                  </a:lnTo>
                  <a:lnTo>
                    <a:pt x="2448" y="828"/>
                  </a:lnTo>
                  <a:lnTo>
                    <a:pt x="2448" y="839"/>
                  </a:lnTo>
                  <a:lnTo>
                    <a:pt x="2454" y="845"/>
                  </a:lnTo>
                  <a:lnTo>
                    <a:pt x="2454" y="850"/>
                  </a:lnTo>
                  <a:lnTo>
                    <a:pt x="2459" y="856"/>
                  </a:lnTo>
                  <a:lnTo>
                    <a:pt x="2454" y="867"/>
                  </a:lnTo>
                  <a:lnTo>
                    <a:pt x="2454" y="872"/>
                  </a:lnTo>
                  <a:lnTo>
                    <a:pt x="2448" y="877"/>
                  </a:lnTo>
                  <a:lnTo>
                    <a:pt x="2443" y="883"/>
                  </a:lnTo>
                  <a:lnTo>
                    <a:pt x="2437" y="888"/>
                  </a:lnTo>
                  <a:lnTo>
                    <a:pt x="2432" y="894"/>
                  </a:lnTo>
                  <a:lnTo>
                    <a:pt x="2427" y="899"/>
                  </a:lnTo>
                  <a:lnTo>
                    <a:pt x="2421" y="905"/>
                  </a:lnTo>
                  <a:lnTo>
                    <a:pt x="2416" y="916"/>
                  </a:lnTo>
                  <a:lnTo>
                    <a:pt x="2416" y="921"/>
                  </a:lnTo>
                  <a:lnTo>
                    <a:pt x="2416" y="927"/>
                  </a:lnTo>
                  <a:lnTo>
                    <a:pt x="2416" y="932"/>
                  </a:lnTo>
                  <a:lnTo>
                    <a:pt x="2421" y="943"/>
                  </a:lnTo>
                  <a:lnTo>
                    <a:pt x="2427" y="948"/>
                  </a:lnTo>
                  <a:lnTo>
                    <a:pt x="2427" y="954"/>
                  </a:lnTo>
                  <a:lnTo>
                    <a:pt x="2432" y="959"/>
                  </a:lnTo>
                  <a:lnTo>
                    <a:pt x="2427" y="970"/>
                  </a:lnTo>
                  <a:lnTo>
                    <a:pt x="2427" y="976"/>
                  </a:lnTo>
                  <a:lnTo>
                    <a:pt x="2427" y="981"/>
                  </a:lnTo>
                  <a:lnTo>
                    <a:pt x="2421" y="986"/>
                  </a:lnTo>
                  <a:lnTo>
                    <a:pt x="2416" y="992"/>
                  </a:lnTo>
                  <a:lnTo>
                    <a:pt x="2405" y="997"/>
                  </a:lnTo>
                  <a:lnTo>
                    <a:pt x="2394" y="997"/>
                  </a:lnTo>
                  <a:lnTo>
                    <a:pt x="2383" y="992"/>
                  </a:lnTo>
                  <a:lnTo>
                    <a:pt x="2372" y="992"/>
                  </a:lnTo>
                  <a:lnTo>
                    <a:pt x="2361" y="997"/>
                  </a:lnTo>
                  <a:lnTo>
                    <a:pt x="2350" y="997"/>
                  </a:lnTo>
                  <a:lnTo>
                    <a:pt x="2339" y="997"/>
                  </a:lnTo>
                  <a:lnTo>
                    <a:pt x="2328" y="997"/>
                  </a:lnTo>
                  <a:lnTo>
                    <a:pt x="2317" y="997"/>
                  </a:lnTo>
                  <a:lnTo>
                    <a:pt x="2307" y="997"/>
                  </a:lnTo>
                  <a:lnTo>
                    <a:pt x="2296" y="997"/>
                  </a:lnTo>
                  <a:lnTo>
                    <a:pt x="2285" y="997"/>
                  </a:lnTo>
                  <a:lnTo>
                    <a:pt x="2274" y="997"/>
                  </a:lnTo>
                  <a:lnTo>
                    <a:pt x="2263" y="997"/>
                  </a:lnTo>
                  <a:lnTo>
                    <a:pt x="2252" y="1003"/>
                  </a:lnTo>
                  <a:lnTo>
                    <a:pt x="2241" y="1003"/>
                  </a:lnTo>
                  <a:lnTo>
                    <a:pt x="2230" y="1003"/>
                  </a:lnTo>
                  <a:lnTo>
                    <a:pt x="2225" y="997"/>
                  </a:lnTo>
                  <a:lnTo>
                    <a:pt x="2219" y="992"/>
                  </a:lnTo>
                  <a:close/>
                  <a:moveTo>
                    <a:pt x="496" y="959"/>
                  </a:moveTo>
                  <a:lnTo>
                    <a:pt x="496" y="948"/>
                  </a:lnTo>
                  <a:lnTo>
                    <a:pt x="496" y="943"/>
                  </a:lnTo>
                  <a:lnTo>
                    <a:pt x="496" y="937"/>
                  </a:lnTo>
                  <a:lnTo>
                    <a:pt x="502" y="932"/>
                  </a:lnTo>
                  <a:lnTo>
                    <a:pt x="502" y="932"/>
                  </a:lnTo>
                  <a:lnTo>
                    <a:pt x="507" y="927"/>
                  </a:lnTo>
                  <a:lnTo>
                    <a:pt x="518" y="927"/>
                  </a:lnTo>
                  <a:lnTo>
                    <a:pt x="524" y="921"/>
                  </a:lnTo>
                  <a:lnTo>
                    <a:pt x="524" y="916"/>
                  </a:lnTo>
                  <a:lnTo>
                    <a:pt x="529" y="910"/>
                  </a:lnTo>
                  <a:lnTo>
                    <a:pt x="529" y="905"/>
                  </a:lnTo>
                  <a:lnTo>
                    <a:pt x="524" y="899"/>
                  </a:lnTo>
                  <a:lnTo>
                    <a:pt x="518" y="888"/>
                  </a:lnTo>
                  <a:lnTo>
                    <a:pt x="513" y="888"/>
                  </a:lnTo>
                  <a:lnTo>
                    <a:pt x="507" y="888"/>
                  </a:lnTo>
                  <a:lnTo>
                    <a:pt x="502" y="894"/>
                  </a:lnTo>
                  <a:lnTo>
                    <a:pt x="496" y="894"/>
                  </a:lnTo>
                  <a:lnTo>
                    <a:pt x="491" y="899"/>
                  </a:lnTo>
                  <a:lnTo>
                    <a:pt x="486" y="905"/>
                  </a:lnTo>
                  <a:lnTo>
                    <a:pt x="480" y="905"/>
                  </a:lnTo>
                  <a:lnTo>
                    <a:pt x="475" y="910"/>
                  </a:lnTo>
                  <a:lnTo>
                    <a:pt x="464" y="910"/>
                  </a:lnTo>
                  <a:lnTo>
                    <a:pt x="458" y="916"/>
                  </a:lnTo>
                  <a:lnTo>
                    <a:pt x="453" y="921"/>
                  </a:lnTo>
                  <a:lnTo>
                    <a:pt x="447" y="921"/>
                  </a:lnTo>
                  <a:lnTo>
                    <a:pt x="447" y="927"/>
                  </a:lnTo>
                  <a:lnTo>
                    <a:pt x="447" y="932"/>
                  </a:lnTo>
                  <a:lnTo>
                    <a:pt x="447" y="937"/>
                  </a:lnTo>
                  <a:lnTo>
                    <a:pt x="453" y="943"/>
                  </a:lnTo>
                  <a:lnTo>
                    <a:pt x="453" y="948"/>
                  </a:lnTo>
                  <a:lnTo>
                    <a:pt x="458" y="954"/>
                  </a:lnTo>
                  <a:lnTo>
                    <a:pt x="458" y="959"/>
                  </a:lnTo>
                  <a:lnTo>
                    <a:pt x="464" y="965"/>
                  </a:lnTo>
                  <a:lnTo>
                    <a:pt x="475" y="970"/>
                  </a:lnTo>
                  <a:lnTo>
                    <a:pt x="480" y="970"/>
                  </a:lnTo>
                  <a:lnTo>
                    <a:pt x="486" y="970"/>
                  </a:lnTo>
                  <a:lnTo>
                    <a:pt x="491" y="965"/>
                  </a:lnTo>
                  <a:lnTo>
                    <a:pt x="496" y="959"/>
                  </a:lnTo>
                  <a:close/>
                  <a:moveTo>
                    <a:pt x="1816" y="959"/>
                  </a:moveTo>
                  <a:lnTo>
                    <a:pt x="1816" y="959"/>
                  </a:lnTo>
                  <a:lnTo>
                    <a:pt x="1816" y="954"/>
                  </a:lnTo>
                  <a:lnTo>
                    <a:pt x="1816" y="954"/>
                  </a:lnTo>
                  <a:lnTo>
                    <a:pt x="1816" y="954"/>
                  </a:lnTo>
                  <a:lnTo>
                    <a:pt x="1816" y="954"/>
                  </a:lnTo>
                  <a:lnTo>
                    <a:pt x="1816" y="954"/>
                  </a:lnTo>
                  <a:lnTo>
                    <a:pt x="1816" y="954"/>
                  </a:lnTo>
                  <a:lnTo>
                    <a:pt x="1816" y="959"/>
                  </a:lnTo>
                  <a:lnTo>
                    <a:pt x="1816" y="959"/>
                  </a:lnTo>
                  <a:lnTo>
                    <a:pt x="1816" y="959"/>
                  </a:lnTo>
                  <a:lnTo>
                    <a:pt x="1816" y="959"/>
                  </a:lnTo>
                  <a:lnTo>
                    <a:pt x="1816" y="959"/>
                  </a:lnTo>
                  <a:lnTo>
                    <a:pt x="1816" y="959"/>
                  </a:lnTo>
                  <a:lnTo>
                    <a:pt x="1816" y="959"/>
                  </a:lnTo>
                  <a:close/>
                  <a:moveTo>
                    <a:pt x="1696" y="927"/>
                  </a:moveTo>
                  <a:lnTo>
                    <a:pt x="1701" y="921"/>
                  </a:lnTo>
                  <a:lnTo>
                    <a:pt x="1701" y="910"/>
                  </a:lnTo>
                  <a:lnTo>
                    <a:pt x="1701" y="905"/>
                  </a:lnTo>
                  <a:lnTo>
                    <a:pt x="1701" y="899"/>
                  </a:lnTo>
                  <a:lnTo>
                    <a:pt x="1701" y="888"/>
                  </a:lnTo>
                  <a:lnTo>
                    <a:pt x="1701" y="883"/>
                  </a:lnTo>
                  <a:lnTo>
                    <a:pt x="1701" y="877"/>
                  </a:lnTo>
                  <a:lnTo>
                    <a:pt x="1701" y="867"/>
                  </a:lnTo>
                  <a:lnTo>
                    <a:pt x="1701" y="861"/>
                  </a:lnTo>
                  <a:lnTo>
                    <a:pt x="1696" y="856"/>
                  </a:lnTo>
                  <a:lnTo>
                    <a:pt x="1696" y="845"/>
                  </a:lnTo>
                  <a:lnTo>
                    <a:pt x="1701" y="839"/>
                  </a:lnTo>
                  <a:lnTo>
                    <a:pt x="1701" y="834"/>
                  </a:lnTo>
                  <a:lnTo>
                    <a:pt x="1707" y="828"/>
                  </a:lnTo>
                  <a:lnTo>
                    <a:pt x="1712" y="823"/>
                  </a:lnTo>
                  <a:lnTo>
                    <a:pt x="1718" y="812"/>
                  </a:lnTo>
                  <a:lnTo>
                    <a:pt x="1723" y="807"/>
                  </a:lnTo>
                  <a:lnTo>
                    <a:pt x="1729" y="801"/>
                  </a:lnTo>
                  <a:lnTo>
                    <a:pt x="1729" y="796"/>
                  </a:lnTo>
                  <a:lnTo>
                    <a:pt x="1729" y="785"/>
                  </a:lnTo>
                  <a:lnTo>
                    <a:pt x="1734" y="779"/>
                  </a:lnTo>
                  <a:lnTo>
                    <a:pt x="1734" y="774"/>
                  </a:lnTo>
                  <a:lnTo>
                    <a:pt x="1734" y="768"/>
                  </a:lnTo>
                  <a:lnTo>
                    <a:pt x="1734" y="758"/>
                  </a:lnTo>
                  <a:lnTo>
                    <a:pt x="1740" y="752"/>
                  </a:lnTo>
                  <a:lnTo>
                    <a:pt x="1740" y="747"/>
                  </a:lnTo>
                  <a:lnTo>
                    <a:pt x="1740" y="736"/>
                  </a:lnTo>
                  <a:lnTo>
                    <a:pt x="1740" y="730"/>
                  </a:lnTo>
                  <a:lnTo>
                    <a:pt x="1740" y="725"/>
                  </a:lnTo>
                  <a:lnTo>
                    <a:pt x="1745" y="714"/>
                  </a:lnTo>
                  <a:lnTo>
                    <a:pt x="1745" y="708"/>
                  </a:lnTo>
                  <a:lnTo>
                    <a:pt x="1750" y="703"/>
                  </a:lnTo>
                  <a:lnTo>
                    <a:pt x="1750" y="698"/>
                  </a:lnTo>
                  <a:lnTo>
                    <a:pt x="1756" y="687"/>
                  </a:lnTo>
                  <a:lnTo>
                    <a:pt x="1761" y="681"/>
                  </a:lnTo>
                  <a:lnTo>
                    <a:pt x="1767" y="676"/>
                  </a:lnTo>
                  <a:lnTo>
                    <a:pt x="1772" y="670"/>
                  </a:lnTo>
                  <a:lnTo>
                    <a:pt x="1772" y="665"/>
                  </a:lnTo>
                  <a:lnTo>
                    <a:pt x="1778" y="654"/>
                  </a:lnTo>
                  <a:lnTo>
                    <a:pt x="1778" y="649"/>
                  </a:lnTo>
                  <a:lnTo>
                    <a:pt x="1783" y="643"/>
                  </a:lnTo>
                  <a:lnTo>
                    <a:pt x="1789" y="638"/>
                  </a:lnTo>
                  <a:lnTo>
                    <a:pt x="1794" y="632"/>
                  </a:lnTo>
                  <a:lnTo>
                    <a:pt x="1800" y="621"/>
                  </a:lnTo>
                  <a:lnTo>
                    <a:pt x="1800" y="616"/>
                  </a:lnTo>
                  <a:lnTo>
                    <a:pt x="1805" y="610"/>
                  </a:lnTo>
                  <a:lnTo>
                    <a:pt x="1805" y="599"/>
                  </a:lnTo>
                  <a:lnTo>
                    <a:pt x="1810" y="594"/>
                  </a:lnTo>
                  <a:lnTo>
                    <a:pt x="1810" y="589"/>
                  </a:lnTo>
                  <a:lnTo>
                    <a:pt x="1816" y="583"/>
                  </a:lnTo>
                  <a:lnTo>
                    <a:pt x="1816" y="572"/>
                  </a:lnTo>
                  <a:lnTo>
                    <a:pt x="1816" y="567"/>
                  </a:lnTo>
                  <a:lnTo>
                    <a:pt x="1810" y="561"/>
                  </a:lnTo>
                  <a:lnTo>
                    <a:pt x="1805" y="550"/>
                  </a:lnTo>
                  <a:lnTo>
                    <a:pt x="1794" y="550"/>
                  </a:lnTo>
                  <a:lnTo>
                    <a:pt x="1783" y="545"/>
                  </a:lnTo>
                  <a:lnTo>
                    <a:pt x="1778" y="545"/>
                  </a:lnTo>
                  <a:lnTo>
                    <a:pt x="1767" y="550"/>
                  </a:lnTo>
                  <a:lnTo>
                    <a:pt x="1761" y="556"/>
                  </a:lnTo>
                  <a:lnTo>
                    <a:pt x="1750" y="567"/>
                  </a:lnTo>
                  <a:lnTo>
                    <a:pt x="1745" y="567"/>
                  </a:lnTo>
                  <a:lnTo>
                    <a:pt x="1734" y="572"/>
                  </a:lnTo>
                  <a:lnTo>
                    <a:pt x="1729" y="578"/>
                  </a:lnTo>
                  <a:lnTo>
                    <a:pt x="1718" y="583"/>
                  </a:lnTo>
                  <a:lnTo>
                    <a:pt x="1712" y="589"/>
                  </a:lnTo>
                  <a:lnTo>
                    <a:pt x="1707" y="594"/>
                  </a:lnTo>
                  <a:lnTo>
                    <a:pt x="1696" y="599"/>
                  </a:lnTo>
                  <a:lnTo>
                    <a:pt x="1690" y="605"/>
                  </a:lnTo>
                  <a:lnTo>
                    <a:pt x="1690" y="610"/>
                  </a:lnTo>
                  <a:lnTo>
                    <a:pt x="1685" y="621"/>
                  </a:lnTo>
                  <a:lnTo>
                    <a:pt x="1685" y="627"/>
                  </a:lnTo>
                  <a:lnTo>
                    <a:pt x="1680" y="632"/>
                  </a:lnTo>
                  <a:lnTo>
                    <a:pt x="1680" y="643"/>
                  </a:lnTo>
                  <a:lnTo>
                    <a:pt x="1674" y="649"/>
                  </a:lnTo>
                  <a:lnTo>
                    <a:pt x="1669" y="654"/>
                  </a:lnTo>
                  <a:lnTo>
                    <a:pt x="1663" y="659"/>
                  </a:lnTo>
                  <a:lnTo>
                    <a:pt x="1652" y="665"/>
                  </a:lnTo>
                  <a:lnTo>
                    <a:pt x="1641" y="665"/>
                  </a:lnTo>
                  <a:lnTo>
                    <a:pt x="1630" y="665"/>
                  </a:lnTo>
                  <a:lnTo>
                    <a:pt x="1620" y="665"/>
                  </a:lnTo>
                  <a:lnTo>
                    <a:pt x="1614" y="670"/>
                  </a:lnTo>
                  <a:lnTo>
                    <a:pt x="1614" y="681"/>
                  </a:lnTo>
                  <a:lnTo>
                    <a:pt x="1609" y="687"/>
                  </a:lnTo>
                  <a:lnTo>
                    <a:pt x="1603" y="692"/>
                  </a:lnTo>
                  <a:lnTo>
                    <a:pt x="1603" y="698"/>
                  </a:lnTo>
                  <a:lnTo>
                    <a:pt x="1603" y="708"/>
                  </a:lnTo>
                  <a:lnTo>
                    <a:pt x="1603" y="714"/>
                  </a:lnTo>
                  <a:lnTo>
                    <a:pt x="1603" y="719"/>
                  </a:lnTo>
                  <a:lnTo>
                    <a:pt x="1598" y="730"/>
                  </a:lnTo>
                  <a:lnTo>
                    <a:pt x="1598" y="736"/>
                  </a:lnTo>
                  <a:lnTo>
                    <a:pt x="1598" y="741"/>
                  </a:lnTo>
                  <a:lnTo>
                    <a:pt x="1592" y="752"/>
                  </a:lnTo>
                  <a:lnTo>
                    <a:pt x="1592" y="758"/>
                  </a:lnTo>
                  <a:lnTo>
                    <a:pt x="1592" y="763"/>
                  </a:lnTo>
                  <a:lnTo>
                    <a:pt x="1592" y="768"/>
                  </a:lnTo>
                  <a:lnTo>
                    <a:pt x="1587" y="779"/>
                  </a:lnTo>
                  <a:lnTo>
                    <a:pt x="1587" y="785"/>
                  </a:lnTo>
                  <a:lnTo>
                    <a:pt x="1587" y="790"/>
                  </a:lnTo>
                  <a:lnTo>
                    <a:pt x="1587" y="801"/>
                  </a:lnTo>
                  <a:lnTo>
                    <a:pt x="1587" y="807"/>
                  </a:lnTo>
                  <a:lnTo>
                    <a:pt x="1587" y="812"/>
                  </a:lnTo>
                  <a:lnTo>
                    <a:pt x="1587" y="823"/>
                  </a:lnTo>
                  <a:lnTo>
                    <a:pt x="1587" y="828"/>
                  </a:lnTo>
                  <a:lnTo>
                    <a:pt x="1592" y="834"/>
                  </a:lnTo>
                  <a:lnTo>
                    <a:pt x="1598" y="839"/>
                  </a:lnTo>
                  <a:lnTo>
                    <a:pt x="1609" y="839"/>
                  </a:lnTo>
                  <a:lnTo>
                    <a:pt x="1620" y="834"/>
                  </a:lnTo>
                  <a:lnTo>
                    <a:pt x="1630" y="828"/>
                  </a:lnTo>
                  <a:lnTo>
                    <a:pt x="1641" y="823"/>
                  </a:lnTo>
                  <a:lnTo>
                    <a:pt x="1647" y="817"/>
                  </a:lnTo>
                  <a:lnTo>
                    <a:pt x="1658" y="817"/>
                  </a:lnTo>
                  <a:lnTo>
                    <a:pt x="1663" y="823"/>
                  </a:lnTo>
                  <a:lnTo>
                    <a:pt x="1669" y="828"/>
                  </a:lnTo>
                  <a:lnTo>
                    <a:pt x="1669" y="834"/>
                  </a:lnTo>
                  <a:lnTo>
                    <a:pt x="1669" y="839"/>
                  </a:lnTo>
                  <a:lnTo>
                    <a:pt x="1663" y="850"/>
                  </a:lnTo>
                  <a:lnTo>
                    <a:pt x="1652" y="856"/>
                  </a:lnTo>
                  <a:lnTo>
                    <a:pt x="1647" y="861"/>
                  </a:lnTo>
                  <a:lnTo>
                    <a:pt x="1658" y="867"/>
                  </a:lnTo>
                  <a:lnTo>
                    <a:pt x="1663" y="872"/>
                  </a:lnTo>
                  <a:lnTo>
                    <a:pt x="1669" y="877"/>
                  </a:lnTo>
                  <a:lnTo>
                    <a:pt x="1669" y="888"/>
                  </a:lnTo>
                  <a:lnTo>
                    <a:pt x="1674" y="894"/>
                  </a:lnTo>
                  <a:lnTo>
                    <a:pt x="1674" y="899"/>
                  </a:lnTo>
                  <a:lnTo>
                    <a:pt x="1674" y="905"/>
                  </a:lnTo>
                  <a:lnTo>
                    <a:pt x="1680" y="916"/>
                  </a:lnTo>
                  <a:lnTo>
                    <a:pt x="1680" y="921"/>
                  </a:lnTo>
                  <a:lnTo>
                    <a:pt x="1680" y="927"/>
                  </a:lnTo>
                  <a:lnTo>
                    <a:pt x="1685" y="937"/>
                  </a:lnTo>
                  <a:lnTo>
                    <a:pt x="1685" y="943"/>
                  </a:lnTo>
                  <a:lnTo>
                    <a:pt x="1690" y="948"/>
                  </a:lnTo>
                  <a:lnTo>
                    <a:pt x="1690" y="948"/>
                  </a:lnTo>
                  <a:lnTo>
                    <a:pt x="1696" y="937"/>
                  </a:lnTo>
                  <a:lnTo>
                    <a:pt x="1696" y="927"/>
                  </a:lnTo>
                  <a:close/>
                  <a:moveTo>
                    <a:pt x="376" y="828"/>
                  </a:moveTo>
                  <a:lnTo>
                    <a:pt x="387" y="828"/>
                  </a:lnTo>
                  <a:lnTo>
                    <a:pt x="398" y="828"/>
                  </a:lnTo>
                  <a:lnTo>
                    <a:pt x="409" y="834"/>
                  </a:lnTo>
                  <a:lnTo>
                    <a:pt x="415" y="834"/>
                  </a:lnTo>
                  <a:lnTo>
                    <a:pt x="426" y="834"/>
                  </a:lnTo>
                  <a:lnTo>
                    <a:pt x="436" y="839"/>
                  </a:lnTo>
                  <a:lnTo>
                    <a:pt x="442" y="839"/>
                  </a:lnTo>
                  <a:lnTo>
                    <a:pt x="453" y="839"/>
                  </a:lnTo>
                  <a:lnTo>
                    <a:pt x="458" y="834"/>
                  </a:lnTo>
                  <a:lnTo>
                    <a:pt x="469" y="834"/>
                  </a:lnTo>
                  <a:lnTo>
                    <a:pt x="475" y="828"/>
                  </a:lnTo>
                  <a:lnTo>
                    <a:pt x="480" y="823"/>
                  </a:lnTo>
                  <a:lnTo>
                    <a:pt x="486" y="817"/>
                  </a:lnTo>
                  <a:lnTo>
                    <a:pt x="491" y="812"/>
                  </a:lnTo>
                  <a:lnTo>
                    <a:pt x="496" y="807"/>
                  </a:lnTo>
                  <a:lnTo>
                    <a:pt x="502" y="801"/>
                  </a:lnTo>
                  <a:lnTo>
                    <a:pt x="513" y="796"/>
                  </a:lnTo>
                  <a:lnTo>
                    <a:pt x="518" y="796"/>
                  </a:lnTo>
                  <a:lnTo>
                    <a:pt x="524" y="790"/>
                  </a:lnTo>
                  <a:lnTo>
                    <a:pt x="529" y="785"/>
                  </a:lnTo>
                  <a:lnTo>
                    <a:pt x="535" y="779"/>
                  </a:lnTo>
                  <a:lnTo>
                    <a:pt x="540" y="774"/>
                  </a:lnTo>
                  <a:lnTo>
                    <a:pt x="545" y="768"/>
                  </a:lnTo>
                  <a:lnTo>
                    <a:pt x="551" y="763"/>
                  </a:lnTo>
                  <a:lnTo>
                    <a:pt x="556" y="758"/>
                  </a:lnTo>
                  <a:lnTo>
                    <a:pt x="562" y="752"/>
                  </a:lnTo>
                  <a:lnTo>
                    <a:pt x="567" y="747"/>
                  </a:lnTo>
                  <a:lnTo>
                    <a:pt x="573" y="741"/>
                  </a:lnTo>
                  <a:lnTo>
                    <a:pt x="573" y="736"/>
                  </a:lnTo>
                  <a:lnTo>
                    <a:pt x="578" y="730"/>
                  </a:lnTo>
                  <a:lnTo>
                    <a:pt x="589" y="725"/>
                  </a:lnTo>
                  <a:lnTo>
                    <a:pt x="600" y="725"/>
                  </a:lnTo>
                  <a:lnTo>
                    <a:pt x="605" y="730"/>
                  </a:lnTo>
                  <a:lnTo>
                    <a:pt x="611" y="736"/>
                  </a:lnTo>
                  <a:lnTo>
                    <a:pt x="616" y="741"/>
                  </a:lnTo>
                  <a:lnTo>
                    <a:pt x="616" y="747"/>
                  </a:lnTo>
                  <a:lnTo>
                    <a:pt x="622" y="752"/>
                  </a:lnTo>
                  <a:lnTo>
                    <a:pt x="622" y="758"/>
                  </a:lnTo>
                  <a:lnTo>
                    <a:pt x="627" y="763"/>
                  </a:lnTo>
                  <a:lnTo>
                    <a:pt x="627" y="768"/>
                  </a:lnTo>
                  <a:lnTo>
                    <a:pt x="633" y="779"/>
                  </a:lnTo>
                  <a:lnTo>
                    <a:pt x="638" y="785"/>
                  </a:lnTo>
                  <a:lnTo>
                    <a:pt x="644" y="785"/>
                  </a:lnTo>
                  <a:lnTo>
                    <a:pt x="649" y="785"/>
                  </a:lnTo>
                  <a:lnTo>
                    <a:pt x="660" y="779"/>
                  </a:lnTo>
                  <a:lnTo>
                    <a:pt x="671" y="774"/>
                  </a:lnTo>
                  <a:lnTo>
                    <a:pt x="682" y="774"/>
                  </a:lnTo>
                  <a:lnTo>
                    <a:pt x="687" y="768"/>
                  </a:lnTo>
                  <a:lnTo>
                    <a:pt x="693" y="763"/>
                  </a:lnTo>
                  <a:lnTo>
                    <a:pt x="698" y="758"/>
                  </a:lnTo>
                  <a:lnTo>
                    <a:pt x="698" y="752"/>
                  </a:lnTo>
                  <a:lnTo>
                    <a:pt x="698" y="747"/>
                  </a:lnTo>
                  <a:lnTo>
                    <a:pt x="698" y="741"/>
                  </a:lnTo>
                  <a:lnTo>
                    <a:pt x="698" y="730"/>
                  </a:lnTo>
                  <a:lnTo>
                    <a:pt x="698" y="725"/>
                  </a:lnTo>
                  <a:lnTo>
                    <a:pt x="698" y="719"/>
                  </a:lnTo>
                  <a:lnTo>
                    <a:pt x="698" y="714"/>
                  </a:lnTo>
                  <a:lnTo>
                    <a:pt x="693" y="708"/>
                  </a:lnTo>
                  <a:lnTo>
                    <a:pt x="693" y="703"/>
                  </a:lnTo>
                  <a:lnTo>
                    <a:pt x="693" y="692"/>
                  </a:lnTo>
                  <a:lnTo>
                    <a:pt x="693" y="687"/>
                  </a:lnTo>
                  <a:lnTo>
                    <a:pt x="693" y="681"/>
                  </a:lnTo>
                  <a:lnTo>
                    <a:pt x="698" y="676"/>
                  </a:lnTo>
                  <a:lnTo>
                    <a:pt x="709" y="670"/>
                  </a:lnTo>
                  <a:lnTo>
                    <a:pt x="715" y="670"/>
                  </a:lnTo>
                  <a:lnTo>
                    <a:pt x="720" y="665"/>
                  </a:lnTo>
                  <a:lnTo>
                    <a:pt x="725" y="659"/>
                  </a:lnTo>
                  <a:lnTo>
                    <a:pt x="725" y="649"/>
                  </a:lnTo>
                  <a:lnTo>
                    <a:pt x="725" y="643"/>
                  </a:lnTo>
                  <a:lnTo>
                    <a:pt x="725" y="638"/>
                  </a:lnTo>
                  <a:lnTo>
                    <a:pt x="725" y="632"/>
                  </a:lnTo>
                  <a:lnTo>
                    <a:pt x="725" y="627"/>
                  </a:lnTo>
                  <a:lnTo>
                    <a:pt x="725" y="616"/>
                  </a:lnTo>
                  <a:lnTo>
                    <a:pt x="725" y="610"/>
                  </a:lnTo>
                  <a:lnTo>
                    <a:pt x="720" y="605"/>
                  </a:lnTo>
                  <a:lnTo>
                    <a:pt x="720" y="599"/>
                  </a:lnTo>
                  <a:lnTo>
                    <a:pt x="715" y="594"/>
                  </a:lnTo>
                  <a:lnTo>
                    <a:pt x="709" y="589"/>
                  </a:lnTo>
                  <a:lnTo>
                    <a:pt x="709" y="583"/>
                  </a:lnTo>
                  <a:lnTo>
                    <a:pt x="709" y="578"/>
                  </a:lnTo>
                  <a:lnTo>
                    <a:pt x="715" y="572"/>
                  </a:lnTo>
                  <a:lnTo>
                    <a:pt x="720" y="567"/>
                  </a:lnTo>
                  <a:lnTo>
                    <a:pt x="725" y="561"/>
                  </a:lnTo>
                  <a:lnTo>
                    <a:pt x="736" y="556"/>
                  </a:lnTo>
                  <a:lnTo>
                    <a:pt x="742" y="550"/>
                  </a:lnTo>
                  <a:lnTo>
                    <a:pt x="747" y="545"/>
                  </a:lnTo>
                  <a:lnTo>
                    <a:pt x="753" y="540"/>
                  </a:lnTo>
                  <a:lnTo>
                    <a:pt x="758" y="534"/>
                  </a:lnTo>
                  <a:lnTo>
                    <a:pt x="764" y="529"/>
                  </a:lnTo>
                  <a:lnTo>
                    <a:pt x="769" y="523"/>
                  </a:lnTo>
                  <a:lnTo>
                    <a:pt x="774" y="518"/>
                  </a:lnTo>
                  <a:lnTo>
                    <a:pt x="780" y="512"/>
                  </a:lnTo>
                  <a:lnTo>
                    <a:pt x="785" y="507"/>
                  </a:lnTo>
                  <a:lnTo>
                    <a:pt x="791" y="501"/>
                  </a:lnTo>
                  <a:lnTo>
                    <a:pt x="791" y="496"/>
                  </a:lnTo>
                  <a:lnTo>
                    <a:pt x="796" y="496"/>
                  </a:lnTo>
                  <a:lnTo>
                    <a:pt x="802" y="490"/>
                  </a:lnTo>
                  <a:lnTo>
                    <a:pt x="813" y="485"/>
                  </a:lnTo>
                  <a:lnTo>
                    <a:pt x="818" y="480"/>
                  </a:lnTo>
                  <a:lnTo>
                    <a:pt x="824" y="474"/>
                  </a:lnTo>
                  <a:lnTo>
                    <a:pt x="829" y="469"/>
                  </a:lnTo>
                  <a:lnTo>
                    <a:pt x="834" y="463"/>
                  </a:lnTo>
                  <a:lnTo>
                    <a:pt x="840" y="458"/>
                  </a:lnTo>
                  <a:lnTo>
                    <a:pt x="845" y="452"/>
                  </a:lnTo>
                  <a:lnTo>
                    <a:pt x="851" y="447"/>
                  </a:lnTo>
                  <a:lnTo>
                    <a:pt x="856" y="441"/>
                  </a:lnTo>
                  <a:lnTo>
                    <a:pt x="862" y="436"/>
                  </a:lnTo>
                  <a:lnTo>
                    <a:pt x="867" y="431"/>
                  </a:lnTo>
                  <a:lnTo>
                    <a:pt x="873" y="431"/>
                  </a:lnTo>
                  <a:lnTo>
                    <a:pt x="884" y="425"/>
                  </a:lnTo>
                  <a:lnTo>
                    <a:pt x="889" y="420"/>
                  </a:lnTo>
                  <a:lnTo>
                    <a:pt x="894" y="414"/>
                  </a:lnTo>
                  <a:lnTo>
                    <a:pt x="900" y="409"/>
                  </a:lnTo>
                  <a:lnTo>
                    <a:pt x="905" y="403"/>
                  </a:lnTo>
                  <a:lnTo>
                    <a:pt x="916" y="398"/>
                  </a:lnTo>
                  <a:lnTo>
                    <a:pt x="922" y="398"/>
                  </a:lnTo>
                  <a:lnTo>
                    <a:pt x="927" y="392"/>
                  </a:lnTo>
                  <a:lnTo>
                    <a:pt x="927" y="387"/>
                  </a:lnTo>
                  <a:lnTo>
                    <a:pt x="933" y="381"/>
                  </a:lnTo>
                  <a:lnTo>
                    <a:pt x="944" y="376"/>
                  </a:lnTo>
                  <a:lnTo>
                    <a:pt x="949" y="371"/>
                  </a:lnTo>
                  <a:lnTo>
                    <a:pt x="954" y="365"/>
                  </a:lnTo>
                  <a:lnTo>
                    <a:pt x="960" y="360"/>
                  </a:lnTo>
                  <a:lnTo>
                    <a:pt x="965" y="354"/>
                  </a:lnTo>
                  <a:lnTo>
                    <a:pt x="971" y="349"/>
                  </a:lnTo>
                  <a:lnTo>
                    <a:pt x="976" y="343"/>
                  </a:lnTo>
                  <a:lnTo>
                    <a:pt x="982" y="338"/>
                  </a:lnTo>
                  <a:lnTo>
                    <a:pt x="993" y="338"/>
                  </a:lnTo>
                  <a:lnTo>
                    <a:pt x="998" y="332"/>
                  </a:lnTo>
                  <a:lnTo>
                    <a:pt x="1009" y="332"/>
                  </a:lnTo>
                  <a:lnTo>
                    <a:pt x="1014" y="327"/>
                  </a:lnTo>
                  <a:lnTo>
                    <a:pt x="1020" y="322"/>
                  </a:lnTo>
                  <a:lnTo>
                    <a:pt x="1025" y="316"/>
                  </a:lnTo>
                  <a:lnTo>
                    <a:pt x="1031" y="311"/>
                  </a:lnTo>
                  <a:lnTo>
                    <a:pt x="1036" y="305"/>
                  </a:lnTo>
                  <a:lnTo>
                    <a:pt x="1042" y="300"/>
                  </a:lnTo>
                  <a:lnTo>
                    <a:pt x="1047" y="294"/>
                  </a:lnTo>
                  <a:lnTo>
                    <a:pt x="1053" y="289"/>
                  </a:lnTo>
                  <a:lnTo>
                    <a:pt x="1058" y="283"/>
                  </a:lnTo>
                  <a:lnTo>
                    <a:pt x="1063" y="278"/>
                  </a:lnTo>
                  <a:lnTo>
                    <a:pt x="1069" y="272"/>
                  </a:lnTo>
                  <a:lnTo>
                    <a:pt x="1074" y="267"/>
                  </a:lnTo>
                  <a:lnTo>
                    <a:pt x="1080" y="267"/>
                  </a:lnTo>
                  <a:lnTo>
                    <a:pt x="1085" y="262"/>
                  </a:lnTo>
                  <a:lnTo>
                    <a:pt x="1091" y="256"/>
                  </a:lnTo>
                  <a:lnTo>
                    <a:pt x="1096" y="251"/>
                  </a:lnTo>
                  <a:lnTo>
                    <a:pt x="1102" y="245"/>
                  </a:lnTo>
                  <a:lnTo>
                    <a:pt x="1107" y="240"/>
                  </a:lnTo>
                  <a:lnTo>
                    <a:pt x="1113" y="234"/>
                  </a:lnTo>
                  <a:lnTo>
                    <a:pt x="1123" y="229"/>
                  </a:lnTo>
                  <a:lnTo>
                    <a:pt x="1129" y="223"/>
                  </a:lnTo>
                  <a:lnTo>
                    <a:pt x="1129" y="218"/>
                  </a:lnTo>
                  <a:lnTo>
                    <a:pt x="1134" y="213"/>
                  </a:lnTo>
                  <a:lnTo>
                    <a:pt x="1134" y="207"/>
                  </a:lnTo>
                  <a:lnTo>
                    <a:pt x="1140" y="202"/>
                  </a:lnTo>
                  <a:lnTo>
                    <a:pt x="1140" y="196"/>
                  </a:lnTo>
                  <a:lnTo>
                    <a:pt x="1145" y="185"/>
                  </a:lnTo>
                  <a:lnTo>
                    <a:pt x="1151" y="180"/>
                  </a:lnTo>
                  <a:lnTo>
                    <a:pt x="1156" y="180"/>
                  </a:lnTo>
                  <a:lnTo>
                    <a:pt x="1167" y="180"/>
                  </a:lnTo>
                  <a:lnTo>
                    <a:pt x="1178" y="174"/>
                  </a:lnTo>
                  <a:lnTo>
                    <a:pt x="1183" y="174"/>
                  </a:lnTo>
                  <a:lnTo>
                    <a:pt x="1194" y="174"/>
                  </a:lnTo>
                  <a:lnTo>
                    <a:pt x="1205" y="169"/>
                  </a:lnTo>
                  <a:lnTo>
                    <a:pt x="1211" y="169"/>
                  </a:lnTo>
                  <a:lnTo>
                    <a:pt x="1222" y="163"/>
                  </a:lnTo>
                  <a:lnTo>
                    <a:pt x="1232" y="163"/>
                  </a:lnTo>
                  <a:lnTo>
                    <a:pt x="1238" y="158"/>
                  </a:lnTo>
                  <a:lnTo>
                    <a:pt x="1243" y="153"/>
                  </a:lnTo>
                  <a:lnTo>
                    <a:pt x="1254" y="153"/>
                  </a:lnTo>
                  <a:lnTo>
                    <a:pt x="1260" y="147"/>
                  </a:lnTo>
                  <a:lnTo>
                    <a:pt x="1271" y="147"/>
                  </a:lnTo>
                  <a:lnTo>
                    <a:pt x="1282" y="142"/>
                  </a:lnTo>
                  <a:lnTo>
                    <a:pt x="1287" y="142"/>
                  </a:lnTo>
                  <a:lnTo>
                    <a:pt x="1298" y="142"/>
                  </a:lnTo>
                  <a:lnTo>
                    <a:pt x="1309" y="136"/>
                  </a:lnTo>
                  <a:lnTo>
                    <a:pt x="1320" y="136"/>
                  </a:lnTo>
                  <a:lnTo>
                    <a:pt x="1325" y="136"/>
                  </a:lnTo>
                  <a:lnTo>
                    <a:pt x="1336" y="131"/>
                  </a:lnTo>
                  <a:lnTo>
                    <a:pt x="1347" y="131"/>
                  </a:lnTo>
                  <a:lnTo>
                    <a:pt x="1352" y="125"/>
                  </a:lnTo>
                  <a:lnTo>
                    <a:pt x="1358" y="125"/>
                  </a:lnTo>
                  <a:lnTo>
                    <a:pt x="1369" y="120"/>
                  </a:lnTo>
                  <a:lnTo>
                    <a:pt x="1374" y="114"/>
                  </a:lnTo>
                  <a:lnTo>
                    <a:pt x="1380" y="109"/>
                  </a:lnTo>
                  <a:lnTo>
                    <a:pt x="1391" y="109"/>
                  </a:lnTo>
                  <a:lnTo>
                    <a:pt x="1401" y="104"/>
                  </a:lnTo>
                  <a:lnTo>
                    <a:pt x="1407" y="104"/>
                  </a:lnTo>
                  <a:lnTo>
                    <a:pt x="1418" y="104"/>
                  </a:lnTo>
                  <a:lnTo>
                    <a:pt x="1429" y="98"/>
                  </a:lnTo>
                  <a:lnTo>
                    <a:pt x="1440" y="98"/>
                  </a:lnTo>
                  <a:lnTo>
                    <a:pt x="1445" y="98"/>
                  </a:lnTo>
                  <a:lnTo>
                    <a:pt x="1456" y="98"/>
                  </a:lnTo>
                  <a:lnTo>
                    <a:pt x="1467" y="98"/>
                  </a:lnTo>
                  <a:lnTo>
                    <a:pt x="1472" y="93"/>
                  </a:lnTo>
                  <a:lnTo>
                    <a:pt x="1478" y="87"/>
                  </a:lnTo>
                  <a:lnTo>
                    <a:pt x="1483" y="82"/>
                  </a:lnTo>
                  <a:lnTo>
                    <a:pt x="1489" y="76"/>
                  </a:lnTo>
                  <a:lnTo>
                    <a:pt x="1494" y="71"/>
                  </a:lnTo>
                  <a:lnTo>
                    <a:pt x="1505" y="71"/>
                  </a:lnTo>
                  <a:lnTo>
                    <a:pt x="1511" y="65"/>
                  </a:lnTo>
                  <a:lnTo>
                    <a:pt x="1521" y="65"/>
                  </a:lnTo>
                  <a:lnTo>
                    <a:pt x="1527" y="60"/>
                  </a:lnTo>
                  <a:lnTo>
                    <a:pt x="1532" y="54"/>
                  </a:lnTo>
                  <a:lnTo>
                    <a:pt x="1538" y="49"/>
                  </a:lnTo>
                  <a:lnTo>
                    <a:pt x="1549" y="44"/>
                  </a:lnTo>
                  <a:lnTo>
                    <a:pt x="1554" y="44"/>
                  </a:lnTo>
                  <a:lnTo>
                    <a:pt x="1565" y="38"/>
                  </a:lnTo>
                  <a:lnTo>
                    <a:pt x="1571" y="33"/>
                  </a:lnTo>
                  <a:lnTo>
                    <a:pt x="1565" y="27"/>
                  </a:lnTo>
                  <a:lnTo>
                    <a:pt x="1560" y="22"/>
                  </a:lnTo>
                  <a:lnTo>
                    <a:pt x="1554" y="16"/>
                  </a:lnTo>
                  <a:lnTo>
                    <a:pt x="1549" y="11"/>
                  </a:lnTo>
                  <a:lnTo>
                    <a:pt x="1543" y="5"/>
                  </a:lnTo>
                  <a:lnTo>
                    <a:pt x="1538" y="0"/>
                  </a:lnTo>
                  <a:lnTo>
                    <a:pt x="1527" y="0"/>
                  </a:lnTo>
                  <a:lnTo>
                    <a:pt x="1494" y="0"/>
                  </a:lnTo>
                  <a:lnTo>
                    <a:pt x="1467" y="0"/>
                  </a:lnTo>
                  <a:lnTo>
                    <a:pt x="1434" y="0"/>
                  </a:lnTo>
                  <a:lnTo>
                    <a:pt x="1401" y="0"/>
                  </a:lnTo>
                  <a:lnTo>
                    <a:pt x="1369" y="0"/>
                  </a:lnTo>
                  <a:lnTo>
                    <a:pt x="1336" y="0"/>
                  </a:lnTo>
                  <a:lnTo>
                    <a:pt x="1303" y="0"/>
                  </a:lnTo>
                  <a:lnTo>
                    <a:pt x="1276" y="0"/>
                  </a:lnTo>
                  <a:lnTo>
                    <a:pt x="1243" y="0"/>
                  </a:lnTo>
                  <a:lnTo>
                    <a:pt x="1211" y="0"/>
                  </a:lnTo>
                  <a:lnTo>
                    <a:pt x="1178" y="0"/>
                  </a:lnTo>
                  <a:lnTo>
                    <a:pt x="1145" y="0"/>
                  </a:lnTo>
                  <a:lnTo>
                    <a:pt x="1113" y="0"/>
                  </a:lnTo>
                  <a:lnTo>
                    <a:pt x="1085" y="0"/>
                  </a:lnTo>
                  <a:lnTo>
                    <a:pt x="1053" y="0"/>
                  </a:lnTo>
                  <a:lnTo>
                    <a:pt x="1020" y="0"/>
                  </a:lnTo>
                  <a:lnTo>
                    <a:pt x="987" y="0"/>
                  </a:lnTo>
                  <a:lnTo>
                    <a:pt x="954" y="0"/>
                  </a:lnTo>
                  <a:lnTo>
                    <a:pt x="922" y="0"/>
                  </a:lnTo>
                  <a:lnTo>
                    <a:pt x="894" y="0"/>
                  </a:lnTo>
                  <a:lnTo>
                    <a:pt x="862" y="0"/>
                  </a:lnTo>
                  <a:lnTo>
                    <a:pt x="829" y="0"/>
                  </a:lnTo>
                  <a:lnTo>
                    <a:pt x="796" y="0"/>
                  </a:lnTo>
                  <a:lnTo>
                    <a:pt x="764" y="0"/>
                  </a:lnTo>
                  <a:lnTo>
                    <a:pt x="731" y="0"/>
                  </a:lnTo>
                  <a:lnTo>
                    <a:pt x="704" y="33"/>
                  </a:lnTo>
                  <a:lnTo>
                    <a:pt x="671" y="65"/>
                  </a:lnTo>
                  <a:lnTo>
                    <a:pt x="638" y="98"/>
                  </a:lnTo>
                  <a:lnTo>
                    <a:pt x="605" y="125"/>
                  </a:lnTo>
                  <a:lnTo>
                    <a:pt x="573" y="158"/>
                  </a:lnTo>
                  <a:lnTo>
                    <a:pt x="545" y="158"/>
                  </a:lnTo>
                  <a:lnTo>
                    <a:pt x="513" y="191"/>
                  </a:lnTo>
                  <a:lnTo>
                    <a:pt x="480" y="223"/>
                  </a:lnTo>
                  <a:lnTo>
                    <a:pt x="447" y="256"/>
                  </a:lnTo>
                  <a:lnTo>
                    <a:pt x="415" y="289"/>
                  </a:lnTo>
                  <a:lnTo>
                    <a:pt x="382" y="322"/>
                  </a:lnTo>
                  <a:lnTo>
                    <a:pt x="382" y="349"/>
                  </a:lnTo>
                  <a:lnTo>
                    <a:pt x="382" y="354"/>
                  </a:lnTo>
                  <a:lnTo>
                    <a:pt x="376" y="360"/>
                  </a:lnTo>
                  <a:lnTo>
                    <a:pt x="371" y="365"/>
                  </a:lnTo>
                  <a:lnTo>
                    <a:pt x="366" y="371"/>
                  </a:lnTo>
                  <a:lnTo>
                    <a:pt x="366" y="376"/>
                  </a:lnTo>
                  <a:lnTo>
                    <a:pt x="360" y="381"/>
                  </a:lnTo>
                  <a:lnTo>
                    <a:pt x="360" y="387"/>
                  </a:lnTo>
                  <a:lnTo>
                    <a:pt x="355" y="392"/>
                  </a:lnTo>
                  <a:lnTo>
                    <a:pt x="349" y="398"/>
                  </a:lnTo>
                  <a:lnTo>
                    <a:pt x="344" y="403"/>
                  </a:lnTo>
                  <a:lnTo>
                    <a:pt x="338" y="409"/>
                  </a:lnTo>
                  <a:lnTo>
                    <a:pt x="333" y="414"/>
                  </a:lnTo>
                  <a:lnTo>
                    <a:pt x="333" y="420"/>
                  </a:lnTo>
                  <a:lnTo>
                    <a:pt x="327" y="425"/>
                  </a:lnTo>
                  <a:lnTo>
                    <a:pt x="322" y="431"/>
                  </a:lnTo>
                  <a:lnTo>
                    <a:pt x="316" y="436"/>
                  </a:lnTo>
                  <a:lnTo>
                    <a:pt x="316" y="441"/>
                  </a:lnTo>
                  <a:lnTo>
                    <a:pt x="311" y="447"/>
                  </a:lnTo>
                  <a:lnTo>
                    <a:pt x="306" y="447"/>
                  </a:lnTo>
                  <a:lnTo>
                    <a:pt x="300" y="452"/>
                  </a:lnTo>
                  <a:lnTo>
                    <a:pt x="295" y="458"/>
                  </a:lnTo>
                  <a:lnTo>
                    <a:pt x="295" y="463"/>
                  </a:lnTo>
                  <a:lnTo>
                    <a:pt x="289" y="469"/>
                  </a:lnTo>
                  <a:lnTo>
                    <a:pt x="284" y="474"/>
                  </a:lnTo>
                  <a:lnTo>
                    <a:pt x="278" y="480"/>
                  </a:lnTo>
                  <a:lnTo>
                    <a:pt x="273" y="485"/>
                  </a:lnTo>
                  <a:lnTo>
                    <a:pt x="273" y="490"/>
                  </a:lnTo>
                  <a:lnTo>
                    <a:pt x="267" y="496"/>
                  </a:lnTo>
                  <a:lnTo>
                    <a:pt x="262" y="501"/>
                  </a:lnTo>
                  <a:lnTo>
                    <a:pt x="257" y="507"/>
                  </a:lnTo>
                  <a:lnTo>
                    <a:pt x="251" y="512"/>
                  </a:lnTo>
                  <a:lnTo>
                    <a:pt x="246" y="518"/>
                  </a:lnTo>
                  <a:lnTo>
                    <a:pt x="240" y="518"/>
                  </a:lnTo>
                  <a:lnTo>
                    <a:pt x="235" y="523"/>
                  </a:lnTo>
                  <a:lnTo>
                    <a:pt x="235" y="534"/>
                  </a:lnTo>
                  <a:lnTo>
                    <a:pt x="229" y="540"/>
                  </a:lnTo>
                  <a:lnTo>
                    <a:pt x="229" y="545"/>
                  </a:lnTo>
                  <a:lnTo>
                    <a:pt x="224" y="550"/>
                  </a:lnTo>
                  <a:lnTo>
                    <a:pt x="224" y="556"/>
                  </a:lnTo>
                  <a:lnTo>
                    <a:pt x="224" y="561"/>
                  </a:lnTo>
                  <a:lnTo>
                    <a:pt x="218" y="567"/>
                  </a:lnTo>
                  <a:lnTo>
                    <a:pt x="218" y="572"/>
                  </a:lnTo>
                  <a:lnTo>
                    <a:pt x="213" y="578"/>
                  </a:lnTo>
                  <a:lnTo>
                    <a:pt x="213" y="583"/>
                  </a:lnTo>
                  <a:lnTo>
                    <a:pt x="207" y="589"/>
                  </a:lnTo>
                  <a:lnTo>
                    <a:pt x="202" y="594"/>
                  </a:lnTo>
                  <a:lnTo>
                    <a:pt x="202" y="599"/>
                  </a:lnTo>
                  <a:lnTo>
                    <a:pt x="202" y="605"/>
                  </a:lnTo>
                  <a:lnTo>
                    <a:pt x="202" y="610"/>
                  </a:lnTo>
                  <a:lnTo>
                    <a:pt x="202" y="616"/>
                  </a:lnTo>
                  <a:lnTo>
                    <a:pt x="202" y="621"/>
                  </a:lnTo>
                  <a:lnTo>
                    <a:pt x="202" y="627"/>
                  </a:lnTo>
                  <a:lnTo>
                    <a:pt x="202" y="638"/>
                  </a:lnTo>
                  <a:lnTo>
                    <a:pt x="197" y="643"/>
                  </a:lnTo>
                  <a:lnTo>
                    <a:pt x="191" y="638"/>
                  </a:lnTo>
                  <a:lnTo>
                    <a:pt x="186" y="632"/>
                  </a:lnTo>
                  <a:lnTo>
                    <a:pt x="180" y="627"/>
                  </a:lnTo>
                  <a:lnTo>
                    <a:pt x="175" y="621"/>
                  </a:lnTo>
                  <a:lnTo>
                    <a:pt x="175" y="616"/>
                  </a:lnTo>
                  <a:lnTo>
                    <a:pt x="169" y="610"/>
                  </a:lnTo>
                  <a:lnTo>
                    <a:pt x="164" y="610"/>
                  </a:lnTo>
                  <a:lnTo>
                    <a:pt x="153" y="605"/>
                  </a:lnTo>
                  <a:lnTo>
                    <a:pt x="147" y="605"/>
                  </a:lnTo>
                  <a:lnTo>
                    <a:pt x="142" y="599"/>
                  </a:lnTo>
                  <a:lnTo>
                    <a:pt x="131" y="594"/>
                  </a:lnTo>
                  <a:lnTo>
                    <a:pt x="126" y="594"/>
                  </a:lnTo>
                  <a:lnTo>
                    <a:pt x="115" y="594"/>
                  </a:lnTo>
                  <a:lnTo>
                    <a:pt x="104" y="594"/>
                  </a:lnTo>
                  <a:lnTo>
                    <a:pt x="98" y="589"/>
                  </a:lnTo>
                  <a:lnTo>
                    <a:pt x="93" y="589"/>
                  </a:lnTo>
                  <a:lnTo>
                    <a:pt x="93" y="578"/>
                  </a:lnTo>
                  <a:lnTo>
                    <a:pt x="66" y="605"/>
                  </a:lnTo>
                  <a:lnTo>
                    <a:pt x="33" y="605"/>
                  </a:lnTo>
                  <a:lnTo>
                    <a:pt x="0" y="638"/>
                  </a:lnTo>
                  <a:lnTo>
                    <a:pt x="0" y="670"/>
                  </a:lnTo>
                  <a:lnTo>
                    <a:pt x="0" y="703"/>
                  </a:lnTo>
                  <a:lnTo>
                    <a:pt x="0" y="725"/>
                  </a:lnTo>
                  <a:lnTo>
                    <a:pt x="6" y="719"/>
                  </a:lnTo>
                  <a:lnTo>
                    <a:pt x="11" y="714"/>
                  </a:lnTo>
                  <a:lnTo>
                    <a:pt x="17" y="708"/>
                  </a:lnTo>
                  <a:lnTo>
                    <a:pt x="22" y="703"/>
                  </a:lnTo>
                  <a:lnTo>
                    <a:pt x="28" y="698"/>
                  </a:lnTo>
                  <a:lnTo>
                    <a:pt x="33" y="692"/>
                  </a:lnTo>
                  <a:lnTo>
                    <a:pt x="38" y="692"/>
                  </a:lnTo>
                  <a:lnTo>
                    <a:pt x="44" y="698"/>
                  </a:lnTo>
                  <a:lnTo>
                    <a:pt x="49" y="703"/>
                  </a:lnTo>
                  <a:lnTo>
                    <a:pt x="55" y="708"/>
                  </a:lnTo>
                  <a:lnTo>
                    <a:pt x="60" y="719"/>
                  </a:lnTo>
                  <a:lnTo>
                    <a:pt x="60" y="725"/>
                  </a:lnTo>
                  <a:lnTo>
                    <a:pt x="60" y="730"/>
                  </a:lnTo>
                  <a:lnTo>
                    <a:pt x="60" y="736"/>
                  </a:lnTo>
                  <a:lnTo>
                    <a:pt x="60" y="741"/>
                  </a:lnTo>
                  <a:lnTo>
                    <a:pt x="55" y="752"/>
                  </a:lnTo>
                  <a:lnTo>
                    <a:pt x="49" y="758"/>
                  </a:lnTo>
                  <a:lnTo>
                    <a:pt x="44" y="763"/>
                  </a:lnTo>
                  <a:lnTo>
                    <a:pt x="38" y="763"/>
                  </a:lnTo>
                  <a:lnTo>
                    <a:pt x="28" y="763"/>
                  </a:lnTo>
                  <a:lnTo>
                    <a:pt x="33" y="768"/>
                  </a:lnTo>
                  <a:lnTo>
                    <a:pt x="33" y="801"/>
                  </a:lnTo>
                  <a:lnTo>
                    <a:pt x="38" y="801"/>
                  </a:lnTo>
                  <a:lnTo>
                    <a:pt x="44" y="796"/>
                  </a:lnTo>
                  <a:lnTo>
                    <a:pt x="55" y="796"/>
                  </a:lnTo>
                  <a:lnTo>
                    <a:pt x="60" y="790"/>
                  </a:lnTo>
                  <a:lnTo>
                    <a:pt x="71" y="790"/>
                  </a:lnTo>
                  <a:lnTo>
                    <a:pt x="82" y="790"/>
                  </a:lnTo>
                  <a:lnTo>
                    <a:pt x="87" y="790"/>
                  </a:lnTo>
                  <a:lnTo>
                    <a:pt x="98" y="790"/>
                  </a:lnTo>
                  <a:lnTo>
                    <a:pt x="109" y="790"/>
                  </a:lnTo>
                  <a:lnTo>
                    <a:pt x="120" y="790"/>
                  </a:lnTo>
                  <a:lnTo>
                    <a:pt x="126" y="790"/>
                  </a:lnTo>
                  <a:lnTo>
                    <a:pt x="137" y="790"/>
                  </a:lnTo>
                  <a:lnTo>
                    <a:pt x="147" y="796"/>
                  </a:lnTo>
                  <a:lnTo>
                    <a:pt x="158" y="796"/>
                  </a:lnTo>
                  <a:lnTo>
                    <a:pt x="164" y="796"/>
                  </a:lnTo>
                  <a:lnTo>
                    <a:pt x="175" y="796"/>
                  </a:lnTo>
                  <a:lnTo>
                    <a:pt x="186" y="790"/>
                  </a:lnTo>
                  <a:lnTo>
                    <a:pt x="191" y="785"/>
                  </a:lnTo>
                  <a:lnTo>
                    <a:pt x="202" y="785"/>
                  </a:lnTo>
                  <a:lnTo>
                    <a:pt x="202" y="779"/>
                  </a:lnTo>
                  <a:lnTo>
                    <a:pt x="207" y="768"/>
                  </a:lnTo>
                  <a:lnTo>
                    <a:pt x="207" y="763"/>
                  </a:lnTo>
                  <a:lnTo>
                    <a:pt x="207" y="758"/>
                  </a:lnTo>
                  <a:lnTo>
                    <a:pt x="202" y="752"/>
                  </a:lnTo>
                  <a:lnTo>
                    <a:pt x="202" y="741"/>
                  </a:lnTo>
                  <a:lnTo>
                    <a:pt x="207" y="736"/>
                  </a:lnTo>
                  <a:lnTo>
                    <a:pt x="213" y="736"/>
                  </a:lnTo>
                  <a:lnTo>
                    <a:pt x="218" y="730"/>
                  </a:lnTo>
                  <a:lnTo>
                    <a:pt x="229" y="730"/>
                  </a:lnTo>
                  <a:lnTo>
                    <a:pt x="240" y="730"/>
                  </a:lnTo>
                  <a:lnTo>
                    <a:pt x="246" y="736"/>
                  </a:lnTo>
                  <a:lnTo>
                    <a:pt x="251" y="741"/>
                  </a:lnTo>
                  <a:lnTo>
                    <a:pt x="257" y="747"/>
                  </a:lnTo>
                  <a:lnTo>
                    <a:pt x="262" y="752"/>
                  </a:lnTo>
                  <a:lnTo>
                    <a:pt x="273" y="758"/>
                  </a:lnTo>
                  <a:lnTo>
                    <a:pt x="278" y="763"/>
                  </a:lnTo>
                  <a:lnTo>
                    <a:pt x="284" y="768"/>
                  </a:lnTo>
                  <a:lnTo>
                    <a:pt x="284" y="768"/>
                  </a:lnTo>
                  <a:lnTo>
                    <a:pt x="284" y="779"/>
                  </a:lnTo>
                  <a:lnTo>
                    <a:pt x="284" y="785"/>
                  </a:lnTo>
                  <a:lnTo>
                    <a:pt x="284" y="790"/>
                  </a:lnTo>
                  <a:lnTo>
                    <a:pt x="278" y="796"/>
                  </a:lnTo>
                  <a:lnTo>
                    <a:pt x="278" y="801"/>
                  </a:lnTo>
                  <a:lnTo>
                    <a:pt x="278" y="812"/>
                  </a:lnTo>
                  <a:lnTo>
                    <a:pt x="278" y="817"/>
                  </a:lnTo>
                  <a:lnTo>
                    <a:pt x="284" y="823"/>
                  </a:lnTo>
                  <a:lnTo>
                    <a:pt x="295" y="823"/>
                  </a:lnTo>
                  <a:lnTo>
                    <a:pt x="300" y="828"/>
                  </a:lnTo>
                  <a:lnTo>
                    <a:pt x="311" y="828"/>
                  </a:lnTo>
                  <a:lnTo>
                    <a:pt x="322" y="828"/>
                  </a:lnTo>
                  <a:lnTo>
                    <a:pt x="333" y="834"/>
                  </a:lnTo>
                  <a:lnTo>
                    <a:pt x="338" y="834"/>
                  </a:lnTo>
                  <a:lnTo>
                    <a:pt x="344" y="839"/>
                  </a:lnTo>
                  <a:lnTo>
                    <a:pt x="355" y="839"/>
                  </a:lnTo>
                  <a:lnTo>
                    <a:pt x="360" y="839"/>
                  </a:lnTo>
                  <a:lnTo>
                    <a:pt x="371" y="834"/>
                  </a:lnTo>
                  <a:lnTo>
                    <a:pt x="376" y="828"/>
                  </a:lnTo>
                  <a:close/>
                  <a:moveTo>
                    <a:pt x="224" y="801"/>
                  </a:moveTo>
                  <a:lnTo>
                    <a:pt x="224" y="796"/>
                  </a:lnTo>
                  <a:lnTo>
                    <a:pt x="224" y="796"/>
                  </a:lnTo>
                  <a:lnTo>
                    <a:pt x="224" y="796"/>
                  </a:lnTo>
                  <a:lnTo>
                    <a:pt x="224" y="796"/>
                  </a:lnTo>
                  <a:lnTo>
                    <a:pt x="224" y="796"/>
                  </a:lnTo>
                  <a:lnTo>
                    <a:pt x="218" y="796"/>
                  </a:lnTo>
                  <a:lnTo>
                    <a:pt x="218" y="796"/>
                  </a:lnTo>
                  <a:lnTo>
                    <a:pt x="218" y="796"/>
                  </a:lnTo>
                  <a:lnTo>
                    <a:pt x="218" y="801"/>
                  </a:lnTo>
                  <a:lnTo>
                    <a:pt x="218" y="801"/>
                  </a:lnTo>
                  <a:lnTo>
                    <a:pt x="224" y="801"/>
                  </a:lnTo>
                  <a:lnTo>
                    <a:pt x="224" y="801"/>
                  </a:lnTo>
                  <a:lnTo>
                    <a:pt x="224" y="801"/>
                  </a:lnTo>
                  <a:lnTo>
                    <a:pt x="224" y="801"/>
                  </a:lnTo>
                  <a:close/>
                  <a:moveTo>
                    <a:pt x="1085" y="703"/>
                  </a:moveTo>
                  <a:lnTo>
                    <a:pt x="1085" y="698"/>
                  </a:lnTo>
                  <a:lnTo>
                    <a:pt x="1085" y="692"/>
                  </a:lnTo>
                  <a:lnTo>
                    <a:pt x="1085" y="681"/>
                  </a:lnTo>
                  <a:lnTo>
                    <a:pt x="1085" y="676"/>
                  </a:lnTo>
                  <a:lnTo>
                    <a:pt x="1085" y="670"/>
                  </a:lnTo>
                  <a:lnTo>
                    <a:pt x="1085" y="665"/>
                  </a:lnTo>
                  <a:lnTo>
                    <a:pt x="1085" y="659"/>
                  </a:lnTo>
                  <a:lnTo>
                    <a:pt x="1085" y="654"/>
                  </a:lnTo>
                  <a:lnTo>
                    <a:pt x="1085" y="649"/>
                  </a:lnTo>
                  <a:lnTo>
                    <a:pt x="1085" y="638"/>
                  </a:lnTo>
                  <a:lnTo>
                    <a:pt x="1085" y="632"/>
                  </a:lnTo>
                  <a:lnTo>
                    <a:pt x="1085" y="621"/>
                  </a:lnTo>
                  <a:lnTo>
                    <a:pt x="1085" y="616"/>
                  </a:lnTo>
                  <a:lnTo>
                    <a:pt x="1080" y="616"/>
                  </a:lnTo>
                  <a:lnTo>
                    <a:pt x="1074" y="621"/>
                  </a:lnTo>
                  <a:lnTo>
                    <a:pt x="1069" y="627"/>
                  </a:lnTo>
                  <a:lnTo>
                    <a:pt x="1063" y="632"/>
                  </a:lnTo>
                  <a:lnTo>
                    <a:pt x="1058" y="638"/>
                  </a:lnTo>
                  <a:lnTo>
                    <a:pt x="1053" y="643"/>
                  </a:lnTo>
                  <a:lnTo>
                    <a:pt x="1047" y="649"/>
                  </a:lnTo>
                  <a:lnTo>
                    <a:pt x="1042" y="654"/>
                  </a:lnTo>
                  <a:lnTo>
                    <a:pt x="1042" y="659"/>
                  </a:lnTo>
                  <a:lnTo>
                    <a:pt x="1036" y="665"/>
                  </a:lnTo>
                  <a:lnTo>
                    <a:pt x="1036" y="676"/>
                  </a:lnTo>
                  <a:lnTo>
                    <a:pt x="1036" y="681"/>
                  </a:lnTo>
                  <a:lnTo>
                    <a:pt x="1042" y="687"/>
                  </a:lnTo>
                  <a:lnTo>
                    <a:pt x="1047" y="692"/>
                  </a:lnTo>
                  <a:lnTo>
                    <a:pt x="1053" y="698"/>
                  </a:lnTo>
                  <a:lnTo>
                    <a:pt x="1063" y="698"/>
                  </a:lnTo>
                  <a:lnTo>
                    <a:pt x="1074" y="703"/>
                  </a:lnTo>
                  <a:lnTo>
                    <a:pt x="1080" y="708"/>
                  </a:lnTo>
                  <a:lnTo>
                    <a:pt x="1085" y="703"/>
                  </a:lnTo>
                  <a:close/>
                  <a:moveTo>
                    <a:pt x="1276" y="703"/>
                  </a:moveTo>
                  <a:lnTo>
                    <a:pt x="1276" y="698"/>
                  </a:lnTo>
                  <a:lnTo>
                    <a:pt x="1276" y="687"/>
                  </a:lnTo>
                  <a:lnTo>
                    <a:pt x="1276" y="681"/>
                  </a:lnTo>
                  <a:lnTo>
                    <a:pt x="1276" y="670"/>
                  </a:lnTo>
                  <a:lnTo>
                    <a:pt x="1276" y="665"/>
                  </a:lnTo>
                  <a:lnTo>
                    <a:pt x="1276" y="654"/>
                  </a:lnTo>
                  <a:lnTo>
                    <a:pt x="1276" y="649"/>
                  </a:lnTo>
                  <a:lnTo>
                    <a:pt x="1271" y="654"/>
                  </a:lnTo>
                  <a:lnTo>
                    <a:pt x="1271" y="659"/>
                  </a:lnTo>
                  <a:lnTo>
                    <a:pt x="1271" y="670"/>
                  </a:lnTo>
                  <a:lnTo>
                    <a:pt x="1271" y="681"/>
                  </a:lnTo>
                  <a:lnTo>
                    <a:pt x="1271" y="687"/>
                  </a:lnTo>
                  <a:lnTo>
                    <a:pt x="1271" y="692"/>
                  </a:lnTo>
                  <a:lnTo>
                    <a:pt x="1271" y="698"/>
                  </a:lnTo>
                  <a:lnTo>
                    <a:pt x="1271" y="708"/>
                  </a:lnTo>
                  <a:lnTo>
                    <a:pt x="1271" y="719"/>
                  </a:lnTo>
                  <a:lnTo>
                    <a:pt x="1276" y="725"/>
                  </a:lnTo>
                  <a:lnTo>
                    <a:pt x="1276" y="725"/>
                  </a:lnTo>
                  <a:lnTo>
                    <a:pt x="1276" y="714"/>
                  </a:lnTo>
                  <a:lnTo>
                    <a:pt x="1276" y="703"/>
                  </a:lnTo>
                  <a:close/>
                  <a:moveTo>
                    <a:pt x="1314" y="638"/>
                  </a:moveTo>
                  <a:lnTo>
                    <a:pt x="1314" y="627"/>
                  </a:lnTo>
                  <a:lnTo>
                    <a:pt x="1314" y="616"/>
                  </a:lnTo>
                  <a:lnTo>
                    <a:pt x="1314" y="610"/>
                  </a:lnTo>
                  <a:lnTo>
                    <a:pt x="1309" y="610"/>
                  </a:lnTo>
                  <a:lnTo>
                    <a:pt x="1298" y="610"/>
                  </a:lnTo>
                  <a:lnTo>
                    <a:pt x="1292" y="616"/>
                  </a:lnTo>
                  <a:lnTo>
                    <a:pt x="1282" y="621"/>
                  </a:lnTo>
                  <a:lnTo>
                    <a:pt x="1276" y="627"/>
                  </a:lnTo>
                  <a:lnTo>
                    <a:pt x="1276" y="638"/>
                  </a:lnTo>
                  <a:lnTo>
                    <a:pt x="1282" y="643"/>
                  </a:lnTo>
                  <a:lnTo>
                    <a:pt x="1292" y="649"/>
                  </a:lnTo>
                  <a:lnTo>
                    <a:pt x="1303" y="649"/>
                  </a:lnTo>
                  <a:lnTo>
                    <a:pt x="1309" y="649"/>
                  </a:lnTo>
                  <a:lnTo>
                    <a:pt x="1314" y="638"/>
                  </a:lnTo>
                  <a:close/>
                  <a:moveTo>
                    <a:pt x="1025" y="605"/>
                  </a:moveTo>
                  <a:lnTo>
                    <a:pt x="1036" y="605"/>
                  </a:lnTo>
                  <a:lnTo>
                    <a:pt x="1042" y="599"/>
                  </a:lnTo>
                  <a:lnTo>
                    <a:pt x="1047" y="594"/>
                  </a:lnTo>
                  <a:lnTo>
                    <a:pt x="1053" y="589"/>
                  </a:lnTo>
                  <a:lnTo>
                    <a:pt x="1058" y="583"/>
                  </a:lnTo>
                  <a:lnTo>
                    <a:pt x="1058" y="578"/>
                  </a:lnTo>
                  <a:lnTo>
                    <a:pt x="1058" y="572"/>
                  </a:lnTo>
                  <a:lnTo>
                    <a:pt x="1053" y="567"/>
                  </a:lnTo>
                  <a:lnTo>
                    <a:pt x="1047" y="561"/>
                  </a:lnTo>
                  <a:lnTo>
                    <a:pt x="1042" y="556"/>
                  </a:lnTo>
                  <a:lnTo>
                    <a:pt x="1036" y="550"/>
                  </a:lnTo>
                  <a:lnTo>
                    <a:pt x="1031" y="545"/>
                  </a:lnTo>
                  <a:lnTo>
                    <a:pt x="1025" y="540"/>
                  </a:lnTo>
                  <a:lnTo>
                    <a:pt x="1025" y="534"/>
                  </a:lnTo>
                  <a:lnTo>
                    <a:pt x="1025" y="529"/>
                  </a:lnTo>
                  <a:lnTo>
                    <a:pt x="1031" y="523"/>
                  </a:lnTo>
                  <a:lnTo>
                    <a:pt x="1031" y="518"/>
                  </a:lnTo>
                  <a:lnTo>
                    <a:pt x="1031" y="512"/>
                  </a:lnTo>
                  <a:lnTo>
                    <a:pt x="1031" y="507"/>
                  </a:lnTo>
                  <a:lnTo>
                    <a:pt x="1031" y="501"/>
                  </a:lnTo>
                  <a:lnTo>
                    <a:pt x="1031" y="496"/>
                  </a:lnTo>
                  <a:lnTo>
                    <a:pt x="1025" y="490"/>
                  </a:lnTo>
                  <a:lnTo>
                    <a:pt x="1020" y="485"/>
                  </a:lnTo>
                  <a:lnTo>
                    <a:pt x="1020" y="480"/>
                  </a:lnTo>
                  <a:lnTo>
                    <a:pt x="1020" y="469"/>
                  </a:lnTo>
                  <a:lnTo>
                    <a:pt x="1025" y="463"/>
                  </a:lnTo>
                  <a:lnTo>
                    <a:pt x="1025" y="458"/>
                  </a:lnTo>
                  <a:lnTo>
                    <a:pt x="1031" y="452"/>
                  </a:lnTo>
                  <a:lnTo>
                    <a:pt x="1031" y="447"/>
                  </a:lnTo>
                  <a:lnTo>
                    <a:pt x="1031" y="441"/>
                  </a:lnTo>
                  <a:lnTo>
                    <a:pt x="1036" y="436"/>
                  </a:lnTo>
                  <a:lnTo>
                    <a:pt x="1031" y="431"/>
                  </a:lnTo>
                  <a:lnTo>
                    <a:pt x="1031" y="425"/>
                  </a:lnTo>
                  <a:lnTo>
                    <a:pt x="1025" y="420"/>
                  </a:lnTo>
                  <a:lnTo>
                    <a:pt x="1020" y="414"/>
                  </a:lnTo>
                  <a:lnTo>
                    <a:pt x="1009" y="414"/>
                  </a:lnTo>
                  <a:lnTo>
                    <a:pt x="998" y="414"/>
                  </a:lnTo>
                  <a:lnTo>
                    <a:pt x="993" y="414"/>
                  </a:lnTo>
                  <a:lnTo>
                    <a:pt x="982" y="420"/>
                  </a:lnTo>
                  <a:lnTo>
                    <a:pt x="976" y="420"/>
                  </a:lnTo>
                  <a:lnTo>
                    <a:pt x="971" y="425"/>
                  </a:lnTo>
                  <a:lnTo>
                    <a:pt x="965" y="431"/>
                  </a:lnTo>
                  <a:lnTo>
                    <a:pt x="960" y="436"/>
                  </a:lnTo>
                  <a:lnTo>
                    <a:pt x="954" y="441"/>
                  </a:lnTo>
                  <a:lnTo>
                    <a:pt x="949" y="447"/>
                  </a:lnTo>
                  <a:lnTo>
                    <a:pt x="944" y="452"/>
                  </a:lnTo>
                  <a:lnTo>
                    <a:pt x="938" y="458"/>
                  </a:lnTo>
                  <a:lnTo>
                    <a:pt x="933" y="463"/>
                  </a:lnTo>
                  <a:lnTo>
                    <a:pt x="927" y="469"/>
                  </a:lnTo>
                  <a:lnTo>
                    <a:pt x="916" y="469"/>
                  </a:lnTo>
                  <a:lnTo>
                    <a:pt x="911" y="474"/>
                  </a:lnTo>
                  <a:lnTo>
                    <a:pt x="911" y="480"/>
                  </a:lnTo>
                  <a:lnTo>
                    <a:pt x="905" y="485"/>
                  </a:lnTo>
                  <a:lnTo>
                    <a:pt x="900" y="490"/>
                  </a:lnTo>
                  <a:lnTo>
                    <a:pt x="894" y="496"/>
                  </a:lnTo>
                  <a:lnTo>
                    <a:pt x="889" y="501"/>
                  </a:lnTo>
                  <a:lnTo>
                    <a:pt x="884" y="507"/>
                  </a:lnTo>
                  <a:lnTo>
                    <a:pt x="873" y="512"/>
                  </a:lnTo>
                  <a:lnTo>
                    <a:pt x="873" y="512"/>
                  </a:lnTo>
                  <a:lnTo>
                    <a:pt x="873" y="518"/>
                  </a:lnTo>
                  <a:lnTo>
                    <a:pt x="878" y="523"/>
                  </a:lnTo>
                  <a:lnTo>
                    <a:pt x="884" y="529"/>
                  </a:lnTo>
                  <a:lnTo>
                    <a:pt x="889" y="540"/>
                  </a:lnTo>
                  <a:lnTo>
                    <a:pt x="894" y="545"/>
                  </a:lnTo>
                  <a:lnTo>
                    <a:pt x="900" y="550"/>
                  </a:lnTo>
                  <a:lnTo>
                    <a:pt x="905" y="550"/>
                  </a:lnTo>
                  <a:lnTo>
                    <a:pt x="916" y="556"/>
                  </a:lnTo>
                  <a:lnTo>
                    <a:pt x="927" y="556"/>
                  </a:lnTo>
                  <a:lnTo>
                    <a:pt x="933" y="550"/>
                  </a:lnTo>
                  <a:lnTo>
                    <a:pt x="938" y="545"/>
                  </a:lnTo>
                  <a:lnTo>
                    <a:pt x="944" y="540"/>
                  </a:lnTo>
                  <a:lnTo>
                    <a:pt x="949" y="534"/>
                  </a:lnTo>
                  <a:lnTo>
                    <a:pt x="960" y="534"/>
                  </a:lnTo>
                  <a:lnTo>
                    <a:pt x="965" y="534"/>
                  </a:lnTo>
                  <a:lnTo>
                    <a:pt x="976" y="534"/>
                  </a:lnTo>
                  <a:lnTo>
                    <a:pt x="987" y="534"/>
                  </a:lnTo>
                  <a:lnTo>
                    <a:pt x="993" y="540"/>
                  </a:lnTo>
                  <a:lnTo>
                    <a:pt x="998" y="545"/>
                  </a:lnTo>
                  <a:lnTo>
                    <a:pt x="998" y="550"/>
                  </a:lnTo>
                  <a:lnTo>
                    <a:pt x="1003" y="556"/>
                  </a:lnTo>
                  <a:lnTo>
                    <a:pt x="1003" y="561"/>
                  </a:lnTo>
                  <a:lnTo>
                    <a:pt x="1003" y="572"/>
                  </a:lnTo>
                  <a:lnTo>
                    <a:pt x="1009" y="578"/>
                  </a:lnTo>
                  <a:lnTo>
                    <a:pt x="1009" y="583"/>
                  </a:lnTo>
                  <a:lnTo>
                    <a:pt x="1009" y="589"/>
                  </a:lnTo>
                  <a:lnTo>
                    <a:pt x="1014" y="594"/>
                  </a:lnTo>
                  <a:lnTo>
                    <a:pt x="1014" y="599"/>
                  </a:lnTo>
                  <a:lnTo>
                    <a:pt x="1014" y="605"/>
                  </a:lnTo>
                  <a:lnTo>
                    <a:pt x="1020" y="610"/>
                  </a:lnTo>
                  <a:lnTo>
                    <a:pt x="1020" y="616"/>
                  </a:lnTo>
                  <a:lnTo>
                    <a:pt x="1020" y="616"/>
                  </a:lnTo>
                  <a:lnTo>
                    <a:pt x="1025" y="605"/>
                  </a:lnTo>
                  <a:close/>
                  <a:moveTo>
                    <a:pt x="813" y="572"/>
                  </a:moveTo>
                  <a:lnTo>
                    <a:pt x="813" y="567"/>
                  </a:lnTo>
                  <a:lnTo>
                    <a:pt x="818" y="561"/>
                  </a:lnTo>
                  <a:lnTo>
                    <a:pt x="824" y="556"/>
                  </a:lnTo>
                  <a:lnTo>
                    <a:pt x="829" y="550"/>
                  </a:lnTo>
                  <a:lnTo>
                    <a:pt x="834" y="550"/>
                  </a:lnTo>
                  <a:lnTo>
                    <a:pt x="840" y="545"/>
                  </a:lnTo>
                  <a:lnTo>
                    <a:pt x="845" y="540"/>
                  </a:lnTo>
                  <a:lnTo>
                    <a:pt x="845" y="534"/>
                  </a:lnTo>
                  <a:lnTo>
                    <a:pt x="840" y="529"/>
                  </a:lnTo>
                  <a:lnTo>
                    <a:pt x="840" y="523"/>
                  </a:lnTo>
                  <a:lnTo>
                    <a:pt x="834" y="512"/>
                  </a:lnTo>
                  <a:lnTo>
                    <a:pt x="829" y="507"/>
                  </a:lnTo>
                  <a:lnTo>
                    <a:pt x="824" y="512"/>
                  </a:lnTo>
                  <a:lnTo>
                    <a:pt x="818" y="518"/>
                  </a:lnTo>
                  <a:lnTo>
                    <a:pt x="813" y="523"/>
                  </a:lnTo>
                  <a:lnTo>
                    <a:pt x="807" y="529"/>
                  </a:lnTo>
                  <a:lnTo>
                    <a:pt x="802" y="529"/>
                  </a:lnTo>
                  <a:lnTo>
                    <a:pt x="796" y="534"/>
                  </a:lnTo>
                  <a:lnTo>
                    <a:pt x="791" y="540"/>
                  </a:lnTo>
                  <a:lnTo>
                    <a:pt x="785" y="545"/>
                  </a:lnTo>
                  <a:lnTo>
                    <a:pt x="780" y="550"/>
                  </a:lnTo>
                  <a:lnTo>
                    <a:pt x="774" y="556"/>
                  </a:lnTo>
                  <a:lnTo>
                    <a:pt x="769" y="561"/>
                  </a:lnTo>
                  <a:lnTo>
                    <a:pt x="764" y="567"/>
                  </a:lnTo>
                  <a:lnTo>
                    <a:pt x="758" y="572"/>
                  </a:lnTo>
                  <a:lnTo>
                    <a:pt x="758" y="578"/>
                  </a:lnTo>
                  <a:lnTo>
                    <a:pt x="758" y="583"/>
                  </a:lnTo>
                  <a:lnTo>
                    <a:pt x="758" y="589"/>
                  </a:lnTo>
                  <a:lnTo>
                    <a:pt x="764" y="594"/>
                  </a:lnTo>
                  <a:lnTo>
                    <a:pt x="769" y="599"/>
                  </a:lnTo>
                  <a:lnTo>
                    <a:pt x="780" y="605"/>
                  </a:lnTo>
                  <a:lnTo>
                    <a:pt x="785" y="605"/>
                  </a:lnTo>
                  <a:lnTo>
                    <a:pt x="796" y="605"/>
                  </a:lnTo>
                  <a:lnTo>
                    <a:pt x="802" y="599"/>
                  </a:lnTo>
                  <a:lnTo>
                    <a:pt x="807" y="599"/>
                  </a:lnTo>
                  <a:lnTo>
                    <a:pt x="813" y="594"/>
                  </a:lnTo>
                  <a:lnTo>
                    <a:pt x="813" y="583"/>
                  </a:lnTo>
                  <a:lnTo>
                    <a:pt x="813" y="572"/>
                  </a:lnTo>
                  <a:close/>
                  <a:moveTo>
                    <a:pt x="1342" y="572"/>
                  </a:moveTo>
                  <a:lnTo>
                    <a:pt x="1342" y="572"/>
                  </a:lnTo>
                  <a:lnTo>
                    <a:pt x="1342" y="567"/>
                  </a:lnTo>
                  <a:lnTo>
                    <a:pt x="1342" y="567"/>
                  </a:lnTo>
                  <a:lnTo>
                    <a:pt x="1336" y="567"/>
                  </a:lnTo>
                  <a:lnTo>
                    <a:pt x="1336" y="567"/>
                  </a:lnTo>
                  <a:lnTo>
                    <a:pt x="1336" y="567"/>
                  </a:lnTo>
                  <a:lnTo>
                    <a:pt x="1331" y="567"/>
                  </a:lnTo>
                  <a:lnTo>
                    <a:pt x="1331" y="572"/>
                  </a:lnTo>
                  <a:lnTo>
                    <a:pt x="1331" y="572"/>
                  </a:lnTo>
                  <a:lnTo>
                    <a:pt x="1331" y="572"/>
                  </a:lnTo>
                  <a:lnTo>
                    <a:pt x="1331" y="578"/>
                  </a:lnTo>
                  <a:lnTo>
                    <a:pt x="1336" y="578"/>
                  </a:lnTo>
                  <a:lnTo>
                    <a:pt x="1336" y="578"/>
                  </a:lnTo>
                  <a:lnTo>
                    <a:pt x="1342" y="572"/>
                  </a:lnTo>
                  <a:close/>
                  <a:moveTo>
                    <a:pt x="164" y="545"/>
                  </a:moveTo>
                  <a:lnTo>
                    <a:pt x="169" y="540"/>
                  </a:lnTo>
                  <a:lnTo>
                    <a:pt x="175" y="534"/>
                  </a:lnTo>
                  <a:lnTo>
                    <a:pt x="180" y="529"/>
                  </a:lnTo>
                  <a:lnTo>
                    <a:pt x="186" y="523"/>
                  </a:lnTo>
                  <a:lnTo>
                    <a:pt x="191" y="518"/>
                  </a:lnTo>
                  <a:lnTo>
                    <a:pt x="197" y="512"/>
                  </a:lnTo>
                  <a:lnTo>
                    <a:pt x="202" y="507"/>
                  </a:lnTo>
                  <a:lnTo>
                    <a:pt x="202" y="501"/>
                  </a:lnTo>
                  <a:lnTo>
                    <a:pt x="202" y="496"/>
                  </a:lnTo>
                  <a:lnTo>
                    <a:pt x="202" y="485"/>
                  </a:lnTo>
                  <a:lnTo>
                    <a:pt x="197" y="480"/>
                  </a:lnTo>
                  <a:lnTo>
                    <a:pt x="191" y="480"/>
                  </a:lnTo>
                  <a:lnTo>
                    <a:pt x="164" y="512"/>
                  </a:lnTo>
                  <a:lnTo>
                    <a:pt x="131" y="545"/>
                  </a:lnTo>
                  <a:lnTo>
                    <a:pt x="126" y="545"/>
                  </a:lnTo>
                  <a:lnTo>
                    <a:pt x="137" y="550"/>
                  </a:lnTo>
                  <a:lnTo>
                    <a:pt x="142" y="550"/>
                  </a:lnTo>
                  <a:lnTo>
                    <a:pt x="147" y="556"/>
                  </a:lnTo>
                  <a:lnTo>
                    <a:pt x="153" y="561"/>
                  </a:lnTo>
                  <a:lnTo>
                    <a:pt x="158" y="567"/>
                  </a:lnTo>
                  <a:lnTo>
                    <a:pt x="158" y="567"/>
                  </a:lnTo>
                  <a:lnTo>
                    <a:pt x="164" y="567"/>
                  </a:lnTo>
                  <a:lnTo>
                    <a:pt x="164" y="567"/>
                  </a:lnTo>
                  <a:lnTo>
                    <a:pt x="164" y="561"/>
                  </a:lnTo>
                  <a:lnTo>
                    <a:pt x="164" y="550"/>
                  </a:lnTo>
                  <a:lnTo>
                    <a:pt x="164" y="545"/>
                  </a:lnTo>
                  <a:close/>
                  <a:moveTo>
                    <a:pt x="235" y="447"/>
                  </a:moveTo>
                  <a:lnTo>
                    <a:pt x="224" y="447"/>
                  </a:lnTo>
                  <a:lnTo>
                    <a:pt x="224" y="458"/>
                  </a:lnTo>
                  <a:lnTo>
                    <a:pt x="235" y="447"/>
                  </a:lnTo>
                  <a:close/>
                  <a:moveTo>
                    <a:pt x="273" y="414"/>
                  </a:moveTo>
                  <a:lnTo>
                    <a:pt x="257" y="414"/>
                  </a:lnTo>
                  <a:lnTo>
                    <a:pt x="257" y="425"/>
                  </a:lnTo>
                  <a:lnTo>
                    <a:pt x="273" y="414"/>
                  </a:lnTo>
                  <a:close/>
                  <a:moveTo>
                    <a:pt x="333" y="381"/>
                  </a:moveTo>
                  <a:lnTo>
                    <a:pt x="322" y="381"/>
                  </a:lnTo>
                  <a:lnTo>
                    <a:pt x="289" y="381"/>
                  </a:lnTo>
                  <a:lnTo>
                    <a:pt x="289" y="403"/>
                  </a:lnTo>
                  <a:lnTo>
                    <a:pt x="295" y="403"/>
                  </a:lnTo>
                  <a:lnTo>
                    <a:pt x="300" y="398"/>
                  </a:lnTo>
                  <a:lnTo>
                    <a:pt x="306" y="398"/>
                  </a:lnTo>
                  <a:lnTo>
                    <a:pt x="311" y="392"/>
                  </a:lnTo>
                  <a:lnTo>
                    <a:pt x="316" y="392"/>
                  </a:lnTo>
                  <a:lnTo>
                    <a:pt x="322" y="387"/>
                  </a:lnTo>
                  <a:lnTo>
                    <a:pt x="327" y="387"/>
                  </a:lnTo>
                  <a:lnTo>
                    <a:pt x="333" y="381"/>
                  </a:lnTo>
                  <a:close/>
                  <a:moveTo>
                    <a:pt x="382" y="354"/>
                  </a:moveTo>
                  <a:lnTo>
                    <a:pt x="355" y="354"/>
                  </a:lnTo>
                  <a:lnTo>
                    <a:pt x="355" y="376"/>
                  </a:lnTo>
                  <a:lnTo>
                    <a:pt x="382" y="354"/>
                  </a:lnTo>
                  <a:close/>
                </a:path>
              </a:pathLst>
            </a:custGeom>
            <a:solidFill>
              <a:srgbClr val="a1cc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0" name=""/>
            <p:cNvSpPr/>
            <p:nvPr/>
          </p:nvSpPr>
          <p:spPr>
            <a:xfrm>
              <a:off x="1741320" y="2514600"/>
              <a:ext cx="4899240" cy="3139920"/>
            </a:xfrm>
            <a:custGeom>
              <a:avLst/>
              <a:gdLst/>
              <a:ahLst/>
              <a:rect l="l" t="t" r="r" b="b"/>
              <a:pathLst>
                <a:path w="3086" h="1978">
                  <a:moveTo>
                    <a:pt x="2672" y="1978"/>
                  </a:moveTo>
                  <a:lnTo>
                    <a:pt x="2705" y="1946"/>
                  </a:lnTo>
                  <a:lnTo>
                    <a:pt x="2737" y="1946"/>
                  </a:lnTo>
                  <a:lnTo>
                    <a:pt x="2770" y="1946"/>
                  </a:lnTo>
                  <a:lnTo>
                    <a:pt x="2797" y="1946"/>
                  </a:lnTo>
                  <a:lnTo>
                    <a:pt x="2830" y="1946"/>
                  </a:lnTo>
                  <a:lnTo>
                    <a:pt x="2863" y="1946"/>
                  </a:lnTo>
                  <a:lnTo>
                    <a:pt x="2895" y="1946"/>
                  </a:lnTo>
                  <a:lnTo>
                    <a:pt x="2928" y="1918"/>
                  </a:lnTo>
                  <a:lnTo>
                    <a:pt x="2928" y="1886"/>
                  </a:lnTo>
                  <a:lnTo>
                    <a:pt x="2928" y="1853"/>
                  </a:lnTo>
                  <a:lnTo>
                    <a:pt x="2928" y="1820"/>
                  </a:lnTo>
                  <a:lnTo>
                    <a:pt x="2961" y="1788"/>
                  </a:lnTo>
                  <a:lnTo>
                    <a:pt x="2961" y="1755"/>
                  </a:lnTo>
                  <a:lnTo>
                    <a:pt x="2961" y="1722"/>
                  </a:lnTo>
                  <a:lnTo>
                    <a:pt x="2961" y="1695"/>
                  </a:lnTo>
                  <a:lnTo>
                    <a:pt x="2988" y="1662"/>
                  </a:lnTo>
                  <a:lnTo>
                    <a:pt x="2988" y="1630"/>
                  </a:lnTo>
                  <a:lnTo>
                    <a:pt x="2988" y="1597"/>
                  </a:lnTo>
                  <a:lnTo>
                    <a:pt x="2988" y="1564"/>
                  </a:lnTo>
                  <a:lnTo>
                    <a:pt x="3021" y="1531"/>
                  </a:lnTo>
                  <a:lnTo>
                    <a:pt x="3021" y="1499"/>
                  </a:lnTo>
                  <a:lnTo>
                    <a:pt x="3021" y="1472"/>
                  </a:lnTo>
                  <a:lnTo>
                    <a:pt x="3021" y="1439"/>
                  </a:lnTo>
                  <a:lnTo>
                    <a:pt x="3054" y="1406"/>
                  </a:lnTo>
                  <a:lnTo>
                    <a:pt x="3054" y="1373"/>
                  </a:lnTo>
                  <a:lnTo>
                    <a:pt x="3054" y="1341"/>
                  </a:lnTo>
                  <a:lnTo>
                    <a:pt x="3054" y="1308"/>
                  </a:lnTo>
                  <a:lnTo>
                    <a:pt x="3086" y="1275"/>
                  </a:lnTo>
                  <a:lnTo>
                    <a:pt x="3086" y="1248"/>
                  </a:lnTo>
                  <a:lnTo>
                    <a:pt x="3086" y="1215"/>
                  </a:lnTo>
                  <a:lnTo>
                    <a:pt x="3086" y="1183"/>
                  </a:lnTo>
                  <a:lnTo>
                    <a:pt x="3086" y="1150"/>
                  </a:lnTo>
                  <a:lnTo>
                    <a:pt x="3086" y="1117"/>
                  </a:lnTo>
                  <a:lnTo>
                    <a:pt x="3086" y="1085"/>
                  </a:lnTo>
                  <a:lnTo>
                    <a:pt x="3086" y="1052"/>
                  </a:lnTo>
                  <a:lnTo>
                    <a:pt x="3086" y="1025"/>
                  </a:lnTo>
                  <a:lnTo>
                    <a:pt x="3086" y="992"/>
                  </a:lnTo>
                  <a:lnTo>
                    <a:pt x="3086" y="959"/>
                  </a:lnTo>
                  <a:lnTo>
                    <a:pt x="3086" y="927"/>
                  </a:lnTo>
                  <a:lnTo>
                    <a:pt x="3086" y="894"/>
                  </a:lnTo>
                  <a:lnTo>
                    <a:pt x="3086" y="861"/>
                  </a:lnTo>
                  <a:lnTo>
                    <a:pt x="3086" y="828"/>
                  </a:lnTo>
                  <a:lnTo>
                    <a:pt x="3086" y="801"/>
                  </a:lnTo>
                  <a:lnTo>
                    <a:pt x="3086" y="768"/>
                  </a:lnTo>
                  <a:lnTo>
                    <a:pt x="3086" y="736"/>
                  </a:lnTo>
                  <a:lnTo>
                    <a:pt x="3086" y="703"/>
                  </a:lnTo>
                  <a:lnTo>
                    <a:pt x="3086" y="670"/>
                  </a:lnTo>
                  <a:lnTo>
                    <a:pt x="3086" y="638"/>
                  </a:lnTo>
                  <a:lnTo>
                    <a:pt x="3086" y="605"/>
                  </a:lnTo>
                  <a:lnTo>
                    <a:pt x="3086" y="572"/>
                  </a:lnTo>
                  <a:lnTo>
                    <a:pt x="3086" y="545"/>
                  </a:lnTo>
                  <a:lnTo>
                    <a:pt x="3086" y="512"/>
                  </a:lnTo>
                  <a:lnTo>
                    <a:pt x="3086" y="480"/>
                  </a:lnTo>
                  <a:lnTo>
                    <a:pt x="3086" y="447"/>
                  </a:lnTo>
                  <a:lnTo>
                    <a:pt x="3086" y="414"/>
                  </a:lnTo>
                  <a:lnTo>
                    <a:pt x="3086" y="381"/>
                  </a:lnTo>
                  <a:lnTo>
                    <a:pt x="3086" y="354"/>
                  </a:lnTo>
                  <a:lnTo>
                    <a:pt x="3086" y="322"/>
                  </a:lnTo>
                  <a:lnTo>
                    <a:pt x="3086" y="289"/>
                  </a:lnTo>
                  <a:lnTo>
                    <a:pt x="3054" y="256"/>
                  </a:lnTo>
                  <a:lnTo>
                    <a:pt x="3054" y="223"/>
                  </a:lnTo>
                  <a:lnTo>
                    <a:pt x="3054" y="191"/>
                  </a:lnTo>
                  <a:lnTo>
                    <a:pt x="3054" y="158"/>
                  </a:lnTo>
                  <a:lnTo>
                    <a:pt x="3054" y="125"/>
                  </a:lnTo>
                  <a:lnTo>
                    <a:pt x="3021" y="98"/>
                  </a:lnTo>
                  <a:lnTo>
                    <a:pt x="2988" y="98"/>
                  </a:lnTo>
                  <a:lnTo>
                    <a:pt x="2961" y="98"/>
                  </a:lnTo>
                  <a:lnTo>
                    <a:pt x="2928" y="65"/>
                  </a:lnTo>
                  <a:lnTo>
                    <a:pt x="2895" y="65"/>
                  </a:lnTo>
                  <a:lnTo>
                    <a:pt x="2863" y="65"/>
                  </a:lnTo>
                  <a:lnTo>
                    <a:pt x="2830" y="33"/>
                  </a:lnTo>
                  <a:lnTo>
                    <a:pt x="2797" y="33"/>
                  </a:lnTo>
                  <a:lnTo>
                    <a:pt x="2770" y="33"/>
                  </a:lnTo>
                  <a:lnTo>
                    <a:pt x="2737" y="0"/>
                  </a:lnTo>
                  <a:lnTo>
                    <a:pt x="2705" y="0"/>
                  </a:lnTo>
                  <a:lnTo>
                    <a:pt x="2672" y="0"/>
                  </a:lnTo>
                  <a:lnTo>
                    <a:pt x="2639" y="0"/>
                  </a:lnTo>
                  <a:lnTo>
                    <a:pt x="2612" y="0"/>
                  </a:lnTo>
                  <a:lnTo>
                    <a:pt x="2579" y="0"/>
                  </a:lnTo>
                  <a:lnTo>
                    <a:pt x="2546" y="0"/>
                  </a:lnTo>
                  <a:lnTo>
                    <a:pt x="2514" y="0"/>
                  </a:lnTo>
                  <a:lnTo>
                    <a:pt x="2481" y="0"/>
                  </a:lnTo>
                  <a:lnTo>
                    <a:pt x="2448" y="0"/>
                  </a:lnTo>
                  <a:lnTo>
                    <a:pt x="2421" y="0"/>
                  </a:lnTo>
                  <a:lnTo>
                    <a:pt x="2388" y="0"/>
                  </a:lnTo>
                  <a:lnTo>
                    <a:pt x="2356" y="0"/>
                  </a:lnTo>
                  <a:lnTo>
                    <a:pt x="2323" y="0"/>
                  </a:lnTo>
                  <a:lnTo>
                    <a:pt x="2317" y="0"/>
                  </a:lnTo>
                  <a:lnTo>
                    <a:pt x="2323" y="5"/>
                  </a:lnTo>
                  <a:lnTo>
                    <a:pt x="2334" y="5"/>
                  </a:lnTo>
                  <a:lnTo>
                    <a:pt x="2339" y="11"/>
                  </a:lnTo>
                  <a:lnTo>
                    <a:pt x="2350" y="16"/>
                  </a:lnTo>
                  <a:lnTo>
                    <a:pt x="2361" y="16"/>
                  </a:lnTo>
                  <a:lnTo>
                    <a:pt x="2367" y="16"/>
                  </a:lnTo>
                  <a:lnTo>
                    <a:pt x="2377" y="16"/>
                  </a:lnTo>
                  <a:lnTo>
                    <a:pt x="2388" y="22"/>
                  </a:lnTo>
                  <a:lnTo>
                    <a:pt x="2399" y="22"/>
                  </a:lnTo>
                  <a:lnTo>
                    <a:pt x="2405" y="22"/>
                  </a:lnTo>
                  <a:lnTo>
                    <a:pt x="2416" y="22"/>
                  </a:lnTo>
                  <a:lnTo>
                    <a:pt x="2427" y="22"/>
                  </a:lnTo>
                  <a:lnTo>
                    <a:pt x="2437" y="22"/>
                  </a:lnTo>
                  <a:lnTo>
                    <a:pt x="2448" y="22"/>
                  </a:lnTo>
                  <a:lnTo>
                    <a:pt x="2454" y="27"/>
                  </a:lnTo>
                  <a:lnTo>
                    <a:pt x="2465" y="27"/>
                  </a:lnTo>
                  <a:lnTo>
                    <a:pt x="2476" y="27"/>
                  </a:lnTo>
                  <a:lnTo>
                    <a:pt x="2487" y="33"/>
                  </a:lnTo>
                  <a:lnTo>
                    <a:pt x="2492" y="33"/>
                  </a:lnTo>
                  <a:lnTo>
                    <a:pt x="2503" y="33"/>
                  </a:lnTo>
                  <a:lnTo>
                    <a:pt x="2508" y="38"/>
                  </a:lnTo>
                  <a:lnTo>
                    <a:pt x="2508" y="44"/>
                  </a:lnTo>
                  <a:lnTo>
                    <a:pt x="2514" y="54"/>
                  </a:lnTo>
                  <a:lnTo>
                    <a:pt x="2514" y="60"/>
                  </a:lnTo>
                  <a:lnTo>
                    <a:pt x="2519" y="65"/>
                  </a:lnTo>
                  <a:lnTo>
                    <a:pt x="2525" y="65"/>
                  </a:lnTo>
                  <a:lnTo>
                    <a:pt x="2536" y="71"/>
                  </a:lnTo>
                  <a:lnTo>
                    <a:pt x="2546" y="71"/>
                  </a:lnTo>
                  <a:lnTo>
                    <a:pt x="2557" y="76"/>
                  </a:lnTo>
                  <a:lnTo>
                    <a:pt x="2563" y="76"/>
                  </a:lnTo>
                  <a:lnTo>
                    <a:pt x="2574" y="82"/>
                  </a:lnTo>
                  <a:lnTo>
                    <a:pt x="2585" y="82"/>
                  </a:lnTo>
                  <a:lnTo>
                    <a:pt x="2590" y="82"/>
                  </a:lnTo>
                  <a:lnTo>
                    <a:pt x="2601" y="87"/>
                  </a:lnTo>
                  <a:lnTo>
                    <a:pt x="2612" y="87"/>
                  </a:lnTo>
                  <a:lnTo>
                    <a:pt x="2617" y="93"/>
                  </a:lnTo>
                  <a:lnTo>
                    <a:pt x="2628" y="93"/>
                  </a:lnTo>
                  <a:lnTo>
                    <a:pt x="2634" y="98"/>
                  </a:lnTo>
                  <a:lnTo>
                    <a:pt x="2645" y="104"/>
                  </a:lnTo>
                  <a:lnTo>
                    <a:pt x="2650" y="104"/>
                  </a:lnTo>
                  <a:lnTo>
                    <a:pt x="2656" y="109"/>
                  </a:lnTo>
                  <a:lnTo>
                    <a:pt x="2661" y="114"/>
                  </a:lnTo>
                  <a:lnTo>
                    <a:pt x="2672" y="120"/>
                  </a:lnTo>
                  <a:lnTo>
                    <a:pt x="2677" y="120"/>
                  </a:lnTo>
                  <a:lnTo>
                    <a:pt x="2688" y="125"/>
                  </a:lnTo>
                  <a:lnTo>
                    <a:pt x="2699" y="125"/>
                  </a:lnTo>
                  <a:lnTo>
                    <a:pt x="2705" y="131"/>
                  </a:lnTo>
                  <a:lnTo>
                    <a:pt x="2705" y="136"/>
                  </a:lnTo>
                  <a:lnTo>
                    <a:pt x="2705" y="147"/>
                  </a:lnTo>
                  <a:lnTo>
                    <a:pt x="2705" y="153"/>
                  </a:lnTo>
                  <a:lnTo>
                    <a:pt x="2705" y="158"/>
                  </a:lnTo>
                  <a:lnTo>
                    <a:pt x="2710" y="163"/>
                  </a:lnTo>
                  <a:lnTo>
                    <a:pt x="2721" y="169"/>
                  </a:lnTo>
                  <a:lnTo>
                    <a:pt x="2726" y="169"/>
                  </a:lnTo>
                  <a:lnTo>
                    <a:pt x="2732" y="174"/>
                  </a:lnTo>
                  <a:lnTo>
                    <a:pt x="2737" y="180"/>
                  </a:lnTo>
                  <a:lnTo>
                    <a:pt x="2743" y="185"/>
                  </a:lnTo>
                  <a:lnTo>
                    <a:pt x="2748" y="191"/>
                  </a:lnTo>
                  <a:lnTo>
                    <a:pt x="2754" y="196"/>
                  </a:lnTo>
                  <a:lnTo>
                    <a:pt x="2765" y="196"/>
                  </a:lnTo>
                  <a:lnTo>
                    <a:pt x="2770" y="202"/>
                  </a:lnTo>
                  <a:lnTo>
                    <a:pt x="2781" y="207"/>
                  </a:lnTo>
                  <a:lnTo>
                    <a:pt x="2781" y="213"/>
                  </a:lnTo>
                  <a:lnTo>
                    <a:pt x="2786" y="218"/>
                  </a:lnTo>
                  <a:lnTo>
                    <a:pt x="2792" y="223"/>
                  </a:lnTo>
                  <a:lnTo>
                    <a:pt x="2797" y="229"/>
                  </a:lnTo>
                  <a:lnTo>
                    <a:pt x="2808" y="234"/>
                  </a:lnTo>
                  <a:lnTo>
                    <a:pt x="2814" y="234"/>
                  </a:lnTo>
                  <a:lnTo>
                    <a:pt x="2825" y="240"/>
                  </a:lnTo>
                  <a:lnTo>
                    <a:pt x="2835" y="240"/>
                  </a:lnTo>
                  <a:lnTo>
                    <a:pt x="2841" y="245"/>
                  </a:lnTo>
                  <a:lnTo>
                    <a:pt x="2841" y="251"/>
                  </a:lnTo>
                  <a:lnTo>
                    <a:pt x="2846" y="256"/>
                  </a:lnTo>
                  <a:lnTo>
                    <a:pt x="2852" y="262"/>
                  </a:lnTo>
                  <a:lnTo>
                    <a:pt x="2863" y="267"/>
                  </a:lnTo>
                  <a:lnTo>
                    <a:pt x="2868" y="272"/>
                  </a:lnTo>
                  <a:lnTo>
                    <a:pt x="2879" y="272"/>
                  </a:lnTo>
                  <a:lnTo>
                    <a:pt x="2885" y="278"/>
                  </a:lnTo>
                  <a:lnTo>
                    <a:pt x="2895" y="283"/>
                  </a:lnTo>
                  <a:lnTo>
                    <a:pt x="2901" y="289"/>
                  </a:lnTo>
                  <a:lnTo>
                    <a:pt x="2901" y="294"/>
                  </a:lnTo>
                  <a:lnTo>
                    <a:pt x="2912" y="294"/>
                  </a:lnTo>
                  <a:lnTo>
                    <a:pt x="2917" y="300"/>
                  </a:lnTo>
                  <a:lnTo>
                    <a:pt x="2923" y="305"/>
                  </a:lnTo>
                  <a:lnTo>
                    <a:pt x="2934" y="311"/>
                  </a:lnTo>
                  <a:lnTo>
                    <a:pt x="2939" y="311"/>
                  </a:lnTo>
                  <a:lnTo>
                    <a:pt x="2950" y="316"/>
                  </a:lnTo>
                  <a:lnTo>
                    <a:pt x="2950" y="322"/>
                  </a:lnTo>
                  <a:lnTo>
                    <a:pt x="2950" y="327"/>
                  </a:lnTo>
                  <a:lnTo>
                    <a:pt x="2950" y="332"/>
                  </a:lnTo>
                  <a:lnTo>
                    <a:pt x="2944" y="338"/>
                  </a:lnTo>
                  <a:lnTo>
                    <a:pt x="2939" y="343"/>
                  </a:lnTo>
                  <a:lnTo>
                    <a:pt x="2934" y="354"/>
                  </a:lnTo>
                  <a:lnTo>
                    <a:pt x="2928" y="360"/>
                  </a:lnTo>
                  <a:lnTo>
                    <a:pt x="2917" y="360"/>
                  </a:lnTo>
                  <a:lnTo>
                    <a:pt x="2906" y="354"/>
                  </a:lnTo>
                  <a:lnTo>
                    <a:pt x="2895" y="354"/>
                  </a:lnTo>
                  <a:lnTo>
                    <a:pt x="2890" y="349"/>
                  </a:lnTo>
                  <a:lnTo>
                    <a:pt x="2879" y="349"/>
                  </a:lnTo>
                  <a:lnTo>
                    <a:pt x="2868" y="343"/>
                  </a:lnTo>
                  <a:lnTo>
                    <a:pt x="2857" y="349"/>
                  </a:lnTo>
                  <a:lnTo>
                    <a:pt x="2852" y="349"/>
                  </a:lnTo>
                  <a:lnTo>
                    <a:pt x="2841" y="349"/>
                  </a:lnTo>
                  <a:lnTo>
                    <a:pt x="2830" y="354"/>
                  </a:lnTo>
                  <a:lnTo>
                    <a:pt x="2825" y="349"/>
                  </a:lnTo>
                  <a:lnTo>
                    <a:pt x="2814" y="349"/>
                  </a:lnTo>
                  <a:lnTo>
                    <a:pt x="2803" y="349"/>
                  </a:lnTo>
                  <a:lnTo>
                    <a:pt x="2792" y="343"/>
                  </a:lnTo>
                  <a:lnTo>
                    <a:pt x="2786" y="343"/>
                  </a:lnTo>
                  <a:lnTo>
                    <a:pt x="2775" y="338"/>
                  </a:lnTo>
                  <a:lnTo>
                    <a:pt x="2770" y="338"/>
                  </a:lnTo>
                  <a:lnTo>
                    <a:pt x="2759" y="338"/>
                  </a:lnTo>
                  <a:lnTo>
                    <a:pt x="2748" y="338"/>
                  </a:lnTo>
                  <a:lnTo>
                    <a:pt x="2737" y="338"/>
                  </a:lnTo>
                  <a:lnTo>
                    <a:pt x="2726" y="338"/>
                  </a:lnTo>
                  <a:lnTo>
                    <a:pt x="2715" y="338"/>
                  </a:lnTo>
                  <a:lnTo>
                    <a:pt x="2710" y="338"/>
                  </a:lnTo>
                  <a:lnTo>
                    <a:pt x="2699" y="332"/>
                  </a:lnTo>
                  <a:lnTo>
                    <a:pt x="2694" y="327"/>
                  </a:lnTo>
                  <a:lnTo>
                    <a:pt x="2688" y="322"/>
                  </a:lnTo>
                  <a:lnTo>
                    <a:pt x="2683" y="316"/>
                  </a:lnTo>
                  <a:lnTo>
                    <a:pt x="2677" y="316"/>
                  </a:lnTo>
                  <a:lnTo>
                    <a:pt x="2666" y="311"/>
                  </a:lnTo>
                  <a:lnTo>
                    <a:pt x="2661" y="311"/>
                  </a:lnTo>
                  <a:lnTo>
                    <a:pt x="2650" y="311"/>
                  </a:lnTo>
                  <a:lnTo>
                    <a:pt x="2639" y="316"/>
                  </a:lnTo>
                  <a:lnTo>
                    <a:pt x="2628" y="322"/>
                  </a:lnTo>
                  <a:lnTo>
                    <a:pt x="2634" y="322"/>
                  </a:lnTo>
                  <a:lnTo>
                    <a:pt x="2645" y="327"/>
                  </a:lnTo>
                  <a:lnTo>
                    <a:pt x="2650" y="332"/>
                  </a:lnTo>
                  <a:lnTo>
                    <a:pt x="2656" y="338"/>
                  </a:lnTo>
                  <a:lnTo>
                    <a:pt x="2656" y="343"/>
                  </a:lnTo>
                  <a:lnTo>
                    <a:pt x="2661" y="349"/>
                  </a:lnTo>
                  <a:lnTo>
                    <a:pt x="2666" y="360"/>
                  </a:lnTo>
                  <a:lnTo>
                    <a:pt x="2672" y="365"/>
                  </a:lnTo>
                  <a:lnTo>
                    <a:pt x="2677" y="365"/>
                  </a:lnTo>
                  <a:lnTo>
                    <a:pt x="2683" y="371"/>
                  </a:lnTo>
                  <a:lnTo>
                    <a:pt x="2694" y="376"/>
                  </a:lnTo>
                  <a:lnTo>
                    <a:pt x="2699" y="376"/>
                  </a:lnTo>
                  <a:lnTo>
                    <a:pt x="2710" y="381"/>
                  </a:lnTo>
                  <a:lnTo>
                    <a:pt x="2710" y="387"/>
                  </a:lnTo>
                  <a:lnTo>
                    <a:pt x="2715" y="392"/>
                  </a:lnTo>
                  <a:lnTo>
                    <a:pt x="2721" y="398"/>
                  </a:lnTo>
                  <a:lnTo>
                    <a:pt x="2726" y="403"/>
                  </a:lnTo>
                  <a:lnTo>
                    <a:pt x="2732" y="409"/>
                  </a:lnTo>
                  <a:lnTo>
                    <a:pt x="2737" y="414"/>
                  </a:lnTo>
                  <a:lnTo>
                    <a:pt x="2743" y="420"/>
                  </a:lnTo>
                  <a:lnTo>
                    <a:pt x="2743" y="431"/>
                  </a:lnTo>
                  <a:lnTo>
                    <a:pt x="2748" y="436"/>
                  </a:lnTo>
                  <a:lnTo>
                    <a:pt x="2748" y="441"/>
                  </a:lnTo>
                  <a:lnTo>
                    <a:pt x="2743" y="447"/>
                  </a:lnTo>
                  <a:lnTo>
                    <a:pt x="2737" y="452"/>
                  </a:lnTo>
                  <a:lnTo>
                    <a:pt x="2726" y="452"/>
                  </a:lnTo>
                  <a:lnTo>
                    <a:pt x="2715" y="458"/>
                  </a:lnTo>
                  <a:lnTo>
                    <a:pt x="2710" y="458"/>
                  </a:lnTo>
                  <a:lnTo>
                    <a:pt x="2705" y="463"/>
                  </a:lnTo>
                  <a:lnTo>
                    <a:pt x="2699" y="469"/>
                  </a:lnTo>
                  <a:lnTo>
                    <a:pt x="2699" y="480"/>
                  </a:lnTo>
                  <a:lnTo>
                    <a:pt x="2694" y="485"/>
                  </a:lnTo>
                  <a:lnTo>
                    <a:pt x="2694" y="490"/>
                  </a:lnTo>
                  <a:lnTo>
                    <a:pt x="2688" y="496"/>
                  </a:lnTo>
                  <a:lnTo>
                    <a:pt x="2688" y="501"/>
                  </a:lnTo>
                  <a:lnTo>
                    <a:pt x="2683" y="507"/>
                  </a:lnTo>
                  <a:lnTo>
                    <a:pt x="2683" y="512"/>
                  </a:lnTo>
                  <a:lnTo>
                    <a:pt x="2677" y="518"/>
                  </a:lnTo>
                  <a:lnTo>
                    <a:pt x="2672" y="523"/>
                  </a:lnTo>
                  <a:lnTo>
                    <a:pt x="2666" y="529"/>
                  </a:lnTo>
                  <a:lnTo>
                    <a:pt x="2656" y="534"/>
                  </a:lnTo>
                  <a:lnTo>
                    <a:pt x="2650" y="534"/>
                  </a:lnTo>
                  <a:lnTo>
                    <a:pt x="2639" y="540"/>
                  </a:lnTo>
                  <a:lnTo>
                    <a:pt x="2634" y="545"/>
                  </a:lnTo>
                  <a:lnTo>
                    <a:pt x="2628" y="550"/>
                  </a:lnTo>
                  <a:lnTo>
                    <a:pt x="2617" y="556"/>
                  </a:lnTo>
                  <a:lnTo>
                    <a:pt x="2612" y="556"/>
                  </a:lnTo>
                  <a:lnTo>
                    <a:pt x="2601" y="561"/>
                  </a:lnTo>
                  <a:lnTo>
                    <a:pt x="2596" y="556"/>
                  </a:lnTo>
                  <a:lnTo>
                    <a:pt x="2585" y="556"/>
                  </a:lnTo>
                  <a:lnTo>
                    <a:pt x="2574" y="556"/>
                  </a:lnTo>
                  <a:lnTo>
                    <a:pt x="2563" y="550"/>
                  </a:lnTo>
                  <a:lnTo>
                    <a:pt x="2557" y="550"/>
                  </a:lnTo>
                  <a:lnTo>
                    <a:pt x="2546" y="545"/>
                  </a:lnTo>
                  <a:lnTo>
                    <a:pt x="2541" y="540"/>
                  </a:lnTo>
                  <a:lnTo>
                    <a:pt x="2530" y="540"/>
                  </a:lnTo>
                  <a:lnTo>
                    <a:pt x="2525" y="534"/>
                  </a:lnTo>
                  <a:lnTo>
                    <a:pt x="2514" y="534"/>
                  </a:lnTo>
                  <a:lnTo>
                    <a:pt x="2508" y="529"/>
                  </a:lnTo>
                  <a:lnTo>
                    <a:pt x="2497" y="523"/>
                  </a:lnTo>
                  <a:lnTo>
                    <a:pt x="2492" y="523"/>
                  </a:lnTo>
                  <a:lnTo>
                    <a:pt x="2481" y="518"/>
                  </a:lnTo>
                  <a:lnTo>
                    <a:pt x="2470" y="518"/>
                  </a:lnTo>
                  <a:lnTo>
                    <a:pt x="2465" y="512"/>
                  </a:lnTo>
                  <a:lnTo>
                    <a:pt x="2459" y="507"/>
                  </a:lnTo>
                  <a:lnTo>
                    <a:pt x="2459" y="501"/>
                  </a:lnTo>
                  <a:lnTo>
                    <a:pt x="2465" y="496"/>
                  </a:lnTo>
                  <a:lnTo>
                    <a:pt x="2465" y="485"/>
                  </a:lnTo>
                  <a:lnTo>
                    <a:pt x="2465" y="480"/>
                  </a:lnTo>
                  <a:lnTo>
                    <a:pt x="2459" y="474"/>
                  </a:lnTo>
                  <a:lnTo>
                    <a:pt x="2448" y="469"/>
                  </a:lnTo>
                  <a:lnTo>
                    <a:pt x="2443" y="469"/>
                  </a:lnTo>
                  <a:lnTo>
                    <a:pt x="2432" y="474"/>
                  </a:lnTo>
                  <a:lnTo>
                    <a:pt x="2421" y="480"/>
                  </a:lnTo>
                  <a:lnTo>
                    <a:pt x="2416" y="485"/>
                  </a:lnTo>
                  <a:lnTo>
                    <a:pt x="2410" y="485"/>
                  </a:lnTo>
                  <a:lnTo>
                    <a:pt x="2399" y="490"/>
                  </a:lnTo>
                  <a:lnTo>
                    <a:pt x="2388" y="490"/>
                  </a:lnTo>
                  <a:lnTo>
                    <a:pt x="2383" y="490"/>
                  </a:lnTo>
                  <a:lnTo>
                    <a:pt x="2372" y="496"/>
                  </a:lnTo>
                  <a:lnTo>
                    <a:pt x="2361" y="496"/>
                  </a:lnTo>
                  <a:lnTo>
                    <a:pt x="2350" y="496"/>
                  </a:lnTo>
                  <a:lnTo>
                    <a:pt x="2345" y="496"/>
                  </a:lnTo>
                  <a:lnTo>
                    <a:pt x="2334" y="496"/>
                  </a:lnTo>
                  <a:lnTo>
                    <a:pt x="2323" y="501"/>
                  </a:lnTo>
                  <a:lnTo>
                    <a:pt x="2312" y="501"/>
                  </a:lnTo>
                  <a:lnTo>
                    <a:pt x="2301" y="501"/>
                  </a:lnTo>
                  <a:lnTo>
                    <a:pt x="2296" y="501"/>
                  </a:lnTo>
                  <a:lnTo>
                    <a:pt x="2285" y="507"/>
                  </a:lnTo>
                  <a:lnTo>
                    <a:pt x="2279" y="512"/>
                  </a:lnTo>
                  <a:lnTo>
                    <a:pt x="2274" y="518"/>
                  </a:lnTo>
                  <a:lnTo>
                    <a:pt x="2268" y="523"/>
                  </a:lnTo>
                  <a:lnTo>
                    <a:pt x="2258" y="523"/>
                  </a:lnTo>
                  <a:lnTo>
                    <a:pt x="2252" y="529"/>
                  </a:lnTo>
                  <a:lnTo>
                    <a:pt x="2241" y="529"/>
                  </a:lnTo>
                  <a:lnTo>
                    <a:pt x="2236" y="534"/>
                  </a:lnTo>
                  <a:lnTo>
                    <a:pt x="2230" y="540"/>
                  </a:lnTo>
                  <a:lnTo>
                    <a:pt x="2225" y="545"/>
                  </a:lnTo>
                  <a:lnTo>
                    <a:pt x="2225" y="540"/>
                  </a:lnTo>
                  <a:lnTo>
                    <a:pt x="2230" y="534"/>
                  </a:lnTo>
                  <a:lnTo>
                    <a:pt x="2236" y="529"/>
                  </a:lnTo>
                  <a:lnTo>
                    <a:pt x="2241" y="523"/>
                  </a:lnTo>
                  <a:lnTo>
                    <a:pt x="2241" y="518"/>
                  </a:lnTo>
                  <a:lnTo>
                    <a:pt x="2241" y="512"/>
                  </a:lnTo>
                  <a:lnTo>
                    <a:pt x="2236" y="507"/>
                  </a:lnTo>
                  <a:lnTo>
                    <a:pt x="2225" y="501"/>
                  </a:lnTo>
                  <a:lnTo>
                    <a:pt x="2214" y="501"/>
                  </a:lnTo>
                  <a:lnTo>
                    <a:pt x="2208" y="501"/>
                  </a:lnTo>
                  <a:lnTo>
                    <a:pt x="2198" y="501"/>
                  </a:lnTo>
                  <a:lnTo>
                    <a:pt x="2187" y="507"/>
                  </a:lnTo>
                  <a:lnTo>
                    <a:pt x="2181" y="512"/>
                  </a:lnTo>
                  <a:lnTo>
                    <a:pt x="2176" y="518"/>
                  </a:lnTo>
                  <a:lnTo>
                    <a:pt x="2176" y="523"/>
                  </a:lnTo>
                  <a:lnTo>
                    <a:pt x="2176" y="529"/>
                  </a:lnTo>
                  <a:lnTo>
                    <a:pt x="2176" y="534"/>
                  </a:lnTo>
                  <a:lnTo>
                    <a:pt x="2176" y="540"/>
                  </a:lnTo>
                  <a:lnTo>
                    <a:pt x="2176" y="550"/>
                  </a:lnTo>
                  <a:lnTo>
                    <a:pt x="2170" y="556"/>
                  </a:lnTo>
                  <a:lnTo>
                    <a:pt x="2170" y="561"/>
                  </a:lnTo>
                  <a:lnTo>
                    <a:pt x="2170" y="567"/>
                  </a:lnTo>
                  <a:lnTo>
                    <a:pt x="2165" y="572"/>
                  </a:lnTo>
                  <a:lnTo>
                    <a:pt x="2165" y="578"/>
                  </a:lnTo>
                  <a:lnTo>
                    <a:pt x="2165" y="583"/>
                  </a:lnTo>
                  <a:lnTo>
                    <a:pt x="2159" y="594"/>
                  </a:lnTo>
                  <a:lnTo>
                    <a:pt x="2159" y="599"/>
                  </a:lnTo>
                  <a:lnTo>
                    <a:pt x="2154" y="605"/>
                  </a:lnTo>
                  <a:lnTo>
                    <a:pt x="2154" y="610"/>
                  </a:lnTo>
                  <a:lnTo>
                    <a:pt x="2154" y="616"/>
                  </a:lnTo>
                  <a:lnTo>
                    <a:pt x="2148" y="621"/>
                  </a:lnTo>
                  <a:lnTo>
                    <a:pt x="2148" y="627"/>
                  </a:lnTo>
                  <a:lnTo>
                    <a:pt x="2143" y="638"/>
                  </a:lnTo>
                  <a:lnTo>
                    <a:pt x="2143" y="643"/>
                  </a:lnTo>
                  <a:lnTo>
                    <a:pt x="2143" y="649"/>
                  </a:lnTo>
                  <a:lnTo>
                    <a:pt x="2138" y="654"/>
                  </a:lnTo>
                  <a:lnTo>
                    <a:pt x="2138" y="659"/>
                  </a:lnTo>
                  <a:lnTo>
                    <a:pt x="2132" y="665"/>
                  </a:lnTo>
                  <a:lnTo>
                    <a:pt x="2132" y="670"/>
                  </a:lnTo>
                  <a:lnTo>
                    <a:pt x="2132" y="676"/>
                  </a:lnTo>
                  <a:lnTo>
                    <a:pt x="2127" y="687"/>
                  </a:lnTo>
                  <a:lnTo>
                    <a:pt x="2127" y="692"/>
                  </a:lnTo>
                  <a:lnTo>
                    <a:pt x="2127" y="698"/>
                  </a:lnTo>
                  <a:lnTo>
                    <a:pt x="2121" y="703"/>
                  </a:lnTo>
                  <a:lnTo>
                    <a:pt x="2116" y="708"/>
                  </a:lnTo>
                  <a:lnTo>
                    <a:pt x="2116" y="714"/>
                  </a:lnTo>
                  <a:lnTo>
                    <a:pt x="2110" y="719"/>
                  </a:lnTo>
                  <a:lnTo>
                    <a:pt x="2105" y="725"/>
                  </a:lnTo>
                  <a:lnTo>
                    <a:pt x="2099" y="730"/>
                  </a:lnTo>
                  <a:lnTo>
                    <a:pt x="2094" y="736"/>
                  </a:lnTo>
                  <a:lnTo>
                    <a:pt x="2094" y="741"/>
                  </a:lnTo>
                  <a:lnTo>
                    <a:pt x="2099" y="747"/>
                  </a:lnTo>
                  <a:lnTo>
                    <a:pt x="2105" y="758"/>
                  </a:lnTo>
                  <a:lnTo>
                    <a:pt x="2105" y="763"/>
                  </a:lnTo>
                  <a:lnTo>
                    <a:pt x="2105" y="768"/>
                  </a:lnTo>
                  <a:lnTo>
                    <a:pt x="2099" y="774"/>
                  </a:lnTo>
                  <a:lnTo>
                    <a:pt x="2088" y="774"/>
                  </a:lnTo>
                  <a:lnTo>
                    <a:pt x="2083" y="774"/>
                  </a:lnTo>
                  <a:lnTo>
                    <a:pt x="2072" y="774"/>
                  </a:lnTo>
                  <a:lnTo>
                    <a:pt x="2061" y="774"/>
                  </a:lnTo>
                  <a:lnTo>
                    <a:pt x="2050" y="774"/>
                  </a:lnTo>
                  <a:lnTo>
                    <a:pt x="2039" y="774"/>
                  </a:lnTo>
                  <a:lnTo>
                    <a:pt x="2029" y="768"/>
                  </a:lnTo>
                  <a:lnTo>
                    <a:pt x="2023" y="768"/>
                  </a:lnTo>
                  <a:lnTo>
                    <a:pt x="2012" y="768"/>
                  </a:lnTo>
                  <a:lnTo>
                    <a:pt x="2001" y="768"/>
                  </a:lnTo>
                  <a:lnTo>
                    <a:pt x="1990" y="763"/>
                  </a:lnTo>
                  <a:lnTo>
                    <a:pt x="1985" y="763"/>
                  </a:lnTo>
                  <a:lnTo>
                    <a:pt x="1974" y="763"/>
                  </a:lnTo>
                  <a:lnTo>
                    <a:pt x="1963" y="763"/>
                  </a:lnTo>
                  <a:lnTo>
                    <a:pt x="1952" y="758"/>
                  </a:lnTo>
                  <a:lnTo>
                    <a:pt x="1947" y="758"/>
                  </a:lnTo>
                  <a:lnTo>
                    <a:pt x="1936" y="758"/>
                  </a:lnTo>
                  <a:lnTo>
                    <a:pt x="1925" y="758"/>
                  </a:lnTo>
                  <a:lnTo>
                    <a:pt x="1914" y="763"/>
                  </a:lnTo>
                  <a:lnTo>
                    <a:pt x="1909" y="763"/>
                  </a:lnTo>
                  <a:lnTo>
                    <a:pt x="1898" y="768"/>
                  </a:lnTo>
                  <a:lnTo>
                    <a:pt x="1892" y="768"/>
                  </a:lnTo>
                  <a:lnTo>
                    <a:pt x="1887" y="774"/>
                  </a:lnTo>
                  <a:lnTo>
                    <a:pt x="1881" y="779"/>
                  </a:lnTo>
                  <a:lnTo>
                    <a:pt x="1881" y="790"/>
                  </a:lnTo>
                  <a:lnTo>
                    <a:pt x="1876" y="796"/>
                  </a:lnTo>
                  <a:lnTo>
                    <a:pt x="1876" y="801"/>
                  </a:lnTo>
                  <a:lnTo>
                    <a:pt x="1870" y="807"/>
                  </a:lnTo>
                  <a:lnTo>
                    <a:pt x="1865" y="812"/>
                  </a:lnTo>
                  <a:lnTo>
                    <a:pt x="1859" y="817"/>
                  </a:lnTo>
                  <a:lnTo>
                    <a:pt x="1859" y="823"/>
                  </a:lnTo>
                  <a:lnTo>
                    <a:pt x="1854" y="828"/>
                  </a:lnTo>
                  <a:lnTo>
                    <a:pt x="1849" y="839"/>
                  </a:lnTo>
                  <a:lnTo>
                    <a:pt x="1843" y="834"/>
                  </a:lnTo>
                  <a:lnTo>
                    <a:pt x="1843" y="828"/>
                  </a:lnTo>
                  <a:lnTo>
                    <a:pt x="1843" y="823"/>
                  </a:lnTo>
                  <a:lnTo>
                    <a:pt x="1843" y="812"/>
                  </a:lnTo>
                  <a:lnTo>
                    <a:pt x="1838" y="807"/>
                  </a:lnTo>
                  <a:lnTo>
                    <a:pt x="1838" y="801"/>
                  </a:lnTo>
                  <a:lnTo>
                    <a:pt x="1838" y="796"/>
                  </a:lnTo>
                  <a:lnTo>
                    <a:pt x="1832" y="790"/>
                  </a:lnTo>
                  <a:lnTo>
                    <a:pt x="1832" y="785"/>
                  </a:lnTo>
                  <a:lnTo>
                    <a:pt x="1832" y="779"/>
                  </a:lnTo>
                  <a:lnTo>
                    <a:pt x="1838" y="774"/>
                  </a:lnTo>
                  <a:lnTo>
                    <a:pt x="1838" y="763"/>
                  </a:lnTo>
                  <a:lnTo>
                    <a:pt x="1838" y="758"/>
                  </a:lnTo>
                  <a:lnTo>
                    <a:pt x="1843" y="752"/>
                  </a:lnTo>
                  <a:lnTo>
                    <a:pt x="1849" y="747"/>
                  </a:lnTo>
                  <a:lnTo>
                    <a:pt x="1849" y="741"/>
                  </a:lnTo>
                  <a:lnTo>
                    <a:pt x="1854" y="736"/>
                  </a:lnTo>
                  <a:lnTo>
                    <a:pt x="1854" y="730"/>
                  </a:lnTo>
                  <a:lnTo>
                    <a:pt x="1854" y="725"/>
                  </a:lnTo>
                  <a:lnTo>
                    <a:pt x="1854" y="719"/>
                  </a:lnTo>
                  <a:lnTo>
                    <a:pt x="1854" y="708"/>
                  </a:lnTo>
                  <a:lnTo>
                    <a:pt x="1854" y="703"/>
                  </a:lnTo>
                  <a:lnTo>
                    <a:pt x="1849" y="698"/>
                  </a:lnTo>
                  <a:lnTo>
                    <a:pt x="1849" y="692"/>
                  </a:lnTo>
                  <a:lnTo>
                    <a:pt x="1843" y="692"/>
                  </a:lnTo>
                  <a:lnTo>
                    <a:pt x="1832" y="692"/>
                  </a:lnTo>
                  <a:lnTo>
                    <a:pt x="1821" y="698"/>
                  </a:lnTo>
                  <a:lnTo>
                    <a:pt x="1816" y="703"/>
                  </a:lnTo>
                  <a:lnTo>
                    <a:pt x="1810" y="708"/>
                  </a:lnTo>
                  <a:lnTo>
                    <a:pt x="1805" y="714"/>
                  </a:lnTo>
                  <a:lnTo>
                    <a:pt x="1805" y="719"/>
                  </a:lnTo>
                  <a:lnTo>
                    <a:pt x="1800" y="730"/>
                  </a:lnTo>
                  <a:lnTo>
                    <a:pt x="1794" y="736"/>
                  </a:lnTo>
                  <a:lnTo>
                    <a:pt x="1794" y="741"/>
                  </a:lnTo>
                  <a:lnTo>
                    <a:pt x="1794" y="747"/>
                  </a:lnTo>
                  <a:lnTo>
                    <a:pt x="1794" y="752"/>
                  </a:lnTo>
                  <a:lnTo>
                    <a:pt x="1794" y="758"/>
                  </a:lnTo>
                  <a:lnTo>
                    <a:pt x="1789" y="763"/>
                  </a:lnTo>
                  <a:lnTo>
                    <a:pt x="1789" y="774"/>
                  </a:lnTo>
                  <a:lnTo>
                    <a:pt x="1789" y="779"/>
                  </a:lnTo>
                  <a:lnTo>
                    <a:pt x="1789" y="785"/>
                  </a:lnTo>
                  <a:lnTo>
                    <a:pt x="1789" y="790"/>
                  </a:lnTo>
                  <a:lnTo>
                    <a:pt x="1789" y="796"/>
                  </a:lnTo>
                  <a:lnTo>
                    <a:pt x="1783" y="801"/>
                  </a:lnTo>
                  <a:lnTo>
                    <a:pt x="1783" y="812"/>
                  </a:lnTo>
                  <a:lnTo>
                    <a:pt x="1783" y="817"/>
                  </a:lnTo>
                  <a:lnTo>
                    <a:pt x="1778" y="823"/>
                  </a:lnTo>
                  <a:lnTo>
                    <a:pt x="1778" y="828"/>
                  </a:lnTo>
                  <a:lnTo>
                    <a:pt x="1778" y="834"/>
                  </a:lnTo>
                  <a:lnTo>
                    <a:pt x="1772" y="839"/>
                  </a:lnTo>
                  <a:lnTo>
                    <a:pt x="1772" y="845"/>
                  </a:lnTo>
                  <a:lnTo>
                    <a:pt x="1772" y="856"/>
                  </a:lnTo>
                  <a:lnTo>
                    <a:pt x="1772" y="861"/>
                  </a:lnTo>
                  <a:lnTo>
                    <a:pt x="1772" y="867"/>
                  </a:lnTo>
                  <a:lnTo>
                    <a:pt x="1772" y="872"/>
                  </a:lnTo>
                  <a:lnTo>
                    <a:pt x="1772" y="877"/>
                  </a:lnTo>
                  <a:lnTo>
                    <a:pt x="1772" y="883"/>
                  </a:lnTo>
                  <a:lnTo>
                    <a:pt x="1772" y="894"/>
                  </a:lnTo>
                  <a:lnTo>
                    <a:pt x="1772" y="899"/>
                  </a:lnTo>
                  <a:lnTo>
                    <a:pt x="1772" y="905"/>
                  </a:lnTo>
                  <a:lnTo>
                    <a:pt x="1772" y="910"/>
                  </a:lnTo>
                  <a:lnTo>
                    <a:pt x="1772" y="916"/>
                  </a:lnTo>
                  <a:lnTo>
                    <a:pt x="1772" y="921"/>
                  </a:lnTo>
                  <a:lnTo>
                    <a:pt x="1772" y="932"/>
                  </a:lnTo>
                  <a:lnTo>
                    <a:pt x="1767" y="937"/>
                  </a:lnTo>
                  <a:lnTo>
                    <a:pt x="1767" y="943"/>
                  </a:lnTo>
                  <a:lnTo>
                    <a:pt x="1767" y="948"/>
                  </a:lnTo>
                  <a:lnTo>
                    <a:pt x="1767" y="954"/>
                  </a:lnTo>
                  <a:lnTo>
                    <a:pt x="1767" y="959"/>
                  </a:lnTo>
                  <a:lnTo>
                    <a:pt x="1772" y="965"/>
                  </a:lnTo>
                  <a:lnTo>
                    <a:pt x="1772" y="976"/>
                  </a:lnTo>
                  <a:lnTo>
                    <a:pt x="1772" y="981"/>
                  </a:lnTo>
                  <a:lnTo>
                    <a:pt x="1767" y="986"/>
                  </a:lnTo>
                  <a:lnTo>
                    <a:pt x="1767" y="992"/>
                  </a:lnTo>
                  <a:lnTo>
                    <a:pt x="1767" y="1003"/>
                  </a:lnTo>
                  <a:lnTo>
                    <a:pt x="1761" y="1008"/>
                  </a:lnTo>
                  <a:lnTo>
                    <a:pt x="1756" y="1014"/>
                  </a:lnTo>
                  <a:lnTo>
                    <a:pt x="1750" y="1014"/>
                  </a:lnTo>
                  <a:lnTo>
                    <a:pt x="1745" y="1014"/>
                  </a:lnTo>
                  <a:lnTo>
                    <a:pt x="1734" y="1008"/>
                  </a:lnTo>
                  <a:lnTo>
                    <a:pt x="1729" y="1003"/>
                  </a:lnTo>
                  <a:lnTo>
                    <a:pt x="1718" y="1003"/>
                  </a:lnTo>
                  <a:lnTo>
                    <a:pt x="1712" y="1003"/>
                  </a:lnTo>
                  <a:lnTo>
                    <a:pt x="1701" y="1003"/>
                  </a:lnTo>
                  <a:lnTo>
                    <a:pt x="1696" y="1008"/>
                  </a:lnTo>
                  <a:lnTo>
                    <a:pt x="1685" y="1014"/>
                  </a:lnTo>
                  <a:lnTo>
                    <a:pt x="1680" y="1019"/>
                  </a:lnTo>
                  <a:lnTo>
                    <a:pt x="1674" y="1025"/>
                  </a:lnTo>
                  <a:lnTo>
                    <a:pt x="1669" y="1030"/>
                  </a:lnTo>
                  <a:lnTo>
                    <a:pt x="1658" y="1030"/>
                  </a:lnTo>
                  <a:lnTo>
                    <a:pt x="1647" y="1036"/>
                  </a:lnTo>
                  <a:lnTo>
                    <a:pt x="1641" y="1041"/>
                  </a:lnTo>
                  <a:lnTo>
                    <a:pt x="1636" y="1041"/>
                  </a:lnTo>
                  <a:lnTo>
                    <a:pt x="1625" y="1046"/>
                  </a:lnTo>
                  <a:lnTo>
                    <a:pt x="1625" y="1052"/>
                  </a:lnTo>
                  <a:lnTo>
                    <a:pt x="1620" y="1063"/>
                  </a:lnTo>
                  <a:lnTo>
                    <a:pt x="1614" y="1068"/>
                  </a:lnTo>
                  <a:lnTo>
                    <a:pt x="1609" y="1074"/>
                  </a:lnTo>
                  <a:lnTo>
                    <a:pt x="1598" y="1074"/>
                  </a:lnTo>
                  <a:lnTo>
                    <a:pt x="1592" y="1079"/>
                  </a:lnTo>
                  <a:lnTo>
                    <a:pt x="1587" y="1074"/>
                  </a:lnTo>
                  <a:lnTo>
                    <a:pt x="1581" y="1068"/>
                  </a:lnTo>
                  <a:lnTo>
                    <a:pt x="1576" y="1063"/>
                  </a:lnTo>
                  <a:lnTo>
                    <a:pt x="1571" y="1057"/>
                  </a:lnTo>
                  <a:lnTo>
                    <a:pt x="1565" y="1052"/>
                  </a:lnTo>
                  <a:lnTo>
                    <a:pt x="1560" y="1046"/>
                  </a:lnTo>
                  <a:lnTo>
                    <a:pt x="1554" y="1041"/>
                  </a:lnTo>
                  <a:lnTo>
                    <a:pt x="1543" y="1036"/>
                  </a:lnTo>
                  <a:lnTo>
                    <a:pt x="1538" y="1030"/>
                  </a:lnTo>
                  <a:lnTo>
                    <a:pt x="1532" y="1025"/>
                  </a:lnTo>
                  <a:lnTo>
                    <a:pt x="1527" y="1019"/>
                  </a:lnTo>
                  <a:lnTo>
                    <a:pt x="1516" y="1019"/>
                  </a:lnTo>
                  <a:lnTo>
                    <a:pt x="1511" y="1014"/>
                  </a:lnTo>
                  <a:lnTo>
                    <a:pt x="1505" y="1008"/>
                  </a:lnTo>
                  <a:lnTo>
                    <a:pt x="1500" y="1003"/>
                  </a:lnTo>
                  <a:lnTo>
                    <a:pt x="1494" y="997"/>
                  </a:lnTo>
                  <a:lnTo>
                    <a:pt x="1489" y="992"/>
                  </a:lnTo>
                  <a:lnTo>
                    <a:pt x="1478" y="986"/>
                  </a:lnTo>
                  <a:lnTo>
                    <a:pt x="1472" y="986"/>
                  </a:lnTo>
                  <a:lnTo>
                    <a:pt x="1467" y="981"/>
                  </a:lnTo>
                  <a:lnTo>
                    <a:pt x="1461" y="976"/>
                  </a:lnTo>
                  <a:lnTo>
                    <a:pt x="1456" y="970"/>
                  </a:lnTo>
                  <a:lnTo>
                    <a:pt x="1456" y="965"/>
                  </a:lnTo>
                  <a:lnTo>
                    <a:pt x="1456" y="954"/>
                  </a:lnTo>
                  <a:lnTo>
                    <a:pt x="1456" y="948"/>
                  </a:lnTo>
                  <a:lnTo>
                    <a:pt x="1456" y="943"/>
                  </a:lnTo>
                  <a:lnTo>
                    <a:pt x="1461" y="937"/>
                  </a:lnTo>
                  <a:lnTo>
                    <a:pt x="1467" y="932"/>
                  </a:lnTo>
                  <a:lnTo>
                    <a:pt x="1467" y="927"/>
                  </a:lnTo>
                  <a:lnTo>
                    <a:pt x="1467" y="921"/>
                  </a:lnTo>
                  <a:lnTo>
                    <a:pt x="1461" y="916"/>
                  </a:lnTo>
                  <a:lnTo>
                    <a:pt x="1456" y="910"/>
                  </a:lnTo>
                  <a:lnTo>
                    <a:pt x="1451" y="905"/>
                  </a:lnTo>
                  <a:lnTo>
                    <a:pt x="1440" y="899"/>
                  </a:lnTo>
                  <a:lnTo>
                    <a:pt x="1434" y="894"/>
                  </a:lnTo>
                  <a:lnTo>
                    <a:pt x="1429" y="899"/>
                  </a:lnTo>
                  <a:lnTo>
                    <a:pt x="1429" y="905"/>
                  </a:lnTo>
                  <a:lnTo>
                    <a:pt x="1423" y="910"/>
                  </a:lnTo>
                  <a:lnTo>
                    <a:pt x="1418" y="916"/>
                  </a:lnTo>
                  <a:lnTo>
                    <a:pt x="1412" y="921"/>
                  </a:lnTo>
                  <a:lnTo>
                    <a:pt x="1412" y="927"/>
                  </a:lnTo>
                  <a:lnTo>
                    <a:pt x="1407" y="932"/>
                  </a:lnTo>
                  <a:lnTo>
                    <a:pt x="1401" y="937"/>
                  </a:lnTo>
                  <a:lnTo>
                    <a:pt x="1396" y="943"/>
                  </a:lnTo>
                  <a:lnTo>
                    <a:pt x="1391" y="948"/>
                  </a:lnTo>
                  <a:lnTo>
                    <a:pt x="1385" y="954"/>
                  </a:lnTo>
                  <a:lnTo>
                    <a:pt x="1391" y="959"/>
                  </a:lnTo>
                  <a:lnTo>
                    <a:pt x="1396" y="965"/>
                  </a:lnTo>
                  <a:lnTo>
                    <a:pt x="1407" y="970"/>
                  </a:lnTo>
                  <a:lnTo>
                    <a:pt x="1412" y="970"/>
                  </a:lnTo>
                  <a:lnTo>
                    <a:pt x="1418" y="976"/>
                  </a:lnTo>
                  <a:lnTo>
                    <a:pt x="1423" y="986"/>
                  </a:lnTo>
                  <a:lnTo>
                    <a:pt x="1423" y="992"/>
                  </a:lnTo>
                  <a:lnTo>
                    <a:pt x="1429" y="997"/>
                  </a:lnTo>
                  <a:lnTo>
                    <a:pt x="1429" y="1003"/>
                  </a:lnTo>
                  <a:lnTo>
                    <a:pt x="1434" y="1008"/>
                  </a:lnTo>
                  <a:lnTo>
                    <a:pt x="1440" y="1014"/>
                  </a:lnTo>
                  <a:lnTo>
                    <a:pt x="1445" y="1019"/>
                  </a:lnTo>
                  <a:lnTo>
                    <a:pt x="1451" y="1025"/>
                  </a:lnTo>
                  <a:lnTo>
                    <a:pt x="1451" y="1030"/>
                  </a:lnTo>
                  <a:lnTo>
                    <a:pt x="1451" y="1036"/>
                  </a:lnTo>
                  <a:lnTo>
                    <a:pt x="1451" y="1041"/>
                  </a:lnTo>
                  <a:lnTo>
                    <a:pt x="1456" y="1052"/>
                  </a:lnTo>
                  <a:lnTo>
                    <a:pt x="1456" y="1057"/>
                  </a:lnTo>
                  <a:lnTo>
                    <a:pt x="1461" y="1063"/>
                  </a:lnTo>
                  <a:lnTo>
                    <a:pt x="1467" y="1068"/>
                  </a:lnTo>
                  <a:lnTo>
                    <a:pt x="1472" y="1074"/>
                  </a:lnTo>
                  <a:lnTo>
                    <a:pt x="1472" y="1079"/>
                  </a:lnTo>
                  <a:lnTo>
                    <a:pt x="1478" y="1085"/>
                  </a:lnTo>
                  <a:lnTo>
                    <a:pt x="1483" y="1090"/>
                  </a:lnTo>
                  <a:lnTo>
                    <a:pt x="1483" y="1095"/>
                  </a:lnTo>
                  <a:lnTo>
                    <a:pt x="1489" y="1101"/>
                  </a:lnTo>
                  <a:lnTo>
                    <a:pt x="1494" y="1106"/>
                  </a:lnTo>
                  <a:lnTo>
                    <a:pt x="1500" y="1112"/>
                  </a:lnTo>
                  <a:lnTo>
                    <a:pt x="1505" y="1117"/>
                  </a:lnTo>
                  <a:lnTo>
                    <a:pt x="1505" y="1123"/>
                  </a:lnTo>
                  <a:lnTo>
                    <a:pt x="1511" y="1128"/>
                  </a:lnTo>
                  <a:lnTo>
                    <a:pt x="1511" y="1139"/>
                  </a:lnTo>
                  <a:lnTo>
                    <a:pt x="1511" y="1145"/>
                  </a:lnTo>
                  <a:lnTo>
                    <a:pt x="1511" y="1150"/>
                  </a:lnTo>
                  <a:lnTo>
                    <a:pt x="1516" y="1155"/>
                  </a:lnTo>
                  <a:lnTo>
                    <a:pt x="1521" y="1161"/>
                  </a:lnTo>
                  <a:lnTo>
                    <a:pt x="1527" y="1166"/>
                  </a:lnTo>
                  <a:lnTo>
                    <a:pt x="1532" y="1172"/>
                  </a:lnTo>
                  <a:lnTo>
                    <a:pt x="1532" y="1177"/>
                  </a:lnTo>
                  <a:lnTo>
                    <a:pt x="1538" y="1183"/>
                  </a:lnTo>
                  <a:lnTo>
                    <a:pt x="1543" y="1188"/>
                  </a:lnTo>
                  <a:lnTo>
                    <a:pt x="1543" y="1194"/>
                  </a:lnTo>
                  <a:lnTo>
                    <a:pt x="1549" y="1199"/>
                  </a:lnTo>
                  <a:lnTo>
                    <a:pt x="1554" y="1204"/>
                  </a:lnTo>
                  <a:lnTo>
                    <a:pt x="1560" y="1210"/>
                  </a:lnTo>
                  <a:lnTo>
                    <a:pt x="1560" y="1221"/>
                  </a:lnTo>
                  <a:lnTo>
                    <a:pt x="1554" y="1226"/>
                  </a:lnTo>
                  <a:lnTo>
                    <a:pt x="1549" y="1232"/>
                  </a:lnTo>
                  <a:lnTo>
                    <a:pt x="1543" y="1237"/>
                  </a:lnTo>
                  <a:lnTo>
                    <a:pt x="1538" y="1237"/>
                  </a:lnTo>
                  <a:lnTo>
                    <a:pt x="1532" y="1243"/>
                  </a:lnTo>
                  <a:lnTo>
                    <a:pt x="1521" y="1248"/>
                  </a:lnTo>
                  <a:lnTo>
                    <a:pt x="1516" y="1254"/>
                  </a:lnTo>
                  <a:lnTo>
                    <a:pt x="1511" y="1259"/>
                  </a:lnTo>
                  <a:lnTo>
                    <a:pt x="1505" y="1264"/>
                  </a:lnTo>
                  <a:lnTo>
                    <a:pt x="1494" y="1264"/>
                  </a:lnTo>
                  <a:lnTo>
                    <a:pt x="1489" y="1270"/>
                  </a:lnTo>
                  <a:lnTo>
                    <a:pt x="1478" y="1275"/>
                  </a:lnTo>
                  <a:lnTo>
                    <a:pt x="1472" y="1275"/>
                  </a:lnTo>
                  <a:lnTo>
                    <a:pt x="1461" y="1275"/>
                  </a:lnTo>
                  <a:lnTo>
                    <a:pt x="1451" y="1281"/>
                  </a:lnTo>
                  <a:lnTo>
                    <a:pt x="1440" y="1281"/>
                  </a:lnTo>
                  <a:lnTo>
                    <a:pt x="1434" y="1281"/>
                  </a:lnTo>
                  <a:lnTo>
                    <a:pt x="1423" y="1281"/>
                  </a:lnTo>
                  <a:lnTo>
                    <a:pt x="1412" y="1281"/>
                  </a:lnTo>
                  <a:lnTo>
                    <a:pt x="1401" y="1281"/>
                  </a:lnTo>
                  <a:lnTo>
                    <a:pt x="1391" y="1281"/>
                  </a:lnTo>
                  <a:lnTo>
                    <a:pt x="1380" y="1286"/>
                  </a:lnTo>
                  <a:lnTo>
                    <a:pt x="1374" y="1286"/>
                  </a:lnTo>
                  <a:lnTo>
                    <a:pt x="1369" y="1292"/>
                  </a:lnTo>
                  <a:lnTo>
                    <a:pt x="1363" y="1297"/>
                  </a:lnTo>
                  <a:lnTo>
                    <a:pt x="1358" y="1303"/>
                  </a:lnTo>
                  <a:lnTo>
                    <a:pt x="1358" y="1308"/>
                  </a:lnTo>
                  <a:lnTo>
                    <a:pt x="1358" y="1313"/>
                  </a:lnTo>
                  <a:lnTo>
                    <a:pt x="1352" y="1319"/>
                  </a:lnTo>
                  <a:lnTo>
                    <a:pt x="1352" y="1324"/>
                  </a:lnTo>
                  <a:lnTo>
                    <a:pt x="1352" y="1335"/>
                  </a:lnTo>
                  <a:lnTo>
                    <a:pt x="1347" y="1341"/>
                  </a:lnTo>
                  <a:lnTo>
                    <a:pt x="1347" y="1346"/>
                  </a:lnTo>
                  <a:lnTo>
                    <a:pt x="1347" y="1357"/>
                  </a:lnTo>
                  <a:lnTo>
                    <a:pt x="1342" y="1363"/>
                  </a:lnTo>
                  <a:lnTo>
                    <a:pt x="1342" y="1368"/>
                  </a:lnTo>
                  <a:lnTo>
                    <a:pt x="1336" y="1368"/>
                  </a:lnTo>
                  <a:lnTo>
                    <a:pt x="1331" y="1363"/>
                  </a:lnTo>
                  <a:lnTo>
                    <a:pt x="1320" y="1357"/>
                  </a:lnTo>
                  <a:lnTo>
                    <a:pt x="1314" y="1352"/>
                  </a:lnTo>
                  <a:lnTo>
                    <a:pt x="1303" y="1346"/>
                  </a:lnTo>
                  <a:lnTo>
                    <a:pt x="1298" y="1346"/>
                  </a:lnTo>
                  <a:lnTo>
                    <a:pt x="1287" y="1341"/>
                  </a:lnTo>
                  <a:lnTo>
                    <a:pt x="1276" y="1341"/>
                  </a:lnTo>
                  <a:lnTo>
                    <a:pt x="1271" y="1341"/>
                  </a:lnTo>
                  <a:lnTo>
                    <a:pt x="1260" y="1341"/>
                  </a:lnTo>
                  <a:lnTo>
                    <a:pt x="1249" y="1341"/>
                  </a:lnTo>
                  <a:lnTo>
                    <a:pt x="1243" y="1346"/>
                  </a:lnTo>
                  <a:lnTo>
                    <a:pt x="1232" y="1346"/>
                  </a:lnTo>
                  <a:lnTo>
                    <a:pt x="1222" y="1346"/>
                  </a:lnTo>
                  <a:lnTo>
                    <a:pt x="1211" y="1352"/>
                  </a:lnTo>
                  <a:lnTo>
                    <a:pt x="1205" y="1352"/>
                  </a:lnTo>
                  <a:lnTo>
                    <a:pt x="1194" y="1352"/>
                  </a:lnTo>
                  <a:lnTo>
                    <a:pt x="1183" y="1352"/>
                  </a:lnTo>
                  <a:lnTo>
                    <a:pt x="1178" y="1357"/>
                  </a:lnTo>
                  <a:lnTo>
                    <a:pt x="1172" y="1363"/>
                  </a:lnTo>
                  <a:lnTo>
                    <a:pt x="1167" y="1368"/>
                  </a:lnTo>
                  <a:lnTo>
                    <a:pt x="1167" y="1373"/>
                  </a:lnTo>
                  <a:lnTo>
                    <a:pt x="1172" y="1384"/>
                  </a:lnTo>
                  <a:lnTo>
                    <a:pt x="1172" y="1390"/>
                  </a:lnTo>
                  <a:lnTo>
                    <a:pt x="1178" y="1395"/>
                  </a:lnTo>
                  <a:lnTo>
                    <a:pt x="1183" y="1401"/>
                  </a:lnTo>
                  <a:lnTo>
                    <a:pt x="1183" y="1406"/>
                  </a:lnTo>
                  <a:lnTo>
                    <a:pt x="1178" y="1412"/>
                  </a:lnTo>
                  <a:lnTo>
                    <a:pt x="1172" y="1406"/>
                  </a:lnTo>
                  <a:lnTo>
                    <a:pt x="1167" y="1401"/>
                  </a:lnTo>
                  <a:lnTo>
                    <a:pt x="1156" y="1395"/>
                  </a:lnTo>
                  <a:lnTo>
                    <a:pt x="1151" y="1395"/>
                  </a:lnTo>
                  <a:lnTo>
                    <a:pt x="1145" y="1390"/>
                  </a:lnTo>
                  <a:lnTo>
                    <a:pt x="1140" y="1384"/>
                  </a:lnTo>
                  <a:lnTo>
                    <a:pt x="1129" y="1379"/>
                  </a:lnTo>
                  <a:lnTo>
                    <a:pt x="1123" y="1379"/>
                  </a:lnTo>
                  <a:lnTo>
                    <a:pt x="1113" y="1373"/>
                  </a:lnTo>
                  <a:lnTo>
                    <a:pt x="1107" y="1368"/>
                  </a:lnTo>
                  <a:lnTo>
                    <a:pt x="1096" y="1368"/>
                  </a:lnTo>
                  <a:lnTo>
                    <a:pt x="1091" y="1363"/>
                  </a:lnTo>
                  <a:lnTo>
                    <a:pt x="1080" y="1363"/>
                  </a:lnTo>
                  <a:lnTo>
                    <a:pt x="1069" y="1363"/>
                  </a:lnTo>
                  <a:lnTo>
                    <a:pt x="1063" y="1357"/>
                  </a:lnTo>
                  <a:lnTo>
                    <a:pt x="1053" y="1357"/>
                  </a:lnTo>
                  <a:lnTo>
                    <a:pt x="1042" y="1352"/>
                  </a:lnTo>
                  <a:lnTo>
                    <a:pt x="1036" y="1352"/>
                  </a:lnTo>
                  <a:lnTo>
                    <a:pt x="1025" y="1346"/>
                  </a:lnTo>
                  <a:lnTo>
                    <a:pt x="1014" y="1346"/>
                  </a:lnTo>
                  <a:lnTo>
                    <a:pt x="1009" y="1346"/>
                  </a:lnTo>
                  <a:lnTo>
                    <a:pt x="998" y="1341"/>
                  </a:lnTo>
                  <a:lnTo>
                    <a:pt x="987" y="1341"/>
                  </a:lnTo>
                  <a:lnTo>
                    <a:pt x="982" y="1335"/>
                  </a:lnTo>
                  <a:lnTo>
                    <a:pt x="971" y="1335"/>
                  </a:lnTo>
                  <a:lnTo>
                    <a:pt x="960" y="1330"/>
                  </a:lnTo>
                  <a:lnTo>
                    <a:pt x="954" y="1330"/>
                  </a:lnTo>
                  <a:lnTo>
                    <a:pt x="944" y="1330"/>
                  </a:lnTo>
                  <a:lnTo>
                    <a:pt x="933" y="1324"/>
                  </a:lnTo>
                  <a:lnTo>
                    <a:pt x="927" y="1324"/>
                  </a:lnTo>
                  <a:lnTo>
                    <a:pt x="916" y="1319"/>
                  </a:lnTo>
                  <a:lnTo>
                    <a:pt x="905" y="1319"/>
                  </a:lnTo>
                  <a:lnTo>
                    <a:pt x="900" y="1313"/>
                  </a:lnTo>
                  <a:lnTo>
                    <a:pt x="889" y="1313"/>
                  </a:lnTo>
                  <a:lnTo>
                    <a:pt x="878" y="1313"/>
                  </a:lnTo>
                  <a:lnTo>
                    <a:pt x="873" y="1308"/>
                  </a:lnTo>
                  <a:lnTo>
                    <a:pt x="862" y="1308"/>
                  </a:lnTo>
                  <a:lnTo>
                    <a:pt x="851" y="1303"/>
                  </a:lnTo>
                  <a:lnTo>
                    <a:pt x="845" y="1303"/>
                  </a:lnTo>
                  <a:lnTo>
                    <a:pt x="834" y="1297"/>
                  </a:lnTo>
                  <a:lnTo>
                    <a:pt x="824" y="1297"/>
                  </a:lnTo>
                  <a:lnTo>
                    <a:pt x="818" y="1297"/>
                  </a:lnTo>
                  <a:lnTo>
                    <a:pt x="807" y="1297"/>
                  </a:lnTo>
                  <a:lnTo>
                    <a:pt x="796" y="1292"/>
                  </a:lnTo>
                  <a:lnTo>
                    <a:pt x="785" y="1286"/>
                  </a:lnTo>
                  <a:lnTo>
                    <a:pt x="780" y="1286"/>
                  </a:lnTo>
                  <a:lnTo>
                    <a:pt x="769" y="1281"/>
                  </a:lnTo>
                  <a:lnTo>
                    <a:pt x="764" y="1281"/>
                  </a:lnTo>
                  <a:lnTo>
                    <a:pt x="758" y="1286"/>
                  </a:lnTo>
                  <a:lnTo>
                    <a:pt x="753" y="1292"/>
                  </a:lnTo>
                  <a:lnTo>
                    <a:pt x="747" y="1297"/>
                  </a:lnTo>
                  <a:lnTo>
                    <a:pt x="747" y="1308"/>
                  </a:lnTo>
                  <a:lnTo>
                    <a:pt x="742" y="1313"/>
                  </a:lnTo>
                  <a:lnTo>
                    <a:pt x="742" y="1319"/>
                  </a:lnTo>
                  <a:lnTo>
                    <a:pt x="742" y="1324"/>
                  </a:lnTo>
                  <a:lnTo>
                    <a:pt x="742" y="1330"/>
                  </a:lnTo>
                  <a:lnTo>
                    <a:pt x="742" y="1341"/>
                  </a:lnTo>
                  <a:lnTo>
                    <a:pt x="736" y="1346"/>
                  </a:lnTo>
                  <a:lnTo>
                    <a:pt x="736" y="1352"/>
                  </a:lnTo>
                  <a:lnTo>
                    <a:pt x="736" y="1357"/>
                  </a:lnTo>
                  <a:lnTo>
                    <a:pt x="736" y="1363"/>
                  </a:lnTo>
                  <a:lnTo>
                    <a:pt x="736" y="1368"/>
                  </a:lnTo>
                  <a:lnTo>
                    <a:pt x="736" y="1373"/>
                  </a:lnTo>
                  <a:lnTo>
                    <a:pt x="731" y="1384"/>
                  </a:lnTo>
                  <a:lnTo>
                    <a:pt x="731" y="1390"/>
                  </a:lnTo>
                  <a:lnTo>
                    <a:pt x="731" y="1395"/>
                  </a:lnTo>
                  <a:lnTo>
                    <a:pt x="731" y="1401"/>
                  </a:lnTo>
                  <a:lnTo>
                    <a:pt x="731" y="1406"/>
                  </a:lnTo>
                  <a:lnTo>
                    <a:pt x="725" y="1412"/>
                  </a:lnTo>
                  <a:lnTo>
                    <a:pt x="725" y="1422"/>
                  </a:lnTo>
                  <a:lnTo>
                    <a:pt x="725" y="1428"/>
                  </a:lnTo>
                  <a:lnTo>
                    <a:pt x="725" y="1433"/>
                  </a:lnTo>
                  <a:lnTo>
                    <a:pt x="725" y="1439"/>
                  </a:lnTo>
                  <a:lnTo>
                    <a:pt x="725" y="1444"/>
                  </a:lnTo>
                  <a:lnTo>
                    <a:pt x="720" y="1450"/>
                  </a:lnTo>
                  <a:lnTo>
                    <a:pt x="720" y="1461"/>
                  </a:lnTo>
                  <a:lnTo>
                    <a:pt x="720" y="1466"/>
                  </a:lnTo>
                  <a:lnTo>
                    <a:pt x="720" y="1472"/>
                  </a:lnTo>
                  <a:lnTo>
                    <a:pt x="720" y="1477"/>
                  </a:lnTo>
                  <a:lnTo>
                    <a:pt x="720" y="1482"/>
                  </a:lnTo>
                  <a:lnTo>
                    <a:pt x="715" y="1488"/>
                  </a:lnTo>
                  <a:lnTo>
                    <a:pt x="715" y="1493"/>
                  </a:lnTo>
                  <a:lnTo>
                    <a:pt x="715" y="1504"/>
                  </a:lnTo>
                  <a:lnTo>
                    <a:pt x="715" y="1510"/>
                  </a:lnTo>
                  <a:lnTo>
                    <a:pt x="715" y="1515"/>
                  </a:lnTo>
                  <a:lnTo>
                    <a:pt x="715" y="1521"/>
                  </a:lnTo>
                  <a:lnTo>
                    <a:pt x="709" y="1526"/>
                  </a:lnTo>
                  <a:lnTo>
                    <a:pt x="709" y="1531"/>
                  </a:lnTo>
                  <a:lnTo>
                    <a:pt x="709" y="1542"/>
                  </a:lnTo>
                  <a:lnTo>
                    <a:pt x="731" y="1564"/>
                  </a:lnTo>
                  <a:lnTo>
                    <a:pt x="764" y="1597"/>
                  </a:lnTo>
                  <a:lnTo>
                    <a:pt x="796" y="1630"/>
                  </a:lnTo>
                  <a:lnTo>
                    <a:pt x="829" y="1662"/>
                  </a:lnTo>
                  <a:lnTo>
                    <a:pt x="862" y="1695"/>
                  </a:lnTo>
                  <a:lnTo>
                    <a:pt x="894" y="1722"/>
                  </a:lnTo>
                  <a:lnTo>
                    <a:pt x="922" y="1755"/>
                  </a:lnTo>
                  <a:lnTo>
                    <a:pt x="954" y="1755"/>
                  </a:lnTo>
                  <a:lnTo>
                    <a:pt x="987" y="1788"/>
                  </a:lnTo>
                  <a:lnTo>
                    <a:pt x="1020" y="1820"/>
                  </a:lnTo>
                  <a:lnTo>
                    <a:pt x="1053" y="1853"/>
                  </a:lnTo>
                  <a:lnTo>
                    <a:pt x="1085" y="1886"/>
                  </a:lnTo>
                  <a:lnTo>
                    <a:pt x="1113" y="1918"/>
                  </a:lnTo>
                  <a:lnTo>
                    <a:pt x="1145" y="1946"/>
                  </a:lnTo>
                  <a:lnTo>
                    <a:pt x="1178" y="1978"/>
                  </a:lnTo>
                  <a:lnTo>
                    <a:pt x="1211" y="1978"/>
                  </a:lnTo>
                  <a:lnTo>
                    <a:pt x="1243" y="1978"/>
                  </a:lnTo>
                  <a:lnTo>
                    <a:pt x="1276" y="1978"/>
                  </a:lnTo>
                  <a:lnTo>
                    <a:pt x="1303" y="1978"/>
                  </a:lnTo>
                  <a:lnTo>
                    <a:pt x="1336" y="1978"/>
                  </a:lnTo>
                  <a:lnTo>
                    <a:pt x="1369" y="1978"/>
                  </a:lnTo>
                  <a:lnTo>
                    <a:pt x="1401" y="1978"/>
                  </a:lnTo>
                  <a:lnTo>
                    <a:pt x="1434" y="1978"/>
                  </a:lnTo>
                  <a:lnTo>
                    <a:pt x="1467" y="1978"/>
                  </a:lnTo>
                  <a:lnTo>
                    <a:pt x="1494" y="1978"/>
                  </a:lnTo>
                  <a:lnTo>
                    <a:pt x="1527" y="1978"/>
                  </a:lnTo>
                  <a:lnTo>
                    <a:pt x="1560" y="1978"/>
                  </a:lnTo>
                  <a:lnTo>
                    <a:pt x="1592" y="1978"/>
                  </a:lnTo>
                  <a:lnTo>
                    <a:pt x="1625" y="1978"/>
                  </a:lnTo>
                  <a:lnTo>
                    <a:pt x="1658" y="1978"/>
                  </a:lnTo>
                  <a:lnTo>
                    <a:pt x="1685" y="1978"/>
                  </a:lnTo>
                  <a:lnTo>
                    <a:pt x="1718" y="1978"/>
                  </a:lnTo>
                  <a:lnTo>
                    <a:pt x="1750" y="1978"/>
                  </a:lnTo>
                  <a:lnTo>
                    <a:pt x="1783" y="1978"/>
                  </a:lnTo>
                  <a:lnTo>
                    <a:pt x="1816" y="1978"/>
                  </a:lnTo>
                  <a:lnTo>
                    <a:pt x="1849" y="1978"/>
                  </a:lnTo>
                  <a:lnTo>
                    <a:pt x="1876" y="1978"/>
                  </a:lnTo>
                  <a:lnTo>
                    <a:pt x="1909" y="1978"/>
                  </a:lnTo>
                  <a:lnTo>
                    <a:pt x="1941" y="1978"/>
                  </a:lnTo>
                  <a:lnTo>
                    <a:pt x="1974" y="1978"/>
                  </a:lnTo>
                  <a:lnTo>
                    <a:pt x="2007" y="1978"/>
                  </a:lnTo>
                  <a:lnTo>
                    <a:pt x="2039" y="1978"/>
                  </a:lnTo>
                  <a:lnTo>
                    <a:pt x="2067" y="1978"/>
                  </a:lnTo>
                  <a:lnTo>
                    <a:pt x="2099" y="1978"/>
                  </a:lnTo>
                  <a:lnTo>
                    <a:pt x="2132" y="1978"/>
                  </a:lnTo>
                  <a:lnTo>
                    <a:pt x="2165" y="1978"/>
                  </a:lnTo>
                  <a:lnTo>
                    <a:pt x="2198" y="1978"/>
                  </a:lnTo>
                  <a:lnTo>
                    <a:pt x="2230" y="1978"/>
                  </a:lnTo>
                  <a:lnTo>
                    <a:pt x="2258" y="1978"/>
                  </a:lnTo>
                  <a:lnTo>
                    <a:pt x="2290" y="1978"/>
                  </a:lnTo>
                  <a:lnTo>
                    <a:pt x="2323" y="1978"/>
                  </a:lnTo>
                  <a:lnTo>
                    <a:pt x="2356" y="1978"/>
                  </a:lnTo>
                  <a:lnTo>
                    <a:pt x="2388" y="1978"/>
                  </a:lnTo>
                  <a:lnTo>
                    <a:pt x="2421" y="1978"/>
                  </a:lnTo>
                  <a:lnTo>
                    <a:pt x="2448" y="1978"/>
                  </a:lnTo>
                  <a:lnTo>
                    <a:pt x="2481" y="1978"/>
                  </a:lnTo>
                  <a:lnTo>
                    <a:pt x="2514" y="1978"/>
                  </a:lnTo>
                  <a:lnTo>
                    <a:pt x="2546" y="1978"/>
                  </a:lnTo>
                  <a:lnTo>
                    <a:pt x="2579" y="1978"/>
                  </a:lnTo>
                  <a:lnTo>
                    <a:pt x="2612" y="1978"/>
                  </a:lnTo>
                  <a:lnTo>
                    <a:pt x="2639" y="1978"/>
                  </a:lnTo>
                  <a:lnTo>
                    <a:pt x="2672" y="1978"/>
                  </a:lnTo>
                  <a:close/>
                  <a:moveTo>
                    <a:pt x="1423" y="1341"/>
                  </a:moveTo>
                  <a:lnTo>
                    <a:pt x="1429" y="1335"/>
                  </a:lnTo>
                  <a:lnTo>
                    <a:pt x="1434" y="1330"/>
                  </a:lnTo>
                  <a:lnTo>
                    <a:pt x="1434" y="1330"/>
                  </a:lnTo>
                  <a:lnTo>
                    <a:pt x="1440" y="1335"/>
                  </a:lnTo>
                  <a:lnTo>
                    <a:pt x="1445" y="1341"/>
                  </a:lnTo>
                  <a:lnTo>
                    <a:pt x="1445" y="1346"/>
                  </a:lnTo>
                  <a:lnTo>
                    <a:pt x="1445" y="1352"/>
                  </a:lnTo>
                  <a:lnTo>
                    <a:pt x="1440" y="1357"/>
                  </a:lnTo>
                  <a:lnTo>
                    <a:pt x="1434" y="1357"/>
                  </a:lnTo>
                  <a:lnTo>
                    <a:pt x="1434" y="1363"/>
                  </a:lnTo>
                  <a:lnTo>
                    <a:pt x="1429" y="1357"/>
                  </a:lnTo>
                  <a:lnTo>
                    <a:pt x="1429" y="1357"/>
                  </a:lnTo>
                  <a:lnTo>
                    <a:pt x="1429" y="1352"/>
                  </a:lnTo>
                  <a:lnTo>
                    <a:pt x="1423" y="1341"/>
                  </a:lnTo>
                  <a:close/>
                  <a:moveTo>
                    <a:pt x="785" y="1248"/>
                  </a:moveTo>
                  <a:lnTo>
                    <a:pt x="774" y="1237"/>
                  </a:lnTo>
                  <a:lnTo>
                    <a:pt x="769" y="1237"/>
                  </a:lnTo>
                  <a:lnTo>
                    <a:pt x="764" y="1237"/>
                  </a:lnTo>
                  <a:lnTo>
                    <a:pt x="764" y="1243"/>
                  </a:lnTo>
                  <a:lnTo>
                    <a:pt x="758" y="1248"/>
                  </a:lnTo>
                  <a:lnTo>
                    <a:pt x="758" y="1259"/>
                  </a:lnTo>
                  <a:lnTo>
                    <a:pt x="764" y="1264"/>
                  </a:lnTo>
                  <a:lnTo>
                    <a:pt x="764" y="1270"/>
                  </a:lnTo>
                  <a:lnTo>
                    <a:pt x="764" y="1270"/>
                  </a:lnTo>
                  <a:lnTo>
                    <a:pt x="769" y="1270"/>
                  </a:lnTo>
                  <a:lnTo>
                    <a:pt x="774" y="1270"/>
                  </a:lnTo>
                  <a:lnTo>
                    <a:pt x="774" y="1264"/>
                  </a:lnTo>
                  <a:lnTo>
                    <a:pt x="780" y="1254"/>
                  </a:lnTo>
                  <a:lnTo>
                    <a:pt x="785" y="1248"/>
                  </a:lnTo>
                  <a:close/>
                  <a:moveTo>
                    <a:pt x="769" y="1025"/>
                  </a:moveTo>
                  <a:lnTo>
                    <a:pt x="769" y="1014"/>
                  </a:lnTo>
                  <a:lnTo>
                    <a:pt x="769" y="1008"/>
                  </a:lnTo>
                  <a:lnTo>
                    <a:pt x="769" y="1003"/>
                  </a:lnTo>
                  <a:lnTo>
                    <a:pt x="769" y="997"/>
                  </a:lnTo>
                  <a:lnTo>
                    <a:pt x="769" y="992"/>
                  </a:lnTo>
                  <a:lnTo>
                    <a:pt x="769" y="986"/>
                  </a:lnTo>
                  <a:lnTo>
                    <a:pt x="769" y="976"/>
                  </a:lnTo>
                  <a:lnTo>
                    <a:pt x="769" y="970"/>
                  </a:lnTo>
                  <a:lnTo>
                    <a:pt x="764" y="970"/>
                  </a:lnTo>
                  <a:lnTo>
                    <a:pt x="764" y="976"/>
                  </a:lnTo>
                  <a:lnTo>
                    <a:pt x="758" y="981"/>
                  </a:lnTo>
                  <a:lnTo>
                    <a:pt x="758" y="992"/>
                  </a:lnTo>
                  <a:lnTo>
                    <a:pt x="758" y="997"/>
                  </a:lnTo>
                  <a:lnTo>
                    <a:pt x="758" y="1003"/>
                  </a:lnTo>
                  <a:lnTo>
                    <a:pt x="758" y="1008"/>
                  </a:lnTo>
                  <a:lnTo>
                    <a:pt x="758" y="1014"/>
                  </a:lnTo>
                  <a:lnTo>
                    <a:pt x="764" y="1019"/>
                  </a:lnTo>
                  <a:lnTo>
                    <a:pt x="764" y="1030"/>
                  </a:lnTo>
                  <a:lnTo>
                    <a:pt x="764" y="1030"/>
                  </a:lnTo>
                  <a:lnTo>
                    <a:pt x="769" y="1025"/>
                  </a:lnTo>
                  <a:close/>
                  <a:moveTo>
                    <a:pt x="2219" y="992"/>
                  </a:moveTo>
                  <a:lnTo>
                    <a:pt x="2225" y="986"/>
                  </a:lnTo>
                  <a:lnTo>
                    <a:pt x="2230" y="976"/>
                  </a:lnTo>
                  <a:lnTo>
                    <a:pt x="2236" y="970"/>
                  </a:lnTo>
                  <a:lnTo>
                    <a:pt x="2241" y="965"/>
                  </a:lnTo>
                  <a:lnTo>
                    <a:pt x="2241" y="959"/>
                  </a:lnTo>
                  <a:lnTo>
                    <a:pt x="2247" y="954"/>
                  </a:lnTo>
                  <a:lnTo>
                    <a:pt x="2252" y="948"/>
                  </a:lnTo>
                  <a:lnTo>
                    <a:pt x="2258" y="937"/>
                  </a:lnTo>
                  <a:lnTo>
                    <a:pt x="2263" y="932"/>
                  </a:lnTo>
                  <a:lnTo>
                    <a:pt x="2268" y="927"/>
                  </a:lnTo>
                  <a:lnTo>
                    <a:pt x="2274" y="921"/>
                  </a:lnTo>
                  <a:lnTo>
                    <a:pt x="2279" y="916"/>
                  </a:lnTo>
                  <a:lnTo>
                    <a:pt x="2285" y="910"/>
                  </a:lnTo>
                  <a:lnTo>
                    <a:pt x="2290" y="905"/>
                  </a:lnTo>
                  <a:lnTo>
                    <a:pt x="2296" y="899"/>
                  </a:lnTo>
                  <a:lnTo>
                    <a:pt x="2301" y="888"/>
                  </a:lnTo>
                  <a:lnTo>
                    <a:pt x="2307" y="883"/>
                  </a:lnTo>
                  <a:lnTo>
                    <a:pt x="2312" y="877"/>
                  </a:lnTo>
                  <a:lnTo>
                    <a:pt x="2317" y="872"/>
                  </a:lnTo>
                  <a:lnTo>
                    <a:pt x="2317" y="867"/>
                  </a:lnTo>
                  <a:lnTo>
                    <a:pt x="2317" y="861"/>
                  </a:lnTo>
                  <a:lnTo>
                    <a:pt x="2312" y="850"/>
                  </a:lnTo>
                  <a:lnTo>
                    <a:pt x="2307" y="845"/>
                  </a:lnTo>
                  <a:lnTo>
                    <a:pt x="2301" y="839"/>
                  </a:lnTo>
                  <a:lnTo>
                    <a:pt x="2296" y="834"/>
                  </a:lnTo>
                  <a:lnTo>
                    <a:pt x="2296" y="828"/>
                  </a:lnTo>
                  <a:lnTo>
                    <a:pt x="2296" y="823"/>
                  </a:lnTo>
                  <a:lnTo>
                    <a:pt x="2301" y="812"/>
                  </a:lnTo>
                  <a:lnTo>
                    <a:pt x="2301" y="807"/>
                  </a:lnTo>
                  <a:lnTo>
                    <a:pt x="2307" y="801"/>
                  </a:lnTo>
                  <a:lnTo>
                    <a:pt x="2312" y="796"/>
                  </a:lnTo>
                  <a:lnTo>
                    <a:pt x="2312" y="785"/>
                  </a:lnTo>
                  <a:lnTo>
                    <a:pt x="2317" y="779"/>
                  </a:lnTo>
                  <a:lnTo>
                    <a:pt x="2317" y="774"/>
                  </a:lnTo>
                  <a:lnTo>
                    <a:pt x="2323" y="768"/>
                  </a:lnTo>
                  <a:lnTo>
                    <a:pt x="2323" y="758"/>
                  </a:lnTo>
                  <a:lnTo>
                    <a:pt x="2328" y="752"/>
                  </a:lnTo>
                  <a:lnTo>
                    <a:pt x="2334" y="747"/>
                  </a:lnTo>
                  <a:lnTo>
                    <a:pt x="2345" y="741"/>
                  </a:lnTo>
                  <a:lnTo>
                    <a:pt x="2350" y="736"/>
                  </a:lnTo>
                  <a:lnTo>
                    <a:pt x="2361" y="736"/>
                  </a:lnTo>
                  <a:lnTo>
                    <a:pt x="2372" y="736"/>
                  </a:lnTo>
                  <a:lnTo>
                    <a:pt x="2377" y="730"/>
                  </a:lnTo>
                  <a:lnTo>
                    <a:pt x="2383" y="719"/>
                  </a:lnTo>
                  <a:lnTo>
                    <a:pt x="2388" y="714"/>
                  </a:lnTo>
                  <a:lnTo>
                    <a:pt x="2388" y="708"/>
                  </a:lnTo>
                  <a:lnTo>
                    <a:pt x="2388" y="703"/>
                  </a:lnTo>
                  <a:lnTo>
                    <a:pt x="2394" y="692"/>
                  </a:lnTo>
                  <a:lnTo>
                    <a:pt x="2394" y="687"/>
                  </a:lnTo>
                  <a:lnTo>
                    <a:pt x="2394" y="681"/>
                  </a:lnTo>
                  <a:lnTo>
                    <a:pt x="2394" y="670"/>
                  </a:lnTo>
                  <a:lnTo>
                    <a:pt x="2388" y="665"/>
                  </a:lnTo>
                  <a:lnTo>
                    <a:pt x="2388" y="659"/>
                  </a:lnTo>
                  <a:lnTo>
                    <a:pt x="2383" y="654"/>
                  </a:lnTo>
                  <a:lnTo>
                    <a:pt x="2383" y="643"/>
                  </a:lnTo>
                  <a:lnTo>
                    <a:pt x="2383" y="638"/>
                  </a:lnTo>
                  <a:lnTo>
                    <a:pt x="2383" y="632"/>
                  </a:lnTo>
                  <a:lnTo>
                    <a:pt x="2383" y="621"/>
                  </a:lnTo>
                  <a:lnTo>
                    <a:pt x="2383" y="616"/>
                  </a:lnTo>
                  <a:lnTo>
                    <a:pt x="2383" y="610"/>
                  </a:lnTo>
                  <a:lnTo>
                    <a:pt x="2383" y="605"/>
                  </a:lnTo>
                  <a:lnTo>
                    <a:pt x="2377" y="594"/>
                  </a:lnTo>
                  <a:lnTo>
                    <a:pt x="2377" y="589"/>
                  </a:lnTo>
                  <a:lnTo>
                    <a:pt x="2377" y="583"/>
                  </a:lnTo>
                  <a:lnTo>
                    <a:pt x="2383" y="572"/>
                  </a:lnTo>
                  <a:lnTo>
                    <a:pt x="2388" y="572"/>
                  </a:lnTo>
                  <a:lnTo>
                    <a:pt x="2399" y="572"/>
                  </a:lnTo>
                  <a:lnTo>
                    <a:pt x="2405" y="578"/>
                  </a:lnTo>
                  <a:lnTo>
                    <a:pt x="2416" y="583"/>
                  </a:lnTo>
                  <a:lnTo>
                    <a:pt x="2421" y="589"/>
                  </a:lnTo>
                  <a:lnTo>
                    <a:pt x="2427" y="594"/>
                  </a:lnTo>
                  <a:lnTo>
                    <a:pt x="2432" y="599"/>
                  </a:lnTo>
                  <a:lnTo>
                    <a:pt x="2443" y="599"/>
                  </a:lnTo>
                  <a:lnTo>
                    <a:pt x="2454" y="605"/>
                  </a:lnTo>
                  <a:lnTo>
                    <a:pt x="2465" y="605"/>
                  </a:lnTo>
                  <a:lnTo>
                    <a:pt x="2470" y="610"/>
                  </a:lnTo>
                  <a:lnTo>
                    <a:pt x="2470" y="616"/>
                  </a:lnTo>
                  <a:lnTo>
                    <a:pt x="2470" y="621"/>
                  </a:lnTo>
                  <a:lnTo>
                    <a:pt x="2459" y="632"/>
                  </a:lnTo>
                  <a:lnTo>
                    <a:pt x="2454" y="638"/>
                  </a:lnTo>
                  <a:lnTo>
                    <a:pt x="2448" y="643"/>
                  </a:lnTo>
                  <a:lnTo>
                    <a:pt x="2443" y="649"/>
                  </a:lnTo>
                  <a:lnTo>
                    <a:pt x="2437" y="654"/>
                  </a:lnTo>
                  <a:lnTo>
                    <a:pt x="2437" y="665"/>
                  </a:lnTo>
                  <a:lnTo>
                    <a:pt x="2437" y="670"/>
                  </a:lnTo>
                  <a:lnTo>
                    <a:pt x="2437" y="676"/>
                  </a:lnTo>
                  <a:lnTo>
                    <a:pt x="2437" y="687"/>
                  </a:lnTo>
                  <a:lnTo>
                    <a:pt x="2437" y="692"/>
                  </a:lnTo>
                  <a:lnTo>
                    <a:pt x="2437" y="698"/>
                  </a:lnTo>
                  <a:lnTo>
                    <a:pt x="2437" y="703"/>
                  </a:lnTo>
                  <a:lnTo>
                    <a:pt x="2432" y="714"/>
                  </a:lnTo>
                  <a:lnTo>
                    <a:pt x="2432" y="719"/>
                  </a:lnTo>
                  <a:lnTo>
                    <a:pt x="2432" y="725"/>
                  </a:lnTo>
                  <a:lnTo>
                    <a:pt x="2432" y="736"/>
                  </a:lnTo>
                  <a:lnTo>
                    <a:pt x="2432" y="741"/>
                  </a:lnTo>
                  <a:lnTo>
                    <a:pt x="2437" y="747"/>
                  </a:lnTo>
                  <a:lnTo>
                    <a:pt x="2437" y="752"/>
                  </a:lnTo>
                  <a:lnTo>
                    <a:pt x="2437" y="763"/>
                  </a:lnTo>
                  <a:lnTo>
                    <a:pt x="2437" y="768"/>
                  </a:lnTo>
                  <a:lnTo>
                    <a:pt x="2437" y="774"/>
                  </a:lnTo>
                  <a:lnTo>
                    <a:pt x="2437" y="779"/>
                  </a:lnTo>
                  <a:lnTo>
                    <a:pt x="2437" y="790"/>
                  </a:lnTo>
                  <a:lnTo>
                    <a:pt x="2437" y="796"/>
                  </a:lnTo>
                  <a:lnTo>
                    <a:pt x="2437" y="801"/>
                  </a:lnTo>
                  <a:lnTo>
                    <a:pt x="2437" y="812"/>
                  </a:lnTo>
                  <a:lnTo>
                    <a:pt x="2443" y="817"/>
                  </a:lnTo>
                  <a:lnTo>
                    <a:pt x="2443" y="823"/>
                  </a:lnTo>
                  <a:lnTo>
                    <a:pt x="2448" y="828"/>
                  </a:lnTo>
                  <a:lnTo>
                    <a:pt x="2448" y="839"/>
                  </a:lnTo>
                  <a:lnTo>
                    <a:pt x="2454" y="845"/>
                  </a:lnTo>
                  <a:lnTo>
                    <a:pt x="2454" y="850"/>
                  </a:lnTo>
                  <a:lnTo>
                    <a:pt x="2459" y="856"/>
                  </a:lnTo>
                  <a:lnTo>
                    <a:pt x="2454" y="867"/>
                  </a:lnTo>
                  <a:lnTo>
                    <a:pt x="2454" y="872"/>
                  </a:lnTo>
                  <a:lnTo>
                    <a:pt x="2448" y="877"/>
                  </a:lnTo>
                  <a:lnTo>
                    <a:pt x="2443" y="883"/>
                  </a:lnTo>
                  <a:lnTo>
                    <a:pt x="2437" y="888"/>
                  </a:lnTo>
                  <a:lnTo>
                    <a:pt x="2432" y="894"/>
                  </a:lnTo>
                  <a:lnTo>
                    <a:pt x="2427" y="899"/>
                  </a:lnTo>
                  <a:lnTo>
                    <a:pt x="2421" y="905"/>
                  </a:lnTo>
                  <a:lnTo>
                    <a:pt x="2416" y="916"/>
                  </a:lnTo>
                  <a:lnTo>
                    <a:pt x="2416" y="921"/>
                  </a:lnTo>
                  <a:lnTo>
                    <a:pt x="2416" y="927"/>
                  </a:lnTo>
                  <a:lnTo>
                    <a:pt x="2416" y="932"/>
                  </a:lnTo>
                  <a:lnTo>
                    <a:pt x="2421" y="943"/>
                  </a:lnTo>
                  <a:lnTo>
                    <a:pt x="2427" y="948"/>
                  </a:lnTo>
                  <a:lnTo>
                    <a:pt x="2427" y="954"/>
                  </a:lnTo>
                  <a:lnTo>
                    <a:pt x="2432" y="959"/>
                  </a:lnTo>
                  <a:lnTo>
                    <a:pt x="2427" y="970"/>
                  </a:lnTo>
                  <a:lnTo>
                    <a:pt x="2427" y="976"/>
                  </a:lnTo>
                  <a:lnTo>
                    <a:pt x="2427" y="981"/>
                  </a:lnTo>
                  <a:lnTo>
                    <a:pt x="2421" y="986"/>
                  </a:lnTo>
                  <a:lnTo>
                    <a:pt x="2416" y="992"/>
                  </a:lnTo>
                  <a:lnTo>
                    <a:pt x="2405" y="997"/>
                  </a:lnTo>
                  <a:lnTo>
                    <a:pt x="2394" y="997"/>
                  </a:lnTo>
                  <a:lnTo>
                    <a:pt x="2383" y="992"/>
                  </a:lnTo>
                  <a:lnTo>
                    <a:pt x="2372" y="992"/>
                  </a:lnTo>
                  <a:lnTo>
                    <a:pt x="2361" y="997"/>
                  </a:lnTo>
                  <a:lnTo>
                    <a:pt x="2350" y="997"/>
                  </a:lnTo>
                  <a:lnTo>
                    <a:pt x="2339" y="997"/>
                  </a:lnTo>
                  <a:lnTo>
                    <a:pt x="2328" y="997"/>
                  </a:lnTo>
                  <a:lnTo>
                    <a:pt x="2317" y="997"/>
                  </a:lnTo>
                  <a:lnTo>
                    <a:pt x="2307" y="997"/>
                  </a:lnTo>
                  <a:lnTo>
                    <a:pt x="2296" y="997"/>
                  </a:lnTo>
                  <a:lnTo>
                    <a:pt x="2285" y="997"/>
                  </a:lnTo>
                  <a:lnTo>
                    <a:pt x="2274" y="997"/>
                  </a:lnTo>
                  <a:lnTo>
                    <a:pt x="2263" y="997"/>
                  </a:lnTo>
                  <a:lnTo>
                    <a:pt x="2252" y="1003"/>
                  </a:lnTo>
                  <a:lnTo>
                    <a:pt x="2241" y="1003"/>
                  </a:lnTo>
                  <a:lnTo>
                    <a:pt x="2230" y="1003"/>
                  </a:lnTo>
                  <a:lnTo>
                    <a:pt x="2225" y="997"/>
                  </a:lnTo>
                  <a:lnTo>
                    <a:pt x="2219" y="992"/>
                  </a:lnTo>
                  <a:close/>
                  <a:moveTo>
                    <a:pt x="496" y="959"/>
                  </a:moveTo>
                  <a:lnTo>
                    <a:pt x="496" y="948"/>
                  </a:lnTo>
                  <a:lnTo>
                    <a:pt x="496" y="943"/>
                  </a:lnTo>
                  <a:lnTo>
                    <a:pt x="496" y="937"/>
                  </a:lnTo>
                  <a:lnTo>
                    <a:pt x="502" y="932"/>
                  </a:lnTo>
                  <a:lnTo>
                    <a:pt x="502" y="932"/>
                  </a:lnTo>
                  <a:lnTo>
                    <a:pt x="507" y="927"/>
                  </a:lnTo>
                  <a:lnTo>
                    <a:pt x="518" y="927"/>
                  </a:lnTo>
                  <a:lnTo>
                    <a:pt x="524" y="921"/>
                  </a:lnTo>
                  <a:lnTo>
                    <a:pt x="524" y="916"/>
                  </a:lnTo>
                  <a:lnTo>
                    <a:pt x="529" y="910"/>
                  </a:lnTo>
                  <a:lnTo>
                    <a:pt x="529" y="905"/>
                  </a:lnTo>
                  <a:lnTo>
                    <a:pt x="524" y="899"/>
                  </a:lnTo>
                  <a:lnTo>
                    <a:pt x="518" y="888"/>
                  </a:lnTo>
                  <a:lnTo>
                    <a:pt x="513" y="888"/>
                  </a:lnTo>
                  <a:lnTo>
                    <a:pt x="507" y="888"/>
                  </a:lnTo>
                  <a:lnTo>
                    <a:pt x="502" y="894"/>
                  </a:lnTo>
                  <a:lnTo>
                    <a:pt x="496" y="894"/>
                  </a:lnTo>
                  <a:lnTo>
                    <a:pt x="491" y="899"/>
                  </a:lnTo>
                  <a:lnTo>
                    <a:pt x="486" y="905"/>
                  </a:lnTo>
                  <a:lnTo>
                    <a:pt x="480" y="905"/>
                  </a:lnTo>
                  <a:lnTo>
                    <a:pt x="475" y="910"/>
                  </a:lnTo>
                  <a:lnTo>
                    <a:pt x="464" y="910"/>
                  </a:lnTo>
                  <a:lnTo>
                    <a:pt x="458" y="916"/>
                  </a:lnTo>
                  <a:lnTo>
                    <a:pt x="453" y="921"/>
                  </a:lnTo>
                  <a:lnTo>
                    <a:pt x="447" y="921"/>
                  </a:lnTo>
                  <a:lnTo>
                    <a:pt x="447" y="927"/>
                  </a:lnTo>
                  <a:lnTo>
                    <a:pt x="447" y="932"/>
                  </a:lnTo>
                  <a:lnTo>
                    <a:pt x="447" y="937"/>
                  </a:lnTo>
                  <a:lnTo>
                    <a:pt x="453" y="943"/>
                  </a:lnTo>
                  <a:lnTo>
                    <a:pt x="453" y="948"/>
                  </a:lnTo>
                  <a:lnTo>
                    <a:pt x="458" y="954"/>
                  </a:lnTo>
                  <a:lnTo>
                    <a:pt x="458" y="959"/>
                  </a:lnTo>
                  <a:lnTo>
                    <a:pt x="464" y="965"/>
                  </a:lnTo>
                  <a:lnTo>
                    <a:pt x="475" y="970"/>
                  </a:lnTo>
                  <a:lnTo>
                    <a:pt x="480" y="970"/>
                  </a:lnTo>
                  <a:lnTo>
                    <a:pt x="486" y="970"/>
                  </a:lnTo>
                  <a:lnTo>
                    <a:pt x="491" y="965"/>
                  </a:lnTo>
                  <a:lnTo>
                    <a:pt x="496" y="959"/>
                  </a:lnTo>
                  <a:close/>
                  <a:moveTo>
                    <a:pt x="1816" y="959"/>
                  </a:moveTo>
                  <a:lnTo>
                    <a:pt x="1816" y="959"/>
                  </a:lnTo>
                  <a:lnTo>
                    <a:pt x="1816" y="954"/>
                  </a:lnTo>
                  <a:lnTo>
                    <a:pt x="1816" y="954"/>
                  </a:lnTo>
                  <a:lnTo>
                    <a:pt x="1816" y="954"/>
                  </a:lnTo>
                  <a:lnTo>
                    <a:pt x="1816" y="954"/>
                  </a:lnTo>
                  <a:lnTo>
                    <a:pt x="1816" y="954"/>
                  </a:lnTo>
                  <a:lnTo>
                    <a:pt x="1816" y="954"/>
                  </a:lnTo>
                  <a:lnTo>
                    <a:pt x="1816" y="959"/>
                  </a:lnTo>
                  <a:lnTo>
                    <a:pt x="1816" y="959"/>
                  </a:lnTo>
                  <a:lnTo>
                    <a:pt x="1816" y="959"/>
                  </a:lnTo>
                  <a:lnTo>
                    <a:pt x="1816" y="959"/>
                  </a:lnTo>
                  <a:lnTo>
                    <a:pt x="1816" y="959"/>
                  </a:lnTo>
                  <a:lnTo>
                    <a:pt x="1816" y="959"/>
                  </a:lnTo>
                  <a:lnTo>
                    <a:pt x="1816" y="959"/>
                  </a:lnTo>
                  <a:close/>
                  <a:moveTo>
                    <a:pt x="1696" y="927"/>
                  </a:moveTo>
                  <a:lnTo>
                    <a:pt x="1701" y="921"/>
                  </a:lnTo>
                  <a:lnTo>
                    <a:pt x="1701" y="910"/>
                  </a:lnTo>
                  <a:lnTo>
                    <a:pt x="1701" y="905"/>
                  </a:lnTo>
                  <a:lnTo>
                    <a:pt x="1701" y="899"/>
                  </a:lnTo>
                  <a:lnTo>
                    <a:pt x="1701" y="888"/>
                  </a:lnTo>
                  <a:lnTo>
                    <a:pt x="1701" y="883"/>
                  </a:lnTo>
                  <a:lnTo>
                    <a:pt x="1701" y="877"/>
                  </a:lnTo>
                  <a:lnTo>
                    <a:pt x="1701" y="867"/>
                  </a:lnTo>
                  <a:lnTo>
                    <a:pt x="1701" y="861"/>
                  </a:lnTo>
                  <a:lnTo>
                    <a:pt x="1696" y="856"/>
                  </a:lnTo>
                  <a:lnTo>
                    <a:pt x="1696" y="845"/>
                  </a:lnTo>
                  <a:lnTo>
                    <a:pt x="1701" y="839"/>
                  </a:lnTo>
                  <a:lnTo>
                    <a:pt x="1701" y="834"/>
                  </a:lnTo>
                  <a:lnTo>
                    <a:pt x="1707" y="828"/>
                  </a:lnTo>
                  <a:lnTo>
                    <a:pt x="1712" y="823"/>
                  </a:lnTo>
                  <a:lnTo>
                    <a:pt x="1718" y="812"/>
                  </a:lnTo>
                  <a:lnTo>
                    <a:pt x="1723" y="807"/>
                  </a:lnTo>
                  <a:lnTo>
                    <a:pt x="1729" y="801"/>
                  </a:lnTo>
                  <a:lnTo>
                    <a:pt x="1729" y="796"/>
                  </a:lnTo>
                  <a:lnTo>
                    <a:pt x="1729" y="785"/>
                  </a:lnTo>
                  <a:lnTo>
                    <a:pt x="1734" y="779"/>
                  </a:lnTo>
                  <a:lnTo>
                    <a:pt x="1734" y="774"/>
                  </a:lnTo>
                  <a:lnTo>
                    <a:pt x="1734" y="768"/>
                  </a:lnTo>
                  <a:lnTo>
                    <a:pt x="1734" y="758"/>
                  </a:lnTo>
                  <a:lnTo>
                    <a:pt x="1740" y="752"/>
                  </a:lnTo>
                  <a:lnTo>
                    <a:pt x="1740" y="747"/>
                  </a:lnTo>
                  <a:lnTo>
                    <a:pt x="1740" y="736"/>
                  </a:lnTo>
                  <a:lnTo>
                    <a:pt x="1740" y="730"/>
                  </a:lnTo>
                  <a:lnTo>
                    <a:pt x="1740" y="725"/>
                  </a:lnTo>
                  <a:lnTo>
                    <a:pt x="1745" y="714"/>
                  </a:lnTo>
                  <a:lnTo>
                    <a:pt x="1745" y="708"/>
                  </a:lnTo>
                  <a:lnTo>
                    <a:pt x="1750" y="703"/>
                  </a:lnTo>
                  <a:lnTo>
                    <a:pt x="1750" y="698"/>
                  </a:lnTo>
                  <a:lnTo>
                    <a:pt x="1756" y="687"/>
                  </a:lnTo>
                  <a:lnTo>
                    <a:pt x="1761" y="681"/>
                  </a:lnTo>
                  <a:lnTo>
                    <a:pt x="1767" y="676"/>
                  </a:lnTo>
                  <a:lnTo>
                    <a:pt x="1772" y="670"/>
                  </a:lnTo>
                  <a:lnTo>
                    <a:pt x="1772" y="665"/>
                  </a:lnTo>
                  <a:lnTo>
                    <a:pt x="1778" y="654"/>
                  </a:lnTo>
                  <a:lnTo>
                    <a:pt x="1778" y="649"/>
                  </a:lnTo>
                  <a:lnTo>
                    <a:pt x="1783" y="643"/>
                  </a:lnTo>
                  <a:lnTo>
                    <a:pt x="1789" y="638"/>
                  </a:lnTo>
                  <a:lnTo>
                    <a:pt x="1794" y="632"/>
                  </a:lnTo>
                  <a:lnTo>
                    <a:pt x="1800" y="621"/>
                  </a:lnTo>
                  <a:lnTo>
                    <a:pt x="1800" y="616"/>
                  </a:lnTo>
                  <a:lnTo>
                    <a:pt x="1805" y="610"/>
                  </a:lnTo>
                  <a:lnTo>
                    <a:pt x="1805" y="599"/>
                  </a:lnTo>
                  <a:lnTo>
                    <a:pt x="1810" y="594"/>
                  </a:lnTo>
                  <a:lnTo>
                    <a:pt x="1810" y="589"/>
                  </a:lnTo>
                  <a:lnTo>
                    <a:pt x="1816" y="583"/>
                  </a:lnTo>
                  <a:lnTo>
                    <a:pt x="1816" y="572"/>
                  </a:lnTo>
                  <a:lnTo>
                    <a:pt x="1816" y="567"/>
                  </a:lnTo>
                  <a:lnTo>
                    <a:pt x="1810" y="561"/>
                  </a:lnTo>
                  <a:lnTo>
                    <a:pt x="1805" y="550"/>
                  </a:lnTo>
                  <a:lnTo>
                    <a:pt x="1794" y="550"/>
                  </a:lnTo>
                  <a:lnTo>
                    <a:pt x="1783" y="545"/>
                  </a:lnTo>
                  <a:lnTo>
                    <a:pt x="1778" y="545"/>
                  </a:lnTo>
                  <a:lnTo>
                    <a:pt x="1767" y="550"/>
                  </a:lnTo>
                  <a:lnTo>
                    <a:pt x="1761" y="556"/>
                  </a:lnTo>
                  <a:lnTo>
                    <a:pt x="1750" y="567"/>
                  </a:lnTo>
                  <a:lnTo>
                    <a:pt x="1745" y="567"/>
                  </a:lnTo>
                  <a:lnTo>
                    <a:pt x="1734" y="572"/>
                  </a:lnTo>
                  <a:lnTo>
                    <a:pt x="1729" y="578"/>
                  </a:lnTo>
                  <a:lnTo>
                    <a:pt x="1718" y="583"/>
                  </a:lnTo>
                  <a:lnTo>
                    <a:pt x="1712" y="589"/>
                  </a:lnTo>
                  <a:lnTo>
                    <a:pt x="1707" y="594"/>
                  </a:lnTo>
                  <a:lnTo>
                    <a:pt x="1696" y="599"/>
                  </a:lnTo>
                  <a:lnTo>
                    <a:pt x="1690" y="605"/>
                  </a:lnTo>
                  <a:lnTo>
                    <a:pt x="1690" y="610"/>
                  </a:lnTo>
                  <a:lnTo>
                    <a:pt x="1685" y="621"/>
                  </a:lnTo>
                  <a:lnTo>
                    <a:pt x="1685" y="627"/>
                  </a:lnTo>
                  <a:lnTo>
                    <a:pt x="1680" y="632"/>
                  </a:lnTo>
                  <a:lnTo>
                    <a:pt x="1680" y="643"/>
                  </a:lnTo>
                  <a:lnTo>
                    <a:pt x="1674" y="649"/>
                  </a:lnTo>
                  <a:lnTo>
                    <a:pt x="1669" y="654"/>
                  </a:lnTo>
                  <a:lnTo>
                    <a:pt x="1663" y="659"/>
                  </a:lnTo>
                  <a:lnTo>
                    <a:pt x="1652" y="665"/>
                  </a:lnTo>
                  <a:lnTo>
                    <a:pt x="1641" y="665"/>
                  </a:lnTo>
                  <a:lnTo>
                    <a:pt x="1630" y="665"/>
                  </a:lnTo>
                  <a:lnTo>
                    <a:pt x="1620" y="665"/>
                  </a:lnTo>
                  <a:lnTo>
                    <a:pt x="1614" y="670"/>
                  </a:lnTo>
                  <a:lnTo>
                    <a:pt x="1614" y="681"/>
                  </a:lnTo>
                  <a:lnTo>
                    <a:pt x="1609" y="687"/>
                  </a:lnTo>
                  <a:lnTo>
                    <a:pt x="1603" y="692"/>
                  </a:lnTo>
                  <a:lnTo>
                    <a:pt x="1603" y="698"/>
                  </a:lnTo>
                  <a:lnTo>
                    <a:pt x="1603" y="708"/>
                  </a:lnTo>
                  <a:lnTo>
                    <a:pt x="1603" y="714"/>
                  </a:lnTo>
                  <a:lnTo>
                    <a:pt x="1603" y="719"/>
                  </a:lnTo>
                  <a:lnTo>
                    <a:pt x="1598" y="730"/>
                  </a:lnTo>
                  <a:lnTo>
                    <a:pt x="1598" y="736"/>
                  </a:lnTo>
                  <a:lnTo>
                    <a:pt x="1598" y="741"/>
                  </a:lnTo>
                  <a:lnTo>
                    <a:pt x="1592" y="752"/>
                  </a:lnTo>
                  <a:lnTo>
                    <a:pt x="1592" y="758"/>
                  </a:lnTo>
                  <a:lnTo>
                    <a:pt x="1592" y="763"/>
                  </a:lnTo>
                  <a:lnTo>
                    <a:pt x="1592" y="768"/>
                  </a:lnTo>
                  <a:lnTo>
                    <a:pt x="1587" y="779"/>
                  </a:lnTo>
                  <a:lnTo>
                    <a:pt x="1587" y="785"/>
                  </a:lnTo>
                  <a:lnTo>
                    <a:pt x="1587" y="790"/>
                  </a:lnTo>
                  <a:lnTo>
                    <a:pt x="1587" y="801"/>
                  </a:lnTo>
                  <a:lnTo>
                    <a:pt x="1587" y="807"/>
                  </a:lnTo>
                  <a:lnTo>
                    <a:pt x="1587" y="812"/>
                  </a:lnTo>
                  <a:lnTo>
                    <a:pt x="1587" y="823"/>
                  </a:lnTo>
                  <a:lnTo>
                    <a:pt x="1587" y="828"/>
                  </a:lnTo>
                  <a:lnTo>
                    <a:pt x="1592" y="834"/>
                  </a:lnTo>
                  <a:lnTo>
                    <a:pt x="1598" y="839"/>
                  </a:lnTo>
                  <a:lnTo>
                    <a:pt x="1609" y="839"/>
                  </a:lnTo>
                  <a:lnTo>
                    <a:pt x="1620" y="834"/>
                  </a:lnTo>
                  <a:lnTo>
                    <a:pt x="1630" y="828"/>
                  </a:lnTo>
                  <a:lnTo>
                    <a:pt x="1641" y="823"/>
                  </a:lnTo>
                  <a:lnTo>
                    <a:pt x="1647" y="817"/>
                  </a:lnTo>
                  <a:lnTo>
                    <a:pt x="1658" y="817"/>
                  </a:lnTo>
                  <a:lnTo>
                    <a:pt x="1663" y="823"/>
                  </a:lnTo>
                  <a:lnTo>
                    <a:pt x="1669" y="828"/>
                  </a:lnTo>
                  <a:lnTo>
                    <a:pt x="1669" y="834"/>
                  </a:lnTo>
                  <a:lnTo>
                    <a:pt x="1669" y="839"/>
                  </a:lnTo>
                  <a:lnTo>
                    <a:pt x="1663" y="850"/>
                  </a:lnTo>
                  <a:lnTo>
                    <a:pt x="1652" y="856"/>
                  </a:lnTo>
                  <a:lnTo>
                    <a:pt x="1647" y="861"/>
                  </a:lnTo>
                  <a:lnTo>
                    <a:pt x="1658" y="867"/>
                  </a:lnTo>
                  <a:lnTo>
                    <a:pt x="1663" y="872"/>
                  </a:lnTo>
                  <a:lnTo>
                    <a:pt x="1669" y="877"/>
                  </a:lnTo>
                  <a:lnTo>
                    <a:pt x="1669" y="888"/>
                  </a:lnTo>
                  <a:lnTo>
                    <a:pt x="1674" y="894"/>
                  </a:lnTo>
                  <a:lnTo>
                    <a:pt x="1674" y="899"/>
                  </a:lnTo>
                  <a:lnTo>
                    <a:pt x="1674" y="905"/>
                  </a:lnTo>
                  <a:lnTo>
                    <a:pt x="1680" y="916"/>
                  </a:lnTo>
                  <a:lnTo>
                    <a:pt x="1680" y="921"/>
                  </a:lnTo>
                  <a:lnTo>
                    <a:pt x="1680" y="927"/>
                  </a:lnTo>
                  <a:lnTo>
                    <a:pt x="1685" y="937"/>
                  </a:lnTo>
                  <a:lnTo>
                    <a:pt x="1685" y="943"/>
                  </a:lnTo>
                  <a:lnTo>
                    <a:pt x="1690" y="948"/>
                  </a:lnTo>
                  <a:lnTo>
                    <a:pt x="1690" y="948"/>
                  </a:lnTo>
                  <a:lnTo>
                    <a:pt x="1696" y="937"/>
                  </a:lnTo>
                  <a:lnTo>
                    <a:pt x="1696" y="927"/>
                  </a:lnTo>
                  <a:close/>
                  <a:moveTo>
                    <a:pt x="376" y="828"/>
                  </a:moveTo>
                  <a:lnTo>
                    <a:pt x="387" y="828"/>
                  </a:lnTo>
                  <a:lnTo>
                    <a:pt x="398" y="828"/>
                  </a:lnTo>
                  <a:lnTo>
                    <a:pt x="409" y="834"/>
                  </a:lnTo>
                  <a:lnTo>
                    <a:pt x="415" y="834"/>
                  </a:lnTo>
                  <a:lnTo>
                    <a:pt x="426" y="834"/>
                  </a:lnTo>
                  <a:lnTo>
                    <a:pt x="436" y="839"/>
                  </a:lnTo>
                  <a:lnTo>
                    <a:pt x="442" y="839"/>
                  </a:lnTo>
                  <a:lnTo>
                    <a:pt x="453" y="839"/>
                  </a:lnTo>
                  <a:lnTo>
                    <a:pt x="458" y="834"/>
                  </a:lnTo>
                  <a:lnTo>
                    <a:pt x="469" y="834"/>
                  </a:lnTo>
                  <a:lnTo>
                    <a:pt x="475" y="828"/>
                  </a:lnTo>
                  <a:lnTo>
                    <a:pt x="480" y="823"/>
                  </a:lnTo>
                  <a:lnTo>
                    <a:pt x="486" y="817"/>
                  </a:lnTo>
                  <a:lnTo>
                    <a:pt x="491" y="812"/>
                  </a:lnTo>
                  <a:lnTo>
                    <a:pt x="496" y="807"/>
                  </a:lnTo>
                  <a:lnTo>
                    <a:pt x="502" y="801"/>
                  </a:lnTo>
                  <a:lnTo>
                    <a:pt x="513" y="796"/>
                  </a:lnTo>
                  <a:lnTo>
                    <a:pt x="518" y="796"/>
                  </a:lnTo>
                  <a:lnTo>
                    <a:pt x="524" y="790"/>
                  </a:lnTo>
                  <a:lnTo>
                    <a:pt x="529" y="785"/>
                  </a:lnTo>
                  <a:lnTo>
                    <a:pt x="535" y="779"/>
                  </a:lnTo>
                  <a:lnTo>
                    <a:pt x="540" y="774"/>
                  </a:lnTo>
                  <a:lnTo>
                    <a:pt x="545" y="768"/>
                  </a:lnTo>
                  <a:lnTo>
                    <a:pt x="551" y="763"/>
                  </a:lnTo>
                  <a:lnTo>
                    <a:pt x="556" y="758"/>
                  </a:lnTo>
                  <a:lnTo>
                    <a:pt x="562" y="752"/>
                  </a:lnTo>
                  <a:lnTo>
                    <a:pt x="567" y="747"/>
                  </a:lnTo>
                  <a:lnTo>
                    <a:pt x="573" y="741"/>
                  </a:lnTo>
                  <a:lnTo>
                    <a:pt x="573" y="736"/>
                  </a:lnTo>
                  <a:lnTo>
                    <a:pt x="578" y="730"/>
                  </a:lnTo>
                  <a:lnTo>
                    <a:pt x="589" y="725"/>
                  </a:lnTo>
                  <a:lnTo>
                    <a:pt x="600" y="725"/>
                  </a:lnTo>
                  <a:lnTo>
                    <a:pt x="605" y="730"/>
                  </a:lnTo>
                  <a:lnTo>
                    <a:pt x="611" y="736"/>
                  </a:lnTo>
                  <a:lnTo>
                    <a:pt x="616" y="741"/>
                  </a:lnTo>
                  <a:lnTo>
                    <a:pt x="616" y="747"/>
                  </a:lnTo>
                  <a:lnTo>
                    <a:pt x="622" y="752"/>
                  </a:lnTo>
                  <a:lnTo>
                    <a:pt x="622" y="758"/>
                  </a:lnTo>
                  <a:lnTo>
                    <a:pt x="627" y="763"/>
                  </a:lnTo>
                  <a:lnTo>
                    <a:pt x="627" y="768"/>
                  </a:lnTo>
                  <a:lnTo>
                    <a:pt x="633" y="779"/>
                  </a:lnTo>
                  <a:lnTo>
                    <a:pt x="638" y="785"/>
                  </a:lnTo>
                  <a:lnTo>
                    <a:pt x="644" y="785"/>
                  </a:lnTo>
                  <a:lnTo>
                    <a:pt x="649" y="785"/>
                  </a:lnTo>
                  <a:lnTo>
                    <a:pt x="660" y="779"/>
                  </a:lnTo>
                  <a:lnTo>
                    <a:pt x="671" y="774"/>
                  </a:lnTo>
                  <a:lnTo>
                    <a:pt x="682" y="774"/>
                  </a:lnTo>
                  <a:lnTo>
                    <a:pt x="687" y="768"/>
                  </a:lnTo>
                  <a:lnTo>
                    <a:pt x="693" y="763"/>
                  </a:lnTo>
                  <a:lnTo>
                    <a:pt x="698" y="758"/>
                  </a:lnTo>
                  <a:lnTo>
                    <a:pt x="698" y="752"/>
                  </a:lnTo>
                  <a:lnTo>
                    <a:pt x="698" y="747"/>
                  </a:lnTo>
                  <a:lnTo>
                    <a:pt x="698" y="741"/>
                  </a:lnTo>
                  <a:lnTo>
                    <a:pt x="698" y="730"/>
                  </a:lnTo>
                  <a:lnTo>
                    <a:pt x="698" y="725"/>
                  </a:lnTo>
                  <a:lnTo>
                    <a:pt x="698" y="719"/>
                  </a:lnTo>
                  <a:lnTo>
                    <a:pt x="698" y="714"/>
                  </a:lnTo>
                  <a:lnTo>
                    <a:pt x="693" y="708"/>
                  </a:lnTo>
                  <a:lnTo>
                    <a:pt x="693" y="703"/>
                  </a:lnTo>
                  <a:lnTo>
                    <a:pt x="693" y="692"/>
                  </a:lnTo>
                  <a:lnTo>
                    <a:pt x="693" y="687"/>
                  </a:lnTo>
                  <a:lnTo>
                    <a:pt x="693" y="681"/>
                  </a:lnTo>
                  <a:lnTo>
                    <a:pt x="698" y="676"/>
                  </a:lnTo>
                  <a:lnTo>
                    <a:pt x="709" y="670"/>
                  </a:lnTo>
                  <a:lnTo>
                    <a:pt x="715" y="670"/>
                  </a:lnTo>
                  <a:lnTo>
                    <a:pt x="720" y="665"/>
                  </a:lnTo>
                  <a:lnTo>
                    <a:pt x="725" y="659"/>
                  </a:lnTo>
                  <a:lnTo>
                    <a:pt x="725" y="649"/>
                  </a:lnTo>
                  <a:lnTo>
                    <a:pt x="725" y="643"/>
                  </a:lnTo>
                  <a:lnTo>
                    <a:pt x="725" y="638"/>
                  </a:lnTo>
                  <a:lnTo>
                    <a:pt x="725" y="632"/>
                  </a:lnTo>
                  <a:lnTo>
                    <a:pt x="725" y="627"/>
                  </a:lnTo>
                  <a:lnTo>
                    <a:pt x="725" y="616"/>
                  </a:lnTo>
                  <a:lnTo>
                    <a:pt x="725" y="610"/>
                  </a:lnTo>
                  <a:lnTo>
                    <a:pt x="720" y="605"/>
                  </a:lnTo>
                  <a:lnTo>
                    <a:pt x="720" y="599"/>
                  </a:lnTo>
                  <a:lnTo>
                    <a:pt x="715" y="594"/>
                  </a:lnTo>
                  <a:lnTo>
                    <a:pt x="709" y="589"/>
                  </a:lnTo>
                  <a:lnTo>
                    <a:pt x="709" y="583"/>
                  </a:lnTo>
                  <a:lnTo>
                    <a:pt x="709" y="578"/>
                  </a:lnTo>
                  <a:lnTo>
                    <a:pt x="715" y="572"/>
                  </a:lnTo>
                  <a:lnTo>
                    <a:pt x="720" y="567"/>
                  </a:lnTo>
                  <a:lnTo>
                    <a:pt x="725" y="561"/>
                  </a:lnTo>
                  <a:lnTo>
                    <a:pt x="736" y="556"/>
                  </a:lnTo>
                  <a:lnTo>
                    <a:pt x="742" y="550"/>
                  </a:lnTo>
                  <a:lnTo>
                    <a:pt x="747" y="545"/>
                  </a:lnTo>
                  <a:lnTo>
                    <a:pt x="753" y="540"/>
                  </a:lnTo>
                  <a:lnTo>
                    <a:pt x="758" y="534"/>
                  </a:lnTo>
                  <a:lnTo>
                    <a:pt x="764" y="529"/>
                  </a:lnTo>
                  <a:lnTo>
                    <a:pt x="769" y="523"/>
                  </a:lnTo>
                  <a:lnTo>
                    <a:pt x="774" y="518"/>
                  </a:lnTo>
                  <a:lnTo>
                    <a:pt x="780" y="512"/>
                  </a:lnTo>
                  <a:lnTo>
                    <a:pt x="785" y="507"/>
                  </a:lnTo>
                  <a:lnTo>
                    <a:pt x="791" y="501"/>
                  </a:lnTo>
                  <a:lnTo>
                    <a:pt x="791" y="496"/>
                  </a:lnTo>
                  <a:lnTo>
                    <a:pt x="796" y="496"/>
                  </a:lnTo>
                  <a:lnTo>
                    <a:pt x="802" y="490"/>
                  </a:lnTo>
                  <a:lnTo>
                    <a:pt x="813" y="485"/>
                  </a:lnTo>
                  <a:lnTo>
                    <a:pt x="818" y="480"/>
                  </a:lnTo>
                  <a:lnTo>
                    <a:pt x="824" y="474"/>
                  </a:lnTo>
                  <a:lnTo>
                    <a:pt x="829" y="469"/>
                  </a:lnTo>
                  <a:lnTo>
                    <a:pt x="834" y="463"/>
                  </a:lnTo>
                  <a:lnTo>
                    <a:pt x="840" y="458"/>
                  </a:lnTo>
                  <a:lnTo>
                    <a:pt x="845" y="452"/>
                  </a:lnTo>
                  <a:lnTo>
                    <a:pt x="851" y="447"/>
                  </a:lnTo>
                  <a:lnTo>
                    <a:pt x="856" y="441"/>
                  </a:lnTo>
                  <a:lnTo>
                    <a:pt x="862" y="436"/>
                  </a:lnTo>
                  <a:lnTo>
                    <a:pt x="867" y="431"/>
                  </a:lnTo>
                  <a:lnTo>
                    <a:pt x="873" y="431"/>
                  </a:lnTo>
                  <a:lnTo>
                    <a:pt x="884" y="425"/>
                  </a:lnTo>
                  <a:lnTo>
                    <a:pt x="889" y="420"/>
                  </a:lnTo>
                  <a:lnTo>
                    <a:pt x="894" y="414"/>
                  </a:lnTo>
                  <a:lnTo>
                    <a:pt x="900" y="409"/>
                  </a:lnTo>
                  <a:lnTo>
                    <a:pt x="905" y="403"/>
                  </a:lnTo>
                  <a:lnTo>
                    <a:pt x="916" y="398"/>
                  </a:lnTo>
                  <a:lnTo>
                    <a:pt x="922" y="398"/>
                  </a:lnTo>
                  <a:lnTo>
                    <a:pt x="927" y="392"/>
                  </a:lnTo>
                  <a:lnTo>
                    <a:pt x="927" y="387"/>
                  </a:lnTo>
                  <a:lnTo>
                    <a:pt x="933" y="381"/>
                  </a:lnTo>
                  <a:lnTo>
                    <a:pt x="944" y="376"/>
                  </a:lnTo>
                  <a:lnTo>
                    <a:pt x="949" y="371"/>
                  </a:lnTo>
                  <a:lnTo>
                    <a:pt x="954" y="365"/>
                  </a:lnTo>
                  <a:lnTo>
                    <a:pt x="960" y="360"/>
                  </a:lnTo>
                  <a:lnTo>
                    <a:pt x="965" y="354"/>
                  </a:lnTo>
                  <a:lnTo>
                    <a:pt x="971" y="349"/>
                  </a:lnTo>
                  <a:lnTo>
                    <a:pt x="976" y="343"/>
                  </a:lnTo>
                  <a:lnTo>
                    <a:pt x="982" y="338"/>
                  </a:lnTo>
                  <a:lnTo>
                    <a:pt x="993" y="338"/>
                  </a:lnTo>
                  <a:lnTo>
                    <a:pt x="998" y="332"/>
                  </a:lnTo>
                  <a:lnTo>
                    <a:pt x="1009" y="332"/>
                  </a:lnTo>
                  <a:lnTo>
                    <a:pt x="1014" y="327"/>
                  </a:lnTo>
                  <a:lnTo>
                    <a:pt x="1020" y="322"/>
                  </a:lnTo>
                  <a:lnTo>
                    <a:pt x="1025" y="316"/>
                  </a:lnTo>
                  <a:lnTo>
                    <a:pt x="1031" y="311"/>
                  </a:lnTo>
                  <a:lnTo>
                    <a:pt x="1036" y="305"/>
                  </a:lnTo>
                  <a:lnTo>
                    <a:pt x="1042" y="300"/>
                  </a:lnTo>
                  <a:lnTo>
                    <a:pt x="1047" y="294"/>
                  </a:lnTo>
                  <a:lnTo>
                    <a:pt x="1053" y="289"/>
                  </a:lnTo>
                  <a:lnTo>
                    <a:pt x="1058" y="283"/>
                  </a:lnTo>
                  <a:lnTo>
                    <a:pt x="1063" y="278"/>
                  </a:lnTo>
                  <a:lnTo>
                    <a:pt x="1069" y="272"/>
                  </a:lnTo>
                  <a:lnTo>
                    <a:pt x="1074" y="267"/>
                  </a:lnTo>
                  <a:lnTo>
                    <a:pt x="1080" y="267"/>
                  </a:lnTo>
                  <a:lnTo>
                    <a:pt x="1085" y="262"/>
                  </a:lnTo>
                  <a:lnTo>
                    <a:pt x="1091" y="256"/>
                  </a:lnTo>
                  <a:lnTo>
                    <a:pt x="1096" y="251"/>
                  </a:lnTo>
                  <a:lnTo>
                    <a:pt x="1102" y="245"/>
                  </a:lnTo>
                  <a:lnTo>
                    <a:pt x="1107" y="240"/>
                  </a:lnTo>
                  <a:lnTo>
                    <a:pt x="1113" y="234"/>
                  </a:lnTo>
                  <a:lnTo>
                    <a:pt x="1123" y="229"/>
                  </a:lnTo>
                  <a:lnTo>
                    <a:pt x="1129" y="223"/>
                  </a:lnTo>
                  <a:lnTo>
                    <a:pt x="1129" y="218"/>
                  </a:lnTo>
                  <a:lnTo>
                    <a:pt x="1134" y="213"/>
                  </a:lnTo>
                  <a:lnTo>
                    <a:pt x="1134" y="207"/>
                  </a:lnTo>
                  <a:lnTo>
                    <a:pt x="1140" y="202"/>
                  </a:lnTo>
                  <a:lnTo>
                    <a:pt x="1140" y="196"/>
                  </a:lnTo>
                  <a:lnTo>
                    <a:pt x="1145" y="185"/>
                  </a:lnTo>
                  <a:lnTo>
                    <a:pt x="1151" y="180"/>
                  </a:lnTo>
                  <a:lnTo>
                    <a:pt x="1156" y="180"/>
                  </a:lnTo>
                  <a:lnTo>
                    <a:pt x="1167" y="180"/>
                  </a:lnTo>
                  <a:lnTo>
                    <a:pt x="1178" y="174"/>
                  </a:lnTo>
                  <a:lnTo>
                    <a:pt x="1183" y="174"/>
                  </a:lnTo>
                  <a:lnTo>
                    <a:pt x="1194" y="174"/>
                  </a:lnTo>
                  <a:lnTo>
                    <a:pt x="1205" y="169"/>
                  </a:lnTo>
                  <a:lnTo>
                    <a:pt x="1211" y="169"/>
                  </a:lnTo>
                  <a:lnTo>
                    <a:pt x="1222" y="163"/>
                  </a:lnTo>
                  <a:lnTo>
                    <a:pt x="1232" y="163"/>
                  </a:lnTo>
                  <a:lnTo>
                    <a:pt x="1238" y="158"/>
                  </a:lnTo>
                  <a:lnTo>
                    <a:pt x="1243" y="153"/>
                  </a:lnTo>
                  <a:lnTo>
                    <a:pt x="1254" y="153"/>
                  </a:lnTo>
                  <a:lnTo>
                    <a:pt x="1260" y="147"/>
                  </a:lnTo>
                  <a:lnTo>
                    <a:pt x="1271" y="147"/>
                  </a:lnTo>
                  <a:lnTo>
                    <a:pt x="1282" y="142"/>
                  </a:lnTo>
                  <a:lnTo>
                    <a:pt x="1287" y="142"/>
                  </a:lnTo>
                  <a:lnTo>
                    <a:pt x="1298" y="142"/>
                  </a:lnTo>
                  <a:lnTo>
                    <a:pt x="1309" y="136"/>
                  </a:lnTo>
                  <a:lnTo>
                    <a:pt x="1320" y="136"/>
                  </a:lnTo>
                  <a:lnTo>
                    <a:pt x="1325" y="136"/>
                  </a:lnTo>
                  <a:lnTo>
                    <a:pt x="1336" y="131"/>
                  </a:lnTo>
                  <a:lnTo>
                    <a:pt x="1347" y="131"/>
                  </a:lnTo>
                  <a:lnTo>
                    <a:pt x="1352" y="125"/>
                  </a:lnTo>
                  <a:lnTo>
                    <a:pt x="1358" y="125"/>
                  </a:lnTo>
                  <a:lnTo>
                    <a:pt x="1369" y="120"/>
                  </a:lnTo>
                  <a:lnTo>
                    <a:pt x="1374" y="114"/>
                  </a:lnTo>
                  <a:lnTo>
                    <a:pt x="1380" y="109"/>
                  </a:lnTo>
                  <a:lnTo>
                    <a:pt x="1391" y="109"/>
                  </a:lnTo>
                  <a:lnTo>
                    <a:pt x="1401" y="104"/>
                  </a:lnTo>
                  <a:lnTo>
                    <a:pt x="1407" y="104"/>
                  </a:lnTo>
                  <a:lnTo>
                    <a:pt x="1418" y="104"/>
                  </a:lnTo>
                  <a:lnTo>
                    <a:pt x="1429" y="98"/>
                  </a:lnTo>
                  <a:lnTo>
                    <a:pt x="1440" y="98"/>
                  </a:lnTo>
                  <a:lnTo>
                    <a:pt x="1445" y="98"/>
                  </a:lnTo>
                  <a:lnTo>
                    <a:pt x="1456" y="98"/>
                  </a:lnTo>
                  <a:lnTo>
                    <a:pt x="1467" y="98"/>
                  </a:lnTo>
                  <a:lnTo>
                    <a:pt x="1472" y="93"/>
                  </a:lnTo>
                  <a:lnTo>
                    <a:pt x="1478" y="87"/>
                  </a:lnTo>
                  <a:lnTo>
                    <a:pt x="1483" y="82"/>
                  </a:lnTo>
                  <a:lnTo>
                    <a:pt x="1489" y="76"/>
                  </a:lnTo>
                  <a:lnTo>
                    <a:pt x="1494" y="71"/>
                  </a:lnTo>
                  <a:lnTo>
                    <a:pt x="1505" y="71"/>
                  </a:lnTo>
                  <a:lnTo>
                    <a:pt x="1511" y="65"/>
                  </a:lnTo>
                  <a:lnTo>
                    <a:pt x="1521" y="65"/>
                  </a:lnTo>
                  <a:lnTo>
                    <a:pt x="1527" y="60"/>
                  </a:lnTo>
                  <a:lnTo>
                    <a:pt x="1532" y="54"/>
                  </a:lnTo>
                  <a:lnTo>
                    <a:pt x="1538" y="49"/>
                  </a:lnTo>
                  <a:lnTo>
                    <a:pt x="1549" y="44"/>
                  </a:lnTo>
                  <a:lnTo>
                    <a:pt x="1554" y="44"/>
                  </a:lnTo>
                  <a:lnTo>
                    <a:pt x="1565" y="38"/>
                  </a:lnTo>
                  <a:lnTo>
                    <a:pt x="1571" y="33"/>
                  </a:lnTo>
                  <a:lnTo>
                    <a:pt x="1565" y="27"/>
                  </a:lnTo>
                  <a:lnTo>
                    <a:pt x="1560" y="22"/>
                  </a:lnTo>
                  <a:lnTo>
                    <a:pt x="1554" y="16"/>
                  </a:lnTo>
                  <a:lnTo>
                    <a:pt x="1549" y="11"/>
                  </a:lnTo>
                  <a:lnTo>
                    <a:pt x="1543" y="5"/>
                  </a:lnTo>
                  <a:lnTo>
                    <a:pt x="1538" y="0"/>
                  </a:lnTo>
                  <a:lnTo>
                    <a:pt x="1527" y="0"/>
                  </a:lnTo>
                  <a:lnTo>
                    <a:pt x="1494" y="0"/>
                  </a:lnTo>
                  <a:lnTo>
                    <a:pt x="1467" y="0"/>
                  </a:lnTo>
                  <a:lnTo>
                    <a:pt x="1434" y="0"/>
                  </a:lnTo>
                  <a:lnTo>
                    <a:pt x="1401" y="0"/>
                  </a:lnTo>
                  <a:lnTo>
                    <a:pt x="1369" y="0"/>
                  </a:lnTo>
                  <a:lnTo>
                    <a:pt x="1336" y="0"/>
                  </a:lnTo>
                  <a:lnTo>
                    <a:pt x="1303" y="0"/>
                  </a:lnTo>
                  <a:lnTo>
                    <a:pt x="1276" y="0"/>
                  </a:lnTo>
                  <a:lnTo>
                    <a:pt x="1243" y="0"/>
                  </a:lnTo>
                  <a:lnTo>
                    <a:pt x="1211" y="0"/>
                  </a:lnTo>
                  <a:lnTo>
                    <a:pt x="1178" y="0"/>
                  </a:lnTo>
                  <a:lnTo>
                    <a:pt x="1145" y="0"/>
                  </a:lnTo>
                  <a:lnTo>
                    <a:pt x="1113" y="0"/>
                  </a:lnTo>
                  <a:lnTo>
                    <a:pt x="1085" y="0"/>
                  </a:lnTo>
                  <a:lnTo>
                    <a:pt x="1053" y="0"/>
                  </a:lnTo>
                  <a:lnTo>
                    <a:pt x="1020" y="0"/>
                  </a:lnTo>
                  <a:lnTo>
                    <a:pt x="987" y="0"/>
                  </a:lnTo>
                  <a:lnTo>
                    <a:pt x="954" y="0"/>
                  </a:lnTo>
                  <a:lnTo>
                    <a:pt x="922" y="0"/>
                  </a:lnTo>
                  <a:lnTo>
                    <a:pt x="894" y="0"/>
                  </a:lnTo>
                  <a:lnTo>
                    <a:pt x="862" y="0"/>
                  </a:lnTo>
                  <a:lnTo>
                    <a:pt x="829" y="0"/>
                  </a:lnTo>
                  <a:lnTo>
                    <a:pt x="796" y="0"/>
                  </a:lnTo>
                  <a:lnTo>
                    <a:pt x="764" y="0"/>
                  </a:lnTo>
                  <a:lnTo>
                    <a:pt x="731" y="0"/>
                  </a:lnTo>
                  <a:lnTo>
                    <a:pt x="704" y="33"/>
                  </a:lnTo>
                  <a:lnTo>
                    <a:pt x="671" y="65"/>
                  </a:lnTo>
                  <a:lnTo>
                    <a:pt x="638" y="98"/>
                  </a:lnTo>
                  <a:lnTo>
                    <a:pt x="605" y="125"/>
                  </a:lnTo>
                  <a:lnTo>
                    <a:pt x="573" y="158"/>
                  </a:lnTo>
                  <a:lnTo>
                    <a:pt x="545" y="158"/>
                  </a:lnTo>
                  <a:lnTo>
                    <a:pt x="513" y="191"/>
                  </a:lnTo>
                  <a:lnTo>
                    <a:pt x="480" y="223"/>
                  </a:lnTo>
                  <a:lnTo>
                    <a:pt x="447" y="256"/>
                  </a:lnTo>
                  <a:lnTo>
                    <a:pt x="415" y="289"/>
                  </a:lnTo>
                  <a:lnTo>
                    <a:pt x="382" y="322"/>
                  </a:lnTo>
                  <a:lnTo>
                    <a:pt x="382" y="349"/>
                  </a:lnTo>
                  <a:lnTo>
                    <a:pt x="382" y="354"/>
                  </a:lnTo>
                  <a:lnTo>
                    <a:pt x="376" y="360"/>
                  </a:lnTo>
                  <a:lnTo>
                    <a:pt x="371" y="365"/>
                  </a:lnTo>
                  <a:lnTo>
                    <a:pt x="366" y="371"/>
                  </a:lnTo>
                  <a:lnTo>
                    <a:pt x="366" y="376"/>
                  </a:lnTo>
                  <a:lnTo>
                    <a:pt x="360" y="381"/>
                  </a:lnTo>
                  <a:lnTo>
                    <a:pt x="360" y="387"/>
                  </a:lnTo>
                  <a:lnTo>
                    <a:pt x="355" y="392"/>
                  </a:lnTo>
                  <a:lnTo>
                    <a:pt x="349" y="398"/>
                  </a:lnTo>
                  <a:lnTo>
                    <a:pt x="344" y="403"/>
                  </a:lnTo>
                  <a:lnTo>
                    <a:pt x="338" y="409"/>
                  </a:lnTo>
                  <a:lnTo>
                    <a:pt x="333" y="414"/>
                  </a:lnTo>
                  <a:lnTo>
                    <a:pt x="333" y="420"/>
                  </a:lnTo>
                  <a:lnTo>
                    <a:pt x="327" y="425"/>
                  </a:lnTo>
                  <a:lnTo>
                    <a:pt x="322" y="431"/>
                  </a:lnTo>
                  <a:lnTo>
                    <a:pt x="316" y="436"/>
                  </a:lnTo>
                  <a:lnTo>
                    <a:pt x="316" y="441"/>
                  </a:lnTo>
                  <a:lnTo>
                    <a:pt x="311" y="447"/>
                  </a:lnTo>
                  <a:lnTo>
                    <a:pt x="306" y="447"/>
                  </a:lnTo>
                  <a:lnTo>
                    <a:pt x="300" y="452"/>
                  </a:lnTo>
                  <a:lnTo>
                    <a:pt x="295" y="458"/>
                  </a:lnTo>
                  <a:lnTo>
                    <a:pt x="295" y="463"/>
                  </a:lnTo>
                  <a:lnTo>
                    <a:pt x="289" y="469"/>
                  </a:lnTo>
                  <a:lnTo>
                    <a:pt x="284" y="474"/>
                  </a:lnTo>
                  <a:lnTo>
                    <a:pt x="278" y="480"/>
                  </a:lnTo>
                  <a:lnTo>
                    <a:pt x="273" y="485"/>
                  </a:lnTo>
                  <a:lnTo>
                    <a:pt x="273" y="490"/>
                  </a:lnTo>
                  <a:lnTo>
                    <a:pt x="267" y="496"/>
                  </a:lnTo>
                  <a:lnTo>
                    <a:pt x="262" y="501"/>
                  </a:lnTo>
                  <a:lnTo>
                    <a:pt x="257" y="507"/>
                  </a:lnTo>
                  <a:lnTo>
                    <a:pt x="251" y="512"/>
                  </a:lnTo>
                  <a:lnTo>
                    <a:pt x="246" y="518"/>
                  </a:lnTo>
                  <a:lnTo>
                    <a:pt x="240" y="518"/>
                  </a:lnTo>
                  <a:lnTo>
                    <a:pt x="235" y="523"/>
                  </a:lnTo>
                  <a:lnTo>
                    <a:pt x="235" y="534"/>
                  </a:lnTo>
                  <a:lnTo>
                    <a:pt x="229" y="540"/>
                  </a:lnTo>
                  <a:lnTo>
                    <a:pt x="229" y="545"/>
                  </a:lnTo>
                  <a:lnTo>
                    <a:pt x="224" y="550"/>
                  </a:lnTo>
                  <a:lnTo>
                    <a:pt x="224" y="556"/>
                  </a:lnTo>
                  <a:lnTo>
                    <a:pt x="224" y="561"/>
                  </a:lnTo>
                  <a:lnTo>
                    <a:pt x="218" y="567"/>
                  </a:lnTo>
                  <a:lnTo>
                    <a:pt x="218" y="572"/>
                  </a:lnTo>
                  <a:lnTo>
                    <a:pt x="213" y="578"/>
                  </a:lnTo>
                  <a:lnTo>
                    <a:pt x="213" y="583"/>
                  </a:lnTo>
                  <a:lnTo>
                    <a:pt x="207" y="589"/>
                  </a:lnTo>
                  <a:lnTo>
                    <a:pt x="202" y="594"/>
                  </a:lnTo>
                  <a:lnTo>
                    <a:pt x="202" y="599"/>
                  </a:lnTo>
                  <a:lnTo>
                    <a:pt x="202" y="605"/>
                  </a:lnTo>
                  <a:lnTo>
                    <a:pt x="202" y="610"/>
                  </a:lnTo>
                  <a:lnTo>
                    <a:pt x="202" y="616"/>
                  </a:lnTo>
                  <a:lnTo>
                    <a:pt x="202" y="621"/>
                  </a:lnTo>
                  <a:lnTo>
                    <a:pt x="202" y="627"/>
                  </a:lnTo>
                  <a:lnTo>
                    <a:pt x="202" y="638"/>
                  </a:lnTo>
                  <a:lnTo>
                    <a:pt x="197" y="643"/>
                  </a:lnTo>
                  <a:lnTo>
                    <a:pt x="191" y="638"/>
                  </a:lnTo>
                  <a:lnTo>
                    <a:pt x="186" y="632"/>
                  </a:lnTo>
                  <a:lnTo>
                    <a:pt x="180" y="627"/>
                  </a:lnTo>
                  <a:lnTo>
                    <a:pt x="175" y="621"/>
                  </a:lnTo>
                  <a:lnTo>
                    <a:pt x="175" y="616"/>
                  </a:lnTo>
                  <a:lnTo>
                    <a:pt x="169" y="610"/>
                  </a:lnTo>
                  <a:lnTo>
                    <a:pt x="164" y="610"/>
                  </a:lnTo>
                  <a:lnTo>
                    <a:pt x="153" y="605"/>
                  </a:lnTo>
                  <a:lnTo>
                    <a:pt x="147" y="605"/>
                  </a:lnTo>
                  <a:lnTo>
                    <a:pt x="142" y="599"/>
                  </a:lnTo>
                  <a:lnTo>
                    <a:pt x="131" y="594"/>
                  </a:lnTo>
                  <a:lnTo>
                    <a:pt x="126" y="594"/>
                  </a:lnTo>
                  <a:lnTo>
                    <a:pt x="115" y="594"/>
                  </a:lnTo>
                  <a:lnTo>
                    <a:pt x="104" y="594"/>
                  </a:lnTo>
                  <a:lnTo>
                    <a:pt x="98" y="589"/>
                  </a:lnTo>
                  <a:lnTo>
                    <a:pt x="93" y="589"/>
                  </a:lnTo>
                  <a:lnTo>
                    <a:pt x="93" y="578"/>
                  </a:lnTo>
                  <a:lnTo>
                    <a:pt x="66" y="605"/>
                  </a:lnTo>
                  <a:lnTo>
                    <a:pt x="33" y="605"/>
                  </a:lnTo>
                  <a:lnTo>
                    <a:pt x="0" y="638"/>
                  </a:lnTo>
                  <a:lnTo>
                    <a:pt x="0" y="670"/>
                  </a:lnTo>
                  <a:lnTo>
                    <a:pt x="0" y="703"/>
                  </a:lnTo>
                  <a:lnTo>
                    <a:pt x="0" y="725"/>
                  </a:lnTo>
                  <a:lnTo>
                    <a:pt x="6" y="719"/>
                  </a:lnTo>
                  <a:lnTo>
                    <a:pt x="11" y="714"/>
                  </a:lnTo>
                  <a:lnTo>
                    <a:pt x="17" y="708"/>
                  </a:lnTo>
                  <a:lnTo>
                    <a:pt x="22" y="703"/>
                  </a:lnTo>
                  <a:lnTo>
                    <a:pt x="28" y="698"/>
                  </a:lnTo>
                  <a:lnTo>
                    <a:pt x="33" y="692"/>
                  </a:lnTo>
                  <a:lnTo>
                    <a:pt x="38" y="692"/>
                  </a:lnTo>
                  <a:lnTo>
                    <a:pt x="44" y="698"/>
                  </a:lnTo>
                  <a:lnTo>
                    <a:pt x="49" y="703"/>
                  </a:lnTo>
                  <a:lnTo>
                    <a:pt x="55" y="708"/>
                  </a:lnTo>
                  <a:lnTo>
                    <a:pt x="60" y="719"/>
                  </a:lnTo>
                  <a:lnTo>
                    <a:pt x="60" y="725"/>
                  </a:lnTo>
                  <a:lnTo>
                    <a:pt x="60" y="730"/>
                  </a:lnTo>
                  <a:lnTo>
                    <a:pt x="60" y="736"/>
                  </a:lnTo>
                  <a:lnTo>
                    <a:pt x="60" y="741"/>
                  </a:lnTo>
                  <a:lnTo>
                    <a:pt x="55" y="752"/>
                  </a:lnTo>
                  <a:lnTo>
                    <a:pt x="49" y="758"/>
                  </a:lnTo>
                  <a:lnTo>
                    <a:pt x="44" y="763"/>
                  </a:lnTo>
                  <a:lnTo>
                    <a:pt x="38" y="763"/>
                  </a:lnTo>
                  <a:lnTo>
                    <a:pt x="28" y="763"/>
                  </a:lnTo>
                  <a:lnTo>
                    <a:pt x="33" y="768"/>
                  </a:lnTo>
                  <a:lnTo>
                    <a:pt x="33" y="801"/>
                  </a:lnTo>
                  <a:lnTo>
                    <a:pt x="38" y="801"/>
                  </a:lnTo>
                  <a:lnTo>
                    <a:pt x="44" y="796"/>
                  </a:lnTo>
                  <a:lnTo>
                    <a:pt x="55" y="796"/>
                  </a:lnTo>
                  <a:lnTo>
                    <a:pt x="60" y="790"/>
                  </a:lnTo>
                  <a:lnTo>
                    <a:pt x="71" y="790"/>
                  </a:lnTo>
                  <a:lnTo>
                    <a:pt x="82" y="790"/>
                  </a:lnTo>
                  <a:lnTo>
                    <a:pt x="87" y="790"/>
                  </a:lnTo>
                  <a:lnTo>
                    <a:pt x="98" y="790"/>
                  </a:lnTo>
                  <a:lnTo>
                    <a:pt x="109" y="790"/>
                  </a:lnTo>
                  <a:lnTo>
                    <a:pt x="120" y="790"/>
                  </a:lnTo>
                  <a:lnTo>
                    <a:pt x="126" y="790"/>
                  </a:lnTo>
                  <a:lnTo>
                    <a:pt x="137" y="790"/>
                  </a:lnTo>
                  <a:lnTo>
                    <a:pt x="147" y="796"/>
                  </a:lnTo>
                  <a:lnTo>
                    <a:pt x="158" y="796"/>
                  </a:lnTo>
                  <a:lnTo>
                    <a:pt x="164" y="796"/>
                  </a:lnTo>
                  <a:lnTo>
                    <a:pt x="175" y="796"/>
                  </a:lnTo>
                  <a:lnTo>
                    <a:pt x="186" y="790"/>
                  </a:lnTo>
                  <a:lnTo>
                    <a:pt x="191" y="785"/>
                  </a:lnTo>
                  <a:lnTo>
                    <a:pt x="202" y="785"/>
                  </a:lnTo>
                  <a:lnTo>
                    <a:pt x="202" y="779"/>
                  </a:lnTo>
                  <a:lnTo>
                    <a:pt x="207" y="768"/>
                  </a:lnTo>
                  <a:lnTo>
                    <a:pt x="207" y="763"/>
                  </a:lnTo>
                  <a:lnTo>
                    <a:pt x="207" y="758"/>
                  </a:lnTo>
                  <a:lnTo>
                    <a:pt x="202" y="752"/>
                  </a:lnTo>
                  <a:lnTo>
                    <a:pt x="202" y="741"/>
                  </a:lnTo>
                  <a:lnTo>
                    <a:pt x="207" y="736"/>
                  </a:lnTo>
                  <a:lnTo>
                    <a:pt x="213" y="736"/>
                  </a:lnTo>
                  <a:lnTo>
                    <a:pt x="218" y="730"/>
                  </a:lnTo>
                  <a:lnTo>
                    <a:pt x="229" y="730"/>
                  </a:lnTo>
                  <a:lnTo>
                    <a:pt x="240" y="730"/>
                  </a:lnTo>
                  <a:lnTo>
                    <a:pt x="246" y="736"/>
                  </a:lnTo>
                  <a:lnTo>
                    <a:pt x="251" y="741"/>
                  </a:lnTo>
                  <a:lnTo>
                    <a:pt x="257" y="747"/>
                  </a:lnTo>
                  <a:lnTo>
                    <a:pt x="262" y="752"/>
                  </a:lnTo>
                  <a:lnTo>
                    <a:pt x="273" y="758"/>
                  </a:lnTo>
                  <a:lnTo>
                    <a:pt x="278" y="763"/>
                  </a:lnTo>
                  <a:lnTo>
                    <a:pt x="284" y="768"/>
                  </a:lnTo>
                  <a:lnTo>
                    <a:pt x="284" y="768"/>
                  </a:lnTo>
                  <a:lnTo>
                    <a:pt x="284" y="779"/>
                  </a:lnTo>
                  <a:lnTo>
                    <a:pt x="284" y="785"/>
                  </a:lnTo>
                  <a:lnTo>
                    <a:pt x="284" y="790"/>
                  </a:lnTo>
                  <a:lnTo>
                    <a:pt x="278" y="796"/>
                  </a:lnTo>
                  <a:lnTo>
                    <a:pt x="278" y="801"/>
                  </a:lnTo>
                  <a:lnTo>
                    <a:pt x="278" y="812"/>
                  </a:lnTo>
                  <a:lnTo>
                    <a:pt x="278" y="817"/>
                  </a:lnTo>
                  <a:lnTo>
                    <a:pt x="284" y="823"/>
                  </a:lnTo>
                  <a:lnTo>
                    <a:pt x="295" y="823"/>
                  </a:lnTo>
                  <a:lnTo>
                    <a:pt x="300" y="828"/>
                  </a:lnTo>
                  <a:lnTo>
                    <a:pt x="311" y="828"/>
                  </a:lnTo>
                  <a:lnTo>
                    <a:pt x="322" y="828"/>
                  </a:lnTo>
                  <a:lnTo>
                    <a:pt x="333" y="834"/>
                  </a:lnTo>
                  <a:lnTo>
                    <a:pt x="338" y="834"/>
                  </a:lnTo>
                  <a:lnTo>
                    <a:pt x="344" y="839"/>
                  </a:lnTo>
                  <a:lnTo>
                    <a:pt x="355" y="839"/>
                  </a:lnTo>
                  <a:lnTo>
                    <a:pt x="360" y="839"/>
                  </a:lnTo>
                  <a:lnTo>
                    <a:pt x="371" y="834"/>
                  </a:lnTo>
                  <a:lnTo>
                    <a:pt x="376" y="828"/>
                  </a:lnTo>
                  <a:close/>
                  <a:moveTo>
                    <a:pt x="224" y="801"/>
                  </a:moveTo>
                  <a:lnTo>
                    <a:pt x="224" y="796"/>
                  </a:lnTo>
                  <a:lnTo>
                    <a:pt x="224" y="796"/>
                  </a:lnTo>
                  <a:lnTo>
                    <a:pt x="224" y="796"/>
                  </a:lnTo>
                  <a:lnTo>
                    <a:pt x="224" y="796"/>
                  </a:lnTo>
                  <a:lnTo>
                    <a:pt x="224" y="796"/>
                  </a:lnTo>
                  <a:lnTo>
                    <a:pt x="218" y="796"/>
                  </a:lnTo>
                  <a:lnTo>
                    <a:pt x="218" y="796"/>
                  </a:lnTo>
                  <a:lnTo>
                    <a:pt x="218" y="796"/>
                  </a:lnTo>
                  <a:lnTo>
                    <a:pt x="218" y="801"/>
                  </a:lnTo>
                  <a:lnTo>
                    <a:pt x="218" y="801"/>
                  </a:lnTo>
                  <a:lnTo>
                    <a:pt x="224" y="801"/>
                  </a:lnTo>
                  <a:lnTo>
                    <a:pt x="224" y="801"/>
                  </a:lnTo>
                  <a:lnTo>
                    <a:pt x="224" y="801"/>
                  </a:lnTo>
                  <a:lnTo>
                    <a:pt x="224" y="801"/>
                  </a:lnTo>
                  <a:close/>
                  <a:moveTo>
                    <a:pt x="1085" y="703"/>
                  </a:moveTo>
                  <a:lnTo>
                    <a:pt x="1085" y="698"/>
                  </a:lnTo>
                  <a:lnTo>
                    <a:pt x="1085" y="692"/>
                  </a:lnTo>
                  <a:lnTo>
                    <a:pt x="1085" y="681"/>
                  </a:lnTo>
                  <a:lnTo>
                    <a:pt x="1085" y="676"/>
                  </a:lnTo>
                  <a:lnTo>
                    <a:pt x="1085" y="670"/>
                  </a:lnTo>
                  <a:lnTo>
                    <a:pt x="1085" y="665"/>
                  </a:lnTo>
                  <a:lnTo>
                    <a:pt x="1085" y="659"/>
                  </a:lnTo>
                  <a:lnTo>
                    <a:pt x="1085" y="654"/>
                  </a:lnTo>
                  <a:lnTo>
                    <a:pt x="1085" y="649"/>
                  </a:lnTo>
                  <a:lnTo>
                    <a:pt x="1085" y="638"/>
                  </a:lnTo>
                  <a:lnTo>
                    <a:pt x="1085" y="632"/>
                  </a:lnTo>
                  <a:lnTo>
                    <a:pt x="1085" y="621"/>
                  </a:lnTo>
                  <a:lnTo>
                    <a:pt x="1085" y="616"/>
                  </a:lnTo>
                  <a:lnTo>
                    <a:pt x="1080" y="616"/>
                  </a:lnTo>
                  <a:lnTo>
                    <a:pt x="1074" y="621"/>
                  </a:lnTo>
                  <a:lnTo>
                    <a:pt x="1069" y="627"/>
                  </a:lnTo>
                  <a:lnTo>
                    <a:pt x="1063" y="632"/>
                  </a:lnTo>
                  <a:lnTo>
                    <a:pt x="1058" y="638"/>
                  </a:lnTo>
                  <a:lnTo>
                    <a:pt x="1053" y="643"/>
                  </a:lnTo>
                  <a:lnTo>
                    <a:pt x="1047" y="649"/>
                  </a:lnTo>
                  <a:lnTo>
                    <a:pt x="1042" y="654"/>
                  </a:lnTo>
                  <a:lnTo>
                    <a:pt x="1042" y="659"/>
                  </a:lnTo>
                  <a:lnTo>
                    <a:pt x="1036" y="665"/>
                  </a:lnTo>
                  <a:lnTo>
                    <a:pt x="1036" y="676"/>
                  </a:lnTo>
                  <a:lnTo>
                    <a:pt x="1036" y="681"/>
                  </a:lnTo>
                  <a:lnTo>
                    <a:pt x="1042" y="687"/>
                  </a:lnTo>
                  <a:lnTo>
                    <a:pt x="1047" y="692"/>
                  </a:lnTo>
                  <a:lnTo>
                    <a:pt x="1053" y="698"/>
                  </a:lnTo>
                  <a:lnTo>
                    <a:pt x="1063" y="698"/>
                  </a:lnTo>
                  <a:lnTo>
                    <a:pt x="1074" y="703"/>
                  </a:lnTo>
                  <a:lnTo>
                    <a:pt x="1080" y="708"/>
                  </a:lnTo>
                  <a:lnTo>
                    <a:pt x="1085" y="703"/>
                  </a:lnTo>
                  <a:close/>
                  <a:moveTo>
                    <a:pt x="1276" y="703"/>
                  </a:moveTo>
                  <a:lnTo>
                    <a:pt x="1276" y="698"/>
                  </a:lnTo>
                  <a:lnTo>
                    <a:pt x="1276" y="687"/>
                  </a:lnTo>
                  <a:lnTo>
                    <a:pt x="1276" y="681"/>
                  </a:lnTo>
                  <a:lnTo>
                    <a:pt x="1276" y="670"/>
                  </a:lnTo>
                  <a:lnTo>
                    <a:pt x="1276" y="665"/>
                  </a:lnTo>
                  <a:lnTo>
                    <a:pt x="1276" y="654"/>
                  </a:lnTo>
                  <a:lnTo>
                    <a:pt x="1276" y="649"/>
                  </a:lnTo>
                  <a:lnTo>
                    <a:pt x="1271" y="654"/>
                  </a:lnTo>
                  <a:lnTo>
                    <a:pt x="1271" y="659"/>
                  </a:lnTo>
                  <a:lnTo>
                    <a:pt x="1271" y="670"/>
                  </a:lnTo>
                  <a:lnTo>
                    <a:pt x="1271" y="681"/>
                  </a:lnTo>
                  <a:lnTo>
                    <a:pt x="1271" y="687"/>
                  </a:lnTo>
                  <a:lnTo>
                    <a:pt x="1271" y="692"/>
                  </a:lnTo>
                  <a:lnTo>
                    <a:pt x="1271" y="698"/>
                  </a:lnTo>
                  <a:lnTo>
                    <a:pt x="1271" y="708"/>
                  </a:lnTo>
                  <a:lnTo>
                    <a:pt x="1271" y="719"/>
                  </a:lnTo>
                  <a:lnTo>
                    <a:pt x="1276" y="725"/>
                  </a:lnTo>
                  <a:lnTo>
                    <a:pt x="1276" y="725"/>
                  </a:lnTo>
                  <a:lnTo>
                    <a:pt x="1276" y="714"/>
                  </a:lnTo>
                  <a:lnTo>
                    <a:pt x="1276" y="703"/>
                  </a:lnTo>
                  <a:close/>
                  <a:moveTo>
                    <a:pt x="1314" y="638"/>
                  </a:moveTo>
                  <a:lnTo>
                    <a:pt x="1314" y="627"/>
                  </a:lnTo>
                  <a:lnTo>
                    <a:pt x="1314" y="616"/>
                  </a:lnTo>
                  <a:lnTo>
                    <a:pt x="1314" y="610"/>
                  </a:lnTo>
                  <a:lnTo>
                    <a:pt x="1309" y="610"/>
                  </a:lnTo>
                  <a:lnTo>
                    <a:pt x="1298" y="610"/>
                  </a:lnTo>
                  <a:lnTo>
                    <a:pt x="1292" y="616"/>
                  </a:lnTo>
                  <a:lnTo>
                    <a:pt x="1282" y="621"/>
                  </a:lnTo>
                  <a:lnTo>
                    <a:pt x="1276" y="627"/>
                  </a:lnTo>
                  <a:lnTo>
                    <a:pt x="1276" y="638"/>
                  </a:lnTo>
                  <a:lnTo>
                    <a:pt x="1282" y="643"/>
                  </a:lnTo>
                  <a:lnTo>
                    <a:pt x="1292" y="649"/>
                  </a:lnTo>
                  <a:lnTo>
                    <a:pt x="1303" y="649"/>
                  </a:lnTo>
                  <a:lnTo>
                    <a:pt x="1309" y="649"/>
                  </a:lnTo>
                  <a:lnTo>
                    <a:pt x="1314" y="638"/>
                  </a:lnTo>
                  <a:close/>
                  <a:moveTo>
                    <a:pt x="1025" y="605"/>
                  </a:moveTo>
                  <a:lnTo>
                    <a:pt x="1036" y="605"/>
                  </a:lnTo>
                  <a:lnTo>
                    <a:pt x="1042" y="599"/>
                  </a:lnTo>
                  <a:lnTo>
                    <a:pt x="1047" y="594"/>
                  </a:lnTo>
                  <a:lnTo>
                    <a:pt x="1053" y="589"/>
                  </a:lnTo>
                  <a:lnTo>
                    <a:pt x="1058" y="583"/>
                  </a:lnTo>
                  <a:lnTo>
                    <a:pt x="1058" y="578"/>
                  </a:lnTo>
                  <a:lnTo>
                    <a:pt x="1058" y="572"/>
                  </a:lnTo>
                  <a:lnTo>
                    <a:pt x="1053" y="567"/>
                  </a:lnTo>
                  <a:lnTo>
                    <a:pt x="1047" y="561"/>
                  </a:lnTo>
                  <a:lnTo>
                    <a:pt x="1042" y="556"/>
                  </a:lnTo>
                  <a:lnTo>
                    <a:pt x="1036" y="550"/>
                  </a:lnTo>
                  <a:lnTo>
                    <a:pt x="1031" y="545"/>
                  </a:lnTo>
                  <a:lnTo>
                    <a:pt x="1025" y="540"/>
                  </a:lnTo>
                  <a:lnTo>
                    <a:pt x="1025" y="534"/>
                  </a:lnTo>
                  <a:lnTo>
                    <a:pt x="1025" y="529"/>
                  </a:lnTo>
                  <a:lnTo>
                    <a:pt x="1031" y="523"/>
                  </a:lnTo>
                  <a:lnTo>
                    <a:pt x="1031" y="518"/>
                  </a:lnTo>
                  <a:lnTo>
                    <a:pt x="1031" y="512"/>
                  </a:lnTo>
                  <a:lnTo>
                    <a:pt x="1031" y="507"/>
                  </a:lnTo>
                  <a:lnTo>
                    <a:pt x="1031" y="501"/>
                  </a:lnTo>
                  <a:lnTo>
                    <a:pt x="1031" y="496"/>
                  </a:lnTo>
                  <a:lnTo>
                    <a:pt x="1025" y="490"/>
                  </a:lnTo>
                  <a:lnTo>
                    <a:pt x="1020" y="485"/>
                  </a:lnTo>
                  <a:lnTo>
                    <a:pt x="1020" y="480"/>
                  </a:lnTo>
                  <a:lnTo>
                    <a:pt x="1020" y="469"/>
                  </a:lnTo>
                  <a:lnTo>
                    <a:pt x="1025" y="463"/>
                  </a:lnTo>
                  <a:lnTo>
                    <a:pt x="1025" y="458"/>
                  </a:lnTo>
                  <a:lnTo>
                    <a:pt x="1031" y="452"/>
                  </a:lnTo>
                  <a:lnTo>
                    <a:pt x="1031" y="447"/>
                  </a:lnTo>
                  <a:lnTo>
                    <a:pt x="1031" y="441"/>
                  </a:lnTo>
                  <a:lnTo>
                    <a:pt x="1036" y="436"/>
                  </a:lnTo>
                  <a:lnTo>
                    <a:pt x="1031" y="431"/>
                  </a:lnTo>
                  <a:lnTo>
                    <a:pt x="1031" y="425"/>
                  </a:lnTo>
                  <a:lnTo>
                    <a:pt x="1025" y="420"/>
                  </a:lnTo>
                  <a:lnTo>
                    <a:pt x="1020" y="414"/>
                  </a:lnTo>
                  <a:lnTo>
                    <a:pt x="1009" y="414"/>
                  </a:lnTo>
                  <a:lnTo>
                    <a:pt x="998" y="414"/>
                  </a:lnTo>
                  <a:lnTo>
                    <a:pt x="993" y="414"/>
                  </a:lnTo>
                  <a:lnTo>
                    <a:pt x="982" y="420"/>
                  </a:lnTo>
                  <a:lnTo>
                    <a:pt x="976" y="420"/>
                  </a:lnTo>
                  <a:lnTo>
                    <a:pt x="971" y="425"/>
                  </a:lnTo>
                  <a:lnTo>
                    <a:pt x="965" y="431"/>
                  </a:lnTo>
                  <a:lnTo>
                    <a:pt x="960" y="436"/>
                  </a:lnTo>
                  <a:lnTo>
                    <a:pt x="954" y="441"/>
                  </a:lnTo>
                  <a:lnTo>
                    <a:pt x="949" y="447"/>
                  </a:lnTo>
                  <a:lnTo>
                    <a:pt x="944" y="452"/>
                  </a:lnTo>
                  <a:lnTo>
                    <a:pt x="938" y="458"/>
                  </a:lnTo>
                  <a:lnTo>
                    <a:pt x="933" y="463"/>
                  </a:lnTo>
                  <a:lnTo>
                    <a:pt x="927" y="469"/>
                  </a:lnTo>
                  <a:lnTo>
                    <a:pt x="916" y="469"/>
                  </a:lnTo>
                  <a:lnTo>
                    <a:pt x="911" y="474"/>
                  </a:lnTo>
                  <a:lnTo>
                    <a:pt x="911" y="480"/>
                  </a:lnTo>
                  <a:lnTo>
                    <a:pt x="905" y="485"/>
                  </a:lnTo>
                  <a:lnTo>
                    <a:pt x="900" y="490"/>
                  </a:lnTo>
                  <a:lnTo>
                    <a:pt x="894" y="496"/>
                  </a:lnTo>
                  <a:lnTo>
                    <a:pt x="889" y="501"/>
                  </a:lnTo>
                  <a:lnTo>
                    <a:pt x="884" y="507"/>
                  </a:lnTo>
                  <a:lnTo>
                    <a:pt x="873" y="512"/>
                  </a:lnTo>
                  <a:lnTo>
                    <a:pt x="873" y="512"/>
                  </a:lnTo>
                  <a:lnTo>
                    <a:pt x="873" y="518"/>
                  </a:lnTo>
                  <a:lnTo>
                    <a:pt x="878" y="523"/>
                  </a:lnTo>
                  <a:lnTo>
                    <a:pt x="884" y="529"/>
                  </a:lnTo>
                  <a:lnTo>
                    <a:pt x="889" y="540"/>
                  </a:lnTo>
                  <a:lnTo>
                    <a:pt x="894" y="545"/>
                  </a:lnTo>
                  <a:lnTo>
                    <a:pt x="900" y="550"/>
                  </a:lnTo>
                  <a:lnTo>
                    <a:pt x="905" y="550"/>
                  </a:lnTo>
                  <a:lnTo>
                    <a:pt x="916" y="556"/>
                  </a:lnTo>
                  <a:lnTo>
                    <a:pt x="927" y="556"/>
                  </a:lnTo>
                  <a:lnTo>
                    <a:pt x="933" y="550"/>
                  </a:lnTo>
                  <a:lnTo>
                    <a:pt x="938" y="545"/>
                  </a:lnTo>
                  <a:lnTo>
                    <a:pt x="944" y="540"/>
                  </a:lnTo>
                  <a:lnTo>
                    <a:pt x="949" y="534"/>
                  </a:lnTo>
                  <a:lnTo>
                    <a:pt x="960" y="534"/>
                  </a:lnTo>
                  <a:lnTo>
                    <a:pt x="965" y="534"/>
                  </a:lnTo>
                  <a:lnTo>
                    <a:pt x="976" y="534"/>
                  </a:lnTo>
                  <a:lnTo>
                    <a:pt x="987" y="534"/>
                  </a:lnTo>
                  <a:lnTo>
                    <a:pt x="993" y="540"/>
                  </a:lnTo>
                  <a:lnTo>
                    <a:pt x="998" y="545"/>
                  </a:lnTo>
                  <a:lnTo>
                    <a:pt x="998" y="550"/>
                  </a:lnTo>
                  <a:lnTo>
                    <a:pt x="1003" y="556"/>
                  </a:lnTo>
                  <a:lnTo>
                    <a:pt x="1003" y="561"/>
                  </a:lnTo>
                  <a:lnTo>
                    <a:pt x="1003" y="572"/>
                  </a:lnTo>
                  <a:lnTo>
                    <a:pt x="1009" y="578"/>
                  </a:lnTo>
                  <a:lnTo>
                    <a:pt x="1009" y="583"/>
                  </a:lnTo>
                  <a:lnTo>
                    <a:pt x="1009" y="589"/>
                  </a:lnTo>
                  <a:lnTo>
                    <a:pt x="1014" y="594"/>
                  </a:lnTo>
                  <a:lnTo>
                    <a:pt x="1014" y="599"/>
                  </a:lnTo>
                  <a:lnTo>
                    <a:pt x="1014" y="605"/>
                  </a:lnTo>
                  <a:lnTo>
                    <a:pt x="1020" y="610"/>
                  </a:lnTo>
                  <a:lnTo>
                    <a:pt x="1020" y="616"/>
                  </a:lnTo>
                  <a:lnTo>
                    <a:pt x="1020" y="616"/>
                  </a:lnTo>
                  <a:lnTo>
                    <a:pt x="1025" y="605"/>
                  </a:lnTo>
                  <a:close/>
                  <a:moveTo>
                    <a:pt x="813" y="572"/>
                  </a:moveTo>
                  <a:lnTo>
                    <a:pt x="813" y="567"/>
                  </a:lnTo>
                  <a:lnTo>
                    <a:pt x="818" y="561"/>
                  </a:lnTo>
                  <a:lnTo>
                    <a:pt x="824" y="556"/>
                  </a:lnTo>
                  <a:lnTo>
                    <a:pt x="829" y="550"/>
                  </a:lnTo>
                  <a:lnTo>
                    <a:pt x="834" y="550"/>
                  </a:lnTo>
                  <a:lnTo>
                    <a:pt x="840" y="545"/>
                  </a:lnTo>
                  <a:lnTo>
                    <a:pt x="845" y="540"/>
                  </a:lnTo>
                  <a:lnTo>
                    <a:pt x="845" y="534"/>
                  </a:lnTo>
                  <a:lnTo>
                    <a:pt x="840" y="529"/>
                  </a:lnTo>
                  <a:lnTo>
                    <a:pt x="840" y="523"/>
                  </a:lnTo>
                  <a:lnTo>
                    <a:pt x="834" y="512"/>
                  </a:lnTo>
                  <a:lnTo>
                    <a:pt x="829" y="507"/>
                  </a:lnTo>
                  <a:lnTo>
                    <a:pt x="824" y="512"/>
                  </a:lnTo>
                  <a:lnTo>
                    <a:pt x="818" y="518"/>
                  </a:lnTo>
                  <a:lnTo>
                    <a:pt x="813" y="523"/>
                  </a:lnTo>
                  <a:lnTo>
                    <a:pt x="807" y="529"/>
                  </a:lnTo>
                  <a:lnTo>
                    <a:pt x="802" y="529"/>
                  </a:lnTo>
                  <a:lnTo>
                    <a:pt x="796" y="534"/>
                  </a:lnTo>
                  <a:lnTo>
                    <a:pt x="791" y="540"/>
                  </a:lnTo>
                  <a:lnTo>
                    <a:pt x="785" y="545"/>
                  </a:lnTo>
                  <a:lnTo>
                    <a:pt x="780" y="550"/>
                  </a:lnTo>
                  <a:lnTo>
                    <a:pt x="774" y="556"/>
                  </a:lnTo>
                  <a:lnTo>
                    <a:pt x="769" y="561"/>
                  </a:lnTo>
                  <a:lnTo>
                    <a:pt x="764" y="567"/>
                  </a:lnTo>
                  <a:lnTo>
                    <a:pt x="758" y="572"/>
                  </a:lnTo>
                  <a:lnTo>
                    <a:pt x="758" y="578"/>
                  </a:lnTo>
                  <a:lnTo>
                    <a:pt x="758" y="583"/>
                  </a:lnTo>
                  <a:lnTo>
                    <a:pt x="758" y="589"/>
                  </a:lnTo>
                  <a:lnTo>
                    <a:pt x="764" y="594"/>
                  </a:lnTo>
                  <a:lnTo>
                    <a:pt x="769" y="599"/>
                  </a:lnTo>
                  <a:lnTo>
                    <a:pt x="780" y="605"/>
                  </a:lnTo>
                  <a:lnTo>
                    <a:pt x="785" y="605"/>
                  </a:lnTo>
                  <a:lnTo>
                    <a:pt x="796" y="605"/>
                  </a:lnTo>
                  <a:lnTo>
                    <a:pt x="802" y="599"/>
                  </a:lnTo>
                  <a:lnTo>
                    <a:pt x="807" y="599"/>
                  </a:lnTo>
                  <a:lnTo>
                    <a:pt x="813" y="594"/>
                  </a:lnTo>
                  <a:lnTo>
                    <a:pt x="813" y="583"/>
                  </a:lnTo>
                  <a:lnTo>
                    <a:pt x="813" y="572"/>
                  </a:lnTo>
                  <a:close/>
                  <a:moveTo>
                    <a:pt x="1342" y="572"/>
                  </a:moveTo>
                  <a:lnTo>
                    <a:pt x="1342" y="572"/>
                  </a:lnTo>
                  <a:lnTo>
                    <a:pt x="1342" y="567"/>
                  </a:lnTo>
                  <a:lnTo>
                    <a:pt x="1342" y="567"/>
                  </a:lnTo>
                  <a:lnTo>
                    <a:pt x="1336" y="567"/>
                  </a:lnTo>
                  <a:lnTo>
                    <a:pt x="1336" y="567"/>
                  </a:lnTo>
                  <a:lnTo>
                    <a:pt x="1336" y="567"/>
                  </a:lnTo>
                  <a:lnTo>
                    <a:pt x="1331" y="567"/>
                  </a:lnTo>
                  <a:lnTo>
                    <a:pt x="1331" y="572"/>
                  </a:lnTo>
                  <a:lnTo>
                    <a:pt x="1331" y="572"/>
                  </a:lnTo>
                  <a:lnTo>
                    <a:pt x="1331" y="572"/>
                  </a:lnTo>
                  <a:lnTo>
                    <a:pt x="1331" y="578"/>
                  </a:lnTo>
                  <a:lnTo>
                    <a:pt x="1336" y="578"/>
                  </a:lnTo>
                  <a:lnTo>
                    <a:pt x="1336" y="578"/>
                  </a:lnTo>
                  <a:lnTo>
                    <a:pt x="1342" y="572"/>
                  </a:lnTo>
                  <a:close/>
                  <a:moveTo>
                    <a:pt x="164" y="545"/>
                  </a:moveTo>
                  <a:lnTo>
                    <a:pt x="169" y="540"/>
                  </a:lnTo>
                  <a:lnTo>
                    <a:pt x="175" y="534"/>
                  </a:lnTo>
                  <a:lnTo>
                    <a:pt x="180" y="529"/>
                  </a:lnTo>
                  <a:lnTo>
                    <a:pt x="186" y="523"/>
                  </a:lnTo>
                  <a:lnTo>
                    <a:pt x="191" y="518"/>
                  </a:lnTo>
                  <a:lnTo>
                    <a:pt x="197" y="512"/>
                  </a:lnTo>
                  <a:lnTo>
                    <a:pt x="202" y="507"/>
                  </a:lnTo>
                  <a:lnTo>
                    <a:pt x="202" y="501"/>
                  </a:lnTo>
                  <a:lnTo>
                    <a:pt x="202" y="496"/>
                  </a:lnTo>
                  <a:lnTo>
                    <a:pt x="202" y="485"/>
                  </a:lnTo>
                  <a:lnTo>
                    <a:pt x="197" y="480"/>
                  </a:lnTo>
                  <a:lnTo>
                    <a:pt x="191" y="480"/>
                  </a:lnTo>
                  <a:lnTo>
                    <a:pt x="164" y="512"/>
                  </a:lnTo>
                  <a:lnTo>
                    <a:pt x="131" y="545"/>
                  </a:lnTo>
                  <a:lnTo>
                    <a:pt x="126" y="545"/>
                  </a:lnTo>
                  <a:lnTo>
                    <a:pt x="137" y="550"/>
                  </a:lnTo>
                  <a:lnTo>
                    <a:pt x="142" y="550"/>
                  </a:lnTo>
                  <a:lnTo>
                    <a:pt x="147" y="556"/>
                  </a:lnTo>
                  <a:lnTo>
                    <a:pt x="153" y="561"/>
                  </a:lnTo>
                  <a:lnTo>
                    <a:pt x="158" y="567"/>
                  </a:lnTo>
                  <a:lnTo>
                    <a:pt x="158" y="567"/>
                  </a:lnTo>
                  <a:lnTo>
                    <a:pt x="164" y="567"/>
                  </a:lnTo>
                  <a:lnTo>
                    <a:pt x="164" y="567"/>
                  </a:lnTo>
                  <a:lnTo>
                    <a:pt x="164" y="561"/>
                  </a:lnTo>
                  <a:lnTo>
                    <a:pt x="164" y="550"/>
                  </a:lnTo>
                  <a:lnTo>
                    <a:pt x="164" y="545"/>
                  </a:lnTo>
                  <a:close/>
                  <a:moveTo>
                    <a:pt x="235" y="447"/>
                  </a:moveTo>
                  <a:lnTo>
                    <a:pt x="224" y="447"/>
                  </a:lnTo>
                  <a:lnTo>
                    <a:pt x="224" y="458"/>
                  </a:lnTo>
                  <a:lnTo>
                    <a:pt x="235" y="447"/>
                  </a:lnTo>
                  <a:close/>
                  <a:moveTo>
                    <a:pt x="273" y="414"/>
                  </a:moveTo>
                  <a:lnTo>
                    <a:pt x="257" y="414"/>
                  </a:lnTo>
                  <a:lnTo>
                    <a:pt x="257" y="425"/>
                  </a:lnTo>
                  <a:lnTo>
                    <a:pt x="273" y="414"/>
                  </a:lnTo>
                  <a:close/>
                  <a:moveTo>
                    <a:pt x="333" y="381"/>
                  </a:moveTo>
                  <a:lnTo>
                    <a:pt x="322" y="381"/>
                  </a:lnTo>
                  <a:lnTo>
                    <a:pt x="289" y="381"/>
                  </a:lnTo>
                  <a:lnTo>
                    <a:pt x="289" y="403"/>
                  </a:lnTo>
                  <a:lnTo>
                    <a:pt x="295" y="403"/>
                  </a:lnTo>
                  <a:lnTo>
                    <a:pt x="300" y="398"/>
                  </a:lnTo>
                  <a:lnTo>
                    <a:pt x="306" y="398"/>
                  </a:lnTo>
                  <a:lnTo>
                    <a:pt x="311" y="392"/>
                  </a:lnTo>
                  <a:lnTo>
                    <a:pt x="316" y="392"/>
                  </a:lnTo>
                  <a:lnTo>
                    <a:pt x="322" y="387"/>
                  </a:lnTo>
                  <a:lnTo>
                    <a:pt x="327" y="387"/>
                  </a:lnTo>
                  <a:lnTo>
                    <a:pt x="333" y="381"/>
                  </a:lnTo>
                  <a:close/>
                  <a:moveTo>
                    <a:pt x="382" y="354"/>
                  </a:moveTo>
                  <a:lnTo>
                    <a:pt x="355" y="354"/>
                  </a:lnTo>
                  <a:lnTo>
                    <a:pt x="355" y="376"/>
                  </a:lnTo>
                  <a:lnTo>
                    <a:pt x="382" y="354"/>
                  </a:lnTo>
                  <a:close/>
                  <a:moveTo>
                    <a:pt x="2672" y="1978"/>
                  </a:moveTo>
                  <a:lnTo>
                    <a:pt x="2705" y="1946"/>
                  </a:lnTo>
                  <a:lnTo>
                    <a:pt x="2737" y="1946"/>
                  </a:lnTo>
                  <a:lnTo>
                    <a:pt x="2770" y="1946"/>
                  </a:lnTo>
                  <a:lnTo>
                    <a:pt x="2797" y="1946"/>
                  </a:lnTo>
                  <a:lnTo>
                    <a:pt x="2830" y="1946"/>
                  </a:lnTo>
                  <a:lnTo>
                    <a:pt x="2863" y="1946"/>
                  </a:lnTo>
                  <a:lnTo>
                    <a:pt x="2895" y="1946"/>
                  </a:lnTo>
                  <a:lnTo>
                    <a:pt x="2928" y="1918"/>
                  </a:lnTo>
                  <a:lnTo>
                    <a:pt x="2928" y="1886"/>
                  </a:lnTo>
                  <a:lnTo>
                    <a:pt x="2928" y="1853"/>
                  </a:lnTo>
                  <a:lnTo>
                    <a:pt x="2928" y="1820"/>
                  </a:lnTo>
                  <a:lnTo>
                    <a:pt x="2961" y="1788"/>
                  </a:lnTo>
                  <a:lnTo>
                    <a:pt x="2961" y="1755"/>
                  </a:lnTo>
                  <a:lnTo>
                    <a:pt x="2961" y="1722"/>
                  </a:lnTo>
                  <a:lnTo>
                    <a:pt x="2961" y="1695"/>
                  </a:lnTo>
                  <a:lnTo>
                    <a:pt x="2988" y="1662"/>
                  </a:lnTo>
                  <a:lnTo>
                    <a:pt x="2988" y="1630"/>
                  </a:lnTo>
                  <a:lnTo>
                    <a:pt x="2988" y="1597"/>
                  </a:lnTo>
                  <a:lnTo>
                    <a:pt x="2988" y="1564"/>
                  </a:lnTo>
                  <a:lnTo>
                    <a:pt x="3021" y="1531"/>
                  </a:lnTo>
                  <a:lnTo>
                    <a:pt x="3021" y="1499"/>
                  </a:lnTo>
                  <a:lnTo>
                    <a:pt x="3021" y="1472"/>
                  </a:lnTo>
                  <a:lnTo>
                    <a:pt x="3021" y="1439"/>
                  </a:lnTo>
                  <a:lnTo>
                    <a:pt x="3054" y="1406"/>
                  </a:lnTo>
                  <a:lnTo>
                    <a:pt x="3054" y="1373"/>
                  </a:lnTo>
                  <a:lnTo>
                    <a:pt x="3054" y="1341"/>
                  </a:lnTo>
                  <a:lnTo>
                    <a:pt x="3054" y="1308"/>
                  </a:lnTo>
                  <a:lnTo>
                    <a:pt x="3086" y="1275"/>
                  </a:lnTo>
                  <a:lnTo>
                    <a:pt x="3086" y="1248"/>
                  </a:lnTo>
                  <a:lnTo>
                    <a:pt x="3086" y="1215"/>
                  </a:lnTo>
                  <a:lnTo>
                    <a:pt x="3086" y="1183"/>
                  </a:lnTo>
                  <a:lnTo>
                    <a:pt x="3086" y="1150"/>
                  </a:lnTo>
                  <a:lnTo>
                    <a:pt x="3086" y="1117"/>
                  </a:lnTo>
                  <a:lnTo>
                    <a:pt x="3086" y="1085"/>
                  </a:lnTo>
                  <a:lnTo>
                    <a:pt x="3086" y="1052"/>
                  </a:lnTo>
                  <a:lnTo>
                    <a:pt x="3086" y="1025"/>
                  </a:lnTo>
                  <a:lnTo>
                    <a:pt x="3086" y="992"/>
                  </a:lnTo>
                  <a:lnTo>
                    <a:pt x="3086" y="959"/>
                  </a:lnTo>
                  <a:lnTo>
                    <a:pt x="3086" y="927"/>
                  </a:lnTo>
                  <a:lnTo>
                    <a:pt x="3086" y="894"/>
                  </a:lnTo>
                  <a:lnTo>
                    <a:pt x="3086" y="861"/>
                  </a:lnTo>
                  <a:lnTo>
                    <a:pt x="3086" y="828"/>
                  </a:lnTo>
                  <a:lnTo>
                    <a:pt x="3086" y="801"/>
                  </a:lnTo>
                  <a:lnTo>
                    <a:pt x="3086" y="768"/>
                  </a:lnTo>
                  <a:lnTo>
                    <a:pt x="3086" y="736"/>
                  </a:lnTo>
                  <a:lnTo>
                    <a:pt x="3086" y="703"/>
                  </a:lnTo>
                  <a:lnTo>
                    <a:pt x="3086" y="670"/>
                  </a:lnTo>
                  <a:lnTo>
                    <a:pt x="3086" y="638"/>
                  </a:lnTo>
                  <a:lnTo>
                    <a:pt x="3086" y="605"/>
                  </a:lnTo>
                  <a:lnTo>
                    <a:pt x="3086" y="572"/>
                  </a:lnTo>
                  <a:lnTo>
                    <a:pt x="3086" y="545"/>
                  </a:lnTo>
                  <a:lnTo>
                    <a:pt x="3086" y="512"/>
                  </a:lnTo>
                  <a:lnTo>
                    <a:pt x="3086" y="480"/>
                  </a:lnTo>
                  <a:lnTo>
                    <a:pt x="3086" y="447"/>
                  </a:lnTo>
                  <a:lnTo>
                    <a:pt x="3086" y="414"/>
                  </a:lnTo>
                  <a:lnTo>
                    <a:pt x="3086" y="381"/>
                  </a:lnTo>
                  <a:lnTo>
                    <a:pt x="3086" y="354"/>
                  </a:lnTo>
                  <a:lnTo>
                    <a:pt x="3086" y="322"/>
                  </a:lnTo>
                  <a:lnTo>
                    <a:pt x="3086" y="289"/>
                  </a:lnTo>
                  <a:lnTo>
                    <a:pt x="3054" y="256"/>
                  </a:lnTo>
                  <a:lnTo>
                    <a:pt x="3054" y="223"/>
                  </a:lnTo>
                  <a:lnTo>
                    <a:pt x="3054" y="191"/>
                  </a:lnTo>
                  <a:lnTo>
                    <a:pt x="3054" y="158"/>
                  </a:lnTo>
                  <a:lnTo>
                    <a:pt x="3054" y="125"/>
                  </a:lnTo>
                  <a:lnTo>
                    <a:pt x="3021" y="98"/>
                  </a:lnTo>
                  <a:lnTo>
                    <a:pt x="2988" y="98"/>
                  </a:lnTo>
                  <a:lnTo>
                    <a:pt x="2961" y="98"/>
                  </a:lnTo>
                  <a:lnTo>
                    <a:pt x="2928" y="65"/>
                  </a:lnTo>
                  <a:lnTo>
                    <a:pt x="2895" y="65"/>
                  </a:lnTo>
                  <a:lnTo>
                    <a:pt x="2863" y="65"/>
                  </a:lnTo>
                  <a:lnTo>
                    <a:pt x="2830" y="33"/>
                  </a:lnTo>
                  <a:lnTo>
                    <a:pt x="2797" y="33"/>
                  </a:lnTo>
                  <a:lnTo>
                    <a:pt x="2770" y="33"/>
                  </a:lnTo>
                  <a:lnTo>
                    <a:pt x="2737" y="0"/>
                  </a:lnTo>
                  <a:lnTo>
                    <a:pt x="2705" y="0"/>
                  </a:lnTo>
                  <a:lnTo>
                    <a:pt x="2672" y="0"/>
                  </a:lnTo>
                  <a:lnTo>
                    <a:pt x="2639" y="0"/>
                  </a:lnTo>
                  <a:lnTo>
                    <a:pt x="2612" y="0"/>
                  </a:lnTo>
                  <a:lnTo>
                    <a:pt x="2579" y="0"/>
                  </a:lnTo>
                  <a:lnTo>
                    <a:pt x="2546" y="0"/>
                  </a:lnTo>
                  <a:lnTo>
                    <a:pt x="2514" y="0"/>
                  </a:lnTo>
                  <a:lnTo>
                    <a:pt x="2481" y="0"/>
                  </a:lnTo>
                  <a:lnTo>
                    <a:pt x="2448" y="0"/>
                  </a:lnTo>
                  <a:lnTo>
                    <a:pt x="2421" y="0"/>
                  </a:lnTo>
                  <a:lnTo>
                    <a:pt x="2388" y="0"/>
                  </a:lnTo>
                  <a:lnTo>
                    <a:pt x="2356" y="0"/>
                  </a:lnTo>
                  <a:lnTo>
                    <a:pt x="2323" y="0"/>
                  </a:lnTo>
                  <a:lnTo>
                    <a:pt x="2290" y="0"/>
                  </a:lnTo>
                  <a:lnTo>
                    <a:pt x="2258" y="0"/>
                  </a:lnTo>
                  <a:lnTo>
                    <a:pt x="2230" y="0"/>
                  </a:lnTo>
                  <a:lnTo>
                    <a:pt x="2198" y="0"/>
                  </a:lnTo>
                  <a:lnTo>
                    <a:pt x="2165" y="0"/>
                  </a:lnTo>
                  <a:lnTo>
                    <a:pt x="2132" y="0"/>
                  </a:lnTo>
                  <a:lnTo>
                    <a:pt x="2099" y="0"/>
                  </a:lnTo>
                  <a:lnTo>
                    <a:pt x="2067" y="0"/>
                  </a:lnTo>
                  <a:lnTo>
                    <a:pt x="2039" y="0"/>
                  </a:lnTo>
                  <a:lnTo>
                    <a:pt x="2007" y="0"/>
                  </a:lnTo>
                  <a:lnTo>
                    <a:pt x="1979" y="0"/>
                  </a:lnTo>
                  <a:lnTo>
                    <a:pt x="1990" y="5"/>
                  </a:lnTo>
                  <a:lnTo>
                    <a:pt x="2001" y="5"/>
                  </a:lnTo>
                  <a:lnTo>
                    <a:pt x="2007" y="11"/>
                  </a:lnTo>
                  <a:lnTo>
                    <a:pt x="2018" y="16"/>
                  </a:lnTo>
                  <a:lnTo>
                    <a:pt x="2023" y="22"/>
                  </a:lnTo>
                  <a:lnTo>
                    <a:pt x="2034" y="22"/>
                  </a:lnTo>
                  <a:lnTo>
                    <a:pt x="2045" y="27"/>
                  </a:lnTo>
                  <a:lnTo>
                    <a:pt x="2056" y="27"/>
                  </a:lnTo>
                  <a:lnTo>
                    <a:pt x="2061" y="27"/>
                  </a:lnTo>
                  <a:lnTo>
                    <a:pt x="2072" y="33"/>
                  </a:lnTo>
                  <a:lnTo>
                    <a:pt x="2083" y="33"/>
                  </a:lnTo>
                  <a:lnTo>
                    <a:pt x="2094" y="38"/>
                  </a:lnTo>
                  <a:lnTo>
                    <a:pt x="2099" y="38"/>
                  </a:lnTo>
                  <a:lnTo>
                    <a:pt x="2105" y="44"/>
                  </a:lnTo>
                  <a:lnTo>
                    <a:pt x="2110" y="54"/>
                  </a:lnTo>
                  <a:lnTo>
                    <a:pt x="2116" y="60"/>
                  </a:lnTo>
                  <a:lnTo>
                    <a:pt x="2121" y="65"/>
                  </a:lnTo>
                  <a:lnTo>
                    <a:pt x="2132" y="65"/>
                  </a:lnTo>
                  <a:lnTo>
                    <a:pt x="2143" y="65"/>
                  </a:lnTo>
                  <a:lnTo>
                    <a:pt x="2154" y="65"/>
                  </a:lnTo>
                  <a:lnTo>
                    <a:pt x="2165" y="65"/>
                  </a:lnTo>
                  <a:lnTo>
                    <a:pt x="2176" y="65"/>
                  </a:lnTo>
                  <a:lnTo>
                    <a:pt x="2187" y="65"/>
                  </a:lnTo>
                  <a:lnTo>
                    <a:pt x="2198" y="65"/>
                  </a:lnTo>
                  <a:lnTo>
                    <a:pt x="2203" y="71"/>
                  </a:lnTo>
                  <a:lnTo>
                    <a:pt x="2203" y="76"/>
                  </a:lnTo>
                  <a:lnTo>
                    <a:pt x="2208" y="87"/>
                  </a:lnTo>
                  <a:lnTo>
                    <a:pt x="2208" y="93"/>
                  </a:lnTo>
                  <a:lnTo>
                    <a:pt x="2214" y="98"/>
                  </a:lnTo>
                  <a:lnTo>
                    <a:pt x="2225" y="98"/>
                  </a:lnTo>
                  <a:lnTo>
                    <a:pt x="2236" y="98"/>
                  </a:lnTo>
                  <a:lnTo>
                    <a:pt x="2247" y="98"/>
                  </a:lnTo>
                  <a:lnTo>
                    <a:pt x="2258" y="98"/>
                  </a:lnTo>
                  <a:lnTo>
                    <a:pt x="2268" y="98"/>
                  </a:lnTo>
                  <a:lnTo>
                    <a:pt x="2279" y="98"/>
                  </a:lnTo>
                  <a:lnTo>
                    <a:pt x="2290" y="98"/>
                  </a:lnTo>
                  <a:lnTo>
                    <a:pt x="2296" y="104"/>
                  </a:lnTo>
                  <a:lnTo>
                    <a:pt x="2301" y="114"/>
                  </a:lnTo>
                  <a:lnTo>
                    <a:pt x="2301" y="120"/>
                  </a:lnTo>
                  <a:lnTo>
                    <a:pt x="2307" y="125"/>
                  </a:lnTo>
                  <a:lnTo>
                    <a:pt x="2317" y="131"/>
                  </a:lnTo>
                  <a:lnTo>
                    <a:pt x="2328" y="131"/>
                  </a:lnTo>
                  <a:lnTo>
                    <a:pt x="2339" y="131"/>
                  </a:lnTo>
                  <a:lnTo>
                    <a:pt x="2350" y="131"/>
                  </a:lnTo>
                  <a:lnTo>
                    <a:pt x="2361" y="131"/>
                  </a:lnTo>
                  <a:lnTo>
                    <a:pt x="2372" y="131"/>
                  </a:lnTo>
                  <a:lnTo>
                    <a:pt x="2377" y="131"/>
                  </a:lnTo>
                  <a:lnTo>
                    <a:pt x="2388" y="131"/>
                  </a:lnTo>
                  <a:lnTo>
                    <a:pt x="2399" y="136"/>
                  </a:lnTo>
                  <a:lnTo>
                    <a:pt x="2405" y="142"/>
                  </a:lnTo>
                  <a:lnTo>
                    <a:pt x="2410" y="147"/>
                  </a:lnTo>
                  <a:lnTo>
                    <a:pt x="2410" y="153"/>
                  </a:lnTo>
                  <a:lnTo>
                    <a:pt x="2416" y="158"/>
                  </a:lnTo>
                  <a:lnTo>
                    <a:pt x="2427" y="163"/>
                  </a:lnTo>
                  <a:lnTo>
                    <a:pt x="2432" y="163"/>
                  </a:lnTo>
                  <a:lnTo>
                    <a:pt x="2448" y="163"/>
                  </a:lnTo>
                  <a:lnTo>
                    <a:pt x="2459" y="163"/>
                  </a:lnTo>
                  <a:lnTo>
                    <a:pt x="2470" y="163"/>
                  </a:lnTo>
                  <a:lnTo>
                    <a:pt x="2476" y="163"/>
                  </a:lnTo>
                  <a:lnTo>
                    <a:pt x="2487" y="163"/>
                  </a:lnTo>
                  <a:lnTo>
                    <a:pt x="2497" y="163"/>
                  </a:lnTo>
                  <a:lnTo>
                    <a:pt x="2508" y="163"/>
                  </a:lnTo>
                  <a:lnTo>
                    <a:pt x="2519" y="169"/>
                  </a:lnTo>
                  <a:lnTo>
                    <a:pt x="2525" y="174"/>
                  </a:lnTo>
                  <a:lnTo>
                    <a:pt x="2530" y="180"/>
                  </a:lnTo>
                  <a:lnTo>
                    <a:pt x="2536" y="185"/>
                  </a:lnTo>
                  <a:lnTo>
                    <a:pt x="2536" y="196"/>
                  </a:lnTo>
                  <a:lnTo>
                    <a:pt x="2541" y="202"/>
                  </a:lnTo>
                  <a:lnTo>
                    <a:pt x="2546" y="207"/>
                  </a:lnTo>
                  <a:lnTo>
                    <a:pt x="2552" y="213"/>
                  </a:lnTo>
                  <a:lnTo>
                    <a:pt x="2563" y="213"/>
                  </a:lnTo>
                  <a:lnTo>
                    <a:pt x="2568" y="218"/>
                  </a:lnTo>
                  <a:lnTo>
                    <a:pt x="2574" y="223"/>
                  </a:lnTo>
                  <a:lnTo>
                    <a:pt x="2574" y="229"/>
                  </a:lnTo>
                  <a:lnTo>
                    <a:pt x="2574" y="240"/>
                  </a:lnTo>
                  <a:lnTo>
                    <a:pt x="2568" y="245"/>
                  </a:lnTo>
                  <a:lnTo>
                    <a:pt x="2568" y="251"/>
                  </a:lnTo>
                  <a:lnTo>
                    <a:pt x="2579" y="256"/>
                  </a:lnTo>
                  <a:lnTo>
                    <a:pt x="2579" y="245"/>
                  </a:lnTo>
                  <a:lnTo>
                    <a:pt x="2579" y="240"/>
                  </a:lnTo>
                  <a:lnTo>
                    <a:pt x="2579" y="234"/>
                  </a:lnTo>
                  <a:lnTo>
                    <a:pt x="2579" y="229"/>
                  </a:lnTo>
                  <a:lnTo>
                    <a:pt x="2579" y="218"/>
                  </a:lnTo>
                  <a:lnTo>
                    <a:pt x="2585" y="213"/>
                  </a:lnTo>
                  <a:lnTo>
                    <a:pt x="2596" y="207"/>
                  </a:lnTo>
                  <a:lnTo>
                    <a:pt x="2601" y="202"/>
                  </a:lnTo>
                  <a:lnTo>
                    <a:pt x="2612" y="202"/>
                  </a:lnTo>
                  <a:lnTo>
                    <a:pt x="2617" y="207"/>
                  </a:lnTo>
                  <a:lnTo>
                    <a:pt x="2628" y="213"/>
                  </a:lnTo>
                  <a:lnTo>
                    <a:pt x="2634" y="218"/>
                  </a:lnTo>
                  <a:lnTo>
                    <a:pt x="2639" y="223"/>
                  </a:lnTo>
                  <a:lnTo>
                    <a:pt x="2650" y="229"/>
                  </a:lnTo>
                  <a:lnTo>
                    <a:pt x="2656" y="229"/>
                  </a:lnTo>
                  <a:lnTo>
                    <a:pt x="2666" y="234"/>
                  </a:lnTo>
                  <a:lnTo>
                    <a:pt x="2672" y="240"/>
                  </a:lnTo>
                  <a:lnTo>
                    <a:pt x="2677" y="245"/>
                  </a:lnTo>
                  <a:lnTo>
                    <a:pt x="2688" y="251"/>
                  </a:lnTo>
                  <a:lnTo>
                    <a:pt x="2694" y="256"/>
                  </a:lnTo>
                  <a:lnTo>
                    <a:pt x="2699" y="262"/>
                  </a:lnTo>
                  <a:lnTo>
                    <a:pt x="2710" y="267"/>
                  </a:lnTo>
                  <a:lnTo>
                    <a:pt x="2715" y="267"/>
                  </a:lnTo>
                  <a:lnTo>
                    <a:pt x="2721" y="272"/>
                  </a:lnTo>
                  <a:lnTo>
                    <a:pt x="2726" y="278"/>
                  </a:lnTo>
                  <a:lnTo>
                    <a:pt x="2737" y="283"/>
                  </a:lnTo>
                  <a:lnTo>
                    <a:pt x="2743" y="289"/>
                  </a:lnTo>
                  <a:lnTo>
                    <a:pt x="2732" y="294"/>
                  </a:lnTo>
                  <a:lnTo>
                    <a:pt x="2721" y="294"/>
                  </a:lnTo>
                  <a:lnTo>
                    <a:pt x="2710" y="294"/>
                  </a:lnTo>
                  <a:lnTo>
                    <a:pt x="2705" y="294"/>
                  </a:lnTo>
                  <a:lnTo>
                    <a:pt x="2694" y="294"/>
                  </a:lnTo>
                  <a:lnTo>
                    <a:pt x="2683" y="294"/>
                  </a:lnTo>
                  <a:lnTo>
                    <a:pt x="2672" y="294"/>
                  </a:lnTo>
                  <a:lnTo>
                    <a:pt x="2661" y="294"/>
                  </a:lnTo>
                  <a:lnTo>
                    <a:pt x="2650" y="294"/>
                  </a:lnTo>
                  <a:lnTo>
                    <a:pt x="2639" y="294"/>
                  </a:lnTo>
                  <a:lnTo>
                    <a:pt x="2634" y="300"/>
                  </a:lnTo>
                  <a:lnTo>
                    <a:pt x="2623" y="305"/>
                  </a:lnTo>
                  <a:lnTo>
                    <a:pt x="2612" y="305"/>
                  </a:lnTo>
                  <a:lnTo>
                    <a:pt x="2606" y="311"/>
                  </a:lnTo>
                  <a:lnTo>
                    <a:pt x="2601" y="316"/>
                  </a:lnTo>
                  <a:lnTo>
                    <a:pt x="2601" y="327"/>
                  </a:lnTo>
                  <a:lnTo>
                    <a:pt x="2601" y="332"/>
                  </a:lnTo>
                  <a:lnTo>
                    <a:pt x="2601" y="338"/>
                  </a:lnTo>
                  <a:lnTo>
                    <a:pt x="2606" y="343"/>
                  </a:lnTo>
                  <a:lnTo>
                    <a:pt x="2601" y="354"/>
                  </a:lnTo>
                  <a:lnTo>
                    <a:pt x="2601" y="360"/>
                  </a:lnTo>
                  <a:lnTo>
                    <a:pt x="2590" y="365"/>
                  </a:lnTo>
                  <a:lnTo>
                    <a:pt x="2585" y="371"/>
                  </a:lnTo>
                  <a:lnTo>
                    <a:pt x="2579" y="376"/>
                  </a:lnTo>
                  <a:lnTo>
                    <a:pt x="2574" y="381"/>
                  </a:lnTo>
                  <a:lnTo>
                    <a:pt x="2568" y="387"/>
                  </a:lnTo>
                  <a:lnTo>
                    <a:pt x="2568" y="392"/>
                  </a:lnTo>
                  <a:lnTo>
                    <a:pt x="2557" y="398"/>
                  </a:lnTo>
                  <a:lnTo>
                    <a:pt x="2552" y="403"/>
                  </a:lnTo>
                  <a:lnTo>
                    <a:pt x="2546" y="409"/>
                  </a:lnTo>
                  <a:lnTo>
                    <a:pt x="2536" y="414"/>
                  </a:lnTo>
                  <a:lnTo>
                    <a:pt x="2530" y="420"/>
                  </a:lnTo>
                  <a:lnTo>
                    <a:pt x="2525" y="425"/>
                  </a:lnTo>
                  <a:lnTo>
                    <a:pt x="2519" y="431"/>
                  </a:lnTo>
                  <a:lnTo>
                    <a:pt x="2514" y="436"/>
                  </a:lnTo>
                  <a:lnTo>
                    <a:pt x="2503" y="436"/>
                  </a:lnTo>
                  <a:lnTo>
                    <a:pt x="2492" y="441"/>
                  </a:lnTo>
                  <a:lnTo>
                    <a:pt x="2481" y="441"/>
                  </a:lnTo>
                  <a:lnTo>
                    <a:pt x="2470" y="441"/>
                  </a:lnTo>
                  <a:lnTo>
                    <a:pt x="2459" y="441"/>
                  </a:lnTo>
                  <a:lnTo>
                    <a:pt x="2448" y="441"/>
                  </a:lnTo>
                  <a:lnTo>
                    <a:pt x="2437" y="441"/>
                  </a:lnTo>
                  <a:lnTo>
                    <a:pt x="2427" y="447"/>
                  </a:lnTo>
                  <a:lnTo>
                    <a:pt x="2421" y="447"/>
                  </a:lnTo>
                  <a:lnTo>
                    <a:pt x="2410" y="447"/>
                  </a:lnTo>
                  <a:lnTo>
                    <a:pt x="2399" y="452"/>
                  </a:lnTo>
                  <a:lnTo>
                    <a:pt x="2394" y="458"/>
                  </a:lnTo>
                  <a:lnTo>
                    <a:pt x="2383" y="458"/>
                  </a:lnTo>
                  <a:lnTo>
                    <a:pt x="2372" y="458"/>
                  </a:lnTo>
                  <a:lnTo>
                    <a:pt x="2361" y="458"/>
                  </a:lnTo>
                  <a:lnTo>
                    <a:pt x="2350" y="458"/>
                  </a:lnTo>
                  <a:lnTo>
                    <a:pt x="2339" y="458"/>
                  </a:lnTo>
                  <a:lnTo>
                    <a:pt x="2328" y="463"/>
                  </a:lnTo>
                  <a:lnTo>
                    <a:pt x="2323" y="463"/>
                  </a:lnTo>
                  <a:lnTo>
                    <a:pt x="2312" y="463"/>
                  </a:lnTo>
                  <a:lnTo>
                    <a:pt x="2301" y="458"/>
                  </a:lnTo>
                  <a:lnTo>
                    <a:pt x="2290" y="458"/>
                  </a:lnTo>
                  <a:lnTo>
                    <a:pt x="2279" y="458"/>
                  </a:lnTo>
                  <a:lnTo>
                    <a:pt x="2268" y="458"/>
                  </a:lnTo>
                  <a:lnTo>
                    <a:pt x="2258" y="458"/>
                  </a:lnTo>
                  <a:lnTo>
                    <a:pt x="2247" y="458"/>
                  </a:lnTo>
                  <a:lnTo>
                    <a:pt x="2241" y="458"/>
                  </a:lnTo>
                  <a:lnTo>
                    <a:pt x="2230" y="458"/>
                  </a:lnTo>
                  <a:lnTo>
                    <a:pt x="2219" y="458"/>
                  </a:lnTo>
                  <a:lnTo>
                    <a:pt x="2208" y="458"/>
                  </a:lnTo>
                  <a:lnTo>
                    <a:pt x="2198" y="458"/>
                  </a:lnTo>
                  <a:lnTo>
                    <a:pt x="2187" y="458"/>
                  </a:lnTo>
                  <a:lnTo>
                    <a:pt x="2176" y="458"/>
                  </a:lnTo>
                  <a:lnTo>
                    <a:pt x="2165" y="463"/>
                  </a:lnTo>
                  <a:lnTo>
                    <a:pt x="2159" y="463"/>
                  </a:lnTo>
                  <a:lnTo>
                    <a:pt x="2148" y="469"/>
                  </a:lnTo>
                  <a:lnTo>
                    <a:pt x="2143" y="474"/>
                  </a:lnTo>
                  <a:lnTo>
                    <a:pt x="2132" y="480"/>
                  </a:lnTo>
                  <a:lnTo>
                    <a:pt x="2121" y="480"/>
                  </a:lnTo>
                  <a:lnTo>
                    <a:pt x="2116" y="474"/>
                  </a:lnTo>
                  <a:lnTo>
                    <a:pt x="2105" y="469"/>
                  </a:lnTo>
                  <a:lnTo>
                    <a:pt x="2099" y="463"/>
                  </a:lnTo>
                  <a:lnTo>
                    <a:pt x="2088" y="458"/>
                  </a:lnTo>
                  <a:lnTo>
                    <a:pt x="2083" y="452"/>
                  </a:lnTo>
                  <a:lnTo>
                    <a:pt x="2078" y="447"/>
                  </a:lnTo>
                  <a:lnTo>
                    <a:pt x="2067" y="447"/>
                  </a:lnTo>
                  <a:lnTo>
                    <a:pt x="2056" y="441"/>
                  </a:lnTo>
                  <a:lnTo>
                    <a:pt x="2045" y="441"/>
                  </a:lnTo>
                  <a:lnTo>
                    <a:pt x="2034" y="441"/>
                  </a:lnTo>
                  <a:lnTo>
                    <a:pt x="2023" y="441"/>
                  </a:lnTo>
                  <a:lnTo>
                    <a:pt x="2012" y="441"/>
                  </a:lnTo>
                  <a:lnTo>
                    <a:pt x="2007" y="441"/>
                  </a:lnTo>
                  <a:lnTo>
                    <a:pt x="1996" y="447"/>
                  </a:lnTo>
                  <a:lnTo>
                    <a:pt x="1985" y="447"/>
                  </a:lnTo>
                  <a:lnTo>
                    <a:pt x="1979" y="452"/>
                  </a:lnTo>
                  <a:lnTo>
                    <a:pt x="1974" y="458"/>
                  </a:lnTo>
                  <a:lnTo>
                    <a:pt x="1969" y="463"/>
                  </a:lnTo>
                  <a:lnTo>
                    <a:pt x="1969" y="469"/>
                  </a:lnTo>
                  <a:lnTo>
                    <a:pt x="1969" y="480"/>
                  </a:lnTo>
                  <a:lnTo>
                    <a:pt x="1974" y="485"/>
                  </a:lnTo>
                  <a:lnTo>
                    <a:pt x="1979" y="485"/>
                  </a:lnTo>
                  <a:lnTo>
                    <a:pt x="1990" y="490"/>
                  </a:lnTo>
                  <a:lnTo>
                    <a:pt x="2001" y="490"/>
                  </a:lnTo>
                  <a:lnTo>
                    <a:pt x="2012" y="490"/>
                  </a:lnTo>
                  <a:lnTo>
                    <a:pt x="2023" y="496"/>
                  </a:lnTo>
                  <a:lnTo>
                    <a:pt x="2034" y="496"/>
                  </a:lnTo>
                  <a:lnTo>
                    <a:pt x="2039" y="501"/>
                  </a:lnTo>
                  <a:lnTo>
                    <a:pt x="2050" y="501"/>
                  </a:lnTo>
                  <a:lnTo>
                    <a:pt x="2061" y="507"/>
                  </a:lnTo>
                  <a:lnTo>
                    <a:pt x="2067" y="512"/>
                  </a:lnTo>
                  <a:lnTo>
                    <a:pt x="2072" y="518"/>
                  </a:lnTo>
                  <a:lnTo>
                    <a:pt x="2078" y="523"/>
                  </a:lnTo>
                  <a:lnTo>
                    <a:pt x="2078" y="534"/>
                  </a:lnTo>
                  <a:lnTo>
                    <a:pt x="2078" y="540"/>
                  </a:lnTo>
                  <a:lnTo>
                    <a:pt x="2078" y="545"/>
                  </a:lnTo>
                  <a:lnTo>
                    <a:pt x="2072" y="550"/>
                  </a:lnTo>
                  <a:lnTo>
                    <a:pt x="2067" y="556"/>
                  </a:lnTo>
                  <a:lnTo>
                    <a:pt x="2056" y="556"/>
                  </a:lnTo>
                  <a:lnTo>
                    <a:pt x="2045" y="556"/>
                  </a:lnTo>
                  <a:lnTo>
                    <a:pt x="2034" y="556"/>
                  </a:lnTo>
                  <a:lnTo>
                    <a:pt x="2023" y="550"/>
                  </a:lnTo>
                  <a:lnTo>
                    <a:pt x="2018" y="545"/>
                  </a:lnTo>
                  <a:lnTo>
                    <a:pt x="2007" y="545"/>
                  </a:lnTo>
                  <a:lnTo>
                    <a:pt x="2001" y="540"/>
                  </a:lnTo>
                  <a:lnTo>
                    <a:pt x="1990" y="534"/>
                  </a:lnTo>
                  <a:lnTo>
                    <a:pt x="1985" y="529"/>
                  </a:lnTo>
                  <a:lnTo>
                    <a:pt x="1974" y="529"/>
                  </a:lnTo>
                  <a:lnTo>
                    <a:pt x="1969" y="529"/>
                  </a:lnTo>
                  <a:lnTo>
                    <a:pt x="1958" y="534"/>
                  </a:lnTo>
                  <a:lnTo>
                    <a:pt x="1952" y="540"/>
                  </a:lnTo>
                  <a:lnTo>
                    <a:pt x="1952" y="545"/>
                  </a:lnTo>
                  <a:lnTo>
                    <a:pt x="1952" y="550"/>
                  </a:lnTo>
                  <a:lnTo>
                    <a:pt x="1963" y="556"/>
                  </a:lnTo>
                  <a:lnTo>
                    <a:pt x="1974" y="561"/>
                  </a:lnTo>
                  <a:lnTo>
                    <a:pt x="1985" y="567"/>
                  </a:lnTo>
                  <a:lnTo>
                    <a:pt x="1996" y="572"/>
                  </a:lnTo>
                  <a:lnTo>
                    <a:pt x="2001" y="572"/>
                  </a:lnTo>
                  <a:lnTo>
                    <a:pt x="1996" y="578"/>
                  </a:lnTo>
                  <a:lnTo>
                    <a:pt x="1990" y="589"/>
                  </a:lnTo>
                  <a:lnTo>
                    <a:pt x="1979" y="589"/>
                  </a:lnTo>
                  <a:lnTo>
                    <a:pt x="1974" y="594"/>
                  </a:lnTo>
                  <a:lnTo>
                    <a:pt x="1969" y="589"/>
                  </a:lnTo>
                  <a:lnTo>
                    <a:pt x="1963" y="578"/>
                  </a:lnTo>
                  <a:lnTo>
                    <a:pt x="1963" y="572"/>
                  </a:lnTo>
                  <a:lnTo>
                    <a:pt x="1958" y="561"/>
                  </a:lnTo>
                  <a:lnTo>
                    <a:pt x="1952" y="556"/>
                  </a:lnTo>
                  <a:lnTo>
                    <a:pt x="1947" y="550"/>
                  </a:lnTo>
                  <a:lnTo>
                    <a:pt x="1936" y="550"/>
                  </a:lnTo>
                  <a:lnTo>
                    <a:pt x="1930" y="556"/>
                  </a:lnTo>
                  <a:lnTo>
                    <a:pt x="1925" y="561"/>
                  </a:lnTo>
                  <a:lnTo>
                    <a:pt x="1914" y="572"/>
                  </a:lnTo>
                  <a:lnTo>
                    <a:pt x="1909" y="578"/>
                  </a:lnTo>
                  <a:lnTo>
                    <a:pt x="1903" y="583"/>
                  </a:lnTo>
                  <a:lnTo>
                    <a:pt x="1892" y="589"/>
                  </a:lnTo>
                  <a:lnTo>
                    <a:pt x="1887" y="594"/>
                  </a:lnTo>
                  <a:lnTo>
                    <a:pt x="1876" y="594"/>
                  </a:lnTo>
                  <a:lnTo>
                    <a:pt x="1870" y="589"/>
                  </a:lnTo>
                  <a:lnTo>
                    <a:pt x="1865" y="583"/>
                  </a:lnTo>
                  <a:lnTo>
                    <a:pt x="1865" y="572"/>
                  </a:lnTo>
                  <a:lnTo>
                    <a:pt x="1865" y="567"/>
                  </a:lnTo>
                  <a:lnTo>
                    <a:pt x="1865" y="561"/>
                  </a:lnTo>
                  <a:lnTo>
                    <a:pt x="1865" y="556"/>
                  </a:lnTo>
                  <a:lnTo>
                    <a:pt x="1865" y="545"/>
                  </a:lnTo>
                  <a:lnTo>
                    <a:pt x="1870" y="540"/>
                  </a:lnTo>
                  <a:lnTo>
                    <a:pt x="1876" y="534"/>
                  </a:lnTo>
                  <a:lnTo>
                    <a:pt x="1881" y="529"/>
                  </a:lnTo>
                  <a:lnTo>
                    <a:pt x="1881" y="523"/>
                  </a:lnTo>
                  <a:lnTo>
                    <a:pt x="1887" y="518"/>
                  </a:lnTo>
                  <a:lnTo>
                    <a:pt x="1892" y="512"/>
                  </a:lnTo>
                  <a:lnTo>
                    <a:pt x="1892" y="501"/>
                  </a:lnTo>
                  <a:lnTo>
                    <a:pt x="1898" y="496"/>
                  </a:lnTo>
                  <a:lnTo>
                    <a:pt x="1903" y="490"/>
                  </a:lnTo>
                  <a:lnTo>
                    <a:pt x="1909" y="485"/>
                  </a:lnTo>
                  <a:lnTo>
                    <a:pt x="1914" y="480"/>
                  </a:lnTo>
                  <a:lnTo>
                    <a:pt x="1919" y="474"/>
                  </a:lnTo>
                  <a:lnTo>
                    <a:pt x="1930" y="469"/>
                  </a:lnTo>
                  <a:lnTo>
                    <a:pt x="1936" y="463"/>
                  </a:lnTo>
                  <a:lnTo>
                    <a:pt x="1936" y="458"/>
                  </a:lnTo>
                  <a:lnTo>
                    <a:pt x="1941" y="447"/>
                  </a:lnTo>
                  <a:lnTo>
                    <a:pt x="1936" y="441"/>
                  </a:lnTo>
                  <a:lnTo>
                    <a:pt x="1925" y="436"/>
                  </a:lnTo>
                  <a:lnTo>
                    <a:pt x="1914" y="431"/>
                  </a:lnTo>
                  <a:lnTo>
                    <a:pt x="1909" y="436"/>
                  </a:lnTo>
                  <a:lnTo>
                    <a:pt x="1903" y="436"/>
                  </a:lnTo>
                  <a:lnTo>
                    <a:pt x="1898" y="447"/>
                  </a:lnTo>
                  <a:lnTo>
                    <a:pt x="1892" y="452"/>
                  </a:lnTo>
                  <a:lnTo>
                    <a:pt x="1887" y="458"/>
                  </a:lnTo>
                  <a:lnTo>
                    <a:pt x="1881" y="463"/>
                  </a:lnTo>
                  <a:lnTo>
                    <a:pt x="1870" y="469"/>
                  </a:lnTo>
                  <a:lnTo>
                    <a:pt x="1859" y="469"/>
                  </a:lnTo>
                  <a:lnTo>
                    <a:pt x="1854" y="474"/>
                  </a:lnTo>
                  <a:lnTo>
                    <a:pt x="1843" y="480"/>
                  </a:lnTo>
                  <a:lnTo>
                    <a:pt x="1838" y="485"/>
                  </a:lnTo>
                  <a:lnTo>
                    <a:pt x="1832" y="490"/>
                  </a:lnTo>
                  <a:lnTo>
                    <a:pt x="1821" y="490"/>
                  </a:lnTo>
                  <a:lnTo>
                    <a:pt x="1816" y="496"/>
                  </a:lnTo>
                  <a:lnTo>
                    <a:pt x="1810" y="501"/>
                  </a:lnTo>
                  <a:lnTo>
                    <a:pt x="1805" y="507"/>
                  </a:lnTo>
                  <a:lnTo>
                    <a:pt x="1800" y="512"/>
                  </a:lnTo>
                  <a:lnTo>
                    <a:pt x="1789" y="518"/>
                  </a:lnTo>
                  <a:lnTo>
                    <a:pt x="1783" y="523"/>
                  </a:lnTo>
                  <a:lnTo>
                    <a:pt x="1772" y="529"/>
                  </a:lnTo>
                  <a:lnTo>
                    <a:pt x="1767" y="529"/>
                  </a:lnTo>
                  <a:lnTo>
                    <a:pt x="1756" y="534"/>
                  </a:lnTo>
                  <a:lnTo>
                    <a:pt x="1750" y="540"/>
                  </a:lnTo>
                  <a:lnTo>
                    <a:pt x="1745" y="545"/>
                  </a:lnTo>
                  <a:lnTo>
                    <a:pt x="1740" y="550"/>
                  </a:lnTo>
                  <a:lnTo>
                    <a:pt x="1734" y="556"/>
                  </a:lnTo>
                  <a:lnTo>
                    <a:pt x="1723" y="561"/>
                  </a:lnTo>
                  <a:lnTo>
                    <a:pt x="1712" y="567"/>
                  </a:lnTo>
                  <a:lnTo>
                    <a:pt x="1707" y="567"/>
                  </a:lnTo>
                  <a:lnTo>
                    <a:pt x="1701" y="572"/>
                  </a:lnTo>
                  <a:lnTo>
                    <a:pt x="1690" y="578"/>
                  </a:lnTo>
                  <a:lnTo>
                    <a:pt x="1685" y="583"/>
                  </a:lnTo>
                  <a:lnTo>
                    <a:pt x="1680" y="589"/>
                  </a:lnTo>
                  <a:lnTo>
                    <a:pt x="1669" y="594"/>
                  </a:lnTo>
                  <a:lnTo>
                    <a:pt x="1663" y="599"/>
                  </a:lnTo>
                  <a:lnTo>
                    <a:pt x="1658" y="605"/>
                  </a:lnTo>
                  <a:lnTo>
                    <a:pt x="1658" y="610"/>
                  </a:lnTo>
                  <a:lnTo>
                    <a:pt x="1652" y="616"/>
                  </a:lnTo>
                  <a:lnTo>
                    <a:pt x="1647" y="621"/>
                  </a:lnTo>
                  <a:lnTo>
                    <a:pt x="1636" y="621"/>
                  </a:lnTo>
                  <a:lnTo>
                    <a:pt x="1620" y="621"/>
                  </a:lnTo>
                  <a:lnTo>
                    <a:pt x="1614" y="616"/>
                  </a:lnTo>
                  <a:lnTo>
                    <a:pt x="1603" y="616"/>
                  </a:lnTo>
                  <a:lnTo>
                    <a:pt x="1592" y="610"/>
                  </a:lnTo>
                  <a:lnTo>
                    <a:pt x="1592" y="605"/>
                  </a:lnTo>
                  <a:lnTo>
                    <a:pt x="1598" y="599"/>
                  </a:lnTo>
                  <a:lnTo>
                    <a:pt x="1609" y="594"/>
                  </a:lnTo>
                  <a:lnTo>
                    <a:pt x="1609" y="589"/>
                  </a:lnTo>
                  <a:lnTo>
                    <a:pt x="1614" y="583"/>
                  </a:lnTo>
                  <a:lnTo>
                    <a:pt x="1620" y="578"/>
                  </a:lnTo>
                  <a:lnTo>
                    <a:pt x="1625" y="572"/>
                  </a:lnTo>
                  <a:lnTo>
                    <a:pt x="1630" y="567"/>
                  </a:lnTo>
                  <a:lnTo>
                    <a:pt x="1636" y="561"/>
                  </a:lnTo>
                  <a:lnTo>
                    <a:pt x="1636" y="556"/>
                  </a:lnTo>
                  <a:lnTo>
                    <a:pt x="1636" y="545"/>
                  </a:lnTo>
                  <a:lnTo>
                    <a:pt x="1641" y="540"/>
                  </a:lnTo>
                  <a:lnTo>
                    <a:pt x="1647" y="534"/>
                  </a:lnTo>
                  <a:lnTo>
                    <a:pt x="1652" y="529"/>
                  </a:lnTo>
                  <a:lnTo>
                    <a:pt x="1663" y="523"/>
                  </a:lnTo>
                  <a:lnTo>
                    <a:pt x="1669" y="518"/>
                  </a:lnTo>
                  <a:lnTo>
                    <a:pt x="1674" y="512"/>
                  </a:lnTo>
                  <a:lnTo>
                    <a:pt x="1680" y="507"/>
                  </a:lnTo>
                  <a:lnTo>
                    <a:pt x="1680" y="501"/>
                  </a:lnTo>
                  <a:lnTo>
                    <a:pt x="1685" y="490"/>
                  </a:lnTo>
                  <a:lnTo>
                    <a:pt x="1690" y="490"/>
                  </a:lnTo>
                  <a:lnTo>
                    <a:pt x="1701" y="490"/>
                  </a:lnTo>
                  <a:lnTo>
                    <a:pt x="1712" y="490"/>
                  </a:lnTo>
                  <a:lnTo>
                    <a:pt x="1723" y="490"/>
                  </a:lnTo>
                  <a:lnTo>
                    <a:pt x="1734" y="485"/>
                  </a:lnTo>
                  <a:lnTo>
                    <a:pt x="1740" y="480"/>
                  </a:lnTo>
                  <a:lnTo>
                    <a:pt x="1740" y="474"/>
                  </a:lnTo>
                  <a:lnTo>
                    <a:pt x="1734" y="463"/>
                  </a:lnTo>
                  <a:lnTo>
                    <a:pt x="1729" y="458"/>
                  </a:lnTo>
                  <a:lnTo>
                    <a:pt x="1718" y="458"/>
                  </a:lnTo>
                  <a:lnTo>
                    <a:pt x="1707" y="458"/>
                  </a:lnTo>
                  <a:lnTo>
                    <a:pt x="1696" y="458"/>
                  </a:lnTo>
                  <a:lnTo>
                    <a:pt x="1685" y="463"/>
                  </a:lnTo>
                  <a:lnTo>
                    <a:pt x="1674" y="463"/>
                  </a:lnTo>
                  <a:lnTo>
                    <a:pt x="1663" y="463"/>
                  </a:lnTo>
                  <a:lnTo>
                    <a:pt x="1658" y="463"/>
                  </a:lnTo>
                  <a:lnTo>
                    <a:pt x="1647" y="469"/>
                  </a:lnTo>
                  <a:lnTo>
                    <a:pt x="1636" y="469"/>
                  </a:lnTo>
                  <a:lnTo>
                    <a:pt x="1625" y="469"/>
                  </a:lnTo>
                  <a:lnTo>
                    <a:pt x="1614" y="474"/>
                  </a:lnTo>
                  <a:lnTo>
                    <a:pt x="1603" y="474"/>
                  </a:lnTo>
                  <a:lnTo>
                    <a:pt x="1592" y="474"/>
                  </a:lnTo>
                  <a:lnTo>
                    <a:pt x="1581" y="474"/>
                  </a:lnTo>
                  <a:lnTo>
                    <a:pt x="1576" y="480"/>
                  </a:lnTo>
                  <a:lnTo>
                    <a:pt x="1565" y="480"/>
                  </a:lnTo>
                  <a:lnTo>
                    <a:pt x="1560" y="485"/>
                  </a:lnTo>
                  <a:lnTo>
                    <a:pt x="1560" y="496"/>
                  </a:lnTo>
                  <a:lnTo>
                    <a:pt x="1554" y="501"/>
                  </a:lnTo>
                  <a:lnTo>
                    <a:pt x="1554" y="507"/>
                  </a:lnTo>
                  <a:lnTo>
                    <a:pt x="1554" y="512"/>
                  </a:lnTo>
                  <a:lnTo>
                    <a:pt x="1554" y="523"/>
                  </a:lnTo>
                  <a:lnTo>
                    <a:pt x="1554" y="529"/>
                  </a:lnTo>
                  <a:lnTo>
                    <a:pt x="1549" y="534"/>
                  </a:lnTo>
                  <a:lnTo>
                    <a:pt x="1549" y="540"/>
                  </a:lnTo>
                  <a:lnTo>
                    <a:pt x="1549" y="550"/>
                  </a:lnTo>
                  <a:lnTo>
                    <a:pt x="1543" y="556"/>
                  </a:lnTo>
                  <a:lnTo>
                    <a:pt x="1543" y="561"/>
                  </a:lnTo>
                  <a:lnTo>
                    <a:pt x="1538" y="567"/>
                  </a:lnTo>
                  <a:lnTo>
                    <a:pt x="1538" y="572"/>
                  </a:lnTo>
                  <a:lnTo>
                    <a:pt x="1543" y="583"/>
                  </a:lnTo>
                  <a:lnTo>
                    <a:pt x="1543" y="589"/>
                  </a:lnTo>
                  <a:lnTo>
                    <a:pt x="1549" y="594"/>
                  </a:lnTo>
                  <a:lnTo>
                    <a:pt x="1549" y="599"/>
                  </a:lnTo>
                  <a:lnTo>
                    <a:pt x="1549" y="605"/>
                  </a:lnTo>
                  <a:lnTo>
                    <a:pt x="1549" y="616"/>
                  </a:lnTo>
                  <a:lnTo>
                    <a:pt x="1538" y="621"/>
                  </a:lnTo>
                  <a:lnTo>
                    <a:pt x="1532" y="627"/>
                  </a:lnTo>
                  <a:lnTo>
                    <a:pt x="1527" y="632"/>
                  </a:lnTo>
                  <a:lnTo>
                    <a:pt x="1527" y="638"/>
                  </a:lnTo>
                  <a:lnTo>
                    <a:pt x="1521" y="643"/>
                  </a:lnTo>
                  <a:lnTo>
                    <a:pt x="1527" y="654"/>
                  </a:lnTo>
                  <a:lnTo>
                    <a:pt x="1527" y="654"/>
                  </a:lnTo>
                  <a:lnTo>
                    <a:pt x="1538" y="654"/>
                  </a:lnTo>
                  <a:lnTo>
                    <a:pt x="1543" y="649"/>
                  </a:lnTo>
                  <a:lnTo>
                    <a:pt x="1554" y="643"/>
                  </a:lnTo>
                  <a:lnTo>
                    <a:pt x="1565" y="643"/>
                  </a:lnTo>
                  <a:lnTo>
                    <a:pt x="1571" y="643"/>
                  </a:lnTo>
                  <a:lnTo>
                    <a:pt x="1576" y="649"/>
                  </a:lnTo>
                  <a:lnTo>
                    <a:pt x="1576" y="659"/>
                  </a:lnTo>
                  <a:lnTo>
                    <a:pt x="1581" y="665"/>
                  </a:lnTo>
                  <a:lnTo>
                    <a:pt x="1581" y="676"/>
                  </a:lnTo>
                  <a:lnTo>
                    <a:pt x="1581" y="681"/>
                  </a:lnTo>
                  <a:lnTo>
                    <a:pt x="1576" y="687"/>
                  </a:lnTo>
                  <a:lnTo>
                    <a:pt x="1576" y="698"/>
                  </a:lnTo>
                  <a:lnTo>
                    <a:pt x="1571" y="703"/>
                  </a:lnTo>
                  <a:lnTo>
                    <a:pt x="1571" y="708"/>
                  </a:lnTo>
                  <a:lnTo>
                    <a:pt x="1571" y="714"/>
                  </a:lnTo>
                  <a:lnTo>
                    <a:pt x="1571" y="719"/>
                  </a:lnTo>
                  <a:lnTo>
                    <a:pt x="1571" y="730"/>
                  </a:lnTo>
                  <a:lnTo>
                    <a:pt x="1571" y="736"/>
                  </a:lnTo>
                  <a:lnTo>
                    <a:pt x="1565" y="741"/>
                  </a:lnTo>
                  <a:lnTo>
                    <a:pt x="1565" y="747"/>
                  </a:lnTo>
                  <a:lnTo>
                    <a:pt x="1565" y="752"/>
                  </a:lnTo>
                  <a:lnTo>
                    <a:pt x="1565" y="763"/>
                  </a:lnTo>
                  <a:lnTo>
                    <a:pt x="1565" y="768"/>
                  </a:lnTo>
                  <a:lnTo>
                    <a:pt x="1565" y="779"/>
                  </a:lnTo>
                  <a:lnTo>
                    <a:pt x="1560" y="779"/>
                  </a:lnTo>
                  <a:lnTo>
                    <a:pt x="1554" y="779"/>
                  </a:lnTo>
                  <a:lnTo>
                    <a:pt x="1543" y="779"/>
                  </a:lnTo>
                  <a:lnTo>
                    <a:pt x="1532" y="768"/>
                  </a:lnTo>
                  <a:lnTo>
                    <a:pt x="1527" y="763"/>
                  </a:lnTo>
                  <a:lnTo>
                    <a:pt x="1521" y="774"/>
                  </a:lnTo>
                  <a:lnTo>
                    <a:pt x="1521" y="779"/>
                  </a:lnTo>
                  <a:lnTo>
                    <a:pt x="1516" y="785"/>
                  </a:lnTo>
                  <a:lnTo>
                    <a:pt x="1511" y="790"/>
                  </a:lnTo>
                  <a:lnTo>
                    <a:pt x="1505" y="796"/>
                  </a:lnTo>
                  <a:lnTo>
                    <a:pt x="1494" y="801"/>
                  </a:lnTo>
                  <a:lnTo>
                    <a:pt x="1494" y="790"/>
                  </a:lnTo>
                  <a:lnTo>
                    <a:pt x="1494" y="785"/>
                  </a:lnTo>
                  <a:lnTo>
                    <a:pt x="1489" y="779"/>
                  </a:lnTo>
                  <a:lnTo>
                    <a:pt x="1489" y="774"/>
                  </a:lnTo>
                  <a:lnTo>
                    <a:pt x="1483" y="768"/>
                  </a:lnTo>
                  <a:lnTo>
                    <a:pt x="1483" y="763"/>
                  </a:lnTo>
                  <a:lnTo>
                    <a:pt x="1483" y="752"/>
                  </a:lnTo>
                  <a:lnTo>
                    <a:pt x="1478" y="747"/>
                  </a:lnTo>
                  <a:lnTo>
                    <a:pt x="1478" y="741"/>
                  </a:lnTo>
                  <a:lnTo>
                    <a:pt x="1478" y="736"/>
                  </a:lnTo>
                  <a:lnTo>
                    <a:pt x="1478" y="725"/>
                  </a:lnTo>
                  <a:lnTo>
                    <a:pt x="1478" y="719"/>
                  </a:lnTo>
                  <a:lnTo>
                    <a:pt x="1472" y="714"/>
                  </a:lnTo>
                  <a:lnTo>
                    <a:pt x="1472" y="708"/>
                  </a:lnTo>
                  <a:lnTo>
                    <a:pt x="1472" y="703"/>
                  </a:lnTo>
                  <a:lnTo>
                    <a:pt x="1472" y="692"/>
                  </a:lnTo>
                  <a:lnTo>
                    <a:pt x="1472" y="687"/>
                  </a:lnTo>
                  <a:lnTo>
                    <a:pt x="1472" y="681"/>
                  </a:lnTo>
                  <a:lnTo>
                    <a:pt x="1467" y="676"/>
                  </a:lnTo>
                  <a:lnTo>
                    <a:pt x="1467" y="665"/>
                  </a:lnTo>
                  <a:lnTo>
                    <a:pt x="1461" y="670"/>
                  </a:lnTo>
                  <a:lnTo>
                    <a:pt x="1461" y="681"/>
                  </a:lnTo>
                  <a:lnTo>
                    <a:pt x="1461" y="687"/>
                  </a:lnTo>
                  <a:lnTo>
                    <a:pt x="1456" y="692"/>
                  </a:lnTo>
                  <a:lnTo>
                    <a:pt x="1456" y="698"/>
                  </a:lnTo>
                  <a:lnTo>
                    <a:pt x="1456" y="703"/>
                  </a:lnTo>
                  <a:lnTo>
                    <a:pt x="1456" y="708"/>
                  </a:lnTo>
                  <a:lnTo>
                    <a:pt x="1451" y="719"/>
                  </a:lnTo>
                  <a:lnTo>
                    <a:pt x="1451" y="725"/>
                  </a:lnTo>
                  <a:lnTo>
                    <a:pt x="1451" y="730"/>
                  </a:lnTo>
                  <a:lnTo>
                    <a:pt x="1445" y="736"/>
                  </a:lnTo>
                  <a:lnTo>
                    <a:pt x="1445" y="747"/>
                  </a:lnTo>
                  <a:lnTo>
                    <a:pt x="1440" y="752"/>
                  </a:lnTo>
                  <a:lnTo>
                    <a:pt x="1434" y="758"/>
                  </a:lnTo>
                  <a:lnTo>
                    <a:pt x="1434" y="763"/>
                  </a:lnTo>
                  <a:lnTo>
                    <a:pt x="1429" y="768"/>
                  </a:lnTo>
                  <a:lnTo>
                    <a:pt x="1423" y="779"/>
                  </a:lnTo>
                  <a:lnTo>
                    <a:pt x="1423" y="785"/>
                  </a:lnTo>
                  <a:lnTo>
                    <a:pt x="1418" y="790"/>
                  </a:lnTo>
                  <a:lnTo>
                    <a:pt x="1412" y="796"/>
                  </a:lnTo>
                  <a:lnTo>
                    <a:pt x="1407" y="801"/>
                  </a:lnTo>
                  <a:lnTo>
                    <a:pt x="1407" y="807"/>
                  </a:lnTo>
                  <a:lnTo>
                    <a:pt x="1401" y="812"/>
                  </a:lnTo>
                  <a:lnTo>
                    <a:pt x="1396" y="817"/>
                  </a:lnTo>
                  <a:lnTo>
                    <a:pt x="1391" y="828"/>
                  </a:lnTo>
                  <a:lnTo>
                    <a:pt x="1385" y="834"/>
                  </a:lnTo>
                  <a:lnTo>
                    <a:pt x="1380" y="839"/>
                  </a:lnTo>
                  <a:lnTo>
                    <a:pt x="1380" y="850"/>
                  </a:lnTo>
                  <a:lnTo>
                    <a:pt x="1374" y="850"/>
                  </a:lnTo>
                  <a:lnTo>
                    <a:pt x="1369" y="856"/>
                  </a:lnTo>
                  <a:lnTo>
                    <a:pt x="1358" y="850"/>
                  </a:lnTo>
                  <a:lnTo>
                    <a:pt x="1352" y="845"/>
                  </a:lnTo>
                  <a:lnTo>
                    <a:pt x="1347" y="834"/>
                  </a:lnTo>
                  <a:lnTo>
                    <a:pt x="1342" y="828"/>
                  </a:lnTo>
                  <a:lnTo>
                    <a:pt x="1342" y="817"/>
                  </a:lnTo>
                  <a:lnTo>
                    <a:pt x="1336" y="817"/>
                  </a:lnTo>
                  <a:lnTo>
                    <a:pt x="1336" y="823"/>
                  </a:lnTo>
                  <a:lnTo>
                    <a:pt x="1336" y="834"/>
                  </a:lnTo>
                  <a:lnTo>
                    <a:pt x="1336" y="839"/>
                  </a:lnTo>
                  <a:lnTo>
                    <a:pt x="1331" y="845"/>
                  </a:lnTo>
                  <a:lnTo>
                    <a:pt x="1331" y="850"/>
                  </a:lnTo>
                  <a:lnTo>
                    <a:pt x="1331" y="861"/>
                  </a:lnTo>
                  <a:lnTo>
                    <a:pt x="1331" y="867"/>
                  </a:lnTo>
                  <a:lnTo>
                    <a:pt x="1331" y="872"/>
                  </a:lnTo>
                  <a:lnTo>
                    <a:pt x="1325" y="877"/>
                  </a:lnTo>
                  <a:lnTo>
                    <a:pt x="1325" y="883"/>
                  </a:lnTo>
                  <a:lnTo>
                    <a:pt x="1325" y="894"/>
                  </a:lnTo>
                  <a:lnTo>
                    <a:pt x="1325" y="899"/>
                  </a:lnTo>
                  <a:lnTo>
                    <a:pt x="1325" y="905"/>
                  </a:lnTo>
                  <a:lnTo>
                    <a:pt x="1325" y="910"/>
                  </a:lnTo>
                  <a:lnTo>
                    <a:pt x="1320" y="921"/>
                  </a:lnTo>
                  <a:lnTo>
                    <a:pt x="1320" y="927"/>
                  </a:lnTo>
                  <a:lnTo>
                    <a:pt x="1320" y="932"/>
                  </a:lnTo>
                  <a:lnTo>
                    <a:pt x="1320" y="943"/>
                  </a:lnTo>
                  <a:lnTo>
                    <a:pt x="1314" y="948"/>
                  </a:lnTo>
                  <a:lnTo>
                    <a:pt x="1309" y="954"/>
                  </a:lnTo>
                  <a:lnTo>
                    <a:pt x="1303" y="959"/>
                  </a:lnTo>
                  <a:lnTo>
                    <a:pt x="1292" y="959"/>
                  </a:lnTo>
                  <a:lnTo>
                    <a:pt x="1282" y="959"/>
                  </a:lnTo>
                  <a:lnTo>
                    <a:pt x="1276" y="965"/>
                  </a:lnTo>
                  <a:lnTo>
                    <a:pt x="1271" y="976"/>
                  </a:lnTo>
                  <a:lnTo>
                    <a:pt x="1265" y="981"/>
                  </a:lnTo>
                  <a:lnTo>
                    <a:pt x="1265" y="986"/>
                  </a:lnTo>
                  <a:lnTo>
                    <a:pt x="1265" y="992"/>
                  </a:lnTo>
                  <a:lnTo>
                    <a:pt x="1265" y="997"/>
                  </a:lnTo>
                  <a:lnTo>
                    <a:pt x="1260" y="1008"/>
                  </a:lnTo>
                  <a:lnTo>
                    <a:pt x="1260" y="1014"/>
                  </a:lnTo>
                  <a:lnTo>
                    <a:pt x="1260" y="1019"/>
                  </a:lnTo>
                  <a:lnTo>
                    <a:pt x="1254" y="1025"/>
                  </a:lnTo>
                  <a:lnTo>
                    <a:pt x="1249" y="1030"/>
                  </a:lnTo>
                  <a:lnTo>
                    <a:pt x="1243" y="1036"/>
                  </a:lnTo>
                  <a:lnTo>
                    <a:pt x="1238" y="1046"/>
                  </a:lnTo>
                  <a:lnTo>
                    <a:pt x="1238" y="1052"/>
                  </a:lnTo>
                  <a:lnTo>
                    <a:pt x="1238" y="1057"/>
                  </a:lnTo>
                  <a:lnTo>
                    <a:pt x="1232" y="1063"/>
                  </a:lnTo>
                  <a:lnTo>
                    <a:pt x="1232" y="1068"/>
                  </a:lnTo>
                  <a:lnTo>
                    <a:pt x="1227" y="1079"/>
                  </a:lnTo>
                  <a:lnTo>
                    <a:pt x="1227" y="1085"/>
                  </a:lnTo>
                  <a:lnTo>
                    <a:pt x="1222" y="1090"/>
                  </a:lnTo>
                  <a:lnTo>
                    <a:pt x="1216" y="1095"/>
                  </a:lnTo>
                  <a:lnTo>
                    <a:pt x="1211" y="1101"/>
                  </a:lnTo>
                  <a:lnTo>
                    <a:pt x="1211" y="1106"/>
                  </a:lnTo>
                  <a:lnTo>
                    <a:pt x="1211" y="1117"/>
                  </a:lnTo>
                  <a:lnTo>
                    <a:pt x="1205" y="1123"/>
                  </a:lnTo>
                  <a:lnTo>
                    <a:pt x="1205" y="1128"/>
                  </a:lnTo>
                  <a:lnTo>
                    <a:pt x="1200" y="1134"/>
                  </a:lnTo>
                  <a:lnTo>
                    <a:pt x="1194" y="1139"/>
                  </a:lnTo>
                  <a:lnTo>
                    <a:pt x="1183" y="1145"/>
                  </a:lnTo>
                  <a:lnTo>
                    <a:pt x="1178" y="1150"/>
                  </a:lnTo>
                  <a:lnTo>
                    <a:pt x="1172" y="1155"/>
                  </a:lnTo>
                  <a:lnTo>
                    <a:pt x="1162" y="1155"/>
                  </a:lnTo>
                  <a:lnTo>
                    <a:pt x="1151" y="1155"/>
                  </a:lnTo>
                  <a:lnTo>
                    <a:pt x="1140" y="1161"/>
                  </a:lnTo>
                  <a:lnTo>
                    <a:pt x="1129" y="1161"/>
                  </a:lnTo>
                  <a:lnTo>
                    <a:pt x="1118" y="1166"/>
                  </a:lnTo>
                  <a:lnTo>
                    <a:pt x="1113" y="1166"/>
                  </a:lnTo>
                  <a:lnTo>
                    <a:pt x="1102" y="1161"/>
                  </a:lnTo>
                  <a:lnTo>
                    <a:pt x="1096" y="1155"/>
                  </a:lnTo>
                  <a:lnTo>
                    <a:pt x="1091" y="1150"/>
                  </a:lnTo>
                  <a:lnTo>
                    <a:pt x="1085" y="1139"/>
                  </a:lnTo>
                  <a:lnTo>
                    <a:pt x="1085" y="1134"/>
                  </a:lnTo>
                  <a:lnTo>
                    <a:pt x="1085" y="1128"/>
                  </a:lnTo>
                  <a:lnTo>
                    <a:pt x="1085" y="1123"/>
                  </a:lnTo>
                  <a:lnTo>
                    <a:pt x="1085" y="1112"/>
                  </a:lnTo>
                  <a:lnTo>
                    <a:pt x="1091" y="1106"/>
                  </a:lnTo>
                  <a:lnTo>
                    <a:pt x="1091" y="1101"/>
                  </a:lnTo>
                  <a:lnTo>
                    <a:pt x="1096" y="1095"/>
                  </a:lnTo>
                  <a:lnTo>
                    <a:pt x="1102" y="1090"/>
                  </a:lnTo>
                  <a:lnTo>
                    <a:pt x="1102" y="1079"/>
                  </a:lnTo>
                  <a:lnTo>
                    <a:pt x="1107" y="1074"/>
                  </a:lnTo>
                  <a:lnTo>
                    <a:pt x="1107" y="1068"/>
                  </a:lnTo>
                  <a:lnTo>
                    <a:pt x="1113" y="1063"/>
                  </a:lnTo>
                  <a:lnTo>
                    <a:pt x="1113" y="1057"/>
                  </a:lnTo>
                  <a:lnTo>
                    <a:pt x="1123" y="1052"/>
                  </a:lnTo>
                  <a:lnTo>
                    <a:pt x="1129" y="1046"/>
                  </a:lnTo>
                  <a:lnTo>
                    <a:pt x="1134" y="1041"/>
                  </a:lnTo>
                  <a:lnTo>
                    <a:pt x="1145" y="1036"/>
                  </a:lnTo>
                  <a:lnTo>
                    <a:pt x="1156" y="1036"/>
                  </a:lnTo>
                  <a:lnTo>
                    <a:pt x="1167" y="1041"/>
                  </a:lnTo>
                  <a:lnTo>
                    <a:pt x="1172" y="1041"/>
                  </a:lnTo>
                  <a:lnTo>
                    <a:pt x="1183" y="1041"/>
                  </a:lnTo>
                  <a:lnTo>
                    <a:pt x="1189" y="1036"/>
                  </a:lnTo>
                  <a:lnTo>
                    <a:pt x="1194" y="1030"/>
                  </a:lnTo>
                  <a:lnTo>
                    <a:pt x="1200" y="1019"/>
                  </a:lnTo>
                  <a:lnTo>
                    <a:pt x="1205" y="1014"/>
                  </a:lnTo>
                  <a:lnTo>
                    <a:pt x="1211" y="1008"/>
                  </a:lnTo>
                  <a:lnTo>
                    <a:pt x="1216" y="1003"/>
                  </a:lnTo>
                  <a:lnTo>
                    <a:pt x="1227" y="997"/>
                  </a:lnTo>
                  <a:lnTo>
                    <a:pt x="1232" y="992"/>
                  </a:lnTo>
                  <a:lnTo>
                    <a:pt x="1227" y="986"/>
                  </a:lnTo>
                  <a:lnTo>
                    <a:pt x="1222" y="981"/>
                  </a:lnTo>
                  <a:lnTo>
                    <a:pt x="1211" y="981"/>
                  </a:lnTo>
                  <a:lnTo>
                    <a:pt x="1205" y="976"/>
                  </a:lnTo>
                  <a:lnTo>
                    <a:pt x="1200" y="965"/>
                  </a:lnTo>
                  <a:lnTo>
                    <a:pt x="1194" y="959"/>
                  </a:lnTo>
                  <a:lnTo>
                    <a:pt x="1194" y="954"/>
                  </a:lnTo>
                  <a:lnTo>
                    <a:pt x="1194" y="948"/>
                  </a:lnTo>
                  <a:lnTo>
                    <a:pt x="1189" y="943"/>
                  </a:lnTo>
                  <a:lnTo>
                    <a:pt x="1189" y="932"/>
                  </a:lnTo>
                  <a:lnTo>
                    <a:pt x="1189" y="927"/>
                  </a:lnTo>
                  <a:lnTo>
                    <a:pt x="1189" y="921"/>
                  </a:lnTo>
                  <a:lnTo>
                    <a:pt x="1189" y="916"/>
                  </a:lnTo>
                  <a:lnTo>
                    <a:pt x="1183" y="905"/>
                  </a:lnTo>
                  <a:lnTo>
                    <a:pt x="1183" y="899"/>
                  </a:lnTo>
                  <a:lnTo>
                    <a:pt x="1183" y="894"/>
                  </a:lnTo>
                  <a:lnTo>
                    <a:pt x="1178" y="888"/>
                  </a:lnTo>
                  <a:lnTo>
                    <a:pt x="1178" y="877"/>
                  </a:lnTo>
                  <a:lnTo>
                    <a:pt x="1172" y="872"/>
                  </a:lnTo>
                  <a:lnTo>
                    <a:pt x="1172" y="867"/>
                  </a:lnTo>
                  <a:lnTo>
                    <a:pt x="1167" y="861"/>
                  </a:lnTo>
                  <a:lnTo>
                    <a:pt x="1167" y="856"/>
                  </a:lnTo>
                  <a:lnTo>
                    <a:pt x="1162" y="845"/>
                  </a:lnTo>
                  <a:lnTo>
                    <a:pt x="1162" y="839"/>
                  </a:lnTo>
                  <a:lnTo>
                    <a:pt x="1162" y="834"/>
                  </a:lnTo>
                  <a:lnTo>
                    <a:pt x="1162" y="828"/>
                  </a:lnTo>
                  <a:lnTo>
                    <a:pt x="1156" y="823"/>
                  </a:lnTo>
                  <a:lnTo>
                    <a:pt x="1156" y="812"/>
                  </a:lnTo>
                  <a:lnTo>
                    <a:pt x="1156" y="807"/>
                  </a:lnTo>
                  <a:lnTo>
                    <a:pt x="1162" y="801"/>
                  </a:lnTo>
                  <a:lnTo>
                    <a:pt x="1162" y="790"/>
                  </a:lnTo>
                  <a:lnTo>
                    <a:pt x="1162" y="785"/>
                  </a:lnTo>
                  <a:lnTo>
                    <a:pt x="1162" y="779"/>
                  </a:lnTo>
                  <a:lnTo>
                    <a:pt x="1162" y="774"/>
                  </a:lnTo>
                  <a:lnTo>
                    <a:pt x="1156" y="768"/>
                  </a:lnTo>
                  <a:lnTo>
                    <a:pt x="1145" y="763"/>
                  </a:lnTo>
                  <a:lnTo>
                    <a:pt x="1140" y="758"/>
                  </a:lnTo>
                  <a:lnTo>
                    <a:pt x="1140" y="747"/>
                  </a:lnTo>
                  <a:lnTo>
                    <a:pt x="1140" y="741"/>
                  </a:lnTo>
                  <a:lnTo>
                    <a:pt x="1134" y="736"/>
                  </a:lnTo>
                  <a:lnTo>
                    <a:pt x="1134" y="730"/>
                  </a:lnTo>
                  <a:lnTo>
                    <a:pt x="1134" y="719"/>
                  </a:lnTo>
                  <a:lnTo>
                    <a:pt x="1129" y="714"/>
                  </a:lnTo>
                  <a:lnTo>
                    <a:pt x="1129" y="708"/>
                  </a:lnTo>
                  <a:lnTo>
                    <a:pt x="1129" y="703"/>
                  </a:lnTo>
                  <a:lnTo>
                    <a:pt x="1129" y="698"/>
                  </a:lnTo>
                  <a:lnTo>
                    <a:pt x="1129" y="687"/>
                  </a:lnTo>
                  <a:lnTo>
                    <a:pt x="1129" y="681"/>
                  </a:lnTo>
                  <a:lnTo>
                    <a:pt x="1129" y="676"/>
                  </a:lnTo>
                  <a:lnTo>
                    <a:pt x="1129" y="670"/>
                  </a:lnTo>
                  <a:lnTo>
                    <a:pt x="1123" y="659"/>
                  </a:lnTo>
                  <a:lnTo>
                    <a:pt x="1123" y="654"/>
                  </a:lnTo>
                  <a:lnTo>
                    <a:pt x="1118" y="649"/>
                  </a:lnTo>
                  <a:lnTo>
                    <a:pt x="1118" y="643"/>
                  </a:lnTo>
                  <a:lnTo>
                    <a:pt x="1113" y="638"/>
                  </a:lnTo>
                  <a:lnTo>
                    <a:pt x="1113" y="627"/>
                  </a:lnTo>
                  <a:lnTo>
                    <a:pt x="1107" y="621"/>
                  </a:lnTo>
                  <a:lnTo>
                    <a:pt x="1107" y="616"/>
                  </a:lnTo>
                  <a:lnTo>
                    <a:pt x="1102" y="610"/>
                  </a:lnTo>
                  <a:lnTo>
                    <a:pt x="1102" y="605"/>
                  </a:lnTo>
                  <a:lnTo>
                    <a:pt x="1096" y="594"/>
                  </a:lnTo>
                  <a:lnTo>
                    <a:pt x="1091" y="589"/>
                  </a:lnTo>
                  <a:lnTo>
                    <a:pt x="1085" y="583"/>
                  </a:lnTo>
                  <a:lnTo>
                    <a:pt x="1080" y="578"/>
                  </a:lnTo>
                  <a:lnTo>
                    <a:pt x="1074" y="572"/>
                  </a:lnTo>
                  <a:lnTo>
                    <a:pt x="1080" y="567"/>
                  </a:lnTo>
                  <a:lnTo>
                    <a:pt x="1085" y="567"/>
                  </a:lnTo>
                  <a:lnTo>
                    <a:pt x="1096" y="572"/>
                  </a:lnTo>
                  <a:lnTo>
                    <a:pt x="1102" y="578"/>
                  </a:lnTo>
                  <a:lnTo>
                    <a:pt x="1107" y="583"/>
                  </a:lnTo>
                  <a:lnTo>
                    <a:pt x="1113" y="589"/>
                  </a:lnTo>
                  <a:lnTo>
                    <a:pt x="1118" y="594"/>
                  </a:lnTo>
                  <a:lnTo>
                    <a:pt x="1129" y="599"/>
                  </a:lnTo>
                  <a:lnTo>
                    <a:pt x="1134" y="605"/>
                  </a:lnTo>
                  <a:lnTo>
                    <a:pt x="1140" y="610"/>
                  </a:lnTo>
                  <a:lnTo>
                    <a:pt x="1145" y="616"/>
                  </a:lnTo>
                  <a:lnTo>
                    <a:pt x="1151" y="621"/>
                  </a:lnTo>
                  <a:lnTo>
                    <a:pt x="1156" y="616"/>
                  </a:lnTo>
                  <a:lnTo>
                    <a:pt x="1162" y="610"/>
                  </a:lnTo>
                  <a:lnTo>
                    <a:pt x="1167" y="605"/>
                  </a:lnTo>
                  <a:lnTo>
                    <a:pt x="1167" y="594"/>
                  </a:lnTo>
                  <a:lnTo>
                    <a:pt x="1167" y="589"/>
                  </a:lnTo>
                  <a:lnTo>
                    <a:pt x="1167" y="583"/>
                  </a:lnTo>
                  <a:lnTo>
                    <a:pt x="1162" y="578"/>
                  </a:lnTo>
                  <a:lnTo>
                    <a:pt x="1162" y="572"/>
                  </a:lnTo>
                  <a:lnTo>
                    <a:pt x="1162" y="561"/>
                  </a:lnTo>
                  <a:lnTo>
                    <a:pt x="1156" y="556"/>
                  </a:lnTo>
                  <a:lnTo>
                    <a:pt x="1156" y="550"/>
                  </a:lnTo>
                  <a:lnTo>
                    <a:pt x="1156" y="545"/>
                  </a:lnTo>
                  <a:lnTo>
                    <a:pt x="1151" y="534"/>
                  </a:lnTo>
                  <a:lnTo>
                    <a:pt x="1151" y="529"/>
                  </a:lnTo>
                  <a:lnTo>
                    <a:pt x="1151" y="523"/>
                  </a:lnTo>
                  <a:lnTo>
                    <a:pt x="1145" y="518"/>
                  </a:lnTo>
                  <a:lnTo>
                    <a:pt x="1145" y="507"/>
                  </a:lnTo>
                  <a:lnTo>
                    <a:pt x="1145" y="501"/>
                  </a:lnTo>
                  <a:lnTo>
                    <a:pt x="1140" y="496"/>
                  </a:lnTo>
                  <a:lnTo>
                    <a:pt x="1140" y="490"/>
                  </a:lnTo>
                  <a:lnTo>
                    <a:pt x="1140" y="485"/>
                  </a:lnTo>
                  <a:lnTo>
                    <a:pt x="1134" y="474"/>
                  </a:lnTo>
                  <a:lnTo>
                    <a:pt x="1134" y="469"/>
                  </a:lnTo>
                  <a:lnTo>
                    <a:pt x="1134" y="463"/>
                  </a:lnTo>
                  <a:lnTo>
                    <a:pt x="1129" y="458"/>
                  </a:lnTo>
                  <a:lnTo>
                    <a:pt x="1129" y="447"/>
                  </a:lnTo>
                  <a:lnTo>
                    <a:pt x="1129" y="441"/>
                  </a:lnTo>
                  <a:lnTo>
                    <a:pt x="1123" y="436"/>
                  </a:lnTo>
                  <a:lnTo>
                    <a:pt x="1123" y="431"/>
                  </a:lnTo>
                  <a:lnTo>
                    <a:pt x="1123" y="425"/>
                  </a:lnTo>
                  <a:lnTo>
                    <a:pt x="1118" y="414"/>
                  </a:lnTo>
                  <a:lnTo>
                    <a:pt x="1118" y="409"/>
                  </a:lnTo>
                  <a:lnTo>
                    <a:pt x="1118" y="403"/>
                  </a:lnTo>
                  <a:lnTo>
                    <a:pt x="1113" y="398"/>
                  </a:lnTo>
                  <a:lnTo>
                    <a:pt x="1113" y="387"/>
                  </a:lnTo>
                  <a:lnTo>
                    <a:pt x="1113" y="381"/>
                  </a:lnTo>
                  <a:lnTo>
                    <a:pt x="1118" y="376"/>
                  </a:lnTo>
                  <a:lnTo>
                    <a:pt x="1129" y="376"/>
                  </a:lnTo>
                  <a:lnTo>
                    <a:pt x="1140" y="371"/>
                  </a:lnTo>
                  <a:lnTo>
                    <a:pt x="1151" y="371"/>
                  </a:lnTo>
                  <a:lnTo>
                    <a:pt x="1156" y="365"/>
                  </a:lnTo>
                  <a:lnTo>
                    <a:pt x="1167" y="360"/>
                  </a:lnTo>
                  <a:lnTo>
                    <a:pt x="1172" y="354"/>
                  </a:lnTo>
                  <a:lnTo>
                    <a:pt x="1178" y="349"/>
                  </a:lnTo>
                  <a:lnTo>
                    <a:pt x="1183" y="343"/>
                  </a:lnTo>
                  <a:lnTo>
                    <a:pt x="1189" y="338"/>
                  </a:lnTo>
                  <a:lnTo>
                    <a:pt x="1194" y="332"/>
                  </a:lnTo>
                  <a:lnTo>
                    <a:pt x="1205" y="327"/>
                  </a:lnTo>
                  <a:lnTo>
                    <a:pt x="1216" y="327"/>
                  </a:lnTo>
                  <a:lnTo>
                    <a:pt x="1227" y="327"/>
                  </a:lnTo>
                  <a:lnTo>
                    <a:pt x="1238" y="327"/>
                  </a:lnTo>
                  <a:lnTo>
                    <a:pt x="1243" y="327"/>
                  </a:lnTo>
                  <a:lnTo>
                    <a:pt x="1249" y="316"/>
                  </a:lnTo>
                  <a:lnTo>
                    <a:pt x="1254" y="311"/>
                  </a:lnTo>
                  <a:lnTo>
                    <a:pt x="1260" y="305"/>
                  </a:lnTo>
                  <a:lnTo>
                    <a:pt x="1271" y="300"/>
                  </a:lnTo>
                  <a:lnTo>
                    <a:pt x="1276" y="300"/>
                  </a:lnTo>
                  <a:lnTo>
                    <a:pt x="1287" y="294"/>
                  </a:lnTo>
                  <a:lnTo>
                    <a:pt x="1298" y="294"/>
                  </a:lnTo>
                  <a:lnTo>
                    <a:pt x="1309" y="294"/>
                  </a:lnTo>
                  <a:lnTo>
                    <a:pt x="1314" y="289"/>
                  </a:lnTo>
                  <a:lnTo>
                    <a:pt x="1320" y="283"/>
                  </a:lnTo>
                  <a:lnTo>
                    <a:pt x="1325" y="272"/>
                  </a:lnTo>
                  <a:lnTo>
                    <a:pt x="1331" y="267"/>
                  </a:lnTo>
                  <a:lnTo>
                    <a:pt x="1336" y="262"/>
                  </a:lnTo>
                  <a:lnTo>
                    <a:pt x="1347" y="262"/>
                  </a:lnTo>
                  <a:lnTo>
                    <a:pt x="1352" y="256"/>
                  </a:lnTo>
                  <a:lnTo>
                    <a:pt x="1363" y="256"/>
                  </a:lnTo>
                  <a:lnTo>
                    <a:pt x="1369" y="251"/>
                  </a:lnTo>
                  <a:lnTo>
                    <a:pt x="1380" y="251"/>
                  </a:lnTo>
                  <a:lnTo>
                    <a:pt x="1391" y="251"/>
                  </a:lnTo>
                  <a:lnTo>
                    <a:pt x="1401" y="256"/>
                  </a:lnTo>
                  <a:lnTo>
                    <a:pt x="1407" y="251"/>
                  </a:lnTo>
                  <a:lnTo>
                    <a:pt x="1412" y="245"/>
                  </a:lnTo>
                  <a:lnTo>
                    <a:pt x="1412" y="240"/>
                  </a:lnTo>
                  <a:lnTo>
                    <a:pt x="1412" y="229"/>
                  </a:lnTo>
                  <a:lnTo>
                    <a:pt x="1418" y="218"/>
                  </a:lnTo>
                  <a:lnTo>
                    <a:pt x="1418" y="213"/>
                  </a:lnTo>
                  <a:lnTo>
                    <a:pt x="1429" y="207"/>
                  </a:lnTo>
                  <a:lnTo>
                    <a:pt x="1434" y="202"/>
                  </a:lnTo>
                  <a:lnTo>
                    <a:pt x="1445" y="202"/>
                  </a:lnTo>
                  <a:lnTo>
                    <a:pt x="1456" y="196"/>
                  </a:lnTo>
                  <a:lnTo>
                    <a:pt x="1461" y="196"/>
                  </a:lnTo>
                  <a:lnTo>
                    <a:pt x="1472" y="196"/>
                  </a:lnTo>
                  <a:lnTo>
                    <a:pt x="1478" y="202"/>
                  </a:lnTo>
                  <a:lnTo>
                    <a:pt x="1483" y="207"/>
                  </a:lnTo>
                  <a:lnTo>
                    <a:pt x="1489" y="218"/>
                  </a:lnTo>
                  <a:lnTo>
                    <a:pt x="1494" y="223"/>
                  </a:lnTo>
                  <a:lnTo>
                    <a:pt x="1500" y="218"/>
                  </a:lnTo>
                  <a:lnTo>
                    <a:pt x="1505" y="213"/>
                  </a:lnTo>
                  <a:lnTo>
                    <a:pt x="1505" y="207"/>
                  </a:lnTo>
                  <a:lnTo>
                    <a:pt x="1505" y="202"/>
                  </a:lnTo>
                  <a:lnTo>
                    <a:pt x="1505" y="191"/>
                  </a:lnTo>
                  <a:lnTo>
                    <a:pt x="1511" y="185"/>
                  </a:lnTo>
                  <a:lnTo>
                    <a:pt x="1516" y="180"/>
                  </a:lnTo>
                  <a:lnTo>
                    <a:pt x="1521" y="174"/>
                  </a:lnTo>
                  <a:lnTo>
                    <a:pt x="1532" y="169"/>
                  </a:lnTo>
                  <a:lnTo>
                    <a:pt x="1538" y="169"/>
                  </a:lnTo>
                  <a:lnTo>
                    <a:pt x="1549" y="163"/>
                  </a:lnTo>
                  <a:lnTo>
                    <a:pt x="1560" y="158"/>
                  </a:lnTo>
                  <a:lnTo>
                    <a:pt x="1571" y="158"/>
                  </a:lnTo>
                  <a:lnTo>
                    <a:pt x="1576" y="158"/>
                  </a:lnTo>
                  <a:lnTo>
                    <a:pt x="1587" y="158"/>
                  </a:lnTo>
                  <a:lnTo>
                    <a:pt x="1598" y="153"/>
                  </a:lnTo>
                  <a:lnTo>
                    <a:pt x="1609" y="153"/>
                  </a:lnTo>
                  <a:lnTo>
                    <a:pt x="1614" y="147"/>
                  </a:lnTo>
                  <a:lnTo>
                    <a:pt x="1625" y="142"/>
                  </a:lnTo>
                  <a:lnTo>
                    <a:pt x="1630" y="136"/>
                  </a:lnTo>
                  <a:lnTo>
                    <a:pt x="1641" y="136"/>
                  </a:lnTo>
                  <a:lnTo>
                    <a:pt x="1647" y="131"/>
                  </a:lnTo>
                  <a:lnTo>
                    <a:pt x="1658" y="125"/>
                  </a:lnTo>
                  <a:lnTo>
                    <a:pt x="1663" y="120"/>
                  </a:lnTo>
                  <a:lnTo>
                    <a:pt x="1674" y="114"/>
                  </a:lnTo>
                  <a:lnTo>
                    <a:pt x="1680" y="114"/>
                  </a:lnTo>
                  <a:lnTo>
                    <a:pt x="1690" y="109"/>
                  </a:lnTo>
                  <a:lnTo>
                    <a:pt x="1696" y="109"/>
                  </a:lnTo>
                  <a:lnTo>
                    <a:pt x="1707" y="104"/>
                  </a:lnTo>
                  <a:lnTo>
                    <a:pt x="1718" y="104"/>
                  </a:lnTo>
                  <a:lnTo>
                    <a:pt x="1729" y="98"/>
                  </a:lnTo>
                  <a:lnTo>
                    <a:pt x="1740" y="98"/>
                  </a:lnTo>
                  <a:lnTo>
                    <a:pt x="1745" y="93"/>
                  </a:lnTo>
                  <a:lnTo>
                    <a:pt x="1756" y="87"/>
                  </a:lnTo>
                  <a:lnTo>
                    <a:pt x="1761" y="82"/>
                  </a:lnTo>
                  <a:lnTo>
                    <a:pt x="1767" y="76"/>
                  </a:lnTo>
                  <a:lnTo>
                    <a:pt x="1778" y="71"/>
                  </a:lnTo>
                  <a:lnTo>
                    <a:pt x="1783" y="71"/>
                  </a:lnTo>
                  <a:lnTo>
                    <a:pt x="1794" y="65"/>
                  </a:lnTo>
                  <a:lnTo>
                    <a:pt x="1805" y="65"/>
                  </a:lnTo>
                  <a:lnTo>
                    <a:pt x="1810" y="60"/>
                  </a:lnTo>
                  <a:lnTo>
                    <a:pt x="1810" y="49"/>
                  </a:lnTo>
                  <a:lnTo>
                    <a:pt x="1821" y="49"/>
                  </a:lnTo>
                  <a:lnTo>
                    <a:pt x="1832" y="49"/>
                  </a:lnTo>
                  <a:lnTo>
                    <a:pt x="1843" y="49"/>
                  </a:lnTo>
                  <a:lnTo>
                    <a:pt x="1854" y="49"/>
                  </a:lnTo>
                  <a:lnTo>
                    <a:pt x="1859" y="44"/>
                  </a:lnTo>
                  <a:lnTo>
                    <a:pt x="1865" y="38"/>
                  </a:lnTo>
                  <a:lnTo>
                    <a:pt x="1870" y="33"/>
                  </a:lnTo>
                  <a:lnTo>
                    <a:pt x="1881" y="27"/>
                  </a:lnTo>
                  <a:lnTo>
                    <a:pt x="1887" y="22"/>
                  </a:lnTo>
                  <a:lnTo>
                    <a:pt x="1898" y="22"/>
                  </a:lnTo>
                  <a:lnTo>
                    <a:pt x="1909" y="16"/>
                  </a:lnTo>
                  <a:lnTo>
                    <a:pt x="1914" y="16"/>
                  </a:lnTo>
                  <a:lnTo>
                    <a:pt x="1925" y="11"/>
                  </a:lnTo>
                  <a:lnTo>
                    <a:pt x="1936" y="11"/>
                  </a:lnTo>
                  <a:lnTo>
                    <a:pt x="1947" y="5"/>
                  </a:lnTo>
                  <a:lnTo>
                    <a:pt x="1958" y="5"/>
                  </a:lnTo>
                  <a:lnTo>
                    <a:pt x="1963" y="0"/>
                  </a:lnTo>
                  <a:lnTo>
                    <a:pt x="1941" y="0"/>
                  </a:lnTo>
                  <a:lnTo>
                    <a:pt x="1909" y="0"/>
                  </a:lnTo>
                  <a:lnTo>
                    <a:pt x="1876" y="0"/>
                  </a:lnTo>
                  <a:lnTo>
                    <a:pt x="1849" y="0"/>
                  </a:lnTo>
                  <a:lnTo>
                    <a:pt x="1816" y="0"/>
                  </a:lnTo>
                  <a:lnTo>
                    <a:pt x="1783" y="0"/>
                  </a:lnTo>
                  <a:lnTo>
                    <a:pt x="1750" y="0"/>
                  </a:lnTo>
                  <a:lnTo>
                    <a:pt x="1718" y="0"/>
                  </a:lnTo>
                  <a:lnTo>
                    <a:pt x="1685" y="0"/>
                  </a:lnTo>
                  <a:lnTo>
                    <a:pt x="1658" y="0"/>
                  </a:lnTo>
                  <a:lnTo>
                    <a:pt x="1625" y="0"/>
                  </a:lnTo>
                  <a:lnTo>
                    <a:pt x="1592" y="0"/>
                  </a:lnTo>
                  <a:lnTo>
                    <a:pt x="1560" y="0"/>
                  </a:lnTo>
                  <a:lnTo>
                    <a:pt x="1527" y="0"/>
                  </a:lnTo>
                  <a:lnTo>
                    <a:pt x="1494" y="0"/>
                  </a:lnTo>
                  <a:lnTo>
                    <a:pt x="1467" y="0"/>
                  </a:lnTo>
                  <a:lnTo>
                    <a:pt x="1434" y="0"/>
                  </a:lnTo>
                  <a:lnTo>
                    <a:pt x="1401" y="0"/>
                  </a:lnTo>
                  <a:lnTo>
                    <a:pt x="1369" y="0"/>
                  </a:lnTo>
                  <a:lnTo>
                    <a:pt x="1336" y="0"/>
                  </a:lnTo>
                  <a:lnTo>
                    <a:pt x="1303" y="0"/>
                  </a:lnTo>
                  <a:lnTo>
                    <a:pt x="1276" y="0"/>
                  </a:lnTo>
                  <a:lnTo>
                    <a:pt x="1243" y="0"/>
                  </a:lnTo>
                  <a:lnTo>
                    <a:pt x="1211" y="0"/>
                  </a:lnTo>
                  <a:lnTo>
                    <a:pt x="1178" y="0"/>
                  </a:lnTo>
                  <a:lnTo>
                    <a:pt x="1145" y="0"/>
                  </a:lnTo>
                  <a:lnTo>
                    <a:pt x="1113" y="0"/>
                  </a:lnTo>
                  <a:lnTo>
                    <a:pt x="1085" y="0"/>
                  </a:lnTo>
                  <a:lnTo>
                    <a:pt x="1053" y="0"/>
                  </a:lnTo>
                  <a:lnTo>
                    <a:pt x="1020" y="0"/>
                  </a:lnTo>
                  <a:lnTo>
                    <a:pt x="987" y="0"/>
                  </a:lnTo>
                  <a:lnTo>
                    <a:pt x="954" y="0"/>
                  </a:lnTo>
                  <a:lnTo>
                    <a:pt x="922" y="0"/>
                  </a:lnTo>
                  <a:lnTo>
                    <a:pt x="894" y="0"/>
                  </a:lnTo>
                  <a:lnTo>
                    <a:pt x="862" y="0"/>
                  </a:lnTo>
                  <a:lnTo>
                    <a:pt x="829" y="0"/>
                  </a:lnTo>
                  <a:lnTo>
                    <a:pt x="796" y="0"/>
                  </a:lnTo>
                  <a:lnTo>
                    <a:pt x="764" y="0"/>
                  </a:lnTo>
                  <a:lnTo>
                    <a:pt x="731" y="0"/>
                  </a:lnTo>
                  <a:lnTo>
                    <a:pt x="704" y="33"/>
                  </a:lnTo>
                  <a:lnTo>
                    <a:pt x="671" y="65"/>
                  </a:lnTo>
                  <a:lnTo>
                    <a:pt x="638" y="98"/>
                  </a:lnTo>
                  <a:lnTo>
                    <a:pt x="605" y="125"/>
                  </a:lnTo>
                  <a:lnTo>
                    <a:pt x="573" y="158"/>
                  </a:lnTo>
                  <a:lnTo>
                    <a:pt x="545" y="158"/>
                  </a:lnTo>
                  <a:lnTo>
                    <a:pt x="513" y="191"/>
                  </a:lnTo>
                  <a:lnTo>
                    <a:pt x="480" y="223"/>
                  </a:lnTo>
                  <a:lnTo>
                    <a:pt x="447" y="256"/>
                  </a:lnTo>
                  <a:lnTo>
                    <a:pt x="415" y="289"/>
                  </a:lnTo>
                  <a:lnTo>
                    <a:pt x="382" y="322"/>
                  </a:lnTo>
                  <a:lnTo>
                    <a:pt x="355" y="354"/>
                  </a:lnTo>
                  <a:lnTo>
                    <a:pt x="322" y="381"/>
                  </a:lnTo>
                  <a:lnTo>
                    <a:pt x="289" y="381"/>
                  </a:lnTo>
                  <a:lnTo>
                    <a:pt x="257" y="414"/>
                  </a:lnTo>
                  <a:lnTo>
                    <a:pt x="257" y="441"/>
                  </a:lnTo>
                  <a:lnTo>
                    <a:pt x="262" y="441"/>
                  </a:lnTo>
                  <a:lnTo>
                    <a:pt x="267" y="447"/>
                  </a:lnTo>
                  <a:lnTo>
                    <a:pt x="267" y="452"/>
                  </a:lnTo>
                  <a:lnTo>
                    <a:pt x="267" y="452"/>
                  </a:lnTo>
                  <a:lnTo>
                    <a:pt x="262" y="458"/>
                  </a:lnTo>
                  <a:lnTo>
                    <a:pt x="257" y="463"/>
                  </a:lnTo>
                  <a:lnTo>
                    <a:pt x="251" y="463"/>
                  </a:lnTo>
                  <a:lnTo>
                    <a:pt x="251" y="469"/>
                  </a:lnTo>
                  <a:lnTo>
                    <a:pt x="246" y="474"/>
                  </a:lnTo>
                  <a:lnTo>
                    <a:pt x="240" y="474"/>
                  </a:lnTo>
                  <a:lnTo>
                    <a:pt x="240" y="480"/>
                  </a:lnTo>
                  <a:lnTo>
                    <a:pt x="235" y="485"/>
                  </a:lnTo>
                  <a:lnTo>
                    <a:pt x="229" y="490"/>
                  </a:lnTo>
                  <a:lnTo>
                    <a:pt x="224" y="490"/>
                  </a:lnTo>
                  <a:lnTo>
                    <a:pt x="224" y="490"/>
                  </a:lnTo>
                  <a:lnTo>
                    <a:pt x="218" y="485"/>
                  </a:lnTo>
                  <a:lnTo>
                    <a:pt x="218" y="480"/>
                  </a:lnTo>
                  <a:lnTo>
                    <a:pt x="191" y="480"/>
                  </a:lnTo>
                  <a:lnTo>
                    <a:pt x="164" y="512"/>
                  </a:lnTo>
                  <a:lnTo>
                    <a:pt x="131" y="545"/>
                  </a:lnTo>
                  <a:lnTo>
                    <a:pt x="98" y="572"/>
                  </a:lnTo>
                  <a:lnTo>
                    <a:pt x="66" y="605"/>
                  </a:lnTo>
                  <a:lnTo>
                    <a:pt x="33" y="605"/>
                  </a:lnTo>
                  <a:lnTo>
                    <a:pt x="0" y="638"/>
                  </a:lnTo>
                  <a:lnTo>
                    <a:pt x="0" y="670"/>
                  </a:lnTo>
                  <a:lnTo>
                    <a:pt x="0" y="703"/>
                  </a:lnTo>
                  <a:lnTo>
                    <a:pt x="0" y="736"/>
                  </a:lnTo>
                  <a:lnTo>
                    <a:pt x="33" y="768"/>
                  </a:lnTo>
                  <a:lnTo>
                    <a:pt x="33" y="801"/>
                  </a:lnTo>
                  <a:lnTo>
                    <a:pt x="66" y="828"/>
                  </a:lnTo>
                  <a:lnTo>
                    <a:pt x="98" y="861"/>
                  </a:lnTo>
                  <a:lnTo>
                    <a:pt x="131" y="894"/>
                  </a:lnTo>
                  <a:lnTo>
                    <a:pt x="164" y="927"/>
                  </a:lnTo>
                  <a:lnTo>
                    <a:pt x="164" y="959"/>
                  </a:lnTo>
                  <a:lnTo>
                    <a:pt x="191" y="992"/>
                  </a:lnTo>
                  <a:lnTo>
                    <a:pt x="224" y="1025"/>
                  </a:lnTo>
                  <a:lnTo>
                    <a:pt x="257" y="1052"/>
                  </a:lnTo>
                  <a:lnTo>
                    <a:pt x="289" y="1085"/>
                  </a:lnTo>
                  <a:lnTo>
                    <a:pt x="322" y="1117"/>
                  </a:lnTo>
                  <a:lnTo>
                    <a:pt x="355" y="1150"/>
                  </a:lnTo>
                  <a:lnTo>
                    <a:pt x="355" y="1183"/>
                  </a:lnTo>
                  <a:lnTo>
                    <a:pt x="382" y="1215"/>
                  </a:lnTo>
                  <a:lnTo>
                    <a:pt x="415" y="1248"/>
                  </a:lnTo>
                  <a:lnTo>
                    <a:pt x="447" y="1275"/>
                  </a:lnTo>
                  <a:lnTo>
                    <a:pt x="480" y="1308"/>
                  </a:lnTo>
                  <a:lnTo>
                    <a:pt x="513" y="1341"/>
                  </a:lnTo>
                  <a:lnTo>
                    <a:pt x="545" y="1373"/>
                  </a:lnTo>
                  <a:lnTo>
                    <a:pt x="573" y="1406"/>
                  </a:lnTo>
                  <a:lnTo>
                    <a:pt x="605" y="1439"/>
                  </a:lnTo>
                  <a:lnTo>
                    <a:pt x="638" y="1472"/>
                  </a:lnTo>
                  <a:lnTo>
                    <a:pt x="671" y="1499"/>
                  </a:lnTo>
                  <a:lnTo>
                    <a:pt x="704" y="1531"/>
                  </a:lnTo>
                  <a:lnTo>
                    <a:pt x="731" y="1564"/>
                  </a:lnTo>
                  <a:lnTo>
                    <a:pt x="764" y="1597"/>
                  </a:lnTo>
                  <a:lnTo>
                    <a:pt x="796" y="1630"/>
                  </a:lnTo>
                  <a:lnTo>
                    <a:pt x="829" y="1662"/>
                  </a:lnTo>
                  <a:lnTo>
                    <a:pt x="862" y="1695"/>
                  </a:lnTo>
                  <a:lnTo>
                    <a:pt x="894" y="1722"/>
                  </a:lnTo>
                  <a:lnTo>
                    <a:pt x="922" y="1755"/>
                  </a:lnTo>
                  <a:lnTo>
                    <a:pt x="954" y="1755"/>
                  </a:lnTo>
                  <a:lnTo>
                    <a:pt x="987" y="1788"/>
                  </a:lnTo>
                  <a:lnTo>
                    <a:pt x="1020" y="1820"/>
                  </a:lnTo>
                  <a:lnTo>
                    <a:pt x="1053" y="1853"/>
                  </a:lnTo>
                  <a:lnTo>
                    <a:pt x="1085" y="1886"/>
                  </a:lnTo>
                  <a:lnTo>
                    <a:pt x="1113" y="1918"/>
                  </a:lnTo>
                  <a:lnTo>
                    <a:pt x="1145" y="1946"/>
                  </a:lnTo>
                  <a:lnTo>
                    <a:pt x="1178" y="1978"/>
                  </a:lnTo>
                  <a:lnTo>
                    <a:pt x="1211" y="1978"/>
                  </a:lnTo>
                  <a:lnTo>
                    <a:pt x="1243" y="1978"/>
                  </a:lnTo>
                  <a:lnTo>
                    <a:pt x="1276" y="1978"/>
                  </a:lnTo>
                  <a:lnTo>
                    <a:pt x="1303" y="1978"/>
                  </a:lnTo>
                  <a:lnTo>
                    <a:pt x="1336" y="1978"/>
                  </a:lnTo>
                  <a:lnTo>
                    <a:pt x="1369" y="1978"/>
                  </a:lnTo>
                  <a:lnTo>
                    <a:pt x="1401" y="1978"/>
                  </a:lnTo>
                  <a:lnTo>
                    <a:pt x="1434" y="1978"/>
                  </a:lnTo>
                  <a:lnTo>
                    <a:pt x="1467" y="1978"/>
                  </a:lnTo>
                  <a:lnTo>
                    <a:pt x="1494" y="1978"/>
                  </a:lnTo>
                  <a:lnTo>
                    <a:pt x="1527" y="1978"/>
                  </a:lnTo>
                  <a:lnTo>
                    <a:pt x="1560" y="1978"/>
                  </a:lnTo>
                  <a:lnTo>
                    <a:pt x="1592" y="1978"/>
                  </a:lnTo>
                  <a:lnTo>
                    <a:pt x="1625" y="1978"/>
                  </a:lnTo>
                  <a:lnTo>
                    <a:pt x="1658" y="1978"/>
                  </a:lnTo>
                  <a:lnTo>
                    <a:pt x="1685" y="1978"/>
                  </a:lnTo>
                  <a:lnTo>
                    <a:pt x="1718" y="1978"/>
                  </a:lnTo>
                  <a:lnTo>
                    <a:pt x="1750" y="1978"/>
                  </a:lnTo>
                  <a:lnTo>
                    <a:pt x="1783" y="1978"/>
                  </a:lnTo>
                  <a:lnTo>
                    <a:pt x="1816" y="1978"/>
                  </a:lnTo>
                  <a:lnTo>
                    <a:pt x="1849" y="1978"/>
                  </a:lnTo>
                  <a:lnTo>
                    <a:pt x="1876" y="1978"/>
                  </a:lnTo>
                  <a:lnTo>
                    <a:pt x="1909" y="1978"/>
                  </a:lnTo>
                  <a:lnTo>
                    <a:pt x="1941" y="1978"/>
                  </a:lnTo>
                  <a:lnTo>
                    <a:pt x="1974" y="1978"/>
                  </a:lnTo>
                  <a:lnTo>
                    <a:pt x="2007" y="1978"/>
                  </a:lnTo>
                  <a:lnTo>
                    <a:pt x="2039" y="1978"/>
                  </a:lnTo>
                  <a:lnTo>
                    <a:pt x="2067" y="1978"/>
                  </a:lnTo>
                  <a:lnTo>
                    <a:pt x="2099" y="1978"/>
                  </a:lnTo>
                  <a:lnTo>
                    <a:pt x="2132" y="1978"/>
                  </a:lnTo>
                  <a:lnTo>
                    <a:pt x="2165" y="1978"/>
                  </a:lnTo>
                  <a:lnTo>
                    <a:pt x="2198" y="1978"/>
                  </a:lnTo>
                  <a:lnTo>
                    <a:pt x="2230" y="1978"/>
                  </a:lnTo>
                  <a:lnTo>
                    <a:pt x="2258" y="1978"/>
                  </a:lnTo>
                  <a:lnTo>
                    <a:pt x="2290" y="1978"/>
                  </a:lnTo>
                  <a:lnTo>
                    <a:pt x="2323" y="1978"/>
                  </a:lnTo>
                  <a:lnTo>
                    <a:pt x="2356" y="1978"/>
                  </a:lnTo>
                  <a:lnTo>
                    <a:pt x="2388" y="1978"/>
                  </a:lnTo>
                  <a:lnTo>
                    <a:pt x="2421" y="1978"/>
                  </a:lnTo>
                  <a:lnTo>
                    <a:pt x="2448" y="1978"/>
                  </a:lnTo>
                  <a:lnTo>
                    <a:pt x="2481" y="1978"/>
                  </a:lnTo>
                  <a:lnTo>
                    <a:pt x="2514" y="1978"/>
                  </a:lnTo>
                  <a:lnTo>
                    <a:pt x="2546" y="1978"/>
                  </a:lnTo>
                  <a:lnTo>
                    <a:pt x="2579" y="1978"/>
                  </a:lnTo>
                  <a:lnTo>
                    <a:pt x="2612" y="1978"/>
                  </a:lnTo>
                  <a:lnTo>
                    <a:pt x="2639" y="1978"/>
                  </a:lnTo>
                  <a:lnTo>
                    <a:pt x="2672" y="1978"/>
                  </a:lnTo>
                  <a:close/>
                  <a:moveTo>
                    <a:pt x="507" y="1275"/>
                  </a:moveTo>
                  <a:lnTo>
                    <a:pt x="496" y="1275"/>
                  </a:lnTo>
                  <a:lnTo>
                    <a:pt x="491" y="1270"/>
                  </a:lnTo>
                  <a:lnTo>
                    <a:pt x="486" y="1264"/>
                  </a:lnTo>
                  <a:lnTo>
                    <a:pt x="480" y="1264"/>
                  </a:lnTo>
                  <a:lnTo>
                    <a:pt x="475" y="1259"/>
                  </a:lnTo>
                  <a:lnTo>
                    <a:pt x="469" y="1248"/>
                  </a:lnTo>
                  <a:lnTo>
                    <a:pt x="469" y="1243"/>
                  </a:lnTo>
                  <a:lnTo>
                    <a:pt x="464" y="1243"/>
                  </a:lnTo>
                  <a:lnTo>
                    <a:pt x="453" y="1237"/>
                  </a:lnTo>
                  <a:lnTo>
                    <a:pt x="447" y="1232"/>
                  </a:lnTo>
                  <a:lnTo>
                    <a:pt x="442" y="1226"/>
                  </a:lnTo>
                  <a:lnTo>
                    <a:pt x="442" y="1221"/>
                  </a:lnTo>
                  <a:lnTo>
                    <a:pt x="436" y="1215"/>
                  </a:lnTo>
                  <a:lnTo>
                    <a:pt x="431" y="1210"/>
                  </a:lnTo>
                  <a:lnTo>
                    <a:pt x="426" y="1204"/>
                  </a:lnTo>
                  <a:lnTo>
                    <a:pt x="426" y="1199"/>
                  </a:lnTo>
                  <a:lnTo>
                    <a:pt x="420" y="1194"/>
                  </a:lnTo>
                  <a:lnTo>
                    <a:pt x="415" y="1188"/>
                  </a:lnTo>
                  <a:lnTo>
                    <a:pt x="409" y="1183"/>
                  </a:lnTo>
                  <a:lnTo>
                    <a:pt x="404" y="1177"/>
                  </a:lnTo>
                  <a:lnTo>
                    <a:pt x="404" y="1172"/>
                  </a:lnTo>
                  <a:lnTo>
                    <a:pt x="398" y="1166"/>
                  </a:lnTo>
                  <a:lnTo>
                    <a:pt x="393" y="1161"/>
                  </a:lnTo>
                  <a:lnTo>
                    <a:pt x="387" y="1155"/>
                  </a:lnTo>
                  <a:lnTo>
                    <a:pt x="382" y="1150"/>
                  </a:lnTo>
                  <a:lnTo>
                    <a:pt x="382" y="1145"/>
                  </a:lnTo>
                  <a:lnTo>
                    <a:pt x="376" y="1139"/>
                  </a:lnTo>
                  <a:lnTo>
                    <a:pt x="371" y="1134"/>
                  </a:lnTo>
                  <a:lnTo>
                    <a:pt x="366" y="1128"/>
                  </a:lnTo>
                  <a:lnTo>
                    <a:pt x="360" y="1123"/>
                  </a:lnTo>
                  <a:lnTo>
                    <a:pt x="360" y="1117"/>
                  </a:lnTo>
                  <a:lnTo>
                    <a:pt x="355" y="1112"/>
                  </a:lnTo>
                  <a:lnTo>
                    <a:pt x="349" y="1106"/>
                  </a:lnTo>
                  <a:lnTo>
                    <a:pt x="344" y="1101"/>
                  </a:lnTo>
                  <a:lnTo>
                    <a:pt x="344" y="1095"/>
                  </a:lnTo>
                  <a:lnTo>
                    <a:pt x="338" y="1090"/>
                  </a:lnTo>
                  <a:lnTo>
                    <a:pt x="333" y="1085"/>
                  </a:lnTo>
                  <a:lnTo>
                    <a:pt x="327" y="1079"/>
                  </a:lnTo>
                  <a:lnTo>
                    <a:pt x="322" y="1074"/>
                  </a:lnTo>
                  <a:lnTo>
                    <a:pt x="322" y="1068"/>
                  </a:lnTo>
                  <a:lnTo>
                    <a:pt x="316" y="1063"/>
                  </a:lnTo>
                  <a:lnTo>
                    <a:pt x="311" y="1057"/>
                  </a:lnTo>
                  <a:lnTo>
                    <a:pt x="306" y="1052"/>
                  </a:lnTo>
                  <a:lnTo>
                    <a:pt x="300" y="1046"/>
                  </a:lnTo>
                  <a:lnTo>
                    <a:pt x="300" y="1041"/>
                  </a:lnTo>
                  <a:lnTo>
                    <a:pt x="295" y="1036"/>
                  </a:lnTo>
                  <a:lnTo>
                    <a:pt x="289" y="1030"/>
                  </a:lnTo>
                  <a:lnTo>
                    <a:pt x="284" y="1025"/>
                  </a:lnTo>
                  <a:lnTo>
                    <a:pt x="278" y="1019"/>
                  </a:lnTo>
                  <a:lnTo>
                    <a:pt x="278" y="1014"/>
                  </a:lnTo>
                  <a:lnTo>
                    <a:pt x="273" y="1008"/>
                  </a:lnTo>
                  <a:lnTo>
                    <a:pt x="267" y="1003"/>
                  </a:lnTo>
                  <a:lnTo>
                    <a:pt x="262" y="997"/>
                  </a:lnTo>
                  <a:lnTo>
                    <a:pt x="262" y="992"/>
                  </a:lnTo>
                  <a:lnTo>
                    <a:pt x="257" y="986"/>
                  </a:lnTo>
                  <a:lnTo>
                    <a:pt x="251" y="981"/>
                  </a:lnTo>
                  <a:lnTo>
                    <a:pt x="246" y="976"/>
                  </a:lnTo>
                  <a:lnTo>
                    <a:pt x="240" y="970"/>
                  </a:lnTo>
                  <a:lnTo>
                    <a:pt x="240" y="965"/>
                  </a:lnTo>
                  <a:lnTo>
                    <a:pt x="235" y="959"/>
                  </a:lnTo>
                  <a:lnTo>
                    <a:pt x="229" y="954"/>
                  </a:lnTo>
                  <a:lnTo>
                    <a:pt x="224" y="948"/>
                  </a:lnTo>
                  <a:lnTo>
                    <a:pt x="218" y="943"/>
                  </a:lnTo>
                  <a:lnTo>
                    <a:pt x="218" y="937"/>
                  </a:lnTo>
                  <a:lnTo>
                    <a:pt x="213" y="937"/>
                  </a:lnTo>
                  <a:lnTo>
                    <a:pt x="207" y="927"/>
                  </a:lnTo>
                  <a:lnTo>
                    <a:pt x="202" y="927"/>
                  </a:lnTo>
                  <a:lnTo>
                    <a:pt x="197" y="921"/>
                  </a:lnTo>
                  <a:lnTo>
                    <a:pt x="197" y="916"/>
                  </a:lnTo>
                  <a:lnTo>
                    <a:pt x="191" y="910"/>
                  </a:lnTo>
                  <a:lnTo>
                    <a:pt x="186" y="905"/>
                  </a:lnTo>
                  <a:lnTo>
                    <a:pt x="180" y="899"/>
                  </a:lnTo>
                  <a:lnTo>
                    <a:pt x="180" y="894"/>
                  </a:lnTo>
                  <a:lnTo>
                    <a:pt x="175" y="888"/>
                  </a:lnTo>
                  <a:lnTo>
                    <a:pt x="169" y="883"/>
                  </a:lnTo>
                  <a:lnTo>
                    <a:pt x="164" y="877"/>
                  </a:lnTo>
                  <a:lnTo>
                    <a:pt x="158" y="872"/>
                  </a:lnTo>
                  <a:lnTo>
                    <a:pt x="153" y="867"/>
                  </a:lnTo>
                  <a:lnTo>
                    <a:pt x="153" y="856"/>
                  </a:lnTo>
                  <a:lnTo>
                    <a:pt x="164" y="856"/>
                  </a:lnTo>
                  <a:lnTo>
                    <a:pt x="164" y="861"/>
                  </a:lnTo>
                  <a:lnTo>
                    <a:pt x="164" y="867"/>
                  </a:lnTo>
                  <a:lnTo>
                    <a:pt x="169" y="877"/>
                  </a:lnTo>
                  <a:lnTo>
                    <a:pt x="175" y="883"/>
                  </a:lnTo>
                  <a:lnTo>
                    <a:pt x="180" y="888"/>
                  </a:lnTo>
                  <a:lnTo>
                    <a:pt x="186" y="888"/>
                  </a:lnTo>
                  <a:lnTo>
                    <a:pt x="197" y="888"/>
                  </a:lnTo>
                  <a:lnTo>
                    <a:pt x="202" y="883"/>
                  </a:lnTo>
                  <a:lnTo>
                    <a:pt x="207" y="877"/>
                  </a:lnTo>
                  <a:lnTo>
                    <a:pt x="213" y="872"/>
                  </a:lnTo>
                  <a:lnTo>
                    <a:pt x="218" y="872"/>
                  </a:lnTo>
                  <a:lnTo>
                    <a:pt x="229" y="867"/>
                  </a:lnTo>
                  <a:lnTo>
                    <a:pt x="235" y="872"/>
                  </a:lnTo>
                  <a:lnTo>
                    <a:pt x="246" y="872"/>
                  </a:lnTo>
                  <a:lnTo>
                    <a:pt x="251" y="877"/>
                  </a:lnTo>
                  <a:lnTo>
                    <a:pt x="257" y="883"/>
                  </a:lnTo>
                  <a:lnTo>
                    <a:pt x="262" y="888"/>
                  </a:lnTo>
                  <a:lnTo>
                    <a:pt x="262" y="899"/>
                  </a:lnTo>
                  <a:lnTo>
                    <a:pt x="267" y="905"/>
                  </a:lnTo>
                  <a:lnTo>
                    <a:pt x="273" y="910"/>
                  </a:lnTo>
                  <a:lnTo>
                    <a:pt x="278" y="916"/>
                  </a:lnTo>
                  <a:lnTo>
                    <a:pt x="284" y="921"/>
                  </a:lnTo>
                  <a:lnTo>
                    <a:pt x="289" y="916"/>
                  </a:lnTo>
                  <a:lnTo>
                    <a:pt x="300" y="916"/>
                  </a:lnTo>
                  <a:lnTo>
                    <a:pt x="306" y="910"/>
                  </a:lnTo>
                  <a:lnTo>
                    <a:pt x="316" y="905"/>
                  </a:lnTo>
                  <a:lnTo>
                    <a:pt x="322" y="905"/>
                  </a:lnTo>
                  <a:lnTo>
                    <a:pt x="333" y="899"/>
                  </a:lnTo>
                  <a:lnTo>
                    <a:pt x="338" y="899"/>
                  </a:lnTo>
                  <a:lnTo>
                    <a:pt x="349" y="894"/>
                  </a:lnTo>
                  <a:lnTo>
                    <a:pt x="355" y="888"/>
                  </a:lnTo>
                  <a:lnTo>
                    <a:pt x="366" y="894"/>
                  </a:lnTo>
                  <a:lnTo>
                    <a:pt x="371" y="899"/>
                  </a:lnTo>
                  <a:lnTo>
                    <a:pt x="376" y="905"/>
                  </a:lnTo>
                  <a:lnTo>
                    <a:pt x="382" y="910"/>
                  </a:lnTo>
                  <a:lnTo>
                    <a:pt x="382" y="916"/>
                  </a:lnTo>
                  <a:lnTo>
                    <a:pt x="387" y="921"/>
                  </a:lnTo>
                  <a:lnTo>
                    <a:pt x="387" y="927"/>
                  </a:lnTo>
                  <a:lnTo>
                    <a:pt x="387" y="932"/>
                  </a:lnTo>
                  <a:lnTo>
                    <a:pt x="387" y="937"/>
                  </a:lnTo>
                  <a:lnTo>
                    <a:pt x="382" y="937"/>
                  </a:lnTo>
                  <a:lnTo>
                    <a:pt x="376" y="932"/>
                  </a:lnTo>
                  <a:lnTo>
                    <a:pt x="366" y="927"/>
                  </a:lnTo>
                  <a:lnTo>
                    <a:pt x="360" y="921"/>
                  </a:lnTo>
                  <a:lnTo>
                    <a:pt x="355" y="916"/>
                  </a:lnTo>
                  <a:lnTo>
                    <a:pt x="349" y="921"/>
                  </a:lnTo>
                  <a:lnTo>
                    <a:pt x="349" y="932"/>
                  </a:lnTo>
                  <a:lnTo>
                    <a:pt x="349" y="937"/>
                  </a:lnTo>
                  <a:lnTo>
                    <a:pt x="349" y="943"/>
                  </a:lnTo>
                  <a:lnTo>
                    <a:pt x="349" y="948"/>
                  </a:lnTo>
                  <a:lnTo>
                    <a:pt x="349" y="954"/>
                  </a:lnTo>
                  <a:lnTo>
                    <a:pt x="355" y="959"/>
                  </a:lnTo>
                  <a:lnTo>
                    <a:pt x="360" y="959"/>
                  </a:lnTo>
                  <a:lnTo>
                    <a:pt x="371" y="965"/>
                  </a:lnTo>
                  <a:lnTo>
                    <a:pt x="382" y="965"/>
                  </a:lnTo>
                  <a:lnTo>
                    <a:pt x="387" y="965"/>
                  </a:lnTo>
                  <a:lnTo>
                    <a:pt x="393" y="970"/>
                  </a:lnTo>
                  <a:lnTo>
                    <a:pt x="398" y="976"/>
                  </a:lnTo>
                  <a:lnTo>
                    <a:pt x="398" y="981"/>
                  </a:lnTo>
                  <a:lnTo>
                    <a:pt x="404" y="986"/>
                  </a:lnTo>
                  <a:lnTo>
                    <a:pt x="409" y="992"/>
                  </a:lnTo>
                  <a:lnTo>
                    <a:pt x="415" y="997"/>
                  </a:lnTo>
                  <a:lnTo>
                    <a:pt x="420" y="1003"/>
                  </a:lnTo>
                  <a:lnTo>
                    <a:pt x="426" y="1008"/>
                  </a:lnTo>
                  <a:lnTo>
                    <a:pt x="431" y="1014"/>
                  </a:lnTo>
                  <a:lnTo>
                    <a:pt x="442" y="1019"/>
                  </a:lnTo>
                  <a:lnTo>
                    <a:pt x="447" y="1019"/>
                  </a:lnTo>
                  <a:lnTo>
                    <a:pt x="453" y="1019"/>
                  </a:lnTo>
                  <a:lnTo>
                    <a:pt x="464" y="1019"/>
                  </a:lnTo>
                  <a:lnTo>
                    <a:pt x="475" y="1019"/>
                  </a:lnTo>
                  <a:lnTo>
                    <a:pt x="480" y="1014"/>
                  </a:lnTo>
                  <a:lnTo>
                    <a:pt x="491" y="1014"/>
                  </a:lnTo>
                  <a:lnTo>
                    <a:pt x="496" y="1008"/>
                  </a:lnTo>
                  <a:lnTo>
                    <a:pt x="502" y="1003"/>
                  </a:lnTo>
                  <a:lnTo>
                    <a:pt x="507" y="997"/>
                  </a:lnTo>
                  <a:lnTo>
                    <a:pt x="513" y="992"/>
                  </a:lnTo>
                  <a:lnTo>
                    <a:pt x="518" y="986"/>
                  </a:lnTo>
                  <a:lnTo>
                    <a:pt x="524" y="981"/>
                  </a:lnTo>
                  <a:lnTo>
                    <a:pt x="529" y="981"/>
                  </a:lnTo>
                  <a:lnTo>
                    <a:pt x="540" y="976"/>
                  </a:lnTo>
                  <a:lnTo>
                    <a:pt x="545" y="970"/>
                  </a:lnTo>
                  <a:lnTo>
                    <a:pt x="551" y="965"/>
                  </a:lnTo>
                  <a:lnTo>
                    <a:pt x="562" y="965"/>
                  </a:lnTo>
                  <a:lnTo>
                    <a:pt x="567" y="959"/>
                  </a:lnTo>
                  <a:lnTo>
                    <a:pt x="573" y="954"/>
                  </a:lnTo>
                  <a:lnTo>
                    <a:pt x="584" y="954"/>
                  </a:lnTo>
                  <a:lnTo>
                    <a:pt x="589" y="954"/>
                  </a:lnTo>
                  <a:lnTo>
                    <a:pt x="600" y="954"/>
                  </a:lnTo>
                  <a:lnTo>
                    <a:pt x="611" y="959"/>
                  </a:lnTo>
                  <a:lnTo>
                    <a:pt x="616" y="954"/>
                  </a:lnTo>
                  <a:lnTo>
                    <a:pt x="622" y="948"/>
                  </a:lnTo>
                  <a:lnTo>
                    <a:pt x="633" y="943"/>
                  </a:lnTo>
                  <a:lnTo>
                    <a:pt x="638" y="943"/>
                  </a:lnTo>
                  <a:lnTo>
                    <a:pt x="649" y="948"/>
                  </a:lnTo>
                  <a:lnTo>
                    <a:pt x="655" y="954"/>
                  </a:lnTo>
                  <a:lnTo>
                    <a:pt x="660" y="959"/>
                  </a:lnTo>
                  <a:lnTo>
                    <a:pt x="660" y="965"/>
                  </a:lnTo>
                  <a:lnTo>
                    <a:pt x="660" y="970"/>
                  </a:lnTo>
                  <a:lnTo>
                    <a:pt x="660" y="976"/>
                  </a:lnTo>
                  <a:lnTo>
                    <a:pt x="660" y="981"/>
                  </a:lnTo>
                  <a:lnTo>
                    <a:pt x="655" y="986"/>
                  </a:lnTo>
                  <a:lnTo>
                    <a:pt x="655" y="992"/>
                  </a:lnTo>
                  <a:lnTo>
                    <a:pt x="655" y="1003"/>
                  </a:lnTo>
                  <a:lnTo>
                    <a:pt x="649" y="1008"/>
                  </a:lnTo>
                  <a:lnTo>
                    <a:pt x="649" y="1014"/>
                  </a:lnTo>
                  <a:lnTo>
                    <a:pt x="649" y="1019"/>
                  </a:lnTo>
                  <a:lnTo>
                    <a:pt x="649" y="1025"/>
                  </a:lnTo>
                  <a:lnTo>
                    <a:pt x="649" y="1030"/>
                  </a:lnTo>
                  <a:lnTo>
                    <a:pt x="649" y="1036"/>
                  </a:lnTo>
                  <a:lnTo>
                    <a:pt x="649" y="1041"/>
                  </a:lnTo>
                  <a:lnTo>
                    <a:pt x="644" y="1046"/>
                  </a:lnTo>
                  <a:lnTo>
                    <a:pt x="644" y="1057"/>
                  </a:lnTo>
                  <a:lnTo>
                    <a:pt x="644" y="1063"/>
                  </a:lnTo>
                  <a:lnTo>
                    <a:pt x="644" y="1068"/>
                  </a:lnTo>
                  <a:lnTo>
                    <a:pt x="644" y="1074"/>
                  </a:lnTo>
                  <a:lnTo>
                    <a:pt x="644" y="1079"/>
                  </a:lnTo>
                  <a:lnTo>
                    <a:pt x="638" y="1085"/>
                  </a:lnTo>
                  <a:lnTo>
                    <a:pt x="638" y="1090"/>
                  </a:lnTo>
                  <a:lnTo>
                    <a:pt x="638" y="1095"/>
                  </a:lnTo>
                  <a:lnTo>
                    <a:pt x="638" y="1101"/>
                  </a:lnTo>
                  <a:lnTo>
                    <a:pt x="638" y="1112"/>
                  </a:lnTo>
                  <a:lnTo>
                    <a:pt x="638" y="1117"/>
                  </a:lnTo>
                  <a:lnTo>
                    <a:pt x="633" y="1123"/>
                  </a:lnTo>
                  <a:lnTo>
                    <a:pt x="633" y="1128"/>
                  </a:lnTo>
                  <a:lnTo>
                    <a:pt x="627" y="1134"/>
                  </a:lnTo>
                  <a:lnTo>
                    <a:pt x="622" y="1139"/>
                  </a:lnTo>
                  <a:lnTo>
                    <a:pt x="616" y="1139"/>
                  </a:lnTo>
                  <a:lnTo>
                    <a:pt x="611" y="1145"/>
                  </a:lnTo>
                  <a:lnTo>
                    <a:pt x="611" y="1150"/>
                  </a:lnTo>
                  <a:lnTo>
                    <a:pt x="616" y="1155"/>
                  </a:lnTo>
                  <a:lnTo>
                    <a:pt x="616" y="1166"/>
                  </a:lnTo>
                  <a:lnTo>
                    <a:pt x="622" y="1172"/>
                  </a:lnTo>
                  <a:lnTo>
                    <a:pt x="627" y="1172"/>
                  </a:lnTo>
                  <a:lnTo>
                    <a:pt x="627" y="1177"/>
                  </a:lnTo>
                  <a:lnTo>
                    <a:pt x="633" y="1183"/>
                  </a:lnTo>
                  <a:lnTo>
                    <a:pt x="638" y="1188"/>
                  </a:lnTo>
                  <a:lnTo>
                    <a:pt x="649" y="1194"/>
                  </a:lnTo>
                  <a:lnTo>
                    <a:pt x="655" y="1199"/>
                  </a:lnTo>
                  <a:lnTo>
                    <a:pt x="660" y="1204"/>
                  </a:lnTo>
                  <a:lnTo>
                    <a:pt x="665" y="1210"/>
                  </a:lnTo>
                  <a:lnTo>
                    <a:pt x="665" y="1215"/>
                  </a:lnTo>
                  <a:lnTo>
                    <a:pt x="660" y="1221"/>
                  </a:lnTo>
                  <a:lnTo>
                    <a:pt x="649" y="1221"/>
                  </a:lnTo>
                  <a:lnTo>
                    <a:pt x="644" y="1226"/>
                  </a:lnTo>
                  <a:lnTo>
                    <a:pt x="633" y="1232"/>
                  </a:lnTo>
                  <a:lnTo>
                    <a:pt x="622" y="1232"/>
                  </a:lnTo>
                  <a:lnTo>
                    <a:pt x="616" y="1232"/>
                  </a:lnTo>
                  <a:lnTo>
                    <a:pt x="605" y="1232"/>
                  </a:lnTo>
                  <a:lnTo>
                    <a:pt x="595" y="1237"/>
                  </a:lnTo>
                  <a:lnTo>
                    <a:pt x="589" y="1237"/>
                  </a:lnTo>
                  <a:lnTo>
                    <a:pt x="578" y="1237"/>
                  </a:lnTo>
                  <a:lnTo>
                    <a:pt x="567" y="1237"/>
                  </a:lnTo>
                  <a:lnTo>
                    <a:pt x="562" y="1237"/>
                  </a:lnTo>
                  <a:lnTo>
                    <a:pt x="551" y="1237"/>
                  </a:lnTo>
                  <a:lnTo>
                    <a:pt x="540" y="1237"/>
                  </a:lnTo>
                  <a:lnTo>
                    <a:pt x="529" y="1237"/>
                  </a:lnTo>
                  <a:lnTo>
                    <a:pt x="524" y="1237"/>
                  </a:lnTo>
                  <a:lnTo>
                    <a:pt x="513" y="1237"/>
                  </a:lnTo>
                  <a:lnTo>
                    <a:pt x="502" y="1237"/>
                  </a:lnTo>
                  <a:lnTo>
                    <a:pt x="496" y="1243"/>
                  </a:lnTo>
                  <a:lnTo>
                    <a:pt x="486" y="1248"/>
                  </a:lnTo>
                  <a:lnTo>
                    <a:pt x="486" y="1248"/>
                  </a:lnTo>
                  <a:lnTo>
                    <a:pt x="486" y="1259"/>
                  </a:lnTo>
                  <a:lnTo>
                    <a:pt x="491" y="1264"/>
                  </a:lnTo>
                  <a:lnTo>
                    <a:pt x="496" y="1270"/>
                  </a:lnTo>
                  <a:lnTo>
                    <a:pt x="507" y="1275"/>
                  </a:lnTo>
                  <a:lnTo>
                    <a:pt x="513" y="1275"/>
                  </a:lnTo>
                  <a:lnTo>
                    <a:pt x="507" y="1275"/>
                  </a:lnTo>
                  <a:close/>
                  <a:moveTo>
                    <a:pt x="556" y="1183"/>
                  </a:moveTo>
                  <a:lnTo>
                    <a:pt x="556" y="1177"/>
                  </a:lnTo>
                  <a:lnTo>
                    <a:pt x="551" y="1177"/>
                  </a:lnTo>
                  <a:lnTo>
                    <a:pt x="545" y="1177"/>
                  </a:lnTo>
                  <a:lnTo>
                    <a:pt x="545" y="1177"/>
                  </a:lnTo>
                  <a:lnTo>
                    <a:pt x="540" y="1177"/>
                  </a:lnTo>
                  <a:lnTo>
                    <a:pt x="535" y="1177"/>
                  </a:lnTo>
                  <a:lnTo>
                    <a:pt x="535" y="1183"/>
                  </a:lnTo>
                  <a:lnTo>
                    <a:pt x="535" y="1183"/>
                  </a:lnTo>
                  <a:lnTo>
                    <a:pt x="540" y="1183"/>
                  </a:lnTo>
                  <a:lnTo>
                    <a:pt x="540" y="1188"/>
                  </a:lnTo>
                  <a:lnTo>
                    <a:pt x="545" y="1188"/>
                  </a:lnTo>
                  <a:lnTo>
                    <a:pt x="551" y="1183"/>
                  </a:lnTo>
                  <a:lnTo>
                    <a:pt x="551" y="1183"/>
                  </a:lnTo>
                  <a:lnTo>
                    <a:pt x="556" y="1183"/>
                  </a:lnTo>
                  <a:close/>
                  <a:moveTo>
                    <a:pt x="818" y="1052"/>
                  </a:moveTo>
                  <a:lnTo>
                    <a:pt x="813" y="1046"/>
                  </a:lnTo>
                  <a:lnTo>
                    <a:pt x="807" y="1041"/>
                  </a:lnTo>
                  <a:lnTo>
                    <a:pt x="802" y="1036"/>
                  </a:lnTo>
                  <a:lnTo>
                    <a:pt x="796" y="1030"/>
                  </a:lnTo>
                  <a:lnTo>
                    <a:pt x="796" y="1025"/>
                  </a:lnTo>
                  <a:lnTo>
                    <a:pt x="796" y="1014"/>
                  </a:lnTo>
                  <a:lnTo>
                    <a:pt x="796" y="1008"/>
                  </a:lnTo>
                  <a:lnTo>
                    <a:pt x="796" y="1003"/>
                  </a:lnTo>
                  <a:lnTo>
                    <a:pt x="791" y="997"/>
                  </a:lnTo>
                  <a:lnTo>
                    <a:pt x="791" y="992"/>
                  </a:lnTo>
                  <a:lnTo>
                    <a:pt x="791" y="981"/>
                  </a:lnTo>
                  <a:lnTo>
                    <a:pt x="791" y="976"/>
                  </a:lnTo>
                  <a:lnTo>
                    <a:pt x="791" y="970"/>
                  </a:lnTo>
                  <a:lnTo>
                    <a:pt x="791" y="965"/>
                  </a:lnTo>
                  <a:lnTo>
                    <a:pt x="791" y="954"/>
                  </a:lnTo>
                  <a:lnTo>
                    <a:pt x="796" y="948"/>
                  </a:lnTo>
                  <a:lnTo>
                    <a:pt x="796" y="943"/>
                  </a:lnTo>
                  <a:lnTo>
                    <a:pt x="796" y="937"/>
                  </a:lnTo>
                  <a:lnTo>
                    <a:pt x="796" y="927"/>
                  </a:lnTo>
                  <a:lnTo>
                    <a:pt x="796" y="921"/>
                  </a:lnTo>
                  <a:lnTo>
                    <a:pt x="796" y="916"/>
                  </a:lnTo>
                  <a:lnTo>
                    <a:pt x="796" y="910"/>
                  </a:lnTo>
                  <a:lnTo>
                    <a:pt x="796" y="899"/>
                  </a:lnTo>
                  <a:lnTo>
                    <a:pt x="796" y="894"/>
                  </a:lnTo>
                  <a:lnTo>
                    <a:pt x="796" y="888"/>
                  </a:lnTo>
                  <a:lnTo>
                    <a:pt x="791" y="883"/>
                  </a:lnTo>
                  <a:lnTo>
                    <a:pt x="791" y="872"/>
                  </a:lnTo>
                  <a:lnTo>
                    <a:pt x="785" y="867"/>
                  </a:lnTo>
                  <a:lnTo>
                    <a:pt x="785" y="861"/>
                  </a:lnTo>
                  <a:lnTo>
                    <a:pt x="785" y="856"/>
                  </a:lnTo>
                  <a:lnTo>
                    <a:pt x="785" y="850"/>
                  </a:lnTo>
                  <a:lnTo>
                    <a:pt x="785" y="839"/>
                  </a:lnTo>
                  <a:lnTo>
                    <a:pt x="791" y="834"/>
                  </a:lnTo>
                  <a:lnTo>
                    <a:pt x="785" y="828"/>
                  </a:lnTo>
                  <a:lnTo>
                    <a:pt x="785" y="817"/>
                  </a:lnTo>
                  <a:lnTo>
                    <a:pt x="780" y="812"/>
                  </a:lnTo>
                  <a:lnTo>
                    <a:pt x="774" y="807"/>
                  </a:lnTo>
                  <a:lnTo>
                    <a:pt x="769" y="801"/>
                  </a:lnTo>
                  <a:lnTo>
                    <a:pt x="758" y="796"/>
                  </a:lnTo>
                  <a:lnTo>
                    <a:pt x="758" y="790"/>
                  </a:lnTo>
                  <a:lnTo>
                    <a:pt x="758" y="779"/>
                  </a:lnTo>
                  <a:lnTo>
                    <a:pt x="764" y="774"/>
                  </a:lnTo>
                  <a:lnTo>
                    <a:pt x="764" y="774"/>
                  </a:lnTo>
                  <a:lnTo>
                    <a:pt x="769" y="779"/>
                  </a:lnTo>
                  <a:lnTo>
                    <a:pt x="769" y="785"/>
                  </a:lnTo>
                  <a:lnTo>
                    <a:pt x="769" y="796"/>
                  </a:lnTo>
                  <a:lnTo>
                    <a:pt x="780" y="801"/>
                  </a:lnTo>
                  <a:lnTo>
                    <a:pt x="785" y="807"/>
                  </a:lnTo>
                  <a:lnTo>
                    <a:pt x="796" y="807"/>
                  </a:lnTo>
                  <a:lnTo>
                    <a:pt x="802" y="812"/>
                  </a:lnTo>
                  <a:lnTo>
                    <a:pt x="802" y="817"/>
                  </a:lnTo>
                  <a:lnTo>
                    <a:pt x="807" y="828"/>
                  </a:lnTo>
                  <a:lnTo>
                    <a:pt x="807" y="834"/>
                  </a:lnTo>
                  <a:lnTo>
                    <a:pt x="813" y="839"/>
                  </a:lnTo>
                  <a:lnTo>
                    <a:pt x="818" y="845"/>
                  </a:lnTo>
                  <a:lnTo>
                    <a:pt x="824" y="850"/>
                  </a:lnTo>
                  <a:lnTo>
                    <a:pt x="829" y="856"/>
                  </a:lnTo>
                  <a:lnTo>
                    <a:pt x="840" y="861"/>
                  </a:lnTo>
                  <a:lnTo>
                    <a:pt x="851" y="861"/>
                  </a:lnTo>
                  <a:lnTo>
                    <a:pt x="856" y="867"/>
                  </a:lnTo>
                  <a:lnTo>
                    <a:pt x="867" y="872"/>
                  </a:lnTo>
                  <a:lnTo>
                    <a:pt x="873" y="877"/>
                  </a:lnTo>
                  <a:lnTo>
                    <a:pt x="878" y="883"/>
                  </a:lnTo>
                  <a:lnTo>
                    <a:pt x="884" y="888"/>
                  </a:lnTo>
                  <a:lnTo>
                    <a:pt x="894" y="894"/>
                  </a:lnTo>
                  <a:lnTo>
                    <a:pt x="900" y="899"/>
                  </a:lnTo>
                  <a:lnTo>
                    <a:pt x="905" y="899"/>
                  </a:lnTo>
                  <a:lnTo>
                    <a:pt x="916" y="905"/>
                  </a:lnTo>
                  <a:lnTo>
                    <a:pt x="922" y="910"/>
                  </a:lnTo>
                  <a:lnTo>
                    <a:pt x="927" y="916"/>
                  </a:lnTo>
                  <a:lnTo>
                    <a:pt x="933" y="921"/>
                  </a:lnTo>
                  <a:lnTo>
                    <a:pt x="944" y="927"/>
                  </a:lnTo>
                  <a:lnTo>
                    <a:pt x="949" y="932"/>
                  </a:lnTo>
                  <a:lnTo>
                    <a:pt x="954" y="937"/>
                  </a:lnTo>
                  <a:lnTo>
                    <a:pt x="965" y="943"/>
                  </a:lnTo>
                  <a:lnTo>
                    <a:pt x="971" y="948"/>
                  </a:lnTo>
                  <a:lnTo>
                    <a:pt x="976" y="954"/>
                  </a:lnTo>
                  <a:lnTo>
                    <a:pt x="982" y="959"/>
                  </a:lnTo>
                  <a:lnTo>
                    <a:pt x="987" y="965"/>
                  </a:lnTo>
                  <a:lnTo>
                    <a:pt x="993" y="970"/>
                  </a:lnTo>
                  <a:lnTo>
                    <a:pt x="1003" y="976"/>
                  </a:lnTo>
                  <a:lnTo>
                    <a:pt x="1009" y="981"/>
                  </a:lnTo>
                  <a:lnTo>
                    <a:pt x="1020" y="981"/>
                  </a:lnTo>
                  <a:lnTo>
                    <a:pt x="1025" y="986"/>
                  </a:lnTo>
                  <a:lnTo>
                    <a:pt x="1031" y="992"/>
                  </a:lnTo>
                  <a:lnTo>
                    <a:pt x="1036" y="997"/>
                  </a:lnTo>
                  <a:lnTo>
                    <a:pt x="1036" y="1008"/>
                  </a:lnTo>
                  <a:lnTo>
                    <a:pt x="1036" y="1014"/>
                  </a:lnTo>
                  <a:lnTo>
                    <a:pt x="1036" y="1019"/>
                  </a:lnTo>
                  <a:lnTo>
                    <a:pt x="1036" y="1030"/>
                  </a:lnTo>
                  <a:lnTo>
                    <a:pt x="1036" y="1036"/>
                  </a:lnTo>
                  <a:lnTo>
                    <a:pt x="1031" y="1041"/>
                  </a:lnTo>
                  <a:lnTo>
                    <a:pt x="1025" y="1046"/>
                  </a:lnTo>
                  <a:lnTo>
                    <a:pt x="1020" y="1052"/>
                  </a:lnTo>
                  <a:lnTo>
                    <a:pt x="1014" y="1057"/>
                  </a:lnTo>
                  <a:lnTo>
                    <a:pt x="1003" y="1063"/>
                  </a:lnTo>
                  <a:lnTo>
                    <a:pt x="998" y="1063"/>
                  </a:lnTo>
                  <a:lnTo>
                    <a:pt x="987" y="1068"/>
                  </a:lnTo>
                  <a:lnTo>
                    <a:pt x="976" y="1068"/>
                  </a:lnTo>
                  <a:lnTo>
                    <a:pt x="965" y="1074"/>
                  </a:lnTo>
                  <a:lnTo>
                    <a:pt x="954" y="1074"/>
                  </a:lnTo>
                  <a:lnTo>
                    <a:pt x="944" y="1074"/>
                  </a:lnTo>
                  <a:lnTo>
                    <a:pt x="938" y="1079"/>
                  </a:lnTo>
                  <a:lnTo>
                    <a:pt x="927" y="1079"/>
                  </a:lnTo>
                  <a:lnTo>
                    <a:pt x="916" y="1079"/>
                  </a:lnTo>
                  <a:lnTo>
                    <a:pt x="905" y="1085"/>
                  </a:lnTo>
                  <a:lnTo>
                    <a:pt x="894" y="1085"/>
                  </a:lnTo>
                  <a:lnTo>
                    <a:pt x="884" y="1085"/>
                  </a:lnTo>
                  <a:lnTo>
                    <a:pt x="878" y="1085"/>
                  </a:lnTo>
                  <a:lnTo>
                    <a:pt x="867" y="1079"/>
                  </a:lnTo>
                  <a:lnTo>
                    <a:pt x="856" y="1074"/>
                  </a:lnTo>
                  <a:lnTo>
                    <a:pt x="845" y="1074"/>
                  </a:lnTo>
                  <a:lnTo>
                    <a:pt x="840" y="1068"/>
                  </a:lnTo>
                  <a:lnTo>
                    <a:pt x="829" y="1063"/>
                  </a:lnTo>
                  <a:lnTo>
                    <a:pt x="824" y="1057"/>
                  </a:lnTo>
                  <a:lnTo>
                    <a:pt x="818" y="1052"/>
                  </a:lnTo>
                  <a:close/>
                  <a:moveTo>
                    <a:pt x="1249" y="894"/>
                  </a:moveTo>
                  <a:lnTo>
                    <a:pt x="1249" y="883"/>
                  </a:lnTo>
                  <a:lnTo>
                    <a:pt x="1254" y="877"/>
                  </a:lnTo>
                  <a:lnTo>
                    <a:pt x="1254" y="867"/>
                  </a:lnTo>
                  <a:lnTo>
                    <a:pt x="1254" y="856"/>
                  </a:lnTo>
                  <a:lnTo>
                    <a:pt x="1254" y="850"/>
                  </a:lnTo>
                  <a:lnTo>
                    <a:pt x="1254" y="839"/>
                  </a:lnTo>
                  <a:lnTo>
                    <a:pt x="1260" y="828"/>
                  </a:lnTo>
                  <a:lnTo>
                    <a:pt x="1260" y="823"/>
                  </a:lnTo>
                  <a:lnTo>
                    <a:pt x="1265" y="812"/>
                  </a:lnTo>
                  <a:lnTo>
                    <a:pt x="1265" y="807"/>
                  </a:lnTo>
                  <a:lnTo>
                    <a:pt x="1260" y="796"/>
                  </a:lnTo>
                  <a:lnTo>
                    <a:pt x="1254" y="785"/>
                  </a:lnTo>
                  <a:lnTo>
                    <a:pt x="1249" y="774"/>
                  </a:lnTo>
                  <a:lnTo>
                    <a:pt x="1243" y="774"/>
                  </a:lnTo>
                  <a:lnTo>
                    <a:pt x="1238" y="779"/>
                  </a:lnTo>
                  <a:lnTo>
                    <a:pt x="1232" y="790"/>
                  </a:lnTo>
                  <a:lnTo>
                    <a:pt x="1232" y="801"/>
                  </a:lnTo>
                  <a:lnTo>
                    <a:pt x="1232" y="812"/>
                  </a:lnTo>
                  <a:lnTo>
                    <a:pt x="1227" y="817"/>
                  </a:lnTo>
                  <a:lnTo>
                    <a:pt x="1227" y="828"/>
                  </a:lnTo>
                  <a:lnTo>
                    <a:pt x="1227" y="839"/>
                  </a:lnTo>
                  <a:lnTo>
                    <a:pt x="1227" y="845"/>
                  </a:lnTo>
                  <a:lnTo>
                    <a:pt x="1227" y="856"/>
                  </a:lnTo>
                  <a:lnTo>
                    <a:pt x="1227" y="867"/>
                  </a:lnTo>
                  <a:lnTo>
                    <a:pt x="1227" y="872"/>
                  </a:lnTo>
                  <a:lnTo>
                    <a:pt x="1232" y="883"/>
                  </a:lnTo>
                  <a:lnTo>
                    <a:pt x="1232" y="894"/>
                  </a:lnTo>
                  <a:lnTo>
                    <a:pt x="1238" y="905"/>
                  </a:lnTo>
                  <a:lnTo>
                    <a:pt x="1238" y="910"/>
                  </a:lnTo>
                  <a:lnTo>
                    <a:pt x="1243" y="916"/>
                  </a:lnTo>
                  <a:lnTo>
                    <a:pt x="1249" y="910"/>
                  </a:lnTo>
                  <a:lnTo>
                    <a:pt x="1249" y="894"/>
                  </a:lnTo>
                  <a:close/>
                  <a:moveTo>
                    <a:pt x="1554" y="861"/>
                  </a:moveTo>
                  <a:lnTo>
                    <a:pt x="1554" y="856"/>
                  </a:lnTo>
                  <a:lnTo>
                    <a:pt x="1560" y="856"/>
                  </a:lnTo>
                  <a:lnTo>
                    <a:pt x="1560" y="856"/>
                  </a:lnTo>
                  <a:lnTo>
                    <a:pt x="1560" y="856"/>
                  </a:lnTo>
                  <a:lnTo>
                    <a:pt x="1560" y="856"/>
                  </a:lnTo>
                  <a:lnTo>
                    <a:pt x="1560" y="856"/>
                  </a:lnTo>
                  <a:lnTo>
                    <a:pt x="1560" y="861"/>
                  </a:lnTo>
                  <a:lnTo>
                    <a:pt x="1560" y="861"/>
                  </a:lnTo>
                  <a:lnTo>
                    <a:pt x="1560" y="867"/>
                  </a:lnTo>
                  <a:lnTo>
                    <a:pt x="1560" y="867"/>
                  </a:lnTo>
                  <a:lnTo>
                    <a:pt x="1560" y="867"/>
                  </a:lnTo>
                  <a:lnTo>
                    <a:pt x="1560" y="867"/>
                  </a:lnTo>
                  <a:lnTo>
                    <a:pt x="1554" y="867"/>
                  </a:lnTo>
                  <a:lnTo>
                    <a:pt x="1554" y="861"/>
                  </a:lnTo>
                  <a:close/>
                  <a:moveTo>
                    <a:pt x="633" y="828"/>
                  </a:moveTo>
                  <a:lnTo>
                    <a:pt x="633" y="828"/>
                  </a:lnTo>
                  <a:lnTo>
                    <a:pt x="638" y="828"/>
                  </a:lnTo>
                  <a:lnTo>
                    <a:pt x="638" y="828"/>
                  </a:lnTo>
                  <a:lnTo>
                    <a:pt x="638" y="828"/>
                  </a:lnTo>
                  <a:lnTo>
                    <a:pt x="644" y="828"/>
                  </a:lnTo>
                  <a:lnTo>
                    <a:pt x="644" y="828"/>
                  </a:lnTo>
                  <a:lnTo>
                    <a:pt x="644" y="828"/>
                  </a:lnTo>
                  <a:lnTo>
                    <a:pt x="644" y="834"/>
                  </a:lnTo>
                  <a:lnTo>
                    <a:pt x="644" y="834"/>
                  </a:lnTo>
                  <a:lnTo>
                    <a:pt x="638" y="834"/>
                  </a:lnTo>
                  <a:lnTo>
                    <a:pt x="638" y="834"/>
                  </a:lnTo>
                  <a:lnTo>
                    <a:pt x="638" y="834"/>
                  </a:lnTo>
                  <a:lnTo>
                    <a:pt x="633" y="834"/>
                  </a:lnTo>
                  <a:lnTo>
                    <a:pt x="633" y="828"/>
                  </a:lnTo>
                  <a:close/>
                  <a:moveTo>
                    <a:pt x="1282" y="768"/>
                  </a:moveTo>
                  <a:lnTo>
                    <a:pt x="1282" y="758"/>
                  </a:lnTo>
                  <a:lnTo>
                    <a:pt x="1282" y="752"/>
                  </a:lnTo>
                  <a:lnTo>
                    <a:pt x="1282" y="741"/>
                  </a:lnTo>
                  <a:lnTo>
                    <a:pt x="1282" y="736"/>
                  </a:lnTo>
                  <a:lnTo>
                    <a:pt x="1287" y="725"/>
                  </a:lnTo>
                  <a:lnTo>
                    <a:pt x="1287" y="719"/>
                  </a:lnTo>
                  <a:lnTo>
                    <a:pt x="1287" y="708"/>
                  </a:lnTo>
                  <a:lnTo>
                    <a:pt x="1287" y="703"/>
                  </a:lnTo>
                  <a:lnTo>
                    <a:pt x="1287" y="692"/>
                  </a:lnTo>
                  <a:lnTo>
                    <a:pt x="1287" y="687"/>
                  </a:lnTo>
                  <a:lnTo>
                    <a:pt x="1287" y="676"/>
                  </a:lnTo>
                  <a:lnTo>
                    <a:pt x="1292" y="670"/>
                  </a:lnTo>
                  <a:lnTo>
                    <a:pt x="1298" y="665"/>
                  </a:lnTo>
                  <a:lnTo>
                    <a:pt x="1309" y="659"/>
                  </a:lnTo>
                  <a:lnTo>
                    <a:pt x="1314" y="649"/>
                  </a:lnTo>
                  <a:lnTo>
                    <a:pt x="1320" y="643"/>
                  </a:lnTo>
                  <a:lnTo>
                    <a:pt x="1320" y="638"/>
                  </a:lnTo>
                  <a:lnTo>
                    <a:pt x="1320" y="627"/>
                  </a:lnTo>
                  <a:lnTo>
                    <a:pt x="1314" y="621"/>
                  </a:lnTo>
                  <a:lnTo>
                    <a:pt x="1314" y="610"/>
                  </a:lnTo>
                  <a:lnTo>
                    <a:pt x="1320" y="605"/>
                  </a:lnTo>
                  <a:lnTo>
                    <a:pt x="1325" y="599"/>
                  </a:lnTo>
                  <a:lnTo>
                    <a:pt x="1331" y="589"/>
                  </a:lnTo>
                  <a:lnTo>
                    <a:pt x="1342" y="583"/>
                  </a:lnTo>
                  <a:lnTo>
                    <a:pt x="1347" y="578"/>
                  </a:lnTo>
                  <a:lnTo>
                    <a:pt x="1352" y="572"/>
                  </a:lnTo>
                  <a:lnTo>
                    <a:pt x="1352" y="561"/>
                  </a:lnTo>
                  <a:lnTo>
                    <a:pt x="1347" y="556"/>
                  </a:lnTo>
                  <a:lnTo>
                    <a:pt x="1342" y="545"/>
                  </a:lnTo>
                  <a:lnTo>
                    <a:pt x="1342" y="534"/>
                  </a:lnTo>
                  <a:lnTo>
                    <a:pt x="1342" y="529"/>
                  </a:lnTo>
                  <a:lnTo>
                    <a:pt x="1336" y="529"/>
                  </a:lnTo>
                  <a:lnTo>
                    <a:pt x="1331" y="534"/>
                  </a:lnTo>
                  <a:lnTo>
                    <a:pt x="1331" y="545"/>
                  </a:lnTo>
                  <a:lnTo>
                    <a:pt x="1325" y="550"/>
                  </a:lnTo>
                  <a:lnTo>
                    <a:pt x="1314" y="561"/>
                  </a:lnTo>
                  <a:lnTo>
                    <a:pt x="1309" y="567"/>
                  </a:lnTo>
                  <a:lnTo>
                    <a:pt x="1303" y="572"/>
                  </a:lnTo>
                  <a:lnTo>
                    <a:pt x="1298" y="578"/>
                  </a:lnTo>
                  <a:lnTo>
                    <a:pt x="1298" y="589"/>
                  </a:lnTo>
                  <a:lnTo>
                    <a:pt x="1292" y="594"/>
                  </a:lnTo>
                  <a:lnTo>
                    <a:pt x="1292" y="605"/>
                  </a:lnTo>
                  <a:lnTo>
                    <a:pt x="1287" y="610"/>
                  </a:lnTo>
                  <a:lnTo>
                    <a:pt x="1282" y="616"/>
                  </a:lnTo>
                  <a:lnTo>
                    <a:pt x="1276" y="627"/>
                  </a:lnTo>
                  <a:lnTo>
                    <a:pt x="1271" y="632"/>
                  </a:lnTo>
                  <a:lnTo>
                    <a:pt x="1265" y="638"/>
                  </a:lnTo>
                  <a:lnTo>
                    <a:pt x="1265" y="649"/>
                  </a:lnTo>
                  <a:lnTo>
                    <a:pt x="1260" y="654"/>
                  </a:lnTo>
                  <a:lnTo>
                    <a:pt x="1260" y="665"/>
                  </a:lnTo>
                  <a:lnTo>
                    <a:pt x="1260" y="670"/>
                  </a:lnTo>
                  <a:lnTo>
                    <a:pt x="1260" y="681"/>
                  </a:lnTo>
                  <a:lnTo>
                    <a:pt x="1260" y="687"/>
                  </a:lnTo>
                  <a:lnTo>
                    <a:pt x="1260" y="698"/>
                  </a:lnTo>
                  <a:lnTo>
                    <a:pt x="1260" y="703"/>
                  </a:lnTo>
                  <a:lnTo>
                    <a:pt x="1260" y="714"/>
                  </a:lnTo>
                  <a:lnTo>
                    <a:pt x="1260" y="719"/>
                  </a:lnTo>
                  <a:lnTo>
                    <a:pt x="1260" y="730"/>
                  </a:lnTo>
                  <a:lnTo>
                    <a:pt x="1254" y="736"/>
                  </a:lnTo>
                  <a:lnTo>
                    <a:pt x="1254" y="747"/>
                  </a:lnTo>
                  <a:lnTo>
                    <a:pt x="1249" y="752"/>
                  </a:lnTo>
                  <a:lnTo>
                    <a:pt x="1249" y="758"/>
                  </a:lnTo>
                  <a:lnTo>
                    <a:pt x="1254" y="768"/>
                  </a:lnTo>
                  <a:lnTo>
                    <a:pt x="1260" y="779"/>
                  </a:lnTo>
                  <a:lnTo>
                    <a:pt x="1271" y="785"/>
                  </a:lnTo>
                  <a:lnTo>
                    <a:pt x="1276" y="785"/>
                  </a:lnTo>
                  <a:lnTo>
                    <a:pt x="1276" y="779"/>
                  </a:lnTo>
                  <a:lnTo>
                    <a:pt x="1282" y="768"/>
                  </a:lnTo>
                  <a:close/>
                  <a:moveTo>
                    <a:pt x="1974" y="703"/>
                  </a:moveTo>
                  <a:lnTo>
                    <a:pt x="1963" y="698"/>
                  </a:lnTo>
                  <a:lnTo>
                    <a:pt x="1958" y="698"/>
                  </a:lnTo>
                  <a:lnTo>
                    <a:pt x="1947" y="692"/>
                  </a:lnTo>
                  <a:lnTo>
                    <a:pt x="1941" y="692"/>
                  </a:lnTo>
                  <a:lnTo>
                    <a:pt x="1936" y="687"/>
                  </a:lnTo>
                  <a:lnTo>
                    <a:pt x="1930" y="681"/>
                  </a:lnTo>
                  <a:lnTo>
                    <a:pt x="1925" y="676"/>
                  </a:lnTo>
                  <a:lnTo>
                    <a:pt x="1925" y="670"/>
                  </a:lnTo>
                  <a:lnTo>
                    <a:pt x="1930" y="665"/>
                  </a:lnTo>
                  <a:lnTo>
                    <a:pt x="1936" y="659"/>
                  </a:lnTo>
                  <a:lnTo>
                    <a:pt x="1941" y="654"/>
                  </a:lnTo>
                  <a:lnTo>
                    <a:pt x="1947" y="649"/>
                  </a:lnTo>
                  <a:lnTo>
                    <a:pt x="1958" y="649"/>
                  </a:lnTo>
                  <a:lnTo>
                    <a:pt x="1963" y="643"/>
                  </a:lnTo>
                  <a:lnTo>
                    <a:pt x="1969" y="638"/>
                  </a:lnTo>
                  <a:lnTo>
                    <a:pt x="1974" y="638"/>
                  </a:lnTo>
                  <a:lnTo>
                    <a:pt x="1979" y="632"/>
                  </a:lnTo>
                  <a:lnTo>
                    <a:pt x="1985" y="627"/>
                  </a:lnTo>
                  <a:lnTo>
                    <a:pt x="1990" y="621"/>
                  </a:lnTo>
                  <a:lnTo>
                    <a:pt x="1996" y="616"/>
                  </a:lnTo>
                  <a:lnTo>
                    <a:pt x="2001" y="616"/>
                  </a:lnTo>
                  <a:lnTo>
                    <a:pt x="2012" y="610"/>
                  </a:lnTo>
                  <a:lnTo>
                    <a:pt x="2018" y="610"/>
                  </a:lnTo>
                  <a:lnTo>
                    <a:pt x="2023" y="605"/>
                  </a:lnTo>
                  <a:lnTo>
                    <a:pt x="2034" y="599"/>
                  </a:lnTo>
                  <a:lnTo>
                    <a:pt x="2039" y="599"/>
                  </a:lnTo>
                  <a:lnTo>
                    <a:pt x="2045" y="594"/>
                  </a:lnTo>
                  <a:lnTo>
                    <a:pt x="2056" y="594"/>
                  </a:lnTo>
                  <a:lnTo>
                    <a:pt x="2067" y="594"/>
                  </a:lnTo>
                  <a:lnTo>
                    <a:pt x="2072" y="594"/>
                  </a:lnTo>
                  <a:lnTo>
                    <a:pt x="2078" y="599"/>
                  </a:lnTo>
                  <a:lnTo>
                    <a:pt x="2083" y="605"/>
                  </a:lnTo>
                  <a:lnTo>
                    <a:pt x="2088" y="610"/>
                  </a:lnTo>
                  <a:lnTo>
                    <a:pt x="2088" y="616"/>
                  </a:lnTo>
                  <a:lnTo>
                    <a:pt x="2088" y="621"/>
                  </a:lnTo>
                  <a:lnTo>
                    <a:pt x="2083" y="627"/>
                  </a:lnTo>
                  <a:lnTo>
                    <a:pt x="2083" y="632"/>
                  </a:lnTo>
                  <a:lnTo>
                    <a:pt x="2078" y="638"/>
                  </a:lnTo>
                  <a:lnTo>
                    <a:pt x="2078" y="643"/>
                  </a:lnTo>
                  <a:lnTo>
                    <a:pt x="2072" y="649"/>
                  </a:lnTo>
                  <a:lnTo>
                    <a:pt x="2072" y="654"/>
                  </a:lnTo>
                  <a:lnTo>
                    <a:pt x="2072" y="659"/>
                  </a:lnTo>
                  <a:lnTo>
                    <a:pt x="2067" y="665"/>
                  </a:lnTo>
                  <a:lnTo>
                    <a:pt x="2061" y="670"/>
                  </a:lnTo>
                  <a:lnTo>
                    <a:pt x="2056" y="676"/>
                  </a:lnTo>
                  <a:lnTo>
                    <a:pt x="2050" y="681"/>
                  </a:lnTo>
                  <a:lnTo>
                    <a:pt x="2045" y="681"/>
                  </a:lnTo>
                  <a:lnTo>
                    <a:pt x="2039" y="687"/>
                  </a:lnTo>
                  <a:lnTo>
                    <a:pt x="2029" y="687"/>
                  </a:lnTo>
                  <a:lnTo>
                    <a:pt x="2023" y="692"/>
                  </a:lnTo>
                  <a:lnTo>
                    <a:pt x="2012" y="692"/>
                  </a:lnTo>
                  <a:lnTo>
                    <a:pt x="2001" y="692"/>
                  </a:lnTo>
                  <a:lnTo>
                    <a:pt x="1996" y="698"/>
                  </a:lnTo>
                  <a:lnTo>
                    <a:pt x="1990" y="698"/>
                  </a:lnTo>
                  <a:lnTo>
                    <a:pt x="1979" y="703"/>
                  </a:lnTo>
                  <a:lnTo>
                    <a:pt x="1974" y="703"/>
                  </a:lnTo>
                  <a:close/>
                  <a:moveTo>
                    <a:pt x="1478" y="572"/>
                  </a:moveTo>
                  <a:lnTo>
                    <a:pt x="1478" y="572"/>
                  </a:lnTo>
                  <a:lnTo>
                    <a:pt x="1472" y="567"/>
                  </a:lnTo>
                  <a:lnTo>
                    <a:pt x="1467" y="567"/>
                  </a:lnTo>
                  <a:lnTo>
                    <a:pt x="1467" y="567"/>
                  </a:lnTo>
                  <a:lnTo>
                    <a:pt x="1461" y="567"/>
                  </a:lnTo>
                  <a:lnTo>
                    <a:pt x="1461" y="572"/>
                  </a:lnTo>
                  <a:lnTo>
                    <a:pt x="1461" y="572"/>
                  </a:lnTo>
                  <a:lnTo>
                    <a:pt x="1461" y="578"/>
                  </a:lnTo>
                  <a:lnTo>
                    <a:pt x="1461" y="578"/>
                  </a:lnTo>
                  <a:lnTo>
                    <a:pt x="1467" y="583"/>
                  </a:lnTo>
                  <a:lnTo>
                    <a:pt x="1467" y="583"/>
                  </a:lnTo>
                  <a:lnTo>
                    <a:pt x="1472" y="583"/>
                  </a:lnTo>
                  <a:lnTo>
                    <a:pt x="1478" y="578"/>
                  </a:lnTo>
                  <a:lnTo>
                    <a:pt x="1478" y="572"/>
                  </a:lnTo>
                  <a:close/>
                  <a:moveTo>
                    <a:pt x="1914" y="545"/>
                  </a:moveTo>
                  <a:lnTo>
                    <a:pt x="1909" y="540"/>
                  </a:lnTo>
                  <a:lnTo>
                    <a:pt x="1903" y="545"/>
                  </a:lnTo>
                  <a:lnTo>
                    <a:pt x="1903" y="545"/>
                  </a:lnTo>
                  <a:lnTo>
                    <a:pt x="1903" y="550"/>
                  </a:lnTo>
                  <a:lnTo>
                    <a:pt x="1903" y="556"/>
                  </a:lnTo>
                  <a:lnTo>
                    <a:pt x="1903" y="556"/>
                  </a:lnTo>
                  <a:lnTo>
                    <a:pt x="1909" y="561"/>
                  </a:lnTo>
                  <a:lnTo>
                    <a:pt x="1909" y="561"/>
                  </a:lnTo>
                  <a:lnTo>
                    <a:pt x="1914" y="561"/>
                  </a:lnTo>
                  <a:lnTo>
                    <a:pt x="1914" y="561"/>
                  </a:lnTo>
                  <a:lnTo>
                    <a:pt x="1914" y="556"/>
                  </a:lnTo>
                  <a:lnTo>
                    <a:pt x="1914" y="556"/>
                  </a:lnTo>
                  <a:lnTo>
                    <a:pt x="1914" y="550"/>
                  </a:lnTo>
                  <a:lnTo>
                    <a:pt x="1914" y="545"/>
                  </a:lnTo>
                  <a:close/>
                  <a:moveTo>
                    <a:pt x="1369" y="512"/>
                  </a:moveTo>
                  <a:lnTo>
                    <a:pt x="1369" y="507"/>
                  </a:lnTo>
                  <a:lnTo>
                    <a:pt x="1369" y="507"/>
                  </a:lnTo>
                  <a:lnTo>
                    <a:pt x="1369" y="501"/>
                  </a:lnTo>
                  <a:lnTo>
                    <a:pt x="1369" y="501"/>
                  </a:lnTo>
                  <a:lnTo>
                    <a:pt x="1369" y="501"/>
                  </a:lnTo>
                  <a:lnTo>
                    <a:pt x="1369" y="501"/>
                  </a:lnTo>
                  <a:lnTo>
                    <a:pt x="1369" y="501"/>
                  </a:lnTo>
                  <a:lnTo>
                    <a:pt x="1369" y="501"/>
                  </a:lnTo>
                  <a:lnTo>
                    <a:pt x="1363" y="507"/>
                  </a:lnTo>
                  <a:lnTo>
                    <a:pt x="1363" y="507"/>
                  </a:lnTo>
                  <a:lnTo>
                    <a:pt x="1363" y="507"/>
                  </a:lnTo>
                  <a:lnTo>
                    <a:pt x="1363" y="512"/>
                  </a:lnTo>
                  <a:lnTo>
                    <a:pt x="1369" y="512"/>
                  </a:lnTo>
                  <a:lnTo>
                    <a:pt x="1369" y="512"/>
                  </a:lnTo>
                  <a:close/>
                  <a:moveTo>
                    <a:pt x="1511" y="512"/>
                  </a:moveTo>
                  <a:lnTo>
                    <a:pt x="1505" y="501"/>
                  </a:lnTo>
                  <a:lnTo>
                    <a:pt x="1505" y="496"/>
                  </a:lnTo>
                  <a:lnTo>
                    <a:pt x="1500" y="490"/>
                  </a:lnTo>
                  <a:lnTo>
                    <a:pt x="1500" y="490"/>
                  </a:lnTo>
                  <a:lnTo>
                    <a:pt x="1494" y="490"/>
                  </a:lnTo>
                  <a:lnTo>
                    <a:pt x="1494" y="496"/>
                  </a:lnTo>
                  <a:lnTo>
                    <a:pt x="1489" y="501"/>
                  </a:lnTo>
                  <a:lnTo>
                    <a:pt x="1489" y="507"/>
                  </a:lnTo>
                  <a:lnTo>
                    <a:pt x="1494" y="518"/>
                  </a:lnTo>
                  <a:lnTo>
                    <a:pt x="1494" y="523"/>
                  </a:lnTo>
                  <a:lnTo>
                    <a:pt x="1494" y="523"/>
                  </a:lnTo>
                  <a:lnTo>
                    <a:pt x="1500" y="523"/>
                  </a:lnTo>
                  <a:lnTo>
                    <a:pt x="1505" y="518"/>
                  </a:lnTo>
                  <a:lnTo>
                    <a:pt x="1511" y="512"/>
                  </a:lnTo>
                  <a:close/>
                  <a:moveTo>
                    <a:pt x="1958" y="512"/>
                  </a:moveTo>
                  <a:lnTo>
                    <a:pt x="1952" y="501"/>
                  </a:lnTo>
                  <a:lnTo>
                    <a:pt x="1947" y="496"/>
                  </a:lnTo>
                  <a:lnTo>
                    <a:pt x="1941" y="496"/>
                  </a:lnTo>
                  <a:lnTo>
                    <a:pt x="1936" y="501"/>
                  </a:lnTo>
                  <a:lnTo>
                    <a:pt x="1930" y="507"/>
                  </a:lnTo>
                  <a:lnTo>
                    <a:pt x="1930" y="512"/>
                  </a:lnTo>
                  <a:lnTo>
                    <a:pt x="1930" y="518"/>
                  </a:lnTo>
                  <a:lnTo>
                    <a:pt x="1930" y="523"/>
                  </a:lnTo>
                  <a:lnTo>
                    <a:pt x="1936" y="529"/>
                  </a:lnTo>
                  <a:lnTo>
                    <a:pt x="1941" y="534"/>
                  </a:lnTo>
                  <a:lnTo>
                    <a:pt x="1947" y="529"/>
                  </a:lnTo>
                  <a:lnTo>
                    <a:pt x="1947" y="529"/>
                  </a:lnTo>
                  <a:lnTo>
                    <a:pt x="1952" y="518"/>
                  </a:lnTo>
                  <a:lnTo>
                    <a:pt x="1958" y="512"/>
                  </a:lnTo>
                  <a:close/>
                  <a:moveTo>
                    <a:pt x="251" y="447"/>
                  </a:moveTo>
                  <a:lnTo>
                    <a:pt x="224" y="447"/>
                  </a:lnTo>
                  <a:lnTo>
                    <a:pt x="224" y="474"/>
                  </a:lnTo>
                  <a:lnTo>
                    <a:pt x="251" y="447"/>
                  </a:lnTo>
                  <a:close/>
                  <a:moveTo>
                    <a:pt x="1538" y="447"/>
                  </a:moveTo>
                  <a:lnTo>
                    <a:pt x="1538" y="447"/>
                  </a:lnTo>
                  <a:lnTo>
                    <a:pt x="1532" y="447"/>
                  </a:lnTo>
                  <a:lnTo>
                    <a:pt x="1532" y="447"/>
                  </a:lnTo>
                  <a:lnTo>
                    <a:pt x="1527" y="447"/>
                  </a:lnTo>
                  <a:lnTo>
                    <a:pt x="1527" y="447"/>
                  </a:lnTo>
                  <a:lnTo>
                    <a:pt x="1527" y="447"/>
                  </a:lnTo>
                  <a:lnTo>
                    <a:pt x="1527" y="452"/>
                  </a:lnTo>
                  <a:lnTo>
                    <a:pt x="1527" y="452"/>
                  </a:lnTo>
                  <a:lnTo>
                    <a:pt x="1527" y="452"/>
                  </a:lnTo>
                  <a:lnTo>
                    <a:pt x="1532" y="452"/>
                  </a:lnTo>
                  <a:lnTo>
                    <a:pt x="1532" y="452"/>
                  </a:lnTo>
                  <a:lnTo>
                    <a:pt x="1532" y="452"/>
                  </a:lnTo>
                  <a:lnTo>
                    <a:pt x="1538" y="447"/>
                  </a:lnTo>
                  <a:lnTo>
                    <a:pt x="1538" y="447"/>
                  </a:lnTo>
                  <a:close/>
                  <a:moveTo>
                    <a:pt x="1794" y="447"/>
                  </a:moveTo>
                  <a:lnTo>
                    <a:pt x="1789" y="447"/>
                  </a:lnTo>
                  <a:lnTo>
                    <a:pt x="1783" y="441"/>
                  </a:lnTo>
                  <a:lnTo>
                    <a:pt x="1778" y="441"/>
                  </a:lnTo>
                  <a:lnTo>
                    <a:pt x="1772" y="441"/>
                  </a:lnTo>
                  <a:lnTo>
                    <a:pt x="1767" y="441"/>
                  </a:lnTo>
                  <a:lnTo>
                    <a:pt x="1761" y="447"/>
                  </a:lnTo>
                  <a:lnTo>
                    <a:pt x="1761" y="447"/>
                  </a:lnTo>
                  <a:lnTo>
                    <a:pt x="1761" y="447"/>
                  </a:lnTo>
                  <a:lnTo>
                    <a:pt x="1767" y="452"/>
                  </a:lnTo>
                  <a:lnTo>
                    <a:pt x="1772" y="452"/>
                  </a:lnTo>
                  <a:lnTo>
                    <a:pt x="1778" y="452"/>
                  </a:lnTo>
                  <a:lnTo>
                    <a:pt x="1783" y="452"/>
                  </a:lnTo>
                  <a:lnTo>
                    <a:pt x="1789" y="447"/>
                  </a:lnTo>
                  <a:lnTo>
                    <a:pt x="1794" y="447"/>
                  </a:lnTo>
                  <a:close/>
                  <a:moveTo>
                    <a:pt x="1042" y="322"/>
                  </a:moveTo>
                  <a:lnTo>
                    <a:pt x="1047" y="316"/>
                  </a:lnTo>
                  <a:lnTo>
                    <a:pt x="1058" y="311"/>
                  </a:lnTo>
                  <a:lnTo>
                    <a:pt x="1063" y="305"/>
                  </a:lnTo>
                  <a:lnTo>
                    <a:pt x="1069" y="300"/>
                  </a:lnTo>
                  <a:lnTo>
                    <a:pt x="1074" y="294"/>
                  </a:lnTo>
                  <a:lnTo>
                    <a:pt x="1080" y="289"/>
                  </a:lnTo>
                  <a:lnTo>
                    <a:pt x="1085" y="283"/>
                  </a:lnTo>
                  <a:lnTo>
                    <a:pt x="1091" y="278"/>
                  </a:lnTo>
                  <a:lnTo>
                    <a:pt x="1096" y="272"/>
                  </a:lnTo>
                  <a:lnTo>
                    <a:pt x="1102" y="267"/>
                  </a:lnTo>
                  <a:lnTo>
                    <a:pt x="1107" y="262"/>
                  </a:lnTo>
                  <a:lnTo>
                    <a:pt x="1113" y="256"/>
                  </a:lnTo>
                  <a:lnTo>
                    <a:pt x="1118" y="251"/>
                  </a:lnTo>
                  <a:lnTo>
                    <a:pt x="1123" y="245"/>
                  </a:lnTo>
                  <a:lnTo>
                    <a:pt x="1123" y="240"/>
                  </a:lnTo>
                  <a:lnTo>
                    <a:pt x="1129" y="234"/>
                  </a:lnTo>
                  <a:lnTo>
                    <a:pt x="1134" y="229"/>
                  </a:lnTo>
                  <a:lnTo>
                    <a:pt x="1145" y="223"/>
                  </a:lnTo>
                  <a:lnTo>
                    <a:pt x="1151" y="223"/>
                  </a:lnTo>
                  <a:lnTo>
                    <a:pt x="1162" y="218"/>
                  </a:lnTo>
                  <a:lnTo>
                    <a:pt x="1167" y="218"/>
                  </a:lnTo>
                  <a:lnTo>
                    <a:pt x="1172" y="213"/>
                  </a:lnTo>
                  <a:lnTo>
                    <a:pt x="1183" y="207"/>
                  </a:lnTo>
                  <a:lnTo>
                    <a:pt x="1189" y="202"/>
                  </a:lnTo>
                  <a:lnTo>
                    <a:pt x="1194" y="196"/>
                  </a:lnTo>
                  <a:lnTo>
                    <a:pt x="1205" y="196"/>
                  </a:lnTo>
                  <a:lnTo>
                    <a:pt x="1216" y="196"/>
                  </a:lnTo>
                  <a:lnTo>
                    <a:pt x="1222" y="191"/>
                  </a:lnTo>
                  <a:lnTo>
                    <a:pt x="1232" y="191"/>
                  </a:lnTo>
                  <a:lnTo>
                    <a:pt x="1243" y="185"/>
                  </a:lnTo>
                  <a:lnTo>
                    <a:pt x="1249" y="185"/>
                  </a:lnTo>
                  <a:lnTo>
                    <a:pt x="1260" y="180"/>
                  </a:lnTo>
                  <a:lnTo>
                    <a:pt x="1271" y="180"/>
                  </a:lnTo>
                  <a:lnTo>
                    <a:pt x="1276" y="180"/>
                  </a:lnTo>
                  <a:lnTo>
                    <a:pt x="1287" y="180"/>
                  </a:lnTo>
                  <a:lnTo>
                    <a:pt x="1292" y="185"/>
                  </a:lnTo>
                  <a:lnTo>
                    <a:pt x="1303" y="191"/>
                  </a:lnTo>
                  <a:lnTo>
                    <a:pt x="1303" y="196"/>
                  </a:lnTo>
                  <a:lnTo>
                    <a:pt x="1292" y="196"/>
                  </a:lnTo>
                  <a:lnTo>
                    <a:pt x="1287" y="202"/>
                  </a:lnTo>
                  <a:lnTo>
                    <a:pt x="1276" y="207"/>
                  </a:lnTo>
                  <a:lnTo>
                    <a:pt x="1271" y="202"/>
                  </a:lnTo>
                  <a:lnTo>
                    <a:pt x="1260" y="202"/>
                  </a:lnTo>
                  <a:lnTo>
                    <a:pt x="1249" y="202"/>
                  </a:lnTo>
                  <a:lnTo>
                    <a:pt x="1243" y="202"/>
                  </a:lnTo>
                  <a:lnTo>
                    <a:pt x="1238" y="202"/>
                  </a:lnTo>
                  <a:lnTo>
                    <a:pt x="1238" y="213"/>
                  </a:lnTo>
                  <a:lnTo>
                    <a:pt x="1238" y="218"/>
                  </a:lnTo>
                  <a:lnTo>
                    <a:pt x="1238" y="229"/>
                  </a:lnTo>
                  <a:lnTo>
                    <a:pt x="1238" y="234"/>
                  </a:lnTo>
                  <a:lnTo>
                    <a:pt x="1232" y="245"/>
                  </a:lnTo>
                  <a:lnTo>
                    <a:pt x="1232" y="251"/>
                  </a:lnTo>
                  <a:lnTo>
                    <a:pt x="1222" y="256"/>
                  </a:lnTo>
                  <a:lnTo>
                    <a:pt x="1216" y="256"/>
                  </a:lnTo>
                  <a:lnTo>
                    <a:pt x="1205" y="256"/>
                  </a:lnTo>
                  <a:lnTo>
                    <a:pt x="1189" y="251"/>
                  </a:lnTo>
                  <a:lnTo>
                    <a:pt x="1183" y="251"/>
                  </a:lnTo>
                  <a:lnTo>
                    <a:pt x="1178" y="256"/>
                  </a:lnTo>
                  <a:lnTo>
                    <a:pt x="1172" y="262"/>
                  </a:lnTo>
                  <a:lnTo>
                    <a:pt x="1172" y="267"/>
                  </a:lnTo>
                  <a:lnTo>
                    <a:pt x="1162" y="272"/>
                  </a:lnTo>
                  <a:lnTo>
                    <a:pt x="1156" y="278"/>
                  </a:lnTo>
                  <a:lnTo>
                    <a:pt x="1151" y="283"/>
                  </a:lnTo>
                  <a:lnTo>
                    <a:pt x="1145" y="289"/>
                  </a:lnTo>
                  <a:lnTo>
                    <a:pt x="1140" y="294"/>
                  </a:lnTo>
                  <a:lnTo>
                    <a:pt x="1134" y="300"/>
                  </a:lnTo>
                  <a:lnTo>
                    <a:pt x="1129" y="311"/>
                  </a:lnTo>
                  <a:lnTo>
                    <a:pt x="1123" y="316"/>
                  </a:lnTo>
                  <a:lnTo>
                    <a:pt x="1118" y="316"/>
                  </a:lnTo>
                  <a:lnTo>
                    <a:pt x="1113" y="316"/>
                  </a:lnTo>
                  <a:lnTo>
                    <a:pt x="1107" y="311"/>
                  </a:lnTo>
                  <a:lnTo>
                    <a:pt x="1096" y="305"/>
                  </a:lnTo>
                  <a:lnTo>
                    <a:pt x="1091" y="300"/>
                  </a:lnTo>
                  <a:lnTo>
                    <a:pt x="1085" y="294"/>
                  </a:lnTo>
                  <a:lnTo>
                    <a:pt x="1080" y="294"/>
                  </a:lnTo>
                  <a:lnTo>
                    <a:pt x="1074" y="294"/>
                  </a:lnTo>
                  <a:lnTo>
                    <a:pt x="1074" y="300"/>
                  </a:lnTo>
                  <a:lnTo>
                    <a:pt x="1069" y="311"/>
                  </a:lnTo>
                  <a:lnTo>
                    <a:pt x="1069" y="316"/>
                  </a:lnTo>
                  <a:lnTo>
                    <a:pt x="1063" y="327"/>
                  </a:lnTo>
                  <a:lnTo>
                    <a:pt x="1058" y="332"/>
                  </a:lnTo>
                  <a:lnTo>
                    <a:pt x="1053" y="338"/>
                  </a:lnTo>
                  <a:lnTo>
                    <a:pt x="1053" y="338"/>
                  </a:lnTo>
                  <a:lnTo>
                    <a:pt x="1047" y="338"/>
                  </a:lnTo>
                  <a:lnTo>
                    <a:pt x="1047" y="332"/>
                  </a:lnTo>
                  <a:lnTo>
                    <a:pt x="1042" y="322"/>
                  </a:lnTo>
                  <a:close/>
                  <a:moveTo>
                    <a:pt x="1592" y="191"/>
                  </a:moveTo>
                  <a:lnTo>
                    <a:pt x="1592" y="185"/>
                  </a:lnTo>
                  <a:lnTo>
                    <a:pt x="1592" y="185"/>
                  </a:lnTo>
                  <a:lnTo>
                    <a:pt x="1592" y="180"/>
                  </a:lnTo>
                  <a:lnTo>
                    <a:pt x="1592" y="174"/>
                  </a:lnTo>
                  <a:lnTo>
                    <a:pt x="1592" y="174"/>
                  </a:lnTo>
                  <a:lnTo>
                    <a:pt x="1592" y="174"/>
                  </a:lnTo>
                  <a:lnTo>
                    <a:pt x="1592" y="174"/>
                  </a:lnTo>
                  <a:lnTo>
                    <a:pt x="1592" y="174"/>
                  </a:lnTo>
                  <a:lnTo>
                    <a:pt x="1592" y="180"/>
                  </a:lnTo>
                  <a:lnTo>
                    <a:pt x="1592" y="180"/>
                  </a:lnTo>
                  <a:lnTo>
                    <a:pt x="1592" y="185"/>
                  </a:lnTo>
                  <a:lnTo>
                    <a:pt x="1592" y="191"/>
                  </a:lnTo>
                  <a:lnTo>
                    <a:pt x="1592" y="191"/>
                  </a:lnTo>
                  <a:lnTo>
                    <a:pt x="1592" y="191"/>
                  </a:lnTo>
                  <a:close/>
                  <a:moveTo>
                    <a:pt x="1347" y="158"/>
                  </a:moveTo>
                  <a:lnTo>
                    <a:pt x="1352" y="158"/>
                  </a:lnTo>
                  <a:lnTo>
                    <a:pt x="1358" y="153"/>
                  </a:lnTo>
                  <a:lnTo>
                    <a:pt x="1363" y="153"/>
                  </a:lnTo>
                  <a:lnTo>
                    <a:pt x="1369" y="153"/>
                  </a:lnTo>
                  <a:lnTo>
                    <a:pt x="1374" y="153"/>
                  </a:lnTo>
                  <a:lnTo>
                    <a:pt x="1385" y="153"/>
                  </a:lnTo>
                  <a:lnTo>
                    <a:pt x="1391" y="153"/>
                  </a:lnTo>
                  <a:lnTo>
                    <a:pt x="1396" y="153"/>
                  </a:lnTo>
                  <a:lnTo>
                    <a:pt x="1401" y="158"/>
                  </a:lnTo>
                  <a:lnTo>
                    <a:pt x="1407" y="158"/>
                  </a:lnTo>
                  <a:lnTo>
                    <a:pt x="1401" y="163"/>
                  </a:lnTo>
                  <a:lnTo>
                    <a:pt x="1391" y="163"/>
                  </a:lnTo>
                  <a:lnTo>
                    <a:pt x="1385" y="169"/>
                  </a:lnTo>
                  <a:lnTo>
                    <a:pt x="1380" y="169"/>
                  </a:lnTo>
                  <a:lnTo>
                    <a:pt x="1374" y="169"/>
                  </a:lnTo>
                  <a:lnTo>
                    <a:pt x="1369" y="169"/>
                  </a:lnTo>
                  <a:lnTo>
                    <a:pt x="1363" y="169"/>
                  </a:lnTo>
                  <a:lnTo>
                    <a:pt x="1358" y="169"/>
                  </a:lnTo>
                  <a:lnTo>
                    <a:pt x="1352" y="163"/>
                  </a:lnTo>
                  <a:lnTo>
                    <a:pt x="1347" y="158"/>
                  </a:lnTo>
                  <a:close/>
                  <a:moveTo>
                    <a:pt x="1461" y="125"/>
                  </a:moveTo>
                  <a:lnTo>
                    <a:pt x="1467" y="125"/>
                  </a:lnTo>
                  <a:lnTo>
                    <a:pt x="1472" y="125"/>
                  </a:lnTo>
                  <a:lnTo>
                    <a:pt x="1478" y="125"/>
                  </a:lnTo>
                  <a:lnTo>
                    <a:pt x="1478" y="125"/>
                  </a:lnTo>
                  <a:lnTo>
                    <a:pt x="1483" y="125"/>
                  </a:lnTo>
                  <a:lnTo>
                    <a:pt x="1489" y="125"/>
                  </a:lnTo>
                  <a:lnTo>
                    <a:pt x="1494" y="125"/>
                  </a:lnTo>
                  <a:lnTo>
                    <a:pt x="1500" y="125"/>
                  </a:lnTo>
                  <a:lnTo>
                    <a:pt x="1505" y="125"/>
                  </a:lnTo>
                  <a:lnTo>
                    <a:pt x="1505" y="131"/>
                  </a:lnTo>
                  <a:lnTo>
                    <a:pt x="1505" y="131"/>
                  </a:lnTo>
                  <a:lnTo>
                    <a:pt x="1500" y="131"/>
                  </a:lnTo>
                  <a:lnTo>
                    <a:pt x="1494" y="136"/>
                  </a:lnTo>
                  <a:lnTo>
                    <a:pt x="1489" y="136"/>
                  </a:lnTo>
                  <a:lnTo>
                    <a:pt x="1483" y="136"/>
                  </a:lnTo>
                  <a:lnTo>
                    <a:pt x="1478" y="136"/>
                  </a:lnTo>
                  <a:lnTo>
                    <a:pt x="1472" y="136"/>
                  </a:lnTo>
                  <a:lnTo>
                    <a:pt x="1467" y="131"/>
                  </a:lnTo>
                  <a:lnTo>
                    <a:pt x="1467" y="131"/>
                  </a:lnTo>
                  <a:lnTo>
                    <a:pt x="1461" y="125"/>
                  </a:lnTo>
                  <a:close/>
                  <a:moveTo>
                    <a:pt x="1576" y="98"/>
                  </a:moveTo>
                  <a:lnTo>
                    <a:pt x="1581" y="93"/>
                  </a:lnTo>
                  <a:lnTo>
                    <a:pt x="1587" y="93"/>
                  </a:lnTo>
                  <a:lnTo>
                    <a:pt x="1592" y="93"/>
                  </a:lnTo>
                  <a:lnTo>
                    <a:pt x="1598" y="93"/>
                  </a:lnTo>
                  <a:lnTo>
                    <a:pt x="1603" y="93"/>
                  </a:lnTo>
                  <a:lnTo>
                    <a:pt x="1603" y="93"/>
                  </a:lnTo>
                  <a:lnTo>
                    <a:pt x="1603" y="98"/>
                  </a:lnTo>
                  <a:lnTo>
                    <a:pt x="1603" y="98"/>
                  </a:lnTo>
                  <a:lnTo>
                    <a:pt x="1598" y="104"/>
                  </a:lnTo>
                  <a:lnTo>
                    <a:pt x="1592" y="104"/>
                  </a:lnTo>
                  <a:lnTo>
                    <a:pt x="1587" y="104"/>
                  </a:lnTo>
                  <a:lnTo>
                    <a:pt x="1587" y="104"/>
                  </a:lnTo>
                  <a:lnTo>
                    <a:pt x="1581" y="98"/>
                  </a:lnTo>
                  <a:lnTo>
                    <a:pt x="1576" y="98"/>
                  </a:lnTo>
                  <a:close/>
                </a:path>
              </a:pathLst>
            </a:custGeom>
            <a:solidFill>
              <a:srgbClr val="76cc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1" name=""/>
            <p:cNvSpPr/>
            <p:nvPr/>
          </p:nvSpPr>
          <p:spPr>
            <a:xfrm>
              <a:off x="1741320" y="2514600"/>
              <a:ext cx="4899240" cy="3139920"/>
            </a:xfrm>
            <a:custGeom>
              <a:avLst/>
              <a:gdLst/>
              <a:ahLst/>
              <a:rect l="l" t="t" r="r" b="b"/>
              <a:pathLst>
                <a:path w="3086" h="1978">
                  <a:moveTo>
                    <a:pt x="2672" y="1978"/>
                  </a:moveTo>
                  <a:lnTo>
                    <a:pt x="2705" y="1946"/>
                  </a:lnTo>
                  <a:lnTo>
                    <a:pt x="2737" y="1946"/>
                  </a:lnTo>
                  <a:lnTo>
                    <a:pt x="2770" y="1946"/>
                  </a:lnTo>
                  <a:lnTo>
                    <a:pt x="2797" y="1946"/>
                  </a:lnTo>
                  <a:lnTo>
                    <a:pt x="2830" y="1946"/>
                  </a:lnTo>
                  <a:lnTo>
                    <a:pt x="2863" y="1946"/>
                  </a:lnTo>
                  <a:lnTo>
                    <a:pt x="2895" y="1946"/>
                  </a:lnTo>
                  <a:lnTo>
                    <a:pt x="2928" y="1918"/>
                  </a:lnTo>
                  <a:lnTo>
                    <a:pt x="2928" y="1886"/>
                  </a:lnTo>
                  <a:lnTo>
                    <a:pt x="2928" y="1853"/>
                  </a:lnTo>
                  <a:lnTo>
                    <a:pt x="2928" y="1820"/>
                  </a:lnTo>
                  <a:lnTo>
                    <a:pt x="2961" y="1788"/>
                  </a:lnTo>
                  <a:lnTo>
                    <a:pt x="2961" y="1755"/>
                  </a:lnTo>
                  <a:lnTo>
                    <a:pt x="2961" y="1722"/>
                  </a:lnTo>
                  <a:lnTo>
                    <a:pt x="2961" y="1695"/>
                  </a:lnTo>
                  <a:lnTo>
                    <a:pt x="2988" y="1662"/>
                  </a:lnTo>
                  <a:lnTo>
                    <a:pt x="2988" y="1630"/>
                  </a:lnTo>
                  <a:lnTo>
                    <a:pt x="2988" y="1597"/>
                  </a:lnTo>
                  <a:lnTo>
                    <a:pt x="2988" y="1564"/>
                  </a:lnTo>
                  <a:lnTo>
                    <a:pt x="3021" y="1531"/>
                  </a:lnTo>
                  <a:lnTo>
                    <a:pt x="3021" y="1499"/>
                  </a:lnTo>
                  <a:lnTo>
                    <a:pt x="3021" y="1472"/>
                  </a:lnTo>
                  <a:lnTo>
                    <a:pt x="3021" y="1439"/>
                  </a:lnTo>
                  <a:lnTo>
                    <a:pt x="3054" y="1406"/>
                  </a:lnTo>
                  <a:lnTo>
                    <a:pt x="3054" y="1373"/>
                  </a:lnTo>
                  <a:lnTo>
                    <a:pt x="3054" y="1341"/>
                  </a:lnTo>
                  <a:lnTo>
                    <a:pt x="3054" y="1308"/>
                  </a:lnTo>
                  <a:lnTo>
                    <a:pt x="3086" y="1275"/>
                  </a:lnTo>
                  <a:lnTo>
                    <a:pt x="3086" y="1248"/>
                  </a:lnTo>
                  <a:lnTo>
                    <a:pt x="3086" y="1215"/>
                  </a:lnTo>
                  <a:lnTo>
                    <a:pt x="3086" y="1183"/>
                  </a:lnTo>
                  <a:lnTo>
                    <a:pt x="3086" y="1150"/>
                  </a:lnTo>
                  <a:lnTo>
                    <a:pt x="3086" y="1117"/>
                  </a:lnTo>
                  <a:lnTo>
                    <a:pt x="3086" y="1085"/>
                  </a:lnTo>
                  <a:lnTo>
                    <a:pt x="3086" y="1052"/>
                  </a:lnTo>
                  <a:lnTo>
                    <a:pt x="3086" y="1025"/>
                  </a:lnTo>
                  <a:lnTo>
                    <a:pt x="3086" y="992"/>
                  </a:lnTo>
                  <a:lnTo>
                    <a:pt x="3086" y="959"/>
                  </a:lnTo>
                  <a:lnTo>
                    <a:pt x="3086" y="927"/>
                  </a:lnTo>
                  <a:lnTo>
                    <a:pt x="3086" y="894"/>
                  </a:lnTo>
                  <a:lnTo>
                    <a:pt x="3086" y="861"/>
                  </a:lnTo>
                  <a:lnTo>
                    <a:pt x="3086" y="828"/>
                  </a:lnTo>
                  <a:lnTo>
                    <a:pt x="3086" y="801"/>
                  </a:lnTo>
                  <a:lnTo>
                    <a:pt x="3086" y="768"/>
                  </a:lnTo>
                  <a:lnTo>
                    <a:pt x="3086" y="736"/>
                  </a:lnTo>
                  <a:lnTo>
                    <a:pt x="3086" y="703"/>
                  </a:lnTo>
                  <a:lnTo>
                    <a:pt x="3086" y="670"/>
                  </a:lnTo>
                  <a:lnTo>
                    <a:pt x="3086" y="638"/>
                  </a:lnTo>
                  <a:lnTo>
                    <a:pt x="3086" y="605"/>
                  </a:lnTo>
                  <a:lnTo>
                    <a:pt x="3086" y="572"/>
                  </a:lnTo>
                  <a:lnTo>
                    <a:pt x="3086" y="545"/>
                  </a:lnTo>
                  <a:lnTo>
                    <a:pt x="3086" y="512"/>
                  </a:lnTo>
                  <a:lnTo>
                    <a:pt x="3086" y="480"/>
                  </a:lnTo>
                  <a:lnTo>
                    <a:pt x="3086" y="447"/>
                  </a:lnTo>
                  <a:lnTo>
                    <a:pt x="3086" y="414"/>
                  </a:lnTo>
                  <a:lnTo>
                    <a:pt x="3086" y="381"/>
                  </a:lnTo>
                  <a:lnTo>
                    <a:pt x="3086" y="354"/>
                  </a:lnTo>
                  <a:lnTo>
                    <a:pt x="3086" y="322"/>
                  </a:lnTo>
                  <a:lnTo>
                    <a:pt x="3086" y="289"/>
                  </a:lnTo>
                  <a:lnTo>
                    <a:pt x="3054" y="256"/>
                  </a:lnTo>
                  <a:lnTo>
                    <a:pt x="3054" y="223"/>
                  </a:lnTo>
                  <a:lnTo>
                    <a:pt x="3054" y="191"/>
                  </a:lnTo>
                  <a:lnTo>
                    <a:pt x="3054" y="158"/>
                  </a:lnTo>
                  <a:lnTo>
                    <a:pt x="3054" y="125"/>
                  </a:lnTo>
                  <a:lnTo>
                    <a:pt x="3021" y="98"/>
                  </a:lnTo>
                  <a:lnTo>
                    <a:pt x="2988" y="98"/>
                  </a:lnTo>
                  <a:lnTo>
                    <a:pt x="2961" y="98"/>
                  </a:lnTo>
                  <a:lnTo>
                    <a:pt x="2928" y="65"/>
                  </a:lnTo>
                  <a:lnTo>
                    <a:pt x="2895" y="65"/>
                  </a:lnTo>
                  <a:lnTo>
                    <a:pt x="2863" y="65"/>
                  </a:lnTo>
                  <a:lnTo>
                    <a:pt x="2830" y="33"/>
                  </a:lnTo>
                  <a:lnTo>
                    <a:pt x="2797" y="33"/>
                  </a:lnTo>
                  <a:lnTo>
                    <a:pt x="2770" y="33"/>
                  </a:lnTo>
                  <a:lnTo>
                    <a:pt x="2737" y="0"/>
                  </a:lnTo>
                  <a:lnTo>
                    <a:pt x="2705" y="0"/>
                  </a:lnTo>
                  <a:lnTo>
                    <a:pt x="2672" y="0"/>
                  </a:lnTo>
                  <a:lnTo>
                    <a:pt x="2639" y="0"/>
                  </a:lnTo>
                  <a:lnTo>
                    <a:pt x="2612" y="0"/>
                  </a:lnTo>
                  <a:lnTo>
                    <a:pt x="2579" y="0"/>
                  </a:lnTo>
                  <a:lnTo>
                    <a:pt x="2546" y="0"/>
                  </a:lnTo>
                  <a:lnTo>
                    <a:pt x="2514" y="0"/>
                  </a:lnTo>
                  <a:lnTo>
                    <a:pt x="2481" y="0"/>
                  </a:lnTo>
                  <a:lnTo>
                    <a:pt x="2448" y="0"/>
                  </a:lnTo>
                  <a:lnTo>
                    <a:pt x="2421" y="0"/>
                  </a:lnTo>
                  <a:lnTo>
                    <a:pt x="2388" y="0"/>
                  </a:lnTo>
                  <a:lnTo>
                    <a:pt x="2356" y="0"/>
                  </a:lnTo>
                  <a:lnTo>
                    <a:pt x="2323" y="0"/>
                  </a:lnTo>
                  <a:lnTo>
                    <a:pt x="2290" y="0"/>
                  </a:lnTo>
                  <a:lnTo>
                    <a:pt x="2258" y="0"/>
                  </a:lnTo>
                  <a:lnTo>
                    <a:pt x="2230" y="0"/>
                  </a:lnTo>
                  <a:lnTo>
                    <a:pt x="2198" y="0"/>
                  </a:lnTo>
                  <a:lnTo>
                    <a:pt x="2165" y="0"/>
                  </a:lnTo>
                  <a:lnTo>
                    <a:pt x="2132" y="0"/>
                  </a:lnTo>
                  <a:lnTo>
                    <a:pt x="2099" y="0"/>
                  </a:lnTo>
                  <a:lnTo>
                    <a:pt x="2067" y="0"/>
                  </a:lnTo>
                  <a:lnTo>
                    <a:pt x="2039" y="0"/>
                  </a:lnTo>
                  <a:lnTo>
                    <a:pt x="2007" y="0"/>
                  </a:lnTo>
                  <a:lnTo>
                    <a:pt x="1979" y="0"/>
                  </a:lnTo>
                  <a:lnTo>
                    <a:pt x="1990" y="5"/>
                  </a:lnTo>
                  <a:lnTo>
                    <a:pt x="2001" y="5"/>
                  </a:lnTo>
                  <a:lnTo>
                    <a:pt x="2007" y="11"/>
                  </a:lnTo>
                  <a:lnTo>
                    <a:pt x="2018" y="16"/>
                  </a:lnTo>
                  <a:lnTo>
                    <a:pt x="2023" y="22"/>
                  </a:lnTo>
                  <a:lnTo>
                    <a:pt x="2034" y="22"/>
                  </a:lnTo>
                  <a:lnTo>
                    <a:pt x="2045" y="27"/>
                  </a:lnTo>
                  <a:lnTo>
                    <a:pt x="2056" y="27"/>
                  </a:lnTo>
                  <a:lnTo>
                    <a:pt x="2061" y="27"/>
                  </a:lnTo>
                  <a:lnTo>
                    <a:pt x="2072" y="33"/>
                  </a:lnTo>
                  <a:lnTo>
                    <a:pt x="2083" y="33"/>
                  </a:lnTo>
                  <a:lnTo>
                    <a:pt x="2094" y="38"/>
                  </a:lnTo>
                  <a:lnTo>
                    <a:pt x="2099" y="38"/>
                  </a:lnTo>
                  <a:lnTo>
                    <a:pt x="2105" y="44"/>
                  </a:lnTo>
                  <a:lnTo>
                    <a:pt x="2110" y="54"/>
                  </a:lnTo>
                  <a:lnTo>
                    <a:pt x="2116" y="60"/>
                  </a:lnTo>
                  <a:lnTo>
                    <a:pt x="2121" y="65"/>
                  </a:lnTo>
                  <a:lnTo>
                    <a:pt x="2132" y="65"/>
                  </a:lnTo>
                  <a:lnTo>
                    <a:pt x="2143" y="65"/>
                  </a:lnTo>
                  <a:lnTo>
                    <a:pt x="2154" y="65"/>
                  </a:lnTo>
                  <a:lnTo>
                    <a:pt x="2165" y="65"/>
                  </a:lnTo>
                  <a:lnTo>
                    <a:pt x="2176" y="65"/>
                  </a:lnTo>
                  <a:lnTo>
                    <a:pt x="2187" y="65"/>
                  </a:lnTo>
                  <a:lnTo>
                    <a:pt x="2198" y="65"/>
                  </a:lnTo>
                  <a:lnTo>
                    <a:pt x="2203" y="71"/>
                  </a:lnTo>
                  <a:lnTo>
                    <a:pt x="2203" y="76"/>
                  </a:lnTo>
                  <a:lnTo>
                    <a:pt x="2208" y="87"/>
                  </a:lnTo>
                  <a:lnTo>
                    <a:pt x="2208" y="93"/>
                  </a:lnTo>
                  <a:lnTo>
                    <a:pt x="2214" y="98"/>
                  </a:lnTo>
                  <a:lnTo>
                    <a:pt x="2225" y="98"/>
                  </a:lnTo>
                  <a:lnTo>
                    <a:pt x="2236" y="98"/>
                  </a:lnTo>
                  <a:lnTo>
                    <a:pt x="2247" y="98"/>
                  </a:lnTo>
                  <a:lnTo>
                    <a:pt x="2258" y="98"/>
                  </a:lnTo>
                  <a:lnTo>
                    <a:pt x="2268" y="98"/>
                  </a:lnTo>
                  <a:lnTo>
                    <a:pt x="2279" y="98"/>
                  </a:lnTo>
                  <a:lnTo>
                    <a:pt x="2290" y="98"/>
                  </a:lnTo>
                  <a:lnTo>
                    <a:pt x="2296" y="104"/>
                  </a:lnTo>
                  <a:lnTo>
                    <a:pt x="2301" y="114"/>
                  </a:lnTo>
                  <a:lnTo>
                    <a:pt x="2301" y="120"/>
                  </a:lnTo>
                  <a:lnTo>
                    <a:pt x="2307" y="125"/>
                  </a:lnTo>
                  <a:lnTo>
                    <a:pt x="2317" y="131"/>
                  </a:lnTo>
                  <a:lnTo>
                    <a:pt x="2328" y="131"/>
                  </a:lnTo>
                  <a:lnTo>
                    <a:pt x="2339" y="131"/>
                  </a:lnTo>
                  <a:lnTo>
                    <a:pt x="2350" y="131"/>
                  </a:lnTo>
                  <a:lnTo>
                    <a:pt x="2361" y="131"/>
                  </a:lnTo>
                  <a:lnTo>
                    <a:pt x="2372" y="131"/>
                  </a:lnTo>
                  <a:lnTo>
                    <a:pt x="2377" y="131"/>
                  </a:lnTo>
                  <a:lnTo>
                    <a:pt x="2388" y="131"/>
                  </a:lnTo>
                  <a:lnTo>
                    <a:pt x="2399" y="136"/>
                  </a:lnTo>
                  <a:lnTo>
                    <a:pt x="2405" y="142"/>
                  </a:lnTo>
                  <a:lnTo>
                    <a:pt x="2410" y="147"/>
                  </a:lnTo>
                  <a:lnTo>
                    <a:pt x="2410" y="153"/>
                  </a:lnTo>
                  <a:lnTo>
                    <a:pt x="2416" y="158"/>
                  </a:lnTo>
                  <a:lnTo>
                    <a:pt x="2427" y="163"/>
                  </a:lnTo>
                  <a:lnTo>
                    <a:pt x="2432" y="163"/>
                  </a:lnTo>
                  <a:lnTo>
                    <a:pt x="2448" y="163"/>
                  </a:lnTo>
                  <a:lnTo>
                    <a:pt x="2459" y="163"/>
                  </a:lnTo>
                  <a:lnTo>
                    <a:pt x="2470" y="163"/>
                  </a:lnTo>
                  <a:lnTo>
                    <a:pt x="2476" y="163"/>
                  </a:lnTo>
                  <a:lnTo>
                    <a:pt x="2487" y="163"/>
                  </a:lnTo>
                  <a:lnTo>
                    <a:pt x="2497" y="163"/>
                  </a:lnTo>
                  <a:lnTo>
                    <a:pt x="2508" y="163"/>
                  </a:lnTo>
                  <a:lnTo>
                    <a:pt x="2519" y="169"/>
                  </a:lnTo>
                  <a:lnTo>
                    <a:pt x="2525" y="174"/>
                  </a:lnTo>
                  <a:lnTo>
                    <a:pt x="2530" y="180"/>
                  </a:lnTo>
                  <a:lnTo>
                    <a:pt x="2536" y="185"/>
                  </a:lnTo>
                  <a:lnTo>
                    <a:pt x="2536" y="196"/>
                  </a:lnTo>
                  <a:lnTo>
                    <a:pt x="2541" y="202"/>
                  </a:lnTo>
                  <a:lnTo>
                    <a:pt x="2546" y="207"/>
                  </a:lnTo>
                  <a:lnTo>
                    <a:pt x="2552" y="213"/>
                  </a:lnTo>
                  <a:lnTo>
                    <a:pt x="2563" y="213"/>
                  </a:lnTo>
                  <a:lnTo>
                    <a:pt x="2568" y="218"/>
                  </a:lnTo>
                  <a:lnTo>
                    <a:pt x="2574" y="223"/>
                  </a:lnTo>
                  <a:lnTo>
                    <a:pt x="2574" y="229"/>
                  </a:lnTo>
                  <a:lnTo>
                    <a:pt x="2574" y="240"/>
                  </a:lnTo>
                  <a:lnTo>
                    <a:pt x="2568" y="245"/>
                  </a:lnTo>
                  <a:lnTo>
                    <a:pt x="2568" y="251"/>
                  </a:lnTo>
                  <a:lnTo>
                    <a:pt x="2579" y="256"/>
                  </a:lnTo>
                  <a:lnTo>
                    <a:pt x="2579" y="245"/>
                  </a:lnTo>
                  <a:lnTo>
                    <a:pt x="2579" y="240"/>
                  </a:lnTo>
                  <a:lnTo>
                    <a:pt x="2579" y="234"/>
                  </a:lnTo>
                  <a:lnTo>
                    <a:pt x="2579" y="229"/>
                  </a:lnTo>
                  <a:lnTo>
                    <a:pt x="2579" y="218"/>
                  </a:lnTo>
                  <a:lnTo>
                    <a:pt x="2585" y="213"/>
                  </a:lnTo>
                  <a:lnTo>
                    <a:pt x="2596" y="207"/>
                  </a:lnTo>
                  <a:lnTo>
                    <a:pt x="2601" y="202"/>
                  </a:lnTo>
                  <a:lnTo>
                    <a:pt x="2612" y="202"/>
                  </a:lnTo>
                  <a:lnTo>
                    <a:pt x="2617" y="207"/>
                  </a:lnTo>
                  <a:lnTo>
                    <a:pt x="2628" y="213"/>
                  </a:lnTo>
                  <a:lnTo>
                    <a:pt x="2634" y="218"/>
                  </a:lnTo>
                  <a:lnTo>
                    <a:pt x="2639" y="223"/>
                  </a:lnTo>
                  <a:lnTo>
                    <a:pt x="2650" y="229"/>
                  </a:lnTo>
                  <a:lnTo>
                    <a:pt x="2656" y="229"/>
                  </a:lnTo>
                  <a:lnTo>
                    <a:pt x="2666" y="234"/>
                  </a:lnTo>
                  <a:lnTo>
                    <a:pt x="2672" y="240"/>
                  </a:lnTo>
                  <a:lnTo>
                    <a:pt x="2677" y="245"/>
                  </a:lnTo>
                  <a:lnTo>
                    <a:pt x="2688" y="251"/>
                  </a:lnTo>
                  <a:lnTo>
                    <a:pt x="2694" y="256"/>
                  </a:lnTo>
                  <a:lnTo>
                    <a:pt x="2699" y="262"/>
                  </a:lnTo>
                  <a:lnTo>
                    <a:pt x="2710" y="267"/>
                  </a:lnTo>
                  <a:lnTo>
                    <a:pt x="2715" y="267"/>
                  </a:lnTo>
                  <a:lnTo>
                    <a:pt x="2721" y="272"/>
                  </a:lnTo>
                  <a:lnTo>
                    <a:pt x="2726" y="278"/>
                  </a:lnTo>
                  <a:lnTo>
                    <a:pt x="2737" y="283"/>
                  </a:lnTo>
                  <a:lnTo>
                    <a:pt x="2743" y="289"/>
                  </a:lnTo>
                  <a:lnTo>
                    <a:pt x="2732" y="294"/>
                  </a:lnTo>
                  <a:lnTo>
                    <a:pt x="2721" y="294"/>
                  </a:lnTo>
                  <a:lnTo>
                    <a:pt x="2710" y="294"/>
                  </a:lnTo>
                  <a:lnTo>
                    <a:pt x="2705" y="294"/>
                  </a:lnTo>
                  <a:lnTo>
                    <a:pt x="2694" y="294"/>
                  </a:lnTo>
                  <a:lnTo>
                    <a:pt x="2683" y="294"/>
                  </a:lnTo>
                  <a:lnTo>
                    <a:pt x="2672" y="294"/>
                  </a:lnTo>
                  <a:lnTo>
                    <a:pt x="2661" y="294"/>
                  </a:lnTo>
                  <a:lnTo>
                    <a:pt x="2650" y="294"/>
                  </a:lnTo>
                  <a:lnTo>
                    <a:pt x="2639" y="294"/>
                  </a:lnTo>
                  <a:lnTo>
                    <a:pt x="2634" y="300"/>
                  </a:lnTo>
                  <a:lnTo>
                    <a:pt x="2623" y="305"/>
                  </a:lnTo>
                  <a:lnTo>
                    <a:pt x="2612" y="305"/>
                  </a:lnTo>
                  <a:lnTo>
                    <a:pt x="2606" y="311"/>
                  </a:lnTo>
                  <a:lnTo>
                    <a:pt x="2601" y="316"/>
                  </a:lnTo>
                  <a:lnTo>
                    <a:pt x="2601" y="327"/>
                  </a:lnTo>
                  <a:lnTo>
                    <a:pt x="2601" y="332"/>
                  </a:lnTo>
                  <a:lnTo>
                    <a:pt x="2601" y="338"/>
                  </a:lnTo>
                  <a:lnTo>
                    <a:pt x="2606" y="343"/>
                  </a:lnTo>
                  <a:lnTo>
                    <a:pt x="2601" y="354"/>
                  </a:lnTo>
                  <a:lnTo>
                    <a:pt x="2601" y="360"/>
                  </a:lnTo>
                  <a:lnTo>
                    <a:pt x="2590" y="365"/>
                  </a:lnTo>
                  <a:lnTo>
                    <a:pt x="2585" y="371"/>
                  </a:lnTo>
                  <a:lnTo>
                    <a:pt x="2579" y="376"/>
                  </a:lnTo>
                  <a:lnTo>
                    <a:pt x="2574" y="381"/>
                  </a:lnTo>
                  <a:lnTo>
                    <a:pt x="2568" y="387"/>
                  </a:lnTo>
                  <a:lnTo>
                    <a:pt x="2568" y="392"/>
                  </a:lnTo>
                  <a:lnTo>
                    <a:pt x="2557" y="398"/>
                  </a:lnTo>
                  <a:lnTo>
                    <a:pt x="2552" y="403"/>
                  </a:lnTo>
                  <a:lnTo>
                    <a:pt x="2546" y="409"/>
                  </a:lnTo>
                  <a:lnTo>
                    <a:pt x="2536" y="414"/>
                  </a:lnTo>
                  <a:lnTo>
                    <a:pt x="2530" y="420"/>
                  </a:lnTo>
                  <a:lnTo>
                    <a:pt x="2525" y="425"/>
                  </a:lnTo>
                  <a:lnTo>
                    <a:pt x="2519" y="431"/>
                  </a:lnTo>
                  <a:lnTo>
                    <a:pt x="2514" y="436"/>
                  </a:lnTo>
                  <a:lnTo>
                    <a:pt x="2503" y="436"/>
                  </a:lnTo>
                  <a:lnTo>
                    <a:pt x="2492" y="441"/>
                  </a:lnTo>
                  <a:lnTo>
                    <a:pt x="2481" y="441"/>
                  </a:lnTo>
                  <a:lnTo>
                    <a:pt x="2470" y="441"/>
                  </a:lnTo>
                  <a:lnTo>
                    <a:pt x="2459" y="441"/>
                  </a:lnTo>
                  <a:lnTo>
                    <a:pt x="2448" y="441"/>
                  </a:lnTo>
                  <a:lnTo>
                    <a:pt x="2437" y="441"/>
                  </a:lnTo>
                  <a:lnTo>
                    <a:pt x="2427" y="447"/>
                  </a:lnTo>
                  <a:lnTo>
                    <a:pt x="2421" y="447"/>
                  </a:lnTo>
                  <a:lnTo>
                    <a:pt x="2410" y="447"/>
                  </a:lnTo>
                  <a:lnTo>
                    <a:pt x="2399" y="452"/>
                  </a:lnTo>
                  <a:lnTo>
                    <a:pt x="2394" y="458"/>
                  </a:lnTo>
                  <a:lnTo>
                    <a:pt x="2383" y="458"/>
                  </a:lnTo>
                  <a:lnTo>
                    <a:pt x="2372" y="458"/>
                  </a:lnTo>
                  <a:lnTo>
                    <a:pt x="2361" y="458"/>
                  </a:lnTo>
                  <a:lnTo>
                    <a:pt x="2350" y="458"/>
                  </a:lnTo>
                  <a:lnTo>
                    <a:pt x="2339" y="458"/>
                  </a:lnTo>
                  <a:lnTo>
                    <a:pt x="2328" y="463"/>
                  </a:lnTo>
                  <a:lnTo>
                    <a:pt x="2323" y="463"/>
                  </a:lnTo>
                  <a:lnTo>
                    <a:pt x="2312" y="463"/>
                  </a:lnTo>
                  <a:lnTo>
                    <a:pt x="2301" y="458"/>
                  </a:lnTo>
                  <a:lnTo>
                    <a:pt x="2290" y="458"/>
                  </a:lnTo>
                  <a:lnTo>
                    <a:pt x="2279" y="458"/>
                  </a:lnTo>
                  <a:lnTo>
                    <a:pt x="2268" y="458"/>
                  </a:lnTo>
                  <a:lnTo>
                    <a:pt x="2258" y="458"/>
                  </a:lnTo>
                  <a:lnTo>
                    <a:pt x="2247" y="458"/>
                  </a:lnTo>
                  <a:lnTo>
                    <a:pt x="2241" y="458"/>
                  </a:lnTo>
                  <a:lnTo>
                    <a:pt x="2230" y="458"/>
                  </a:lnTo>
                  <a:lnTo>
                    <a:pt x="2219" y="458"/>
                  </a:lnTo>
                  <a:lnTo>
                    <a:pt x="2208" y="458"/>
                  </a:lnTo>
                  <a:lnTo>
                    <a:pt x="2198" y="458"/>
                  </a:lnTo>
                  <a:lnTo>
                    <a:pt x="2187" y="458"/>
                  </a:lnTo>
                  <a:lnTo>
                    <a:pt x="2176" y="458"/>
                  </a:lnTo>
                  <a:lnTo>
                    <a:pt x="2165" y="463"/>
                  </a:lnTo>
                  <a:lnTo>
                    <a:pt x="2159" y="463"/>
                  </a:lnTo>
                  <a:lnTo>
                    <a:pt x="2148" y="469"/>
                  </a:lnTo>
                  <a:lnTo>
                    <a:pt x="2143" y="474"/>
                  </a:lnTo>
                  <a:lnTo>
                    <a:pt x="2132" y="480"/>
                  </a:lnTo>
                  <a:lnTo>
                    <a:pt x="2121" y="480"/>
                  </a:lnTo>
                  <a:lnTo>
                    <a:pt x="2116" y="474"/>
                  </a:lnTo>
                  <a:lnTo>
                    <a:pt x="2105" y="469"/>
                  </a:lnTo>
                  <a:lnTo>
                    <a:pt x="2099" y="463"/>
                  </a:lnTo>
                  <a:lnTo>
                    <a:pt x="2088" y="458"/>
                  </a:lnTo>
                  <a:lnTo>
                    <a:pt x="2083" y="452"/>
                  </a:lnTo>
                  <a:lnTo>
                    <a:pt x="2078" y="447"/>
                  </a:lnTo>
                  <a:lnTo>
                    <a:pt x="2067" y="447"/>
                  </a:lnTo>
                  <a:lnTo>
                    <a:pt x="2056" y="441"/>
                  </a:lnTo>
                  <a:lnTo>
                    <a:pt x="2045" y="441"/>
                  </a:lnTo>
                  <a:lnTo>
                    <a:pt x="2034" y="441"/>
                  </a:lnTo>
                  <a:lnTo>
                    <a:pt x="2023" y="441"/>
                  </a:lnTo>
                  <a:lnTo>
                    <a:pt x="2012" y="441"/>
                  </a:lnTo>
                  <a:lnTo>
                    <a:pt x="2007" y="441"/>
                  </a:lnTo>
                  <a:lnTo>
                    <a:pt x="1996" y="447"/>
                  </a:lnTo>
                  <a:lnTo>
                    <a:pt x="1985" y="447"/>
                  </a:lnTo>
                  <a:lnTo>
                    <a:pt x="1979" y="452"/>
                  </a:lnTo>
                  <a:lnTo>
                    <a:pt x="1974" y="458"/>
                  </a:lnTo>
                  <a:lnTo>
                    <a:pt x="1969" y="463"/>
                  </a:lnTo>
                  <a:lnTo>
                    <a:pt x="1969" y="469"/>
                  </a:lnTo>
                  <a:lnTo>
                    <a:pt x="1969" y="480"/>
                  </a:lnTo>
                  <a:lnTo>
                    <a:pt x="1974" y="485"/>
                  </a:lnTo>
                  <a:lnTo>
                    <a:pt x="1979" y="485"/>
                  </a:lnTo>
                  <a:lnTo>
                    <a:pt x="1990" y="490"/>
                  </a:lnTo>
                  <a:lnTo>
                    <a:pt x="2001" y="490"/>
                  </a:lnTo>
                  <a:lnTo>
                    <a:pt x="2012" y="490"/>
                  </a:lnTo>
                  <a:lnTo>
                    <a:pt x="2023" y="496"/>
                  </a:lnTo>
                  <a:lnTo>
                    <a:pt x="2034" y="496"/>
                  </a:lnTo>
                  <a:lnTo>
                    <a:pt x="2039" y="501"/>
                  </a:lnTo>
                  <a:lnTo>
                    <a:pt x="2050" y="501"/>
                  </a:lnTo>
                  <a:lnTo>
                    <a:pt x="2061" y="507"/>
                  </a:lnTo>
                  <a:lnTo>
                    <a:pt x="2067" y="512"/>
                  </a:lnTo>
                  <a:lnTo>
                    <a:pt x="2072" y="518"/>
                  </a:lnTo>
                  <a:lnTo>
                    <a:pt x="2078" y="523"/>
                  </a:lnTo>
                  <a:lnTo>
                    <a:pt x="2078" y="534"/>
                  </a:lnTo>
                  <a:lnTo>
                    <a:pt x="2078" y="540"/>
                  </a:lnTo>
                  <a:lnTo>
                    <a:pt x="2078" y="545"/>
                  </a:lnTo>
                  <a:lnTo>
                    <a:pt x="2072" y="550"/>
                  </a:lnTo>
                  <a:lnTo>
                    <a:pt x="2067" y="556"/>
                  </a:lnTo>
                  <a:lnTo>
                    <a:pt x="2056" y="556"/>
                  </a:lnTo>
                  <a:lnTo>
                    <a:pt x="2045" y="556"/>
                  </a:lnTo>
                  <a:lnTo>
                    <a:pt x="2034" y="556"/>
                  </a:lnTo>
                  <a:lnTo>
                    <a:pt x="2023" y="550"/>
                  </a:lnTo>
                  <a:lnTo>
                    <a:pt x="2018" y="545"/>
                  </a:lnTo>
                  <a:lnTo>
                    <a:pt x="2007" y="545"/>
                  </a:lnTo>
                  <a:lnTo>
                    <a:pt x="2001" y="540"/>
                  </a:lnTo>
                  <a:lnTo>
                    <a:pt x="1990" y="534"/>
                  </a:lnTo>
                  <a:lnTo>
                    <a:pt x="1985" y="529"/>
                  </a:lnTo>
                  <a:lnTo>
                    <a:pt x="1974" y="529"/>
                  </a:lnTo>
                  <a:lnTo>
                    <a:pt x="1969" y="529"/>
                  </a:lnTo>
                  <a:lnTo>
                    <a:pt x="1958" y="534"/>
                  </a:lnTo>
                  <a:lnTo>
                    <a:pt x="1952" y="540"/>
                  </a:lnTo>
                  <a:lnTo>
                    <a:pt x="1952" y="545"/>
                  </a:lnTo>
                  <a:lnTo>
                    <a:pt x="1952" y="550"/>
                  </a:lnTo>
                  <a:lnTo>
                    <a:pt x="1963" y="556"/>
                  </a:lnTo>
                  <a:lnTo>
                    <a:pt x="1974" y="561"/>
                  </a:lnTo>
                  <a:lnTo>
                    <a:pt x="1985" y="567"/>
                  </a:lnTo>
                  <a:lnTo>
                    <a:pt x="1996" y="572"/>
                  </a:lnTo>
                  <a:lnTo>
                    <a:pt x="2001" y="572"/>
                  </a:lnTo>
                  <a:lnTo>
                    <a:pt x="1996" y="578"/>
                  </a:lnTo>
                  <a:lnTo>
                    <a:pt x="1990" y="589"/>
                  </a:lnTo>
                  <a:lnTo>
                    <a:pt x="1979" y="589"/>
                  </a:lnTo>
                  <a:lnTo>
                    <a:pt x="1974" y="594"/>
                  </a:lnTo>
                  <a:lnTo>
                    <a:pt x="1969" y="589"/>
                  </a:lnTo>
                  <a:lnTo>
                    <a:pt x="1963" y="578"/>
                  </a:lnTo>
                  <a:lnTo>
                    <a:pt x="1963" y="572"/>
                  </a:lnTo>
                  <a:lnTo>
                    <a:pt x="1958" y="561"/>
                  </a:lnTo>
                  <a:lnTo>
                    <a:pt x="1952" y="556"/>
                  </a:lnTo>
                  <a:lnTo>
                    <a:pt x="1947" y="550"/>
                  </a:lnTo>
                  <a:lnTo>
                    <a:pt x="1936" y="550"/>
                  </a:lnTo>
                  <a:lnTo>
                    <a:pt x="1930" y="556"/>
                  </a:lnTo>
                  <a:lnTo>
                    <a:pt x="1925" y="561"/>
                  </a:lnTo>
                  <a:lnTo>
                    <a:pt x="1914" y="572"/>
                  </a:lnTo>
                  <a:lnTo>
                    <a:pt x="1909" y="578"/>
                  </a:lnTo>
                  <a:lnTo>
                    <a:pt x="1903" y="583"/>
                  </a:lnTo>
                  <a:lnTo>
                    <a:pt x="1892" y="589"/>
                  </a:lnTo>
                  <a:lnTo>
                    <a:pt x="1887" y="594"/>
                  </a:lnTo>
                  <a:lnTo>
                    <a:pt x="1876" y="594"/>
                  </a:lnTo>
                  <a:lnTo>
                    <a:pt x="1870" y="589"/>
                  </a:lnTo>
                  <a:lnTo>
                    <a:pt x="1865" y="583"/>
                  </a:lnTo>
                  <a:lnTo>
                    <a:pt x="1865" y="572"/>
                  </a:lnTo>
                  <a:lnTo>
                    <a:pt x="1865" y="567"/>
                  </a:lnTo>
                  <a:lnTo>
                    <a:pt x="1865" y="561"/>
                  </a:lnTo>
                  <a:lnTo>
                    <a:pt x="1865" y="556"/>
                  </a:lnTo>
                  <a:lnTo>
                    <a:pt x="1865" y="545"/>
                  </a:lnTo>
                  <a:lnTo>
                    <a:pt x="1870" y="540"/>
                  </a:lnTo>
                  <a:lnTo>
                    <a:pt x="1876" y="534"/>
                  </a:lnTo>
                  <a:lnTo>
                    <a:pt x="1881" y="529"/>
                  </a:lnTo>
                  <a:lnTo>
                    <a:pt x="1881" y="523"/>
                  </a:lnTo>
                  <a:lnTo>
                    <a:pt x="1887" y="518"/>
                  </a:lnTo>
                  <a:lnTo>
                    <a:pt x="1892" y="512"/>
                  </a:lnTo>
                  <a:lnTo>
                    <a:pt x="1892" y="501"/>
                  </a:lnTo>
                  <a:lnTo>
                    <a:pt x="1898" y="496"/>
                  </a:lnTo>
                  <a:lnTo>
                    <a:pt x="1903" y="490"/>
                  </a:lnTo>
                  <a:lnTo>
                    <a:pt x="1909" y="485"/>
                  </a:lnTo>
                  <a:lnTo>
                    <a:pt x="1914" y="480"/>
                  </a:lnTo>
                  <a:lnTo>
                    <a:pt x="1919" y="474"/>
                  </a:lnTo>
                  <a:lnTo>
                    <a:pt x="1930" y="469"/>
                  </a:lnTo>
                  <a:lnTo>
                    <a:pt x="1936" y="463"/>
                  </a:lnTo>
                  <a:lnTo>
                    <a:pt x="1936" y="458"/>
                  </a:lnTo>
                  <a:lnTo>
                    <a:pt x="1941" y="447"/>
                  </a:lnTo>
                  <a:lnTo>
                    <a:pt x="1936" y="441"/>
                  </a:lnTo>
                  <a:lnTo>
                    <a:pt x="1925" y="436"/>
                  </a:lnTo>
                  <a:lnTo>
                    <a:pt x="1914" y="431"/>
                  </a:lnTo>
                  <a:lnTo>
                    <a:pt x="1909" y="436"/>
                  </a:lnTo>
                  <a:lnTo>
                    <a:pt x="1903" y="436"/>
                  </a:lnTo>
                  <a:lnTo>
                    <a:pt x="1898" y="447"/>
                  </a:lnTo>
                  <a:lnTo>
                    <a:pt x="1892" y="452"/>
                  </a:lnTo>
                  <a:lnTo>
                    <a:pt x="1887" y="458"/>
                  </a:lnTo>
                  <a:lnTo>
                    <a:pt x="1881" y="463"/>
                  </a:lnTo>
                  <a:lnTo>
                    <a:pt x="1870" y="469"/>
                  </a:lnTo>
                  <a:lnTo>
                    <a:pt x="1859" y="469"/>
                  </a:lnTo>
                  <a:lnTo>
                    <a:pt x="1854" y="474"/>
                  </a:lnTo>
                  <a:lnTo>
                    <a:pt x="1843" y="480"/>
                  </a:lnTo>
                  <a:lnTo>
                    <a:pt x="1838" y="485"/>
                  </a:lnTo>
                  <a:lnTo>
                    <a:pt x="1832" y="490"/>
                  </a:lnTo>
                  <a:lnTo>
                    <a:pt x="1821" y="490"/>
                  </a:lnTo>
                  <a:lnTo>
                    <a:pt x="1816" y="496"/>
                  </a:lnTo>
                  <a:lnTo>
                    <a:pt x="1810" y="501"/>
                  </a:lnTo>
                  <a:lnTo>
                    <a:pt x="1805" y="507"/>
                  </a:lnTo>
                  <a:lnTo>
                    <a:pt x="1800" y="512"/>
                  </a:lnTo>
                  <a:lnTo>
                    <a:pt x="1789" y="518"/>
                  </a:lnTo>
                  <a:lnTo>
                    <a:pt x="1783" y="523"/>
                  </a:lnTo>
                  <a:lnTo>
                    <a:pt x="1772" y="529"/>
                  </a:lnTo>
                  <a:lnTo>
                    <a:pt x="1767" y="529"/>
                  </a:lnTo>
                  <a:lnTo>
                    <a:pt x="1756" y="534"/>
                  </a:lnTo>
                  <a:lnTo>
                    <a:pt x="1750" y="540"/>
                  </a:lnTo>
                  <a:lnTo>
                    <a:pt x="1745" y="545"/>
                  </a:lnTo>
                  <a:lnTo>
                    <a:pt x="1740" y="550"/>
                  </a:lnTo>
                  <a:lnTo>
                    <a:pt x="1734" y="556"/>
                  </a:lnTo>
                  <a:lnTo>
                    <a:pt x="1723" y="561"/>
                  </a:lnTo>
                  <a:lnTo>
                    <a:pt x="1712" y="567"/>
                  </a:lnTo>
                  <a:lnTo>
                    <a:pt x="1707" y="567"/>
                  </a:lnTo>
                  <a:lnTo>
                    <a:pt x="1701" y="572"/>
                  </a:lnTo>
                  <a:lnTo>
                    <a:pt x="1690" y="578"/>
                  </a:lnTo>
                  <a:lnTo>
                    <a:pt x="1685" y="583"/>
                  </a:lnTo>
                  <a:lnTo>
                    <a:pt x="1680" y="589"/>
                  </a:lnTo>
                  <a:lnTo>
                    <a:pt x="1669" y="594"/>
                  </a:lnTo>
                  <a:lnTo>
                    <a:pt x="1663" y="599"/>
                  </a:lnTo>
                  <a:lnTo>
                    <a:pt x="1658" y="605"/>
                  </a:lnTo>
                  <a:lnTo>
                    <a:pt x="1658" y="610"/>
                  </a:lnTo>
                  <a:lnTo>
                    <a:pt x="1652" y="616"/>
                  </a:lnTo>
                  <a:lnTo>
                    <a:pt x="1647" y="621"/>
                  </a:lnTo>
                  <a:lnTo>
                    <a:pt x="1636" y="621"/>
                  </a:lnTo>
                  <a:lnTo>
                    <a:pt x="1620" y="621"/>
                  </a:lnTo>
                  <a:lnTo>
                    <a:pt x="1614" y="616"/>
                  </a:lnTo>
                  <a:lnTo>
                    <a:pt x="1603" y="616"/>
                  </a:lnTo>
                  <a:lnTo>
                    <a:pt x="1592" y="610"/>
                  </a:lnTo>
                  <a:lnTo>
                    <a:pt x="1592" y="605"/>
                  </a:lnTo>
                  <a:lnTo>
                    <a:pt x="1598" y="599"/>
                  </a:lnTo>
                  <a:lnTo>
                    <a:pt x="1609" y="594"/>
                  </a:lnTo>
                  <a:lnTo>
                    <a:pt x="1609" y="589"/>
                  </a:lnTo>
                  <a:lnTo>
                    <a:pt x="1614" y="583"/>
                  </a:lnTo>
                  <a:lnTo>
                    <a:pt x="1620" y="578"/>
                  </a:lnTo>
                  <a:lnTo>
                    <a:pt x="1625" y="572"/>
                  </a:lnTo>
                  <a:lnTo>
                    <a:pt x="1630" y="567"/>
                  </a:lnTo>
                  <a:lnTo>
                    <a:pt x="1636" y="561"/>
                  </a:lnTo>
                  <a:lnTo>
                    <a:pt x="1636" y="556"/>
                  </a:lnTo>
                  <a:lnTo>
                    <a:pt x="1636" y="545"/>
                  </a:lnTo>
                  <a:lnTo>
                    <a:pt x="1641" y="540"/>
                  </a:lnTo>
                  <a:lnTo>
                    <a:pt x="1647" y="534"/>
                  </a:lnTo>
                  <a:lnTo>
                    <a:pt x="1652" y="529"/>
                  </a:lnTo>
                  <a:lnTo>
                    <a:pt x="1663" y="523"/>
                  </a:lnTo>
                  <a:lnTo>
                    <a:pt x="1669" y="518"/>
                  </a:lnTo>
                  <a:lnTo>
                    <a:pt x="1674" y="512"/>
                  </a:lnTo>
                  <a:lnTo>
                    <a:pt x="1680" y="507"/>
                  </a:lnTo>
                  <a:lnTo>
                    <a:pt x="1680" y="501"/>
                  </a:lnTo>
                  <a:lnTo>
                    <a:pt x="1685" y="490"/>
                  </a:lnTo>
                  <a:lnTo>
                    <a:pt x="1690" y="490"/>
                  </a:lnTo>
                  <a:lnTo>
                    <a:pt x="1701" y="490"/>
                  </a:lnTo>
                  <a:lnTo>
                    <a:pt x="1712" y="490"/>
                  </a:lnTo>
                  <a:lnTo>
                    <a:pt x="1723" y="490"/>
                  </a:lnTo>
                  <a:lnTo>
                    <a:pt x="1734" y="485"/>
                  </a:lnTo>
                  <a:lnTo>
                    <a:pt x="1740" y="480"/>
                  </a:lnTo>
                  <a:lnTo>
                    <a:pt x="1740" y="474"/>
                  </a:lnTo>
                  <a:lnTo>
                    <a:pt x="1734" y="463"/>
                  </a:lnTo>
                  <a:lnTo>
                    <a:pt x="1729" y="458"/>
                  </a:lnTo>
                  <a:lnTo>
                    <a:pt x="1718" y="458"/>
                  </a:lnTo>
                  <a:lnTo>
                    <a:pt x="1707" y="458"/>
                  </a:lnTo>
                  <a:lnTo>
                    <a:pt x="1696" y="458"/>
                  </a:lnTo>
                  <a:lnTo>
                    <a:pt x="1685" y="463"/>
                  </a:lnTo>
                  <a:lnTo>
                    <a:pt x="1674" y="463"/>
                  </a:lnTo>
                  <a:lnTo>
                    <a:pt x="1663" y="463"/>
                  </a:lnTo>
                  <a:lnTo>
                    <a:pt x="1658" y="463"/>
                  </a:lnTo>
                  <a:lnTo>
                    <a:pt x="1647" y="469"/>
                  </a:lnTo>
                  <a:lnTo>
                    <a:pt x="1636" y="469"/>
                  </a:lnTo>
                  <a:lnTo>
                    <a:pt x="1625" y="469"/>
                  </a:lnTo>
                  <a:lnTo>
                    <a:pt x="1614" y="474"/>
                  </a:lnTo>
                  <a:lnTo>
                    <a:pt x="1603" y="474"/>
                  </a:lnTo>
                  <a:lnTo>
                    <a:pt x="1592" y="474"/>
                  </a:lnTo>
                  <a:lnTo>
                    <a:pt x="1581" y="474"/>
                  </a:lnTo>
                  <a:lnTo>
                    <a:pt x="1576" y="480"/>
                  </a:lnTo>
                  <a:lnTo>
                    <a:pt x="1565" y="480"/>
                  </a:lnTo>
                  <a:lnTo>
                    <a:pt x="1560" y="485"/>
                  </a:lnTo>
                  <a:lnTo>
                    <a:pt x="1560" y="496"/>
                  </a:lnTo>
                  <a:lnTo>
                    <a:pt x="1554" y="501"/>
                  </a:lnTo>
                  <a:lnTo>
                    <a:pt x="1554" y="507"/>
                  </a:lnTo>
                  <a:lnTo>
                    <a:pt x="1554" y="512"/>
                  </a:lnTo>
                  <a:lnTo>
                    <a:pt x="1554" y="523"/>
                  </a:lnTo>
                  <a:lnTo>
                    <a:pt x="1554" y="529"/>
                  </a:lnTo>
                  <a:lnTo>
                    <a:pt x="1549" y="534"/>
                  </a:lnTo>
                  <a:lnTo>
                    <a:pt x="1549" y="540"/>
                  </a:lnTo>
                  <a:lnTo>
                    <a:pt x="1549" y="550"/>
                  </a:lnTo>
                  <a:lnTo>
                    <a:pt x="1543" y="556"/>
                  </a:lnTo>
                  <a:lnTo>
                    <a:pt x="1543" y="561"/>
                  </a:lnTo>
                  <a:lnTo>
                    <a:pt x="1538" y="567"/>
                  </a:lnTo>
                  <a:lnTo>
                    <a:pt x="1538" y="572"/>
                  </a:lnTo>
                  <a:lnTo>
                    <a:pt x="1543" y="583"/>
                  </a:lnTo>
                  <a:lnTo>
                    <a:pt x="1543" y="589"/>
                  </a:lnTo>
                  <a:lnTo>
                    <a:pt x="1549" y="594"/>
                  </a:lnTo>
                  <a:lnTo>
                    <a:pt x="1549" y="599"/>
                  </a:lnTo>
                  <a:lnTo>
                    <a:pt x="1549" y="605"/>
                  </a:lnTo>
                  <a:lnTo>
                    <a:pt x="1549" y="616"/>
                  </a:lnTo>
                  <a:lnTo>
                    <a:pt x="1538" y="621"/>
                  </a:lnTo>
                  <a:lnTo>
                    <a:pt x="1532" y="627"/>
                  </a:lnTo>
                  <a:lnTo>
                    <a:pt x="1527" y="632"/>
                  </a:lnTo>
                  <a:lnTo>
                    <a:pt x="1527" y="638"/>
                  </a:lnTo>
                  <a:lnTo>
                    <a:pt x="1521" y="643"/>
                  </a:lnTo>
                  <a:lnTo>
                    <a:pt x="1527" y="654"/>
                  </a:lnTo>
                  <a:lnTo>
                    <a:pt x="1527" y="654"/>
                  </a:lnTo>
                  <a:lnTo>
                    <a:pt x="1538" y="654"/>
                  </a:lnTo>
                  <a:lnTo>
                    <a:pt x="1543" y="649"/>
                  </a:lnTo>
                  <a:lnTo>
                    <a:pt x="1554" y="643"/>
                  </a:lnTo>
                  <a:lnTo>
                    <a:pt x="1565" y="643"/>
                  </a:lnTo>
                  <a:lnTo>
                    <a:pt x="1571" y="643"/>
                  </a:lnTo>
                  <a:lnTo>
                    <a:pt x="1576" y="649"/>
                  </a:lnTo>
                  <a:lnTo>
                    <a:pt x="1576" y="659"/>
                  </a:lnTo>
                  <a:lnTo>
                    <a:pt x="1581" y="665"/>
                  </a:lnTo>
                  <a:lnTo>
                    <a:pt x="1581" y="676"/>
                  </a:lnTo>
                  <a:lnTo>
                    <a:pt x="1581" y="681"/>
                  </a:lnTo>
                  <a:lnTo>
                    <a:pt x="1576" y="687"/>
                  </a:lnTo>
                  <a:lnTo>
                    <a:pt x="1576" y="698"/>
                  </a:lnTo>
                  <a:lnTo>
                    <a:pt x="1571" y="703"/>
                  </a:lnTo>
                  <a:lnTo>
                    <a:pt x="1571" y="708"/>
                  </a:lnTo>
                  <a:lnTo>
                    <a:pt x="1571" y="714"/>
                  </a:lnTo>
                  <a:lnTo>
                    <a:pt x="1571" y="719"/>
                  </a:lnTo>
                  <a:lnTo>
                    <a:pt x="1571" y="730"/>
                  </a:lnTo>
                  <a:lnTo>
                    <a:pt x="1571" y="736"/>
                  </a:lnTo>
                  <a:lnTo>
                    <a:pt x="1565" y="741"/>
                  </a:lnTo>
                  <a:lnTo>
                    <a:pt x="1565" y="747"/>
                  </a:lnTo>
                  <a:lnTo>
                    <a:pt x="1565" y="752"/>
                  </a:lnTo>
                  <a:lnTo>
                    <a:pt x="1565" y="763"/>
                  </a:lnTo>
                  <a:lnTo>
                    <a:pt x="1565" y="768"/>
                  </a:lnTo>
                  <a:lnTo>
                    <a:pt x="1565" y="779"/>
                  </a:lnTo>
                  <a:lnTo>
                    <a:pt x="1560" y="779"/>
                  </a:lnTo>
                  <a:lnTo>
                    <a:pt x="1554" y="779"/>
                  </a:lnTo>
                  <a:lnTo>
                    <a:pt x="1543" y="779"/>
                  </a:lnTo>
                  <a:lnTo>
                    <a:pt x="1532" y="768"/>
                  </a:lnTo>
                  <a:lnTo>
                    <a:pt x="1527" y="763"/>
                  </a:lnTo>
                  <a:lnTo>
                    <a:pt x="1521" y="774"/>
                  </a:lnTo>
                  <a:lnTo>
                    <a:pt x="1521" y="779"/>
                  </a:lnTo>
                  <a:lnTo>
                    <a:pt x="1516" y="785"/>
                  </a:lnTo>
                  <a:lnTo>
                    <a:pt x="1511" y="790"/>
                  </a:lnTo>
                  <a:lnTo>
                    <a:pt x="1505" y="796"/>
                  </a:lnTo>
                  <a:lnTo>
                    <a:pt x="1494" y="801"/>
                  </a:lnTo>
                  <a:lnTo>
                    <a:pt x="1494" y="790"/>
                  </a:lnTo>
                  <a:lnTo>
                    <a:pt x="1494" y="785"/>
                  </a:lnTo>
                  <a:lnTo>
                    <a:pt x="1489" y="779"/>
                  </a:lnTo>
                  <a:lnTo>
                    <a:pt x="1489" y="774"/>
                  </a:lnTo>
                  <a:lnTo>
                    <a:pt x="1483" y="768"/>
                  </a:lnTo>
                  <a:lnTo>
                    <a:pt x="1483" y="763"/>
                  </a:lnTo>
                  <a:lnTo>
                    <a:pt x="1483" y="752"/>
                  </a:lnTo>
                  <a:lnTo>
                    <a:pt x="1478" y="747"/>
                  </a:lnTo>
                  <a:lnTo>
                    <a:pt x="1478" y="741"/>
                  </a:lnTo>
                  <a:lnTo>
                    <a:pt x="1478" y="736"/>
                  </a:lnTo>
                  <a:lnTo>
                    <a:pt x="1478" y="725"/>
                  </a:lnTo>
                  <a:lnTo>
                    <a:pt x="1478" y="719"/>
                  </a:lnTo>
                  <a:lnTo>
                    <a:pt x="1472" y="714"/>
                  </a:lnTo>
                  <a:lnTo>
                    <a:pt x="1472" y="708"/>
                  </a:lnTo>
                  <a:lnTo>
                    <a:pt x="1472" y="703"/>
                  </a:lnTo>
                  <a:lnTo>
                    <a:pt x="1472" y="692"/>
                  </a:lnTo>
                  <a:lnTo>
                    <a:pt x="1472" y="687"/>
                  </a:lnTo>
                  <a:lnTo>
                    <a:pt x="1472" y="681"/>
                  </a:lnTo>
                  <a:lnTo>
                    <a:pt x="1467" y="676"/>
                  </a:lnTo>
                  <a:lnTo>
                    <a:pt x="1467" y="665"/>
                  </a:lnTo>
                  <a:lnTo>
                    <a:pt x="1461" y="670"/>
                  </a:lnTo>
                  <a:lnTo>
                    <a:pt x="1461" y="681"/>
                  </a:lnTo>
                  <a:lnTo>
                    <a:pt x="1461" y="687"/>
                  </a:lnTo>
                  <a:lnTo>
                    <a:pt x="1456" y="692"/>
                  </a:lnTo>
                  <a:lnTo>
                    <a:pt x="1456" y="698"/>
                  </a:lnTo>
                  <a:lnTo>
                    <a:pt x="1456" y="703"/>
                  </a:lnTo>
                  <a:lnTo>
                    <a:pt x="1456" y="708"/>
                  </a:lnTo>
                  <a:lnTo>
                    <a:pt x="1451" y="719"/>
                  </a:lnTo>
                  <a:lnTo>
                    <a:pt x="1451" y="725"/>
                  </a:lnTo>
                  <a:lnTo>
                    <a:pt x="1451" y="730"/>
                  </a:lnTo>
                  <a:lnTo>
                    <a:pt x="1445" y="736"/>
                  </a:lnTo>
                  <a:lnTo>
                    <a:pt x="1445" y="747"/>
                  </a:lnTo>
                  <a:lnTo>
                    <a:pt x="1440" y="752"/>
                  </a:lnTo>
                  <a:lnTo>
                    <a:pt x="1434" y="758"/>
                  </a:lnTo>
                  <a:lnTo>
                    <a:pt x="1434" y="763"/>
                  </a:lnTo>
                  <a:lnTo>
                    <a:pt x="1429" y="768"/>
                  </a:lnTo>
                  <a:lnTo>
                    <a:pt x="1423" y="779"/>
                  </a:lnTo>
                  <a:lnTo>
                    <a:pt x="1423" y="785"/>
                  </a:lnTo>
                  <a:lnTo>
                    <a:pt x="1418" y="790"/>
                  </a:lnTo>
                  <a:lnTo>
                    <a:pt x="1412" y="796"/>
                  </a:lnTo>
                  <a:lnTo>
                    <a:pt x="1407" y="801"/>
                  </a:lnTo>
                  <a:lnTo>
                    <a:pt x="1407" y="807"/>
                  </a:lnTo>
                  <a:lnTo>
                    <a:pt x="1401" y="812"/>
                  </a:lnTo>
                  <a:lnTo>
                    <a:pt x="1396" y="817"/>
                  </a:lnTo>
                  <a:lnTo>
                    <a:pt x="1391" y="828"/>
                  </a:lnTo>
                  <a:lnTo>
                    <a:pt x="1385" y="834"/>
                  </a:lnTo>
                  <a:lnTo>
                    <a:pt x="1380" y="839"/>
                  </a:lnTo>
                  <a:lnTo>
                    <a:pt x="1380" y="850"/>
                  </a:lnTo>
                  <a:lnTo>
                    <a:pt x="1374" y="850"/>
                  </a:lnTo>
                  <a:lnTo>
                    <a:pt x="1369" y="856"/>
                  </a:lnTo>
                  <a:lnTo>
                    <a:pt x="1358" y="850"/>
                  </a:lnTo>
                  <a:lnTo>
                    <a:pt x="1352" y="845"/>
                  </a:lnTo>
                  <a:lnTo>
                    <a:pt x="1347" y="834"/>
                  </a:lnTo>
                  <a:lnTo>
                    <a:pt x="1342" y="828"/>
                  </a:lnTo>
                  <a:lnTo>
                    <a:pt x="1342" y="817"/>
                  </a:lnTo>
                  <a:lnTo>
                    <a:pt x="1336" y="817"/>
                  </a:lnTo>
                  <a:lnTo>
                    <a:pt x="1336" y="823"/>
                  </a:lnTo>
                  <a:lnTo>
                    <a:pt x="1336" y="834"/>
                  </a:lnTo>
                  <a:lnTo>
                    <a:pt x="1336" y="839"/>
                  </a:lnTo>
                  <a:lnTo>
                    <a:pt x="1331" y="845"/>
                  </a:lnTo>
                  <a:lnTo>
                    <a:pt x="1331" y="850"/>
                  </a:lnTo>
                  <a:lnTo>
                    <a:pt x="1331" y="861"/>
                  </a:lnTo>
                  <a:lnTo>
                    <a:pt x="1331" y="867"/>
                  </a:lnTo>
                  <a:lnTo>
                    <a:pt x="1331" y="872"/>
                  </a:lnTo>
                  <a:lnTo>
                    <a:pt x="1325" y="877"/>
                  </a:lnTo>
                  <a:lnTo>
                    <a:pt x="1325" y="883"/>
                  </a:lnTo>
                  <a:lnTo>
                    <a:pt x="1325" y="894"/>
                  </a:lnTo>
                  <a:lnTo>
                    <a:pt x="1325" y="899"/>
                  </a:lnTo>
                  <a:lnTo>
                    <a:pt x="1325" y="905"/>
                  </a:lnTo>
                  <a:lnTo>
                    <a:pt x="1325" y="910"/>
                  </a:lnTo>
                  <a:lnTo>
                    <a:pt x="1320" y="921"/>
                  </a:lnTo>
                  <a:lnTo>
                    <a:pt x="1320" y="927"/>
                  </a:lnTo>
                  <a:lnTo>
                    <a:pt x="1320" y="932"/>
                  </a:lnTo>
                  <a:lnTo>
                    <a:pt x="1320" y="943"/>
                  </a:lnTo>
                  <a:lnTo>
                    <a:pt x="1314" y="948"/>
                  </a:lnTo>
                  <a:lnTo>
                    <a:pt x="1309" y="954"/>
                  </a:lnTo>
                  <a:lnTo>
                    <a:pt x="1303" y="959"/>
                  </a:lnTo>
                  <a:lnTo>
                    <a:pt x="1292" y="959"/>
                  </a:lnTo>
                  <a:lnTo>
                    <a:pt x="1282" y="959"/>
                  </a:lnTo>
                  <a:lnTo>
                    <a:pt x="1276" y="965"/>
                  </a:lnTo>
                  <a:lnTo>
                    <a:pt x="1271" y="976"/>
                  </a:lnTo>
                  <a:lnTo>
                    <a:pt x="1265" y="981"/>
                  </a:lnTo>
                  <a:lnTo>
                    <a:pt x="1265" y="986"/>
                  </a:lnTo>
                  <a:lnTo>
                    <a:pt x="1265" y="992"/>
                  </a:lnTo>
                  <a:lnTo>
                    <a:pt x="1265" y="997"/>
                  </a:lnTo>
                  <a:lnTo>
                    <a:pt x="1260" y="1008"/>
                  </a:lnTo>
                  <a:lnTo>
                    <a:pt x="1260" y="1014"/>
                  </a:lnTo>
                  <a:lnTo>
                    <a:pt x="1260" y="1019"/>
                  </a:lnTo>
                  <a:lnTo>
                    <a:pt x="1254" y="1025"/>
                  </a:lnTo>
                  <a:lnTo>
                    <a:pt x="1249" y="1030"/>
                  </a:lnTo>
                  <a:lnTo>
                    <a:pt x="1243" y="1036"/>
                  </a:lnTo>
                  <a:lnTo>
                    <a:pt x="1238" y="1046"/>
                  </a:lnTo>
                  <a:lnTo>
                    <a:pt x="1238" y="1052"/>
                  </a:lnTo>
                  <a:lnTo>
                    <a:pt x="1238" y="1057"/>
                  </a:lnTo>
                  <a:lnTo>
                    <a:pt x="1232" y="1063"/>
                  </a:lnTo>
                  <a:lnTo>
                    <a:pt x="1232" y="1068"/>
                  </a:lnTo>
                  <a:lnTo>
                    <a:pt x="1227" y="1079"/>
                  </a:lnTo>
                  <a:lnTo>
                    <a:pt x="1227" y="1085"/>
                  </a:lnTo>
                  <a:lnTo>
                    <a:pt x="1222" y="1090"/>
                  </a:lnTo>
                  <a:lnTo>
                    <a:pt x="1216" y="1095"/>
                  </a:lnTo>
                  <a:lnTo>
                    <a:pt x="1211" y="1101"/>
                  </a:lnTo>
                  <a:lnTo>
                    <a:pt x="1211" y="1106"/>
                  </a:lnTo>
                  <a:lnTo>
                    <a:pt x="1211" y="1117"/>
                  </a:lnTo>
                  <a:lnTo>
                    <a:pt x="1205" y="1123"/>
                  </a:lnTo>
                  <a:lnTo>
                    <a:pt x="1205" y="1128"/>
                  </a:lnTo>
                  <a:lnTo>
                    <a:pt x="1200" y="1134"/>
                  </a:lnTo>
                  <a:lnTo>
                    <a:pt x="1194" y="1139"/>
                  </a:lnTo>
                  <a:lnTo>
                    <a:pt x="1183" y="1145"/>
                  </a:lnTo>
                  <a:lnTo>
                    <a:pt x="1178" y="1150"/>
                  </a:lnTo>
                  <a:lnTo>
                    <a:pt x="1172" y="1155"/>
                  </a:lnTo>
                  <a:lnTo>
                    <a:pt x="1162" y="1155"/>
                  </a:lnTo>
                  <a:lnTo>
                    <a:pt x="1151" y="1155"/>
                  </a:lnTo>
                  <a:lnTo>
                    <a:pt x="1140" y="1161"/>
                  </a:lnTo>
                  <a:lnTo>
                    <a:pt x="1129" y="1161"/>
                  </a:lnTo>
                  <a:lnTo>
                    <a:pt x="1118" y="1166"/>
                  </a:lnTo>
                  <a:lnTo>
                    <a:pt x="1113" y="1166"/>
                  </a:lnTo>
                  <a:lnTo>
                    <a:pt x="1102" y="1161"/>
                  </a:lnTo>
                  <a:lnTo>
                    <a:pt x="1096" y="1155"/>
                  </a:lnTo>
                  <a:lnTo>
                    <a:pt x="1091" y="1150"/>
                  </a:lnTo>
                  <a:lnTo>
                    <a:pt x="1085" y="1139"/>
                  </a:lnTo>
                  <a:lnTo>
                    <a:pt x="1085" y="1134"/>
                  </a:lnTo>
                  <a:lnTo>
                    <a:pt x="1085" y="1128"/>
                  </a:lnTo>
                  <a:lnTo>
                    <a:pt x="1085" y="1123"/>
                  </a:lnTo>
                  <a:lnTo>
                    <a:pt x="1085" y="1112"/>
                  </a:lnTo>
                  <a:lnTo>
                    <a:pt x="1091" y="1106"/>
                  </a:lnTo>
                  <a:lnTo>
                    <a:pt x="1091" y="1101"/>
                  </a:lnTo>
                  <a:lnTo>
                    <a:pt x="1096" y="1095"/>
                  </a:lnTo>
                  <a:lnTo>
                    <a:pt x="1102" y="1090"/>
                  </a:lnTo>
                  <a:lnTo>
                    <a:pt x="1102" y="1079"/>
                  </a:lnTo>
                  <a:lnTo>
                    <a:pt x="1107" y="1074"/>
                  </a:lnTo>
                  <a:lnTo>
                    <a:pt x="1107" y="1068"/>
                  </a:lnTo>
                  <a:lnTo>
                    <a:pt x="1113" y="1063"/>
                  </a:lnTo>
                  <a:lnTo>
                    <a:pt x="1113" y="1057"/>
                  </a:lnTo>
                  <a:lnTo>
                    <a:pt x="1123" y="1052"/>
                  </a:lnTo>
                  <a:lnTo>
                    <a:pt x="1129" y="1046"/>
                  </a:lnTo>
                  <a:lnTo>
                    <a:pt x="1134" y="1041"/>
                  </a:lnTo>
                  <a:lnTo>
                    <a:pt x="1145" y="1036"/>
                  </a:lnTo>
                  <a:lnTo>
                    <a:pt x="1156" y="1036"/>
                  </a:lnTo>
                  <a:lnTo>
                    <a:pt x="1167" y="1041"/>
                  </a:lnTo>
                  <a:lnTo>
                    <a:pt x="1172" y="1041"/>
                  </a:lnTo>
                  <a:lnTo>
                    <a:pt x="1183" y="1041"/>
                  </a:lnTo>
                  <a:lnTo>
                    <a:pt x="1189" y="1036"/>
                  </a:lnTo>
                  <a:lnTo>
                    <a:pt x="1194" y="1030"/>
                  </a:lnTo>
                  <a:lnTo>
                    <a:pt x="1200" y="1019"/>
                  </a:lnTo>
                  <a:lnTo>
                    <a:pt x="1205" y="1014"/>
                  </a:lnTo>
                  <a:lnTo>
                    <a:pt x="1211" y="1008"/>
                  </a:lnTo>
                  <a:lnTo>
                    <a:pt x="1216" y="1003"/>
                  </a:lnTo>
                  <a:lnTo>
                    <a:pt x="1227" y="997"/>
                  </a:lnTo>
                  <a:lnTo>
                    <a:pt x="1232" y="992"/>
                  </a:lnTo>
                  <a:lnTo>
                    <a:pt x="1227" y="986"/>
                  </a:lnTo>
                  <a:lnTo>
                    <a:pt x="1222" y="981"/>
                  </a:lnTo>
                  <a:lnTo>
                    <a:pt x="1211" y="981"/>
                  </a:lnTo>
                  <a:lnTo>
                    <a:pt x="1205" y="976"/>
                  </a:lnTo>
                  <a:lnTo>
                    <a:pt x="1200" y="965"/>
                  </a:lnTo>
                  <a:lnTo>
                    <a:pt x="1194" y="959"/>
                  </a:lnTo>
                  <a:lnTo>
                    <a:pt x="1194" y="954"/>
                  </a:lnTo>
                  <a:lnTo>
                    <a:pt x="1194" y="948"/>
                  </a:lnTo>
                  <a:lnTo>
                    <a:pt x="1189" y="943"/>
                  </a:lnTo>
                  <a:lnTo>
                    <a:pt x="1189" y="932"/>
                  </a:lnTo>
                  <a:lnTo>
                    <a:pt x="1189" y="927"/>
                  </a:lnTo>
                  <a:lnTo>
                    <a:pt x="1189" y="921"/>
                  </a:lnTo>
                  <a:lnTo>
                    <a:pt x="1189" y="916"/>
                  </a:lnTo>
                  <a:lnTo>
                    <a:pt x="1183" y="905"/>
                  </a:lnTo>
                  <a:lnTo>
                    <a:pt x="1183" y="899"/>
                  </a:lnTo>
                  <a:lnTo>
                    <a:pt x="1183" y="894"/>
                  </a:lnTo>
                  <a:lnTo>
                    <a:pt x="1178" y="888"/>
                  </a:lnTo>
                  <a:lnTo>
                    <a:pt x="1178" y="877"/>
                  </a:lnTo>
                  <a:lnTo>
                    <a:pt x="1172" y="872"/>
                  </a:lnTo>
                  <a:lnTo>
                    <a:pt x="1172" y="867"/>
                  </a:lnTo>
                  <a:lnTo>
                    <a:pt x="1167" y="861"/>
                  </a:lnTo>
                  <a:lnTo>
                    <a:pt x="1167" y="856"/>
                  </a:lnTo>
                  <a:lnTo>
                    <a:pt x="1162" y="845"/>
                  </a:lnTo>
                  <a:lnTo>
                    <a:pt x="1162" y="839"/>
                  </a:lnTo>
                  <a:lnTo>
                    <a:pt x="1162" y="834"/>
                  </a:lnTo>
                  <a:lnTo>
                    <a:pt x="1162" y="828"/>
                  </a:lnTo>
                  <a:lnTo>
                    <a:pt x="1156" y="823"/>
                  </a:lnTo>
                  <a:lnTo>
                    <a:pt x="1156" y="812"/>
                  </a:lnTo>
                  <a:lnTo>
                    <a:pt x="1156" y="807"/>
                  </a:lnTo>
                  <a:lnTo>
                    <a:pt x="1162" y="801"/>
                  </a:lnTo>
                  <a:lnTo>
                    <a:pt x="1162" y="790"/>
                  </a:lnTo>
                  <a:lnTo>
                    <a:pt x="1162" y="785"/>
                  </a:lnTo>
                  <a:lnTo>
                    <a:pt x="1162" y="779"/>
                  </a:lnTo>
                  <a:lnTo>
                    <a:pt x="1162" y="774"/>
                  </a:lnTo>
                  <a:lnTo>
                    <a:pt x="1156" y="768"/>
                  </a:lnTo>
                  <a:lnTo>
                    <a:pt x="1145" y="763"/>
                  </a:lnTo>
                  <a:lnTo>
                    <a:pt x="1140" y="758"/>
                  </a:lnTo>
                  <a:lnTo>
                    <a:pt x="1140" y="747"/>
                  </a:lnTo>
                  <a:lnTo>
                    <a:pt x="1140" y="741"/>
                  </a:lnTo>
                  <a:lnTo>
                    <a:pt x="1134" y="736"/>
                  </a:lnTo>
                  <a:lnTo>
                    <a:pt x="1134" y="730"/>
                  </a:lnTo>
                  <a:lnTo>
                    <a:pt x="1134" y="719"/>
                  </a:lnTo>
                  <a:lnTo>
                    <a:pt x="1129" y="714"/>
                  </a:lnTo>
                  <a:lnTo>
                    <a:pt x="1129" y="708"/>
                  </a:lnTo>
                  <a:lnTo>
                    <a:pt x="1129" y="703"/>
                  </a:lnTo>
                  <a:lnTo>
                    <a:pt x="1129" y="698"/>
                  </a:lnTo>
                  <a:lnTo>
                    <a:pt x="1129" y="687"/>
                  </a:lnTo>
                  <a:lnTo>
                    <a:pt x="1129" y="681"/>
                  </a:lnTo>
                  <a:lnTo>
                    <a:pt x="1129" y="676"/>
                  </a:lnTo>
                  <a:lnTo>
                    <a:pt x="1129" y="670"/>
                  </a:lnTo>
                  <a:lnTo>
                    <a:pt x="1123" y="659"/>
                  </a:lnTo>
                  <a:lnTo>
                    <a:pt x="1123" y="654"/>
                  </a:lnTo>
                  <a:lnTo>
                    <a:pt x="1118" y="649"/>
                  </a:lnTo>
                  <a:lnTo>
                    <a:pt x="1118" y="643"/>
                  </a:lnTo>
                  <a:lnTo>
                    <a:pt x="1113" y="638"/>
                  </a:lnTo>
                  <a:lnTo>
                    <a:pt x="1113" y="627"/>
                  </a:lnTo>
                  <a:lnTo>
                    <a:pt x="1107" y="621"/>
                  </a:lnTo>
                  <a:lnTo>
                    <a:pt x="1107" y="616"/>
                  </a:lnTo>
                  <a:lnTo>
                    <a:pt x="1102" y="610"/>
                  </a:lnTo>
                  <a:lnTo>
                    <a:pt x="1102" y="605"/>
                  </a:lnTo>
                  <a:lnTo>
                    <a:pt x="1096" y="594"/>
                  </a:lnTo>
                  <a:lnTo>
                    <a:pt x="1091" y="589"/>
                  </a:lnTo>
                  <a:lnTo>
                    <a:pt x="1085" y="583"/>
                  </a:lnTo>
                  <a:lnTo>
                    <a:pt x="1080" y="578"/>
                  </a:lnTo>
                  <a:lnTo>
                    <a:pt x="1074" y="572"/>
                  </a:lnTo>
                  <a:lnTo>
                    <a:pt x="1080" y="567"/>
                  </a:lnTo>
                  <a:lnTo>
                    <a:pt x="1085" y="567"/>
                  </a:lnTo>
                  <a:lnTo>
                    <a:pt x="1096" y="572"/>
                  </a:lnTo>
                  <a:lnTo>
                    <a:pt x="1102" y="578"/>
                  </a:lnTo>
                  <a:lnTo>
                    <a:pt x="1107" y="583"/>
                  </a:lnTo>
                  <a:lnTo>
                    <a:pt x="1113" y="589"/>
                  </a:lnTo>
                  <a:lnTo>
                    <a:pt x="1118" y="594"/>
                  </a:lnTo>
                  <a:lnTo>
                    <a:pt x="1129" y="599"/>
                  </a:lnTo>
                  <a:lnTo>
                    <a:pt x="1134" y="605"/>
                  </a:lnTo>
                  <a:lnTo>
                    <a:pt x="1140" y="610"/>
                  </a:lnTo>
                  <a:lnTo>
                    <a:pt x="1145" y="616"/>
                  </a:lnTo>
                  <a:lnTo>
                    <a:pt x="1151" y="621"/>
                  </a:lnTo>
                  <a:lnTo>
                    <a:pt x="1156" y="616"/>
                  </a:lnTo>
                  <a:lnTo>
                    <a:pt x="1162" y="610"/>
                  </a:lnTo>
                  <a:lnTo>
                    <a:pt x="1167" y="605"/>
                  </a:lnTo>
                  <a:lnTo>
                    <a:pt x="1167" y="594"/>
                  </a:lnTo>
                  <a:lnTo>
                    <a:pt x="1167" y="589"/>
                  </a:lnTo>
                  <a:lnTo>
                    <a:pt x="1167" y="583"/>
                  </a:lnTo>
                  <a:lnTo>
                    <a:pt x="1162" y="578"/>
                  </a:lnTo>
                  <a:lnTo>
                    <a:pt x="1162" y="572"/>
                  </a:lnTo>
                  <a:lnTo>
                    <a:pt x="1162" y="561"/>
                  </a:lnTo>
                  <a:lnTo>
                    <a:pt x="1156" y="556"/>
                  </a:lnTo>
                  <a:lnTo>
                    <a:pt x="1156" y="550"/>
                  </a:lnTo>
                  <a:lnTo>
                    <a:pt x="1156" y="545"/>
                  </a:lnTo>
                  <a:lnTo>
                    <a:pt x="1151" y="534"/>
                  </a:lnTo>
                  <a:lnTo>
                    <a:pt x="1151" y="529"/>
                  </a:lnTo>
                  <a:lnTo>
                    <a:pt x="1151" y="523"/>
                  </a:lnTo>
                  <a:lnTo>
                    <a:pt x="1145" y="518"/>
                  </a:lnTo>
                  <a:lnTo>
                    <a:pt x="1145" y="507"/>
                  </a:lnTo>
                  <a:lnTo>
                    <a:pt x="1145" y="501"/>
                  </a:lnTo>
                  <a:lnTo>
                    <a:pt x="1140" y="496"/>
                  </a:lnTo>
                  <a:lnTo>
                    <a:pt x="1140" y="490"/>
                  </a:lnTo>
                  <a:lnTo>
                    <a:pt x="1140" y="485"/>
                  </a:lnTo>
                  <a:lnTo>
                    <a:pt x="1134" y="474"/>
                  </a:lnTo>
                  <a:lnTo>
                    <a:pt x="1134" y="469"/>
                  </a:lnTo>
                  <a:lnTo>
                    <a:pt x="1134" y="463"/>
                  </a:lnTo>
                  <a:lnTo>
                    <a:pt x="1129" y="458"/>
                  </a:lnTo>
                  <a:lnTo>
                    <a:pt x="1129" y="447"/>
                  </a:lnTo>
                  <a:lnTo>
                    <a:pt x="1129" y="441"/>
                  </a:lnTo>
                  <a:lnTo>
                    <a:pt x="1123" y="436"/>
                  </a:lnTo>
                  <a:lnTo>
                    <a:pt x="1123" y="431"/>
                  </a:lnTo>
                  <a:lnTo>
                    <a:pt x="1123" y="425"/>
                  </a:lnTo>
                  <a:lnTo>
                    <a:pt x="1118" y="414"/>
                  </a:lnTo>
                  <a:lnTo>
                    <a:pt x="1118" y="409"/>
                  </a:lnTo>
                  <a:lnTo>
                    <a:pt x="1118" y="403"/>
                  </a:lnTo>
                  <a:lnTo>
                    <a:pt x="1113" y="398"/>
                  </a:lnTo>
                  <a:lnTo>
                    <a:pt x="1113" y="387"/>
                  </a:lnTo>
                  <a:lnTo>
                    <a:pt x="1113" y="381"/>
                  </a:lnTo>
                  <a:lnTo>
                    <a:pt x="1118" y="376"/>
                  </a:lnTo>
                  <a:lnTo>
                    <a:pt x="1129" y="376"/>
                  </a:lnTo>
                  <a:lnTo>
                    <a:pt x="1140" y="371"/>
                  </a:lnTo>
                  <a:lnTo>
                    <a:pt x="1151" y="371"/>
                  </a:lnTo>
                  <a:lnTo>
                    <a:pt x="1156" y="365"/>
                  </a:lnTo>
                  <a:lnTo>
                    <a:pt x="1167" y="360"/>
                  </a:lnTo>
                  <a:lnTo>
                    <a:pt x="1172" y="354"/>
                  </a:lnTo>
                  <a:lnTo>
                    <a:pt x="1178" y="349"/>
                  </a:lnTo>
                  <a:lnTo>
                    <a:pt x="1183" y="343"/>
                  </a:lnTo>
                  <a:lnTo>
                    <a:pt x="1189" y="338"/>
                  </a:lnTo>
                  <a:lnTo>
                    <a:pt x="1194" y="332"/>
                  </a:lnTo>
                  <a:lnTo>
                    <a:pt x="1205" y="327"/>
                  </a:lnTo>
                  <a:lnTo>
                    <a:pt x="1216" y="327"/>
                  </a:lnTo>
                  <a:lnTo>
                    <a:pt x="1227" y="327"/>
                  </a:lnTo>
                  <a:lnTo>
                    <a:pt x="1238" y="327"/>
                  </a:lnTo>
                  <a:lnTo>
                    <a:pt x="1243" y="327"/>
                  </a:lnTo>
                  <a:lnTo>
                    <a:pt x="1249" y="316"/>
                  </a:lnTo>
                  <a:lnTo>
                    <a:pt x="1254" y="311"/>
                  </a:lnTo>
                  <a:lnTo>
                    <a:pt x="1260" y="305"/>
                  </a:lnTo>
                  <a:lnTo>
                    <a:pt x="1271" y="300"/>
                  </a:lnTo>
                  <a:lnTo>
                    <a:pt x="1276" y="300"/>
                  </a:lnTo>
                  <a:lnTo>
                    <a:pt x="1287" y="294"/>
                  </a:lnTo>
                  <a:lnTo>
                    <a:pt x="1298" y="294"/>
                  </a:lnTo>
                  <a:lnTo>
                    <a:pt x="1309" y="294"/>
                  </a:lnTo>
                  <a:lnTo>
                    <a:pt x="1314" y="289"/>
                  </a:lnTo>
                  <a:lnTo>
                    <a:pt x="1320" y="283"/>
                  </a:lnTo>
                  <a:lnTo>
                    <a:pt x="1325" y="272"/>
                  </a:lnTo>
                  <a:lnTo>
                    <a:pt x="1331" y="267"/>
                  </a:lnTo>
                  <a:lnTo>
                    <a:pt x="1336" y="262"/>
                  </a:lnTo>
                  <a:lnTo>
                    <a:pt x="1347" y="262"/>
                  </a:lnTo>
                  <a:lnTo>
                    <a:pt x="1352" y="256"/>
                  </a:lnTo>
                  <a:lnTo>
                    <a:pt x="1363" y="256"/>
                  </a:lnTo>
                  <a:lnTo>
                    <a:pt x="1369" y="251"/>
                  </a:lnTo>
                  <a:lnTo>
                    <a:pt x="1380" y="251"/>
                  </a:lnTo>
                  <a:lnTo>
                    <a:pt x="1391" y="251"/>
                  </a:lnTo>
                  <a:lnTo>
                    <a:pt x="1401" y="256"/>
                  </a:lnTo>
                  <a:lnTo>
                    <a:pt x="1407" y="251"/>
                  </a:lnTo>
                  <a:lnTo>
                    <a:pt x="1412" y="245"/>
                  </a:lnTo>
                  <a:lnTo>
                    <a:pt x="1412" y="240"/>
                  </a:lnTo>
                  <a:lnTo>
                    <a:pt x="1412" y="229"/>
                  </a:lnTo>
                  <a:lnTo>
                    <a:pt x="1418" y="218"/>
                  </a:lnTo>
                  <a:lnTo>
                    <a:pt x="1418" y="213"/>
                  </a:lnTo>
                  <a:lnTo>
                    <a:pt x="1429" y="207"/>
                  </a:lnTo>
                  <a:lnTo>
                    <a:pt x="1434" y="202"/>
                  </a:lnTo>
                  <a:lnTo>
                    <a:pt x="1445" y="202"/>
                  </a:lnTo>
                  <a:lnTo>
                    <a:pt x="1456" y="196"/>
                  </a:lnTo>
                  <a:lnTo>
                    <a:pt x="1461" y="196"/>
                  </a:lnTo>
                  <a:lnTo>
                    <a:pt x="1472" y="196"/>
                  </a:lnTo>
                  <a:lnTo>
                    <a:pt x="1478" y="202"/>
                  </a:lnTo>
                  <a:lnTo>
                    <a:pt x="1483" y="207"/>
                  </a:lnTo>
                  <a:lnTo>
                    <a:pt x="1489" y="218"/>
                  </a:lnTo>
                  <a:lnTo>
                    <a:pt x="1494" y="223"/>
                  </a:lnTo>
                  <a:lnTo>
                    <a:pt x="1500" y="218"/>
                  </a:lnTo>
                  <a:lnTo>
                    <a:pt x="1505" y="213"/>
                  </a:lnTo>
                  <a:lnTo>
                    <a:pt x="1505" y="207"/>
                  </a:lnTo>
                  <a:lnTo>
                    <a:pt x="1505" y="202"/>
                  </a:lnTo>
                  <a:lnTo>
                    <a:pt x="1505" y="191"/>
                  </a:lnTo>
                  <a:lnTo>
                    <a:pt x="1511" y="185"/>
                  </a:lnTo>
                  <a:lnTo>
                    <a:pt x="1516" y="180"/>
                  </a:lnTo>
                  <a:lnTo>
                    <a:pt x="1521" y="174"/>
                  </a:lnTo>
                  <a:lnTo>
                    <a:pt x="1532" y="169"/>
                  </a:lnTo>
                  <a:lnTo>
                    <a:pt x="1538" y="169"/>
                  </a:lnTo>
                  <a:lnTo>
                    <a:pt x="1549" y="163"/>
                  </a:lnTo>
                  <a:lnTo>
                    <a:pt x="1560" y="158"/>
                  </a:lnTo>
                  <a:lnTo>
                    <a:pt x="1571" y="158"/>
                  </a:lnTo>
                  <a:lnTo>
                    <a:pt x="1576" y="158"/>
                  </a:lnTo>
                  <a:lnTo>
                    <a:pt x="1587" y="158"/>
                  </a:lnTo>
                  <a:lnTo>
                    <a:pt x="1598" y="153"/>
                  </a:lnTo>
                  <a:lnTo>
                    <a:pt x="1609" y="153"/>
                  </a:lnTo>
                  <a:lnTo>
                    <a:pt x="1614" y="147"/>
                  </a:lnTo>
                  <a:lnTo>
                    <a:pt x="1625" y="142"/>
                  </a:lnTo>
                  <a:lnTo>
                    <a:pt x="1630" y="136"/>
                  </a:lnTo>
                  <a:lnTo>
                    <a:pt x="1641" y="136"/>
                  </a:lnTo>
                  <a:lnTo>
                    <a:pt x="1647" y="131"/>
                  </a:lnTo>
                  <a:lnTo>
                    <a:pt x="1658" y="125"/>
                  </a:lnTo>
                  <a:lnTo>
                    <a:pt x="1663" y="120"/>
                  </a:lnTo>
                  <a:lnTo>
                    <a:pt x="1674" y="114"/>
                  </a:lnTo>
                  <a:lnTo>
                    <a:pt x="1680" y="114"/>
                  </a:lnTo>
                  <a:lnTo>
                    <a:pt x="1690" y="109"/>
                  </a:lnTo>
                  <a:lnTo>
                    <a:pt x="1696" y="109"/>
                  </a:lnTo>
                  <a:lnTo>
                    <a:pt x="1707" y="104"/>
                  </a:lnTo>
                  <a:lnTo>
                    <a:pt x="1718" y="104"/>
                  </a:lnTo>
                  <a:lnTo>
                    <a:pt x="1729" y="98"/>
                  </a:lnTo>
                  <a:lnTo>
                    <a:pt x="1740" y="98"/>
                  </a:lnTo>
                  <a:lnTo>
                    <a:pt x="1745" y="93"/>
                  </a:lnTo>
                  <a:lnTo>
                    <a:pt x="1756" y="87"/>
                  </a:lnTo>
                  <a:lnTo>
                    <a:pt x="1761" y="82"/>
                  </a:lnTo>
                  <a:lnTo>
                    <a:pt x="1767" y="76"/>
                  </a:lnTo>
                  <a:lnTo>
                    <a:pt x="1778" y="71"/>
                  </a:lnTo>
                  <a:lnTo>
                    <a:pt x="1783" y="71"/>
                  </a:lnTo>
                  <a:lnTo>
                    <a:pt x="1794" y="65"/>
                  </a:lnTo>
                  <a:lnTo>
                    <a:pt x="1805" y="65"/>
                  </a:lnTo>
                  <a:lnTo>
                    <a:pt x="1810" y="60"/>
                  </a:lnTo>
                  <a:lnTo>
                    <a:pt x="1810" y="49"/>
                  </a:lnTo>
                  <a:lnTo>
                    <a:pt x="1821" y="49"/>
                  </a:lnTo>
                  <a:lnTo>
                    <a:pt x="1832" y="49"/>
                  </a:lnTo>
                  <a:lnTo>
                    <a:pt x="1843" y="49"/>
                  </a:lnTo>
                  <a:lnTo>
                    <a:pt x="1854" y="49"/>
                  </a:lnTo>
                  <a:lnTo>
                    <a:pt x="1859" y="44"/>
                  </a:lnTo>
                  <a:lnTo>
                    <a:pt x="1865" y="38"/>
                  </a:lnTo>
                  <a:lnTo>
                    <a:pt x="1870" y="33"/>
                  </a:lnTo>
                  <a:lnTo>
                    <a:pt x="1881" y="27"/>
                  </a:lnTo>
                  <a:lnTo>
                    <a:pt x="1887" y="22"/>
                  </a:lnTo>
                  <a:lnTo>
                    <a:pt x="1898" y="22"/>
                  </a:lnTo>
                  <a:lnTo>
                    <a:pt x="1909" y="16"/>
                  </a:lnTo>
                  <a:lnTo>
                    <a:pt x="1914" y="16"/>
                  </a:lnTo>
                  <a:lnTo>
                    <a:pt x="1925" y="11"/>
                  </a:lnTo>
                  <a:lnTo>
                    <a:pt x="1936" y="11"/>
                  </a:lnTo>
                  <a:lnTo>
                    <a:pt x="1947" y="5"/>
                  </a:lnTo>
                  <a:lnTo>
                    <a:pt x="1958" y="5"/>
                  </a:lnTo>
                  <a:lnTo>
                    <a:pt x="1963" y="0"/>
                  </a:lnTo>
                  <a:lnTo>
                    <a:pt x="1941" y="0"/>
                  </a:lnTo>
                  <a:lnTo>
                    <a:pt x="1909" y="0"/>
                  </a:lnTo>
                  <a:lnTo>
                    <a:pt x="1876" y="0"/>
                  </a:lnTo>
                  <a:lnTo>
                    <a:pt x="1849" y="0"/>
                  </a:lnTo>
                  <a:lnTo>
                    <a:pt x="1816" y="0"/>
                  </a:lnTo>
                  <a:lnTo>
                    <a:pt x="1783" y="0"/>
                  </a:lnTo>
                  <a:lnTo>
                    <a:pt x="1750" y="0"/>
                  </a:lnTo>
                  <a:lnTo>
                    <a:pt x="1718" y="0"/>
                  </a:lnTo>
                  <a:lnTo>
                    <a:pt x="1685" y="0"/>
                  </a:lnTo>
                  <a:lnTo>
                    <a:pt x="1658" y="0"/>
                  </a:lnTo>
                  <a:lnTo>
                    <a:pt x="1625" y="0"/>
                  </a:lnTo>
                  <a:lnTo>
                    <a:pt x="1592" y="0"/>
                  </a:lnTo>
                  <a:lnTo>
                    <a:pt x="1560" y="0"/>
                  </a:lnTo>
                  <a:lnTo>
                    <a:pt x="1527" y="0"/>
                  </a:lnTo>
                  <a:lnTo>
                    <a:pt x="1494" y="0"/>
                  </a:lnTo>
                  <a:lnTo>
                    <a:pt x="1467" y="0"/>
                  </a:lnTo>
                  <a:lnTo>
                    <a:pt x="1434" y="0"/>
                  </a:lnTo>
                  <a:lnTo>
                    <a:pt x="1401" y="0"/>
                  </a:lnTo>
                  <a:lnTo>
                    <a:pt x="1369" y="0"/>
                  </a:lnTo>
                  <a:lnTo>
                    <a:pt x="1336" y="0"/>
                  </a:lnTo>
                  <a:lnTo>
                    <a:pt x="1303" y="0"/>
                  </a:lnTo>
                  <a:lnTo>
                    <a:pt x="1276" y="0"/>
                  </a:lnTo>
                  <a:lnTo>
                    <a:pt x="1243" y="0"/>
                  </a:lnTo>
                  <a:lnTo>
                    <a:pt x="1211" y="0"/>
                  </a:lnTo>
                  <a:lnTo>
                    <a:pt x="1178" y="0"/>
                  </a:lnTo>
                  <a:lnTo>
                    <a:pt x="1145" y="0"/>
                  </a:lnTo>
                  <a:lnTo>
                    <a:pt x="1113" y="0"/>
                  </a:lnTo>
                  <a:lnTo>
                    <a:pt x="1085" y="0"/>
                  </a:lnTo>
                  <a:lnTo>
                    <a:pt x="1053" y="0"/>
                  </a:lnTo>
                  <a:lnTo>
                    <a:pt x="1020" y="0"/>
                  </a:lnTo>
                  <a:lnTo>
                    <a:pt x="987" y="0"/>
                  </a:lnTo>
                  <a:lnTo>
                    <a:pt x="954" y="0"/>
                  </a:lnTo>
                  <a:lnTo>
                    <a:pt x="922" y="0"/>
                  </a:lnTo>
                  <a:lnTo>
                    <a:pt x="894" y="0"/>
                  </a:lnTo>
                  <a:lnTo>
                    <a:pt x="862" y="0"/>
                  </a:lnTo>
                  <a:lnTo>
                    <a:pt x="829" y="0"/>
                  </a:lnTo>
                  <a:lnTo>
                    <a:pt x="796" y="0"/>
                  </a:lnTo>
                  <a:lnTo>
                    <a:pt x="764" y="0"/>
                  </a:lnTo>
                  <a:lnTo>
                    <a:pt x="731" y="0"/>
                  </a:lnTo>
                  <a:lnTo>
                    <a:pt x="704" y="33"/>
                  </a:lnTo>
                  <a:lnTo>
                    <a:pt x="671" y="65"/>
                  </a:lnTo>
                  <a:lnTo>
                    <a:pt x="638" y="98"/>
                  </a:lnTo>
                  <a:lnTo>
                    <a:pt x="605" y="125"/>
                  </a:lnTo>
                  <a:lnTo>
                    <a:pt x="573" y="158"/>
                  </a:lnTo>
                  <a:lnTo>
                    <a:pt x="545" y="158"/>
                  </a:lnTo>
                  <a:lnTo>
                    <a:pt x="513" y="191"/>
                  </a:lnTo>
                  <a:lnTo>
                    <a:pt x="480" y="223"/>
                  </a:lnTo>
                  <a:lnTo>
                    <a:pt x="447" y="256"/>
                  </a:lnTo>
                  <a:lnTo>
                    <a:pt x="415" y="289"/>
                  </a:lnTo>
                  <a:lnTo>
                    <a:pt x="382" y="322"/>
                  </a:lnTo>
                  <a:lnTo>
                    <a:pt x="355" y="354"/>
                  </a:lnTo>
                  <a:lnTo>
                    <a:pt x="322" y="381"/>
                  </a:lnTo>
                  <a:lnTo>
                    <a:pt x="289" y="381"/>
                  </a:lnTo>
                  <a:lnTo>
                    <a:pt x="257" y="414"/>
                  </a:lnTo>
                  <a:lnTo>
                    <a:pt x="257" y="441"/>
                  </a:lnTo>
                  <a:lnTo>
                    <a:pt x="262" y="441"/>
                  </a:lnTo>
                  <a:lnTo>
                    <a:pt x="267" y="447"/>
                  </a:lnTo>
                  <a:lnTo>
                    <a:pt x="267" y="452"/>
                  </a:lnTo>
                  <a:lnTo>
                    <a:pt x="267" y="452"/>
                  </a:lnTo>
                  <a:lnTo>
                    <a:pt x="262" y="458"/>
                  </a:lnTo>
                  <a:lnTo>
                    <a:pt x="257" y="463"/>
                  </a:lnTo>
                  <a:lnTo>
                    <a:pt x="251" y="463"/>
                  </a:lnTo>
                  <a:lnTo>
                    <a:pt x="251" y="469"/>
                  </a:lnTo>
                  <a:lnTo>
                    <a:pt x="246" y="474"/>
                  </a:lnTo>
                  <a:lnTo>
                    <a:pt x="240" y="474"/>
                  </a:lnTo>
                  <a:lnTo>
                    <a:pt x="240" y="480"/>
                  </a:lnTo>
                  <a:lnTo>
                    <a:pt x="235" y="485"/>
                  </a:lnTo>
                  <a:lnTo>
                    <a:pt x="229" y="490"/>
                  </a:lnTo>
                  <a:lnTo>
                    <a:pt x="224" y="490"/>
                  </a:lnTo>
                  <a:lnTo>
                    <a:pt x="224" y="490"/>
                  </a:lnTo>
                  <a:lnTo>
                    <a:pt x="218" y="485"/>
                  </a:lnTo>
                  <a:lnTo>
                    <a:pt x="218" y="480"/>
                  </a:lnTo>
                  <a:lnTo>
                    <a:pt x="191" y="480"/>
                  </a:lnTo>
                  <a:lnTo>
                    <a:pt x="164" y="512"/>
                  </a:lnTo>
                  <a:lnTo>
                    <a:pt x="131" y="545"/>
                  </a:lnTo>
                  <a:lnTo>
                    <a:pt x="98" y="572"/>
                  </a:lnTo>
                  <a:lnTo>
                    <a:pt x="66" y="605"/>
                  </a:lnTo>
                  <a:lnTo>
                    <a:pt x="33" y="605"/>
                  </a:lnTo>
                  <a:lnTo>
                    <a:pt x="0" y="638"/>
                  </a:lnTo>
                  <a:lnTo>
                    <a:pt x="0" y="670"/>
                  </a:lnTo>
                  <a:lnTo>
                    <a:pt x="0" y="703"/>
                  </a:lnTo>
                  <a:lnTo>
                    <a:pt x="0" y="736"/>
                  </a:lnTo>
                  <a:lnTo>
                    <a:pt x="33" y="768"/>
                  </a:lnTo>
                  <a:lnTo>
                    <a:pt x="33" y="801"/>
                  </a:lnTo>
                  <a:lnTo>
                    <a:pt x="66" y="828"/>
                  </a:lnTo>
                  <a:lnTo>
                    <a:pt x="98" y="861"/>
                  </a:lnTo>
                  <a:lnTo>
                    <a:pt x="131" y="894"/>
                  </a:lnTo>
                  <a:lnTo>
                    <a:pt x="164" y="927"/>
                  </a:lnTo>
                  <a:lnTo>
                    <a:pt x="164" y="959"/>
                  </a:lnTo>
                  <a:lnTo>
                    <a:pt x="191" y="992"/>
                  </a:lnTo>
                  <a:lnTo>
                    <a:pt x="224" y="1025"/>
                  </a:lnTo>
                  <a:lnTo>
                    <a:pt x="257" y="1052"/>
                  </a:lnTo>
                  <a:lnTo>
                    <a:pt x="289" y="1085"/>
                  </a:lnTo>
                  <a:lnTo>
                    <a:pt x="322" y="1117"/>
                  </a:lnTo>
                  <a:lnTo>
                    <a:pt x="355" y="1150"/>
                  </a:lnTo>
                  <a:lnTo>
                    <a:pt x="355" y="1183"/>
                  </a:lnTo>
                  <a:lnTo>
                    <a:pt x="382" y="1215"/>
                  </a:lnTo>
                  <a:lnTo>
                    <a:pt x="415" y="1248"/>
                  </a:lnTo>
                  <a:lnTo>
                    <a:pt x="447" y="1275"/>
                  </a:lnTo>
                  <a:lnTo>
                    <a:pt x="480" y="1308"/>
                  </a:lnTo>
                  <a:lnTo>
                    <a:pt x="513" y="1341"/>
                  </a:lnTo>
                  <a:lnTo>
                    <a:pt x="545" y="1373"/>
                  </a:lnTo>
                  <a:lnTo>
                    <a:pt x="573" y="1406"/>
                  </a:lnTo>
                  <a:lnTo>
                    <a:pt x="605" y="1439"/>
                  </a:lnTo>
                  <a:lnTo>
                    <a:pt x="638" y="1472"/>
                  </a:lnTo>
                  <a:lnTo>
                    <a:pt x="671" y="1499"/>
                  </a:lnTo>
                  <a:lnTo>
                    <a:pt x="704" y="1531"/>
                  </a:lnTo>
                  <a:lnTo>
                    <a:pt x="731" y="1564"/>
                  </a:lnTo>
                  <a:lnTo>
                    <a:pt x="764" y="1597"/>
                  </a:lnTo>
                  <a:lnTo>
                    <a:pt x="796" y="1630"/>
                  </a:lnTo>
                  <a:lnTo>
                    <a:pt x="829" y="1662"/>
                  </a:lnTo>
                  <a:lnTo>
                    <a:pt x="862" y="1695"/>
                  </a:lnTo>
                  <a:lnTo>
                    <a:pt x="894" y="1722"/>
                  </a:lnTo>
                  <a:lnTo>
                    <a:pt x="922" y="1755"/>
                  </a:lnTo>
                  <a:lnTo>
                    <a:pt x="954" y="1755"/>
                  </a:lnTo>
                  <a:lnTo>
                    <a:pt x="987" y="1788"/>
                  </a:lnTo>
                  <a:lnTo>
                    <a:pt x="1020" y="1820"/>
                  </a:lnTo>
                  <a:lnTo>
                    <a:pt x="1053" y="1853"/>
                  </a:lnTo>
                  <a:lnTo>
                    <a:pt x="1085" y="1886"/>
                  </a:lnTo>
                  <a:lnTo>
                    <a:pt x="1113" y="1918"/>
                  </a:lnTo>
                  <a:lnTo>
                    <a:pt x="1145" y="1946"/>
                  </a:lnTo>
                  <a:lnTo>
                    <a:pt x="1178" y="1978"/>
                  </a:lnTo>
                  <a:lnTo>
                    <a:pt x="1211" y="1978"/>
                  </a:lnTo>
                  <a:lnTo>
                    <a:pt x="1243" y="1978"/>
                  </a:lnTo>
                  <a:lnTo>
                    <a:pt x="1276" y="1978"/>
                  </a:lnTo>
                  <a:lnTo>
                    <a:pt x="1303" y="1978"/>
                  </a:lnTo>
                  <a:lnTo>
                    <a:pt x="1336" y="1978"/>
                  </a:lnTo>
                  <a:lnTo>
                    <a:pt x="1369" y="1978"/>
                  </a:lnTo>
                  <a:lnTo>
                    <a:pt x="1401" y="1978"/>
                  </a:lnTo>
                  <a:lnTo>
                    <a:pt x="1434" y="1978"/>
                  </a:lnTo>
                  <a:lnTo>
                    <a:pt x="1467" y="1978"/>
                  </a:lnTo>
                  <a:lnTo>
                    <a:pt x="1494" y="1978"/>
                  </a:lnTo>
                  <a:lnTo>
                    <a:pt x="1527" y="1978"/>
                  </a:lnTo>
                  <a:lnTo>
                    <a:pt x="1560" y="1978"/>
                  </a:lnTo>
                  <a:lnTo>
                    <a:pt x="1592" y="1978"/>
                  </a:lnTo>
                  <a:lnTo>
                    <a:pt x="1625" y="1978"/>
                  </a:lnTo>
                  <a:lnTo>
                    <a:pt x="1658" y="1978"/>
                  </a:lnTo>
                  <a:lnTo>
                    <a:pt x="1685" y="1978"/>
                  </a:lnTo>
                  <a:lnTo>
                    <a:pt x="1718" y="1978"/>
                  </a:lnTo>
                  <a:lnTo>
                    <a:pt x="1750" y="1978"/>
                  </a:lnTo>
                  <a:lnTo>
                    <a:pt x="1783" y="1978"/>
                  </a:lnTo>
                  <a:lnTo>
                    <a:pt x="1816" y="1978"/>
                  </a:lnTo>
                  <a:lnTo>
                    <a:pt x="1849" y="1978"/>
                  </a:lnTo>
                  <a:lnTo>
                    <a:pt x="1876" y="1978"/>
                  </a:lnTo>
                  <a:lnTo>
                    <a:pt x="1909" y="1978"/>
                  </a:lnTo>
                  <a:lnTo>
                    <a:pt x="1941" y="1978"/>
                  </a:lnTo>
                  <a:lnTo>
                    <a:pt x="1974" y="1978"/>
                  </a:lnTo>
                  <a:lnTo>
                    <a:pt x="2007" y="1978"/>
                  </a:lnTo>
                  <a:lnTo>
                    <a:pt x="2039" y="1978"/>
                  </a:lnTo>
                  <a:lnTo>
                    <a:pt x="2067" y="1978"/>
                  </a:lnTo>
                  <a:lnTo>
                    <a:pt x="2099" y="1978"/>
                  </a:lnTo>
                  <a:lnTo>
                    <a:pt x="2132" y="1978"/>
                  </a:lnTo>
                  <a:lnTo>
                    <a:pt x="2165" y="1978"/>
                  </a:lnTo>
                  <a:lnTo>
                    <a:pt x="2198" y="1978"/>
                  </a:lnTo>
                  <a:lnTo>
                    <a:pt x="2230" y="1978"/>
                  </a:lnTo>
                  <a:lnTo>
                    <a:pt x="2258" y="1978"/>
                  </a:lnTo>
                  <a:lnTo>
                    <a:pt x="2290" y="1978"/>
                  </a:lnTo>
                  <a:lnTo>
                    <a:pt x="2323" y="1978"/>
                  </a:lnTo>
                  <a:lnTo>
                    <a:pt x="2356" y="1978"/>
                  </a:lnTo>
                  <a:lnTo>
                    <a:pt x="2388" y="1978"/>
                  </a:lnTo>
                  <a:lnTo>
                    <a:pt x="2421" y="1978"/>
                  </a:lnTo>
                  <a:lnTo>
                    <a:pt x="2448" y="1978"/>
                  </a:lnTo>
                  <a:lnTo>
                    <a:pt x="2481" y="1978"/>
                  </a:lnTo>
                  <a:lnTo>
                    <a:pt x="2514" y="1978"/>
                  </a:lnTo>
                  <a:lnTo>
                    <a:pt x="2546" y="1978"/>
                  </a:lnTo>
                  <a:lnTo>
                    <a:pt x="2579" y="1978"/>
                  </a:lnTo>
                  <a:lnTo>
                    <a:pt x="2612" y="1978"/>
                  </a:lnTo>
                  <a:lnTo>
                    <a:pt x="2639" y="1978"/>
                  </a:lnTo>
                  <a:lnTo>
                    <a:pt x="2672" y="1978"/>
                  </a:lnTo>
                  <a:close/>
                  <a:moveTo>
                    <a:pt x="507" y="1275"/>
                  </a:moveTo>
                  <a:lnTo>
                    <a:pt x="496" y="1275"/>
                  </a:lnTo>
                  <a:lnTo>
                    <a:pt x="491" y="1270"/>
                  </a:lnTo>
                  <a:lnTo>
                    <a:pt x="486" y="1264"/>
                  </a:lnTo>
                  <a:lnTo>
                    <a:pt x="480" y="1264"/>
                  </a:lnTo>
                  <a:lnTo>
                    <a:pt x="475" y="1259"/>
                  </a:lnTo>
                  <a:lnTo>
                    <a:pt x="469" y="1248"/>
                  </a:lnTo>
                  <a:lnTo>
                    <a:pt x="469" y="1243"/>
                  </a:lnTo>
                  <a:lnTo>
                    <a:pt x="464" y="1243"/>
                  </a:lnTo>
                  <a:lnTo>
                    <a:pt x="453" y="1237"/>
                  </a:lnTo>
                  <a:lnTo>
                    <a:pt x="447" y="1232"/>
                  </a:lnTo>
                  <a:lnTo>
                    <a:pt x="442" y="1226"/>
                  </a:lnTo>
                  <a:lnTo>
                    <a:pt x="442" y="1221"/>
                  </a:lnTo>
                  <a:lnTo>
                    <a:pt x="436" y="1215"/>
                  </a:lnTo>
                  <a:lnTo>
                    <a:pt x="431" y="1210"/>
                  </a:lnTo>
                  <a:lnTo>
                    <a:pt x="426" y="1204"/>
                  </a:lnTo>
                  <a:lnTo>
                    <a:pt x="426" y="1199"/>
                  </a:lnTo>
                  <a:lnTo>
                    <a:pt x="420" y="1194"/>
                  </a:lnTo>
                  <a:lnTo>
                    <a:pt x="415" y="1188"/>
                  </a:lnTo>
                  <a:lnTo>
                    <a:pt x="409" y="1183"/>
                  </a:lnTo>
                  <a:lnTo>
                    <a:pt x="404" y="1177"/>
                  </a:lnTo>
                  <a:lnTo>
                    <a:pt x="404" y="1172"/>
                  </a:lnTo>
                  <a:lnTo>
                    <a:pt x="398" y="1166"/>
                  </a:lnTo>
                  <a:lnTo>
                    <a:pt x="393" y="1161"/>
                  </a:lnTo>
                  <a:lnTo>
                    <a:pt x="387" y="1155"/>
                  </a:lnTo>
                  <a:lnTo>
                    <a:pt x="382" y="1150"/>
                  </a:lnTo>
                  <a:lnTo>
                    <a:pt x="382" y="1145"/>
                  </a:lnTo>
                  <a:lnTo>
                    <a:pt x="376" y="1139"/>
                  </a:lnTo>
                  <a:lnTo>
                    <a:pt x="371" y="1134"/>
                  </a:lnTo>
                  <a:lnTo>
                    <a:pt x="366" y="1128"/>
                  </a:lnTo>
                  <a:lnTo>
                    <a:pt x="360" y="1123"/>
                  </a:lnTo>
                  <a:lnTo>
                    <a:pt x="360" y="1117"/>
                  </a:lnTo>
                  <a:lnTo>
                    <a:pt x="355" y="1112"/>
                  </a:lnTo>
                  <a:lnTo>
                    <a:pt x="349" y="1106"/>
                  </a:lnTo>
                  <a:lnTo>
                    <a:pt x="344" y="1101"/>
                  </a:lnTo>
                  <a:lnTo>
                    <a:pt x="344" y="1095"/>
                  </a:lnTo>
                  <a:lnTo>
                    <a:pt x="338" y="1090"/>
                  </a:lnTo>
                  <a:lnTo>
                    <a:pt x="333" y="1085"/>
                  </a:lnTo>
                  <a:lnTo>
                    <a:pt x="327" y="1079"/>
                  </a:lnTo>
                  <a:lnTo>
                    <a:pt x="322" y="1074"/>
                  </a:lnTo>
                  <a:lnTo>
                    <a:pt x="322" y="1068"/>
                  </a:lnTo>
                  <a:lnTo>
                    <a:pt x="316" y="1063"/>
                  </a:lnTo>
                  <a:lnTo>
                    <a:pt x="311" y="1057"/>
                  </a:lnTo>
                  <a:lnTo>
                    <a:pt x="306" y="1052"/>
                  </a:lnTo>
                  <a:lnTo>
                    <a:pt x="300" y="1046"/>
                  </a:lnTo>
                  <a:lnTo>
                    <a:pt x="300" y="1041"/>
                  </a:lnTo>
                  <a:lnTo>
                    <a:pt x="295" y="1036"/>
                  </a:lnTo>
                  <a:lnTo>
                    <a:pt x="289" y="1030"/>
                  </a:lnTo>
                  <a:lnTo>
                    <a:pt x="284" y="1025"/>
                  </a:lnTo>
                  <a:lnTo>
                    <a:pt x="278" y="1019"/>
                  </a:lnTo>
                  <a:lnTo>
                    <a:pt x="278" y="1014"/>
                  </a:lnTo>
                  <a:lnTo>
                    <a:pt x="273" y="1008"/>
                  </a:lnTo>
                  <a:lnTo>
                    <a:pt x="267" y="1003"/>
                  </a:lnTo>
                  <a:lnTo>
                    <a:pt x="262" y="997"/>
                  </a:lnTo>
                  <a:lnTo>
                    <a:pt x="262" y="992"/>
                  </a:lnTo>
                  <a:lnTo>
                    <a:pt x="257" y="986"/>
                  </a:lnTo>
                  <a:lnTo>
                    <a:pt x="251" y="981"/>
                  </a:lnTo>
                  <a:lnTo>
                    <a:pt x="246" y="976"/>
                  </a:lnTo>
                  <a:lnTo>
                    <a:pt x="240" y="970"/>
                  </a:lnTo>
                  <a:lnTo>
                    <a:pt x="240" y="965"/>
                  </a:lnTo>
                  <a:lnTo>
                    <a:pt x="235" y="959"/>
                  </a:lnTo>
                  <a:lnTo>
                    <a:pt x="229" y="954"/>
                  </a:lnTo>
                  <a:lnTo>
                    <a:pt x="224" y="948"/>
                  </a:lnTo>
                  <a:lnTo>
                    <a:pt x="218" y="943"/>
                  </a:lnTo>
                  <a:lnTo>
                    <a:pt x="218" y="937"/>
                  </a:lnTo>
                  <a:lnTo>
                    <a:pt x="213" y="937"/>
                  </a:lnTo>
                  <a:lnTo>
                    <a:pt x="207" y="927"/>
                  </a:lnTo>
                  <a:lnTo>
                    <a:pt x="202" y="927"/>
                  </a:lnTo>
                  <a:lnTo>
                    <a:pt x="197" y="921"/>
                  </a:lnTo>
                  <a:lnTo>
                    <a:pt x="197" y="916"/>
                  </a:lnTo>
                  <a:lnTo>
                    <a:pt x="191" y="910"/>
                  </a:lnTo>
                  <a:lnTo>
                    <a:pt x="186" y="905"/>
                  </a:lnTo>
                  <a:lnTo>
                    <a:pt x="180" y="899"/>
                  </a:lnTo>
                  <a:lnTo>
                    <a:pt x="180" y="894"/>
                  </a:lnTo>
                  <a:lnTo>
                    <a:pt x="175" y="888"/>
                  </a:lnTo>
                  <a:lnTo>
                    <a:pt x="169" y="883"/>
                  </a:lnTo>
                  <a:lnTo>
                    <a:pt x="164" y="877"/>
                  </a:lnTo>
                  <a:lnTo>
                    <a:pt x="158" y="872"/>
                  </a:lnTo>
                  <a:lnTo>
                    <a:pt x="153" y="867"/>
                  </a:lnTo>
                  <a:lnTo>
                    <a:pt x="153" y="856"/>
                  </a:lnTo>
                  <a:lnTo>
                    <a:pt x="164" y="856"/>
                  </a:lnTo>
                  <a:lnTo>
                    <a:pt x="164" y="861"/>
                  </a:lnTo>
                  <a:lnTo>
                    <a:pt x="164" y="867"/>
                  </a:lnTo>
                  <a:lnTo>
                    <a:pt x="169" y="877"/>
                  </a:lnTo>
                  <a:lnTo>
                    <a:pt x="175" y="883"/>
                  </a:lnTo>
                  <a:lnTo>
                    <a:pt x="180" y="888"/>
                  </a:lnTo>
                  <a:lnTo>
                    <a:pt x="186" y="888"/>
                  </a:lnTo>
                  <a:lnTo>
                    <a:pt x="197" y="888"/>
                  </a:lnTo>
                  <a:lnTo>
                    <a:pt x="202" y="883"/>
                  </a:lnTo>
                  <a:lnTo>
                    <a:pt x="207" y="877"/>
                  </a:lnTo>
                  <a:lnTo>
                    <a:pt x="213" y="872"/>
                  </a:lnTo>
                  <a:lnTo>
                    <a:pt x="218" y="872"/>
                  </a:lnTo>
                  <a:lnTo>
                    <a:pt x="229" y="867"/>
                  </a:lnTo>
                  <a:lnTo>
                    <a:pt x="235" y="872"/>
                  </a:lnTo>
                  <a:lnTo>
                    <a:pt x="246" y="872"/>
                  </a:lnTo>
                  <a:lnTo>
                    <a:pt x="251" y="877"/>
                  </a:lnTo>
                  <a:lnTo>
                    <a:pt x="257" y="883"/>
                  </a:lnTo>
                  <a:lnTo>
                    <a:pt x="262" y="888"/>
                  </a:lnTo>
                  <a:lnTo>
                    <a:pt x="262" y="899"/>
                  </a:lnTo>
                  <a:lnTo>
                    <a:pt x="267" y="905"/>
                  </a:lnTo>
                  <a:lnTo>
                    <a:pt x="273" y="910"/>
                  </a:lnTo>
                  <a:lnTo>
                    <a:pt x="278" y="916"/>
                  </a:lnTo>
                  <a:lnTo>
                    <a:pt x="284" y="921"/>
                  </a:lnTo>
                  <a:lnTo>
                    <a:pt x="289" y="916"/>
                  </a:lnTo>
                  <a:lnTo>
                    <a:pt x="300" y="916"/>
                  </a:lnTo>
                  <a:lnTo>
                    <a:pt x="306" y="910"/>
                  </a:lnTo>
                  <a:lnTo>
                    <a:pt x="316" y="905"/>
                  </a:lnTo>
                  <a:lnTo>
                    <a:pt x="322" y="905"/>
                  </a:lnTo>
                  <a:lnTo>
                    <a:pt x="333" y="899"/>
                  </a:lnTo>
                  <a:lnTo>
                    <a:pt x="338" y="899"/>
                  </a:lnTo>
                  <a:lnTo>
                    <a:pt x="349" y="894"/>
                  </a:lnTo>
                  <a:lnTo>
                    <a:pt x="355" y="888"/>
                  </a:lnTo>
                  <a:lnTo>
                    <a:pt x="366" y="894"/>
                  </a:lnTo>
                  <a:lnTo>
                    <a:pt x="371" y="899"/>
                  </a:lnTo>
                  <a:lnTo>
                    <a:pt x="376" y="905"/>
                  </a:lnTo>
                  <a:lnTo>
                    <a:pt x="382" y="910"/>
                  </a:lnTo>
                  <a:lnTo>
                    <a:pt x="382" y="916"/>
                  </a:lnTo>
                  <a:lnTo>
                    <a:pt x="387" y="921"/>
                  </a:lnTo>
                  <a:lnTo>
                    <a:pt x="387" y="927"/>
                  </a:lnTo>
                  <a:lnTo>
                    <a:pt x="387" y="932"/>
                  </a:lnTo>
                  <a:lnTo>
                    <a:pt x="387" y="937"/>
                  </a:lnTo>
                  <a:lnTo>
                    <a:pt x="382" y="937"/>
                  </a:lnTo>
                  <a:lnTo>
                    <a:pt x="376" y="932"/>
                  </a:lnTo>
                  <a:lnTo>
                    <a:pt x="366" y="927"/>
                  </a:lnTo>
                  <a:lnTo>
                    <a:pt x="360" y="921"/>
                  </a:lnTo>
                  <a:lnTo>
                    <a:pt x="355" y="916"/>
                  </a:lnTo>
                  <a:lnTo>
                    <a:pt x="349" y="921"/>
                  </a:lnTo>
                  <a:lnTo>
                    <a:pt x="349" y="932"/>
                  </a:lnTo>
                  <a:lnTo>
                    <a:pt x="349" y="937"/>
                  </a:lnTo>
                  <a:lnTo>
                    <a:pt x="349" y="943"/>
                  </a:lnTo>
                  <a:lnTo>
                    <a:pt x="349" y="948"/>
                  </a:lnTo>
                  <a:lnTo>
                    <a:pt x="349" y="954"/>
                  </a:lnTo>
                  <a:lnTo>
                    <a:pt x="355" y="959"/>
                  </a:lnTo>
                  <a:lnTo>
                    <a:pt x="360" y="959"/>
                  </a:lnTo>
                  <a:lnTo>
                    <a:pt x="371" y="965"/>
                  </a:lnTo>
                  <a:lnTo>
                    <a:pt x="382" y="965"/>
                  </a:lnTo>
                  <a:lnTo>
                    <a:pt x="387" y="965"/>
                  </a:lnTo>
                  <a:lnTo>
                    <a:pt x="393" y="970"/>
                  </a:lnTo>
                  <a:lnTo>
                    <a:pt x="398" y="976"/>
                  </a:lnTo>
                  <a:lnTo>
                    <a:pt x="398" y="981"/>
                  </a:lnTo>
                  <a:lnTo>
                    <a:pt x="404" y="986"/>
                  </a:lnTo>
                  <a:lnTo>
                    <a:pt x="409" y="992"/>
                  </a:lnTo>
                  <a:lnTo>
                    <a:pt x="415" y="997"/>
                  </a:lnTo>
                  <a:lnTo>
                    <a:pt x="420" y="1003"/>
                  </a:lnTo>
                  <a:lnTo>
                    <a:pt x="426" y="1008"/>
                  </a:lnTo>
                  <a:lnTo>
                    <a:pt x="431" y="1014"/>
                  </a:lnTo>
                  <a:lnTo>
                    <a:pt x="442" y="1019"/>
                  </a:lnTo>
                  <a:lnTo>
                    <a:pt x="447" y="1019"/>
                  </a:lnTo>
                  <a:lnTo>
                    <a:pt x="453" y="1019"/>
                  </a:lnTo>
                  <a:lnTo>
                    <a:pt x="464" y="1019"/>
                  </a:lnTo>
                  <a:lnTo>
                    <a:pt x="475" y="1019"/>
                  </a:lnTo>
                  <a:lnTo>
                    <a:pt x="480" y="1014"/>
                  </a:lnTo>
                  <a:lnTo>
                    <a:pt x="491" y="1014"/>
                  </a:lnTo>
                  <a:lnTo>
                    <a:pt x="496" y="1008"/>
                  </a:lnTo>
                  <a:lnTo>
                    <a:pt x="502" y="1003"/>
                  </a:lnTo>
                  <a:lnTo>
                    <a:pt x="507" y="997"/>
                  </a:lnTo>
                  <a:lnTo>
                    <a:pt x="513" y="992"/>
                  </a:lnTo>
                  <a:lnTo>
                    <a:pt x="518" y="986"/>
                  </a:lnTo>
                  <a:lnTo>
                    <a:pt x="524" y="981"/>
                  </a:lnTo>
                  <a:lnTo>
                    <a:pt x="529" y="981"/>
                  </a:lnTo>
                  <a:lnTo>
                    <a:pt x="540" y="976"/>
                  </a:lnTo>
                  <a:lnTo>
                    <a:pt x="545" y="970"/>
                  </a:lnTo>
                  <a:lnTo>
                    <a:pt x="551" y="965"/>
                  </a:lnTo>
                  <a:lnTo>
                    <a:pt x="562" y="965"/>
                  </a:lnTo>
                  <a:lnTo>
                    <a:pt x="567" y="959"/>
                  </a:lnTo>
                  <a:lnTo>
                    <a:pt x="573" y="954"/>
                  </a:lnTo>
                  <a:lnTo>
                    <a:pt x="584" y="954"/>
                  </a:lnTo>
                  <a:lnTo>
                    <a:pt x="589" y="954"/>
                  </a:lnTo>
                  <a:lnTo>
                    <a:pt x="600" y="954"/>
                  </a:lnTo>
                  <a:lnTo>
                    <a:pt x="611" y="959"/>
                  </a:lnTo>
                  <a:lnTo>
                    <a:pt x="616" y="954"/>
                  </a:lnTo>
                  <a:lnTo>
                    <a:pt x="622" y="948"/>
                  </a:lnTo>
                  <a:lnTo>
                    <a:pt x="633" y="943"/>
                  </a:lnTo>
                  <a:lnTo>
                    <a:pt x="638" y="943"/>
                  </a:lnTo>
                  <a:lnTo>
                    <a:pt x="649" y="948"/>
                  </a:lnTo>
                  <a:lnTo>
                    <a:pt x="655" y="954"/>
                  </a:lnTo>
                  <a:lnTo>
                    <a:pt x="660" y="959"/>
                  </a:lnTo>
                  <a:lnTo>
                    <a:pt x="660" y="965"/>
                  </a:lnTo>
                  <a:lnTo>
                    <a:pt x="660" y="970"/>
                  </a:lnTo>
                  <a:lnTo>
                    <a:pt x="660" y="976"/>
                  </a:lnTo>
                  <a:lnTo>
                    <a:pt x="660" y="981"/>
                  </a:lnTo>
                  <a:lnTo>
                    <a:pt x="655" y="986"/>
                  </a:lnTo>
                  <a:lnTo>
                    <a:pt x="655" y="992"/>
                  </a:lnTo>
                  <a:lnTo>
                    <a:pt x="655" y="1003"/>
                  </a:lnTo>
                  <a:lnTo>
                    <a:pt x="649" y="1008"/>
                  </a:lnTo>
                  <a:lnTo>
                    <a:pt x="649" y="1014"/>
                  </a:lnTo>
                  <a:lnTo>
                    <a:pt x="649" y="1019"/>
                  </a:lnTo>
                  <a:lnTo>
                    <a:pt x="649" y="1025"/>
                  </a:lnTo>
                  <a:lnTo>
                    <a:pt x="649" y="1030"/>
                  </a:lnTo>
                  <a:lnTo>
                    <a:pt x="649" y="1036"/>
                  </a:lnTo>
                  <a:lnTo>
                    <a:pt x="649" y="1041"/>
                  </a:lnTo>
                  <a:lnTo>
                    <a:pt x="644" y="1046"/>
                  </a:lnTo>
                  <a:lnTo>
                    <a:pt x="644" y="1057"/>
                  </a:lnTo>
                  <a:lnTo>
                    <a:pt x="644" y="1063"/>
                  </a:lnTo>
                  <a:lnTo>
                    <a:pt x="644" y="1068"/>
                  </a:lnTo>
                  <a:lnTo>
                    <a:pt x="644" y="1074"/>
                  </a:lnTo>
                  <a:lnTo>
                    <a:pt x="644" y="1079"/>
                  </a:lnTo>
                  <a:lnTo>
                    <a:pt x="638" y="1085"/>
                  </a:lnTo>
                  <a:lnTo>
                    <a:pt x="638" y="1090"/>
                  </a:lnTo>
                  <a:lnTo>
                    <a:pt x="638" y="1095"/>
                  </a:lnTo>
                  <a:lnTo>
                    <a:pt x="638" y="1101"/>
                  </a:lnTo>
                  <a:lnTo>
                    <a:pt x="638" y="1112"/>
                  </a:lnTo>
                  <a:lnTo>
                    <a:pt x="638" y="1117"/>
                  </a:lnTo>
                  <a:lnTo>
                    <a:pt x="633" y="1123"/>
                  </a:lnTo>
                  <a:lnTo>
                    <a:pt x="633" y="1128"/>
                  </a:lnTo>
                  <a:lnTo>
                    <a:pt x="627" y="1134"/>
                  </a:lnTo>
                  <a:lnTo>
                    <a:pt x="622" y="1139"/>
                  </a:lnTo>
                  <a:lnTo>
                    <a:pt x="616" y="1139"/>
                  </a:lnTo>
                  <a:lnTo>
                    <a:pt x="611" y="1145"/>
                  </a:lnTo>
                  <a:lnTo>
                    <a:pt x="611" y="1150"/>
                  </a:lnTo>
                  <a:lnTo>
                    <a:pt x="616" y="1155"/>
                  </a:lnTo>
                  <a:lnTo>
                    <a:pt x="616" y="1166"/>
                  </a:lnTo>
                  <a:lnTo>
                    <a:pt x="622" y="1172"/>
                  </a:lnTo>
                  <a:lnTo>
                    <a:pt x="627" y="1172"/>
                  </a:lnTo>
                  <a:lnTo>
                    <a:pt x="627" y="1177"/>
                  </a:lnTo>
                  <a:lnTo>
                    <a:pt x="633" y="1183"/>
                  </a:lnTo>
                  <a:lnTo>
                    <a:pt x="638" y="1188"/>
                  </a:lnTo>
                  <a:lnTo>
                    <a:pt x="649" y="1194"/>
                  </a:lnTo>
                  <a:lnTo>
                    <a:pt x="655" y="1199"/>
                  </a:lnTo>
                  <a:lnTo>
                    <a:pt x="660" y="1204"/>
                  </a:lnTo>
                  <a:lnTo>
                    <a:pt x="665" y="1210"/>
                  </a:lnTo>
                  <a:lnTo>
                    <a:pt x="665" y="1215"/>
                  </a:lnTo>
                  <a:lnTo>
                    <a:pt x="660" y="1221"/>
                  </a:lnTo>
                  <a:lnTo>
                    <a:pt x="649" y="1221"/>
                  </a:lnTo>
                  <a:lnTo>
                    <a:pt x="644" y="1226"/>
                  </a:lnTo>
                  <a:lnTo>
                    <a:pt x="633" y="1232"/>
                  </a:lnTo>
                  <a:lnTo>
                    <a:pt x="622" y="1232"/>
                  </a:lnTo>
                  <a:lnTo>
                    <a:pt x="616" y="1232"/>
                  </a:lnTo>
                  <a:lnTo>
                    <a:pt x="605" y="1232"/>
                  </a:lnTo>
                  <a:lnTo>
                    <a:pt x="595" y="1237"/>
                  </a:lnTo>
                  <a:lnTo>
                    <a:pt x="589" y="1237"/>
                  </a:lnTo>
                  <a:lnTo>
                    <a:pt x="578" y="1237"/>
                  </a:lnTo>
                  <a:lnTo>
                    <a:pt x="567" y="1237"/>
                  </a:lnTo>
                  <a:lnTo>
                    <a:pt x="562" y="1237"/>
                  </a:lnTo>
                  <a:lnTo>
                    <a:pt x="551" y="1237"/>
                  </a:lnTo>
                  <a:lnTo>
                    <a:pt x="540" y="1237"/>
                  </a:lnTo>
                  <a:lnTo>
                    <a:pt x="529" y="1237"/>
                  </a:lnTo>
                  <a:lnTo>
                    <a:pt x="524" y="1237"/>
                  </a:lnTo>
                  <a:lnTo>
                    <a:pt x="513" y="1237"/>
                  </a:lnTo>
                  <a:lnTo>
                    <a:pt x="502" y="1237"/>
                  </a:lnTo>
                  <a:lnTo>
                    <a:pt x="496" y="1243"/>
                  </a:lnTo>
                  <a:lnTo>
                    <a:pt x="486" y="1248"/>
                  </a:lnTo>
                  <a:lnTo>
                    <a:pt x="486" y="1248"/>
                  </a:lnTo>
                  <a:lnTo>
                    <a:pt x="486" y="1259"/>
                  </a:lnTo>
                  <a:lnTo>
                    <a:pt x="491" y="1264"/>
                  </a:lnTo>
                  <a:lnTo>
                    <a:pt x="496" y="1270"/>
                  </a:lnTo>
                  <a:lnTo>
                    <a:pt x="507" y="1275"/>
                  </a:lnTo>
                  <a:lnTo>
                    <a:pt x="513" y="1275"/>
                  </a:lnTo>
                  <a:lnTo>
                    <a:pt x="507" y="1275"/>
                  </a:lnTo>
                  <a:close/>
                  <a:moveTo>
                    <a:pt x="556" y="1183"/>
                  </a:moveTo>
                  <a:lnTo>
                    <a:pt x="556" y="1177"/>
                  </a:lnTo>
                  <a:lnTo>
                    <a:pt x="551" y="1177"/>
                  </a:lnTo>
                  <a:lnTo>
                    <a:pt x="545" y="1177"/>
                  </a:lnTo>
                  <a:lnTo>
                    <a:pt x="545" y="1177"/>
                  </a:lnTo>
                  <a:lnTo>
                    <a:pt x="540" y="1177"/>
                  </a:lnTo>
                  <a:lnTo>
                    <a:pt x="535" y="1177"/>
                  </a:lnTo>
                  <a:lnTo>
                    <a:pt x="535" y="1183"/>
                  </a:lnTo>
                  <a:lnTo>
                    <a:pt x="535" y="1183"/>
                  </a:lnTo>
                  <a:lnTo>
                    <a:pt x="540" y="1183"/>
                  </a:lnTo>
                  <a:lnTo>
                    <a:pt x="540" y="1188"/>
                  </a:lnTo>
                  <a:lnTo>
                    <a:pt x="545" y="1188"/>
                  </a:lnTo>
                  <a:lnTo>
                    <a:pt x="551" y="1183"/>
                  </a:lnTo>
                  <a:lnTo>
                    <a:pt x="551" y="1183"/>
                  </a:lnTo>
                  <a:lnTo>
                    <a:pt x="556" y="1183"/>
                  </a:lnTo>
                  <a:close/>
                  <a:moveTo>
                    <a:pt x="818" y="1052"/>
                  </a:moveTo>
                  <a:lnTo>
                    <a:pt x="813" y="1046"/>
                  </a:lnTo>
                  <a:lnTo>
                    <a:pt x="807" y="1041"/>
                  </a:lnTo>
                  <a:lnTo>
                    <a:pt x="802" y="1036"/>
                  </a:lnTo>
                  <a:lnTo>
                    <a:pt x="796" y="1030"/>
                  </a:lnTo>
                  <a:lnTo>
                    <a:pt x="796" y="1025"/>
                  </a:lnTo>
                  <a:lnTo>
                    <a:pt x="796" y="1014"/>
                  </a:lnTo>
                  <a:lnTo>
                    <a:pt x="796" y="1008"/>
                  </a:lnTo>
                  <a:lnTo>
                    <a:pt x="796" y="1003"/>
                  </a:lnTo>
                  <a:lnTo>
                    <a:pt x="791" y="997"/>
                  </a:lnTo>
                  <a:lnTo>
                    <a:pt x="791" y="992"/>
                  </a:lnTo>
                  <a:lnTo>
                    <a:pt x="791" y="981"/>
                  </a:lnTo>
                  <a:lnTo>
                    <a:pt x="791" y="976"/>
                  </a:lnTo>
                  <a:lnTo>
                    <a:pt x="791" y="970"/>
                  </a:lnTo>
                  <a:lnTo>
                    <a:pt x="791" y="965"/>
                  </a:lnTo>
                  <a:lnTo>
                    <a:pt x="791" y="954"/>
                  </a:lnTo>
                  <a:lnTo>
                    <a:pt x="796" y="948"/>
                  </a:lnTo>
                  <a:lnTo>
                    <a:pt x="796" y="943"/>
                  </a:lnTo>
                  <a:lnTo>
                    <a:pt x="796" y="937"/>
                  </a:lnTo>
                  <a:lnTo>
                    <a:pt x="796" y="927"/>
                  </a:lnTo>
                  <a:lnTo>
                    <a:pt x="796" y="921"/>
                  </a:lnTo>
                  <a:lnTo>
                    <a:pt x="796" y="916"/>
                  </a:lnTo>
                  <a:lnTo>
                    <a:pt x="796" y="910"/>
                  </a:lnTo>
                  <a:lnTo>
                    <a:pt x="796" y="899"/>
                  </a:lnTo>
                  <a:lnTo>
                    <a:pt x="796" y="894"/>
                  </a:lnTo>
                  <a:lnTo>
                    <a:pt x="796" y="888"/>
                  </a:lnTo>
                  <a:lnTo>
                    <a:pt x="791" y="883"/>
                  </a:lnTo>
                  <a:lnTo>
                    <a:pt x="791" y="872"/>
                  </a:lnTo>
                  <a:lnTo>
                    <a:pt x="785" y="867"/>
                  </a:lnTo>
                  <a:lnTo>
                    <a:pt x="785" y="861"/>
                  </a:lnTo>
                  <a:lnTo>
                    <a:pt x="785" y="856"/>
                  </a:lnTo>
                  <a:lnTo>
                    <a:pt x="785" y="850"/>
                  </a:lnTo>
                  <a:lnTo>
                    <a:pt x="785" y="839"/>
                  </a:lnTo>
                  <a:lnTo>
                    <a:pt x="791" y="834"/>
                  </a:lnTo>
                  <a:lnTo>
                    <a:pt x="785" y="828"/>
                  </a:lnTo>
                  <a:lnTo>
                    <a:pt x="785" y="817"/>
                  </a:lnTo>
                  <a:lnTo>
                    <a:pt x="780" y="812"/>
                  </a:lnTo>
                  <a:lnTo>
                    <a:pt x="774" y="807"/>
                  </a:lnTo>
                  <a:lnTo>
                    <a:pt x="769" y="801"/>
                  </a:lnTo>
                  <a:lnTo>
                    <a:pt x="758" y="796"/>
                  </a:lnTo>
                  <a:lnTo>
                    <a:pt x="758" y="790"/>
                  </a:lnTo>
                  <a:lnTo>
                    <a:pt x="758" y="779"/>
                  </a:lnTo>
                  <a:lnTo>
                    <a:pt x="764" y="774"/>
                  </a:lnTo>
                  <a:lnTo>
                    <a:pt x="764" y="774"/>
                  </a:lnTo>
                  <a:lnTo>
                    <a:pt x="769" y="779"/>
                  </a:lnTo>
                  <a:lnTo>
                    <a:pt x="769" y="785"/>
                  </a:lnTo>
                  <a:lnTo>
                    <a:pt x="769" y="796"/>
                  </a:lnTo>
                  <a:lnTo>
                    <a:pt x="780" y="801"/>
                  </a:lnTo>
                  <a:lnTo>
                    <a:pt x="785" y="807"/>
                  </a:lnTo>
                  <a:lnTo>
                    <a:pt x="796" y="807"/>
                  </a:lnTo>
                  <a:lnTo>
                    <a:pt x="802" y="812"/>
                  </a:lnTo>
                  <a:lnTo>
                    <a:pt x="802" y="817"/>
                  </a:lnTo>
                  <a:lnTo>
                    <a:pt x="807" y="828"/>
                  </a:lnTo>
                  <a:lnTo>
                    <a:pt x="807" y="834"/>
                  </a:lnTo>
                  <a:lnTo>
                    <a:pt x="813" y="839"/>
                  </a:lnTo>
                  <a:lnTo>
                    <a:pt x="818" y="845"/>
                  </a:lnTo>
                  <a:lnTo>
                    <a:pt x="824" y="850"/>
                  </a:lnTo>
                  <a:lnTo>
                    <a:pt x="829" y="856"/>
                  </a:lnTo>
                  <a:lnTo>
                    <a:pt x="840" y="861"/>
                  </a:lnTo>
                  <a:lnTo>
                    <a:pt x="851" y="861"/>
                  </a:lnTo>
                  <a:lnTo>
                    <a:pt x="856" y="867"/>
                  </a:lnTo>
                  <a:lnTo>
                    <a:pt x="867" y="872"/>
                  </a:lnTo>
                  <a:lnTo>
                    <a:pt x="873" y="877"/>
                  </a:lnTo>
                  <a:lnTo>
                    <a:pt x="878" y="883"/>
                  </a:lnTo>
                  <a:lnTo>
                    <a:pt x="884" y="888"/>
                  </a:lnTo>
                  <a:lnTo>
                    <a:pt x="894" y="894"/>
                  </a:lnTo>
                  <a:lnTo>
                    <a:pt x="900" y="899"/>
                  </a:lnTo>
                  <a:lnTo>
                    <a:pt x="905" y="899"/>
                  </a:lnTo>
                  <a:lnTo>
                    <a:pt x="916" y="905"/>
                  </a:lnTo>
                  <a:lnTo>
                    <a:pt x="922" y="910"/>
                  </a:lnTo>
                  <a:lnTo>
                    <a:pt x="927" y="916"/>
                  </a:lnTo>
                  <a:lnTo>
                    <a:pt x="933" y="921"/>
                  </a:lnTo>
                  <a:lnTo>
                    <a:pt x="944" y="927"/>
                  </a:lnTo>
                  <a:lnTo>
                    <a:pt x="949" y="932"/>
                  </a:lnTo>
                  <a:lnTo>
                    <a:pt x="954" y="937"/>
                  </a:lnTo>
                  <a:lnTo>
                    <a:pt x="965" y="943"/>
                  </a:lnTo>
                  <a:lnTo>
                    <a:pt x="971" y="948"/>
                  </a:lnTo>
                  <a:lnTo>
                    <a:pt x="976" y="954"/>
                  </a:lnTo>
                  <a:lnTo>
                    <a:pt x="982" y="959"/>
                  </a:lnTo>
                  <a:lnTo>
                    <a:pt x="987" y="965"/>
                  </a:lnTo>
                  <a:lnTo>
                    <a:pt x="993" y="970"/>
                  </a:lnTo>
                  <a:lnTo>
                    <a:pt x="1003" y="976"/>
                  </a:lnTo>
                  <a:lnTo>
                    <a:pt x="1009" y="981"/>
                  </a:lnTo>
                  <a:lnTo>
                    <a:pt x="1020" y="981"/>
                  </a:lnTo>
                  <a:lnTo>
                    <a:pt x="1025" y="986"/>
                  </a:lnTo>
                  <a:lnTo>
                    <a:pt x="1031" y="992"/>
                  </a:lnTo>
                  <a:lnTo>
                    <a:pt x="1036" y="997"/>
                  </a:lnTo>
                  <a:lnTo>
                    <a:pt x="1036" y="1008"/>
                  </a:lnTo>
                  <a:lnTo>
                    <a:pt x="1036" y="1014"/>
                  </a:lnTo>
                  <a:lnTo>
                    <a:pt x="1036" y="1019"/>
                  </a:lnTo>
                  <a:lnTo>
                    <a:pt x="1036" y="1030"/>
                  </a:lnTo>
                  <a:lnTo>
                    <a:pt x="1036" y="1036"/>
                  </a:lnTo>
                  <a:lnTo>
                    <a:pt x="1031" y="1041"/>
                  </a:lnTo>
                  <a:lnTo>
                    <a:pt x="1025" y="1046"/>
                  </a:lnTo>
                  <a:lnTo>
                    <a:pt x="1020" y="1052"/>
                  </a:lnTo>
                  <a:lnTo>
                    <a:pt x="1014" y="1057"/>
                  </a:lnTo>
                  <a:lnTo>
                    <a:pt x="1003" y="1063"/>
                  </a:lnTo>
                  <a:lnTo>
                    <a:pt x="998" y="1063"/>
                  </a:lnTo>
                  <a:lnTo>
                    <a:pt x="987" y="1068"/>
                  </a:lnTo>
                  <a:lnTo>
                    <a:pt x="976" y="1068"/>
                  </a:lnTo>
                  <a:lnTo>
                    <a:pt x="965" y="1074"/>
                  </a:lnTo>
                  <a:lnTo>
                    <a:pt x="954" y="1074"/>
                  </a:lnTo>
                  <a:lnTo>
                    <a:pt x="944" y="1074"/>
                  </a:lnTo>
                  <a:lnTo>
                    <a:pt x="938" y="1079"/>
                  </a:lnTo>
                  <a:lnTo>
                    <a:pt x="927" y="1079"/>
                  </a:lnTo>
                  <a:lnTo>
                    <a:pt x="916" y="1079"/>
                  </a:lnTo>
                  <a:lnTo>
                    <a:pt x="905" y="1085"/>
                  </a:lnTo>
                  <a:lnTo>
                    <a:pt x="894" y="1085"/>
                  </a:lnTo>
                  <a:lnTo>
                    <a:pt x="884" y="1085"/>
                  </a:lnTo>
                  <a:lnTo>
                    <a:pt x="878" y="1085"/>
                  </a:lnTo>
                  <a:lnTo>
                    <a:pt x="867" y="1079"/>
                  </a:lnTo>
                  <a:lnTo>
                    <a:pt x="856" y="1074"/>
                  </a:lnTo>
                  <a:lnTo>
                    <a:pt x="845" y="1074"/>
                  </a:lnTo>
                  <a:lnTo>
                    <a:pt x="840" y="1068"/>
                  </a:lnTo>
                  <a:lnTo>
                    <a:pt x="829" y="1063"/>
                  </a:lnTo>
                  <a:lnTo>
                    <a:pt x="824" y="1057"/>
                  </a:lnTo>
                  <a:lnTo>
                    <a:pt x="818" y="1052"/>
                  </a:lnTo>
                  <a:close/>
                  <a:moveTo>
                    <a:pt x="1249" y="894"/>
                  </a:moveTo>
                  <a:lnTo>
                    <a:pt x="1249" y="883"/>
                  </a:lnTo>
                  <a:lnTo>
                    <a:pt x="1254" y="877"/>
                  </a:lnTo>
                  <a:lnTo>
                    <a:pt x="1254" y="867"/>
                  </a:lnTo>
                  <a:lnTo>
                    <a:pt x="1254" y="856"/>
                  </a:lnTo>
                  <a:lnTo>
                    <a:pt x="1254" y="850"/>
                  </a:lnTo>
                  <a:lnTo>
                    <a:pt x="1254" y="839"/>
                  </a:lnTo>
                  <a:lnTo>
                    <a:pt x="1260" y="828"/>
                  </a:lnTo>
                  <a:lnTo>
                    <a:pt x="1260" y="823"/>
                  </a:lnTo>
                  <a:lnTo>
                    <a:pt x="1265" y="812"/>
                  </a:lnTo>
                  <a:lnTo>
                    <a:pt x="1265" y="807"/>
                  </a:lnTo>
                  <a:lnTo>
                    <a:pt x="1260" y="796"/>
                  </a:lnTo>
                  <a:lnTo>
                    <a:pt x="1254" y="785"/>
                  </a:lnTo>
                  <a:lnTo>
                    <a:pt x="1249" y="774"/>
                  </a:lnTo>
                  <a:lnTo>
                    <a:pt x="1243" y="774"/>
                  </a:lnTo>
                  <a:lnTo>
                    <a:pt x="1238" y="779"/>
                  </a:lnTo>
                  <a:lnTo>
                    <a:pt x="1232" y="790"/>
                  </a:lnTo>
                  <a:lnTo>
                    <a:pt x="1232" y="801"/>
                  </a:lnTo>
                  <a:lnTo>
                    <a:pt x="1232" y="812"/>
                  </a:lnTo>
                  <a:lnTo>
                    <a:pt x="1227" y="817"/>
                  </a:lnTo>
                  <a:lnTo>
                    <a:pt x="1227" y="828"/>
                  </a:lnTo>
                  <a:lnTo>
                    <a:pt x="1227" y="839"/>
                  </a:lnTo>
                  <a:lnTo>
                    <a:pt x="1227" y="845"/>
                  </a:lnTo>
                  <a:lnTo>
                    <a:pt x="1227" y="856"/>
                  </a:lnTo>
                  <a:lnTo>
                    <a:pt x="1227" y="867"/>
                  </a:lnTo>
                  <a:lnTo>
                    <a:pt x="1227" y="872"/>
                  </a:lnTo>
                  <a:lnTo>
                    <a:pt x="1232" y="883"/>
                  </a:lnTo>
                  <a:lnTo>
                    <a:pt x="1232" y="894"/>
                  </a:lnTo>
                  <a:lnTo>
                    <a:pt x="1238" y="905"/>
                  </a:lnTo>
                  <a:lnTo>
                    <a:pt x="1238" y="910"/>
                  </a:lnTo>
                  <a:lnTo>
                    <a:pt x="1243" y="916"/>
                  </a:lnTo>
                  <a:lnTo>
                    <a:pt x="1249" y="910"/>
                  </a:lnTo>
                  <a:lnTo>
                    <a:pt x="1249" y="894"/>
                  </a:lnTo>
                  <a:close/>
                  <a:moveTo>
                    <a:pt x="1554" y="861"/>
                  </a:moveTo>
                  <a:lnTo>
                    <a:pt x="1554" y="856"/>
                  </a:lnTo>
                  <a:lnTo>
                    <a:pt x="1560" y="856"/>
                  </a:lnTo>
                  <a:lnTo>
                    <a:pt x="1560" y="856"/>
                  </a:lnTo>
                  <a:lnTo>
                    <a:pt x="1560" y="856"/>
                  </a:lnTo>
                  <a:lnTo>
                    <a:pt x="1560" y="856"/>
                  </a:lnTo>
                  <a:lnTo>
                    <a:pt x="1560" y="856"/>
                  </a:lnTo>
                  <a:lnTo>
                    <a:pt x="1560" y="861"/>
                  </a:lnTo>
                  <a:lnTo>
                    <a:pt x="1560" y="861"/>
                  </a:lnTo>
                  <a:lnTo>
                    <a:pt x="1560" y="867"/>
                  </a:lnTo>
                  <a:lnTo>
                    <a:pt x="1560" y="867"/>
                  </a:lnTo>
                  <a:lnTo>
                    <a:pt x="1560" y="867"/>
                  </a:lnTo>
                  <a:lnTo>
                    <a:pt x="1560" y="867"/>
                  </a:lnTo>
                  <a:lnTo>
                    <a:pt x="1554" y="867"/>
                  </a:lnTo>
                  <a:lnTo>
                    <a:pt x="1554" y="861"/>
                  </a:lnTo>
                  <a:close/>
                  <a:moveTo>
                    <a:pt x="633" y="828"/>
                  </a:moveTo>
                  <a:lnTo>
                    <a:pt x="633" y="828"/>
                  </a:lnTo>
                  <a:lnTo>
                    <a:pt x="638" y="828"/>
                  </a:lnTo>
                  <a:lnTo>
                    <a:pt x="638" y="828"/>
                  </a:lnTo>
                  <a:lnTo>
                    <a:pt x="638" y="828"/>
                  </a:lnTo>
                  <a:lnTo>
                    <a:pt x="644" y="828"/>
                  </a:lnTo>
                  <a:lnTo>
                    <a:pt x="644" y="828"/>
                  </a:lnTo>
                  <a:lnTo>
                    <a:pt x="644" y="828"/>
                  </a:lnTo>
                  <a:lnTo>
                    <a:pt x="644" y="834"/>
                  </a:lnTo>
                  <a:lnTo>
                    <a:pt x="644" y="834"/>
                  </a:lnTo>
                  <a:lnTo>
                    <a:pt x="638" y="834"/>
                  </a:lnTo>
                  <a:lnTo>
                    <a:pt x="638" y="834"/>
                  </a:lnTo>
                  <a:lnTo>
                    <a:pt x="638" y="834"/>
                  </a:lnTo>
                  <a:lnTo>
                    <a:pt x="633" y="834"/>
                  </a:lnTo>
                  <a:lnTo>
                    <a:pt x="633" y="828"/>
                  </a:lnTo>
                  <a:close/>
                  <a:moveTo>
                    <a:pt x="1282" y="768"/>
                  </a:moveTo>
                  <a:lnTo>
                    <a:pt x="1282" y="758"/>
                  </a:lnTo>
                  <a:lnTo>
                    <a:pt x="1282" y="752"/>
                  </a:lnTo>
                  <a:lnTo>
                    <a:pt x="1282" y="741"/>
                  </a:lnTo>
                  <a:lnTo>
                    <a:pt x="1282" y="736"/>
                  </a:lnTo>
                  <a:lnTo>
                    <a:pt x="1287" y="725"/>
                  </a:lnTo>
                  <a:lnTo>
                    <a:pt x="1287" y="719"/>
                  </a:lnTo>
                  <a:lnTo>
                    <a:pt x="1287" y="708"/>
                  </a:lnTo>
                  <a:lnTo>
                    <a:pt x="1287" y="703"/>
                  </a:lnTo>
                  <a:lnTo>
                    <a:pt x="1287" y="692"/>
                  </a:lnTo>
                  <a:lnTo>
                    <a:pt x="1287" y="687"/>
                  </a:lnTo>
                  <a:lnTo>
                    <a:pt x="1287" y="676"/>
                  </a:lnTo>
                  <a:lnTo>
                    <a:pt x="1292" y="670"/>
                  </a:lnTo>
                  <a:lnTo>
                    <a:pt x="1298" y="665"/>
                  </a:lnTo>
                  <a:lnTo>
                    <a:pt x="1309" y="659"/>
                  </a:lnTo>
                  <a:lnTo>
                    <a:pt x="1314" y="649"/>
                  </a:lnTo>
                  <a:lnTo>
                    <a:pt x="1320" y="643"/>
                  </a:lnTo>
                  <a:lnTo>
                    <a:pt x="1320" y="638"/>
                  </a:lnTo>
                  <a:lnTo>
                    <a:pt x="1320" y="627"/>
                  </a:lnTo>
                  <a:lnTo>
                    <a:pt x="1314" y="621"/>
                  </a:lnTo>
                  <a:lnTo>
                    <a:pt x="1314" y="610"/>
                  </a:lnTo>
                  <a:lnTo>
                    <a:pt x="1320" y="605"/>
                  </a:lnTo>
                  <a:lnTo>
                    <a:pt x="1325" y="599"/>
                  </a:lnTo>
                  <a:lnTo>
                    <a:pt x="1331" y="589"/>
                  </a:lnTo>
                  <a:lnTo>
                    <a:pt x="1342" y="583"/>
                  </a:lnTo>
                  <a:lnTo>
                    <a:pt x="1347" y="578"/>
                  </a:lnTo>
                  <a:lnTo>
                    <a:pt x="1352" y="572"/>
                  </a:lnTo>
                  <a:lnTo>
                    <a:pt x="1352" y="561"/>
                  </a:lnTo>
                  <a:lnTo>
                    <a:pt x="1347" y="556"/>
                  </a:lnTo>
                  <a:lnTo>
                    <a:pt x="1342" y="545"/>
                  </a:lnTo>
                  <a:lnTo>
                    <a:pt x="1342" y="534"/>
                  </a:lnTo>
                  <a:lnTo>
                    <a:pt x="1342" y="529"/>
                  </a:lnTo>
                  <a:lnTo>
                    <a:pt x="1336" y="529"/>
                  </a:lnTo>
                  <a:lnTo>
                    <a:pt x="1331" y="534"/>
                  </a:lnTo>
                  <a:lnTo>
                    <a:pt x="1331" y="545"/>
                  </a:lnTo>
                  <a:lnTo>
                    <a:pt x="1325" y="550"/>
                  </a:lnTo>
                  <a:lnTo>
                    <a:pt x="1314" y="561"/>
                  </a:lnTo>
                  <a:lnTo>
                    <a:pt x="1309" y="567"/>
                  </a:lnTo>
                  <a:lnTo>
                    <a:pt x="1303" y="572"/>
                  </a:lnTo>
                  <a:lnTo>
                    <a:pt x="1298" y="578"/>
                  </a:lnTo>
                  <a:lnTo>
                    <a:pt x="1298" y="589"/>
                  </a:lnTo>
                  <a:lnTo>
                    <a:pt x="1292" y="594"/>
                  </a:lnTo>
                  <a:lnTo>
                    <a:pt x="1292" y="605"/>
                  </a:lnTo>
                  <a:lnTo>
                    <a:pt x="1287" y="610"/>
                  </a:lnTo>
                  <a:lnTo>
                    <a:pt x="1282" y="616"/>
                  </a:lnTo>
                  <a:lnTo>
                    <a:pt x="1276" y="627"/>
                  </a:lnTo>
                  <a:lnTo>
                    <a:pt x="1271" y="632"/>
                  </a:lnTo>
                  <a:lnTo>
                    <a:pt x="1265" y="638"/>
                  </a:lnTo>
                  <a:lnTo>
                    <a:pt x="1265" y="649"/>
                  </a:lnTo>
                  <a:lnTo>
                    <a:pt x="1260" y="654"/>
                  </a:lnTo>
                  <a:lnTo>
                    <a:pt x="1260" y="665"/>
                  </a:lnTo>
                  <a:lnTo>
                    <a:pt x="1260" y="670"/>
                  </a:lnTo>
                  <a:lnTo>
                    <a:pt x="1260" y="681"/>
                  </a:lnTo>
                  <a:lnTo>
                    <a:pt x="1260" y="687"/>
                  </a:lnTo>
                  <a:lnTo>
                    <a:pt x="1260" y="698"/>
                  </a:lnTo>
                  <a:lnTo>
                    <a:pt x="1260" y="703"/>
                  </a:lnTo>
                  <a:lnTo>
                    <a:pt x="1260" y="714"/>
                  </a:lnTo>
                  <a:lnTo>
                    <a:pt x="1260" y="719"/>
                  </a:lnTo>
                  <a:lnTo>
                    <a:pt x="1260" y="730"/>
                  </a:lnTo>
                  <a:lnTo>
                    <a:pt x="1254" y="736"/>
                  </a:lnTo>
                  <a:lnTo>
                    <a:pt x="1254" y="747"/>
                  </a:lnTo>
                  <a:lnTo>
                    <a:pt x="1249" y="752"/>
                  </a:lnTo>
                  <a:lnTo>
                    <a:pt x="1249" y="758"/>
                  </a:lnTo>
                  <a:lnTo>
                    <a:pt x="1254" y="768"/>
                  </a:lnTo>
                  <a:lnTo>
                    <a:pt x="1260" y="779"/>
                  </a:lnTo>
                  <a:lnTo>
                    <a:pt x="1271" y="785"/>
                  </a:lnTo>
                  <a:lnTo>
                    <a:pt x="1276" y="785"/>
                  </a:lnTo>
                  <a:lnTo>
                    <a:pt x="1276" y="779"/>
                  </a:lnTo>
                  <a:lnTo>
                    <a:pt x="1282" y="768"/>
                  </a:lnTo>
                  <a:close/>
                  <a:moveTo>
                    <a:pt x="1974" y="703"/>
                  </a:moveTo>
                  <a:lnTo>
                    <a:pt x="1963" y="698"/>
                  </a:lnTo>
                  <a:lnTo>
                    <a:pt x="1958" y="698"/>
                  </a:lnTo>
                  <a:lnTo>
                    <a:pt x="1947" y="692"/>
                  </a:lnTo>
                  <a:lnTo>
                    <a:pt x="1941" y="692"/>
                  </a:lnTo>
                  <a:lnTo>
                    <a:pt x="1936" y="687"/>
                  </a:lnTo>
                  <a:lnTo>
                    <a:pt x="1930" y="681"/>
                  </a:lnTo>
                  <a:lnTo>
                    <a:pt x="1925" y="676"/>
                  </a:lnTo>
                  <a:lnTo>
                    <a:pt x="1925" y="670"/>
                  </a:lnTo>
                  <a:lnTo>
                    <a:pt x="1930" y="665"/>
                  </a:lnTo>
                  <a:lnTo>
                    <a:pt x="1936" y="659"/>
                  </a:lnTo>
                  <a:lnTo>
                    <a:pt x="1941" y="654"/>
                  </a:lnTo>
                  <a:lnTo>
                    <a:pt x="1947" y="649"/>
                  </a:lnTo>
                  <a:lnTo>
                    <a:pt x="1958" y="649"/>
                  </a:lnTo>
                  <a:lnTo>
                    <a:pt x="1963" y="643"/>
                  </a:lnTo>
                  <a:lnTo>
                    <a:pt x="1969" y="638"/>
                  </a:lnTo>
                  <a:lnTo>
                    <a:pt x="1974" y="638"/>
                  </a:lnTo>
                  <a:lnTo>
                    <a:pt x="1979" y="632"/>
                  </a:lnTo>
                  <a:lnTo>
                    <a:pt x="1985" y="627"/>
                  </a:lnTo>
                  <a:lnTo>
                    <a:pt x="1990" y="621"/>
                  </a:lnTo>
                  <a:lnTo>
                    <a:pt x="1996" y="616"/>
                  </a:lnTo>
                  <a:lnTo>
                    <a:pt x="2001" y="616"/>
                  </a:lnTo>
                  <a:lnTo>
                    <a:pt x="2012" y="610"/>
                  </a:lnTo>
                  <a:lnTo>
                    <a:pt x="2018" y="610"/>
                  </a:lnTo>
                  <a:lnTo>
                    <a:pt x="2023" y="605"/>
                  </a:lnTo>
                  <a:lnTo>
                    <a:pt x="2034" y="599"/>
                  </a:lnTo>
                  <a:lnTo>
                    <a:pt x="2039" y="599"/>
                  </a:lnTo>
                  <a:lnTo>
                    <a:pt x="2045" y="594"/>
                  </a:lnTo>
                  <a:lnTo>
                    <a:pt x="2056" y="594"/>
                  </a:lnTo>
                  <a:lnTo>
                    <a:pt x="2067" y="594"/>
                  </a:lnTo>
                  <a:lnTo>
                    <a:pt x="2072" y="594"/>
                  </a:lnTo>
                  <a:lnTo>
                    <a:pt x="2078" y="599"/>
                  </a:lnTo>
                  <a:lnTo>
                    <a:pt x="2083" y="605"/>
                  </a:lnTo>
                  <a:lnTo>
                    <a:pt x="2088" y="610"/>
                  </a:lnTo>
                  <a:lnTo>
                    <a:pt x="2088" y="616"/>
                  </a:lnTo>
                  <a:lnTo>
                    <a:pt x="2088" y="621"/>
                  </a:lnTo>
                  <a:lnTo>
                    <a:pt x="2083" y="627"/>
                  </a:lnTo>
                  <a:lnTo>
                    <a:pt x="2083" y="632"/>
                  </a:lnTo>
                  <a:lnTo>
                    <a:pt x="2078" y="638"/>
                  </a:lnTo>
                  <a:lnTo>
                    <a:pt x="2078" y="643"/>
                  </a:lnTo>
                  <a:lnTo>
                    <a:pt x="2072" y="649"/>
                  </a:lnTo>
                  <a:lnTo>
                    <a:pt x="2072" y="654"/>
                  </a:lnTo>
                  <a:lnTo>
                    <a:pt x="2072" y="659"/>
                  </a:lnTo>
                  <a:lnTo>
                    <a:pt x="2067" y="665"/>
                  </a:lnTo>
                  <a:lnTo>
                    <a:pt x="2061" y="670"/>
                  </a:lnTo>
                  <a:lnTo>
                    <a:pt x="2056" y="676"/>
                  </a:lnTo>
                  <a:lnTo>
                    <a:pt x="2050" y="681"/>
                  </a:lnTo>
                  <a:lnTo>
                    <a:pt x="2045" y="681"/>
                  </a:lnTo>
                  <a:lnTo>
                    <a:pt x="2039" y="687"/>
                  </a:lnTo>
                  <a:lnTo>
                    <a:pt x="2029" y="687"/>
                  </a:lnTo>
                  <a:lnTo>
                    <a:pt x="2023" y="692"/>
                  </a:lnTo>
                  <a:lnTo>
                    <a:pt x="2012" y="692"/>
                  </a:lnTo>
                  <a:lnTo>
                    <a:pt x="2001" y="692"/>
                  </a:lnTo>
                  <a:lnTo>
                    <a:pt x="1996" y="698"/>
                  </a:lnTo>
                  <a:lnTo>
                    <a:pt x="1990" y="698"/>
                  </a:lnTo>
                  <a:lnTo>
                    <a:pt x="1979" y="703"/>
                  </a:lnTo>
                  <a:lnTo>
                    <a:pt x="1974" y="703"/>
                  </a:lnTo>
                  <a:close/>
                  <a:moveTo>
                    <a:pt x="1478" y="572"/>
                  </a:moveTo>
                  <a:lnTo>
                    <a:pt x="1478" y="572"/>
                  </a:lnTo>
                  <a:lnTo>
                    <a:pt x="1472" y="567"/>
                  </a:lnTo>
                  <a:lnTo>
                    <a:pt x="1467" y="567"/>
                  </a:lnTo>
                  <a:lnTo>
                    <a:pt x="1467" y="567"/>
                  </a:lnTo>
                  <a:lnTo>
                    <a:pt x="1461" y="567"/>
                  </a:lnTo>
                  <a:lnTo>
                    <a:pt x="1461" y="572"/>
                  </a:lnTo>
                  <a:lnTo>
                    <a:pt x="1461" y="572"/>
                  </a:lnTo>
                  <a:lnTo>
                    <a:pt x="1461" y="578"/>
                  </a:lnTo>
                  <a:lnTo>
                    <a:pt x="1461" y="578"/>
                  </a:lnTo>
                  <a:lnTo>
                    <a:pt x="1467" y="583"/>
                  </a:lnTo>
                  <a:lnTo>
                    <a:pt x="1467" y="583"/>
                  </a:lnTo>
                  <a:lnTo>
                    <a:pt x="1472" y="583"/>
                  </a:lnTo>
                  <a:lnTo>
                    <a:pt x="1478" y="578"/>
                  </a:lnTo>
                  <a:lnTo>
                    <a:pt x="1478" y="572"/>
                  </a:lnTo>
                  <a:close/>
                  <a:moveTo>
                    <a:pt x="1914" y="545"/>
                  </a:moveTo>
                  <a:lnTo>
                    <a:pt x="1909" y="540"/>
                  </a:lnTo>
                  <a:lnTo>
                    <a:pt x="1903" y="545"/>
                  </a:lnTo>
                  <a:lnTo>
                    <a:pt x="1903" y="545"/>
                  </a:lnTo>
                  <a:lnTo>
                    <a:pt x="1903" y="550"/>
                  </a:lnTo>
                  <a:lnTo>
                    <a:pt x="1903" y="556"/>
                  </a:lnTo>
                  <a:lnTo>
                    <a:pt x="1903" y="556"/>
                  </a:lnTo>
                  <a:lnTo>
                    <a:pt x="1909" y="561"/>
                  </a:lnTo>
                  <a:lnTo>
                    <a:pt x="1909" y="561"/>
                  </a:lnTo>
                  <a:lnTo>
                    <a:pt x="1914" y="561"/>
                  </a:lnTo>
                  <a:lnTo>
                    <a:pt x="1914" y="561"/>
                  </a:lnTo>
                  <a:lnTo>
                    <a:pt x="1914" y="556"/>
                  </a:lnTo>
                  <a:lnTo>
                    <a:pt x="1914" y="556"/>
                  </a:lnTo>
                  <a:lnTo>
                    <a:pt x="1914" y="550"/>
                  </a:lnTo>
                  <a:lnTo>
                    <a:pt x="1914" y="545"/>
                  </a:lnTo>
                  <a:close/>
                  <a:moveTo>
                    <a:pt x="1369" y="512"/>
                  </a:moveTo>
                  <a:lnTo>
                    <a:pt x="1369" y="507"/>
                  </a:lnTo>
                  <a:lnTo>
                    <a:pt x="1369" y="507"/>
                  </a:lnTo>
                  <a:lnTo>
                    <a:pt x="1369" y="501"/>
                  </a:lnTo>
                  <a:lnTo>
                    <a:pt x="1369" y="501"/>
                  </a:lnTo>
                  <a:lnTo>
                    <a:pt x="1369" y="501"/>
                  </a:lnTo>
                  <a:lnTo>
                    <a:pt x="1369" y="501"/>
                  </a:lnTo>
                  <a:lnTo>
                    <a:pt x="1369" y="501"/>
                  </a:lnTo>
                  <a:lnTo>
                    <a:pt x="1369" y="501"/>
                  </a:lnTo>
                  <a:lnTo>
                    <a:pt x="1363" y="507"/>
                  </a:lnTo>
                  <a:lnTo>
                    <a:pt x="1363" y="507"/>
                  </a:lnTo>
                  <a:lnTo>
                    <a:pt x="1363" y="507"/>
                  </a:lnTo>
                  <a:lnTo>
                    <a:pt x="1363" y="512"/>
                  </a:lnTo>
                  <a:lnTo>
                    <a:pt x="1369" y="512"/>
                  </a:lnTo>
                  <a:lnTo>
                    <a:pt x="1369" y="512"/>
                  </a:lnTo>
                  <a:close/>
                  <a:moveTo>
                    <a:pt x="1511" y="512"/>
                  </a:moveTo>
                  <a:lnTo>
                    <a:pt x="1505" y="501"/>
                  </a:lnTo>
                  <a:lnTo>
                    <a:pt x="1505" y="496"/>
                  </a:lnTo>
                  <a:lnTo>
                    <a:pt x="1500" y="490"/>
                  </a:lnTo>
                  <a:lnTo>
                    <a:pt x="1500" y="490"/>
                  </a:lnTo>
                  <a:lnTo>
                    <a:pt x="1494" y="490"/>
                  </a:lnTo>
                  <a:lnTo>
                    <a:pt x="1494" y="496"/>
                  </a:lnTo>
                  <a:lnTo>
                    <a:pt x="1489" y="501"/>
                  </a:lnTo>
                  <a:lnTo>
                    <a:pt x="1489" y="507"/>
                  </a:lnTo>
                  <a:lnTo>
                    <a:pt x="1494" y="518"/>
                  </a:lnTo>
                  <a:lnTo>
                    <a:pt x="1494" y="523"/>
                  </a:lnTo>
                  <a:lnTo>
                    <a:pt x="1494" y="523"/>
                  </a:lnTo>
                  <a:lnTo>
                    <a:pt x="1500" y="523"/>
                  </a:lnTo>
                  <a:lnTo>
                    <a:pt x="1505" y="518"/>
                  </a:lnTo>
                  <a:lnTo>
                    <a:pt x="1511" y="512"/>
                  </a:lnTo>
                  <a:close/>
                  <a:moveTo>
                    <a:pt x="1958" y="512"/>
                  </a:moveTo>
                  <a:lnTo>
                    <a:pt x="1952" y="501"/>
                  </a:lnTo>
                  <a:lnTo>
                    <a:pt x="1947" y="496"/>
                  </a:lnTo>
                  <a:lnTo>
                    <a:pt x="1941" y="496"/>
                  </a:lnTo>
                  <a:lnTo>
                    <a:pt x="1936" y="501"/>
                  </a:lnTo>
                  <a:lnTo>
                    <a:pt x="1930" y="507"/>
                  </a:lnTo>
                  <a:lnTo>
                    <a:pt x="1930" y="512"/>
                  </a:lnTo>
                  <a:lnTo>
                    <a:pt x="1930" y="518"/>
                  </a:lnTo>
                  <a:lnTo>
                    <a:pt x="1930" y="523"/>
                  </a:lnTo>
                  <a:lnTo>
                    <a:pt x="1936" y="529"/>
                  </a:lnTo>
                  <a:lnTo>
                    <a:pt x="1941" y="534"/>
                  </a:lnTo>
                  <a:lnTo>
                    <a:pt x="1947" y="529"/>
                  </a:lnTo>
                  <a:lnTo>
                    <a:pt x="1947" y="529"/>
                  </a:lnTo>
                  <a:lnTo>
                    <a:pt x="1952" y="518"/>
                  </a:lnTo>
                  <a:lnTo>
                    <a:pt x="1958" y="512"/>
                  </a:lnTo>
                  <a:close/>
                  <a:moveTo>
                    <a:pt x="251" y="447"/>
                  </a:moveTo>
                  <a:lnTo>
                    <a:pt x="224" y="447"/>
                  </a:lnTo>
                  <a:lnTo>
                    <a:pt x="224" y="474"/>
                  </a:lnTo>
                  <a:lnTo>
                    <a:pt x="251" y="447"/>
                  </a:lnTo>
                  <a:close/>
                  <a:moveTo>
                    <a:pt x="1538" y="447"/>
                  </a:moveTo>
                  <a:lnTo>
                    <a:pt x="1538" y="447"/>
                  </a:lnTo>
                  <a:lnTo>
                    <a:pt x="1532" y="447"/>
                  </a:lnTo>
                  <a:lnTo>
                    <a:pt x="1532" y="447"/>
                  </a:lnTo>
                  <a:lnTo>
                    <a:pt x="1527" y="447"/>
                  </a:lnTo>
                  <a:lnTo>
                    <a:pt x="1527" y="447"/>
                  </a:lnTo>
                  <a:lnTo>
                    <a:pt x="1527" y="447"/>
                  </a:lnTo>
                  <a:lnTo>
                    <a:pt x="1527" y="452"/>
                  </a:lnTo>
                  <a:lnTo>
                    <a:pt x="1527" y="452"/>
                  </a:lnTo>
                  <a:lnTo>
                    <a:pt x="1527" y="452"/>
                  </a:lnTo>
                  <a:lnTo>
                    <a:pt x="1532" y="452"/>
                  </a:lnTo>
                  <a:lnTo>
                    <a:pt x="1532" y="452"/>
                  </a:lnTo>
                  <a:lnTo>
                    <a:pt x="1532" y="452"/>
                  </a:lnTo>
                  <a:lnTo>
                    <a:pt x="1538" y="447"/>
                  </a:lnTo>
                  <a:lnTo>
                    <a:pt x="1538" y="447"/>
                  </a:lnTo>
                  <a:close/>
                  <a:moveTo>
                    <a:pt x="1794" y="447"/>
                  </a:moveTo>
                  <a:lnTo>
                    <a:pt x="1789" y="447"/>
                  </a:lnTo>
                  <a:lnTo>
                    <a:pt x="1783" y="441"/>
                  </a:lnTo>
                  <a:lnTo>
                    <a:pt x="1778" y="441"/>
                  </a:lnTo>
                  <a:lnTo>
                    <a:pt x="1772" y="441"/>
                  </a:lnTo>
                  <a:lnTo>
                    <a:pt x="1767" y="441"/>
                  </a:lnTo>
                  <a:lnTo>
                    <a:pt x="1761" y="447"/>
                  </a:lnTo>
                  <a:lnTo>
                    <a:pt x="1761" y="447"/>
                  </a:lnTo>
                  <a:lnTo>
                    <a:pt x="1761" y="447"/>
                  </a:lnTo>
                  <a:lnTo>
                    <a:pt x="1767" y="452"/>
                  </a:lnTo>
                  <a:lnTo>
                    <a:pt x="1772" y="452"/>
                  </a:lnTo>
                  <a:lnTo>
                    <a:pt x="1778" y="452"/>
                  </a:lnTo>
                  <a:lnTo>
                    <a:pt x="1783" y="452"/>
                  </a:lnTo>
                  <a:lnTo>
                    <a:pt x="1789" y="447"/>
                  </a:lnTo>
                  <a:lnTo>
                    <a:pt x="1794" y="447"/>
                  </a:lnTo>
                  <a:close/>
                  <a:moveTo>
                    <a:pt x="1042" y="322"/>
                  </a:moveTo>
                  <a:lnTo>
                    <a:pt x="1047" y="316"/>
                  </a:lnTo>
                  <a:lnTo>
                    <a:pt x="1058" y="311"/>
                  </a:lnTo>
                  <a:lnTo>
                    <a:pt x="1063" y="305"/>
                  </a:lnTo>
                  <a:lnTo>
                    <a:pt x="1069" y="300"/>
                  </a:lnTo>
                  <a:lnTo>
                    <a:pt x="1074" y="294"/>
                  </a:lnTo>
                  <a:lnTo>
                    <a:pt x="1080" y="289"/>
                  </a:lnTo>
                  <a:lnTo>
                    <a:pt x="1085" y="283"/>
                  </a:lnTo>
                  <a:lnTo>
                    <a:pt x="1091" y="278"/>
                  </a:lnTo>
                  <a:lnTo>
                    <a:pt x="1096" y="272"/>
                  </a:lnTo>
                  <a:lnTo>
                    <a:pt x="1102" y="267"/>
                  </a:lnTo>
                  <a:lnTo>
                    <a:pt x="1107" y="262"/>
                  </a:lnTo>
                  <a:lnTo>
                    <a:pt x="1113" y="256"/>
                  </a:lnTo>
                  <a:lnTo>
                    <a:pt x="1118" y="251"/>
                  </a:lnTo>
                  <a:lnTo>
                    <a:pt x="1123" y="245"/>
                  </a:lnTo>
                  <a:lnTo>
                    <a:pt x="1123" y="240"/>
                  </a:lnTo>
                  <a:lnTo>
                    <a:pt x="1129" y="234"/>
                  </a:lnTo>
                  <a:lnTo>
                    <a:pt x="1134" y="229"/>
                  </a:lnTo>
                  <a:lnTo>
                    <a:pt x="1145" y="223"/>
                  </a:lnTo>
                  <a:lnTo>
                    <a:pt x="1151" y="223"/>
                  </a:lnTo>
                  <a:lnTo>
                    <a:pt x="1162" y="218"/>
                  </a:lnTo>
                  <a:lnTo>
                    <a:pt x="1167" y="218"/>
                  </a:lnTo>
                  <a:lnTo>
                    <a:pt x="1172" y="213"/>
                  </a:lnTo>
                  <a:lnTo>
                    <a:pt x="1183" y="207"/>
                  </a:lnTo>
                  <a:lnTo>
                    <a:pt x="1189" y="202"/>
                  </a:lnTo>
                  <a:lnTo>
                    <a:pt x="1194" y="196"/>
                  </a:lnTo>
                  <a:lnTo>
                    <a:pt x="1205" y="196"/>
                  </a:lnTo>
                  <a:lnTo>
                    <a:pt x="1216" y="196"/>
                  </a:lnTo>
                  <a:lnTo>
                    <a:pt x="1222" y="191"/>
                  </a:lnTo>
                  <a:lnTo>
                    <a:pt x="1232" y="191"/>
                  </a:lnTo>
                  <a:lnTo>
                    <a:pt x="1243" y="185"/>
                  </a:lnTo>
                  <a:lnTo>
                    <a:pt x="1249" y="185"/>
                  </a:lnTo>
                  <a:lnTo>
                    <a:pt x="1260" y="180"/>
                  </a:lnTo>
                  <a:lnTo>
                    <a:pt x="1271" y="180"/>
                  </a:lnTo>
                  <a:lnTo>
                    <a:pt x="1276" y="180"/>
                  </a:lnTo>
                  <a:lnTo>
                    <a:pt x="1287" y="180"/>
                  </a:lnTo>
                  <a:lnTo>
                    <a:pt x="1292" y="185"/>
                  </a:lnTo>
                  <a:lnTo>
                    <a:pt x="1303" y="191"/>
                  </a:lnTo>
                  <a:lnTo>
                    <a:pt x="1303" y="196"/>
                  </a:lnTo>
                  <a:lnTo>
                    <a:pt x="1292" y="196"/>
                  </a:lnTo>
                  <a:lnTo>
                    <a:pt x="1287" y="202"/>
                  </a:lnTo>
                  <a:lnTo>
                    <a:pt x="1276" y="207"/>
                  </a:lnTo>
                  <a:lnTo>
                    <a:pt x="1271" y="202"/>
                  </a:lnTo>
                  <a:lnTo>
                    <a:pt x="1260" y="202"/>
                  </a:lnTo>
                  <a:lnTo>
                    <a:pt x="1249" y="202"/>
                  </a:lnTo>
                  <a:lnTo>
                    <a:pt x="1243" y="202"/>
                  </a:lnTo>
                  <a:lnTo>
                    <a:pt x="1238" y="202"/>
                  </a:lnTo>
                  <a:lnTo>
                    <a:pt x="1238" y="213"/>
                  </a:lnTo>
                  <a:lnTo>
                    <a:pt x="1238" y="218"/>
                  </a:lnTo>
                  <a:lnTo>
                    <a:pt x="1238" y="229"/>
                  </a:lnTo>
                  <a:lnTo>
                    <a:pt x="1238" y="234"/>
                  </a:lnTo>
                  <a:lnTo>
                    <a:pt x="1232" y="245"/>
                  </a:lnTo>
                  <a:lnTo>
                    <a:pt x="1232" y="251"/>
                  </a:lnTo>
                  <a:lnTo>
                    <a:pt x="1222" y="256"/>
                  </a:lnTo>
                  <a:lnTo>
                    <a:pt x="1216" y="256"/>
                  </a:lnTo>
                  <a:lnTo>
                    <a:pt x="1205" y="256"/>
                  </a:lnTo>
                  <a:lnTo>
                    <a:pt x="1189" y="251"/>
                  </a:lnTo>
                  <a:lnTo>
                    <a:pt x="1183" y="251"/>
                  </a:lnTo>
                  <a:lnTo>
                    <a:pt x="1178" y="256"/>
                  </a:lnTo>
                  <a:lnTo>
                    <a:pt x="1172" y="262"/>
                  </a:lnTo>
                  <a:lnTo>
                    <a:pt x="1172" y="267"/>
                  </a:lnTo>
                  <a:lnTo>
                    <a:pt x="1162" y="272"/>
                  </a:lnTo>
                  <a:lnTo>
                    <a:pt x="1156" y="278"/>
                  </a:lnTo>
                  <a:lnTo>
                    <a:pt x="1151" y="283"/>
                  </a:lnTo>
                  <a:lnTo>
                    <a:pt x="1145" y="289"/>
                  </a:lnTo>
                  <a:lnTo>
                    <a:pt x="1140" y="294"/>
                  </a:lnTo>
                  <a:lnTo>
                    <a:pt x="1134" y="300"/>
                  </a:lnTo>
                  <a:lnTo>
                    <a:pt x="1129" y="311"/>
                  </a:lnTo>
                  <a:lnTo>
                    <a:pt x="1123" y="316"/>
                  </a:lnTo>
                  <a:lnTo>
                    <a:pt x="1118" y="316"/>
                  </a:lnTo>
                  <a:lnTo>
                    <a:pt x="1113" y="316"/>
                  </a:lnTo>
                  <a:lnTo>
                    <a:pt x="1107" y="311"/>
                  </a:lnTo>
                  <a:lnTo>
                    <a:pt x="1096" y="305"/>
                  </a:lnTo>
                  <a:lnTo>
                    <a:pt x="1091" y="300"/>
                  </a:lnTo>
                  <a:lnTo>
                    <a:pt x="1085" y="294"/>
                  </a:lnTo>
                  <a:lnTo>
                    <a:pt x="1080" y="294"/>
                  </a:lnTo>
                  <a:lnTo>
                    <a:pt x="1074" y="294"/>
                  </a:lnTo>
                  <a:lnTo>
                    <a:pt x="1074" y="300"/>
                  </a:lnTo>
                  <a:lnTo>
                    <a:pt x="1069" y="311"/>
                  </a:lnTo>
                  <a:lnTo>
                    <a:pt x="1069" y="316"/>
                  </a:lnTo>
                  <a:lnTo>
                    <a:pt x="1063" y="327"/>
                  </a:lnTo>
                  <a:lnTo>
                    <a:pt x="1058" y="332"/>
                  </a:lnTo>
                  <a:lnTo>
                    <a:pt x="1053" y="338"/>
                  </a:lnTo>
                  <a:lnTo>
                    <a:pt x="1053" y="338"/>
                  </a:lnTo>
                  <a:lnTo>
                    <a:pt x="1047" y="338"/>
                  </a:lnTo>
                  <a:lnTo>
                    <a:pt x="1047" y="332"/>
                  </a:lnTo>
                  <a:lnTo>
                    <a:pt x="1042" y="322"/>
                  </a:lnTo>
                  <a:close/>
                  <a:moveTo>
                    <a:pt x="1592" y="191"/>
                  </a:moveTo>
                  <a:lnTo>
                    <a:pt x="1592" y="185"/>
                  </a:lnTo>
                  <a:lnTo>
                    <a:pt x="1592" y="185"/>
                  </a:lnTo>
                  <a:lnTo>
                    <a:pt x="1592" y="180"/>
                  </a:lnTo>
                  <a:lnTo>
                    <a:pt x="1592" y="174"/>
                  </a:lnTo>
                  <a:lnTo>
                    <a:pt x="1592" y="174"/>
                  </a:lnTo>
                  <a:lnTo>
                    <a:pt x="1592" y="174"/>
                  </a:lnTo>
                  <a:lnTo>
                    <a:pt x="1592" y="174"/>
                  </a:lnTo>
                  <a:lnTo>
                    <a:pt x="1592" y="174"/>
                  </a:lnTo>
                  <a:lnTo>
                    <a:pt x="1592" y="180"/>
                  </a:lnTo>
                  <a:lnTo>
                    <a:pt x="1592" y="180"/>
                  </a:lnTo>
                  <a:lnTo>
                    <a:pt x="1592" y="185"/>
                  </a:lnTo>
                  <a:lnTo>
                    <a:pt x="1592" y="191"/>
                  </a:lnTo>
                  <a:lnTo>
                    <a:pt x="1592" y="191"/>
                  </a:lnTo>
                  <a:lnTo>
                    <a:pt x="1592" y="191"/>
                  </a:lnTo>
                  <a:close/>
                  <a:moveTo>
                    <a:pt x="1347" y="158"/>
                  </a:moveTo>
                  <a:lnTo>
                    <a:pt x="1352" y="158"/>
                  </a:lnTo>
                  <a:lnTo>
                    <a:pt x="1358" y="153"/>
                  </a:lnTo>
                  <a:lnTo>
                    <a:pt x="1363" y="153"/>
                  </a:lnTo>
                  <a:lnTo>
                    <a:pt x="1369" y="153"/>
                  </a:lnTo>
                  <a:lnTo>
                    <a:pt x="1374" y="153"/>
                  </a:lnTo>
                  <a:lnTo>
                    <a:pt x="1385" y="153"/>
                  </a:lnTo>
                  <a:lnTo>
                    <a:pt x="1391" y="153"/>
                  </a:lnTo>
                  <a:lnTo>
                    <a:pt x="1396" y="153"/>
                  </a:lnTo>
                  <a:lnTo>
                    <a:pt x="1401" y="158"/>
                  </a:lnTo>
                  <a:lnTo>
                    <a:pt x="1407" y="158"/>
                  </a:lnTo>
                  <a:lnTo>
                    <a:pt x="1401" y="163"/>
                  </a:lnTo>
                  <a:lnTo>
                    <a:pt x="1391" y="163"/>
                  </a:lnTo>
                  <a:lnTo>
                    <a:pt x="1385" y="169"/>
                  </a:lnTo>
                  <a:lnTo>
                    <a:pt x="1380" y="169"/>
                  </a:lnTo>
                  <a:lnTo>
                    <a:pt x="1374" y="169"/>
                  </a:lnTo>
                  <a:lnTo>
                    <a:pt x="1369" y="169"/>
                  </a:lnTo>
                  <a:lnTo>
                    <a:pt x="1363" y="169"/>
                  </a:lnTo>
                  <a:lnTo>
                    <a:pt x="1358" y="169"/>
                  </a:lnTo>
                  <a:lnTo>
                    <a:pt x="1352" y="163"/>
                  </a:lnTo>
                  <a:lnTo>
                    <a:pt x="1347" y="158"/>
                  </a:lnTo>
                  <a:close/>
                  <a:moveTo>
                    <a:pt x="1461" y="125"/>
                  </a:moveTo>
                  <a:lnTo>
                    <a:pt x="1467" y="125"/>
                  </a:lnTo>
                  <a:lnTo>
                    <a:pt x="1472" y="125"/>
                  </a:lnTo>
                  <a:lnTo>
                    <a:pt x="1478" y="125"/>
                  </a:lnTo>
                  <a:lnTo>
                    <a:pt x="1478" y="125"/>
                  </a:lnTo>
                  <a:lnTo>
                    <a:pt x="1483" y="125"/>
                  </a:lnTo>
                  <a:lnTo>
                    <a:pt x="1489" y="125"/>
                  </a:lnTo>
                  <a:lnTo>
                    <a:pt x="1494" y="125"/>
                  </a:lnTo>
                  <a:lnTo>
                    <a:pt x="1500" y="125"/>
                  </a:lnTo>
                  <a:lnTo>
                    <a:pt x="1505" y="125"/>
                  </a:lnTo>
                  <a:lnTo>
                    <a:pt x="1505" y="131"/>
                  </a:lnTo>
                  <a:lnTo>
                    <a:pt x="1505" y="131"/>
                  </a:lnTo>
                  <a:lnTo>
                    <a:pt x="1500" y="131"/>
                  </a:lnTo>
                  <a:lnTo>
                    <a:pt x="1494" y="136"/>
                  </a:lnTo>
                  <a:lnTo>
                    <a:pt x="1489" y="136"/>
                  </a:lnTo>
                  <a:lnTo>
                    <a:pt x="1483" y="136"/>
                  </a:lnTo>
                  <a:lnTo>
                    <a:pt x="1478" y="136"/>
                  </a:lnTo>
                  <a:lnTo>
                    <a:pt x="1472" y="136"/>
                  </a:lnTo>
                  <a:lnTo>
                    <a:pt x="1467" y="131"/>
                  </a:lnTo>
                  <a:lnTo>
                    <a:pt x="1467" y="131"/>
                  </a:lnTo>
                  <a:lnTo>
                    <a:pt x="1461" y="125"/>
                  </a:lnTo>
                  <a:close/>
                  <a:moveTo>
                    <a:pt x="1576" y="98"/>
                  </a:moveTo>
                  <a:lnTo>
                    <a:pt x="1581" y="93"/>
                  </a:lnTo>
                  <a:lnTo>
                    <a:pt x="1587" y="93"/>
                  </a:lnTo>
                  <a:lnTo>
                    <a:pt x="1592" y="93"/>
                  </a:lnTo>
                  <a:lnTo>
                    <a:pt x="1598" y="93"/>
                  </a:lnTo>
                  <a:lnTo>
                    <a:pt x="1603" y="93"/>
                  </a:lnTo>
                  <a:lnTo>
                    <a:pt x="1603" y="93"/>
                  </a:lnTo>
                  <a:lnTo>
                    <a:pt x="1603" y="98"/>
                  </a:lnTo>
                  <a:lnTo>
                    <a:pt x="1603" y="98"/>
                  </a:lnTo>
                  <a:lnTo>
                    <a:pt x="1598" y="104"/>
                  </a:lnTo>
                  <a:lnTo>
                    <a:pt x="1592" y="104"/>
                  </a:lnTo>
                  <a:lnTo>
                    <a:pt x="1587" y="104"/>
                  </a:lnTo>
                  <a:lnTo>
                    <a:pt x="1587" y="104"/>
                  </a:lnTo>
                  <a:lnTo>
                    <a:pt x="1581" y="98"/>
                  </a:lnTo>
                  <a:lnTo>
                    <a:pt x="1576" y="98"/>
                  </a:lnTo>
                  <a:close/>
                  <a:moveTo>
                    <a:pt x="2672" y="1978"/>
                  </a:moveTo>
                  <a:lnTo>
                    <a:pt x="2705" y="1946"/>
                  </a:lnTo>
                  <a:lnTo>
                    <a:pt x="2737" y="1946"/>
                  </a:lnTo>
                  <a:lnTo>
                    <a:pt x="2770" y="1946"/>
                  </a:lnTo>
                  <a:lnTo>
                    <a:pt x="2797" y="1946"/>
                  </a:lnTo>
                  <a:lnTo>
                    <a:pt x="2830" y="1946"/>
                  </a:lnTo>
                  <a:lnTo>
                    <a:pt x="2863" y="1946"/>
                  </a:lnTo>
                  <a:lnTo>
                    <a:pt x="2895" y="1946"/>
                  </a:lnTo>
                  <a:lnTo>
                    <a:pt x="2928" y="1918"/>
                  </a:lnTo>
                  <a:lnTo>
                    <a:pt x="2928" y="1886"/>
                  </a:lnTo>
                  <a:lnTo>
                    <a:pt x="2928" y="1853"/>
                  </a:lnTo>
                  <a:lnTo>
                    <a:pt x="2928" y="1820"/>
                  </a:lnTo>
                  <a:lnTo>
                    <a:pt x="2961" y="1788"/>
                  </a:lnTo>
                  <a:lnTo>
                    <a:pt x="2961" y="1755"/>
                  </a:lnTo>
                  <a:lnTo>
                    <a:pt x="2961" y="1722"/>
                  </a:lnTo>
                  <a:lnTo>
                    <a:pt x="2961" y="1695"/>
                  </a:lnTo>
                  <a:lnTo>
                    <a:pt x="2988" y="1662"/>
                  </a:lnTo>
                  <a:lnTo>
                    <a:pt x="2988" y="1630"/>
                  </a:lnTo>
                  <a:lnTo>
                    <a:pt x="2988" y="1597"/>
                  </a:lnTo>
                  <a:lnTo>
                    <a:pt x="2988" y="1564"/>
                  </a:lnTo>
                  <a:lnTo>
                    <a:pt x="3021" y="1531"/>
                  </a:lnTo>
                  <a:lnTo>
                    <a:pt x="3021" y="1499"/>
                  </a:lnTo>
                  <a:lnTo>
                    <a:pt x="3021" y="1472"/>
                  </a:lnTo>
                  <a:lnTo>
                    <a:pt x="3021" y="1439"/>
                  </a:lnTo>
                  <a:lnTo>
                    <a:pt x="3054" y="1406"/>
                  </a:lnTo>
                  <a:lnTo>
                    <a:pt x="3054" y="1373"/>
                  </a:lnTo>
                  <a:lnTo>
                    <a:pt x="3054" y="1341"/>
                  </a:lnTo>
                  <a:lnTo>
                    <a:pt x="3054" y="1308"/>
                  </a:lnTo>
                  <a:lnTo>
                    <a:pt x="3086" y="1275"/>
                  </a:lnTo>
                  <a:lnTo>
                    <a:pt x="3086" y="1248"/>
                  </a:lnTo>
                  <a:lnTo>
                    <a:pt x="3086" y="1215"/>
                  </a:lnTo>
                  <a:lnTo>
                    <a:pt x="3086" y="1183"/>
                  </a:lnTo>
                  <a:lnTo>
                    <a:pt x="3086" y="1150"/>
                  </a:lnTo>
                  <a:lnTo>
                    <a:pt x="3086" y="1117"/>
                  </a:lnTo>
                  <a:lnTo>
                    <a:pt x="3086" y="1085"/>
                  </a:lnTo>
                  <a:lnTo>
                    <a:pt x="3086" y="1052"/>
                  </a:lnTo>
                  <a:lnTo>
                    <a:pt x="3086" y="1025"/>
                  </a:lnTo>
                  <a:lnTo>
                    <a:pt x="3086" y="992"/>
                  </a:lnTo>
                  <a:lnTo>
                    <a:pt x="3086" y="959"/>
                  </a:lnTo>
                  <a:lnTo>
                    <a:pt x="3086" y="927"/>
                  </a:lnTo>
                  <a:lnTo>
                    <a:pt x="3086" y="894"/>
                  </a:lnTo>
                  <a:lnTo>
                    <a:pt x="3086" y="861"/>
                  </a:lnTo>
                  <a:lnTo>
                    <a:pt x="3086" y="828"/>
                  </a:lnTo>
                  <a:lnTo>
                    <a:pt x="3086" y="801"/>
                  </a:lnTo>
                  <a:lnTo>
                    <a:pt x="3086" y="768"/>
                  </a:lnTo>
                  <a:lnTo>
                    <a:pt x="3086" y="736"/>
                  </a:lnTo>
                  <a:lnTo>
                    <a:pt x="3086" y="703"/>
                  </a:lnTo>
                  <a:lnTo>
                    <a:pt x="3086" y="670"/>
                  </a:lnTo>
                  <a:lnTo>
                    <a:pt x="3086" y="638"/>
                  </a:lnTo>
                  <a:lnTo>
                    <a:pt x="3086" y="605"/>
                  </a:lnTo>
                  <a:lnTo>
                    <a:pt x="3086" y="572"/>
                  </a:lnTo>
                  <a:lnTo>
                    <a:pt x="3086" y="545"/>
                  </a:lnTo>
                  <a:lnTo>
                    <a:pt x="3086" y="512"/>
                  </a:lnTo>
                  <a:lnTo>
                    <a:pt x="3086" y="480"/>
                  </a:lnTo>
                  <a:lnTo>
                    <a:pt x="3086" y="447"/>
                  </a:lnTo>
                  <a:lnTo>
                    <a:pt x="3086" y="414"/>
                  </a:lnTo>
                  <a:lnTo>
                    <a:pt x="3086" y="381"/>
                  </a:lnTo>
                  <a:lnTo>
                    <a:pt x="3086" y="354"/>
                  </a:lnTo>
                  <a:lnTo>
                    <a:pt x="3086" y="322"/>
                  </a:lnTo>
                  <a:lnTo>
                    <a:pt x="3086" y="289"/>
                  </a:lnTo>
                  <a:lnTo>
                    <a:pt x="3054" y="256"/>
                  </a:lnTo>
                  <a:lnTo>
                    <a:pt x="3054" y="223"/>
                  </a:lnTo>
                  <a:lnTo>
                    <a:pt x="3054" y="191"/>
                  </a:lnTo>
                  <a:lnTo>
                    <a:pt x="3054" y="158"/>
                  </a:lnTo>
                  <a:lnTo>
                    <a:pt x="3054" y="125"/>
                  </a:lnTo>
                  <a:lnTo>
                    <a:pt x="3021" y="98"/>
                  </a:lnTo>
                  <a:lnTo>
                    <a:pt x="2988" y="98"/>
                  </a:lnTo>
                  <a:lnTo>
                    <a:pt x="2961" y="98"/>
                  </a:lnTo>
                  <a:lnTo>
                    <a:pt x="2928" y="65"/>
                  </a:lnTo>
                  <a:lnTo>
                    <a:pt x="2895" y="65"/>
                  </a:lnTo>
                  <a:lnTo>
                    <a:pt x="2863" y="65"/>
                  </a:lnTo>
                  <a:lnTo>
                    <a:pt x="2830" y="33"/>
                  </a:lnTo>
                  <a:lnTo>
                    <a:pt x="2797" y="33"/>
                  </a:lnTo>
                  <a:lnTo>
                    <a:pt x="2770" y="33"/>
                  </a:lnTo>
                  <a:lnTo>
                    <a:pt x="2737" y="0"/>
                  </a:lnTo>
                  <a:lnTo>
                    <a:pt x="2705" y="0"/>
                  </a:lnTo>
                  <a:lnTo>
                    <a:pt x="2672" y="0"/>
                  </a:lnTo>
                  <a:lnTo>
                    <a:pt x="2639" y="0"/>
                  </a:lnTo>
                  <a:lnTo>
                    <a:pt x="2612" y="0"/>
                  </a:lnTo>
                  <a:lnTo>
                    <a:pt x="2579" y="0"/>
                  </a:lnTo>
                  <a:lnTo>
                    <a:pt x="2546" y="0"/>
                  </a:lnTo>
                  <a:lnTo>
                    <a:pt x="2514" y="0"/>
                  </a:lnTo>
                  <a:lnTo>
                    <a:pt x="2481" y="0"/>
                  </a:lnTo>
                  <a:lnTo>
                    <a:pt x="2448" y="0"/>
                  </a:lnTo>
                  <a:lnTo>
                    <a:pt x="2421" y="0"/>
                  </a:lnTo>
                  <a:lnTo>
                    <a:pt x="2388" y="0"/>
                  </a:lnTo>
                  <a:lnTo>
                    <a:pt x="2356" y="0"/>
                  </a:lnTo>
                  <a:lnTo>
                    <a:pt x="2323" y="0"/>
                  </a:lnTo>
                  <a:lnTo>
                    <a:pt x="2290" y="0"/>
                  </a:lnTo>
                  <a:lnTo>
                    <a:pt x="2258" y="0"/>
                  </a:lnTo>
                  <a:lnTo>
                    <a:pt x="2230" y="0"/>
                  </a:lnTo>
                  <a:lnTo>
                    <a:pt x="2198" y="0"/>
                  </a:lnTo>
                  <a:lnTo>
                    <a:pt x="2165" y="0"/>
                  </a:lnTo>
                  <a:lnTo>
                    <a:pt x="2132" y="0"/>
                  </a:lnTo>
                  <a:lnTo>
                    <a:pt x="2099" y="0"/>
                  </a:lnTo>
                  <a:lnTo>
                    <a:pt x="2067" y="0"/>
                  </a:lnTo>
                  <a:lnTo>
                    <a:pt x="2039" y="0"/>
                  </a:lnTo>
                  <a:lnTo>
                    <a:pt x="2007" y="0"/>
                  </a:lnTo>
                  <a:lnTo>
                    <a:pt x="1974" y="0"/>
                  </a:lnTo>
                  <a:lnTo>
                    <a:pt x="1941" y="0"/>
                  </a:lnTo>
                  <a:lnTo>
                    <a:pt x="1909" y="0"/>
                  </a:lnTo>
                  <a:lnTo>
                    <a:pt x="1876" y="0"/>
                  </a:lnTo>
                  <a:lnTo>
                    <a:pt x="1849" y="0"/>
                  </a:lnTo>
                  <a:lnTo>
                    <a:pt x="1816" y="0"/>
                  </a:lnTo>
                  <a:lnTo>
                    <a:pt x="1783" y="0"/>
                  </a:lnTo>
                  <a:lnTo>
                    <a:pt x="1750" y="0"/>
                  </a:lnTo>
                  <a:lnTo>
                    <a:pt x="1718" y="0"/>
                  </a:lnTo>
                  <a:lnTo>
                    <a:pt x="1685" y="0"/>
                  </a:lnTo>
                  <a:lnTo>
                    <a:pt x="1658" y="0"/>
                  </a:lnTo>
                  <a:lnTo>
                    <a:pt x="1625" y="0"/>
                  </a:lnTo>
                  <a:lnTo>
                    <a:pt x="1592" y="0"/>
                  </a:lnTo>
                  <a:lnTo>
                    <a:pt x="1560" y="0"/>
                  </a:lnTo>
                  <a:lnTo>
                    <a:pt x="1527" y="0"/>
                  </a:lnTo>
                  <a:lnTo>
                    <a:pt x="1494" y="0"/>
                  </a:lnTo>
                  <a:lnTo>
                    <a:pt x="1467" y="0"/>
                  </a:lnTo>
                  <a:lnTo>
                    <a:pt x="1434" y="0"/>
                  </a:lnTo>
                  <a:lnTo>
                    <a:pt x="1401" y="0"/>
                  </a:lnTo>
                  <a:lnTo>
                    <a:pt x="1369" y="0"/>
                  </a:lnTo>
                  <a:lnTo>
                    <a:pt x="1336" y="0"/>
                  </a:lnTo>
                  <a:lnTo>
                    <a:pt x="1303" y="0"/>
                  </a:lnTo>
                  <a:lnTo>
                    <a:pt x="1276" y="0"/>
                  </a:lnTo>
                  <a:lnTo>
                    <a:pt x="1243" y="0"/>
                  </a:lnTo>
                  <a:lnTo>
                    <a:pt x="1211" y="0"/>
                  </a:lnTo>
                  <a:lnTo>
                    <a:pt x="1178" y="0"/>
                  </a:lnTo>
                  <a:lnTo>
                    <a:pt x="1145" y="0"/>
                  </a:lnTo>
                  <a:lnTo>
                    <a:pt x="1113" y="0"/>
                  </a:lnTo>
                  <a:lnTo>
                    <a:pt x="1085" y="0"/>
                  </a:lnTo>
                  <a:lnTo>
                    <a:pt x="1053" y="0"/>
                  </a:lnTo>
                  <a:lnTo>
                    <a:pt x="1020" y="0"/>
                  </a:lnTo>
                  <a:lnTo>
                    <a:pt x="987" y="0"/>
                  </a:lnTo>
                  <a:lnTo>
                    <a:pt x="954" y="0"/>
                  </a:lnTo>
                  <a:lnTo>
                    <a:pt x="922" y="0"/>
                  </a:lnTo>
                  <a:lnTo>
                    <a:pt x="894" y="0"/>
                  </a:lnTo>
                  <a:lnTo>
                    <a:pt x="862" y="0"/>
                  </a:lnTo>
                  <a:lnTo>
                    <a:pt x="829" y="0"/>
                  </a:lnTo>
                  <a:lnTo>
                    <a:pt x="796" y="0"/>
                  </a:lnTo>
                  <a:lnTo>
                    <a:pt x="764" y="0"/>
                  </a:lnTo>
                  <a:lnTo>
                    <a:pt x="731" y="0"/>
                  </a:lnTo>
                  <a:lnTo>
                    <a:pt x="704" y="33"/>
                  </a:lnTo>
                  <a:lnTo>
                    <a:pt x="671" y="65"/>
                  </a:lnTo>
                  <a:lnTo>
                    <a:pt x="638" y="98"/>
                  </a:lnTo>
                  <a:lnTo>
                    <a:pt x="605" y="125"/>
                  </a:lnTo>
                  <a:lnTo>
                    <a:pt x="573" y="158"/>
                  </a:lnTo>
                  <a:lnTo>
                    <a:pt x="545" y="158"/>
                  </a:lnTo>
                  <a:lnTo>
                    <a:pt x="513" y="191"/>
                  </a:lnTo>
                  <a:lnTo>
                    <a:pt x="480" y="223"/>
                  </a:lnTo>
                  <a:lnTo>
                    <a:pt x="447" y="256"/>
                  </a:lnTo>
                  <a:lnTo>
                    <a:pt x="415" y="289"/>
                  </a:lnTo>
                  <a:lnTo>
                    <a:pt x="382" y="322"/>
                  </a:lnTo>
                  <a:lnTo>
                    <a:pt x="355" y="354"/>
                  </a:lnTo>
                  <a:lnTo>
                    <a:pt x="322" y="381"/>
                  </a:lnTo>
                  <a:lnTo>
                    <a:pt x="289" y="381"/>
                  </a:lnTo>
                  <a:lnTo>
                    <a:pt x="257" y="414"/>
                  </a:lnTo>
                  <a:lnTo>
                    <a:pt x="224" y="447"/>
                  </a:lnTo>
                  <a:lnTo>
                    <a:pt x="191" y="480"/>
                  </a:lnTo>
                  <a:lnTo>
                    <a:pt x="164" y="512"/>
                  </a:lnTo>
                  <a:lnTo>
                    <a:pt x="131" y="545"/>
                  </a:lnTo>
                  <a:lnTo>
                    <a:pt x="98" y="572"/>
                  </a:lnTo>
                  <a:lnTo>
                    <a:pt x="66" y="605"/>
                  </a:lnTo>
                  <a:lnTo>
                    <a:pt x="33" y="605"/>
                  </a:lnTo>
                  <a:lnTo>
                    <a:pt x="0" y="638"/>
                  </a:lnTo>
                  <a:lnTo>
                    <a:pt x="0" y="670"/>
                  </a:lnTo>
                  <a:lnTo>
                    <a:pt x="0" y="703"/>
                  </a:lnTo>
                  <a:lnTo>
                    <a:pt x="0" y="736"/>
                  </a:lnTo>
                  <a:lnTo>
                    <a:pt x="33" y="768"/>
                  </a:lnTo>
                  <a:lnTo>
                    <a:pt x="33" y="801"/>
                  </a:lnTo>
                  <a:lnTo>
                    <a:pt x="66" y="828"/>
                  </a:lnTo>
                  <a:lnTo>
                    <a:pt x="98" y="861"/>
                  </a:lnTo>
                  <a:lnTo>
                    <a:pt x="131" y="894"/>
                  </a:lnTo>
                  <a:lnTo>
                    <a:pt x="164" y="927"/>
                  </a:lnTo>
                  <a:lnTo>
                    <a:pt x="164" y="959"/>
                  </a:lnTo>
                  <a:lnTo>
                    <a:pt x="191" y="992"/>
                  </a:lnTo>
                  <a:lnTo>
                    <a:pt x="224" y="1025"/>
                  </a:lnTo>
                  <a:lnTo>
                    <a:pt x="257" y="1052"/>
                  </a:lnTo>
                  <a:lnTo>
                    <a:pt x="289" y="1085"/>
                  </a:lnTo>
                  <a:lnTo>
                    <a:pt x="322" y="1117"/>
                  </a:lnTo>
                  <a:lnTo>
                    <a:pt x="355" y="1150"/>
                  </a:lnTo>
                  <a:lnTo>
                    <a:pt x="355" y="1183"/>
                  </a:lnTo>
                  <a:lnTo>
                    <a:pt x="382" y="1215"/>
                  </a:lnTo>
                  <a:lnTo>
                    <a:pt x="415" y="1248"/>
                  </a:lnTo>
                  <a:lnTo>
                    <a:pt x="447" y="1275"/>
                  </a:lnTo>
                  <a:lnTo>
                    <a:pt x="480" y="1308"/>
                  </a:lnTo>
                  <a:lnTo>
                    <a:pt x="513" y="1341"/>
                  </a:lnTo>
                  <a:lnTo>
                    <a:pt x="545" y="1373"/>
                  </a:lnTo>
                  <a:lnTo>
                    <a:pt x="573" y="1406"/>
                  </a:lnTo>
                  <a:lnTo>
                    <a:pt x="605" y="1439"/>
                  </a:lnTo>
                  <a:lnTo>
                    <a:pt x="638" y="1472"/>
                  </a:lnTo>
                  <a:lnTo>
                    <a:pt x="671" y="1499"/>
                  </a:lnTo>
                  <a:lnTo>
                    <a:pt x="704" y="1531"/>
                  </a:lnTo>
                  <a:lnTo>
                    <a:pt x="731" y="1564"/>
                  </a:lnTo>
                  <a:lnTo>
                    <a:pt x="764" y="1597"/>
                  </a:lnTo>
                  <a:lnTo>
                    <a:pt x="796" y="1630"/>
                  </a:lnTo>
                  <a:lnTo>
                    <a:pt x="829" y="1662"/>
                  </a:lnTo>
                  <a:lnTo>
                    <a:pt x="862" y="1695"/>
                  </a:lnTo>
                  <a:lnTo>
                    <a:pt x="894" y="1722"/>
                  </a:lnTo>
                  <a:lnTo>
                    <a:pt x="922" y="1755"/>
                  </a:lnTo>
                  <a:lnTo>
                    <a:pt x="954" y="1755"/>
                  </a:lnTo>
                  <a:lnTo>
                    <a:pt x="987" y="1788"/>
                  </a:lnTo>
                  <a:lnTo>
                    <a:pt x="1020" y="1820"/>
                  </a:lnTo>
                  <a:lnTo>
                    <a:pt x="1053" y="1853"/>
                  </a:lnTo>
                  <a:lnTo>
                    <a:pt x="1085" y="1886"/>
                  </a:lnTo>
                  <a:lnTo>
                    <a:pt x="1113" y="1918"/>
                  </a:lnTo>
                  <a:lnTo>
                    <a:pt x="1145" y="1946"/>
                  </a:lnTo>
                  <a:lnTo>
                    <a:pt x="1178" y="1978"/>
                  </a:lnTo>
                  <a:lnTo>
                    <a:pt x="1211" y="1978"/>
                  </a:lnTo>
                  <a:lnTo>
                    <a:pt x="1243" y="1978"/>
                  </a:lnTo>
                  <a:lnTo>
                    <a:pt x="1276" y="1978"/>
                  </a:lnTo>
                  <a:lnTo>
                    <a:pt x="1303" y="1978"/>
                  </a:lnTo>
                  <a:lnTo>
                    <a:pt x="1336" y="1978"/>
                  </a:lnTo>
                  <a:lnTo>
                    <a:pt x="1369" y="1978"/>
                  </a:lnTo>
                  <a:lnTo>
                    <a:pt x="1401" y="1978"/>
                  </a:lnTo>
                  <a:lnTo>
                    <a:pt x="1434" y="1978"/>
                  </a:lnTo>
                  <a:lnTo>
                    <a:pt x="1467" y="1978"/>
                  </a:lnTo>
                  <a:lnTo>
                    <a:pt x="1494" y="1978"/>
                  </a:lnTo>
                  <a:lnTo>
                    <a:pt x="1527" y="1978"/>
                  </a:lnTo>
                  <a:lnTo>
                    <a:pt x="1560" y="1978"/>
                  </a:lnTo>
                  <a:lnTo>
                    <a:pt x="1592" y="1978"/>
                  </a:lnTo>
                  <a:lnTo>
                    <a:pt x="1625" y="1978"/>
                  </a:lnTo>
                  <a:lnTo>
                    <a:pt x="1658" y="1978"/>
                  </a:lnTo>
                  <a:lnTo>
                    <a:pt x="1685" y="1978"/>
                  </a:lnTo>
                  <a:lnTo>
                    <a:pt x="1718" y="1978"/>
                  </a:lnTo>
                  <a:lnTo>
                    <a:pt x="1750" y="1978"/>
                  </a:lnTo>
                  <a:lnTo>
                    <a:pt x="1783" y="1978"/>
                  </a:lnTo>
                  <a:lnTo>
                    <a:pt x="1816" y="1978"/>
                  </a:lnTo>
                  <a:lnTo>
                    <a:pt x="1849" y="1978"/>
                  </a:lnTo>
                  <a:lnTo>
                    <a:pt x="1876" y="1978"/>
                  </a:lnTo>
                  <a:lnTo>
                    <a:pt x="1909" y="1978"/>
                  </a:lnTo>
                  <a:lnTo>
                    <a:pt x="1941" y="1978"/>
                  </a:lnTo>
                  <a:lnTo>
                    <a:pt x="1974" y="1978"/>
                  </a:lnTo>
                  <a:lnTo>
                    <a:pt x="2007" y="1978"/>
                  </a:lnTo>
                  <a:lnTo>
                    <a:pt x="2039" y="1978"/>
                  </a:lnTo>
                  <a:lnTo>
                    <a:pt x="2067" y="1978"/>
                  </a:lnTo>
                  <a:lnTo>
                    <a:pt x="2099" y="1978"/>
                  </a:lnTo>
                  <a:lnTo>
                    <a:pt x="2132" y="1978"/>
                  </a:lnTo>
                  <a:lnTo>
                    <a:pt x="2165" y="1978"/>
                  </a:lnTo>
                  <a:lnTo>
                    <a:pt x="2198" y="1978"/>
                  </a:lnTo>
                  <a:lnTo>
                    <a:pt x="2230" y="1978"/>
                  </a:lnTo>
                  <a:lnTo>
                    <a:pt x="2258" y="1978"/>
                  </a:lnTo>
                  <a:lnTo>
                    <a:pt x="2290" y="1978"/>
                  </a:lnTo>
                  <a:lnTo>
                    <a:pt x="2323" y="1978"/>
                  </a:lnTo>
                  <a:lnTo>
                    <a:pt x="2356" y="1978"/>
                  </a:lnTo>
                  <a:lnTo>
                    <a:pt x="2388" y="1978"/>
                  </a:lnTo>
                  <a:lnTo>
                    <a:pt x="2421" y="1978"/>
                  </a:lnTo>
                  <a:lnTo>
                    <a:pt x="2448" y="1978"/>
                  </a:lnTo>
                  <a:lnTo>
                    <a:pt x="2481" y="1978"/>
                  </a:lnTo>
                  <a:lnTo>
                    <a:pt x="2514" y="1978"/>
                  </a:lnTo>
                  <a:lnTo>
                    <a:pt x="2546" y="1978"/>
                  </a:lnTo>
                  <a:lnTo>
                    <a:pt x="2579" y="1978"/>
                  </a:lnTo>
                  <a:lnTo>
                    <a:pt x="2612" y="1978"/>
                  </a:lnTo>
                  <a:lnTo>
                    <a:pt x="2639" y="1978"/>
                  </a:lnTo>
                  <a:lnTo>
                    <a:pt x="2672" y="1978"/>
                  </a:lnTo>
                  <a:close/>
                  <a:moveTo>
                    <a:pt x="1134" y="1117"/>
                  </a:moveTo>
                  <a:lnTo>
                    <a:pt x="1134" y="1112"/>
                  </a:lnTo>
                  <a:lnTo>
                    <a:pt x="1140" y="1106"/>
                  </a:lnTo>
                  <a:lnTo>
                    <a:pt x="1140" y="1106"/>
                  </a:lnTo>
                  <a:lnTo>
                    <a:pt x="1145" y="1101"/>
                  </a:lnTo>
                  <a:lnTo>
                    <a:pt x="1151" y="1101"/>
                  </a:lnTo>
                  <a:lnTo>
                    <a:pt x="1156" y="1101"/>
                  </a:lnTo>
                  <a:lnTo>
                    <a:pt x="1162" y="1106"/>
                  </a:lnTo>
                  <a:lnTo>
                    <a:pt x="1167" y="1106"/>
                  </a:lnTo>
                  <a:lnTo>
                    <a:pt x="1172" y="1112"/>
                  </a:lnTo>
                  <a:lnTo>
                    <a:pt x="1178" y="1112"/>
                  </a:lnTo>
                  <a:lnTo>
                    <a:pt x="1178" y="1117"/>
                  </a:lnTo>
                  <a:lnTo>
                    <a:pt x="1178" y="1123"/>
                  </a:lnTo>
                  <a:lnTo>
                    <a:pt x="1172" y="1123"/>
                  </a:lnTo>
                  <a:lnTo>
                    <a:pt x="1167" y="1123"/>
                  </a:lnTo>
                  <a:lnTo>
                    <a:pt x="1162" y="1128"/>
                  </a:lnTo>
                  <a:lnTo>
                    <a:pt x="1156" y="1128"/>
                  </a:lnTo>
                  <a:lnTo>
                    <a:pt x="1145" y="1123"/>
                  </a:lnTo>
                  <a:lnTo>
                    <a:pt x="1145" y="1123"/>
                  </a:lnTo>
                  <a:lnTo>
                    <a:pt x="1140" y="1123"/>
                  </a:lnTo>
                  <a:lnTo>
                    <a:pt x="1134" y="1117"/>
                  </a:lnTo>
                  <a:close/>
                  <a:moveTo>
                    <a:pt x="349" y="992"/>
                  </a:moveTo>
                  <a:lnTo>
                    <a:pt x="349" y="992"/>
                  </a:lnTo>
                  <a:lnTo>
                    <a:pt x="349" y="986"/>
                  </a:lnTo>
                  <a:lnTo>
                    <a:pt x="355" y="992"/>
                  </a:lnTo>
                  <a:lnTo>
                    <a:pt x="355" y="992"/>
                  </a:lnTo>
                  <a:lnTo>
                    <a:pt x="355" y="992"/>
                  </a:lnTo>
                  <a:lnTo>
                    <a:pt x="355" y="992"/>
                  </a:lnTo>
                  <a:lnTo>
                    <a:pt x="355" y="992"/>
                  </a:lnTo>
                  <a:lnTo>
                    <a:pt x="355" y="992"/>
                  </a:lnTo>
                  <a:lnTo>
                    <a:pt x="355" y="992"/>
                  </a:lnTo>
                  <a:lnTo>
                    <a:pt x="349" y="992"/>
                  </a:lnTo>
                  <a:lnTo>
                    <a:pt x="349" y="992"/>
                  </a:lnTo>
                  <a:lnTo>
                    <a:pt x="349" y="992"/>
                  </a:lnTo>
                  <a:lnTo>
                    <a:pt x="349" y="992"/>
                  </a:lnTo>
                  <a:lnTo>
                    <a:pt x="349" y="992"/>
                  </a:lnTo>
                  <a:close/>
                  <a:moveTo>
                    <a:pt x="316" y="927"/>
                  </a:moveTo>
                  <a:lnTo>
                    <a:pt x="322" y="927"/>
                  </a:lnTo>
                  <a:lnTo>
                    <a:pt x="322" y="927"/>
                  </a:lnTo>
                  <a:lnTo>
                    <a:pt x="327" y="932"/>
                  </a:lnTo>
                  <a:lnTo>
                    <a:pt x="327" y="937"/>
                  </a:lnTo>
                  <a:lnTo>
                    <a:pt x="327" y="943"/>
                  </a:lnTo>
                  <a:lnTo>
                    <a:pt x="322" y="948"/>
                  </a:lnTo>
                  <a:lnTo>
                    <a:pt x="322" y="948"/>
                  </a:lnTo>
                  <a:lnTo>
                    <a:pt x="322" y="948"/>
                  </a:lnTo>
                  <a:lnTo>
                    <a:pt x="316" y="948"/>
                  </a:lnTo>
                  <a:lnTo>
                    <a:pt x="316" y="948"/>
                  </a:lnTo>
                  <a:lnTo>
                    <a:pt x="316" y="943"/>
                  </a:lnTo>
                  <a:lnTo>
                    <a:pt x="316" y="937"/>
                  </a:lnTo>
                  <a:lnTo>
                    <a:pt x="316" y="932"/>
                  </a:lnTo>
                  <a:lnTo>
                    <a:pt x="316" y="927"/>
                  </a:lnTo>
                  <a:close/>
                  <a:moveTo>
                    <a:pt x="829" y="927"/>
                  </a:moveTo>
                  <a:lnTo>
                    <a:pt x="829" y="927"/>
                  </a:lnTo>
                  <a:lnTo>
                    <a:pt x="829" y="927"/>
                  </a:lnTo>
                  <a:lnTo>
                    <a:pt x="829" y="927"/>
                  </a:lnTo>
                  <a:lnTo>
                    <a:pt x="829" y="927"/>
                  </a:lnTo>
                  <a:lnTo>
                    <a:pt x="829" y="927"/>
                  </a:lnTo>
                  <a:lnTo>
                    <a:pt x="829" y="927"/>
                  </a:lnTo>
                  <a:lnTo>
                    <a:pt x="834" y="927"/>
                  </a:lnTo>
                  <a:lnTo>
                    <a:pt x="834" y="927"/>
                  </a:lnTo>
                  <a:lnTo>
                    <a:pt x="834" y="927"/>
                  </a:lnTo>
                  <a:lnTo>
                    <a:pt x="829" y="927"/>
                  </a:lnTo>
                  <a:lnTo>
                    <a:pt x="829" y="927"/>
                  </a:lnTo>
                  <a:lnTo>
                    <a:pt x="829" y="927"/>
                  </a:lnTo>
                  <a:lnTo>
                    <a:pt x="829" y="927"/>
                  </a:lnTo>
                  <a:lnTo>
                    <a:pt x="829" y="927"/>
                  </a:lnTo>
                  <a:close/>
                  <a:moveTo>
                    <a:pt x="1271" y="927"/>
                  </a:moveTo>
                  <a:lnTo>
                    <a:pt x="1271" y="921"/>
                  </a:lnTo>
                  <a:lnTo>
                    <a:pt x="1271" y="910"/>
                  </a:lnTo>
                  <a:lnTo>
                    <a:pt x="1271" y="905"/>
                  </a:lnTo>
                  <a:lnTo>
                    <a:pt x="1271" y="894"/>
                  </a:lnTo>
                  <a:lnTo>
                    <a:pt x="1271" y="888"/>
                  </a:lnTo>
                  <a:lnTo>
                    <a:pt x="1271" y="883"/>
                  </a:lnTo>
                  <a:lnTo>
                    <a:pt x="1265" y="877"/>
                  </a:lnTo>
                  <a:lnTo>
                    <a:pt x="1265" y="867"/>
                  </a:lnTo>
                  <a:lnTo>
                    <a:pt x="1265" y="861"/>
                  </a:lnTo>
                  <a:lnTo>
                    <a:pt x="1265" y="850"/>
                  </a:lnTo>
                  <a:lnTo>
                    <a:pt x="1271" y="839"/>
                  </a:lnTo>
                  <a:lnTo>
                    <a:pt x="1271" y="834"/>
                  </a:lnTo>
                  <a:lnTo>
                    <a:pt x="1276" y="834"/>
                  </a:lnTo>
                  <a:lnTo>
                    <a:pt x="1282" y="839"/>
                  </a:lnTo>
                  <a:lnTo>
                    <a:pt x="1287" y="850"/>
                  </a:lnTo>
                  <a:lnTo>
                    <a:pt x="1292" y="861"/>
                  </a:lnTo>
                  <a:lnTo>
                    <a:pt x="1292" y="867"/>
                  </a:lnTo>
                  <a:lnTo>
                    <a:pt x="1292" y="877"/>
                  </a:lnTo>
                  <a:lnTo>
                    <a:pt x="1287" y="883"/>
                  </a:lnTo>
                  <a:lnTo>
                    <a:pt x="1287" y="888"/>
                  </a:lnTo>
                  <a:lnTo>
                    <a:pt x="1282" y="894"/>
                  </a:lnTo>
                  <a:lnTo>
                    <a:pt x="1282" y="905"/>
                  </a:lnTo>
                  <a:lnTo>
                    <a:pt x="1282" y="910"/>
                  </a:lnTo>
                  <a:lnTo>
                    <a:pt x="1282" y="916"/>
                  </a:lnTo>
                  <a:lnTo>
                    <a:pt x="1276" y="927"/>
                  </a:lnTo>
                  <a:lnTo>
                    <a:pt x="1271" y="927"/>
                  </a:lnTo>
                  <a:close/>
                  <a:moveTo>
                    <a:pt x="1189" y="828"/>
                  </a:moveTo>
                  <a:lnTo>
                    <a:pt x="1189" y="823"/>
                  </a:lnTo>
                  <a:lnTo>
                    <a:pt x="1194" y="817"/>
                  </a:lnTo>
                  <a:lnTo>
                    <a:pt x="1194" y="807"/>
                  </a:lnTo>
                  <a:lnTo>
                    <a:pt x="1194" y="801"/>
                  </a:lnTo>
                  <a:lnTo>
                    <a:pt x="1194" y="796"/>
                  </a:lnTo>
                  <a:lnTo>
                    <a:pt x="1200" y="785"/>
                  </a:lnTo>
                  <a:lnTo>
                    <a:pt x="1200" y="779"/>
                  </a:lnTo>
                  <a:lnTo>
                    <a:pt x="1200" y="774"/>
                  </a:lnTo>
                  <a:lnTo>
                    <a:pt x="1200" y="763"/>
                  </a:lnTo>
                  <a:lnTo>
                    <a:pt x="1200" y="758"/>
                  </a:lnTo>
                  <a:lnTo>
                    <a:pt x="1200" y="752"/>
                  </a:lnTo>
                  <a:lnTo>
                    <a:pt x="1200" y="741"/>
                  </a:lnTo>
                  <a:lnTo>
                    <a:pt x="1194" y="736"/>
                  </a:lnTo>
                  <a:lnTo>
                    <a:pt x="1194" y="730"/>
                  </a:lnTo>
                  <a:lnTo>
                    <a:pt x="1194" y="719"/>
                  </a:lnTo>
                  <a:lnTo>
                    <a:pt x="1194" y="714"/>
                  </a:lnTo>
                  <a:lnTo>
                    <a:pt x="1194" y="708"/>
                  </a:lnTo>
                  <a:lnTo>
                    <a:pt x="1194" y="698"/>
                  </a:lnTo>
                  <a:lnTo>
                    <a:pt x="1194" y="692"/>
                  </a:lnTo>
                  <a:lnTo>
                    <a:pt x="1189" y="687"/>
                  </a:lnTo>
                  <a:lnTo>
                    <a:pt x="1189" y="676"/>
                  </a:lnTo>
                  <a:lnTo>
                    <a:pt x="1194" y="670"/>
                  </a:lnTo>
                  <a:lnTo>
                    <a:pt x="1194" y="665"/>
                  </a:lnTo>
                  <a:lnTo>
                    <a:pt x="1200" y="659"/>
                  </a:lnTo>
                  <a:lnTo>
                    <a:pt x="1205" y="649"/>
                  </a:lnTo>
                  <a:lnTo>
                    <a:pt x="1211" y="643"/>
                  </a:lnTo>
                  <a:lnTo>
                    <a:pt x="1216" y="638"/>
                  </a:lnTo>
                  <a:lnTo>
                    <a:pt x="1216" y="632"/>
                  </a:lnTo>
                  <a:lnTo>
                    <a:pt x="1222" y="621"/>
                  </a:lnTo>
                  <a:lnTo>
                    <a:pt x="1222" y="616"/>
                  </a:lnTo>
                  <a:lnTo>
                    <a:pt x="1222" y="610"/>
                  </a:lnTo>
                  <a:lnTo>
                    <a:pt x="1222" y="599"/>
                  </a:lnTo>
                  <a:lnTo>
                    <a:pt x="1222" y="594"/>
                  </a:lnTo>
                  <a:lnTo>
                    <a:pt x="1222" y="589"/>
                  </a:lnTo>
                  <a:lnTo>
                    <a:pt x="1227" y="578"/>
                  </a:lnTo>
                  <a:lnTo>
                    <a:pt x="1227" y="572"/>
                  </a:lnTo>
                  <a:lnTo>
                    <a:pt x="1232" y="567"/>
                  </a:lnTo>
                  <a:lnTo>
                    <a:pt x="1238" y="561"/>
                  </a:lnTo>
                  <a:lnTo>
                    <a:pt x="1243" y="550"/>
                  </a:lnTo>
                  <a:lnTo>
                    <a:pt x="1243" y="545"/>
                  </a:lnTo>
                  <a:lnTo>
                    <a:pt x="1238" y="540"/>
                  </a:lnTo>
                  <a:lnTo>
                    <a:pt x="1238" y="529"/>
                  </a:lnTo>
                  <a:lnTo>
                    <a:pt x="1232" y="523"/>
                  </a:lnTo>
                  <a:lnTo>
                    <a:pt x="1227" y="518"/>
                  </a:lnTo>
                  <a:lnTo>
                    <a:pt x="1222" y="512"/>
                  </a:lnTo>
                  <a:lnTo>
                    <a:pt x="1222" y="501"/>
                  </a:lnTo>
                  <a:lnTo>
                    <a:pt x="1222" y="496"/>
                  </a:lnTo>
                  <a:lnTo>
                    <a:pt x="1222" y="490"/>
                  </a:lnTo>
                  <a:lnTo>
                    <a:pt x="1222" y="480"/>
                  </a:lnTo>
                  <a:lnTo>
                    <a:pt x="1222" y="474"/>
                  </a:lnTo>
                  <a:lnTo>
                    <a:pt x="1222" y="469"/>
                  </a:lnTo>
                  <a:lnTo>
                    <a:pt x="1222" y="458"/>
                  </a:lnTo>
                  <a:lnTo>
                    <a:pt x="1227" y="452"/>
                  </a:lnTo>
                  <a:lnTo>
                    <a:pt x="1222" y="447"/>
                  </a:lnTo>
                  <a:lnTo>
                    <a:pt x="1222" y="436"/>
                  </a:lnTo>
                  <a:lnTo>
                    <a:pt x="1222" y="431"/>
                  </a:lnTo>
                  <a:lnTo>
                    <a:pt x="1216" y="425"/>
                  </a:lnTo>
                  <a:lnTo>
                    <a:pt x="1216" y="414"/>
                  </a:lnTo>
                  <a:lnTo>
                    <a:pt x="1216" y="409"/>
                  </a:lnTo>
                  <a:lnTo>
                    <a:pt x="1211" y="403"/>
                  </a:lnTo>
                  <a:lnTo>
                    <a:pt x="1211" y="398"/>
                  </a:lnTo>
                  <a:lnTo>
                    <a:pt x="1211" y="387"/>
                  </a:lnTo>
                  <a:lnTo>
                    <a:pt x="1205" y="381"/>
                  </a:lnTo>
                  <a:lnTo>
                    <a:pt x="1205" y="371"/>
                  </a:lnTo>
                  <a:lnTo>
                    <a:pt x="1200" y="365"/>
                  </a:lnTo>
                  <a:lnTo>
                    <a:pt x="1205" y="360"/>
                  </a:lnTo>
                  <a:lnTo>
                    <a:pt x="1205" y="354"/>
                  </a:lnTo>
                  <a:lnTo>
                    <a:pt x="1216" y="349"/>
                  </a:lnTo>
                  <a:lnTo>
                    <a:pt x="1227" y="343"/>
                  </a:lnTo>
                  <a:lnTo>
                    <a:pt x="1238" y="343"/>
                  </a:lnTo>
                  <a:lnTo>
                    <a:pt x="1249" y="343"/>
                  </a:lnTo>
                  <a:lnTo>
                    <a:pt x="1254" y="338"/>
                  </a:lnTo>
                  <a:lnTo>
                    <a:pt x="1260" y="327"/>
                  </a:lnTo>
                  <a:lnTo>
                    <a:pt x="1265" y="322"/>
                  </a:lnTo>
                  <a:lnTo>
                    <a:pt x="1271" y="316"/>
                  </a:lnTo>
                  <a:lnTo>
                    <a:pt x="1276" y="311"/>
                  </a:lnTo>
                  <a:lnTo>
                    <a:pt x="1287" y="311"/>
                  </a:lnTo>
                  <a:lnTo>
                    <a:pt x="1298" y="305"/>
                  </a:lnTo>
                  <a:lnTo>
                    <a:pt x="1309" y="305"/>
                  </a:lnTo>
                  <a:lnTo>
                    <a:pt x="1320" y="300"/>
                  </a:lnTo>
                  <a:lnTo>
                    <a:pt x="1325" y="294"/>
                  </a:lnTo>
                  <a:lnTo>
                    <a:pt x="1336" y="289"/>
                  </a:lnTo>
                  <a:lnTo>
                    <a:pt x="1342" y="283"/>
                  </a:lnTo>
                  <a:lnTo>
                    <a:pt x="1347" y="278"/>
                  </a:lnTo>
                  <a:lnTo>
                    <a:pt x="1358" y="272"/>
                  </a:lnTo>
                  <a:lnTo>
                    <a:pt x="1369" y="267"/>
                  </a:lnTo>
                  <a:lnTo>
                    <a:pt x="1380" y="267"/>
                  </a:lnTo>
                  <a:lnTo>
                    <a:pt x="1391" y="272"/>
                  </a:lnTo>
                  <a:lnTo>
                    <a:pt x="1401" y="272"/>
                  </a:lnTo>
                  <a:lnTo>
                    <a:pt x="1412" y="267"/>
                  </a:lnTo>
                  <a:lnTo>
                    <a:pt x="1423" y="262"/>
                  </a:lnTo>
                  <a:lnTo>
                    <a:pt x="1429" y="256"/>
                  </a:lnTo>
                  <a:lnTo>
                    <a:pt x="1434" y="251"/>
                  </a:lnTo>
                  <a:lnTo>
                    <a:pt x="1434" y="245"/>
                  </a:lnTo>
                  <a:lnTo>
                    <a:pt x="1434" y="234"/>
                  </a:lnTo>
                  <a:lnTo>
                    <a:pt x="1434" y="229"/>
                  </a:lnTo>
                  <a:lnTo>
                    <a:pt x="1445" y="223"/>
                  </a:lnTo>
                  <a:lnTo>
                    <a:pt x="1451" y="218"/>
                  </a:lnTo>
                  <a:lnTo>
                    <a:pt x="1461" y="213"/>
                  </a:lnTo>
                  <a:lnTo>
                    <a:pt x="1472" y="218"/>
                  </a:lnTo>
                  <a:lnTo>
                    <a:pt x="1478" y="223"/>
                  </a:lnTo>
                  <a:lnTo>
                    <a:pt x="1483" y="229"/>
                  </a:lnTo>
                  <a:lnTo>
                    <a:pt x="1489" y="240"/>
                  </a:lnTo>
                  <a:lnTo>
                    <a:pt x="1494" y="240"/>
                  </a:lnTo>
                  <a:lnTo>
                    <a:pt x="1505" y="240"/>
                  </a:lnTo>
                  <a:lnTo>
                    <a:pt x="1516" y="234"/>
                  </a:lnTo>
                  <a:lnTo>
                    <a:pt x="1521" y="229"/>
                  </a:lnTo>
                  <a:lnTo>
                    <a:pt x="1527" y="223"/>
                  </a:lnTo>
                  <a:lnTo>
                    <a:pt x="1532" y="213"/>
                  </a:lnTo>
                  <a:lnTo>
                    <a:pt x="1532" y="207"/>
                  </a:lnTo>
                  <a:lnTo>
                    <a:pt x="1532" y="202"/>
                  </a:lnTo>
                  <a:lnTo>
                    <a:pt x="1532" y="191"/>
                  </a:lnTo>
                  <a:lnTo>
                    <a:pt x="1538" y="185"/>
                  </a:lnTo>
                  <a:lnTo>
                    <a:pt x="1543" y="180"/>
                  </a:lnTo>
                  <a:lnTo>
                    <a:pt x="1554" y="174"/>
                  </a:lnTo>
                  <a:lnTo>
                    <a:pt x="1560" y="169"/>
                  </a:lnTo>
                  <a:lnTo>
                    <a:pt x="1571" y="174"/>
                  </a:lnTo>
                  <a:lnTo>
                    <a:pt x="1576" y="180"/>
                  </a:lnTo>
                  <a:lnTo>
                    <a:pt x="1581" y="185"/>
                  </a:lnTo>
                  <a:lnTo>
                    <a:pt x="1581" y="196"/>
                  </a:lnTo>
                  <a:lnTo>
                    <a:pt x="1587" y="207"/>
                  </a:lnTo>
                  <a:lnTo>
                    <a:pt x="1592" y="213"/>
                  </a:lnTo>
                  <a:lnTo>
                    <a:pt x="1598" y="213"/>
                  </a:lnTo>
                  <a:lnTo>
                    <a:pt x="1609" y="207"/>
                  </a:lnTo>
                  <a:lnTo>
                    <a:pt x="1614" y="202"/>
                  </a:lnTo>
                  <a:lnTo>
                    <a:pt x="1625" y="196"/>
                  </a:lnTo>
                  <a:lnTo>
                    <a:pt x="1625" y="191"/>
                  </a:lnTo>
                  <a:lnTo>
                    <a:pt x="1625" y="180"/>
                  </a:lnTo>
                  <a:lnTo>
                    <a:pt x="1625" y="174"/>
                  </a:lnTo>
                  <a:lnTo>
                    <a:pt x="1625" y="169"/>
                  </a:lnTo>
                  <a:lnTo>
                    <a:pt x="1630" y="158"/>
                  </a:lnTo>
                  <a:lnTo>
                    <a:pt x="1630" y="153"/>
                  </a:lnTo>
                  <a:lnTo>
                    <a:pt x="1636" y="142"/>
                  </a:lnTo>
                  <a:lnTo>
                    <a:pt x="1647" y="136"/>
                  </a:lnTo>
                  <a:lnTo>
                    <a:pt x="1652" y="136"/>
                  </a:lnTo>
                  <a:lnTo>
                    <a:pt x="1663" y="136"/>
                  </a:lnTo>
                  <a:lnTo>
                    <a:pt x="1674" y="136"/>
                  </a:lnTo>
                  <a:lnTo>
                    <a:pt x="1685" y="142"/>
                  </a:lnTo>
                  <a:lnTo>
                    <a:pt x="1696" y="142"/>
                  </a:lnTo>
                  <a:lnTo>
                    <a:pt x="1707" y="147"/>
                  </a:lnTo>
                  <a:lnTo>
                    <a:pt x="1712" y="153"/>
                  </a:lnTo>
                  <a:lnTo>
                    <a:pt x="1718" y="163"/>
                  </a:lnTo>
                  <a:lnTo>
                    <a:pt x="1723" y="163"/>
                  </a:lnTo>
                  <a:lnTo>
                    <a:pt x="1729" y="153"/>
                  </a:lnTo>
                  <a:lnTo>
                    <a:pt x="1729" y="147"/>
                  </a:lnTo>
                  <a:lnTo>
                    <a:pt x="1729" y="142"/>
                  </a:lnTo>
                  <a:lnTo>
                    <a:pt x="1723" y="131"/>
                  </a:lnTo>
                  <a:lnTo>
                    <a:pt x="1723" y="125"/>
                  </a:lnTo>
                  <a:lnTo>
                    <a:pt x="1723" y="120"/>
                  </a:lnTo>
                  <a:lnTo>
                    <a:pt x="1734" y="109"/>
                  </a:lnTo>
                  <a:lnTo>
                    <a:pt x="1740" y="104"/>
                  </a:lnTo>
                  <a:lnTo>
                    <a:pt x="1750" y="104"/>
                  </a:lnTo>
                  <a:lnTo>
                    <a:pt x="1761" y="98"/>
                  </a:lnTo>
                  <a:lnTo>
                    <a:pt x="1772" y="98"/>
                  </a:lnTo>
                  <a:lnTo>
                    <a:pt x="1783" y="98"/>
                  </a:lnTo>
                  <a:lnTo>
                    <a:pt x="1794" y="104"/>
                  </a:lnTo>
                  <a:lnTo>
                    <a:pt x="1800" y="109"/>
                  </a:lnTo>
                  <a:lnTo>
                    <a:pt x="1805" y="114"/>
                  </a:lnTo>
                  <a:lnTo>
                    <a:pt x="1810" y="125"/>
                  </a:lnTo>
                  <a:lnTo>
                    <a:pt x="1816" y="131"/>
                  </a:lnTo>
                  <a:lnTo>
                    <a:pt x="1827" y="131"/>
                  </a:lnTo>
                  <a:lnTo>
                    <a:pt x="1838" y="131"/>
                  </a:lnTo>
                  <a:lnTo>
                    <a:pt x="1843" y="125"/>
                  </a:lnTo>
                  <a:lnTo>
                    <a:pt x="1838" y="120"/>
                  </a:lnTo>
                  <a:lnTo>
                    <a:pt x="1832" y="109"/>
                  </a:lnTo>
                  <a:lnTo>
                    <a:pt x="1821" y="104"/>
                  </a:lnTo>
                  <a:lnTo>
                    <a:pt x="1816" y="98"/>
                  </a:lnTo>
                  <a:lnTo>
                    <a:pt x="1816" y="87"/>
                  </a:lnTo>
                  <a:lnTo>
                    <a:pt x="1821" y="82"/>
                  </a:lnTo>
                  <a:lnTo>
                    <a:pt x="1827" y="76"/>
                  </a:lnTo>
                  <a:lnTo>
                    <a:pt x="1838" y="71"/>
                  </a:lnTo>
                  <a:lnTo>
                    <a:pt x="1849" y="65"/>
                  </a:lnTo>
                  <a:lnTo>
                    <a:pt x="1859" y="65"/>
                  </a:lnTo>
                  <a:lnTo>
                    <a:pt x="1870" y="65"/>
                  </a:lnTo>
                  <a:lnTo>
                    <a:pt x="1887" y="65"/>
                  </a:lnTo>
                  <a:lnTo>
                    <a:pt x="1898" y="65"/>
                  </a:lnTo>
                  <a:lnTo>
                    <a:pt x="1909" y="65"/>
                  </a:lnTo>
                  <a:lnTo>
                    <a:pt x="1914" y="60"/>
                  </a:lnTo>
                  <a:lnTo>
                    <a:pt x="1919" y="54"/>
                  </a:lnTo>
                  <a:lnTo>
                    <a:pt x="1925" y="44"/>
                  </a:lnTo>
                  <a:lnTo>
                    <a:pt x="1936" y="38"/>
                  </a:lnTo>
                  <a:lnTo>
                    <a:pt x="1941" y="38"/>
                  </a:lnTo>
                  <a:lnTo>
                    <a:pt x="1952" y="33"/>
                  </a:lnTo>
                  <a:lnTo>
                    <a:pt x="1963" y="33"/>
                  </a:lnTo>
                  <a:lnTo>
                    <a:pt x="1974" y="33"/>
                  </a:lnTo>
                  <a:lnTo>
                    <a:pt x="1990" y="33"/>
                  </a:lnTo>
                  <a:lnTo>
                    <a:pt x="2001" y="38"/>
                  </a:lnTo>
                  <a:lnTo>
                    <a:pt x="2007" y="38"/>
                  </a:lnTo>
                  <a:lnTo>
                    <a:pt x="2018" y="44"/>
                  </a:lnTo>
                  <a:lnTo>
                    <a:pt x="2023" y="54"/>
                  </a:lnTo>
                  <a:lnTo>
                    <a:pt x="2029" y="60"/>
                  </a:lnTo>
                  <a:lnTo>
                    <a:pt x="2034" y="65"/>
                  </a:lnTo>
                  <a:lnTo>
                    <a:pt x="2045" y="65"/>
                  </a:lnTo>
                  <a:lnTo>
                    <a:pt x="2056" y="65"/>
                  </a:lnTo>
                  <a:lnTo>
                    <a:pt x="2067" y="65"/>
                  </a:lnTo>
                  <a:lnTo>
                    <a:pt x="2083" y="65"/>
                  </a:lnTo>
                  <a:lnTo>
                    <a:pt x="2094" y="65"/>
                  </a:lnTo>
                  <a:lnTo>
                    <a:pt x="2105" y="65"/>
                  </a:lnTo>
                  <a:lnTo>
                    <a:pt x="2116" y="71"/>
                  </a:lnTo>
                  <a:lnTo>
                    <a:pt x="2127" y="71"/>
                  </a:lnTo>
                  <a:lnTo>
                    <a:pt x="2132" y="76"/>
                  </a:lnTo>
                  <a:lnTo>
                    <a:pt x="2143" y="82"/>
                  </a:lnTo>
                  <a:lnTo>
                    <a:pt x="2148" y="87"/>
                  </a:lnTo>
                  <a:lnTo>
                    <a:pt x="2154" y="93"/>
                  </a:lnTo>
                  <a:lnTo>
                    <a:pt x="2165" y="98"/>
                  </a:lnTo>
                  <a:lnTo>
                    <a:pt x="2170" y="98"/>
                  </a:lnTo>
                  <a:lnTo>
                    <a:pt x="2187" y="98"/>
                  </a:lnTo>
                  <a:lnTo>
                    <a:pt x="2198" y="98"/>
                  </a:lnTo>
                  <a:lnTo>
                    <a:pt x="2208" y="104"/>
                  </a:lnTo>
                  <a:lnTo>
                    <a:pt x="2219" y="104"/>
                  </a:lnTo>
                  <a:lnTo>
                    <a:pt x="2230" y="104"/>
                  </a:lnTo>
                  <a:lnTo>
                    <a:pt x="2241" y="104"/>
                  </a:lnTo>
                  <a:lnTo>
                    <a:pt x="2252" y="104"/>
                  </a:lnTo>
                  <a:lnTo>
                    <a:pt x="2263" y="109"/>
                  </a:lnTo>
                  <a:lnTo>
                    <a:pt x="2268" y="114"/>
                  </a:lnTo>
                  <a:lnTo>
                    <a:pt x="2274" y="120"/>
                  </a:lnTo>
                  <a:lnTo>
                    <a:pt x="2279" y="125"/>
                  </a:lnTo>
                  <a:lnTo>
                    <a:pt x="2290" y="131"/>
                  </a:lnTo>
                  <a:lnTo>
                    <a:pt x="2296" y="136"/>
                  </a:lnTo>
                  <a:lnTo>
                    <a:pt x="2307" y="136"/>
                  </a:lnTo>
                  <a:lnTo>
                    <a:pt x="2317" y="136"/>
                  </a:lnTo>
                  <a:lnTo>
                    <a:pt x="2334" y="136"/>
                  </a:lnTo>
                  <a:lnTo>
                    <a:pt x="2345" y="136"/>
                  </a:lnTo>
                  <a:lnTo>
                    <a:pt x="2356" y="136"/>
                  </a:lnTo>
                  <a:lnTo>
                    <a:pt x="2367" y="136"/>
                  </a:lnTo>
                  <a:lnTo>
                    <a:pt x="2377" y="136"/>
                  </a:lnTo>
                  <a:lnTo>
                    <a:pt x="2388" y="142"/>
                  </a:lnTo>
                  <a:lnTo>
                    <a:pt x="2394" y="147"/>
                  </a:lnTo>
                  <a:lnTo>
                    <a:pt x="2399" y="153"/>
                  </a:lnTo>
                  <a:lnTo>
                    <a:pt x="2405" y="158"/>
                  </a:lnTo>
                  <a:lnTo>
                    <a:pt x="2410" y="163"/>
                  </a:lnTo>
                  <a:lnTo>
                    <a:pt x="2416" y="174"/>
                  </a:lnTo>
                  <a:lnTo>
                    <a:pt x="2427" y="174"/>
                  </a:lnTo>
                  <a:lnTo>
                    <a:pt x="2437" y="180"/>
                  </a:lnTo>
                  <a:lnTo>
                    <a:pt x="2448" y="180"/>
                  </a:lnTo>
                  <a:lnTo>
                    <a:pt x="2459" y="180"/>
                  </a:lnTo>
                  <a:lnTo>
                    <a:pt x="2470" y="180"/>
                  </a:lnTo>
                  <a:lnTo>
                    <a:pt x="2481" y="185"/>
                  </a:lnTo>
                  <a:lnTo>
                    <a:pt x="2492" y="185"/>
                  </a:lnTo>
                  <a:lnTo>
                    <a:pt x="2503" y="185"/>
                  </a:lnTo>
                  <a:lnTo>
                    <a:pt x="2508" y="191"/>
                  </a:lnTo>
                  <a:lnTo>
                    <a:pt x="2514" y="196"/>
                  </a:lnTo>
                  <a:lnTo>
                    <a:pt x="2514" y="207"/>
                  </a:lnTo>
                  <a:lnTo>
                    <a:pt x="2514" y="213"/>
                  </a:lnTo>
                  <a:lnTo>
                    <a:pt x="2514" y="218"/>
                  </a:lnTo>
                  <a:lnTo>
                    <a:pt x="2514" y="229"/>
                  </a:lnTo>
                  <a:lnTo>
                    <a:pt x="2508" y="234"/>
                  </a:lnTo>
                  <a:lnTo>
                    <a:pt x="2508" y="245"/>
                  </a:lnTo>
                  <a:lnTo>
                    <a:pt x="2514" y="251"/>
                  </a:lnTo>
                  <a:lnTo>
                    <a:pt x="2514" y="256"/>
                  </a:lnTo>
                  <a:lnTo>
                    <a:pt x="2514" y="267"/>
                  </a:lnTo>
                  <a:lnTo>
                    <a:pt x="2514" y="272"/>
                  </a:lnTo>
                  <a:lnTo>
                    <a:pt x="2514" y="278"/>
                  </a:lnTo>
                  <a:lnTo>
                    <a:pt x="2514" y="289"/>
                  </a:lnTo>
                  <a:lnTo>
                    <a:pt x="2514" y="294"/>
                  </a:lnTo>
                  <a:lnTo>
                    <a:pt x="2514" y="300"/>
                  </a:lnTo>
                  <a:lnTo>
                    <a:pt x="2525" y="305"/>
                  </a:lnTo>
                  <a:lnTo>
                    <a:pt x="2541" y="305"/>
                  </a:lnTo>
                  <a:lnTo>
                    <a:pt x="2546" y="305"/>
                  </a:lnTo>
                  <a:lnTo>
                    <a:pt x="2552" y="294"/>
                  </a:lnTo>
                  <a:lnTo>
                    <a:pt x="2552" y="289"/>
                  </a:lnTo>
                  <a:lnTo>
                    <a:pt x="2557" y="283"/>
                  </a:lnTo>
                  <a:lnTo>
                    <a:pt x="2563" y="278"/>
                  </a:lnTo>
                  <a:lnTo>
                    <a:pt x="2574" y="272"/>
                  </a:lnTo>
                  <a:lnTo>
                    <a:pt x="2579" y="267"/>
                  </a:lnTo>
                  <a:lnTo>
                    <a:pt x="2585" y="262"/>
                  </a:lnTo>
                  <a:lnTo>
                    <a:pt x="2590" y="251"/>
                  </a:lnTo>
                  <a:lnTo>
                    <a:pt x="2596" y="245"/>
                  </a:lnTo>
                  <a:lnTo>
                    <a:pt x="2601" y="234"/>
                  </a:lnTo>
                  <a:lnTo>
                    <a:pt x="2606" y="229"/>
                  </a:lnTo>
                  <a:lnTo>
                    <a:pt x="2612" y="229"/>
                  </a:lnTo>
                  <a:lnTo>
                    <a:pt x="2617" y="229"/>
                  </a:lnTo>
                  <a:lnTo>
                    <a:pt x="2623" y="234"/>
                  </a:lnTo>
                  <a:lnTo>
                    <a:pt x="2628" y="245"/>
                  </a:lnTo>
                  <a:lnTo>
                    <a:pt x="2634" y="251"/>
                  </a:lnTo>
                  <a:lnTo>
                    <a:pt x="2634" y="262"/>
                  </a:lnTo>
                  <a:lnTo>
                    <a:pt x="2634" y="267"/>
                  </a:lnTo>
                  <a:lnTo>
                    <a:pt x="2634" y="278"/>
                  </a:lnTo>
                  <a:lnTo>
                    <a:pt x="2628" y="283"/>
                  </a:lnTo>
                  <a:lnTo>
                    <a:pt x="2623" y="289"/>
                  </a:lnTo>
                  <a:lnTo>
                    <a:pt x="2612" y="294"/>
                  </a:lnTo>
                  <a:lnTo>
                    <a:pt x="2606" y="300"/>
                  </a:lnTo>
                  <a:lnTo>
                    <a:pt x="2601" y="305"/>
                  </a:lnTo>
                  <a:lnTo>
                    <a:pt x="2596" y="311"/>
                  </a:lnTo>
                  <a:lnTo>
                    <a:pt x="2590" y="316"/>
                  </a:lnTo>
                  <a:lnTo>
                    <a:pt x="2585" y="327"/>
                  </a:lnTo>
                  <a:lnTo>
                    <a:pt x="2585" y="332"/>
                  </a:lnTo>
                  <a:lnTo>
                    <a:pt x="2579" y="338"/>
                  </a:lnTo>
                  <a:lnTo>
                    <a:pt x="2574" y="343"/>
                  </a:lnTo>
                  <a:lnTo>
                    <a:pt x="2563" y="349"/>
                  </a:lnTo>
                  <a:lnTo>
                    <a:pt x="2557" y="354"/>
                  </a:lnTo>
                  <a:lnTo>
                    <a:pt x="2557" y="365"/>
                  </a:lnTo>
                  <a:lnTo>
                    <a:pt x="2552" y="371"/>
                  </a:lnTo>
                  <a:lnTo>
                    <a:pt x="2546" y="376"/>
                  </a:lnTo>
                  <a:lnTo>
                    <a:pt x="2541" y="381"/>
                  </a:lnTo>
                  <a:lnTo>
                    <a:pt x="2530" y="387"/>
                  </a:lnTo>
                  <a:lnTo>
                    <a:pt x="2525" y="392"/>
                  </a:lnTo>
                  <a:lnTo>
                    <a:pt x="2514" y="398"/>
                  </a:lnTo>
                  <a:lnTo>
                    <a:pt x="2503" y="398"/>
                  </a:lnTo>
                  <a:lnTo>
                    <a:pt x="2492" y="398"/>
                  </a:lnTo>
                  <a:lnTo>
                    <a:pt x="2481" y="398"/>
                  </a:lnTo>
                  <a:lnTo>
                    <a:pt x="2470" y="403"/>
                  </a:lnTo>
                  <a:lnTo>
                    <a:pt x="2459" y="409"/>
                  </a:lnTo>
                  <a:lnTo>
                    <a:pt x="2454" y="409"/>
                  </a:lnTo>
                  <a:lnTo>
                    <a:pt x="2443" y="414"/>
                  </a:lnTo>
                  <a:lnTo>
                    <a:pt x="2432" y="414"/>
                  </a:lnTo>
                  <a:lnTo>
                    <a:pt x="2421" y="414"/>
                  </a:lnTo>
                  <a:lnTo>
                    <a:pt x="2405" y="414"/>
                  </a:lnTo>
                  <a:lnTo>
                    <a:pt x="2394" y="414"/>
                  </a:lnTo>
                  <a:lnTo>
                    <a:pt x="2383" y="414"/>
                  </a:lnTo>
                  <a:lnTo>
                    <a:pt x="2372" y="414"/>
                  </a:lnTo>
                  <a:lnTo>
                    <a:pt x="2361" y="414"/>
                  </a:lnTo>
                  <a:lnTo>
                    <a:pt x="2350" y="414"/>
                  </a:lnTo>
                  <a:lnTo>
                    <a:pt x="2339" y="414"/>
                  </a:lnTo>
                  <a:lnTo>
                    <a:pt x="2328" y="414"/>
                  </a:lnTo>
                  <a:lnTo>
                    <a:pt x="2317" y="414"/>
                  </a:lnTo>
                  <a:lnTo>
                    <a:pt x="2307" y="414"/>
                  </a:lnTo>
                  <a:lnTo>
                    <a:pt x="2296" y="414"/>
                  </a:lnTo>
                  <a:lnTo>
                    <a:pt x="2285" y="414"/>
                  </a:lnTo>
                  <a:lnTo>
                    <a:pt x="2274" y="414"/>
                  </a:lnTo>
                  <a:lnTo>
                    <a:pt x="2263" y="414"/>
                  </a:lnTo>
                  <a:lnTo>
                    <a:pt x="2252" y="414"/>
                  </a:lnTo>
                  <a:lnTo>
                    <a:pt x="2241" y="414"/>
                  </a:lnTo>
                  <a:lnTo>
                    <a:pt x="2225" y="420"/>
                  </a:lnTo>
                  <a:lnTo>
                    <a:pt x="2214" y="420"/>
                  </a:lnTo>
                  <a:lnTo>
                    <a:pt x="2203" y="420"/>
                  </a:lnTo>
                  <a:lnTo>
                    <a:pt x="2192" y="420"/>
                  </a:lnTo>
                  <a:lnTo>
                    <a:pt x="2181" y="420"/>
                  </a:lnTo>
                  <a:lnTo>
                    <a:pt x="2170" y="420"/>
                  </a:lnTo>
                  <a:lnTo>
                    <a:pt x="2159" y="420"/>
                  </a:lnTo>
                  <a:lnTo>
                    <a:pt x="2148" y="420"/>
                  </a:lnTo>
                  <a:lnTo>
                    <a:pt x="2138" y="420"/>
                  </a:lnTo>
                  <a:lnTo>
                    <a:pt x="2127" y="425"/>
                  </a:lnTo>
                  <a:lnTo>
                    <a:pt x="2116" y="431"/>
                  </a:lnTo>
                  <a:lnTo>
                    <a:pt x="2110" y="436"/>
                  </a:lnTo>
                  <a:lnTo>
                    <a:pt x="2099" y="436"/>
                  </a:lnTo>
                  <a:lnTo>
                    <a:pt x="2088" y="436"/>
                  </a:lnTo>
                  <a:lnTo>
                    <a:pt x="2083" y="431"/>
                  </a:lnTo>
                  <a:lnTo>
                    <a:pt x="2072" y="425"/>
                  </a:lnTo>
                  <a:lnTo>
                    <a:pt x="2061" y="420"/>
                  </a:lnTo>
                  <a:lnTo>
                    <a:pt x="2056" y="414"/>
                  </a:lnTo>
                  <a:lnTo>
                    <a:pt x="2045" y="409"/>
                  </a:lnTo>
                  <a:lnTo>
                    <a:pt x="2039" y="403"/>
                  </a:lnTo>
                  <a:lnTo>
                    <a:pt x="2029" y="398"/>
                  </a:lnTo>
                  <a:lnTo>
                    <a:pt x="2018" y="398"/>
                  </a:lnTo>
                  <a:lnTo>
                    <a:pt x="2007" y="392"/>
                  </a:lnTo>
                  <a:lnTo>
                    <a:pt x="2001" y="392"/>
                  </a:lnTo>
                  <a:lnTo>
                    <a:pt x="1990" y="387"/>
                  </a:lnTo>
                  <a:lnTo>
                    <a:pt x="1979" y="381"/>
                  </a:lnTo>
                  <a:lnTo>
                    <a:pt x="1974" y="376"/>
                  </a:lnTo>
                  <a:lnTo>
                    <a:pt x="1963" y="371"/>
                  </a:lnTo>
                  <a:lnTo>
                    <a:pt x="1952" y="371"/>
                  </a:lnTo>
                  <a:lnTo>
                    <a:pt x="1947" y="365"/>
                  </a:lnTo>
                  <a:lnTo>
                    <a:pt x="1936" y="360"/>
                  </a:lnTo>
                  <a:lnTo>
                    <a:pt x="1925" y="354"/>
                  </a:lnTo>
                  <a:lnTo>
                    <a:pt x="1914" y="354"/>
                  </a:lnTo>
                  <a:lnTo>
                    <a:pt x="1903" y="354"/>
                  </a:lnTo>
                  <a:lnTo>
                    <a:pt x="1892" y="360"/>
                  </a:lnTo>
                  <a:lnTo>
                    <a:pt x="1881" y="365"/>
                  </a:lnTo>
                  <a:lnTo>
                    <a:pt x="1870" y="365"/>
                  </a:lnTo>
                  <a:lnTo>
                    <a:pt x="1865" y="371"/>
                  </a:lnTo>
                  <a:lnTo>
                    <a:pt x="1854" y="376"/>
                  </a:lnTo>
                  <a:lnTo>
                    <a:pt x="1843" y="381"/>
                  </a:lnTo>
                  <a:lnTo>
                    <a:pt x="1832" y="381"/>
                  </a:lnTo>
                  <a:lnTo>
                    <a:pt x="1821" y="381"/>
                  </a:lnTo>
                  <a:lnTo>
                    <a:pt x="1810" y="387"/>
                  </a:lnTo>
                  <a:lnTo>
                    <a:pt x="1805" y="387"/>
                  </a:lnTo>
                  <a:lnTo>
                    <a:pt x="1794" y="392"/>
                  </a:lnTo>
                  <a:lnTo>
                    <a:pt x="1783" y="398"/>
                  </a:lnTo>
                  <a:lnTo>
                    <a:pt x="1778" y="403"/>
                  </a:lnTo>
                  <a:lnTo>
                    <a:pt x="1767" y="403"/>
                  </a:lnTo>
                  <a:lnTo>
                    <a:pt x="1756" y="409"/>
                  </a:lnTo>
                  <a:lnTo>
                    <a:pt x="1745" y="409"/>
                  </a:lnTo>
                  <a:lnTo>
                    <a:pt x="1734" y="409"/>
                  </a:lnTo>
                  <a:lnTo>
                    <a:pt x="1723" y="409"/>
                  </a:lnTo>
                  <a:lnTo>
                    <a:pt x="1712" y="414"/>
                  </a:lnTo>
                  <a:lnTo>
                    <a:pt x="1701" y="420"/>
                  </a:lnTo>
                  <a:lnTo>
                    <a:pt x="1696" y="420"/>
                  </a:lnTo>
                  <a:lnTo>
                    <a:pt x="1685" y="425"/>
                  </a:lnTo>
                  <a:lnTo>
                    <a:pt x="1674" y="431"/>
                  </a:lnTo>
                  <a:lnTo>
                    <a:pt x="1663" y="431"/>
                  </a:lnTo>
                  <a:lnTo>
                    <a:pt x="1652" y="425"/>
                  </a:lnTo>
                  <a:lnTo>
                    <a:pt x="1647" y="420"/>
                  </a:lnTo>
                  <a:lnTo>
                    <a:pt x="1641" y="414"/>
                  </a:lnTo>
                  <a:lnTo>
                    <a:pt x="1630" y="409"/>
                  </a:lnTo>
                  <a:lnTo>
                    <a:pt x="1620" y="409"/>
                  </a:lnTo>
                  <a:lnTo>
                    <a:pt x="1609" y="409"/>
                  </a:lnTo>
                  <a:lnTo>
                    <a:pt x="1598" y="414"/>
                  </a:lnTo>
                  <a:lnTo>
                    <a:pt x="1598" y="425"/>
                  </a:lnTo>
                  <a:lnTo>
                    <a:pt x="1592" y="431"/>
                  </a:lnTo>
                  <a:lnTo>
                    <a:pt x="1581" y="431"/>
                  </a:lnTo>
                  <a:lnTo>
                    <a:pt x="1571" y="431"/>
                  </a:lnTo>
                  <a:lnTo>
                    <a:pt x="1554" y="431"/>
                  </a:lnTo>
                  <a:lnTo>
                    <a:pt x="1543" y="431"/>
                  </a:lnTo>
                  <a:lnTo>
                    <a:pt x="1532" y="431"/>
                  </a:lnTo>
                  <a:lnTo>
                    <a:pt x="1527" y="436"/>
                  </a:lnTo>
                  <a:lnTo>
                    <a:pt x="1516" y="441"/>
                  </a:lnTo>
                  <a:lnTo>
                    <a:pt x="1505" y="447"/>
                  </a:lnTo>
                  <a:lnTo>
                    <a:pt x="1500" y="452"/>
                  </a:lnTo>
                  <a:lnTo>
                    <a:pt x="1494" y="458"/>
                  </a:lnTo>
                  <a:lnTo>
                    <a:pt x="1489" y="463"/>
                  </a:lnTo>
                  <a:lnTo>
                    <a:pt x="1483" y="469"/>
                  </a:lnTo>
                  <a:lnTo>
                    <a:pt x="1478" y="480"/>
                  </a:lnTo>
                  <a:lnTo>
                    <a:pt x="1472" y="485"/>
                  </a:lnTo>
                  <a:lnTo>
                    <a:pt x="1472" y="490"/>
                  </a:lnTo>
                  <a:lnTo>
                    <a:pt x="1478" y="496"/>
                  </a:lnTo>
                  <a:lnTo>
                    <a:pt x="1478" y="507"/>
                  </a:lnTo>
                  <a:lnTo>
                    <a:pt x="1478" y="512"/>
                  </a:lnTo>
                  <a:lnTo>
                    <a:pt x="1472" y="523"/>
                  </a:lnTo>
                  <a:lnTo>
                    <a:pt x="1467" y="529"/>
                  </a:lnTo>
                  <a:lnTo>
                    <a:pt x="1461" y="534"/>
                  </a:lnTo>
                  <a:lnTo>
                    <a:pt x="1451" y="540"/>
                  </a:lnTo>
                  <a:lnTo>
                    <a:pt x="1445" y="545"/>
                  </a:lnTo>
                  <a:lnTo>
                    <a:pt x="1440" y="550"/>
                  </a:lnTo>
                  <a:lnTo>
                    <a:pt x="1440" y="556"/>
                  </a:lnTo>
                  <a:lnTo>
                    <a:pt x="1440" y="567"/>
                  </a:lnTo>
                  <a:lnTo>
                    <a:pt x="1440" y="572"/>
                  </a:lnTo>
                  <a:lnTo>
                    <a:pt x="1440" y="578"/>
                  </a:lnTo>
                  <a:lnTo>
                    <a:pt x="1434" y="589"/>
                  </a:lnTo>
                  <a:lnTo>
                    <a:pt x="1429" y="594"/>
                  </a:lnTo>
                  <a:lnTo>
                    <a:pt x="1423" y="599"/>
                  </a:lnTo>
                  <a:lnTo>
                    <a:pt x="1418" y="605"/>
                  </a:lnTo>
                  <a:lnTo>
                    <a:pt x="1412" y="610"/>
                  </a:lnTo>
                  <a:lnTo>
                    <a:pt x="1407" y="621"/>
                  </a:lnTo>
                  <a:lnTo>
                    <a:pt x="1407" y="627"/>
                  </a:lnTo>
                  <a:lnTo>
                    <a:pt x="1407" y="632"/>
                  </a:lnTo>
                  <a:lnTo>
                    <a:pt x="1407" y="643"/>
                  </a:lnTo>
                  <a:lnTo>
                    <a:pt x="1407" y="649"/>
                  </a:lnTo>
                  <a:lnTo>
                    <a:pt x="1407" y="659"/>
                  </a:lnTo>
                  <a:lnTo>
                    <a:pt x="1401" y="665"/>
                  </a:lnTo>
                  <a:lnTo>
                    <a:pt x="1391" y="670"/>
                  </a:lnTo>
                  <a:lnTo>
                    <a:pt x="1385" y="670"/>
                  </a:lnTo>
                  <a:lnTo>
                    <a:pt x="1380" y="681"/>
                  </a:lnTo>
                  <a:lnTo>
                    <a:pt x="1374" y="687"/>
                  </a:lnTo>
                  <a:lnTo>
                    <a:pt x="1369" y="692"/>
                  </a:lnTo>
                  <a:lnTo>
                    <a:pt x="1358" y="692"/>
                  </a:lnTo>
                  <a:lnTo>
                    <a:pt x="1347" y="687"/>
                  </a:lnTo>
                  <a:lnTo>
                    <a:pt x="1336" y="687"/>
                  </a:lnTo>
                  <a:lnTo>
                    <a:pt x="1331" y="692"/>
                  </a:lnTo>
                  <a:lnTo>
                    <a:pt x="1325" y="698"/>
                  </a:lnTo>
                  <a:lnTo>
                    <a:pt x="1320" y="708"/>
                  </a:lnTo>
                  <a:lnTo>
                    <a:pt x="1320" y="714"/>
                  </a:lnTo>
                  <a:lnTo>
                    <a:pt x="1320" y="725"/>
                  </a:lnTo>
                  <a:lnTo>
                    <a:pt x="1325" y="730"/>
                  </a:lnTo>
                  <a:lnTo>
                    <a:pt x="1325" y="736"/>
                  </a:lnTo>
                  <a:lnTo>
                    <a:pt x="1325" y="741"/>
                  </a:lnTo>
                  <a:lnTo>
                    <a:pt x="1325" y="752"/>
                  </a:lnTo>
                  <a:lnTo>
                    <a:pt x="1325" y="758"/>
                  </a:lnTo>
                  <a:lnTo>
                    <a:pt x="1325" y="768"/>
                  </a:lnTo>
                  <a:lnTo>
                    <a:pt x="1320" y="774"/>
                  </a:lnTo>
                  <a:lnTo>
                    <a:pt x="1314" y="785"/>
                  </a:lnTo>
                  <a:lnTo>
                    <a:pt x="1309" y="790"/>
                  </a:lnTo>
                  <a:lnTo>
                    <a:pt x="1309" y="796"/>
                  </a:lnTo>
                  <a:lnTo>
                    <a:pt x="1303" y="790"/>
                  </a:lnTo>
                  <a:lnTo>
                    <a:pt x="1298" y="785"/>
                  </a:lnTo>
                  <a:lnTo>
                    <a:pt x="1292" y="774"/>
                  </a:lnTo>
                  <a:lnTo>
                    <a:pt x="1292" y="768"/>
                  </a:lnTo>
                  <a:lnTo>
                    <a:pt x="1292" y="758"/>
                  </a:lnTo>
                  <a:lnTo>
                    <a:pt x="1292" y="752"/>
                  </a:lnTo>
                  <a:lnTo>
                    <a:pt x="1292" y="747"/>
                  </a:lnTo>
                  <a:lnTo>
                    <a:pt x="1292" y="736"/>
                  </a:lnTo>
                  <a:lnTo>
                    <a:pt x="1298" y="730"/>
                  </a:lnTo>
                  <a:lnTo>
                    <a:pt x="1298" y="725"/>
                  </a:lnTo>
                  <a:lnTo>
                    <a:pt x="1298" y="714"/>
                  </a:lnTo>
                  <a:lnTo>
                    <a:pt x="1298" y="708"/>
                  </a:lnTo>
                  <a:lnTo>
                    <a:pt x="1298" y="703"/>
                  </a:lnTo>
                  <a:lnTo>
                    <a:pt x="1298" y="692"/>
                  </a:lnTo>
                  <a:lnTo>
                    <a:pt x="1298" y="687"/>
                  </a:lnTo>
                  <a:lnTo>
                    <a:pt x="1298" y="681"/>
                  </a:lnTo>
                  <a:lnTo>
                    <a:pt x="1303" y="670"/>
                  </a:lnTo>
                  <a:lnTo>
                    <a:pt x="1314" y="665"/>
                  </a:lnTo>
                  <a:lnTo>
                    <a:pt x="1320" y="659"/>
                  </a:lnTo>
                  <a:lnTo>
                    <a:pt x="1325" y="654"/>
                  </a:lnTo>
                  <a:lnTo>
                    <a:pt x="1325" y="649"/>
                  </a:lnTo>
                  <a:lnTo>
                    <a:pt x="1331" y="638"/>
                  </a:lnTo>
                  <a:lnTo>
                    <a:pt x="1331" y="632"/>
                  </a:lnTo>
                  <a:lnTo>
                    <a:pt x="1325" y="627"/>
                  </a:lnTo>
                  <a:lnTo>
                    <a:pt x="1325" y="616"/>
                  </a:lnTo>
                  <a:lnTo>
                    <a:pt x="1325" y="610"/>
                  </a:lnTo>
                  <a:lnTo>
                    <a:pt x="1331" y="605"/>
                  </a:lnTo>
                  <a:lnTo>
                    <a:pt x="1336" y="599"/>
                  </a:lnTo>
                  <a:lnTo>
                    <a:pt x="1347" y="594"/>
                  </a:lnTo>
                  <a:lnTo>
                    <a:pt x="1352" y="583"/>
                  </a:lnTo>
                  <a:lnTo>
                    <a:pt x="1358" y="578"/>
                  </a:lnTo>
                  <a:lnTo>
                    <a:pt x="1358" y="572"/>
                  </a:lnTo>
                  <a:lnTo>
                    <a:pt x="1358" y="567"/>
                  </a:lnTo>
                  <a:lnTo>
                    <a:pt x="1358" y="556"/>
                  </a:lnTo>
                  <a:lnTo>
                    <a:pt x="1352" y="550"/>
                  </a:lnTo>
                  <a:lnTo>
                    <a:pt x="1352" y="545"/>
                  </a:lnTo>
                  <a:lnTo>
                    <a:pt x="1358" y="540"/>
                  </a:lnTo>
                  <a:lnTo>
                    <a:pt x="1363" y="529"/>
                  </a:lnTo>
                  <a:lnTo>
                    <a:pt x="1369" y="523"/>
                  </a:lnTo>
                  <a:lnTo>
                    <a:pt x="1380" y="518"/>
                  </a:lnTo>
                  <a:lnTo>
                    <a:pt x="1385" y="512"/>
                  </a:lnTo>
                  <a:lnTo>
                    <a:pt x="1391" y="507"/>
                  </a:lnTo>
                  <a:lnTo>
                    <a:pt x="1391" y="501"/>
                  </a:lnTo>
                  <a:lnTo>
                    <a:pt x="1385" y="496"/>
                  </a:lnTo>
                  <a:lnTo>
                    <a:pt x="1385" y="485"/>
                  </a:lnTo>
                  <a:lnTo>
                    <a:pt x="1380" y="480"/>
                  </a:lnTo>
                  <a:lnTo>
                    <a:pt x="1374" y="469"/>
                  </a:lnTo>
                  <a:lnTo>
                    <a:pt x="1374" y="458"/>
                  </a:lnTo>
                  <a:lnTo>
                    <a:pt x="1374" y="452"/>
                  </a:lnTo>
                  <a:lnTo>
                    <a:pt x="1369" y="452"/>
                  </a:lnTo>
                  <a:lnTo>
                    <a:pt x="1363" y="452"/>
                  </a:lnTo>
                  <a:lnTo>
                    <a:pt x="1363" y="458"/>
                  </a:lnTo>
                  <a:lnTo>
                    <a:pt x="1358" y="469"/>
                  </a:lnTo>
                  <a:lnTo>
                    <a:pt x="1352" y="474"/>
                  </a:lnTo>
                  <a:lnTo>
                    <a:pt x="1347" y="485"/>
                  </a:lnTo>
                  <a:lnTo>
                    <a:pt x="1342" y="490"/>
                  </a:lnTo>
                  <a:lnTo>
                    <a:pt x="1336" y="496"/>
                  </a:lnTo>
                  <a:lnTo>
                    <a:pt x="1331" y="501"/>
                  </a:lnTo>
                  <a:lnTo>
                    <a:pt x="1320" y="507"/>
                  </a:lnTo>
                  <a:lnTo>
                    <a:pt x="1320" y="512"/>
                  </a:lnTo>
                  <a:lnTo>
                    <a:pt x="1314" y="523"/>
                  </a:lnTo>
                  <a:lnTo>
                    <a:pt x="1314" y="529"/>
                  </a:lnTo>
                  <a:lnTo>
                    <a:pt x="1314" y="534"/>
                  </a:lnTo>
                  <a:lnTo>
                    <a:pt x="1314" y="545"/>
                  </a:lnTo>
                  <a:lnTo>
                    <a:pt x="1309" y="550"/>
                  </a:lnTo>
                  <a:lnTo>
                    <a:pt x="1298" y="556"/>
                  </a:lnTo>
                  <a:lnTo>
                    <a:pt x="1292" y="561"/>
                  </a:lnTo>
                  <a:lnTo>
                    <a:pt x="1287" y="567"/>
                  </a:lnTo>
                  <a:lnTo>
                    <a:pt x="1287" y="572"/>
                  </a:lnTo>
                  <a:lnTo>
                    <a:pt x="1282" y="583"/>
                  </a:lnTo>
                  <a:lnTo>
                    <a:pt x="1282" y="589"/>
                  </a:lnTo>
                  <a:lnTo>
                    <a:pt x="1282" y="599"/>
                  </a:lnTo>
                  <a:lnTo>
                    <a:pt x="1276" y="605"/>
                  </a:lnTo>
                  <a:lnTo>
                    <a:pt x="1271" y="610"/>
                  </a:lnTo>
                  <a:lnTo>
                    <a:pt x="1265" y="616"/>
                  </a:lnTo>
                  <a:lnTo>
                    <a:pt x="1265" y="621"/>
                  </a:lnTo>
                  <a:lnTo>
                    <a:pt x="1260" y="632"/>
                  </a:lnTo>
                  <a:lnTo>
                    <a:pt x="1254" y="638"/>
                  </a:lnTo>
                  <a:lnTo>
                    <a:pt x="1254" y="643"/>
                  </a:lnTo>
                  <a:lnTo>
                    <a:pt x="1254" y="654"/>
                  </a:lnTo>
                  <a:lnTo>
                    <a:pt x="1254" y="659"/>
                  </a:lnTo>
                  <a:lnTo>
                    <a:pt x="1249" y="665"/>
                  </a:lnTo>
                  <a:lnTo>
                    <a:pt x="1249" y="676"/>
                  </a:lnTo>
                  <a:lnTo>
                    <a:pt x="1249" y="681"/>
                  </a:lnTo>
                  <a:lnTo>
                    <a:pt x="1249" y="687"/>
                  </a:lnTo>
                  <a:lnTo>
                    <a:pt x="1243" y="698"/>
                  </a:lnTo>
                  <a:lnTo>
                    <a:pt x="1243" y="703"/>
                  </a:lnTo>
                  <a:lnTo>
                    <a:pt x="1243" y="708"/>
                  </a:lnTo>
                  <a:lnTo>
                    <a:pt x="1243" y="719"/>
                  </a:lnTo>
                  <a:lnTo>
                    <a:pt x="1238" y="725"/>
                  </a:lnTo>
                  <a:lnTo>
                    <a:pt x="1232" y="730"/>
                  </a:lnTo>
                  <a:lnTo>
                    <a:pt x="1227" y="736"/>
                  </a:lnTo>
                  <a:lnTo>
                    <a:pt x="1227" y="747"/>
                  </a:lnTo>
                  <a:lnTo>
                    <a:pt x="1222" y="752"/>
                  </a:lnTo>
                  <a:lnTo>
                    <a:pt x="1222" y="758"/>
                  </a:lnTo>
                  <a:lnTo>
                    <a:pt x="1222" y="768"/>
                  </a:lnTo>
                  <a:lnTo>
                    <a:pt x="1222" y="774"/>
                  </a:lnTo>
                  <a:lnTo>
                    <a:pt x="1216" y="779"/>
                  </a:lnTo>
                  <a:lnTo>
                    <a:pt x="1216" y="790"/>
                  </a:lnTo>
                  <a:lnTo>
                    <a:pt x="1216" y="796"/>
                  </a:lnTo>
                  <a:lnTo>
                    <a:pt x="1216" y="801"/>
                  </a:lnTo>
                  <a:lnTo>
                    <a:pt x="1216" y="807"/>
                  </a:lnTo>
                  <a:lnTo>
                    <a:pt x="1211" y="817"/>
                  </a:lnTo>
                  <a:lnTo>
                    <a:pt x="1211" y="823"/>
                  </a:lnTo>
                  <a:lnTo>
                    <a:pt x="1211" y="834"/>
                  </a:lnTo>
                  <a:lnTo>
                    <a:pt x="1211" y="839"/>
                  </a:lnTo>
                  <a:lnTo>
                    <a:pt x="1211" y="850"/>
                  </a:lnTo>
                  <a:lnTo>
                    <a:pt x="1211" y="856"/>
                  </a:lnTo>
                  <a:lnTo>
                    <a:pt x="1211" y="861"/>
                  </a:lnTo>
                  <a:lnTo>
                    <a:pt x="1205" y="856"/>
                  </a:lnTo>
                  <a:lnTo>
                    <a:pt x="1200" y="850"/>
                  </a:lnTo>
                  <a:lnTo>
                    <a:pt x="1194" y="845"/>
                  </a:lnTo>
                  <a:lnTo>
                    <a:pt x="1189" y="828"/>
                  </a:lnTo>
                  <a:close/>
                  <a:moveTo>
                    <a:pt x="1145" y="703"/>
                  </a:moveTo>
                  <a:lnTo>
                    <a:pt x="1145" y="698"/>
                  </a:lnTo>
                  <a:lnTo>
                    <a:pt x="1145" y="698"/>
                  </a:lnTo>
                  <a:lnTo>
                    <a:pt x="1145" y="698"/>
                  </a:lnTo>
                  <a:lnTo>
                    <a:pt x="1145" y="698"/>
                  </a:lnTo>
                  <a:lnTo>
                    <a:pt x="1145" y="698"/>
                  </a:lnTo>
                  <a:lnTo>
                    <a:pt x="1151" y="698"/>
                  </a:lnTo>
                  <a:lnTo>
                    <a:pt x="1151" y="698"/>
                  </a:lnTo>
                  <a:lnTo>
                    <a:pt x="1151" y="703"/>
                  </a:lnTo>
                  <a:lnTo>
                    <a:pt x="1151" y="703"/>
                  </a:lnTo>
                  <a:lnTo>
                    <a:pt x="1151" y="703"/>
                  </a:lnTo>
                  <a:lnTo>
                    <a:pt x="1145" y="708"/>
                  </a:lnTo>
                  <a:lnTo>
                    <a:pt x="1145" y="708"/>
                  </a:lnTo>
                  <a:lnTo>
                    <a:pt x="1145" y="703"/>
                  </a:lnTo>
                  <a:lnTo>
                    <a:pt x="1145" y="703"/>
                  </a:lnTo>
                  <a:close/>
                  <a:moveTo>
                    <a:pt x="1391" y="638"/>
                  </a:moveTo>
                  <a:lnTo>
                    <a:pt x="1380" y="627"/>
                  </a:lnTo>
                  <a:lnTo>
                    <a:pt x="1374" y="621"/>
                  </a:lnTo>
                  <a:lnTo>
                    <a:pt x="1369" y="616"/>
                  </a:lnTo>
                  <a:lnTo>
                    <a:pt x="1369" y="621"/>
                  </a:lnTo>
                  <a:lnTo>
                    <a:pt x="1363" y="627"/>
                  </a:lnTo>
                  <a:lnTo>
                    <a:pt x="1363" y="638"/>
                  </a:lnTo>
                  <a:lnTo>
                    <a:pt x="1363" y="649"/>
                  </a:lnTo>
                  <a:lnTo>
                    <a:pt x="1363" y="654"/>
                  </a:lnTo>
                  <a:lnTo>
                    <a:pt x="1369" y="659"/>
                  </a:lnTo>
                  <a:lnTo>
                    <a:pt x="1369" y="665"/>
                  </a:lnTo>
                  <a:lnTo>
                    <a:pt x="1374" y="665"/>
                  </a:lnTo>
                  <a:lnTo>
                    <a:pt x="1380" y="659"/>
                  </a:lnTo>
                  <a:lnTo>
                    <a:pt x="1385" y="649"/>
                  </a:lnTo>
                  <a:lnTo>
                    <a:pt x="1391" y="638"/>
                  </a:lnTo>
                  <a:close/>
                  <a:moveTo>
                    <a:pt x="1412" y="572"/>
                  </a:moveTo>
                  <a:lnTo>
                    <a:pt x="1412" y="567"/>
                  </a:lnTo>
                  <a:lnTo>
                    <a:pt x="1407" y="561"/>
                  </a:lnTo>
                  <a:lnTo>
                    <a:pt x="1407" y="556"/>
                  </a:lnTo>
                  <a:lnTo>
                    <a:pt x="1401" y="556"/>
                  </a:lnTo>
                  <a:lnTo>
                    <a:pt x="1401" y="556"/>
                  </a:lnTo>
                  <a:lnTo>
                    <a:pt x="1396" y="561"/>
                  </a:lnTo>
                  <a:lnTo>
                    <a:pt x="1396" y="567"/>
                  </a:lnTo>
                  <a:lnTo>
                    <a:pt x="1396" y="572"/>
                  </a:lnTo>
                  <a:lnTo>
                    <a:pt x="1396" y="578"/>
                  </a:lnTo>
                  <a:lnTo>
                    <a:pt x="1396" y="583"/>
                  </a:lnTo>
                  <a:lnTo>
                    <a:pt x="1401" y="589"/>
                  </a:lnTo>
                  <a:lnTo>
                    <a:pt x="1407" y="589"/>
                  </a:lnTo>
                  <a:lnTo>
                    <a:pt x="1407" y="583"/>
                  </a:lnTo>
                  <a:lnTo>
                    <a:pt x="1412" y="572"/>
                  </a:lnTo>
                  <a:close/>
                  <a:moveTo>
                    <a:pt x="1701" y="545"/>
                  </a:moveTo>
                  <a:lnTo>
                    <a:pt x="1707" y="540"/>
                  </a:lnTo>
                  <a:lnTo>
                    <a:pt x="1712" y="534"/>
                  </a:lnTo>
                  <a:lnTo>
                    <a:pt x="1712" y="534"/>
                  </a:lnTo>
                  <a:lnTo>
                    <a:pt x="1718" y="534"/>
                  </a:lnTo>
                  <a:lnTo>
                    <a:pt x="1718" y="534"/>
                  </a:lnTo>
                  <a:lnTo>
                    <a:pt x="1723" y="534"/>
                  </a:lnTo>
                  <a:lnTo>
                    <a:pt x="1723" y="540"/>
                  </a:lnTo>
                  <a:lnTo>
                    <a:pt x="1723" y="540"/>
                  </a:lnTo>
                  <a:lnTo>
                    <a:pt x="1723" y="545"/>
                  </a:lnTo>
                  <a:lnTo>
                    <a:pt x="1718" y="545"/>
                  </a:lnTo>
                  <a:lnTo>
                    <a:pt x="1718" y="545"/>
                  </a:lnTo>
                  <a:lnTo>
                    <a:pt x="1712" y="545"/>
                  </a:lnTo>
                  <a:lnTo>
                    <a:pt x="1707" y="545"/>
                  </a:lnTo>
                  <a:lnTo>
                    <a:pt x="1701" y="545"/>
                  </a:lnTo>
                  <a:close/>
                  <a:moveTo>
                    <a:pt x="1401" y="414"/>
                  </a:moveTo>
                  <a:lnTo>
                    <a:pt x="1401" y="414"/>
                  </a:lnTo>
                  <a:lnTo>
                    <a:pt x="1401" y="409"/>
                  </a:lnTo>
                  <a:lnTo>
                    <a:pt x="1401" y="409"/>
                  </a:lnTo>
                  <a:lnTo>
                    <a:pt x="1401" y="409"/>
                  </a:lnTo>
                  <a:lnTo>
                    <a:pt x="1396" y="414"/>
                  </a:lnTo>
                  <a:lnTo>
                    <a:pt x="1396" y="414"/>
                  </a:lnTo>
                  <a:lnTo>
                    <a:pt x="1396" y="420"/>
                  </a:lnTo>
                  <a:lnTo>
                    <a:pt x="1396" y="420"/>
                  </a:lnTo>
                  <a:lnTo>
                    <a:pt x="1401" y="425"/>
                  </a:lnTo>
                  <a:lnTo>
                    <a:pt x="1401" y="425"/>
                  </a:lnTo>
                  <a:lnTo>
                    <a:pt x="1401" y="425"/>
                  </a:lnTo>
                  <a:lnTo>
                    <a:pt x="1401" y="420"/>
                  </a:lnTo>
                  <a:lnTo>
                    <a:pt x="1401" y="420"/>
                  </a:lnTo>
                  <a:lnTo>
                    <a:pt x="1401" y="414"/>
                  </a:lnTo>
                  <a:close/>
                  <a:moveTo>
                    <a:pt x="1102" y="289"/>
                  </a:moveTo>
                  <a:lnTo>
                    <a:pt x="1102" y="283"/>
                  </a:lnTo>
                  <a:lnTo>
                    <a:pt x="1107" y="278"/>
                  </a:lnTo>
                  <a:lnTo>
                    <a:pt x="1113" y="272"/>
                  </a:lnTo>
                  <a:lnTo>
                    <a:pt x="1118" y="267"/>
                  </a:lnTo>
                  <a:lnTo>
                    <a:pt x="1123" y="267"/>
                  </a:lnTo>
                  <a:lnTo>
                    <a:pt x="1129" y="262"/>
                  </a:lnTo>
                  <a:lnTo>
                    <a:pt x="1134" y="256"/>
                  </a:lnTo>
                  <a:lnTo>
                    <a:pt x="1134" y="251"/>
                  </a:lnTo>
                  <a:lnTo>
                    <a:pt x="1140" y="245"/>
                  </a:lnTo>
                  <a:lnTo>
                    <a:pt x="1145" y="240"/>
                  </a:lnTo>
                  <a:lnTo>
                    <a:pt x="1151" y="245"/>
                  </a:lnTo>
                  <a:lnTo>
                    <a:pt x="1156" y="251"/>
                  </a:lnTo>
                  <a:lnTo>
                    <a:pt x="1162" y="256"/>
                  </a:lnTo>
                  <a:lnTo>
                    <a:pt x="1156" y="262"/>
                  </a:lnTo>
                  <a:lnTo>
                    <a:pt x="1156" y="267"/>
                  </a:lnTo>
                  <a:lnTo>
                    <a:pt x="1145" y="267"/>
                  </a:lnTo>
                  <a:lnTo>
                    <a:pt x="1140" y="272"/>
                  </a:lnTo>
                  <a:lnTo>
                    <a:pt x="1140" y="278"/>
                  </a:lnTo>
                  <a:lnTo>
                    <a:pt x="1134" y="283"/>
                  </a:lnTo>
                  <a:lnTo>
                    <a:pt x="1129" y="289"/>
                  </a:lnTo>
                  <a:lnTo>
                    <a:pt x="1123" y="294"/>
                  </a:lnTo>
                  <a:lnTo>
                    <a:pt x="1118" y="300"/>
                  </a:lnTo>
                  <a:lnTo>
                    <a:pt x="1113" y="300"/>
                  </a:lnTo>
                  <a:lnTo>
                    <a:pt x="1107" y="300"/>
                  </a:lnTo>
                  <a:lnTo>
                    <a:pt x="1107" y="294"/>
                  </a:lnTo>
                  <a:lnTo>
                    <a:pt x="1102" y="289"/>
                  </a:lnTo>
                  <a:close/>
                  <a:moveTo>
                    <a:pt x="1183" y="223"/>
                  </a:moveTo>
                  <a:lnTo>
                    <a:pt x="1194" y="213"/>
                  </a:lnTo>
                  <a:lnTo>
                    <a:pt x="1200" y="207"/>
                  </a:lnTo>
                  <a:lnTo>
                    <a:pt x="1205" y="202"/>
                  </a:lnTo>
                  <a:lnTo>
                    <a:pt x="1216" y="202"/>
                  </a:lnTo>
                  <a:lnTo>
                    <a:pt x="1222" y="207"/>
                  </a:lnTo>
                  <a:lnTo>
                    <a:pt x="1227" y="218"/>
                  </a:lnTo>
                  <a:lnTo>
                    <a:pt x="1232" y="223"/>
                  </a:lnTo>
                  <a:lnTo>
                    <a:pt x="1227" y="234"/>
                  </a:lnTo>
                  <a:lnTo>
                    <a:pt x="1222" y="240"/>
                  </a:lnTo>
                  <a:lnTo>
                    <a:pt x="1211" y="245"/>
                  </a:lnTo>
                  <a:lnTo>
                    <a:pt x="1205" y="245"/>
                  </a:lnTo>
                  <a:lnTo>
                    <a:pt x="1200" y="240"/>
                  </a:lnTo>
                  <a:lnTo>
                    <a:pt x="1194" y="234"/>
                  </a:lnTo>
                  <a:lnTo>
                    <a:pt x="1183" y="223"/>
                  </a:lnTo>
                  <a:close/>
                  <a:moveTo>
                    <a:pt x="1919" y="98"/>
                  </a:moveTo>
                  <a:lnTo>
                    <a:pt x="1914" y="87"/>
                  </a:lnTo>
                  <a:lnTo>
                    <a:pt x="1914" y="82"/>
                  </a:lnTo>
                  <a:lnTo>
                    <a:pt x="1914" y="76"/>
                  </a:lnTo>
                  <a:lnTo>
                    <a:pt x="1914" y="71"/>
                  </a:lnTo>
                  <a:lnTo>
                    <a:pt x="1909" y="71"/>
                  </a:lnTo>
                  <a:lnTo>
                    <a:pt x="1909" y="71"/>
                  </a:lnTo>
                  <a:lnTo>
                    <a:pt x="1909" y="71"/>
                  </a:lnTo>
                  <a:lnTo>
                    <a:pt x="1909" y="76"/>
                  </a:lnTo>
                  <a:lnTo>
                    <a:pt x="1909" y="82"/>
                  </a:lnTo>
                  <a:lnTo>
                    <a:pt x="1909" y="87"/>
                  </a:lnTo>
                  <a:lnTo>
                    <a:pt x="1909" y="93"/>
                  </a:lnTo>
                  <a:lnTo>
                    <a:pt x="1909" y="98"/>
                  </a:lnTo>
                  <a:lnTo>
                    <a:pt x="1914" y="98"/>
                  </a:lnTo>
                  <a:lnTo>
                    <a:pt x="1919" y="98"/>
                  </a:lnTo>
                  <a:close/>
                </a:path>
              </a:pathLst>
            </a:custGeom>
            <a:solidFill>
              <a:srgbClr val="4bc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2" name=""/>
            <p:cNvSpPr/>
            <p:nvPr/>
          </p:nvSpPr>
          <p:spPr>
            <a:xfrm>
              <a:off x="1741320" y="2514600"/>
              <a:ext cx="4899240" cy="3139920"/>
            </a:xfrm>
            <a:custGeom>
              <a:avLst/>
              <a:gdLst/>
              <a:ahLst/>
              <a:rect l="l" t="t" r="r" b="b"/>
              <a:pathLst>
                <a:path w="3086" h="1978">
                  <a:moveTo>
                    <a:pt x="2672" y="1978"/>
                  </a:moveTo>
                  <a:lnTo>
                    <a:pt x="2705" y="1946"/>
                  </a:lnTo>
                  <a:lnTo>
                    <a:pt x="2737" y="1946"/>
                  </a:lnTo>
                  <a:lnTo>
                    <a:pt x="2770" y="1946"/>
                  </a:lnTo>
                  <a:lnTo>
                    <a:pt x="2797" y="1946"/>
                  </a:lnTo>
                  <a:lnTo>
                    <a:pt x="2830" y="1946"/>
                  </a:lnTo>
                  <a:lnTo>
                    <a:pt x="2863" y="1946"/>
                  </a:lnTo>
                  <a:lnTo>
                    <a:pt x="2895" y="1946"/>
                  </a:lnTo>
                  <a:lnTo>
                    <a:pt x="2928" y="1918"/>
                  </a:lnTo>
                  <a:lnTo>
                    <a:pt x="2928" y="1886"/>
                  </a:lnTo>
                  <a:lnTo>
                    <a:pt x="2928" y="1853"/>
                  </a:lnTo>
                  <a:lnTo>
                    <a:pt x="2928" y="1820"/>
                  </a:lnTo>
                  <a:lnTo>
                    <a:pt x="2961" y="1788"/>
                  </a:lnTo>
                  <a:lnTo>
                    <a:pt x="2961" y="1755"/>
                  </a:lnTo>
                  <a:lnTo>
                    <a:pt x="2961" y="1722"/>
                  </a:lnTo>
                  <a:lnTo>
                    <a:pt x="2961" y="1695"/>
                  </a:lnTo>
                  <a:lnTo>
                    <a:pt x="2988" y="1662"/>
                  </a:lnTo>
                  <a:lnTo>
                    <a:pt x="2988" y="1630"/>
                  </a:lnTo>
                  <a:lnTo>
                    <a:pt x="2988" y="1597"/>
                  </a:lnTo>
                  <a:lnTo>
                    <a:pt x="2988" y="1564"/>
                  </a:lnTo>
                  <a:lnTo>
                    <a:pt x="3021" y="1531"/>
                  </a:lnTo>
                  <a:lnTo>
                    <a:pt x="3021" y="1499"/>
                  </a:lnTo>
                  <a:lnTo>
                    <a:pt x="3021" y="1472"/>
                  </a:lnTo>
                  <a:lnTo>
                    <a:pt x="3021" y="1439"/>
                  </a:lnTo>
                  <a:lnTo>
                    <a:pt x="3054" y="1406"/>
                  </a:lnTo>
                  <a:lnTo>
                    <a:pt x="3054" y="1373"/>
                  </a:lnTo>
                  <a:lnTo>
                    <a:pt x="3054" y="1341"/>
                  </a:lnTo>
                  <a:lnTo>
                    <a:pt x="3054" y="1308"/>
                  </a:lnTo>
                  <a:lnTo>
                    <a:pt x="3086" y="1275"/>
                  </a:lnTo>
                  <a:lnTo>
                    <a:pt x="3086" y="1248"/>
                  </a:lnTo>
                  <a:lnTo>
                    <a:pt x="3086" y="1215"/>
                  </a:lnTo>
                  <a:lnTo>
                    <a:pt x="3086" y="1183"/>
                  </a:lnTo>
                  <a:lnTo>
                    <a:pt x="3086" y="1150"/>
                  </a:lnTo>
                  <a:lnTo>
                    <a:pt x="3086" y="1117"/>
                  </a:lnTo>
                  <a:lnTo>
                    <a:pt x="3086" y="1085"/>
                  </a:lnTo>
                  <a:lnTo>
                    <a:pt x="3086" y="1052"/>
                  </a:lnTo>
                  <a:lnTo>
                    <a:pt x="3086" y="1025"/>
                  </a:lnTo>
                  <a:lnTo>
                    <a:pt x="3086" y="992"/>
                  </a:lnTo>
                  <a:lnTo>
                    <a:pt x="3086" y="959"/>
                  </a:lnTo>
                  <a:lnTo>
                    <a:pt x="3086" y="927"/>
                  </a:lnTo>
                  <a:lnTo>
                    <a:pt x="3086" y="894"/>
                  </a:lnTo>
                  <a:lnTo>
                    <a:pt x="3086" y="861"/>
                  </a:lnTo>
                  <a:lnTo>
                    <a:pt x="3086" y="828"/>
                  </a:lnTo>
                  <a:lnTo>
                    <a:pt x="3086" y="801"/>
                  </a:lnTo>
                  <a:lnTo>
                    <a:pt x="3086" y="768"/>
                  </a:lnTo>
                  <a:lnTo>
                    <a:pt x="3086" y="736"/>
                  </a:lnTo>
                  <a:lnTo>
                    <a:pt x="3086" y="703"/>
                  </a:lnTo>
                  <a:lnTo>
                    <a:pt x="3086" y="670"/>
                  </a:lnTo>
                  <a:lnTo>
                    <a:pt x="3086" y="638"/>
                  </a:lnTo>
                  <a:lnTo>
                    <a:pt x="3086" y="605"/>
                  </a:lnTo>
                  <a:lnTo>
                    <a:pt x="3086" y="572"/>
                  </a:lnTo>
                  <a:lnTo>
                    <a:pt x="3086" y="545"/>
                  </a:lnTo>
                  <a:lnTo>
                    <a:pt x="3086" y="512"/>
                  </a:lnTo>
                  <a:lnTo>
                    <a:pt x="3086" y="480"/>
                  </a:lnTo>
                  <a:lnTo>
                    <a:pt x="3086" y="447"/>
                  </a:lnTo>
                  <a:lnTo>
                    <a:pt x="3086" y="414"/>
                  </a:lnTo>
                  <a:lnTo>
                    <a:pt x="3086" y="381"/>
                  </a:lnTo>
                  <a:lnTo>
                    <a:pt x="3086" y="354"/>
                  </a:lnTo>
                  <a:lnTo>
                    <a:pt x="3086" y="322"/>
                  </a:lnTo>
                  <a:lnTo>
                    <a:pt x="3086" y="289"/>
                  </a:lnTo>
                  <a:lnTo>
                    <a:pt x="3054" y="256"/>
                  </a:lnTo>
                  <a:lnTo>
                    <a:pt x="3054" y="223"/>
                  </a:lnTo>
                  <a:lnTo>
                    <a:pt x="3054" y="191"/>
                  </a:lnTo>
                  <a:lnTo>
                    <a:pt x="3054" y="158"/>
                  </a:lnTo>
                  <a:lnTo>
                    <a:pt x="3054" y="125"/>
                  </a:lnTo>
                  <a:lnTo>
                    <a:pt x="3021" y="98"/>
                  </a:lnTo>
                  <a:lnTo>
                    <a:pt x="2988" y="98"/>
                  </a:lnTo>
                  <a:lnTo>
                    <a:pt x="2961" y="98"/>
                  </a:lnTo>
                  <a:lnTo>
                    <a:pt x="2928" y="65"/>
                  </a:lnTo>
                  <a:lnTo>
                    <a:pt x="2895" y="65"/>
                  </a:lnTo>
                  <a:lnTo>
                    <a:pt x="2863" y="65"/>
                  </a:lnTo>
                  <a:lnTo>
                    <a:pt x="2830" y="33"/>
                  </a:lnTo>
                  <a:lnTo>
                    <a:pt x="2797" y="33"/>
                  </a:lnTo>
                  <a:lnTo>
                    <a:pt x="2770" y="33"/>
                  </a:lnTo>
                  <a:lnTo>
                    <a:pt x="2737" y="0"/>
                  </a:lnTo>
                  <a:lnTo>
                    <a:pt x="2705" y="0"/>
                  </a:lnTo>
                  <a:lnTo>
                    <a:pt x="2672" y="0"/>
                  </a:lnTo>
                  <a:lnTo>
                    <a:pt x="2639" y="0"/>
                  </a:lnTo>
                  <a:lnTo>
                    <a:pt x="2612" y="0"/>
                  </a:lnTo>
                  <a:lnTo>
                    <a:pt x="2579" y="0"/>
                  </a:lnTo>
                  <a:lnTo>
                    <a:pt x="2546" y="0"/>
                  </a:lnTo>
                  <a:lnTo>
                    <a:pt x="2514" y="0"/>
                  </a:lnTo>
                  <a:lnTo>
                    <a:pt x="2481" y="0"/>
                  </a:lnTo>
                  <a:lnTo>
                    <a:pt x="2448" y="0"/>
                  </a:lnTo>
                  <a:lnTo>
                    <a:pt x="2421" y="0"/>
                  </a:lnTo>
                  <a:lnTo>
                    <a:pt x="2388" y="0"/>
                  </a:lnTo>
                  <a:lnTo>
                    <a:pt x="2356" y="0"/>
                  </a:lnTo>
                  <a:lnTo>
                    <a:pt x="2323" y="0"/>
                  </a:lnTo>
                  <a:lnTo>
                    <a:pt x="2290" y="0"/>
                  </a:lnTo>
                  <a:lnTo>
                    <a:pt x="2258" y="0"/>
                  </a:lnTo>
                  <a:lnTo>
                    <a:pt x="2230" y="0"/>
                  </a:lnTo>
                  <a:lnTo>
                    <a:pt x="2198" y="0"/>
                  </a:lnTo>
                  <a:lnTo>
                    <a:pt x="2165" y="0"/>
                  </a:lnTo>
                  <a:lnTo>
                    <a:pt x="2132" y="0"/>
                  </a:lnTo>
                  <a:lnTo>
                    <a:pt x="2099" y="0"/>
                  </a:lnTo>
                  <a:lnTo>
                    <a:pt x="2067" y="0"/>
                  </a:lnTo>
                  <a:lnTo>
                    <a:pt x="2039" y="0"/>
                  </a:lnTo>
                  <a:lnTo>
                    <a:pt x="2007" y="0"/>
                  </a:lnTo>
                  <a:lnTo>
                    <a:pt x="1974" y="0"/>
                  </a:lnTo>
                  <a:lnTo>
                    <a:pt x="1941" y="0"/>
                  </a:lnTo>
                  <a:lnTo>
                    <a:pt x="1909" y="0"/>
                  </a:lnTo>
                  <a:lnTo>
                    <a:pt x="1876" y="0"/>
                  </a:lnTo>
                  <a:lnTo>
                    <a:pt x="1849" y="0"/>
                  </a:lnTo>
                  <a:lnTo>
                    <a:pt x="1816" y="0"/>
                  </a:lnTo>
                  <a:lnTo>
                    <a:pt x="1783" y="0"/>
                  </a:lnTo>
                  <a:lnTo>
                    <a:pt x="1750" y="0"/>
                  </a:lnTo>
                  <a:lnTo>
                    <a:pt x="1718" y="0"/>
                  </a:lnTo>
                  <a:lnTo>
                    <a:pt x="1685" y="0"/>
                  </a:lnTo>
                  <a:lnTo>
                    <a:pt x="1658" y="0"/>
                  </a:lnTo>
                  <a:lnTo>
                    <a:pt x="1625" y="0"/>
                  </a:lnTo>
                  <a:lnTo>
                    <a:pt x="1592" y="0"/>
                  </a:lnTo>
                  <a:lnTo>
                    <a:pt x="1560" y="0"/>
                  </a:lnTo>
                  <a:lnTo>
                    <a:pt x="1527" y="0"/>
                  </a:lnTo>
                  <a:lnTo>
                    <a:pt x="1494" y="0"/>
                  </a:lnTo>
                  <a:lnTo>
                    <a:pt x="1467" y="0"/>
                  </a:lnTo>
                  <a:lnTo>
                    <a:pt x="1434" y="0"/>
                  </a:lnTo>
                  <a:lnTo>
                    <a:pt x="1401" y="0"/>
                  </a:lnTo>
                  <a:lnTo>
                    <a:pt x="1369" y="0"/>
                  </a:lnTo>
                  <a:lnTo>
                    <a:pt x="1336" y="0"/>
                  </a:lnTo>
                  <a:lnTo>
                    <a:pt x="1303" y="0"/>
                  </a:lnTo>
                  <a:lnTo>
                    <a:pt x="1276" y="0"/>
                  </a:lnTo>
                  <a:lnTo>
                    <a:pt x="1243" y="0"/>
                  </a:lnTo>
                  <a:lnTo>
                    <a:pt x="1211" y="0"/>
                  </a:lnTo>
                  <a:lnTo>
                    <a:pt x="1178" y="0"/>
                  </a:lnTo>
                  <a:lnTo>
                    <a:pt x="1145" y="0"/>
                  </a:lnTo>
                  <a:lnTo>
                    <a:pt x="1113" y="0"/>
                  </a:lnTo>
                  <a:lnTo>
                    <a:pt x="1085" y="0"/>
                  </a:lnTo>
                  <a:lnTo>
                    <a:pt x="1053" y="0"/>
                  </a:lnTo>
                  <a:lnTo>
                    <a:pt x="1020" y="0"/>
                  </a:lnTo>
                  <a:lnTo>
                    <a:pt x="987" y="0"/>
                  </a:lnTo>
                  <a:lnTo>
                    <a:pt x="954" y="0"/>
                  </a:lnTo>
                  <a:lnTo>
                    <a:pt x="922" y="0"/>
                  </a:lnTo>
                  <a:lnTo>
                    <a:pt x="894" y="0"/>
                  </a:lnTo>
                  <a:lnTo>
                    <a:pt x="862" y="0"/>
                  </a:lnTo>
                  <a:lnTo>
                    <a:pt x="829" y="0"/>
                  </a:lnTo>
                  <a:lnTo>
                    <a:pt x="796" y="0"/>
                  </a:lnTo>
                  <a:lnTo>
                    <a:pt x="764" y="0"/>
                  </a:lnTo>
                  <a:lnTo>
                    <a:pt x="731" y="0"/>
                  </a:lnTo>
                  <a:lnTo>
                    <a:pt x="704" y="33"/>
                  </a:lnTo>
                  <a:lnTo>
                    <a:pt x="671" y="65"/>
                  </a:lnTo>
                  <a:lnTo>
                    <a:pt x="638" y="98"/>
                  </a:lnTo>
                  <a:lnTo>
                    <a:pt x="605" y="125"/>
                  </a:lnTo>
                  <a:lnTo>
                    <a:pt x="573" y="158"/>
                  </a:lnTo>
                  <a:lnTo>
                    <a:pt x="545" y="158"/>
                  </a:lnTo>
                  <a:lnTo>
                    <a:pt x="513" y="191"/>
                  </a:lnTo>
                  <a:lnTo>
                    <a:pt x="480" y="223"/>
                  </a:lnTo>
                  <a:lnTo>
                    <a:pt x="447" y="256"/>
                  </a:lnTo>
                  <a:lnTo>
                    <a:pt x="415" y="289"/>
                  </a:lnTo>
                  <a:lnTo>
                    <a:pt x="382" y="322"/>
                  </a:lnTo>
                  <a:lnTo>
                    <a:pt x="355" y="354"/>
                  </a:lnTo>
                  <a:lnTo>
                    <a:pt x="322" y="381"/>
                  </a:lnTo>
                  <a:lnTo>
                    <a:pt x="289" y="381"/>
                  </a:lnTo>
                  <a:lnTo>
                    <a:pt x="257" y="414"/>
                  </a:lnTo>
                  <a:lnTo>
                    <a:pt x="224" y="447"/>
                  </a:lnTo>
                  <a:lnTo>
                    <a:pt x="191" y="480"/>
                  </a:lnTo>
                  <a:lnTo>
                    <a:pt x="164" y="512"/>
                  </a:lnTo>
                  <a:lnTo>
                    <a:pt x="131" y="545"/>
                  </a:lnTo>
                  <a:lnTo>
                    <a:pt x="98" y="572"/>
                  </a:lnTo>
                  <a:lnTo>
                    <a:pt x="66" y="605"/>
                  </a:lnTo>
                  <a:lnTo>
                    <a:pt x="33" y="605"/>
                  </a:lnTo>
                  <a:lnTo>
                    <a:pt x="0" y="638"/>
                  </a:lnTo>
                  <a:lnTo>
                    <a:pt x="0" y="670"/>
                  </a:lnTo>
                  <a:lnTo>
                    <a:pt x="0" y="703"/>
                  </a:lnTo>
                  <a:lnTo>
                    <a:pt x="0" y="736"/>
                  </a:lnTo>
                  <a:lnTo>
                    <a:pt x="33" y="768"/>
                  </a:lnTo>
                  <a:lnTo>
                    <a:pt x="33" y="801"/>
                  </a:lnTo>
                  <a:lnTo>
                    <a:pt x="66" y="828"/>
                  </a:lnTo>
                  <a:lnTo>
                    <a:pt x="98" y="861"/>
                  </a:lnTo>
                  <a:lnTo>
                    <a:pt x="131" y="894"/>
                  </a:lnTo>
                  <a:lnTo>
                    <a:pt x="164" y="927"/>
                  </a:lnTo>
                  <a:lnTo>
                    <a:pt x="164" y="959"/>
                  </a:lnTo>
                  <a:lnTo>
                    <a:pt x="191" y="992"/>
                  </a:lnTo>
                  <a:lnTo>
                    <a:pt x="224" y="1025"/>
                  </a:lnTo>
                  <a:lnTo>
                    <a:pt x="257" y="1052"/>
                  </a:lnTo>
                  <a:lnTo>
                    <a:pt x="289" y="1085"/>
                  </a:lnTo>
                  <a:lnTo>
                    <a:pt x="322" y="1117"/>
                  </a:lnTo>
                  <a:lnTo>
                    <a:pt x="355" y="1150"/>
                  </a:lnTo>
                  <a:lnTo>
                    <a:pt x="355" y="1183"/>
                  </a:lnTo>
                  <a:lnTo>
                    <a:pt x="382" y="1215"/>
                  </a:lnTo>
                  <a:lnTo>
                    <a:pt x="415" y="1248"/>
                  </a:lnTo>
                  <a:lnTo>
                    <a:pt x="447" y="1275"/>
                  </a:lnTo>
                  <a:lnTo>
                    <a:pt x="480" y="1308"/>
                  </a:lnTo>
                  <a:lnTo>
                    <a:pt x="513" y="1341"/>
                  </a:lnTo>
                  <a:lnTo>
                    <a:pt x="545" y="1373"/>
                  </a:lnTo>
                  <a:lnTo>
                    <a:pt x="573" y="1406"/>
                  </a:lnTo>
                  <a:lnTo>
                    <a:pt x="605" y="1439"/>
                  </a:lnTo>
                  <a:lnTo>
                    <a:pt x="638" y="1472"/>
                  </a:lnTo>
                  <a:lnTo>
                    <a:pt x="671" y="1499"/>
                  </a:lnTo>
                  <a:lnTo>
                    <a:pt x="704" y="1531"/>
                  </a:lnTo>
                  <a:lnTo>
                    <a:pt x="731" y="1564"/>
                  </a:lnTo>
                  <a:lnTo>
                    <a:pt x="764" y="1597"/>
                  </a:lnTo>
                  <a:lnTo>
                    <a:pt x="796" y="1630"/>
                  </a:lnTo>
                  <a:lnTo>
                    <a:pt x="829" y="1662"/>
                  </a:lnTo>
                  <a:lnTo>
                    <a:pt x="862" y="1695"/>
                  </a:lnTo>
                  <a:lnTo>
                    <a:pt x="894" y="1722"/>
                  </a:lnTo>
                  <a:lnTo>
                    <a:pt x="922" y="1755"/>
                  </a:lnTo>
                  <a:lnTo>
                    <a:pt x="954" y="1755"/>
                  </a:lnTo>
                  <a:lnTo>
                    <a:pt x="987" y="1788"/>
                  </a:lnTo>
                  <a:lnTo>
                    <a:pt x="1020" y="1820"/>
                  </a:lnTo>
                  <a:lnTo>
                    <a:pt x="1053" y="1853"/>
                  </a:lnTo>
                  <a:lnTo>
                    <a:pt x="1085" y="1886"/>
                  </a:lnTo>
                  <a:lnTo>
                    <a:pt x="1113" y="1918"/>
                  </a:lnTo>
                  <a:lnTo>
                    <a:pt x="1145" y="1946"/>
                  </a:lnTo>
                  <a:lnTo>
                    <a:pt x="1178" y="1978"/>
                  </a:lnTo>
                  <a:lnTo>
                    <a:pt x="1211" y="1978"/>
                  </a:lnTo>
                  <a:lnTo>
                    <a:pt x="1243" y="1978"/>
                  </a:lnTo>
                  <a:lnTo>
                    <a:pt x="1276" y="1978"/>
                  </a:lnTo>
                  <a:lnTo>
                    <a:pt x="1303" y="1978"/>
                  </a:lnTo>
                  <a:lnTo>
                    <a:pt x="1336" y="1978"/>
                  </a:lnTo>
                  <a:lnTo>
                    <a:pt x="1369" y="1978"/>
                  </a:lnTo>
                  <a:lnTo>
                    <a:pt x="1401" y="1978"/>
                  </a:lnTo>
                  <a:lnTo>
                    <a:pt x="1434" y="1978"/>
                  </a:lnTo>
                  <a:lnTo>
                    <a:pt x="1467" y="1978"/>
                  </a:lnTo>
                  <a:lnTo>
                    <a:pt x="1494" y="1978"/>
                  </a:lnTo>
                  <a:lnTo>
                    <a:pt x="1527" y="1978"/>
                  </a:lnTo>
                  <a:lnTo>
                    <a:pt x="1560" y="1978"/>
                  </a:lnTo>
                  <a:lnTo>
                    <a:pt x="1592" y="1978"/>
                  </a:lnTo>
                  <a:lnTo>
                    <a:pt x="1625" y="1978"/>
                  </a:lnTo>
                  <a:lnTo>
                    <a:pt x="1658" y="1978"/>
                  </a:lnTo>
                  <a:lnTo>
                    <a:pt x="1685" y="1978"/>
                  </a:lnTo>
                  <a:lnTo>
                    <a:pt x="1718" y="1978"/>
                  </a:lnTo>
                  <a:lnTo>
                    <a:pt x="1750" y="1978"/>
                  </a:lnTo>
                  <a:lnTo>
                    <a:pt x="1783" y="1978"/>
                  </a:lnTo>
                  <a:lnTo>
                    <a:pt x="1816" y="1978"/>
                  </a:lnTo>
                  <a:lnTo>
                    <a:pt x="1849" y="1978"/>
                  </a:lnTo>
                  <a:lnTo>
                    <a:pt x="1876" y="1978"/>
                  </a:lnTo>
                  <a:lnTo>
                    <a:pt x="1909" y="1978"/>
                  </a:lnTo>
                  <a:lnTo>
                    <a:pt x="1941" y="1978"/>
                  </a:lnTo>
                  <a:lnTo>
                    <a:pt x="1974" y="1978"/>
                  </a:lnTo>
                  <a:lnTo>
                    <a:pt x="2007" y="1978"/>
                  </a:lnTo>
                  <a:lnTo>
                    <a:pt x="2039" y="1978"/>
                  </a:lnTo>
                  <a:lnTo>
                    <a:pt x="2067" y="1978"/>
                  </a:lnTo>
                  <a:lnTo>
                    <a:pt x="2099" y="1978"/>
                  </a:lnTo>
                  <a:lnTo>
                    <a:pt x="2132" y="1978"/>
                  </a:lnTo>
                  <a:lnTo>
                    <a:pt x="2165" y="1978"/>
                  </a:lnTo>
                  <a:lnTo>
                    <a:pt x="2198" y="1978"/>
                  </a:lnTo>
                  <a:lnTo>
                    <a:pt x="2230" y="1978"/>
                  </a:lnTo>
                  <a:lnTo>
                    <a:pt x="2258" y="1978"/>
                  </a:lnTo>
                  <a:lnTo>
                    <a:pt x="2290" y="1978"/>
                  </a:lnTo>
                  <a:lnTo>
                    <a:pt x="2323" y="1978"/>
                  </a:lnTo>
                  <a:lnTo>
                    <a:pt x="2356" y="1978"/>
                  </a:lnTo>
                  <a:lnTo>
                    <a:pt x="2388" y="1978"/>
                  </a:lnTo>
                  <a:lnTo>
                    <a:pt x="2421" y="1978"/>
                  </a:lnTo>
                  <a:lnTo>
                    <a:pt x="2448" y="1978"/>
                  </a:lnTo>
                  <a:lnTo>
                    <a:pt x="2481" y="1978"/>
                  </a:lnTo>
                  <a:lnTo>
                    <a:pt x="2514" y="1978"/>
                  </a:lnTo>
                  <a:lnTo>
                    <a:pt x="2546" y="1978"/>
                  </a:lnTo>
                  <a:lnTo>
                    <a:pt x="2579" y="1978"/>
                  </a:lnTo>
                  <a:lnTo>
                    <a:pt x="2612" y="1978"/>
                  </a:lnTo>
                  <a:lnTo>
                    <a:pt x="2639" y="1978"/>
                  </a:lnTo>
                  <a:lnTo>
                    <a:pt x="2672" y="1978"/>
                  </a:lnTo>
                  <a:close/>
                  <a:moveTo>
                    <a:pt x="1134" y="1117"/>
                  </a:moveTo>
                  <a:lnTo>
                    <a:pt x="1134" y="1112"/>
                  </a:lnTo>
                  <a:lnTo>
                    <a:pt x="1140" y="1106"/>
                  </a:lnTo>
                  <a:lnTo>
                    <a:pt x="1140" y="1106"/>
                  </a:lnTo>
                  <a:lnTo>
                    <a:pt x="1145" y="1101"/>
                  </a:lnTo>
                  <a:lnTo>
                    <a:pt x="1151" y="1101"/>
                  </a:lnTo>
                  <a:lnTo>
                    <a:pt x="1156" y="1101"/>
                  </a:lnTo>
                  <a:lnTo>
                    <a:pt x="1162" y="1106"/>
                  </a:lnTo>
                  <a:lnTo>
                    <a:pt x="1167" y="1106"/>
                  </a:lnTo>
                  <a:lnTo>
                    <a:pt x="1172" y="1112"/>
                  </a:lnTo>
                  <a:lnTo>
                    <a:pt x="1178" y="1112"/>
                  </a:lnTo>
                  <a:lnTo>
                    <a:pt x="1178" y="1117"/>
                  </a:lnTo>
                  <a:lnTo>
                    <a:pt x="1178" y="1123"/>
                  </a:lnTo>
                  <a:lnTo>
                    <a:pt x="1172" y="1123"/>
                  </a:lnTo>
                  <a:lnTo>
                    <a:pt x="1167" y="1123"/>
                  </a:lnTo>
                  <a:lnTo>
                    <a:pt x="1162" y="1128"/>
                  </a:lnTo>
                  <a:lnTo>
                    <a:pt x="1156" y="1128"/>
                  </a:lnTo>
                  <a:lnTo>
                    <a:pt x="1145" y="1123"/>
                  </a:lnTo>
                  <a:lnTo>
                    <a:pt x="1145" y="1123"/>
                  </a:lnTo>
                  <a:lnTo>
                    <a:pt x="1140" y="1123"/>
                  </a:lnTo>
                  <a:lnTo>
                    <a:pt x="1134" y="1117"/>
                  </a:lnTo>
                  <a:close/>
                  <a:moveTo>
                    <a:pt x="349" y="992"/>
                  </a:moveTo>
                  <a:lnTo>
                    <a:pt x="349" y="992"/>
                  </a:lnTo>
                  <a:lnTo>
                    <a:pt x="349" y="986"/>
                  </a:lnTo>
                  <a:lnTo>
                    <a:pt x="355" y="992"/>
                  </a:lnTo>
                  <a:lnTo>
                    <a:pt x="355" y="992"/>
                  </a:lnTo>
                  <a:lnTo>
                    <a:pt x="355" y="992"/>
                  </a:lnTo>
                  <a:lnTo>
                    <a:pt x="355" y="992"/>
                  </a:lnTo>
                  <a:lnTo>
                    <a:pt x="355" y="992"/>
                  </a:lnTo>
                  <a:lnTo>
                    <a:pt x="355" y="992"/>
                  </a:lnTo>
                  <a:lnTo>
                    <a:pt x="355" y="992"/>
                  </a:lnTo>
                  <a:lnTo>
                    <a:pt x="349" y="992"/>
                  </a:lnTo>
                  <a:lnTo>
                    <a:pt x="349" y="992"/>
                  </a:lnTo>
                  <a:lnTo>
                    <a:pt x="349" y="992"/>
                  </a:lnTo>
                  <a:lnTo>
                    <a:pt x="349" y="992"/>
                  </a:lnTo>
                  <a:lnTo>
                    <a:pt x="349" y="992"/>
                  </a:lnTo>
                  <a:close/>
                  <a:moveTo>
                    <a:pt x="316" y="927"/>
                  </a:moveTo>
                  <a:lnTo>
                    <a:pt x="322" y="927"/>
                  </a:lnTo>
                  <a:lnTo>
                    <a:pt x="322" y="927"/>
                  </a:lnTo>
                  <a:lnTo>
                    <a:pt x="327" y="932"/>
                  </a:lnTo>
                  <a:lnTo>
                    <a:pt x="327" y="937"/>
                  </a:lnTo>
                  <a:lnTo>
                    <a:pt x="327" y="943"/>
                  </a:lnTo>
                  <a:lnTo>
                    <a:pt x="322" y="948"/>
                  </a:lnTo>
                  <a:lnTo>
                    <a:pt x="322" y="948"/>
                  </a:lnTo>
                  <a:lnTo>
                    <a:pt x="322" y="948"/>
                  </a:lnTo>
                  <a:lnTo>
                    <a:pt x="316" y="948"/>
                  </a:lnTo>
                  <a:lnTo>
                    <a:pt x="316" y="948"/>
                  </a:lnTo>
                  <a:lnTo>
                    <a:pt x="316" y="943"/>
                  </a:lnTo>
                  <a:lnTo>
                    <a:pt x="316" y="937"/>
                  </a:lnTo>
                  <a:lnTo>
                    <a:pt x="316" y="932"/>
                  </a:lnTo>
                  <a:lnTo>
                    <a:pt x="316" y="927"/>
                  </a:lnTo>
                  <a:close/>
                  <a:moveTo>
                    <a:pt x="829" y="927"/>
                  </a:moveTo>
                  <a:lnTo>
                    <a:pt x="829" y="927"/>
                  </a:lnTo>
                  <a:lnTo>
                    <a:pt x="829" y="927"/>
                  </a:lnTo>
                  <a:lnTo>
                    <a:pt x="829" y="927"/>
                  </a:lnTo>
                  <a:lnTo>
                    <a:pt x="829" y="927"/>
                  </a:lnTo>
                  <a:lnTo>
                    <a:pt x="829" y="927"/>
                  </a:lnTo>
                  <a:lnTo>
                    <a:pt x="829" y="927"/>
                  </a:lnTo>
                  <a:lnTo>
                    <a:pt x="834" y="927"/>
                  </a:lnTo>
                  <a:lnTo>
                    <a:pt x="834" y="927"/>
                  </a:lnTo>
                  <a:lnTo>
                    <a:pt x="834" y="927"/>
                  </a:lnTo>
                  <a:lnTo>
                    <a:pt x="829" y="927"/>
                  </a:lnTo>
                  <a:lnTo>
                    <a:pt x="829" y="927"/>
                  </a:lnTo>
                  <a:lnTo>
                    <a:pt x="829" y="927"/>
                  </a:lnTo>
                  <a:lnTo>
                    <a:pt x="829" y="927"/>
                  </a:lnTo>
                  <a:lnTo>
                    <a:pt x="829" y="927"/>
                  </a:lnTo>
                  <a:close/>
                  <a:moveTo>
                    <a:pt x="1271" y="927"/>
                  </a:moveTo>
                  <a:lnTo>
                    <a:pt x="1271" y="921"/>
                  </a:lnTo>
                  <a:lnTo>
                    <a:pt x="1271" y="910"/>
                  </a:lnTo>
                  <a:lnTo>
                    <a:pt x="1271" y="905"/>
                  </a:lnTo>
                  <a:lnTo>
                    <a:pt x="1271" y="894"/>
                  </a:lnTo>
                  <a:lnTo>
                    <a:pt x="1271" y="888"/>
                  </a:lnTo>
                  <a:lnTo>
                    <a:pt x="1271" y="883"/>
                  </a:lnTo>
                  <a:lnTo>
                    <a:pt x="1265" y="877"/>
                  </a:lnTo>
                  <a:lnTo>
                    <a:pt x="1265" y="867"/>
                  </a:lnTo>
                  <a:lnTo>
                    <a:pt x="1265" y="861"/>
                  </a:lnTo>
                  <a:lnTo>
                    <a:pt x="1265" y="850"/>
                  </a:lnTo>
                  <a:lnTo>
                    <a:pt x="1271" y="839"/>
                  </a:lnTo>
                  <a:lnTo>
                    <a:pt x="1271" y="834"/>
                  </a:lnTo>
                  <a:lnTo>
                    <a:pt x="1276" y="834"/>
                  </a:lnTo>
                  <a:lnTo>
                    <a:pt x="1282" y="839"/>
                  </a:lnTo>
                  <a:lnTo>
                    <a:pt x="1287" y="850"/>
                  </a:lnTo>
                  <a:lnTo>
                    <a:pt x="1292" y="861"/>
                  </a:lnTo>
                  <a:lnTo>
                    <a:pt x="1292" y="867"/>
                  </a:lnTo>
                  <a:lnTo>
                    <a:pt x="1292" y="877"/>
                  </a:lnTo>
                  <a:lnTo>
                    <a:pt x="1287" y="883"/>
                  </a:lnTo>
                  <a:lnTo>
                    <a:pt x="1287" y="888"/>
                  </a:lnTo>
                  <a:lnTo>
                    <a:pt x="1282" y="894"/>
                  </a:lnTo>
                  <a:lnTo>
                    <a:pt x="1282" y="905"/>
                  </a:lnTo>
                  <a:lnTo>
                    <a:pt x="1282" y="910"/>
                  </a:lnTo>
                  <a:lnTo>
                    <a:pt x="1282" y="916"/>
                  </a:lnTo>
                  <a:lnTo>
                    <a:pt x="1276" y="927"/>
                  </a:lnTo>
                  <a:lnTo>
                    <a:pt x="1271" y="927"/>
                  </a:lnTo>
                  <a:close/>
                  <a:moveTo>
                    <a:pt x="1189" y="828"/>
                  </a:moveTo>
                  <a:lnTo>
                    <a:pt x="1189" y="823"/>
                  </a:lnTo>
                  <a:lnTo>
                    <a:pt x="1194" y="817"/>
                  </a:lnTo>
                  <a:lnTo>
                    <a:pt x="1194" y="807"/>
                  </a:lnTo>
                  <a:lnTo>
                    <a:pt x="1194" y="801"/>
                  </a:lnTo>
                  <a:lnTo>
                    <a:pt x="1194" y="796"/>
                  </a:lnTo>
                  <a:lnTo>
                    <a:pt x="1200" y="785"/>
                  </a:lnTo>
                  <a:lnTo>
                    <a:pt x="1200" y="779"/>
                  </a:lnTo>
                  <a:lnTo>
                    <a:pt x="1200" y="774"/>
                  </a:lnTo>
                  <a:lnTo>
                    <a:pt x="1200" y="763"/>
                  </a:lnTo>
                  <a:lnTo>
                    <a:pt x="1200" y="758"/>
                  </a:lnTo>
                  <a:lnTo>
                    <a:pt x="1200" y="752"/>
                  </a:lnTo>
                  <a:lnTo>
                    <a:pt x="1200" y="741"/>
                  </a:lnTo>
                  <a:lnTo>
                    <a:pt x="1194" y="736"/>
                  </a:lnTo>
                  <a:lnTo>
                    <a:pt x="1194" y="730"/>
                  </a:lnTo>
                  <a:lnTo>
                    <a:pt x="1194" y="719"/>
                  </a:lnTo>
                  <a:lnTo>
                    <a:pt x="1194" y="714"/>
                  </a:lnTo>
                  <a:lnTo>
                    <a:pt x="1194" y="708"/>
                  </a:lnTo>
                  <a:lnTo>
                    <a:pt x="1194" y="698"/>
                  </a:lnTo>
                  <a:lnTo>
                    <a:pt x="1194" y="692"/>
                  </a:lnTo>
                  <a:lnTo>
                    <a:pt x="1189" y="687"/>
                  </a:lnTo>
                  <a:lnTo>
                    <a:pt x="1189" y="676"/>
                  </a:lnTo>
                  <a:lnTo>
                    <a:pt x="1194" y="670"/>
                  </a:lnTo>
                  <a:lnTo>
                    <a:pt x="1194" y="665"/>
                  </a:lnTo>
                  <a:lnTo>
                    <a:pt x="1200" y="659"/>
                  </a:lnTo>
                  <a:lnTo>
                    <a:pt x="1205" y="649"/>
                  </a:lnTo>
                  <a:lnTo>
                    <a:pt x="1211" y="643"/>
                  </a:lnTo>
                  <a:lnTo>
                    <a:pt x="1216" y="638"/>
                  </a:lnTo>
                  <a:lnTo>
                    <a:pt x="1216" y="632"/>
                  </a:lnTo>
                  <a:lnTo>
                    <a:pt x="1222" y="621"/>
                  </a:lnTo>
                  <a:lnTo>
                    <a:pt x="1222" y="616"/>
                  </a:lnTo>
                  <a:lnTo>
                    <a:pt x="1222" y="610"/>
                  </a:lnTo>
                  <a:lnTo>
                    <a:pt x="1222" y="599"/>
                  </a:lnTo>
                  <a:lnTo>
                    <a:pt x="1222" y="594"/>
                  </a:lnTo>
                  <a:lnTo>
                    <a:pt x="1222" y="589"/>
                  </a:lnTo>
                  <a:lnTo>
                    <a:pt x="1227" y="578"/>
                  </a:lnTo>
                  <a:lnTo>
                    <a:pt x="1227" y="572"/>
                  </a:lnTo>
                  <a:lnTo>
                    <a:pt x="1232" y="567"/>
                  </a:lnTo>
                  <a:lnTo>
                    <a:pt x="1238" y="561"/>
                  </a:lnTo>
                  <a:lnTo>
                    <a:pt x="1243" y="550"/>
                  </a:lnTo>
                  <a:lnTo>
                    <a:pt x="1243" y="545"/>
                  </a:lnTo>
                  <a:lnTo>
                    <a:pt x="1238" y="540"/>
                  </a:lnTo>
                  <a:lnTo>
                    <a:pt x="1238" y="529"/>
                  </a:lnTo>
                  <a:lnTo>
                    <a:pt x="1232" y="523"/>
                  </a:lnTo>
                  <a:lnTo>
                    <a:pt x="1227" y="518"/>
                  </a:lnTo>
                  <a:lnTo>
                    <a:pt x="1222" y="512"/>
                  </a:lnTo>
                  <a:lnTo>
                    <a:pt x="1222" y="501"/>
                  </a:lnTo>
                  <a:lnTo>
                    <a:pt x="1222" y="496"/>
                  </a:lnTo>
                  <a:lnTo>
                    <a:pt x="1222" y="490"/>
                  </a:lnTo>
                  <a:lnTo>
                    <a:pt x="1222" y="480"/>
                  </a:lnTo>
                  <a:lnTo>
                    <a:pt x="1222" y="474"/>
                  </a:lnTo>
                  <a:lnTo>
                    <a:pt x="1222" y="469"/>
                  </a:lnTo>
                  <a:lnTo>
                    <a:pt x="1222" y="458"/>
                  </a:lnTo>
                  <a:lnTo>
                    <a:pt x="1227" y="452"/>
                  </a:lnTo>
                  <a:lnTo>
                    <a:pt x="1222" y="447"/>
                  </a:lnTo>
                  <a:lnTo>
                    <a:pt x="1222" y="436"/>
                  </a:lnTo>
                  <a:lnTo>
                    <a:pt x="1222" y="431"/>
                  </a:lnTo>
                  <a:lnTo>
                    <a:pt x="1216" y="425"/>
                  </a:lnTo>
                  <a:lnTo>
                    <a:pt x="1216" y="414"/>
                  </a:lnTo>
                  <a:lnTo>
                    <a:pt x="1216" y="409"/>
                  </a:lnTo>
                  <a:lnTo>
                    <a:pt x="1211" y="403"/>
                  </a:lnTo>
                  <a:lnTo>
                    <a:pt x="1211" y="398"/>
                  </a:lnTo>
                  <a:lnTo>
                    <a:pt x="1211" y="387"/>
                  </a:lnTo>
                  <a:lnTo>
                    <a:pt x="1205" y="381"/>
                  </a:lnTo>
                  <a:lnTo>
                    <a:pt x="1205" y="371"/>
                  </a:lnTo>
                  <a:lnTo>
                    <a:pt x="1200" y="365"/>
                  </a:lnTo>
                  <a:lnTo>
                    <a:pt x="1205" y="360"/>
                  </a:lnTo>
                  <a:lnTo>
                    <a:pt x="1205" y="354"/>
                  </a:lnTo>
                  <a:lnTo>
                    <a:pt x="1216" y="349"/>
                  </a:lnTo>
                  <a:lnTo>
                    <a:pt x="1227" y="343"/>
                  </a:lnTo>
                  <a:lnTo>
                    <a:pt x="1238" y="343"/>
                  </a:lnTo>
                  <a:lnTo>
                    <a:pt x="1249" y="343"/>
                  </a:lnTo>
                  <a:lnTo>
                    <a:pt x="1254" y="338"/>
                  </a:lnTo>
                  <a:lnTo>
                    <a:pt x="1260" y="327"/>
                  </a:lnTo>
                  <a:lnTo>
                    <a:pt x="1265" y="322"/>
                  </a:lnTo>
                  <a:lnTo>
                    <a:pt x="1271" y="316"/>
                  </a:lnTo>
                  <a:lnTo>
                    <a:pt x="1276" y="311"/>
                  </a:lnTo>
                  <a:lnTo>
                    <a:pt x="1287" y="311"/>
                  </a:lnTo>
                  <a:lnTo>
                    <a:pt x="1298" y="305"/>
                  </a:lnTo>
                  <a:lnTo>
                    <a:pt x="1309" y="305"/>
                  </a:lnTo>
                  <a:lnTo>
                    <a:pt x="1320" y="300"/>
                  </a:lnTo>
                  <a:lnTo>
                    <a:pt x="1325" y="294"/>
                  </a:lnTo>
                  <a:lnTo>
                    <a:pt x="1336" y="289"/>
                  </a:lnTo>
                  <a:lnTo>
                    <a:pt x="1342" y="283"/>
                  </a:lnTo>
                  <a:lnTo>
                    <a:pt x="1347" y="278"/>
                  </a:lnTo>
                  <a:lnTo>
                    <a:pt x="1358" y="272"/>
                  </a:lnTo>
                  <a:lnTo>
                    <a:pt x="1369" y="267"/>
                  </a:lnTo>
                  <a:lnTo>
                    <a:pt x="1380" y="267"/>
                  </a:lnTo>
                  <a:lnTo>
                    <a:pt x="1391" y="272"/>
                  </a:lnTo>
                  <a:lnTo>
                    <a:pt x="1401" y="272"/>
                  </a:lnTo>
                  <a:lnTo>
                    <a:pt x="1412" y="267"/>
                  </a:lnTo>
                  <a:lnTo>
                    <a:pt x="1423" y="262"/>
                  </a:lnTo>
                  <a:lnTo>
                    <a:pt x="1429" y="256"/>
                  </a:lnTo>
                  <a:lnTo>
                    <a:pt x="1434" y="251"/>
                  </a:lnTo>
                  <a:lnTo>
                    <a:pt x="1434" y="245"/>
                  </a:lnTo>
                  <a:lnTo>
                    <a:pt x="1434" y="234"/>
                  </a:lnTo>
                  <a:lnTo>
                    <a:pt x="1434" y="229"/>
                  </a:lnTo>
                  <a:lnTo>
                    <a:pt x="1445" y="223"/>
                  </a:lnTo>
                  <a:lnTo>
                    <a:pt x="1451" y="218"/>
                  </a:lnTo>
                  <a:lnTo>
                    <a:pt x="1461" y="213"/>
                  </a:lnTo>
                  <a:lnTo>
                    <a:pt x="1472" y="218"/>
                  </a:lnTo>
                  <a:lnTo>
                    <a:pt x="1478" y="223"/>
                  </a:lnTo>
                  <a:lnTo>
                    <a:pt x="1483" y="229"/>
                  </a:lnTo>
                  <a:lnTo>
                    <a:pt x="1489" y="240"/>
                  </a:lnTo>
                  <a:lnTo>
                    <a:pt x="1494" y="240"/>
                  </a:lnTo>
                  <a:lnTo>
                    <a:pt x="1505" y="240"/>
                  </a:lnTo>
                  <a:lnTo>
                    <a:pt x="1516" y="234"/>
                  </a:lnTo>
                  <a:lnTo>
                    <a:pt x="1521" y="229"/>
                  </a:lnTo>
                  <a:lnTo>
                    <a:pt x="1527" y="223"/>
                  </a:lnTo>
                  <a:lnTo>
                    <a:pt x="1532" y="213"/>
                  </a:lnTo>
                  <a:lnTo>
                    <a:pt x="1532" y="207"/>
                  </a:lnTo>
                  <a:lnTo>
                    <a:pt x="1532" y="202"/>
                  </a:lnTo>
                  <a:lnTo>
                    <a:pt x="1532" y="191"/>
                  </a:lnTo>
                  <a:lnTo>
                    <a:pt x="1538" y="185"/>
                  </a:lnTo>
                  <a:lnTo>
                    <a:pt x="1543" y="180"/>
                  </a:lnTo>
                  <a:lnTo>
                    <a:pt x="1554" y="174"/>
                  </a:lnTo>
                  <a:lnTo>
                    <a:pt x="1560" y="169"/>
                  </a:lnTo>
                  <a:lnTo>
                    <a:pt x="1571" y="174"/>
                  </a:lnTo>
                  <a:lnTo>
                    <a:pt x="1576" y="180"/>
                  </a:lnTo>
                  <a:lnTo>
                    <a:pt x="1581" y="185"/>
                  </a:lnTo>
                  <a:lnTo>
                    <a:pt x="1581" y="196"/>
                  </a:lnTo>
                  <a:lnTo>
                    <a:pt x="1587" y="207"/>
                  </a:lnTo>
                  <a:lnTo>
                    <a:pt x="1592" y="213"/>
                  </a:lnTo>
                  <a:lnTo>
                    <a:pt x="1598" y="213"/>
                  </a:lnTo>
                  <a:lnTo>
                    <a:pt x="1609" y="207"/>
                  </a:lnTo>
                  <a:lnTo>
                    <a:pt x="1614" y="202"/>
                  </a:lnTo>
                  <a:lnTo>
                    <a:pt x="1625" y="196"/>
                  </a:lnTo>
                  <a:lnTo>
                    <a:pt x="1625" y="191"/>
                  </a:lnTo>
                  <a:lnTo>
                    <a:pt x="1625" y="180"/>
                  </a:lnTo>
                  <a:lnTo>
                    <a:pt x="1625" y="174"/>
                  </a:lnTo>
                  <a:lnTo>
                    <a:pt x="1625" y="169"/>
                  </a:lnTo>
                  <a:lnTo>
                    <a:pt x="1630" y="158"/>
                  </a:lnTo>
                  <a:lnTo>
                    <a:pt x="1630" y="153"/>
                  </a:lnTo>
                  <a:lnTo>
                    <a:pt x="1636" y="142"/>
                  </a:lnTo>
                  <a:lnTo>
                    <a:pt x="1647" y="136"/>
                  </a:lnTo>
                  <a:lnTo>
                    <a:pt x="1652" y="136"/>
                  </a:lnTo>
                  <a:lnTo>
                    <a:pt x="1663" y="136"/>
                  </a:lnTo>
                  <a:lnTo>
                    <a:pt x="1674" y="136"/>
                  </a:lnTo>
                  <a:lnTo>
                    <a:pt x="1685" y="142"/>
                  </a:lnTo>
                  <a:lnTo>
                    <a:pt x="1696" y="142"/>
                  </a:lnTo>
                  <a:lnTo>
                    <a:pt x="1707" y="147"/>
                  </a:lnTo>
                  <a:lnTo>
                    <a:pt x="1712" y="153"/>
                  </a:lnTo>
                  <a:lnTo>
                    <a:pt x="1718" y="163"/>
                  </a:lnTo>
                  <a:lnTo>
                    <a:pt x="1723" y="163"/>
                  </a:lnTo>
                  <a:lnTo>
                    <a:pt x="1729" y="153"/>
                  </a:lnTo>
                  <a:lnTo>
                    <a:pt x="1729" y="147"/>
                  </a:lnTo>
                  <a:lnTo>
                    <a:pt x="1729" y="142"/>
                  </a:lnTo>
                  <a:lnTo>
                    <a:pt x="1723" y="131"/>
                  </a:lnTo>
                  <a:lnTo>
                    <a:pt x="1723" y="125"/>
                  </a:lnTo>
                  <a:lnTo>
                    <a:pt x="1723" y="120"/>
                  </a:lnTo>
                  <a:lnTo>
                    <a:pt x="1734" y="109"/>
                  </a:lnTo>
                  <a:lnTo>
                    <a:pt x="1740" y="104"/>
                  </a:lnTo>
                  <a:lnTo>
                    <a:pt x="1750" y="104"/>
                  </a:lnTo>
                  <a:lnTo>
                    <a:pt x="1761" y="98"/>
                  </a:lnTo>
                  <a:lnTo>
                    <a:pt x="1772" y="98"/>
                  </a:lnTo>
                  <a:lnTo>
                    <a:pt x="1783" y="98"/>
                  </a:lnTo>
                  <a:lnTo>
                    <a:pt x="1794" y="104"/>
                  </a:lnTo>
                  <a:lnTo>
                    <a:pt x="1800" y="109"/>
                  </a:lnTo>
                  <a:lnTo>
                    <a:pt x="1805" y="114"/>
                  </a:lnTo>
                  <a:lnTo>
                    <a:pt x="1810" y="125"/>
                  </a:lnTo>
                  <a:lnTo>
                    <a:pt x="1816" y="131"/>
                  </a:lnTo>
                  <a:lnTo>
                    <a:pt x="1827" y="131"/>
                  </a:lnTo>
                  <a:lnTo>
                    <a:pt x="1838" y="131"/>
                  </a:lnTo>
                  <a:lnTo>
                    <a:pt x="1843" y="125"/>
                  </a:lnTo>
                  <a:lnTo>
                    <a:pt x="1838" y="120"/>
                  </a:lnTo>
                  <a:lnTo>
                    <a:pt x="1832" y="109"/>
                  </a:lnTo>
                  <a:lnTo>
                    <a:pt x="1821" y="104"/>
                  </a:lnTo>
                  <a:lnTo>
                    <a:pt x="1816" y="98"/>
                  </a:lnTo>
                  <a:lnTo>
                    <a:pt x="1816" y="87"/>
                  </a:lnTo>
                  <a:lnTo>
                    <a:pt x="1821" y="82"/>
                  </a:lnTo>
                  <a:lnTo>
                    <a:pt x="1827" y="76"/>
                  </a:lnTo>
                  <a:lnTo>
                    <a:pt x="1838" y="71"/>
                  </a:lnTo>
                  <a:lnTo>
                    <a:pt x="1849" y="65"/>
                  </a:lnTo>
                  <a:lnTo>
                    <a:pt x="1859" y="65"/>
                  </a:lnTo>
                  <a:lnTo>
                    <a:pt x="1870" y="65"/>
                  </a:lnTo>
                  <a:lnTo>
                    <a:pt x="1887" y="65"/>
                  </a:lnTo>
                  <a:lnTo>
                    <a:pt x="1898" y="65"/>
                  </a:lnTo>
                  <a:lnTo>
                    <a:pt x="1909" y="65"/>
                  </a:lnTo>
                  <a:lnTo>
                    <a:pt x="1914" y="60"/>
                  </a:lnTo>
                  <a:lnTo>
                    <a:pt x="1919" y="54"/>
                  </a:lnTo>
                  <a:lnTo>
                    <a:pt x="1925" y="44"/>
                  </a:lnTo>
                  <a:lnTo>
                    <a:pt x="1936" y="38"/>
                  </a:lnTo>
                  <a:lnTo>
                    <a:pt x="1941" y="38"/>
                  </a:lnTo>
                  <a:lnTo>
                    <a:pt x="1952" y="33"/>
                  </a:lnTo>
                  <a:lnTo>
                    <a:pt x="1963" y="33"/>
                  </a:lnTo>
                  <a:lnTo>
                    <a:pt x="1974" y="33"/>
                  </a:lnTo>
                  <a:lnTo>
                    <a:pt x="1990" y="33"/>
                  </a:lnTo>
                  <a:lnTo>
                    <a:pt x="2001" y="38"/>
                  </a:lnTo>
                  <a:lnTo>
                    <a:pt x="2007" y="38"/>
                  </a:lnTo>
                  <a:lnTo>
                    <a:pt x="2018" y="44"/>
                  </a:lnTo>
                  <a:lnTo>
                    <a:pt x="2023" y="54"/>
                  </a:lnTo>
                  <a:lnTo>
                    <a:pt x="2029" y="60"/>
                  </a:lnTo>
                  <a:lnTo>
                    <a:pt x="2034" y="65"/>
                  </a:lnTo>
                  <a:lnTo>
                    <a:pt x="2045" y="65"/>
                  </a:lnTo>
                  <a:lnTo>
                    <a:pt x="2056" y="65"/>
                  </a:lnTo>
                  <a:lnTo>
                    <a:pt x="2067" y="65"/>
                  </a:lnTo>
                  <a:lnTo>
                    <a:pt x="2083" y="65"/>
                  </a:lnTo>
                  <a:lnTo>
                    <a:pt x="2094" y="65"/>
                  </a:lnTo>
                  <a:lnTo>
                    <a:pt x="2105" y="65"/>
                  </a:lnTo>
                  <a:lnTo>
                    <a:pt x="2116" y="71"/>
                  </a:lnTo>
                  <a:lnTo>
                    <a:pt x="2127" y="71"/>
                  </a:lnTo>
                  <a:lnTo>
                    <a:pt x="2132" y="76"/>
                  </a:lnTo>
                  <a:lnTo>
                    <a:pt x="2143" y="82"/>
                  </a:lnTo>
                  <a:lnTo>
                    <a:pt x="2148" y="87"/>
                  </a:lnTo>
                  <a:lnTo>
                    <a:pt x="2154" y="93"/>
                  </a:lnTo>
                  <a:lnTo>
                    <a:pt x="2165" y="98"/>
                  </a:lnTo>
                  <a:lnTo>
                    <a:pt x="2170" y="98"/>
                  </a:lnTo>
                  <a:lnTo>
                    <a:pt x="2187" y="98"/>
                  </a:lnTo>
                  <a:lnTo>
                    <a:pt x="2198" y="98"/>
                  </a:lnTo>
                  <a:lnTo>
                    <a:pt x="2208" y="104"/>
                  </a:lnTo>
                  <a:lnTo>
                    <a:pt x="2219" y="104"/>
                  </a:lnTo>
                  <a:lnTo>
                    <a:pt x="2230" y="104"/>
                  </a:lnTo>
                  <a:lnTo>
                    <a:pt x="2241" y="104"/>
                  </a:lnTo>
                  <a:lnTo>
                    <a:pt x="2252" y="104"/>
                  </a:lnTo>
                  <a:lnTo>
                    <a:pt x="2263" y="109"/>
                  </a:lnTo>
                  <a:lnTo>
                    <a:pt x="2268" y="114"/>
                  </a:lnTo>
                  <a:lnTo>
                    <a:pt x="2274" y="120"/>
                  </a:lnTo>
                  <a:lnTo>
                    <a:pt x="2279" y="125"/>
                  </a:lnTo>
                  <a:lnTo>
                    <a:pt x="2290" y="131"/>
                  </a:lnTo>
                  <a:lnTo>
                    <a:pt x="2296" y="136"/>
                  </a:lnTo>
                  <a:lnTo>
                    <a:pt x="2307" y="136"/>
                  </a:lnTo>
                  <a:lnTo>
                    <a:pt x="2317" y="136"/>
                  </a:lnTo>
                  <a:lnTo>
                    <a:pt x="2334" y="136"/>
                  </a:lnTo>
                  <a:lnTo>
                    <a:pt x="2345" y="136"/>
                  </a:lnTo>
                  <a:lnTo>
                    <a:pt x="2356" y="136"/>
                  </a:lnTo>
                  <a:lnTo>
                    <a:pt x="2367" y="136"/>
                  </a:lnTo>
                  <a:lnTo>
                    <a:pt x="2377" y="136"/>
                  </a:lnTo>
                  <a:lnTo>
                    <a:pt x="2388" y="142"/>
                  </a:lnTo>
                  <a:lnTo>
                    <a:pt x="2394" y="147"/>
                  </a:lnTo>
                  <a:lnTo>
                    <a:pt x="2399" y="153"/>
                  </a:lnTo>
                  <a:lnTo>
                    <a:pt x="2405" y="158"/>
                  </a:lnTo>
                  <a:lnTo>
                    <a:pt x="2410" y="163"/>
                  </a:lnTo>
                  <a:lnTo>
                    <a:pt x="2416" y="174"/>
                  </a:lnTo>
                  <a:lnTo>
                    <a:pt x="2427" y="174"/>
                  </a:lnTo>
                  <a:lnTo>
                    <a:pt x="2437" y="180"/>
                  </a:lnTo>
                  <a:lnTo>
                    <a:pt x="2448" y="180"/>
                  </a:lnTo>
                  <a:lnTo>
                    <a:pt x="2459" y="180"/>
                  </a:lnTo>
                  <a:lnTo>
                    <a:pt x="2470" y="180"/>
                  </a:lnTo>
                  <a:lnTo>
                    <a:pt x="2481" y="185"/>
                  </a:lnTo>
                  <a:lnTo>
                    <a:pt x="2492" y="185"/>
                  </a:lnTo>
                  <a:lnTo>
                    <a:pt x="2503" y="185"/>
                  </a:lnTo>
                  <a:lnTo>
                    <a:pt x="2508" y="191"/>
                  </a:lnTo>
                  <a:lnTo>
                    <a:pt x="2514" y="196"/>
                  </a:lnTo>
                  <a:lnTo>
                    <a:pt x="2514" y="207"/>
                  </a:lnTo>
                  <a:lnTo>
                    <a:pt x="2514" y="213"/>
                  </a:lnTo>
                  <a:lnTo>
                    <a:pt x="2514" y="218"/>
                  </a:lnTo>
                  <a:lnTo>
                    <a:pt x="2514" y="229"/>
                  </a:lnTo>
                  <a:lnTo>
                    <a:pt x="2508" y="234"/>
                  </a:lnTo>
                  <a:lnTo>
                    <a:pt x="2508" y="245"/>
                  </a:lnTo>
                  <a:lnTo>
                    <a:pt x="2514" y="251"/>
                  </a:lnTo>
                  <a:lnTo>
                    <a:pt x="2514" y="256"/>
                  </a:lnTo>
                  <a:lnTo>
                    <a:pt x="2514" y="267"/>
                  </a:lnTo>
                  <a:lnTo>
                    <a:pt x="2514" y="272"/>
                  </a:lnTo>
                  <a:lnTo>
                    <a:pt x="2514" y="278"/>
                  </a:lnTo>
                  <a:lnTo>
                    <a:pt x="2514" y="289"/>
                  </a:lnTo>
                  <a:lnTo>
                    <a:pt x="2514" y="294"/>
                  </a:lnTo>
                  <a:lnTo>
                    <a:pt x="2514" y="300"/>
                  </a:lnTo>
                  <a:lnTo>
                    <a:pt x="2525" y="305"/>
                  </a:lnTo>
                  <a:lnTo>
                    <a:pt x="2541" y="305"/>
                  </a:lnTo>
                  <a:lnTo>
                    <a:pt x="2546" y="305"/>
                  </a:lnTo>
                  <a:lnTo>
                    <a:pt x="2552" y="294"/>
                  </a:lnTo>
                  <a:lnTo>
                    <a:pt x="2552" y="289"/>
                  </a:lnTo>
                  <a:lnTo>
                    <a:pt x="2557" y="283"/>
                  </a:lnTo>
                  <a:lnTo>
                    <a:pt x="2563" y="278"/>
                  </a:lnTo>
                  <a:lnTo>
                    <a:pt x="2574" y="272"/>
                  </a:lnTo>
                  <a:lnTo>
                    <a:pt x="2579" y="267"/>
                  </a:lnTo>
                  <a:lnTo>
                    <a:pt x="2585" y="262"/>
                  </a:lnTo>
                  <a:lnTo>
                    <a:pt x="2590" y="251"/>
                  </a:lnTo>
                  <a:lnTo>
                    <a:pt x="2596" y="245"/>
                  </a:lnTo>
                  <a:lnTo>
                    <a:pt x="2601" y="234"/>
                  </a:lnTo>
                  <a:lnTo>
                    <a:pt x="2606" y="229"/>
                  </a:lnTo>
                  <a:lnTo>
                    <a:pt x="2612" y="229"/>
                  </a:lnTo>
                  <a:lnTo>
                    <a:pt x="2617" y="229"/>
                  </a:lnTo>
                  <a:lnTo>
                    <a:pt x="2623" y="234"/>
                  </a:lnTo>
                  <a:lnTo>
                    <a:pt x="2628" y="245"/>
                  </a:lnTo>
                  <a:lnTo>
                    <a:pt x="2634" y="251"/>
                  </a:lnTo>
                  <a:lnTo>
                    <a:pt x="2634" y="262"/>
                  </a:lnTo>
                  <a:lnTo>
                    <a:pt x="2634" y="267"/>
                  </a:lnTo>
                  <a:lnTo>
                    <a:pt x="2634" y="278"/>
                  </a:lnTo>
                  <a:lnTo>
                    <a:pt x="2628" y="283"/>
                  </a:lnTo>
                  <a:lnTo>
                    <a:pt x="2623" y="289"/>
                  </a:lnTo>
                  <a:lnTo>
                    <a:pt x="2612" y="294"/>
                  </a:lnTo>
                  <a:lnTo>
                    <a:pt x="2606" y="300"/>
                  </a:lnTo>
                  <a:lnTo>
                    <a:pt x="2601" y="305"/>
                  </a:lnTo>
                  <a:lnTo>
                    <a:pt x="2596" y="311"/>
                  </a:lnTo>
                  <a:lnTo>
                    <a:pt x="2590" y="316"/>
                  </a:lnTo>
                  <a:lnTo>
                    <a:pt x="2585" y="327"/>
                  </a:lnTo>
                  <a:lnTo>
                    <a:pt x="2585" y="332"/>
                  </a:lnTo>
                  <a:lnTo>
                    <a:pt x="2579" y="338"/>
                  </a:lnTo>
                  <a:lnTo>
                    <a:pt x="2574" y="343"/>
                  </a:lnTo>
                  <a:lnTo>
                    <a:pt x="2563" y="349"/>
                  </a:lnTo>
                  <a:lnTo>
                    <a:pt x="2557" y="354"/>
                  </a:lnTo>
                  <a:lnTo>
                    <a:pt x="2557" y="365"/>
                  </a:lnTo>
                  <a:lnTo>
                    <a:pt x="2552" y="371"/>
                  </a:lnTo>
                  <a:lnTo>
                    <a:pt x="2546" y="376"/>
                  </a:lnTo>
                  <a:lnTo>
                    <a:pt x="2541" y="381"/>
                  </a:lnTo>
                  <a:lnTo>
                    <a:pt x="2530" y="387"/>
                  </a:lnTo>
                  <a:lnTo>
                    <a:pt x="2525" y="392"/>
                  </a:lnTo>
                  <a:lnTo>
                    <a:pt x="2514" y="398"/>
                  </a:lnTo>
                  <a:lnTo>
                    <a:pt x="2503" y="398"/>
                  </a:lnTo>
                  <a:lnTo>
                    <a:pt x="2492" y="398"/>
                  </a:lnTo>
                  <a:lnTo>
                    <a:pt x="2481" y="398"/>
                  </a:lnTo>
                  <a:lnTo>
                    <a:pt x="2470" y="403"/>
                  </a:lnTo>
                  <a:lnTo>
                    <a:pt x="2459" y="409"/>
                  </a:lnTo>
                  <a:lnTo>
                    <a:pt x="2454" y="409"/>
                  </a:lnTo>
                  <a:lnTo>
                    <a:pt x="2443" y="414"/>
                  </a:lnTo>
                  <a:lnTo>
                    <a:pt x="2432" y="414"/>
                  </a:lnTo>
                  <a:lnTo>
                    <a:pt x="2421" y="414"/>
                  </a:lnTo>
                  <a:lnTo>
                    <a:pt x="2405" y="414"/>
                  </a:lnTo>
                  <a:lnTo>
                    <a:pt x="2394" y="414"/>
                  </a:lnTo>
                  <a:lnTo>
                    <a:pt x="2383" y="414"/>
                  </a:lnTo>
                  <a:lnTo>
                    <a:pt x="2372" y="414"/>
                  </a:lnTo>
                  <a:lnTo>
                    <a:pt x="2361" y="414"/>
                  </a:lnTo>
                  <a:lnTo>
                    <a:pt x="2350" y="414"/>
                  </a:lnTo>
                  <a:lnTo>
                    <a:pt x="2339" y="414"/>
                  </a:lnTo>
                  <a:lnTo>
                    <a:pt x="2328" y="414"/>
                  </a:lnTo>
                  <a:lnTo>
                    <a:pt x="2317" y="414"/>
                  </a:lnTo>
                  <a:lnTo>
                    <a:pt x="2307" y="414"/>
                  </a:lnTo>
                  <a:lnTo>
                    <a:pt x="2296" y="414"/>
                  </a:lnTo>
                  <a:lnTo>
                    <a:pt x="2285" y="414"/>
                  </a:lnTo>
                  <a:lnTo>
                    <a:pt x="2274" y="414"/>
                  </a:lnTo>
                  <a:lnTo>
                    <a:pt x="2263" y="414"/>
                  </a:lnTo>
                  <a:lnTo>
                    <a:pt x="2252" y="414"/>
                  </a:lnTo>
                  <a:lnTo>
                    <a:pt x="2241" y="414"/>
                  </a:lnTo>
                  <a:lnTo>
                    <a:pt x="2225" y="420"/>
                  </a:lnTo>
                  <a:lnTo>
                    <a:pt x="2214" y="420"/>
                  </a:lnTo>
                  <a:lnTo>
                    <a:pt x="2203" y="420"/>
                  </a:lnTo>
                  <a:lnTo>
                    <a:pt x="2192" y="420"/>
                  </a:lnTo>
                  <a:lnTo>
                    <a:pt x="2181" y="420"/>
                  </a:lnTo>
                  <a:lnTo>
                    <a:pt x="2170" y="420"/>
                  </a:lnTo>
                  <a:lnTo>
                    <a:pt x="2159" y="420"/>
                  </a:lnTo>
                  <a:lnTo>
                    <a:pt x="2148" y="420"/>
                  </a:lnTo>
                  <a:lnTo>
                    <a:pt x="2138" y="420"/>
                  </a:lnTo>
                  <a:lnTo>
                    <a:pt x="2127" y="425"/>
                  </a:lnTo>
                  <a:lnTo>
                    <a:pt x="2116" y="431"/>
                  </a:lnTo>
                  <a:lnTo>
                    <a:pt x="2110" y="436"/>
                  </a:lnTo>
                  <a:lnTo>
                    <a:pt x="2099" y="436"/>
                  </a:lnTo>
                  <a:lnTo>
                    <a:pt x="2088" y="436"/>
                  </a:lnTo>
                  <a:lnTo>
                    <a:pt x="2083" y="431"/>
                  </a:lnTo>
                  <a:lnTo>
                    <a:pt x="2072" y="425"/>
                  </a:lnTo>
                  <a:lnTo>
                    <a:pt x="2061" y="420"/>
                  </a:lnTo>
                  <a:lnTo>
                    <a:pt x="2056" y="414"/>
                  </a:lnTo>
                  <a:lnTo>
                    <a:pt x="2045" y="409"/>
                  </a:lnTo>
                  <a:lnTo>
                    <a:pt x="2039" y="403"/>
                  </a:lnTo>
                  <a:lnTo>
                    <a:pt x="2029" y="398"/>
                  </a:lnTo>
                  <a:lnTo>
                    <a:pt x="2018" y="398"/>
                  </a:lnTo>
                  <a:lnTo>
                    <a:pt x="2007" y="392"/>
                  </a:lnTo>
                  <a:lnTo>
                    <a:pt x="2001" y="392"/>
                  </a:lnTo>
                  <a:lnTo>
                    <a:pt x="1990" y="387"/>
                  </a:lnTo>
                  <a:lnTo>
                    <a:pt x="1979" y="381"/>
                  </a:lnTo>
                  <a:lnTo>
                    <a:pt x="1974" y="376"/>
                  </a:lnTo>
                  <a:lnTo>
                    <a:pt x="1963" y="371"/>
                  </a:lnTo>
                  <a:lnTo>
                    <a:pt x="1952" y="371"/>
                  </a:lnTo>
                  <a:lnTo>
                    <a:pt x="1947" y="365"/>
                  </a:lnTo>
                  <a:lnTo>
                    <a:pt x="1936" y="360"/>
                  </a:lnTo>
                  <a:lnTo>
                    <a:pt x="1925" y="354"/>
                  </a:lnTo>
                  <a:lnTo>
                    <a:pt x="1914" y="354"/>
                  </a:lnTo>
                  <a:lnTo>
                    <a:pt x="1903" y="354"/>
                  </a:lnTo>
                  <a:lnTo>
                    <a:pt x="1892" y="360"/>
                  </a:lnTo>
                  <a:lnTo>
                    <a:pt x="1881" y="365"/>
                  </a:lnTo>
                  <a:lnTo>
                    <a:pt x="1870" y="365"/>
                  </a:lnTo>
                  <a:lnTo>
                    <a:pt x="1865" y="371"/>
                  </a:lnTo>
                  <a:lnTo>
                    <a:pt x="1854" y="376"/>
                  </a:lnTo>
                  <a:lnTo>
                    <a:pt x="1843" y="381"/>
                  </a:lnTo>
                  <a:lnTo>
                    <a:pt x="1832" y="381"/>
                  </a:lnTo>
                  <a:lnTo>
                    <a:pt x="1821" y="381"/>
                  </a:lnTo>
                  <a:lnTo>
                    <a:pt x="1810" y="387"/>
                  </a:lnTo>
                  <a:lnTo>
                    <a:pt x="1805" y="387"/>
                  </a:lnTo>
                  <a:lnTo>
                    <a:pt x="1794" y="392"/>
                  </a:lnTo>
                  <a:lnTo>
                    <a:pt x="1783" y="398"/>
                  </a:lnTo>
                  <a:lnTo>
                    <a:pt x="1778" y="403"/>
                  </a:lnTo>
                  <a:lnTo>
                    <a:pt x="1767" y="403"/>
                  </a:lnTo>
                  <a:lnTo>
                    <a:pt x="1756" y="409"/>
                  </a:lnTo>
                  <a:lnTo>
                    <a:pt x="1745" y="409"/>
                  </a:lnTo>
                  <a:lnTo>
                    <a:pt x="1734" y="409"/>
                  </a:lnTo>
                  <a:lnTo>
                    <a:pt x="1723" y="409"/>
                  </a:lnTo>
                  <a:lnTo>
                    <a:pt x="1712" y="414"/>
                  </a:lnTo>
                  <a:lnTo>
                    <a:pt x="1701" y="420"/>
                  </a:lnTo>
                  <a:lnTo>
                    <a:pt x="1696" y="420"/>
                  </a:lnTo>
                  <a:lnTo>
                    <a:pt x="1685" y="425"/>
                  </a:lnTo>
                  <a:lnTo>
                    <a:pt x="1674" y="431"/>
                  </a:lnTo>
                  <a:lnTo>
                    <a:pt x="1663" y="431"/>
                  </a:lnTo>
                  <a:lnTo>
                    <a:pt x="1652" y="425"/>
                  </a:lnTo>
                  <a:lnTo>
                    <a:pt x="1647" y="420"/>
                  </a:lnTo>
                  <a:lnTo>
                    <a:pt x="1641" y="414"/>
                  </a:lnTo>
                  <a:lnTo>
                    <a:pt x="1630" y="409"/>
                  </a:lnTo>
                  <a:lnTo>
                    <a:pt x="1620" y="409"/>
                  </a:lnTo>
                  <a:lnTo>
                    <a:pt x="1609" y="409"/>
                  </a:lnTo>
                  <a:lnTo>
                    <a:pt x="1598" y="414"/>
                  </a:lnTo>
                  <a:lnTo>
                    <a:pt x="1598" y="425"/>
                  </a:lnTo>
                  <a:lnTo>
                    <a:pt x="1592" y="431"/>
                  </a:lnTo>
                  <a:lnTo>
                    <a:pt x="1581" y="431"/>
                  </a:lnTo>
                  <a:lnTo>
                    <a:pt x="1571" y="431"/>
                  </a:lnTo>
                  <a:lnTo>
                    <a:pt x="1554" y="431"/>
                  </a:lnTo>
                  <a:lnTo>
                    <a:pt x="1543" y="431"/>
                  </a:lnTo>
                  <a:lnTo>
                    <a:pt x="1532" y="431"/>
                  </a:lnTo>
                  <a:lnTo>
                    <a:pt x="1527" y="436"/>
                  </a:lnTo>
                  <a:lnTo>
                    <a:pt x="1516" y="441"/>
                  </a:lnTo>
                  <a:lnTo>
                    <a:pt x="1505" y="447"/>
                  </a:lnTo>
                  <a:lnTo>
                    <a:pt x="1500" y="452"/>
                  </a:lnTo>
                  <a:lnTo>
                    <a:pt x="1494" y="458"/>
                  </a:lnTo>
                  <a:lnTo>
                    <a:pt x="1489" y="463"/>
                  </a:lnTo>
                  <a:lnTo>
                    <a:pt x="1483" y="469"/>
                  </a:lnTo>
                  <a:lnTo>
                    <a:pt x="1478" y="480"/>
                  </a:lnTo>
                  <a:lnTo>
                    <a:pt x="1472" y="485"/>
                  </a:lnTo>
                  <a:lnTo>
                    <a:pt x="1472" y="490"/>
                  </a:lnTo>
                  <a:lnTo>
                    <a:pt x="1478" y="496"/>
                  </a:lnTo>
                  <a:lnTo>
                    <a:pt x="1478" y="507"/>
                  </a:lnTo>
                  <a:lnTo>
                    <a:pt x="1478" y="512"/>
                  </a:lnTo>
                  <a:lnTo>
                    <a:pt x="1472" y="523"/>
                  </a:lnTo>
                  <a:lnTo>
                    <a:pt x="1467" y="529"/>
                  </a:lnTo>
                  <a:lnTo>
                    <a:pt x="1461" y="534"/>
                  </a:lnTo>
                  <a:lnTo>
                    <a:pt x="1451" y="540"/>
                  </a:lnTo>
                  <a:lnTo>
                    <a:pt x="1445" y="545"/>
                  </a:lnTo>
                  <a:lnTo>
                    <a:pt x="1440" y="550"/>
                  </a:lnTo>
                  <a:lnTo>
                    <a:pt x="1440" y="556"/>
                  </a:lnTo>
                  <a:lnTo>
                    <a:pt x="1440" y="567"/>
                  </a:lnTo>
                  <a:lnTo>
                    <a:pt x="1440" y="572"/>
                  </a:lnTo>
                  <a:lnTo>
                    <a:pt x="1440" y="578"/>
                  </a:lnTo>
                  <a:lnTo>
                    <a:pt x="1434" y="589"/>
                  </a:lnTo>
                  <a:lnTo>
                    <a:pt x="1429" y="594"/>
                  </a:lnTo>
                  <a:lnTo>
                    <a:pt x="1423" y="599"/>
                  </a:lnTo>
                  <a:lnTo>
                    <a:pt x="1418" y="605"/>
                  </a:lnTo>
                  <a:lnTo>
                    <a:pt x="1412" y="610"/>
                  </a:lnTo>
                  <a:lnTo>
                    <a:pt x="1407" y="621"/>
                  </a:lnTo>
                  <a:lnTo>
                    <a:pt x="1407" y="627"/>
                  </a:lnTo>
                  <a:lnTo>
                    <a:pt x="1407" y="632"/>
                  </a:lnTo>
                  <a:lnTo>
                    <a:pt x="1407" y="643"/>
                  </a:lnTo>
                  <a:lnTo>
                    <a:pt x="1407" y="649"/>
                  </a:lnTo>
                  <a:lnTo>
                    <a:pt x="1407" y="659"/>
                  </a:lnTo>
                  <a:lnTo>
                    <a:pt x="1401" y="665"/>
                  </a:lnTo>
                  <a:lnTo>
                    <a:pt x="1391" y="670"/>
                  </a:lnTo>
                  <a:lnTo>
                    <a:pt x="1385" y="670"/>
                  </a:lnTo>
                  <a:lnTo>
                    <a:pt x="1380" y="681"/>
                  </a:lnTo>
                  <a:lnTo>
                    <a:pt x="1374" y="687"/>
                  </a:lnTo>
                  <a:lnTo>
                    <a:pt x="1369" y="692"/>
                  </a:lnTo>
                  <a:lnTo>
                    <a:pt x="1358" y="692"/>
                  </a:lnTo>
                  <a:lnTo>
                    <a:pt x="1347" y="687"/>
                  </a:lnTo>
                  <a:lnTo>
                    <a:pt x="1336" y="687"/>
                  </a:lnTo>
                  <a:lnTo>
                    <a:pt x="1331" y="692"/>
                  </a:lnTo>
                  <a:lnTo>
                    <a:pt x="1325" y="698"/>
                  </a:lnTo>
                  <a:lnTo>
                    <a:pt x="1320" y="708"/>
                  </a:lnTo>
                  <a:lnTo>
                    <a:pt x="1320" y="714"/>
                  </a:lnTo>
                  <a:lnTo>
                    <a:pt x="1320" y="725"/>
                  </a:lnTo>
                  <a:lnTo>
                    <a:pt x="1325" y="730"/>
                  </a:lnTo>
                  <a:lnTo>
                    <a:pt x="1325" y="736"/>
                  </a:lnTo>
                  <a:lnTo>
                    <a:pt x="1325" y="741"/>
                  </a:lnTo>
                  <a:lnTo>
                    <a:pt x="1325" y="752"/>
                  </a:lnTo>
                  <a:lnTo>
                    <a:pt x="1325" y="758"/>
                  </a:lnTo>
                  <a:lnTo>
                    <a:pt x="1325" y="768"/>
                  </a:lnTo>
                  <a:lnTo>
                    <a:pt x="1320" y="774"/>
                  </a:lnTo>
                  <a:lnTo>
                    <a:pt x="1314" y="785"/>
                  </a:lnTo>
                  <a:lnTo>
                    <a:pt x="1309" y="790"/>
                  </a:lnTo>
                  <a:lnTo>
                    <a:pt x="1309" y="796"/>
                  </a:lnTo>
                  <a:lnTo>
                    <a:pt x="1303" y="790"/>
                  </a:lnTo>
                  <a:lnTo>
                    <a:pt x="1298" y="785"/>
                  </a:lnTo>
                  <a:lnTo>
                    <a:pt x="1292" y="774"/>
                  </a:lnTo>
                  <a:lnTo>
                    <a:pt x="1292" y="768"/>
                  </a:lnTo>
                  <a:lnTo>
                    <a:pt x="1292" y="758"/>
                  </a:lnTo>
                  <a:lnTo>
                    <a:pt x="1292" y="752"/>
                  </a:lnTo>
                  <a:lnTo>
                    <a:pt x="1292" y="747"/>
                  </a:lnTo>
                  <a:lnTo>
                    <a:pt x="1292" y="736"/>
                  </a:lnTo>
                  <a:lnTo>
                    <a:pt x="1298" y="730"/>
                  </a:lnTo>
                  <a:lnTo>
                    <a:pt x="1298" y="725"/>
                  </a:lnTo>
                  <a:lnTo>
                    <a:pt x="1298" y="714"/>
                  </a:lnTo>
                  <a:lnTo>
                    <a:pt x="1298" y="708"/>
                  </a:lnTo>
                  <a:lnTo>
                    <a:pt x="1298" y="703"/>
                  </a:lnTo>
                  <a:lnTo>
                    <a:pt x="1298" y="692"/>
                  </a:lnTo>
                  <a:lnTo>
                    <a:pt x="1298" y="687"/>
                  </a:lnTo>
                  <a:lnTo>
                    <a:pt x="1298" y="681"/>
                  </a:lnTo>
                  <a:lnTo>
                    <a:pt x="1303" y="670"/>
                  </a:lnTo>
                  <a:lnTo>
                    <a:pt x="1314" y="665"/>
                  </a:lnTo>
                  <a:lnTo>
                    <a:pt x="1320" y="659"/>
                  </a:lnTo>
                  <a:lnTo>
                    <a:pt x="1325" y="654"/>
                  </a:lnTo>
                  <a:lnTo>
                    <a:pt x="1325" y="649"/>
                  </a:lnTo>
                  <a:lnTo>
                    <a:pt x="1331" y="638"/>
                  </a:lnTo>
                  <a:lnTo>
                    <a:pt x="1331" y="632"/>
                  </a:lnTo>
                  <a:lnTo>
                    <a:pt x="1325" y="627"/>
                  </a:lnTo>
                  <a:lnTo>
                    <a:pt x="1325" y="616"/>
                  </a:lnTo>
                  <a:lnTo>
                    <a:pt x="1325" y="610"/>
                  </a:lnTo>
                  <a:lnTo>
                    <a:pt x="1331" y="605"/>
                  </a:lnTo>
                  <a:lnTo>
                    <a:pt x="1336" y="599"/>
                  </a:lnTo>
                  <a:lnTo>
                    <a:pt x="1347" y="594"/>
                  </a:lnTo>
                  <a:lnTo>
                    <a:pt x="1352" y="583"/>
                  </a:lnTo>
                  <a:lnTo>
                    <a:pt x="1358" y="578"/>
                  </a:lnTo>
                  <a:lnTo>
                    <a:pt x="1358" y="572"/>
                  </a:lnTo>
                  <a:lnTo>
                    <a:pt x="1358" y="567"/>
                  </a:lnTo>
                  <a:lnTo>
                    <a:pt x="1358" y="556"/>
                  </a:lnTo>
                  <a:lnTo>
                    <a:pt x="1352" y="550"/>
                  </a:lnTo>
                  <a:lnTo>
                    <a:pt x="1352" y="545"/>
                  </a:lnTo>
                  <a:lnTo>
                    <a:pt x="1358" y="540"/>
                  </a:lnTo>
                  <a:lnTo>
                    <a:pt x="1363" y="529"/>
                  </a:lnTo>
                  <a:lnTo>
                    <a:pt x="1369" y="523"/>
                  </a:lnTo>
                  <a:lnTo>
                    <a:pt x="1380" y="518"/>
                  </a:lnTo>
                  <a:lnTo>
                    <a:pt x="1385" y="512"/>
                  </a:lnTo>
                  <a:lnTo>
                    <a:pt x="1391" y="507"/>
                  </a:lnTo>
                  <a:lnTo>
                    <a:pt x="1391" y="501"/>
                  </a:lnTo>
                  <a:lnTo>
                    <a:pt x="1385" y="496"/>
                  </a:lnTo>
                  <a:lnTo>
                    <a:pt x="1385" y="485"/>
                  </a:lnTo>
                  <a:lnTo>
                    <a:pt x="1380" y="480"/>
                  </a:lnTo>
                  <a:lnTo>
                    <a:pt x="1374" y="469"/>
                  </a:lnTo>
                  <a:lnTo>
                    <a:pt x="1374" y="458"/>
                  </a:lnTo>
                  <a:lnTo>
                    <a:pt x="1374" y="452"/>
                  </a:lnTo>
                  <a:lnTo>
                    <a:pt x="1369" y="452"/>
                  </a:lnTo>
                  <a:lnTo>
                    <a:pt x="1363" y="452"/>
                  </a:lnTo>
                  <a:lnTo>
                    <a:pt x="1363" y="458"/>
                  </a:lnTo>
                  <a:lnTo>
                    <a:pt x="1358" y="469"/>
                  </a:lnTo>
                  <a:lnTo>
                    <a:pt x="1352" y="474"/>
                  </a:lnTo>
                  <a:lnTo>
                    <a:pt x="1347" y="485"/>
                  </a:lnTo>
                  <a:lnTo>
                    <a:pt x="1342" y="490"/>
                  </a:lnTo>
                  <a:lnTo>
                    <a:pt x="1336" y="496"/>
                  </a:lnTo>
                  <a:lnTo>
                    <a:pt x="1331" y="501"/>
                  </a:lnTo>
                  <a:lnTo>
                    <a:pt x="1320" y="507"/>
                  </a:lnTo>
                  <a:lnTo>
                    <a:pt x="1320" y="512"/>
                  </a:lnTo>
                  <a:lnTo>
                    <a:pt x="1314" y="523"/>
                  </a:lnTo>
                  <a:lnTo>
                    <a:pt x="1314" y="529"/>
                  </a:lnTo>
                  <a:lnTo>
                    <a:pt x="1314" y="534"/>
                  </a:lnTo>
                  <a:lnTo>
                    <a:pt x="1314" y="545"/>
                  </a:lnTo>
                  <a:lnTo>
                    <a:pt x="1309" y="550"/>
                  </a:lnTo>
                  <a:lnTo>
                    <a:pt x="1298" y="556"/>
                  </a:lnTo>
                  <a:lnTo>
                    <a:pt x="1292" y="561"/>
                  </a:lnTo>
                  <a:lnTo>
                    <a:pt x="1287" y="567"/>
                  </a:lnTo>
                  <a:lnTo>
                    <a:pt x="1287" y="572"/>
                  </a:lnTo>
                  <a:lnTo>
                    <a:pt x="1282" y="583"/>
                  </a:lnTo>
                  <a:lnTo>
                    <a:pt x="1282" y="589"/>
                  </a:lnTo>
                  <a:lnTo>
                    <a:pt x="1282" y="599"/>
                  </a:lnTo>
                  <a:lnTo>
                    <a:pt x="1276" y="605"/>
                  </a:lnTo>
                  <a:lnTo>
                    <a:pt x="1271" y="610"/>
                  </a:lnTo>
                  <a:lnTo>
                    <a:pt x="1265" y="616"/>
                  </a:lnTo>
                  <a:lnTo>
                    <a:pt x="1265" y="621"/>
                  </a:lnTo>
                  <a:lnTo>
                    <a:pt x="1260" y="632"/>
                  </a:lnTo>
                  <a:lnTo>
                    <a:pt x="1254" y="638"/>
                  </a:lnTo>
                  <a:lnTo>
                    <a:pt x="1254" y="643"/>
                  </a:lnTo>
                  <a:lnTo>
                    <a:pt x="1254" y="654"/>
                  </a:lnTo>
                  <a:lnTo>
                    <a:pt x="1254" y="659"/>
                  </a:lnTo>
                  <a:lnTo>
                    <a:pt x="1249" y="665"/>
                  </a:lnTo>
                  <a:lnTo>
                    <a:pt x="1249" y="676"/>
                  </a:lnTo>
                  <a:lnTo>
                    <a:pt x="1249" y="681"/>
                  </a:lnTo>
                  <a:lnTo>
                    <a:pt x="1249" y="687"/>
                  </a:lnTo>
                  <a:lnTo>
                    <a:pt x="1243" y="698"/>
                  </a:lnTo>
                  <a:lnTo>
                    <a:pt x="1243" y="703"/>
                  </a:lnTo>
                  <a:lnTo>
                    <a:pt x="1243" y="708"/>
                  </a:lnTo>
                  <a:lnTo>
                    <a:pt x="1243" y="719"/>
                  </a:lnTo>
                  <a:lnTo>
                    <a:pt x="1238" y="725"/>
                  </a:lnTo>
                  <a:lnTo>
                    <a:pt x="1232" y="730"/>
                  </a:lnTo>
                  <a:lnTo>
                    <a:pt x="1227" y="736"/>
                  </a:lnTo>
                  <a:lnTo>
                    <a:pt x="1227" y="747"/>
                  </a:lnTo>
                  <a:lnTo>
                    <a:pt x="1222" y="752"/>
                  </a:lnTo>
                  <a:lnTo>
                    <a:pt x="1222" y="758"/>
                  </a:lnTo>
                  <a:lnTo>
                    <a:pt x="1222" y="768"/>
                  </a:lnTo>
                  <a:lnTo>
                    <a:pt x="1222" y="774"/>
                  </a:lnTo>
                  <a:lnTo>
                    <a:pt x="1216" y="779"/>
                  </a:lnTo>
                  <a:lnTo>
                    <a:pt x="1216" y="790"/>
                  </a:lnTo>
                  <a:lnTo>
                    <a:pt x="1216" y="796"/>
                  </a:lnTo>
                  <a:lnTo>
                    <a:pt x="1216" y="801"/>
                  </a:lnTo>
                  <a:lnTo>
                    <a:pt x="1216" y="807"/>
                  </a:lnTo>
                  <a:lnTo>
                    <a:pt x="1211" y="817"/>
                  </a:lnTo>
                  <a:lnTo>
                    <a:pt x="1211" y="823"/>
                  </a:lnTo>
                  <a:lnTo>
                    <a:pt x="1211" y="834"/>
                  </a:lnTo>
                  <a:lnTo>
                    <a:pt x="1211" y="839"/>
                  </a:lnTo>
                  <a:lnTo>
                    <a:pt x="1211" y="850"/>
                  </a:lnTo>
                  <a:lnTo>
                    <a:pt x="1211" y="856"/>
                  </a:lnTo>
                  <a:lnTo>
                    <a:pt x="1211" y="861"/>
                  </a:lnTo>
                  <a:lnTo>
                    <a:pt x="1205" y="856"/>
                  </a:lnTo>
                  <a:lnTo>
                    <a:pt x="1200" y="850"/>
                  </a:lnTo>
                  <a:lnTo>
                    <a:pt x="1194" y="845"/>
                  </a:lnTo>
                  <a:lnTo>
                    <a:pt x="1189" y="828"/>
                  </a:lnTo>
                  <a:close/>
                  <a:moveTo>
                    <a:pt x="1145" y="703"/>
                  </a:moveTo>
                  <a:lnTo>
                    <a:pt x="1145" y="698"/>
                  </a:lnTo>
                  <a:lnTo>
                    <a:pt x="1145" y="698"/>
                  </a:lnTo>
                  <a:lnTo>
                    <a:pt x="1145" y="698"/>
                  </a:lnTo>
                  <a:lnTo>
                    <a:pt x="1145" y="698"/>
                  </a:lnTo>
                  <a:lnTo>
                    <a:pt x="1145" y="698"/>
                  </a:lnTo>
                  <a:lnTo>
                    <a:pt x="1151" y="698"/>
                  </a:lnTo>
                  <a:lnTo>
                    <a:pt x="1151" y="698"/>
                  </a:lnTo>
                  <a:lnTo>
                    <a:pt x="1151" y="703"/>
                  </a:lnTo>
                  <a:lnTo>
                    <a:pt x="1151" y="703"/>
                  </a:lnTo>
                  <a:lnTo>
                    <a:pt x="1151" y="703"/>
                  </a:lnTo>
                  <a:lnTo>
                    <a:pt x="1145" y="708"/>
                  </a:lnTo>
                  <a:lnTo>
                    <a:pt x="1145" y="708"/>
                  </a:lnTo>
                  <a:lnTo>
                    <a:pt x="1145" y="703"/>
                  </a:lnTo>
                  <a:lnTo>
                    <a:pt x="1145" y="703"/>
                  </a:lnTo>
                  <a:close/>
                  <a:moveTo>
                    <a:pt x="1391" y="638"/>
                  </a:moveTo>
                  <a:lnTo>
                    <a:pt x="1380" y="627"/>
                  </a:lnTo>
                  <a:lnTo>
                    <a:pt x="1374" y="621"/>
                  </a:lnTo>
                  <a:lnTo>
                    <a:pt x="1369" y="616"/>
                  </a:lnTo>
                  <a:lnTo>
                    <a:pt x="1369" y="621"/>
                  </a:lnTo>
                  <a:lnTo>
                    <a:pt x="1363" y="627"/>
                  </a:lnTo>
                  <a:lnTo>
                    <a:pt x="1363" y="638"/>
                  </a:lnTo>
                  <a:lnTo>
                    <a:pt x="1363" y="649"/>
                  </a:lnTo>
                  <a:lnTo>
                    <a:pt x="1363" y="654"/>
                  </a:lnTo>
                  <a:lnTo>
                    <a:pt x="1369" y="659"/>
                  </a:lnTo>
                  <a:lnTo>
                    <a:pt x="1369" y="665"/>
                  </a:lnTo>
                  <a:lnTo>
                    <a:pt x="1374" y="665"/>
                  </a:lnTo>
                  <a:lnTo>
                    <a:pt x="1380" y="659"/>
                  </a:lnTo>
                  <a:lnTo>
                    <a:pt x="1385" y="649"/>
                  </a:lnTo>
                  <a:lnTo>
                    <a:pt x="1391" y="638"/>
                  </a:lnTo>
                  <a:close/>
                  <a:moveTo>
                    <a:pt x="1412" y="572"/>
                  </a:moveTo>
                  <a:lnTo>
                    <a:pt x="1412" y="567"/>
                  </a:lnTo>
                  <a:lnTo>
                    <a:pt x="1407" y="561"/>
                  </a:lnTo>
                  <a:lnTo>
                    <a:pt x="1407" y="556"/>
                  </a:lnTo>
                  <a:lnTo>
                    <a:pt x="1401" y="556"/>
                  </a:lnTo>
                  <a:lnTo>
                    <a:pt x="1401" y="556"/>
                  </a:lnTo>
                  <a:lnTo>
                    <a:pt x="1396" y="561"/>
                  </a:lnTo>
                  <a:lnTo>
                    <a:pt x="1396" y="567"/>
                  </a:lnTo>
                  <a:lnTo>
                    <a:pt x="1396" y="572"/>
                  </a:lnTo>
                  <a:lnTo>
                    <a:pt x="1396" y="578"/>
                  </a:lnTo>
                  <a:lnTo>
                    <a:pt x="1396" y="583"/>
                  </a:lnTo>
                  <a:lnTo>
                    <a:pt x="1401" y="589"/>
                  </a:lnTo>
                  <a:lnTo>
                    <a:pt x="1407" y="589"/>
                  </a:lnTo>
                  <a:lnTo>
                    <a:pt x="1407" y="583"/>
                  </a:lnTo>
                  <a:lnTo>
                    <a:pt x="1412" y="572"/>
                  </a:lnTo>
                  <a:close/>
                  <a:moveTo>
                    <a:pt x="1701" y="545"/>
                  </a:moveTo>
                  <a:lnTo>
                    <a:pt x="1707" y="540"/>
                  </a:lnTo>
                  <a:lnTo>
                    <a:pt x="1712" y="534"/>
                  </a:lnTo>
                  <a:lnTo>
                    <a:pt x="1712" y="534"/>
                  </a:lnTo>
                  <a:lnTo>
                    <a:pt x="1718" y="534"/>
                  </a:lnTo>
                  <a:lnTo>
                    <a:pt x="1718" y="534"/>
                  </a:lnTo>
                  <a:lnTo>
                    <a:pt x="1723" y="534"/>
                  </a:lnTo>
                  <a:lnTo>
                    <a:pt x="1723" y="540"/>
                  </a:lnTo>
                  <a:lnTo>
                    <a:pt x="1723" y="540"/>
                  </a:lnTo>
                  <a:lnTo>
                    <a:pt x="1723" y="545"/>
                  </a:lnTo>
                  <a:lnTo>
                    <a:pt x="1718" y="545"/>
                  </a:lnTo>
                  <a:lnTo>
                    <a:pt x="1718" y="545"/>
                  </a:lnTo>
                  <a:lnTo>
                    <a:pt x="1712" y="545"/>
                  </a:lnTo>
                  <a:lnTo>
                    <a:pt x="1707" y="545"/>
                  </a:lnTo>
                  <a:lnTo>
                    <a:pt x="1701" y="545"/>
                  </a:lnTo>
                  <a:close/>
                  <a:moveTo>
                    <a:pt x="1401" y="414"/>
                  </a:moveTo>
                  <a:lnTo>
                    <a:pt x="1401" y="414"/>
                  </a:lnTo>
                  <a:lnTo>
                    <a:pt x="1401" y="409"/>
                  </a:lnTo>
                  <a:lnTo>
                    <a:pt x="1401" y="409"/>
                  </a:lnTo>
                  <a:lnTo>
                    <a:pt x="1401" y="409"/>
                  </a:lnTo>
                  <a:lnTo>
                    <a:pt x="1396" y="414"/>
                  </a:lnTo>
                  <a:lnTo>
                    <a:pt x="1396" y="414"/>
                  </a:lnTo>
                  <a:lnTo>
                    <a:pt x="1396" y="420"/>
                  </a:lnTo>
                  <a:lnTo>
                    <a:pt x="1396" y="420"/>
                  </a:lnTo>
                  <a:lnTo>
                    <a:pt x="1401" y="425"/>
                  </a:lnTo>
                  <a:lnTo>
                    <a:pt x="1401" y="425"/>
                  </a:lnTo>
                  <a:lnTo>
                    <a:pt x="1401" y="425"/>
                  </a:lnTo>
                  <a:lnTo>
                    <a:pt x="1401" y="420"/>
                  </a:lnTo>
                  <a:lnTo>
                    <a:pt x="1401" y="420"/>
                  </a:lnTo>
                  <a:lnTo>
                    <a:pt x="1401" y="414"/>
                  </a:lnTo>
                  <a:close/>
                  <a:moveTo>
                    <a:pt x="1102" y="289"/>
                  </a:moveTo>
                  <a:lnTo>
                    <a:pt x="1102" y="283"/>
                  </a:lnTo>
                  <a:lnTo>
                    <a:pt x="1107" y="278"/>
                  </a:lnTo>
                  <a:lnTo>
                    <a:pt x="1113" y="272"/>
                  </a:lnTo>
                  <a:lnTo>
                    <a:pt x="1118" y="267"/>
                  </a:lnTo>
                  <a:lnTo>
                    <a:pt x="1123" y="267"/>
                  </a:lnTo>
                  <a:lnTo>
                    <a:pt x="1129" y="262"/>
                  </a:lnTo>
                  <a:lnTo>
                    <a:pt x="1134" y="256"/>
                  </a:lnTo>
                  <a:lnTo>
                    <a:pt x="1134" y="251"/>
                  </a:lnTo>
                  <a:lnTo>
                    <a:pt x="1140" y="245"/>
                  </a:lnTo>
                  <a:lnTo>
                    <a:pt x="1145" y="240"/>
                  </a:lnTo>
                  <a:lnTo>
                    <a:pt x="1151" y="245"/>
                  </a:lnTo>
                  <a:lnTo>
                    <a:pt x="1156" y="251"/>
                  </a:lnTo>
                  <a:lnTo>
                    <a:pt x="1162" y="256"/>
                  </a:lnTo>
                  <a:lnTo>
                    <a:pt x="1156" y="262"/>
                  </a:lnTo>
                  <a:lnTo>
                    <a:pt x="1156" y="267"/>
                  </a:lnTo>
                  <a:lnTo>
                    <a:pt x="1145" y="267"/>
                  </a:lnTo>
                  <a:lnTo>
                    <a:pt x="1140" y="272"/>
                  </a:lnTo>
                  <a:lnTo>
                    <a:pt x="1140" y="278"/>
                  </a:lnTo>
                  <a:lnTo>
                    <a:pt x="1134" y="283"/>
                  </a:lnTo>
                  <a:lnTo>
                    <a:pt x="1129" y="289"/>
                  </a:lnTo>
                  <a:lnTo>
                    <a:pt x="1123" y="294"/>
                  </a:lnTo>
                  <a:lnTo>
                    <a:pt x="1118" y="300"/>
                  </a:lnTo>
                  <a:lnTo>
                    <a:pt x="1113" y="300"/>
                  </a:lnTo>
                  <a:lnTo>
                    <a:pt x="1107" y="300"/>
                  </a:lnTo>
                  <a:lnTo>
                    <a:pt x="1107" y="294"/>
                  </a:lnTo>
                  <a:lnTo>
                    <a:pt x="1102" y="289"/>
                  </a:lnTo>
                  <a:close/>
                  <a:moveTo>
                    <a:pt x="1183" y="223"/>
                  </a:moveTo>
                  <a:lnTo>
                    <a:pt x="1194" y="213"/>
                  </a:lnTo>
                  <a:lnTo>
                    <a:pt x="1200" y="207"/>
                  </a:lnTo>
                  <a:lnTo>
                    <a:pt x="1205" y="202"/>
                  </a:lnTo>
                  <a:lnTo>
                    <a:pt x="1216" y="202"/>
                  </a:lnTo>
                  <a:lnTo>
                    <a:pt x="1222" y="207"/>
                  </a:lnTo>
                  <a:lnTo>
                    <a:pt x="1227" y="218"/>
                  </a:lnTo>
                  <a:lnTo>
                    <a:pt x="1232" y="223"/>
                  </a:lnTo>
                  <a:lnTo>
                    <a:pt x="1227" y="234"/>
                  </a:lnTo>
                  <a:lnTo>
                    <a:pt x="1222" y="240"/>
                  </a:lnTo>
                  <a:lnTo>
                    <a:pt x="1211" y="245"/>
                  </a:lnTo>
                  <a:lnTo>
                    <a:pt x="1205" y="245"/>
                  </a:lnTo>
                  <a:lnTo>
                    <a:pt x="1200" y="240"/>
                  </a:lnTo>
                  <a:lnTo>
                    <a:pt x="1194" y="234"/>
                  </a:lnTo>
                  <a:lnTo>
                    <a:pt x="1183" y="223"/>
                  </a:lnTo>
                  <a:close/>
                  <a:moveTo>
                    <a:pt x="1919" y="98"/>
                  </a:moveTo>
                  <a:lnTo>
                    <a:pt x="1914" y="87"/>
                  </a:lnTo>
                  <a:lnTo>
                    <a:pt x="1914" y="82"/>
                  </a:lnTo>
                  <a:lnTo>
                    <a:pt x="1914" y="76"/>
                  </a:lnTo>
                  <a:lnTo>
                    <a:pt x="1914" y="71"/>
                  </a:lnTo>
                  <a:lnTo>
                    <a:pt x="1909" y="71"/>
                  </a:lnTo>
                  <a:lnTo>
                    <a:pt x="1909" y="71"/>
                  </a:lnTo>
                  <a:lnTo>
                    <a:pt x="1909" y="71"/>
                  </a:lnTo>
                  <a:lnTo>
                    <a:pt x="1909" y="76"/>
                  </a:lnTo>
                  <a:lnTo>
                    <a:pt x="1909" y="82"/>
                  </a:lnTo>
                  <a:lnTo>
                    <a:pt x="1909" y="87"/>
                  </a:lnTo>
                  <a:lnTo>
                    <a:pt x="1909" y="93"/>
                  </a:lnTo>
                  <a:lnTo>
                    <a:pt x="1909" y="98"/>
                  </a:lnTo>
                  <a:lnTo>
                    <a:pt x="1914" y="98"/>
                  </a:lnTo>
                  <a:lnTo>
                    <a:pt x="1919" y="98"/>
                  </a:lnTo>
                  <a:close/>
                  <a:moveTo>
                    <a:pt x="2672" y="1978"/>
                  </a:moveTo>
                  <a:lnTo>
                    <a:pt x="2705" y="1946"/>
                  </a:lnTo>
                  <a:lnTo>
                    <a:pt x="2737" y="1946"/>
                  </a:lnTo>
                  <a:lnTo>
                    <a:pt x="2770" y="1946"/>
                  </a:lnTo>
                  <a:lnTo>
                    <a:pt x="2797" y="1946"/>
                  </a:lnTo>
                  <a:lnTo>
                    <a:pt x="2830" y="1946"/>
                  </a:lnTo>
                  <a:lnTo>
                    <a:pt x="2863" y="1946"/>
                  </a:lnTo>
                  <a:lnTo>
                    <a:pt x="2895" y="1946"/>
                  </a:lnTo>
                  <a:lnTo>
                    <a:pt x="2928" y="1918"/>
                  </a:lnTo>
                  <a:lnTo>
                    <a:pt x="2928" y="1886"/>
                  </a:lnTo>
                  <a:lnTo>
                    <a:pt x="2928" y="1853"/>
                  </a:lnTo>
                  <a:lnTo>
                    <a:pt x="2928" y="1820"/>
                  </a:lnTo>
                  <a:lnTo>
                    <a:pt x="2961" y="1788"/>
                  </a:lnTo>
                  <a:lnTo>
                    <a:pt x="2961" y="1755"/>
                  </a:lnTo>
                  <a:lnTo>
                    <a:pt x="2961" y="1722"/>
                  </a:lnTo>
                  <a:lnTo>
                    <a:pt x="2961" y="1695"/>
                  </a:lnTo>
                  <a:lnTo>
                    <a:pt x="2988" y="1662"/>
                  </a:lnTo>
                  <a:lnTo>
                    <a:pt x="2988" y="1630"/>
                  </a:lnTo>
                  <a:lnTo>
                    <a:pt x="2988" y="1597"/>
                  </a:lnTo>
                  <a:lnTo>
                    <a:pt x="2988" y="1564"/>
                  </a:lnTo>
                  <a:lnTo>
                    <a:pt x="3021" y="1531"/>
                  </a:lnTo>
                  <a:lnTo>
                    <a:pt x="3021" y="1499"/>
                  </a:lnTo>
                  <a:lnTo>
                    <a:pt x="3021" y="1472"/>
                  </a:lnTo>
                  <a:lnTo>
                    <a:pt x="3021" y="1439"/>
                  </a:lnTo>
                  <a:lnTo>
                    <a:pt x="3054" y="1406"/>
                  </a:lnTo>
                  <a:lnTo>
                    <a:pt x="3054" y="1373"/>
                  </a:lnTo>
                  <a:lnTo>
                    <a:pt x="3054" y="1341"/>
                  </a:lnTo>
                  <a:lnTo>
                    <a:pt x="3054" y="1308"/>
                  </a:lnTo>
                  <a:lnTo>
                    <a:pt x="3086" y="1275"/>
                  </a:lnTo>
                  <a:lnTo>
                    <a:pt x="3086" y="1248"/>
                  </a:lnTo>
                  <a:lnTo>
                    <a:pt x="3086" y="1215"/>
                  </a:lnTo>
                  <a:lnTo>
                    <a:pt x="3086" y="1183"/>
                  </a:lnTo>
                  <a:lnTo>
                    <a:pt x="3086" y="1150"/>
                  </a:lnTo>
                  <a:lnTo>
                    <a:pt x="3086" y="1117"/>
                  </a:lnTo>
                  <a:lnTo>
                    <a:pt x="3086" y="1085"/>
                  </a:lnTo>
                  <a:lnTo>
                    <a:pt x="3086" y="1052"/>
                  </a:lnTo>
                  <a:lnTo>
                    <a:pt x="3086" y="1025"/>
                  </a:lnTo>
                  <a:lnTo>
                    <a:pt x="3086" y="992"/>
                  </a:lnTo>
                  <a:lnTo>
                    <a:pt x="3086" y="959"/>
                  </a:lnTo>
                  <a:lnTo>
                    <a:pt x="3086" y="927"/>
                  </a:lnTo>
                  <a:lnTo>
                    <a:pt x="3086" y="894"/>
                  </a:lnTo>
                  <a:lnTo>
                    <a:pt x="3086" y="861"/>
                  </a:lnTo>
                  <a:lnTo>
                    <a:pt x="3086" y="828"/>
                  </a:lnTo>
                  <a:lnTo>
                    <a:pt x="3086" y="801"/>
                  </a:lnTo>
                  <a:lnTo>
                    <a:pt x="3086" y="768"/>
                  </a:lnTo>
                  <a:lnTo>
                    <a:pt x="3086" y="736"/>
                  </a:lnTo>
                  <a:lnTo>
                    <a:pt x="3086" y="703"/>
                  </a:lnTo>
                  <a:lnTo>
                    <a:pt x="3086" y="670"/>
                  </a:lnTo>
                  <a:lnTo>
                    <a:pt x="3086" y="638"/>
                  </a:lnTo>
                  <a:lnTo>
                    <a:pt x="3086" y="605"/>
                  </a:lnTo>
                  <a:lnTo>
                    <a:pt x="3086" y="572"/>
                  </a:lnTo>
                  <a:lnTo>
                    <a:pt x="3086" y="545"/>
                  </a:lnTo>
                  <a:lnTo>
                    <a:pt x="3086" y="512"/>
                  </a:lnTo>
                  <a:lnTo>
                    <a:pt x="3086" y="480"/>
                  </a:lnTo>
                  <a:lnTo>
                    <a:pt x="3086" y="447"/>
                  </a:lnTo>
                  <a:lnTo>
                    <a:pt x="3086" y="414"/>
                  </a:lnTo>
                  <a:lnTo>
                    <a:pt x="3086" y="381"/>
                  </a:lnTo>
                  <a:lnTo>
                    <a:pt x="3086" y="354"/>
                  </a:lnTo>
                  <a:lnTo>
                    <a:pt x="3086" y="322"/>
                  </a:lnTo>
                  <a:lnTo>
                    <a:pt x="3086" y="289"/>
                  </a:lnTo>
                  <a:lnTo>
                    <a:pt x="3054" y="256"/>
                  </a:lnTo>
                  <a:lnTo>
                    <a:pt x="3054" y="223"/>
                  </a:lnTo>
                  <a:lnTo>
                    <a:pt x="3054" y="191"/>
                  </a:lnTo>
                  <a:lnTo>
                    <a:pt x="3054" y="158"/>
                  </a:lnTo>
                  <a:lnTo>
                    <a:pt x="3054" y="125"/>
                  </a:lnTo>
                  <a:lnTo>
                    <a:pt x="3021" y="98"/>
                  </a:lnTo>
                  <a:lnTo>
                    <a:pt x="2988" y="98"/>
                  </a:lnTo>
                  <a:lnTo>
                    <a:pt x="2961" y="98"/>
                  </a:lnTo>
                  <a:lnTo>
                    <a:pt x="2928" y="65"/>
                  </a:lnTo>
                  <a:lnTo>
                    <a:pt x="2895" y="65"/>
                  </a:lnTo>
                  <a:lnTo>
                    <a:pt x="2863" y="65"/>
                  </a:lnTo>
                  <a:lnTo>
                    <a:pt x="2830" y="33"/>
                  </a:lnTo>
                  <a:lnTo>
                    <a:pt x="2797" y="33"/>
                  </a:lnTo>
                  <a:lnTo>
                    <a:pt x="2770" y="33"/>
                  </a:lnTo>
                  <a:lnTo>
                    <a:pt x="2737" y="0"/>
                  </a:lnTo>
                  <a:lnTo>
                    <a:pt x="2705" y="0"/>
                  </a:lnTo>
                  <a:lnTo>
                    <a:pt x="2672" y="0"/>
                  </a:lnTo>
                  <a:lnTo>
                    <a:pt x="2639" y="0"/>
                  </a:lnTo>
                  <a:lnTo>
                    <a:pt x="2612" y="0"/>
                  </a:lnTo>
                  <a:lnTo>
                    <a:pt x="2579" y="0"/>
                  </a:lnTo>
                  <a:lnTo>
                    <a:pt x="2546" y="0"/>
                  </a:lnTo>
                  <a:lnTo>
                    <a:pt x="2514" y="0"/>
                  </a:lnTo>
                  <a:lnTo>
                    <a:pt x="2481" y="0"/>
                  </a:lnTo>
                  <a:lnTo>
                    <a:pt x="2448" y="0"/>
                  </a:lnTo>
                  <a:lnTo>
                    <a:pt x="2421" y="0"/>
                  </a:lnTo>
                  <a:lnTo>
                    <a:pt x="2388" y="0"/>
                  </a:lnTo>
                  <a:lnTo>
                    <a:pt x="2356" y="0"/>
                  </a:lnTo>
                  <a:lnTo>
                    <a:pt x="2323" y="0"/>
                  </a:lnTo>
                  <a:lnTo>
                    <a:pt x="2290" y="0"/>
                  </a:lnTo>
                  <a:lnTo>
                    <a:pt x="2258" y="0"/>
                  </a:lnTo>
                  <a:lnTo>
                    <a:pt x="2230" y="0"/>
                  </a:lnTo>
                  <a:lnTo>
                    <a:pt x="2198" y="0"/>
                  </a:lnTo>
                  <a:lnTo>
                    <a:pt x="2165" y="0"/>
                  </a:lnTo>
                  <a:lnTo>
                    <a:pt x="2132" y="0"/>
                  </a:lnTo>
                  <a:lnTo>
                    <a:pt x="2099" y="0"/>
                  </a:lnTo>
                  <a:lnTo>
                    <a:pt x="2067" y="0"/>
                  </a:lnTo>
                  <a:lnTo>
                    <a:pt x="2039" y="0"/>
                  </a:lnTo>
                  <a:lnTo>
                    <a:pt x="2007" y="0"/>
                  </a:lnTo>
                  <a:lnTo>
                    <a:pt x="1974" y="0"/>
                  </a:lnTo>
                  <a:lnTo>
                    <a:pt x="1941" y="0"/>
                  </a:lnTo>
                  <a:lnTo>
                    <a:pt x="1909" y="0"/>
                  </a:lnTo>
                  <a:lnTo>
                    <a:pt x="1876" y="0"/>
                  </a:lnTo>
                  <a:lnTo>
                    <a:pt x="1849" y="0"/>
                  </a:lnTo>
                  <a:lnTo>
                    <a:pt x="1816" y="0"/>
                  </a:lnTo>
                  <a:lnTo>
                    <a:pt x="1783" y="0"/>
                  </a:lnTo>
                  <a:lnTo>
                    <a:pt x="1750" y="0"/>
                  </a:lnTo>
                  <a:lnTo>
                    <a:pt x="1718" y="0"/>
                  </a:lnTo>
                  <a:lnTo>
                    <a:pt x="1685" y="0"/>
                  </a:lnTo>
                  <a:lnTo>
                    <a:pt x="1658" y="0"/>
                  </a:lnTo>
                  <a:lnTo>
                    <a:pt x="1625" y="0"/>
                  </a:lnTo>
                  <a:lnTo>
                    <a:pt x="1592" y="0"/>
                  </a:lnTo>
                  <a:lnTo>
                    <a:pt x="1560" y="0"/>
                  </a:lnTo>
                  <a:lnTo>
                    <a:pt x="1527" y="0"/>
                  </a:lnTo>
                  <a:lnTo>
                    <a:pt x="1494" y="0"/>
                  </a:lnTo>
                  <a:lnTo>
                    <a:pt x="1467" y="0"/>
                  </a:lnTo>
                  <a:lnTo>
                    <a:pt x="1434" y="0"/>
                  </a:lnTo>
                  <a:lnTo>
                    <a:pt x="1401" y="0"/>
                  </a:lnTo>
                  <a:lnTo>
                    <a:pt x="1369" y="0"/>
                  </a:lnTo>
                  <a:lnTo>
                    <a:pt x="1336" y="0"/>
                  </a:lnTo>
                  <a:lnTo>
                    <a:pt x="1303" y="0"/>
                  </a:lnTo>
                  <a:lnTo>
                    <a:pt x="1276" y="0"/>
                  </a:lnTo>
                  <a:lnTo>
                    <a:pt x="1243" y="0"/>
                  </a:lnTo>
                  <a:lnTo>
                    <a:pt x="1211" y="0"/>
                  </a:lnTo>
                  <a:lnTo>
                    <a:pt x="1178" y="0"/>
                  </a:lnTo>
                  <a:lnTo>
                    <a:pt x="1145" y="0"/>
                  </a:lnTo>
                  <a:lnTo>
                    <a:pt x="1113" y="0"/>
                  </a:lnTo>
                  <a:lnTo>
                    <a:pt x="1085" y="0"/>
                  </a:lnTo>
                  <a:lnTo>
                    <a:pt x="1053" y="0"/>
                  </a:lnTo>
                  <a:lnTo>
                    <a:pt x="1020" y="0"/>
                  </a:lnTo>
                  <a:lnTo>
                    <a:pt x="987" y="0"/>
                  </a:lnTo>
                  <a:lnTo>
                    <a:pt x="954" y="0"/>
                  </a:lnTo>
                  <a:lnTo>
                    <a:pt x="922" y="0"/>
                  </a:lnTo>
                  <a:lnTo>
                    <a:pt x="894" y="0"/>
                  </a:lnTo>
                  <a:lnTo>
                    <a:pt x="862" y="0"/>
                  </a:lnTo>
                  <a:lnTo>
                    <a:pt x="829" y="0"/>
                  </a:lnTo>
                  <a:lnTo>
                    <a:pt x="796" y="0"/>
                  </a:lnTo>
                  <a:lnTo>
                    <a:pt x="764" y="0"/>
                  </a:lnTo>
                  <a:lnTo>
                    <a:pt x="731" y="0"/>
                  </a:lnTo>
                  <a:lnTo>
                    <a:pt x="704" y="33"/>
                  </a:lnTo>
                  <a:lnTo>
                    <a:pt x="671" y="65"/>
                  </a:lnTo>
                  <a:lnTo>
                    <a:pt x="638" y="98"/>
                  </a:lnTo>
                  <a:lnTo>
                    <a:pt x="605" y="125"/>
                  </a:lnTo>
                  <a:lnTo>
                    <a:pt x="573" y="158"/>
                  </a:lnTo>
                  <a:lnTo>
                    <a:pt x="545" y="158"/>
                  </a:lnTo>
                  <a:lnTo>
                    <a:pt x="513" y="191"/>
                  </a:lnTo>
                  <a:lnTo>
                    <a:pt x="480" y="223"/>
                  </a:lnTo>
                  <a:lnTo>
                    <a:pt x="447" y="256"/>
                  </a:lnTo>
                  <a:lnTo>
                    <a:pt x="415" y="289"/>
                  </a:lnTo>
                  <a:lnTo>
                    <a:pt x="382" y="322"/>
                  </a:lnTo>
                  <a:lnTo>
                    <a:pt x="355" y="354"/>
                  </a:lnTo>
                  <a:lnTo>
                    <a:pt x="322" y="381"/>
                  </a:lnTo>
                  <a:lnTo>
                    <a:pt x="289" y="381"/>
                  </a:lnTo>
                  <a:lnTo>
                    <a:pt x="257" y="414"/>
                  </a:lnTo>
                  <a:lnTo>
                    <a:pt x="224" y="447"/>
                  </a:lnTo>
                  <a:lnTo>
                    <a:pt x="191" y="480"/>
                  </a:lnTo>
                  <a:lnTo>
                    <a:pt x="164" y="512"/>
                  </a:lnTo>
                  <a:lnTo>
                    <a:pt x="131" y="545"/>
                  </a:lnTo>
                  <a:lnTo>
                    <a:pt x="98" y="572"/>
                  </a:lnTo>
                  <a:lnTo>
                    <a:pt x="66" y="605"/>
                  </a:lnTo>
                  <a:lnTo>
                    <a:pt x="33" y="605"/>
                  </a:lnTo>
                  <a:lnTo>
                    <a:pt x="0" y="638"/>
                  </a:lnTo>
                  <a:lnTo>
                    <a:pt x="0" y="670"/>
                  </a:lnTo>
                  <a:lnTo>
                    <a:pt x="0" y="703"/>
                  </a:lnTo>
                  <a:lnTo>
                    <a:pt x="0" y="736"/>
                  </a:lnTo>
                  <a:lnTo>
                    <a:pt x="33" y="768"/>
                  </a:lnTo>
                  <a:lnTo>
                    <a:pt x="33" y="801"/>
                  </a:lnTo>
                  <a:lnTo>
                    <a:pt x="66" y="828"/>
                  </a:lnTo>
                  <a:lnTo>
                    <a:pt x="98" y="861"/>
                  </a:lnTo>
                  <a:lnTo>
                    <a:pt x="131" y="894"/>
                  </a:lnTo>
                  <a:lnTo>
                    <a:pt x="164" y="927"/>
                  </a:lnTo>
                  <a:lnTo>
                    <a:pt x="164" y="959"/>
                  </a:lnTo>
                  <a:lnTo>
                    <a:pt x="191" y="992"/>
                  </a:lnTo>
                  <a:lnTo>
                    <a:pt x="224" y="1025"/>
                  </a:lnTo>
                  <a:lnTo>
                    <a:pt x="257" y="1052"/>
                  </a:lnTo>
                  <a:lnTo>
                    <a:pt x="289" y="1085"/>
                  </a:lnTo>
                  <a:lnTo>
                    <a:pt x="322" y="1117"/>
                  </a:lnTo>
                  <a:lnTo>
                    <a:pt x="355" y="1150"/>
                  </a:lnTo>
                  <a:lnTo>
                    <a:pt x="355" y="1183"/>
                  </a:lnTo>
                  <a:lnTo>
                    <a:pt x="382" y="1215"/>
                  </a:lnTo>
                  <a:lnTo>
                    <a:pt x="415" y="1248"/>
                  </a:lnTo>
                  <a:lnTo>
                    <a:pt x="447" y="1275"/>
                  </a:lnTo>
                  <a:lnTo>
                    <a:pt x="480" y="1308"/>
                  </a:lnTo>
                  <a:lnTo>
                    <a:pt x="513" y="1341"/>
                  </a:lnTo>
                  <a:lnTo>
                    <a:pt x="545" y="1373"/>
                  </a:lnTo>
                  <a:lnTo>
                    <a:pt x="573" y="1406"/>
                  </a:lnTo>
                  <a:lnTo>
                    <a:pt x="605" y="1439"/>
                  </a:lnTo>
                  <a:lnTo>
                    <a:pt x="638" y="1472"/>
                  </a:lnTo>
                  <a:lnTo>
                    <a:pt x="671" y="1499"/>
                  </a:lnTo>
                  <a:lnTo>
                    <a:pt x="704" y="1531"/>
                  </a:lnTo>
                  <a:lnTo>
                    <a:pt x="731" y="1564"/>
                  </a:lnTo>
                  <a:lnTo>
                    <a:pt x="764" y="1597"/>
                  </a:lnTo>
                  <a:lnTo>
                    <a:pt x="796" y="1630"/>
                  </a:lnTo>
                  <a:lnTo>
                    <a:pt x="829" y="1662"/>
                  </a:lnTo>
                  <a:lnTo>
                    <a:pt x="862" y="1695"/>
                  </a:lnTo>
                  <a:lnTo>
                    <a:pt x="894" y="1722"/>
                  </a:lnTo>
                  <a:lnTo>
                    <a:pt x="922" y="1755"/>
                  </a:lnTo>
                  <a:lnTo>
                    <a:pt x="954" y="1755"/>
                  </a:lnTo>
                  <a:lnTo>
                    <a:pt x="987" y="1788"/>
                  </a:lnTo>
                  <a:lnTo>
                    <a:pt x="1020" y="1820"/>
                  </a:lnTo>
                  <a:lnTo>
                    <a:pt x="1053" y="1853"/>
                  </a:lnTo>
                  <a:lnTo>
                    <a:pt x="1085" y="1886"/>
                  </a:lnTo>
                  <a:lnTo>
                    <a:pt x="1113" y="1918"/>
                  </a:lnTo>
                  <a:lnTo>
                    <a:pt x="1145" y="1946"/>
                  </a:lnTo>
                  <a:lnTo>
                    <a:pt x="1178" y="1978"/>
                  </a:lnTo>
                  <a:lnTo>
                    <a:pt x="1211" y="1978"/>
                  </a:lnTo>
                  <a:lnTo>
                    <a:pt x="1243" y="1978"/>
                  </a:lnTo>
                  <a:lnTo>
                    <a:pt x="1276" y="1978"/>
                  </a:lnTo>
                  <a:lnTo>
                    <a:pt x="1303" y="1978"/>
                  </a:lnTo>
                  <a:lnTo>
                    <a:pt x="1336" y="1978"/>
                  </a:lnTo>
                  <a:lnTo>
                    <a:pt x="1369" y="1978"/>
                  </a:lnTo>
                  <a:lnTo>
                    <a:pt x="1401" y="1978"/>
                  </a:lnTo>
                  <a:lnTo>
                    <a:pt x="1434" y="1978"/>
                  </a:lnTo>
                  <a:lnTo>
                    <a:pt x="1467" y="1978"/>
                  </a:lnTo>
                  <a:lnTo>
                    <a:pt x="1494" y="1978"/>
                  </a:lnTo>
                  <a:lnTo>
                    <a:pt x="1527" y="1978"/>
                  </a:lnTo>
                  <a:lnTo>
                    <a:pt x="1560" y="1978"/>
                  </a:lnTo>
                  <a:lnTo>
                    <a:pt x="1592" y="1978"/>
                  </a:lnTo>
                  <a:lnTo>
                    <a:pt x="1625" y="1978"/>
                  </a:lnTo>
                  <a:lnTo>
                    <a:pt x="1658" y="1978"/>
                  </a:lnTo>
                  <a:lnTo>
                    <a:pt x="1685" y="1978"/>
                  </a:lnTo>
                  <a:lnTo>
                    <a:pt x="1718" y="1978"/>
                  </a:lnTo>
                  <a:lnTo>
                    <a:pt x="1750" y="1978"/>
                  </a:lnTo>
                  <a:lnTo>
                    <a:pt x="1783" y="1978"/>
                  </a:lnTo>
                  <a:lnTo>
                    <a:pt x="1816" y="1978"/>
                  </a:lnTo>
                  <a:lnTo>
                    <a:pt x="1849" y="1978"/>
                  </a:lnTo>
                  <a:lnTo>
                    <a:pt x="1876" y="1978"/>
                  </a:lnTo>
                  <a:lnTo>
                    <a:pt x="1909" y="1978"/>
                  </a:lnTo>
                  <a:lnTo>
                    <a:pt x="1941" y="1978"/>
                  </a:lnTo>
                  <a:lnTo>
                    <a:pt x="1974" y="1978"/>
                  </a:lnTo>
                  <a:lnTo>
                    <a:pt x="2007" y="1978"/>
                  </a:lnTo>
                  <a:lnTo>
                    <a:pt x="2039" y="1978"/>
                  </a:lnTo>
                  <a:lnTo>
                    <a:pt x="2067" y="1978"/>
                  </a:lnTo>
                  <a:lnTo>
                    <a:pt x="2099" y="1978"/>
                  </a:lnTo>
                  <a:lnTo>
                    <a:pt x="2132" y="1978"/>
                  </a:lnTo>
                  <a:lnTo>
                    <a:pt x="2165" y="1978"/>
                  </a:lnTo>
                  <a:lnTo>
                    <a:pt x="2198" y="1978"/>
                  </a:lnTo>
                  <a:lnTo>
                    <a:pt x="2230" y="1978"/>
                  </a:lnTo>
                  <a:lnTo>
                    <a:pt x="2258" y="1978"/>
                  </a:lnTo>
                  <a:lnTo>
                    <a:pt x="2290" y="1978"/>
                  </a:lnTo>
                  <a:lnTo>
                    <a:pt x="2323" y="1978"/>
                  </a:lnTo>
                  <a:lnTo>
                    <a:pt x="2356" y="1978"/>
                  </a:lnTo>
                  <a:lnTo>
                    <a:pt x="2388" y="1978"/>
                  </a:lnTo>
                  <a:lnTo>
                    <a:pt x="2421" y="1978"/>
                  </a:lnTo>
                  <a:lnTo>
                    <a:pt x="2448" y="1978"/>
                  </a:lnTo>
                  <a:lnTo>
                    <a:pt x="2481" y="1978"/>
                  </a:lnTo>
                  <a:lnTo>
                    <a:pt x="2514" y="1978"/>
                  </a:lnTo>
                  <a:lnTo>
                    <a:pt x="2546" y="1978"/>
                  </a:lnTo>
                  <a:lnTo>
                    <a:pt x="2579" y="1978"/>
                  </a:lnTo>
                  <a:lnTo>
                    <a:pt x="2612" y="1978"/>
                  </a:lnTo>
                  <a:lnTo>
                    <a:pt x="2639" y="1978"/>
                  </a:lnTo>
                  <a:lnTo>
                    <a:pt x="2672" y="1978"/>
                  </a:lnTo>
                  <a:close/>
                  <a:moveTo>
                    <a:pt x="1232" y="638"/>
                  </a:moveTo>
                  <a:lnTo>
                    <a:pt x="1238" y="627"/>
                  </a:lnTo>
                  <a:lnTo>
                    <a:pt x="1238" y="621"/>
                  </a:lnTo>
                  <a:lnTo>
                    <a:pt x="1243" y="621"/>
                  </a:lnTo>
                  <a:lnTo>
                    <a:pt x="1243" y="621"/>
                  </a:lnTo>
                  <a:lnTo>
                    <a:pt x="1243" y="627"/>
                  </a:lnTo>
                  <a:lnTo>
                    <a:pt x="1243" y="632"/>
                  </a:lnTo>
                  <a:lnTo>
                    <a:pt x="1243" y="638"/>
                  </a:lnTo>
                  <a:lnTo>
                    <a:pt x="1243" y="649"/>
                  </a:lnTo>
                  <a:lnTo>
                    <a:pt x="1243" y="654"/>
                  </a:lnTo>
                  <a:lnTo>
                    <a:pt x="1243" y="659"/>
                  </a:lnTo>
                  <a:lnTo>
                    <a:pt x="1243" y="659"/>
                  </a:lnTo>
                  <a:lnTo>
                    <a:pt x="1238" y="654"/>
                  </a:lnTo>
                  <a:lnTo>
                    <a:pt x="1238" y="649"/>
                  </a:lnTo>
                  <a:lnTo>
                    <a:pt x="1232" y="638"/>
                  </a:lnTo>
                  <a:close/>
                  <a:moveTo>
                    <a:pt x="1336" y="638"/>
                  </a:moveTo>
                  <a:lnTo>
                    <a:pt x="1336" y="632"/>
                  </a:lnTo>
                  <a:lnTo>
                    <a:pt x="1336" y="627"/>
                  </a:lnTo>
                  <a:lnTo>
                    <a:pt x="1336" y="627"/>
                  </a:lnTo>
                  <a:lnTo>
                    <a:pt x="1336" y="627"/>
                  </a:lnTo>
                  <a:lnTo>
                    <a:pt x="1336" y="621"/>
                  </a:lnTo>
                  <a:lnTo>
                    <a:pt x="1336" y="627"/>
                  </a:lnTo>
                  <a:lnTo>
                    <a:pt x="1342" y="627"/>
                  </a:lnTo>
                  <a:lnTo>
                    <a:pt x="1342" y="632"/>
                  </a:lnTo>
                  <a:lnTo>
                    <a:pt x="1342" y="632"/>
                  </a:lnTo>
                  <a:lnTo>
                    <a:pt x="1342" y="638"/>
                  </a:lnTo>
                  <a:lnTo>
                    <a:pt x="1342" y="643"/>
                  </a:lnTo>
                  <a:lnTo>
                    <a:pt x="1336" y="643"/>
                  </a:lnTo>
                  <a:lnTo>
                    <a:pt x="1336" y="643"/>
                  </a:lnTo>
                  <a:lnTo>
                    <a:pt x="1336" y="638"/>
                  </a:lnTo>
                  <a:close/>
                  <a:moveTo>
                    <a:pt x="1265" y="545"/>
                  </a:moveTo>
                  <a:lnTo>
                    <a:pt x="1265" y="534"/>
                  </a:lnTo>
                  <a:lnTo>
                    <a:pt x="1271" y="529"/>
                  </a:lnTo>
                  <a:lnTo>
                    <a:pt x="1271" y="529"/>
                  </a:lnTo>
                  <a:lnTo>
                    <a:pt x="1276" y="529"/>
                  </a:lnTo>
                  <a:lnTo>
                    <a:pt x="1282" y="534"/>
                  </a:lnTo>
                  <a:lnTo>
                    <a:pt x="1287" y="540"/>
                  </a:lnTo>
                  <a:lnTo>
                    <a:pt x="1287" y="545"/>
                  </a:lnTo>
                  <a:lnTo>
                    <a:pt x="1287" y="550"/>
                  </a:lnTo>
                  <a:lnTo>
                    <a:pt x="1282" y="556"/>
                  </a:lnTo>
                  <a:lnTo>
                    <a:pt x="1276" y="561"/>
                  </a:lnTo>
                  <a:lnTo>
                    <a:pt x="1271" y="561"/>
                  </a:lnTo>
                  <a:lnTo>
                    <a:pt x="1271" y="556"/>
                  </a:lnTo>
                  <a:lnTo>
                    <a:pt x="1265" y="550"/>
                  </a:lnTo>
                  <a:lnTo>
                    <a:pt x="1265" y="545"/>
                  </a:lnTo>
                  <a:close/>
                  <a:moveTo>
                    <a:pt x="1363" y="545"/>
                  </a:moveTo>
                  <a:lnTo>
                    <a:pt x="1369" y="540"/>
                  </a:lnTo>
                  <a:lnTo>
                    <a:pt x="1374" y="540"/>
                  </a:lnTo>
                  <a:lnTo>
                    <a:pt x="1380" y="545"/>
                  </a:lnTo>
                  <a:lnTo>
                    <a:pt x="1380" y="550"/>
                  </a:lnTo>
                  <a:lnTo>
                    <a:pt x="1380" y="556"/>
                  </a:lnTo>
                  <a:lnTo>
                    <a:pt x="1380" y="561"/>
                  </a:lnTo>
                  <a:lnTo>
                    <a:pt x="1374" y="567"/>
                  </a:lnTo>
                  <a:lnTo>
                    <a:pt x="1369" y="572"/>
                  </a:lnTo>
                  <a:lnTo>
                    <a:pt x="1369" y="572"/>
                  </a:lnTo>
                  <a:lnTo>
                    <a:pt x="1369" y="567"/>
                  </a:lnTo>
                  <a:lnTo>
                    <a:pt x="1363" y="567"/>
                  </a:lnTo>
                  <a:lnTo>
                    <a:pt x="1363" y="561"/>
                  </a:lnTo>
                  <a:lnTo>
                    <a:pt x="1363" y="550"/>
                  </a:lnTo>
                  <a:lnTo>
                    <a:pt x="1363" y="545"/>
                  </a:lnTo>
                  <a:close/>
                  <a:moveTo>
                    <a:pt x="1303" y="480"/>
                  </a:moveTo>
                  <a:lnTo>
                    <a:pt x="1298" y="474"/>
                  </a:lnTo>
                  <a:lnTo>
                    <a:pt x="1287" y="469"/>
                  </a:lnTo>
                  <a:lnTo>
                    <a:pt x="1282" y="463"/>
                  </a:lnTo>
                  <a:lnTo>
                    <a:pt x="1276" y="458"/>
                  </a:lnTo>
                  <a:lnTo>
                    <a:pt x="1271" y="452"/>
                  </a:lnTo>
                  <a:lnTo>
                    <a:pt x="1265" y="447"/>
                  </a:lnTo>
                  <a:lnTo>
                    <a:pt x="1265" y="441"/>
                  </a:lnTo>
                  <a:lnTo>
                    <a:pt x="1265" y="436"/>
                  </a:lnTo>
                  <a:lnTo>
                    <a:pt x="1265" y="425"/>
                  </a:lnTo>
                  <a:lnTo>
                    <a:pt x="1271" y="425"/>
                  </a:lnTo>
                  <a:lnTo>
                    <a:pt x="1282" y="420"/>
                  </a:lnTo>
                  <a:lnTo>
                    <a:pt x="1287" y="425"/>
                  </a:lnTo>
                  <a:lnTo>
                    <a:pt x="1298" y="431"/>
                  </a:lnTo>
                  <a:lnTo>
                    <a:pt x="1309" y="436"/>
                  </a:lnTo>
                  <a:lnTo>
                    <a:pt x="1320" y="441"/>
                  </a:lnTo>
                  <a:lnTo>
                    <a:pt x="1325" y="441"/>
                  </a:lnTo>
                  <a:lnTo>
                    <a:pt x="1336" y="441"/>
                  </a:lnTo>
                  <a:lnTo>
                    <a:pt x="1342" y="441"/>
                  </a:lnTo>
                  <a:lnTo>
                    <a:pt x="1352" y="436"/>
                  </a:lnTo>
                  <a:lnTo>
                    <a:pt x="1358" y="431"/>
                  </a:lnTo>
                  <a:lnTo>
                    <a:pt x="1363" y="425"/>
                  </a:lnTo>
                  <a:lnTo>
                    <a:pt x="1363" y="420"/>
                  </a:lnTo>
                  <a:lnTo>
                    <a:pt x="1363" y="409"/>
                  </a:lnTo>
                  <a:lnTo>
                    <a:pt x="1358" y="398"/>
                  </a:lnTo>
                  <a:lnTo>
                    <a:pt x="1352" y="392"/>
                  </a:lnTo>
                  <a:lnTo>
                    <a:pt x="1347" y="387"/>
                  </a:lnTo>
                  <a:lnTo>
                    <a:pt x="1342" y="387"/>
                  </a:lnTo>
                  <a:lnTo>
                    <a:pt x="1331" y="387"/>
                  </a:lnTo>
                  <a:lnTo>
                    <a:pt x="1325" y="392"/>
                  </a:lnTo>
                  <a:lnTo>
                    <a:pt x="1320" y="398"/>
                  </a:lnTo>
                  <a:lnTo>
                    <a:pt x="1314" y="403"/>
                  </a:lnTo>
                  <a:lnTo>
                    <a:pt x="1303" y="409"/>
                  </a:lnTo>
                  <a:lnTo>
                    <a:pt x="1298" y="409"/>
                  </a:lnTo>
                  <a:lnTo>
                    <a:pt x="1292" y="403"/>
                  </a:lnTo>
                  <a:lnTo>
                    <a:pt x="1287" y="398"/>
                  </a:lnTo>
                  <a:lnTo>
                    <a:pt x="1282" y="387"/>
                  </a:lnTo>
                  <a:lnTo>
                    <a:pt x="1282" y="381"/>
                  </a:lnTo>
                  <a:lnTo>
                    <a:pt x="1282" y="376"/>
                  </a:lnTo>
                  <a:lnTo>
                    <a:pt x="1282" y="365"/>
                  </a:lnTo>
                  <a:lnTo>
                    <a:pt x="1287" y="360"/>
                  </a:lnTo>
                  <a:lnTo>
                    <a:pt x="1287" y="354"/>
                  </a:lnTo>
                  <a:lnTo>
                    <a:pt x="1287" y="349"/>
                  </a:lnTo>
                  <a:lnTo>
                    <a:pt x="1287" y="338"/>
                  </a:lnTo>
                  <a:lnTo>
                    <a:pt x="1287" y="332"/>
                  </a:lnTo>
                  <a:lnTo>
                    <a:pt x="1287" y="327"/>
                  </a:lnTo>
                  <a:lnTo>
                    <a:pt x="1292" y="322"/>
                  </a:lnTo>
                  <a:lnTo>
                    <a:pt x="1303" y="316"/>
                  </a:lnTo>
                  <a:lnTo>
                    <a:pt x="1309" y="316"/>
                  </a:lnTo>
                  <a:lnTo>
                    <a:pt x="1320" y="311"/>
                  </a:lnTo>
                  <a:lnTo>
                    <a:pt x="1325" y="305"/>
                  </a:lnTo>
                  <a:lnTo>
                    <a:pt x="1331" y="300"/>
                  </a:lnTo>
                  <a:lnTo>
                    <a:pt x="1342" y="294"/>
                  </a:lnTo>
                  <a:lnTo>
                    <a:pt x="1347" y="294"/>
                  </a:lnTo>
                  <a:lnTo>
                    <a:pt x="1358" y="289"/>
                  </a:lnTo>
                  <a:lnTo>
                    <a:pt x="1363" y="283"/>
                  </a:lnTo>
                  <a:lnTo>
                    <a:pt x="1374" y="283"/>
                  </a:lnTo>
                  <a:lnTo>
                    <a:pt x="1385" y="283"/>
                  </a:lnTo>
                  <a:lnTo>
                    <a:pt x="1391" y="283"/>
                  </a:lnTo>
                  <a:lnTo>
                    <a:pt x="1401" y="283"/>
                  </a:lnTo>
                  <a:lnTo>
                    <a:pt x="1412" y="289"/>
                  </a:lnTo>
                  <a:lnTo>
                    <a:pt x="1423" y="289"/>
                  </a:lnTo>
                  <a:lnTo>
                    <a:pt x="1429" y="294"/>
                  </a:lnTo>
                  <a:lnTo>
                    <a:pt x="1440" y="300"/>
                  </a:lnTo>
                  <a:lnTo>
                    <a:pt x="1445" y="300"/>
                  </a:lnTo>
                  <a:lnTo>
                    <a:pt x="1456" y="300"/>
                  </a:lnTo>
                  <a:lnTo>
                    <a:pt x="1467" y="294"/>
                  </a:lnTo>
                  <a:lnTo>
                    <a:pt x="1483" y="294"/>
                  </a:lnTo>
                  <a:lnTo>
                    <a:pt x="1489" y="289"/>
                  </a:lnTo>
                  <a:lnTo>
                    <a:pt x="1494" y="289"/>
                  </a:lnTo>
                  <a:lnTo>
                    <a:pt x="1494" y="283"/>
                  </a:lnTo>
                  <a:lnTo>
                    <a:pt x="1489" y="278"/>
                  </a:lnTo>
                  <a:lnTo>
                    <a:pt x="1478" y="272"/>
                  </a:lnTo>
                  <a:lnTo>
                    <a:pt x="1472" y="267"/>
                  </a:lnTo>
                  <a:lnTo>
                    <a:pt x="1461" y="262"/>
                  </a:lnTo>
                  <a:lnTo>
                    <a:pt x="1461" y="256"/>
                  </a:lnTo>
                  <a:lnTo>
                    <a:pt x="1461" y="251"/>
                  </a:lnTo>
                  <a:lnTo>
                    <a:pt x="1467" y="245"/>
                  </a:lnTo>
                  <a:lnTo>
                    <a:pt x="1478" y="251"/>
                  </a:lnTo>
                  <a:lnTo>
                    <a:pt x="1483" y="262"/>
                  </a:lnTo>
                  <a:lnTo>
                    <a:pt x="1489" y="267"/>
                  </a:lnTo>
                  <a:lnTo>
                    <a:pt x="1489" y="278"/>
                  </a:lnTo>
                  <a:lnTo>
                    <a:pt x="1494" y="283"/>
                  </a:lnTo>
                  <a:lnTo>
                    <a:pt x="1494" y="283"/>
                  </a:lnTo>
                  <a:lnTo>
                    <a:pt x="1500" y="283"/>
                  </a:lnTo>
                  <a:lnTo>
                    <a:pt x="1505" y="283"/>
                  </a:lnTo>
                  <a:lnTo>
                    <a:pt x="1511" y="278"/>
                  </a:lnTo>
                  <a:lnTo>
                    <a:pt x="1521" y="272"/>
                  </a:lnTo>
                  <a:lnTo>
                    <a:pt x="1532" y="267"/>
                  </a:lnTo>
                  <a:lnTo>
                    <a:pt x="1538" y="262"/>
                  </a:lnTo>
                  <a:lnTo>
                    <a:pt x="1549" y="262"/>
                  </a:lnTo>
                  <a:lnTo>
                    <a:pt x="1560" y="262"/>
                  </a:lnTo>
                  <a:lnTo>
                    <a:pt x="1571" y="256"/>
                  </a:lnTo>
                  <a:lnTo>
                    <a:pt x="1576" y="251"/>
                  </a:lnTo>
                  <a:lnTo>
                    <a:pt x="1581" y="245"/>
                  </a:lnTo>
                  <a:lnTo>
                    <a:pt x="1587" y="240"/>
                  </a:lnTo>
                  <a:lnTo>
                    <a:pt x="1592" y="234"/>
                  </a:lnTo>
                  <a:lnTo>
                    <a:pt x="1598" y="234"/>
                  </a:lnTo>
                  <a:lnTo>
                    <a:pt x="1609" y="234"/>
                  </a:lnTo>
                  <a:lnTo>
                    <a:pt x="1620" y="234"/>
                  </a:lnTo>
                  <a:lnTo>
                    <a:pt x="1630" y="234"/>
                  </a:lnTo>
                  <a:lnTo>
                    <a:pt x="1641" y="229"/>
                  </a:lnTo>
                  <a:lnTo>
                    <a:pt x="1647" y="223"/>
                  </a:lnTo>
                  <a:lnTo>
                    <a:pt x="1647" y="218"/>
                  </a:lnTo>
                  <a:lnTo>
                    <a:pt x="1652" y="213"/>
                  </a:lnTo>
                  <a:lnTo>
                    <a:pt x="1658" y="207"/>
                  </a:lnTo>
                  <a:lnTo>
                    <a:pt x="1669" y="207"/>
                  </a:lnTo>
                  <a:lnTo>
                    <a:pt x="1680" y="207"/>
                  </a:lnTo>
                  <a:lnTo>
                    <a:pt x="1690" y="207"/>
                  </a:lnTo>
                  <a:lnTo>
                    <a:pt x="1701" y="202"/>
                  </a:lnTo>
                  <a:lnTo>
                    <a:pt x="1712" y="202"/>
                  </a:lnTo>
                  <a:lnTo>
                    <a:pt x="1718" y="196"/>
                  </a:lnTo>
                  <a:lnTo>
                    <a:pt x="1729" y="191"/>
                  </a:lnTo>
                  <a:lnTo>
                    <a:pt x="1734" y="185"/>
                  </a:lnTo>
                  <a:lnTo>
                    <a:pt x="1740" y="180"/>
                  </a:lnTo>
                  <a:lnTo>
                    <a:pt x="1745" y="174"/>
                  </a:lnTo>
                  <a:lnTo>
                    <a:pt x="1756" y="174"/>
                  </a:lnTo>
                  <a:lnTo>
                    <a:pt x="1767" y="174"/>
                  </a:lnTo>
                  <a:lnTo>
                    <a:pt x="1772" y="174"/>
                  </a:lnTo>
                  <a:lnTo>
                    <a:pt x="1783" y="169"/>
                  </a:lnTo>
                  <a:lnTo>
                    <a:pt x="1794" y="163"/>
                  </a:lnTo>
                  <a:lnTo>
                    <a:pt x="1800" y="158"/>
                  </a:lnTo>
                  <a:lnTo>
                    <a:pt x="1794" y="153"/>
                  </a:lnTo>
                  <a:lnTo>
                    <a:pt x="1783" y="153"/>
                  </a:lnTo>
                  <a:lnTo>
                    <a:pt x="1772" y="153"/>
                  </a:lnTo>
                  <a:lnTo>
                    <a:pt x="1761" y="153"/>
                  </a:lnTo>
                  <a:lnTo>
                    <a:pt x="1750" y="153"/>
                  </a:lnTo>
                  <a:lnTo>
                    <a:pt x="1745" y="153"/>
                  </a:lnTo>
                  <a:lnTo>
                    <a:pt x="1740" y="147"/>
                  </a:lnTo>
                  <a:lnTo>
                    <a:pt x="1734" y="142"/>
                  </a:lnTo>
                  <a:lnTo>
                    <a:pt x="1729" y="136"/>
                  </a:lnTo>
                  <a:lnTo>
                    <a:pt x="1729" y="125"/>
                  </a:lnTo>
                  <a:lnTo>
                    <a:pt x="1734" y="120"/>
                  </a:lnTo>
                  <a:lnTo>
                    <a:pt x="1740" y="114"/>
                  </a:lnTo>
                  <a:lnTo>
                    <a:pt x="1745" y="109"/>
                  </a:lnTo>
                  <a:lnTo>
                    <a:pt x="1756" y="109"/>
                  </a:lnTo>
                  <a:lnTo>
                    <a:pt x="1767" y="104"/>
                  </a:lnTo>
                  <a:lnTo>
                    <a:pt x="1772" y="109"/>
                  </a:lnTo>
                  <a:lnTo>
                    <a:pt x="1783" y="109"/>
                  </a:lnTo>
                  <a:lnTo>
                    <a:pt x="1794" y="114"/>
                  </a:lnTo>
                  <a:lnTo>
                    <a:pt x="1800" y="120"/>
                  </a:lnTo>
                  <a:lnTo>
                    <a:pt x="1800" y="125"/>
                  </a:lnTo>
                  <a:lnTo>
                    <a:pt x="1805" y="131"/>
                  </a:lnTo>
                  <a:lnTo>
                    <a:pt x="1805" y="142"/>
                  </a:lnTo>
                  <a:lnTo>
                    <a:pt x="1810" y="147"/>
                  </a:lnTo>
                  <a:lnTo>
                    <a:pt x="1816" y="147"/>
                  </a:lnTo>
                  <a:lnTo>
                    <a:pt x="1827" y="147"/>
                  </a:lnTo>
                  <a:lnTo>
                    <a:pt x="1838" y="147"/>
                  </a:lnTo>
                  <a:lnTo>
                    <a:pt x="1849" y="142"/>
                  </a:lnTo>
                  <a:lnTo>
                    <a:pt x="1859" y="136"/>
                  </a:lnTo>
                  <a:lnTo>
                    <a:pt x="1870" y="131"/>
                  </a:lnTo>
                  <a:lnTo>
                    <a:pt x="1870" y="131"/>
                  </a:lnTo>
                  <a:lnTo>
                    <a:pt x="1865" y="125"/>
                  </a:lnTo>
                  <a:lnTo>
                    <a:pt x="1859" y="125"/>
                  </a:lnTo>
                  <a:lnTo>
                    <a:pt x="1843" y="120"/>
                  </a:lnTo>
                  <a:lnTo>
                    <a:pt x="1838" y="114"/>
                  </a:lnTo>
                  <a:lnTo>
                    <a:pt x="1827" y="109"/>
                  </a:lnTo>
                  <a:lnTo>
                    <a:pt x="1827" y="104"/>
                  </a:lnTo>
                  <a:lnTo>
                    <a:pt x="1821" y="98"/>
                  </a:lnTo>
                  <a:lnTo>
                    <a:pt x="1827" y="93"/>
                  </a:lnTo>
                  <a:lnTo>
                    <a:pt x="1827" y="87"/>
                  </a:lnTo>
                  <a:lnTo>
                    <a:pt x="1832" y="82"/>
                  </a:lnTo>
                  <a:lnTo>
                    <a:pt x="1843" y="76"/>
                  </a:lnTo>
                  <a:lnTo>
                    <a:pt x="1854" y="71"/>
                  </a:lnTo>
                  <a:lnTo>
                    <a:pt x="1865" y="71"/>
                  </a:lnTo>
                  <a:lnTo>
                    <a:pt x="1876" y="71"/>
                  </a:lnTo>
                  <a:lnTo>
                    <a:pt x="1881" y="71"/>
                  </a:lnTo>
                  <a:lnTo>
                    <a:pt x="1892" y="76"/>
                  </a:lnTo>
                  <a:lnTo>
                    <a:pt x="1898" y="82"/>
                  </a:lnTo>
                  <a:lnTo>
                    <a:pt x="1898" y="87"/>
                  </a:lnTo>
                  <a:lnTo>
                    <a:pt x="1903" y="98"/>
                  </a:lnTo>
                  <a:lnTo>
                    <a:pt x="1903" y="104"/>
                  </a:lnTo>
                  <a:lnTo>
                    <a:pt x="1909" y="114"/>
                  </a:lnTo>
                  <a:lnTo>
                    <a:pt x="1909" y="114"/>
                  </a:lnTo>
                  <a:lnTo>
                    <a:pt x="1919" y="114"/>
                  </a:lnTo>
                  <a:lnTo>
                    <a:pt x="1925" y="109"/>
                  </a:lnTo>
                  <a:lnTo>
                    <a:pt x="1936" y="104"/>
                  </a:lnTo>
                  <a:lnTo>
                    <a:pt x="1947" y="98"/>
                  </a:lnTo>
                  <a:lnTo>
                    <a:pt x="1958" y="104"/>
                  </a:lnTo>
                  <a:lnTo>
                    <a:pt x="1969" y="104"/>
                  </a:lnTo>
                  <a:lnTo>
                    <a:pt x="1974" y="98"/>
                  </a:lnTo>
                  <a:lnTo>
                    <a:pt x="1969" y="93"/>
                  </a:lnTo>
                  <a:lnTo>
                    <a:pt x="1958" y="93"/>
                  </a:lnTo>
                  <a:lnTo>
                    <a:pt x="1947" y="93"/>
                  </a:lnTo>
                  <a:lnTo>
                    <a:pt x="1941" y="93"/>
                  </a:lnTo>
                  <a:lnTo>
                    <a:pt x="1930" y="87"/>
                  </a:lnTo>
                  <a:lnTo>
                    <a:pt x="1925" y="82"/>
                  </a:lnTo>
                  <a:lnTo>
                    <a:pt x="1919" y="76"/>
                  </a:lnTo>
                  <a:lnTo>
                    <a:pt x="1919" y="71"/>
                  </a:lnTo>
                  <a:lnTo>
                    <a:pt x="1919" y="65"/>
                  </a:lnTo>
                  <a:lnTo>
                    <a:pt x="1919" y="54"/>
                  </a:lnTo>
                  <a:lnTo>
                    <a:pt x="1925" y="49"/>
                  </a:lnTo>
                  <a:lnTo>
                    <a:pt x="1936" y="44"/>
                  </a:lnTo>
                  <a:lnTo>
                    <a:pt x="1941" y="44"/>
                  </a:lnTo>
                  <a:lnTo>
                    <a:pt x="1952" y="38"/>
                  </a:lnTo>
                  <a:lnTo>
                    <a:pt x="1963" y="38"/>
                  </a:lnTo>
                  <a:lnTo>
                    <a:pt x="1974" y="38"/>
                  </a:lnTo>
                  <a:lnTo>
                    <a:pt x="1985" y="38"/>
                  </a:lnTo>
                  <a:lnTo>
                    <a:pt x="1990" y="44"/>
                  </a:lnTo>
                  <a:lnTo>
                    <a:pt x="2001" y="44"/>
                  </a:lnTo>
                  <a:lnTo>
                    <a:pt x="2007" y="49"/>
                  </a:lnTo>
                  <a:lnTo>
                    <a:pt x="2012" y="54"/>
                  </a:lnTo>
                  <a:lnTo>
                    <a:pt x="2023" y="60"/>
                  </a:lnTo>
                  <a:lnTo>
                    <a:pt x="2029" y="65"/>
                  </a:lnTo>
                  <a:lnTo>
                    <a:pt x="2034" y="71"/>
                  </a:lnTo>
                  <a:lnTo>
                    <a:pt x="2045" y="71"/>
                  </a:lnTo>
                  <a:lnTo>
                    <a:pt x="2056" y="71"/>
                  </a:lnTo>
                  <a:lnTo>
                    <a:pt x="2067" y="71"/>
                  </a:lnTo>
                  <a:lnTo>
                    <a:pt x="2078" y="71"/>
                  </a:lnTo>
                  <a:lnTo>
                    <a:pt x="2088" y="71"/>
                  </a:lnTo>
                  <a:lnTo>
                    <a:pt x="2099" y="71"/>
                  </a:lnTo>
                  <a:lnTo>
                    <a:pt x="2105" y="71"/>
                  </a:lnTo>
                  <a:lnTo>
                    <a:pt x="2116" y="76"/>
                  </a:lnTo>
                  <a:lnTo>
                    <a:pt x="2127" y="76"/>
                  </a:lnTo>
                  <a:lnTo>
                    <a:pt x="2132" y="82"/>
                  </a:lnTo>
                  <a:lnTo>
                    <a:pt x="2138" y="87"/>
                  </a:lnTo>
                  <a:lnTo>
                    <a:pt x="2143" y="93"/>
                  </a:lnTo>
                  <a:lnTo>
                    <a:pt x="2154" y="98"/>
                  </a:lnTo>
                  <a:lnTo>
                    <a:pt x="2159" y="104"/>
                  </a:lnTo>
                  <a:lnTo>
                    <a:pt x="2170" y="104"/>
                  </a:lnTo>
                  <a:lnTo>
                    <a:pt x="2181" y="104"/>
                  </a:lnTo>
                  <a:lnTo>
                    <a:pt x="2192" y="104"/>
                  </a:lnTo>
                  <a:lnTo>
                    <a:pt x="2198" y="109"/>
                  </a:lnTo>
                  <a:lnTo>
                    <a:pt x="2208" y="109"/>
                  </a:lnTo>
                  <a:lnTo>
                    <a:pt x="2219" y="109"/>
                  </a:lnTo>
                  <a:lnTo>
                    <a:pt x="2230" y="109"/>
                  </a:lnTo>
                  <a:lnTo>
                    <a:pt x="2241" y="109"/>
                  </a:lnTo>
                  <a:lnTo>
                    <a:pt x="2252" y="114"/>
                  </a:lnTo>
                  <a:lnTo>
                    <a:pt x="2258" y="114"/>
                  </a:lnTo>
                  <a:lnTo>
                    <a:pt x="2263" y="120"/>
                  </a:lnTo>
                  <a:lnTo>
                    <a:pt x="2268" y="125"/>
                  </a:lnTo>
                  <a:lnTo>
                    <a:pt x="2274" y="131"/>
                  </a:lnTo>
                  <a:lnTo>
                    <a:pt x="2285" y="136"/>
                  </a:lnTo>
                  <a:lnTo>
                    <a:pt x="2290" y="142"/>
                  </a:lnTo>
                  <a:lnTo>
                    <a:pt x="2301" y="142"/>
                  </a:lnTo>
                  <a:lnTo>
                    <a:pt x="2307" y="142"/>
                  </a:lnTo>
                  <a:lnTo>
                    <a:pt x="2317" y="147"/>
                  </a:lnTo>
                  <a:lnTo>
                    <a:pt x="2328" y="147"/>
                  </a:lnTo>
                  <a:lnTo>
                    <a:pt x="2339" y="147"/>
                  </a:lnTo>
                  <a:lnTo>
                    <a:pt x="2350" y="147"/>
                  </a:lnTo>
                  <a:lnTo>
                    <a:pt x="2361" y="147"/>
                  </a:lnTo>
                  <a:lnTo>
                    <a:pt x="2372" y="147"/>
                  </a:lnTo>
                  <a:lnTo>
                    <a:pt x="2383" y="147"/>
                  </a:lnTo>
                  <a:lnTo>
                    <a:pt x="2388" y="153"/>
                  </a:lnTo>
                  <a:lnTo>
                    <a:pt x="2394" y="158"/>
                  </a:lnTo>
                  <a:lnTo>
                    <a:pt x="2399" y="163"/>
                  </a:lnTo>
                  <a:lnTo>
                    <a:pt x="2405" y="169"/>
                  </a:lnTo>
                  <a:lnTo>
                    <a:pt x="2405" y="174"/>
                  </a:lnTo>
                  <a:lnTo>
                    <a:pt x="2410" y="180"/>
                  </a:lnTo>
                  <a:lnTo>
                    <a:pt x="2421" y="185"/>
                  </a:lnTo>
                  <a:lnTo>
                    <a:pt x="2427" y="191"/>
                  </a:lnTo>
                  <a:lnTo>
                    <a:pt x="2437" y="191"/>
                  </a:lnTo>
                  <a:lnTo>
                    <a:pt x="2448" y="191"/>
                  </a:lnTo>
                  <a:lnTo>
                    <a:pt x="2454" y="196"/>
                  </a:lnTo>
                  <a:lnTo>
                    <a:pt x="2454" y="202"/>
                  </a:lnTo>
                  <a:lnTo>
                    <a:pt x="2454" y="207"/>
                  </a:lnTo>
                  <a:lnTo>
                    <a:pt x="2448" y="218"/>
                  </a:lnTo>
                  <a:lnTo>
                    <a:pt x="2448" y="223"/>
                  </a:lnTo>
                  <a:lnTo>
                    <a:pt x="2448" y="234"/>
                  </a:lnTo>
                  <a:lnTo>
                    <a:pt x="2448" y="240"/>
                  </a:lnTo>
                  <a:lnTo>
                    <a:pt x="2448" y="245"/>
                  </a:lnTo>
                  <a:lnTo>
                    <a:pt x="2448" y="251"/>
                  </a:lnTo>
                  <a:lnTo>
                    <a:pt x="2448" y="256"/>
                  </a:lnTo>
                  <a:lnTo>
                    <a:pt x="2448" y="262"/>
                  </a:lnTo>
                  <a:lnTo>
                    <a:pt x="2448" y="272"/>
                  </a:lnTo>
                  <a:lnTo>
                    <a:pt x="2448" y="278"/>
                  </a:lnTo>
                  <a:lnTo>
                    <a:pt x="2448" y="283"/>
                  </a:lnTo>
                  <a:lnTo>
                    <a:pt x="2448" y="289"/>
                  </a:lnTo>
                  <a:lnTo>
                    <a:pt x="2448" y="294"/>
                  </a:lnTo>
                  <a:lnTo>
                    <a:pt x="2454" y="305"/>
                  </a:lnTo>
                  <a:lnTo>
                    <a:pt x="2454" y="311"/>
                  </a:lnTo>
                  <a:lnTo>
                    <a:pt x="2454" y="316"/>
                  </a:lnTo>
                  <a:lnTo>
                    <a:pt x="2448" y="322"/>
                  </a:lnTo>
                  <a:lnTo>
                    <a:pt x="2443" y="327"/>
                  </a:lnTo>
                  <a:lnTo>
                    <a:pt x="2437" y="332"/>
                  </a:lnTo>
                  <a:lnTo>
                    <a:pt x="2432" y="338"/>
                  </a:lnTo>
                  <a:lnTo>
                    <a:pt x="2427" y="343"/>
                  </a:lnTo>
                  <a:lnTo>
                    <a:pt x="2421" y="349"/>
                  </a:lnTo>
                  <a:lnTo>
                    <a:pt x="2410" y="354"/>
                  </a:lnTo>
                  <a:lnTo>
                    <a:pt x="2405" y="360"/>
                  </a:lnTo>
                  <a:lnTo>
                    <a:pt x="2394" y="360"/>
                  </a:lnTo>
                  <a:lnTo>
                    <a:pt x="2388" y="365"/>
                  </a:lnTo>
                  <a:lnTo>
                    <a:pt x="2377" y="371"/>
                  </a:lnTo>
                  <a:lnTo>
                    <a:pt x="2367" y="371"/>
                  </a:lnTo>
                  <a:lnTo>
                    <a:pt x="2361" y="371"/>
                  </a:lnTo>
                  <a:lnTo>
                    <a:pt x="2350" y="371"/>
                  </a:lnTo>
                  <a:lnTo>
                    <a:pt x="2339" y="371"/>
                  </a:lnTo>
                  <a:lnTo>
                    <a:pt x="2328" y="371"/>
                  </a:lnTo>
                  <a:lnTo>
                    <a:pt x="2317" y="371"/>
                  </a:lnTo>
                  <a:lnTo>
                    <a:pt x="2307" y="376"/>
                  </a:lnTo>
                  <a:lnTo>
                    <a:pt x="2296" y="376"/>
                  </a:lnTo>
                  <a:lnTo>
                    <a:pt x="2290" y="376"/>
                  </a:lnTo>
                  <a:lnTo>
                    <a:pt x="2279" y="376"/>
                  </a:lnTo>
                  <a:lnTo>
                    <a:pt x="2268" y="376"/>
                  </a:lnTo>
                  <a:lnTo>
                    <a:pt x="2258" y="376"/>
                  </a:lnTo>
                  <a:lnTo>
                    <a:pt x="2247" y="376"/>
                  </a:lnTo>
                  <a:lnTo>
                    <a:pt x="2236" y="376"/>
                  </a:lnTo>
                  <a:lnTo>
                    <a:pt x="2225" y="376"/>
                  </a:lnTo>
                  <a:lnTo>
                    <a:pt x="2219" y="376"/>
                  </a:lnTo>
                  <a:lnTo>
                    <a:pt x="2208" y="376"/>
                  </a:lnTo>
                  <a:lnTo>
                    <a:pt x="2198" y="376"/>
                  </a:lnTo>
                  <a:lnTo>
                    <a:pt x="2187" y="376"/>
                  </a:lnTo>
                  <a:lnTo>
                    <a:pt x="2176" y="376"/>
                  </a:lnTo>
                  <a:lnTo>
                    <a:pt x="2165" y="376"/>
                  </a:lnTo>
                  <a:lnTo>
                    <a:pt x="2159" y="376"/>
                  </a:lnTo>
                  <a:lnTo>
                    <a:pt x="2148" y="376"/>
                  </a:lnTo>
                  <a:lnTo>
                    <a:pt x="2138" y="376"/>
                  </a:lnTo>
                  <a:lnTo>
                    <a:pt x="2127" y="376"/>
                  </a:lnTo>
                  <a:lnTo>
                    <a:pt x="2116" y="376"/>
                  </a:lnTo>
                  <a:lnTo>
                    <a:pt x="2105" y="376"/>
                  </a:lnTo>
                  <a:lnTo>
                    <a:pt x="2094" y="376"/>
                  </a:lnTo>
                  <a:lnTo>
                    <a:pt x="2088" y="376"/>
                  </a:lnTo>
                  <a:lnTo>
                    <a:pt x="2078" y="376"/>
                  </a:lnTo>
                  <a:lnTo>
                    <a:pt x="2067" y="371"/>
                  </a:lnTo>
                  <a:lnTo>
                    <a:pt x="2056" y="376"/>
                  </a:lnTo>
                  <a:lnTo>
                    <a:pt x="2045" y="376"/>
                  </a:lnTo>
                  <a:lnTo>
                    <a:pt x="2039" y="376"/>
                  </a:lnTo>
                  <a:lnTo>
                    <a:pt x="2029" y="376"/>
                  </a:lnTo>
                  <a:lnTo>
                    <a:pt x="2023" y="371"/>
                  </a:lnTo>
                  <a:lnTo>
                    <a:pt x="2012" y="365"/>
                  </a:lnTo>
                  <a:lnTo>
                    <a:pt x="2001" y="365"/>
                  </a:lnTo>
                  <a:lnTo>
                    <a:pt x="1990" y="365"/>
                  </a:lnTo>
                  <a:lnTo>
                    <a:pt x="1985" y="365"/>
                  </a:lnTo>
                  <a:lnTo>
                    <a:pt x="1974" y="360"/>
                  </a:lnTo>
                  <a:lnTo>
                    <a:pt x="1969" y="360"/>
                  </a:lnTo>
                  <a:lnTo>
                    <a:pt x="1958" y="354"/>
                  </a:lnTo>
                  <a:lnTo>
                    <a:pt x="1952" y="349"/>
                  </a:lnTo>
                  <a:lnTo>
                    <a:pt x="1947" y="343"/>
                  </a:lnTo>
                  <a:lnTo>
                    <a:pt x="1936" y="338"/>
                  </a:lnTo>
                  <a:lnTo>
                    <a:pt x="1925" y="338"/>
                  </a:lnTo>
                  <a:lnTo>
                    <a:pt x="1914" y="338"/>
                  </a:lnTo>
                  <a:lnTo>
                    <a:pt x="1903" y="338"/>
                  </a:lnTo>
                  <a:lnTo>
                    <a:pt x="1892" y="338"/>
                  </a:lnTo>
                  <a:lnTo>
                    <a:pt x="1887" y="338"/>
                  </a:lnTo>
                  <a:lnTo>
                    <a:pt x="1876" y="343"/>
                  </a:lnTo>
                  <a:lnTo>
                    <a:pt x="1865" y="349"/>
                  </a:lnTo>
                  <a:lnTo>
                    <a:pt x="1859" y="349"/>
                  </a:lnTo>
                  <a:lnTo>
                    <a:pt x="1854" y="354"/>
                  </a:lnTo>
                  <a:lnTo>
                    <a:pt x="1843" y="360"/>
                  </a:lnTo>
                  <a:lnTo>
                    <a:pt x="1838" y="365"/>
                  </a:lnTo>
                  <a:lnTo>
                    <a:pt x="1827" y="365"/>
                  </a:lnTo>
                  <a:lnTo>
                    <a:pt x="1816" y="365"/>
                  </a:lnTo>
                  <a:lnTo>
                    <a:pt x="1805" y="365"/>
                  </a:lnTo>
                  <a:lnTo>
                    <a:pt x="1794" y="365"/>
                  </a:lnTo>
                  <a:lnTo>
                    <a:pt x="1783" y="365"/>
                  </a:lnTo>
                  <a:lnTo>
                    <a:pt x="1778" y="371"/>
                  </a:lnTo>
                  <a:lnTo>
                    <a:pt x="1772" y="371"/>
                  </a:lnTo>
                  <a:lnTo>
                    <a:pt x="1761" y="376"/>
                  </a:lnTo>
                  <a:lnTo>
                    <a:pt x="1756" y="381"/>
                  </a:lnTo>
                  <a:lnTo>
                    <a:pt x="1745" y="387"/>
                  </a:lnTo>
                  <a:lnTo>
                    <a:pt x="1740" y="387"/>
                  </a:lnTo>
                  <a:lnTo>
                    <a:pt x="1729" y="387"/>
                  </a:lnTo>
                  <a:lnTo>
                    <a:pt x="1718" y="381"/>
                  </a:lnTo>
                  <a:lnTo>
                    <a:pt x="1707" y="381"/>
                  </a:lnTo>
                  <a:lnTo>
                    <a:pt x="1696" y="381"/>
                  </a:lnTo>
                  <a:lnTo>
                    <a:pt x="1685" y="381"/>
                  </a:lnTo>
                  <a:lnTo>
                    <a:pt x="1674" y="376"/>
                  </a:lnTo>
                  <a:lnTo>
                    <a:pt x="1669" y="376"/>
                  </a:lnTo>
                  <a:lnTo>
                    <a:pt x="1658" y="376"/>
                  </a:lnTo>
                  <a:lnTo>
                    <a:pt x="1647" y="381"/>
                  </a:lnTo>
                  <a:lnTo>
                    <a:pt x="1641" y="381"/>
                  </a:lnTo>
                  <a:lnTo>
                    <a:pt x="1636" y="387"/>
                  </a:lnTo>
                  <a:lnTo>
                    <a:pt x="1625" y="392"/>
                  </a:lnTo>
                  <a:lnTo>
                    <a:pt x="1620" y="398"/>
                  </a:lnTo>
                  <a:lnTo>
                    <a:pt x="1609" y="398"/>
                  </a:lnTo>
                  <a:lnTo>
                    <a:pt x="1598" y="403"/>
                  </a:lnTo>
                  <a:lnTo>
                    <a:pt x="1592" y="403"/>
                  </a:lnTo>
                  <a:lnTo>
                    <a:pt x="1581" y="403"/>
                  </a:lnTo>
                  <a:lnTo>
                    <a:pt x="1571" y="403"/>
                  </a:lnTo>
                  <a:lnTo>
                    <a:pt x="1560" y="409"/>
                  </a:lnTo>
                  <a:lnTo>
                    <a:pt x="1554" y="414"/>
                  </a:lnTo>
                  <a:lnTo>
                    <a:pt x="1549" y="420"/>
                  </a:lnTo>
                  <a:lnTo>
                    <a:pt x="1538" y="420"/>
                  </a:lnTo>
                  <a:lnTo>
                    <a:pt x="1527" y="425"/>
                  </a:lnTo>
                  <a:lnTo>
                    <a:pt x="1516" y="425"/>
                  </a:lnTo>
                  <a:lnTo>
                    <a:pt x="1505" y="425"/>
                  </a:lnTo>
                  <a:lnTo>
                    <a:pt x="1500" y="425"/>
                  </a:lnTo>
                  <a:lnTo>
                    <a:pt x="1489" y="420"/>
                  </a:lnTo>
                  <a:lnTo>
                    <a:pt x="1483" y="414"/>
                  </a:lnTo>
                  <a:lnTo>
                    <a:pt x="1472" y="409"/>
                  </a:lnTo>
                  <a:lnTo>
                    <a:pt x="1467" y="409"/>
                  </a:lnTo>
                  <a:lnTo>
                    <a:pt x="1461" y="414"/>
                  </a:lnTo>
                  <a:lnTo>
                    <a:pt x="1456" y="425"/>
                  </a:lnTo>
                  <a:lnTo>
                    <a:pt x="1451" y="431"/>
                  </a:lnTo>
                  <a:lnTo>
                    <a:pt x="1440" y="436"/>
                  </a:lnTo>
                  <a:lnTo>
                    <a:pt x="1434" y="441"/>
                  </a:lnTo>
                  <a:lnTo>
                    <a:pt x="1429" y="436"/>
                  </a:lnTo>
                  <a:lnTo>
                    <a:pt x="1423" y="436"/>
                  </a:lnTo>
                  <a:lnTo>
                    <a:pt x="1418" y="425"/>
                  </a:lnTo>
                  <a:lnTo>
                    <a:pt x="1418" y="420"/>
                  </a:lnTo>
                  <a:lnTo>
                    <a:pt x="1418" y="409"/>
                  </a:lnTo>
                  <a:lnTo>
                    <a:pt x="1423" y="403"/>
                  </a:lnTo>
                  <a:lnTo>
                    <a:pt x="1423" y="398"/>
                  </a:lnTo>
                  <a:lnTo>
                    <a:pt x="1423" y="392"/>
                  </a:lnTo>
                  <a:lnTo>
                    <a:pt x="1423" y="387"/>
                  </a:lnTo>
                  <a:lnTo>
                    <a:pt x="1418" y="381"/>
                  </a:lnTo>
                  <a:lnTo>
                    <a:pt x="1407" y="376"/>
                  </a:lnTo>
                  <a:lnTo>
                    <a:pt x="1396" y="376"/>
                  </a:lnTo>
                  <a:lnTo>
                    <a:pt x="1391" y="381"/>
                  </a:lnTo>
                  <a:lnTo>
                    <a:pt x="1385" y="387"/>
                  </a:lnTo>
                  <a:lnTo>
                    <a:pt x="1385" y="392"/>
                  </a:lnTo>
                  <a:lnTo>
                    <a:pt x="1380" y="403"/>
                  </a:lnTo>
                  <a:lnTo>
                    <a:pt x="1380" y="409"/>
                  </a:lnTo>
                  <a:lnTo>
                    <a:pt x="1374" y="414"/>
                  </a:lnTo>
                  <a:lnTo>
                    <a:pt x="1369" y="420"/>
                  </a:lnTo>
                  <a:lnTo>
                    <a:pt x="1363" y="425"/>
                  </a:lnTo>
                  <a:lnTo>
                    <a:pt x="1358" y="431"/>
                  </a:lnTo>
                  <a:lnTo>
                    <a:pt x="1352" y="436"/>
                  </a:lnTo>
                  <a:lnTo>
                    <a:pt x="1347" y="441"/>
                  </a:lnTo>
                  <a:lnTo>
                    <a:pt x="1342" y="447"/>
                  </a:lnTo>
                  <a:lnTo>
                    <a:pt x="1336" y="452"/>
                  </a:lnTo>
                  <a:lnTo>
                    <a:pt x="1336" y="458"/>
                  </a:lnTo>
                  <a:lnTo>
                    <a:pt x="1331" y="463"/>
                  </a:lnTo>
                  <a:lnTo>
                    <a:pt x="1325" y="469"/>
                  </a:lnTo>
                  <a:lnTo>
                    <a:pt x="1314" y="474"/>
                  </a:lnTo>
                  <a:lnTo>
                    <a:pt x="1309" y="480"/>
                  </a:lnTo>
                  <a:lnTo>
                    <a:pt x="1303" y="480"/>
                  </a:lnTo>
                  <a:close/>
                  <a:moveTo>
                    <a:pt x="1391" y="480"/>
                  </a:moveTo>
                  <a:lnTo>
                    <a:pt x="1396" y="469"/>
                  </a:lnTo>
                  <a:lnTo>
                    <a:pt x="1396" y="463"/>
                  </a:lnTo>
                  <a:lnTo>
                    <a:pt x="1401" y="463"/>
                  </a:lnTo>
                  <a:lnTo>
                    <a:pt x="1407" y="463"/>
                  </a:lnTo>
                  <a:lnTo>
                    <a:pt x="1412" y="469"/>
                  </a:lnTo>
                  <a:lnTo>
                    <a:pt x="1412" y="480"/>
                  </a:lnTo>
                  <a:lnTo>
                    <a:pt x="1412" y="490"/>
                  </a:lnTo>
                  <a:lnTo>
                    <a:pt x="1412" y="496"/>
                  </a:lnTo>
                  <a:lnTo>
                    <a:pt x="1407" y="501"/>
                  </a:lnTo>
                  <a:lnTo>
                    <a:pt x="1401" y="501"/>
                  </a:lnTo>
                  <a:lnTo>
                    <a:pt x="1396" y="501"/>
                  </a:lnTo>
                  <a:lnTo>
                    <a:pt x="1396" y="496"/>
                  </a:lnTo>
                  <a:lnTo>
                    <a:pt x="1396" y="490"/>
                  </a:lnTo>
                  <a:lnTo>
                    <a:pt x="1391" y="480"/>
                  </a:lnTo>
                  <a:close/>
                  <a:moveTo>
                    <a:pt x="1467" y="354"/>
                  </a:moveTo>
                  <a:lnTo>
                    <a:pt x="1467" y="349"/>
                  </a:lnTo>
                  <a:lnTo>
                    <a:pt x="1467" y="349"/>
                  </a:lnTo>
                  <a:lnTo>
                    <a:pt x="1467" y="349"/>
                  </a:lnTo>
                  <a:lnTo>
                    <a:pt x="1467" y="349"/>
                  </a:lnTo>
                  <a:lnTo>
                    <a:pt x="1467" y="349"/>
                  </a:lnTo>
                  <a:lnTo>
                    <a:pt x="1461" y="349"/>
                  </a:lnTo>
                  <a:lnTo>
                    <a:pt x="1461" y="354"/>
                  </a:lnTo>
                  <a:lnTo>
                    <a:pt x="1461" y="354"/>
                  </a:lnTo>
                  <a:lnTo>
                    <a:pt x="1467" y="354"/>
                  </a:lnTo>
                  <a:lnTo>
                    <a:pt x="1467" y="354"/>
                  </a:lnTo>
                  <a:lnTo>
                    <a:pt x="1467" y="354"/>
                  </a:lnTo>
                  <a:lnTo>
                    <a:pt x="1467" y="354"/>
                  </a:lnTo>
                  <a:lnTo>
                    <a:pt x="1467" y="354"/>
                  </a:lnTo>
                  <a:lnTo>
                    <a:pt x="1467" y="354"/>
                  </a:lnTo>
                  <a:close/>
                  <a:moveTo>
                    <a:pt x="1729" y="354"/>
                  </a:moveTo>
                  <a:lnTo>
                    <a:pt x="1723" y="349"/>
                  </a:lnTo>
                  <a:lnTo>
                    <a:pt x="1718" y="354"/>
                  </a:lnTo>
                  <a:lnTo>
                    <a:pt x="1712" y="360"/>
                  </a:lnTo>
                  <a:lnTo>
                    <a:pt x="1712" y="365"/>
                  </a:lnTo>
                  <a:lnTo>
                    <a:pt x="1712" y="371"/>
                  </a:lnTo>
                  <a:lnTo>
                    <a:pt x="1718" y="376"/>
                  </a:lnTo>
                  <a:lnTo>
                    <a:pt x="1718" y="381"/>
                  </a:lnTo>
                  <a:lnTo>
                    <a:pt x="1718" y="381"/>
                  </a:lnTo>
                  <a:lnTo>
                    <a:pt x="1723" y="381"/>
                  </a:lnTo>
                  <a:lnTo>
                    <a:pt x="1723" y="381"/>
                  </a:lnTo>
                  <a:lnTo>
                    <a:pt x="1723" y="376"/>
                  </a:lnTo>
                  <a:lnTo>
                    <a:pt x="1729" y="371"/>
                  </a:lnTo>
                  <a:lnTo>
                    <a:pt x="1729" y="360"/>
                  </a:lnTo>
                  <a:lnTo>
                    <a:pt x="1729" y="354"/>
                  </a:lnTo>
                  <a:close/>
                  <a:moveTo>
                    <a:pt x="1418" y="322"/>
                  </a:moveTo>
                  <a:lnTo>
                    <a:pt x="1418" y="311"/>
                  </a:lnTo>
                  <a:lnTo>
                    <a:pt x="1412" y="305"/>
                  </a:lnTo>
                  <a:lnTo>
                    <a:pt x="1412" y="300"/>
                  </a:lnTo>
                  <a:lnTo>
                    <a:pt x="1407" y="294"/>
                  </a:lnTo>
                  <a:lnTo>
                    <a:pt x="1396" y="294"/>
                  </a:lnTo>
                  <a:lnTo>
                    <a:pt x="1391" y="294"/>
                  </a:lnTo>
                  <a:lnTo>
                    <a:pt x="1380" y="300"/>
                  </a:lnTo>
                  <a:lnTo>
                    <a:pt x="1374" y="305"/>
                  </a:lnTo>
                  <a:lnTo>
                    <a:pt x="1369" y="311"/>
                  </a:lnTo>
                  <a:lnTo>
                    <a:pt x="1369" y="316"/>
                  </a:lnTo>
                  <a:lnTo>
                    <a:pt x="1369" y="322"/>
                  </a:lnTo>
                  <a:lnTo>
                    <a:pt x="1363" y="327"/>
                  </a:lnTo>
                  <a:lnTo>
                    <a:pt x="1369" y="338"/>
                  </a:lnTo>
                  <a:lnTo>
                    <a:pt x="1369" y="338"/>
                  </a:lnTo>
                  <a:lnTo>
                    <a:pt x="1380" y="338"/>
                  </a:lnTo>
                  <a:lnTo>
                    <a:pt x="1385" y="338"/>
                  </a:lnTo>
                  <a:lnTo>
                    <a:pt x="1396" y="332"/>
                  </a:lnTo>
                  <a:lnTo>
                    <a:pt x="1407" y="327"/>
                  </a:lnTo>
                  <a:lnTo>
                    <a:pt x="1412" y="322"/>
                  </a:lnTo>
                  <a:lnTo>
                    <a:pt x="1418" y="322"/>
                  </a:lnTo>
                  <a:close/>
                  <a:moveTo>
                    <a:pt x="2394" y="322"/>
                  </a:moveTo>
                  <a:lnTo>
                    <a:pt x="2394" y="316"/>
                  </a:lnTo>
                  <a:lnTo>
                    <a:pt x="2388" y="316"/>
                  </a:lnTo>
                  <a:lnTo>
                    <a:pt x="2383" y="316"/>
                  </a:lnTo>
                  <a:lnTo>
                    <a:pt x="2383" y="316"/>
                  </a:lnTo>
                  <a:lnTo>
                    <a:pt x="2377" y="322"/>
                  </a:lnTo>
                  <a:lnTo>
                    <a:pt x="2377" y="327"/>
                  </a:lnTo>
                  <a:lnTo>
                    <a:pt x="2383" y="332"/>
                  </a:lnTo>
                  <a:lnTo>
                    <a:pt x="2383" y="332"/>
                  </a:lnTo>
                  <a:lnTo>
                    <a:pt x="2388" y="338"/>
                  </a:lnTo>
                  <a:lnTo>
                    <a:pt x="2388" y="338"/>
                  </a:lnTo>
                  <a:lnTo>
                    <a:pt x="2388" y="332"/>
                  </a:lnTo>
                  <a:lnTo>
                    <a:pt x="2394" y="332"/>
                  </a:lnTo>
                  <a:lnTo>
                    <a:pt x="2394" y="327"/>
                  </a:lnTo>
                  <a:lnTo>
                    <a:pt x="2394" y="322"/>
                  </a:lnTo>
                  <a:close/>
                  <a:moveTo>
                    <a:pt x="2328" y="289"/>
                  </a:moveTo>
                  <a:lnTo>
                    <a:pt x="2323" y="289"/>
                  </a:lnTo>
                  <a:lnTo>
                    <a:pt x="2323" y="283"/>
                  </a:lnTo>
                  <a:lnTo>
                    <a:pt x="2323" y="283"/>
                  </a:lnTo>
                  <a:lnTo>
                    <a:pt x="2323" y="289"/>
                  </a:lnTo>
                  <a:lnTo>
                    <a:pt x="2323" y="289"/>
                  </a:lnTo>
                  <a:lnTo>
                    <a:pt x="2323" y="289"/>
                  </a:lnTo>
                  <a:lnTo>
                    <a:pt x="2323" y="289"/>
                  </a:lnTo>
                  <a:lnTo>
                    <a:pt x="2323" y="289"/>
                  </a:lnTo>
                  <a:lnTo>
                    <a:pt x="2323" y="289"/>
                  </a:lnTo>
                  <a:lnTo>
                    <a:pt x="2323" y="289"/>
                  </a:lnTo>
                  <a:lnTo>
                    <a:pt x="2323" y="289"/>
                  </a:lnTo>
                  <a:lnTo>
                    <a:pt x="2323" y="289"/>
                  </a:lnTo>
                  <a:lnTo>
                    <a:pt x="2323" y="289"/>
                  </a:lnTo>
                  <a:lnTo>
                    <a:pt x="2328" y="289"/>
                  </a:lnTo>
                  <a:close/>
                  <a:moveTo>
                    <a:pt x="2568" y="289"/>
                  </a:moveTo>
                  <a:lnTo>
                    <a:pt x="2574" y="283"/>
                  </a:lnTo>
                  <a:lnTo>
                    <a:pt x="2579" y="278"/>
                  </a:lnTo>
                  <a:lnTo>
                    <a:pt x="2585" y="272"/>
                  </a:lnTo>
                  <a:lnTo>
                    <a:pt x="2590" y="267"/>
                  </a:lnTo>
                  <a:lnTo>
                    <a:pt x="2596" y="262"/>
                  </a:lnTo>
                  <a:lnTo>
                    <a:pt x="2596" y="256"/>
                  </a:lnTo>
                  <a:lnTo>
                    <a:pt x="2601" y="245"/>
                  </a:lnTo>
                  <a:lnTo>
                    <a:pt x="2606" y="240"/>
                  </a:lnTo>
                  <a:lnTo>
                    <a:pt x="2612" y="240"/>
                  </a:lnTo>
                  <a:lnTo>
                    <a:pt x="2617" y="245"/>
                  </a:lnTo>
                  <a:lnTo>
                    <a:pt x="2623" y="251"/>
                  </a:lnTo>
                  <a:lnTo>
                    <a:pt x="2623" y="262"/>
                  </a:lnTo>
                  <a:lnTo>
                    <a:pt x="2623" y="267"/>
                  </a:lnTo>
                  <a:lnTo>
                    <a:pt x="2617" y="272"/>
                  </a:lnTo>
                  <a:lnTo>
                    <a:pt x="2612" y="278"/>
                  </a:lnTo>
                  <a:lnTo>
                    <a:pt x="2601" y="283"/>
                  </a:lnTo>
                  <a:lnTo>
                    <a:pt x="2596" y="289"/>
                  </a:lnTo>
                  <a:lnTo>
                    <a:pt x="2590" y="294"/>
                  </a:lnTo>
                  <a:lnTo>
                    <a:pt x="2585" y="300"/>
                  </a:lnTo>
                  <a:lnTo>
                    <a:pt x="2585" y="311"/>
                  </a:lnTo>
                  <a:lnTo>
                    <a:pt x="2579" y="316"/>
                  </a:lnTo>
                  <a:lnTo>
                    <a:pt x="2579" y="316"/>
                  </a:lnTo>
                  <a:lnTo>
                    <a:pt x="2574" y="311"/>
                  </a:lnTo>
                  <a:lnTo>
                    <a:pt x="2574" y="305"/>
                  </a:lnTo>
                  <a:lnTo>
                    <a:pt x="2568" y="300"/>
                  </a:lnTo>
                  <a:lnTo>
                    <a:pt x="2568" y="289"/>
                  </a:lnTo>
                  <a:close/>
                  <a:moveTo>
                    <a:pt x="2290" y="256"/>
                  </a:moveTo>
                  <a:lnTo>
                    <a:pt x="2290" y="256"/>
                  </a:lnTo>
                  <a:lnTo>
                    <a:pt x="2285" y="251"/>
                  </a:lnTo>
                  <a:lnTo>
                    <a:pt x="2279" y="251"/>
                  </a:lnTo>
                  <a:lnTo>
                    <a:pt x="2274" y="251"/>
                  </a:lnTo>
                  <a:lnTo>
                    <a:pt x="2268" y="251"/>
                  </a:lnTo>
                  <a:lnTo>
                    <a:pt x="2263" y="256"/>
                  </a:lnTo>
                  <a:lnTo>
                    <a:pt x="2263" y="256"/>
                  </a:lnTo>
                  <a:lnTo>
                    <a:pt x="2263" y="256"/>
                  </a:lnTo>
                  <a:lnTo>
                    <a:pt x="2268" y="256"/>
                  </a:lnTo>
                  <a:lnTo>
                    <a:pt x="2274" y="262"/>
                  </a:lnTo>
                  <a:lnTo>
                    <a:pt x="2279" y="262"/>
                  </a:lnTo>
                  <a:lnTo>
                    <a:pt x="2285" y="262"/>
                  </a:lnTo>
                  <a:lnTo>
                    <a:pt x="2290" y="256"/>
                  </a:lnTo>
                  <a:lnTo>
                    <a:pt x="2290" y="256"/>
                  </a:lnTo>
                  <a:close/>
                  <a:moveTo>
                    <a:pt x="1194" y="223"/>
                  </a:moveTo>
                  <a:lnTo>
                    <a:pt x="1200" y="218"/>
                  </a:lnTo>
                  <a:lnTo>
                    <a:pt x="1205" y="213"/>
                  </a:lnTo>
                  <a:lnTo>
                    <a:pt x="1205" y="213"/>
                  </a:lnTo>
                  <a:lnTo>
                    <a:pt x="1211" y="213"/>
                  </a:lnTo>
                  <a:lnTo>
                    <a:pt x="1216" y="218"/>
                  </a:lnTo>
                  <a:lnTo>
                    <a:pt x="1222" y="218"/>
                  </a:lnTo>
                  <a:lnTo>
                    <a:pt x="1222" y="223"/>
                  </a:lnTo>
                  <a:lnTo>
                    <a:pt x="1222" y="229"/>
                  </a:lnTo>
                  <a:lnTo>
                    <a:pt x="1216" y="234"/>
                  </a:lnTo>
                  <a:lnTo>
                    <a:pt x="1211" y="234"/>
                  </a:lnTo>
                  <a:lnTo>
                    <a:pt x="1205" y="234"/>
                  </a:lnTo>
                  <a:lnTo>
                    <a:pt x="1205" y="234"/>
                  </a:lnTo>
                  <a:lnTo>
                    <a:pt x="1200" y="229"/>
                  </a:lnTo>
                  <a:lnTo>
                    <a:pt x="1194" y="223"/>
                  </a:lnTo>
                  <a:close/>
                  <a:moveTo>
                    <a:pt x="2236" y="223"/>
                  </a:moveTo>
                  <a:lnTo>
                    <a:pt x="2230" y="218"/>
                  </a:lnTo>
                  <a:lnTo>
                    <a:pt x="2230" y="218"/>
                  </a:lnTo>
                  <a:lnTo>
                    <a:pt x="2225" y="218"/>
                  </a:lnTo>
                  <a:lnTo>
                    <a:pt x="2214" y="218"/>
                  </a:lnTo>
                  <a:lnTo>
                    <a:pt x="2208" y="218"/>
                  </a:lnTo>
                  <a:lnTo>
                    <a:pt x="2203" y="223"/>
                  </a:lnTo>
                  <a:lnTo>
                    <a:pt x="2203" y="223"/>
                  </a:lnTo>
                  <a:lnTo>
                    <a:pt x="2203" y="229"/>
                  </a:lnTo>
                  <a:lnTo>
                    <a:pt x="2208" y="229"/>
                  </a:lnTo>
                  <a:lnTo>
                    <a:pt x="2219" y="229"/>
                  </a:lnTo>
                  <a:lnTo>
                    <a:pt x="2225" y="234"/>
                  </a:lnTo>
                  <a:lnTo>
                    <a:pt x="2230" y="229"/>
                  </a:lnTo>
                  <a:lnTo>
                    <a:pt x="2230" y="229"/>
                  </a:lnTo>
                  <a:lnTo>
                    <a:pt x="2236" y="223"/>
                  </a:lnTo>
                  <a:close/>
                  <a:moveTo>
                    <a:pt x="1543" y="191"/>
                  </a:moveTo>
                  <a:lnTo>
                    <a:pt x="1554" y="185"/>
                  </a:lnTo>
                  <a:lnTo>
                    <a:pt x="1560" y="180"/>
                  </a:lnTo>
                  <a:lnTo>
                    <a:pt x="1565" y="180"/>
                  </a:lnTo>
                  <a:lnTo>
                    <a:pt x="1571" y="185"/>
                  </a:lnTo>
                  <a:lnTo>
                    <a:pt x="1571" y="196"/>
                  </a:lnTo>
                  <a:lnTo>
                    <a:pt x="1571" y="202"/>
                  </a:lnTo>
                  <a:lnTo>
                    <a:pt x="1571" y="213"/>
                  </a:lnTo>
                  <a:lnTo>
                    <a:pt x="1565" y="218"/>
                  </a:lnTo>
                  <a:lnTo>
                    <a:pt x="1560" y="218"/>
                  </a:lnTo>
                  <a:lnTo>
                    <a:pt x="1560" y="218"/>
                  </a:lnTo>
                  <a:lnTo>
                    <a:pt x="1554" y="218"/>
                  </a:lnTo>
                  <a:lnTo>
                    <a:pt x="1554" y="213"/>
                  </a:lnTo>
                  <a:lnTo>
                    <a:pt x="1549" y="202"/>
                  </a:lnTo>
                  <a:lnTo>
                    <a:pt x="1543" y="191"/>
                  </a:lnTo>
                  <a:close/>
                  <a:moveTo>
                    <a:pt x="2170" y="191"/>
                  </a:moveTo>
                  <a:lnTo>
                    <a:pt x="2165" y="191"/>
                  </a:lnTo>
                  <a:lnTo>
                    <a:pt x="2165" y="185"/>
                  </a:lnTo>
                  <a:lnTo>
                    <a:pt x="2154" y="185"/>
                  </a:lnTo>
                  <a:lnTo>
                    <a:pt x="2148" y="185"/>
                  </a:lnTo>
                  <a:lnTo>
                    <a:pt x="2143" y="191"/>
                  </a:lnTo>
                  <a:lnTo>
                    <a:pt x="2143" y="191"/>
                  </a:lnTo>
                  <a:lnTo>
                    <a:pt x="2143" y="196"/>
                  </a:lnTo>
                  <a:lnTo>
                    <a:pt x="2148" y="196"/>
                  </a:lnTo>
                  <a:lnTo>
                    <a:pt x="2154" y="202"/>
                  </a:lnTo>
                  <a:lnTo>
                    <a:pt x="2159" y="202"/>
                  </a:lnTo>
                  <a:lnTo>
                    <a:pt x="2165" y="202"/>
                  </a:lnTo>
                  <a:lnTo>
                    <a:pt x="2165" y="202"/>
                  </a:lnTo>
                  <a:lnTo>
                    <a:pt x="2170" y="196"/>
                  </a:lnTo>
                  <a:lnTo>
                    <a:pt x="2170" y="191"/>
                  </a:lnTo>
                  <a:close/>
                  <a:moveTo>
                    <a:pt x="1636" y="158"/>
                  </a:moveTo>
                  <a:lnTo>
                    <a:pt x="1641" y="153"/>
                  </a:lnTo>
                  <a:lnTo>
                    <a:pt x="1647" y="147"/>
                  </a:lnTo>
                  <a:lnTo>
                    <a:pt x="1652" y="142"/>
                  </a:lnTo>
                  <a:lnTo>
                    <a:pt x="1658" y="142"/>
                  </a:lnTo>
                  <a:lnTo>
                    <a:pt x="1663" y="142"/>
                  </a:lnTo>
                  <a:lnTo>
                    <a:pt x="1669" y="147"/>
                  </a:lnTo>
                  <a:lnTo>
                    <a:pt x="1674" y="153"/>
                  </a:lnTo>
                  <a:lnTo>
                    <a:pt x="1685" y="158"/>
                  </a:lnTo>
                  <a:lnTo>
                    <a:pt x="1690" y="163"/>
                  </a:lnTo>
                  <a:lnTo>
                    <a:pt x="1680" y="169"/>
                  </a:lnTo>
                  <a:lnTo>
                    <a:pt x="1674" y="174"/>
                  </a:lnTo>
                  <a:lnTo>
                    <a:pt x="1669" y="180"/>
                  </a:lnTo>
                  <a:lnTo>
                    <a:pt x="1663" y="185"/>
                  </a:lnTo>
                  <a:lnTo>
                    <a:pt x="1658" y="185"/>
                  </a:lnTo>
                  <a:lnTo>
                    <a:pt x="1652" y="185"/>
                  </a:lnTo>
                  <a:lnTo>
                    <a:pt x="1652" y="185"/>
                  </a:lnTo>
                  <a:lnTo>
                    <a:pt x="1647" y="180"/>
                  </a:lnTo>
                  <a:lnTo>
                    <a:pt x="1641" y="174"/>
                  </a:lnTo>
                  <a:lnTo>
                    <a:pt x="1641" y="169"/>
                  </a:lnTo>
                  <a:lnTo>
                    <a:pt x="1636" y="158"/>
                  </a:lnTo>
                  <a:close/>
                  <a:moveTo>
                    <a:pt x="2105" y="158"/>
                  </a:moveTo>
                  <a:lnTo>
                    <a:pt x="2099" y="158"/>
                  </a:lnTo>
                  <a:lnTo>
                    <a:pt x="2099" y="158"/>
                  </a:lnTo>
                  <a:lnTo>
                    <a:pt x="2094" y="158"/>
                  </a:lnTo>
                  <a:lnTo>
                    <a:pt x="2088" y="158"/>
                  </a:lnTo>
                  <a:lnTo>
                    <a:pt x="2083" y="158"/>
                  </a:lnTo>
                  <a:lnTo>
                    <a:pt x="2083" y="163"/>
                  </a:lnTo>
                  <a:lnTo>
                    <a:pt x="2088" y="163"/>
                  </a:lnTo>
                  <a:lnTo>
                    <a:pt x="2094" y="169"/>
                  </a:lnTo>
                  <a:lnTo>
                    <a:pt x="2094" y="169"/>
                  </a:lnTo>
                  <a:lnTo>
                    <a:pt x="2099" y="169"/>
                  </a:lnTo>
                  <a:lnTo>
                    <a:pt x="2105" y="169"/>
                  </a:lnTo>
                  <a:lnTo>
                    <a:pt x="2105" y="169"/>
                  </a:lnTo>
                  <a:lnTo>
                    <a:pt x="2105" y="163"/>
                  </a:lnTo>
                  <a:lnTo>
                    <a:pt x="2105" y="158"/>
                  </a:lnTo>
                  <a:close/>
                  <a:moveTo>
                    <a:pt x="2039" y="125"/>
                  </a:moveTo>
                  <a:lnTo>
                    <a:pt x="2039" y="125"/>
                  </a:lnTo>
                  <a:lnTo>
                    <a:pt x="2034" y="125"/>
                  </a:lnTo>
                  <a:lnTo>
                    <a:pt x="2029" y="125"/>
                  </a:lnTo>
                  <a:lnTo>
                    <a:pt x="2029" y="125"/>
                  </a:lnTo>
                  <a:lnTo>
                    <a:pt x="2029" y="131"/>
                  </a:lnTo>
                  <a:lnTo>
                    <a:pt x="2029" y="131"/>
                  </a:lnTo>
                  <a:lnTo>
                    <a:pt x="2029" y="131"/>
                  </a:lnTo>
                  <a:lnTo>
                    <a:pt x="2029" y="136"/>
                  </a:lnTo>
                  <a:lnTo>
                    <a:pt x="2034" y="136"/>
                  </a:lnTo>
                  <a:lnTo>
                    <a:pt x="2039" y="136"/>
                  </a:lnTo>
                  <a:lnTo>
                    <a:pt x="2039" y="136"/>
                  </a:lnTo>
                  <a:lnTo>
                    <a:pt x="2039" y="131"/>
                  </a:lnTo>
                  <a:lnTo>
                    <a:pt x="2039" y="131"/>
                  </a:lnTo>
                  <a:lnTo>
                    <a:pt x="2039" y="125"/>
                  </a:lnTo>
                  <a:close/>
                </a:path>
              </a:pathLst>
            </a:custGeom>
            <a:solidFill>
              <a:srgbClr val="20cc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3" name=""/>
            <p:cNvSpPr/>
            <p:nvPr/>
          </p:nvSpPr>
          <p:spPr>
            <a:xfrm>
              <a:off x="1741320" y="2514600"/>
              <a:ext cx="4899240" cy="3139920"/>
            </a:xfrm>
            <a:custGeom>
              <a:avLst/>
              <a:gdLst/>
              <a:ahLst/>
              <a:rect l="l" t="t" r="r" b="b"/>
              <a:pathLst>
                <a:path w="3086" h="1978">
                  <a:moveTo>
                    <a:pt x="2672" y="1978"/>
                  </a:moveTo>
                  <a:lnTo>
                    <a:pt x="2705" y="1946"/>
                  </a:lnTo>
                  <a:lnTo>
                    <a:pt x="2737" y="1946"/>
                  </a:lnTo>
                  <a:lnTo>
                    <a:pt x="2770" y="1946"/>
                  </a:lnTo>
                  <a:lnTo>
                    <a:pt x="2797" y="1946"/>
                  </a:lnTo>
                  <a:lnTo>
                    <a:pt x="2830" y="1946"/>
                  </a:lnTo>
                  <a:lnTo>
                    <a:pt x="2863" y="1946"/>
                  </a:lnTo>
                  <a:lnTo>
                    <a:pt x="2895" y="1946"/>
                  </a:lnTo>
                  <a:lnTo>
                    <a:pt x="2928" y="1918"/>
                  </a:lnTo>
                  <a:lnTo>
                    <a:pt x="2928" y="1886"/>
                  </a:lnTo>
                  <a:lnTo>
                    <a:pt x="2928" y="1853"/>
                  </a:lnTo>
                  <a:lnTo>
                    <a:pt x="2928" y="1820"/>
                  </a:lnTo>
                  <a:lnTo>
                    <a:pt x="2961" y="1788"/>
                  </a:lnTo>
                  <a:lnTo>
                    <a:pt x="2961" y="1755"/>
                  </a:lnTo>
                  <a:lnTo>
                    <a:pt x="2961" y="1722"/>
                  </a:lnTo>
                  <a:lnTo>
                    <a:pt x="2961" y="1695"/>
                  </a:lnTo>
                  <a:lnTo>
                    <a:pt x="2988" y="1662"/>
                  </a:lnTo>
                  <a:lnTo>
                    <a:pt x="2988" y="1630"/>
                  </a:lnTo>
                  <a:lnTo>
                    <a:pt x="2988" y="1597"/>
                  </a:lnTo>
                  <a:lnTo>
                    <a:pt x="2988" y="1564"/>
                  </a:lnTo>
                  <a:lnTo>
                    <a:pt x="3021" y="1531"/>
                  </a:lnTo>
                  <a:lnTo>
                    <a:pt x="3021" y="1499"/>
                  </a:lnTo>
                  <a:lnTo>
                    <a:pt x="3021" y="1472"/>
                  </a:lnTo>
                  <a:lnTo>
                    <a:pt x="3021" y="1439"/>
                  </a:lnTo>
                  <a:lnTo>
                    <a:pt x="3054" y="1406"/>
                  </a:lnTo>
                  <a:lnTo>
                    <a:pt x="3054" y="1373"/>
                  </a:lnTo>
                  <a:lnTo>
                    <a:pt x="3054" y="1341"/>
                  </a:lnTo>
                  <a:lnTo>
                    <a:pt x="3054" y="1308"/>
                  </a:lnTo>
                  <a:lnTo>
                    <a:pt x="3086" y="1275"/>
                  </a:lnTo>
                  <a:lnTo>
                    <a:pt x="3086" y="1248"/>
                  </a:lnTo>
                  <a:lnTo>
                    <a:pt x="3086" y="1215"/>
                  </a:lnTo>
                  <a:lnTo>
                    <a:pt x="3086" y="1183"/>
                  </a:lnTo>
                  <a:lnTo>
                    <a:pt x="3086" y="1150"/>
                  </a:lnTo>
                  <a:lnTo>
                    <a:pt x="3086" y="1117"/>
                  </a:lnTo>
                  <a:lnTo>
                    <a:pt x="3086" y="1085"/>
                  </a:lnTo>
                  <a:lnTo>
                    <a:pt x="3086" y="1052"/>
                  </a:lnTo>
                  <a:lnTo>
                    <a:pt x="3086" y="1025"/>
                  </a:lnTo>
                  <a:lnTo>
                    <a:pt x="3086" y="992"/>
                  </a:lnTo>
                  <a:lnTo>
                    <a:pt x="3086" y="959"/>
                  </a:lnTo>
                  <a:lnTo>
                    <a:pt x="3086" y="927"/>
                  </a:lnTo>
                  <a:lnTo>
                    <a:pt x="3086" y="894"/>
                  </a:lnTo>
                  <a:lnTo>
                    <a:pt x="3086" y="861"/>
                  </a:lnTo>
                  <a:lnTo>
                    <a:pt x="3086" y="828"/>
                  </a:lnTo>
                  <a:lnTo>
                    <a:pt x="3086" y="801"/>
                  </a:lnTo>
                  <a:lnTo>
                    <a:pt x="3086" y="768"/>
                  </a:lnTo>
                  <a:lnTo>
                    <a:pt x="3086" y="736"/>
                  </a:lnTo>
                  <a:lnTo>
                    <a:pt x="3086" y="703"/>
                  </a:lnTo>
                  <a:lnTo>
                    <a:pt x="3086" y="670"/>
                  </a:lnTo>
                  <a:lnTo>
                    <a:pt x="3086" y="638"/>
                  </a:lnTo>
                  <a:lnTo>
                    <a:pt x="3086" y="605"/>
                  </a:lnTo>
                  <a:lnTo>
                    <a:pt x="3086" y="572"/>
                  </a:lnTo>
                  <a:lnTo>
                    <a:pt x="3086" y="545"/>
                  </a:lnTo>
                  <a:lnTo>
                    <a:pt x="3086" y="512"/>
                  </a:lnTo>
                  <a:lnTo>
                    <a:pt x="3086" y="480"/>
                  </a:lnTo>
                  <a:lnTo>
                    <a:pt x="3086" y="447"/>
                  </a:lnTo>
                  <a:lnTo>
                    <a:pt x="3086" y="414"/>
                  </a:lnTo>
                  <a:lnTo>
                    <a:pt x="3086" y="381"/>
                  </a:lnTo>
                  <a:lnTo>
                    <a:pt x="3086" y="354"/>
                  </a:lnTo>
                  <a:lnTo>
                    <a:pt x="3086" y="322"/>
                  </a:lnTo>
                  <a:lnTo>
                    <a:pt x="3086" y="289"/>
                  </a:lnTo>
                  <a:lnTo>
                    <a:pt x="3054" y="256"/>
                  </a:lnTo>
                  <a:lnTo>
                    <a:pt x="3054" y="223"/>
                  </a:lnTo>
                  <a:lnTo>
                    <a:pt x="3054" y="191"/>
                  </a:lnTo>
                  <a:lnTo>
                    <a:pt x="3054" y="158"/>
                  </a:lnTo>
                  <a:lnTo>
                    <a:pt x="3054" y="125"/>
                  </a:lnTo>
                  <a:lnTo>
                    <a:pt x="3021" y="98"/>
                  </a:lnTo>
                  <a:lnTo>
                    <a:pt x="2988" y="98"/>
                  </a:lnTo>
                  <a:lnTo>
                    <a:pt x="2961" y="98"/>
                  </a:lnTo>
                  <a:lnTo>
                    <a:pt x="2928" y="65"/>
                  </a:lnTo>
                  <a:lnTo>
                    <a:pt x="2895" y="65"/>
                  </a:lnTo>
                  <a:lnTo>
                    <a:pt x="2863" y="65"/>
                  </a:lnTo>
                  <a:lnTo>
                    <a:pt x="2830" y="33"/>
                  </a:lnTo>
                  <a:lnTo>
                    <a:pt x="2797" y="33"/>
                  </a:lnTo>
                  <a:lnTo>
                    <a:pt x="2770" y="33"/>
                  </a:lnTo>
                  <a:lnTo>
                    <a:pt x="2737" y="0"/>
                  </a:lnTo>
                  <a:lnTo>
                    <a:pt x="2705" y="0"/>
                  </a:lnTo>
                  <a:lnTo>
                    <a:pt x="2672" y="0"/>
                  </a:lnTo>
                  <a:lnTo>
                    <a:pt x="2639" y="0"/>
                  </a:lnTo>
                  <a:lnTo>
                    <a:pt x="2612" y="0"/>
                  </a:lnTo>
                  <a:lnTo>
                    <a:pt x="2579" y="0"/>
                  </a:lnTo>
                  <a:lnTo>
                    <a:pt x="2546" y="0"/>
                  </a:lnTo>
                  <a:lnTo>
                    <a:pt x="2514" y="0"/>
                  </a:lnTo>
                  <a:lnTo>
                    <a:pt x="2481" y="0"/>
                  </a:lnTo>
                  <a:lnTo>
                    <a:pt x="2448" y="0"/>
                  </a:lnTo>
                  <a:lnTo>
                    <a:pt x="2421" y="0"/>
                  </a:lnTo>
                  <a:lnTo>
                    <a:pt x="2388" y="0"/>
                  </a:lnTo>
                  <a:lnTo>
                    <a:pt x="2356" y="0"/>
                  </a:lnTo>
                  <a:lnTo>
                    <a:pt x="2323" y="0"/>
                  </a:lnTo>
                  <a:lnTo>
                    <a:pt x="2290" y="0"/>
                  </a:lnTo>
                  <a:lnTo>
                    <a:pt x="2258" y="0"/>
                  </a:lnTo>
                  <a:lnTo>
                    <a:pt x="2230" y="0"/>
                  </a:lnTo>
                  <a:lnTo>
                    <a:pt x="2198" y="0"/>
                  </a:lnTo>
                  <a:lnTo>
                    <a:pt x="2165" y="0"/>
                  </a:lnTo>
                  <a:lnTo>
                    <a:pt x="2132" y="0"/>
                  </a:lnTo>
                  <a:lnTo>
                    <a:pt x="2099" y="0"/>
                  </a:lnTo>
                  <a:lnTo>
                    <a:pt x="2067" y="0"/>
                  </a:lnTo>
                  <a:lnTo>
                    <a:pt x="2039" y="0"/>
                  </a:lnTo>
                  <a:lnTo>
                    <a:pt x="2007" y="0"/>
                  </a:lnTo>
                  <a:lnTo>
                    <a:pt x="1974" y="0"/>
                  </a:lnTo>
                  <a:lnTo>
                    <a:pt x="1941" y="0"/>
                  </a:lnTo>
                  <a:lnTo>
                    <a:pt x="1909" y="0"/>
                  </a:lnTo>
                  <a:lnTo>
                    <a:pt x="1876" y="0"/>
                  </a:lnTo>
                  <a:lnTo>
                    <a:pt x="1849" y="0"/>
                  </a:lnTo>
                  <a:lnTo>
                    <a:pt x="1816" y="0"/>
                  </a:lnTo>
                  <a:lnTo>
                    <a:pt x="1783" y="0"/>
                  </a:lnTo>
                  <a:lnTo>
                    <a:pt x="1750" y="0"/>
                  </a:lnTo>
                  <a:lnTo>
                    <a:pt x="1718" y="0"/>
                  </a:lnTo>
                  <a:lnTo>
                    <a:pt x="1685" y="0"/>
                  </a:lnTo>
                  <a:lnTo>
                    <a:pt x="1658" y="0"/>
                  </a:lnTo>
                  <a:lnTo>
                    <a:pt x="1625" y="0"/>
                  </a:lnTo>
                  <a:lnTo>
                    <a:pt x="1592" y="0"/>
                  </a:lnTo>
                  <a:lnTo>
                    <a:pt x="1560" y="0"/>
                  </a:lnTo>
                  <a:lnTo>
                    <a:pt x="1527" y="0"/>
                  </a:lnTo>
                  <a:lnTo>
                    <a:pt x="1494" y="0"/>
                  </a:lnTo>
                  <a:lnTo>
                    <a:pt x="1467" y="0"/>
                  </a:lnTo>
                  <a:lnTo>
                    <a:pt x="1434" y="0"/>
                  </a:lnTo>
                  <a:lnTo>
                    <a:pt x="1401" y="0"/>
                  </a:lnTo>
                  <a:lnTo>
                    <a:pt x="1369" y="0"/>
                  </a:lnTo>
                  <a:lnTo>
                    <a:pt x="1336" y="0"/>
                  </a:lnTo>
                  <a:lnTo>
                    <a:pt x="1303" y="0"/>
                  </a:lnTo>
                  <a:lnTo>
                    <a:pt x="1276" y="0"/>
                  </a:lnTo>
                  <a:lnTo>
                    <a:pt x="1243" y="0"/>
                  </a:lnTo>
                  <a:lnTo>
                    <a:pt x="1211" y="0"/>
                  </a:lnTo>
                  <a:lnTo>
                    <a:pt x="1178" y="0"/>
                  </a:lnTo>
                  <a:lnTo>
                    <a:pt x="1145" y="0"/>
                  </a:lnTo>
                  <a:lnTo>
                    <a:pt x="1113" y="0"/>
                  </a:lnTo>
                  <a:lnTo>
                    <a:pt x="1085" y="0"/>
                  </a:lnTo>
                  <a:lnTo>
                    <a:pt x="1053" y="0"/>
                  </a:lnTo>
                  <a:lnTo>
                    <a:pt x="1020" y="0"/>
                  </a:lnTo>
                  <a:lnTo>
                    <a:pt x="987" y="0"/>
                  </a:lnTo>
                  <a:lnTo>
                    <a:pt x="954" y="0"/>
                  </a:lnTo>
                  <a:lnTo>
                    <a:pt x="922" y="0"/>
                  </a:lnTo>
                  <a:lnTo>
                    <a:pt x="894" y="0"/>
                  </a:lnTo>
                  <a:lnTo>
                    <a:pt x="862" y="0"/>
                  </a:lnTo>
                  <a:lnTo>
                    <a:pt x="829" y="0"/>
                  </a:lnTo>
                  <a:lnTo>
                    <a:pt x="796" y="0"/>
                  </a:lnTo>
                  <a:lnTo>
                    <a:pt x="764" y="0"/>
                  </a:lnTo>
                  <a:lnTo>
                    <a:pt x="731" y="0"/>
                  </a:lnTo>
                  <a:lnTo>
                    <a:pt x="704" y="33"/>
                  </a:lnTo>
                  <a:lnTo>
                    <a:pt x="671" y="65"/>
                  </a:lnTo>
                  <a:lnTo>
                    <a:pt x="638" y="98"/>
                  </a:lnTo>
                  <a:lnTo>
                    <a:pt x="605" y="125"/>
                  </a:lnTo>
                  <a:lnTo>
                    <a:pt x="573" y="158"/>
                  </a:lnTo>
                  <a:lnTo>
                    <a:pt x="545" y="158"/>
                  </a:lnTo>
                  <a:lnTo>
                    <a:pt x="513" y="191"/>
                  </a:lnTo>
                  <a:lnTo>
                    <a:pt x="480" y="223"/>
                  </a:lnTo>
                  <a:lnTo>
                    <a:pt x="447" y="256"/>
                  </a:lnTo>
                  <a:lnTo>
                    <a:pt x="415" y="289"/>
                  </a:lnTo>
                  <a:lnTo>
                    <a:pt x="382" y="322"/>
                  </a:lnTo>
                  <a:lnTo>
                    <a:pt x="355" y="354"/>
                  </a:lnTo>
                  <a:lnTo>
                    <a:pt x="322" y="381"/>
                  </a:lnTo>
                  <a:lnTo>
                    <a:pt x="289" y="381"/>
                  </a:lnTo>
                  <a:lnTo>
                    <a:pt x="257" y="414"/>
                  </a:lnTo>
                  <a:lnTo>
                    <a:pt x="224" y="447"/>
                  </a:lnTo>
                  <a:lnTo>
                    <a:pt x="191" y="480"/>
                  </a:lnTo>
                  <a:lnTo>
                    <a:pt x="164" y="512"/>
                  </a:lnTo>
                  <a:lnTo>
                    <a:pt x="131" y="545"/>
                  </a:lnTo>
                  <a:lnTo>
                    <a:pt x="98" y="572"/>
                  </a:lnTo>
                  <a:lnTo>
                    <a:pt x="66" y="605"/>
                  </a:lnTo>
                  <a:lnTo>
                    <a:pt x="33" y="605"/>
                  </a:lnTo>
                  <a:lnTo>
                    <a:pt x="0" y="638"/>
                  </a:lnTo>
                  <a:lnTo>
                    <a:pt x="0" y="670"/>
                  </a:lnTo>
                  <a:lnTo>
                    <a:pt x="0" y="703"/>
                  </a:lnTo>
                  <a:lnTo>
                    <a:pt x="0" y="736"/>
                  </a:lnTo>
                  <a:lnTo>
                    <a:pt x="33" y="768"/>
                  </a:lnTo>
                  <a:lnTo>
                    <a:pt x="33" y="801"/>
                  </a:lnTo>
                  <a:lnTo>
                    <a:pt x="66" y="828"/>
                  </a:lnTo>
                  <a:lnTo>
                    <a:pt x="98" y="861"/>
                  </a:lnTo>
                  <a:lnTo>
                    <a:pt x="131" y="894"/>
                  </a:lnTo>
                  <a:lnTo>
                    <a:pt x="164" y="927"/>
                  </a:lnTo>
                  <a:lnTo>
                    <a:pt x="164" y="959"/>
                  </a:lnTo>
                  <a:lnTo>
                    <a:pt x="191" y="992"/>
                  </a:lnTo>
                  <a:lnTo>
                    <a:pt x="224" y="1025"/>
                  </a:lnTo>
                  <a:lnTo>
                    <a:pt x="257" y="1052"/>
                  </a:lnTo>
                  <a:lnTo>
                    <a:pt x="289" y="1085"/>
                  </a:lnTo>
                  <a:lnTo>
                    <a:pt x="322" y="1117"/>
                  </a:lnTo>
                  <a:lnTo>
                    <a:pt x="355" y="1150"/>
                  </a:lnTo>
                  <a:lnTo>
                    <a:pt x="355" y="1183"/>
                  </a:lnTo>
                  <a:lnTo>
                    <a:pt x="382" y="1215"/>
                  </a:lnTo>
                  <a:lnTo>
                    <a:pt x="415" y="1248"/>
                  </a:lnTo>
                  <a:lnTo>
                    <a:pt x="447" y="1275"/>
                  </a:lnTo>
                  <a:lnTo>
                    <a:pt x="480" y="1308"/>
                  </a:lnTo>
                  <a:lnTo>
                    <a:pt x="513" y="1341"/>
                  </a:lnTo>
                  <a:lnTo>
                    <a:pt x="545" y="1373"/>
                  </a:lnTo>
                  <a:lnTo>
                    <a:pt x="573" y="1406"/>
                  </a:lnTo>
                  <a:lnTo>
                    <a:pt x="605" y="1439"/>
                  </a:lnTo>
                  <a:lnTo>
                    <a:pt x="638" y="1472"/>
                  </a:lnTo>
                  <a:lnTo>
                    <a:pt x="671" y="1499"/>
                  </a:lnTo>
                  <a:lnTo>
                    <a:pt x="704" y="1531"/>
                  </a:lnTo>
                  <a:lnTo>
                    <a:pt x="731" y="1564"/>
                  </a:lnTo>
                  <a:lnTo>
                    <a:pt x="764" y="1597"/>
                  </a:lnTo>
                  <a:lnTo>
                    <a:pt x="796" y="1630"/>
                  </a:lnTo>
                  <a:lnTo>
                    <a:pt x="829" y="1662"/>
                  </a:lnTo>
                  <a:lnTo>
                    <a:pt x="862" y="1695"/>
                  </a:lnTo>
                  <a:lnTo>
                    <a:pt x="894" y="1722"/>
                  </a:lnTo>
                  <a:lnTo>
                    <a:pt x="922" y="1755"/>
                  </a:lnTo>
                  <a:lnTo>
                    <a:pt x="954" y="1755"/>
                  </a:lnTo>
                  <a:lnTo>
                    <a:pt x="987" y="1788"/>
                  </a:lnTo>
                  <a:lnTo>
                    <a:pt x="1020" y="1820"/>
                  </a:lnTo>
                  <a:lnTo>
                    <a:pt x="1053" y="1853"/>
                  </a:lnTo>
                  <a:lnTo>
                    <a:pt x="1085" y="1886"/>
                  </a:lnTo>
                  <a:lnTo>
                    <a:pt x="1113" y="1918"/>
                  </a:lnTo>
                  <a:lnTo>
                    <a:pt x="1145" y="1946"/>
                  </a:lnTo>
                  <a:lnTo>
                    <a:pt x="1178" y="1978"/>
                  </a:lnTo>
                  <a:lnTo>
                    <a:pt x="1211" y="1978"/>
                  </a:lnTo>
                  <a:lnTo>
                    <a:pt x="1243" y="1978"/>
                  </a:lnTo>
                  <a:lnTo>
                    <a:pt x="1276" y="1978"/>
                  </a:lnTo>
                  <a:lnTo>
                    <a:pt x="1303" y="1978"/>
                  </a:lnTo>
                  <a:lnTo>
                    <a:pt x="1336" y="1978"/>
                  </a:lnTo>
                  <a:lnTo>
                    <a:pt x="1369" y="1978"/>
                  </a:lnTo>
                  <a:lnTo>
                    <a:pt x="1401" y="1978"/>
                  </a:lnTo>
                  <a:lnTo>
                    <a:pt x="1434" y="1978"/>
                  </a:lnTo>
                  <a:lnTo>
                    <a:pt x="1467" y="1978"/>
                  </a:lnTo>
                  <a:lnTo>
                    <a:pt x="1494" y="1978"/>
                  </a:lnTo>
                  <a:lnTo>
                    <a:pt x="1527" y="1978"/>
                  </a:lnTo>
                  <a:lnTo>
                    <a:pt x="1560" y="1978"/>
                  </a:lnTo>
                  <a:lnTo>
                    <a:pt x="1592" y="1978"/>
                  </a:lnTo>
                  <a:lnTo>
                    <a:pt x="1625" y="1978"/>
                  </a:lnTo>
                  <a:lnTo>
                    <a:pt x="1658" y="1978"/>
                  </a:lnTo>
                  <a:lnTo>
                    <a:pt x="1685" y="1978"/>
                  </a:lnTo>
                  <a:lnTo>
                    <a:pt x="1718" y="1978"/>
                  </a:lnTo>
                  <a:lnTo>
                    <a:pt x="1750" y="1978"/>
                  </a:lnTo>
                  <a:lnTo>
                    <a:pt x="1783" y="1978"/>
                  </a:lnTo>
                  <a:lnTo>
                    <a:pt x="1816" y="1978"/>
                  </a:lnTo>
                  <a:lnTo>
                    <a:pt x="1849" y="1978"/>
                  </a:lnTo>
                  <a:lnTo>
                    <a:pt x="1876" y="1978"/>
                  </a:lnTo>
                  <a:lnTo>
                    <a:pt x="1909" y="1978"/>
                  </a:lnTo>
                  <a:lnTo>
                    <a:pt x="1941" y="1978"/>
                  </a:lnTo>
                  <a:lnTo>
                    <a:pt x="1974" y="1978"/>
                  </a:lnTo>
                  <a:lnTo>
                    <a:pt x="2007" y="1978"/>
                  </a:lnTo>
                  <a:lnTo>
                    <a:pt x="2039" y="1978"/>
                  </a:lnTo>
                  <a:lnTo>
                    <a:pt x="2067" y="1978"/>
                  </a:lnTo>
                  <a:lnTo>
                    <a:pt x="2099" y="1978"/>
                  </a:lnTo>
                  <a:lnTo>
                    <a:pt x="2132" y="1978"/>
                  </a:lnTo>
                  <a:lnTo>
                    <a:pt x="2165" y="1978"/>
                  </a:lnTo>
                  <a:lnTo>
                    <a:pt x="2198" y="1978"/>
                  </a:lnTo>
                  <a:lnTo>
                    <a:pt x="2230" y="1978"/>
                  </a:lnTo>
                  <a:lnTo>
                    <a:pt x="2258" y="1978"/>
                  </a:lnTo>
                  <a:lnTo>
                    <a:pt x="2290" y="1978"/>
                  </a:lnTo>
                  <a:lnTo>
                    <a:pt x="2323" y="1978"/>
                  </a:lnTo>
                  <a:lnTo>
                    <a:pt x="2356" y="1978"/>
                  </a:lnTo>
                  <a:lnTo>
                    <a:pt x="2388" y="1978"/>
                  </a:lnTo>
                  <a:lnTo>
                    <a:pt x="2421" y="1978"/>
                  </a:lnTo>
                  <a:lnTo>
                    <a:pt x="2448" y="1978"/>
                  </a:lnTo>
                  <a:lnTo>
                    <a:pt x="2481" y="1978"/>
                  </a:lnTo>
                  <a:lnTo>
                    <a:pt x="2514" y="1978"/>
                  </a:lnTo>
                  <a:lnTo>
                    <a:pt x="2546" y="1978"/>
                  </a:lnTo>
                  <a:lnTo>
                    <a:pt x="2579" y="1978"/>
                  </a:lnTo>
                  <a:lnTo>
                    <a:pt x="2612" y="1978"/>
                  </a:lnTo>
                  <a:lnTo>
                    <a:pt x="2639" y="1978"/>
                  </a:lnTo>
                  <a:lnTo>
                    <a:pt x="2672" y="1978"/>
                  </a:lnTo>
                  <a:close/>
                  <a:moveTo>
                    <a:pt x="1232" y="638"/>
                  </a:moveTo>
                  <a:lnTo>
                    <a:pt x="1238" y="627"/>
                  </a:lnTo>
                  <a:lnTo>
                    <a:pt x="1238" y="621"/>
                  </a:lnTo>
                  <a:lnTo>
                    <a:pt x="1243" y="621"/>
                  </a:lnTo>
                  <a:lnTo>
                    <a:pt x="1243" y="621"/>
                  </a:lnTo>
                  <a:lnTo>
                    <a:pt x="1243" y="627"/>
                  </a:lnTo>
                  <a:lnTo>
                    <a:pt x="1243" y="632"/>
                  </a:lnTo>
                  <a:lnTo>
                    <a:pt x="1243" y="638"/>
                  </a:lnTo>
                  <a:lnTo>
                    <a:pt x="1243" y="649"/>
                  </a:lnTo>
                  <a:lnTo>
                    <a:pt x="1243" y="654"/>
                  </a:lnTo>
                  <a:lnTo>
                    <a:pt x="1243" y="659"/>
                  </a:lnTo>
                  <a:lnTo>
                    <a:pt x="1243" y="659"/>
                  </a:lnTo>
                  <a:lnTo>
                    <a:pt x="1238" y="654"/>
                  </a:lnTo>
                  <a:lnTo>
                    <a:pt x="1238" y="649"/>
                  </a:lnTo>
                  <a:lnTo>
                    <a:pt x="1232" y="638"/>
                  </a:lnTo>
                  <a:close/>
                  <a:moveTo>
                    <a:pt x="1336" y="638"/>
                  </a:moveTo>
                  <a:lnTo>
                    <a:pt x="1336" y="632"/>
                  </a:lnTo>
                  <a:lnTo>
                    <a:pt x="1336" y="627"/>
                  </a:lnTo>
                  <a:lnTo>
                    <a:pt x="1336" y="627"/>
                  </a:lnTo>
                  <a:lnTo>
                    <a:pt x="1336" y="627"/>
                  </a:lnTo>
                  <a:lnTo>
                    <a:pt x="1336" y="621"/>
                  </a:lnTo>
                  <a:lnTo>
                    <a:pt x="1336" y="627"/>
                  </a:lnTo>
                  <a:lnTo>
                    <a:pt x="1342" y="627"/>
                  </a:lnTo>
                  <a:lnTo>
                    <a:pt x="1342" y="632"/>
                  </a:lnTo>
                  <a:lnTo>
                    <a:pt x="1342" y="632"/>
                  </a:lnTo>
                  <a:lnTo>
                    <a:pt x="1342" y="638"/>
                  </a:lnTo>
                  <a:lnTo>
                    <a:pt x="1342" y="643"/>
                  </a:lnTo>
                  <a:lnTo>
                    <a:pt x="1336" y="643"/>
                  </a:lnTo>
                  <a:lnTo>
                    <a:pt x="1336" y="643"/>
                  </a:lnTo>
                  <a:lnTo>
                    <a:pt x="1336" y="638"/>
                  </a:lnTo>
                  <a:close/>
                  <a:moveTo>
                    <a:pt x="1265" y="545"/>
                  </a:moveTo>
                  <a:lnTo>
                    <a:pt x="1265" y="534"/>
                  </a:lnTo>
                  <a:lnTo>
                    <a:pt x="1271" y="529"/>
                  </a:lnTo>
                  <a:lnTo>
                    <a:pt x="1271" y="529"/>
                  </a:lnTo>
                  <a:lnTo>
                    <a:pt x="1276" y="529"/>
                  </a:lnTo>
                  <a:lnTo>
                    <a:pt x="1282" y="534"/>
                  </a:lnTo>
                  <a:lnTo>
                    <a:pt x="1287" y="540"/>
                  </a:lnTo>
                  <a:lnTo>
                    <a:pt x="1287" y="545"/>
                  </a:lnTo>
                  <a:lnTo>
                    <a:pt x="1287" y="550"/>
                  </a:lnTo>
                  <a:lnTo>
                    <a:pt x="1282" y="556"/>
                  </a:lnTo>
                  <a:lnTo>
                    <a:pt x="1276" y="561"/>
                  </a:lnTo>
                  <a:lnTo>
                    <a:pt x="1271" y="561"/>
                  </a:lnTo>
                  <a:lnTo>
                    <a:pt x="1271" y="556"/>
                  </a:lnTo>
                  <a:lnTo>
                    <a:pt x="1265" y="550"/>
                  </a:lnTo>
                  <a:lnTo>
                    <a:pt x="1265" y="545"/>
                  </a:lnTo>
                  <a:close/>
                  <a:moveTo>
                    <a:pt x="1363" y="545"/>
                  </a:moveTo>
                  <a:lnTo>
                    <a:pt x="1369" y="540"/>
                  </a:lnTo>
                  <a:lnTo>
                    <a:pt x="1374" y="540"/>
                  </a:lnTo>
                  <a:lnTo>
                    <a:pt x="1380" y="545"/>
                  </a:lnTo>
                  <a:lnTo>
                    <a:pt x="1380" y="550"/>
                  </a:lnTo>
                  <a:lnTo>
                    <a:pt x="1380" y="556"/>
                  </a:lnTo>
                  <a:lnTo>
                    <a:pt x="1380" y="561"/>
                  </a:lnTo>
                  <a:lnTo>
                    <a:pt x="1374" y="567"/>
                  </a:lnTo>
                  <a:lnTo>
                    <a:pt x="1369" y="572"/>
                  </a:lnTo>
                  <a:lnTo>
                    <a:pt x="1369" y="572"/>
                  </a:lnTo>
                  <a:lnTo>
                    <a:pt x="1369" y="567"/>
                  </a:lnTo>
                  <a:lnTo>
                    <a:pt x="1363" y="567"/>
                  </a:lnTo>
                  <a:lnTo>
                    <a:pt x="1363" y="561"/>
                  </a:lnTo>
                  <a:lnTo>
                    <a:pt x="1363" y="550"/>
                  </a:lnTo>
                  <a:lnTo>
                    <a:pt x="1363" y="545"/>
                  </a:lnTo>
                  <a:close/>
                  <a:moveTo>
                    <a:pt x="1303" y="480"/>
                  </a:moveTo>
                  <a:lnTo>
                    <a:pt x="1298" y="474"/>
                  </a:lnTo>
                  <a:lnTo>
                    <a:pt x="1287" y="469"/>
                  </a:lnTo>
                  <a:lnTo>
                    <a:pt x="1282" y="463"/>
                  </a:lnTo>
                  <a:lnTo>
                    <a:pt x="1276" y="458"/>
                  </a:lnTo>
                  <a:lnTo>
                    <a:pt x="1271" y="452"/>
                  </a:lnTo>
                  <a:lnTo>
                    <a:pt x="1265" y="447"/>
                  </a:lnTo>
                  <a:lnTo>
                    <a:pt x="1265" y="441"/>
                  </a:lnTo>
                  <a:lnTo>
                    <a:pt x="1265" y="436"/>
                  </a:lnTo>
                  <a:lnTo>
                    <a:pt x="1265" y="425"/>
                  </a:lnTo>
                  <a:lnTo>
                    <a:pt x="1271" y="425"/>
                  </a:lnTo>
                  <a:lnTo>
                    <a:pt x="1282" y="420"/>
                  </a:lnTo>
                  <a:lnTo>
                    <a:pt x="1287" y="425"/>
                  </a:lnTo>
                  <a:lnTo>
                    <a:pt x="1298" y="431"/>
                  </a:lnTo>
                  <a:lnTo>
                    <a:pt x="1309" y="436"/>
                  </a:lnTo>
                  <a:lnTo>
                    <a:pt x="1320" y="441"/>
                  </a:lnTo>
                  <a:lnTo>
                    <a:pt x="1325" y="441"/>
                  </a:lnTo>
                  <a:lnTo>
                    <a:pt x="1336" y="441"/>
                  </a:lnTo>
                  <a:lnTo>
                    <a:pt x="1342" y="441"/>
                  </a:lnTo>
                  <a:lnTo>
                    <a:pt x="1352" y="436"/>
                  </a:lnTo>
                  <a:lnTo>
                    <a:pt x="1358" y="431"/>
                  </a:lnTo>
                  <a:lnTo>
                    <a:pt x="1363" y="425"/>
                  </a:lnTo>
                  <a:lnTo>
                    <a:pt x="1363" y="420"/>
                  </a:lnTo>
                  <a:lnTo>
                    <a:pt x="1363" y="409"/>
                  </a:lnTo>
                  <a:lnTo>
                    <a:pt x="1358" y="398"/>
                  </a:lnTo>
                  <a:lnTo>
                    <a:pt x="1352" y="392"/>
                  </a:lnTo>
                  <a:lnTo>
                    <a:pt x="1347" y="387"/>
                  </a:lnTo>
                  <a:lnTo>
                    <a:pt x="1342" y="387"/>
                  </a:lnTo>
                  <a:lnTo>
                    <a:pt x="1331" y="387"/>
                  </a:lnTo>
                  <a:lnTo>
                    <a:pt x="1325" y="392"/>
                  </a:lnTo>
                  <a:lnTo>
                    <a:pt x="1320" y="398"/>
                  </a:lnTo>
                  <a:lnTo>
                    <a:pt x="1314" y="403"/>
                  </a:lnTo>
                  <a:lnTo>
                    <a:pt x="1303" y="409"/>
                  </a:lnTo>
                  <a:lnTo>
                    <a:pt x="1298" y="409"/>
                  </a:lnTo>
                  <a:lnTo>
                    <a:pt x="1292" y="403"/>
                  </a:lnTo>
                  <a:lnTo>
                    <a:pt x="1287" y="398"/>
                  </a:lnTo>
                  <a:lnTo>
                    <a:pt x="1282" y="387"/>
                  </a:lnTo>
                  <a:lnTo>
                    <a:pt x="1282" y="381"/>
                  </a:lnTo>
                  <a:lnTo>
                    <a:pt x="1282" y="376"/>
                  </a:lnTo>
                  <a:lnTo>
                    <a:pt x="1282" y="365"/>
                  </a:lnTo>
                  <a:lnTo>
                    <a:pt x="1287" y="360"/>
                  </a:lnTo>
                  <a:lnTo>
                    <a:pt x="1287" y="354"/>
                  </a:lnTo>
                  <a:lnTo>
                    <a:pt x="1287" y="349"/>
                  </a:lnTo>
                  <a:lnTo>
                    <a:pt x="1287" y="338"/>
                  </a:lnTo>
                  <a:lnTo>
                    <a:pt x="1287" y="332"/>
                  </a:lnTo>
                  <a:lnTo>
                    <a:pt x="1287" y="327"/>
                  </a:lnTo>
                  <a:lnTo>
                    <a:pt x="1292" y="322"/>
                  </a:lnTo>
                  <a:lnTo>
                    <a:pt x="1303" y="316"/>
                  </a:lnTo>
                  <a:lnTo>
                    <a:pt x="1309" y="316"/>
                  </a:lnTo>
                  <a:lnTo>
                    <a:pt x="1320" y="311"/>
                  </a:lnTo>
                  <a:lnTo>
                    <a:pt x="1325" y="305"/>
                  </a:lnTo>
                  <a:lnTo>
                    <a:pt x="1331" y="300"/>
                  </a:lnTo>
                  <a:lnTo>
                    <a:pt x="1342" y="294"/>
                  </a:lnTo>
                  <a:lnTo>
                    <a:pt x="1347" y="294"/>
                  </a:lnTo>
                  <a:lnTo>
                    <a:pt x="1358" y="289"/>
                  </a:lnTo>
                  <a:lnTo>
                    <a:pt x="1363" y="283"/>
                  </a:lnTo>
                  <a:lnTo>
                    <a:pt x="1374" y="283"/>
                  </a:lnTo>
                  <a:lnTo>
                    <a:pt x="1385" y="283"/>
                  </a:lnTo>
                  <a:lnTo>
                    <a:pt x="1391" y="283"/>
                  </a:lnTo>
                  <a:lnTo>
                    <a:pt x="1401" y="283"/>
                  </a:lnTo>
                  <a:lnTo>
                    <a:pt x="1412" y="289"/>
                  </a:lnTo>
                  <a:lnTo>
                    <a:pt x="1423" y="289"/>
                  </a:lnTo>
                  <a:lnTo>
                    <a:pt x="1429" y="294"/>
                  </a:lnTo>
                  <a:lnTo>
                    <a:pt x="1440" y="300"/>
                  </a:lnTo>
                  <a:lnTo>
                    <a:pt x="1445" y="300"/>
                  </a:lnTo>
                  <a:lnTo>
                    <a:pt x="1456" y="300"/>
                  </a:lnTo>
                  <a:lnTo>
                    <a:pt x="1467" y="294"/>
                  </a:lnTo>
                  <a:lnTo>
                    <a:pt x="1483" y="294"/>
                  </a:lnTo>
                  <a:lnTo>
                    <a:pt x="1489" y="289"/>
                  </a:lnTo>
                  <a:lnTo>
                    <a:pt x="1494" y="289"/>
                  </a:lnTo>
                  <a:lnTo>
                    <a:pt x="1494" y="283"/>
                  </a:lnTo>
                  <a:lnTo>
                    <a:pt x="1489" y="278"/>
                  </a:lnTo>
                  <a:lnTo>
                    <a:pt x="1478" y="272"/>
                  </a:lnTo>
                  <a:lnTo>
                    <a:pt x="1472" y="267"/>
                  </a:lnTo>
                  <a:lnTo>
                    <a:pt x="1461" y="262"/>
                  </a:lnTo>
                  <a:lnTo>
                    <a:pt x="1461" y="256"/>
                  </a:lnTo>
                  <a:lnTo>
                    <a:pt x="1461" y="251"/>
                  </a:lnTo>
                  <a:lnTo>
                    <a:pt x="1467" y="245"/>
                  </a:lnTo>
                  <a:lnTo>
                    <a:pt x="1478" y="251"/>
                  </a:lnTo>
                  <a:lnTo>
                    <a:pt x="1483" y="262"/>
                  </a:lnTo>
                  <a:lnTo>
                    <a:pt x="1489" y="267"/>
                  </a:lnTo>
                  <a:lnTo>
                    <a:pt x="1489" y="278"/>
                  </a:lnTo>
                  <a:lnTo>
                    <a:pt x="1494" y="283"/>
                  </a:lnTo>
                  <a:lnTo>
                    <a:pt x="1494" y="283"/>
                  </a:lnTo>
                  <a:lnTo>
                    <a:pt x="1500" y="283"/>
                  </a:lnTo>
                  <a:lnTo>
                    <a:pt x="1505" y="283"/>
                  </a:lnTo>
                  <a:lnTo>
                    <a:pt x="1511" y="278"/>
                  </a:lnTo>
                  <a:lnTo>
                    <a:pt x="1521" y="272"/>
                  </a:lnTo>
                  <a:lnTo>
                    <a:pt x="1532" y="267"/>
                  </a:lnTo>
                  <a:lnTo>
                    <a:pt x="1538" y="262"/>
                  </a:lnTo>
                  <a:lnTo>
                    <a:pt x="1549" y="262"/>
                  </a:lnTo>
                  <a:lnTo>
                    <a:pt x="1560" y="262"/>
                  </a:lnTo>
                  <a:lnTo>
                    <a:pt x="1571" y="256"/>
                  </a:lnTo>
                  <a:lnTo>
                    <a:pt x="1576" y="251"/>
                  </a:lnTo>
                  <a:lnTo>
                    <a:pt x="1581" y="245"/>
                  </a:lnTo>
                  <a:lnTo>
                    <a:pt x="1587" y="240"/>
                  </a:lnTo>
                  <a:lnTo>
                    <a:pt x="1592" y="234"/>
                  </a:lnTo>
                  <a:lnTo>
                    <a:pt x="1598" y="234"/>
                  </a:lnTo>
                  <a:lnTo>
                    <a:pt x="1609" y="234"/>
                  </a:lnTo>
                  <a:lnTo>
                    <a:pt x="1620" y="234"/>
                  </a:lnTo>
                  <a:lnTo>
                    <a:pt x="1630" y="234"/>
                  </a:lnTo>
                  <a:lnTo>
                    <a:pt x="1641" y="229"/>
                  </a:lnTo>
                  <a:lnTo>
                    <a:pt x="1647" y="223"/>
                  </a:lnTo>
                  <a:lnTo>
                    <a:pt x="1647" y="218"/>
                  </a:lnTo>
                  <a:lnTo>
                    <a:pt x="1652" y="213"/>
                  </a:lnTo>
                  <a:lnTo>
                    <a:pt x="1658" y="207"/>
                  </a:lnTo>
                  <a:lnTo>
                    <a:pt x="1669" y="207"/>
                  </a:lnTo>
                  <a:lnTo>
                    <a:pt x="1680" y="207"/>
                  </a:lnTo>
                  <a:lnTo>
                    <a:pt x="1690" y="207"/>
                  </a:lnTo>
                  <a:lnTo>
                    <a:pt x="1701" y="202"/>
                  </a:lnTo>
                  <a:lnTo>
                    <a:pt x="1712" y="202"/>
                  </a:lnTo>
                  <a:lnTo>
                    <a:pt x="1718" y="196"/>
                  </a:lnTo>
                  <a:lnTo>
                    <a:pt x="1729" y="191"/>
                  </a:lnTo>
                  <a:lnTo>
                    <a:pt x="1734" y="185"/>
                  </a:lnTo>
                  <a:lnTo>
                    <a:pt x="1740" y="180"/>
                  </a:lnTo>
                  <a:lnTo>
                    <a:pt x="1745" y="174"/>
                  </a:lnTo>
                  <a:lnTo>
                    <a:pt x="1756" y="174"/>
                  </a:lnTo>
                  <a:lnTo>
                    <a:pt x="1767" y="174"/>
                  </a:lnTo>
                  <a:lnTo>
                    <a:pt x="1772" y="174"/>
                  </a:lnTo>
                  <a:lnTo>
                    <a:pt x="1783" y="169"/>
                  </a:lnTo>
                  <a:lnTo>
                    <a:pt x="1794" y="163"/>
                  </a:lnTo>
                  <a:lnTo>
                    <a:pt x="1800" y="158"/>
                  </a:lnTo>
                  <a:lnTo>
                    <a:pt x="1794" y="153"/>
                  </a:lnTo>
                  <a:lnTo>
                    <a:pt x="1783" y="153"/>
                  </a:lnTo>
                  <a:lnTo>
                    <a:pt x="1772" y="153"/>
                  </a:lnTo>
                  <a:lnTo>
                    <a:pt x="1761" y="153"/>
                  </a:lnTo>
                  <a:lnTo>
                    <a:pt x="1750" y="153"/>
                  </a:lnTo>
                  <a:lnTo>
                    <a:pt x="1745" y="153"/>
                  </a:lnTo>
                  <a:lnTo>
                    <a:pt x="1740" y="147"/>
                  </a:lnTo>
                  <a:lnTo>
                    <a:pt x="1734" y="142"/>
                  </a:lnTo>
                  <a:lnTo>
                    <a:pt x="1729" y="136"/>
                  </a:lnTo>
                  <a:lnTo>
                    <a:pt x="1729" y="125"/>
                  </a:lnTo>
                  <a:lnTo>
                    <a:pt x="1734" y="120"/>
                  </a:lnTo>
                  <a:lnTo>
                    <a:pt x="1740" y="114"/>
                  </a:lnTo>
                  <a:lnTo>
                    <a:pt x="1745" y="109"/>
                  </a:lnTo>
                  <a:lnTo>
                    <a:pt x="1756" y="109"/>
                  </a:lnTo>
                  <a:lnTo>
                    <a:pt x="1767" y="104"/>
                  </a:lnTo>
                  <a:lnTo>
                    <a:pt x="1772" y="109"/>
                  </a:lnTo>
                  <a:lnTo>
                    <a:pt x="1783" y="109"/>
                  </a:lnTo>
                  <a:lnTo>
                    <a:pt x="1794" y="114"/>
                  </a:lnTo>
                  <a:lnTo>
                    <a:pt x="1800" y="120"/>
                  </a:lnTo>
                  <a:lnTo>
                    <a:pt x="1800" y="125"/>
                  </a:lnTo>
                  <a:lnTo>
                    <a:pt x="1805" y="131"/>
                  </a:lnTo>
                  <a:lnTo>
                    <a:pt x="1805" y="142"/>
                  </a:lnTo>
                  <a:lnTo>
                    <a:pt x="1810" y="147"/>
                  </a:lnTo>
                  <a:lnTo>
                    <a:pt x="1816" y="147"/>
                  </a:lnTo>
                  <a:lnTo>
                    <a:pt x="1827" y="147"/>
                  </a:lnTo>
                  <a:lnTo>
                    <a:pt x="1838" y="147"/>
                  </a:lnTo>
                  <a:lnTo>
                    <a:pt x="1849" y="142"/>
                  </a:lnTo>
                  <a:lnTo>
                    <a:pt x="1859" y="136"/>
                  </a:lnTo>
                  <a:lnTo>
                    <a:pt x="1870" y="131"/>
                  </a:lnTo>
                  <a:lnTo>
                    <a:pt x="1870" y="131"/>
                  </a:lnTo>
                  <a:lnTo>
                    <a:pt x="1865" y="125"/>
                  </a:lnTo>
                  <a:lnTo>
                    <a:pt x="1859" y="125"/>
                  </a:lnTo>
                  <a:lnTo>
                    <a:pt x="1843" y="120"/>
                  </a:lnTo>
                  <a:lnTo>
                    <a:pt x="1838" y="114"/>
                  </a:lnTo>
                  <a:lnTo>
                    <a:pt x="1827" y="109"/>
                  </a:lnTo>
                  <a:lnTo>
                    <a:pt x="1827" y="104"/>
                  </a:lnTo>
                  <a:lnTo>
                    <a:pt x="1821" y="98"/>
                  </a:lnTo>
                  <a:lnTo>
                    <a:pt x="1827" y="93"/>
                  </a:lnTo>
                  <a:lnTo>
                    <a:pt x="1827" y="87"/>
                  </a:lnTo>
                  <a:lnTo>
                    <a:pt x="1832" y="82"/>
                  </a:lnTo>
                  <a:lnTo>
                    <a:pt x="1843" y="76"/>
                  </a:lnTo>
                  <a:lnTo>
                    <a:pt x="1854" y="71"/>
                  </a:lnTo>
                  <a:lnTo>
                    <a:pt x="1865" y="71"/>
                  </a:lnTo>
                  <a:lnTo>
                    <a:pt x="1876" y="71"/>
                  </a:lnTo>
                  <a:lnTo>
                    <a:pt x="1881" y="71"/>
                  </a:lnTo>
                  <a:lnTo>
                    <a:pt x="1892" y="76"/>
                  </a:lnTo>
                  <a:lnTo>
                    <a:pt x="1898" y="82"/>
                  </a:lnTo>
                  <a:lnTo>
                    <a:pt x="1898" y="87"/>
                  </a:lnTo>
                  <a:lnTo>
                    <a:pt x="1903" y="98"/>
                  </a:lnTo>
                  <a:lnTo>
                    <a:pt x="1903" y="104"/>
                  </a:lnTo>
                  <a:lnTo>
                    <a:pt x="1909" y="114"/>
                  </a:lnTo>
                  <a:lnTo>
                    <a:pt x="1909" y="114"/>
                  </a:lnTo>
                  <a:lnTo>
                    <a:pt x="1919" y="114"/>
                  </a:lnTo>
                  <a:lnTo>
                    <a:pt x="1925" y="109"/>
                  </a:lnTo>
                  <a:lnTo>
                    <a:pt x="1936" y="104"/>
                  </a:lnTo>
                  <a:lnTo>
                    <a:pt x="1947" y="98"/>
                  </a:lnTo>
                  <a:lnTo>
                    <a:pt x="1958" y="104"/>
                  </a:lnTo>
                  <a:lnTo>
                    <a:pt x="1969" y="104"/>
                  </a:lnTo>
                  <a:lnTo>
                    <a:pt x="1974" y="98"/>
                  </a:lnTo>
                  <a:lnTo>
                    <a:pt x="1969" y="93"/>
                  </a:lnTo>
                  <a:lnTo>
                    <a:pt x="1958" y="93"/>
                  </a:lnTo>
                  <a:lnTo>
                    <a:pt x="1947" y="93"/>
                  </a:lnTo>
                  <a:lnTo>
                    <a:pt x="1941" y="93"/>
                  </a:lnTo>
                  <a:lnTo>
                    <a:pt x="1930" y="87"/>
                  </a:lnTo>
                  <a:lnTo>
                    <a:pt x="1925" y="82"/>
                  </a:lnTo>
                  <a:lnTo>
                    <a:pt x="1919" y="76"/>
                  </a:lnTo>
                  <a:lnTo>
                    <a:pt x="1919" y="71"/>
                  </a:lnTo>
                  <a:lnTo>
                    <a:pt x="1919" y="65"/>
                  </a:lnTo>
                  <a:lnTo>
                    <a:pt x="1919" y="54"/>
                  </a:lnTo>
                  <a:lnTo>
                    <a:pt x="1925" y="49"/>
                  </a:lnTo>
                  <a:lnTo>
                    <a:pt x="1936" y="44"/>
                  </a:lnTo>
                  <a:lnTo>
                    <a:pt x="1941" y="44"/>
                  </a:lnTo>
                  <a:lnTo>
                    <a:pt x="1952" y="38"/>
                  </a:lnTo>
                  <a:lnTo>
                    <a:pt x="1963" y="38"/>
                  </a:lnTo>
                  <a:lnTo>
                    <a:pt x="1974" y="38"/>
                  </a:lnTo>
                  <a:lnTo>
                    <a:pt x="1985" y="38"/>
                  </a:lnTo>
                  <a:lnTo>
                    <a:pt x="1990" y="44"/>
                  </a:lnTo>
                  <a:lnTo>
                    <a:pt x="2001" y="44"/>
                  </a:lnTo>
                  <a:lnTo>
                    <a:pt x="2007" y="49"/>
                  </a:lnTo>
                  <a:lnTo>
                    <a:pt x="2012" y="54"/>
                  </a:lnTo>
                  <a:lnTo>
                    <a:pt x="2023" y="60"/>
                  </a:lnTo>
                  <a:lnTo>
                    <a:pt x="2029" y="65"/>
                  </a:lnTo>
                  <a:lnTo>
                    <a:pt x="2034" y="71"/>
                  </a:lnTo>
                  <a:lnTo>
                    <a:pt x="2045" y="71"/>
                  </a:lnTo>
                  <a:lnTo>
                    <a:pt x="2056" y="71"/>
                  </a:lnTo>
                  <a:lnTo>
                    <a:pt x="2067" y="71"/>
                  </a:lnTo>
                  <a:lnTo>
                    <a:pt x="2078" y="71"/>
                  </a:lnTo>
                  <a:lnTo>
                    <a:pt x="2088" y="71"/>
                  </a:lnTo>
                  <a:lnTo>
                    <a:pt x="2099" y="71"/>
                  </a:lnTo>
                  <a:lnTo>
                    <a:pt x="2105" y="71"/>
                  </a:lnTo>
                  <a:lnTo>
                    <a:pt x="2116" y="76"/>
                  </a:lnTo>
                  <a:lnTo>
                    <a:pt x="2127" y="76"/>
                  </a:lnTo>
                  <a:lnTo>
                    <a:pt x="2132" y="82"/>
                  </a:lnTo>
                  <a:lnTo>
                    <a:pt x="2138" y="87"/>
                  </a:lnTo>
                  <a:lnTo>
                    <a:pt x="2143" y="93"/>
                  </a:lnTo>
                  <a:lnTo>
                    <a:pt x="2154" y="98"/>
                  </a:lnTo>
                  <a:lnTo>
                    <a:pt x="2159" y="104"/>
                  </a:lnTo>
                  <a:lnTo>
                    <a:pt x="2170" y="104"/>
                  </a:lnTo>
                  <a:lnTo>
                    <a:pt x="2181" y="104"/>
                  </a:lnTo>
                  <a:lnTo>
                    <a:pt x="2192" y="104"/>
                  </a:lnTo>
                  <a:lnTo>
                    <a:pt x="2198" y="109"/>
                  </a:lnTo>
                  <a:lnTo>
                    <a:pt x="2208" y="109"/>
                  </a:lnTo>
                  <a:lnTo>
                    <a:pt x="2219" y="109"/>
                  </a:lnTo>
                  <a:lnTo>
                    <a:pt x="2230" y="109"/>
                  </a:lnTo>
                  <a:lnTo>
                    <a:pt x="2241" y="109"/>
                  </a:lnTo>
                  <a:lnTo>
                    <a:pt x="2252" y="114"/>
                  </a:lnTo>
                  <a:lnTo>
                    <a:pt x="2258" y="114"/>
                  </a:lnTo>
                  <a:lnTo>
                    <a:pt x="2263" y="120"/>
                  </a:lnTo>
                  <a:lnTo>
                    <a:pt x="2268" y="125"/>
                  </a:lnTo>
                  <a:lnTo>
                    <a:pt x="2274" y="131"/>
                  </a:lnTo>
                  <a:lnTo>
                    <a:pt x="2285" y="136"/>
                  </a:lnTo>
                  <a:lnTo>
                    <a:pt x="2290" y="142"/>
                  </a:lnTo>
                  <a:lnTo>
                    <a:pt x="2301" y="142"/>
                  </a:lnTo>
                  <a:lnTo>
                    <a:pt x="2307" y="142"/>
                  </a:lnTo>
                  <a:lnTo>
                    <a:pt x="2317" y="147"/>
                  </a:lnTo>
                  <a:lnTo>
                    <a:pt x="2328" y="147"/>
                  </a:lnTo>
                  <a:lnTo>
                    <a:pt x="2339" y="147"/>
                  </a:lnTo>
                  <a:lnTo>
                    <a:pt x="2350" y="147"/>
                  </a:lnTo>
                  <a:lnTo>
                    <a:pt x="2361" y="147"/>
                  </a:lnTo>
                  <a:lnTo>
                    <a:pt x="2372" y="147"/>
                  </a:lnTo>
                  <a:lnTo>
                    <a:pt x="2383" y="147"/>
                  </a:lnTo>
                  <a:lnTo>
                    <a:pt x="2388" y="153"/>
                  </a:lnTo>
                  <a:lnTo>
                    <a:pt x="2394" y="158"/>
                  </a:lnTo>
                  <a:lnTo>
                    <a:pt x="2399" y="163"/>
                  </a:lnTo>
                  <a:lnTo>
                    <a:pt x="2405" y="169"/>
                  </a:lnTo>
                  <a:lnTo>
                    <a:pt x="2405" y="174"/>
                  </a:lnTo>
                  <a:lnTo>
                    <a:pt x="2410" y="180"/>
                  </a:lnTo>
                  <a:lnTo>
                    <a:pt x="2421" y="185"/>
                  </a:lnTo>
                  <a:lnTo>
                    <a:pt x="2427" y="191"/>
                  </a:lnTo>
                  <a:lnTo>
                    <a:pt x="2437" y="191"/>
                  </a:lnTo>
                  <a:lnTo>
                    <a:pt x="2448" y="191"/>
                  </a:lnTo>
                  <a:lnTo>
                    <a:pt x="2454" y="196"/>
                  </a:lnTo>
                  <a:lnTo>
                    <a:pt x="2454" y="202"/>
                  </a:lnTo>
                  <a:lnTo>
                    <a:pt x="2454" y="207"/>
                  </a:lnTo>
                  <a:lnTo>
                    <a:pt x="2448" y="218"/>
                  </a:lnTo>
                  <a:lnTo>
                    <a:pt x="2448" y="223"/>
                  </a:lnTo>
                  <a:lnTo>
                    <a:pt x="2448" y="234"/>
                  </a:lnTo>
                  <a:lnTo>
                    <a:pt x="2448" y="240"/>
                  </a:lnTo>
                  <a:lnTo>
                    <a:pt x="2448" y="245"/>
                  </a:lnTo>
                  <a:lnTo>
                    <a:pt x="2448" y="251"/>
                  </a:lnTo>
                  <a:lnTo>
                    <a:pt x="2448" y="256"/>
                  </a:lnTo>
                  <a:lnTo>
                    <a:pt x="2448" y="262"/>
                  </a:lnTo>
                  <a:lnTo>
                    <a:pt x="2448" y="272"/>
                  </a:lnTo>
                  <a:lnTo>
                    <a:pt x="2448" y="278"/>
                  </a:lnTo>
                  <a:lnTo>
                    <a:pt x="2448" y="283"/>
                  </a:lnTo>
                  <a:lnTo>
                    <a:pt x="2448" y="289"/>
                  </a:lnTo>
                  <a:lnTo>
                    <a:pt x="2448" y="294"/>
                  </a:lnTo>
                  <a:lnTo>
                    <a:pt x="2454" y="305"/>
                  </a:lnTo>
                  <a:lnTo>
                    <a:pt x="2454" y="311"/>
                  </a:lnTo>
                  <a:lnTo>
                    <a:pt x="2454" y="316"/>
                  </a:lnTo>
                  <a:lnTo>
                    <a:pt x="2448" y="322"/>
                  </a:lnTo>
                  <a:lnTo>
                    <a:pt x="2443" y="327"/>
                  </a:lnTo>
                  <a:lnTo>
                    <a:pt x="2437" y="332"/>
                  </a:lnTo>
                  <a:lnTo>
                    <a:pt x="2432" y="338"/>
                  </a:lnTo>
                  <a:lnTo>
                    <a:pt x="2427" y="343"/>
                  </a:lnTo>
                  <a:lnTo>
                    <a:pt x="2421" y="349"/>
                  </a:lnTo>
                  <a:lnTo>
                    <a:pt x="2410" y="354"/>
                  </a:lnTo>
                  <a:lnTo>
                    <a:pt x="2405" y="360"/>
                  </a:lnTo>
                  <a:lnTo>
                    <a:pt x="2394" y="360"/>
                  </a:lnTo>
                  <a:lnTo>
                    <a:pt x="2388" y="365"/>
                  </a:lnTo>
                  <a:lnTo>
                    <a:pt x="2377" y="371"/>
                  </a:lnTo>
                  <a:lnTo>
                    <a:pt x="2367" y="371"/>
                  </a:lnTo>
                  <a:lnTo>
                    <a:pt x="2361" y="371"/>
                  </a:lnTo>
                  <a:lnTo>
                    <a:pt x="2350" y="371"/>
                  </a:lnTo>
                  <a:lnTo>
                    <a:pt x="2339" y="371"/>
                  </a:lnTo>
                  <a:lnTo>
                    <a:pt x="2328" y="371"/>
                  </a:lnTo>
                  <a:lnTo>
                    <a:pt x="2317" y="371"/>
                  </a:lnTo>
                  <a:lnTo>
                    <a:pt x="2307" y="376"/>
                  </a:lnTo>
                  <a:lnTo>
                    <a:pt x="2296" y="376"/>
                  </a:lnTo>
                  <a:lnTo>
                    <a:pt x="2290" y="376"/>
                  </a:lnTo>
                  <a:lnTo>
                    <a:pt x="2279" y="376"/>
                  </a:lnTo>
                  <a:lnTo>
                    <a:pt x="2268" y="376"/>
                  </a:lnTo>
                  <a:lnTo>
                    <a:pt x="2258" y="376"/>
                  </a:lnTo>
                  <a:lnTo>
                    <a:pt x="2247" y="376"/>
                  </a:lnTo>
                  <a:lnTo>
                    <a:pt x="2236" y="376"/>
                  </a:lnTo>
                  <a:lnTo>
                    <a:pt x="2225" y="376"/>
                  </a:lnTo>
                  <a:lnTo>
                    <a:pt x="2219" y="376"/>
                  </a:lnTo>
                  <a:lnTo>
                    <a:pt x="2208" y="376"/>
                  </a:lnTo>
                  <a:lnTo>
                    <a:pt x="2198" y="376"/>
                  </a:lnTo>
                  <a:lnTo>
                    <a:pt x="2187" y="376"/>
                  </a:lnTo>
                  <a:lnTo>
                    <a:pt x="2176" y="376"/>
                  </a:lnTo>
                  <a:lnTo>
                    <a:pt x="2165" y="376"/>
                  </a:lnTo>
                  <a:lnTo>
                    <a:pt x="2159" y="376"/>
                  </a:lnTo>
                  <a:lnTo>
                    <a:pt x="2148" y="376"/>
                  </a:lnTo>
                  <a:lnTo>
                    <a:pt x="2138" y="376"/>
                  </a:lnTo>
                  <a:lnTo>
                    <a:pt x="2127" y="376"/>
                  </a:lnTo>
                  <a:lnTo>
                    <a:pt x="2116" y="376"/>
                  </a:lnTo>
                  <a:lnTo>
                    <a:pt x="2105" y="376"/>
                  </a:lnTo>
                  <a:lnTo>
                    <a:pt x="2094" y="376"/>
                  </a:lnTo>
                  <a:lnTo>
                    <a:pt x="2088" y="376"/>
                  </a:lnTo>
                  <a:lnTo>
                    <a:pt x="2078" y="376"/>
                  </a:lnTo>
                  <a:lnTo>
                    <a:pt x="2067" y="371"/>
                  </a:lnTo>
                  <a:lnTo>
                    <a:pt x="2056" y="376"/>
                  </a:lnTo>
                  <a:lnTo>
                    <a:pt x="2045" y="376"/>
                  </a:lnTo>
                  <a:lnTo>
                    <a:pt x="2039" y="376"/>
                  </a:lnTo>
                  <a:lnTo>
                    <a:pt x="2029" y="376"/>
                  </a:lnTo>
                  <a:lnTo>
                    <a:pt x="2023" y="371"/>
                  </a:lnTo>
                  <a:lnTo>
                    <a:pt x="2012" y="365"/>
                  </a:lnTo>
                  <a:lnTo>
                    <a:pt x="2001" y="365"/>
                  </a:lnTo>
                  <a:lnTo>
                    <a:pt x="1990" y="365"/>
                  </a:lnTo>
                  <a:lnTo>
                    <a:pt x="1985" y="365"/>
                  </a:lnTo>
                  <a:lnTo>
                    <a:pt x="1974" y="360"/>
                  </a:lnTo>
                  <a:lnTo>
                    <a:pt x="1969" y="360"/>
                  </a:lnTo>
                  <a:lnTo>
                    <a:pt x="1958" y="354"/>
                  </a:lnTo>
                  <a:lnTo>
                    <a:pt x="1952" y="349"/>
                  </a:lnTo>
                  <a:lnTo>
                    <a:pt x="1947" y="343"/>
                  </a:lnTo>
                  <a:lnTo>
                    <a:pt x="1936" y="338"/>
                  </a:lnTo>
                  <a:lnTo>
                    <a:pt x="1925" y="338"/>
                  </a:lnTo>
                  <a:lnTo>
                    <a:pt x="1914" y="338"/>
                  </a:lnTo>
                  <a:lnTo>
                    <a:pt x="1903" y="338"/>
                  </a:lnTo>
                  <a:lnTo>
                    <a:pt x="1892" y="338"/>
                  </a:lnTo>
                  <a:lnTo>
                    <a:pt x="1887" y="338"/>
                  </a:lnTo>
                  <a:lnTo>
                    <a:pt x="1876" y="343"/>
                  </a:lnTo>
                  <a:lnTo>
                    <a:pt x="1865" y="349"/>
                  </a:lnTo>
                  <a:lnTo>
                    <a:pt x="1859" y="349"/>
                  </a:lnTo>
                  <a:lnTo>
                    <a:pt x="1854" y="354"/>
                  </a:lnTo>
                  <a:lnTo>
                    <a:pt x="1843" y="360"/>
                  </a:lnTo>
                  <a:lnTo>
                    <a:pt x="1838" y="365"/>
                  </a:lnTo>
                  <a:lnTo>
                    <a:pt x="1827" y="365"/>
                  </a:lnTo>
                  <a:lnTo>
                    <a:pt x="1816" y="365"/>
                  </a:lnTo>
                  <a:lnTo>
                    <a:pt x="1805" y="365"/>
                  </a:lnTo>
                  <a:lnTo>
                    <a:pt x="1794" y="365"/>
                  </a:lnTo>
                  <a:lnTo>
                    <a:pt x="1783" y="365"/>
                  </a:lnTo>
                  <a:lnTo>
                    <a:pt x="1778" y="371"/>
                  </a:lnTo>
                  <a:lnTo>
                    <a:pt x="1772" y="371"/>
                  </a:lnTo>
                  <a:lnTo>
                    <a:pt x="1761" y="376"/>
                  </a:lnTo>
                  <a:lnTo>
                    <a:pt x="1756" y="381"/>
                  </a:lnTo>
                  <a:lnTo>
                    <a:pt x="1745" y="387"/>
                  </a:lnTo>
                  <a:lnTo>
                    <a:pt x="1740" y="387"/>
                  </a:lnTo>
                  <a:lnTo>
                    <a:pt x="1729" y="387"/>
                  </a:lnTo>
                  <a:lnTo>
                    <a:pt x="1718" y="381"/>
                  </a:lnTo>
                  <a:lnTo>
                    <a:pt x="1707" y="381"/>
                  </a:lnTo>
                  <a:lnTo>
                    <a:pt x="1696" y="381"/>
                  </a:lnTo>
                  <a:lnTo>
                    <a:pt x="1685" y="381"/>
                  </a:lnTo>
                  <a:lnTo>
                    <a:pt x="1674" y="376"/>
                  </a:lnTo>
                  <a:lnTo>
                    <a:pt x="1669" y="376"/>
                  </a:lnTo>
                  <a:lnTo>
                    <a:pt x="1658" y="376"/>
                  </a:lnTo>
                  <a:lnTo>
                    <a:pt x="1647" y="381"/>
                  </a:lnTo>
                  <a:lnTo>
                    <a:pt x="1641" y="381"/>
                  </a:lnTo>
                  <a:lnTo>
                    <a:pt x="1636" y="387"/>
                  </a:lnTo>
                  <a:lnTo>
                    <a:pt x="1625" y="392"/>
                  </a:lnTo>
                  <a:lnTo>
                    <a:pt x="1620" y="398"/>
                  </a:lnTo>
                  <a:lnTo>
                    <a:pt x="1609" y="398"/>
                  </a:lnTo>
                  <a:lnTo>
                    <a:pt x="1598" y="403"/>
                  </a:lnTo>
                  <a:lnTo>
                    <a:pt x="1592" y="403"/>
                  </a:lnTo>
                  <a:lnTo>
                    <a:pt x="1581" y="403"/>
                  </a:lnTo>
                  <a:lnTo>
                    <a:pt x="1571" y="403"/>
                  </a:lnTo>
                  <a:lnTo>
                    <a:pt x="1560" y="409"/>
                  </a:lnTo>
                  <a:lnTo>
                    <a:pt x="1554" y="414"/>
                  </a:lnTo>
                  <a:lnTo>
                    <a:pt x="1549" y="420"/>
                  </a:lnTo>
                  <a:lnTo>
                    <a:pt x="1538" y="420"/>
                  </a:lnTo>
                  <a:lnTo>
                    <a:pt x="1527" y="425"/>
                  </a:lnTo>
                  <a:lnTo>
                    <a:pt x="1516" y="425"/>
                  </a:lnTo>
                  <a:lnTo>
                    <a:pt x="1505" y="425"/>
                  </a:lnTo>
                  <a:lnTo>
                    <a:pt x="1500" y="425"/>
                  </a:lnTo>
                  <a:lnTo>
                    <a:pt x="1489" y="420"/>
                  </a:lnTo>
                  <a:lnTo>
                    <a:pt x="1483" y="414"/>
                  </a:lnTo>
                  <a:lnTo>
                    <a:pt x="1472" y="409"/>
                  </a:lnTo>
                  <a:lnTo>
                    <a:pt x="1467" y="409"/>
                  </a:lnTo>
                  <a:lnTo>
                    <a:pt x="1461" y="414"/>
                  </a:lnTo>
                  <a:lnTo>
                    <a:pt x="1456" y="425"/>
                  </a:lnTo>
                  <a:lnTo>
                    <a:pt x="1451" y="431"/>
                  </a:lnTo>
                  <a:lnTo>
                    <a:pt x="1440" y="436"/>
                  </a:lnTo>
                  <a:lnTo>
                    <a:pt x="1434" y="441"/>
                  </a:lnTo>
                  <a:lnTo>
                    <a:pt x="1429" y="436"/>
                  </a:lnTo>
                  <a:lnTo>
                    <a:pt x="1423" y="436"/>
                  </a:lnTo>
                  <a:lnTo>
                    <a:pt x="1418" y="425"/>
                  </a:lnTo>
                  <a:lnTo>
                    <a:pt x="1418" y="420"/>
                  </a:lnTo>
                  <a:lnTo>
                    <a:pt x="1418" y="409"/>
                  </a:lnTo>
                  <a:lnTo>
                    <a:pt x="1423" y="403"/>
                  </a:lnTo>
                  <a:lnTo>
                    <a:pt x="1423" y="398"/>
                  </a:lnTo>
                  <a:lnTo>
                    <a:pt x="1423" y="392"/>
                  </a:lnTo>
                  <a:lnTo>
                    <a:pt x="1423" y="387"/>
                  </a:lnTo>
                  <a:lnTo>
                    <a:pt x="1418" y="381"/>
                  </a:lnTo>
                  <a:lnTo>
                    <a:pt x="1407" y="376"/>
                  </a:lnTo>
                  <a:lnTo>
                    <a:pt x="1396" y="376"/>
                  </a:lnTo>
                  <a:lnTo>
                    <a:pt x="1391" y="381"/>
                  </a:lnTo>
                  <a:lnTo>
                    <a:pt x="1385" y="387"/>
                  </a:lnTo>
                  <a:lnTo>
                    <a:pt x="1385" y="392"/>
                  </a:lnTo>
                  <a:lnTo>
                    <a:pt x="1380" y="403"/>
                  </a:lnTo>
                  <a:lnTo>
                    <a:pt x="1380" y="409"/>
                  </a:lnTo>
                  <a:lnTo>
                    <a:pt x="1374" y="414"/>
                  </a:lnTo>
                  <a:lnTo>
                    <a:pt x="1369" y="420"/>
                  </a:lnTo>
                  <a:lnTo>
                    <a:pt x="1363" y="425"/>
                  </a:lnTo>
                  <a:lnTo>
                    <a:pt x="1358" y="431"/>
                  </a:lnTo>
                  <a:lnTo>
                    <a:pt x="1352" y="436"/>
                  </a:lnTo>
                  <a:lnTo>
                    <a:pt x="1347" y="441"/>
                  </a:lnTo>
                  <a:lnTo>
                    <a:pt x="1342" y="447"/>
                  </a:lnTo>
                  <a:lnTo>
                    <a:pt x="1336" y="452"/>
                  </a:lnTo>
                  <a:lnTo>
                    <a:pt x="1336" y="458"/>
                  </a:lnTo>
                  <a:lnTo>
                    <a:pt x="1331" y="463"/>
                  </a:lnTo>
                  <a:lnTo>
                    <a:pt x="1325" y="469"/>
                  </a:lnTo>
                  <a:lnTo>
                    <a:pt x="1314" y="474"/>
                  </a:lnTo>
                  <a:lnTo>
                    <a:pt x="1309" y="480"/>
                  </a:lnTo>
                  <a:lnTo>
                    <a:pt x="1303" y="480"/>
                  </a:lnTo>
                  <a:close/>
                  <a:moveTo>
                    <a:pt x="1391" y="480"/>
                  </a:moveTo>
                  <a:lnTo>
                    <a:pt x="1396" y="469"/>
                  </a:lnTo>
                  <a:lnTo>
                    <a:pt x="1396" y="463"/>
                  </a:lnTo>
                  <a:lnTo>
                    <a:pt x="1401" y="463"/>
                  </a:lnTo>
                  <a:lnTo>
                    <a:pt x="1407" y="463"/>
                  </a:lnTo>
                  <a:lnTo>
                    <a:pt x="1412" y="469"/>
                  </a:lnTo>
                  <a:lnTo>
                    <a:pt x="1412" y="480"/>
                  </a:lnTo>
                  <a:lnTo>
                    <a:pt x="1412" y="490"/>
                  </a:lnTo>
                  <a:lnTo>
                    <a:pt x="1412" y="496"/>
                  </a:lnTo>
                  <a:lnTo>
                    <a:pt x="1407" y="501"/>
                  </a:lnTo>
                  <a:lnTo>
                    <a:pt x="1401" y="501"/>
                  </a:lnTo>
                  <a:lnTo>
                    <a:pt x="1396" y="501"/>
                  </a:lnTo>
                  <a:lnTo>
                    <a:pt x="1396" y="496"/>
                  </a:lnTo>
                  <a:lnTo>
                    <a:pt x="1396" y="490"/>
                  </a:lnTo>
                  <a:lnTo>
                    <a:pt x="1391" y="480"/>
                  </a:lnTo>
                  <a:close/>
                  <a:moveTo>
                    <a:pt x="1467" y="354"/>
                  </a:moveTo>
                  <a:lnTo>
                    <a:pt x="1467" y="349"/>
                  </a:lnTo>
                  <a:lnTo>
                    <a:pt x="1467" y="349"/>
                  </a:lnTo>
                  <a:lnTo>
                    <a:pt x="1467" y="349"/>
                  </a:lnTo>
                  <a:lnTo>
                    <a:pt x="1467" y="349"/>
                  </a:lnTo>
                  <a:lnTo>
                    <a:pt x="1467" y="349"/>
                  </a:lnTo>
                  <a:lnTo>
                    <a:pt x="1461" y="349"/>
                  </a:lnTo>
                  <a:lnTo>
                    <a:pt x="1461" y="354"/>
                  </a:lnTo>
                  <a:lnTo>
                    <a:pt x="1461" y="354"/>
                  </a:lnTo>
                  <a:lnTo>
                    <a:pt x="1467" y="354"/>
                  </a:lnTo>
                  <a:lnTo>
                    <a:pt x="1467" y="354"/>
                  </a:lnTo>
                  <a:lnTo>
                    <a:pt x="1467" y="354"/>
                  </a:lnTo>
                  <a:lnTo>
                    <a:pt x="1467" y="354"/>
                  </a:lnTo>
                  <a:lnTo>
                    <a:pt x="1467" y="354"/>
                  </a:lnTo>
                  <a:lnTo>
                    <a:pt x="1467" y="354"/>
                  </a:lnTo>
                  <a:close/>
                  <a:moveTo>
                    <a:pt x="1729" y="354"/>
                  </a:moveTo>
                  <a:lnTo>
                    <a:pt x="1723" y="349"/>
                  </a:lnTo>
                  <a:lnTo>
                    <a:pt x="1718" y="354"/>
                  </a:lnTo>
                  <a:lnTo>
                    <a:pt x="1712" y="360"/>
                  </a:lnTo>
                  <a:lnTo>
                    <a:pt x="1712" y="365"/>
                  </a:lnTo>
                  <a:lnTo>
                    <a:pt x="1712" y="371"/>
                  </a:lnTo>
                  <a:lnTo>
                    <a:pt x="1718" y="376"/>
                  </a:lnTo>
                  <a:lnTo>
                    <a:pt x="1718" y="381"/>
                  </a:lnTo>
                  <a:lnTo>
                    <a:pt x="1718" y="381"/>
                  </a:lnTo>
                  <a:lnTo>
                    <a:pt x="1723" y="381"/>
                  </a:lnTo>
                  <a:lnTo>
                    <a:pt x="1723" y="381"/>
                  </a:lnTo>
                  <a:lnTo>
                    <a:pt x="1723" y="376"/>
                  </a:lnTo>
                  <a:lnTo>
                    <a:pt x="1729" y="371"/>
                  </a:lnTo>
                  <a:lnTo>
                    <a:pt x="1729" y="360"/>
                  </a:lnTo>
                  <a:lnTo>
                    <a:pt x="1729" y="354"/>
                  </a:lnTo>
                  <a:close/>
                  <a:moveTo>
                    <a:pt x="1418" y="322"/>
                  </a:moveTo>
                  <a:lnTo>
                    <a:pt x="1418" y="311"/>
                  </a:lnTo>
                  <a:lnTo>
                    <a:pt x="1412" y="305"/>
                  </a:lnTo>
                  <a:lnTo>
                    <a:pt x="1412" y="300"/>
                  </a:lnTo>
                  <a:lnTo>
                    <a:pt x="1407" y="294"/>
                  </a:lnTo>
                  <a:lnTo>
                    <a:pt x="1396" y="294"/>
                  </a:lnTo>
                  <a:lnTo>
                    <a:pt x="1391" y="294"/>
                  </a:lnTo>
                  <a:lnTo>
                    <a:pt x="1380" y="300"/>
                  </a:lnTo>
                  <a:lnTo>
                    <a:pt x="1374" y="305"/>
                  </a:lnTo>
                  <a:lnTo>
                    <a:pt x="1369" y="311"/>
                  </a:lnTo>
                  <a:lnTo>
                    <a:pt x="1369" y="316"/>
                  </a:lnTo>
                  <a:lnTo>
                    <a:pt x="1369" y="322"/>
                  </a:lnTo>
                  <a:lnTo>
                    <a:pt x="1363" y="327"/>
                  </a:lnTo>
                  <a:lnTo>
                    <a:pt x="1369" y="338"/>
                  </a:lnTo>
                  <a:lnTo>
                    <a:pt x="1369" y="338"/>
                  </a:lnTo>
                  <a:lnTo>
                    <a:pt x="1380" y="338"/>
                  </a:lnTo>
                  <a:lnTo>
                    <a:pt x="1385" y="338"/>
                  </a:lnTo>
                  <a:lnTo>
                    <a:pt x="1396" y="332"/>
                  </a:lnTo>
                  <a:lnTo>
                    <a:pt x="1407" y="327"/>
                  </a:lnTo>
                  <a:lnTo>
                    <a:pt x="1412" y="322"/>
                  </a:lnTo>
                  <a:lnTo>
                    <a:pt x="1418" y="322"/>
                  </a:lnTo>
                  <a:close/>
                  <a:moveTo>
                    <a:pt x="2394" y="322"/>
                  </a:moveTo>
                  <a:lnTo>
                    <a:pt x="2394" y="316"/>
                  </a:lnTo>
                  <a:lnTo>
                    <a:pt x="2388" y="316"/>
                  </a:lnTo>
                  <a:lnTo>
                    <a:pt x="2383" y="316"/>
                  </a:lnTo>
                  <a:lnTo>
                    <a:pt x="2383" y="316"/>
                  </a:lnTo>
                  <a:lnTo>
                    <a:pt x="2377" y="322"/>
                  </a:lnTo>
                  <a:lnTo>
                    <a:pt x="2377" y="327"/>
                  </a:lnTo>
                  <a:lnTo>
                    <a:pt x="2383" y="332"/>
                  </a:lnTo>
                  <a:lnTo>
                    <a:pt x="2383" y="332"/>
                  </a:lnTo>
                  <a:lnTo>
                    <a:pt x="2388" y="338"/>
                  </a:lnTo>
                  <a:lnTo>
                    <a:pt x="2388" y="338"/>
                  </a:lnTo>
                  <a:lnTo>
                    <a:pt x="2388" y="332"/>
                  </a:lnTo>
                  <a:lnTo>
                    <a:pt x="2394" y="332"/>
                  </a:lnTo>
                  <a:lnTo>
                    <a:pt x="2394" y="327"/>
                  </a:lnTo>
                  <a:lnTo>
                    <a:pt x="2394" y="322"/>
                  </a:lnTo>
                  <a:close/>
                  <a:moveTo>
                    <a:pt x="2328" y="289"/>
                  </a:moveTo>
                  <a:lnTo>
                    <a:pt x="2323" y="289"/>
                  </a:lnTo>
                  <a:lnTo>
                    <a:pt x="2323" y="283"/>
                  </a:lnTo>
                  <a:lnTo>
                    <a:pt x="2323" y="283"/>
                  </a:lnTo>
                  <a:lnTo>
                    <a:pt x="2323" y="289"/>
                  </a:lnTo>
                  <a:lnTo>
                    <a:pt x="2323" y="289"/>
                  </a:lnTo>
                  <a:lnTo>
                    <a:pt x="2323" y="289"/>
                  </a:lnTo>
                  <a:lnTo>
                    <a:pt x="2323" y="289"/>
                  </a:lnTo>
                  <a:lnTo>
                    <a:pt x="2323" y="289"/>
                  </a:lnTo>
                  <a:lnTo>
                    <a:pt x="2323" y="289"/>
                  </a:lnTo>
                  <a:lnTo>
                    <a:pt x="2323" y="289"/>
                  </a:lnTo>
                  <a:lnTo>
                    <a:pt x="2323" y="289"/>
                  </a:lnTo>
                  <a:lnTo>
                    <a:pt x="2323" y="289"/>
                  </a:lnTo>
                  <a:lnTo>
                    <a:pt x="2323" y="289"/>
                  </a:lnTo>
                  <a:lnTo>
                    <a:pt x="2328" y="289"/>
                  </a:lnTo>
                  <a:close/>
                  <a:moveTo>
                    <a:pt x="2568" y="289"/>
                  </a:moveTo>
                  <a:lnTo>
                    <a:pt x="2574" y="283"/>
                  </a:lnTo>
                  <a:lnTo>
                    <a:pt x="2579" y="278"/>
                  </a:lnTo>
                  <a:lnTo>
                    <a:pt x="2585" y="272"/>
                  </a:lnTo>
                  <a:lnTo>
                    <a:pt x="2590" y="267"/>
                  </a:lnTo>
                  <a:lnTo>
                    <a:pt x="2596" y="262"/>
                  </a:lnTo>
                  <a:lnTo>
                    <a:pt x="2596" y="256"/>
                  </a:lnTo>
                  <a:lnTo>
                    <a:pt x="2601" y="245"/>
                  </a:lnTo>
                  <a:lnTo>
                    <a:pt x="2606" y="240"/>
                  </a:lnTo>
                  <a:lnTo>
                    <a:pt x="2612" y="240"/>
                  </a:lnTo>
                  <a:lnTo>
                    <a:pt x="2617" y="245"/>
                  </a:lnTo>
                  <a:lnTo>
                    <a:pt x="2623" y="251"/>
                  </a:lnTo>
                  <a:lnTo>
                    <a:pt x="2623" y="262"/>
                  </a:lnTo>
                  <a:lnTo>
                    <a:pt x="2623" y="267"/>
                  </a:lnTo>
                  <a:lnTo>
                    <a:pt x="2617" y="272"/>
                  </a:lnTo>
                  <a:lnTo>
                    <a:pt x="2612" y="278"/>
                  </a:lnTo>
                  <a:lnTo>
                    <a:pt x="2601" y="283"/>
                  </a:lnTo>
                  <a:lnTo>
                    <a:pt x="2596" y="289"/>
                  </a:lnTo>
                  <a:lnTo>
                    <a:pt x="2590" y="294"/>
                  </a:lnTo>
                  <a:lnTo>
                    <a:pt x="2585" y="300"/>
                  </a:lnTo>
                  <a:lnTo>
                    <a:pt x="2585" y="311"/>
                  </a:lnTo>
                  <a:lnTo>
                    <a:pt x="2579" y="316"/>
                  </a:lnTo>
                  <a:lnTo>
                    <a:pt x="2579" y="316"/>
                  </a:lnTo>
                  <a:lnTo>
                    <a:pt x="2574" y="311"/>
                  </a:lnTo>
                  <a:lnTo>
                    <a:pt x="2574" y="305"/>
                  </a:lnTo>
                  <a:lnTo>
                    <a:pt x="2568" y="300"/>
                  </a:lnTo>
                  <a:lnTo>
                    <a:pt x="2568" y="289"/>
                  </a:lnTo>
                  <a:close/>
                  <a:moveTo>
                    <a:pt x="2290" y="256"/>
                  </a:moveTo>
                  <a:lnTo>
                    <a:pt x="2290" y="256"/>
                  </a:lnTo>
                  <a:lnTo>
                    <a:pt x="2285" y="251"/>
                  </a:lnTo>
                  <a:lnTo>
                    <a:pt x="2279" y="251"/>
                  </a:lnTo>
                  <a:lnTo>
                    <a:pt x="2274" y="251"/>
                  </a:lnTo>
                  <a:lnTo>
                    <a:pt x="2268" y="251"/>
                  </a:lnTo>
                  <a:lnTo>
                    <a:pt x="2263" y="256"/>
                  </a:lnTo>
                  <a:lnTo>
                    <a:pt x="2263" y="256"/>
                  </a:lnTo>
                  <a:lnTo>
                    <a:pt x="2263" y="256"/>
                  </a:lnTo>
                  <a:lnTo>
                    <a:pt x="2268" y="256"/>
                  </a:lnTo>
                  <a:lnTo>
                    <a:pt x="2274" y="262"/>
                  </a:lnTo>
                  <a:lnTo>
                    <a:pt x="2279" y="262"/>
                  </a:lnTo>
                  <a:lnTo>
                    <a:pt x="2285" y="262"/>
                  </a:lnTo>
                  <a:lnTo>
                    <a:pt x="2290" y="256"/>
                  </a:lnTo>
                  <a:lnTo>
                    <a:pt x="2290" y="256"/>
                  </a:lnTo>
                  <a:close/>
                  <a:moveTo>
                    <a:pt x="1194" y="223"/>
                  </a:moveTo>
                  <a:lnTo>
                    <a:pt x="1200" y="218"/>
                  </a:lnTo>
                  <a:lnTo>
                    <a:pt x="1205" y="213"/>
                  </a:lnTo>
                  <a:lnTo>
                    <a:pt x="1205" y="213"/>
                  </a:lnTo>
                  <a:lnTo>
                    <a:pt x="1211" y="213"/>
                  </a:lnTo>
                  <a:lnTo>
                    <a:pt x="1216" y="218"/>
                  </a:lnTo>
                  <a:lnTo>
                    <a:pt x="1222" y="218"/>
                  </a:lnTo>
                  <a:lnTo>
                    <a:pt x="1222" y="223"/>
                  </a:lnTo>
                  <a:lnTo>
                    <a:pt x="1222" y="229"/>
                  </a:lnTo>
                  <a:lnTo>
                    <a:pt x="1216" y="234"/>
                  </a:lnTo>
                  <a:lnTo>
                    <a:pt x="1211" y="234"/>
                  </a:lnTo>
                  <a:lnTo>
                    <a:pt x="1205" y="234"/>
                  </a:lnTo>
                  <a:lnTo>
                    <a:pt x="1205" y="234"/>
                  </a:lnTo>
                  <a:lnTo>
                    <a:pt x="1200" y="229"/>
                  </a:lnTo>
                  <a:lnTo>
                    <a:pt x="1194" y="223"/>
                  </a:lnTo>
                  <a:close/>
                  <a:moveTo>
                    <a:pt x="2236" y="223"/>
                  </a:moveTo>
                  <a:lnTo>
                    <a:pt x="2230" y="218"/>
                  </a:lnTo>
                  <a:lnTo>
                    <a:pt x="2230" y="218"/>
                  </a:lnTo>
                  <a:lnTo>
                    <a:pt x="2225" y="218"/>
                  </a:lnTo>
                  <a:lnTo>
                    <a:pt x="2214" y="218"/>
                  </a:lnTo>
                  <a:lnTo>
                    <a:pt x="2208" y="218"/>
                  </a:lnTo>
                  <a:lnTo>
                    <a:pt x="2203" y="223"/>
                  </a:lnTo>
                  <a:lnTo>
                    <a:pt x="2203" y="223"/>
                  </a:lnTo>
                  <a:lnTo>
                    <a:pt x="2203" y="229"/>
                  </a:lnTo>
                  <a:lnTo>
                    <a:pt x="2208" y="229"/>
                  </a:lnTo>
                  <a:lnTo>
                    <a:pt x="2219" y="229"/>
                  </a:lnTo>
                  <a:lnTo>
                    <a:pt x="2225" y="234"/>
                  </a:lnTo>
                  <a:lnTo>
                    <a:pt x="2230" y="229"/>
                  </a:lnTo>
                  <a:lnTo>
                    <a:pt x="2230" y="229"/>
                  </a:lnTo>
                  <a:lnTo>
                    <a:pt x="2236" y="223"/>
                  </a:lnTo>
                  <a:close/>
                  <a:moveTo>
                    <a:pt x="1543" y="191"/>
                  </a:moveTo>
                  <a:lnTo>
                    <a:pt x="1554" y="185"/>
                  </a:lnTo>
                  <a:lnTo>
                    <a:pt x="1560" y="180"/>
                  </a:lnTo>
                  <a:lnTo>
                    <a:pt x="1565" y="180"/>
                  </a:lnTo>
                  <a:lnTo>
                    <a:pt x="1571" y="185"/>
                  </a:lnTo>
                  <a:lnTo>
                    <a:pt x="1571" y="196"/>
                  </a:lnTo>
                  <a:lnTo>
                    <a:pt x="1571" y="202"/>
                  </a:lnTo>
                  <a:lnTo>
                    <a:pt x="1571" y="213"/>
                  </a:lnTo>
                  <a:lnTo>
                    <a:pt x="1565" y="218"/>
                  </a:lnTo>
                  <a:lnTo>
                    <a:pt x="1560" y="218"/>
                  </a:lnTo>
                  <a:lnTo>
                    <a:pt x="1560" y="218"/>
                  </a:lnTo>
                  <a:lnTo>
                    <a:pt x="1554" y="218"/>
                  </a:lnTo>
                  <a:lnTo>
                    <a:pt x="1554" y="213"/>
                  </a:lnTo>
                  <a:lnTo>
                    <a:pt x="1549" y="202"/>
                  </a:lnTo>
                  <a:lnTo>
                    <a:pt x="1543" y="191"/>
                  </a:lnTo>
                  <a:close/>
                  <a:moveTo>
                    <a:pt x="2170" y="191"/>
                  </a:moveTo>
                  <a:lnTo>
                    <a:pt x="2165" y="191"/>
                  </a:lnTo>
                  <a:lnTo>
                    <a:pt x="2165" y="185"/>
                  </a:lnTo>
                  <a:lnTo>
                    <a:pt x="2154" y="185"/>
                  </a:lnTo>
                  <a:lnTo>
                    <a:pt x="2148" y="185"/>
                  </a:lnTo>
                  <a:lnTo>
                    <a:pt x="2143" y="191"/>
                  </a:lnTo>
                  <a:lnTo>
                    <a:pt x="2143" y="191"/>
                  </a:lnTo>
                  <a:lnTo>
                    <a:pt x="2143" y="196"/>
                  </a:lnTo>
                  <a:lnTo>
                    <a:pt x="2148" y="196"/>
                  </a:lnTo>
                  <a:lnTo>
                    <a:pt x="2154" y="202"/>
                  </a:lnTo>
                  <a:lnTo>
                    <a:pt x="2159" y="202"/>
                  </a:lnTo>
                  <a:lnTo>
                    <a:pt x="2165" y="202"/>
                  </a:lnTo>
                  <a:lnTo>
                    <a:pt x="2165" y="202"/>
                  </a:lnTo>
                  <a:lnTo>
                    <a:pt x="2170" y="196"/>
                  </a:lnTo>
                  <a:lnTo>
                    <a:pt x="2170" y="191"/>
                  </a:lnTo>
                  <a:close/>
                  <a:moveTo>
                    <a:pt x="1636" y="158"/>
                  </a:moveTo>
                  <a:lnTo>
                    <a:pt x="1641" y="153"/>
                  </a:lnTo>
                  <a:lnTo>
                    <a:pt x="1647" y="147"/>
                  </a:lnTo>
                  <a:lnTo>
                    <a:pt x="1652" y="142"/>
                  </a:lnTo>
                  <a:lnTo>
                    <a:pt x="1658" y="142"/>
                  </a:lnTo>
                  <a:lnTo>
                    <a:pt x="1663" y="142"/>
                  </a:lnTo>
                  <a:lnTo>
                    <a:pt x="1669" y="147"/>
                  </a:lnTo>
                  <a:lnTo>
                    <a:pt x="1674" y="153"/>
                  </a:lnTo>
                  <a:lnTo>
                    <a:pt x="1685" y="158"/>
                  </a:lnTo>
                  <a:lnTo>
                    <a:pt x="1690" y="163"/>
                  </a:lnTo>
                  <a:lnTo>
                    <a:pt x="1680" y="169"/>
                  </a:lnTo>
                  <a:lnTo>
                    <a:pt x="1674" y="174"/>
                  </a:lnTo>
                  <a:lnTo>
                    <a:pt x="1669" y="180"/>
                  </a:lnTo>
                  <a:lnTo>
                    <a:pt x="1663" y="185"/>
                  </a:lnTo>
                  <a:lnTo>
                    <a:pt x="1658" y="185"/>
                  </a:lnTo>
                  <a:lnTo>
                    <a:pt x="1652" y="185"/>
                  </a:lnTo>
                  <a:lnTo>
                    <a:pt x="1652" y="185"/>
                  </a:lnTo>
                  <a:lnTo>
                    <a:pt x="1647" y="180"/>
                  </a:lnTo>
                  <a:lnTo>
                    <a:pt x="1641" y="174"/>
                  </a:lnTo>
                  <a:lnTo>
                    <a:pt x="1641" y="169"/>
                  </a:lnTo>
                  <a:lnTo>
                    <a:pt x="1636" y="158"/>
                  </a:lnTo>
                  <a:close/>
                  <a:moveTo>
                    <a:pt x="2105" y="158"/>
                  </a:moveTo>
                  <a:lnTo>
                    <a:pt x="2099" y="158"/>
                  </a:lnTo>
                  <a:lnTo>
                    <a:pt x="2099" y="158"/>
                  </a:lnTo>
                  <a:lnTo>
                    <a:pt x="2094" y="158"/>
                  </a:lnTo>
                  <a:lnTo>
                    <a:pt x="2088" y="158"/>
                  </a:lnTo>
                  <a:lnTo>
                    <a:pt x="2083" y="158"/>
                  </a:lnTo>
                  <a:lnTo>
                    <a:pt x="2083" y="163"/>
                  </a:lnTo>
                  <a:lnTo>
                    <a:pt x="2088" y="163"/>
                  </a:lnTo>
                  <a:lnTo>
                    <a:pt x="2094" y="169"/>
                  </a:lnTo>
                  <a:lnTo>
                    <a:pt x="2094" y="169"/>
                  </a:lnTo>
                  <a:lnTo>
                    <a:pt x="2099" y="169"/>
                  </a:lnTo>
                  <a:lnTo>
                    <a:pt x="2105" y="169"/>
                  </a:lnTo>
                  <a:lnTo>
                    <a:pt x="2105" y="169"/>
                  </a:lnTo>
                  <a:lnTo>
                    <a:pt x="2105" y="163"/>
                  </a:lnTo>
                  <a:lnTo>
                    <a:pt x="2105" y="158"/>
                  </a:lnTo>
                  <a:close/>
                  <a:moveTo>
                    <a:pt x="2039" y="125"/>
                  </a:moveTo>
                  <a:lnTo>
                    <a:pt x="2039" y="125"/>
                  </a:lnTo>
                  <a:lnTo>
                    <a:pt x="2034" y="125"/>
                  </a:lnTo>
                  <a:lnTo>
                    <a:pt x="2029" y="125"/>
                  </a:lnTo>
                  <a:lnTo>
                    <a:pt x="2029" y="125"/>
                  </a:lnTo>
                  <a:lnTo>
                    <a:pt x="2029" y="131"/>
                  </a:lnTo>
                  <a:lnTo>
                    <a:pt x="2029" y="131"/>
                  </a:lnTo>
                  <a:lnTo>
                    <a:pt x="2029" y="131"/>
                  </a:lnTo>
                  <a:lnTo>
                    <a:pt x="2029" y="136"/>
                  </a:lnTo>
                  <a:lnTo>
                    <a:pt x="2034" y="136"/>
                  </a:lnTo>
                  <a:lnTo>
                    <a:pt x="2039" y="136"/>
                  </a:lnTo>
                  <a:lnTo>
                    <a:pt x="2039" y="136"/>
                  </a:lnTo>
                  <a:lnTo>
                    <a:pt x="2039" y="131"/>
                  </a:lnTo>
                  <a:lnTo>
                    <a:pt x="2039" y="131"/>
                  </a:lnTo>
                  <a:lnTo>
                    <a:pt x="2039" y="125"/>
                  </a:lnTo>
                  <a:close/>
                  <a:moveTo>
                    <a:pt x="2672" y="1978"/>
                  </a:moveTo>
                  <a:lnTo>
                    <a:pt x="2705" y="1946"/>
                  </a:lnTo>
                  <a:lnTo>
                    <a:pt x="2737" y="1946"/>
                  </a:lnTo>
                  <a:lnTo>
                    <a:pt x="2770" y="1946"/>
                  </a:lnTo>
                  <a:lnTo>
                    <a:pt x="2797" y="1946"/>
                  </a:lnTo>
                  <a:lnTo>
                    <a:pt x="2830" y="1946"/>
                  </a:lnTo>
                  <a:lnTo>
                    <a:pt x="2863" y="1946"/>
                  </a:lnTo>
                  <a:lnTo>
                    <a:pt x="2895" y="1946"/>
                  </a:lnTo>
                  <a:lnTo>
                    <a:pt x="2928" y="1918"/>
                  </a:lnTo>
                  <a:lnTo>
                    <a:pt x="2928" y="1886"/>
                  </a:lnTo>
                  <a:lnTo>
                    <a:pt x="2928" y="1853"/>
                  </a:lnTo>
                  <a:lnTo>
                    <a:pt x="2928" y="1820"/>
                  </a:lnTo>
                  <a:lnTo>
                    <a:pt x="2961" y="1788"/>
                  </a:lnTo>
                  <a:lnTo>
                    <a:pt x="2961" y="1755"/>
                  </a:lnTo>
                  <a:lnTo>
                    <a:pt x="2961" y="1722"/>
                  </a:lnTo>
                  <a:lnTo>
                    <a:pt x="2961" y="1695"/>
                  </a:lnTo>
                  <a:lnTo>
                    <a:pt x="2988" y="1662"/>
                  </a:lnTo>
                  <a:lnTo>
                    <a:pt x="2988" y="1630"/>
                  </a:lnTo>
                  <a:lnTo>
                    <a:pt x="2988" y="1597"/>
                  </a:lnTo>
                  <a:lnTo>
                    <a:pt x="2988" y="1564"/>
                  </a:lnTo>
                  <a:lnTo>
                    <a:pt x="3021" y="1531"/>
                  </a:lnTo>
                  <a:lnTo>
                    <a:pt x="3021" y="1499"/>
                  </a:lnTo>
                  <a:lnTo>
                    <a:pt x="3021" y="1472"/>
                  </a:lnTo>
                  <a:lnTo>
                    <a:pt x="3021" y="1439"/>
                  </a:lnTo>
                  <a:lnTo>
                    <a:pt x="3054" y="1406"/>
                  </a:lnTo>
                  <a:lnTo>
                    <a:pt x="3054" y="1373"/>
                  </a:lnTo>
                  <a:lnTo>
                    <a:pt x="3054" y="1341"/>
                  </a:lnTo>
                  <a:lnTo>
                    <a:pt x="3054" y="1308"/>
                  </a:lnTo>
                  <a:lnTo>
                    <a:pt x="3086" y="1275"/>
                  </a:lnTo>
                  <a:lnTo>
                    <a:pt x="3086" y="1248"/>
                  </a:lnTo>
                  <a:lnTo>
                    <a:pt x="3086" y="1215"/>
                  </a:lnTo>
                  <a:lnTo>
                    <a:pt x="3086" y="1183"/>
                  </a:lnTo>
                  <a:lnTo>
                    <a:pt x="3086" y="1150"/>
                  </a:lnTo>
                  <a:lnTo>
                    <a:pt x="3086" y="1117"/>
                  </a:lnTo>
                  <a:lnTo>
                    <a:pt x="3086" y="1085"/>
                  </a:lnTo>
                  <a:lnTo>
                    <a:pt x="3086" y="1052"/>
                  </a:lnTo>
                  <a:lnTo>
                    <a:pt x="3086" y="1025"/>
                  </a:lnTo>
                  <a:lnTo>
                    <a:pt x="3086" y="992"/>
                  </a:lnTo>
                  <a:lnTo>
                    <a:pt x="3086" y="959"/>
                  </a:lnTo>
                  <a:lnTo>
                    <a:pt x="3086" y="927"/>
                  </a:lnTo>
                  <a:lnTo>
                    <a:pt x="3086" y="894"/>
                  </a:lnTo>
                  <a:lnTo>
                    <a:pt x="3086" y="861"/>
                  </a:lnTo>
                  <a:lnTo>
                    <a:pt x="3086" y="828"/>
                  </a:lnTo>
                  <a:lnTo>
                    <a:pt x="3086" y="801"/>
                  </a:lnTo>
                  <a:lnTo>
                    <a:pt x="3086" y="768"/>
                  </a:lnTo>
                  <a:lnTo>
                    <a:pt x="3086" y="736"/>
                  </a:lnTo>
                  <a:lnTo>
                    <a:pt x="3086" y="703"/>
                  </a:lnTo>
                  <a:lnTo>
                    <a:pt x="3086" y="670"/>
                  </a:lnTo>
                  <a:lnTo>
                    <a:pt x="3086" y="638"/>
                  </a:lnTo>
                  <a:lnTo>
                    <a:pt x="3086" y="605"/>
                  </a:lnTo>
                  <a:lnTo>
                    <a:pt x="3086" y="572"/>
                  </a:lnTo>
                  <a:lnTo>
                    <a:pt x="3086" y="545"/>
                  </a:lnTo>
                  <a:lnTo>
                    <a:pt x="3086" y="512"/>
                  </a:lnTo>
                  <a:lnTo>
                    <a:pt x="3086" y="480"/>
                  </a:lnTo>
                  <a:lnTo>
                    <a:pt x="3086" y="447"/>
                  </a:lnTo>
                  <a:lnTo>
                    <a:pt x="3086" y="414"/>
                  </a:lnTo>
                  <a:lnTo>
                    <a:pt x="3086" y="381"/>
                  </a:lnTo>
                  <a:lnTo>
                    <a:pt x="3086" y="354"/>
                  </a:lnTo>
                  <a:lnTo>
                    <a:pt x="3086" y="322"/>
                  </a:lnTo>
                  <a:lnTo>
                    <a:pt x="3086" y="289"/>
                  </a:lnTo>
                  <a:lnTo>
                    <a:pt x="3054" y="256"/>
                  </a:lnTo>
                  <a:lnTo>
                    <a:pt x="3054" y="223"/>
                  </a:lnTo>
                  <a:lnTo>
                    <a:pt x="3054" y="191"/>
                  </a:lnTo>
                  <a:lnTo>
                    <a:pt x="3054" y="158"/>
                  </a:lnTo>
                  <a:lnTo>
                    <a:pt x="3054" y="125"/>
                  </a:lnTo>
                  <a:lnTo>
                    <a:pt x="3021" y="98"/>
                  </a:lnTo>
                  <a:lnTo>
                    <a:pt x="2988" y="98"/>
                  </a:lnTo>
                  <a:lnTo>
                    <a:pt x="2961" y="98"/>
                  </a:lnTo>
                  <a:lnTo>
                    <a:pt x="2928" y="65"/>
                  </a:lnTo>
                  <a:lnTo>
                    <a:pt x="2895" y="65"/>
                  </a:lnTo>
                  <a:lnTo>
                    <a:pt x="2863" y="65"/>
                  </a:lnTo>
                  <a:lnTo>
                    <a:pt x="2830" y="33"/>
                  </a:lnTo>
                  <a:lnTo>
                    <a:pt x="2797" y="33"/>
                  </a:lnTo>
                  <a:lnTo>
                    <a:pt x="2770" y="33"/>
                  </a:lnTo>
                  <a:lnTo>
                    <a:pt x="2737" y="0"/>
                  </a:lnTo>
                  <a:lnTo>
                    <a:pt x="2705" y="0"/>
                  </a:lnTo>
                  <a:lnTo>
                    <a:pt x="2672" y="0"/>
                  </a:lnTo>
                  <a:lnTo>
                    <a:pt x="2639" y="0"/>
                  </a:lnTo>
                  <a:lnTo>
                    <a:pt x="2612" y="0"/>
                  </a:lnTo>
                  <a:lnTo>
                    <a:pt x="2579" y="0"/>
                  </a:lnTo>
                  <a:lnTo>
                    <a:pt x="2546" y="0"/>
                  </a:lnTo>
                  <a:lnTo>
                    <a:pt x="2514" y="0"/>
                  </a:lnTo>
                  <a:lnTo>
                    <a:pt x="2481" y="0"/>
                  </a:lnTo>
                  <a:lnTo>
                    <a:pt x="2448" y="0"/>
                  </a:lnTo>
                  <a:lnTo>
                    <a:pt x="2421" y="0"/>
                  </a:lnTo>
                  <a:lnTo>
                    <a:pt x="2388" y="0"/>
                  </a:lnTo>
                  <a:lnTo>
                    <a:pt x="2356" y="0"/>
                  </a:lnTo>
                  <a:lnTo>
                    <a:pt x="2323" y="0"/>
                  </a:lnTo>
                  <a:lnTo>
                    <a:pt x="2290" y="0"/>
                  </a:lnTo>
                  <a:lnTo>
                    <a:pt x="2258" y="0"/>
                  </a:lnTo>
                  <a:lnTo>
                    <a:pt x="2230" y="0"/>
                  </a:lnTo>
                  <a:lnTo>
                    <a:pt x="2198" y="0"/>
                  </a:lnTo>
                  <a:lnTo>
                    <a:pt x="2165" y="0"/>
                  </a:lnTo>
                  <a:lnTo>
                    <a:pt x="2132" y="0"/>
                  </a:lnTo>
                  <a:lnTo>
                    <a:pt x="2099" y="0"/>
                  </a:lnTo>
                  <a:lnTo>
                    <a:pt x="2067" y="0"/>
                  </a:lnTo>
                  <a:lnTo>
                    <a:pt x="2039" y="0"/>
                  </a:lnTo>
                  <a:lnTo>
                    <a:pt x="2007" y="0"/>
                  </a:lnTo>
                  <a:lnTo>
                    <a:pt x="1974" y="0"/>
                  </a:lnTo>
                  <a:lnTo>
                    <a:pt x="1941" y="0"/>
                  </a:lnTo>
                  <a:lnTo>
                    <a:pt x="1909" y="0"/>
                  </a:lnTo>
                  <a:lnTo>
                    <a:pt x="1876" y="0"/>
                  </a:lnTo>
                  <a:lnTo>
                    <a:pt x="1849" y="0"/>
                  </a:lnTo>
                  <a:lnTo>
                    <a:pt x="1816" y="0"/>
                  </a:lnTo>
                  <a:lnTo>
                    <a:pt x="1783" y="0"/>
                  </a:lnTo>
                  <a:lnTo>
                    <a:pt x="1750" y="0"/>
                  </a:lnTo>
                  <a:lnTo>
                    <a:pt x="1718" y="0"/>
                  </a:lnTo>
                  <a:lnTo>
                    <a:pt x="1685" y="0"/>
                  </a:lnTo>
                  <a:lnTo>
                    <a:pt x="1658" y="0"/>
                  </a:lnTo>
                  <a:lnTo>
                    <a:pt x="1625" y="0"/>
                  </a:lnTo>
                  <a:lnTo>
                    <a:pt x="1592" y="0"/>
                  </a:lnTo>
                  <a:lnTo>
                    <a:pt x="1560" y="0"/>
                  </a:lnTo>
                  <a:lnTo>
                    <a:pt x="1527" y="0"/>
                  </a:lnTo>
                  <a:lnTo>
                    <a:pt x="1494" y="0"/>
                  </a:lnTo>
                  <a:lnTo>
                    <a:pt x="1467" y="0"/>
                  </a:lnTo>
                  <a:lnTo>
                    <a:pt x="1434" y="0"/>
                  </a:lnTo>
                  <a:lnTo>
                    <a:pt x="1401" y="0"/>
                  </a:lnTo>
                  <a:lnTo>
                    <a:pt x="1369" y="0"/>
                  </a:lnTo>
                  <a:lnTo>
                    <a:pt x="1336" y="0"/>
                  </a:lnTo>
                  <a:lnTo>
                    <a:pt x="1303" y="0"/>
                  </a:lnTo>
                  <a:lnTo>
                    <a:pt x="1276" y="0"/>
                  </a:lnTo>
                  <a:lnTo>
                    <a:pt x="1243" y="0"/>
                  </a:lnTo>
                  <a:lnTo>
                    <a:pt x="1211" y="0"/>
                  </a:lnTo>
                  <a:lnTo>
                    <a:pt x="1178" y="0"/>
                  </a:lnTo>
                  <a:lnTo>
                    <a:pt x="1145" y="0"/>
                  </a:lnTo>
                  <a:lnTo>
                    <a:pt x="1113" y="0"/>
                  </a:lnTo>
                  <a:lnTo>
                    <a:pt x="1085" y="0"/>
                  </a:lnTo>
                  <a:lnTo>
                    <a:pt x="1053" y="0"/>
                  </a:lnTo>
                  <a:lnTo>
                    <a:pt x="1020" y="0"/>
                  </a:lnTo>
                  <a:lnTo>
                    <a:pt x="987" y="0"/>
                  </a:lnTo>
                  <a:lnTo>
                    <a:pt x="954" y="0"/>
                  </a:lnTo>
                  <a:lnTo>
                    <a:pt x="922" y="0"/>
                  </a:lnTo>
                  <a:lnTo>
                    <a:pt x="894" y="0"/>
                  </a:lnTo>
                  <a:lnTo>
                    <a:pt x="862" y="0"/>
                  </a:lnTo>
                  <a:lnTo>
                    <a:pt x="829" y="0"/>
                  </a:lnTo>
                  <a:lnTo>
                    <a:pt x="796" y="0"/>
                  </a:lnTo>
                  <a:lnTo>
                    <a:pt x="764" y="0"/>
                  </a:lnTo>
                  <a:lnTo>
                    <a:pt x="731" y="0"/>
                  </a:lnTo>
                  <a:lnTo>
                    <a:pt x="704" y="33"/>
                  </a:lnTo>
                  <a:lnTo>
                    <a:pt x="671" y="65"/>
                  </a:lnTo>
                  <a:lnTo>
                    <a:pt x="638" y="98"/>
                  </a:lnTo>
                  <a:lnTo>
                    <a:pt x="605" y="125"/>
                  </a:lnTo>
                  <a:lnTo>
                    <a:pt x="573" y="158"/>
                  </a:lnTo>
                  <a:lnTo>
                    <a:pt x="545" y="158"/>
                  </a:lnTo>
                  <a:lnTo>
                    <a:pt x="513" y="191"/>
                  </a:lnTo>
                  <a:lnTo>
                    <a:pt x="480" y="223"/>
                  </a:lnTo>
                  <a:lnTo>
                    <a:pt x="447" y="256"/>
                  </a:lnTo>
                  <a:lnTo>
                    <a:pt x="415" y="289"/>
                  </a:lnTo>
                  <a:lnTo>
                    <a:pt x="382" y="322"/>
                  </a:lnTo>
                  <a:lnTo>
                    <a:pt x="355" y="354"/>
                  </a:lnTo>
                  <a:lnTo>
                    <a:pt x="322" y="381"/>
                  </a:lnTo>
                  <a:lnTo>
                    <a:pt x="289" y="381"/>
                  </a:lnTo>
                  <a:lnTo>
                    <a:pt x="257" y="414"/>
                  </a:lnTo>
                  <a:lnTo>
                    <a:pt x="224" y="447"/>
                  </a:lnTo>
                  <a:lnTo>
                    <a:pt x="191" y="480"/>
                  </a:lnTo>
                  <a:lnTo>
                    <a:pt x="164" y="512"/>
                  </a:lnTo>
                  <a:lnTo>
                    <a:pt x="131" y="545"/>
                  </a:lnTo>
                  <a:lnTo>
                    <a:pt x="98" y="572"/>
                  </a:lnTo>
                  <a:lnTo>
                    <a:pt x="66" y="605"/>
                  </a:lnTo>
                  <a:lnTo>
                    <a:pt x="33" y="605"/>
                  </a:lnTo>
                  <a:lnTo>
                    <a:pt x="0" y="638"/>
                  </a:lnTo>
                  <a:lnTo>
                    <a:pt x="0" y="670"/>
                  </a:lnTo>
                  <a:lnTo>
                    <a:pt x="0" y="703"/>
                  </a:lnTo>
                  <a:lnTo>
                    <a:pt x="0" y="736"/>
                  </a:lnTo>
                  <a:lnTo>
                    <a:pt x="33" y="768"/>
                  </a:lnTo>
                  <a:lnTo>
                    <a:pt x="33" y="801"/>
                  </a:lnTo>
                  <a:lnTo>
                    <a:pt x="66" y="828"/>
                  </a:lnTo>
                  <a:lnTo>
                    <a:pt x="98" y="861"/>
                  </a:lnTo>
                  <a:lnTo>
                    <a:pt x="131" y="894"/>
                  </a:lnTo>
                  <a:lnTo>
                    <a:pt x="164" y="927"/>
                  </a:lnTo>
                  <a:lnTo>
                    <a:pt x="164" y="959"/>
                  </a:lnTo>
                  <a:lnTo>
                    <a:pt x="191" y="992"/>
                  </a:lnTo>
                  <a:lnTo>
                    <a:pt x="224" y="1025"/>
                  </a:lnTo>
                  <a:lnTo>
                    <a:pt x="257" y="1052"/>
                  </a:lnTo>
                  <a:lnTo>
                    <a:pt x="289" y="1085"/>
                  </a:lnTo>
                  <a:lnTo>
                    <a:pt x="322" y="1117"/>
                  </a:lnTo>
                  <a:lnTo>
                    <a:pt x="355" y="1150"/>
                  </a:lnTo>
                  <a:lnTo>
                    <a:pt x="355" y="1183"/>
                  </a:lnTo>
                  <a:lnTo>
                    <a:pt x="382" y="1215"/>
                  </a:lnTo>
                  <a:lnTo>
                    <a:pt x="415" y="1248"/>
                  </a:lnTo>
                  <a:lnTo>
                    <a:pt x="447" y="1275"/>
                  </a:lnTo>
                  <a:lnTo>
                    <a:pt x="480" y="1308"/>
                  </a:lnTo>
                  <a:lnTo>
                    <a:pt x="513" y="1341"/>
                  </a:lnTo>
                  <a:lnTo>
                    <a:pt x="545" y="1373"/>
                  </a:lnTo>
                  <a:lnTo>
                    <a:pt x="573" y="1406"/>
                  </a:lnTo>
                  <a:lnTo>
                    <a:pt x="605" y="1439"/>
                  </a:lnTo>
                  <a:lnTo>
                    <a:pt x="638" y="1472"/>
                  </a:lnTo>
                  <a:lnTo>
                    <a:pt x="671" y="1499"/>
                  </a:lnTo>
                  <a:lnTo>
                    <a:pt x="704" y="1531"/>
                  </a:lnTo>
                  <a:lnTo>
                    <a:pt x="731" y="1564"/>
                  </a:lnTo>
                  <a:lnTo>
                    <a:pt x="764" y="1597"/>
                  </a:lnTo>
                  <a:lnTo>
                    <a:pt x="796" y="1630"/>
                  </a:lnTo>
                  <a:lnTo>
                    <a:pt x="829" y="1662"/>
                  </a:lnTo>
                  <a:lnTo>
                    <a:pt x="862" y="1695"/>
                  </a:lnTo>
                  <a:lnTo>
                    <a:pt x="894" y="1722"/>
                  </a:lnTo>
                  <a:lnTo>
                    <a:pt x="922" y="1755"/>
                  </a:lnTo>
                  <a:lnTo>
                    <a:pt x="954" y="1755"/>
                  </a:lnTo>
                  <a:lnTo>
                    <a:pt x="987" y="1788"/>
                  </a:lnTo>
                  <a:lnTo>
                    <a:pt x="1020" y="1820"/>
                  </a:lnTo>
                  <a:lnTo>
                    <a:pt x="1053" y="1853"/>
                  </a:lnTo>
                  <a:lnTo>
                    <a:pt x="1085" y="1886"/>
                  </a:lnTo>
                  <a:lnTo>
                    <a:pt x="1113" y="1918"/>
                  </a:lnTo>
                  <a:lnTo>
                    <a:pt x="1145" y="1946"/>
                  </a:lnTo>
                  <a:lnTo>
                    <a:pt x="1178" y="1978"/>
                  </a:lnTo>
                  <a:lnTo>
                    <a:pt x="1211" y="1978"/>
                  </a:lnTo>
                  <a:lnTo>
                    <a:pt x="1243" y="1978"/>
                  </a:lnTo>
                  <a:lnTo>
                    <a:pt x="1276" y="1978"/>
                  </a:lnTo>
                  <a:lnTo>
                    <a:pt x="1303" y="1978"/>
                  </a:lnTo>
                  <a:lnTo>
                    <a:pt x="1336" y="1978"/>
                  </a:lnTo>
                  <a:lnTo>
                    <a:pt x="1369" y="1978"/>
                  </a:lnTo>
                  <a:lnTo>
                    <a:pt x="1401" y="1978"/>
                  </a:lnTo>
                  <a:lnTo>
                    <a:pt x="1434" y="1978"/>
                  </a:lnTo>
                  <a:lnTo>
                    <a:pt x="1467" y="1978"/>
                  </a:lnTo>
                  <a:lnTo>
                    <a:pt x="1494" y="1978"/>
                  </a:lnTo>
                  <a:lnTo>
                    <a:pt x="1527" y="1978"/>
                  </a:lnTo>
                  <a:lnTo>
                    <a:pt x="1560" y="1978"/>
                  </a:lnTo>
                  <a:lnTo>
                    <a:pt x="1592" y="1978"/>
                  </a:lnTo>
                  <a:lnTo>
                    <a:pt x="1625" y="1978"/>
                  </a:lnTo>
                  <a:lnTo>
                    <a:pt x="1658" y="1978"/>
                  </a:lnTo>
                  <a:lnTo>
                    <a:pt x="1685" y="1978"/>
                  </a:lnTo>
                  <a:lnTo>
                    <a:pt x="1718" y="1978"/>
                  </a:lnTo>
                  <a:lnTo>
                    <a:pt x="1750" y="1978"/>
                  </a:lnTo>
                  <a:lnTo>
                    <a:pt x="1783" y="1978"/>
                  </a:lnTo>
                  <a:lnTo>
                    <a:pt x="1816" y="1978"/>
                  </a:lnTo>
                  <a:lnTo>
                    <a:pt x="1849" y="1978"/>
                  </a:lnTo>
                  <a:lnTo>
                    <a:pt x="1876" y="1978"/>
                  </a:lnTo>
                  <a:lnTo>
                    <a:pt x="1909" y="1978"/>
                  </a:lnTo>
                  <a:lnTo>
                    <a:pt x="1941" y="1978"/>
                  </a:lnTo>
                  <a:lnTo>
                    <a:pt x="1974" y="1978"/>
                  </a:lnTo>
                  <a:lnTo>
                    <a:pt x="2007" y="1978"/>
                  </a:lnTo>
                  <a:lnTo>
                    <a:pt x="2039" y="1978"/>
                  </a:lnTo>
                  <a:lnTo>
                    <a:pt x="2067" y="1978"/>
                  </a:lnTo>
                  <a:lnTo>
                    <a:pt x="2099" y="1978"/>
                  </a:lnTo>
                  <a:lnTo>
                    <a:pt x="2132" y="1978"/>
                  </a:lnTo>
                  <a:lnTo>
                    <a:pt x="2165" y="1978"/>
                  </a:lnTo>
                  <a:lnTo>
                    <a:pt x="2198" y="1978"/>
                  </a:lnTo>
                  <a:lnTo>
                    <a:pt x="2230" y="1978"/>
                  </a:lnTo>
                  <a:lnTo>
                    <a:pt x="2258" y="1978"/>
                  </a:lnTo>
                  <a:lnTo>
                    <a:pt x="2290" y="1978"/>
                  </a:lnTo>
                  <a:lnTo>
                    <a:pt x="2323" y="1978"/>
                  </a:lnTo>
                  <a:lnTo>
                    <a:pt x="2356" y="1978"/>
                  </a:lnTo>
                  <a:lnTo>
                    <a:pt x="2388" y="1978"/>
                  </a:lnTo>
                  <a:lnTo>
                    <a:pt x="2421" y="1978"/>
                  </a:lnTo>
                  <a:lnTo>
                    <a:pt x="2448" y="1978"/>
                  </a:lnTo>
                  <a:lnTo>
                    <a:pt x="2481" y="1978"/>
                  </a:lnTo>
                  <a:lnTo>
                    <a:pt x="2514" y="1978"/>
                  </a:lnTo>
                  <a:lnTo>
                    <a:pt x="2546" y="1978"/>
                  </a:lnTo>
                  <a:lnTo>
                    <a:pt x="2579" y="1978"/>
                  </a:lnTo>
                  <a:lnTo>
                    <a:pt x="2612" y="1978"/>
                  </a:lnTo>
                  <a:lnTo>
                    <a:pt x="2639" y="1978"/>
                  </a:lnTo>
                  <a:lnTo>
                    <a:pt x="2672" y="1978"/>
                  </a:lnTo>
                  <a:close/>
                </a:path>
              </a:pathLst>
            </a:custGeom>
            <a:solidFill>
              <a:srgbClr val="00c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4" name=""/>
            <p:cNvSpPr/>
            <p:nvPr/>
          </p:nvSpPr>
          <p:spPr>
            <a:xfrm>
              <a:off x="3983040" y="5526000"/>
              <a:ext cx="173160" cy="128520"/>
            </a:xfrm>
            <a:custGeom>
              <a:avLst/>
              <a:gdLst/>
              <a:ahLst/>
              <a:rect l="l" t="t" r="r" b="b"/>
              <a:pathLst>
                <a:path w="109" h="81">
                  <a:moveTo>
                    <a:pt x="0" y="81"/>
                  </a:moveTo>
                  <a:lnTo>
                    <a:pt x="6" y="76"/>
                  </a:lnTo>
                  <a:lnTo>
                    <a:pt x="11" y="71"/>
                  </a:lnTo>
                  <a:lnTo>
                    <a:pt x="17" y="65"/>
                  </a:lnTo>
                  <a:lnTo>
                    <a:pt x="22" y="60"/>
                  </a:lnTo>
                  <a:lnTo>
                    <a:pt x="28" y="54"/>
                  </a:lnTo>
                  <a:lnTo>
                    <a:pt x="28" y="49"/>
                  </a:lnTo>
                  <a:lnTo>
                    <a:pt x="33" y="43"/>
                  </a:lnTo>
                  <a:lnTo>
                    <a:pt x="39" y="38"/>
                  </a:lnTo>
                  <a:lnTo>
                    <a:pt x="44" y="32"/>
                  </a:lnTo>
                  <a:lnTo>
                    <a:pt x="49" y="27"/>
                  </a:lnTo>
                  <a:lnTo>
                    <a:pt x="55" y="21"/>
                  </a:lnTo>
                  <a:lnTo>
                    <a:pt x="66" y="21"/>
                  </a:lnTo>
                  <a:lnTo>
                    <a:pt x="71" y="16"/>
                  </a:lnTo>
                  <a:lnTo>
                    <a:pt x="77" y="11"/>
                  </a:lnTo>
                  <a:lnTo>
                    <a:pt x="82" y="5"/>
                  </a:lnTo>
                  <a:lnTo>
                    <a:pt x="82" y="0"/>
                  </a:lnTo>
                  <a:lnTo>
                    <a:pt x="93" y="0"/>
                  </a:lnTo>
                  <a:lnTo>
                    <a:pt x="104" y="5"/>
                  </a:lnTo>
                  <a:lnTo>
                    <a:pt x="109" y="11"/>
                  </a:lnTo>
                  <a:lnTo>
                    <a:pt x="109" y="16"/>
                  </a:lnTo>
                  <a:lnTo>
                    <a:pt x="104" y="21"/>
                  </a:lnTo>
                  <a:lnTo>
                    <a:pt x="99" y="21"/>
                  </a:lnTo>
                  <a:lnTo>
                    <a:pt x="88" y="27"/>
                  </a:lnTo>
                  <a:lnTo>
                    <a:pt x="77" y="32"/>
                  </a:lnTo>
                  <a:lnTo>
                    <a:pt x="77" y="38"/>
                  </a:lnTo>
                  <a:lnTo>
                    <a:pt x="77" y="43"/>
                  </a:lnTo>
                  <a:lnTo>
                    <a:pt x="77" y="49"/>
                  </a:lnTo>
                  <a:lnTo>
                    <a:pt x="77" y="60"/>
                  </a:lnTo>
                  <a:lnTo>
                    <a:pt x="82" y="65"/>
                  </a:lnTo>
                  <a:lnTo>
                    <a:pt x="82" y="71"/>
                  </a:lnTo>
                  <a:lnTo>
                    <a:pt x="82" y="76"/>
                  </a:lnTo>
                  <a:lnTo>
                    <a:pt x="88" y="8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5" name=""/>
            <p:cNvSpPr/>
            <p:nvPr/>
          </p:nvSpPr>
          <p:spPr>
            <a:xfrm flipH="1">
              <a:off x="6579720" y="2800440"/>
              <a:ext cx="9720" cy="7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6" name=""/>
            <p:cNvSpPr/>
            <p:nvPr/>
          </p:nvSpPr>
          <p:spPr>
            <a:xfrm>
              <a:off x="6199200" y="2808360"/>
              <a:ext cx="380880" cy="995400"/>
            </a:xfrm>
            <a:custGeom>
              <a:avLst/>
              <a:gdLst/>
              <a:ahLst/>
              <a:rect l="l" t="t" r="r" b="b"/>
              <a:pathLst>
                <a:path w="240" h="627">
                  <a:moveTo>
                    <a:pt x="240" y="0"/>
                  </a:moveTo>
                  <a:lnTo>
                    <a:pt x="235" y="6"/>
                  </a:lnTo>
                  <a:lnTo>
                    <a:pt x="229" y="11"/>
                  </a:lnTo>
                  <a:lnTo>
                    <a:pt x="229" y="17"/>
                  </a:lnTo>
                  <a:lnTo>
                    <a:pt x="229" y="22"/>
                  </a:lnTo>
                  <a:lnTo>
                    <a:pt x="229" y="33"/>
                  </a:lnTo>
                  <a:lnTo>
                    <a:pt x="235" y="38"/>
                  </a:lnTo>
                  <a:lnTo>
                    <a:pt x="240" y="44"/>
                  </a:lnTo>
                  <a:lnTo>
                    <a:pt x="240" y="49"/>
                  </a:lnTo>
                  <a:lnTo>
                    <a:pt x="240" y="60"/>
                  </a:lnTo>
                  <a:lnTo>
                    <a:pt x="240" y="66"/>
                  </a:lnTo>
                  <a:lnTo>
                    <a:pt x="240" y="71"/>
                  </a:lnTo>
                  <a:lnTo>
                    <a:pt x="235" y="77"/>
                  </a:lnTo>
                  <a:lnTo>
                    <a:pt x="229" y="82"/>
                  </a:lnTo>
                  <a:lnTo>
                    <a:pt x="224" y="87"/>
                  </a:lnTo>
                  <a:lnTo>
                    <a:pt x="213" y="93"/>
                  </a:lnTo>
                  <a:lnTo>
                    <a:pt x="207" y="98"/>
                  </a:lnTo>
                  <a:lnTo>
                    <a:pt x="196" y="104"/>
                  </a:lnTo>
                  <a:lnTo>
                    <a:pt x="191" y="109"/>
                  </a:lnTo>
                  <a:lnTo>
                    <a:pt x="186" y="115"/>
                  </a:lnTo>
                  <a:lnTo>
                    <a:pt x="180" y="120"/>
                  </a:lnTo>
                  <a:lnTo>
                    <a:pt x="180" y="126"/>
                  </a:lnTo>
                  <a:lnTo>
                    <a:pt x="180" y="131"/>
                  </a:lnTo>
                  <a:lnTo>
                    <a:pt x="175" y="137"/>
                  </a:lnTo>
                  <a:lnTo>
                    <a:pt x="169" y="142"/>
                  </a:lnTo>
                  <a:lnTo>
                    <a:pt x="164" y="147"/>
                  </a:lnTo>
                  <a:lnTo>
                    <a:pt x="158" y="153"/>
                  </a:lnTo>
                  <a:lnTo>
                    <a:pt x="153" y="158"/>
                  </a:lnTo>
                  <a:lnTo>
                    <a:pt x="147" y="169"/>
                  </a:lnTo>
                  <a:lnTo>
                    <a:pt x="142" y="175"/>
                  </a:lnTo>
                  <a:lnTo>
                    <a:pt x="142" y="180"/>
                  </a:lnTo>
                  <a:lnTo>
                    <a:pt x="142" y="191"/>
                  </a:lnTo>
                  <a:lnTo>
                    <a:pt x="147" y="196"/>
                  </a:lnTo>
                  <a:lnTo>
                    <a:pt x="158" y="202"/>
                  </a:lnTo>
                  <a:lnTo>
                    <a:pt x="153" y="207"/>
                  </a:lnTo>
                  <a:lnTo>
                    <a:pt x="147" y="202"/>
                  </a:lnTo>
                  <a:lnTo>
                    <a:pt x="142" y="191"/>
                  </a:lnTo>
                  <a:lnTo>
                    <a:pt x="131" y="191"/>
                  </a:lnTo>
                  <a:lnTo>
                    <a:pt x="120" y="191"/>
                  </a:lnTo>
                  <a:lnTo>
                    <a:pt x="109" y="196"/>
                  </a:lnTo>
                  <a:lnTo>
                    <a:pt x="98" y="196"/>
                  </a:lnTo>
                  <a:lnTo>
                    <a:pt x="93" y="202"/>
                  </a:lnTo>
                  <a:lnTo>
                    <a:pt x="87" y="207"/>
                  </a:lnTo>
                  <a:lnTo>
                    <a:pt x="87" y="213"/>
                  </a:lnTo>
                  <a:lnTo>
                    <a:pt x="93" y="224"/>
                  </a:lnTo>
                  <a:lnTo>
                    <a:pt x="98" y="229"/>
                  </a:lnTo>
                  <a:lnTo>
                    <a:pt x="104" y="235"/>
                  </a:lnTo>
                  <a:lnTo>
                    <a:pt x="115" y="235"/>
                  </a:lnTo>
                  <a:lnTo>
                    <a:pt x="126" y="235"/>
                  </a:lnTo>
                  <a:lnTo>
                    <a:pt x="131" y="240"/>
                  </a:lnTo>
                  <a:lnTo>
                    <a:pt x="136" y="251"/>
                  </a:lnTo>
                  <a:lnTo>
                    <a:pt x="142" y="256"/>
                  </a:lnTo>
                  <a:lnTo>
                    <a:pt x="142" y="262"/>
                  </a:lnTo>
                  <a:lnTo>
                    <a:pt x="136" y="267"/>
                  </a:lnTo>
                  <a:lnTo>
                    <a:pt x="136" y="278"/>
                  </a:lnTo>
                  <a:lnTo>
                    <a:pt x="126" y="284"/>
                  </a:lnTo>
                  <a:lnTo>
                    <a:pt x="120" y="289"/>
                  </a:lnTo>
                  <a:lnTo>
                    <a:pt x="115" y="295"/>
                  </a:lnTo>
                  <a:lnTo>
                    <a:pt x="109" y="300"/>
                  </a:lnTo>
                  <a:lnTo>
                    <a:pt x="104" y="305"/>
                  </a:lnTo>
                  <a:lnTo>
                    <a:pt x="104" y="311"/>
                  </a:lnTo>
                  <a:lnTo>
                    <a:pt x="98" y="316"/>
                  </a:lnTo>
                  <a:lnTo>
                    <a:pt x="98" y="322"/>
                  </a:lnTo>
                  <a:lnTo>
                    <a:pt x="93" y="333"/>
                  </a:lnTo>
                  <a:lnTo>
                    <a:pt x="93" y="338"/>
                  </a:lnTo>
                  <a:lnTo>
                    <a:pt x="87" y="344"/>
                  </a:lnTo>
                  <a:lnTo>
                    <a:pt x="87" y="349"/>
                  </a:lnTo>
                  <a:lnTo>
                    <a:pt x="87" y="360"/>
                  </a:lnTo>
                  <a:lnTo>
                    <a:pt x="82" y="365"/>
                  </a:lnTo>
                  <a:lnTo>
                    <a:pt x="82" y="371"/>
                  </a:lnTo>
                  <a:lnTo>
                    <a:pt x="77" y="376"/>
                  </a:lnTo>
                  <a:lnTo>
                    <a:pt x="77" y="382"/>
                  </a:lnTo>
                  <a:lnTo>
                    <a:pt x="71" y="393"/>
                  </a:lnTo>
                  <a:lnTo>
                    <a:pt x="71" y="398"/>
                  </a:lnTo>
                  <a:lnTo>
                    <a:pt x="66" y="404"/>
                  </a:lnTo>
                  <a:lnTo>
                    <a:pt x="66" y="409"/>
                  </a:lnTo>
                  <a:lnTo>
                    <a:pt x="66" y="414"/>
                  </a:lnTo>
                  <a:lnTo>
                    <a:pt x="66" y="425"/>
                  </a:lnTo>
                  <a:lnTo>
                    <a:pt x="66" y="431"/>
                  </a:lnTo>
                  <a:lnTo>
                    <a:pt x="60" y="436"/>
                  </a:lnTo>
                  <a:lnTo>
                    <a:pt x="60" y="447"/>
                  </a:lnTo>
                  <a:lnTo>
                    <a:pt x="60" y="453"/>
                  </a:lnTo>
                  <a:lnTo>
                    <a:pt x="55" y="458"/>
                  </a:lnTo>
                  <a:lnTo>
                    <a:pt x="49" y="464"/>
                  </a:lnTo>
                  <a:lnTo>
                    <a:pt x="49" y="469"/>
                  </a:lnTo>
                  <a:lnTo>
                    <a:pt x="49" y="480"/>
                  </a:lnTo>
                  <a:lnTo>
                    <a:pt x="49" y="485"/>
                  </a:lnTo>
                  <a:lnTo>
                    <a:pt x="60" y="491"/>
                  </a:lnTo>
                  <a:lnTo>
                    <a:pt x="66" y="496"/>
                  </a:lnTo>
                  <a:lnTo>
                    <a:pt x="71" y="502"/>
                  </a:lnTo>
                  <a:lnTo>
                    <a:pt x="77" y="507"/>
                  </a:lnTo>
                  <a:lnTo>
                    <a:pt x="82" y="513"/>
                  </a:lnTo>
                  <a:lnTo>
                    <a:pt x="82" y="518"/>
                  </a:lnTo>
                  <a:lnTo>
                    <a:pt x="77" y="529"/>
                  </a:lnTo>
                  <a:lnTo>
                    <a:pt x="71" y="534"/>
                  </a:lnTo>
                  <a:lnTo>
                    <a:pt x="71" y="540"/>
                  </a:lnTo>
                  <a:lnTo>
                    <a:pt x="71" y="545"/>
                  </a:lnTo>
                  <a:lnTo>
                    <a:pt x="77" y="551"/>
                  </a:lnTo>
                  <a:lnTo>
                    <a:pt x="82" y="556"/>
                  </a:lnTo>
                  <a:lnTo>
                    <a:pt x="93" y="562"/>
                  </a:lnTo>
                  <a:lnTo>
                    <a:pt x="98" y="567"/>
                  </a:lnTo>
                  <a:lnTo>
                    <a:pt x="104" y="573"/>
                  </a:lnTo>
                  <a:lnTo>
                    <a:pt x="104" y="578"/>
                  </a:lnTo>
                  <a:lnTo>
                    <a:pt x="104" y="589"/>
                  </a:lnTo>
                  <a:lnTo>
                    <a:pt x="104" y="600"/>
                  </a:lnTo>
                  <a:lnTo>
                    <a:pt x="98" y="605"/>
                  </a:lnTo>
                  <a:lnTo>
                    <a:pt x="93" y="611"/>
                  </a:lnTo>
                  <a:lnTo>
                    <a:pt x="82" y="611"/>
                  </a:lnTo>
                  <a:lnTo>
                    <a:pt x="77" y="605"/>
                  </a:lnTo>
                  <a:lnTo>
                    <a:pt x="66" y="600"/>
                  </a:lnTo>
                  <a:lnTo>
                    <a:pt x="60" y="594"/>
                  </a:lnTo>
                  <a:lnTo>
                    <a:pt x="55" y="594"/>
                  </a:lnTo>
                  <a:lnTo>
                    <a:pt x="49" y="600"/>
                  </a:lnTo>
                  <a:lnTo>
                    <a:pt x="44" y="605"/>
                  </a:lnTo>
                  <a:lnTo>
                    <a:pt x="44" y="616"/>
                  </a:lnTo>
                  <a:lnTo>
                    <a:pt x="33" y="622"/>
                  </a:lnTo>
                  <a:lnTo>
                    <a:pt x="27" y="627"/>
                  </a:lnTo>
                  <a:lnTo>
                    <a:pt x="22" y="627"/>
                  </a:lnTo>
                  <a:lnTo>
                    <a:pt x="17" y="627"/>
                  </a:lnTo>
                  <a:lnTo>
                    <a:pt x="11" y="616"/>
                  </a:lnTo>
                  <a:lnTo>
                    <a:pt x="6" y="611"/>
                  </a:lnTo>
                  <a:lnTo>
                    <a:pt x="0" y="60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7" name=""/>
            <p:cNvSpPr/>
            <p:nvPr/>
          </p:nvSpPr>
          <p:spPr>
            <a:xfrm>
              <a:off x="6199200" y="3768840"/>
              <a:ext cx="14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8" name=""/>
            <p:cNvSpPr/>
            <p:nvPr/>
          </p:nvSpPr>
          <p:spPr>
            <a:xfrm>
              <a:off x="6164280" y="3700440"/>
              <a:ext cx="44280" cy="25560"/>
            </a:xfrm>
            <a:custGeom>
              <a:avLst/>
              <a:gdLst/>
              <a:ahLst/>
              <a:rect l="l" t="t" r="r" b="b"/>
              <a:pathLst>
                <a:path w="28" h="16">
                  <a:moveTo>
                    <a:pt x="22" y="16"/>
                  </a:moveTo>
                  <a:lnTo>
                    <a:pt x="22" y="11"/>
                  </a:lnTo>
                  <a:lnTo>
                    <a:pt x="22" y="11"/>
                  </a:lnTo>
                  <a:lnTo>
                    <a:pt x="22" y="11"/>
                  </a:lnTo>
                  <a:lnTo>
                    <a:pt x="22" y="11"/>
                  </a:lnTo>
                  <a:lnTo>
                    <a:pt x="22" y="11"/>
                  </a:lnTo>
                  <a:lnTo>
                    <a:pt x="22" y="11"/>
                  </a:lnTo>
                  <a:lnTo>
                    <a:pt x="22" y="5"/>
                  </a:lnTo>
                  <a:lnTo>
                    <a:pt x="22" y="5"/>
                  </a:lnTo>
                  <a:lnTo>
                    <a:pt x="22" y="5"/>
                  </a:lnTo>
                  <a:lnTo>
                    <a:pt x="22" y="5"/>
                  </a:lnTo>
                  <a:lnTo>
                    <a:pt x="22" y="5"/>
                  </a:lnTo>
                  <a:lnTo>
                    <a:pt x="22" y="5"/>
                  </a:lnTo>
                  <a:lnTo>
                    <a:pt x="22" y="5"/>
                  </a:lnTo>
                  <a:lnTo>
                    <a:pt x="22" y="5"/>
                  </a:lnTo>
                  <a:lnTo>
                    <a:pt x="17" y="5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1" y="5"/>
                  </a:lnTo>
                  <a:lnTo>
                    <a:pt x="11" y="5"/>
                  </a:lnTo>
                  <a:lnTo>
                    <a:pt x="11" y="5"/>
                  </a:lnTo>
                  <a:lnTo>
                    <a:pt x="11" y="5"/>
                  </a:lnTo>
                  <a:lnTo>
                    <a:pt x="11" y="5"/>
                  </a:lnTo>
                  <a:lnTo>
                    <a:pt x="17" y="5"/>
                  </a:lnTo>
                  <a:lnTo>
                    <a:pt x="17" y="5"/>
                  </a:lnTo>
                  <a:lnTo>
                    <a:pt x="17" y="5"/>
                  </a:lnTo>
                  <a:lnTo>
                    <a:pt x="17" y="5"/>
                  </a:lnTo>
                  <a:lnTo>
                    <a:pt x="17" y="5"/>
                  </a:lnTo>
                  <a:lnTo>
                    <a:pt x="17" y="11"/>
                  </a:lnTo>
                  <a:lnTo>
                    <a:pt x="17" y="11"/>
                  </a:lnTo>
                  <a:lnTo>
                    <a:pt x="17" y="11"/>
                  </a:lnTo>
                  <a:lnTo>
                    <a:pt x="17" y="11"/>
                  </a:lnTo>
                  <a:lnTo>
                    <a:pt x="17" y="16"/>
                  </a:lnTo>
                  <a:lnTo>
                    <a:pt x="11" y="16"/>
                  </a:lnTo>
                  <a:lnTo>
                    <a:pt x="11" y="16"/>
                  </a:lnTo>
                  <a:lnTo>
                    <a:pt x="11" y="16"/>
                  </a:lnTo>
                  <a:lnTo>
                    <a:pt x="11" y="16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6" y="0"/>
                  </a:lnTo>
                  <a:lnTo>
                    <a:pt x="6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5"/>
                  </a:lnTo>
                  <a:lnTo>
                    <a:pt x="22" y="5"/>
                  </a:lnTo>
                  <a:lnTo>
                    <a:pt x="22" y="5"/>
                  </a:lnTo>
                  <a:lnTo>
                    <a:pt x="28" y="5"/>
                  </a:lnTo>
                  <a:lnTo>
                    <a:pt x="22" y="11"/>
                  </a:lnTo>
                  <a:lnTo>
                    <a:pt x="22" y="11"/>
                  </a:lnTo>
                  <a:lnTo>
                    <a:pt x="22" y="11"/>
                  </a:lnTo>
                  <a:lnTo>
                    <a:pt x="22" y="11"/>
                  </a:lnTo>
                  <a:lnTo>
                    <a:pt x="22" y="11"/>
                  </a:lnTo>
                  <a:lnTo>
                    <a:pt x="22" y="16"/>
                  </a:lnTo>
                  <a:close/>
                  <a:moveTo>
                    <a:pt x="6" y="5"/>
                  </a:move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6" y="11"/>
                  </a:lnTo>
                  <a:lnTo>
                    <a:pt x="6" y="11"/>
                  </a:lnTo>
                  <a:lnTo>
                    <a:pt x="6" y="11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11" y="16"/>
                  </a:lnTo>
                  <a:lnTo>
                    <a:pt x="11" y="16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11" y="5"/>
                  </a:lnTo>
                  <a:lnTo>
                    <a:pt x="11" y="5"/>
                  </a:lnTo>
                  <a:lnTo>
                    <a:pt x="11" y="5"/>
                  </a:lnTo>
                  <a:lnTo>
                    <a:pt x="11" y="5"/>
                  </a:lnTo>
                  <a:lnTo>
                    <a:pt x="11" y="5"/>
                  </a:lnTo>
                  <a:lnTo>
                    <a:pt x="11" y="5"/>
                  </a:lnTo>
                  <a:lnTo>
                    <a:pt x="11" y="5"/>
                  </a:lnTo>
                  <a:lnTo>
                    <a:pt x="6" y="5"/>
                  </a:lnTo>
                  <a:lnTo>
                    <a:pt x="6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9" name=""/>
            <p:cNvSpPr/>
            <p:nvPr/>
          </p:nvSpPr>
          <p:spPr>
            <a:xfrm>
              <a:off x="6173640" y="3726000"/>
              <a:ext cx="34920" cy="25200"/>
            </a:xfrm>
            <a:custGeom>
              <a:avLst/>
              <a:gdLst/>
              <a:ahLst/>
              <a:rect l="l" t="t" r="r" b="b"/>
              <a:pathLst>
                <a:path w="22" h="16">
                  <a:moveTo>
                    <a:pt x="11" y="0"/>
                  </a:moveTo>
                  <a:lnTo>
                    <a:pt x="11" y="0"/>
                  </a:lnTo>
                  <a:lnTo>
                    <a:pt x="11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5"/>
                  </a:lnTo>
                  <a:lnTo>
                    <a:pt x="22" y="5"/>
                  </a:lnTo>
                  <a:lnTo>
                    <a:pt x="22" y="5"/>
                  </a:lnTo>
                  <a:lnTo>
                    <a:pt x="22" y="5"/>
                  </a:lnTo>
                  <a:lnTo>
                    <a:pt x="22" y="5"/>
                  </a:lnTo>
                  <a:lnTo>
                    <a:pt x="22" y="5"/>
                  </a:lnTo>
                  <a:lnTo>
                    <a:pt x="22" y="11"/>
                  </a:lnTo>
                  <a:lnTo>
                    <a:pt x="22" y="11"/>
                  </a:lnTo>
                  <a:lnTo>
                    <a:pt x="22" y="11"/>
                  </a:lnTo>
                  <a:lnTo>
                    <a:pt x="22" y="11"/>
                  </a:lnTo>
                  <a:lnTo>
                    <a:pt x="22" y="11"/>
                  </a:lnTo>
                  <a:lnTo>
                    <a:pt x="22" y="11"/>
                  </a:lnTo>
                  <a:lnTo>
                    <a:pt x="22" y="11"/>
                  </a:lnTo>
                  <a:lnTo>
                    <a:pt x="22" y="16"/>
                  </a:lnTo>
                  <a:lnTo>
                    <a:pt x="22" y="16"/>
                  </a:lnTo>
                  <a:lnTo>
                    <a:pt x="22" y="16"/>
                  </a:lnTo>
                  <a:lnTo>
                    <a:pt x="22" y="16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11" y="16"/>
                  </a:lnTo>
                  <a:lnTo>
                    <a:pt x="11" y="16"/>
                  </a:lnTo>
                  <a:lnTo>
                    <a:pt x="11" y="16"/>
                  </a:lnTo>
                  <a:lnTo>
                    <a:pt x="5" y="16"/>
                  </a:lnTo>
                  <a:lnTo>
                    <a:pt x="5" y="16"/>
                  </a:lnTo>
                  <a:lnTo>
                    <a:pt x="5" y="16"/>
                  </a:lnTo>
                  <a:lnTo>
                    <a:pt x="5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5"/>
                  </a:lnTo>
                  <a:lnTo>
                    <a:pt x="0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11" y="0"/>
                  </a:lnTo>
                  <a:close/>
                  <a:moveTo>
                    <a:pt x="11" y="5"/>
                  </a:move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6"/>
                  </a:lnTo>
                  <a:lnTo>
                    <a:pt x="5" y="16"/>
                  </a:lnTo>
                  <a:lnTo>
                    <a:pt x="5" y="16"/>
                  </a:lnTo>
                  <a:lnTo>
                    <a:pt x="5" y="16"/>
                  </a:lnTo>
                  <a:lnTo>
                    <a:pt x="5" y="16"/>
                  </a:lnTo>
                  <a:lnTo>
                    <a:pt x="11" y="16"/>
                  </a:lnTo>
                  <a:lnTo>
                    <a:pt x="11" y="16"/>
                  </a:lnTo>
                  <a:lnTo>
                    <a:pt x="11" y="16"/>
                  </a:lnTo>
                  <a:lnTo>
                    <a:pt x="16" y="16"/>
                  </a:lnTo>
                  <a:lnTo>
                    <a:pt x="16" y="11"/>
                  </a:lnTo>
                  <a:lnTo>
                    <a:pt x="22" y="11"/>
                  </a:lnTo>
                  <a:lnTo>
                    <a:pt x="22" y="11"/>
                  </a:lnTo>
                  <a:lnTo>
                    <a:pt x="22" y="11"/>
                  </a:lnTo>
                  <a:lnTo>
                    <a:pt x="22" y="11"/>
                  </a:lnTo>
                  <a:lnTo>
                    <a:pt x="22" y="11"/>
                  </a:lnTo>
                  <a:lnTo>
                    <a:pt x="22" y="5"/>
                  </a:lnTo>
                  <a:lnTo>
                    <a:pt x="22" y="5"/>
                  </a:lnTo>
                  <a:lnTo>
                    <a:pt x="22" y="5"/>
                  </a:lnTo>
                  <a:lnTo>
                    <a:pt x="22" y="5"/>
                  </a:lnTo>
                  <a:lnTo>
                    <a:pt x="16" y="5"/>
                  </a:lnTo>
                  <a:lnTo>
                    <a:pt x="16" y="5"/>
                  </a:lnTo>
                  <a:lnTo>
                    <a:pt x="16" y="5"/>
                  </a:lnTo>
                  <a:lnTo>
                    <a:pt x="11" y="5"/>
                  </a:lnTo>
                  <a:lnTo>
                    <a:pt x="11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0" name=""/>
            <p:cNvSpPr/>
            <p:nvPr/>
          </p:nvSpPr>
          <p:spPr>
            <a:xfrm flipV="1">
              <a:off x="6173640" y="3683160"/>
              <a:ext cx="1800" cy="7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1" name=""/>
            <p:cNvSpPr/>
            <p:nvPr/>
          </p:nvSpPr>
          <p:spPr>
            <a:xfrm>
              <a:off x="5221440" y="3638520"/>
              <a:ext cx="952200" cy="1177920"/>
            </a:xfrm>
            <a:custGeom>
              <a:avLst/>
              <a:gdLst/>
              <a:ahLst/>
              <a:rect l="l" t="t" r="r" b="b"/>
              <a:pathLst>
                <a:path w="600" h="742">
                  <a:moveTo>
                    <a:pt x="600" y="28"/>
                  </a:moveTo>
                  <a:lnTo>
                    <a:pt x="600" y="22"/>
                  </a:lnTo>
                  <a:lnTo>
                    <a:pt x="594" y="11"/>
                  </a:lnTo>
                  <a:lnTo>
                    <a:pt x="589" y="6"/>
                  </a:lnTo>
                  <a:lnTo>
                    <a:pt x="583" y="0"/>
                  </a:lnTo>
                  <a:lnTo>
                    <a:pt x="578" y="0"/>
                  </a:lnTo>
                  <a:lnTo>
                    <a:pt x="573" y="0"/>
                  </a:lnTo>
                  <a:lnTo>
                    <a:pt x="567" y="6"/>
                  </a:lnTo>
                  <a:lnTo>
                    <a:pt x="562" y="11"/>
                  </a:lnTo>
                  <a:lnTo>
                    <a:pt x="556" y="22"/>
                  </a:lnTo>
                  <a:lnTo>
                    <a:pt x="551" y="28"/>
                  </a:lnTo>
                  <a:lnTo>
                    <a:pt x="545" y="33"/>
                  </a:lnTo>
                  <a:lnTo>
                    <a:pt x="540" y="39"/>
                  </a:lnTo>
                  <a:lnTo>
                    <a:pt x="534" y="44"/>
                  </a:lnTo>
                  <a:lnTo>
                    <a:pt x="529" y="50"/>
                  </a:lnTo>
                  <a:lnTo>
                    <a:pt x="523" y="55"/>
                  </a:lnTo>
                  <a:lnTo>
                    <a:pt x="518" y="60"/>
                  </a:lnTo>
                  <a:lnTo>
                    <a:pt x="513" y="66"/>
                  </a:lnTo>
                  <a:lnTo>
                    <a:pt x="502" y="71"/>
                  </a:lnTo>
                  <a:lnTo>
                    <a:pt x="496" y="77"/>
                  </a:lnTo>
                  <a:lnTo>
                    <a:pt x="491" y="82"/>
                  </a:lnTo>
                  <a:lnTo>
                    <a:pt x="485" y="88"/>
                  </a:lnTo>
                  <a:lnTo>
                    <a:pt x="480" y="93"/>
                  </a:lnTo>
                  <a:lnTo>
                    <a:pt x="474" y="99"/>
                  </a:lnTo>
                  <a:lnTo>
                    <a:pt x="464" y="104"/>
                  </a:lnTo>
                  <a:lnTo>
                    <a:pt x="458" y="109"/>
                  </a:lnTo>
                  <a:lnTo>
                    <a:pt x="447" y="115"/>
                  </a:lnTo>
                  <a:lnTo>
                    <a:pt x="442" y="120"/>
                  </a:lnTo>
                  <a:lnTo>
                    <a:pt x="436" y="126"/>
                  </a:lnTo>
                  <a:lnTo>
                    <a:pt x="431" y="131"/>
                  </a:lnTo>
                  <a:lnTo>
                    <a:pt x="425" y="137"/>
                  </a:lnTo>
                  <a:lnTo>
                    <a:pt x="414" y="142"/>
                  </a:lnTo>
                  <a:lnTo>
                    <a:pt x="409" y="148"/>
                  </a:lnTo>
                  <a:lnTo>
                    <a:pt x="404" y="148"/>
                  </a:lnTo>
                  <a:lnTo>
                    <a:pt x="393" y="153"/>
                  </a:lnTo>
                  <a:lnTo>
                    <a:pt x="387" y="159"/>
                  </a:lnTo>
                  <a:lnTo>
                    <a:pt x="382" y="164"/>
                  </a:lnTo>
                  <a:lnTo>
                    <a:pt x="371" y="169"/>
                  </a:lnTo>
                  <a:lnTo>
                    <a:pt x="365" y="175"/>
                  </a:lnTo>
                  <a:lnTo>
                    <a:pt x="360" y="180"/>
                  </a:lnTo>
                  <a:lnTo>
                    <a:pt x="360" y="191"/>
                  </a:lnTo>
                  <a:lnTo>
                    <a:pt x="360" y="197"/>
                  </a:lnTo>
                  <a:lnTo>
                    <a:pt x="354" y="202"/>
                  </a:lnTo>
                  <a:lnTo>
                    <a:pt x="354" y="208"/>
                  </a:lnTo>
                  <a:lnTo>
                    <a:pt x="354" y="219"/>
                  </a:lnTo>
                  <a:lnTo>
                    <a:pt x="354" y="224"/>
                  </a:lnTo>
                  <a:lnTo>
                    <a:pt x="354" y="229"/>
                  </a:lnTo>
                  <a:lnTo>
                    <a:pt x="349" y="235"/>
                  </a:lnTo>
                  <a:lnTo>
                    <a:pt x="349" y="240"/>
                  </a:lnTo>
                  <a:lnTo>
                    <a:pt x="349" y="251"/>
                  </a:lnTo>
                  <a:lnTo>
                    <a:pt x="349" y="257"/>
                  </a:lnTo>
                  <a:lnTo>
                    <a:pt x="349" y="262"/>
                  </a:lnTo>
                  <a:lnTo>
                    <a:pt x="349" y="268"/>
                  </a:lnTo>
                  <a:lnTo>
                    <a:pt x="344" y="278"/>
                  </a:lnTo>
                  <a:lnTo>
                    <a:pt x="344" y="284"/>
                  </a:lnTo>
                  <a:lnTo>
                    <a:pt x="344" y="289"/>
                  </a:lnTo>
                  <a:lnTo>
                    <a:pt x="344" y="295"/>
                  </a:lnTo>
                  <a:lnTo>
                    <a:pt x="344" y="306"/>
                  </a:lnTo>
                  <a:lnTo>
                    <a:pt x="338" y="311"/>
                  </a:lnTo>
                  <a:lnTo>
                    <a:pt x="338" y="317"/>
                  </a:lnTo>
                  <a:lnTo>
                    <a:pt x="338" y="322"/>
                  </a:lnTo>
                  <a:lnTo>
                    <a:pt x="333" y="333"/>
                  </a:lnTo>
                  <a:lnTo>
                    <a:pt x="333" y="338"/>
                  </a:lnTo>
                  <a:lnTo>
                    <a:pt x="333" y="344"/>
                  </a:lnTo>
                  <a:lnTo>
                    <a:pt x="333" y="349"/>
                  </a:lnTo>
                  <a:lnTo>
                    <a:pt x="333" y="360"/>
                  </a:lnTo>
                  <a:lnTo>
                    <a:pt x="333" y="366"/>
                  </a:lnTo>
                  <a:lnTo>
                    <a:pt x="333" y="371"/>
                  </a:lnTo>
                  <a:lnTo>
                    <a:pt x="333" y="377"/>
                  </a:lnTo>
                  <a:lnTo>
                    <a:pt x="333" y="387"/>
                  </a:lnTo>
                  <a:lnTo>
                    <a:pt x="333" y="393"/>
                  </a:lnTo>
                  <a:lnTo>
                    <a:pt x="333" y="398"/>
                  </a:lnTo>
                  <a:lnTo>
                    <a:pt x="333" y="404"/>
                  </a:lnTo>
                  <a:lnTo>
                    <a:pt x="333" y="415"/>
                  </a:lnTo>
                  <a:lnTo>
                    <a:pt x="338" y="420"/>
                  </a:lnTo>
                  <a:lnTo>
                    <a:pt x="344" y="426"/>
                  </a:lnTo>
                  <a:lnTo>
                    <a:pt x="344" y="431"/>
                  </a:lnTo>
                  <a:lnTo>
                    <a:pt x="349" y="437"/>
                  </a:lnTo>
                  <a:lnTo>
                    <a:pt x="354" y="447"/>
                  </a:lnTo>
                  <a:lnTo>
                    <a:pt x="354" y="453"/>
                  </a:lnTo>
                  <a:lnTo>
                    <a:pt x="349" y="458"/>
                  </a:lnTo>
                  <a:lnTo>
                    <a:pt x="349" y="469"/>
                  </a:lnTo>
                  <a:lnTo>
                    <a:pt x="344" y="475"/>
                  </a:lnTo>
                  <a:lnTo>
                    <a:pt x="333" y="475"/>
                  </a:lnTo>
                  <a:lnTo>
                    <a:pt x="327" y="480"/>
                  </a:lnTo>
                  <a:lnTo>
                    <a:pt x="316" y="480"/>
                  </a:lnTo>
                  <a:lnTo>
                    <a:pt x="305" y="480"/>
                  </a:lnTo>
                  <a:lnTo>
                    <a:pt x="295" y="480"/>
                  </a:lnTo>
                  <a:lnTo>
                    <a:pt x="284" y="480"/>
                  </a:lnTo>
                  <a:lnTo>
                    <a:pt x="273" y="480"/>
                  </a:lnTo>
                  <a:lnTo>
                    <a:pt x="262" y="480"/>
                  </a:lnTo>
                  <a:lnTo>
                    <a:pt x="251" y="480"/>
                  </a:lnTo>
                  <a:lnTo>
                    <a:pt x="240" y="480"/>
                  </a:lnTo>
                  <a:lnTo>
                    <a:pt x="229" y="480"/>
                  </a:lnTo>
                  <a:lnTo>
                    <a:pt x="218" y="480"/>
                  </a:lnTo>
                  <a:lnTo>
                    <a:pt x="207" y="480"/>
                  </a:lnTo>
                  <a:lnTo>
                    <a:pt x="202" y="486"/>
                  </a:lnTo>
                  <a:lnTo>
                    <a:pt x="191" y="486"/>
                  </a:lnTo>
                  <a:lnTo>
                    <a:pt x="180" y="491"/>
                  </a:lnTo>
                  <a:lnTo>
                    <a:pt x="175" y="496"/>
                  </a:lnTo>
                  <a:lnTo>
                    <a:pt x="169" y="502"/>
                  </a:lnTo>
                  <a:lnTo>
                    <a:pt x="158" y="507"/>
                  </a:lnTo>
                  <a:lnTo>
                    <a:pt x="158" y="513"/>
                  </a:lnTo>
                  <a:lnTo>
                    <a:pt x="153" y="518"/>
                  </a:lnTo>
                  <a:lnTo>
                    <a:pt x="158" y="524"/>
                  </a:lnTo>
                  <a:lnTo>
                    <a:pt x="153" y="535"/>
                  </a:lnTo>
                  <a:lnTo>
                    <a:pt x="153" y="540"/>
                  </a:lnTo>
                  <a:lnTo>
                    <a:pt x="147" y="546"/>
                  </a:lnTo>
                  <a:lnTo>
                    <a:pt x="142" y="551"/>
                  </a:lnTo>
                  <a:lnTo>
                    <a:pt x="131" y="556"/>
                  </a:lnTo>
                  <a:lnTo>
                    <a:pt x="120" y="556"/>
                  </a:lnTo>
                  <a:lnTo>
                    <a:pt x="115" y="562"/>
                  </a:lnTo>
                  <a:lnTo>
                    <a:pt x="104" y="562"/>
                  </a:lnTo>
                  <a:lnTo>
                    <a:pt x="93" y="567"/>
                  </a:lnTo>
                  <a:lnTo>
                    <a:pt x="82" y="567"/>
                  </a:lnTo>
                  <a:lnTo>
                    <a:pt x="76" y="573"/>
                  </a:lnTo>
                  <a:lnTo>
                    <a:pt x="76" y="578"/>
                  </a:lnTo>
                  <a:lnTo>
                    <a:pt x="82" y="589"/>
                  </a:lnTo>
                  <a:lnTo>
                    <a:pt x="82" y="595"/>
                  </a:lnTo>
                  <a:lnTo>
                    <a:pt x="82" y="600"/>
                  </a:lnTo>
                  <a:lnTo>
                    <a:pt x="76" y="605"/>
                  </a:lnTo>
                  <a:lnTo>
                    <a:pt x="66" y="611"/>
                  </a:lnTo>
                  <a:lnTo>
                    <a:pt x="55" y="616"/>
                  </a:lnTo>
                  <a:lnTo>
                    <a:pt x="44" y="616"/>
                  </a:lnTo>
                  <a:lnTo>
                    <a:pt x="38" y="622"/>
                  </a:lnTo>
                  <a:lnTo>
                    <a:pt x="27" y="622"/>
                  </a:lnTo>
                  <a:lnTo>
                    <a:pt x="16" y="622"/>
                  </a:lnTo>
                  <a:lnTo>
                    <a:pt x="6" y="627"/>
                  </a:lnTo>
                  <a:lnTo>
                    <a:pt x="0" y="633"/>
                  </a:lnTo>
                  <a:lnTo>
                    <a:pt x="0" y="638"/>
                  </a:lnTo>
                  <a:lnTo>
                    <a:pt x="11" y="638"/>
                  </a:lnTo>
                  <a:lnTo>
                    <a:pt x="22" y="644"/>
                  </a:lnTo>
                  <a:lnTo>
                    <a:pt x="27" y="649"/>
                  </a:lnTo>
                  <a:lnTo>
                    <a:pt x="33" y="655"/>
                  </a:lnTo>
                  <a:lnTo>
                    <a:pt x="44" y="655"/>
                  </a:lnTo>
                  <a:lnTo>
                    <a:pt x="49" y="665"/>
                  </a:lnTo>
                  <a:lnTo>
                    <a:pt x="55" y="671"/>
                  </a:lnTo>
                  <a:lnTo>
                    <a:pt x="55" y="676"/>
                  </a:lnTo>
                  <a:lnTo>
                    <a:pt x="60" y="682"/>
                  </a:lnTo>
                  <a:lnTo>
                    <a:pt x="60" y="687"/>
                  </a:lnTo>
                  <a:lnTo>
                    <a:pt x="66" y="698"/>
                  </a:lnTo>
                  <a:lnTo>
                    <a:pt x="66" y="704"/>
                  </a:lnTo>
                  <a:lnTo>
                    <a:pt x="71" y="709"/>
                  </a:lnTo>
                  <a:lnTo>
                    <a:pt x="76" y="714"/>
                  </a:lnTo>
                  <a:lnTo>
                    <a:pt x="82" y="720"/>
                  </a:lnTo>
                  <a:lnTo>
                    <a:pt x="87" y="725"/>
                  </a:lnTo>
                  <a:lnTo>
                    <a:pt x="82" y="731"/>
                  </a:lnTo>
                  <a:lnTo>
                    <a:pt x="76" y="736"/>
                  </a:lnTo>
                  <a:lnTo>
                    <a:pt x="66" y="742"/>
                  </a:lnTo>
                  <a:lnTo>
                    <a:pt x="55" y="73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2" name=""/>
            <p:cNvSpPr/>
            <p:nvPr/>
          </p:nvSpPr>
          <p:spPr>
            <a:xfrm>
              <a:off x="5308560" y="4807080"/>
              <a:ext cx="18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3" name=""/>
            <p:cNvSpPr/>
            <p:nvPr/>
          </p:nvSpPr>
          <p:spPr>
            <a:xfrm>
              <a:off x="5238720" y="4781520"/>
              <a:ext cx="34920" cy="3492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22" y="5"/>
                  </a:moveTo>
                  <a:lnTo>
                    <a:pt x="16" y="5"/>
                  </a:lnTo>
                  <a:lnTo>
                    <a:pt x="16" y="5"/>
                  </a:lnTo>
                  <a:lnTo>
                    <a:pt x="16" y="5"/>
                  </a:lnTo>
                  <a:lnTo>
                    <a:pt x="16" y="5"/>
                  </a:lnTo>
                  <a:lnTo>
                    <a:pt x="16" y="5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11"/>
                  </a:lnTo>
                  <a:lnTo>
                    <a:pt x="5" y="11"/>
                  </a:lnTo>
                  <a:lnTo>
                    <a:pt x="5" y="11"/>
                  </a:lnTo>
                  <a:lnTo>
                    <a:pt x="5" y="5"/>
                  </a:lnTo>
                  <a:lnTo>
                    <a:pt x="11" y="5"/>
                  </a:lnTo>
                  <a:lnTo>
                    <a:pt x="11" y="5"/>
                  </a:lnTo>
                  <a:lnTo>
                    <a:pt x="11" y="5"/>
                  </a:lnTo>
                  <a:lnTo>
                    <a:pt x="11" y="5"/>
                  </a:lnTo>
                  <a:lnTo>
                    <a:pt x="11" y="5"/>
                  </a:lnTo>
                  <a:lnTo>
                    <a:pt x="11" y="5"/>
                  </a:lnTo>
                  <a:lnTo>
                    <a:pt x="16" y="11"/>
                  </a:lnTo>
                  <a:lnTo>
                    <a:pt x="16" y="11"/>
                  </a:lnTo>
                  <a:lnTo>
                    <a:pt x="16" y="11"/>
                  </a:lnTo>
                  <a:lnTo>
                    <a:pt x="16" y="11"/>
                  </a:lnTo>
                  <a:lnTo>
                    <a:pt x="16" y="11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16" y="22"/>
                  </a:lnTo>
                  <a:lnTo>
                    <a:pt x="16" y="22"/>
                  </a:lnTo>
                  <a:lnTo>
                    <a:pt x="16" y="22"/>
                  </a:lnTo>
                  <a:lnTo>
                    <a:pt x="16" y="22"/>
                  </a:lnTo>
                  <a:lnTo>
                    <a:pt x="16" y="22"/>
                  </a:lnTo>
                  <a:lnTo>
                    <a:pt x="11" y="22"/>
                  </a:lnTo>
                  <a:lnTo>
                    <a:pt x="11" y="22"/>
                  </a:lnTo>
                  <a:lnTo>
                    <a:pt x="11" y="22"/>
                  </a:lnTo>
                  <a:lnTo>
                    <a:pt x="11" y="22"/>
                  </a:lnTo>
                  <a:lnTo>
                    <a:pt x="11" y="22"/>
                  </a:lnTo>
                  <a:lnTo>
                    <a:pt x="5" y="22"/>
                  </a:lnTo>
                  <a:lnTo>
                    <a:pt x="5" y="22"/>
                  </a:lnTo>
                  <a:lnTo>
                    <a:pt x="5" y="22"/>
                  </a:lnTo>
                  <a:lnTo>
                    <a:pt x="5" y="22"/>
                  </a:lnTo>
                  <a:lnTo>
                    <a:pt x="5" y="16"/>
                  </a:lnTo>
                  <a:lnTo>
                    <a:pt x="0" y="16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0"/>
                  </a:lnTo>
                  <a:lnTo>
                    <a:pt x="5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5"/>
                  </a:lnTo>
                  <a:lnTo>
                    <a:pt x="22" y="5"/>
                  </a:lnTo>
                  <a:lnTo>
                    <a:pt x="22" y="5"/>
                  </a:lnTo>
                  <a:close/>
                  <a:moveTo>
                    <a:pt x="5" y="16"/>
                  </a:moveTo>
                  <a:lnTo>
                    <a:pt x="5" y="16"/>
                  </a:lnTo>
                  <a:lnTo>
                    <a:pt x="5" y="16"/>
                  </a:lnTo>
                  <a:lnTo>
                    <a:pt x="5" y="16"/>
                  </a:lnTo>
                  <a:lnTo>
                    <a:pt x="5" y="16"/>
                  </a:lnTo>
                  <a:lnTo>
                    <a:pt x="5" y="16"/>
                  </a:lnTo>
                  <a:lnTo>
                    <a:pt x="5" y="16"/>
                  </a:lnTo>
                  <a:lnTo>
                    <a:pt x="5" y="22"/>
                  </a:lnTo>
                  <a:lnTo>
                    <a:pt x="5" y="22"/>
                  </a:lnTo>
                  <a:lnTo>
                    <a:pt x="5" y="22"/>
                  </a:lnTo>
                  <a:lnTo>
                    <a:pt x="5" y="22"/>
                  </a:lnTo>
                  <a:lnTo>
                    <a:pt x="11" y="22"/>
                  </a:lnTo>
                  <a:lnTo>
                    <a:pt x="11" y="22"/>
                  </a:lnTo>
                  <a:lnTo>
                    <a:pt x="11" y="22"/>
                  </a:lnTo>
                  <a:lnTo>
                    <a:pt x="11" y="22"/>
                  </a:lnTo>
                  <a:lnTo>
                    <a:pt x="11" y="22"/>
                  </a:lnTo>
                  <a:lnTo>
                    <a:pt x="11" y="22"/>
                  </a:lnTo>
                  <a:lnTo>
                    <a:pt x="11" y="22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16" y="11"/>
                  </a:lnTo>
                  <a:lnTo>
                    <a:pt x="16" y="11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5" y="11"/>
                  </a:lnTo>
                  <a:lnTo>
                    <a:pt x="5" y="11"/>
                  </a:lnTo>
                  <a:lnTo>
                    <a:pt x="5" y="11"/>
                  </a:lnTo>
                  <a:lnTo>
                    <a:pt x="5" y="11"/>
                  </a:lnTo>
                  <a:lnTo>
                    <a:pt x="5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4" name=""/>
            <p:cNvSpPr/>
            <p:nvPr/>
          </p:nvSpPr>
          <p:spPr>
            <a:xfrm>
              <a:off x="5273640" y="4781520"/>
              <a:ext cx="25560" cy="42840"/>
            </a:xfrm>
            <a:custGeom>
              <a:avLst/>
              <a:gdLst/>
              <a:ahLst/>
              <a:rect l="l" t="t" r="r" b="b"/>
              <a:pathLst>
                <a:path w="16" h="27">
                  <a:moveTo>
                    <a:pt x="0" y="11"/>
                  </a:moveTo>
                  <a:lnTo>
                    <a:pt x="0" y="11"/>
                  </a:lnTo>
                  <a:lnTo>
                    <a:pt x="0" y="11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5"/>
                  </a:lnTo>
                  <a:lnTo>
                    <a:pt x="11" y="5"/>
                  </a:lnTo>
                  <a:lnTo>
                    <a:pt x="16" y="5"/>
                  </a:lnTo>
                  <a:lnTo>
                    <a:pt x="16" y="5"/>
                  </a:lnTo>
                  <a:lnTo>
                    <a:pt x="16" y="5"/>
                  </a:lnTo>
                  <a:lnTo>
                    <a:pt x="16" y="5"/>
                  </a:lnTo>
                  <a:lnTo>
                    <a:pt x="16" y="5"/>
                  </a:lnTo>
                  <a:lnTo>
                    <a:pt x="16" y="11"/>
                  </a:lnTo>
                  <a:lnTo>
                    <a:pt x="16" y="11"/>
                  </a:lnTo>
                  <a:lnTo>
                    <a:pt x="16" y="11"/>
                  </a:lnTo>
                  <a:lnTo>
                    <a:pt x="16" y="11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16" y="22"/>
                  </a:lnTo>
                  <a:lnTo>
                    <a:pt x="16" y="22"/>
                  </a:lnTo>
                  <a:lnTo>
                    <a:pt x="11" y="22"/>
                  </a:lnTo>
                  <a:lnTo>
                    <a:pt x="11" y="22"/>
                  </a:lnTo>
                  <a:lnTo>
                    <a:pt x="11" y="22"/>
                  </a:lnTo>
                  <a:lnTo>
                    <a:pt x="11" y="27"/>
                  </a:lnTo>
                  <a:lnTo>
                    <a:pt x="11" y="27"/>
                  </a:lnTo>
                  <a:lnTo>
                    <a:pt x="11" y="27"/>
                  </a:lnTo>
                  <a:lnTo>
                    <a:pt x="5" y="27"/>
                  </a:lnTo>
                  <a:lnTo>
                    <a:pt x="5" y="27"/>
                  </a:lnTo>
                  <a:lnTo>
                    <a:pt x="5" y="27"/>
                  </a:lnTo>
                  <a:lnTo>
                    <a:pt x="5" y="27"/>
                  </a:lnTo>
                  <a:lnTo>
                    <a:pt x="0" y="27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1"/>
                  </a:lnTo>
                  <a:close/>
                  <a:moveTo>
                    <a:pt x="5" y="11"/>
                  </a:moveTo>
                  <a:lnTo>
                    <a:pt x="0" y="16"/>
                  </a:lnTo>
                  <a:lnTo>
                    <a:pt x="0" y="16"/>
                  </a:lnTo>
                  <a:lnTo>
                    <a:pt x="0" y="22"/>
                  </a:lnTo>
                  <a:lnTo>
                    <a:pt x="5" y="22"/>
                  </a:lnTo>
                  <a:lnTo>
                    <a:pt x="5" y="22"/>
                  </a:lnTo>
                  <a:lnTo>
                    <a:pt x="5" y="22"/>
                  </a:lnTo>
                  <a:lnTo>
                    <a:pt x="5" y="22"/>
                  </a:lnTo>
                  <a:lnTo>
                    <a:pt x="5" y="22"/>
                  </a:lnTo>
                  <a:lnTo>
                    <a:pt x="5" y="22"/>
                  </a:lnTo>
                  <a:lnTo>
                    <a:pt x="5" y="22"/>
                  </a:lnTo>
                  <a:lnTo>
                    <a:pt x="11" y="22"/>
                  </a:lnTo>
                  <a:lnTo>
                    <a:pt x="11" y="22"/>
                  </a:lnTo>
                  <a:lnTo>
                    <a:pt x="11" y="22"/>
                  </a:lnTo>
                  <a:lnTo>
                    <a:pt x="11" y="22"/>
                  </a:lnTo>
                  <a:lnTo>
                    <a:pt x="11" y="16"/>
                  </a:lnTo>
                  <a:lnTo>
                    <a:pt x="11" y="16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11" y="5"/>
                  </a:lnTo>
                  <a:lnTo>
                    <a:pt x="11" y="5"/>
                  </a:lnTo>
                  <a:lnTo>
                    <a:pt x="11" y="5"/>
                  </a:lnTo>
                  <a:lnTo>
                    <a:pt x="11" y="5"/>
                  </a:lnTo>
                  <a:lnTo>
                    <a:pt x="11" y="5"/>
                  </a:lnTo>
                  <a:lnTo>
                    <a:pt x="11" y="5"/>
                  </a:lnTo>
                  <a:lnTo>
                    <a:pt x="11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11"/>
                  </a:lnTo>
                  <a:lnTo>
                    <a:pt x="5" y="11"/>
                  </a:lnTo>
                  <a:lnTo>
                    <a:pt x="5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5" name=""/>
            <p:cNvSpPr/>
            <p:nvPr/>
          </p:nvSpPr>
          <p:spPr>
            <a:xfrm flipH="1">
              <a:off x="5221440" y="4799160"/>
              <a:ext cx="93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6" name=""/>
            <p:cNvSpPr/>
            <p:nvPr/>
          </p:nvSpPr>
          <p:spPr>
            <a:xfrm>
              <a:off x="4398840" y="4556160"/>
              <a:ext cx="822600" cy="450720"/>
            </a:xfrm>
            <a:custGeom>
              <a:avLst/>
              <a:gdLst/>
              <a:ahLst/>
              <a:rect l="l" t="t" r="r" b="b"/>
              <a:pathLst>
                <a:path w="518" h="284">
                  <a:moveTo>
                    <a:pt x="518" y="153"/>
                  </a:moveTo>
                  <a:lnTo>
                    <a:pt x="507" y="158"/>
                  </a:lnTo>
                  <a:lnTo>
                    <a:pt x="502" y="164"/>
                  </a:lnTo>
                  <a:lnTo>
                    <a:pt x="496" y="169"/>
                  </a:lnTo>
                  <a:lnTo>
                    <a:pt x="491" y="175"/>
                  </a:lnTo>
                  <a:lnTo>
                    <a:pt x="480" y="175"/>
                  </a:lnTo>
                  <a:lnTo>
                    <a:pt x="469" y="175"/>
                  </a:lnTo>
                  <a:lnTo>
                    <a:pt x="458" y="175"/>
                  </a:lnTo>
                  <a:lnTo>
                    <a:pt x="447" y="175"/>
                  </a:lnTo>
                  <a:lnTo>
                    <a:pt x="436" y="175"/>
                  </a:lnTo>
                  <a:lnTo>
                    <a:pt x="425" y="180"/>
                  </a:lnTo>
                  <a:lnTo>
                    <a:pt x="420" y="186"/>
                  </a:lnTo>
                  <a:lnTo>
                    <a:pt x="414" y="191"/>
                  </a:lnTo>
                  <a:lnTo>
                    <a:pt x="409" y="196"/>
                  </a:lnTo>
                  <a:lnTo>
                    <a:pt x="404" y="202"/>
                  </a:lnTo>
                  <a:lnTo>
                    <a:pt x="398" y="207"/>
                  </a:lnTo>
                  <a:lnTo>
                    <a:pt x="393" y="213"/>
                  </a:lnTo>
                  <a:lnTo>
                    <a:pt x="387" y="218"/>
                  </a:lnTo>
                  <a:lnTo>
                    <a:pt x="376" y="224"/>
                  </a:lnTo>
                  <a:lnTo>
                    <a:pt x="365" y="224"/>
                  </a:lnTo>
                  <a:lnTo>
                    <a:pt x="355" y="224"/>
                  </a:lnTo>
                  <a:lnTo>
                    <a:pt x="344" y="224"/>
                  </a:lnTo>
                  <a:lnTo>
                    <a:pt x="333" y="218"/>
                  </a:lnTo>
                  <a:lnTo>
                    <a:pt x="327" y="218"/>
                  </a:lnTo>
                  <a:lnTo>
                    <a:pt x="316" y="213"/>
                  </a:lnTo>
                  <a:lnTo>
                    <a:pt x="311" y="207"/>
                  </a:lnTo>
                  <a:lnTo>
                    <a:pt x="305" y="202"/>
                  </a:lnTo>
                  <a:lnTo>
                    <a:pt x="300" y="196"/>
                  </a:lnTo>
                  <a:lnTo>
                    <a:pt x="289" y="191"/>
                  </a:lnTo>
                  <a:lnTo>
                    <a:pt x="284" y="186"/>
                  </a:lnTo>
                  <a:lnTo>
                    <a:pt x="278" y="180"/>
                  </a:lnTo>
                  <a:lnTo>
                    <a:pt x="273" y="175"/>
                  </a:lnTo>
                  <a:lnTo>
                    <a:pt x="267" y="175"/>
                  </a:lnTo>
                  <a:lnTo>
                    <a:pt x="256" y="175"/>
                  </a:lnTo>
                  <a:lnTo>
                    <a:pt x="245" y="180"/>
                  </a:lnTo>
                  <a:lnTo>
                    <a:pt x="235" y="180"/>
                  </a:lnTo>
                  <a:lnTo>
                    <a:pt x="229" y="175"/>
                  </a:lnTo>
                  <a:lnTo>
                    <a:pt x="229" y="169"/>
                  </a:lnTo>
                  <a:lnTo>
                    <a:pt x="224" y="164"/>
                  </a:lnTo>
                  <a:lnTo>
                    <a:pt x="224" y="153"/>
                  </a:lnTo>
                  <a:lnTo>
                    <a:pt x="218" y="147"/>
                  </a:lnTo>
                  <a:lnTo>
                    <a:pt x="213" y="142"/>
                  </a:lnTo>
                  <a:lnTo>
                    <a:pt x="207" y="136"/>
                  </a:lnTo>
                  <a:lnTo>
                    <a:pt x="196" y="131"/>
                  </a:lnTo>
                  <a:lnTo>
                    <a:pt x="185" y="131"/>
                  </a:lnTo>
                  <a:lnTo>
                    <a:pt x="180" y="126"/>
                  </a:lnTo>
                  <a:lnTo>
                    <a:pt x="169" y="131"/>
                  </a:lnTo>
                  <a:lnTo>
                    <a:pt x="158" y="131"/>
                  </a:lnTo>
                  <a:lnTo>
                    <a:pt x="153" y="136"/>
                  </a:lnTo>
                  <a:lnTo>
                    <a:pt x="147" y="142"/>
                  </a:lnTo>
                  <a:lnTo>
                    <a:pt x="142" y="153"/>
                  </a:lnTo>
                  <a:lnTo>
                    <a:pt x="136" y="153"/>
                  </a:lnTo>
                  <a:lnTo>
                    <a:pt x="131" y="153"/>
                  </a:lnTo>
                  <a:lnTo>
                    <a:pt x="142" y="147"/>
                  </a:lnTo>
                  <a:lnTo>
                    <a:pt x="153" y="147"/>
                  </a:lnTo>
                  <a:lnTo>
                    <a:pt x="164" y="142"/>
                  </a:lnTo>
                  <a:lnTo>
                    <a:pt x="169" y="136"/>
                  </a:lnTo>
                  <a:lnTo>
                    <a:pt x="169" y="126"/>
                  </a:lnTo>
                  <a:lnTo>
                    <a:pt x="169" y="120"/>
                  </a:lnTo>
                  <a:lnTo>
                    <a:pt x="164" y="115"/>
                  </a:lnTo>
                  <a:lnTo>
                    <a:pt x="158" y="109"/>
                  </a:lnTo>
                  <a:lnTo>
                    <a:pt x="153" y="104"/>
                  </a:lnTo>
                  <a:lnTo>
                    <a:pt x="147" y="98"/>
                  </a:lnTo>
                  <a:lnTo>
                    <a:pt x="142" y="93"/>
                  </a:lnTo>
                  <a:lnTo>
                    <a:pt x="136" y="87"/>
                  </a:lnTo>
                  <a:lnTo>
                    <a:pt x="131" y="82"/>
                  </a:lnTo>
                  <a:lnTo>
                    <a:pt x="126" y="71"/>
                  </a:lnTo>
                  <a:lnTo>
                    <a:pt x="126" y="66"/>
                  </a:lnTo>
                  <a:lnTo>
                    <a:pt x="120" y="60"/>
                  </a:lnTo>
                  <a:lnTo>
                    <a:pt x="115" y="55"/>
                  </a:lnTo>
                  <a:lnTo>
                    <a:pt x="109" y="49"/>
                  </a:lnTo>
                  <a:lnTo>
                    <a:pt x="104" y="44"/>
                  </a:lnTo>
                  <a:lnTo>
                    <a:pt x="98" y="38"/>
                  </a:lnTo>
                  <a:lnTo>
                    <a:pt x="93" y="33"/>
                  </a:lnTo>
                  <a:lnTo>
                    <a:pt x="93" y="22"/>
                  </a:lnTo>
                  <a:lnTo>
                    <a:pt x="87" y="17"/>
                  </a:lnTo>
                  <a:lnTo>
                    <a:pt x="87" y="6"/>
                  </a:lnTo>
                  <a:lnTo>
                    <a:pt x="82" y="0"/>
                  </a:lnTo>
                  <a:lnTo>
                    <a:pt x="76" y="0"/>
                  </a:lnTo>
                  <a:lnTo>
                    <a:pt x="71" y="0"/>
                  </a:lnTo>
                  <a:lnTo>
                    <a:pt x="60" y="6"/>
                  </a:lnTo>
                  <a:lnTo>
                    <a:pt x="55" y="11"/>
                  </a:lnTo>
                  <a:lnTo>
                    <a:pt x="49" y="17"/>
                  </a:lnTo>
                  <a:lnTo>
                    <a:pt x="49" y="27"/>
                  </a:lnTo>
                  <a:lnTo>
                    <a:pt x="49" y="33"/>
                  </a:lnTo>
                  <a:lnTo>
                    <a:pt x="49" y="38"/>
                  </a:lnTo>
                  <a:lnTo>
                    <a:pt x="55" y="44"/>
                  </a:lnTo>
                  <a:lnTo>
                    <a:pt x="60" y="55"/>
                  </a:lnTo>
                  <a:lnTo>
                    <a:pt x="60" y="60"/>
                  </a:lnTo>
                  <a:lnTo>
                    <a:pt x="66" y="66"/>
                  </a:lnTo>
                  <a:lnTo>
                    <a:pt x="66" y="71"/>
                  </a:lnTo>
                  <a:lnTo>
                    <a:pt x="66" y="82"/>
                  </a:lnTo>
                  <a:lnTo>
                    <a:pt x="71" y="87"/>
                  </a:lnTo>
                  <a:lnTo>
                    <a:pt x="76" y="93"/>
                  </a:lnTo>
                  <a:lnTo>
                    <a:pt x="82" y="98"/>
                  </a:lnTo>
                  <a:lnTo>
                    <a:pt x="87" y="104"/>
                  </a:lnTo>
                  <a:lnTo>
                    <a:pt x="87" y="109"/>
                  </a:lnTo>
                  <a:lnTo>
                    <a:pt x="93" y="115"/>
                  </a:lnTo>
                  <a:lnTo>
                    <a:pt x="93" y="126"/>
                  </a:lnTo>
                  <a:lnTo>
                    <a:pt x="87" y="131"/>
                  </a:lnTo>
                  <a:lnTo>
                    <a:pt x="82" y="142"/>
                  </a:lnTo>
                  <a:lnTo>
                    <a:pt x="76" y="147"/>
                  </a:lnTo>
                  <a:lnTo>
                    <a:pt x="71" y="142"/>
                  </a:lnTo>
                  <a:lnTo>
                    <a:pt x="66" y="142"/>
                  </a:lnTo>
                  <a:lnTo>
                    <a:pt x="60" y="131"/>
                  </a:lnTo>
                  <a:lnTo>
                    <a:pt x="55" y="126"/>
                  </a:lnTo>
                  <a:lnTo>
                    <a:pt x="44" y="120"/>
                  </a:lnTo>
                  <a:lnTo>
                    <a:pt x="33" y="120"/>
                  </a:lnTo>
                  <a:lnTo>
                    <a:pt x="22" y="120"/>
                  </a:lnTo>
                  <a:lnTo>
                    <a:pt x="16" y="115"/>
                  </a:lnTo>
                  <a:lnTo>
                    <a:pt x="6" y="120"/>
                  </a:lnTo>
                  <a:lnTo>
                    <a:pt x="6" y="131"/>
                  </a:lnTo>
                  <a:lnTo>
                    <a:pt x="6" y="136"/>
                  </a:lnTo>
                  <a:lnTo>
                    <a:pt x="6" y="142"/>
                  </a:lnTo>
                  <a:lnTo>
                    <a:pt x="6" y="147"/>
                  </a:lnTo>
                  <a:lnTo>
                    <a:pt x="6" y="158"/>
                  </a:lnTo>
                  <a:lnTo>
                    <a:pt x="6" y="164"/>
                  </a:lnTo>
                  <a:lnTo>
                    <a:pt x="0" y="169"/>
                  </a:lnTo>
                  <a:lnTo>
                    <a:pt x="0" y="175"/>
                  </a:lnTo>
                  <a:lnTo>
                    <a:pt x="6" y="186"/>
                  </a:lnTo>
                  <a:lnTo>
                    <a:pt x="11" y="191"/>
                  </a:lnTo>
                  <a:lnTo>
                    <a:pt x="16" y="191"/>
                  </a:lnTo>
                  <a:lnTo>
                    <a:pt x="22" y="180"/>
                  </a:lnTo>
                  <a:lnTo>
                    <a:pt x="33" y="180"/>
                  </a:lnTo>
                  <a:lnTo>
                    <a:pt x="44" y="175"/>
                  </a:lnTo>
                  <a:lnTo>
                    <a:pt x="55" y="175"/>
                  </a:lnTo>
                  <a:lnTo>
                    <a:pt x="66" y="175"/>
                  </a:lnTo>
                  <a:lnTo>
                    <a:pt x="76" y="175"/>
                  </a:lnTo>
                  <a:lnTo>
                    <a:pt x="82" y="180"/>
                  </a:lnTo>
                  <a:lnTo>
                    <a:pt x="82" y="186"/>
                  </a:lnTo>
                  <a:lnTo>
                    <a:pt x="87" y="191"/>
                  </a:lnTo>
                  <a:lnTo>
                    <a:pt x="93" y="196"/>
                  </a:lnTo>
                  <a:lnTo>
                    <a:pt x="98" y="202"/>
                  </a:lnTo>
                  <a:lnTo>
                    <a:pt x="104" y="213"/>
                  </a:lnTo>
                  <a:lnTo>
                    <a:pt x="109" y="218"/>
                  </a:lnTo>
                  <a:lnTo>
                    <a:pt x="115" y="224"/>
                  </a:lnTo>
                  <a:lnTo>
                    <a:pt x="115" y="229"/>
                  </a:lnTo>
                  <a:lnTo>
                    <a:pt x="120" y="235"/>
                  </a:lnTo>
                  <a:lnTo>
                    <a:pt x="126" y="240"/>
                  </a:lnTo>
                  <a:lnTo>
                    <a:pt x="131" y="245"/>
                  </a:lnTo>
                  <a:lnTo>
                    <a:pt x="136" y="251"/>
                  </a:lnTo>
                  <a:lnTo>
                    <a:pt x="142" y="262"/>
                  </a:lnTo>
                  <a:lnTo>
                    <a:pt x="142" y="267"/>
                  </a:lnTo>
                  <a:lnTo>
                    <a:pt x="147" y="273"/>
                  </a:lnTo>
                  <a:lnTo>
                    <a:pt x="153" y="278"/>
                  </a:lnTo>
                  <a:lnTo>
                    <a:pt x="158" y="28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7" name=""/>
            <p:cNvSpPr/>
            <p:nvPr/>
          </p:nvSpPr>
          <p:spPr>
            <a:xfrm>
              <a:off x="4649760" y="5006880"/>
              <a:ext cx="14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8" name=""/>
            <p:cNvSpPr/>
            <p:nvPr/>
          </p:nvSpPr>
          <p:spPr>
            <a:xfrm>
              <a:off x="4667400" y="5032440"/>
              <a:ext cx="34920" cy="3492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0" y="11"/>
                  </a:moveTo>
                  <a:lnTo>
                    <a:pt x="0" y="11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6" y="22"/>
                  </a:lnTo>
                  <a:lnTo>
                    <a:pt x="6" y="22"/>
                  </a:lnTo>
                  <a:lnTo>
                    <a:pt x="6" y="22"/>
                  </a:lnTo>
                  <a:lnTo>
                    <a:pt x="6" y="22"/>
                  </a:lnTo>
                  <a:lnTo>
                    <a:pt x="6" y="22"/>
                  </a:lnTo>
                  <a:lnTo>
                    <a:pt x="6" y="22"/>
                  </a:lnTo>
                  <a:lnTo>
                    <a:pt x="11" y="22"/>
                  </a:lnTo>
                  <a:lnTo>
                    <a:pt x="11" y="22"/>
                  </a:lnTo>
                  <a:lnTo>
                    <a:pt x="11" y="16"/>
                  </a:lnTo>
                  <a:lnTo>
                    <a:pt x="11" y="16"/>
                  </a:lnTo>
                  <a:lnTo>
                    <a:pt x="11" y="16"/>
                  </a:lnTo>
                  <a:lnTo>
                    <a:pt x="11" y="16"/>
                  </a:lnTo>
                  <a:lnTo>
                    <a:pt x="11" y="16"/>
                  </a:lnTo>
                  <a:lnTo>
                    <a:pt x="11" y="16"/>
                  </a:lnTo>
                  <a:lnTo>
                    <a:pt x="11" y="16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6" y="11"/>
                  </a:lnTo>
                  <a:lnTo>
                    <a:pt x="6" y="11"/>
                  </a:lnTo>
                  <a:lnTo>
                    <a:pt x="6" y="11"/>
                  </a:lnTo>
                  <a:lnTo>
                    <a:pt x="6" y="11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11" y="5"/>
                  </a:lnTo>
                  <a:lnTo>
                    <a:pt x="11" y="5"/>
                  </a:lnTo>
                  <a:lnTo>
                    <a:pt x="11" y="5"/>
                  </a:lnTo>
                  <a:lnTo>
                    <a:pt x="11" y="5"/>
                  </a:lnTo>
                  <a:lnTo>
                    <a:pt x="11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5"/>
                  </a:lnTo>
                  <a:lnTo>
                    <a:pt x="16" y="5"/>
                  </a:lnTo>
                  <a:lnTo>
                    <a:pt x="16" y="5"/>
                  </a:lnTo>
                  <a:lnTo>
                    <a:pt x="16" y="5"/>
                  </a:lnTo>
                  <a:lnTo>
                    <a:pt x="22" y="5"/>
                  </a:lnTo>
                  <a:lnTo>
                    <a:pt x="22" y="5"/>
                  </a:lnTo>
                  <a:lnTo>
                    <a:pt x="22" y="5"/>
                  </a:lnTo>
                  <a:lnTo>
                    <a:pt x="22" y="11"/>
                  </a:lnTo>
                  <a:lnTo>
                    <a:pt x="22" y="11"/>
                  </a:lnTo>
                  <a:lnTo>
                    <a:pt x="22" y="11"/>
                  </a:lnTo>
                  <a:lnTo>
                    <a:pt x="22" y="16"/>
                  </a:lnTo>
                  <a:lnTo>
                    <a:pt x="22" y="16"/>
                  </a:lnTo>
                  <a:lnTo>
                    <a:pt x="16" y="16"/>
                  </a:lnTo>
                  <a:lnTo>
                    <a:pt x="16" y="22"/>
                  </a:lnTo>
                  <a:lnTo>
                    <a:pt x="11" y="22"/>
                  </a:lnTo>
                  <a:lnTo>
                    <a:pt x="11" y="22"/>
                  </a:lnTo>
                  <a:lnTo>
                    <a:pt x="6" y="22"/>
                  </a:lnTo>
                  <a:lnTo>
                    <a:pt x="6" y="22"/>
                  </a:lnTo>
                  <a:lnTo>
                    <a:pt x="6" y="2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close/>
                  <a:moveTo>
                    <a:pt x="16" y="16"/>
                  </a:moveTo>
                  <a:lnTo>
                    <a:pt x="16" y="16"/>
                  </a:lnTo>
                  <a:lnTo>
                    <a:pt x="16" y="11"/>
                  </a:lnTo>
                  <a:lnTo>
                    <a:pt x="16" y="11"/>
                  </a:lnTo>
                  <a:lnTo>
                    <a:pt x="16" y="11"/>
                  </a:lnTo>
                  <a:lnTo>
                    <a:pt x="16" y="11"/>
                  </a:lnTo>
                  <a:lnTo>
                    <a:pt x="16" y="11"/>
                  </a:lnTo>
                  <a:lnTo>
                    <a:pt x="16" y="11"/>
                  </a:lnTo>
                  <a:lnTo>
                    <a:pt x="16" y="11"/>
                  </a:lnTo>
                  <a:lnTo>
                    <a:pt x="16" y="11"/>
                  </a:lnTo>
                  <a:lnTo>
                    <a:pt x="16" y="11"/>
                  </a:lnTo>
                  <a:lnTo>
                    <a:pt x="16" y="5"/>
                  </a:lnTo>
                  <a:lnTo>
                    <a:pt x="16" y="5"/>
                  </a:lnTo>
                  <a:lnTo>
                    <a:pt x="16" y="5"/>
                  </a:lnTo>
                  <a:lnTo>
                    <a:pt x="16" y="5"/>
                  </a:lnTo>
                  <a:lnTo>
                    <a:pt x="16" y="5"/>
                  </a:lnTo>
                  <a:lnTo>
                    <a:pt x="16" y="5"/>
                  </a:lnTo>
                  <a:lnTo>
                    <a:pt x="16" y="5"/>
                  </a:lnTo>
                  <a:lnTo>
                    <a:pt x="11" y="5"/>
                  </a:lnTo>
                  <a:lnTo>
                    <a:pt x="11" y="5"/>
                  </a:lnTo>
                  <a:lnTo>
                    <a:pt x="11" y="5"/>
                  </a:lnTo>
                  <a:lnTo>
                    <a:pt x="11" y="5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6" y="11"/>
                  </a:lnTo>
                  <a:lnTo>
                    <a:pt x="6" y="11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11" y="16"/>
                  </a:lnTo>
                  <a:lnTo>
                    <a:pt x="11" y="16"/>
                  </a:lnTo>
                  <a:lnTo>
                    <a:pt x="11" y="16"/>
                  </a:lnTo>
                  <a:lnTo>
                    <a:pt x="11" y="16"/>
                  </a:lnTo>
                  <a:lnTo>
                    <a:pt x="11" y="16"/>
                  </a:lnTo>
                  <a:lnTo>
                    <a:pt x="11" y="16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16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9" name=""/>
            <p:cNvSpPr/>
            <p:nvPr/>
          </p:nvSpPr>
          <p:spPr>
            <a:xfrm>
              <a:off x="4649760" y="5014800"/>
              <a:ext cx="34920" cy="3492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17" y="16"/>
                  </a:moveTo>
                  <a:lnTo>
                    <a:pt x="11" y="16"/>
                  </a:lnTo>
                  <a:lnTo>
                    <a:pt x="11" y="16"/>
                  </a:lnTo>
                  <a:lnTo>
                    <a:pt x="11" y="16"/>
                  </a:lnTo>
                  <a:lnTo>
                    <a:pt x="11" y="16"/>
                  </a:lnTo>
                  <a:lnTo>
                    <a:pt x="6" y="16"/>
                  </a:lnTo>
                  <a:lnTo>
                    <a:pt x="6" y="22"/>
                  </a:lnTo>
                  <a:lnTo>
                    <a:pt x="6" y="22"/>
                  </a:lnTo>
                  <a:lnTo>
                    <a:pt x="6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0"/>
                  </a:lnTo>
                  <a:lnTo>
                    <a:pt x="6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22" y="0"/>
                  </a:lnTo>
                  <a:lnTo>
                    <a:pt x="22" y="6"/>
                  </a:lnTo>
                  <a:lnTo>
                    <a:pt x="22" y="6"/>
                  </a:lnTo>
                  <a:lnTo>
                    <a:pt x="22" y="6"/>
                  </a:lnTo>
                  <a:lnTo>
                    <a:pt x="22" y="6"/>
                  </a:lnTo>
                  <a:lnTo>
                    <a:pt x="22" y="11"/>
                  </a:lnTo>
                  <a:lnTo>
                    <a:pt x="17" y="11"/>
                  </a:lnTo>
                  <a:lnTo>
                    <a:pt x="17" y="11"/>
                  </a:lnTo>
                  <a:lnTo>
                    <a:pt x="17" y="16"/>
                  </a:lnTo>
                  <a:close/>
                  <a:moveTo>
                    <a:pt x="11" y="11"/>
                  </a:moveTo>
                  <a:lnTo>
                    <a:pt x="17" y="11"/>
                  </a:lnTo>
                  <a:lnTo>
                    <a:pt x="17" y="11"/>
                  </a:lnTo>
                  <a:lnTo>
                    <a:pt x="17" y="6"/>
                  </a:lnTo>
                  <a:lnTo>
                    <a:pt x="17" y="6"/>
                  </a:lnTo>
                  <a:lnTo>
                    <a:pt x="17" y="6"/>
                  </a:lnTo>
                  <a:lnTo>
                    <a:pt x="17" y="6"/>
                  </a:lnTo>
                  <a:lnTo>
                    <a:pt x="17" y="6"/>
                  </a:lnTo>
                  <a:lnTo>
                    <a:pt x="17" y="6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11" y="16"/>
                  </a:lnTo>
                  <a:lnTo>
                    <a:pt x="11" y="16"/>
                  </a:lnTo>
                  <a:lnTo>
                    <a:pt x="11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0" name=""/>
            <p:cNvSpPr/>
            <p:nvPr/>
          </p:nvSpPr>
          <p:spPr>
            <a:xfrm>
              <a:off x="4702320" y="5075280"/>
              <a:ext cx="14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1" name=""/>
            <p:cNvSpPr/>
            <p:nvPr/>
          </p:nvSpPr>
          <p:spPr>
            <a:xfrm>
              <a:off x="3905280" y="5075280"/>
              <a:ext cx="1012680" cy="579240"/>
            </a:xfrm>
            <a:custGeom>
              <a:avLst/>
              <a:gdLst/>
              <a:ahLst/>
              <a:rect l="l" t="t" r="r" b="b"/>
              <a:pathLst>
                <a:path w="638" h="365">
                  <a:moveTo>
                    <a:pt x="502" y="0"/>
                  </a:moveTo>
                  <a:lnTo>
                    <a:pt x="507" y="6"/>
                  </a:lnTo>
                  <a:lnTo>
                    <a:pt x="513" y="11"/>
                  </a:lnTo>
                  <a:lnTo>
                    <a:pt x="518" y="17"/>
                  </a:lnTo>
                  <a:lnTo>
                    <a:pt x="524" y="22"/>
                  </a:lnTo>
                  <a:lnTo>
                    <a:pt x="529" y="33"/>
                  </a:lnTo>
                  <a:lnTo>
                    <a:pt x="535" y="38"/>
                  </a:lnTo>
                  <a:lnTo>
                    <a:pt x="540" y="44"/>
                  </a:lnTo>
                  <a:lnTo>
                    <a:pt x="546" y="44"/>
                  </a:lnTo>
                  <a:lnTo>
                    <a:pt x="551" y="44"/>
                  </a:lnTo>
                  <a:lnTo>
                    <a:pt x="562" y="38"/>
                  </a:lnTo>
                  <a:lnTo>
                    <a:pt x="567" y="33"/>
                  </a:lnTo>
                  <a:lnTo>
                    <a:pt x="573" y="22"/>
                  </a:lnTo>
                  <a:lnTo>
                    <a:pt x="573" y="17"/>
                  </a:lnTo>
                  <a:lnTo>
                    <a:pt x="578" y="11"/>
                  </a:lnTo>
                  <a:lnTo>
                    <a:pt x="584" y="6"/>
                  </a:lnTo>
                  <a:lnTo>
                    <a:pt x="595" y="0"/>
                  </a:lnTo>
                  <a:lnTo>
                    <a:pt x="606" y="0"/>
                  </a:lnTo>
                  <a:lnTo>
                    <a:pt x="616" y="0"/>
                  </a:lnTo>
                  <a:lnTo>
                    <a:pt x="622" y="6"/>
                  </a:lnTo>
                  <a:lnTo>
                    <a:pt x="633" y="11"/>
                  </a:lnTo>
                  <a:lnTo>
                    <a:pt x="638" y="17"/>
                  </a:lnTo>
                  <a:lnTo>
                    <a:pt x="638" y="22"/>
                  </a:lnTo>
                  <a:lnTo>
                    <a:pt x="627" y="22"/>
                  </a:lnTo>
                  <a:lnTo>
                    <a:pt x="616" y="27"/>
                  </a:lnTo>
                  <a:lnTo>
                    <a:pt x="606" y="27"/>
                  </a:lnTo>
                  <a:lnTo>
                    <a:pt x="595" y="22"/>
                  </a:lnTo>
                  <a:lnTo>
                    <a:pt x="584" y="22"/>
                  </a:lnTo>
                  <a:lnTo>
                    <a:pt x="578" y="27"/>
                  </a:lnTo>
                  <a:lnTo>
                    <a:pt x="567" y="27"/>
                  </a:lnTo>
                  <a:lnTo>
                    <a:pt x="562" y="33"/>
                  </a:lnTo>
                  <a:lnTo>
                    <a:pt x="556" y="44"/>
                  </a:lnTo>
                  <a:lnTo>
                    <a:pt x="551" y="49"/>
                  </a:lnTo>
                  <a:lnTo>
                    <a:pt x="546" y="55"/>
                  </a:lnTo>
                  <a:lnTo>
                    <a:pt x="535" y="55"/>
                  </a:lnTo>
                  <a:lnTo>
                    <a:pt x="529" y="60"/>
                  </a:lnTo>
                  <a:lnTo>
                    <a:pt x="518" y="66"/>
                  </a:lnTo>
                  <a:lnTo>
                    <a:pt x="507" y="66"/>
                  </a:lnTo>
                  <a:lnTo>
                    <a:pt x="502" y="71"/>
                  </a:lnTo>
                  <a:lnTo>
                    <a:pt x="491" y="77"/>
                  </a:lnTo>
                  <a:lnTo>
                    <a:pt x="486" y="82"/>
                  </a:lnTo>
                  <a:lnTo>
                    <a:pt x="475" y="82"/>
                  </a:lnTo>
                  <a:lnTo>
                    <a:pt x="464" y="87"/>
                  </a:lnTo>
                  <a:lnTo>
                    <a:pt x="453" y="87"/>
                  </a:lnTo>
                  <a:lnTo>
                    <a:pt x="447" y="93"/>
                  </a:lnTo>
                  <a:lnTo>
                    <a:pt x="442" y="98"/>
                  </a:lnTo>
                  <a:lnTo>
                    <a:pt x="437" y="104"/>
                  </a:lnTo>
                  <a:lnTo>
                    <a:pt x="431" y="109"/>
                  </a:lnTo>
                  <a:lnTo>
                    <a:pt x="426" y="115"/>
                  </a:lnTo>
                  <a:lnTo>
                    <a:pt x="415" y="120"/>
                  </a:lnTo>
                  <a:lnTo>
                    <a:pt x="404" y="120"/>
                  </a:lnTo>
                  <a:lnTo>
                    <a:pt x="393" y="120"/>
                  </a:lnTo>
                  <a:lnTo>
                    <a:pt x="382" y="120"/>
                  </a:lnTo>
                  <a:lnTo>
                    <a:pt x="371" y="126"/>
                  </a:lnTo>
                  <a:lnTo>
                    <a:pt x="360" y="126"/>
                  </a:lnTo>
                  <a:lnTo>
                    <a:pt x="355" y="126"/>
                  </a:lnTo>
                  <a:lnTo>
                    <a:pt x="344" y="131"/>
                  </a:lnTo>
                  <a:lnTo>
                    <a:pt x="338" y="136"/>
                  </a:lnTo>
                  <a:lnTo>
                    <a:pt x="333" y="142"/>
                  </a:lnTo>
                  <a:lnTo>
                    <a:pt x="322" y="147"/>
                  </a:lnTo>
                  <a:lnTo>
                    <a:pt x="317" y="153"/>
                  </a:lnTo>
                  <a:lnTo>
                    <a:pt x="306" y="153"/>
                  </a:lnTo>
                  <a:lnTo>
                    <a:pt x="295" y="158"/>
                  </a:lnTo>
                  <a:lnTo>
                    <a:pt x="289" y="164"/>
                  </a:lnTo>
                  <a:lnTo>
                    <a:pt x="278" y="169"/>
                  </a:lnTo>
                  <a:lnTo>
                    <a:pt x="273" y="175"/>
                  </a:lnTo>
                  <a:lnTo>
                    <a:pt x="267" y="180"/>
                  </a:lnTo>
                  <a:lnTo>
                    <a:pt x="262" y="186"/>
                  </a:lnTo>
                  <a:lnTo>
                    <a:pt x="257" y="191"/>
                  </a:lnTo>
                  <a:lnTo>
                    <a:pt x="251" y="196"/>
                  </a:lnTo>
                  <a:lnTo>
                    <a:pt x="246" y="202"/>
                  </a:lnTo>
                  <a:lnTo>
                    <a:pt x="246" y="207"/>
                  </a:lnTo>
                  <a:lnTo>
                    <a:pt x="240" y="213"/>
                  </a:lnTo>
                  <a:lnTo>
                    <a:pt x="240" y="224"/>
                  </a:lnTo>
                  <a:lnTo>
                    <a:pt x="235" y="229"/>
                  </a:lnTo>
                  <a:lnTo>
                    <a:pt x="224" y="235"/>
                  </a:lnTo>
                  <a:lnTo>
                    <a:pt x="218" y="235"/>
                  </a:lnTo>
                  <a:lnTo>
                    <a:pt x="208" y="240"/>
                  </a:lnTo>
                  <a:lnTo>
                    <a:pt x="208" y="246"/>
                  </a:lnTo>
                  <a:lnTo>
                    <a:pt x="208" y="251"/>
                  </a:lnTo>
                  <a:lnTo>
                    <a:pt x="208" y="262"/>
                  </a:lnTo>
                  <a:lnTo>
                    <a:pt x="208" y="267"/>
                  </a:lnTo>
                  <a:lnTo>
                    <a:pt x="202" y="278"/>
                  </a:lnTo>
                  <a:lnTo>
                    <a:pt x="197" y="278"/>
                  </a:lnTo>
                  <a:lnTo>
                    <a:pt x="186" y="273"/>
                  </a:lnTo>
                  <a:lnTo>
                    <a:pt x="180" y="267"/>
                  </a:lnTo>
                  <a:lnTo>
                    <a:pt x="180" y="256"/>
                  </a:lnTo>
                  <a:lnTo>
                    <a:pt x="175" y="251"/>
                  </a:lnTo>
                  <a:lnTo>
                    <a:pt x="169" y="246"/>
                  </a:lnTo>
                  <a:lnTo>
                    <a:pt x="164" y="240"/>
                  </a:lnTo>
                  <a:lnTo>
                    <a:pt x="158" y="246"/>
                  </a:lnTo>
                  <a:lnTo>
                    <a:pt x="148" y="251"/>
                  </a:lnTo>
                  <a:lnTo>
                    <a:pt x="142" y="251"/>
                  </a:lnTo>
                  <a:lnTo>
                    <a:pt x="131" y="256"/>
                  </a:lnTo>
                  <a:lnTo>
                    <a:pt x="120" y="262"/>
                  </a:lnTo>
                  <a:lnTo>
                    <a:pt x="109" y="262"/>
                  </a:lnTo>
                  <a:lnTo>
                    <a:pt x="98" y="267"/>
                  </a:lnTo>
                  <a:lnTo>
                    <a:pt x="93" y="267"/>
                  </a:lnTo>
                  <a:lnTo>
                    <a:pt x="82" y="273"/>
                  </a:lnTo>
                  <a:lnTo>
                    <a:pt x="71" y="273"/>
                  </a:lnTo>
                  <a:lnTo>
                    <a:pt x="66" y="278"/>
                  </a:lnTo>
                  <a:lnTo>
                    <a:pt x="55" y="278"/>
                  </a:lnTo>
                  <a:lnTo>
                    <a:pt x="44" y="284"/>
                  </a:lnTo>
                  <a:lnTo>
                    <a:pt x="33" y="284"/>
                  </a:lnTo>
                  <a:lnTo>
                    <a:pt x="22" y="289"/>
                  </a:lnTo>
                  <a:lnTo>
                    <a:pt x="17" y="295"/>
                  </a:lnTo>
                  <a:lnTo>
                    <a:pt x="6" y="300"/>
                  </a:lnTo>
                  <a:lnTo>
                    <a:pt x="6" y="305"/>
                  </a:lnTo>
                  <a:lnTo>
                    <a:pt x="6" y="311"/>
                  </a:lnTo>
                  <a:lnTo>
                    <a:pt x="6" y="322"/>
                  </a:lnTo>
                  <a:lnTo>
                    <a:pt x="0" y="327"/>
                  </a:lnTo>
                  <a:lnTo>
                    <a:pt x="0" y="333"/>
                  </a:lnTo>
                  <a:lnTo>
                    <a:pt x="0" y="338"/>
                  </a:lnTo>
                  <a:lnTo>
                    <a:pt x="0" y="349"/>
                  </a:lnTo>
                  <a:lnTo>
                    <a:pt x="0" y="355"/>
                  </a:lnTo>
                  <a:lnTo>
                    <a:pt x="0" y="360"/>
                  </a:lnTo>
                  <a:lnTo>
                    <a:pt x="0" y="36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2" name=""/>
            <p:cNvSpPr/>
            <p:nvPr/>
          </p:nvSpPr>
          <p:spPr>
            <a:xfrm>
              <a:off x="4052880" y="5638680"/>
              <a:ext cx="60480" cy="15840"/>
            </a:xfrm>
            <a:custGeom>
              <a:avLst/>
              <a:gdLst/>
              <a:ahLst/>
              <a:rect l="l" t="t" r="r" b="b"/>
              <a:pathLst>
                <a:path w="38" h="10">
                  <a:moveTo>
                    <a:pt x="38" y="10"/>
                  </a:moveTo>
                  <a:lnTo>
                    <a:pt x="27" y="5"/>
                  </a:lnTo>
                  <a:lnTo>
                    <a:pt x="22" y="5"/>
                  </a:lnTo>
                  <a:lnTo>
                    <a:pt x="16" y="5"/>
                  </a:lnTo>
                  <a:lnTo>
                    <a:pt x="11" y="0"/>
                  </a:lnTo>
                  <a:lnTo>
                    <a:pt x="11" y="5"/>
                  </a:lnTo>
                  <a:lnTo>
                    <a:pt x="5" y="5"/>
                  </a:lnTo>
                  <a:lnTo>
                    <a:pt x="0" y="5"/>
                  </a:lnTo>
                  <a:lnTo>
                    <a:pt x="0" y="1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3" name=""/>
            <p:cNvSpPr/>
            <p:nvPr/>
          </p:nvSpPr>
          <p:spPr>
            <a:xfrm>
              <a:off x="4346640" y="5438880"/>
              <a:ext cx="34920" cy="27000"/>
            </a:xfrm>
            <a:custGeom>
              <a:avLst/>
              <a:gdLst/>
              <a:ahLst/>
              <a:rect l="l" t="t" r="r" b="b"/>
              <a:pathLst>
                <a:path w="22" h="17">
                  <a:moveTo>
                    <a:pt x="0" y="11"/>
                  </a:moveTo>
                  <a:lnTo>
                    <a:pt x="0" y="6"/>
                  </a:lnTo>
                  <a:lnTo>
                    <a:pt x="6" y="0"/>
                  </a:lnTo>
                  <a:lnTo>
                    <a:pt x="11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22" y="6"/>
                  </a:lnTo>
                  <a:lnTo>
                    <a:pt x="22" y="11"/>
                  </a:lnTo>
                  <a:lnTo>
                    <a:pt x="22" y="11"/>
                  </a:lnTo>
                  <a:lnTo>
                    <a:pt x="22" y="17"/>
                  </a:lnTo>
                  <a:lnTo>
                    <a:pt x="17" y="17"/>
                  </a:lnTo>
                  <a:lnTo>
                    <a:pt x="11" y="17"/>
                  </a:lnTo>
                  <a:lnTo>
                    <a:pt x="6" y="17"/>
                  </a:lnTo>
                  <a:lnTo>
                    <a:pt x="0" y="17"/>
                  </a:lnTo>
                  <a:lnTo>
                    <a:pt x="0" y="1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4" name=""/>
            <p:cNvSpPr/>
            <p:nvPr/>
          </p:nvSpPr>
          <p:spPr>
            <a:xfrm>
              <a:off x="4581360" y="5127480"/>
              <a:ext cx="60480" cy="52560"/>
            </a:xfrm>
            <a:custGeom>
              <a:avLst/>
              <a:gdLst/>
              <a:ahLst/>
              <a:rect l="l" t="t" r="r" b="b"/>
              <a:pathLst>
                <a:path w="38" h="33">
                  <a:moveTo>
                    <a:pt x="38" y="16"/>
                  </a:moveTo>
                  <a:lnTo>
                    <a:pt x="38" y="5"/>
                  </a:lnTo>
                  <a:lnTo>
                    <a:pt x="32" y="0"/>
                  </a:lnTo>
                  <a:lnTo>
                    <a:pt x="21" y="0"/>
                  </a:lnTo>
                  <a:lnTo>
                    <a:pt x="16" y="0"/>
                  </a:lnTo>
                  <a:lnTo>
                    <a:pt x="5" y="5"/>
                  </a:lnTo>
                  <a:lnTo>
                    <a:pt x="0" y="11"/>
                  </a:lnTo>
                  <a:lnTo>
                    <a:pt x="0" y="16"/>
                  </a:lnTo>
                  <a:lnTo>
                    <a:pt x="0" y="22"/>
                  </a:lnTo>
                  <a:lnTo>
                    <a:pt x="11" y="27"/>
                  </a:lnTo>
                  <a:lnTo>
                    <a:pt x="21" y="33"/>
                  </a:lnTo>
                  <a:lnTo>
                    <a:pt x="27" y="33"/>
                  </a:lnTo>
                  <a:lnTo>
                    <a:pt x="32" y="33"/>
                  </a:lnTo>
                  <a:lnTo>
                    <a:pt x="38" y="22"/>
                  </a:lnTo>
                  <a:lnTo>
                    <a:pt x="38" y="1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5" name=""/>
            <p:cNvSpPr/>
            <p:nvPr/>
          </p:nvSpPr>
          <p:spPr>
            <a:xfrm>
              <a:off x="4987800" y="5014800"/>
              <a:ext cx="77760" cy="52560"/>
            </a:xfrm>
            <a:custGeom>
              <a:avLst/>
              <a:gdLst/>
              <a:ahLst/>
              <a:rect l="l" t="t" r="r" b="b"/>
              <a:pathLst>
                <a:path w="49" h="33">
                  <a:moveTo>
                    <a:pt x="0" y="22"/>
                  </a:moveTo>
                  <a:lnTo>
                    <a:pt x="5" y="11"/>
                  </a:lnTo>
                  <a:lnTo>
                    <a:pt x="11" y="6"/>
                  </a:lnTo>
                  <a:lnTo>
                    <a:pt x="16" y="0"/>
                  </a:lnTo>
                  <a:lnTo>
                    <a:pt x="22" y="0"/>
                  </a:lnTo>
                  <a:lnTo>
                    <a:pt x="33" y="0"/>
                  </a:lnTo>
                  <a:lnTo>
                    <a:pt x="38" y="6"/>
                  </a:lnTo>
                  <a:lnTo>
                    <a:pt x="43" y="11"/>
                  </a:lnTo>
                  <a:lnTo>
                    <a:pt x="49" y="22"/>
                  </a:lnTo>
                  <a:lnTo>
                    <a:pt x="43" y="27"/>
                  </a:lnTo>
                  <a:lnTo>
                    <a:pt x="33" y="27"/>
                  </a:lnTo>
                  <a:lnTo>
                    <a:pt x="27" y="33"/>
                  </a:lnTo>
                  <a:lnTo>
                    <a:pt x="16" y="27"/>
                  </a:lnTo>
                  <a:lnTo>
                    <a:pt x="5" y="27"/>
                  </a:lnTo>
                  <a:lnTo>
                    <a:pt x="0" y="2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6" name=""/>
            <p:cNvSpPr/>
            <p:nvPr/>
          </p:nvSpPr>
          <p:spPr>
            <a:xfrm>
              <a:off x="6276960" y="4686480"/>
              <a:ext cx="27000" cy="34920"/>
            </a:xfrm>
            <a:custGeom>
              <a:avLst/>
              <a:gdLst/>
              <a:ahLst/>
              <a:rect l="l" t="t" r="r" b="b"/>
              <a:pathLst>
                <a:path w="17" h="22">
                  <a:moveTo>
                    <a:pt x="0" y="5"/>
                  </a:moveTo>
                  <a:lnTo>
                    <a:pt x="0" y="0"/>
                  </a:lnTo>
                  <a:lnTo>
                    <a:pt x="6" y="0"/>
                  </a:lnTo>
                  <a:lnTo>
                    <a:pt x="11" y="0"/>
                  </a:lnTo>
                  <a:lnTo>
                    <a:pt x="17" y="0"/>
                  </a:lnTo>
                  <a:lnTo>
                    <a:pt x="17" y="5"/>
                  </a:lnTo>
                  <a:lnTo>
                    <a:pt x="17" y="11"/>
                  </a:lnTo>
                  <a:lnTo>
                    <a:pt x="17" y="16"/>
                  </a:lnTo>
                  <a:lnTo>
                    <a:pt x="11" y="16"/>
                  </a:lnTo>
                  <a:lnTo>
                    <a:pt x="6" y="22"/>
                  </a:lnTo>
                  <a:lnTo>
                    <a:pt x="6" y="22"/>
                  </a:lnTo>
                  <a:lnTo>
                    <a:pt x="6" y="22"/>
                  </a:lnTo>
                  <a:lnTo>
                    <a:pt x="0" y="16"/>
                  </a:lnTo>
                  <a:lnTo>
                    <a:pt x="0" y="11"/>
                  </a:lnTo>
                  <a:lnTo>
                    <a:pt x="0" y="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7" name=""/>
            <p:cNvSpPr/>
            <p:nvPr/>
          </p:nvSpPr>
          <p:spPr>
            <a:xfrm>
              <a:off x="4719600" y="4643280"/>
              <a:ext cx="7920" cy="180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5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5" y="0"/>
                  </a:lnTo>
                  <a:lnTo>
                    <a:pt x="5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8" name=""/>
            <p:cNvSpPr/>
            <p:nvPr/>
          </p:nvSpPr>
          <p:spPr>
            <a:xfrm>
              <a:off x="4632480" y="4573440"/>
              <a:ext cx="52200" cy="42840"/>
            </a:xfrm>
            <a:custGeom>
              <a:avLst/>
              <a:gdLst/>
              <a:ahLst/>
              <a:rect l="l" t="t" r="r" b="b"/>
              <a:pathLst>
                <a:path w="33" h="27">
                  <a:moveTo>
                    <a:pt x="33" y="11"/>
                  </a:moveTo>
                  <a:lnTo>
                    <a:pt x="33" y="6"/>
                  </a:lnTo>
                  <a:lnTo>
                    <a:pt x="28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6" y="6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6"/>
                  </a:lnTo>
                  <a:lnTo>
                    <a:pt x="6" y="22"/>
                  </a:lnTo>
                  <a:lnTo>
                    <a:pt x="17" y="22"/>
                  </a:lnTo>
                  <a:lnTo>
                    <a:pt x="22" y="27"/>
                  </a:lnTo>
                  <a:lnTo>
                    <a:pt x="28" y="22"/>
                  </a:lnTo>
                  <a:lnTo>
                    <a:pt x="33" y="16"/>
                  </a:lnTo>
                  <a:lnTo>
                    <a:pt x="33" y="1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9" name=""/>
            <p:cNvSpPr/>
            <p:nvPr/>
          </p:nvSpPr>
          <p:spPr>
            <a:xfrm>
              <a:off x="4599000" y="4478400"/>
              <a:ext cx="33480" cy="34920"/>
            </a:xfrm>
            <a:custGeom>
              <a:avLst/>
              <a:gdLst/>
              <a:ahLst/>
              <a:rect l="l" t="t" r="r" b="b"/>
              <a:pathLst>
                <a:path w="21" h="22">
                  <a:moveTo>
                    <a:pt x="21" y="11"/>
                  </a:moveTo>
                  <a:lnTo>
                    <a:pt x="16" y="11"/>
                  </a:lnTo>
                  <a:lnTo>
                    <a:pt x="16" y="11"/>
                  </a:lnTo>
                  <a:lnTo>
                    <a:pt x="21" y="11"/>
                  </a:lnTo>
                  <a:lnTo>
                    <a:pt x="21" y="11"/>
                  </a:lnTo>
                  <a:lnTo>
                    <a:pt x="21" y="11"/>
                  </a:lnTo>
                  <a:lnTo>
                    <a:pt x="21" y="6"/>
                  </a:lnTo>
                  <a:lnTo>
                    <a:pt x="21" y="6"/>
                  </a:lnTo>
                  <a:lnTo>
                    <a:pt x="21" y="6"/>
                  </a:lnTo>
                  <a:lnTo>
                    <a:pt x="21" y="6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5" y="6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6" y="11"/>
                  </a:lnTo>
                  <a:lnTo>
                    <a:pt x="16" y="11"/>
                  </a:lnTo>
                  <a:lnTo>
                    <a:pt x="16" y="11"/>
                  </a:lnTo>
                  <a:lnTo>
                    <a:pt x="16" y="11"/>
                  </a:lnTo>
                  <a:lnTo>
                    <a:pt x="16" y="11"/>
                  </a:lnTo>
                  <a:lnTo>
                    <a:pt x="16" y="17"/>
                  </a:lnTo>
                  <a:lnTo>
                    <a:pt x="16" y="17"/>
                  </a:lnTo>
                  <a:lnTo>
                    <a:pt x="16" y="17"/>
                  </a:lnTo>
                  <a:lnTo>
                    <a:pt x="10" y="17"/>
                  </a:lnTo>
                  <a:lnTo>
                    <a:pt x="10" y="22"/>
                  </a:lnTo>
                  <a:lnTo>
                    <a:pt x="10" y="22"/>
                  </a:lnTo>
                  <a:lnTo>
                    <a:pt x="10" y="22"/>
                  </a:lnTo>
                  <a:lnTo>
                    <a:pt x="10" y="22"/>
                  </a:lnTo>
                  <a:lnTo>
                    <a:pt x="5" y="22"/>
                  </a:lnTo>
                  <a:lnTo>
                    <a:pt x="5" y="22"/>
                  </a:lnTo>
                  <a:lnTo>
                    <a:pt x="5" y="22"/>
                  </a:lnTo>
                  <a:lnTo>
                    <a:pt x="5" y="22"/>
                  </a:lnTo>
                  <a:lnTo>
                    <a:pt x="5" y="22"/>
                  </a:lnTo>
                  <a:lnTo>
                    <a:pt x="5" y="22"/>
                  </a:lnTo>
                  <a:lnTo>
                    <a:pt x="0" y="22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6"/>
                  </a:lnTo>
                  <a:lnTo>
                    <a:pt x="5" y="6"/>
                  </a:lnTo>
                  <a:lnTo>
                    <a:pt x="5" y="6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1" y="0"/>
                  </a:lnTo>
                  <a:lnTo>
                    <a:pt x="21" y="6"/>
                  </a:lnTo>
                  <a:lnTo>
                    <a:pt x="21" y="6"/>
                  </a:lnTo>
                  <a:lnTo>
                    <a:pt x="21" y="6"/>
                  </a:lnTo>
                  <a:lnTo>
                    <a:pt x="21" y="6"/>
                  </a:lnTo>
                  <a:lnTo>
                    <a:pt x="21" y="11"/>
                  </a:lnTo>
                  <a:lnTo>
                    <a:pt x="21" y="11"/>
                  </a:lnTo>
                  <a:lnTo>
                    <a:pt x="21" y="11"/>
                  </a:lnTo>
                  <a:lnTo>
                    <a:pt x="21" y="11"/>
                  </a:lnTo>
                  <a:lnTo>
                    <a:pt x="21" y="11"/>
                  </a:lnTo>
                  <a:close/>
                  <a:moveTo>
                    <a:pt x="5" y="11"/>
                  </a:moveTo>
                  <a:lnTo>
                    <a:pt x="5" y="11"/>
                  </a:lnTo>
                  <a:lnTo>
                    <a:pt x="5" y="11"/>
                  </a:lnTo>
                  <a:lnTo>
                    <a:pt x="5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5" y="17"/>
                  </a:lnTo>
                  <a:lnTo>
                    <a:pt x="5" y="17"/>
                  </a:lnTo>
                  <a:lnTo>
                    <a:pt x="5" y="17"/>
                  </a:lnTo>
                  <a:lnTo>
                    <a:pt x="5" y="17"/>
                  </a:lnTo>
                  <a:lnTo>
                    <a:pt x="5" y="17"/>
                  </a:lnTo>
                  <a:lnTo>
                    <a:pt x="5" y="17"/>
                  </a:lnTo>
                  <a:lnTo>
                    <a:pt x="10" y="17"/>
                  </a:lnTo>
                  <a:lnTo>
                    <a:pt x="10" y="17"/>
                  </a:lnTo>
                  <a:lnTo>
                    <a:pt x="10" y="17"/>
                  </a:lnTo>
                  <a:lnTo>
                    <a:pt x="10" y="17"/>
                  </a:lnTo>
                  <a:lnTo>
                    <a:pt x="10" y="17"/>
                  </a:lnTo>
                  <a:lnTo>
                    <a:pt x="10" y="11"/>
                  </a:lnTo>
                  <a:lnTo>
                    <a:pt x="10" y="11"/>
                  </a:lnTo>
                  <a:lnTo>
                    <a:pt x="10" y="11"/>
                  </a:lnTo>
                  <a:lnTo>
                    <a:pt x="10" y="11"/>
                  </a:lnTo>
                  <a:lnTo>
                    <a:pt x="10" y="11"/>
                  </a:lnTo>
                  <a:lnTo>
                    <a:pt x="10" y="11"/>
                  </a:lnTo>
                  <a:lnTo>
                    <a:pt x="10" y="11"/>
                  </a:lnTo>
                  <a:lnTo>
                    <a:pt x="10" y="11"/>
                  </a:lnTo>
                  <a:lnTo>
                    <a:pt x="10" y="6"/>
                  </a:lnTo>
                  <a:lnTo>
                    <a:pt x="5" y="6"/>
                  </a:lnTo>
                  <a:lnTo>
                    <a:pt x="5" y="6"/>
                  </a:lnTo>
                  <a:lnTo>
                    <a:pt x="5" y="11"/>
                  </a:lnTo>
                  <a:lnTo>
                    <a:pt x="5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0" name=""/>
            <p:cNvSpPr/>
            <p:nvPr/>
          </p:nvSpPr>
          <p:spPr>
            <a:xfrm>
              <a:off x="4614840" y="4505400"/>
              <a:ext cx="34920" cy="33120"/>
            </a:xfrm>
            <a:custGeom>
              <a:avLst/>
              <a:gdLst/>
              <a:ahLst/>
              <a:rect l="l" t="t" r="r" b="b"/>
              <a:pathLst>
                <a:path w="22" h="21">
                  <a:moveTo>
                    <a:pt x="6" y="5"/>
                  </a:moveTo>
                  <a:lnTo>
                    <a:pt x="6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5"/>
                  </a:lnTo>
                  <a:lnTo>
                    <a:pt x="22" y="5"/>
                  </a:lnTo>
                  <a:lnTo>
                    <a:pt x="22" y="5"/>
                  </a:lnTo>
                  <a:lnTo>
                    <a:pt x="22" y="5"/>
                  </a:lnTo>
                  <a:lnTo>
                    <a:pt x="22" y="5"/>
                  </a:lnTo>
                  <a:lnTo>
                    <a:pt x="22" y="5"/>
                  </a:lnTo>
                  <a:lnTo>
                    <a:pt x="22" y="10"/>
                  </a:lnTo>
                  <a:lnTo>
                    <a:pt x="22" y="10"/>
                  </a:lnTo>
                  <a:lnTo>
                    <a:pt x="22" y="10"/>
                  </a:lnTo>
                  <a:lnTo>
                    <a:pt x="22" y="10"/>
                  </a:lnTo>
                  <a:lnTo>
                    <a:pt x="22" y="10"/>
                  </a:lnTo>
                  <a:lnTo>
                    <a:pt x="22" y="10"/>
                  </a:lnTo>
                  <a:lnTo>
                    <a:pt x="17" y="10"/>
                  </a:lnTo>
                  <a:lnTo>
                    <a:pt x="17" y="16"/>
                  </a:lnTo>
                  <a:lnTo>
                    <a:pt x="17" y="16"/>
                  </a:lnTo>
                  <a:lnTo>
                    <a:pt x="17" y="16"/>
                  </a:lnTo>
                  <a:lnTo>
                    <a:pt x="11" y="16"/>
                  </a:lnTo>
                  <a:lnTo>
                    <a:pt x="11" y="16"/>
                  </a:lnTo>
                  <a:lnTo>
                    <a:pt x="11" y="16"/>
                  </a:lnTo>
                  <a:lnTo>
                    <a:pt x="11" y="21"/>
                  </a:lnTo>
                  <a:lnTo>
                    <a:pt x="6" y="21"/>
                  </a:lnTo>
                  <a:lnTo>
                    <a:pt x="6" y="21"/>
                  </a:lnTo>
                  <a:lnTo>
                    <a:pt x="6" y="21"/>
                  </a:lnTo>
                  <a:lnTo>
                    <a:pt x="6" y="21"/>
                  </a:lnTo>
                  <a:lnTo>
                    <a:pt x="6" y="21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5"/>
                  </a:lnTo>
                  <a:lnTo>
                    <a:pt x="6" y="5"/>
                  </a:lnTo>
                  <a:lnTo>
                    <a:pt x="6" y="5"/>
                  </a:lnTo>
                  <a:close/>
                  <a:moveTo>
                    <a:pt x="6" y="5"/>
                  </a:moveTo>
                  <a:lnTo>
                    <a:pt x="6" y="5"/>
                  </a:lnTo>
                  <a:lnTo>
                    <a:pt x="6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11" y="16"/>
                  </a:lnTo>
                  <a:lnTo>
                    <a:pt x="11" y="16"/>
                  </a:lnTo>
                  <a:lnTo>
                    <a:pt x="11" y="16"/>
                  </a:lnTo>
                  <a:lnTo>
                    <a:pt x="17" y="10"/>
                  </a:lnTo>
                  <a:lnTo>
                    <a:pt x="17" y="10"/>
                  </a:lnTo>
                  <a:lnTo>
                    <a:pt x="17" y="10"/>
                  </a:lnTo>
                  <a:lnTo>
                    <a:pt x="22" y="5"/>
                  </a:lnTo>
                  <a:lnTo>
                    <a:pt x="22" y="5"/>
                  </a:lnTo>
                  <a:lnTo>
                    <a:pt x="22" y="5"/>
                  </a:lnTo>
                  <a:lnTo>
                    <a:pt x="22" y="5"/>
                  </a:lnTo>
                  <a:lnTo>
                    <a:pt x="17" y="5"/>
                  </a:lnTo>
                  <a:lnTo>
                    <a:pt x="17" y="5"/>
                  </a:lnTo>
                  <a:lnTo>
                    <a:pt x="17" y="5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1" y="5"/>
                  </a:lnTo>
                  <a:lnTo>
                    <a:pt x="11" y="5"/>
                  </a:lnTo>
                  <a:lnTo>
                    <a:pt x="6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1" name=""/>
            <p:cNvSpPr/>
            <p:nvPr/>
          </p:nvSpPr>
          <p:spPr>
            <a:xfrm>
              <a:off x="4599000" y="4470480"/>
              <a:ext cx="14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2" name=""/>
            <p:cNvSpPr/>
            <p:nvPr/>
          </p:nvSpPr>
          <p:spPr>
            <a:xfrm>
              <a:off x="4373640" y="4262400"/>
              <a:ext cx="276120" cy="328680"/>
            </a:xfrm>
            <a:custGeom>
              <a:avLst/>
              <a:gdLst/>
              <a:ahLst/>
              <a:rect l="l" t="t" r="r" b="b"/>
              <a:pathLst>
                <a:path w="174" h="207">
                  <a:moveTo>
                    <a:pt x="142" y="131"/>
                  </a:moveTo>
                  <a:lnTo>
                    <a:pt x="136" y="125"/>
                  </a:lnTo>
                  <a:lnTo>
                    <a:pt x="131" y="120"/>
                  </a:lnTo>
                  <a:lnTo>
                    <a:pt x="131" y="114"/>
                  </a:lnTo>
                  <a:lnTo>
                    <a:pt x="125" y="109"/>
                  </a:lnTo>
                  <a:lnTo>
                    <a:pt x="120" y="98"/>
                  </a:lnTo>
                  <a:lnTo>
                    <a:pt x="114" y="93"/>
                  </a:lnTo>
                  <a:lnTo>
                    <a:pt x="114" y="87"/>
                  </a:lnTo>
                  <a:lnTo>
                    <a:pt x="109" y="82"/>
                  </a:lnTo>
                  <a:lnTo>
                    <a:pt x="103" y="76"/>
                  </a:lnTo>
                  <a:lnTo>
                    <a:pt x="98" y="65"/>
                  </a:lnTo>
                  <a:lnTo>
                    <a:pt x="92" y="60"/>
                  </a:lnTo>
                  <a:lnTo>
                    <a:pt x="92" y="54"/>
                  </a:lnTo>
                  <a:lnTo>
                    <a:pt x="87" y="49"/>
                  </a:lnTo>
                  <a:lnTo>
                    <a:pt x="82" y="44"/>
                  </a:lnTo>
                  <a:lnTo>
                    <a:pt x="76" y="38"/>
                  </a:lnTo>
                  <a:lnTo>
                    <a:pt x="71" y="27"/>
                  </a:lnTo>
                  <a:lnTo>
                    <a:pt x="71" y="22"/>
                  </a:lnTo>
                  <a:lnTo>
                    <a:pt x="65" y="16"/>
                  </a:lnTo>
                  <a:lnTo>
                    <a:pt x="60" y="11"/>
                  </a:lnTo>
                  <a:lnTo>
                    <a:pt x="49" y="5"/>
                  </a:lnTo>
                  <a:lnTo>
                    <a:pt x="38" y="0"/>
                  </a:lnTo>
                  <a:lnTo>
                    <a:pt x="27" y="5"/>
                  </a:lnTo>
                  <a:lnTo>
                    <a:pt x="22" y="11"/>
                  </a:lnTo>
                  <a:lnTo>
                    <a:pt x="22" y="16"/>
                  </a:lnTo>
                  <a:lnTo>
                    <a:pt x="16" y="22"/>
                  </a:lnTo>
                  <a:lnTo>
                    <a:pt x="11" y="33"/>
                  </a:lnTo>
                  <a:lnTo>
                    <a:pt x="5" y="38"/>
                  </a:lnTo>
                  <a:lnTo>
                    <a:pt x="0" y="44"/>
                  </a:lnTo>
                  <a:lnTo>
                    <a:pt x="5" y="49"/>
                  </a:lnTo>
                  <a:lnTo>
                    <a:pt x="11" y="54"/>
                  </a:lnTo>
                  <a:lnTo>
                    <a:pt x="16" y="60"/>
                  </a:lnTo>
                  <a:lnTo>
                    <a:pt x="27" y="65"/>
                  </a:lnTo>
                  <a:lnTo>
                    <a:pt x="32" y="71"/>
                  </a:lnTo>
                  <a:lnTo>
                    <a:pt x="43" y="76"/>
                  </a:lnTo>
                  <a:lnTo>
                    <a:pt x="49" y="82"/>
                  </a:lnTo>
                  <a:lnTo>
                    <a:pt x="54" y="87"/>
                  </a:lnTo>
                  <a:lnTo>
                    <a:pt x="60" y="93"/>
                  </a:lnTo>
                  <a:lnTo>
                    <a:pt x="65" y="98"/>
                  </a:lnTo>
                  <a:lnTo>
                    <a:pt x="71" y="103"/>
                  </a:lnTo>
                  <a:lnTo>
                    <a:pt x="76" y="109"/>
                  </a:lnTo>
                  <a:lnTo>
                    <a:pt x="82" y="114"/>
                  </a:lnTo>
                  <a:lnTo>
                    <a:pt x="87" y="120"/>
                  </a:lnTo>
                  <a:lnTo>
                    <a:pt x="87" y="125"/>
                  </a:lnTo>
                  <a:lnTo>
                    <a:pt x="92" y="136"/>
                  </a:lnTo>
                  <a:lnTo>
                    <a:pt x="98" y="142"/>
                  </a:lnTo>
                  <a:lnTo>
                    <a:pt x="103" y="147"/>
                  </a:lnTo>
                  <a:lnTo>
                    <a:pt x="109" y="153"/>
                  </a:lnTo>
                  <a:lnTo>
                    <a:pt x="103" y="158"/>
                  </a:lnTo>
                  <a:lnTo>
                    <a:pt x="103" y="169"/>
                  </a:lnTo>
                  <a:lnTo>
                    <a:pt x="109" y="174"/>
                  </a:lnTo>
                  <a:lnTo>
                    <a:pt x="114" y="180"/>
                  </a:lnTo>
                  <a:lnTo>
                    <a:pt x="125" y="180"/>
                  </a:lnTo>
                  <a:lnTo>
                    <a:pt x="131" y="185"/>
                  </a:lnTo>
                  <a:lnTo>
                    <a:pt x="142" y="196"/>
                  </a:lnTo>
                  <a:lnTo>
                    <a:pt x="147" y="202"/>
                  </a:lnTo>
                  <a:lnTo>
                    <a:pt x="152" y="207"/>
                  </a:lnTo>
                  <a:lnTo>
                    <a:pt x="158" y="207"/>
                  </a:lnTo>
                  <a:lnTo>
                    <a:pt x="163" y="202"/>
                  </a:lnTo>
                  <a:lnTo>
                    <a:pt x="169" y="196"/>
                  </a:lnTo>
                  <a:lnTo>
                    <a:pt x="169" y="185"/>
                  </a:lnTo>
                  <a:lnTo>
                    <a:pt x="174" y="17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3" name=""/>
            <p:cNvSpPr/>
            <p:nvPr/>
          </p:nvSpPr>
          <p:spPr>
            <a:xfrm>
              <a:off x="4441680" y="4487760"/>
              <a:ext cx="52560" cy="33480"/>
            </a:xfrm>
            <a:custGeom>
              <a:avLst/>
              <a:gdLst/>
              <a:ahLst/>
              <a:rect l="l" t="t" r="r" b="b"/>
              <a:pathLst>
                <a:path w="33" h="21">
                  <a:moveTo>
                    <a:pt x="33" y="5"/>
                  </a:moveTo>
                  <a:lnTo>
                    <a:pt x="28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6" y="11"/>
                  </a:lnTo>
                  <a:lnTo>
                    <a:pt x="11" y="16"/>
                  </a:lnTo>
                  <a:lnTo>
                    <a:pt x="17" y="16"/>
                  </a:lnTo>
                  <a:lnTo>
                    <a:pt x="22" y="21"/>
                  </a:lnTo>
                  <a:lnTo>
                    <a:pt x="22" y="16"/>
                  </a:lnTo>
                  <a:lnTo>
                    <a:pt x="28" y="16"/>
                  </a:lnTo>
                  <a:lnTo>
                    <a:pt x="28" y="11"/>
                  </a:lnTo>
                  <a:lnTo>
                    <a:pt x="33" y="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4" name=""/>
            <p:cNvSpPr/>
            <p:nvPr/>
          </p:nvSpPr>
          <p:spPr>
            <a:xfrm>
              <a:off x="4390920" y="4425840"/>
              <a:ext cx="42840" cy="52560"/>
            </a:xfrm>
            <a:custGeom>
              <a:avLst/>
              <a:gdLst/>
              <a:ahLst/>
              <a:rect l="l" t="t" r="r" b="b"/>
              <a:pathLst>
                <a:path w="27" h="33">
                  <a:moveTo>
                    <a:pt x="27" y="11"/>
                  </a:moveTo>
                  <a:lnTo>
                    <a:pt x="21" y="0"/>
                  </a:lnTo>
                  <a:lnTo>
                    <a:pt x="21" y="0"/>
                  </a:lnTo>
                  <a:lnTo>
                    <a:pt x="11" y="0"/>
                  </a:lnTo>
                  <a:lnTo>
                    <a:pt x="5" y="6"/>
                  </a:lnTo>
                  <a:lnTo>
                    <a:pt x="0" y="11"/>
                  </a:lnTo>
                  <a:lnTo>
                    <a:pt x="0" y="17"/>
                  </a:lnTo>
                  <a:lnTo>
                    <a:pt x="5" y="22"/>
                  </a:lnTo>
                  <a:lnTo>
                    <a:pt x="11" y="28"/>
                  </a:lnTo>
                  <a:lnTo>
                    <a:pt x="16" y="28"/>
                  </a:lnTo>
                  <a:lnTo>
                    <a:pt x="21" y="33"/>
                  </a:lnTo>
                  <a:lnTo>
                    <a:pt x="21" y="28"/>
                  </a:lnTo>
                  <a:lnTo>
                    <a:pt x="27" y="22"/>
                  </a:lnTo>
                  <a:lnTo>
                    <a:pt x="27" y="17"/>
                  </a:lnTo>
                  <a:lnTo>
                    <a:pt x="27" y="1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5" name=""/>
            <p:cNvSpPr/>
            <p:nvPr/>
          </p:nvSpPr>
          <p:spPr>
            <a:xfrm>
              <a:off x="6216480" y="4114800"/>
              <a:ext cx="25560" cy="34920"/>
            </a:xfrm>
            <a:custGeom>
              <a:avLst/>
              <a:gdLst/>
              <a:ahLst/>
              <a:rect l="l" t="t" r="r" b="b"/>
              <a:pathLst>
                <a:path w="16" h="22">
                  <a:moveTo>
                    <a:pt x="0" y="17"/>
                  </a:moveTo>
                  <a:lnTo>
                    <a:pt x="6" y="11"/>
                  </a:lnTo>
                  <a:lnTo>
                    <a:pt x="6" y="6"/>
                  </a:lnTo>
                  <a:lnTo>
                    <a:pt x="11" y="6"/>
                  </a:lnTo>
                  <a:lnTo>
                    <a:pt x="11" y="0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6" y="11"/>
                  </a:lnTo>
                  <a:lnTo>
                    <a:pt x="16" y="11"/>
                  </a:lnTo>
                  <a:lnTo>
                    <a:pt x="16" y="17"/>
                  </a:lnTo>
                  <a:lnTo>
                    <a:pt x="16" y="17"/>
                  </a:lnTo>
                  <a:lnTo>
                    <a:pt x="11" y="22"/>
                  </a:lnTo>
                  <a:lnTo>
                    <a:pt x="6" y="22"/>
                  </a:lnTo>
                  <a:lnTo>
                    <a:pt x="6" y="17"/>
                  </a:lnTo>
                  <a:lnTo>
                    <a:pt x="0" y="1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6" name=""/>
            <p:cNvSpPr/>
            <p:nvPr/>
          </p:nvSpPr>
          <p:spPr>
            <a:xfrm>
              <a:off x="5913360" y="3924360"/>
              <a:ext cx="27000" cy="17280"/>
            </a:xfrm>
            <a:custGeom>
              <a:avLst/>
              <a:gdLst/>
              <a:ahLst/>
              <a:rect l="l" t="t" r="r" b="b"/>
              <a:pathLst>
                <a:path w="17" h="11">
                  <a:moveTo>
                    <a:pt x="0" y="6"/>
                  </a:moveTo>
                  <a:lnTo>
                    <a:pt x="6" y="6"/>
                  </a:lnTo>
                  <a:lnTo>
                    <a:pt x="6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7" y="6"/>
                  </a:lnTo>
                  <a:lnTo>
                    <a:pt x="17" y="6"/>
                  </a:lnTo>
                  <a:lnTo>
                    <a:pt x="17" y="6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6" y="11"/>
                  </a:lnTo>
                  <a:lnTo>
                    <a:pt x="6" y="6"/>
                  </a:lnTo>
                  <a:lnTo>
                    <a:pt x="0" y="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7" name=""/>
            <p:cNvSpPr/>
            <p:nvPr/>
          </p:nvSpPr>
          <p:spPr>
            <a:xfrm>
              <a:off x="2305080" y="3665520"/>
              <a:ext cx="42840" cy="2556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16" y="16"/>
                  </a:moveTo>
                  <a:lnTo>
                    <a:pt x="16" y="16"/>
                  </a:lnTo>
                  <a:lnTo>
                    <a:pt x="21" y="16"/>
                  </a:lnTo>
                  <a:lnTo>
                    <a:pt x="21" y="16"/>
                  </a:lnTo>
                  <a:lnTo>
                    <a:pt x="21" y="16"/>
                  </a:lnTo>
                  <a:lnTo>
                    <a:pt x="21" y="16"/>
                  </a:lnTo>
                  <a:lnTo>
                    <a:pt x="21" y="16"/>
                  </a:lnTo>
                  <a:lnTo>
                    <a:pt x="21" y="16"/>
                  </a:lnTo>
                  <a:lnTo>
                    <a:pt x="21" y="11"/>
                  </a:lnTo>
                  <a:lnTo>
                    <a:pt x="21" y="11"/>
                  </a:lnTo>
                  <a:lnTo>
                    <a:pt x="21" y="11"/>
                  </a:lnTo>
                  <a:lnTo>
                    <a:pt x="21" y="11"/>
                  </a:lnTo>
                  <a:lnTo>
                    <a:pt x="21" y="11"/>
                  </a:lnTo>
                  <a:lnTo>
                    <a:pt x="21" y="11"/>
                  </a:lnTo>
                  <a:lnTo>
                    <a:pt x="21" y="11"/>
                  </a:lnTo>
                  <a:lnTo>
                    <a:pt x="21" y="5"/>
                  </a:lnTo>
                  <a:lnTo>
                    <a:pt x="21" y="5"/>
                  </a:lnTo>
                  <a:lnTo>
                    <a:pt x="21" y="5"/>
                  </a:lnTo>
                  <a:lnTo>
                    <a:pt x="21" y="5"/>
                  </a:lnTo>
                  <a:lnTo>
                    <a:pt x="21" y="5"/>
                  </a:lnTo>
                  <a:lnTo>
                    <a:pt x="16" y="5"/>
                  </a:lnTo>
                  <a:lnTo>
                    <a:pt x="16" y="5"/>
                  </a:lnTo>
                  <a:lnTo>
                    <a:pt x="16" y="5"/>
                  </a:lnTo>
                  <a:lnTo>
                    <a:pt x="16" y="5"/>
                  </a:lnTo>
                  <a:lnTo>
                    <a:pt x="16" y="5"/>
                  </a:lnTo>
                  <a:lnTo>
                    <a:pt x="16" y="5"/>
                  </a:lnTo>
                  <a:lnTo>
                    <a:pt x="16" y="5"/>
                  </a:lnTo>
                  <a:lnTo>
                    <a:pt x="16" y="11"/>
                  </a:lnTo>
                  <a:lnTo>
                    <a:pt x="16" y="11"/>
                  </a:lnTo>
                  <a:lnTo>
                    <a:pt x="16" y="11"/>
                  </a:lnTo>
                  <a:lnTo>
                    <a:pt x="16" y="11"/>
                  </a:lnTo>
                  <a:lnTo>
                    <a:pt x="16" y="11"/>
                  </a:lnTo>
                  <a:lnTo>
                    <a:pt x="16" y="11"/>
                  </a:lnTo>
                  <a:lnTo>
                    <a:pt x="16" y="16"/>
                  </a:lnTo>
                  <a:lnTo>
                    <a:pt x="11" y="16"/>
                  </a:lnTo>
                  <a:lnTo>
                    <a:pt x="11" y="16"/>
                  </a:lnTo>
                  <a:lnTo>
                    <a:pt x="11" y="16"/>
                  </a:lnTo>
                  <a:lnTo>
                    <a:pt x="5" y="16"/>
                  </a:lnTo>
                  <a:lnTo>
                    <a:pt x="5" y="16"/>
                  </a:lnTo>
                  <a:lnTo>
                    <a:pt x="5" y="11"/>
                  </a:lnTo>
                  <a:lnTo>
                    <a:pt x="5" y="11"/>
                  </a:lnTo>
                  <a:lnTo>
                    <a:pt x="5" y="11"/>
                  </a:lnTo>
                  <a:lnTo>
                    <a:pt x="5" y="11"/>
                  </a:lnTo>
                  <a:lnTo>
                    <a:pt x="5" y="11"/>
                  </a:lnTo>
                  <a:lnTo>
                    <a:pt x="0" y="11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5" y="5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1" y="0"/>
                  </a:lnTo>
                  <a:lnTo>
                    <a:pt x="21" y="5"/>
                  </a:lnTo>
                  <a:lnTo>
                    <a:pt x="21" y="5"/>
                  </a:lnTo>
                  <a:lnTo>
                    <a:pt x="27" y="5"/>
                  </a:lnTo>
                  <a:lnTo>
                    <a:pt x="27" y="11"/>
                  </a:lnTo>
                  <a:lnTo>
                    <a:pt x="27" y="11"/>
                  </a:lnTo>
                  <a:lnTo>
                    <a:pt x="27" y="11"/>
                  </a:lnTo>
                  <a:lnTo>
                    <a:pt x="27" y="11"/>
                  </a:lnTo>
                  <a:lnTo>
                    <a:pt x="27" y="16"/>
                  </a:lnTo>
                  <a:lnTo>
                    <a:pt x="27" y="16"/>
                  </a:lnTo>
                  <a:lnTo>
                    <a:pt x="21" y="16"/>
                  </a:lnTo>
                  <a:lnTo>
                    <a:pt x="21" y="16"/>
                  </a:lnTo>
                  <a:lnTo>
                    <a:pt x="21" y="16"/>
                  </a:lnTo>
                  <a:lnTo>
                    <a:pt x="21" y="16"/>
                  </a:lnTo>
                  <a:lnTo>
                    <a:pt x="21" y="16"/>
                  </a:lnTo>
                  <a:lnTo>
                    <a:pt x="16" y="16"/>
                  </a:lnTo>
                  <a:close/>
                  <a:moveTo>
                    <a:pt x="11" y="0"/>
                  </a:move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11"/>
                  </a:lnTo>
                  <a:lnTo>
                    <a:pt x="5" y="11"/>
                  </a:lnTo>
                  <a:lnTo>
                    <a:pt x="5" y="11"/>
                  </a:lnTo>
                  <a:lnTo>
                    <a:pt x="5" y="11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16" y="11"/>
                  </a:lnTo>
                  <a:lnTo>
                    <a:pt x="16" y="11"/>
                  </a:lnTo>
                  <a:lnTo>
                    <a:pt x="16" y="11"/>
                  </a:lnTo>
                  <a:lnTo>
                    <a:pt x="16" y="11"/>
                  </a:lnTo>
                  <a:lnTo>
                    <a:pt x="16" y="5"/>
                  </a:lnTo>
                  <a:lnTo>
                    <a:pt x="16" y="5"/>
                  </a:lnTo>
                  <a:lnTo>
                    <a:pt x="16" y="5"/>
                  </a:lnTo>
                  <a:lnTo>
                    <a:pt x="16" y="5"/>
                  </a:lnTo>
                  <a:lnTo>
                    <a:pt x="16" y="5"/>
                  </a:lnTo>
                  <a:lnTo>
                    <a:pt x="16" y="5"/>
                  </a:lnTo>
                  <a:lnTo>
                    <a:pt x="11" y="5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8" name=""/>
            <p:cNvSpPr/>
            <p:nvPr/>
          </p:nvSpPr>
          <p:spPr>
            <a:xfrm>
              <a:off x="2295360" y="3691080"/>
              <a:ext cx="43200" cy="27000"/>
            </a:xfrm>
            <a:custGeom>
              <a:avLst/>
              <a:gdLst/>
              <a:ahLst/>
              <a:rect l="l" t="t" r="r" b="b"/>
              <a:pathLst>
                <a:path w="27" h="17">
                  <a:moveTo>
                    <a:pt x="17" y="0"/>
                  </a:moveTo>
                  <a:lnTo>
                    <a:pt x="17" y="6"/>
                  </a:lnTo>
                  <a:lnTo>
                    <a:pt x="22" y="6"/>
                  </a:lnTo>
                  <a:lnTo>
                    <a:pt x="22" y="6"/>
                  </a:lnTo>
                  <a:lnTo>
                    <a:pt x="22" y="6"/>
                  </a:lnTo>
                  <a:lnTo>
                    <a:pt x="22" y="6"/>
                  </a:lnTo>
                  <a:lnTo>
                    <a:pt x="22" y="6"/>
                  </a:lnTo>
                  <a:lnTo>
                    <a:pt x="22" y="11"/>
                  </a:lnTo>
                  <a:lnTo>
                    <a:pt x="27" y="11"/>
                  </a:lnTo>
                  <a:lnTo>
                    <a:pt x="27" y="11"/>
                  </a:lnTo>
                  <a:lnTo>
                    <a:pt x="27" y="11"/>
                  </a:lnTo>
                  <a:lnTo>
                    <a:pt x="27" y="11"/>
                  </a:lnTo>
                  <a:lnTo>
                    <a:pt x="27" y="17"/>
                  </a:lnTo>
                  <a:lnTo>
                    <a:pt x="22" y="17"/>
                  </a:lnTo>
                  <a:lnTo>
                    <a:pt x="22" y="17"/>
                  </a:lnTo>
                  <a:lnTo>
                    <a:pt x="22" y="17"/>
                  </a:lnTo>
                  <a:lnTo>
                    <a:pt x="22" y="17"/>
                  </a:lnTo>
                  <a:lnTo>
                    <a:pt x="22" y="17"/>
                  </a:lnTo>
                  <a:lnTo>
                    <a:pt x="22" y="17"/>
                  </a:lnTo>
                  <a:lnTo>
                    <a:pt x="22" y="17"/>
                  </a:lnTo>
                  <a:lnTo>
                    <a:pt x="22" y="17"/>
                  </a:lnTo>
                  <a:lnTo>
                    <a:pt x="17" y="17"/>
                  </a:lnTo>
                  <a:lnTo>
                    <a:pt x="17" y="17"/>
                  </a:lnTo>
                  <a:lnTo>
                    <a:pt x="17" y="17"/>
                  </a:lnTo>
                  <a:lnTo>
                    <a:pt x="17" y="17"/>
                  </a:lnTo>
                  <a:lnTo>
                    <a:pt x="17" y="17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6" y="17"/>
                  </a:lnTo>
                  <a:lnTo>
                    <a:pt x="6" y="17"/>
                  </a:lnTo>
                  <a:lnTo>
                    <a:pt x="6" y="11"/>
                  </a:lnTo>
                  <a:lnTo>
                    <a:pt x="6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7" y="0"/>
                  </a:lnTo>
                  <a:close/>
                  <a:moveTo>
                    <a:pt x="17" y="6"/>
                  </a:move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11"/>
                  </a:lnTo>
                  <a:lnTo>
                    <a:pt x="6" y="11"/>
                  </a:lnTo>
                  <a:lnTo>
                    <a:pt x="6" y="11"/>
                  </a:lnTo>
                  <a:lnTo>
                    <a:pt x="6" y="11"/>
                  </a:lnTo>
                  <a:lnTo>
                    <a:pt x="11" y="11"/>
                  </a:lnTo>
                  <a:lnTo>
                    <a:pt x="11" y="17"/>
                  </a:lnTo>
                  <a:lnTo>
                    <a:pt x="17" y="17"/>
                  </a:lnTo>
                  <a:lnTo>
                    <a:pt x="17" y="17"/>
                  </a:lnTo>
                  <a:lnTo>
                    <a:pt x="17" y="17"/>
                  </a:lnTo>
                  <a:lnTo>
                    <a:pt x="22" y="17"/>
                  </a:lnTo>
                  <a:lnTo>
                    <a:pt x="22" y="17"/>
                  </a:lnTo>
                  <a:lnTo>
                    <a:pt x="22" y="17"/>
                  </a:lnTo>
                  <a:lnTo>
                    <a:pt x="22" y="17"/>
                  </a:lnTo>
                  <a:lnTo>
                    <a:pt x="22" y="11"/>
                  </a:lnTo>
                  <a:lnTo>
                    <a:pt x="22" y="11"/>
                  </a:lnTo>
                  <a:lnTo>
                    <a:pt x="22" y="11"/>
                  </a:lnTo>
                  <a:lnTo>
                    <a:pt x="22" y="11"/>
                  </a:lnTo>
                  <a:lnTo>
                    <a:pt x="22" y="11"/>
                  </a:lnTo>
                  <a:lnTo>
                    <a:pt x="22" y="11"/>
                  </a:lnTo>
                  <a:lnTo>
                    <a:pt x="22" y="6"/>
                  </a:lnTo>
                  <a:lnTo>
                    <a:pt x="17" y="6"/>
                  </a:lnTo>
                  <a:lnTo>
                    <a:pt x="17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9" name=""/>
            <p:cNvSpPr/>
            <p:nvPr/>
          </p:nvSpPr>
          <p:spPr>
            <a:xfrm flipV="1">
              <a:off x="2338560" y="3648240"/>
              <a:ext cx="1440" cy="7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0" name=""/>
            <p:cNvSpPr/>
            <p:nvPr/>
          </p:nvSpPr>
          <p:spPr>
            <a:xfrm>
              <a:off x="2338560" y="2514600"/>
              <a:ext cx="1143000" cy="1176480"/>
            </a:xfrm>
            <a:custGeom>
              <a:avLst/>
              <a:gdLst/>
              <a:ahLst/>
              <a:rect l="l" t="t" r="r" b="b"/>
              <a:pathLst>
                <a:path w="720" h="741">
                  <a:moveTo>
                    <a:pt x="0" y="714"/>
                  </a:moveTo>
                  <a:lnTo>
                    <a:pt x="11" y="708"/>
                  </a:lnTo>
                  <a:lnTo>
                    <a:pt x="22" y="708"/>
                  </a:lnTo>
                  <a:lnTo>
                    <a:pt x="33" y="708"/>
                  </a:lnTo>
                  <a:lnTo>
                    <a:pt x="44" y="708"/>
                  </a:lnTo>
                  <a:lnTo>
                    <a:pt x="55" y="708"/>
                  </a:lnTo>
                  <a:lnTo>
                    <a:pt x="66" y="714"/>
                  </a:lnTo>
                  <a:lnTo>
                    <a:pt x="71" y="719"/>
                  </a:lnTo>
                  <a:lnTo>
                    <a:pt x="82" y="719"/>
                  </a:lnTo>
                  <a:lnTo>
                    <a:pt x="88" y="725"/>
                  </a:lnTo>
                  <a:lnTo>
                    <a:pt x="93" y="730"/>
                  </a:lnTo>
                  <a:lnTo>
                    <a:pt x="99" y="741"/>
                  </a:lnTo>
                  <a:lnTo>
                    <a:pt x="104" y="741"/>
                  </a:lnTo>
                  <a:lnTo>
                    <a:pt x="115" y="741"/>
                  </a:lnTo>
                  <a:lnTo>
                    <a:pt x="120" y="736"/>
                  </a:lnTo>
                  <a:lnTo>
                    <a:pt x="131" y="730"/>
                  </a:lnTo>
                  <a:lnTo>
                    <a:pt x="142" y="730"/>
                  </a:lnTo>
                  <a:lnTo>
                    <a:pt x="153" y="725"/>
                  </a:lnTo>
                  <a:lnTo>
                    <a:pt x="164" y="725"/>
                  </a:lnTo>
                  <a:lnTo>
                    <a:pt x="169" y="719"/>
                  </a:lnTo>
                  <a:lnTo>
                    <a:pt x="175" y="714"/>
                  </a:lnTo>
                  <a:lnTo>
                    <a:pt x="175" y="703"/>
                  </a:lnTo>
                  <a:lnTo>
                    <a:pt x="175" y="698"/>
                  </a:lnTo>
                  <a:lnTo>
                    <a:pt x="180" y="692"/>
                  </a:lnTo>
                  <a:lnTo>
                    <a:pt x="180" y="681"/>
                  </a:lnTo>
                  <a:lnTo>
                    <a:pt x="180" y="676"/>
                  </a:lnTo>
                  <a:lnTo>
                    <a:pt x="186" y="670"/>
                  </a:lnTo>
                  <a:lnTo>
                    <a:pt x="186" y="665"/>
                  </a:lnTo>
                  <a:lnTo>
                    <a:pt x="191" y="654"/>
                  </a:lnTo>
                  <a:lnTo>
                    <a:pt x="191" y="649"/>
                  </a:lnTo>
                  <a:lnTo>
                    <a:pt x="197" y="643"/>
                  </a:lnTo>
                  <a:lnTo>
                    <a:pt x="202" y="638"/>
                  </a:lnTo>
                  <a:lnTo>
                    <a:pt x="208" y="632"/>
                  </a:lnTo>
                  <a:lnTo>
                    <a:pt x="219" y="632"/>
                  </a:lnTo>
                  <a:lnTo>
                    <a:pt x="235" y="632"/>
                  </a:lnTo>
                  <a:lnTo>
                    <a:pt x="246" y="627"/>
                  </a:lnTo>
                  <a:lnTo>
                    <a:pt x="251" y="627"/>
                  </a:lnTo>
                  <a:lnTo>
                    <a:pt x="262" y="621"/>
                  </a:lnTo>
                  <a:lnTo>
                    <a:pt x="268" y="616"/>
                  </a:lnTo>
                  <a:lnTo>
                    <a:pt x="268" y="605"/>
                  </a:lnTo>
                  <a:lnTo>
                    <a:pt x="273" y="599"/>
                  </a:lnTo>
                  <a:lnTo>
                    <a:pt x="273" y="594"/>
                  </a:lnTo>
                  <a:lnTo>
                    <a:pt x="279" y="589"/>
                  </a:lnTo>
                  <a:lnTo>
                    <a:pt x="279" y="578"/>
                  </a:lnTo>
                  <a:lnTo>
                    <a:pt x="279" y="572"/>
                  </a:lnTo>
                  <a:lnTo>
                    <a:pt x="284" y="567"/>
                  </a:lnTo>
                  <a:lnTo>
                    <a:pt x="284" y="561"/>
                  </a:lnTo>
                  <a:lnTo>
                    <a:pt x="284" y="550"/>
                  </a:lnTo>
                  <a:lnTo>
                    <a:pt x="284" y="545"/>
                  </a:lnTo>
                  <a:lnTo>
                    <a:pt x="289" y="540"/>
                  </a:lnTo>
                  <a:lnTo>
                    <a:pt x="289" y="534"/>
                  </a:lnTo>
                  <a:lnTo>
                    <a:pt x="295" y="523"/>
                  </a:lnTo>
                  <a:lnTo>
                    <a:pt x="295" y="518"/>
                  </a:lnTo>
                  <a:lnTo>
                    <a:pt x="295" y="512"/>
                  </a:lnTo>
                  <a:lnTo>
                    <a:pt x="300" y="507"/>
                  </a:lnTo>
                  <a:lnTo>
                    <a:pt x="300" y="496"/>
                  </a:lnTo>
                  <a:lnTo>
                    <a:pt x="306" y="490"/>
                  </a:lnTo>
                  <a:lnTo>
                    <a:pt x="306" y="485"/>
                  </a:lnTo>
                  <a:lnTo>
                    <a:pt x="311" y="480"/>
                  </a:lnTo>
                  <a:lnTo>
                    <a:pt x="317" y="469"/>
                  </a:lnTo>
                  <a:lnTo>
                    <a:pt x="317" y="463"/>
                  </a:lnTo>
                  <a:lnTo>
                    <a:pt x="322" y="458"/>
                  </a:lnTo>
                  <a:lnTo>
                    <a:pt x="328" y="452"/>
                  </a:lnTo>
                  <a:lnTo>
                    <a:pt x="328" y="447"/>
                  </a:lnTo>
                  <a:lnTo>
                    <a:pt x="333" y="436"/>
                  </a:lnTo>
                  <a:lnTo>
                    <a:pt x="333" y="431"/>
                  </a:lnTo>
                  <a:lnTo>
                    <a:pt x="333" y="425"/>
                  </a:lnTo>
                  <a:lnTo>
                    <a:pt x="339" y="414"/>
                  </a:lnTo>
                  <a:lnTo>
                    <a:pt x="339" y="409"/>
                  </a:lnTo>
                  <a:lnTo>
                    <a:pt x="344" y="403"/>
                  </a:lnTo>
                  <a:lnTo>
                    <a:pt x="344" y="398"/>
                  </a:lnTo>
                  <a:lnTo>
                    <a:pt x="349" y="392"/>
                  </a:lnTo>
                  <a:lnTo>
                    <a:pt x="349" y="381"/>
                  </a:lnTo>
                  <a:lnTo>
                    <a:pt x="355" y="376"/>
                  </a:lnTo>
                  <a:lnTo>
                    <a:pt x="360" y="371"/>
                  </a:lnTo>
                  <a:lnTo>
                    <a:pt x="360" y="365"/>
                  </a:lnTo>
                  <a:lnTo>
                    <a:pt x="366" y="360"/>
                  </a:lnTo>
                  <a:lnTo>
                    <a:pt x="371" y="349"/>
                  </a:lnTo>
                  <a:lnTo>
                    <a:pt x="371" y="343"/>
                  </a:lnTo>
                  <a:lnTo>
                    <a:pt x="371" y="338"/>
                  </a:lnTo>
                  <a:lnTo>
                    <a:pt x="377" y="332"/>
                  </a:lnTo>
                  <a:lnTo>
                    <a:pt x="377" y="322"/>
                  </a:lnTo>
                  <a:lnTo>
                    <a:pt x="377" y="316"/>
                  </a:lnTo>
                  <a:lnTo>
                    <a:pt x="382" y="311"/>
                  </a:lnTo>
                  <a:lnTo>
                    <a:pt x="382" y="300"/>
                  </a:lnTo>
                  <a:lnTo>
                    <a:pt x="388" y="294"/>
                  </a:lnTo>
                  <a:lnTo>
                    <a:pt x="393" y="289"/>
                  </a:lnTo>
                  <a:lnTo>
                    <a:pt x="398" y="283"/>
                  </a:lnTo>
                  <a:lnTo>
                    <a:pt x="404" y="278"/>
                  </a:lnTo>
                  <a:lnTo>
                    <a:pt x="409" y="272"/>
                  </a:lnTo>
                  <a:lnTo>
                    <a:pt x="415" y="267"/>
                  </a:lnTo>
                  <a:lnTo>
                    <a:pt x="415" y="256"/>
                  </a:lnTo>
                  <a:lnTo>
                    <a:pt x="415" y="251"/>
                  </a:lnTo>
                  <a:lnTo>
                    <a:pt x="415" y="245"/>
                  </a:lnTo>
                  <a:lnTo>
                    <a:pt x="420" y="240"/>
                  </a:lnTo>
                  <a:lnTo>
                    <a:pt x="426" y="229"/>
                  </a:lnTo>
                  <a:lnTo>
                    <a:pt x="431" y="229"/>
                  </a:lnTo>
                  <a:lnTo>
                    <a:pt x="442" y="223"/>
                  </a:lnTo>
                  <a:lnTo>
                    <a:pt x="448" y="218"/>
                  </a:lnTo>
                  <a:lnTo>
                    <a:pt x="458" y="213"/>
                  </a:lnTo>
                  <a:lnTo>
                    <a:pt x="464" y="207"/>
                  </a:lnTo>
                  <a:lnTo>
                    <a:pt x="469" y="202"/>
                  </a:lnTo>
                  <a:lnTo>
                    <a:pt x="480" y="196"/>
                  </a:lnTo>
                  <a:lnTo>
                    <a:pt x="486" y="191"/>
                  </a:lnTo>
                  <a:lnTo>
                    <a:pt x="497" y="185"/>
                  </a:lnTo>
                  <a:lnTo>
                    <a:pt x="508" y="180"/>
                  </a:lnTo>
                  <a:lnTo>
                    <a:pt x="513" y="180"/>
                  </a:lnTo>
                  <a:lnTo>
                    <a:pt x="518" y="185"/>
                  </a:lnTo>
                  <a:lnTo>
                    <a:pt x="524" y="196"/>
                  </a:lnTo>
                  <a:lnTo>
                    <a:pt x="529" y="202"/>
                  </a:lnTo>
                  <a:lnTo>
                    <a:pt x="540" y="202"/>
                  </a:lnTo>
                  <a:lnTo>
                    <a:pt x="546" y="207"/>
                  </a:lnTo>
                  <a:lnTo>
                    <a:pt x="557" y="213"/>
                  </a:lnTo>
                  <a:lnTo>
                    <a:pt x="562" y="218"/>
                  </a:lnTo>
                  <a:lnTo>
                    <a:pt x="568" y="229"/>
                  </a:lnTo>
                  <a:lnTo>
                    <a:pt x="573" y="234"/>
                  </a:lnTo>
                  <a:lnTo>
                    <a:pt x="578" y="240"/>
                  </a:lnTo>
                  <a:lnTo>
                    <a:pt x="584" y="245"/>
                  </a:lnTo>
                  <a:lnTo>
                    <a:pt x="589" y="251"/>
                  </a:lnTo>
                  <a:lnTo>
                    <a:pt x="595" y="256"/>
                  </a:lnTo>
                  <a:lnTo>
                    <a:pt x="600" y="262"/>
                  </a:lnTo>
                  <a:lnTo>
                    <a:pt x="606" y="272"/>
                  </a:lnTo>
                  <a:lnTo>
                    <a:pt x="606" y="278"/>
                  </a:lnTo>
                  <a:lnTo>
                    <a:pt x="611" y="278"/>
                  </a:lnTo>
                  <a:lnTo>
                    <a:pt x="622" y="278"/>
                  </a:lnTo>
                  <a:lnTo>
                    <a:pt x="627" y="272"/>
                  </a:lnTo>
                  <a:lnTo>
                    <a:pt x="638" y="267"/>
                  </a:lnTo>
                  <a:lnTo>
                    <a:pt x="644" y="262"/>
                  </a:lnTo>
                  <a:lnTo>
                    <a:pt x="655" y="256"/>
                  </a:lnTo>
                  <a:lnTo>
                    <a:pt x="660" y="251"/>
                  </a:lnTo>
                  <a:lnTo>
                    <a:pt x="666" y="245"/>
                  </a:lnTo>
                  <a:lnTo>
                    <a:pt x="671" y="240"/>
                  </a:lnTo>
                  <a:lnTo>
                    <a:pt x="682" y="234"/>
                  </a:lnTo>
                  <a:lnTo>
                    <a:pt x="693" y="234"/>
                  </a:lnTo>
                  <a:lnTo>
                    <a:pt x="704" y="229"/>
                  </a:lnTo>
                  <a:lnTo>
                    <a:pt x="709" y="229"/>
                  </a:lnTo>
                  <a:lnTo>
                    <a:pt x="715" y="218"/>
                  </a:lnTo>
                  <a:lnTo>
                    <a:pt x="720" y="213"/>
                  </a:lnTo>
                  <a:lnTo>
                    <a:pt x="720" y="207"/>
                  </a:lnTo>
                  <a:lnTo>
                    <a:pt x="715" y="196"/>
                  </a:lnTo>
                  <a:lnTo>
                    <a:pt x="709" y="191"/>
                  </a:lnTo>
                  <a:lnTo>
                    <a:pt x="698" y="191"/>
                  </a:lnTo>
                  <a:lnTo>
                    <a:pt x="687" y="185"/>
                  </a:lnTo>
                  <a:lnTo>
                    <a:pt x="677" y="185"/>
                  </a:lnTo>
                  <a:lnTo>
                    <a:pt x="671" y="180"/>
                  </a:lnTo>
                  <a:lnTo>
                    <a:pt x="671" y="174"/>
                  </a:lnTo>
                  <a:lnTo>
                    <a:pt x="666" y="169"/>
                  </a:lnTo>
                  <a:lnTo>
                    <a:pt x="666" y="158"/>
                  </a:lnTo>
                  <a:lnTo>
                    <a:pt x="660" y="153"/>
                  </a:lnTo>
                  <a:lnTo>
                    <a:pt x="655" y="142"/>
                  </a:lnTo>
                  <a:lnTo>
                    <a:pt x="649" y="136"/>
                  </a:lnTo>
                  <a:lnTo>
                    <a:pt x="649" y="131"/>
                  </a:lnTo>
                  <a:lnTo>
                    <a:pt x="649" y="125"/>
                  </a:lnTo>
                  <a:lnTo>
                    <a:pt x="655" y="120"/>
                  </a:lnTo>
                  <a:lnTo>
                    <a:pt x="666" y="114"/>
                  </a:lnTo>
                  <a:lnTo>
                    <a:pt x="671" y="109"/>
                  </a:lnTo>
                  <a:lnTo>
                    <a:pt x="682" y="109"/>
                  </a:lnTo>
                  <a:lnTo>
                    <a:pt x="693" y="104"/>
                  </a:lnTo>
                  <a:lnTo>
                    <a:pt x="698" y="98"/>
                  </a:lnTo>
                  <a:lnTo>
                    <a:pt x="698" y="93"/>
                  </a:lnTo>
                  <a:lnTo>
                    <a:pt x="698" y="82"/>
                  </a:lnTo>
                  <a:lnTo>
                    <a:pt x="693" y="76"/>
                  </a:lnTo>
                  <a:lnTo>
                    <a:pt x="687" y="71"/>
                  </a:lnTo>
                  <a:lnTo>
                    <a:pt x="682" y="60"/>
                  </a:lnTo>
                  <a:lnTo>
                    <a:pt x="677" y="54"/>
                  </a:lnTo>
                  <a:lnTo>
                    <a:pt x="671" y="49"/>
                  </a:lnTo>
                  <a:lnTo>
                    <a:pt x="666" y="44"/>
                  </a:lnTo>
                  <a:lnTo>
                    <a:pt x="660" y="38"/>
                  </a:lnTo>
                  <a:lnTo>
                    <a:pt x="655" y="33"/>
                  </a:lnTo>
                  <a:lnTo>
                    <a:pt x="644" y="27"/>
                  </a:lnTo>
                  <a:lnTo>
                    <a:pt x="638" y="22"/>
                  </a:lnTo>
                  <a:lnTo>
                    <a:pt x="633" y="16"/>
                  </a:lnTo>
                  <a:lnTo>
                    <a:pt x="627" y="11"/>
                  </a:lnTo>
                  <a:lnTo>
                    <a:pt x="622" y="5"/>
                  </a:lnTo>
                  <a:lnTo>
                    <a:pt x="617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1" name=""/>
            <p:cNvSpPr/>
            <p:nvPr/>
          </p:nvSpPr>
          <p:spPr>
            <a:xfrm flipH="1">
              <a:off x="2668680" y="2739960"/>
              <a:ext cx="7920" cy="17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2" name=""/>
            <p:cNvSpPr/>
            <p:nvPr/>
          </p:nvSpPr>
          <p:spPr>
            <a:xfrm>
              <a:off x="2556000" y="2757600"/>
              <a:ext cx="112680" cy="206280"/>
            </a:xfrm>
            <a:custGeom>
              <a:avLst/>
              <a:gdLst/>
              <a:ahLst/>
              <a:rect l="l" t="t" r="r" b="b"/>
              <a:pathLst>
                <a:path w="71" h="130">
                  <a:moveTo>
                    <a:pt x="71" y="0"/>
                  </a:moveTo>
                  <a:lnTo>
                    <a:pt x="71" y="5"/>
                  </a:lnTo>
                  <a:lnTo>
                    <a:pt x="65" y="10"/>
                  </a:lnTo>
                  <a:lnTo>
                    <a:pt x="60" y="16"/>
                  </a:lnTo>
                  <a:lnTo>
                    <a:pt x="60" y="27"/>
                  </a:lnTo>
                  <a:lnTo>
                    <a:pt x="54" y="32"/>
                  </a:lnTo>
                  <a:lnTo>
                    <a:pt x="49" y="38"/>
                  </a:lnTo>
                  <a:lnTo>
                    <a:pt x="43" y="49"/>
                  </a:lnTo>
                  <a:lnTo>
                    <a:pt x="38" y="54"/>
                  </a:lnTo>
                  <a:lnTo>
                    <a:pt x="32" y="60"/>
                  </a:lnTo>
                  <a:lnTo>
                    <a:pt x="27" y="65"/>
                  </a:lnTo>
                  <a:lnTo>
                    <a:pt x="27" y="76"/>
                  </a:lnTo>
                  <a:lnTo>
                    <a:pt x="16" y="81"/>
                  </a:lnTo>
                  <a:lnTo>
                    <a:pt x="11" y="87"/>
                  </a:lnTo>
                  <a:lnTo>
                    <a:pt x="5" y="92"/>
                  </a:lnTo>
                  <a:lnTo>
                    <a:pt x="0" y="98"/>
                  </a:lnTo>
                  <a:lnTo>
                    <a:pt x="5" y="109"/>
                  </a:lnTo>
                  <a:lnTo>
                    <a:pt x="5" y="114"/>
                  </a:lnTo>
                  <a:lnTo>
                    <a:pt x="16" y="125"/>
                  </a:lnTo>
                  <a:lnTo>
                    <a:pt x="22" y="13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3" name=""/>
            <p:cNvSpPr/>
            <p:nvPr/>
          </p:nvSpPr>
          <p:spPr>
            <a:xfrm>
              <a:off x="2590920" y="2963880"/>
              <a:ext cx="14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4" name=""/>
            <p:cNvSpPr/>
            <p:nvPr/>
          </p:nvSpPr>
          <p:spPr>
            <a:xfrm>
              <a:off x="2573280" y="3008160"/>
              <a:ext cx="42840" cy="2556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5" y="0"/>
                  </a:moveTo>
                  <a:lnTo>
                    <a:pt x="5" y="0"/>
                  </a:lnTo>
                  <a:lnTo>
                    <a:pt x="5" y="0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5" y="5"/>
                  </a:lnTo>
                  <a:lnTo>
                    <a:pt x="5" y="11"/>
                  </a:lnTo>
                  <a:lnTo>
                    <a:pt x="5" y="11"/>
                  </a:lnTo>
                  <a:lnTo>
                    <a:pt x="5" y="11"/>
                  </a:lnTo>
                  <a:lnTo>
                    <a:pt x="5" y="11"/>
                  </a:lnTo>
                  <a:lnTo>
                    <a:pt x="5" y="11"/>
                  </a:lnTo>
                  <a:lnTo>
                    <a:pt x="5" y="11"/>
                  </a:lnTo>
                  <a:lnTo>
                    <a:pt x="5" y="11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11" y="5"/>
                  </a:lnTo>
                  <a:lnTo>
                    <a:pt x="11" y="5"/>
                  </a:lnTo>
                  <a:lnTo>
                    <a:pt x="11" y="5"/>
                  </a:lnTo>
                  <a:lnTo>
                    <a:pt x="11" y="5"/>
                  </a:lnTo>
                  <a:lnTo>
                    <a:pt x="11" y="5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21" y="5"/>
                  </a:lnTo>
                  <a:lnTo>
                    <a:pt x="21" y="5"/>
                  </a:lnTo>
                  <a:lnTo>
                    <a:pt x="27" y="5"/>
                  </a:lnTo>
                  <a:lnTo>
                    <a:pt x="27" y="5"/>
                  </a:lnTo>
                  <a:lnTo>
                    <a:pt x="27" y="5"/>
                  </a:lnTo>
                  <a:lnTo>
                    <a:pt x="27" y="11"/>
                  </a:lnTo>
                  <a:lnTo>
                    <a:pt x="21" y="11"/>
                  </a:lnTo>
                  <a:lnTo>
                    <a:pt x="21" y="11"/>
                  </a:lnTo>
                  <a:lnTo>
                    <a:pt x="21" y="11"/>
                  </a:lnTo>
                  <a:lnTo>
                    <a:pt x="21" y="16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11" y="16"/>
                  </a:lnTo>
                  <a:lnTo>
                    <a:pt x="11" y="16"/>
                  </a:lnTo>
                  <a:lnTo>
                    <a:pt x="5" y="16"/>
                  </a:lnTo>
                  <a:lnTo>
                    <a:pt x="5" y="16"/>
                  </a:lnTo>
                  <a:lnTo>
                    <a:pt x="5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0"/>
                  </a:lnTo>
                  <a:lnTo>
                    <a:pt x="0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close/>
                  <a:moveTo>
                    <a:pt x="16" y="11"/>
                  </a:moveTo>
                  <a:lnTo>
                    <a:pt x="16" y="11"/>
                  </a:lnTo>
                  <a:lnTo>
                    <a:pt x="16" y="11"/>
                  </a:lnTo>
                  <a:lnTo>
                    <a:pt x="16" y="11"/>
                  </a:lnTo>
                  <a:lnTo>
                    <a:pt x="21" y="11"/>
                  </a:lnTo>
                  <a:lnTo>
                    <a:pt x="21" y="11"/>
                  </a:lnTo>
                  <a:lnTo>
                    <a:pt x="21" y="11"/>
                  </a:lnTo>
                  <a:lnTo>
                    <a:pt x="21" y="11"/>
                  </a:lnTo>
                  <a:lnTo>
                    <a:pt x="21" y="11"/>
                  </a:lnTo>
                  <a:lnTo>
                    <a:pt x="21" y="11"/>
                  </a:lnTo>
                  <a:lnTo>
                    <a:pt x="21" y="11"/>
                  </a:lnTo>
                  <a:lnTo>
                    <a:pt x="21" y="5"/>
                  </a:lnTo>
                  <a:lnTo>
                    <a:pt x="21" y="5"/>
                  </a:lnTo>
                  <a:lnTo>
                    <a:pt x="21" y="5"/>
                  </a:lnTo>
                  <a:lnTo>
                    <a:pt x="21" y="5"/>
                  </a:lnTo>
                  <a:lnTo>
                    <a:pt x="21" y="5"/>
                  </a:lnTo>
                  <a:lnTo>
                    <a:pt x="21" y="5"/>
                  </a:lnTo>
                  <a:lnTo>
                    <a:pt x="21" y="5"/>
                  </a:lnTo>
                  <a:lnTo>
                    <a:pt x="21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5"/>
                  </a:lnTo>
                  <a:lnTo>
                    <a:pt x="11" y="5"/>
                  </a:lnTo>
                  <a:lnTo>
                    <a:pt x="11" y="5"/>
                  </a:lnTo>
                  <a:lnTo>
                    <a:pt x="11" y="5"/>
                  </a:lnTo>
                  <a:lnTo>
                    <a:pt x="11" y="5"/>
                  </a:lnTo>
                  <a:lnTo>
                    <a:pt x="11" y="5"/>
                  </a:lnTo>
                  <a:lnTo>
                    <a:pt x="11" y="5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16" y="11"/>
                  </a:lnTo>
                  <a:lnTo>
                    <a:pt x="16" y="11"/>
                  </a:lnTo>
                  <a:lnTo>
                    <a:pt x="16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5" name=""/>
            <p:cNvSpPr/>
            <p:nvPr/>
          </p:nvSpPr>
          <p:spPr>
            <a:xfrm>
              <a:off x="2573280" y="2973240"/>
              <a:ext cx="42840" cy="2556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11" y="16"/>
                  </a:moveTo>
                  <a:lnTo>
                    <a:pt x="11" y="16"/>
                  </a:lnTo>
                  <a:lnTo>
                    <a:pt x="11" y="16"/>
                  </a:lnTo>
                  <a:lnTo>
                    <a:pt x="5" y="16"/>
                  </a:lnTo>
                  <a:lnTo>
                    <a:pt x="5" y="16"/>
                  </a:lnTo>
                  <a:lnTo>
                    <a:pt x="5" y="16"/>
                  </a:lnTo>
                  <a:lnTo>
                    <a:pt x="5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1" y="5"/>
                  </a:lnTo>
                  <a:lnTo>
                    <a:pt x="21" y="5"/>
                  </a:lnTo>
                  <a:lnTo>
                    <a:pt x="21" y="5"/>
                  </a:lnTo>
                  <a:lnTo>
                    <a:pt x="21" y="5"/>
                  </a:lnTo>
                  <a:lnTo>
                    <a:pt x="21" y="5"/>
                  </a:lnTo>
                  <a:lnTo>
                    <a:pt x="27" y="5"/>
                  </a:lnTo>
                  <a:lnTo>
                    <a:pt x="27" y="5"/>
                  </a:lnTo>
                  <a:lnTo>
                    <a:pt x="27" y="11"/>
                  </a:lnTo>
                  <a:lnTo>
                    <a:pt x="27" y="11"/>
                  </a:lnTo>
                  <a:lnTo>
                    <a:pt x="27" y="11"/>
                  </a:lnTo>
                  <a:lnTo>
                    <a:pt x="27" y="11"/>
                  </a:lnTo>
                  <a:lnTo>
                    <a:pt x="21" y="16"/>
                  </a:lnTo>
                  <a:lnTo>
                    <a:pt x="21" y="16"/>
                  </a:lnTo>
                  <a:lnTo>
                    <a:pt x="21" y="16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11" y="16"/>
                  </a:lnTo>
                  <a:close/>
                  <a:moveTo>
                    <a:pt x="11" y="16"/>
                  </a:moveTo>
                  <a:lnTo>
                    <a:pt x="16" y="16"/>
                  </a:lnTo>
                  <a:lnTo>
                    <a:pt x="16" y="16"/>
                  </a:lnTo>
                  <a:lnTo>
                    <a:pt x="21" y="16"/>
                  </a:lnTo>
                  <a:lnTo>
                    <a:pt x="21" y="16"/>
                  </a:lnTo>
                  <a:lnTo>
                    <a:pt x="21" y="11"/>
                  </a:lnTo>
                  <a:lnTo>
                    <a:pt x="21" y="11"/>
                  </a:lnTo>
                  <a:lnTo>
                    <a:pt x="21" y="11"/>
                  </a:lnTo>
                  <a:lnTo>
                    <a:pt x="21" y="11"/>
                  </a:lnTo>
                  <a:lnTo>
                    <a:pt x="21" y="11"/>
                  </a:lnTo>
                  <a:lnTo>
                    <a:pt x="21" y="11"/>
                  </a:lnTo>
                  <a:lnTo>
                    <a:pt x="21" y="5"/>
                  </a:lnTo>
                  <a:lnTo>
                    <a:pt x="21" y="5"/>
                  </a:lnTo>
                  <a:lnTo>
                    <a:pt x="21" y="5"/>
                  </a:lnTo>
                  <a:lnTo>
                    <a:pt x="16" y="5"/>
                  </a:lnTo>
                  <a:lnTo>
                    <a:pt x="16" y="5"/>
                  </a:lnTo>
                  <a:lnTo>
                    <a:pt x="11" y="5"/>
                  </a:lnTo>
                  <a:lnTo>
                    <a:pt x="11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11"/>
                  </a:lnTo>
                  <a:lnTo>
                    <a:pt x="5" y="11"/>
                  </a:lnTo>
                  <a:lnTo>
                    <a:pt x="5" y="11"/>
                  </a:lnTo>
                  <a:lnTo>
                    <a:pt x="5" y="11"/>
                  </a:lnTo>
                  <a:lnTo>
                    <a:pt x="5" y="11"/>
                  </a:lnTo>
                  <a:lnTo>
                    <a:pt x="5" y="11"/>
                  </a:lnTo>
                  <a:lnTo>
                    <a:pt x="5" y="16"/>
                  </a:lnTo>
                  <a:lnTo>
                    <a:pt x="5" y="16"/>
                  </a:lnTo>
                  <a:lnTo>
                    <a:pt x="11" y="16"/>
                  </a:lnTo>
                  <a:lnTo>
                    <a:pt x="11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6" name=""/>
            <p:cNvSpPr/>
            <p:nvPr/>
          </p:nvSpPr>
          <p:spPr>
            <a:xfrm>
              <a:off x="2590920" y="3041640"/>
              <a:ext cx="1440" cy="9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7" name=""/>
            <p:cNvSpPr/>
            <p:nvPr/>
          </p:nvSpPr>
          <p:spPr>
            <a:xfrm>
              <a:off x="1854360" y="3051000"/>
              <a:ext cx="752400" cy="509760"/>
            </a:xfrm>
            <a:custGeom>
              <a:avLst/>
              <a:gdLst/>
              <a:ahLst/>
              <a:rect l="l" t="t" r="r" b="b"/>
              <a:pathLst>
                <a:path w="474" h="321">
                  <a:moveTo>
                    <a:pt x="464" y="0"/>
                  </a:moveTo>
                  <a:lnTo>
                    <a:pt x="464" y="11"/>
                  </a:lnTo>
                  <a:lnTo>
                    <a:pt x="458" y="16"/>
                  </a:lnTo>
                  <a:lnTo>
                    <a:pt x="453" y="27"/>
                  </a:lnTo>
                  <a:lnTo>
                    <a:pt x="453" y="33"/>
                  </a:lnTo>
                  <a:lnTo>
                    <a:pt x="447" y="38"/>
                  </a:lnTo>
                  <a:lnTo>
                    <a:pt x="442" y="43"/>
                  </a:lnTo>
                  <a:lnTo>
                    <a:pt x="436" y="54"/>
                  </a:lnTo>
                  <a:lnTo>
                    <a:pt x="436" y="60"/>
                  </a:lnTo>
                  <a:lnTo>
                    <a:pt x="436" y="65"/>
                  </a:lnTo>
                  <a:lnTo>
                    <a:pt x="431" y="76"/>
                  </a:lnTo>
                  <a:lnTo>
                    <a:pt x="425" y="82"/>
                  </a:lnTo>
                  <a:lnTo>
                    <a:pt x="420" y="87"/>
                  </a:lnTo>
                  <a:lnTo>
                    <a:pt x="415" y="93"/>
                  </a:lnTo>
                  <a:lnTo>
                    <a:pt x="409" y="103"/>
                  </a:lnTo>
                  <a:lnTo>
                    <a:pt x="409" y="109"/>
                  </a:lnTo>
                  <a:lnTo>
                    <a:pt x="415" y="120"/>
                  </a:lnTo>
                  <a:lnTo>
                    <a:pt x="415" y="131"/>
                  </a:lnTo>
                  <a:lnTo>
                    <a:pt x="425" y="136"/>
                  </a:lnTo>
                  <a:lnTo>
                    <a:pt x="431" y="142"/>
                  </a:lnTo>
                  <a:lnTo>
                    <a:pt x="442" y="142"/>
                  </a:lnTo>
                  <a:lnTo>
                    <a:pt x="453" y="131"/>
                  </a:lnTo>
                  <a:lnTo>
                    <a:pt x="458" y="125"/>
                  </a:lnTo>
                  <a:lnTo>
                    <a:pt x="464" y="120"/>
                  </a:lnTo>
                  <a:lnTo>
                    <a:pt x="469" y="114"/>
                  </a:lnTo>
                  <a:lnTo>
                    <a:pt x="474" y="114"/>
                  </a:lnTo>
                  <a:lnTo>
                    <a:pt x="474" y="120"/>
                  </a:lnTo>
                  <a:lnTo>
                    <a:pt x="474" y="131"/>
                  </a:lnTo>
                  <a:lnTo>
                    <a:pt x="474" y="142"/>
                  </a:lnTo>
                  <a:lnTo>
                    <a:pt x="474" y="147"/>
                  </a:lnTo>
                  <a:lnTo>
                    <a:pt x="474" y="158"/>
                  </a:lnTo>
                  <a:lnTo>
                    <a:pt x="469" y="163"/>
                  </a:lnTo>
                  <a:lnTo>
                    <a:pt x="464" y="169"/>
                  </a:lnTo>
                  <a:lnTo>
                    <a:pt x="458" y="180"/>
                  </a:lnTo>
                  <a:lnTo>
                    <a:pt x="458" y="185"/>
                  </a:lnTo>
                  <a:lnTo>
                    <a:pt x="453" y="191"/>
                  </a:lnTo>
                  <a:lnTo>
                    <a:pt x="447" y="196"/>
                  </a:lnTo>
                  <a:lnTo>
                    <a:pt x="447" y="207"/>
                  </a:lnTo>
                  <a:lnTo>
                    <a:pt x="447" y="218"/>
                  </a:lnTo>
                  <a:lnTo>
                    <a:pt x="442" y="223"/>
                  </a:lnTo>
                  <a:lnTo>
                    <a:pt x="436" y="223"/>
                  </a:lnTo>
                  <a:lnTo>
                    <a:pt x="425" y="218"/>
                  </a:lnTo>
                  <a:lnTo>
                    <a:pt x="420" y="212"/>
                  </a:lnTo>
                  <a:lnTo>
                    <a:pt x="409" y="207"/>
                  </a:lnTo>
                  <a:lnTo>
                    <a:pt x="409" y="196"/>
                  </a:lnTo>
                  <a:lnTo>
                    <a:pt x="409" y="191"/>
                  </a:lnTo>
                  <a:lnTo>
                    <a:pt x="409" y="180"/>
                  </a:lnTo>
                  <a:lnTo>
                    <a:pt x="415" y="174"/>
                  </a:lnTo>
                  <a:lnTo>
                    <a:pt x="425" y="169"/>
                  </a:lnTo>
                  <a:lnTo>
                    <a:pt x="431" y="163"/>
                  </a:lnTo>
                  <a:lnTo>
                    <a:pt x="436" y="152"/>
                  </a:lnTo>
                  <a:lnTo>
                    <a:pt x="436" y="147"/>
                  </a:lnTo>
                  <a:lnTo>
                    <a:pt x="436" y="142"/>
                  </a:lnTo>
                  <a:lnTo>
                    <a:pt x="431" y="131"/>
                  </a:lnTo>
                  <a:lnTo>
                    <a:pt x="425" y="120"/>
                  </a:lnTo>
                  <a:lnTo>
                    <a:pt x="420" y="114"/>
                  </a:lnTo>
                  <a:lnTo>
                    <a:pt x="409" y="114"/>
                  </a:lnTo>
                  <a:lnTo>
                    <a:pt x="404" y="114"/>
                  </a:lnTo>
                  <a:lnTo>
                    <a:pt x="404" y="120"/>
                  </a:lnTo>
                  <a:lnTo>
                    <a:pt x="398" y="125"/>
                  </a:lnTo>
                  <a:lnTo>
                    <a:pt x="398" y="136"/>
                  </a:lnTo>
                  <a:lnTo>
                    <a:pt x="398" y="147"/>
                  </a:lnTo>
                  <a:lnTo>
                    <a:pt x="398" y="158"/>
                  </a:lnTo>
                  <a:lnTo>
                    <a:pt x="393" y="163"/>
                  </a:lnTo>
                  <a:lnTo>
                    <a:pt x="387" y="169"/>
                  </a:lnTo>
                  <a:lnTo>
                    <a:pt x="382" y="174"/>
                  </a:lnTo>
                  <a:lnTo>
                    <a:pt x="371" y="180"/>
                  </a:lnTo>
                  <a:lnTo>
                    <a:pt x="365" y="185"/>
                  </a:lnTo>
                  <a:lnTo>
                    <a:pt x="365" y="191"/>
                  </a:lnTo>
                  <a:lnTo>
                    <a:pt x="360" y="202"/>
                  </a:lnTo>
                  <a:lnTo>
                    <a:pt x="360" y="207"/>
                  </a:lnTo>
                  <a:lnTo>
                    <a:pt x="355" y="218"/>
                  </a:lnTo>
                  <a:lnTo>
                    <a:pt x="349" y="223"/>
                  </a:lnTo>
                  <a:lnTo>
                    <a:pt x="344" y="229"/>
                  </a:lnTo>
                  <a:lnTo>
                    <a:pt x="333" y="234"/>
                  </a:lnTo>
                  <a:lnTo>
                    <a:pt x="327" y="240"/>
                  </a:lnTo>
                  <a:lnTo>
                    <a:pt x="316" y="245"/>
                  </a:lnTo>
                  <a:lnTo>
                    <a:pt x="311" y="251"/>
                  </a:lnTo>
                  <a:lnTo>
                    <a:pt x="300" y="256"/>
                  </a:lnTo>
                  <a:lnTo>
                    <a:pt x="295" y="267"/>
                  </a:lnTo>
                  <a:lnTo>
                    <a:pt x="284" y="267"/>
                  </a:lnTo>
                  <a:lnTo>
                    <a:pt x="278" y="267"/>
                  </a:lnTo>
                  <a:lnTo>
                    <a:pt x="273" y="261"/>
                  </a:lnTo>
                  <a:lnTo>
                    <a:pt x="267" y="256"/>
                  </a:lnTo>
                  <a:lnTo>
                    <a:pt x="256" y="245"/>
                  </a:lnTo>
                  <a:lnTo>
                    <a:pt x="251" y="240"/>
                  </a:lnTo>
                  <a:lnTo>
                    <a:pt x="235" y="240"/>
                  </a:lnTo>
                  <a:lnTo>
                    <a:pt x="224" y="245"/>
                  </a:lnTo>
                  <a:lnTo>
                    <a:pt x="218" y="251"/>
                  </a:lnTo>
                  <a:lnTo>
                    <a:pt x="213" y="256"/>
                  </a:lnTo>
                  <a:lnTo>
                    <a:pt x="207" y="267"/>
                  </a:lnTo>
                  <a:lnTo>
                    <a:pt x="202" y="272"/>
                  </a:lnTo>
                  <a:lnTo>
                    <a:pt x="196" y="278"/>
                  </a:lnTo>
                  <a:lnTo>
                    <a:pt x="186" y="283"/>
                  </a:lnTo>
                  <a:lnTo>
                    <a:pt x="175" y="289"/>
                  </a:lnTo>
                  <a:lnTo>
                    <a:pt x="164" y="289"/>
                  </a:lnTo>
                  <a:lnTo>
                    <a:pt x="153" y="294"/>
                  </a:lnTo>
                  <a:lnTo>
                    <a:pt x="153" y="300"/>
                  </a:lnTo>
                  <a:lnTo>
                    <a:pt x="147" y="311"/>
                  </a:lnTo>
                  <a:lnTo>
                    <a:pt x="142" y="316"/>
                  </a:lnTo>
                  <a:lnTo>
                    <a:pt x="131" y="321"/>
                  </a:lnTo>
                  <a:lnTo>
                    <a:pt x="120" y="321"/>
                  </a:lnTo>
                  <a:lnTo>
                    <a:pt x="109" y="321"/>
                  </a:lnTo>
                  <a:lnTo>
                    <a:pt x="98" y="316"/>
                  </a:lnTo>
                  <a:lnTo>
                    <a:pt x="93" y="311"/>
                  </a:lnTo>
                  <a:lnTo>
                    <a:pt x="87" y="305"/>
                  </a:lnTo>
                  <a:lnTo>
                    <a:pt x="82" y="300"/>
                  </a:lnTo>
                  <a:lnTo>
                    <a:pt x="71" y="294"/>
                  </a:lnTo>
                  <a:lnTo>
                    <a:pt x="60" y="289"/>
                  </a:lnTo>
                  <a:lnTo>
                    <a:pt x="49" y="289"/>
                  </a:lnTo>
                  <a:lnTo>
                    <a:pt x="38" y="289"/>
                  </a:lnTo>
                  <a:lnTo>
                    <a:pt x="27" y="289"/>
                  </a:lnTo>
                  <a:lnTo>
                    <a:pt x="16" y="289"/>
                  </a:lnTo>
                  <a:lnTo>
                    <a:pt x="6" y="278"/>
                  </a:lnTo>
                  <a:lnTo>
                    <a:pt x="0" y="272"/>
                  </a:lnTo>
                  <a:lnTo>
                    <a:pt x="0" y="26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8" name=""/>
            <p:cNvSpPr/>
            <p:nvPr/>
          </p:nvSpPr>
          <p:spPr>
            <a:xfrm flipH="1">
              <a:off x="1828800" y="3475080"/>
              <a:ext cx="7920" cy="7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9" name=""/>
            <p:cNvSpPr/>
            <p:nvPr/>
          </p:nvSpPr>
          <p:spPr>
            <a:xfrm>
              <a:off x="1776240" y="3483000"/>
              <a:ext cx="416160" cy="165240"/>
            </a:xfrm>
            <a:custGeom>
              <a:avLst/>
              <a:gdLst/>
              <a:ahLst/>
              <a:rect l="l" t="t" r="r" b="b"/>
              <a:pathLst>
                <a:path w="262" h="104">
                  <a:moveTo>
                    <a:pt x="33" y="0"/>
                  </a:moveTo>
                  <a:lnTo>
                    <a:pt x="22" y="6"/>
                  </a:lnTo>
                  <a:lnTo>
                    <a:pt x="16" y="11"/>
                  </a:lnTo>
                  <a:lnTo>
                    <a:pt x="11" y="11"/>
                  </a:lnTo>
                  <a:lnTo>
                    <a:pt x="6" y="17"/>
                  </a:lnTo>
                  <a:lnTo>
                    <a:pt x="6" y="22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6" y="44"/>
                  </a:lnTo>
                  <a:lnTo>
                    <a:pt x="11" y="44"/>
                  </a:lnTo>
                  <a:lnTo>
                    <a:pt x="16" y="49"/>
                  </a:lnTo>
                  <a:lnTo>
                    <a:pt x="22" y="55"/>
                  </a:lnTo>
                  <a:lnTo>
                    <a:pt x="33" y="55"/>
                  </a:lnTo>
                  <a:lnTo>
                    <a:pt x="38" y="60"/>
                  </a:lnTo>
                  <a:lnTo>
                    <a:pt x="49" y="60"/>
                  </a:lnTo>
                  <a:lnTo>
                    <a:pt x="55" y="66"/>
                  </a:lnTo>
                  <a:lnTo>
                    <a:pt x="65" y="66"/>
                  </a:lnTo>
                  <a:lnTo>
                    <a:pt x="71" y="66"/>
                  </a:lnTo>
                  <a:lnTo>
                    <a:pt x="82" y="71"/>
                  </a:lnTo>
                  <a:lnTo>
                    <a:pt x="87" y="71"/>
                  </a:lnTo>
                  <a:lnTo>
                    <a:pt x="98" y="71"/>
                  </a:lnTo>
                  <a:lnTo>
                    <a:pt x="109" y="71"/>
                  </a:lnTo>
                  <a:lnTo>
                    <a:pt x="115" y="77"/>
                  </a:lnTo>
                  <a:lnTo>
                    <a:pt x="125" y="77"/>
                  </a:lnTo>
                  <a:lnTo>
                    <a:pt x="131" y="77"/>
                  </a:lnTo>
                  <a:lnTo>
                    <a:pt x="142" y="82"/>
                  </a:lnTo>
                  <a:lnTo>
                    <a:pt x="147" y="88"/>
                  </a:lnTo>
                  <a:lnTo>
                    <a:pt x="147" y="93"/>
                  </a:lnTo>
                  <a:lnTo>
                    <a:pt x="158" y="98"/>
                  </a:lnTo>
                  <a:lnTo>
                    <a:pt x="164" y="98"/>
                  </a:lnTo>
                  <a:lnTo>
                    <a:pt x="175" y="98"/>
                  </a:lnTo>
                  <a:lnTo>
                    <a:pt x="185" y="98"/>
                  </a:lnTo>
                  <a:lnTo>
                    <a:pt x="191" y="98"/>
                  </a:lnTo>
                  <a:lnTo>
                    <a:pt x="202" y="98"/>
                  </a:lnTo>
                  <a:lnTo>
                    <a:pt x="207" y="98"/>
                  </a:lnTo>
                  <a:lnTo>
                    <a:pt x="218" y="104"/>
                  </a:lnTo>
                  <a:lnTo>
                    <a:pt x="229" y="104"/>
                  </a:lnTo>
                  <a:lnTo>
                    <a:pt x="235" y="104"/>
                  </a:lnTo>
                  <a:lnTo>
                    <a:pt x="245" y="98"/>
                  </a:lnTo>
                  <a:lnTo>
                    <a:pt x="256" y="98"/>
                  </a:lnTo>
                  <a:lnTo>
                    <a:pt x="262" y="9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0" name=""/>
            <p:cNvSpPr/>
            <p:nvPr/>
          </p:nvSpPr>
          <p:spPr>
            <a:xfrm>
              <a:off x="2192400" y="3638520"/>
              <a:ext cx="14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1" name=""/>
            <p:cNvSpPr/>
            <p:nvPr/>
          </p:nvSpPr>
          <p:spPr>
            <a:xfrm>
              <a:off x="2209680" y="3665520"/>
              <a:ext cx="33480" cy="34920"/>
            </a:xfrm>
            <a:custGeom>
              <a:avLst/>
              <a:gdLst/>
              <a:ahLst/>
              <a:rect l="l" t="t" r="r" b="b"/>
              <a:pathLst>
                <a:path w="21" h="22">
                  <a:moveTo>
                    <a:pt x="0" y="11"/>
                  </a:moveTo>
                  <a:lnTo>
                    <a:pt x="5" y="11"/>
                  </a:lnTo>
                  <a:lnTo>
                    <a:pt x="5" y="11"/>
                  </a:lnTo>
                  <a:lnTo>
                    <a:pt x="5" y="11"/>
                  </a:lnTo>
                  <a:lnTo>
                    <a:pt x="0" y="11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5" y="16"/>
                  </a:lnTo>
                  <a:lnTo>
                    <a:pt x="5" y="16"/>
                  </a:lnTo>
                  <a:lnTo>
                    <a:pt x="5" y="16"/>
                  </a:lnTo>
                  <a:lnTo>
                    <a:pt x="5" y="16"/>
                  </a:lnTo>
                  <a:lnTo>
                    <a:pt x="5" y="16"/>
                  </a:lnTo>
                  <a:lnTo>
                    <a:pt x="5" y="16"/>
                  </a:lnTo>
                  <a:lnTo>
                    <a:pt x="5" y="16"/>
                  </a:lnTo>
                  <a:lnTo>
                    <a:pt x="5" y="16"/>
                  </a:lnTo>
                  <a:lnTo>
                    <a:pt x="11" y="16"/>
                  </a:lnTo>
                  <a:lnTo>
                    <a:pt x="11" y="16"/>
                  </a:lnTo>
                  <a:lnTo>
                    <a:pt x="11" y="16"/>
                  </a:lnTo>
                  <a:lnTo>
                    <a:pt x="11" y="16"/>
                  </a:lnTo>
                  <a:lnTo>
                    <a:pt x="16" y="16"/>
                  </a:lnTo>
                  <a:lnTo>
                    <a:pt x="11" y="16"/>
                  </a:lnTo>
                  <a:lnTo>
                    <a:pt x="11" y="16"/>
                  </a:lnTo>
                  <a:lnTo>
                    <a:pt x="11" y="16"/>
                  </a:lnTo>
                  <a:lnTo>
                    <a:pt x="11" y="16"/>
                  </a:lnTo>
                  <a:lnTo>
                    <a:pt x="11" y="16"/>
                  </a:lnTo>
                  <a:lnTo>
                    <a:pt x="11" y="16"/>
                  </a:lnTo>
                  <a:lnTo>
                    <a:pt x="11" y="16"/>
                  </a:lnTo>
                  <a:lnTo>
                    <a:pt x="5" y="11"/>
                  </a:lnTo>
                  <a:lnTo>
                    <a:pt x="5" y="11"/>
                  </a:lnTo>
                  <a:lnTo>
                    <a:pt x="5" y="11"/>
                  </a:lnTo>
                  <a:lnTo>
                    <a:pt x="5" y="11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11" y="5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1" y="0"/>
                  </a:lnTo>
                  <a:lnTo>
                    <a:pt x="21" y="5"/>
                  </a:lnTo>
                  <a:lnTo>
                    <a:pt x="21" y="5"/>
                  </a:lnTo>
                  <a:lnTo>
                    <a:pt x="21" y="5"/>
                  </a:lnTo>
                  <a:lnTo>
                    <a:pt x="21" y="5"/>
                  </a:lnTo>
                  <a:lnTo>
                    <a:pt x="21" y="11"/>
                  </a:lnTo>
                  <a:lnTo>
                    <a:pt x="21" y="11"/>
                  </a:lnTo>
                  <a:lnTo>
                    <a:pt x="21" y="11"/>
                  </a:lnTo>
                  <a:lnTo>
                    <a:pt x="21" y="16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16" y="22"/>
                  </a:lnTo>
                  <a:lnTo>
                    <a:pt x="11" y="22"/>
                  </a:lnTo>
                  <a:lnTo>
                    <a:pt x="11" y="22"/>
                  </a:lnTo>
                  <a:lnTo>
                    <a:pt x="5" y="22"/>
                  </a:lnTo>
                  <a:lnTo>
                    <a:pt x="5" y="22"/>
                  </a:lnTo>
                  <a:lnTo>
                    <a:pt x="5" y="22"/>
                  </a:lnTo>
                  <a:lnTo>
                    <a:pt x="0" y="2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close/>
                  <a:moveTo>
                    <a:pt x="16" y="11"/>
                  </a:moveTo>
                  <a:lnTo>
                    <a:pt x="16" y="11"/>
                  </a:lnTo>
                  <a:lnTo>
                    <a:pt x="16" y="11"/>
                  </a:lnTo>
                  <a:lnTo>
                    <a:pt x="21" y="11"/>
                  </a:lnTo>
                  <a:lnTo>
                    <a:pt x="21" y="11"/>
                  </a:lnTo>
                  <a:lnTo>
                    <a:pt x="21" y="11"/>
                  </a:lnTo>
                  <a:lnTo>
                    <a:pt x="21" y="11"/>
                  </a:lnTo>
                  <a:lnTo>
                    <a:pt x="21" y="11"/>
                  </a:lnTo>
                  <a:lnTo>
                    <a:pt x="21" y="5"/>
                  </a:lnTo>
                  <a:lnTo>
                    <a:pt x="21" y="5"/>
                  </a:lnTo>
                  <a:lnTo>
                    <a:pt x="21" y="5"/>
                  </a:lnTo>
                  <a:lnTo>
                    <a:pt x="21" y="5"/>
                  </a:lnTo>
                  <a:lnTo>
                    <a:pt x="21" y="5"/>
                  </a:lnTo>
                  <a:lnTo>
                    <a:pt x="16" y="5"/>
                  </a:lnTo>
                  <a:lnTo>
                    <a:pt x="16" y="5"/>
                  </a:lnTo>
                  <a:lnTo>
                    <a:pt x="16" y="5"/>
                  </a:lnTo>
                  <a:lnTo>
                    <a:pt x="16" y="5"/>
                  </a:lnTo>
                  <a:lnTo>
                    <a:pt x="16" y="5"/>
                  </a:lnTo>
                  <a:lnTo>
                    <a:pt x="16" y="5"/>
                  </a:lnTo>
                  <a:lnTo>
                    <a:pt x="11" y="5"/>
                  </a:lnTo>
                  <a:lnTo>
                    <a:pt x="11" y="5"/>
                  </a:lnTo>
                  <a:lnTo>
                    <a:pt x="11" y="5"/>
                  </a:lnTo>
                  <a:lnTo>
                    <a:pt x="11" y="5"/>
                  </a:lnTo>
                  <a:lnTo>
                    <a:pt x="11" y="5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11" y="16"/>
                  </a:lnTo>
                  <a:lnTo>
                    <a:pt x="11" y="16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16" y="11"/>
                  </a:lnTo>
                  <a:lnTo>
                    <a:pt x="16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2" name=""/>
            <p:cNvSpPr/>
            <p:nvPr/>
          </p:nvSpPr>
          <p:spPr>
            <a:xfrm>
              <a:off x="2192400" y="3638520"/>
              <a:ext cx="34920" cy="3492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16" y="22"/>
                  </a:moveTo>
                  <a:lnTo>
                    <a:pt x="16" y="22"/>
                  </a:lnTo>
                  <a:lnTo>
                    <a:pt x="11" y="22"/>
                  </a:lnTo>
                  <a:lnTo>
                    <a:pt x="11" y="22"/>
                  </a:lnTo>
                  <a:lnTo>
                    <a:pt x="11" y="22"/>
                  </a:lnTo>
                  <a:lnTo>
                    <a:pt x="11" y="22"/>
                  </a:lnTo>
                  <a:lnTo>
                    <a:pt x="5" y="22"/>
                  </a:lnTo>
                  <a:lnTo>
                    <a:pt x="5" y="22"/>
                  </a:lnTo>
                  <a:lnTo>
                    <a:pt x="5" y="22"/>
                  </a:lnTo>
                  <a:lnTo>
                    <a:pt x="5" y="2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5" y="11"/>
                  </a:lnTo>
                  <a:lnTo>
                    <a:pt x="5" y="6"/>
                  </a:lnTo>
                  <a:lnTo>
                    <a:pt x="5" y="6"/>
                  </a:lnTo>
                  <a:lnTo>
                    <a:pt x="5" y="6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6"/>
                  </a:lnTo>
                  <a:lnTo>
                    <a:pt x="22" y="6"/>
                  </a:lnTo>
                  <a:lnTo>
                    <a:pt x="22" y="6"/>
                  </a:lnTo>
                  <a:lnTo>
                    <a:pt x="22" y="6"/>
                  </a:lnTo>
                  <a:lnTo>
                    <a:pt x="22" y="6"/>
                  </a:lnTo>
                  <a:lnTo>
                    <a:pt x="22" y="6"/>
                  </a:lnTo>
                  <a:lnTo>
                    <a:pt x="22" y="11"/>
                  </a:lnTo>
                  <a:lnTo>
                    <a:pt x="22" y="11"/>
                  </a:lnTo>
                  <a:lnTo>
                    <a:pt x="22" y="11"/>
                  </a:lnTo>
                  <a:lnTo>
                    <a:pt x="22" y="17"/>
                  </a:lnTo>
                  <a:lnTo>
                    <a:pt x="16" y="17"/>
                  </a:lnTo>
                  <a:lnTo>
                    <a:pt x="16" y="22"/>
                  </a:lnTo>
                  <a:close/>
                  <a:moveTo>
                    <a:pt x="16" y="17"/>
                  </a:moveTo>
                  <a:lnTo>
                    <a:pt x="16" y="17"/>
                  </a:lnTo>
                  <a:lnTo>
                    <a:pt x="16" y="11"/>
                  </a:lnTo>
                  <a:lnTo>
                    <a:pt x="16" y="11"/>
                  </a:lnTo>
                  <a:lnTo>
                    <a:pt x="22" y="11"/>
                  </a:lnTo>
                  <a:lnTo>
                    <a:pt x="22" y="11"/>
                  </a:lnTo>
                  <a:lnTo>
                    <a:pt x="22" y="11"/>
                  </a:lnTo>
                  <a:lnTo>
                    <a:pt x="22" y="6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5" y="11"/>
                  </a:lnTo>
                  <a:lnTo>
                    <a:pt x="5" y="11"/>
                  </a:lnTo>
                  <a:lnTo>
                    <a:pt x="5" y="11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5" y="17"/>
                  </a:lnTo>
                  <a:lnTo>
                    <a:pt x="5" y="22"/>
                  </a:lnTo>
                  <a:lnTo>
                    <a:pt x="5" y="22"/>
                  </a:lnTo>
                  <a:lnTo>
                    <a:pt x="5" y="22"/>
                  </a:lnTo>
                  <a:lnTo>
                    <a:pt x="5" y="22"/>
                  </a:lnTo>
                  <a:lnTo>
                    <a:pt x="5" y="22"/>
                  </a:lnTo>
                  <a:lnTo>
                    <a:pt x="11" y="22"/>
                  </a:lnTo>
                  <a:lnTo>
                    <a:pt x="11" y="17"/>
                  </a:lnTo>
                  <a:lnTo>
                    <a:pt x="16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3" name=""/>
            <p:cNvSpPr/>
            <p:nvPr/>
          </p:nvSpPr>
          <p:spPr>
            <a:xfrm>
              <a:off x="2243160" y="3708360"/>
              <a:ext cx="14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4" name=""/>
            <p:cNvSpPr/>
            <p:nvPr/>
          </p:nvSpPr>
          <p:spPr>
            <a:xfrm>
              <a:off x="2243160" y="3708360"/>
              <a:ext cx="61920" cy="25560"/>
            </a:xfrm>
            <a:custGeom>
              <a:avLst/>
              <a:gdLst/>
              <a:ahLst/>
              <a:rect l="l" t="t" r="r" b="b"/>
              <a:pathLst>
                <a:path w="39" h="16">
                  <a:moveTo>
                    <a:pt x="0" y="0"/>
                  </a:moveTo>
                  <a:lnTo>
                    <a:pt x="0" y="6"/>
                  </a:lnTo>
                  <a:lnTo>
                    <a:pt x="6" y="11"/>
                  </a:lnTo>
                  <a:lnTo>
                    <a:pt x="17" y="11"/>
                  </a:lnTo>
                  <a:lnTo>
                    <a:pt x="22" y="16"/>
                  </a:lnTo>
                  <a:lnTo>
                    <a:pt x="33" y="16"/>
                  </a:lnTo>
                  <a:lnTo>
                    <a:pt x="39" y="1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5" name=""/>
            <p:cNvSpPr/>
            <p:nvPr/>
          </p:nvSpPr>
          <p:spPr>
            <a:xfrm>
              <a:off x="2546280" y="3726000"/>
              <a:ext cx="972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6" y="5"/>
                  </a:move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0" y="5"/>
                  </a:lnTo>
                  <a:lnTo>
                    <a:pt x="6" y="5"/>
                  </a:lnTo>
                  <a:lnTo>
                    <a:pt x="6" y="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6" name=""/>
            <p:cNvSpPr/>
            <p:nvPr/>
          </p:nvSpPr>
          <p:spPr>
            <a:xfrm flipV="1">
              <a:off x="5281560" y="3673080"/>
              <a:ext cx="9720" cy="9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7" name=""/>
            <p:cNvSpPr/>
            <p:nvPr/>
          </p:nvSpPr>
          <p:spPr>
            <a:xfrm>
              <a:off x="5291280" y="3605040"/>
              <a:ext cx="17280" cy="68400"/>
            </a:xfrm>
            <a:custGeom>
              <a:avLst/>
              <a:gdLst/>
              <a:ahLst/>
              <a:rect l="l" t="t" r="r" b="b"/>
              <a:pathLst>
                <a:path w="11" h="43">
                  <a:moveTo>
                    <a:pt x="0" y="43"/>
                  </a:moveTo>
                  <a:lnTo>
                    <a:pt x="5" y="38"/>
                  </a:lnTo>
                  <a:lnTo>
                    <a:pt x="5" y="32"/>
                  </a:lnTo>
                  <a:lnTo>
                    <a:pt x="11" y="21"/>
                  </a:lnTo>
                  <a:lnTo>
                    <a:pt x="5" y="16"/>
                  </a:lnTo>
                  <a:lnTo>
                    <a:pt x="5" y="11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8" name=""/>
            <p:cNvSpPr/>
            <p:nvPr/>
          </p:nvSpPr>
          <p:spPr>
            <a:xfrm>
              <a:off x="5291280" y="3605040"/>
              <a:ext cx="14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9" name=""/>
            <p:cNvSpPr/>
            <p:nvPr/>
          </p:nvSpPr>
          <p:spPr>
            <a:xfrm>
              <a:off x="5256360" y="3648240"/>
              <a:ext cx="42840" cy="2520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11" y="0"/>
                  </a:moveTo>
                  <a:lnTo>
                    <a:pt x="11" y="5"/>
                  </a:lnTo>
                  <a:lnTo>
                    <a:pt x="11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11"/>
                  </a:lnTo>
                  <a:lnTo>
                    <a:pt x="5" y="11"/>
                  </a:lnTo>
                  <a:lnTo>
                    <a:pt x="5" y="11"/>
                  </a:lnTo>
                  <a:lnTo>
                    <a:pt x="5" y="11"/>
                  </a:lnTo>
                  <a:lnTo>
                    <a:pt x="5" y="11"/>
                  </a:lnTo>
                  <a:lnTo>
                    <a:pt x="5" y="11"/>
                  </a:lnTo>
                  <a:lnTo>
                    <a:pt x="5" y="11"/>
                  </a:lnTo>
                  <a:lnTo>
                    <a:pt x="5" y="11"/>
                  </a:lnTo>
                  <a:lnTo>
                    <a:pt x="11" y="11"/>
                  </a:lnTo>
                  <a:lnTo>
                    <a:pt x="11" y="16"/>
                  </a:lnTo>
                  <a:lnTo>
                    <a:pt x="11" y="16"/>
                  </a:lnTo>
                  <a:lnTo>
                    <a:pt x="11" y="16"/>
                  </a:lnTo>
                  <a:lnTo>
                    <a:pt x="11" y="16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11" y="5"/>
                  </a:lnTo>
                  <a:lnTo>
                    <a:pt x="11" y="5"/>
                  </a:lnTo>
                  <a:lnTo>
                    <a:pt x="11" y="5"/>
                  </a:lnTo>
                  <a:lnTo>
                    <a:pt x="16" y="5"/>
                  </a:lnTo>
                  <a:lnTo>
                    <a:pt x="16" y="5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5"/>
                  </a:lnTo>
                  <a:lnTo>
                    <a:pt x="22" y="5"/>
                  </a:lnTo>
                  <a:lnTo>
                    <a:pt x="22" y="5"/>
                  </a:lnTo>
                  <a:lnTo>
                    <a:pt x="27" y="5"/>
                  </a:lnTo>
                  <a:lnTo>
                    <a:pt x="27" y="5"/>
                  </a:lnTo>
                  <a:lnTo>
                    <a:pt x="27" y="5"/>
                  </a:lnTo>
                  <a:lnTo>
                    <a:pt x="27" y="5"/>
                  </a:lnTo>
                  <a:lnTo>
                    <a:pt x="27" y="11"/>
                  </a:lnTo>
                  <a:lnTo>
                    <a:pt x="27" y="11"/>
                  </a:lnTo>
                  <a:lnTo>
                    <a:pt x="27" y="11"/>
                  </a:lnTo>
                  <a:lnTo>
                    <a:pt x="27" y="11"/>
                  </a:lnTo>
                  <a:lnTo>
                    <a:pt x="27" y="11"/>
                  </a:lnTo>
                  <a:lnTo>
                    <a:pt x="27" y="16"/>
                  </a:lnTo>
                  <a:lnTo>
                    <a:pt x="27" y="16"/>
                  </a:lnTo>
                  <a:lnTo>
                    <a:pt x="22" y="16"/>
                  </a:lnTo>
                  <a:lnTo>
                    <a:pt x="22" y="16"/>
                  </a:lnTo>
                  <a:lnTo>
                    <a:pt x="22" y="16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11" y="16"/>
                  </a:lnTo>
                  <a:lnTo>
                    <a:pt x="11" y="16"/>
                  </a:lnTo>
                  <a:lnTo>
                    <a:pt x="5" y="16"/>
                  </a:lnTo>
                  <a:lnTo>
                    <a:pt x="5" y="11"/>
                  </a:lnTo>
                  <a:lnTo>
                    <a:pt x="5" y="11"/>
                  </a:lnTo>
                  <a:lnTo>
                    <a:pt x="5" y="11"/>
                  </a:lnTo>
                  <a:lnTo>
                    <a:pt x="0" y="11"/>
                  </a:lnTo>
                  <a:lnTo>
                    <a:pt x="0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11" y="0"/>
                  </a:lnTo>
                  <a:lnTo>
                    <a:pt x="11" y="0"/>
                  </a:lnTo>
                  <a:close/>
                  <a:moveTo>
                    <a:pt x="16" y="16"/>
                  </a:moveTo>
                  <a:lnTo>
                    <a:pt x="16" y="16"/>
                  </a:lnTo>
                  <a:lnTo>
                    <a:pt x="22" y="16"/>
                  </a:lnTo>
                  <a:lnTo>
                    <a:pt x="22" y="16"/>
                  </a:lnTo>
                  <a:lnTo>
                    <a:pt x="22" y="16"/>
                  </a:lnTo>
                  <a:lnTo>
                    <a:pt x="22" y="16"/>
                  </a:lnTo>
                  <a:lnTo>
                    <a:pt x="22" y="16"/>
                  </a:lnTo>
                  <a:lnTo>
                    <a:pt x="22" y="16"/>
                  </a:lnTo>
                  <a:lnTo>
                    <a:pt x="22" y="11"/>
                  </a:lnTo>
                  <a:lnTo>
                    <a:pt x="22" y="11"/>
                  </a:lnTo>
                  <a:lnTo>
                    <a:pt x="22" y="11"/>
                  </a:lnTo>
                  <a:lnTo>
                    <a:pt x="27" y="11"/>
                  </a:lnTo>
                  <a:lnTo>
                    <a:pt x="27" y="11"/>
                  </a:lnTo>
                  <a:lnTo>
                    <a:pt x="27" y="11"/>
                  </a:lnTo>
                  <a:lnTo>
                    <a:pt x="27" y="11"/>
                  </a:lnTo>
                  <a:lnTo>
                    <a:pt x="22" y="11"/>
                  </a:lnTo>
                  <a:lnTo>
                    <a:pt x="22" y="5"/>
                  </a:lnTo>
                  <a:lnTo>
                    <a:pt x="22" y="5"/>
                  </a:lnTo>
                  <a:lnTo>
                    <a:pt x="22" y="5"/>
                  </a:lnTo>
                  <a:lnTo>
                    <a:pt x="22" y="5"/>
                  </a:lnTo>
                  <a:lnTo>
                    <a:pt x="22" y="5"/>
                  </a:lnTo>
                  <a:lnTo>
                    <a:pt x="16" y="5"/>
                  </a:lnTo>
                  <a:lnTo>
                    <a:pt x="16" y="5"/>
                  </a:lnTo>
                  <a:lnTo>
                    <a:pt x="16" y="5"/>
                  </a:lnTo>
                  <a:lnTo>
                    <a:pt x="16" y="5"/>
                  </a:lnTo>
                  <a:lnTo>
                    <a:pt x="16" y="5"/>
                  </a:lnTo>
                  <a:lnTo>
                    <a:pt x="16" y="5"/>
                  </a:lnTo>
                  <a:lnTo>
                    <a:pt x="16" y="11"/>
                  </a:lnTo>
                  <a:lnTo>
                    <a:pt x="16" y="11"/>
                  </a:lnTo>
                  <a:lnTo>
                    <a:pt x="16" y="11"/>
                  </a:lnTo>
                  <a:lnTo>
                    <a:pt x="16" y="11"/>
                  </a:lnTo>
                  <a:lnTo>
                    <a:pt x="16" y="11"/>
                  </a:lnTo>
                  <a:lnTo>
                    <a:pt x="16" y="11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16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0" name=""/>
            <p:cNvSpPr/>
            <p:nvPr/>
          </p:nvSpPr>
          <p:spPr>
            <a:xfrm>
              <a:off x="5264280" y="3622680"/>
              <a:ext cx="44280" cy="25560"/>
            </a:xfrm>
            <a:custGeom>
              <a:avLst/>
              <a:gdLst/>
              <a:ahLst/>
              <a:rect l="l" t="t" r="r" b="b"/>
              <a:pathLst>
                <a:path w="28" h="16">
                  <a:moveTo>
                    <a:pt x="11" y="16"/>
                  </a:moveTo>
                  <a:lnTo>
                    <a:pt x="11" y="16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0"/>
                  </a:lnTo>
                  <a:lnTo>
                    <a:pt x="0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5"/>
                  </a:lnTo>
                  <a:lnTo>
                    <a:pt x="22" y="5"/>
                  </a:lnTo>
                  <a:lnTo>
                    <a:pt x="22" y="5"/>
                  </a:lnTo>
                  <a:lnTo>
                    <a:pt x="28" y="5"/>
                  </a:lnTo>
                  <a:lnTo>
                    <a:pt x="28" y="5"/>
                  </a:lnTo>
                  <a:lnTo>
                    <a:pt x="28" y="5"/>
                  </a:lnTo>
                  <a:lnTo>
                    <a:pt x="28" y="10"/>
                  </a:lnTo>
                  <a:lnTo>
                    <a:pt x="22" y="10"/>
                  </a:lnTo>
                  <a:lnTo>
                    <a:pt x="22" y="10"/>
                  </a:lnTo>
                  <a:lnTo>
                    <a:pt x="22" y="10"/>
                  </a:lnTo>
                  <a:lnTo>
                    <a:pt x="22" y="16"/>
                  </a:lnTo>
                  <a:lnTo>
                    <a:pt x="22" y="16"/>
                  </a:lnTo>
                  <a:lnTo>
                    <a:pt x="17" y="16"/>
                  </a:lnTo>
                  <a:lnTo>
                    <a:pt x="17" y="16"/>
                  </a:lnTo>
                  <a:lnTo>
                    <a:pt x="11" y="16"/>
                  </a:lnTo>
                  <a:close/>
                  <a:moveTo>
                    <a:pt x="11" y="10"/>
                  </a:moveTo>
                  <a:lnTo>
                    <a:pt x="17" y="10"/>
                  </a:lnTo>
                  <a:lnTo>
                    <a:pt x="17" y="10"/>
                  </a:lnTo>
                  <a:lnTo>
                    <a:pt x="17" y="10"/>
                  </a:lnTo>
                  <a:lnTo>
                    <a:pt x="22" y="10"/>
                  </a:lnTo>
                  <a:lnTo>
                    <a:pt x="22" y="10"/>
                  </a:lnTo>
                  <a:lnTo>
                    <a:pt x="22" y="10"/>
                  </a:lnTo>
                  <a:lnTo>
                    <a:pt x="22" y="10"/>
                  </a:lnTo>
                  <a:lnTo>
                    <a:pt x="22" y="10"/>
                  </a:lnTo>
                  <a:lnTo>
                    <a:pt x="22" y="5"/>
                  </a:lnTo>
                  <a:lnTo>
                    <a:pt x="22" y="5"/>
                  </a:lnTo>
                  <a:lnTo>
                    <a:pt x="22" y="5"/>
                  </a:lnTo>
                  <a:lnTo>
                    <a:pt x="22" y="5"/>
                  </a:lnTo>
                  <a:lnTo>
                    <a:pt x="22" y="5"/>
                  </a:lnTo>
                  <a:lnTo>
                    <a:pt x="17" y="5"/>
                  </a:lnTo>
                  <a:lnTo>
                    <a:pt x="17" y="5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6" y="5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11" y="10"/>
                  </a:lnTo>
                  <a:lnTo>
                    <a:pt x="11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1" name=""/>
            <p:cNvSpPr/>
            <p:nvPr/>
          </p:nvSpPr>
          <p:spPr>
            <a:xfrm>
              <a:off x="5273640" y="3691080"/>
              <a:ext cx="18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2" name=""/>
            <p:cNvSpPr/>
            <p:nvPr/>
          </p:nvSpPr>
          <p:spPr>
            <a:xfrm>
              <a:off x="5273640" y="36831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5"/>
                  </a:moveTo>
                  <a:lnTo>
                    <a:pt x="5" y="5"/>
                  </a:lnTo>
                  <a:lnTo>
                    <a:pt x="5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3" name=""/>
            <p:cNvSpPr/>
            <p:nvPr/>
          </p:nvSpPr>
          <p:spPr>
            <a:xfrm flipH="1" flipV="1">
              <a:off x="1740960" y="3560400"/>
              <a:ext cx="34920" cy="17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4" name=""/>
            <p:cNvSpPr/>
            <p:nvPr/>
          </p:nvSpPr>
          <p:spPr>
            <a:xfrm flipV="1">
              <a:off x="1741320" y="3578040"/>
              <a:ext cx="34920" cy="34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5" name=""/>
            <p:cNvSpPr/>
            <p:nvPr/>
          </p:nvSpPr>
          <p:spPr>
            <a:xfrm>
              <a:off x="3809880" y="3527280"/>
              <a:ext cx="9720" cy="180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6" y="0"/>
                  </a:move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6" y="0"/>
                  </a:lnTo>
                  <a:lnTo>
                    <a:pt x="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6" name=""/>
            <p:cNvSpPr/>
            <p:nvPr/>
          </p:nvSpPr>
          <p:spPr>
            <a:xfrm flipV="1">
              <a:off x="5351400" y="3517920"/>
              <a:ext cx="7920" cy="9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7" name=""/>
            <p:cNvSpPr/>
            <p:nvPr/>
          </p:nvSpPr>
          <p:spPr>
            <a:xfrm flipV="1">
              <a:off x="5359320" y="3499920"/>
              <a:ext cx="9720" cy="17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8" name=""/>
            <p:cNvSpPr/>
            <p:nvPr/>
          </p:nvSpPr>
          <p:spPr>
            <a:xfrm>
              <a:off x="5369040" y="3500280"/>
              <a:ext cx="14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9" name=""/>
            <p:cNvSpPr/>
            <p:nvPr/>
          </p:nvSpPr>
          <p:spPr>
            <a:xfrm>
              <a:off x="5326200" y="3535200"/>
              <a:ext cx="33120" cy="34920"/>
            </a:xfrm>
            <a:custGeom>
              <a:avLst/>
              <a:gdLst/>
              <a:ahLst/>
              <a:rect l="l" t="t" r="r" b="b"/>
              <a:pathLst>
                <a:path w="21" h="22">
                  <a:moveTo>
                    <a:pt x="10" y="0"/>
                  </a:move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5" y="11"/>
                  </a:lnTo>
                  <a:lnTo>
                    <a:pt x="5" y="11"/>
                  </a:lnTo>
                  <a:lnTo>
                    <a:pt x="5" y="11"/>
                  </a:lnTo>
                  <a:lnTo>
                    <a:pt x="5" y="11"/>
                  </a:lnTo>
                  <a:lnTo>
                    <a:pt x="5" y="11"/>
                  </a:lnTo>
                  <a:lnTo>
                    <a:pt x="5" y="11"/>
                  </a:lnTo>
                  <a:lnTo>
                    <a:pt x="5" y="11"/>
                  </a:lnTo>
                  <a:lnTo>
                    <a:pt x="5" y="11"/>
                  </a:lnTo>
                  <a:lnTo>
                    <a:pt x="5" y="11"/>
                  </a:lnTo>
                  <a:lnTo>
                    <a:pt x="5" y="11"/>
                  </a:lnTo>
                  <a:lnTo>
                    <a:pt x="5" y="6"/>
                  </a:lnTo>
                  <a:lnTo>
                    <a:pt x="5" y="6"/>
                  </a:lnTo>
                  <a:lnTo>
                    <a:pt x="5" y="6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21" y="6"/>
                  </a:lnTo>
                  <a:lnTo>
                    <a:pt x="21" y="6"/>
                  </a:lnTo>
                  <a:lnTo>
                    <a:pt x="21" y="6"/>
                  </a:lnTo>
                  <a:lnTo>
                    <a:pt x="21" y="11"/>
                  </a:lnTo>
                  <a:lnTo>
                    <a:pt x="21" y="11"/>
                  </a:lnTo>
                  <a:lnTo>
                    <a:pt x="21" y="11"/>
                  </a:lnTo>
                  <a:lnTo>
                    <a:pt x="21" y="11"/>
                  </a:lnTo>
                  <a:lnTo>
                    <a:pt x="21" y="11"/>
                  </a:lnTo>
                  <a:lnTo>
                    <a:pt x="21" y="16"/>
                  </a:lnTo>
                  <a:lnTo>
                    <a:pt x="21" y="16"/>
                  </a:lnTo>
                  <a:lnTo>
                    <a:pt x="21" y="16"/>
                  </a:lnTo>
                  <a:lnTo>
                    <a:pt x="21" y="16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16" y="22"/>
                  </a:lnTo>
                  <a:lnTo>
                    <a:pt x="10" y="22"/>
                  </a:lnTo>
                  <a:lnTo>
                    <a:pt x="10" y="16"/>
                  </a:lnTo>
                  <a:lnTo>
                    <a:pt x="10" y="16"/>
                  </a:lnTo>
                  <a:lnTo>
                    <a:pt x="5" y="16"/>
                  </a:lnTo>
                  <a:lnTo>
                    <a:pt x="5" y="16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10" y="0"/>
                  </a:lnTo>
                  <a:close/>
                  <a:moveTo>
                    <a:pt x="10" y="16"/>
                  </a:moveTo>
                  <a:lnTo>
                    <a:pt x="10" y="16"/>
                  </a:lnTo>
                  <a:lnTo>
                    <a:pt x="10" y="16"/>
                  </a:lnTo>
                  <a:lnTo>
                    <a:pt x="10" y="16"/>
                  </a:lnTo>
                  <a:lnTo>
                    <a:pt x="10" y="16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16" y="11"/>
                  </a:lnTo>
                  <a:lnTo>
                    <a:pt x="16" y="11"/>
                  </a:lnTo>
                  <a:lnTo>
                    <a:pt x="16" y="11"/>
                  </a:lnTo>
                  <a:lnTo>
                    <a:pt x="16" y="11"/>
                  </a:lnTo>
                  <a:lnTo>
                    <a:pt x="16" y="11"/>
                  </a:lnTo>
                  <a:lnTo>
                    <a:pt x="16" y="11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11"/>
                  </a:lnTo>
                  <a:lnTo>
                    <a:pt x="10" y="11"/>
                  </a:lnTo>
                  <a:lnTo>
                    <a:pt x="10" y="11"/>
                  </a:lnTo>
                  <a:lnTo>
                    <a:pt x="5" y="11"/>
                  </a:lnTo>
                  <a:lnTo>
                    <a:pt x="10" y="11"/>
                  </a:lnTo>
                  <a:lnTo>
                    <a:pt x="10" y="11"/>
                  </a:lnTo>
                  <a:lnTo>
                    <a:pt x="10" y="16"/>
                  </a:lnTo>
                  <a:lnTo>
                    <a:pt x="10" y="16"/>
                  </a:lnTo>
                  <a:lnTo>
                    <a:pt x="10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0" name=""/>
            <p:cNvSpPr/>
            <p:nvPr/>
          </p:nvSpPr>
          <p:spPr>
            <a:xfrm>
              <a:off x="5342040" y="3510000"/>
              <a:ext cx="34920" cy="3492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6" y="16"/>
                  </a:moveTo>
                  <a:lnTo>
                    <a:pt x="6" y="16"/>
                  </a:lnTo>
                  <a:lnTo>
                    <a:pt x="0" y="16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5"/>
                  </a:lnTo>
                  <a:lnTo>
                    <a:pt x="17" y="5"/>
                  </a:lnTo>
                  <a:lnTo>
                    <a:pt x="17" y="5"/>
                  </a:lnTo>
                  <a:lnTo>
                    <a:pt x="17" y="5"/>
                  </a:lnTo>
                  <a:lnTo>
                    <a:pt x="17" y="5"/>
                  </a:lnTo>
                  <a:lnTo>
                    <a:pt x="22" y="11"/>
                  </a:lnTo>
                  <a:lnTo>
                    <a:pt x="22" y="11"/>
                  </a:lnTo>
                  <a:lnTo>
                    <a:pt x="22" y="11"/>
                  </a:lnTo>
                  <a:lnTo>
                    <a:pt x="22" y="11"/>
                  </a:lnTo>
                  <a:lnTo>
                    <a:pt x="22" y="11"/>
                  </a:lnTo>
                  <a:lnTo>
                    <a:pt x="22" y="16"/>
                  </a:lnTo>
                  <a:lnTo>
                    <a:pt x="22" y="16"/>
                  </a:lnTo>
                  <a:lnTo>
                    <a:pt x="22" y="16"/>
                  </a:lnTo>
                  <a:lnTo>
                    <a:pt x="17" y="16"/>
                  </a:lnTo>
                  <a:lnTo>
                    <a:pt x="17" y="16"/>
                  </a:lnTo>
                  <a:lnTo>
                    <a:pt x="17" y="22"/>
                  </a:lnTo>
                  <a:lnTo>
                    <a:pt x="17" y="22"/>
                  </a:lnTo>
                  <a:lnTo>
                    <a:pt x="11" y="22"/>
                  </a:lnTo>
                  <a:lnTo>
                    <a:pt x="11" y="22"/>
                  </a:lnTo>
                  <a:lnTo>
                    <a:pt x="6" y="16"/>
                  </a:lnTo>
                  <a:lnTo>
                    <a:pt x="6" y="16"/>
                  </a:lnTo>
                  <a:close/>
                  <a:moveTo>
                    <a:pt x="6" y="16"/>
                  </a:moveTo>
                  <a:lnTo>
                    <a:pt x="11" y="16"/>
                  </a:lnTo>
                  <a:lnTo>
                    <a:pt x="11" y="16"/>
                  </a:lnTo>
                  <a:lnTo>
                    <a:pt x="11" y="16"/>
                  </a:lnTo>
                  <a:lnTo>
                    <a:pt x="17" y="16"/>
                  </a:lnTo>
                  <a:lnTo>
                    <a:pt x="17" y="16"/>
                  </a:lnTo>
                  <a:lnTo>
                    <a:pt x="17" y="16"/>
                  </a:lnTo>
                  <a:lnTo>
                    <a:pt x="17" y="16"/>
                  </a:lnTo>
                  <a:lnTo>
                    <a:pt x="17" y="16"/>
                  </a:lnTo>
                  <a:lnTo>
                    <a:pt x="17" y="16"/>
                  </a:lnTo>
                  <a:lnTo>
                    <a:pt x="17" y="11"/>
                  </a:lnTo>
                  <a:lnTo>
                    <a:pt x="17" y="11"/>
                  </a:lnTo>
                  <a:lnTo>
                    <a:pt x="17" y="11"/>
                  </a:lnTo>
                  <a:lnTo>
                    <a:pt x="17" y="11"/>
                  </a:lnTo>
                  <a:lnTo>
                    <a:pt x="17" y="11"/>
                  </a:lnTo>
                  <a:lnTo>
                    <a:pt x="17" y="5"/>
                  </a:lnTo>
                  <a:lnTo>
                    <a:pt x="11" y="5"/>
                  </a:lnTo>
                  <a:lnTo>
                    <a:pt x="11" y="5"/>
                  </a:lnTo>
                  <a:lnTo>
                    <a:pt x="6" y="5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6" y="11"/>
                  </a:lnTo>
                  <a:lnTo>
                    <a:pt x="6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1" name=""/>
            <p:cNvSpPr/>
            <p:nvPr/>
          </p:nvSpPr>
          <p:spPr>
            <a:xfrm>
              <a:off x="5326200" y="3570120"/>
              <a:ext cx="1440" cy="8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2" name=""/>
            <p:cNvSpPr/>
            <p:nvPr/>
          </p:nvSpPr>
          <p:spPr>
            <a:xfrm>
              <a:off x="5326200" y="3527280"/>
              <a:ext cx="25200" cy="51120"/>
            </a:xfrm>
            <a:custGeom>
              <a:avLst/>
              <a:gdLst/>
              <a:ahLst/>
              <a:rect l="l" t="t" r="r" b="b"/>
              <a:pathLst>
                <a:path w="16" h="32">
                  <a:moveTo>
                    <a:pt x="0" y="32"/>
                  </a:moveTo>
                  <a:lnTo>
                    <a:pt x="5" y="32"/>
                  </a:lnTo>
                  <a:lnTo>
                    <a:pt x="5" y="27"/>
                  </a:lnTo>
                  <a:lnTo>
                    <a:pt x="10" y="16"/>
                  </a:lnTo>
                  <a:lnTo>
                    <a:pt x="1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3" name=""/>
            <p:cNvSpPr/>
            <p:nvPr/>
          </p:nvSpPr>
          <p:spPr>
            <a:xfrm flipV="1">
              <a:off x="5394240" y="3414600"/>
              <a:ext cx="1800" cy="7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4" name=""/>
            <p:cNvSpPr/>
            <p:nvPr/>
          </p:nvSpPr>
          <p:spPr>
            <a:xfrm>
              <a:off x="5386320" y="3371760"/>
              <a:ext cx="7920" cy="42840"/>
            </a:xfrm>
            <a:custGeom>
              <a:avLst/>
              <a:gdLst/>
              <a:ahLst/>
              <a:rect l="l" t="t" r="r" b="b"/>
              <a:pathLst>
                <a:path w="5" h="27">
                  <a:moveTo>
                    <a:pt x="5" y="27"/>
                  </a:moveTo>
                  <a:lnTo>
                    <a:pt x="5" y="21"/>
                  </a:lnTo>
                  <a:lnTo>
                    <a:pt x="5" y="16"/>
                  </a:lnTo>
                  <a:lnTo>
                    <a:pt x="5" y="10"/>
                  </a:lnTo>
                  <a:lnTo>
                    <a:pt x="5" y="5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5" name=""/>
            <p:cNvSpPr/>
            <p:nvPr/>
          </p:nvSpPr>
          <p:spPr>
            <a:xfrm>
              <a:off x="5386320" y="3371760"/>
              <a:ext cx="18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6" name=""/>
            <p:cNvSpPr/>
            <p:nvPr/>
          </p:nvSpPr>
          <p:spPr>
            <a:xfrm>
              <a:off x="5359320" y="3414600"/>
              <a:ext cx="34920" cy="25560"/>
            </a:xfrm>
            <a:custGeom>
              <a:avLst/>
              <a:gdLst/>
              <a:ahLst/>
              <a:rect l="l" t="t" r="r" b="b"/>
              <a:pathLst>
                <a:path w="22" h="16">
                  <a:moveTo>
                    <a:pt x="6" y="0"/>
                  </a:move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6" y="11"/>
                  </a:lnTo>
                  <a:lnTo>
                    <a:pt x="6" y="11"/>
                  </a:lnTo>
                  <a:lnTo>
                    <a:pt x="6" y="11"/>
                  </a:lnTo>
                  <a:lnTo>
                    <a:pt x="6" y="11"/>
                  </a:lnTo>
                  <a:lnTo>
                    <a:pt x="6" y="11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6" y="11"/>
                  </a:lnTo>
                  <a:lnTo>
                    <a:pt x="6" y="11"/>
                  </a:lnTo>
                  <a:lnTo>
                    <a:pt x="6" y="11"/>
                  </a:lnTo>
                  <a:lnTo>
                    <a:pt x="6" y="11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11" y="5"/>
                  </a:lnTo>
                  <a:lnTo>
                    <a:pt x="11" y="5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5"/>
                  </a:lnTo>
                  <a:lnTo>
                    <a:pt x="22" y="5"/>
                  </a:lnTo>
                  <a:lnTo>
                    <a:pt x="22" y="5"/>
                  </a:lnTo>
                  <a:lnTo>
                    <a:pt x="22" y="5"/>
                  </a:lnTo>
                  <a:lnTo>
                    <a:pt x="22" y="5"/>
                  </a:lnTo>
                  <a:lnTo>
                    <a:pt x="22" y="5"/>
                  </a:lnTo>
                  <a:lnTo>
                    <a:pt x="22" y="11"/>
                  </a:lnTo>
                  <a:lnTo>
                    <a:pt x="22" y="11"/>
                  </a:lnTo>
                  <a:lnTo>
                    <a:pt x="22" y="11"/>
                  </a:lnTo>
                  <a:lnTo>
                    <a:pt x="22" y="16"/>
                  </a:lnTo>
                  <a:lnTo>
                    <a:pt x="22" y="16"/>
                  </a:lnTo>
                  <a:lnTo>
                    <a:pt x="17" y="16"/>
                  </a:lnTo>
                  <a:lnTo>
                    <a:pt x="17" y="16"/>
                  </a:lnTo>
                  <a:lnTo>
                    <a:pt x="17" y="16"/>
                  </a:lnTo>
                  <a:lnTo>
                    <a:pt x="11" y="16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0" y="16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close/>
                  <a:moveTo>
                    <a:pt x="17" y="11"/>
                  </a:moveTo>
                  <a:lnTo>
                    <a:pt x="17" y="11"/>
                  </a:lnTo>
                  <a:lnTo>
                    <a:pt x="17" y="11"/>
                  </a:lnTo>
                  <a:lnTo>
                    <a:pt x="17" y="11"/>
                  </a:lnTo>
                  <a:lnTo>
                    <a:pt x="17" y="11"/>
                  </a:lnTo>
                  <a:lnTo>
                    <a:pt x="17" y="11"/>
                  </a:lnTo>
                  <a:lnTo>
                    <a:pt x="17" y="11"/>
                  </a:lnTo>
                  <a:lnTo>
                    <a:pt x="22" y="11"/>
                  </a:lnTo>
                  <a:lnTo>
                    <a:pt x="22" y="11"/>
                  </a:lnTo>
                  <a:lnTo>
                    <a:pt x="22" y="11"/>
                  </a:lnTo>
                  <a:lnTo>
                    <a:pt x="22" y="11"/>
                  </a:lnTo>
                  <a:lnTo>
                    <a:pt x="22" y="11"/>
                  </a:lnTo>
                  <a:lnTo>
                    <a:pt x="22" y="11"/>
                  </a:lnTo>
                  <a:lnTo>
                    <a:pt x="22" y="5"/>
                  </a:lnTo>
                  <a:lnTo>
                    <a:pt x="22" y="5"/>
                  </a:lnTo>
                  <a:lnTo>
                    <a:pt x="22" y="5"/>
                  </a:lnTo>
                  <a:lnTo>
                    <a:pt x="22" y="5"/>
                  </a:lnTo>
                  <a:lnTo>
                    <a:pt x="22" y="5"/>
                  </a:lnTo>
                  <a:lnTo>
                    <a:pt x="17" y="5"/>
                  </a:lnTo>
                  <a:lnTo>
                    <a:pt x="17" y="5"/>
                  </a:lnTo>
                  <a:lnTo>
                    <a:pt x="17" y="5"/>
                  </a:lnTo>
                  <a:lnTo>
                    <a:pt x="17" y="5"/>
                  </a:lnTo>
                  <a:lnTo>
                    <a:pt x="17" y="5"/>
                  </a:lnTo>
                  <a:lnTo>
                    <a:pt x="11" y="5"/>
                  </a:lnTo>
                  <a:lnTo>
                    <a:pt x="11" y="5"/>
                  </a:lnTo>
                  <a:lnTo>
                    <a:pt x="11" y="5"/>
                  </a:lnTo>
                  <a:lnTo>
                    <a:pt x="11" y="5"/>
                  </a:lnTo>
                  <a:lnTo>
                    <a:pt x="11" y="5"/>
                  </a:lnTo>
                  <a:lnTo>
                    <a:pt x="11" y="5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17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7" name=""/>
            <p:cNvSpPr/>
            <p:nvPr/>
          </p:nvSpPr>
          <p:spPr>
            <a:xfrm>
              <a:off x="5359320" y="3387600"/>
              <a:ext cx="44640" cy="27000"/>
            </a:xfrm>
            <a:custGeom>
              <a:avLst/>
              <a:gdLst/>
              <a:ahLst/>
              <a:rect l="l" t="t" r="r" b="b"/>
              <a:pathLst>
                <a:path w="28" h="17">
                  <a:moveTo>
                    <a:pt x="11" y="11"/>
                  </a:moveTo>
                  <a:lnTo>
                    <a:pt x="11" y="11"/>
                  </a:lnTo>
                  <a:lnTo>
                    <a:pt x="11" y="11"/>
                  </a:lnTo>
                  <a:lnTo>
                    <a:pt x="6" y="11"/>
                  </a:lnTo>
                  <a:lnTo>
                    <a:pt x="6" y="11"/>
                  </a:lnTo>
                  <a:lnTo>
                    <a:pt x="6" y="11"/>
                  </a:lnTo>
                  <a:lnTo>
                    <a:pt x="6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8" y="0"/>
                  </a:lnTo>
                  <a:lnTo>
                    <a:pt x="28" y="6"/>
                  </a:lnTo>
                  <a:lnTo>
                    <a:pt x="28" y="6"/>
                  </a:lnTo>
                  <a:lnTo>
                    <a:pt x="28" y="6"/>
                  </a:lnTo>
                  <a:lnTo>
                    <a:pt x="28" y="6"/>
                  </a:lnTo>
                  <a:lnTo>
                    <a:pt x="28" y="11"/>
                  </a:lnTo>
                  <a:lnTo>
                    <a:pt x="28" y="11"/>
                  </a:lnTo>
                  <a:lnTo>
                    <a:pt x="22" y="11"/>
                  </a:lnTo>
                  <a:lnTo>
                    <a:pt x="22" y="11"/>
                  </a:lnTo>
                  <a:lnTo>
                    <a:pt x="22" y="11"/>
                  </a:lnTo>
                  <a:lnTo>
                    <a:pt x="17" y="11"/>
                  </a:lnTo>
                  <a:lnTo>
                    <a:pt x="17" y="17"/>
                  </a:lnTo>
                  <a:lnTo>
                    <a:pt x="11" y="11"/>
                  </a:lnTo>
                  <a:close/>
                  <a:moveTo>
                    <a:pt x="11" y="11"/>
                  </a:moveTo>
                  <a:lnTo>
                    <a:pt x="17" y="11"/>
                  </a:lnTo>
                  <a:lnTo>
                    <a:pt x="17" y="11"/>
                  </a:lnTo>
                  <a:lnTo>
                    <a:pt x="22" y="11"/>
                  </a:lnTo>
                  <a:lnTo>
                    <a:pt x="22" y="11"/>
                  </a:lnTo>
                  <a:lnTo>
                    <a:pt x="22" y="11"/>
                  </a:lnTo>
                  <a:lnTo>
                    <a:pt x="22" y="11"/>
                  </a:lnTo>
                  <a:lnTo>
                    <a:pt x="22" y="6"/>
                  </a:lnTo>
                  <a:lnTo>
                    <a:pt x="22" y="6"/>
                  </a:lnTo>
                  <a:lnTo>
                    <a:pt x="22" y="6"/>
                  </a:lnTo>
                  <a:lnTo>
                    <a:pt x="22" y="6"/>
                  </a:lnTo>
                  <a:lnTo>
                    <a:pt x="22" y="6"/>
                  </a:lnTo>
                  <a:lnTo>
                    <a:pt x="22" y="6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11"/>
                  </a:lnTo>
                  <a:lnTo>
                    <a:pt x="6" y="11"/>
                  </a:lnTo>
                  <a:lnTo>
                    <a:pt x="11" y="11"/>
                  </a:lnTo>
                  <a:lnTo>
                    <a:pt x="11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8" name=""/>
            <p:cNvSpPr/>
            <p:nvPr/>
          </p:nvSpPr>
          <p:spPr>
            <a:xfrm>
              <a:off x="5376960" y="3457440"/>
              <a:ext cx="14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9" name=""/>
            <p:cNvSpPr/>
            <p:nvPr/>
          </p:nvSpPr>
          <p:spPr>
            <a:xfrm>
              <a:off x="5376960" y="3422520"/>
              <a:ext cx="17280" cy="34920"/>
            </a:xfrm>
            <a:custGeom>
              <a:avLst/>
              <a:gdLst/>
              <a:ahLst/>
              <a:rect l="l" t="t" r="r" b="b"/>
              <a:pathLst>
                <a:path w="11" h="22">
                  <a:moveTo>
                    <a:pt x="0" y="22"/>
                  </a:moveTo>
                  <a:lnTo>
                    <a:pt x="0" y="22"/>
                  </a:lnTo>
                  <a:lnTo>
                    <a:pt x="6" y="22"/>
                  </a:lnTo>
                  <a:lnTo>
                    <a:pt x="6" y="11"/>
                  </a:lnTo>
                  <a:lnTo>
                    <a:pt x="11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0" name=""/>
            <p:cNvSpPr/>
            <p:nvPr/>
          </p:nvSpPr>
          <p:spPr>
            <a:xfrm>
              <a:off x="2270160" y="3284640"/>
              <a:ext cx="60120" cy="77760"/>
            </a:xfrm>
            <a:custGeom>
              <a:avLst/>
              <a:gdLst/>
              <a:ahLst/>
              <a:rect l="l" t="t" r="r" b="b"/>
              <a:pathLst>
                <a:path w="38" h="49">
                  <a:moveTo>
                    <a:pt x="38" y="27"/>
                  </a:moveTo>
                  <a:lnTo>
                    <a:pt x="33" y="11"/>
                  </a:lnTo>
                  <a:lnTo>
                    <a:pt x="27" y="5"/>
                  </a:lnTo>
                  <a:lnTo>
                    <a:pt x="22" y="0"/>
                  </a:lnTo>
                  <a:lnTo>
                    <a:pt x="16" y="0"/>
                  </a:lnTo>
                  <a:lnTo>
                    <a:pt x="11" y="0"/>
                  </a:lnTo>
                  <a:lnTo>
                    <a:pt x="5" y="11"/>
                  </a:lnTo>
                  <a:lnTo>
                    <a:pt x="0" y="16"/>
                  </a:lnTo>
                  <a:lnTo>
                    <a:pt x="0" y="27"/>
                  </a:lnTo>
                  <a:lnTo>
                    <a:pt x="5" y="38"/>
                  </a:lnTo>
                  <a:lnTo>
                    <a:pt x="11" y="44"/>
                  </a:lnTo>
                  <a:lnTo>
                    <a:pt x="22" y="49"/>
                  </a:lnTo>
                  <a:lnTo>
                    <a:pt x="27" y="44"/>
                  </a:lnTo>
                  <a:lnTo>
                    <a:pt x="33" y="38"/>
                  </a:lnTo>
                  <a:lnTo>
                    <a:pt x="38" y="2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1" name=""/>
            <p:cNvSpPr/>
            <p:nvPr/>
          </p:nvSpPr>
          <p:spPr>
            <a:xfrm>
              <a:off x="2390760" y="3214800"/>
              <a:ext cx="34920" cy="3492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11" y="22"/>
                  </a:moveTo>
                  <a:lnTo>
                    <a:pt x="11" y="17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17" y="17"/>
                  </a:lnTo>
                  <a:lnTo>
                    <a:pt x="17" y="17"/>
                  </a:lnTo>
                  <a:lnTo>
                    <a:pt x="17" y="17"/>
                  </a:lnTo>
                  <a:lnTo>
                    <a:pt x="17" y="17"/>
                  </a:lnTo>
                  <a:lnTo>
                    <a:pt x="17" y="17"/>
                  </a:lnTo>
                  <a:lnTo>
                    <a:pt x="17" y="17"/>
                  </a:lnTo>
                  <a:lnTo>
                    <a:pt x="17" y="17"/>
                  </a:lnTo>
                  <a:lnTo>
                    <a:pt x="17" y="17"/>
                  </a:lnTo>
                  <a:lnTo>
                    <a:pt x="17" y="17"/>
                  </a:lnTo>
                  <a:lnTo>
                    <a:pt x="17" y="17"/>
                  </a:lnTo>
                  <a:lnTo>
                    <a:pt x="17" y="11"/>
                  </a:lnTo>
                  <a:lnTo>
                    <a:pt x="17" y="11"/>
                  </a:lnTo>
                  <a:lnTo>
                    <a:pt x="17" y="11"/>
                  </a:lnTo>
                  <a:lnTo>
                    <a:pt x="17" y="11"/>
                  </a:lnTo>
                  <a:lnTo>
                    <a:pt x="17" y="11"/>
                  </a:lnTo>
                  <a:lnTo>
                    <a:pt x="17" y="6"/>
                  </a:lnTo>
                  <a:lnTo>
                    <a:pt x="17" y="6"/>
                  </a:lnTo>
                  <a:lnTo>
                    <a:pt x="17" y="6"/>
                  </a:lnTo>
                  <a:lnTo>
                    <a:pt x="17" y="6"/>
                  </a:lnTo>
                  <a:lnTo>
                    <a:pt x="17" y="6"/>
                  </a:lnTo>
                  <a:lnTo>
                    <a:pt x="17" y="11"/>
                  </a:lnTo>
                  <a:lnTo>
                    <a:pt x="17" y="11"/>
                  </a:lnTo>
                  <a:lnTo>
                    <a:pt x="17" y="11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6" y="17"/>
                  </a:lnTo>
                  <a:lnTo>
                    <a:pt x="6" y="17"/>
                  </a:lnTo>
                  <a:lnTo>
                    <a:pt x="6" y="17"/>
                  </a:lnTo>
                  <a:lnTo>
                    <a:pt x="6" y="17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7" y="6"/>
                  </a:lnTo>
                  <a:lnTo>
                    <a:pt x="17" y="6"/>
                  </a:lnTo>
                  <a:lnTo>
                    <a:pt x="17" y="6"/>
                  </a:lnTo>
                  <a:lnTo>
                    <a:pt x="22" y="11"/>
                  </a:lnTo>
                  <a:lnTo>
                    <a:pt x="22" y="11"/>
                  </a:lnTo>
                  <a:lnTo>
                    <a:pt x="22" y="11"/>
                  </a:lnTo>
                  <a:lnTo>
                    <a:pt x="22" y="17"/>
                  </a:lnTo>
                  <a:lnTo>
                    <a:pt x="22" y="17"/>
                  </a:lnTo>
                  <a:lnTo>
                    <a:pt x="22" y="17"/>
                  </a:lnTo>
                  <a:lnTo>
                    <a:pt x="17" y="17"/>
                  </a:lnTo>
                  <a:lnTo>
                    <a:pt x="17" y="22"/>
                  </a:lnTo>
                  <a:lnTo>
                    <a:pt x="17" y="22"/>
                  </a:lnTo>
                  <a:lnTo>
                    <a:pt x="17" y="22"/>
                  </a:lnTo>
                  <a:lnTo>
                    <a:pt x="17" y="22"/>
                  </a:lnTo>
                  <a:lnTo>
                    <a:pt x="11" y="22"/>
                  </a:lnTo>
                  <a:lnTo>
                    <a:pt x="11" y="22"/>
                  </a:lnTo>
                  <a:lnTo>
                    <a:pt x="11" y="22"/>
                  </a:lnTo>
                  <a:close/>
                  <a:moveTo>
                    <a:pt x="11" y="6"/>
                  </a:moveTo>
                  <a:lnTo>
                    <a:pt x="11" y="6"/>
                  </a:lnTo>
                  <a:lnTo>
                    <a:pt x="11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6" y="11"/>
                  </a:lnTo>
                  <a:lnTo>
                    <a:pt x="6" y="11"/>
                  </a:lnTo>
                  <a:lnTo>
                    <a:pt x="6" y="11"/>
                  </a:lnTo>
                  <a:lnTo>
                    <a:pt x="6" y="11"/>
                  </a:lnTo>
                  <a:lnTo>
                    <a:pt x="6" y="11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2" name=""/>
            <p:cNvSpPr/>
            <p:nvPr/>
          </p:nvSpPr>
          <p:spPr>
            <a:xfrm>
              <a:off x="2373480" y="3241800"/>
              <a:ext cx="34920" cy="25200"/>
            </a:xfrm>
            <a:custGeom>
              <a:avLst/>
              <a:gdLst/>
              <a:ahLst/>
              <a:rect l="l" t="t" r="r" b="b"/>
              <a:pathLst>
                <a:path w="22" h="16">
                  <a:moveTo>
                    <a:pt x="17" y="0"/>
                  </a:moveTo>
                  <a:lnTo>
                    <a:pt x="17" y="5"/>
                  </a:lnTo>
                  <a:lnTo>
                    <a:pt x="17" y="5"/>
                  </a:lnTo>
                  <a:lnTo>
                    <a:pt x="17" y="5"/>
                  </a:lnTo>
                  <a:lnTo>
                    <a:pt x="22" y="5"/>
                  </a:lnTo>
                  <a:lnTo>
                    <a:pt x="22" y="5"/>
                  </a:lnTo>
                  <a:lnTo>
                    <a:pt x="22" y="11"/>
                  </a:lnTo>
                  <a:lnTo>
                    <a:pt x="22" y="11"/>
                  </a:lnTo>
                  <a:lnTo>
                    <a:pt x="22" y="11"/>
                  </a:lnTo>
                  <a:lnTo>
                    <a:pt x="22" y="11"/>
                  </a:lnTo>
                  <a:lnTo>
                    <a:pt x="22" y="16"/>
                  </a:lnTo>
                  <a:lnTo>
                    <a:pt x="22" y="16"/>
                  </a:lnTo>
                  <a:lnTo>
                    <a:pt x="22" y="16"/>
                  </a:lnTo>
                  <a:lnTo>
                    <a:pt x="17" y="16"/>
                  </a:lnTo>
                  <a:lnTo>
                    <a:pt x="17" y="16"/>
                  </a:lnTo>
                  <a:lnTo>
                    <a:pt x="17" y="16"/>
                  </a:lnTo>
                  <a:lnTo>
                    <a:pt x="17" y="16"/>
                  </a:lnTo>
                  <a:lnTo>
                    <a:pt x="17" y="16"/>
                  </a:lnTo>
                  <a:lnTo>
                    <a:pt x="17" y="16"/>
                  </a:lnTo>
                  <a:lnTo>
                    <a:pt x="17" y="16"/>
                  </a:lnTo>
                  <a:lnTo>
                    <a:pt x="11" y="16"/>
                  </a:lnTo>
                  <a:lnTo>
                    <a:pt x="11" y="16"/>
                  </a:lnTo>
                  <a:lnTo>
                    <a:pt x="11" y="16"/>
                  </a:lnTo>
                  <a:lnTo>
                    <a:pt x="11" y="16"/>
                  </a:lnTo>
                  <a:lnTo>
                    <a:pt x="11" y="16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6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7" y="0"/>
                  </a:lnTo>
                  <a:close/>
                  <a:moveTo>
                    <a:pt x="11" y="5"/>
                  </a:moveTo>
                  <a:lnTo>
                    <a:pt x="11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11"/>
                  </a:lnTo>
                  <a:lnTo>
                    <a:pt x="6" y="11"/>
                  </a:lnTo>
                  <a:lnTo>
                    <a:pt x="6" y="11"/>
                  </a:lnTo>
                  <a:lnTo>
                    <a:pt x="11" y="11"/>
                  </a:lnTo>
                  <a:lnTo>
                    <a:pt x="11" y="16"/>
                  </a:lnTo>
                  <a:lnTo>
                    <a:pt x="11" y="16"/>
                  </a:lnTo>
                  <a:lnTo>
                    <a:pt x="11" y="16"/>
                  </a:lnTo>
                  <a:lnTo>
                    <a:pt x="17" y="16"/>
                  </a:lnTo>
                  <a:lnTo>
                    <a:pt x="17" y="16"/>
                  </a:lnTo>
                  <a:lnTo>
                    <a:pt x="17" y="16"/>
                  </a:lnTo>
                  <a:lnTo>
                    <a:pt x="17" y="16"/>
                  </a:lnTo>
                  <a:lnTo>
                    <a:pt x="17" y="11"/>
                  </a:lnTo>
                  <a:lnTo>
                    <a:pt x="17" y="11"/>
                  </a:lnTo>
                  <a:lnTo>
                    <a:pt x="17" y="11"/>
                  </a:lnTo>
                  <a:lnTo>
                    <a:pt x="17" y="11"/>
                  </a:lnTo>
                  <a:lnTo>
                    <a:pt x="17" y="11"/>
                  </a:lnTo>
                  <a:lnTo>
                    <a:pt x="17" y="5"/>
                  </a:lnTo>
                  <a:lnTo>
                    <a:pt x="17" y="5"/>
                  </a:lnTo>
                  <a:lnTo>
                    <a:pt x="11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3" name=""/>
            <p:cNvSpPr/>
            <p:nvPr/>
          </p:nvSpPr>
          <p:spPr>
            <a:xfrm>
              <a:off x="2425680" y="3206880"/>
              <a:ext cx="14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4" name=""/>
            <p:cNvSpPr/>
            <p:nvPr/>
          </p:nvSpPr>
          <p:spPr>
            <a:xfrm>
              <a:off x="2305080" y="3146400"/>
              <a:ext cx="138240" cy="155520"/>
            </a:xfrm>
            <a:custGeom>
              <a:avLst/>
              <a:gdLst/>
              <a:ahLst/>
              <a:rect l="l" t="t" r="r" b="b"/>
              <a:pathLst>
                <a:path w="87" h="98">
                  <a:moveTo>
                    <a:pt x="76" y="38"/>
                  </a:moveTo>
                  <a:lnTo>
                    <a:pt x="81" y="33"/>
                  </a:lnTo>
                  <a:lnTo>
                    <a:pt x="87" y="22"/>
                  </a:lnTo>
                  <a:lnTo>
                    <a:pt x="87" y="16"/>
                  </a:lnTo>
                  <a:lnTo>
                    <a:pt x="81" y="11"/>
                  </a:lnTo>
                  <a:lnTo>
                    <a:pt x="71" y="5"/>
                  </a:lnTo>
                  <a:lnTo>
                    <a:pt x="60" y="0"/>
                  </a:lnTo>
                  <a:lnTo>
                    <a:pt x="54" y="5"/>
                  </a:lnTo>
                  <a:lnTo>
                    <a:pt x="49" y="11"/>
                  </a:lnTo>
                  <a:lnTo>
                    <a:pt x="43" y="22"/>
                  </a:lnTo>
                  <a:lnTo>
                    <a:pt x="43" y="27"/>
                  </a:lnTo>
                  <a:lnTo>
                    <a:pt x="38" y="33"/>
                  </a:lnTo>
                  <a:lnTo>
                    <a:pt x="32" y="38"/>
                  </a:lnTo>
                  <a:lnTo>
                    <a:pt x="27" y="43"/>
                  </a:lnTo>
                  <a:lnTo>
                    <a:pt x="21" y="49"/>
                  </a:lnTo>
                  <a:lnTo>
                    <a:pt x="16" y="54"/>
                  </a:lnTo>
                  <a:lnTo>
                    <a:pt x="11" y="65"/>
                  </a:lnTo>
                  <a:lnTo>
                    <a:pt x="5" y="71"/>
                  </a:lnTo>
                  <a:lnTo>
                    <a:pt x="0" y="76"/>
                  </a:lnTo>
                  <a:lnTo>
                    <a:pt x="5" y="82"/>
                  </a:lnTo>
                  <a:lnTo>
                    <a:pt x="11" y="92"/>
                  </a:lnTo>
                  <a:lnTo>
                    <a:pt x="16" y="98"/>
                  </a:lnTo>
                  <a:lnTo>
                    <a:pt x="27" y="98"/>
                  </a:lnTo>
                  <a:lnTo>
                    <a:pt x="32" y="98"/>
                  </a:lnTo>
                  <a:lnTo>
                    <a:pt x="38" y="92"/>
                  </a:lnTo>
                  <a:lnTo>
                    <a:pt x="43" y="8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5" name=""/>
            <p:cNvSpPr/>
            <p:nvPr/>
          </p:nvSpPr>
          <p:spPr>
            <a:xfrm>
              <a:off x="6329520" y="3181320"/>
              <a:ext cx="25200" cy="60480"/>
            </a:xfrm>
            <a:custGeom>
              <a:avLst/>
              <a:gdLst/>
              <a:ahLst/>
              <a:rect l="l" t="t" r="r" b="b"/>
              <a:pathLst>
                <a:path w="16" h="38">
                  <a:moveTo>
                    <a:pt x="16" y="27"/>
                  </a:moveTo>
                  <a:lnTo>
                    <a:pt x="11" y="16"/>
                  </a:lnTo>
                  <a:lnTo>
                    <a:pt x="11" y="11"/>
                  </a:lnTo>
                  <a:lnTo>
                    <a:pt x="11" y="5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5"/>
                  </a:lnTo>
                  <a:lnTo>
                    <a:pt x="0" y="11"/>
                  </a:lnTo>
                  <a:lnTo>
                    <a:pt x="0" y="16"/>
                  </a:lnTo>
                  <a:lnTo>
                    <a:pt x="0" y="21"/>
                  </a:lnTo>
                  <a:lnTo>
                    <a:pt x="0" y="27"/>
                  </a:lnTo>
                  <a:lnTo>
                    <a:pt x="5" y="32"/>
                  </a:lnTo>
                  <a:lnTo>
                    <a:pt x="5" y="38"/>
                  </a:lnTo>
                  <a:lnTo>
                    <a:pt x="11" y="32"/>
                  </a:lnTo>
                  <a:lnTo>
                    <a:pt x="16" y="2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6" name=""/>
            <p:cNvSpPr/>
            <p:nvPr/>
          </p:nvSpPr>
          <p:spPr>
            <a:xfrm flipH="1" flipV="1">
              <a:off x="2478240" y="3103560"/>
              <a:ext cx="7920" cy="15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7" name=""/>
            <p:cNvSpPr/>
            <p:nvPr/>
          </p:nvSpPr>
          <p:spPr>
            <a:xfrm flipH="1" flipV="1">
              <a:off x="2468160" y="3086280"/>
              <a:ext cx="9720" cy="17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8" name=""/>
            <p:cNvSpPr/>
            <p:nvPr/>
          </p:nvSpPr>
          <p:spPr>
            <a:xfrm>
              <a:off x="2468520" y="3086280"/>
              <a:ext cx="18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9" name=""/>
            <p:cNvSpPr/>
            <p:nvPr/>
          </p:nvSpPr>
          <p:spPr>
            <a:xfrm>
              <a:off x="2433600" y="3119400"/>
              <a:ext cx="34920" cy="3492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6" y="0"/>
                  </a:move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6" y="11"/>
                  </a:lnTo>
                  <a:lnTo>
                    <a:pt x="6" y="11"/>
                  </a:lnTo>
                  <a:lnTo>
                    <a:pt x="6" y="17"/>
                  </a:lnTo>
                  <a:lnTo>
                    <a:pt x="6" y="17"/>
                  </a:lnTo>
                  <a:lnTo>
                    <a:pt x="6" y="17"/>
                  </a:lnTo>
                  <a:lnTo>
                    <a:pt x="6" y="17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6" y="17"/>
                  </a:lnTo>
                  <a:lnTo>
                    <a:pt x="6" y="11"/>
                  </a:lnTo>
                  <a:lnTo>
                    <a:pt x="6" y="11"/>
                  </a:lnTo>
                  <a:lnTo>
                    <a:pt x="6" y="11"/>
                  </a:lnTo>
                  <a:lnTo>
                    <a:pt x="6" y="11"/>
                  </a:lnTo>
                  <a:lnTo>
                    <a:pt x="6" y="11"/>
                  </a:lnTo>
                  <a:lnTo>
                    <a:pt x="11" y="11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7" y="6"/>
                  </a:lnTo>
                  <a:lnTo>
                    <a:pt x="17" y="6"/>
                  </a:lnTo>
                  <a:lnTo>
                    <a:pt x="17" y="6"/>
                  </a:lnTo>
                  <a:lnTo>
                    <a:pt x="17" y="6"/>
                  </a:lnTo>
                  <a:lnTo>
                    <a:pt x="22" y="6"/>
                  </a:lnTo>
                  <a:lnTo>
                    <a:pt x="22" y="6"/>
                  </a:lnTo>
                  <a:lnTo>
                    <a:pt x="22" y="6"/>
                  </a:lnTo>
                  <a:lnTo>
                    <a:pt x="22" y="6"/>
                  </a:lnTo>
                  <a:lnTo>
                    <a:pt x="22" y="11"/>
                  </a:lnTo>
                  <a:lnTo>
                    <a:pt x="22" y="11"/>
                  </a:lnTo>
                  <a:lnTo>
                    <a:pt x="22" y="11"/>
                  </a:lnTo>
                  <a:lnTo>
                    <a:pt x="22" y="11"/>
                  </a:lnTo>
                  <a:lnTo>
                    <a:pt x="22" y="11"/>
                  </a:lnTo>
                  <a:lnTo>
                    <a:pt x="22" y="11"/>
                  </a:lnTo>
                  <a:lnTo>
                    <a:pt x="22" y="17"/>
                  </a:lnTo>
                  <a:lnTo>
                    <a:pt x="22" y="17"/>
                  </a:lnTo>
                  <a:lnTo>
                    <a:pt x="22" y="17"/>
                  </a:lnTo>
                  <a:lnTo>
                    <a:pt x="22" y="17"/>
                  </a:lnTo>
                  <a:lnTo>
                    <a:pt x="22" y="22"/>
                  </a:lnTo>
                  <a:lnTo>
                    <a:pt x="17" y="22"/>
                  </a:lnTo>
                  <a:lnTo>
                    <a:pt x="17" y="22"/>
                  </a:lnTo>
                  <a:lnTo>
                    <a:pt x="11" y="22"/>
                  </a:lnTo>
                  <a:lnTo>
                    <a:pt x="11" y="22"/>
                  </a:lnTo>
                  <a:lnTo>
                    <a:pt x="6" y="17"/>
                  </a:lnTo>
                  <a:lnTo>
                    <a:pt x="6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close/>
                  <a:moveTo>
                    <a:pt x="17" y="17"/>
                  </a:moveTo>
                  <a:lnTo>
                    <a:pt x="17" y="17"/>
                  </a:lnTo>
                  <a:lnTo>
                    <a:pt x="17" y="17"/>
                  </a:lnTo>
                  <a:lnTo>
                    <a:pt x="17" y="17"/>
                  </a:lnTo>
                  <a:lnTo>
                    <a:pt x="17" y="17"/>
                  </a:lnTo>
                  <a:lnTo>
                    <a:pt x="17" y="17"/>
                  </a:lnTo>
                  <a:lnTo>
                    <a:pt x="17" y="17"/>
                  </a:lnTo>
                  <a:lnTo>
                    <a:pt x="22" y="17"/>
                  </a:lnTo>
                  <a:lnTo>
                    <a:pt x="22" y="17"/>
                  </a:lnTo>
                  <a:lnTo>
                    <a:pt x="22" y="17"/>
                  </a:lnTo>
                  <a:lnTo>
                    <a:pt x="22" y="17"/>
                  </a:lnTo>
                  <a:lnTo>
                    <a:pt x="22" y="17"/>
                  </a:lnTo>
                  <a:lnTo>
                    <a:pt x="22" y="11"/>
                  </a:lnTo>
                  <a:lnTo>
                    <a:pt x="22" y="11"/>
                  </a:lnTo>
                  <a:lnTo>
                    <a:pt x="22" y="11"/>
                  </a:lnTo>
                  <a:lnTo>
                    <a:pt x="22" y="11"/>
                  </a:lnTo>
                  <a:lnTo>
                    <a:pt x="22" y="11"/>
                  </a:lnTo>
                  <a:lnTo>
                    <a:pt x="22" y="11"/>
                  </a:lnTo>
                  <a:lnTo>
                    <a:pt x="17" y="11"/>
                  </a:lnTo>
                  <a:lnTo>
                    <a:pt x="17" y="6"/>
                  </a:lnTo>
                  <a:lnTo>
                    <a:pt x="17" y="6"/>
                  </a:lnTo>
                  <a:lnTo>
                    <a:pt x="17" y="6"/>
                  </a:lnTo>
                  <a:lnTo>
                    <a:pt x="17" y="6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17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0" name=""/>
            <p:cNvSpPr/>
            <p:nvPr/>
          </p:nvSpPr>
          <p:spPr>
            <a:xfrm>
              <a:off x="2443320" y="3094200"/>
              <a:ext cx="34920" cy="25200"/>
            </a:xfrm>
            <a:custGeom>
              <a:avLst/>
              <a:gdLst/>
              <a:ahLst/>
              <a:rect l="l" t="t" r="r" b="b"/>
              <a:pathLst>
                <a:path w="22" h="16">
                  <a:moveTo>
                    <a:pt x="11" y="16"/>
                  </a:moveTo>
                  <a:lnTo>
                    <a:pt x="5" y="16"/>
                  </a:lnTo>
                  <a:lnTo>
                    <a:pt x="5" y="16"/>
                  </a:lnTo>
                  <a:lnTo>
                    <a:pt x="5" y="16"/>
                  </a:lnTo>
                  <a:lnTo>
                    <a:pt x="0" y="16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6" y="0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22" y="6"/>
                  </a:lnTo>
                  <a:lnTo>
                    <a:pt x="22" y="6"/>
                  </a:lnTo>
                  <a:lnTo>
                    <a:pt x="22" y="6"/>
                  </a:lnTo>
                  <a:lnTo>
                    <a:pt x="22" y="6"/>
                  </a:lnTo>
                  <a:lnTo>
                    <a:pt x="22" y="6"/>
                  </a:lnTo>
                  <a:lnTo>
                    <a:pt x="22" y="11"/>
                  </a:lnTo>
                  <a:lnTo>
                    <a:pt x="22" y="11"/>
                  </a:lnTo>
                  <a:lnTo>
                    <a:pt x="22" y="11"/>
                  </a:lnTo>
                  <a:lnTo>
                    <a:pt x="22" y="11"/>
                  </a:lnTo>
                  <a:lnTo>
                    <a:pt x="22" y="16"/>
                  </a:lnTo>
                  <a:lnTo>
                    <a:pt x="22" y="16"/>
                  </a:lnTo>
                  <a:lnTo>
                    <a:pt x="22" y="16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11" y="16"/>
                  </a:lnTo>
                  <a:lnTo>
                    <a:pt x="11" y="16"/>
                  </a:lnTo>
                  <a:close/>
                  <a:moveTo>
                    <a:pt x="11" y="16"/>
                  </a:moveTo>
                  <a:lnTo>
                    <a:pt x="11" y="16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22" y="11"/>
                  </a:lnTo>
                  <a:lnTo>
                    <a:pt x="22" y="11"/>
                  </a:lnTo>
                  <a:lnTo>
                    <a:pt x="22" y="11"/>
                  </a:lnTo>
                  <a:lnTo>
                    <a:pt x="22" y="11"/>
                  </a:lnTo>
                  <a:lnTo>
                    <a:pt x="22" y="11"/>
                  </a:lnTo>
                  <a:lnTo>
                    <a:pt x="22" y="11"/>
                  </a:lnTo>
                  <a:lnTo>
                    <a:pt x="22" y="6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5" y="6"/>
                  </a:lnTo>
                  <a:lnTo>
                    <a:pt x="5" y="6"/>
                  </a:lnTo>
                  <a:lnTo>
                    <a:pt x="5" y="6"/>
                  </a:lnTo>
                  <a:lnTo>
                    <a:pt x="5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5" y="11"/>
                  </a:lnTo>
                  <a:lnTo>
                    <a:pt x="5" y="11"/>
                  </a:lnTo>
                  <a:lnTo>
                    <a:pt x="5" y="11"/>
                  </a:lnTo>
                  <a:lnTo>
                    <a:pt x="11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1" name=""/>
            <p:cNvSpPr/>
            <p:nvPr/>
          </p:nvSpPr>
          <p:spPr>
            <a:xfrm>
              <a:off x="2443320" y="3164040"/>
              <a:ext cx="7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2" name=""/>
            <p:cNvSpPr/>
            <p:nvPr/>
          </p:nvSpPr>
          <p:spPr>
            <a:xfrm>
              <a:off x="2451240" y="3119400"/>
              <a:ext cx="34920" cy="44640"/>
            </a:xfrm>
            <a:custGeom>
              <a:avLst/>
              <a:gdLst/>
              <a:ahLst/>
              <a:rect l="l" t="t" r="r" b="b"/>
              <a:pathLst>
                <a:path w="22" h="28">
                  <a:moveTo>
                    <a:pt x="0" y="28"/>
                  </a:moveTo>
                  <a:lnTo>
                    <a:pt x="11" y="28"/>
                  </a:lnTo>
                  <a:lnTo>
                    <a:pt x="17" y="17"/>
                  </a:lnTo>
                  <a:lnTo>
                    <a:pt x="2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3" name=""/>
            <p:cNvSpPr/>
            <p:nvPr/>
          </p:nvSpPr>
          <p:spPr>
            <a:xfrm>
              <a:off x="2556000" y="3025800"/>
              <a:ext cx="34920" cy="33480"/>
            </a:xfrm>
            <a:custGeom>
              <a:avLst/>
              <a:gdLst/>
              <a:ahLst/>
              <a:rect l="l" t="t" r="r" b="b"/>
              <a:pathLst>
                <a:path w="22" h="21">
                  <a:moveTo>
                    <a:pt x="5" y="16"/>
                  </a:moveTo>
                  <a:lnTo>
                    <a:pt x="11" y="16"/>
                  </a:lnTo>
                  <a:lnTo>
                    <a:pt x="11" y="16"/>
                  </a:lnTo>
                  <a:lnTo>
                    <a:pt x="11" y="16"/>
                  </a:lnTo>
                  <a:lnTo>
                    <a:pt x="11" y="16"/>
                  </a:lnTo>
                  <a:lnTo>
                    <a:pt x="11" y="16"/>
                  </a:lnTo>
                  <a:lnTo>
                    <a:pt x="11" y="16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5"/>
                  </a:lnTo>
                  <a:lnTo>
                    <a:pt x="16" y="5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1" y="10"/>
                  </a:lnTo>
                  <a:lnTo>
                    <a:pt x="11" y="10"/>
                  </a:lnTo>
                  <a:lnTo>
                    <a:pt x="11" y="10"/>
                  </a:lnTo>
                  <a:lnTo>
                    <a:pt x="11" y="10"/>
                  </a:lnTo>
                  <a:lnTo>
                    <a:pt x="11" y="10"/>
                  </a:lnTo>
                  <a:lnTo>
                    <a:pt x="11" y="10"/>
                  </a:lnTo>
                  <a:lnTo>
                    <a:pt x="11" y="16"/>
                  </a:lnTo>
                  <a:lnTo>
                    <a:pt x="5" y="16"/>
                  </a:lnTo>
                  <a:lnTo>
                    <a:pt x="5" y="16"/>
                  </a:lnTo>
                  <a:lnTo>
                    <a:pt x="5" y="10"/>
                  </a:lnTo>
                  <a:lnTo>
                    <a:pt x="5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6" y="0"/>
                  </a:lnTo>
                  <a:lnTo>
                    <a:pt x="16" y="5"/>
                  </a:lnTo>
                  <a:lnTo>
                    <a:pt x="16" y="5"/>
                  </a:lnTo>
                  <a:lnTo>
                    <a:pt x="16" y="10"/>
                  </a:lnTo>
                  <a:lnTo>
                    <a:pt x="22" y="10"/>
                  </a:lnTo>
                  <a:lnTo>
                    <a:pt x="22" y="16"/>
                  </a:lnTo>
                  <a:lnTo>
                    <a:pt x="22" y="16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16" y="21"/>
                  </a:lnTo>
                  <a:lnTo>
                    <a:pt x="16" y="21"/>
                  </a:lnTo>
                  <a:lnTo>
                    <a:pt x="16" y="21"/>
                  </a:lnTo>
                  <a:lnTo>
                    <a:pt x="11" y="21"/>
                  </a:lnTo>
                  <a:lnTo>
                    <a:pt x="11" y="21"/>
                  </a:lnTo>
                  <a:lnTo>
                    <a:pt x="11" y="21"/>
                  </a:lnTo>
                  <a:lnTo>
                    <a:pt x="11" y="21"/>
                  </a:lnTo>
                  <a:lnTo>
                    <a:pt x="11" y="21"/>
                  </a:lnTo>
                  <a:lnTo>
                    <a:pt x="5" y="16"/>
                  </a:lnTo>
                  <a:close/>
                  <a:moveTo>
                    <a:pt x="11" y="5"/>
                  </a:move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5" y="10"/>
                  </a:lnTo>
                  <a:lnTo>
                    <a:pt x="5" y="10"/>
                  </a:lnTo>
                  <a:lnTo>
                    <a:pt x="5" y="10"/>
                  </a:lnTo>
                  <a:lnTo>
                    <a:pt x="5" y="10"/>
                  </a:lnTo>
                  <a:lnTo>
                    <a:pt x="5" y="10"/>
                  </a:lnTo>
                  <a:lnTo>
                    <a:pt x="5" y="10"/>
                  </a:lnTo>
                  <a:lnTo>
                    <a:pt x="11" y="10"/>
                  </a:lnTo>
                  <a:lnTo>
                    <a:pt x="11" y="10"/>
                  </a:lnTo>
                  <a:lnTo>
                    <a:pt x="11" y="10"/>
                  </a:lnTo>
                  <a:lnTo>
                    <a:pt x="11" y="10"/>
                  </a:lnTo>
                  <a:lnTo>
                    <a:pt x="11" y="10"/>
                  </a:lnTo>
                  <a:lnTo>
                    <a:pt x="11" y="5"/>
                  </a:lnTo>
                  <a:lnTo>
                    <a:pt x="11" y="5"/>
                  </a:lnTo>
                  <a:lnTo>
                    <a:pt x="11" y="5"/>
                  </a:lnTo>
                  <a:lnTo>
                    <a:pt x="11" y="5"/>
                  </a:lnTo>
                  <a:lnTo>
                    <a:pt x="11" y="5"/>
                  </a:lnTo>
                  <a:lnTo>
                    <a:pt x="11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4" name=""/>
            <p:cNvSpPr/>
            <p:nvPr/>
          </p:nvSpPr>
          <p:spPr>
            <a:xfrm>
              <a:off x="2529000" y="3041640"/>
              <a:ext cx="34920" cy="3492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17" y="6"/>
                  </a:moveTo>
                  <a:lnTo>
                    <a:pt x="17" y="6"/>
                  </a:lnTo>
                  <a:lnTo>
                    <a:pt x="22" y="6"/>
                  </a:lnTo>
                  <a:lnTo>
                    <a:pt x="22" y="11"/>
                  </a:lnTo>
                  <a:lnTo>
                    <a:pt x="22" y="11"/>
                  </a:lnTo>
                  <a:lnTo>
                    <a:pt x="22" y="11"/>
                  </a:lnTo>
                  <a:lnTo>
                    <a:pt x="22" y="11"/>
                  </a:lnTo>
                  <a:lnTo>
                    <a:pt x="22" y="17"/>
                  </a:lnTo>
                  <a:lnTo>
                    <a:pt x="22" y="17"/>
                  </a:lnTo>
                  <a:lnTo>
                    <a:pt x="22" y="17"/>
                  </a:lnTo>
                  <a:lnTo>
                    <a:pt x="22" y="17"/>
                  </a:lnTo>
                  <a:lnTo>
                    <a:pt x="17" y="17"/>
                  </a:lnTo>
                  <a:lnTo>
                    <a:pt x="17" y="22"/>
                  </a:lnTo>
                  <a:lnTo>
                    <a:pt x="17" y="22"/>
                  </a:lnTo>
                  <a:lnTo>
                    <a:pt x="17" y="22"/>
                  </a:lnTo>
                  <a:lnTo>
                    <a:pt x="17" y="22"/>
                  </a:lnTo>
                  <a:lnTo>
                    <a:pt x="17" y="22"/>
                  </a:lnTo>
                  <a:lnTo>
                    <a:pt x="17" y="22"/>
                  </a:lnTo>
                  <a:lnTo>
                    <a:pt x="11" y="22"/>
                  </a:lnTo>
                  <a:lnTo>
                    <a:pt x="11" y="22"/>
                  </a:lnTo>
                  <a:lnTo>
                    <a:pt x="11" y="22"/>
                  </a:lnTo>
                  <a:lnTo>
                    <a:pt x="11" y="22"/>
                  </a:lnTo>
                  <a:lnTo>
                    <a:pt x="11" y="22"/>
                  </a:lnTo>
                  <a:lnTo>
                    <a:pt x="11" y="17"/>
                  </a:lnTo>
                  <a:lnTo>
                    <a:pt x="6" y="17"/>
                  </a:lnTo>
                  <a:lnTo>
                    <a:pt x="6" y="17"/>
                  </a:lnTo>
                  <a:lnTo>
                    <a:pt x="6" y="17"/>
                  </a:lnTo>
                  <a:lnTo>
                    <a:pt x="6" y="17"/>
                  </a:lnTo>
                  <a:lnTo>
                    <a:pt x="6" y="17"/>
                  </a:lnTo>
                  <a:lnTo>
                    <a:pt x="6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7" y="0"/>
                  </a:lnTo>
                  <a:lnTo>
                    <a:pt x="17" y="6"/>
                  </a:lnTo>
                  <a:close/>
                  <a:moveTo>
                    <a:pt x="17" y="6"/>
                  </a:moveTo>
                  <a:lnTo>
                    <a:pt x="11" y="6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11"/>
                  </a:lnTo>
                  <a:lnTo>
                    <a:pt x="6" y="11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17" y="17"/>
                  </a:lnTo>
                  <a:lnTo>
                    <a:pt x="17" y="17"/>
                  </a:lnTo>
                  <a:lnTo>
                    <a:pt x="17" y="17"/>
                  </a:lnTo>
                  <a:lnTo>
                    <a:pt x="17" y="17"/>
                  </a:lnTo>
                  <a:lnTo>
                    <a:pt x="17" y="17"/>
                  </a:lnTo>
                  <a:lnTo>
                    <a:pt x="17" y="17"/>
                  </a:lnTo>
                  <a:lnTo>
                    <a:pt x="17" y="17"/>
                  </a:lnTo>
                  <a:lnTo>
                    <a:pt x="17" y="11"/>
                  </a:lnTo>
                  <a:lnTo>
                    <a:pt x="17" y="11"/>
                  </a:lnTo>
                  <a:lnTo>
                    <a:pt x="17" y="11"/>
                  </a:lnTo>
                  <a:lnTo>
                    <a:pt x="17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5" name=""/>
            <p:cNvSpPr/>
            <p:nvPr/>
          </p:nvSpPr>
          <p:spPr>
            <a:xfrm>
              <a:off x="2590920" y="3025800"/>
              <a:ext cx="7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6" name=""/>
            <p:cNvSpPr/>
            <p:nvPr/>
          </p:nvSpPr>
          <p:spPr>
            <a:xfrm>
              <a:off x="2451240" y="2930400"/>
              <a:ext cx="155520" cy="163800"/>
            </a:xfrm>
            <a:custGeom>
              <a:avLst/>
              <a:gdLst/>
              <a:ahLst/>
              <a:rect l="l" t="t" r="r" b="b"/>
              <a:pathLst>
                <a:path w="98" h="103">
                  <a:moveTo>
                    <a:pt x="93" y="60"/>
                  </a:moveTo>
                  <a:lnTo>
                    <a:pt x="98" y="54"/>
                  </a:lnTo>
                  <a:lnTo>
                    <a:pt x="98" y="43"/>
                  </a:lnTo>
                  <a:lnTo>
                    <a:pt x="93" y="38"/>
                  </a:lnTo>
                  <a:lnTo>
                    <a:pt x="88" y="27"/>
                  </a:lnTo>
                  <a:lnTo>
                    <a:pt x="82" y="16"/>
                  </a:lnTo>
                  <a:lnTo>
                    <a:pt x="77" y="5"/>
                  </a:lnTo>
                  <a:lnTo>
                    <a:pt x="71" y="0"/>
                  </a:lnTo>
                  <a:lnTo>
                    <a:pt x="66" y="0"/>
                  </a:lnTo>
                  <a:lnTo>
                    <a:pt x="60" y="5"/>
                  </a:lnTo>
                  <a:lnTo>
                    <a:pt x="55" y="10"/>
                  </a:lnTo>
                  <a:lnTo>
                    <a:pt x="49" y="21"/>
                  </a:lnTo>
                  <a:lnTo>
                    <a:pt x="44" y="27"/>
                  </a:lnTo>
                  <a:lnTo>
                    <a:pt x="39" y="38"/>
                  </a:lnTo>
                  <a:lnTo>
                    <a:pt x="33" y="43"/>
                  </a:lnTo>
                  <a:lnTo>
                    <a:pt x="28" y="49"/>
                  </a:lnTo>
                  <a:lnTo>
                    <a:pt x="22" y="60"/>
                  </a:lnTo>
                  <a:lnTo>
                    <a:pt x="17" y="65"/>
                  </a:lnTo>
                  <a:lnTo>
                    <a:pt x="11" y="70"/>
                  </a:lnTo>
                  <a:lnTo>
                    <a:pt x="0" y="81"/>
                  </a:lnTo>
                  <a:lnTo>
                    <a:pt x="0" y="87"/>
                  </a:lnTo>
                  <a:lnTo>
                    <a:pt x="6" y="92"/>
                  </a:lnTo>
                  <a:lnTo>
                    <a:pt x="11" y="103"/>
                  </a:lnTo>
                  <a:lnTo>
                    <a:pt x="28" y="103"/>
                  </a:lnTo>
                  <a:lnTo>
                    <a:pt x="33" y="103"/>
                  </a:lnTo>
                  <a:lnTo>
                    <a:pt x="44" y="98"/>
                  </a:lnTo>
                  <a:lnTo>
                    <a:pt x="44" y="9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7" name=""/>
            <p:cNvSpPr/>
            <p:nvPr/>
          </p:nvSpPr>
          <p:spPr>
            <a:xfrm>
              <a:off x="2322360" y="3025800"/>
              <a:ext cx="33480" cy="2520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0" y="16"/>
                  </a:moveTo>
                  <a:lnTo>
                    <a:pt x="5" y="10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10" y="5"/>
                  </a:lnTo>
                  <a:lnTo>
                    <a:pt x="16" y="5"/>
                  </a:lnTo>
                  <a:lnTo>
                    <a:pt x="16" y="0"/>
                  </a:lnTo>
                  <a:lnTo>
                    <a:pt x="21" y="0"/>
                  </a:lnTo>
                  <a:lnTo>
                    <a:pt x="21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8" name=""/>
            <p:cNvSpPr/>
            <p:nvPr/>
          </p:nvSpPr>
          <p:spPr>
            <a:xfrm>
              <a:off x="2400480" y="2973240"/>
              <a:ext cx="79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9" name=""/>
            <p:cNvSpPr/>
            <p:nvPr/>
          </p:nvSpPr>
          <p:spPr>
            <a:xfrm flipV="1">
              <a:off x="2451240" y="2903040"/>
              <a:ext cx="17280" cy="17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0" name=""/>
            <p:cNvSpPr/>
            <p:nvPr/>
          </p:nvSpPr>
          <p:spPr>
            <a:xfrm>
              <a:off x="2451240" y="2921040"/>
              <a:ext cx="14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1" name=""/>
            <p:cNvSpPr/>
            <p:nvPr/>
          </p:nvSpPr>
          <p:spPr>
            <a:xfrm>
              <a:off x="2529000" y="2817720"/>
              <a:ext cx="34920" cy="25560"/>
            </a:xfrm>
            <a:custGeom>
              <a:avLst/>
              <a:gdLst/>
              <a:ahLst/>
              <a:rect l="l" t="t" r="r" b="b"/>
              <a:pathLst>
                <a:path w="22" h="16">
                  <a:moveTo>
                    <a:pt x="0" y="16"/>
                  </a:moveTo>
                  <a:lnTo>
                    <a:pt x="0" y="16"/>
                  </a:lnTo>
                  <a:lnTo>
                    <a:pt x="6" y="11"/>
                  </a:lnTo>
                  <a:lnTo>
                    <a:pt x="6" y="11"/>
                  </a:lnTo>
                  <a:lnTo>
                    <a:pt x="11" y="5"/>
                  </a:lnTo>
                  <a:lnTo>
                    <a:pt x="11" y="5"/>
                  </a:lnTo>
                  <a:lnTo>
                    <a:pt x="17" y="5"/>
                  </a:lnTo>
                  <a:lnTo>
                    <a:pt x="17" y="5"/>
                  </a:lnTo>
                  <a:lnTo>
                    <a:pt x="2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2" name=""/>
            <p:cNvSpPr/>
            <p:nvPr/>
          </p:nvSpPr>
          <p:spPr>
            <a:xfrm>
              <a:off x="3463920" y="2790720"/>
              <a:ext cx="60480" cy="44640"/>
            </a:xfrm>
            <a:custGeom>
              <a:avLst/>
              <a:gdLst/>
              <a:ahLst/>
              <a:rect l="l" t="t" r="r" b="b"/>
              <a:pathLst>
                <a:path w="38" h="28">
                  <a:moveTo>
                    <a:pt x="38" y="17"/>
                  </a:moveTo>
                  <a:lnTo>
                    <a:pt x="33" y="11"/>
                  </a:lnTo>
                  <a:lnTo>
                    <a:pt x="33" y="6"/>
                  </a:lnTo>
                  <a:lnTo>
                    <a:pt x="28" y="0"/>
                  </a:lnTo>
                  <a:lnTo>
                    <a:pt x="22" y="6"/>
                  </a:lnTo>
                  <a:lnTo>
                    <a:pt x="11" y="6"/>
                  </a:lnTo>
                  <a:lnTo>
                    <a:pt x="6" y="11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6" y="28"/>
                  </a:lnTo>
                  <a:lnTo>
                    <a:pt x="17" y="28"/>
                  </a:lnTo>
                  <a:lnTo>
                    <a:pt x="22" y="28"/>
                  </a:lnTo>
                  <a:lnTo>
                    <a:pt x="33" y="28"/>
                  </a:lnTo>
                  <a:lnTo>
                    <a:pt x="33" y="22"/>
                  </a:lnTo>
                  <a:lnTo>
                    <a:pt x="38" y="1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3" name=""/>
            <p:cNvSpPr/>
            <p:nvPr/>
          </p:nvSpPr>
          <p:spPr>
            <a:xfrm flipV="1">
              <a:off x="2606760" y="2765160"/>
              <a:ext cx="34920" cy="34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4" name=""/>
            <p:cNvSpPr/>
            <p:nvPr/>
          </p:nvSpPr>
          <p:spPr>
            <a:xfrm>
              <a:off x="6562800" y="2712960"/>
              <a:ext cx="27000" cy="34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5" name=""/>
            <p:cNvSpPr/>
            <p:nvPr/>
          </p:nvSpPr>
          <p:spPr>
            <a:xfrm>
              <a:off x="3135240" y="2652840"/>
              <a:ext cx="42840" cy="27000"/>
            </a:xfrm>
            <a:custGeom>
              <a:avLst/>
              <a:gdLst/>
              <a:ahLst/>
              <a:rect l="l" t="t" r="r" b="b"/>
              <a:pathLst>
                <a:path w="27" h="17">
                  <a:moveTo>
                    <a:pt x="0" y="11"/>
                  </a:moveTo>
                  <a:lnTo>
                    <a:pt x="6" y="6"/>
                  </a:lnTo>
                  <a:lnTo>
                    <a:pt x="6" y="0"/>
                  </a:lnTo>
                  <a:lnTo>
                    <a:pt x="11" y="0"/>
                  </a:lnTo>
                  <a:lnTo>
                    <a:pt x="16" y="0"/>
                  </a:lnTo>
                  <a:lnTo>
                    <a:pt x="22" y="0"/>
                  </a:lnTo>
                  <a:lnTo>
                    <a:pt x="22" y="6"/>
                  </a:lnTo>
                  <a:lnTo>
                    <a:pt x="27" y="6"/>
                  </a:lnTo>
                  <a:lnTo>
                    <a:pt x="27" y="11"/>
                  </a:lnTo>
                  <a:lnTo>
                    <a:pt x="22" y="17"/>
                  </a:lnTo>
                  <a:lnTo>
                    <a:pt x="16" y="17"/>
                  </a:lnTo>
                  <a:lnTo>
                    <a:pt x="11" y="17"/>
                  </a:lnTo>
                  <a:lnTo>
                    <a:pt x="6" y="17"/>
                  </a:lnTo>
                  <a:lnTo>
                    <a:pt x="6" y="17"/>
                  </a:lnTo>
                  <a:lnTo>
                    <a:pt x="0" y="1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6" name=""/>
            <p:cNvSpPr/>
            <p:nvPr/>
          </p:nvSpPr>
          <p:spPr>
            <a:xfrm>
              <a:off x="6477120" y="2670120"/>
              <a:ext cx="60120" cy="25560"/>
            </a:xfrm>
            <a:custGeom>
              <a:avLst/>
              <a:gdLst/>
              <a:ahLst/>
              <a:rect l="l" t="t" r="r" b="b"/>
              <a:pathLst>
                <a:path w="38" h="16">
                  <a:moveTo>
                    <a:pt x="0" y="0"/>
                  </a:moveTo>
                  <a:lnTo>
                    <a:pt x="5" y="0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6" y="11"/>
                  </a:lnTo>
                  <a:lnTo>
                    <a:pt x="21" y="11"/>
                  </a:lnTo>
                  <a:lnTo>
                    <a:pt x="27" y="11"/>
                  </a:lnTo>
                  <a:lnTo>
                    <a:pt x="32" y="16"/>
                  </a:lnTo>
                  <a:lnTo>
                    <a:pt x="38" y="1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7" name=""/>
            <p:cNvSpPr/>
            <p:nvPr/>
          </p:nvSpPr>
          <p:spPr>
            <a:xfrm>
              <a:off x="6234120" y="2567160"/>
              <a:ext cx="1440" cy="144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8" name=""/>
            <p:cNvSpPr/>
            <p:nvPr/>
          </p:nvSpPr>
          <p:spPr>
            <a:xfrm>
              <a:off x="5878440" y="2514600"/>
              <a:ext cx="95400" cy="7920"/>
            </a:xfrm>
            <a:custGeom>
              <a:avLst/>
              <a:gdLst/>
              <a:ahLst/>
              <a:rect l="l" t="t" r="r" b="b"/>
              <a:pathLst>
                <a:path w="60" h="5">
                  <a:moveTo>
                    <a:pt x="0" y="0"/>
                  </a:moveTo>
                  <a:lnTo>
                    <a:pt x="6" y="0"/>
                  </a:lnTo>
                  <a:lnTo>
                    <a:pt x="11" y="0"/>
                  </a:lnTo>
                  <a:lnTo>
                    <a:pt x="17" y="5"/>
                  </a:lnTo>
                  <a:lnTo>
                    <a:pt x="22" y="5"/>
                  </a:lnTo>
                  <a:lnTo>
                    <a:pt x="28" y="5"/>
                  </a:lnTo>
                  <a:lnTo>
                    <a:pt x="33" y="5"/>
                  </a:lnTo>
                  <a:lnTo>
                    <a:pt x="39" y="5"/>
                  </a:lnTo>
                  <a:lnTo>
                    <a:pt x="44" y="5"/>
                  </a:lnTo>
                  <a:lnTo>
                    <a:pt x="50" y="5"/>
                  </a:lnTo>
                  <a:lnTo>
                    <a:pt x="55" y="0"/>
                  </a:lnTo>
                  <a:lnTo>
                    <a:pt x="6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9" name=""/>
            <p:cNvSpPr/>
            <p:nvPr/>
          </p:nvSpPr>
          <p:spPr>
            <a:xfrm>
              <a:off x="2867040" y="2514600"/>
              <a:ext cx="3557520" cy="2448000"/>
            </a:xfrm>
            <a:custGeom>
              <a:avLst/>
              <a:gdLst/>
              <a:ahLst/>
              <a:rect l="l" t="t" r="r" b="b"/>
              <a:pathLst>
                <a:path w="2241" h="1542">
                  <a:moveTo>
                    <a:pt x="1608" y="0"/>
                  </a:moveTo>
                  <a:lnTo>
                    <a:pt x="1614" y="5"/>
                  </a:lnTo>
                  <a:lnTo>
                    <a:pt x="1625" y="5"/>
                  </a:lnTo>
                  <a:lnTo>
                    <a:pt x="1630" y="11"/>
                  </a:lnTo>
                  <a:lnTo>
                    <a:pt x="1641" y="16"/>
                  </a:lnTo>
                  <a:lnTo>
                    <a:pt x="1652" y="16"/>
                  </a:lnTo>
                  <a:lnTo>
                    <a:pt x="1658" y="16"/>
                  </a:lnTo>
                  <a:lnTo>
                    <a:pt x="1668" y="16"/>
                  </a:lnTo>
                  <a:lnTo>
                    <a:pt x="1679" y="22"/>
                  </a:lnTo>
                  <a:lnTo>
                    <a:pt x="1690" y="22"/>
                  </a:lnTo>
                  <a:lnTo>
                    <a:pt x="1696" y="22"/>
                  </a:lnTo>
                  <a:lnTo>
                    <a:pt x="1707" y="22"/>
                  </a:lnTo>
                  <a:lnTo>
                    <a:pt x="1718" y="22"/>
                  </a:lnTo>
                  <a:lnTo>
                    <a:pt x="1728" y="22"/>
                  </a:lnTo>
                  <a:lnTo>
                    <a:pt x="1739" y="22"/>
                  </a:lnTo>
                  <a:lnTo>
                    <a:pt x="1745" y="27"/>
                  </a:lnTo>
                  <a:lnTo>
                    <a:pt x="1756" y="27"/>
                  </a:lnTo>
                  <a:lnTo>
                    <a:pt x="1767" y="27"/>
                  </a:lnTo>
                  <a:lnTo>
                    <a:pt x="1778" y="33"/>
                  </a:lnTo>
                  <a:lnTo>
                    <a:pt x="1783" y="33"/>
                  </a:lnTo>
                  <a:lnTo>
                    <a:pt x="1794" y="33"/>
                  </a:lnTo>
                  <a:lnTo>
                    <a:pt x="1799" y="38"/>
                  </a:lnTo>
                  <a:lnTo>
                    <a:pt x="1799" y="44"/>
                  </a:lnTo>
                  <a:lnTo>
                    <a:pt x="1805" y="54"/>
                  </a:lnTo>
                  <a:lnTo>
                    <a:pt x="1805" y="60"/>
                  </a:lnTo>
                  <a:lnTo>
                    <a:pt x="1810" y="65"/>
                  </a:lnTo>
                  <a:lnTo>
                    <a:pt x="1816" y="65"/>
                  </a:lnTo>
                  <a:lnTo>
                    <a:pt x="1827" y="71"/>
                  </a:lnTo>
                  <a:lnTo>
                    <a:pt x="1837" y="71"/>
                  </a:lnTo>
                  <a:lnTo>
                    <a:pt x="1848" y="76"/>
                  </a:lnTo>
                  <a:lnTo>
                    <a:pt x="1854" y="76"/>
                  </a:lnTo>
                  <a:lnTo>
                    <a:pt x="1865" y="82"/>
                  </a:lnTo>
                  <a:lnTo>
                    <a:pt x="1876" y="82"/>
                  </a:lnTo>
                  <a:lnTo>
                    <a:pt x="1881" y="82"/>
                  </a:lnTo>
                  <a:lnTo>
                    <a:pt x="1892" y="87"/>
                  </a:lnTo>
                  <a:lnTo>
                    <a:pt x="1903" y="87"/>
                  </a:lnTo>
                  <a:lnTo>
                    <a:pt x="1908" y="93"/>
                  </a:lnTo>
                  <a:lnTo>
                    <a:pt x="1919" y="93"/>
                  </a:lnTo>
                  <a:lnTo>
                    <a:pt x="1925" y="98"/>
                  </a:lnTo>
                  <a:lnTo>
                    <a:pt x="1936" y="104"/>
                  </a:lnTo>
                  <a:lnTo>
                    <a:pt x="1941" y="104"/>
                  </a:lnTo>
                  <a:lnTo>
                    <a:pt x="1947" y="109"/>
                  </a:lnTo>
                  <a:lnTo>
                    <a:pt x="1952" y="114"/>
                  </a:lnTo>
                  <a:lnTo>
                    <a:pt x="1963" y="120"/>
                  </a:lnTo>
                  <a:lnTo>
                    <a:pt x="1968" y="120"/>
                  </a:lnTo>
                  <a:lnTo>
                    <a:pt x="1979" y="125"/>
                  </a:lnTo>
                  <a:lnTo>
                    <a:pt x="1990" y="125"/>
                  </a:lnTo>
                  <a:lnTo>
                    <a:pt x="1996" y="131"/>
                  </a:lnTo>
                  <a:lnTo>
                    <a:pt x="1996" y="136"/>
                  </a:lnTo>
                  <a:lnTo>
                    <a:pt x="1996" y="147"/>
                  </a:lnTo>
                  <a:lnTo>
                    <a:pt x="1996" y="153"/>
                  </a:lnTo>
                  <a:lnTo>
                    <a:pt x="1996" y="158"/>
                  </a:lnTo>
                  <a:lnTo>
                    <a:pt x="2001" y="163"/>
                  </a:lnTo>
                  <a:lnTo>
                    <a:pt x="2012" y="169"/>
                  </a:lnTo>
                  <a:lnTo>
                    <a:pt x="2017" y="169"/>
                  </a:lnTo>
                  <a:lnTo>
                    <a:pt x="2023" y="174"/>
                  </a:lnTo>
                  <a:lnTo>
                    <a:pt x="2028" y="180"/>
                  </a:lnTo>
                  <a:lnTo>
                    <a:pt x="2034" y="185"/>
                  </a:lnTo>
                  <a:lnTo>
                    <a:pt x="2039" y="191"/>
                  </a:lnTo>
                  <a:lnTo>
                    <a:pt x="2045" y="196"/>
                  </a:lnTo>
                  <a:lnTo>
                    <a:pt x="2056" y="196"/>
                  </a:lnTo>
                  <a:lnTo>
                    <a:pt x="2061" y="202"/>
                  </a:lnTo>
                  <a:lnTo>
                    <a:pt x="2072" y="207"/>
                  </a:lnTo>
                  <a:lnTo>
                    <a:pt x="2072" y="213"/>
                  </a:lnTo>
                  <a:lnTo>
                    <a:pt x="2077" y="218"/>
                  </a:lnTo>
                  <a:lnTo>
                    <a:pt x="2083" y="223"/>
                  </a:lnTo>
                  <a:lnTo>
                    <a:pt x="2088" y="229"/>
                  </a:lnTo>
                  <a:lnTo>
                    <a:pt x="2099" y="234"/>
                  </a:lnTo>
                  <a:lnTo>
                    <a:pt x="2105" y="234"/>
                  </a:lnTo>
                  <a:lnTo>
                    <a:pt x="2116" y="240"/>
                  </a:lnTo>
                  <a:lnTo>
                    <a:pt x="2126" y="240"/>
                  </a:lnTo>
                  <a:lnTo>
                    <a:pt x="2132" y="245"/>
                  </a:lnTo>
                  <a:lnTo>
                    <a:pt x="2132" y="251"/>
                  </a:lnTo>
                  <a:lnTo>
                    <a:pt x="2137" y="256"/>
                  </a:lnTo>
                  <a:lnTo>
                    <a:pt x="2143" y="262"/>
                  </a:lnTo>
                  <a:lnTo>
                    <a:pt x="2154" y="267"/>
                  </a:lnTo>
                  <a:lnTo>
                    <a:pt x="2159" y="272"/>
                  </a:lnTo>
                  <a:lnTo>
                    <a:pt x="2170" y="272"/>
                  </a:lnTo>
                  <a:lnTo>
                    <a:pt x="2176" y="278"/>
                  </a:lnTo>
                  <a:lnTo>
                    <a:pt x="2186" y="283"/>
                  </a:lnTo>
                  <a:lnTo>
                    <a:pt x="2192" y="289"/>
                  </a:lnTo>
                  <a:lnTo>
                    <a:pt x="2192" y="294"/>
                  </a:lnTo>
                  <a:lnTo>
                    <a:pt x="2203" y="294"/>
                  </a:lnTo>
                  <a:lnTo>
                    <a:pt x="2208" y="300"/>
                  </a:lnTo>
                  <a:lnTo>
                    <a:pt x="2214" y="305"/>
                  </a:lnTo>
                  <a:lnTo>
                    <a:pt x="2225" y="311"/>
                  </a:lnTo>
                  <a:lnTo>
                    <a:pt x="2230" y="311"/>
                  </a:lnTo>
                  <a:lnTo>
                    <a:pt x="2241" y="316"/>
                  </a:lnTo>
                  <a:lnTo>
                    <a:pt x="2241" y="322"/>
                  </a:lnTo>
                  <a:lnTo>
                    <a:pt x="2241" y="327"/>
                  </a:lnTo>
                  <a:lnTo>
                    <a:pt x="2241" y="332"/>
                  </a:lnTo>
                  <a:lnTo>
                    <a:pt x="2235" y="338"/>
                  </a:lnTo>
                  <a:lnTo>
                    <a:pt x="2230" y="343"/>
                  </a:lnTo>
                  <a:lnTo>
                    <a:pt x="2225" y="354"/>
                  </a:lnTo>
                  <a:lnTo>
                    <a:pt x="2219" y="360"/>
                  </a:lnTo>
                  <a:lnTo>
                    <a:pt x="2208" y="360"/>
                  </a:lnTo>
                  <a:lnTo>
                    <a:pt x="2197" y="354"/>
                  </a:lnTo>
                  <a:lnTo>
                    <a:pt x="2186" y="354"/>
                  </a:lnTo>
                  <a:lnTo>
                    <a:pt x="2181" y="349"/>
                  </a:lnTo>
                  <a:lnTo>
                    <a:pt x="2170" y="349"/>
                  </a:lnTo>
                  <a:lnTo>
                    <a:pt x="2159" y="343"/>
                  </a:lnTo>
                  <a:lnTo>
                    <a:pt x="2148" y="349"/>
                  </a:lnTo>
                  <a:lnTo>
                    <a:pt x="2143" y="349"/>
                  </a:lnTo>
                  <a:lnTo>
                    <a:pt x="2132" y="349"/>
                  </a:lnTo>
                  <a:lnTo>
                    <a:pt x="2121" y="354"/>
                  </a:lnTo>
                  <a:lnTo>
                    <a:pt x="2116" y="349"/>
                  </a:lnTo>
                  <a:lnTo>
                    <a:pt x="2105" y="349"/>
                  </a:lnTo>
                  <a:lnTo>
                    <a:pt x="2094" y="349"/>
                  </a:lnTo>
                  <a:lnTo>
                    <a:pt x="2083" y="343"/>
                  </a:lnTo>
                  <a:lnTo>
                    <a:pt x="2077" y="343"/>
                  </a:lnTo>
                  <a:lnTo>
                    <a:pt x="2066" y="338"/>
                  </a:lnTo>
                  <a:lnTo>
                    <a:pt x="2061" y="338"/>
                  </a:lnTo>
                  <a:lnTo>
                    <a:pt x="2050" y="338"/>
                  </a:lnTo>
                  <a:lnTo>
                    <a:pt x="2039" y="338"/>
                  </a:lnTo>
                  <a:lnTo>
                    <a:pt x="2028" y="338"/>
                  </a:lnTo>
                  <a:lnTo>
                    <a:pt x="2017" y="338"/>
                  </a:lnTo>
                  <a:lnTo>
                    <a:pt x="2006" y="338"/>
                  </a:lnTo>
                  <a:lnTo>
                    <a:pt x="2001" y="338"/>
                  </a:lnTo>
                  <a:lnTo>
                    <a:pt x="1990" y="332"/>
                  </a:lnTo>
                  <a:lnTo>
                    <a:pt x="1985" y="327"/>
                  </a:lnTo>
                  <a:lnTo>
                    <a:pt x="1979" y="322"/>
                  </a:lnTo>
                  <a:lnTo>
                    <a:pt x="1974" y="316"/>
                  </a:lnTo>
                  <a:lnTo>
                    <a:pt x="1968" y="316"/>
                  </a:lnTo>
                  <a:lnTo>
                    <a:pt x="1957" y="311"/>
                  </a:lnTo>
                  <a:lnTo>
                    <a:pt x="1952" y="311"/>
                  </a:lnTo>
                  <a:lnTo>
                    <a:pt x="1941" y="311"/>
                  </a:lnTo>
                  <a:lnTo>
                    <a:pt x="1930" y="316"/>
                  </a:lnTo>
                  <a:lnTo>
                    <a:pt x="1919" y="322"/>
                  </a:lnTo>
                  <a:lnTo>
                    <a:pt x="1925" y="322"/>
                  </a:lnTo>
                  <a:lnTo>
                    <a:pt x="1936" y="327"/>
                  </a:lnTo>
                  <a:lnTo>
                    <a:pt x="1941" y="332"/>
                  </a:lnTo>
                  <a:lnTo>
                    <a:pt x="1947" y="338"/>
                  </a:lnTo>
                  <a:lnTo>
                    <a:pt x="1947" y="343"/>
                  </a:lnTo>
                  <a:lnTo>
                    <a:pt x="1952" y="349"/>
                  </a:lnTo>
                  <a:lnTo>
                    <a:pt x="1957" y="360"/>
                  </a:lnTo>
                  <a:lnTo>
                    <a:pt x="1963" y="365"/>
                  </a:lnTo>
                  <a:lnTo>
                    <a:pt x="1968" y="365"/>
                  </a:lnTo>
                  <a:lnTo>
                    <a:pt x="1974" y="371"/>
                  </a:lnTo>
                  <a:lnTo>
                    <a:pt x="1985" y="376"/>
                  </a:lnTo>
                  <a:lnTo>
                    <a:pt x="1990" y="376"/>
                  </a:lnTo>
                  <a:lnTo>
                    <a:pt x="2001" y="381"/>
                  </a:lnTo>
                  <a:lnTo>
                    <a:pt x="2001" y="387"/>
                  </a:lnTo>
                  <a:lnTo>
                    <a:pt x="2006" y="392"/>
                  </a:lnTo>
                  <a:lnTo>
                    <a:pt x="2012" y="398"/>
                  </a:lnTo>
                  <a:lnTo>
                    <a:pt x="2017" y="403"/>
                  </a:lnTo>
                  <a:lnTo>
                    <a:pt x="2023" y="409"/>
                  </a:lnTo>
                  <a:lnTo>
                    <a:pt x="2028" y="414"/>
                  </a:lnTo>
                  <a:lnTo>
                    <a:pt x="2034" y="420"/>
                  </a:lnTo>
                  <a:lnTo>
                    <a:pt x="2034" y="431"/>
                  </a:lnTo>
                  <a:lnTo>
                    <a:pt x="2039" y="436"/>
                  </a:lnTo>
                  <a:lnTo>
                    <a:pt x="2039" y="441"/>
                  </a:lnTo>
                  <a:lnTo>
                    <a:pt x="2034" y="447"/>
                  </a:lnTo>
                  <a:lnTo>
                    <a:pt x="2028" y="452"/>
                  </a:lnTo>
                  <a:lnTo>
                    <a:pt x="2017" y="452"/>
                  </a:lnTo>
                  <a:lnTo>
                    <a:pt x="2006" y="458"/>
                  </a:lnTo>
                  <a:lnTo>
                    <a:pt x="2001" y="458"/>
                  </a:lnTo>
                  <a:lnTo>
                    <a:pt x="1996" y="463"/>
                  </a:lnTo>
                  <a:lnTo>
                    <a:pt x="1990" y="469"/>
                  </a:lnTo>
                  <a:lnTo>
                    <a:pt x="1990" y="480"/>
                  </a:lnTo>
                  <a:lnTo>
                    <a:pt x="1985" y="485"/>
                  </a:lnTo>
                  <a:lnTo>
                    <a:pt x="1985" y="490"/>
                  </a:lnTo>
                  <a:lnTo>
                    <a:pt x="1979" y="496"/>
                  </a:lnTo>
                  <a:lnTo>
                    <a:pt x="1979" y="501"/>
                  </a:lnTo>
                  <a:lnTo>
                    <a:pt x="1974" y="507"/>
                  </a:lnTo>
                  <a:lnTo>
                    <a:pt x="1974" y="512"/>
                  </a:lnTo>
                  <a:lnTo>
                    <a:pt x="1968" y="518"/>
                  </a:lnTo>
                  <a:lnTo>
                    <a:pt x="1963" y="523"/>
                  </a:lnTo>
                  <a:lnTo>
                    <a:pt x="1957" y="529"/>
                  </a:lnTo>
                  <a:lnTo>
                    <a:pt x="1947" y="534"/>
                  </a:lnTo>
                  <a:lnTo>
                    <a:pt x="1941" y="534"/>
                  </a:lnTo>
                  <a:lnTo>
                    <a:pt x="1930" y="540"/>
                  </a:lnTo>
                  <a:lnTo>
                    <a:pt x="1925" y="545"/>
                  </a:lnTo>
                  <a:lnTo>
                    <a:pt x="1919" y="550"/>
                  </a:lnTo>
                  <a:lnTo>
                    <a:pt x="1908" y="556"/>
                  </a:lnTo>
                  <a:lnTo>
                    <a:pt x="1903" y="556"/>
                  </a:lnTo>
                  <a:lnTo>
                    <a:pt x="1892" y="561"/>
                  </a:lnTo>
                  <a:lnTo>
                    <a:pt x="1887" y="556"/>
                  </a:lnTo>
                  <a:lnTo>
                    <a:pt x="1876" y="556"/>
                  </a:lnTo>
                  <a:lnTo>
                    <a:pt x="1865" y="556"/>
                  </a:lnTo>
                  <a:lnTo>
                    <a:pt x="1854" y="550"/>
                  </a:lnTo>
                  <a:lnTo>
                    <a:pt x="1848" y="550"/>
                  </a:lnTo>
                  <a:lnTo>
                    <a:pt x="1837" y="545"/>
                  </a:lnTo>
                  <a:lnTo>
                    <a:pt x="1832" y="540"/>
                  </a:lnTo>
                  <a:lnTo>
                    <a:pt x="1821" y="540"/>
                  </a:lnTo>
                  <a:lnTo>
                    <a:pt x="1816" y="534"/>
                  </a:lnTo>
                  <a:lnTo>
                    <a:pt x="1805" y="534"/>
                  </a:lnTo>
                  <a:lnTo>
                    <a:pt x="1799" y="529"/>
                  </a:lnTo>
                  <a:lnTo>
                    <a:pt x="1788" y="523"/>
                  </a:lnTo>
                  <a:lnTo>
                    <a:pt x="1783" y="523"/>
                  </a:lnTo>
                  <a:lnTo>
                    <a:pt x="1772" y="518"/>
                  </a:lnTo>
                  <a:lnTo>
                    <a:pt x="1761" y="518"/>
                  </a:lnTo>
                  <a:lnTo>
                    <a:pt x="1756" y="512"/>
                  </a:lnTo>
                  <a:lnTo>
                    <a:pt x="1750" y="507"/>
                  </a:lnTo>
                  <a:lnTo>
                    <a:pt x="1750" y="501"/>
                  </a:lnTo>
                  <a:lnTo>
                    <a:pt x="1756" y="496"/>
                  </a:lnTo>
                  <a:lnTo>
                    <a:pt x="1756" y="485"/>
                  </a:lnTo>
                  <a:lnTo>
                    <a:pt x="1756" y="480"/>
                  </a:lnTo>
                  <a:lnTo>
                    <a:pt x="1750" y="474"/>
                  </a:lnTo>
                  <a:lnTo>
                    <a:pt x="1739" y="469"/>
                  </a:lnTo>
                  <a:lnTo>
                    <a:pt x="1734" y="469"/>
                  </a:lnTo>
                  <a:lnTo>
                    <a:pt x="1723" y="474"/>
                  </a:lnTo>
                  <a:lnTo>
                    <a:pt x="1712" y="480"/>
                  </a:lnTo>
                  <a:lnTo>
                    <a:pt x="1707" y="485"/>
                  </a:lnTo>
                  <a:lnTo>
                    <a:pt x="1701" y="485"/>
                  </a:lnTo>
                  <a:lnTo>
                    <a:pt x="1690" y="490"/>
                  </a:lnTo>
                  <a:lnTo>
                    <a:pt x="1679" y="490"/>
                  </a:lnTo>
                  <a:lnTo>
                    <a:pt x="1674" y="490"/>
                  </a:lnTo>
                  <a:lnTo>
                    <a:pt x="1663" y="496"/>
                  </a:lnTo>
                  <a:lnTo>
                    <a:pt x="1652" y="496"/>
                  </a:lnTo>
                  <a:lnTo>
                    <a:pt x="1641" y="496"/>
                  </a:lnTo>
                  <a:lnTo>
                    <a:pt x="1636" y="496"/>
                  </a:lnTo>
                  <a:lnTo>
                    <a:pt x="1625" y="496"/>
                  </a:lnTo>
                  <a:lnTo>
                    <a:pt x="1614" y="501"/>
                  </a:lnTo>
                  <a:lnTo>
                    <a:pt x="1603" y="501"/>
                  </a:lnTo>
                  <a:lnTo>
                    <a:pt x="1592" y="501"/>
                  </a:lnTo>
                  <a:lnTo>
                    <a:pt x="1587" y="501"/>
                  </a:lnTo>
                  <a:lnTo>
                    <a:pt x="1576" y="507"/>
                  </a:lnTo>
                  <a:lnTo>
                    <a:pt x="1570" y="512"/>
                  </a:lnTo>
                  <a:lnTo>
                    <a:pt x="1565" y="518"/>
                  </a:lnTo>
                  <a:lnTo>
                    <a:pt x="1559" y="523"/>
                  </a:lnTo>
                  <a:lnTo>
                    <a:pt x="1549" y="523"/>
                  </a:lnTo>
                  <a:lnTo>
                    <a:pt x="1543" y="529"/>
                  </a:lnTo>
                  <a:lnTo>
                    <a:pt x="1532" y="529"/>
                  </a:lnTo>
                  <a:lnTo>
                    <a:pt x="1527" y="534"/>
                  </a:lnTo>
                  <a:lnTo>
                    <a:pt x="1521" y="540"/>
                  </a:lnTo>
                  <a:lnTo>
                    <a:pt x="1516" y="545"/>
                  </a:lnTo>
                  <a:lnTo>
                    <a:pt x="1516" y="540"/>
                  </a:lnTo>
                  <a:lnTo>
                    <a:pt x="1521" y="534"/>
                  </a:lnTo>
                  <a:lnTo>
                    <a:pt x="1527" y="529"/>
                  </a:lnTo>
                  <a:lnTo>
                    <a:pt x="1532" y="523"/>
                  </a:lnTo>
                  <a:lnTo>
                    <a:pt x="1532" y="518"/>
                  </a:lnTo>
                  <a:lnTo>
                    <a:pt x="1532" y="512"/>
                  </a:lnTo>
                  <a:lnTo>
                    <a:pt x="1527" y="507"/>
                  </a:lnTo>
                  <a:lnTo>
                    <a:pt x="1516" y="501"/>
                  </a:lnTo>
                  <a:lnTo>
                    <a:pt x="1505" y="501"/>
                  </a:lnTo>
                  <a:lnTo>
                    <a:pt x="1499" y="501"/>
                  </a:lnTo>
                  <a:lnTo>
                    <a:pt x="1489" y="501"/>
                  </a:lnTo>
                  <a:lnTo>
                    <a:pt x="1478" y="507"/>
                  </a:lnTo>
                  <a:lnTo>
                    <a:pt x="1472" y="512"/>
                  </a:lnTo>
                  <a:lnTo>
                    <a:pt x="1467" y="518"/>
                  </a:lnTo>
                  <a:lnTo>
                    <a:pt x="1467" y="523"/>
                  </a:lnTo>
                  <a:lnTo>
                    <a:pt x="1467" y="529"/>
                  </a:lnTo>
                  <a:lnTo>
                    <a:pt x="1467" y="534"/>
                  </a:lnTo>
                  <a:lnTo>
                    <a:pt x="1467" y="540"/>
                  </a:lnTo>
                  <a:lnTo>
                    <a:pt x="1467" y="550"/>
                  </a:lnTo>
                  <a:lnTo>
                    <a:pt x="1461" y="556"/>
                  </a:lnTo>
                  <a:lnTo>
                    <a:pt x="1461" y="561"/>
                  </a:lnTo>
                  <a:lnTo>
                    <a:pt x="1461" y="567"/>
                  </a:lnTo>
                  <a:lnTo>
                    <a:pt x="1456" y="572"/>
                  </a:lnTo>
                  <a:lnTo>
                    <a:pt x="1456" y="578"/>
                  </a:lnTo>
                  <a:lnTo>
                    <a:pt x="1456" y="583"/>
                  </a:lnTo>
                  <a:lnTo>
                    <a:pt x="1450" y="594"/>
                  </a:lnTo>
                  <a:lnTo>
                    <a:pt x="1450" y="599"/>
                  </a:lnTo>
                  <a:lnTo>
                    <a:pt x="1445" y="605"/>
                  </a:lnTo>
                  <a:lnTo>
                    <a:pt x="1445" y="610"/>
                  </a:lnTo>
                  <a:lnTo>
                    <a:pt x="1445" y="616"/>
                  </a:lnTo>
                  <a:lnTo>
                    <a:pt x="1439" y="621"/>
                  </a:lnTo>
                  <a:lnTo>
                    <a:pt x="1439" y="627"/>
                  </a:lnTo>
                  <a:lnTo>
                    <a:pt x="1434" y="638"/>
                  </a:lnTo>
                  <a:lnTo>
                    <a:pt x="1434" y="643"/>
                  </a:lnTo>
                  <a:lnTo>
                    <a:pt x="1434" y="649"/>
                  </a:lnTo>
                  <a:lnTo>
                    <a:pt x="1429" y="654"/>
                  </a:lnTo>
                  <a:lnTo>
                    <a:pt x="1429" y="659"/>
                  </a:lnTo>
                  <a:lnTo>
                    <a:pt x="1423" y="665"/>
                  </a:lnTo>
                  <a:lnTo>
                    <a:pt x="1423" y="670"/>
                  </a:lnTo>
                  <a:lnTo>
                    <a:pt x="1423" y="676"/>
                  </a:lnTo>
                  <a:lnTo>
                    <a:pt x="1418" y="687"/>
                  </a:lnTo>
                  <a:lnTo>
                    <a:pt x="1418" y="692"/>
                  </a:lnTo>
                  <a:lnTo>
                    <a:pt x="1418" y="698"/>
                  </a:lnTo>
                  <a:lnTo>
                    <a:pt x="1412" y="703"/>
                  </a:lnTo>
                  <a:lnTo>
                    <a:pt x="1407" y="708"/>
                  </a:lnTo>
                  <a:lnTo>
                    <a:pt x="1407" y="714"/>
                  </a:lnTo>
                  <a:lnTo>
                    <a:pt x="1401" y="719"/>
                  </a:lnTo>
                  <a:lnTo>
                    <a:pt x="1396" y="725"/>
                  </a:lnTo>
                  <a:lnTo>
                    <a:pt x="1390" y="730"/>
                  </a:lnTo>
                  <a:lnTo>
                    <a:pt x="1385" y="736"/>
                  </a:lnTo>
                  <a:lnTo>
                    <a:pt x="1385" y="741"/>
                  </a:lnTo>
                  <a:lnTo>
                    <a:pt x="1390" y="747"/>
                  </a:lnTo>
                  <a:lnTo>
                    <a:pt x="1396" y="758"/>
                  </a:lnTo>
                  <a:lnTo>
                    <a:pt x="1396" y="763"/>
                  </a:lnTo>
                  <a:lnTo>
                    <a:pt x="1396" y="768"/>
                  </a:lnTo>
                  <a:lnTo>
                    <a:pt x="1390" y="774"/>
                  </a:lnTo>
                  <a:lnTo>
                    <a:pt x="1379" y="774"/>
                  </a:lnTo>
                  <a:lnTo>
                    <a:pt x="1374" y="774"/>
                  </a:lnTo>
                  <a:lnTo>
                    <a:pt x="1363" y="774"/>
                  </a:lnTo>
                  <a:lnTo>
                    <a:pt x="1352" y="774"/>
                  </a:lnTo>
                  <a:lnTo>
                    <a:pt x="1341" y="774"/>
                  </a:lnTo>
                  <a:lnTo>
                    <a:pt x="1330" y="774"/>
                  </a:lnTo>
                  <a:lnTo>
                    <a:pt x="1320" y="768"/>
                  </a:lnTo>
                  <a:lnTo>
                    <a:pt x="1314" y="768"/>
                  </a:lnTo>
                  <a:lnTo>
                    <a:pt x="1303" y="768"/>
                  </a:lnTo>
                  <a:lnTo>
                    <a:pt x="1292" y="768"/>
                  </a:lnTo>
                  <a:lnTo>
                    <a:pt x="1281" y="763"/>
                  </a:lnTo>
                  <a:lnTo>
                    <a:pt x="1276" y="763"/>
                  </a:lnTo>
                  <a:lnTo>
                    <a:pt x="1265" y="763"/>
                  </a:lnTo>
                  <a:lnTo>
                    <a:pt x="1254" y="763"/>
                  </a:lnTo>
                  <a:lnTo>
                    <a:pt x="1243" y="758"/>
                  </a:lnTo>
                  <a:lnTo>
                    <a:pt x="1238" y="758"/>
                  </a:lnTo>
                  <a:lnTo>
                    <a:pt x="1227" y="758"/>
                  </a:lnTo>
                  <a:lnTo>
                    <a:pt x="1216" y="758"/>
                  </a:lnTo>
                  <a:lnTo>
                    <a:pt x="1205" y="763"/>
                  </a:lnTo>
                  <a:lnTo>
                    <a:pt x="1200" y="763"/>
                  </a:lnTo>
                  <a:lnTo>
                    <a:pt x="1189" y="768"/>
                  </a:lnTo>
                  <a:lnTo>
                    <a:pt x="1183" y="768"/>
                  </a:lnTo>
                  <a:lnTo>
                    <a:pt x="1178" y="774"/>
                  </a:lnTo>
                  <a:lnTo>
                    <a:pt x="1172" y="779"/>
                  </a:lnTo>
                  <a:lnTo>
                    <a:pt x="1172" y="790"/>
                  </a:lnTo>
                  <a:lnTo>
                    <a:pt x="1167" y="796"/>
                  </a:lnTo>
                  <a:lnTo>
                    <a:pt x="1167" y="801"/>
                  </a:lnTo>
                  <a:lnTo>
                    <a:pt x="1161" y="807"/>
                  </a:lnTo>
                  <a:lnTo>
                    <a:pt x="1156" y="812"/>
                  </a:lnTo>
                  <a:lnTo>
                    <a:pt x="1150" y="817"/>
                  </a:lnTo>
                  <a:lnTo>
                    <a:pt x="1150" y="823"/>
                  </a:lnTo>
                  <a:lnTo>
                    <a:pt x="1145" y="828"/>
                  </a:lnTo>
                  <a:lnTo>
                    <a:pt x="1140" y="839"/>
                  </a:lnTo>
                  <a:lnTo>
                    <a:pt x="1134" y="834"/>
                  </a:lnTo>
                  <a:lnTo>
                    <a:pt x="1134" y="828"/>
                  </a:lnTo>
                  <a:lnTo>
                    <a:pt x="1134" y="823"/>
                  </a:lnTo>
                  <a:lnTo>
                    <a:pt x="1134" y="812"/>
                  </a:lnTo>
                  <a:lnTo>
                    <a:pt x="1129" y="807"/>
                  </a:lnTo>
                  <a:lnTo>
                    <a:pt x="1129" y="801"/>
                  </a:lnTo>
                  <a:lnTo>
                    <a:pt x="1129" y="796"/>
                  </a:lnTo>
                  <a:lnTo>
                    <a:pt x="1123" y="790"/>
                  </a:lnTo>
                  <a:lnTo>
                    <a:pt x="1123" y="785"/>
                  </a:lnTo>
                  <a:lnTo>
                    <a:pt x="1123" y="779"/>
                  </a:lnTo>
                  <a:lnTo>
                    <a:pt x="1129" y="774"/>
                  </a:lnTo>
                  <a:lnTo>
                    <a:pt x="1129" y="763"/>
                  </a:lnTo>
                  <a:lnTo>
                    <a:pt x="1129" y="758"/>
                  </a:lnTo>
                  <a:lnTo>
                    <a:pt x="1134" y="752"/>
                  </a:lnTo>
                  <a:lnTo>
                    <a:pt x="1140" y="747"/>
                  </a:lnTo>
                  <a:lnTo>
                    <a:pt x="1140" y="741"/>
                  </a:lnTo>
                  <a:lnTo>
                    <a:pt x="1145" y="736"/>
                  </a:lnTo>
                  <a:lnTo>
                    <a:pt x="1145" y="730"/>
                  </a:lnTo>
                  <a:lnTo>
                    <a:pt x="1145" y="725"/>
                  </a:lnTo>
                  <a:lnTo>
                    <a:pt x="1145" y="719"/>
                  </a:lnTo>
                  <a:lnTo>
                    <a:pt x="1145" y="708"/>
                  </a:lnTo>
                  <a:lnTo>
                    <a:pt x="1145" y="703"/>
                  </a:lnTo>
                  <a:lnTo>
                    <a:pt x="1140" y="698"/>
                  </a:lnTo>
                  <a:lnTo>
                    <a:pt x="1140" y="692"/>
                  </a:lnTo>
                  <a:lnTo>
                    <a:pt x="1134" y="692"/>
                  </a:lnTo>
                  <a:lnTo>
                    <a:pt x="1123" y="692"/>
                  </a:lnTo>
                  <a:lnTo>
                    <a:pt x="1112" y="698"/>
                  </a:lnTo>
                  <a:lnTo>
                    <a:pt x="1107" y="703"/>
                  </a:lnTo>
                  <a:lnTo>
                    <a:pt x="1101" y="708"/>
                  </a:lnTo>
                  <a:lnTo>
                    <a:pt x="1096" y="714"/>
                  </a:lnTo>
                  <a:lnTo>
                    <a:pt x="1096" y="719"/>
                  </a:lnTo>
                  <a:lnTo>
                    <a:pt x="1091" y="730"/>
                  </a:lnTo>
                  <a:lnTo>
                    <a:pt x="1085" y="736"/>
                  </a:lnTo>
                  <a:lnTo>
                    <a:pt x="1085" y="741"/>
                  </a:lnTo>
                  <a:lnTo>
                    <a:pt x="1085" y="747"/>
                  </a:lnTo>
                  <a:lnTo>
                    <a:pt x="1085" y="752"/>
                  </a:lnTo>
                  <a:lnTo>
                    <a:pt x="1085" y="758"/>
                  </a:lnTo>
                  <a:lnTo>
                    <a:pt x="1080" y="763"/>
                  </a:lnTo>
                  <a:lnTo>
                    <a:pt x="1080" y="774"/>
                  </a:lnTo>
                  <a:lnTo>
                    <a:pt x="1080" y="779"/>
                  </a:lnTo>
                  <a:lnTo>
                    <a:pt x="1080" y="785"/>
                  </a:lnTo>
                  <a:lnTo>
                    <a:pt x="1080" y="790"/>
                  </a:lnTo>
                  <a:lnTo>
                    <a:pt x="1080" y="796"/>
                  </a:lnTo>
                  <a:lnTo>
                    <a:pt x="1074" y="801"/>
                  </a:lnTo>
                  <a:lnTo>
                    <a:pt x="1074" y="812"/>
                  </a:lnTo>
                  <a:lnTo>
                    <a:pt x="1074" y="817"/>
                  </a:lnTo>
                  <a:lnTo>
                    <a:pt x="1069" y="823"/>
                  </a:lnTo>
                  <a:lnTo>
                    <a:pt x="1069" y="828"/>
                  </a:lnTo>
                  <a:lnTo>
                    <a:pt x="1069" y="834"/>
                  </a:lnTo>
                  <a:lnTo>
                    <a:pt x="1063" y="839"/>
                  </a:lnTo>
                  <a:lnTo>
                    <a:pt x="1063" y="845"/>
                  </a:lnTo>
                  <a:lnTo>
                    <a:pt x="1063" y="856"/>
                  </a:lnTo>
                  <a:lnTo>
                    <a:pt x="1063" y="861"/>
                  </a:lnTo>
                  <a:lnTo>
                    <a:pt x="1063" y="867"/>
                  </a:lnTo>
                  <a:lnTo>
                    <a:pt x="1063" y="872"/>
                  </a:lnTo>
                  <a:lnTo>
                    <a:pt x="1063" y="877"/>
                  </a:lnTo>
                  <a:lnTo>
                    <a:pt x="1063" y="883"/>
                  </a:lnTo>
                  <a:lnTo>
                    <a:pt x="1063" y="894"/>
                  </a:lnTo>
                  <a:lnTo>
                    <a:pt x="1063" y="899"/>
                  </a:lnTo>
                  <a:lnTo>
                    <a:pt x="1063" y="905"/>
                  </a:lnTo>
                  <a:lnTo>
                    <a:pt x="1063" y="910"/>
                  </a:lnTo>
                  <a:lnTo>
                    <a:pt x="1063" y="916"/>
                  </a:lnTo>
                  <a:lnTo>
                    <a:pt x="1063" y="921"/>
                  </a:lnTo>
                  <a:lnTo>
                    <a:pt x="1063" y="932"/>
                  </a:lnTo>
                  <a:lnTo>
                    <a:pt x="1058" y="937"/>
                  </a:lnTo>
                  <a:lnTo>
                    <a:pt x="1058" y="943"/>
                  </a:lnTo>
                  <a:lnTo>
                    <a:pt x="1058" y="948"/>
                  </a:lnTo>
                  <a:lnTo>
                    <a:pt x="1058" y="954"/>
                  </a:lnTo>
                  <a:lnTo>
                    <a:pt x="1058" y="959"/>
                  </a:lnTo>
                  <a:lnTo>
                    <a:pt x="1063" y="965"/>
                  </a:lnTo>
                  <a:lnTo>
                    <a:pt x="1063" y="976"/>
                  </a:lnTo>
                  <a:lnTo>
                    <a:pt x="1063" y="981"/>
                  </a:lnTo>
                  <a:lnTo>
                    <a:pt x="1058" y="986"/>
                  </a:lnTo>
                  <a:lnTo>
                    <a:pt x="1058" y="992"/>
                  </a:lnTo>
                  <a:lnTo>
                    <a:pt x="1058" y="1003"/>
                  </a:lnTo>
                  <a:lnTo>
                    <a:pt x="1052" y="1008"/>
                  </a:lnTo>
                  <a:lnTo>
                    <a:pt x="1047" y="1014"/>
                  </a:lnTo>
                  <a:lnTo>
                    <a:pt x="1041" y="1014"/>
                  </a:lnTo>
                  <a:lnTo>
                    <a:pt x="1036" y="1014"/>
                  </a:lnTo>
                  <a:lnTo>
                    <a:pt x="1025" y="1008"/>
                  </a:lnTo>
                  <a:lnTo>
                    <a:pt x="1020" y="1003"/>
                  </a:lnTo>
                  <a:lnTo>
                    <a:pt x="1009" y="1003"/>
                  </a:lnTo>
                  <a:lnTo>
                    <a:pt x="1003" y="1003"/>
                  </a:lnTo>
                  <a:lnTo>
                    <a:pt x="992" y="1003"/>
                  </a:lnTo>
                  <a:lnTo>
                    <a:pt x="987" y="1008"/>
                  </a:lnTo>
                  <a:lnTo>
                    <a:pt x="976" y="1014"/>
                  </a:lnTo>
                  <a:lnTo>
                    <a:pt x="971" y="1019"/>
                  </a:lnTo>
                  <a:lnTo>
                    <a:pt x="965" y="1025"/>
                  </a:lnTo>
                  <a:lnTo>
                    <a:pt x="960" y="1030"/>
                  </a:lnTo>
                  <a:lnTo>
                    <a:pt x="949" y="1030"/>
                  </a:lnTo>
                  <a:lnTo>
                    <a:pt x="938" y="1036"/>
                  </a:lnTo>
                  <a:lnTo>
                    <a:pt x="932" y="1041"/>
                  </a:lnTo>
                  <a:lnTo>
                    <a:pt x="927" y="1041"/>
                  </a:lnTo>
                  <a:lnTo>
                    <a:pt x="916" y="1046"/>
                  </a:lnTo>
                  <a:lnTo>
                    <a:pt x="916" y="1052"/>
                  </a:lnTo>
                  <a:lnTo>
                    <a:pt x="911" y="1063"/>
                  </a:lnTo>
                  <a:lnTo>
                    <a:pt x="905" y="1068"/>
                  </a:lnTo>
                  <a:lnTo>
                    <a:pt x="900" y="1074"/>
                  </a:lnTo>
                  <a:lnTo>
                    <a:pt x="889" y="1074"/>
                  </a:lnTo>
                  <a:lnTo>
                    <a:pt x="883" y="1079"/>
                  </a:lnTo>
                  <a:lnTo>
                    <a:pt x="878" y="1074"/>
                  </a:lnTo>
                  <a:lnTo>
                    <a:pt x="872" y="1068"/>
                  </a:lnTo>
                  <a:lnTo>
                    <a:pt x="867" y="1063"/>
                  </a:lnTo>
                  <a:lnTo>
                    <a:pt x="862" y="1057"/>
                  </a:lnTo>
                  <a:lnTo>
                    <a:pt x="856" y="1052"/>
                  </a:lnTo>
                  <a:lnTo>
                    <a:pt x="851" y="1046"/>
                  </a:lnTo>
                  <a:lnTo>
                    <a:pt x="845" y="1041"/>
                  </a:lnTo>
                  <a:lnTo>
                    <a:pt x="834" y="1036"/>
                  </a:lnTo>
                  <a:lnTo>
                    <a:pt x="829" y="1030"/>
                  </a:lnTo>
                  <a:lnTo>
                    <a:pt x="823" y="1025"/>
                  </a:lnTo>
                  <a:lnTo>
                    <a:pt x="818" y="1019"/>
                  </a:lnTo>
                  <a:lnTo>
                    <a:pt x="807" y="1019"/>
                  </a:lnTo>
                  <a:lnTo>
                    <a:pt x="802" y="1014"/>
                  </a:lnTo>
                  <a:lnTo>
                    <a:pt x="796" y="1008"/>
                  </a:lnTo>
                  <a:lnTo>
                    <a:pt x="791" y="1003"/>
                  </a:lnTo>
                  <a:lnTo>
                    <a:pt x="785" y="997"/>
                  </a:lnTo>
                  <a:lnTo>
                    <a:pt x="780" y="992"/>
                  </a:lnTo>
                  <a:lnTo>
                    <a:pt x="769" y="986"/>
                  </a:lnTo>
                  <a:lnTo>
                    <a:pt x="763" y="986"/>
                  </a:lnTo>
                  <a:lnTo>
                    <a:pt x="758" y="981"/>
                  </a:lnTo>
                  <a:lnTo>
                    <a:pt x="752" y="976"/>
                  </a:lnTo>
                  <a:lnTo>
                    <a:pt x="747" y="970"/>
                  </a:lnTo>
                  <a:lnTo>
                    <a:pt x="747" y="965"/>
                  </a:lnTo>
                  <a:lnTo>
                    <a:pt x="747" y="954"/>
                  </a:lnTo>
                  <a:lnTo>
                    <a:pt x="747" y="948"/>
                  </a:lnTo>
                  <a:lnTo>
                    <a:pt x="747" y="943"/>
                  </a:lnTo>
                  <a:lnTo>
                    <a:pt x="752" y="937"/>
                  </a:lnTo>
                  <a:lnTo>
                    <a:pt x="758" y="932"/>
                  </a:lnTo>
                  <a:lnTo>
                    <a:pt x="758" y="927"/>
                  </a:lnTo>
                  <a:lnTo>
                    <a:pt x="758" y="921"/>
                  </a:lnTo>
                  <a:lnTo>
                    <a:pt x="752" y="916"/>
                  </a:lnTo>
                  <a:lnTo>
                    <a:pt x="747" y="910"/>
                  </a:lnTo>
                  <a:lnTo>
                    <a:pt x="742" y="905"/>
                  </a:lnTo>
                  <a:lnTo>
                    <a:pt x="731" y="899"/>
                  </a:lnTo>
                  <a:lnTo>
                    <a:pt x="725" y="894"/>
                  </a:lnTo>
                  <a:lnTo>
                    <a:pt x="720" y="899"/>
                  </a:lnTo>
                  <a:lnTo>
                    <a:pt x="720" y="905"/>
                  </a:lnTo>
                  <a:lnTo>
                    <a:pt x="714" y="910"/>
                  </a:lnTo>
                  <a:lnTo>
                    <a:pt x="709" y="916"/>
                  </a:lnTo>
                  <a:lnTo>
                    <a:pt x="703" y="921"/>
                  </a:lnTo>
                  <a:lnTo>
                    <a:pt x="703" y="927"/>
                  </a:lnTo>
                  <a:lnTo>
                    <a:pt x="698" y="932"/>
                  </a:lnTo>
                  <a:lnTo>
                    <a:pt x="692" y="937"/>
                  </a:lnTo>
                  <a:lnTo>
                    <a:pt x="687" y="943"/>
                  </a:lnTo>
                  <a:lnTo>
                    <a:pt x="682" y="948"/>
                  </a:lnTo>
                  <a:lnTo>
                    <a:pt x="676" y="954"/>
                  </a:lnTo>
                  <a:lnTo>
                    <a:pt x="682" y="959"/>
                  </a:lnTo>
                  <a:lnTo>
                    <a:pt x="687" y="965"/>
                  </a:lnTo>
                  <a:lnTo>
                    <a:pt x="698" y="970"/>
                  </a:lnTo>
                  <a:lnTo>
                    <a:pt x="703" y="970"/>
                  </a:lnTo>
                  <a:lnTo>
                    <a:pt x="709" y="976"/>
                  </a:lnTo>
                  <a:lnTo>
                    <a:pt x="714" y="986"/>
                  </a:lnTo>
                  <a:lnTo>
                    <a:pt x="714" y="992"/>
                  </a:lnTo>
                  <a:lnTo>
                    <a:pt x="720" y="997"/>
                  </a:lnTo>
                  <a:lnTo>
                    <a:pt x="720" y="1003"/>
                  </a:lnTo>
                  <a:lnTo>
                    <a:pt x="725" y="1008"/>
                  </a:lnTo>
                  <a:lnTo>
                    <a:pt x="731" y="1014"/>
                  </a:lnTo>
                  <a:lnTo>
                    <a:pt x="736" y="1019"/>
                  </a:lnTo>
                  <a:lnTo>
                    <a:pt x="742" y="1025"/>
                  </a:lnTo>
                  <a:lnTo>
                    <a:pt x="742" y="1030"/>
                  </a:lnTo>
                  <a:lnTo>
                    <a:pt x="742" y="1036"/>
                  </a:lnTo>
                  <a:lnTo>
                    <a:pt x="742" y="1041"/>
                  </a:lnTo>
                  <a:lnTo>
                    <a:pt x="747" y="1052"/>
                  </a:lnTo>
                  <a:lnTo>
                    <a:pt x="747" y="1057"/>
                  </a:lnTo>
                  <a:lnTo>
                    <a:pt x="752" y="1063"/>
                  </a:lnTo>
                  <a:lnTo>
                    <a:pt x="758" y="1068"/>
                  </a:lnTo>
                  <a:lnTo>
                    <a:pt x="763" y="1074"/>
                  </a:lnTo>
                  <a:lnTo>
                    <a:pt x="763" y="1079"/>
                  </a:lnTo>
                  <a:lnTo>
                    <a:pt x="769" y="1085"/>
                  </a:lnTo>
                  <a:lnTo>
                    <a:pt x="774" y="1090"/>
                  </a:lnTo>
                  <a:lnTo>
                    <a:pt x="774" y="1095"/>
                  </a:lnTo>
                  <a:lnTo>
                    <a:pt x="780" y="1101"/>
                  </a:lnTo>
                  <a:lnTo>
                    <a:pt x="785" y="1106"/>
                  </a:lnTo>
                  <a:lnTo>
                    <a:pt x="791" y="1112"/>
                  </a:lnTo>
                  <a:lnTo>
                    <a:pt x="796" y="1117"/>
                  </a:lnTo>
                  <a:lnTo>
                    <a:pt x="796" y="1123"/>
                  </a:lnTo>
                  <a:lnTo>
                    <a:pt x="802" y="1128"/>
                  </a:lnTo>
                  <a:lnTo>
                    <a:pt x="802" y="1139"/>
                  </a:lnTo>
                  <a:lnTo>
                    <a:pt x="802" y="1145"/>
                  </a:lnTo>
                  <a:lnTo>
                    <a:pt x="802" y="1150"/>
                  </a:lnTo>
                  <a:lnTo>
                    <a:pt x="807" y="1155"/>
                  </a:lnTo>
                  <a:lnTo>
                    <a:pt x="812" y="1161"/>
                  </a:lnTo>
                  <a:lnTo>
                    <a:pt x="818" y="1166"/>
                  </a:lnTo>
                  <a:lnTo>
                    <a:pt x="823" y="1172"/>
                  </a:lnTo>
                  <a:lnTo>
                    <a:pt x="823" y="1177"/>
                  </a:lnTo>
                  <a:lnTo>
                    <a:pt x="829" y="1183"/>
                  </a:lnTo>
                  <a:lnTo>
                    <a:pt x="834" y="1188"/>
                  </a:lnTo>
                  <a:lnTo>
                    <a:pt x="834" y="1194"/>
                  </a:lnTo>
                  <a:lnTo>
                    <a:pt x="840" y="1199"/>
                  </a:lnTo>
                  <a:lnTo>
                    <a:pt x="845" y="1204"/>
                  </a:lnTo>
                  <a:lnTo>
                    <a:pt x="851" y="1210"/>
                  </a:lnTo>
                  <a:lnTo>
                    <a:pt x="851" y="1221"/>
                  </a:lnTo>
                  <a:lnTo>
                    <a:pt x="845" y="1226"/>
                  </a:lnTo>
                  <a:lnTo>
                    <a:pt x="840" y="1232"/>
                  </a:lnTo>
                  <a:lnTo>
                    <a:pt x="834" y="1237"/>
                  </a:lnTo>
                  <a:lnTo>
                    <a:pt x="829" y="1237"/>
                  </a:lnTo>
                  <a:lnTo>
                    <a:pt x="823" y="1243"/>
                  </a:lnTo>
                  <a:lnTo>
                    <a:pt x="812" y="1248"/>
                  </a:lnTo>
                  <a:lnTo>
                    <a:pt x="807" y="1254"/>
                  </a:lnTo>
                  <a:lnTo>
                    <a:pt x="802" y="1259"/>
                  </a:lnTo>
                  <a:lnTo>
                    <a:pt x="796" y="1264"/>
                  </a:lnTo>
                  <a:lnTo>
                    <a:pt x="785" y="1264"/>
                  </a:lnTo>
                  <a:lnTo>
                    <a:pt x="780" y="1270"/>
                  </a:lnTo>
                  <a:lnTo>
                    <a:pt x="769" y="1275"/>
                  </a:lnTo>
                  <a:lnTo>
                    <a:pt x="763" y="1275"/>
                  </a:lnTo>
                  <a:lnTo>
                    <a:pt x="752" y="1275"/>
                  </a:lnTo>
                  <a:lnTo>
                    <a:pt x="742" y="1281"/>
                  </a:lnTo>
                  <a:lnTo>
                    <a:pt x="731" y="1281"/>
                  </a:lnTo>
                  <a:lnTo>
                    <a:pt x="725" y="1281"/>
                  </a:lnTo>
                  <a:lnTo>
                    <a:pt x="714" y="1281"/>
                  </a:lnTo>
                  <a:lnTo>
                    <a:pt x="703" y="1281"/>
                  </a:lnTo>
                  <a:lnTo>
                    <a:pt x="692" y="1281"/>
                  </a:lnTo>
                  <a:lnTo>
                    <a:pt x="682" y="1281"/>
                  </a:lnTo>
                  <a:lnTo>
                    <a:pt x="671" y="1286"/>
                  </a:lnTo>
                  <a:lnTo>
                    <a:pt x="665" y="1286"/>
                  </a:lnTo>
                  <a:lnTo>
                    <a:pt x="660" y="1292"/>
                  </a:lnTo>
                  <a:lnTo>
                    <a:pt x="654" y="1297"/>
                  </a:lnTo>
                  <a:lnTo>
                    <a:pt x="649" y="1303"/>
                  </a:lnTo>
                  <a:lnTo>
                    <a:pt x="649" y="1308"/>
                  </a:lnTo>
                  <a:lnTo>
                    <a:pt x="649" y="1313"/>
                  </a:lnTo>
                  <a:lnTo>
                    <a:pt x="643" y="1319"/>
                  </a:lnTo>
                  <a:lnTo>
                    <a:pt x="643" y="1324"/>
                  </a:lnTo>
                  <a:lnTo>
                    <a:pt x="643" y="1335"/>
                  </a:lnTo>
                  <a:lnTo>
                    <a:pt x="638" y="1341"/>
                  </a:lnTo>
                  <a:lnTo>
                    <a:pt x="638" y="1346"/>
                  </a:lnTo>
                  <a:lnTo>
                    <a:pt x="638" y="1357"/>
                  </a:lnTo>
                  <a:lnTo>
                    <a:pt x="633" y="1363"/>
                  </a:lnTo>
                  <a:lnTo>
                    <a:pt x="633" y="1368"/>
                  </a:lnTo>
                  <a:lnTo>
                    <a:pt x="627" y="1368"/>
                  </a:lnTo>
                  <a:lnTo>
                    <a:pt x="622" y="1363"/>
                  </a:lnTo>
                  <a:lnTo>
                    <a:pt x="611" y="1357"/>
                  </a:lnTo>
                  <a:lnTo>
                    <a:pt x="605" y="1352"/>
                  </a:lnTo>
                  <a:lnTo>
                    <a:pt x="594" y="1346"/>
                  </a:lnTo>
                  <a:lnTo>
                    <a:pt x="589" y="1346"/>
                  </a:lnTo>
                  <a:lnTo>
                    <a:pt x="578" y="1341"/>
                  </a:lnTo>
                  <a:lnTo>
                    <a:pt x="567" y="1341"/>
                  </a:lnTo>
                  <a:lnTo>
                    <a:pt x="562" y="1341"/>
                  </a:lnTo>
                  <a:lnTo>
                    <a:pt x="551" y="1341"/>
                  </a:lnTo>
                  <a:lnTo>
                    <a:pt x="540" y="1341"/>
                  </a:lnTo>
                  <a:lnTo>
                    <a:pt x="534" y="1346"/>
                  </a:lnTo>
                  <a:lnTo>
                    <a:pt x="523" y="1346"/>
                  </a:lnTo>
                  <a:lnTo>
                    <a:pt x="513" y="1346"/>
                  </a:lnTo>
                  <a:lnTo>
                    <a:pt x="502" y="1352"/>
                  </a:lnTo>
                  <a:lnTo>
                    <a:pt x="496" y="1352"/>
                  </a:lnTo>
                  <a:lnTo>
                    <a:pt x="485" y="1352"/>
                  </a:lnTo>
                  <a:lnTo>
                    <a:pt x="474" y="1352"/>
                  </a:lnTo>
                  <a:lnTo>
                    <a:pt x="469" y="1357"/>
                  </a:lnTo>
                  <a:lnTo>
                    <a:pt x="463" y="1363"/>
                  </a:lnTo>
                  <a:lnTo>
                    <a:pt x="458" y="1368"/>
                  </a:lnTo>
                  <a:lnTo>
                    <a:pt x="458" y="1373"/>
                  </a:lnTo>
                  <a:lnTo>
                    <a:pt x="463" y="1384"/>
                  </a:lnTo>
                  <a:lnTo>
                    <a:pt x="463" y="1390"/>
                  </a:lnTo>
                  <a:lnTo>
                    <a:pt x="469" y="1395"/>
                  </a:lnTo>
                  <a:lnTo>
                    <a:pt x="474" y="1401"/>
                  </a:lnTo>
                  <a:lnTo>
                    <a:pt x="474" y="1406"/>
                  </a:lnTo>
                  <a:lnTo>
                    <a:pt x="469" y="1412"/>
                  </a:lnTo>
                  <a:lnTo>
                    <a:pt x="463" y="1406"/>
                  </a:lnTo>
                  <a:lnTo>
                    <a:pt x="458" y="1401"/>
                  </a:lnTo>
                  <a:lnTo>
                    <a:pt x="447" y="1395"/>
                  </a:lnTo>
                  <a:lnTo>
                    <a:pt x="442" y="1395"/>
                  </a:lnTo>
                  <a:lnTo>
                    <a:pt x="436" y="1390"/>
                  </a:lnTo>
                  <a:lnTo>
                    <a:pt x="431" y="1384"/>
                  </a:lnTo>
                  <a:lnTo>
                    <a:pt x="420" y="1379"/>
                  </a:lnTo>
                  <a:lnTo>
                    <a:pt x="414" y="1379"/>
                  </a:lnTo>
                  <a:lnTo>
                    <a:pt x="404" y="1373"/>
                  </a:lnTo>
                  <a:lnTo>
                    <a:pt x="398" y="1368"/>
                  </a:lnTo>
                  <a:lnTo>
                    <a:pt x="387" y="1368"/>
                  </a:lnTo>
                  <a:lnTo>
                    <a:pt x="382" y="1363"/>
                  </a:lnTo>
                  <a:lnTo>
                    <a:pt x="371" y="1363"/>
                  </a:lnTo>
                  <a:lnTo>
                    <a:pt x="360" y="1363"/>
                  </a:lnTo>
                  <a:lnTo>
                    <a:pt x="354" y="1357"/>
                  </a:lnTo>
                  <a:lnTo>
                    <a:pt x="344" y="1357"/>
                  </a:lnTo>
                  <a:lnTo>
                    <a:pt x="333" y="1352"/>
                  </a:lnTo>
                  <a:lnTo>
                    <a:pt x="327" y="1352"/>
                  </a:lnTo>
                  <a:lnTo>
                    <a:pt x="316" y="1346"/>
                  </a:lnTo>
                  <a:lnTo>
                    <a:pt x="305" y="1346"/>
                  </a:lnTo>
                  <a:lnTo>
                    <a:pt x="300" y="1346"/>
                  </a:lnTo>
                  <a:lnTo>
                    <a:pt x="289" y="1341"/>
                  </a:lnTo>
                  <a:lnTo>
                    <a:pt x="278" y="1341"/>
                  </a:lnTo>
                  <a:lnTo>
                    <a:pt x="273" y="1335"/>
                  </a:lnTo>
                  <a:lnTo>
                    <a:pt x="262" y="1335"/>
                  </a:lnTo>
                  <a:lnTo>
                    <a:pt x="251" y="1330"/>
                  </a:lnTo>
                  <a:lnTo>
                    <a:pt x="245" y="1330"/>
                  </a:lnTo>
                  <a:lnTo>
                    <a:pt x="235" y="1330"/>
                  </a:lnTo>
                  <a:lnTo>
                    <a:pt x="224" y="1324"/>
                  </a:lnTo>
                  <a:lnTo>
                    <a:pt x="218" y="1324"/>
                  </a:lnTo>
                  <a:lnTo>
                    <a:pt x="207" y="1319"/>
                  </a:lnTo>
                  <a:lnTo>
                    <a:pt x="196" y="1319"/>
                  </a:lnTo>
                  <a:lnTo>
                    <a:pt x="191" y="1313"/>
                  </a:lnTo>
                  <a:lnTo>
                    <a:pt x="180" y="1313"/>
                  </a:lnTo>
                  <a:lnTo>
                    <a:pt x="169" y="1313"/>
                  </a:lnTo>
                  <a:lnTo>
                    <a:pt x="164" y="1308"/>
                  </a:lnTo>
                  <a:lnTo>
                    <a:pt x="153" y="1308"/>
                  </a:lnTo>
                  <a:lnTo>
                    <a:pt x="142" y="1303"/>
                  </a:lnTo>
                  <a:lnTo>
                    <a:pt x="136" y="1303"/>
                  </a:lnTo>
                  <a:lnTo>
                    <a:pt x="125" y="1297"/>
                  </a:lnTo>
                  <a:lnTo>
                    <a:pt x="115" y="1297"/>
                  </a:lnTo>
                  <a:lnTo>
                    <a:pt x="109" y="1297"/>
                  </a:lnTo>
                  <a:lnTo>
                    <a:pt x="98" y="1297"/>
                  </a:lnTo>
                  <a:lnTo>
                    <a:pt x="87" y="1292"/>
                  </a:lnTo>
                  <a:lnTo>
                    <a:pt x="76" y="1286"/>
                  </a:lnTo>
                  <a:lnTo>
                    <a:pt x="71" y="1286"/>
                  </a:lnTo>
                  <a:lnTo>
                    <a:pt x="60" y="1281"/>
                  </a:lnTo>
                  <a:lnTo>
                    <a:pt x="55" y="1281"/>
                  </a:lnTo>
                  <a:lnTo>
                    <a:pt x="49" y="1286"/>
                  </a:lnTo>
                  <a:lnTo>
                    <a:pt x="44" y="1292"/>
                  </a:lnTo>
                  <a:lnTo>
                    <a:pt x="38" y="1297"/>
                  </a:lnTo>
                  <a:lnTo>
                    <a:pt x="38" y="1308"/>
                  </a:lnTo>
                  <a:lnTo>
                    <a:pt x="33" y="1313"/>
                  </a:lnTo>
                  <a:lnTo>
                    <a:pt x="33" y="1319"/>
                  </a:lnTo>
                  <a:lnTo>
                    <a:pt x="33" y="1324"/>
                  </a:lnTo>
                  <a:lnTo>
                    <a:pt x="33" y="1330"/>
                  </a:lnTo>
                  <a:lnTo>
                    <a:pt x="33" y="1341"/>
                  </a:lnTo>
                  <a:lnTo>
                    <a:pt x="27" y="1346"/>
                  </a:lnTo>
                  <a:lnTo>
                    <a:pt x="27" y="1352"/>
                  </a:lnTo>
                  <a:lnTo>
                    <a:pt x="27" y="1357"/>
                  </a:lnTo>
                  <a:lnTo>
                    <a:pt x="27" y="1363"/>
                  </a:lnTo>
                  <a:lnTo>
                    <a:pt x="27" y="1368"/>
                  </a:lnTo>
                  <a:lnTo>
                    <a:pt x="27" y="1373"/>
                  </a:lnTo>
                  <a:lnTo>
                    <a:pt x="22" y="1384"/>
                  </a:lnTo>
                  <a:lnTo>
                    <a:pt x="22" y="1390"/>
                  </a:lnTo>
                  <a:lnTo>
                    <a:pt x="22" y="1395"/>
                  </a:lnTo>
                  <a:lnTo>
                    <a:pt x="22" y="1401"/>
                  </a:lnTo>
                  <a:lnTo>
                    <a:pt x="22" y="1406"/>
                  </a:lnTo>
                  <a:lnTo>
                    <a:pt x="16" y="1412"/>
                  </a:lnTo>
                  <a:lnTo>
                    <a:pt x="16" y="1422"/>
                  </a:lnTo>
                  <a:lnTo>
                    <a:pt x="16" y="1428"/>
                  </a:lnTo>
                  <a:lnTo>
                    <a:pt x="16" y="1433"/>
                  </a:lnTo>
                  <a:lnTo>
                    <a:pt x="16" y="1439"/>
                  </a:lnTo>
                  <a:lnTo>
                    <a:pt x="16" y="1444"/>
                  </a:lnTo>
                  <a:lnTo>
                    <a:pt x="11" y="1450"/>
                  </a:lnTo>
                  <a:lnTo>
                    <a:pt x="11" y="1461"/>
                  </a:lnTo>
                  <a:lnTo>
                    <a:pt x="11" y="1466"/>
                  </a:lnTo>
                  <a:lnTo>
                    <a:pt x="11" y="1472"/>
                  </a:lnTo>
                  <a:lnTo>
                    <a:pt x="11" y="1477"/>
                  </a:lnTo>
                  <a:lnTo>
                    <a:pt x="11" y="1482"/>
                  </a:lnTo>
                  <a:lnTo>
                    <a:pt x="6" y="1488"/>
                  </a:lnTo>
                  <a:lnTo>
                    <a:pt x="6" y="1493"/>
                  </a:lnTo>
                  <a:lnTo>
                    <a:pt x="6" y="1504"/>
                  </a:lnTo>
                  <a:lnTo>
                    <a:pt x="6" y="1510"/>
                  </a:lnTo>
                  <a:lnTo>
                    <a:pt x="6" y="1515"/>
                  </a:lnTo>
                  <a:lnTo>
                    <a:pt x="6" y="1521"/>
                  </a:lnTo>
                  <a:lnTo>
                    <a:pt x="0" y="1526"/>
                  </a:lnTo>
                  <a:lnTo>
                    <a:pt x="0" y="1531"/>
                  </a:lnTo>
                  <a:lnTo>
                    <a:pt x="0" y="154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0" name=""/>
            <p:cNvSpPr/>
            <p:nvPr/>
          </p:nvSpPr>
          <p:spPr>
            <a:xfrm>
              <a:off x="4000680" y="4626000"/>
              <a:ext cx="34920" cy="52200"/>
            </a:xfrm>
            <a:custGeom>
              <a:avLst/>
              <a:gdLst/>
              <a:ahLst/>
              <a:rect l="l" t="t" r="r" b="b"/>
              <a:pathLst>
                <a:path w="22" h="33">
                  <a:moveTo>
                    <a:pt x="0" y="11"/>
                  </a:moveTo>
                  <a:lnTo>
                    <a:pt x="6" y="5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7" y="5"/>
                  </a:lnTo>
                  <a:lnTo>
                    <a:pt x="22" y="11"/>
                  </a:lnTo>
                  <a:lnTo>
                    <a:pt x="22" y="16"/>
                  </a:lnTo>
                  <a:lnTo>
                    <a:pt x="22" y="22"/>
                  </a:lnTo>
                  <a:lnTo>
                    <a:pt x="17" y="27"/>
                  </a:lnTo>
                  <a:lnTo>
                    <a:pt x="11" y="27"/>
                  </a:lnTo>
                  <a:lnTo>
                    <a:pt x="11" y="33"/>
                  </a:lnTo>
                  <a:lnTo>
                    <a:pt x="6" y="27"/>
                  </a:lnTo>
                  <a:lnTo>
                    <a:pt x="6" y="27"/>
                  </a:lnTo>
                  <a:lnTo>
                    <a:pt x="6" y="22"/>
                  </a:lnTo>
                  <a:lnTo>
                    <a:pt x="0" y="1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1" name=""/>
            <p:cNvSpPr/>
            <p:nvPr/>
          </p:nvSpPr>
          <p:spPr>
            <a:xfrm>
              <a:off x="2944800" y="4478400"/>
              <a:ext cx="42840" cy="52200"/>
            </a:xfrm>
            <a:custGeom>
              <a:avLst/>
              <a:gdLst/>
              <a:ahLst/>
              <a:rect l="l" t="t" r="r" b="b"/>
              <a:pathLst>
                <a:path w="27" h="33">
                  <a:moveTo>
                    <a:pt x="27" y="11"/>
                  </a:moveTo>
                  <a:lnTo>
                    <a:pt x="16" y="0"/>
                  </a:lnTo>
                  <a:lnTo>
                    <a:pt x="11" y="0"/>
                  </a:lnTo>
                  <a:lnTo>
                    <a:pt x="6" y="0"/>
                  </a:lnTo>
                  <a:lnTo>
                    <a:pt x="6" y="6"/>
                  </a:lnTo>
                  <a:lnTo>
                    <a:pt x="0" y="11"/>
                  </a:lnTo>
                  <a:lnTo>
                    <a:pt x="0" y="22"/>
                  </a:lnTo>
                  <a:lnTo>
                    <a:pt x="6" y="27"/>
                  </a:lnTo>
                  <a:lnTo>
                    <a:pt x="6" y="33"/>
                  </a:lnTo>
                  <a:lnTo>
                    <a:pt x="6" y="33"/>
                  </a:lnTo>
                  <a:lnTo>
                    <a:pt x="11" y="33"/>
                  </a:lnTo>
                  <a:lnTo>
                    <a:pt x="16" y="33"/>
                  </a:lnTo>
                  <a:lnTo>
                    <a:pt x="16" y="27"/>
                  </a:lnTo>
                  <a:lnTo>
                    <a:pt x="22" y="17"/>
                  </a:lnTo>
                  <a:lnTo>
                    <a:pt x="27" y="1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2" name=""/>
            <p:cNvSpPr/>
            <p:nvPr/>
          </p:nvSpPr>
          <p:spPr>
            <a:xfrm>
              <a:off x="2944800" y="4054320"/>
              <a:ext cx="17640" cy="95400"/>
            </a:xfrm>
            <a:custGeom>
              <a:avLst/>
              <a:gdLst/>
              <a:ahLst/>
              <a:rect l="l" t="t" r="r" b="b"/>
              <a:pathLst>
                <a:path w="11" h="60">
                  <a:moveTo>
                    <a:pt x="11" y="55"/>
                  </a:moveTo>
                  <a:lnTo>
                    <a:pt x="11" y="44"/>
                  </a:lnTo>
                  <a:lnTo>
                    <a:pt x="11" y="38"/>
                  </a:lnTo>
                  <a:lnTo>
                    <a:pt x="11" y="33"/>
                  </a:lnTo>
                  <a:lnTo>
                    <a:pt x="11" y="27"/>
                  </a:lnTo>
                  <a:lnTo>
                    <a:pt x="11" y="22"/>
                  </a:lnTo>
                  <a:lnTo>
                    <a:pt x="11" y="16"/>
                  </a:lnTo>
                  <a:lnTo>
                    <a:pt x="11" y="6"/>
                  </a:lnTo>
                  <a:lnTo>
                    <a:pt x="11" y="0"/>
                  </a:lnTo>
                  <a:lnTo>
                    <a:pt x="6" y="0"/>
                  </a:lnTo>
                  <a:lnTo>
                    <a:pt x="6" y="6"/>
                  </a:lnTo>
                  <a:lnTo>
                    <a:pt x="0" y="11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0" y="38"/>
                  </a:lnTo>
                  <a:lnTo>
                    <a:pt x="0" y="44"/>
                  </a:lnTo>
                  <a:lnTo>
                    <a:pt x="6" y="49"/>
                  </a:lnTo>
                  <a:lnTo>
                    <a:pt x="6" y="60"/>
                  </a:lnTo>
                  <a:lnTo>
                    <a:pt x="6" y="60"/>
                  </a:lnTo>
                  <a:lnTo>
                    <a:pt x="11" y="5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3" name=""/>
            <p:cNvSpPr/>
            <p:nvPr/>
          </p:nvSpPr>
          <p:spPr>
            <a:xfrm>
              <a:off x="5264280" y="3422520"/>
              <a:ext cx="398160" cy="684360"/>
            </a:xfrm>
            <a:custGeom>
              <a:avLst/>
              <a:gdLst/>
              <a:ahLst/>
              <a:rect l="l" t="t" r="r" b="b"/>
              <a:pathLst>
                <a:path w="251" h="431">
                  <a:moveTo>
                    <a:pt x="0" y="420"/>
                  </a:moveTo>
                  <a:lnTo>
                    <a:pt x="6" y="414"/>
                  </a:lnTo>
                  <a:lnTo>
                    <a:pt x="11" y="404"/>
                  </a:lnTo>
                  <a:lnTo>
                    <a:pt x="17" y="398"/>
                  </a:lnTo>
                  <a:lnTo>
                    <a:pt x="22" y="393"/>
                  </a:lnTo>
                  <a:lnTo>
                    <a:pt x="22" y="387"/>
                  </a:lnTo>
                  <a:lnTo>
                    <a:pt x="28" y="382"/>
                  </a:lnTo>
                  <a:lnTo>
                    <a:pt x="33" y="376"/>
                  </a:lnTo>
                  <a:lnTo>
                    <a:pt x="39" y="365"/>
                  </a:lnTo>
                  <a:lnTo>
                    <a:pt x="44" y="360"/>
                  </a:lnTo>
                  <a:lnTo>
                    <a:pt x="49" y="355"/>
                  </a:lnTo>
                  <a:lnTo>
                    <a:pt x="55" y="349"/>
                  </a:lnTo>
                  <a:lnTo>
                    <a:pt x="60" y="344"/>
                  </a:lnTo>
                  <a:lnTo>
                    <a:pt x="66" y="338"/>
                  </a:lnTo>
                  <a:lnTo>
                    <a:pt x="71" y="333"/>
                  </a:lnTo>
                  <a:lnTo>
                    <a:pt x="77" y="327"/>
                  </a:lnTo>
                  <a:lnTo>
                    <a:pt x="82" y="316"/>
                  </a:lnTo>
                  <a:lnTo>
                    <a:pt x="88" y="311"/>
                  </a:lnTo>
                  <a:lnTo>
                    <a:pt x="93" y="305"/>
                  </a:lnTo>
                  <a:lnTo>
                    <a:pt x="98" y="300"/>
                  </a:lnTo>
                  <a:lnTo>
                    <a:pt x="98" y="295"/>
                  </a:lnTo>
                  <a:lnTo>
                    <a:pt x="98" y="289"/>
                  </a:lnTo>
                  <a:lnTo>
                    <a:pt x="93" y="278"/>
                  </a:lnTo>
                  <a:lnTo>
                    <a:pt x="88" y="273"/>
                  </a:lnTo>
                  <a:lnTo>
                    <a:pt x="82" y="267"/>
                  </a:lnTo>
                  <a:lnTo>
                    <a:pt x="77" y="262"/>
                  </a:lnTo>
                  <a:lnTo>
                    <a:pt x="77" y="256"/>
                  </a:lnTo>
                  <a:lnTo>
                    <a:pt x="77" y="251"/>
                  </a:lnTo>
                  <a:lnTo>
                    <a:pt x="82" y="240"/>
                  </a:lnTo>
                  <a:lnTo>
                    <a:pt x="82" y="235"/>
                  </a:lnTo>
                  <a:lnTo>
                    <a:pt x="88" y="229"/>
                  </a:lnTo>
                  <a:lnTo>
                    <a:pt x="93" y="224"/>
                  </a:lnTo>
                  <a:lnTo>
                    <a:pt x="93" y="213"/>
                  </a:lnTo>
                  <a:lnTo>
                    <a:pt x="98" y="207"/>
                  </a:lnTo>
                  <a:lnTo>
                    <a:pt x="98" y="202"/>
                  </a:lnTo>
                  <a:lnTo>
                    <a:pt x="104" y="196"/>
                  </a:lnTo>
                  <a:lnTo>
                    <a:pt x="104" y="186"/>
                  </a:lnTo>
                  <a:lnTo>
                    <a:pt x="109" y="180"/>
                  </a:lnTo>
                  <a:lnTo>
                    <a:pt x="115" y="175"/>
                  </a:lnTo>
                  <a:lnTo>
                    <a:pt x="126" y="169"/>
                  </a:lnTo>
                  <a:lnTo>
                    <a:pt x="131" y="164"/>
                  </a:lnTo>
                  <a:lnTo>
                    <a:pt x="142" y="164"/>
                  </a:lnTo>
                  <a:lnTo>
                    <a:pt x="153" y="164"/>
                  </a:lnTo>
                  <a:lnTo>
                    <a:pt x="158" y="158"/>
                  </a:lnTo>
                  <a:lnTo>
                    <a:pt x="164" y="147"/>
                  </a:lnTo>
                  <a:lnTo>
                    <a:pt x="169" y="142"/>
                  </a:lnTo>
                  <a:lnTo>
                    <a:pt x="169" y="136"/>
                  </a:lnTo>
                  <a:lnTo>
                    <a:pt x="169" y="131"/>
                  </a:lnTo>
                  <a:lnTo>
                    <a:pt x="175" y="120"/>
                  </a:lnTo>
                  <a:lnTo>
                    <a:pt x="175" y="115"/>
                  </a:lnTo>
                  <a:lnTo>
                    <a:pt x="175" y="109"/>
                  </a:lnTo>
                  <a:lnTo>
                    <a:pt x="175" y="98"/>
                  </a:lnTo>
                  <a:lnTo>
                    <a:pt x="169" y="93"/>
                  </a:lnTo>
                  <a:lnTo>
                    <a:pt x="169" y="87"/>
                  </a:lnTo>
                  <a:lnTo>
                    <a:pt x="164" y="82"/>
                  </a:lnTo>
                  <a:lnTo>
                    <a:pt x="164" y="71"/>
                  </a:lnTo>
                  <a:lnTo>
                    <a:pt x="164" y="66"/>
                  </a:lnTo>
                  <a:lnTo>
                    <a:pt x="164" y="60"/>
                  </a:lnTo>
                  <a:lnTo>
                    <a:pt x="164" y="49"/>
                  </a:lnTo>
                  <a:lnTo>
                    <a:pt x="164" y="44"/>
                  </a:lnTo>
                  <a:lnTo>
                    <a:pt x="164" y="38"/>
                  </a:lnTo>
                  <a:lnTo>
                    <a:pt x="164" y="33"/>
                  </a:lnTo>
                  <a:lnTo>
                    <a:pt x="158" y="22"/>
                  </a:lnTo>
                  <a:lnTo>
                    <a:pt x="158" y="17"/>
                  </a:lnTo>
                  <a:lnTo>
                    <a:pt x="158" y="11"/>
                  </a:lnTo>
                  <a:lnTo>
                    <a:pt x="164" y="0"/>
                  </a:lnTo>
                  <a:lnTo>
                    <a:pt x="169" y="0"/>
                  </a:lnTo>
                  <a:lnTo>
                    <a:pt x="180" y="0"/>
                  </a:lnTo>
                  <a:lnTo>
                    <a:pt x="186" y="6"/>
                  </a:lnTo>
                  <a:lnTo>
                    <a:pt x="197" y="11"/>
                  </a:lnTo>
                  <a:lnTo>
                    <a:pt x="202" y="17"/>
                  </a:lnTo>
                  <a:lnTo>
                    <a:pt x="208" y="22"/>
                  </a:lnTo>
                  <a:lnTo>
                    <a:pt x="213" y="27"/>
                  </a:lnTo>
                  <a:lnTo>
                    <a:pt x="224" y="27"/>
                  </a:lnTo>
                  <a:lnTo>
                    <a:pt x="235" y="33"/>
                  </a:lnTo>
                  <a:lnTo>
                    <a:pt x="246" y="33"/>
                  </a:lnTo>
                  <a:lnTo>
                    <a:pt x="251" y="38"/>
                  </a:lnTo>
                  <a:lnTo>
                    <a:pt x="251" y="44"/>
                  </a:lnTo>
                  <a:lnTo>
                    <a:pt x="251" y="49"/>
                  </a:lnTo>
                  <a:lnTo>
                    <a:pt x="240" y="60"/>
                  </a:lnTo>
                  <a:lnTo>
                    <a:pt x="235" y="66"/>
                  </a:lnTo>
                  <a:lnTo>
                    <a:pt x="229" y="71"/>
                  </a:lnTo>
                  <a:lnTo>
                    <a:pt x="224" y="77"/>
                  </a:lnTo>
                  <a:lnTo>
                    <a:pt x="218" y="82"/>
                  </a:lnTo>
                  <a:lnTo>
                    <a:pt x="218" y="93"/>
                  </a:lnTo>
                  <a:lnTo>
                    <a:pt x="218" y="98"/>
                  </a:lnTo>
                  <a:lnTo>
                    <a:pt x="218" y="104"/>
                  </a:lnTo>
                  <a:lnTo>
                    <a:pt x="218" y="115"/>
                  </a:lnTo>
                  <a:lnTo>
                    <a:pt x="218" y="120"/>
                  </a:lnTo>
                  <a:lnTo>
                    <a:pt x="218" y="126"/>
                  </a:lnTo>
                  <a:lnTo>
                    <a:pt x="218" y="131"/>
                  </a:lnTo>
                  <a:lnTo>
                    <a:pt x="213" y="142"/>
                  </a:lnTo>
                  <a:lnTo>
                    <a:pt x="213" y="147"/>
                  </a:lnTo>
                  <a:lnTo>
                    <a:pt x="213" y="153"/>
                  </a:lnTo>
                  <a:lnTo>
                    <a:pt x="213" y="164"/>
                  </a:lnTo>
                  <a:lnTo>
                    <a:pt x="213" y="169"/>
                  </a:lnTo>
                  <a:lnTo>
                    <a:pt x="218" y="175"/>
                  </a:lnTo>
                  <a:lnTo>
                    <a:pt x="218" y="180"/>
                  </a:lnTo>
                  <a:lnTo>
                    <a:pt x="218" y="191"/>
                  </a:lnTo>
                  <a:lnTo>
                    <a:pt x="218" y="196"/>
                  </a:lnTo>
                  <a:lnTo>
                    <a:pt x="218" y="202"/>
                  </a:lnTo>
                  <a:lnTo>
                    <a:pt x="218" y="207"/>
                  </a:lnTo>
                  <a:lnTo>
                    <a:pt x="218" y="218"/>
                  </a:lnTo>
                  <a:lnTo>
                    <a:pt x="218" y="224"/>
                  </a:lnTo>
                  <a:lnTo>
                    <a:pt x="218" y="229"/>
                  </a:lnTo>
                  <a:lnTo>
                    <a:pt x="218" y="240"/>
                  </a:lnTo>
                  <a:lnTo>
                    <a:pt x="224" y="245"/>
                  </a:lnTo>
                  <a:lnTo>
                    <a:pt x="224" y="251"/>
                  </a:lnTo>
                  <a:lnTo>
                    <a:pt x="229" y="256"/>
                  </a:lnTo>
                  <a:lnTo>
                    <a:pt x="229" y="267"/>
                  </a:lnTo>
                  <a:lnTo>
                    <a:pt x="235" y="273"/>
                  </a:lnTo>
                  <a:lnTo>
                    <a:pt x="235" y="278"/>
                  </a:lnTo>
                  <a:lnTo>
                    <a:pt x="240" y="284"/>
                  </a:lnTo>
                  <a:lnTo>
                    <a:pt x="235" y="295"/>
                  </a:lnTo>
                  <a:lnTo>
                    <a:pt x="235" y="300"/>
                  </a:lnTo>
                  <a:lnTo>
                    <a:pt x="229" y="305"/>
                  </a:lnTo>
                  <a:lnTo>
                    <a:pt x="224" y="311"/>
                  </a:lnTo>
                  <a:lnTo>
                    <a:pt x="218" y="316"/>
                  </a:lnTo>
                  <a:lnTo>
                    <a:pt x="213" y="322"/>
                  </a:lnTo>
                  <a:lnTo>
                    <a:pt x="208" y="327"/>
                  </a:lnTo>
                  <a:lnTo>
                    <a:pt x="202" y="333"/>
                  </a:lnTo>
                  <a:lnTo>
                    <a:pt x="197" y="344"/>
                  </a:lnTo>
                  <a:lnTo>
                    <a:pt x="197" y="349"/>
                  </a:lnTo>
                  <a:lnTo>
                    <a:pt x="197" y="355"/>
                  </a:lnTo>
                  <a:lnTo>
                    <a:pt x="197" y="360"/>
                  </a:lnTo>
                  <a:lnTo>
                    <a:pt x="202" y="371"/>
                  </a:lnTo>
                  <a:lnTo>
                    <a:pt x="208" y="376"/>
                  </a:lnTo>
                  <a:lnTo>
                    <a:pt x="208" y="382"/>
                  </a:lnTo>
                  <a:lnTo>
                    <a:pt x="213" y="387"/>
                  </a:lnTo>
                  <a:lnTo>
                    <a:pt x="208" y="398"/>
                  </a:lnTo>
                  <a:lnTo>
                    <a:pt x="208" y="404"/>
                  </a:lnTo>
                  <a:lnTo>
                    <a:pt x="208" y="409"/>
                  </a:lnTo>
                  <a:lnTo>
                    <a:pt x="202" y="414"/>
                  </a:lnTo>
                  <a:lnTo>
                    <a:pt x="197" y="420"/>
                  </a:lnTo>
                  <a:lnTo>
                    <a:pt x="186" y="425"/>
                  </a:lnTo>
                  <a:lnTo>
                    <a:pt x="175" y="425"/>
                  </a:lnTo>
                  <a:lnTo>
                    <a:pt x="164" y="420"/>
                  </a:lnTo>
                  <a:lnTo>
                    <a:pt x="153" y="420"/>
                  </a:lnTo>
                  <a:lnTo>
                    <a:pt x="142" y="425"/>
                  </a:lnTo>
                  <a:lnTo>
                    <a:pt x="131" y="425"/>
                  </a:lnTo>
                  <a:lnTo>
                    <a:pt x="120" y="425"/>
                  </a:lnTo>
                  <a:lnTo>
                    <a:pt x="109" y="425"/>
                  </a:lnTo>
                  <a:lnTo>
                    <a:pt x="98" y="425"/>
                  </a:lnTo>
                  <a:lnTo>
                    <a:pt x="88" y="425"/>
                  </a:lnTo>
                  <a:lnTo>
                    <a:pt x="77" y="425"/>
                  </a:lnTo>
                  <a:lnTo>
                    <a:pt x="66" y="425"/>
                  </a:lnTo>
                  <a:lnTo>
                    <a:pt x="55" y="425"/>
                  </a:lnTo>
                  <a:lnTo>
                    <a:pt x="44" y="425"/>
                  </a:lnTo>
                  <a:lnTo>
                    <a:pt x="33" y="431"/>
                  </a:lnTo>
                  <a:lnTo>
                    <a:pt x="22" y="431"/>
                  </a:lnTo>
                  <a:lnTo>
                    <a:pt x="11" y="431"/>
                  </a:lnTo>
                  <a:lnTo>
                    <a:pt x="6" y="425"/>
                  </a:lnTo>
                  <a:lnTo>
                    <a:pt x="0" y="42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4" name=""/>
            <p:cNvSpPr/>
            <p:nvPr/>
          </p:nvSpPr>
          <p:spPr>
            <a:xfrm>
              <a:off x="2451240" y="3924360"/>
              <a:ext cx="129960" cy="129960"/>
            </a:xfrm>
            <a:custGeom>
              <a:avLst/>
              <a:gdLst/>
              <a:ahLst/>
              <a:rect l="l" t="t" r="r" b="b"/>
              <a:pathLst>
                <a:path w="82" h="82">
                  <a:moveTo>
                    <a:pt x="49" y="71"/>
                  </a:moveTo>
                  <a:lnTo>
                    <a:pt x="49" y="60"/>
                  </a:lnTo>
                  <a:lnTo>
                    <a:pt x="49" y="55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55" y="44"/>
                  </a:lnTo>
                  <a:lnTo>
                    <a:pt x="60" y="39"/>
                  </a:lnTo>
                  <a:lnTo>
                    <a:pt x="71" y="39"/>
                  </a:lnTo>
                  <a:lnTo>
                    <a:pt x="77" y="33"/>
                  </a:lnTo>
                  <a:lnTo>
                    <a:pt x="77" y="28"/>
                  </a:lnTo>
                  <a:lnTo>
                    <a:pt x="82" y="22"/>
                  </a:lnTo>
                  <a:lnTo>
                    <a:pt x="82" y="17"/>
                  </a:lnTo>
                  <a:lnTo>
                    <a:pt x="77" y="11"/>
                  </a:lnTo>
                  <a:lnTo>
                    <a:pt x="71" y="0"/>
                  </a:lnTo>
                  <a:lnTo>
                    <a:pt x="66" y="0"/>
                  </a:lnTo>
                  <a:lnTo>
                    <a:pt x="60" y="0"/>
                  </a:lnTo>
                  <a:lnTo>
                    <a:pt x="55" y="6"/>
                  </a:lnTo>
                  <a:lnTo>
                    <a:pt x="49" y="6"/>
                  </a:lnTo>
                  <a:lnTo>
                    <a:pt x="44" y="11"/>
                  </a:lnTo>
                  <a:lnTo>
                    <a:pt x="39" y="17"/>
                  </a:lnTo>
                  <a:lnTo>
                    <a:pt x="33" y="17"/>
                  </a:lnTo>
                  <a:lnTo>
                    <a:pt x="28" y="22"/>
                  </a:lnTo>
                  <a:lnTo>
                    <a:pt x="17" y="22"/>
                  </a:lnTo>
                  <a:lnTo>
                    <a:pt x="11" y="28"/>
                  </a:lnTo>
                  <a:lnTo>
                    <a:pt x="6" y="33"/>
                  </a:lnTo>
                  <a:lnTo>
                    <a:pt x="0" y="33"/>
                  </a:lnTo>
                  <a:lnTo>
                    <a:pt x="0" y="39"/>
                  </a:lnTo>
                  <a:lnTo>
                    <a:pt x="0" y="44"/>
                  </a:lnTo>
                  <a:lnTo>
                    <a:pt x="0" y="49"/>
                  </a:lnTo>
                  <a:lnTo>
                    <a:pt x="6" y="55"/>
                  </a:lnTo>
                  <a:lnTo>
                    <a:pt x="6" y="60"/>
                  </a:lnTo>
                  <a:lnTo>
                    <a:pt x="11" y="66"/>
                  </a:lnTo>
                  <a:lnTo>
                    <a:pt x="11" y="71"/>
                  </a:lnTo>
                  <a:lnTo>
                    <a:pt x="17" y="77"/>
                  </a:lnTo>
                  <a:lnTo>
                    <a:pt x="28" y="82"/>
                  </a:lnTo>
                  <a:lnTo>
                    <a:pt x="33" y="82"/>
                  </a:lnTo>
                  <a:lnTo>
                    <a:pt x="39" y="82"/>
                  </a:lnTo>
                  <a:lnTo>
                    <a:pt x="44" y="77"/>
                  </a:lnTo>
                  <a:lnTo>
                    <a:pt x="49" y="7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5" name=""/>
            <p:cNvSpPr/>
            <p:nvPr/>
          </p:nvSpPr>
          <p:spPr>
            <a:xfrm>
              <a:off x="4624560" y="4029120"/>
              <a:ext cx="1440" cy="7920"/>
            </a:xfrm>
            <a:custGeom>
              <a:avLst/>
              <a:gdLst/>
              <a:ahLst/>
              <a:rect l="l" t="t" r="r" b="b"/>
              <a:pathLst>
                <a:path w="0" h="5">
                  <a:moveTo>
                    <a:pt x="0" y="5"/>
                  </a:moveTo>
                  <a:lnTo>
                    <a:pt x="0" y="5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6" name=""/>
            <p:cNvSpPr/>
            <p:nvPr/>
          </p:nvSpPr>
          <p:spPr>
            <a:xfrm>
              <a:off x="4260960" y="3379680"/>
              <a:ext cx="363600" cy="639720"/>
            </a:xfrm>
            <a:custGeom>
              <a:avLst/>
              <a:gdLst/>
              <a:ahLst/>
              <a:rect l="l" t="t" r="r" b="b"/>
              <a:pathLst>
                <a:path w="229" h="403">
                  <a:moveTo>
                    <a:pt x="109" y="382"/>
                  </a:moveTo>
                  <a:lnTo>
                    <a:pt x="114" y="376"/>
                  </a:lnTo>
                  <a:lnTo>
                    <a:pt x="114" y="365"/>
                  </a:lnTo>
                  <a:lnTo>
                    <a:pt x="114" y="360"/>
                  </a:lnTo>
                  <a:lnTo>
                    <a:pt x="114" y="354"/>
                  </a:lnTo>
                  <a:lnTo>
                    <a:pt x="114" y="343"/>
                  </a:lnTo>
                  <a:lnTo>
                    <a:pt x="114" y="338"/>
                  </a:lnTo>
                  <a:lnTo>
                    <a:pt x="114" y="332"/>
                  </a:lnTo>
                  <a:lnTo>
                    <a:pt x="114" y="322"/>
                  </a:lnTo>
                  <a:lnTo>
                    <a:pt x="114" y="316"/>
                  </a:lnTo>
                  <a:lnTo>
                    <a:pt x="109" y="311"/>
                  </a:lnTo>
                  <a:lnTo>
                    <a:pt x="109" y="300"/>
                  </a:lnTo>
                  <a:lnTo>
                    <a:pt x="114" y="294"/>
                  </a:lnTo>
                  <a:lnTo>
                    <a:pt x="114" y="289"/>
                  </a:lnTo>
                  <a:lnTo>
                    <a:pt x="120" y="283"/>
                  </a:lnTo>
                  <a:lnTo>
                    <a:pt x="125" y="278"/>
                  </a:lnTo>
                  <a:lnTo>
                    <a:pt x="131" y="267"/>
                  </a:lnTo>
                  <a:lnTo>
                    <a:pt x="136" y="262"/>
                  </a:lnTo>
                  <a:lnTo>
                    <a:pt x="142" y="256"/>
                  </a:lnTo>
                  <a:lnTo>
                    <a:pt x="142" y="251"/>
                  </a:lnTo>
                  <a:lnTo>
                    <a:pt x="142" y="240"/>
                  </a:lnTo>
                  <a:lnTo>
                    <a:pt x="147" y="234"/>
                  </a:lnTo>
                  <a:lnTo>
                    <a:pt x="147" y="229"/>
                  </a:lnTo>
                  <a:lnTo>
                    <a:pt x="147" y="223"/>
                  </a:lnTo>
                  <a:lnTo>
                    <a:pt x="147" y="213"/>
                  </a:lnTo>
                  <a:lnTo>
                    <a:pt x="153" y="207"/>
                  </a:lnTo>
                  <a:lnTo>
                    <a:pt x="153" y="202"/>
                  </a:lnTo>
                  <a:lnTo>
                    <a:pt x="153" y="191"/>
                  </a:lnTo>
                  <a:lnTo>
                    <a:pt x="153" y="185"/>
                  </a:lnTo>
                  <a:lnTo>
                    <a:pt x="153" y="180"/>
                  </a:lnTo>
                  <a:lnTo>
                    <a:pt x="158" y="169"/>
                  </a:lnTo>
                  <a:lnTo>
                    <a:pt x="158" y="163"/>
                  </a:lnTo>
                  <a:lnTo>
                    <a:pt x="163" y="158"/>
                  </a:lnTo>
                  <a:lnTo>
                    <a:pt x="163" y="153"/>
                  </a:lnTo>
                  <a:lnTo>
                    <a:pt x="169" y="142"/>
                  </a:lnTo>
                  <a:lnTo>
                    <a:pt x="174" y="136"/>
                  </a:lnTo>
                  <a:lnTo>
                    <a:pt x="180" y="131"/>
                  </a:lnTo>
                  <a:lnTo>
                    <a:pt x="185" y="125"/>
                  </a:lnTo>
                  <a:lnTo>
                    <a:pt x="185" y="120"/>
                  </a:lnTo>
                  <a:lnTo>
                    <a:pt x="191" y="109"/>
                  </a:lnTo>
                  <a:lnTo>
                    <a:pt x="191" y="104"/>
                  </a:lnTo>
                  <a:lnTo>
                    <a:pt x="196" y="98"/>
                  </a:lnTo>
                  <a:lnTo>
                    <a:pt x="202" y="93"/>
                  </a:lnTo>
                  <a:lnTo>
                    <a:pt x="207" y="87"/>
                  </a:lnTo>
                  <a:lnTo>
                    <a:pt x="213" y="76"/>
                  </a:lnTo>
                  <a:lnTo>
                    <a:pt x="213" y="71"/>
                  </a:lnTo>
                  <a:lnTo>
                    <a:pt x="218" y="65"/>
                  </a:lnTo>
                  <a:lnTo>
                    <a:pt x="218" y="54"/>
                  </a:lnTo>
                  <a:lnTo>
                    <a:pt x="223" y="49"/>
                  </a:lnTo>
                  <a:lnTo>
                    <a:pt x="223" y="44"/>
                  </a:lnTo>
                  <a:lnTo>
                    <a:pt x="229" y="38"/>
                  </a:lnTo>
                  <a:lnTo>
                    <a:pt x="229" y="27"/>
                  </a:lnTo>
                  <a:lnTo>
                    <a:pt x="229" y="22"/>
                  </a:lnTo>
                  <a:lnTo>
                    <a:pt x="223" y="16"/>
                  </a:lnTo>
                  <a:lnTo>
                    <a:pt x="218" y="5"/>
                  </a:lnTo>
                  <a:lnTo>
                    <a:pt x="207" y="5"/>
                  </a:lnTo>
                  <a:lnTo>
                    <a:pt x="196" y="0"/>
                  </a:lnTo>
                  <a:lnTo>
                    <a:pt x="191" y="0"/>
                  </a:lnTo>
                  <a:lnTo>
                    <a:pt x="180" y="5"/>
                  </a:lnTo>
                  <a:lnTo>
                    <a:pt x="174" y="11"/>
                  </a:lnTo>
                  <a:lnTo>
                    <a:pt x="163" y="22"/>
                  </a:lnTo>
                  <a:lnTo>
                    <a:pt x="158" y="22"/>
                  </a:lnTo>
                  <a:lnTo>
                    <a:pt x="147" y="27"/>
                  </a:lnTo>
                  <a:lnTo>
                    <a:pt x="142" y="33"/>
                  </a:lnTo>
                  <a:lnTo>
                    <a:pt x="131" y="38"/>
                  </a:lnTo>
                  <a:lnTo>
                    <a:pt x="125" y="44"/>
                  </a:lnTo>
                  <a:lnTo>
                    <a:pt x="120" y="49"/>
                  </a:lnTo>
                  <a:lnTo>
                    <a:pt x="109" y="54"/>
                  </a:lnTo>
                  <a:lnTo>
                    <a:pt x="103" y="60"/>
                  </a:lnTo>
                  <a:lnTo>
                    <a:pt x="103" y="65"/>
                  </a:lnTo>
                  <a:lnTo>
                    <a:pt x="98" y="76"/>
                  </a:lnTo>
                  <a:lnTo>
                    <a:pt x="98" y="82"/>
                  </a:lnTo>
                  <a:lnTo>
                    <a:pt x="93" y="87"/>
                  </a:lnTo>
                  <a:lnTo>
                    <a:pt x="93" y="98"/>
                  </a:lnTo>
                  <a:lnTo>
                    <a:pt x="87" y="104"/>
                  </a:lnTo>
                  <a:lnTo>
                    <a:pt x="82" y="109"/>
                  </a:lnTo>
                  <a:lnTo>
                    <a:pt x="76" y="114"/>
                  </a:lnTo>
                  <a:lnTo>
                    <a:pt x="65" y="120"/>
                  </a:lnTo>
                  <a:lnTo>
                    <a:pt x="54" y="120"/>
                  </a:lnTo>
                  <a:lnTo>
                    <a:pt x="43" y="120"/>
                  </a:lnTo>
                  <a:lnTo>
                    <a:pt x="33" y="120"/>
                  </a:lnTo>
                  <a:lnTo>
                    <a:pt x="27" y="125"/>
                  </a:lnTo>
                  <a:lnTo>
                    <a:pt x="27" y="136"/>
                  </a:lnTo>
                  <a:lnTo>
                    <a:pt x="22" y="142"/>
                  </a:lnTo>
                  <a:lnTo>
                    <a:pt x="16" y="147"/>
                  </a:lnTo>
                  <a:lnTo>
                    <a:pt x="16" y="153"/>
                  </a:lnTo>
                  <a:lnTo>
                    <a:pt x="16" y="163"/>
                  </a:lnTo>
                  <a:lnTo>
                    <a:pt x="16" y="169"/>
                  </a:lnTo>
                  <a:lnTo>
                    <a:pt x="16" y="174"/>
                  </a:lnTo>
                  <a:lnTo>
                    <a:pt x="11" y="185"/>
                  </a:lnTo>
                  <a:lnTo>
                    <a:pt x="11" y="191"/>
                  </a:lnTo>
                  <a:lnTo>
                    <a:pt x="11" y="196"/>
                  </a:lnTo>
                  <a:lnTo>
                    <a:pt x="5" y="207"/>
                  </a:lnTo>
                  <a:lnTo>
                    <a:pt x="5" y="213"/>
                  </a:lnTo>
                  <a:lnTo>
                    <a:pt x="5" y="218"/>
                  </a:lnTo>
                  <a:lnTo>
                    <a:pt x="5" y="223"/>
                  </a:lnTo>
                  <a:lnTo>
                    <a:pt x="0" y="234"/>
                  </a:lnTo>
                  <a:lnTo>
                    <a:pt x="0" y="240"/>
                  </a:lnTo>
                  <a:lnTo>
                    <a:pt x="0" y="245"/>
                  </a:lnTo>
                  <a:lnTo>
                    <a:pt x="0" y="256"/>
                  </a:lnTo>
                  <a:lnTo>
                    <a:pt x="0" y="262"/>
                  </a:lnTo>
                  <a:lnTo>
                    <a:pt x="0" y="267"/>
                  </a:lnTo>
                  <a:lnTo>
                    <a:pt x="0" y="278"/>
                  </a:lnTo>
                  <a:lnTo>
                    <a:pt x="0" y="283"/>
                  </a:lnTo>
                  <a:lnTo>
                    <a:pt x="5" y="289"/>
                  </a:lnTo>
                  <a:lnTo>
                    <a:pt x="11" y="294"/>
                  </a:lnTo>
                  <a:lnTo>
                    <a:pt x="22" y="294"/>
                  </a:lnTo>
                  <a:lnTo>
                    <a:pt x="33" y="289"/>
                  </a:lnTo>
                  <a:lnTo>
                    <a:pt x="43" y="283"/>
                  </a:lnTo>
                  <a:lnTo>
                    <a:pt x="54" y="278"/>
                  </a:lnTo>
                  <a:lnTo>
                    <a:pt x="60" y="272"/>
                  </a:lnTo>
                  <a:lnTo>
                    <a:pt x="71" y="272"/>
                  </a:lnTo>
                  <a:lnTo>
                    <a:pt x="76" y="278"/>
                  </a:lnTo>
                  <a:lnTo>
                    <a:pt x="82" y="283"/>
                  </a:lnTo>
                  <a:lnTo>
                    <a:pt x="82" y="289"/>
                  </a:lnTo>
                  <a:lnTo>
                    <a:pt x="82" y="294"/>
                  </a:lnTo>
                  <a:lnTo>
                    <a:pt x="76" y="305"/>
                  </a:lnTo>
                  <a:lnTo>
                    <a:pt x="65" y="311"/>
                  </a:lnTo>
                  <a:lnTo>
                    <a:pt x="60" y="316"/>
                  </a:lnTo>
                  <a:lnTo>
                    <a:pt x="71" y="322"/>
                  </a:lnTo>
                  <a:lnTo>
                    <a:pt x="76" y="327"/>
                  </a:lnTo>
                  <a:lnTo>
                    <a:pt x="82" y="332"/>
                  </a:lnTo>
                  <a:lnTo>
                    <a:pt x="82" y="343"/>
                  </a:lnTo>
                  <a:lnTo>
                    <a:pt x="87" y="349"/>
                  </a:lnTo>
                  <a:lnTo>
                    <a:pt x="87" y="354"/>
                  </a:lnTo>
                  <a:lnTo>
                    <a:pt x="87" y="360"/>
                  </a:lnTo>
                  <a:lnTo>
                    <a:pt x="93" y="371"/>
                  </a:lnTo>
                  <a:lnTo>
                    <a:pt x="93" y="376"/>
                  </a:lnTo>
                  <a:lnTo>
                    <a:pt x="93" y="382"/>
                  </a:lnTo>
                  <a:lnTo>
                    <a:pt x="98" y="392"/>
                  </a:lnTo>
                  <a:lnTo>
                    <a:pt x="98" y="398"/>
                  </a:lnTo>
                  <a:lnTo>
                    <a:pt x="103" y="403"/>
                  </a:lnTo>
                  <a:lnTo>
                    <a:pt x="103" y="403"/>
                  </a:lnTo>
                  <a:lnTo>
                    <a:pt x="109" y="392"/>
                  </a:lnTo>
                  <a:lnTo>
                    <a:pt x="109" y="38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7" name=""/>
            <p:cNvSpPr/>
            <p:nvPr/>
          </p:nvSpPr>
          <p:spPr>
            <a:xfrm>
              <a:off x="2338560" y="2514600"/>
              <a:ext cx="1896840" cy="1332000"/>
            </a:xfrm>
            <a:custGeom>
              <a:avLst/>
              <a:gdLst/>
              <a:ahLst/>
              <a:rect l="l" t="t" r="r" b="b"/>
              <a:pathLst>
                <a:path w="1195" h="839">
                  <a:moveTo>
                    <a:pt x="0" y="828"/>
                  </a:moveTo>
                  <a:lnTo>
                    <a:pt x="11" y="828"/>
                  </a:lnTo>
                  <a:lnTo>
                    <a:pt x="22" y="828"/>
                  </a:lnTo>
                  <a:lnTo>
                    <a:pt x="33" y="834"/>
                  </a:lnTo>
                  <a:lnTo>
                    <a:pt x="39" y="834"/>
                  </a:lnTo>
                  <a:lnTo>
                    <a:pt x="50" y="834"/>
                  </a:lnTo>
                  <a:lnTo>
                    <a:pt x="60" y="839"/>
                  </a:lnTo>
                  <a:lnTo>
                    <a:pt x="66" y="839"/>
                  </a:lnTo>
                  <a:lnTo>
                    <a:pt x="77" y="839"/>
                  </a:lnTo>
                  <a:lnTo>
                    <a:pt x="82" y="834"/>
                  </a:lnTo>
                  <a:lnTo>
                    <a:pt x="93" y="834"/>
                  </a:lnTo>
                  <a:lnTo>
                    <a:pt x="99" y="828"/>
                  </a:lnTo>
                  <a:lnTo>
                    <a:pt x="104" y="823"/>
                  </a:lnTo>
                  <a:lnTo>
                    <a:pt x="110" y="817"/>
                  </a:lnTo>
                  <a:lnTo>
                    <a:pt x="115" y="812"/>
                  </a:lnTo>
                  <a:lnTo>
                    <a:pt x="120" y="807"/>
                  </a:lnTo>
                  <a:lnTo>
                    <a:pt x="126" y="801"/>
                  </a:lnTo>
                  <a:lnTo>
                    <a:pt x="137" y="796"/>
                  </a:lnTo>
                  <a:lnTo>
                    <a:pt x="142" y="796"/>
                  </a:lnTo>
                  <a:lnTo>
                    <a:pt x="148" y="790"/>
                  </a:lnTo>
                  <a:lnTo>
                    <a:pt x="153" y="785"/>
                  </a:lnTo>
                  <a:lnTo>
                    <a:pt x="159" y="779"/>
                  </a:lnTo>
                  <a:lnTo>
                    <a:pt x="164" y="774"/>
                  </a:lnTo>
                  <a:lnTo>
                    <a:pt x="169" y="768"/>
                  </a:lnTo>
                  <a:lnTo>
                    <a:pt x="175" y="763"/>
                  </a:lnTo>
                  <a:lnTo>
                    <a:pt x="180" y="758"/>
                  </a:lnTo>
                  <a:lnTo>
                    <a:pt x="186" y="752"/>
                  </a:lnTo>
                  <a:lnTo>
                    <a:pt x="191" y="747"/>
                  </a:lnTo>
                  <a:lnTo>
                    <a:pt x="197" y="741"/>
                  </a:lnTo>
                  <a:lnTo>
                    <a:pt x="197" y="736"/>
                  </a:lnTo>
                  <a:lnTo>
                    <a:pt x="202" y="730"/>
                  </a:lnTo>
                  <a:lnTo>
                    <a:pt x="213" y="725"/>
                  </a:lnTo>
                  <a:lnTo>
                    <a:pt x="224" y="725"/>
                  </a:lnTo>
                  <a:lnTo>
                    <a:pt x="229" y="730"/>
                  </a:lnTo>
                  <a:lnTo>
                    <a:pt x="235" y="736"/>
                  </a:lnTo>
                  <a:lnTo>
                    <a:pt x="240" y="741"/>
                  </a:lnTo>
                  <a:lnTo>
                    <a:pt x="240" y="747"/>
                  </a:lnTo>
                  <a:lnTo>
                    <a:pt x="246" y="752"/>
                  </a:lnTo>
                  <a:lnTo>
                    <a:pt x="246" y="758"/>
                  </a:lnTo>
                  <a:lnTo>
                    <a:pt x="251" y="763"/>
                  </a:lnTo>
                  <a:lnTo>
                    <a:pt x="251" y="768"/>
                  </a:lnTo>
                  <a:lnTo>
                    <a:pt x="257" y="779"/>
                  </a:lnTo>
                  <a:lnTo>
                    <a:pt x="262" y="785"/>
                  </a:lnTo>
                  <a:lnTo>
                    <a:pt x="268" y="785"/>
                  </a:lnTo>
                  <a:lnTo>
                    <a:pt x="273" y="785"/>
                  </a:lnTo>
                  <a:lnTo>
                    <a:pt x="284" y="779"/>
                  </a:lnTo>
                  <a:lnTo>
                    <a:pt x="295" y="774"/>
                  </a:lnTo>
                  <a:lnTo>
                    <a:pt x="306" y="774"/>
                  </a:lnTo>
                  <a:lnTo>
                    <a:pt x="311" y="768"/>
                  </a:lnTo>
                  <a:lnTo>
                    <a:pt x="317" y="763"/>
                  </a:lnTo>
                  <a:lnTo>
                    <a:pt x="322" y="758"/>
                  </a:lnTo>
                  <a:lnTo>
                    <a:pt x="322" y="752"/>
                  </a:lnTo>
                  <a:lnTo>
                    <a:pt x="322" y="747"/>
                  </a:lnTo>
                  <a:lnTo>
                    <a:pt x="322" y="741"/>
                  </a:lnTo>
                  <a:lnTo>
                    <a:pt x="322" y="730"/>
                  </a:lnTo>
                  <a:lnTo>
                    <a:pt x="322" y="725"/>
                  </a:lnTo>
                  <a:lnTo>
                    <a:pt x="322" y="719"/>
                  </a:lnTo>
                  <a:lnTo>
                    <a:pt x="322" y="714"/>
                  </a:lnTo>
                  <a:lnTo>
                    <a:pt x="317" y="708"/>
                  </a:lnTo>
                  <a:lnTo>
                    <a:pt x="317" y="703"/>
                  </a:lnTo>
                  <a:lnTo>
                    <a:pt x="317" y="692"/>
                  </a:lnTo>
                  <a:lnTo>
                    <a:pt x="317" y="687"/>
                  </a:lnTo>
                  <a:lnTo>
                    <a:pt x="317" y="681"/>
                  </a:lnTo>
                  <a:lnTo>
                    <a:pt x="322" y="676"/>
                  </a:lnTo>
                  <a:lnTo>
                    <a:pt x="333" y="670"/>
                  </a:lnTo>
                  <a:lnTo>
                    <a:pt x="339" y="670"/>
                  </a:lnTo>
                  <a:lnTo>
                    <a:pt x="344" y="665"/>
                  </a:lnTo>
                  <a:lnTo>
                    <a:pt x="349" y="659"/>
                  </a:lnTo>
                  <a:lnTo>
                    <a:pt x="349" y="649"/>
                  </a:lnTo>
                  <a:lnTo>
                    <a:pt x="349" y="643"/>
                  </a:lnTo>
                  <a:lnTo>
                    <a:pt x="349" y="638"/>
                  </a:lnTo>
                  <a:lnTo>
                    <a:pt x="349" y="632"/>
                  </a:lnTo>
                  <a:lnTo>
                    <a:pt x="349" y="627"/>
                  </a:lnTo>
                  <a:lnTo>
                    <a:pt x="349" y="616"/>
                  </a:lnTo>
                  <a:lnTo>
                    <a:pt x="349" y="610"/>
                  </a:lnTo>
                  <a:lnTo>
                    <a:pt x="344" y="605"/>
                  </a:lnTo>
                  <a:lnTo>
                    <a:pt x="344" y="599"/>
                  </a:lnTo>
                  <a:lnTo>
                    <a:pt x="339" y="594"/>
                  </a:lnTo>
                  <a:lnTo>
                    <a:pt x="333" y="589"/>
                  </a:lnTo>
                  <a:lnTo>
                    <a:pt x="333" y="583"/>
                  </a:lnTo>
                  <a:lnTo>
                    <a:pt x="333" y="578"/>
                  </a:lnTo>
                  <a:lnTo>
                    <a:pt x="339" y="572"/>
                  </a:lnTo>
                  <a:lnTo>
                    <a:pt x="344" y="567"/>
                  </a:lnTo>
                  <a:lnTo>
                    <a:pt x="349" y="561"/>
                  </a:lnTo>
                  <a:lnTo>
                    <a:pt x="360" y="556"/>
                  </a:lnTo>
                  <a:lnTo>
                    <a:pt x="366" y="550"/>
                  </a:lnTo>
                  <a:lnTo>
                    <a:pt x="371" y="545"/>
                  </a:lnTo>
                  <a:lnTo>
                    <a:pt x="377" y="540"/>
                  </a:lnTo>
                  <a:lnTo>
                    <a:pt x="382" y="534"/>
                  </a:lnTo>
                  <a:lnTo>
                    <a:pt x="388" y="529"/>
                  </a:lnTo>
                  <a:lnTo>
                    <a:pt x="393" y="523"/>
                  </a:lnTo>
                  <a:lnTo>
                    <a:pt x="398" y="518"/>
                  </a:lnTo>
                  <a:lnTo>
                    <a:pt x="404" y="512"/>
                  </a:lnTo>
                  <a:lnTo>
                    <a:pt x="409" y="507"/>
                  </a:lnTo>
                  <a:lnTo>
                    <a:pt x="415" y="501"/>
                  </a:lnTo>
                  <a:lnTo>
                    <a:pt x="415" y="496"/>
                  </a:lnTo>
                  <a:lnTo>
                    <a:pt x="420" y="496"/>
                  </a:lnTo>
                  <a:lnTo>
                    <a:pt x="426" y="490"/>
                  </a:lnTo>
                  <a:lnTo>
                    <a:pt x="437" y="485"/>
                  </a:lnTo>
                  <a:lnTo>
                    <a:pt x="442" y="480"/>
                  </a:lnTo>
                  <a:lnTo>
                    <a:pt x="448" y="474"/>
                  </a:lnTo>
                  <a:lnTo>
                    <a:pt x="453" y="469"/>
                  </a:lnTo>
                  <a:lnTo>
                    <a:pt x="458" y="463"/>
                  </a:lnTo>
                  <a:lnTo>
                    <a:pt x="464" y="458"/>
                  </a:lnTo>
                  <a:lnTo>
                    <a:pt x="469" y="452"/>
                  </a:lnTo>
                  <a:lnTo>
                    <a:pt x="475" y="447"/>
                  </a:lnTo>
                  <a:lnTo>
                    <a:pt x="480" y="441"/>
                  </a:lnTo>
                  <a:lnTo>
                    <a:pt x="486" y="436"/>
                  </a:lnTo>
                  <a:lnTo>
                    <a:pt x="491" y="431"/>
                  </a:lnTo>
                  <a:lnTo>
                    <a:pt x="497" y="431"/>
                  </a:lnTo>
                  <a:lnTo>
                    <a:pt x="508" y="425"/>
                  </a:lnTo>
                  <a:lnTo>
                    <a:pt x="513" y="420"/>
                  </a:lnTo>
                  <a:lnTo>
                    <a:pt x="518" y="414"/>
                  </a:lnTo>
                  <a:lnTo>
                    <a:pt x="524" y="409"/>
                  </a:lnTo>
                  <a:lnTo>
                    <a:pt x="529" y="403"/>
                  </a:lnTo>
                  <a:lnTo>
                    <a:pt x="540" y="398"/>
                  </a:lnTo>
                  <a:lnTo>
                    <a:pt x="546" y="398"/>
                  </a:lnTo>
                  <a:lnTo>
                    <a:pt x="551" y="392"/>
                  </a:lnTo>
                  <a:lnTo>
                    <a:pt x="551" y="387"/>
                  </a:lnTo>
                  <a:lnTo>
                    <a:pt x="557" y="381"/>
                  </a:lnTo>
                  <a:lnTo>
                    <a:pt x="568" y="376"/>
                  </a:lnTo>
                  <a:lnTo>
                    <a:pt x="573" y="371"/>
                  </a:lnTo>
                  <a:lnTo>
                    <a:pt x="578" y="365"/>
                  </a:lnTo>
                  <a:lnTo>
                    <a:pt x="584" y="360"/>
                  </a:lnTo>
                  <a:lnTo>
                    <a:pt x="589" y="354"/>
                  </a:lnTo>
                  <a:lnTo>
                    <a:pt x="595" y="349"/>
                  </a:lnTo>
                  <a:lnTo>
                    <a:pt x="600" y="343"/>
                  </a:lnTo>
                  <a:lnTo>
                    <a:pt x="606" y="338"/>
                  </a:lnTo>
                  <a:lnTo>
                    <a:pt x="617" y="338"/>
                  </a:lnTo>
                  <a:lnTo>
                    <a:pt x="622" y="332"/>
                  </a:lnTo>
                  <a:lnTo>
                    <a:pt x="633" y="332"/>
                  </a:lnTo>
                  <a:lnTo>
                    <a:pt x="638" y="327"/>
                  </a:lnTo>
                  <a:lnTo>
                    <a:pt x="644" y="322"/>
                  </a:lnTo>
                  <a:lnTo>
                    <a:pt x="649" y="316"/>
                  </a:lnTo>
                  <a:lnTo>
                    <a:pt x="655" y="311"/>
                  </a:lnTo>
                  <a:lnTo>
                    <a:pt x="660" y="305"/>
                  </a:lnTo>
                  <a:lnTo>
                    <a:pt x="666" y="300"/>
                  </a:lnTo>
                  <a:lnTo>
                    <a:pt x="671" y="294"/>
                  </a:lnTo>
                  <a:lnTo>
                    <a:pt x="677" y="289"/>
                  </a:lnTo>
                  <a:lnTo>
                    <a:pt x="682" y="283"/>
                  </a:lnTo>
                  <a:lnTo>
                    <a:pt x="687" y="278"/>
                  </a:lnTo>
                  <a:lnTo>
                    <a:pt x="693" y="272"/>
                  </a:lnTo>
                  <a:lnTo>
                    <a:pt x="698" y="267"/>
                  </a:lnTo>
                  <a:lnTo>
                    <a:pt x="704" y="267"/>
                  </a:lnTo>
                  <a:lnTo>
                    <a:pt x="709" y="262"/>
                  </a:lnTo>
                  <a:lnTo>
                    <a:pt x="715" y="256"/>
                  </a:lnTo>
                  <a:lnTo>
                    <a:pt x="720" y="251"/>
                  </a:lnTo>
                  <a:lnTo>
                    <a:pt x="726" y="245"/>
                  </a:lnTo>
                  <a:lnTo>
                    <a:pt x="731" y="240"/>
                  </a:lnTo>
                  <a:lnTo>
                    <a:pt x="737" y="234"/>
                  </a:lnTo>
                  <a:lnTo>
                    <a:pt x="747" y="229"/>
                  </a:lnTo>
                  <a:lnTo>
                    <a:pt x="753" y="223"/>
                  </a:lnTo>
                  <a:lnTo>
                    <a:pt x="753" y="218"/>
                  </a:lnTo>
                  <a:lnTo>
                    <a:pt x="758" y="213"/>
                  </a:lnTo>
                  <a:lnTo>
                    <a:pt x="758" y="207"/>
                  </a:lnTo>
                  <a:lnTo>
                    <a:pt x="764" y="202"/>
                  </a:lnTo>
                  <a:lnTo>
                    <a:pt x="764" y="196"/>
                  </a:lnTo>
                  <a:lnTo>
                    <a:pt x="769" y="185"/>
                  </a:lnTo>
                  <a:lnTo>
                    <a:pt x="775" y="180"/>
                  </a:lnTo>
                  <a:lnTo>
                    <a:pt x="780" y="180"/>
                  </a:lnTo>
                  <a:lnTo>
                    <a:pt x="791" y="180"/>
                  </a:lnTo>
                  <a:lnTo>
                    <a:pt x="802" y="174"/>
                  </a:lnTo>
                  <a:lnTo>
                    <a:pt x="807" y="174"/>
                  </a:lnTo>
                  <a:lnTo>
                    <a:pt x="818" y="174"/>
                  </a:lnTo>
                  <a:lnTo>
                    <a:pt x="829" y="169"/>
                  </a:lnTo>
                  <a:lnTo>
                    <a:pt x="835" y="169"/>
                  </a:lnTo>
                  <a:lnTo>
                    <a:pt x="846" y="163"/>
                  </a:lnTo>
                  <a:lnTo>
                    <a:pt x="856" y="163"/>
                  </a:lnTo>
                  <a:lnTo>
                    <a:pt x="862" y="158"/>
                  </a:lnTo>
                  <a:lnTo>
                    <a:pt x="867" y="153"/>
                  </a:lnTo>
                  <a:lnTo>
                    <a:pt x="878" y="153"/>
                  </a:lnTo>
                  <a:lnTo>
                    <a:pt x="884" y="147"/>
                  </a:lnTo>
                  <a:lnTo>
                    <a:pt x="895" y="147"/>
                  </a:lnTo>
                  <a:lnTo>
                    <a:pt x="906" y="142"/>
                  </a:lnTo>
                  <a:lnTo>
                    <a:pt x="911" y="142"/>
                  </a:lnTo>
                  <a:lnTo>
                    <a:pt x="922" y="142"/>
                  </a:lnTo>
                  <a:lnTo>
                    <a:pt x="933" y="136"/>
                  </a:lnTo>
                  <a:lnTo>
                    <a:pt x="944" y="136"/>
                  </a:lnTo>
                  <a:lnTo>
                    <a:pt x="949" y="136"/>
                  </a:lnTo>
                  <a:lnTo>
                    <a:pt x="960" y="131"/>
                  </a:lnTo>
                  <a:lnTo>
                    <a:pt x="971" y="131"/>
                  </a:lnTo>
                  <a:lnTo>
                    <a:pt x="976" y="125"/>
                  </a:lnTo>
                  <a:lnTo>
                    <a:pt x="982" y="125"/>
                  </a:lnTo>
                  <a:lnTo>
                    <a:pt x="993" y="120"/>
                  </a:lnTo>
                  <a:lnTo>
                    <a:pt x="998" y="114"/>
                  </a:lnTo>
                  <a:lnTo>
                    <a:pt x="1004" y="109"/>
                  </a:lnTo>
                  <a:lnTo>
                    <a:pt x="1015" y="109"/>
                  </a:lnTo>
                  <a:lnTo>
                    <a:pt x="1025" y="104"/>
                  </a:lnTo>
                  <a:lnTo>
                    <a:pt x="1031" y="104"/>
                  </a:lnTo>
                  <a:lnTo>
                    <a:pt x="1042" y="104"/>
                  </a:lnTo>
                  <a:lnTo>
                    <a:pt x="1053" y="98"/>
                  </a:lnTo>
                  <a:lnTo>
                    <a:pt x="1064" y="98"/>
                  </a:lnTo>
                  <a:lnTo>
                    <a:pt x="1069" y="98"/>
                  </a:lnTo>
                  <a:lnTo>
                    <a:pt x="1080" y="98"/>
                  </a:lnTo>
                  <a:lnTo>
                    <a:pt x="1091" y="98"/>
                  </a:lnTo>
                  <a:lnTo>
                    <a:pt x="1096" y="93"/>
                  </a:lnTo>
                  <a:lnTo>
                    <a:pt x="1102" y="87"/>
                  </a:lnTo>
                  <a:lnTo>
                    <a:pt x="1107" y="82"/>
                  </a:lnTo>
                  <a:lnTo>
                    <a:pt x="1113" y="76"/>
                  </a:lnTo>
                  <a:lnTo>
                    <a:pt x="1118" y="71"/>
                  </a:lnTo>
                  <a:lnTo>
                    <a:pt x="1129" y="71"/>
                  </a:lnTo>
                  <a:lnTo>
                    <a:pt x="1135" y="65"/>
                  </a:lnTo>
                  <a:lnTo>
                    <a:pt x="1145" y="65"/>
                  </a:lnTo>
                  <a:lnTo>
                    <a:pt x="1151" y="60"/>
                  </a:lnTo>
                  <a:lnTo>
                    <a:pt x="1156" y="54"/>
                  </a:lnTo>
                  <a:lnTo>
                    <a:pt x="1162" y="49"/>
                  </a:lnTo>
                  <a:lnTo>
                    <a:pt x="1173" y="44"/>
                  </a:lnTo>
                  <a:lnTo>
                    <a:pt x="1178" y="44"/>
                  </a:lnTo>
                  <a:lnTo>
                    <a:pt x="1189" y="38"/>
                  </a:lnTo>
                  <a:lnTo>
                    <a:pt x="1195" y="33"/>
                  </a:lnTo>
                  <a:lnTo>
                    <a:pt x="1189" y="27"/>
                  </a:lnTo>
                  <a:lnTo>
                    <a:pt x="1184" y="22"/>
                  </a:lnTo>
                  <a:lnTo>
                    <a:pt x="1178" y="16"/>
                  </a:lnTo>
                  <a:lnTo>
                    <a:pt x="1173" y="11"/>
                  </a:lnTo>
                  <a:lnTo>
                    <a:pt x="1167" y="5"/>
                  </a:lnTo>
                  <a:lnTo>
                    <a:pt x="116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8" name=""/>
            <p:cNvSpPr/>
            <p:nvPr/>
          </p:nvSpPr>
          <p:spPr>
            <a:xfrm>
              <a:off x="1889280" y="3068640"/>
              <a:ext cx="458640" cy="466560"/>
            </a:xfrm>
            <a:custGeom>
              <a:avLst/>
              <a:gdLst/>
              <a:ahLst/>
              <a:rect l="l" t="t" r="r" b="b"/>
              <a:pathLst>
                <a:path w="289" h="294">
                  <a:moveTo>
                    <a:pt x="289" y="0"/>
                  </a:moveTo>
                  <a:lnTo>
                    <a:pt x="289" y="5"/>
                  </a:lnTo>
                  <a:lnTo>
                    <a:pt x="283" y="11"/>
                  </a:lnTo>
                  <a:lnTo>
                    <a:pt x="278" y="16"/>
                  </a:lnTo>
                  <a:lnTo>
                    <a:pt x="273" y="22"/>
                  </a:lnTo>
                  <a:lnTo>
                    <a:pt x="273" y="27"/>
                  </a:lnTo>
                  <a:lnTo>
                    <a:pt x="267" y="32"/>
                  </a:lnTo>
                  <a:lnTo>
                    <a:pt x="267" y="38"/>
                  </a:lnTo>
                  <a:lnTo>
                    <a:pt x="262" y="43"/>
                  </a:lnTo>
                  <a:lnTo>
                    <a:pt x="256" y="49"/>
                  </a:lnTo>
                  <a:lnTo>
                    <a:pt x="251" y="54"/>
                  </a:lnTo>
                  <a:lnTo>
                    <a:pt x="245" y="60"/>
                  </a:lnTo>
                  <a:lnTo>
                    <a:pt x="240" y="65"/>
                  </a:lnTo>
                  <a:lnTo>
                    <a:pt x="240" y="71"/>
                  </a:lnTo>
                  <a:lnTo>
                    <a:pt x="234" y="76"/>
                  </a:lnTo>
                  <a:lnTo>
                    <a:pt x="229" y="82"/>
                  </a:lnTo>
                  <a:lnTo>
                    <a:pt x="223" y="87"/>
                  </a:lnTo>
                  <a:lnTo>
                    <a:pt x="223" y="92"/>
                  </a:lnTo>
                  <a:lnTo>
                    <a:pt x="218" y="98"/>
                  </a:lnTo>
                  <a:lnTo>
                    <a:pt x="213" y="98"/>
                  </a:lnTo>
                  <a:lnTo>
                    <a:pt x="207" y="103"/>
                  </a:lnTo>
                  <a:lnTo>
                    <a:pt x="202" y="109"/>
                  </a:lnTo>
                  <a:lnTo>
                    <a:pt x="202" y="114"/>
                  </a:lnTo>
                  <a:lnTo>
                    <a:pt x="196" y="120"/>
                  </a:lnTo>
                  <a:lnTo>
                    <a:pt x="191" y="125"/>
                  </a:lnTo>
                  <a:lnTo>
                    <a:pt x="185" y="131"/>
                  </a:lnTo>
                  <a:lnTo>
                    <a:pt x="180" y="136"/>
                  </a:lnTo>
                  <a:lnTo>
                    <a:pt x="180" y="141"/>
                  </a:lnTo>
                  <a:lnTo>
                    <a:pt x="174" y="147"/>
                  </a:lnTo>
                  <a:lnTo>
                    <a:pt x="169" y="152"/>
                  </a:lnTo>
                  <a:lnTo>
                    <a:pt x="164" y="158"/>
                  </a:lnTo>
                  <a:lnTo>
                    <a:pt x="158" y="163"/>
                  </a:lnTo>
                  <a:lnTo>
                    <a:pt x="153" y="169"/>
                  </a:lnTo>
                  <a:lnTo>
                    <a:pt x="147" y="169"/>
                  </a:lnTo>
                  <a:lnTo>
                    <a:pt x="142" y="174"/>
                  </a:lnTo>
                  <a:lnTo>
                    <a:pt x="142" y="185"/>
                  </a:lnTo>
                  <a:lnTo>
                    <a:pt x="136" y="191"/>
                  </a:lnTo>
                  <a:lnTo>
                    <a:pt x="136" y="196"/>
                  </a:lnTo>
                  <a:lnTo>
                    <a:pt x="131" y="201"/>
                  </a:lnTo>
                  <a:lnTo>
                    <a:pt x="131" y="207"/>
                  </a:lnTo>
                  <a:lnTo>
                    <a:pt x="131" y="212"/>
                  </a:lnTo>
                  <a:lnTo>
                    <a:pt x="125" y="218"/>
                  </a:lnTo>
                  <a:lnTo>
                    <a:pt x="125" y="223"/>
                  </a:lnTo>
                  <a:lnTo>
                    <a:pt x="120" y="229"/>
                  </a:lnTo>
                  <a:lnTo>
                    <a:pt x="120" y="234"/>
                  </a:lnTo>
                  <a:lnTo>
                    <a:pt x="114" y="240"/>
                  </a:lnTo>
                  <a:lnTo>
                    <a:pt x="109" y="245"/>
                  </a:lnTo>
                  <a:lnTo>
                    <a:pt x="109" y="250"/>
                  </a:lnTo>
                  <a:lnTo>
                    <a:pt x="109" y="256"/>
                  </a:lnTo>
                  <a:lnTo>
                    <a:pt x="109" y="261"/>
                  </a:lnTo>
                  <a:lnTo>
                    <a:pt x="109" y="267"/>
                  </a:lnTo>
                  <a:lnTo>
                    <a:pt x="109" y="272"/>
                  </a:lnTo>
                  <a:lnTo>
                    <a:pt x="109" y="278"/>
                  </a:lnTo>
                  <a:lnTo>
                    <a:pt x="109" y="289"/>
                  </a:lnTo>
                  <a:lnTo>
                    <a:pt x="104" y="294"/>
                  </a:lnTo>
                  <a:lnTo>
                    <a:pt x="98" y="289"/>
                  </a:lnTo>
                  <a:lnTo>
                    <a:pt x="93" y="283"/>
                  </a:lnTo>
                  <a:lnTo>
                    <a:pt x="87" y="278"/>
                  </a:lnTo>
                  <a:lnTo>
                    <a:pt x="82" y="272"/>
                  </a:lnTo>
                  <a:lnTo>
                    <a:pt x="82" y="267"/>
                  </a:lnTo>
                  <a:lnTo>
                    <a:pt x="76" y="261"/>
                  </a:lnTo>
                  <a:lnTo>
                    <a:pt x="71" y="261"/>
                  </a:lnTo>
                  <a:lnTo>
                    <a:pt x="60" y="256"/>
                  </a:lnTo>
                  <a:lnTo>
                    <a:pt x="54" y="256"/>
                  </a:lnTo>
                  <a:lnTo>
                    <a:pt x="49" y="250"/>
                  </a:lnTo>
                  <a:lnTo>
                    <a:pt x="38" y="245"/>
                  </a:lnTo>
                  <a:lnTo>
                    <a:pt x="33" y="245"/>
                  </a:lnTo>
                  <a:lnTo>
                    <a:pt x="22" y="245"/>
                  </a:lnTo>
                  <a:lnTo>
                    <a:pt x="11" y="245"/>
                  </a:lnTo>
                  <a:lnTo>
                    <a:pt x="5" y="240"/>
                  </a:lnTo>
                  <a:lnTo>
                    <a:pt x="0" y="240"/>
                  </a:lnTo>
                  <a:lnTo>
                    <a:pt x="0" y="22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9" name=""/>
            <p:cNvSpPr/>
            <p:nvPr/>
          </p:nvSpPr>
          <p:spPr>
            <a:xfrm>
              <a:off x="1741320" y="3613320"/>
              <a:ext cx="95400" cy="112680"/>
            </a:xfrm>
            <a:custGeom>
              <a:avLst/>
              <a:gdLst/>
              <a:ahLst/>
              <a:rect l="l" t="t" r="r" b="b"/>
              <a:pathLst>
                <a:path w="60" h="71">
                  <a:moveTo>
                    <a:pt x="0" y="33"/>
                  </a:moveTo>
                  <a:lnTo>
                    <a:pt x="6" y="27"/>
                  </a:lnTo>
                  <a:lnTo>
                    <a:pt x="11" y="22"/>
                  </a:lnTo>
                  <a:lnTo>
                    <a:pt x="17" y="16"/>
                  </a:lnTo>
                  <a:lnTo>
                    <a:pt x="22" y="11"/>
                  </a:lnTo>
                  <a:lnTo>
                    <a:pt x="28" y="6"/>
                  </a:lnTo>
                  <a:lnTo>
                    <a:pt x="33" y="0"/>
                  </a:lnTo>
                  <a:lnTo>
                    <a:pt x="38" y="0"/>
                  </a:lnTo>
                  <a:lnTo>
                    <a:pt x="44" y="6"/>
                  </a:lnTo>
                  <a:lnTo>
                    <a:pt x="49" y="11"/>
                  </a:lnTo>
                  <a:lnTo>
                    <a:pt x="55" y="16"/>
                  </a:lnTo>
                  <a:lnTo>
                    <a:pt x="60" y="27"/>
                  </a:lnTo>
                  <a:lnTo>
                    <a:pt x="60" y="33"/>
                  </a:lnTo>
                  <a:lnTo>
                    <a:pt x="60" y="38"/>
                  </a:lnTo>
                  <a:lnTo>
                    <a:pt x="60" y="44"/>
                  </a:lnTo>
                  <a:lnTo>
                    <a:pt x="60" y="49"/>
                  </a:lnTo>
                  <a:lnTo>
                    <a:pt x="55" y="60"/>
                  </a:lnTo>
                  <a:lnTo>
                    <a:pt x="49" y="66"/>
                  </a:lnTo>
                  <a:lnTo>
                    <a:pt x="44" y="71"/>
                  </a:lnTo>
                  <a:lnTo>
                    <a:pt x="38" y="71"/>
                  </a:lnTo>
                  <a:lnTo>
                    <a:pt x="28" y="7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0" name=""/>
            <p:cNvSpPr/>
            <p:nvPr/>
          </p:nvSpPr>
          <p:spPr>
            <a:xfrm>
              <a:off x="1801800" y="3673440"/>
              <a:ext cx="536760" cy="173160"/>
            </a:xfrm>
            <a:custGeom>
              <a:avLst/>
              <a:gdLst/>
              <a:ahLst/>
              <a:rect l="l" t="t" r="r" b="b"/>
              <a:pathLst>
                <a:path w="338" h="109">
                  <a:moveTo>
                    <a:pt x="0" y="71"/>
                  </a:moveTo>
                  <a:lnTo>
                    <a:pt x="6" y="66"/>
                  </a:lnTo>
                  <a:lnTo>
                    <a:pt x="17" y="66"/>
                  </a:lnTo>
                  <a:lnTo>
                    <a:pt x="22" y="60"/>
                  </a:lnTo>
                  <a:lnTo>
                    <a:pt x="33" y="60"/>
                  </a:lnTo>
                  <a:lnTo>
                    <a:pt x="44" y="60"/>
                  </a:lnTo>
                  <a:lnTo>
                    <a:pt x="49" y="60"/>
                  </a:lnTo>
                  <a:lnTo>
                    <a:pt x="60" y="60"/>
                  </a:lnTo>
                  <a:lnTo>
                    <a:pt x="71" y="60"/>
                  </a:lnTo>
                  <a:lnTo>
                    <a:pt x="82" y="60"/>
                  </a:lnTo>
                  <a:lnTo>
                    <a:pt x="88" y="60"/>
                  </a:lnTo>
                  <a:lnTo>
                    <a:pt x="99" y="60"/>
                  </a:lnTo>
                  <a:lnTo>
                    <a:pt x="109" y="66"/>
                  </a:lnTo>
                  <a:lnTo>
                    <a:pt x="120" y="66"/>
                  </a:lnTo>
                  <a:lnTo>
                    <a:pt x="126" y="66"/>
                  </a:lnTo>
                  <a:lnTo>
                    <a:pt x="137" y="66"/>
                  </a:lnTo>
                  <a:lnTo>
                    <a:pt x="148" y="60"/>
                  </a:lnTo>
                  <a:lnTo>
                    <a:pt x="153" y="55"/>
                  </a:lnTo>
                  <a:lnTo>
                    <a:pt x="164" y="55"/>
                  </a:lnTo>
                  <a:lnTo>
                    <a:pt x="164" y="49"/>
                  </a:lnTo>
                  <a:lnTo>
                    <a:pt x="169" y="38"/>
                  </a:lnTo>
                  <a:lnTo>
                    <a:pt x="169" y="33"/>
                  </a:lnTo>
                  <a:lnTo>
                    <a:pt x="169" y="28"/>
                  </a:lnTo>
                  <a:lnTo>
                    <a:pt x="164" y="22"/>
                  </a:lnTo>
                  <a:lnTo>
                    <a:pt x="164" y="11"/>
                  </a:lnTo>
                  <a:lnTo>
                    <a:pt x="169" y="6"/>
                  </a:lnTo>
                  <a:lnTo>
                    <a:pt x="175" y="6"/>
                  </a:lnTo>
                  <a:lnTo>
                    <a:pt x="180" y="0"/>
                  </a:lnTo>
                  <a:lnTo>
                    <a:pt x="191" y="0"/>
                  </a:lnTo>
                  <a:lnTo>
                    <a:pt x="202" y="0"/>
                  </a:lnTo>
                  <a:lnTo>
                    <a:pt x="208" y="6"/>
                  </a:lnTo>
                  <a:lnTo>
                    <a:pt x="213" y="11"/>
                  </a:lnTo>
                  <a:lnTo>
                    <a:pt x="219" y="17"/>
                  </a:lnTo>
                  <a:lnTo>
                    <a:pt x="224" y="22"/>
                  </a:lnTo>
                  <a:lnTo>
                    <a:pt x="235" y="28"/>
                  </a:lnTo>
                  <a:lnTo>
                    <a:pt x="240" y="33"/>
                  </a:lnTo>
                  <a:lnTo>
                    <a:pt x="246" y="38"/>
                  </a:lnTo>
                  <a:lnTo>
                    <a:pt x="246" y="38"/>
                  </a:lnTo>
                  <a:lnTo>
                    <a:pt x="246" y="49"/>
                  </a:lnTo>
                  <a:lnTo>
                    <a:pt x="246" y="55"/>
                  </a:lnTo>
                  <a:lnTo>
                    <a:pt x="246" y="60"/>
                  </a:lnTo>
                  <a:lnTo>
                    <a:pt x="240" y="66"/>
                  </a:lnTo>
                  <a:lnTo>
                    <a:pt x="240" y="71"/>
                  </a:lnTo>
                  <a:lnTo>
                    <a:pt x="240" y="82"/>
                  </a:lnTo>
                  <a:lnTo>
                    <a:pt x="240" y="87"/>
                  </a:lnTo>
                  <a:lnTo>
                    <a:pt x="246" y="93"/>
                  </a:lnTo>
                  <a:lnTo>
                    <a:pt x="257" y="93"/>
                  </a:lnTo>
                  <a:lnTo>
                    <a:pt x="262" y="98"/>
                  </a:lnTo>
                  <a:lnTo>
                    <a:pt x="273" y="98"/>
                  </a:lnTo>
                  <a:lnTo>
                    <a:pt x="284" y="98"/>
                  </a:lnTo>
                  <a:lnTo>
                    <a:pt x="295" y="104"/>
                  </a:lnTo>
                  <a:lnTo>
                    <a:pt x="300" y="104"/>
                  </a:lnTo>
                  <a:lnTo>
                    <a:pt x="306" y="109"/>
                  </a:lnTo>
                  <a:lnTo>
                    <a:pt x="317" y="109"/>
                  </a:lnTo>
                  <a:lnTo>
                    <a:pt x="322" y="109"/>
                  </a:lnTo>
                  <a:lnTo>
                    <a:pt x="333" y="104"/>
                  </a:lnTo>
                  <a:lnTo>
                    <a:pt x="338" y="9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1" name=""/>
            <p:cNvSpPr/>
            <p:nvPr/>
          </p:nvSpPr>
          <p:spPr>
            <a:xfrm>
              <a:off x="2087640" y="3778200"/>
              <a:ext cx="936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6" y="5"/>
                  </a:move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0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2" name=""/>
            <p:cNvSpPr/>
            <p:nvPr/>
          </p:nvSpPr>
          <p:spPr>
            <a:xfrm>
              <a:off x="3386160" y="3492360"/>
              <a:ext cx="77760" cy="146160"/>
            </a:xfrm>
            <a:custGeom>
              <a:avLst/>
              <a:gdLst/>
              <a:ahLst/>
              <a:rect l="l" t="t" r="r" b="b"/>
              <a:pathLst>
                <a:path w="49" h="92">
                  <a:moveTo>
                    <a:pt x="49" y="87"/>
                  </a:moveTo>
                  <a:lnTo>
                    <a:pt x="49" y="82"/>
                  </a:lnTo>
                  <a:lnTo>
                    <a:pt x="49" y="76"/>
                  </a:lnTo>
                  <a:lnTo>
                    <a:pt x="49" y="65"/>
                  </a:lnTo>
                  <a:lnTo>
                    <a:pt x="49" y="60"/>
                  </a:lnTo>
                  <a:lnTo>
                    <a:pt x="49" y="54"/>
                  </a:lnTo>
                  <a:lnTo>
                    <a:pt x="49" y="49"/>
                  </a:lnTo>
                  <a:lnTo>
                    <a:pt x="49" y="43"/>
                  </a:lnTo>
                  <a:lnTo>
                    <a:pt x="49" y="38"/>
                  </a:lnTo>
                  <a:lnTo>
                    <a:pt x="49" y="33"/>
                  </a:lnTo>
                  <a:lnTo>
                    <a:pt x="49" y="22"/>
                  </a:lnTo>
                  <a:lnTo>
                    <a:pt x="49" y="16"/>
                  </a:lnTo>
                  <a:lnTo>
                    <a:pt x="49" y="5"/>
                  </a:lnTo>
                  <a:lnTo>
                    <a:pt x="49" y="0"/>
                  </a:lnTo>
                  <a:lnTo>
                    <a:pt x="44" y="0"/>
                  </a:lnTo>
                  <a:lnTo>
                    <a:pt x="38" y="5"/>
                  </a:lnTo>
                  <a:lnTo>
                    <a:pt x="33" y="11"/>
                  </a:lnTo>
                  <a:lnTo>
                    <a:pt x="27" y="16"/>
                  </a:lnTo>
                  <a:lnTo>
                    <a:pt x="22" y="22"/>
                  </a:lnTo>
                  <a:lnTo>
                    <a:pt x="17" y="27"/>
                  </a:lnTo>
                  <a:lnTo>
                    <a:pt x="11" y="33"/>
                  </a:lnTo>
                  <a:lnTo>
                    <a:pt x="6" y="38"/>
                  </a:lnTo>
                  <a:lnTo>
                    <a:pt x="6" y="43"/>
                  </a:lnTo>
                  <a:lnTo>
                    <a:pt x="0" y="49"/>
                  </a:lnTo>
                  <a:lnTo>
                    <a:pt x="0" y="60"/>
                  </a:lnTo>
                  <a:lnTo>
                    <a:pt x="0" y="65"/>
                  </a:lnTo>
                  <a:lnTo>
                    <a:pt x="6" y="71"/>
                  </a:lnTo>
                  <a:lnTo>
                    <a:pt x="11" y="76"/>
                  </a:lnTo>
                  <a:lnTo>
                    <a:pt x="17" y="82"/>
                  </a:lnTo>
                  <a:lnTo>
                    <a:pt x="27" y="82"/>
                  </a:lnTo>
                  <a:lnTo>
                    <a:pt x="38" y="87"/>
                  </a:lnTo>
                  <a:lnTo>
                    <a:pt x="44" y="92"/>
                  </a:lnTo>
                  <a:lnTo>
                    <a:pt x="49" y="8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3" name=""/>
            <p:cNvSpPr/>
            <p:nvPr/>
          </p:nvSpPr>
          <p:spPr>
            <a:xfrm>
              <a:off x="3759120" y="3544920"/>
              <a:ext cx="7920" cy="120600"/>
            </a:xfrm>
            <a:custGeom>
              <a:avLst/>
              <a:gdLst/>
              <a:ahLst/>
              <a:rect l="l" t="t" r="r" b="b"/>
              <a:pathLst>
                <a:path w="5" h="76">
                  <a:moveTo>
                    <a:pt x="5" y="54"/>
                  </a:moveTo>
                  <a:lnTo>
                    <a:pt x="5" y="49"/>
                  </a:lnTo>
                  <a:lnTo>
                    <a:pt x="5" y="38"/>
                  </a:lnTo>
                  <a:lnTo>
                    <a:pt x="5" y="32"/>
                  </a:lnTo>
                  <a:lnTo>
                    <a:pt x="5" y="21"/>
                  </a:lnTo>
                  <a:lnTo>
                    <a:pt x="5" y="16"/>
                  </a:lnTo>
                  <a:lnTo>
                    <a:pt x="5" y="5"/>
                  </a:lnTo>
                  <a:lnTo>
                    <a:pt x="5" y="0"/>
                  </a:lnTo>
                  <a:lnTo>
                    <a:pt x="0" y="5"/>
                  </a:lnTo>
                  <a:lnTo>
                    <a:pt x="0" y="10"/>
                  </a:lnTo>
                  <a:lnTo>
                    <a:pt x="0" y="21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0" y="43"/>
                  </a:lnTo>
                  <a:lnTo>
                    <a:pt x="0" y="49"/>
                  </a:lnTo>
                  <a:lnTo>
                    <a:pt x="0" y="59"/>
                  </a:lnTo>
                  <a:lnTo>
                    <a:pt x="0" y="70"/>
                  </a:lnTo>
                  <a:lnTo>
                    <a:pt x="5" y="76"/>
                  </a:lnTo>
                  <a:lnTo>
                    <a:pt x="5" y="76"/>
                  </a:lnTo>
                  <a:lnTo>
                    <a:pt x="5" y="65"/>
                  </a:lnTo>
                  <a:lnTo>
                    <a:pt x="5" y="5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4" name=""/>
            <p:cNvSpPr/>
            <p:nvPr/>
          </p:nvSpPr>
          <p:spPr>
            <a:xfrm>
              <a:off x="3767040" y="3483000"/>
              <a:ext cx="60480" cy="61920"/>
            </a:xfrm>
            <a:custGeom>
              <a:avLst/>
              <a:gdLst/>
              <a:ahLst/>
              <a:rect l="l" t="t" r="r" b="b"/>
              <a:pathLst>
                <a:path w="38" h="39">
                  <a:moveTo>
                    <a:pt x="38" y="28"/>
                  </a:moveTo>
                  <a:lnTo>
                    <a:pt x="38" y="17"/>
                  </a:lnTo>
                  <a:lnTo>
                    <a:pt x="38" y="6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2" y="0"/>
                  </a:lnTo>
                  <a:lnTo>
                    <a:pt x="16" y="6"/>
                  </a:lnTo>
                  <a:lnTo>
                    <a:pt x="6" y="11"/>
                  </a:lnTo>
                  <a:lnTo>
                    <a:pt x="0" y="17"/>
                  </a:lnTo>
                  <a:lnTo>
                    <a:pt x="0" y="28"/>
                  </a:lnTo>
                  <a:lnTo>
                    <a:pt x="6" y="33"/>
                  </a:lnTo>
                  <a:lnTo>
                    <a:pt x="16" y="39"/>
                  </a:lnTo>
                  <a:lnTo>
                    <a:pt x="27" y="39"/>
                  </a:lnTo>
                  <a:lnTo>
                    <a:pt x="33" y="39"/>
                  </a:lnTo>
                  <a:lnTo>
                    <a:pt x="38" y="2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5" name=""/>
            <p:cNvSpPr/>
            <p:nvPr/>
          </p:nvSpPr>
          <p:spPr>
            <a:xfrm>
              <a:off x="3127320" y="3171960"/>
              <a:ext cx="293760" cy="320400"/>
            </a:xfrm>
            <a:custGeom>
              <a:avLst/>
              <a:gdLst/>
              <a:ahLst/>
              <a:rect l="l" t="t" r="r" b="b"/>
              <a:pathLst>
                <a:path w="185" h="202">
                  <a:moveTo>
                    <a:pt x="152" y="191"/>
                  </a:moveTo>
                  <a:lnTo>
                    <a:pt x="163" y="191"/>
                  </a:lnTo>
                  <a:lnTo>
                    <a:pt x="169" y="185"/>
                  </a:lnTo>
                  <a:lnTo>
                    <a:pt x="174" y="180"/>
                  </a:lnTo>
                  <a:lnTo>
                    <a:pt x="180" y="175"/>
                  </a:lnTo>
                  <a:lnTo>
                    <a:pt x="185" y="169"/>
                  </a:lnTo>
                  <a:lnTo>
                    <a:pt x="185" y="164"/>
                  </a:lnTo>
                  <a:lnTo>
                    <a:pt x="185" y="158"/>
                  </a:lnTo>
                  <a:lnTo>
                    <a:pt x="180" y="153"/>
                  </a:lnTo>
                  <a:lnTo>
                    <a:pt x="174" y="147"/>
                  </a:lnTo>
                  <a:lnTo>
                    <a:pt x="169" y="142"/>
                  </a:lnTo>
                  <a:lnTo>
                    <a:pt x="163" y="136"/>
                  </a:lnTo>
                  <a:lnTo>
                    <a:pt x="158" y="131"/>
                  </a:lnTo>
                  <a:lnTo>
                    <a:pt x="152" y="126"/>
                  </a:lnTo>
                  <a:lnTo>
                    <a:pt x="152" y="120"/>
                  </a:lnTo>
                  <a:lnTo>
                    <a:pt x="152" y="115"/>
                  </a:lnTo>
                  <a:lnTo>
                    <a:pt x="158" y="109"/>
                  </a:lnTo>
                  <a:lnTo>
                    <a:pt x="158" y="104"/>
                  </a:lnTo>
                  <a:lnTo>
                    <a:pt x="158" y="98"/>
                  </a:lnTo>
                  <a:lnTo>
                    <a:pt x="158" y="93"/>
                  </a:lnTo>
                  <a:lnTo>
                    <a:pt x="158" y="87"/>
                  </a:lnTo>
                  <a:lnTo>
                    <a:pt x="158" y="82"/>
                  </a:lnTo>
                  <a:lnTo>
                    <a:pt x="152" y="76"/>
                  </a:lnTo>
                  <a:lnTo>
                    <a:pt x="147" y="71"/>
                  </a:lnTo>
                  <a:lnTo>
                    <a:pt x="147" y="66"/>
                  </a:lnTo>
                  <a:lnTo>
                    <a:pt x="147" y="55"/>
                  </a:lnTo>
                  <a:lnTo>
                    <a:pt x="152" y="49"/>
                  </a:lnTo>
                  <a:lnTo>
                    <a:pt x="152" y="44"/>
                  </a:lnTo>
                  <a:lnTo>
                    <a:pt x="158" y="38"/>
                  </a:lnTo>
                  <a:lnTo>
                    <a:pt x="158" y="33"/>
                  </a:lnTo>
                  <a:lnTo>
                    <a:pt x="158" y="27"/>
                  </a:lnTo>
                  <a:lnTo>
                    <a:pt x="163" y="22"/>
                  </a:lnTo>
                  <a:lnTo>
                    <a:pt x="158" y="17"/>
                  </a:lnTo>
                  <a:lnTo>
                    <a:pt x="158" y="11"/>
                  </a:lnTo>
                  <a:lnTo>
                    <a:pt x="152" y="6"/>
                  </a:lnTo>
                  <a:lnTo>
                    <a:pt x="147" y="0"/>
                  </a:lnTo>
                  <a:lnTo>
                    <a:pt x="136" y="0"/>
                  </a:lnTo>
                  <a:lnTo>
                    <a:pt x="125" y="0"/>
                  </a:lnTo>
                  <a:lnTo>
                    <a:pt x="120" y="0"/>
                  </a:lnTo>
                  <a:lnTo>
                    <a:pt x="109" y="6"/>
                  </a:lnTo>
                  <a:lnTo>
                    <a:pt x="103" y="6"/>
                  </a:lnTo>
                  <a:lnTo>
                    <a:pt x="98" y="11"/>
                  </a:lnTo>
                  <a:lnTo>
                    <a:pt x="92" y="17"/>
                  </a:lnTo>
                  <a:lnTo>
                    <a:pt x="87" y="22"/>
                  </a:lnTo>
                  <a:lnTo>
                    <a:pt x="81" y="27"/>
                  </a:lnTo>
                  <a:lnTo>
                    <a:pt x="76" y="33"/>
                  </a:lnTo>
                  <a:lnTo>
                    <a:pt x="71" y="38"/>
                  </a:lnTo>
                  <a:lnTo>
                    <a:pt x="65" y="44"/>
                  </a:lnTo>
                  <a:lnTo>
                    <a:pt x="60" y="49"/>
                  </a:lnTo>
                  <a:lnTo>
                    <a:pt x="54" y="55"/>
                  </a:lnTo>
                  <a:lnTo>
                    <a:pt x="43" y="55"/>
                  </a:lnTo>
                  <a:lnTo>
                    <a:pt x="38" y="60"/>
                  </a:lnTo>
                  <a:lnTo>
                    <a:pt x="38" y="66"/>
                  </a:lnTo>
                  <a:lnTo>
                    <a:pt x="32" y="71"/>
                  </a:lnTo>
                  <a:lnTo>
                    <a:pt x="27" y="76"/>
                  </a:lnTo>
                  <a:lnTo>
                    <a:pt x="21" y="82"/>
                  </a:lnTo>
                  <a:lnTo>
                    <a:pt x="16" y="87"/>
                  </a:lnTo>
                  <a:lnTo>
                    <a:pt x="11" y="93"/>
                  </a:lnTo>
                  <a:lnTo>
                    <a:pt x="0" y="98"/>
                  </a:lnTo>
                  <a:lnTo>
                    <a:pt x="0" y="98"/>
                  </a:lnTo>
                  <a:lnTo>
                    <a:pt x="0" y="104"/>
                  </a:lnTo>
                  <a:lnTo>
                    <a:pt x="5" y="109"/>
                  </a:lnTo>
                  <a:lnTo>
                    <a:pt x="11" y="115"/>
                  </a:lnTo>
                  <a:lnTo>
                    <a:pt x="16" y="126"/>
                  </a:lnTo>
                  <a:lnTo>
                    <a:pt x="21" y="131"/>
                  </a:lnTo>
                  <a:lnTo>
                    <a:pt x="27" y="136"/>
                  </a:lnTo>
                  <a:lnTo>
                    <a:pt x="32" y="136"/>
                  </a:lnTo>
                  <a:lnTo>
                    <a:pt x="43" y="142"/>
                  </a:lnTo>
                  <a:lnTo>
                    <a:pt x="54" y="142"/>
                  </a:lnTo>
                  <a:lnTo>
                    <a:pt x="60" y="136"/>
                  </a:lnTo>
                  <a:lnTo>
                    <a:pt x="65" y="131"/>
                  </a:lnTo>
                  <a:lnTo>
                    <a:pt x="71" y="126"/>
                  </a:lnTo>
                  <a:lnTo>
                    <a:pt x="76" y="120"/>
                  </a:lnTo>
                  <a:lnTo>
                    <a:pt x="87" y="120"/>
                  </a:lnTo>
                  <a:lnTo>
                    <a:pt x="92" y="120"/>
                  </a:lnTo>
                  <a:lnTo>
                    <a:pt x="103" y="120"/>
                  </a:lnTo>
                  <a:lnTo>
                    <a:pt x="114" y="120"/>
                  </a:lnTo>
                  <a:lnTo>
                    <a:pt x="120" y="126"/>
                  </a:lnTo>
                  <a:lnTo>
                    <a:pt x="125" y="131"/>
                  </a:lnTo>
                  <a:lnTo>
                    <a:pt x="125" y="136"/>
                  </a:lnTo>
                  <a:lnTo>
                    <a:pt x="130" y="142"/>
                  </a:lnTo>
                  <a:lnTo>
                    <a:pt x="130" y="147"/>
                  </a:lnTo>
                  <a:lnTo>
                    <a:pt x="130" y="158"/>
                  </a:lnTo>
                  <a:lnTo>
                    <a:pt x="136" y="164"/>
                  </a:lnTo>
                  <a:lnTo>
                    <a:pt x="136" y="169"/>
                  </a:lnTo>
                  <a:lnTo>
                    <a:pt x="136" y="175"/>
                  </a:lnTo>
                  <a:lnTo>
                    <a:pt x="141" y="180"/>
                  </a:lnTo>
                  <a:lnTo>
                    <a:pt x="141" y="185"/>
                  </a:lnTo>
                  <a:lnTo>
                    <a:pt x="141" y="191"/>
                  </a:lnTo>
                  <a:lnTo>
                    <a:pt x="147" y="196"/>
                  </a:lnTo>
                  <a:lnTo>
                    <a:pt x="147" y="202"/>
                  </a:lnTo>
                  <a:lnTo>
                    <a:pt x="147" y="202"/>
                  </a:lnTo>
                  <a:lnTo>
                    <a:pt x="152" y="19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6" name=""/>
            <p:cNvSpPr/>
            <p:nvPr/>
          </p:nvSpPr>
          <p:spPr>
            <a:xfrm>
              <a:off x="2944800" y="3319560"/>
              <a:ext cx="138240" cy="155520"/>
            </a:xfrm>
            <a:custGeom>
              <a:avLst/>
              <a:gdLst/>
              <a:ahLst/>
              <a:rect l="l" t="t" r="r" b="b"/>
              <a:pathLst>
                <a:path w="87" h="98">
                  <a:moveTo>
                    <a:pt x="55" y="65"/>
                  </a:moveTo>
                  <a:lnTo>
                    <a:pt x="55" y="60"/>
                  </a:lnTo>
                  <a:lnTo>
                    <a:pt x="60" y="54"/>
                  </a:lnTo>
                  <a:lnTo>
                    <a:pt x="66" y="49"/>
                  </a:lnTo>
                  <a:lnTo>
                    <a:pt x="71" y="43"/>
                  </a:lnTo>
                  <a:lnTo>
                    <a:pt x="76" y="43"/>
                  </a:lnTo>
                  <a:lnTo>
                    <a:pt x="82" y="38"/>
                  </a:lnTo>
                  <a:lnTo>
                    <a:pt x="87" y="33"/>
                  </a:lnTo>
                  <a:lnTo>
                    <a:pt x="87" y="27"/>
                  </a:lnTo>
                  <a:lnTo>
                    <a:pt x="82" y="22"/>
                  </a:lnTo>
                  <a:lnTo>
                    <a:pt x="82" y="16"/>
                  </a:lnTo>
                  <a:lnTo>
                    <a:pt x="76" y="5"/>
                  </a:lnTo>
                  <a:lnTo>
                    <a:pt x="71" y="0"/>
                  </a:lnTo>
                  <a:lnTo>
                    <a:pt x="66" y="5"/>
                  </a:lnTo>
                  <a:lnTo>
                    <a:pt x="60" y="11"/>
                  </a:lnTo>
                  <a:lnTo>
                    <a:pt x="55" y="16"/>
                  </a:lnTo>
                  <a:lnTo>
                    <a:pt x="49" y="22"/>
                  </a:lnTo>
                  <a:lnTo>
                    <a:pt x="44" y="22"/>
                  </a:lnTo>
                  <a:lnTo>
                    <a:pt x="38" y="27"/>
                  </a:lnTo>
                  <a:lnTo>
                    <a:pt x="33" y="33"/>
                  </a:lnTo>
                  <a:lnTo>
                    <a:pt x="27" y="38"/>
                  </a:lnTo>
                  <a:lnTo>
                    <a:pt x="22" y="43"/>
                  </a:lnTo>
                  <a:lnTo>
                    <a:pt x="16" y="49"/>
                  </a:lnTo>
                  <a:lnTo>
                    <a:pt x="11" y="54"/>
                  </a:lnTo>
                  <a:lnTo>
                    <a:pt x="6" y="60"/>
                  </a:lnTo>
                  <a:lnTo>
                    <a:pt x="0" y="65"/>
                  </a:lnTo>
                  <a:lnTo>
                    <a:pt x="0" y="71"/>
                  </a:lnTo>
                  <a:lnTo>
                    <a:pt x="0" y="76"/>
                  </a:lnTo>
                  <a:lnTo>
                    <a:pt x="0" y="82"/>
                  </a:lnTo>
                  <a:lnTo>
                    <a:pt x="6" y="87"/>
                  </a:lnTo>
                  <a:lnTo>
                    <a:pt x="11" y="92"/>
                  </a:lnTo>
                  <a:lnTo>
                    <a:pt x="22" y="98"/>
                  </a:lnTo>
                  <a:lnTo>
                    <a:pt x="27" y="98"/>
                  </a:lnTo>
                  <a:lnTo>
                    <a:pt x="38" y="98"/>
                  </a:lnTo>
                  <a:lnTo>
                    <a:pt x="44" y="92"/>
                  </a:lnTo>
                  <a:lnTo>
                    <a:pt x="49" y="92"/>
                  </a:lnTo>
                  <a:lnTo>
                    <a:pt x="55" y="87"/>
                  </a:lnTo>
                  <a:lnTo>
                    <a:pt x="55" y="76"/>
                  </a:lnTo>
                  <a:lnTo>
                    <a:pt x="55" y="6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7" name=""/>
            <p:cNvSpPr/>
            <p:nvPr/>
          </p:nvSpPr>
          <p:spPr>
            <a:xfrm>
              <a:off x="3854520" y="3414600"/>
              <a:ext cx="17280" cy="1764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11" y="5"/>
                  </a:moveTo>
                  <a:lnTo>
                    <a:pt x="11" y="5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11"/>
                  </a:lnTo>
                  <a:lnTo>
                    <a:pt x="5" y="11"/>
                  </a:lnTo>
                  <a:lnTo>
                    <a:pt x="5" y="11"/>
                  </a:lnTo>
                  <a:lnTo>
                    <a:pt x="11" y="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8" name=""/>
            <p:cNvSpPr/>
            <p:nvPr/>
          </p:nvSpPr>
          <p:spPr>
            <a:xfrm>
              <a:off x="2001960" y="3276720"/>
              <a:ext cx="60120" cy="102960"/>
            </a:xfrm>
            <a:custGeom>
              <a:avLst/>
              <a:gdLst/>
              <a:ahLst/>
              <a:rect l="l" t="t" r="r" b="b"/>
              <a:pathLst>
                <a:path w="38" h="65">
                  <a:moveTo>
                    <a:pt x="0" y="65"/>
                  </a:moveTo>
                  <a:lnTo>
                    <a:pt x="5" y="60"/>
                  </a:lnTo>
                  <a:lnTo>
                    <a:pt x="11" y="54"/>
                  </a:lnTo>
                  <a:lnTo>
                    <a:pt x="16" y="49"/>
                  </a:lnTo>
                  <a:lnTo>
                    <a:pt x="22" y="43"/>
                  </a:lnTo>
                  <a:lnTo>
                    <a:pt x="27" y="38"/>
                  </a:lnTo>
                  <a:lnTo>
                    <a:pt x="33" y="32"/>
                  </a:lnTo>
                  <a:lnTo>
                    <a:pt x="38" y="27"/>
                  </a:lnTo>
                  <a:lnTo>
                    <a:pt x="38" y="21"/>
                  </a:lnTo>
                  <a:lnTo>
                    <a:pt x="38" y="16"/>
                  </a:lnTo>
                  <a:lnTo>
                    <a:pt x="38" y="5"/>
                  </a:lnTo>
                  <a:lnTo>
                    <a:pt x="33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9" name=""/>
            <p:cNvSpPr/>
            <p:nvPr/>
          </p:nvSpPr>
          <p:spPr>
            <a:xfrm>
              <a:off x="1941480" y="3379680"/>
              <a:ext cx="60480" cy="34920"/>
            </a:xfrm>
            <a:custGeom>
              <a:avLst/>
              <a:gdLst/>
              <a:ahLst/>
              <a:rect l="l" t="t" r="r" b="b"/>
              <a:pathLst>
                <a:path w="38" h="22">
                  <a:moveTo>
                    <a:pt x="0" y="0"/>
                  </a:moveTo>
                  <a:lnTo>
                    <a:pt x="11" y="5"/>
                  </a:lnTo>
                  <a:lnTo>
                    <a:pt x="16" y="5"/>
                  </a:lnTo>
                  <a:lnTo>
                    <a:pt x="21" y="11"/>
                  </a:lnTo>
                  <a:lnTo>
                    <a:pt x="27" y="16"/>
                  </a:lnTo>
                  <a:lnTo>
                    <a:pt x="32" y="22"/>
                  </a:lnTo>
                  <a:lnTo>
                    <a:pt x="32" y="22"/>
                  </a:lnTo>
                  <a:lnTo>
                    <a:pt x="38" y="22"/>
                  </a:lnTo>
                  <a:lnTo>
                    <a:pt x="38" y="22"/>
                  </a:lnTo>
                  <a:lnTo>
                    <a:pt x="38" y="16"/>
                  </a:lnTo>
                  <a:lnTo>
                    <a:pt x="38" y="5"/>
                  </a:lnTo>
                  <a:lnTo>
                    <a:pt x="3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0" name=""/>
            <p:cNvSpPr/>
            <p:nvPr/>
          </p:nvSpPr>
          <p:spPr>
            <a:xfrm flipV="1">
              <a:off x="2097000" y="3223800"/>
              <a:ext cx="17640" cy="17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1" name=""/>
            <p:cNvSpPr/>
            <p:nvPr/>
          </p:nvSpPr>
          <p:spPr>
            <a:xfrm flipV="1">
              <a:off x="2149560" y="3171960"/>
              <a:ext cx="25200" cy="17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2" name=""/>
            <p:cNvSpPr/>
            <p:nvPr/>
          </p:nvSpPr>
          <p:spPr>
            <a:xfrm>
              <a:off x="2200320" y="3119400"/>
              <a:ext cx="69840" cy="34920"/>
            </a:xfrm>
            <a:custGeom>
              <a:avLst/>
              <a:gdLst/>
              <a:ahLst/>
              <a:rect l="l" t="t" r="r" b="b"/>
              <a:pathLst>
                <a:path w="44" h="22">
                  <a:moveTo>
                    <a:pt x="0" y="22"/>
                  </a:moveTo>
                  <a:lnTo>
                    <a:pt x="6" y="22"/>
                  </a:lnTo>
                  <a:lnTo>
                    <a:pt x="11" y="17"/>
                  </a:lnTo>
                  <a:lnTo>
                    <a:pt x="17" y="17"/>
                  </a:lnTo>
                  <a:lnTo>
                    <a:pt x="22" y="11"/>
                  </a:lnTo>
                  <a:lnTo>
                    <a:pt x="27" y="11"/>
                  </a:lnTo>
                  <a:lnTo>
                    <a:pt x="33" y="6"/>
                  </a:lnTo>
                  <a:lnTo>
                    <a:pt x="38" y="6"/>
                  </a:lnTo>
                  <a:lnTo>
                    <a:pt x="4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3" name=""/>
            <p:cNvSpPr/>
            <p:nvPr/>
          </p:nvSpPr>
          <p:spPr>
            <a:xfrm flipV="1">
              <a:off x="2305080" y="3076200"/>
              <a:ext cx="42840" cy="34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4" name=""/>
            <p:cNvSpPr/>
            <p:nvPr/>
          </p:nvSpPr>
          <p:spPr>
            <a:xfrm>
              <a:off x="4883040" y="2514600"/>
              <a:ext cx="17640" cy="7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5" name=""/>
            <p:cNvSpPr/>
            <p:nvPr/>
          </p:nvSpPr>
          <p:spPr>
            <a:xfrm>
              <a:off x="4900680" y="2522520"/>
              <a:ext cx="1168200" cy="433440"/>
            </a:xfrm>
            <a:custGeom>
              <a:avLst/>
              <a:gdLst/>
              <a:ahLst/>
              <a:rect l="l" t="t" r="r" b="b"/>
              <a:pathLst>
                <a:path w="736" h="273">
                  <a:moveTo>
                    <a:pt x="0" y="0"/>
                  </a:moveTo>
                  <a:lnTo>
                    <a:pt x="11" y="0"/>
                  </a:lnTo>
                  <a:lnTo>
                    <a:pt x="17" y="6"/>
                  </a:lnTo>
                  <a:lnTo>
                    <a:pt x="28" y="11"/>
                  </a:lnTo>
                  <a:lnTo>
                    <a:pt x="33" y="17"/>
                  </a:lnTo>
                  <a:lnTo>
                    <a:pt x="44" y="17"/>
                  </a:lnTo>
                  <a:lnTo>
                    <a:pt x="55" y="22"/>
                  </a:lnTo>
                  <a:lnTo>
                    <a:pt x="66" y="22"/>
                  </a:lnTo>
                  <a:lnTo>
                    <a:pt x="71" y="22"/>
                  </a:lnTo>
                  <a:lnTo>
                    <a:pt x="82" y="28"/>
                  </a:lnTo>
                  <a:lnTo>
                    <a:pt x="93" y="28"/>
                  </a:lnTo>
                  <a:lnTo>
                    <a:pt x="104" y="33"/>
                  </a:lnTo>
                  <a:lnTo>
                    <a:pt x="109" y="33"/>
                  </a:lnTo>
                  <a:lnTo>
                    <a:pt x="115" y="39"/>
                  </a:lnTo>
                  <a:lnTo>
                    <a:pt x="120" y="49"/>
                  </a:lnTo>
                  <a:lnTo>
                    <a:pt x="126" y="55"/>
                  </a:lnTo>
                  <a:lnTo>
                    <a:pt x="131" y="60"/>
                  </a:lnTo>
                  <a:lnTo>
                    <a:pt x="142" y="60"/>
                  </a:lnTo>
                  <a:lnTo>
                    <a:pt x="153" y="60"/>
                  </a:lnTo>
                  <a:lnTo>
                    <a:pt x="164" y="60"/>
                  </a:lnTo>
                  <a:lnTo>
                    <a:pt x="175" y="60"/>
                  </a:lnTo>
                  <a:lnTo>
                    <a:pt x="186" y="60"/>
                  </a:lnTo>
                  <a:lnTo>
                    <a:pt x="197" y="60"/>
                  </a:lnTo>
                  <a:lnTo>
                    <a:pt x="208" y="60"/>
                  </a:lnTo>
                  <a:lnTo>
                    <a:pt x="213" y="66"/>
                  </a:lnTo>
                  <a:lnTo>
                    <a:pt x="213" y="71"/>
                  </a:lnTo>
                  <a:lnTo>
                    <a:pt x="218" y="82"/>
                  </a:lnTo>
                  <a:lnTo>
                    <a:pt x="218" y="88"/>
                  </a:lnTo>
                  <a:lnTo>
                    <a:pt x="224" y="93"/>
                  </a:lnTo>
                  <a:lnTo>
                    <a:pt x="235" y="93"/>
                  </a:lnTo>
                  <a:lnTo>
                    <a:pt x="246" y="93"/>
                  </a:lnTo>
                  <a:lnTo>
                    <a:pt x="257" y="93"/>
                  </a:lnTo>
                  <a:lnTo>
                    <a:pt x="268" y="93"/>
                  </a:lnTo>
                  <a:lnTo>
                    <a:pt x="278" y="93"/>
                  </a:lnTo>
                  <a:lnTo>
                    <a:pt x="289" y="93"/>
                  </a:lnTo>
                  <a:lnTo>
                    <a:pt x="300" y="93"/>
                  </a:lnTo>
                  <a:lnTo>
                    <a:pt x="306" y="99"/>
                  </a:lnTo>
                  <a:lnTo>
                    <a:pt x="311" y="109"/>
                  </a:lnTo>
                  <a:lnTo>
                    <a:pt x="311" y="115"/>
                  </a:lnTo>
                  <a:lnTo>
                    <a:pt x="317" y="120"/>
                  </a:lnTo>
                  <a:lnTo>
                    <a:pt x="327" y="126"/>
                  </a:lnTo>
                  <a:lnTo>
                    <a:pt x="338" y="126"/>
                  </a:lnTo>
                  <a:lnTo>
                    <a:pt x="349" y="126"/>
                  </a:lnTo>
                  <a:lnTo>
                    <a:pt x="360" y="126"/>
                  </a:lnTo>
                  <a:lnTo>
                    <a:pt x="371" y="126"/>
                  </a:lnTo>
                  <a:lnTo>
                    <a:pt x="382" y="126"/>
                  </a:lnTo>
                  <a:lnTo>
                    <a:pt x="387" y="126"/>
                  </a:lnTo>
                  <a:lnTo>
                    <a:pt x="398" y="126"/>
                  </a:lnTo>
                  <a:lnTo>
                    <a:pt x="409" y="131"/>
                  </a:lnTo>
                  <a:lnTo>
                    <a:pt x="415" y="137"/>
                  </a:lnTo>
                  <a:lnTo>
                    <a:pt x="420" y="142"/>
                  </a:lnTo>
                  <a:lnTo>
                    <a:pt x="420" y="148"/>
                  </a:lnTo>
                  <a:lnTo>
                    <a:pt x="426" y="153"/>
                  </a:lnTo>
                  <a:lnTo>
                    <a:pt x="437" y="158"/>
                  </a:lnTo>
                  <a:lnTo>
                    <a:pt x="442" y="158"/>
                  </a:lnTo>
                  <a:lnTo>
                    <a:pt x="458" y="158"/>
                  </a:lnTo>
                  <a:lnTo>
                    <a:pt x="469" y="158"/>
                  </a:lnTo>
                  <a:lnTo>
                    <a:pt x="480" y="158"/>
                  </a:lnTo>
                  <a:lnTo>
                    <a:pt x="486" y="158"/>
                  </a:lnTo>
                  <a:lnTo>
                    <a:pt x="497" y="158"/>
                  </a:lnTo>
                  <a:lnTo>
                    <a:pt x="507" y="158"/>
                  </a:lnTo>
                  <a:lnTo>
                    <a:pt x="518" y="158"/>
                  </a:lnTo>
                  <a:lnTo>
                    <a:pt x="529" y="164"/>
                  </a:lnTo>
                  <a:lnTo>
                    <a:pt x="535" y="169"/>
                  </a:lnTo>
                  <a:lnTo>
                    <a:pt x="540" y="175"/>
                  </a:lnTo>
                  <a:lnTo>
                    <a:pt x="546" y="180"/>
                  </a:lnTo>
                  <a:lnTo>
                    <a:pt x="546" y="191"/>
                  </a:lnTo>
                  <a:lnTo>
                    <a:pt x="551" y="197"/>
                  </a:lnTo>
                  <a:lnTo>
                    <a:pt x="556" y="202"/>
                  </a:lnTo>
                  <a:lnTo>
                    <a:pt x="562" y="208"/>
                  </a:lnTo>
                  <a:lnTo>
                    <a:pt x="573" y="208"/>
                  </a:lnTo>
                  <a:lnTo>
                    <a:pt x="578" y="213"/>
                  </a:lnTo>
                  <a:lnTo>
                    <a:pt x="584" y="218"/>
                  </a:lnTo>
                  <a:lnTo>
                    <a:pt x="584" y="224"/>
                  </a:lnTo>
                  <a:lnTo>
                    <a:pt x="584" y="235"/>
                  </a:lnTo>
                  <a:lnTo>
                    <a:pt x="578" y="240"/>
                  </a:lnTo>
                  <a:lnTo>
                    <a:pt x="578" y="246"/>
                  </a:lnTo>
                  <a:lnTo>
                    <a:pt x="589" y="251"/>
                  </a:lnTo>
                  <a:lnTo>
                    <a:pt x="589" y="240"/>
                  </a:lnTo>
                  <a:lnTo>
                    <a:pt x="589" y="235"/>
                  </a:lnTo>
                  <a:lnTo>
                    <a:pt x="589" y="229"/>
                  </a:lnTo>
                  <a:lnTo>
                    <a:pt x="589" y="224"/>
                  </a:lnTo>
                  <a:lnTo>
                    <a:pt x="589" y="213"/>
                  </a:lnTo>
                  <a:lnTo>
                    <a:pt x="595" y="208"/>
                  </a:lnTo>
                  <a:lnTo>
                    <a:pt x="606" y="202"/>
                  </a:lnTo>
                  <a:lnTo>
                    <a:pt x="611" y="197"/>
                  </a:lnTo>
                  <a:lnTo>
                    <a:pt x="622" y="197"/>
                  </a:lnTo>
                  <a:lnTo>
                    <a:pt x="627" y="202"/>
                  </a:lnTo>
                  <a:lnTo>
                    <a:pt x="638" y="208"/>
                  </a:lnTo>
                  <a:lnTo>
                    <a:pt x="644" y="213"/>
                  </a:lnTo>
                  <a:lnTo>
                    <a:pt x="649" y="218"/>
                  </a:lnTo>
                  <a:lnTo>
                    <a:pt x="660" y="224"/>
                  </a:lnTo>
                  <a:lnTo>
                    <a:pt x="666" y="224"/>
                  </a:lnTo>
                  <a:lnTo>
                    <a:pt x="676" y="229"/>
                  </a:lnTo>
                  <a:lnTo>
                    <a:pt x="682" y="235"/>
                  </a:lnTo>
                  <a:lnTo>
                    <a:pt x="687" y="240"/>
                  </a:lnTo>
                  <a:lnTo>
                    <a:pt x="698" y="246"/>
                  </a:lnTo>
                  <a:lnTo>
                    <a:pt x="704" y="251"/>
                  </a:lnTo>
                  <a:lnTo>
                    <a:pt x="709" y="257"/>
                  </a:lnTo>
                  <a:lnTo>
                    <a:pt x="720" y="262"/>
                  </a:lnTo>
                  <a:lnTo>
                    <a:pt x="725" y="262"/>
                  </a:lnTo>
                  <a:lnTo>
                    <a:pt x="731" y="267"/>
                  </a:lnTo>
                  <a:lnTo>
                    <a:pt x="736" y="27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6" name=""/>
            <p:cNvSpPr/>
            <p:nvPr/>
          </p:nvSpPr>
          <p:spPr>
            <a:xfrm>
              <a:off x="6068880" y="2955960"/>
              <a:ext cx="18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7" name=""/>
            <p:cNvSpPr/>
            <p:nvPr/>
          </p:nvSpPr>
          <p:spPr>
            <a:xfrm>
              <a:off x="5973840" y="2955960"/>
              <a:ext cx="27000" cy="34920"/>
            </a:xfrm>
            <a:custGeom>
              <a:avLst/>
              <a:gdLst/>
              <a:ahLst/>
              <a:rect l="l" t="t" r="r" b="b"/>
              <a:pathLst>
                <a:path w="17" h="22">
                  <a:moveTo>
                    <a:pt x="17" y="22"/>
                  </a:moveTo>
                  <a:lnTo>
                    <a:pt x="11" y="22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11"/>
                  </a:lnTo>
                  <a:lnTo>
                    <a:pt x="6" y="11"/>
                  </a:lnTo>
                  <a:lnTo>
                    <a:pt x="6" y="11"/>
                  </a:lnTo>
                  <a:lnTo>
                    <a:pt x="0" y="11"/>
                  </a:lnTo>
                  <a:lnTo>
                    <a:pt x="0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11" y="0"/>
                  </a:lnTo>
                  <a:lnTo>
                    <a:pt x="17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8" name=""/>
            <p:cNvSpPr/>
            <p:nvPr/>
          </p:nvSpPr>
          <p:spPr>
            <a:xfrm>
              <a:off x="6000840" y="2946240"/>
              <a:ext cx="34920" cy="44640"/>
            </a:xfrm>
            <a:custGeom>
              <a:avLst/>
              <a:gdLst/>
              <a:ahLst/>
              <a:rect l="l" t="t" r="r" b="b"/>
              <a:pathLst>
                <a:path w="22" h="28">
                  <a:moveTo>
                    <a:pt x="5" y="11"/>
                  </a:moveTo>
                  <a:lnTo>
                    <a:pt x="5" y="11"/>
                  </a:lnTo>
                  <a:lnTo>
                    <a:pt x="5" y="11"/>
                  </a:lnTo>
                  <a:lnTo>
                    <a:pt x="5" y="11"/>
                  </a:lnTo>
                  <a:lnTo>
                    <a:pt x="5" y="11"/>
                  </a:lnTo>
                  <a:lnTo>
                    <a:pt x="5" y="11"/>
                  </a:lnTo>
                  <a:lnTo>
                    <a:pt x="5" y="11"/>
                  </a:lnTo>
                  <a:lnTo>
                    <a:pt x="5" y="11"/>
                  </a:lnTo>
                  <a:lnTo>
                    <a:pt x="0" y="11"/>
                  </a:lnTo>
                  <a:lnTo>
                    <a:pt x="0" y="6"/>
                  </a:lnTo>
                  <a:lnTo>
                    <a:pt x="0" y="6"/>
                  </a:lnTo>
                  <a:lnTo>
                    <a:pt x="5" y="6"/>
                  </a:lnTo>
                  <a:lnTo>
                    <a:pt x="5" y="6"/>
                  </a:lnTo>
                  <a:lnTo>
                    <a:pt x="5" y="6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6" y="0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6" y="11"/>
                  </a:lnTo>
                  <a:lnTo>
                    <a:pt x="16" y="11"/>
                  </a:lnTo>
                  <a:lnTo>
                    <a:pt x="16" y="11"/>
                  </a:lnTo>
                  <a:lnTo>
                    <a:pt x="16" y="11"/>
                  </a:lnTo>
                  <a:lnTo>
                    <a:pt x="16" y="11"/>
                  </a:lnTo>
                  <a:lnTo>
                    <a:pt x="16" y="11"/>
                  </a:lnTo>
                  <a:lnTo>
                    <a:pt x="16" y="11"/>
                  </a:lnTo>
                  <a:lnTo>
                    <a:pt x="16" y="11"/>
                  </a:lnTo>
                  <a:lnTo>
                    <a:pt x="16" y="11"/>
                  </a:lnTo>
                  <a:lnTo>
                    <a:pt x="16" y="11"/>
                  </a:lnTo>
                  <a:lnTo>
                    <a:pt x="16" y="17"/>
                  </a:lnTo>
                  <a:lnTo>
                    <a:pt x="16" y="17"/>
                  </a:lnTo>
                  <a:lnTo>
                    <a:pt x="22" y="17"/>
                  </a:lnTo>
                  <a:lnTo>
                    <a:pt x="22" y="17"/>
                  </a:lnTo>
                  <a:lnTo>
                    <a:pt x="22" y="17"/>
                  </a:lnTo>
                  <a:lnTo>
                    <a:pt x="22" y="22"/>
                  </a:lnTo>
                  <a:lnTo>
                    <a:pt x="22" y="22"/>
                  </a:lnTo>
                  <a:lnTo>
                    <a:pt x="16" y="22"/>
                  </a:lnTo>
                  <a:lnTo>
                    <a:pt x="16" y="22"/>
                  </a:lnTo>
                  <a:lnTo>
                    <a:pt x="16" y="22"/>
                  </a:lnTo>
                  <a:lnTo>
                    <a:pt x="16" y="28"/>
                  </a:lnTo>
                  <a:lnTo>
                    <a:pt x="11" y="28"/>
                  </a:lnTo>
                  <a:lnTo>
                    <a:pt x="11" y="28"/>
                  </a:lnTo>
                  <a:lnTo>
                    <a:pt x="11" y="28"/>
                  </a:lnTo>
                  <a:lnTo>
                    <a:pt x="11" y="28"/>
                  </a:lnTo>
                  <a:lnTo>
                    <a:pt x="5" y="28"/>
                  </a:lnTo>
                  <a:lnTo>
                    <a:pt x="5" y="22"/>
                  </a:lnTo>
                  <a:lnTo>
                    <a:pt x="5" y="22"/>
                  </a:lnTo>
                  <a:lnTo>
                    <a:pt x="5" y="22"/>
                  </a:lnTo>
                  <a:lnTo>
                    <a:pt x="5" y="22"/>
                  </a:lnTo>
                  <a:lnTo>
                    <a:pt x="5" y="17"/>
                  </a:lnTo>
                  <a:lnTo>
                    <a:pt x="5" y="17"/>
                  </a:lnTo>
                  <a:lnTo>
                    <a:pt x="5" y="17"/>
                  </a:lnTo>
                  <a:lnTo>
                    <a:pt x="5" y="17"/>
                  </a:lnTo>
                  <a:lnTo>
                    <a:pt x="5" y="17"/>
                  </a:lnTo>
                  <a:lnTo>
                    <a:pt x="5" y="17"/>
                  </a:lnTo>
                  <a:lnTo>
                    <a:pt x="5" y="17"/>
                  </a:lnTo>
                  <a:lnTo>
                    <a:pt x="5" y="11"/>
                  </a:lnTo>
                  <a:close/>
                  <a:moveTo>
                    <a:pt x="5" y="11"/>
                  </a:moveTo>
                  <a:lnTo>
                    <a:pt x="5" y="11"/>
                  </a:lnTo>
                  <a:lnTo>
                    <a:pt x="5" y="11"/>
                  </a:lnTo>
                  <a:lnTo>
                    <a:pt x="5" y="11"/>
                  </a:lnTo>
                  <a:lnTo>
                    <a:pt x="5" y="11"/>
                  </a:lnTo>
                  <a:lnTo>
                    <a:pt x="5" y="11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5" y="6"/>
                  </a:lnTo>
                  <a:lnTo>
                    <a:pt x="5" y="6"/>
                  </a:lnTo>
                  <a:lnTo>
                    <a:pt x="5" y="6"/>
                  </a:lnTo>
                  <a:lnTo>
                    <a:pt x="5" y="6"/>
                  </a:lnTo>
                  <a:lnTo>
                    <a:pt x="5" y="6"/>
                  </a:lnTo>
                  <a:lnTo>
                    <a:pt x="5" y="6"/>
                  </a:lnTo>
                  <a:lnTo>
                    <a:pt x="5" y="6"/>
                  </a:lnTo>
                  <a:lnTo>
                    <a:pt x="5" y="11"/>
                  </a:lnTo>
                  <a:close/>
                  <a:moveTo>
                    <a:pt x="5" y="22"/>
                  </a:moveTo>
                  <a:lnTo>
                    <a:pt x="5" y="22"/>
                  </a:lnTo>
                  <a:lnTo>
                    <a:pt x="5" y="22"/>
                  </a:lnTo>
                  <a:lnTo>
                    <a:pt x="5" y="22"/>
                  </a:lnTo>
                  <a:lnTo>
                    <a:pt x="5" y="22"/>
                  </a:lnTo>
                  <a:lnTo>
                    <a:pt x="11" y="22"/>
                  </a:lnTo>
                  <a:lnTo>
                    <a:pt x="11" y="22"/>
                  </a:lnTo>
                  <a:lnTo>
                    <a:pt x="11" y="22"/>
                  </a:lnTo>
                  <a:lnTo>
                    <a:pt x="11" y="22"/>
                  </a:lnTo>
                  <a:lnTo>
                    <a:pt x="11" y="22"/>
                  </a:lnTo>
                  <a:lnTo>
                    <a:pt x="11" y="22"/>
                  </a:lnTo>
                  <a:lnTo>
                    <a:pt x="11" y="22"/>
                  </a:lnTo>
                  <a:lnTo>
                    <a:pt x="11" y="22"/>
                  </a:lnTo>
                  <a:lnTo>
                    <a:pt x="16" y="22"/>
                  </a:lnTo>
                  <a:lnTo>
                    <a:pt x="16" y="22"/>
                  </a:lnTo>
                  <a:lnTo>
                    <a:pt x="16" y="22"/>
                  </a:lnTo>
                  <a:lnTo>
                    <a:pt x="16" y="22"/>
                  </a:lnTo>
                  <a:lnTo>
                    <a:pt x="16" y="22"/>
                  </a:lnTo>
                  <a:lnTo>
                    <a:pt x="16" y="22"/>
                  </a:lnTo>
                  <a:lnTo>
                    <a:pt x="16" y="17"/>
                  </a:lnTo>
                  <a:lnTo>
                    <a:pt x="16" y="17"/>
                  </a:lnTo>
                  <a:lnTo>
                    <a:pt x="16" y="17"/>
                  </a:lnTo>
                  <a:lnTo>
                    <a:pt x="16" y="17"/>
                  </a:lnTo>
                  <a:lnTo>
                    <a:pt x="16" y="17"/>
                  </a:lnTo>
                  <a:lnTo>
                    <a:pt x="16" y="17"/>
                  </a:lnTo>
                  <a:lnTo>
                    <a:pt x="16" y="17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5" y="17"/>
                  </a:lnTo>
                  <a:lnTo>
                    <a:pt x="5" y="17"/>
                  </a:lnTo>
                  <a:lnTo>
                    <a:pt x="5" y="17"/>
                  </a:lnTo>
                  <a:lnTo>
                    <a:pt x="5" y="17"/>
                  </a:lnTo>
                  <a:lnTo>
                    <a:pt x="5" y="17"/>
                  </a:lnTo>
                  <a:lnTo>
                    <a:pt x="5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9" name=""/>
            <p:cNvSpPr/>
            <p:nvPr/>
          </p:nvSpPr>
          <p:spPr>
            <a:xfrm>
              <a:off x="6035760" y="2946240"/>
              <a:ext cx="25200" cy="34920"/>
            </a:xfrm>
            <a:custGeom>
              <a:avLst/>
              <a:gdLst/>
              <a:ahLst/>
              <a:rect l="l" t="t" r="r" b="b"/>
              <a:pathLst>
                <a:path w="16" h="22">
                  <a:moveTo>
                    <a:pt x="0" y="11"/>
                  </a:moveTo>
                  <a:lnTo>
                    <a:pt x="0" y="11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6" y="11"/>
                  </a:lnTo>
                  <a:lnTo>
                    <a:pt x="16" y="11"/>
                  </a:lnTo>
                  <a:lnTo>
                    <a:pt x="16" y="11"/>
                  </a:lnTo>
                  <a:lnTo>
                    <a:pt x="16" y="17"/>
                  </a:lnTo>
                  <a:lnTo>
                    <a:pt x="16" y="17"/>
                  </a:lnTo>
                  <a:lnTo>
                    <a:pt x="16" y="17"/>
                  </a:lnTo>
                  <a:lnTo>
                    <a:pt x="16" y="17"/>
                  </a:lnTo>
                  <a:lnTo>
                    <a:pt x="16" y="22"/>
                  </a:lnTo>
                  <a:lnTo>
                    <a:pt x="10" y="22"/>
                  </a:lnTo>
                  <a:lnTo>
                    <a:pt x="10" y="22"/>
                  </a:lnTo>
                  <a:lnTo>
                    <a:pt x="10" y="22"/>
                  </a:lnTo>
                  <a:lnTo>
                    <a:pt x="10" y="22"/>
                  </a:lnTo>
                  <a:lnTo>
                    <a:pt x="10" y="22"/>
                  </a:lnTo>
                  <a:lnTo>
                    <a:pt x="5" y="22"/>
                  </a:lnTo>
                  <a:lnTo>
                    <a:pt x="5" y="22"/>
                  </a:lnTo>
                  <a:lnTo>
                    <a:pt x="5" y="22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1"/>
                  </a:lnTo>
                  <a:close/>
                  <a:moveTo>
                    <a:pt x="0" y="11"/>
                  </a:moveTo>
                  <a:lnTo>
                    <a:pt x="5" y="11"/>
                  </a:lnTo>
                  <a:lnTo>
                    <a:pt x="5" y="17"/>
                  </a:lnTo>
                  <a:lnTo>
                    <a:pt x="5" y="17"/>
                  </a:lnTo>
                  <a:lnTo>
                    <a:pt x="5" y="17"/>
                  </a:lnTo>
                  <a:lnTo>
                    <a:pt x="5" y="17"/>
                  </a:lnTo>
                  <a:lnTo>
                    <a:pt x="5" y="22"/>
                  </a:lnTo>
                  <a:lnTo>
                    <a:pt x="10" y="22"/>
                  </a:lnTo>
                  <a:lnTo>
                    <a:pt x="10" y="22"/>
                  </a:lnTo>
                  <a:lnTo>
                    <a:pt x="10" y="22"/>
                  </a:lnTo>
                  <a:lnTo>
                    <a:pt x="10" y="17"/>
                  </a:lnTo>
                  <a:lnTo>
                    <a:pt x="10" y="17"/>
                  </a:lnTo>
                  <a:lnTo>
                    <a:pt x="10" y="17"/>
                  </a:lnTo>
                  <a:lnTo>
                    <a:pt x="10" y="17"/>
                  </a:lnTo>
                  <a:lnTo>
                    <a:pt x="10" y="17"/>
                  </a:lnTo>
                  <a:lnTo>
                    <a:pt x="10" y="11"/>
                  </a:lnTo>
                  <a:lnTo>
                    <a:pt x="10" y="11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0" name=""/>
            <p:cNvSpPr/>
            <p:nvPr/>
          </p:nvSpPr>
          <p:spPr>
            <a:xfrm flipH="1">
              <a:off x="5947920" y="2981160"/>
              <a:ext cx="176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1" name=""/>
            <p:cNvSpPr/>
            <p:nvPr/>
          </p:nvSpPr>
          <p:spPr>
            <a:xfrm>
              <a:off x="4840200" y="2981160"/>
              <a:ext cx="1108080" cy="476280"/>
            </a:xfrm>
            <a:custGeom>
              <a:avLst/>
              <a:gdLst/>
              <a:ahLst/>
              <a:rect l="l" t="t" r="r" b="b"/>
              <a:pathLst>
                <a:path w="698" h="300">
                  <a:moveTo>
                    <a:pt x="698" y="0"/>
                  </a:moveTo>
                  <a:lnTo>
                    <a:pt x="687" y="0"/>
                  </a:lnTo>
                  <a:lnTo>
                    <a:pt x="682" y="6"/>
                  </a:lnTo>
                  <a:lnTo>
                    <a:pt x="671" y="11"/>
                  </a:lnTo>
                  <a:lnTo>
                    <a:pt x="660" y="11"/>
                  </a:lnTo>
                  <a:lnTo>
                    <a:pt x="654" y="17"/>
                  </a:lnTo>
                  <a:lnTo>
                    <a:pt x="649" y="22"/>
                  </a:lnTo>
                  <a:lnTo>
                    <a:pt x="649" y="33"/>
                  </a:lnTo>
                  <a:lnTo>
                    <a:pt x="649" y="38"/>
                  </a:lnTo>
                  <a:lnTo>
                    <a:pt x="649" y="44"/>
                  </a:lnTo>
                  <a:lnTo>
                    <a:pt x="654" y="49"/>
                  </a:lnTo>
                  <a:lnTo>
                    <a:pt x="649" y="60"/>
                  </a:lnTo>
                  <a:lnTo>
                    <a:pt x="649" y="66"/>
                  </a:lnTo>
                  <a:lnTo>
                    <a:pt x="638" y="71"/>
                  </a:lnTo>
                  <a:lnTo>
                    <a:pt x="633" y="77"/>
                  </a:lnTo>
                  <a:lnTo>
                    <a:pt x="627" y="82"/>
                  </a:lnTo>
                  <a:lnTo>
                    <a:pt x="622" y="87"/>
                  </a:lnTo>
                  <a:lnTo>
                    <a:pt x="616" y="93"/>
                  </a:lnTo>
                  <a:lnTo>
                    <a:pt x="616" y="98"/>
                  </a:lnTo>
                  <a:lnTo>
                    <a:pt x="605" y="104"/>
                  </a:lnTo>
                  <a:lnTo>
                    <a:pt x="600" y="109"/>
                  </a:lnTo>
                  <a:lnTo>
                    <a:pt x="594" y="115"/>
                  </a:lnTo>
                  <a:lnTo>
                    <a:pt x="584" y="120"/>
                  </a:lnTo>
                  <a:lnTo>
                    <a:pt x="578" y="126"/>
                  </a:lnTo>
                  <a:lnTo>
                    <a:pt x="573" y="131"/>
                  </a:lnTo>
                  <a:lnTo>
                    <a:pt x="567" y="137"/>
                  </a:lnTo>
                  <a:lnTo>
                    <a:pt x="562" y="142"/>
                  </a:lnTo>
                  <a:lnTo>
                    <a:pt x="551" y="142"/>
                  </a:lnTo>
                  <a:lnTo>
                    <a:pt x="540" y="147"/>
                  </a:lnTo>
                  <a:lnTo>
                    <a:pt x="529" y="147"/>
                  </a:lnTo>
                  <a:lnTo>
                    <a:pt x="518" y="147"/>
                  </a:lnTo>
                  <a:lnTo>
                    <a:pt x="507" y="147"/>
                  </a:lnTo>
                  <a:lnTo>
                    <a:pt x="496" y="147"/>
                  </a:lnTo>
                  <a:lnTo>
                    <a:pt x="485" y="147"/>
                  </a:lnTo>
                  <a:lnTo>
                    <a:pt x="475" y="153"/>
                  </a:lnTo>
                  <a:lnTo>
                    <a:pt x="469" y="153"/>
                  </a:lnTo>
                  <a:lnTo>
                    <a:pt x="458" y="153"/>
                  </a:lnTo>
                  <a:lnTo>
                    <a:pt x="447" y="158"/>
                  </a:lnTo>
                  <a:lnTo>
                    <a:pt x="442" y="164"/>
                  </a:lnTo>
                  <a:lnTo>
                    <a:pt x="431" y="164"/>
                  </a:lnTo>
                  <a:lnTo>
                    <a:pt x="420" y="164"/>
                  </a:lnTo>
                  <a:lnTo>
                    <a:pt x="409" y="164"/>
                  </a:lnTo>
                  <a:lnTo>
                    <a:pt x="398" y="164"/>
                  </a:lnTo>
                  <a:lnTo>
                    <a:pt x="387" y="164"/>
                  </a:lnTo>
                  <a:lnTo>
                    <a:pt x="376" y="169"/>
                  </a:lnTo>
                  <a:lnTo>
                    <a:pt x="371" y="169"/>
                  </a:lnTo>
                  <a:lnTo>
                    <a:pt x="360" y="169"/>
                  </a:lnTo>
                  <a:lnTo>
                    <a:pt x="349" y="164"/>
                  </a:lnTo>
                  <a:lnTo>
                    <a:pt x="338" y="164"/>
                  </a:lnTo>
                  <a:lnTo>
                    <a:pt x="327" y="164"/>
                  </a:lnTo>
                  <a:lnTo>
                    <a:pt x="316" y="164"/>
                  </a:lnTo>
                  <a:lnTo>
                    <a:pt x="306" y="164"/>
                  </a:lnTo>
                  <a:lnTo>
                    <a:pt x="295" y="164"/>
                  </a:lnTo>
                  <a:lnTo>
                    <a:pt x="289" y="164"/>
                  </a:lnTo>
                  <a:lnTo>
                    <a:pt x="278" y="164"/>
                  </a:lnTo>
                  <a:lnTo>
                    <a:pt x="267" y="164"/>
                  </a:lnTo>
                  <a:lnTo>
                    <a:pt x="256" y="164"/>
                  </a:lnTo>
                  <a:lnTo>
                    <a:pt x="246" y="164"/>
                  </a:lnTo>
                  <a:lnTo>
                    <a:pt x="235" y="164"/>
                  </a:lnTo>
                  <a:lnTo>
                    <a:pt x="224" y="164"/>
                  </a:lnTo>
                  <a:lnTo>
                    <a:pt x="213" y="169"/>
                  </a:lnTo>
                  <a:lnTo>
                    <a:pt x="207" y="169"/>
                  </a:lnTo>
                  <a:lnTo>
                    <a:pt x="196" y="175"/>
                  </a:lnTo>
                  <a:lnTo>
                    <a:pt x="191" y="180"/>
                  </a:lnTo>
                  <a:lnTo>
                    <a:pt x="180" y="186"/>
                  </a:lnTo>
                  <a:lnTo>
                    <a:pt x="169" y="186"/>
                  </a:lnTo>
                  <a:lnTo>
                    <a:pt x="164" y="180"/>
                  </a:lnTo>
                  <a:lnTo>
                    <a:pt x="153" y="175"/>
                  </a:lnTo>
                  <a:lnTo>
                    <a:pt x="147" y="169"/>
                  </a:lnTo>
                  <a:lnTo>
                    <a:pt x="136" y="164"/>
                  </a:lnTo>
                  <a:lnTo>
                    <a:pt x="131" y="158"/>
                  </a:lnTo>
                  <a:lnTo>
                    <a:pt x="126" y="153"/>
                  </a:lnTo>
                  <a:lnTo>
                    <a:pt x="115" y="153"/>
                  </a:lnTo>
                  <a:lnTo>
                    <a:pt x="104" y="147"/>
                  </a:lnTo>
                  <a:lnTo>
                    <a:pt x="93" y="147"/>
                  </a:lnTo>
                  <a:lnTo>
                    <a:pt x="82" y="147"/>
                  </a:lnTo>
                  <a:lnTo>
                    <a:pt x="71" y="147"/>
                  </a:lnTo>
                  <a:lnTo>
                    <a:pt x="60" y="147"/>
                  </a:lnTo>
                  <a:lnTo>
                    <a:pt x="55" y="147"/>
                  </a:lnTo>
                  <a:lnTo>
                    <a:pt x="44" y="153"/>
                  </a:lnTo>
                  <a:lnTo>
                    <a:pt x="33" y="153"/>
                  </a:lnTo>
                  <a:lnTo>
                    <a:pt x="27" y="158"/>
                  </a:lnTo>
                  <a:lnTo>
                    <a:pt x="22" y="164"/>
                  </a:lnTo>
                  <a:lnTo>
                    <a:pt x="17" y="169"/>
                  </a:lnTo>
                  <a:lnTo>
                    <a:pt x="17" y="175"/>
                  </a:lnTo>
                  <a:lnTo>
                    <a:pt x="17" y="186"/>
                  </a:lnTo>
                  <a:lnTo>
                    <a:pt x="22" y="191"/>
                  </a:lnTo>
                  <a:lnTo>
                    <a:pt x="27" y="191"/>
                  </a:lnTo>
                  <a:lnTo>
                    <a:pt x="38" y="196"/>
                  </a:lnTo>
                  <a:lnTo>
                    <a:pt x="49" y="196"/>
                  </a:lnTo>
                  <a:lnTo>
                    <a:pt x="60" y="196"/>
                  </a:lnTo>
                  <a:lnTo>
                    <a:pt x="71" y="202"/>
                  </a:lnTo>
                  <a:lnTo>
                    <a:pt x="82" y="202"/>
                  </a:lnTo>
                  <a:lnTo>
                    <a:pt x="87" y="207"/>
                  </a:lnTo>
                  <a:lnTo>
                    <a:pt x="98" y="207"/>
                  </a:lnTo>
                  <a:lnTo>
                    <a:pt x="109" y="213"/>
                  </a:lnTo>
                  <a:lnTo>
                    <a:pt x="115" y="218"/>
                  </a:lnTo>
                  <a:lnTo>
                    <a:pt x="120" y="224"/>
                  </a:lnTo>
                  <a:lnTo>
                    <a:pt x="126" y="229"/>
                  </a:lnTo>
                  <a:lnTo>
                    <a:pt x="126" y="240"/>
                  </a:lnTo>
                  <a:lnTo>
                    <a:pt x="126" y="246"/>
                  </a:lnTo>
                  <a:lnTo>
                    <a:pt x="126" y="251"/>
                  </a:lnTo>
                  <a:lnTo>
                    <a:pt x="120" y="256"/>
                  </a:lnTo>
                  <a:lnTo>
                    <a:pt x="115" y="262"/>
                  </a:lnTo>
                  <a:lnTo>
                    <a:pt x="104" y="262"/>
                  </a:lnTo>
                  <a:lnTo>
                    <a:pt x="93" y="262"/>
                  </a:lnTo>
                  <a:lnTo>
                    <a:pt x="82" y="262"/>
                  </a:lnTo>
                  <a:lnTo>
                    <a:pt x="71" y="256"/>
                  </a:lnTo>
                  <a:lnTo>
                    <a:pt x="66" y="251"/>
                  </a:lnTo>
                  <a:lnTo>
                    <a:pt x="55" y="251"/>
                  </a:lnTo>
                  <a:lnTo>
                    <a:pt x="49" y="246"/>
                  </a:lnTo>
                  <a:lnTo>
                    <a:pt x="38" y="240"/>
                  </a:lnTo>
                  <a:lnTo>
                    <a:pt x="33" y="235"/>
                  </a:lnTo>
                  <a:lnTo>
                    <a:pt x="22" y="235"/>
                  </a:lnTo>
                  <a:lnTo>
                    <a:pt x="17" y="235"/>
                  </a:lnTo>
                  <a:lnTo>
                    <a:pt x="6" y="240"/>
                  </a:lnTo>
                  <a:lnTo>
                    <a:pt x="0" y="246"/>
                  </a:lnTo>
                  <a:lnTo>
                    <a:pt x="0" y="251"/>
                  </a:lnTo>
                  <a:lnTo>
                    <a:pt x="0" y="256"/>
                  </a:lnTo>
                  <a:lnTo>
                    <a:pt x="11" y="262"/>
                  </a:lnTo>
                  <a:lnTo>
                    <a:pt x="22" y="267"/>
                  </a:lnTo>
                  <a:lnTo>
                    <a:pt x="33" y="273"/>
                  </a:lnTo>
                  <a:lnTo>
                    <a:pt x="44" y="278"/>
                  </a:lnTo>
                  <a:lnTo>
                    <a:pt x="49" y="278"/>
                  </a:lnTo>
                  <a:lnTo>
                    <a:pt x="44" y="284"/>
                  </a:lnTo>
                  <a:lnTo>
                    <a:pt x="38" y="295"/>
                  </a:lnTo>
                  <a:lnTo>
                    <a:pt x="27" y="295"/>
                  </a:lnTo>
                  <a:lnTo>
                    <a:pt x="22" y="300"/>
                  </a:lnTo>
                  <a:lnTo>
                    <a:pt x="17" y="295"/>
                  </a:lnTo>
                  <a:lnTo>
                    <a:pt x="11" y="284"/>
                  </a:lnTo>
                  <a:lnTo>
                    <a:pt x="11" y="278"/>
                  </a:lnTo>
                  <a:lnTo>
                    <a:pt x="6" y="267"/>
                  </a:lnTo>
                  <a:lnTo>
                    <a:pt x="0" y="26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2" name=""/>
            <p:cNvSpPr/>
            <p:nvPr/>
          </p:nvSpPr>
          <p:spPr>
            <a:xfrm>
              <a:off x="4840200" y="3397320"/>
              <a:ext cx="18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3" name=""/>
            <p:cNvSpPr/>
            <p:nvPr/>
          </p:nvSpPr>
          <p:spPr>
            <a:xfrm>
              <a:off x="4745160" y="3422520"/>
              <a:ext cx="34920" cy="3492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22" y="22"/>
                  </a:moveTo>
                  <a:lnTo>
                    <a:pt x="17" y="22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11"/>
                  </a:lnTo>
                  <a:lnTo>
                    <a:pt x="6" y="11"/>
                  </a:lnTo>
                  <a:lnTo>
                    <a:pt x="6" y="11"/>
                  </a:lnTo>
                  <a:lnTo>
                    <a:pt x="6" y="11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22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4" name=""/>
            <p:cNvSpPr/>
            <p:nvPr/>
          </p:nvSpPr>
          <p:spPr>
            <a:xfrm>
              <a:off x="4772160" y="3405240"/>
              <a:ext cx="33120" cy="34920"/>
            </a:xfrm>
            <a:custGeom>
              <a:avLst/>
              <a:gdLst/>
              <a:ahLst/>
              <a:rect l="l" t="t" r="r" b="b"/>
              <a:pathLst>
                <a:path w="21" h="22">
                  <a:moveTo>
                    <a:pt x="5" y="11"/>
                  </a:moveTo>
                  <a:lnTo>
                    <a:pt x="5" y="11"/>
                  </a:lnTo>
                  <a:lnTo>
                    <a:pt x="5" y="11"/>
                  </a:lnTo>
                  <a:lnTo>
                    <a:pt x="5" y="11"/>
                  </a:lnTo>
                  <a:lnTo>
                    <a:pt x="5" y="11"/>
                  </a:lnTo>
                  <a:lnTo>
                    <a:pt x="5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6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0" y="11"/>
                  </a:lnTo>
                  <a:lnTo>
                    <a:pt x="10" y="11"/>
                  </a:lnTo>
                  <a:lnTo>
                    <a:pt x="16" y="11"/>
                  </a:lnTo>
                  <a:lnTo>
                    <a:pt x="16" y="11"/>
                  </a:lnTo>
                  <a:lnTo>
                    <a:pt x="16" y="11"/>
                  </a:lnTo>
                  <a:lnTo>
                    <a:pt x="16" y="11"/>
                  </a:lnTo>
                  <a:lnTo>
                    <a:pt x="16" y="11"/>
                  </a:lnTo>
                  <a:lnTo>
                    <a:pt x="16" y="11"/>
                  </a:lnTo>
                  <a:lnTo>
                    <a:pt x="21" y="11"/>
                  </a:lnTo>
                  <a:lnTo>
                    <a:pt x="21" y="11"/>
                  </a:lnTo>
                  <a:lnTo>
                    <a:pt x="21" y="17"/>
                  </a:lnTo>
                  <a:lnTo>
                    <a:pt x="21" y="17"/>
                  </a:lnTo>
                  <a:lnTo>
                    <a:pt x="21" y="17"/>
                  </a:lnTo>
                  <a:lnTo>
                    <a:pt x="21" y="17"/>
                  </a:lnTo>
                  <a:lnTo>
                    <a:pt x="21" y="22"/>
                  </a:lnTo>
                  <a:lnTo>
                    <a:pt x="21" y="22"/>
                  </a:lnTo>
                  <a:lnTo>
                    <a:pt x="16" y="22"/>
                  </a:lnTo>
                  <a:lnTo>
                    <a:pt x="16" y="22"/>
                  </a:lnTo>
                  <a:lnTo>
                    <a:pt x="16" y="22"/>
                  </a:lnTo>
                  <a:lnTo>
                    <a:pt x="10" y="22"/>
                  </a:lnTo>
                  <a:lnTo>
                    <a:pt x="10" y="22"/>
                  </a:lnTo>
                  <a:lnTo>
                    <a:pt x="10" y="22"/>
                  </a:lnTo>
                  <a:lnTo>
                    <a:pt x="10" y="22"/>
                  </a:lnTo>
                  <a:lnTo>
                    <a:pt x="5" y="22"/>
                  </a:lnTo>
                  <a:lnTo>
                    <a:pt x="5" y="22"/>
                  </a:lnTo>
                  <a:lnTo>
                    <a:pt x="5" y="22"/>
                  </a:lnTo>
                  <a:lnTo>
                    <a:pt x="5" y="22"/>
                  </a:lnTo>
                  <a:lnTo>
                    <a:pt x="5" y="17"/>
                  </a:lnTo>
                  <a:lnTo>
                    <a:pt x="5" y="17"/>
                  </a:lnTo>
                  <a:lnTo>
                    <a:pt x="5" y="17"/>
                  </a:lnTo>
                  <a:lnTo>
                    <a:pt x="5" y="17"/>
                  </a:lnTo>
                  <a:lnTo>
                    <a:pt x="5" y="17"/>
                  </a:lnTo>
                  <a:lnTo>
                    <a:pt x="5" y="11"/>
                  </a:lnTo>
                  <a:lnTo>
                    <a:pt x="5" y="11"/>
                  </a:lnTo>
                  <a:close/>
                  <a:moveTo>
                    <a:pt x="5" y="11"/>
                  </a:moveTo>
                  <a:lnTo>
                    <a:pt x="5" y="11"/>
                  </a:lnTo>
                  <a:lnTo>
                    <a:pt x="5" y="11"/>
                  </a:lnTo>
                  <a:lnTo>
                    <a:pt x="5" y="11"/>
                  </a:lnTo>
                  <a:lnTo>
                    <a:pt x="5" y="11"/>
                  </a:lnTo>
                  <a:lnTo>
                    <a:pt x="5" y="11"/>
                  </a:lnTo>
                  <a:lnTo>
                    <a:pt x="5" y="11"/>
                  </a:lnTo>
                  <a:lnTo>
                    <a:pt x="10" y="11"/>
                  </a:lnTo>
                  <a:lnTo>
                    <a:pt x="10" y="11"/>
                  </a:lnTo>
                  <a:lnTo>
                    <a:pt x="10" y="11"/>
                  </a:lnTo>
                  <a:lnTo>
                    <a:pt x="10" y="11"/>
                  </a:lnTo>
                  <a:lnTo>
                    <a:pt x="10" y="11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5" y="6"/>
                  </a:lnTo>
                  <a:lnTo>
                    <a:pt x="5" y="6"/>
                  </a:lnTo>
                  <a:lnTo>
                    <a:pt x="5" y="6"/>
                  </a:lnTo>
                  <a:lnTo>
                    <a:pt x="5" y="6"/>
                  </a:lnTo>
                  <a:lnTo>
                    <a:pt x="5" y="6"/>
                  </a:lnTo>
                  <a:lnTo>
                    <a:pt x="5" y="6"/>
                  </a:lnTo>
                  <a:lnTo>
                    <a:pt x="5" y="6"/>
                  </a:lnTo>
                  <a:lnTo>
                    <a:pt x="5" y="6"/>
                  </a:lnTo>
                  <a:lnTo>
                    <a:pt x="5" y="6"/>
                  </a:lnTo>
                  <a:lnTo>
                    <a:pt x="5" y="6"/>
                  </a:lnTo>
                  <a:lnTo>
                    <a:pt x="5" y="6"/>
                  </a:lnTo>
                  <a:lnTo>
                    <a:pt x="5" y="11"/>
                  </a:lnTo>
                  <a:close/>
                  <a:moveTo>
                    <a:pt x="10" y="17"/>
                  </a:moveTo>
                  <a:lnTo>
                    <a:pt x="10" y="22"/>
                  </a:lnTo>
                  <a:lnTo>
                    <a:pt x="10" y="22"/>
                  </a:lnTo>
                  <a:lnTo>
                    <a:pt x="10" y="22"/>
                  </a:lnTo>
                  <a:lnTo>
                    <a:pt x="10" y="22"/>
                  </a:lnTo>
                  <a:lnTo>
                    <a:pt x="10" y="22"/>
                  </a:lnTo>
                  <a:lnTo>
                    <a:pt x="10" y="22"/>
                  </a:lnTo>
                  <a:lnTo>
                    <a:pt x="10" y="22"/>
                  </a:lnTo>
                  <a:lnTo>
                    <a:pt x="10" y="22"/>
                  </a:lnTo>
                  <a:lnTo>
                    <a:pt x="10" y="22"/>
                  </a:lnTo>
                  <a:lnTo>
                    <a:pt x="16" y="22"/>
                  </a:lnTo>
                  <a:lnTo>
                    <a:pt x="16" y="22"/>
                  </a:lnTo>
                  <a:lnTo>
                    <a:pt x="16" y="22"/>
                  </a:lnTo>
                  <a:lnTo>
                    <a:pt x="16" y="22"/>
                  </a:lnTo>
                  <a:lnTo>
                    <a:pt x="16" y="22"/>
                  </a:lnTo>
                  <a:lnTo>
                    <a:pt x="16" y="17"/>
                  </a:lnTo>
                  <a:lnTo>
                    <a:pt x="16" y="17"/>
                  </a:lnTo>
                  <a:lnTo>
                    <a:pt x="16" y="17"/>
                  </a:lnTo>
                  <a:lnTo>
                    <a:pt x="16" y="17"/>
                  </a:lnTo>
                  <a:lnTo>
                    <a:pt x="16" y="17"/>
                  </a:lnTo>
                  <a:lnTo>
                    <a:pt x="16" y="17"/>
                  </a:lnTo>
                  <a:lnTo>
                    <a:pt x="16" y="11"/>
                  </a:lnTo>
                  <a:lnTo>
                    <a:pt x="16" y="11"/>
                  </a:lnTo>
                  <a:lnTo>
                    <a:pt x="16" y="11"/>
                  </a:lnTo>
                  <a:lnTo>
                    <a:pt x="16" y="11"/>
                  </a:lnTo>
                  <a:lnTo>
                    <a:pt x="10" y="11"/>
                  </a:lnTo>
                  <a:lnTo>
                    <a:pt x="10" y="11"/>
                  </a:lnTo>
                  <a:lnTo>
                    <a:pt x="10" y="11"/>
                  </a:lnTo>
                  <a:lnTo>
                    <a:pt x="10" y="11"/>
                  </a:lnTo>
                  <a:lnTo>
                    <a:pt x="10" y="11"/>
                  </a:lnTo>
                  <a:lnTo>
                    <a:pt x="10" y="11"/>
                  </a:lnTo>
                  <a:lnTo>
                    <a:pt x="10" y="17"/>
                  </a:lnTo>
                  <a:lnTo>
                    <a:pt x="5" y="17"/>
                  </a:lnTo>
                  <a:lnTo>
                    <a:pt x="5" y="17"/>
                  </a:lnTo>
                  <a:lnTo>
                    <a:pt x="5" y="17"/>
                  </a:lnTo>
                  <a:lnTo>
                    <a:pt x="5" y="17"/>
                  </a:lnTo>
                  <a:lnTo>
                    <a:pt x="10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5" name=""/>
            <p:cNvSpPr/>
            <p:nvPr/>
          </p:nvSpPr>
          <p:spPr>
            <a:xfrm>
              <a:off x="4797360" y="3387600"/>
              <a:ext cx="34920" cy="44640"/>
            </a:xfrm>
            <a:custGeom>
              <a:avLst/>
              <a:gdLst/>
              <a:ahLst/>
              <a:rect l="l" t="t" r="r" b="b"/>
              <a:pathLst>
                <a:path w="22" h="28">
                  <a:moveTo>
                    <a:pt x="5" y="17"/>
                  </a:moveTo>
                  <a:lnTo>
                    <a:pt x="0" y="17"/>
                  </a:lnTo>
                  <a:lnTo>
                    <a:pt x="0" y="17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5" y="6"/>
                  </a:lnTo>
                  <a:lnTo>
                    <a:pt x="5" y="6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6" y="11"/>
                  </a:lnTo>
                  <a:lnTo>
                    <a:pt x="16" y="11"/>
                  </a:lnTo>
                  <a:lnTo>
                    <a:pt x="16" y="11"/>
                  </a:lnTo>
                  <a:lnTo>
                    <a:pt x="22" y="11"/>
                  </a:lnTo>
                  <a:lnTo>
                    <a:pt x="22" y="17"/>
                  </a:lnTo>
                  <a:lnTo>
                    <a:pt x="22" y="17"/>
                  </a:lnTo>
                  <a:lnTo>
                    <a:pt x="22" y="17"/>
                  </a:lnTo>
                  <a:lnTo>
                    <a:pt x="22" y="17"/>
                  </a:lnTo>
                  <a:lnTo>
                    <a:pt x="22" y="22"/>
                  </a:lnTo>
                  <a:lnTo>
                    <a:pt x="22" y="22"/>
                  </a:lnTo>
                  <a:lnTo>
                    <a:pt x="22" y="22"/>
                  </a:lnTo>
                  <a:lnTo>
                    <a:pt x="16" y="22"/>
                  </a:lnTo>
                  <a:lnTo>
                    <a:pt x="16" y="22"/>
                  </a:lnTo>
                  <a:lnTo>
                    <a:pt x="16" y="22"/>
                  </a:lnTo>
                  <a:lnTo>
                    <a:pt x="16" y="28"/>
                  </a:lnTo>
                  <a:lnTo>
                    <a:pt x="16" y="28"/>
                  </a:lnTo>
                  <a:lnTo>
                    <a:pt x="11" y="28"/>
                  </a:lnTo>
                  <a:lnTo>
                    <a:pt x="11" y="28"/>
                  </a:lnTo>
                  <a:lnTo>
                    <a:pt x="11" y="22"/>
                  </a:lnTo>
                  <a:lnTo>
                    <a:pt x="5" y="22"/>
                  </a:lnTo>
                  <a:lnTo>
                    <a:pt x="5" y="22"/>
                  </a:lnTo>
                  <a:lnTo>
                    <a:pt x="5" y="17"/>
                  </a:lnTo>
                  <a:close/>
                  <a:moveTo>
                    <a:pt x="5" y="17"/>
                  </a:moveTo>
                  <a:lnTo>
                    <a:pt x="5" y="17"/>
                  </a:lnTo>
                  <a:lnTo>
                    <a:pt x="11" y="22"/>
                  </a:lnTo>
                  <a:lnTo>
                    <a:pt x="11" y="22"/>
                  </a:lnTo>
                  <a:lnTo>
                    <a:pt x="11" y="22"/>
                  </a:lnTo>
                  <a:lnTo>
                    <a:pt x="11" y="22"/>
                  </a:lnTo>
                  <a:lnTo>
                    <a:pt x="11" y="22"/>
                  </a:lnTo>
                  <a:lnTo>
                    <a:pt x="16" y="22"/>
                  </a:lnTo>
                  <a:lnTo>
                    <a:pt x="16" y="22"/>
                  </a:lnTo>
                  <a:lnTo>
                    <a:pt x="16" y="22"/>
                  </a:lnTo>
                  <a:lnTo>
                    <a:pt x="16" y="22"/>
                  </a:lnTo>
                  <a:lnTo>
                    <a:pt x="16" y="22"/>
                  </a:lnTo>
                  <a:lnTo>
                    <a:pt x="16" y="17"/>
                  </a:lnTo>
                  <a:lnTo>
                    <a:pt x="16" y="17"/>
                  </a:lnTo>
                  <a:lnTo>
                    <a:pt x="16" y="17"/>
                  </a:lnTo>
                  <a:lnTo>
                    <a:pt x="16" y="17"/>
                  </a:lnTo>
                  <a:lnTo>
                    <a:pt x="16" y="11"/>
                  </a:lnTo>
                  <a:lnTo>
                    <a:pt x="11" y="11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5" y="6"/>
                  </a:lnTo>
                  <a:lnTo>
                    <a:pt x="5" y="6"/>
                  </a:lnTo>
                  <a:lnTo>
                    <a:pt x="5" y="6"/>
                  </a:lnTo>
                  <a:lnTo>
                    <a:pt x="5" y="6"/>
                  </a:lnTo>
                  <a:lnTo>
                    <a:pt x="5" y="6"/>
                  </a:lnTo>
                  <a:lnTo>
                    <a:pt x="5" y="6"/>
                  </a:lnTo>
                  <a:lnTo>
                    <a:pt x="5" y="6"/>
                  </a:lnTo>
                  <a:lnTo>
                    <a:pt x="5" y="11"/>
                  </a:lnTo>
                  <a:lnTo>
                    <a:pt x="5" y="11"/>
                  </a:lnTo>
                  <a:lnTo>
                    <a:pt x="5" y="17"/>
                  </a:lnTo>
                  <a:lnTo>
                    <a:pt x="5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6" name=""/>
            <p:cNvSpPr/>
            <p:nvPr/>
          </p:nvSpPr>
          <p:spPr>
            <a:xfrm>
              <a:off x="4737240" y="3457440"/>
              <a:ext cx="14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7" name=""/>
            <p:cNvSpPr/>
            <p:nvPr/>
          </p:nvSpPr>
          <p:spPr>
            <a:xfrm>
              <a:off x="4156200" y="3198960"/>
              <a:ext cx="666720" cy="353880"/>
            </a:xfrm>
            <a:custGeom>
              <a:avLst/>
              <a:gdLst/>
              <a:ahLst/>
              <a:rect l="l" t="t" r="r" b="b"/>
              <a:pathLst>
                <a:path w="420" h="223">
                  <a:moveTo>
                    <a:pt x="366" y="163"/>
                  </a:moveTo>
                  <a:lnTo>
                    <a:pt x="355" y="163"/>
                  </a:lnTo>
                  <a:lnTo>
                    <a:pt x="349" y="158"/>
                  </a:lnTo>
                  <a:lnTo>
                    <a:pt x="344" y="152"/>
                  </a:lnTo>
                  <a:lnTo>
                    <a:pt x="344" y="141"/>
                  </a:lnTo>
                  <a:lnTo>
                    <a:pt x="344" y="136"/>
                  </a:lnTo>
                  <a:lnTo>
                    <a:pt x="344" y="130"/>
                  </a:lnTo>
                  <a:lnTo>
                    <a:pt x="344" y="125"/>
                  </a:lnTo>
                  <a:lnTo>
                    <a:pt x="344" y="114"/>
                  </a:lnTo>
                  <a:lnTo>
                    <a:pt x="349" y="109"/>
                  </a:lnTo>
                  <a:lnTo>
                    <a:pt x="355" y="103"/>
                  </a:lnTo>
                  <a:lnTo>
                    <a:pt x="360" y="98"/>
                  </a:lnTo>
                  <a:lnTo>
                    <a:pt x="360" y="92"/>
                  </a:lnTo>
                  <a:lnTo>
                    <a:pt x="366" y="87"/>
                  </a:lnTo>
                  <a:lnTo>
                    <a:pt x="371" y="81"/>
                  </a:lnTo>
                  <a:lnTo>
                    <a:pt x="371" y="70"/>
                  </a:lnTo>
                  <a:lnTo>
                    <a:pt x="377" y="65"/>
                  </a:lnTo>
                  <a:lnTo>
                    <a:pt x="382" y="59"/>
                  </a:lnTo>
                  <a:lnTo>
                    <a:pt x="388" y="54"/>
                  </a:lnTo>
                  <a:lnTo>
                    <a:pt x="393" y="49"/>
                  </a:lnTo>
                  <a:lnTo>
                    <a:pt x="398" y="43"/>
                  </a:lnTo>
                  <a:lnTo>
                    <a:pt x="409" y="38"/>
                  </a:lnTo>
                  <a:lnTo>
                    <a:pt x="415" y="32"/>
                  </a:lnTo>
                  <a:lnTo>
                    <a:pt x="415" y="27"/>
                  </a:lnTo>
                  <a:lnTo>
                    <a:pt x="420" y="16"/>
                  </a:lnTo>
                  <a:lnTo>
                    <a:pt x="415" y="10"/>
                  </a:lnTo>
                  <a:lnTo>
                    <a:pt x="404" y="5"/>
                  </a:lnTo>
                  <a:lnTo>
                    <a:pt x="393" y="0"/>
                  </a:lnTo>
                  <a:lnTo>
                    <a:pt x="388" y="5"/>
                  </a:lnTo>
                  <a:lnTo>
                    <a:pt x="382" y="5"/>
                  </a:lnTo>
                  <a:lnTo>
                    <a:pt x="377" y="16"/>
                  </a:lnTo>
                  <a:lnTo>
                    <a:pt x="371" y="21"/>
                  </a:lnTo>
                  <a:lnTo>
                    <a:pt x="366" y="27"/>
                  </a:lnTo>
                  <a:lnTo>
                    <a:pt x="360" y="32"/>
                  </a:lnTo>
                  <a:lnTo>
                    <a:pt x="349" y="38"/>
                  </a:lnTo>
                  <a:lnTo>
                    <a:pt x="338" y="38"/>
                  </a:lnTo>
                  <a:lnTo>
                    <a:pt x="333" y="43"/>
                  </a:lnTo>
                  <a:lnTo>
                    <a:pt x="322" y="49"/>
                  </a:lnTo>
                  <a:lnTo>
                    <a:pt x="317" y="54"/>
                  </a:lnTo>
                  <a:lnTo>
                    <a:pt x="311" y="59"/>
                  </a:lnTo>
                  <a:lnTo>
                    <a:pt x="300" y="59"/>
                  </a:lnTo>
                  <a:lnTo>
                    <a:pt x="295" y="65"/>
                  </a:lnTo>
                  <a:lnTo>
                    <a:pt x="289" y="70"/>
                  </a:lnTo>
                  <a:lnTo>
                    <a:pt x="284" y="76"/>
                  </a:lnTo>
                  <a:lnTo>
                    <a:pt x="279" y="81"/>
                  </a:lnTo>
                  <a:lnTo>
                    <a:pt x="268" y="87"/>
                  </a:lnTo>
                  <a:lnTo>
                    <a:pt x="262" y="92"/>
                  </a:lnTo>
                  <a:lnTo>
                    <a:pt x="251" y="98"/>
                  </a:lnTo>
                  <a:lnTo>
                    <a:pt x="246" y="98"/>
                  </a:lnTo>
                  <a:lnTo>
                    <a:pt x="235" y="103"/>
                  </a:lnTo>
                  <a:lnTo>
                    <a:pt x="229" y="109"/>
                  </a:lnTo>
                  <a:lnTo>
                    <a:pt x="224" y="114"/>
                  </a:lnTo>
                  <a:lnTo>
                    <a:pt x="219" y="119"/>
                  </a:lnTo>
                  <a:lnTo>
                    <a:pt x="213" y="125"/>
                  </a:lnTo>
                  <a:lnTo>
                    <a:pt x="202" y="130"/>
                  </a:lnTo>
                  <a:lnTo>
                    <a:pt x="191" y="136"/>
                  </a:lnTo>
                  <a:lnTo>
                    <a:pt x="186" y="136"/>
                  </a:lnTo>
                  <a:lnTo>
                    <a:pt x="180" y="141"/>
                  </a:lnTo>
                  <a:lnTo>
                    <a:pt x="169" y="147"/>
                  </a:lnTo>
                  <a:lnTo>
                    <a:pt x="164" y="152"/>
                  </a:lnTo>
                  <a:lnTo>
                    <a:pt x="159" y="158"/>
                  </a:lnTo>
                  <a:lnTo>
                    <a:pt x="148" y="163"/>
                  </a:lnTo>
                  <a:lnTo>
                    <a:pt x="142" y="168"/>
                  </a:lnTo>
                  <a:lnTo>
                    <a:pt x="137" y="174"/>
                  </a:lnTo>
                  <a:lnTo>
                    <a:pt x="137" y="179"/>
                  </a:lnTo>
                  <a:lnTo>
                    <a:pt x="131" y="185"/>
                  </a:lnTo>
                  <a:lnTo>
                    <a:pt x="126" y="190"/>
                  </a:lnTo>
                  <a:lnTo>
                    <a:pt x="115" y="190"/>
                  </a:lnTo>
                  <a:lnTo>
                    <a:pt x="99" y="190"/>
                  </a:lnTo>
                  <a:lnTo>
                    <a:pt x="93" y="185"/>
                  </a:lnTo>
                  <a:lnTo>
                    <a:pt x="82" y="185"/>
                  </a:lnTo>
                  <a:lnTo>
                    <a:pt x="71" y="179"/>
                  </a:lnTo>
                  <a:lnTo>
                    <a:pt x="71" y="174"/>
                  </a:lnTo>
                  <a:lnTo>
                    <a:pt x="77" y="168"/>
                  </a:lnTo>
                  <a:lnTo>
                    <a:pt x="88" y="163"/>
                  </a:lnTo>
                  <a:lnTo>
                    <a:pt x="88" y="158"/>
                  </a:lnTo>
                  <a:lnTo>
                    <a:pt x="93" y="152"/>
                  </a:lnTo>
                  <a:lnTo>
                    <a:pt x="99" y="147"/>
                  </a:lnTo>
                  <a:lnTo>
                    <a:pt x="104" y="141"/>
                  </a:lnTo>
                  <a:lnTo>
                    <a:pt x="109" y="136"/>
                  </a:lnTo>
                  <a:lnTo>
                    <a:pt x="115" y="130"/>
                  </a:lnTo>
                  <a:lnTo>
                    <a:pt x="115" y="125"/>
                  </a:lnTo>
                  <a:lnTo>
                    <a:pt x="115" y="114"/>
                  </a:lnTo>
                  <a:lnTo>
                    <a:pt x="120" y="109"/>
                  </a:lnTo>
                  <a:lnTo>
                    <a:pt x="126" y="103"/>
                  </a:lnTo>
                  <a:lnTo>
                    <a:pt x="131" y="98"/>
                  </a:lnTo>
                  <a:lnTo>
                    <a:pt x="142" y="92"/>
                  </a:lnTo>
                  <a:lnTo>
                    <a:pt x="148" y="87"/>
                  </a:lnTo>
                  <a:lnTo>
                    <a:pt x="153" y="81"/>
                  </a:lnTo>
                  <a:lnTo>
                    <a:pt x="159" y="76"/>
                  </a:lnTo>
                  <a:lnTo>
                    <a:pt x="159" y="70"/>
                  </a:lnTo>
                  <a:lnTo>
                    <a:pt x="164" y="59"/>
                  </a:lnTo>
                  <a:lnTo>
                    <a:pt x="169" y="59"/>
                  </a:lnTo>
                  <a:lnTo>
                    <a:pt x="180" y="59"/>
                  </a:lnTo>
                  <a:lnTo>
                    <a:pt x="191" y="59"/>
                  </a:lnTo>
                  <a:lnTo>
                    <a:pt x="202" y="59"/>
                  </a:lnTo>
                  <a:lnTo>
                    <a:pt x="213" y="54"/>
                  </a:lnTo>
                  <a:lnTo>
                    <a:pt x="219" y="49"/>
                  </a:lnTo>
                  <a:lnTo>
                    <a:pt x="219" y="43"/>
                  </a:lnTo>
                  <a:lnTo>
                    <a:pt x="213" y="32"/>
                  </a:lnTo>
                  <a:lnTo>
                    <a:pt x="208" y="27"/>
                  </a:lnTo>
                  <a:lnTo>
                    <a:pt x="197" y="27"/>
                  </a:lnTo>
                  <a:lnTo>
                    <a:pt x="186" y="27"/>
                  </a:lnTo>
                  <a:lnTo>
                    <a:pt x="175" y="27"/>
                  </a:lnTo>
                  <a:lnTo>
                    <a:pt x="164" y="32"/>
                  </a:lnTo>
                  <a:lnTo>
                    <a:pt x="153" y="32"/>
                  </a:lnTo>
                  <a:lnTo>
                    <a:pt x="142" y="32"/>
                  </a:lnTo>
                  <a:lnTo>
                    <a:pt x="137" y="32"/>
                  </a:lnTo>
                  <a:lnTo>
                    <a:pt x="126" y="38"/>
                  </a:lnTo>
                  <a:lnTo>
                    <a:pt x="115" y="38"/>
                  </a:lnTo>
                  <a:lnTo>
                    <a:pt x="104" y="38"/>
                  </a:lnTo>
                  <a:lnTo>
                    <a:pt x="93" y="43"/>
                  </a:lnTo>
                  <a:lnTo>
                    <a:pt x="82" y="43"/>
                  </a:lnTo>
                  <a:lnTo>
                    <a:pt x="71" y="43"/>
                  </a:lnTo>
                  <a:lnTo>
                    <a:pt x="60" y="43"/>
                  </a:lnTo>
                  <a:lnTo>
                    <a:pt x="55" y="49"/>
                  </a:lnTo>
                  <a:lnTo>
                    <a:pt x="44" y="49"/>
                  </a:lnTo>
                  <a:lnTo>
                    <a:pt x="39" y="54"/>
                  </a:lnTo>
                  <a:lnTo>
                    <a:pt x="39" y="65"/>
                  </a:lnTo>
                  <a:lnTo>
                    <a:pt x="33" y="70"/>
                  </a:lnTo>
                  <a:lnTo>
                    <a:pt x="33" y="76"/>
                  </a:lnTo>
                  <a:lnTo>
                    <a:pt x="33" y="81"/>
                  </a:lnTo>
                  <a:lnTo>
                    <a:pt x="33" y="92"/>
                  </a:lnTo>
                  <a:lnTo>
                    <a:pt x="33" y="98"/>
                  </a:lnTo>
                  <a:lnTo>
                    <a:pt x="28" y="103"/>
                  </a:lnTo>
                  <a:lnTo>
                    <a:pt x="28" y="109"/>
                  </a:lnTo>
                  <a:lnTo>
                    <a:pt x="28" y="119"/>
                  </a:lnTo>
                  <a:lnTo>
                    <a:pt x="22" y="125"/>
                  </a:lnTo>
                  <a:lnTo>
                    <a:pt x="22" y="130"/>
                  </a:lnTo>
                  <a:lnTo>
                    <a:pt x="17" y="136"/>
                  </a:lnTo>
                  <a:lnTo>
                    <a:pt x="17" y="141"/>
                  </a:lnTo>
                  <a:lnTo>
                    <a:pt x="22" y="152"/>
                  </a:lnTo>
                  <a:lnTo>
                    <a:pt x="22" y="158"/>
                  </a:lnTo>
                  <a:lnTo>
                    <a:pt x="28" y="163"/>
                  </a:lnTo>
                  <a:lnTo>
                    <a:pt x="28" y="168"/>
                  </a:lnTo>
                  <a:lnTo>
                    <a:pt x="28" y="174"/>
                  </a:lnTo>
                  <a:lnTo>
                    <a:pt x="28" y="185"/>
                  </a:lnTo>
                  <a:lnTo>
                    <a:pt x="17" y="190"/>
                  </a:lnTo>
                  <a:lnTo>
                    <a:pt x="11" y="196"/>
                  </a:lnTo>
                  <a:lnTo>
                    <a:pt x="6" y="201"/>
                  </a:lnTo>
                  <a:lnTo>
                    <a:pt x="6" y="207"/>
                  </a:lnTo>
                  <a:lnTo>
                    <a:pt x="0" y="212"/>
                  </a:lnTo>
                  <a:lnTo>
                    <a:pt x="6" y="223"/>
                  </a:lnTo>
                  <a:lnTo>
                    <a:pt x="6" y="223"/>
                  </a:lnTo>
                  <a:lnTo>
                    <a:pt x="17" y="223"/>
                  </a:lnTo>
                  <a:lnTo>
                    <a:pt x="22" y="218"/>
                  </a:lnTo>
                  <a:lnTo>
                    <a:pt x="33" y="21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8" name=""/>
            <p:cNvSpPr/>
            <p:nvPr/>
          </p:nvSpPr>
          <p:spPr>
            <a:xfrm>
              <a:off x="4208400" y="3535200"/>
              <a:ext cx="18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9" name=""/>
            <p:cNvSpPr/>
            <p:nvPr/>
          </p:nvSpPr>
          <p:spPr>
            <a:xfrm>
              <a:off x="4208400" y="3613320"/>
              <a:ext cx="34920" cy="17280"/>
            </a:xfrm>
            <a:custGeom>
              <a:avLst/>
              <a:gdLst/>
              <a:ahLst/>
              <a:rect l="l" t="t" r="r" b="b"/>
              <a:pathLst>
                <a:path w="22" h="11">
                  <a:moveTo>
                    <a:pt x="22" y="0"/>
                  </a:moveTo>
                  <a:lnTo>
                    <a:pt x="22" y="0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6" y="11"/>
                  </a:lnTo>
                  <a:lnTo>
                    <a:pt x="6" y="11"/>
                  </a:lnTo>
                  <a:lnTo>
                    <a:pt x="6" y="11"/>
                  </a:lnTo>
                  <a:lnTo>
                    <a:pt x="6" y="11"/>
                  </a:lnTo>
                  <a:lnTo>
                    <a:pt x="6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0" name=""/>
            <p:cNvSpPr/>
            <p:nvPr/>
          </p:nvSpPr>
          <p:spPr>
            <a:xfrm>
              <a:off x="4200480" y="3578400"/>
              <a:ext cx="42840" cy="26640"/>
            </a:xfrm>
            <a:custGeom>
              <a:avLst/>
              <a:gdLst/>
              <a:ahLst/>
              <a:rect l="l" t="t" r="r" b="b"/>
              <a:pathLst>
                <a:path w="27" h="17">
                  <a:moveTo>
                    <a:pt x="11" y="11"/>
                  </a:moveTo>
                  <a:lnTo>
                    <a:pt x="11" y="11"/>
                  </a:lnTo>
                  <a:lnTo>
                    <a:pt x="11" y="11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5" y="17"/>
                  </a:lnTo>
                  <a:lnTo>
                    <a:pt x="5" y="17"/>
                  </a:lnTo>
                  <a:lnTo>
                    <a:pt x="5" y="17"/>
                  </a:lnTo>
                  <a:lnTo>
                    <a:pt x="5" y="17"/>
                  </a:lnTo>
                  <a:lnTo>
                    <a:pt x="5" y="17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5" y="6"/>
                  </a:lnTo>
                  <a:lnTo>
                    <a:pt x="5" y="6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7" y="6"/>
                  </a:lnTo>
                  <a:lnTo>
                    <a:pt x="27" y="6"/>
                  </a:lnTo>
                  <a:lnTo>
                    <a:pt x="27" y="6"/>
                  </a:lnTo>
                  <a:lnTo>
                    <a:pt x="27" y="11"/>
                  </a:lnTo>
                  <a:lnTo>
                    <a:pt x="27" y="11"/>
                  </a:lnTo>
                  <a:lnTo>
                    <a:pt x="27" y="11"/>
                  </a:lnTo>
                  <a:lnTo>
                    <a:pt x="22" y="11"/>
                  </a:lnTo>
                  <a:lnTo>
                    <a:pt x="22" y="11"/>
                  </a:lnTo>
                  <a:lnTo>
                    <a:pt x="22" y="17"/>
                  </a:lnTo>
                  <a:lnTo>
                    <a:pt x="22" y="17"/>
                  </a:lnTo>
                  <a:lnTo>
                    <a:pt x="16" y="17"/>
                  </a:lnTo>
                  <a:lnTo>
                    <a:pt x="16" y="17"/>
                  </a:lnTo>
                  <a:lnTo>
                    <a:pt x="16" y="17"/>
                  </a:lnTo>
                  <a:lnTo>
                    <a:pt x="16" y="17"/>
                  </a:lnTo>
                  <a:lnTo>
                    <a:pt x="16" y="11"/>
                  </a:lnTo>
                  <a:lnTo>
                    <a:pt x="16" y="11"/>
                  </a:lnTo>
                  <a:lnTo>
                    <a:pt x="11" y="11"/>
                  </a:lnTo>
                  <a:lnTo>
                    <a:pt x="11" y="11"/>
                  </a:lnTo>
                  <a:close/>
                  <a:moveTo>
                    <a:pt x="11" y="11"/>
                  </a:moveTo>
                  <a:lnTo>
                    <a:pt x="11" y="11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5" y="6"/>
                  </a:lnTo>
                  <a:lnTo>
                    <a:pt x="5" y="6"/>
                  </a:lnTo>
                  <a:lnTo>
                    <a:pt x="5" y="6"/>
                  </a:lnTo>
                  <a:lnTo>
                    <a:pt x="5" y="6"/>
                  </a:lnTo>
                  <a:lnTo>
                    <a:pt x="5" y="6"/>
                  </a:lnTo>
                  <a:lnTo>
                    <a:pt x="5" y="6"/>
                  </a:lnTo>
                  <a:lnTo>
                    <a:pt x="5" y="6"/>
                  </a:lnTo>
                  <a:lnTo>
                    <a:pt x="5" y="6"/>
                  </a:lnTo>
                  <a:lnTo>
                    <a:pt x="5" y="11"/>
                  </a:lnTo>
                  <a:lnTo>
                    <a:pt x="5" y="11"/>
                  </a:lnTo>
                  <a:lnTo>
                    <a:pt x="5" y="11"/>
                  </a:lnTo>
                  <a:lnTo>
                    <a:pt x="5" y="11"/>
                  </a:lnTo>
                  <a:lnTo>
                    <a:pt x="5" y="11"/>
                  </a:lnTo>
                  <a:lnTo>
                    <a:pt x="5" y="11"/>
                  </a:lnTo>
                  <a:lnTo>
                    <a:pt x="5" y="11"/>
                  </a:lnTo>
                  <a:lnTo>
                    <a:pt x="5" y="11"/>
                  </a:lnTo>
                  <a:lnTo>
                    <a:pt x="5" y="11"/>
                  </a:lnTo>
                  <a:lnTo>
                    <a:pt x="5" y="11"/>
                  </a:lnTo>
                  <a:lnTo>
                    <a:pt x="11" y="11"/>
                  </a:lnTo>
                  <a:close/>
                  <a:moveTo>
                    <a:pt x="22" y="11"/>
                  </a:moveTo>
                  <a:lnTo>
                    <a:pt x="22" y="11"/>
                  </a:lnTo>
                  <a:lnTo>
                    <a:pt x="22" y="11"/>
                  </a:lnTo>
                  <a:lnTo>
                    <a:pt x="22" y="11"/>
                  </a:lnTo>
                  <a:lnTo>
                    <a:pt x="22" y="11"/>
                  </a:lnTo>
                  <a:lnTo>
                    <a:pt x="22" y="11"/>
                  </a:lnTo>
                  <a:lnTo>
                    <a:pt x="22" y="11"/>
                  </a:lnTo>
                  <a:lnTo>
                    <a:pt x="22" y="11"/>
                  </a:lnTo>
                  <a:lnTo>
                    <a:pt x="22" y="6"/>
                  </a:lnTo>
                  <a:lnTo>
                    <a:pt x="22" y="6"/>
                  </a:lnTo>
                  <a:lnTo>
                    <a:pt x="22" y="6"/>
                  </a:lnTo>
                  <a:lnTo>
                    <a:pt x="22" y="6"/>
                  </a:lnTo>
                  <a:lnTo>
                    <a:pt x="22" y="6"/>
                  </a:lnTo>
                  <a:lnTo>
                    <a:pt x="22" y="6"/>
                  </a:lnTo>
                  <a:lnTo>
                    <a:pt x="22" y="6"/>
                  </a:lnTo>
                  <a:lnTo>
                    <a:pt x="22" y="6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6" y="11"/>
                  </a:lnTo>
                  <a:lnTo>
                    <a:pt x="16" y="11"/>
                  </a:lnTo>
                  <a:lnTo>
                    <a:pt x="16" y="11"/>
                  </a:lnTo>
                  <a:lnTo>
                    <a:pt x="16" y="11"/>
                  </a:lnTo>
                  <a:lnTo>
                    <a:pt x="16" y="11"/>
                  </a:lnTo>
                  <a:lnTo>
                    <a:pt x="16" y="11"/>
                  </a:lnTo>
                  <a:lnTo>
                    <a:pt x="16" y="11"/>
                  </a:lnTo>
                  <a:lnTo>
                    <a:pt x="22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1" name=""/>
            <p:cNvSpPr/>
            <p:nvPr/>
          </p:nvSpPr>
          <p:spPr>
            <a:xfrm>
              <a:off x="4191120" y="3544920"/>
              <a:ext cx="44280" cy="33480"/>
            </a:xfrm>
            <a:custGeom>
              <a:avLst/>
              <a:gdLst/>
              <a:ahLst/>
              <a:rect l="l" t="t" r="r" b="b"/>
              <a:pathLst>
                <a:path w="28" h="21">
                  <a:moveTo>
                    <a:pt x="17" y="16"/>
                  </a:moveTo>
                  <a:lnTo>
                    <a:pt x="17" y="21"/>
                  </a:lnTo>
                  <a:lnTo>
                    <a:pt x="11" y="21"/>
                  </a:lnTo>
                  <a:lnTo>
                    <a:pt x="11" y="21"/>
                  </a:lnTo>
                  <a:lnTo>
                    <a:pt x="11" y="21"/>
                  </a:lnTo>
                  <a:lnTo>
                    <a:pt x="11" y="21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0" y="16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11" y="5"/>
                  </a:lnTo>
                  <a:lnTo>
                    <a:pt x="11" y="5"/>
                  </a:lnTo>
                  <a:lnTo>
                    <a:pt x="11" y="5"/>
                  </a:lnTo>
                  <a:lnTo>
                    <a:pt x="11" y="5"/>
                  </a:lnTo>
                  <a:lnTo>
                    <a:pt x="17" y="5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22" y="0"/>
                  </a:lnTo>
                  <a:lnTo>
                    <a:pt x="22" y="5"/>
                  </a:lnTo>
                  <a:lnTo>
                    <a:pt x="22" y="5"/>
                  </a:lnTo>
                  <a:lnTo>
                    <a:pt x="22" y="5"/>
                  </a:lnTo>
                  <a:lnTo>
                    <a:pt x="22" y="5"/>
                  </a:lnTo>
                  <a:lnTo>
                    <a:pt x="28" y="5"/>
                  </a:lnTo>
                  <a:lnTo>
                    <a:pt x="28" y="5"/>
                  </a:lnTo>
                  <a:lnTo>
                    <a:pt x="28" y="5"/>
                  </a:lnTo>
                  <a:lnTo>
                    <a:pt x="28" y="10"/>
                  </a:lnTo>
                  <a:lnTo>
                    <a:pt x="28" y="10"/>
                  </a:lnTo>
                  <a:lnTo>
                    <a:pt x="28" y="10"/>
                  </a:lnTo>
                  <a:lnTo>
                    <a:pt x="28" y="10"/>
                  </a:lnTo>
                  <a:lnTo>
                    <a:pt x="28" y="16"/>
                  </a:lnTo>
                  <a:lnTo>
                    <a:pt x="22" y="16"/>
                  </a:lnTo>
                  <a:lnTo>
                    <a:pt x="22" y="16"/>
                  </a:lnTo>
                  <a:lnTo>
                    <a:pt x="22" y="16"/>
                  </a:lnTo>
                  <a:lnTo>
                    <a:pt x="17" y="16"/>
                  </a:lnTo>
                  <a:close/>
                  <a:moveTo>
                    <a:pt x="17" y="16"/>
                  </a:moveTo>
                  <a:lnTo>
                    <a:pt x="17" y="16"/>
                  </a:lnTo>
                  <a:lnTo>
                    <a:pt x="22" y="16"/>
                  </a:lnTo>
                  <a:lnTo>
                    <a:pt x="22" y="10"/>
                  </a:lnTo>
                  <a:lnTo>
                    <a:pt x="22" y="10"/>
                  </a:lnTo>
                  <a:lnTo>
                    <a:pt x="22" y="10"/>
                  </a:lnTo>
                  <a:lnTo>
                    <a:pt x="22" y="10"/>
                  </a:lnTo>
                  <a:lnTo>
                    <a:pt x="28" y="10"/>
                  </a:lnTo>
                  <a:lnTo>
                    <a:pt x="22" y="10"/>
                  </a:lnTo>
                  <a:lnTo>
                    <a:pt x="22" y="5"/>
                  </a:lnTo>
                  <a:lnTo>
                    <a:pt x="22" y="5"/>
                  </a:lnTo>
                  <a:lnTo>
                    <a:pt x="22" y="5"/>
                  </a:lnTo>
                  <a:lnTo>
                    <a:pt x="22" y="5"/>
                  </a:lnTo>
                  <a:lnTo>
                    <a:pt x="22" y="5"/>
                  </a:lnTo>
                  <a:lnTo>
                    <a:pt x="17" y="5"/>
                  </a:lnTo>
                  <a:lnTo>
                    <a:pt x="17" y="5"/>
                  </a:lnTo>
                  <a:lnTo>
                    <a:pt x="11" y="5"/>
                  </a:lnTo>
                  <a:lnTo>
                    <a:pt x="11" y="5"/>
                  </a:lnTo>
                  <a:lnTo>
                    <a:pt x="11" y="5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11" y="16"/>
                  </a:lnTo>
                  <a:lnTo>
                    <a:pt x="11" y="16"/>
                  </a:lnTo>
                  <a:lnTo>
                    <a:pt x="11" y="16"/>
                  </a:lnTo>
                  <a:lnTo>
                    <a:pt x="17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2" name=""/>
            <p:cNvSpPr/>
            <p:nvPr/>
          </p:nvSpPr>
          <p:spPr>
            <a:xfrm>
              <a:off x="4235400" y="3648240"/>
              <a:ext cx="18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3" name=""/>
            <p:cNvSpPr/>
            <p:nvPr/>
          </p:nvSpPr>
          <p:spPr>
            <a:xfrm>
              <a:off x="3463920" y="3570120"/>
              <a:ext cx="771480" cy="795600"/>
            </a:xfrm>
            <a:custGeom>
              <a:avLst/>
              <a:gdLst/>
              <a:ahLst/>
              <a:rect l="l" t="t" r="r" b="b"/>
              <a:pathLst>
                <a:path w="486" h="501">
                  <a:moveTo>
                    <a:pt x="486" y="49"/>
                  </a:moveTo>
                  <a:lnTo>
                    <a:pt x="486" y="54"/>
                  </a:lnTo>
                  <a:lnTo>
                    <a:pt x="486" y="65"/>
                  </a:lnTo>
                  <a:lnTo>
                    <a:pt x="486" y="71"/>
                  </a:lnTo>
                  <a:lnTo>
                    <a:pt x="480" y="76"/>
                  </a:lnTo>
                  <a:lnTo>
                    <a:pt x="480" y="82"/>
                  </a:lnTo>
                  <a:lnTo>
                    <a:pt x="480" y="87"/>
                  </a:lnTo>
                  <a:lnTo>
                    <a:pt x="480" y="98"/>
                  </a:lnTo>
                  <a:lnTo>
                    <a:pt x="480" y="103"/>
                  </a:lnTo>
                  <a:lnTo>
                    <a:pt x="480" y="114"/>
                  </a:lnTo>
                  <a:lnTo>
                    <a:pt x="475" y="114"/>
                  </a:lnTo>
                  <a:lnTo>
                    <a:pt x="469" y="114"/>
                  </a:lnTo>
                  <a:lnTo>
                    <a:pt x="458" y="114"/>
                  </a:lnTo>
                  <a:lnTo>
                    <a:pt x="447" y="103"/>
                  </a:lnTo>
                  <a:lnTo>
                    <a:pt x="442" y="98"/>
                  </a:lnTo>
                  <a:lnTo>
                    <a:pt x="436" y="109"/>
                  </a:lnTo>
                  <a:lnTo>
                    <a:pt x="436" y="114"/>
                  </a:lnTo>
                  <a:lnTo>
                    <a:pt x="431" y="120"/>
                  </a:lnTo>
                  <a:lnTo>
                    <a:pt x="426" y="125"/>
                  </a:lnTo>
                  <a:lnTo>
                    <a:pt x="420" y="131"/>
                  </a:lnTo>
                  <a:lnTo>
                    <a:pt x="409" y="136"/>
                  </a:lnTo>
                  <a:lnTo>
                    <a:pt x="409" y="125"/>
                  </a:lnTo>
                  <a:lnTo>
                    <a:pt x="409" y="120"/>
                  </a:lnTo>
                  <a:lnTo>
                    <a:pt x="404" y="114"/>
                  </a:lnTo>
                  <a:lnTo>
                    <a:pt x="404" y="109"/>
                  </a:lnTo>
                  <a:lnTo>
                    <a:pt x="398" y="103"/>
                  </a:lnTo>
                  <a:lnTo>
                    <a:pt x="398" y="98"/>
                  </a:lnTo>
                  <a:lnTo>
                    <a:pt x="398" y="87"/>
                  </a:lnTo>
                  <a:lnTo>
                    <a:pt x="393" y="82"/>
                  </a:lnTo>
                  <a:lnTo>
                    <a:pt x="393" y="76"/>
                  </a:lnTo>
                  <a:lnTo>
                    <a:pt x="393" y="71"/>
                  </a:lnTo>
                  <a:lnTo>
                    <a:pt x="393" y="60"/>
                  </a:lnTo>
                  <a:lnTo>
                    <a:pt x="393" y="54"/>
                  </a:lnTo>
                  <a:lnTo>
                    <a:pt x="387" y="49"/>
                  </a:lnTo>
                  <a:lnTo>
                    <a:pt x="387" y="43"/>
                  </a:lnTo>
                  <a:lnTo>
                    <a:pt x="387" y="38"/>
                  </a:lnTo>
                  <a:lnTo>
                    <a:pt x="387" y="27"/>
                  </a:lnTo>
                  <a:lnTo>
                    <a:pt x="387" y="22"/>
                  </a:lnTo>
                  <a:lnTo>
                    <a:pt x="387" y="16"/>
                  </a:lnTo>
                  <a:lnTo>
                    <a:pt x="382" y="11"/>
                  </a:lnTo>
                  <a:lnTo>
                    <a:pt x="382" y="0"/>
                  </a:lnTo>
                  <a:lnTo>
                    <a:pt x="376" y="5"/>
                  </a:lnTo>
                  <a:lnTo>
                    <a:pt x="376" y="16"/>
                  </a:lnTo>
                  <a:lnTo>
                    <a:pt x="376" y="22"/>
                  </a:lnTo>
                  <a:lnTo>
                    <a:pt x="371" y="27"/>
                  </a:lnTo>
                  <a:lnTo>
                    <a:pt x="371" y="33"/>
                  </a:lnTo>
                  <a:lnTo>
                    <a:pt x="371" y="38"/>
                  </a:lnTo>
                  <a:lnTo>
                    <a:pt x="371" y="43"/>
                  </a:lnTo>
                  <a:lnTo>
                    <a:pt x="366" y="54"/>
                  </a:lnTo>
                  <a:lnTo>
                    <a:pt x="366" y="60"/>
                  </a:lnTo>
                  <a:lnTo>
                    <a:pt x="366" y="65"/>
                  </a:lnTo>
                  <a:lnTo>
                    <a:pt x="360" y="71"/>
                  </a:lnTo>
                  <a:lnTo>
                    <a:pt x="360" y="82"/>
                  </a:lnTo>
                  <a:lnTo>
                    <a:pt x="355" y="87"/>
                  </a:lnTo>
                  <a:lnTo>
                    <a:pt x="349" y="93"/>
                  </a:lnTo>
                  <a:lnTo>
                    <a:pt x="349" y="98"/>
                  </a:lnTo>
                  <a:lnTo>
                    <a:pt x="344" y="103"/>
                  </a:lnTo>
                  <a:lnTo>
                    <a:pt x="338" y="114"/>
                  </a:lnTo>
                  <a:lnTo>
                    <a:pt x="338" y="120"/>
                  </a:lnTo>
                  <a:lnTo>
                    <a:pt x="333" y="125"/>
                  </a:lnTo>
                  <a:lnTo>
                    <a:pt x="327" y="131"/>
                  </a:lnTo>
                  <a:lnTo>
                    <a:pt x="322" y="136"/>
                  </a:lnTo>
                  <a:lnTo>
                    <a:pt x="322" y="142"/>
                  </a:lnTo>
                  <a:lnTo>
                    <a:pt x="316" y="147"/>
                  </a:lnTo>
                  <a:lnTo>
                    <a:pt x="311" y="152"/>
                  </a:lnTo>
                  <a:lnTo>
                    <a:pt x="306" y="163"/>
                  </a:lnTo>
                  <a:lnTo>
                    <a:pt x="300" y="169"/>
                  </a:lnTo>
                  <a:lnTo>
                    <a:pt x="295" y="174"/>
                  </a:lnTo>
                  <a:lnTo>
                    <a:pt x="295" y="185"/>
                  </a:lnTo>
                  <a:lnTo>
                    <a:pt x="289" y="185"/>
                  </a:lnTo>
                  <a:lnTo>
                    <a:pt x="284" y="191"/>
                  </a:lnTo>
                  <a:lnTo>
                    <a:pt x="273" y="185"/>
                  </a:lnTo>
                  <a:lnTo>
                    <a:pt x="267" y="180"/>
                  </a:lnTo>
                  <a:lnTo>
                    <a:pt x="262" y="169"/>
                  </a:lnTo>
                  <a:lnTo>
                    <a:pt x="257" y="163"/>
                  </a:lnTo>
                  <a:lnTo>
                    <a:pt x="257" y="152"/>
                  </a:lnTo>
                  <a:lnTo>
                    <a:pt x="251" y="152"/>
                  </a:lnTo>
                  <a:lnTo>
                    <a:pt x="251" y="158"/>
                  </a:lnTo>
                  <a:lnTo>
                    <a:pt x="251" y="169"/>
                  </a:lnTo>
                  <a:lnTo>
                    <a:pt x="251" y="174"/>
                  </a:lnTo>
                  <a:lnTo>
                    <a:pt x="246" y="180"/>
                  </a:lnTo>
                  <a:lnTo>
                    <a:pt x="246" y="185"/>
                  </a:lnTo>
                  <a:lnTo>
                    <a:pt x="246" y="196"/>
                  </a:lnTo>
                  <a:lnTo>
                    <a:pt x="246" y="202"/>
                  </a:lnTo>
                  <a:lnTo>
                    <a:pt x="246" y="207"/>
                  </a:lnTo>
                  <a:lnTo>
                    <a:pt x="240" y="212"/>
                  </a:lnTo>
                  <a:lnTo>
                    <a:pt x="240" y="218"/>
                  </a:lnTo>
                  <a:lnTo>
                    <a:pt x="240" y="229"/>
                  </a:lnTo>
                  <a:lnTo>
                    <a:pt x="240" y="234"/>
                  </a:lnTo>
                  <a:lnTo>
                    <a:pt x="240" y="240"/>
                  </a:lnTo>
                  <a:lnTo>
                    <a:pt x="240" y="245"/>
                  </a:lnTo>
                  <a:lnTo>
                    <a:pt x="235" y="256"/>
                  </a:lnTo>
                  <a:lnTo>
                    <a:pt x="235" y="262"/>
                  </a:lnTo>
                  <a:lnTo>
                    <a:pt x="235" y="267"/>
                  </a:lnTo>
                  <a:lnTo>
                    <a:pt x="235" y="278"/>
                  </a:lnTo>
                  <a:lnTo>
                    <a:pt x="229" y="283"/>
                  </a:lnTo>
                  <a:lnTo>
                    <a:pt x="224" y="289"/>
                  </a:lnTo>
                  <a:lnTo>
                    <a:pt x="218" y="294"/>
                  </a:lnTo>
                  <a:lnTo>
                    <a:pt x="207" y="294"/>
                  </a:lnTo>
                  <a:lnTo>
                    <a:pt x="197" y="294"/>
                  </a:lnTo>
                  <a:lnTo>
                    <a:pt x="191" y="300"/>
                  </a:lnTo>
                  <a:lnTo>
                    <a:pt x="186" y="311"/>
                  </a:lnTo>
                  <a:lnTo>
                    <a:pt x="180" y="316"/>
                  </a:lnTo>
                  <a:lnTo>
                    <a:pt x="180" y="321"/>
                  </a:lnTo>
                  <a:lnTo>
                    <a:pt x="180" y="327"/>
                  </a:lnTo>
                  <a:lnTo>
                    <a:pt x="180" y="332"/>
                  </a:lnTo>
                  <a:lnTo>
                    <a:pt x="175" y="343"/>
                  </a:lnTo>
                  <a:lnTo>
                    <a:pt x="175" y="349"/>
                  </a:lnTo>
                  <a:lnTo>
                    <a:pt x="175" y="354"/>
                  </a:lnTo>
                  <a:lnTo>
                    <a:pt x="169" y="360"/>
                  </a:lnTo>
                  <a:lnTo>
                    <a:pt x="164" y="365"/>
                  </a:lnTo>
                  <a:lnTo>
                    <a:pt x="158" y="371"/>
                  </a:lnTo>
                  <a:lnTo>
                    <a:pt x="153" y="381"/>
                  </a:lnTo>
                  <a:lnTo>
                    <a:pt x="153" y="387"/>
                  </a:lnTo>
                  <a:lnTo>
                    <a:pt x="153" y="392"/>
                  </a:lnTo>
                  <a:lnTo>
                    <a:pt x="147" y="398"/>
                  </a:lnTo>
                  <a:lnTo>
                    <a:pt x="147" y="403"/>
                  </a:lnTo>
                  <a:lnTo>
                    <a:pt x="142" y="414"/>
                  </a:lnTo>
                  <a:lnTo>
                    <a:pt x="142" y="420"/>
                  </a:lnTo>
                  <a:lnTo>
                    <a:pt x="137" y="425"/>
                  </a:lnTo>
                  <a:lnTo>
                    <a:pt x="131" y="430"/>
                  </a:lnTo>
                  <a:lnTo>
                    <a:pt x="126" y="436"/>
                  </a:lnTo>
                  <a:lnTo>
                    <a:pt x="126" y="441"/>
                  </a:lnTo>
                  <a:lnTo>
                    <a:pt x="126" y="452"/>
                  </a:lnTo>
                  <a:lnTo>
                    <a:pt x="120" y="458"/>
                  </a:lnTo>
                  <a:lnTo>
                    <a:pt x="120" y="463"/>
                  </a:lnTo>
                  <a:lnTo>
                    <a:pt x="115" y="469"/>
                  </a:lnTo>
                  <a:lnTo>
                    <a:pt x="109" y="474"/>
                  </a:lnTo>
                  <a:lnTo>
                    <a:pt x="98" y="480"/>
                  </a:lnTo>
                  <a:lnTo>
                    <a:pt x="93" y="485"/>
                  </a:lnTo>
                  <a:lnTo>
                    <a:pt x="87" y="490"/>
                  </a:lnTo>
                  <a:lnTo>
                    <a:pt x="77" y="490"/>
                  </a:lnTo>
                  <a:lnTo>
                    <a:pt x="66" y="490"/>
                  </a:lnTo>
                  <a:lnTo>
                    <a:pt x="55" y="496"/>
                  </a:lnTo>
                  <a:lnTo>
                    <a:pt x="44" y="496"/>
                  </a:lnTo>
                  <a:lnTo>
                    <a:pt x="33" y="501"/>
                  </a:lnTo>
                  <a:lnTo>
                    <a:pt x="28" y="501"/>
                  </a:lnTo>
                  <a:lnTo>
                    <a:pt x="17" y="496"/>
                  </a:lnTo>
                  <a:lnTo>
                    <a:pt x="11" y="490"/>
                  </a:lnTo>
                  <a:lnTo>
                    <a:pt x="6" y="485"/>
                  </a:lnTo>
                  <a:lnTo>
                    <a:pt x="0" y="474"/>
                  </a:lnTo>
                  <a:lnTo>
                    <a:pt x="0" y="469"/>
                  </a:lnTo>
                  <a:lnTo>
                    <a:pt x="0" y="463"/>
                  </a:lnTo>
                  <a:lnTo>
                    <a:pt x="0" y="458"/>
                  </a:lnTo>
                  <a:lnTo>
                    <a:pt x="0" y="447"/>
                  </a:lnTo>
                  <a:lnTo>
                    <a:pt x="6" y="441"/>
                  </a:lnTo>
                  <a:lnTo>
                    <a:pt x="6" y="436"/>
                  </a:lnTo>
                  <a:lnTo>
                    <a:pt x="11" y="430"/>
                  </a:lnTo>
                  <a:lnTo>
                    <a:pt x="17" y="425"/>
                  </a:lnTo>
                  <a:lnTo>
                    <a:pt x="17" y="414"/>
                  </a:lnTo>
                  <a:lnTo>
                    <a:pt x="22" y="409"/>
                  </a:lnTo>
                  <a:lnTo>
                    <a:pt x="22" y="403"/>
                  </a:lnTo>
                  <a:lnTo>
                    <a:pt x="28" y="398"/>
                  </a:lnTo>
                  <a:lnTo>
                    <a:pt x="28" y="392"/>
                  </a:lnTo>
                  <a:lnTo>
                    <a:pt x="38" y="387"/>
                  </a:lnTo>
                  <a:lnTo>
                    <a:pt x="44" y="381"/>
                  </a:lnTo>
                  <a:lnTo>
                    <a:pt x="49" y="376"/>
                  </a:lnTo>
                  <a:lnTo>
                    <a:pt x="60" y="371"/>
                  </a:lnTo>
                  <a:lnTo>
                    <a:pt x="71" y="371"/>
                  </a:lnTo>
                  <a:lnTo>
                    <a:pt x="82" y="376"/>
                  </a:lnTo>
                  <a:lnTo>
                    <a:pt x="87" y="376"/>
                  </a:lnTo>
                  <a:lnTo>
                    <a:pt x="98" y="376"/>
                  </a:lnTo>
                  <a:lnTo>
                    <a:pt x="104" y="37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4" name=""/>
            <p:cNvSpPr/>
            <p:nvPr/>
          </p:nvSpPr>
          <p:spPr>
            <a:xfrm>
              <a:off x="3629160" y="4159080"/>
              <a:ext cx="14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5" name=""/>
            <p:cNvSpPr/>
            <p:nvPr/>
          </p:nvSpPr>
          <p:spPr>
            <a:xfrm>
              <a:off x="3619440" y="4064040"/>
              <a:ext cx="34920" cy="15840"/>
            </a:xfrm>
            <a:custGeom>
              <a:avLst/>
              <a:gdLst/>
              <a:ahLst/>
              <a:rect l="l" t="t" r="r" b="b"/>
              <a:pathLst>
                <a:path w="22" h="10">
                  <a:moveTo>
                    <a:pt x="0" y="5"/>
                  </a:moveTo>
                  <a:lnTo>
                    <a:pt x="0" y="5"/>
                  </a:lnTo>
                  <a:lnTo>
                    <a:pt x="17" y="5"/>
                  </a:lnTo>
                  <a:lnTo>
                    <a:pt x="17" y="5"/>
                  </a:lnTo>
                  <a:lnTo>
                    <a:pt x="17" y="5"/>
                  </a:lnTo>
                  <a:lnTo>
                    <a:pt x="17" y="5"/>
                  </a:lnTo>
                  <a:lnTo>
                    <a:pt x="17" y="5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5"/>
                  </a:lnTo>
                  <a:lnTo>
                    <a:pt x="22" y="5"/>
                  </a:lnTo>
                  <a:lnTo>
                    <a:pt x="22" y="5"/>
                  </a:lnTo>
                  <a:lnTo>
                    <a:pt x="22" y="5"/>
                  </a:lnTo>
                  <a:lnTo>
                    <a:pt x="22" y="5"/>
                  </a:lnTo>
                  <a:lnTo>
                    <a:pt x="22" y="5"/>
                  </a:lnTo>
                  <a:lnTo>
                    <a:pt x="22" y="1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6" name=""/>
            <p:cNvSpPr/>
            <p:nvPr/>
          </p:nvSpPr>
          <p:spPr>
            <a:xfrm>
              <a:off x="3619440" y="4089240"/>
              <a:ext cx="34920" cy="25560"/>
            </a:xfrm>
            <a:custGeom>
              <a:avLst/>
              <a:gdLst/>
              <a:ahLst/>
              <a:rect l="l" t="t" r="r" b="b"/>
              <a:pathLst>
                <a:path w="22" h="16">
                  <a:moveTo>
                    <a:pt x="11" y="5"/>
                  </a:moveTo>
                  <a:lnTo>
                    <a:pt x="11" y="5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22" y="0"/>
                  </a:lnTo>
                  <a:lnTo>
                    <a:pt x="22" y="5"/>
                  </a:lnTo>
                  <a:lnTo>
                    <a:pt x="22" y="5"/>
                  </a:lnTo>
                  <a:lnTo>
                    <a:pt x="22" y="5"/>
                  </a:lnTo>
                  <a:lnTo>
                    <a:pt x="22" y="5"/>
                  </a:lnTo>
                  <a:lnTo>
                    <a:pt x="22" y="11"/>
                  </a:lnTo>
                  <a:lnTo>
                    <a:pt x="22" y="11"/>
                  </a:lnTo>
                  <a:lnTo>
                    <a:pt x="22" y="11"/>
                  </a:lnTo>
                  <a:lnTo>
                    <a:pt x="22" y="11"/>
                  </a:lnTo>
                  <a:lnTo>
                    <a:pt x="22" y="16"/>
                  </a:lnTo>
                  <a:lnTo>
                    <a:pt x="17" y="16"/>
                  </a:lnTo>
                  <a:lnTo>
                    <a:pt x="17" y="16"/>
                  </a:lnTo>
                  <a:lnTo>
                    <a:pt x="17" y="16"/>
                  </a:lnTo>
                  <a:lnTo>
                    <a:pt x="17" y="16"/>
                  </a:lnTo>
                  <a:lnTo>
                    <a:pt x="17" y="16"/>
                  </a:lnTo>
                  <a:lnTo>
                    <a:pt x="11" y="16"/>
                  </a:lnTo>
                  <a:lnTo>
                    <a:pt x="11" y="16"/>
                  </a:lnTo>
                  <a:lnTo>
                    <a:pt x="11" y="16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11" y="16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5"/>
                  </a:lnTo>
                  <a:lnTo>
                    <a:pt x="11" y="5"/>
                  </a:lnTo>
                  <a:close/>
                  <a:moveTo>
                    <a:pt x="17" y="5"/>
                  </a:moveTo>
                  <a:lnTo>
                    <a:pt x="17" y="5"/>
                  </a:lnTo>
                  <a:lnTo>
                    <a:pt x="17" y="5"/>
                  </a:lnTo>
                  <a:lnTo>
                    <a:pt x="17" y="5"/>
                  </a:lnTo>
                  <a:lnTo>
                    <a:pt x="11" y="5"/>
                  </a:lnTo>
                  <a:lnTo>
                    <a:pt x="11" y="5"/>
                  </a:lnTo>
                  <a:lnTo>
                    <a:pt x="11" y="5"/>
                  </a:lnTo>
                  <a:lnTo>
                    <a:pt x="11" y="5"/>
                  </a:lnTo>
                  <a:lnTo>
                    <a:pt x="11" y="5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17" y="11"/>
                  </a:lnTo>
                  <a:lnTo>
                    <a:pt x="17" y="11"/>
                  </a:lnTo>
                  <a:lnTo>
                    <a:pt x="17" y="11"/>
                  </a:lnTo>
                  <a:lnTo>
                    <a:pt x="17" y="11"/>
                  </a:lnTo>
                  <a:lnTo>
                    <a:pt x="17" y="11"/>
                  </a:lnTo>
                  <a:lnTo>
                    <a:pt x="17" y="11"/>
                  </a:lnTo>
                  <a:lnTo>
                    <a:pt x="17" y="11"/>
                  </a:lnTo>
                  <a:lnTo>
                    <a:pt x="17" y="11"/>
                  </a:lnTo>
                  <a:lnTo>
                    <a:pt x="22" y="11"/>
                  </a:lnTo>
                  <a:lnTo>
                    <a:pt x="22" y="11"/>
                  </a:lnTo>
                  <a:lnTo>
                    <a:pt x="22" y="11"/>
                  </a:lnTo>
                  <a:lnTo>
                    <a:pt x="22" y="5"/>
                  </a:lnTo>
                  <a:lnTo>
                    <a:pt x="22" y="5"/>
                  </a:lnTo>
                  <a:lnTo>
                    <a:pt x="22" y="5"/>
                  </a:lnTo>
                  <a:lnTo>
                    <a:pt x="17" y="5"/>
                  </a:lnTo>
                  <a:lnTo>
                    <a:pt x="17" y="5"/>
                  </a:lnTo>
                  <a:lnTo>
                    <a:pt x="17" y="5"/>
                  </a:lnTo>
                  <a:lnTo>
                    <a:pt x="17" y="5"/>
                  </a:lnTo>
                  <a:lnTo>
                    <a:pt x="17" y="5"/>
                  </a:lnTo>
                  <a:close/>
                  <a:moveTo>
                    <a:pt x="6" y="0"/>
                  </a:move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6" y="11"/>
                  </a:lnTo>
                  <a:lnTo>
                    <a:pt x="6" y="11"/>
                  </a:lnTo>
                  <a:lnTo>
                    <a:pt x="6" y="11"/>
                  </a:lnTo>
                  <a:lnTo>
                    <a:pt x="6" y="11"/>
                  </a:lnTo>
                  <a:lnTo>
                    <a:pt x="6" y="11"/>
                  </a:lnTo>
                  <a:lnTo>
                    <a:pt x="6" y="11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11" y="5"/>
                  </a:lnTo>
                  <a:lnTo>
                    <a:pt x="11" y="5"/>
                  </a:lnTo>
                  <a:lnTo>
                    <a:pt x="11" y="5"/>
                  </a:lnTo>
                  <a:lnTo>
                    <a:pt x="11" y="5"/>
                  </a:lnTo>
                  <a:lnTo>
                    <a:pt x="11" y="5"/>
                  </a:lnTo>
                  <a:lnTo>
                    <a:pt x="6" y="5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7" name=""/>
            <p:cNvSpPr/>
            <p:nvPr/>
          </p:nvSpPr>
          <p:spPr>
            <a:xfrm>
              <a:off x="3611520" y="4114800"/>
              <a:ext cx="42840" cy="27000"/>
            </a:xfrm>
            <a:custGeom>
              <a:avLst/>
              <a:gdLst/>
              <a:ahLst/>
              <a:rect l="l" t="t" r="r" b="b"/>
              <a:pathLst>
                <a:path w="27" h="17">
                  <a:moveTo>
                    <a:pt x="16" y="0"/>
                  </a:moveTo>
                  <a:lnTo>
                    <a:pt x="16" y="0"/>
                  </a:lnTo>
                  <a:lnTo>
                    <a:pt x="16" y="0"/>
                  </a:lnTo>
                  <a:lnTo>
                    <a:pt x="22" y="6"/>
                  </a:lnTo>
                  <a:lnTo>
                    <a:pt x="22" y="6"/>
                  </a:lnTo>
                  <a:lnTo>
                    <a:pt x="22" y="6"/>
                  </a:lnTo>
                  <a:lnTo>
                    <a:pt x="22" y="6"/>
                  </a:lnTo>
                  <a:lnTo>
                    <a:pt x="22" y="6"/>
                  </a:lnTo>
                  <a:lnTo>
                    <a:pt x="27" y="6"/>
                  </a:lnTo>
                  <a:lnTo>
                    <a:pt x="27" y="6"/>
                  </a:lnTo>
                  <a:lnTo>
                    <a:pt x="27" y="11"/>
                  </a:lnTo>
                  <a:lnTo>
                    <a:pt x="27" y="11"/>
                  </a:lnTo>
                  <a:lnTo>
                    <a:pt x="27" y="11"/>
                  </a:lnTo>
                  <a:lnTo>
                    <a:pt x="27" y="11"/>
                  </a:lnTo>
                  <a:lnTo>
                    <a:pt x="27" y="11"/>
                  </a:lnTo>
                  <a:lnTo>
                    <a:pt x="27" y="17"/>
                  </a:lnTo>
                  <a:lnTo>
                    <a:pt x="22" y="17"/>
                  </a:lnTo>
                  <a:lnTo>
                    <a:pt x="22" y="17"/>
                  </a:lnTo>
                  <a:lnTo>
                    <a:pt x="22" y="17"/>
                  </a:lnTo>
                  <a:lnTo>
                    <a:pt x="22" y="17"/>
                  </a:lnTo>
                  <a:lnTo>
                    <a:pt x="22" y="17"/>
                  </a:lnTo>
                  <a:lnTo>
                    <a:pt x="22" y="17"/>
                  </a:lnTo>
                  <a:lnTo>
                    <a:pt x="22" y="17"/>
                  </a:lnTo>
                  <a:lnTo>
                    <a:pt x="22" y="17"/>
                  </a:lnTo>
                  <a:lnTo>
                    <a:pt x="16" y="17"/>
                  </a:lnTo>
                  <a:lnTo>
                    <a:pt x="16" y="17"/>
                  </a:lnTo>
                  <a:lnTo>
                    <a:pt x="16" y="17"/>
                  </a:lnTo>
                  <a:lnTo>
                    <a:pt x="16" y="17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5" y="17"/>
                  </a:lnTo>
                  <a:lnTo>
                    <a:pt x="5" y="17"/>
                  </a:lnTo>
                  <a:lnTo>
                    <a:pt x="5" y="17"/>
                  </a:lnTo>
                  <a:lnTo>
                    <a:pt x="5" y="17"/>
                  </a:lnTo>
                  <a:lnTo>
                    <a:pt x="0" y="17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6"/>
                  </a:lnTo>
                  <a:lnTo>
                    <a:pt x="0" y="6"/>
                  </a:lnTo>
                  <a:lnTo>
                    <a:pt x="5" y="6"/>
                  </a:lnTo>
                  <a:lnTo>
                    <a:pt x="5" y="6"/>
                  </a:lnTo>
                  <a:lnTo>
                    <a:pt x="5" y="0"/>
                  </a:lnTo>
                  <a:lnTo>
                    <a:pt x="5" y="0"/>
                  </a:lnTo>
                  <a:lnTo>
                    <a:pt x="11" y="0"/>
                  </a:lnTo>
                  <a:lnTo>
                    <a:pt x="16" y="0"/>
                  </a:lnTo>
                  <a:close/>
                  <a:moveTo>
                    <a:pt x="16" y="6"/>
                  </a:moveTo>
                  <a:lnTo>
                    <a:pt x="11" y="6"/>
                  </a:lnTo>
                  <a:lnTo>
                    <a:pt x="11" y="6"/>
                  </a:lnTo>
                  <a:lnTo>
                    <a:pt x="5" y="6"/>
                  </a:lnTo>
                  <a:lnTo>
                    <a:pt x="5" y="6"/>
                  </a:lnTo>
                  <a:lnTo>
                    <a:pt x="5" y="6"/>
                  </a:lnTo>
                  <a:lnTo>
                    <a:pt x="5" y="6"/>
                  </a:lnTo>
                  <a:lnTo>
                    <a:pt x="5" y="6"/>
                  </a:lnTo>
                  <a:lnTo>
                    <a:pt x="5" y="11"/>
                  </a:lnTo>
                  <a:lnTo>
                    <a:pt x="5" y="11"/>
                  </a:lnTo>
                  <a:lnTo>
                    <a:pt x="5" y="11"/>
                  </a:lnTo>
                  <a:lnTo>
                    <a:pt x="5" y="11"/>
                  </a:lnTo>
                  <a:lnTo>
                    <a:pt x="5" y="11"/>
                  </a:lnTo>
                  <a:lnTo>
                    <a:pt x="5" y="11"/>
                  </a:lnTo>
                  <a:lnTo>
                    <a:pt x="5" y="17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16" y="17"/>
                  </a:lnTo>
                  <a:lnTo>
                    <a:pt x="16" y="17"/>
                  </a:lnTo>
                  <a:lnTo>
                    <a:pt x="22" y="17"/>
                  </a:lnTo>
                  <a:lnTo>
                    <a:pt x="22" y="17"/>
                  </a:lnTo>
                  <a:lnTo>
                    <a:pt x="22" y="11"/>
                  </a:lnTo>
                  <a:lnTo>
                    <a:pt x="22" y="11"/>
                  </a:lnTo>
                  <a:lnTo>
                    <a:pt x="22" y="11"/>
                  </a:lnTo>
                  <a:lnTo>
                    <a:pt x="22" y="11"/>
                  </a:lnTo>
                  <a:lnTo>
                    <a:pt x="22" y="11"/>
                  </a:lnTo>
                  <a:lnTo>
                    <a:pt x="22" y="11"/>
                  </a:lnTo>
                  <a:lnTo>
                    <a:pt x="22" y="11"/>
                  </a:lnTo>
                  <a:lnTo>
                    <a:pt x="22" y="6"/>
                  </a:lnTo>
                  <a:lnTo>
                    <a:pt x="22" y="6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8" name=""/>
            <p:cNvSpPr/>
            <p:nvPr/>
          </p:nvSpPr>
          <p:spPr>
            <a:xfrm flipV="1">
              <a:off x="3637080" y="4037040"/>
              <a:ext cx="1440" cy="9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9" name=""/>
            <p:cNvSpPr/>
            <p:nvPr/>
          </p:nvSpPr>
          <p:spPr>
            <a:xfrm>
              <a:off x="3446640" y="2514600"/>
              <a:ext cx="1411200" cy="1522440"/>
            </a:xfrm>
            <a:custGeom>
              <a:avLst/>
              <a:gdLst/>
              <a:ahLst/>
              <a:rect l="l" t="t" r="r" b="b"/>
              <a:pathLst>
                <a:path w="889" h="959">
                  <a:moveTo>
                    <a:pt x="120" y="959"/>
                  </a:moveTo>
                  <a:lnTo>
                    <a:pt x="120" y="954"/>
                  </a:lnTo>
                  <a:lnTo>
                    <a:pt x="120" y="948"/>
                  </a:lnTo>
                  <a:lnTo>
                    <a:pt x="115" y="943"/>
                  </a:lnTo>
                  <a:lnTo>
                    <a:pt x="115" y="932"/>
                  </a:lnTo>
                  <a:lnTo>
                    <a:pt x="115" y="927"/>
                  </a:lnTo>
                  <a:lnTo>
                    <a:pt x="115" y="921"/>
                  </a:lnTo>
                  <a:lnTo>
                    <a:pt x="115" y="916"/>
                  </a:lnTo>
                  <a:lnTo>
                    <a:pt x="109" y="905"/>
                  </a:lnTo>
                  <a:lnTo>
                    <a:pt x="109" y="899"/>
                  </a:lnTo>
                  <a:lnTo>
                    <a:pt x="109" y="894"/>
                  </a:lnTo>
                  <a:lnTo>
                    <a:pt x="104" y="888"/>
                  </a:lnTo>
                  <a:lnTo>
                    <a:pt x="104" y="877"/>
                  </a:lnTo>
                  <a:lnTo>
                    <a:pt x="98" y="872"/>
                  </a:lnTo>
                  <a:lnTo>
                    <a:pt x="98" y="867"/>
                  </a:lnTo>
                  <a:lnTo>
                    <a:pt x="93" y="861"/>
                  </a:lnTo>
                  <a:lnTo>
                    <a:pt x="93" y="856"/>
                  </a:lnTo>
                  <a:lnTo>
                    <a:pt x="88" y="845"/>
                  </a:lnTo>
                  <a:lnTo>
                    <a:pt x="88" y="839"/>
                  </a:lnTo>
                  <a:lnTo>
                    <a:pt x="88" y="834"/>
                  </a:lnTo>
                  <a:lnTo>
                    <a:pt x="88" y="828"/>
                  </a:lnTo>
                  <a:lnTo>
                    <a:pt x="82" y="823"/>
                  </a:lnTo>
                  <a:lnTo>
                    <a:pt x="82" y="812"/>
                  </a:lnTo>
                  <a:lnTo>
                    <a:pt x="82" y="807"/>
                  </a:lnTo>
                  <a:lnTo>
                    <a:pt x="88" y="801"/>
                  </a:lnTo>
                  <a:lnTo>
                    <a:pt x="88" y="790"/>
                  </a:lnTo>
                  <a:lnTo>
                    <a:pt x="88" y="785"/>
                  </a:lnTo>
                  <a:lnTo>
                    <a:pt x="88" y="779"/>
                  </a:lnTo>
                  <a:lnTo>
                    <a:pt x="88" y="774"/>
                  </a:lnTo>
                  <a:lnTo>
                    <a:pt x="82" y="768"/>
                  </a:lnTo>
                  <a:lnTo>
                    <a:pt x="71" y="763"/>
                  </a:lnTo>
                  <a:lnTo>
                    <a:pt x="66" y="758"/>
                  </a:lnTo>
                  <a:lnTo>
                    <a:pt x="66" y="747"/>
                  </a:lnTo>
                  <a:lnTo>
                    <a:pt x="66" y="741"/>
                  </a:lnTo>
                  <a:lnTo>
                    <a:pt x="60" y="736"/>
                  </a:lnTo>
                  <a:lnTo>
                    <a:pt x="60" y="730"/>
                  </a:lnTo>
                  <a:lnTo>
                    <a:pt x="60" y="719"/>
                  </a:lnTo>
                  <a:lnTo>
                    <a:pt x="55" y="714"/>
                  </a:lnTo>
                  <a:lnTo>
                    <a:pt x="55" y="708"/>
                  </a:lnTo>
                  <a:lnTo>
                    <a:pt x="55" y="703"/>
                  </a:lnTo>
                  <a:lnTo>
                    <a:pt x="55" y="698"/>
                  </a:lnTo>
                  <a:lnTo>
                    <a:pt x="55" y="687"/>
                  </a:lnTo>
                  <a:lnTo>
                    <a:pt x="55" y="681"/>
                  </a:lnTo>
                  <a:lnTo>
                    <a:pt x="55" y="676"/>
                  </a:lnTo>
                  <a:lnTo>
                    <a:pt x="55" y="670"/>
                  </a:lnTo>
                  <a:lnTo>
                    <a:pt x="49" y="659"/>
                  </a:lnTo>
                  <a:lnTo>
                    <a:pt x="49" y="654"/>
                  </a:lnTo>
                  <a:lnTo>
                    <a:pt x="44" y="649"/>
                  </a:lnTo>
                  <a:lnTo>
                    <a:pt x="44" y="643"/>
                  </a:lnTo>
                  <a:lnTo>
                    <a:pt x="39" y="638"/>
                  </a:lnTo>
                  <a:lnTo>
                    <a:pt x="39" y="627"/>
                  </a:lnTo>
                  <a:lnTo>
                    <a:pt x="33" y="621"/>
                  </a:lnTo>
                  <a:lnTo>
                    <a:pt x="33" y="616"/>
                  </a:lnTo>
                  <a:lnTo>
                    <a:pt x="28" y="610"/>
                  </a:lnTo>
                  <a:lnTo>
                    <a:pt x="28" y="605"/>
                  </a:lnTo>
                  <a:lnTo>
                    <a:pt x="22" y="594"/>
                  </a:lnTo>
                  <a:lnTo>
                    <a:pt x="17" y="589"/>
                  </a:lnTo>
                  <a:lnTo>
                    <a:pt x="11" y="583"/>
                  </a:lnTo>
                  <a:lnTo>
                    <a:pt x="6" y="578"/>
                  </a:lnTo>
                  <a:lnTo>
                    <a:pt x="0" y="572"/>
                  </a:lnTo>
                  <a:lnTo>
                    <a:pt x="6" y="567"/>
                  </a:lnTo>
                  <a:lnTo>
                    <a:pt x="11" y="567"/>
                  </a:lnTo>
                  <a:lnTo>
                    <a:pt x="22" y="572"/>
                  </a:lnTo>
                  <a:lnTo>
                    <a:pt x="28" y="578"/>
                  </a:lnTo>
                  <a:lnTo>
                    <a:pt x="33" y="583"/>
                  </a:lnTo>
                  <a:lnTo>
                    <a:pt x="39" y="589"/>
                  </a:lnTo>
                  <a:lnTo>
                    <a:pt x="44" y="594"/>
                  </a:lnTo>
                  <a:lnTo>
                    <a:pt x="55" y="599"/>
                  </a:lnTo>
                  <a:lnTo>
                    <a:pt x="60" y="605"/>
                  </a:lnTo>
                  <a:lnTo>
                    <a:pt x="66" y="610"/>
                  </a:lnTo>
                  <a:lnTo>
                    <a:pt x="71" y="616"/>
                  </a:lnTo>
                  <a:lnTo>
                    <a:pt x="77" y="621"/>
                  </a:lnTo>
                  <a:lnTo>
                    <a:pt x="82" y="616"/>
                  </a:lnTo>
                  <a:lnTo>
                    <a:pt x="88" y="610"/>
                  </a:lnTo>
                  <a:lnTo>
                    <a:pt x="93" y="605"/>
                  </a:lnTo>
                  <a:lnTo>
                    <a:pt x="93" y="594"/>
                  </a:lnTo>
                  <a:lnTo>
                    <a:pt x="93" y="589"/>
                  </a:lnTo>
                  <a:lnTo>
                    <a:pt x="93" y="583"/>
                  </a:lnTo>
                  <a:lnTo>
                    <a:pt x="88" y="578"/>
                  </a:lnTo>
                  <a:lnTo>
                    <a:pt x="88" y="572"/>
                  </a:lnTo>
                  <a:lnTo>
                    <a:pt x="88" y="561"/>
                  </a:lnTo>
                  <a:lnTo>
                    <a:pt x="82" y="556"/>
                  </a:lnTo>
                  <a:lnTo>
                    <a:pt x="82" y="550"/>
                  </a:lnTo>
                  <a:lnTo>
                    <a:pt x="82" y="545"/>
                  </a:lnTo>
                  <a:lnTo>
                    <a:pt x="77" y="534"/>
                  </a:lnTo>
                  <a:lnTo>
                    <a:pt x="77" y="529"/>
                  </a:lnTo>
                  <a:lnTo>
                    <a:pt x="77" y="523"/>
                  </a:lnTo>
                  <a:lnTo>
                    <a:pt x="71" y="518"/>
                  </a:lnTo>
                  <a:lnTo>
                    <a:pt x="71" y="507"/>
                  </a:lnTo>
                  <a:lnTo>
                    <a:pt x="71" y="501"/>
                  </a:lnTo>
                  <a:lnTo>
                    <a:pt x="66" y="496"/>
                  </a:lnTo>
                  <a:lnTo>
                    <a:pt x="66" y="490"/>
                  </a:lnTo>
                  <a:lnTo>
                    <a:pt x="66" y="485"/>
                  </a:lnTo>
                  <a:lnTo>
                    <a:pt x="60" y="474"/>
                  </a:lnTo>
                  <a:lnTo>
                    <a:pt x="60" y="469"/>
                  </a:lnTo>
                  <a:lnTo>
                    <a:pt x="60" y="463"/>
                  </a:lnTo>
                  <a:lnTo>
                    <a:pt x="55" y="458"/>
                  </a:lnTo>
                  <a:lnTo>
                    <a:pt x="55" y="447"/>
                  </a:lnTo>
                  <a:lnTo>
                    <a:pt x="55" y="441"/>
                  </a:lnTo>
                  <a:lnTo>
                    <a:pt x="49" y="436"/>
                  </a:lnTo>
                  <a:lnTo>
                    <a:pt x="49" y="431"/>
                  </a:lnTo>
                  <a:lnTo>
                    <a:pt x="49" y="425"/>
                  </a:lnTo>
                  <a:lnTo>
                    <a:pt x="44" y="414"/>
                  </a:lnTo>
                  <a:lnTo>
                    <a:pt x="44" y="409"/>
                  </a:lnTo>
                  <a:lnTo>
                    <a:pt x="44" y="403"/>
                  </a:lnTo>
                  <a:lnTo>
                    <a:pt x="39" y="398"/>
                  </a:lnTo>
                  <a:lnTo>
                    <a:pt x="39" y="387"/>
                  </a:lnTo>
                  <a:lnTo>
                    <a:pt x="39" y="381"/>
                  </a:lnTo>
                  <a:lnTo>
                    <a:pt x="44" y="376"/>
                  </a:lnTo>
                  <a:lnTo>
                    <a:pt x="55" y="376"/>
                  </a:lnTo>
                  <a:lnTo>
                    <a:pt x="66" y="371"/>
                  </a:lnTo>
                  <a:lnTo>
                    <a:pt x="77" y="371"/>
                  </a:lnTo>
                  <a:lnTo>
                    <a:pt x="82" y="365"/>
                  </a:lnTo>
                  <a:lnTo>
                    <a:pt x="93" y="360"/>
                  </a:lnTo>
                  <a:lnTo>
                    <a:pt x="98" y="354"/>
                  </a:lnTo>
                  <a:lnTo>
                    <a:pt x="104" y="349"/>
                  </a:lnTo>
                  <a:lnTo>
                    <a:pt x="109" y="343"/>
                  </a:lnTo>
                  <a:lnTo>
                    <a:pt x="115" y="338"/>
                  </a:lnTo>
                  <a:lnTo>
                    <a:pt x="120" y="332"/>
                  </a:lnTo>
                  <a:lnTo>
                    <a:pt x="131" y="327"/>
                  </a:lnTo>
                  <a:lnTo>
                    <a:pt x="142" y="327"/>
                  </a:lnTo>
                  <a:lnTo>
                    <a:pt x="153" y="327"/>
                  </a:lnTo>
                  <a:lnTo>
                    <a:pt x="164" y="327"/>
                  </a:lnTo>
                  <a:lnTo>
                    <a:pt x="169" y="327"/>
                  </a:lnTo>
                  <a:lnTo>
                    <a:pt x="175" y="316"/>
                  </a:lnTo>
                  <a:lnTo>
                    <a:pt x="180" y="311"/>
                  </a:lnTo>
                  <a:lnTo>
                    <a:pt x="186" y="305"/>
                  </a:lnTo>
                  <a:lnTo>
                    <a:pt x="197" y="300"/>
                  </a:lnTo>
                  <a:lnTo>
                    <a:pt x="202" y="300"/>
                  </a:lnTo>
                  <a:lnTo>
                    <a:pt x="213" y="294"/>
                  </a:lnTo>
                  <a:lnTo>
                    <a:pt x="224" y="294"/>
                  </a:lnTo>
                  <a:lnTo>
                    <a:pt x="235" y="294"/>
                  </a:lnTo>
                  <a:lnTo>
                    <a:pt x="240" y="289"/>
                  </a:lnTo>
                  <a:lnTo>
                    <a:pt x="246" y="283"/>
                  </a:lnTo>
                  <a:lnTo>
                    <a:pt x="251" y="272"/>
                  </a:lnTo>
                  <a:lnTo>
                    <a:pt x="257" y="267"/>
                  </a:lnTo>
                  <a:lnTo>
                    <a:pt x="262" y="262"/>
                  </a:lnTo>
                  <a:lnTo>
                    <a:pt x="273" y="262"/>
                  </a:lnTo>
                  <a:lnTo>
                    <a:pt x="278" y="256"/>
                  </a:lnTo>
                  <a:lnTo>
                    <a:pt x="289" y="256"/>
                  </a:lnTo>
                  <a:lnTo>
                    <a:pt x="295" y="251"/>
                  </a:lnTo>
                  <a:lnTo>
                    <a:pt x="306" y="251"/>
                  </a:lnTo>
                  <a:lnTo>
                    <a:pt x="317" y="251"/>
                  </a:lnTo>
                  <a:lnTo>
                    <a:pt x="327" y="256"/>
                  </a:lnTo>
                  <a:lnTo>
                    <a:pt x="333" y="251"/>
                  </a:lnTo>
                  <a:lnTo>
                    <a:pt x="338" y="245"/>
                  </a:lnTo>
                  <a:lnTo>
                    <a:pt x="338" y="240"/>
                  </a:lnTo>
                  <a:lnTo>
                    <a:pt x="338" y="229"/>
                  </a:lnTo>
                  <a:lnTo>
                    <a:pt x="344" y="218"/>
                  </a:lnTo>
                  <a:lnTo>
                    <a:pt x="344" y="213"/>
                  </a:lnTo>
                  <a:lnTo>
                    <a:pt x="355" y="207"/>
                  </a:lnTo>
                  <a:lnTo>
                    <a:pt x="360" y="202"/>
                  </a:lnTo>
                  <a:lnTo>
                    <a:pt x="371" y="202"/>
                  </a:lnTo>
                  <a:lnTo>
                    <a:pt x="382" y="196"/>
                  </a:lnTo>
                  <a:lnTo>
                    <a:pt x="387" y="196"/>
                  </a:lnTo>
                  <a:lnTo>
                    <a:pt x="398" y="196"/>
                  </a:lnTo>
                  <a:lnTo>
                    <a:pt x="404" y="202"/>
                  </a:lnTo>
                  <a:lnTo>
                    <a:pt x="409" y="207"/>
                  </a:lnTo>
                  <a:lnTo>
                    <a:pt x="415" y="218"/>
                  </a:lnTo>
                  <a:lnTo>
                    <a:pt x="420" y="223"/>
                  </a:lnTo>
                  <a:lnTo>
                    <a:pt x="426" y="218"/>
                  </a:lnTo>
                  <a:lnTo>
                    <a:pt x="431" y="213"/>
                  </a:lnTo>
                  <a:lnTo>
                    <a:pt x="431" y="207"/>
                  </a:lnTo>
                  <a:lnTo>
                    <a:pt x="431" y="202"/>
                  </a:lnTo>
                  <a:lnTo>
                    <a:pt x="431" y="191"/>
                  </a:lnTo>
                  <a:lnTo>
                    <a:pt x="437" y="185"/>
                  </a:lnTo>
                  <a:lnTo>
                    <a:pt x="442" y="180"/>
                  </a:lnTo>
                  <a:lnTo>
                    <a:pt x="447" y="174"/>
                  </a:lnTo>
                  <a:lnTo>
                    <a:pt x="458" y="169"/>
                  </a:lnTo>
                  <a:lnTo>
                    <a:pt x="464" y="169"/>
                  </a:lnTo>
                  <a:lnTo>
                    <a:pt x="475" y="163"/>
                  </a:lnTo>
                  <a:lnTo>
                    <a:pt x="486" y="158"/>
                  </a:lnTo>
                  <a:lnTo>
                    <a:pt x="497" y="158"/>
                  </a:lnTo>
                  <a:lnTo>
                    <a:pt x="502" y="158"/>
                  </a:lnTo>
                  <a:lnTo>
                    <a:pt x="513" y="158"/>
                  </a:lnTo>
                  <a:lnTo>
                    <a:pt x="524" y="153"/>
                  </a:lnTo>
                  <a:lnTo>
                    <a:pt x="535" y="153"/>
                  </a:lnTo>
                  <a:lnTo>
                    <a:pt x="540" y="147"/>
                  </a:lnTo>
                  <a:lnTo>
                    <a:pt x="551" y="142"/>
                  </a:lnTo>
                  <a:lnTo>
                    <a:pt x="556" y="136"/>
                  </a:lnTo>
                  <a:lnTo>
                    <a:pt x="567" y="136"/>
                  </a:lnTo>
                  <a:lnTo>
                    <a:pt x="573" y="131"/>
                  </a:lnTo>
                  <a:lnTo>
                    <a:pt x="584" y="125"/>
                  </a:lnTo>
                  <a:lnTo>
                    <a:pt x="589" y="120"/>
                  </a:lnTo>
                  <a:lnTo>
                    <a:pt x="600" y="114"/>
                  </a:lnTo>
                  <a:lnTo>
                    <a:pt x="606" y="114"/>
                  </a:lnTo>
                  <a:lnTo>
                    <a:pt x="616" y="109"/>
                  </a:lnTo>
                  <a:lnTo>
                    <a:pt x="622" y="109"/>
                  </a:lnTo>
                  <a:lnTo>
                    <a:pt x="633" y="104"/>
                  </a:lnTo>
                  <a:lnTo>
                    <a:pt x="644" y="104"/>
                  </a:lnTo>
                  <a:lnTo>
                    <a:pt x="655" y="98"/>
                  </a:lnTo>
                  <a:lnTo>
                    <a:pt x="666" y="98"/>
                  </a:lnTo>
                  <a:lnTo>
                    <a:pt x="671" y="93"/>
                  </a:lnTo>
                  <a:lnTo>
                    <a:pt x="682" y="87"/>
                  </a:lnTo>
                  <a:lnTo>
                    <a:pt x="687" y="82"/>
                  </a:lnTo>
                  <a:lnTo>
                    <a:pt x="693" y="76"/>
                  </a:lnTo>
                  <a:lnTo>
                    <a:pt x="704" y="71"/>
                  </a:lnTo>
                  <a:lnTo>
                    <a:pt x="709" y="71"/>
                  </a:lnTo>
                  <a:lnTo>
                    <a:pt x="720" y="65"/>
                  </a:lnTo>
                  <a:lnTo>
                    <a:pt x="731" y="65"/>
                  </a:lnTo>
                  <a:lnTo>
                    <a:pt x="736" y="60"/>
                  </a:lnTo>
                  <a:lnTo>
                    <a:pt x="736" y="49"/>
                  </a:lnTo>
                  <a:lnTo>
                    <a:pt x="747" y="49"/>
                  </a:lnTo>
                  <a:lnTo>
                    <a:pt x="758" y="49"/>
                  </a:lnTo>
                  <a:lnTo>
                    <a:pt x="769" y="49"/>
                  </a:lnTo>
                  <a:lnTo>
                    <a:pt x="780" y="49"/>
                  </a:lnTo>
                  <a:lnTo>
                    <a:pt x="785" y="44"/>
                  </a:lnTo>
                  <a:lnTo>
                    <a:pt x="791" y="38"/>
                  </a:lnTo>
                  <a:lnTo>
                    <a:pt x="796" y="33"/>
                  </a:lnTo>
                  <a:lnTo>
                    <a:pt x="807" y="27"/>
                  </a:lnTo>
                  <a:lnTo>
                    <a:pt x="813" y="22"/>
                  </a:lnTo>
                  <a:lnTo>
                    <a:pt x="824" y="22"/>
                  </a:lnTo>
                  <a:lnTo>
                    <a:pt x="835" y="16"/>
                  </a:lnTo>
                  <a:lnTo>
                    <a:pt x="840" y="16"/>
                  </a:lnTo>
                  <a:lnTo>
                    <a:pt x="851" y="11"/>
                  </a:lnTo>
                  <a:lnTo>
                    <a:pt x="862" y="11"/>
                  </a:lnTo>
                  <a:lnTo>
                    <a:pt x="873" y="5"/>
                  </a:lnTo>
                  <a:lnTo>
                    <a:pt x="884" y="5"/>
                  </a:lnTo>
                  <a:lnTo>
                    <a:pt x="889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0" name=""/>
            <p:cNvSpPr/>
            <p:nvPr/>
          </p:nvSpPr>
          <p:spPr>
            <a:xfrm>
              <a:off x="2087640" y="3214800"/>
              <a:ext cx="77760" cy="77760"/>
            </a:xfrm>
            <a:custGeom>
              <a:avLst/>
              <a:gdLst/>
              <a:ahLst/>
              <a:rect l="l" t="t" r="r" b="b"/>
              <a:pathLst>
                <a:path w="49" h="49">
                  <a:moveTo>
                    <a:pt x="39" y="0"/>
                  </a:moveTo>
                  <a:lnTo>
                    <a:pt x="44" y="0"/>
                  </a:lnTo>
                  <a:lnTo>
                    <a:pt x="49" y="6"/>
                  </a:lnTo>
                  <a:lnTo>
                    <a:pt x="49" y="11"/>
                  </a:lnTo>
                  <a:lnTo>
                    <a:pt x="49" y="11"/>
                  </a:lnTo>
                  <a:lnTo>
                    <a:pt x="44" y="17"/>
                  </a:lnTo>
                  <a:lnTo>
                    <a:pt x="39" y="22"/>
                  </a:lnTo>
                  <a:lnTo>
                    <a:pt x="33" y="22"/>
                  </a:lnTo>
                  <a:lnTo>
                    <a:pt x="33" y="28"/>
                  </a:lnTo>
                  <a:lnTo>
                    <a:pt x="28" y="33"/>
                  </a:lnTo>
                  <a:lnTo>
                    <a:pt x="22" y="33"/>
                  </a:lnTo>
                  <a:lnTo>
                    <a:pt x="22" y="39"/>
                  </a:lnTo>
                  <a:lnTo>
                    <a:pt x="17" y="44"/>
                  </a:lnTo>
                  <a:lnTo>
                    <a:pt x="11" y="49"/>
                  </a:lnTo>
                  <a:lnTo>
                    <a:pt x="6" y="49"/>
                  </a:lnTo>
                  <a:lnTo>
                    <a:pt x="6" y="49"/>
                  </a:lnTo>
                  <a:lnTo>
                    <a:pt x="0" y="44"/>
                  </a:lnTo>
                  <a:lnTo>
                    <a:pt x="0" y="3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1" name=""/>
            <p:cNvSpPr/>
            <p:nvPr/>
          </p:nvSpPr>
          <p:spPr>
            <a:xfrm>
              <a:off x="2468520" y="4470480"/>
              <a:ext cx="27000" cy="34920"/>
            </a:xfrm>
            <a:custGeom>
              <a:avLst/>
              <a:gdLst/>
              <a:ahLst/>
              <a:rect l="l" t="t" r="r" b="b"/>
              <a:pathLst>
                <a:path w="17" h="22">
                  <a:moveTo>
                    <a:pt x="0" y="22"/>
                  </a:moveTo>
                  <a:lnTo>
                    <a:pt x="0" y="22"/>
                  </a:lnTo>
                  <a:lnTo>
                    <a:pt x="11" y="5"/>
                  </a:lnTo>
                  <a:lnTo>
                    <a:pt x="11" y="5"/>
                  </a:lnTo>
                  <a:lnTo>
                    <a:pt x="11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0"/>
                  </a:lnTo>
                  <a:lnTo>
                    <a:pt x="6" y="0"/>
                  </a:lnTo>
                  <a:lnTo>
                    <a:pt x="11" y="5"/>
                  </a:lnTo>
                  <a:lnTo>
                    <a:pt x="11" y="5"/>
                  </a:lnTo>
                  <a:lnTo>
                    <a:pt x="11" y="5"/>
                  </a:lnTo>
                  <a:lnTo>
                    <a:pt x="11" y="5"/>
                  </a:lnTo>
                  <a:lnTo>
                    <a:pt x="11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5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2" name=""/>
            <p:cNvSpPr/>
            <p:nvPr/>
          </p:nvSpPr>
          <p:spPr>
            <a:xfrm>
              <a:off x="2486160" y="4487760"/>
              <a:ext cx="34920" cy="33480"/>
            </a:xfrm>
            <a:custGeom>
              <a:avLst/>
              <a:gdLst/>
              <a:ahLst/>
              <a:rect l="l" t="t" r="r" b="b"/>
              <a:pathLst>
                <a:path w="22" h="21">
                  <a:moveTo>
                    <a:pt x="6" y="11"/>
                  </a:move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5"/>
                  </a:lnTo>
                  <a:lnTo>
                    <a:pt x="22" y="5"/>
                  </a:lnTo>
                  <a:lnTo>
                    <a:pt x="22" y="5"/>
                  </a:lnTo>
                  <a:lnTo>
                    <a:pt x="22" y="5"/>
                  </a:lnTo>
                  <a:lnTo>
                    <a:pt x="22" y="5"/>
                  </a:lnTo>
                  <a:lnTo>
                    <a:pt x="22" y="11"/>
                  </a:lnTo>
                  <a:lnTo>
                    <a:pt x="22" y="11"/>
                  </a:lnTo>
                  <a:lnTo>
                    <a:pt x="22" y="11"/>
                  </a:lnTo>
                  <a:lnTo>
                    <a:pt x="17" y="11"/>
                  </a:lnTo>
                  <a:lnTo>
                    <a:pt x="17" y="11"/>
                  </a:lnTo>
                  <a:lnTo>
                    <a:pt x="17" y="11"/>
                  </a:lnTo>
                  <a:lnTo>
                    <a:pt x="17" y="11"/>
                  </a:lnTo>
                  <a:lnTo>
                    <a:pt x="17" y="11"/>
                  </a:lnTo>
                  <a:lnTo>
                    <a:pt x="17" y="11"/>
                  </a:lnTo>
                  <a:lnTo>
                    <a:pt x="17" y="11"/>
                  </a:lnTo>
                  <a:lnTo>
                    <a:pt x="11" y="11"/>
                  </a:lnTo>
                  <a:lnTo>
                    <a:pt x="17" y="16"/>
                  </a:lnTo>
                  <a:lnTo>
                    <a:pt x="17" y="16"/>
                  </a:lnTo>
                  <a:lnTo>
                    <a:pt x="17" y="16"/>
                  </a:lnTo>
                  <a:lnTo>
                    <a:pt x="17" y="16"/>
                  </a:lnTo>
                  <a:lnTo>
                    <a:pt x="17" y="16"/>
                  </a:lnTo>
                  <a:lnTo>
                    <a:pt x="17" y="16"/>
                  </a:lnTo>
                  <a:lnTo>
                    <a:pt x="11" y="21"/>
                  </a:lnTo>
                  <a:lnTo>
                    <a:pt x="11" y="21"/>
                  </a:lnTo>
                  <a:lnTo>
                    <a:pt x="11" y="21"/>
                  </a:lnTo>
                  <a:lnTo>
                    <a:pt x="11" y="21"/>
                  </a:lnTo>
                  <a:lnTo>
                    <a:pt x="11" y="21"/>
                  </a:lnTo>
                  <a:lnTo>
                    <a:pt x="6" y="21"/>
                  </a:lnTo>
                  <a:lnTo>
                    <a:pt x="6" y="21"/>
                  </a:lnTo>
                  <a:lnTo>
                    <a:pt x="6" y="21"/>
                  </a:lnTo>
                  <a:lnTo>
                    <a:pt x="6" y="21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6" y="11"/>
                  </a:lnTo>
                  <a:lnTo>
                    <a:pt x="6" y="11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11"/>
                  </a:lnTo>
                  <a:lnTo>
                    <a:pt x="6" y="11"/>
                  </a:lnTo>
                  <a:close/>
                  <a:moveTo>
                    <a:pt x="11" y="5"/>
                  </a:moveTo>
                  <a:lnTo>
                    <a:pt x="11" y="5"/>
                  </a:lnTo>
                  <a:lnTo>
                    <a:pt x="11" y="5"/>
                  </a:lnTo>
                  <a:lnTo>
                    <a:pt x="11" y="5"/>
                  </a:lnTo>
                  <a:lnTo>
                    <a:pt x="11" y="5"/>
                  </a:lnTo>
                  <a:lnTo>
                    <a:pt x="11" y="5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17" y="11"/>
                  </a:lnTo>
                  <a:lnTo>
                    <a:pt x="17" y="11"/>
                  </a:lnTo>
                  <a:lnTo>
                    <a:pt x="17" y="11"/>
                  </a:lnTo>
                  <a:lnTo>
                    <a:pt x="17" y="11"/>
                  </a:lnTo>
                  <a:lnTo>
                    <a:pt x="17" y="11"/>
                  </a:lnTo>
                  <a:lnTo>
                    <a:pt x="17" y="11"/>
                  </a:lnTo>
                  <a:lnTo>
                    <a:pt x="17" y="11"/>
                  </a:lnTo>
                  <a:lnTo>
                    <a:pt x="17" y="5"/>
                  </a:lnTo>
                  <a:lnTo>
                    <a:pt x="17" y="5"/>
                  </a:lnTo>
                  <a:lnTo>
                    <a:pt x="17" y="5"/>
                  </a:lnTo>
                  <a:lnTo>
                    <a:pt x="17" y="5"/>
                  </a:lnTo>
                  <a:lnTo>
                    <a:pt x="17" y="5"/>
                  </a:lnTo>
                  <a:lnTo>
                    <a:pt x="17" y="5"/>
                  </a:lnTo>
                  <a:lnTo>
                    <a:pt x="17" y="5"/>
                  </a:lnTo>
                  <a:lnTo>
                    <a:pt x="17" y="5"/>
                  </a:lnTo>
                  <a:lnTo>
                    <a:pt x="17" y="5"/>
                  </a:lnTo>
                  <a:lnTo>
                    <a:pt x="11" y="5"/>
                  </a:lnTo>
                  <a:lnTo>
                    <a:pt x="11" y="5"/>
                  </a:lnTo>
                  <a:lnTo>
                    <a:pt x="11" y="5"/>
                  </a:lnTo>
                  <a:lnTo>
                    <a:pt x="11" y="5"/>
                  </a:lnTo>
                  <a:lnTo>
                    <a:pt x="11" y="5"/>
                  </a:lnTo>
                  <a:close/>
                  <a:moveTo>
                    <a:pt x="6" y="11"/>
                  </a:moveTo>
                  <a:lnTo>
                    <a:pt x="0" y="11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6" y="21"/>
                  </a:lnTo>
                  <a:lnTo>
                    <a:pt x="6" y="21"/>
                  </a:lnTo>
                  <a:lnTo>
                    <a:pt x="6" y="21"/>
                  </a:lnTo>
                  <a:lnTo>
                    <a:pt x="6" y="21"/>
                  </a:lnTo>
                  <a:lnTo>
                    <a:pt x="6" y="21"/>
                  </a:lnTo>
                  <a:lnTo>
                    <a:pt x="6" y="21"/>
                  </a:lnTo>
                  <a:lnTo>
                    <a:pt x="6" y="21"/>
                  </a:lnTo>
                  <a:lnTo>
                    <a:pt x="11" y="21"/>
                  </a:lnTo>
                  <a:lnTo>
                    <a:pt x="11" y="21"/>
                  </a:lnTo>
                  <a:lnTo>
                    <a:pt x="11" y="16"/>
                  </a:lnTo>
                  <a:lnTo>
                    <a:pt x="11" y="16"/>
                  </a:lnTo>
                  <a:lnTo>
                    <a:pt x="11" y="16"/>
                  </a:lnTo>
                  <a:lnTo>
                    <a:pt x="11" y="16"/>
                  </a:lnTo>
                  <a:lnTo>
                    <a:pt x="11" y="16"/>
                  </a:lnTo>
                  <a:lnTo>
                    <a:pt x="11" y="16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6" y="11"/>
                  </a:lnTo>
                  <a:lnTo>
                    <a:pt x="6" y="11"/>
                  </a:lnTo>
                  <a:lnTo>
                    <a:pt x="6" y="11"/>
                  </a:lnTo>
                  <a:lnTo>
                    <a:pt x="6" y="11"/>
                  </a:lnTo>
                  <a:lnTo>
                    <a:pt x="6" y="11"/>
                  </a:lnTo>
                  <a:lnTo>
                    <a:pt x="6" y="11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3" name=""/>
            <p:cNvSpPr/>
            <p:nvPr/>
          </p:nvSpPr>
          <p:spPr>
            <a:xfrm>
              <a:off x="2513160" y="4505400"/>
              <a:ext cx="25200" cy="33120"/>
            </a:xfrm>
            <a:custGeom>
              <a:avLst/>
              <a:gdLst/>
              <a:ahLst/>
              <a:rect l="l" t="t" r="r" b="b"/>
              <a:pathLst>
                <a:path w="16" h="21">
                  <a:moveTo>
                    <a:pt x="0" y="5"/>
                  </a:move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5"/>
                  </a:lnTo>
                  <a:lnTo>
                    <a:pt x="16" y="5"/>
                  </a:lnTo>
                  <a:lnTo>
                    <a:pt x="16" y="5"/>
                  </a:lnTo>
                  <a:lnTo>
                    <a:pt x="16" y="5"/>
                  </a:lnTo>
                  <a:lnTo>
                    <a:pt x="16" y="5"/>
                  </a:lnTo>
                  <a:lnTo>
                    <a:pt x="16" y="5"/>
                  </a:lnTo>
                  <a:lnTo>
                    <a:pt x="16" y="5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10" y="21"/>
                  </a:lnTo>
                  <a:lnTo>
                    <a:pt x="10" y="21"/>
                  </a:lnTo>
                  <a:lnTo>
                    <a:pt x="10" y="21"/>
                  </a:lnTo>
                  <a:lnTo>
                    <a:pt x="10" y="21"/>
                  </a:lnTo>
                  <a:lnTo>
                    <a:pt x="5" y="21"/>
                  </a:lnTo>
                  <a:lnTo>
                    <a:pt x="5" y="21"/>
                  </a:lnTo>
                  <a:lnTo>
                    <a:pt x="5" y="21"/>
                  </a:lnTo>
                  <a:lnTo>
                    <a:pt x="5" y="21"/>
                  </a:lnTo>
                  <a:lnTo>
                    <a:pt x="5" y="21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5"/>
                  </a:lnTo>
                  <a:close/>
                  <a:moveTo>
                    <a:pt x="5" y="10"/>
                  </a:moveTo>
                  <a:lnTo>
                    <a:pt x="0" y="10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5" y="21"/>
                  </a:lnTo>
                  <a:lnTo>
                    <a:pt x="5" y="21"/>
                  </a:lnTo>
                  <a:lnTo>
                    <a:pt x="5" y="21"/>
                  </a:lnTo>
                  <a:lnTo>
                    <a:pt x="5" y="21"/>
                  </a:lnTo>
                  <a:lnTo>
                    <a:pt x="10" y="21"/>
                  </a:lnTo>
                  <a:lnTo>
                    <a:pt x="10" y="16"/>
                  </a:lnTo>
                  <a:lnTo>
                    <a:pt x="10" y="16"/>
                  </a:lnTo>
                  <a:lnTo>
                    <a:pt x="10" y="16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5"/>
                  </a:lnTo>
                  <a:lnTo>
                    <a:pt x="16" y="5"/>
                  </a:lnTo>
                  <a:lnTo>
                    <a:pt x="16" y="5"/>
                  </a:lnTo>
                  <a:lnTo>
                    <a:pt x="16" y="5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4" name=""/>
            <p:cNvSpPr/>
            <p:nvPr/>
          </p:nvSpPr>
          <p:spPr>
            <a:xfrm flipH="1">
              <a:off x="2451240" y="4470480"/>
              <a:ext cx="93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5" name=""/>
            <p:cNvSpPr/>
            <p:nvPr/>
          </p:nvSpPr>
          <p:spPr>
            <a:xfrm>
              <a:off x="1984320" y="3873600"/>
              <a:ext cx="812880" cy="664920"/>
            </a:xfrm>
            <a:custGeom>
              <a:avLst/>
              <a:gdLst/>
              <a:ahLst/>
              <a:rect l="l" t="t" r="r" b="b"/>
              <a:pathLst>
                <a:path w="512" h="419">
                  <a:moveTo>
                    <a:pt x="294" y="376"/>
                  </a:moveTo>
                  <a:lnTo>
                    <a:pt x="289" y="370"/>
                  </a:lnTo>
                  <a:lnTo>
                    <a:pt x="289" y="365"/>
                  </a:lnTo>
                  <a:lnTo>
                    <a:pt x="283" y="359"/>
                  </a:lnTo>
                  <a:lnTo>
                    <a:pt x="278" y="354"/>
                  </a:lnTo>
                  <a:lnTo>
                    <a:pt x="273" y="348"/>
                  </a:lnTo>
                  <a:lnTo>
                    <a:pt x="273" y="343"/>
                  </a:lnTo>
                  <a:lnTo>
                    <a:pt x="267" y="338"/>
                  </a:lnTo>
                  <a:lnTo>
                    <a:pt x="262" y="332"/>
                  </a:lnTo>
                  <a:lnTo>
                    <a:pt x="256" y="327"/>
                  </a:lnTo>
                  <a:lnTo>
                    <a:pt x="251" y="321"/>
                  </a:lnTo>
                  <a:lnTo>
                    <a:pt x="251" y="316"/>
                  </a:lnTo>
                  <a:lnTo>
                    <a:pt x="245" y="310"/>
                  </a:lnTo>
                  <a:lnTo>
                    <a:pt x="240" y="305"/>
                  </a:lnTo>
                  <a:lnTo>
                    <a:pt x="234" y="299"/>
                  </a:lnTo>
                  <a:lnTo>
                    <a:pt x="229" y="294"/>
                  </a:lnTo>
                  <a:lnTo>
                    <a:pt x="229" y="289"/>
                  </a:lnTo>
                  <a:lnTo>
                    <a:pt x="223" y="283"/>
                  </a:lnTo>
                  <a:lnTo>
                    <a:pt x="218" y="278"/>
                  </a:lnTo>
                  <a:lnTo>
                    <a:pt x="213" y="272"/>
                  </a:lnTo>
                  <a:lnTo>
                    <a:pt x="207" y="267"/>
                  </a:lnTo>
                  <a:lnTo>
                    <a:pt x="207" y="261"/>
                  </a:lnTo>
                  <a:lnTo>
                    <a:pt x="202" y="256"/>
                  </a:lnTo>
                  <a:lnTo>
                    <a:pt x="196" y="250"/>
                  </a:lnTo>
                  <a:lnTo>
                    <a:pt x="191" y="245"/>
                  </a:lnTo>
                  <a:lnTo>
                    <a:pt x="191" y="239"/>
                  </a:lnTo>
                  <a:lnTo>
                    <a:pt x="185" y="234"/>
                  </a:lnTo>
                  <a:lnTo>
                    <a:pt x="180" y="229"/>
                  </a:lnTo>
                  <a:lnTo>
                    <a:pt x="174" y="223"/>
                  </a:lnTo>
                  <a:lnTo>
                    <a:pt x="169" y="218"/>
                  </a:lnTo>
                  <a:lnTo>
                    <a:pt x="169" y="212"/>
                  </a:lnTo>
                  <a:lnTo>
                    <a:pt x="163" y="207"/>
                  </a:lnTo>
                  <a:lnTo>
                    <a:pt x="158" y="201"/>
                  </a:lnTo>
                  <a:lnTo>
                    <a:pt x="153" y="196"/>
                  </a:lnTo>
                  <a:lnTo>
                    <a:pt x="147" y="190"/>
                  </a:lnTo>
                  <a:lnTo>
                    <a:pt x="147" y="185"/>
                  </a:lnTo>
                  <a:lnTo>
                    <a:pt x="142" y="180"/>
                  </a:lnTo>
                  <a:lnTo>
                    <a:pt x="136" y="174"/>
                  </a:lnTo>
                  <a:lnTo>
                    <a:pt x="131" y="169"/>
                  </a:lnTo>
                  <a:lnTo>
                    <a:pt x="125" y="163"/>
                  </a:lnTo>
                  <a:lnTo>
                    <a:pt x="125" y="158"/>
                  </a:lnTo>
                  <a:lnTo>
                    <a:pt x="120" y="152"/>
                  </a:lnTo>
                  <a:lnTo>
                    <a:pt x="114" y="147"/>
                  </a:lnTo>
                  <a:lnTo>
                    <a:pt x="109" y="141"/>
                  </a:lnTo>
                  <a:lnTo>
                    <a:pt x="109" y="136"/>
                  </a:lnTo>
                  <a:lnTo>
                    <a:pt x="104" y="130"/>
                  </a:lnTo>
                  <a:lnTo>
                    <a:pt x="98" y="125"/>
                  </a:lnTo>
                  <a:lnTo>
                    <a:pt x="93" y="120"/>
                  </a:lnTo>
                  <a:lnTo>
                    <a:pt x="87" y="114"/>
                  </a:lnTo>
                  <a:lnTo>
                    <a:pt x="87" y="109"/>
                  </a:lnTo>
                  <a:lnTo>
                    <a:pt x="82" y="103"/>
                  </a:lnTo>
                  <a:lnTo>
                    <a:pt x="76" y="98"/>
                  </a:lnTo>
                  <a:lnTo>
                    <a:pt x="71" y="92"/>
                  </a:lnTo>
                  <a:lnTo>
                    <a:pt x="65" y="87"/>
                  </a:lnTo>
                  <a:lnTo>
                    <a:pt x="65" y="81"/>
                  </a:lnTo>
                  <a:lnTo>
                    <a:pt x="60" y="81"/>
                  </a:lnTo>
                  <a:lnTo>
                    <a:pt x="54" y="71"/>
                  </a:lnTo>
                  <a:lnTo>
                    <a:pt x="49" y="71"/>
                  </a:lnTo>
                  <a:lnTo>
                    <a:pt x="44" y="65"/>
                  </a:lnTo>
                  <a:lnTo>
                    <a:pt x="44" y="60"/>
                  </a:lnTo>
                  <a:lnTo>
                    <a:pt x="38" y="54"/>
                  </a:lnTo>
                  <a:lnTo>
                    <a:pt x="33" y="49"/>
                  </a:lnTo>
                  <a:lnTo>
                    <a:pt x="27" y="43"/>
                  </a:lnTo>
                  <a:lnTo>
                    <a:pt x="27" y="38"/>
                  </a:lnTo>
                  <a:lnTo>
                    <a:pt x="22" y="32"/>
                  </a:lnTo>
                  <a:lnTo>
                    <a:pt x="16" y="27"/>
                  </a:lnTo>
                  <a:lnTo>
                    <a:pt x="11" y="21"/>
                  </a:lnTo>
                  <a:lnTo>
                    <a:pt x="5" y="16"/>
                  </a:lnTo>
                  <a:lnTo>
                    <a:pt x="0" y="11"/>
                  </a:lnTo>
                  <a:lnTo>
                    <a:pt x="0" y="0"/>
                  </a:lnTo>
                  <a:lnTo>
                    <a:pt x="11" y="0"/>
                  </a:lnTo>
                  <a:lnTo>
                    <a:pt x="11" y="5"/>
                  </a:lnTo>
                  <a:lnTo>
                    <a:pt x="11" y="11"/>
                  </a:lnTo>
                  <a:lnTo>
                    <a:pt x="16" y="21"/>
                  </a:lnTo>
                  <a:lnTo>
                    <a:pt x="22" y="27"/>
                  </a:lnTo>
                  <a:lnTo>
                    <a:pt x="27" y="32"/>
                  </a:lnTo>
                  <a:lnTo>
                    <a:pt x="33" y="32"/>
                  </a:lnTo>
                  <a:lnTo>
                    <a:pt x="44" y="32"/>
                  </a:lnTo>
                  <a:lnTo>
                    <a:pt x="49" y="27"/>
                  </a:lnTo>
                  <a:lnTo>
                    <a:pt x="54" y="21"/>
                  </a:lnTo>
                  <a:lnTo>
                    <a:pt x="60" y="16"/>
                  </a:lnTo>
                  <a:lnTo>
                    <a:pt x="65" y="16"/>
                  </a:lnTo>
                  <a:lnTo>
                    <a:pt x="76" y="11"/>
                  </a:lnTo>
                  <a:lnTo>
                    <a:pt x="82" y="16"/>
                  </a:lnTo>
                  <a:lnTo>
                    <a:pt x="93" y="16"/>
                  </a:lnTo>
                  <a:lnTo>
                    <a:pt x="98" y="21"/>
                  </a:lnTo>
                  <a:lnTo>
                    <a:pt x="104" y="27"/>
                  </a:lnTo>
                  <a:lnTo>
                    <a:pt x="109" y="32"/>
                  </a:lnTo>
                  <a:lnTo>
                    <a:pt x="109" y="43"/>
                  </a:lnTo>
                  <a:lnTo>
                    <a:pt x="114" y="49"/>
                  </a:lnTo>
                  <a:lnTo>
                    <a:pt x="120" y="54"/>
                  </a:lnTo>
                  <a:lnTo>
                    <a:pt x="125" y="60"/>
                  </a:lnTo>
                  <a:lnTo>
                    <a:pt x="131" y="65"/>
                  </a:lnTo>
                  <a:lnTo>
                    <a:pt x="136" y="60"/>
                  </a:lnTo>
                  <a:lnTo>
                    <a:pt x="147" y="60"/>
                  </a:lnTo>
                  <a:lnTo>
                    <a:pt x="153" y="54"/>
                  </a:lnTo>
                  <a:lnTo>
                    <a:pt x="163" y="49"/>
                  </a:lnTo>
                  <a:lnTo>
                    <a:pt x="169" y="49"/>
                  </a:lnTo>
                  <a:lnTo>
                    <a:pt x="180" y="43"/>
                  </a:lnTo>
                  <a:lnTo>
                    <a:pt x="185" y="43"/>
                  </a:lnTo>
                  <a:lnTo>
                    <a:pt x="196" y="38"/>
                  </a:lnTo>
                  <a:lnTo>
                    <a:pt x="202" y="32"/>
                  </a:lnTo>
                  <a:lnTo>
                    <a:pt x="213" y="38"/>
                  </a:lnTo>
                  <a:lnTo>
                    <a:pt x="218" y="43"/>
                  </a:lnTo>
                  <a:lnTo>
                    <a:pt x="223" y="49"/>
                  </a:lnTo>
                  <a:lnTo>
                    <a:pt x="229" y="54"/>
                  </a:lnTo>
                  <a:lnTo>
                    <a:pt x="229" y="60"/>
                  </a:lnTo>
                  <a:lnTo>
                    <a:pt x="234" y="65"/>
                  </a:lnTo>
                  <a:lnTo>
                    <a:pt x="234" y="71"/>
                  </a:lnTo>
                  <a:lnTo>
                    <a:pt x="234" y="76"/>
                  </a:lnTo>
                  <a:lnTo>
                    <a:pt x="234" y="81"/>
                  </a:lnTo>
                  <a:lnTo>
                    <a:pt x="229" y="81"/>
                  </a:lnTo>
                  <a:lnTo>
                    <a:pt x="223" y="76"/>
                  </a:lnTo>
                  <a:lnTo>
                    <a:pt x="213" y="71"/>
                  </a:lnTo>
                  <a:lnTo>
                    <a:pt x="207" y="65"/>
                  </a:lnTo>
                  <a:lnTo>
                    <a:pt x="202" y="60"/>
                  </a:lnTo>
                  <a:lnTo>
                    <a:pt x="196" y="65"/>
                  </a:lnTo>
                  <a:lnTo>
                    <a:pt x="196" y="76"/>
                  </a:lnTo>
                  <a:lnTo>
                    <a:pt x="196" y="81"/>
                  </a:lnTo>
                  <a:lnTo>
                    <a:pt x="196" y="87"/>
                  </a:lnTo>
                  <a:lnTo>
                    <a:pt x="196" y="92"/>
                  </a:lnTo>
                  <a:lnTo>
                    <a:pt x="196" y="98"/>
                  </a:lnTo>
                  <a:lnTo>
                    <a:pt x="202" y="103"/>
                  </a:lnTo>
                  <a:lnTo>
                    <a:pt x="207" y="103"/>
                  </a:lnTo>
                  <a:lnTo>
                    <a:pt x="218" y="109"/>
                  </a:lnTo>
                  <a:lnTo>
                    <a:pt x="229" y="109"/>
                  </a:lnTo>
                  <a:lnTo>
                    <a:pt x="234" y="109"/>
                  </a:lnTo>
                  <a:lnTo>
                    <a:pt x="240" y="114"/>
                  </a:lnTo>
                  <a:lnTo>
                    <a:pt x="245" y="120"/>
                  </a:lnTo>
                  <a:lnTo>
                    <a:pt x="245" y="125"/>
                  </a:lnTo>
                  <a:lnTo>
                    <a:pt x="251" y="130"/>
                  </a:lnTo>
                  <a:lnTo>
                    <a:pt x="256" y="136"/>
                  </a:lnTo>
                  <a:lnTo>
                    <a:pt x="262" y="141"/>
                  </a:lnTo>
                  <a:lnTo>
                    <a:pt x="267" y="147"/>
                  </a:lnTo>
                  <a:lnTo>
                    <a:pt x="273" y="152"/>
                  </a:lnTo>
                  <a:lnTo>
                    <a:pt x="278" y="158"/>
                  </a:lnTo>
                  <a:lnTo>
                    <a:pt x="289" y="163"/>
                  </a:lnTo>
                  <a:lnTo>
                    <a:pt x="294" y="163"/>
                  </a:lnTo>
                  <a:lnTo>
                    <a:pt x="300" y="163"/>
                  </a:lnTo>
                  <a:lnTo>
                    <a:pt x="311" y="163"/>
                  </a:lnTo>
                  <a:lnTo>
                    <a:pt x="322" y="163"/>
                  </a:lnTo>
                  <a:lnTo>
                    <a:pt x="327" y="158"/>
                  </a:lnTo>
                  <a:lnTo>
                    <a:pt x="338" y="158"/>
                  </a:lnTo>
                  <a:lnTo>
                    <a:pt x="343" y="152"/>
                  </a:lnTo>
                  <a:lnTo>
                    <a:pt x="349" y="147"/>
                  </a:lnTo>
                  <a:lnTo>
                    <a:pt x="354" y="141"/>
                  </a:lnTo>
                  <a:lnTo>
                    <a:pt x="360" y="136"/>
                  </a:lnTo>
                  <a:lnTo>
                    <a:pt x="365" y="130"/>
                  </a:lnTo>
                  <a:lnTo>
                    <a:pt x="371" y="125"/>
                  </a:lnTo>
                  <a:lnTo>
                    <a:pt x="376" y="125"/>
                  </a:lnTo>
                  <a:lnTo>
                    <a:pt x="387" y="120"/>
                  </a:lnTo>
                  <a:lnTo>
                    <a:pt x="392" y="114"/>
                  </a:lnTo>
                  <a:lnTo>
                    <a:pt x="398" y="109"/>
                  </a:lnTo>
                  <a:lnTo>
                    <a:pt x="409" y="109"/>
                  </a:lnTo>
                  <a:lnTo>
                    <a:pt x="414" y="103"/>
                  </a:lnTo>
                  <a:lnTo>
                    <a:pt x="420" y="98"/>
                  </a:lnTo>
                  <a:lnTo>
                    <a:pt x="431" y="98"/>
                  </a:lnTo>
                  <a:lnTo>
                    <a:pt x="436" y="98"/>
                  </a:lnTo>
                  <a:lnTo>
                    <a:pt x="447" y="98"/>
                  </a:lnTo>
                  <a:lnTo>
                    <a:pt x="458" y="103"/>
                  </a:lnTo>
                  <a:lnTo>
                    <a:pt x="463" y="98"/>
                  </a:lnTo>
                  <a:lnTo>
                    <a:pt x="469" y="92"/>
                  </a:lnTo>
                  <a:lnTo>
                    <a:pt x="480" y="87"/>
                  </a:lnTo>
                  <a:lnTo>
                    <a:pt x="485" y="87"/>
                  </a:lnTo>
                  <a:lnTo>
                    <a:pt x="496" y="92"/>
                  </a:lnTo>
                  <a:lnTo>
                    <a:pt x="502" y="98"/>
                  </a:lnTo>
                  <a:lnTo>
                    <a:pt x="507" y="103"/>
                  </a:lnTo>
                  <a:lnTo>
                    <a:pt x="507" y="109"/>
                  </a:lnTo>
                  <a:lnTo>
                    <a:pt x="507" y="114"/>
                  </a:lnTo>
                  <a:lnTo>
                    <a:pt x="507" y="120"/>
                  </a:lnTo>
                  <a:lnTo>
                    <a:pt x="507" y="125"/>
                  </a:lnTo>
                  <a:lnTo>
                    <a:pt x="502" y="130"/>
                  </a:lnTo>
                  <a:lnTo>
                    <a:pt x="502" y="136"/>
                  </a:lnTo>
                  <a:lnTo>
                    <a:pt x="502" y="147"/>
                  </a:lnTo>
                  <a:lnTo>
                    <a:pt x="496" y="152"/>
                  </a:lnTo>
                  <a:lnTo>
                    <a:pt x="496" y="158"/>
                  </a:lnTo>
                  <a:lnTo>
                    <a:pt x="496" y="163"/>
                  </a:lnTo>
                  <a:lnTo>
                    <a:pt x="496" y="169"/>
                  </a:lnTo>
                  <a:lnTo>
                    <a:pt x="496" y="174"/>
                  </a:lnTo>
                  <a:lnTo>
                    <a:pt x="496" y="180"/>
                  </a:lnTo>
                  <a:lnTo>
                    <a:pt x="496" y="185"/>
                  </a:lnTo>
                  <a:lnTo>
                    <a:pt x="491" y="190"/>
                  </a:lnTo>
                  <a:lnTo>
                    <a:pt x="491" y="201"/>
                  </a:lnTo>
                  <a:lnTo>
                    <a:pt x="491" y="207"/>
                  </a:lnTo>
                  <a:lnTo>
                    <a:pt x="491" y="212"/>
                  </a:lnTo>
                  <a:lnTo>
                    <a:pt x="491" y="218"/>
                  </a:lnTo>
                  <a:lnTo>
                    <a:pt x="491" y="223"/>
                  </a:lnTo>
                  <a:lnTo>
                    <a:pt x="485" y="229"/>
                  </a:lnTo>
                  <a:lnTo>
                    <a:pt x="485" y="234"/>
                  </a:lnTo>
                  <a:lnTo>
                    <a:pt x="485" y="239"/>
                  </a:lnTo>
                  <a:lnTo>
                    <a:pt x="485" y="245"/>
                  </a:lnTo>
                  <a:lnTo>
                    <a:pt x="485" y="256"/>
                  </a:lnTo>
                  <a:lnTo>
                    <a:pt x="485" y="261"/>
                  </a:lnTo>
                  <a:lnTo>
                    <a:pt x="480" y="267"/>
                  </a:lnTo>
                  <a:lnTo>
                    <a:pt x="480" y="272"/>
                  </a:lnTo>
                  <a:lnTo>
                    <a:pt x="474" y="278"/>
                  </a:lnTo>
                  <a:lnTo>
                    <a:pt x="469" y="283"/>
                  </a:lnTo>
                  <a:lnTo>
                    <a:pt x="463" y="283"/>
                  </a:lnTo>
                  <a:lnTo>
                    <a:pt x="458" y="289"/>
                  </a:lnTo>
                  <a:lnTo>
                    <a:pt x="458" y="294"/>
                  </a:lnTo>
                  <a:lnTo>
                    <a:pt x="463" y="299"/>
                  </a:lnTo>
                  <a:lnTo>
                    <a:pt x="463" y="310"/>
                  </a:lnTo>
                  <a:lnTo>
                    <a:pt x="469" y="316"/>
                  </a:lnTo>
                  <a:lnTo>
                    <a:pt x="474" y="316"/>
                  </a:lnTo>
                  <a:lnTo>
                    <a:pt x="474" y="321"/>
                  </a:lnTo>
                  <a:lnTo>
                    <a:pt x="480" y="327"/>
                  </a:lnTo>
                  <a:lnTo>
                    <a:pt x="485" y="332"/>
                  </a:lnTo>
                  <a:lnTo>
                    <a:pt x="496" y="338"/>
                  </a:lnTo>
                  <a:lnTo>
                    <a:pt x="502" y="343"/>
                  </a:lnTo>
                  <a:lnTo>
                    <a:pt x="507" y="348"/>
                  </a:lnTo>
                  <a:lnTo>
                    <a:pt x="512" y="354"/>
                  </a:lnTo>
                  <a:lnTo>
                    <a:pt x="512" y="359"/>
                  </a:lnTo>
                  <a:lnTo>
                    <a:pt x="507" y="365"/>
                  </a:lnTo>
                  <a:lnTo>
                    <a:pt x="496" y="365"/>
                  </a:lnTo>
                  <a:lnTo>
                    <a:pt x="491" y="370"/>
                  </a:lnTo>
                  <a:lnTo>
                    <a:pt x="480" y="376"/>
                  </a:lnTo>
                  <a:lnTo>
                    <a:pt x="469" y="376"/>
                  </a:lnTo>
                  <a:lnTo>
                    <a:pt x="463" y="376"/>
                  </a:lnTo>
                  <a:lnTo>
                    <a:pt x="452" y="376"/>
                  </a:lnTo>
                  <a:lnTo>
                    <a:pt x="442" y="381"/>
                  </a:lnTo>
                  <a:lnTo>
                    <a:pt x="436" y="381"/>
                  </a:lnTo>
                  <a:lnTo>
                    <a:pt x="425" y="381"/>
                  </a:lnTo>
                  <a:lnTo>
                    <a:pt x="414" y="381"/>
                  </a:lnTo>
                  <a:lnTo>
                    <a:pt x="409" y="381"/>
                  </a:lnTo>
                  <a:lnTo>
                    <a:pt x="398" y="381"/>
                  </a:lnTo>
                  <a:lnTo>
                    <a:pt x="387" y="381"/>
                  </a:lnTo>
                  <a:lnTo>
                    <a:pt x="376" y="381"/>
                  </a:lnTo>
                  <a:lnTo>
                    <a:pt x="371" y="381"/>
                  </a:lnTo>
                  <a:lnTo>
                    <a:pt x="360" y="381"/>
                  </a:lnTo>
                  <a:lnTo>
                    <a:pt x="349" y="381"/>
                  </a:lnTo>
                  <a:lnTo>
                    <a:pt x="343" y="387"/>
                  </a:lnTo>
                  <a:lnTo>
                    <a:pt x="333" y="392"/>
                  </a:lnTo>
                  <a:lnTo>
                    <a:pt x="333" y="392"/>
                  </a:lnTo>
                  <a:lnTo>
                    <a:pt x="333" y="403"/>
                  </a:lnTo>
                  <a:lnTo>
                    <a:pt x="338" y="408"/>
                  </a:lnTo>
                  <a:lnTo>
                    <a:pt x="343" y="414"/>
                  </a:lnTo>
                  <a:lnTo>
                    <a:pt x="354" y="419"/>
                  </a:lnTo>
                  <a:lnTo>
                    <a:pt x="360" y="419"/>
                  </a:lnTo>
                  <a:lnTo>
                    <a:pt x="354" y="41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6" name=""/>
            <p:cNvSpPr/>
            <p:nvPr/>
          </p:nvSpPr>
          <p:spPr>
            <a:xfrm>
              <a:off x="2590920" y="4383000"/>
              <a:ext cx="33120" cy="17640"/>
            </a:xfrm>
            <a:custGeom>
              <a:avLst/>
              <a:gdLst/>
              <a:ahLst/>
              <a:rect l="l" t="t" r="r" b="b"/>
              <a:pathLst>
                <a:path w="21" h="11">
                  <a:moveTo>
                    <a:pt x="21" y="6"/>
                  </a:moveTo>
                  <a:lnTo>
                    <a:pt x="21" y="0"/>
                  </a:lnTo>
                  <a:lnTo>
                    <a:pt x="16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5" y="6"/>
                  </a:lnTo>
                  <a:lnTo>
                    <a:pt x="5" y="11"/>
                  </a:lnTo>
                  <a:lnTo>
                    <a:pt x="10" y="11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21" y="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7" name=""/>
            <p:cNvSpPr/>
            <p:nvPr/>
          </p:nvSpPr>
          <p:spPr>
            <a:xfrm>
              <a:off x="2987640" y="4097160"/>
              <a:ext cx="44640" cy="17640"/>
            </a:xfrm>
            <a:custGeom>
              <a:avLst/>
              <a:gdLst/>
              <a:ahLst/>
              <a:rect l="l" t="t" r="r" b="b"/>
              <a:pathLst>
                <a:path w="28" h="11">
                  <a:moveTo>
                    <a:pt x="6" y="11"/>
                  </a:moveTo>
                  <a:lnTo>
                    <a:pt x="0" y="11"/>
                  </a:lnTo>
                  <a:lnTo>
                    <a:pt x="22" y="6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28" y="6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8" name=""/>
            <p:cNvSpPr/>
            <p:nvPr/>
          </p:nvSpPr>
          <p:spPr>
            <a:xfrm>
              <a:off x="2997360" y="4124160"/>
              <a:ext cx="42840" cy="2556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16" y="5"/>
                  </a:move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27" y="5"/>
                  </a:lnTo>
                  <a:lnTo>
                    <a:pt x="27" y="5"/>
                  </a:lnTo>
                  <a:lnTo>
                    <a:pt x="27" y="5"/>
                  </a:lnTo>
                  <a:lnTo>
                    <a:pt x="27" y="5"/>
                  </a:lnTo>
                  <a:lnTo>
                    <a:pt x="27" y="11"/>
                  </a:lnTo>
                  <a:lnTo>
                    <a:pt x="27" y="11"/>
                  </a:lnTo>
                  <a:lnTo>
                    <a:pt x="22" y="11"/>
                  </a:lnTo>
                  <a:lnTo>
                    <a:pt x="22" y="11"/>
                  </a:lnTo>
                  <a:lnTo>
                    <a:pt x="22" y="11"/>
                  </a:lnTo>
                  <a:lnTo>
                    <a:pt x="22" y="11"/>
                  </a:lnTo>
                  <a:lnTo>
                    <a:pt x="22" y="11"/>
                  </a:lnTo>
                  <a:lnTo>
                    <a:pt x="22" y="11"/>
                  </a:lnTo>
                  <a:lnTo>
                    <a:pt x="22" y="11"/>
                  </a:lnTo>
                  <a:lnTo>
                    <a:pt x="16" y="11"/>
                  </a:lnTo>
                  <a:lnTo>
                    <a:pt x="16" y="11"/>
                  </a:lnTo>
                  <a:lnTo>
                    <a:pt x="16" y="11"/>
                  </a:lnTo>
                  <a:lnTo>
                    <a:pt x="16" y="11"/>
                  </a:lnTo>
                  <a:lnTo>
                    <a:pt x="16" y="11"/>
                  </a:lnTo>
                  <a:lnTo>
                    <a:pt x="16" y="11"/>
                  </a:lnTo>
                  <a:lnTo>
                    <a:pt x="16" y="11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11" y="16"/>
                  </a:lnTo>
                  <a:lnTo>
                    <a:pt x="11" y="16"/>
                  </a:lnTo>
                  <a:lnTo>
                    <a:pt x="11" y="16"/>
                  </a:lnTo>
                  <a:lnTo>
                    <a:pt x="11" y="16"/>
                  </a:lnTo>
                  <a:lnTo>
                    <a:pt x="5" y="16"/>
                  </a:lnTo>
                  <a:lnTo>
                    <a:pt x="5" y="16"/>
                  </a:lnTo>
                  <a:lnTo>
                    <a:pt x="5" y="16"/>
                  </a:lnTo>
                  <a:lnTo>
                    <a:pt x="5" y="11"/>
                  </a:lnTo>
                  <a:lnTo>
                    <a:pt x="5" y="11"/>
                  </a:lnTo>
                  <a:lnTo>
                    <a:pt x="5" y="11"/>
                  </a:lnTo>
                  <a:lnTo>
                    <a:pt x="0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6" y="0"/>
                  </a:lnTo>
                  <a:lnTo>
                    <a:pt x="16" y="5"/>
                  </a:lnTo>
                  <a:close/>
                  <a:moveTo>
                    <a:pt x="22" y="0"/>
                  </a:move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5"/>
                  </a:lnTo>
                  <a:lnTo>
                    <a:pt x="16" y="5"/>
                  </a:lnTo>
                  <a:lnTo>
                    <a:pt x="16" y="5"/>
                  </a:lnTo>
                  <a:lnTo>
                    <a:pt x="16" y="5"/>
                  </a:lnTo>
                  <a:lnTo>
                    <a:pt x="16" y="5"/>
                  </a:lnTo>
                  <a:lnTo>
                    <a:pt x="16" y="5"/>
                  </a:lnTo>
                  <a:lnTo>
                    <a:pt x="16" y="5"/>
                  </a:lnTo>
                  <a:lnTo>
                    <a:pt x="22" y="5"/>
                  </a:lnTo>
                  <a:lnTo>
                    <a:pt x="22" y="5"/>
                  </a:lnTo>
                  <a:lnTo>
                    <a:pt x="22" y="11"/>
                  </a:lnTo>
                  <a:lnTo>
                    <a:pt x="22" y="5"/>
                  </a:lnTo>
                  <a:lnTo>
                    <a:pt x="22" y="5"/>
                  </a:lnTo>
                  <a:lnTo>
                    <a:pt x="22" y="5"/>
                  </a:lnTo>
                  <a:lnTo>
                    <a:pt x="22" y="5"/>
                  </a:lnTo>
                  <a:lnTo>
                    <a:pt x="22" y="5"/>
                  </a:lnTo>
                  <a:lnTo>
                    <a:pt x="22" y="5"/>
                  </a:lnTo>
                  <a:lnTo>
                    <a:pt x="22" y="5"/>
                  </a:lnTo>
                  <a:lnTo>
                    <a:pt x="22" y="5"/>
                  </a:lnTo>
                  <a:lnTo>
                    <a:pt x="22" y="5"/>
                  </a:lnTo>
                  <a:lnTo>
                    <a:pt x="22" y="5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0"/>
                  </a:lnTo>
                  <a:close/>
                  <a:moveTo>
                    <a:pt x="11" y="5"/>
                  </a:move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11"/>
                  </a:lnTo>
                  <a:lnTo>
                    <a:pt x="5" y="11"/>
                  </a:lnTo>
                  <a:lnTo>
                    <a:pt x="5" y="11"/>
                  </a:lnTo>
                  <a:lnTo>
                    <a:pt x="5" y="11"/>
                  </a:lnTo>
                  <a:lnTo>
                    <a:pt x="5" y="11"/>
                  </a:lnTo>
                  <a:lnTo>
                    <a:pt x="5" y="11"/>
                  </a:lnTo>
                  <a:lnTo>
                    <a:pt x="5" y="11"/>
                  </a:lnTo>
                  <a:lnTo>
                    <a:pt x="5" y="11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16" y="11"/>
                  </a:lnTo>
                  <a:lnTo>
                    <a:pt x="16" y="11"/>
                  </a:lnTo>
                  <a:lnTo>
                    <a:pt x="16" y="11"/>
                  </a:lnTo>
                  <a:lnTo>
                    <a:pt x="16" y="11"/>
                  </a:lnTo>
                  <a:lnTo>
                    <a:pt x="16" y="5"/>
                  </a:lnTo>
                  <a:lnTo>
                    <a:pt x="16" y="5"/>
                  </a:lnTo>
                  <a:lnTo>
                    <a:pt x="16" y="5"/>
                  </a:lnTo>
                  <a:lnTo>
                    <a:pt x="16" y="5"/>
                  </a:lnTo>
                  <a:lnTo>
                    <a:pt x="11" y="5"/>
                  </a:lnTo>
                  <a:lnTo>
                    <a:pt x="11" y="5"/>
                  </a:lnTo>
                  <a:lnTo>
                    <a:pt x="11" y="5"/>
                  </a:lnTo>
                  <a:lnTo>
                    <a:pt x="11" y="5"/>
                  </a:lnTo>
                  <a:lnTo>
                    <a:pt x="11" y="5"/>
                  </a:lnTo>
                  <a:lnTo>
                    <a:pt x="11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9" name=""/>
            <p:cNvSpPr/>
            <p:nvPr/>
          </p:nvSpPr>
          <p:spPr>
            <a:xfrm>
              <a:off x="3014640" y="4149720"/>
              <a:ext cx="34920" cy="25560"/>
            </a:xfrm>
            <a:custGeom>
              <a:avLst/>
              <a:gdLst/>
              <a:ahLst/>
              <a:rect l="l" t="t" r="r" b="b"/>
              <a:pathLst>
                <a:path w="22" h="16">
                  <a:moveTo>
                    <a:pt x="5" y="0"/>
                  </a:move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6"/>
                  </a:lnTo>
                  <a:lnTo>
                    <a:pt x="22" y="6"/>
                  </a:lnTo>
                  <a:lnTo>
                    <a:pt x="22" y="6"/>
                  </a:lnTo>
                  <a:lnTo>
                    <a:pt x="22" y="6"/>
                  </a:lnTo>
                  <a:lnTo>
                    <a:pt x="22" y="6"/>
                  </a:lnTo>
                  <a:lnTo>
                    <a:pt x="22" y="6"/>
                  </a:lnTo>
                  <a:lnTo>
                    <a:pt x="22" y="11"/>
                  </a:lnTo>
                  <a:lnTo>
                    <a:pt x="22" y="11"/>
                  </a:lnTo>
                  <a:lnTo>
                    <a:pt x="22" y="11"/>
                  </a:lnTo>
                  <a:lnTo>
                    <a:pt x="22" y="11"/>
                  </a:lnTo>
                  <a:lnTo>
                    <a:pt x="22" y="11"/>
                  </a:lnTo>
                  <a:lnTo>
                    <a:pt x="22" y="11"/>
                  </a:lnTo>
                  <a:lnTo>
                    <a:pt x="16" y="11"/>
                  </a:lnTo>
                  <a:lnTo>
                    <a:pt x="16" y="11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11" y="16"/>
                  </a:lnTo>
                  <a:lnTo>
                    <a:pt x="11" y="16"/>
                  </a:lnTo>
                  <a:lnTo>
                    <a:pt x="11" y="16"/>
                  </a:lnTo>
                  <a:lnTo>
                    <a:pt x="5" y="16"/>
                  </a:lnTo>
                  <a:lnTo>
                    <a:pt x="5" y="16"/>
                  </a:lnTo>
                  <a:lnTo>
                    <a:pt x="5" y="16"/>
                  </a:lnTo>
                  <a:lnTo>
                    <a:pt x="5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5" y="0"/>
                  </a:lnTo>
                  <a:lnTo>
                    <a:pt x="5" y="0"/>
                  </a:lnTo>
                  <a:close/>
                  <a:moveTo>
                    <a:pt x="11" y="6"/>
                  </a:moveTo>
                  <a:lnTo>
                    <a:pt x="5" y="6"/>
                  </a:lnTo>
                  <a:lnTo>
                    <a:pt x="5" y="6"/>
                  </a:lnTo>
                  <a:lnTo>
                    <a:pt x="5" y="6"/>
                  </a:lnTo>
                  <a:lnTo>
                    <a:pt x="0" y="6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5" y="16"/>
                  </a:lnTo>
                  <a:lnTo>
                    <a:pt x="5" y="16"/>
                  </a:lnTo>
                  <a:lnTo>
                    <a:pt x="5" y="16"/>
                  </a:lnTo>
                  <a:lnTo>
                    <a:pt x="5" y="16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16" y="11"/>
                  </a:lnTo>
                  <a:lnTo>
                    <a:pt x="16" y="11"/>
                  </a:lnTo>
                  <a:lnTo>
                    <a:pt x="16" y="11"/>
                  </a:lnTo>
                  <a:lnTo>
                    <a:pt x="22" y="6"/>
                  </a:lnTo>
                  <a:lnTo>
                    <a:pt x="22" y="6"/>
                  </a:lnTo>
                  <a:lnTo>
                    <a:pt x="22" y="6"/>
                  </a:lnTo>
                  <a:lnTo>
                    <a:pt x="22" y="6"/>
                  </a:lnTo>
                  <a:lnTo>
                    <a:pt x="22" y="6"/>
                  </a:lnTo>
                  <a:lnTo>
                    <a:pt x="22" y="6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1" y="0"/>
                  </a:lnTo>
                  <a:lnTo>
                    <a:pt x="11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0" name=""/>
            <p:cNvSpPr/>
            <p:nvPr/>
          </p:nvSpPr>
          <p:spPr>
            <a:xfrm flipV="1">
              <a:off x="2997360" y="4071960"/>
              <a:ext cx="1440" cy="7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1" name=""/>
            <p:cNvSpPr/>
            <p:nvPr/>
          </p:nvSpPr>
          <p:spPr>
            <a:xfrm>
              <a:off x="2944800" y="3743280"/>
              <a:ext cx="441360" cy="493920"/>
            </a:xfrm>
            <a:custGeom>
              <a:avLst/>
              <a:gdLst/>
              <a:ahLst/>
              <a:rect l="l" t="t" r="r" b="b"/>
              <a:pathLst>
                <a:path w="278" h="311">
                  <a:moveTo>
                    <a:pt x="33" y="207"/>
                  </a:moveTo>
                  <a:lnTo>
                    <a:pt x="33" y="202"/>
                  </a:lnTo>
                  <a:lnTo>
                    <a:pt x="33" y="196"/>
                  </a:lnTo>
                  <a:lnTo>
                    <a:pt x="33" y="191"/>
                  </a:lnTo>
                  <a:lnTo>
                    <a:pt x="33" y="180"/>
                  </a:lnTo>
                  <a:lnTo>
                    <a:pt x="38" y="174"/>
                  </a:lnTo>
                  <a:lnTo>
                    <a:pt x="38" y="169"/>
                  </a:lnTo>
                  <a:lnTo>
                    <a:pt x="38" y="163"/>
                  </a:lnTo>
                  <a:lnTo>
                    <a:pt x="38" y="153"/>
                  </a:lnTo>
                  <a:lnTo>
                    <a:pt x="38" y="147"/>
                  </a:lnTo>
                  <a:lnTo>
                    <a:pt x="38" y="142"/>
                  </a:lnTo>
                  <a:lnTo>
                    <a:pt x="38" y="136"/>
                  </a:lnTo>
                  <a:lnTo>
                    <a:pt x="38" y="125"/>
                  </a:lnTo>
                  <a:lnTo>
                    <a:pt x="38" y="120"/>
                  </a:lnTo>
                  <a:lnTo>
                    <a:pt x="38" y="114"/>
                  </a:lnTo>
                  <a:lnTo>
                    <a:pt x="33" y="109"/>
                  </a:lnTo>
                  <a:lnTo>
                    <a:pt x="33" y="98"/>
                  </a:lnTo>
                  <a:lnTo>
                    <a:pt x="27" y="93"/>
                  </a:lnTo>
                  <a:lnTo>
                    <a:pt x="27" y="87"/>
                  </a:lnTo>
                  <a:lnTo>
                    <a:pt x="27" y="82"/>
                  </a:lnTo>
                  <a:lnTo>
                    <a:pt x="27" y="76"/>
                  </a:lnTo>
                  <a:lnTo>
                    <a:pt x="27" y="65"/>
                  </a:lnTo>
                  <a:lnTo>
                    <a:pt x="33" y="60"/>
                  </a:lnTo>
                  <a:lnTo>
                    <a:pt x="27" y="54"/>
                  </a:lnTo>
                  <a:lnTo>
                    <a:pt x="27" y="43"/>
                  </a:lnTo>
                  <a:lnTo>
                    <a:pt x="22" y="38"/>
                  </a:lnTo>
                  <a:lnTo>
                    <a:pt x="16" y="33"/>
                  </a:lnTo>
                  <a:lnTo>
                    <a:pt x="11" y="27"/>
                  </a:lnTo>
                  <a:lnTo>
                    <a:pt x="0" y="22"/>
                  </a:lnTo>
                  <a:lnTo>
                    <a:pt x="0" y="16"/>
                  </a:lnTo>
                  <a:lnTo>
                    <a:pt x="0" y="5"/>
                  </a:lnTo>
                  <a:lnTo>
                    <a:pt x="6" y="0"/>
                  </a:lnTo>
                  <a:lnTo>
                    <a:pt x="6" y="0"/>
                  </a:lnTo>
                  <a:lnTo>
                    <a:pt x="11" y="5"/>
                  </a:lnTo>
                  <a:lnTo>
                    <a:pt x="11" y="11"/>
                  </a:lnTo>
                  <a:lnTo>
                    <a:pt x="11" y="22"/>
                  </a:lnTo>
                  <a:lnTo>
                    <a:pt x="22" y="27"/>
                  </a:lnTo>
                  <a:lnTo>
                    <a:pt x="27" y="33"/>
                  </a:lnTo>
                  <a:lnTo>
                    <a:pt x="38" y="33"/>
                  </a:lnTo>
                  <a:lnTo>
                    <a:pt x="44" y="38"/>
                  </a:lnTo>
                  <a:lnTo>
                    <a:pt x="44" y="43"/>
                  </a:lnTo>
                  <a:lnTo>
                    <a:pt x="49" y="54"/>
                  </a:lnTo>
                  <a:lnTo>
                    <a:pt x="49" y="60"/>
                  </a:lnTo>
                  <a:lnTo>
                    <a:pt x="55" y="65"/>
                  </a:lnTo>
                  <a:lnTo>
                    <a:pt x="60" y="71"/>
                  </a:lnTo>
                  <a:lnTo>
                    <a:pt x="66" y="76"/>
                  </a:lnTo>
                  <a:lnTo>
                    <a:pt x="71" y="82"/>
                  </a:lnTo>
                  <a:lnTo>
                    <a:pt x="82" y="87"/>
                  </a:lnTo>
                  <a:lnTo>
                    <a:pt x="93" y="87"/>
                  </a:lnTo>
                  <a:lnTo>
                    <a:pt x="98" y="93"/>
                  </a:lnTo>
                  <a:lnTo>
                    <a:pt x="109" y="98"/>
                  </a:lnTo>
                  <a:lnTo>
                    <a:pt x="115" y="103"/>
                  </a:lnTo>
                  <a:lnTo>
                    <a:pt x="120" y="109"/>
                  </a:lnTo>
                  <a:lnTo>
                    <a:pt x="126" y="114"/>
                  </a:lnTo>
                  <a:lnTo>
                    <a:pt x="136" y="120"/>
                  </a:lnTo>
                  <a:lnTo>
                    <a:pt x="142" y="125"/>
                  </a:lnTo>
                  <a:lnTo>
                    <a:pt x="147" y="125"/>
                  </a:lnTo>
                  <a:lnTo>
                    <a:pt x="158" y="131"/>
                  </a:lnTo>
                  <a:lnTo>
                    <a:pt x="164" y="136"/>
                  </a:lnTo>
                  <a:lnTo>
                    <a:pt x="169" y="142"/>
                  </a:lnTo>
                  <a:lnTo>
                    <a:pt x="175" y="147"/>
                  </a:lnTo>
                  <a:lnTo>
                    <a:pt x="186" y="153"/>
                  </a:lnTo>
                  <a:lnTo>
                    <a:pt x="191" y="158"/>
                  </a:lnTo>
                  <a:lnTo>
                    <a:pt x="196" y="163"/>
                  </a:lnTo>
                  <a:lnTo>
                    <a:pt x="207" y="169"/>
                  </a:lnTo>
                  <a:lnTo>
                    <a:pt x="213" y="174"/>
                  </a:lnTo>
                  <a:lnTo>
                    <a:pt x="218" y="180"/>
                  </a:lnTo>
                  <a:lnTo>
                    <a:pt x="224" y="185"/>
                  </a:lnTo>
                  <a:lnTo>
                    <a:pt x="229" y="191"/>
                  </a:lnTo>
                  <a:lnTo>
                    <a:pt x="235" y="196"/>
                  </a:lnTo>
                  <a:lnTo>
                    <a:pt x="245" y="202"/>
                  </a:lnTo>
                  <a:lnTo>
                    <a:pt x="251" y="207"/>
                  </a:lnTo>
                  <a:lnTo>
                    <a:pt x="262" y="207"/>
                  </a:lnTo>
                  <a:lnTo>
                    <a:pt x="267" y="212"/>
                  </a:lnTo>
                  <a:lnTo>
                    <a:pt x="273" y="218"/>
                  </a:lnTo>
                  <a:lnTo>
                    <a:pt x="278" y="223"/>
                  </a:lnTo>
                  <a:lnTo>
                    <a:pt x="278" y="234"/>
                  </a:lnTo>
                  <a:lnTo>
                    <a:pt x="278" y="240"/>
                  </a:lnTo>
                  <a:lnTo>
                    <a:pt x="278" y="245"/>
                  </a:lnTo>
                  <a:lnTo>
                    <a:pt x="278" y="256"/>
                  </a:lnTo>
                  <a:lnTo>
                    <a:pt x="278" y="262"/>
                  </a:lnTo>
                  <a:lnTo>
                    <a:pt x="273" y="267"/>
                  </a:lnTo>
                  <a:lnTo>
                    <a:pt x="267" y="272"/>
                  </a:lnTo>
                  <a:lnTo>
                    <a:pt x="262" y="278"/>
                  </a:lnTo>
                  <a:lnTo>
                    <a:pt x="256" y="283"/>
                  </a:lnTo>
                  <a:lnTo>
                    <a:pt x="245" y="289"/>
                  </a:lnTo>
                  <a:lnTo>
                    <a:pt x="240" y="289"/>
                  </a:lnTo>
                  <a:lnTo>
                    <a:pt x="229" y="294"/>
                  </a:lnTo>
                  <a:lnTo>
                    <a:pt x="218" y="294"/>
                  </a:lnTo>
                  <a:lnTo>
                    <a:pt x="207" y="300"/>
                  </a:lnTo>
                  <a:lnTo>
                    <a:pt x="196" y="300"/>
                  </a:lnTo>
                  <a:lnTo>
                    <a:pt x="186" y="300"/>
                  </a:lnTo>
                  <a:lnTo>
                    <a:pt x="180" y="305"/>
                  </a:lnTo>
                  <a:lnTo>
                    <a:pt x="169" y="305"/>
                  </a:lnTo>
                  <a:lnTo>
                    <a:pt x="158" y="305"/>
                  </a:lnTo>
                  <a:lnTo>
                    <a:pt x="147" y="311"/>
                  </a:lnTo>
                  <a:lnTo>
                    <a:pt x="136" y="311"/>
                  </a:lnTo>
                  <a:lnTo>
                    <a:pt x="126" y="311"/>
                  </a:lnTo>
                  <a:lnTo>
                    <a:pt x="120" y="311"/>
                  </a:lnTo>
                  <a:lnTo>
                    <a:pt x="109" y="305"/>
                  </a:lnTo>
                  <a:lnTo>
                    <a:pt x="98" y="300"/>
                  </a:lnTo>
                  <a:lnTo>
                    <a:pt x="87" y="300"/>
                  </a:lnTo>
                  <a:lnTo>
                    <a:pt x="82" y="294"/>
                  </a:lnTo>
                  <a:lnTo>
                    <a:pt x="71" y="289"/>
                  </a:lnTo>
                  <a:lnTo>
                    <a:pt x="66" y="283"/>
                  </a:lnTo>
                  <a:lnTo>
                    <a:pt x="60" y="27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2" name=""/>
            <p:cNvSpPr/>
            <p:nvPr/>
          </p:nvSpPr>
          <p:spPr>
            <a:xfrm>
              <a:off x="3724200" y="3838680"/>
              <a:ext cx="34920" cy="17280"/>
            </a:xfrm>
            <a:custGeom>
              <a:avLst/>
              <a:gdLst/>
              <a:ahLst/>
              <a:rect l="l" t="t" r="r" b="b"/>
              <a:pathLst>
                <a:path w="22" h="11">
                  <a:moveTo>
                    <a:pt x="0" y="5"/>
                  </a:moveTo>
                  <a:lnTo>
                    <a:pt x="0" y="5"/>
                  </a:lnTo>
                  <a:lnTo>
                    <a:pt x="16" y="5"/>
                  </a:lnTo>
                  <a:lnTo>
                    <a:pt x="16" y="5"/>
                  </a:lnTo>
                  <a:lnTo>
                    <a:pt x="16" y="5"/>
                  </a:lnTo>
                  <a:lnTo>
                    <a:pt x="16" y="5"/>
                  </a:lnTo>
                  <a:lnTo>
                    <a:pt x="16" y="5"/>
                  </a:lnTo>
                  <a:lnTo>
                    <a:pt x="16" y="5"/>
                  </a:lnTo>
                  <a:lnTo>
                    <a:pt x="16" y="5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5"/>
                  </a:lnTo>
                  <a:lnTo>
                    <a:pt x="16" y="5"/>
                  </a:lnTo>
                  <a:lnTo>
                    <a:pt x="16" y="5"/>
                  </a:lnTo>
                  <a:lnTo>
                    <a:pt x="22" y="5"/>
                  </a:lnTo>
                  <a:lnTo>
                    <a:pt x="22" y="5"/>
                  </a:lnTo>
                  <a:lnTo>
                    <a:pt x="22" y="11"/>
                  </a:lnTo>
                  <a:lnTo>
                    <a:pt x="22" y="11"/>
                  </a:lnTo>
                  <a:lnTo>
                    <a:pt x="22" y="11"/>
                  </a:lnTo>
                  <a:lnTo>
                    <a:pt x="22" y="11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3" name=""/>
            <p:cNvSpPr/>
            <p:nvPr/>
          </p:nvSpPr>
          <p:spPr>
            <a:xfrm>
              <a:off x="3714840" y="3863880"/>
              <a:ext cx="34920" cy="27000"/>
            </a:xfrm>
            <a:custGeom>
              <a:avLst/>
              <a:gdLst/>
              <a:ahLst/>
              <a:rect l="l" t="t" r="r" b="b"/>
              <a:pathLst>
                <a:path w="22" h="17">
                  <a:moveTo>
                    <a:pt x="17" y="6"/>
                  </a:moveTo>
                  <a:lnTo>
                    <a:pt x="17" y="6"/>
                  </a:lnTo>
                  <a:lnTo>
                    <a:pt x="17" y="6"/>
                  </a:lnTo>
                  <a:lnTo>
                    <a:pt x="17" y="6"/>
                  </a:lnTo>
                  <a:lnTo>
                    <a:pt x="17" y="6"/>
                  </a:lnTo>
                  <a:lnTo>
                    <a:pt x="17" y="6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22" y="0"/>
                  </a:lnTo>
                  <a:lnTo>
                    <a:pt x="22" y="6"/>
                  </a:lnTo>
                  <a:lnTo>
                    <a:pt x="22" y="6"/>
                  </a:lnTo>
                  <a:lnTo>
                    <a:pt x="22" y="6"/>
                  </a:lnTo>
                  <a:lnTo>
                    <a:pt x="22" y="6"/>
                  </a:lnTo>
                  <a:lnTo>
                    <a:pt x="22" y="6"/>
                  </a:lnTo>
                  <a:lnTo>
                    <a:pt x="22" y="6"/>
                  </a:lnTo>
                  <a:lnTo>
                    <a:pt x="22" y="11"/>
                  </a:lnTo>
                  <a:lnTo>
                    <a:pt x="22" y="11"/>
                  </a:lnTo>
                  <a:lnTo>
                    <a:pt x="22" y="11"/>
                  </a:lnTo>
                  <a:lnTo>
                    <a:pt x="22" y="11"/>
                  </a:lnTo>
                  <a:lnTo>
                    <a:pt x="22" y="17"/>
                  </a:lnTo>
                  <a:lnTo>
                    <a:pt x="22" y="17"/>
                  </a:lnTo>
                  <a:lnTo>
                    <a:pt x="22" y="17"/>
                  </a:lnTo>
                  <a:lnTo>
                    <a:pt x="22" y="17"/>
                  </a:lnTo>
                  <a:lnTo>
                    <a:pt x="17" y="17"/>
                  </a:lnTo>
                  <a:lnTo>
                    <a:pt x="17" y="17"/>
                  </a:lnTo>
                  <a:lnTo>
                    <a:pt x="17" y="17"/>
                  </a:lnTo>
                  <a:lnTo>
                    <a:pt x="17" y="17"/>
                  </a:lnTo>
                  <a:lnTo>
                    <a:pt x="17" y="17"/>
                  </a:lnTo>
                  <a:lnTo>
                    <a:pt x="17" y="17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6" y="17"/>
                  </a:lnTo>
                  <a:lnTo>
                    <a:pt x="6" y="17"/>
                  </a:lnTo>
                  <a:lnTo>
                    <a:pt x="6" y="17"/>
                  </a:lnTo>
                  <a:lnTo>
                    <a:pt x="6" y="17"/>
                  </a:lnTo>
                  <a:lnTo>
                    <a:pt x="6" y="17"/>
                  </a:lnTo>
                  <a:lnTo>
                    <a:pt x="0" y="17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7" y="6"/>
                  </a:lnTo>
                  <a:close/>
                  <a:moveTo>
                    <a:pt x="17" y="6"/>
                  </a:moveTo>
                  <a:lnTo>
                    <a:pt x="17" y="6"/>
                  </a:lnTo>
                  <a:lnTo>
                    <a:pt x="17" y="6"/>
                  </a:lnTo>
                  <a:lnTo>
                    <a:pt x="17" y="6"/>
                  </a:lnTo>
                  <a:lnTo>
                    <a:pt x="17" y="6"/>
                  </a:lnTo>
                  <a:lnTo>
                    <a:pt x="17" y="6"/>
                  </a:lnTo>
                  <a:lnTo>
                    <a:pt x="17" y="6"/>
                  </a:lnTo>
                  <a:lnTo>
                    <a:pt x="17" y="6"/>
                  </a:lnTo>
                  <a:lnTo>
                    <a:pt x="17" y="11"/>
                  </a:lnTo>
                  <a:lnTo>
                    <a:pt x="17" y="11"/>
                  </a:lnTo>
                  <a:lnTo>
                    <a:pt x="17" y="11"/>
                  </a:lnTo>
                  <a:lnTo>
                    <a:pt x="17" y="11"/>
                  </a:lnTo>
                  <a:lnTo>
                    <a:pt x="17" y="11"/>
                  </a:lnTo>
                  <a:lnTo>
                    <a:pt x="17" y="11"/>
                  </a:lnTo>
                  <a:lnTo>
                    <a:pt x="17" y="11"/>
                  </a:lnTo>
                  <a:lnTo>
                    <a:pt x="17" y="11"/>
                  </a:lnTo>
                  <a:lnTo>
                    <a:pt x="17" y="11"/>
                  </a:lnTo>
                  <a:lnTo>
                    <a:pt x="17" y="17"/>
                  </a:lnTo>
                  <a:lnTo>
                    <a:pt x="17" y="11"/>
                  </a:lnTo>
                  <a:lnTo>
                    <a:pt x="22" y="11"/>
                  </a:lnTo>
                  <a:lnTo>
                    <a:pt x="22" y="11"/>
                  </a:lnTo>
                  <a:lnTo>
                    <a:pt x="22" y="11"/>
                  </a:lnTo>
                  <a:lnTo>
                    <a:pt x="22" y="11"/>
                  </a:lnTo>
                  <a:lnTo>
                    <a:pt x="22" y="11"/>
                  </a:lnTo>
                  <a:lnTo>
                    <a:pt x="22" y="11"/>
                  </a:lnTo>
                  <a:lnTo>
                    <a:pt x="22" y="11"/>
                  </a:lnTo>
                  <a:lnTo>
                    <a:pt x="22" y="11"/>
                  </a:lnTo>
                  <a:lnTo>
                    <a:pt x="22" y="6"/>
                  </a:lnTo>
                  <a:lnTo>
                    <a:pt x="22" y="6"/>
                  </a:lnTo>
                  <a:lnTo>
                    <a:pt x="22" y="6"/>
                  </a:lnTo>
                  <a:lnTo>
                    <a:pt x="22" y="6"/>
                  </a:lnTo>
                  <a:lnTo>
                    <a:pt x="22" y="6"/>
                  </a:lnTo>
                  <a:lnTo>
                    <a:pt x="17" y="6"/>
                  </a:lnTo>
                  <a:close/>
                  <a:moveTo>
                    <a:pt x="6" y="6"/>
                  </a:move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6" y="11"/>
                  </a:lnTo>
                  <a:lnTo>
                    <a:pt x="6" y="11"/>
                  </a:lnTo>
                  <a:lnTo>
                    <a:pt x="6" y="11"/>
                  </a:lnTo>
                  <a:lnTo>
                    <a:pt x="6" y="11"/>
                  </a:lnTo>
                  <a:lnTo>
                    <a:pt x="6" y="11"/>
                  </a:lnTo>
                  <a:lnTo>
                    <a:pt x="6" y="11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4" name=""/>
            <p:cNvSpPr/>
            <p:nvPr/>
          </p:nvSpPr>
          <p:spPr>
            <a:xfrm>
              <a:off x="3706920" y="3890880"/>
              <a:ext cx="42840" cy="33480"/>
            </a:xfrm>
            <a:custGeom>
              <a:avLst/>
              <a:gdLst/>
              <a:ahLst/>
              <a:rect l="l" t="t" r="r" b="b"/>
              <a:pathLst>
                <a:path w="27" h="21">
                  <a:moveTo>
                    <a:pt x="16" y="5"/>
                  </a:moveTo>
                  <a:lnTo>
                    <a:pt x="16" y="5"/>
                  </a:lnTo>
                  <a:lnTo>
                    <a:pt x="22" y="5"/>
                  </a:lnTo>
                  <a:lnTo>
                    <a:pt x="22" y="5"/>
                  </a:lnTo>
                  <a:lnTo>
                    <a:pt x="22" y="5"/>
                  </a:lnTo>
                  <a:lnTo>
                    <a:pt x="22" y="5"/>
                  </a:lnTo>
                  <a:lnTo>
                    <a:pt x="22" y="5"/>
                  </a:lnTo>
                  <a:lnTo>
                    <a:pt x="27" y="5"/>
                  </a:lnTo>
                  <a:lnTo>
                    <a:pt x="27" y="10"/>
                  </a:lnTo>
                  <a:lnTo>
                    <a:pt x="27" y="10"/>
                  </a:lnTo>
                  <a:lnTo>
                    <a:pt x="27" y="10"/>
                  </a:lnTo>
                  <a:lnTo>
                    <a:pt x="27" y="10"/>
                  </a:lnTo>
                  <a:lnTo>
                    <a:pt x="27" y="10"/>
                  </a:lnTo>
                  <a:lnTo>
                    <a:pt x="27" y="16"/>
                  </a:lnTo>
                  <a:lnTo>
                    <a:pt x="27" y="16"/>
                  </a:lnTo>
                  <a:lnTo>
                    <a:pt x="27" y="16"/>
                  </a:lnTo>
                  <a:lnTo>
                    <a:pt x="27" y="16"/>
                  </a:lnTo>
                  <a:lnTo>
                    <a:pt x="27" y="16"/>
                  </a:lnTo>
                  <a:lnTo>
                    <a:pt x="22" y="16"/>
                  </a:lnTo>
                  <a:lnTo>
                    <a:pt x="22" y="16"/>
                  </a:lnTo>
                  <a:lnTo>
                    <a:pt x="22" y="16"/>
                  </a:lnTo>
                  <a:lnTo>
                    <a:pt x="22" y="16"/>
                  </a:lnTo>
                  <a:lnTo>
                    <a:pt x="22" y="16"/>
                  </a:lnTo>
                  <a:lnTo>
                    <a:pt x="22" y="16"/>
                  </a:lnTo>
                  <a:lnTo>
                    <a:pt x="16" y="21"/>
                  </a:lnTo>
                  <a:lnTo>
                    <a:pt x="16" y="21"/>
                  </a:lnTo>
                  <a:lnTo>
                    <a:pt x="16" y="21"/>
                  </a:lnTo>
                  <a:lnTo>
                    <a:pt x="16" y="16"/>
                  </a:lnTo>
                  <a:lnTo>
                    <a:pt x="11" y="16"/>
                  </a:lnTo>
                  <a:lnTo>
                    <a:pt x="11" y="16"/>
                  </a:lnTo>
                  <a:lnTo>
                    <a:pt x="11" y="16"/>
                  </a:lnTo>
                  <a:lnTo>
                    <a:pt x="5" y="16"/>
                  </a:lnTo>
                  <a:lnTo>
                    <a:pt x="5" y="16"/>
                  </a:lnTo>
                  <a:lnTo>
                    <a:pt x="5" y="16"/>
                  </a:lnTo>
                  <a:lnTo>
                    <a:pt x="5" y="16"/>
                  </a:lnTo>
                  <a:lnTo>
                    <a:pt x="5" y="16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6" y="5"/>
                  </a:lnTo>
                  <a:close/>
                  <a:moveTo>
                    <a:pt x="16" y="5"/>
                  </a:moveTo>
                  <a:lnTo>
                    <a:pt x="11" y="5"/>
                  </a:lnTo>
                  <a:lnTo>
                    <a:pt x="11" y="5"/>
                  </a:lnTo>
                  <a:lnTo>
                    <a:pt x="11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10"/>
                  </a:lnTo>
                  <a:lnTo>
                    <a:pt x="5" y="10"/>
                  </a:lnTo>
                  <a:lnTo>
                    <a:pt x="5" y="10"/>
                  </a:lnTo>
                  <a:lnTo>
                    <a:pt x="5" y="10"/>
                  </a:lnTo>
                  <a:lnTo>
                    <a:pt x="5" y="10"/>
                  </a:lnTo>
                  <a:lnTo>
                    <a:pt x="5" y="10"/>
                  </a:lnTo>
                  <a:lnTo>
                    <a:pt x="5" y="16"/>
                  </a:lnTo>
                  <a:lnTo>
                    <a:pt x="11" y="16"/>
                  </a:lnTo>
                  <a:lnTo>
                    <a:pt x="11" y="16"/>
                  </a:lnTo>
                  <a:lnTo>
                    <a:pt x="11" y="16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22" y="16"/>
                  </a:lnTo>
                  <a:lnTo>
                    <a:pt x="22" y="16"/>
                  </a:lnTo>
                  <a:lnTo>
                    <a:pt x="22" y="16"/>
                  </a:lnTo>
                  <a:lnTo>
                    <a:pt x="22" y="16"/>
                  </a:lnTo>
                  <a:lnTo>
                    <a:pt x="22" y="10"/>
                  </a:lnTo>
                  <a:lnTo>
                    <a:pt x="22" y="10"/>
                  </a:lnTo>
                  <a:lnTo>
                    <a:pt x="22" y="10"/>
                  </a:lnTo>
                  <a:lnTo>
                    <a:pt x="22" y="10"/>
                  </a:lnTo>
                  <a:lnTo>
                    <a:pt x="22" y="10"/>
                  </a:lnTo>
                  <a:lnTo>
                    <a:pt x="22" y="10"/>
                  </a:lnTo>
                  <a:lnTo>
                    <a:pt x="22" y="5"/>
                  </a:lnTo>
                  <a:lnTo>
                    <a:pt x="22" y="5"/>
                  </a:lnTo>
                  <a:lnTo>
                    <a:pt x="16" y="5"/>
                  </a:lnTo>
                  <a:lnTo>
                    <a:pt x="16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5" name=""/>
            <p:cNvSpPr/>
            <p:nvPr/>
          </p:nvSpPr>
          <p:spPr>
            <a:xfrm>
              <a:off x="3741840" y="3821040"/>
              <a:ext cx="14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6" name=""/>
            <p:cNvSpPr/>
            <p:nvPr/>
          </p:nvSpPr>
          <p:spPr>
            <a:xfrm>
              <a:off x="3689280" y="3743280"/>
              <a:ext cx="60480" cy="225360"/>
            </a:xfrm>
            <a:custGeom>
              <a:avLst/>
              <a:gdLst/>
              <a:ahLst/>
              <a:rect l="l" t="t" r="r" b="b"/>
              <a:pathLst>
                <a:path w="38" h="142">
                  <a:moveTo>
                    <a:pt x="33" y="49"/>
                  </a:moveTo>
                  <a:lnTo>
                    <a:pt x="38" y="38"/>
                  </a:lnTo>
                  <a:lnTo>
                    <a:pt x="38" y="33"/>
                  </a:lnTo>
                  <a:lnTo>
                    <a:pt x="33" y="22"/>
                  </a:lnTo>
                  <a:lnTo>
                    <a:pt x="27" y="11"/>
                  </a:lnTo>
                  <a:lnTo>
                    <a:pt x="22" y="0"/>
                  </a:lnTo>
                  <a:lnTo>
                    <a:pt x="16" y="0"/>
                  </a:lnTo>
                  <a:lnTo>
                    <a:pt x="11" y="5"/>
                  </a:lnTo>
                  <a:lnTo>
                    <a:pt x="5" y="16"/>
                  </a:lnTo>
                  <a:lnTo>
                    <a:pt x="5" y="27"/>
                  </a:lnTo>
                  <a:lnTo>
                    <a:pt x="5" y="38"/>
                  </a:lnTo>
                  <a:lnTo>
                    <a:pt x="0" y="43"/>
                  </a:lnTo>
                  <a:lnTo>
                    <a:pt x="0" y="54"/>
                  </a:lnTo>
                  <a:lnTo>
                    <a:pt x="0" y="65"/>
                  </a:lnTo>
                  <a:lnTo>
                    <a:pt x="0" y="71"/>
                  </a:lnTo>
                  <a:lnTo>
                    <a:pt x="0" y="82"/>
                  </a:lnTo>
                  <a:lnTo>
                    <a:pt x="0" y="93"/>
                  </a:lnTo>
                  <a:lnTo>
                    <a:pt x="0" y="98"/>
                  </a:lnTo>
                  <a:lnTo>
                    <a:pt x="5" y="109"/>
                  </a:lnTo>
                  <a:lnTo>
                    <a:pt x="5" y="120"/>
                  </a:lnTo>
                  <a:lnTo>
                    <a:pt x="11" y="131"/>
                  </a:lnTo>
                  <a:lnTo>
                    <a:pt x="11" y="136"/>
                  </a:lnTo>
                  <a:lnTo>
                    <a:pt x="16" y="142"/>
                  </a:lnTo>
                  <a:lnTo>
                    <a:pt x="22" y="136"/>
                  </a:lnTo>
                  <a:lnTo>
                    <a:pt x="22" y="12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7" name=""/>
            <p:cNvSpPr/>
            <p:nvPr/>
          </p:nvSpPr>
          <p:spPr>
            <a:xfrm>
              <a:off x="4208400" y="3873600"/>
              <a:ext cx="9720" cy="17280"/>
            </a:xfrm>
            <a:custGeom>
              <a:avLst/>
              <a:gdLst/>
              <a:ahLst/>
              <a:rect l="l" t="t" r="r" b="b"/>
              <a:pathLst>
                <a:path w="6" h="11">
                  <a:moveTo>
                    <a:pt x="0" y="5"/>
                  </a:moveTo>
                  <a:lnTo>
                    <a:pt x="0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11"/>
                  </a:lnTo>
                  <a:lnTo>
                    <a:pt x="6" y="11"/>
                  </a:lnTo>
                  <a:lnTo>
                    <a:pt x="6" y="11"/>
                  </a:lnTo>
                  <a:lnTo>
                    <a:pt x="6" y="11"/>
                  </a:lnTo>
                  <a:lnTo>
                    <a:pt x="0" y="11"/>
                  </a:lnTo>
                  <a:lnTo>
                    <a:pt x="0" y="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8" name=""/>
            <p:cNvSpPr/>
            <p:nvPr/>
          </p:nvSpPr>
          <p:spPr>
            <a:xfrm>
              <a:off x="2746440" y="3828960"/>
              <a:ext cx="17280" cy="9720"/>
            </a:xfrm>
            <a:custGeom>
              <a:avLst/>
              <a:gdLst/>
              <a:ahLst/>
              <a:rect l="l" t="t" r="r" b="b"/>
              <a:pathLst>
                <a:path w="11" h="6">
                  <a:moveTo>
                    <a:pt x="0" y="0"/>
                  </a:moveTo>
                  <a:lnTo>
                    <a:pt x="0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5" y="6"/>
                  </a:lnTo>
                  <a:lnTo>
                    <a:pt x="5" y="6"/>
                  </a:lnTo>
                  <a:lnTo>
                    <a:pt x="5" y="6"/>
                  </a:lnTo>
                  <a:lnTo>
                    <a:pt x="0" y="6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9" name=""/>
            <p:cNvSpPr/>
            <p:nvPr/>
          </p:nvSpPr>
          <p:spPr>
            <a:xfrm>
              <a:off x="3759120" y="3638520"/>
              <a:ext cx="42840" cy="9720"/>
            </a:xfrm>
            <a:custGeom>
              <a:avLst/>
              <a:gdLst/>
              <a:ahLst/>
              <a:rect l="l" t="t" r="r" b="b"/>
              <a:pathLst>
                <a:path w="27" h="6">
                  <a:moveTo>
                    <a:pt x="0" y="6"/>
                  </a:moveTo>
                  <a:lnTo>
                    <a:pt x="5" y="0"/>
                  </a:lnTo>
                  <a:lnTo>
                    <a:pt x="21" y="6"/>
                  </a:lnTo>
                  <a:lnTo>
                    <a:pt x="21" y="6"/>
                  </a:lnTo>
                  <a:lnTo>
                    <a:pt x="21" y="6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16" y="0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21" y="6"/>
                  </a:lnTo>
                  <a:lnTo>
                    <a:pt x="27" y="6"/>
                  </a:lnTo>
                  <a:lnTo>
                    <a:pt x="27" y="6"/>
                  </a:lnTo>
                  <a:lnTo>
                    <a:pt x="27" y="6"/>
                  </a:lnTo>
                  <a:lnTo>
                    <a:pt x="27" y="6"/>
                  </a:lnTo>
                  <a:lnTo>
                    <a:pt x="27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0" name=""/>
            <p:cNvSpPr/>
            <p:nvPr/>
          </p:nvSpPr>
          <p:spPr>
            <a:xfrm>
              <a:off x="3759120" y="3665520"/>
              <a:ext cx="42840" cy="17640"/>
            </a:xfrm>
            <a:custGeom>
              <a:avLst/>
              <a:gdLst/>
              <a:ahLst/>
              <a:rect l="l" t="t" r="r" b="b"/>
              <a:pathLst>
                <a:path w="27" h="11">
                  <a:moveTo>
                    <a:pt x="16" y="5"/>
                  </a:move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21" y="5"/>
                  </a:lnTo>
                  <a:lnTo>
                    <a:pt x="27" y="5"/>
                  </a:lnTo>
                  <a:lnTo>
                    <a:pt x="27" y="5"/>
                  </a:lnTo>
                  <a:lnTo>
                    <a:pt x="27" y="5"/>
                  </a:lnTo>
                  <a:lnTo>
                    <a:pt x="27" y="11"/>
                  </a:lnTo>
                  <a:lnTo>
                    <a:pt x="21" y="11"/>
                  </a:lnTo>
                  <a:lnTo>
                    <a:pt x="21" y="11"/>
                  </a:lnTo>
                  <a:lnTo>
                    <a:pt x="21" y="11"/>
                  </a:lnTo>
                  <a:lnTo>
                    <a:pt x="21" y="11"/>
                  </a:lnTo>
                  <a:lnTo>
                    <a:pt x="21" y="11"/>
                  </a:lnTo>
                  <a:lnTo>
                    <a:pt x="21" y="11"/>
                  </a:lnTo>
                  <a:lnTo>
                    <a:pt x="16" y="11"/>
                  </a:lnTo>
                  <a:lnTo>
                    <a:pt x="16" y="11"/>
                  </a:lnTo>
                  <a:lnTo>
                    <a:pt x="16" y="11"/>
                  </a:lnTo>
                  <a:lnTo>
                    <a:pt x="16" y="11"/>
                  </a:lnTo>
                  <a:lnTo>
                    <a:pt x="16" y="11"/>
                  </a:lnTo>
                  <a:lnTo>
                    <a:pt x="16" y="11"/>
                  </a:lnTo>
                  <a:lnTo>
                    <a:pt x="16" y="11"/>
                  </a:lnTo>
                  <a:lnTo>
                    <a:pt x="16" y="11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5" y="11"/>
                  </a:lnTo>
                  <a:lnTo>
                    <a:pt x="5" y="11"/>
                  </a:lnTo>
                  <a:lnTo>
                    <a:pt x="5" y="11"/>
                  </a:lnTo>
                  <a:lnTo>
                    <a:pt x="5" y="11"/>
                  </a:lnTo>
                  <a:lnTo>
                    <a:pt x="5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0"/>
                  </a:lnTo>
                  <a:lnTo>
                    <a:pt x="0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5"/>
                  </a:lnTo>
                  <a:close/>
                  <a:moveTo>
                    <a:pt x="21" y="0"/>
                  </a:moveTo>
                  <a:lnTo>
                    <a:pt x="16" y="0"/>
                  </a:lnTo>
                  <a:lnTo>
                    <a:pt x="16" y="5"/>
                  </a:lnTo>
                  <a:lnTo>
                    <a:pt x="16" y="5"/>
                  </a:lnTo>
                  <a:lnTo>
                    <a:pt x="16" y="5"/>
                  </a:lnTo>
                  <a:lnTo>
                    <a:pt x="16" y="5"/>
                  </a:lnTo>
                  <a:lnTo>
                    <a:pt x="16" y="5"/>
                  </a:lnTo>
                  <a:lnTo>
                    <a:pt x="16" y="5"/>
                  </a:lnTo>
                  <a:lnTo>
                    <a:pt x="16" y="5"/>
                  </a:lnTo>
                  <a:lnTo>
                    <a:pt x="16" y="5"/>
                  </a:lnTo>
                  <a:lnTo>
                    <a:pt x="16" y="5"/>
                  </a:lnTo>
                  <a:lnTo>
                    <a:pt x="16" y="11"/>
                  </a:lnTo>
                  <a:lnTo>
                    <a:pt x="16" y="11"/>
                  </a:lnTo>
                  <a:lnTo>
                    <a:pt x="16" y="11"/>
                  </a:lnTo>
                  <a:lnTo>
                    <a:pt x="16" y="11"/>
                  </a:lnTo>
                  <a:lnTo>
                    <a:pt x="16" y="11"/>
                  </a:lnTo>
                  <a:lnTo>
                    <a:pt x="16" y="11"/>
                  </a:lnTo>
                  <a:lnTo>
                    <a:pt x="21" y="11"/>
                  </a:lnTo>
                  <a:lnTo>
                    <a:pt x="21" y="11"/>
                  </a:lnTo>
                  <a:lnTo>
                    <a:pt x="21" y="11"/>
                  </a:lnTo>
                  <a:lnTo>
                    <a:pt x="21" y="11"/>
                  </a:lnTo>
                  <a:lnTo>
                    <a:pt x="21" y="11"/>
                  </a:lnTo>
                  <a:lnTo>
                    <a:pt x="21" y="11"/>
                  </a:lnTo>
                  <a:lnTo>
                    <a:pt x="21" y="5"/>
                  </a:lnTo>
                  <a:lnTo>
                    <a:pt x="21" y="5"/>
                  </a:lnTo>
                  <a:lnTo>
                    <a:pt x="21" y="5"/>
                  </a:lnTo>
                  <a:lnTo>
                    <a:pt x="21" y="5"/>
                  </a:lnTo>
                  <a:lnTo>
                    <a:pt x="21" y="5"/>
                  </a:lnTo>
                  <a:lnTo>
                    <a:pt x="21" y="5"/>
                  </a:lnTo>
                  <a:lnTo>
                    <a:pt x="21" y="5"/>
                  </a:lnTo>
                  <a:lnTo>
                    <a:pt x="21" y="5"/>
                  </a:lnTo>
                  <a:lnTo>
                    <a:pt x="21" y="5"/>
                  </a:lnTo>
                  <a:lnTo>
                    <a:pt x="21" y="0"/>
                  </a:lnTo>
                  <a:close/>
                  <a:moveTo>
                    <a:pt x="11" y="0"/>
                  </a:move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11"/>
                  </a:lnTo>
                  <a:lnTo>
                    <a:pt x="5" y="11"/>
                  </a:lnTo>
                  <a:lnTo>
                    <a:pt x="5" y="11"/>
                  </a:lnTo>
                  <a:lnTo>
                    <a:pt x="5" y="11"/>
                  </a:lnTo>
                  <a:lnTo>
                    <a:pt x="5" y="11"/>
                  </a:lnTo>
                  <a:lnTo>
                    <a:pt x="5" y="11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11" y="5"/>
                  </a:lnTo>
                  <a:lnTo>
                    <a:pt x="11" y="5"/>
                  </a:lnTo>
                  <a:lnTo>
                    <a:pt x="11" y="5"/>
                  </a:lnTo>
                  <a:lnTo>
                    <a:pt x="11" y="5"/>
                  </a:lnTo>
                  <a:lnTo>
                    <a:pt x="11" y="5"/>
                  </a:lnTo>
                  <a:lnTo>
                    <a:pt x="11" y="5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1" name=""/>
            <p:cNvSpPr/>
            <p:nvPr/>
          </p:nvSpPr>
          <p:spPr>
            <a:xfrm>
              <a:off x="3759120" y="3691080"/>
              <a:ext cx="33480" cy="27000"/>
            </a:xfrm>
            <a:custGeom>
              <a:avLst/>
              <a:gdLst/>
              <a:ahLst/>
              <a:rect l="l" t="t" r="r" b="b"/>
              <a:pathLst>
                <a:path w="21" h="17">
                  <a:moveTo>
                    <a:pt x="11" y="0"/>
                  </a:moveTo>
                  <a:lnTo>
                    <a:pt x="11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1" y="6"/>
                  </a:lnTo>
                  <a:lnTo>
                    <a:pt x="21" y="6"/>
                  </a:lnTo>
                  <a:lnTo>
                    <a:pt x="21" y="6"/>
                  </a:lnTo>
                  <a:lnTo>
                    <a:pt x="21" y="6"/>
                  </a:lnTo>
                  <a:lnTo>
                    <a:pt x="21" y="6"/>
                  </a:lnTo>
                  <a:lnTo>
                    <a:pt x="21" y="6"/>
                  </a:lnTo>
                  <a:lnTo>
                    <a:pt x="21" y="11"/>
                  </a:lnTo>
                  <a:lnTo>
                    <a:pt x="21" y="11"/>
                  </a:lnTo>
                  <a:lnTo>
                    <a:pt x="21" y="11"/>
                  </a:lnTo>
                  <a:lnTo>
                    <a:pt x="21" y="11"/>
                  </a:lnTo>
                  <a:lnTo>
                    <a:pt x="21" y="11"/>
                  </a:lnTo>
                  <a:lnTo>
                    <a:pt x="21" y="11"/>
                  </a:lnTo>
                  <a:lnTo>
                    <a:pt x="21" y="17"/>
                  </a:lnTo>
                  <a:lnTo>
                    <a:pt x="21" y="17"/>
                  </a:lnTo>
                  <a:lnTo>
                    <a:pt x="21" y="17"/>
                  </a:lnTo>
                  <a:lnTo>
                    <a:pt x="21" y="17"/>
                  </a:lnTo>
                  <a:lnTo>
                    <a:pt x="16" y="17"/>
                  </a:lnTo>
                  <a:lnTo>
                    <a:pt x="16" y="17"/>
                  </a:lnTo>
                  <a:lnTo>
                    <a:pt x="16" y="17"/>
                  </a:lnTo>
                  <a:lnTo>
                    <a:pt x="16" y="17"/>
                  </a:lnTo>
                  <a:lnTo>
                    <a:pt x="16" y="17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5" y="17"/>
                  </a:lnTo>
                  <a:lnTo>
                    <a:pt x="5" y="17"/>
                  </a:lnTo>
                  <a:lnTo>
                    <a:pt x="5" y="17"/>
                  </a:lnTo>
                  <a:lnTo>
                    <a:pt x="5" y="17"/>
                  </a:lnTo>
                  <a:lnTo>
                    <a:pt x="0" y="17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11" y="0"/>
                  </a:lnTo>
                  <a:lnTo>
                    <a:pt x="11" y="0"/>
                  </a:lnTo>
                  <a:close/>
                  <a:moveTo>
                    <a:pt x="11" y="6"/>
                  </a:moveTo>
                  <a:lnTo>
                    <a:pt x="11" y="6"/>
                  </a:lnTo>
                  <a:lnTo>
                    <a:pt x="5" y="6"/>
                  </a:lnTo>
                  <a:lnTo>
                    <a:pt x="5" y="6"/>
                  </a:lnTo>
                  <a:lnTo>
                    <a:pt x="5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5" y="11"/>
                  </a:lnTo>
                  <a:lnTo>
                    <a:pt x="5" y="11"/>
                  </a:lnTo>
                  <a:lnTo>
                    <a:pt x="5" y="11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16" y="11"/>
                  </a:lnTo>
                  <a:lnTo>
                    <a:pt x="16" y="11"/>
                  </a:lnTo>
                  <a:lnTo>
                    <a:pt x="16" y="11"/>
                  </a:lnTo>
                  <a:lnTo>
                    <a:pt x="16" y="11"/>
                  </a:lnTo>
                  <a:lnTo>
                    <a:pt x="21" y="11"/>
                  </a:lnTo>
                  <a:lnTo>
                    <a:pt x="21" y="11"/>
                  </a:lnTo>
                  <a:lnTo>
                    <a:pt x="21" y="11"/>
                  </a:lnTo>
                  <a:lnTo>
                    <a:pt x="21" y="11"/>
                  </a:lnTo>
                  <a:lnTo>
                    <a:pt x="21" y="6"/>
                  </a:lnTo>
                  <a:lnTo>
                    <a:pt x="21" y="6"/>
                  </a:lnTo>
                  <a:lnTo>
                    <a:pt x="21" y="6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1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2" name=""/>
            <p:cNvSpPr/>
            <p:nvPr/>
          </p:nvSpPr>
          <p:spPr>
            <a:xfrm flipV="1">
              <a:off x="3784680" y="3613320"/>
              <a:ext cx="1440" cy="9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3" name=""/>
            <p:cNvSpPr/>
            <p:nvPr/>
          </p:nvSpPr>
          <p:spPr>
            <a:xfrm>
              <a:off x="3724200" y="3354480"/>
              <a:ext cx="163440" cy="406440"/>
            </a:xfrm>
            <a:custGeom>
              <a:avLst/>
              <a:gdLst/>
              <a:ahLst/>
              <a:rect l="l" t="t" r="r" b="b"/>
              <a:pathLst>
                <a:path w="103" h="256">
                  <a:moveTo>
                    <a:pt x="38" y="163"/>
                  </a:moveTo>
                  <a:lnTo>
                    <a:pt x="38" y="158"/>
                  </a:lnTo>
                  <a:lnTo>
                    <a:pt x="38" y="147"/>
                  </a:lnTo>
                  <a:lnTo>
                    <a:pt x="43" y="141"/>
                  </a:lnTo>
                  <a:lnTo>
                    <a:pt x="49" y="136"/>
                  </a:lnTo>
                  <a:lnTo>
                    <a:pt x="60" y="130"/>
                  </a:lnTo>
                  <a:lnTo>
                    <a:pt x="65" y="120"/>
                  </a:lnTo>
                  <a:lnTo>
                    <a:pt x="71" y="114"/>
                  </a:lnTo>
                  <a:lnTo>
                    <a:pt x="71" y="109"/>
                  </a:lnTo>
                  <a:lnTo>
                    <a:pt x="71" y="98"/>
                  </a:lnTo>
                  <a:lnTo>
                    <a:pt x="65" y="92"/>
                  </a:lnTo>
                  <a:lnTo>
                    <a:pt x="65" y="81"/>
                  </a:lnTo>
                  <a:lnTo>
                    <a:pt x="71" y="76"/>
                  </a:lnTo>
                  <a:lnTo>
                    <a:pt x="76" y="70"/>
                  </a:lnTo>
                  <a:lnTo>
                    <a:pt x="82" y="60"/>
                  </a:lnTo>
                  <a:lnTo>
                    <a:pt x="93" y="54"/>
                  </a:lnTo>
                  <a:lnTo>
                    <a:pt x="98" y="49"/>
                  </a:lnTo>
                  <a:lnTo>
                    <a:pt x="103" y="43"/>
                  </a:lnTo>
                  <a:lnTo>
                    <a:pt x="103" y="32"/>
                  </a:lnTo>
                  <a:lnTo>
                    <a:pt x="98" y="27"/>
                  </a:lnTo>
                  <a:lnTo>
                    <a:pt x="93" y="16"/>
                  </a:lnTo>
                  <a:lnTo>
                    <a:pt x="93" y="5"/>
                  </a:lnTo>
                  <a:lnTo>
                    <a:pt x="93" y="0"/>
                  </a:lnTo>
                  <a:lnTo>
                    <a:pt x="87" y="0"/>
                  </a:lnTo>
                  <a:lnTo>
                    <a:pt x="82" y="5"/>
                  </a:lnTo>
                  <a:lnTo>
                    <a:pt x="82" y="16"/>
                  </a:lnTo>
                  <a:lnTo>
                    <a:pt x="76" y="21"/>
                  </a:lnTo>
                  <a:lnTo>
                    <a:pt x="65" y="32"/>
                  </a:lnTo>
                  <a:lnTo>
                    <a:pt x="60" y="38"/>
                  </a:lnTo>
                  <a:lnTo>
                    <a:pt x="54" y="43"/>
                  </a:lnTo>
                  <a:lnTo>
                    <a:pt x="49" y="49"/>
                  </a:lnTo>
                  <a:lnTo>
                    <a:pt x="49" y="60"/>
                  </a:lnTo>
                  <a:lnTo>
                    <a:pt x="43" y="65"/>
                  </a:lnTo>
                  <a:lnTo>
                    <a:pt x="43" y="76"/>
                  </a:lnTo>
                  <a:lnTo>
                    <a:pt x="38" y="81"/>
                  </a:lnTo>
                  <a:lnTo>
                    <a:pt x="33" y="87"/>
                  </a:lnTo>
                  <a:lnTo>
                    <a:pt x="27" y="98"/>
                  </a:lnTo>
                  <a:lnTo>
                    <a:pt x="22" y="103"/>
                  </a:lnTo>
                  <a:lnTo>
                    <a:pt x="16" y="109"/>
                  </a:lnTo>
                  <a:lnTo>
                    <a:pt x="16" y="120"/>
                  </a:lnTo>
                  <a:lnTo>
                    <a:pt x="11" y="125"/>
                  </a:lnTo>
                  <a:lnTo>
                    <a:pt x="11" y="136"/>
                  </a:lnTo>
                  <a:lnTo>
                    <a:pt x="11" y="141"/>
                  </a:lnTo>
                  <a:lnTo>
                    <a:pt x="11" y="152"/>
                  </a:lnTo>
                  <a:lnTo>
                    <a:pt x="11" y="158"/>
                  </a:lnTo>
                  <a:lnTo>
                    <a:pt x="11" y="169"/>
                  </a:lnTo>
                  <a:lnTo>
                    <a:pt x="11" y="174"/>
                  </a:lnTo>
                  <a:lnTo>
                    <a:pt x="11" y="185"/>
                  </a:lnTo>
                  <a:lnTo>
                    <a:pt x="11" y="190"/>
                  </a:lnTo>
                  <a:lnTo>
                    <a:pt x="11" y="201"/>
                  </a:lnTo>
                  <a:lnTo>
                    <a:pt x="5" y="207"/>
                  </a:lnTo>
                  <a:lnTo>
                    <a:pt x="5" y="218"/>
                  </a:lnTo>
                  <a:lnTo>
                    <a:pt x="0" y="223"/>
                  </a:lnTo>
                  <a:lnTo>
                    <a:pt x="0" y="229"/>
                  </a:lnTo>
                  <a:lnTo>
                    <a:pt x="5" y="239"/>
                  </a:lnTo>
                  <a:lnTo>
                    <a:pt x="11" y="250"/>
                  </a:lnTo>
                  <a:lnTo>
                    <a:pt x="22" y="256"/>
                  </a:lnTo>
                  <a:lnTo>
                    <a:pt x="27" y="256"/>
                  </a:lnTo>
                  <a:lnTo>
                    <a:pt x="27" y="250"/>
                  </a:lnTo>
                  <a:lnTo>
                    <a:pt x="33" y="23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4" name=""/>
            <p:cNvSpPr/>
            <p:nvPr/>
          </p:nvSpPr>
          <p:spPr>
            <a:xfrm>
              <a:off x="4857840" y="3535200"/>
              <a:ext cx="42840" cy="17640"/>
            </a:xfrm>
            <a:custGeom>
              <a:avLst/>
              <a:gdLst/>
              <a:ahLst/>
              <a:rect l="l" t="t" r="r" b="b"/>
              <a:pathLst>
                <a:path w="27" h="11">
                  <a:moveTo>
                    <a:pt x="0" y="6"/>
                  </a:moveTo>
                  <a:lnTo>
                    <a:pt x="0" y="6"/>
                  </a:lnTo>
                  <a:lnTo>
                    <a:pt x="22" y="6"/>
                  </a:lnTo>
                  <a:lnTo>
                    <a:pt x="22" y="6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6"/>
                  </a:lnTo>
                  <a:lnTo>
                    <a:pt x="22" y="6"/>
                  </a:lnTo>
                  <a:lnTo>
                    <a:pt x="22" y="6"/>
                  </a:lnTo>
                  <a:lnTo>
                    <a:pt x="22" y="6"/>
                  </a:lnTo>
                  <a:lnTo>
                    <a:pt x="22" y="6"/>
                  </a:lnTo>
                  <a:lnTo>
                    <a:pt x="27" y="6"/>
                  </a:lnTo>
                  <a:lnTo>
                    <a:pt x="27" y="11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5" name=""/>
            <p:cNvSpPr/>
            <p:nvPr/>
          </p:nvSpPr>
          <p:spPr>
            <a:xfrm>
              <a:off x="4857840" y="3560760"/>
              <a:ext cx="34920" cy="27000"/>
            </a:xfrm>
            <a:custGeom>
              <a:avLst/>
              <a:gdLst/>
              <a:ahLst/>
              <a:rect l="l" t="t" r="r" b="b"/>
              <a:pathLst>
                <a:path w="22" h="17">
                  <a:moveTo>
                    <a:pt x="11" y="6"/>
                  </a:moveTo>
                  <a:lnTo>
                    <a:pt x="11" y="6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6"/>
                  </a:lnTo>
                  <a:lnTo>
                    <a:pt x="22" y="6"/>
                  </a:lnTo>
                  <a:lnTo>
                    <a:pt x="22" y="6"/>
                  </a:lnTo>
                  <a:lnTo>
                    <a:pt x="22" y="6"/>
                  </a:lnTo>
                  <a:lnTo>
                    <a:pt x="22" y="6"/>
                  </a:lnTo>
                  <a:lnTo>
                    <a:pt x="22" y="11"/>
                  </a:lnTo>
                  <a:lnTo>
                    <a:pt x="22" y="11"/>
                  </a:lnTo>
                  <a:lnTo>
                    <a:pt x="22" y="11"/>
                  </a:lnTo>
                  <a:lnTo>
                    <a:pt x="22" y="11"/>
                  </a:lnTo>
                  <a:lnTo>
                    <a:pt x="22" y="17"/>
                  </a:lnTo>
                  <a:lnTo>
                    <a:pt x="22" y="17"/>
                  </a:lnTo>
                  <a:lnTo>
                    <a:pt x="16" y="17"/>
                  </a:lnTo>
                  <a:lnTo>
                    <a:pt x="16" y="17"/>
                  </a:lnTo>
                  <a:lnTo>
                    <a:pt x="16" y="17"/>
                  </a:lnTo>
                  <a:lnTo>
                    <a:pt x="16" y="17"/>
                  </a:lnTo>
                  <a:lnTo>
                    <a:pt x="16" y="17"/>
                  </a:lnTo>
                  <a:lnTo>
                    <a:pt x="16" y="17"/>
                  </a:lnTo>
                  <a:lnTo>
                    <a:pt x="16" y="11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6" y="17"/>
                  </a:lnTo>
                  <a:lnTo>
                    <a:pt x="6" y="17"/>
                  </a:lnTo>
                  <a:lnTo>
                    <a:pt x="6" y="17"/>
                  </a:lnTo>
                  <a:lnTo>
                    <a:pt x="6" y="17"/>
                  </a:lnTo>
                  <a:lnTo>
                    <a:pt x="6" y="17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6"/>
                  </a:lnTo>
                  <a:lnTo>
                    <a:pt x="11" y="6"/>
                  </a:lnTo>
                  <a:close/>
                  <a:moveTo>
                    <a:pt x="16" y="6"/>
                  </a:moveTo>
                  <a:lnTo>
                    <a:pt x="16" y="6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6" y="11"/>
                  </a:lnTo>
                  <a:lnTo>
                    <a:pt x="16" y="11"/>
                  </a:lnTo>
                  <a:lnTo>
                    <a:pt x="16" y="11"/>
                  </a:lnTo>
                  <a:lnTo>
                    <a:pt x="16" y="11"/>
                  </a:lnTo>
                  <a:lnTo>
                    <a:pt x="16" y="11"/>
                  </a:lnTo>
                  <a:lnTo>
                    <a:pt x="16" y="11"/>
                  </a:lnTo>
                  <a:lnTo>
                    <a:pt x="16" y="11"/>
                  </a:lnTo>
                  <a:lnTo>
                    <a:pt x="16" y="11"/>
                  </a:lnTo>
                  <a:lnTo>
                    <a:pt x="16" y="11"/>
                  </a:lnTo>
                  <a:lnTo>
                    <a:pt x="16" y="11"/>
                  </a:lnTo>
                  <a:lnTo>
                    <a:pt x="22" y="11"/>
                  </a:lnTo>
                  <a:lnTo>
                    <a:pt x="22" y="11"/>
                  </a:lnTo>
                  <a:lnTo>
                    <a:pt x="22" y="11"/>
                  </a:lnTo>
                  <a:lnTo>
                    <a:pt x="22" y="11"/>
                  </a:lnTo>
                  <a:lnTo>
                    <a:pt x="22" y="11"/>
                  </a:lnTo>
                  <a:lnTo>
                    <a:pt x="22" y="6"/>
                  </a:lnTo>
                  <a:lnTo>
                    <a:pt x="22" y="6"/>
                  </a:lnTo>
                  <a:lnTo>
                    <a:pt x="22" y="6"/>
                  </a:lnTo>
                  <a:lnTo>
                    <a:pt x="22" y="6"/>
                  </a:lnTo>
                  <a:lnTo>
                    <a:pt x="22" y="6"/>
                  </a:lnTo>
                  <a:lnTo>
                    <a:pt x="22" y="6"/>
                  </a:lnTo>
                  <a:lnTo>
                    <a:pt x="22" y="6"/>
                  </a:lnTo>
                  <a:lnTo>
                    <a:pt x="16" y="6"/>
                  </a:lnTo>
                  <a:lnTo>
                    <a:pt x="16" y="6"/>
                  </a:lnTo>
                  <a:close/>
                  <a:moveTo>
                    <a:pt x="6" y="0"/>
                  </a:move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6" y="11"/>
                  </a:lnTo>
                  <a:lnTo>
                    <a:pt x="6" y="11"/>
                  </a:lnTo>
                  <a:lnTo>
                    <a:pt x="6" y="11"/>
                  </a:lnTo>
                  <a:lnTo>
                    <a:pt x="6" y="11"/>
                  </a:lnTo>
                  <a:lnTo>
                    <a:pt x="6" y="11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0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6" name=""/>
            <p:cNvSpPr/>
            <p:nvPr/>
          </p:nvSpPr>
          <p:spPr>
            <a:xfrm>
              <a:off x="4857840" y="3587760"/>
              <a:ext cx="34920" cy="25560"/>
            </a:xfrm>
            <a:custGeom>
              <a:avLst/>
              <a:gdLst/>
              <a:ahLst/>
              <a:rect l="l" t="t" r="r" b="b"/>
              <a:pathLst>
                <a:path w="22" h="16">
                  <a:moveTo>
                    <a:pt x="11" y="0"/>
                  </a:moveTo>
                  <a:lnTo>
                    <a:pt x="11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5"/>
                  </a:lnTo>
                  <a:lnTo>
                    <a:pt x="16" y="5"/>
                  </a:lnTo>
                  <a:lnTo>
                    <a:pt x="22" y="5"/>
                  </a:lnTo>
                  <a:lnTo>
                    <a:pt x="22" y="5"/>
                  </a:lnTo>
                  <a:lnTo>
                    <a:pt x="22" y="5"/>
                  </a:lnTo>
                  <a:lnTo>
                    <a:pt x="22" y="5"/>
                  </a:lnTo>
                  <a:lnTo>
                    <a:pt x="22" y="5"/>
                  </a:lnTo>
                  <a:lnTo>
                    <a:pt x="22" y="11"/>
                  </a:lnTo>
                  <a:lnTo>
                    <a:pt x="22" y="11"/>
                  </a:lnTo>
                  <a:lnTo>
                    <a:pt x="22" y="11"/>
                  </a:lnTo>
                  <a:lnTo>
                    <a:pt x="22" y="11"/>
                  </a:lnTo>
                  <a:lnTo>
                    <a:pt x="22" y="11"/>
                  </a:lnTo>
                  <a:lnTo>
                    <a:pt x="22" y="16"/>
                  </a:lnTo>
                  <a:lnTo>
                    <a:pt x="22" y="16"/>
                  </a:lnTo>
                  <a:lnTo>
                    <a:pt x="22" y="16"/>
                  </a:lnTo>
                  <a:lnTo>
                    <a:pt x="22" y="16"/>
                  </a:lnTo>
                  <a:lnTo>
                    <a:pt x="22" y="16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11" y="16"/>
                  </a:lnTo>
                  <a:lnTo>
                    <a:pt x="11" y="16"/>
                  </a:lnTo>
                  <a:lnTo>
                    <a:pt x="11" y="16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6" y="0"/>
                  </a:lnTo>
                  <a:lnTo>
                    <a:pt x="6" y="0"/>
                  </a:lnTo>
                  <a:lnTo>
                    <a:pt x="11" y="0"/>
                  </a:lnTo>
                  <a:close/>
                  <a:moveTo>
                    <a:pt x="11" y="5"/>
                  </a:move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6" y="11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11" y="16"/>
                  </a:lnTo>
                  <a:lnTo>
                    <a:pt x="11" y="16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22" y="11"/>
                  </a:lnTo>
                  <a:lnTo>
                    <a:pt x="22" y="11"/>
                  </a:lnTo>
                  <a:lnTo>
                    <a:pt x="22" y="11"/>
                  </a:lnTo>
                  <a:lnTo>
                    <a:pt x="22" y="11"/>
                  </a:lnTo>
                  <a:lnTo>
                    <a:pt x="22" y="11"/>
                  </a:lnTo>
                  <a:lnTo>
                    <a:pt x="22" y="11"/>
                  </a:lnTo>
                  <a:lnTo>
                    <a:pt x="22" y="5"/>
                  </a:lnTo>
                  <a:lnTo>
                    <a:pt x="16" y="5"/>
                  </a:lnTo>
                  <a:lnTo>
                    <a:pt x="16" y="5"/>
                  </a:lnTo>
                  <a:lnTo>
                    <a:pt x="16" y="5"/>
                  </a:lnTo>
                  <a:lnTo>
                    <a:pt x="11" y="5"/>
                  </a:lnTo>
                  <a:lnTo>
                    <a:pt x="11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7" name=""/>
            <p:cNvSpPr/>
            <p:nvPr/>
          </p:nvSpPr>
          <p:spPr>
            <a:xfrm>
              <a:off x="4875120" y="3517920"/>
              <a:ext cx="7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8" name=""/>
            <p:cNvSpPr/>
            <p:nvPr/>
          </p:nvSpPr>
          <p:spPr>
            <a:xfrm>
              <a:off x="4875120" y="3457440"/>
              <a:ext cx="181080" cy="173160"/>
            </a:xfrm>
            <a:custGeom>
              <a:avLst/>
              <a:gdLst/>
              <a:ahLst/>
              <a:rect l="l" t="t" r="r" b="b"/>
              <a:pathLst>
                <a:path w="114" h="109">
                  <a:moveTo>
                    <a:pt x="5" y="38"/>
                  </a:moveTo>
                  <a:lnTo>
                    <a:pt x="11" y="33"/>
                  </a:lnTo>
                  <a:lnTo>
                    <a:pt x="16" y="27"/>
                  </a:lnTo>
                  <a:lnTo>
                    <a:pt x="22" y="22"/>
                  </a:lnTo>
                  <a:lnTo>
                    <a:pt x="27" y="22"/>
                  </a:lnTo>
                  <a:lnTo>
                    <a:pt x="38" y="16"/>
                  </a:lnTo>
                  <a:lnTo>
                    <a:pt x="44" y="16"/>
                  </a:lnTo>
                  <a:lnTo>
                    <a:pt x="49" y="11"/>
                  </a:lnTo>
                  <a:lnTo>
                    <a:pt x="60" y="5"/>
                  </a:lnTo>
                  <a:lnTo>
                    <a:pt x="65" y="5"/>
                  </a:lnTo>
                  <a:lnTo>
                    <a:pt x="71" y="0"/>
                  </a:lnTo>
                  <a:lnTo>
                    <a:pt x="82" y="0"/>
                  </a:lnTo>
                  <a:lnTo>
                    <a:pt x="93" y="0"/>
                  </a:lnTo>
                  <a:lnTo>
                    <a:pt x="98" y="0"/>
                  </a:lnTo>
                  <a:lnTo>
                    <a:pt x="104" y="5"/>
                  </a:lnTo>
                  <a:lnTo>
                    <a:pt x="109" y="11"/>
                  </a:lnTo>
                  <a:lnTo>
                    <a:pt x="114" y="16"/>
                  </a:lnTo>
                  <a:lnTo>
                    <a:pt x="114" y="22"/>
                  </a:lnTo>
                  <a:lnTo>
                    <a:pt x="114" y="27"/>
                  </a:lnTo>
                  <a:lnTo>
                    <a:pt x="109" y="33"/>
                  </a:lnTo>
                  <a:lnTo>
                    <a:pt x="109" y="38"/>
                  </a:lnTo>
                  <a:lnTo>
                    <a:pt x="104" y="44"/>
                  </a:lnTo>
                  <a:lnTo>
                    <a:pt x="104" y="49"/>
                  </a:lnTo>
                  <a:lnTo>
                    <a:pt x="98" y="55"/>
                  </a:lnTo>
                  <a:lnTo>
                    <a:pt x="98" y="60"/>
                  </a:lnTo>
                  <a:lnTo>
                    <a:pt x="98" y="65"/>
                  </a:lnTo>
                  <a:lnTo>
                    <a:pt x="93" y="71"/>
                  </a:lnTo>
                  <a:lnTo>
                    <a:pt x="87" y="76"/>
                  </a:lnTo>
                  <a:lnTo>
                    <a:pt x="82" y="82"/>
                  </a:lnTo>
                  <a:lnTo>
                    <a:pt x="76" y="87"/>
                  </a:lnTo>
                  <a:lnTo>
                    <a:pt x="71" y="87"/>
                  </a:lnTo>
                  <a:lnTo>
                    <a:pt x="65" y="93"/>
                  </a:lnTo>
                  <a:lnTo>
                    <a:pt x="55" y="93"/>
                  </a:lnTo>
                  <a:lnTo>
                    <a:pt x="49" y="98"/>
                  </a:lnTo>
                  <a:lnTo>
                    <a:pt x="38" y="98"/>
                  </a:lnTo>
                  <a:lnTo>
                    <a:pt x="27" y="98"/>
                  </a:lnTo>
                  <a:lnTo>
                    <a:pt x="22" y="104"/>
                  </a:lnTo>
                  <a:lnTo>
                    <a:pt x="16" y="104"/>
                  </a:lnTo>
                  <a:lnTo>
                    <a:pt x="5" y="109"/>
                  </a:lnTo>
                  <a:lnTo>
                    <a:pt x="0" y="10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9" name=""/>
            <p:cNvSpPr/>
            <p:nvPr/>
          </p:nvSpPr>
          <p:spPr>
            <a:xfrm>
              <a:off x="4060800" y="3414600"/>
              <a:ext cx="27000" cy="2556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17" y="5"/>
                  </a:moveTo>
                  <a:lnTo>
                    <a:pt x="17" y="5"/>
                  </a:lnTo>
                  <a:lnTo>
                    <a:pt x="11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11" y="16"/>
                  </a:lnTo>
                  <a:lnTo>
                    <a:pt x="17" y="11"/>
                  </a:lnTo>
                  <a:lnTo>
                    <a:pt x="17" y="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0" name=""/>
            <p:cNvSpPr/>
            <p:nvPr/>
          </p:nvSpPr>
          <p:spPr>
            <a:xfrm>
              <a:off x="4762440" y="3371760"/>
              <a:ext cx="17640" cy="33480"/>
            </a:xfrm>
            <a:custGeom>
              <a:avLst/>
              <a:gdLst/>
              <a:ahLst/>
              <a:rect l="l" t="t" r="r" b="b"/>
              <a:pathLst>
                <a:path w="11" h="21">
                  <a:moveTo>
                    <a:pt x="11" y="5"/>
                  </a:moveTo>
                  <a:lnTo>
                    <a:pt x="6" y="0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10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6" y="21"/>
                  </a:lnTo>
                  <a:lnTo>
                    <a:pt x="6" y="21"/>
                  </a:lnTo>
                  <a:lnTo>
                    <a:pt x="11" y="21"/>
                  </a:lnTo>
                  <a:lnTo>
                    <a:pt x="11" y="21"/>
                  </a:lnTo>
                  <a:lnTo>
                    <a:pt x="11" y="16"/>
                  </a:lnTo>
                  <a:lnTo>
                    <a:pt x="11" y="16"/>
                  </a:lnTo>
                  <a:lnTo>
                    <a:pt x="11" y="10"/>
                  </a:lnTo>
                  <a:lnTo>
                    <a:pt x="11" y="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1" name=""/>
            <p:cNvSpPr/>
            <p:nvPr/>
          </p:nvSpPr>
          <p:spPr>
            <a:xfrm>
              <a:off x="3905280" y="3309840"/>
              <a:ext cx="9360" cy="17640"/>
            </a:xfrm>
            <a:custGeom>
              <a:avLst/>
              <a:gdLst/>
              <a:ahLst/>
              <a:rect l="l" t="t" r="r" b="b"/>
              <a:pathLst>
                <a:path w="6" h="11">
                  <a:moveTo>
                    <a:pt x="6" y="11"/>
                  </a:moveTo>
                  <a:lnTo>
                    <a:pt x="6" y="6"/>
                  </a:lnTo>
                  <a:lnTo>
                    <a:pt x="6" y="6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11"/>
                  </a:lnTo>
                  <a:lnTo>
                    <a:pt x="6" y="11"/>
                  </a:lnTo>
                  <a:lnTo>
                    <a:pt x="6" y="1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2" name=""/>
            <p:cNvSpPr/>
            <p:nvPr/>
          </p:nvSpPr>
          <p:spPr>
            <a:xfrm>
              <a:off x="4105440" y="3292560"/>
              <a:ext cx="34920" cy="52200"/>
            </a:xfrm>
            <a:custGeom>
              <a:avLst/>
              <a:gdLst/>
              <a:ahLst/>
              <a:rect l="l" t="t" r="r" b="b"/>
              <a:pathLst>
                <a:path w="22" h="33">
                  <a:moveTo>
                    <a:pt x="22" y="22"/>
                  </a:moveTo>
                  <a:lnTo>
                    <a:pt x="16" y="11"/>
                  </a:lnTo>
                  <a:lnTo>
                    <a:pt x="16" y="6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5" y="0"/>
                  </a:lnTo>
                  <a:lnTo>
                    <a:pt x="5" y="6"/>
                  </a:lnTo>
                  <a:lnTo>
                    <a:pt x="0" y="11"/>
                  </a:lnTo>
                  <a:lnTo>
                    <a:pt x="0" y="17"/>
                  </a:lnTo>
                  <a:lnTo>
                    <a:pt x="5" y="28"/>
                  </a:lnTo>
                  <a:lnTo>
                    <a:pt x="5" y="33"/>
                  </a:lnTo>
                  <a:lnTo>
                    <a:pt x="5" y="33"/>
                  </a:lnTo>
                  <a:lnTo>
                    <a:pt x="11" y="33"/>
                  </a:lnTo>
                  <a:lnTo>
                    <a:pt x="16" y="28"/>
                  </a:lnTo>
                  <a:lnTo>
                    <a:pt x="22" y="2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3" name=""/>
            <p:cNvSpPr/>
            <p:nvPr/>
          </p:nvSpPr>
          <p:spPr>
            <a:xfrm>
              <a:off x="4805280" y="3301920"/>
              <a:ext cx="44640" cy="60480"/>
            </a:xfrm>
            <a:custGeom>
              <a:avLst/>
              <a:gdLst/>
              <a:ahLst/>
              <a:rect l="l" t="t" r="r" b="b"/>
              <a:pathLst>
                <a:path w="28" h="38">
                  <a:moveTo>
                    <a:pt x="28" y="16"/>
                  </a:moveTo>
                  <a:lnTo>
                    <a:pt x="22" y="5"/>
                  </a:lnTo>
                  <a:lnTo>
                    <a:pt x="17" y="0"/>
                  </a:lnTo>
                  <a:lnTo>
                    <a:pt x="11" y="0"/>
                  </a:lnTo>
                  <a:lnTo>
                    <a:pt x="6" y="5"/>
                  </a:lnTo>
                  <a:lnTo>
                    <a:pt x="0" y="11"/>
                  </a:lnTo>
                  <a:lnTo>
                    <a:pt x="0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6" y="33"/>
                  </a:lnTo>
                  <a:lnTo>
                    <a:pt x="11" y="38"/>
                  </a:lnTo>
                  <a:lnTo>
                    <a:pt x="17" y="33"/>
                  </a:lnTo>
                  <a:lnTo>
                    <a:pt x="17" y="33"/>
                  </a:lnTo>
                  <a:lnTo>
                    <a:pt x="22" y="22"/>
                  </a:lnTo>
                  <a:lnTo>
                    <a:pt x="28" y="1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4" name=""/>
            <p:cNvSpPr/>
            <p:nvPr/>
          </p:nvSpPr>
          <p:spPr>
            <a:xfrm flipV="1">
              <a:off x="2097000" y="3223800"/>
              <a:ext cx="42840" cy="42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5" name=""/>
            <p:cNvSpPr/>
            <p:nvPr/>
          </p:nvSpPr>
          <p:spPr>
            <a:xfrm>
              <a:off x="4165560" y="3224160"/>
              <a:ext cx="17640" cy="7920"/>
            </a:xfrm>
            <a:custGeom>
              <a:avLst/>
              <a:gdLst/>
              <a:ahLst/>
              <a:rect l="l" t="t" r="r" b="b"/>
              <a:pathLst>
                <a:path w="11" h="5">
                  <a:moveTo>
                    <a:pt x="11" y="0"/>
                  </a:moveTo>
                  <a:lnTo>
                    <a:pt x="11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11" y="0"/>
                  </a:lnTo>
                  <a:lnTo>
                    <a:pt x="11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6" name=""/>
            <p:cNvSpPr/>
            <p:nvPr/>
          </p:nvSpPr>
          <p:spPr>
            <a:xfrm>
              <a:off x="4537080" y="3214800"/>
              <a:ext cx="52560" cy="17280"/>
            </a:xfrm>
            <a:custGeom>
              <a:avLst/>
              <a:gdLst/>
              <a:ahLst/>
              <a:rect l="l" t="t" r="r" b="b"/>
              <a:pathLst>
                <a:path w="33" h="11">
                  <a:moveTo>
                    <a:pt x="33" y="6"/>
                  </a:moveTo>
                  <a:lnTo>
                    <a:pt x="28" y="6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0"/>
                  </a:lnTo>
                  <a:lnTo>
                    <a:pt x="6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6" y="11"/>
                  </a:lnTo>
                  <a:lnTo>
                    <a:pt x="11" y="11"/>
                  </a:lnTo>
                  <a:lnTo>
                    <a:pt x="17" y="11"/>
                  </a:lnTo>
                  <a:lnTo>
                    <a:pt x="22" y="11"/>
                  </a:lnTo>
                  <a:lnTo>
                    <a:pt x="28" y="6"/>
                  </a:lnTo>
                  <a:lnTo>
                    <a:pt x="33" y="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7" name=""/>
            <p:cNvSpPr/>
            <p:nvPr/>
          </p:nvSpPr>
          <p:spPr>
            <a:xfrm flipV="1">
              <a:off x="3395520" y="3015720"/>
              <a:ext cx="7920" cy="9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98" name=""/>
          <p:cNvSpPr/>
          <p:nvPr/>
        </p:nvSpPr>
        <p:spPr>
          <a:xfrm>
            <a:off x="3403440" y="2800440"/>
            <a:ext cx="406440" cy="215640"/>
          </a:xfrm>
          <a:custGeom>
            <a:avLst/>
            <a:gdLst/>
            <a:ahLst/>
            <a:rect l="l" t="t" r="r" b="b"/>
            <a:pathLst>
              <a:path w="256" h="136">
                <a:moveTo>
                  <a:pt x="0" y="136"/>
                </a:moveTo>
                <a:lnTo>
                  <a:pt x="11" y="131"/>
                </a:lnTo>
                <a:lnTo>
                  <a:pt x="16" y="125"/>
                </a:lnTo>
                <a:lnTo>
                  <a:pt x="22" y="120"/>
                </a:lnTo>
                <a:lnTo>
                  <a:pt x="27" y="114"/>
                </a:lnTo>
                <a:lnTo>
                  <a:pt x="33" y="109"/>
                </a:lnTo>
                <a:lnTo>
                  <a:pt x="38" y="103"/>
                </a:lnTo>
                <a:lnTo>
                  <a:pt x="44" y="98"/>
                </a:lnTo>
                <a:lnTo>
                  <a:pt x="49" y="92"/>
                </a:lnTo>
                <a:lnTo>
                  <a:pt x="55" y="87"/>
                </a:lnTo>
                <a:lnTo>
                  <a:pt x="60" y="82"/>
                </a:lnTo>
                <a:lnTo>
                  <a:pt x="66" y="76"/>
                </a:lnTo>
                <a:lnTo>
                  <a:pt x="71" y="71"/>
                </a:lnTo>
                <a:lnTo>
                  <a:pt x="76" y="65"/>
                </a:lnTo>
                <a:lnTo>
                  <a:pt x="76" y="60"/>
                </a:lnTo>
                <a:lnTo>
                  <a:pt x="82" y="54"/>
                </a:lnTo>
                <a:lnTo>
                  <a:pt x="87" y="49"/>
                </a:lnTo>
                <a:lnTo>
                  <a:pt x="98" y="43"/>
                </a:lnTo>
                <a:lnTo>
                  <a:pt x="104" y="43"/>
                </a:lnTo>
                <a:lnTo>
                  <a:pt x="115" y="38"/>
                </a:lnTo>
                <a:lnTo>
                  <a:pt x="120" y="38"/>
                </a:lnTo>
                <a:lnTo>
                  <a:pt x="125" y="33"/>
                </a:lnTo>
                <a:lnTo>
                  <a:pt x="136" y="27"/>
                </a:lnTo>
                <a:lnTo>
                  <a:pt x="142" y="22"/>
                </a:lnTo>
                <a:lnTo>
                  <a:pt x="147" y="16"/>
                </a:lnTo>
                <a:lnTo>
                  <a:pt x="158" y="16"/>
                </a:lnTo>
                <a:lnTo>
                  <a:pt x="169" y="16"/>
                </a:lnTo>
                <a:lnTo>
                  <a:pt x="175" y="11"/>
                </a:lnTo>
                <a:lnTo>
                  <a:pt x="185" y="11"/>
                </a:lnTo>
                <a:lnTo>
                  <a:pt x="196" y="5"/>
                </a:lnTo>
                <a:lnTo>
                  <a:pt x="202" y="5"/>
                </a:lnTo>
                <a:lnTo>
                  <a:pt x="213" y="0"/>
                </a:lnTo>
                <a:lnTo>
                  <a:pt x="224" y="0"/>
                </a:lnTo>
                <a:lnTo>
                  <a:pt x="229" y="0"/>
                </a:lnTo>
                <a:lnTo>
                  <a:pt x="240" y="0"/>
                </a:lnTo>
                <a:lnTo>
                  <a:pt x="245" y="5"/>
                </a:lnTo>
                <a:lnTo>
                  <a:pt x="256" y="11"/>
                </a:lnTo>
                <a:lnTo>
                  <a:pt x="256" y="16"/>
                </a:lnTo>
                <a:lnTo>
                  <a:pt x="245" y="16"/>
                </a:lnTo>
                <a:lnTo>
                  <a:pt x="240" y="22"/>
                </a:lnTo>
                <a:lnTo>
                  <a:pt x="229" y="27"/>
                </a:lnTo>
                <a:lnTo>
                  <a:pt x="224" y="22"/>
                </a:lnTo>
                <a:lnTo>
                  <a:pt x="213" y="22"/>
                </a:lnTo>
                <a:lnTo>
                  <a:pt x="202" y="22"/>
                </a:lnTo>
                <a:lnTo>
                  <a:pt x="196" y="22"/>
                </a:lnTo>
                <a:lnTo>
                  <a:pt x="191" y="22"/>
                </a:lnTo>
                <a:lnTo>
                  <a:pt x="191" y="33"/>
                </a:lnTo>
                <a:lnTo>
                  <a:pt x="191" y="38"/>
                </a:lnTo>
                <a:lnTo>
                  <a:pt x="191" y="49"/>
                </a:lnTo>
                <a:lnTo>
                  <a:pt x="191" y="54"/>
                </a:lnTo>
                <a:lnTo>
                  <a:pt x="185" y="65"/>
                </a:lnTo>
                <a:lnTo>
                  <a:pt x="185" y="71"/>
                </a:lnTo>
                <a:lnTo>
                  <a:pt x="175" y="76"/>
                </a:lnTo>
                <a:lnTo>
                  <a:pt x="169" y="76"/>
                </a:lnTo>
                <a:lnTo>
                  <a:pt x="158" y="76"/>
                </a:lnTo>
                <a:lnTo>
                  <a:pt x="142" y="71"/>
                </a:lnTo>
                <a:lnTo>
                  <a:pt x="136" y="71"/>
                </a:lnTo>
                <a:lnTo>
                  <a:pt x="131" y="76"/>
                </a:lnTo>
                <a:lnTo>
                  <a:pt x="125" y="82"/>
                </a:lnTo>
                <a:lnTo>
                  <a:pt x="125" y="87"/>
                </a:lnTo>
                <a:lnTo>
                  <a:pt x="115" y="92"/>
                </a:lnTo>
                <a:lnTo>
                  <a:pt x="109" y="98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9" name=""/>
          <p:cNvSpPr/>
          <p:nvPr/>
        </p:nvSpPr>
        <p:spPr>
          <a:xfrm>
            <a:off x="3576600" y="2955960"/>
            <a:ext cx="1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0" name=""/>
          <p:cNvSpPr/>
          <p:nvPr/>
        </p:nvSpPr>
        <p:spPr>
          <a:xfrm>
            <a:off x="3481560" y="2955960"/>
            <a:ext cx="26640" cy="34920"/>
          </a:xfrm>
          <a:custGeom>
            <a:avLst/>
            <a:gdLst/>
            <a:ahLst/>
            <a:rect l="l" t="t" r="r" b="b"/>
            <a:pathLst>
              <a:path w="17" h="22">
                <a:moveTo>
                  <a:pt x="17" y="22"/>
                </a:moveTo>
                <a:lnTo>
                  <a:pt x="11" y="22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5"/>
                </a:lnTo>
                <a:lnTo>
                  <a:pt x="0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0"/>
                </a:lnTo>
                <a:lnTo>
                  <a:pt x="6" y="0"/>
                </a:lnTo>
                <a:lnTo>
                  <a:pt x="6" y="0"/>
                </a:lnTo>
                <a:lnTo>
                  <a:pt x="6" y="0"/>
                </a:lnTo>
                <a:lnTo>
                  <a:pt x="6" y="0"/>
                </a:lnTo>
                <a:lnTo>
                  <a:pt x="17" y="2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1" name=""/>
          <p:cNvSpPr/>
          <p:nvPr/>
        </p:nvSpPr>
        <p:spPr>
          <a:xfrm>
            <a:off x="3508200" y="2946240"/>
            <a:ext cx="25560" cy="44640"/>
          </a:xfrm>
          <a:custGeom>
            <a:avLst/>
            <a:gdLst/>
            <a:ahLst/>
            <a:rect l="l" t="t" r="r" b="b"/>
            <a:pathLst>
              <a:path w="16" h="28">
                <a:moveTo>
                  <a:pt x="5" y="11"/>
                </a:moveTo>
                <a:lnTo>
                  <a:pt x="5" y="11"/>
                </a:lnTo>
                <a:lnTo>
                  <a:pt x="5" y="11"/>
                </a:lnTo>
                <a:lnTo>
                  <a:pt x="5" y="11"/>
                </a:lnTo>
                <a:lnTo>
                  <a:pt x="5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5" y="6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10" y="0"/>
                </a:lnTo>
                <a:lnTo>
                  <a:pt x="10" y="0"/>
                </a:lnTo>
                <a:lnTo>
                  <a:pt x="10" y="0"/>
                </a:lnTo>
                <a:lnTo>
                  <a:pt x="10" y="0"/>
                </a:lnTo>
                <a:lnTo>
                  <a:pt x="10" y="6"/>
                </a:lnTo>
                <a:lnTo>
                  <a:pt x="16" y="6"/>
                </a:lnTo>
                <a:lnTo>
                  <a:pt x="16" y="6"/>
                </a:lnTo>
                <a:lnTo>
                  <a:pt x="16" y="6"/>
                </a:lnTo>
                <a:lnTo>
                  <a:pt x="16" y="6"/>
                </a:lnTo>
                <a:lnTo>
                  <a:pt x="16" y="6"/>
                </a:lnTo>
                <a:lnTo>
                  <a:pt x="16" y="11"/>
                </a:lnTo>
                <a:lnTo>
                  <a:pt x="16" y="11"/>
                </a:lnTo>
                <a:lnTo>
                  <a:pt x="16" y="11"/>
                </a:lnTo>
                <a:lnTo>
                  <a:pt x="16" y="11"/>
                </a:lnTo>
                <a:lnTo>
                  <a:pt x="16" y="11"/>
                </a:lnTo>
                <a:lnTo>
                  <a:pt x="10" y="11"/>
                </a:lnTo>
                <a:lnTo>
                  <a:pt x="16" y="11"/>
                </a:lnTo>
                <a:lnTo>
                  <a:pt x="16" y="11"/>
                </a:lnTo>
                <a:lnTo>
                  <a:pt x="16" y="11"/>
                </a:lnTo>
                <a:lnTo>
                  <a:pt x="16" y="11"/>
                </a:lnTo>
                <a:lnTo>
                  <a:pt x="16" y="17"/>
                </a:lnTo>
                <a:lnTo>
                  <a:pt x="16" y="17"/>
                </a:lnTo>
                <a:lnTo>
                  <a:pt x="16" y="17"/>
                </a:lnTo>
                <a:lnTo>
                  <a:pt x="16" y="17"/>
                </a:lnTo>
                <a:lnTo>
                  <a:pt x="16" y="17"/>
                </a:lnTo>
                <a:lnTo>
                  <a:pt x="16" y="22"/>
                </a:lnTo>
                <a:lnTo>
                  <a:pt x="16" y="22"/>
                </a:lnTo>
                <a:lnTo>
                  <a:pt x="16" y="22"/>
                </a:lnTo>
                <a:lnTo>
                  <a:pt x="16" y="22"/>
                </a:lnTo>
                <a:lnTo>
                  <a:pt x="16" y="22"/>
                </a:lnTo>
                <a:lnTo>
                  <a:pt x="16" y="28"/>
                </a:lnTo>
                <a:lnTo>
                  <a:pt x="10" y="28"/>
                </a:lnTo>
                <a:lnTo>
                  <a:pt x="10" y="28"/>
                </a:lnTo>
                <a:lnTo>
                  <a:pt x="10" y="28"/>
                </a:lnTo>
                <a:lnTo>
                  <a:pt x="5" y="28"/>
                </a:lnTo>
                <a:lnTo>
                  <a:pt x="5" y="28"/>
                </a:lnTo>
                <a:lnTo>
                  <a:pt x="5" y="22"/>
                </a:lnTo>
                <a:lnTo>
                  <a:pt x="5" y="22"/>
                </a:lnTo>
                <a:lnTo>
                  <a:pt x="5" y="22"/>
                </a:lnTo>
                <a:lnTo>
                  <a:pt x="5" y="22"/>
                </a:lnTo>
                <a:lnTo>
                  <a:pt x="5" y="17"/>
                </a:lnTo>
                <a:lnTo>
                  <a:pt x="5" y="17"/>
                </a:lnTo>
                <a:lnTo>
                  <a:pt x="5" y="17"/>
                </a:lnTo>
                <a:lnTo>
                  <a:pt x="5" y="17"/>
                </a:lnTo>
                <a:lnTo>
                  <a:pt x="5" y="17"/>
                </a:lnTo>
                <a:lnTo>
                  <a:pt x="5" y="17"/>
                </a:lnTo>
                <a:lnTo>
                  <a:pt x="5" y="17"/>
                </a:lnTo>
                <a:lnTo>
                  <a:pt x="5" y="11"/>
                </a:lnTo>
                <a:close/>
                <a:moveTo>
                  <a:pt x="5" y="11"/>
                </a:moveTo>
                <a:lnTo>
                  <a:pt x="5" y="11"/>
                </a:lnTo>
                <a:lnTo>
                  <a:pt x="5" y="11"/>
                </a:lnTo>
                <a:lnTo>
                  <a:pt x="5" y="11"/>
                </a:lnTo>
                <a:lnTo>
                  <a:pt x="5" y="11"/>
                </a:lnTo>
                <a:lnTo>
                  <a:pt x="5" y="11"/>
                </a:lnTo>
                <a:lnTo>
                  <a:pt x="5" y="11"/>
                </a:lnTo>
                <a:lnTo>
                  <a:pt x="10" y="11"/>
                </a:lnTo>
                <a:lnTo>
                  <a:pt x="10" y="11"/>
                </a:lnTo>
                <a:lnTo>
                  <a:pt x="10" y="11"/>
                </a:lnTo>
                <a:lnTo>
                  <a:pt x="10" y="11"/>
                </a:lnTo>
                <a:lnTo>
                  <a:pt x="10" y="11"/>
                </a:lnTo>
                <a:lnTo>
                  <a:pt x="10" y="11"/>
                </a:lnTo>
                <a:lnTo>
                  <a:pt x="10" y="11"/>
                </a:lnTo>
                <a:lnTo>
                  <a:pt x="10" y="11"/>
                </a:lnTo>
                <a:lnTo>
                  <a:pt x="10" y="6"/>
                </a:lnTo>
                <a:lnTo>
                  <a:pt x="10" y="6"/>
                </a:lnTo>
                <a:lnTo>
                  <a:pt x="10" y="6"/>
                </a:lnTo>
                <a:lnTo>
                  <a:pt x="10" y="6"/>
                </a:lnTo>
                <a:lnTo>
                  <a:pt x="10" y="6"/>
                </a:lnTo>
                <a:lnTo>
                  <a:pt x="10" y="6"/>
                </a:lnTo>
                <a:lnTo>
                  <a:pt x="10" y="6"/>
                </a:lnTo>
                <a:lnTo>
                  <a:pt x="10" y="6"/>
                </a:lnTo>
                <a:lnTo>
                  <a:pt x="10" y="6"/>
                </a:lnTo>
                <a:lnTo>
                  <a:pt x="5" y="6"/>
                </a:lnTo>
                <a:lnTo>
                  <a:pt x="5" y="6"/>
                </a:lnTo>
                <a:lnTo>
                  <a:pt x="5" y="6"/>
                </a:lnTo>
                <a:lnTo>
                  <a:pt x="5" y="6"/>
                </a:lnTo>
                <a:lnTo>
                  <a:pt x="5" y="6"/>
                </a:lnTo>
                <a:lnTo>
                  <a:pt x="5" y="6"/>
                </a:lnTo>
                <a:lnTo>
                  <a:pt x="5" y="6"/>
                </a:lnTo>
                <a:lnTo>
                  <a:pt x="5" y="6"/>
                </a:lnTo>
                <a:lnTo>
                  <a:pt x="5" y="11"/>
                </a:lnTo>
                <a:close/>
                <a:moveTo>
                  <a:pt x="5" y="22"/>
                </a:moveTo>
                <a:lnTo>
                  <a:pt x="5" y="22"/>
                </a:lnTo>
                <a:lnTo>
                  <a:pt x="5" y="22"/>
                </a:lnTo>
                <a:lnTo>
                  <a:pt x="5" y="22"/>
                </a:lnTo>
                <a:lnTo>
                  <a:pt x="5" y="22"/>
                </a:lnTo>
                <a:lnTo>
                  <a:pt x="5" y="22"/>
                </a:lnTo>
                <a:lnTo>
                  <a:pt x="10" y="22"/>
                </a:lnTo>
                <a:lnTo>
                  <a:pt x="10" y="22"/>
                </a:lnTo>
                <a:lnTo>
                  <a:pt x="10" y="22"/>
                </a:lnTo>
                <a:lnTo>
                  <a:pt x="10" y="22"/>
                </a:lnTo>
                <a:lnTo>
                  <a:pt x="10" y="22"/>
                </a:lnTo>
                <a:lnTo>
                  <a:pt x="10" y="22"/>
                </a:lnTo>
                <a:lnTo>
                  <a:pt x="10" y="22"/>
                </a:lnTo>
                <a:lnTo>
                  <a:pt x="10" y="22"/>
                </a:lnTo>
                <a:lnTo>
                  <a:pt x="16" y="22"/>
                </a:lnTo>
                <a:lnTo>
                  <a:pt x="16" y="22"/>
                </a:lnTo>
                <a:lnTo>
                  <a:pt x="16" y="22"/>
                </a:lnTo>
                <a:lnTo>
                  <a:pt x="16" y="22"/>
                </a:lnTo>
                <a:lnTo>
                  <a:pt x="16" y="22"/>
                </a:lnTo>
                <a:lnTo>
                  <a:pt x="16" y="17"/>
                </a:lnTo>
                <a:lnTo>
                  <a:pt x="16" y="17"/>
                </a:lnTo>
                <a:lnTo>
                  <a:pt x="16" y="17"/>
                </a:lnTo>
                <a:lnTo>
                  <a:pt x="16" y="17"/>
                </a:lnTo>
                <a:lnTo>
                  <a:pt x="16" y="17"/>
                </a:lnTo>
                <a:lnTo>
                  <a:pt x="16" y="17"/>
                </a:lnTo>
                <a:lnTo>
                  <a:pt x="10" y="17"/>
                </a:lnTo>
                <a:lnTo>
                  <a:pt x="10" y="11"/>
                </a:lnTo>
                <a:lnTo>
                  <a:pt x="10" y="11"/>
                </a:lnTo>
                <a:lnTo>
                  <a:pt x="10" y="17"/>
                </a:lnTo>
                <a:lnTo>
                  <a:pt x="10" y="17"/>
                </a:lnTo>
                <a:lnTo>
                  <a:pt x="5" y="17"/>
                </a:lnTo>
                <a:lnTo>
                  <a:pt x="5" y="17"/>
                </a:lnTo>
                <a:lnTo>
                  <a:pt x="5" y="17"/>
                </a:lnTo>
                <a:lnTo>
                  <a:pt x="5" y="17"/>
                </a:lnTo>
                <a:lnTo>
                  <a:pt x="5" y="17"/>
                </a:lnTo>
                <a:lnTo>
                  <a:pt x="5" y="17"/>
                </a:lnTo>
                <a:lnTo>
                  <a:pt x="5" y="2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2" name=""/>
          <p:cNvSpPr/>
          <p:nvPr/>
        </p:nvSpPr>
        <p:spPr>
          <a:xfrm>
            <a:off x="3541680" y="2938320"/>
            <a:ext cx="27000" cy="42840"/>
          </a:xfrm>
          <a:custGeom>
            <a:avLst/>
            <a:gdLst/>
            <a:ahLst/>
            <a:rect l="l" t="t" r="r" b="b"/>
            <a:pathLst>
              <a:path w="17" h="27">
                <a:moveTo>
                  <a:pt x="0" y="16"/>
                </a:moveTo>
                <a:lnTo>
                  <a:pt x="0" y="16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6" y="0"/>
                </a:lnTo>
                <a:lnTo>
                  <a:pt x="6" y="0"/>
                </a:lnTo>
                <a:lnTo>
                  <a:pt x="6" y="0"/>
                </a:lnTo>
                <a:lnTo>
                  <a:pt x="6" y="0"/>
                </a:lnTo>
                <a:lnTo>
                  <a:pt x="6" y="0"/>
                </a:lnTo>
                <a:lnTo>
                  <a:pt x="6" y="5"/>
                </a:lnTo>
                <a:lnTo>
                  <a:pt x="11" y="5"/>
                </a:lnTo>
                <a:lnTo>
                  <a:pt x="11" y="5"/>
                </a:lnTo>
                <a:lnTo>
                  <a:pt x="11" y="5"/>
                </a:lnTo>
                <a:lnTo>
                  <a:pt x="11" y="5"/>
                </a:lnTo>
                <a:lnTo>
                  <a:pt x="11" y="5"/>
                </a:lnTo>
                <a:lnTo>
                  <a:pt x="11" y="5"/>
                </a:lnTo>
                <a:lnTo>
                  <a:pt x="11" y="5"/>
                </a:lnTo>
                <a:lnTo>
                  <a:pt x="11" y="11"/>
                </a:lnTo>
                <a:lnTo>
                  <a:pt x="11" y="11"/>
                </a:lnTo>
                <a:lnTo>
                  <a:pt x="17" y="11"/>
                </a:lnTo>
                <a:lnTo>
                  <a:pt x="17" y="11"/>
                </a:lnTo>
                <a:lnTo>
                  <a:pt x="17" y="16"/>
                </a:lnTo>
                <a:lnTo>
                  <a:pt x="17" y="16"/>
                </a:lnTo>
                <a:lnTo>
                  <a:pt x="17" y="16"/>
                </a:lnTo>
                <a:lnTo>
                  <a:pt x="17" y="22"/>
                </a:lnTo>
                <a:lnTo>
                  <a:pt x="17" y="22"/>
                </a:lnTo>
                <a:lnTo>
                  <a:pt x="17" y="22"/>
                </a:lnTo>
                <a:lnTo>
                  <a:pt x="17" y="22"/>
                </a:lnTo>
                <a:lnTo>
                  <a:pt x="11" y="22"/>
                </a:lnTo>
                <a:lnTo>
                  <a:pt x="11" y="27"/>
                </a:lnTo>
                <a:lnTo>
                  <a:pt x="11" y="27"/>
                </a:lnTo>
                <a:lnTo>
                  <a:pt x="11" y="27"/>
                </a:lnTo>
                <a:lnTo>
                  <a:pt x="11" y="27"/>
                </a:lnTo>
                <a:lnTo>
                  <a:pt x="6" y="27"/>
                </a:lnTo>
                <a:lnTo>
                  <a:pt x="6" y="27"/>
                </a:lnTo>
                <a:lnTo>
                  <a:pt x="6" y="27"/>
                </a:lnTo>
                <a:lnTo>
                  <a:pt x="6" y="27"/>
                </a:lnTo>
                <a:lnTo>
                  <a:pt x="0" y="22"/>
                </a:lnTo>
                <a:lnTo>
                  <a:pt x="0" y="22"/>
                </a:lnTo>
                <a:lnTo>
                  <a:pt x="0" y="22"/>
                </a:lnTo>
                <a:lnTo>
                  <a:pt x="0" y="16"/>
                </a:lnTo>
                <a:close/>
                <a:moveTo>
                  <a:pt x="0" y="16"/>
                </a:moveTo>
                <a:lnTo>
                  <a:pt x="0" y="16"/>
                </a:lnTo>
                <a:lnTo>
                  <a:pt x="6" y="22"/>
                </a:lnTo>
                <a:lnTo>
                  <a:pt x="6" y="22"/>
                </a:lnTo>
                <a:lnTo>
                  <a:pt x="6" y="22"/>
                </a:lnTo>
                <a:lnTo>
                  <a:pt x="6" y="22"/>
                </a:lnTo>
                <a:lnTo>
                  <a:pt x="6" y="22"/>
                </a:lnTo>
                <a:lnTo>
                  <a:pt x="6" y="27"/>
                </a:lnTo>
                <a:lnTo>
                  <a:pt x="11" y="22"/>
                </a:lnTo>
                <a:lnTo>
                  <a:pt x="11" y="22"/>
                </a:lnTo>
                <a:lnTo>
                  <a:pt x="11" y="22"/>
                </a:lnTo>
                <a:lnTo>
                  <a:pt x="11" y="22"/>
                </a:lnTo>
                <a:lnTo>
                  <a:pt x="11" y="22"/>
                </a:lnTo>
                <a:lnTo>
                  <a:pt x="11" y="22"/>
                </a:lnTo>
                <a:lnTo>
                  <a:pt x="11" y="16"/>
                </a:lnTo>
                <a:lnTo>
                  <a:pt x="11" y="16"/>
                </a:lnTo>
                <a:lnTo>
                  <a:pt x="11" y="16"/>
                </a:lnTo>
                <a:lnTo>
                  <a:pt x="11" y="11"/>
                </a:lnTo>
                <a:lnTo>
                  <a:pt x="11" y="11"/>
                </a:lnTo>
                <a:lnTo>
                  <a:pt x="11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6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3" name=""/>
          <p:cNvSpPr/>
          <p:nvPr/>
        </p:nvSpPr>
        <p:spPr>
          <a:xfrm>
            <a:off x="3463920" y="2981160"/>
            <a:ext cx="1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4" name=""/>
          <p:cNvSpPr/>
          <p:nvPr/>
        </p:nvSpPr>
        <p:spPr>
          <a:xfrm>
            <a:off x="3395520" y="2981160"/>
            <a:ext cx="68400" cy="69840"/>
          </a:xfrm>
          <a:custGeom>
            <a:avLst/>
            <a:gdLst/>
            <a:ahLst/>
            <a:rect l="l" t="t" r="r" b="b"/>
            <a:pathLst>
              <a:path w="43" h="44">
                <a:moveTo>
                  <a:pt x="43" y="0"/>
                </a:moveTo>
                <a:lnTo>
                  <a:pt x="38" y="0"/>
                </a:lnTo>
                <a:lnTo>
                  <a:pt x="32" y="0"/>
                </a:lnTo>
                <a:lnTo>
                  <a:pt x="32" y="6"/>
                </a:lnTo>
                <a:lnTo>
                  <a:pt x="27" y="17"/>
                </a:lnTo>
                <a:lnTo>
                  <a:pt x="27" y="22"/>
                </a:lnTo>
                <a:lnTo>
                  <a:pt x="21" y="33"/>
                </a:lnTo>
                <a:lnTo>
                  <a:pt x="16" y="38"/>
                </a:lnTo>
                <a:lnTo>
                  <a:pt x="11" y="44"/>
                </a:lnTo>
                <a:lnTo>
                  <a:pt x="11" y="44"/>
                </a:lnTo>
                <a:lnTo>
                  <a:pt x="5" y="44"/>
                </a:lnTo>
                <a:lnTo>
                  <a:pt x="5" y="38"/>
                </a:lnTo>
                <a:lnTo>
                  <a:pt x="0" y="28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5" name=""/>
          <p:cNvSpPr/>
          <p:nvPr/>
        </p:nvSpPr>
        <p:spPr>
          <a:xfrm>
            <a:off x="4268880" y="2790720"/>
            <a:ext cx="1440" cy="27000"/>
          </a:xfrm>
          <a:custGeom>
            <a:avLst/>
            <a:gdLst/>
            <a:ahLst/>
            <a:rect l="l" t="t" r="r" b="b"/>
            <a:pathLst>
              <a:path w="0" h="17">
                <a:moveTo>
                  <a:pt x="0" y="17"/>
                </a:moveTo>
                <a:lnTo>
                  <a:pt x="0" y="11"/>
                </a:lnTo>
                <a:lnTo>
                  <a:pt x="0" y="11"/>
                </a:lnTo>
                <a:lnTo>
                  <a:pt x="0" y="6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6"/>
                </a:lnTo>
                <a:lnTo>
                  <a:pt x="0" y="6"/>
                </a:lnTo>
                <a:lnTo>
                  <a:pt x="0" y="11"/>
                </a:lnTo>
                <a:lnTo>
                  <a:pt x="0" y="17"/>
                </a:lnTo>
                <a:lnTo>
                  <a:pt x="0" y="17"/>
                </a:lnTo>
                <a:lnTo>
                  <a:pt x="0" y="17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6" name=""/>
          <p:cNvSpPr/>
          <p:nvPr/>
        </p:nvSpPr>
        <p:spPr>
          <a:xfrm>
            <a:off x="3879720" y="2757600"/>
            <a:ext cx="95400" cy="25200"/>
          </a:xfrm>
          <a:custGeom>
            <a:avLst/>
            <a:gdLst/>
            <a:ahLst/>
            <a:rect l="l" t="t" r="r" b="b"/>
            <a:pathLst>
              <a:path w="60" h="16">
                <a:moveTo>
                  <a:pt x="0" y="5"/>
                </a:moveTo>
                <a:lnTo>
                  <a:pt x="5" y="5"/>
                </a:lnTo>
                <a:lnTo>
                  <a:pt x="11" y="0"/>
                </a:lnTo>
                <a:lnTo>
                  <a:pt x="16" y="0"/>
                </a:lnTo>
                <a:lnTo>
                  <a:pt x="22" y="0"/>
                </a:lnTo>
                <a:lnTo>
                  <a:pt x="27" y="0"/>
                </a:lnTo>
                <a:lnTo>
                  <a:pt x="38" y="0"/>
                </a:lnTo>
                <a:lnTo>
                  <a:pt x="44" y="0"/>
                </a:lnTo>
                <a:lnTo>
                  <a:pt x="49" y="0"/>
                </a:lnTo>
                <a:lnTo>
                  <a:pt x="54" y="5"/>
                </a:lnTo>
                <a:lnTo>
                  <a:pt x="60" y="5"/>
                </a:lnTo>
                <a:lnTo>
                  <a:pt x="54" y="10"/>
                </a:lnTo>
                <a:lnTo>
                  <a:pt x="44" y="10"/>
                </a:lnTo>
                <a:lnTo>
                  <a:pt x="38" y="16"/>
                </a:lnTo>
                <a:lnTo>
                  <a:pt x="33" y="16"/>
                </a:lnTo>
                <a:lnTo>
                  <a:pt x="27" y="16"/>
                </a:lnTo>
                <a:lnTo>
                  <a:pt x="22" y="16"/>
                </a:lnTo>
                <a:lnTo>
                  <a:pt x="16" y="16"/>
                </a:lnTo>
                <a:lnTo>
                  <a:pt x="11" y="16"/>
                </a:lnTo>
                <a:lnTo>
                  <a:pt x="5" y="10"/>
                </a:lnTo>
                <a:lnTo>
                  <a:pt x="0" y="5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7" name=""/>
          <p:cNvSpPr/>
          <p:nvPr/>
        </p:nvSpPr>
        <p:spPr>
          <a:xfrm>
            <a:off x="4060800" y="2712960"/>
            <a:ext cx="69840" cy="17640"/>
          </a:xfrm>
          <a:custGeom>
            <a:avLst/>
            <a:gdLst/>
            <a:ahLst/>
            <a:rect l="l" t="t" r="r" b="b"/>
            <a:pathLst>
              <a:path w="44" h="11">
                <a:moveTo>
                  <a:pt x="0" y="0"/>
                </a:moveTo>
                <a:lnTo>
                  <a:pt x="6" y="0"/>
                </a:lnTo>
                <a:lnTo>
                  <a:pt x="11" y="0"/>
                </a:lnTo>
                <a:lnTo>
                  <a:pt x="17" y="0"/>
                </a:lnTo>
                <a:lnTo>
                  <a:pt x="17" y="0"/>
                </a:lnTo>
                <a:lnTo>
                  <a:pt x="22" y="0"/>
                </a:lnTo>
                <a:lnTo>
                  <a:pt x="28" y="0"/>
                </a:lnTo>
                <a:lnTo>
                  <a:pt x="33" y="0"/>
                </a:lnTo>
                <a:lnTo>
                  <a:pt x="39" y="0"/>
                </a:lnTo>
                <a:lnTo>
                  <a:pt x="44" y="0"/>
                </a:lnTo>
                <a:lnTo>
                  <a:pt x="44" y="6"/>
                </a:lnTo>
                <a:lnTo>
                  <a:pt x="44" y="6"/>
                </a:lnTo>
                <a:lnTo>
                  <a:pt x="39" y="6"/>
                </a:lnTo>
                <a:lnTo>
                  <a:pt x="33" y="11"/>
                </a:lnTo>
                <a:lnTo>
                  <a:pt x="28" y="11"/>
                </a:lnTo>
                <a:lnTo>
                  <a:pt x="22" y="11"/>
                </a:lnTo>
                <a:lnTo>
                  <a:pt x="17" y="11"/>
                </a:lnTo>
                <a:lnTo>
                  <a:pt x="11" y="11"/>
                </a:lnTo>
                <a:lnTo>
                  <a:pt x="6" y="6"/>
                </a:lnTo>
                <a:lnTo>
                  <a:pt x="6" y="6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8" name=""/>
          <p:cNvSpPr/>
          <p:nvPr/>
        </p:nvSpPr>
        <p:spPr>
          <a:xfrm>
            <a:off x="4243320" y="2662200"/>
            <a:ext cx="42840" cy="17640"/>
          </a:xfrm>
          <a:custGeom>
            <a:avLst/>
            <a:gdLst/>
            <a:ahLst/>
            <a:rect l="l" t="t" r="r" b="b"/>
            <a:pathLst>
              <a:path w="27" h="11">
                <a:moveTo>
                  <a:pt x="0" y="5"/>
                </a:moveTo>
                <a:lnTo>
                  <a:pt x="5" y="0"/>
                </a:lnTo>
                <a:lnTo>
                  <a:pt x="11" y="0"/>
                </a:lnTo>
                <a:lnTo>
                  <a:pt x="16" y="0"/>
                </a:lnTo>
                <a:lnTo>
                  <a:pt x="22" y="0"/>
                </a:lnTo>
                <a:lnTo>
                  <a:pt x="27" y="0"/>
                </a:lnTo>
                <a:lnTo>
                  <a:pt x="27" y="0"/>
                </a:lnTo>
                <a:lnTo>
                  <a:pt x="27" y="5"/>
                </a:lnTo>
                <a:lnTo>
                  <a:pt x="27" y="5"/>
                </a:lnTo>
                <a:lnTo>
                  <a:pt x="22" y="11"/>
                </a:lnTo>
                <a:lnTo>
                  <a:pt x="16" y="11"/>
                </a:lnTo>
                <a:lnTo>
                  <a:pt x="11" y="11"/>
                </a:lnTo>
                <a:lnTo>
                  <a:pt x="11" y="11"/>
                </a:lnTo>
                <a:lnTo>
                  <a:pt x="5" y="5"/>
                </a:lnTo>
                <a:lnTo>
                  <a:pt x="0" y="5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9" name=""/>
          <p:cNvSpPr/>
          <p:nvPr/>
        </p:nvSpPr>
        <p:spPr>
          <a:xfrm>
            <a:off x="3541680" y="4262400"/>
            <a:ext cx="69840" cy="42840"/>
          </a:xfrm>
          <a:custGeom>
            <a:avLst/>
            <a:gdLst/>
            <a:ahLst/>
            <a:rect l="l" t="t" r="r" b="b"/>
            <a:pathLst>
              <a:path w="44" h="27">
                <a:moveTo>
                  <a:pt x="0" y="16"/>
                </a:moveTo>
                <a:lnTo>
                  <a:pt x="0" y="11"/>
                </a:lnTo>
                <a:lnTo>
                  <a:pt x="6" y="5"/>
                </a:lnTo>
                <a:lnTo>
                  <a:pt x="6" y="5"/>
                </a:lnTo>
                <a:lnTo>
                  <a:pt x="11" y="0"/>
                </a:lnTo>
                <a:lnTo>
                  <a:pt x="17" y="0"/>
                </a:lnTo>
                <a:lnTo>
                  <a:pt x="22" y="0"/>
                </a:lnTo>
                <a:lnTo>
                  <a:pt x="28" y="5"/>
                </a:lnTo>
                <a:lnTo>
                  <a:pt x="33" y="5"/>
                </a:lnTo>
                <a:lnTo>
                  <a:pt x="38" y="11"/>
                </a:lnTo>
                <a:lnTo>
                  <a:pt x="44" y="11"/>
                </a:lnTo>
                <a:lnTo>
                  <a:pt x="44" y="16"/>
                </a:lnTo>
                <a:lnTo>
                  <a:pt x="44" y="22"/>
                </a:lnTo>
                <a:lnTo>
                  <a:pt x="38" y="22"/>
                </a:lnTo>
                <a:lnTo>
                  <a:pt x="33" y="22"/>
                </a:lnTo>
                <a:lnTo>
                  <a:pt x="28" y="27"/>
                </a:lnTo>
                <a:lnTo>
                  <a:pt x="22" y="27"/>
                </a:lnTo>
                <a:lnTo>
                  <a:pt x="11" y="22"/>
                </a:lnTo>
                <a:lnTo>
                  <a:pt x="11" y="22"/>
                </a:lnTo>
                <a:lnTo>
                  <a:pt x="6" y="22"/>
                </a:lnTo>
                <a:lnTo>
                  <a:pt x="0" y="16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0" name=""/>
          <p:cNvSpPr/>
          <p:nvPr/>
        </p:nvSpPr>
        <p:spPr>
          <a:xfrm>
            <a:off x="2295360" y="4079880"/>
            <a:ext cx="9720" cy="9360"/>
          </a:xfrm>
          <a:custGeom>
            <a:avLst/>
            <a:gdLst/>
            <a:ahLst/>
            <a:rect l="l" t="t" r="r" b="b"/>
            <a:pathLst>
              <a:path w="6" h="6">
                <a:moveTo>
                  <a:pt x="0" y="6"/>
                </a:moveTo>
                <a:lnTo>
                  <a:pt x="0" y="6"/>
                </a:lnTo>
                <a:lnTo>
                  <a:pt x="0" y="0"/>
                </a:lnTo>
                <a:lnTo>
                  <a:pt x="6" y="6"/>
                </a:lnTo>
                <a:lnTo>
                  <a:pt x="6" y="6"/>
                </a:lnTo>
                <a:lnTo>
                  <a:pt x="6" y="6"/>
                </a:lnTo>
                <a:lnTo>
                  <a:pt x="6" y="6"/>
                </a:lnTo>
                <a:lnTo>
                  <a:pt x="6" y="6"/>
                </a:lnTo>
                <a:lnTo>
                  <a:pt x="6" y="6"/>
                </a:lnTo>
                <a:lnTo>
                  <a:pt x="6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1" name=""/>
          <p:cNvSpPr/>
          <p:nvPr/>
        </p:nvSpPr>
        <p:spPr>
          <a:xfrm>
            <a:off x="2243160" y="3986280"/>
            <a:ext cx="17280" cy="33120"/>
          </a:xfrm>
          <a:custGeom>
            <a:avLst/>
            <a:gdLst/>
            <a:ahLst/>
            <a:rect l="l" t="t" r="r" b="b"/>
            <a:pathLst>
              <a:path w="11" h="21">
                <a:moveTo>
                  <a:pt x="0" y="0"/>
                </a:moveTo>
                <a:lnTo>
                  <a:pt x="6" y="0"/>
                </a:lnTo>
                <a:lnTo>
                  <a:pt x="6" y="0"/>
                </a:lnTo>
                <a:lnTo>
                  <a:pt x="11" y="5"/>
                </a:lnTo>
                <a:lnTo>
                  <a:pt x="11" y="10"/>
                </a:lnTo>
                <a:lnTo>
                  <a:pt x="11" y="16"/>
                </a:lnTo>
                <a:lnTo>
                  <a:pt x="6" y="21"/>
                </a:lnTo>
                <a:lnTo>
                  <a:pt x="6" y="21"/>
                </a:lnTo>
                <a:lnTo>
                  <a:pt x="6" y="21"/>
                </a:lnTo>
                <a:lnTo>
                  <a:pt x="0" y="21"/>
                </a:lnTo>
                <a:lnTo>
                  <a:pt x="0" y="21"/>
                </a:lnTo>
                <a:lnTo>
                  <a:pt x="0" y="16"/>
                </a:lnTo>
                <a:lnTo>
                  <a:pt x="0" y="10"/>
                </a:lnTo>
                <a:lnTo>
                  <a:pt x="0" y="5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2" name=""/>
          <p:cNvSpPr/>
          <p:nvPr/>
        </p:nvSpPr>
        <p:spPr>
          <a:xfrm>
            <a:off x="3057480" y="3986280"/>
            <a:ext cx="7920" cy="1440"/>
          </a:xfrm>
          <a:custGeom>
            <a:avLst/>
            <a:gdLst/>
            <a:ahLst/>
            <a:rect l="l" t="t" r="r" b="b"/>
            <a:pathLst>
              <a:path w="5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3" name=""/>
          <p:cNvSpPr/>
          <p:nvPr/>
        </p:nvSpPr>
        <p:spPr>
          <a:xfrm>
            <a:off x="3749760" y="3838680"/>
            <a:ext cx="42840" cy="147600"/>
          </a:xfrm>
          <a:custGeom>
            <a:avLst/>
            <a:gdLst/>
            <a:ahLst/>
            <a:rect l="l" t="t" r="r" b="b"/>
            <a:pathLst>
              <a:path w="27" h="93">
                <a:moveTo>
                  <a:pt x="6" y="93"/>
                </a:moveTo>
                <a:lnTo>
                  <a:pt x="6" y="87"/>
                </a:lnTo>
                <a:lnTo>
                  <a:pt x="6" y="76"/>
                </a:lnTo>
                <a:lnTo>
                  <a:pt x="6" y="71"/>
                </a:lnTo>
                <a:lnTo>
                  <a:pt x="6" y="60"/>
                </a:lnTo>
                <a:lnTo>
                  <a:pt x="6" y="54"/>
                </a:lnTo>
                <a:lnTo>
                  <a:pt x="6" y="49"/>
                </a:lnTo>
                <a:lnTo>
                  <a:pt x="0" y="43"/>
                </a:lnTo>
                <a:lnTo>
                  <a:pt x="0" y="33"/>
                </a:lnTo>
                <a:lnTo>
                  <a:pt x="0" y="27"/>
                </a:lnTo>
                <a:lnTo>
                  <a:pt x="0" y="16"/>
                </a:lnTo>
                <a:lnTo>
                  <a:pt x="6" y="5"/>
                </a:lnTo>
                <a:lnTo>
                  <a:pt x="6" y="0"/>
                </a:lnTo>
                <a:lnTo>
                  <a:pt x="11" y="0"/>
                </a:lnTo>
                <a:lnTo>
                  <a:pt x="17" y="5"/>
                </a:lnTo>
                <a:lnTo>
                  <a:pt x="22" y="16"/>
                </a:lnTo>
                <a:lnTo>
                  <a:pt x="27" y="27"/>
                </a:lnTo>
                <a:lnTo>
                  <a:pt x="27" y="33"/>
                </a:lnTo>
                <a:lnTo>
                  <a:pt x="27" y="43"/>
                </a:lnTo>
                <a:lnTo>
                  <a:pt x="22" y="49"/>
                </a:lnTo>
                <a:lnTo>
                  <a:pt x="22" y="54"/>
                </a:lnTo>
                <a:lnTo>
                  <a:pt x="17" y="60"/>
                </a:lnTo>
                <a:lnTo>
                  <a:pt x="17" y="71"/>
                </a:lnTo>
                <a:lnTo>
                  <a:pt x="17" y="76"/>
                </a:lnTo>
                <a:lnTo>
                  <a:pt x="17" y="82"/>
                </a:lnTo>
                <a:lnTo>
                  <a:pt x="11" y="93"/>
                </a:lnTo>
                <a:lnTo>
                  <a:pt x="6" y="93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4" name=""/>
          <p:cNvSpPr/>
          <p:nvPr/>
        </p:nvSpPr>
        <p:spPr>
          <a:xfrm>
            <a:off x="3629160" y="2567160"/>
            <a:ext cx="2293920" cy="1314360"/>
          </a:xfrm>
          <a:custGeom>
            <a:avLst/>
            <a:gdLst/>
            <a:ahLst/>
            <a:rect l="l" t="t" r="r" b="b"/>
            <a:pathLst>
              <a:path w="1445" h="828">
                <a:moveTo>
                  <a:pt x="0" y="795"/>
                </a:moveTo>
                <a:lnTo>
                  <a:pt x="0" y="790"/>
                </a:lnTo>
                <a:lnTo>
                  <a:pt x="5" y="784"/>
                </a:lnTo>
                <a:lnTo>
                  <a:pt x="5" y="774"/>
                </a:lnTo>
                <a:lnTo>
                  <a:pt x="5" y="768"/>
                </a:lnTo>
                <a:lnTo>
                  <a:pt x="5" y="763"/>
                </a:lnTo>
                <a:lnTo>
                  <a:pt x="11" y="752"/>
                </a:lnTo>
                <a:lnTo>
                  <a:pt x="11" y="746"/>
                </a:lnTo>
                <a:lnTo>
                  <a:pt x="11" y="741"/>
                </a:lnTo>
                <a:lnTo>
                  <a:pt x="11" y="730"/>
                </a:lnTo>
                <a:lnTo>
                  <a:pt x="11" y="725"/>
                </a:lnTo>
                <a:lnTo>
                  <a:pt x="11" y="719"/>
                </a:lnTo>
                <a:lnTo>
                  <a:pt x="11" y="708"/>
                </a:lnTo>
                <a:lnTo>
                  <a:pt x="5" y="703"/>
                </a:lnTo>
                <a:lnTo>
                  <a:pt x="5" y="697"/>
                </a:lnTo>
                <a:lnTo>
                  <a:pt x="5" y="686"/>
                </a:lnTo>
                <a:lnTo>
                  <a:pt x="5" y="681"/>
                </a:lnTo>
                <a:lnTo>
                  <a:pt x="5" y="675"/>
                </a:lnTo>
                <a:lnTo>
                  <a:pt x="5" y="665"/>
                </a:lnTo>
                <a:lnTo>
                  <a:pt x="5" y="659"/>
                </a:lnTo>
                <a:lnTo>
                  <a:pt x="0" y="654"/>
                </a:lnTo>
                <a:lnTo>
                  <a:pt x="0" y="643"/>
                </a:lnTo>
                <a:lnTo>
                  <a:pt x="5" y="637"/>
                </a:lnTo>
                <a:lnTo>
                  <a:pt x="5" y="632"/>
                </a:lnTo>
                <a:lnTo>
                  <a:pt x="11" y="626"/>
                </a:lnTo>
                <a:lnTo>
                  <a:pt x="16" y="616"/>
                </a:lnTo>
                <a:lnTo>
                  <a:pt x="22" y="610"/>
                </a:lnTo>
                <a:lnTo>
                  <a:pt x="27" y="605"/>
                </a:lnTo>
                <a:lnTo>
                  <a:pt x="27" y="599"/>
                </a:lnTo>
                <a:lnTo>
                  <a:pt x="33" y="588"/>
                </a:lnTo>
                <a:lnTo>
                  <a:pt x="33" y="583"/>
                </a:lnTo>
                <a:lnTo>
                  <a:pt x="33" y="577"/>
                </a:lnTo>
                <a:lnTo>
                  <a:pt x="33" y="566"/>
                </a:lnTo>
                <a:lnTo>
                  <a:pt x="33" y="561"/>
                </a:lnTo>
                <a:lnTo>
                  <a:pt x="33" y="556"/>
                </a:lnTo>
                <a:lnTo>
                  <a:pt x="38" y="545"/>
                </a:lnTo>
                <a:lnTo>
                  <a:pt x="38" y="539"/>
                </a:lnTo>
                <a:lnTo>
                  <a:pt x="43" y="534"/>
                </a:lnTo>
                <a:lnTo>
                  <a:pt x="49" y="528"/>
                </a:lnTo>
                <a:lnTo>
                  <a:pt x="54" y="517"/>
                </a:lnTo>
                <a:lnTo>
                  <a:pt x="54" y="512"/>
                </a:lnTo>
                <a:lnTo>
                  <a:pt x="49" y="507"/>
                </a:lnTo>
                <a:lnTo>
                  <a:pt x="49" y="496"/>
                </a:lnTo>
                <a:lnTo>
                  <a:pt x="43" y="490"/>
                </a:lnTo>
                <a:lnTo>
                  <a:pt x="38" y="485"/>
                </a:lnTo>
                <a:lnTo>
                  <a:pt x="33" y="479"/>
                </a:lnTo>
                <a:lnTo>
                  <a:pt x="33" y="468"/>
                </a:lnTo>
                <a:lnTo>
                  <a:pt x="33" y="463"/>
                </a:lnTo>
                <a:lnTo>
                  <a:pt x="33" y="457"/>
                </a:lnTo>
                <a:lnTo>
                  <a:pt x="33" y="447"/>
                </a:lnTo>
                <a:lnTo>
                  <a:pt x="33" y="441"/>
                </a:lnTo>
                <a:lnTo>
                  <a:pt x="33" y="436"/>
                </a:lnTo>
                <a:lnTo>
                  <a:pt x="33" y="425"/>
                </a:lnTo>
                <a:lnTo>
                  <a:pt x="38" y="419"/>
                </a:lnTo>
                <a:lnTo>
                  <a:pt x="33" y="414"/>
                </a:lnTo>
                <a:lnTo>
                  <a:pt x="33" y="403"/>
                </a:lnTo>
                <a:lnTo>
                  <a:pt x="33" y="398"/>
                </a:lnTo>
                <a:lnTo>
                  <a:pt x="27" y="392"/>
                </a:lnTo>
                <a:lnTo>
                  <a:pt x="27" y="381"/>
                </a:lnTo>
                <a:lnTo>
                  <a:pt x="27" y="376"/>
                </a:lnTo>
                <a:lnTo>
                  <a:pt x="22" y="370"/>
                </a:lnTo>
                <a:lnTo>
                  <a:pt x="22" y="365"/>
                </a:lnTo>
                <a:lnTo>
                  <a:pt x="22" y="354"/>
                </a:lnTo>
                <a:lnTo>
                  <a:pt x="16" y="348"/>
                </a:lnTo>
                <a:lnTo>
                  <a:pt x="16" y="338"/>
                </a:lnTo>
                <a:lnTo>
                  <a:pt x="11" y="332"/>
                </a:lnTo>
                <a:lnTo>
                  <a:pt x="16" y="327"/>
                </a:lnTo>
                <a:lnTo>
                  <a:pt x="16" y="321"/>
                </a:lnTo>
                <a:lnTo>
                  <a:pt x="27" y="316"/>
                </a:lnTo>
                <a:lnTo>
                  <a:pt x="38" y="310"/>
                </a:lnTo>
                <a:lnTo>
                  <a:pt x="49" y="310"/>
                </a:lnTo>
                <a:lnTo>
                  <a:pt x="60" y="310"/>
                </a:lnTo>
                <a:lnTo>
                  <a:pt x="65" y="305"/>
                </a:lnTo>
                <a:lnTo>
                  <a:pt x="71" y="294"/>
                </a:lnTo>
                <a:lnTo>
                  <a:pt x="76" y="289"/>
                </a:lnTo>
                <a:lnTo>
                  <a:pt x="82" y="283"/>
                </a:lnTo>
                <a:lnTo>
                  <a:pt x="87" y="278"/>
                </a:lnTo>
                <a:lnTo>
                  <a:pt x="98" y="278"/>
                </a:lnTo>
                <a:lnTo>
                  <a:pt x="109" y="272"/>
                </a:lnTo>
                <a:lnTo>
                  <a:pt x="120" y="272"/>
                </a:lnTo>
                <a:lnTo>
                  <a:pt x="131" y="267"/>
                </a:lnTo>
                <a:lnTo>
                  <a:pt x="136" y="261"/>
                </a:lnTo>
                <a:lnTo>
                  <a:pt x="147" y="256"/>
                </a:lnTo>
                <a:lnTo>
                  <a:pt x="153" y="250"/>
                </a:lnTo>
                <a:lnTo>
                  <a:pt x="158" y="245"/>
                </a:lnTo>
                <a:lnTo>
                  <a:pt x="169" y="239"/>
                </a:lnTo>
                <a:lnTo>
                  <a:pt x="180" y="234"/>
                </a:lnTo>
                <a:lnTo>
                  <a:pt x="191" y="234"/>
                </a:lnTo>
                <a:lnTo>
                  <a:pt x="202" y="239"/>
                </a:lnTo>
                <a:lnTo>
                  <a:pt x="212" y="239"/>
                </a:lnTo>
                <a:lnTo>
                  <a:pt x="223" y="234"/>
                </a:lnTo>
                <a:lnTo>
                  <a:pt x="234" y="229"/>
                </a:lnTo>
                <a:lnTo>
                  <a:pt x="240" y="223"/>
                </a:lnTo>
                <a:lnTo>
                  <a:pt x="245" y="218"/>
                </a:lnTo>
                <a:lnTo>
                  <a:pt x="245" y="212"/>
                </a:lnTo>
                <a:lnTo>
                  <a:pt x="245" y="201"/>
                </a:lnTo>
                <a:lnTo>
                  <a:pt x="245" y="196"/>
                </a:lnTo>
                <a:lnTo>
                  <a:pt x="256" y="190"/>
                </a:lnTo>
                <a:lnTo>
                  <a:pt x="262" y="185"/>
                </a:lnTo>
                <a:lnTo>
                  <a:pt x="272" y="180"/>
                </a:lnTo>
                <a:lnTo>
                  <a:pt x="283" y="185"/>
                </a:lnTo>
                <a:lnTo>
                  <a:pt x="289" y="190"/>
                </a:lnTo>
                <a:lnTo>
                  <a:pt x="294" y="196"/>
                </a:lnTo>
                <a:lnTo>
                  <a:pt x="300" y="207"/>
                </a:lnTo>
                <a:lnTo>
                  <a:pt x="305" y="207"/>
                </a:lnTo>
                <a:lnTo>
                  <a:pt x="316" y="207"/>
                </a:lnTo>
                <a:lnTo>
                  <a:pt x="327" y="201"/>
                </a:lnTo>
                <a:lnTo>
                  <a:pt x="332" y="196"/>
                </a:lnTo>
                <a:lnTo>
                  <a:pt x="338" y="190"/>
                </a:lnTo>
                <a:lnTo>
                  <a:pt x="343" y="180"/>
                </a:lnTo>
                <a:lnTo>
                  <a:pt x="343" y="174"/>
                </a:lnTo>
                <a:lnTo>
                  <a:pt x="343" y="169"/>
                </a:lnTo>
                <a:lnTo>
                  <a:pt x="343" y="158"/>
                </a:lnTo>
                <a:lnTo>
                  <a:pt x="349" y="152"/>
                </a:lnTo>
                <a:lnTo>
                  <a:pt x="354" y="147"/>
                </a:lnTo>
                <a:lnTo>
                  <a:pt x="365" y="141"/>
                </a:lnTo>
                <a:lnTo>
                  <a:pt x="371" y="136"/>
                </a:lnTo>
                <a:lnTo>
                  <a:pt x="382" y="141"/>
                </a:lnTo>
                <a:lnTo>
                  <a:pt x="387" y="147"/>
                </a:lnTo>
                <a:lnTo>
                  <a:pt x="392" y="152"/>
                </a:lnTo>
                <a:lnTo>
                  <a:pt x="392" y="163"/>
                </a:lnTo>
                <a:lnTo>
                  <a:pt x="398" y="174"/>
                </a:lnTo>
                <a:lnTo>
                  <a:pt x="403" y="180"/>
                </a:lnTo>
                <a:lnTo>
                  <a:pt x="409" y="180"/>
                </a:lnTo>
                <a:lnTo>
                  <a:pt x="420" y="174"/>
                </a:lnTo>
                <a:lnTo>
                  <a:pt x="425" y="169"/>
                </a:lnTo>
                <a:lnTo>
                  <a:pt x="436" y="163"/>
                </a:lnTo>
                <a:lnTo>
                  <a:pt x="436" y="158"/>
                </a:lnTo>
                <a:lnTo>
                  <a:pt x="436" y="147"/>
                </a:lnTo>
                <a:lnTo>
                  <a:pt x="436" y="141"/>
                </a:lnTo>
                <a:lnTo>
                  <a:pt x="436" y="136"/>
                </a:lnTo>
                <a:lnTo>
                  <a:pt x="441" y="125"/>
                </a:lnTo>
                <a:lnTo>
                  <a:pt x="441" y="120"/>
                </a:lnTo>
                <a:lnTo>
                  <a:pt x="447" y="109"/>
                </a:lnTo>
                <a:lnTo>
                  <a:pt x="458" y="103"/>
                </a:lnTo>
                <a:lnTo>
                  <a:pt x="463" y="103"/>
                </a:lnTo>
                <a:lnTo>
                  <a:pt x="474" y="103"/>
                </a:lnTo>
                <a:lnTo>
                  <a:pt x="485" y="103"/>
                </a:lnTo>
                <a:lnTo>
                  <a:pt x="496" y="109"/>
                </a:lnTo>
                <a:lnTo>
                  <a:pt x="507" y="109"/>
                </a:lnTo>
                <a:lnTo>
                  <a:pt x="518" y="114"/>
                </a:lnTo>
                <a:lnTo>
                  <a:pt x="523" y="120"/>
                </a:lnTo>
                <a:lnTo>
                  <a:pt x="529" y="130"/>
                </a:lnTo>
                <a:lnTo>
                  <a:pt x="534" y="130"/>
                </a:lnTo>
                <a:lnTo>
                  <a:pt x="540" y="120"/>
                </a:lnTo>
                <a:lnTo>
                  <a:pt x="540" y="114"/>
                </a:lnTo>
                <a:lnTo>
                  <a:pt x="540" y="109"/>
                </a:lnTo>
                <a:lnTo>
                  <a:pt x="534" y="98"/>
                </a:lnTo>
                <a:lnTo>
                  <a:pt x="534" y="92"/>
                </a:lnTo>
                <a:lnTo>
                  <a:pt x="534" y="87"/>
                </a:lnTo>
                <a:lnTo>
                  <a:pt x="545" y="76"/>
                </a:lnTo>
                <a:lnTo>
                  <a:pt x="551" y="71"/>
                </a:lnTo>
                <a:lnTo>
                  <a:pt x="561" y="71"/>
                </a:lnTo>
                <a:lnTo>
                  <a:pt x="572" y="65"/>
                </a:lnTo>
                <a:lnTo>
                  <a:pt x="583" y="65"/>
                </a:lnTo>
                <a:lnTo>
                  <a:pt x="594" y="65"/>
                </a:lnTo>
                <a:lnTo>
                  <a:pt x="605" y="71"/>
                </a:lnTo>
                <a:lnTo>
                  <a:pt x="611" y="76"/>
                </a:lnTo>
                <a:lnTo>
                  <a:pt x="616" y="81"/>
                </a:lnTo>
                <a:lnTo>
                  <a:pt x="621" y="92"/>
                </a:lnTo>
                <a:lnTo>
                  <a:pt x="627" y="98"/>
                </a:lnTo>
                <a:lnTo>
                  <a:pt x="638" y="98"/>
                </a:lnTo>
                <a:lnTo>
                  <a:pt x="649" y="98"/>
                </a:lnTo>
                <a:lnTo>
                  <a:pt x="654" y="92"/>
                </a:lnTo>
                <a:lnTo>
                  <a:pt x="649" y="87"/>
                </a:lnTo>
                <a:lnTo>
                  <a:pt x="643" y="76"/>
                </a:lnTo>
                <a:lnTo>
                  <a:pt x="632" y="71"/>
                </a:lnTo>
                <a:lnTo>
                  <a:pt x="627" y="65"/>
                </a:lnTo>
                <a:lnTo>
                  <a:pt x="627" y="54"/>
                </a:lnTo>
                <a:lnTo>
                  <a:pt x="632" y="49"/>
                </a:lnTo>
                <a:lnTo>
                  <a:pt x="638" y="43"/>
                </a:lnTo>
                <a:lnTo>
                  <a:pt x="649" y="38"/>
                </a:lnTo>
                <a:lnTo>
                  <a:pt x="660" y="32"/>
                </a:lnTo>
                <a:lnTo>
                  <a:pt x="670" y="32"/>
                </a:lnTo>
                <a:lnTo>
                  <a:pt x="681" y="32"/>
                </a:lnTo>
                <a:lnTo>
                  <a:pt x="698" y="32"/>
                </a:lnTo>
                <a:lnTo>
                  <a:pt x="709" y="32"/>
                </a:lnTo>
                <a:lnTo>
                  <a:pt x="720" y="32"/>
                </a:lnTo>
                <a:lnTo>
                  <a:pt x="725" y="27"/>
                </a:lnTo>
                <a:lnTo>
                  <a:pt x="730" y="21"/>
                </a:lnTo>
                <a:lnTo>
                  <a:pt x="736" y="11"/>
                </a:lnTo>
                <a:lnTo>
                  <a:pt x="747" y="5"/>
                </a:lnTo>
                <a:lnTo>
                  <a:pt x="752" y="5"/>
                </a:lnTo>
                <a:lnTo>
                  <a:pt x="763" y="0"/>
                </a:lnTo>
                <a:lnTo>
                  <a:pt x="774" y="0"/>
                </a:lnTo>
                <a:lnTo>
                  <a:pt x="785" y="0"/>
                </a:lnTo>
                <a:lnTo>
                  <a:pt x="801" y="0"/>
                </a:lnTo>
                <a:lnTo>
                  <a:pt x="812" y="5"/>
                </a:lnTo>
                <a:lnTo>
                  <a:pt x="818" y="5"/>
                </a:lnTo>
                <a:lnTo>
                  <a:pt x="829" y="11"/>
                </a:lnTo>
                <a:lnTo>
                  <a:pt x="834" y="21"/>
                </a:lnTo>
                <a:lnTo>
                  <a:pt x="840" y="27"/>
                </a:lnTo>
                <a:lnTo>
                  <a:pt x="845" y="32"/>
                </a:lnTo>
                <a:lnTo>
                  <a:pt x="856" y="32"/>
                </a:lnTo>
                <a:lnTo>
                  <a:pt x="867" y="32"/>
                </a:lnTo>
                <a:lnTo>
                  <a:pt x="878" y="32"/>
                </a:lnTo>
                <a:lnTo>
                  <a:pt x="894" y="32"/>
                </a:lnTo>
                <a:lnTo>
                  <a:pt x="905" y="32"/>
                </a:lnTo>
                <a:lnTo>
                  <a:pt x="916" y="32"/>
                </a:lnTo>
                <a:lnTo>
                  <a:pt x="927" y="38"/>
                </a:lnTo>
                <a:lnTo>
                  <a:pt x="938" y="38"/>
                </a:lnTo>
                <a:lnTo>
                  <a:pt x="943" y="43"/>
                </a:lnTo>
                <a:lnTo>
                  <a:pt x="954" y="49"/>
                </a:lnTo>
                <a:lnTo>
                  <a:pt x="959" y="54"/>
                </a:lnTo>
                <a:lnTo>
                  <a:pt x="965" y="60"/>
                </a:lnTo>
                <a:lnTo>
                  <a:pt x="976" y="65"/>
                </a:lnTo>
                <a:lnTo>
                  <a:pt x="981" y="65"/>
                </a:lnTo>
                <a:lnTo>
                  <a:pt x="998" y="65"/>
                </a:lnTo>
                <a:lnTo>
                  <a:pt x="1009" y="65"/>
                </a:lnTo>
                <a:lnTo>
                  <a:pt x="1019" y="71"/>
                </a:lnTo>
                <a:lnTo>
                  <a:pt x="1030" y="71"/>
                </a:lnTo>
                <a:lnTo>
                  <a:pt x="1041" y="71"/>
                </a:lnTo>
                <a:lnTo>
                  <a:pt x="1052" y="71"/>
                </a:lnTo>
                <a:lnTo>
                  <a:pt x="1063" y="71"/>
                </a:lnTo>
                <a:lnTo>
                  <a:pt x="1074" y="76"/>
                </a:lnTo>
                <a:lnTo>
                  <a:pt x="1079" y="81"/>
                </a:lnTo>
                <a:lnTo>
                  <a:pt x="1085" y="87"/>
                </a:lnTo>
                <a:lnTo>
                  <a:pt x="1090" y="92"/>
                </a:lnTo>
                <a:lnTo>
                  <a:pt x="1101" y="98"/>
                </a:lnTo>
                <a:lnTo>
                  <a:pt x="1107" y="103"/>
                </a:lnTo>
                <a:lnTo>
                  <a:pt x="1118" y="103"/>
                </a:lnTo>
                <a:lnTo>
                  <a:pt x="1128" y="103"/>
                </a:lnTo>
                <a:lnTo>
                  <a:pt x="1145" y="103"/>
                </a:lnTo>
                <a:lnTo>
                  <a:pt x="1156" y="103"/>
                </a:lnTo>
                <a:lnTo>
                  <a:pt x="1167" y="103"/>
                </a:lnTo>
                <a:lnTo>
                  <a:pt x="1178" y="103"/>
                </a:lnTo>
                <a:lnTo>
                  <a:pt x="1188" y="103"/>
                </a:lnTo>
                <a:lnTo>
                  <a:pt x="1199" y="109"/>
                </a:lnTo>
                <a:lnTo>
                  <a:pt x="1205" y="114"/>
                </a:lnTo>
                <a:lnTo>
                  <a:pt x="1210" y="120"/>
                </a:lnTo>
                <a:lnTo>
                  <a:pt x="1216" y="125"/>
                </a:lnTo>
                <a:lnTo>
                  <a:pt x="1221" y="130"/>
                </a:lnTo>
                <a:lnTo>
                  <a:pt x="1227" y="141"/>
                </a:lnTo>
                <a:lnTo>
                  <a:pt x="1238" y="141"/>
                </a:lnTo>
                <a:lnTo>
                  <a:pt x="1248" y="147"/>
                </a:lnTo>
                <a:lnTo>
                  <a:pt x="1259" y="147"/>
                </a:lnTo>
                <a:lnTo>
                  <a:pt x="1270" y="147"/>
                </a:lnTo>
                <a:lnTo>
                  <a:pt x="1281" y="147"/>
                </a:lnTo>
                <a:lnTo>
                  <a:pt x="1292" y="152"/>
                </a:lnTo>
                <a:lnTo>
                  <a:pt x="1303" y="152"/>
                </a:lnTo>
                <a:lnTo>
                  <a:pt x="1314" y="152"/>
                </a:lnTo>
                <a:lnTo>
                  <a:pt x="1319" y="158"/>
                </a:lnTo>
                <a:lnTo>
                  <a:pt x="1325" y="163"/>
                </a:lnTo>
                <a:lnTo>
                  <a:pt x="1325" y="174"/>
                </a:lnTo>
                <a:lnTo>
                  <a:pt x="1325" y="180"/>
                </a:lnTo>
                <a:lnTo>
                  <a:pt x="1325" y="185"/>
                </a:lnTo>
                <a:lnTo>
                  <a:pt x="1325" y="196"/>
                </a:lnTo>
                <a:lnTo>
                  <a:pt x="1319" y="201"/>
                </a:lnTo>
                <a:lnTo>
                  <a:pt x="1319" y="212"/>
                </a:lnTo>
                <a:lnTo>
                  <a:pt x="1325" y="218"/>
                </a:lnTo>
                <a:lnTo>
                  <a:pt x="1325" y="223"/>
                </a:lnTo>
                <a:lnTo>
                  <a:pt x="1325" y="234"/>
                </a:lnTo>
                <a:lnTo>
                  <a:pt x="1325" y="239"/>
                </a:lnTo>
                <a:lnTo>
                  <a:pt x="1325" y="245"/>
                </a:lnTo>
                <a:lnTo>
                  <a:pt x="1325" y="256"/>
                </a:lnTo>
                <a:lnTo>
                  <a:pt x="1325" y="261"/>
                </a:lnTo>
                <a:lnTo>
                  <a:pt x="1325" y="267"/>
                </a:lnTo>
                <a:lnTo>
                  <a:pt x="1336" y="272"/>
                </a:lnTo>
                <a:lnTo>
                  <a:pt x="1352" y="272"/>
                </a:lnTo>
                <a:lnTo>
                  <a:pt x="1357" y="272"/>
                </a:lnTo>
                <a:lnTo>
                  <a:pt x="1363" y="261"/>
                </a:lnTo>
                <a:lnTo>
                  <a:pt x="1363" y="256"/>
                </a:lnTo>
                <a:lnTo>
                  <a:pt x="1368" y="250"/>
                </a:lnTo>
                <a:lnTo>
                  <a:pt x="1374" y="245"/>
                </a:lnTo>
                <a:lnTo>
                  <a:pt x="1385" y="239"/>
                </a:lnTo>
                <a:lnTo>
                  <a:pt x="1390" y="234"/>
                </a:lnTo>
                <a:lnTo>
                  <a:pt x="1396" y="229"/>
                </a:lnTo>
                <a:lnTo>
                  <a:pt x="1401" y="218"/>
                </a:lnTo>
                <a:lnTo>
                  <a:pt x="1407" y="212"/>
                </a:lnTo>
                <a:lnTo>
                  <a:pt x="1412" y="201"/>
                </a:lnTo>
                <a:lnTo>
                  <a:pt x="1417" y="196"/>
                </a:lnTo>
                <a:lnTo>
                  <a:pt x="1423" y="196"/>
                </a:lnTo>
                <a:lnTo>
                  <a:pt x="1428" y="196"/>
                </a:lnTo>
                <a:lnTo>
                  <a:pt x="1434" y="201"/>
                </a:lnTo>
                <a:lnTo>
                  <a:pt x="1439" y="212"/>
                </a:lnTo>
                <a:lnTo>
                  <a:pt x="1445" y="218"/>
                </a:lnTo>
                <a:lnTo>
                  <a:pt x="1445" y="229"/>
                </a:lnTo>
                <a:lnTo>
                  <a:pt x="1445" y="234"/>
                </a:lnTo>
                <a:lnTo>
                  <a:pt x="1445" y="245"/>
                </a:lnTo>
                <a:lnTo>
                  <a:pt x="1439" y="250"/>
                </a:lnTo>
                <a:lnTo>
                  <a:pt x="1434" y="256"/>
                </a:lnTo>
                <a:lnTo>
                  <a:pt x="1423" y="261"/>
                </a:lnTo>
                <a:lnTo>
                  <a:pt x="1417" y="267"/>
                </a:lnTo>
                <a:lnTo>
                  <a:pt x="1412" y="272"/>
                </a:lnTo>
                <a:lnTo>
                  <a:pt x="1407" y="278"/>
                </a:lnTo>
                <a:lnTo>
                  <a:pt x="1401" y="283"/>
                </a:lnTo>
                <a:lnTo>
                  <a:pt x="1396" y="294"/>
                </a:lnTo>
                <a:lnTo>
                  <a:pt x="1396" y="299"/>
                </a:lnTo>
                <a:lnTo>
                  <a:pt x="1390" y="305"/>
                </a:lnTo>
                <a:lnTo>
                  <a:pt x="1385" y="310"/>
                </a:lnTo>
                <a:lnTo>
                  <a:pt x="1374" y="316"/>
                </a:lnTo>
                <a:lnTo>
                  <a:pt x="1368" y="321"/>
                </a:lnTo>
                <a:lnTo>
                  <a:pt x="1368" y="332"/>
                </a:lnTo>
                <a:lnTo>
                  <a:pt x="1363" y="338"/>
                </a:lnTo>
                <a:lnTo>
                  <a:pt x="1357" y="343"/>
                </a:lnTo>
                <a:lnTo>
                  <a:pt x="1352" y="348"/>
                </a:lnTo>
                <a:lnTo>
                  <a:pt x="1341" y="354"/>
                </a:lnTo>
                <a:lnTo>
                  <a:pt x="1336" y="359"/>
                </a:lnTo>
                <a:lnTo>
                  <a:pt x="1325" y="365"/>
                </a:lnTo>
                <a:lnTo>
                  <a:pt x="1314" y="365"/>
                </a:lnTo>
                <a:lnTo>
                  <a:pt x="1303" y="365"/>
                </a:lnTo>
                <a:lnTo>
                  <a:pt x="1292" y="365"/>
                </a:lnTo>
                <a:lnTo>
                  <a:pt x="1281" y="370"/>
                </a:lnTo>
                <a:lnTo>
                  <a:pt x="1270" y="376"/>
                </a:lnTo>
                <a:lnTo>
                  <a:pt x="1265" y="376"/>
                </a:lnTo>
                <a:lnTo>
                  <a:pt x="1254" y="381"/>
                </a:lnTo>
                <a:lnTo>
                  <a:pt x="1243" y="381"/>
                </a:lnTo>
                <a:lnTo>
                  <a:pt x="1232" y="381"/>
                </a:lnTo>
                <a:lnTo>
                  <a:pt x="1216" y="381"/>
                </a:lnTo>
                <a:lnTo>
                  <a:pt x="1205" y="381"/>
                </a:lnTo>
                <a:lnTo>
                  <a:pt x="1194" y="381"/>
                </a:lnTo>
                <a:lnTo>
                  <a:pt x="1183" y="381"/>
                </a:lnTo>
                <a:lnTo>
                  <a:pt x="1172" y="381"/>
                </a:lnTo>
                <a:lnTo>
                  <a:pt x="1161" y="381"/>
                </a:lnTo>
                <a:lnTo>
                  <a:pt x="1150" y="381"/>
                </a:lnTo>
                <a:lnTo>
                  <a:pt x="1139" y="381"/>
                </a:lnTo>
                <a:lnTo>
                  <a:pt x="1128" y="381"/>
                </a:lnTo>
                <a:lnTo>
                  <a:pt x="1118" y="381"/>
                </a:lnTo>
                <a:lnTo>
                  <a:pt x="1107" y="381"/>
                </a:lnTo>
                <a:lnTo>
                  <a:pt x="1096" y="381"/>
                </a:lnTo>
                <a:lnTo>
                  <a:pt x="1085" y="381"/>
                </a:lnTo>
                <a:lnTo>
                  <a:pt x="1074" y="381"/>
                </a:lnTo>
                <a:lnTo>
                  <a:pt x="1063" y="381"/>
                </a:lnTo>
                <a:lnTo>
                  <a:pt x="1052" y="381"/>
                </a:lnTo>
                <a:lnTo>
                  <a:pt x="1036" y="387"/>
                </a:lnTo>
                <a:lnTo>
                  <a:pt x="1025" y="387"/>
                </a:lnTo>
                <a:lnTo>
                  <a:pt x="1014" y="387"/>
                </a:lnTo>
                <a:lnTo>
                  <a:pt x="1003" y="387"/>
                </a:lnTo>
                <a:lnTo>
                  <a:pt x="992" y="387"/>
                </a:lnTo>
                <a:lnTo>
                  <a:pt x="981" y="387"/>
                </a:lnTo>
                <a:lnTo>
                  <a:pt x="970" y="387"/>
                </a:lnTo>
                <a:lnTo>
                  <a:pt x="959" y="387"/>
                </a:lnTo>
                <a:lnTo>
                  <a:pt x="949" y="387"/>
                </a:lnTo>
                <a:lnTo>
                  <a:pt x="938" y="392"/>
                </a:lnTo>
                <a:lnTo>
                  <a:pt x="927" y="398"/>
                </a:lnTo>
                <a:lnTo>
                  <a:pt x="921" y="403"/>
                </a:lnTo>
                <a:lnTo>
                  <a:pt x="910" y="403"/>
                </a:lnTo>
                <a:lnTo>
                  <a:pt x="899" y="403"/>
                </a:lnTo>
                <a:lnTo>
                  <a:pt x="894" y="398"/>
                </a:lnTo>
                <a:lnTo>
                  <a:pt x="883" y="392"/>
                </a:lnTo>
                <a:lnTo>
                  <a:pt x="872" y="387"/>
                </a:lnTo>
                <a:lnTo>
                  <a:pt x="867" y="381"/>
                </a:lnTo>
                <a:lnTo>
                  <a:pt x="856" y="376"/>
                </a:lnTo>
                <a:lnTo>
                  <a:pt x="850" y="370"/>
                </a:lnTo>
                <a:lnTo>
                  <a:pt x="840" y="365"/>
                </a:lnTo>
                <a:lnTo>
                  <a:pt x="829" y="365"/>
                </a:lnTo>
                <a:lnTo>
                  <a:pt x="818" y="359"/>
                </a:lnTo>
                <a:lnTo>
                  <a:pt x="812" y="359"/>
                </a:lnTo>
                <a:lnTo>
                  <a:pt x="801" y="354"/>
                </a:lnTo>
                <a:lnTo>
                  <a:pt x="790" y="348"/>
                </a:lnTo>
                <a:lnTo>
                  <a:pt x="785" y="343"/>
                </a:lnTo>
                <a:lnTo>
                  <a:pt x="774" y="338"/>
                </a:lnTo>
                <a:lnTo>
                  <a:pt x="763" y="338"/>
                </a:lnTo>
                <a:lnTo>
                  <a:pt x="758" y="332"/>
                </a:lnTo>
                <a:lnTo>
                  <a:pt x="747" y="327"/>
                </a:lnTo>
                <a:lnTo>
                  <a:pt x="736" y="321"/>
                </a:lnTo>
                <a:lnTo>
                  <a:pt x="725" y="321"/>
                </a:lnTo>
                <a:lnTo>
                  <a:pt x="714" y="321"/>
                </a:lnTo>
                <a:lnTo>
                  <a:pt x="703" y="327"/>
                </a:lnTo>
                <a:lnTo>
                  <a:pt x="692" y="332"/>
                </a:lnTo>
                <a:lnTo>
                  <a:pt x="681" y="332"/>
                </a:lnTo>
                <a:lnTo>
                  <a:pt x="676" y="338"/>
                </a:lnTo>
                <a:lnTo>
                  <a:pt x="665" y="343"/>
                </a:lnTo>
                <a:lnTo>
                  <a:pt x="654" y="348"/>
                </a:lnTo>
                <a:lnTo>
                  <a:pt x="643" y="348"/>
                </a:lnTo>
                <a:lnTo>
                  <a:pt x="632" y="348"/>
                </a:lnTo>
                <a:lnTo>
                  <a:pt x="621" y="354"/>
                </a:lnTo>
                <a:lnTo>
                  <a:pt x="616" y="354"/>
                </a:lnTo>
                <a:lnTo>
                  <a:pt x="605" y="359"/>
                </a:lnTo>
                <a:lnTo>
                  <a:pt x="594" y="365"/>
                </a:lnTo>
                <a:lnTo>
                  <a:pt x="589" y="370"/>
                </a:lnTo>
                <a:lnTo>
                  <a:pt x="578" y="370"/>
                </a:lnTo>
                <a:lnTo>
                  <a:pt x="567" y="376"/>
                </a:lnTo>
                <a:lnTo>
                  <a:pt x="556" y="376"/>
                </a:lnTo>
                <a:lnTo>
                  <a:pt x="545" y="376"/>
                </a:lnTo>
                <a:lnTo>
                  <a:pt x="534" y="376"/>
                </a:lnTo>
                <a:lnTo>
                  <a:pt x="523" y="381"/>
                </a:lnTo>
                <a:lnTo>
                  <a:pt x="512" y="387"/>
                </a:lnTo>
                <a:lnTo>
                  <a:pt x="507" y="387"/>
                </a:lnTo>
                <a:lnTo>
                  <a:pt x="496" y="392"/>
                </a:lnTo>
                <a:lnTo>
                  <a:pt x="485" y="398"/>
                </a:lnTo>
                <a:lnTo>
                  <a:pt x="474" y="398"/>
                </a:lnTo>
                <a:lnTo>
                  <a:pt x="463" y="392"/>
                </a:lnTo>
                <a:lnTo>
                  <a:pt x="458" y="387"/>
                </a:lnTo>
                <a:lnTo>
                  <a:pt x="452" y="381"/>
                </a:lnTo>
                <a:lnTo>
                  <a:pt x="441" y="376"/>
                </a:lnTo>
                <a:lnTo>
                  <a:pt x="431" y="376"/>
                </a:lnTo>
                <a:lnTo>
                  <a:pt x="420" y="376"/>
                </a:lnTo>
                <a:lnTo>
                  <a:pt x="409" y="381"/>
                </a:lnTo>
                <a:lnTo>
                  <a:pt x="409" y="392"/>
                </a:lnTo>
                <a:lnTo>
                  <a:pt x="403" y="398"/>
                </a:lnTo>
                <a:lnTo>
                  <a:pt x="392" y="398"/>
                </a:lnTo>
                <a:lnTo>
                  <a:pt x="382" y="398"/>
                </a:lnTo>
                <a:lnTo>
                  <a:pt x="365" y="398"/>
                </a:lnTo>
                <a:lnTo>
                  <a:pt x="354" y="398"/>
                </a:lnTo>
                <a:lnTo>
                  <a:pt x="343" y="398"/>
                </a:lnTo>
                <a:lnTo>
                  <a:pt x="338" y="403"/>
                </a:lnTo>
                <a:lnTo>
                  <a:pt x="327" y="408"/>
                </a:lnTo>
                <a:lnTo>
                  <a:pt x="316" y="414"/>
                </a:lnTo>
                <a:lnTo>
                  <a:pt x="311" y="419"/>
                </a:lnTo>
                <a:lnTo>
                  <a:pt x="305" y="425"/>
                </a:lnTo>
                <a:lnTo>
                  <a:pt x="300" y="430"/>
                </a:lnTo>
                <a:lnTo>
                  <a:pt x="294" y="436"/>
                </a:lnTo>
                <a:lnTo>
                  <a:pt x="289" y="447"/>
                </a:lnTo>
                <a:lnTo>
                  <a:pt x="283" y="452"/>
                </a:lnTo>
                <a:lnTo>
                  <a:pt x="283" y="457"/>
                </a:lnTo>
                <a:lnTo>
                  <a:pt x="289" y="463"/>
                </a:lnTo>
                <a:lnTo>
                  <a:pt x="289" y="474"/>
                </a:lnTo>
                <a:lnTo>
                  <a:pt x="289" y="479"/>
                </a:lnTo>
                <a:lnTo>
                  <a:pt x="283" y="490"/>
                </a:lnTo>
                <a:lnTo>
                  <a:pt x="278" y="496"/>
                </a:lnTo>
                <a:lnTo>
                  <a:pt x="272" y="501"/>
                </a:lnTo>
                <a:lnTo>
                  <a:pt x="262" y="507"/>
                </a:lnTo>
                <a:lnTo>
                  <a:pt x="256" y="512"/>
                </a:lnTo>
                <a:lnTo>
                  <a:pt x="251" y="517"/>
                </a:lnTo>
                <a:lnTo>
                  <a:pt x="251" y="523"/>
                </a:lnTo>
                <a:lnTo>
                  <a:pt x="251" y="534"/>
                </a:lnTo>
                <a:lnTo>
                  <a:pt x="251" y="539"/>
                </a:lnTo>
                <a:lnTo>
                  <a:pt x="251" y="545"/>
                </a:lnTo>
                <a:lnTo>
                  <a:pt x="245" y="556"/>
                </a:lnTo>
                <a:lnTo>
                  <a:pt x="240" y="561"/>
                </a:lnTo>
                <a:lnTo>
                  <a:pt x="234" y="566"/>
                </a:lnTo>
                <a:lnTo>
                  <a:pt x="229" y="572"/>
                </a:lnTo>
                <a:lnTo>
                  <a:pt x="223" y="577"/>
                </a:lnTo>
                <a:lnTo>
                  <a:pt x="218" y="588"/>
                </a:lnTo>
                <a:lnTo>
                  <a:pt x="218" y="594"/>
                </a:lnTo>
                <a:lnTo>
                  <a:pt x="218" y="599"/>
                </a:lnTo>
                <a:lnTo>
                  <a:pt x="218" y="610"/>
                </a:lnTo>
                <a:lnTo>
                  <a:pt x="218" y="616"/>
                </a:lnTo>
                <a:lnTo>
                  <a:pt x="218" y="626"/>
                </a:lnTo>
                <a:lnTo>
                  <a:pt x="212" y="632"/>
                </a:lnTo>
                <a:lnTo>
                  <a:pt x="202" y="637"/>
                </a:lnTo>
                <a:lnTo>
                  <a:pt x="196" y="637"/>
                </a:lnTo>
                <a:lnTo>
                  <a:pt x="191" y="648"/>
                </a:lnTo>
                <a:lnTo>
                  <a:pt x="185" y="654"/>
                </a:lnTo>
                <a:lnTo>
                  <a:pt x="180" y="659"/>
                </a:lnTo>
                <a:lnTo>
                  <a:pt x="169" y="659"/>
                </a:lnTo>
                <a:lnTo>
                  <a:pt x="158" y="654"/>
                </a:lnTo>
                <a:lnTo>
                  <a:pt x="147" y="654"/>
                </a:lnTo>
                <a:lnTo>
                  <a:pt x="142" y="659"/>
                </a:lnTo>
                <a:lnTo>
                  <a:pt x="136" y="665"/>
                </a:lnTo>
                <a:lnTo>
                  <a:pt x="131" y="675"/>
                </a:lnTo>
                <a:lnTo>
                  <a:pt x="131" y="681"/>
                </a:lnTo>
                <a:lnTo>
                  <a:pt x="131" y="692"/>
                </a:lnTo>
                <a:lnTo>
                  <a:pt x="136" y="697"/>
                </a:lnTo>
                <a:lnTo>
                  <a:pt x="136" y="703"/>
                </a:lnTo>
                <a:lnTo>
                  <a:pt x="136" y="708"/>
                </a:lnTo>
                <a:lnTo>
                  <a:pt x="136" y="719"/>
                </a:lnTo>
                <a:lnTo>
                  <a:pt x="136" y="725"/>
                </a:lnTo>
                <a:lnTo>
                  <a:pt x="136" y="735"/>
                </a:lnTo>
                <a:lnTo>
                  <a:pt x="131" y="741"/>
                </a:lnTo>
                <a:lnTo>
                  <a:pt x="125" y="752"/>
                </a:lnTo>
                <a:lnTo>
                  <a:pt x="120" y="757"/>
                </a:lnTo>
                <a:lnTo>
                  <a:pt x="120" y="763"/>
                </a:lnTo>
                <a:lnTo>
                  <a:pt x="114" y="757"/>
                </a:lnTo>
                <a:lnTo>
                  <a:pt x="109" y="752"/>
                </a:lnTo>
                <a:lnTo>
                  <a:pt x="103" y="741"/>
                </a:lnTo>
                <a:lnTo>
                  <a:pt x="103" y="735"/>
                </a:lnTo>
                <a:lnTo>
                  <a:pt x="103" y="725"/>
                </a:lnTo>
                <a:lnTo>
                  <a:pt x="103" y="719"/>
                </a:lnTo>
                <a:lnTo>
                  <a:pt x="103" y="714"/>
                </a:lnTo>
                <a:lnTo>
                  <a:pt x="103" y="703"/>
                </a:lnTo>
                <a:lnTo>
                  <a:pt x="109" y="697"/>
                </a:lnTo>
                <a:lnTo>
                  <a:pt x="109" y="692"/>
                </a:lnTo>
                <a:lnTo>
                  <a:pt x="109" y="681"/>
                </a:lnTo>
                <a:lnTo>
                  <a:pt x="109" y="675"/>
                </a:lnTo>
                <a:lnTo>
                  <a:pt x="109" y="670"/>
                </a:lnTo>
                <a:lnTo>
                  <a:pt x="109" y="659"/>
                </a:lnTo>
                <a:lnTo>
                  <a:pt x="109" y="654"/>
                </a:lnTo>
                <a:lnTo>
                  <a:pt x="109" y="648"/>
                </a:lnTo>
                <a:lnTo>
                  <a:pt x="114" y="637"/>
                </a:lnTo>
                <a:lnTo>
                  <a:pt x="125" y="632"/>
                </a:lnTo>
                <a:lnTo>
                  <a:pt x="131" y="626"/>
                </a:lnTo>
                <a:lnTo>
                  <a:pt x="136" y="621"/>
                </a:lnTo>
                <a:lnTo>
                  <a:pt x="136" y="616"/>
                </a:lnTo>
                <a:lnTo>
                  <a:pt x="142" y="605"/>
                </a:lnTo>
                <a:lnTo>
                  <a:pt x="142" y="599"/>
                </a:lnTo>
                <a:lnTo>
                  <a:pt x="136" y="594"/>
                </a:lnTo>
                <a:lnTo>
                  <a:pt x="136" y="583"/>
                </a:lnTo>
                <a:lnTo>
                  <a:pt x="136" y="577"/>
                </a:lnTo>
                <a:lnTo>
                  <a:pt x="142" y="572"/>
                </a:lnTo>
                <a:lnTo>
                  <a:pt x="147" y="566"/>
                </a:lnTo>
                <a:lnTo>
                  <a:pt x="158" y="561"/>
                </a:lnTo>
                <a:lnTo>
                  <a:pt x="163" y="550"/>
                </a:lnTo>
                <a:lnTo>
                  <a:pt x="169" y="545"/>
                </a:lnTo>
                <a:lnTo>
                  <a:pt x="169" y="539"/>
                </a:lnTo>
                <a:lnTo>
                  <a:pt x="169" y="534"/>
                </a:lnTo>
                <a:lnTo>
                  <a:pt x="169" y="523"/>
                </a:lnTo>
                <a:lnTo>
                  <a:pt x="163" y="517"/>
                </a:lnTo>
                <a:lnTo>
                  <a:pt x="163" y="512"/>
                </a:lnTo>
                <a:lnTo>
                  <a:pt x="169" y="507"/>
                </a:lnTo>
                <a:lnTo>
                  <a:pt x="174" y="496"/>
                </a:lnTo>
                <a:lnTo>
                  <a:pt x="180" y="490"/>
                </a:lnTo>
                <a:lnTo>
                  <a:pt x="191" y="485"/>
                </a:lnTo>
                <a:lnTo>
                  <a:pt x="196" y="479"/>
                </a:lnTo>
                <a:lnTo>
                  <a:pt x="202" y="474"/>
                </a:lnTo>
                <a:lnTo>
                  <a:pt x="202" y="468"/>
                </a:lnTo>
                <a:lnTo>
                  <a:pt x="196" y="463"/>
                </a:lnTo>
                <a:lnTo>
                  <a:pt x="196" y="452"/>
                </a:lnTo>
                <a:lnTo>
                  <a:pt x="191" y="447"/>
                </a:lnTo>
                <a:lnTo>
                  <a:pt x="185" y="436"/>
                </a:lnTo>
                <a:lnTo>
                  <a:pt x="185" y="425"/>
                </a:lnTo>
                <a:lnTo>
                  <a:pt x="185" y="419"/>
                </a:lnTo>
                <a:lnTo>
                  <a:pt x="180" y="419"/>
                </a:lnTo>
                <a:lnTo>
                  <a:pt x="174" y="419"/>
                </a:lnTo>
                <a:lnTo>
                  <a:pt x="174" y="425"/>
                </a:lnTo>
                <a:lnTo>
                  <a:pt x="169" y="436"/>
                </a:lnTo>
                <a:lnTo>
                  <a:pt x="163" y="441"/>
                </a:lnTo>
                <a:lnTo>
                  <a:pt x="158" y="452"/>
                </a:lnTo>
                <a:lnTo>
                  <a:pt x="153" y="457"/>
                </a:lnTo>
                <a:lnTo>
                  <a:pt x="147" y="463"/>
                </a:lnTo>
                <a:lnTo>
                  <a:pt x="142" y="468"/>
                </a:lnTo>
                <a:lnTo>
                  <a:pt x="131" y="474"/>
                </a:lnTo>
                <a:lnTo>
                  <a:pt x="131" y="479"/>
                </a:lnTo>
                <a:lnTo>
                  <a:pt x="125" y="490"/>
                </a:lnTo>
                <a:lnTo>
                  <a:pt x="125" y="496"/>
                </a:lnTo>
                <a:lnTo>
                  <a:pt x="125" y="501"/>
                </a:lnTo>
                <a:lnTo>
                  <a:pt x="125" y="512"/>
                </a:lnTo>
                <a:lnTo>
                  <a:pt x="120" y="517"/>
                </a:lnTo>
                <a:lnTo>
                  <a:pt x="109" y="523"/>
                </a:lnTo>
                <a:lnTo>
                  <a:pt x="103" y="528"/>
                </a:lnTo>
                <a:lnTo>
                  <a:pt x="98" y="534"/>
                </a:lnTo>
                <a:lnTo>
                  <a:pt x="98" y="539"/>
                </a:lnTo>
                <a:lnTo>
                  <a:pt x="93" y="550"/>
                </a:lnTo>
                <a:lnTo>
                  <a:pt x="93" y="556"/>
                </a:lnTo>
                <a:lnTo>
                  <a:pt x="93" y="566"/>
                </a:lnTo>
                <a:lnTo>
                  <a:pt x="87" y="572"/>
                </a:lnTo>
                <a:lnTo>
                  <a:pt x="82" y="577"/>
                </a:lnTo>
                <a:lnTo>
                  <a:pt x="76" y="583"/>
                </a:lnTo>
                <a:lnTo>
                  <a:pt x="76" y="588"/>
                </a:lnTo>
                <a:lnTo>
                  <a:pt x="71" y="599"/>
                </a:lnTo>
                <a:lnTo>
                  <a:pt x="65" y="605"/>
                </a:lnTo>
                <a:lnTo>
                  <a:pt x="65" y="610"/>
                </a:lnTo>
                <a:lnTo>
                  <a:pt x="65" y="621"/>
                </a:lnTo>
                <a:lnTo>
                  <a:pt x="65" y="626"/>
                </a:lnTo>
                <a:lnTo>
                  <a:pt x="60" y="632"/>
                </a:lnTo>
                <a:lnTo>
                  <a:pt x="60" y="643"/>
                </a:lnTo>
                <a:lnTo>
                  <a:pt x="60" y="648"/>
                </a:lnTo>
                <a:lnTo>
                  <a:pt x="60" y="654"/>
                </a:lnTo>
                <a:lnTo>
                  <a:pt x="54" y="665"/>
                </a:lnTo>
                <a:lnTo>
                  <a:pt x="54" y="670"/>
                </a:lnTo>
                <a:lnTo>
                  <a:pt x="54" y="675"/>
                </a:lnTo>
                <a:lnTo>
                  <a:pt x="54" y="686"/>
                </a:lnTo>
                <a:lnTo>
                  <a:pt x="49" y="692"/>
                </a:lnTo>
                <a:lnTo>
                  <a:pt x="43" y="697"/>
                </a:lnTo>
                <a:lnTo>
                  <a:pt x="38" y="703"/>
                </a:lnTo>
                <a:lnTo>
                  <a:pt x="38" y="714"/>
                </a:lnTo>
                <a:lnTo>
                  <a:pt x="33" y="719"/>
                </a:lnTo>
                <a:lnTo>
                  <a:pt x="33" y="725"/>
                </a:lnTo>
                <a:lnTo>
                  <a:pt x="33" y="735"/>
                </a:lnTo>
                <a:lnTo>
                  <a:pt x="33" y="741"/>
                </a:lnTo>
                <a:lnTo>
                  <a:pt x="27" y="746"/>
                </a:lnTo>
                <a:lnTo>
                  <a:pt x="27" y="757"/>
                </a:lnTo>
                <a:lnTo>
                  <a:pt x="27" y="763"/>
                </a:lnTo>
                <a:lnTo>
                  <a:pt x="27" y="768"/>
                </a:lnTo>
                <a:lnTo>
                  <a:pt x="27" y="774"/>
                </a:lnTo>
                <a:lnTo>
                  <a:pt x="22" y="784"/>
                </a:lnTo>
                <a:lnTo>
                  <a:pt x="22" y="790"/>
                </a:lnTo>
                <a:lnTo>
                  <a:pt x="22" y="801"/>
                </a:lnTo>
                <a:lnTo>
                  <a:pt x="22" y="806"/>
                </a:lnTo>
                <a:lnTo>
                  <a:pt x="22" y="817"/>
                </a:lnTo>
                <a:lnTo>
                  <a:pt x="22" y="823"/>
                </a:lnTo>
                <a:lnTo>
                  <a:pt x="22" y="828"/>
                </a:lnTo>
                <a:lnTo>
                  <a:pt x="16" y="823"/>
                </a:lnTo>
                <a:lnTo>
                  <a:pt x="11" y="817"/>
                </a:lnTo>
                <a:lnTo>
                  <a:pt x="5" y="812"/>
                </a:lnTo>
                <a:lnTo>
                  <a:pt x="0" y="795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5" name=""/>
          <p:cNvSpPr/>
          <p:nvPr/>
        </p:nvSpPr>
        <p:spPr>
          <a:xfrm>
            <a:off x="3559320" y="3622680"/>
            <a:ext cx="9360" cy="15840"/>
          </a:xfrm>
          <a:custGeom>
            <a:avLst/>
            <a:gdLst/>
            <a:ahLst/>
            <a:rect l="l" t="t" r="r" b="b"/>
            <a:pathLst>
              <a:path w="6" h="10">
                <a:moveTo>
                  <a:pt x="0" y="5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6" y="0"/>
                </a:lnTo>
                <a:lnTo>
                  <a:pt x="6" y="0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0" y="10"/>
                </a:lnTo>
                <a:lnTo>
                  <a:pt x="0" y="10"/>
                </a:lnTo>
                <a:lnTo>
                  <a:pt x="0" y="5"/>
                </a:lnTo>
                <a:lnTo>
                  <a:pt x="0" y="5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6" name=""/>
          <p:cNvSpPr/>
          <p:nvPr/>
        </p:nvSpPr>
        <p:spPr>
          <a:xfrm>
            <a:off x="3905280" y="3492360"/>
            <a:ext cx="44280" cy="77760"/>
          </a:xfrm>
          <a:custGeom>
            <a:avLst/>
            <a:gdLst/>
            <a:ahLst/>
            <a:rect l="l" t="t" r="r" b="b"/>
            <a:pathLst>
              <a:path w="28" h="49">
                <a:moveTo>
                  <a:pt x="28" y="22"/>
                </a:moveTo>
                <a:lnTo>
                  <a:pt x="17" y="11"/>
                </a:lnTo>
                <a:lnTo>
                  <a:pt x="11" y="5"/>
                </a:lnTo>
                <a:lnTo>
                  <a:pt x="6" y="0"/>
                </a:lnTo>
                <a:lnTo>
                  <a:pt x="6" y="5"/>
                </a:lnTo>
                <a:lnTo>
                  <a:pt x="0" y="11"/>
                </a:lnTo>
                <a:lnTo>
                  <a:pt x="0" y="22"/>
                </a:lnTo>
                <a:lnTo>
                  <a:pt x="0" y="33"/>
                </a:lnTo>
                <a:lnTo>
                  <a:pt x="0" y="38"/>
                </a:lnTo>
                <a:lnTo>
                  <a:pt x="6" y="43"/>
                </a:lnTo>
                <a:lnTo>
                  <a:pt x="6" y="49"/>
                </a:lnTo>
                <a:lnTo>
                  <a:pt x="11" y="49"/>
                </a:lnTo>
                <a:lnTo>
                  <a:pt x="17" y="43"/>
                </a:lnTo>
                <a:lnTo>
                  <a:pt x="22" y="33"/>
                </a:lnTo>
                <a:lnTo>
                  <a:pt x="28" y="22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7" name=""/>
          <p:cNvSpPr/>
          <p:nvPr/>
        </p:nvSpPr>
        <p:spPr>
          <a:xfrm>
            <a:off x="3957480" y="3397320"/>
            <a:ext cx="25560" cy="52200"/>
          </a:xfrm>
          <a:custGeom>
            <a:avLst/>
            <a:gdLst/>
            <a:ahLst/>
            <a:rect l="l" t="t" r="r" b="b"/>
            <a:pathLst>
              <a:path w="16" h="33">
                <a:moveTo>
                  <a:pt x="16" y="16"/>
                </a:moveTo>
                <a:lnTo>
                  <a:pt x="16" y="11"/>
                </a:lnTo>
                <a:lnTo>
                  <a:pt x="11" y="5"/>
                </a:lnTo>
                <a:lnTo>
                  <a:pt x="11" y="0"/>
                </a:lnTo>
                <a:lnTo>
                  <a:pt x="5" y="0"/>
                </a:lnTo>
                <a:lnTo>
                  <a:pt x="5" y="0"/>
                </a:lnTo>
                <a:lnTo>
                  <a:pt x="0" y="5"/>
                </a:lnTo>
                <a:lnTo>
                  <a:pt x="0" y="11"/>
                </a:lnTo>
                <a:lnTo>
                  <a:pt x="0" y="16"/>
                </a:lnTo>
                <a:lnTo>
                  <a:pt x="0" y="22"/>
                </a:lnTo>
                <a:lnTo>
                  <a:pt x="0" y="27"/>
                </a:lnTo>
                <a:lnTo>
                  <a:pt x="5" y="33"/>
                </a:lnTo>
                <a:lnTo>
                  <a:pt x="11" y="33"/>
                </a:lnTo>
                <a:lnTo>
                  <a:pt x="11" y="27"/>
                </a:lnTo>
                <a:lnTo>
                  <a:pt x="16" y="16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8" name=""/>
          <p:cNvSpPr/>
          <p:nvPr/>
        </p:nvSpPr>
        <p:spPr>
          <a:xfrm>
            <a:off x="4441680" y="3362400"/>
            <a:ext cx="34920" cy="17280"/>
          </a:xfrm>
          <a:custGeom>
            <a:avLst/>
            <a:gdLst/>
            <a:ahLst/>
            <a:rect l="l" t="t" r="r" b="b"/>
            <a:pathLst>
              <a:path w="22" h="11">
                <a:moveTo>
                  <a:pt x="0" y="11"/>
                </a:moveTo>
                <a:lnTo>
                  <a:pt x="6" y="6"/>
                </a:lnTo>
                <a:lnTo>
                  <a:pt x="11" y="0"/>
                </a:lnTo>
                <a:lnTo>
                  <a:pt x="11" y="0"/>
                </a:lnTo>
                <a:lnTo>
                  <a:pt x="17" y="0"/>
                </a:lnTo>
                <a:lnTo>
                  <a:pt x="17" y="0"/>
                </a:lnTo>
                <a:lnTo>
                  <a:pt x="22" y="0"/>
                </a:lnTo>
                <a:lnTo>
                  <a:pt x="22" y="6"/>
                </a:lnTo>
                <a:lnTo>
                  <a:pt x="22" y="6"/>
                </a:lnTo>
                <a:lnTo>
                  <a:pt x="22" y="11"/>
                </a:lnTo>
                <a:lnTo>
                  <a:pt x="17" y="11"/>
                </a:lnTo>
                <a:lnTo>
                  <a:pt x="17" y="11"/>
                </a:lnTo>
                <a:lnTo>
                  <a:pt x="11" y="11"/>
                </a:lnTo>
                <a:lnTo>
                  <a:pt x="6" y="11"/>
                </a:lnTo>
                <a:lnTo>
                  <a:pt x="0" y="11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9" name=""/>
          <p:cNvSpPr/>
          <p:nvPr/>
        </p:nvSpPr>
        <p:spPr>
          <a:xfrm>
            <a:off x="3957480" y="3164040"/>
            <a:ext cx="7920" cy="25200"/>
          </a:xfrm>
          <a:custGeom>
            <a:avLst/>
            <a:gdLst/>
            <a:ahLst/>
            <a:rect l="l" t="t" r="r" b="b"/>
            <a:pathLst>
              <a:path w="5" h="16">
                <a:moveTo>
                  <a:pt x="5" y="5"/>
                </a:moveTo>
                <a:lnTo>
                  <a:pt x="5" y="5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0" y="5"/>
                </a:lnTo>
                <a:lnTo>
                  <a:pt x="0" y="5"/>
                </a:lnTo>
                <a:lnTo>
                  <a:pt x="0" y="11"/>
                </a:lnTo>
                <a:lnTo>
                  <a:pt x="0" y="11"/>
                </a:lnTo>
                <a:lnTo>
                  <a:pt x="5" y="16"/>
                </a:lnTo>
                <a:lnTo>
                  <a:pt x="5" y="16"/>
                </a:lnTo>
                <a:lnTo>
                  <a:pt x="5" y="16"/>
                </a:lnTo>
                <a:lnTo>
                  <a:pt x="5" y="11"/>
                </a:lnTo>
                <a:lnTo>
                  <a:pt x="5" y="11"/>
                </a:lnTo>
                <a:lnTo>
                  <a:pt x="5" y="5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0" name=""/>
          <p:cNvSpPr/>
          <p:nvPr/>
        </p:nvSpPr>
        <p:spPr>
          <a:xfrm>
            <a:off x="3490920" y="2895480"/>
            <a:ext cx="95400" cy="95400"/>
          </a:xfrm>
          <a:custGeom>
            <a:avLst/>
            <a:gdLst/>
            <a:ahLst/>
            <a:rect l="l" t="t" r="r" b="b"/>
            <a:pathLst>
              <a:path w="60" h="60">
                <a:moveTo>
                  <a:pt x="0" y="49"/>
                </a:moveTo>
                <a:lnTo>
                  <a:pt x="0" y="43"/>
                </a:lnTo>
                <a:lnTo>
                  <a:pt x="5" y="38"/>
                </a:lnTo>
                <a:lnTo>
                  <a:pt x="11" y="32"/>
                </a:lnTo>
                <a:lnTo>
                  <a:pt x="16" y="27"/>
                </a:lnTo>
                <a:lnTo>
                  <a:pt x="21" y="27"/>
                </a:lnTo>
                <a:lnTo>
                  <a:pt x="27" y="22"/>
                </a:lnTo>
                <a:lnTo>
                  <a:pt x="32" y="16"/>
                </a:lnTo>
                <a:lnTo>
                  <a:pt x="32" y="11"/>
                </a:lnTo>
                <a:lnTo>
                  <a:pt x="38" y="5"/>
                </a:lnTo>
                <a:lnTo>
                  <a:pt x="43" y="0"/>
                </a:lnTo>
                <a:lnTo>
                  <a:pt x="49" y="5"/>
                </a:lnTo>
                <a:lnTo>
                  <a:pt x="54" y="11"/>
                </a:lnTo>
                <a:lnTo>
                  <a:pt x="60" y="16"/>
                </a:lnTo>
                <a:lnTo>
                  <a:pt x="54" y="22"/>
                </a:lnTo>
                <a:lnTo>
                  <a:pt x="54" y="27"/>
                </a:lnTo>
                <a:lnTo>
                  <a:pt x="43" y="27"/>
                </a:lnTo>
                <a:lnTo>
                  <a:pt x="38" y="32"/>
                </a:lnTo>
                <a:lnTo>
                  <a:pt x="38" y="38"/>
                </a:lnTo>
                <a:lnTo>
                  <a:pt x="32" y="43"/>
                </a:lnTo>
                <a:lnTo>
                  <a:pt x="27" y="49"/>
                </a:lnTo>
                <a:lnTo>
                  <a:pt x="21" y="54"/>
                </a:lnTo>
                <a:lnTo>
                  <a:pt x="16" y="60"/>
                </a:lnTo>
                <a:lnTo>
                  <a:pt x="11" y="60"/>
                </a:lnTo>
                <a:lnTo>
                  <a:pt x="5" y="60"/>
                </a:lnTo>
                <a:lnTo>
                  <a:pt x="5" y="54"/>
                </a:lnTo>
                <a:lnTo>
                  <a:pt x="0" y="49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1" name=""/>
          <p:cNvSpPr/>
          <p:nvPr/>
        </p:nvSpPr>
        <p:spPr>
          <a:xfrm>
            <a:off x="3619440" y="2835360"/>
            <a:ext cx="77760" cy="68040"/>
          </a:xfrm>
          <a:custGeom>
            <a:avLst/>
            <a:gdLst/>
            <a:ahLst/>
            <a:rect l="l" t="t" r="r" b="b"/>
            <a:pathLst>
              <a:path w="49" h="43">
                <a:moveTo>
                  <a:pt x="0" y="21"/>
                </a:moveTo>
                <a:lnTo>
                  <a:pt x="11" y="11"/>
                </a:lnTo>
                <a:lnTo>
                  <a:pt x="17" y="5"/>
                </a:lnTo>
                <a:lnTo>
                  <a:pt x="22" y="0"/>
                </a:lnTo>
                <a:lnTo>
                  <a:pt x="33" y="0"/>
                </a:lnTo>
                <a:lnTo>
                  <a:pt x="39" y="5"/>
                </a:lnTo>
                <a:lnTo>
                  <a:pt x="44" y="16"/>
                </a:lnTo>
                <a:lnTo>
                  <a:pt x="49" y="21"/>
                </a:lnTo>
                <a:lnTo>
                  <a:pt x="44" y="32"/>
                </a:lnTo>
                <a:lnTo>
                  <a:pt x="39" y="38"/>
                </a:lnTo>
                <a:lnTo>
                  <a:pt x="28" y="43"/>
                </a:lnTo>
                <a:lnTo>
                  <a:pt x="22" y="43"/>
                </a:lnTo>
                <a:lnTo>
                  <a:pt x="17" y="38"/>
                </a:lnTo>
                <a:lnTo>
                  <a:pt x="11" y="32"/>
                </a:lnTo>
                <a:lnTo>
                  <a:pt x="0" y="21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2" name=""/>
          <p:cNvSpPr/>
          <p:nvPr/>
        </p:nvSpPr>
        <p:spPr>
          <a:xfrm>
            <a:off x="4772160" y="2627280"/>
            <a:ext cx="15840" cy="42840"/>
          </a:xfrm>
          <a:custGeom>
            <a:avLst/>
            <a:gdLst/>
            <a:ahLst/>
            <a:rect l="l" t="t" r="r" b="b"/>
            <a:pathLst>
              <a:path w="10" h="27">
                <a:moveTo>
                  <a:pt x="10" y="27"/>
                </a:moveTo>
                <a:lnTo>
                  <a:pt x="5" y="16"/>
                </a:lnTo>
                <a:lnTo>
                  <a:pt x="5" y="11"/>
                </a:lnTo>
                <a:lnTo>
                  <a:pt x="5" y="5"/>
                </a:lnTo>
                <a:lnTo>
                  <a:pt x="5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5"/>
                </a:lnTo>
                <a:lnTo>
                  <a:pt x="0" y="11"/>
                </a:lnTo>
                <a:lnTo>
                  <a:pt x="0" y="16"/>
                </a:lnTo>
                <a:lnTo>
                  <a:pt x="0" y="22"/>
                </a:lnTo>
                <a:lnTo>
                  <a:pt x="0" y="27"/>
                </a:lnTo>
                <a:lnTo>
                  <a:pt x="5" y="27"/>
                </a:lnTo>
                <a:lnTo>
                  <a:pt x="10" y="27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3" name=""/>
          <p:cNvSpPr/>
          <p:nvPr/>
        </p:nvSpPr>
        <p:spPr>
          <a:xfrm>
            <a:off x="3697200" y="3500280"/>
            <a:ext cx="17640" cy="60480"/>
          </a:xfrm>
          <a:custGeom>
            <a:avLst/>
            <a:gdLst/>
            <a:ahLst/>
            <a:rect l="l" t="t" r="r" b="b"/>
            <a:pathLst>
              <a:path w="11" h="38">
                <a:moveTo>
                  <a:pt x="0" y="17"/>
                </a:moveTo>
                <a:lnTo>
                  <a:pt x="6" y="6"/>
                </a:lnTo>
                <a:lnTo>
                  <a:pt x="6" y="0"/>
                </a:lnTo>
                <a:lnTo>
                  <a:pt x="11" y="0"/>
                </a:lnTo>
                <a:lnTo>
                  <a:pt x="11" y="0"/>
                </a:lnTo>
                <a:lnTo>
                  <a:pt x="11" y="6"/>
                </a:lnTo>
                <a:lnTo>
                  <a:pt x="11" y="11"/>
                </a:lnTo>
                <a:lnTo>
                  <a:pt x="11" y="17"/>
                </a:lnTo>
                <a:lnTo>
                  <a:pt x="11" y="28"/>
                </a:lnTo>
                <a:lnTo>
                  <a:pt x="11" y="33"/>
                </a:lnTo>
                <a:lnTo>
                  <a:pt x="11" y="38"/>
                </a:lnTo>
                <a:lnTo>
                  <a:pt x="11" y="38"/>
                </a:lnTo>
                <a:lnTo>
                  <a:pt x="6" y="33"/>
                </a:lnTo>
                <a:lnTo>
                  <a:pt x="6" y="28"/>
                </a:lnTo>
                <a:lnTo>
                  <a:pt x="0" y="17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4" name=""/>
          <p:cNvSpPr/>
          <p:nvPr/>
        </p:nvSpPr>
        <p:spPr>
          <a:xfrm>
            <a:off x="3862440" y="3500280"/>
            <a:ext cx="9360" cy="34920"/>
          </a:xfrm>
          <a:custGeom>
            <a:avLst/>
            <a:gdLst/>
            <a:ahLst/>
            <a:rect l="l" t="t" r="r" b="b"/>
            <a:pathLst>
              <a:path w="6" h="22">
                <a:moveTo>
                  <a:pt x="0" y="17"/>
                </a:moveTo>
                <a:lnTo>
                  <a:pt x="0" y="11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0"/>
                </a:lnTo>
                <a:lnTo>
                  <a:pt x="0" y="6"/>
                </a:lnTo>
                <a:lnTo>
                  <a:pt x="6" y="6"/>
                </a:lnTo>
                <a:lnTo>
                  <a:pt x="6" y="11"/>
                </a:lnTo>
                <a:lnTo>
                  <a:pt x="6" y="11"/>
                </a:lnTo>
                <a:lnTo>
                  <a:pt x="6" y="17"/>
                </a:lnTo>
                <a:lnTo>
                  <a:pt x="6" y="22"/>
                </a:lnTo>
                <a:lnTo>
                  <a:pt x="0" y="22"/>
                </a:lnTo>
                <a:lnTo>
                  <a:pt x="0" y="22"/>
                </a:lnTo>
                <a:lnTo>
                  <a:pt x="0" y="17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5" name=""/>
          <p:cNvSpPr/>
          <p:nvPr/>
        </p:nvSpPr>
        <p:spPr>
          <a:xfrm>
            <a:off x="3749760" y="3354480"/>
            <a:ext cx="34920" cy="50760"/>
          </a:xfrm>
          <a:custGeom>
            <a:avLst/>
            <a:gdLst/>
            <a:ahLst/>
            <a:rect l="l" t="t" r="r" b="b"/>
            <a:pathLst>
              <a:path w="22" h="32">
                <a:moveTo>
                  <a:pt x="0" y="16"/>
                </a:moveTo>
                <a:lnTo>
                  <a:pt x="0" y="5"/>
                </a:lnTo>
                <a:lnTo>
                  <a:pt x="6" y="0"/>
                </a:lnTo>
                <a:lnTo>
                  <a:pt x="6" y="0"/>
                </a:lnTo>
                <a:lnTo>
                  <a:pt x="11" y="0"/>
                </a:lnTo>
                <a:lnTo>
                  <a:pt x="17" y="5"/>
                </a:lnTo>
                <a:lnTo>
                  <a:pt x="22" y="11"/>
                </a:lnTo>
                <a:lnTo>
                  <a:pt x="22" y="16"/>
                </a:lnTo>
                <a:lnTo>
                  <a:pt x="22" y="21"/>
                </a:lnTo>
                <a:lnTo>
                  <a:pt x="17" y="27"/>
                </a:lnTo>
                <a:lnTo>
                  <a:pt x="11" y="32"/>
                </a:lnTo>
                <a:lnTo>
                  <a:pt x="6" y="32"/>
                </a:lnTo>
                <a:lnTo>
                  <a:pt x="6" y="27"/>
                </a:lnTo>
                <a:lnTo>
                  <a:pt x="0" y="21"/>
                </a:lnTo>
                <a:lnTo>
                  <a:pt x="0" y="16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6" name=""/>
          <p:cNvSpPr/>
          <p:nvPr/>
        </p:nvSpPr>
        <p:spPr>
          <a:xfrm>
            <a:off x="3905280" y="3371760"/>
            <a:ext cx="27000" cy="50760"/>
          </a:xfrm>
          <a:custGeom>
            <a:avLst/>
            <a:gdLst/>
            <a:ahLst/>
            <a:rect l="l" t="t" r="r" b="b"/>
            <a:pathLst>
              <a:path w="17" h="32">
                <a:moveTo>
                  <a:pt x="0" y="5"/>
                </a:moveTo>
                <a:lnTo>
                  <a:pt x="6" y="0"/>
                </a:lnTo>
                <a:lnTo>
                  <a:pt x="11" y="0"/>
                </a:lnTo>
                <a:lnTo>
                  <a:pt x="17" y="5"/>
                </a:lnTo>
                <a:lnTo>
                  <a:pt x="17" y="10"/>
                </a:lnTo>
                <a:lnTo>
                  <a:pt x="17" y="16"/>
                </a:lnTo>
                <a:lnTo>
                  <a:pt x="17" y="21"/>
                </a:lnTo>
                <a:lnTo>
                  <a:pt x="11" y="27"/>
                </a:lnTo>
                <a:lnTo>
                  <a:pt x="6" y="32"/>
                </a:lnTo>
                <a:lnTo>
                  <a:pt x="6" y="32"/>
                </a:lnTo>
                <a:lnTo>
                  <a:pt x="6" y="27"/>
                </a:lnTo>
                <a:lnTo>
                  <a:pt x="0" y="27"/>
                </a:lnTo>
                <a:lnTo>
                  <a:pt x="0" y="21"/>
                </a:lnTo>
                <a:lnTo>
                  <a:pt x="0" y="10"/>
                </a:lnTo>
                <a:lnTo>
                  <a:pt x="0" y="5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7" name=""/>
          <p:cNvSpPr/>
          <p:nvPr/>
        </p:nvSpPr>
        <p:spPr>
          <a:xfrm>
            <a:off x="3862440" y="3198960"/>
            <a:ext cx="34920" cy="33120"/>
          </a:xfrm>
          <a:custGeom>
            <a:avLst/>
            <a:gdLst/>
            <a:ahLst/>
            <a:rect l="l" t="t" r="r" b="b"/>
            <a:pathLst>
              <a:path w="22" h="21">
                <a:moveTo>
                  <a:pt x="11" y="5"/>
                </a:moveTo>
                <a:lnTo>
                  <a:pt x="11" y="5"/>
                </a:lnTo>
                <a:lnTo>
                  <a:pt x="11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10"/>
                </a:lnTo>
                <a:lnTo>
                  <a:pt x="0" y="10"/>
                </a:lnTo>
                <a:lnTo>
                  <a:pt x="0" y="10"/>
                </a:lnTo>
                <a:lnTo>
                  <a:pt x="0" y="10"/>
                </a:lnTo>
                <a:lnTo>
                  <a:pt x="0" y="10"/>
                </a:lnTo>
                <a:lnTo>
                  <a:pt x="6" y="10"/>
                </a:lnTo>
                <a:lnTo>
                  <a:pt x="6" y="10"/>
                </a:lnTo>
                <a:lnTo>
                  <a:pt x="6" y="16"/>
                </a:lnTo>
                <a:lnTo>
                  <a:pt x="6" y="16"/>
                </a:lnTo>
                <a:lnTo>
                  <a:pt x="6" y="16"/>
                </a:lnTo>
                <a:lnTo>
                  <a:pt x="6" y="16"/>
                </a:lnTo>
                <a:lnTo>
                  <a:pt x="6" y="10"/>
                </a:lnTo>
                <a:lnTo>
                  <a:pt x="11" y="10"/>
                </a:lnTo>
                <a:lnTo>
                  <a:pt x="11" y="10"/>
                </a:lnTo>
                <a:lnTo>
                  <a:pt x="11" y="10"/>
                </a:lnTo>
                <a:lnTo>
                  <a:pt x="11" y="10"/>
                </a:lnTo>
                <a:lnTo>
                  <a:pt x="11" y="10"/>
                </a:lnTo>
                <a:lnTo>
                  <a:pt x="11" y="10"/>
                </a:lnTo>
                <a:lnTo>
                  <a:pt x="11" y="10"/>
                </a:lnTo>
                <a:lnTo>
                  <a:pt x="11" y="10"/>
                </a:lnTo>
                <a:lnTo>
                  <a:pt x="11" y="10"/>
                </a:lnTo>
                <a:lnTo>
                  <a:pt x="11" y="10"/>
                </a:lnTo>
                <a:lnTo>
                  <a:pt x="11" y="16"/>
                </a:lnTo>
                <a:lnTo>
                  <a:pt x="11" y="16"/>
                </a:lnTo>
                <a:lnTo>
                  <a:pt x="11" y="16"/>
                </a:lnTo>
                <a:lnTo>
                  <a:pt x="11" y="16"/>
                </a:lnTo>
                <a:lnTo>
                  <a:pt x="11" y="16"/>
                </a:lnTo>
                <a:lnTo>
                  <a:pt x="11" y="16"/>
                </a:lnTo>
                <a:lnTo>
                  <a:pt x="11" y="21"/>
                </a:lnTo>
                <a:lnTo>
                  <a:pt x="11" y="21"/>
                </a:lnTo>
                <a:lnTo>
                  <a:pt x="11" y="21"/>
                </a:lnTo>
                <a:lnTo>
                  <a:pt x="11" y="21"/>
                </a:lnTo>
                <a:lnTo>
                  <a:pt x="11" y="21"/>
                </a:lnTo>
                <a:lnTo>
                  <a:pt x="11" y="21"/>
                </a:lnTo>
                <a:lnTo>
                  <a:pt x="16" y="21"/>
                </a:lnTo>
                <a:lnTo>
                  <a:pt x="16" y="21"/>
                </a:lnTo>
                <a:lnTo>
                  <a:pt x="16" y="21"/>
                </a:lnTo>
                <a:lnTo>
                  <a:pt x="16" y="21"/>
                </a:lnTo>
                <a:lnTo>
                  <a:pt x="16" y="21"/>
                </a:lnTo>
                <a:lnTo>
                  <a:pt x="16" y="16"/>
                </a:lnTo>
                <a:lnTo>
                  <a:pt x="16" y="16"/>
                </a:lnTo>
                <a:lnTo>
                  <a:pt x="16" y="16"/>
                </a:lnTo>
                <a:lnTo>
                  <a:pt x="16" y="16"/>
                </a:lnTo>
                <a:lnTo>
                  <a:pt x="16" y="16"/>
                </a:lnTo>
                <a:lnTo>
                  <a:pt x="16" y="16"/>
                </a:lnTo>
                <a:lnTo>
                  <a:pt x="16" y="16"/>
                </a:lnTo>
                <a:lnTo>
                  <a:pt x="16" y="10"/>
                </a:lnTo>
                <a:lnTo>
                  <a:pt x="22" y="16"/>
                </a:lnTo>
                <a:lnTo>
                  <a:pt x="22" y="16"/>
                </a:lnTo>
                <a:lnTo>
                  <a:pt x="22" y="16"/>
                </a:lnTo>
                <a:lnTo>
                  <a:pt x="22" y="16"/>
                </a:lnTo>
                <a:lnTo>
                  <a:pt x="22" y="16"/>
                </a:lnTo>
                <a:lnTo>
                  <a:pt x="22" y="21"/>
                </a:lnTo>
                <a:lnTo>
                  <a:pt x="16" y="21"/>
                </a:lnTo>
                <a:lnTo>
                  <a:pt x="16" y="21"/>
                </a:lnTo>
                <a:lnTo>
                  <a:pt x="16" y="21"/>
                </a:lnTo>
                <a:lnTo>
                  <a:pt x="16" y="21"/>
                </a:lnTo>
                <a:lnTo>
                  <a:pt x="16" y="21"/>
                </a:lnTo>
                <a:lnTo>
                  <a:pt x="16" y="21"/>
                </a:lnTo>
                <a:lnTo>
                  <a:pt x="11" y="21"/>
                </a:lnTo>
                <a:lnTo>
                  <a:pt x="11" y="21"/>
                </a:lnTo>
                <a:lnTo>
                  <a:pt x="11" y="21"/>
                </a:lnTo>
                <a:lnTo>
                  <a:pt x="11" y="21"/>
                </a:lnTo>
                <a:lnTo>
                  <a:pt x="11" y="21"/>
                </a:lnTo>
                <a:lnTo>
                  <a:pt x="11" y="21"/>
                </a:lnTo>
                <a:lnTo>
                  <a:pt x="11" y="21"/>
                </a:lnTo>
                <a:lnTo>
                  <a:pt x="6" y="21"/>
                </a:lnTo>
                <a:lnTo>
                  <a:pt x="6" y="21"/>
                </a:lnTo>
                <a:lnTo>
                  <a:pt x="6" y="21"/>
                </a:lnTo>
                <a:lnTo>
                  <a:pt x="6" y="21"/>
                </a:lnTo>
                <a:lnTo>
                  <a:pt x="6" y="21"/>
                </a:lnTo>
                <a:lnTo>
                  <a:pt x="6" y="16"/>
                </a:lnTo>
                <a:lnTo>
                  <a:pt x="6" y="16"/>
                </a:lnTo>
                <a:lnTo>
                  <a:pt x="6" y="16"/>
                </a:lnTo>
                <a:lnTo>
                  <a:pt x="6" y="16"/>
                </a:lnTo>
                <a:lnTo>
                  <a:pt x="6" y="16"/>
                </a:lnTo>
                <a:lnTo>
                  <a:pt x="6" y="16"/>
                </a:lnTo>
                <a:lnTo>
                  <a:pt x="6" y="16"/>
                </a:lnTo>
                <a:lnTo>
                  <a:pt x="6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0"/>
                </a:lnTo>
                <a:lnTo>
                  <a:pt x="0" y="10"/>
                </a:lnTo>
                <a:lnTo>
                  <a:pt x="0" y="10"/>
                </a:lnTo>
                <a:lnTo>
                  <a:pt x="0" y="10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0"/>
                </a:lnTo>
                <a:lnTo>
                  <a:pt x="6" y="0"/>
                </a:lnTo>
                <a:lnTo>
                  <a:pt x="6" y="0"/>
                </a:lnTo>
                <a:lnTo>
                  <a:pt x="6" y="0"/>
                </a:lnTo>
                <a:lnTo>
                  <a:pt x="6" y="0"/>
                </a:lnTo>
                <a:lnTo>
                  <a:pt x="11" y="0"/>
                </a:lnTo>
                <a:lnTo>
                  <a:pt x="11" y="0"/>
                </a:lnTo>
                <a:lnTo>
                  <a:pt x="11" y="5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8" name=""/>
          <p:cNvSpPr/>
          <p:nvPr/>
        </p:nvSpPr>
        <p:spPr>
          <a:xfrm>
            <a:off x="3836880" y="3224160"/>
            <a:ext cx="34920" cy="34920"/>
          </a:xfrm>
          <a:custGeom>
            <a:avLst/>
            <a:gdLst/>
            <a:ahLst/>
            <a:rect l="l" t="t" r="r" b="b"/>
            <a:pathLst>
              <a:path w="22" h="22">
                <a:moveTo>
                  <a:pt x="16" y="5"/>
                </a:moveTo>
                <a:lnTo>
                  <a:pt x="16" y="5"/>
                </a:lnTo>
                <a:lnTo>
                  <a:pt x="22" y="5"/>
                </a:lnTo>
                <a:lnTo>
                  <a:pt x="22" y="5"/>
                </a:lnTo>
                <a:lnTo>
                  <a:pt x="22" y="11"/>
                </a:lnTo>
                <a:lnTo>
                  <a:pt x="22" y="11"/>
                </a:lnTo>
                <a:lnTo>
                  <a:pt x="22" y="11"/>
                </a:lnTo>
                <a:lnTo>
                  <a:pt x="22" y="11"/>
                </a:lnTo>
                <a:lnTo>
                  <a:pt x="22" y="16"/>
                </a:lnTo>
                <a:lnTo>
                  <a:pt x="22" y="16"/>
                </a:lnTo>
                <a:lnTo>
                  <a:pt x="22" y="16"/>
                </a:lnTo>
                <a:lnTo>
                  <a:pt x="22" y="16"/>
                </a:lnTo>
                <a:lnTo>
                  <a:pt x="22" y="16"/>
                </a:lnTo>
                <a:lnTo>
                  <a:pt x="16" y="16"/>
                </a:lnTo>
                <a:lnTo>
                  <a:pt x="16" y="22"/>
                </a:lnTo>
                <a:lnTo>
                  <a:pt x="16" y="22"/>
                </a:lnTo>
                <a:lnTo>
                  <a:pt x="16" y="22"/>
                </a:lnTo>
                <a:lnTo>
                  <a:pt x="16" y="22"/>
                </a:lnTo>
                <a:lnTo>
                  <a:pt x="16" y="22"/>
                </a:lnTo>
                <a:lnTo>
                  <a:pt x="11" y="22"/>
                </a:lnTo>
                <a:lnTo>
                  <a:pt x="11" y="22"/>
                </a:lnTo>
                <a:lnTo>
                  <a:pt x="11" y="22"/>
                </a:lnTo>
                <a:lnTo>
                  <a:pt x="11" y="22"/>
                </a:lnTo>
                <a:lnTo>
                  <a:pt x="11" y="16"/>
                </a:lnTo>
                <a:lnTo>
                  <a:pt x="11" y="16"/>
                </a:lnTo>
                <a:lnTo>
                  <a:pt x="11" y="16"/>
                </a:lnTo>
                <a:lnTo>
                  <a:pt x="5" y="16"/>
                </a:lnTo>
                <a:lnTo>
                  <a:pt x="5" y="16"/>
                </a:lnTo>
                <a:lnTo>
                  <a:pt x="5" y="16"/>
                </a:lnTo>
                <a:lnTo>
                  <a:pt x="5" y="11"/>
                </a:lnTo>
                <a:lnTo>
                  <a:pt x="5" y="11"/>
                </a:lnTo>
                <a:lnTo>
                  <a:pt x="0" y="11"/>
                </a:lnTo>
                <a:lnTo>
                  <a:pt x="0" y="11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11" y="0"/>
                </a:lnTo>
                <a:lnTo>
                  <a:pt x="11" y="0"/>
                </a:lnTo>
                <a:lnTo>
                  <a:pt x="11" y="0"/>
                </a:lnTo>
                <a:lnTo>
                  <a:pt x="16" y="0"/>
                </a:lnTo>
                <a:lnTo>
                  <a:pt x="16" y="5"/>
                </a:lnTo>
                <a:close/>
                <a:moveTo>
                  <a:pt x="16" y="5"/>
                </a:moveTo>
                <a:lnTo>
                  <a:pt x="11" y="5"/>
                </a:lnTo>
                <a:lnTo>
                  <a:pt x="11" y="0"/>
                </a:lnTo>
                <a:lnTo>
                  <a:pt x="11" y="0"/>
                </a:lnTo>
                <a:lnTo>
                  <a:pt x="11" y="0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5" y="5"/>
                </a:lnTo>
                <a:lnTo>
                  <a:pt x="5" y="5"/>
                </a:lnTo>
                <a:lnTo>
                  <a:pt x="5" y="5"/>
                </a:lnTo>
                <a:lnTo>
                  <a:pt x="5" y="5"/>
                </a:lnTo>
                <a:lnTo>
                  <a:pt x="5" y="5"/>
                </a:lnTo>
                <a:lnTo>
                  <a:pt x="5" y="11"/>
                </a:lnTo>
                <a:lnTo>
                  <a:pt x="5" y="11"/>
                </a:lnTo>
                <a:lnTo>
                  <a:pt x="11" y="16"/>
                </a:lnTo>
                <a:lnTo>
                  <a:pt x="11" y="16"/>
                </a:lnTo>
                <a:lnTo>
                  <a:pt x="11" y="16"/>
                </a:lnTo>
                <a:lnTo>
                  <a:pt x="16" y="16"/>
                </a:lnTo>
                <a:lnTo>
                  <a:pt x="16" y="16"/>
                </a:lnTo>
                <a:lnTo>
                  <a:pt x="16" y="16"/>
                </a:lnTo>
                <a:lnTo>
                  <a:pt x="16" y="16"/>
                </a:lnTo>
                <a:lnTo>
                  <a:pt x="16" y="16"/>
                </a:lnTo>
                <a:lnTo>
                  <a:pt x="16" y="16"/>
                </a:lnTo>
                <a:lnTo>
                  <a:pt x="16" y="16"/>
                </a:lnTo>
                <a:lnTo>
                  <a:pt x="22" y="16"/>
                </a:lnTo>
                <a:lnTo>
                  <a:pt x="22" y="11"/>
                </a:lnTo>
                <a:lnTo>
                  <a:pt x="16" y="11"/>
                </a:lnTo>
                <a:lnTo>
                  <a:pt x="16" y="11"/>
                </a:lnTo>
                <a:lnTo>
                  <a:pt x="16" y="5"/>
                </a:lnTo>
                <a:lnTo>
                  <a:pt x="16" y="5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9" name=""/>
          <p:cNvSpPr/>
          <p:nvPr/>
        </p:nvSpPr>
        <p:spPr>
          <a:xfrm>
            <a:off x="3809880" y="3241800"/>
            <a:ext cx="34920" cy="34920"/>
          </a:xfrm>
          <a:custGeom>
            <a:avLst/>
            <a:gdLst/>
            <a:ahLst/>
            <a:rect l="l" t="t" r="r" b="b"/>
            <a:pathLst>
              <a:path w="22" h="22">
                <a:moveTo>
                  <a:pt x="22" y="5"/>
                </a:moveTo>
                <a:lnTo>
                  <a:pt x="22" y="5"/>
                </a:lnTo>
                <a:lnTo>
                  <a:pt x="22" y="11"/>
                </a:lnTo>
                <a:lnTo>
                  <a:pt x="22" y="11"/>
                </a:lnTo>
                <a:lnTo>
                  <a:pt x="22" y="11"/>
                </a:lnTo>
                <a:lnTo>
                  <a:pt x="22" y="11"/>
                </a:lnTo>
                <a:lnTo>
                  <a:pt x="22" y="11"/>
                </a:lnTo>
                <a:lnTo>
                  <a:pt x="22" y="16"/>
                </a:lnTo>
                <a:lnTo>
                  <a:pt x="22" y="16"/>
                </a:lnTo>
                <a:lnTo>
                  <a:pt x="22" y="16"/>
                </a:lnTo>
                <a:lnTo>
                  <a:pt x="22" y="16"/>
                </a:lnTo>
                <a:lnTo>
                  <a:pt x="22" y="16"/>
                </a:lnTo>
                <a:lnTo>
                  <a:pt x="22" y="22"/>
                </a:lnTo>
                <a:lnTo>
                  <a:pt x="22" y="22"/>
                </a:lnTo>
                <a:lnTo>
                  <a:pt x="22" y="22"/>
                </a:lnTo>
                <a:lnTo>
                  <a:pt x="17" y="22"/>
                </a:lnTo>
                <a:lnTo>
                  <a:pt x="17" y="22"/>
                </a:lnTo>
                <a:lnTo>
                  <a:pt x="17" y="22"/>
                </a:lnTo>
                <a:lnTo>
                  <a:pt x="17" y="22"/>
                </a:lnTo>
                <a:lnTo>
                  <a:pt x="17" y="22"/>
                </a:lnTo>
                <a:lnTo>
                  <a:pt x="17" y="22"/>
                </a:lnTo>
                <a:lnTo>
                  <a:pt x="17" y="22"/>
                </a:lnTo>
                <a:lnTo>
                  <a:pt x="11" y="22"/>
                </a:lnTo>
                <a:lnTo>
                  <a:pt x="11" y="22"/>
                </a:lnTo>
                <a:lnTo>
                  <a:pt x="11" y="22"/>
                </a:lnTo>
                <a:lnTo>
                  <a:pt x="11" y="16"/>
                </a:lnTo>
                <a:lnTo>
                  <a:pt x="11" y="16"/>
                </a:lnTo>
                <a:lnTo>
                  <a:pt x="11" y="16"/>
                </a:lnTo>
                <a:lnTo>
                  <a:pt x="6" y="16"/>
                </a:lnTo>
                <a:lnTo>
                  <a:pt x="6" y="16"/>
                </a:lnTo>
                <a:lnTo>
                  <a:pt x="6" y="11"/>
                </a:lnTo>
                <a:lnTo>
                  <a:pt x="6" y="11"/>
                </a:lnTo>
                <a:lnTo>
                  <a:pt x="6" y="11"/>
                </a:lnTo>
                <a:lnTo>
                  <a:pt x="6" y="11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6" y="5"/>
                </a:lnTo>
                <a:lnTo>
                  <a:pt x="6" y="5"/>
                </a:lnTo>
                <a:lnTo>
                  <a:pt x="6" y="0"/>
                </a:lnTo>
                <a:lnTo>
                  <a:pt x="6" y="0"/>
                </a:lnTo>
                <a:lnTo>
                  <a:pt x="6" y="0"/>
                </a:lnTo>
                <a:lnTo>
                  <a:pt x="6" y="0"/>
                </a:lnTo>
                <a:lnTo>
                  <a:pt x="11" y="0"/>
                </a:lnTo>
                <a:lnTo>
                  <a:pt x="11" y="0"/>
                </a:lnTo>
                <a:lnTo>
                  <a:pt x="11" y="0"/>
                </a:lnTo>
                <a:lnTo>
                  <a:pt x="17" y="0"/>
                </a:lnTo>
                <a:lnTo>
                  <a:pt x="17" y="5"/>
                </a:lnTo>
                <a:lnTo>
                  <a:pt x="22" y="5"/>
                </a:lnTo>
                <a:close/>
                <a:moveTo>
                  <a:pt x="17" y="5"/>
                </a:moveTo>
                <a:lnTo>
                  <a:pt x="17" y="5"/>
                </a:lnTo>
                <a:lnTo>
                  <a:pt x="11" y="5"/>
                </a:lnTo>
                <a:lnTo>
                  <a:pt x="11" y="0"/>
                </a:lnTo>
                <a:lnTo>
                  <a:pt x="11" y="0"/>
                </a:lnTo>
                <a:lnTo>
                  <a:pt x="11" y="0"/>
                </a:lnTo>
                <a:lnTo>
                  <a:pt x="11" y="0"/>
                </a:lnTo>
                <a:lnTo>
                  <a:pt x="6" y="0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11"/>
                </a:lnTo>
                <a:lnTo>
                  <a:pt x="6" y="11"/>
                </a:lnTo>
                <a:lnTo>
                  <a:pt x="11" y="11"/>
                </a:lnTo>
                <a:lnTo>
                  <a:pt x="11" y="16"/>
                </a:lnTo>
                <a:lnTo>
                  <a:pt x="11" y="16"/>
                </a:lnTo>
                <a:lnTo>
                  <a:pt x="17" y="16"/>
                </a:lnTo>
                <a:lnTo>
                  <a:pt x="17" y="16"/>
                </a:lnTo>
                <a:lnTo>
                  <a:pt x="17" y="16"/>
                </a:lnTo>
                <a:lnTo>
                  <a:pt x="17" y="16"/>
                </a:lnTo>
                <a:lnTo>
                  <a:pt x="17" y="16"/>
                </a:lnTo>
                <a:lnTo>
                  <a:pt x="22" y="16"/>
                </a:lnTo>
                <a:lnTo>
                  <a:pt x="22" y="16"/>
                </a:lnTo>
                <a:lnTo>
                  <a:pt x="22" y="16"/>
                </a:lnTo>
                <a:lnTo>
                  <a:pt x="22" y="16"/>
                </a:lnTo>
                <a:lnTo>
                  <a:pt x="22" y="16"/>
                </a:lnTo>
                <a:lnTo>
                  <a:pt x="22" y="11"/>
                </a:lnTo>
                <a:lnTo>
                  <a:pt x="22" y="11"/>
                </a:lnTo>
                <a:lnTo>
                  <a:pt x="17" y="11"/>
                </a:lnTo>
                <a:lnTo>
                  <a:pt x="17" y="5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0" name=""/>
          <p:cNvSpPr/>
          <p:nvPr/>
        </p:nvSpPr>
        <p:spPr>
          <a:xfrm flipV="1">
            <a:off x="3897360" y="3188880"/>
            <a:ext cx="792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1" name=""/>
          <p:cNvSpPr/>
          <p:nvPr/>
        </p:nvSpPr>
        <p:spPr>
          <a:xfrm>
            <a:off x="3776760" y="2575080"/>
            <a:ext cx="1860480" cy="614160"/>
          </a:xfrm>
          <a:custGeom>
            <a:avLst/>
            <a:gdLst/>
            <a:ahLst/>
            <a:rect l="l" t="t" r="r" b="b"/>
            <a:pathLst>
              <a:path w="1172" h="387">
                <a:moveTo>
                  <a:pt x="81" y="387"/>
                </a:moveTo>
                <a:lnTo>
                  <a:pt x="81" y="382"/>
                </a:lnTo>
                <a:lnTo>
                  <a:pt x="81" y="371"/>
                </a:lnTo>
                <a:lnTo>
                  <a:pt x="76" y="360"/>
                </a:lnTo>
                <a:lnTo>
                  <a:pt x="70" y="354"/>
                </a:lnTo>
                <a:lnTo>
                  <a:pt x="65" y="349"/>
                </a:lnTo>
                <a:lnTo>
                  <a:pt x="60" y="349"/>
                </a:lnTo>
                <a:lnTo>
                  <a:pt x="49" y="349"/>
                </a:lnTo>
                <a:lnTo>
                  <a:pt x="43" y="354"/>
                </a:lnTo>
                <a:lnTo>
                  <a:pt x="38" y="360"/>
                </a:lnTo>
                <a:lnTo>
                  <a:pt x="32" y="365"/>
                </a:lnTo>
                <a:lnTo>
                  <a:pt x="21" y="371"/>
                </a:lnTo>
                <a:lnTo>
                  <a:pt x="16" y="371"/>
                </a:lnTo>
                <a:lnTo>
                  <a:pt x="10" y="365"/>
                </a:lnTo>
                <a:lnTo>
                  <a:pt x="5" y="360"/>
                </a:lnTo>
                <a:lnTo>
                  <a:pt x="0" y="349"/>
                </a:lnTo>
                <a:lnTo>
                  <a:pt x="0" y="343"/>
                </a:lnTo>
                <a:lnTo>
                  <a:pt x="0" y="338"/>
                </a:lnTo>
                <a:lnTo>
                  <a:pt x="0" y="327"/>
                </a:lnTo>
                <a:lnTo>
                  <a:pt x="5" y="322"/>
                </a:lnTo>
                <a:lnTo>
                  <a:pt x="5" y="316"/>
                </a:lnTo>
                <a:lnTo>
                  <a:pt x="5" y="311"/>
                </a:lnTo>
                <a:lnTo>
                  <a:pt x="5" y="300"/>
                </a:lnTo>
                <a:lnTo>
                  <a:pt x="5" y="294"/>
                </a:lnTo>
                <a:lnTo>
                  <a:pt x="5" y="289"/>
                </a:lnTo>
                <a:lnTo>
                  <a:pt x="10" y="284"/>
                </a:lnTo>
                <a:lnTo>
                  <a:pt x="21" y="278"/>
                </a:lnTo>
                <a:lnTo>
                  <a:pt x="27" y="278"/>
                </a:lnTo>
                <a:lnTo>
                  <a:pt x="38" y="273"/>
                </a:lnTo>
                <a:lnTo>
                  <a:pt x="43" y="267"/>
                </a:lnTo>
                <a:lnTo>
                  <a:pt x="49" y="262"/>
                </a:lnTo>
                <a:lnTo>
                  <a:pt x="60" y="256"/>
                </a:lnTo>
                <a:lnTo>
                  <a:pt x="65" y="256"/>
                </a:lnTo>
                <a:lnTo>
                  <a:pt x="76" y="251"/>
                </a:lnTo>
                <a:lnTo>
                  <a:pt x="81" y="245"/>
                </a:lnTo>
                <a:lnTo>
                  <a:pt x="92" y="245"/>
                </a:lnTo>
                <a:lnTo>
                  <a:pt x="103" y="245"/>
                </a:lnTo>
                <a:lnTo>
                  <a:pt x="109" y="245"/>
                </a:lnTo>
                <a:lnTo>
                  <a:pt x="119" y="245"/>
                </a:lnTo>
                <a:lnTo>
                  <a:pt x="130" y="251"/>
                </a:lnTo>
                <a:lnTo>
                  <a:pt x="141" y="251"/>
                </a:lnTo>
                <a:lnTo>
                  <a:pt x="147" y="256"/>
                </a:lnTo>
                <a:lnTo>
                  <a:pt x="158" y="262"/>
                </a:lnTo>
                <a:lnTo>
                  <a:pt x="163" y="262"/>
                </a:lnTo>
                <a:lnTo>
                  <a:pt x="174" y="262"/>
                </a:lnTo>
                <a:lnTo>
                  <a:pt x="185" y="256"/>
                </a:lnTo>
                <a:lnTo>
                  <a:pt x="201" y="256"/>
                </a:lnTo>
                <a:lnTo>
                  <a:pt x="207" y="251"/>
                </a:lnTo>
                <a:lnTo>
                  <a:pt x="212" y="251"/>
                </a:lnTo>
                <a:lnTo>
                  <a:pt x="212" y="245"/>
                </a:lnTo>
                <a:lnTo>
                  <a:pt x="207" y="240"/>
                </a:lnTo>
                <a:lnTo>
                  <a:pt x="196" y="234"/>
                </a:lnTo>
                <a:lnTo>
                  <a:pt x="190" y="229"/>
                </a:lnTo>
                <a:lnTo>
                  <a:pt x="179" y="224"/>
                </a:lnTo>
                <a:lnTo>
                  <a:pt x="179" y="218"/>
                </a:lnTo>
                <a:lnTo>
                  <a:pt x="179" y="213"/>
                </a:lnTo>
                <a:lnTo>
                  <a:pt x="185" y="207"/>
                </a:lnTo>
                <a:lnTo>
                  <a:pt x="196" y="213"/>
                </a:lnTo>
                <a:lnTo>
                  <a:pt x="201" y="224"/>
                </a:lnTo>
                <a:lnTo>
                  <a:pt x="207" y="229"/>
                </a:lnTo>
                <a:lnTo>
                  <a:pt x="207" y="240"/>
                </a:lnTo>
                <a:lnTo>
                  <a:pt x="212" y="245"/>
                </a:lnTo>
                <a:lnTo>
                  <a:pt x="212" y="245"/>
                </a:lnTo>
                <a:lnTo>
                  <a:pt x="218" y="245"/>
                </a:lnTo>
                <a:lnTo>
                  <a:pt x="223" y="245"/>
                </a:lnTo>
                <a:lnTo>
                  <a:pt x="229" y="240"/>
                </a:lnTo>
                <a:lnTo>
                  <a:pt x="239" y="234"/>
                </a:lnTo>
                <a:lnTo>
                  <a:pt x="250" y="229"/>
                </a:lnTo>
                <a:lnTo>
                  <a:pt x="256" y="224"/>
                </a:lnTo>
                <a:lnTo>
                  <a:pt x="267" y="224"/>
                </a:lnTo>
                <a:lnTo>
                  <a:pt x="278" y="224"/>
                </a:lnTo>
                <a:lnTo>
                  <a:pt x="289" y="218"/>
                </a:lnTo>
                <a:lnTo>
                  <a:pt x="294" y="213"/>
                </a:lnTo>
                <a:lnTo>
                  <a:pt x="299" y="207"/>
                </a:lnTo>
                <a:lnTo>
                  <a:pt x="305" y="202"/>
                </a:lnTo>
                <a:lnTo>
                  <a:pt x="310" y="196"/>
                </a:lnTo>
                <a:lnTo>
                  <a:pt x="316" y="196"/>
                </a:lnTo>
                <a:lnTo>
                  <a:pt x="327" y="196"/>
                </a:lnTo>
                <a:lnTo>
                  <a:pt x="338" y="196"/>
                </a:lnTo>
                <a:lnTo>
                  <a:pt x="348" y="196"/>
                </a:lnTo>
                <a:lnTo>
                  <a:pt x="359" y="191"/>
                </a:lnTo>
                <a:lnTo>
                  <a:pt x="365" y="185"/>
                </a:lnTo>
                <a:lnTo>
                  <a:pt x="365" y="180"/>
                </a:lnTo>
                <a:lnTo>
                  <a:pt x="370" y="175"/>
                </a:lnTo>
                <a:lnTo>
                  <a:pt x="376" y="169"/>
                </a:lnTo>
                <a:lnTo>
                  <a:pt x="387" y="169"/>
                </a:lnTo>
                <a:lnTo>
                  <a:pt x="398" y="169"/>
                </a:lnTo>
                <a:lnTo>
                  <a:pt x="408" y="169"/>
                </a:lnTo>
                <a:lnTo>
                  <a:pt x="419" y="164"/>
                </a:lnTo>
                <a:lnTo>
                  <a:pt x="430" y="164"/>
                </a:lnTo>
                <a:lnTo>
                  <a:pt x="436" y="158"/>
                </a:lnTo>
                <a:lnTo>
                  <a:pt x="447" y="153"/>
                </a:lnTo>
                <a:lnTo>
                  <a:pt x="452" y="147"/>
                </a:lnTo>
                <a:lnTo>
                  <a:pt x="458" y="142"/>
                </a:lnTo>
                <a:lnTo>
                  <a:pt x="463" y="136"/>
                </a:lnTo>
                <a:lnTo>
                  <a:pt x="474" y="136"/>
                </a:lnTo>
                <a:lnTo>
                  <a:pt x="485" y="136"/>
                </a:lnTo>
                <a:lnTo>
                  <a:pt x="490" y="136"/>
                </a:lnTo>
                <a:lnTo>
                  <a:pt x="501" y="131"/>
                </a:lnTo>
                <a:lnTo>
                  <a:pt x="512" y="125"/>
                </a:lnTo>
                <a:lnTo>
                  <a:pt x="518" y="120"/>
                </a:lnTo>
                <a:lnTo>
                  <a:pt x="512" y="115"/>
                </a:lnTo>
                <a:lnTo>
                  <a:pt x="501" y="115"/>
                </a:lnTo>
                <a:lnTo>
                  <a:pt x="490" y="115"/>
                </a:lnTo>
                <a:lnTo>
                  <a:pt x="479" y="115"/>
                </a:lnTo>
                <a:lnTo>
                  <a:pt x="468" y="115"/>
                </a:lnTo>
                <a:lnTo>
                  <a:pt x="463" y="115"/>
                </a:lnTo>
                <a:lnTo>
                  <a:pt x="458" y="109"/>
                </a:lnTo>
                <a:lnTo>
                  <a:pt x="452" y="104"/>
                </a:lnTo>
                <a:lnTo>
                  <a:pt x="447" y="98"/>
                </a:lnTo>
                <a:lnTo>
                  <a:pt x="447" y="87"/>
                </a:lnTo>
                <a:lnTo>
                  <a:pt x="452" y="82"/>
                </a:lnTo>
                <a:lnTo>
                  <a:pt x="458" y="76"/>
                </a:lnTo>
                <a:lnTo>
                  <a:pt x="463" y="71"/>
                </a:lnTo>
                <a:lnTo>
                  <a:pt x="474" y="71"/>
                </a:lnTo>
                <a:lnTo>
                  <a:pt x="485" y="66"/>
                </a:lnTo>
                <a:lnTo>
                  <a:pt x="490" y="71"/>
                </a:lnTo>
                <a:lnTo>
                  <a:pt x="501" y="71"/>
                </a:lnTo>
                <a:lnTo>
                  <a:pt x="512" y="76"/>
                </a:lnTo>
                <a:lnTo>
                  <a:pt x="518" y="82"/>
                </a:lnTo>
                <a:lnTo>
                  <a:pt x="518" y="87"/>
                </a:lnTo>
                <a:lnTo>
                  <a:pt x="523" y="93"/>
                </a:lnTo>
                <a:lnTo>
                  <a:pt x="523" y="104"/>
                </a:lnTo>
                <a:lnTo>
                  <a:pt x="528" y="109"/>
                </a:lnTo>
                <a:lnTo>
                  <a:pt x="534" y="109"/>
                </a:lnTo>
                <a:lnTo>
                  <a:pt x="545" y="109"/>
                </a:lnTo>
                <a:lnTo>
                  <a:pt x="556" y="109"/>
                </a:lnTo>
                <a:lnTo>
                  <a:pt x="567" y="104"/>
                </a:lnTo>
                <a:lnTo>
                  <a:pt x="577" y="98"/>
                </a:lnTo>
                <a:lnTo>
                  <a:pt x="588" y="93"/>
                </a:lnTo>
                <a:lnTo>
                  <a:pt x="588" y="93"/>
                </a:lnTo>
                <a:lnTo>
                  <a:pt x="583" y="87"/>
                </a:lnTo>
                <a:lnTo>
                  <a:pt x="577" y="87"/>
                </a:lnTo>
                <a:lnTo>
                  <a:pt x="561" y="82"/>
                </a:lnTo>
                <a:lnTo>
                  <a:pt x="556" y="76"/>
                </a:lnTo>
                <a:lnTo>
                  <a:pt x="545" y="71"/>
                </a:lnTo>
                <a:lnTo>
                  <a:pt x="545" y="66"/>
                </a:lnTo>
                <a:lnTo>
                  <a:pt x="539" y="60"/>
                </a:lnTo>
                <a:lnTo>
                  <a:pt x="545" y="55"/>
                </a:lnTo>
                <a:lnTo>
                  <a:pt x="545" y="49"/>
                </a:lnTo>
                <a:lnTo>
                  <a:pt x="550" y="44"/>
                </a:lnTo>
                <a:lnTo>
                  <a:pt x="561" y="38"/>
                </a:lnTo>
                <a:lnTo>
                  <a:pt x="572" y="33"/>
                </a:lnTo>
                <a:lnTo>
                  <a:pt x="583" y="33"/>
                </a:lnTo>
                <a:lnTo>
                  <a:pt x="594" y="33"/>
                </a:lnTo>
                <a:lnTo>
                  <a:pt x="599" y="33"/>
                </a:lnTo>
                <a:lnTo>
                  <a:pt x="610" y="38"/>
                </a:lnTo>
                <a:lnTo>
                  <a:pt x="616" y="44"/>
                </a:lnTo>
                <a:lnTo>
                  <a:pt x="616" y="49"/>
                </a:lnTo>
                <a:lnTo>
                  <a:pt x="621" y="60"/>
                </a:lnTo>
                <a:lnTo>
                  <a:pt x="621" y="66"/>
                </a:lnTo>
                <a:lnTo>
                  <a:pt x="627" y="76"/>
                </a:lnTo>
                <a:lnTo>
                  <a:pt x="627" y="76"/>
                </a:lnTo>
                <a:lnTo>
                  <a:pt x="637" y="76"/>
                </a:lnTo>
                <a:lnTo>
                  <a:pt x="643" y="71"/>
                </a:lnTo>
                <a:lnTo>
                  <a:pt x="654" y="66"/>
                </a:lnTo>
                <a:lnTo>
                  <a:pt x="665" y="60"/>
                </a:lnTo>
                <a:lnTo>
                  <a:pt x="676" y="66"/>
                </a:lnTo>
                <a:lnTo>
                  <a:pt x="687" y="66"/>
                </a:lnTo>
                <a:lnTo>
                  <a:pt x="692" y="60"/>
                </a:lnTo>
                <a:lnTo>
                  <a:pt x="687" y="55"/>
                </a:lnTo>
                <a:lnTo>
                  <a:pt x="676" y="55"/>
                </a:lnTo>
                <a:lnTo>
                  <a:pt x="665" y="55"/>
                </a:lnTo>
                <a:lnTo>
                  <a:pt x="659" y="55"/>
                </a:lnTo>
                <a:lnTo>
                  <a:pt x="648" y="49"/>
                </a:lnTo>
                <a:lnTo>
                  <a:pt x="643" y="44"/>
                </a:lnTo>
                <a:lnTo>
                  <a:pt x="637" y="38"/>
                </a:lnTo>
                <a:lnTo>
                  <a:pt x="637" y="33"/>
                </a:lnTo>
                <a:lnTo>
                  <a:pt x="637" y="27"/>
                </a:lnTo>
                <a:lnTo>
                  <a:pt x="637" y="16"/>
                </a:lnTo>
                <a:lnTo>
                  <a:pt x="643" y="11"/>
                </a:lnTo>
                <a:lnTo>
                  <a:pt x="654" y="6"/>
                </a:lnTo>
                <a:lnTo>
                  <a:pt x="659" y="6"/>
                </a:lnTo>
                <a:lnTo>
                  <a:pt x="670" y="0"/>
                </a:lnTo>
                <a:lnTo>
                  <a:pt x="681" y="0"/>
                </a:lnTo>
                <a:lnTo>
                  <a:pt x="692" y="0"/>
                </a:lnTo>
                <a:lnTo>
                  <a:pt x="703" y="0"/>
                </a:lnTo>
                <a:lnTo>
                  <a:pt x="708" y="6"/>
                </a:lnTo>
                <a:lnTo>
                  <a:pt x="719" y="6"/>
                </a:lnTo>
                <a:lnTo>
                  <a:pt x="725" y="11"/>
                </a:lnTo>
                <a:lnTo>
                  <a:pt x="730" y="16"/>
                </a:lnTo>
                <a:lnTo>
                  <a:pt x="741" y="22"/>
                </a:lnTo>
                <a:lnTo>
                  <a:pt x="747" y="27"/>
                </a:lnTo>
                <a:lnTo>
                  <a:pt x="752" y="33"/>
                </a:lnTo>
                <a:lnTo>
                  <a:pt x="763" y="33"/>
                </a:lnTo>
                <a:lnTo>
                  <a:pt x="774" y="33"/>
                </a:lnTo>
                <a:lnTo>
                  <a:pt x="785" y="33"/>
                </a:lnTo>
                <a:lnTo>
                  <a:pt x="796" y="33"/>
                </a:lnTo>
                <a:lnTo>
                  <a:pt x="806" y="33"/>
                </a:lnTo>
                <a:lnTo>
                  <a:pt x="817" y="33"/>
                </a:lnTo>
                <a:lnTo>
                  <a:pt x="823" y="33"/>
                </a:lnTo>
                <a:lnTo>
                  <a:pt x="834" y="38"/>
                </a:lnTo>
                <a:lnTo>
                  <a:pt x="845" y="38"/>
                </a:lnTo>
                <a:lnTo>
                  <a:pt x="850" y="44"/>
                </a:lnTo>
                <a:lnTo>
                  <a:pt x="856" y="49"/>
                </a:lnTo>
                <a:lnTo>
                  <a:pt x="861" y="55"/>
                </a:lnTo>
                <a:lnTo>
                  <a:pt x="872" y="60"/>
                </a:lnTo>
                <a:lnTo>
                  <a:pt x="877" y="66"/>
                </a:lnTo>
                <a:lnTo>
                  <a:pt x="888" y="66"/>
                </a:lnTo>
                <a:lnTo>
                  <a:pt x="899" y="66"/>
                </a:lnTo>
                <a:lnTo>
                  <a:pt x="910" y="66"/>
                </a:lnTo>
                <a:lnTo>
                  <a:pt x="916" y="71"/>
                </a:lnTo>
                <a:lnTo>
                  <a:pt x="926" y="71"/>
                </a:lnTo>
                <a:lnTo>
                  <a:pt x="937" y="71"/>
                </a:lnTo>
                <a:lnTo>
                  <a:pt x="948" y="71"/>
                </a:lnTo>
                <a:lnTo>
                  <a:pt x="959" y="71"/>
                </a:lnTo>
                <a:lnTo>
                  <a:pt x="970" y="76"/>
                </a:lnTo>
                <a:lnTo>
                  <a:pt x="976" y="76"/>
                </a:lnTo>
                <a:lnTo>
                  <a:pt x="981" y="82"/>
                </a:lnTo>
                <a:lnTo>
                  <a:pt x="986" y="87"/>
                </a:lnTo>
                <a:lnTo>
                  <a:pt x="992" y="93"/>
                </a:lnTo>
                <a:lnTo>
                  <a:pt x="1003" y="98"/>
                </a:lnTo>
                <a:lnTo>
                  <a:pt x="1008" y="104"/>
                </a:lnTo>
                <a:lnTo>
                  <a:pt x="1019" y="104"/>
                </a:lnTo>
                <a:lnTo>
                  <a:pt x="1025" y="104"/>
                </a:lnTo>
                <a:lnTo>
                  <a:pt x="1035" y="109"/>
                </a:lnTo>
                <a:lnTo>
                  <a:pt x="1046" y="109"/>
                </a:lnTo>
                <a:lnTo>
                  <a:pt x="1057" y="109"/>
                </a:lnTo>
                <a:lnTo>
                  <a:pt x="1068" y="109"/>
                </a:lnTo>
                <a:lnTo>
                  <a:pt x="1079" y="109"/>
                </a:lnTo>
                <a:lnTo>
                  <a:pt x="1090" y="109"/>
                </a:lnTo>
                <a:lnTo>
                  <a:pt x="1101" y="109"/>
                </a:lnTo>
                <a:lnTo>
                  <a:pt x="1106" y="115"/>
                </a:lnTo>
                <a:lnTo>
                  <a:pt x="1112" y="120"/>
                </a:lnTo>
                <a:lnTo>
                  <a:pt x="1117" y="125"/>
                </a:lnTo>
                <a:lnTo>
                  <a:pt x="1123" y="131"/>
                </a:lnTo>
                <a:lnTo>
                  <a:pt x="1123" y="136"/>
                </a:lnTo>
                <a:lnTo>
                  <a:pt x="1128" y="142"/>
                </a:lnTo>
                <a:lnTo>
                  <a:pt x="1139" y="147"/>
                </a:lnTo>
                <a:lnTo>
                  <a:pt x="1145" y="153"/>
                </a:lnTo>
                <a:lnTo>
                  <a:pt x="1155" y="153"/>
                </a:lnTo>
                <a:lnTo>
                  <a:pt x="1166" y="153"/>
                </a:lnTo>
                <a:lnTo>
                  <a:pt x="1172" y="158"/>
                </a:lnTo>
                <a:lnTo>
                  <a:pt x="1172" y="164"/>
                </a:lnTo>
                <a:lnTo>
                  <a:pt x="1172" y="169"/>
                </a:lnTo>
                <a:lnTo>
                  <a:pt x="1166" y="180"/>
                </a:lnTo>
                <a:lnTo>
                  <a:pt x="1166" y="185"/>
                </a:lnTo>
                <a:lnTo>
                  <a:pt x="1166" y="196"/>
                </a:lnTo>
                <a:lnTo>
                  <a:pt x="1166" y="202"/>
                </a:lnTo>
                <a:lnTo>
                  <a:pt x="1166" y="207"/>
                </a:lnTo>
                <a:lnTo>
                  <a:pt x="1166" y="213"/>
                </a:lnTo>
                <a:lnTo>
                  <a:pt x="1166" y="218"/>
                </a:lnTo>
                <a:lnTo>
                  <a:pt x="1166" y="224"/>
                </a:lnTo>
                <a:lnTo>
                  <a:pt x="1166" y="234"/>
                </a:lnTo>
                <a:lnTo>
                  <a:pt x="1166" y="24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2" name=""/>
          <p:cNvSpPr/>
          <p:nvPr/>
        </p:nvSpPr>
        <p:spPr>
          <a:xfrm>
            <a:off x="5627520" y="2955960"/>
            <a:ext cx="1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3" name=""/>
          <p:cNvSpPr/>
          <p:nvPr/>
        </p:nvSpPr>
        <p:spPr>
          <a:xfrm>
            <a:off x="5584680" y="3025800"/>
            <a:ext cx="34920" cy="25200"/>
          </a:xfrm>
          <a:custGeom>
            <a:avLst/>
            <a:gdLst/>
            <a:ahLst/>
            <a:rect l="l" t="t" r="r" b="b"/>
            <a:pathLst>
              <a:path w="22" h="16">
                <a:moveTo>
                  <a:pt x="16" y="16"/>
                </a:moveTo>
                <a:lnTo>
                  <a:pt x="16" y="16"/>
                </a:lnTo>
                <a:lnTo>
                  <a:pt x="16" y="16"/>
                </a:lnTo>
                <a:lnTo>
                  <a:pt x="16" y="16"/>
                </a:lnTo>
                <a:lnTo>
                  <a:pt x="16" y="16"/>
                </a:lnTo>
                <a:lnTo>
                  <a:pt x="16" y="10"/>
                </a:lnTo>
                <a:lnTo>
                  <a:pt x="22" y="10"/>
                </a:lnTo>
                <a:lnTo>
                  <a:pt x="22" y="10"/>
                </a:lnTo>
                <a:lnTo>
                  <a:pt x="22" y="10"/>
                </a:lnTo>
                <a:lnTo>
                  <a:pt x="22" y="10"/>
                </a:lnTo>
                <a:lnTo>
                  <a:pt x="22" y="10"/>
                </a:lnTo>
                <a:lnTo>
                  <a:pt x="22" y="10"/>
                </a:lnTo>
                <a:lnTo>
                  <a:pt x="22" y="5"/>
                </a:lnTo>
                <a:lnTo>
                  <a:pt x="22" y="5"/>
                </a:lnTo>
                <a:lnTo>
                  <a:pt x="22" y="5"/>
                </a:lnTo>
                <a:lnTo>
                  <a:pt x="22" y="5"/>
                </a:lnTo>
                <a:lnTo>
                  <a:pt x="16" y="5"/>
                </a:lnTo>
                <a:lnTo>
                  <a:pt x="16" y="5"/>
                </a:lnTo>
                <a:lnTo>
                  <a:pt x="16" y="5"/>
                </a:lnTo>
                <a:lnTo>
                  <a:pt x="16" y="5"/>
                </a:lnTo>
                <a:lnTo>
                  <a:pt x="16" y="5"/>
                </a:lnTo>
                <a:lnTo>
                  <a:pt x="16" y="5"/>
                </a:lnTo>
                <a:lnTo>
                  <a:pt x="11" y="5"/>
                </a:lnTo>
                <a:lnTo>
                  <a:pt x="11" y="5"/>
                </a:lnTo>
                <a:lnTo>
                  <a:pt x="11" y="5"/>
                </a:lnTo>
                <a:lnTo>
                  <a:pt x="11" y="5"/>
                </a:lnTo>
                <a:lnTo>
                  <a:pt x="11" y="5"/>
                </a:lnTo>
                <a:lnTo>
                  <a:pt x="11" y="10"/>
                </a:lnTo>
                <a:lnTo>
                  <a:pt x="11" y="10"/>
                </a:lnTo>
                <a:lnTo>
                  <a:pt x="11" y="10"/>
                </a:lnTo>
                <a:lnTo>
                  <a:pt x="11" y="10"/>
                </a:lnTo>
                <a:lnTo>
                  <a:pt x="11" y="10"/>
                </a:lnTo>
                <a:lnTo>
                  <a:pt x="11" y="10"/>
                </a:lnTo>
                <a:lnTo>
                  <a:pt x="11" y="5"/>
                </a:lnTo>
                <a:lnTo>
                  <a:pt x="11" y="5"/>
                </a:lnTo>
                <a:lnTo>
                  <a:pt x="11" y="5"/>
                </a:lnTo>
                <a:lnTo>
                  <a:pt x="11" y="5"/>
                </a:lnTo>
                <a:lnTo>
                  <a:pt x="11" y="5"/>
                </a:lnTo>
                <a:lnTo>
                  <a:pt x="11" y="5"/>
                </a:lnTo>
                <a:lnTo>
                  <a:pt x="11" y="5"/>
                </a:lnTo>
                <a:lnTo>
                  <a:pt x="11" y="5"/>
                </a:lnTo>
                <a:lnTo>
                  <a:pt x="6" y="0"/>
                </a:lnTo>
                <a:lnTo>
                  <a:pt x="6" y="0"/>
                </a:lnTo>
                <a:lnTo>
                  <a:pt x="6" y="0"/>
                </a:lnTo>
                <a:lnTo>
                  <a:pt x="6" y="0"/>
                </a:lnTo>
                <a:lnTo>
                  <a:pt x="6" y="0"/>
                </a:lnTo>
                <a:lnTo>
                  <a:pt x="6" y="0"/>
                </a:lnTo>
                <a:lnTo>
                  <a:pt x="6" y="0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10"/>
                </a:lnTo>
                <a:lnTo>
                  <a:pt x="6" y="10"/>
                </a:lnTo>
                <a:lnTo>
                  <a:pt x="6" y="10"/>
                </a:lnTo>
                <a:lnTo>
                  <a:pt x="6" y="10"/>
                </a:lnTo>
                <a:lnTo>
                  <a:pt x="6" y="10"/>
                </a:lnTo>
                <a:lnTo>
                  <a:pt x="0" y="10"/>
                </a:lnTo>
                <a:lnTo>
                  <a:pt x="0" y="10"/>
                </a:lnTo>
                <a:lnTo>
                  <a:pt x="0" y="10"/>
                </a:lnTo>
                <a:lnTo>
                  <a:pt x="0" y="10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6" y="0"/>
                </a:lnTo>
                <a:lnTo>
                  <a:pt x="6" y="0"/>
                </a:lnTo>
                <a:lnTo>
                  <a:pt x="6" y="0"/>
                </a:lnTo>
                <a:lnTo>
                  <a:pt x="6" y="0"/>
                </a:lnTo>
                <a:lnTo>
                  <a:pt x="6" y="0"/>
                </a:lnTo>
                <a:lnTo>
                  <a:pt x="6" y="0"/>
                </a:lnTo>
                <a:lnTo>
                  <a:pt x="6" y="0"/>
                </a:lnTo>
                <a:lnTo>
                  <a:pt x="11" y="0"/>
                </a:lnTo>
                <a:lnTo>
                  <a:pt x="11" y="0"/>
                </a:lnTo>
                <a:lnTo>
                  <a:pt x="11" y="0"/>
                </a:lnTo>
                <a:lnTo>
                  <a:pt x="11" y="0"/>
                </a:lnTo>
                <a:lnTo>
                  <a:pt x="11" y="0"/>
                </a:lnTo>
                <a:lnTo>
                  <a:pt x="11" y="0"/>
                </a:lnTo>
                <a:lnTo>
                  <a:pt x="11" y="5"/>
                </a:lnTo>
                <a:lnTo>
                  <a:pt x="11" y="5"/>
                </a:lnTo>
                <a:lnTo>
                  <a:pt x="11" y="5"/>
                </a:lnTo>
                <a:lnTo>
                  <a:pt x="11" y="0"/>
                </a:lnTo>
                <a:lnTo>
                  <a:pt x="11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2" y="0"/>
                </a:lnTo>
                <a:lnTo>
                  <a:pt x="22" y="5"/>
                </a:lnTo>
                <a:lnTo>
                  <a:pt x="22" y="5"/>
                </a:lnTo>
                <a:lnTo>
                  <a:pt x="22" y="5"/>
                </a:lnTo>
                <a:lnTo>
                  <a:pt x="22" y="5"/>
                </a:lnTo>
                <a:lnTo>
                  <a:pt x="22" y="10"/>
                </a:lnTo>
                <a:lnTo>
                  <a:pt x="22" y="10"/>
                </a:lnTo>
                <a:lnTo>
                  <a:pt x="22" y="10"/>
                </a:lnTo>
                <a:lnTo>
                  <a:pt x="22" y="10"/>
                </a:lnTo>
                <a:lnTo>
                  <a:pt x="22" y="16"/>
                </a:lnTo>
                <a:lnTo>
                  <a:pt x="22" y="16"/>
                </a:lnTo>
                <a:lnTo>
                  <a:pt x="22" y="16"/>
                </a:lnTo>
                <a:lnTo>
                  <a:pt x="16" y="16"/>
                </a:lnTo>
                <a:lnTo>
                  <a:pt x="16" y="16"/>
                </a:lnTo>
                <a:lnTo>
                  <a:pt x="16" y="16"/>
                </a:lnTo>
                <a:lnTo>
                  <a:pt x="16" y="16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4" name=""/>
          <p:cNvSpPr/>
          <p:nvPr/>
        </p:nvSpPr>
        <p:spPr>
          <a:xfrm>
            <a:off x="5594400" y="2990880"/>
            <a:ext cx="33120" cy="34920"/>
          </a:xfrm>
          <a:custGeom>
            <a:avLst/>
            <a:gdLst/>
            <a:ahLst/>
            <a:rect l="l" t="t" r="r" b="b"/>
            <a:pathLst>
              <a:path w="21" h="22">
                <a:moveTo>
                  <a:pt x="10" y="16"/>
                </a:moveTo>
                <a:lnTo>
                  <a:pt x="5" y="16"/>
                </a:lnTo>
                <a:lnTo>
                  <a:pt x="5" y="16"/>
                </a:lnTo>
                <a:lnTo>
                  <a:pt x="5" y="16"/>
                </a:lnTo>
                <a:lnTo>
                  <a:pt x="5" y="16"/>
                </a:lnTo>
                <a:lnTo>
                  <a:pt x="0" y="16"/>
                </a:lnTo>
                <a:lnTo>
                  <a:pt x="0" y="16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5" y="5"/>
                </a:lnTo>
                <a:lnTo>
                  <a:pt x="5" y="5"/>
                </a:lnTo>
                <a:lnTo>
                  <a:pt x="5" y="5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10" y="0"/>
                </a:lnTo>
                <a:lnTo>
                  <a:pt x="10" y="5"/>
                </a:lnTo>
                <a:lnTo>
                  <a:pt x="10" y="5"/>
                </a:lnTo>
                <a:lnTo>
                  <a:pt x="10" y="5"/>
                </a:lnTo>
                <a:lnTo>
                  <a:pt x="16" y="5"/>
                </a:lnTo>
                <a:lnTo>
                  <a:pt x="16" y="5"/>
                </a:lnTo>
                <a:lnTo>
                  <a:pt x="16" y="5"/>
                </a:lnTo>
                <a:lnTo>
                  <a:pt x="21" y="5"/>
                </a:lnTo>
                <a:lnTo>
                  <a:pt x="21" y="5"/>
                </a:lnTo>
                <a:lnTo>
                  <a:pt x="21" y="5"/>
                </a:lnTo>
                <a:lnTo>
                  <a:pt x="21" y="11"/>
                </a:lnTo>
                <a:lnTo>
                  <a:pt x="21" y="11"/>
                </a:lnTo>
                <a:lnTo>
                  <a:pt x="21" y="11"/>
                </a:lnTo>
                <a:lnTo>
                  <a:pt x="21" y="11"/>
                </a:lnTo>
                <a:lnTo>
                  <a:pt x="21" y="11"/>
                </a:lnTo>
                <a:lnTo>
                  <a:pt x="21" y="16"/>
                </a:lnTo>
                <a:lnTo>
                  <a:pt x="21" y="16"/>
                </a:lnTo>
                <a:lnTo>
                  <a:pt x="21" y="16"/>
                </a:lnTo>
                <a:lnTo>
                  <a:pt x="21" y="16"/>
                </a:lnTo>
                <a:lnTo>
                  <a:pt x="21" y="22"/>
                </a:lnTo>
                <a:lnTo>
                  <a:pt x="21" y="22"/>
                </a:lnTo>
                <a:lnTo>
                  <a:pt x="16" y="22"/>
                </a:lnTo>
                <a:lnTo>
                  <a:pt x="16" y="22"/>
                </a:lnTo>
                <a:lnTo>
                  <a:pt x="10" y="22"/>
                </a:lnTo>
                <a:lnTo>
                  <a:pt x="10" y="16"/>
                </a:lnTo>
                <a:close/>
                <a:moveTo>
                  <a:pt x="10" y="16"/>
                </a:moveTo>
                <a:lnTo>
                  <a:pt x="10" y="16"/>
                </a:lnTo>
                <a:lnTo>
                  <a:pt x="16" y="16"/>
                </a:lnTo>
                <a:lnTo>
                  <a:pt x="16" y="16"/>
                </a:lnTo>
                <a:lnTo>
                  <a:pt x="16" y="16"/>
                </a:lnTo>
                <a:lnTo>
                  <a:pt x="21" y="16"/>
                </a:lnTo>
                <a:lnTo>
                  <a:pt x="21" y="16"/>
                </a:lnTo>
                <a:lnTo>
                  <a:pt x="21" y="16"/>
                </a:lnTo>
                <a:lnTo>
                  <a:pt x="21" y="16"/>
                </a:lnTo>
                <a:lnTo>
                  <a:pt x="21" y="11"/>
                </a:lnTo>
                <a:lnTo>
                  <a:pt x="21" y="11"/>
                </a:lnTo>
                <a:lnTo>
                  <a:pt x="21" y="11"/>
                </a:lnTo>
                <a:lnTo>
                  <a:pt x="21" y="11"/>
                </a:lnTo>
                <a:lnTo>
                  <a:pt x="21" y="11"/>
                </a:lnTo>
                <a:lnTo>
                  <a:pt x="16" y="11"/>
                </a:lnTo>
                <a:lnTo>
                  <a:pt x="16" y="5"/>
                </a:lnTo>
                <a:lnTo>
                  <a:pt x="10" y="5"/>
                </a:lnTo>
                <a:lnTo>
                  <a:pt x="10" y="5"/>
                </a:lnTo>
                <a:lnTo>
                  <a:pt x="10" y="5"/>
                </a:lnTo>
                <a:lnTo>
                  <a:pt x="5" y="5"/>
                </a:lnTo>
                <a:lnTo>
                  <a:pt x="5" y="5"/>
                </a:lnTo>
                <a:lnTo>
                  <a:pt x="5" y="5"/>
                </a:lnTo>
                <a:lnTo>
                  <a:pt x="5" y="5"/>
                </a:lnTo>
                <a:lnTo>
                  <a:pt x="5" y="5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5" y="11"/>
                </a:lnTo>
                <a:lnTo>
                  <a:pt x="5" y="11"/>
                </a:lnTo>
                <a:lnTo>
                  <a:pt x="5" y="16"/>
                </a:lnTo>
                <a:lnTo>
                  <a:pt x="5" y="16"/>
                </a:lnTo>
                <a:lnTo>
                  <a:pt x="10" y="16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5" name=""/>
          <p:cNvSpPr/>
          <p:nvPr/>
        </p:nvSpPr>
        <p:spPr>
          <a:xfrm>
            <a:off x="5602320" y="2963880"/>
            <a:ext cx="42840" cy="27000"/>
          </a:xfrm>
          <a:custGeom>
            <a:avLst/>
            <a:gdLst/>
            <a:ahLst/>
            <a:rect l="l" t="t" r="r" b="b"/>
            <a:pathLst>
              <a:path w="27" h="17">
                <a:moveTo>
                  <a:pt x="11" y="17"/>
                </a:moveTo>
                <a:lnTo>
                  <a:pt x="5" y="17"/>
                </a:lnTo>
                <a:lnTo>
                  <a:pt x="5" y="17"/>
                </a:lnTo>
                <a:lnTo>
                  <a:pt x="5" y="17"/>
                </a:lnTo>
                <a:lnTo>
                  <a:pt x="5" y="17"/>
                </a:lnTo>
                <a:lnTo>
                  <a:pt x="5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11" y="0"/>
                </a:lnTo>
                <a:lnTo>
                  <a:pt x="11" y="0"/>
                </a:lnTo>
                <a:lnTo>
                  <a:pt x="11" y="0"/>
                </a:lnTo>
                <a:lnTo>
                  <a:pt x="11" y="0"/>
                </a:lnTo>
                <a:lnTo>
                  <a:pt x="11" y="0"/>
                </a:lnTo>
                <a:lnTo>
                  <a:pt x="16" y="0"/>
                </a:lnTo>
                <a:lnTo>
                  <a:pt x="16" y="6"/>
                </a:lnTo>
                <a:lnTo>
                  <a:pt x="16" y="6"/>
                </a:lnTo>
                <a:lnTo>
                  <a:pt x="22" y="6"/>
                </a:lnTo>
                <a:lnTo>
                  <a:pt x="22" y="6"/>
                </a:lnTo>
                <a:lnTo>
                  <a:pt x="22" y="6"/>
                </a:lnTo>
                <a:lnTo>
                  <a:pt x="22" y="6"/>
                </a:lnTo>
                <a:lnTo>
                  <a:pt x="22" y="6"/>
                </a:lnTo>
                <a:lnTo>
                  <a:pt x="22" y="11"/>
                </a:lnTo>
                <a:lnTo>
                  <a:pt x="27" y="11"/>
                </a:lnTo>
                <a:lnTo>
                  <a:pt x="27" y="11"/>
                </a:lnTo>
                <a:lnTo>
                  <a:pt x="27" y="11"/>
                </a:lnTo>
                <a:lnTo>
                  <a:pt x="22" y="17"/>
                </a:lnTo>
                <a:lnTo>
                  <a:pt x="22" y="17"/>
                </a:lnTo>
                <a:lnTo>
                  <a:pt x="22" y="17"/>
                </a:lnTo>
                <a:lnTo>
                  <a:pt x="22" y="17"/>
                </a:lnTo>
                <a:lnTo>
                  <a:pt x="22" y="17"/>
                </a:lnTo>
                <a:lnTo>
                  <a:pt x="16" y="17"/>
                </a:lnTo>
                <a:lnTo>
                  <a:pt x="16" y="17"/>
                </a:lnTo>
                <a:lnTo>
                  <a:pt x="11" y="17"/>
                </a:lnTo>
                <a:lnTo>
                  <a:pt x="11" y="17"/>
                </a:lnTo>
                <a:close/>
                <a:moveTo>
                  <a:pt x="11" y="17"/>
                </a:moveTo>
                <a:lnTo>
                  <a:pt x="11" y="17"/>
                </a:lnTo>
                <a:lnTo>
                  <a:pt x="16" y="17"/>
                </a:lnTo>
                <a:lnTo>
                  <a:pt x="16" y="17"/>
                </a:lnTo>
                <a:lnTo>
                  <a:pt x="22" y="17"/>
                </a:lnTo>
                <a:lnTo>
                  <a:pt x="22" y="17"/>
                </a:lnTo>
                <a:lnTo>
                  <a:pt x="22" y="17"/>
                </a:lnTo>
                <a:lnTo>
                  <a:pt x="22" y="17"/>
                </a:lnTo>
                <a:lnTo>
                  <a:pt x="22" y="11"/>
                </a:lnTo>
                <a:lnTo>
                  <a:pt x="22" y="11"/>
                </a:lnTo>
                <a:lnTo>
                  <a:pt x="22" y="11"/>
                </a:lnTo>
                <a:lnTo>
                  <a:pt x="22" y="11"/>
                </a:lnTo>
                <a:lnTo>
                  <a:pt x="22" y="11"/>
                </a:lnTo>
                <a:lnTo>
                  <a:pt x="22" y="6"/>
                </a:lnTo>
                <a:lnTo>
                  <a:pt x="16" y="6"/>
                </a:lnTo>
                <a:lnTo>
                  <a:pt x="16" y="6"/>
                </a:lnTo>
                <a:lnTo>
                  <a:pt x="16" y="6"/>
                </a:lnTo>
                <a:lnTo>
                  <a:pt x="11" y="6"/>
                </a:lnTo>
                <a:lnTo>
                  <a:pt x="11" y="6"/>
                </a:lnTo>
                <a:lnTo>
                  <a:pt x="5" y="6"/>
                </a:lnTo>
                <a:lnTo>
                  <a:pt x="5" y="6"/>
                </a:lnTo>
                <a:lnTo>
                  <a:pt x="5" y="6"/>
                </a:lnTo>
                <a:lnTo>
                  <a:pt x="5" y="6"/>
                </a:lnTo>
                <a:lnTo>
                  <a:pt x="5" y="6"/>
                </a:lnTo>
                <a:lnTo>
                  <a:pt x="5" y="6"/>
                </a:lnTo>
                <a:lnTo>
                  <a:pt x="5" y="6"/>
                </a:lnTo>
                <a:lnTo>
                  <a:pt x="5" y="11"/>
                </a:lnTo>
                <a:lnTo>
                  <a:pt x="5" y="11"/>
                </a:lnTo>
                <a:lnTo>
                  <a:pt x="5" y="11"/>
                </a:lnTo>
                <a:lnTo>
                  <a:pt x="5" y="11"/>
                </a:lnTo>
                <a:lnTo>
                  <a:pt x="5" y="11"/>
                </a:lnTo>
                <a:lnTo>
                  <a:pt x="11" y="11"/>
                </a:lnTo>
                <a:lnTo>
                  <a:pt x="11" y="17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6" name=""/>
          <p:cNvSpPr/>
          <p:nvPr/>
        </p:nvSpPr>
        <p:spPr>
          <a:xfrm>
            <a:off x="5594400" y="3059280"/>
            <a:ext cx="1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7" name=""/>
          <p:cNvSpPr/>
          <p:nvPr/>
        </p:nvSpPr>
        <p:spPr>
          <a:xfrm>
            <a:off x="3809880" y="3051000"/>
            <a:ext cx="1784520" cy="225720"/>
          </a:xfrm>
          <a:custGeom>
            <a:avLst/>
            <a:gdLst/>
            <a:ahLst/>
            <a:rect l="l" t="t" r="r" b="b"/>
            <a:pathLst>
              <a:path w="1124" h="142">
                <a:moveTo>
                  <a:pt x="1124" y="5"/>
                </a:moveTo>
                <a:lnTo>
                  <a:pt x="1118" y="11"/>
                </a:lnTo>
                <a:lnTo>
                  <a:pt x="1107" y="16"/>
                </a:lnTo>
                <a:lnTo>
                  <a:pt x="1102" y="22"/>
                </a:lnTo>
                <a:lnTo>
                  <a:pt x="1091" y="22"/>
                </a:lnTo>
                <a:lnTo>
                  <a:pt x="1085" y="27"/>
                </a:lnTo>
                <a:lnTo>
                  <a:pt x="1074" y="33"/>
                </a:lnTo>
                <a:lnTo>
                  <a:pt x="1064" y="33"/>
                </a:lnTo>
                <a:lnTo>
                  <a:pt x="1058" y="33"/>
                </a:lnTo>
                <a:lnTo>
                  <a:pt x="1047" y="33"/>
                </a:lnTo>
                <a:lnTo>
                  <a:pt x="1036" y="33"/>
                </a:lnTo>
                <a:lnTo>
                  <a:pt x="1025" y="33"/>
                </a:lnTo>
                <a:lnTo>
                  <a:pt x="1014" y="33"/>
                </a:lnTo>
                <a:lnTo>
                  <a:pt x="1004" y="38"/>
                </a:lnTo>
                <a:lnTo>
                  <a:pt x="993" y="38"/>
                </a:lnTo>
                <a:lnTo>
                  <a:pt x="987" y="38"/>
                </a:lnTo>
                <a:lnTo>
                  <a:pt x="976" y="38"/>
                </a:lnTo>
                <a:lnTo>
                  <a:pt x="965" y="38"/>
                </a:lnTo>
                <a:lnTo>
                  <a:pt x="955" y="38"/>
                </a:lnTo>
                <a:lnTo>
                  <a:pt x="944" y="38"/>
                </a:lnTo>
                <a:lnTo>
                  <a:pt x="933" y="38"/>
                </a:lnTo>
                <a:lnTo>
                  <a:pt x="922" y="38"/>
                </a:lnTo>
                <a:lnTo>
                  <a:pt x="916" y="38"/>
                </a:lnTo>
                <a:lnTo>
                  <a:pt x="905" y="38"/>
                </a:lnTo>
                <a:lnTo>
                  <a:pt x="895" y="38"/>
                </a:lnTo>
                <a:lnTo>
                  <a:pt x="884" y="38"/>
                </a:lnTo>
                <a:lnTo>
                  <a:pt x="873" y="38"/>
                </a:lnTo>
                <a:lnTo>
                  <a:pt x="862" y="38"/>
                </a:lnTo>
                <a:lnTo>
                  <a:pt x="856" y="38"/>
                </a:lnTo>
                <a:lnTo>
                  <a:pt x="845" y="38"/>
                </a:lnTo>
                <a:lnTo>
                  <a:pt x="835" y="38"/>
                </a:lnTo>
                <a:lnTo>
                  <a:pt x="824" y="38"/>
                </a:lnTo>
                <a:lnTo>
                  <a:pt x="813" y="38"/>
                </a:lnTo>
                <a:lnTo>
                  <a:pt x="802" y="38"/>
                </a:lnTo>
                <a:lnTo>
                  <a:pt x="791" y="38"/>
                </a:lnTo>
                <a:lnTo>
                  <a:pt x="785" y="38"/>
                </a:lnTo>
                <a:lnTo>
                  <a:pt x="775" y="38"/>
                </a:lnTo>
                <a:lnTo>
                  <a:pt x="764" y="33"/>
                </a:lnTo>
                <a:lnTo>
                  <a:pt x="753" y="38"/>
                </a:lnTo>
                <a:lnTo>
                  <a:pt x="742" y="38"/>
                </a:lnTo>
                <a:lnTo>
                  <a:pt x="736" y="38"/>
                </a:lnTo>
                <a:lnTo>
                  <a:pt x="726" y="38"/>
                </a:lnTo>
                <a:lnTo>
                  <a:pt x="720" y="33"/>
                </a:lnTo>
                <a:lnTo>
                  <a:pt x="709" y="27"/>
                </a:lnTo>
                <a:lnTo>
                  <a:pt x="698" y="27"/>
                </a:lnTo>
                <a:lnTo>
                  <a:pt x="687" y="27"/>
                </a:lnTo>
                <a:lnTo>
                  <a:pt x="682" y="27"/>
                </a:lnTo>
                <a:lnTo>
                  <a:pt x="671" y="22"/>
                </a:lnTo>
                <a:lnTo>
                  <a:pt x="666" y="22"/>
                </a:lnTo>
                <a:lnTo>
                  <a:pt x="655" y="16"/>
                </a:lnTo>
                <a:lnTo>
                  <a:pt x="649" y="11"/>
                </a:lnTo>
                <a:lnTo>
                  <a:pt x="644" y="5"/>
                </a:lnTo>
                <a:lnTo>
                  <a:pt x="633" y="0"/>
                </a:lnTo>
                <a:lnTo>
                  <a:pt x="622" y="0"/>
                </a:lnTo>
                <a:lnTo>
                  <a:pt x="611" y="0"/>
                </a:lnTo>
                <a:lnTo>
                  <a:pt x="600" y="0"/>
                </a:lnTo>
                <a:lnTo>
                  <a:pt x="589" y="0"/>
                </a:lnTo>
                <a:lnTo>
                  <a:pt x="584" y="0"/>
                </a:lnTo>
                <a:lnTo>
                  <a:pt x="573" y="5"/>
                </a:lnTo>
                <a:lnTo>
                  <a:pt x="562" y="11"/>
                </a:lnTo>
                <a:lnTo>
                  <a:pt x="556" y="11"/>
                </a:lnTo>
                <a:lnTo>
                  <a:pt x="551" y="16"/>
                </a:lnTo>
                <a:lnTo>
                  <a:pt x="540" y="22"/>
                </a:lnTo>
                <a:lnTo>
                  <a:pt x="535" y="27"/>
                </a:lnTo>
                <a:lnTo>
                  <a:pt x="524" y="27"/>
                </a:lnTo>
                <a:lnTo>
                  <a:pt x="513" y="27"/>
                </a:lnTo>
                <a:lnTo>
                  <a:pt x="502" y="27"/>
                </a:lnTo>
                <a:lnTo>
                  <a:pt x="491" y="27"/>
                </a:lnTo>
                <a:lnTo>
                  <a:pt x="480" y="27"/>
                </a:lnTo>
                <a:lnTo>
                  <a:pt x="475" y="33"/>
                </a:lnTo>
                <a:lnTo>
                  <a:pt x="469" y="33"/>
                </a:lnTo>
                <a:lnTo>
                  <a:pt x="458" y="38"/>
                </a:lnTo>
                <a:lnTo>
                  <a:pt x="453" y="43"/>
                </a:lnTo>
                <a:lnTo>
                  <a:pt x="442" y="49"/>
                </a:lnTo>
                <a:lnTo>
                  <a:pt x="437" y="49"/>
                </a:lnTo>
                <a:lnTo>
                  <a:pt x="426" y="49"/>
                </a:lnTo>
                <a:lnTo>
                  <a:pt x="415" y="43"/>
                </a:lnTo>
                <a:lnTo>
                  <a:pt x="404" y="43"/>
                </a:lnTo>
                <a:lnTo>
                  <a:pt x="393" y="43"/>
                </a:lnTo>
                <a:lnTo>
                  <a:pt x="382" y="43"/>
                </a:lnTo>
                <a:lnTo>
                  <a:pt x="371" y="38"/>
                </a:lnTo>
                <a:lnTo>
                  <a:pt x="366" y="38"/>
                </a:lnTo>
                <a:lnTo>
                  <a:pt x="355" y="38"/>
                </a:lnTo>
                <a:lnTo>
                  <a:pt x="344" y="43"/>
                </a:lnTo>
                <a:lnTo>
                  <a:pt x="338" y="43"/>
                </a:lnTo>
                <a:lnTo>
                  <a:pt x="333" y="49"/>
                </a:lnTo>
                <a:lnTo>
                  <a:pt x="322" y="54"/>
                </a:lnTo>
                <a:lnTo>
                  <a:pt x="317" y="60"/>
                </a:lnTo>
                <a:lnTo>
                  <a:pt x="306" y="60"/>
                </a:lnTo>
                <a:lnTo>
                  <a:pt x="295" y="65"/>
                </a:lnTo>
                <a:lnTo>
                  <a:pt x="289" y="65"/>
                </a:lnTo>
                <a:lnTo>
                  <a:pt x="278" y="65"/>
                </a:lnTo>
                <a:lnTo>
                  <a:pt x="268" y="65"/>
                </a:lnTo>
                <a:lnTo>
                  <a:pt x="257" y="71"/>
                </a:lnTo>
                <a:lnTo>
                  <a:pt x="251" y="76"/>
                </a:lnTo>
                <a:lnTo>
                  <a:pt x="246" y="82"/>
                </a:lnTo>
                <a:lnTo>
                  <a:pt x="235" y="82"/>
                </a:lnTo>
                <a:lnTo>
                  <a:pt x="224" y="87"/>
                </a:lnTo>
                <a:lnTo>
                  <a:pt x="213" y="87"/>
                </a:lnTo>
                <a:lnTo>
                  <a:pt x="202" y="87"/>
                </a:lnTo>
                <a:lnTo>
                  <a:pt x="197" y="87"/>
                </a:lnTo>
                <a:lnTo>
                  <a:pt x="186" y="82"/>
                </a:lnTo>
                <a:lnTo>
                  <a:pt x="180" y="76"/>
                </a:lnTo>
                <a:lnTo>
                  <a:pt x="169" y="71"/>
                </a:lnTo>
                <a:lnTo>
                  <a:pt x="164" y="71"/>
                </a:lnTo>
                <a:lnTo>
                  <a:pt x="158" y="76"/>
                </a:lnTo>
                <a:lnTo>
                  <a:pt x="153" y="87"/>
                </a:lnTo>
                <a:lnTo>
                  <a:pt x="148" y="93"/>
                </a:lnTo>
                <a:lnTo>
                  <a:pt x="137" y="98"/>
                </a:lnTo>
                <a:lnTo>
                  <a:pt x="131" y="103"/>
                </a:lnTo>
                <a:lnTo>
                  <a:pt x="126" y="98"/>
                </a:lnTo>
                <a:lnTo>
                  <a:pt x="120" y="98"/>
                </a:lnTo>
                <a:lnTo>
                  <a:pt x="115" y="87"/>
                </a:lnTo>
                <a:lnTo>
                  <a:pt x="115" y="82"/>
                </a:lnTo>
                <a:lnTo>
                  <a:pt x="115" y="71"/>
                </a:lnTo>
                <a:lnTo>
                  <a:pt x="120" y="65"/>
                </a:lnTo>
                <a:lnTo>
                  <a:pt x="120" y="60"/>
                </a:lnTo>
                <a:lnTo>
                  <a:pt x="120" y="54"/>
                </a:lnTo>
                <a:lnTo>
                  <a:pt x="120" y="49"/>
                </a:lnTo>
                <a:lnTo>
                  <a:pt x="115" y="43"/>
                </a:lnTo>
                <a:lnTo>
                  <a:pt x="104" y="38"/>
                </a:lnTo>
                <a:lnTo>
                  <a:pt x="93" y="38"/>
                </a:lnTo>
                <a:lnTo>
                  <a:pt x="88" y="43"/>
                </a:lnTo>
                <a:lnTo>
                  <a:pt x="82" y="49"/>
                </a:lnTo>
                <a:lnTo>
                  <a:pt x="82" y="54"/>
                </a:lnTo>
                <a:lnTo>
                  <a:pt x="77" y="65"/>
                </a:lnTo>
                <a:lnTo>
                  <a:pt x="77" y="71"/>
                </a:lnTo>
                <a:lnTo>
                  <a:pt x="71" y="76"/>
                </a:lnTo>
                <a:lnTo>
                  <a:pt x="66" y="82"/>
                </a:lnTo>
                <a:lnTo>
                  <a:pt x="60" y="87"/>
                </a:lnTo>
                <a:lnTo>
                  <a:pt x="55" y="93"/>
                </a:lnTo>
                <a:lnTo>
                  <a:pt x="49" y="98"/>
                </a:lnTo>
                <a:lnTo>
                  <a:pt x="44" y="103"/>
                </a:lnTo>
                <a:lnTo>
                  <a:pt x="39" y="109"/>
                </a:lnTo>
                <a:lnTo>
                  <a:pt x="33" y="114"/>
                </a:lnTo>
                <a:lnTo>
                  <a:pt x="33" y="120"/>
                </a:lnTo>
                <a:lnTo>
                  <a:pt x="28" y="125"/>
                </a:lnTo>
                <a:lnTo>
                  <a:pt x="22" y="131"/>
                </a:lnTo>
                <a:lnTo>
                  <a:pt x="11" y="136"/>
                </a:lnTo>
                <a:lnTo>
                  <a:pt x="6" y="142"/>
                </a:lnTo>
                <a:lnTo>
                  <a:pt x="0" y="142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8" name=""/>
          <p:cNvSpPr/>
          <p:nvPr/>
        </p:nvSpPr>
        <p:spPr>
          <a:xfrm>
            <a:off x="3949560" y="3249720"/>
            <a:ext cx="33480" cy="60120"/>
          </a:xfrm>
          <a:custGeom>
            <a:avLst/>
            <a:gdLst/>
            <a:ahLst/>
            <a:rect l="l" t="t" r="r" b="b"/>
            <a:pathLst>
              <a:path w="21" h="38">
                <a:moveTo>
                  <a:pt x="0" y="17"/>
                </a:moveTo>
                <a:lnTo>
                  <a:pt x="5" y="6"/>
                </a:lnTo>
                <a:lnTo>
                  <a:pt x="5" y="0"/>
                </a:lnTo>
                <a:lnTo>
                  <a:pt x="10" y="0"/>
                </a:lnTo>
                <a:lnTo>
                  <a:pt x="16" y="0"/>
                </a:lnTo>
                <a:lnTo>
                  <a:pt x="21" y="6"/>
                </a:lnTo>
                <a:lnTo>
                  <a:pt x="21" y="17"/>
                </a:lnTo>
                <a:lnTo>
                  <a:pt x="21" y="27"/>
                </a:lnTo>
                <a:lnTo>
                  <a:pt x="21" y="33"/>
                </a:lnTo>
                <a:lnTo>
                  <a:pt x="16" y="38"/>
                </a:lnTo>
                <a:lnTo>
                  <a:pt x="10" y="38"/>
                </a:lnTo>
                <a:lnTo>
                  <a:pt x="5" y="38"/>
                </a:lnTo>
                <a:lnTo>
                  <a:pt x="5" y="33"/>
                </a:lnTo>
                <a:lnTo>
                  <a:pt x="5" y="27"/>
                </a:lnTo>
                <a:lnTo>
                  <a:pt x="0" y="17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9" name=""/>
          <p:cNvSpPr/>
          <p:nvPr/>
        </p:nvSpPr>
        <p:spPr>
          <a:xfrm>
            <a:off x="4060800" y="3068640"/>
            <a:ext cx="9720" cy="7920"/>
          </a:xfrm>
          <a:custGeom>
            <a:avLst/>
            <a:gdLst/>
            <a:ahLst/>
            <a:rect l="l" t="t" r="r" b="b"/>
            <a:pathLst>
              <a:path w="6" h="5">
                <a:moveTo>
                  <a:pt x="6" y="5"/>
                </a:moveTo>
                <a:lnTo>
                  <a:pt x="6" y="0"/>
                </a:lnTo>
                <a:lnTo>
                  <a:pt x="6" y="0"/>
                </a:lnTo>
                <a:lnTo>
                  <a:pt x="6" y="0"/>
                </a:lnTo>
                <a:lnTo>
                  <a:pt x="6" y="0"/>
                </a:lnTo>
                <a:lnTo>
                  <a:pt x="6" y="0"/>
                </a:lnTo>
                <a:lnTo>
                  <a:pt x="0" y="0"/>
                </a:lnTo>
                <a:lnTo>
                  <a:pt x="0" y="5"/>
                </a:lnTo>
                <a:lnTo>
                  <a:pt x="0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0" name=""/>
          <p:cNvSpPr/>
          <p:nvPr/>
        </p:nvSpPr>
        <p:spPr>
          <a:xfrm>
            <a:off x="4459320" y="3068640"/>
            <a:ext cx="27000" cy="50760"/>
          </a:xfrm>
          <a:custGeom>
            <a:avLst/>
            <a:gdLst/>
            <a:ahLst/>
            <a:rect l="l" t="t" r="r" b="b"/>
            <a:pathLst>
              <a:path w="17" h="32">
                <a:moveTo>
                  <a:pt x="17" y="5"/>
                </a:moveTo>
                <a:lnTo>
                  <a:pt x="11" y="0"/>
                </a:lnTo>
                <a:lnTo>
                  <a:pt x="6" y="5"/>
                </a:lnTo>
                <a:lnTo>
                  <a:pt x="0" y="11"/>
                </a:lnTo>
                <a:lnTo>
                  <a:pt x="0" y="16"/>
                </a:lnTo>
                <a:lnTo>
                  <a:pt x="0" y="22"/>
                </a:lnTo>
                <a:lnTo>
                  <a:pt x="6" y="27"/>
                </a:lnTo>
                <a:lnTo>
                  <a:pt x="6" y="32"/>
                </a:lnTo>
                <a:lnTo>
                  <a:pt x="6" y="32"/>
                </a:lnTo>
                <a:lnTo>
                  <a:pt x="11" y="32"/>
                </a:lnTo>
                <a:lnTo>
                  <a:pt x="11" y="32"/>
                </a:lnTo>
                <a:lnTo>
                  <a:pt x="11" y="27"/>
                </a:lnTo>
                <a:lnTo>
                  <a:pt x="17" y="22"/>
                </a:lnTo>
                <a:lnTo>
                  <a:pt x="17" y="11"/>
                </a:lnTo>
                <a:lnTo>
                  <a:pt x="17" y="5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1" name=""/>
          <p:cNvSpPr/>
          <p:nvPr/>
        </p:nvSpPr>
        <p:spPr>
          <a:xfrm>
            <a:off x="3905280" y="2981160"/>
            <a:ext cx="87120" cy="69840"/>
          </a:xfrm>
          <a:custGeom>
            <a:avLst/>
            <a:gdLst/>
            <a:ahLst/>
            <a:rect l="l" t="t" r="r" b="b"/>
            <a:pathLst>
              <a:path w="55" h="44">
                <a:moveTo>
                  <a:pt x="55" y="28"/>
                </a:moveTo>
                <a:lnTo>
                  <a:pt x="55" y="17"/>
                </a:lnTo>
                <a:lnTo>
                  <a:pt x="49" y="11"/>
                </a:lnTo>
                <a:lnTo>
                  <a:pt x="49" y="6"/>
                </a:lnTo>
                <a:lnTo>
                  <a:pt x="44" y="0"/>
                </a:lnTo>
                <a:lnTo>
                  <a:pt x="33" y="0"/>
                </a:lnTo>
                <a:lnTo>
                  <a:pt x="28" y="0"/>
                </a:lnTo>
                <a:lnTo>
                  <a:pt x="17" y="6"/>
                </a:lnTo>
                <a:lnTo>
                  <a:pt x="11" y="11"/>
                </a:lnTo>
                <a:lnTo>
                  <a:pt x="6" y="17"/>
                </a:lnTo>
                <a:lnTo>
                  <a:pt x="6" y="22"/>
                </a:lnTo>
                <a:lnTo>
                  <a:pt x="6" y="28"/>
                </a:lnTo>
                <a:lnTo>
                  <a:pt x="0" y="33"/>
                </a:lnTo>
                <a:lnTo>
                  <a:pt x="6" y="44"/>
                </a:lnTo>
                <a:lnTo>
                  <a:pt x="6" y="44"/>
                </a:lnTo>
                <a:lnTo>
                  <a:pt x="17" y="44"/>
                </a:lnTo>
                <a:lnTo>
                  <a:pt x="22" y="44"/>
                </a:lnTo>
                <a:lnTo>
                  <a:pt x="33" y="38"/>
                </a:lnTo>
                <a:lnTo>
                  <a:pt x="44" y="33"/>
                </a:lnTo>
                <a:lnTo>
                  <a:pt x="49" y="28"/>
                </a:lnTo>
                <a:lnTo>
                  <a:pt x="55" y="28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2" name=""/>
          <p:cNvSpPr/>
          <p:nvPr/>
        </p:nvSpPr>
        <p:spPr>
          <a:xfrm>
            <a:off x="5514840" y="3016080"/>
            <a:ext cx="27000" cy="34920"/>
          </a:xfrm>
          <a:custGeom>
            <a:avLst/>
            <a:gdLst/>
            <a:ahLst/>
            <a:rect l="l" t="t" r="r" b="b"/>
            <a:pathLst>
              <a:path w="17" h="22">
                <a:moveTo>
                  <a:pt x="17" y="6"/>
                </a:moveTo>
                <a:lnTo>
                  <a:pt x="17" y="0"/>
                </a:lnTo>
                <a:lnTo>
                  <a:pt x="11" y="0"/>
                </a:lnTo>
                <a:lnTo>
                  <a:pt x="6" y="0"/>
                </a:lnTo>
                <a:lnTo>
                  <a:pt x="6" y="0"/>
                </a:lnTo>
                <a:lnTo>
                  <a:pt x="0" y="6"/>
                </a:lnTo>
                <a:lnTo>
                  <a:pt x="0" y="11"/>
                </a:lnTo>
                <a:lnTo>
                  <a:pt x="6" y="16"/>
                </a:lnTo>
                <a:lnTo>
                  <a:pt x="6" y="16"/>
                </a:lnTo>
                <a:lnTo>
                  <a:pt x="11" y="22"/>
                </a:lnTo>
                <a:lnTo>
                  <a:pt x="11" y="22"/>
                </a:lnTo>
                <a:lnTo>
                  <a:pt x="11" y="16"/>
                </a:lnTo>
                <a:lnTo>
                  <a:pt x="17" y="16"/>
                </a:lnTo>
                <a:lnTo>
                  <a:pt x="17" y="11"/>
                </a:lnTo>
                <a:lnTo>
                  <a:pt x="17" y="6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3" name=""/>
          <p:cNvSpPr/>
          <p:nvPr/>
        </p:nvSpPr>
        <p:spPr>
          <a:xfrm>
            <a:off x="5429160" y="2963880"/>
            <a:ext cx="7920" cy="9360"/>
          </a:xfrm>
          <a:custGeom>
            <a:avLst/>
            <a:gdLst/>
            <a:ahLst/>
            <a:rect l="l" t="t" r="r" b="b"/>
            <a:pathLst>
              <a:path w="5" h="6">
                <a:moveTo>
                  <a:pt x="5" y="6"/>
                </a:moveTo>
                <a:lnTo>
                  <a:pt x="0" y="6"/>
                </a:lnTo>
                <a:lnTo>
                  <a:pt x="0" y="0"/>
                </a:lnTo>
                <a:lnTo>
                  <a:pt x="0" y="0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5" y="6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4" name=""/>
          <p:cNvSpPr/>
          <p:nvPr/>
        </p:nvSpPr>
        <p:spPr>
          <a:xfrm>
            <a:off x="5818320" y="2895480"/>
            <a:ext cx="87120" cy="120600"/>
          </a:xfrm>
          <a:custGeom>
            <a:avLst/>
            <a:gdLst/>
            <a:ahLst/>
            <a:rect l="l" t="t" r="r" b="b"/>
            <a:pathLst>
              <a:path w="55" h="76">
                <a:moveTo>
                  <a:pt x="0" y="49"/>
                </a:moveTo>
                <a:lnTo>
                  <a:pt x="6" y="43"/>
                </a:lnTo>
                <a:lnTo>
                  <a:pt x="11" y="38"/>
                </a:lnTo>
                <a:lnTo>
                  <a:pt x="17" y="32"/>
                </a:lnTo>
                <a:lnTo>
                  <a:pt x="22" y="27"/>
                </a:lnTo>
                <a:lnTo>
                  <a:pt x="28" y="22"/>
                </a:lnTo>
                <a:lnTo>
                  <a:pt x="28" y="16"/>
                </a:lnTo>
                <a:lnTo>
                  <a:pt x="33" y="5"/>
                </a:lnTo>
                <a:lnTo>
                  <a:pt x="38" y="0"/>
                </a:lnTo>
                <a:lnTo>
                  <a:pt x="44" y="0"/>
                </a:lnTo>
                <a:lnTo>
                  <a:pt x="49" y="5"/>
                </a:lnTo>
                <a:lnTo>
                  <a:pt x="55" y="11"/>
                </a:lnTo>
                <a:lnTo>
                  <a:pt x="55" y="22"/>
                </a:lnTo>
                <a:lnTo>
                  <a:pt x="55" y="27"/>
                </a:lnTo>
                <a:lnTo>
                  <a:pt x="49" y="32"/>
                </a:lnTo>
                <a:lnTo>
                  <a:pt x="44" y="38"/>
                </a:lnTo>
                <a:lnTo>
                  <a:pt x="33" y="43"/>
                </a:lnTo>
                <a:lnTo>
                  <a:pt x="28" y="49"/>
                </a:lnTo>
                <a:lnTo>
                  <a:pt x="22" y="54"/>
                </a:lnTo>
                <a:lnTo>
                  <a:pt x="17" y="60"/>
                </a:lnTo>
                <a:lnTo>
                  <a:pt x="17" y="71"/>
                </a:lnTo>
                <a:lnTo>
                  <a:pt x="11" y="76"/>
                </a:lnTo>
                <a:lnTo>
                  <a:pt x="11" y="76"/>
                </a:lnTo>
                <a:lnTo>
                  <a:pt x="6" y="71"/>
                </a:lnTo>
                <a:lnTo>
                  <a:pt x="6" y="65"/>
                </a:lnTo>
                <a:lnTo>
                  <a:pt x="0" y="60"/>
                </a:lnTo>
                <a:lnTo>
                  <a:pt x="0" y="49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5" name=""/>
          <p:cNvSpPr/>
          <p:nvPr/>
        </p:nvSpPr>
        <p:spPr>
          <a:xfrm>
            <a:off x="5334120" y="2913120"/>
            <a:ext cx="42840" cy="17280"/>
          </a:xfrm>
          <a:custGeom>
            <a:avLst/>
            <a:gdLst/>
            <a:ahLst/>
            <a:rect l="l" t="t" r="r" b="b"/>
            <a:pathLst>
              <a:path w="27" h="11">
                <a:moveTo>
                  <a:pt x="27" y="5"/>
                </a:moveTo>
                <a:lnTo>
                  <a:pt x="27" y="5"/>
                </a:lnTo>
                <a:lnTo>
                  <a:pt x="22" y="0"/>
                </a:lnTo>
                <a:lnTo>
                  <a:pt x="16" y="0"/>
                </a:lnTo>
                <a:lnTo>
                  <a:pt x="11" y="0"/>
                </a:lnTo>
                <a:lnTo>
                  <a:pt x="5" y="0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5" y="5"/>
                </a:lnTo>
                <a:lnTo>
                  <a:pt x="11" y="11"/>
                </a:lnTo>
                <a:lnTo>
                  <a:pt x="16" y="11"/>
                </a:lnTo>
                <a:lnTo>
                  <a:pt x="22" y="11"/>
                </a:lnTo>
                <a:lnTo>
                  <a:pt x="27" y="5"/>
                </a:lnTo>
                <a:lnTo>
                  <a:pt x="27" y="5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6" name=""/>
          <p:cNvSpPr/>
          <p:nvPr/>
        </p:nvSpPr>
        <p:spPr>
          <a:xfrm>
            <a:off x="3637080" y="2852640"/>
            <a:ext cx="44280" cy="33480"/>
          </a:xfrm>
          <a:custGeom>
            <a:avLst/>
            <a:gdLst/>
            <a:ahLst/>
            <a:rect l="l" t="t" r="r" b="b"/>
            <a:pathLst>
              <a:path w="28" h="21">
                <a:moveTo>
                  <a:pt x="0" y="10"/>
                </a:moveTo>
                <a:lnTo>
                  <a:pt x="6" y="5"/>
                </a:lnTo>
                <a:lnTo>
                  <a:pt x="11" y="0"/>
                </a:lnTo>
                <a:lnTo>
                  <a:pt x="11" y="0"/>
                </a:lnTo>
                <a:lnTo>
                  <a:pt x="17" y="0"/>
                </a:lnTo>
                <a:lnTo>
                  <a:pt x="22" y="5"/>
                </a:lnTo>
                <a:lnTo>
                  <a:pt x="28" y="5"/>
                </a:lnTo>
                <a:lnTo>
                  <a:pt x="28" y="10"/>
                </a:lnTo>
                <a:lnTo>
                  <a:pt x="28" y="16"/>
                </a:lnTo>
                <a:lnTo>
                  <a:pt x="22" y="21"/>
                </a:lnTo>
                <a:lnTo>
                  <a:pt x="17" y="21"/>
                </a:lnTo>
                <a:lnTo>
                  <a:pt x="11" y="21"/>
                </a:lnTo>
                <a:lnTo>
                  <a:pt x="11" y="21"/>
                </a:lnTo>
                <a:lnTo>
                  <a:pt x="6" y="16"/>
                </a:lnTo>
                <a:lnTo>
                  <a:pt x="0" y="1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7" name=""/>
          <p:cNvSpPr/>
          <p:nvPr/>
        </p:nvSpPr>
        <p:spPr>
          <a:xfrm>
            <a:off x="5238720" y="2860560"/>
            <a:ext cx="52560" cy="25560"/>
          </a:xfrm>
          <a:custGeom>
            <a:avLst/>
            <a:gdLst/>
            <a:ahLst/>
            <a:rect l="l" t="t" r="r" b="b"/>
            <a:pathLst>
              <a:path w="33" h="16">
                <a:moveTo>
                  <a:pt x="33" y="5"/>
                </a:moveTo>
                <a:lnTo>
                  <a:pt x="27" y="0"/>
                </a:lnTo>
                <a:lnTo>
                  <a:pt x="27" y="0"/>
                </a:lnTo>
                <a:lnTo>
                  <a:pt x="22" y="0"/>
                </a:lnTo>
                <a:lnTo>
                  <a:pt x="11" y="0"/>
                </a:lnTo>
                <a:lnTo>
                  <a:pt x="5" y="0"/>
                </a:lnTo>
                <a:lnTo>
                  <a:pt x="0" y="5"/>
                </a:lnTo>
                <a:lnTo>
                  <a:pt x="0" y="5"/>
                </a:lnTo>
                <a:lnTo>
                  <a:pt x="0" y="11"/>
                </a:lnTo>
                <a:lnTo>
                  <a:pt x="5" y="11"/>
                </a:lnTo>
                <a:lnTo>
                  <a:pt x="16" y="11"/>
                </a:lnTo>
                <a:lnTo>
                  <a:pt x="22" y="16"/>
                </a:lnTo>
                <a:lnTo>
                  <a:pt x="27" y="11"/>
                </a:lnTo>
                <a:lnTo>
                  <a:pt x="27" y="11"/>
                </a:lnTo>
                <a:lnTo>
                  <a:pt x="33" y="5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8" name=""/>
          <p:cNvSpPr/>
          <p:nvPr/>
        </p:nvSpPr>
        <p:spPr>
          <a:xfrm>
            <a:off x="4191120" y="2800440"/>
            <a:ext cx="44280" cy="60120"/>
          </a:xfrm>
          <a:custGeom>
            <a:avLst/>
            <a:gdLst/>
            <a:ahLst/>
            <a:rect l="l" t="t" r="r" b="b"/>
            <a:pathLst>
              <a:path w="28" h="38">
                <a:moveTo>
                  <a:pt x="0" y="11"/>
                </a:moveTo>
                <a:lnTo>
                  <a:pt x="11" y="5"/>
                </a:lnTo>
                <a:lnTo>
                  <a:pt x="17" y="0"/>
                </a:lnTo>
                <a:lnTo>
                  <a:pt x="22" y="0"/>
                </a:lnTo>
                <a:lnTo>
                  <a:pt x="28" y="5"/>
                </a:lnTo>
                <a:lnTo>
                  <a:pt x="28" y="16"/>
                </a:lnTo>
                <a:lnTo>
                  <a:pt x="28" y="22"/>
                </a:lnTo>
                <a:lnTo>
                  <a:pt x="28" y="33"/>
                </a:lnTo>
                <a:lnTo>
                  <a:pt x="22" y="38"/>
                </a:lnTo>
                <a:lnTo>
                  <a:pt x="17" y="38"/>
                </a:lnTo>
                <a:lnTo>
                  <a:pt x="17" y="38"/>
                </a:lnTo>
                <a:lnTo>
                  <a:pt x="11" y="38"/>
                </a:lnTo>
                <a:lnTo>
                  <a:pt x="11" y="33"/>
                </a:lnTo>
                <a:lnTo>
                  <a:pt x="6" y="22"/>
                </a:lnTo>
                <a:lnTo>
                  <a:pt x="0" y="11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9" name=""/>
          <p:cNvSpPr/>
          <p:nvPr/>
        </p:nvSpPr>
        <p:spPr>
          <a:xfrm>
            <a:off x="5143680" y="2808360"/>
            <a:ext cx="42840" cy="27000"/>
          </a:xfrm>
          <a:custGeom>
            <a:avLst/>
            <a:gdLst/>
            <a:ahLst/>
            <a:rect l="l" t="t" r="r" b="b"/>
            <a:pathLst>
              <a:path w="27" h="17">
                <a:moveTo>
                  <a:pt x="27" y="6"/>
                </a:moveTo>
                <a:lnTo>
                  <a:pt x="22" y="6"/>
                </a:lnTo>
                <a:lnTo>
                  <a:pt x="22" y="0"/>
                </a:lnTo>
                <a:lnTo>
                  <a:pt x="11" y="0"/>
                </a:lnTo>
                <a:lnTo>
                  <a:pt x="5" y="0"/>
                </a:lnTo>
                <a:lnTo>
                  <a:pt x="0" y="6"/>
                </a:lnTo>
                <a:lnTo>
                  <a:pt x="0" y="6"/>
                </a:lnTo>
                <a:lnTo>
                  <a:pt x="0" y="11"/>
                </a:lnTo>
                <a:lnTo>
                  <a:pt x="5" y="11"/>
                </a:lnTo>
                <a:lnTo>
                  <a:pt x="11" y="17"/>
                </a:lnTo>
                <a:lnTo>
                  <a:pt x="16" y="17"/>
                </a:lnTo>
                <a:lnTo>
                  <a:pt x="22" y="17"/>
                </a:lnTo>
                <a:lnTo>
                  <a:pt x="22" y="17"/>
                </a:lnTo>
                <a:lnTo>
                  <a:pt x="27" y="11"/>
                </a:lnTo>
                <a:lnTo>
                  <a:pt x="27" y="6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0" name=""/>
          <p:cNvSpPr/>
          <p:nvPr/>
        </p:nvSpPr>
        <p:spPr>
          <a:xfrm>
            <a:off x="4338720" y="2739960"/>
            <a:ext cx="85680" cy="68400"/>
          </a:xfrm>
          <a:custGeom>
            <a:avLst/>
            <a:gdLst/>
            <a:ahLst/>
            <a:rect l="l" t="t" r="r" b="b"/>
            <a:pathLst>
              <a:path w="54" h="43">
                <a:moveTo>
                  <a:pt x="0" y="16"/>
                </a:moveTo>
                <a:lnTo>
                  <a:pt x="5" y="11"/>
                </a:lnTo>
                <a:lnTo>
                  <a:pt x="11" y="5"/>
                </a:lnTo>
                <a:lnTo>
                  <a:pt x="16" y="0"/>
                </a:lnTo>
                <a:lnTo>
                  <a:pt x="22" y="0"/>
                </a:lnTo>
                <a:lnTo>
                  <a:pt x="27" y="0"/>
                </a:lnTo>
                <a:lnTo>
                  <a:pt x="33" y="5"/>
                </a:lnTo>
                <a:lnTo>
                  <a:pt x="38" y="11"/>
                </a:lnTo>
                <a:lnTo>
                  <a:pt x="49" y="16"/>
                </a:lnTo>
                <a:lnTo>
                  <a:pt x="54" y="21"/>
                </a:lnTo>
                <a:lnTo>
                  <a:pt x="44" y="27"/>
                </a:lnTo>
                <a:lnTo>
                  <a:pt x="38" y="32"/>
                </a:lnTo>
                <a:lnTo>
                  <a:pt x="33" y="38"/>
                </a:lnTo>
                <a:lnTo>
                  <a:pt x="27" y="43"/>
                </a:lnTo>
                <a:lnTo>
                  <a:pt x="22" y="43"/>
                </a:lnTo>
                <a:lnTo>
                  <a:pt x="16" y="43"/>
                </a:lnTo>
                <a:lnTo>
                  <a:pt x="16" y="43"/>
                </a:lnTo>
                <a:lnTo>
                  <a:pt x="11" y="38"/>
                </a:lnTo>
                <a:lnTo>
                  <a:pt x="5" y="32"/>
                </a:lnTo>
                <a:lnTo>
                  <a:pt x="5" y="27"/>
                </a:lnTo>
                <a:lnTo>
                  <a:pt x="0" y="16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1" name=""/>
          <p:cNvSpPr/>
          <p:nvPr/>
        </p:nvSpPr>
        <p:spPr>
          <a:xfrm>
            <a:off x="5048280" y="2765520"/>
            <a:ext cx="34920" cy="17280"/>
          </a:xfrm>
          <a:custGeom>
            <a:avLst/>
            <a:gdLst/>
            <a:ahLst/>
            <a:rect l="l" t="t" r="r" b="b"/>
            <a:pathLst>
              <a:path w="22" h="11">
                <a:moveTo>
                  <a:pt x="22" y="0"/>
                </a:moveTo>
                <a:lnTo>
                  <a:pt x="16" y="0"/>
                </a:lnTo>
                <a:lnTo>
                  <a:pt x="16" y="0"/>
                </a:lnTo>
                <a:lnTo>
                  <a:pt x="11" y="0"/>
                </a:lnTo>
                <a:lnTo>
                  <a:pt x="5" y="0"/>
                </a:lnTo>
                <a:lnTo>
                  <a:pt x="0" y="0"/>
                </a:lnTo>
                <a:lnTo>
                  <a:pt x="0" y="5"/>
                </a:lnTo>
                <a:lnTo>
                  <a:pt x="5" y="5"/>
                </a:lnTo>
                <a:lnTo>
                  <a:pt x="11" y="11"/>
                </a:lnTo>
                <a:lnTo>
                  <a:pt x="11" y="11"/>
                </a:lnTo>
                <a:lnTo>
                  <a:pt x="16" y="11"/>
                </a:lnTo>
                <a:lnTo>
                  <a:pt x="22" y="11"/>
                </a:lnTo>
                <a:lnTo>
                  <a:pt x="22" y="11"/>
                </a:lnTo>
                <a:lnTo>
                  <a:pt x="22" y="5"/>
                </a:lnTo>
                <a:lnTo>
                  <a:pt x="22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2" name=""/>
          <p:cNvSpPr/>
          <p:nvPr/>
        </p:nvSpPr>
        <p:spPr>
          <a:xfrm>
            <a:off x="4962600" y="2712960"/>
            <a:ext cx="15840" cy="17640"/>
          </a:xfrm>
          <a:custGeom>
            <a:avLst/>
            <a:gdLst/>
            <a:ahLst/>
            <a:rect l="l" t="t" r="r" b="b"/>
            <a:pathLst>
              <a:path w="10" h="11">
                <a:moveTo>
                  <a:pt x="10" y="0"/>
                </a:moveTo>
                <a:lnTo>
                  <a:pt x="10" y="0"/>
                </a:lnTo>
                <a:lnTo>
                  <a:pt x="5" y="0"/>
                </a:lnTo>
                <a:lnTo>
                  <a:pt x="0" y="0"/>
                </a:lnTo>
                <a:lnTo>
                  <a:pt x="0" y="0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11"/>
                </a:lnTo>
                <a:lnTo>
                  <a:pt x="5" y="11"/>
                </a:lnTo>
                <a:lnTo>
                  <a:pt x="10" y="11"/>
                </a:lnTo>
                <a:lnTo>
                  <a:pt x="10" y="11"/>
                </a:lnTo>
                <a:lnTo>
                  <a:pt x="10" y="6"/>
                </a:lnTo>
                <a:lnTo>
                  <a:pt x="10" y="6"/>
                </a:lnTo>
                <a:lnTo>
                  <a:pt x="1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3" name=""/>
          <p:cNvSpPr/>
          <p:nvPr/>
        </p:nvSpPr>
        <p:spPr>
          <a:xfrm>
            <a:off x="1568520" y="1797120"/>
            <a:ext cx="104760" cy="102960"/>
          </a:xfrm>
          <a:custGeom>
            <a:avLst/>
            <a:gdLst/>
            <a:ahLst/>
            <a:rect l="l" t="t" r="r" b="b"/>
            <a:pathLst>
              <a:path w="66" h="65">
                <a:moveTo>
                  <a:pt x="33" y="65"/>
                </a:moveTo>
                <a:lnTo>
                  <a:pt x="38" y="65"/>
                </a:lnTo>
                <a:lnTo>
                  <a:pt x="38" y="38"/>
                </a:lnTo>
                <a:lnTo>
                  <a:pt x="66" y="38"/>
                </a:lnTo>
                <a:lnTo>
                  <a:pt x="66" y="32"/>
                </a:lnTo>
                <a:lnTo>
                  <a:pt x="38" y="32"/>
                </a:lnTo>
                <a:lnTo>
                  <a:pt x="38" y="0"/>
                </a:lnTo>
                <a:lnTo>
                  <a:pt x="33" y="0"/>
                </a:lnTo>
                <a:lnTo>
                  <a:pt x="33" y="32"/>
                </a:lnTo>
                <a:lnTo>
                  <a:pt x="0" y="32"/>
                </a:lnTo>
                <a:lnTo>
                  <a:pt x="0" y="38"/>
                </a:lnTo>
                <a:lnTo>
                  <a:pt x="33" y="38"/>
                </a:lnTo>
                <a:lnTo>
                  <a:pt x="33" y="65"/>
                </a:lnTo>
                <a:close/>
              </a:path>
            </a:pathLst>
          </a:custGeom>
          <a:solidFill>
            <a:srgbClr val="0000ff"/>
          </a:solidFill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4" name=""/>
          <p:cNvSpPr/>
          <p:nvPr/>
        </p:nvSpPr>
        <p:spPr>
          <a:xfrm>
            <a:off x="7159680" y="1797120"/>
            <a:ext cx="95040" cy="102960"/>
          </a:xfrm>
          <a:custGeom>
            <a:avLst/>
            <a:gdLst/>
            <a:ahLst/>
            <a:rect l="l" t="t" r="r" b="b"/>
            <a:pathLst>
              <a:path w="60" h="65">
                <a:moveTo>
                  <a:pt x="28" y="65"/>
                </a:moveTo>
                <a:lnTo>
                  <a:pt x="33" y="65"/>
                </a:lnTo>
                <a:lnTo>
                  <a:pt x="33" y="38"/>
                </a:lnTo>
                <a:lnTo>
                  <a:pt x="60" y="38"/>
                </a:lnTo>
                <a:lnTo>
                  <a:pt x="60" y="32"/>
                </a:lnTo>
                <a:lnTo>
                  <a:pt x="33" y="32"/>
                </a:lnTo>
                <a:lnTo>
                  <a:pt x="33" y="0"/>
                </a:lnTo>
                <a:lnTo>
                  <a:pt x="28" y="0"/>
                </a:lnTo>
                <a:lnTo>
                  <a:pt x="28" y="32"/>
                </a:lnTo>
                <a:lnTo>
                  <a:pt x="0" y="32"/>
                </a:lnTo>
                <a:lnTo>
                  <a:pt x="0" y="38"/>
                </a:lnTo>
                <a:lnTo>
                  <a:pt x="28" y="38"/>
                </a:lnTo>
                <a:lnTo>
                  <a:pt x="28" y="65"/>
                </a:lnTo>
                <a:close/>
              </a:path>
            </a:pathLst>
          </a:custGeom>
          <a:solidFill>
            <a:srgbClr val="0000ff"/>
          </a:solidFill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5" name=""/>
          <p:cNvSpPr/>
          <p:nvPr/>
        </p:nvSpPr>
        <p:spPr>
          <a:xfrm>
            <a:off x="7169040" y="5759280"/>
            <a:ext cx="95400" cy="95400"/>
          </a:xfrm>
          <a:custGeom>
            <a:avLst/>
            <a:gdLst/>
            <a:ahLst/>
            <a:rect l="l" t="t" r="r" b="b"/>
            <a:pathLst>
              <a:path w="60" h="60">
                <a:moveTo>
                  <a:pt x="27" y="60"/>
                </a:moveTo>
                <a:lnTo>
                  <a:pt x="33" y="60"/>
                </a:lnTo>
                <a:lnTo>
                  <a:pt x="33" y="33"/>
                </a:lnTo>
                <a:lnTo>
                  <a:pt x="60" y="33"/>
                </a:lnTo>
                <a:lnTo>
                  <a:pt x="60" y="27"/>
                </a:lnTo>
                <a:lnTo>
                  <a:pt x="33" y="27"/>
                </a:lnTo>
                <a:lnTo>
                  <a:pt x="33" y="0"/>
                </a:lnTo>
                <a:lnTo>
                  <a:pt x="27" y="0"/>
                </a:lnTo>
                <a:lnTo>
                  <a:pt x="27" y="27"/>
                </a:lnTo>
                <a:lnTo>
                  <a:pt x="0" y="27"/>
                </a:lnTo>
                <a:lnTo>
                  <a:pt x="0" y="33"/>
                </a:lnTo>
                <a:lnTo>
                  <a:pt x="27" y="33"/>
                </a:lnTo>
                <a:lnTo>
                  <a:pt x="27" y="60"/>
                </a:lnTo>
                <a:close/>
              </a:path>
            </a:pathLst>
          </a:custGeom>
          <a:solidFill>
            <a:srgbClr val="0000ff"/>
          </a:solidFill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6" name=""/>
          <p:cNvSpPr/>
          <p:nvPr/>
        </p:nvSpPr>
        <p:spPr>
          <a:xfrm>
            <a:off x="1568520" y="5759280"/>
            <a:ext cx="104760" cy="95400"/>
          </a:xfrm>
          <a:custGeom>
            <a:avLst/>
            <a:gdLst/>
            <a:ahLst/>
            <a:rect l="l" t="t" r="r" b="b"/>
            <a:pathLst>
              <a:path w="66" h="60">
                <a:moveTo>
                  <a:pt x="33" y="60"/>
                </a:moveTo>
                <a:lnTo>
                  <a:pt x="38" y="60"/>
                </a:lnTo>
                <a:lnTo>
                  <a:pt x="38" y="33"/>
                </a:lnTo>
                <a:lnTo>
                  <a:pt x="66" y="33"/>
                </a:lnTo>
                <a:lnTo>
                  <a:pt x="66" y="27"/>
                </a:lnTo>
                <a:lnTo>
                  <a:pt x="38" y="27"/>
                </a:lnTo>
                <a:lnTo>
                  <a:pt x="38" y="0"/>
                </a:lnTo>
                <a:lnTo>
                  <a:pt x="33" y="0"/>
                </a:lnTo>
                <a:lnTo>
                  <a:pt x="33" y="27"/>
                </a:lnTo>
                <a:lnTo>
                  <a:pt x="0" y="27"/>
                </a:lnTo>
                <a:lnTo>
                  <a:pt x="0" y="33"/>
                </a:lnTo>
                <a:lnTo>
                  <a:pt x="33" y="33"/>
                </a:lnTo>
                <a:lnTo>
                  <a:pt x="33" y="60"/>
                </a:lnTo>
                <a:close/>
              </a:path>
            </a:pathLst>
          </a:custGeom>
          <a:solidFill>
            <a:srgbClr val="0000ff"/>
          </a:solidFill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7" name=""/>
          <p:cNvSpPr/>
          <p:nvPr/>
        </p:nvSpPr>
        <p:spPr>
          <a:xfrm>
            <a:off x="3844800" y="2990880"/>
            <a:ext cx="9720" cy="7920"/>
          </a:xfrm>
          <a:custGeom>
            <a:avLst/>
            <a:gdLst/>
            <a:ahLst/>
            <a:rect l="l" t="t" r="r" b="b"/>
            <a:pathLst>
              <a:path w="6" h="5">
                <a:moveTo>
                  <a:pt x="6" y="0"/>
                </a:moveTo>
                <a:lnTo>
                  <a:pt x="6" y="0"/>
                </a:lnTo>
                <a:lnTo>
                  <a:pt x="6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0"/>
                </a:lnTo>
                <a:lnTo>
                  <a:pt x="6" y="0"/>
                </a:lnTo>
                <a:lnTo>
                  <a:pt x="6" y="0"/>
                </a:lnTo>
                <a:lnTo>
                  <a:pt x="6" y="0"/>
                </a:lnTo>
                <a:lnTo>
                  <a:pt x="6" y="0"/>
                </a:lnTo>
                <a:lnTo>
                  <a:pt x="6" y="0"/>
                </a:lnTo>
                <a:lnTo>
                  <a:pt x="6" y="0"/>
                </a:lnTo>
                <a:lnTo>
                  <a:pt x="6" y="0"/>
                </a:lnTo>
                <a:lnTo>
                  <a:pt x="6" y="0"/>
                </a:lnTo>
                <a:lnTo>
                  <a:pt x="6" y="0"/>
                </a:lnTo>
                <a:lnTo>
                  <a:pt x="6" y="0"/>
                </a:lnTo>
                <a:lnTo>
                  <a:pt x="6" y="0"/>
                </a:lnTo>
                <a:lnTo>
                  <a:pt x="6" y="0"/>
                </a:lnTo>
                <a:lnTo>
                  <a:pt x="6" y="0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8" name=""/>
          <p:cNvSpPr/>
          <p:nvPr/>
        </p:nvSpPr>
        <p:spPr>
          <a:xfrm>
            <a:off x="3213000" y="3457440"/>
            <a:ext cx="9720" cy="7920"/>
          </a:xfrm>
          <a:custGeom>
            <a:avLst/>
            <a:gdLst/>
            <a:ahLst/>
            <a:rect l="l" t="t" r="r" b="b"/>
            <a:pathLst>
              <a:path w="6" h="5">
                <a:moveTo>
                  <a:pt x="6" y="0"/>
                </a:moveTo>
                <a:lnTo>
                  <a:pt x="6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0"/>
                </a:lnTo>
                <a:lnTo>
                  <a:pt x="6" y="0"/>
                </a:lnTo>
                <a:lnTo>
                  <a:pt x="6" y="0"/>
                </a:lnTo>
                <a:lnTo>
                  <a:pt x="6" y="0"/>
                </a:lnTo>
                <a:lnTo>
                  <a:pt x="6" y="0"/>
                </a:lnTo>
                <a:lnTo>
                  <a:pt x="6" y="0"/>
                </a:lnTo>
                <a:lnTo>
                  <a:pt x="6" y="0"/>
                </a:lnTo>
                <a:lnTo>
                  <a:pt x="6" y="0"/>
                </a:lnTo>
                <a:lnTo>
                  <a:pt x="6" y="0"/>
                </a:lnTo>
                <a:lnTo>
                  <a:pt x="6" y="0"/>
                </a:lnTo>
                <a:lnTo>
                  <a:pt x="6" y="0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9" name=""/>
          <p:cNvSpPr/>
          <p:nvPr/>
        </p:nvSpPr>
        <p:spPr>
          <a:xfrm>
            <a:off x="4286160" y="5699160"/>
            <a:ext cx="9720" cy="17280"/>
          </a:xfrm>
          <a:custGeom>
            <a:avLst/>
            <a:gdLst/>
            <a:ahLst/>
            <a:rect l="l" t="t" r="r" b="b"/>
            <a:pathLst>
              <a:path w="6" h="11">
                <a:moveTo>
                  <a:pt x="6" y="0"/>
                </a:moveTo>
                <a:lnTo>
                  <a:pt x="6" y="0"/>
                </a:lnTo>
                <a:lnTo>
                  <a:pt x="6" y="0"/>
                </a:lnTo>
                <a:lnTo>
                  <a:pt x="6" y="0"/>
                </a:lnTo>
                <a:lnTo>
                  <a:pt x="6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6" y="11"/>
                </a:lnTo>
                <a:lnTo>
                  <a:pt x="6" y="11"/>
                </a:lnTo>
                <a:lnTo>
                  <a:pt x="6" y="11"/>
                </a:lnTo>
                <a:lnTo>
                  <a:pt x="6" y="11"/>
                </a:lnTo>
                <a:lnTo>
                  <a:pt x="6" y="11"/>
                </a:lnTo>
                <a:lnTo>
                  <a:pt x="6" y="11"/>
                </a:lnTo>
                <a:lnTo>
                  <a:pt x="6" y="11"/>
                </a:lnTo>
                <a:lnTo>
                  <a:pt x="6" y="11"/>
                </a:lnTo>
                <a:lnTo>
                  <a:pt x="6" y="11"/>
                </a:lnTo>
                <a:lnTo>
                  <a:pt x="6" y="11"/>
                </a:lnTo>
                <a:lnTo>
                  <a:pt x="6" y="11"/>
                </a:lnTo>
                <a:lnTo>
                  <a:pt x="6" y="11"/>
                </a:lnTo>
                <a:lnTo>
                  <a:pt x="6" y="11"/>
                </a:lnTo>
                <a:lnTo>
                  <a:pt x="6" y="11"/>
                </a:lnTo>
                <a:lnTo>
                  <a:pt x="6" y="11"/>
                </a:lnTo>
                <a:lnTo>
                  <a:pt x="6" y="11"/>
                </a:lnTo>
                <a:lnTo>
                  <a:pt x="6" y="11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0"/>
                </a:lnTo>
                <a:lnTo>
                  <a:pt x="6" y="0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0" name=""/>
          <p:cNvSpPr/>
          <p:nvPr/>
        </p:nvSpPr>
        <p:spPr>
          <a:xfrm>
            <a:off x="4849920" y="4633920"/>
            <a:ext cx="7920" cy="9360"/>
          </a:xfrm>
          <a:custGeom>
            <a:avLst/>
            <a:gdLst/>
            <a:ahLst/>
            <a:rect l="l" t="t" r="r" b="b"/>
            <a:pathLst>
              <a:path w="5" h="6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5" y="6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1" name=""/>
          <p:cNvSpPr/>
          <p:nvPr/>
        </p:nvSpPr>
        <p:spPr>
          <a:xfrm>
            <a:off x="4268880" y="4435560"/>
            <a:ext cx="9360" cy="7920"/>
          </a:xfrm>
          <a:custGeom>
            <a:avLst/>
            <a:gdLst/>
            <a:ahLst/>
            <a:rect l="l" t="t" r="r" b="b"/>
            <a:pathLst>
              <a:path w="6" h="5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0"/>
                </a:lnTo>
                <a:lnTo>
                  <a:pt x="6" y="0"/>
                </a:lnTo>
                <a:lnTo>
                  <a:pt x="6" y="0"/>
                </a:lnTo>
                <a:lnTo>
                  <a:pt x="6" y="0"/>
                </a:lnTo>
                <a:lnTo>
                  <a:pt x="6" y="0"/>
                </a:lnTo>
                <a:lnTo>
                  <a:pt x="6" y="0"/>
                </a:lnTo>
                <a:lnTo>
                  <a:pt x="6" y="0"/>
                </a:lnTo>
                <a:lnTo>
                  <a:pt x="6" y="0"/>
                </a:lnTo>
                <a:lnTo>
                  <a:pt x="6" y="0"/>
                </a:lnTo>
                <a:lnTo>
                  <a:pt x="6" y="0"/>
                </a:lnTo>
                <a:lnTo>
                  <a:pt x="6" y="0"/>
                </a:lnTo>
                <a:lnTo>
                  <a:pt x="6" y="0"/>
                </a:lnTo>
                <a:lnTo>
                  <a:pt x="6" y="0"/>
                </a:lnTo>
                <a:lnTo>
                  <a:pt x="6" y="0"/>
                </a:lnTo>
                <a:lnTo>
                  <a:pt x="6" y="0"/>
                </a:lnTo>
                <a:lnTo>
                  <a:pt x="6" y="0"/>
                </a:lnTo>
                <a:lnTo>
                  <a:pt x="6" y="0"/>
                </a:lnTo>
                <a:lnTo>
                  <a:pt x="6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2" name=""/>
          <p:cNvSpPr/>
          <p:nvPr/>
        </p:nvSpPr>
        <p:spPr>
          <a:xfrm>
            <a:off x="5870520" y="4227480"/>
            <a:ext cx="7920" cy="9720"/>
          </a:xfrm>
          <a:custGeom>
            <a:avLst/>
            <a:gdLst/>
            <a:ahLst/>
            <a:rect l="l" t="t" r="r" b="b"/>
            <a:pathLst>
              <a:path w="5" h="6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5" y="6"/>
                </a:lnTo>
                <a:lnTo>
                  <a:pt x="5" y="6"/>
                </a:lnTo>
                <a:lnTo>
                  <a:pt x="5" y="6"/>
                </a:lnTo>
                <a:lnTo>
                  <a:pt x="5" y="6"/>
                </a:lnTo>
                <a:lnTo>
                  <a:pt x="5" y="6"/>
                </a:lnTo>
                <a:lnTo>
                  <a:pt x="5" y="6"/>
                </a:lnTo>
                <a:lnTo>
                  <a:pt x="5" y="6"/>
                </a:lnTo>
                <a:lnTo>
                  <a:pt x="5" y="6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3" name=""/>
          <p:cNvSpPr/>
          <p:nvPr/>
        </p:nvSpPr>
        <p:spPr>
          <a:xfrm>
            <a:off x="3421080" y="4305240"/>
            <a:ext cx="7920" cy="9720"/>
          </a:xfrm>
          <a:custGeom>
            <a:avLst/>
            <a:gdLst/>
            <a:ahLst/>
            <a:rect l="l" t="t" r="r" b="b"/>
            <a:pathLst>
              <a:path w="5" h="6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5" y="6"/>
                </a:lnTo>
                <a:lnTo>
                  <a:pt x="5" y="6"/>
                </a:lnTo>
                <a:lnTo>
                  <a:pt x="5" y="6"/>
                </a:lnTo>
                <a:lnTo>
                  <a:pt x="5" y="6"/>
                </a:lnTo>
                <a:lnTo>
                  <a:pt x="5" y="6"/>
                </a:lnTo>
                <a:lnTo>
                  <a:pt x="5" y="6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4" name=""/>
          <p:cNvSpPr/>
          <p:nvPr/>
        </p:nvSpPr>
        <p:spPr>
          <a:xfrm>
            <a:off x="5672160" y="3154320"/>
            <a:ext cx="7920" cy="9720"/>
          </a:xfrm>
          <a:custGeom>
            <a:avLst/>
            <a:gdLst/>
            <a:ahLst/>
            <a:rect l="l" t="t" r="r" b="b"/>
            <a:pathLst>
              <a:path w="5" h="6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5" y="6"/>
                </a:lnTo>
                <a:lnTo>
                  <a:pt x="5" y="6"/>
                </a:lnTo>
                <a:lnTo>
                  <a:pt x="5" y="6"/>
                </a:lnTo>
                <a:lnTo>
                  <a:pt x="5" y="6"/>
                </a:lnTo>
                <a:lnTo>
                  <a:pt x="5" y="6"/>
                </a:lnTo>
                <a:lnTo>
                  <a:pt x="5" y="6"/>
                </a:lnTo>
                <a:lnTo>
                  <a:pt x="5" y="6"/>
                </a:lnTo>
                <a:lnTo>
                  <a:pt x="5" y="6"/>
                </a:lnTo>
                <a:lnTo>
                  <a:pt x="5" y="6"/>
                </a:lnTo>
                <a:lnTo>
                  <a:pt x="5" y="6"/>
                </a:lnTo>
                <a:lnTo>
                  <a:pt x="5" y="6"/>
                </a:lnTo>
                <a:lnTo>
                  <a:pt x="5" y="6"/>
                </a:lnTo>
                <a:lnTo>
                  <a:pt x="5" y="6"/>
                </a:lnTo>
                <a:lnTo>
                  <a:pt x="5" y="6"/>
                </a:lnTo>
                <a:lnTo>
                  <a:pt x="5" y="6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5" name=""/>
          <p:cNvSpPr/>
          <p:nvPr/>
        </p:nvSpPr>
        <p:spPr>
          <a:xfrm>
            <a:off x="4363920" y="5430960"/>
            <a:ext cx="9720" cy="7920"/>
          </a:xfrm>
          <a:custGeom>
            <a:avLst/>
            <a:gdLst/>
            <a:ahLst/>
            <a:rect l="l" t="t" r="r" b="b"/>
            <a:pathLst>
              <a:path w="6" h="5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0"/>
                </a:lnTo>
                <a:lnTo>
                  <a:pt x="6" y="0"/>
                </a:lnTo>
                <a:lnTo>
                  <a:pt x="6" y="0"/>
                </a:lnTo>
                <a:lnTo>
                  <a:pt x="6" y="0"/>
                </a:lnTo>
                <a:lnTo>
                  <a:pt x="6" y="0"/>
                </a:lnTo>
                <a:lnTo>
                  <a:pt x="6" y="0"/>
                </a:lnTo>
                <a:lnTo>
                  <a:pt x="6" y="0"/>
                </a:lnTo>
                <a:lnTo>
                  <a:pt x="6" y="0"/>
                </a:lnTo>
                <a:lnTo>
                  <a:pt x="6" y="0"/>
                </a:lnTo>
                <a:lnTo>
                  <a:pt x="6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6" name=""/>
          <p:cNvSpPr/>
          <p:nvPr/>
        </p:nvSpPr>
        <p:spPr>
          <a:xfrm>
            <a:off x="1758960" y="3733920"/>
            <a:ext cx="9360" cy="9360"/>
          </a:xfrm>
          <a:custGeom>
            <a:avLst/>
            <a:gdLst/>
            <a:ahLst/>
            <a:rect l="l" t="t" r="r" b="b"/>
            <a:pathLst>
              <a:path w="6" h="6">
                <a:moveTo>
                  <a:pt x="6" y="0"/>
                </a:moveTo>
                <a:lnTo>
                  <a:pt x="6" y="0"/>
                </a:lnTo>
                <a:lnTo>
                  <a:pt x="6" y="0"/>
                </a:lnTo>
                <a:lnTo>
                  <a:pt x="6" y="0"/>
                </a:lnTo>
                <a:lnTo>
                  <a:pt x="6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6" y="6"/>
                </a:lnTo>
                <a:lnTo>
                  <a:pt x="6" y="6"/>
                </a:lnTo>
                <a:lnTo>
                  <a:pt x="6" y="6"/>
                </a:lnTo>
                <a:lnTo>
                  <a:pt x="6" y="6"/>
                </a:lnTo>
                <a:lnTo>
                  <a:pt x="6" y="6"/>
                </a:lnTo>
                <a:lnTo>
                  <a:pt x="6" y="6"/>
                </a:lnTo>
                <a:lnTo>
                  <a:pt x="6" y="6"/>
                </a:lnTo>
                <a:lnTo>
                  <a:pt x="6" y="6"/>
                </a:lnTo>
                <a:lnTo>
                  <a:pt x="6" y="6"/>
                </a:lnTo>
                <a:lnTo>
                  <a:pt x="6" y="6"/>
                </a:lnTo>
                <a:lnTo>
                  <a:pt x="6" y="6"/>
                </a:lnTo>
                <a:lnTo>
                  <a:pt x="6" y="6"/>
                </a:lnTo>
                <a:lnTo>
                  <a:pt x="6" y="6"/>
                </a:lnTo>
                <a:lnTo>
                  <a:pt x="6" y="6"/>
                </a:lnTo>
                <a:lnTo>
                  <a:pt x="6" y="6"/>
                </a:lnTo>
                <a:lnTo>
                  <a:pt x="6" y="6"/>
                </a:lnTo>
                <a:lnTo>
                  <a:pt x="6" y="6"/>
                </a:lnTo>
                <a:lnTo>
                  <a:pt x="6" y="6"/>
                </a:lnTo>
                <a:lnTo>
                  <a:pt x="6" y="6"/>
                </a:lnTo>
                <a:lnTo>
                  <a:pt x="6" y="6"/>
                </a:lnTo>
                <a:lnTo>
                  <a:pt x="6" y="6"/>
                </a:lnTo>
                <a:lnTo>
                  <a:pt x="6" y="6"/>
                </a:lnTo>
                <a:lnTo>
                  <a:pt x="6" y="6"/>
                </a:lnTo>
                <a:lnTo>
                  <a:pt x="6" y="6"/>
                </a:lnTo>
                <a:lnTo>
                  <a:pt x="6" y="6"/>
                </a:lnTo>
                <a:lnTo>
                  <a:pt x="6" y="6"/>
                </a:lnTo>
                <a:lnTo>
                  <a:pt x="6" y="6"/>
                </a:lnTo>
                <a:lnTo>
                  <a:pt x="6" y="6"/>
                </a:lnTo>
                <a:lnTo>
                  <a:pt x="6" y="6"/>
                </a:lnTo>
                <a:lnTo>
                  <a:pt x="6" y="6"/>
                </a:lnTo>
                <a:lnTo>
                  <a:pt x="6" y="0"/>
                </a:lnTo>
                <a:lnTo>
                  <a:pt x="6" y="0"/>
                </a:lnTo>
                <a:lnTo>
                  <a:pt x="6" y="0"/>
                </a:lnTo>
                <a:lnTo>
                  <a:pt x="6" y="0"/>
                </a:lnTo>
                <a:lnTo>
                  <a:pt x="6" y="0"/>
                </a:lnTo>
                <a:lnTo>
                  <a:pt x="6" y="0"/>
                </a:lnTo>
                <a:lnTo>
                  <a:pt x="6" y="0"/>
                </a:lnTo>
                <a:lnTo>
                  <a:pt x="6" y="0"/>
                </a:lnTo>
                <a:lnTo>
                  <a:pt x="6" y="0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7" name=""/>
          <p:cNvSpPr/>
          <p:nvPr/>
        </p:nvSpPr>
        <p:spPr>
          <a:xfrm>
            <a:off x="2400480" y="3751200"/>
            <a:ext cx="7920" cy="9720"/>
          </a:xfrm>
          <a:custGeom>
            <a:avLst/>
            <a:gdLst/>
            <a:ahLst/>
            <a:rect l="l" t="t" r="r" b="b"/>
            <a:pathLst>
              <a:path w="5" h="6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5" y="6"/>
                </a:lnTo>
                <a:lnTo>
                  <a:pt x="5" y="6"/>
                </a:lnTo>
                <a:lnTo>
                  <a:pt x="5" y="6"/>
                </a:lnTo>
                <a:lnTo>
                  <a:pt x="5" y="6"/>
                </a:lnTo>
                <a:lnTo>
                  <a:pt x="5" y="6"/>
                </a:lnTo>
                <a:lnTo>
                  <a:pt x="5" y="6"/>
                </a:lnTo>
                <a:lnTo>
                  <a:pt x="5" y="6"/>
                </a:lnTo>
                <a:lnTo>
                  <a:pt x="5" y="6"/>
                </a:lnTo>
                <a:lnTo>
                  <a:pt x="5" y="6"/>
                </a:lnTo>
                <a:lnTo>
                  <a:pt x="5" y="6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8" name=""/>
          <p:cNvSpPr/>
          <p:nvPr/>
        </p:nvSpPr>
        <p:spPr>
          <a:xfrm>
            <a:off x="2408400" y="3665520"/>
            <a:ext cx="9360" cy="7920"/>
          </a:xfrm>
          <a:custGeom>
            <a:avLst/>
            <a:gdLst/>
            <a:ahLst/>
            <a:rect l="l" t="t" r="r" b="b"/>
            <a:pathLst>
              <a:path w="6" h="5">
                <a:moveTo>
                  <a:pt x="6" y="0"/>
                </a:moveTo>
                <a:lnTo>
                  <a:pt x="6" y="0"/>
                </a:lnTo>
                <a:lnTo>
                  <a:pt x="6" y="0"/>
                </a:lnTo>
                <a:lnTo>
                  <a:pt x="6" y="0"/>
                </a:lnTo>
                <a:lnTo>
                  <a:pt x="6" y="0"/>
                </a:lnTo>
                <a:lnTo>
                  <a:pt x="0" y="0"/>
                </a:lnTo>
                <a:lnTo>
                  <a:pt x="0" y="0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0"/>
                </a:lnTo>
                <a:lnTo>
                  <a:pt x="6" y="0"/>
                </a:lnTo>
                <a:lnTo>
                  <a:pt x="6" y="0"/>
                </a:lnTo>
                <a:lnTo>
                  <a:pt x="6" y="0"/>
                </a:lnTo>
                <a:lnTo>
                  <a:pt x="6" y="0"/>
                </a:lnTo>
                <a:lnTo>
                  <a:pt x="6" y="0"/>
                </a:lnTo>
                <a:lnTo>
                  <a:pt x="6" y="0"/>
                </a:lnTo>
                <a:lnTo>
                  <a:pt x="6" y="0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9" name=""/>
          <p:cNvSpPr/>
          <p:nvPr/>
        </p:nvSpPr>
        <p:spPr>
          <a:xfrm>
            <a:off x="3049560" y="3821040"/>
            <a:ext cx="7920" cy="7920"/>
          </a:xfrm>
          <a:custGeom>
            <a:avLst/>
            <a:gdLst/>
            <a:ahLst/>
            <a:rect l="l" t="t" r="r" b="b"/>
            <a:pathLst>
              <a:path w="5" h="5">
                <a:moveTo>
                  <a:pt x="5" y="0"/>
                </a:move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5" y="5"/>
                </a:lnTo>
                <a:lnTo>
                  <a:pt x="5" y="5"/>
                </a:lnTo>
                <a:lnTo>
                  <a:pt x="5" y="5"/>
                </a:lnTo>
                <a:lnTo>
                  <a:pt x="5" y="5"/>
                </a:lnTo>
                <a:lnTo>
                  <a:pt x="5" y="5"/>
                </a:lnTo>
                <a:lnTo>
                  <a:pt x="5" y="5"/>
                </a:lnTo>
                <a:lnTo>
                  <a:pt x="5" y="5"/>
                </a:lnTo>
                <a:lnTo>
                  <a:pt x="5" y="5"/>
                </a:lnTo>
                <a:lnTo>
                  <a:pt x="5" y="5"/>
                </a:lnTo>
                <a:lnTo>
                  <a:pt x="5" y="5"/>
                </a:lnTo>
                <a:lnTo>
                  <a:pt x="5" y="5"/>
                </a:lnTo>
                <a:lnTo>
                  <a:pt x="5" y="5"/>
                </a:lnTo>
                <a:lnTo>
                  <a:pt x="5" y="5"/>
                </a:lnTo>
                <a:lnTo>
                  <a:pt x="5" y="5"/>
                </a:lnTo>
                <a:lnTo>
                  <a:pt x="5" y="5"/>
                </a:lnTo>
                <a:lnTo>
                  <a:pt x="5" y="5"/>
                </a:lnTo>
                <a:lnTo>
                  <a:pt x="5" y="5"/>
                </a:lnTo>
                <a:lnTo>
                  <a:pt x="5" y="5"/>
                </a:lnTo>
                <a:lnTo>
                  <a:pt x="5" y="5"/>
                </a:lnTo>
                <a:lnTo>
                  <a:pt x="5" y="5"/>
                </a:lnTo>
                <a:lnTo>
                  <a:pt x="5" y="5"/>
                </a:lnTo>
                <a:lnTo>
                  <a:pt x="5" y="5"/>
                </a:lnTo>
                <a:lnTo>
                  <a:pt x="5" y="5"/>
                </a:lnTo>
                <a:lnTo>
                  <a:pt x="5" y="5"/>
                </a:lnTo>
                <a:lnTo>
                  <a:pt x="5" y="5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0" name=""/>
          <p:cNvSpPr/>
          <p:nvPr/>
        </p:nvSpPr>
        <p:spPr>
          <a:xfrm>
            <a:off x="2382840" y="3397320"/>
            <a:ext cx="7920" cy="7920"/>
          </a:xfrm>
          <a:custGeom>
            <a:avLst/>
            <a:gdLst/>
            <a:ahLst/>
            <a:rect l="l" t="t" r="r" b="b"/>
            <a:pathLst>
              <a:path w="5" h="5">
                <a:moveTo>
                  <a:pt x="5" y="0"/>
                </a:move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5" y="5"/>
                </a:lnTo>
                <a:lnTo>
                  <a:pt x="5" y="5"/>
                </a:lnTo>
                <a:lnTo>
                  <a:pt x="5" y="5"/>
                </a:lnTo>
                <a:lnTo>
                  <a:pt x="5" y="5"/>
                </a:lnTo>
                <a:lnTo>
                  <a:pt x="5" y="5"/>
                </a:lnTo>
                <a:lnTo>
                  <a:pt x="5" y="5"/>
                </a:lnTo>
                <a:lnTo>
                  <a:pt x="5" y="5"/>
                </a:lnTo>
                <a:lnTo>
                  <a:pt x="5" y="5"/>
                </a:lnTo>
                <a:lnTo>
                  <a:pt x="5" y="5"/>
                </a:lnTo>
                <a:lnTo>
                  <a:pt x="5" y="5"/>
                </a:lnTo>
                <a:lnTo>
                  <a:pt x="5" y="5"/>
                </a:lnTo>
                <a:lnTo>
                  <a:pt x="5" y="5"/>
                </a:lnTo>
                <a:lnTo>
                  <a:pt x="5" y="5"/>
                </a:lnTo>
                <a:lnTo>
                  <a:pt x="5" y="5"/>
                </a:lnTo>
                <a:lnTo>
                  <a:pt x="5" y="5"/>
                </a:lnTo>
                <a:lnTo>
                  <a:pt x="5" y="5"/>
                </a:lnTo>
                <a:lnTo>
                  <a:pt x="5" y="5"/>
                </a:lnTo>
                <a:lnTo>
                  <a:pt x="5" y="5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1" name=""/>
          <p:cNvSpPr/>
          <p:nvPr/>
        </p:nvSpPr>
        <p:spPr>
          <a:xfrm>
            <a:off x="3429000" y="1000080"/>
            <a:ext cx="3376440" cy="5346720"/>
          </a:xfrm>
          <a:custGeom>
            <a:avLst/>
            <a:gdLst/>
            <a:ahLst/>
            <a:rect l="l" t="t" r="r" b="b"/>
            <a:pathLst>
              <a:path w="2127" h="3368">
                <a:moveTo>
                  <a:pt x="398" y="3347"/>
                </a:moveTo>
                <a:lnTo>
                  <a:pt x="398" y="3336"/>
                </a:lnTo>
                <a:lnTo>
                  <a:pt x="393" y="3325"/>
                </a:lnTo>
                <a:lnTo>
                  <a:pt x="393" y="3314"/>
                </a:lnTo>
                <a:lnTo>
                  <a:pt x="393" y="3303"/>
                </a:lnTo>
                <a:lnTo>
                  <a:pt x="388" y="3298"/>
                </a:lnTo>
                <a:lnTo>
                  <a:pt x="388" y="3287"/>
                </a:lnTo>
                <a:lnTo>
                  <a:pt x="388" y="3276"/>
                </a:lnTo>
                <a:lnTo>
                  <a:pt x="388" y="3265"/>
                </a:lnTo>
                <a:lnTo>
                  <a:pt x="393" y="3254"/>
                </a:lnTo>
                <a:lnTo>
                  <a:pt x="393" y="3243"/>
                </a:lnTo>
                <a:lnTo>
                  <a:pt x="398" y="3238"/>
                </a:lnTo>
                <a:lnTo>
                  <a:pt x="404" y="3227"/>
                </a:lnTo>
                <a:lnTo>
                  <a:pt x="409" y="3221"/>
                </a:lnTo>
                <a:lnTo>
                  <a:pt x="415" y="3216"/>
                </a:lnTo>
                <a:lnTo>
                  <a:pt x="420" y="3205"/>
                </a:lnTo>
                <a:lnTo>
                  <a:pt x="426" y="3199"/>
                </a:lnTo>
                <a:lnTo>
                  <a:pt x="426" y="3189"/>
                </a:lnTo>
                <a:lnTo>
                  <a:pt x="420" y="3183"/>
                </a:lnTo>
                <a:lnTo>
                  <a:pt x="415" y="3178"/>
                </a:lnTo>
                <a:lnTo>
                  <a:pt x="404" y="3178"/>
                </a:lnTo>
                <a:lnTo>
                  <a:pt x="398" y="3178"/>
                </a:lnTo>
                <a:lnTo>
                  <a:pt x="388" y="3183"/>
                </a:lnTo>
                <a:lnTo>
                  <a:pt x="382" y="3183"/>
                </a:lnTo>
                <a:lnTo>
                  <a:pt x="371" y="3183"/>
                </a:lnTo>
                <a:lnTo>
                  <a:pt x="366" y="3183"/>
                </a:lnTo>
                <a:lnTo>
                  <a:pt x="360" y="3178"/>
                </a:lnTo>
                <a:lnTo>
                  <a:pt x="349" y="3172"/>
                </a:lnTo>
                <a:lnTo>
                  <a:pt x="344" y="3167"/>
                </a:lnTo>
                <a:lnTo>
                  <a:pt x="344" y="3156"/>
                </a:lnTo>
                <a:lnTo>
                  <a:pt x="338" y="3150"/>
                </a:lnTo>
                <a:lnTo>
                  <a:pt x="333" y="3145"/>
                </a:lnTo>
                <a:lnTo>
                  <a:pt x="328" y="3134"/>
                </a:lnTo>
                <a:lnTo>
                  <a:pt x="322" y="3129"/>
                </a:lnTo>
                <a:lnTo>
                  <a:pt x="317" y="3118"/>
                </a:lnTo>
                <a:lnTo>
                  <a:pt x="311" y="3112"/>
                </a:lnTo>
                <a:lnTo>
                  <a:pt x="306" y="3101"/>
                </a:lnTo>
                <a:lnTo>
                  <a:pt x="300" y="3096"/>
                </a:lnTo>
                <a:lnTo>
                  <a:pt x="300" y="3090"/>
                </a:lnTo>
                <a:lnTo>
                  <a:pt x="295" y="3080"/>
                </a:lnTo>
                <a:lnTo>
                  <a:pt x="289" y="3074"/>
                </a:lnTo>
                <a:lnTo>
                  <a:pt x="284" y="3063"/>
                </a:lnTo>
                <a:lnTo>
                  <a:pt x="279" y="3058"/>
                </a:lnTo>
                <a:lnTo>
                  <a:pt x="273" y="3047"/>
                </a:lnTo>
                <a:lnTo>
                  <a:pt x="268" y="3041"/>
                </a:lnTo>
                <a:lnTo>
                  <a:pt x="262" y="3036"/>
                </a:lnTo>
                <a:lnTo>
                  <a:pt x="251" y="3036"/>
                </a:lnTo>
                <a:lnTo>
                  <a:pt x="246" y="3031"/>
                </a:lnTo>
                <a:lnTo>
                  <a:pt x="240" y="3025"/>
                </a:lnTo>
                <a:lnTo>
                  <a:pt x="235" y="3025"/>
                </a:lnTo>
                <a:lnTo>
                  <a:pt x="224" y="3020"/>
                </a:lnTo>
                <a:lnTo>
                  <a:pt x="219" y="3014"/>
                </a:lnTo>
                <a:lnTo>
                  <a:pt x="213" y="3009"/>
                </a:lnTo>
                <a:lnTo>
                  <a:pt x="202" y="3003"/>
                </a:lnTo>
                <a:lnTo>
                  <a:pt x="197" y="3003"/>
                </a:lnTo>
                <a:lnTo>
                  <a:pt x="197" y="3014"/>
                </a:lnTo>
                <a:lnTo>
                  <a:pt x="191" y="3025"/>
                </a:lnTo>
                <a:lnTo>
                  <a:pt x="186" y="3031"/>
                </a:lnTo>
                <a:lnTo>
                  <a:pt x="186" y="3041"/>
                </a:lnTo>
                <a:lnTo>
                  <a:pt x="180" y="3052"/>
                </a:lnTo>
                <a:lnTo>
                  <a:pt x="180" y="3063"/>
                </a:lnTo>
                <a:lnTo>
                  <a:pt x="175" y="3074"/>
                </a:lnTo>
                <a:lnTo>
                  <a:pt x="175" y="3080"/>
                </a:lnTo>
                <a:lnTo>
                  <a:pt x="169" y="3090"/>
                </a:lnTo>
                <a:lnTo>
                  <a:pt x="164" y="3096"/>
                </a:lnTo>
                <a:lnTo>
                  <a:pt x="159" y="3101"/>
                </a:lnTo>
                <a:lnTo>
                  <a:pt x="153" y="3107"/>
                </a:lnTo>
                <a:lnTo>
                  <a:pt x="142" y="3112"/>
                </a:lnTo>
                <a:lnTo>
                  <a:pt x="137" y="3112"/>
                </a:lnTo>
                <a:lnTo>
                  <a:pt x="131" y="3118"/>
                </a:lnTo>
                <a:lnTo>
                  <a:pt x="120" y="3123"/>
                </a:lnTo>
                <a:lnTo>
                  <a:pt x="115" y="3123"/>
                </a:lnTo>
                <a:lnTo>
                  <a:pt x="126" y="3129"/>
                </a:lnTo>
                <a:lnTo>
                  <a:pt x="137" y="3129"/>
                </a:lnTo>
                <a:lnTo>
                  <a:pt x="142" y="3140"/>
                </a:lnTo>
                <a:lnTo>
                  <a:pt x="148" y="3145"/>
                </a:lnTo>
                <a:lnTo>
                  <a:pt x="148" y="3156"/>
                </a:lnTo>
                <a:lnTo>
                  <a:pt x="148" y="3161"/>
                </a:lnTo>
                <a:lnTo>
                  <a:pt x="148" y="3172"/>
                </a:lnTo>
                <a:lnTo>
                  <a:pt x="142" y="3183"/>
                </a:lnTo>
                <a:lnTo>
                  <a:pt x="142" y="3194"/>
                </a:lnTo>
                <a:lnTo>
                  <a:pt x="137" y="3199"/>
                </a:lnTo>
                <a:lnTo>
                  <a:pt x="131" y="3210"/>
                </a:lnTo>
                <a:lnTo>
                  <a:pt x="126" y="3221"/>
                </a:lnTo>
                <a:lnTo>
                  <a:pt x="126" y="3227"/>
                </a:lnTo>
                <a:lnTo>
                  <a:pt x="126" y="3238"/>
                </a:lnTo>
                <a:lnTo>
                  <a:pt x="120" y="3249"/>
                </a:lnTo>
                <a:lnTo>
                  <a:pt x="115" y="3254"/>
                </a:lnTo>
                <a:lnTo>
                  <a:pt x="109" y="3265"/>
                </a:lnTo>
                <a:lnTo>
                  <a:pt x="109" y="3276"/>
                </a:lnTo>
                <a:lnTo>
                  <a:pt x="115" y="3287"/>
                </a:lnTo>
                <a:lnTo>
                  <a:pt x="120" y="3292"/>
                </a:lnTo>
                <a:lnTo>
                  <a:pt x="126" y="3292"/>
                </a:lnTo>
                <a:lnTo>
                  <a:pt x="131" y="3287"/>
                </a:lnTo>
                <a:lnTo>
                  <a:pt x="137" y="3281"/>
                </a:lnTo>
                <a:lnTo>
                  <a:pt x="142" y="3270"/>
                </a:lnTo>
                <a:lnTo>
                  <a:pt x="148" y="3265"/>
                </a:lnTo>
                <a:lnTo>
                  <a:pt x="153" y="3254"/>
                </a:lnTo>
                <a:lnTo>
                  <a:pt x="159" y="3249"/>
                </a:lnTo>
                <a:lnTo>
                  <a:pt x="164" y="3243"/>
                </a:lnTo>
                <a:lnTo>
                  <a:pt x="169" y="3232"/>
                </a:lnTo>
                <a:lnTo>
                  <a:pt x="175" y="3227"/>
                </a:lnTo>
                <a:lnTo>
                  <a:pt x="180" y="3216"/>
                </a:lnTo>
                <a:lnTo>
                  <a:pt x="180" y="3210"/>
                </a:lnTo>
                <a:lnTo>
                  <a:pt x="186" y="3199"/>
                </a:lnTo>
                <a:lnTo>
                  <a:pt x="191" y="3194"/>
                </a:lnTo>
                <a:lnTo>
                  <a:pt x="202" y="3189"/>
                </a:lnTo>
                <a:lnTo>
                  <a:pt x="208" y="3194"/>
                </a:lnTo>
                <a:lnTo>
                  <a:pt x="213" y="3199"/>
                </a:lnTo>
                <a:lnTo>
                  <a:pt x="219" y="3205"/>
                </a:lnTo>
                <a:lnTo>
                  <a:pt x="224" y="3210"/>
                </a:lnTo>
                <a:lnTo>
                  <a:pt x="235" y="3216"/>
                </a:lnTo>
                <a:lnTo>
                  <a:pt x="240" y="3216"/>
                </a:lnTo>
                <a:lnTo>
                  <a:pt x="246" y="3221"/>
                </a:lnTo>
                <a:lnTo>
                  <a:pt x="251" y="3227"/>
                </a:lnTo>
                <a:lnTo>
                  <a:pt x="257" y="3232"/>
                </a:lnTo>
                <a:lnTo>
                  <a:pt x="262" y="3238"/>
                </a:lnTo>
                <a:lnTo>
                  <a:pt x="273" y="3243"/>
                </a:lnTo>
                <a:lnTo>
                  <a:pt x="279" y="3249"/>
                </a:lnTo>
                <a:lnTo>
                  <a:pt x="284" y="3254"/>
                </a:lnTo>
                <a:lnTo>
                  <a:pt x="289" y="3259"/>
                </a:lnTo>
                <a:lnTo>
                  <a:pt x="295" y="3265"/>
                </a:lnTo>
                <a:lnTo>
                  <a:pt x="306" y="3270"/>
                </a:lnTo>
                <a:lnTo>
                  <a:pt x="311" y="3276"/>
                </a:lnTo>
                <a:lnTo>
                  <a:pt x="317" y="3281"/>
                </a:lnTo>
                <a:lnTo>
                  <a:pt x="322" y="3287"/>
                </a:lnTo>
                <a:lnTo>
                  <a:pt x="328" y="3298"/>
                </a:lnTo>
                <a:lnTo>
                  <a:pt x="333" y="3303"/>
                </a:lnTo>
                <a:lnTo>
                  <a:pt x="338" y="3314"/>
                </a:lnTo>
                <a:lnTo>
                  <a:pt x="338" y="3325"/>
                </a:lnTo>
                <a:lnTo>
                  <a:pt x="338" y="3330"/>
                </a:lnTo>
                <a:lnTo>
                  <a:pt x="344" y="3341"/>
                </a:lnTo>
                <a:lnTo>
                  <a:pt x="344" y="3352"/>
                </a:lnTo>
                <a:lnTo>
                  <a:pt x="355" y="3358"/>
                </a:lnTo>
                <a:lnTo>
                  <a:pt x="360" y="3363"/>
                </a:lnTo>
                <a:lnTo>
                  <a:pt x="366" y="3368"/>
                </a:lnTo>
                <a:lnTo>
                  <a:pt x="377" y="3368"/>
                </a:lnTo>
                <a:lnTo>
                  <a:pt x="382" y="3368"/>
                </a:lnTo>
                <a:lnTo>
                  <a:pt x="388" y="3363"/>
                </a:lnTo>
                <a:lnTo>
                  <a:pt x="393" y="3358"/>
                </a:lnTo>
                <a:lnTo>
                  <a:pt x="398" y="3347"/>
                </a:lnTo>
                <a:close/>
                <a:moveTo>
                  <a:pt x="1211" y="3085"/>
                </a:moveTo>
                <a:lnTo>
                  <a:pt x="1211" y="3074"/>
                </a:lnTo>
                <a:lnTo>
                  <a:pt x="1211" y="3063"/>
                </a:lnTo>
                <a:lnTo>
                  <a:pt x="1211" y="3052"/>
                </a:lnTo>
                <a:lnTo>
                  <a:pt x="1216" y="3047"/>
                </a:lnTo>
                <a:lnTo>
                  <a:pt x="1222" y="3041"/>
                </a:lnTo>
                <a:lnTo>
                  <a:pt x="1233" y="3036"/>
                </a:lnTo>
                <a:lnTo>
                  <a:pt x="1238" y="3031"/>
                </a:lnTo>
                <a:lnTo>
                  <a:pt x="1244" y="3020"/>
                </a:lnTo>
                <a:lnTo>
                  <a:pt x="1249" y="3014"/>
                </a:lnTo>
                <a:lnTo>
                  <a:pt x="1249" y="3003"/>
                </a:lnTo>
                <a:lnTo>
                  <a:pt x="1254" y="2992"/>
                </a:lnTo>
                <a:lnTo>
                  <a:pt x="1260" y="2987"/>
                </a:lnTo>
                <a:lnTo>
                  <a:pt x="1265" y="2976"/>
                </a:lnTo>
                <a:lnTo>
                  <a:pt x="1265" y="2965"/>
                </a:lnTo>
                <a:lnTo>
                  <a:pt x="1271" y="2960"/>
                </a:lnTo>
                <a:lnTo>
                  <a:pt x="1276" y="2949"/>
                </a:lnTo>
                <a:lnTo>
                  <a:pt x="1282" y="2943"/>
                </a:lnTo>
                <a:lnTo>
                  <a:pt x="1287" y="2932"/>
                </a:lnTo>
                <a:lnTo>
                  <a:pt x="1287" y="2922"/>
                </a:lnTo>
                <a:lnTo>
                  <a:pt x="1293" y="2916"/>
                </a:lnTo>
                <a:lnTo>
                  <a:pt x="1298" y="2905"/>
                </a:lnTo>
                <a:lnTo>
                  <a:pt x="1304" y="2894"/>
                </a:lnTo>
                <a:lnTo>
                  <a:pt x="1309" y="2889"/>
                </a:lnTo>
                <a:lnTo>
                  <a:pt x="1309" y="2878"/>
                </a:lnTo>
                <a:lnTo>
                  <a:pt x="1314" y="2867"/>
                </a:lnTo>
                <a:lnTo>
                  <a:pt x="1320" y="2862"/>
                </a:lnTo>
                <a:lnTo>
                  <a:pt x="1325" y="2851"/>
                </a:lnTo>
                <a:lnTo>
                  <a:pt x="1331" y="2845"/>
                </a:lnTo>
                <a:lnTo>
                  <a:pt x="1331" y="2834"/>
                </a:lnTo>
                <a:lnTo>
                  <a:pt x="1336" y="2823"/>
                </a:lnTo>
                <a:lnTo>
                  <a:pt x="1342" y="2818"/>
                </a:lnTo>
                <a:lnTo>
                  <a:pt x="1347" y="2807"/>
                </a:lnTo>
                <a:lnTo>
                  <a:pt x="1353" y="2796"/>
                </a:lnTo>
                <a:lnTo>
                  <a:pt x="1353" y="2791"/>
                </a:lnTo>
                <a:lnTo>
                  <a:pt x="1358" y="2780"/>
                </a:lnTo>
                <a:lnTo>
                  <a:pt x="1364" y="2774"/>
                </a:lnTo>
                <a:lnTo>
                  <a:pt x="1369" y="2763"/>
                </a:lnTo>
                <a:lnTo>
                  <a:pt x="1369" y="2753"/>
                </a:lnTo>
                <a:lnTo>
                  <a:pt x="1374" y="2742"/>
                </a:lnTo>
                <a:lnTo>
                  <a:pt x="1380" y="2736"/>
                </a:lnTo>
                <a:lnTo>
                  <a:pt x="1385" y="2725"/>
                </a:lnTo>
                <a:lnTo>
                  <a:pt x="1391" y="2720"/>
                </a:lnTo>
                <a:lnTo>
                  <a:pt x="1391" y="2709"/>
                </a:lnTo>
                <a:lnTo>
                  <a:pt x="1396" y="2698"/>
                </a:lnTo>
                <a:lnTo>
                  <a:pt x="1402" y="2693"/>
                </a:lnTo>
                <a:lnTo>
                  <a:pt x="1407" y="2682"/>
                </a:lnTo>
                <a:lnTo>
                  <a:pt x="1413" y="2671"/>
                </a:lnTo>
                <a:lnTo>
                  <a:pt x="1413" y="2665"/>
                </a:lnTo>
                <a:lnTo>
                  <a:pt x="1418" y="2654"/>
                </a:lnTo>
                <a:lnTo>
                  <a:pt x="1424" y="2644"/>
                </a:lnTo>
                <a:lnTo>
                  <a:pt x="1429" y="2638"/>
                </a:lnTo>
                <a:lnTo>
                  <a:pt x="1434" y="2627"/>
                </a:lnTo>
                <a:lnTo>
                  <a:pt x="1434" y="2622"/>
                </a:lnTo>
                <a:lnTo>
                  <a:pt x="1440" y="2611"/>
                </a:lnTo>
                <a:lnTo>
                  <a:pt x="1445" y="2600"/>
                </a:lnTo>
                <a:lnTo>
                  <a:pt x="1451" y="2594"/>
                </a:lnTo>
                <a:lnTo>
                  <a:pt x="1451" y="2584"/>
                </a:lnTo>
                <a:lnTo>
                  <a:pt x="1456" y="2573"/>
                </a:lnTo>
                <a:lnTo>
                  <a:pt x="1462" y="2567"/>
                </a:lnTo>
                <a:lnTo>
                  <a:pt x="1467" y="2556"/>
                </a:lnTo>
                <a:lnTo>
                  <a:pt x="1473" y="2551"/>
                </a:lnTo>
                <a:lnTo>
                  <a:pt x="1478" y="2540"/>
                </a:lnTo>
                <a:lnTo>
                  <a:pt x="1478" y="2529"/>
                </a:lnTo>
                <a:lnTo>
                  <a:pt x="1483" y="2524"/>
                </a:lnTo>
                <a:lnTo>
                  <a:pt x="1489" y="2513"/>
                </a:lnTo>
                <a:lnTo>
                  <a:pt x="1494" y="2502"/>
                </a:lnTo>
                <a:lnTo>
                  <a:pt x="1494" y="2496"/>
                </a:lnTo>
                <a:lnTo>
                  <a:pt x="1500" y="2485"/>
                </a:lnTo>
                <a:lnTo>
                  <a:pt x="1505" y="2480"/>
                </a:lnTo>
                <a:lnTo>
                  <a:pt x="1511" y="2469"/>
                </a:lnTo>
                <a:lnTo>
                  <a:pt x="1516" y="2458"/>
                </a:lnTo>
                <a:lnTo>
                  <a:pt x="1516" y="2453"/>
                </a:lnTo>
                <a:lnTo>
                  <a:pt x="1522" y="2442"/>
                </a:lnTo>
                <a:lnTo>
                  <a:pt x="1527" y="2431"/>
                </a:lnTo>
                <a:lnTo>
                  <a:pt x="1533" y="2426"/>
                </a:lnTo>
                <a:lnTo>
                  <a:pt x="1533" y="2415"/>
                </a:lnTo>
                <a:lnTo>
                  <a:pt x="1538" y="2404"/>
                </a:lnTo>
                <a:lnTo>
                  <a:pt x="1543" y="2398"/>
                </a:lnTo>
                <a:lnTo>
                  <a:pt x="1549" y="2387"/>
                </a:lnTo>
                <a:lnTo>
                  <a:pt x="1554" y="2382"/>
                </a:lnTo>
                <a:lnTo>
                  <a:pt x="1560" y="2371"/>
                </a:lnTo>
                <a:lnTo>
                  <a:pt x="1565" y="2360"/>
                </a:lnTo>
                <a:lnTo>
                  <a:pt x="1565" y="2349"/>
                </a:lnTo>
                <a:lnTo>
                  <a:pt x="1565" y="2338"/>
                </a:lnTo>
                <a:lnTo>
                  <a:pt x="1560" y="2333"/>
                </a:lnTo>
                <a:lnTo>
                  <a:pt x="1554" y="2322"/>
                </a:lnTo>
                <a:lnTo>
                  <a:pt x="1543" y="2322"/>
                </a:lnTo>
                <a:lnTo>
                  <a:pt x="1538" y="2317"/>
                </a:lnTo>
                <a:lnTo>
                  <a:pt x="1533" y="2322"/>
                </a:lnTo>
                <a:lnTo>
                  <a:pt x="1522" y="2327"/>
                </a:lnTo>
                <a:lnTo>
                  <a:pt x="1516" y="2333"/>
                </a:lnTo>
                <a:lnTo>
                  <a:pt x="1511" y="2338"/>
                </a:lnTo>
                <a:lnTo>
                  <a:pt x="1505" y="2349"/>
                </a:lnTo>
                <a:lnTo>
                  <a:pt x="1500" y="2355"/>
                </a:lnTo>
                <a:lnTo>
                  <a:pt x="1494" y="2360"/>
                </a:lnTo>
                <a:lnTo>
                  <a:pt x="1489" y="2366"/>
                </a:lnTo>
                <a:lnTo>
                  <a:pt x="1478" y="2371"/>
                </a:lnTo>
                <a:lnTo>
                  <a:pt x="1473" y="2376"/>
                </a:lnTo>
                <a:lnTo>
                  <a:pt x="1467" y="2387"/>
                </a:lnTo>
                <a:lnTo>
                  <a:pt x="1462" y="2393"/>
                </a:lnTo>
                <a:lnTo>
                  <a:pt x="1456" y="2398"/>
                </a:lnTo>
                <a:lnTo>
                  <a:pt x="1451" y="2404"/>
                </a:lnTo>
                <a:lnTo>
                  <a:pt x="1445" y="2409"/>
                </a:lnTo>
                <a:lnTo>
                  <a:pt x="1434" y="2415"/>
                </a:lnTo>
                <a:lnTo>
                  <a:pt x="1429" y="2426"/>
                </a:lnTo>
                <a:lnTo>
                  <a:pt x="1424" y="2431"/>
                </a:lnTo>
                <a:lnTo>
                  <a:pt x="1418" y="2436"/>
                </a:lnTo>
                <a:lnTo>
                  <a:pt x="1413" y="2442"/>
                </a:lnTo>
                <a:lnTo>
                  <a:pt x="1407" y="2447"/>
                </a:lnTo>
                <a:lnTo>
                  <a:pt x="1402" y="2453"/>
                </a:lnTo>
                <a:lnTo>
                  <a:pt x="1391" y="2458"/>
                </a:lnTo>
                <a:lnTo>
                  <a:pt x="1385" y="2469"/>
                </a:lnTo>
                <a:lnTo>
                  <a:pt x="1380" y="2475"/>
                </a:lnTo>
                <a:lnTo>
                  <a:pt x="1374" y="2480"/>
                </a:lnTo>
                <a:lnTo>
                  <a:pt x="1369" y="2485"/>
                </a:lnTo>
                <a:lnTo>
                  <a:pt x="1364" y="2491"/>
                </a:lnTo>
                <a:lnTo>
                  <a:pt x="1353" y="2496"/>
                </a:lnTo>
                <a:lnTo>
                  <a:pt x="1347" y="2507"/>
                </a:lnTo>
                <a:lnTo>
                  <a:pt x="1347" y="2513"/>
                </a:lnTo>
                <a:lnTo>
                  <a:pt x="1347" y="2524"/>
                </a:lnTo>
                <a:lnTo>
                  <a:pt x="1347" y="2535"/>
                </a:lnTo>
                <a:lnTo>
                  <a:pt x="1347" y="2545"/>
                </a:lnTo>
                <a:lnTo>
                  <a:pt x="1347" y="2556"/>
                </a:lnTo>
                <a:lnTo>
                  <a:pt x="1347" y="2567"/>
                </a:lnTo>
                <a:lnTo>
                  <a:pt x="1342" y="2578"/>
                </a:lnTo>
                <a:lnTo>
                  <a:pt x="1342" y="2589"/>
                </a:lnTo>
                <a:lnTo>
                  <a:pt x="1342" y="2600"/>
                </a:lnTo>
                <a:lnTo>
                  <a:pt x="1342" y="2611"/>
                </a:lnTo>
                <a:lnTo>
                  <a:pt x="1336" y="2622"/>
                </a:lnTo>
                <a:lnTo>
                  <a:pt x="1336" y="2633"/>
                </a:lnTo>
                <a:lnTo>
                  <a:pt x="1331" y="2638"/>
                </a:lnTo>
                <a:lnTo>
                  <a:pt x="1320" y="2649"/>
                </a:lnTo>
                <a:lnTo>
                  <a:pt x="1314" y="2654"/>
                </a:lnTo>
                <a:lnTo>
                  <a:pt x="1309" y="2660"/>
                </a:lnTo>
                <a:lnTo>
                  <a:pt x="1309" y="2671"/>
                </a:lnTo>
                <a:lnTo>
                  <a:pt x="1309" y="2682"/>
                </a:lnTo>
                <a:lnTo>
                  <a:pt x="1309" y="2693"/>
                </a:lnTo>
                <a:lnTo>
                  <a:pt x="1309" y="2703"/>
                </a:lnTo>
                <a:lnTo>
                  <a:pt x="1309" y="2714"/>
                </a:lnTo>
                <a:lnTo>
                  <a:pt x="1309" y="2725"/>
                </a:lnTo>
                <a:lnTo>
                  <a:pt x="1309" y="2736"/>
                </a:lnTo>
                <a:lnTo>
                  <a:pt x="1304" y="2747"/>
                </a:lnTo>
                <a:lnTo>
                  <a:pt x="1304" y="2758"/>
                </a:lnTo>
                <a:lnTo>
                  <a:pt x="1298" y="2763"/>
                </a:lnTo>
                <a:lnTo>
                  <a:pt x="1293" y="2769"/>
                </a:lnTo>
                <a:lnTo>
                  <a:pt x="1287" y="2774"/>
                </a:lnTo>
                <a:lnTo>
                  <a:pt x="1276" y="2780"/>
                </a:lnTo>
                <a:lnTo>
                  <a:pt x="1271" y="2785"/>
                </a:lnTo>
                <a:lnTo>
                  <a:pt x="1260" y="2785"/>
                </a:lnTo>
                <a:lnTo>
                  <a:pt x="1254" y="2791"/>
                </a:lnTo>
                <a:lnTo>
                  <a:pt x="1249" y="2791"/>
                </a:lnTo>
                <a:lnTo>
                  <a:pt x="1238" y="2785"/>
                </a:lnTo>
                <a:lnTo>
                  <a:pt x="1233" y="2785"/>
                </a:lnTo>
                <a:lnTo>
                  <a:pt x="1222" y="2785"/>
                </a:lnTo>
                <a:lnTo>
                  <a:pt x="1216" y="2785"/>
                </a:lnTo>
                <a:lnTo>
                  <a:pt x="1211" y="2791"/>
                </a:lnTo>
                <a:lnTo>
                  <a:pt x="1205" y="2796"/>
                </a:lnTo>
                <a:lnTo>
                  <a:pt x="1205" y="2807"/>
                </a:lnTo>
                <a:lnTo>
                  <a:pt x="1205" y="2823"/>
                </a:lnTo>
                <a:lnTo>
                  <a:pt x="1205" y="2834"/>
                </a:lnTo>
                <a:lnTo>
                  <a:pt x="1205" y="2845"/>
                </a:lnTo>
                <a:lnTo>
                  <a:pt x="1211" y="2856"/>
                </a:lnTo>
                <a:lnTo>
                  <a:pt x="1211" y="2867"/>
                </a:lnTo>
                <a:lnTo>
                  <a:pt x="1211" y="2878"/>
                </a:lnTo>
                <a:lnTo>
                  <a:pt x="1211" y="2889"/>
                </a:lnTo>
                <a:lnTo>
                  <a:pt x="1205" y="2900"/>
                </a:lnTo>
                <a:lnTo>
                  <a:pt x="1205" y="2911"/>
                </a:lnTo>
                <a:lnTo>
                  <a:pt x="1205" y="2922"/>
                </a:lnTo>
                <a:lnTo>
                  <a:pt x="1205" y="2932"/>
                </a:lnTo>
                <a:lnTo>
                  <a:pt x="1205" y="2943"/>
                </a:lnTo>
                <a:lnTo>
                  <a:pt x="1205" y="2949"/>
                </a:lnTo>
                <a:lnTo>
                  <a:pt x="1200" y="2960"/>
                </a:lnTo>
                <a:lnTo>
                  <a:pt x="1200" y="2971"/>
                </a:lnTo>
                <a:lnTo>
                  <a:pt x="1200" y="2981"/>
                </a:lnTo>
                <a:lnTo>
                  <a:pt x="1200" y="2992"/>
                </a:lnTo>
                <a:lnTo>
                  <a:pt x="1195" y="3003"/>
                </a:lnTo>
                <a:lnTo>
                  <a:pt x="1195" y="3014"/>
                </a:lnTo>
                <a:lnTo>
                  <a:pt x="1195" y="3025"/>
                </a:lnTo>
                <a:lnTo>
                  <a:pt x="1195" y="3036"/>
                </a:lnTo>
                <a:lnTo>
                  <a:pt x="1195" y="3047"/>
                </a:lnTo>
                <a:lnTo>
                  <a:pt x="1189" y="3058"/>
                </a:lnTo>
                <a:lnTo>
                  <a:pt x="1189" y="3069"/>
                </a:lnTo>
                <a:lnTo>
                  <a:pt x="1189" y="3080"/>
                </a:lnTo>
                <a:lnTo>
                  <a:pt x="1189" y="3090"/>
                </a:lnTo>
                <a:lnTo>
                  <a:pt x="1195" y="3101"/>
                </a:lnTo>
                <a:lnTo>
                  <a:pt x="1200" y="3107"/>
                </a:lnTo>
                <a:lnTo>
                  <a:pt x="1205" y="3101"/>
                </a:lnTo>
                <a:lnTo>
                  <a:pt x="1211" y="3085"/>
                </a:lnTo>
                <a:close/>
                <a:moveTo>
                  <a:pt x="437" y="2415"/>
                </a:moveTo>
                <a:lnTo>
                  <a:pt x="431" y="2404"/>
                </a:lnTo>
                <a:lnTo>
                  <a:pt x="426" y="2393"/>
                </a:lnTo>
                <a:lnTo>
                  <a:pt x="420" y="2387"/>
                </a:lnTo>
                <a:lnTo>
                  <a:pt x="415" y="2382"/>
                </a:lnTo>
                <a:lnTo>
                  <a:pt x="404" y="2371"/>
                </a:lnTo>
                <a:lnTo>
                  <a:pt x="398" y="2360"/>
                </a:lnTo>
                <a:lnTo>
                  <a:pt x="393" y="2349"/>
                </a:lnTo>
                <a:lnTo>
                  <a:pt x="388" y="2344"/>
                </a:lnTo>
                <a:lnTo>
                  <a:pt x="393" y="2338"/>
                </a:lnTo>
                <a:lnTo>
                  <a:pt x="404" y="2338"/>
                </a:lnTo>
                <a:lnTo>
                  <a:pt x="415" y="2338"/>
                </a:lnTo>
                <a:lnTo>
                  <a:pt x="426" y="2333"/>
                </a:lnTo>
                <a:lnTo>
                  <a:pt x="431" y="2333"/>
                </a:lnTo>
                <a:lnTo>
                  <a:pt x="442" y="2327"/>
                </a:lnTo>
                <a:lnTo>
                  <a:pt x="448" y="2317"/>
                </a:lnTo>
                <a:lnTo>
                  <a:pt x="453" y="2311"/>
                </a:lnTo>
                <a:lnTo>
                  <a:pt x="458" y="2306"/>
                </a:lnTo>
                <a:lnTo>
                  <a:pt x="469" y="2295"/>
                </a:lnTo>
                <a:lnTo>
                  <a:pt x="475" y="2289"/>
                </a:lnTo>
                <a:lnTo>
                  <a:pt x="480" y="2284"/>
                </a:lnTo>
                <a:lnTo>
                  <a:pt x="491" y="2278"/>
                </a:lnTo>
                <a:lnTo>
                  <a:pt x="497" y="2273"/>
                </a:lnTo>
                <a:lnTo>
                  <a:pt x="508" y="2267"/>
                </a:lnTo>
                <a:lnTo>
                  <a:pt x="513" y="2267"/>
                </a:lnTo>
                <a:lnTo>
                  <a:pt x="524" y="2262"/>
                </a:lnTo>
                <a:lnTo>
                  <a:pt x="529" y="2257"/>
                </a:lnTo>
                <a:lnTo>
                  <a:pt x="540" y="2251"/>
                </a:lnTo>
                <a:lnTo>
                  <a:pt x="546" y="2251"/>
                </a:lnTo>
                <a:lnTo>
                  <a:pt x="557" y="2246"/>
                </a:lnTo>
                <a:lnTo>
                  <a:pt x="562" y="2240"/>
                </a:lnTo>
                <a:lnTo>
                  <a:pt x="573" y="2240"/>
                </a:lnTo>
                <a:lnTo>
                  <a:pt x="584" y="2240"/>
                </a:lnTo>
                <a:lnTo>
                  <a:pt x="589" y="2240"/>
                </a:lnTo>
                <a:lnTo>
                  <a:pt x="595" y="2229"/>
                </a:lnTo>
                <a:lnTo>
                  <a:pt x="600" y="2218"/>
                </a:lnTo>
                <a:lnTo>
                  <a:pt x="606" y="2208"/>
                </a:lnTo>
                <a:lnTo>
                  <a:pt x="611" y="2208"/>
                </a:lnTo>
                <a:lnTo>
                  <a:pt x="617" y="2213"/>
                </a:lnTo>
                <a:lnTo>
                  <a:pt x="622" y="2229"/>
                </a:lnTo>
                <a:lnTo>
                  <a:pt x="627" y="2235"/>
                </a:lnTo>
                <a:lnTo>
                  <a:pt x="638" y="2240"/>
                </a:lnTo>
                <a:lnTo>
                  <a:pt x="644" y="2246"/>
                </a:lnTo>
                <a:lnTo>
                  <a:pt x="649" y="2251"/>
                </a:lnTo>
                <a:lnTo>
                  <a:pt x="655" y="2262"/>
                </a:lnTo>
                <a:lnTo>
                  <a:pt x="660" y="2273"/>
                </a:lnTo>
                <a:lnTo>
                  <a:pt x="666" y="2284"/>
                </a:lnTo>
                <a:lnTo>
                  <a:pt x="671" y="2295"/>
                </a:lnTo>
                <a:lnTo>
                  <a:pt x="671" y="2306"/>
                </a:lnTo>
                <a:lnTo>
                  <a:pt x="677" y="2317"/>
                </a:lnTo>
                <a:lnTo>
                  <a:pt x="682" y="2322"/>
                </a:lnTo>
                <a:lnTo>
                  <a:pt x="693" y="2327"/>
                </a:lnTo>
                <a:lnTo>
                  <a:pt x="704" y="2333"/>
                </a:lnTo>
                <a:lnTo>
                  <a:pt x="709" y="2338"/>
                </a:lnTo>
                <a:lnTo>
                  <a:pt x="715" y="2344"/>
                </a:lnTo>
                <a:lnTo>
                  <a:pt x="715" y="2355"/>
                </a:lnTo>
                <a:lnTo>
                  <a:pt x="715" y="2371"/>
                </a:lnTo>
                <a:lnTo>
                  <a:pt x="715" y="2382"/>
                </a:lnTo>
                <a:lnTo>
                  <a:pt x="726" y="2387"/>
                </a:lnTo>
                <a:lnTo>
                  <a:pt x="731" y="2387"/>
                </a:lnTo>
                <a:lnTo>
                  <a:pt x="742" y="2387"/>
                </a:lnTo>
                <a:lnTo>
                  <a:pt x="753" y="2382"/>
                </a:lnTo>
                <a:lnTo>
                  <a:pt x="753" y="2376"/>
                </a:lnTo>
                <a:lnTo>
                  <a:pt x="758" y="2360"/>
                </a:lnTo>
                <a:lnTo>
                  <a:pt x="758" y="2349"/>
                </a:lnTo>
                <a:lnTo>
                  <a:pt x="758" y="2338"/>
                </a:lnTo>
                <a:lnTo>
                  <a:pt x="764" y="2333"/>
                </a:lnTo>
                <a:lnTo>
                  <a:pt x="775" y="2322"/>
                </a:lnTo>
                <a:lnTo>
                  <a:pt x="780" y="2317"/>
                </a:lnTo>
                <a:lnTo>
                  <a:pt x="786" y="2311"/>
                </a:lnTo>
                <a:lnTo>
                  <a:pt x="791" y="2300"/>
                </a:lnTo>
                <a:lnTo>
                  <a:pt x="802" y="2295"/>
                </a:lnTo>
                <a:lnTo>
                  <a:pt x="807" y="2289"/>
                </a:lnTo>
                <a:lnTo>
                  <a:pt x="818" y="2289"/>
                </a:lnTo>
                <a:lnTo>
                  <a:pt x="829" y="2289"/>
                </a:lnTo>
                <a:lnTo>
                  <a:pt x="835" y="2289"/>
                </a:lnTo>
                <a:lnTo>
                  <a:pt x="846" y="2289"/>
                </a:lnTo>
                <a:lnTo>
                  <a:pt x="856" y="2289"/>
                </a:lnTo>
                <a:lnTo>
                  <a:pt x="862" y="2284"/>
                </a:lnTo>
                <a:lnTo>
                  <a:pt x="867" y="2278"/>
                </a:lnTo>
                <a:lnTo>
                  <a:pt x="878" y="2267"/>
                </a:lnTo>
                <a:lnTo>
                  <a:pt x="884" y="2262"/>
                </a:lnTo>
                <a:lnTo>
                  <a:pt x="889" y="2251"/>
                </a:lnTo>
                <a:lnTo>
                  <a:pt x="895" y="2240"/>
                </a:lnTo>
                <a:lnTo>
                  <a:pt x="900" y="2235"/>
                </a:lnTo>
                <a:lnTo>
                  <a:pt x="906" y="2224"/>
                </a:lnTo>
                <a:lnTo>
                  <a:pt x="911" y="2213"/>
                </a:lnTo>
                <a:lnTo>
                  <a:pt x="911" y="2202"/>
                </a:lnTo>
                <a:lnTo>
                  <a:pt x="916" y="2191"/>
                </a:lnTo>
                <a:lnTo>
                  <a:pt x="922" y="2180"/>
                </a:lnTo>
                <a:lnTo>
                  <a:pt x="922" y="2169"/>
                </a:lnTo>
                <a:lnTo>
                  <a:pt x="927" y="2158"/>
                </a:lnTo>
                <a:lnTo>
                  <a:pt x="933" y="2148"/>
                </a:lnTo>
                <a:lnTo>
                  <a:pt x="933" y="2137"/>
                </a:lnTo>
                <a:lnTo>
                  <a:pt x="933" y="2126"/>
                </a:lnTo>
                <a:lnTo>
                  <a:pt x="933" y="2109"/>
                </a:lnTo>
                <a:lnTo>
                  <a:pt x="933" y="2099"/>
                </a:lnTo>
                <a:lnTo>
                  <a:pt x="933" y="2088"/>
                </a:lnTo>
                <a:lnTo>
                  <a:pt x="938" y="2077"/>
                </a:lnTo>
                <a:lnTo>
                  <a:pt x="944" y="2071"/>
                </a:lnTo>
                <a:lnTo>
                  <a:pt x="949" y="2060"/>
                </a:lnTo>
                <a:lnTo>
                  <a:pt x="949" y="2049"/>
                </a:lnTo>
                <a:lnTo>
                  <a:pt x="949" y="2033"/>
                </a:lnTo>
                <a:lnTo>
                  <a:pt x="944" y="2022"/>
                </a:lnTo>
                <a:lnTo>
                  <a:pt x="938" y="2017"/>
                </a:lnTo>
                <a:lnTo>
                  <a:pt x="927" y="2017"/>
                </a:lnTo>
                <a:lnTo>
                  <a:pt x="916" y="2017"/>
                </a:lnTo>
                <a:lnTo>
                  <a:pt x="911" y="2022"/>
                </a:lnTo>
                <a:lnTo>
                  <a:pt x="900" y="2028"/>
                </a:lnTo>
                <a:lnTo>
                  <a:pt x="889" y="2028"/>
                </a:lnTo>
                <a:lnTo>
                  <a:pt x="884" y="2028"/>
                </a:lnTo>
                <a:lnTo>
                  <a:pt x="873" y="2033"/>
                </a:lnTo>
                <a:lnTo>
                  <a:pt x="867" y="2033"/>
                </a:lnTo>
                <a:lnTo>
                  <a:pt x="856" y="2033"/>
                </a:lnTo>
                <a:lnTo>
                  <a:pt x="851" y="2028"/>
                </a:lnTo>
                <a:lnTo>
                  <a:pt x="840" y="2028"/>
                </a:lnTo>
                <a:lnTo>
                  <a:pt x="829" y="2028"/>
                </a:lnTo>
                <a:lnTo>
                  <a:pt x="824" y="2033"/>
                </a:lnTo>
                <a:lnTo>
                  <a:pt x="813" y="2039"/>
                </a:lnTo>
                <a:lnTo>
                  <a:pt x="807" y="2039"/>
                </a:lnTo>
                <a:lnTo>
                  <a:pt x="796" y="2044"/>
                </a:lnTo>
                <a:lnTo>
                  <a:pt x="791" y="2044"/>
                </a:lnTo>
                <a:lnTo>
                  <a:pt x="780" y="2039"/>
                </a:lnTo>
                <a:lnTo>
                  <a:pt x="775" y="2033"/>
                </a:lnTo>
                <a:lnTo>
                  <a:pt x="769" y="2022"/>
                </a:lnTo>
                <a:lnTo>
                  <a:pt x="764" y="2011"/>
                </a:lnTo>
                <a:lnTo>
                  <a:pt x="758" y="2000"/>
                </a:lnTo>
                <a:lnTo>
                  <a:pt x="758" y="1990"/>
                </a:lnTo>
                <a:lnTo>
                  <a:pt x="753" y="1979"/>
                </a:lnTo>
                <a:lnTo>
                  <a:pt x="742" y="1979"/>
                </a:lnTo>
                <a:lnTo>
                  <a:pt x="731" y="1973"/>
                </a:lnTo>
                <a:lnTo>
                  <a:pt x="726" y="1973"/>
                </a:lnTo>
                <a:lnTo>
                  <a:pt x="720" y="1968"/>
                </a:lnTo>
                <a:lnTo>
                  <a:pt x="726" y="1957"/>
                </a:lnTo>
                <a:lnTo>
                  <a:pt x="731" y="1946"/>
                </a:lnTo>
                <a:lnTo>
                  <a:pt x="731" y="1930"/>
                </a:lnTo>
                <a:lnTo>
                  <a:pt x="731" y="1919"/>
                </a:lnTo>
                <a:lnTo>
                  <a:pt x="726" y="1908"/>
                </a:lnTo>
                <a:lnTo>
                  <a:pt x="720" y="1897"/>
                </a:lnTo>
                <a:lnTo>
                  <a:pt x="715" y="1891"/>
                </a:lnTo>
                <a:lnTo>
                  <a:pt x="704" y="1891"/>
                </a:lnTo>
                <a:lnTo>
                  <a:pt x="693" y="1891"/>
                </a:lnTo>
                <a:lnTo>
                  <a:pt x="687" y="1897"/>
                </a:lnTo>
                <a:lnTo>
                  <a:pt x="677" y="1897"/>
                </a:lnTo>
                <a:lnTo>
                  <a:pt x="666" y="1897"/>
                </a:lnTo>
                <a:lnTo>
                  <a:pt x="660" y="1902"/>
                </a:lnTo>
                <a:lnTo>
                  <a:pt x="649" y="1897"/>
                </a:lnTo>
                <a:lnTo>
                  <a:pt x="644" y="1897"/>
                </a:lnTo>
                <a:lnTo>
                  <a:pt x="638" y="1886"/>
                </a:lnTo>
                <a:lnTo>
                  <a:pt x="627" y="1881"/>
                </a:lnTo>
                <a:lnTo>
                  <a:pt x="622" y="1870"/>
                </a:lnTo>
                <a:lnTo>
                  <a:pt x="617" y="1864"/>
                </a:lnTo>
                <a:lnTo>
                  <a:pt x="606" y="1859"/>
                </a:lnTo>
                <a:lnTo>
                  <a:pt x="600" y="1859"/>
                </a:lnTo>
                <a:lnTo>
                  <a:pt x="589" y="1864"/>
                </a:lnTo>
                <a:lnTo>
                  <a:pt x="584" y="1875"/>
                </a:lnTo>
                <a:lnTo>
                  <a:pt x="578" y="1881"/>
                </a:lnTo>
                <a:lnTo>
                  <a:pt x="573" y="1897"/>
                </a:lnTo>
                <a:lnTo>
                  <a:pt x="573" y="1908"/>
                </a:lnTo>
                <a:lnTo>
                  <a:pt x="578" y="1919"/>
                </a:lnTo>
                <a:lnTo>
                  <a:pt x="578" y="1930"/>
                </a:lnTo>
                <a:lnTo>
                  <a:pt x="584" y="1940"/>
                </a:lnTo>
                <a:lnTo>
                  <a:pt x="589" y="1946"/>
                </a:lnTo>
                <a:lnTo>
                  <a:pt x="595" y="1957"/>
                </a:lnTo>
                <a:lnTo>
                  <a:pt x="606" y="1968"/>
                </a:lnTo>
                <a:lnTo>
                  <a:pt x="611" y="1973"/>
                </a:lnTo>
                <a:lnTo>
                  <a:pt x="617" y="1979"/>
                </a:lnTo>
                <a:lnTo>
                  <a:pt x="622" y="1995"/>
                </a:lnTo>
                <a:lnTo>
                  <a:pt x="622" y="2006"/>
                </a:lnTo>
                <a:lnTo>
                  <a:pt x="617" y="2017"/>
                </a:lnTo>
                <a:lnTo>
                  <a:pt x="617" y="2028"/>
                </a:lnTo>
                <a:lnTo>
                  <a:pt x="611" y="2039"/>
                </a:lnTo>
                <a:lnTo>
                  <a:pt x="606" y="2049"/>
                </a:lnTo>
                <a:lnTo>
                  <a:pt x="606" y="2060"/>
                </a:lnTo>
                <a:lnTo>
                  <a:pt x="606" y="2071"/>
                </a:lnTo>
                <a:lnTo>
                  <a:pt x="606" y="2088"/>
                </a:lnTo>
                <a:lnTo>
                  <a:pt x="606" y="2099"/>
                </a:lnTo>
                <a:lnTo>
                  <a:pt x="606" y="2109"/>
                </a:lnTo>
                <a:lnTo>
                  <a:pt x="606" y="2120"/>
                </a:lnTo>
                <a:lnTo>
                  <a:pt x="611" y="2137"/>
                </a:lnTo>
                <a:lnTo>
                  <a:pt x="611" y="2148"/>
                </a:lnTo>
                <a:lnTo>
                  <a:pt x="606" y="2158"/>
                </a:lnTo>
                <a:lnTo>
                  <a:pt x="600" y="2158"/>
                </a:lnTo>
                <a:lnTo>
                  <a:pt x="589" y="2158"/>
                </a:lnTo>
                <a:lnTo>
                  <a:pt x="584" y="2153"/>
                </a:lnTo>
                <a:lnTo>
                  <a:pt x="573" y="2142"/>
                </a:lnTo>
                <a:lnTo>
                  <a:pt x="567" y="2137"/>
                </a:lnTo>
                <a:lnTo>
                  <a:pt x="562" y="2126"/>
                </a:lnTo>
                <a:lnTo>
                  <a:pt x="557" y="2120"/>
                </a:lnTo>
                <a:lnTo>
                  <a:pt x="546" y="2115"/>
                </a:lnTo>
                <a:lnTo>
                  <a:pt x="540" y="2115"/>
                </a:lnTo>
                <a:lnTo>
                  <a:pt x="529" y="2109"/>
                </a:lnTo>
                <a:lnTo>
                  <a:pt x="524" y="2099"/>
                </a:lnTo>
                <a:lnTo>
                  <a:pt x="518" y="2088"/>
                </a:lnTo>
                <a:lnTo>
                  <a:pt x="518" y="2077"/>
                </a:lnTo>
                <a:lnTo>
                  <a:pt x="513" y="2066"/>
                </a:lnTo>
                <a:lnTo>
                  <a:pt x="508" y="2055"/>
                </a:lnTo>
                <a:lnTo>
                  <a:pt x="508" y="2044"/>
                </a:lnTo>
                <a:lnTo>
                  <a:pt x="502" y="2033"/>
                </a:lnTo>
                <a:lnTo>
                  <a:pt x="497" y="2022"/>
                </a:lnTo>
                <a:lnTo>
                  <a:pt x="491" y="2017"/>
                </a:lnTo>
                <a:lnTo>
                  <a:pt x="486" y="2006"/>
                </a:lnTo>
                <a:lnTo>
                  <a:pt x="475" y="1995"/>
                </a:lnTo>
                <a:lnTo>
                  <a:pt x="469" y="1984"/>
                </a:lnTo>
                <a:lnTo>
                  <a:pt x="464" y="1973"/>
                </a:lnTo>
                <a:lnTo>
                  <a:pt x="464" y="1968"/>
                </a:lnTo>
                <a:lnTo>
                  <a:pt x="469" y="1962"/>
                </a:lnTo>
                <a:lnTo>
                  <a:pt x="480" y="1957"/>
                </a:lnTo>
                <a:lnTo>
                  <a:pt x="491" y="1957"/>
                </a:lnTo>
                <a:lnTo>
                  <a:pt x="502" y="1951"/>
                </a:lnTo>
                <a:lnTo>
                  <a:pt x="508" y="1946"/>
                </a:lnTo>
                <a:lnTo>
                  <a:pt x="513" y="1940"/>
                </a:lnTo>
                <a:lnTo>
                  <a:pt x="524" y="1935"/>
                </a:lnTo>
                <a:lnTo>
                  <a:pt x="529" y="1930"/>
                </a:lnTo>
                <a:lnTo>
                  <a:pt x="540" y="1924"/>
                </a:lnTo>
                <a:lnTo>
                  <a:pt x="551" y="1919"/>
                </a:lnTo>
                <a:lnTo>
                  <a:pt x="557" y="1913"/>
                </a:lnTo>
                <a:lnTo>
                  <a:pt x="567" y="1908"/>
                </a:lnTo>
                <a:lnTo>
                  <a:pt x="567" y="1897"/>
                </a:lnTo>
                <a:lnTo>
                  <a:pt x="567" y="1886"/>
                </a:lnTo>
                <a:lnTo>
                  <a:pt x="562" y="1875"/>
                </a:lnTo>
                <a:lnTo>
                  <a:pt x="562" y="1864"/>
                </a:lnTo>
                <a:lnTo>
                  <a:pt x="557" y="1853"/>
                </a:lnTo>
                <a:lnTo>
                  <a:pt x="551" y="1842"/>
                </a:lnTo>
                <a:lnTo>
                  <a:pt x="551" y="1831"/>
                </a:lnTo>
                <a:lnTo>
                  <a:pt x="551" y="1815"/>
                </a:lnTo>
                <a:lnTo>
                  <a:pt x="551" y="1804"/>
                </a:lnTo>
                <a:lnTo>
                  <a:pt x="551" y="1793"/>
                </a:lnTo>
                <a:lnTo>
                  <a:pt x="557" y="1782"/>
                </a:lnTo>
                <a:lnTo>
                  <a:pt x="567" y="1777"/>
                </a:lnTo>
                <a:lnTo>
                  <a:pt x="573" y="1777"/>
                </a:lnTo>
                <a:lnTo>
                  <a:pt x="584" y="1788"/>
                </a:lnTo>
                <a:lnTo>
                  <a:pt x="589" y="1793"/>
                </a:lnTo>
                <a:lnTo>
                  <a:pt x="595" y="1799"/>
                </a:lnTo>
                <a:lnTo>
                  <a:pt x="606" y="1804"/>
                </a:lnTo>
                <a:lnTo>
                  <a:pt x="611" y="1810"/>
                </a:lnTo>
                <a:lnTo>
                  <a:pt x="622" y="1815"/>
                </a:lnTo>
                <a:lnTo>
                  <a:pt x="627" y="1821"/>
                </a:lnTo>
                <a:lnTo>
                  <a:pt x="638" y="1821"/>
                </a:lnTo>
                <a:lnTo>
                  <a:pt x="644" y="1821"/>
                </a:lnTo>
                <a:lnTo>
                  <a:pt x="655" y="1821"/>
                </a:lnTo>
                <a:lnTo>
                  <a:pt x="666" y="1815"/>
                </a:lnTo>
                <a:lnTo>
                  <a:pt x="671" y="1810"/>
                </a:lnTo>
                <a:lnTo>
                  <a:pt x="677" y="1799"/>
                </a:lnTo>
                <a:lnTo>
                  <a:pt x="682" y="1788"/>
                </a:lnTo>
                <a:lnTo>
                  <a:pt x="682" y="1771"/>
                </a:lnTo>
                <a:lnTo>
                  <a:pt x="682" y="1761"/>
                </a:lnTo>
                <a:lnTo>
                  <a:pt x="682" y="1750"/>
                </a:lnTo>
                <a:lnTo>
                  <a:pt x="687" y="1744"/>
                </a:lnTo>
                <a:lnTo>
                  <a:pt x="693" y="1739"/>
                </a:lnTo>
                <a:lnTo>
                  <a:pt x="704" y="1739"/>
                </a:lnTo>
                <a:lnTo>
                  <a:pt x="715" y="1733"/>
                </a:lnTo>
                <a:lnTo>
                  <a:pt x="720" y="1728"/>
                </a:lnTo>
                <a:lnTo>
                  <a:pt x="726" y="1722"/>
                </a:lnTo>
                <a:lnTo>
                  <a:pt x="731" y="1712"/>
                </a:lnTo>
                <a:lnTo>
                  <a:pt x="737" y="1706"/>
                </a:lnTo>
                <a:lnTo>
                  <a:pt x="747" y="1701"/>
                </a:lnTo>
                <a:lnTo>
                  <a:pt x="753" y="1690"/>
                </a:lnTo>
                <a:lnTo>
                  <a:pt x="764" y="1684"/>
                </a:lnTo>
                <a:lnTo>
                  <a:pt x="769" y="1679"/>
                </a:lnTo>
                <a:lnTo>
                  <a:pt x="775" y="1673"/>
                </a:lnTo>
                <a:lnTo>
                  <a:pt x="780" y="1662"/>
                </a:lnTo>
                <a:lnTo>
                  <a:pt x="786" y="1657"/>
                </a:lnTo>
                <a:lnTo>
                  <a:pt x="796" y="1646"/>
                </a:lnTo>
                <a:lnTo>
                  <a:pt x="802" y="1641"/>
                </a:lnTo>
                <a:lnTo>
                  <a:pt x="807" y="1630"/>
                </a:lnTo>
                <a:lnTo>
                  <a:pt x="813" y="1624"/>
                </a:lnTo>
                <a:lnTo>
                  <a:pt x="824" y="1613"/>
                </a:lnTo>
                <a:lnTo>
                  <a:pt x="829" y="1608"/>
                </a:lnTo>
                <a:lnTo>
                  <a:pt x="829" y="1597"/>
                </a:lnTo>
                <a:lnTo>
                  <a:pt x="835" y="1592"/>
                </a:lnTo>
                <a:lnTo>
                  <a:pt x="846" y="1586"/>
                </a:lnTo>
                <a:lnTo>
                  <a:pt x="856" y="1586"/>
                </a:lnTo>
                <a:lnTo>
                  <a:pt x="862" y="1581"/>
                </a:lnTo>
                <a:lnTo>
                  <a:pt x="873" y="1570"/>
                </a:lnTo>
                <a:lnTo>
                  <a:pt x="873" y="1559"/>
                </a:lnTo>
                <a:lnTo>
                  <a:pt x="862" y="1559"/>
                </a:lnTo>
                <a:lnTo>
                  <a:pt x="856" y="1553"/>
                </a:lnTo>
                <a:lnTo>
                  <a:pt x="846" y="1553"/>
                </a:lnTo>
                <a:lnTo>
                  <a:pt x="835" y="1553"/>
                </a:lnTo>
                <a:lnTo>
                  <a:pt x="829" y="1553"/>
                </a:lnTo>
                <a:lnTo>
                  <a:pt x="818" y="1553"/>
                </a:lnTo>
                <a:lnTo>
                  <a:pt x="813" y="1559"/>
                </a:lnTo>
                <a:lnTo>
                  <a:pt x="802" y="1559"/>
                </a:lnTo>
                <a:lnTo>
                  <a:pt x="796" y="1559"/>
                </a:lnTo>
                <a:lnTo>
                  <a:pt x="786" y="1559"/>
                </a:lnTo>
                <a:lnTo>
                  <a:pt x="775" y="1559"/>
                </a:lnTo>
                <a:lnTo>
                  <a:pt x="769" y="1559"/>
                </a:lnTo>
                <a:lnTo>
                  <a:pt x="758" y="1559"/>
                </a:lnTo>
                <a:lnTo>
                  <a:pt x="753" y="1564"/>
                </a:lnTo>
                <a:lnTo>
                  <a:pt x="742" y="1570"/>
                </a:lnTo>
                <a:lnTo>
                  <a:pt x="737" y="1575"/>
                </a:lnTo>
                <a:lnTo>
                  <a:pt x="731" y="1586"/>
                </a:lnTo>
                <a:lnTo>
                  <a:pt x="726" y="1603"/>
                </a:lnTo>
                <a:lnTo>
                  <a:pt x="726" y="1613"/>
                </a:lnTo>
                <a:lnTo>
                  <a:pt x="726" y="1624"/>
                </a:lnTo>
                <a:lnTo>
                  <a:pt x="720" y="1635"/>
                </a:lnTo>
                <a:lnTo>
                  <a:pt x="709" y="1635"/>
                </a:lnTo>
                <a:lnTo>
                  <a:pt x="704" y="1641"/>
                </a:lnTo>
                <a:lnTo>
                  <a:pt x="698" y="1652"/>
                </a:lnTo>
                <a:lnTo>
                  <a:pt x="693" y="1662"/>
                </a:lnTo>
                <a:lnTo>
                  <a:pt x="687" y="1673"/>
                </a:lnTo>
                <a:lnTo>
                  <a:pt x="677" y="1673"/>
                </a:lnTo>
                <a:lnTo>
                  <a:pt x="671" y="1679"/>
                </a:lnTo>
                <a:lnTo>
                  <a:pt x="660" y="1679"/>
                </a:lnTo>
                <a:lnTo>
                  <a:pt x="655" y="1684"/>
                </a:lnTo>
                <a:lnTo>
                  <a:pt x="644" y="1684"/>
                </a:lnTo>
                <a:lnTo>
                  <a:pt x="638" y="1684"/>
                </a:lnTo>
                <a:lnTo>
                  <a:pt x="627" y="1684"/>
                </a:lnTo>
                <a:lnTo>
                  <a:pt x="617" y="1684"/>
                </a:lnTo>
                <a:lnTo>
                  <a:pt x="611" y="1679"/>
                </a:lnTo>
                <a:lnTo>
                  <a:pt x="606" y="1673"/>
                </a:lnTo>
                <a:lnTo>
                  <a:pt x="600" y="1662"/>
                </a:lnTo>
                <a:lnTo>
                  <a:pt x="595" y="1652"/>
                </a:lnTo>
                <a:lnTo>
                  <a:pt x="589" y="1641"/>
                </a:lnTo>
                <a:lnTo>
                  <a:pt x="595" y="1630"/>
                </a:lnTo>
                <a:lnTo>
                  <a:pt x="600" y="1619"/>
                </a:lnTo>
                <a:lnTo>
                  <a:pt x="606" y="1608"/>
                </a:lnTo>
                <a:lnTo>
                  <a:pt x="606" y="1597"/>
                </a:lnTo>
                <a:lnTo>
                  <a:pt x="611" y="1586"/>
                </a:lnTo>
                <a:lnTo>
                  <a:pt x="611" y="1575"/>
                </a:lnTo>
                <a:lnTo>
                  <a:pt x="617" y="1564"/>
                </a:lnTo>
                <a:lnTo>
                  <a:pt x="622" y="1553"/>
                </a:lnTo>
                <a:lnTo>
                  <a:pt x="627" y="1543"/>
                </a:lnTo>
                <a:lnTo>
                  <a:pt x="633" y="1532"/>
                </a:lnTo>
                <a:lnTo>
                  <a:pt x="644" y="1526"/>
                </a:lnTo>
                <a:lnTo>
                  <a:pt x="649" y="1526"/>
                </a:lnTo>
                <a:lnTo>
                  <a:pt x="660" y="1521"/>
                </a:lnTo>
                <a:lnTo>
                  <a:pt x="666" y="1526"/>
                </a:lnTo>
                <a:lnTo>
                  <a:pt x="677" y="1526"/>
                </a:lnTo>
                <a:lnTo>
                  <a:pt x="682" y="1532"/>
                </a:lnTo>
                <a:lnTo>
                  <a:pt x="693" y="1537"/>
                </a:lnTo>
                <a:lnTo>
                  <a:pt x="698" y="1548"/>
                </a:lnTo>
                <a:lnTo>
                  <a:pt x="704" y="1553"/>
                </a:lnTo>
                <a:lnTo>
                  <a:pt x="709" y="1564"/>
                </a:lnTo>
                <a:lnTo>
                  <a:pt x="720" y="1570"/>
                </a:lnTo>
                <a:lnTo>
                  <a:pt x="726" y="1575"/>
                </a:lnTo>
                <a:lnTo>
                  <a:pt x="737" y="1575"/>
                </a:lnTo>
                <a:lnTo>
                  <a:pt x="742" y="1570"/>
                </a:lnTo>
                <a:lnTo>
                  <a:pt x="753" y="1564"/>
                </a:lnTo>
                <a:lnTo>
                  <a:pt x="758" y="1559"/>
                </a:lnTo>
                <a:lnTo>
                  <a:pt x="769" y="1553"/>
                </a:lnTo>
                <a:lnTo>
                  <a:pt x="775" y="1543"/>
                </a:lnTo>
                <a:lnTo>
                  <a:pt x="780" y="1537"/>
                </a:lnTo>
                <a:lnTo>
                  <a:pt x="786" y="1526"/>
                </a:lnTo>
                <a:lnTo>
                  <a:pt x="791" y="1515"/>
                </a:lnTo>
                <a:lnTo>
                  <a:pt x="796" y="1504"/>
                </a:lnTo>
                <a:lnTo>
                  <a:pt x="802" y="1494"/>
                </a:lnTo>
                <a:lnTo>
                  <a:pt x="802" y="1483"/>
                </a:lnTo>
                <a:lnTo>
                  <a:pt x="802" y="1472"/>
                </a:lnTo>
                <a:lnTo>
                  <a:pt x="796" y="1455"/>
                </a:lnTo>
                <a:lnTo>
                  <a:pt x="791" y="1450"/>
                </a:lnTo>
                <a:lnTo>
                  <a:pt x="786" y="1450"/>
                </a:lnTo>
                <a:lnTo>
                  <a:pt x="775" y="1450"/>
                </a:lnTo>
                <a:lnTo>
                  <a:pt x="769" y="1455"/>
                </a:lnTo>
                <a:lnTo>
                  <a:pt x="758" y="1461"/>
                </a:lnTo>
                <a:lnTo>
                  <a:pt x="747" y="1461"/>
                </a:lnTo>
                <a:lnTo>
                  <a:pt x="742" y="1466"/>
                </a:lnTo>
                <a:lnTo>
                  <a:pt x="731" y="1466"/>
                </a:lnTo>
                <a:lnTo>
                  <a:pt x="726" y="1466"/>
                </a:lnTo>
                <a:lnTo>
                  <a:pt x="715" y="1472"/>
                </a:lnTo>
                <a:lnTo>
                  <a:pt x="704" y="1477"/>
                </a:lnTo>
                <a:lnTo>
                  <a:pt x="698" y="1483"/>
                </a:lnTo>
                <a:lnTo>
                  <a:pt x="687" y="1488"/>
                </a:lnTo>
                <a:lnTo>
                  <a:pt x="682" y="1488"/>
                </a:lnTo>
                <a:lnTo>
                  <a:pt x="677" y="1477"/>
                </a:lnTo>
                <a:lnTo>
                  <a:pt x="677" y="1466"/>
                </a:lnTo>
                <a:lnTo>
                  <a:pt x="677" y="1455"/>
                </a:lnTo>
                <a:lnTo>
                  <a:pt x="677" y="1444"/>
                </a:lnTo>
                <a:lnTo>
                  <a:pt x="682" y="1434"/>
                </a:lnTo>
                <a:lnTo>
                  <a:pt x="693" y="1428"/>
                </a:lnTo>
                <a:lnTo>
                  <a:pt x="698" y="1417"/>
                </a:lnTo>
                <a:lnTo>
                  <a:pt x="704" y="1412"/>
                </a:lnTo>
                <a:lnTo>
                  <a:pt x="704" y="1401"/>
                </a:lnTo>
                <a:lnTo>
                  <a:pt x="698" y="1390"/>
                </a:lnTo>
                <a:lnTo>
                  <a:pt x="693" y="1379"/>
                </a:lnTo>
                <a:lnTo>
                  <a:pt x="687" y="1363"/>
                </a:lnTo>
                <a:lnTo>
                  <a:pt x="682" y="1357"/>
                </a:lnTo>
                <a:lnTo>
                  <a:pt x="677" y="1352"/>
                </a:lnTo>
                <a:lnTo>
                  <a:pt x="671" y="1346"/>
                </a:lnTo>
                <a:lnTo>
                  <a:pt x="660" y="1346"/>
                </a:lnTo>
                <a:lnTo>
                  <a:pt x="649" y="1352"/>
                </a:lnTo>
                <a:lnTo>
                  <a:pt x="638" y="1352"/>
                </a:lnTo>
                <a:lnTo>
                  <a:pt x="633" y="1363"/>
                </a:lnTo>
                <a:lnTo>
                  <a:pt x="627" y="1368"/>
                </a:lnTo>
                <a:lnTo>
                  <a:pt x="622" y="1379"/>
                </a:lnTo>
                <a:lnTo>
                  <a:pt x="622" y="1390"/>
                </a:lnTo>
                <a:lnTo>
                  <a:pt x="622" y="1406"/>
                </a:lnTo>
                <a:lnTo>
                  <a:pt x="622" y="1417"/>
                </a:lnTo>
                <a:lnTo>
                  <a:pt x="622" y="1428"/>
                </a:lnTo>
                <a:lnTo>
                  <a:pt x="617" y="1439"/>
                </a:lnTo>
                <a:lnTo>
                  <a:pt x="611" y="1450"/>
                </a:lnTo>
                <a:lnTo>
                  <a:pt x="606" y="1461"/>
                </a:lnTo>
                <a:lnTo>
                  <a:pt x="600" y="1461"/>
                </a:lnTo>
                <a:lnTo>
                  <a:pt x="589" y="1461"/>
                </a:lnTo>
                <a:lnTo>
                  <a:pt x="584" y="1450"/>
                </a:lnTo>
                <a:lnTo>
                  <a:pt x="573" y="1444"/>
                </a:lnTo>
                <a:lnTo>
                  <a:pt x="567" y="1439"/>
                </a:lnTo>
                <a:lnTo>
                  <a:pt x="557" y="1434"/>
                </a:lnTo>
                <a:lnTo>
                  <a:pt x="551" y="1423"/>
                </a:lnTo>
                <a:lnTo>
                  <a:pt x="546" y="1417"/>
                </a:lnTo>
                <a:lnTo>
                  <a:pt x="546" y="1412"/>
                </a:lnTo>
                <a:lnTo>
                  <a:pt x="551" y="1401"/>
                </a:lnTo>
                <a:lnTo>
                  <a:pt x="562" y="1401"/>
                </a:lnTo>
                <a:lnTo>
                  <a:pt x="573" y="1390"/>
                </a:lnTo>
                <a:lnTo>
                  <a:pt x="578" y="1385"/>
                </a:lnTo>
                <a:lnTo>
                  <a:pt x="584" y="1379"/>
                </a:lnTo>
                <a:lnTo>
                  <a:pt x="595" y="1374"/>
                </a:lnTo>
                <a:lnTo>
                  <a:pt x="600" y="1368"/>
                </a:lnTo>
                <a:lnTo>
                  <a:pt x="606" y="1363"/>
                </a:lnTo>
                <a:lnTo>
                  <a:pt x="617" y="1357"/>
                </a:lnTo>
                <a:lnTo>
                  <a:pt x="622" y="1346"/>
                </a:lnTo>
                <a:lnTo>
                  <a:pt x="633" y="1341"/>
                </a:lnTo>
                <a:lnTo>
                  <a:pt x="638" y="1330"/>
                </a:lnTo>
                <a:lnTo>
                  <a:pt x="644" y="1325"/>
                </a:lnTo>
                <a:lnTo>
                  <a:pt x="649" y="1319"/>
                </a:lnTo>
                <a:lnTo>
                  <a:pt x="655" y="1319"/>
                </a:lnTo>
                <a:lnTo>
                  <a:pt x="666" y="1319"/>
                </a:lnTo>
                <a:lnTo>
                  <a:pt x="677" y="1325"/>
                </a:lnTo>
                <a:lnTo>
                  <a:pt x="682" y="1325"/>
                </a:lnTo>
                <a:lnTo>
                  <a:pt x="693" y="1325"/>
                </a:lnTo>
                <a:lnTo>
                  <a:pt x="698" y="1325"/>
                </a:lnTo>
                <a:lnTo>
                  <a:pt x="709" y="1325"/>
                </a:lnTo>
                <a:lnTo>
                  <a:pt x="720" y="1319"/>
                </a:lnTo>
                <a:lnTo>
                  <a:pt x="726" y="1319"/>
                </a:lnTo>
                <a:lnTo>
                  <a:pt x="737" y="1319"/>
                </a:lnTo>
                <a:lnTo>
                  <a:pt x="742" y="1314"/>
                </a:lnTo>
                <a:lnTo>
                  <a:pt x="753" y="1314"/>
                </a:lnTo>
                <a:lnTo>
                  <a:pt x="758" y="1308"/>
                </a:lnTo>
                <a:lnTo>
                  <a:pt x="764" y="1297"/>
                </a:lnTo>
                <a:lnTo>
                  <a:pt x="769" y="1286"/>
                </a:lnTo>
                <a:lnTo>
                  <a:pt x="775" y="1281"/>
                </a:lnTo>
                <a:lnTo>
                  <a:pt x="780" y="1270"/>
                </a:lnTo>
                <a:lnTo>
                  <a:pt x="786" y="1259"/>
                </a:lnTo>
                <a:lnTo>
                  <a:pt x="796" y="1254"/>
                </a:lnTo>
                <a:lnTo>
                  <a:pt x="802" y="1243"/>
                </a:lnTo>
                <a:lnTo>
                  <a:pt x="807" y="1232"/>
                </a:lnTo>
                <a:lnTo>
                  <a:pt x="807" y="1221"/>
                </a:lnTo>
                <a:lnTo>
                  <a:pt x="807" y="1210"/>
                </a:lnTo>
                <a:lnTo>
                  <a:pt x="796" y="1199"/>
                </a:lnTo>
                <a:lnTo>
                  <a:pt x="791" y="1194"/>
                </a:lnTo>
                <a:lnTo>
                  <a:pt x="796" y="1188"/>
                </a:lnTo>
                <a:lnTo>
                  <a:pt x="802" y="1188"/>
                </a:lnTo>
                <a:lnTo>
                  <a:pt x="813" y="1188"/>
                </a:lnTo>
                <a:lnTo>
                  <a:pt x="824" y="1188"/>
                </a:lnTo>
                <a:lnTo>
                  <a:pt x="835" y="1188"/>
                </a:lnTo>
                <a:lnTo>
                  <a:pt x="846" y="1188"/>
                </a:lnTo>
                <a:lnTo>
                  <a:pt x="851" y="1183"/>
                </a:lnTo>
                <a:lnTo>
                  <a:pt x="856" y="1177"/>
                </a:lnTo>
                <a:lnTo>
                  <a:pt x="867" y="1172"/>
                </a:lnTo>
                <a:lnTo>
                  <a:pt x="873" y="1167"/>
                </a:lnTo>
                <a:lnTo>
                  <a:pt x="884" y="1161"/>
                </a:lnTo>
                <a:lnTo>
                  <a:pt x="889" y="1161"/>
                </a:lnTo>
                <a:lnTo>
                  <a:pt x="900" y="1161"/>
                </a:lnTo>
                <a:lnTo>
                  <a:pt x="906" y="1156"/>
                </a:lnTo>
                <a:lnTo>
                  <a:pt x="916" y="1150"/>
                </a:lnTo>
                <a:lnTo>
                  <a:pt x="922" y="1150"/>
                </a:lnTo>
                <a:lnTo>
                  <a:pt x="933" y="1145"/>
                </a:lnTo>
                <a:lnTo>
                  <a:pt x="938" y="1145"/>
                </a:lnTo>
                <a:lnTo>
                  <a:pt x="949" y="1145"/>
                </a:lnTo>
                <a:lnTo>
                  <a:pt x="960" y="1139"/>
                </a:lnTo>
                <a:lnTo>
                  <a:pt x="966" y="1139"/>
                </a:lnTo>
                <a:lnTo>
                  <a:pt x="976" y="1139"/>
                </a:lnTo>
                <a:lnTo>
                  <a:pt x="982" y="1139"/>
                </a:lnTo>
                <a:lnTo>
                  <a:pt x="993" y="1139"/>
                </a:lnTo>
                <a:lnTo>
                  <a:pt x="1004" y="1139"/>
                </a:lnTo>
                <a:lnTo>
                  <a:pt x="1009" y="1139"/>
                </a:lnTo>
                <a:lnTo>
                  <a:pt x="1020" y="1145"/>
                </a:lnTo>
                <a:lnTo>
                  <a:pt x="1025" y="1145"/>
                </a:lnTo>
                <a:lnTo>
                  <a:pt x="1031" y="1156"/>
                </a:lnTo>
                <a:lnTo>
                  <a:pt x="1042" y="1161"/>
                </a:lnTo>
                <a:lnTo>
                  <a:pt x="1047" y="1167"/>
                </a:lnTo>
                <a:lnTo>
                  <a:pt x="1058" y="1167"/>
                </a:lnTo>
                <a:lnTo>
                  <a:pt x="1064" y="1156"/>
                </a:lnTo>
                <a:lnTo>
                  <a:pt x="1069" y="1150"/>
                </a:lnTo>
                <a:lnTo>
                  <a:pt x="1080" y="1139"/>
                </a:lnTo>
                <a:lnTo>
                  <a:pt x="1085" y="1134"/>
                </a:lnTo>
                <a:lnTo>
                  <a:pt x="1091" y="1134"/>
                </a:lnTo>
                <a:lnTo>
                  <a:pt x="1102" y="1128"/>
                </a:lnTo>
                <a:lnTo>
                  <a:pt x="1107" y="1128"/>
                </a:lnTo>
                <a:lnTo>
                  <a:pt x="1118" y="1134"/>
                </a:lnTo>
                <a:lnTo>
                  <a:pt x="1129" y="1134"/>
                </a:lnTo>
                <a:lnTo>
                  <a:pt x="1140" y="1139"/>
                </a:lnTo>
                <a:lnTo>
                  <a:pt x="1145" y="1139"/>
                </a:lnTo>
                <a:lnTo>
                  <a:pt x="1156" y="1145"/>
                </a:lnTo>
                <a:lnTo>
                  <a:pt x="1162" y="1150"/>
                </a:lnTo>
                <a:lnTo>
                  <a:pt x="1162" y="1161"/>
                </a:lnTo>
                <a:lnTo>
                  <a:pt x="1162" y="1177"/>
                </a:lnTo>
                <a:lnTo>
                  <a:pt x="1156" y="1188"/>
                </a:lnTo>
                <a:lnTo>
                  <a:pt x="1151" y="1205"/>
                </a:lnTo>
                <a:lnTo>
                  <a:pt x="1145" y="1216"/>
                </a:lnTo>
                <a:lnTo>
                  <a:pt x="1145" y="1226"/>
                </a:lnTo>
                <a:lnTo>
                  <a:pt x="1145" y="1226"/>
                </a:lnTo>
                <a:lnTo>
                  <a:pt x="1156" y="1226"/>
                </a:lnTo>
                <a:lnTo>
                  <a:pt x="1167" y="1232"/>
                </a:lnTo>
                <a:lnTo>
                  <a:pt x="1173" y="1237"/>
                </a:lnTo>
                <a:lnTo>
                  <a:pt x="1178" y="1248"/>
                </a:lnTo>
                <a:lnTo>
                  <a:pt x="1184" y="1259"/>
                </a:lnTo>
                <a:lnTo>
                  <a:pt x="1189" y="1270"/>
                </a:lnTo>
                <a:lnTo>
                  <a:pt x="1195" y="1281"/>
                </a:lnTo>
                <a:lnTo>
                  <a:pt x="1200" y="1286"/>
                </a:lnTo>
                <a:lnTo>
                  <a:pt x="1200" y="1297"/>
                </a:lnTo>
                <a:lnTo>
                  <a:pt x="1205" y="1314"/>
                </a:lnTo>
                <a:lnTo>
                  <a:pt x="1205" y="1325"/>
                </a:lnTo>
                <a:lnTo>
                  <a:pt x="1211" y="1335"/>
                </a:lnTo>
                <a:lnTo>
                  <a:pt x="1211" y="1346"/>
                </a:lnTo>
                <a:lnTo>
                  <a:pt x="1216" y="1357"/>
                </a:lnTo>
                <a:lnTo>
                  <a:pt x="1216" y="1368"/>
                </a:lnTo>
                <a:lnTo>
                  <a:pt x="1222" y="1379"/>
                </a:lnTo>
                <a:lnTo>
                  <a:pt x="1227" y="1390"/>
                </a:lnTo>
                <a:lnTo>
                  <a:pt x="1227" y="1401"/>
                </a:lnTo>
                <a:lnTo>
                  <a:pt x="1227" y="1417"/>
                </a:lnTo>
                <a:lnTo>
                  <a:pt x="1222" y="1428"/>
                </a:lnTo>
                <a:lnTo>
                  <a:pt x="1216" y="1434"/>
                </a:lnTo>
                <a:lnTo>
                  <a:pt x="1205" y="1439"/>
                </a:lnTo>
                <a:lnTo>
                  <a:pt x="1200" y="1439"/>
                </a:lnTo>
                <a:lnTo>
                  <a:pt x="1189" y="1434"/>
                </a:lnTo>
                <a:lnTo>
                  <a:pt x="1184" y="1423"/>
                </a:lnTo>
                <a:lnTo>
                  <a:pt x="1178" y="1412"/>
                </a:lnTo>
                <a:lnTo>
                  <a:pt x="1173" y="1401"/>
                </a:lnTo>
                <a:lnTo>
                  <a:pt x="1167" y="1395"/>
                </a:lnTo>
                <a:lnTo>
                  <a:pt x="1162" y="1385"/>
                </a:lnTo>
                <a:lnTo>
                  <a:pt x="1156" y="1379"/>
                </a:lnTo>
                <a:lnTo>
                  <a:pt x="1145" y="1368"/>
                </a:lnTo>
                <a:lnTo>
                  <a:pt x="1140" y="1357"/>
                </a:lnTo>
                <a:lnTo>
                  <a:pt x="1135" y="1352"/>
                </a:lnTo>
                <a:lnTo>
                  <a:pt x="1129" y="1341"/>
                </a:lnTo>
                <a:lnTo>
                  <a:pt x="1124" y="1335"/>
                </a:lnTo>
                <a:lnTo>
                  <a:pt x="1118" y="1335"/>
                </a:lnTo>
                <a:lnTo>
                  <a:pt x="1107" y="1335"/>
                </a:lnTo>
                <a:lnTo>
                  <a:pt x="1096" y="1341"/>
                </a:lnTo>
                <a:lnTo>
                  <a:pt x="1091" y="1341"/>
                </a:lnTo>
                <a:lnTo>
                  <a:pt x="1080" y="1341"/>
                </a:lnTo>
                <a:lnTo>
                  <a:pt x="1069" y="1341"/>
                </a:lnTo>
                <a:lnTo>
                  <a:pt x="1064" y="1346"/>
                </a:lnTo>
                <a:lnTo>
                  <a:pt x="1053" y="1346"/>
                </a:lnTo>
                <a:lnTo>
                  <a:pt x="1047" y="1346"/>
                </a:lnTo>
                <a:lnTo>
                  <a:pt x="1036" y="1346"/>
                </a:lnTo>
                <a:lnTo>
                  <a:pt x="1031" y="1346"/>
                </a:lnTo>
                <a:lnTo>
                  <a:pt x="1020" y="1346"/>
                </a:lnTo>
                <a:lnTo>
                  <a:pt x="1009" y="1352"/>
                </a:lnTo>
                <a:lnTo>
                  <a:pt x="1004" y="1357"/>
                </a:lnTo>
                <a:lnTo>
                  <a:pt x="993" y="1363"/>
                </a:lnTo>
                <a:lnTo>
                  <a:pt x="987" y="1363"/>
                </a:lnTo>
                <a:lnTo>
                  <a:pt x="976" y="1368"/>
                </a:lnTo>
                <a:lnTo>
                  <a:pt x="971" y="1374"/>
                </a:lnTo>
                <a:lnTo>
                  <a:pt x="960" y="1374"/>
                </a:lnTo>
                <a:lnTo>
                  <a:pt x="955" y="1379"/>
                </a:lnTo>
                <a:lnTo>
                  <a:pt x="944" y="1379"/>
                </a:lnTo>
                <a:lnTo>
                  <a:pt x="938" y="1385"/>
                </a:lnTo>
                <a:lnTo>
                  <a:pt x="927" y="1395"/>
                </a:lnTo>
                <a:lnTo>
                  <a:pt x="922" y="1406"/>
                </a:lnTo>
                <a:lnTo>
                  <a:pt x="922" y="1412"/>
                </a:lnTo>
                <a:lnTo>
                  <a:pt x="927" y="1417"/>
                </a:lnTo>
                <a:lnTo>
                  <a:pt x="938" y="1417"/>
                </a:lnTo>
                <a:lnTo>
                  <a:pt x="949" y="1417"/>
                </a:lnTo>
                <a:lnTo>
                  <a:pt x="960" y="1423"/>
                </a:lnTo>
                <a:lnTo>
                  <a:pt x="966" y="1423"/>
                </a:lnTo>
                <a:lnTo>
                  <a:pt x="976" y="1428"/>
                </a:lnTo>
                <a:lnTo>
                  <a:pt x="982" y="1428"/>
                </a:lnTo>
                <a:lnTo>
                  <a:pt x="993" y="1434"/>
                </a:lnTo>
                <a:lnTo>
                  <a:pt x="998" y="1434"/>
                </a:lnTo>
                <a:lnTo>
                  <a:pt x="1009" y="1439"/>
                </a:lnTo>
                <a:lnTo>
                  <a:pt x="1015" y="1444"/>
                </a:lnTo>
                <a:lnTo>
                  <a:pt x="1020" y="1450"/>
                </a:lnTo>
                <a:lnTo>
                  <a:pt x="1025" y="1461"/>
                </a:lnTo>
                <a:lnTo>
                  <a:pt x="1020" y="1477"/>
                </a:lnTo>
                <a:lnTo>
                  <a:pt x="1020" y="1488"/>
                </a:lnTo>
                <a:lnTo>
                  <a:pt x="1015" y="1499"/>
                </a:lnTo>
                <a:lnTo>
                  <a:pt x="1015" y="1515"/>
                </a:lnTo>
                <a:lnTo>
                  <a:pt x="1015" y="1526"/>
                </a:lnTo>
                <a:lnTo>
                  <a:pt x="1020" y="1532"/>
                </a:lnTo>
                <a:lnTo>
                  <a:pt x="1025" y="1543"/>
                </a:lnTo>
                <a:lnTo>
                  <a:pt x="1036" y="1553"/>
                </a:lnTo>
                <a:lnTo>
                  <a:pt x="1042" y="1559"/>
                </a:lnTo>
                <a:lnTo>
                  <a:pt x="1042" y="1570"/>
                </a:lnTo>
                <a:lnTo>
                  <a:pt x="1047" y="1581"/>
                </a:lnTo>
                <a:lnTo>
                  <a:pt x="1047" y="1597"/>
                </a:lnTo>
                <a:lnTo>
                  <a:pt x="1047" y="1608"/>
                </a:lnTo>
                <a:lnTo>
                  <a:pt x="1053" y="1619"/>
                </a:lnTo>
                <a:lnTo>
                  <a:pt x="1058" y="1619"/>
                </a:lnTo>
                <a:lnTo>
                  <a:pt x="1069" y="1619"/>
                </a:lnTo>
                <a:lnTo>
                  <a:pt x="1075" y="1613"/>
                </a:lnTo>
                <a:lnTo>
                  <a:pt x="1085" y="1613"/>
                </a:lnTo>
                <a:lnTo>
                  <a:pt x="1096" y="1619"/>
                </a:lnTo>
                <a:lnTo>
                  <a:pt x="1102" y="1624"/>
                </a:lnTo>
                <a:lnTo>
                  <a:pt x="1107" y="1635"/>
                </a:lnTo>
                <a:lnTo>
                  <a:pt x="1107" y="1646"/>
                </a:lnTo>
                <a:lnTo>
                  <a:pt x="1107" y="1662"/>
                </a:lnTo>
                <a:lnTo>
                  <a:pt x="1107" y="1673"/>
                </a:lnTo>
                <a:lnTo>
                  <a:pt x="1107" y="1684"/>
                </a:lnTo>
                <a:lnTo>
                  <a:pt x="1107" y="1695"/>
                </a:lnTo>
                <a:lnTo>
                  <a:pt x="1113" y="1706"/>
                </a:lnTo>
                <a:lnTo>
                  <a:pt x="1113" y="1717"/>
                </a:lnTo>
                <a:lnTo>
                  <a:pt x="1124" y="1728"/>
                </a:lnTo>
                <a:lnTo>
                  <a:pt x="1129" y="1733"/>
                </a:lnTo>
                <a:lnTo>
                  <a:pt x="1135" y="1739"/>
                </a:lnTo>
                <a:lnTo>
                  <a:pt x="1145" y="1739"/>
                </a:lnTo>
                <a:lnTo>
                  <a:pt x="1151" y="1739"/>
                </a:lnTo>
                <a:lnTo>
                  <a:pt x="1162" y="1750"/>
                </a:lnTo>
                <a:lnTo>
                  <a:pt x="1167" y="1739"/>
                </a:lnTo>
                <a:lnTo>
                  <a:pt x="1173" y="1733"/>
                </a:lnTo>
                <a:lnTo>
                  <a:pt x="1184" y="1722"/>
                </a:lnTo>
                <a:lnTo>
                  <a:pt x="1189" y="1717"/>
                </a:lnTo>
                <a:lnTo>
                  <a:pt x="1200" y="1717"/>
                </a:lnTo>
                <a:lnTo>
                  <a:pt x="1205" y="1712"/>
                </a:lnTo>
                <a:lnTo>
                  <a:pt x="1216" y="1706"/>
                </a:lnTo>
                <a:lnTo>
                  <a:pt x="1222" y="1701"/>
                </a:lnTo>
                <a:lnTo>
                  <a:pt x="1227" y="1690"/>
                </a:lnTo>
                <a:lnTo>
                  <a:pt x="1233" y="1684"/>
                </a:lnTo>
                <a:lnTo>
                  <a:pt x="1238" y="1673"/>
                </a:lnTo>
                <a:lnTo>
                  <a:pt x="1238" y="1657"/>
                </a:lnTo>
                <a:lnTo>
                  <a:pt x="1238" y="1646"/>
                </a:lnTo>
                <a:lnTo>
                  <a:pt x="1238" y="1635"/>
                </a:lnTo>
                <a:lnTo>
                  <a:pt x="1238" y="1624"/>
                </a:lnTo>
                <a:lnTo>
                  <a:pt x="1238" y="1608"/>
                </a:lnTo>
                <a:lnTo>
                  <a:pt x="1238" y="1597"/>
                </a:lnTo>
                <a:lnTo>
                  <a:pt x="1238" y="1586"/>
                </a:lnTo>
                <a:lnTo>
                  <a:pt x="1238" y="1575"/>
                </a:lnTo>
                <a:lnTo>
                  <a:pt x="1238" y="1564"/>
                </a:lnTo>
                <a:lnTo>
                  <a:pt x="1238" y="1548"/>
                </a:lnTo>
                <a:lnTo>
                  <a:pt x="1238" y="1537"/>
                </a:lnTo>
                <a:lnTo>
                  <a:pt x="1238" y="1526"/>
                </a:lnTo>
                <a:lnTo>
                  <a:pt x="1233" y="1515"/>
                </a:lnTo>
                <a:lnTo>
                  <a:pt x="1227" y="1499"/>
                </a:lnTo>
                <a:lnTo>
                  <a:pt x="1227" y="1488"/>
                </a:lnTo>
                <a:lnTo>
                  <a:pt x="1238" y="1483"/>
                </a:lnTo>
                <a:lnTo>
                  <a:pt x="1244" y="1477"/>
                </a:lnTo>
                <a:lnTo>
                  <a:pt x="1249" y="1472"/>
                </a:lnTo>
                <a:lnTo>
                  <a:pt x="1260" y="1461"/>
                </a:lnTo>
                <a:lnTo>
                  <a:pt x="1265" y="1455"/>
                </a:lnTo>
                <a:lnTo>
                  <a:pt x="1276" y="1455"/>
                </a:lnTo>
                <a:lnTo>
                  <a:pt x="1282" y="1450"/>
                </a:lnTo>
                <a:lnTo>
                  <a:pt x="1287" y="1444"/>
                </a:lnTo>
                <a:lnTo>
                  <a:pt x="1298" y="1439"/>
                </a:lnTo>
                <a:lnTo>
                  <a:pt x="1304" y="1434"/>
                </a:lnTo>
                <a:lnTo>
                  <a:pt x="1314" y="1428"/>
                </a:lnTo>
                <a:lnTo>
                  <a:pt x="1320" y="1423"/>
                </a:lnTo>
                <a:lnTo>
                  <a:pt x="1331" y="1417"/>
                </a:lnTo>
                <a:lnTo>
                  <a:pt x="1336" y="1412"/>
                </a:lnTo>
                <a:lnTo>
                  <a:pt x="1347" y="1412"/>
                </a:lnTo>
                <a:lnTo>
                  <a:pt x="1353" y="1406"/>
                </a:lnTo>
                <a:lnTo>
                  <a:pt x="1364" y="1401"/>
                </a:lnTo>
                <a:lnTo>
                  <a:pt x="1369" y="1395"/>
                </a:lnTo>
                <a:lnTo>
                  <a:pt x="1374" y="1390"/>
                </a:lnTo>
                <a:lnTo>
                  <a:pt x="1385" y="1385"/>
                </a:lnTo>
                <a:lnTo>
                  <a:pt x="1391" y="1379"/>
                </a:lnTo>
                <a:lnTo>
                  <a:pt x="1402" y="1374"/>
                </a:lnTo>
                <a:lnTo>
                  <a:pt x="1407" y="1368"/>
                </a:lnTo>
                <a:lnTo>
                  <a:pt x="1418" y="1363"/>
                </a:lnTo>
                <a:lnTo>
                  <a:pt x="1424" y="1357"/>
                </a:lnTo>
                <a:lnTo>
                  <a:pt x="1429" y="1346"/>
                </a:lnTo>
                <a:lnTo>
                  <a:pt x="1434" y="1335"/>
                </a:lnTo>
                <a:lnTo>
                  <a:pt x="1440" y="1330"/>
                </a:lnTo>
                <a:lnTo>
                  <a:pt x="1445" y="1319"/>
                </a:lnTo>
                <a:lnTo>
                  <a:pt x="1445" y="1308"/>
                </a:lnTo>
                <a:lnTo>
                  <a:pt x="1451" y="1297"/>
                </a:lnTo>
                <a:lnTo>
                  <a:pt x="1456" y="1286"/>
                </a:lnTo>
                <a:lnTo>
                  <a:pt x="1462" y="1276"/>
                </a:lnTo>
                <a:lnTo>
                  <a:pt x="1467" y="1265"/>
                </a:lnTo>
                <a:lnTo>
                  <a:pt x="1467" y="1254"/>
                </a:lnTo>
                <a:lnTo>
                  <a:pt x="1473" y="1243"/>
                </a:lnTo>
                <a:lnTo>
                  <a:pt x="1478" y="1237"/>
                </a:lnTo>
                <a:lnTo>
                  <a:pt x="1483" y="1226"/>
                </a:lnTo>
                <a:lnTo>
                  <a:pt x="1489" y="1216"/>
                </a:lnTo>
                <a:lnTo>
                  <a:pt x="1494" y="1205"/>
                </a:lnTo>
                <a:lnTo>
                  <a:pt x="1500" y="1194"/>
                </a:lnTo>
                <a:lnTo>
                  <a:pt x="1500" y="1183"/>
                </a:lnTo>
                <a:lnTo>
                  <a:pt x="1505" y="1172"/>
                </a:lnTo>
                <a:lnTo>
                  <a:pt x="1511" y="1161"/>
                </a:lnTo>
                <a:lnTo>
                  <a:pt x="1516" y="1150"/>
                </a:lnTo>
                <a:lnTo>
                  <a:pt x="1522" y="1145"/>
                </a:lnTo>
                <a:lnTo>
                  <a:pt x="1527" y="1134"/>
                </a:lnTo>
                <a:lnTo>
                  <a:pt x="1527" y="1123"/>
                </a:lnTo>
                <a:lnTo>
                  <a:pt x="1533" y="1112"/>
                </a:lnTo>
                <a:lnTo>
                  <a:pt x="1538" y="1101"/>
                </a:lnTo>
                <a:lnTo>
                  <a:pt x="1549" y="1096"/>
                </a:lnTo>
                <a:lnTo>
                  <a:pt x="1560" y="1096"/>
                </a:lnTo>
                <a:lnTo>
                  <a:pt x="1571" y="1096"/>
                </a:lnTo>
                <a:lnTo>
                  <a:pt x="1576" y="1107"/>
                </a:lnTo>
                <a:lnTo>
                  <a:pt x="1576" y="1117"/>
                </a:lnTo>
                <a:lnTo>
                  <a:pt x="1582" y="1128"/>
                </a:lnTo>
                <a:lnTo>
                  <a:pt x="1587" y="1139"/>
                </a:lnTo>
                <a:lnTo>
                  <a:pt x="1587" y="1150"/>
                </a:lnTo>
                <a:lnTo>
                  <a:pt x="1593" y="1161"/>
                </a:lnTo>
                <a:lnTo>
                  <a:pt x="1598" y="1172"/>
                </a:lnTo>
                <a:lnTo>
                  <a:pt x="1603" y="1183"/>
                </a:lnTo>
                <a:lnTo>
                  <a:pt x="1603" y="1194"/>
                </a:lnTo>
                <a:lnTo>
                  <a:pt x="1609" y="1205"/>
                </a:lnTo>
                <a:lnTo>
                  <a:pt x="1614" y="1216"/>
                </a:lnTo>
                <a:lnTo>
                  <a:pt x="1620" y="1226"/>
                </a:lnTo>
                <a:lnTo>
                  <a:pt x="1620" y="1237"/>
                </a:lnTo>
                <a:lnTo>
                  <a:pt x="1625" y="1248"/>
                </a:lnTo>
                <a:lnTo>
                  <a:pt x="1631" y="1259"/>
                </a:lnTo>
                <a:lnTo>
                  <a:pt x="1636" y="1270"/>
                </a:lnTo>
                <a:lnTo>
                  <a:pt x="1636" y="1281"/>
                </a:lnTo>
                <a:lnTo>
                  <a:pt x="1642" y="1292"/>
                </a:lnTo>
                <a:lnTo>
                  <a:pt x="1647" y="1297"/>
                </a:lnTo>
                <a:lnTo>
                  <a:pt x="1647" y="1308"/>
                </a:lnTo>
                <a:lnTo>
                  <a:pt x="1652" y="1319"/>
                </a:lnTo>
                <a:lnTo>
                  <a:pt x="1658" y="1330"/>
                </a:lnTo>
                <a:lnTo>
                  <a:pt x="1663" y="1341"/>
                </a:lnTo>
                <a:lnTo>
                  <a:pt x="1663" y="1352"/>
                </a:lnTo>
                <a:lnTo>
                  <a:pt x="1669" y="1363"/>
                </a:lnTo>
                <a:lnTo>
                  <a:pt x="1674" y="1374"/>
                </a:lnTo>
                <a:lnTo>
                  <a:pt x="1680" y="1385"/>
                </a:lnTo>
                <a:lnTo>
                  <a:pt x="1680" y="1395"/>
                </a:lnTo>
                <a:lnTo>
                  <a:pt x="1685" y="1406"/>
                </a:lnTo>
                <a:lnTo>
                  <a:pt x="1691" y="1417"/>
                </a:lnTo>
                <a:lnTo>
                  <a:pt x="1696" y="1428"/>
                </a:lnTo>
                <a:lnTo>
                  <a:pt x="1696" y="1439"/>
                </a:lnTo>
                <a:lnTo>
                  <a:pt x="1702" y="1450"/>
                </a:lnTo>
                <a:lnTo>
                  <a:pt x="1707" y="1461"/>
                </a:lnTo>
                <a:lnTo>
                  <a:pt x="1712" y="1472"/>
                </a:lnTo>
                <a:lnTo>
                  <a:pt x="1712" y="1483"/>
                </a:lnTo>
                <a:lnTo>
                  <a:pt x="1718" y="1494"/>
                </a:lnTo>
                <a:lnTo>
                  <a:pt x="1723" y="1504"/>
                </a:lnTo>
                <a:lnTo>
                  <a:pt x="1723" y="1515"/>
                </a:lnTo>
                <a:lnTo>
                  <a:pt x="1729" y="1526"/>
                </a:lnTo>
                <a:lnTo>
                  <a:pt x="1734" y="1537"/>
                </a:lnTo>
                <a:lnTo>
                  <a:pt x="1740" y="1548"/>
                </a:lnTo>
                <a:lnTo>
                  <a:pt x="1745" y="1559"/>
                </a:lnTo>
                <a:lnTo>
                  <a:pt x="1740" y="1570"/>
                </a:lnTo>
                <a:lnTo>
                  <a:pt x="1740" y="1575"/>
                </a:lnTo>
                <a:lnTo>
                  <a:pt x="1729" y="1586"/>
                </a:lnTo>
                <a:lnTo>
                  <a:pt x="1723" y="1592"/>
                </a:lnTo>
                <a:lnTo>
                  <a:pt x="1712" y="1603"/>
                </a:lnTo>
                <a:lnTo>
                  <a:pt x="1707" y="1603"/>
                </a:lnTo>
                <a:lnTo>
                  <a:pt x="1702" y="1608"/>
                </a:lnTo>
                <a:lnTo>
                  <a:pt x="1691" y="1613"/>
                </a:lnTo>
                <a:lnTo>
                  <a:pt x="1685" y="1619"/>
                </a:lnTo>
                <a:lnTo>
                  <a:pt x="1674" y="1630"/>
                </a:lnTo>
                <a:lnTo>
                  <a:pt x="1680" y="1635"/>
                </a:lnTo>
                <a:lnTo>
                  <a:pt x="1691" y="1635"/>
                </a:lnTo>
                <a:lnTo>
                  <a:pt x="1702" y="1635"/>
                </a:lnTo>
                <a:lnTo>
                  <a:pt x="1707" y="1641"/>
                </a:lnTo>
                <a:lnTo>
                  <a:pt x="1718" y="1641"/>
                </a:lnTo>
                <a:lnTo>
                  <a:pt x="1723" y="1641"/>
                </a:lnTo>
                <a:lnTo>
                  <a:pt x="1734" y="1641"/>
                </a:lnTo>
                <a:lnTo>
                  <a:pt x="1740" y="1641"/>
                </a:lnTo>
                <a:lnTo>
                  <a:pt x="1751" y="1641"/>
                </a:lnTo>
                <a:lnTo>
                  <a:pt x="1762" y="1646"/>
                </a:lnTo>
                <a:lnTo>
                  <a:pt x="1767" y="1646"/>
                </a:lnTo>
                <a:lnTo>
                  <a:pt x="1778" y="1646"/>
                </a:lnTo>
                <a:lnTo>
                  <a:pt x="1783" y="1652"/>
                </a:lnTo>
                <a:lnTo>
                  <a:pt x="1794" y="1652"/>
                </a:lnTo>
                <a:lnTo>
                  <a:pt x="1805" y="1652"/>
                </a:lnTo>
                <a:lnTo>
                  <a:pt x="1811" y="1657"/>
                </a:lnTo>
                <a:lnTo>
                  <a:pt x="1822" y="1662"/>
                </a:lnTo>
                <a:lnTo>
                  <a:pt x="1827" y="1668"/>
                </a:lnTo>
                <a:lnTo>
                  <a:pt x="1832" y="1679"/>
                </a:lnTo>
                <a:lnTo>
                  <a:pt x="1838" y="1690"/>
                </a:lnTo>
                <a:lnTo>
                  <a:pt x="1838" y="1701"/>
                </a:lnTo>
                <a:lnTo>
                  <a:pt x="1843" y="1712"/>
                </a:lnTo>
                <a:lnTo>
                  <a:pt x="1843" y="1722"/>
                </a:lnTo>
                <a:lnTo>
                  <a:pt x="1843" y="1733"/>
                </a:lnTo>
                <a:lnTo>
                  <a:pt x="1843" y="1744"/>
                </a:lnTo>
                <a:lnTo>
                  <a:pt x="1838" y="1761"/>
                </a:lnTo>
                <a:lnTo>
                  <a:pt x="1843" y="1771"/>
                </a:lnTo>
                <a:lnTo>
                  <a:pt x="1843" y="1782"/>
                </a:lnTo>
                <a:lnTo>
                  <a:pt x="1843" y="1793"/>
                </a:lnTo>
                <a:lnTo>
                  <a:pt x="1843" y="1804"/>
                </a:lnTo>
                <a:lnTo>
                  <a:pt x="1865" y="1782"/>
                </a:lnTo>
                <a:lnTo>
                  <a:pt x="1865" y="1750"/>
                </a:lnTo>
                <a:lnTo>
                  <a:pt x="1865" y="1712"/>
                </a:lnTo>
                <a:lnTo>
                  <a:pt x="1903" y="1673"/>
                </a:lnTo>
                <a:lnTo>
                  <a:pt x="1903" y="1635"/>
                </a:lnTo>
                <a:lnTo>
                  <a:pt x="1903" y="1597"/>
                </a:lnTo>
                <a:lnTo>
                  <a:pt x="1903" y="1559"/>
                </a:lnTo>
                <a:lnTo>
                  <a:pt x="1903" y="1526"/>
                </a:lnTo>
                <a:lnTo>
                  <a:pt x="1941" y="1488"/>
                </a:lnTo>
                <a:lnTo>
                  <a:pt x="1941" y="1450"/>
                </a:lnTo>
                <a:lnTo>
                  <a:pt x="1941" y="1412"/>
                </a:lnTo>
                <a:lnTo>
                  <a:pt x="1941" y="1374"/>
                </a:lnTo>
                <a:lnTo>
                  <a:pt x="1941" y="1335"/>
                </a:lnTo>
                <a:lnTo>
                  <a:pt x="1941" y="1303"/>
                </a:lnTo>
                <a:lnTo>
                  <a:pt x="1941" y="1265"/>
                </a:lnTo>
                <a:lnTo>
                  <a:pt x="1980" y="1226"/>
                </a:lnTo>
                <a:lnTo>
                  <a:pt x="1980" y="1188"/>
                </a:lnTo>
                <a:lnTo>
                  <a:pt x="1980" y="1150"/>
                </a:lnTo>
                <a:lnTo>
                  <a:pt x="1980" y="1117"/>
                </a:lnTo>
                <a:lnTo>
                  <a:pt x="1980" y="1079"/>
                </a:lnTo>
                <a:lnTo>
                  <a:pt x="1980" y="1041"/>
                </a:lnTo>
                <a:lnTo>
                  <a:pt x="1980" y="1003"/>
                </a:lnTo>
                <a:lnTo>
                  <a:pt x="2018" y="965"/>
                </a:lnTo>
                <a:lnTo>
                  <a:pt x="2018" y="927"/>
                </a:lnTo>
                <a:lnTo>
                  <a:pt x="2018" y="894"/>
                </a:lnTo>
                <a:lnTo>
                  <a:pt x="2018" y="856"/>
                </a:lnTo>
                <a:lnTo>
                  <a:pt x="2018" y="818"/>
                </a:lnTo>
                <a:lnTo>
                  <a:pt x="2018" y="780"/>
                </a:lnTo>
                <a:lnTo>
                  <a:pt x="2018" y="741"/>
                </a:lnTo>
                <a:lnTo>
                  <a:pt x="2051" y="703"/>
                </a:lnTo>
                <a:lnTo>
                  <a:pt x="2051" y="671"/>
                </a:lnTo>
                <a:lnTo>
                  <a:pt x="2051" y="632"/>
                </a:lnTo>
                <a:lnTo>
                  <a:pt x="2051" y="594"/>
                </a:lnTo>
                <a:lnTo>
                  <a:pt x="2051" y="556"/>
                </a:lnTo>
                <a:lnTo>
                  <a:pt x="2051" y="518"/>
                </a:lnTo>
                <a:lnTo>
                  <a:pt x="2051" y="485"/>
                </a:lnTo>
                <a:lnTo>
                  <a:pt x="2089" y="447"/>
                </a:lnTo>
                <a:lnTo>
                  <a:pt x="2089" y="409"/>
                </a:lnTo>
                <a:lnTo>
                  <a:pt x="2089" y="371"/>
                </a:lnTo>
                <a:lnTo>
                  <a:pt x="2089" y="333"/>
                </a:lnTo>
                <a:lnTo>
                  <a:pt x="2089" y="294"/>
                </a:lnTo>
                <a:lnTo>
                  <a:pt x="2089" y="262"/>
                </a:lnTo>
                <a:lnTo>
                  <a:pt x="2089" y="224"/>
                </a:lnTo>
                <a:lnTo>
                  <a:pt x="2127" y="185"/>
                </a:lnTo>
                <a:lnTo>
                  <a:pt x="2127" y="147"/>
                </a:lnTo>
                <a:lnTo>
                  <a:pt x="2127" y="109"/>
                </a:lnTo>
                <a:lnTo>
                  <a:pt x="2127" y="71"/>
                </a:lnTo>
                <a:lnTo>
                  <a:pt x="2127" y="38"/>
                </a:lnTo>
                <a:lnTo>
                  <a:pt x="2127" y="0"/>
                </a:lnTo>
                <a:lnTo>
                  <a:pt x="2089" y="0"/>
                </a:lnTo>
                <a:lnTo>
                  <a:pt x="2089" y="0"/>
                </a:lnTo>
                <a:lnTo>
                  <a:pt x="2089" y="0"/>
                </a:lnTo>
                <a:lnTo>
                  <a:pt x="2089" y="0"/>
                </a:lnTo>
                <a:lnTo>
                  <a:pt x="2089" y="0"/>
                </a:lnTo>
                <a:lnTo>
                  <a:pt x="2089" y="0"/>
                </a:lnTo>
                <a:lnTo>
                  <a:pt x="2089" y="0"/>
                </a:lnTo>
                <a:lnTo>
                  <a:pt x="2089" y="0"/>
                </a:lnTo>
                <a:lnTo>
                  <a:pt x="2089" y="0"/>
                </a:lnTo>
                <a:lnTo>
                  <a:pt x="2051" y="0"/>
                </a:lnTo>
                <a:lnTo>
                  <a:pt x="2018" y="0"/>
                </a:lnTo>
                <a:lnTo>
                  <a:pt x="1980" y="0"/>
                </a:lnTo>
                <a:lnTo>
                  <a:pt x="1941" y="38"/>
                </a:lnTo>
                <a:lnTo>
                  <a:pt x="1903" y="38"/>
                </a:lnTo>
                <a:lnTo>
                  <a:pt x="1865" y="38"/>
                </a:lnTo>
                <a:lnTo>
                  <a:pt x="1832" y="71"/>
                </a:lnTo>
                <a:lnTo>
                  <a:pt x="1794" y="71"/>
                </a:lnTo>
                <a:lnTo>
                  <a:pt x="1756" y="71"/>
                </a:lnTo>
                <a:lnTo>
                  <a:pt x="1718" y="109"/>
                </a:lnTo>
                <a:lnTo>
                  <a:pt x="1680" y="109"/>
                </a:lnTo>
                <a:lnTo>
                  <a:pt x="1647" y="147"/>
                </a:lnTo>
                <a:lnTo>
                  <a:pt x="1609" y="147"/>
                </a:lnTo>
                <a:lnTo>
                  <a:pt x="1571" y="147"/>
                </a:lnTo>
                <a:lnTo>
                  <a:pt x="1533" y="185"/>
                </a:lnTo>
                <a:lnTo>
                  <a:pt x="1494" y="185"/>
                </a:lnTo>
                <a:lnTo>
                  <a:pt x="1462" y="185"/>
                </a:lnTo>
                <a:lnTo>
                  <a:pt x="1424" y="224"/>
                </a:lnTo>
                <a:lnTo>
                  <a:pt x="1385" y="224"/>
                </a:lnTo>
                <a:lnTo>
                  <a:pt x="1347" y="224"/>
                </a:lnTo>
                <a:lnTo>
                  <a:pt x="1309" y="262"/>
                </a:lnTo>
                <a:lnTo>
                  <a:pt x="1276" y="262"/>
                </a:lnTo>
                <a:lnTo>
                  <a:pt x="1238" y="262"/>
                </a:lnTo>
                <a:lnTo>
                  <a:pt x="1200" y="294"/>
                </a:lnTo>
                <a:lnTo>
                  <a:pt x="1162" y="294"/>
                </a:lnTo>
                <a:lnTo>
                  <a:pt x="1124" y="294"/>
                </a:lnTo>
                <a:lnTo>
                  <a:pt x="1091" y="333"/>
                </a:lnTo>
                <a:lnTo>
                  <a:pt x="1053" y="333"/>
                </a:lnTo>
                <a:lnTo>
                  <a:pt x="1015" y="333"/>
                </a:lnTo>
                <a:lnTo>
                  <a:pt x="976" y="371"/>
                </a:lnTo>
                <a:lnTo>
                  <a:pt x="944" y="371"/>
                </a:lnTo>
                <a:lnTo>
                  <a:pt x="906" y="409"/>
                </a:lnTo>
                <a:lnTo>
                  <a:pt x="867" y="409"/>
                </a:lnTo>
                <a:lnTo>
                  <a:pt x="829" y="409"/>
                </a:lnTo>
                <a:lnTo>
                  <a:pt x="791" y="447"/>
                </a:lnTo>
                <a:lnTo>
                  <a:pt x="758" y="447"/>
                </a:lnTo>
                <a:lnTo>
                  <a:pt x="726" y="447"/>
                </a:lnTo>
                <a:lnTo>
                  <a:pt x="720" y="447"/>
                </a:lnTo>
                <a:lnTo>
                  <a:pt x="720" y="447"/>
                </a:lnTo>
                <a:lnTo>
                  <a:pt x="720" y="447"/>
                </a:lnTo>
                <a:lnTo>
                  <a:pt x="720" y="447"/>
                </a:lnTo>
                <a:lnTo>
                  <a:pt x="720" y="447"/>
                </a:lnTo>
                <a:lnTo>
                  <a:pt x="720" y="447"/>
                </a:lnTo>
                <a:lnTo>
                  <a:pt x="715" y="447"/>
                </a:lnTo>
                <a:lnTo>
                  <a:pt x="715" y="447"/>
                </a:lnTo>
                <a:lnTo>
                  <a:pt x="682" y="485"/>
                </a:lnTo>
                <a:lnTo>
                  <a:pt x="644" y="485"/>
                </a:lnTo>
                <a:lnTo>
                  <a:pt x="627" y="485"/>
                </a:lnTo>
                <a:lnTo>
                  <a:pt x="622" y="485"/>
                </a:lnTo>
                <a:lnTo>
                  <a:pt x="617" y="485"/>
                </a:lnTo>
                <a:lnTo>
                  <a:pt x="617" y="491"/>
                </a:lnTo>
                <a:lnTo>
                  <a:pt x="611" y="491"/>
                </a:lnTo>
                <a:lnTo>
                  <a:pt x="606" y="491"/>
                </a:lnTo>
                <a:lnTo>
                  <a:pt x="606" y="491"/>
                </a:lnTo>
                <a:lnTo>
                  <a:pt x="600" y="496"/>
                </a:lnTo>
                <a:lnTo>
                  <a:pt x="595" y="496"/>
                </a:lnTo>
                <a:lnTo>
                  <a:pt x="573" y="518"/>
                </a:lnTo>
                <a:lnTo>
                  <a:pt x="535" y="518"/>
                </a:lnTo>
                <a:lnTo>
                  <a:pt x="529" y="518"/>
                </a:lnTo>
                <a:lnTo>
                  <a:pt x="524" y="523"/>
                </a:lnTo>
                <a:lnTo>
                  <a:pt x="518" y="529"/>
                </a:lnTo>
                <a:lnTo>
                  <a:pt x="508" y="529"/>
                </a:lnTo>
                <a:lnTo>
                  <a:pt x="502" y="534"/>
                </a:lnTo>
                <a:lnTo>
                  <a:pt x="497" y="534"/>
                </a:lnTo>
                <a:lnTo>
                  <a:pt x="486" y="540"/>
                </a:lnTo>
                <a:lnTo>
                  <a:pt x="480" y="540"/>
                </a:lnTo>
                <a:lnTo>
                  <a:pt x="475" y="545"/>
                </a:lnTo>
                <a:lnTo>
                  <a:pt x="458" y="556"/>
                </a:lnTo>
                <a:lnTo>
                  <a:pt x="437" y="556"/>
                </a:lnTo>
                <a:lnTo>
                  <a:pt x="431" y="562"/>
                </a:lnTo>
                <a:lnTo>
                  <a:pt x="420" y="567"/>
                </a:lnTo>
                <a:lnTo>
                  <a:pt x="415" y="572"/>
                </a:lnTo>
                <a:lnTo>
                  <a:pt x="404" y="572"/>
                </a:lnTo>
                <a:lnTo>
                  <a:pt x="398" y="578"/>
                </a:lnTo>
                <a:lnTo>
                  <a:pt x="393" y="578"/>
                </a:lnTo>
                <a:lnTo>
                  <a:pt x="382" y="583"/>
                </a:lnTo>
                <a:lnTo>
                  <a:pt x="377" y="583"/>
                </a:lnTo>
                <a:lnTo>
                  <a:pt x="366" y="589"/>
                </a:lnTo>
                <a:lnTo>
                  <a:pt x="360" y="589"/>
                </a:lnTo>
                <a:lnTo>
                  <a:pt x="349" y="589"/>
                </a:lnTo>
                <a:lnTo>
                  <a:pt x="349" y="594"/>
                </a:lnTo>
                <a:lnTo>
                  <a:pt x="344" y="594"/>
                </a:lnTo>
                <a:lnTo>
                  <a:pt x="338" y="600"/>
                </a:lnTo>
                <a:lnTo>
                  <a:pt x="328" y="605"/>
                </a:lnTo>
                <a:lnTo>
                  <a:pt x="322" y="611"/>
                </a:lnTo>
                <a:lnTo>
                  <a:pt x="317" y="616"/>
                </a:lnTo>
                <a:lnTo>
                  <a:pt x="306" y="621"/>
                </a:lnTo>
                <a:lnTo>
                  <a:pt x="300" y="621"/>
                </a:lnTo>
                <a:lnTo>
                  <a:pt x="295" y="627"/>
                </a:lnTo>
                <a:lnTo>
                  <a:pt x="284" y="627"/>
                </a:lnTo>
                <a:lnTo>
                  <a:pt x="279" y="627"/>
                </a:lnTo>
                <a:lnTo>
                  <a:pt x="268" y="627"/>
                </a:lnTo>
                <a:lnTo>
                  <a:pt x="262" y="632"/>
                </a:lnTo>
                <a:lnTo>
                  <a:pt x="262" y="643"/>
                </a:lnTo>
                <a:lnTo>
                  <a:pt x="262" y="654"/>
                </a:lnTo>
                <a:lnTo>
                  <a:pt x="273" y="665"/>
                </a:lnTo>
                <a:lnTo>
                  <a:pt x="279" y="671"/>
                </a:lnTo>
                <a:lnTo>
                  <a:pt x="284" y="676"/>
                </a:lnTo>
                <a:lnTo>
                  <a:pt x="289" y="681"/>
                </a:lnTo>
                <a:lnTo>
                  <a:pt x="300" y="687"/>
                </a:lnTo>
                <a:lnTo>
                  <a:pt x="306" y="692"/>
                </a:lnTo>
                <a:lnTo>
                  <a:pt x="311" y="698"/>
                </a:lnTo>
                <a:lnTo>
                  <a:pt x="317" y="709"/>
                </a:lnTo>
                <a:lnTo>
                  <a:pt x="328" y="714"/>
                </a:lnTo>
                <a:lnTo>
                  <a:pt x="333" y="720"/>
                </a:lnTo>
                <a:lnTo>
                  <a:pt x="338" y="725"/>
                </a:lnTo>
                <a:lnTo>
                  <a:pt x="344" y="730"/>
                </a:lnTo>
                <a:lnTo>
                  <a:pt x="355" y="736"/>
                </a:lnTo>
                <a:lnTo>
                  <a:pt x="360" y="741"/>
                </a:lnTo>
                <a:lnTo>
                  <a:pt x="366" y="747"/>
                </a:lnTo>
                <a:lnTo>
                  <a:pt x="371" y="752"/>
                </a:lnTo>
                <a:lnTo>
                  <a:pt x="377" y="763"/>
                </a:lnTo>
                <a:lnTo>
                  <a:pt x="388" y="769"/>
                </a:lnTo>
                <a:lnTo>
                  <a:pt x="393" y="780"/>
                </a:lnTo>
                <a:lnTo>
                  <a:pt x="393" y="785"/>
                </a:lnTo>
                <a:lnTo>
                  <a:pt x="388" y="796"/>
                </a:lnTo>
                <a:lnTo>
                  <a:pt x="382" y="807"/>
                </a:lnTo>
                <a:lnTo>
                  <a:pt x="382" y="818"/>
                </a:lnTo>
                <a:lnTo>
                  <a:pt x="377" y="829"/>
                </a:lnTo>
                <a:lnTo>
                  <a:pt x="371" y="839"/>
                </a:lnTo>
                <a:lnTo>
                  <a:pt x="371" y="850"/>
                </a:lnTo>
                <a:lnTo>
                  <a:pt x="366" y="856"/>
                </a:lnTo>
                <a:lnTo>
                  <a:pt x="366" y="867"/>
                </a:lnTo>
                <a:lnTo>
                  <a:pt x="360" y="878"/>
                </a:lnTo>
                <a:lnTo>
                  <a:pt x="355" y="889"/>
                </a:lnTo>
                <a:lnTo>
                  <a:pt x="355" y="899"/>
                </a:lnTo>
                <a:lnTo>
                  <a:pt x="349" y="910"/>
                </a:lnTo>
                <a:lnTo>
                  <a:pt x="344" y="916"/>
                </a:lnTo>
                <a:lnTo>
                  <a:pt x="338" y="927"/>
                </a:lnTo>
                <a:lnTo>
                  <a:pt x="333" y="938"/>
                </a:lnTo>
                <a:lnTo>
                  <a:pt x="328" y="943"/>
                </a:lnTo>
                <a:lnTo>
                  <a:pt x="322" y="954"/>
                </a:lnTo>
                <a:lnTo>
                  <a:pt x="317" y="959"/>
                </a:lnTo>
                <a:lnTo>
                  <a:pt x="311" y="970"/>
                </a:lnTo>
                <a:lnTo>
                  <a:pt x="306" y="976"/>
                </a:lnTo>
                <a:lnTo>
                  <a:pt x="300" y="987"/>
                </a:lnTo>
                <a:lnTo>
                  <a:pt x="295" y="992"/>
                </a:lnTo>
                <a:lnTo>
                  <a:pt x="289" y="1003"/>
                </a:lnTo>
                <a:lnTo>
                  <a:pt x="284" y="1008"/>
                </a:lnTo>
                <a:lnTo>
                  <a:pt x="279" y="1019"/>
                </a:lnTo>
                <a:lnTo>
                  <a:pt x="273" y="1030"/>
                </a:lnTo>
                <a:lnTo>
                  <a:pt x="268" y="1036"/>
                </a:lnTo>
                <a:lnTo>
                  <a:pt x="262" y="1047"/>
                </a:lnTo>
                <a:lnTo>
                  <a:pt x="257" y="1052"/>
                </a:lnTo>
                <a:lnTo>
                  <a:pt x="251" y="1063"/>
                </a:lnTo>
                <a:lnTo>
                  <a:pt x="246" y="1068"/>
                </a:lnTo>
                <a:lnTo>
                  <a:pt x="240" y="1079"/>
                </a:lnTo>
                <a:lnTo>
                  <a:pt x="235" y="1085"/>
                </a:lnTo>
                <a:lnTo>
                  <a:pt x="229" y="1096"/>
                </a:lnTo>
                <a:lnTo>
                  <a:pt x="224" y="1101"/>
                </a:lnTo>
                <a:lnTo>
                  <a:pt x="219" y="1112"/>
                </a:lnTo>
                <a:lnTo>
                  <a:pt x="213" y="1123"/>
                </a:lnTo>
                <a:lnTo>
                  <a:pt x="208" y="1128"/>
                </a:lnTo>
                <a:lnTo>
                  <a:pt x="202" y="1139"/>
                </a:lnTo>
                <a:lnTo>
                  <a:pt x="197" y="1145"/>
                </a:lnTo>
                <a:lnTo>
                  <a:pt x="191" y="1156"/>
                </a:lnTo>
                <a:lnTo>
                  <a:pt x="191" y="1161"/>
                </a:lnTo>
                <a:lnTo>
                  <a:pt x="186" y="1172"/>
                </a:lnTo>
                <a:lnTo>
                  <a:pt x="180" y="1183"/>
                </a:lnTo>
                <a:lnTo>
                  <a:pt x="175" y="1188"/>
                </a:lnTo>
                <a:lnTo>
                  <a:pt x="169" y="1199"/>
                </a:lnTo>
                <a:lnTo>
                  <a:pt x="164" y="1205"/>
                </a:lnTo>
                <a:lnTo>
                  <a:pt x="159" y="1216"/>
                </a:lnTo>
                <a:lnTo>
                  <a:pt x="153" y="1226"/>
                </a:lnTo>
                <a:lnTo>
                  <a:pt x="148" y="1232"/>
                </a:lnTo>
                <a:lnTo>
                  <a:pt x="148" y="1243"/>
                </a:lnTo>
                <a:lnTo>
                  <a:pt x="142" y="1254"/>
                </a:lnTo>
                <a:lnTo>
                  <a:pt x="137" y="1265"/>
                </a:lnTo>
                <a:lnTo>
                  <a:pt x="131" y="1270"/>
                </a:lnTo>
                <a:lnTo>
                  <a:pt x="126" y="1281"/>
                </a:lnTo>
                <a:lnTo>
                  <a:pt x="120" y="1292"/>
                </a:lnTo>
                <a:lnTo>
                  <a:pt x="120" y="1297"/>
                </a:lnTo>
                <a:lnTo>
                  <a:pt x="115" y="1308"/>
                </a:lnTo>
                <a:lnTo>
                  <a:pt x="109" y="1319"/>
                </a:lnTo>
                <a:lnTo>
                  <a:pt x="104" y="1330"/>
                </a:lnTo>
                <a:lnTo>
                  <a:pt x="99" y="1335"/>
                </a:lnTo>
                <a:lnTo>
                  <a:pt x="99" y="1346"/>
                </a:lnTo>
                <a:lnTo>
                  <a:pt x="93" y="1357"/>
                </a:lnTo>
                <a:lnTo>
                  <a:pt x="88" y="1368"/>
                </a:lnTo>
                <a:lnTo>
                  <a:pt x="82" y="1374"/>
                </a:lnTo>
                <a:lnTo>
                  <a:pt x="77" y="1385"/>
                </a:lnTo>
                <a:lnTo>
                  <a:pt x="77" y="1395"/>
                </a:lnTo>
                <a:lnTo>
                  <a:pt x="71" y="1401"/>
                </a:lnTo>
                <a:lnTo>
                  <a:pt x="66" y="1412"/>
                </a:lnTo>
                <a:lnTo>
                  <a:pt x="60" y="1423"/>
                </a:lnTo>
                <a:lnTo>
                  <a:pt x="55" y="1434"/>
                </a:lnTo>
                <a:lnTo>
                  <a:pt x="50" y="1439"/>
                </a:lnTo>
                <a:lnTo>
                  <a:pt x="50" y="1450"/>
                </a:lnTo>
                <a:lnTo>
                  <a:pt x="44" y="1461"/>
                </a:lnTo>
                <a:lnTo>
                  <a:pt x="44" y="1472"/>
                </a:lnTo>
                <a:lnTo>
                  <a:pt x="44" y="1483"/>
                </a:lnTo>
                <a:lnTo>
                  <a:pt x="39" y="1494"/>
                </a:lnTo>
                <a:lnTo>
                  <a:pt x="39" y="1504"/>
                </a:lnTo>
                <a:lnTo>
                  <a:pt x="39" y="1515"/>
                </a:lnTo>
                <a:lnTo>
                  <a:pt x="39" y="1532"/>
                </a:lnTo>
                <a:lnTo>
                  <a:pt x="39" y="1543"/>
                </a:lnTo>
                <a:lnTo>
                  <a:pt x="39" y="1553"/>
                </a:lnTo>
                <a:lnTo>
                  <a:pt x="39" y="1564"/>
                </a:lnTo>
                <a:lnTo>
                  <a:pt x="33" y="1575"/>
                </a:lnTo>
                <a:lnTo>
                  <a:pt x="33" y="1586"/>
                </a:lnTo>
                <a:lnTo>
                  <a:pt x="33" y="1597"/>
                </a:lnTo>
                <a:lnTo>
                  <a:pt x="33" y="1608"/>
                </a:lnTo>
                <a:lnTo>
                  <a:pt x="33" y="1619"/>
                </a:lnTo>
                <a:lnTo>
                  <a:pt x="33" y="1630"/>
                </a:lnTo>
                <a:lnTo>
                  <a:pt x="28" y="1641"/>
                </a:lnTo>
                <a:lnTo>
                  <a:pt x="28" y="1652"/>
                </a:lnTo>
                <a:lnTo>
                  <a:pt x="28" y="1662"/>
                </a:lnTo>
                <a:lnTo>
                  <a:pt x="28" y="1673"/>
                </a:lnTo>
                <a:lnTo>
                  <a:pt x="28" y="1684"/>
                </a:lnTo>
                <a:lnTo>
                  <a:pt x="28" y="1695"/>
                </a:lnTo>
                <a:lnTo>
                  <a:pt x="22" y="1706"/>
                </a:lnTo>
                <a:lnTo>
                  <a:pt x="22" y="1722"/>
                </a:lnTo>
                <a:lnTo>
                  <a:pt x="22" y="1733"/>
                </a:lnTo>
                <a:lnTo>
                  <a:pt x="22" y="1744"/>
                </a:lnTo>
                <a:lnTo>
                  <a:pt x="22" y="1755"/>
                </a:lnTo>
                <a:lnTo>
                  <a:pt x="22" y="1766"/>
                </a:lnTo>
                <a:lnTo>
                  <a:pt x="17" y="1777"/>
                </a:lnTo>
                <a:lnTo>
                  <a:pt x="17" y="1788"/>
                </a:lnTo>
                <a:lnTo>
                  <a:pt x="17" y="1799"/>
                </a:lnTo>
                <a:lnTo>
                  <a:pt x="17" y="1810"/>
                </a:lnTo>
                <a:lnTo>
                  <a:pt x="17" y="1821"/>
                </a:lnTo>
                <a:lnTo>
                  <a:pt x="17" y="1831"/>
                </a:lnTo>
                <a:lnTo>
                  <a:pt x="11" y="1842"/>
                </a:lnTo>
                <a:lnTo>
                  <a:pt x="11" y="1853"/>
                </a:lnTo>
                <a:lnTo>
                  <a:pt x="11" y="1864"/>
                </a:lnTo>
                <a:lnTo>
                  <a:pt x="11" y="1875"/>
                </a:lnTo>
                <a:lnTo>
                  <a:pt x="11" y="1886"/>
                </a:lnTo>
                <a:lnTo>
                  <a:pt x="11" y="1897"/>
                </a:lnTo>
                <a:lnTo>
                  <a:pt x="6" y="1913"/>
                </a:lnTo>
                <a:lnTo>
                  <a:pt x="6" y="1924"/>
                </a:lnTo>
                <a:lnTo>
                  <a:pt x="6" y="1935"/>
                </a:lnTo>
                <a:lnTo>
                  <a:pt x="6" y="1946"/>
                </a:lnTo>
                <a:lnTo>
                  <a:pt x="0" y="1957"/>
                </a:lnTo>
                <a:lnTo>
                  <a:pt x="0" y="1968"/>
                </a:lnTo>
                <a:lnTo>
                  <a:pt x="0" y="1979"/>
                </a:lnTo>
                <a:lnTo>
                  <a:pt x="6" y="1990"/>
                </a:lnTo>
                <a:lnTo>
                  <a:pt x="6" y="2000"/>
                </a:lnTo>
                <a:lnTo>
                  <a:pt x="11" y="2006"/>
                </a:lnTo>
                <a:lnTo>
                  <a:pt x="17" y="2017"/>
                </a:lnTo>
                <a:lnTo>
                  <a:pt x="17" y="2028"/>
                </a:lnTo>
                <a:lnTo>
                  <a:pt x="22" y="2039"/>
                </a:lnTo>
                <a:lnTo>
                  <a:pt x="22" y="2049"/>
                </a:lnTo>
                <a:lnTo>
                  <a:pt x="22" y="2060"/>
                </a:lnTo>
                <a:lnTo>
                  <a:pt x="22" y="2071"/>
                </a:lnTo>
                <a:lnTo>
                  <a:pt x="28" y="2082"/>
                </a:lnTo>
                <a:lnTo>
                  <a:pt x="28" y="2093"/>
                </a:lnTo>
                <a:lnTo>
                  <a:pt x="33" y="2104"/>
                </a:lnTo>
                <a:lnTo>
                  <a:pt x="33" y="2115"/>
                </a:lnTo>
                <a:lnTo>
                  <a:pt x="39" y="2126"/>
                </a:lnTo>
                <a:lnTo>
                  <a:pt x="44" y="2131"/>
                </a:lnTo>
                <a:lnTo>
                  <a:pt x="50" y="2142"/>
                </a:lnTo>
                <a:lnTo>
                  <a:pt x="55" y="2153"/>
                </a:lnTo>
                <a:lnTo>
                  <a:pt x="55" y="2164"/>
                </a:lnTo>
                <a:lnTo>
                  <a:pt x="60" y="2175"/>
                </a:lnTo>
                <a:lnTo>
                  <a:pt x="60" y="2186"/>
                </a:lnTo>
                <a:lnTo>
                  <a:pt x="66" y="2191"/>
                </a:lnTo>
                <a:lnTo>
                  <a:pt x="66" y="2202"/>
                </a:lnTo>
                <a:lnTo>
                  <a:pt x="71" y="2213"/>
                </a:lnTo>
                <a:lnTo>
                  <a:pt x="77" y="2224"/>
                </a:lnTo>
                <a:lnTo>
                  <a:pt x="77" y="2235"/>
                </a:lnTo>
                <a:lnTo>
                  <a:pt x="77" y="2246"/>
                </a:lnTo>
                <a:lnTo>
                  <a:pt x="82" y="2257"/>
                </a:lnTo>
                <a:lnTo>
                  <a:pt x="88" y="2267"/>
                </a:lnTo>
                <a:lnTo>
                  <a:pt x="88" y="2278"/>
                </a:lnTo>
                <a:lnTo>
                  <a:pt x="99" y="2284"/>
                </a:lnTo>
                <a:lnTo>
                  <a:pt x="104" y="2284"/>
                </a:lnTo>
                <a:lnTo>
                  <a:pt x="115" y="2284"/>
                </a:lnTo>
                <a:lnTo>
                  <a:pt x="120" y="2289"/>
                </a:lnTo>
                <a:lnTo>
                  <a:pt x="131" y="2289"/>
                </a:lnTo>
                <a:lnTo>
                  <a:pt x="137" y="2295"/>
                </a:lnTo>
                <a:lnTo>
                  <a:pt x="142" y="2300"/>
                </a:lnTo>
                <a:lnTo>
                  <a:pt x="148" y="2311"/>
                </a:lnTo>
                <a:lnTo>
                  <a:pt x="159" y="2317"/>
                </a:lnTo>
                <a:lnTo>
                  <a:pt x="164" y="2317"/>
                </a:lnTo>
                <a:lnTo>
                  <a:pt x="175" y="2311"/>
                </a:lnTo>
                <a:lnTo>
                  <a:pt x="180" y="2306"/>
                </a:lnTo>
                <a:lnTo>
                  <a:pt x="186" y="2300"/>
                </a:lnTo>
                <a:lnTo>
                  <a:pt x="197" y="2295"/>
                </a:lnTo>
                <a:lnTo>
                  <a:pt x="202" y="2295"/>
                </a:lnTo>
                <a:lnTo>
                  <a:pt x="213" y="2295"/>
                </a:lnTo>
                <a:lnTo>
                  <a:pt x="224" y="2295"/>
                </a:lnTo>
                <a:lnTo>
                  <a:pt x="229" y="2289"/>
                </a:lnTo>
                <a:lnTo>
                  <a:pt x="235" y="2284"/>
                </a:lnTo>
                <a:lnTo>
                  <a:pt x="240" y="2278"/>
                </a:lnTo>
                <a:lnTo>
                  <a:pt x="240" y="2267"/>
                </a:lnTo>
                <a:lnTo>
                  <a:pt x="240" y="2257"/>
                </a:lnTo>
                <a:lnTo>
                  <a:pt x="246" y="2246"/>
                </a:lnTo>
                <a:lnTo>
                  <a:pt x="257" y="2240"/>
                </a:lnTo>
                <a:lnTo>
                  <a:pt x="262" y="2235"/>
                </a:lnTo>
                <a:lnTo>
                  <a:pt x="273" y="2235"/>
                </a:lnTo>
                <a:lnTo>
                  <a:pt x="279" y="2229"/>
                </a:lnTo>
                <a:lnTo>
                  <a:pt x="289" y="2229"/>
                </a:lnTo>
                <a:lnTo>
                  <a:pt x="295" y="2229"/>
                </a:lnTo>
                <a:lnTo>
                  <a:pt x="306" y="2229"/>
                </a:lnTo>
                <a:lnTo>
                  <a:pt x="311" y="2235"/>
                </a:lnTo>
                <a:lnTo>
                  <a:pt x="322" y="2240"/>
                </a:lnTo>
                <a:lnTo>
                  <a:pt x="328" y="2246"/>
                </a:lnTo>
                <a:lnTo>
                  <a:pt x="338" y="2251"/>
                </a:lnTo>
                <a:lnTo>
                  <a:pt x="344" y="2262"/>
                </a:lnTo>
                <a:lnTo>
                  <a:pt x="344" y="2267"/>
                </a:lnTo>
                <a:lnTo>
                  <a:pt x="344" y="2278"/>
                </a:lnTo>
                <a:lnTo>
                  <a:pt x="338" y="2289"/>
                </a:lnTo>
                <a:lnTo>
                  <a:pt x="333" y="2295"/>
                </a:lnTo>
                <a:lnTo>
                  <a:pt x="322" y="2300"/>
                </a:lnTo>
                <a:lnTo>
                  <a:pt x="311" y="2306"/>
                </a:lnTo>
                <a:lnTo>
                  <a:pt x="300" y="2306"/>
                </a:lnTo>
                <a:lnTo>
                  <a:pt x="289" y="2306"/>
                </a:lnTo>
                <a:lnTo>
                  <a:pt x="284" y="2306"/>
                </a:lnTo>
                <a:lnTo>
                  <a:pt x="279" y="2306"/>
                </a:lnTo>
                <a:lnTo>
                  <a:pt x="284" y="2311"/>
                </a:lnTo>
                <a:lnTo>
                  <a:pt x="289" y="2317"/>
                </a:lnTo>
                <a:lnTo>
                  <a:pt x="300" y="2322"/>
                </a:lnTo>
                <a:lnTo>
                  <a:pt x="311" y="2327"/>
                </a:lnTo>
                <a:lnTo>
                  <a:pt x="317" y="2333"/>
                </a:lnTo>
                <a:lnTo>
                  <a:pt x="328" y="2333"/>
                </a:lnTo>
                <a:lnTo>
                  <a:pt x="333" y="2333"/>
                </a:lnTo>
                <a:lnTo>
                  <a:pt x="338" y="2333"/>
                </a:lnTo>
                <a:lnTo>
                  <a:pt x="349" y="2333"/>
                </a:lnTo>
                <a:lnTo>
                  <a:pt x="360" y="2338"/>
                </a:lnTo>
                <a:lnTo>
                  <a:pt x="371" y="2338"/>
                </a:lnTo>
                <a:lnTo>
                  <a:pt x="377" y="2338"/>
                </a:lnTo>
                <a:lnTo>
                  <a:pt x="382" y="2344"/>
                </a:lnTo>
                <a:lnTo>
                  <a:pt x="382" y="2344"/>
                </a:lnTo>
                <a:lnTo>
                  <a:pt x="371" y="2349"/>
                </a:lnTo>
                <a:lnTo>
                  <a:pt x="366" y="2349"/>
                </a:lnTo>
                <a:lnTo>
                  <a:pt x="355" y="2355"/>
                </a:lnTo>
                <a:lnTo>
                  <a:pt x="344" y="2360"/>
                </a:lnTo>
                <a:lnTo>
                  <a:pt x="333" y="2366"/>
                </a:lnTo>
                <a:lnTo>
                  <a:pt x="328" y="2376"/>
                </a:lnTo>
                <a:lnTo>
                  <a:pt x="328" y="2382"/>
                </a:lnTo>
                <a:lnTo>
                  <a:pt x="333" y="2387"/>
                </a:lnTo>
                <a:lnTo>
                  <a:pt x="344" y="2398"/>
                </a:lnTo>
                <a:lnTo>
                  <a:pt x="349" y="2404"/>
                </a:lnTo>
                <a:lnTo>
                  <a:pt x="355" y="2409"/>
                </a:lnTo>
                <a:lnTo>
                  <a:pt x="360" y="2420"/>
                </a:lnTo>
                <a:lnTo>
                  <a:pt x="371" y="2426"/>
                </a:lnTo>
                <a:lnTo>
                  <a:pt x="377" y="2426"/>
                </a:lnTo>
                <a:lnTo>
                  <a:pt x="388" y="2431"/>
                </a:lnTo>
                <a:lnTo>
                  <a:pt x="393" y="2431"/>
                </a:lnTo>
                <a:lnTo>
                  <a:pt x="404" y="2436"/>
                </a:lnTo>
                <a:lnTo>
                  <a:pt x="409" y="2442"/>
                </a:lnTo>
                <a:lnTo>
                  <a:pt x="420" y="2436"/>
                </a:lnTo>
                <a:lnTo>
                  <a:pt x="426" y="2436"/>
                </a:lnTo>
                <a:lnTo>
                  <a:pt x="431" y="2426"/>
                </a:lnTo>
                <a:lnTo>
                  <a:pt x="437" y="2415"/>
                </a:lnTo>
                <a:close/>
                <a:moveTo>
                  <a:pt x="1582" y="2306"/>
                </a:moveTo>
                <a:lnTo>
                  <a:pt x="1582" y="2289"/>
                </a:lnTo>
                <a:lnTo>
                  <a:pt x="1576" y="2284"/>
                </a:lnTo>
                <a:lnTo>
                  <a:pt x="1571" y="2278"/>
                </a:lnTo>
                <a:lnTo>
                  <a:pt x="1560" y="2284"/>
                </a:lnTo>
                <a:lnTo>
                  <a:pt x="1554" y="2289"/>
                </a:lnTo>
                <a:lnTo>
                  <a:pt x="1549" y="2300"/>
                </a:lnTo>
                <a:lnTo>
                  <a:pt x="1549" y="2311"/>
                </a:lnTo>
                <a:lnTo>
                  <a:pt x="1549" y="2322"/>
                </a:lnTo>
                <a:lnTo>
                  <a:pt x="1560" y="2333"/>
                </a:lnTo>
                <a:lnTo>
                  <a:pt x="1565" y="2338"/>
                </a:lnTo>
                <a:lnTo>
                  <a:pt x="1571" y="2338"/>
                </a:lnTo>
                <a:lnTo>
                  <a:pt x="1576" y="2333"/>
                </a:lnTo>
                <a:lnTo>
                  <a:pt x="1582" y="2322"/>
                </a:lnTo>
                <a:lnTo>
                  <a:pt x="1582" y="2306"/>
                </a:lnTo>
                <a:close/>
                <a:moveTo>
                  <a:pt x="1620" y="2191"/>
                </a:moveTo>
                <a:lnTo>
                  <a:pt x="1620" y="2180"/>
                </a:lnTo>
                <a:lnTo>
                  <a:pt x="1620" y="2175"/>
                </a:lnTo>
                <a:lnTo>
                  <a:pt x="1620" y="2164"/>
                </a:lnTo>
                <a:lnTo>
                  <a:pt x="1620" y="2153"/>
                </a:lnTo>
                <a:lnTo>
                  <a:pt x="1620" y="2142"/>
                </a:lnTo>
                <a:lnTo>
                  <a:pt x="1614" y="2131"/>
                </a:lnTo>
                <a:lnTo>
                  <a:pt x="1614" y="2120"/>
                </a:lnTo>
                <a:lnTo>
                  <a:pt x="1614" y="2109"/>
                </a:lnTo>
                <a:lnTo>
                  <a:pt x="1614" y="2099"/>
                </a:lnTo>
                <a:lnTo>
                  <a:pt x="1609" y="2088"/>
                </a:lnTo>
                <a:lnTo>
                  <a:pt x="1609" y="2077"/>
                </a:lnTo>
                <a:lnTo>
                  <a:pt x="1609" y="2066"/>
                </a:lnTo>
                <a:lnTo>
                  <a:pt x="1609" y="2055"/>
                </a:lnTo>
                <a:lnTo>
                  <a:pt x="1609" y="2044"/>
                </a:lnTo>
                <a:lnTo>
                  <a:pt x="1603" y="2039"/>
                </a:lnTo>
                <a:lnTo>
                  <a:pt x="1603" y="2028"/>
                </a:lnTo>
                <a:lnTo>
                  <a:pt x="1603" y="2017"/>
                </a:lnTo>
                <a:lnTo>
                  <a:pt x="1603" y="2006"/>
                </a:lnTo>
                <a:lnTo>
                  <a:pt x="1598" y="1995"/>
                </a:lnTo>
                <a:lnTo>
                  <a:pt x="1593" y="1984"/>
                </a:lnTo>
                <a:lnTo>
                  <a:pt x="1587" y="1979"/>
                </a:lnTo>
                <a:lnTo>
                  <a:pt x="1582" y="1973"/>
                </a:lnTo>
                <a:lnTo>
                  <a:pt x="1576" y="1968"/>
                </a:lnTo>
                <a:lnTo>
                  <a:pt x="1571" y="1962"/>
                </a:lnTo>
                <a:lnTo>
                  <a:pt x="1560" y="1968"/>
                </a:lnTo>
                <a:lnTo>
                  <a:pt x="1554" y="1973"/>
                </a:lnTo>
                <a:lnTo>
                  <a:pt x="1549" y="1973"/>
                </a:lnTo>
                <a:lnTo>
                  <a:pt x="1538" y="1979"/>
                </a:lnTo>
                <a:lnTo>
                  <a:pt x="1533" y="1979"/>
                </a:lnTo>
                <a:lnTo>
                  <a:pt x="1527" y="1984"/>
                </a:lnTo>
                <a:lnTo>
                  <a:pt x="1522" y="1995"/>
                </a:lnTo>
                <a:lnTo>
                  <a:pt x="1516" y="2000"/>
                </a:lnTo>
                <a:lnTo>
                  <a:pt x="1505" y="2006"/>
                </a:lnTo>
                <a:lnTo>
                  <a:pt x="1500" y="2011"/>
                </a:lnTo>
                <a:lnTo>
                  <a:pt x="1494" y="2017"/>
                </a:lnTo>
                <a:lnTo>
                  <a:pt x="1489" y="2022"/>
                </a:lnTo>
                <a:lnTo>
                  <a:pt x="1483" y="2028"/>
                </a:lnTo>
                <a:lnTo>
                  <a:pt x="1478" y="2033"/>
                </a:lnTo>
                <a:lnTo>
                  <a:pt x="1473" y="2044"/>
                </a:lnTo>
                <a:lnTo>
                  <a:pt x="1467" y="2049"/>
                </a:lnTo>
                <a:lnTo>
                  <a:pt x="1462" y="2060"/>
                </a:lnTo>
                <a:lnTo>
                  <a:pt x="1456" y="2066"/>
                </a:lnTo>
                <a:lnTo>
                  <a:pt x="1451" y="2077"/>
                </a:lnTo>
                <a:lnTo>
                  <a:pt x="1445" y="2082"/>
                </a:lnTo>
                <a:lnTo>
                  <a:pt x="1445" y="2093"/>
                </a:lnTo>
                <a:lnTo>
                  <a:pt x="1445" y="2104"/>
                </a:lnTo>
                <a:lnTo>
                  <a:pt x="1445" y="2115"/>
                </a:lnTo>
                <a:lnTo>
                  <a:pt x="1445" y="2126"/>
                </a:lnTo>
                <a:lnTo>
                  <a:pt x="1451" y="2131"/>
                </a:lnTo>
                <a:lnTo>
                  <a:pt x="1456" y="2142"/>
                </a:lnTo>
                <a:lnTo>
                  <a:pt x="1467" y="2148"/>
                </a:lnTo>
                <a:lnTo>
                  <a:pt x="1473" y="2148"/>
                </a:lnTo>
                <a:lnTo>
                  <a:pt x="1478" y="2153"/>
                </a:lnTo>
                <a:lnTo>
                  <a:pt x="1483" y="2153"/>
                </a:lnTo>
                <a:lnTo>
                  <a:pt x="1494" y="2158"/>
                </a:lnTo>
                <a:lnTo>
                  <a:pt x="1500" y="2164"/>
                </a:lnTo>
                <a:lnTo>
                  <a:pt x="1505" y="2164"/>
                </a:lnTo>
                <a:lnTo>
                  <a:pt x="1516" y="2169"/>
                </a:lnTo>
                <a:lnTo>
                  <a:pt x="1522" y="2175"/>
                </a:lnTo>
                <a:lnTo>
                  <a:pt x="1527" y="2175"/>
                </a:lnTo>
                <a:lnTo>
                  <a:pt x="1538" y="2180"/>
                </a:lnTo>
                <a:lnTo>
                  <a:pt x="1543" y="2186"/>
                </a:lnTo>
                <a:lnTo>
                  <a:pt x="1549" y="2186"/>
                </a:lnTo>
                <a:lnTo>
                  <a:pt x="1560" y="2191"/>
                </a:lnTo>
                <a:lnTo>
                  <a:pt x="1565" y="2197"/>
                </a:lnTo>
                <a:lnTo>
                  <a:pt x="1571" y="2197"/>
                </a:lnTo>
                <a:lnTo>
                  <a:pt x="1576" y="2202"/>
                </a:lnTo>
                <a:lnTo>
                  <a:pt x="1587" y="2213"/>
                </a:lnTo>
                <a:lnTo>
                  <a:pt x="1593" y="2218"/>
                </a:lnTo>
                <a:lnTo>
                  <a:pt x="1603" y="2218"/>
                </a:lnTo>
                <a:lnTo>
                  <a:pt x="1609" y="2218"/>
                </a:lnTo>
                <a:lnTo>
                  <a:pt x="1614" y="2213"/>
                </a:lnTo>
                <a:lnTo>
                  <a:pt x="1614" y="2208"/>
                </a:lnTo>
                <a:lnTo>
                  <a:pt x="1620" y="2191"/>
                </a:lnTo>
                <a:close/>
                <a:moveTo>
                  <a:pt x="1244" y="2120"/>
                </a:moveTo>
                <a:lnTo>
                  <a:pt x="1244" y="2109"/>
                </a:lnTo>
                <a:lnTo>
                  <a:pt x="1238" y="2099"/>
                </a:lnTo>
                <a:lnTo>
                  <a:pt x="1238" y="2088"/>
                </a:lnTo>
                <a:lnTo>
                  <a:pt x="1238" y="2071"/>
                </a:lnTo>
                <a:lnTo>
                  <a:pt x="1238" y="2060"/>
                </a:lnTo>
                <a:lnTo>
                  <a:pt x="1233" y="2049"/>
                </a:lnTo>
                <a:lnTo>
                  <a:pt x="1233" y="2039"/>
                </a:lnTo>
                <a:lnTo>
                  <a:pt x="1233" y="2028"/>
                </a:lnTo>
                <a:lnTo>
                  <a:pt x="1233" y="2017"/>
                </a:lnTo>
                <a:lnTo>
                  <a:pt x="1227" y="2006"/>
                </a:lnTo>
                <a:lnTo>
                  <a:pt x="1227" y="1995"/>
                </a:lnTo>
                <a:lnTo>
                  <a:pt x="1222" y="1990"/>
                </a:lnTo>
                <a:lnTo>
                  <a:pt x="1211" y="1979"/>
                </a:lnTo>
                <a:lnTo>
                  <a:pt x="1205" y="1973"/>
                </a:lnTo>
                <a:lnTo>
                  <a:pt x="1200" y="1962"/>
                </a:lnTo>
                <a:lnTo>
                  <a:pt x="1195" y="1962"/>
                </a:lnTo>
                <a:lnTo>
                  <a:pt x="1184" y="1957"/>
                </a:lnTo>
                <a:lnTo>
                  <a:pt x="1178" y="1957"/>
                </a:lnTo>
                <a:lnTo>
                  <a:pt x="1167" y="1957"/>
                </a:lnTo>
                <a:lnTo>
                  <a:pt x="1162" y="1957"/>
                </a:lnTo>
                <a:lnTo>
                  <a:pt x="1151" y="1957"/>
                </a:lnTo>
                <a:lnTo>
                  <a:pt x="1145" y="1962"/>
                </a:lnTo>
                <a:lnTo>
                  <a:pt x="1135" y="1968"/>
                </a:lnTo>
                <a:lnTo>
                  <a:pt x="1129" y="1968"/>
                </a:lnTo>
                <a:lnTo>
                  <a:pt x="1118" y="1968"/>
                </a:lnTo>
                <a:lnTo>
                  <a:pt x="1113" y="1968"/>
                </a:lnTo>
                <a:lnTo>
                  <a:pt x="1102" y="1968"/>
                </a:lnTo>
                <a:lnTo>
                  <a:pt x="1096" y="1973"/>
                </a:lnTo>
                <a:lnTo>
                  <a:pt x="1085" y="1973"/>
                </a:lnTo>
                <a:lnTo>
                  <a:pt x="1080" y="1973"/>
                </a:lnTo>
                <a:lnTo>
                  <a:pt x="1069" y="1973"/>
                </a:lnTo>
                <a:lnTo>
                  <a:pt x="1064" y="1973"/>
                </a:lnTo>
                <a:lnTo>
                  <a:pt x="1053" y="1979"/>
                </a:lnTo>
                <a:lnTo>
                  <a:pt x="1047" y="1984"/>
                </a:lnTo>
                <a:lnTo>
                  <a:pt x="1036" y="1990"/>
                </a:lnTo>
                <a:lnTo>
                  <a:pt x="1025" y="2000"/>
                </a:lnTo>
                <a:lnTo>
                  <a:pt x="1025" y="2006"/>
                </a:lnTo>
                <a:lnTo>
                  <a:pt x="1025" y="2011"/>
                </a:lnTo>
                <a:lnTo>
                  <a:pt x="1036" y="2011"/>
                </a:lnTo>
                <a:lnTo>
                  <a:pt x="1047" y="2017"/>
                </a:lnTo>
                <a:lnTo>
                  <a:pt x="1053" y="2022"/>
                </a:lnTo>
                <a:lnTo>
                  <a:pt x="1064" y="2028"/>
                </a:lnTo>
                <a:lnTo>
                  <a:pt x="1069" y="2039"/>
                </a:lnTo>
                <a:lnTo>
                  <a:pt x="1069" y="2049"/>
                </a:lnTo>
                <a:lnTo>
                  <a:pt x="1069" y="2060"/>
                </a:lnTo>
                <a:lnTo>
                  <a:pt x="1075" y="2071"/>
                </a:lnTo>
                <a:lnTo>
                  <a:pt x="1075" y="2082"/>
                </a:lnTo>
                <a:lnTo>
                  <a:pt x="1080" y="2088"/>
                </a:lnTo>
                <a:lnTo>
                  <a:pt x="1091" y="2093"/>
                </a:lnTo>
                <a:lnTo>
                  <a:pt x="1096" y="2099"/>
                </a:lnTo>
                <a:lnTo>
                  <a:pt x="1107" y="2099"/>
                </a:lnTo>
                <a:lnTo>
                  <a:pt x="1113" y="2104"/>
                </a:lnTo>
                <a:lnTo>
                  <a:pt x="1124" y="2104"/>
                </a:lnTo>
                <a:lnTo>
                  <a:pt x="1129" y="2104"/>
                </a:lnTo>
                <a:lnTo>
                  <a:pt x="1140" y="2109"/>
                </a:lnTo>
                <a:lnTo>
                  <a:pt x="1145" y="2109"/>
                </a:lnTo>
                <a:lnTo>
                  <a:pt x="1156" y="2109"/>
                </a:lnTo>
                <a:lnTo>
                  <a:pt x="1162" y="2115"/>
                </a:lnTo>
                <a:lnTo>
                  <a:pt x="1167" y="2120"/>
                </a:lnTo>
                <a:lnTo>
                  <a:pt x="1178" y="2126"/>
                </a:lnTo>
                <a:lnTo>
                  <a:pt x="1184" y="2126"/>
                </a:lnTo>
                <a:lnTo>
                  <a:pt x="1195" y="2126"/>
                </a:lnTo>
                <a:lnTo>
                  <a:pt x="1200" y="2131"/>
                </a:lnTo>
                <a:lnTo>
                  <a:pt x="1211" y="2131"/>
                </a:lnTo>
                <a:lnTo>
                  <a:pt x="1216" y="2131"/>
                </a:lnTo>
                <a:lnTo>
                  <a:pt x="1227" y="2126"/>
                </a:lnTo>
                <a:lnTo>
                  <a:pt x="1233" y="2126"/>
                </a:lnTo>
                <a:lnTo>
                  <a:pt x="1244" y="2120"/>
                </a:lnTo>
                <a:close/>
                <a:moveTo>
                  <a:pt x="55" y="1935"/>
                </a:moveTo>
                <a:lnTo>
                  <a:pt x="66" y="1919"/>
                </a:lnTo>
                <a:lnTo>
                  <a:pt x="77" y="1908"/>
                </a:lnTo>
                <a:lnTo>
                  <a:pt x="82" y="1902"/>
                </a:lnTo>
                <a:lnTo>
                  <a:pt x="93" y="1908"/>
                </a:lnTo>
                <a:lnTo>
                  <a:pt x="109" y="1919"/>
                </a:lnTo>
                <a:lnTo>
                  <a:pt x="120" y="1930"/>
                </a:lnTo>
                <a:lnTo>
                  <a:pt x="126" y="1935"/>
                </a:lnTo>
                <a:lnTo>
                  <a:pt x="126" y="1924"/>
                </a:lnTo>
                <a:lnTo>
                  <a:pt x="126" y="1908"/>
                </a:lnTo>
                <a:lnTo>
                  <a:pt x="131" y="1886"/>
                </a:lnTo>
                <a:lnTo>
                  <a:pt x="137" y="1875"/>
                </a:lnTo>
                <a:lnTo>
                  <a:pt x="148" y="1864"/>
                </a:lnTo>
                <a:lnTo>
                  <a:pt x="159" y="1859"/>
                </a:lnTo>
                <a:lnTo>
                  <a:pt x="169" y="1859"/>
                </a:lnTo>
                <a:lnTo>
                  <a:pt x="180" y="1864"/>
                </a:lnTo>
                <a:lnTo>
                  <a:pt x="191" y="1875"/>
                </a:lnTo>
                <a:lnTo>
                  <a:pt x="202" y="1881"/>
                </a:lnTo>
                <a:lnTo>
                  <a:pt x="213" y="1886"/>
                </a:lnTo>
                <a:lnTo>
                  <a:pt x="219" y="1897"/>
                </a:lnTo>
                <a:lnTo>
                  <a:pt x="219" y="1908"/>
                </a:lnTo>
                <a:lnTo>
                  <a:pt x="213" y="1924"/>
                </a:lnTo>
                <a:lnTo>
                  <a:pt x="202" y="1935"/>
                </a:lnTo>
                <a:lnTo>
                  <a:pt x="186" y="1935"/>
                </a:lnTo>
                <a:lnTo>
                  <a:pt x="175" y="1935"/>
                </a:lnTo>
                <a:lnTo>
                  <a:pt x="164" y="1935"/>
                </a:lnTo>
                <a:lnTo>
                  <a:pt x="153" y="1930"/>
                </a:lnTo>
                <a:lnTo>
                  <a:pt x="142" y="1930"/>
                </a:lnTo>
                <a:lnTo>
                  <a:pt x="131" y="1930"/>
                </a:lnTo>
                <a:lnTo>
                  <a:pt x="120" y="1935"/>
                </a:lnTo>
                <a:lnTo>
                  <a:pt x="109" y="1940"/>
                </a:lnTo>
                <a:lnTo>
                  <a:pt x="99" y="1946"/>
                </a:lnTo>
                <a:lnTo>
                  <a:pt x="88" y="1946"/>
                </a:lnTo>
                <a:lnTo>
                  <a:pt x="77" y="1946"/>
                </a:lnTo>
                <a:lnTo>
                  <a:pt x="66" y="1940"/>
                </a:lnTo>
                <a:lnTo>
                  <a:pt x="55" y="1935"/>
                </a:lnTo>
                <a:close/>
                <a:moveTo>
                  <a:pt x="382" y="1897"/>
                </a:moveTo>
                <a:lnTo>
                  <a:pt x="377" y="1886"/>
                </a:lnTo>
                <a:lnTo>
                  <a:pt x="366" y="1875"/>
                </a:lnTo>
                <a:lnTo>
                  <a:pt x="360" y="1870"/>
                </a:lnTo>
                <a:lnTo>
                  <a:pt x="355" y="1864"/>
                </a:lnTo>
                <a:lnTo>
                  <a:pt x="344" y="1864"/>
                </a:lnTo>
                <a:lnTo>
                  <a:pt x="333" y="1864"/>
                </a:lnTo>
                <a:lnTo>
                  <a:pt x="328" y="1859"/>
                </a:lnTo>
                <a:lnTo>
                  <a:pt x="317" y="1853"/>
                </a:lnTo>
                <a:lnTo>
                  <a:pt x="311" y="1842"/>
                </a:lnTo>
                <a:lnTo>
                  <a:pt x="306" y="1831"/>
                </a:lnTo>
                <a:lnTo>
                  <a:pt x="300" y="1826"/>
                </a:lnTo>
                <a:lnTo>
                  <a:pt x="295" y="1815"/>
                </a:lnTo>
                <a:lnTo>
                  <a:pt x="289" y="1804"/>
                </a:lnTo>
                <a:lnTo>
                  <a:pt x="289" y="1788"/>
                </a:lnTo>
                <a:lnTo>
                  <a:pt x="289" y="1777"/>
                </a:lnTo>
                <a:lnTo>
                  <a:pt x="289" y="1766"/>
                </a:lnTo>
                <a:lnTo>
                  <a:pt x="289" y="1755"/>
                </a:lnTo>
                <a:lnTo>
                  <a:pt x="295" y="1739"/>
                </a:lnTo>
                <a:lnTo>
                  <a:pt x="295" y="1728"/>
                </a:lnTo>
                <a:lnTo>
                  <a:pt x="300" y="1717"/>
                </a:lnTo>
                <a:lnTo>
                  <a:pt x="306" y="1706"/>
                </a:lnTo>
                <a:lnTo>
                  <a:pt x="306" y="1695"/>
                </a:lnTo>
                <a:lnTo>
                  <a:pt x="311" y="1679"/>
                </a:lnTo>
                <a:lnTo>
                  <a:pt x="317" y="1668"/>
                </a:lnTo>
                <a:lnTo>
                  <a:pt x="317" y="1657"/>
                </a:lnTo>
                <a:lnTo>
                  <a:pt x="322" y="1646"/>
                </a:lnTo>
                <a:lnTo>
                  <a:pt x="328" y="1635"/>
                </a:lnTo>
                <a:lnTo>
                  <a:pt x="333" y="1630"/>
                </a:lnTo>
                <a:lnTo>
                  <a:pt x="344" y="1624"/>
                </a:lnTo>
                <a:lnTo>
                  <a:pt x="355" y="1619"/>
                </a:lnTo>
                <a:lnTo>
                  <a:pt x="360" y="1613"/>
                </a:lnTo>
                <a:lnTo>
                  <a:pt x="366" y="1608"/>
                </a:lnTo>
                <a:lnTo>
                  <a:pt x="377" y="1603"/>
                </a:lnTo>
                <a:lnTo>
                  <a:pt x="388" y="1603"/>
                </a:lnTo>
                <a:lnTo>
                  <a:pt x="398" y="1603"/>
                </a:lnTo>
                <a:lnTo>
                  <a:pt x="409" y="1603"/>
                </a:lnTo>
                <a:lnTo>
                  <a:pt x="420" y="1603"/>
                </a:lnTo>
                <a:lnTo>
                  <a:pt x="420" y="1597"/>
                </a:lnTo>
                <a:lnTo>
                  <a:pt x="420" y="1592"/>
                </a:lnTo>
                <a:lnTo>
                  <a:pt x="409" y="1581"/>
                </a:lnTo>
                <a:lnTo>
                  <a:pt x="398" y="1570"/>
                </a:lnTo>
                <a:lnTo>
                  <a:pt x="393" y="1564"/>
                </a:lnTo>
                <a:lnTo>
                  <a:pt x="388" y="1559"/>
                </a:lnTo>
                <a:lnTo>
                  <a:pt x="388" y="1564"/>
                </a:lnTo>
                <a:lnTo>
                  <a:pt x="393" y="1570"/>
                </a:lnTo>
                <a:lnTo>
                  <a:pt x="398" y="1581"/>
                </a:lnTo>
                <a:lnTo>
                  <a:pt x="409" y="1592"/>
                </a:lnTo>
                <a:lnTo>
                  <a:pt x="426" y="1597"/>
                </a:lnTo>
                <a:lnTo>
                  <a:pt x="437" y="1608"/>
                </a:lnTo>
                <a:lnTo>
                  <a:pt x="442" y="1613"/>
                </a:lnTo>
                <a:lnTo>
                  <a:pt x="453" y="1619"/>
                </a:lnTo>
                <a:lnTo>
                  <a:pt x="458" y="1630"/>
                </a:lnTo>
                <a:lnTo>
                  <a:pt x="458" y="1635"/>
                </a:lnTo>
                <a:lnTo>
                  <a:pt x="458" y="1646"/>
                </a:lnTo>
                <a:lnTo>
                  <a:pt x="458" y="1662"/>
                </a:lnTo>
                <a:lnTo>
                  <a:pt x="453" y="1673"/>
                </a:lnTo>
                <a:lnTo>
                  <a:pt x="448" y="1684"/>
                </a:lnTo>
                <a:lnTo>
                  <a:pt x="442" y="1695"/>
                </a:lnTo>
                <a:lnTo>
                  <a:pt x="442" y="1706"/>
                </a:lnTo>
                <a:lnTo>
                  <a:pt x="437" y="1717"/>
                </a:lnTo>
                <a:lnTo>
                  <a:pt x="437" y="1733"/>
                </a:lnTo>
                <a:lnTo>
                  <a:pt x="431" y="1744"/>
                </a:lnTo>
                <a:lnTo>
                  <a:pt x="420" y="1750"/>
                </a:lnTo>
                <a:lnTo>
                  <a:pt x="415" y="1761"/>
                </a:lnTo>
                <a:lnTo>
                  <a:pt x="409" y="1771"/>
                </a:lnTo>
                <a:lnTo>
                  <a:pt x="409" y="1782"/>
                </a:lnTo>
                <a:lnTo>
                  <a:pt x="404" y="1793"/>
                </a:lnTo>
                <a:lnTo>
                  <a:pt x="398" y="1804"/>
                </a:lnTo>
                <a:lnTo>
                  <a:pt x="398" y="1821"/>
                </a:lnTo>
                <a:lnTo>
                  <a:pt x="393" y="1831"/>
                </a:lnTo>
                <a:lnTo>
                  <a:pt x="393" y="1842"/>
                </a:lnTo>
                <a:lnTo>
                  <a:pt x="393" y="1859"/>
                </a:lnTo>
                <a:lnTo>
                  <a:pt x="393" y="1870"/>
                </a:lnTo>
                <a:lnTo>
                  <a:pt x="393" y="1881"/>
                </a:lnTo>
                <a:lnTo>
                  <a:pt x="388" y="1891"/>
                </a:lnTo>
                <a:lnTo>
                  <a:pt x="388" y="1908"/>
                </a:lnTo>
                <a:lnTo>
                  <a:pt x="388" y="1924"/>
                </a:lnTo>
                <a:lnTo>
                  <a:pt x="388" y="1924"/>
                </a:lnTo>
                <a:lnTo>
                  <a:pt x="382" y="1919"/>
                </a:lnTo>
                <a:lnTo>
                  <a:pt x="382" y="1897"/>
                </a:lnTo>
                <a:close/>
                <a:moveTo>
                  <a:pt x="448" y="1897"/>
                </a:moveTo>
                <a:lnTo>
                  <a:pt x="453" y="1891"/>
                </a:lnTo>
                <a:lnTo>
                  <a:pt x="453" y="1886"/>
                </a:lnTo>
                <a:lnTo>
                  <a:pt x="458" y="1881"/>
                </a:lnTo>
                <a:lnTo>
                  <a:pt x="464" y="1875"/>
                </a:lnTo>
                <a:lnTo>
                  <a:pt x="469" y="1875"/>
                </a:lnTo>
                <a:lnTo>
                  <a:pt x="475" y="1875"/>
                </a:lnTo>
                <a:lnTo>
                  <a:pt x="480" y="1870"/>
                </a:lnTo>
                <a:lnTo>
                  <a:pt x="486" y="1870"/>
                </a:lnTo>
                <a:lnTo>
                  <a:pt x="491" y="1864"/>
                </a:lnTo>
                <a:lnTo>
                  <a:pt x="497" y="1853"/>
                </a:lnTo>
                <a:lnTo>
                  <a:pt x="502" y="1859"/>
                </a:lnTo>
                <a:lnTo>
                  <a:pt x="497" y="1864"/>
                </a:lnTo>
                <a:lnTo>
                  <a:pt x="491" y="1870"/>
                </a:lnTo>
                <a:lnTo>
                  <a:pt x="486" y="1875"/>
                </a:lnTo>
                <a:lnTo>
                  <a:pt x="486" y="1881"/>
                </a:lnTo>
                <a:lnTo>
                  <a:pt x="480" y="1886"/>
                </a:lnTo>
                <a:lnTo>
                  <a:pt x="475" y="1891"/>
                </a:lnTo>
                <a:lnTo>
                  <a:pt x="475" y="1902"/>
                </a:lnTo>
                <a:lnTo>
                  <a:pt x="469" y="1908"/>
                </a:lnTo>
                <a:lnTo>
                  <a:pt x="469" y="1919"/>
                </a:lnTo>
                <a:lnTo>
                  <a:pt x="464" y="1924"/>
                </a:lnTo>
                <a:lnTo>
                  <a:pt x="458" y="1924"/>
                </a:lnTo>
                <a:lnTo>
                  <a:pt x="458" y="1924"/>
                </a:lnTo>
                <a:lnTo>
                  <a:pt x="453" y="1919"/>
                </a:lnTo>
                <a:lnTo>
                  <a:pt x="448" y="1908"/>
                </a:lnTo>
                <a:lnTo>
                  <a:pt x="448" y="1897"/>
                </a:lnTo>
                <a:close/>
                <a:moveTo>
                  <a:pt x="807" y="1897"/>
                </a:moveTo>
                <a:lnTo>
                  <a:pt x="796" y="1886"/>
                </a:lnTo>
                <a:lnTo>
                  <a:pt x="791" y="1881"/>
                </a:lnTo>
                <a:lnTo>
                  <a:pt x="780" y="1870"/>
                </a:lnTo>
                <a:lnTo>
                  <a:pt x="775" y="1864"/>
                </a:lnTo>
                <a:lnTo>
                  <a:pt x="764" y="1864"/>
                </a:lnTo>
                <a:lnTo>
                  <a:pt x="753" y="1864"/>
                </a:lnTo>
                <a:lnTo>
                  <a:pt x="742" y="1870"/>
                </a:lnTo>
                <a:lnTo>
                  <a:pt x="731" y="1875"/>
                </a:lnTo>
                <a:lnTo>
                  <a:pt x="720" y="1886"/>
                </a:lnTo>
                <a:lnTo>
                  <a:pt x="720" y="1897"/>
                </a:lnTo>
                <a:lnTo>
                  <a:pt x="720" y="1902"/>
                </a:lnTo>
                <a:lnTo>
                  <a:pt x="731" y="1913"/>
                </a:lnTo>
                <a:lnTo>
                  <a:pt x="742" y="1919"/>
                </a:lnTo>
                <a:lnTo>
                  <a:pt x="753" y="1924"/>
                </a:lnTo>
                <a:lnTo>
                  <a:pt x="764" y="1924"/>
                </a:lnTo>
                <a:lnTo>
                  <a:pt x="775" y="1924"/>
                </a:lnTo>
                <a:lnTo>
                  <a:pt x="780" y="1919"/>
                </a:lnTo>
                <a:lnTo>
                  <a:pt x="791" y="1913"/>
                </a:lnTo>
                <a:lnTo>
                  <a:pt x="796" y="1908"/>
                </a:lnTo>
                <a:lnTo>
                  <a:pt x="807" y="1897"/>
                </a:lnTo>
                <a:close/>
                <a:moveTo>
                  <a:pt x="1718" y="1897"/>
                </a:moveTo>
                <a:lnTo>
                  <a:pt x="1712" y="1886"/>
                </a:lnTo>
                <a:lnTo>
                  <a:pt x="1712" y="1875"/>
                </a:lnTo>
                <a:lnTo>
                  <a:pt x="1707" y="1859"/>
                </a:lnTo>
                <a:lnTo>
                  <a:pt x="1707" y="1848"/>
                </a:lnTo>
                <a:lnTo>
                  <a:pt x="1707" y="1837"/>
                </a:lnTo>
                <a:lnTo>
                  <a:pt x="1702" y="1826"/>
                </a:lnTo>
                <a:lnTo>
                  <a:pt x="1696" y="1815"/>
                </a:lnTo>
                <a:lnTo>
                  <a:pt x="1691" y="1810"/>
                </a:lnTo>
                <a:lnTo>
                  <a:pt x="1680" y="1804"/>
                </a:lnTo>
                <a:lnTo>
                  <a:pt x="1669" y="1799"/>
                </a:lnTo>
                <a:lnTo>
                  <a:pt x="1663" y="1793"/>
                </a:lnTo>
                <a:lnTo>
                  <a:pt x="1652" y="1793"/>
                </a:lnTo>
                <a:lnTo>
                  <a:pt x="1647" y="1788"/>
                </a:lnTo>
                <a:lnTo>
                  <a:pt x="1636" y="1793"/>
                </a:lnTo>
                <a:lnTo>
                  <a:pt x="1631" y="1793"/>
                </a:lnTo>
                <a:lnTo>
                  <a:pt x="1620" y="1799"/>
                </a:lnTo>
                <a:lnTo>
                  <a:pt x="1609" y="1799"/>
                </a:lnTo>
                <a:lnTo>
                  <a:pt x="1603" y="1804"/>
                </a:lnTo>
                <a:lnTo>
                  <a:pt x="1598" y="1810"/>
                </a:lnTo>
                <a:lnTo>
                  <a:pt x="1587" y="1810"/>
                </a:lnTo>
                <a:lnTo>
                  <a:pt x="1576" y="1815"/>
                </a:lnTo>
                <a:lnTo>
                  <a:pt x="1565" y="1815"/>
                </a:lnTo>
                <a:lnTo>
                  <a:pt x="1560" y="1821"/>
                </a:lnTo>
                <a:lnTo>
                  <a:pt x="1560" y="1826"/>
                </a:lnTo>
                <a:lnTo>
                  <a:pt x="1571" y="1826"/>
                </a:lnTo>
                <a:lnTo>
                  <a:pt x="1582" y="1826"/>
                </a:lnTo>
                <a:lnTo>
                  <a:pt x="1587" y="1826"/>
                </a:lnTo>
                <a:lnTo>
                  <a:pt x="1598" y="1831"/>
                </a:lnTo>
                <a:lnTo>
                  <a:pt x="1603" y="1831"/>
                </a:lnTo>
                <a:lnTo>
                  <a:pt x="1609" y="1837"/>
                </a:lnTo>
                <a:lnTo>
                  <a:pt x="1620" y="1848"/>
                </a:lnTo>
                <a:lnTo>
                  <a:pt x="1625" y="1859"/>
                </a:lnTo>
                <a:lnTo>
                  <a:pt x="1631" y="1864"/>
                </a:lnTo>
                <a:lnTo>
                  <a:pt x="1642" y="1870"/>
                </a:lnTo>
                <a:lnTo>
                  <a:pt x="1647" y="1875"/>
                </a:lnTo>
                <a:lnTo>
                  <a:pt x="1652" y="1881"/>
                </a:lnTo>
                <a:lnTo>
                  <a:pt x="1663" y="1891"/>
                </a:lnTo>
                <a:lnTo>
                  <a:pt x="1669" y="1897"/>
                </a:lnTo>
                <a:lnTo>
                  <a:pt x="1674" y="1908"/>
                </a:lnTo>
                <a:lnTo>
                  <a:pt x="1685" y="1913"/>
                </a:lnTo>
                <a:lnTo>
                  <a:pt x="1691" y="1913"/>
                </a:lnTo>
                <a:lnTo>
                  <a:pt x="1702" y="1913"/>
                </a:lnTo>
                <a:lnTo>
                  <a:pt x="1707" y="1908"/>
                </a:lnTo>
                <a:lnTo>
                  <a:pt x="1718" y="1897"/>
                </a:lnTo>
                <a:close/>
                <a:moveTo>
                  <a:pt x="916" y="1859"/>
                </a:moveTo>
                <a:lnTo>
                  <a:pt x="927" y="1848"/>
                </a:lnTo>
                <a:lnTo>
                  <a:pt x="933" y="1842"/>
                </a:lnTo>
                <a:lnTo>
                  <a:pt x="938" y="1831"/>
                </a:lnTo>
                <a:lnTo>
                  <a:pt x="938" y="1826"/>
                </a:lnTo>
                <a:lnTo>
                  <a:pt x="938" y="1815"/>
                </a:lnTo>
                <a:lnTo>
                  <a:pt x="927" y="1810"/>
                </a:lnTo>
                <a:lnTo>
                  <a:pt x="922" y="1804"/>
                </a:lnTo>
                <a:lnTo>
                  <a:pt x="916" y="1793"/>
                </a:lnTo>
                <a:lnTo>
                  <a:pt x="911" y="1788"/>
                </a:lnTo>
                <a:lnTo>
                  <a:pt x="911" y="1777"/>
                </a:lnTo>
                <a:lnTo>
                  <a:pt x="911" y="1766"/>
                </a:lnTo>
                <a:lnTo>
                  <a:pt x="911" y="1750"/>
                </a:lnTo>
                <a:lnTo>
                  <a:pt x="906" y="1739"/>
                </a:lnTo>
                <a:lnTo>
                  <a:pt x="900" y="1744"/>
                </a:lnTo>
                <a:lnTo>
                  <a:pt x="895" y="1755"/>
                </a:lnTo>
                <a:lnTo>
                  <a:pt x="895" y="1771"/>
                </a:lnTo>
                <a:lnTo>
                  <a:pt x="895" y="1782"/>
                </a:lnTo>
                <a:lnTo>
                  <a:pt x="895" y="1788"/>
                </a:lnTo>
                <a:lnTo>
                  <a:pt x="889" y="1799"/>
                </a:lnTo>
                <a:lnTo>
                  <a:pt x="884" y="1804"/>
                </a:lnTo>
                <a:lnTo>
                  <a:pt x="873" y="1810"/>
                </a:lnTo>
                <a:lnTo>
                  <a:pt x="867" y="1815"/>
                </a:lnTo>
                <a:lnTo>
                  <a:pt x="856" y="1821"/>
                </a:lnTo>
                <a:lnTo>
                  <a:pt x="851" y="1821"/>
                </a:lnTo>
                <a:lnTo>
                  <a:pt x="846" y="1821"/>
                </a:lnTo>
                <a:lnTo>
                  <a:pt x="835" y="1826"/>
                </a:lnTo>
                <a:lnTo>
                  <a:pt x="829" y="1831"/>
                </a:lnTo>
                <a:lnTo>
                  <a:pt x="818" y="1842"/>
                </a:lnTo>
                <a:lnTo>
                  <a:pt x="813" y="1848"/>
                </a:lnTo>
                <a:lnTo>
                  <a:pt x="813" y="1859"/>
                </a:lnTo>
                <a:lnTo>
                  <a:pt x="818" y="1864"/>
                </a:lnTo>
                <a:lnTo>
                  <a:pt x="829" y="1870"/>
                </a:lnTo>
                <a:lnTo>
                  <a:pt x="835" y="1875"/>
                </a:lnTo>
                <a:lnTo>
                  <a:pt x="846" y="1881"/>
                </a:lnTo>
                <a:lnTo>
                  <a:pt x="851" y="1881"/>
                </a:lnTo>
                <a:lnTo>
                  <a:pt x="862" y="1886"/>
                </a:lnTo>
                <a:lnTo>
                  <a:pt x="867" y="1886"/>
                </a:lnTo>
                <a:lnTo>
                  <a:pt x="878" y="1886"/>
                </a:lnTo>
                <a:lnTo>
                  <a:pt x="884" y="1886"/>
                </a:lnTo>
                <a:lnTo>
                  <a:pt x="895" y="1886"/>
                </a:lnTo>
                <a:lnTo>
                  <a:pt x="900" y="1881"/>
                </a:lnTo>
                <a:lnTo>
                  <a:pt x="906" y="1875"/>
                </a:lnTo>
                <a:lnTo>
                  <a:pt x="911" y="1870"/>
                </a:lnTo>
                <a:lnTo>
                  <a:pt x="916" y="1859"/>
                </a:lnTo>
                <a:close/>
                <a:moveTo>
                  <a:pt x="1304" y="1821"/>
                </a:moveTo>
                <a:lnTo>
                  <a:pt x="1293" y="1815"/>
                </a:lnTo>
                <a:lnTo>
                  <a:pt x="1293" y="1810"/>
                </a:lnTo>
                <a:lnTo>
                  <a:pt x="1287" y="1804"/>
                </a:lnTo>
                <a:lnTo>
                  <a:pt x="1282" y="1804"/>
                </a:lnTo>
                <a:lnTo>
                  <a:pt x="1271" y="1810"/>
                </a:lnTo>
                <a:lnTo>
                  <a:pt x="1265" y="1815"/>
                </a:lnTo>
                <a:lnTo>
                  <a:pt x="1265" y="1821"/>
                </a:lnTo>
                <a:lnTo>
                  <a:pt x="1265" y="1826"/>
                </a:lnTo>
                <a:lnTo>
                  <a:pt x="1271" y="1826"/>
                </a:lnTo>
                <a:lnTo>
                  <a:pt x="1276" y="1831"/>
                </a:lnTo>
                <a:lnTo>
                  <a:pt x="1282" y="1831"/>
                </a:lnTo>
                <a:lnTo>
                  <a:pt x="1287" y="1826"/>
                </a:lnTo>
                <a:lnTo>
                  <a:pt x="1293" y="1826"/>
                </a:lnTo>
                <a:lnTo>
                  <a:pt x="1304" y="1821"/>
                </a:lnTo>
                <a:close/>
                <a:moveTo>
                  <a:pt x="1053" y="1712"/>
                </a:moveTo>
                <a:lnTo>
                  <a:pt x="1053" y="1706"/>
                </a:lnTo>
                <a:lnTo>
                  <a:pt x="1053" y="1706"/>
                </a:lnTo>
                <a:lnTo>
                  <a:pt x="1053" y="1706"/>
                </a:lnTo>
                <a:lnTo>
                  <a:pt x="1053" y="1701"/>
                </a:lnTo>
                <a:lnTo>
                  <a:pt x="1053" y="1701"/>
                </a:lnTo>
                <a:lnTo>
                  <a:pt x="1053" y="1706"/>
                </a:lnTo>
                <a:lnTo>
                  <a:pt x="1053" y="1706"/>
                </a:lnTo>
                <a:lnTo>
                  <a:pt x="1053" y="1706"/>
                </a:lnTo>
                <a:lnTo>
                  <a:pt x="1053" y="1706"/>
                </a:lnTo>
                <a:lnTo>
                  <a:pt x="1053" y="1712"/>
                </a:lnTo>
                <a:lnTo>
                  <a:pt x="1053" y="1712"/>
                </a:lnTo>
                <a:lnTo>
                  <a:pt x="1053" y="1712"/>
                </a:lnTo>
                <a:lnTo>
                  <a:pt x="1053" y="1712"/>
                </a:lnTo>
                <a:lnTo>
                  <a:pt x="1053" y="1712"/>
                </a:lnTo>
                <a:close/>
                <a:moveTo>
                  <a:pt x="513" y="1673"/>
                </a:moveTo>
                <a:lnTo>
                  <a:pt x="508" y="1657"/>
                </a:lnTo>
                <a:lnTo>
                  <a:pt x="502" y="1646"/>
                </a:lnTo>
                <a:lnTo>
                  <a:pt x="502" y="1635"/>
                </a:lnTo>
                <a:lnTo>
                  <a:pt x="508" y="1624"/>
                </a:lnTo>
                <a:lnTo>
                  <a:pt x="513" y="1608"/>
                </a:lnTo>
                <a:lnTo>
                  <a:pt x="524" y="1603"/>
                </a:lnTo>
                <a:lnTo>
                  <a:pt x="535" y="1603"/>
                </a:lnTo>
                <a:lnTo>
                  <a:pt x="546" y="1608"/>
                </a:lnTo>
                <a:lnTo>
                  <a:pt x="551" y="1613"/>
                </a:lnTo>
                <a:lnTo>
                  <a:pt x="557" y="1630"/>
                </a:lnTo>
                <a:lnTo>
                  <a:pt x="557" y="1641"/>
                </a:lnTo>
                <a:lnTo>
                  <a:pt x="557" y="1652"/>
                </a:lnTo>
                <a:lnTo>
                  <a:pt x="551" y="1662"/>
                </a:lnTo>
                <a:lnTo>
                  <a:pt x="546" y="1679"/>
                </a:lnTo>
                <a:lnTo>
                  <a:pt x="540" y="1695"/>
                </a:lnTo>
                <a:lnTo>
                  <a:pt x="535" y="1706"/>
                </a:lnTo>
                <a:lnTo>
                  <a:pt x="529" y="1712"/>
                </a:lnTo>
                <a:lnTo>
                  <a:pt x="524" y="1706"/>
                </a:lnTo>
                <a:lnTo>
                  <a:pt x="518" y="1690"/>
                </a:lnTo>
                <a:lnTo>
                  <a:pt x="513" y="1673"/>
                </a:lnTo>
                <a:close/>
                <a:moveTo>
                  <a:pt x="458" y="1635"/>
                </a:moveTo>
                <a:lnTo>
                  <a:pt x="448" y="1619"/>
                </a:lnTo>
                <a:lnTo>
                  <a:pt x="442" y="1608"/>
                </a:lnTo>
                <a:lnTo>
                  <a:pt x="437" y="1597"/>
                </a:lnTo>
                <a:lnTo>
                  <a:pt x="431" y="1592"/>
                </a:lnTo>
                <a:lnTo>
                  <a:pt x="426" y="1597"/>
                </a:lnTo>
                <a:lnTo>
                  <a:pt x="420" y="1603"/>
                </a:lnTo>
                <a:lnTo>
                  <a:pt x="420" y="1613"/>
                </a:lnTo>
                <a:lnTo>
                  <a:pt x="420" y="1624"/>
                </a:lnTo>
                <a:lnTo>
                  <a:pt x="420" y="1641"/>
                </a:lnTo>
                <a:lnTo>
                  <a:pt x="426" y="1646"/>
                </a:lnTo>
                <a:lnTo>
                  <a:pt x="431" y="1646"/>
                </a:lnTo>
                <a:lnTo>
                  <a:pt x="442" y="1646"/>
                </a:lnTo>
                <a:lnTo>
                  <a:pt x="448" y="1641"/>
                </a:lnTo>
                <a:lnTo>
                  <a:pt x="458" y="1635"/>
                </a:lnTo>
                <a:close/>
                <a:moveTo>
                  <a:pt x="197" y="1597"/>
                </a:moveTo>
                <a:lnTo>
                  <a:pt x="191" y="1592"/>
                </a:lnTo>
                <a:lnTo>
                  <a:pt x="191" y="1586"/>
                </a:lnTo>
                <a:lnTo>
                  <a:pt x="191" y="1575"/>
                </a:lnTo>
                <a:lnTo>
                  <a:pt x="191" y="1570"/>
                </a:lnTo>
                <a:lnTo>
                  <a:pt x="191" y="1564"/>
                </a:lnTo>
                <a:lnTo>
                  <a:pt x="191" y="1553"/>
                </a:lnTo>
                <a:lnTo>
                  <a:pt x="191" y="1548"/>
                </a:lnTo>
                <a:lnTo>
                  <a:pt x="191" y="1543"/>
                </a:lnTo>
                <a:lnTo>
                  <a:pt x="191" y="1532"/>
                </a:lnTo>
                <a:lnTo>
                  <a:pt x="191" y="1526"/>
                </a:lnTo>
                <a:lnTo>
                  <a:pt x="197" y="1521"/>
                </a:lnTo>
                <a:lnTo>
                  <a:pt x="197" y="1521"/>
                </a:lnTo>
                <a:lnTo>
                  <a:pt x="202" y="1521"/>
                </a:lnTo>
                <a:lnTo>
                  <a:pt x="208" y="1526"/>
                </a:lnTo>
                <a:lnTo>
                  <a:pt x="208" y="1537"/>
                </a:lnTo>
                <a:lnTo>
                  <a:pt x="208" y="1543"/>
                </a:lnTo>
                <a:lnTo>
                  <a:pt x="208" y="1548"/>
                </a:lnTo>
                <a:lnTo>
                  <a:pt x="208" y="1559"/>
                </a:lnTo>
                <a:lnTo>
                  <a:pt x="208" y="1564"/>
                </a:lnTo>
                <a:lnTo>
                  <a:pt x="208" y="1570"/>
                </a:lnTo>
                <a:lnTo>
                  <a:pt x="208" y="1581"/>
                </a:lnTo>
                <a:lnTo>
                  <a:pt x="208" y="1586"/>
                </a:lnTo>
                <a:lnTo>
                  <a:pt x="208" y="1592"/>
                </a:lnTo>
                <a:lnTo>
                  <a:pt x="202" y="1597"/>
                </a:lnTo>
                <a:lnTo>
                  <a:pt x="197" y="1603"/>
                </a:lnTo>
                <a:lnTo>
                  <a:pt x="197" y="1597"/>
                </a:lnTo>
                <a:close/>
                <a:moveTo>
                  <a:pt x="835" y="1450"/>
                </a:moveTo>
                <a:lnTo>
                  <a:pt x="829" y="1444"/>
                </a:lnTo>
                <a:lnTo>
                  <a:pt x="824" y="1439"/>
                </a:lnTo>
                <a:lnTo>
                  <a:pt x="813" y="1439"/>
                </a:lnTo>
                <a:lnTo>
                  <a:pt x="807" y="1439"/>
                </a:lnTo>
                <a:lnTo>
                  <a:pt x="802" y="1444"/>
                </a:lnTo>
                <a:lnTo>
                  <a:pt x="796" y="1444"/>
                </a:lnTo>
                <a:lnTo>
                  <a:pt x="791" y="1450"/>
                </a:lnTo>
                <a:lnTo>
                  <a:pt x="796" y="1455"/>
                </a:lnTo>
                <a:lnTo>
                  <a:pt x="802" y="1455"/>
                </a:lnTo>
                <a:lnTo>
                  <a:pt x="807" y="1455"/>
                </a:lnTo>
                <a:lnTo>
                  <a:pt x="813" y="1455"/>
                </a:lnTo>
                <a:lnTo>
                  <a:pt x="824" y="1455"/>
                </a:lnTo>
                <a:lnTo>
                  <a:pt x="829" y="1455"/>
                </a:lnTo>
                <a:lnTo>
                  <a:pt x="835" y="1450"/>
                </a:lnTo>
                <a:close/>
                <a:moveTo>
                  <a:pt x="437" y="1412"/>
                </a:moveTo>
                <a:lnTo>
                  <a:pt x="431" y="1406"/>
                </a:lnTo>
                <a:lnTo>
                  <a:pt x="431" y="1395"/>
                </a:lnTo>
                <a:lnTo>
                  <a:pt x="420" y="1390"/>
                </a:lnTo>
                <a:lnTo>
                  <a:pt x="415" y="1379"/>
                </a:lnTo>
                <a:lnTo>
                  <a:pt x="415" y="1374"/>
                </a:lnTo>
                <a:lnTo>
                  <a:pt x="426" y="1368"/>
                </a:lnTo>
                <a:lnTo>
                  <a:pt x="431" y="1363"/>
                </a:lnTo>
                <a:lnTo>
                  <a:pt x="442" y="1363"/>
                </a:lnTo>
                <a:lnTo>
                  <a:pt x="448" y="1357"/>
                </a:lnTo>
                <a:lnTo>
                  <a:pt x="453" y="1357"/>
                </a:lnTo>
                <a:lnTo>
                  <a:pt x="464" y="1363"/>
                </a:lnTo>
                <a:lnTo>
                  <a:pt x="469" y="1363"/>
                </a:lnTo>
                <a:lnTo>
                  <a:pt x="475" y="1368"/>
                </a:lnTo>
                <a:lnTo>
                  <a:pt x="480" y="1379"/>
                </a:lnTo>
                <a:lnTo>
                  <a:pt x="480" y="1390"/>
                </a:lnTo>
                <a:lnTo>
                  <a:pt x="486" y="1401"/>
                </a:lnTo>
                <a:lnTo>
                  <a:pt x="480" y="1412"/>
                </a:lnTo>
                <a:lnTo>
                  <a:pt x="480" y="1423"/>
                </a:lnTo>
                <a:lnTo>
                  <a:pt x="475" y="1434"/>
                </a:lnTo>
                <a:lnTo>
                  <a:pt x="469" y="1444"/>
                </a:lnTo>
                <a:lnTo>
                  <a:pt x="464" y="1450"/>
                </a:lnTo>
                <a:lnTo>
                  <a:pt x="458" y="1450"/>
                </a:lnTo>
                <a:lnTo>
                  <a:pt x="453" y="1444"/>
                </a:lnTo>
                <a:lnTo>
                  <a:pt x="448" y="1439"/>
                </a:lnTo>
                <a:lnTo>
                  <a:pt x="442" y="1428"/>
                </a:lnTo>
                <a:lnTo>
                  <a:pt x="437" y="1412"/>
                </a:lnTo>
                <a:close/>
                <a:moveTo>
                  <a:pt x="698" y="1188"/>
                </a:moveTo>
                <a:lnTo>
                  <a:pt x="687" y="1188"/>
                </a:lnTo>
                <a:lnTo>
                  <a:pt x="682" y="1183"/>
                </a:lnTo>
                <a:lnTo>
                  <a:pt x="671" y="1183"/>
                </a:lnTo>
                <a:lnTo>
                  <a:pt x="660" y="1177"/>
                </a:lnTo>
                <a:lnTo>
                  <a:pt x="655" y="1172"/>
                </a:lnTo>
                <a:lnTo>
                  <a:pt x="644" y="1172"/>
                </a:lnTo>
                <a:lnTo>
                  <a:pt x="633" y="1167"/>
                </a:lnTo>
                <a:lnTo>
                  <a:pt x="622" y="1167"/>
                </a:lnTo>
                <a:lnTo>
                  <a:pt x="617" y="1161"/>
                </a:lnTo>
                <a:lnTo>
                  <a:pt x="611" y="1150"/>
                </a:lnTo>
                <a:lnTo>
                  <a:pt x="606" y="1139"/>
                </a:lnTo>
                <a:lnTo>
                  <a:pt x="611" y="1123"/>
                </a:lnTo>
                <a:lnTo>
                  <a:pt x="617" y="1112"/>
                </a:lnTo>
                <a:lnTo>
                  <a:pt x="622" y="1107"/>
                </a:lnTo>
                <a:lnTo>
                  <a:pt x="633" y="1107"/>
                </a:lnTo>
                <a:lnTo>
                  <a:pt x="638" y="1101"/>
                </a:lnTo>
                <a:lnTo>
                  <a:pt x="649" y="1101"/>
                </a:lnTo>
                <a:lnTo>
                  <a:pt x="660" y="1096"/>
                </a:lnTo>
                <a:lnTo>
                  <a:pt x="666" y="1090"/>
                </a:lnTo>
                <a:lnTo>
                  <a:pt x="677" y="1090"/>
                </a:lnTo>
                <a:lnTo>
                  <a:pt x="687" y="1085"/>
                </a:lnTo>
                <a:lnTo>
                  <a:pt x="693" y="1079"/>
                </a:lnTo>
                <a:lnTo>
                  <a:pt x="704" y="1079"/>
                </a:lnTo>
                <a:lnTo>
                  <a:pt x="715" y="1079"/>
                </a:lnTo>
                <a:lnTo>
                  <a:pt x="720" y="1085"/>
                </a:lnTo>
                <a:lnTo>
                  <a:pt x="731" y="1096"/>
                </a:lnTo>
                <a:lnTo>
                  <a:pt x="737" y="1107"/>
                </a:lnTo>
                <a:lnTo>
                  <a:pt x="737" y="1117"/>
                </a:lnTo>
                <a:lnTo>
                  <a:pt x="737" y="1128"/>
                </a:lnTo>
                <a:lnTo>
                  <a:pt x="737" y="1139"/>
                </a:lnTo>
                <a:lnTo>
                  <a:pt x="737" y="1156"/>
                </a:lnTo>
                <a:lnTo>
                  <a:pt x="737" y="1172"/>
                </a:lnTo>
                <a:lnTo>
                  <a:pt x="737" y="1183"/>
                </a:lnTo>
                <a:lnTo>
                  <a:pt x="731" y="1194"/>
                </a:lnTo>
                <a:lnTo>
                  <a:pt x="726" y="1199"/>
                </a:lnTo>
                <a:lnTo>
                  <a:pt x="715" y="1199"/>
                </a:lnTo>
                <a:lnTo>
                  <a:pt x="704" y="1199"/>
                </a:lnTo>
                <a:lnTo>
                  <a:pt x="698" y="1188"/>
                </a:lnTo>
                <a:close/>
                <a:moveTo>
                  <a:pt x="562" y="1079"/>
                </a:moveTo>
                <a:lnTo>
                  <a:pt x="562" y="1068"/>
                </a:lnTo>
                <a:lnTo>
                  <a:pt x="567" y="1058"/>
                </a:lnTo>
                <a:lnTo>
                  <a:pt x="567" y="1041"/>
                </a:lnTo>
                <a:lnTo>
                  <a:pt x="573" y="1030"/>
                </a:lnTo>
                <a:lnTo>
                  <a:pt x="573" y="1019"/>
                </a:lnTo>
                <a:lnTo>
                  <a:pt x="578" y="1008"/>
                </a:lnTo>
                <a:lnTo>
                  <a:pt x="578" y="998"/>
                </a:lnTo>
                <a:lnTo>
                  <a:pt x="584" y="987"/>
                </a:lnTo>
                <a:lnTo>
                  <a:pt x="584" y="976"/>
                </a:lnTo>
                <a:lnTo>
                  <a:pt x="589" y="965"/>
                </a:lnTo>
                <a:lnTo>
                  <a:pt x="595" y="959"/>
                </a:lnTo>
                <a:lnTo>
                  <a:pt x="606" y="954"/>
                </a:lnTo>
                <a:lnTo>
                  <a:pt x="611" y="949"/>
                </a:lnTo>
                <a:lnTo>
                  <a:pt x="617" y="938"/>
                </a:lnTo>
                <a:lnTo>
                  <a:pt x="617" y="927"/>
                </a:lnTo>
                <a:lnTo>
                  <a:pt x="617" y="916"/>
                </a:lnTo>
                <a:lnTo>
                  <a:pt x="617" y="905"/>
                </a:lnTo>
                <a:lnTo>
                  <a:pt x="611" y="894"/>
                </a:lnTo>
                <a:lnTo>
                  <a:pt x="611" y="883"/>
                </a:lnTo>
                <a:lnTo>
                  <a:pt x="611" y="867"/>
                </a:lnTo>
                <a:lnTo>
                  <a:pt x="606" y="856"/>
                </a:lnTo>
                <a:lnTo>
                  <a:pt x="606" y="845"/>
                </a:lnTo>
                <a:lnTo>
                  <a:pt x="611" y="834"/>
                </a:lnTo>
                <a:lnTo>
                  <a:pt x="617" y="823"/>
                </a:lnTo>
                <a:lnTo>
                  <a:pt x="622" y="818"/>
                </a:lnTo>
                <a:lnTo>
                  <a:pt x="627" y="807"/>
                </a:lnTo>
                <a:lnTo>
                  <a:pt x="633" y="801"/>
                </a:lnTo>
                <a:lnTo>
                  <a:pt x="638" y="790"/>
                </a:lnTo>
                <a:lnTo>
                  <a:pt x="649" y="785"/>
                </a:lnTo>
                <a:lnTo>
                  <a:pt x="655" y="780"/>
                </a:lnTo>
                <a:lnTo>
                  <a:pt x="660" y="774"/>
                </a:lnTo>
                <a:lnTo>
                  <a:pt x="671" y="769"/>
                </a:lnTo>
                <a:lnTo>
                  <a:pt x="677" y="763"/>
                </a:lnTo>
                <a:lnTo>
                  <a:pt x="687" y="758"/>
                </a:lnTo>
                <a:lnTo>
                  <a:pt x="693" y="758"/>
                </a:lnTo>
                <a:lnTo>
                  <a:pt x="698" y="752"/>
                </a:lnTo>
                <a:lnTo>
                  <a:pt x="709" y="747"/>
                </a:lnTo>
                <a:lnTo>
                  <a:pt x="715" y="741"/>
                </a:lnTo>
                <a:lnTo>
                  <a:pt x="726" y="741"/>
                </a:lnTo>
                <a:lnTo>
                  <a:pt x="731" y="736"/>
                </a:lnTo>
                <a:lnTo>
                  <a:pt x="742" y="730"/>
                </a:lnTo>
                <a:lnTo>
                  <a:pt x="747" y="730"/>
                </a:lnTo>
                <a:lnTo>
                  <a:pt x="758" y="725"/>
                </a:lnTo>
                <a:lnTo>
                  <a:pt x="764" y="720"/>
                </a:lnTo>
                <a:lnTo>
                  <a:pt x="775" y="714"/>
                </a:lnTo>
                <a:lnTo>
                  <a:pt x="780" y="709"/>
                </a:lnTo>
                <a:lnTo>
                  <a:pt x="791" y="709"/>
                </a:lnTo>
                <a:lnTo>
                  <a:pt x="796" y="709"/>
                </a:lnTo>
                <a:lnTo>
                  <a:pt x="802" y="714"/>
                </a:lnTo>
                <a:lnTo>
                  <a:pt x="813" y="720"/>
                </a:lnTo>
                <a:lnTo>
                  <a:pt x="818" y="730"/>
                </a:lnTo>
                <a:lnTo>
                  <a:pt x="824" y="736"/>
                </a:lnTo>
                <a:lnTo>
                  <a:pt x="829" y="741"/>
                </a:lnTo>
                <a:lnTo>
                  <a:pt x="840" y="741"/>
                </a:lnTo>
                <a:lnTo>
                  <a:pt x="851" y="741"/>
                </a:lnTo>
                <a:lnTo>
                  <a:pt x="856" y="741"/>
                </a:lnTo>
                <a:lnTo>
                  <a:pt x="867" y="741"/>
                </a:lnTo>
                <a:lnTo>
                  <a:pt x="873" y="736"/>
                </a:lnTo>
                <a:lnTo>
                  <a:pt x="884" y="736"/>
                </a:lnTo>
                <a:lnTo>
                  <a:pt x="889" y="736"/>
                </a:lnTo>
                <a:lnTo>
                  <a:pt x="900" y="736"/>
                </a:lnTo>
                <a:lnTo>
                  <a:pt x="906" y="730"/>
                </a:lnTo>
                <a:lnTo>
                  <a:pt x="916" y="730"/>
                </a:lnTo>
                <a:lnTo>
                  <a:pt x="922" y="730"/>
                </a:lnTo>
                <a:lnTo>
                  <a:pt x="933" y="725"/>
                </a:lnTo>
                <a:lnTo>
                  <a:pt x="944" y="725"/>
                </a:lnTo>
                <a:lnTo>
                  <a:pt x="949" y="725"/>
                </a:lnTo>
                <a:lnTo>
                  <a:pt x="960" y="720"/>
                </a:lnTo>
                <a:lnTo>
                  <a:pt x="966" y="720"/>
                </a:lnTo>
                <a:lnTo>
                  <a:pt x="976" y="720"/>
                </a:lnTo>
                <a:lnTo>
                  <a:pt x="982" y="720"/>
                </a:lnTo>
                <a:lnTo>
                  <a:pt x="993" y="725"/>
                </a:lnTo>
                <a:lnTo>
                  <a:pt x="1004" y="730"/>
                </a:lnTo>
                <a:lnTo>
                  <a:pt x="1009" y="736"/>
                </a:lnTo>
                <a:lnTo>
                  <a:pt x="1009" y="747"/>
                </a:lnTo>
                <a:lnTo>
                  <a:pt x="1009" y="758"/>
                </a:lnTo>
                <a:lnTo>
                  <a:pt x="1004" y="769"/>
                </a:lnTo>
                <a:lnTo>
                  <a:pt x="998" y="785"/>
                </a:lnTo>
                <a:lnTo>
                  <a:pt x="998" y="796"/>
                </a:lnTo>
                <a:lnTo>
                  <a:pt x="998" y="807"/>
                </a:lnTo>
                <a:lnTo>
                  <a:pt x="993" y="818"/>
                </a:lnTo>
                <a:lnTo>
                  <a:pt x="993" y="829"/>
                </a:lnTo>
                <a:lnTo>
                  <a:pt x="987" y="839"/>
                </a:lnTo>
                <a:lnTo>
                  <a:pt x="987" y="850"/>
                </a:lnTo>
                <a:lnTo>
                  <a:pt x="987" y="861"/>
                </a:lnTo>
                <a:lnTo>
                  <a:pt x="982" y="872"/>
                </a:lnTo>
                <a:lnTo>
                  <a:pt x="982" y="883"/>
                </a:lnTo>
                <a:lnTo>
                  <a:pt x="976" y="899"/>
                </a:lnTo>
                <a:lnTo>
                  <a:pt x="976" y="910"/>
                </a:lnTo>
                <a:lnTo>
                  <a:pt x="971" y="921"/>
                </a:lnTo>
                <a:lnTo>
                  <a:pt x="971" y="932"/>
                </a:lnTo>
                <a:lnTo>
                  <a:pt x="971" y="943"/>
                </a:lnTo>
                <a:lnTo>
                  <a:pt x="971" y="954"/>
                </a:lnTo>
                <a:lnTo>
                  <a:pt x="966" y="965"/>
                </a:lnTo>
                <a:lnTo>
                  <a:pt x="960" y="976"/>
                </a:lnTo>
                <a:lnTo>
                  <a:pt x="955" y="981"/>
                </a:lnTo>
                <a:lnTo>
                  <a:pt x="944" y="987"/>
                </a:lnTo>
                <a:lnTo>
                  <a:pt x="933" y="987"/>
                </a:lnTo>
                <a:lnTo>
                  <a:pt x="927" y="992"/>
                </a:lnTo>
                <a:lnTo>
                  <a:pt x="916" y="992"/>
                </a:lnTo>
                <a:lnTo>
                  <a:pt x="911" y="992"/>
                </a:lnTo>
                <a:lnTo>
                  <a:pt x="900" y="987"/>
                </a:lnTo>
                <a:lnTo>
                  <a:pt x="895" y="987"/>
                </a:lnTo>
                <a:lnTo>
                  <a:pt x="884" y="987"/>
                </a:lnTo>
                <a:lnTo>
                  <a:pt x="878" y="987"/>
                </a:lnTo>
                <a:lnTo>
                  <a:pt x="867" y="987"/>
                </a:lnTo>
                <a:lnTo>
                  <a:pt x="862" y="987"/>
                </a:lnTo>
                <a:lnTo>
                  <a:pt x="851" y="987"/>
                </a:lnTo>
                <a:lnTo>
                  <a:pt x="840" y="987"/>
                </a:lnTo>
                <a:lnTo>
                  <a:pt x="835" y="987"/>
                </a:lnTo>
                <a:lnTo>
                  <a:pt x="824" y="987"/>
                </a:lnTo>
                <a:lnTo>
                  <a:pt x="818" y="987"/>
                </a:lnTo>
                <a:lnTo>
                  <a:pt x="807" y="981"/>
                </a:lnTo>
                <a:lnTo>
                  <a:pt x="802" y="981"/>
                </a:lnTo>
                <a:lnTo>
                  <a:pt x="791" y="976"/>
                </a:lnTo>
                <a:lnTo>
                  <a:pt x="786" y="970"/>
                </a:lnTo>
                <a:lnTo>
                  <a:pt x="775" y="965"/>
                </a:lnTo>
                <a:lnTo>
                  <a:pt x="769" y="965"/>
                </a:lnTo>
                <a:lnTo>
                  <a:pt x="758" y="959"/>
                </a:lnTo>
                <a:lnTo>
                  <a:pt x="753" y="959"/>
                </a:lnTo>
                <a:lnTo>
                  <a:pt x="742" y="959"/>
                </a:lnTo>
                <a:lnTo>
                  <a:pt x="737" y="965"/>
                </a:lnTo>
                <a:lnTo>
                  <a:pt x="726" y="965"/>
                </a:lnTo>
                <a:lnTo>
                  <a:pt x="720" y="965"/>
                </a:lnTo>
                <a:lnTo>
                  <a:pt x="709" y="970"/>
                </a:lnTo>
                <a:lnTo>
                  <a:pt x="704" y="976"/>
                </a:lnTo>
                <a:lnTo>
                  <a:pt x="693" y="976"/>
                </a:lnTo>
                <a:lnTo>
                  <a:pt x="687" y="981"/>
                </a:lnTo>
                <a:lnTo>
                  <a:pt x="682" y="987"/>
                </a:lnTo>
                <a:lnTo>
                  <a:pt x="671" y="992"/>
                </a:lnTo>
                <a:lnTo>
                  <a:pt x="666" y="998"/>
                </a:lnTo>
                <a:lnTo>
                  <a:pt x="655" y="1003"/>
                </a:lnTo>
                <a:lnTo>
                  <a:pt x="649" y="1014"/>
                </a:lnTo>
                <a:lnTo>
                  <a:pt x="644" y="1019"/>
                </a:lnTo>
                <a:lnTo>
                  <a:pt x="638" y="1025"/>
                </a:lnTo>
                <a:lnTo>
                  <a:pt x="627" y="1030"/>
                </a:lnTo>
                <a:lnTo>
                  <a:pt x="622" y="1036"/>
                </a:lnTo>
                <a:lnTo>
                  <a:pt x="617" y="1041"/>
                </a:lnTo>
                <a:lnTo>
                  <a:pt x="606" y="1052"/>
                </a:lnTo>
                <a:lnTo>
                  <a:pt x="600" y="1058"/>
                </a:lnTo>
                <a:lnTo>
                  <a:pt x="595" y="1063"/>
                </a:lnTo>
                <a:lnTo>
                  <a:pt x="584" y="1068"/>
                </a:lnTo>
                <a:lnTo>
                  <a:pt x="578" y="1074"/>
                </a:lnTo>
                <a:lnTo>
                  <a:pt x="573" y="1085"/>
                </a:lnTo>
                <a:lnTo>
                  <a:pt x="567" y="1090"/>
                </a:lnTo>
                <a:lnTo>
                  <a:pt x="562" y="1079"/>
                </a:lnTo>
                <a:close/>
                <a:moveTo>
                  <a:pt x="1124" y="780"/>
                </a:moveTo>
                <a:lnTo>
                  <a:pt x="1118" y="769"/>
                </a:lnTo>
                <a:lnTo>
                  <a:pt x="1118" y="758"/>
                </a:lnTo>
                <a:lnTo>
                  <a:pt x="1113" y="747"/>
                </a:lnTo>
                <a:lnTo>
                  <a:pt x="1113" y="736"/>
                </a:lnTo>
                <a:lnTo>
                  <a:pt x="1113" y="725"/>
                </a:lnTo>
                <a:lnTo>
                  <a:pt x="1107" y="714"/>
                </a:lnTo>
                <a:lnTo>
                  <a:pt x="1107" y="698"/>
                </a:lnTo>
                <a:lnTo>
                  <a:pt x="1107" y="687"/>
                </a:lnTo>
                <a:lnTo>
                  <a:pt x="1107" y="676"/>
                </a:lnTo>
                <a:lnTo>
                  <a:pt x="1107" y="665"/>
                </a:lnTo>
                <a:lnTo>
                  <a:pt x="1113" y="660"/>
                </a:lnTo>
                <a:lnTo>
                  <a:pt x="1124" y="660"/>
                </a:lnTo>
                <a:lnTo>
                  <a:pt x="1135" y="654"/>
                </a:lnTo>
                <a:lnTo>
                  <a:pt x="1140" y="660"/>
                </a:lnTo>
                <a:lnTo>
                  <a:pt x="1151" y="660"/>
                </a:lnTo>
                <a:lnTo>
                  <a:pt x="1156" y="660"/>
                </a:lnTo>
                <a:lnTo>
                  <a:pt x="1167" y="665"/>
                </a:lnTo>
                <a:lnTo>
                  <a:pt x="1173" y="665"/>
                </a:lnTo>
                <a:lnTo>
                  <a:pt x="1178" y="671"/>
                </a:lnTo>
                <a:lnTo>
                  <a:pt x="1189" y="681"/>
                </a:lnTo>
                <a:lnTo>
                  <a:pt x="1195" y="687"/>
                </a:lnTo>
                <a:lnTo>
                  <a:pt x="1200" y="692"/>
                </a:lnTo>
                <a:lnTo>
                  <a:pt x="1211" y="698"/>
                </a:lnTo>
                <a:lnTo>
                  <a:pt x="1216" y="698"/>
                </a:lnTo>
                <a:lnTo>
                  <a:pt x="1227" y="698"/>
                </a:lnTo>
                <a:lnTo>
                  <a:pt x="1233" y="698"/>
                </a:lnTo>
                <a:lnTo>
                  <a:pt x="1244" y="698"/>
                </a:lnTo>
                <a:lnTo>
                  <a:pt x="1254" y="698"/>
                </a:lnTo>
                <a:lnTo>
                  <a:pt x="1265" y="698"/>
                </a:lnTo>
                <a:lnTo>
                  <a:pt x="1271" y="703"/>
                </a:lnTo>
                <a:lnTo>
                  <a:pt x="1271" y="714"/>
                </a:lnTo>
                <a:lnTo>
                  <a:pt x="1276" y="725"/>
                </a:lnTo>
                <a:lnTo>
                  <a:pt x="1282" y="736"/>
                </a:lnTo>
                <a:lnTo>
                  <a:pt x="1293" y="741"/>
                </a:lnTo>
                <a:lnTo>
                  <a:pt x="1293" y="741"/>
                </a:lnTo>
                <a:lnTo>
                  <a:pt x="1293" y="747"/>
                </a:lnTo>
                <a:lnTo>
                  <a:pt x="1282" y="747"/>
                </a:lnTo>
                <a:lnTo>
                  <a:pt x="1271" y="747"/>
                </a:lnTo>
                <a:lnTo>
                  <a:pt x="1260" y="752"/>
                </a:lnTo>
                <a:lnTo>
                  <a:pt x="1249" y="752"/>
                </a:lnTo>
                <a:lnTo>
                  <a:pt x="1244" y="758"/>
                </a:lnTo>
                <a:lnTo>
                  <a:pt x="1238" y="758"/>
                </a:lnTo>
                <a:lnTo>
                  <a:pt x="1227" y="758"/>
                </a:lnTo>
                <a:lnTo>
                  <a:pt x="1222" y="763"/>
                </a:lnTo>
                <a:lnTo>
                  <a:pt x="1211" y="763"/>
                </a:lnTo>
                <a:lnTo>
                  <a:pt x="1205" y="769"/>
                </a:lnTo>
                <a:lnTo>
                  <a:pt x="1195" y="769"/>
                </a:lnTo>
                <a:lnTo>
                  <a:pt x="1189" y="769"/>
                </a:lnTo>
                <a:lnTo>
                  <a:pt x="1178" y="774"/>
                </a:lnTo>
                <a:lnTo>
                  <a:pt x="1173" y="774"/>
                </a:lnTo>
                <a:lnTo>
                  <a:pt x="1162" y="780"/>
                </a:lnTo>
                <a:lnTo>
                  <a:pt x="1156" y="780"/>
                </a:lnTo>
                <a:lnTo>
                  <a:pt x="1145" y="785"/>
                </a:lnTo>
                <a:lnTo>
                  <a:pt x="1135" y="785"/>
                </a:lnTo>
                <a:lnTo>
                  <a:pt x="1129" y="790"/>
                </a:lnTo>
                <a:lnTo>
                  <a:pt x="1124" y="780"/>
                </a:lnTo>
                <a:close/>
                <a:moveTo>
                  <a:pt x="1369" y="780"/>
                </a:moveTo>
                <a:lnTo>
                  <a:pt x="1364" y="774"/>
                </a:lnTo>
                <a:lnTo>
                  <a:pt x="1358" y="769"/>
                </a:lnTo>
                <a:lnTo>
                  <a:pt x="1347" y="763"/>
                </a:lnTo>
                <a:lnTo>
                  <a:pt x="1342" y="758"/>
                </a:lnTo>
                <a:lnTo>
                  <a:pt x="1331" y="752"/>
                </a:lnTo>
                <a:lnTo>
                  <a:pt x="1320" y="752"/>
                </a:lnTo>
                <a:lnTo>
                  <a:pt x="1314" y="747"/>
                </a:lnTo>
                <a:lnTo>
                  <a:pt x="1314" y="741"/>
                </a:lnTo>
                <a:lnTo>
                  <a:pt x="1314" y="736"/>
                </a:lnTo>
                <a:lnTo>
                  <a:pt x="1320" y="725"/>
                </a:lnTo>
                <a:lnTo>
                  <a:pt x="1325" y="714"/>
                </a:lnTo>
                <a:lnTo>
                  <a:pt x="1336" y="703"/>
                </a:lnTo>
                <a:lnTo>
                  <a:pt x="1342" y="692"/>
                </a:lnTo>
                <a:lnTo>
                  <a:pt x="1347" y="681"/>
                </a:lnTo>
                <a:lnTo>
                  <a:pt x="1347" y="676"/>
                </a:lnTo>
                <a:lnTo>
                  <a:pt x="1353" y="687"/>
                </a:lnTo>
                <a:lnTo>
                  <a:pt x="1358" y="698"/>
                </a:lnTo>
                <a:lnTo>
                  <a:pt x="1358" y="709"/>
                </a:lnTo>
                <a:lnTo>
                  <a:pt x="1364" y="725"/>
                </a:lnTo>
                <a:lnTo>
                  <a:pt x="1364" y="730"/>
                </a:lnTo>
                <a:lnTo>
                  <a:pt x="1369" y="741"/>
                </a:lnTo>
                <a:lnTo>
                  <a:pt x="1374" y="752"/>
                </a:lnTo>
                <a:lnTo>
                  <a:pt x="1380" y="758"/>
                </a:lnTo>
                <a:lnTo>
                  <a:pt x="1385" y="763"/>
                </a:lnTo>
                <a:lnTo>
                  <a:pt x="1396" y="769"/>
                </a:lnTo>
                <a:lnTo>
                  <a:pt x="1402" y="769"/>
                </a:lnTo>
                <a:lnTo>
                  <a:pt x="1407" y="774"/>
                </a:lnTo>
                <a:lnTo>
                  <a:pt x="1418" y="774"/>
                </a:lnTo>
                <a:lnTo>
                  <a:pt x="1429" y="780"/>
                </a:lnTo>
                <a:lnTo>
                  <a:pt x="1429" y="785"/>
                </a:lnTo>
                <a:lnTo>
                  <a:pt x="1418" y="790"/>
                </a:lnTo>
                <a:lnTo>
                  <a:pt x="1407" y="796"/>
                </a:lnTo>
                <a:lnTo>
                  <a:pt x="1402" y="796"/>
                </a:lnTo>
                <a:lnTo>
                  <a:pt x="1396" y="801"/>
                </a:lnTo>
                <a:lnTo>
                  <a:pt x="1385" y="801"/>
                </a:lnTo>
                <a:lnTo>
                  <a:pt x="1380" y="796"/>
                </a:lnTo>
                <a:lnTo>
                  <a:pt x="1374" y="790"/>
                </a:lnTo>
                <a:lnTo>
                  <a:pt x="1369" y="780"/>
                </a:lnTo>
                <a:close/>
                <a:moveTo>
                  <a:pt x="835" y="671"/>
                </a:moveTo>
                <a:lnTo>
                  <a:pt x="829" y="660"/>
                </a:lnTo>
                <a:lnTo>
                  <a:pt x="824" y="649"/>
                </a:lnTo>
                <a:lnTo>
                  <a:pt x="813" y="638"/>
                </a:lnTo>
                <a:lnTo>
                  <a:pt x="807" y="632"/>
                </a:lnTo>
                <a:lnTo>
                  <a:pt x="807" y="621"/>
                </a:lnTo>
                <a:lnTo>
                  <a:pt x="802" y="605"/>
                </a:lnTo>
                <a:lnTo>
                  <a:pt x="802" y="594"/>
                </a:lnTo>
                <a:lnTo>
                  <a:pt x="796" y="583"/>
                </a:lnTo>
                <a:lnTo>
                  <a:pt x="791" y="572"/>
                </a:lnTo>
                <a:lnTo>
                  <a:pt x="786" y="562"/>
                </a:lnTo>
                <a:lnTo>
                  <a:pt x="780" y="551"/>
                </a:lnTo>
                <a:lnTo>
                  <a:pt x="775" y="540"/>
                </a:lnTo>
                <a:lnTo>
                  <a:pt x="769" y="529"/>
                </a:lnTo>
                <a:lnTo>
                  <a:pt x="775" y="518"/>
                </a:lnTo>
                <a:lnTo>
                  <a:pt x="780" y="507"/>
                </a:lnTo>
                <a:lnTo>
                  <a:pt x="791" y="502"/>
                </a:lnTo>
                <a:lnTo>
                  <a:pt x="802" y="502"/>
                </a:lnTo>
                <a:lnTo>
                  <a:pt x="813" y="502"/>
                </a:lnTo>
                <a:lnTo>
                  <a:pt x="818" y="502"/>
                </a:lnTo>
                <a:lnTo>
                  <a:pt x="829" y="507"/>
                </a:lnTo>
                <a:lnTo>
                  <a:pt x="835" y="512"/>
                </a:lnTo>
                <a:lnTo>
                  <a:pt x="846" y="523"/>
                </a:lnTo>
                <a:lnTo>
                  <a:pt x="851" y="523"/>
                </a:lnTo>
                <a:lnTo>
                  <a:pt x="862" y="529"/>
                </a:lnTo>
                <a:lnTo>
                  <a:pt x="873" y="529"/>
                </a:lnTo>
                <a:lnTo>
                  <a:pt x="878" y="529"/>
                </a:lnTo>
                <a:lnTo>
                  <a:pt x="889" y="529"/>
                </a:lnTo>
                <a:lnTo>
                  <a:pt x="900" y="529"/>
                </a:lnTo>
                <a:lnTo>
                  <a:pt x="906" y="534"/>
                </a:lnTo>
                <a:lnTo>
                  <a:pt x="916" y="540"/>
                </a:lnTo>
                <a:lnTo>
                  <a:pt x="922" y="551"/>
                </a:lnTo>
                <a:lnTo>
                  <a:pt x="927" y="556"/>
                </a:lnTo>
                <a:lnTo>
                  <a:pt x="938" y="562"/>
                </a:lnTo>
                <a:lnTo>
                  <a:pt x="949" y="562"/>
                </a:lnTo>
                <a:lnTo>
                  <a:pt x="955" y="562"/>
                </a:lnTo>
                <a:lnTo>
                  <a:pt x="966" y="562"/>
                </a:lnTo>
                <a:lnTo>
                  <a:pt x="976" y="562"/>
                </a:lnTo>
                <a:lnTo>
                  <a:pt x="982" y="567"/>
                </a:lnTo>
                <a:lnTo>
                  <a:pt x="993" y="572"/>
                </a:lnTo>
                <a:lnTo>
                  <a:pt x="998" y="583"/>
                </a:lnTo>
                <a:lnTo>
                  <a:pt x="1004" y="589"/>
                </a:lnTo>
                <a:lnTo>
                  <a:pt x="1015" y="600"/>
                </a:lnTo>
                <a:lnTo>
                  <a:pt x="1020" y="600"/>
                </a:lnTo>
                <a:lnTo>
                  <a:pt x="1031" y="605"/>
                </a:lnTo>
                <a:lnTo>
                  <a:pt x="1042" y="605"/>
                </a:lnTo>
                <a:lnTo>
                  <a:pt x="1047" y="605"/>
                </a:lnTo>
                <a:lnTo>
                  <a:pt x="1058" y="611"/>
                </a:lnTo>
                <a:lnTo>
                  <a:pt x="1069" y="616"/>
                </a:lnTo>
                <a:lnTo>
                  <a:pt x="1080" y="621"/>
                </a:lnTo>
                <a:lnTo>
                  <a:pt x="1080" y="632"/>
                </a:lnTo>
                <a:lnTo>
                  <a:pt x="1080" y="638"/>
                </a:lnTo>
                <a:lnTo>
                  <a:pt x="1075" y="649"/>
                </a:lnTo>
                <a:lnTo>
                  <a:pt x="1064" y="654"/>
                </a:lnTo>
                <a:lnTo>
                  <a:pt x="1058" y="665"/>
                </a:lnTo>
                <a:lnTo>
                  <a:pt x="1047" y="665"/>
                </a:lnTo>
                <a:lnTo>
                  <a:pt x="1036" y="671"/>
                </a:lnTo>
                <a:lnTo>
                  <a:pt x="1025" y="671"/>
                </a:lnTo>
                <a:lnTo>
                  <a:pt x="1020" y="665"/>
                </a:lnTo>
                <a:lnTo>
                  <a:pt x="1009" y="665"/>
                </a:lnTo>
                <a:lnTo>
                  <a:pt x="998" y="671"/>
                </a:lnTo>
                <a:lnTo>
                  <a:pt x="993" y="676"/>
                </a:lnTo>
                <a:lnTo>
                  <a:pt x="987" y="687"/>
                </a:lnTo>
                <a:lnTo>
                  <a:pt x="982" y="698"/>
                </a:lnTo>
                <a:lnTo>
                  <a:pt x="976" y="703"/>
                </a:lnTo>
                <a:lnTo>
                  <a:pt x="966" y="709"/>
                </a:lnTo>
                <a:lnTo>
                  <a:pt x="955" y="703"/>
                </a:lnTo>
                <a:lnTo>
                  <a:pt x="944" y="703"/>
                </a:lnTo>
                <a:lnTo>
                  <a:pt x="938" y="703"/>
                </a:lnTo>
                <a:lnTo>
                  <a:pt x="927" y="703"/>
                </a:lnTo>
                <a:lnTo>
                  <a:pt x="916" y="703"/>
                </a:lnTo>
                <a:lnTo>
                  <a:pt x="911" y="703"/>
                </a:lnTo>
                <a:lnTo>
                  <a:pt x="900" y="703"/>
                </a:lnTo>
                <a:lnTo>
                  <a:pt x="889" y="703"/>
                </a:lnTo>
                <a:lnTo>
                  <a:pt x="878" y="703"/>
                </a:lnTo>
                <a:lnTo>
                  <a:pt x="873" y="703"/>
                </a:lnTo>
                <a:lnTo>
                  <a:pt x="862" y="698"/>
                </a:lnTo>
                <a:lnTo>
                  <a:pt x="856" y="692"/>
                </a:lnTo>
                <a:lnTo>
                  <a:pt x="846" y="687"/>
                </a:lnTo>
                <a:lnTo>
                  <a:pt x="840" y="676"/>
                </a:lnTo>
                <a:lnTo>
                  <a:pt x="835" y="671"/>
                </a:lnTo>
                <a:close/>
                <a:moveTo>
                  <a:pt x="1440" y="594"/>
                </a:moveTo>
                <a:lnTo>
                  <a:pt x="1445" y="589"/>
                </a:lnTo>
                <a:lnTo>
                  <a:pt x="1451" y="583"/>
                </a:lnTo>
                <a:lnTo>
                  <a:pt x="1456" y="578"/>
                </a:lnTo>
                <a:lnTo>
                  <a:pt x="1467" y="572"/>
                </a:lnTo>
                <a:lnTo>
                  <a:pt x="1473" y="567"/>
                </a:lnTo>
                <a:lnTo>
                  <a:pt x="1478" y="562"/>
                </a:lnTo>
                <a:lnTo>
                  <a:pt x="1483" y="556"/>
                </a:lnTo>
                <a:lnTo>
                  <a:pt x="1489" y="551"/>
                </a:lnTo>
                <a:lnTo>
                  <a:pt x="1500" y="551"/>
                </a:lnTo>
                <a:lnTo>
                  <a:pt x="1505" y="551"/>
                </a:lnTo>
                <a:lnTo>
                  <a:pt x="1516" y="551"/>
                </a:lnTo>
                <a:lnTo>
                  <a:pt x="1522" y="556"/>
                </a:lnTo>
                <a:lnTo>
                  <a:pt x="1522" y="562"/>
                </a:lnTo>
                <a:lnTo>
                  <a:pt x="1516" y="572"/>
                </a:lnTo>
                <a:lnTo>
                  <a:pt x="1511" y="583"/>
                </a:lnTo>
                <a:lnTo>
                  <a:pt x="1500" y="589"/>
                </a:lnTo>
                <a:lnTo>
                  <a:pt x="1494" y="600"/>
                </a:lnTo>
                <a:lnTo>
                  <a:pt x="1489" y="605"/>
                </a:lnTo>
                <a:lnTo>
                  <a:pt x="1483" y="611"/>
                </a:lnTo>
                <a:lnTo>
                  <a:pt x="1478" y="616"/>
                </a:lnTo>
                <a:lnTo>
                  <a:pt x="1467" y="621"/>
                </a:lnTo>
                <a:lnTo>
                  <a:pt x="1462" y="621"/>
                </a:lnTo>
                <a:lnTo>
                  <a:pt x="1456" y="621"/>
                </a:lnTo>
                <a:lnTo>
                  <a:pt x="1451" y="611"/>
                </a:lnTo>
                <a:lnTo>
                  <a:pt x="1445" y="605"/>
                </a:lnTo>
                <a:lnTo>
                  <a:pt x="1440" y="594"/>
                </a:lnTo>
                <a:close/>
                <a:moveTo>
                  <a:pt x="1822" y="185"/>
                </a:moveTo>
                <a:lnTo>
                  <a:pt x="1822" y="175"/>
                </a:lnTo>
                <a:lnTo>
                  <a:pt x="1827" y="169"/>
                </a:lnTo>
                <a:lnTo>
                  <a:pt x="1832" y="164"/>
                </a:lnTo>
                <a:lnTo>
                  <a:pt x="1832" y="158"/>
                </a:lnTo>
                <a:lnTo>
                  <a:pt x="1838" y="147"/>
                </a:lnTo>
                <a:lnTo>
                  <a:pt x="1843" y="142"/>
                </a:lnTo>
                <a:lnTo>
                  <a:pt x="1849" y="136"/>
                </a:lnTo>
                <a:lnTo>
                  <a:pt x="1854" y="126"/>
                </a:lnTo>
                <a:lnTo>
                  <a:pt x="1860" y="120"/>
                </a:lnTo>
                <a:lnTo>
                  <a:pt x="1865" y="120"/>
                </a:lnTo>
                <a:lnTo>
                  <a:pt x="1871" y="120"/>
                </a:lnTo>
                <a:lnTo>
                  <a:pt x="1876" y="126"/>
                </a:lnTo>
                <a:lnTo>
                  <a:pt x="1881" y="136"/>
                </a:lnTo>
                <a:lnTo>
                  <a:pt x="1881" y="142"/>
                </a:lnTo>
                <a:lnTo>
                  <a:pt x="1881" y="153"/>
                </a:lnTo>
                <a:lnTo>
                  <a:pt x="1876" y="158"/>
                </a:lnTo>
                <a:lnTo>
                  <a:pt x="1871" y="164"/>
                </a:lnTo>
                <a:lnTo>
                  <a:pt x="1865" y="169"/>
                </a:lnTo>
                <a:lnTo>
                  <a:pt x="1860" y="175"/>
                </a:lnTo>
                <a:lnTo>
                  <a:pt x="1854" y="180"/>
                </a:lnTo>
                <a:lnTo>
                  <a:pt x="1849" y="180"/>
                </a:lnTo>
                <a:lnTo>
                  <a:pt x="1843" y="185"/>
                </a:lnTo>
                <a:lnTo>
                  <a:pt x="1838" y="191"/>
                </a:lnTo>
                <a:lnTo>
                  <a:pt x="1832" y="196"/>
                </a:lnTo>
                <a:lnTo>
                  <a:pt x="1827" y="191"/>
                </a:lnTo>
                <a:lnTo>
                  <a:pt x="1822" y="185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2" name=""/>
          <p:cNvSpPr/>
          <p:nvPr/>
        </p:nvSpPr>
        <p:spPr>
          <a:xfrm>
            <a:off x="2746440" y="1000080"/>
            <a:ext cx="4059000" cy="5727600"/>
          </a:xfrm>
          <a:custGeom>
            <a:avLst/>
            <a:gdLst/>
            <a:ahLst/>
            <a:rect l="l" t="t" r="r" b="b"/>
            <a:pathLst>
              <a:path w="2557" h="3608">
                <a:moveTo>
                  <a:pt x="828" y="3347"/>
                </a:moveTo>
                <a:lnTo>
                  <a:pt x="828" y="3336"/>
                </a:lnTo>
                <a:lnTo>
                  <a:pt x="823" y="3325"/>
                </a:lnTo>
                <a:lnTo>
                  <a:pt x="823" y="3314"/>
                </a:lnTo>
                <a:lnTo>
                  <a:pt x="823" y="3303"/>
                </a:lnTo>
                <a:lnTo>
                  <a:pt x="818" y="3298"/>
                </a:lnTo>
                <a:lnTo>
                  <a:pt x="818" y="3287"/>
                </a:lnTo>
                <a:lnTo>
                  <a:pt x="818" y="3276"/>
                </a:lnTo>
                <a:lnTo>
                  <a:pt x="818" y="3265"/>
                </a:lnTo>
                <a:lnTo>
                  <a:pt x="823" y="3254"/>
                </a:lnTo>
                <a:lnTo>
                  <a:pt x="823" y="3243"/>
                </a:lnTo>
                <a:lnTo>
                  <a:pt x="828" y="3238"/>
                </a:lnTo>
                <a:lnTo>
                  <a:pt x="834" y="3227"/>
                </a:lnTo>
                <a:lnTo>
                  <a:pt x="839" y="3221"/>
                </a:lnTo>
                <a:lnTo>
                  <a:pt x="845" y="3216"/>
                </a:lnTo>
                <a:lnTo>
                  <a:pt x="850" y="3205"/>
                </a:lnTo>
                <a:lnTo>
                  <a:pt x="856" y="3199"/>
                </a:lnTo>
                <a:lnTo>
                  <a:pt x="856" y="3189"/>
                </a:lnTo>
                <a:lnTo>
                  <a:pt x="850" y="3183"/>
                </a:lnTo>
                <a:lnTo>
                  <a:pt x="845" y="3178"/>
                </a:lnTo>
                <a:lnTo>
                  <a:pt x="834" y="3178"/>
                </a:lnTo>
                <a:lnTo>
                  <a:pt x="828" y="3178"/>
                </a:lnTo>
                <a:lnTo>
                  <a:pt x="818" y="3183"/>
                </a:lnTo>
                <a:lnTo>
                  <a:pt x="812" y="3183"/>
                </a:lnTo>
                <a:lnTo>
                  <a:pt x="801" y="3183"/>
                </a:lnTo>
                <a:lnTo>
                  <a:pt x="796" y="3183"/>
                </a:lnTo>
                <a:lnTo>
                  <a:pt x="790" y="3178"/>
                </a:lnTo>
                <a:lnTo>
                  <a:pt x="779" y="3172"/>
                </a:lnTo>
                <a:lnTo>
                  <a:pt x="774" y="3167"/>
                </a:lnTo>
                <a:lnTo>
                  <a:pt x="774" y="3156"/>
                </a:lnTo>
                <a:lnTo>
                  <a:pt x="768" y="3150"/>
                </a:lnTo>
                <a:lnTo>
                  <a:pt x="763" y="3145"/>
                </a:lnTo>
                <a:lnTo>
                  <a:pt x="758" y="3134"/>
                </a:lnTo>
                <a:lnTo>
                  <a:pt x="752" y="3129"/>
                </a:lnTo>
                <a:lnTo>
                  <a:pt x="747" y="3118"/>
                </a:lnTo>
                <a:lnTo>
                  <a:pt x="741" y="3112"/>
                </a:lnTo>
                <a:lnTo>
                  <a:pt x="736" y="3101"/>
                </a:lnTo>
                <a:lnTo>
                  <a:pt x="730" y="3096"/>
                </a:lnTo>
                <a:lnTo>
                  <a:pt x="730" y="3090"/>
                </a:lnTo>
                <a:lnTo>
                  <a:pt x="725" y="3080"/>
                </a:lnTo>
                <a:lnTo>
                  <a:pt x="719" y="3074"/>
                </a:lnTo>
                <a:lnTo>
                  <a:pt x="714" y="3063"/>
                </a:lnTo>
                <a:lnTo>
                  <a:pt x="709" y="3058"/>
                </a:lnTo>
                <a:lnTo>
                  <a:pt x="703" y="3047"/>
                </a:lnTo>
                <a:lnTo>
                  <a:pt x="698" y="3041"/>
                </a:lnTo>
                <a:lnTo>
                  <a:pt x="692" y="3036"/>
                </a:lnTo>
                <a:lnTo>
                  <a:pt x="681" y="3036"/>
                </a:lnTo>
                <a:lnTo>
                  <a:pt x="676" y="3031"/>
                </a:lnTo>
                <a:lnTo>
                  <a:pt x="670" y="3025"/>
                </a:lnTo>
                <a:lnTo>
                  <a:pt x="665" y="3025"/>
                </a:lnTo>
                <a:lnTo>
                  <a:pt x="654" y="3020"/>
                </a:lnTo>
                <a:lnTo>
                  <a:pt x="649" y="3014"/>
                </a:lnTo>
                <a:lnTo>
                  <a:pt x="643" y="3009"/>
                </a:lnTo>
                <a:lnTo>
                  <a:pt x="632" y="3003"/>
                </a:lnTo>
                <a:lnTo>
                  <a:pt x="627" y="3003"/>
                </a:lnTo>
                <a:lnTo>
                  <a:pt x="627" y="3014"/>
                </a:lnTo>
                <a:lnTo>
                  <a:pt x="621" y="3025"/>
                </a:lnTo>
                <a:lnTo>
                  <a:pt x="616" y="3031"/>
                </a:lnTo>
                <a:lnTo>
                  <a:pt x="616" y="3041"/>
                </a:lnTo>
                <a:lnTo>
                  <a:pt x="610" y="3052"/>
                </a:lnTo>
                <a:lnTo>
                  <a:pt x="610" y="3063"/>
                </a:lnTo>
                <a:lnTo>
                  <a:pt x="605" y="3074"/>
                </a:lnTo>
                <a:lnTo>
                  <a:pt x="605" y="3080"/>
                </a:lnTo>
                <a:lnTo>
                  <a:pt x="599" y="3090"/>
                </a:lnTo>
                <a:lnTo>
                  <a:pt x="594" y="3096"/>
                </a:lnTo>
                <a:lnTo>
                  <a:pt x="589" y="3101"/>
                </a:lnTo>
                <a:lnTo>
                  <a:pt x="583" y="3107"/>
                </a:lnTo>
                <a:lnTo>
                  <a:pt x="572" y="3112"/>
                </a:lnTo>
                <a:lnTo>
                  <a:pt x="567" y="3112"/>
                </a:lnTo>
                <a:lnTo>
                  <a:pt x="561" y="3118"/>
                </a:lnTo>
                <a:lnTo>
                  <a:pt x="550" y="3123"/>
                </a:lnTo>
                <a:lnTo>
                  <a:pt x="545" y="3123"/>
                </a:lnTo>
                <a:lnTo>
                  <a:pt x="556" y="3129"/>
                </a:lnTo>
                <a:lnTo>
                  <a:pt x="567" y="3129"/>
                </a:lnTo>
                <a:lnTo>
                  <a:pt x="572" y="3140"/>
                </a:lnTo>
                <a:lnTo>
                  <a:pt x="578" y="3145"/>
                </a:lnTo>
                <a:lnTo>
                  <a:pt x="578" y="3156"/>
                </a:lnTo>
                <a:lnTo>
                  <a:pt x="578" y="3161"/>
                </a:lnTo>
                <a:lnTo>
                  <a:pt x="578" y="3172"/>
                </a:lnTo>
                <a:lnTo>
                  <a:pt x="572" y="3183"/>
                </a:lnTo>
                <a:lnTo>
                  <a:pt x="572" y="3194"/>
                </a:lnTo>
                <a:lnTo>
                  <a:pt x="567" y="3199"/>
                </a:lnTo>
                <a:lnTo>
                  <a:pt x="561" y="3210"/>
                </a:lnTo>
                <a:lnTo>
                  <a:pt x="556" y="3221"/>
                </a:lnTo>
                <a:lnTo>
                  <a:pt x="556" y="3227"/>
                </a:lnTo>
                <a:lnTo>
                  <a:pt x="556" y="3238"/>
                </a:lnTo>
                <a:lnTo>
                  <a:pt x="550" y="3249"/>
                </a:lnTo>
                <a:lnTo>
                  <a:pt x="545" y="3254"/>
                </a:lnTo>
                <a:lnTo>
                  <a:pt x="539" y="3265"/>
                </a:lnTo>
                <a:lnTo>
                  <a:pt x="539" y="3276"/>
                </a:lnTo>
                <a:lnTo>
                  <a:pt x="545" y="3287"/>
                </a:lnTo>
                <a:lnTo>
                  <a:pt x="550" y="3292"/>
                </a:lnTo>
                <a:lnTo>
                  <a:pt x="556" y="3292"/>
                </a:lnTo>
                <a:lnTo>
                  <a:pt x="561" y="3287"/>
                </a:lnTo>
                <a:lnTo>
                  <a:pt x="567" y="3281"/>
                </a:lnTo>
                <a:lnTo>
                  <a:pt x="572" y="3270"/>
                </a:lnTo>
                <a:lnTo>
                  <a:pt x="578" y="3265"/>
                </a:lnTo>
                <a:lnTo>
                  <a:pt x="583" y="3254"/>
                </a:lnTo>
                <a:lnTo>
                  <a:pt x="589" y="3249"/>
                </a:lnTo>
                <a:lnTo>
                  <a:pt x="594" y="3243"/>
                </a:lnTo>
                <a:lnTo>
                  <a:pt x="599" y="3232"/>
                </a:lnTo>
                <a:lnTo>
                  <a:pt x="605" y="3227"/>
                </a:lnTo>
                <a:lnTo>
                  <a:pt x="610" y="3216"/>
                </a:lnTo>
                <a:lnTo>
                  <a:pt x="610" y="3210"/>
                </a:lnTo>
                <a:lnTo>
                  <a:pt x="616" y="3199"/>
                </a:lnTo>
                <a:lnTo>
                  <a:pt x="621" y="3194"/>
                </a:lnTo>
                <a:lnTo>
                  <a:pt x="632" y="3189"/>
                </a:lnTo>
                <a:lnTo>
                  <a:pt x="638" y="3194"/>
                </a:lnTo>
                <a:lnTo>
                  <a:pt x="643" y="3199"/>
                </a:lnTo>
                <a:lnTo>
                  <a:pt x="649" y="3205"/>
                </a:lnTo>
                <a:lnTo>
                  <a:pt x="654" y="3210"/>
                </a:lnTo>
                <a:lnTo>
                  <a:pt x="665" y="3216"/>
                </a:lnTo>
                <a:lnTo>
                  <a:pt x="670" y="3216"/>
                </a:lnTo>
                <a:lnTo>
                  <a:pt x="676" y="3221"/>
                </a:lnTo>
                <a:lnTo>
                  <a:pt x="681" y="3227"/>
                </a:lnTo>
                <a:lnTo>
                  <a:pt x="687" y="3232"/>
                </a:lnTo>
                <a:lnTo>
                  <a:pt x="692" y="3238"/>
                </a:lnTo>
                <a:lnTo>
                  <a:pt x="703" y="3243"/>
                </a:lnTo>
                <a:lnTo>
                  <a:pt x="709" y="3249"/>
                </a:lnTo>
                <a:lnTo>
                  <a:pt x="714" y="3254"/>
                </a:lnTo>
                <a:lnTo>
                  <a:pt x="719" y="3259"/>
                </a:lnTo>
                <a:lnTo>
                  <a:pt x="725" y="3265"/>
                </a:lnTo>
                <a:lnTo>
                  <a:pt x="736" y="3270"/>
                </a:lnTo>
                <a:lnTo>
                  <a:pt x="741" y="3276"/>
                </a:lnTo>
                <a:lnTo>
                  <a:pt x="747" y="3281"/>
                </a:lnTo>
                <a:lnTo>
                  <a:pt x="752" y="3287"/>
                </a:lnTo>
                <a:lnTo>
                  <a:pt x="758" y="3298"/>
                </a:lnTo>
                <a:lnTo>
                  <a:pt x="763" y="3303"/>
                </a:lnTo>
                <a:lnTo>
                  <a:pt x="768" y="3314"/>
                </a:lnTo>
                <a:lnTo>
                  <a:pt x="768" y="3325"/>
                </a:lnTo>
                <a:lnTo>
                  <a:pt x="768" y="3330"/>
                </a:lnTo>
                <a:lnTo>
                  <a:pt x="774" y="3341"/>
                </a:lnTo>
                <a:lnTo>
                  <a:pt x="774" y="3352"/>
                </a:lnTo>
                <a:lnTo>
                  <a:pt x="785" y="3358"/>
                </a:lnTo>
                <a:lnTo>
                  <a:pt x="790" y="3363"/>
                </a:lnTo>
                <a:lnTo>
                  <a:pt x="796" y="3368"/>
                </a:lnTo>
                <a:lnTo>
                  <a:pt x="807" y="3368"/>
                </a:lnTo>
                <a:lnTo>
                  <a:pt x="812" y="3368"/>
                </a:lnTo>
                <a:lnTo>
                  <a:pt x="818" y="3363"/>
                </a:lnTo>
                <a:lnTo>
                  <a:pt x="823" y="3358"/>
                </a:lnTo>
                <a:lnTo>
                  <a:pt x="828" y="3347"/>
                </a:lnTo>
                <a:close/>
                <a:moveTo>
                  <a:pt x="1641" y="3085"/>
                </a:moveTo>
                <a:lnTo>
                  <a:pt x="1641" y="3074"/>
                </a:lnTo>
                <a:lnTo>
                  <a:pt x="1641" y="3063"/>
                </a:lnTo>
                <a:lnTo>
                  <a:pt x="1641" y="3052"/>
                </a:lnTo>
                <a:lnTo>
                  <a:pt x="1646" y="3047"/>
                </a:lnTo>
                <a:lnTo>
                  <a:pt x="1652" y="3041"/>
                </a:lnTo>
                <a:lnTo>
                  <a:pt x="1663" y="3036"/>
                </a:lnTo>
                <a:lnTo>
                  <a:pt x="1668" y="3031"/>
                </a:lnTo>
                <a:lnTo>
                  <a:pt x="1674" y="3020"/>
                </a:lnTo>
                <a:lnTo>
                  <a:pt x="1679" y="3014"/>
                </a:lnTo>
                <a:lnTo>
                  <a:pt x="1679" y="3003"/>
                </a:lnTo>
                <a:lnTo>
                  <a:pt x="1684" y="2992"/>
                </a:lnTo>
                <a:lnTo>
                  <a:pt x="1690" y="2987"/>
                </a:lnTo>
                <a:lnTo>
                  <a:pt x="1695" y="2976"/>
                </a:lnTo>
                <a:lnTo>
                  <a:pt x="1695" y="2965"/>
                </a:lnTo>
                <a:lnTo>
                  <a:pt x="1701" y="2960"/>
                </a:lnTo>
                <a:lnTo>
                  <a:pt x="1706" y="2949"/>
                </a:lnTo>
                <a:lnTo>
                  <a:pt x="1712" y="2943"/>
                </a:lnTo>
                <a:lnTo>
                  <a:pt x="1717" y="2932"/>
                </a:lnTo>
                <a:lnTo>
                  <a:pt x="1717" y="2922"/>
                </a:lnTo>
                <a:lnTo>
                  <a:pt x="1723" y="2916"/>
                </a:lnTo>
                <a:lnTo>
                  <a:pt x="1728" y="2905"/>
                </a:lnTo>
                <a:lnTo>
                  <a:pt x="1734" y="2894"/>
                </a:lnTo>
                <a:lnTo>
                  <a:pt x="1739" y="2889"/>
                </a:lnTo>
                <a:lnTo>
                  <a:pt x="1739" y="2878"/>
                </a:lnTo>
                <a:lnTo>
                  <a:pt x="1744" y="2867"/>
                </a:lnTo>
                <a:lnTo>
                  <a:pt x="1750" y="2862"/>
                </a:lnTo>
                <a:lnTo>
                  <a:pt x="1755" y="2851"/>
                </a:lnTo>
                <a:lnTo>
                  <a:pt x="1761" y="2845"/>
                </a:lnTo>
                <a:lnTo>
                  <a:pt x="1761" y="2834"/>
                </a:lnTo>
                <a:lnTo>
                  <a:pt x="1766" y="2823"/>
                </a:lnTo>
                <a:lnTo>
                  <a:pt x="1772" y="2818"/>
                </a:lnTo>
                <a:lnTo>
                  <a:pt x="1777" y="2807"/>
                </a:lnTo>
                <a:lnTo>
                  <a:pt x="1783" y="2796"/>
                </a:lnTo>
                <a:lnTo>
                  <a:pt x="1783" y="2791"/>
                </a:lnTo>
                <a:lnTo>
                  <a:pt x="1788" y="2780"/>
                </a:lnTo>
                <a:lnTo>
                  <a:pt x="1794" y="2774"/>
                </a:lnTo>
                <a:lnTo>
                  <a:pt x="1799" y="2763"/>
                </a:lnTo>
                <a:lnTo>
                  <a:pt x="1799" y="2753"/>
                </a:lnTo>
                <a:lnTo>
                  <a:pt x="1804" y="2742"/>
                </a:lnTo>
                <a:lnTo>
                  <a:pt x="1810" y="2736"/>
                </a:lnTo>
                <a:lnTo>
                  <a:pt x="1815" y="2725"/>
                </a:lnTo>
                <a:lnTo>
                  <a:pt x="1821" y="2720"/>
                </a:lnTo>
                <a:lnTo>
                  <a:pt x="1821" y="2709"/>
                </a:lnTo>
                <a:lnTo>
                  <a:pt x="1826" y="2698"/>
                </a:lnTo>
                <a:lnTo>
                  <a:pt x="1832" y="2693"/>
                </a:lnTo>
                <a:lnTo>
                  <a:pt x="1837" y="2682"/>
                </a:lnTo>
                <a:lnTo>
                  <a:pt x="1843" y="2671"/>
                </a:lnTo>
                <a:lnTo>
                  <a:pt x="1843" y="2665"/>
                </a:lnTo>
                <a:lnTo>
                  <a:pt x="1848" y="2654"/>
                </a:lnTo>
                <a:lnTo>
                  <a:pt x="1854" y="2644"/>
                </a:lnTo>
                <a:lnTo>
                  <a:pt x="1859" y="2638"/>
                </a:lnTo>
                <a:lnTo>
                  <a:pt x="1864" y="2627"/>
                </a:lnTo>
                <a:lnTo>
                  <a:pt x="1864" y="2622"/>
                </a:lnTo>
                <a:lnTo>
                  <a:pt x="1870" y="2611"/>
                </a:lnTo>
                <a:lnTo>
                  <a:pt x="1875" y="2600"/>
                </a:lnTo>
                <a:lnTo>
                  <a:pt x="1881" y="2594"/>
                </a:lnTo>
                <a:lnTo>
                  <a:pt x="1881" y="2584"/>
                </a:lnTo>
                <a:lnTo>
                  <a:pt x="1886" y="2573"/>
                </a:lnTo>
                <a:lnTo>
                  <a:pt x="1892" y="2567"/>
                </a:lnTo>
                <a:lnTo>
                  <a:pt x="1897" y="2556"/>
                </a:lnTo>
                <a:lnTo>
                  <a:pt x="1903" y="2551"/>
                </a:lnTo>
                <a:lnTo>
                  <a:pt x="1908" y="2540"/>
                </a:lnTo>
                <a:lnTo>
                  <a:pt x="1908" y="2529"/>
                </a:lnTo>
                <a:lnTo>
                  <a:pt x="1913" y="2524"/>
                </a:lnTo>
                <a:lnTo>
                  <a:pt x="1919" y="2513"/>
                </a:lnTo>
                <a:lnTo>
                  <a:pt x="1924" y="2502"/>
                </a:lnTo>
                <a:lnTo>
                  <a:pt x="1924" y="2496"/>
                </a:lnTo>
                <a:lnTo>
                  <a:pt x="1930" y="2485"/>
                </a:lnTo>
                <a:lnTo>
                  <a:pt x="1935" y="2480"/>
                </a:lnTo>
                <a:lnTo>
                  <a:pt x="1941" y="2469"/>
                </a:lnTo>
                <a:lnTo>
                  <a:pt x="1946" y="2458"/>
                </a:lnTo>
                <a:lnTo>
                  <a:pt x="1946" y="2453"/>
                </a:lnTo>
                <a:lnTo>
                  <a:pt x="1952" y="2442"/>
                </a:lnTo>
                <a:lnTo>
                  <a:pt x="1957" y="2431"/>
                </a:lnTo>
                <a:lnTo>
                  <a:pt x="1963" y="2426"/>
                </a:lnTo>
                <a:lnTo>
                  <a:pt x="1963" y="2415"/>
                </a:lnTo>
                <a:lnTo>
                  <a:pt x="1968" y="2404"/>
                </a:lnTo>
                <a:lnTo>
                  <a:pt x="1973" y="2398"/>
                </a:lnTo>
                <a:lnTo>
                  <a:pt x="1979" y="2387"/>
                </a:lnTo>
                <a:lnTo>
                  <a:pt x="1984" y="2382"/>
                </a:lnTo>
                <a:lnTo>
                  <a:pt x="1990" y="2371"/>
                </a:lnTo>
                <a:lnTo>
                  <a:pt x="1995" y="2360"/>
                </a:lnTo>
                <a:lnTo>
                  <a:pt x="1995" y="2349"/>
                </a:lnTo>
                <a:lnTo>
                  <a:pt x="1995" y="2338"/>
                </a:lnTo>
                <a:lnTo>
                  <a:pt x="1990" y="2333"/>
                </a:lnTo>
                <a:lnTo>
                  <a:pt x="1984" y="2322"/>
                </a:lnTo>
                <a:lnTo>
                  <a:pt x="1973" y="2322"/>
                </a:lnTo>
                <a:lnTo>
                  <a:pt x="1968" y="2317"/>
                </a:lnTo>
                <a:lnTo>
                  <a:pt x="1963" y="2322"/>
                </a:lnTo>
                <a:lnTo>
                  <a:pt x="1952" y="2327"/>
                </a:lnTo>
                <a:lnTo>
                  <a:pt x="1946" y="2333"/>
                </a:lnTo>
                <a:lnTo>
                  <a:pt x="1941" y="2338"/>
                </a:lnTo>
                <a:lnTo>
                  <a:pt x="1935" y="2349"/>
                </a:lnTo>
                <a:lnTo>
                  <a:pt x="1930" y="2355"/>
                </a:lnTo>
                <a:lnTo>
                  <a:pt x="1924" y="2360"/>
                </a:lnTo>
                <a:lnTo>
                  <a:pt x="1919" y="2366"/>
                </a:lnTo>
                <a:lnTo>
                  <a:pt x="1908" y="2371"/>
                </a:lnTo>
                <a:lnTo>
                  <a:pt x="1903" y="2376"/>
                </a:lnTo>
                <a:lnTo>
                  <a:pt x="1897" y="2387"/>
                </a:lnTo>
                <a:lnTo>
                  <a:pt x="1892" y="2393"/>
                </a:lnTo>
                <a:lnTo>
                  <a:pt x="1886" y="2398"/>
                </a:lnTo>
                <a:lnTo>
                  <a:pt x="1881" y="2404"/>
                </a:lnTo>
                <a:lnTo>
                  <a:pt x="1875" y="2409"/>
                </a:lnTo>
                <a:lnTo>
                  <a:pt x="1864" y="2415"/>
                </a:lnTo>
                <a:lnTo>
                  <a:pt x="1859" y="2426"/>
                </a:lnTo>
                <a:lnTo>
                  <a:pt x="1854" y="2431"/>
                </a:lnTo>
                <a:lnTo>
                  <a:pt x="1848" y="2436"/>
                </a:lnTo>
                <a:lnTo>
                  <a:pt x="1843" y="2442"/>
                </a:lnTo>
                <a:lnTo>
                  <a:pt x="1837" y="2447"/>
                </a:lnTo>
                <a:lnTo>
                  <a:pt x="1832" y="2453"/>
                </a:lnTo>
                <a:lnTo>
                  <a:pt x="1821" y="2458"/>
                </a:lnTo>
                <a:lnTo>
                  <a:pt x="1815" y="2469"/>
                </a:lnTo>
                <a:lnTo>
                  <a:pt x="1810" y="2475"/>
                </a:lnTo>
                <a:lnTo>
                  <a:pt x="1804" y="2480"/>
                </a:lnTo>
                <a:lnTo>
                  <a:pt x="1799" y="2485"/>
                </a:lnTo>
                <a:lnTo>
                  <a:pt x="1794" y="2491"/>
                </a:lnTo>
                <a:lnTo>
                  <a:pt x="1783" y="2496"/>
                </a:lnTo>
                <a:lnTo>
                  <a:pt x="1777" y="2507"/>
                </a:lnTo>
                <a:lnTo>
                  <a:pt x="1777" y="2513"/>
                </a:lnTo>
                <a:lnTo>
                  <a:pt x="1777" y="2524"/>
                </a:lnTo>
                <a:lnTo>
                  <a:pt x="1777" y="2535"/>
                </a:lnTo>
                <a:lnTo>
                  <a:pt x="1777" y="2545"/>
                </a:lnTo>
                <a:lnTo>
                  <a:pt x="1777" y="2556"/>
                </a:lnTo>
                <a:lnTo>
                  <a:pt x="1777" y="2567"/>
                </a:lnTo>
                <a:lnTo>
                  <a:pt x="1772" y="2578"/>
                </a:lnTo>
                <a:lnTo>
                  <a:pt x="1772" y="2589"/>
                </a:lnTo>
                <a:lnTo>
                  <a:pt x="1772" y="2600"/>
                </a:lnTo>
                <a:lnTo>
                  <a:pt x="1772" y="2611"/>
                </a:lnTo>
                <a:lnTo>
                  <a:pt x="1766" y="2622"/>
                </a:lnTo>
                <a:lnTo>
                  <a:pt x="1766" y="2633"/>
                </a:lnTo>
                <a:lnTo>
                  <a:pt x="1761" y="2638"/>
                </a:lnTo>
                <a:lnTo>
                  <a:pt x="1750" y="2649"/>
                </a:lnTo>
                <a:lnTo>
                  <a:pt x="1744" y="2654"/>
                </a:lnTo>
                <a:lnTo>
                  <a:pt x="1739" y="2660"/>
                </a:lnTo>
                <a:lnTo>
                  <a:pt x="1739" y="2671"/>
                </a:lnTo>
                <a:lnTo>
                  <a:pt x="1739" y="2682"/>
                </a:lnTo>
                <a:lnTo>
                  <a:pt x="1739" y="2693"/>
                </a:lnTo>
                <a:lnTo>
                  <a:pt x="1739" y="2703"/>
                </a:lnTo>
                <a:lnTo>
                  <a:pt x="1739" y="2714"/>
                </a:lnTo>
                <a:lnTo>
                  <a:pt x="1739" y="2725"/>
                </a:lnTo>
                <a:lnTo>
                  <a:pt x="1739" y="2736"/>
                </a:lnTo>
                <a:lnTo>
                  <a:pt x="1734" y="2747"/>
                </a:lnTo>
                <a:lnTo>
                  <a:pt x="1734" y="2758"/>
                </a:lnTo>
                <a:lnTo>
                  <a:pt x="1728" y="2763"/>
                </a:lnTo>
                <a:lnTo>
                  <a:pt x="1723" y="2769"/>
                </a:lnTo>
                <a:lnTo>
                  <a:pt x="1717" y="2774"/>
                </a:lnTo>
                <a:lnTo>
                  <a:pt x="1706" y="2780"/>
                </a:lnTo>
                <a:lnTo>
                  <a:pt x="1701" y="2785"/>
                </a:lnTo>
                <a:lnTo>
                  <a:pt x="1690" y="2785"/>
                </a:lnTo>
                <a:lnTo>
                  <a:pt x="1684" y="2791"/>
                </a:lnTo>
                <a:lnTo>
                  <a:pt x="1679" y="2791"/>
                </a:lnTo>
                <a:lnTo>
                  <a:pt x="1668" y="2785"/>
                </a:lnTo>
                <a:lnTo>
                  <a:pt x="1663" y="2785"/>
                </a:lnTo>
                <a:lnTo>
                  <a:pt x="1652" y="2785"/>
                </a:lnTo>
                <a:lnTo>
                  <a:pt x="1646" y="2785"/>
                </a:lnTo>
                <a:lnTo>
                  <a:pt x="1641" y="2791"/>
                </a:lnTo>
                <a:lnTo>
                  <a:pt x="1635" y="2796"/>
                </a:lnTo>
                <a:lnTo>
                  <a:pt x="1635" y="2807"/>
                </a:lnTo>
                <a:lnTo>
                  <a:pt x="1635" y="2823"/>
                </a:lnTo>
                <a:lnTo>
                  <a:pt x="1635" y="2834"/>
                </a:lnTo>
                <a:lnTo>
                  <a:pt x="1635" y="2845"/>
                </a:lnTo>
                <a:lnTo>
                  <a:pt x="1641" y="2856"/>
                </a:lnTo>
                <a:lnTo>
                  <a:pt x="1641" y="2867"/>
                </a:lnTo>
                <a:lnTo>
                  <a:pt x="1641" y="2878"/>
                </a:lnTo>
                <a:lnTo>
                  <a:pt x="1641" y="2889"/>
                </a:lnTo>
                <a:lnTo>
                  <a:pt x="1635" y="2900"/>
                </a:lnTo>
                <a:lnTo>
                  <a:pt x="1635" y="2911"/>
                </a:lnTo>
                <a:lnTo>
                  <a:pt x="1635" y="2922"/>
                </a:lnTo>
                <a:lnTo>
                  <a:pt x="1635" y="2932"/>
                </a:lnTo>
                <a:lnTo>
                  <a:pt x="1635" y="2943"/>
                </a:lnTo>
                <a:lnTo>
                  <a:pt x="1635" y="2949"/>
                </a:lnTo>
                <a:lnTo>
                  <a:pt x="1630" y="2960"/>
                </a:lnTo>
                <a:lnTo>
                  <a:pt x="1630" y="2971"/>
                </a:lnTo>
                <a:lnTo>
                  <a:pt x="1630" y="2981"/>
                </a:lnTo>
                <a:lnTo>
                  <a:pt x="1630" y="2992"/>
                </a:lnTo>
                <a:lnTo>
                  <a:pt x="1625" y="3003"/>
                </a:lnTo>
                <a:lnTo>
                  <a:pt x="1625" y="3014"/>
                </a:lnTo>
                <a:lnTo>
                  <a:pt x="1625" y="3025"/>
                </a:lnTo>
                <a:lnTo>
                  <a:pt x="1625" y="3036"/>
                </a:lnTo>
                <a:lnTo>
                  <a:pt x="1625" y="3047"/>
                </a:lnTo>
                <a:lnTo>
                  <a:pt x="1619" y="3058"/>
                </a:lnTo>
                <a:lnTo>
                  <a:pt x="1619" y="3069"/>
                </a:lnTo>
                <a:lnTo>
                  <a:pt x="1619" y="3080"/>
                </a:lnTo>
                <a:lnTo>
                  <a:pt x="1619" y="3090"/>
                </a:lnTo>
                <a:lnTo>
                  <a:pt x="1625" y="3101"/>
                </a:lnTo>
                <a:lnTo>
                  <a:pt x="1630" y="3107"/>
                </a:lnTo>
                <a:lnTo>
                  <a:pt x="1635" y="3101"/>
                </a:lnTo>
                <a:lnTo>
                  <a:pt x="1641" y="3085"/>
                </a:lnTo>
                <a:close/>
                <a:moveTo>
                  <a:pt x="867" y="2415"/>
                </a:moveTo>
                <a:lnTo>
                  <a:pt x="861" y="2404"/>
                </a:lnTo>
                <a:lnTo>
                  <a:pt x="856" y="2393"/>
                </a:lnTo>
                <a:lnTo>
                  <a:pt x="850" y="2387"/>
                </a:lnTo>
                <a:lnTo>
                  <a:pt x="845" y="2382"/>
                </a:lnTo>
                <a:lnTo>
                  <a:pt x="834" y="2371"/>
                </a:lnTo>
                <a:lnTo>
                  <a:pt x="828" y="2360"/>
                </a:lnTo>
                <a:lnTo>
                  <a:pt x="823" y="2349"/>
                </a:lnTo>
                <a:lnTo>
                  <a:pt x="818" y="2344"/>
                </a:lnTo>
                <a:lnTo>
                  <a:pt x="823" y="2338"/>
                </a:lnTo>
                <a:lnTo>
                  <a:pt x="834" y="2338"/>
                </a:lnTo>
                <a:lnTo>
                  <a:pt x="845" y="2338"/>
                </a:lnTo>
                <a:lnTo>
                  <a:pt x="856" y="2333"/>
                </a:lnTo>
                <a:lnTo>
                  <a:pt x="861" y="2333"/>
                </a:lnTo>
                <a:lnTo>
                  <a:pt x="872" y="2327"/>
                </a:lnTo>
                <a:lnTo>
                  <a:pt x="878" y="2317"/>
                </a:lnTo>
                <a:lnTo>
                  <a:pt x="883" y="2311"/>
                </a:lnTo>
                <a:lnTo>
                  <a:pt x="888" y="2306"/>
                </a:lnTo>
                <a:lnTo>
                  <a:pt x="899" y="2295"/>
                </a:lnTo>
                <a:lnTo>
                  <a:pt x="905" y="2289"/>
                </a:lnTo>
                <a:lnTo>
                  <a:pt x="910" y="2284"/>
                </a:lnTo>
                <a:lnTo>
                  <a:pt x="921" y="2278"/>
                </a:lnTo>
                <a:lnTo>
                  <a:pt x="927" y="2273"/>
                </a:lnTo>
                <a:lnTo>
                  <a:pt x="938" y="2267"/>
                </a:lnTo>
                <a:lnTo>
                  <a:pt x="943" y="2267"/>
                </a:lnTo>
                <a:lnTo>
                  <a:pt x="954" y="2262"/>
                </a:lnTo>
                <a:lnTo>
                  <a:pt x="959" y="2257"/>
                </a:lnTo>
                <a:lnTo>
                  <a:pt x="970" y="2251"/>
                </a:lnTo>
                <a:lnTo>
                  <a:pt x="976" y="2251"/>
                </a:lnTo>
                <a:lnTo>
                  <a:pt x="987" y="2246"/>
                </a:lnTo>
                <a:lnTo>
                  <a:pt x="992" y="2240"/>
                </a:lnTo>
                <a:lnTo>
                  <a:pt x="1003" y="2240"/>
                </a:lnTo>
                <a:lnTo>
                  <a:pt x="1014" y="2240"/>
                </a:lnTo>
                <a:lnTo>
                  <a:pt x="1019" y="2240"/>
                </a:lnTo>
                <a:lnTo>
                  <a:pt x="1025" y="2229"/>
                </a:lnTo>
                <a:lnTo>
                  <a:pt x="1030" y="2218"/>
                </a:lnTo>
                <a:lnTo>
                  <a:pt x="1036" y="2208"/>
                </a:lnTo>
                <a:lnTo>
                  <a:pt x="1041" y="2208"/>
                </a:lnTo>
                <a:lnTo>
                  <a:pt x="1047" y="2213"/>
                </a:lnTo>
                <a:lnTo>
                  <a:pt x="1052" y="2229"/>
                </a:lnTo>
                <a:lnTo>
                  <a:pt x="1057" y="2235"/>
                </a:lnTo>
                <a:lnTo>
                  <a:pt x="1068" y="2240"/>
                </a:lnTo>
                <a:lnTo>
                  <a:pt x="1074" y="2246"/>
                </a:lnTo>
                <a:lnTo>
                  <a:pt x="1079" y="2251"/>
                </a:lnTo>
                <a:lnTo>
                  <a:pt x="1085" y="2262"/>
                </a:lnTo>
                <a:lnTo>
                  <a:pt x="1090" y="2273"/>
                </a:lnTo>
                <a:lnTo>
                  <a:pt x="1096" y="2284"/>
                </a:lnTo>
                <a:lnTo>
                  <a:pt x="1101" y="2295"/>
                </a:lnTo>
                <a:lnTo>
                  <a:pt x="1101" y="2306"/>
                </a:lnTo>
                <a:lnTo>
                  <a:pt x="1107" y="2317"/>
                </a:lnTo>
                <a:lnTo>
                  <a:pt x="1112" y="2322"/>
                </a:lnTo>
                <a:lnTo>
                  <a:pt x="1123" y="2327"/>
                </a:lnTo>
                <a:lnTo>
                  <a:pt x="1134" y="2333"/>
                </a:lnTo>
                <a:lnTo>
                  <a:pt x="1139" y="2338"/>
                </a:lnTo>
                <a:lnTo>
                  <a:pt x="1145" y="2344"/>
                </a:lnTo>
                <a:lnTo>
                  <a:pt x="1145" y="2355"/>
                </a:lnTo>
                <a:lnTo>
                  <a:pt x="1145" y="2371"/>
                </a:lnTo>
                <a:lnTo>
                  <a:pt x="1145" y="2382"/>
                </a:lnTo>
                <a:lnTo>
                  <a:pt x="1156" y="2387"/>
                </a:lnTo>
                <a:lnTo>
                  <a:pt x="1161" y="2387"/>
                </a:lnTo>
                <a:lnTo>
                  <a:pt x="1172" y="2387"/>
                </a:lnTo>
                <a:lnTo>
                  <a:pt x="1183" y="2382"/>
                </a:lnTo>
                <a:lnTo>
                  <a:pt x="1183" y="2376"/>
                </a:lnTo>
                <a:lnTo>
                  <a:pt x="1188" y="2360"/>
                </a:lnTo>
                <a:lnTo>
                  <a:pt x="1188" y="2349"/>
                </a:lnTo>
                <a:lnTo>
                  <a:pt x="1188" y="2338"/>
                </a:lnTo>
                <a:lnTo>
                  <a:pt x="1194" y="2333"/>
                </a:lnTo>
                <a:lnTo>
                  <a:pt x="1205" y="2322"/>
                </a:lnTo>
                <a:lnTo>
                  <a:pt x="1210" y="2317"/>
                </a:lnTo>
                <a:lnTo>
                  <a:pt x="1216" y="2311"/>
                </a:lnTo>
                <a:lnTo>
                  <a:pt x="1221" y="2300"/>
                </a:lnTo>
                <a:lnTo>
                  <a:pt x="1232" y="2295"/>
                </a:lnTo>
                <a:lnTo>
                  <a:pt x="1237" y="2289"/>
                </a:lnTo>
                <a:lnTo>
                  <a:pt x="1248" y="2289"/>
                </a:lnTo>
                <a:lnTo>
                  <a:pt x="1259" y="2289"/>
                </a:lnTo>
                <a:lnTo>
                  <a:pt x="1265" y="2289"/>
                </a:lnTo>
                <a:lnTo>
                  <a:pt x="1276" y="2289"/>
                </a:lnTo>
                <a:lnTo>
                  <a:pt x="1286" y="2289"/>
                </a:lnTo>
                <a:lnTo>
                  <a:pt x="1292" y="2284"/>
                </a:lnTo>
                <a:lnTo>
                  <a:pt x="1297" y="2278"/>
                </a:lnTo>
                <a:lnTo>
                  <a:pt x="1308" y="2267"/>
                </a:lnTo>
                <a:lnTo>
                  <a:pt x="1314" y="2262"/>
                </a:lnTo>
                <a:lnTo>
                  <a:pt x="1319" y="2251"/>
                </a:lnTo>
                <a:lnTo>
                  <a:pt x="1325" y="2240"/>
                </a:lnTo>
                <a:lnTo>
                  <a:pt x="1330" y="2235"/>
                </a:lnTo>
                <a:lnTo>
                  <a:pt x="1336" y="2224"/>
                </a:lnTo>
                <a:lnTo>
                  <a:pt x="1341" y="2213"/>
                </a:lnTo>
                <a:lnTo>
                  <a:pt x="1341" y="2202"/>
                </a:lnTo>
                <a:lnTo>
                  <a:pt x="1346" y="2191"/>
                </a:lnTo>
                <a:lnTo>
                  <a:pt x="1352" y="2180"/>
                </a:lnTo>
                <a:lnTo>
                  <a:pt x="1352" y="2169"/>
                </a:lnTo>
                <a:lnTo>
                  <a:pt x="1357" y="2158"/>
                </a:lnTo>
                <a:lnTo>
                  <a:pt x="1363" y="2148"/>
                </a:lnTo>
                <a:lnTo>
                  <a:pt x="1363" y="2137"/>
                </a:lnTo>
                <a:lnTo>
                  <a:pt x="1363" y="2126"/>
                </a:lnTo>
                <a:lnTo>
                  <a:pt x="1363" y="2109"/>
                </a:lnTo>
                <a:lnTo>
                  <a:pt x="1363" y="2099"/>
                </a:lnTo>
                <a:lnTo>
                  <a:pt x="1363" y="2088"/>
                </a:lnTo>
                <a:lnTo>
                  <a:pt x="1368" y="2077"/>
                </a:lnTo>
                <a:lnTo>
                  <a:pt x="1374" y="2071"/>
                </a:lnTo>
                <a:lnTo>
                  <a:pt x="1379" y="2060"/>
                </a:lnTo>
                <a:lnTo>
                  <a:pt x="1379" y="2049"/>
                </a:lnTo>
                <a:lnTo>
                  <a:pt x="1379" y="2033"/>
                </a:lnTo>
                <a:lnTo>
                  <a:pt x="1374" y="2022"/>
                </a:lnTo>
                <a:lnTo>
                  <a:pt x="1368" y="2017"/>
                </a:lnTo>
                <a:lnTo>
                  <a:pt x="1357" y="2017"/>
                </a:lnTo>
                <a:lnTo>
                  <a:pt x="1346" y="2017"/>
                </a:lnTo>
                <a:lnTo>
                  <a:pt x="1341" y="2022"/>
                </a:lnTo>
                <a:lnTo>
                  <a:pt x="1330" y="2028"/>
                </a:lnTo>
                <a:lnTo>
                  <a:pt x="1319" y="2028"/>
                </a:lnTo>
                <a:lnTo>
                  <a:pt x="1314" y="2028"/>
                </a:lnTo>
                <a:lnTo>
                  <a:pt x="1303" y="2033"/>
                </a:lnTo>
                <a:lnTo>
                  <a:pt x="1297" y="2033"/>
                </a:lnTo>
                <a:lnTo>
                  <a:pt x="1286" y="2033"/>
                </a:lnTo>
                <a:lnTo>
                  <a:pt x="1281" y="2028"/>
                </a:lnTo>
                <a:lnTo>
                  <a:pt x="1270" y="2028"/>
                </a:lnTo>
                <a:lnTo>
                  <a:pt x="1259" y="2028"/>
                </a:lnTo>
                <a:lnTo>
                  <a:pt x="1254" y="2033"/>
                </a:lnTo>
                <a:lnTo>
                  <a:pt x="1243" y="2039"/>
                </a:lnTo>
                <a:lnTo>
                  <a:pt x="1237" y="2039"/>
                </a:lnTo>
                <a:lnTo>
                  <a:pt x="1226" y="2044"/>
                </a:lnTo>
                <a:lnTo>
                  <a:pt x="1221" y="2044"/>
                </a:lnTo>
                <a:lnTo>
                  <a:pt x="1210" y="2039"/>
                </a:lnTo>
                <a:lnTo>
                  <a:pt x="1205" y="2033"/>
                </a:lnTo>
                <a:lnTo>
                  <a:pt x="1199" y="2022"/>
                </a:lnTo>
                <a:lnTo>
                  <a:pt x="1194" y="2011"/>
                </a:lnTo>
                <a:lnTo>
                  <a:pt x="1188" y="2000"/>
                </a:lnTo>
                <a:lnTo>
                  <a:pt x="1188" y="1990"/>
                </a:lnTo>
                <a:lnTo>
                  <a:pt x="1183" y="1979"/>
                </a:lnTo>
                <a:lnTo>
                  <a:pt x="1172" y="1979"/>
                </a:lnTo>
                <a:lnTo>
                  <a:pt x="1161" y="1973"/>
                </a:lnTo>
                <a:lnTo>
                  <a:pt x="1156" y="1973"/>
                </a:lnTo>
                <a:lnTo>
                  <a:pt x="1150" y="1968"/>
                </a:lnTo>
                <a:lnTo>
                  <a:pt x="1156" y="1957"/>
                </a:lnTo>
                <a:lnTo>
                  <a:pt x="1161" y="1946"/>
                </a:lnTo>
                <a:lnTo>
                  <a:pt x="1161" y="1930"/>
                </a:lnTo>
                <a:lnTo>
                  <a:pt x="1161" y="1919"/>
                </a:lnTo>
                <a:lnTo>
                  <a:pt x="1156" y="1908"/>
                </a:lnTo>
                <a:lnTo>
                  <a:pt x="1150" y="1897"/>
                </a:lnTo>
                <a:lnTo>
                  <a:pt x="1145" y="1891"/>
                </a:lnTo>
                <a:lnTo>
                  <a:pt x="1134" y="1891"/>
                </a:lnTo>
                <a:lnTo>
                  <a:pt x="1123" y="1891"/>
                </a:lnTo>
                <a:lnTo>
                  <a:pt x="1117" y="1897"/>
                </a:lnTo>
                <a:lnTo>
                  <a:pt x="1107" y="1897"/>
                </a:lnTo>
                <a:lnTo>
                  <a:pt x="1096" y="1897"/>
                </a:lnTo>
                <a:lnTo>
                  <a:pt x="1090" y="1902"/>
                </a:lnTo>
                <a:lnTo>
                  <a:pt x="1079" y="1897"/>
                </a:lnTo>
                <a:lnTo>
                  <a:pt x="1074" y="1897"/>
                </a:lnTo>
                <a:lnTo>
                  <a:pt x="1068" y="1886"/>
                </a:lnTo>
                <a:lnTo>
                  <a:pt x="1057" y="1881"/>
                </a:lnTo>
                <a:lnTo>
                  <a:pt x="1052" y="1870"/>
                </a:lnTo>
                <a:lnTo>
                  <a:pt x="1047" y="1864"/>
                </a:lnTo>
                <a:lnTo>
                  <a:pt x="1036" y="1859"/>
                </a:lnTo>
                <a:lnTo>
                  <a:pt x="1030" y="1859"/>
                </a:lnTo>
                <a:lnTo>
                  <a:pt x="1019" y="1864"/>
                </a:lnTo>
                <a:lnTo>
                  <a:pt x="1014" y="1875"/>
                </a:lnTo>
                <a:lnTo>
                  <a:pt x="1008" y="1881"/>
                </a:lnTo>
                <a:lnTo>
                  <a:pt x="1003" y="1897"/>
                </a:lnTo>
                <a:lnTo>
                  <a:pt x="1003" y="1908"/>
                </a:lnTo>
                <a:lnTo>
                  <a:pt x="1008" y="1919"/>
                </a:lnTo>
                <a:lnTo>
                  <a:pt x="1008" y="1930"/>
                </a:lnTo>
                <a:lnTo>
                  <a:pt x="1014" y="1940"/>
                </a:lnTo>
                <a:lnTo>
                  <a:pt x="1019" y="1946"/>
                </a:lnTo>
                <a:lnTo>
                  <a:pt x="1025" y="1957"/>
                </a:lnTo>
                <a:lnTo>
                  <a:pt x="1036" y="1968"/>
                </a:lnTo>
                <a:lnTo>
                  <a:pt x="1041" y="1973"/>
                </a:lnTo>
                <a:lnTo>
                  <a:pt x="1047" y="1979"/>
                </a:lnTo>
                <a:lnTo>
                  <a:pt x="1052" y="1995"/>
                </a:lnTo>
                <a:lnTo>
                  <a:pt x="1052" y="2006"/>
                </a:lnTo>
                <a:lnTo>
                  <a:pt x="1047" y="2017"/>
                </a:lnTo>
                <a:lnTo>
                  <a:pt x="1047" y="2028"/>
                </a:lnTo>
                <a:lnTo>
                  <a:pt x="1041" y="2039"/>
                </a:lnTo>
                <a:lnTo>
                  <a:pt x="1036" y="2049"/>
                </a:lnTo>
                <a:lnTo>
                  <a:pt x="1036" y="2060"/>
                </a:lnTo>
                <a:lnTo>
                  <a:pt x="1036" y="2071"/>
                </a:lnTo>
                <a:lnTo>
                  <a:pt x="1036" y="2088"/>
                </a:lnTo>
                <a:lnTo>
                  <a:pt x="1036" y="2099"/>
                </a:lnTo>
                <a:lnTo>
                  <a:pt x="1036" y="2109"/>
                </a:lnTo>
                <a:lnTo>
                  <a:pt x="1036" y="2120"/>
                </a:lnTo>
                <a:lnTo>
                  <a:pt x="1041" y="2137"/>
                </a:lnTo>
                <a:lnTo>
                  <a:pt x="1041" y="2148"/>
                </a:lnTo>
                <a:lnTo>
                  <a:pt x="1036" y="2158"/>
                </a:lnTo>
                <a:lnTo>
                  <a:pt x="1030" y="2158"/>
                </a:lnTo>
                <a:lnTo>
                  <a:pt x="1019" y="2158"/>
                </a:lnTo>
                <a:lnTo>
                  <a:pt x="1014" y="2153"/>
                </a:lnTo>
                <a:lnTo>
                  <a:pt x="1003" y="2142"/>
                </a:lnTo>
                <a:lnTo>
                  <a:pt x="997" y="2137"/>
                </a:lnTo>
                <a:lnTo>
                  <a:pt x="992" y="2126"/>
                </a:lnTo>
                <a:lnTo>
                  <a:pt x="987" y="2120"/>
                </a:lnTo>
                <a:lnTo>
                  <a:pt x="976" y="2115"/>
                </a:lnTo>
                <a:lnTo>
                  <a:pt x="970" y="2115"/>
                </a:lnTo>
                <a:lnTo>
                  <a:pt x="959" y="2109"/>
                </a:lnTo>
                <a:lnTo>
                  <a:pt x="954" y="2099"/>
                </a:lnTo>
                <a:lnTo>
                  <a:pt x="948" y="2088"/>
                </a:lnTo>
                <a:lnTo>
                  <a:pt x="948" y="2077"/>
                </a:lnTo>
                <a:lnTo>
                  <a:pt x="943" y="2066"/>
                </a:lnTo>
                <a:lnTo>
                  <a:pt x="938" y="2055"/>
                </a:lnTo>
                <a:lnTo>
                  <a:pt x="938" y="2044"/>
                </a:lnTo>
                <a:lnTo>
                  <a:pt x="932" y="2033"/>
                </a:lnTo>
                <a:lnTo>
                  <a:pt x="927" y="2022"/>
                </a:lnTo>
                <a:lnTo>
                  <a:pt x="921" y="2017"/>
                </a:lnTo>
                <a:lnTo>
                  <a:pt x="916" y="2006"/>
                </a:lnTo>
                <a:lnTo>
                  <a:pt x="905" y="1995"/>
                </a:lnTo>
                <a:lnTo>
                  <a:pt x="899" y="1984"/>
                </a:lnTo>
                <a:lnTo>
                  <a:pt x="894" y="1973"/>
                </a:lnTo>
                <a:lnTo>
                  <a:pt x="894" y="1968"/>
                </a:lnTo>
                <a:lnTo>
                  <a:pt x="899" y="1962"/>
                </a:lnTo>
                <a:lnTo>
                  <a:pt x="910" y="1957"/>
                </a:lnTo>
                <a:lnTo>
                  <a:pt x="921" y="1957"/>
                </a:lnTo>
                <a:lnTo>
                  <a:pt x="932" y="1951"/>
                </a:lnTo>
                <a:lnTo>
                  <a:pt x="938" y="1946"/>
                </a:lnTo>
                <a:lnTo>
                  <a:pt x="943" y="1940"/>
                </a:lnTo>
                <a:lnTo>
                  <a:pt x="954" y="1935"/>
                </a:lnTo>
                <a:lnTo>
                  <a:pt x="959" y="1930"/>
                </a:lnTo>
                <a:lnTo>
                  <a:pt x="970" y="1924"/>
                </a:lnTo>
                <a:lnTo>
                  <a:pt x="981" y="1919"/>
                </a:lnTo>
                <a:lnTo>
                  <a:pt x="987" y="1913"/>
                </a:lnTo>
                <a:lnTo>
                  <a:pt x="997" y="1908"/>
                </a:lnTo>
                <a:lnTo>
                  <a:pt x="997" y="1897"/>
                </a:lnTo>
                <a:lnTo>
                  <a:pt x="997" y="1886"/>
                </a:lnTo>
                <a:lnTo>
                  <a:pt x="992" y="1875"/>
                </a:lnTo>
                <a:lnTo>
                  <a:pt x="992" y="1864"/>
                </a:lnTo>
                <a:lnTo>
                  <a:pt x="987" y="1853"/>
                </a:lnTo>
                <a:lnTo>
                  <a:pt x="981" y="1842"/>
                </a:lnTo>
                <a:lnTo>
                  <a:pt x="981" y="1831"/>
                </a:lnTo>
                <a:lnTo>
                  <a:pt x="981" y="1815"/>
                </a:lnTo>
                <a:lnTo>
                  <a:pt x="981" y="1804"/>
                </a:lnTo>
                <a:lnTo>
                  <a:pt x="981" y="1793"/>
                </a:lnTo>
                <a:lnTo>
                  <a:pt x="987" y="1782"/>
                </a:lnTo>
                <a:lnTo>
                  <a:pt x="997" y="1777"/>
                </a:lnTo>
                <a:lnTo>
                  <a:pt x="1003" y="1777"/>
                </a:lnTo>
                <a:lnTo>
                  <a:pt x="1014" y="1788"/>
                </a:lnTo>
                <a:lnTo>
                  <a:pt x="1019" y="1793"/>
                </a:lnTo>
                <a:lnTo>
                  <a:pt x="1025" y="1799"/>
                </a:lnTo>
                <a:lnTo>
                  <a:pt x="1036" y="1804"/>
                </a:lnTo>
                <a:lnTo>
                  <a:pt x="1041" y="1810"/>
                </a:lnTo>
                <a:lnTo>
                  <a:pt x="1052" y="1815"/>
                </a:lnTo>
                <a:lnTo>
                  <a:pt x="1057" y="1821"/>
                </a:lnTo>
                <a:lnTo>
                  <a:pt x="1068" y="1821"/>
                </a:lnTo>
                <a:lnTo>
                  <a:pt x="1074" y="1821"/>
                </a:lnTo>
                <a:lnTo>
                  <a:pt x="1085" y="1821"/>
                </a:lnTo>
                <a:lnTo>
                  <a:pt x="1096" y="1815"/>
                </a:lnTo>
                <a:lnTo>
                  <a:pt x="1101" y="1810"/>
                </a:lnTo>
                <a:lnTo>
                  <a:pt x="1107" y="1799"/>
                </a:lnTo>
                <a:lnTo>
                  <a:pt x="1112" y="1788"/>
                </a:lnTo>
                <a:lnTo>
                  <a:pt x="1112" y="1771"/>
                </a:lnTo>
                <a:lnTo>
                  <a:pt x="1112" y="1761"/>
                </a:lnTo>
                <a:lnTo>
                  <a:pt x="1112" y="1750"/>
                </a:lnTo>
                <a:lnTo>
                  <a:pt x="1117" y="1744"/>
                </a:lnTo>
                <a:lnTo>
                  <a:pt x="1123" y="1739"/>
                </a:lnTo>
                <a:lnTo>
                  <a:pt x="1134" y="1739"/>
                </a:lnTo>
                <a:lnTo>
                  <a:pt x="1145" y="1733"/>
                </a:lnTo>
                <a:lnTo>
                  <a:pt x="1150" y="1728"/>
                </a:lnTo>
                <a:lnTo>
                  <a:pt x="1156" y="1722"/>
                </a:lnTo>
                <a:lnTo>
                  <a:pt x="1161" y="1712"/>
                </a:lnTo>
                <a:lnTo>
                  <a:pt x="1167" y="1706"/>
                </a:lnTo>
                <a:lnTo>
                  <a:pt x="1177" y="1701"/>
                </a:lnTo>
                <a:lnTo>
                  <a:pt x="1183" y="1690"/>
                </a:lnTo>
                <a:lnTo>
                  <a:pt x="1194" y="1684"/>
                </a:lnTo>
                <a:lnTo>
                  <a:pt x="1199" y="1679"/>
                </a:lnTo>
                <a:lnTo>
                  <a:pt x="1205" y="1673"/>
                </a:lnTo>
                <a:lnTo>
                  <a:pt x="1210" y="1662"/>
                </a:lnTo>
                <a:lnTo>
                  <a:pt x="1216" y="1657"/>
                </a:lnTo>
                <a:lnTo>
                  <a:pt x="1226" y="1646"/>
                </a:lnTo>
                <a:lnTo>
                  <a:pt x="1232" y="1641"/>
                </a:lnTo>
                <a:lnTo>
                  <a:pt x="1237" y="1630"/>
                </a:lnTo>
                <a:lnTo>
                  <a:pt x="1243" y="1624"/>
                </a:lnTo>
                <a:lnTo>
                  <a:pt x="1254" y="1613"/>
                </a:lnTo>
                <a:lnTo>
                  <a:pt x="1259" y="1608"/>
                </a:lnTo>
                <a:lnTo>
                  <a:pt x="1259" y="1597"/>
                </a:lnTo>
                <a:lnTo>
                  <a:pt x="1265" y="1592"/>
                </a:lnTo>
                <a:lnTo>
                  <a:pt x="1276" y="1586"/>
                </a:lnTo>
                <a:lnTo>
                  <a:pt x="1286" y="1586"/>
                </a:lnTo>
                <a:lnTo>
                  <a:pt x="1292" y="1581"/>
                </a:lnTo>
                <a:lnTo>
                  <a:pt x="1303" y="1570"/>
                </a:lnTo>
                <a:lnTo>
                  <a:pt x="1303" y="1559"/>
                </a:lnTo>
                <a:lnTo>
                  <a:pt x="1292" y="1559"/>
                </a:lnTo>
                <a:lnTo>
                  <a:pt x="1286" y="1553"/>
                </a:lnTo>
                <a:lnTo>
                  <a:pt x="1276" y="1553"/>
                </a:lnTo>
                <a:lnTo>
                  <a:pt x="1265" y="1553"/>
                </a:lnTo>
                <a:lnTo>
                  <a:pt x="1259" y="1553"/>
                </a:lnTo>
                <a:lnTo>
                  <a:pt x="1248" y="1553"/>
                </a:lnTo>
                <a:lnTo>
                  <a:pt x="1243" y="1559"/>
                </a:lnTo>
                <a:lnTo>
                  <a:pt x="1232" y="1559"/>
                </a:lnTo>
                <a:lnTo>
                  <a:pt x="1226" y="1559"/>
                </a:lnTo>
                <a:lnTo>
                  <a:pt x="1216" y="1559"/>
                </a:lnTo>
                <a:lnTo>
                  <a:pt x="1205" y="1559"/>
                </a:lnTo>
                <a:lnTo>
                  <a:pt x="1199" y="1559"/>
                </a:lnTo>
                <a:lnTo>
                  <a:pt x="1188" y="1559"/>
                </a:lnTo>
                <a:lnTo>
                  <a:pt x="1183" y="1564"/>
                </a:lnTo>
                <a:lnTo>
                  <a:pt x="1172" y="1570"/>
                </a:lnTo>
                <a:lnTo>
                  <a:pt x="1167" y="1575"/>
                </a:lnTo>
                <a:lnTo>
                  <a:pt x="1161" y="1586"/>
                </a:lnTo>
                <a:lnTo>
                  <a:pt x="1156" y="1603"/>
                </a:lnTo>
                <a:lnTo>
                  <a:pt x="1156" y="1613"/>
                </a:lnTo>
                <a:lnTo>
                  <a:pt x="1156" y="1624"/>
                </a:lnTo>
                <a:lnTo>
                  <a:pt x="1150" y="1635"/>
                </a:lnTo>
                <a:lnTo>
                  <a:pt x="1139" y="1635"/>
                </a:lnTo>
                <a:lnTo>
                  <a:pt x="1134" y="1641"/>
                </a:lnTo>
                <a:lnTo>
                  <a:pt x="1128" y="1652"/>
                </a:lnTo>
                <a:lnTo>
                  <a:pt x="1123" y="1662"/>
                </a:lnTo>
                <a:lnTo>
                  <a:pt x="1117" y="1673"/>
                </a:lnTo>
                <a:lnTo>
                  <a:pt x="1107" y="1673"/>
                </a:lnTo>
                <a:lnTo>
                  <a:pt x="1101" y="1679"/>
                </a:lnTo>
                <a:lnTo>
                  <a:pt x="1090" y="1679"/>
                </a:lnTo>
                <a:lnTo>
                  <a:pt x="1085" y="1684"/>
                </a:lnTo>
                <a:lnTo>
                  <a:pt x="1074" y="1684"/>
                </a:lnTo>
                <a:lnTo>
                  <a:pt x="1068" y="1684"/>
                </a:lnTo>
                <a:lnTo>
                  <a:pt x="1057" y="1684"/>
                </a:lnTo>
                <a:lnTo>
                  <a:pt x="1047" y="1684"/>
                </a:lnTo>
                <a:lnTo>
                  <a:pt x="1041" y="1679"/>
                </a:lnTo>
                <a:lnTo>
                  <a:pt x="1036" y="1673"/>
                </a:lnTo>
                <a:lnTo>
                  <a:pt x="1030" y="1662"/>
                </a:lnTo>
                <a:lnTo>
                  <a:pt x="1025" y="1652"/>
                </a:lnTo>
                <a:lnTo>
                  <a:pt x="1019" y="1641"/>
                </a:lnTo>
                <a:lnTo>
                  <a:pt x="1025" y="1630"/>
                </a:lnTo>
                <a:lnTo>
                  <a:pt x="1030" y="1619"/>
                </a:lnTo>
                <a:lnTo>
                  <a:pt x="1036" y="1608"/>
                </a:lnTo>
                <a:lnTo>
                  <a:pt x="1036" y="1597"/>
                </a:lnTo>
                <a:lnTo>
                  <a:pt x="1041" y="1586"/>
                </a:lnTo>
                <a:lnTo>
                  <a:pt x="1041" y="1575"/>
                </a:lnTo>
                <a:lnTo>
                  <a:pt x="1047" y="1564"/>
                </a:lnTo>
                <a:lnTo>
                  <a:pt x="1052" y="1553"/>
                </a:lnTo>
                <a:lnTo>
                  <a:pt x="1057" y="1543"/>
                </a:lnTo>
                <a:lnTo>
                  <a:pt x="1063" y="1532"/>
                </a:lnTo>
                <a:lnTo>
                  <a:pt x="1074" y="1526"/>
                </a:lnTo>
                <a:lnTo>
                  <a:pt x="1079" y="1526"/>
                </a:lnTo>
                <a:lnTo>
                  <a:pt x="1090" y="1521"/>
                </a:lnTo>
                <a:lnTo>
                  <a:pt x="1096" y="1526"/>
                </a:lnTo>
                <a:lnTo>
                  <a:pt x="1107" y="1526"/>
                </a:lnTo>
                <a:lnTo>
                  <a:pt x="1112" y="1532"/>
                </a:lnTo>
                <a:lnTo>
                  <a:pt x="1123" y="1537"/>
                </a:lnTo>
                <a:lnTo>
                  <a:pt x="1128" y="1548"/>
                </a:lnTo>
                <a:lnTo>
                  <a:pt x="1134" y="1553"/>
                </a:lnTo>
                <a:lnTo>
                  <a:pt x="1139" y="1564"/>
                </a:lnTo>
                <a:lnTo>
                  <a:pt x="1150" y="1570"/>
                </a:lnTo>
                <a:lnTo>
                  <a:pt x="1156" y="1575"/>
                </a:lnTo>
                <a:lnTo>
                  <a:pt x="1167" y="1575"/>
                </a:lnTo>
                <a:lnTo>
                  <a:pt x="1172" y="1570"/>
                </a:lnTo>
                <a:lnTo>
                  <a:pt x="1183" y="1564"/>
                </a:lnTo>
                <a:lnTo>
                  <a:pt x="1188" y="1559"/>
                </a:lnTo>
                <a:lnTo>
                  <a:pt x="1199" y="1553"/>
                </a:lnTo>
                <a:lnTo>
                  <a:pt x="1205" y="1543"/>
                </a:lnTo>
                <a:lnTo>
                  <a:pt x="1210" y="1537"/>
                </a:lnTo>
                <a:lnTo>
                  <a:pt x="1216" y="1526"/>
                </a:lnTo>
                <a:lnTo>
                  <a:pt x="1221" y="1515"/>
                </a:lnTo>
                <a:lnTo>
                  <a:pt x="1226" y="1504"/>
                </a:lnTo>
                <a:lnTo>
                  <a:pt x="1232" y="1494"/>
                </a:lnTo>
                <a:lnTo>
                  <a:pt x="1232" y="1483"/>
                </a:lnTo>
                <a:lnTo>
                  <a:pt x="1232" y="1472"/>
                </a:lnTo>
                <a:lnTo>
                  <a:pt x="1226" y="1455"/>
                </a:lnTo>
                <a:lnTo>
                  <a:pt x="1221" y="1450"/>
                </a:lnTo>
                <a:lnTo>
                  <a:pt x="1216" y="1450"/>
                </a:lnTo>
                <a:lnTo>
                  <a:pt x="1205" y="1450"/>
                </a:lnTo>
                <a:lnTo>
                  <a:pt x="1199" y="1455"/>
                </a:lnTo>
                <a:lnTo>
                  <a:pt x="1188" y="1461"/>
                </a:lnTo>
                <a:lnTo>
                  <a:pt x="1177" y="1461"/>
                </a:lnTo>
                <a:lnTo>
                  <a:pt x="1172" y="1466"/>
                </a:lnTo>
                <a:lnTo>
                  <a:pt x="1161" y="1466"/>
                </a:lnTo>
                <a:lnTo>
                  <a:pt x="1156" y="1466"/>
                </a:lnTo>
                <a:lnTo>
                  <a:pt x="1145" y="1472"/>
                </a:lnTo>
                <a:lnTo>
                  <a:pt x="1134" y="1477"/>
                </a:lnTo>
                <a:lnTo>
                  <a:pt x="1128" y="1483"/>
                </a:lnTo>
                <a:lnTo>
                  <a:pt x="1117" y="1488"/>
                </a:lnTo>
                <a:lnTo>
                  <a:pt x="1112" y="1488"/>
                </a:lnTo>
                <a:lnTo>
                  <a:pt x="1107" y="1477"/>
                </a:lnTo>
                <a:lnTo>
                  <a:pt x="1107" y="1466"/>
                </a:lnTo>
                <a:lnTo>
                  <a:pt x="1107" y="1455"/>
                </a:lnTo>
                <a:lnTo>
                  <a:pt x="1107" y="1444"/>
                </a:lnTo>
                <a:lnTo>
                  <a:pt x="1112" y="1434"/>
                </a:lnTo>
                <a:lnTo>
                  <a:pt x="1123" y="1428"/>
                </a:lnTo>
                <a:lnTo>
                  <a:pt x="1128" y="1417"/>
                </a:lnTo>
                <a:lnTo>
                  <a:pt x="1134" y="1412"/>
                </a:lnTo>
                <a:lnTo>
                  <a:pt x="1134" y="1401"/>
                </a:lnTo>
                <a:lnTo>
                  <a:pt x="1128" y="1390"/>
                </a:lnTo>
                <a:lnTo>
                  <a:pt x="1123" y="1379"/>
                </a:lnTo>
                <a:lnTo>
                  <a:pt x="1117" y="1363"/>
                </a:lnTo>
                <a:lnTo>
                  <a:pt x="1112" y="1357"/>
                </a:lnTo>
                <a:lnTo>
                  <a:pt x="1107" y="1352"/>
                </a:lnTo>
                <a:lnTo>
                  <a:pt x="1101" y="1346"/>
                </a:lnTo>
                <a:lnTo>
                  <a:pt x="1090" y="1346"/>
                </a:lnTo>
                <a:lnTo>
                  <a:pt x="1079" y="1352"/>
                </a:lnTo>
                <a:lnTo>
                  <a:pt x="1068" y="1352"/>
                </a:lnTo>
                <a:lnTo>
                  <a:pt x="1063" y="1363"/>
                </a:lnTo>
                <a:lnTo>
                  <a:pt x="1057" y="1368"/>
                </a:lnTo>
                <a:lnTo>
                  <a:pt x="1052" y="1379"/>
                </a:lnTo>
                <a:lnTo>
                  <a:pt x="1052" y="1390"/>
                </a:lnTo>
                <a:lnTo>
                  <a:pt x="1052" y="1406"/>
                </a:lnTo>
                <a:lnTo>
                  <a:pt x="1052" y="1417"/>
                </a:lnTo>
                <a:lnTo>
                  <a:pt x="1052" y="1428"/>
                </a:lnTo>
                <a:lnTo>
                  <a:pt x="1047" y="1439"/>
                </a:lnTo>
                <a:lnTo>
                  <a:pt x="1041" y="1450"/>
                </a:lnTo>
                <a:lnTo>
                  <a:pt x="1036" y="1461"/>
                </a:lnTo>
                <a:lnTo>
                  <a:pt x="1030" y="1461"/>
                </a:lnTo>
                <a:lnTo>
                  <a:pt x="1019" y="1461"/>
                </a:lnTo>
                <a:lnTo>
                  <a:pt x="1014" y="1450"/>
                </a:lnTo>
                <a:lnTo>
                  <a:pt x="1003" y="1444"/>
                </a:lnTo>
                <a:lnTo>
                  <a:pt x="997" y="1439"/>
                </a:lnTo>
                <a:lnTo>
                  <a:pt x="987" y="1434"/>
                </a:lnTo>
                <a:lnTo>
                  <a:pt x="981" y="1423"/>
                </a:lnTo>
                <a:lnTo>
                  <a:pt x="976" y="1417"/>
                </a:lnTo>
                <a:lnTo>
                  <a:pt x="976" y="1412"/>
                </a:lnTo>
                <a:lnTo>
                  <a:pt x="981" y="1401"/>
                </a:lnTo>
                <a:lnTo>
                  <a:pt x="992" y="1401"/>
                </a:lnTo>
                <a:lnTo>
                  <a:pt x="1003" y="1390"/>
                </a:lnTo>
                <a:lnTo>
                  <a:pt x="1008" y="1385"/>
                </a:lnTo>
                <a:lnTo>
                  <a:pt x="1014" y="1379"/>
                </a:lnTo>
                <a:lnTo>
                  <a:pt x="1025" y="1374"/>
                </a:lnTo>
                <a:lnTo>
                  <a:pt x="1030" y="1368"/>
                </a:lnTo>
                <a:lnTo>
                  <a:pt x="1036" y="1363"/>
                </a:lnTo>
                <a:lnTo>
                  <a:pt x="1047" y="1357"/>
                </a:lnTo>
                <a:lnTo>
                  <a:pt x="1052" y="1346"/>
                </a:lnTo>
                <a:lnTo>
                  <a:pt x="1063" y="1341"/>
                </a:lnTo>
                <a:lnTo>
                  <a:pt x="1068" y="1330"/>
                </a:lnTo>
                <a:lnTo>
                  <a:pt x="1074" y="1325"/>
                </a:lnTo>
                <a:lnTo>
                  <a:pt x="1079" y="1319"/>
                </a:lnTo>
                <a:lnTo>
                  <a:pt x="1085" y="1319"/>
                </a:lnTo>
                <a:lnTo>
                  <a:pt x="1096" y="1319"/>
                </a:lnTo>
                <a:lnTo>
                  <a:pt x="1107" y="1325"/>
                </a:lnTo>
                <a:lnTo>
                  <a:pt x="1112" y="1325"/>
                </a:lnTo>
                <a:lnTo>
                  <a:pt x="1123" y="1325"/>
                </a:lnTo>
                <a:lnTo>
                  <a:pt x="1128" y="1325"/>
                </a:lnTo>
                <a:lnTo>
                  <a:pt x="1139" y="1325"/>
                </a:lnTo>
                <a:lnTo>
                  <a:pt x="1150" y="1319"/>
                </a:lnTo>
                <a:lnTo>
                  <a:pt x="1156" y="1319"/>
                </a:lnTo>
                <a:lnTo>
                  <a:pt x="1167" y="1319"/>
                </a:lnTo>
                <a:lnTo>
                  <a:pt x="1172" y="1314"/>
                </a:lnTo>
                <a:lnTo>
                  <a:pt x="1183" y="1314"/>
                </a:lnTo>
                <a:lnTo>
                  <a:pt x="1188" y="1308"/>
                </a:lnTo>
                <a:lnTo>
                  <a:pt x="1194" y="1297"/>
                </a:lnTo>
                <a:lnTo>
                  <a:pt x="1199" y="1286"/>
                </a:lnTo>
                <a:lnTo>
                  <a:pt x="1205" y="1281"/>
                </a:lnTo>
                <a:lnTo>
                  <a:pt x="1210" y="1270"/>
                </a:lnTo>
                <a:lnTo>
                  <a:pt x="1216" y="1259"/>
                </a:lnTo>
                <a:lnTo>
                  <a:pt x="1226" y="1254"/>
                </a:lnTo>
                <a:lnTo>
                  <a:pt x="1232" y="1243"/>
                </a:lnTo>
                <a:lnTo>
                  <a:pt x="1237" y="1232"/>
                </a:lnTo>
                <a:lnTo>
                  <a:pt x="1237" y="1221"/>
                </a:lnTo>
                <a:lnTo>
                  <a:pt x="1237" y="1210"/>
                </a:lnTo>
                <a:lnTo>
                  <a:pt x="1226" y="1199"/>
                </a:lnTo>
                <a:lnTo>
                  <a:pt x="1221" y="1194"/>
                </a:lnTo>
                <a:lnTo>
                  <a:pt x="1226" y="1188"/>
                </a:lnTo>
                <a:lnTo>
                  <a:pt x="1232" y="1188"/>
                </a:lnTo>
                <a:lnTo>
                  <a:pt x="1243" y="1188"/>
                </a:lnTo>
                <a:lnTo>
                  <a:pt x="1254" y="1188"/>
                </a:lnTo>
                <a:lnTo>
                  <a:pt x="1265" y="1188"/>
                </a:lnTo>
                <a:lnTo>
                  <a:pt x="1276" y="1188"/>
                </a:lnTo>
                <a:lnTo>
                  <a:pt x="1281" y="1183"/>
                </a:lnTo>
                <a:lnTo>
                  <a:pt x="1286" y="1177"/>
                </a:lnTo>
                <a:lnTo>
                  <a:pt x="1297" y="1172"/>
                </a:lnTo>
                <a:lnTo>
                  <a:pt x="1303" y="1167"/>
                </a:lnTo>
                <a:lnTo>
                  <a:pt x="1314" y="1161"/>
                </a:lnTo>
                <a:lnTo>
                  <a:pt x="1319" y="1161"/>
                </a:lnTo>
                <a:lnTo>
                  <a:pt x="1330" y="1161"/>
                </a:lnTo>
                <a:lnTo>
                  <a:pt x="1336" y="1156"/>
                </a:lnTo>
                <a:lnTo>
                  <a:pt x="1346" y="1150"/>
                </a:lnTo>
                <a:lnTo>
                  <a:pt x="1352" y="1150"/>
                </a:lnTo>
                <a:lnTo>
                  <a:pt x="1363" y="1145"/>
                </a:lnTo>
                <a:lnTo>
                  <a:pt x="1368" y="1145"/>
                </a:lnTo>
                <a:lnTo>
                  <a:pt x="1379" y="1145"/>
                </a:lnTo>
                <a:lnTo>
                  <a:pt x="1390" y="1139"/>
                </a:lnTo>
                <a:lnTo>
                  <a:pt x="1396" y="1139"/>
                </a:lnTo>
                <a:lnTo>
                  <a:pt x="1406" y="1139"/>
                </a:lnTo>
                <a:lnTo>
                  <a:pt x="1412" y="1139"/>
                </a:lnTo>
                <a:lnTo>
                  <a:pt x="1423" y="1139"/>
                </a:lnTo>
                <a:lnTo>
                  <a:pt x="1434" y="1139"/>
                </a:lnTo>
                <a:lnTo>
                  <a:pt x="1439" y="1139"/>
                </a:lnTo>
                <a:lnTo>
                  <a:pt x="1450" y="1145"/>
                </a:lnTo>
                <a:lnTo>
                  <a:pt x="1455" y="1145"/>
                </a:lnTo>
                <a:lnTo>
                  <a:pt x="1461" y="1156"/>
                </a:lnTo>
                <a:lnTo>
                  <a:pt x="1472" y="1161"/>
                </a:lnTo>
                <a:lnTo>
                  <a:pt x="1477" y="1167"/>
                </a:lnTo>
                <a:lnTo>
                  <a:pt x="1488" y="1167"/>
                </a:lnTo>
                <a:lnTo>
                  <a:pt x="1494" y="1156"/>
                </a:lnTo>
                <a:lnTo>
                  <a:pt x="1499" y="1150"/>
                </a:lnTo>
                <a:lnTo>
                  <a:pt x="1510" y="1139"/>
                </a:lnTo>
                <a:lnTo>
                  <a:pt x="1515" y="1134"/>
                </a:lnTo>
                <a:lnTo>
                  <a:pt x="1521" y="1134"/>
                </a:lnTo>
                <a:lnTo>
                  <a:pt x="1532" y="1128"/>
                </a:lnTo>
                <a:lnTo>
                  <a:pt x="1537" y="1128"/>
                </a:lnTo>
                <a:lnTo>
                  <a:pt x="1548" y="1134"/>
                </a:lnTo>
                <a:lnTo>
                  <a:pt x="1559" y="1134"/>
                </a:lnTo>
                <a:lnTo>
                  <a:pt x="1570" y="1139"/>
                </a:lnTo>
                <a:lnTo>
                  <a:pt x="1575" y="1139"/>
                </a:lnTo>
                <a:lnTo>
                  <a:pt x="1586" y="1145"/>
                </a:lnTo>
                <a:lnTo>
                  <a:pt x="1592" y="1150"/>
                </a:lnTo>
                <a:lnTo>
                  <a:pt x="1592" y="1161"/>
                </a:lnTo>
                <a:lnTo>
                  <a:pt x="1592" y="1177"/>
                </a:lnTo>
                <a:lnTo>
                  <a:pt x="1586" y="1188"/>
                </a:lnTo>
                <a:lnTo>
                  <a:pt x="1581" y="1205"/>
                </a:lnTo>
                <a:lnTo>
                  <a:pt x="1575" y="1216"/>
                </a:lnTo>
                <a:lnTo>
                  <a:pt x="1575" y="1226"/>
                </a:lnTo>
                <a:lnTo>
                  <a:pt x="1575" y="1226"/>
                </a:lnTo>
                <a:lnTo>
                  <a:pt x="1586" y="1226"/>
                </a:lnTo>
                <a:lnTo>
                  <a:pt x="1597" y="1232"/>
                </a:lnTo>
                <a:lnTo>
                  <a:pt x="1603" y="1237"/>
                </a:lnTo>
                <a:lnTo>
                  <a:pt x="1608" y="1248"/>
                </a:lnTo>
                <a:lnTo>
                  <a:pt x="1614" y="1259"/>
                </a:lnTo>
                <a:lnTo>
                  <a:pt x="1619" y="1270"/>
                </a:lnTo>
                <a:lnTo>
                  <a:pt x="1625" y="1281"/>
                </a:lnTo>
                <a:lnTo>
                  <a:pt x="1630" y="1286"/>
                </a:lnTo>
                <a:lnTo>
                  <a:pt x="1630" y="1297"/>
                </a:lnTo>
                <a:lnTo>
                  <a:pt x="1635" y="1314"/>
                </a:lnTo>
                <a:lnTo>
                  <a:pt x="1635" y="1325"/>
                </a:lnTo>
                <a:lnTo>
                  <a:pt x="1641" y="1335"/>
                </a:lnTo>
                <a:lnTo>
                  <a:pt x="1641" y="1346"/>
                </a:lnTo>
                <a:lnTo>
                  <a:pt x="1646" y="1357"/>
                </a:lnTo>
                <a:lnTo>
                  <a:pt x="1646" y="1368"/>
                </a:lnTo>
                <a:lnTo>
                  <a:pt x="1652" y="1379"/>
                </a:lnTo>
                <a:lnTo>
                  <a:pt x="1657" y="1390"/>
                </a:lnTo>
                <a:lnTo>
                  <a:pt x="1657" y="1401"/>
                </a:lnTo>
                <a:lnTo>
                  <a:pt x="1657" y="1417"/>
                </a:lnTo>
                <a:lnTo>
                  <a:pt x="1652" y="1428"/>
                </a:lnTo>
                <a:lnTo>
                  <a:pt x="1646" y="1434"/>
                </a:lnTo>
                <a:lnTo>
                  <a:pt x="1635" y="1439"/>
                </a:lnTo>
                <a:lnTo>
                  <a:pt x="1630" y="1439"/>
                </a:lnTo>
                <a:lnTo>
                  <a:pt x="1619" y="1434"/>
                </a:lnTo>
                <a:lnTo>
                  <a:pt x="1614" y="1423"/>
                </a:lnTo>
                <a:lnTo>
                  <a:pt x="1608" y="1412"/>
                </a:lnTo>
                <a:lnTo>
                  <a:pt x="1603" y="1401"/>
                </a:lnTo>
                <a:lnTo>
                  <a:pt x="1597" y="1395"/>
                </a:lnTo>
                <a:lnTo>
                  <a:pt x="1592" y="1385"/>
                </a:lnTo>
                <a:lnTo>
                  <a:pt x="1586" y="1379"/>
                </a:lnTo>
                <a:lnTo>
                  <a:pt x="1575" y="1368"/>
                </a:lnTo>
                <a:lnTo>
                  <a:pt x="1570" y="1357"/>
                </a:lnTo>
                <a:lnTo>
                  <a:pt x="1565" y="1352"/>
                </a:lnTo>
                <a:lnTo>
                  <a:pt x="1559" y="1341"/>
                </a:lnTo>
                <a:lnTo>
                  <a:pt x="1554" y="1335"/>
                </a:lnTo>
                <a:lnTo>
                  <a:pt x="1548" y="1335"/>
                </a:lnTo>
                <a:lnTo>
                  <a:pt x="1537" y="1335"/>
                </a:lnTo>
                <a:lnTo>
                  <a:pt x="1526" y="1341"/>
                </a:lnTo>
                <a:lnTo>
                  <a:pt x="1521" y="1341"/>
                </a:lnTo>
                <a:lnTo>
                  <a:pt x="1510" y="1341"/>
                </a:lnTo>
                <a:lnTo>
                  <a:pt x="1499" y="1341"/>
                </a:lnTo>
                <a:lnTo>
                  <a:pt x="1494" y="1346"/>
                </a:lnTo>
                <a:lnTo>
                  <a:pt x="1483" y="1346"/>
                </a:lnTo>
                <a:lnTo>
                  <a:pt x="1477" y="1346"/>
                </a:lnTo>
                <a:lnTo>
                  <a:pt x="1466" y="1346"/>
                </a:lnTo>
                <a:lnTo>
                  <a:pt x="1461" y="1346"/>
                </a:lnTo>
                <a:lnTo>
                  <a:pt x="1450" y="1346"/>
                </a:lnTo>
                <a:lnTo>
                  <a:pt x="1439" y="1352"/>
                </a:lnTo>
                <a:lnTo>
                  <a:pt x="1434" y="1357"/>
                </a:lnTo>
                <a:lnTo>
                  <a:pt x="1423" y="1363"/>
                </a:lnTo>
                <a:lnTo>
                  <a:pt x="1417" y="1363"/>
                </a:lnTo>
                <a:lnTo>
                  <a:pt x="1406" y="1368"/>
                </a:lnTo>
                <a:lnTo>
                  <a:pt x="1401" y="1374"/>
                </a:lnTo>
                <a:lnTo>
                  <a:pt x="1390" y="1374"/>
                </a:lnTo>
                <a:lnTo>
                  <a:pt x="1385" y="1379"/>
                </a:lnTo>
                <a:lnTo>
                  <a:pt x="1374" y="1379"/>
                </a:lnTo>
                <a:lnTo>
                  <a:pt x="1368" y="1385"/>
                </a:lnTo>
                <a:lnTo>
                  <a:pt x="1357" y="1395"/>
                </a:lnTo>
                <a:lnTo>
                  <a:pt x="1352" y="1406"/>
                </a:lnTo>
                <a:lnTo>
                  <a:pt x="1352" y="1412"/>
                </a:lnTo>
                <a:lnTo>
                  <a:pt x="1357" y="1417"/>
                </a:lnTo>
                <a:lnTo>
                  <a:pt x="1368" y="1417"/>
                </a:lnTo>
                <a:lnTo>
                  <a:pt x="1379" y="1417"/>
                </a:lnTo>
                <a:lnTo>
                  <a:pt x="1390" y="1423"/>
                </a:lnTo>
                <a:lnTo>
                  <a:pt x="1396" y="1423"/>
                </a:lnTo>
                <a:lnTo>
                  <a:pt x="1406" y="1428"/>
                </a:lnTo>
                <a:lnTo>
                  <a:pt x="1412" y="1428"/>
                </a:lnTo>
                <a:lnTo>
                  <a:pt x="1423" y="1434"/>
                </a:lnTo>
                <a:lnTo>
                  <a:pt x="1428" y="1434"/>
                </a:lnTo>
                <a:lnTo>
                  <a:pt x="1439" y="1439"/>
                </a:lnTo>
                <a:lnTo>
                  <a:pt x="1445" y="1444"/>
                </a:lnTo>
                <a:lnTo>
                  <a:pt x="1450" y="1450"/>
                </a:lnTo>
                <a:lnTo>
                  <a:pt x="1455" y="1461"/>
                </a:lnTo>
                <a:lnTo>
                  <a:pt x="1450" y="1477"/>
                </a:lnTo>
                <a:lnTo>
                  <a:pt x="1450" y="1488"/>
                </a:lnTo>
                <a:lnTo>
                  <a:pt x="1445" y="1499"/>
                </a:lnTo>
                <a:lnTo>
                  <a:pt x="1445" y="1515"/>
                </a:lnTo>
                <a:lnTo>
                  <a:pt x="1445" y="1526"/>
                </a:lnTo>
                <a:lnTo>
                  <a:pt x="1450" y="1532"/>
                </a:lnTo>
                <a:lnTo>
                  <a:pt x="1455" y="1543"/>
                </a:lnTo>
                <a:lnTo>
                  <a:pt x="1466" y="1553"/>
                </a:lnTo>
                <a:lnTo>
                  <a:pt x="1472" y="1559"/>
                </a:lnTo>
                <a:lnTo>
                  <a:pt x="1472" y="1570"/>
                </a:lnTo>
                <a:lnTo>
                  <a:pt x="1477" y="1581"/>
                </a:lnTo>
                <a:lnTo>
                  <a:pt x="1477" y="1597"/>
                </a:lnTo>
                <a:lnTo>
                  <a:pt x="1477" y="1608"/>
                </a:lnTo>
                <a:lnTo>
                  <a:pt x="1483" y="1619"/>
                </a:lnTo>
                <a:lnTo>
                  <a:pt x="1488" y="1619"/>
                </a:lnTo>
                <a:lnTo>
                  <a:pt x="1499" y="1619"/>
                </a:lnTo>
                <a:lnTo>
                  <a:pt x="1505" y="1613"/>
                </a:lnTo>
                <a:lnTo>
                  <a:pt x="1515" y="1613"/>
                </a:lnTo>
                <a:lnTo>
                  <a:pt x="1526" y="1619"/>
                </a:lnTo>
                <a:lnTo>
                  <a:pt x="1532" y="1624"/>
                </a:lnTo>
                <a:lnTo>
                  <a:pt x="1537" y="1635"/>
                </a:lnTo>
                <a:lnTo>
                  <a:pt x="1537" y="1646"/>
                </a:lnTo>
                <a:lnTo>
                  <a:pt x="1537" y="1662"/>
                </a:lnTo>
                <a:lnTo>
                  <a:pt x="1537" y="1673"/>
                </a:lnTo>
                <a:lnTo>
                  <a:pt x="1537" y="1684"/>
                </a:lnTo>
                <a:lnTo>
                  <a:pt x="1537" y="1695"/>
                </a:lnTo>
                <a:lnTo>
                  <a:pt x="1543" y="1706"/>
                </a:lnTo>
                <a:lnTo>
                  <a:pt x="1543" y="1717"/>
                </a:lnTo>
                <a:lnTo>
                  <a:pt x="1554" y="1728"/>
                </a:lnTo>
                <a:lnTo>
                  <a:pt x="1559" y="1733"/>
                </a:lnTo>
                <a:lnTo>
                  <a:pt x="1565" y="1739"/>
                </a:lnTo>
                <a:lnTo>
                  <a:pt x="1575" y="1739"/>
                </a:lnTo>
                <a:lnTo>
                  <a:pt x="1581" y="1739"/>
                </a:lnTo>
                <a:lnTo>
                  <a:pt x="1592" y="1750"/>
                </a:lnTo>
                <a:lnTo>
                  <a:pt x="1597" y="1739"/>
                </a:lnTo>
                <a:lnTo>
                  <a:pt x="1603" y="1733"/>
                </a:lnTo>
                <a:lnTo>
                  <a:pt x="1614" y="1722"/>
                </a:lnTo>
                <a:lnTo>
                  <a:pt x="1619" y="1717"/>
                </a:lnTo>
                <a:lnTo>
                  <a:pt x="1630" y="1717"/>
                </a:lnTo>
                <a:lnTo>
                  <a:pt x="1635" y="1712"/>
                </a:lnTo>
                <a:lnTo>
                  <a:pt x="1646" y="1706"/>
                </a:lnTo>
                <a:lnTo>
                  <a:pt x="1652" y="1701"/>
                </a:lnTo>
                <a:lnTo>
                  <a:pt x="1657" y="1690"/>
                </a:lnTo>
                <a:lnTo>
                  <a:pt x="1663" y="1684"/>
                </a:lnTo>
                <a:lnTo>
                  <a:pt x="1668" y="1673"/>
                </a:lnTo>
                <a:lnTo>
                  <a:pt x="1668" y="1657"/>
                </a:lnTo>
                <a:lnTo>
                  <a:pt x="1668" y="1646"/>
                </a:lnTo>
                <a:lnTo>
                  <a:pt x="1668" y="1635"/>
                </a:lnTo>
                <a:lnTo>
                  <a:pt x="1668" y="1624"/>
                </a:lnTo>
                <a:lnTo>
                  <a:pt x="1668" y="1608"/>
                </a:lnTo>
                <a:lnTo>
                  <a:pt x="1668" y="1597"/>
                </a:lnTo>
                <a:lnTo>
                  <a:pt x="1668" y="1586"/>
                </a:lnTo>
                <a:lnTo>
                  <a:pt x="1668" y="1575"/>
                </a:lnTo>
                <a:lnTo>
                  <a:pt x="1668" y="1564"/>
                </a:lnTo>
                <a:lnTo>
                  <a:pt x="1668" y="1548"/>
                </a:lnTo>
                <a:lnTo>
                  <a:pt x="1668" y="1537"/>
                </a:lnTo>
                <a:lnTo>
                  <a:pt x="1668" y="1526"/>
                </a:lnTo>
                <a:lnTo>
                  <a:pt x="1663" y="1515"/>
                </a:lnTo>
                <a:lnTo>
                  <a:pt x="1657" y="1499"/>
                </a:lnTo>
                <a:lnTo>
                  <a:pt x="1657" y="1488"/>
                </a:lnTo>
                <a:lnTo>
                  <a:pt x="1668" y="1483"/>
                </a:lnTo>
                <a:lnTo>
                  <a:pt x="1674" y="1477"/>
                </a:lnTo>
                <a:lnTo>
                  <a:pt x="1679" y="1472"/>
                </a:lnTo>
                <a:lnTo>
                  <a:pt x="1690" y="1461"/>
                </a:lnTo>
                <a:lnTo>
                  <a:pt x="1695" y="1455"/>
                </a:lnTo>
                <a:lnTo>
                  <a:pt x="1706" y="1455"/>
                </a:lnTo>
                <a:lnTo>
                  <a:pt x="1712" y="1450"/>
                </a:lnTo>
                <a:lnTo>
                  <a:pt x="1717" y="1444"/>
                </a:lnTo>
                <a:lnTo>
                  <a:pt x="1728" y="1439"/>
                </a:lnTo>
                <a:lnTo>
                  <a:pt x="1734" y="1434"/>
                </a:lnTo>
                <a:lnTo>
                  <a:pt x="1744" y="1428"/>
                </a:lnTo>
                <a:lnTo>
                  <a:pt x="1750" y="1423"/>
                </a:lnTo>
                <a:lnTo>
                  <a:pt x="1761" y="1417"/>
                </a:lnTo>
                <a:lnTo>
                  <a:pt x="1766" y="1412"/>
                </a:lnTo>
                <a:lnTo>
                  <a:pt x="1777" y="1412"/>
                </a:lnTo>
                <a:lnTo>
                  <a:pt x="1783" y="1406"/>
                </a:lnTo>
                <a:lnTo>
                  <a:pt x="1794" y="1401"/>
                </a:lnTo>
                <a:lnTo>
                  <a:pt x="1799" y="1395"/>
                </a:lnTo>
                <a:lnTo>
                  <a:pt x="1804" y="1390"/>
                </a:lnTo>
                <a:lnTo>
                  <a:pt x="1815" y="1385"/>
                </a:lnTo>
                <a:lnTo>
                  <a:pt x="1821" y="1379"/>
                </a:lnTo>
                <a:lnTo>
                  <a:pt x="1832" y="1374"/>
                </a:lnTo>
                <a:lnTo>
                  <a:pt x="1837" y="1368"/>
                </a:lnTo>
                <a:lnTo>
                  <a:pt x="1848" y="1363"/>
                </a:lnTo>
                <a:lnTo>
                  <a:pt x="1854" y="1357"/>
                </a:lnTo>
                <a:lnTo>
                  <a:pt x="1859" y="1346"/>
                </a:lnTo>
                <a:lnTo>
                  <a:pt x="1864" y="1335"/>
                </a:lnTo>
                <a:lnTo>
                  <a:pt x="1870" y="1330"/>
                </a:lnTo>
                <a:lnTo>
                  <a:pt x="1875" y="1319"/>
                </a:lnTo>
                <a:lnTo>
                  <a:pt x="1875" y="1308"/>
                </a:lnTo>
                <a:lnTo>
                  <a:pt x="1881" y="1297"/>
                </a:lnTo>
                <a:lnTo>
                  <a:pt x="1886" y="1286"/>
                </a:lnTo>
                <a:lnTo>
                  <a:pt x="1892" y="1276"/>
                </a:lnTo>
                <a:lnTo>
                  <a:pt x="1897" y="1265"/>
                </a:lnTo>
                <a:lnTo>
                  <a:pt x="1897" y="1254"/>
                </a:lnTo>
                <a:lnTo>
                  <a:pt x="1903" y="1243"/>
                </a:lnTo>
                <a:lnTo>
                  <a:pt x="1908" y="1237"/>
                </a:lnTo>
                <a:lnTo>
                  <a:pt x="1913" y="1226"/>
                </a:lnTo>
                <a:lnTo>
                  <a:pt x="1919" y="1216"/>
                </a:lnTo>
                <a:lnTo>
                  <a:pt x="1924" y="1205"/>
                </a:lnTo>
                <a:lnTo>
                  <a:pt x="1930" y="1194"/>
                </a:lnTo>
                <a:lnTo>
                  <a:pt x="1930" y="1183"/>
                </a:lnTo>
                <a:lnTo>
                  <a:pt x="1935" y="1172"/>
                </a:lnTo>
                <a:lnTo>
                  <a:pt x="1941" y="1161"/>
                </a:lnTo>
                <a:lnTo>
                  <a:pt x="1946" y="1150"/>
                </a:lnTo>
                <a:lnTo>
                  <a:pt x="1952" y="1145"/>
                </a:lnTo>
                <a:lnTo>
                  <a:pt x="1957" y="1134"/>
                </a:lnTo>
                <a:lnTo>
                  <a:pt x="1957" y="1123"/>
                </a:lnTo>
                <a:lnTo>
                  <a:pt x="1963" y="1112"/>
                </a:lnTo>
                <a:lnTo>
                  <a:pt x="1968" y="1101"/>
                </a:lnTo>
                <a:lnTo>
                  <a:pt x="1979" y="1096"/>
                </a:lnTo>
                <a:lnTo>
                  <a:pt x="1990" y="1096"/>
                </a:lnTo>
                <a:lnTo>
                  <a:pt x="2001" y="1096"/>
                </a:lnTo>
                <a:lnTo>
                  <a:pt x="2006" y="1107"/>
                </a:lnTo>
                <a:lnTo>
                  <a:pt x="2006" y="1117"/>
                </a:lnTo>
                <a:lnTo>
                  <a:pt x="2012" y="1128"/>
                </a:lnTo>
                <a:lnTo>
                  <a:pt x="2017" y="1139"/>
                </a:lnTo>
                <a:lnTo>
                  <a:pt x="2017" y="1150"/>
                </a:lnTo>
                <a:lnTo>
                  <a:pt x="2023" y="1161"/>
                </a:lnTo>
                <a:lnTo>
                  <a:pt x="2028" y="1172"/>
                </a:lnTo>
                <a:lnTo>
                  <a:pt x="2033" y="1183"/>
                </a:lnTo>
                <a:lnTo>
                  <a:pt x="2033" y="1194"/>
                </a:lnTo>
                <a:lnTo>
                  <a:pt x="2039" y="1205"/>
                </a:lnTo>
                <a:lnTo>
                  <a:pt x="2044" y="1216"/>
                </a:lnTo>
                <a:lnTo>
                  <a:pt x="2050" y="1226"/>
                </a:lnTo>
                <a:lnTo>
                  <a:pt x="2050" y="1237"/>
                </a:lnTo>
                <a:lnTo>
                  <a:pt x="2055" y="1248"/>
                </a:lnTo>
                <a:lnTo>
                  <a:pt x="2061" y="1259"/>
                </a:lnTo>
                <a:lnTo>
                  <a:pt x="2066" y="1270"/>
                </a:lnTo>
                <a:lnTo>
                  <a:pt x="2066" y="1281"/>
                </a:lnTo>
                <a:lnTo>
                  <a:pt x="2072" y="1292"/>
                </a:lnTo>
                <a:lnTo>
                  <a:pt x="2077" y="1297"/>
                </a:lnTo>
                <a:lnTo>
                  <a:pt x="2077" y="1308"/>
                </a:lnTo>
                <a:lnTo>
                  <a:pt x="2082" y="1319"/>
                </a:lnTo>
                <a:lnTo>
                  <a:pt x="2088" y="1330"/>
                </a:lnTo>
                <a:lnTo>
                  <a:pt x="2093" y="1341"/>
                </a:lnTo>
                <a:lnTo>
                  <a:pt x="2093" y="1352"/>
                </a:lnTo>
                <a:lnTo>
                  <a:pt x="2099" y="1363"/>
                </a:lnTo>
                <a:lnTo>
                  <a:pt x="2104" y="1374"/>
                </a:lnTo>
                <a:lnTo>
                  <a:pt x="2110" y="1385"/>
                </a:lnTo>
                <a:lnTo>
                  <a:pt x="2110" y="1395"/>
                </a:lnTo>
                <a:lnTo>
                  <a:pt x="2115" y="1406"/>
                </a:lnTo>
                <a:lnTo>
                  <a:pt x="2121" y="1417"/>
                </a:lnTo>
                <a:lnTo>
                  <a:pt x="2126" y="1428"/>
                </a:lnTo>
                <a:lnTo>
                  <a:pt x="2126" y="1439"/>
                </a:lnTo>
                <a:lnTo>
                  <a:pt x="2132" y="1450"/>
                </a:lnTo>
                <a:lnTo>
                  <a:pt x="2137" y="1461"/>
                </a:lnTo>
                <a:lnTo>
                  <a:pt x="2142" y="1472"/>
                </a:lnTo>
                <a:lnTo>
                  <a:pt x="2142" y="1483"/>
                </a:lnTo>
                <a:lnTo>
                  <a:pt x="2148" y="1494"/>
                </a:lnTo>
                <a:lnTo>
                  <a:pt x="2153" y="1504"/>
                </a:lnTo>
                <a:lnTo>
                  <a:pt x="2153" y="1515"/>
                </a:lnTo>
                <a:lnTo>
                  <a:pt x="2159" y="1526"/>
                </a:lnTo>
                <a:lnTo>
                  <a:pt x="2164" y="1537"/>
                </a:lnTo>
                <a:lnTo>
                  <a:pt x="2170" y="1548"/>
                </a:lnTo>
                <a:lnTo>
                  <a:pt x="2175" y="1559"/>
                </a:lnTo>
                <a:lnTo>
                  <a:pt x="2170" y="1570"/>
                </a:lnTo>
                <a:lnTo>
                  <a:pt x="2170" y="1575"/>
                </a:lnTo>
                <a:lnTo>
                  <a:pt x="2159" y="1586"/>
                </a:lnTo>
                <a:lnTo>
                  <a:pt x="2153" y="1592"/>
                </a:lnTo>
                <a:lnTo>
                  <a:pt x="2142" y="1603"/>
                </a:lnTo>
                <a:lnTo>
                  <a:pt x="2137" y="1603"/>
                </a:lnTo>
                <a:lnTo>
                  <a:pt x="2132" y="1608"/>
                </a:lnTo>
                <a:lnTo>
                  <a:pt x="2121" y="1613"/>
                </a:lnTo>
                <a:lnTo>
                  <a:pt x="2115" y="1619"/>
                </a:lnTo>
                <a:lnTo>
                  <a:pt x="2104" y="1630"/>
                </a:lnTo>
                <a:lnTo>
                  <a:pt x="2110" y="1635"/>
                </a:lnTo>
                <a:lnTo>
                  <a:pt x="2121" y="1635"/>
                </a:lnTo>
                <a:lnTo>
                  <a:pt x="2132" y="1635"/>
                </a:lnTo>
                <a:lnTo>
                  <a:pt x="2137" y="1641"/>
                </a:lnTo>
                <a:lnTo>
                  <a:pt x="2148" y="1641"/>
                </a:lnTo>
                <a:lnTo>
                  <a:pt x="2153" y="1641"/>
                </a:lnTo>
                <a:lnTo>
                  <a:pt x="2164" y="1641"/>
                </a:lnTo>
                <a:lnTo>
                  <a:pt x="2170" y="1641"/>
                </a:lnTo>
                <a:lnTo>
                  <a:pt x="2181" y="1641"/>
                </a:lnTo>
                <a:lnTo>
                  <a:pt x="2192" y="1646"/>
                </a:lnTo>
                <a:lnTo>
                  <a:pt x="2197" y="1646"/>
                </a:lnTo>
                <a:lnTo>
                  <a:pt x="2208" y="1646"/>
                </a:lnTo>
                <a:lnTo>
                  <a:pt x="2213" y="1652"/>
                </a:lnTo>
                <a:lnTo>
                  <a:pt x="2224" y="1652"/>
                </a:lnTo>
                <a:lnTo>
                  <a:pt x="2235" y="1652"/>
                </a:lnTo>
                <a:lnTo>
                  <a:pt x="2241" y="1657"/>
                </a:lnTo>
                <a:lnTo>
                  <a:pt x="2252" y="1662"/>
                </a:lnTo>
                <a:lnTo>
                  <a:pt x="2257" y="1668"/>
                </a:lnTo>
                <a:lnTo>
                  <a:pt x="2262" y="1679"/>
                </a:lnTo>
                <a:lnTo>
                  <a:pt x="2268" y="1690"/>
                </a:lnTo>
                <a:lnTo>
                  <a:pt x="2268" y="1701"/>
                </a:lnTo>
                <a:lnTo>
                  <a:pt x="2273" y="1712"/>
                </a:lnTo>
                <a:lnTo>
                  <a:pt x="2273" y="1722"/>
                </a:lnTo>
                <a:lnTo>
                  <a:pt x="2273" y="1733"/>
                </a:lnTo>
                <a:lnTo>
                  <a:pt x="2273" y="1744"/>
                </a:lnTo>
                <a:lnTo>
                  <a:pt x="2268" y="1761"/>
                </a:lnTo>
                <a:lnTo>
                  <a:pt x="2273" y="1771"/>
                </a:lnTo>
                <a:lnTo>
                  <a:pt x="2273" y="1782"/>
                </a:lnTo>
                <a:lnTo>
                  <a:pt x="2273" y="1793"/>
                </a:lnTo>
                <a:lnTo>
                  <a:pt x="2273" y="1804"/>
                </a:lnTo>
                <a:lnTo>
                  <a:pt x="2295" y="1782"/>
                </a:lnTo>
                <a:lnTo>
                  <a:pt x="2295" y="1750"/>
                </a:lnTo>
                <a:lnTo>
                  <a:pt x="2295" y="1712"/>
                </a:lnTo>
                <a:lnTo>
                  <a:pt x="2333" y="1673"/>
                </a:lnTo>
                <a:lnTo>
                  <a:pt x="2333" y="1635"/>
                </a:lnTo>
                <a:lnTo>
                  <a:pt x="2333" y="1597"/>
                </a:lnTo>
                <a:lnTo>
                  <a:pt x="2333" y="1559"/>
                </a:lnTo>
                <a:lnTo>
                  <a:pt x="2333" y="1526"/>
                </a:lnTo>
                <a:lnTo>
                  <a:pt x="2371" y="1488"/>
                </a:lnTo>
                <a:lnTo>
                  <a:pt x="2371" y="1450"/>
                </a:lnTo>
                <a:lnTo>
                  <a:pt x="2371" y="1412"/>
                </a:lnTo>
                <a:lnTo>
                  <a:pt x="2371" y="1374"/>
                </a:lnTo>
                <a:lnTo>
                  <a:pt x="2371" y="1335"/>
                </a:lnTo>
                <a:lnTo>
                  <a:pt x="2371" y="1303"/>
                </a:lnTo>
                <a:lnTo>
                  <a:pt x="2371" y="1265"/>
                </a:lnTo>
                <a:lnTo>
                  <a:pt x="2410" y="1226"/>
                </a:lnTo>
                <a:lnTo>
                  <a:pt x="2410" y="1188"/>
                </a:lnTo>
                <a:lnTo>
                  <a:pt x="2410" y="1150"/>
                </a:lnTo>
                <a:lnTo>
                  <a:pt x="2410" y="1117"/>
                </a:lnTo>
                <a:lnTo>
                  <a:pt x="2410" y="1079"/>
                </a:lnTo>
                <a:lnTo>
                  <a:pt x="2410" y="1041"/>
                </a:lnTo>
                <a:lnTo>
                  <a:pt x="2410" y="1003"/>
                </a:lnTo>
                <a:lnTo>
                  <a:pt x="2448" y="965"/>
                </a:lnTo>
                <a:lnTo>
                  <a:pt x="2448" y="927"/>
                </a:lnTo>
                <a:lnTo>
                  <a:pt x="2448" y="894"/>
                </a:lnTo>
                <a:lnTo>
                  <a:pt x="2448" y="856"/>
                </a:lnTo>
                <a:lnTo>
                  <a:pt x="2448" y="818"/>
                </a:lnTo>
                <a:lnTo>
                  <a:pt x="2448" y="780"/>
                </a:lnTo>
                <a:lnTo>
                  <a:pt x="2448" y="741"/>
                </a:lnTo>
                <a:lnTo>
                  <a:pt x="2481" y="703"/>
                </a:lnTo>
                <a:lnTo>
                  <a:pt x="2481" y="671"/>
                </a:lnTo>
                <a:lnTo>
                  <a:pt x="2481" y="632"/>
                </a:lnTo>
                <a:lnTo>
                  <a:pt x="2481" y="594"/>
                </a:lnTo>
                <a:lnTo>
                  <a:pt x="2481" y="556"/>
                </a:lnTo>
                <a:lnTo>
                  <a:pt x="2481" y="518"/>
                </a:lnTo>
                <a:lnTo>
                  <a:pt x="2481" y="485"/>
                </a:lnTo>
                <a:lnTo>
                  <a:pt x="2519" y="447"/>
                </a:lnTo>
                <a:lnTo>
                  <a:pt x="2519" y="409"/>
                </a:lnTo>
                <a:lnTo>
                  <a:pt x="2519" y="371"/>
                </a:lnTo>
                <a:lnTo>
                  <a:pt x="2519" y="333"/>
                </a:lnTo>
                <a:lnTo>
                  <a:pt x="2519" y="294"/>
                </a:lnTo>
                <a:lnTo>
                  <a:pt x="2519" y="262"/>
                </a:lnTo>
                <a:lnTo>
                  <a:pt x="2519" y="224"/>
                </a:lnTo>
                <a:lnTo>
                  <a:pt x="2557" y="185"/>
                </a:lnTo>
                <a:lnTo>
                  <a:pt x="2557" y="147"/>
                </a:lnTo>
                <a:lnTo>
                  <a:pt x="2557" y="109"/>
                </a:lnTo>
                <a:lnTo>
                  <a:pt x="2557" y="71"/>
                </a:lnTo>
                <a:lnTo>
                  <a:pt x="2557" y="38"/>
                </a:lnTo>
                <a:lnTo>
                  <a:pt x="2557" y="0"/>
                </a:lnTo>
                <a:lnTo>
                  <a:pt x="2519" y="0"/>
                </a:lnTo>
                <a:lnTo>
                  <a:pt x="2519" y="0"/>
                </a:lnTo>
                <a:lnTo>
                  <a:pt x="2519" y="0"/>
                </a:lnTo>
                <a:lnTo>
                  <a:pt x="2519" y="0"/>
                </a:lnTo>
                <a:lnTo>
                  <a:pt x="2519" y="0"/>
                </a:lnTo>
                <a:lnTo>
                  <a:pt x="2519" y="0"/>
                </a:lnTo>
                <a:lnTo>
                  <a:pt x="2519" y="0"/>
                </a:lnTo>
                <a:lnTo>
                  <a:pt x="2519" y="0"/>
                </a:lnTo>
                <a:lnTo>
                  <a:pt x="2519" y="0"/>
                </a:lnTo>
                <a:lnTo>
                  <a:pt x="2481" y="0"/>
                </a:lnTo>
                <a:lnTo>
                  <a:pt x="2448" y="0"/>
                </a:lnTo>
                <a:lnTo>
                  <a:pt x="2410" y="0"/>
                </a:lnTo>
                <a:lnTo>
                  <a:pt x="2371" y="38"/>
                </a:lnTo>
                <a:lnTo>
                  <a:pt x="2333" y="38"/>
                </a:lnTo>
                <a:lnTo>
                  <a:pt x="2295" y="38"/>
                </a:lnTo>
                <a:lnTo>
                  <a:pt x="2262" y="71"/>
                </a:lnTo>
                <a:lnTo>
                  <a:pt x="2224" y="71"/>
                </a:lnTo>
                <a:lnTo>
                  <a:pt x="2186" y="71"/>
                </a:lnTo>
                <a:lnTo>
                  <a:pt x="2148" y="109"/>
                </a:lnTo>
                <a:lnTo>
                  <a:pt x="2110" y="109"/>
                </a:lnTo>
                <a:lnTo>
                  <a:pt x="2077" y="147"/>
                </a:lnTo>
                <a:lnTo>
                  <a:pt x="2039" y="147"/>
                </a:lnTo>
                <a:lnTo>
                  <a:pt x="2001" y="147"/>
                </a:lnTo>
                <a:lnTo>
                  <a:pt x="1963" y="185"/>
                </a:lnTo>
                <a:lnTo>
                  <a:pt x="1924" y="185"/>
                </a:lnTo>
                <a:lnTo>
                  <a:pt x="1892" y="185"/>
                </a:lnTo>
                <a:lnTo>
                  <a:pt x="1854" y="224"/>
                </a:lnTo>
                <a:lnTo>
                  <a:pt x="1815" y="224"/>
                </a:lnTo>
                <a:lnTo>
                  <a:pt x="1777" y="224"/>
                </a:lnTo>
                <a:lnTo>
                  <a:pt x="1739" y="262"/>
                </a:lnTo>
                <a:lnTo>
                  <a:pt x="1706" y="262"/>
                </a:lnTo>
                <a:lnTo>
                  <a:pt x="1668" y="262"/>
                </a:lnTo>
                <a:lnTo>
                  <a:pt x="1630" y="294"/>
                </a:lnTo>
                <a:lnTo>
                  <a:pt x="1592" y="294"/>
                </a:lnTo>
                <a:lnTo>
                  <a:pt x="1554" y="294"/>
                </a:lnTo>
                <a:lnTo>
                  <a:pt x="1521" y="333"/>
                </a:lnTo>
                <a:lnTo>
                  <a:pt x="1483" y="333"/>
                </a:lnTo>
                <a:lnTo>
                  <a:pt x="1445" y="333"/>
                </a:lnTo>
                <a:lnTo>
                  <a:pt x="1406" y="371"/>
                </a:lnTo>
                <a:lnTo>
                  <a:pt x="1374" y="371"/>
                </a:lnTo>
                <a:lnTo>
                  <a:pt x="1336" y="409"/>
                </a:lnTo>
                <a:lnTo>
                  <a:pt x="1297" y="409"/>
                </a:lnTo>
                <a:lnTo>
                  <a:pt x="1259" y="409"/>
                </a:lnTo>
                <a:lnTo>
                  <a:pt x="1221" y="447"/>
                </a:lnTo>
                <a:lnTo>
                  <a:pt x="1188" y="447"/>
                </a:lnTo>
                <a:lnTo>
                  <a:pt x="1156" y="447"/>
                </a:lnTo>
                <a:lnTo>
                  <a:pt x="1150" y="447"/>
                </a:lnTo>
                <a:lnTo>
                  <a:pt x="1150" y="447"/>
                </a:lnTo>
                <a:lnTo>
                  <a:pt x="1150" y="447"/>
                </a:lnTo>
                <a:lnTo>
                  <a:pt x="1150" y="447"/>
                </a:lnTo>
                <a:lnTo>
                  <a:pt x="1150" y="447"/>
                </a:lnTo>
                <a:lnTo>
                  <a:pt x="1150" y="447"/>
                </a:lnTo>
                <a:lnTo>
                  <a:pt x="1145" y="447"/>
                </a:lnTo>
                <a:lnTo>
                  <a:pt x="1145" y="447"/>
                </a:lnTo>
                <a:lnTo>
                  <a:pt x="1112" y="485"/>
                </a:lnTo>
                <a:lnTo>
                  <a:pt x="1074" y="485"/>
                </a:lnTo>
                <a:lnTo>
                  <a:pt x="1057" y="485"/>
                </a:lnTo>
                <a:lnTo>
                  <a:pt x="1052" y="485"/>
                </a:lnTo>
                <a:lnTo>
                  <a:pt x="1047" y="485"/>
                </a:lnTo>
                <a:lnTo>
                  <a:pt x="1047" y="491"/>
                </a:lnTo>
                <a:lnTo>
                  <a:pt x="1041" y="491"/>
                </a:lnTo>
                <a:lnTo>
                  <a:pt x="1036" y="491"/>
                </a:lnTo>
                <a:lnTo>
                  <a:pt x="1036" y="491"/>
                </a:lnTo>
                <a:lnTo>
                  <a:pt x="1030" y="496"/>
                </a:lnTo>
                <a:lnTo>
                  <a:pt x="1025" y="496"/>
                </a:lnTo>
                <a:lnTo>
                  <a:pt x="1003" y="518"/>
                </a:lnTo>
                <a:lnTo>
                  <a:pt x="965" y="518"/>
                </a:lnTo>
                <a:lnTo>
                  <a:pt x="959" y="518"/>
                </a:lnTo>
                <a:lnTo>
                  <a:pt x="954" y="523"/>
                </a:lnTo>
                <a:lnTo>
                  <a:pt x="948" y="529"/>
                </a:lnTo>
                <a:lnTo>
                  <a:pt x="938" y="529"/>
                </a:lnTo>
                <a:lnTo>
                  <a:pt x="932" y="534"/>
                </a:lnTo>
                <a:lnTo>
                  <a:pt x="927" y="534"/>
                </a:lnTo>
                <a:lnTo>
                  <a:pt x="916" y="540"/>
                </a:lnTo>
                <a:lnTo>
                  <a:pt x="910" y="540"/>
                </a:lnTo>
                <a:lnTo>
                  <a:pt x="905" y="545"/>
                </a:lnTo>
                <a:lnTo>
                  <a:pt x="888" y="556"/>
                </a:lnTo>
                <a:lnTo>
                  <a:pt x="867" y="556"/>
                </a:lnTo>
                <a:lnTo>
                  <a:pt x="861" y="562"/>
                </a:lnTo>
                <a:lnTo>
                  <a:pt x="850" y="567"/>
                </a:lnTo>
                <a:lnTo>
                  <a:pt x="845" y="572"/>
                </a:lnTo>
                <a:lnTo>
                  <a:pt x="834" y="572"/>
                </a:lnTo>
                <a:lnTo>
                  <a:pt x="828" y="578"/>
                </a:lnTo>
                <a:lnTo>
                  <a:pt x="823" y="578"/>
                </a:lnTo>
                <a:lnTo>
                  <a:pt x="812" y="583"/>
                </a:lnTo>
                <a:lnTo>
                  <a:pt x="807" y="583"/>
                </a:lnTo>
                <a:lnTo>
                  <a:pt x="796" y="589"/>
                </a:lnTo>
                <a:lnTo>
                  <a:pt x="790" y="589"/>
                </a:lnTo>
                <a:lnTo>
                  <a:pt x="779" y="589"/>
                </a:lnTo>
                <a:lnTo>
                  <a:pt x="779" y="594"/>
                </a:lnTo>
                <a:lnTo>
                  <a:pt x="774" y="594"/>
                </a:lnTo>
                <a:lnTo>
                  <a:pt x="768" y="600"/>
                </a:lnTo>
                <a:lnTo>
                  <a:pt x="758" y="605"/>
                </a:lnTo>
                <a:lnTo>
                  <a:pt x="752" y="611"/>
                </a:lnTo>
                <a:lnTo>
                  <a:pt x="747" y="616"/>
                </a:lnTo>
                <a:lnTo>
                  <a:pt x="736" y="621"/>
                </a:lnTo>
                <a:lnTo>
                  <a:pt x="730" y="621"/>
                </a:lnTo>
                <a:lnTo>
                  <a:pt x="725" y="627"/>
                </a:lnTo>
                <a:lnTo>
                  <a:pt x="714" y="627"/>
                </a:lnTo>
                <a:lnTo>
                  <a:pt x="709" y="627"/>
                </a:lnTo>
                <a:lnTo>
                  <a:pt x="698" y="627"/>
                </a:lnTo>
                <a:lnTo>
                  <a:pt x="692" y="632"/>
                </a:lnTo>
                <a:lnTo>
                  <a:pt x="692" y="643"/>
                </a:lnTo>
                <a:lnTo>
                  <a:pt x="692" y="654"/>
                </a:lnTo>
                <a:lnTo>
                  <a:pt x="703" y="665"/>
                </a:lnTo>
                <a:lnTo>
                  <a:pt x="709" y="671"/>
                </a:lnTo>
                <a:lnTo>
                  <a:pt x="714" y="676"/>
                </a:lnTo>
                <a:lnTo>
                  <a:pt x="719" y="681"/>
                </a:lnTo>
                <a:lnTo>
                  <a:pt x="730" y="687"/>
                </a:lnTo>
                <a:lnTo>
                  <a:pt x="736" y="692"/>
                </a:lnTo>
                <a:lnTo>
                  <a:pt x="741" y="698"/>
                </a:lnTo>
                <a:lnTo>
                  <a:pt x="747" y="709"/>
                </a:lnTo>
                <a:lnTo>
                  <a:pt x="758" y="714"/>
                </a:lnTo>
                <a:lnTo>
                  <a:pt x="763" y="720"/>
                </a:lnTo>
                <a:lnTo>
                  <a:pt x="768" y="725"/>
                </a:lnTo>
                <a:lnTo>
                  <a:pt x="774" y="730"/>
                </a:lnTo>
                <a:lnTo>
                  <a:pt x="785" y="736"/>
                </a:lnTo>
                <a:lnTo>
                  <a:pt x="790" y="741"/>
                </a:lnTo>
                <a:lnTo>
                  <a:pt x="796" y="747"/>
                </a:lnTo>
                <a:lnTo>
                  <a:pt x="801" y="752"/>
                </a:lnTo>
                <a:lnTo>
                  <a:pt x="807" y="763"/>
                </a:lnTo>
                <a:lnTo>
                  <a:pt x="818" y="769"/>
                </a:lnTo>
                <a:lnTo>
                  <a:pt x="823" y="780"/>
                </a:lnTo>
                <a:lnTo>
                  <a:pt x="823" y="785"/>
                </a:lnTo>
                <a:lnTo>
                  <a:pt x="818" y="796"/>
                </a:lnTo>
                <a:lnTo>
                  <a:pt x="812" y="807"/>
                </a:lnTo>
                <a:lnTo>
                  <a:pt x="812" y="818"/>
                </a:lnTo>
                <a:lnTo>
                  <a:pt x="807" y="829"/>
                </a:lnTo>
                <a:lnTo>
                  <a:pt x="801" y="839"/>
                </a:lnTo>
                <a:lnTo>
                  <a:pt x="801" y="850"/>
                </a:lnTo>
                <a:lnTo>
                  <a:pt x="796" y="856"/>
                </a:lnTo>
                <a:lnTo>
                  <a:pt x="796" y="867"/>
                </a:lnTo>
                <a:lnTo>
                  <a:pt x="790" y="878"/>
                </a:lnTo>
                <a:lnTo>
                  <a:pt x="785" y="889"/>
                </a:lnTo>
                <a:lnTo>
                  <a:pt x="785" y="899"/>
                </a:lnTo>
                <a:lnTo>
                  <a:pt x="779" y="910"/>
                </a:lnTo>
                <a:lnTo>
                  <a:pt x="774" y="916"/>
                </a:lnTo>
                <a:lnTo>
                  <a:pt x="768" y="927"/>
                </a:lnTo>
                <a:lnTo>
                  <a:pt x="763" y="938"/>
                </a:lnTo>
                <a:lnTo>
                  <a:pt x="758" y="943"/>
                </a:lnTo>
                <a:lnTo>
                  <a:pt x="752" y="954"/>
                </a:lnTo>
                <a:lnTo>
                  <a:pt x="747" y="959"/>
                </a:lnTo>
                <a:lnTo>
                  <a:pt x="741" y="970"/>
                </a:lnTo>
                <a:lnTo>
                  <a:pt x="736" y="976"/>
                </a:lnTo>
                <a:lnTo>
                  <a:pt x="730" y="987"/>
                </a:lnTo>
                <a:lnTo>
                  <a:pt x="725" y="992"/>
                </a:lnTo>
                <a:lnTo>
                  <a:pt x="719" y="1003"/>
                </a:lnTo>
                <a:lnTo>
                  <a:pt x="714" y="1008"/>
                </a:lnTo>
                <a:lnTo>
                  <a:pt x="709" y="1019"/>
                </a:lnTo>
                <a:lnTo>
                  <a:pt x="703" y="1030"/>
                </a:lnTo>
                <a:lnTo>
                  <a:pt x="698" y="1036"/>
                </a:lnTo>
                <a:lnTo>
                  <a:pt x="692" y="1047"/>
                </a:lnTo>
                <a:lnTo>
                  <a:pt x="687" y="1052"/>
                </a:lnTo>
                <a:lnTo>
                  <a:pt x="681" y="1063"/>
                </a:lnTo>
                <a:lnTo>
                  <a:pt x="676" y="1068"/>
                </a:lnTo>
                <a:lnTo>
                  <a:pt x="670" y="1079"/>
                </a:lnTo>
                <a:lnTo>
                  <a:pt x="665" y="1085"/>
                </a:lnTo>
                <a:lnTo>
                  <a:pt x="659" y="1096"/>
                </a:lnTo>
                <a:lnTo>
                  <a:pt x="654" y="1101"/>
                </a:lnTo>
                <a:lnTo>
                  <a:pt x="649" y="1112"/>
                </a:lnTo>
                <a:lnTo>
                  <a:pt x="643" y="1123"/>
                </a:lnTo>
                <a:lnTo>
                  <a:pt x="638" y="1128"/>
                </a:lnTo>
                <a:lnTo>
                  <a:pt x="632" y="1139"/>
                </a:lnTo>
                <a:lnTo>
                  <a:pt x="627" y="1145"/>
                </a:lnTo>
                <a:lnTo>
                  <a:pt x="621" y="1156"/>
                </a:lnTo>
                <a:lnTo>
                  <a:pt x="621" y="1161"/>
                </a:lnTo>
                <a:lnTo>
                  <a:pt x="616" y="1172"/>
                </a:lnTo>
                <a:lnTo>
                  <a:pt x="610" y="1183"/>
                </a:lnTo>
                <a:lnTo>
                  <a:pt x="605" y="1188"/>
                </a:lnTo>
                <a:lnTo>
                  <a:pt x="599" y="1199"/>
                </a:lnTo>
                <a:lnTo>
                  <a:pt x="594" y="1205"/>
                </a:lnTo>
                <a:lnTo>
                  <a:pt x="589" y="1216"/>
                </a:lnTo>
                <a:lnTo>
                  <a:pt x="583" y="1226"/>
                </a:lnTo>
                <a:lnTo>
                  <a:pt x="578" y="1232"/>
                </a:lnTo>
                <a:lnTo>
                  <a:pt x="578" y="1243"/>
                </a:lnTo>
                <a:lnTo>
                  <a:pt x="572" y="1254"/>
                </a:lnTo>
                <a:lnTo>
                  <a:pt x="567" y="1265"/>
                </a:lnTo>
                <a:lnTo>
                  <a:pt x="561" y="1270"/>
                </a:lnTo>
                <a:lnTo>
                  <a:pt x="556" y="1281"/>
                </a:lnTo>
                <a:lnTo>
                  <a:pt x="550" y="1292"/>
                </a:lnTo>
                <a:lnTo>
                  <a:pt x="550" y="1297"/>
                </a:lnTo>
                <a:lnTo>
                  <a:pt x="545" y="1308"/>
                </a:lnTo>
                <a:lnTo>
                  <a:pt x="539" y="1319"/>
                </a:lnTo>
                <a:lnTo>
                  <a:pt x="534" y="1330"/>
                </a:lnTo>
                <a:lnTo>
                  <a:pt x="529" y="1335"/>
                </a:lnTo>
                <a:lnTo>
                  <a:pt x="529" y="1346"/>
                </a:lnTo>
                <a:lnTo>
                  <a:pt x="523" y="1357"/>
                </a:lnTo>
                <a:lnTo>
                  <a:pt x="518" y="1368"/>
                </a:lnTo>
                <a:lnTo>
                  <a:pt x="512" y="1374"/>
                </a:lnTo>
                <a:lnTo>
                  <a:pt x="507" y="1385"/>
                </a:lnTo>
                <a:lnTo>
                  <a:pt x="507" y="1395"/>
                </a:lnTo>
                <a:lnTo>
                  <a:pt x="501" y="1401"/>
                </a:lnTo>
                <a:lnTo>
                  <a:pt x="496" y="1412"/>
                </a:lnTo>
                <a:lnTo>
                  <a:pt x="490" y="1423"/>
                </a:lnTo>
                <a:lnTo>
                  <a:pt x="485" y="1434"/>
                </a:lnTo>
                <a:lnTo>
                  <a:pt x="480" y="1439"/>
                </a:lnTo>
                <a:lnTo>
                  <a:pt x="480" y="1450"/>
                </a:lnTo>
                <a:lnTo>
                  <a:pt x="474" y="1461"/>
                </a:lnTo>
                <a:lnTo>
                  <a:pt x="474" y="1472"/>
                </a:lnTo>
                <a:lnTo>
                  <a:pt x="474" y="1483"/>
                </a:lnTo>
                <a:lnTo>
                  <a:pt x="469" y="1494"/>
                </a:lnTo>
                <a:lnTo>
                  <a:pt x="469" y="1504"/>
                </a:lnTo>
                <a:lnTo>
                  <a:pt x="469" y="1515"/>
                </a:lnTo>
                <a:lnTo>
                  <a:pt x="469" y="1532"/>
                </a:lnTo>
                <a:lnTo>
                  <a:pt x="469" y="1543"/>
                </a:lnTo>
                <a:lnTo>
                  <a:pt x="469" y="1553"/>
                </a:lnTo>
                <a:lnTo>
                  <a:pt x="469" y="1564"/>
                </a:lnTo>
                <a:lnTo>
                  <a:pt x="463" y="1575"/>
                </a:lnTo>
                <a:lnTo>
                  <a:pt x="463" y="1586"/>
                </a:lnTo>
                <a:lnTo>
                  <a:pt x="463" y="1597"/>
                </a:lnTo>
                <a:lnTo>
                  <a:pt x="463" y="1608"/>
                </a:lnTo>
                <a:lnTo>
                  <a:pt x="463" y="1619"/>
                </a:lnTo>
                <a:lnTo>
                  <a:pt x="463" y="1630"/>
                </a:lnTo>
                <a:lnTo>
                  <a:pt x="458" y="1641"/>
                </a:lnTo>
                <a:lnTo>
                  <a:pt x="458" y="1652"/>
                </a:lnTo>
                <a:lnTo>
                  <a:pt x="458" y="1662"/>
                </a:lnTo>
                <a:lnTo>
                  <a:pt x="458" y="1673"/>
                </a:lnTo>
                <a:lnTo>
                  <a:pt x="458" y="1684"/>
                </a:lnTo>
                <a:lnTo>
                  <a:pt x="458" y="1695"/>
                </a:lnTo>
                <a:lnTo>
                  <a:pt x="452" y="1706"/>
                </a:lnTo>
                <a:lnTo>
                  <a:pt x="452" y="1722"/>
                </a:lnTo>
                <a:lnTo>
                  <a:pt x="452" y="1733"/>
                </a:lnTo>
                <a:lnTo>
                  <a:pt x="452" y="1744"/>
                </a:lnTo>
                <a:lnTo>
                  <a:pt x="452" y="1755"/>
                </a:lnTo>
                <a:lnTo>
                  <a:pt x="452" y="1766"/>
                </a:lnTo>
                <a:lnTo>
                  <a:pt x="447" y="1777"/>
                </a:lnTo>
                <a:lnTo>
                  <a:pt x="447" y="1788"/>
                </a:lnTo>
                <a:lnTo>
                  <a:pt x="447" y="1799"/>
                </a:lnTo>
                <a:lnTo>
                  <a:pt x="447" y="1810"/>
                </a:lnTo>
                <a:lnTo>
                  <a:pt x="447" y="1821"/>
                </a:lnTo>
                <a:lnTo>
                  <a:pt x="447" y="1831"/>
                </a:lnTo>
                <a:lnTo>
                  <a:pt x="441" y="1842"/>
                </a:lnTo>
                <a:lnTo>
                  <a:pt x="441" y="1853"/>
                </a:lnTo>
                <a:lnTo>
                  <a:pt x="441" y="1864"/>
                </a:lnTo>
                <a:lnTo>
                  <a:pt x="441" y="1875"/>
                </a:lnTo>
                <a:lnTo>
                  <a:pt x="441" y="1886"/>
                </a:lnTo>
                <a:lnTo>
                  <a:pt x="441" y="1897"/>
                </a:lnTo>
                <a:lnTo>
                  <a:pt x="436" y="1913"/>
                </a:lnTo>
                <a:lnTo>
                  <a:pt x="436" y="1924"/>
                </a:lnTo>
                <a:lnTo>
                  <a:pt x="436" y="1935"/>
                </a:lnTo>
                <a:lnTo>
                  <a:pt x="436" y="1946"/>
                </a:lnTo>
                <a:lnTo>
                  <a:pt x="430" y="1957"/>
                </a:lnTo>
                <a:lnTo>
                  <a:pt x="430" y="1968"/>
                </a:lnTo>
                <a:lnTo>
                  <a:pt x="430" y="1979"/>
                </a:lnTo>
                <a:lnTo>
                  <a:pt x="436" y="1990"/>
                </a:lnTo>
                <a:lnTo>
                  <a:pt x="436" y="2000"/>
                </a:lnTo>
                <a:lnTo>
                  <a:pt x="441" y="2006"/>
                </a:lnTo>
                <a:lnTo>
                  <a:pt x="447" y="2017"/>
                </a:lnTo>
                <a:lnTo>
                  <a:pt x="447" y="2028"/>
                </a:lnTo>
                <a:lnTo>
                  <a:pt x="452" y="2039"/>
                </a:lnTo>
                <a:lnTo>
                  <a:pt x="452" y="2049"/>
                </a:lnTo>
                <a:lnTo>
                  <a:pt x="452" y="2060"/>
                </a:lnTo>
                <a:lnTo>
                  <a:pt x="452" y="2071"/>
                </a:lnTo>
                <a:lnTo>
                  <a:pt x="458" y="2082"/>
                </a:lnTo>
                <a:lnTo>
                  <a:pt x="458" y="2093"/>
                </a:lnTo>
                <a:lnTo>
                  <a:pt x="463" y="2104"/>
                </a:lnTo>
                <a:lnTo>
                  <a:pt x="463" y="2115"/>
                </a:lnTo>
                <a:lnTo>
                  <a:pt x="469" y="2126"/>
                </a:lnTo>
                <a:lnTo>
                  <a:pt x="474" y="2131"/>
                </a:lnTo>
                <a:lnTo>
                  <a:pt x="480" y="2142"/>
                </a:lnTo>
                <a:lnTo>
                  <a:pt x="485" y="2153"/>
                </a:lnTo>
                <a:lnTo>
                  <a:pt x="485" y="2164"/>
                </a:lnTo>
                <a:lnTo>
                  <a:pt x="490" y="2175"/>
                </a:lnTo>
                <a:lnTo>
                  <a:pt x="490" y="2186"/>
                </a:lnTo>
                <a:lnTo>
                  <a:pt x="496" y="2191"/>
                </a:lnTo>
                <a:lnTo>
                  <a:pt x="496" y="2202"/>
                </a:lnTo>
                <a:lnTo>
                  <a:pt x="501" y="2213"/>
                </a:lnTo>
                <a:lnTo>
                  <a:pt x="507" y="2224"/>
                </a:lnTo>
                <a:lnTo>
                  <a:pt x="507" y="2235"/>
                </a:lnTo>
                <a:lnTo>
                  <a:pt x="507" y="2246"/>
                </a:lnTo>
                <a:lnTo>
                  <a:pt x="512" y="2257"/>
                </a:lnTo>
                <a:lnTo>
                  <a:pt x="518" y="2267"/>
                </a:lnTo>
                <a:lnTo>
                  <a:pt x="518" y="2278"/>
                </a:lnTo>
                <a:lnTo>
                  <a:pt x="529" y="2284"/>
                </a:lnTo>
                <a:lnTo>
                  <a:pt x="534" y="2284"/>
                </a:lnTo>
                <a:lnTo>
                  <a:pt x="545" y="2284"/>
                </a:lnTo>
                <a:lnTo>
                  <a:pt x="550" y="2289"/>
                </a:lnTo>
                <a:lnTo>
                  <a:pt x="561" y="2289"/>
                </a:lnTo>
                <a:lnTo>
                  <a:pt x="567" y="2295"/>
                </a:lnTo>
                <a:lnTo>
                  <a:pt x="572" y="2300"/>
                </a:lnTo>
                <a:lnTo>
                  <a:pt x="578" y="2311"/>
                </a:lnTo>
                <a:lnTo>
                  <a:pt x="589" y="2317"/>
                </a:lnTo>
                <a:lnTo>
                  <a:pt x="594" y="2317"/>
                </a:lnTo>
                <a:lnTo>
                  <a:pt x="605" y="2311"/>
                </a:lnTo>
                <a:lnTo>
                  <a:pt x="610" y="2306"/>
                </a:lnTo>
                <a:lnTo>
                  <a:pt x="616" y="2300"/>
                </a:lnTo>
                <a:lnTo>
                  <a:pt x="627" y="2295"/>
                </a:lnTo>
                <a:lnTo>
                  <a:pt x="632" y="2295"/>
                </a:lnTo>
                <a:lnTo>
                  <a:pt x="643" y="2295"/>
                </a:lnTo>
                <a:lnTo>
                  <a:pt x="654" y="2295"/>
                </a:lnTo>
                <a:lnTo>
                  <a:pt x="659" y="2289"/>
                </a:lnTo>
                <a:lnTo>
                  <a:pt x="665" y="2284"/>
                </a:lnTo>
                <a:lnTo>
                  <a:pt x="670" y="2278"/>
                </a:lnTo>
                <a:lnTo>
                  <a:pt x="670" y="2267"/>
                </a:lnTo>
                <a:lnTo>
                  <a:pt x="670" y="2257"/>
                </a:lnTo>
                <a:lnTo>
                  <a:pt x="676" y="2246"/>
                </a:lnTo>
                <a:lnTo>
                  <a:pt x="687" y="2240"/>
                </a:lnTo>
                <a:lnTo>
                  <a:pt x="692" y="2235"/>
                </a:lnTo>
                <a:lnTo>
                  <a:pt x="703" y="2235"/>
                </a:lnTo>
                <a:lnTo>
                  <a:pt x="709" y="2229"/>
                </a:lnTo>
                <a:lnTo>
                  <a:pt x="719" y="2229"/>
                </a:lnTo>
                <a:lnTo>
                  <a:pt x="725" y="2229"/>
                </a:lnTo>
                <a:lnTo>
                  <a:pt x="736" y="2229"/>
                </a:lnTo>
                <a:lnTo>
                  <a:pt x="741" y="2235"/>
                </a:lnTo>
                <a:lnTo>
                  <a:pt x="752" y="2240"/>
                </a:lnTo>
                <a:lnTo>
                  <a:pt x="758" y="2246"/>
                </a:lnTo>
                <a:lnTo>
                  <a:pt x="768" y="2251"/>
                </a:lnTo>
                <a:lnTo>
                  <a:pt x="774" y="2262"/>
                </a:lnTo>
                <a:lnTo>
                  <a:pt x="774" y="2267"/>
                </a:lnTo>
                <a:lnTo>
                  <a:pt x="774" y="2278"/>
                </a:lnTo>
                <a:lnTo>
                  <a:pt x="768" y="2289"/>
                </a:lnTo>
                <a:lnTo>
                  <a:pt x="763" y="2295"/>
                </a:lnTo>
                <a:lnTo>
                  <a:pt x="752" y="2300"/>
                </a:lnTo>
                <a:lnTo>
                  <a:pt x="741" y="2306"/>
                </a:lnTo>
                <a:lnTo>
                  <a:pt x="730" y="2306"/>
                </a:lnTo>
                <a:lnTo>
                  <a:pt x="719" y="2306"/>
                </a:lnTo>
                <a:lnTo>
                  <a:pt x="714" y="2306"/>
                </a:lnTo>
                <a:lnTo>
                  <a:pt x="709" y="2306"/>
                </a:lnTo>
                <a:lnTo>
                  <a:pt x="714" y="2311"/>
                </a:lnTo>
                <a:lnTo>
                  <a:pt x="719" y="2317"/>
                </a:lnTo>
                <a:lnTo>
                  <a:pt x="730" y="2322"/>
                </a:lnTo>
                <a:lnTo>
                  <a:pt x="741" y="2327"/>
                </a:lnTo>
                <a:lnTo>
                  <a:pt x="747" y="2333"/>
                </a:lnTo>
                <a:lnTo>
                  <a:pt x="758" y="2333"/>
                </a:lnTo>
                <a:lnTo>
                  <a:pt x="763" y="2333"/>
                </a:lnTo>
                <a:lnTo>
                  <a:pt x="768" y="2333"/>
                </a:lnTo>
                <a:lnTo>
                  <a:pt x="779" y="2333"/>
                </a:lnTo>
                <a:lnTo>
                  <a:pt x="790" y="2338"/>
                </a:lnTo>
                <a:lnTo>
                  <a:pt x="801" y="2338"/>
                </a:lnTo>
                <a:lnTo>
                  <a:pt x="807" y="2338"/>
                </a:lnTo>
                <a:lnTo>
                  <a:pt x="812" y="2344"/>
                </a:lnTo>
                <a:lnTo>
                  <a:pt x="812" y="2344"/>
                </a:lnTo>
                <a:lnTo>
                  <a:pt x="801" y="2349"/>
                </a:lnTo>
                <a:lnTo>
                  <a:pt x="796" y="2349"/>
                </a:lnTo>
                <a:lnTo>
                  <a:pt x="785" y="2355"/>
                </a:lnTo>
                <a:lnTo>
                  <a:pt x="774" y="2360"/>
                </a:lnTo>
                <a:lnTo>
                  <a:pt x="763" y="2366"/>
                </a:lnTo>
                <a:lnTo>
                  <a:pt x="758" y="2376"/>
                </a:lnTo>
                <a:lnTo>
                  <a:pt x="758" y="2382"/>
                </a:lnTo>
                <a:lnTo>
                  <a:pt x="763" y="2387"/>
                </a:lnTo>
                <a:lnTo>
                  <a:pt x="774" y="2398"/>
                </a:lnTo>
                <a:lnTo>
                  <a:pt x="779" y="2404"/>
                </a:lnTo>
                <a:lnTo>
                  <a:pt x="785" y="2409"/>
                </a:lnTo>
                <a:lnTo>
                  <a:pt x="790" y="2420"/>
                </a:lnTo>
                <a:lnTo>
                  <a:pt x="801" y="2426"/>
                </a:lnTo>
                <a:lnTo>
                  <a:pt x="807" y="2426"/>
                </a:lnTo>
                <a:lnTo>
                  <a:pt x="818" y="2431"/>
                </a:lnTo>
                <a:lnTo>
                  <a:pt x="823" y="2431"/>
                </a:lnTo>
                <a:lnTo>
                  <a:pt x="834" y="2436"/>
                </a:lnTo>
                <a:lnTo>
                  <a:pt x="839" y="2442"/>
                </a:lnTo>
                <a:lnTo>
                  <a:pt x="850" y="2436"/>
                </a:lnTo>
                <a:lnTo>
                  <a:pt x="856" y="2436"/>
                </a:lnTo>
                <a:lnTo>
                  <a:pt x="861" y="2426"/>
                </a:lnTo>
                <a:lnTo>
                  <a:pt x="867" y="2415"/>
                </a:lnTo>
                <a:close/>
                <a:moveTo>
                  <a:pt x="2012" y="2306"/>
                </a:moveTo>
                <a:lnTo>
                  <a:pt x="2012" y="2289"/>
                </a:lnTo>
                <a:lnTo>
                  <a:pt x="2006" y="2284"/>
                </a:lnTo>
                <a:lnTo>
                  <a:pt x="2001" y="2278"/>
                </a:lnTo>
                <a:lnTo>
                  <a:pt x="1990" y="2284"/>
                </a:lnTo>
                <a:lnTo>
                  <a:pt x="1984" y="2289"/>
                </a:lnTo>
                <a:lnTo>
                  <a:pt x="1979" y="2300"/>
                </a:lnTo>
                <a:lnTo>
                  <a:pt x="1979" y="2311"/>
                </a:lnTo>
                <a:lnTo>
                  <a:pt x="1979" y="2322"/>
                </a:lnTo>
                <a:lnTo>
                  <a:pt x="1990" y="2333"/>
                </a:lnTo>
                <a:lnTo>
                  <a:pt x="1995" y="2338"/>
                </a:lnTo>
                <a:lnTo>
                  <a:pt x="2001" y="2338"/>
                </a:lnTo>
                <a:lnTo>
                  <a:pt x="2006" y="2333"/>
                </a:lnTo>
                <a:lnTo>
                  <a:pt x="2012" y="2322"/>
                </a:lnTo>
                <a:lnTo>
                  <a:pt x="2012" y="2306"/>
                </a:lnTo>
                <a:close/>
                <a:moveTo>
                  <a:pt x="2050" y="2191"/>
                </a:moveTo>
                <a:lnTo>
                  <a:pt x="2050" y="2180"/>
                </a:lnTo>
                <a:lnTo>
                  <a:pt x="2050" y="2175"/>
                </a:lnTo>
                <a:lnTo>
                  <a:pt x="2050" y="2164"/>
                </a:lnTo>
                <a:lnTo>
                  <a:pt x="2050" y="2153"/>
                </a:lnTo>
                <a:lnTo>
                  <a:pt x="2050" y="2142"/>
                </a:lnTo>
                <a:lnTo>
                  <a:pt x="2044" y="2131"/>
                </a:lnTo>
                <a:lnTo>
                  <a:pt x="2044" y="2120"/>
                </a:lnTo>
                <a:lnTo>
                  <a:pt x="2044" y="2109"/>
                </a:lnTo>
                <a:lnTo>
                  <a:pt x="2044" y="2099"/>
                </a:lnTo>
                <a:lnTo>
                  <a:pt x="2039" y="2088"/>
                </a:lnTo>
                <a:lnTo>
                  <a:pt x="2039" y="2077"/>
                </a:lnTo>
                <a:lnTo>
                  <a:pt x="2039" y="2066"/>
                </a:lnTo>
                <a:lnTo>
                  <a:pt x="2039" y="2055"/>
                </a:lnTo>
                <a:lnTo>
                  <a:pt x="2039" y="2044"/>
                </a:lnTo>
                <a:lnTo>
                  <a:pt x="2033" y="2039"/>
                </a:lnTo>
                <a:lnTo>
                  <a:pt x="2033" y="2028"/>
                </a:lnTo>
                <a:lnTo>
                  <a:pt x="2033" y="2017"/>
                </a:lnTo>
                <a:lnTo>
                  <a:pt x="2033" y="2006"/>
                </a:lnTo>
                <a:lnTo>
                  <a:pt x="2028" y="1995"/>
                </a:lnTo>
                <a:lnTo>
                  <a:pt x="2023" y="1984"/>
                </a:lnTo>
                <a:lnTo>
                  <a:pt x="2017" y="1979"/>
                </a:lnTo>
                <a:lnTo>
                  <a:pt x="2012" y="1973"/>
                </a:lnTo>
                <a:lnTo>
                  <a:pt x="2006" y="1968"/>
                </a:lnTo>
                <a:lnTo>
                  <a:pt x="2001" y="1962"/>
                </a:lnTo>
                <a:lnTo>
                  <a:pt x="1990" y="1968"/>
                </a:lnTo>
                <a:lnTo>
                  <a:pt x="1984" y="1973"/>
                </a:lnTo>
                <a:lnTo>
                  <a:pt x="1979" y="1973"/>
                </a:lnTo>
                <a:lnTo>
                  <a:pt x="1968" y="1979"/>
                </a:lnTo>
                <a:lnTo>
                  <a:pt x="1963" y="1979"/>
                </a:lnTo>
                <a:lnTo>
                  <a:pt x="1957" y="1984"/>
                </a:lnTo>
                <a:lnTo>
                  <a:pt x="1952" y="1995"/>
                </a:lnTo>
                <a:lnTo>
                  <a:pt x="1946" y="2000"/>
                </a:lnTo>
                <a:lnTo>
                  <a:pt x="1935" y="2006"/>
                </a:lnTo>
                <a:lnTo>
                  <a:pt x="1930" y="2011"/>
                </a:lnTo>
                <a:lnTo>
                  <a:pt x="1924" y="2017"/>
                </a:lnTo>
                <a:lnTo>
                  <a:pt x="1919" y="2022"/>
                </a:lnTo>
                <a:lnTo>
                  <a:pt x="1913" y="2028"/>
                </a:lnTo>
                <a:lnTo>
                  <a:pt x="1908" y="2033"/>
                </a:lnTo>
                <a:lnTo>
                  <a:pt x="1903" y="2044"/>
                </a:lnTo>
                <a:lnTo>
                  <a:pt x="1897" y="2049"/>
                </a:lnTo>
                <a:lnTo>
                  <a:pt x="1892" y="2060"/>
                </a:lnTo>
                <a:lnTo>
                  <a:pt x="1886" y="2066"/>
                </a:lnTo>
                <a:lnTo>
                  <a:pt x="1881" y="2077"/>
                </a:lnTo>
                <a:lnTo>
                  <a:pt x="1875" y="2082"/>
                </a:lnTo>
                <a:lnTo>
                  <a:pt x="1875" y="2093"/>
                </a:lnTo>
                <a:lnTo>
                  <a:pt x="1875" y="2104"/>
                </a:lnTo>
                <a:lnTo>
                  <a:pt x="1875" y="2115"/>
                </a:lnTo>
                <a:lnTo>
                  <a:pt x="1875" y="2126"/>
                </a:lnTo>
                <a:lnTo>
                  <a:pt x="1881" y="2131"/>
                </a:lnTo>
                <a:lnTo>
                  <a:pt x="1886" y="2142"/>
                </a:lnTo>
                <a:lnTo>
                  <a:pt x="1897" y="2148"/>
                </a:lnTo>
                <a:lnTo>
                  <a:pt x="1903" y="2148"/>
                </a:lnTo>
                <a:lnTo>
                  <a:pt x="1908" y="2153"/>
                </a:lnTo>
                <a:lnTo>
                  <a:pt x="1913" y="2153"/>
                </a:lnTo>
                <a:lnTo>
                  <a:pt x="1924" y="2158"/>
                </a:lnTo>
                <a:lnTo>
                  <a:pt x="1930" y="2164"/>
                </a:lnTo>
                <a:lnTo>
                  <a:pt x="1935" y="2164"/>
                </a:lnTo>
                <a:lnTo>
                  <a:pt x="1946" y="2169"/>
                </a:lnTo>
                <a:lnTo>
                  <a:pt x="1952" y="2175"/>
                </a:lnTo>
                <a:lnTo>
                  <a:pt x="1957" y="2175"/>
                </a:lnTo>
                <a:lnTo>
                  <a:pt x="1968" y="2180"/>
                </a:lnTo>
                <a:lnTo>
                  <a:pt x="1973" y="2186"/>
                </a:lnTo>
                <a:lnTo>
                  <a:pt x="1979" y="2186"/>
                </a:lnTo>
                <a:lnTo>
                  <a:pt x="1990" y="2191"/>
                </a:lnTo>
                <a:lnTo>
                  <a:pt x="1995" y="2197"/>
                </a:lnTo>
                <a:lnTo>
                  <a:pt x="2001" y="2197"/>
                </a:lnTo>
                <a:lnTo>
                  <a:pt x="2006" y="2202"/>
                </a:lnTo>
                <a:lnTo>
                  <a:pt x="2017" y="2213"/>
                </a:lnTo>
                <a:lnTo>
                  <a:pt x="2023" y="2218"/>
                </a:lnTo>
                <a:lnTo>
                  <a:pt x="2033" y="2218"/>
                </a:lnTo>
                <a:lnTo>
                  <a:pt x="2039" y="2218"/>
                </a:lnTo>
                <a:lnTo>
                  <a:pt x="2044" y="2213"/>
                </a:lnTo>
                <a:lnTo>
                  <a:pt x="2044" y="2208"/>
                </a:lnTo>
                <a:lnTo>
                  <a:pt x="2050" y="2191"/>
                </a:lnTo>
                <a:close/>
                <a:moveTo>
                  <a:pt x="1674" y="2120"/>
                </a:moveTo>
                <a:lnTo>
                  <a:pt x="1674" y="2109"/>
                </a:lnTo>
                <a:lnTo>
                  <a:pt x="1668" y="2099"/>
                </a:lnTo>
                <a:lnTo>
                  <a:pt x="1668" y="2088"/>
                </a:lnTo>
                <a:lnTo>
                  <a:pt x="1668" y="2071"/>
                </a:lnTo>
                <a:lnTo>
                  <a:pt x="1668" y="2060"/>
                </a:lnTo>
                <a:lnTo>
                  <a:pt x="1663" y="2049"/>
                </a:lnTo>
                <a:lnTo>
                  <a:pt x="1663" y="2039"/>
                </a:lnTo>
                <a:lnTo>
                  <a:pt x="1663" y="2028"/>
                </a:lnTo>
                <a:lnTo>
                  <a:pt x="1663" y="2017"/>
                </a:lnTo>
                <a:lnTo>
                  <a:pt x="1657" y="2006"/>
                </a:lnTo>
                <a:lnTo>
                  <a:pt x="1657" y="1995"/>
                </a:lnTo>
                <a:lnTo>
                  <a:pt x="1652" y="1990"/>
                </a:lnTo>
                <a:lnTo>
                  <a:pt x="1641" y="1979"/>
                </a:lnTo>
                <a:lnTo>
                  <a:pt x="1635" y="1973"/>
                </a:lnTo>
                <a:lnTo>
                  <a:pt x="1630" y="1962"/>
                </a:lnTo>
                <a:lnTo>
                  <a:pt x="1625" y="1962"/>
                </a:lnTo>
                <a:lnTo>
                  <a:pt x="1614" y="1957"/>
                </a:lnTo>
                <a:lnTo>
                  <a:pt x="1608" y="1957"/>
                </a:lnTo>
                <a:lnTo>
                  <a:pt x="1597" y="1957"/>
                </a:lnTo>
                <a:lnTo>
                  <a:pt x="1592" y="1957"/>
                </a:lnTo>
                <a:lnTo>
                  <a:pt x="1581" y="1957"/>
                </a:lnTo>
                <a:lnTo>
                  <a:pt x="1575" y="1962"/>
                </a:lnTo>
                <a:lnTo>
                  <a:pt x="1565" y="1968"/>
                </a:lnTo>
                <a:lnTo>
                  <a:pt x="1559" y="1968"/>
                </a:lnTo>
                <a:lnTo>
                  <a:pt x="1548" y="1968"/>
                </a:lnTo>
                <a:lnTo>
                  <a:pt x="1543" y="1968"/>
                </a:lnTo>
                <a:lnTo>
                  <a:pt x="1532" y="1968"/>
                </a:lnTo>
                <a:lnTo>
                  <a:pt x="1526" y="1973"/>
                </a:lnTo>
                <a:lnTo>
                  <a:pt x="1515" y="1973"/>
                </a:lnTo>
                <a:lnTo>
                  <a:pt x="1510" y="1973"/>
                </a:lnTo>
                <a:lnTo>
                  <a:pt x="1499" y="1973"/>
                </a:lnTo>
                <a:lnTo>
                  <a:pt x="1494" y="1973"/>
                </a:lnTo>
                <a:lnTo>
                  <a:pt x="1483" y="1979"/>
                </a:lnTo>
                <a:lnTo>
                  <a:pt x="1477" y="1984"/>
                </a:lnTo>
                <a:lnTo>
                  <a:pt x="1466" y="1990"/>
                </a:lnTo>
                <a:lnTo>
                  <a:pt x="1455" y="2000"/>
                </a:lnTo>
                <a:lnTo>
                  <a:pt x="1455" y="2006"/>
                </a:lnTo>
                <a:lnTo>
                  <a:pt x="1455" y="2011"/>
                </a:lnTo>
                <a:lnTo>
                  <a:pt x="1466" y="2011"/>
                </a:lnTo>
                <a:lnTo>
                  <a:pt x="1477" y="2017"/>
                </a:lnTo>
                <a:lnTo>
                  <a:pt x="1483" y="2022"/>
                </a:lnTo>
                <a:lnTo>
                  <a:pt x="1494" y="2028"/>
                </a:lnTo>
                <a:lnTo>
                  <a:pt x="1499" y="2039"/>
                </a:lnTo>
                <a:lnTo>
                  <a:pt x="1499" y="2049"/>
                </a:lnTo>
                <a:lnTo>
                  <a:pt x="1499" y="2060"/>
                </a:lnTo>
                <a:lnTo>
                  <a:pt x="1505" y="2071"/>
                </a:lnTo>
                <a:lnTo>
                  <a:pt x="1505" y="2082"/>
                </a:lnTo>
                <a:lnTo>
                  <a:pt x="1510" y="2088"/>
                </a:lnTo>
                <a:lnTo>
                  <a:pt x="1521" y="2093"/>
                </a:lnTo>
                <a:lnTo>
                  <a:pt x="1526" y="2099"/>
                </a:lnTo>
                <a:lnTo>
                  <a:pt x="1537" y="2099"/>
                </a:lnTo>
                <a:lnTo>
                  <a:pt x="1543" y="2104"/>
                </a:lnTo>
                <a:lnTo>
                  <a:pt x="1554" y="2104"/>
                </a:lnTo>
                <a:lnTo>
                  <a:pt x="1559" y="2104"/>
                </a:lnTo>
                <a:lnTo>
                  <a:pt x="1570" y="2109"/>
                </a:lnTo>
                <a:lnTo>
                  <a:pt x="1575" y="2109"/>
                </a:lnTo>
                <a:lnTo>
                  <a:pt x="1586" y="2109"/>
                </a:lnTo>
                <a:lnTo>
                  <a:pt x="1592" y="2115"/>
                </a:lnTo>
                <a:lnTo>
                  <a:pt x="1597" y="2120"/>
                </a:lnTo>
                <a:lnTo>
                  <a:pt x="1608" y="2126"/>
                </a:lnTo>
                <a:lnTo>
                  <a:pt x="1614" y="2126"/>
                </a:lnTo>
                <a:lnTo>
                  <a:pt x="1625" y="2126"/>
                </a:lnTo>
                <a:lnTo>
                  <a:pt x="1630" y="2131"/>
                </a:lnTo>
                <a:lnTo>
                  <a:pt x="1641" y="2131"/>
                </a:lnTo>
                <a:lnTo>
                  <a:pt x="1646" y="2131"/>
                </a:lnTo>
                <a:lnTo>
                  <a:pt x="1657" y="2126"/>
                </a:lnTo>
                <a:lnTo>
                  <a:pt x="1663" y="2126"/>
                </a:lnTo>
                <a:lnTo>
                  <a:pt x="1674" y="2120"/>
                </a:lnTo>
                <a:close/>
                <a:moveTo>
                  <a:pt x="485" y="1935"/>
                </a:moveTo>
                <a:lnTo>
                  <a:pt x="496" y="1919"/>
                </a:lnTo>
                <a:lnTo>
                  <a:pt x="507" y="1908"/>
                </a:lnTo>
                <a:lnTo>
                  <a:pt x="512" y="1902"/>
                </a:lnTo>
                <a:lnTo>
                  <a:pt x="523" y="1908"/>
                </a:lnTo>
                <a:lnTo>
                  <a:pt x="539" y="1919"/>
                </a:lnTo>
                <a:lnTo>
                  <a:pt x="550" y="1930"/>
                </a:lnTo>
                <a:lnTo>
                  <a:pt x="556" y="1935"/>
                </a:lnTo>
                <a:lnTo>
                  <a:pt x="556" y="1924"/>
                </a:lnTo>
                <a:lnTo>
                  <a:pt x="556" y="1908"/>
                </a:lnTo>
                <a:lnTo>
                  <a:pt x="561" y="1886"/>
                </a:lnTo>
                <a:lnTo>
                  <a:pt x="567" y="1875"/>
                </a:lnTo>
                <a:lnTo>
                  <a:pt x="578" y="1864"/>
                </a:lnTo>
                <a:lnTo>
                  <a:pt x="589" y="1859"/>
                </a:lnTo>
                <a:lnTo>
                  <a:pt x="599" y="1859"/>
                </a:lnTo>
                <a:lnTo>
                  <a:pt x="610" y="1864"/>
                </a:lnTo>
                <a:lnTo>
                  <a:pt x="621" y="1875"/>
                </a:lnTo>
                <a:lnTo>
                  <a:pt x="632" y="1881"/>
                </a:lnTo>
                <a:lnTo>
                  <a:pt x="643" y="1886"/>
                </a:lnTo>
                <a:lnTo>
                  <a:pt x="649" y="1897"/>
                </a:lnTo>
                <a:lnTo>
                  <a:pt x="649" y="1908"/>
                </a:lnTo>
                <a:lnTo>
                  <a:pt x="643" y="1924"/>
                </a:lnTo>
                <a:lnTo>
                  <a:pt x="632" y="1935"/>
                </a:lnTo>
                <a:lnTo>
                  <a:pt x="616" y="1935"/>
                </a:lnTo>
                <a:lnTo>
                  <a:pt x="605" y="1935"/>
                </a:lnTo>
                <a:lnTo>
                  <a:pt x="594" y="1935"/>
                </a:lnTo>
                <a:lnTo>
                  <a:pt x="583" y="1930"/>
                </a:lnTo>
                <a:lnTo>
                  <a:pt x="572" y="1930"/>
                </a:lnTo>
                <a:lnTo>
                  <a:pt x="561" y="1930"/>
                </a:lnTo>
                <a:lnTo>
                  <a:pt x="550" y="1935"/>
                </a:lnTo>
                <a:lnTo>
                  <a:pt x="539" y="1940"/>
                </a:lnTo>
                <a:lnTo>
                  <a:pt x="529" y="1946"/>
                </a:lnTo>
                <a:lnTo>
                  <a:pt x="518" y="1946"/>
                </a:lnTo>
                <a:lnTo>
                  <a:pt x="507" y="1946"/>
                </a:lnTo>
                <a:lnTo>
                  <a:pt x="496" y="1940"/>
                </a:lnTo>
                <a:lnTo>
                  <a:pt x="485" y="1935"/>
                </a:lnTo>
                <a:close/>
                <a:moveTo>
                  <a:pt x="812" y="1897"/>
                </a:moveTo>
                <a:lnTo>
                  <a:pt x="807" y="1886"/>
                </a:lnTo>
                <a:lnTo>
                  <a:pt x="796" y="1875"/>
                </a:lnTo>
                <a:lnTo>
                  <a:pt x="790" y="1870"/>
                </a:lnTo>
                <a:lnTo>
                  <a:pt x="785" y="1864"/>
                </a:lnTo>
                <a:lnTo>
                  <a:pt x="774" y="1864"/>
                </a:lnTo>
                <a:lnTo>
                  <a:pt x="763" y="1864"/>
                </a:lnTo>
                <a:lnTo>
                  <a:pt x="758" y="1859"/>
                </a:lnTo>
                <a:lnTo>
                  <a:pt x="747" y="1853"/>
                </a:lnTo>
                <a:lnTo>
                  <a:pt x="741" y="1842"/>
                </a:lnTo>
                <a:lnTo>
                  <a:pt x="736" y="1831"/>
                </a:lnTo>
                <a:lnTo>
                  <a:pt x="730" y="1826"/>
                </a:lnTo>
                <a:lnTo>
                  <a:pt x="725" y="1815"/>
                </a:lnTo>
                <a:lnTo>
                  <a:pt x="719" y="1804"/>
                </a:lnTo>
                <a:lnTo>
                  <a:pt x="719" y="1788"/>
                </a:lnTo>
                <a:lnTo>
                  <a:pt x="719" y="1777"/>
                </a:lnTo>
                <a:lnTo>
                  <a:pt x="719" y="1766"/>
                </a:lnTo>
                <a:lnTo>
                  <a:pt x="719" y="1755"/>
                </a:lnTo>
                <a:lnTo>
                  <a:pt x="725" y="1739"/>
                </a:lnTo>
                <a:lnTo>
                  <a:pt x="725" y="1728"/>
                </a:lnTo>
                <a:lnTo>
                  <a:pt x="730" y="1717"/>
                </a:lnTo>
                <a:lnTo>
                  <a:pt x="736" y="1706"/>
                </a:lnTo>
                <a:lnTo>
                  <a:pt x="736" y="1695"/>
                </a:lnTo>
                <a:lnTo>
                  <a:pt x="741" y="1679"/>
                </a:lnTo>
                <a:lnTo>
                  <a:pt x="747" y="1668"/>
                </a:lnTo>
                <a:lnTo>
                  <a:pt x="747" y="1657"/>
                </a:lnTo>
                <a:lnTo>
                  <a:pt x="752" y="1646"/>
                </a:lnTo>
                <a:lnTo>
                  <a:pt x="758" y="1635"/>
                </a:lnTo>
                <a:lnTo>
                  <a:pt x="763" y="1630"/>
                </a:lnTo>
                <a:lnTo>
                  <a:pt x="774" y="1624"/>
                </a:lnTo>
                <a:lnTo>
                  <a:pt x="785" y="1619"/>
                </a:lnTo>
                <a:lnTo>
                  <a:pt x="790" y="1613"/>
                </a:lnTo>
                <a:lnTo>
                  <a:pt x="796" y="1608"/>
                </a:lnTo>
                <a:lnTo>
                  <a:pt x="807" y="1603"/>
                </a:lnTo>
                <a:lnTo>
                  <a:pt x="818" y="1603"/>
                </a:lnTo>
                <a:lnTo>
                  <a:pt x="828" y="1603"/>
                </a:lnTo>
                <a:lnTo>
                  <a:pt x="839" y="1603"/>
                </a:lnTo>
                <a:lnTo>
                  <a:pt x="850" y="1603"/>
                </a:lnTo>
                <a:lnTo>
                  <a:pt x="850" y="1597"/>
                </a:lnTo>
                <a:lnTo>
                  <a:pt x="850" y="1592"/>
                </a:lnTo>
                <a:lnTo>
                  <a:pt x="839" y="1581"/>
                </a:lnTo>
                <a:lnTo>
                  <a:pt x="828" y="1570"/>
                </a:lnTo>
                <a:lnTo>
                  <a:pt x="823" y="1564"/>
                </a:lnTo>
                <a:lnTo>
                  <a:pt x="818" y="1559"/>
                </a:lnTo>
                <a:lnTo>
                  <a:pt x="818" y="1564"/>
                </a:lnTo>
                <a:lnTo>
                  <a:pt x="823" y="1570"/>
                </a:lnTo>
                <a:lnTo>
                  <a:pt x="828" y="1581"/>
                </a:lnTo>
                <a:lnTo>
                  <a:pt x="839" y="1592"/>
                </a:lnTo>
                <a:lnTo>
                  <a:pt x="856" y="1597"/>
                </a:lnTo>
                <a:lnTo>
                  <a:pt x="867" y="1608"/>
                </a:lnTo>
                <a:lnTo>
                  <a:pt x="872" y="1613"/>
                </a:lnTo>
                <a:lnTo>
                  <a:pt x="883" y="1619"/>
                </a:lnTo>
                <a:lnTo>
                  <a:pt x="888" y="1630"/>
                </a:lnTo>
                <a:lnTo>
                  <a:pt x="888" y="1635"/>
                </a:lnTo>
                <a:lnTo>
                  <a:pt x="888" y="1646"/>
                </a:lnTo>
                <a:lnTo>
                  <a:pt x="888" y="1662"/>
                </a:lnTo>
                <a:lnTo>
                  <a:pt x="883" y="1673"/>
                </a:lnTo>
                <a:lnTo>
                  <a:pt x="878" y="1684"/>
                </a:lnTo>
                <a:lnTo>
                  <a:pt x="872" y="1695"/>
                </a:lnTo>
                <a:lnTo>
                  <a:pt x="872" y="1706"/>
                </a:lnTo>
                <a:lnTo>
                  <a:pt x="867" y="1717"/>
                </a:lnTo>
                <a:lnTo>
                  <a:pt x="867" y="1733"/>
                </a:lnTo>
                <a:lnTo>
                  <a:pt x="861" y="1744"/>
                </a:lnTo>
                <a:lnTo>
                  <a:pt x="850" y="1750"/>
                </a:lnTo>
                <a:lnTo>
                  <a:pt x="845" y="1761"/>
                </a:lnTo>
                <a:lnTo>
                  <a:pt x="839" y="1771"/>
                </a:lnTo>
                <a:lnTo>
                  <a:pt x="839" y="1782"/>
                </a:lnTo>
                <a:lnTo>
                  <a:pt x="834" y="1793"/>
                </a:lnTo>
                <a:lnTo>
                  <a:pt x="828" y="1804"/>
                </a:lnTo>
                <a:lnTo>
                  <a:pt x="828" y="1821"/>
                </a:lnTo>
                <a:lnTo>
                  <a:pt x="823" y="1831"/>
                </a:lnTo>
                <a:lnTo>
                  <a:pt x="823" y="1842"/>
                </a:lnTo>
                <a:lnTo>
                  <a:pt x="823" y="1859"/>
                </a:lnTo>
                <a:lnTo>
                  <a:pt x="823" y="1870"/>
                </a:lnTo>
                <a:lnTo>
                  <a:pt x="823" y="1881"/>
                </a:lnTo>
                <a:lnTo>
                  <a:pt x="818" y="1891"/>
                </a:lnTo>
                <a:lnTo>
                  <a:pt x="818" y="1908"/>
                </a:lnTo>
                <a:lnTo>
                  <a:pt x="818" y="1924"/>
                </a:lnTo>
                <a:lnTo>
                  <a:pt x="818" y="1924"/>
                </a:lnTo>
                <a:lnTo>
                  <a:pt x="812" y="1919"/>
                </a:lnTo>
                <a:lnTo>
                  <a:pt x="812" y="1897"/>
                </a:lnTo>
                <a:close/>
                <a:moveTo>
                  <a:pt x="878" y="1897"/>
                </a:moveTo>
                <a:lnTo>
                  <a:pt x="883" y="1891"/>
                </a:lnTo>
                <a:lnTo>
                  <a:pt x="883" y="1886"/>
                </a:lnTo>
                <a:lnTo>
                  <a:pt x="888" y="1881"/>
                </a:lnTo>
                <a:lnTo>
                  <a:pt x="894" y="1875"/>
                </a:lnTo>
                <a:lnTo>
                  <a:pt x="899" y="1875"/>
                </a:lnTo>
                <a:lnTo>
                  <a:pt x="905" y="1875"/>
                </a:lnTo>
                <a:lnTo>
                  <a:pt x="910" y="1870"/>
                </a:lnTo>
                <a:lnTo>
                  <a:pt x="916" y="1870"/>
                </a:lnTo>
                <a:lnTo>
                  <a:pt x="921" y="1864"/>
                </a:lnTo>
                <a:lnTo>
                  <a:pt x="927" y="1853"/>
                </a:lnTo>
                <a:lnTo>
                  <a:pt x="932" y="1859"/>
                </a:lnTo>
                <a:lnTo>
                  <a:pt x="927" y="1864"/>
                </a:lnTo>
                <a:lnTo>
                  <a:pt x="921" y="1870"/>
                </a:lnTo>
                <a:lnTo>
                  <a:pt x="916" y="1875"/>
                </a:lnTo>
                <a:lnTo>
                  <a:pt x="916" y="1881"/>
                </a:lnTo>
                <a:lnTo>
                  <a:pt x="910" y="1886"/>
                </a:lnTo>
                <a:lnTo>
                  <a:pt x="905" y="1891"/>
                </a:lnTo>
                <a:lnTo>
                  <a:pt x="905" y="1902"/>
                </a:lnTo>
                <a:lnTo>
                  <a:pt x="899" y="1908"/>
                </a:lnTo>
                <a:lnTo>
                  <a:pt x="899" y="1919"/>
                </a:lnTo>
                <a:lnTo>
                  <a:pt x="894" y="1924"/>
                </a:lnTo>
                <a:lnTo>
                  <a:pt x="888" y="1924"/>
                </a:lnTo>
                <a:lnTo>
                  <a:pt x="888" y="1924"/>
                </a:lnTo>
                <a:lnTo>
                  <a:pt x="883" y="1919"/>
                </a:lnTo>
                <a:lnTo>
                  <a:pt x="878" y="1908"/>
                </a:lnTo>
                <a:lnTo>
                  <a:pt x="878" y="1897"/>
                </a:lnTo>
                <a:close/>
                <a:moveTo>
                  <a:pt x="1237" y="1897"/>
                </a:moveTo>
                <a:lnTo>
                  <a:pt x="1226" y="1886"/>
                </a:lnTo>
                <a:lnTo>
                  <a:pt x="1221" y="1881"/>
                </a:lnTo>
                <a:lnTo>
                  <a:pt x="1210" y="1870"/>
                </a:lnTo>
                <a:lnTo>
                  <a:pt x="1205" y="1864"/>
                </a:lnTo>
                <a:lnTo>
                  <a:pt x="1194" y="1864"/>
                </a:lnTo>
                <a:lnTo>
                  <a:pt x="1183" y="1864"/>
                </a:lnTo>
                <a:lnTo>
                  <a:pt x="1172" y="1870"/>
                </a:lnTo>
                <a:lnTo>
                  <a:pt x="1161" y="1875"/>
                </a:lnTo>
                <a:lnTo>
                  <a:pt x="1150" y="1886"/>
                </a:lnTo>
                <a:lnTo>
                  <a:pt x="1150" y="1897"/>
                </a:lnTo>
                <a:lnTo>
                  <a:pt x="1150" y="1902"/>
                </a:lnTo>
                <a:lnTo>
                  <a:pt x="1161" y="1913"/>
                </a:lnTo>
                <a:lnTo>
                  <a:pt x="1172" y="1919"/>
                </a:lnTo>
                <a:lnTo>
                  <a:pt x="1183" y="1924"/>
                </a:lnTo>
                <a:lnTo>
                  <a:pt x="1194" y="1924"/>
                </a:lnTo>
                <a:lnTo>
                  <a:pt x="1205" y="1924"/>
                </a:lnTo>
                <a:lnTo>
                  <a:pt x="1210" y="1919"/>
                </a:lnTo>
                <a:lnTo>
                  <a:pt x="1221" y="1913"/>
                </a:lnTo>
                <a:lnTo>
                  <a:pt x="1226" y="1908"/>
                </a:lnTo>
                <a:lnTo>
                  <a:pt x="1237" y="1897"/>
                </a:lnTo>
                <a:close/>
                <a:moveTo>
                  <a:pt x="2148" y="1897"/>
                </a:moveTo>
                <a:lnTo>
                  <a:pt x="2142" y="1886"/>
                </a:lnTo>
                <a:lnTo>
                  <a:pt x="2142" y="1875"/>
                </a:lnTo>
                <a:lnTo>
                  <a:pt x="2137" y="1859"/>
                </a:lnTo>
                <a:lnTo>
                  <a:pt x="2137" y="1848"/>
                </a:lnTo>
                <a:lnTo>
                  <a:pt x="2137" y="1837"/>
                </a:lnTo>
                <a:lnTo>
                  <a:pt x="2132" y="1826"/>
                </a:lnTo>
                <a:lnTo>
                  <a:pt x="2126" y="1815"/>
                </a:lnTo>
                <a:lnTo>
                  <a:pt x="2121" y="1810"/>
                </a:lnTo>
                <a:lnTo>
                  <a:pt x="2110" y="1804"/>
                </a:lnTo>
                <a:lnTo>
                  <a:pt x="2099" y="1799"/>
                </a:lnTo>
                <a:lnTo>
                  <a:pt x="2093" y="1793"/>
                </a:lnTo>
                <a:lnTo>
                  <a:pt x="2082" y="1793"/>
                </a:lnTo>
                <a:lnTo>
                  <a:pt x="2077" y="1788"/>
                </a:lnTo>
                <a:lnTo>
                  <a:pt x="2066" y="1793"/>
                </a:lnTo>
                <a:lnTo>
                  <a:pt x="2061" y="1793"/>
                </a:lnTo>
                <a:lnTo>
                  <a:pt x="2050" y="1799"/>
                </a:lnTo>
                <a:lnTo>
                  <a:pt x="2039" y="1799"/>
                </a:lnTo>
                <a:lnTo>
                  <a:pt x="2033" y="1804"/>
                </a:lnTo>
                <a:lnTo>
                  <a:pt x="2028" y="1810"/>
                </a:lnTo>
                <a:lnTo>
                  <a:pt x="2017" y="1810"/>
                </a:lnTo>
                <a:lnTo>
                  <a:pt x="2006" y="1815"/>
                </a:lnTo>
                <a:lnTo>
                  <a:pt x="1995" y="1815"/>
                </a:lnTo>
                <a:lnTo>
                  <a:pt x="1990" y="1821"/>
                </a:lnTo>
                <a:lnTo>
                  <a:pt x="1990" y="1826"/>
                </a:lnTo>
                <a:lnTo>
                  <a:pt x="2001" y="1826"/>
                </a:lnTo>
                <a:lnTo>
                  <a:pt x="2012" y="1826"/>
                </a:lnTo>
                <a:lnTo>
                  <a:pt x="2017" y="1826"/>
                </a:lnTo>
                <a:lnTo>
                  <a:pt x="2028" y="1831"/>
                </a:lnTo>
                <a:lnTo>
                  <a:pt x="2033" y="1831"/>
                </a:lnTo>
                <a:lnTo>
                  <a:pt x="2039" y="1837"/>
                </a:lnTo>
                <a:lnTo>
                  <a:pt x="2050" y="1848"/>
                </a:lnTo>
                <a:lnTo>
                  <a:pt x="2055" y="1859"/>
                </a:lnTo>
                <a:lnTo>
                  <a:pt x="2061" y="1864"/>
                </a:lnTo>
                <a:lnTo>
                  <a:pt x="2072" y="1870"/>
                </a:lnTo>
                <a:lnTo>
                  <a:pt x="2077" y="1875"/>
                </a:lnTo>
                <a:lnTo>
                  <a:pt x="2082" y="1881"/>
                </a:lnTo>
                <a:lnTo>
                  <a:pt x="2093" y="1891"/>
                </a:lnTo>
                <a:lnTo>
                  <a:pt x="2099" y="1897"/>
                </a:lnTo>
                <a:lnTo>
                  <a:pt x="2104" y="1908"/>
                </a:lnTo>
                <a:lnTo>
                  <a:pt x="2115" y="1913"/>
                </a:lnTo>
                <a:lnTo>
                  <a:pt x="2121" y="1913"/>
                </a:lnTo>
                <a:lnTo>
                  <a:pt x="2132" y="1913"/>
                </a:lnTo>
                <a:lnTo>
                  <a:pt x="2137" y="1908"/>
                </a:lnTo>
                <a:lnTo>
                  <a:pt x="2148" y="1897"/>
                </a:lnTo>
                <a:close/>
                <a:moveTo>
                  <a:pt x="1346" y="1859"/>
                </a:moveTo>
                <a:lnTo>
                  <a:pt x="1357" y="1848"/>
                </a:lnTo>
                <a:lnTo>
                  <a:pt x="1363" y="1842"/>
                </a:lnTo>
                <a:lnTo>
                  <a:pt x="1368" y="1831"/>
                </a:lnTo>
                <a:lnTo>
                  <a:pt x="1368" y="1826"/>
                </a:lnTo>
                <a:lnTo>
                  <a:pt x="1368" y="1815"/>
                </a:lnTo>
                <a:lnTo>
                  <a:pt x="1357" y="1810"/>
                </a:lnTo>
                <a:lnTo>
                  <a:pt x="1352" y="1804"/>
                </a:lnTo>
                <a:lnTo>
                  <a:pt x="1346" y="1793"/>
                </a:lnTo>
                <a:lnTo>
                  <a:pt x="1341" y="1788"/>
                </a:lnTo>
                <a:lnTo>
                  <a:pt x="1341" y="1777"/>
                </a:lnTo>
                <a:lnTo>
                  <a:pt x="1341" y="1766"/>
                </a:lnTo>
                <a:lnTo>
                  <a:pt x="1341" y="1750"/>
                </a:lnTo>
                <a:lnTo>
                  <a:pt x="1336" y="1739"/>
                </a:lnTo>
                <a:lnTo>
                  <a:pt x="1330" y="1744"/>
                </a:lnTo>
                <a:lnTo>
                  <a:pt x="1325" y="1755"/>
                </a:lnTo>
                <a:lnTo>
                  <a:pt x="1325" y="1771"/>
                </a:lnTo>
                <a:lnTo>
                  <a:pt x="1325" y="1782"/>
                </a:lnTo>
                <a:lnTo>
                  <a:pt x="1325" y="1788"/>
                </a:lnTo>
                <a:lnTo>
                  <a:pt x="1319" y="1799"/>
                </a:lnTo>
                <a:lnTo>
                  <a:pt x="1314" y="1804"/>
                </a:lnTo>
                <a:lnTo>
                  <a:pt x="1303" y="1810"/>
                </a:lnTo>
                <a:lnTo>
                  <a:pt x="1297" y="1815"/>
                </a:lnTo>
                <a:lnTo>
                  <a:pt x="1286" y="1821"/>
                </a:lnTo>
                <a:lnTo>
                  <a:pt x="1281" y="1821"/>
                </a:lnTo>
                <a:lnTo>
                  <a:pt x="1276" y="1821"/>
                </a:lnTo>
                <a:lnTo>
                  <a:pt x="1265" y="1826"/>
                </a:lnTo>
                <a:lnTo>
                  <a:pt x="1259" y="1831"/>
                </a:lnTo>
                <a:lnTo>
                  <a:pt x="1248" y="1842"/>
                </a:lnTo>
                <a:lnTo>
                  <a:pt x="1243" y="1848"/>
                </a:lnTo>
                <a:lnTo>
                  <a:pt x="1243" y="1859"/>
                </a:lnTo>
                <a:lnTo>
                  <a:pt x="1248" y="1864"/>
                </a:lnTo>
                <a:lnTo>
                  <a:pt x="1259" y="1870"/>
                </a:lnTo>
                <a:lnTo>
                  <a:pt x="1265" y="1875"/>
                </a:lnTo>
                <a:lnTo>
                  <a:pt x="1276" y="1881"/>
                </a:lnTo>
                <a:lnTo>
                  <a:pt x="1281" y="1881"/>
                </a:lnTo>
                <a:lnTo>
                  <a:pt x="1292" y="1886"/>
                </a:lnTo>
                <a:lnTo>
                  <a:pt x="1297" y="1886"/>
                </a:lnTo>
                <a:lnTo>
                  <a:pt x="1308" y="1886"/>
                </a:lnTo>
                <a:lnTo>
                  <a:pt x="1314" y="1886"/>
                </a:lnTo>
                <a:lnTo>
                  <a:pt x="1325" y="1886"/>
                </a:lnTo>
                <a:lnTo>
                  <a:pt x="1330" y="1881"/>
                </a:lnTo>
                <a:lnTo>
                  <a:pt x="1336" y="1875"/>
                </a:lnTo>
                <a:lnTo>
                  <a:pt x="1341" y="1870"/>
                </a:lnTo>
                <a:lnTo>
                  <a:pt x="1346" y="1859"/>
                </a:lnTo>
                <a:close/>
                <a:moveTo>
                  <a:pt x="1734" y="1821"/>
                </a:moveTo>
                <a:lnTo>
                  <a:pt x="1723" y="1815"/>
                </a:lnTo>
                <a:lnTo>
                  <a:pt x="1723" y="1810"/>
                </a:lnTo>
                <a:lnTo>
                  <a:pt x="1717" y="1804"/>
                </a:lnTo>
                <a:lnTo>
                  <a:pt x="1712" y="1804"/>
                </a:lnTo>
                <a:lnTo>
                  <a:pt x="1701" y="1810"/>
                </a:lnTo>
                <a:lnTo>
                  <a:pt x="1695" y="1815"/>
                </a:lnTo>
                <a:lnTo>
                  <a:pt x="1695" y="1821"/>
                </a:lnTo>
                <a:lnTo>
                  <a:pt x="1695" y="1826"/>
                </a:lnTo>
                <a:lnTo>
                  <a:pt x="1701" y="1826"/>
                </a:lnTo>
                <a:lnTo>
                  <a:pt x="1706" y="1831"/>
                </a:lnTo>
                <a:lnTo>
                  <a:pt x="1712" y="1831"/>
                </a:lnTo>
                <a:lnTo>
                  <a:pt x="1717" y="1826"/>
                </a:lnTo>
                <a:lnTo>
                  <a:pt x="1723" y="1826"/>
                </a:lnTo>
                <a:lnTo>
                  <a:pt x="1734" y="1821"/>
                </a:lnTo>
                <a:close/>
                <a:moveTo>
                  <a:pt x="1483" y="1712"/>
                </a:moveTo>
                <a:lnTo>
                  <a:pt x="1483" y="1706"/>
                </a:lnTo>
                <a:lnTo>
                  <a:pt x="1483" y="1706"/>
                </a:lnTo>
                <a:lnTo>
                  <a:pt x="1483" y="1706"/>
                </a:lnTo>
                <a:lnTo>
                  <a:pt x="1483" y="1701"/>
                </a:lnTo>
                <a:lnTo>
                  <a:pt x="1483" y="1701"/>
                </a:lnTo>
                <a:lnTo>
                  <a:pt x="1483" y="1706"/>
                </a:lnTo>
                <a:lnTo>
                  <a:pt x="1483" y="1706"/>
                </a:lnTo>
                <a:lnTo>
                  <a:pt x="1483" y="1706"/>
                </a:lnTo>
                <a:lnTo>
                  <a:pt x="1483" y="1706"/>
                </a:lnTo>
                <a:lnTo>
                  <a:pt x="1483" y="1712"/>
                </a:lnTo>
                <a:lnTo>
                  <a:pt x="1483" y="1712"/>
                </a:lnTo>
                <a:lnTo>
                  <a:pt x="1483" y="1712"/>
                </a:lnTo>
                <a:lnTo>
                  <a:pt x="1483" y="1712"/>
                </a:lnTo>
                <a:lnTo>
                  <a:pt x="1483" y="1712"/>
                </a:lnTo>
                <a:close/>
                <a:moveTo>
                  <a:pt x="943" y="1673"/>
                </a:moveTo>
                <a:lnTo>
                  <a:pt x="938" y="1657"/>
                </a:lnTo>
                <a:lnTo>
                  <a:pt x="932" y="1646"/>
                </a:lnTo>
                <a:lnTo>
                  <a:pt x="932" y="1635"/>
                </a:lnTo>
                <a:lnTo>
                  <a:pt x="938" y="1624"/>
                </a:lnTo>
                <a:lnTo>
                  <a:pt x="943" y="1608"/>
                </a:lnTo>
                <a:lnTo>
                  <a:pt x="954" y="1603"/>
                </a:lnTo>
                <a:lnTo>
                  <a:pt x="965" y="1603"/>
                </a:lnTo>
                <a:lnTo>
                  <a:pt x="976" y="1608"/>
                </a:lnTo>
                <a:lnTo>
                  <a:pt x="981" y="1613"/>
                </a:lnTo>
                <a:lnTo>
                  <a:pt x="987" y="1630"/>
                </a:lnTo>
                <a:lnTo>
                  <a:pt x="987" y="1641"/>
                </a:lnTo>
                <a:lnTo>
                  <a:pt x="987" y="1652"/>
                </a:lnTo>
                <a:lnTo>
                  <a:pt x="981" y="1662"/>
                </a:lnTo>
                <a:lnTo>
                  <a:pt x="976" y="1679"/>
                </a:lnTo>
                <a:lnTo>
                  <a:pt x="970" y="1695"/>
                </a:lnTo>
                <a:lnTo>
                  <a:pt x="965" y="1706"/>
                </a:lnTo>
                <a:lnTo>
                  <a:pt x="959" y="1712"/>
                </a:lnTo>
                <a:lnTo>
                  <a:pt x="954" y="1706"/>
                </a:lnTo>
                <a:lnTo>
                  <a:pt x="948" y="1690"/>
                </a:lnTo>
                <a:lnTo>
                  <a:pt x="943" y="1673"/>
                </a:lnTo>
                <a:close/>
                <a:moveTo>
                  <a:pt x="888" y="1635"/>
                </a:moveTo>
                <a:lnTo>
                  <a:pt x="878" y="1619"/>
                </a:lnTo>
                <a:lnTo>
                  <a:pt x="872" y="1608"/>
                </a:lnTo>
                <a:lnTo>
                  <a:pt x="867" y="1597"/>
                </a:lnTo>
                <a:lnTo>
                  <a:pt x="861" y="1592"/>
                </a:lnTo>
                <a:lnTo>
                  <a:pt x="856" y="1597"/>
                </a:lnTo>
                <a:lnTo>
                  <a:pt x="850" y="1603"/>
                </a:lnTo>
                <a:lnTo>
                  <a:pt x="850" y="1613"/>
                </a:lnTo>
                <a:lnTo>
                  <a:pt x="850" y="1624"/>
                </a:lnTo>
                <a:lnTo>
                  <a:pt x="850" y="1641"/>
                </a:lnTo>
                <a:lnTo>
                  <a:pt x="856" y="1646"/>
                </a:lnTo>
                <a:lnTo>
                  <a:pt x="861" y="1646"/>
                </a:lnTo>
                <a:lnTo>
                  <a:pt x="872" y="1646"/>
                </a:lnTo>
                <a:lnTo>
                  <a:pt x="878" y="1641"/>
                </a:lnTo>
                <a:lnTo>
                  <a:pt x="888" y="1635"/>
                </a:lnTo>
                <a:close/>
                <a:moveTo>
                  <a:pt x="627" y="1597"/>
                </a:moveTo>
                <a:lnTo>
                  <a:pt x="621" y="1592"/>
                </a:lnTo>
                <a:lnTo>
                  <a:pt x="621" y="1586"/>
                </a:lnTo>
                <a:lnTo>
                  <a:pt x="621" y="1575"/>
                </a:lnTo>
                <a:lnTo>
                  <a:pt x="621" y="1570"/>
                </a:lnTo>
                <a:lnTo>
                  <a:pt x="621" y="1564"/>
                </a:lnTo>
                <a:lnTo>
                  <a:pt x="621" y="1553"/>
                </a:lnTo>
                <a:lnTo>
                  <a:pt x="621" y="1548"/>
                </a:lnTo>
                <a:lnTo>
                  <a:pt x="621" y="1543"/>
                </a:lnTo>
                <a:lnTo>
                  <a:pt x="621" y="1532"/>
                </a:lnTo>
                <a:lnTo>
                  <a:pt x="621" y="1526"/>
                </a:lnTo>
                <a:lnTo>
                  <a:pt x="627" y="1521"/>
                </a:lnTo>
                <a:lnTo>
                  <a:pt x="627" y="1521"/>
                </a:lnTo>
                <a:lnTo>
                  <a:pt x="632" y="1521"/>
                </a:lnTo>
                <a:lnTo>
                  <a:pt x="638" y="1526"/>
                </a:lnTo>
                <a:lnTo>
                  <a:pt x="638" y="1537"/>
                </a:lnTo>
                <a:lnTo>
                  <a:pt x="638" y="1543"/>
                </a:lnTo>
                <a:lnTo>
                  <a:pt x="638" y="1548"/>
                </a:lnTo>
                <a:lnTo>
                  <a:pt x="638" y="1559"/>
                </a:lnTo>
                <a:lnTo>
                  <a:pt x="638" y="1564"/>
                </a:lnTo>
                <a:lnTo>
                  <a:pt x="638" y="1570"/>
                </a:lnTo>
                <a:lnTo>
                  <a:pt x="638" y="1581"/>
                </a:lnTo>
                <a:lnTo>
                  <a:pt x="638" y="1586"/>
                </a:lnTo>
                <a:lnTo>
                  <a:pt x="638" y="1592"/>
                </a:lnTo>
                <a:lnTo>
                  <a:pt x="632" y="1597"/>
                </a:lnTo>
                <a:lnTo>
                  <a:pt x="627" y="1603"/>
                </a:lnTo>
                <a:lnTo>
                  <a:pt x="627" y="1597"/>
                </a:lnTo>
                <a:close/>
                <a:moveTo>
                  <a:pt x="1265" y="1450"/>
                </a:moveTo>
                <a:lnTo>
                  <a:pt x="1259" y="1444"/>
                </a:lnTo>
                <a:lnTo>
                  <a:pt x="1254" y="1439"/>
                </a:lnTo>
                <a:lnTo>
                  <a:pt x="1243" y="1439"/>
                </a:lnTo>
                <a:lnTo>
                  <a:pt x="1237" y="1439"/>
                </a:lnTo>
                <a:lnTo>
                  <a:pt x="1232" y="1444"/>
                </a:lnTo>
                <a:lnTo>
                  <a:pt x="1226" y="1444"/>
                </a:lnTo>
                <a:lnTo>
                  <a:pt x="1221" y="1450"/>
                </a:lnTo>
                <a:lnTo>
                  <a:pt x="1226" y="1455"/>
                </a:lnTo>
                <a:lnTo>
                  <a:pt x="1232" y="1455"/>
                </a:lnTo>
                <a:lnTo>
                  <a:pt x="1237" y="1455"/>
                </a:lnTo>
                <a:lnTo>
                  <a:pt x="1243" y="1455"/>
                </a:lnTo>
                <a:lnTo>
                  <a:pt x="1254" y="1455"/>
                </a:lnTo>
                <a:lnTo>
                  <a:pt x="1259" y="1455"/>
                </a:lnTo>
                <a:lnTo>
                  <a:pt x="1265" y="1450"/>
                </a:lnTo>
                <a:close/>
                <a:moveTo>
                  <a:pt x="867" y="1412"/>
                </a:moveTo>
                <a:lnTo>
                  <a:pt x="861" y="1406"/>
                </a:lnTo>
                <a:lnTo>
                  <a:pt x="861" y="1395"/>
                </a:lnTo>
                <a:lnTo>
                  <a:pt x="850" y="1390"/>
                </a:lnTo>
                <a:lnTo>
                  <a:pt x="845" y="1379"/>
                </a:lnTo>
                <a:lnTo>
                  <a:pt x="845" y="1374"/>
                </a:lnTo>
                <a:lnTo>
                  <a:pt x="856" y="1368"/>
                </a:lnTo>
                <a:lnTo>
                  <a:pt x="861" y="1363"/>
                </a:lnTo>
                <a:lnTo>
                  <a:pt x="872" y="1363"/>
                </a:lnTo>
                <a:lnTo>
                  <a:pt x="878" y="1357"/>
                </a:lnTo>
                <a:lnTo>
                  <a:pt x="883" y="1357"/>
                </a:lnTo>
                <a:lnTo>
                  <a:pt x="894" y="1363"/>
                </a:lnTo>
                <a:lnTo>
                  <a:pt x="899" y="1363"/>
                </a:lnTo>
                <a:lnTo>
                  <a:pt x="905" y="1368"/>
                </a:lnTo>
                <a:lnTo>
                  <a:pt x="910" y="1379"/>
                </a:lnTo>
                <a:lnTo>
                  <a:pt x="910" y="1390"/>
                </a:lnTo>
                <a:lnTo>
                  <a:pt x="916" y="1401"/>
                </a:lnTo>
                <a:lnTo>
                  <a:pt x="910" y="1412"/>
                </a:lnTo>
                <a:lnTo>
                  <a:pt x="910" y="1423"/>
                </a:lnTo>
                <a:lnTo>
                  <a:pt x="905" y="1434"/>
                </a:lnTo>
                <a:lnTo>
                  <a:pt x="899" y="1444"/>
                </a:lnTo>
                <a:lnTo>
                  <a:pt x="894" y="1450"/>
                </a:lnTo>
                <a:lnTo>
                  <a:pt x="888" y="1450"/>
                </a:lnTo>
                <a:lnTo>
                  <a:pt x="883" y="1444"/>
                </a:lnTo>
                <a:lnTo>
                  <a:pt x="878" y="1439"/>
                </a:lnTo>
                <a:lnTo>
                  <a:pt x="872" y="1428"/>
                </a:lnTo>
                <a:lnTo>
                  <a:pt x="867" y="1412"/>
                </a:lnTo>
                <a:close/>
                <a:moveTo>
                  <a:pt x="1128" y="1188"/>
                </a:moveTo>
                <a:lnTo>
                  <a:pt x="1117" y="1188"/>
                </a:lnTo>
                <a:lnTo>
                  <a:pt x="1112" y="1183"/>
                </a:lnTo>
                <a:lnTo>
                  <a:pt x="1101" y="1183"/>
                </a:lnTo>
                <a:lnTo>
                  <a:pt x="1090" y="1177"/>
                </a:lnTo>
                <a:lnTo>
                  <a:pt x="1085" y="1172"/>
                </a:lnTo>
                <a:lnTo>
                  <a:pt x="1074" y="1172"/>
                </a:lnTo>
                <a:lnTo>
                  <a:pt x="1063" y="1167"/>
                </a:lnTo>
                <a:lnTo>
                  <a:pt x="1052" y="1167"/>
                </a:lnTo>
                <a:lnTo>
                  <a:pt x="1047" y="1161"/>
                </a:lnTo>
                <a:lnTo>
                  <a:pt x="1041" y="1150"/>
                </a:lnTo>
                <a:lnTo>
                  <a:pt x="1036" y="1139"/>
                </a:lnTo>
                <a:lnTo>
                  <a:pt x="1041" y="1123"/>
                </a:lnTo>
                <a:lnTo>
                  <a:pt x="1047" y="1112"/>
                </a:lnTo>
                <a:lnTo>
                  <a:pt x="1052" y="1107"/>
                </a:lnTo>
                <a:lnTo>
                  <a:pt x="1063" y="1107"/>
                </a:lnTo>
                <a:lnTo>
                  <a:pt x="1068" y="1101"/>
                </a:lnTo>
                <a:lnTo>
                  <a:pt x="1079" y="1101"/>
                </a:lnTo>
                <a:lnTo>
                  <a:pt x="1090" y="1096"/>
                </a:lnTo>
                <a:lnTo>
                  <a:pt x="1096" y="1090"/>
                </a:lnTo>
                <a:lnTo>
                  <a:pt x="1107" y="1090"/>
                </a:lnTo>
                <a:lnTo>
                  <a:pt x="1117" y="1085"/>
                </a:lnTo>
                <a:lnTo>
                  <a:pt x="1123" y="1079"/>
                </a:lnTo>
                <a:lnTo>
                  <a:pt x="1134" y="1079"/>
                </a:lnTo>
                <a:lnTo>
                  <a:pt x="1145" y="1079"/>
                </a:lnTo>
                <a:lnTo>
                  <a:pt x="1150" y="1085"/>
                </a:lnTo>
                <a:lnTo>
                  <a:pt x="1161" y="1096"/>
                </a:lnTo>
                <a:lnTo>
                  <a:pt x="1167" y="1107"/>
                </a:lnTo>
                <a:lnTo>
                  <a:pt x="1167" y="1117"/>
                </a:lnTo>
                <a:lnTo>
                  <a:pt x="1167" y="1128"/>
                </a:lnTo>
                <a:lnTo>
                  <a:pt x="1167" y="1139"/>
                </a:lnTo>
                <a:lnTo>
                  <a:pt x="1167" y="1156"/>
                </a:lnTo>
                <a:lnTo>
                  <a:pt x="1167" y="1172"/>
                </a:lnTo>
                <a:lnTo>
                  <a:pt x="1167" y="1183"/>
                </a:lnTo>
                <a:lnTo>
                  <a:pt x="1161" y="1194"/>
                </a:lnTo>
                <a:lnTo>
                  <a:pt x="1156" y="1199"/>
                </a:lnTo>
                <a:lnTo>
                  <a:pt x="1145" y="1199"/>
                </a:lnTo>
                <a:lnTo>
                  <a:pt x="1134" y="1199"/>
                </a:lnTo>
                <a:lnTo>
                  <a:pt x="1128" y="1188"/>
                </a:lnTo>
                <a:close/>
                <a:moveTo>
                  <a:pt x="992" y="1079"/>
                </a:moveTo>
                <a:lnTo>
                  <a:pt x="992" y="1068"/>
                </a:lnTo>
                <a:lnTo>
                  <a:pt x="997" y="1058"/>
                </a:lnTo>
                <a:lnTo>
                  <a:pt x="997" y="1041"/>
                </a:lnTo>
                <a:lnTo>
                  <a:pt x="1003" y="1030"/>
                </a:lnTo>
                <a:lnTo>
                  <a:pt x="1003" y="1019"/>
                </a:lnTo>
                <a:lnTo>
                  <a:pt x="1008" y="1008"/>
                </a:lnTo>
                <a:lnTo>
                  <a:pt x="1008" y="998"/>
                </a:lnTo>
                <a:lnTo>
                  <a:pt x="1014" y="987"/>
                </a:lnTo>
                <a:lnTo>
                  <a:pt x="1014" y="976"/>
                </a:lnTo>
                <a:lnTo>
                  <a:pt x="1019" y="965"/>
                </a:lnTo>
                <a:lnTo>
                  <a:pt x="1025" y="959"/>
                </a:lnTo>
                <a:lnTo>
                  <a:pt x="1036" y="954"/>
                </a:lnTo>
                <a:lnTo>
                  <a:pt x="1041" y="949"/>
                </a:lnTo>
                <a:lnTo>
                  <a:pt x="1047" y="938"/>
                </a:lnTo>
                <a:lnTo>
                  <a:pt x="1047" y="927"/>
                </a:lnTo>
                <a:lnTo>
                  <a:pt x="1047" y="916"/>
                </a:lnTo>
                <a:lnTo>
                  <a:pt x="1047" y="905"/>
                </a:lnTo>
                <a:lnTo>
                  <a:pt x="1041" y="894"/>
                </a:lnTo>
                <a:lnTo>
                  <a:pt x="1041" y="883"/>
                </a:lnTo>
                <a:lnTo>
                  <a:pt x="1041" y="867"/>
                </a:lnTo>
                <a:lnTo>
                  <a:pt x="1036" y="856"/>
                </a:lnTo>
                <a:lnTo>
                  <a:pt x="1036" y="845"/>
                </a:lnTo>
                <a:lnTo>
                  <a:pt x="1041" y="834"/>
                </a:lnTo>
                <a:lnTo>
                  <a:pt x="1047" y="823"/>
                </a:lnTo>
                <a:lnTo>
                  <a:pt x="1052" y="818"/>
                </a:lnTo>
                <a:lnTo>
                  <a:pt x="1057" y="807"/>
                </a:lnTo>
                <a:lnTo>
                  <a:pt x="1063" y="801"/>
                </a:lnTo>
                <a:lnTo>
                  <a:pt x="1068" y="790"/>
                </a:lnTo>
                <a:lnTo>
                  <a:pt x="1079" y="785"/>
                </a:lnTo>
                <a:lnTo>
                  <a:pt x="1085" y="780"/>
                </a:lnTo>
                <a:lnTo>
                  <a:pt x="1090" y="774"/>
                </a:lnTo>
                <a:lnTo>
                  <a:pt x="1101" y="769"/>
                </a:lnTo>
                <a:lnTo>
                  <a:pt x="1107" y="763"/>
                </a:lnTo>
                <a:lnTo>
                  <a:pt x="1117" y="758"/>
                </a:lnTo>
                <a:lnTo>
                  <a:pt x="1123" y="758"/>
                </a:lnTo>
                <a:lnTo>
                  <a:pt x="1128" y="752"/>
                </a:lnTo>
                <a:lnTo>
                  <a:pt x="1139" y="747"/>
                </a:lnTo>
                <a:lnTo>
                  <a:pt x="1145" y="741"/>
                </a:lnTo>
                <a:lnTo>
                  <a:pt x="1156" y="741"/>
                </a:lnTo>
                <a:lnTo>
                  <a:pt x="1161" y="736"/>
                </a:lnTo>
                <a:lnTo>
                  <a:pt x="1172" y="730"/>
                </a:lnTo>
                <a:lnTo>
                  <a:pt x="1177" y="730"/>
                </a:lnTo>
                <a:lnTo>
                  <a:pt x="1188" y="725"/>
                </a:lnTo>
                <a:lnTo>
                  <a:pt x="1194" y="720"/>
                </a:lnTo>
                <a:lnTo>
                  <a:pt x="1205" y="714"/>
                </a:lnTo>
                <a:lnTo>
                  <a:pt x="1210" y="709"/>
                </a:lnTo>
                <a:lnTo>
                  <a:pt x="1221" y="709"/>
                </a:lnTo>
                <a:lnTo>
                  <a:pt x="1226" y="709"/>
                </a:lnTo>
                <a:lnTo>
                  <a:pt x="1232" y="714"/>
                </a:lnTo>
                <a:lnTo>
                  <a:pt x="1243" y="720"/>
                </a:lnTo>
                <a:lnTo>
                  <a:pt x="1248" y="730"/>
                </a:lnTo>
                <a:lnTo>
                  <a:pt x="1254" y="736"/>
                </a:lnTo>
                <a:lnTo>
                  <a:pt x="1259" y="741"/>
                </a:lnTo>
                <a:lnTo>
                  <a:pt x="1270" y="741"/>
                </a:lnTo>
                <a:lnTo>
                  <a:pt x="1281" y="741"/>
                </a:lnTo>
                <a:lnTo>
                  <a:pt x="1286" y="741"/>
                </a:lnTo>
                <a:lnTo>
                  <a:pt x="1297" y="741"/>
                </a:lnTo>
                <a:lnTo>
                  <a:pt x="1303" y="736"/>
                </a:lnTo>
                <a:lnTo>
                  <a:pt x="1314" y="736"/>
                </a:lnTo>
                <a:lnTo>
                  <a:pt x="1319" y="736"/>
                </a:lnTo>
                <a:lnTo>
                  <a:pt x="1330" y="736"/>
                </a:lnTo>
                <a:lnTo>
                  <a:pt x="1336" y="730"/>
                </a:lnTo>
                <a:lnTo>
                  <a:pt x="1346" y="730"/>
                </a:lnTo>
                <a:lnTo>
                  <a:pt x="1352" y="730"/>
                </a:lnTo>
                <a:lnTo>
                  <a:pt x="1363" y="725"/>
                </a:lnTo>
                <a:lnTo>
                  <a:pt x="1374" y="725"/>
                </a:lnTo>
                <a:lnTo>
                  <a:pt x="1379" y="725"/>
                </a:lnTo>
                <a:lnTo>
                  <a:pt x="1390" y="720"/>
                </a:lnTo>
                <a:lnTo>
                  <a:pt x="1396" y="720"/>
                </a:lnTo>
                <a:lnTo>
                  <a:pt x="1406" y="720"/>
                </a:lnTo>
                <a:lnTo>
                  <a:pt x="1412" y="720"/>
                </a:lnTo>
                <a:lnTo>
                  <a:pt x="1423" y="725"/>
                </a:lnTo>
                <a:lnTo>
                  <a:pt x="1434" y="730"/>
                </a:lnTo>
                <a:lnTo>
                  <a:pt x="1439" y="736"/>
                </a:lnTo>
                <a:lnTo>
                  <a:pt x="1439" y="747"/>
                </a:lnTo>
                <a:lnTo>
                  <a:pt x="1439" y="758"/>
                </a:lnTo>
                <a:lnTo>
                  <a:pt x="1434" y="769"/>
                </a:lnTo>
                <a:lnTo>
                  <a:pt x="1428" y="785"/>
                </a:lnTo>
                <a:lnTo>
                  <a:pt x="1428" y="796"/>
                </a:lnTo>
                <a:lnTo>
                  <a:pt x="1428" y="807"/>
                </a:lnTo>
                <a:lnTo>
                  <a:pt x="1423" y="818"/>
                </a:lnTo>
                <a:lnTo>
                  <a:pt x="1423" y="829"/>
                </a:lnTo>
                <a:lnTo>
                  <a:pt x="1417" y="839"/>
                </a:lnTo>
                <a:lnTo>
                  <a:pt x="1417" y="850"/>
                </a:lnTo>
                <a:lnTo>
                  <a:pt x="1417" y="861"/>
                </a:lnTo>
                <a:lnTo>
                  <a:pt x="1412" y="872"/>
                </a:lnTo>
                <a:lnTo>
                  <a:pt x="1412" y="883"/>
                </a:lnTo>
                <a:lnTo>
                  <a:pt x="1406" y="899"/>
                </a:lnTo>
                <a:lnTo>
                  <a:pt x="1406" y="910"/>
                </a:lnTo>
                <a:lnTo>
                  <a:pt x="1401" y="921"/>
                </a:lnTo>
                <a:lnTo>
                  <a:pt x="1401" y="932"/>
                </a:lnTo>
                <a:lnTo>
                  <a:pt x="1401" y="943"/>
                </a:lnTo>
                <a:lnTo>
                  <a:pt x="1401" y="954"/>
                </a:lnTo>
                <a:lnTo>
                  <a:pt x="1396" y="965"/>
                </a:lnTo>
                <a:lnTo>
                  <a:pt x="1390" y="976"/>
                </a:lnTo>
                <a:lnTo>
                  <a:pt x="1385" y="981"/>
                </a:lnTo>
                <a:lnTo>
                  <a:pt x="1374" y="987"/>
                </a:lnTo>
                <a:lnTo>
                  <a:pt x="1363" y="987"/>
                </a:lnTo>
                <a:lnTo>
                  <a:pt x="1357" y="992"/>
                </a:lnTo>
                <a:lnTo>
                  <a:pt x="1346" y="992"/>
                </a:lnTo>
                <a:lnTo>
                  <a:pt x="1341" y="992"/>
                </a:lnTo>
                <a:lnTo>
                  <a:pt x="1330" y="987"/>
                </a:lnTo>
                <a:lnTo>
                  <a:pt x="1325" y="987"/>
                </a:lnTo>
                <a:lnTo>
                  <a:pt x="1314" y="987"/>
                </a:lnTo>
                <a:lnTo>
                  <a:pt x="1308" y="987"/>
                </a:lnTo>
                <a:lnTo>
                  <a:pt x="1297" y="987"/>
                </a:lnTo>
                <a:lnTo>
                  <a:pt x="1292" y="987"/>
                </a:lnTo>
                <a:lnTo>
                  <a:pt x="1281" y="987"/>
                </a:lnTo>
                <a:lnTo>
                  <a:pt x="1270" y="987"/>
                </a:lnTo>
                <a:lnTo>
                  <a:pt x="1265" y="987"/>
                </a:lnTo>
                <a:lnTo>
                  <a:pt x="1254" y="987"/>
                </a:lnTo>
                <a:lnTo>
                  <a:pt x="1248" y="987"/>
                </a:lnTo>
                <a:lnTo>
                  <a:pt x="1237" y="981"/>
                </a:lnTo>
                <a:lnTo>
                  <a:pt x="1232" y="981"/>
                </a:lnTo>
                <a:lnTo>
                  <a:pt x="1221" y="976"/>
                </a:lnTo>
                <a:lnTo>
                  <a:pt x="1216" y="970"/>
                </a:lnTo>
                <a:lnTo>
                  <a:pt x="1205" y="965"/>
                </a:lnTo>
                <a:lnTo>
                  <a:pt x="1199" y="965"/>
                </a:lnTo>
                <a:lnTo>
                  <a:pt x="1188" y="959"/>
                </a:lnTo>
                <a:lnTo>
                  <a:pt x="1183" y="959"/>
                </a:lnTo>
                <a:lnTo>
                  <a:pt x="1172" y="959"/>
                </a:lnTo>
                <a:lnTo>
                  <a:pt x="1167" y="965"/>
                </a:lnTo>
                <a:lnTo>
                  <a:pt x="1156" y="965"/>
                </a:lnTo>
                <a:lnTo>
                  <a:pt x="1150" y="965"/>
                </a:lnTo>
                <a:lnTo>
                  <a:pt x="1139" y="970"/>
                </a:lnTo>
                <a:lnTo>
                  <a:pt x="1134" y="976"/>
                </a:lnTo>
                <a:lnTo>
                  <a:pt x="1123" y="976"/>
                </a:lnTo>
                <a:lnTo>
                  <a:pt x="1117" y="981"/>
                </a:lnTo>
                <a:lnTo>
                  <a:pt x="1112" y="987"/>
                </a:lnTo>
                <a:lnTo>
                  <a:pt x="1101" y="992"/>
                </a:lnTo>
                <a:lnTo>
                  <a:pt x="1096" y="998"/>
                </a:lnTo>
                <a:lnTo>
                  <a:pt x="1085" y="1003"/>
                </a:lnTo>
                <a:lnTo>
                  <a:pt x="1079" y="1014"/>
                </a:lnTo>
                <a:lnTo>
                  <a:pt x="1074" y="1019"/>
                </a:lnTo>
                <a:lnTo>
                  <a:pt x="1068" y="1025"/>
                </a:lnTo>
                <a:lnTo>
                  <a:pt x="1057" y="1030"/>
                </a:lnTo>
                <a:lnTo>
                  <a:pt x="1052" y="1036"/>
                </a:lnTo>
                <a:lnTo>
                  <a:pt x="1047" y="1041"/>
                </a:lnTo>
                <a:lnTo>
                  <a:pt x="1036" y="1052"/>
                </a:lnTo>
                <a:lnTo>
                  <a:pt x="1030" y="1058"/>
                </a:lnTo>
                <a:lnTo>
                  <a:pt x="1025" y="1063"/>
                </a:lnTo>
                <a:lnTo>
                  <a:pt x="1014" y="1068"/>
                </a:lnTo>
                <a:lnTo>
                  <a:pt x="1008" y="1074"/>
                </a:lnTo>
                <a:lnTo>
                  <a:pt x="1003" y="1085"/>
                </a:lnTo>
                <a:lnTo>
                  <a:pt x="997" y="1090"/>
                </a:lnTo>
                <a:lnTo>
                  <a:pt x="992" y="1079"/>
                </a:lnTo>
                <a:close/>
                <a:moveTo>
                  <a:pt x="1554" y="780"/>
                </a:moveTo>
                <a:lnTo>
                  <a:pt x="1548" y="769"/>
                </a:lnTo>
                <a:lnTo>
                  <a:pt x="1548" y="758"/>
                </a:lnTo>
                <a:lnTo>
                  <a:pt x="1543" y="747"/>
                </a:lnTo>
                <a:lnTo>
                  <a:pt x="1543" y="736"/>
                </a:lnTo>
                <a:lnTo>
                  <a:pt x="1543" y="725"/>
                </a:lnTo>
                <a:lnTo>
                  <a:pt x="1537" y="714"/>
                </a:lnTo>
                <a:lnTo>
                  <a:pt x="1537" y="698"/>
                </a:lnTo>
                <a:lnTo>
                  <a:pt x="1537" y="687"/>
                </a:lnTo>
                <a:lnTo>
                  <a:pt x="1537" y="676"/>
                </a:lnTo>
                <a:lnTo>
                  <a:pt x="1537" y="665"/>
                </a:lnTo>
                <a:lnTo>
                  <a:pt x="1543" y="660"/>
                </a:lnTo>
                <a:lnTo>
                  <a:pt x="1554" y="660"/>
                </a:lnTo>
                <a:lnTo>
                  <a:pt x="1565" y="654"/>
                </a:lnTo>
                <a:lnTo>
                  <a:pt x="1570" y="660"/>
                </a:lnTo>
                <a:lnTo>
                  <a:pt x="1581" y="660"/>
                </a:lnTo>
                <a:lnTo>
                  <a:pt x="1586" y="660"/>
                </a:lnTo>
                <a:lnTo>
                  <a:pt x="1597" y="665"/>
                </a:lnTo>
                <a:lnTo>
                  <a:pt x="1603" y="665"/>
                </a:lnTo>
                <a:lnTo>
                  <a:pt x="1608" y="671"/>
                </a:lnTo>
                <a:lnTo>
                  <a:pt x="1619" y="681"/>
                </a:lnTo>
                <a:lnTo>
                  <a:pt x="1625" y="687"/>
                </a:lnTo>
                <a:lnTo>
                  <a:pt x="1630" y="692"/>
                </a:lnTo>
                <a:lnTo>
                  <a:pt x="1641" y="698"/>
                </a:lnTo>
                <a:lnTo>
                  <a:pt x="1646" y="698"/>
                </a:lnTo>
                <a:lnTo>
                  <a:pt x="1657" y="698"/>
                </a:lnTo>
                <a:lnTo>
                  <a:pt x="1663" y="698"/>
                </a:lnTo>
                <a:lnTo>
                  <a:pt x="1674" y="698"/>
                </a:lnTo>
                <a:lnTo>
                  <a:pt x="1684" y="698"/>
                </a:lnTo>
                <a:lnTo>
                  <a:pt x="1695" y="698"/>
                </a:lnTo>
                <a:lnTo>
                  <a:pt x="1701" y="703"/>
                </a:lnTo>
                <a:lnTo>
                  <a:pt x="1701" y="714"/>
                </a:lnTo>
                <a:lnTo>
                  <a:pt x="1706" y="725"/>
                </a:lnTo>
                <a:lnTo>
                  <a:pt x="1712" y="736"/>
                </a:lnTo>
                <a:lnTo>
                  <a:pt x="1723" y="741"/>
                </a:lnTo>
                <a:lnTo>
                  <a:pt x="1723" y="741"/>
                </a:lnTo>
                <a:lnTo>
                  <a:pt x="1723" y="747"/>
                </a:lnTo>
                <a:lnTo>
                  <a:pt x="1712" y="747"/>
                </a:lnTo>
                <a:lnTo>
                  <a:pt x="1701" y="747"/>
                </a:lnTo>
                <a:lnTo>
                  <a:pt x="1690" y="752"/>
                </a:lnTo>
                <a:lnTo>
                  <a:pt x="1679" y="752"/>
                </a:lnTo>
                <a:lnTo>
                  <a:pt x="1674" y="758"/>
                </a:lnTo>
                <a:lnTo>
                  <a:pt x="1668" y="758"/>
                </a:lnTo>
                <a:lnTo>
                  <a:pt x="1657" y="758"/>
                </a:lnTo>
                <a:lnTo>
                  <a:pt x="1652" y="763"/>
                </a:lnTo>
                <a:lnTo>
                  <a:pt x="1641" y="763"/>
                </a:lnTo>
                <a:lnTo>
                  <a:pt x="1635" y="769"/>
                </a:lnTo>
                <a:lnTo>
                  <a:pt x="1625" y="769"/>
                </a:lnTo>
                <a:lnTo>
                  <a:pt x="1619" y="769"/>
                </a:lnTo>
                <a:lnTo>
                  <a:pt x="1608" y="774"/>
                </a:lnTo>
                <a:lnTo>
                  <a:pt x="1603" y="774"/>
                </a:lnTo>
                <a:lnTo>
                  <a:pt x="1592" y="780"/>
                </a:lnTo>
                <a:lnTo>
                  <a:pt x="1586" y="780"/>
                </a:lnTo>
                <a:lnTo>
                  <a:pt x="1575" y="785"/>
                </a:lnTo>
                <a:lnTo>
                  <a:pt x="1565" y="785"/>
                </a:lnTo>
                <a:lnTo>
                  <a:pt x="1559" y="790"/>
                </a:lnTo>
                <a:lnTo>
                  <a:pt x="1554" y="780"/>
                </a:lnTo>
                <a:close/>
                <a:moveTo>
                  <a:pt x="1799" y="780"/>
                </a:moveTo>
                <a:lnTo>
                  <a:pt x="1794" y="774"/>
                </a:lnTo>
                <a:lnTo>
                  <a:pt x="1788" y="769"/>
                </a:lnTo>
                <a:lnTo>
                  <a:pt x="1777" y="763"/>
                </a:lnTo>
                <a:lnTo>
                  <a:pt x="1772" y="758"/>
                </a:lnTo>
                <a:lnTo>
                  <a:pt x="1761" y="752"/>
                </a:lnTo>
                <a:lnTo>
                  <a:pt x="1750" y="752"/>
                </a:lnTo>
                <a:lnTo>
                  <a:pt x="1744" y="747"/>
                </a:lnTo>
                <a:lnTo>
                  <a:pt x="1744" y="741"/>
                </a:lnTo>
                <a:lnTo>
                  <a:pt x="1744" y="736"/>
                </a:lnTo>
                <a:lnTo>
                  <a:pt x="1750" y="725"/>
                </a:lnTo>
                <a:lnTo>
                  <a:pt x="1755" y="714"/>
                </a:lnTo>
                <a:lnTo>
                  <a:pt x="1766" y="703"/>
                </a:lnTo>
                <a:lnTo>
                  <a:pt x="1772" y="692"/>
                </a:lnTo>
                <a:lnTo>
                  <a:pt x="1777" y="681"/>
                </a:lnTo>
                <a:lnTo>
                  <a:pt x="1777" y="676"/>
                </a:lnTo>
                <a:lnTo>
                  <a:pt x="1783" y="687"/>
                </a:lnTo>
                <a:lnTo>
                  <a:pt x="1788" y="698"/>
                </a:lnTo>
                <a:lnTo>
                  <a:pt x="1788" y="709"/>
                </a:lnTo>
                <a:lnTo>
                  <a:pt x="1794" y="725"/>
                </a:lnTo>
                <a:lnTo>
                  <a:pt x="1794" y="730"/>
                </a:lnTo>
                <a:lnTo>
                  <a:pt x="1799" y="741"/>
                </a:lnTo>
                <a:lnTo>
                  <a:pt x="1804" y="752"/>
                </a:lnTo>
                <a:lnTo>
                  <a:pt x="1810" y="758"/>
                </a:lnTo>
                <a:lnTo>
                  <a:pt x="1815" y="763"/>
                </a:lnTo>
                <a:lnTo>
                  <a:pt x="1826" y="769"/>
                </a:lnTo>
                <a:lnTo>
                  <a:pt x="1832" y="769"/>
                </a:lnTo>
                <a:lnTo>
                  <a:pt x="1837" y="774"/>
                </a:lnTo>
                <a:lnTo>
                  <a:pt x="1848" y="774"/>
                </a:lnTo>
                <a:lnTo>
                  <a:pt x="1859" y="780"/>
                </a:lnTo>
                <a:lnTo>
                  <a:pt x="1859" y="785"/>
                </a:lnTo>
                <a:lnTo>
                  <a:pt x="1848" y="790"/>
                </a:lnTo>
                <a:lnTo>
                  <a:pt x="1837" y="796"/>
                </a:lnTo>
                <a:lnTo>
                  <a:pt x="1832" y="796"/>
                </a:lnTo>
                <a:lnTo>
                  <a:pt x="1826" y="801"/>
                </a:lnTo>
                <a:lnTo>
                  <a:pt x="1815" y="801"/>
                </a:lnTo>
                <a:lnTo>
                  <a:pt x="1810" y="796"/>
                </a:lnTo>
                <a:lnTo>
                  <a:pt x="1804" y="790"/>
                </a:lnTo>
                <a:lnTo>
                  <a:pt x="1799" y="780"/>
                </a:lnTo>
                <a:close/>
                <a:moveTo>
                  <a:pt x="1265" y="671"/>
                </a:moveTo>
                <a:lnTo>
                  <a:pt x="1259" y="660"/>
                </a:lnTo>
                <a:lnTo>
                  <a:pt x="1254" y="649"/>
                </a:lnTo>
                <a:lnTo>
                  <a:pt x="1243" y="638"/>
                </a:lnTo>
                <a:lnTo>
                  <a:pt x="1237" y="632"/>
                </a:lnTo>
                <a:lnTo>
                  <a:pt x="1237" y="621"/>
                </a:lnTo>
                <a:lnTo>
                  <a:pt x="1232" y="605"/>
                </a:lnTo>
                <a:lnTo>
                  <a:pt x="1232" y="594"/>
                </a:lnTo>
                <a:lnTo>
                  <a:pt x="1226" y="583"/>
                </a:lnTo>
                <a:lnTo>
                  <a:pt x="1221" y="572"/>
                </a:lnTo>
                <a:lnTo>
                  <a:pt x="1216" y="562"/>
                </a:lnTo>
                <a:lnTo>
                  <a:pt x="1210" y="551"/>
                </a:lnTo>
                <a:lnTo>
                  <a:pt x="1205" y="540"/>
                </a:lnTo>
                <a:lnTo>
                  <a:pt x="1199" y="529"/>
                </a:lnTo>
                <a:lnTo>
                  <a:pt x="1205" y="518"/>
                </a:lnTo>
                <a:lnTo>
                  <a:pt x="1210" y="507"/>
                </a:lnTo>
                <a:lnTo>
                  <a:pt x="1221" y="502"/>
                </a:lnTo>
                <a:lnTo>
                  <a:pt x="1232" y="502"/>
                </a:lnTo>
                <a:lnTo>
                  <a:pt x="1243" y="502"/>
                </a:lnTo>
                <a:lnTo>
                  <a:pt x="1248" y="502"/>
                </a:lnTo>
                <a:lnTo>
                  <a:pt x="1259" y="507"/>
                </a:lnTo>
                <a:lnTo>
                  <a:pt x="1265" y="512"/>
                </a:lnTo>
                <a:lnTo>
                  <a:pt x="1276" y="523"/>
                </a:lnTo>
                <a:lnTo>
                  <a:pt x="1281" y="523"/>
                </a:lnTo>
                <a:lnTo>
                  <a:pt x="1292" y="529"/>
                </a:lnTo>
                <a:lnTo>
                  <a:pt x="1303" y="529"/>
                </a:lnTo>
                <a:lnTo>
                  <a:pt x="1308" y="529"/>
                </a:lnTo>
                <a:lnTo>
                  <a:pt x="1319" y="529"/>
                </a:lnTo>
                <a:lnTo>
                  <a:pt x="1330" y="529"/>
                </a:lnTo>
                <a:lnTo>
                  <a:pt x="1336" y="534"/>
                </a:lnTo>
                <a:lnTo>
                  <a:pt x="1346" y="540"/>
                </a:lnTo>
                <a:lnTo>
                  <a:pt x="1352" y="551"/>
                </a:lnTo>
                <a:lnTo>
                  <a:pt x="1357" y="556"/>
                </a:lnTo>
                <a:lnTo>
                  <a:pt x="1368" y="562"/>
                </a:lnTo>
                <a:lnTo>
                  <a:pt x="1379" y="562"/>
                </a:lnTo>
                <a:lnTo>
                  <a:pt x="1385" y="562"/>
                </a:lnTo>
                <a:lnTo>
                  <a:pt x="1396" y="562"/>
                </a:lnTo>
                <a:lnTo>
                  <a:pt x="1406" y="562"/>
                </a:lnTo>
                <a:lnTo>
                  <a:pt x="1412" y="567"/>
                </a:lnTo>
                <a:lnTo>
                  <a:pt x="1423" y="572"/>
                </a:lnTo>
                <a:lnTo>
                  <a:pt x="1428" y="583"/>
                </a:lnTo>
                <a:lnTo>
                  <a:pt x="1434" y="589"/>
                </a:lnTo>
                <a:lnTo>
                  <a:pt x="1445" y="600"/>
                </a:lnTo>
                <a:lnTo>
                  <a:pt x="1450" y="600"/>
                </a:lnTo>
                <a:lnTo>
                  <a:pt x="1461" y="605"/>
                </a:lnTo>
                <a:lnTo>
                  <a:pt x="1472" y="605"/>
                </a:lnTo>
                <a:lnTo>
                  <a:pt x="1477" y="605"/>
                </a:lnTo>
                <a:lnTo>
                  <a:pt x="1488" y="611"/>
                </a:lnTo>
                <a:lnTo>
                  <a:pt x="1499" y="616"/>
                </a:lnTo>
                <a:lnTo>
                  <a:pt x="1510" y="621"/>
                </a:lnTo>
                <a:lnTo>
                  <a:pt x="1510" y="632"/>
                </a:lnTo>
                <a:lnTo>
                  <a:pt x="1510" y="638"/>
                </a:lnTo>
                <a:lnTo>
                  <a:pt x="1505" y="649"/>
                </a:lnTo>
                <a:lnTo>
                  <a:pt x="1494" y="654"/>
                </a:lnTo>
                <a:lnTo>
                  <a:pt x="1488" y="665"/>
                </a:lnTo>
                <a:lnTo>
                  <a:pt x="1477" y="665"/>
                </a:lnTo>
                <a:lnTo>
                  <a:pt x="1466" y="671"/>
                </a:lnTo>
                <a:lnTo>
                  <a:pt x="1455" y="671"/>
                </a:lnTo>
                <a:lnTo>
                  <a:pt x="1450" y="665"/>
                </a:lnTo>
                <a:lnTo>
                  <a:pt x="1439" y="665"/>
                </a:lnTo>
                <a:lnTo>
                  <a:pt x="1428" y="671"/>
                </a:lnTo>
                <a:lnTo>
                  <a:pt x="1423" y="676"/>
                </a:lnTo>
                <a:lnTo>
                  <a:pt x="1417" y="687"/>
                </a:lnTo>
                <a:lnTo>
                  <a:pt x="1412" y="698"/>
                </a:lnTo>
                <a:lnTo>
                  <a:pt x="1406" y="703"/>
                </a:lnTo>
                <a:lnTo>
                  <a:pt x="1396" y="709"/>
                </a:lnTo>
                <a:lnTo>
                  <a:pt x="1385" y="703"/>
                </a:lnTo>
                <a:lnTo>
                  <a:pt x="1374" y="703"/>
                </a:lnTo>
                <a:lnTo>
                  <a:pt x="1368" y="703"/>
                </a:lnTo>
                <a:lnTo>
                  <a:pt x="1357" y="703"/>
                </a:lnTo>
                <a:lnTo>
                  <a:pt x="1346" y="703"/>
                </a:lnTo>
                <a:lnTo>
                  <a:pt x="1341" y="703"/>
                </a:lnTo>
                <a:lnTo>
                  <a:pt x="1330" y="703"/>
                </a:lnTo>
                <a:lnTo>
                  <a:pt x="1319" y="703"/>
                </a:lnTo>
                <a:lnTo>
                  <a:pt x="1308" y="703"/>
                </a:lnTo>
                <a:lnTo>
                  <a:pt x="1303" y="703"/>
                </a:lnTo>
                <a:lnTo>
                  <a:pt x="1292" y="698"/>
                </a:lnTo>
                <a:lnTo>
                  <a:pt x="1286" y="692"/>
                </a:lnTo>
                <a:lnTo>
                  <a:pt x="1276" y="687"/>
                </a:lnTo>
                <a:lnTo>
                  <a:pt x="1270" y="676"/>
                </a:lnTo>
                <a:lnTo>
                  <a:pt x="1265" y="671"/>
                </a:lnTo>
                <a:close/>
                <a:moveTo>
                  <a:pt x="1870" y="594"/>
                </a:moveTo>
                <a:lnTo>
                  <a:pt x="1875" y="589"/>
                </a:lnTo>
                <a:lnTo>
                  <a:pt x="1881" y="583"/>
                </a:lnTo>
                <a:lnTo>
                  <a:pt x="1886" y="578"/>
                </a:lnTo>
                <a:lnTo>
                  <a:pt x="1897" y="572"/>
                </a:lnTo>
                <a:lnTo>
                  <a:pt x="1903" y="567"/>
                </a:lnTo>
                <a:lnTo>
                  <a:pt x="1908" y="562"/>
                </a:lnTo>
                <a:lnTo>
                  <a:pt x="1913" y="556"/>
                </a:lnTo>
                <a:lnTo>
                  <a:pt x="1919" y="551"/>
                </a:lnTo>
                <a:lnTo>
                  <a:pt x="1930" y="551"/>
                </a:lnTo>
                <a:lnTo>
                  <a:pt x="1935" y="551"/>
                </a:lnTo>
                <a:lnTo>
                  <a:pt x="1946" y="551"/>
                </a:lnTo>
                <a:lnTo>
                  <a:pt x="1952" y="556"/>
                </a:lnTo>
                <a:lnTo>
                  <a:pt x="1952" y="562"/>
                </a:lnTo>
                <a:lnTo>
                  <a:pt x="1946" y="572"/>
                </a:lnTo>
                <a:lnTo>
                  <a:pt x="1941" y="583"/>
                </a:lnTo>
                <a:lnTo>
                  <a:pt x="1930" y="589"/>
                </a:lnTo>
                <a:lnTo>
                  <a:pt x="1924" y="600"/>
                </a:lnTo>
                <a:lnTo>
                  <a:pt x="1919" y="605"/>
                </a:lnTo>
                <a:lnTo>
                  <a:pt x="1913" y="611"/>
                </a:lnTo>
                <a:lnTo>
                  <a:pt x="1908" y="616"/>
                </a:lnTo>
                <a:lnTo>
                  <a:pt x="1897" y="621"/>
                </a:lnTo>
                <a:lnTo>
                  <a:pt x="1892" y="621"/>
                </a:lnTo>
                <a:lnTo>
                  <a:pt x="1886" y="621"/>
                </a:lnTo>
                <a:lnTo>
                  <a:pt x="1881" y="611"/>
                </a:lnTo>
                <a:lnTo>
                  <a:pt x="1875" y="605"/>
                </a:lnTo>
                <a:lnTo>
                  <a:pt x="1870" y="594"/>
                </a:lnTo>
                <a:close/>
                <a:moveTo>
                  <a:pt x="2252" y="185"/>
                </a:moveTo>
                <a:lnTo>
                  <a:pt x="2252" y="175"/>
                </a:lnTo>
                <a:lnTo>
                  <a:pt x="2257" y="169"/>
                </a:lnTo>
                <a:lnTo>
                  <a:pt x="2262" y="164"/>
                </a:lnTo>
                <a:lnTo>
                  <a:pt x="2262" y="158"/>
                </a:lnTo>
                <a:lnTo>
                  <a:pt x="2268" y="147"/>
                </a:lnTo>
                <a:lnTo>
                  <a:pt x="2273" y="142"/>
                </a:lnTo>
                <a:lnTo>
                  <a:pt x="2279" y="136"/>
                </a:lnTo>
                <a:lnTo>
                  <a:pt x="2284" y="126"/>
                </a:lnTo>
                <a:lnTo>
                  <a:pt x="2290" y="120"/>
                </a:lnTo>
                <a:lnTo>
                  <a:pt x="2295" y="120"/>
                </a:lnTo>
                <a:lnTo>
                  <a:pt x="2301" y="120"/>
                </a:lnTo>
                <a:lnTo>
                  <a:pt x="2306" y="126"/>
                </a:lnTo>
                <a:lnTo>
                  <a:pt x="2311" y="136"/>
                </a:lnTo>
                <a:lnTo>
                  <a:pt x="2311" y="142"/>
                </a:lnTo>
                <a:lnTo>
                  <a:pt x="2311" y="153"/>
                </a:lnTo>
                <a:lnTo>
                  <a:pt x="2306" y="158"/>
                </a:lnTo>
                <a:lnTo>
                  <a:pt x="2301" y="164"/>
                </a:lnTo>
                <a:lnTo>
                  <a:pt x="2295" y="169"/>
                </a:lnTo>
                <a:lnTo>
                  <a:pt x="2290" y="175"/>
                </a:lnTo>
                <a:lnTo>
                  <a:pt x="2284" y="180"/>
                </a:lnTo>
                <a:lnTo>
                  <a:pt x="2279" y="180"/>
                </a:lnTo>
                <a:lnTo>
                  <a:pt x="2273" y="185"/>
                </a:lnTo>
                <a:lnTo>
                  <a:pt x="2268" y="191"/>
                </a:lnTo>
                <a:lnTo>
                  <a:pt x="2262" y="196"/>
                </a:lnTo>
                <a:lnTo>
                  <a:pt x="2257" y="191"/>
                </a:lnTo>
                <a:lnTo>
                  <a:pt x="2252" y="185"/>
                </a:lnTo>
                <a:close/>
                <a:moveTo>
                  <a:pt x="1074" y="3608"/>
                </a:moveTo>
                <a:lnTo>
                  <a:pt x="1112" y="3570"/>
                </a:lnTo>
                <a:lnTo>
                  <a:pt x="1150" y="3570"/>
                </a:lnTo>
                <a:lnTo>
                  <a:pt x="1188" y="3532"/>
                </a:lnTo>
                <a:lnTo>
                  <a:pt x="1221" y="3532"/>
                </a:lnTo>
                <a:lnTo>
                  <a:pt x="1259" y="3532"/>
                </a:lnTo>
                <a:lnTo>
                  <a:pt x="1297" y="3494"/>
                </a:lnTo>
                <a:lnTo>
                  <a:pt x="1336" y="3494"/>
                </a:lnTo>
                <a:lnTo>
                  <a:pt x="1374" y="3456"/>
                </a:lnTo>
                <a:lnTo>
                  <a:pt x="1406" y="3456"/>
                </a:lnTo>
                <a:lnTo>
                  <a:pt x="1445" y="3423"/>
                </a:lnTo>
                <a:lnTo>
                  <a:pt x="1483" y="3423"/>
                </a:lnTo>
                <a:lnTo>
                  <a:pt x="1521" y="3423"/>
                </a:lnTo>
                <a:lnTo>
                  <a:pt x="1521" y="3385"/>
                </a:lnTo>
                <a:lnTo>
                  <a:pt x="1554" y="3347"/>
                </a:lnTo>
                <a:lnTo>
                  <a:pt x="1554" y="3308"/>
                </a:lnTo>
                <a:lnTo>
                  <a:pt x="1592" y="3270"/>
                </a:lnTo>
                <a:lnTo>
                  <a:pt x="1592" y="3238"/>
                </a:lnTo>
                <a:lnTo>
                  <a:pt x="1630" y="3199"/>
                </a:lnTo>
                <a:lnTo>
                  <a:pt x="1630" y="3161"/>
                </a:lnTo>
                <a:lnTo>
                  <a:pt x="1668" y="3123"/>
                </a:lnTo>
                <a:lnTo>
                  <a:pt x="1668" y="3085"/>
                </a:lnTo>
                <a:lnTo>
                  <a:pt x="1706" y="3047"/>
                </a:lnTo>
                <a:lnTo>
                  <a:pt x="1706" y="3014"/>
                </a:lnTo>
                <a:lnTo>
                  <a:pt x="1739" y="2976"/>
                </a:lnTo>
                <a:lnTo>
                  <a:pt x="1739" y="2938"/>
                </a:lnTo>
                <a:lnTo>
                  <a:pt x="1777" y="2900"/>
                </a:lnTo>
                <a:lnTo>
                  <a:pt x="1777" y="2862"/>
                </a:lnTo>
                <a:lnTo>
                  <a:pt x="1815" y="2823"/>
                </a:lnTo>
                <a:lnTo>
                  <a:pt x="1815" y="2791"/>
                </a:lnTo>
                <a:lnTo>
                  <a:pt x="1854" y="2753"/>
                </a:lnTo>
                <a:lnTo>
                  <a:pt x="1854" y="2714"/>
                </a:lnTo>
                <a:lnTo>
                  <a:pt x="1892" y="2676"/>
                </a:lnTo>
                <a:lnTo>
                  <a:pt x="1892" y="2638"/>
                </a:lnTo>
                <a:lnTo>
                  <a:pt x="1924" y="2600"/>
                </a:lnTo>
                <a:lnTo>
                  <a:pt x="1924" y="2567"/>
                </a:lnTo>
                <a:lnTo>
                  <a:pt x="1963" y="2529"/>
                </a:lnTo>
                <a:lnTo>
                  <a:pt x="1963" y="2491"/>
                </a:lnTo>
                <a:lnTo>
                  <a:pt x="2001" y="2453"/>
                </a:lnTo>
                <a:lnTo>
                  <a:pt x="2001" y="2415"/>
                </a:lnTo>
                <a:lnTo>
                  <a:pt x="2039" y="2382"/>
                </a:lnTo>
                <a:lnTo>
                  <a:pt x="2039" y="2344"/>
                </a:lnTo>
                <a:lnTo>
                  <a:pt x="2077" y="2306"/>
                </a:lnTo>
                <a:lnTo>
                  <a:pt x="2077" y="2267"/>
                </a:lnTo>
                <a:lnTo>
                  <a:pt x="2110" y="2229"/>
                </a:lnTo>
                <a:lnTo>
                  <a:pt x="2110" y="2191"/>
                </a:lnTo>
                <a:lnTo>
                  <a:pt x="2148" y="2158"/>
                </a:lnTo>
                <a:lnTo>
                  <a:pt x="2148" y="2120"/>
                </a:lnTo>
                <a:lnTo>
                  <a:pt x="2186" y="2082"/>
                </a:lnTo>
                <a:lnTo>
                  <a:pt x="2186" y="2044"/>
                </a:lnTo>
                <a:lnTo>
                  <a:pt x="2224" y="2006"/>
                </a:lnTo>
                <a:lnTo>
                  <a:pt x="2224" y="1968"/>
                </a:lnTo>
                <a:lnTo>
                  <a:pt x="2224" y="1935"/>
                </a:lnTo>
                <a:lnTo>
                  <a:pt x="2262" y="1897"/>
                </a:lnTo>
                <a:lnTo>
                  <a:pt x="2262" y="1859"/>
                </a:lnTo>
                <a:lnTo>
                  <a:pt x="2262" y="1821"/>
                </a:lnTo>
                <a:lnTo>
                  <a:pt x="2295" y="1782"/>
                </a:lnTo>
                <a:lnTo>
                  <a:pt x="2295" y="1750"/>
                </a:lnTo>
                <a:lnTo>
                  <a:pt x="2295" y="1712"/>
                </a:lnTo>
                <a:lnTo>
                  <a:pt x="2333" y="1673"/>
                </a:lnTo>
                <a:lnTo>
                  <a:pt x="2333" y="1635"/>
                </a:lnTo>
                <a:lnTo>
                  <a:pt x="2333" y="1597"/>
                </a:lnTo>
                <a:lnTo>
                  <a:pt x="2333" y="1559"/>
                </a:lnTo>
                <a:lnTo>
                  <a:pt x="2333" y="1526"/>
                </a:lnTo>
                <a:lnTo>
                  <a:pt x="2371" y="1488"/>
                </a:lnTo>
                <a:lnTo>
                  <a:pt x="2371" y="1450"/>
                </a:lnTo>
                <a:lnTo>
                  <a:pt x="2371" y="1412"/>
                </a:lnTo>
                <a:lnTo>
                  <a:pt x="2371" y="1374"/>
                </a:lnTo>
                <a:lnTo>
                  <a:pt x="2371" y="1335"/>
                </a:lnTo>
                <a:lnTo>
                  <a:pt x="2371" y="1303"/>
                </a:lnTo>
                <a:lnTo>
                  <a:pt x="2371" y="1265"/>
                </a:lnTo>
                <a:lnTo>
                  <a:pt x="2410" y="1226"/>
                </a:lnTo>
                <a:lnTo>
                  <a:pt x="2410" y="1188"/>
                </a:lnTo>
                <a:lnTo>
                  <a:pt x="2410" y="1150"/>
                </a:lnTo>
                <a:lnTo>
                  <a:pt x="2410" y="1117"/>
                </a:lnTo>
                <a:lnTo>
                  <a:pt x="2410" y="1079"/>
                </a:lnTo>
                <a:lnTo>
                  <a:pt x="2410" y="1041"/>
                </a:lnTo>
                <a:lnTo>
                  <a:pt x="2410" y="1003"/>
                </a:lnTo>
                <a:lnTo>
                  <a:pt x="2448" y="965"/>
                </a:lnTo>
                <a:lnTo>
                  <a:pt x="2448" y="927"/>
                </a:lnTo>
                <a:lnTo>
                  <a:pt x="2448" y="894"/>
                </a:lnTo>
                <a:lnTo>
                  <a:pt x="2448" y="856"/>
                </a:lnTo>
                <a:lnTo>
                  <a:pt x="2448" y="818"/>
                </a:lnTo>
                <a:lnTo>
                  <a:pt x="2448" y="780"/>
                </a:lnTo>
                <a:lnTo>
                  <a:pt x="2448" y="741"/>
                </a:lnTo>
                <a:lnTo>
                  <a:pt x="2481" y="703"/>
                </a:lnTo>
                <a:lnTo>
                  <a:pt x="2481" y="671"/>
                </a:lnTo>
                <a:lnTo>
                  <a:pt x="2481" y="632"/>
                </a:lnTo>
                <a:lnTo>
                  <a:pt x="2481" y="594"/>
                </a:lnTo>
                <a:lnTo>
                  <a:pt x="2481" y="556"/>
                </a:lnTo>
                <a:lnTo>
                  <a:pt x="2481" y="518"/>
                </a:lnTo>
                <a:lnTo>
                  <a:pt x="2481" y="485"/>
                </a:lnTo>
                <a:lnTo>
                  <a:pt x="2519" y="447"/>
                </a:lnTo>
                <a:lnTo>
                  <a:pt x="2519" y="409"/>
                </a:lnTo>
                <a:lnTo>
                  <a:pt x="2519" y="371"/>
                </a:lnTo>
                <a:lnTo>
                  <a:pt x="2519" y="333"/>
                </a:lnTo>
                <a:lnTo>
                  <a:pt x="2519" y="294"/>
                </a:lnTo>
                <a:lnTo>
                  <a:pt x="2519" y="262"/>
                </a:lnTo>
                <a:lnTo>
                  <a:pt x="2519" y="224"/>
                </a:lnTo>
                <a:lnTo>
                  <a:pt x="2557" y="185"/>
                </a:lnTo>
                <a:lnTo>
                  <a:pt x="2557" y="147"/>
                </a:lnTo>
                <a:lnTo>
                  <a:pt x="2557" y="109"/>
                </a:lnTo>
                <a:lnTo>
                  <a:pt x="2557" y="71"/>
                </a:lnTo>
                <a:lnTo>
                  <a:pt x="2557" y="38"/>
                </a:lnTo>
                <a:lnTo>
                  <a:pt x="2557" y="0"/>
                </a:lnTo>
                <a:lnTo>
                  <a:pt x="2519" y="0"/>
                </a:lnTo>
                <a:lnTo>
                  <a:pt x="2481" y="0"/>
                </a:lnTo>
                <a:lnTo>
                  <a:pt x="2448" y="0"/>
                </a:lnTo>
                <a:lnTo>
                  <a:pt x="2410" y="0"/>
                </a:lnTo>
                <a:lnTo>
                  <a:pt x="2371" y="38"/>
                </a:lnTo>
                <a:lnTo>
                  <a:pt x="2333" y="38"/>
                </a:lnTo>
                <a:lnTo>
                  <a:pt x="2295" y="38"/>
                </a:lnTo>
                <a:lnTo>
                  <a:pt x="2262" y="71"/>
                </a:lnTo>
                <a:lnTo>
                  <a:pt x="2224" y="71"/>
                </a:lnTo>
                <a:lnTo>
                  <a:pt x="2186" y="71"/>
                </a:lnTo>
                <a:lnTo>
                  <a:pt x="2148" y="109"/>
                </a:lnTo>
                <a:lnTo>
                  <a:pt x="2110" y="109"/>
                </a:lnTo>
                <a:lnTo>
                  <a:pt x="2077" y="147"/>
                </a:lnTo>
                <a:lnTo>
                  <a:pt x="2039" y="147"/>
                </a:lnTo>
                <a:lnTo>
                  <a:pt x="2001" y="147"/>
                </a:lnTo>
                <a:lnTo>
                  <a:pt x="1963" y="185"/>
                </a:lnTo>
                <a:lnTo>
                  <a:pt x="1924" y="185"/>
                </a:lnTo>
                <a:lnTo>
                  <a:pt x="1892" y="185"/>
                </a:lnTo>
                <a:lnTo>
                  <a:pt x="1854" y="224"/>
                </a:lnTo>
                <a:lnTo>
                  <a:pt x="1815" y="224"/>
                </a:lnTo>
                <a:lnTo>
                  <a:pt x="1777" y="224"/>
                </a:lnTo>
                <a:lnTo>
                  <a:pt x="1739" y="262"/>
                </a:lnTo>
                <a:lnTo>
                  <a:pt x="1706" y="262"/>
                </a:lnTo>
                <a:lnTo>
                  <a:pt x="1668" y="262"/>
                </a:lnTo>
                <a:lnTo>
                  <a:pt x="1630" y="294"/>
                </a:lnTo>
                <a:lnTo>
                  <a:pt x="1592" y="294"/>
                </a:lnTo>
                <a:lnTo>
                  <a:pt x="1554" y="294"/>
                </a:lnTo>
                <a:lnTo>
                  <a:pt x="1521" y="333"/>
                </a:lnTo>
                <a:lnTo>
                  <a:pt x="1483" y="333"/>
                </a:lnTo>
                <a:lnTo>
                  <a:pt x="1445" y="333"/>
                </a:lnTo>
                <a:lnTo>
                  <a:pt x="1406" y="371"/>
                </a:lnTo>
                <a:lnTo>
                  <a:pt x="1374" y="371"/>
                </a:lnTo>
                <a:lnTo>
                  <a:pt x="1336" y="409"/>
                </a:lnTo>
                <a:lnTo>
                  <a:pt x="1297" y="409"/>
                </a:lnTo>
                <a:lnTo>
                  <a:pt x="1259" y="409"/>
                </a:lnTo>
                <a:lnTo>
                  <a:pt x="1221" y="447"/>
                </a:lnTo>
                <a:lnTo>
                  <a:pt x="1188" y="447"/>
                </a:lnTo>
                <a:lnTo>
                  <a:pt x="1150" y="447"/>
                </a:lnTo>
                <a:lnTo>
                  <a:pt x="1112" y="485"/>
                </a:lnTo>
                <a:lnTo>
                  <a:pt x="1074" y="485"/>
                </a:lnTo>
                <a:lnTo>
                  <a:pt x="1036" y="485"/>
                </a:lnTo>
                <a:lnTo>
                  <a:pt x="1003" y="518"/>
                </a:lnTo>
                <a:lnTo>
                  <a:pt x="965" y="518"/>
                </a:lnTo>
                <a:lnTo>
                  <a:pt x="927" y="518"/>
                </a:lnTo>
                <a:lnTo>
                  <a:pt x="888" y="556"/>
                </a:lnTo>
                <a:lnTo>
                  <a:pt x="850" y="556"/>
                </a:lnTo>
                <a:lnTo>
                  <a:pt x="818" y="556"/>
                </a:lnTo>
                <a:lnTo>
                  <a:pt x="779" y="594"/>
                </a:lnTo>
                <a:lnTo>
                  <a:pt x="741" y="594"/>
                </a:lnTo>
                <a:lnTo>
                  <a:pt x="703" y="594"/>
                </a:lnTo>
                <a:lnTo>
                  <a:pt x="665" y="632"/>
                </a:lnTo>
                <a:lnTo>
                  <a:pt x="632" y="632"/>
                </a:lnTo>
                <a:lnTo>
                  <a:pt x="594" y="632"/>
                </a:lnTo>
                <a:lnTo>
                  <a:pt x="556" y="671"/>
                </a:lnTo>
                <a:lnTo>
                  <a:pt x="518" y="671"/>
                </a:lnTo>
                <a:lnTo>
                  <a:pt x="480" y="703"/>
                </a:lnTo>
                <a:lnTo>
                  <a:pt x="447" y="703"/>
                </a:lnTo>
                <a:lnTo>
                  <a:pt x="409" y="703"/>
                </a:lnTo>
                <a:lnTo>
                  <a:pt x="370" y="741"/>
                </a:lnTo>
                <a:lnTo>
                  <a:pt x="332" y="741"/>
                </a:lnTo>
                <a:lnTo>
                  <a:pt x="300" y="741"/>
                </a:lnTo>
                <a:lnTo>
                  <a:pt x="261" y="780"/>
                </a:lnTo>
                <a:lnTo>
                  <a:pt x="251" y="780"/>
                </a:lnTo>
                <a:lnTo>
                  <a:pt x="256" y="790"/>
                </a:lnTo>
                <a:lnTo>
                  <a:pt x="256" y="796"/>
                </a:lnTo>
                <a:lnTo>
                  <a:pt x="261" y="807"/>
                </a:lnTo>
                <a:lnTo>
                  <a:pt x="267" y="818"/>
                </a:lnTo>
                <a:lnTo>
                  <a:pt x="261" y="823"/>
                </a:lnTo>
                <a:lnTo>
                  <a:pt x="256" y="834"/>
                </a:lnTo>
                <a:lnTo>
                  <a:pt x="256" y="845"/>
                </a:lnTo>
                <a:lnTo>
                  <a:pt x="251" y="850"/>
                </a:lnTo>
                <a:lnTo>
                  <a:pt x="245" y="861"/>
                </a:lnTo>
                <a:lnTo>
                  <a:pt x="240" y="867"/>
                </a:lnTo>
                <a:lnTo>
                  <a:pt x="234" y="872"/>
                </a:lnTo>
                <a:lnTo>
                  <a:pt x="229" y="883"/>
                </a:lnTo>
                <a:lnTo>
                  <a:pt x="223" y="889"/>
                </a:lnTo>
                <a:lnTo>
                  <a:pt x="218" y="899"/>
                </a:lnTo>
                <a:lnTo>
                  <a:pt x="218" y="905"/>
                </a:lnTo>
                <a:lnTo>
                  <a:pt x="212" y="916"/>
                </a:lnTo>
                <a:lnTo>
                  <a:pt x="207" y="927"/>
                </a:lnTo>
                <a:lnTo>
                  <a:pt x="201" y="932"/>
                </a:lnTo>
                <a:lnTo>
                  <a:pt x="196" y="943"/>
                </a:lnTo>
                <a:lnTo>
                  <a:pt x="191" y="949"/>
                </a:lnTo>
                <a:lnTo>
                  <a:pt x="191" y="959"/>
                </a:lnTo>
                <a:lnTo>
                  <a:pt x="185" y="970"/>
                </a:lnTo>
                <a:lnTo>
                  <a:pt x="185" y="981"/>
                </a:lnTo>
                <a:lnTo>
                  <a:pt x="185" y="992"/>
                </a:lnTo>
                <a:lnTo>
                  <a:pt x="180" y="998"/>
                </a:lnTo>
                <a:lnTo>
                  <a:pt x="180" y="1008"/>
                </a:lnTo>
                <a:lnTo>
                  <a:pt x="180" y="1019"/>
                </a:lnTo>
                <a:lnTo>
                  <a:pt x="180" y="1030"/>
                </a:lnTo>
                <a:lnTo>
                  <a:pt x="180" y="1041"/>
                </a:lnTo>
                <a:lnTo>
                  <a:pt x="180" y="1052"/>
                </a:lnTo>
                <a:lnTo>
                  <a:pt x="174" y="1063"/>
                </a:lnTo>
                <a:lnTo>
                  <a:pt x="174" y="1074"/>
                </a:lnTo>
                <a:lnTo>
                  <a:pt x="174" y="1085"/>
                </a:lnTo>
                <a:lnTo>
                  <a:pt x="174" y="1096"/>
                </a:lnTo>
                <a:lnTo>
                  <a:pt x="174" y="1107"/>
                </a:lnTo>
                <a:lnTo>
                  <a:pt x="169" y="1117"/>
                </a:lnTo>
                <a:lnTo>
                  <a:pt x="169" y="1123"/>
                </a:lnTo>
                <a:lnTo>
                  <a:pt x="169" y="1134"/>
                </a:lnTo>
                <a:lnTo>
                  <a:pt x="169" y="1145"/>
                </a:lnTo>
                <a:lnTo>
                  <a:pt x="163" y="1156"/>
                </a:lnTo>
                <a:lnTo>
                  <a:pt x="163" y="1167"/>
                </a:lnTo>
                <a:lnTo>
                  <a:pt x="163" y="1177"/>
                </a:lnTo>
                <a:lnTo>
                  <a:pt x="163" y="1188"/>
                </a:lnTo>
                <a:lnTo>
                  <a:pt x="158" y="1199"/>
                </a:lnTo>
                <a:lnTo>
                  <a:pt x="158" y="1210"/>
                </a:lnTo>
                <a:lnTo>
                  <a:pt x="158" y="1221"/>
                </a:lnTo>
                <a:lnTo>
                  <a:pt x="158" y="1232"/>
                </a:lnTo>
                <a:lnTo>
                  <a:pt x="152" y="1237"/>
                </a:lnTo>
                <a:lnTo>
                  <a:pt x="152" y="1248"/>
                </a:lnTo>
                <a:lnTo>
                  <a:pt x="152" y="1259"/>
                </a:lnTo>
                <a:lnTo>
                  <a:pt x="147" y="1270"/>
                </a:lnTo>
                <a:lnTo>
                  <a:pt x="147" y="1281"/>
                </a:lnTo>
                <a:lnTo>
                  <a:pt x="147" y="1292"/>
                </a:lnTo>
                <a:lnTo>
                  <a:pt x="147" y="1303"/>
                </a:lnTo>
                <a:lnTo>
                  <a:pt x="141" y="1314"/>
                </a:lnTo>
                <a:lnTo>
                  <a:pt x="141" y="1325"/>
                </a:lnTo>
                <a:lnTo>
                  <a:pt x="141" y="1335"/>
                </a:lnTo>
                <a:lnTo>
                  <a:pt x="141" y="1341"/>
                </a:lnTo>
                <a:lnTo>
                  <a:pt x="136" y="1352"/>
                </a:lnTo>
                <a:lnTo>
                  <a:pt x="136" y="1363"/>
                </a:lnTo>
                <a:lnTo>
                  <a:pt x="136" y="1374"/>
                </a:lnTo>
                <a:lnTo>
                  <a:pt x="131" y="1385"/>
                </a:lnTo>
                <a:lnTo>
                  <a:pt x="131" y="1395"/>
                </a:lnTo>
                <a:lnTo>
                  <a:pt x="131" y="1406"/>
                </a:lnTo>
                <a:lnTo>
                  <a:pt x="131" y="1417"/>
                </a:lnTo>
                <a:lnTo>
                  <a:pt x="125" y="1428"/>
                </a:lnTo>
                <a:lnTo>
                  <a:pt x="125" y="1439"/>
                </a:lnTo>
                <a:lnTo>
                  <a:pt x="125" y="1444"/>
                </a:lnTo>
                <a:lnTo>
                  <a:pt x="120" y="1455"/>
                </a:lnTo>
                <a:lnTo>
                  <a:pt x="120" y="1466"/>
                </a:lnTo>
                <a:lnTo>
                  <a:pt x="120" y="1477"/>
                </a:lnTo>
                <a:lnTo>
                  <a:pt x="120" y="1488"/>
                </a:lnTo>
                <a:lnTo>
                  <a:pt x="114" y="1499"/>
                </a:lnTo>
                <a:lnTo>
                  <a:pt x="114" y="1510"/>
                </a:lnTo>
                <a:lnTo>
                  <a:pt x="114" y="1521"/>
                </a:lnTo>
                <a:lnTo>
                  <a:pt x="114" y="1532"/>
                </a:lnTo>
                <a:lnTo>
                  <a:pt x="109" y="1543"/>
                </a:lnTo>
                <a:lnTo>
                  <a:pt x="109" y="1548"/>
                </a:lnTo>
                <a:lnTo>
                  <a:pt x="109" y="1559"/>
                </a:lnTo>
                <a:lnTo>
                  <a:pt x="103" y="1570"/>
                </a:lnTo>
                <a:lnTo>
                  <a:pt x="103" y="1581"/>
                </a:lnTo>
                <a:lnTo>
                  <a:pt x="103" y="1592"/>
                </a:lnTo>
                <a:lnTo>
                  <a:pt x="103" y="1603"/>
                </a:lnTo>
                <a:lnTo>
                  <a:pt x="98" y="1613"/>
                </a:lnTo>
                <a:lnTo>
                  <a:pt x="98" y="1624"/>
                </a:lnTo>
                <a:lnTo>
                  <a:pt x="98" y="1635"/>
                </a:lnTo>
                <a:lnTo>
                  <a:pt x="92" y="1646"/>
                </a:lnTo>
                <a:lnTo>
                  <a:pt x="92" y="1652"/>
                </a:lnTo>
                <a:lnTo>
                  <a:pt x="92" y="1662"/>
                </a:lnTo>
                <a:lnTo>
                  <a:pt x="92" y="1673"/>
                </a:lnTo>
                <a:lnTo>
                  <a:pt x="87" y="1684"/>
                </a:lnTo>
                <a:lnTo>
                  <a:pt x="87" y="1695"/>
                </a:lnTo>
                <a:lnTo>
                  <a:pt x="87" y="1706"/>
                </a:lnTo>
                <a:lnTo>
                  <a:pt x="87" y="1717"/>
                </a:lnTo>
                <a:lnTo>
                  <a:pt x="82" y="1728"/>
                </a:lnTo>
                <a:lnTo>
                  <a:pt x="82" y="1739"/>
                </a:lnTo>
                <a:lnTo>
                  <a:pt x="82" y="1750"/>
                </a:lnTo>
                <a:lnTo>
                  <a:pt x="76" y="1755"/>
                </a:lnTo>
                <a:lnTo>
                  <a:pt x="76" y="1766"/>
                </a:lnTo>
                <a:lnTo>
                  <a:pt x="76" y="1777"/>
                </a:lnTo>
                <a:lnTo>
                  <a:pt x="76" y="1788"/>
                </a:lnTo>
                <a:lnTo>
                  <a:pt x="71" y="1799"/>
                </a:lnTo>
                <a:lnTo>
                  <a:pt x="71" y="1810"/>
                </a:lnTo>
                <a:lnTo>
                  <a:pt x="71" y="1821"/>
                </a:lnTo>
                <a:lnTo>
                  <a:pt x="71" y="1831"/>
                </a:lnTo>
                <a:lnTo>
                  <a:pt x="65" y="1842"/>
                </a:lnTo>
                <a:lnTo>
                  <a:pt x="65" y="1853"/>
                </a:lnTo>
                <a:lnTo>
                  <a:pt x="65" y="1859"/>
                </a:lnTo>
                <a:lnTo>
                  <a:pt x="60" y="1870"/>
                </a:lnTo>
                <a:lnTo>
                  <a:pt x="60" y="1881"/>
                </a:lnTo>
                <a:lnTo>
                  <a:pt x="60" y="1891"/>
                </a:lnTo>
                <a:lnTo>
                  <a:pt x="60" y="1902"/>
                </a:lnTo>
                <a:lnTo>
                  <a:pt x="54" y="1913"/>
                </a:lnTo>
                <a:lnTo>
                  <a:pt x="54" y="1924"/>
                </a:lnTo>
                <a:lnTo>
                  <a:pt x="54" y="1935"/>
                </a:lnTo>
                <a:lnTo>
                  <a:pt x="49" y="1946"/>
                </a:lnTo>
                <a:lnTo>
                  <a:pt x="49" y="1957"/>
                </a:lnTo>
                <a:lnTo>
                  <a:pt x="49" y="1962"/>
                </a:lnTo>
                <a:lnTo>
                  <a:pt x="49" y="1973"/>
                </a:lnTo>
                <a:lnTo>
                  <a:pt x="43" y="1984"/>
                </a:lnTo>
                <a:lnTo>
                  <a:pt x="43" y="1995"/>
                </a:lnTo>
                <a:lnTo>
                  <a:pt x="43" y="2006"/>
                </a:lnTo>
                <a:lnTo>
                  <a:pt x="43" y="2017"/>
                </a:lnTo>
                <a:lnTo>
                  <a:pt x="38" y="2028"/>
                </a:lnTo>
                <a:lnTo>
                  <a:pt x="38" y="2039"/>
                </a:lnTo>
                <a:lnTo>
                  <a:pt x="38" y="2044"/>
                </a:lnTo>
                <a:lnTo>
                  <a:pt x="38" y="2082"/>
                </a:lnTo>
                <a:lnTo>
                  <a:pt x="38" y="2120"/>
                </a:lnTo>
                <a:lnTo>
                  <a:pt x="38" y="2158"/>
                </a:lnTo>
                <a:lnTo>
                  <a:pt x="38" y="2191"/>
                </a:lnTo>
                <a:lnTo>
                  <a:pt x="38" y="2229"/>
                </a:lnTo>
                <a:lnTo>
                  <a:pt x="38" y="2267"/>
                </a:lnTo>
                <a:lnTo>
                  <a:pt x="38" y="2306"/>
                </a:lnTo>
                <a:lnTo>
                  <a:pt x="0" y="2344"/>
                </a:lnTo>
                <a:lnTo>
                  <a:pt x="0" y="2382"/>
                </a:lnTo>
                <a:lnTo>
                  <a:pt x="0" y="2415"/>
                </a:lnTo>
                <a:lnTo>
                  <a:pt x="0" y="2453"/>
                </a:lnTo>
                <a:lnTo>
                  <a:pt x="0" y="2491"/>
                </a:lnTo>
                <a:lnTo>
                  <a:pt x="0" y="2529"/>
                </a:lnTo>
                <a:lnTo>
                  <a:pt x="0" y="2567"/>
                </a:lnTo>
                <a:lnTo>
                  <a:pt x="0" y="2600"/>
                </a:lnTo>
                <a:lnTo>
                  <a:pt x="0" y="2638"/>
                </a:lnTo>
                <a:lnTo>
                  <a:pt x="0" y="2676"/>
                </a:lnTo>
                <a:lnTo>
                  <a:pt x="0" y="2714"/>
                </a:lnTo>
                <a:lnTo>
                  <a:pt x="0" y="2753"/>
                </a:lnTo>
                <a:lnTo>
                  <a:pt x="0" y="2791"/>
                </a:lnTo>
                <a:lnTo>
                  <a:pt x="0" y="2823"/>
                </a:lnTo>
                <a:lnTo>
                  <a:pt x="0" y="2862"/>
                </a:lnTo>
                <a:lnTo>
                  <a:pt x="0" y="2900"/>
                </a:lnTo>
                <a:lnTo>
                  <a:pt x="0" y="2938"/>
                </a:lnTo>
                <a:lnTo>
                  <a:pt x="0" y="2976"/>
                </a:lnTo>
                <a:lnTo>
                  <a:pt x="0" y="3014"/>
                </a:lnTo>
                <a:lnTo>
                  <a:pt x="32" y="3014"/>
                </a:lnTo>
                <a:lnTo>
                  <a:pt x="27" y="3003"/>
                </a:lnTo>
                <a:lnTo>
                  <a:pt x="22" y="2992"/>
                </a:lnTo>
                <a:lnTo>
                  <a:pt x="16" y="2981"/>
                </a:lnTo>
                <a:lnTo>
                  <a:pt x="16" y="2976"/>
                </a:lnTo>
                <a:lnTo>
                  <a:pt x="22" y="2971"/>
                </a:lnTo>
                <a:lnTo>
                  <a:pt x="27" y="2965"/>
                </a:lnTo>
                <a:lnTo>
                  <a:pt x="32" y="2960"/>
                </a:lnTo>
                <a:lnTo>
                  <a:pt x="43" y="2954"/>
                </a:lnTo>
                <a:lnTo>
                  <a:pt x="43" y="2949"/>
                </a:lnTo>
                <a:lnTo>
                  <a:pt x="49" y="2938"/>
                </a:lnTo>
                <a:lnTo>
                  <a:pt x="54" y="2932"/>
                </a:lnTo>
                <a:lnTo>
                  <a:pt x="65" y="2927"/>
                </a:lnTo>
                <a:lnTo>
                  <a:pt x="71" y="2922"/>
                </a:lnTo>
                <a:lnTo>
                  <a:pt x="76" y="2916"/>
                </a:lnTo>
                <a:lnTo>
                  <a:pt x="82" y="2911"/>
                </a:lnTo>
                <a:lnTo>
                  <a:pt x="87" y="2905"/>
                </a:lnTo>
                <a:lnTo>
                  <a:pt x="92" y="2894"/>
                </a:lnTo>
                <a:lnTo>
                  <a:pt x="98" y="2889"/>
                </a:lnTo>
                <a:lnTo>
                  <a:pt x="103" y="2883"/>
                </a:lnTo>
                <a:lnTo>
                  <a:pt x="109" y="2878"/>
                </a:lnTo>
                <a:lnTo>
                  <a:pt x="114" y="2872"/>
                </a:lnTo>
                <a:lnTo>
                  <a:pt x="120" y="2862"/>
                </a:lnTo>
                <a:lnTo>
                  <a:pt x="125" y="2856"/>
                </a:lnTo>
                <a:lnTo>
                  <a:pt x="131" y="2851"/>
                </a:lnTo>
                <a:lnTo>
                  <a:pt x="136" y="2845"/>
                </a:lnTo>
                <a:lnTo>
                  <a:pt x="141" y="2834"/>
                </a:lnTo>
                <a:lnTo>
                  <a:pt x="147" y="2829"/>
                </a:lnTo>
                <a:lnTo>
                  <a:pt x="152" y="2823"/>
                </a:lnTo>
                <a:lnTo>
                  <a:pt x="158" y="2818"/>
                </a:lnTo>
                <a:lnTo>
                  <a:pt x="163" y="2807"/>
                </a:lnTo>
                <a:lnTo>
                  <a:pt x="169" y="2802"/>
                </a:lnTo>
                <a:lnTo>
                  <a:pt x="174" y="2796"/>
                </a:lnTo>
                <a:lnTo>
                  <a:pt x="180" y="2791"/>
                </a:lnTo>
                <a:lnTo>
                  <a:pt x="185" y="2785"/>
                </a:lnTo>
                <a:lnTo>
                  <a:pt x="191" y="2774"/>
                </a:lnTo>
                <a:lnTo>
                  <a:pt x="196" y="2769"/>
                </a:lnTo>
                <a:lnTo>
                  <a:pt x="201" y="2763"/>
                </a:lnTo>
                <a:lnTo>
                  <a:pt x="207" y="2758"/>
                </a:lnTo>
                <a:lnTo>
                  <a:pt x="212" y="2747"/>
                </a:lnTo>
                <a:lnTo>
                  <a:pt x="218" y="2742"/>
                </a:lnTo>
                <a:lnTo>
                  <a:pt x="223" y="2736"/>
                </a:lnTo>
                <a:lnTo>
                  <a:pt x="229" y="2731"/>
                </a:lnTo>
                <a:lnTo>
                  <a:pt x="234" y="2725"/>
                </a:lnTo>
                <a:lnTo>
                  <a:pt x="240" y="2714"/>
                </a:lnTo>
                <a:lnTo>
                  <a:pt x="245" y="2709"/>
                </a:lnTo>
                <a:lnTo>
                  <a:pt x="251" y="2703"/>
                </a:lnTo>
                <a:lnTo>
                  <a:pt x="256" y="2698"/>
                </a:lnTo>
                <a:lnTo>
                  <a:pt x="261" y="2693"/>
                </a:lnTo>
                <a:lnTo>
                  <a:pt x="267" y="2687"/>
                </a:lnTo>
                <a:lnTo>
                  <a:pt x="278" y="2682"/>
                </a:lnTo>
                <a:lnTo>
                  <a:pt x="283" y="2671"/>
                </a:lnTo>
                <a:lnTo>
                  <a:pt x="283" y="2665"/>
                </a:lnTo>
                <a:lnTo>
                  <a:pt x="289" y="2654"/>
                </a:lnTo>
                <a:lnTo>
                  <a:pt x="300" y="2654"/>
                </a:lnTo>
                <a:lnTo>
                  <a:pt x="305" y="2649"/>
                </a:lnTo>
                <a:lnTo>
                  <a:pt x="316" y="2654"/>
                </a:lnTo>
                <a:lnTo>
                  <a:pt x="321" y="2654"/>
                </a:lnTo>
                <a:lnTo>
                  <a:pt x="327" y="2649"/>
                </a:lnTo>
                <a:lnTo>
                  <a:pt x="332" y="2644"/>
                </a:lnTo>
                <a:lnTo>
                  <a:pt x="332" y="2644"/>
                </a:lnTo>
                <a:lnTo>
                  <a:pt x="332" y="2649"/>
                </a:lnTo>
                <a:lnTo>
                  <a:pt x="327" y="2660"/>
                </a:lnTo>
                <a:lnTo>
                  <a:pt x="327" y="2671"/>
                </a:lnTo>
                <a:lnTo>
                  <a:pt x="321" y="2682"/>
                </a:lnTo>
                <a:lnTo>
                  <a:pt x="321" y="2687"/>
                </a:lnTo>
                <a:lnTo>
                  <a:pt x="316" y="2698"/>
                </a:lnTo>
                <a:lnTo>
                  <a:pt x="316" y="2709"/>
                </a:lnTo>
                <a:lnTo>
                  <a:pt x="311" y="2720"/>
                </a:lnTo>
                <a:lnTo>
                  <a:pt x="311" y="2725"/>
                </a:lnTo>
                <a:lnTo>
                  <a:pt x="305" y="2736"/>
                </a:lnTo>
                <a:lnTo>
                  <a:pt x="305" y="2747"/>
                </a:lnTo>
                <a:lnTo>
                  <a:pt x="300" y="2758"/>
                </a:lnTo>
                <a:lnTo>
                  <a:pt x="300" y="2763"/>
                </a:lnTo>
                <a:lnTo>
                  <a:pt x="294" y="2774"/>
                </a:lnTo>
                <a:lnTo>
                  <a:pt x="294" y="2785"/>
                </a:lnTo>
                <a:lnTo>
                  <a:pt x="294" y="2796"/>
                </a:lnTo>
                <a:lnTo>
                  <a:pt x="289" y="2802"/>
                </a:lnTo>
                <a:lnTo>
                  <a:pt x="289" y="2813"/>
                </a:lnTo>
                <a:lnTo>
                  <a:pt x="283" y="2823"/>
                </a:lnTo>
                <a:lnTo>
                  <a:pt x="283" y="2834"/>
                </a:lnTo>
                <a:lnTo>
                  <a:pt x="278" y="2840"/>
                </a:lnTo>
                <a:lnTo>
                  <a:pt x="278" y="2851"/>
                </a:lnTo>
                <a:lnTo>
                  <a:pt x="272" y="2862"/>
                </a:lnTo>
                <a:lnTo>
                  <a:pt x="272" y="2872"/>
                </a:lnTo>
                <a:lnTo>
                  <a:pt x="267" y="2878"/>
                </a:lnTo>
                <a:lnTo>
                  <a:pt x="267" y="2889"/>
                </a:lnTo>
                <a:lnTo>
                  <a:pt x="261" y="2900"/>
                </a:lnTo>
                <a:lnTo>
                  <a:pt x="261" y="2911"/>
                </a:lnTo>
                <a:lnTo>
                  <a:pt x="256" y="2916"/>
                </a:lnTo>
                <a:lnTo>
                  <a:pt x="256" y="2927"/>
                </a:lnTo>
                <a:lnTo>
                  <a:pt x="251" y="2938"/>
                </a:lnTo>
                <a:lnTo>
                  <a:pt x="251" y="2943"/>
                </a:lnTo>
                <a:lnTo>
                  <a:pt x="245" y="2954"/>
                </a:lnTo>
                <a:lnTo>
                  <a:pt x="245" y="2965"/>
                </a:lnTo>
                <a:lnTo>
                  <a:pt x="240" y="2976"/>
                </a:lnTo>
                <a:lnTo>
                  <a:pt x="240" y="2987"/>
                </a:lnTo>
                <a:lnTo>
                  <a:pt x="240" y="2998"/>
                </a:lnTo>
                <a:lnTo>
                  <a:pt x="240" y="3003"/>
                </a:lnTo>
                <a:lnTo>
                  <a:pt x="245" y="3014"/>
                </a:lnTo>
                <a:lnTo>
                  <a:pt x="245" y="3025"/>
                </a:lnTo>
                <a:lnTo>
                  <a:pt x="251" y="3031"/>
                </a:lnTo>
                <a:lnTo>
                  <a:pt x="256" y="3041"/>
                </a:lnTo>
                <a:lnTo>
                  <a:pt x="261" y="3052"/>
                </a:lnTo>
                <a:lnTo>
                  <a:pt x="267" y="3058"/>
                </a:lnTo>
                <a:lnTo>
                  <a:pt x="272" y="3069"/>
                </a:lnTo>
                <a:lnTo>
                  <a:pt x="272" y="3080"/>
                </a:lnTo>
                <a:lnTo>
                  <a:pt x="278" y="3085"/>
                </a:lnTo>
                <a:lnTo>
                  <a:pt x="272" y="3090"/>
                </a:lnTo>
                <a:lnTo>
                  <a:pt x="261" y="3096"/>
                </a:lnTo>
                <a:lnTo>
                  <a:pt x="256" y="3096"/>
                </a:lnTo>
                <a:lnTo>
                  <a:pt x="251" y="3090"/>
                </a:lnTo>
                <a:lnTo>
                  <a:pt x="240" y="3085"/>
                </a:lnTo>
                <a:lnTo>
                  <a:pt x="234" y="3085"/>
                </a:lnTo>
                <a:lnTo>
                  <a:pt x="229" y="3080"/>
                </a:lnTo>
                <a:lnTo>
                  <a:pt x="223" y="3074"/>
                </a:lnTo>
                <a:lnTo>
                  <a:pt x="212" y="3074"/>
                </a:lnTo>
                <a:lnTo>
                  <a:pt x="207" y="3074"/>
                </a:lnTo>
                <a:lnTo>
                  <a:pt x="201" y="3074"/>
                </a:lnTo>
                <a:lnTo>
                  <a:pt x="191" y="3074"/>
                </a:lnTo>
                <a:lnTo>
                  <a:pt x="185" y="3069"/>
                </a:lnTo>
                <a:lnTo>
                  <a:pt x="180" y="3069"/>
                </a:lnTo>
                <a:lnTo>
                  <a:pt x="169" y="3069"/>
                </a:lnTo>
                <a:lnTo>
                  <a:pt x="163" y="3069"/>
                </a:lnTo>
                <a:lnTo>
                  <a:pt x="158" y="3069"/>
                </a:lnTo>
                <a:lnTo>
                  <a:pt x="147" y="3069"/>
                </a:lnTo>
                <a:lnTo>
                  <a:pt x="147" y="3085"/>
                </a:lnTo>
                <a:lnTo>
                  <a:pt x="185" y="3123"/>
                </a:lnTo>
                <a:lnTo>
                  <a:pt x="223" y="3123"/>
                </a:lnTo>
                <a:lnTo>
                  <a:pt x="261" y="3161"/>
                </a:lnTo>
                <a:lnTo>
                  <a:pt x="300" y="3199"/>
                </a:lnTo>
                <a:lnTo>
                  <a:pt x="332" y="3199"/>
                </a:lnTo>
                <a:lnTo>
                  <a:pt x="370" y="3238"/>
                </a:lnTo>
                <a:lnTo>
                  <a:pt x="409" y="3270"/>
                </a:lnTo>
                <a:lnTo>
                  <a:pt x="447" y="3270"/>
                </a:lnTo>
                <a:lnTo>
                  <a:pt x="480" y="3308"/>
                </a:lnTo>
                <a:lnTo>
                  <a:pt x="518" y="3347"/>
                </a:lnTo>
                <a:lnTo>
                  <a:pt x="556" y="3347"/>
                </a:lnTo>
                <a:lnTo>
                  <a:pt x="594" y="3385"/>
                </a:lnTo>
                <a:lnTo>
                  <a:pt x="632" y="3385"/>
                </a:lnTo>
                <a:lnTo>
                  <a:pt x="665" y="3423"/>
                </a:lnTo>
                <a:lnTo>
                  <a:pt x="703" y="3456"/>
                </a:lnTo>
                <a:lnTo>
                  <a:pt x="741" y="3456"/>
                </a:lnTo>
                <a:lnTo>
                  <a:pt x="779" y="3494"/>
                </a:lnTo>
                <a:lnTo>
                  <a:pt x="818" y="3532"/>
                </a:lnTo>
                <a:lnTo>
                  <a:pt x="850" y="3532"/>
                </a:lnTo>
                <a:lnTo>
                  <a:pt x="888" y="3570"/>
                </a:lnTo>
                <a:lnTo>
                  <a:pt x="927" y="3570"/>
                </a:lnTo>
                <a:lnTo>
                  <a:pt x="965" y="3608"/>
                </a:lnTo>
                <a:lnTo>
                  <a:pt x="1003" y="3608"/>
                </a:lnTo>
                <a:lnTo>
                  <a:pt x="1036" y="3608"/>
                </a:lnTo>
                <a:lnTo>
                  <a:pt x="1074" y="3608"/>
                </a:lnTo>
                <a:close/>
                <a:moveTo>
                  <a:pt x="1068" y="3270"/>
                </a:moveTo>
                <a:lnTo>
                  <a:pt x="1068" y="3259"/>
                </a:lnTo>
                <a:lnTo>
                  <a:pt x="1063" y="3249"/>
                </a:lnTo>
                <a:lnTo>
                  <a:pt x="1063" y="3238"/>
                </a:lnTo>
                <a:lnTo>
                  <a:pt x="1063" y="3227"/>
                </a:lnTo>
                <a:lnTo>
                  <a:pt x="1057" y="3210"/>
                </a:lnTo>
                <a:lnTo>
                  <a:pt x="1057" y="3199"/>
                </a:lnTo>
                <a:lnTo>
                  <a:pt x="1057" y="3189"/>
                </a:lnTo>
                <a:lnTo>
                  <a:pt x="1052" y="3178"/>
                </a:lnTo>
                <a:lnTo>
                  <a:pt x="1052" y="3161"/>
                </a:lnTo>
                <a:lnTo>
                  <a:pt x="1052" y="3150"/>
                </a:lnTo>
                <a:lnTo>
                  <a:pt x="1052" y="3140"/>
                </a:lnTo>
                <a:lnTo>
                  <a:pt x="1047" y="3129"/>
                </a:lnTo>
                <a:lnTo>
                  <a:pt x="1047" y="3118"/>
                </a:lnTo>
                <a:lnTo>
                  <a:pt x="1041" y="3101"/>
                </a:lnTo>
                <a:lnTo>
                  <a:pt x="1041" y="3090"/>
                </a:lnTo>
                <a:lnTo>
                  <a:pt x="1041" y="3080"/>
                </a:lnTo>
                <a:lnTo>
                  <a:pt x="1047" y="3069"/>
                </a:lnTo>
                <a:lnTo>
                  <a:pt x="1052" y="3058"/>
                </a:lnTo>
                <a:lnTo>
                  <a:pt x="1057" y="3052"/>
                </a:lnTo>
                <a:lnTo>
                  <a:pt x="1068" y="3041"/>
                </a:lnTo>
                <a:lnTo>
                  <a:pt x="1074" y="3036"/>
                </a:lnTo>
                <a:lnTo>
                  <a:pt x="1079" y="3025"/>
                </a:lnTo>
                <a:lnTo>
                  <a:pt x="1085" y="3020"/>
                </a:lnTo>
                <a:lnTo>
                  <a:pt x="1090" y="3009"/>
                </a:lnTo>
                <a:lnTo>
                  <a:pt x="1101" y="3009"/>
                </a:lnTo>
                <a:lnTo>
                  <a:pt x="1107" y="3003"/>
                </a:lnTo>
                <a:lnTo>
                  <a:pt x="1117" y="3003"/>
                </a:lnTo>
                <a:lnTo>
                  <a:pt x="1128" y="3003"/>
                </a:lnTo>
                <a:lnTo>
                  <a:pt x="1134" y="3003"/>
                </a:lnTo>
                <a:lnTo>
                  <a:pt x="1145" y="3003"/>
                </a:lnTo>
                <a:lnTo>
                  <a:pt x="1150" y="2998"/>
                </a:lnTo>
                <a:lnTo>
                  <a:pt x="1161" y="2998"/>
                </a:lnTo>
                <a:lnTo>
                  <a:pt x="1172" y="2998"/>
                </a:lnTo>
                <a:lnTo>
                  <a:pt x="1177" y="2998"/>
                </a:lnTo>
                <a:lnTo>
                  <a:pt x="1188" y="2998"/>
                </a:lnTo>
                <a:lnTo>
                  <a:pt x="1199" y="3003"/>
                </a:lnTo>
                <a:lnTo>
                  <a:pt x="1205" y="3003"/>
                </a:lnTo>
                <a:lnTo>
                  <a:pt x="1216" y="3003"/>
                </a:lnTo>
                <a:lnTo>
                  <a:pt x="1221" y="2998"/>
                </a:lnTo>
                <a:lnTo>
                  <a:pt x="1232" y="2998"/>
                </a:lnTo>
                <a:lnTo>
                  <a:pt x="1237" y="2992"/>
                </a:lnTo>
                <a:lnTo>
                  <a:pt x="1248" y="2987"/>
                </a:lnTo>
                <a:lnTo>
                  <a:pt x="1254" y="2981"/>
                </a:lnTo>
                <a:lnTo>
                  <a:pt x="1265" y="2981"/>
                </a:lnTo>
                <a:lnTo>
                  <a:pt x="1270" y="2976"/>
                </a:lnTo>
                <a:lnTo>
                  <a:pt x="1281" y="2971"/>
                </a:lnTo>
                <a:lnTo>
                  <a:pt x="1292" y="2971"/>
                </a:lnTo>
                <a:lnTo>
                  <a:pt x="1297" y="2971"/>
                </a:lnTo>
                <a:lnTo>
                  <a:pt x="1308" y="2976"/>
                </a:lnTo>
                <a:lnTo>
                  <a:pt x="1314" y="2987"/>
                </a:lnTo>
                <a:lnTo>
                  <a:pt x="1314" y="2998"/>
                </a:lnTo>
                <a:lnTo>
                  <a:pt x="1314" y="3009"/>
                </a:lnTo>
                <a:lnTo>
                  <a:pt x="1319" y="3025"/>
                </a:lnTo>
                <a:lnTo>
                  <a:pt x="1319" y="3036"/>
                </a:lnTo>
                <a:lnTo>
                  <a:pt x="1319" y="3047"/>
                </a:lnTo>
                <a:lnTo>
                  <a:pt x="1319" y="3058"/>
                </a:lnTo>
                <a:lnTo>
                  <a:pt x="1319" y="3069"/>
                </a:lnTo>
                <a:lnTo>
                  <a:pt x="1319" y="3085"/>
                </a:lnTo>
                <a:lnTo>
                  <a:pt x="1319" y="3096"/>
                </a:lnTo>
                <a:lnTo>
                  <a:pt x="1319" y="3107"/>
                </a:lnTo>
                <a:lnTo>
                  <a:pt x="1319" y="3118"/>
                </a:lnTo>
                <a:lnTo>
                  <a:pt x="1319" y="3134"/>
                </a:lnTo>
                <a:lnTo>
                  <a:pt x="1325" y="3145"/>
                </a:lnTo>
                <a:lnTo>
                  <a:pt x="1325" y="3156"/>
                </a:lnTo>
                <a:lnTo>
                  <a:pt x="1319" y="3167"/>
                </a:lnTo>
                <a:lnTo>
                  <a:pt x="1319" y="3183"/>
                </a:lnTo>
                <a:lnTo>
                  <a:pt x="1314" y="3194"/>
                </a:lnTo>
                <a:lnTo>
                  <a:pt x="1308" y="3199"/>
                </a:lnTo>
                <a:lnTo>
                  <a:pt x="1303" y="3205"/>
                </a:lnTo>
                <a:lnTo>
                  <a:pt x="1292" y="3210"/>
                </a:lnTo>
                <a:lnTo>
                  <a:pt x="1281" y="3216"/>
                </a:lnTo>
                <a:lnTo>
                  <a:pt x="1276" y="3216"/>
                </a:lnTo>
                <a:lnTo>
                  <a:pt x="1265" y="3221"/>
                </a:lnTo>
                <a:lnTo>
                  <a:pt x="1259" y="3221"/>
                </a:lnTo>
                <a:lnTo>
                  <a:pt x="1248" y="3227"/>
                </a:lnTo>
                <a:lnTo>
                  <a:pt x="1243" y="3232"/>
                </a:lnTo>
                <a:lnTo>
                  <a:pt x="1232" y="3232"/>
                </a:lnTo>
                <a:lnTo>
                  <a:pt x="1226" y="3238"/>
                </a:lnTo>
                <a:lnTo>
                  <a:pt x="1216" y="3243"/>
                </a:lnTo>
                <a:lnTo>
                  <a:pt x="1210" y="3243"/>
                </a:lnTo>
                <a:lnTo>
                  <a:pt x="1199" y="3249"/>
                </a:lnTo>
                <a:lnTo>
                  <a:pt x="1194" y="3249"/>
                </a:lnTo>
                <a:lnTo>
                  <a:pt x="1183" y="3254"/>
                </a:lnTo>
                <a:lnTo>
                  <a:pt x="1172" y="3259"/>
                </a:lnTo>
                <a:lnTo>
                  <a:pt x="1167" y="3259"/>
                </a:lnTo>
                <a:lnTo>
                  <a:pt x="1156" y="3265"/>
                </a:lnTo>
                <a:lnTo>
                  <a:pt x="1150" y="3270"/>
                </a:lnTo>
                <a:lnTo>
                  <a:pt x="1139" y="3270"/>
                </a:lnTo>
                <a:lnTo>
                  <a:pt x="1134" y="3276"/>
                </a:lnTo>
                <a:lnTo>
                  <a:pt x="1123" y="3276"/>
                </a:lnTo>
                <a:lnTo>
                  <a:pt x="1117" y="3281"/>
                </a:lnTo>
                <a:lnTo>
                  <a:pt x="1107" y="3287"/>
                </a:lnTo>
                <a:lnTo>
                  <a:pt x="1096" y="3292"/>
                </a:lnTo>
                <a:lnTo>
                  <a:pt x="1090" y="3298"/>
                </a:lnTo>
                <a:lnTo>
                  <a:pt x="1079" y="3298"/>
                </a:lnTo>
                <a:lnTo>
                  <a:pt x="1074" y="3298"/>
                </a:lnTo>
                <a:lnTo>
                  <a:pt x="1068" y="3287"/>
                </a:lnTo>
                <a:lnTo>
                  <a:pt x="1068" y="3270"/>
                </a:lnTo>
                <a:close/>
                <a:moveTo>
                  <a:pt x="480" y="3199"/>
                </a:moveTo>
                <a:lnTo>
                  <a:pt x="485" y="3194"/>
                </a:lnTo>
                <a:lnTo>
                  <a:pt x="490" y="3189"/>
                </a:lnTo>
                <a:lnTo>
                  <a:pt x="496" y="3189"/>
                </a:lnTo>
                <a:lnTo>
                  <a:pt x="501" y="3183"/>
                </a:lnTo>
                <a:lnTo>
                  <a:pt x="501" y="3183"/>
                </a:lnTo>
                <a:lnTo>
                  <a:pt x="507" y="3183"/>
                </a:lnTo>
                <a:lnTo>
                  <a:pt x="512" y="3183"/>
                </a:lnTo>
                <a:lnTo>
                  <a:pt x="518" y="3189"/>
                </a:lnTo>
                <a:lnTo>
                  <a:pt x="523" y="3189"/>
                </a:lnTo>
                <a:lnTo>
                  <a:pt x="523" y="3194"/>
                </a:lnTo>
                <a:lnTo>
                  <a:pt x="523" y="3199"/>
                </a:lnTo>
                <a:lnTo>
                  <a:pt x="518" y="3205"/>
                </a:lnTo>
                <a:lnTo>
                  <a:pt x="512" y="3210"/>
                </a:lnTo>
                <a:lnTo>
                  <a:pt x="507" y="3210"/>
                </a:lnTo>
                <a:lnTo>
                  <a:pt x="501" y="3210"/>
                </a:lnTo>
                <a:lnTo>
                  <a:pt x="496" y="3210"/>
                </a:lnTo>
                <a:lnTo>
                  <a:pt x="496" y="3210"/>
                </a:lnTo>
                <a:lnTo>
                  <a:pt x="490" y="3205"/>
                </a:lnTo>
                <a:lnTo>
                  <a:pt x="485" y="3199"/>
                </a:lnTo>
                <a:lnTo>
                  <a:pt x="480" y="3199"/>
                </a:lnTo>
                <a:close/>
                <a:moveTo>
                  <a:pt x="136" y="3047"/>
                </a:moveTo>
                <a:lnTo>
                  <a:pt x="125" y="3047"/>
                </a:lnTo>
                <a:lnTo>
                  <a:pt x="120" y="3041"/>
                </a:lnTo>
                <a:lnTo>
                  <a:pt x="109" y="3041"/>
                </a:lnTo>
                <a:lnTo>
                  <a:pt x="98" y="3041"/>
                </a:lnTo>
                <a:lnTo>
                  <a:pt x="92" y="3041"/>
                </a:lnTo>
                <a:lnTo>
                  <a:pt x="82" y="3041"/>
                </a:lnTo>
                <a:lnTo>
                  <a:pt x="71" y="3036"/>
                </a:lnTo>
                <a:lnTo>
                  <a:pt x="65" y="3036"/>
                </a:lnTo>
                <a:lnTo>
                  <a:pt x="54" y="3031"/>
                </a:lnTo>
                <a:lnTo>
                  <a:pt x="49" y="3025"/>
                </a:lnTo>
                <a:lnTo>
                  <a:pt x="43" y="3014"/>
                </a:lnTo>
                <a:lnTo>
                  <a:pt x="76" y="3047"/>
                </a:lnTo>
                <a:lnTo>
                  <a:pt x="114" y="3047"/>
                </a:lnTo>
                <a:lnTo>
                  <a:pt x="136" y="3047"/>
                </a:lnTo>
                <a:close/>
                <a:moveTo>
                  <a:pt x="905" y="2823"/>
                </a:moveTo>
                <a:lnTo>
                  <a:pt x="910" y="2818"/>
                </a:lnTo>
                <a:lnTo>
                  <a:pt x="916" y="2813"/>
                </a:lnTo>
                <a:lnTo>
                  <a:pt x="921" y="2802"/>
                </a:lnTo>
                <a:lnTo>
                  <a:pt x="927" y="2796"/>
                </a:lnTo>
                <a:lnTo>
                  <a:pt x="932" y="2785"/>
                </a:lnTo>
                <a:lnTo>
                  <a:pt x="938" y="2780"/>
                </a:lnTo>
                <a:lnTo>
                  <a:pt x="943" y="2769"/>
                </a:lnTo>
                <a:lnTo>
                  <a:pt x="948" y="2763"/>
                </a:lnTo>
                <a:lnTo>
                  <a:pt x="954" y="2758"/>
                </a:lnTo>
                <a:lnTo>
                  <a:pt x="959" y="2747"/>
                </a:lnTo>
                <a:lnTo>
                  <a:pt x="965" y="2742"/>
                </a:lnTo>
                <a:lnTo>
                  <a:pt x="970" y="2736"/>
                </a:lnTo>
                <a:lnTo>
                  <a:pt x="981" y="2731"/>
                </a:lnTo>
                <a:lnTo>
                  <a:pt x="981" y="2720"/>
                </a:lnTo>
                <a:lnTo>
                  <a:pt x="987" y="2714"/>
                </a:lnTo>
                <a:lnTo>
                  <a:pt x="987" y="2703"/>
                </a:lnTo>
                <a:lnTo>
                  <a:pt x="987" y="2693"/>
                </a:lnTo>
                <a:lnTo>
                  <a:pt x="987" y="2682"/>
                </a:lnTo>
                <a:lnTo>
                  <a:pt x="987" y="2671"/>
                </a:lnTo>
                <a:lnTo>
                  <a:pt x="981" y="2660"/>
                </a:lnTo>
                <a:lnTo>
                  <a:pt x="976" y="2649"/>
                </a:lnTo>
                <a:lnTo>
                  <a:pt x="976" y="2644"/>
                </a:lnTo>
                <a:lnTo>
                  <a:pt x="970" y="2633"/>
                </a:lnTo>
                <a:lnTo>
                  <a:pt x="965" y="2622"/>
                </a:lnTo>
                <a:lnTo>
                  <a:pt x="965" y="2616"/>
                </a:lnTo>
                <a:lnTo>
                  <a:pt x="959" y="2605"/>
                </a:lnTo>
                <a:lnTo>
                  <a:pt x="959" y="2594"/>
                </a:lnTo>
                <a:lnTo>
                  <a:pt x="954" y="2584"/>
                </a:lnTo>
                <a:lnTo>
                  <a:pt x="954" y="2573"/>
                </a:lnTo>
                <a:lnTo>
                  <a:pt x="948" y="2562"/>
                </a:lnTo>
                <a:lnTo>
                  <a:pt x="948" y="2556"/>
                </a:lnTo>
                <a:lnTo>
                  <a:pt x="943" y="2545"/>
                </a:lnTo>
                <a:lnTo>
                  <a:pt x="943" y="2535"/>
                </a:lnTo>
                <a:lnTo>
                  <a:pt x="943" y="2524"/>
                </a:lnTo>
                <a:lnTo>
                  <a:pt x="943" y="2513"/>
                </a:lnTo>
                <a:lnTo>
                  <a:pt x="948" y="2502"/>
                </a:lnTo>
                <a:lnTo>
                  <a:pt x="954" y="2496"/>
                </a:lnTo>
                <a:lnTo>
                  <a:pt x="959" y="2485"/>
                </a:lnTo>
                <a:lnTo>
                  <a:pt x="965" y="2480"/>
                </a:lnTo>
                <a:lnTo>
                  <a:pt x="970" y="2485"/>
                </a:lnTo>
                <a:lnTo>
                  <a:pt x="976" y="2491"/>
                </a:lnTo>
                <a:lnTo>
                  <a:pt x="981" y="2502"/>
                </a:lnTo>
                <a:lnTo>
                  <a:pt x="992" y="2502"/>
                </a:lnTo>
                <a:lnTo>
                  <a:pt x="997" y="2502"/>
                </a:lnTo>
                <a:lnTo>
                  <a:pt x="1003" y="2496"/>
                </a:lnTo>
                <a:lnTo>
                  <a:pt x="1008" y="2491"/>
                </a:lnTo>
                <a:lnTo>
                  <a:pt x="1014" y="2480"/>
                </a:lnTo>
                <a:lnTo>
                  <a:pt x="1019" y="2469"/>
                </a:lnTo>
                <a:lnTo>
                  <a:pt x="1019" y="2464"/>
                </a:lnTo>
                <a:lnTo>
                  <a:pt x="1025" y="2453"/>
                </a:lnTo>
                <a:lnTo>
                  <a:pt x="1030" y="2442"/>
                </a:lnTo>
                <a:lnTo>
                  <a:pt x="1030" y="2431"/>
                </a:lnTo>
                <a:lnTo>
                  <a:pt x="1036" y="2426"/>
                </a:lnTo>
                <a:lnTo>
                  <a:pt x="1041" y="2415"/>
                </a:lnTo>
                <a:lnTo>
                  <a:pt x="1047" y="2409"/>
                </a:lnTo>
                <a:lnTo>
                  <a:pt x="1052" y="2404"/>
                </a:lnTo>
                <a:lnTo>
                  <a:pt x="1063" y="2398"/>
                </a:lnTo>
                <a:lnTo>
                  <a:pt x="1068" y="2398"/>
                </a:lnTo>
                <a:lnTo>
                  <a:pt x="1079" y="2398"/>
                </a:lnTo>
                <a:lnTo>
                  <a:pt x="1085" y="2398"/>
                </a:lnTo>
                <a:lnTo>
                  <a:pt x="1096" y="2404"/>
                </a:lnTo>
                <a:lnTo>
                  <a:pt x="1101" y="2404"/>
                </a:lnTo>
                <a:lnTo>
                  <a:pt x="1107" y="2409"/>
                </a:lnTo>
                <a:lnTo>
                  <a:pt x="1112" y="2415"/>
                </a:lnTo>
                <a:lnTo>
                  <a:pt x="1117" y="2420"/>
                </a:lnTo>
                <a:lnTo>
                  <a:pt x="1123" y="2431"/>
                </a:lnTo>
                <a:lnTo>
                  <a:pt x="1128" y="2436"/>
                </a:lnTo>
                <a:lnTo>
                  <a:pt x="1134" y="2442"/>
                </a:lnTo>
                <a:lnTo>
                  <a:pt x="1139" y="2447"/>
                </a:lnTo>
                <a:lnTo>
                  <a:pt x="1150" y="2453"/>
                </a:lnTo>
                <a:lnTo>
                  <a:pt x="1145" y="2464"/>
                </a:lnTo>
                <a:lnTo>
                  <a:pt x="1139" y="2475"/>
                </a:lnTo>
                <a:lnTo>
                  <a:pt x="1134" y="2480"/>
                </a:lnTo>
                <a:lnTo>
                  <a:pt x="1128" y="2485"/>
                </a:lnTo>
                <a:lnTo>
                  <a:pt x="1123" y="2496"/>
                </a:lnTo>
                <a:lnTo>
                  <a:pt x="1123" y="2507"/>
                </a:lnTo>
                <a:lnTo>
                  <a:pt x="1117" y="2513"/>
                </a:lnTo>
                <a:lnTo>
                  <a:pt x="1112" y="2524"/>
                </a:lnTo>
                <a:lnTo>
                  <a:pt x="1112" y="2535"/>
                </a:lnTo>
                <a:lnTo>
                  <a:pt x="1117" y="2545"/>
                </a:lnTo>
                <a:lnTo>
                  <a:pt x="1117" y="2551"/>
                </a:lnTo>
                <a:lnTo>
                  <a:pt x="1123" y="2562"/>
                </a:lnTo>
                <a:lnTo>
                  <a:pt x="1123" y="2573"/>
                </a:lnTo>
                <a:lnTo>
                  <a:pt x="1128" y="2584"/>
                </a:lnTo>
                <a:lnTo>
                  <a:pt x="1128" y="2594"/>
                </a:lnTo>
                <a:lnTo>
                  <a:pt x="1134" y="2605"/>
                </a:lnTo>
                <a:lnTo>
                  <a:pt x="1134" y="2611"/>
                </a:lnTo>
                <a:lnTo>
                  <a:pt x="1139" y="2622"/>
                </a:lnTo>
                <a:lnTo>
                  <a:pt x="1139" y="2633"/>
                </a:lnTo>
                <a:lnTo>
                  <a:pt x="1139" y="2644"/>
                </a:lnTo>
                <a:lnTo>
                  <a:pt x="1134" y="2649"/>
                </a:lnTo>
                <a:lnTo>
                  <a:pt x="1128" y="2654"/>
                </a:lnTo>
                <a:lnTo>
                  <a:pt x="1117" y="2660"/>
                </a:lnTo>
                <a:lnTo>
                  <a:pt x="1112" y="2665"/>
                </a:lnTo>
                <a:lnTo>
                  <a:pt x="1107" y="2671"/>
                </a:lnTo>
                <a:lnTo>
                  <a:pt x="1096" y="2676"/>
                </a:lnTo>
                <a:lnTo>
                  <a:pt x="1090" y="2682"/>
                </a:lnTo>
                <a:lnTo>
                  <a:pt x="1090" y="2687"/>
                </a:lnTo>
                <a:lnTo>
                  <a:pt x="1085" y="2698"/>
                </a:lnTo>
                <a:lnTo>
                  <a:pt x="1085" y="2709"/>
                </a:lnTo>
                <a:lnTo>
                  <a:pt x="1079" y="2720"/>
                </a:lnTo>
                <a:lnTo>
                  <a:pt x="1079" y="2731"/>
                </a:lnTo>
                <a:lnTo>
                  <a:pt x="1074" y="2742"/>
                </a:lnTo>
                <a:lnTo>
                  <a:pt x="1074" y="2753"/>
                </a:lnTo>
                <a:lnTo>
                  <a:pt x="1074" y="2763"/>
                </a:lnTo>
                <a:lnTo>
                  <a:pt x="1068" y="2769"/>
                </a:lnTo>
                <a:lnTo>
                  <a:pt x="1063" y="2780"/>
                </a:lnTo>
                <a:lnTo>
                  <a:pt x="1063" y="2791"/>
                </a:lnTo>
                <a:lnTo>
                  <a:pt x="1057" y="2796"/>
                </a:lnTo>
                <a:lnTo>
                  <a:pt x="1052" y="2807"/>
                </a:lnTo>
                <a:lnTo>
                  <a:pt x="1052" y="2818"/>
                </a:lnTo>
                <a:lnTo>
                  <a:pt x="1047" y="2829"/>
                </a:lnTo>
                <a:lnTo>
                  <a:pt x="1047" y="2840"/>
                </a:lnTo>
                <a:lnTo>
                  <a:pt x="1041" y="2851"/>
                </a:lnTo>
                <a:lnTo>
                  <a:pt x="1041" y="2856"/>
                </a:lnTo>
                <a:lnTo>
                  <a:pt x="1036" y="2862"/>
                </a:lnTo>
                <a:lnTo>
                  <a:pt x="1025" y="2867"/>
                </a:lnTo>
                <a:lnTo>
                  <a:pt x="1019" y="2862"/>
                </a:lnTo>
                <a:lnTo>
                  <a:pt x="1008" y="2862"/>
                </a:lnTo>
                <a:lnTo>
                  <a:pt x="1003" y="2862"/>
                </a:lnTo>
                <a:lnTo>
                  <a:pt x="992" y="2862"/>
                </a:lnTo>
                <a:lnTo>
                  <a:pt x="987" y="2856"/>
                </a:lnTo>
                <a:lnTo>
                  <a:pt x="981" y="2856"/>
                </a:lnTo>
                <a:lnTo>
                  <a:pt x="970" y="2862"/>
                </a:lnTo>
                <a:lnTo>
                  <a:pt x="965" y="2862"/>
                </a:lnTo>
                <a:lnTo>
                  <a:pt x="954" y="2862"/>
                </a:lnTo>
                <a:lnTo>
                  <a:pt x="948" y="2862"/>
                </a:lnTo>
                <a:lnTo>
                  <a:pt x="938" y="2862"/>
                </a:lnTo>
                <a:lnTo>
                  <a:pt x="932" y="2862"/>
                </a:lnTo>
                <a:lnTo>
                  <a:pt x="927" y="2862"/>
                </a:lnTo>
                <a:lnTo>
                  <a:pt x="921" y="2856"/>
                </a:lnTo>
                <a:lnTo>
                  <a:pt x="916" y="2845"/>
                </a:lnTo>
                <a:lnTo>
                  <a:pt x="910" y="2840"/>
                </a:lnTo>
                <a:lnTo>
                  <a:pt x="905" y="2823"/>
                </a:lnTo>
                <a:close/>
                <a:moveTo>
                  <a:pt x="1483" y="2753"/>
                </a:moveTo>
                <a:lnTo>
                  <a:pt x="1488" y="2742"/>
                </a:lnTo>
                <a:lnTo>
                  <a:pt x="1494" y="2731"/>
                </a:lnTo>
                <a:lnTo>
                  <a:pt x="1494" y="2720"/>
                </a:lnTo>
                <a:lnTo>
                  <a:pt x="1499" y="2709"/>
                </a:lnTo>
                <a:lnTo>
                  <a:pt x="1505" y="2698"/>
                </a:lnTo>
                <a:lnTo>
                  <a:pt x="1505" y="2687"/>
                </a:lnTo>
                <a:lnTo>
                  <a:pt x="1510" y="2676"/>
                </a:lnTo>
                <a:lnTo>
                  <a:pt x="1515" y="2671"/>
                </a:lnTo>
                <a:lnTo>
                  <a:pt x="1521" y="2660"/>
                </a:lnTo>
                <a:lnTo>
                  <a:pt x="1526" y="2649"/>
                </a:lnTo>
                <a:lnTo>
                  <a:pt x="1532" y="2638"/>
                </a:lnTo>
                <a:lnTo>
                  <a:pt x="1537" y="2633"/>
                </a:lnTo>
                <a:lnTo>
                  <a:pt x="1543" y="2622"/>
                </a:lnTo>
                <a:lnTo>
                  <a:pt x="1554" y="2616"/>
                </a:lnTo>
                <a:lnTo>
                  <a:pt x="1559" y="2611"/>
                </a:lnTo>
                <a:lnTo>
                  <a:pt x="1565" y="2605"/>
                </a:lnTo>
                <a:lnTo>
                  <a:pt x="1575" y="2594"/>
                </a:lnTo>
                <a:lnTo>
                  <a:pt x="1581" y="2589"/>
                </a:lnTo>
                <a:lnTo>
                  <a:pt x="1586" y="2584"/>
                </a:lnTo>
                <a:lnTo>
                  <a:pt x="1592" y="2578"/>
                </a:lnTo>
                <a:lnTo>
                  <a:pt x="1603" y="2573"/>
                </a:lnTo>
                <a:lnTo>
                  <a:pt x="1608" y="2562"/>
                </a:lnTo>
                <a:lnTo>
                  <a:pt x="1614" y="2556"/>
                </a:lnTo>
                <a:lnTo>
                  <a:pt x="1625" y="2551"/>
                </a:lnTo>
                <a:lnTo>
                  <a:pt x="1630" y="2545"/>
                </a:lnTo>
                <a:lnTo>
                  <a:pt x="1635" y="2540"/>
                </a:lnTo>
                <a:lnTo>
                  <a:pt x="1646" y="2529"/>
                </a:lnTo>
                <a:lnTo>
                  <a:pt x="1652" y="2524"/>
                </a:lnTo>
                <a:lnTo>
                  <a:pt x="1657" y="2518"/>
                </a:lnTo>
                <a:lnTo>
                  <a:pt x="1668" y="2513"/>
                </a:lnTo>
                <a:lnTo>
                  <a:pt x="1674" y="2502"/>
                </a:lnTo>
                <a:lnTo>
                  <a:pt x="1679" y="2496"/>
                </a:lnTo>
                <a:lnTo>
                  <a:pt x="1684" y="2491"/>
                </a:lnTo>
                <a:lnTo>
                  <a:pt x="1695" y="2485"/>
                </a:lnTo>
                <a:lnTo>
                  <a:pt x="1701" y="2480"/>
                </a:lnTo>
                <a:lnTo>
                  <a:pt x="1706" y="2469"/>
                </a:lnTo>
                <a:lnTo>
                  <a:pt x="1717" y="2464"/>
                </a:lnTo>
                <a:lnTo>
                  <a:pt x="1723" y="2458"/>
                </a:lnTo>
                <a:lnTo>
                  <a:pt x="1728" y="2453"/>
                </a:lnTo>
                <a:lnTo>
                  <a:pt x="1734" y="2442"/>
                </a:lnTo>
                <a:lnTo>
                  <a:pt x="1744" y="2436"/>
                </a:lnTo>
                <a:lnTo>
                  <a:pt x="1750" y="2442"/>
                </a:lnTo>
                <a:lnTo>
                  <a:pt x="1755" y="2453"/>
                </a:lnTo>
                <a:lnTo>
                  <a:pt x="1761" y="2464"/>
                </a:lnTo>
                <a:lnTo>
                  <a:pt x="1766" y="2475"/>
                </a:lnTo>
                <a:lnTo>
                  <a:pt x="1766" y="2485"/>
                </a:lnTo>
                <a:lnTo>
                  <a:pt x="1766" y="2502"/>
                </a:lnTo>
                <a:lnTo>
                  <a:pt x="1766" y="2513"/>
                </a:lnTo>
                <a:lnTo>
                  <a:pt x="1766" y="2524"/>
                </a:lnTo>
                <a:lnTo>
                  <a:pt x="1761" y="2535"/>
                </a:lnTo>
                <a:lnTo>
                  <a:pt x="1761" y="2545"/>
                </a:lnTo>
                <a:lnTo>
                  <a:pt x="1755" y="2556"/>
                </a:lnTo>
                <a:lnTo>
                  <a:pt x="1755" y="2567"/>
                </a:lnTo>
                <a:lnTo>
                  <a:pt x="1750" y="2578"/>
                </a:lnTo>
                <a:lnTo>
                  <a:pt x="1750" y="2589"/>
                </a:lnTo>
                <a:lnTo>
                  <a:pt x="1744" y="2600"/>
                </a:lnTo>
                <a:lnTo>
                  <a:pt x="1739" y="2611"/>
                </a:lnTo>
                <a:lnTo>
                  <a:pt x="1739" y="2622"/>
                </a:lnTo>
                <a:lnTo>
                  <a:pt x="1734" y="2633"/>
                </a:lnTo>
                <a:lnTo>
                  <a:pt x="1734" y="2649"/>
                </a:lnTo>
                <a:lnTo>
                  <a:pt x="1734" y="2660"/>
                </a:lnTo>
                <a:lnTo>
                  <a:pt x="1728" y="2671"/>
                </a:lnTo>
                <a:lnTo>
                  <a:pt x="1728" y="2682"/>
                </a:lnTo>
                <a:lnTo>
                  <a:pt x="1728" y="2693"/>
                </a:lnTo>
                <a:lnTo>
                  <a:pt x="1728" y="2703"/>
                </a:lnTo>
                <a:lnTo>
                  <a:pt x="1728" y="2720"/>
                </a:lnTo>
                <a:lnTo>
                  <a:pt x="1728" y="2731"/>
                </a:lnTo>
                <a:lnTo>
                  <a:pt x="1723" y="2742"/>
                </a:lnTo>
                <a:lnTo>
                  <a:pt x="1723" y="2753"/>
                </a:lnTo>
                <a:lnTo>
                  <a:pt x="1717" y="2763"/>
                </a:lnTo>
                <a:lnTo>
                  <a:pt x="1706" y="2769"/>
                </a:lnTo>
                <a:lnTo>
                  <a:pt x="1701" y="2774"/>
                </a:lnTo>
                <a:lnTo>
                  <a:pt x="1690" y="2774"/>
                </a:lnTo>
                <a:lnTo>
                  <a:pt x="1684" y="2780"/>
                </a:lnTo>
                <a:lnTo>
                  <a:pt x="1674" y="2780"/>
                </a:lnTo>
                <a:lnTo>
                  <a:pt x="1668" y="2780"/>
                </a:lnTo>
                <a:lnTo>
                  <a:pt x="1657" y="2785"/>
                </a:lnTo>
                <a:lnTo>
                  <a:pt x="1652" y="2785"/>
                </a:lnTo>
                <a:lnTo>
                  <a:pt x="1641" y="2785"/>
                </a:lnTo>
                <a:lnTo>
                  <a:pt x="1630" y="2785"/>
                </a:lnTo>
                <a:lnTo>
                  <a:pt x="1625" y="2785"/>
                </a:lnTo>
                <a:lnTo>
                  <a:pt x="1614" y="2785"/>
                </a:lnTo>
                <a:lnTo>
                  <a:pt x="1608" y="2785"/>
                </a:lnTo>
                <a:lnTo>
                  <a:pt x="1597" y="2785"/>
                </a:lnTo>
                <a:lnTo>
                  <a:pt x="1592" y="2785"/>
                </a:lnTo>
                <a:lnTo>
                  <a:pt x="1581" y="2785"/>
                </a:lnTo>
                <a:lnTo>
                  <a:pt x="1570" y="2785"/>
                </a:lnTo>
                <a:lnTo>
                  <a:pt x="1565" y="2785"/>
                </a:lnTo>
                <a:lnTo>
                  <a:pt x="1554" y="2785"/>
                </a:lnTo>
                <a:lnTo>
                  <a:pt x="1548" y="2785"/>
                </a:lnTo>
                <a:lnTo>
                  <a:pt x="1537" y="2780"/>
                </a:lnTo>
                <a:lnTo>
                  <a:pt x="1532" y="2780"/>
                </a:lnTo>
                <a:lnTo>
                  <a:pt x="1521" y="2780"/>
                </a:lnTo>
                <a:lnTo>
                  <a:pt x="1515" y="2774"/>
                </a:lnTo>
                <a:lnTo>
                  <a:pt x="1505" y="2774"/>
                </a:lnTo>
                <a:lnTo>
                  <a:pt x="1499" y="2769"/>
                </a:lnTo>
                <a:lnTo>
                  <a:pt x="1488" y="2758"/>
                </a:lnTo>
                <a:lnTo>
                  <a:pt x="1483" y="2753"/>
                </a:lnTo>
                <a:close/>
                <a:moveTo>
                  <a:pt x="676" y="2267"/>
                </a:moveTo>
                <a:lnTo>
                  <a:pt x="681" y="2257"/>
                </a:lnTo>
                <a:lnTo>
                  <a:pt x="692" y="2246"/>
                </a:lnTo>
                <a:lnTo>
                  <a:pt x="698" y="2240"/>
                </a:lnTo>
                <a:lnTo>
                  <a:pt x="709" y="2240"/>
                </a:lnTo>
                <a:lnTo>
                  <a:pt x="714" y="2235"/>
                </a:lnTo>
                <a:lnTo>
                  <a:pt x="725" y="2240"/>
                </a:lnTo>
                <a:lnTo>
                  <a:pt x="736" y="2246"/>
                </a:lnTo>
                <a:lnTo>
                  <a:pt x="747" y="2251"/>
                </a:lnTo>
                <a:lnTo>
                  <a:pt x="758" y="2262"/>
                </a:lnTo>
                <a:lnTo>
                  <a:pt x="763" y="2267"/>
                </a:lnTo>
                <a:lnTo>
                  <a:pt x="758" y="2278"/>
                </a:lnTo>
                <a:lnTo>
                  <a:pt x="747" y="2284"/>
                </a:lnTo>
                <a:lnTo>
                  <a:pt x="736" y="2295"/>
                </a:lnTo>
                <a:lnTo>
                  <a:pt x="725" y="2300"/>
                </a:lnTo>
                <a:lnTo>
                  <a:pt x="714" y="2300"/>
                </a:lnTo>
                <a:lnTo>
                  <a:pt x="709" y="2300"/>
                </a:lnTo>
                <a:lnTo>
                  <a:pt x="698" y="2295"/>
                </a:lnTo>
                <a:lnTo>
                  <a:pt x="687" y="2289"/>
                </a:lnTo>
                <a:lnTo>
                  <a:pt x="681" y="2278"/>
                </a:lnTo>
                <a:lnTo>
                  <a:pt x="676" y="2267"/>
                </a:lnTo>
                <a:close/>
                <a:moveTo>
                  <a:pt x="1303" y="671"/>
                </a:moveTo>
                <a:lnTo>
                  <a:pt x="1297" y="660"/>
                </a:lnTo>
                <a:lnTo>
                  <a:pt x="1297" y="649"/>
                </a:lnTo>
                <a:lnTo>
                  <a:pt x="1292" y="638"/>
                </a:lnTo>
                <a:lnTo>
                  <a:pt x="1286" y="632"/>
                </a:lnTo>
                <a:lnTo>
                  <a:pt x="1286" y="621"/>
                </a:lnTo>
                <a:lnTo>
                  <a:pt x="1281" y="611"/>
                </a:lnTo>
                <a:lnTo>
                  <a:pt x="1276" y="605"/>
                </a:lnTo>
                <a:lnTo>
                  <a:pt x="1276" y="594"/>
                </a:lnTo>
                <a:lnTo>
                  <a:pt x="1270" y="583"/>
                </a:lnTo>
                <a:lnTo>
                  <a:pt x="1265" y="578"/>
                </a:lnTo>
                <a:lnTo>
                  <a:pt x="1265" y="567"/>
                </a:lnTo>
                <a:lnTo>
                  <a:pt x="1259" y="556"/>
                </a:lnTo>
                <a:lnTo>
                  <a:pt x="1265" y="551"/>
                </a:lnTo>
                <a:lnTo>
                  <a:pt x="1276" y="545"/>
                </a:lnTo>
                <a:lnTo>
                  <a:pt x="1281" y="545"/>
                </a:lnTo>
                <a:lnTo>
                  <a:pt x="1286" y="545"/>
                </a:lnTo>
                <a:lnTo>
                  <a:pt x="1297" y="545"/>
                </a:lnTo>
                <a:lnTo>
                  <a:pt x="1303" y="545"/>
                </a:lnTo>
                <a:lnTo>
                  <a:pt x="1314" y="545"/>
                </a:lnTo>
                <a:lnTo>
                  <a:pt x="1319" y="545"/>
                </a:lnTo>
                <a:lnTo>
                  <a:pt x="1325" y="551"/>
                </a:lnTo>
                <a:lnTo>
                  <a:pt x="1336" y="551"/>
                </a:lnTo>
                <a:lnTo>
                  <a:pt x="1341" y="562"/>
                </a:lnTo>
                <a:lnTo>
                  <a:pt x="1346" y="562"/>
                </a:lnTo>
                <a:lnTo>
                  <a:pt x="1352" y="567"/>
                </a:lnTo>
                <a:lnTo>
                  <a:pt x="1363" y="572"/>
                </a:lnTo>
                <a:lnTo>
                  <a:pt x="1368" y="572"/>
                </a:lnTo>
                <a:lnTo>
                  <a:pt x="1379" y="572"/>
                </a:lnTo>
                <a:lnTo>
                  <a:pt x="1385" y="572"/>
                </a:lnTo>
                <a:lnTo>
                  <a:pt x="1396" y="572"/>
                </a:lnTo>
                <a:lnTo>
                  <a:pt x="1401" y="578"/>
                </a:lnTo>
                <a:lnTo>
                  <a:pt x="1406" y="578"/>
                </a:lnTo>
                <a:lnTo>
                  <a:pt x="1412" y="583"/>
                </a:lnTo>
                <a:lnTo>
                  <a:pt x="1423" y="589"/>
                </a:lnTo>
                <a:lnTo>
                  <a:pt x="1428" y="594"/>
                </a:lnTo>
                <a:lnTo>
                  <a:pt x="1434" y="600"/>
                </a:lnTo>
                <a:lnTo>
                  <a:pt x="1439" y="605"/>
                </a:lnTo>
                <a:lnTo>
                  <a:pt x="1450" y="611"/>
                </a:lnTo>
                <a:lnTo>
                  <a:pt x="1455" y="611"/>
                </a:lnTo>
                <a:lnTo>
                  <a:pt x="1461" y="616"/>
                </a:lnTo>
                <a:lnTo>
                  <a:pt x="1466" y="621"/>
                </a:lnTo>
                <a:lnTo>
                  <a:pt x="1477" y="627"/>
                </a:lnTo>
                <a:lnTo>
                  <a:pt x="1483" y="632"/>
                </a:lnTo>
                <a:lnTo>
                  <a:pt x="1483" y="638"/>
                </a:lnTo>
                <a:lnTo>
                  <a:pt x="1472" y="643"/>
                </a:lnTo>
                <a:lnTo>
                  <a:pt x="1466" y="649"/>
                </a:lnTo>
                <a:lnTo>
                  <a:pt x="1461" y="654"/>
                </a:lnTo>
                <a:lnTo>
                  <a:pt x="1455" y="654"/>
                </a:lnTo>
                <a:lnTo>
                  <a:pt x="1445" y="660"/>
                </a:lnTo>
                <a:lnTo>
                  <a:pt x="1439" y="660"/>
                </a:lnTo>
                <a:lnTo>
                  <a:pt x="1434" y="660"/>
                </a:lnTo>
                <a:lnTo>
                  <a:pt x="1423" y="660"/>
                </a:lnTo>
                <a:lnTo>
                  <a:pt x="1417" y="660"/>
                </a:lnTo>
                <a:lnTo>
                  <a:pt x="1406" y="660"/>
                </a:lnTo>
                <a:lnTo>
                  <a:pt x="1401" y="660"/>
                </a:lnTo>
                <a:lnTo>
                  <a:pt x="1390" y="660"/>
                </a:lnTo>
                <a:lnTo>
                  <a:pt x="1385" y="665"/>
                </a:lnTo>
                <a:lnTo>
                  <a:pt x="1379" y="665"/>
                </a:lnTo>
                <a:lnTo>
                  <a:pt x="1368" y="671"/>
                </a:lnTo>
                <a:lnTo>
                  <a:pt x="1363" y="676"/>
                </a:lnTo>
                <a:lnTo>
                  <a:pt x="1357" y="681"/>
                </a:lnTo>
                <a:lnTo>
                  <a:pt x="1346" y="681"/>
                </a:lnTo>
                <a:lnTo>
                  <a:pt x="1341" y="681"/>
                </a:lnTo>
                <a:lnTo>
                  <a:pt x="1330" y="681"/>
                </a:lnTo>
                <a:lnTo>
                  <a:pt x="1325" y="681"/>
                </a:lnTo>
                <a:lnTo>
                  <a:pt x="1319" y="681"/>
                </a:lnTo>
                <a:lnTo>
                  <a:pt x="1308" y="676"/>
                </a:lnTo>
                <a:lnTo>
                  <a:pt x="1303" y="671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3" name=""/>
          <p:cNvGrpSpPr/>
          <p:nvPr/>
        </p:nvGrpSpPr>
        <p:grpSpPr>
          <a:xfrm>
            <a:off x="2746440" y="1000080"/>
            <a:ext cx="4059000" cy="5727600"/>
            <a:chOff x="2746440" y="1000080"/>
            <a:chExt cx="4059000" cy="5727600"/>
          </a:xfrm>
        </p:grpSpPr>
        <p:sp>
          <p:nvSpPr>
            <p:cNvPr id="7674" name=""/>
            <p:cNvSpPr/>
            <p:nvPr/>
          </p:nvSpPr>
          <p:spPr>
            <a:xfrm>
              <a:off x="2746440" y="1000080"/>
              <a:ext cx="4059000" cy="5727600"/>
            </a:xfrm>
            <a:custGeom>
              <a:avLst/>
              <a:gdLst/>
              <a:ahLst/>
              <a:rect l="l" t="t" r="r" b="b"/>
              <a:pathLst>
                <a:path w="2557" h="3608">
                  <a:moveTo>
                    <a:pt x="1074" y="3608"/>
                  </a:moveTo>
                  <a:lnTo>
                    <a:pt x="1112" y="3570"/>
                  </a:lnTo>
                  <a:lnTo>
                    <a:pt x="1150" y="3570"/>
                  </a:lnTo>
                  <a:lnTo>
                    <a:pt x="1188" y="3532"/>
                  </a:lnTo>
                  <a:lnTo>
                    <a:pt x="1221" y="3532"/>
                  </a:lnTo>
                  <a:lnTo>
                    <a:pt x="1259" y="3532"/>
                  </a:lnTo>
                  <a:lnTo>
                    <a:pt x="1297" y="3494"/>
                  </a:lnTo>
                  <a:lnTo>
                    <a:pt x="1336" y="3494"/>
                  </a:lnTo>
                  <a:lnTo>
                    <a:pt x="1374" y="3456"/>
                  </a:lnTo>
                  <a:lnTo>
                    <a:pt x="1406" y="3456"/>
                  </a:lnTo>
                  <a:lnTo>
                    <a:pt x="1445" y="3423"/>
                  </a:lnTo>
                  <a:lnTo>
                    <a:pt x="1483" y="3423"/>
                  </a:lnTo>
                  <a:lnTo>
                    <a:pt x="1521" y="3423"/>
                  </a:lnTo>
                  <a:lnTo>
                    <a:pt x="1521" y="3385"/>
                  </a:lnTo>
                  <a:lnTo>
                    <a:pt x="1554" y="3347"/>
                  </a:lnTo>
                  <a:lnTo>
                    <a:pt x="1554" y="3308"/>
                  </a:lnTo>
                  <a:lnTo>
                    <a:pt x="1592" y="3270"/>
                  </a:lnTo>
                  <a:lnTo>
                    <a:pt x="1592" y="3238"/>
                  </a:lnTo>
                  <a:lnTo>
                    <a:pt x="1630" y="3199"/>
                  </a:lnTo>
                  <a:lnTo>
                    <a:pt x="1630" y="3161"/>
                  </a:lnTo>
                  <a:lnTo>
                    <a:pt x="1668" y="3123"/>
                  </a:lnTo>
                  <a:lnTo>
                    <a:pt x="1668" y="3085"/>
                  </a:lnTo>
                  <a:lnTo>
                    <a:pt x="1706" y="3047"/>
                  </a:lnTo>
                  <a:lnTo>
                    <a:pt x="1706" y="3014"/>
                  </a:lnTo>
                  <a:lnTo>
                    <a:pt x="1739" y="2976"/>
                  </a:lnTo>
                  <a:lnTo>
                    <a:pt x="1739" y="2938"/>
                  </a:lnTo>
                  <a:lnTo>
                    <a:pt x="1777" y="2900"/>
                  </a:lnTo>
                  <a:lnTo>
                    <a:pt x="1777" y="2862"/>
                  </a:lnTo>
                  <a:lnTo>
                    <a:pt x="1815" y="2823"/>
                  </a:lnTo>
                  <a:lnTo>
                    <a:pt x="1815" y="2791"/>
                  </a:lnTo>
                  <a:lnTo>
                    <a:pt x="1854" y="2753"/>
                  </a:lnTo>
                  <a:lnTo>
                    <a:pt x="1854" y="2714"/>
                  </a:lnTo>
                  <a:lnTo>
                    <a:pt x="1892" y="2676"/>
                  </a:lnTo>
                  <a:lnTo>
                    <a:pt x="1892" y="2638"/>
                  </a:lnTo>
                  <a:lnTo>
                    <a:pt x="1924" y="2600"/>
                  </a:lnTo>
                  <a:lnTo>
                    <a:pt x="1924" y="2567"/>
                  </a:lnTo>
                  <a:lnTo>
                    <a:pt x="1963" y="2529"/>
                  </a:lnTo>
                  <a:lnTo>
                    <a:pt x="1963" y="2491"/>
                  </a:lnTo>
                  <a:lnTo>
                    <a:pt x="2001" y="2453"/>
                  </a:lnTo>
                  <a:lnTo>
                    <a:pt x="2001" y="2415"/>
                  </a:lnTo>
                  <a:lnTo>
                    <a:pt x="2039" y="2382"/>
                  </a:lnTo>
                  <a:lnTo>
                    <a:pt x="2039" y="2344"/>
                  </a:lnTo>
                  <a:lnTo>
                    <a:pt x="2077" y="2306"/>
                  </a:lnTo>
                  <a:lnTo>
                    <a:pt x="2077" y="2267"/>
                  </a:lnTo>
                  <a:lnTo>
                    <a:pt x="2110" y="2229"/>
                  </a:lnTo>
                  <a:lnTo>
                    <a:pt x="2110" y="2191"/>
                  </a:lnTo>
                  <a:lnTo>
                    <a:pt x="2148" y="2158"/>
                  </a:lnTo>
                  <a:lnTo>
                    <a:pt x="2148" y="2120"/>
                  </a:lnTo>
                  <a:lnTo>
                    <a:pt x="2186" y="2082"/>
                  </a:lnTo>
                  <a:lnTo>
                    <a:pt x="2186" y="2044"/>
                  </a:lnTo>
                  <a:lnTo>
                    <a:pt x="2224" y="2006"/>
                  </a:lnTo>
                  <a:lnTo>
                    <a:pt x="2224" y="1968"/>
                  </a:lnTo>
                  <a:lnTo>
                    <a:pt x="2224" y="1935"/>
                  </a:lnTo>
                  <a:lnTo>
                    <a:pt x="2262" y="1897"/>
                  </a:lnTo>
                  <a:lnTo>
                    <a:pt x="2262" y="1859"/>
                  </a:lnTo>
                  <a:lnTo>
                    <a:pt x="2262" y="1821"/>
                  </a:lnTo>
                  <a:lnTo>
                    <a:pt x="2295" y="1782"/>
                  </a:lnTo>
                  <a:lnTo>
                    <a:pt x="2295" y="1750"/>
                  </a:lnTo>
                  <a:lnTo>
                    <a:pt x="2295" y="1712"/>
                  </a:lnTo>
                  <a:lnTo>
                    <a:pt x="2333" y="1673"/>
                  </a:lnTo>
                  <a:lnTo>
                    <a:pt x="2333" y="1635"/>
                  </a:lnTo>
                  <a:lnTo>
                    <a:pt x="2333" y="1597"/>
                  </a:lnTo>
                  <a:lnTo>
                    <a:pt x="2333" y="1559"/>
                  </a:lnTo>
                  <a:lnTo>
                    <a:pt x="2333" y="1526"/>
                  </a:lnTo>
                  <a:lnTo>
                    <a:pt x="2371" y="1488"/>
                  </a:lnTo>
                  <a:lnTo>
                    <a:pt x="2371" y="1450"/>
                  </a:lnTo>
                  <a:lnTo>
                    <a:pt x="2371" y="1412"/>
                  </a:lnTo>
                  <a:lnTo>
                    <a:pt x="2371" y="1374"/>
                  </a:lnTo>
                  <a:lnTo>
                    <a:pt x="2371" y="1335"/>
                  </a:lnTo>
                  <a:lnTo>
                    <a:pt x="2371" y="1303"/>
                  </a:lnTo>
                  <a:lnTo>
                    <a:pt x="2371" y="1265"/>
                  </a:lnTo>
                  <a:lnTo>
                    <a:pt x="2410" y="1226"/>
                  </a:lnTo>
                  <a:lnTo>
                    <a:pt x="2410" y="1188"/>
                  </a:lnTo>
                  <a:lnTo>
                    <a:pt x="2410" y="1150"/>
                  </a:lnTo>
                  <a:lnTo>
                    <a:pt x="2410" y="1117"/>
                  </a:lnTo>
                  <a:lnTo>
                    <a:pt x="2410" y="1079"/>
                  </a:lnTo>
                  <a:lnTo>
                    <a:pt x="2410" y="1041"/>
                  </a:lnTo>
                  <a:lnTo>
                    <a:pt x="2410" y="1003"/>
                  </a:lnTo>
                  <a:lnTo>
                    <a:pt x="2448" y="965"/>
                  </a:lnTo>
                  <a:lnTo>
                    <a:pt x="2448" y="927"/>
                  </a:lnTo>
                  <a:lnTo>
                    <a:pt x="2448" y="894"/>
                  </a:lnTo>
                  <a:lnTo>
                    <a:pt x="2448" y="856"/>
                  </a:lnTo>
                  <a:lnTo>
                    <a:pt x="2448" y="818"/>
                  </a:lnTo>
                  <a:lnTo>
                    <a:pt x="2448" y="780"/>
                  </a:lnTo>
                  <a:lnTo>
                    <a:pt x="2448" y="741"/>
                  </a:lnTo>
                  <a:lnTo>
                    <a:pt x="2481" y="703"/>
                  </a:lnTo>
                  <a:lnTo>
                    <a:pt x="2481" y="671"/>
                  </a:lnTo>
                  <a:lnTo>
                    <a:pt x="2481" y="632"/>
                  </a:lnTo>
                  <a:lnTo>
                    <a:pt x="2481" y="594"/>
                  </a:lnTo>
                  <a:lnTo>
                    <a:pt x="2481" y="556"/>
                  </a:lnTo>
                  <a:lnTo>
                    <a:pt x="2481" y="518"/>
                  </a:lnTo>
                  <a:lnTo>
                    <a:pt x="2481" y="485"/>
                  </a:lnTo>
                  <a:lnTo>
                    <a:pt x="2519" y="447"/>
                  </a:lnTo>
                  <a:lnTo>
                    <a:pt x="2519" y="409"/>
                  </a:lnTo>
                  <a:lnTo>
                    <a:pt x="2519" y="371"/>
                  </a:lnTo>
                  <a:lnTo>
                    <a:pt x="2519" y="333"/>
                  </a:lnTo>
                  <a:lnTo>
                    <a:pt x="2519" y="294"/>
                  </a:lnTo>
                  <a:lnTo>
                    <a:pt x="2519" y="262"/>
                  </a:lnTo>
                  <a:lnTo>
                    <a:pt x="2519" y="224"/>
                  </a:lnTo>
                  <a:lnTo>
                    <a:pt x="2557" y="185"/>
                  </a:lnTo>
                  <a:lnTo>
                    <a:pt x="2557" y="147"/>
                  </a:lnTo>
                  <a:lnTo>
                    <a:pt x="2557" y="109"/>
                  </a:lnTo>
                  <a:lnTo>
                    <a:pt x="2557" y="71"/>
                  </a:lnTo>
                  <a:lnTo>
                    <a:pt x="2557" y="38"/>
                  </a:lnTo>
                  <a:lnTo>
                    <a:pt x="2557" y="0"/>
                  </a:lnTo>
                  <a:lnTo>
                    <a:pt x="2519" y="0"/>
                  </a:lnTo>
                  <a:lnTo>
                    <a:pt x="2481" y="0"/>
                  </a:lnTo>
                  <a:lnTo>
                    <a:pt x="2448" y="0"/>
                  </a:lnTo>
                  <a:lnTo>
                    <a:pt x="2410" y="0"/>
                  </a:lnTo>
                  <a:lnTo>
                    <a:pt x="2371" y="38"/>
                  </a:lnTo>
                  <a:lnTo>
                    <a:pt x="2333" y="38"/>
                  </a:lnTo>
                  <a:lnTo>
                    <a:pt x="2295" y="38"/>
                  </a:lnTo>
                  <a:lnTo>
                    <a:pt x="2262" y="71"/>
                  </a:lnTo>
                  <a:lnTo>
                    <a:pt x="2224" y="71"/>
                  </a:lnTo>
                  <a:lnTo>
                    <a:pt x="2186" y="71"/>
                  </a:lnTo>
                  <a:lnTo>
                    <a:pt x="2148" y="109"/>
                  </a:lnTo>
                  <a:lnTo>
                    <a:pt x="2110" y="109"/>
                  </a:lnTo>
                  <a:lnTo>
                    <a:pt x="2077" y="147"/>
                  </a:lnTo>
                  <a:lnTo>
                    <a:pt x="2039" y="147"/>
                  </a:lnTo>
                  <a:lnTo>
                    <a:pt x="2001" y="147"/>
                  </a:lnTo>
                  <a:lnTo>
                    <a:pt x="1963" y="185"/>
                  </a:lnTo>
                  <a:lnTo>
                    <a:pt x="1924" y="185"/>
                  </a:lnTo>
                  <a:lnTo>
                    <a:pt x="1892" y="185"/>
                  </a:lnTo>
                  <a:lnTo>
                    <a:pt x="1854" y="224"/>
                  </a:lnTo>
                  <a:lnTo>
                    <a:pt x="1815" y="224"/>
                  </a:lnTo>
                  <a:lnTo>
                    <a:pt x="1777" y="224"/>
                  </a:lnTo>
                  <a:lnTo>
                    <a:pt x="1739" y="262"/>
                  </a:lnTo>
                  <a:lnTo>
                    <a:pt x="1706" y="262"/>
                  </a:lnTo>
                  <a:lnTo>
                    <a:pt x="1668" y="262"/>
                  </a:lnTo>
                  <a:lnTo>
                    <a:pt x="1630" y="294"/>
                  </a:lnTo>
                  <a:lnTo>
                    <a:pt x="1592" y="294"/>
                  </a:lnTo>
                  <a:lnTo>
                    <a:pt x="1554" y="294"/>
                  </a:lnTo>
                  <a:lnTo>
                    <a:pt x="1521" y="333"/>
                  </a:lnTo>
                  <a:lnTo>
                    <a:pt x="1483" y="333"/>
                  </a:lnTo>
                  <a:lnTo>
                    <a:pt x="1445" y="333"/>
                  </a:lnTo>
                  <a:lnTo>
                    <a:pt x="1406" y="371"/>
                  </a:lnTo>
                  <a:lnTo>
                    <a:pt x="1374" y="371"/>
                  </a:lnTo>
                  <a:lnTo>
                    <a:pt x="1336" y="409"/>
                  </a:lnTo>
                  <a:lnTo>
                    <a:pt x="1297" y="409"/>
                  </a:lnTo>
                  <a:lnTo>
                    <a:pt x="1259" y="409"/>
                  </a:lnTo>
                  <a:lnTo>
                    <a:pt x="1221" y="447"/>
                  </a:lnTo>
                  <a:lnTo>
                    <a:pt x="1188" y="447"/>
                  </a:lnTo>
                  <a:lnTo>
                    <a:pt x="1150" y="447"/>
                  </a:lnTo>
                  <a:lnTo>
                    <a:pt x="1112" y="485"/>
                  </a:lnTo>
                  <a:lnTo>
                    <a:pt x="1074" y="485"/>
                  </a:lnTo>
                  <a:lnTo>
                    <a:pt x="1036" y="485"/>
                  </a:lnTo>
                  <a:lnTo>
                    <a:pt x="1003" y="518"/>
                  </a:lnTo>
                  <a:lnTo>
                    <a:pt x="965" y="518"/>
                  </a:lnTo>
                  <a:lnTo>
                    <a:pt x="927" y="518"/>
                  </a:lnTo>
                  <a:lnTo>
                    <a:pt x="888" y="556"/>
                  </a:lnTo>
                  <a:lnTo>
                    <a:pt x="850" y="556"/>
                  </a:lnTo>
                  <a:lnTo>
                    <a:pt x="818" y="556"/>
                  </a:lnTo>
                  <a:lnTo>
                    <a:pt x="779" y="594"/>
                  </a:lnTo>
                  <a:lnTo>
                    <a:pt x="741" y="594"/>
                  </a:lnTo>
                  <a:lnTo>
                    <a:pt x="703" y="594"/>
                  </a:lnTo>
                  <a:lnTo>
                    <a:pt x="665" y="632"/>
                  </a:lnTo>
                  <a:lnTo>
                    <a:pt x="632" y="632"/>
                  </a:lnTo>
                  <a:lnTo>
                    <a:pt x="594" y="632"/>
                  </a:lnTo>
                  <a:lnTo>
                    <a:pt x="556" y="671"/>
                  </a:lnTo>
                  <a:lnTo>
                    <a:pt x="518" y="671"/>
                  </a:lnTo>
                  <a:lnTo>
                    <a:pt x="480" y="703"/>
                  </a:lnTo>
                  <a:lnTo>
                    <a:pt x="447" y="703"/>
                  </a:lnTo>
                  <a:lnTo>
                    <a:pt x="409" y="703"/>
                  </a:lnTo>
                  <a:lnTo>
                    <a:pt x="370" y="741"/>
                  </a:lnTo>
                  <a:lnTo>
                    <a:pt x="332" y="741"/>
                  </a:lnTo>
                  <a:lnTo>
                    <a:pt x="300" y="741"/>
                  </a:lnTo>
                  <a:lnTo>
                    <a:pt x="261" y="780"/>
                  </a:lnTo>
                  <a:lnTo>
                    <a:pt x="251" y="780"/>
                  </a:lnTo>
                  <a:lnTo>
                    <a:pt x="256" y="790"/>
                  </a:lnTo>
                  <a:lnTo>
                    <a:pt x="256" y="796"/>
                  </a:lnTo>
                  <a:lnTo>
                    <a:pt x="261" y="807"/>
                  </a:lnTo>
                  <a:lnTo>
                    <a:pt x="267" y="818"/>
                  </a:lnTo>
                  <a:lnTo>
                    <a:pt x="261" y="823"/>
                  </a:lnTo>
                  <a:lnTo>
                    <a:pt x="256" y="834"/>
                  </a:lnTo>
                  <a:lnTo>
                    <a:pt x="256" y="845"/>
                  </a:lnTo>
                  <a:lnTo>
                    <a:pt x="251" y="850"/>
                  </a:lnTo>
                  <a:lnTo>
                    <a:pt x="245" y="861"/>
                  </a:lnTo>
                  <a:lnTo>
                    <a:pt x="240" y="867"/>
                  </a:lnTo>
                  <a:lnTo>
                    <a:pt x="234" y="872"/>
                  </a:lnTo>
                  <a:lnTo>
                    <a:pt x="229" y="883"/>
                  </a:lnTo>
                  <a:lnTo>
                    <a:pt x="223" y="889"/>
                  </a:lnTo>
                  <a:lnTo>
                    <a:pt x="218" y="899"/>
                  </a:lnTo>
                  <a:lnTo>
                    <a:pt x="218" y="905"/>
                  </a:lnTo>
                  <a:lnTo>
                    <a:pt x="212" y="916"/>
                  </a:lnTo>
                  <a:lnTo>
                    <a:pt x="207" y="927"/>
                  </a:lnTo>
                  <a:lnTo>
                    <a:pt x="201" y="932"/>
                  </a:lnTo>
                  <a:lnTo>
                    <a:pt x="196" y="943"/>
                  </a:lnTo>
                  <a:lnTo>
                    <a:pt x="191" y="949"/>
                  </a:lnTo>
                  <a:lnTo>
                    <a:pt x="191" y="959"/>
                  </a:lnTo>
                  <a:lnTo>
                    <a:pt x="185" y="970"/>
                  </a:lnTo>
                  <a:lnTo>
                    <a:pt x="185" y="981"/>
                  </a:lnTo>
                  <a:lnTo>
                    <a:pt x="185" y="992"/>
                  </a:lnTo>
                  <a:lnTo>
                    <a:pt x="180" y="998"/>
                  </a:lnTo>
                  <a:lnTo>
                    <a:pt x="180" y="1008"/>
                  </a:lnTo>
                  <a:lnTo>
                    <a:pt x="180" y="1019"/>
                  </a:lnTo>
                  <a:lnTo>
                    <a:pt x="180" y="1030"/>
                  </a:lnTo>
                  <a:lnTo>
                    <a:pt x="180" y="1041"/>
                  </a:lnTo>
                  <a:lnTo>
                    <a:pt x="180" y="1052"/>
                  </a:lnTo>
                  <a:lnTo>
                    <a:pt x="174" y="1063"/>
                  </a:lnTo>
                  <a:lnTo>
                    <a:pt x="174" y="1074"/>
                  </a:lnTo>
                  <a:lnTo>
                    <a:pt x="174" y="1085"/>
                  </a:lnTo>
                  <a:lnTo>
                    <a:pt x="174" y="1096"/>
                  </a:lnTo>
                  <a:lnTo>
                    <a:pt x="174" y="1107"/>
                  </a:lnTo>
                  <a:lnTo>
                    <a:pt x="169" y="1117"/>
                  </a:lnTo>
                  <a:lnTo>
                    <a:pt x="169" y="1123"/>
                  </a:lnTo>
                  <a:lnTo>
                    <a:pt x="169" y="1134"/>
                  </a:lnTo>
                  <a:lnTo>
                    <a:pt x="169" y="1145"/>
                  </a:lnTo>
                  <a:lnTo>
                    <a:pt x="163" y="1156"/>
                  </a:lnTo>
                  <a:lnTo>
                    <a:pt x="163" y="1167"/>
                  </a:lnTo>
                  <a:lnTo>
                    <a:pt x="163" y="1177"/>
                  </a:lnTo>
                  <a:lnTo>
                    <a:pt x="163" y="1188"/>
                  </a:lnTo>
                  <a:lnTo>
                    <a:pt x="158" y="1199"/>
                  </a:lnTo>
                  <a:lnTo>
                    <a:pt x="158" y="1210"/>
                  </a:lnTo>
                  <a:lnTo>
                    <a:pt x="158" y="1221"/>
                  </a:lnTo>
                  <a:lnTo>
                    <a:pt x="158" y="1232"/>
                  </a:lnTo>
                  <a:lnTo>
                    <a:pt x="152" y="1237"/>
                  </a:lnTo>
                  <a:lnTo>
                    <a:pt x="152" y="1248"/>
                  </a:lnTo>
                  <a:lnTo>
                    <a:pt x="152" y="1259"/>
                  </a:lnTo>
                  <a:lnTo>
                    <a:pt x="147" y="1270"/>
                  </a:lnTo>
                  <a:lnTo>
                    <a:pt x="147" y="1281"/>
                  </a:lnTo>
                  <a:lnTo>
                    <a:pt x="147" y="1292"/>
                  </a:lnTo>
                  <a:lnTo>
                    <a:pt x="147" y="1303"/>
                  </a:lnTo>
                  <a:lnTo>
                    <a:pt x="141" y="1314"/>
                  </a:lnTo>
                  <a:lnTo>
                    <a:pt x="141" y="1325"/>
                  </a:lnTo>
                  <a:lnTo>
                    <a:pt x="141" y="1335"/>
                  </a:lnTo>
                  <a:lnTo>
                    <a:pt x="141" y="1341"/>
                  </a:lnTo>
                  <a:lnTo>
                    <a:pt x="136" y="1352"/>
                  </a:lnTo>
                  <a:lnTo>
                    <a:pt x="136" y="1363"/>
                  </a:lnTo>
                  <a:lnTo>
                    <a:pt x="136" y="1374"/>
                  </a:lnTo>
                  <a:lnTo>
                    <a:pt x="131" y="1385"/>
                  </a:lnTo>
                  <a:lnTo>
                    <a:pt x="131" y="1395"/>
                  </a:lnTo>
                  <a:lnTo>
                    <a:pt x="131" y="1406"/>
                  </a:lnTo>
                  <a:lnTo>
                    <a:pt x="131" y="1417"/>
                  </a:lnTo>
                  <a:lnTo>
                    <a:pt x="125" y="1428"/>
                  </a:lnTo>
                  <a:lnTo>
                    <a:pt x="125" y="1439"/>
                  </a:lnTo>
                  <a:lnTo>
                    <a:pt x="125" y="1444"/>
                  </a:lnTo>
                  <a:lnTo>
                    <a:pt x="120" y="1455"/>
                  </a:lnTo>
                  <a:lnTo>
                    <a:pt x="120" y="1466"/>
                  </a:lnTo>
                  <a:lnTo>
                    <a:pt x="120" y="1477"/>
                  </a:lnTo>
                  <a:lnTo>
                    <a:pt x="120" y="1488"/>
                  </a:lnTo>
                  <a:lnTo>
                    <a:pt x="114" y="1499"/>
                  </a:lnTo>
                  <a:lnTo>
                    <a:pt x="114" y="1510"/>
                  </a:lnTo>
                  <a:lnTo>
                    <a:pt x="114" y="1521"/>
                  </a:lnTo>
                  <a:lnTo>
                    <a:pt x="114" y="1532"/>
                  </a:lnTo>
                  <a:lnTo>
                    <a:pt x="109" y="1543"/>
                  </a:lnTo>
                  <a:lnTo>
                    <a:pt x="109" y="1548"/>
                  </a:lnTo>
                  <a:lnTo>
                    <a:pt x="109" y="1559"/>
                  </a:lnTo>
                  <a:lnTo>
                    <a:pt x="103" y="1570"/>
                  </a:lnTo>
                  <a:lnTo>
                    <a:pt x="103" y="1581"/>
                  </a:lnTo>
                  <a:lnTo>
                    <a:pt x="103" y="1592"/>
                  </a:lnTo>
                  <a:lnTo>
                    <a:pt x="103" y="1603"/>
                  </a:lnTo>
                  <a:lnTo>
                    <a:pt x="98" y="1613"/>
                  </a:lnTo>
                  <a:lnTo>
                    <a:pt x="98" y="1624"/>
                  </a:lnTo>
                  <a:lnTo>
                    <a:pt x="98" y="1635"/>
                  </a:lnTo>
                  <a:lnTo>
                    <a:pt x="92" y="1646"/>
                  </a:lnTo>
                  <a:lnTo>
                    <a:pt x="92" y="1652"/>
                  </a:lnTo>
                  <a:lnTo>
                    <a:pt x="92" y="1662"/>
                  </a:lnTo>
                  <a:lnTo>
                    <a:pt x="92" y="1673"/>
                  </a:lnTo>
                  <a:lnTo>
                    <a:pt x="87" y="1684"/>
                  </a:lnTo>
                  <a:lnTo>
                    <a:pt x="87" y="1695"/>
                  </a:lnTo>
                  <a:lnTo>
                    <a:pt x="87" y="1706"/>
                  </a:lnTo>
                  <a:lnTo>
                    <a:pt x="87" y="1717"/>
                  </a:lnTo>
                  <a:lnTo>
                    <a:pt x="82" y="1728"/>
                  </a:lnTo>
                  <a:lnTo>
                    <a:pt x="82" y="1739"/>
                  </a:lnTo>
                  <a:lnTo>
                    <a:pt x="82" y="1750"/>
                  </a:lnTo>
                  <a:lnTo>
                    <a:pt x="76" y="1755"/>
                  </a:lnTo>
                  <a:lnTo>
                    <a:pt x="76" y="1766"/>
                  </a:lnTo>
                  <a:lnTo>
                    <a:pt x="76" y="1777"/>
                  </a:lnTo>
                  <a:lnTo>
                    <a:pt x="76" y="1788"/>
                  </a:lnTo>
                  <a:lnTo>
                    <a:pt x="71" y="1799"/>
                  </a:lnTo>
                  <a:lnTo>
                    <a:pt x="71" y="1810"/>
                  </a:lnTo>
                  <a:lnTo>
                    <a:pt x="71" y="1821"/>
                  </a:lnTo>
                  <a:lnTo>
                    <a:pt x="71" y="1831"/>
                  </a:lnTo>
                  <a:lnTo>
                    <a:pt x="65" y="1842"/>
                  </a:lnTo>
                  <a:lnTo>
                    <a:pt x="65" y="1853"/>
                  </a:lnTo>
                  <a:lnTo>
                    <a:pt x="65" y="1859"/>
                  </a:lnTo>
                  <a:lnTo>
                    <a:pt x="60" y="1870"/>
                  </a:lnTo>
                  <a:lnTo>
                    <a:pt x="60" y="1881"/>
                  </a:lnTo>
                  <a:lnTo>
                    <a:pt x="60" y="1891"/>
                  </a:lnTo>
                  <a:lnTo>
                    <a:pt x="60" y="1902"/>
                  </a:lnTo>
                  <a:lnTo>
                    <a:pt x="54" y="1913"/>
                  </a:lnTo>
                  <a:lnTo>
                    <a:pt x="54" y="1924"/>
                  </a:lnTo>
                  <a:lnTo>
                    <a:pt x="54" y="1935"/>
                  </a:lnTo>
                  <a:lnTo>
                    <a:pt x="49" y="1946"/>
                  </a:lnTo>
                  <a:lnTo>
                    <a:pt x="49" y="1957"/>
                  </a:lnTo>
                  <a:lnTo>
                    <a:pt x="49" y="1962"/>
                  </a:lnTo>
                  <a:lnTo>
                    <a:pt x="49" y="1973"/>
                  </a:lnTo>
                  <a:lnTo>
                    <a:pt x="43" y="1984"/>
                  </a:lnTo>
                  <a:lnTo>
                    <a:pt x="43" y="1995"/>
                  </a:lnTo>
                  <a:lnTo>
                    <a:pt x="43" y="2006"/>
                  </a:lnTo>
                  <a:lnTo>
                    <a:pt x="43" y="2017"/>
                  </a:lnTo>
                  <a:lnTo>
                    <a:pt x="38" y="2028"/>
                  </a:lnTo>
                  <a:lnTo>
                    <a:pt x="38" y="2039"/>
                  </a:lnTo>
                  <a:lnTo>
                    <a:pt x="38" y="2044"/>
                  </a:lnTo>
                  <a:lnTo>
                    <a:pt x="38" y="2082"/>
                  </a:lnTo>
                  <a:lnTo>
                    <a:pt x="38" y="2120"/>
                  </a:lnTo>
                  <a:lnTo>
                    <a:pt x="38" y="2158"/>
                  </a:lnTo>
                  <a:lnTo>
                    <a:pt x="38" y="2191"/>
                  </a:lnTo>
                  <a:lnTo>
                    <a:pt x="38" y="2229"/>
                  </a:lnTo>
                  <a:lnTo>
                    <a:pt x="38" y="2267"/>
                  </a:lnTo>
                  <a:lnTo>
                    <a:pt x="38" y="2306"/>
                  </a:lnTo>
                  <a:lnTo>
                    <a:pt x="0" y="2344"/>
                  </a:lnTo>
                  <a:lnTo>
                    <a:pt x="0" y="2382"/>
                  </a:lnTo>
                  <a:lnTo>
                    <a:pt x="0" y="2415"/>
                  </a:lnTo>
                  <a:lnTo>
                    <a:pt x="0" y="2453"/>
                  </a:lnTo>
                  <a:lnTo>
                    <a:pt x="0" y="2491"/>
                  </a:lnTo>
                  <a:lnTo>
                    <a:pt x="0" y="2529"/>
                  </a:lnTo>
                  <a:lnTo>
                    <a:pt x="0" y="2567"/>
                  </a:lnTo>
                  <a:lnTo>
                    <a:pt x="0" y="2600"/>
                  </a:lnTo>
                  <a:lnTo>
                    <a:pt x="0" y="2638"/>
                  </a:lnTo>
                  <a:lnTo>
                    <a:pt x="0" y="2676"/>
                  </a:lnTo>
                  <a:lnTo>
                    <a:pt x="0" y="2714"/>
                  </a:lnTo>
                  <a:lnTo>
                    <a:pt x="0" y="2753"/>
                  </a:lnTo>
                  <a:lnTo>
                    <a:pt x="0" y="2791"/>
                  </a:lnTo>
                  <a:lnTo>
                    <a:pt x="0" y="2823"/>
                  </a:lnTo>
                  <a:lnTo>
                    <a:pt x="0" y="2862"/>
                  </a:lnTo>
                  <a:lnTo>
                    <a:pt x="0" y="2900"/>
                  </a:lnTo>
                  <a:lnTo>
                    <a:pt x="0" y="2938"/>
                  </a:lnTo>
                  <a:lnTo>
                    <a:pt x="0" y="2976"/>
                  </a:lnTo>
                  <a:lnTo>
                    <a:pt x="0" y="3014"/>
                  </a:lnTo>
                  <a:lnTo>
                    <a:pt x="32" y="3014"/>
                  </a:lnTo>
                  <a:lnTo>
                    <a:pt x="27" y="3003"/>
                  </a:lnTo>
                  <a:lnTo>
                    <a:pt x="22" y="2992"/>
                  </a:lnTo>
                  <a:lnTo>
                    <a:pt x="16" y="2981"/>
                  </a:lnTo>
                  <a:lnTo>
                    <a:pt x="16" y="2976"/>
                  </a:lnTo>
                  <a:lnTo>
                    <a:pt x="22" y="2971"/>
                  </a:lnTo>
                  <a:lnTo>
                    <a:pt x="27" y="2965"/>
                  </a:lnTo>
                  <a:lnTo>
                    <a:pt x="32" y="2960"/>
                  </a:lnTo>
                  <a:lnTo>
                    <a:pt x="43" y="2954"/>
                  </a:lnTo>
                  <a:lnTo>
                    <a:pt x="43" y="2949"/>
                  </a:lnTo>
                  <a:lnTo>
                    <a:pt x="49" y="2938"/>
                  </a:lnTo>
                  <a:lnTo>
                    <a:pt x="54" y="2932"/>
                  </a:lnTo>
                  <a:lnTo>
                    <a:pt x="65" y="2927"/>
                  </a:lnTo>
                  <a:lnTo>
                    <a:pt x="71" y="2922"/>
                  </a:lnTo>
                  <a:lnTo>
                    <a:pt x="76" y="2916"/>
                  </a:lnTo>
                  <a:lnTo>
                    <a:pt x="82" y="2911"/>
                  </a:lnTo>
                  <a:lnTo>
                    <a:pt x="87" y="2905"/>
                  </a:lnTo>
                  <a:lnTo>
                    <a:pt x="92" y="2894"/>
                  </a:lnTo>
                  <a:lnTo>
                    <a:pt x="98" y="2889"/>
                  </a:lnTo>
                  <a:lnTo>
                    <a:pt x="103" y="2883"/>
                  </a:lnTo>
                  <a:lnTo>
                    <a:pt x="109" y="2878"/>
                  </a:lnTo>
                  <a:lnTo>
                    <a:pt x="114" y="2872"/>
                  </a:lnTo>
                  <a:lnTo>
                    <a:pt x="120" y="2862"/>
                  </a:lnTo>
                  <a:lnTo>
                    <a:pt x="125" y="2856"/>
                  </a:lnTo>
                  <a:lnTo>
                    <a:pt x="131" y="2851"/>
                  </a:lnTo>
                  <a:lnTo>
                    <a:pt x="136" y="2845"/>
                  </a:lnTo>
                  <a:lnTo>
                    <a:pt x="141" y="2834"/>
                  </a:lnTo>
                  <a:lnTo>
                    <a:pt x="147" y="2829"/>
                  </a:lnTo>
                  <a:lnTo>
                    <a:pt x="152" y="2823"/>
                  </a:lnTo>
                  <a:lnTo>
                    <a:pt x="158" y="2818"/>
                  </a:lnTo>
                  <a:lnTo>
                    <a:pt x="163" y="2807"/>
                  </a:lnTo>
                  <a:lnTo>
                    <a:pt x="169" y="2802"/>
                  </a:lnTo>
                  <a:lnTo>
                    <a:pt x="174" y="2796"/>
                  </a:lnTo>
                  <a:lnTo>
                    <a:pt x="180" y="2791"/>
                  </a:lnTo>
                  <a:lnTo>
                    <a:pt x="185" y="2785"/>
                  </a:lnTo>
                  <a:lnTo>
                    <a:pt x="191" y="2774"/>
                  </a:lnTo>
                  <a:lnTo>
                    <a:pt x="196" y="2769"/>
                  </a:lnTo>
                  <a:lnTo>
                    <a:pt x="201" y="2763"/>
                  </a:lnTo>
                  <a:lnTo>
                    <a:pt x="207" y="2758"/>
                  </a:lnTo>
                  <a:lnTo>
                    <a:pt x="212" y="2747"/>
                  </a:lnTo>
                  <a:lnTo>
                    <a:pt x="218" y="2742"/>
                  </a:lnTo>
                  <a:lnTo>
                    <a:pt x="223" y="2736"/>
                  </a:lnTo>
                  <a:lnTo>
                    <a:pt x="229" y="2731"/>
                  </a:lnTo>
                  <a:lnTo>
                    <a:pt x="234" y="2725"/>
                  </a:lnTo>
                  <a:lnTo>
                    <a:pt x="240" y="2714"/>
                  </a:lnTo>
                  <a:lnTo>
                    <a:pt x="245" y="2709"/>
                  </a:lnTo>
                  <a:lnTo>
                    <a:pt x="251" y="2703"/>
                  </a:lnTo>
                  <a:lnTo>
                    <a:pt x="256" y="2698"/>
                  </a:lnTo>
                  <a:lnTo>
                    <a:pt x="261" y="2693"/>
                  </a:lnTo>
                  <a:lnTo>
                    <a:pt x="267" y="2687"/>
                  </a:lnTo>
                  <a:lnTo>
                    <a:pt x="278" y="2682"/>
                  </a:lnTo>
                  <a:lnTo>
                    <a:pt x="283" y="2671"/>
                  </a:lnTo>
                  <a:lnTo>
                    <a:pt x="283" y="2665"/>
                  </a:lnTo>
                  <a:lnTo>
                    <a:pt x="289" y="2654"/>
                  </a:lnTo>
                  <a:lnTo>
                    <a:pt x="300" y="2654"/>
                  </a:lnTo>
                  <a:lnTo>
                    <a:pt x="305" y="2649"/>
                  </a:lnTo>
                  <a:lnTo>
                    <a:pt x="316" y="2654"/>
                  </a:lnTo>
                  <a:lnTo>
                    <a:pt x="321" y="2654"/>
                  </a:lnTo>
                  <a:lnTo>
                    <a:pt x="327" y="2649"/>
                  </a:lnTo>
                  <a:lnTo>
                    <a:pt x="332" y="2644"/>
                  </a:lnTo>
                  <a:lnTo>
                    <a:pt x="332" y="2644"/>
                  </a:lnTo>
                  <a:lnTo>
                    <a:pt x="332" y="2649"/>
                  </a:lnTo>
                  <a:lnTo>
                    <a:pt x="327" y="2660"/>
                  </a:lnTo>
                  <a:lnTo>
                    <a:pt x="327" y="2671"/>
                  </a:lnTo>
                  <a:lnTo>
                    <a:pt x="321" y="2682"/>
                  </a:lnTo>
                  <a:lnTo>
                    <a:pt x="321" y="2687"/>
                  </a:lnTo>
                  <a:lnTo>
                    <a:pt x="316" y="2698"/>
                  </a:lnTo>
                  <a:lnTo>
                    <a:pt x="316" y="2709"/>
                  </a:lnTo>
                  <a:lnTo>
                    <a:pt x="311" y="2720"/>
                  </a:lnTo>
                  <a:lnTo>
                    <a:pt x="311" y="2725"/>
                  </a:lnTo>
                  <a:lnTo>
                    <a:pt x="305" y="2736"/>
                  </a:lnTo>
                  <a:lnTo>
                    <a:pt x="305" y="2747"/>
                  </a:lnTo>
                  <a:lnTo>
                    <a:pt x="300" y="2758"/>
                  </a:lnTo>
                  <a:lnTo>
                    <a:pt x="300" y="2763"/>
                  </a:lnTo>
                  <a:lnTo>
                    <a:pt x="294" y="2774"/>
                  </a:lnTo>
                  <a:lnTo>
                    <a:pt x="294" y="2785"/>
                  </a:lnTo>
                  <a:lnTo>
                    <a:pt x="294" y="2796"/>
                  </a:lnTo>
                  <a:lnTo>
                    <a:pt x="289" y="2802"/>
                  </a:lnTo>
                  <a:lnTo>
                    <a:pt x="289" y="2813"/>
                  </a:lnTo>
                  <a:lnTo>
                    <a:pt x="283" y="2823"/>
                  </a:lnTo>
                  <a:lnTo>
                    <a:pt x="283" y="2834"/>
                  </a:lnTo>
                  <a:lnTo>
                    <a:pt x="278" y="2840"/>
                  </a:lnTo>
                  <a:lnTo>
                    <a:pt x="278" y="2851"/>
                  </a:lnTo>
                  <a:lnTo>
                    <a:pt x="272" y="2862"/>
                  </a:lnTo>
                  <a:lnTo>
                    <a:pt x="272" y="2872"/>
                  </a:lnTo>
                  <a:lnTo>
                    <a:pt x="267" y="2878"/>
                  </a:lnTo>
                  <a:lnTo>
                    <a:pt x="267" y="2889"/>
                  </a:lnTo>
                  <a:lnTo>
                    <a:pt x="261" y="2900"/>
                  </a:lnTo>
                  <a:lnTo>
                    <a:pt x="261" y="2911"/>
                  </a:lnTo>
                  <a:lnTo>
                    <a:pt x="256" y="2916"/>
                  </a:lnTo>
                  <a:lnTo>
                    <a:pt x="256" y="2927"/>
                  </a:lnTo>
                  <a:lnTo>
                    <a:pt x="251" y="2938"/>
                  </a:lnTo>
                  <a:lnTo>
                    <a:pt x="251" y="2943"/>
                  </a:lnTo>
                  <a:lnTo>
                    <a:pt x="245" y="2954"/>
                  </a:lnTo>
                  <a:lnTo>
                    <a:pt x="245" y="2965"/>
                  </a:lnTo>
                  <a:lnTo>
                    <a:pt x="240" y="2976"/>
                  </a:lnTo>
                  <a:lnTo>
                    <a:pt x="240" y="2987"/>
                  </a:lnTo>
                  <a:lnTo>
                    <a:pt x="240" y="2998"/>
                  </a:lnTo>
                  <a:lnTo>
                    <a:pt x="240" y="3003"/>
                  </a:lnTo>
                  <a:lnTo>
                    <a:pt x="245" y="3014"/>
                  </a:lnTo>
                  <a:lnTo>
                    <a:pt x="245" y="3025"/>
                  </a:lnTo>
                  <a:lnTo>
                    <a:pt x="251" y="3031"/>
                  </a:lnTo>
                  <a:lnTo>
                    <a:pt x="256" y="3041"/>
                  </a:lnTo>
                  <a:lnTo>
                    <a:pt x="261" y="3052"/>
                  </a:lnTo>
                  <a:lnTo>
                    <a:pt x="267" y="3058"/>
                  </a:lnTo>
                  <a:lnTo>
                    <a:pt x="272" y="3069"/>
                  </a:lnTo>
                  <a:lnTo>
                    <a:pt x="272" y="3080"/>
                  </a:lnTo>
                  <a:lnTo>
                    <a:pt x="278" y="3085"/>
                  </a:lnTo>
                  <a:lnTo>
                    <a:pt x="272" y="3090"/>
                  </a:lnTo>
                  <a:lnTo>
                    <a:pt x="261" y="3096"/>
                  </a:lnTo>
                  <a:lnTo>
                    <a:pt x="256" y="3096"/>
                  </a:lnTo>
                  <a:lnTo>
                    <a:pt x="251" y="3090"/>
                  </a:lnTo>
                  <a:lnTo>
                    <a:pt x="240" y="3085"/>
                  </a:lnTo>
                  <a:lnTo>
                    <a:pt x="234" y="3085"/>
                  </a:lnTo>
                  <a:lnTo>
                    <a:pt x="229" y="3080"/>
                  </a:lnTo>
                  <a:lnTo>
                    <a:pt x="223" y="3074"/>
                  </a:lnTo>
                  <a:lnTo>
                    <a:pt x="212" y="3074"/>
                  </a:lnTo>
                  <a:lnTo>
                    <a:pt x="207" y="3074"/>
                  </a:lnTo>
                  <a:lnTo>
                    <a:pt x="201" y="3074"/>
                  </a:lnTo>
                  <a:lnTo>
                    <a:pt x="191" y="3074"/>
                  </a:lnTo>
                  <a:lnTo>
                    <a:pt x="185" y="3069"/>
                  </a:lnTo>
                  <a:lnTo>
                    <a:pt x="180" y="3069"/>
                  </a:lnTo>
                  <a:lnTo>
                    <a:pt x="169" y="3069"/>
                  </a:lnTo>
                  <a:lnTo>
                    <a:pt x="163" y="3069"/>
                  </a:lnTo>
                  <a:lnTo>
                    <a:pt x="158" y="3069"/>
                  </a:lnTo>
                  <a:lnTo>
                    <a:pt x="147" y="3069"/>
                  </a:lnTo>
                  <a:lnTo>
                    <a:pt x="147" y="3085"/>
                  </a:lnTo>
                  <a:lnTo>
                    <a:pt x="185" y="3123"/>
                  </a:lnTo>
                  <a:lnTo>
                    <a:pt x="223" y="3123"/>
                  </a:lnTo>
                  <a:lnTo>
                    <a:pt x="261" y="3161"/>
                  </a:lnTo>
                  <a:lnTo>
                    <a:pt x="300" y="3199"/>
                  </a:lnTo>
                  <a:lnTo>
                    <a:pt x="332" y="3199"/>
                  </a:lnTo>
                  <a:lnTo>
                    <a:pt x="370" y="3238"/>
                  </a:lnTo>
                  <a:lnTo>
                    <a:pt x="409" y="3270"/>
                  </a:lnTo>
                  <a:lnTo>
                    <a:pt x="447" y="3270"/>
                  </a:lnTo>
                  <a:lnTo>
                    <a:pt x="480" y="3308"/>
                  </a:lnTo>
                  <a:lnTo>
                    <a:pt x="518" y="3347"/>
                  </a:lnTo>
                  <a:lnTo>
                    <a:pt x="556" y="3347"/>
                  </a:lnTo>
                  <a:lnTo>
                    <a:pt x="594" y="3385"/>
                  </a:lnTo>
                  <a:lnTo>
                    <a:pt x="632" y="3385"/>
                  </a:lnTo>
                  <a:lnTo>
                    <a:pt x="665" y="3423"/>
                  </a:lnTo>
                  <a:lnTo>
                    <a:pt x="703" y="3456"/>
                  </a:lnTo>
                  <a:lnTo>
                    <a:pt x="741" y="3456"/>
                  </a:lnTo>
                  <a:lnTo>
                    <a:pt x="779" y="3494"/>
                  </a:lnTo>
                  <a:lnTo>
                    <a:pt x="818" y="3532"/>
                  </a:lnTo>
                  <a:lnTo>
                    <a:pt x="850" y="3532"/>
                  </a:lnTo>
                  <a:lnTo>
                    <a:pt x="888" y="3570"/>
                  </a:lnTo>
                  <a:lnTo>
                    <a:pt x="927" y="3570"/>
                  </a:lnTo>
                  <a:lnTo>
                    <a:pt x="965" y="3608"/>
                  </a:lnTo>
                  <a:lnTo>
                    <a:pt x="1003" y="3608"/>
                  </a:lnTo>
                  <a:lnTo>
                    <a:pt x="1036" y="3608"/>
                  </a:lnTo>
                  <a:lnTo>
                    <a:pt x="1074" y="3608"/>
                  </a:lnTo>
                  <a:close/>
                  <a:moveTo>
                    <a:pt x="1068" y="3270"/>
                  </a:moveTo>
                  <a:lnTo>
                    <a:pt x="1068" y="3259"/>
                  </a:lnTo>
                  <a:lnTo>
                    <a:pt x="1063" y="3249"/>
                  </a:lnTo>
                  <a:lnTo>
                    <a:pt x="1063" y="3238"/>
                  </a:lnTo>
                  <a:lnTo>
                    <a:pt x="1063" y="3227"/>
                  </a:lnTo>
                  <a:lnTo>
                    <a:pt x="1057" y="3210"/>
                  </a:lnTo>
                  <a:lnTo>
                    <a:pt x="1057" y="3199"/>
                  </a:lnTo>
                  <a:lnTo>
                    <a:pt x="1057" y="3189"/>
                  </a:lnTo>
                  <a:lnTo>
                    <a:pt x="1052" y="3178"/>
                  </a:lnTo>
                  <a:lnTo>
                    <a:pt x="1052" y="3161"/>
                  </a:lnTo>
                  <a:lnTo>
                    <a:pt x="1052" y="3150"/>
                  </a:lnTo>
                  <a:lnTo>
                    <a:pt x="1052" y="3140"/>
                  </a:lnTo>
                  <a:lnTo>
                    <a:pt x="1047" y="3129"/>
                  </a:lnTo>
                  <a:lnTo>
                    <a:pt x="1047" y="3118"/>
                  </a:lnTo>
                  <a:lnTo>
                    <a:pt x="1041" y="3101"/>
                  </a:lnTo>
                  <a:lnTo>
                    <a:pt x="1041" y="3090"/>
                  </a:lnTo>
                  <a:lnTo>
                    <a:pt x="1041" y="3080"/>
                  </a:lnTo>
                  <a:lnTo>
                    <a:pt x="1047" y="3069"/>
                  </a:lnTo>
                  <a:lnTo>
                    <a:pt x="1052" y="3058"/>
                  </a:lnTo>
                  <a:lnTo>
                    <a:pt x="1057" y="3052"/>
                  </a:lnTo>
                  <a:lnTo>
                    <a:pt x="1068" y="3041"/>
                  </a:lnTo>
                  <a:lnTo>
                    <a:pt x="1074" y="3036"/>
                  </a:lnTo>
                  <a:lnTo>
                    <a:pt x="1079" y="3025"/>
                  </a:lnTo>
                  <a:lnTo>
                    <a:pt x="1085" y="3020"/>
                  </a:lnTo>
                  <a:lnTo>
                    <a:pt x="1090" y="3009"/>
                  </a:lnTo>
                  <a:lnTo>
                    <a:pt x="1101" y="3009"/>
                  </a:lnTo>
                  <a:lnTo>
                    <a:pt x="1107" y="3003"/>
                  </a:lnTo>
                  <a:lnTo>
                    <a:pt x="1117" y="3003"/>
                  </a:lnTo>
                  <a:lnTo>
                    <a:pt x="1128" y="3003"/>
                  </a:lnTo>
                  <a:lnTo>
                    <a:pt x="1134" y="3003"/>
                  </a:lnTo>
                  <a:lnTo>
                    <a:pt x="1145" y="3003"/>
                  </a:lnTo>
                  <a:lnTo>
                    <a:pt x="1150" y="2998"/>
                  </a:lnTo>
                  <a:lnTo>
                    <a:pt x="1161" y="2998"/>
                  </a:lnTo>
                  <a:lnTo>
                    <a:pt x="1172" y="2998"/>
                  </a:lnTo>
                  <a:lnTo>
                    <a:pt x="1177" y="2998"/>
                  </a:lnTo>
                  <a:lnTo>
                    <a:pt x="1188" y="2998"/>
                  </a:lnTo>
                  <a:lnTo>
                    <a:pt x="1199" y="3003"/>
                  </a:lnTo>
                  <a:lnTo>
                    <a:pt x="1205" y="3003"/>
                  </a:lnTo>
                  <a:lnTo>
                    <a:pt x="1216" y="3003"/>
                  </a:lnTo>
                  <a:lnTo>
                    <a:pt x="1221" y="2998"/>
                  </a:lnTo>
                  <a:lnTo>
                    <a:pt x="1232" y="2998"/>
                  </a:lnTo>
                  <a:lnTo>
                    <a:pt x="1237" y="2992"/>
                  </a:lnTo>
                  <a:lnTo>
                    <a:pt x="1248" y="2987"/>
                  </a:lnTo>
                  <a:lnTo>
                    <a:pt x="1254" y="2981"/>
                  </a:lnTo>
                  <a:lnTo>
                    <a:pt x="1265" y="2981"/>
                  </a:lnTo>
                  <a:lnTo>
                    <a:pt x="1270" y="2976"/>
                  </a:lnTo>
                  <a:lnTo>
                    <a:pt x="1281" y="2971"/>
                  </a:lnTo>
                  <a:lnTo>
                    <a:pt x="1292" y="2971"/>
                  </a:lnTo>
                  <a:lnTo>
                    <a:pt x="1297" y="2971"/>
                  </a:lnTo>
                  <a:lnTo>
                    <a:pt x="1308" y="2976"/>
                  </a:lnTo>
                  <a:lnTo>
                    <a:pt x="1314" y="2987"/>
                  </a:lnTo>
                  <a:lnTo>
                    <a:pt x="1314" y="2998"/>
                  </a:lnTo>
                  <a:lnTo>
                    <a:pt x="1314" y="3009"/>
                  </a:lnTo>
                  <a:lnTo>
                    <a:pt x="1319" y="3025"/>
                  </a:lnTo>
                  <a:lnTo>
                    <a:pt x="1319" y="3036"/>
                  </a:lnTo>
                  <a:lnTo>
                    <a:pt x="1319" y="3047"/>
                  </a:lnTo>
                  <a:lnTo>
                    <a:pt x="1319" y="3058"/>
                  </a:lnTo>
                  <a:lnTo>
                    <a:pt x="1319" y="3069"/>
                  </a:lnTo>
                  <a:lnTo>
                    <a:pt x="1319" y="3085"/>
                  </a:lnTo>
                  <a:lnTo>
                    <a:pt x="1319" y="3096"/>
                  </a:lnTo>
                  <a:lnTo>
                    <a:pt x="1319" y="3107"/>
                  </a:lnTo>
                  <a:lnTo>
                    <a:pt x="1319" y="3118"/>
                  </a:lnTo>
                  <a:lnTo>
                    <a:pt x="1319" y="3134"/>
                  </a:lnTo>
                  <a:lnTo>
                    <a:pt x="1325" y="3145"/>
                  </a:lnTo>
                  <a:lnTo>
                    <a:pt x="1325" y="3156"/>
                  </a:lnTo>
                  <a:lnTo>
                    <a:pt x="1319" y="3167"/>
                  </a:lnTo>
                  <a:lnTo>
                    <a:pt x="1319" y="3183"/>
                  </a:lnTo>
                  <a:lnTo>
                    <a:pt x="1314" y="3194"/>
                  </a:lnTo>
                  <a:lnTo>
                    <a:pt x="1308" y="3199"/>
                  </a:lnTo>
                  <a:lnTo>
                    <a:pt x="1303" y="3205"/>
                  </a:lnTo>
                  <a:lnTo>
                    <a:pt x="1292" y="3210"/>
                  </a:lnTo>
                  <a:lnTo>
                    <a:pt x="1281" y="3216"/>
                  </a:lnTo>
                  <a:lnTo>
                    <a:pt x="1276" y="3216"/>
                  </a:lnTo>
                  <a:lnTo>
                    <a:pt x="1265" y="3221"/>
                  </a:lnTo>
                  <a:lnTo>
                    <a:pt x="1259" y="3221"/>
                  </a:lnTo>
                  <a:lnTo>
                    <a:pt x="1248" y="3227"/>
                  </a:lnTo>
                  <a:lnTo>
                    <a:pt x="1243" y="3232"/>
                  </a:lnTo>
                  <a:lnTo>
                    <a:pt x="1232" y="3232"/>
                  </a:lnTo>
                  <a:lnTo>
                    <a:pt x="1226" y="3238"/>
                  </a:lnTo>
                  <a:lnTo>
                    <a:pt x="1216" y="3243"/>
                  </a:lnTo>
                  <a:lnTo>
                    <a:pt x="1210" y="3243"/>
                  </a:lnTo>
                  <a:lnTo>
                    <a:pt x="1199" y="3249"/>
                  </a:lnTo>
                  <a:lnTo>
                    <a:pt x="1194" y="3249"/>
                  </a:lnTo>
                  <a:lnTo>
                    <a:pt x="1183" y="3254"/>
                  </a:lnTo>
                  <a:lnTo>
                    <a:pt x="1172" y="3259"/>
                  </a:lnTo>
                  <a:lnTo>
                    <a:pt x="1167" y="3259"/>
                  </a:lnTo>
                  <a:lnTo>
                    <a:pt x="1156" y="3265"/>
                  </a:lnTo>
                  <a:lnTo>
                    <a:pt x="1150" y="3270"/>
                  </a:lnTo>
                  <a:lnTo>
                    <a:pt x="1139" y="3270"/>
                  </a:lnTo>
                  <a:lnTo>
                    <a:pt x="1134" y="3276"/>
                  </a:lnTo>
                  <a:lnTo>
                    <a:pt x="1123" y="3276"/>
                  </a:lnTo>
                  <a:lnTo>
                    <a:pt x="1117" y="3281"/>
                  </a:lnTo>
                  <a:lnTo>
                    <a:pt x="1107" y="3287"/>
                  </a:lnTo>
                  <a:lnTo>
                    <a:pt x="1096" y="3292"/>
                  </a:lnTo>
                  <a:lnTo>
                    <a:pt x="1090" y="3298"/>
                  </a:lnTo>
                  <a:lnTo>
                    <a:pt x="1079" y="3298"/>
                  </a:lnTo>
                  <a:lnTo>
                    <a:pt x="1074" y="3298"/>
                  </a:lnTo>
                  <a:lnTo>
                    <a:pt x="1068" y="3287"/>
                  </a:lnTo>
                  <a:lnTo>
                    <a:pt x="1068" y="3270"/>
                  </a:lnTo>
                  <a:close/>
                  <a:moveTo>
                    <a:pt x="480" y="3199"/>
                  </a:moveTo>
                  <a:lnTo>
                    <a:pt x="485" y="3194"/>
                  </a:lnTo>
                  <a:lnTo>
                    <a:pt x="490" y="3189"/>
                  </a:lnTo>
                  <a:lnTo>
                    <a:pt x="496" y="3189"/>
                  </a:lnTo>
                  <a:lnTo>
                    <a:pt x="501" y="3183"/>
                  </a:lnTo>
                  <a:lnTo>
                    <a:pt x="501" y="3183"/>
                  </a:lnTo>
                  <a:lnTo>
                    <a:pt x="507" y="3183"/>
                  </a:lnTo>
                  <a:lnTo>
                    <a:pt x="512" y="3183"/>
                  </a:lnTo>
                  <a:lnTo>
                    <a:pt x="518" y="3189"/>
                  </a:lnTo>
                  <a:lnTo>
                    <a:pt x="523" y="3189"/>
                  </a:lnTo>
                  <a:lnTo>
                    <a:pt x="523" y="3194"/>
                  </a:lnTo>
                  <a:lnTo>
                    <a:pt x="523" y="3199"/>
                  </a:lnTo>
                  <a:lnTo>
                    <a:pt x="518" y="3205"/>
                  </a:lnTo>
                  <a:lnTo>
                    <a:pt x="512" y="3210"/>
                  </a:lnTo>
                  <a:lnTo>
                    <a:pt x="507" y="3210"/>
                  </a:lnTo>
                  <a:lnTo>
                    <a:pt x="501" y="3210"/>
                  </a:lnTo>
                  <a:lnTo>
                    <a:pt x="496" y="3210"/>
                  </a:lnTo>
                  <a:lnTo>
                    <a:pt x="496" y="3210"/>
                  </a:lnTo>
                  <a:lnTo>
                    <a:pt x="490" y="3205"/>
                  </a:lnTo>
                  <a:lnTo>
                    <a:pt x="485" y="3199"/>
                  </a:lnTo>
                  <a:lnTo>
                    <a:pt x="480" y="3199"/>
                  </a:lnTo>
                  <a:close/>
                  <a:moveTo>
                    <a:pt x="136" y="3047"/>
                  </a:moveTo>
                  <a:lnTo>
                    <a:pt x="125" y="3047"/>
                  </a:lnTo>
                  <a:lnTo>
                    <a:pt x="120" y="3041"/>
                  </a:lnTo>
                  <a:lnTo>
                    <a:pt x="109" y="3041"/>
                  </a:lnTo>
                  <a:lnTo>
                    <a:pt x="98" y="3041"/>
                  </a:lnTo>
                  <a:lnTo>
                    <a:pt x="92" y="3041"/>
                  </a:lnTo>
                  <a:lnTo>
                    <a:pt x="82" y="3041"/>
                  </a:lnTo>
                  <a:lnTo>
                    <a:pt x="71" y="3036"/>
                  </a:lnTo>
                  <a:lnTo>
                    <a:pt x="65" y="3036"/>
                  </a:lnTo>
                  <a:lnTo>
                    <a:pt x="54" y="3031"/>
                  </a:lnTo>
                  <a:lnTo>
                    <a:pt x="49" y="3025"/>
                  </a:lnTo>
                  <a:lnTo>
                    <a:pt x="43" y="3014"/>
                  </a:lnTo>
                  <a:lnTo>
                    <a:pt x="76" y="3047"/>
                  </a:lnTo>
                  <a:lnTo>
                    <a:pt x="114" y="3047"/>
                  </a:lnTo>
                  <a:lnTo>
                    <a:pt x="136" y="3047"/>
                  </a:lnTo>
                  <a:close/>
                  <a:moveTo>
                    <a:pt x="905" y="2823"/>
                  </a:moveTo>
                  <a:lnTo>
                    <a:pt x="910" y="2818"/>
                  </a:lnTo>
                  <a:lnTo>
                    <a:pt x="916" y="2813"/>
                  </a:lnTo>
                  <a:lnTo>
                    <a:pt x="921" y="2802"/>
                  </a:lnTo>
                  <a:lnTo>
                    <a:pt x="927" y="2796"/>
                  </a:lnTo>
                  <a:lnTo>
                    <a:pt x="932" y="2785"/>
                  </a:lnTo>
                  <a:lnTo>
                    <a:pt x="938" y="2780"/>
                  </a:lnTo>
                  <a:lnTo>
                    <a:pt x="943" y="2769"/>
                  </a:lnTo>
                  <a:lnTo>
                    <a:pt x="948" y="2763"/>
                  </a:lnTo>
                  <a:lnTo>
                    <a:pt x="954" y="2758"/>
                  </a:lnTo>
                  <a:lnTo>
                    <a:pt x="959" y="2747"/>
                  </a:lnTo>
                  <a:lnTo>
                    <a:pt x="965" y="2742"/>
                  </a:lnTo>
                  <a:lnTo>
                    <a:pt x="970" y="2736"/>
                  </a:lnTo>
                  <a:lnTo>
                    <a:pt x="981" y="2731"/>
                  </a:lnTo>
                  <a:lnTo>
                    <a:pt x="981" y="2720"/>
                  </a:lnTo>
                  <a:lnTo>
                    <a:pt x="987" y="2714"/>
                  </a:lnTo>
                  <a:lnTo>
                    <a:pt x="987" y="2703"/>
                  </a:lnTo>
                  <a:lnTo>
                    <a:pt x="987" y="2693"/>
                  </a:lnTo>
                  <a:lnTo>
                    <a:pt x="987" y="2682"/>
                  </a:lnTo>
                  <a:lnTo>
                    <a:pt x="987" y="2671"/>
                  </a:lnTo>
                  <a:lnTo>
                    <a:pt x="981" y="2660"/>
                  </a:lnTo>
                  <a:lnTo>
                    <a:pt x="976" y="2649"/>
                  </a:lnTo>
                  <a:lnTo>
                    <a:pt x="976" y="2644"/>
                  </a:lnTo>
                  <a:lnTo>
                    <a:pt x="970" y="2633"/>
                  </a:lnTo>
                  <a:lnTo>
                    <a:pt x="965" y="2622"/>
                  </a:lnTo>
                  <a:lnTo>
                    <a:pt x="965" y="2616"/>
                  </a:lnTo>
                  <a:lnTo>
                    <a:pt x="959" y="2605"/>
                  </a:lnTo>
                  <a:lnTo>
                    <a:pt x="959" y="2594"/>
                  </a:lnTo>
                  <a:lnTo>
                    <a:pt x="954" y="2584"/>
                  </a:lnTo>
                  <a:lnTo>
                    <a:pt x="954" y="2573"/>
                  </a:lnTo>
                  <a:lnTo>
                    <a:pt x="948" y="2562"/>
                  </a:lnTo>
                  <a:lnTo>
                    <a:pt x="948" y="2556"/>
                  </a:lnTo>
                  <a:lnTo>
                    <a:pt x="943" y="2545"/>
                  </a:lnTo>
                  <a:lnTo>
                    <a:pt x="943" y="2535"/>
                  </a:lnTo>
                  <a:lnTo>
                    <a:pt x="943" y="2524"/>
                  </a:lnTo>
                  <a:lnTo>
                    <a:pt x="943" y="2513"/>
                  </a:lnTo>
                  <a:lnTo>
                    <a:pt x="948" y="2502"/>
                  </a:lnTo>
                  <a:lnTo>
                    <a:pt x="954" y="2496"/>
                  </a:lnTo>
                  <a:lnTo>
                    <a:pt x="959" y="2485"/>
                  </a:lnTo>
                  <a:lnTo>
                    <a:pt x="965" y="2480"/>
                  </a:lnTo>
                  <a:lnTo>
                    <a:pt x="970" y="2485"/>
                  </a:lnTo>
                  <a:lnTo>
                    <a:pt x="976" y="2491"/>
                  </a:lnTo>
                  <a:lnTo>
                    <a:pt x="981" y="2502"/>
                  </a:lnTo>
                  <a:lnTo>
                    <a:pt x="992" y="2502"/>
                  </a:lnTo>
                  <a:lnTo>
                    <a:pt x="997" y="2502"/>
                  </a:lnTo>
                  <a:lnTo>
                    <a:pt x="1003" y="2496"/>
                  </a:lnTo>
                  <a:lnTo>
                    <a:pt x="1008" y="2491"/>
                  </a:lnTo>
                  <a:lnTo>
                    <a:pt x="1014" y="2480"/>
                  </a:lnTo>
                  <a:lnTo>
                    <a:pt x="1019" y="2469"/>
                  </a:lnTo>
                  <a:lnTo>
                    <a:pt x="1019" y="2464"/>
                  </a:lnTo>
                  <a:lnTo>
                    <a:pt x="1025" y="2453"/>
                  </a:lnTo>
                  <a:lnTo>
                    <a:pt x="1030" y="2442"/>
                  </a:lnTo>
                  <a:lnTo>
                    <a:pt x="1030" y="2431"/>
                  </a:lnTo>
                  <a:lnTo>
                    <a:pt x="1036" y="2426"/>
                  </a:lnTo>
                  <a:lnTo>
                    <a:pt x="1041" y="2415"/>
                  </a:lnTo>
                  <a:lnTo>
                    <a:pt x="1047" y="2409"/>
                  </a:lnTo>
                  <a:lnTo>
                    <a:pt x="1052" y="2404"/>
                  </a:lnTo>
                  <a:lnTo>
                    <a:pt x="1063" y="2398"/>
                  </a:lnTo>
                  <a:lnTo>
                    <a:pt x="1068" y="2398"/>
                  </a:lnTo>
                  <a:lnTo>
                    <a:pt x="1079" y="2398"/>
                  </a:lnTo>
                  <a:lnTo>
                    <a:pt x="1085" y="2398"/>
                  </a:lnTo>
                  <a:lnTo>
                    <a:pt x="1096" y="2404"/>
                  </a:lnTo>
                  <a:lnTo>
                    <a:pt x="1101" y="2404"/>
                  </a:lnTo>
                  <a:lnTo>
                    <a:pt x="1107" y="2409"/>
                  </a:lnTo>
                  <a:lnTo>
                    <a:pt x="1112" y="2415"/>
                  </a:lnTo>
                  <a:lnTo>
                    <a:pt x="1117" y="2420"/>
                  </a:lnTo>
                  <a:lnTo>
                    <a:pt x="1123" y="2431"/>
                  </a:lnTo>
                  <a:lnTo>
                    <a:pt x="1128" y="2436"/>
                  </a:lnTo>
                  <a:lnTo>
                    <a:pt x="1134" y="2442"/>
                  </a:lnTo>
                  <a:lnTo>
                    <a:pt x="1139" y="2447"/>
                  </a:lnTo>
                  <a:lnTo>
                    <a:pt x="1150" y="2453"/>
                  </a:lnTo>
                  <a:lnTo>
                    <a:pt x="1145" y="2464"/>
                  </a:lnTo>
                  <a:lnTo>
                    <a:pt x="1139" y="2475"/>
                  </a:lnTo>
                  <a:lnTo>
                    <a:pt x="1134" y="2480"/>
                  </a:lnTo>
                  <a:lnTo>
                    <a:pt x="1128" y="2485"/>
                  </a:lnTo>
                  <a:lnTo>
                    <a:pt x="1123" y="2496"/>
                  </a:lnTo>
                  <a:lnTo>
                    <a:pt x="1123" y="2507"/>
                  </a:lnTo>
                  <a:lnTo>
                    <a:pt x="1117" y="2513"/>
                  </a:lnTo>
                  <a:lnTo>
                    <a:pt x="1112" y="2524"/>
                  </a:lnTo>
                  <a:lnTo>
                    <a:pt x="1112" y="2535"/>
                  </a:lnTo>
                  <a:lnTo>
                    <a:pt x="1117" y="2545"/>
                  </a:lnTo>
                  <a:lnTo>
                    <a:pt x="1117" y="2551"/>
                  </a:lnTo>
                  <a:lnTo>
                    <a:pt x="1123" y="2562"/>
                  </a:lnTo>
                  <a:lnTo>
                    <a:pt x="1123" y="2573"/>
                  </a:lnTo>
                  <a:lnTo>
                    <a:pt x="1128" y="2584"/>
                  </a:lnTo>
                  <a:lnTo>
                    <a:pt x="1128" y="2594"/>
                  </a:lnTo>
                  <a:lnTo>
                    <a:pt x="1134" y="2605"/>
                  </a:lnTo>
                  <a:lnTo>
                    <a:pt x="1134" y="2611"/>
                  </a:lnTo>
                  <a:lnTo>
                    <a:pt x="1139" y="2622"/>
                  </a:lnTo>
                  <a:lnTo>
                    <a:pt x="1139" y="2633"/>
                  </a:lnTo>
                  <a:lnTo>
                    <a:pt x="1139" y="2644"/>
                  </a:lnTo>
                  <a:lnTo>
                    <a:pt x="1134" y="2649"/>
                  </a:lnTo>
                  <a:lnTo>
                    <a:pt x="1128" y="2654"/>
                  </a:lnTo>
                  <a:lnTo>
                    <a:pt x="1117" y="2660"/>
                  </a:lnTo>
                  <a:lnTo>
                    <a:pt x="1112" y="2665"/>
                  </a:lnTo>
                  <a:lnTo>
                    <a:pt x="1107" y="2671"/>
                  </a:lnTo>
                  <a:lnTo>
                    <a:pt x="1096" y="2676"/>
                  </a:lnTo>
                  <a:lnTo>
                    <a:pt x="1090" y="2682"/>
                  </a:lnTo>
                  <a:lnTo>
                    <a:pt x="1090" y="2687"/>
                  </a:lnTo>
                  <a:lnTo>
                    <a:pt x="1085" y="2698"/>
                  </a:lnTo>
                  <a:lnTo>
                    <a:pt x="1085" y="2709"/>
                  </a:lnTo>
                  <a:lnTo>
                    <a:pt x="1079" y="2720"/>
                  </a:lnTo>
                  <a:lnTo>
                    <a:pt x="1079" y="2731"/>
                  </a:lnTo>
                  <a:lnTo>
                    <a:pt x="1074" y="2742"/>
                  </a:lnTo>
                  <a:lnTo>
                    <a:pt x="1074" y="2753"/>
                  </a:lnTo>
                  <a:lnTo>
                    <a:pt x="1074" y="2763"/>
                  </a:lnTo>
                  <a:lnTo>
                    <a:pt x="1068" y="2769"/>
                  </a:lnTo>
                  <a:lnTo>
                    <a:pt x="1063" y="2780"/>
                  </a:lnTo>
                  <a:lnTo>
                    <a:pt x="1063" y="2791"/>
                  </a:lnTo>
                  <a:lnTo>
                    <a:pt x="1057" y="2796"/>
                  </a:lnTo>
                  <a:lnTo>
                    <a:pt x="1052" y="2807"/>
                  </a:lnTo>
                  <a:lnTo>
                    <a:pt x="1052" y="2818"/>
                  </a:lnTo>
                  <a:lnTo>
                    <a:pt x="1047" y="2829"/>
                  </a:lnTo>
                  <a:lnTo>
                    <a:pt x="1047" y="2840"/>
                  </a:lnTo>
                  <a:lnTo>
                    <a:pt x="1041" y="2851"/>
                  </a:lnTo>
                  <a:lnTo>
                    <a:pt x="1041" y="2856"/>
                  </a:lnTo>
                  <a:lnTo>
                    <a:pt x="1036" y="2862"/>
                  </a:lnTo>
                  <a:lnTo>
                    <a:pt x="1025" y="2867"/>
                  </a:lnTo>
                  <a:lnTo>
                    <a:pt x="1019" y="2862"/>
                  </a:lnTo>
                  <a:lnTo>
                    <a:pt x="1008" y="2862"/>
                  </a:lnTo>
                  <a:lnTo>
                    <a:pt x="1003" y="2862"/>
                  </a:lnTo>
                  <a:lnTo>
                    <a:pt x="992" y="2862"/>
                  </a:lnTo>
                  <a:lnTo>
                    <a:pt x="987" y="2856"/>
                  </a:lnTo>
                  <a:lnTo>
                    <a:pt x="981" y="2856"/>
                  </a:lnTo>
                  <a:lnTo>
                    <a:pt x="970" y="2862"/>
                  </a:lnTo>
                  <a:lnTo>
                    <a:pt x="965" y="2862"/>
                  </a:lnTo>
                  <a:lnTo>
                    <a:pt x="954" y="2862"/>
                  </a:lnTo>
                  <a:lnTo>
                    <a:pt x="948" y="2862"/>
                  </a:lnTo>
                  <a:lnTo>
                    <a:pt x="938" y="2862"/>
                  </a:lnTo>
                  <a:lnTo>
                    <a:pt x="932" y="2862"/>
                  </a:lnTo>
                  <a:lnTo>
                    <a:pt x="927" y="2862"/>
                  </a:lnTo>
                  <a:lnTo>
                    <a:pt x="921" y="2856"/>
                  </a:lnTo>
                  <a:lnTo>
                    <a:pt x="916" y="2845"/>
                  </a:lnTo>
                  <a:lnTo>
                    <a:pt x="910" y="2840"/>
                  </a:lnTo>
                  <a:lnTo>
                    <a:pt x="905" y="2823"/>
                  </a:lnTo>
                  <a:close/>
                  <a:moveTo>
                    <a:pt x="1483" y="2753"/>
                  </a:moveTo>
                  <a:lnTo>
                    <a:pt x="1488" y="2742"/>
                  </a:lnTo>
                  <a:lnTo>
                    <a:pt x="1494" y="2731"/>
                  </a:lnTo>
                  <a:lnTo>
                    <a:pt x="1494" y="2720"/>
                  </a:lnTo>
                  <a:lnTo>
                    <a:pt x="1499" y="2709"/>
                  </a:lnTo>
                  <a:lnTo>
                    <a:pt x="1505" y="2698"/>
                  </a:lnTo>
                  <a:lnTo>
                    <a:pt x="1505" y="2687"/>
                  </a:lnTo>
                  <a:lnTo>
                    <a:pt x="1510" y="2676"/>
                  </a:lnTo>
                  <a:lnTo>
                    <a:pt x="1515" y="2671"/>
                  </a:lnTo>
                  <a:lnTo>
                    <a:pt x="1521" y="2660"/>
                  </a:lnTo>
                  <a:lnTo>
                    <a:pt x="1526" y="2649"/>
                  </a:lnTo>
                  <a:lnTo>
                    <a:pt x="1532" y="2638"/>
                  </a:lnTo>
                  <a:lnTo>
                    <a:pt x="1537" y="2633"/>
                  </a:lnTo>
                  <a:lnTo>
                    <a:pt x="1543" y="2622"/>
                  </a:lnTo>
                  <a:lnTo>
                    <a:pt x="1554" y="2616"/>
                  </a:lnTo>
                  <a:lnTo>
                    <a:pt x="1559" y="2611"/>
                  </a:lnTo>
                  <a:lnTo>
                    <a:pt x="1565" y="2605"/>
                  </a:lnTo>
                  <a:lnTo>
                    <a:pt x="1575" y="2594"/>
                  </a:lnTo>
                  <a:lnTo>
                    <a:pt x="1581" y="2589"/>
                  </a:lnTo>
                  <a:lnTo>
                    <a:pt x="1586" y="2584"/>
                  </a:lnTo>
                  <a:lnTo>
                    <a:pt x="1592" y="2578"/>
                  </a:lnTo>
                  <a:lnTo>
                    <a:pt x="1603" y="2573"/>
                  </a:lnTo>
                  <a:lnTo>
                    <a:pt x="1608" y="2562"/>
                  </a:lnTo>
                  <a:lnTo>
                    <a:pt x="1614" y="2556"/>
                  </a:lnTo>
                  <a:lnTo>
                    <a:pt x="1625" y="2551"/>
                  </a:lnTo>
                  <a:lnTo>
                    <a:pt x="1630" y="2545"/>
                  </a:lnTo>
                  <a:lnTo>
                    <a:pt x="1635" y="2540"/>
                  </a:lnTo>
                  <a:lnTo>
                    <a:pt x="1646" y="2529"/>
                  </a:lnTo>
                  <a:lnTo>
                    <a:pt x="1652" y="2524"/>
                  </a:lnTo>
                  <a:lnTo>
                    <a:pt x="1657" y="2518"/>
                  </a:lnTo>
                  <a:lnTo>
                    <a:pt x="1668" y="2513"/>
                  </a:lnTo>
                  <a:lnTo>
                    <a:pt x="1674" y="2502"/>
                  </a:lnTo>
                  <a:lnTo>
                    <a:pt x="1679" y="2496"/>
                  </a:lnTo>
                  <a:lnTo>
                    <a:pt x="1684" y="2491"/>
                  </a:lnTo>
                  <a:lnTo>
                    <a:pt x="1695" y="2485"/>
                  </a:lnTo>
                  <a:lnTo>
                    <a:pt x="1701" y="2480"/>
                  </a:lnTo>
                  <a:lnTo>
                    <a:pt x="1706" y="2469"/>
                  </a:lnTo>
                  <a:lnTo>
                    <a:pt x="1717" y="2464"/>
                  </a:lnTo>
                  <a:lnTo>
                    <a:pt x="1723" y="2458"/>
                  </a:lnTo>
                  <a:lnTo>
                    <a:pt x="1728" y="2453"/>
                  </a:lnTo>
                  <a:lnTo>
                    <a:pt x="1734" y="2442"/>
                  </a:lnTo>
                  <a:lnTo>
                    <a:pt x="1744" y="2436"/>
                  </a:lnTo>
                  <a:lnTo>
                    <a:pt x="1750" y="2442"/>
                  </a:lnTo>
                  <a:lnTo>
                    <a:pt x="1755" y="2453"/>
                  </a:lnTo>
                  <a:lnTo>
                    <a:pt x="1761" y="2464"/>
                  </a:lnTo>
                  <a:lnTo>
                    <a:pt x="1766" y="2475"/>
                  </a:lnTo>
                  <a:lnTo>
                    <a:pt x="1766" y="2485"/>
                  </a:lnTo>
                  <a:lnTo>
                    <a:pt x="1766" y="2502"/>
                  </a:lnTo>
                  <a:lnTo>
                    <a:pt x="1766" y="2513"/>
                  </a:lnTo>
                  <a:lnTo>
                    <a:pt x="1766" y="2524"/>
                  </a:lnTo>
                  <a:lnTo>
                    <a:pt x="1761" y="2535"/>
                  </a:lnTo>
                  <a:lnTo>
                    <a:pt x="1761" y="2545"/>
                  </a:lnTo>
                  <a:lnTo>
                    <a:pt x="1755" y="2556"/>
                  </a:lnTo>
                  <a:lnTo>
                    <a:pt x="1755" y="2567"/>
                  </a:lnTo>
                  <a:lnTo>
                    <a:pt x="1750" y="2578"/>
                  </a:lnTo>
                  <a:lnTo>
                    <a:pt x="1750" y="2589"/>
                  </a:lnTo>
                  <a:lnTo>
                    <a:pt x="1744" y="2600"/>
                  </a:lnTo>
                  <a:lnTo>
                    <a:pt x="1739" y="2611"/>
                  </a:lnTo>
                  <a:lnTo>
                    <a:pt x="1739" y="2622"/>
                  </a:lnTo>
                  <a:lnTo>
                    <a:pt x="1734" y="2633"/>
                  </a:lnTo>
                  <a:lnTo>
                    <a:pt x="1734" y="2649"/>
                  </a:lnTo>
                  <a:lnTo>
                    <a:pt x="1734" y="2660"/>
                  </a:lnTo>
                  <a:lnTo>
                    <a:pt x="1728" y="2671"/>
                  </a:lnTo>
                  <a:lnTo>
                    <a:pt x="1728" y="2682"/>
                  </a:lnTo>
                  <a:lnTo>
                    <a:pt x="1728" y="2693"/>
                  </a:lnTo>
                  <a:lnTo>
                    <a:pt x="1728" y="2703"/>
                  </a:lnTo>
                  <a:lnTo>
                    <a:pt x="1728" y="2720"/>
                  </a:lnTo>
                  <a:lnTo>
                    <a:pt x="1728" y="2731"/>
                  </a:lnTo>
                  <a:lnTo>
                    <a:pt x="1723" y="2742"/>
                  </a:lnTo>
                  <a:lnTo>
                    <a:pt x="1723" y="2753"/>
                  </a:lnTo>
                  <a:lnTo>
                    <a:pt x="1717" y="2763"/>
                  </a:lnTo>
                  <a:lnTo>
                    <a:pt x="1706" y="2769"/>
                  </a:lnTo>
                  <a:lnTo>
                    <a:pt x="1701" y="2774"/>
                  </a:lnTo>
                  <a:lnTo>
                    <a:pt x="1690" y="2774"/>
                  </a:lnTo>
                  <a:lnTo>
                    <a:pt x="1684" y="2780"/>
                  </a:lnTo>
                  <a:lnTo>
                    <a:pt x="1674" y="2780"/>
                  </a:lnTo>
                  <a:lnTo>
                    <a:pt x="1668" y="2780"/>
                  </a:lnTo>
                  <a:lnTo>
                    <a:pt x="1657" y="2785"/>
                  </a:lnTo>
                  <a:lnTo>
                    <a:pt x="1652" y="2785"/>
                  </a:lnTo>
                  <a:lnTo>
                    <a:pt x="1641" y="2785"/>
                  </a:lnTo>
                  <a:lnTo>
                    <a:pt x="1630" y="2785"/>
                  </a:lnTo>
                  <a:lnTo>
                    <a:pt x="1625" y="2785"/>
                  </a:lnTo>
                  <a:lnTo>
                    <a:pt x="1614" y="2785"/>
                  </a:lnTo>
                  <a:lnTo>
                    <a:pt x="1608" y="2785"/>
                  </a:lnTo>
                  <a:lnTo>
                    <a:pt x="1597" y="2785"/>
                  </a:lnTo>
                  <a:lnTo>
                    <a:pt x="1592" y="2785"/>
                  </a:lnTo>
                  <a:lnTo>
                    <a:pt x="1581" y="2785"/>
                  </a:lnTo>
                  <a:lnTo>
                    <a:pt x="1570" y="2785"/>
                  </a:lnTo>
                  <a:lnTo>
                    <a:pt x="1565" y="2785"/>
                  </a:lnTo>
                  <a:lnTo>
                    <a:pt x="1554" y="2785"/>
                  </a:lnTo>
                  <a:lnTo>
                    <a:pt x="1548" y="2785"/>
                  </a:lnTo>
                  <a:lnTo>
                    <a:pt x="1537" y="2780"/>
                  </a:lnTo>
                  <a:lnTo>
                    <a:pt x="1532" y="2780"/>
                  </a:lnTo>
                  <a:lnTo>
                    <a:pt x="1521" y="2780"/>
                  </a:lnTo>
                  <a:lnTo>
                    <a:pt x="1515" y="2774"/>
                  </a:lnTo>
                  <a:lnTo>
                    <a:pt x="1505" y="2774"/>
                  </a:lnTo>
                  <a:lnTo>
                    <a:pt x="1499" y="2769"/>
                  </a:lnTo>
                  <a:lnTo>
                    <a:pt x="1488" y="2758"/>
                  </a:lnTo>
                  <a:lnTo>
                    <a:pt x="1483" y="2753"/>
                  </a:lnTo>
                  <a:close/>
                  <a:moveTo>
                    <a:pt x="676" y="2267"/>
                  </a:moveTo>
                  <a:lnTo>
                    <a:pt x="681" y="2257"/>
                  </a:lnTo>
                  <a:lnTo>
                    <a:pt x="692" y="2246"/>
                  </a:lnTo>
                  <a:lnTo>
                    <a:pt x="698" y="2240"/>
                  </a:lnTo>
                  <a:lnTo>
                    <a:pt x="709" y="2240"/>
                  </a:lnTo>
                  <a:lnTo>
                    <a:pt x="714" y="2235"/>
                  </a:lnTo>
                  <a:lnTo>
                    <a:pt x="725" y="2240"/>
                  </a:lnTo>
                  <a:lnTo>
                    <a:pt x="736" y="2246"/>
                  </a:lnTo>
                  <a:lnTo>
                    <a:pt x="747" y="2251"/>
                  </a:lnTo>
                  <a:lnTo>
                    <a:pt x="758" y="2262"/>
                  </a:lnTo>
                  <a:lnTo>
                    <a:pt x="763" y="2267"/>
                  </a:lnTo>
                  <a:lnTo>
                    <a:pt x="758" y="2278"/>
                  </a:lnTo>
                  <a:lnTo>
                    <a:pt x="747" y="2284"/>
                  </a:lnTo>
                  <a:lnTo>
                    <a:pt x="736" y="2295"/>
                  </a:lnTo>
                  <a:lnTo>
                    <a:pt x="725" y="2300"/>
                  </a:lnTo>
                  <a:lnTo>
                    <a:pt x="714" y="2300"/>
                  </a:lnTo>
                  <a:lnTo>
                    <a:pt x="709" y="2300"/>
                  </a:lnTo>
                  <a:lnTo>
                    <a:pt x="698" y="2295"/>
                  </a:lnTo>
                  <a:lnTo>
                    <a:pt x="687" y="2289"/>
                  </a:lnTo>
                  <a:lnTo>
                    <a:pt x="681" y="2278"/>
                  </a:lnTo>
                  <a:lnTo>
                    <a:pt x="676" y="2267"/>
                  </a:lnTo>
                  <a:close/>
                  <a:moveTo>
                    <a:pt x="1303" y="671"/>
                  </a:moveTo>
                  <a:lnTo>
                    <a:pt x="1297" y="660"/>
                  </a:lnTo>
                  <a:lnTo>
                    <a:pt x="1297" y="649"/>
                  </a:lnTo>
                  <a:lnTo>
                    <a:pt x="1292" y="638"/>
                  </a:lnTo>
                  <a:lnTo>
                    <a:pt x="1286" y="632"/>
                  </a:lnTo>
                  <a:lnTo>
                    <a:pt x="1286" y="621"/>
                  </a:lnTo>
                  <a:lnTo>
                    <a:pt x="1281" y="611"/>
                  </a:lnTo>
                  <a:lnTo>
                    <a:pt x="1276" y="605"/>
                  </a:lnTo>
                  <a:lnTo>
                    <a:pt x="1276" y="594"/>
                  </a:lnTo>
                  <a:lnTo>
                    <a:pt x="1270" y="583"/>
                  </a:lnTo>
                  <a:lnTo>
                    <a:pt x="1265" y="578"/>
                  </a:lnTo>
                  <a:lnTo>
                    <a:pt x="1265" y="567"/>
                  </a:lnTo>
                  <a:lnTo>
                    <a:pt x="1259" y="556"/>
                  </a:lnTo>
                  <a:lnTo>
                    <a:pt x="1265" y="551"/>
                  </a:lnTo>
                  <a:lnTo>
                    <a:pt x="1276" y="545"/>
                  </a:lnTo>
                  <a:lnTo>
                    <a:pt x="1281" y="545"/>
                  </a:lnTo>
                  <a:lnTo>
                    <a:pt x="1286" y="545"/>
                  </a:lnTo>
                  <a:lnTo>
                    <a:pt x="1297" y="545"/>
                  </a:lnTo>
                  <a:lnTo>
                    <a:pt x="1303" y="545"/>
                  </a:lnTo>
                  <a:lnTo>
                    <a:pt x="1314" y="545"/>
                  </a:lnTo>
                  <a:lnTo>
                    <a:pt x="1319" y="545"/>
                  </a:lnTo>
                  <a:lnTo>
                    <a:pt x="1325" y="551"/>
                  </a:lnTo>
                  <a:lnTo>
                    <a:pt x="1336" y="551"/>
                  </a:lnTo>
                  <a:lnTo>
                    <a:pt x="1341" y="562"/>
                  </a:lnTo>
                  <a:lnTo>
                    <a:pt x="1346" y="562"/>
                  </a:lnTo>
                  <a:lnTo>
                    <a:pt x="1352" y="567"/>
                  </a:lnTo>
                  <a:lnTo>
                    <a:pt x="1363" y="572"/>
                  </a:lnTo>
                  <a:lnTo>
                    <a:pt x="1368" y="572"/>
                  </a:lnTo>
                  <a:lnTo>
                    <a:pt x="1379" y="572"/>
                  </a:lnTo>
                  <a:lnTo>
                    <a:pt x="1385" y="572"/>
                  </a:lnTo>
                  <a:lnTo>
                    <a:pt x="1396" y="572"/>
                  </a:lnTo>
                  <a:lnTo>
                    <a:pt x="1401" y="578"/>
                  </a:lnTo>
                  <a:lnTo>
                    <a:pt x="1406" y="578"/>
                  </a:lnTo>
                  <a:lnTo>
                    <a:pt x="1412" y="583"/>
                  </a:lnTo>
                  <a:lnTo>
                    <a:pt x="1423" y="589"/>
                  </a:lnTo>
                  <a:lnTo>
                    <a:pt x="1428" y="594"/>
                  </a:lnTo>
                  <a:lnTo>
                    <a:pt x="1434" y="600"/>
                  </a:lnTo>
                  <a:lnTo>
                    <a:pt x="1439" y="605"/>
                  </a:lnTo>
                  <a:lnTo>
                    <a:pt x="1450" y="611"/>
                  </a:lnTo>
                  <a:lnTo>
                    <a:pt x="1455" y="611"/>
                  </a:lnTo>
                  <a:lnTo>
                    <a:pt x="1461" y="616"/>
                  </a:lnTo>
                  <a:lnTo>
                    <a:pt x="1466" y="621"/>
                  </a:lnTo>
                  <a:lnTo>
                    <a:pt x="1477" y="627"/>
                  </a:lnTo>
                  <a:lnTo>
                    <a:pt x="1483" y="632"/>
                  </a:lnTo>
                  <a:lnTo>
                    <a:pt x="1483" y="638"/>
                  </a:lnTo>
                  <a:lnTo>
                    <a:pt x="1472" y="643"/>
                  </a:lnTo>
                  <a:lnTo>
                    <a:pt x="1466" y="649"/>
                  </a:lnTo>
                  <a:lnTo>
                    <a:pt x="1461" y="654"/>
                  </a:lnTo>
                  <a:lnTo>
                    <a:pt x="1455" y="654"/>
                  </a:lnTo>
                  <a:lnTo>
                    <a:pt x="1445" y="660"/>
                  </a:lnTo>
                  <a:lnTo>
                    <a:pt x="1439" y="660"/>
                  </a:lnTo>
                  <a:lnTo>
                    <a:pt x="1434" y="660"/>
                  </a:lnTo>
                  <a:lnTo>
                    <a:pt x="1423" y="660"/>
                  </a:lnTo>
                  <a:lnTo>
                    <a:pt x="1417" y="660"/>
                  </a:lnTo>
                  <a:lnTo>
                    <a:pt x="1406" y="660"/>
                  </a:lnTo>
                  <a:lnTo>
                    <a:pt x="1401" y="660"/>
                  </a:lnTo>
                  <a:lnTo>
                    <a:pt x="1390" y="660"/>
                  </a:lnTo>
                  <a:lnTo>
                    <a:pt x="1385" y="665"/>
                  </a:lnTo>
                  <a:lnTo>
                    <a:pt x="1379" y="665"/>
                  </a:lnTo>
                  <a:lnTo>
                    <a:pt x="1368" y="671"/>
                  </a:lnTo>
                  <a:lnTo>
                    <a:pt x="1363" y="676"/>
                  </a:lnTo>
                  <a:lnTo>
                    <a:pt x="1357" y="681"/>
                  </a:lnTo>
                  <a:lnTo>
                    <a:pt x="1346" y="681"/>
                  </a:lnTo>
                  <a:lnTo>
                    <a:pt x="1341" y="681"/>
                  </a:lnTo>
                  <a:lnTo>
                    <a:pt x="1330" y="681"/>
                  </a:lnTo>
                  <a:lnTo>
                    <a:pt x="1325" y="681"/>
                  </a:lnTo>
                  <a:lnTo>
                    <a:pt x="1319" y="681"/>
                  </a:lnTo>
                  <a:lnTo>
                    <a:pt x="1308" y="676"/>
                  </a:lnTo>
                  <a:lnTo>
                    <a:pt x="1303" y="671"/>
                  </a:lnTo>
                  <a:close/>
                  <a:moveTo>
                    <a:pt x="1074" y="3608"/>
                  </a:moveTo>
                  <a:lnTo>
                    <a:pt x="1112" y="3570"/>
                  </a:lnTo>
                  <a:lnTo>
                    <a:pt x="1150" y="3570"/>
                  </a:lnTo>
                  <a:lnTo>
                    <a:pt x="1188" y="3532"/>
                  </a:lnTo>
                  <a:lnTo>
                    <a:pt x="1221" y="3532"/>
                  </a:lnTo>
                  <a:lnTo>
                    <a:pt x="1259" y="3532"/>
                  </a:lnTo>
                  <a:lnTo>
                    <a:pt x="1297" y="3494"/>
                  </a:lnTo>
                  <a:lnTo>
                    <a:pt x="1336" y="3494"/>
                  </a:lnTo>
                  <a:lnTo>
                    <a:pt x="1374" y="3456"/>
                  </a:lnTo>
                  <a:lnTo>
                    <a:pt x="1406" y="3456"/>
                  </a:lnTo>
                  <a:lnTo>
                    <a:pt x="1445" y="3423"/>
                  </a:lnTo>
                  <a:lnTo>
                    <a:pt x="1483" y="3423"/>
                  </a:lnTo>
                  <a:lnTo>
                    <a:pt x="1521" y="3423"/>
                  </a:lnTo>
                  <a:lnTo>
                    <a:pt x="1521" y="3385"/>
                  </a:lnTo>
                  <a:lnTo>
                    <a:pt x="1554" y="3347"/>
                  </a:lnTo>
                  <a:lnTo>
                    <a:pt x="1554" y="3308"/>
                  </a:lnTo>
                  <a:lnTo>
                    <a:pt x="1592" y="3270"/>
                  </a:lnTo>
                  <a:lnTo>
                    <a:pt x="1592" y="3238"/>
                  </a:lnTo>
                  <a:lnTo>
                    <a:pt x="1630" y="3199"/>
                  </a:lnTo>
                  <a:lnTo>
                    <a:pt x="1630" y="3161"/>
                  </a:lnTo>
                  <a:lnTo>
                    <a:pt x="1668" y="3123"/>
                  </a:lnTo>
                  <a:lnTo>
                    <a:pt x="1668" y="3085"/>
                  </a:lnTo>
                  <a:lnTo>
                    <a:pt x="1706" y="3047"/>
                  </a:lnTo>
                  <a:lnTo>
                    <a:pt x="1706" y="3014"/>
                  </a:lnTo>
                  <a:lnTo>
                    <a:pt x="1739" y="2976"/>
                  </a:lnTo>
                  <a:lnTo>
                    <a:pt x="1739" y="2938"/>
                  </a:lnTo>
                  <a:lnTo>
                    <a:pt x="1777" y="2900"/>
                  </a:lnTo>
                  <a:lnTo>
                    <a:pt x="1777" y="2862"/>
                  </a:lnTo>
                  <a:lnTo>
                    <a:pt x="1815" y="2823"/>
                  </a:lnTo>
                  <a:lnTo>
                    <a:pt x="1815" y="2791"/>
                  </a:lnTo>
                  <a:lnTo>
                    <a:pt x="1854" y="2753"/>
                  </a:lnTo>
                  <a:lnTo>
                    <a:pt x="1854" y="2714"/>
                  </a:lnTo>
                  <a:lnTo>
                    <a:pt x="1892" y="2676"/>
                  </a:lnTo>
                  <a:lnTo>
                    <a:pt x="1892" y="2638"/>
                  </a:lnTo>
                  <a:lnTo>
                    <a:pt x="1924" y="2600"/>
                  </a:lnTo>
                  <a:lnTo>
                    <a:pt x="1924" y="2567"/>
                  </a:lnTo>
                  <a:lnTo>
                    <a:pt x="1963" y="2529"/>
                  </a:lnTo>
                  <a:lnTo>
                    <a:pt x="1963" y="2491"/>
                  </a:lnTo>
                  <a:lnTo>
                    <a:pt x="2001" y="2453"/>
                  </a:lnTo>
                  <a:lnTo>
                    <a:pt x="2001" y="2415"/>
                  </a:lnTo>
                  <a:lnTo>
                    <a:pt x="2039" y="2382"/>
                  </a:lnTo>
                  <a:lnTo>
                    <a:pt x="2039" y="2344"/>
                  </a:lnTo>
                  <a:lnTo>
                    <a:pt x="2077" y="2306"/>
                  </a:lnTo>
                  <a:lnTo>
                    <a:pt x="2077" y="2267"/>
                  </a:lnTo>
                  <a:lnTo>
                    <a:pt x="2110" y="2229"/>
                  </a:lnTo>
                  <a:lnTo>
                    <a:pt x="2110" y="2191"/>
                  </a:lnTo>
                  <a:lnTo>
                    <a:pt x="2148" y="2158"/>
                  </a:lnTo>
                  <a:lnTo>
                    <a:pt x="2148" y="2120"/>
                  </a:lnTo>
                  <a:lnTo>
                    <a:pt x="2186" y="2082"/>
                  </a:lnTo>
                  <a:lnTo>
                    <a:pt x="2186" y="2044"/>
                  </a:lnTo>
                  <a:lnTo>
                    <a:pt x="2224" y="2006"/>
                  </a:lnTo>
                  <a:lnTo>
                    <a:pt x="2224" y="1968"/>
                  </a:lnTo>
                  <a:lnTo>
                    <a:pt x="2224" y="1935"/>
                  </a:lnTo>
                  <a:lnTo>
                    <a:pt x="2262" y="1897"/>
                  </a:lnTo>
                  <a:lnTo>
                    <a:pt x="2262" y="1859"/>
                  </a:lnTo>
                  <a:lnTo>
                    <a:pt x="2262" y="1821"/>
                  </a:lnTo>
                  <a:lnTo>
                    <a:pt x="2295" y="1782"/>
                  </a:lnTo>
                  <a:lnTo>
                    <a:pt x="2295" y="1750"/>
                  </a:lnTo>
                  <a:lnTo>
                    <a:pt x="2295" y="1712"/>
                  </a:lnTo>
                  <a:lnTo>
                    <a:pt x="2333" y="1673"/>
                  </a:lnTo>
                  <a:lnTo>
                    <a:pt x="2333" y="1635"/>
                  </a:lnTo>
                  <a:lnTo>
                    <a:pt x="2333" y="1597"/>
                  </a:lnTo>
                  <a:lnTo>
                    <a:pt x="2333" y="1559"/>
                  </a:lnTo>
                  <a:lnTo>
                    <a:pt x="2333" y="1526"/>
                  </a:lnTo>
                  <a:lnTo>
                    <a:pt x="2371" y="1488"/>
                  </a:lnTo>
                  <a:lnTo>
                    <a:pt x="2371" y="1450"/>
                  </a:lnTo>
                  <a:lnTo>
                    <a:pt x="2371" y="1412"/>
                  </a:lnTo>
                  <a:lnTo>
                    <a:pt x="2371" y="1374"/>
                  </a:lnTo>
                  <a:lnTo>
                    <a:pt x="2371" y="1335"/>
                  </a:lnTo>
                  <a:lnTo>
                    <a:pt x="2371" y="1303"/>
                  </a:lnTo>
                  <a:lnTo>
                    <a:pt x="2371" y="1265"/>
                  </a:lnTo>
                  <a:lnTo>
                    <a:pt x="2410" y="1226"/>
                  </a:lnTo>
                  <a:lnTo>
                    <a:pt x="2410" y="1188"/>
                  </a:lnTo>
                  <a:lnTo>
                    <a:pt x="2410" y="1150"/>
                  </a:lnTo>
                  <a:lnTo>
                    <a:pt x="2410" y="1117"/>
                  </a:lnTo>
                  <a:lnTo>
                    <a:pt x="2410" y="1079"/>
                  </a:lnTo>
                  <a:lnTo>
                    <a:pt x="2410" y="1041"/>
                  </a:lnTo>
                  <a:lnTo>
                    <a:pt x="2410" y="1003"/>
                  </a:lnTo>
                  <a:lnTo>
                    <a:pt x="2448" y="965"/>
                  </a:lnTo>
                  <a:lnTo>
                    <a:pt x="2448" y="927"/>
                  </a:lnTo>
                  <a:lnTo>
                    <a:pt x="2448" y="894"/>
                  </a:lnTo>
                  <a:lnTo>
                    <a:pt x="2448" y="856"/>
                  </a:lnTo>
                  <a:lnTo>
                    <a:pt x="2448" y="818"/>
                  </a:lnTo>
                  <a:lnTo>
                    <a:pt x="2448" y="780"/>
                  </a:lnTo>
                  <a:lnTo>
                    <a:pt x="2448" y="741"/>
                  </a:lnTo>
                  <a:lnTo>
                    <a:pt x="2481" y="703"/>
                  </a:lnTo>
                  <a:lnTo>
                    <a:pt x="2481" y="671"/>
                  </a:lnTo>
                  <a:lnTo>
                    <a:pt x="2481" y="632"/>
                  </a:lnTo>
                  <a:lnTo>
                    <a:pt x="2481" y="594"/>
                  </a:lnTo>
                  <a:lnTo>
                    <a:pt x="2481" y="556"/>
                  </a:lnTo>
                  <a:lnTo>
                    <a:pt x="2481" y="518"/>
                  </a:lnTo>
                  <a:lnTo>
                    <a:pt x="2481" y="485"/>
                  </a:lnTo>
                  <a:lnTo>
                    <a:pt x="2519" y="447"/>
                  </a:lnTo>
                  <a:lnTo>
                    <a:pt x="2519" y="409"/>
                  </a:lnTo>
                  <a:lnTo>
                    <a:pt x="2519" y="371"/>
                  </a:lnTo>
                  <a:lnTo>
                    <a:pt x="2519" y="333"/>
                  </a:lnTo>
                  <a:lnTo>
                    <a:pt x="2519" y="294"/>
                  </a:lnTo>
                  <a:lnTo>
                    <a:pt x="2519" y="262"/>
                  </a:lnTo>
                  <a:lnTo>
                    <a:pt x="2519" y="224"/>
                  </a:lnTo>
                  <a:lnTo>
                    <a:pt x="2557" y="185"/>
                  </a:lnTo>
                  <a:lnTo>
                    <a:pt x="2557" y="147"/>
                  </a:lnTo>
                  <a:lnTo>
                    <a:pt x="2557" y="109"/>
                  </a:lnTo>
                  <a:lnTo>
                    <a:pt x="2557" y="71"/>
                  </a:lnTo>
                  <a:lnTo>
                    <a:pt x="2557" y="38"/>
                  </a:lnTo>
                  <a:lnTo>
                    <a:pt x="2557" y="0"/>
                  </a:lnTo>
                  <a:lnTo>
                    <a:pt x="2519" y="0"/>
                  </a:lnTo>
                  <a:lnTo>
                    <a:pt x="2481" y="0"/>
                  </a:lnTo>
                  <a:lnTo>
                    <a:pt x="2448" y="0"/>
                  </a:lnTo>
                  <a:lnTo>
                    <a:pt x="2410" y="0"/>
                  </a:lnTo>
                  <a:lnTo>
                    <a:pt x="2371" y="38"/>
                  </a:lnTo>
                  <a:lnTo>
                    <a:pt x="2333" y="38"/>
                  </a:lnTo>
                  <a:lnTo>
                    <a:pt x="2295" y="38"/>
                  </a:lnTo>
                  <a:lnTo>
                    <a:pt x="2262" y="71"/>
                  </a:lnTo>
                  <a:lnTo>
                    <a:pt x="2224" y="71"/>
                  </a:lnTo>
                  <a:lnTo>
                    <a:pt x="2186" y="71"/>
                  </a:lnTo>
                  <a:lnTo>
                    <a:pt x="2148" y="109"/>
                  </a:lnTo>
                  <a:lnTo>
                    <a:pt x="2110" y="109"/>
                  </a:lnTo>
                  <a:lnTo>
                    <a:pt x="2077" y="147"/>
                  </a:lnTo>
                  <a:lnTo>
                    <a:pt x="2039" y="147"/>
                  </a:lnTo>
                  <a:lnTo>
                    <a:pt x="2001" y="147"/>
                  </a:lnTo>
                  <a:lnTo>
                    <a:pt x="1963" y="185"/>
                  </a:lnTo>
                  <a:lnTo>
                    <a:pt x="1924" y="185"/>
                  </a:lnTo>
                  <a:lnTo>
                    <a:pt x="1892" y="185"/>
                  </a:lnTo>
                  <a:lnTo>
                    <a:pt x="1854" y="224"/>
                  </a:lnTo>
                  <a:lnTo>
                    <a:pt x="1815" y="224"/>
                  </a:lnTo>
                  <a:lnTo>
                    <a:pt x="1777" y="224"/>
                  </a:lnTo>
                  <a:lnTo>
                    <a:pt x="1739" y="262"/>
                  </a:lnTo>
                  <a:lnTo>
                    <a:pt x="1706" y="262"/>
                  </a:lnTo>
                  <a:lnTo>
                    <a:pt x="1668" y="262"/>
                  </a:lnTo>
                  <a:lnTo>
                    <a:pt x="1630" y="294"/>
                  </a:lnTo>
                  <a:lnTo>
                    <a:pt x="1592" y="294"/>
                  </a:lnTo>
                  <a:lnTo>
                    <a:pt x="1554" y="294"/>
                  </a:lnTo>
                  <a:lnTo>
                    <a:pt x="1521" y="333"/>
                  </a:lnTo>
                  <a:lnTo>
                    <a:pt x="1483" y="333"/>
                  </a:lnTo>
                  <a:lnTo>
                    <a:pt x="1445" y="333"/>
                  </a:lnTo>
                  <a:lnTo>
                    <a:pt x="1406" y="371"/>
                  </a:lnTo>
                  <a:lnTo>
                    <a:pt x="1374" y="371"/>
                  </a:lnTo>
                  <a:lnTo>
                    <a:pt x="1336" y="409"/>
                  </a:lnTo>
                  <a:lnTo>
                    <a:pt x="1297" y="409"/>
                  </a:lnTo>
                  <a:lnTo>
                    <a:pt x="1259" y="409"/>
                  </a:lnTo>
                  <a:lnTo>
                    <a:pt x="1221" y="447"/>
                  </a:lnTo>
                  <a:lnTo>
                    <a:pt x="1188" y="447"/>
                  </a:lnTo>
                  <a:lnTo>
                    <a:pt x="1150" y="447"/>
                  </a:lnTo>
                  <a:lnTo>
                    <a:pt x="1112" y="485"/>
                  </a:lnTo>
                  <a:lnTo>
                    <a:pt x="1074" y="485"/>
                  </a:lnTo>
                  <a:lnTo>
                    <a:pt x="1036" y="485"/>
                  </a:lnTo>
                  <a:lnTo>
                    <a:pt x="1003" y="518"/>
                  </a:lnTo>
                  <a:lnTo>
                    <a:pt x="965" y="518"/>
                  </a:lnTo>
                  <a:lnTo>
                    <a:pt x="927" y="518"/>
                  </a:lnTo>
                  <a:lnTo>
                    <a:pt x="888" y="556"/>
                  </a:lnTo>
                  <a:lnTo>
                    <a:pt x="850" y="556"/>
                  </a:lnTo>
                  <a:lnTo>
                    <a:pt x="818" y="556"/>
                  </a:lnTo>
                  <a:lnTo>
                    <a:pt x="779" y="594"/>
                  </a:lnTo>
                  <a:lnTo>
                    <a:pt x="741" y="594"/>
                  </a:lnTo>
                  <a:lnTo>
                    <a:pt x="703" y="594"/>
                  </a:lnTo>
                  <a:lnTo>
                    <a:pt x="665" y="632"/>
                  </a:lnTo>
                  <a:lnTo>
                    <a:pt x="632" y="632"/>
                  </a:lnTo>
                  <a:lnTo>
                    <a:pt x="594" y="632"/>
                  </a:lnTo>
                  <a:lnTo>
                    <a:pt x="556" y="671"/>
                  </a:lnTo>
                  <a:lnTo>
                    <a:pt x="518" y="671"/>
                  </a:lnTo>
                  <a:lnTo>
                    <a:pt x="480" y="703"/>
                  </a:lnTo>
                  <a:lnTo>
                    <a:pt x="447" y="703"/>
                  </a:lnTo>
                  <a:lnTo>
                    <a:pt x="409" y="703"/>
                  </a:lnTo>
                  <a:lnTo>
                    <a:pt x="370" y="741"/>
                  </a:lnTo>
                  <a:lnTo>
                    <a:pt x="332" y="741"/>
                  </a:lnTo>
                  <a:lnTo>
                    <a:pt x="300" y="741"/>
                  </a:lnTo>
                  <a:lnTo>
                    <a:pt x="261" y="780"/>
                  </a:lnTo>
                  <a:lnTo>
                    <a:pt x="223" y="780"/>
                  </a:lnTo>
                  <a:lnTo>
                    <a:pt x="185" y="780"/>
                  </a:lnTo>
                  <a:lnTo>
                    <a:pt x="147" y="818"/>
                  </a:lnTo>
                  <a:lnTo>
                    <a:pt x="114" y="818"/>
                  </a:lnTo>
                  <a:lnTo>
                    <a:pt x="114" y="856"/>
                  </a:lnTo>
                  <a:lnTo>
                    <a:pt x="114" y="894"/>
                  </a:lnTo>
                  <a:lnTo>
                    <a:pt x="114" y="927"/>
                  </a:lnTo>
                  <a:lnTo>
                    <a:pt x="114" y="965"/>
                  </a:lnTo>
                  <a:lnTo>
                    <a:pt x="114" y="1003"/>
                  </a:lnTo>
                  <a:lnTo>
                    <a:pt x="76" y="1041"/>
                  </a:lnTo>
                  <a:lnTo>
                    <a:pt x="76" y="1079"/>
                  </a:lnTo>
                  <a:lnTo>
                    <a:pt x="76" y="1117"/>
                  </a:lnTo>
                  <a:lnTo>
                    <a:pt x="76" y="1150"/>
                  </a:lnTo>
                  <a:lnTo>
                    <a:pt x="76" y="1188"/>
                  </a:lnTo>
                  <a:lnTo>
                    <a:pt x="76" y="1226"/>
                  </a:lnTo>
                  <a:lnTo>
                    <a:pt x="76" y="1265"/>
                  </a:lnTo>
                  <a:lnTo>
                    <a:pt x="76" y="1303"/>
                  </a:lnTo>
                  <a:lnTo>
                    <a:pt x="76" y="1335"/>
                  </a:lnTo>
                  <a:lnTo>
                    <a:pt x="76" y="1374"/>
                  </a:lnTo>
                  <a:lnTo>
                    <a:pt x="76" y="1412"/>
                  </a:lnTo>
                  <a:lnTo>
                    <a:pt x="76" y="1450"/>
                  </a:lnTo>
                  <a:lnTo>
                    <a:pt x="76" y="1488"/>
                  </a:lnTo>
                  <a:lnTo>
                    <a:pt x="76" y="1526"/>
                  </a:lnTo>
                  <a:lnTo>
                    <a:pt x="76" y="1559"/>
                  </a:lnTo>
                  <a:lnTo>
                    <a:pt x="76" y="1597"/>
                  </a:lnTo>
                  <a:lnTo>
                    <a:pt x="76" y="1635"/>
                  </a:lnTo>
                  <a:lnTo>
                    <a:pt x="76" y="1673"/>
                  </a:lnTo>
                  <a:lnTo>
                    <a:pt x="38" y="1712"/>
                  </a:lnTo>
                  <a:lnTo>
                    <a:pt x="38" y="1750"/>
                  </a:lnTo>
                  <a:lnTo>
                    <a:pt x="38" y="1782"/>
                  </a:lnTo>
                  <a:lnTo>
                    <a:pt x="38" y="1821"/>
                  </a:lnTo>
                  <a:lnTo>
                    <a:pt x="38" y="1859"/>
                  </a:lnTo>
                  <a:lnTo>
                    <a:pt x="38" y="1897"/>
                  </a:lnTo>
                  <a:lnTo>
                    <a:pt x="38" y="1935"/>
                  </a:lnTo>
                  <a:lnTo>
                    <a:pt x="38" y="1968"/>
                  </a:lnTo>
                  <a:lnTo>
                    <a:pt x="38" y="2006"/>
                  </a:lnTo>
                  <a:lnTo>
                    <a:pt x="38" y="2044"/>
                  </a:lnTo>
                  <a:lnTo>
                    <a:pt x="38" y="2082"/>
                  </a:lnTo>
                  <a:lnTo>
                    <a:pt x="38" y="2120"/>
                  </a:lnTo>
                  <a:lnTo>
                    <a:pt x="38" y="2158"/>
                  </a:lnTo>
                  <a:lnTo>
                    <a:pt x="38" y="2191"/>
                  </a:lnTo>
                  <a:lnTo>
                    <a:pt x="38" y="2229"/>
                  </a:lnTo>
                  <a:lnTo>
                    <a:pt x="38" y="2267"/>
                  </a:lnTo>
                  <a:lnTo>
                    <a:pt x="38" y="2306"/>
                  </a:lnTo>
                  <a:lnTo>
                    <a:pt x="0" y="2344"/>
                  </a:lnTo>
                  <a:lnTo>
                    <a:pt x="0" y="2382"/>
                  </a:lnTo>
                  <a:lnTo>
                    <a:pt x="0" y="2415"/>
                  </a:lnTo>
                  <a:lnTo>
                    <a:pt x="0" y="2453"/>
                  </a:lnTo>
                  <a:lnTo>
                    <a:pt x="0" y="2491"/>
                  </a:lnTo>
                  <a:lnTo>
                    <a:pt x="0" y="2529"/>
                  </a:lnTo>
                  <a:lnTo>
                    <a:pt x="0" y="2567"/>
                  </a:lnTo>
                  <a:lnTo>
                    <a:pt x="0" y="2600"/>
                  </a:lnTo>
                  <a:lnTo>
                    <a:pt x="0" y="2638"/>
                  </a:lnTo>
                  <a:lnTo>
                    <a:pt x="0" y="2676"/>
                  </a:lnTo>
                  <a:lnTo>
                    <a:pt x="0" y="2714"/>
                  </a:lnTo>
                  <a:lnTo>
                    <a:pt x="0" y="2753"/>
                  </a:lnTo>
                  <a:lnTo>
                    <a:pt x="0" y="2791"/>
                  </a:lnTo>
                  <a:lnTo>
                    <a:pt x="0" y="2823"/>
                  </a:lnTo>
                  <a:lnTo>
                    <a:pt x="0" y="2862"/>
                  </a:lnTo>
                  <a:lnTo>
                    <a:pt x="0" y="2900"/>
                  </a:lnTo>
                  <a:lnTo>
                    <a:pt x="0" y="2938"/>
                  </a:lnTo>
                  <a:lnTo>
                    <a:pt x="0" y="2976"/>
                  </a:lnTo>
                  <a:lnTo>
                    <a:pt x="0" y="3014"/>
                  </a:lnTo>
                  <a:lnTo>
                    <a:pt x="38" y="3014"/>
                  </a:lnTo>
                  <a:lnTo>
                    <a:pt x="76" y="3047"/>
                  </a:lnTo>
                  <a:lnTo>
                    <a:pt x="114" y="3047"/>
                  </a:lnTo>
                  <a:lnTo>
                    <a:pt x="147" y="3085"/>
                  </a:lnTo>
                  <a:lnTo>
                    <a:pt x="185" y="3123"/>
                  </a:lnTo>
                  <a:lnTo>
                    <a:pt x="223" y="3123"/>
                  </a:lnTo>
                  <a:lnTo>
                    <a:pt x="261" y="3161"/>
                  </a:lnTo>
                  <a:lnTo>
                    <a:pt x="300" y="3199"/>
                  </a:lnTo>
                  <a:lnTo>
                    <a:pt x="332" y="3199"/>
                  </a:lnTo>
                  <a:lnTo>
                    <a:pt x="370" y="3238"/>
                  </a:lnTo>
                  <a:lnTo>
                    <a:pt x="409" y="3270"/>
                  </a:lnTo>
                  <a:lnTo>
                    <a:pt x="447" y="3270"/>
                  </a:lnTo>
                  <a:lnTo>
                    <a:pt x="480" y="3308"/>
                  </a:lnTo>
                  <a:lnTo>
                    <a:pt x="518" y="3347"/>
                  </a:lnTo>
                  <a:lnTo>
                    <a:pt x="556" y="3347"/>
                  </a:lnTo>
                  <a:lnTo>
                    <a:pt x="594" y="3385"/>
                  </a:lnTo>
                  <a:lnTo>
                    <a:pt x="632" y="3385"/>
                  </a:lnTo>
                  <a:lnTo>
                    <a:pt x="665" y="3423"/>
                  </a:lnTo>
                  <a:lnTo>
                    <a:pt x="703" y="3456"/>
                  </a:lnTo>
                  <a:lnTo>
                    <a:pt x="741" y="3456"/>
                  </a:lnTo>
                  <a:lnTo>
                    <a:pt x="779" y="3494"/>
                  </a:lnTo>
                  <a:lnTo>
                    <a:pt x="818" y="3532"/>
                  </a:lnTo>
                  <a:lnTo>
                    <a:pt x="850" y="3532"/>
                  </a:lnTo>
                  <a:lnTo>
                    <a:pt x="888" y="3570"/>
                  </a:lnTo>
                  <a:lnTo>
                    <a:pt x="927" y="3570"/>
                  </a:lnTo>
                  <a:lnTo>
                    <a:pt x="965" y="3608"/>
                  </a:lnTo>
                  <a:lnTo>
                    <a:pt x="1003" y="3608"/>
                  </a:lnTo>
                  <a:lnTo>
                    <a:pt x="1036" y="3608"/>
                  </a:lnTo>
                  <a:lnTo>
                    <a:pt x="1074" y="3608"/>
                  </a:lnTo>
                  <a:close/>
                  <a:moveTo>
                    <a:pt x="109" y="3014"/>
                  </a:moveTo>
                  <a:lnTo>
                    <a:pt x="103" y="3003"/>
                  </a:lnTo>
                  <a:lnTo>
                    <a:pt x="98" y="2998"/>
                  </a:lnTo>
                  <a:lnTo>
                    <a:pt x="92" y="2992"/>
                  </a:lnTo>
                  <a:lnTo>
                    <a:pt x="87" y="2987"/>
                  </a:lnTo>
                  <a:lnTo>
                    <a:pt x="82" y="2981"/>
                  </a:lnTo>
                  <a:lnTo>
                    <a:pt x="82" y="2976"/>
                  </a:lnTo>
                  <a:lnTo>
                    <a:pt x="87" y="2971"/>
                  </a:lnTo>
                  <a:lnTo>
                    <a:pt x="87" y="2965"/>
                  </a:lnTo>
                  <a:lnTo>
                    <a:pt x="92" y="2960"/>
                  </a:lnTo>
                  <a:lnTo>
                    <a:pt x="98" y="2954"/>
                  </a:lnTo>
                  <a:lnTo>
                    <a:pt x="103" y="2949"/>
                  </a:lnTo>
                  <a:lnTo>
                    <a:pt x="109" y="2943"/>
                  </a:lnTo>
                  <a:lnTo>
                    <a:pt x="114" y="2938"/>
                  </a:lnTo>
                  <a:lnTo>
                    <a:pt x="120" y="2932"/>
                  </a:lnTo>
                  <a:lnTo>
                    <a:pt x="120" y="2927"/>
                  </a:lnTo>
                  <a:lnTo>
                    <a:pt x="125" y="2922"/>
                  </a:lnTo>
                  <a:lnTo>
                    <a:pt x="131" y="2916"/>
                  </a:lnTo>
                  <a:lnTo>
                    <a:pt x="136" y="2911"/>
                  </a:lnTo>
                  <a:lnTo>
                    <a:pt x="141" y="2905"/>
                  </a:lnTo>
                  <a:lnTo>
                    <a:pt x="141" y="2900"/>
                  </a:lnTo>
                  <a:lnTo>
                    <a:pt x="147" y="2894"/>
                  </a:lnTo>
                  <a:lnTo>
                    <a:pt x="152" y="2894"/>
                  </a:lnTo>
                  <a:lnTo>
                    <a:pt x="158" y="2894"/>
                  </a:lnTo>
                  <a:lnTo>
                    <a:pt x="163" y="2905"/>
                  </a:lnTo>
                  <a:lnTo>
                    <a:pt x="163" y="2911"/>
                  </a:lnTo>
                  <a:lnTo>
                    <a:pt x="163" y="2922"/>
                  </a:lnTo>
                  <a:lnTo>
                    <a:pt x="158" y="2927"/>
                  </a:lnTo>
                  <a:lnTo>
                    <a:pt x="158" y="2938"/>
                  </a:lnTo>
                  <a:lnTo>
                    <a:pt x="152" y="2943"/>
                  </a:lnTo>
                  <a:lnTo>
                    <a:pt x="152" y="2954"/>
                  </a:lnTo>
                  <a:lnTo>
                    <a:pt x="152" y="2960"/>
                  </a:lnTo>
                  <a:lnTo>
                    <a:pt x="147" y="2965"/>
                  </a:lnTo>
                  <a:lnTo>
                    <a:pt x="147" y="2976"/>
                  </a:lnTo>
                  <a:lnTo>
                    <a:pt x="147" y="2981"/>
                  </a:lnTo>
                  <a:lnTo>
                    <a:pt x="147" y="2992"/>
                  </a:lnTo>
                  <a:lnTo>
                    <a:pt x="147" y="2998"/>
                  </a:lnTo>
                  <a:lnTo>
                    <a:pt x="147" y="3009"/>
                  </a:lnTo>
                  <a:lnTo>
                    <a:pt x="147" y="3014"/>
                  </a:lnTo>
                  <a:lnTo>
                    <a:pt x="141" y="3014"/>
                  </a:lnTo>
                  <a:lnTo>
                    <a:pt x="136" y="3014"/>
                  </a:lnTo>
                  <a:lnTo>
                    <a:pt x="131" y="3014"/>
                  </a:lnTo>
                  <a:lnTo>
                    <a:pt x="120" y="3014"/>
                  </a:lnTo>
                  <a:lnTo>
                    <a:pt x="114" y="3014"/>
                  </a:lnTo>
                  <a:lnTo>
                    <a:pt x="109" y="3014"/>
                  </a:lnTo>
                  <a:close/>
                  <a:moveTo>
                    <a:pt x="1505" y="2753"/>
                  </a:moveTo>
                  <a:lnTo>
                    <a:pt x="1505" y="2742"/>
                  </a:lnTo>
                  <a:lnTo>
                    <a:pt x="1510" y="2731"/>
                  </a:lnTo>
                  <a:lnTo>
                    <a:pt x="1515" y="2720"/>
                  </a:lnTo>
                  <a:lnTo>
                    <a:pt x="1521" y="2714"/>
                  </a:lnTo>
                  <a:lnTo>
                    <a:pt x="1521" y="2703"/>
                  </a:lnTo>
                  <a:lnTo>
                    <a:pt x="1526" y="2693"/>
                  </a:lnTo>
                  <a:lnTo>
                    <a:pt x="1532" y="2682"/>
                  </a:lnTo>
                  <a:lnTo>
                    <a:pt x="1537" y="2671"/>
                  </a:lnTo>
                  <a:lnTo>
                    <a:pt x="1537" y="2665"/>
                  </a:lnTo>
                  <a:lnTo>
                    <a:pt x="1543" y="2654"/>
                  </a:lnTo>
                  <a:lnTo>
                    <a:pt x="1548" y="2644"/>
                  </a:lnTo>
                  <a:lnTo>
                    <a:pt x="1554" y="2638"/>
                  </a:lnTo>
                  <a:lnTo>
                    <a:pt x="1565" y="2633"/>
                  </a:lnTo>
                  <a:lnTo>
                    <a:pt x="1570" y="2627"/>
                  </a:lnTo>
                  <a:lnTo>
                    <a:pt x="1575" y="2622"/>
                  </a:lnTo>
                  <a:lnTo>
                    <a:pt x="1581" y="2611"/>
                  </a:lnTo>
                  <a:lnTo>
                    <a:pt x="1592" y="2605"/>
                  </a:lnTo>
                  <a:lnTo>
                    <a:pt x="1597" y="2600"/>
                  </a:lnTo>
                  <a:lnTo>
                    <a:pt x="1603" y="2594"/>
                  </a:lnTo>
                  <a:lnTo>
                    <a:pt x="1608" y="2589"/>
                  </a:lnTo>
                  <a:lnTo>
                    <a:pt x="1619" y="2584"/>
                  </a:lnTo>
                  <a:lnTo>
                    <a:pt x="1625" y="2578"/>
                  </a:lnTo>
                  <a:lnTo>
                    <a:pt x="1630" y="2567"/>
                  </a:lnTo>
                  <a:lnTo>
                    <a:pt x="1635" y="2562"/>
                  </a:lnTo>
                  <a:lnTo>
                    <a:pt x="1646" y="2556"/>
                  </a:lnTo>
                  <a:lnTo>
                    <a:pt x="1652" y="2551"/>
                  </a:lnTo>
                  <a:lnTo>
                    <a:pt x="1657" y="2545"/>
                  </a:lnTo>
                  <a:lnTo>
                    <a:pt x="1663" y="2540"/>
                  </a:lnTo>
                  <a:lnTo>
                    <a:pt x="1674" y="2529"/>
                  </a:lnTo>
                  <a:lnTo>
                    <a:pt x="1679" y="2524"/>
                  </a:lnTo>
                  <a:lnTo>
                    <a:pt x="1684" y="2518"/>
                  </a:lnTo>
                  <a:lnTo>
                    <a:pt x="1690" y="2513"/>
                  </a:lnTo>
                  <a:lnTo>
                    <a:pt x="1701" y="2507"/>
                  </a:lnTo>
                  <a:lnTo>
                    <a:pt x="1706" y="2502"/>
                  </a:lnTo>
                  <a:lnTo>
                    <a:pt x="1712" y="2496"/>
                  </a:lnTo>
                  <a:lnTo>
                    <a:pt x="1717" y="2485"/>
                  </a:lnTo>
                  <a:lnTo>
                    <a:pt x="1728" y="2475"/>
                  </a:lnTo>
                  <a:lnTo>
                    <a:pt x="1734" y="2469"/>
                  </a:lnTo>
                  <a:lnTo>
                    <a:pt x="1739" y="2464"/>
                  </a:lnTo>
                  <a:lnTo>
                    <a:pt x="1744" y="2469"/>
                  </a:lnTo>
                  <a:lnTo>
                    <a:pt x="1750" y="2480"/>
                  </a:lnTo>
                  <a:lnTo>
                    <a:pt x="1755" y="2491"/>
                  </a:lnTo>
                  <a:lnTo>
                    <a:pt x="1755" y="2502"/>
                  </a:lnTo>
                  <a:lnTo>
                    <a:pt x="1755" y="2513"/>
                  </a:lnTo>
                  <a:lnTo>
                    <a:pt x="1750" y="2524"/>
                  </a:lnTo>
                  <a:lnTo>
                    <a:pt x="1744" y="2535"/>
                  </a:lnTo>
                  <a:lnTo>
                    <a:pt x="1744" y="2545"/>
                  </a:lnTo>
                  <a:lnTo>
                    <a:pt x="1739" y="2556"/>
                  </a:lnTo>
                  <a:lnTo>
                    <a:pt x="1739" y="2567"/>
                  </a:lnTo>
                  <a:lnTo>
                    <a:pt x="1739" y="2578"/>
                  </a:lnTo>
                  <a:lnTo>
                    <a:pt x="1734" y="2589"/>
                  </a:lnTo>
                  <a:lnTo>
                    <a:pt x="1734" y="2600"/>
                  </a:lnTo>
                  <a:lnTo>
                    <a:pt x="1734" y="2611"/>
                  </a:lnTo>
                  <a:lnTo>
                    <a:pt x="1728" y="2622"/>
                  </a:lnTo>
                  <a:lnTo>
                    <a:pt x="1728" y="2633"/>
                  </a:lnTo>
                  <a:lnTo>
                    <a:pt x="1728" y="2644"/>
                  </a:lnTo>
                  <a:lnTo>
                    <a:pt x="1723" y="2654"/>
                  </a:lnTo>
                  <a:lnTo>
                    <a:pt x="1723" y="2665"/>
                  </a:lnTo>
                  <a:lnTo>
                    <a:pt x="1723" y="2676"/>
                  </a:lnTo>
                  <a:lnTo>
                    <a:pt x="1717" y="2687"/>
                  </a:lnTo>
                  <a:lnTo>
                    <a:pt x="1717" y="2698"/>
                  </a:lnTo>
                  <a:lnTo>
                    <a:pt x="1717" y="2709"/>
                  </a:lnTo>
                  <a:lnTo>
                    <a:pt x="1717" y="2725"/>
                  </a:lnTo>
                  <a:lnTo>
                    <a:pt x="1712" y="2736"/>
                  </a:lnTo>
                  <a:lnTo>
                    <a:pt x="1712" y="2747"/>
                  </a:lnTo>
                  <a:lnTo>
                    <a:pt x="1706" y="2753"/>
                  </a:lnTo>
                  <a:lnTo>
                    <a:pt x="1701" y="2758"/>
                  </a:lnTo>
                  <a:lnTo>
                    <a:pt x="1690" y="2763"/>
                  </a:lnTo>
                  <a:lnTo>
                    <a:pt x="1684" y="2769"/>
                  </a:lnTo>
                  <a:lnTo>
                    <a:pt x="1679" y="2774"/>
                  </a:lnTo>
                  <a:lnTo>
                    <a:pt x="1668" y="2774"/>
                  </a:lnTo>
                  <a:lnTo>
                    <a:pt x="1663" y="2780"/>
                  </a:lnTo>
                  <a:lnTo>
                    <a:pt x="1652" y="2780"/>
                  </a:lnTo>
                  <a:lnTo>
                    <a:pt x="1646" y="2780"/>
                  </a:lnTo>
                  <a:lnTo>
                    <a:pt x="1635" y="2780"/>
                  </a:lnTo>
                  <a:lnTo>
                    <a:pt x="1630" y="2780"/>
                  </a:lnTo>
                  <a:lnTo>
                    <a:pt x="1619" y="2780"/>
                  </a:lnTo>
                  <a:lnTo>
                    <a:pt x="1614" y="2780"/>
                  </a:lnTo>
                  <a:lnTo>
                    <a:pt x="1603" y="2780"/>
                  </a:lnTo>
                  <a:lnTo>
                    <a:pt x="1597" y="2780"/>
                  </a:lnTo>
                  <a:lnTo>
                    <a:pt x="1586" y="2780"/>
                  </a:lnTo>
                  <a:lnTo>
                    <a:pt x="1581" y="2780"/>
                  </a:lnTo>
                  <a:lnTo>
                    <a:pt x="1570" y="2774"/>
                  </a:lnTo>
                  <a:lnTo>
                    <a:pt x="1565" y="2774"/>
                  </a:lnTo>
                  <a:lnTo>
                    <a:pt x="1554" y="2774"/>
                  </a:lnTo>
                  <a:lnTo>
                    <a:pt x="1548" y="2774"/>
                  </a:lnTo>
                  <a:lnTo>
                    <a:pt x="1537" y="2774"/>
                  </a:lnTo>
                  <a:lnTo>
                    <a:pt x="1532" y="2769"/>
                  </a:lnTo>
                  <a:lnTo>
                    <a:pt x="1526" y="2769"/>
                  </a:lnTo>
                  <a:lnTo>
                    <a:pt x="1515" y="2763"/>
                  </a:lnTo>
                  <a:lnTo>
                    <a:pt x="1510" y="2758"/>
                  </a:lnTo>
                  <a:lnTo>
                    <a:pt x="1505" y="2753"/>
                  </a:lnTo>
                  <a:close/>
                  <a:moveTo>
                    <a:pt x="681" y="2267"/>
                  </a:moveTo>
                  <a:lnTo>
                    <a:pt x="687" y="2257"/>
                  </a:lnTo>
                  <a:lnTo>
                    <a:pt x="692" y="2251"/>
                  </a:lnTo>
                  <a:lnTo>
                    <a:pt x="698" y="2246"/>
                  </a:lnTo>
                  <a:lnTo>
                    <a:pt x="703" y="2246"/>
                  </a:lnTo>
                  <a:lnTo>
                    <a:pt x="714" y="2246"/>
                  </a:lnTo>
                  <a:lnTo>
                    <a:pt x="719" y="2246"/>
                  </a:lnTo>
                  <a:lnTo>
                    <a:pt x="725" y="2251"/>
                  </a:lnTo>
                  <a:lnTo>
                    <a:pt x="736" y="2257"/>
                  </a:lnTo>
                  <a:lnTo>
                    <a:pt x="741" y="2262"/>
                  </a:lnTo>
                  <a:lnTo>
                    <a:pt x="747" y="2267"/>
                  </a:lnTo>
                  <a:lnTo>
                    <a:pt x="741" y="2273"/>
                  </a:lnTo>
                  <a:lnTo>
                    <a:pt x="736" y="2284"/>
                  </a:lnTo>
                  <a:lnTo>
                    <a:pt x="725" y="2289"/>
                  </a:lnTo>
                  <a:lnTo>
                    <a:pt x="719" y="2289"/>
                  </a:lnTo>
                  <a:lnTo>
                    <a:pt x="714" y="2295"/>
                  </a:lnTo>
                  <a:lnTo>
                    <a:pt x="703" y="2295"/>
                  </a:lnTo>
                  <a:lnTo>
                    <a:pt x="698" y="2289"/>
                  </a:lnTo>
                  <a:lnTo>
                    <a:pt x="692" y="2284"/>
                  </a:lnTo>
                  <a:lnTo>
                    <a:pt x="687" y="2278"/>
                  </a:lnTo>
                  <a:lnTo>
                    <a:pt x="681" y="2267"/>
                  </a:lnTo>
                  <a:close/>
                  <a:moveTo>
                    <a:pt x="1330" y="632"/>
                  </a:moveTo>
                  <a:lnTo>
                    <a:pt x="1319" y="616"/>
                  </a:lnTo>
                  <a:lnTo>
                    <a:pt x="1314" y="605"/>
                  </a:lnTo>
                  <a:lnTo>
                    <a:pt x="1314" y="600"/>
                  </a:lnTo>
                  <a:lnTo>
                    <a:pt x="1319" y="589"/>
                  </a:lnTo>
                  <a:lnTo>
                    <a:pt x="1325" y="583"/>
                  </a:lnTo>
                  <a:lnTo>
                    <a:pt x="1336" y="578"/>
                  </a:lnTo>
                  <a:lnTo>
                    <a:pt x="1346" y="578"/>
                  </a:lnTo>
                  <a:lnTo>
                    <a:pt x="1352" y="578"/>
                  </a:lnTo>
                  <a:lnTo>
                    <a:pt x="1363" y="578"/>
                  </a:lnTo>
                  <a:lnTo>
                    <a:pt x="1374" y="583"/>
                  </a:lnTo>
                  <a:lnTo>
                    <a:pt x="1379" y="583"/>
                  </a:lnTo>
                  <a:lnTo>
                    <a:pt x="1390" y="583"/>
                  </a:lnTo>
                  <a:lnTo>
                    <a:pt x="1401" y="589"/>
                  </a:lnTo>
                  <a:lnTo>
                    <a:pt x="1406" y="594"/>
                  </a:lnTo>
                  <a:lnTo>
                    <a:pt x="1412" y="600"/>
                  </a:lnTo>
                  <a:lnTo>
                    <a:pt x="1423" y="605"/>
                  </a:lnTo>
                  <a:lnTo>
                    <a:pt x="1428" y="611"/>
                  </a:lnTo>
                  <a:lnTo>
                    <a:pt x="1439" y="616"/>
                  </a:lnTo>
                  <a:lnTo>
                    <a:pt x="1450" y="616"/>
                  </a:lnTo>
                  <a:lnTo>
                    <a:pt x="1461" y="621"/>
                  </a:lnTo>
                  <a:lnTo>
                    <a:pt x="1466" y="627"/>
                  </a:lnTo>
                  <a:lnTo>
                    <a:pt x="1466" y="632"/>
                  </a:lnTo>
                  <a:lnTo>
                    <a:pt x="1461" y="638"/>
                  </a:lnTo>
                  <a:lnTo>
                    <a:pt x="1450" y="643"/>
                  </a:lnTo>
                  <a:lnTo>
                    <a:pt x="1439" y="649"/>
                  </a:lnTo>
                  <a:lnTo>
                    <a:pt x="1428" y="649"/>
                  </a:lnTo>
                  <a:lnTo>
                    <a:pt x="1423" y="654"/>
                  </a:lnTo>
                  <a:lnTo>
                    <a:pt x="1412" y="654"/>
                  </a:lnTo>
                  <a:lnTo>
                    <a:pt x="1406" y="649"/>
                  </a:lnTo>
                  <a:lnTo>
                    <a:pt x="1396" y="649"/>
                  </a:lnTo>
                  <a:lnTo>
                    <a:pt x="1390" y="649"/>
                  </a:lnTo>
                  <a:lnTo>
                    <a:pt x="1379" y="649"/>
                  </a:lnTo>
                  <a:lnTo>
                    <a:pt x="1368" y="649"/>
                  </a:lnTo>
                  <a:lnTo>
                    <a:pt x="1357" y="654"/>
                  </a:lnTo>
                  <a:lnTo>
                    <a:pt x="1346" y="654"/>
                  </a:lnTo>
                  <a:lnTo>
                    <a:pt x="1341" y="649"/>
                  </a:lnTo>
                  <a:lnTo>
                    <a:pt x="1336" y="643"/>
                  </a:lnTo>
                  <a:lnTo>
                    <a:pt x="1330" y="632"/>
                  </a:lnTo>
                  <a:close/>
                </a:path>
              </a:pathLst>
            </a:custGeom>
            <a:solidFill>
              <a:srgbClr val="ffcc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5" name=""/>
            <p:cNvSpPr/>
            <p:nvPr/>
          </p:nvSpPr>
          <p:spPr>
            <a:xfrm>
              <a:off x="2746440" y="1000080"/>
              <a:ext cx="4059000" cy="5727600"/>
            </a:xfrm>
            <a:custGeom>
              <a:avLst/>
              <a:gdLst/>
              <a:ahLst/>
              <a:rect l="l" t="t" r="r" b="b"/>
              <a:pathLst>
                <a:path w="2557" h="3608">
                  <a:moveTo>
                    <a:pt x="1074" y="3608"/>
                  </a:moveTo>
                  <a:lnTo>
                    <a:pt x="1112" y="3570"/>
                  </a:lnTo>
                  <a:lnTo>
                    <a:pt x="1150" y="3570"/>
                  </a:lnTo>
                  <a:lnTo>
                    <a:pt x="1188" y="3532"/>
                  </a:lnTo>
                  <a:lnTo>
                    <a:pt x="1221" y="3532"/>
                  </a:lnTo>
                  <a:lnTo>
                    <a:pt x="1259" y="3532"/>
                  </a:lnTo>
                  <a:lnTo>
                    <a:pt x="1297" y="3494"/>
                  </a:lnTo>
                  <a:lnTo>
                    <a:pt x="1336" y="3494"/>
                  </a:lnTo>
                  <a:lnTo>
                    <a:pt x="1374" y="3456"/>
                  </a:lnTo>
                  <a:lnTo>
                    <a:pt x="1406" y="3456"/>
                  </a:lnTo>
                  <a:lnTo>
                    <a:pt x="1445" y="3423"/>
                  </a:lnTo>
                  <a:lnTo>
                    <a:pt x="1483" y="3423"/>
                  </a:lnTo>
                  <a:lnTo>
                    <a:pt x="1521" y="3423"/>
                  </a:lnTo>
                  <a:lnTo>
                    <a:pt x="1521" y="3385"/>
                  </a:lnTo>
                  <a:lnTo>
                    <a:pt x="1554" y="3347"/>
                  </a:lnTo>
                  <a:lnTo>
                    <a:pt x="1554" y="3308"/>
                  </a:lnTo>
                  <a:lnTo>
                    <a:pt x="1592" y="3270"/>
                  </a:lnTo>
                  <a:lnTo>
                    <a:pt x="1592" y="3238"/>
                  </a:lnTo>
                  <a:lnTo>
                    <a:pt x="1630" y="3199"/>
                  </a:lnTo>
                  <a:lnTo>
                    <a:pt x="1630" y="3161"/>
                  </a:lnTo>
                  <a:lnTo>
                    <a:pt x="1668" y="3123"/>
                  </a:lnTo>
                  <a:lnTo>
                    <a:pt x="1668" y="3085"/>
                  </a:lnTo>
                  <a:lnTo>
                    <a:pt x="1706" y="3047"/>
                  </a:lnTo>
                  <a:lnTo>
                    <a:pt x="1706" y="3014"/>
                  </a:lnTo>
                  <a:lnTo>
                    <a:pt x="1739" y="2976"/>
                  </a:lnTo>
                  <a:lnTo>
                    <a:pt x="1739" y="2938"/>
                  </a:lnTo>
                  <a:lnTo>
                    <a:pt x="1777" y="2900"/>
                  </a:lnTo>
                  <a:lnTo>
                    <a:pt x="1777" y="2862"/>
                  </a:lnTo>
                  <a:lnTo>
                    <a:pt x="1815" y="2823"/>
                  </a:lnTo>
                  <a:lnTo>
                    <a:pt x="1815" y="2791"/>
                  </a:lnTo>
                  <a:lnTo>
                    <a:pt x="1854" y="2753"/>
                  </a:lnTo>
                  <a:lnTo>
                    <a:pt x="1854" y="2714"/>
                  </a:lnTo>
                  <a:lnTo>
                    <a:pt x="1892" y="2676"/>
                  </a:lnTo>
                  <a:lnTo>
                    <a:pt x="1892" y="2638"/>
                  </a:lnTo>
                  <a:lnTo>
                    <a:pt x="1924" y="2600"/>
                  </a:lnTo>
                  <a:lnTo>
                    <a:pt x="1924" y="2567"/>
                  </a:lnTo>
                  <a:lnTo>
                    <a:pt x="1963" y="2529"/>
                  </a:lnTo>
                  <a:lnTo>
                    <a:pt x="1963" y="2491"/>
                  </a:lnTo>
                  <a:lnTo>
                    <a:pt x="2001" y="2453"/>
                  </a:lnTo>
                  <a:lnTo>
                    <a:pt x="2001" y="2415"/>
                  </a:lnTo>
                  <a:lnTo>
                    <a:pt x="2039" y="2382"/>
                  </a:lnTo>
                  <a:lnTo>
                    <a:pt x="2039" y="2344"/>
                  </a:lnTo>
                  <a:lnTo>
                    <a:pt x="2077" y="2306"/>
                  </a:lnTo>
                  <a:lnTo>
                    <a:pt x="2077" y="2267"/>
                  </a:lnTo>
                  <a:lnTo>
                    <a:pt x="2110" y="2229"/>
                  </a:lnTo>
                  <a:lnTo>
                    <a:pt x="2110" y="2191"/>
                  </a:lnTo>
                  <a:lnTo>
                    <a:pt x="2148" y="2158"/>
                  </a:lnTo>
                  <a:lnTo>
                    <a:pt x="2148" y="2120"/>
                  </a:lnTo>
                  <a:lnTo>
                    <a:pt x="2186" y="2082"/>
                  </a:lnTo>
                  <a:lnTo>
                    <a:pt x="2186" y="2044"/>
                  </a:lnTo>
                  <a:lnTo>
                    <a:pt x="2224" y="2006"/>
                  </a:lnTo>
                  <a:lnTo>
                    <a:pt x="2224" y="1968"/>
                  </a:lnTo>
                  <a:lnTo>
                    <a:pt x="2224" y="1935"/>
                  </a:lnTo>
                  <a:lnTo>
                    <a:pt x="2262" y="1897"/>
                  </a:lnTo>
                  <a:lnTo>
                    <a:pt x="2262" y="1859"/>
                  </a:lnTo>
                  <a:lnTo>
                    <a:pt x="2262" y="1821"/>
                  </a:lnTo>
                  <a:lnTo>
                    <a:pt x="2295" y="1782"/>
                  </a:lnTo>
                  <a:lnTo>
                    <a:pt x="2295" y="1750"/>
                  </a:lnTo>
                  <a:lnTo>
                    <a:pt x="2295" y="1712"/>
                  </a:lnTo>
                  <a:lnTo>
                    <a:pt x="2333" y="1673"/>
                  </a:lnTo>
                  <a:lnTo>
                    <a:pt x="2333" y="1635"/>
                  </a:lnTo>
                  <a:lnTo>
                    <a:pt x="2333" y="1597"/>
                  </a:lnTo>
                  <a:lnTo>
                    <a:pt x="2333" y="1559"/>
                  </a:lnTo>
                  <a:lnTo>
                    <a:pt x="2333" y="1526"/>
                  </a:lnTo>
                  <a:lnTo>
                    <a:pt x="2371" y="1488"/>
                  </a:lnTo>
                  <a:lnTo>
                    <a:pt x="2371" y="1450"/>
                  </a:lnTo>
                  <a:lnTo>
                    <a:pt x="2371" y="1412"/>
                  </a:lnTo>
                  <a:lnTo>
                    <a:pt x="2371" y="1374"/>
                  </a:lnTo>
                  <a:lnTo>
                    <a:pt x="2371" y="1335"/>
                  </a:lnTo>
                  <a:lnTo>
                    <a:pt x="2371" y="1303"/>
                  </a:lnTo>
                  <a:lnTo>
                    <a:pt x="2371" y="1265"/>
                  </a:lnTo>
                  <a:lnTo>
                    <a:pt x="2410" y="1226"/>
                  </a:lnTo>
                  <a:lnTo>
                    <a:pt x="2410" y="1188"/>
                  </a:lnTo>
                  <a:lnTo>
                    <a:pt x="2410" y="1150"/>
                  </a:lnTo>
                  <a:lnTo>
                    <a:pt x="2410" y="1117"/>
                  </a:lnTo>
                  <a:lnTo>
                    <a:pt x="2410" y="1079"/>
                  </a:lnTo>
                  <a:lnTo>
                    <a:pt x="2410" y="1041"/>
                  </a:lnTo>
                  <a:lnTo>
                    <a:pt x="2410" y="1003"/>
                  </a:lnTo>
                  <a:lnTo>
                    <a:pt x="2448" y="965"/>
                  </a:lnTo>
                  <a:lnTo>
                    <a:pt x="2448" y="927"/>
                  </a:lnTo>
                  <a:lnTo>
                    <a:pt x="2448" y="894"/>
                  </a:lnTo>
                  <a:lnTo>
                    <a:pt x="2448" y="856"/>
                  </a:lnTo>
                  <a:lnTo>
                    <a:pt x="2448" y="818"/>
                  </a:lnTo>
                  <a:lnTo>
                    <a:pt x="2448" y="780"/>
                  </a:lnTo>
                  <a:lnTo>
                    <a:pt x="2448" y="741"/>
                  </a:lnTo>
                  <a:lnTo>
                    <a:pt x="2481" y="703"/>
                  </a:lnTo>
                  <a:lnTo>
                    <a:pt x="2481" y="671"/>
                  </a:lnTo>
                  <a:lnTo>
                    <a:pt x="2481" y="632"/>
                  </a:lnTo>
                  <a:lnTo>
                    <a:pt x="2481" y="594"/>
                  </a:lnTo>
                  <a:lnTo>
                    <a:pt x="2481" y="556"/>
                  </a:lnTo>
                  <a:lnTo>
                    <a:pt x="2481" y="518"/>
                  </a:lnTo>
                  <a:lnTo>
                    <a:pt x="2481" y="485"/>
                  </a:lnTo>
                  <a:lnTo>
                    <a:pt x="2519" y="447"/>
                  </a:lnTo>
                  <a:lnTo>
                    <a:pt x="2519" y="409"/>
                  </a:lnTo>
                  <a:lnTo>
                    <a:pt x="2519" y="371"/>
                  </a:lnTo>
                  <a:lnTo>
                    <a:pt x="2519" y="333"/>
                  </a:lnTo>
                  <a:lnTo>
                    <a:pt x="2519" y="294"/>
                  </a:lnTo>
                  <a:lnTo>
                    <a:pt x="2519" y="262"/>
                  </a:lnTo>
                  <a:lnTo>
                    <a:pt x="2519" y="224"/>
                  </a:lnTo>
                  <a:lnTo>
                    <a:pt x="2557" y="185"/>
                  </a:lnTo>
                  <a:lnTo>
                    <a:pt x="2557" y="147"/>
                  </a:lnTo>
                  <a:lnTo>
                    <a:pt x="2557" y="109"/>
                  </a:lnTo>
                  <a:lnTo>
                    <a:pt x="2557" y="71"/>
                  </a:lnTo>
                  <a:lnTo>
                    <a:pt x="2557" y="38"/>
                  </a:lnTo>
                  <a:lnTo>
                    <a:pt x="2557" y="0"/>
                  </a:lnTo>
                  <a:lnTo>
                    <a:pt x="2519" y="0"/>
                  </a:lnTo>
                  <a:lnTo>
                    <a:pt x="2481" y="0"/>
                  </a:lnTo>
                  <a:lnTo>
                    <a:pt x="2448" y="0"/>
                  </a:lnTo>
                  <a:lnTo>
                    <a:pt x="2410" y="0"/>
                  </a:lnTo>
                  <a:lnTo>
                    <a:pt x="2371" y="38"/>
                  </a:lnTo>
                  <a:lnTo>
                    <a:pt x="2333" y="38"/>
                  </a:lnTo>
                  <a:lnTo>
                    <a:pt x="2295" y="38"/>
                  </a:lnTo>
                  <a:lnTo>
                    <a:pt x="2262" y="71"/>
                  </a:lnTo>
                  <a:lnTo>
                    <a:pt x="2224" y="71"/>
                  </a:lnTo>
                  <a:lnTo>
                    <a:pt x="2186" y="71"/>
                  </a:lnTo>
                  <a:lnTo>
                    <a:pt x="2148" y="109"/>
                  </a:lnTo>
                  <a:lnTo>
                    <a:pt x="2110" y="109"/>
                  </a:lnTo>
                  <a:lnTo>
                    <a:pt x="2077" y="147"/>
                  </a:lnTo>
                  <a:lnTo>
                    <a:pt x="2039" y="147"/>
                  </a:lnTo>
                  <a:lnTo>
                    <a:pt x="2001" y="147"/>
                  </a:lnTo>
                  <a:lnTo>
                    <a:pt x="1963" y="185"/>
                  </a:lnTo>
                  <a:lnTo>
                    <a:pt x="1924" y="185"/>
                  </a:lnTo>
                  <a:lnTo>
                    <a:pt x="1892" y="185"/>
                  </a:lnTo>
                  <a:lnTo>
                    <a:pt x="1854" y="224"/>
                  </a:lnTo>
                  <a:lnTo>
                    <a:pt x="1815" y="224"/>
                  </a:lnTo>
                  <a:lnTo>
                    <a:pt x="1777" y="224"/>
                  </a:lnTo>
                  <a:lnTo>
                    <a:pt x="1739" y="262"/>
                  </a:lnTo>
                  <a:lnTo>
                    <a:pt x="1706" y="262"/>
                  </a:lnTo>
                  <a:lnTo>
                    <a:pt x="1668" y="262"/>
                  </a:lnTo>
                  <a:lnTo>
                    <a:pt x="1630" y="294"/>
                  </a:lnTo>
                  <a:lnTo>
                    <a:pt x="1592" y="294"/>
                  </a:lnTo>
                  <a:lnTo>
                    <a:pt x="1554" y="294"/>
                  </a:lnTo>
                  <a:lnTo>
                    <a:pt x="1521" y="333"/>
                  </a:lnTo>
                  <a:lnTo>
                    <a:pt x="1483" y="333"/>
                  </a:lnTo>
                  <a:lnTo>
                    <a:pt x="1445" y="333"/>
                  </a:lnTo>
                  <a:lnTo>
                    <a:pt x="1406" y="371"/>
                  </a:lnTo>
                  <a:lnTo>
                    <a:pt x="1374" y="371"/>
                  </a:lnTo>
                  <a:lnTo>
                    <a:pt x="1336" y="409"/>
                  </a:lnTo>
                  <a:lnTo>
                    <a:pt x="1297" y="409"/>
                  </a:lnTo>
                  <a:lnTo>
                    <a:pt x="1259" y="409"/>
                  </a:lnTo>
                  <a:lnTo>
                    <a:pt x="1221" y="447"/>
                  </a:lnTo>
                  <a:lnTo>
                    <a:pt x="1188" y="447"/>
                  </a:lnTo>
                  <a:lnTo>
                    <a:pt x="1150" y="447"/>
                  </a:lnTo>
                  <a:lnTo>
                    <a:pt x="1112" y="485"/>
                  </a:lnTo>
                  <a:lnTo>
                    <a:pt x="1074" y="485"/>
                  </a:lnTo>
                  <a:lnTo>
                    <a:pt x="1036" y="485"/>
                  </a:lnTo>
                  <a:lnTo>
                    <a:pt x="1003" y="518"/>
                  </a:lnTo>
                  <a:lnTo>
                    <a:pt x="965" y="518"/>
                  </a:lnTo>
                  <a:lnTo>
                    <a:pt x="927" y="518"/>
                  </a:lnTo>
                  <a:lnTo>
                    <a:pt x="888" y="556"/>
                  </a:lnTo>
                  <a:lnTo>
                    <a:pt x="850" y="556"/>
                  </a:lnTo>
                  <a:lnTo>
                    <a:pt x="818" y="556"/>
                  </a:lnTo>
                  <a:lnTo>
                    <a:pt x="779" y="594"/>
                  </a:lnTo>
                  <a:lnTo>
                    <a:pt x="741" y="594"/>
                  </a:lnTo>
                  <a:lnTo>
                    <a:pt x="703" y="594"/>
                  </a:lnTo>
                  <a:lnTo>
                    <a:pt x="665" y="632"/>
                  </a:lnTo>
                  <a:lnTo>
                    <a:pt x="632" y="632"/>
                  </a:lnTo>
                  <a:lnTo>
                    <a:pt x="594" y="632"/>
                  </a:lnTo>
                  <a:lnTo>
                    <a:pt x="556" y="671"/>
                  </a:lnTo>
                  <a:lnTo>
                    <a:pt x="518" y="671"/>
                  </a:lnTo>
                  <a:lnTo>
                    <a:pt x="480" y="703"/>
                  </a:lnTo>
                  <a:lnTo>
                    <a:pt x="447" y="703"/>
                  </a:lnTo>
                  <a:lnTo>
                    <a:pt x="409" y="703"/>
                  </a:lnTo>
                  <a:lnTo>
                    <a:pt x="370" y="741"/>
                  </a:lnTo>
                  <a:lnTo>
                    <a:pt x="332" y="741"/>
                  </a:lnTo>
                  <a:lnTo>
                    <a:pt x="300" y="741"/>
                  </a:lnTo>
                  <a:lnTo>
                    <a:pt x="261" y="780"/>
                  </a:lnTo>
                  <a:lnTo>
                    <a:pt x="223" y="780"/>
                  </a:lnTo>
                  <a:lnTo>
                    <a:pt x="185" y="780"/>
                  </a:lnTo>
                  <a:lnTo>
                    <a:pt x="147" y="818"/>
                  </a:lnTo>
                  <a:lnTo>
                    <a:pt x="114" y="818"/>
                  </a:lnTo>
                  <a:lnTo>
                    <a:pt x="114" y="856"/>
                  </a:lnTo>
                  <a:lnTo>
                    <a:pt x="114" y="894"/>
                  </a:lnTo>
                  <a:lnTo>
                    <a:pt x="114" y="927"/>
                  </a:lnTo>
                  <a:lnTo>
                    <a:pt x="114" y="965"/>
                  </a:lnTo>
                  <a:lnTo>
                    <a:pt x="114" y="1003"/>
                  </a:lnTo>
                  <a:lnTo>
                    <a:pt x="76" y="1041"/>
                  </a:lnTo>
                  <a:lnTo>
                    <a:pt x="76" y="1079"/>
                  </a:lnTo>
                  <a:lnTo>
                    <a:pt x="76" y="1117"/>
                  </a:lnTo>
                  <a:lnTo>
                    <a:pt x="76" y="1150"/>
                  </a:lnTo>
                  <a:lnTo>
                    <a:pt x="76" y="1188"/>
                  </a:lnTo>
                  <a:lnTo>
                    <a:pt x="76" y="1226"/>
                  </a:lnTo>
                  <a:lnTo>
                    <a:pt x="76" y="1265"/>
                  </a:lnTo>
                  <a:lnTo>
                    <a:pt x="76" y="1303"/>
                  </a:lnTo>
                  <a:lnTo>
                    <a:pt x="76" y="1335"/>
                  </a:lnTo>
                  <a:lnTo>
                    <a:pt x="76" y="1374"/>
                  </a:lnTo>
                  <a:lnTo>
                    <a:pt x="76" y="1412"/>
                  </a:lnTo>
                  <a:lnTo>
                    <a:pt x="76" y="1450"/>
                  </a:lnTo>
                  <a:lnTo>
                    <a:pt x="76" y="1488"/>
                  </a:lnTo>
                  <a:lnTo>
                    <a:pt x="76" y="1526"/>
                  </a:lnTo>
                  <a:lnTo>
                    <a:pt x="76" y="1559"/>
                  </a:lnTo>
                  <a:lnTo>
                    <a:pt x="76" y="1597"/>
                  </a:lnTo>
                  <a:lnTo>
                    <a:pt x="76" y="1635"/>
                  </a:lnTo>
                  <a:lnTo>
                    <a:pt x="76" y="1673"/>
                  </a:lnTo>
                  <a:lnTo>
                    <a:pt x="38" y="1712"/>
                  </a:lnTo>
                  <a:lnTo>
                    <a:pt x="38" y="1750"/>
                  </a:lnTo>
                  <a:lnTo>
                    <a:pt x="38" y="1782"/>
                  </a:lnTo>
                  <a:lnTo>
                    <a:pt x="38" y="1821"/>
                  </a:lnTo>
                  <a:lnTo>
                    <a:pt x="38" y="1859"/>
                  </a:lnTo>
                  <a:lnTo>
                    <a:pt x="38" y="1897"/>
                  </a:lnTo>
                  <a:lnTo>
                    <a:pt x="38" y="1935"/>
                  </a:lnTo>
                  <a:lnTo>
                    <a:pt x="38" y="1968"/>
                  </a:lnTo>
                  <a:lnTo>
                    <a:pt x="38" y="2006"/>
                  </a:lnTo>
                  <a:lnTo>
                    <a:pt x="38" y="2044"/>
                  </a:lnTo>
                  <a:lnTo>
                    <a:pt x="38" y="2082"/>
                  </a:lnTo>
                  <a:lnTo>
                    <a:pt x="38" y="2120"/>
                  </a:lnTo>
                  <a:lnTo>
                    <a:pt x="38" y="2158"/>
                  </a:lnTo>
                  <a:lnTo>
                    <a:pt x="38" y="2191"/>
                  </a:lnTo>
                  <a:lnTo>
                    <a:pt x="38" y="2229"/>
                  </a:lnTo>
                  <a:lnTo>
                    <a:pt x="38" y="2267"/>
                  </a:lnTo>
                  <a:lnTo>
                    <a:pt x="38" y="2306"/>
                  </a:lnTo>
                  <a:lnTo>
                    <a:pt x="0" y="2344"/>
                  </a:lnTo>
                  <a:lnTo>
                    <a:pt x="0" y="2382"/>
                  </a:lnTo>
                  <a:lnTo>
                    <a:pt x="0" y="2415"/>
                  </a:lnTo>
                  <a:lnTo>
                    <a:pt x="0" y="2453"/>
                  </a:lnTo>
                  <a:lnTo>
                    <a:pt x="0" y="2491"/>
                  </a:lnTo>
                  <a:lnTo>
                    <a:pt x="0" y="2529"/>
                  </a:lnTo>
                  <a:lnTo>
                    <a:pt x="0" y="2567"/>
                  </a:lnTo>
                  <a:lnTo>
                    <a:pt x="0" y="2600"/>
                  </a:lnTo>
                  <a:lnTo>
                    <a:pt x="0" y="2638"/>
                  </a:lnTo>
                  <a:lnTo>
                    <a:pt x="0" y="2676"/>
                  </a:lnTo>
                  <a:lnTo>
                    <a:pt x="0" y="2714"/>
                  </a:lnTo>
                  <a:lnTo>
                    <a:pt x="0" y="2753"/>
                  </a:lnTo>
                  <a:lnTo>
                    <a:pt x="0" y="2791"/>
                  </a:lnTo>
                  <a:lnTo>
                    <a:pt x="0" y="2823"/>
                  </a:lnTo>
                  <a:lnTo>
                    <a:pt x="0" y="2862"/>
                  </a:lnTo>
                  <a:lnTo>
                    <a:pt x="0" y="2900"/>
                  </a:lnTo>
                  <a:lnTo>
                    <a:pt x="0" y="2938"/>
                  </a:lnTo>
                  <a:lnTo>
                    <a:pt x="0" y="2976"/>
                  </a:lnTo>
                  <a:lnTo>
                    <a:pt x="0" y="3014"/>
                  </a:lnTo>
                  <a:lnTo>
                    <a:pt x="38" y="3014"/>
                  </a:lnTo>
                  <a:lnTo>
                    <a:pt x="76" y="3047"/>
                  </a:lnTo>
                  <a:lnTo>
                    <a:pt x="114" y="3047"/>
                  </a:lnTo>
                  <a:lnTo>
                    <a:pt x="147" y="3085"/>
                  </a:lnTo>
                  <a:lnTo>
                    <a:pt x="185" y="3123"/>
                  </a:lnTo>
                  <a:lnTo>
                    <a:pt x="223" y="3123"/>
                  </a:lnTo>
                  <a:lnTo>
                    <a:pt x="261" y="3161"/>
                  </a:lnTo>
                  <a:lnTo>
                    <a:pt x="300" y="3199"/>
                  </a:lnTo>
                  <a:lnTo>
                    <a:pt x="332" y="3199"/>
                  </a:lnTo>
                  <a:lnTo>
                    <a:pt x="370" y="3238"/>
                  </a:lnTo>
                  <a:lnTo>
                    <a:pt x="409" y="3270"/>
                  </a:lnTo>
                  <a:lnTo>
                    <a:pt x="447" y="3270"/>
                  </a:lnTo>
                  <a:lnTo>
                    <a:pt x="480" y="3308"/>
                  </a:lnTo>
                  <a:lnTo>
                    <a:pt x="518" y="3347"/>
                  </a:lnTo>
                  <a:lnTo>
                    <a:pt x="556" y="3347"/>
                  </a:lnTo>
                  <a:lnTo>
                    <a:pt x="594" y="3385"/>
                  </a:lnTo>
                  <a:lnTo>
                    <a:pt x="632" y="3385"/>
                  </a:lnTo>
                  <a:lnTo>
                    <a:pt x="665" y="3423"/>
                  </a:lnTo>
                  <a:lnTo>
                    <a:pt x="703" y="3456"/>
                  </a:lnTo>
                  <a:lnTo>
                    <a:pt x="741" y="3456"/>
                  </a:lnTo>
                  <a:lnTo>
                    <a:pt x="779" y="3494"/>
                  </a:lnTo>
                  <a:lnTo>
                    <a:pt x="818" y="3532"/>
                  </a:lnTo>
                  <a:lnTo>
                    <a:pt x="850" y="3532"/>
                  </a:lnTo>
                  <a:lnTo>
                    <a:pt x="888" y="3570"/>
                  </a:lnTo>
                  <a:lnTo>
                    <a:pt x="927" y="3570"/>
                  </a:lnTo>
                  <a:lnTo>
                    <a:pt x="965" y="3608"/>
                  </a:lnTo>
                  <a:lnTo>
                    <a:pt x="1003" y="3608"/>
                  </a:lnTo>
                  <a:lnTo>
                    <a:pt x="1036" y="3608"/>
                  </a:lnTo>
                  <a:lnTo>
                    <a:pt x="1074" y="3608"/>
                  </a:lnTo>
                  <a:close/>
                  <a:moveTo>
                    <a:pt x="109" y="3014"/>
                  </a:moveTo>
                  <a:lnTo>
                    <a:pt x="103" y="3003"/>
                  </a:lnTo>
                  <a:lnTo>
                    <a:pt x="98" y="2998"/>
                  </a:lnTo>
                  <a:lnTo>
                    <a:pt x="92" y="2992"/>
                  </a:lnTo>
                  <a:lnTo>
                    <a:pt x="87" y="2987"/>
                  </a:lnTo>
                  <a:lnTo>
                    <a:pt x="82" y="2981"/>
                  </a:lnTo>
                  <a:lnTo>
                    <a:pt x="82" y="2976"/>
                  </a:lnTo>
                  <a:lnTo>
                    <a:pt x="87" y="2971"/>
                  </a:lnTo>
                  <a:lnTo>
                    <a:pt x="87" y="2965"/>
                  </a:lnTo>
                  <a:lnTo>
                    <a:pt x="92" y="2960"/>
                  </a:lnTo>
                  <a:lnTo>
                    <a:pt x="98" y="2954"/>
                  </a:lnTo>
                  <a:lnTo>
                    <a:pt x="103" y="2949"/>
                  </a:lnTo>
                  <a:lnTo>
                    <a:pt x="109" y="2943"/>
                  </a:lnTo>
                  <a:lnTo>
                    <a:pt x="114" y="2938"/>
                  </a:lnTo>
                  <a:lnTo>
                    <a:pt x="120" y="2932"/>
                  </a:lnTo>
                  <a:lnTo>
                    <a:pt x="120" y="2927"/>
                  </a:lnTo>
                  <a:lnTo>
                    <a:pt x="125" y="2922"/>
                  </a:lnTo>
                  <a:lnTo>
                    <a:pt x="131" y="2916"/>
                  </a:lnTo>
                  <a:lnTo>
                    <a:pt x="136" y="2911"/>
                  </a:lnTo>
                  <a:lnTo>
                    <a:pt x="141" y="2905"/>
                  </a:lnTo>
                  <a:lnTo>
                    <a:pt x="141" y="2900"/>
                  </a:lnTo>
                  <a:lnTo>
                    <a:pt x="147" y="2894"/>
                  </a:lnTo>
                  <a:lnTo>
                    <a:pt x="152" y="2894"/>
                  </a:lnTo>
                  <a:lnTo>
                    <a:pt x="158" y="2894"/>
                  </a:lnTo>
                  <a:lnTo>
                    <a:pt x="163" y="2905"/>
                  </a:lnTo>
                  <a:lnTo>
                    <a:pt x="163" y="2911"/>
                  </a:lnTo>
                  <a:lnTo>
                    <a:pt x="163" y="2922"/>
                  </a:lnTo>
                  <a:lnTo>
                    <a:pt x="158" y="2927"/>
                  </a:lnTo>
                  <a:lnTo>
                    <a:pt x="158" y="2938"/>
                  </a:lnTo>
                  <a:lnTo>
                    <a:pt x="152" y="2943"/>
                  </a:lnTo>
                  <a:lnTo>
                    <a:pt x="152" y="2954"/>
                  </a:lnTo>
                  <a:lnTo>
                    <a:pt x="152" y="2960"/>
                  </a:lnTo>
                  <a:lnTo>
                    <a:pt x="147" y="2965"/>
                  </a:lnTo>
                  <a:lnTo>
                    <a:pt x="147" y="2976"/>
                  </a:lnTo>
                  <a:lnTo>
                    <a:pt x="147" y="2981"/>
                  </a:lnTo>
                  <a:lnTo>
                    <a:pt x="147" y="2992"/>
                  </a:lnTo>
                  <a:lnTo>
                    <a:pt x="147" y="2998"/>
                  </a:lnTo>
                  <a:lnTo>
                    <a:pt x="147" y="3009"/>
                  </a:lnTo>
                  <a:lnTo>
                    <a:pt x="147" y="3014"/>
                  </a:lnTo>
                  <a:lnTo>
                    <a:pt x="141" y="3014"/>
                  </a:lnTo>
                  <a:lnTo>
                    <a:pt x="136" y="3014"/>
                  </a:lnTo>
                  <a:lnTo>
                    <a:pt x="131" y="3014"/>
                  </a:lnTo>
                  <a:lnTo>
                    <a:pt x="120" y="3014"/>
                  </a:lnTo>
                  <a:lnTo>
                    <a:pt x="114" y="3014"/>
                  </a:lnTo>
                  <a:lnTo>
                    <a:pt x="109" y="3014"/>
                  </a:lnTo>
                  <a:close/>
                  <a:moveTo>
                    <a:pt x="1505" y="2753"/>
                  </a:moveTo>
                  <a:lnTo>
                    <a:pt x="1505" y="2742"/>
                  </a:lnTo>
                  <a:lnTo>
                    <a:pt x="1510" y="2731"/>
                  </a:lnTo>
                  <a:lnTo>
                    <a:pt x="1515" y="2720"/>
                  </a:lnTo>
                  <a:lnTo>
                    <a:pt x="1521" y="2714"/>
                  </a:lnTo>
                  <a:lnTo>
                    <a:pt x="1521" y="2703"/>
                  </a:lnTo>
                  <a:lnTo>
                    <a:pt x="1526" y="2693"/>
                  </a:lnTo>
                  <a:lnTo>
                    <a:pt x="1532" y="2682"/>
                  </a:lnTo>
                  <a:lnTo>
                    <a:pt x="1537" y="2671"/>
                  </a:lnTo>
                  <a:lnTo>
                    <a:pt x="1537" y="2665"/>
                  </a:lnTo>
                  <a:lnTo>
                    <a:pt x="1543" y="2654"/>
                  </a:lnTo>
                  <a:lnTo>
                    <a:pt x="1548" y="2644"/>
                  </a:lnTo>
                  <a:lnTo>
                    <a:pt x="1554" y="2638"/>
                  </a:lnTo>
                  <a:lnTo>
                    <a:pt x="1565" y="2633"/>
                  </a:lnTo>
                  <a:lnTo>
                    <a:pt x="1570" y="2627"/>
                  </a:lnTo>
                  <a:lnTo>
                    <a:pt x="1575" y="2622"/>
                  </a:lnTo>
                  <a:lnTo>
                    <a:pt x="1581" y="2611"/>
                  </a:lnTo>
                  <a:lnTo>
                    <a:pt x="1592" y="2605"/>
                  </a:lnTo>
                  <a:lnTo>
                    <a:pt x="1597" y="2600"/>
                  </a:lnTo>
                  <a:lnTo>
                    <a:pt x="1603" y="2594"/>
                  </a:lnTo>
                  <a:lnTo>
                    <a:pt x="1608" y="2589"/>
                  </a:lnTo>
                  <a:lnTo>
                    <a:pt x="1619" y="2584"/>
                  </a:lnTo>
                  <a:lnTo>
                    <a:pt x="1625" y="2578"/>
                  </a:lnTo>
                  <a:lnTo>
                    <a:pt x="1630" y="2567"/>
                  </a:lnTo>
                  <a:lnTo>
                    <a:pt x="1635" y="2562"/>
                  </a:lnTo>
                  <a:lnTo>
                    <a:pt x="1646" y="2556"/>
                  </a:lnTo>
                  <a:lnTo>
                    <a:pt x="1652" y="2551"/>
                  </a:lnTo>
                  <a:lnTo>
                    <a:pt x="1657" y="2545"/>
                  </a:lnTo>
                  <a:lnTo>
                    <a:pt x="1663" y="2540"/>
                  </a:lnTo>
                  <a:lnTo>
                    <a:pt x="1674" y="2529"/>
                  </a:lnTo>
                  <a:lnTo>
                    <a:pt x="1679" y="2524"/>
                  </a:lnTo>
                  <a:lnTo>
                    <a:pt x="1684" y="2518"/>
                  </a:lnTo>
                  <a:lnTo>
                    <a:pt x="1690" y="2513"/>
                  </a:lnTo>
                  <a:lnTo>
                    <a:pt x="1701" y="2507"/>
                  </a:lnTo>
                  <a:lnTo>
                    <a:pt x="1706" y="2502"/>
                  </a:lnTo>
                  <a:lnTo>
                    <a:pt x="1712" y="2496"/>
                  </a:lnTo>
                  <a:lnTo>
                    <a:pt x="1717" y="2485"/>
                  </a:lnTo>
                  <a:lnTo>
                    <a:pt x="1728" y="2475"/>
                  </a:lnTo>
                  <a:lnTo>
                    <a:pt x="1734" y="2469"/>
                  </a:lnTo>
                  <a:lnTo>
                    <a:pt x="1739" y="2464"/>
                  </a:lnTo>
                  <a:lnTo>
                    <a:pt x="1744" y="2469"/>
                  </a:lnTo>
                  <a:lnTo>
                    <a:pt x="1750" y="2480"/>
                  </a:lnTo>
                  <a:lnTo>
                    <a:pt x="1755" y="2491"/>
                  </a:lnTo>
                  <a:lnTo>
                    <a:pt x="1755" y="2502"/>
                  </a:lnTo>
                  <a:lnTo>
                    <a:pt x="1755" y="2513"/>
                  </a:lnTo>
                  <a:lnTo>
                    <a:pt x="1750" y="2524"/>
                  </a:lnTo>
                  <a:lnTo>
                    <a:pt x="1744" y="2535"/>
                  </a:lnTo>
                  <a:lnTo>
                    <a:pt x="1744" y="2545"/>
                  </a:lnTo>
                  <a:lnTo>
                    <a:pt x="1739" y="2556"/>
                  </a:lnTo>
                  <a:lnTo>
                    <a:pt x="1739" y="2567"/>
                  </a:lnTo>
                  <a:lnTo>
                    <a:pt x="1739" y="2578"/>
                  </a:lnTo>
                  <a:lnTo>
                    <a:pt x="1734" y="2589"/>
                  </a:lnTo>
                  <a:lnTo>
                    <a:pt x="1734" y="2600"/>
                  </a:lnTo>
                  <a:lnTo>
                    <a:pt x="1734" y="2611"/>
                  </a:lnTo>
                  <a:lnTo>
                    <a:pt x="1728" y="2622"/>
                  </a:lnTo>
                  <a:lnTo>
                    <a:pt x="1728" y="2633"/>
                  </a:lnTo>
                  <a:lnTo>
                    <a:pt x="1728" y="2644"/>
                  </a:lnTo>
                  <a:lnTo>
                    <a:pt x="1723" y="2654"/>
                  </a:lnTo>
                  <a:lnTo>
                    <a:pt x="1723" y="2665"/>
                  </a:lnTo>
                  <a:lnTo>
                    <a:pt x="1723" y="2676"/>
                  </a:lnTo>
                  <a:lnTo>
                    <a:pt x="1717" y="2687"/>
                  </a:lnTo>
                  <a:lnTo>
                    <a:pt x="1717" y="2698"/>
                  </a:lnTo>
                  <a:lnTo>
                    <a:pt x="1717" y="2709"/>
                  </a:lnTo>
                  <a:lnTo>
                    <a:pt x="1717" y="2725"/>
                  </a:lnTo>
                  <a:lnTo>
                    <a:pt x="1712" y="2736"/>
                  </a:lnTo>
                  <a:lnTo>
                    <a:pt x="1712" y="2747"/>
                  </a:lnTo>
                  <a:lnTo>
                    <a:pt x="1706" y="2753"/>
                  </a:lnTo>
                  <a:lnTo>
                    <a:pt x="1701" y="2758"/>
                  </a:lnTo>
                  <a:lnTo>
                    <a:pt x="1690" y="2763"/>
                  </a:lnTo>
                  <a:lnTo>
                    <a:pt x="1684" y="2769"/>
                  </a:lnTo>
                  <a:lnTo>
                    <a:pt x="1679" y="2774"/>
                  </a:lnTo>
                  <a:lnTo>
                    <a:pt x="1668" y="2774"/>
                  </a:lnTo>
                  <a:lnTo>
                    <a:pt x="1663" y="2780"/>
                  </a:lnTo>
                  <a:lnTo>
                    <a:pt x="1652" y="2780"/>
                  </a:lnTo>
                  <a:lnTo>
                    <a:pt x="1646" y="2780"/>
                  </a:lnTo>
                  <a:lnTo>
                    <a:pt x="1635" y="2780"/>
                  </a:lnTo>
                  <a:lnTo>
                    <a:pt x="1630" y="2780"/>
                  </a:lnTo>
                  <a:lnTo>
                    <a:pt x="1619" y="2780"/>
                  </a:lnTo>
                  <a:lnTo>
                    <a:pt x="1614" y="2780"/>
                  </a:lnTo>
                  <a:lnTo>
                    <a:pt x="1603" y="2780"/>
                  </a:lnTo>
                  <a:lnTo>
                    <a:pt x="1597" y="2780"/>
                  </a:lnTo>
                  <a:lnTo>
                    <a:pt x="1586" y="2780"/>
                  </a:lnTo>
                  <a:lnTo>
                    <a:pt x="1581" y="2780"/>
                  </a:lnTo>
                  <a:lnTo>
                    <a:pt x="1570" y="2774"/>
                  </a:lnTo>
                  <a:lnTo>
                    <a:pt x="1565" y="2774"/>
                  </a:lnTo>
                  <a:lnTo>
                    <a:pt x="1554" y="2774"/>
                  </a:lnTo>
                  <a:lnTo>
                    <a:pt x="1548" y="2774"/>
                  </a:lnTo>
                  <a:lnTo>
                    <a:pt x="1537" y="2774"/>
                  </a:lnTo>
                  <a:lnTo>
                    <a:pt x="1532" y="2769"/>
                  </a:lnTo>
                  <a:lnTo>
                    <a:pt x="1526" y="2769"/>
                  </a:lnTo>
                  <a:lnTo>
                    <a:pt x="1515" y="2763"/>
                  </a:lnTo>
                  <a:lnTo>
                    <a:pt x="1510" y="2758"/>
                  </a:lnTo>
                  <a:lnTo>
                    <a:pt x="1505" y="2753"/>
                  </a:lnTo>
                  <a:close/>
                  <a:moveTo>
                    <a:pt x="681" y="2267"/>
                  </a:moveTo>
                  <a:lnTo>
                    <a:pt x="687" y="2257"/>
                  </a:lnTo>
                  <a:lnTo>
                    <a:pt x="692" y="2251"/>
                  </a:lnTo>
                  <a:lnTo>
                    <a:pt x="698" y="2246"/>
                  </a:lnTo>
                  <a:lnTo>
                    <a:pt x="703" y="2246"/>
                  </a:lnTo>
                  <a:lnTo>
                    <a:pt x="714" y="2246"/>
                  </a:lnTo>
                  <a:lnTo>
                    <a:pt x="719" y="2246"/>
                  </a:lnTo>
                  <a:lnTo>
                    <a:pt x="725" y="2251"/>
                  </a:lnTo>
                  <a:lnTo>
                    <a:pt x="736" y="2257"/>
                  </a:lnTo>
                  <a:lnTo>
                    <a:pt x="741" y="2262"/>
                  </a:lnTo>
                  <a:lnTo>
                    <a:pt x="747" y="2267"/>
                  </a:lnTo>
                  <a:lnTo>
                    <a:pt x="741" y="2273"/>
                  </a:lnTo>
                  <a:lnTo>
                    <a:pt x="736" y="2284"/>
                  </a:lnTo>
                  <a:lnTo>
                    <a:pt x="725" y="2289"/>
                  </a:lnTo>
                  <a:lnTo>
                    <a:pt x="719" y="2289"/>
                  </a:lnTo>
                  <a:lnTo>
                    <a:pt x="714" y="2295"/>
                  </a:lnTo>
                  <a:lnTo>
                    <a:pt x="703" y="2295"/>
                  </a:lnTo>
                  <a:lnTo>
                    <a:pt x="698" y="2289"/>
                  </a:lnTo>
                  <a:lnTo>
                    <a:pt x="692" y="2284"/>
                  </a:lnTo>
                  <a:lnTo>
                    <a:pt x="687" y="2278"/>
                  </a:lnTo>
                  <a:lnTo>
                    <a:pt x="681" y="2267"/>
                  </a:lnTo>
                  <a:close/>
                  <a:moveTo>
                    <a:pt x="1330" y="632"/>
                  </a:moveTo>
                  <a:lnTo>
                    <a:pt x="1319" y="616"/>
                  </a:lnTo>
                  <a:lnTo>
                    <a:pt x="1314" y="605"/>
                  </a:lnTo>
                  <a:lnTo>
                    <a:pt x="1314" y="600"/>
                  </a:lnTo>
                  <a:lnTo>
                    <a:pt x="1319" y="589"/>
                  </a:lnTo>
                  <a:lnTo>
                    <a:pt x="1325" y="583"/>
                  </a:lnTo>
                  <a:lnTo>
                    <a:pt x="1336" y="578"/>
                  </a:lnTo>
                  <a:lnTo>
                    <a:pt x="1346" y="578"/>
                  </a:lnTo>
                  <a:lnTo>
                    <a:pt x="1352" y="578"/>
                  </a:lnTo>
                  <a:lnTo>
                    <a:pt x="1363" y="578"/>
                  </a:lnTo>
                  <a:lnTo>
                    <a:pt x="1374" y="583"/>
                  </a:lnTo>
                  <a:lnTo>
                    <a:pt x="1379" y="583"/>
                  </a:lnTo>
                  <a:lnTo>
                    <a:pt x="1390" y="583"/>
                  </a:lnTo>
                  <a:lnTo>
                    <a:pt x="1401" y="589"/>
                  </a:lnTo>
                  <a:lnTo>
                    <a:pt x="1406" y="594"/>
                  </a:lnTo>
                  <a:lnTo>
                    <a:pt x="1412" y="600"/>
                  </a:lnTo>
                  <a:lnTo>
                    <a:pt x="1423" y="605"/>
                  </a:lnTo>
                  <a:lnTo>
                    <a:pt x="1428" y="611"/>
                  </a:lnTo>
                  <a:lnTo>
                    <a:pt x="1439" y="616"/>
                  </a:lnTo>
                  <a:lnTo>
                    <a:pt x="1450" y="616"/>
                  </a:lnTo>
                  <a:lnTo>
                    <a:pt x="1461" y="621"/>
                  </a:lnTo>
                  <a:lnTo>
                    <a:pt x="1466" y="627"/>
                  </a:lnTo>
                  <a:lnTo>
                    <a:pt x="1466" y="632"/>
                  </a:lnTo>
                  <a:lnTo>
                    <a:pt x="1461" y="638"/>
                  </a:lnTo>
                  <a:lnTo>
                    <a:pt x="1450" y="643"/>
                  </a:lnTo>
                  <a:lnTo>
                    <a:pt x="1439" y="649"/>
                  </a:lnTo>
                  <a:lnTo>
                    <a:pt x="1428" y="649"/>
                  </a:lnTo>
                  <a:lnTo>
                    <a:pt x="1423" y="654"/>
                  </a:lnTo>
                  <a:lnTo>
                    <a:pt x="1412" y="654"/>
                  </a:lnTo>
                  <a:lnTo>
                    <a:pt x="1406" y="649"/>
                  </a:lnTo>
                  <a:lnTo>
                    <a:pt x="1396" y="649"/>
                  </a:lnTo>
                  <a:lnTo>
                    <a:pt x="1390" y="649"/>
                  </a:lnTo>
                  <a:lnTo>
                    <a:pt x="1379" y="649"/>
                  </a:lnTo>
                  <a:lnTo>
                    <a:pt x="1368" y="649"/>
                  </a:lnTo>
                  <a:lnTo>
                    <a:pt x="1357" y="654"/>
                  </a:lnTo>
                  <a:lnTo>
                    <a:pt x="1346" y="654"/>
                  </a:lnTo>
                  <a:lnTo>
                    <a:pt x="1341" y="649"/>
                  </a:lnTo>
                  <a:lnTo>
                    <a:pt x="1336" y="643"/>
                  </a:lnTo>
                  <a:lnTo>
                    <a:pt x="1330" y="632"/>
                  </a:lnTo>
                  <a:close/>
                  <a:moveTo>
                    <a:pt x="1074" y="3608"/>
                  </a:moveTo>
                  <a:lnTo>
                    <a:pt x="1112" y="3570"/>
                  </a:lnTo>
                  <a:lnTo>
                    <a:pt x="1150" y="3570"/>
                  </a:lnTo>
                  <a:lnTo>
                    <a:pt x="1188" y="3532"/>
                  </a:lnTo>
                  <a:lnTo>
                    <a:pt x="1221" y="3532"/>
                  </a:lnTo>
                  <a:lnTo>
                    <a:pt x="1259" y="3532"/>
                  </a:lnTo>
                  <a:lnTo>
                    <a:pt x="1297" y="3494"/>
                  </a:lnTo>
                  <a:lnTo>
                    <a:pt x="1336" y="3494"/>
                  </a:lnTo>
                  <a:lnTo>
                    <a:pt x="1374" y="3456"/>
                  </a:lnTo>
                  <a:lnTo>
                    <a:pt x="1406" y="3456"/>
                  </a:lnTo>
                  <a:lnTo>
                    <a:pt x="1445" y="3423"/>
                  </a:lnTo>
                  <a:lnTo>
                    <a:pt x="1483" y="3423"/>
                  </a:lnTo>
                  <a:lnTo>
                    <a:pt x="1521" y="3423"/>
                  </a:lnTo>
                  <a:lnTo>
                    <a:pt x="1521" y="3385"/>
                  </a:lnTo>
                  <a:lnTo>
                    <a:pt x="1554" y="3347"/>
                  </a:lnTo>
                  <a:lnTo>
                    <a:pt x="1554" y="3308"/>
                  </a:lnTo>
                  <a:lnTo>
                    <a:pt x="1592" y="3270"/>
                  </a:lnTo>
                  <a:lnTo>
                    <a:pt x="1592" y="3238"/>
                  </a:lnTo>
                  <a:lnTo>
                    <a:pt x="1630" y="3199"/>
                  </a:lnTo>
                  <a:lnTo>
                    <a:pt x="1630" y="3161"/>
                  </a:lnTo>
                  <a:lnTo>
                    <a:pt x="1668" y="3123"/>
                  </a:lnTo>
                  <a:lnTo>
                    <a:pt x="1668" y="3085"/>
                  </a:lnTo>
                  <a:lnTo>
                    <a:pt x="1706" y="3047"/>
                  </a:lnTo>
                  <a:lnTo>
                    <a:pt x="1706" y="3014"/>
                  </a:lnTo>
                  <a:lnTo>
                    <a:pt x="1739" y="2976"/>
                  </a:lnTo>
                  <a:lnTo>
                    <a:pt x="1739" y="2938"/>
                  </a:lnTo>
                  <a:lnTo>
                    <a:pt x="1777" y="2900"/>
                  </a:lnTo>
                  <a:lnTo>
                    <a:pt x="1777" y="2862"/>
                  </a:lnTo>
                  <a:lnTo>
                    <a:pt x="1815" y="2823"/>
                  </a:lnTo>
                  <a:lnTo>
                    <a:pt x="1815" y="2791"/>
                  </a:lnTo>
                  <a:lnTo>
                    <a:pt x="1854" y="2753"/>
                  </a:lnTo>
                  <a:lnTo>
                    <a:pt x="1854" y="2714"/>
                  </a:lnTo>
                  <a:lnTo>
                    <a:pt x="1892" y="2676"/>
                  </a:lnTo>
                  <a:lnTo>
                    <a:pt x="1892" y="2638"/>
                  </a:lnTo>
                  <a:lnTo>
                    <a:pt x="1924" y="2600"/>
                  </a:lnTo>
                  <a:lnTo>
                    <a:pt x="1924" y="2567"/>
                  </a:lnTo>
                  <a:lnTo>
                    <a:pt x="1963" y="2529"/>
                  </a:lnTo>
                  <a:lnTo>
                    <a:pt x="1963" y="2491"/>
                  </a:lnTo>
                  <a:lnTo>
                    <a:pt x="2001" y="2453"/>
                  </a:lnTo>
                  <a:lnTo>
                    <a:pt x="2001" y="2415"/>
                  </a:lnTo>
                  <a:lnTo>
                    <a:pt x="2039" y="2382"/>
                  </a:lnTo>
                  <a:lnTo>
                    <a:pt x="2039" y="2344"/>
                  </a:lnTo>
                  <a:lnTo>
                    <a:pt x="2077" y="2306"/>
                  </a:lnTo>
                  <a:lnTo>
                    <a:pt x="2077" y="2267"/>
                  </a:lnTo>
                  <a:lnTo>
                    <a:pt x="2110" y="2229"/>
                  </a:lnTo>
                  <a:lnTo>
                    <a:pt x="2110" y="2191"/>
                  </a:lnTo>
                  <a:lnTo>
                    <a:pt x="2148" y="2158"/>
                  </a:lnTo>
                  <a:lnTo>
                    <a:pt x="2148" y="2120"/>
                  </a:lnTo>
                  <a:lnTo>
                    <a:pt x="2186" y="2082"/>
                  </a:lnTo>
                  <a:lnTo>
                    <a:pt x="2186" y="2044"/>
                  </a:lnTo>
                  <a:lnTo>
                    <a:pt x="2224" y="2006"/>
                  </a:lnTo>
                  <a:lnTo>
                    <a:pt x="2224" y="1968"/>
                  </a:lnTo>
                  <a:lnTo>
                    <a:pt x="2224" y="1935"/>
                  </a:lnTo>
                  <a:lnTo>
                    <a:pt x="2262" y="1897"/>
                  </a:lnTo>
                  <a:lnTo>
                    <a:pt x="2262" y="1859"/>
                  </a:lnTo>
                  <a:lnTo>
                    <a:pt x="2262" y="1821"/>
                  </a:lnTo>
                  <a:lnTo>
                    <a:pt x="2295" y="1782"/>
                  </a:lnTo>
                  <a:lnTo>
                    <a:pt x="2295" y="1750"/>
                  </a:lnTo>
                  <a:lnTo>
                    <a:pt x="2295" y="1712"/>
                  </a:lnTo>
                  <a:lnTo>
                    <a:pt x="2333" y="1673"/>
                  </a:lnTo>
                  <a:lnTo>
                    <a:pt x="2333" y="1635"/>
                  </a:lnTo>
                  <a:lnTo>
                    <a:pt x="2333" y="1597"/>
                  </a:lnTo>
                  <a:lnTo>
                    <a:pt x="2333" y="1559"/>
                  </a:lnTo>
                  <a:lnTo>
                    <a:pt x="2333" y="1526"/>
                  </a:lnTo>
                  <a:lnTo>
                    <a:pt x="2371" y="1488"/>
                  </a:lnTo>
                  <a:lnTo>
                    <a:pt x="2371" y="1450"/>
                  </a:lnTo>
                  <a:lnTo>
                    <a:pt x="2371" y="1412"/>
                  </a:lnTo>
                  <a:lnTo>
                    <a:pt x="2371" y="1374"/>
                  </a:lnTo>
                  <a:lnTo>
                    <a:pt x="2371" y="1335"/>
                  </a:lnTo>
                  <a:lnTo>
                    <a:pt x="2371" y="1303"/>
                  </a:lnTo>
                  <a:lnTo>
                    <a:pt x="2371" y="1265"/>
                  </a:lnTo>
                  <a:lnTo>
                    <a:pt x="2410" y="1226"/>
                  </a:lnTo>
                  <a:lnTo>
                    <a:pt x="2410" y="1188"/>
                  </a:lnTo>
                  <a:lnTo>
                    <a:pt x="2410" y="1150"/>
                  </a:lnTo>
                  <a:lnTo>
                    <a:pt x="2410" y="1117"/>
                  </a:lnTo>
                  <a:lnTo>
                    <a:pt x="2410" y="1079"/>
                  </a:lnTo>
                  <a:lnTo>
                    <a:pt x="2410" y="1041"/>
                  </a:lnTo>
                  <a:lnTo>
                    <a:pt x="2410" y="1003"/>
                  </a:lnTo>
                  <a:lnTo>
                    <a:pt x="2448" y="965"/>
                  </a:lnTo>
                  <a:lnTo>
                    <a:pt x="2448" y="927"/>
                  </a:lnTo>
                  <a:lnTo>
                    <a:pt x="2448" y="894"/>
                  </a:lnTo>
                  <a:lnTo>
                    <a:pt x="2448" y="856"/>
                  </a:lnTo>
                  <a:lnTo>
                    <a:pt x="2448" y="818"/>
                  </a:lnTo>
                  <a:lnTo>
                    <a:pt x="2448" y="780"/>
                  </a:lnTo>
                  <a:lnTo>
                    <a:pt x="2448" y="741"/>
                  </a:lnTo>
                  <a:lnTo>
                    <a:pt x="2481" y="703"/>
                  </a:lnTo>
                  <a:lnTo>
                    <a:pt x="2481" y="671"/>
                  </a:lnTo>
                  <a:lnTo>
                    <a:pt x="2481" y="632"/>
                  </a:lnTo>
                  <a:lnTo>
                    <a:pt x="2481" y="594"/>
                  </a:lnTo>
                  <a:lnTo>
                    <a:pt x="2481" y="556"/>
                  </a:lnTo>
                  <a:lnTo>
                    <a:pt x="2481" y="518"/>
                  </a:lnTo>
                  <a:lnTo>
                    <a:pt x="2481" y="485"/>
                  </a:lnTo>
                  <a:lnTo>
                    <a:pt x="2519" y="447"/>
                  </a:lnTo>
                  <a:lnTo>
                    <a:pt x="2519" y="409"/>
                  </a:lnTo>
                  <a:lnTo>
                    <a:pt x="2519" y="371"/>
                  </a:lnTo>
                  <a:lnTo>
                    <a:pt x="2519" y="333"/>
                  </a:lnTo>
                  <a:lnTo>
                    <a:pt x="2519" y="294"/>
                  </a:lnTo>
                  <a:lnTo>
                    <a:pt x="2519" y="262"/>
                  </a:lnTo>
                  <a:lnTo>
                    <a:pt x="2519" y="224"/>
                  </a:lnTo>
                  <a:lnTo>
                    <a:pt x="2557" y="185"/>
                  </a:lnTo>
                  <a:lnTo>
                    <a:pt x="2557" y="147"/>
                  </a:lnTo>
                  <a:lnTo>
                    <a:pt x="2557" y="109"/>
                  </a:lnTo>
                  <a:lnTo>
                    <a:pt x="2557" y="71"/>
                  </a:lnTo>
                  <a:lnTo>
                    <a:pt x="2557" y="38"/>
                  </a:lnTo>
                  <a:lnTo>
                    <a:pt x="2557" y="0"/>
                  </a:lnTo>
                  <a:lnTo>
                    <a:pt x="2519" y="0"/>
                  </a:lnTo>
                  <a:lnTo>
                    <a:pt x="2481" y="0"/>
                  </a:lnTo>
                  <a:lnTo>
                    <a:pt x="2448" y="0"/>
                  </a:lnTo>
                  <a:lnTo>
                    <a:pt x="2410" y="0"/>
                  </a:lnTo>
                  <a:lnTo>
                    <a:pt x="2371" y="38"/>
                  </a:lnTo>
                  <a:lnTo>
                    <a:pt x="2333" y="38"/>
                  </a:lnTo>
                  <a:lnTo>
                    <a:pt x="2295" y="38"/>
                  </a:lnTo>
                  <a:lnTo>
                    <a:pt x="2262" y="71"/>
                  </a:lnTo>
                  <a:lnTo>
                    <a:pt x="2224" y="71"/>
                  </a:lnTo>
                  <a:lnTo>
                    <a:pt x="2186" y="71"/>
                  </a:lnTo>
                  <a:lnTo>
                    <a:pt x="2148" y="109"/>
                  </a:lnTo>
                  <a:lnTo>
                    <a:pt x="2110" y="109"/>
                  </a:lnTo>
                  <a:lnTo>
                    <a:pt x="2077" y="147"/>
                  </a:lnTo>
                  <a:lnTo>
                    <a:pt x="2039" y="147"/>
                  </a:lnTo>
                  <a:lnTo>
                    <a:pt x="2001" y="147"/>
                  </a:lnTo>
                  <a:lnTo>
                    <a:pt x="1963" y="185"/>
                  </a:lnTo>
                  <a:lnTo>
                    <a:pt x="1924" y="185"/>
                  </a:lnTo>
                  <a:lnTo>
                    <a:pt x="1892" y="185"/>
                  </a:lnTo>
                  <a:lnTo>
                    <a:pt x="1854" y="224"/>
                  </a:lnTo>
                  <a:lnTo>
                    <a:pt x="1815" y="224"/>
                  </a:lnTo>
                  <a:lnTo>
                    <a:pt x="1777" y="224"/>
                  </a:lnTo>
                  <a:lnTo>
                    <a:pt x="1739" y="262"/>
                  </a:lnTo>
                  <a:lnTo>
                    <a:pt x="1706" y="262"/>
                  </a:lnTo>
                  <a:lnTo>
                    <a:pt x="1668" y="262"/>
                  </a:lnTo>
                  <a:lnTo>
                    <a:pt x="1630" y="294"/>
                  </a:lnTo>
                  <a:lnTo>
                    <a:pt x="1592" y="294"/>
                  </a:lnTo>
                  <a:lnTo>
                    <a:pt x="1554" y="294"/>
                  </a:lnTo>
                  <a:lnTo>
                    <a:pt x="1521" y="333"/>
                  </a:lnTo>
                  <a:lnTo>
                    <a:pt x="1483" y="333"/>
                  </a:lnTo>
                  <a:lnTo>
                    <a:pt x="1445" y="333"/>
                  </a:lnTo>
                  <a:lnTo>
                    <a:pt x="1406" y="371"/>
                  </a:lnTo>
                  <a:lnTo>
                    <a:pt x="1374" y="371"/>
                  </a:lnTo>
                  <a:lnTo>
                    <a:pt x="1336" y="409"/>
                  </a:lnTo>
                  <a:lnTo>
                    <a:pt x="1297" y="409"/>
                  </a:lnTo>
                  <a:lnTo>
                    <a:pt x="1259" y="409"/>
                  </a:lnTo>
                  <a:lnTo>
                    <a:pt x="1221" y="447"/>
                  </a:lnTo>
                  <a:lnTo>
                    <a:pt x="1188" y="447"/>
                  </a:lnTo>
                  <a:lnTo>
                    <a:pt x="1150" y="447"/>
                  </a:lnTo>
                  <a:lnTo>
                    <a:pt x="1112" y="485"/>
                  </a:lnTo>
                  <a:lnTo>
                    <a:pt x="1074" y="485"/>
                  </a:lnTo>
                  <a:lnTo>
                    <a:pt x="1036" y="485"/>
                  </a:lnTo>
                  <a:lnTo>
                    <a:pt x="1003" y="518"/>
                  </a:lnTo>
                  <a:lnTo>
                    <a:pt x="965" y="518"/>
                  </a:lnTo>
                  <a:lnTo>
                    <a:pt x="927" y="518"/>
                  </a:lnTo>
                  <a:lnTo>
                    <a:pt x="888" y="556"/>
                  </a:lnTo>
                  <a:lnTo>
                    <a:pt x="850" y="556"/>
                  </a:lnTo>
                  <a:lnTo>
                    <a:pt x="818" y="556"/>
                  </a:lnTo>
                  <a:lnTo>
                    <a:pt x="779" y="594"/>
                  </a:lnTo>
                  <a:lnTo>
                    <a:pt x="741" y="594"/>
                  </a:lnTo>
                  <a:lnTo>
                    <a:pt x="703" y="594"/>
                  </a:lnTo>
                  <a:lnTo>
                    <a:pt x="665" y="632"/>
                  </a:lnTo>
                  <a:lnTo>
                    <a:pt x="632" y="632"/>
                  </a:lnTo>
                  <a:lnTo>
                    <a:pt x="594" y="632"/>
                  </a:lnTo>
                  <a:lnTo>
                    <a:pt x="556" y="671"/>
                  </a:lnTo>
                  <a:lnTo>
                    <a:pt x="518" y="671"/>
                  </a:lnTo>
                  <a:lnTo>
                    <a:pt x="480" y="703"/>
                  </a:lnTo>
                  <a:lnTo>
                    <a:pt x="447" y="703"/>
                  </a:lnTo>
                  <a:lnTo>
                    <a:pt x="409" y="703"/>
                  </a:lnTo>
                  <a:lnTo>
                    <a:pt x="370" y="741"/>
                  </a:lnTo>
                  <a:lnTo>
                    <a:pt x="332" y="741"/>
                  </a:lnTo>
                  <a:lnTo>
                    <a:pt x="300" y="741"/>
                  </a:lnTo>
                  <a:lnTo>
                    <a:pt x="261" y="780"/>
                  </a:lnTo>
                  <a:lnTo>
                    <a:pt x="223" y="780"/>
                  </a:lnTo>
                  <a:lnTo>
                    <a:pt x="185" y="780"/>
                  </a:lnTo>
                  <a:lnTo>
                    <a:pt x="147" y="818"/>
                  </a:lnTo>
                  <a:lnTo>
                    <a:pt x="114" y="818"/>
                  </a:lnTo>
                  <a:lnTo>
                    <a:pt x="114" y="856"/>
                  </a:lnTo>
                  <a:lnTo>
                    <a:pt x="114" y="894"/>
                  </a:lnTo>
                  <a:lnTo>
                    <a:pt x="114" y="927"/>
                  </a:lnTo>
                  <a:lnTo>
                    <a:pt x="114" y="965"/>
                  </a:lnTo>
                  <a:lnTo>
                    <a:pt x="114" y="1003"/>
                  </a:lnTo>
                  <a:lnTo>
                    <a:pt x="76" y="1041"/>
                  </a:lnTo>
                  <a:lnTo>
                    <a:pt x="76" y="1079"/>
                  </a:lnTo>
                  <a:lnTo>
                    <a:pt x="76" y="1117"/>
                  </a:lnTo>
                  <a:lnTo>
                    <a:pt x="76" y="1150"/>
                  </a:lnTo>
                  <a:lnTo>
                    <a:pt x="76" y="1188"/>
                  </a:lnTo>
                  <a:lnTo>
                    <a:pt x="76" y="1226"/>
                  </a:lnTo>
                  <a:lnTo>
                    <a:pt x="76" y="1265"/>
                  </a:lnTo>
                  <a:lnTo>
                    <a:pt x="76" y="1303"/>
                  </a:lnTo>
                  <a:lnTo>
                    <a:pt x="76" y="1335"/>
                  </a:lnTo>
                  <a:lnTo>
                    <a:pt x="76" y="1374"/>
                  </a:lnTo>
                  <a:lnTo>
                    <a:pt x="76" y="1412"/>
                  </a:lnTo>
                  <a:lnTo>
                    <a:pt x="76" y="1450"/>
                  </a:lnTo>
                  <a:lnTo>
                    <a:pt x="76" y="1488"/>
                  </a:lnTo>
                  <a:lnTo>
                    <a:pt x="76" y="1526"/>
                  </a:lnTo>
                  <a:lnTo>
                    <a:pt x="76" y="1559"/>
                  </a:lnTo>
                  <a:lnTo>
                    <a:pt x="76" y="1597"/>
                  </a:lnTo>
                  <a:lnTo>
                    <a:pt x="76" y="1635"/>
                  </a:lnTo>
                  <a:lnTo>
                    <a:pt x="76" y="1673"/>
                  </a:lnTo>
                  <a:lnTo>
                    <a:pt x="38" y="1712"/>
                  </a:lnTo>
                  <a:lnTo>
                    <a:pt x="38" y="1750"/>
                  </a:lnTo>
                  <a:lnTo>
                    <a:pt x="38" y="1782"/>
                  </a:lnTo>
                  <a:lnTo>
                    <a:pt x="38" y="1821"/>
                  </a:lnTo>
                  <a:lnTo>
                    <a:pt x="38" y="1859"/>
                  </a:lnTo>
                  <a:lnTo>
                    <a:pt x="38" y="1897"/>
                  </a:lnTo>
                  <a:lnTo>
                    <a:pt x="38" y="1935"/>
                  </a:lnTo>
                  <a:lnTo>
                    <a:pt x="38" y="1968"/>
                  </a:lnTo>
                  <a:lnTo>
                    <a:pt x="38" y="2006"/>
                  </a:lnTo>
                  <a:lnTo>
                    <a:pt x="38" y="2044"/>
                  </a:lnTo>
                  <a:lnTo>
                    <a:pt x="38" y="2082"/>
                  </a:lnTo>
                  <a:lnTo>
                    <a:pt x="38" y="2120"/>
                  </a:lnTo>
                  <a:lnTo>
                    <a:pt x="38" y="2158"/>
                  </a:lnTo>
                  <a:lnTo>
                    <a:pt x="38" y="2191"/>
                  </a:lnTo>
                  <a:lnTo>
                    <a:pt x="38" y="2229"/>
                  </a:lnTo>
                  <a:lnTo>
                    <a:pt x="38" y="2267"/>
                  </a:lnTo>
                  <a:lnTo>
                    <a:pt x="38" y="2306"/>
                  </a:lnTo>
                  <a:lnTo>
                    <a:pt x="0" y="2344"/>
                  </a:lnTo>
                  <a:lnTo>
                    <a:pt x="0" y="2382"/>
                  </a:lnTo>
                  <a:lnTo>
                    <a:pt x="0" y="2415"/>
                  </a:lnTo>
                  <a:lnTo>
                    <a:pt x="0" y="2453"/>
                  </a:lnTo>
                  <a:lnTo>
                    <a:pt x="0" y="2491"/>
                  </a:lnTo>
                  <a:lnTo>
                    <a:pt x="0" y="2529"/>
                  </a:lnTo>
                  <a:lnTo>
                    <a:pt x="0" y="2567"/>
                  </a:lnTo>
                  <a:lnTo>
                    <a:pt x="0" y="2600"/>
                  </a:lnTo>
                  <a:lnTo>
                    <a:pt x="0" y="2638"/>
                  </a:lnTo>
                  <a:lnTo>
                    <a:pt x="0" y="2676"/>
                  </a:lnTo>
                  <a:lnTo>
                    <a:pt x="0" y="2714"/>
                  </a:lnTo>
                  <a:lnTo>
                    <a:pt x="0" y="2753"/>
                  </a:lnTo>
                  <a:lnTo>
                    <a:pt x="0" y="2791"/>
                  </a:lnTo>
                  <a:lnTo>
                    <a:pt x="0" y="2823"/>
                  </a:lnTo>
                  <a:lnTo>
                    <a:pt x="0" y="2862"/>
                  </a:lnTo>
                  <a:lnTo>
                    <a:pt x="0" y="2900"/>
                  </a:lnTo>
                  <a:lnTo>
                    <a:pt x="0" y="2938"/>
                  </a:lnTo>
                  <a:lnTo>
                    <a:pt x="0" y="2976"/>
                  </a:lnTo>
                  <a:lnTo>
                    <a:pt x="0" y="3014"/>
                  </a:lnTo>
                  <a:lnTo>
                    <a:pt x="38" y="3014"/>
                  </a:lnTo>
                  <a:lnTo>
                    <a:pt x="76" y="3047"/>
                  </a:lnTo>
                  <a:lnTo>
                    <a:pt x="114" y="3047"/>
                  </a:lnTo>
                  <a:lnTo>
                    <a:pt x="147" y="3085"/>
                  </a:lnTo>
                  <a:lnTo>
                    <a:pt x="185" y="3123"/>
                  </a:lnTo>
                  <a:lnTo>
                    <a:pt x="223" y="3123"/>
                  </a:lnTo>
                  <a:lnTo>
                    <a:pt x="261" y="3161"/>
                  </a:lnTo>
                  <a:lnTo>
                    <a:pt x="300" y="3199"/>
                  </a:lnTo>
                  <a:lnTo>
                    <a:pt x="332" y="3199"/>
                  </a:lnTo>
                  <a:lnTo>
                    <a:pt x="370" y="3238"/>
                  </a:lnTo>
                  <a:lnTo>
                    <a:pt x="409" y="3270"/>
                  </a:lnTo>
                  <a:lnTo>
                    <a:pt x="447" y="3270"/>
                  </a:lnTo>
                  <a:lnTo>
                    <a:pt x="480" y="3308"/>
                  </a:lnTo>
                  <a:lnTo>
                    <a:pt x="518" y="3347"/>
                  </a:lnTo>
                  <a:lnTo>
                    <a:pt x="556" y="3347"/>
                  </a:lnTo>
                  <a:lnTo>
                    <a:pt x="594" y="3385"/>
                  </a:lnTo>
                  <a:lnTo>
                    <a:pt x="632" y="3385"/>
                  </a:lnTo>
                  <a:lnTo>
                    <a:pt x="665" y="3423"/>
                  </a:lnTo>
                  <a:lnTo>
                    <a:pt x="703" y="3456"/>
                  </a:lnTo>
                  <a:lnTo>
                    <a:pt x="741" y="3456"/>
                  </a:lnTo>
                  <a:lnTo>
                    <a:pt x="779" y="3494"/>
                  </a:lnTo>
                  <a:lnTo>
                    <a:pt x="818" y="3532"/>
                  </a:lnTo>
                  <a:lnTo>
                    <a:pt x="850" y="3532"/>
                  </a:lnTo>
                  <a:lnTo>
                    <a:pt x="888" y="3570"/>
                  </a:lnTo>
                  <a:lnTo>
                    <a:pt x="927" y="3570"/>
                  </a:lnTo>
                  <a:lnTo>
                    <a:pt x="965" y="3608"/>
                  </a:lnTo>
                  <a:lnTo>
                    <a:pt x="1003" y="3608"/>
                  </a:lnTo>
                  <a:lnTo>
                    <a:pt x="1036" y="3608"/>
                  </a:lnTo>
                  <a:lnTo>
                    <a:pt x="1074" y="3608"/>
                  </a:lnTo>
                  <a:close/>
                  <a:moveTo>
                    <a:pt x="1521" y="2753"/>
                  </a:moveTo>
                  <a:lnTo>
                    <a:pt x="1526" y="2742"/>
                  </a:lnTo>
                  <a:lnTo>
                    <a:pt x="1526" y="2731"/>
                  </a:lnTo>
                  <a:lnTo>
                    <a:pt x="1532" y="2720"/>
                  </a:lnTo>
                  <a:lnTo>
                    <a:pt x="1537" y="2709"/>
                  </a:lnTo>
                  <a:lnTo>
                    <a:pt x="1543" y="2703"/>
                  </a:lnTo>
                  <a:lnTo>
                    <a:pt x="1543" y="2693"/>
                  </a:lnTo>
                  <a:lnTo>
                    <a:pt x="1548" y="2682"/>
                  </a:lnTo>
                  <a:lnTo>
                    <a:pt x="1554" y="2671"/>
                  </a:lnTo>
                  <a:lnTo>
                    <a:pt x="1559" y="2665"/>
                  </a:lnTo>
                  <a:lnTo>
                    <a:pt x="1565" y="2654"/>
                  </a:lnTo>
                  <a:lnTo>
                    <a:pt x="1570" y="2649"/>
                  </a:lnTo>
                  <a:lnTo>
                    <a:pt x="1581" y="2644"/>
                  </a:lnTo>
                  <a:lnTo>
                    <a:pt x="1586" y="2638"/>
                  </a:lnTo>
                  <a:lnTo>
                    <a:pt x="1592" y="2633"/>
                  </a:lnTo>
                  <a:lnTo>
                    <a:pt x="1597" y="2622"/>
                  </a:lnTo>
                  <a:lnTo>
                    <a:pt x="1608" y="2616"/>
                  </a:lnTo>
                  <a:lnTo>
                    <a:pt x="1614" y="2611"/>
                  </a:lnTo>
                  <a:lnTo>
                    <a:pt x="1619" y="2605"/>
                  </a:lnTo>
                  <a:lnTo>
                    <a:pt x="1625" y="2600"/>
                  </a:lnTo>
                  <a:lnTo>
                    <a:pt x="1635" y="2594"/>
                  </a:lnTo>
                  <a:lnTo>
                    <a:pt x="1641" y="2584"/>
                  </a:lnTo>
                  <a:lnTo>
                    <a:pt x="1646" y="2578"/>
                  </a:lnTo>
                  <a:lnTo>
                    <a:pt x="1652" y="2573"/>
                  </a:lnTo>
                  <a:lnTo>
                    <a:pt x="1663" y="2567"/>
                  </a:lnTo>
                  <a:lnTo>
                    <a:pt x="1668" y="2562"/>
                  </a:lnTo>
                  <a:lnTo>
                    <a:pt x="1674" y="2556"/>
                  </a:lnTo>
                  <a:lnTo>
                    <a:pt x="1679" y="2551"/>
                  </a:lnTo>
                  <a:lnTo>
                    <a:pt x="1690" y="2545"/>
                  </a:lnTo>
                  <a:lnTo>
                    <a:pt x="1695" y="2535"/>
                  </a:lnTo>
                  <a:lnTo>
                    <a:pt x="1701" y="2529"/>
                  </a:lnTo>
                  <a:lnTo>
                    <a:pt x="1706" y="2529"/>
                  </a:lnTo>
                  <a:lnTo>
                    <a:pt x="1717" y="2535"/>
                  </a:lnTo>
                  <a:lnTo>
                    <a:pt x="1723" y="2545"/>
                  </a:lnTo>
                  <a:lnTo>
                    <a:pt x="1723" y="2556"/>
                  </a:lnTo>
                  <a:lnTo>
                    <a:pt x="1723" y="2567"/>
                  </a:lnTo>
                  <a:lnTo>
                    <a:pt x="1728" y="2578"/>
                  </a:lnTo>
                  <a:lnTo>
                    <a:pt x="1728" y="2589"/>
                  </a:lnTo>
                  <a:lnTo>
                    <a:pt x="1723" y="2600"/>
                  </a:lnTo>
                  <a:lnTo>
                    <a:pt x="1723" y="2611"/>
                  </a:lnTo>
                  <a:lnTo>
                    <a:pt x="1723" y="2622"/>
                  </a:lnTo>
                  <a:lnTo>
                    <a:pt x="1717" y="2633"/>
                  </a:lnTo>
                  <a:lnTo>
                    <a:pt x="1717" y="2644"/>
                  </a:lnTo>
                  <a:lnTo>
                    <a:pt x="1717" y="2654"/>
                  </a:lnTo>
                  <a:lnTo>
                    <a:pt x="1712" y="2665"/>
                  </a:lnTo>
                  <a:lnTo>
                    <a:pt x="1712" y="2676"/>
                  </a:lnTo>
                  <a:lnTo>
                    <a:pt x="1712" y="2687"/>
                  </a:lnTo>
                  <a:lnTo>
                    <a:pt x="1706" y="2703"/>
                  </a:lnTo>
                  <a:lnTo>
                    <a:pt x="1706" y="2714"/>
                  </a:lnTo>
                  <a:lnTo>
                    <a:pt x="1706" y="2725"/>
                  </a:lnTo>
                  <a:lnTo>
                    <a:pt x="1701" y="2736"/>
                  </a:lnTo>
                  <a:lnTo>
                    <a:pt x="1701" y="2747"/>
                  </a:lnTo>
                  <a:lnTo>
                    <a:pt x="1695" y="2753"/>
                  </a:lnTo>
                  <a:lnTo>
                    <a:pt x="1690" y="2763"/>
                  </a:lnTo>
                  <a:lnTo>
                    <a:pt x="1684" y="2763"/>
                  </a:lnTo>
                  <a:lnTo>
                    <a:pt x="1674" y="2769"/>
                  </a:lnTo>
                  <a:lnTo>
                    <a:pt x="1663" y="2769"/>
                  </a:lnTo>
                  <a:lnTo>
                    <a:pt x="1657" y="2774"/>
                  </a:lnTo>
                  <a:lnTo>
                    <a:pt x="1646" y="2774"/>
                  </a:lnTo>
                  <a:lnTo>
                    <a:pt x="1641" y="2774"/>
                  </a:lnTo>
                  <a:lnTo>
                    <a:pt x="1635" y="2774"/>
                  </a:lnTo>
                  <a:lnTo>
                    <a:pt x="1625" y="2774"/>
                  </a:lnTo>
                  <a:lnTo>
                    <a:pt x="1619" y="2774"/>
                  </a:lnTo>
                  <a:lnTo>
                    <a:pt x="1608" y="2774"/>
                  </a:lnTo>
                  <a:lnTo>
                    <a:pt x="1603" y="2774"/>
                  </a:lnTo>
                  <a:lnTo>
                    <a:pt x="1592" y="2774"/>
                  </a:lnTo>
                  <a:lnTo>
                    <a:pt x="1586" y="2774"/>
                  </a:lnTo>
                  <a:lnTo>
                    <a:pt x="1575" y="2769"/>
                  </a:lnTo>
                  <a:lnTo>
                    <a:pt x="1570" y="2769"/>
                  </a:lnTo>
                  <a:lnTo>
                    <a:pt x="1559" y="2769"/>
                  </a:lnTo>
                  <a:lnTo>
                    <a:pt x="1554" y="2763"/>
                  </a:lnTo>
                  <a:lnTo>
                    <a:pt x="1543" y="2763"/>
                  </a:lnTo>
                  <a:lnTo>
                    <a:pt x="1537" y="2758"/>
                  </a:lnTo>
                  <a:lnTo>
                    <a:pt x="1526" y="2758"/>
                  </a:lnTo>
                  <a:lnTo>
                    <a:pt x="1521" y="2753"/>
                  </a:lnTo>
                  <a:close/>
                  <a:moveTo>
                    <a:pt x="687" y="2267"/>
                  </a:moveTo>
                  <a:lnTo>
                    <a:pt x="692" y="2257"/>
                  </a:lnTo>
                  <a:lnTo>
                    <a:pt x="698" y="2251"/>
                  </a:lnTo>
                  <a:lnTo>
                    <a:pt x="709" y="2251"/>
                  </a:lnTo>
                  <a:lnTo>
                    <a:pt x="714" y="2251"/>
                  </a:lnTo>
                  <a:lnTo>
                    <a:pt x="725" y="2257"/>
                  </a:lnTo>
                  <a:lnTo>
                    <a:pt x="736" y="2262"/>
                  </a:lnTo>
                  <a:lnTo>
                    <a:pt x="736" y="2267"/>
                  </a:lnTo>
                  <a:lnTo>
                    <a:pt x="736" y="2273"/>
                  </a:lnTo>
                  <a:lnTo>
                    <a:pt x="725" y="2284"/>
                  </a:lnTo>
                  <a:lnTo>
                    <a:pt x="714" y="2284"/>
                  </a:lnTo>
                  <a:lnTo>
                    <a:pt x="709" y="2289"/>
                  </a:lnTo>
                  <a:lnTo>
                    <a:pt x="698" y="2284"/>
                  </a:lnTo>
                  <a:lnTo>
                    <a:pt x="692" y="2278"/>
                  </a:lnTo>
                  <a:lnTo>
                    <a:pt x="687" y="2267"/>
                  </a:lnTo>
                  <a:close/>
                  <a:moveTo>
                    <a:pt x="1368" y="632"/>
                  </a:moveTo>
                  <a:lnTo>
                    <a:pt x="1363" y="621"/>
                  </a:lnTo>
                  <a:lnTo>
                    <a:pt x="1357" y="611"/>
                  </a:lnTo>
                  <a:lnTo>
                    <a:pt x="1352" y="600"/>
                  </a:lnTo>
                  <a:lnTo>
                    <a:pt x="1352" y="594"/>
                  </a:lnTo>
                  <a:lnTo>
                    <a:pt x="1357" y="594"/>
                  </a:lnTo>
                  <a:lnTo>
                    <a:pt x="1363" y="589"/>
                  </a:lnTo>
                  <a:lnTo>
                    <a:pt x="1374" y="589"/>
                  </a:lnTo>
                  <a:lnTo>
                    <a:pt x="1379" y="594"/>
                  </a:lnTo>
                  <a:lnTo>
                    <a:pt x="1385" y="594"/>
                  </a:lnTo>
                  <a:lnTo>
                    <a:pt x="1390" y="600"/>
                  </a:lnTo>
                  <a:lnTo>
                    <a:pt x="1401" y="605"/>
                  </a:lnTo>
                  <a:lnTo>
                    <a:pt x="1406" y="611"/>
                  </a:lnTo>
                  <a:lnTo>
                    <a:pt x="1412" y="616"/>
                  </a:lnTo>
                  <a:lnTo>
                    <a:pt x="1417" y="616"/>
                  </a:lnTo>
                  <a:lnTo>
                    <a:pt x="1423" y="616"/>
                  </a:lnTo>
                  <a:lnTo>
                    <a:pt x="1428" y="621"/>
                  </a:lnTo>
                  <a:lnTo>
                    <a:pt x="1434" y="621"/>
                  </a:lnTo>
                  <a:lnTo>
                    <a:pt x="1445" y="627"/>
                  </a:lnTo>
                  <a:lnTo>
                    <a:pt x="1450" y="627"/>
                  </a:lnTo>
                  <a:lnTo>
                    <a:pt x="1455" y="632"/>
                  </a:lnTo>
                  <a:lnTo>
                    <a:pt x="1445" y="638"/>
                  </a:lnTo>
                  <a:lnTo>
                    <a:pt x="1439" y="638"/>
                  </a:lnTo>
                  <a:lnTo>
                    <a:pt x="1428" y="643"/>
                  </a:lnTo>
                  <a:lnTo>
                    <a:pt x="1423" y="643"/>
                  </a:lnTo>
                  <a:lnTo>
                    <a:pt x="1417" y="643"/>
                  </a:lnTo>
                  <a:lnTo>
                    <a:pt x="1412" y="643"/>
                  </a:lnTo>
                  <a:lnTo>
                    <a:pt x="1406" y="638"/>
                  </a:lnTo>
                  <a:lnTo>
                    <a:pt x="1396" y="638"/>
                  </a:lnTo>
                  <a:lnTo>
                    <a:pt x="1390" y="638"/>
                  </a:lnTo>
                  <a:lnTo>
                    <a:pt x="1385" y="638"/>
                  </a:lnTo>
                  <a:lnTo>
                    <a:pt x="1374" y="632"/>
                  </a:lnTo>
                  <a:lnTo>
                    <a:pt x="1368" y="632"/>
                  </a:lnTo>
                  <a:close/>
                </a:path>
              </a:pathLst>
            </a:custGeom>
            <a:solidFill>
              <a:srgbClr val="f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6" name=""/>
            <p:cNvSpPr/>
            <p:nvPr/>
          </p:nvSpPr>
          <p:spPr>
            <a:xfrm>
              <a:off x="2746440" y="1000080"/>
              <a:ext cx="4059000" cy="5727600"/>
            </a:xfrm>
            <a:custGeom>
              <a:avLst/>
              <a:gdLst/>
              <a:ahLst/>
              <a:rect l="l" t="t" r="r" b="b"/>
              <a:pathLst>
                <a:path w="2557" h="3608">
                  <a:moveTo>
                    <a:pt x="1074" y="3608"/>
                  </a:moveTo>
                  <a:lnTo>
                    <a:pt x="1112" y="3570"/>
                  </a:lnTo>
                  <a:lnTo>
                    <a:pt x="1150" y="3570"/>
                  </a:lnTo>
                  <a:lnTo>
                    <a:pt x="1188" y="3532"/>
                  </a:lnTo>
                  <a:lnTo>
                    <a:pt x="1221" y="3532"/>
                  </a:lnTo>
                  <a:lnTo>
                    <a:pt x="1259" y="3532"/>
                  </a:lnTo>
                  <a:lnTo>
                    <a:pt x="1297" y="3494"/>
                  </a:lnTo>
                  <a:lnTo>
                    <a:pt x="1336" y="3494"/>
                  </a:lnTo>
                  <a:lnTo>
                    <a:pt x="1374" y="3456"/>
                  </a:lnTo>
                  <a:lnTo>
                    <a:pt x="1406" y="3456"/>
                  </a:lnTo>
                  <a:lnTo>
                    <a:pt x="1445" y="3423"/>
                  </a:lnTo>
                  <a:lnTo>
                    <a:pt x="1483" y="3423"/>
                  </a:lnTo>
                  <a:lnTo>
                    <a:pt x="1521" y="3423"/>
                  </a:lnTo>
                  <a:lnTo>
                    <a:pt x="1521" y="3385"/>
                  </a:lnTo>
                  <a:lnTo>
                    <a:pt x="1554" y="3347"/>
                  </a:lnTo>
                  <a:lnTo>
                    <a:pt x="1554" y="3308"/>
                  </a:lnTo>
                  <a:lnTo>
                    <a:pt x="1592" y="3270"/>
                  </a:lnTo>
                  <a:lnTo>
                    <a:pt x="1592" y="3238"/>
                  </a:lnTo>
                  <a:lnTo>
                    <a:pt x="1630" y="3199"/>
                  </a:lnTo>
                  <a:lnTo>
                    <a:pt x="1630" y="3161"/>
                  </a:lnTo>
                  <a:lnTo>
                    <a:pt x="1668" y="3123"/>
                  </a:lnTo>
                  <a:lnTo>
                    <a:pt x="1668" y="3085"/>
                  </a:lnTo>
                  <a:lnTo>
                    <a:pt x="1706" y="3047"/>
                  </a:lnTo>
                  <a:lnTo>
                    <a:pt x="1706" y="3014"/>
                  </a:lnTo>
                  <a:lnTo>
                    <a:pt x="1739" y="2976"/>
                  </a:lnTo>
                  <a:lnTo>
                    <a:pt x="1739" y="2938"/>
                  </a:lnTo>
                  <a:lnTo>
                    <a:pt x="1777" y="2900"/>
                  </a:lnTo>
                  <a:lnTo>
                    <a:pt x="1777" y="2862"/>
                  </a:lnTo>
                  <a:lnTo>
                    <a:pt x="1815" y="2823"/>
                  </a:lnTo>
                  <a:lnTo>
                    <a:pt x="1815" y="2791"/>
                  </a:lnTo>
                  <a:lnTo>
                    <a:pt x="1854" y="2753"/>
                  </a:lnTo>
                  <a:lnTo>
                    <a:pt x="1854" y="2714"/>
                  </a:lnTo>
                  <a:lnTo>
                    <a:pt x="1892" y="2676"/>
                  </a:lnTo>
                  <a:lnTo>
                    <a:pt x="1892" y="2638"/>
                  </a:lnTo>
                  <a:lnTo>
                    <a:pt x="1924" y="2600"/>
                  </a:lnTo>
                  <a:lnTo>
                    <a:pt x="1924" y="2567"/>
                  </a:lnTo>
                  <a:lnTo>
                    <a:pt x="1963" y="2529"/>
                  </a:lnTo>
                  <a:lnTo>
                    <a:pt x="1963" y="2491"/>
                  </a:lnTo>
                  <a:lnTo>
                    <a:pt x="2001" y="2453"/>
                  </a:lnTo>
                  <a:lnTo>
                    <a:pt x="2001" y="2415"/>
                  </a:lnTo>
                  <a:lnTo>
                    <a:pt x="2039" y="2382"/>
                  </a:lnTo>
                  <a:lnTo>
                    <a:pt x="2039" y="2344"/>
                  </a:lnTo>
                  <a:lnTo>
                    <a:pt x="2077" y="2306"/>
                  </a:lnTo>
                  <a:lnTo>
                    <a:pt x="2077" y="2267"/>
                  </a:lnTo>
                  <a:lnTo>
                    <a:pt x="2110" y="2229"/>
                  </a:lnTo>
                  <a:lnTo>
                    <a:pt x="2110" y="2191"/>
                  </a:lnTo>
                  <a:lnTo>
                    <a:pt x="2148" y="2158"/>
                  </a:lnTo>
                  <a:lnTo>
                    <a:pt x="2148" y="2120"/>
                  </a:lnTo>
                  <a:lnTo>
                    <a:pt x="2186" y="2082"/>
                  </a:lnTo>
                  <a:lnTo>
                    <a:pt x="2186" y="2044"/>
                  </a:lnTo>
                  <a:lnTo>
                    <a:pt x="2224" y="2006"/>
                  </a:lnTo>
                  <a:lnTo>
                    <a:pt x="2224" y="1968"/>
                  </a:lnTo>
                  <a:lnTo>
                    <a:pt x="2224" y="1935"/>
                  </a:lnTo>
                  <a:lnTo>
                    <a:pt x="2262" y="1897"/>
                  </a:lnTo>
                  <a:lnTo>
                    <a:pt x="2262" y="1859"/>
                  </a:lnTo>
                  <a:lnTo>
                    <a:pt x="2262" y="1821"/>
                  </a:lnTo>
                  <a:lnTo>
                    <a:pt x="2295" y="1782"/>
                  </a:lnTo>
                  <a:lnTo>
                    <a:pt x="2295" y="1750"/>
                  </a:lnTo>
                  <a:lnTo>
                    <a:pt x="2295" y="1712"/>
                  </a:lnTo>
                  <a:lnTo>
                    <a:pt x="2333" y="1673"/>
                  </a:lnTo>
                  <a:lnTo>
                    <a:pt x="2333" y="1635"/>
                  </a:lnTo>
                  <a:lnTo>
                    <a:pt x="2333" y="1597"/>
                  </a:lnTo>
                  <a:lnTo>
                    <a:pt x="2333" y="1559"/>
                  </a:lnTo>
                  <a:lnTo>
                    <a:pt x="2333" y="1526"/>
                  </a:lnTo>
                  <a:lnTo>
                    <a:pt x="2371" y="1488"/>
                  </a:lnTo>
                  <a:lnTo>
                    <a:pt x="2371" y="1450"/>
                  </a:lnTo>
                  <a:lnTo>
                    <a:pt x="2371" y="1412"/>
                  </a:lnTo>
                  <a:lnTo>
                    <a:pt x="2371" y="1374"/>
                  </a:lnTo>
                  <a:lnTo>
                    <a:pt x="2371" y="1335"/>
                  </a:lnTo>
                  <a:lnTo>
                    <a:pt x="2371" y="1303"/>
                  </a:lnTo>
                  <a:lnTo>
                    <a:pt x="2371" y="1265"/>
                  </a:lnTo>
                  <a:lnTo>
                    <a:pt x="2410" y="1226"/>
                  </a:lnTo>
                  <a:lnTo>
                    <a:pt x="2410" y="1188"/>
                  </a:lnTo>
                  <a:lnTo>
                    <a:pt x="2410" y="1150"/>
                  </a:lnTo>
                  <a:lnTo>
                    <a:pt x="2410" y="1117"/>
                  </a:lnTo>
                  <a:lnTo>
                    <a:pt x="2410" y="1079"/>
                  </a:lnTo>
                  <a:lnTo>
                    <a:pt x="2410" y="1041"/>
                  </a:lnTo>
                  <a:lnTo>
                    <a:pt x="2410" y="1003"/>
                  </a:lnTo>
                  <a:lnTo>
                    <a:pt x="2448" y="965"/>
                  </a:lnTo>
                  <a:lnTo>
                    <a:pt x="2448" y="927"/>
                  </a:lnTo>
                  <a:lnTo>
                    <a:pt x="2448" y="894"/>
                  </a:lnTo>
                  <a:lnTo>
                    <a:pt x="2448" y="856"/>
                  </a:lnTo>
                  <a:lnTo>
                    <a:pt x="2448" y="818"/>
                  </a:lnTo>
                  <a:lnTo>
                    <a:pt x="2448" y="780"/>
                  </a:lnTo>
                  <a:lnTo>
                    <a:pt x="2448" y="741"/>
                  </a:lnTo>
                  <a:lnTo>
                    <a:pt x="2481" y="703"/>
                  </a:lnTo>
                  <a:lnTo>
                    <a:pt x="2481" y="671"/>
                  </a:lnTo>
                  <a:lnTo>
                    <a:pt x="2481" y="632"/>
                  </a:lnTo>
                  <a:lnTo>
                    <a:pt x="2481" y="594"/>
                  </a:lnTo>
                  <a:lnTo>
                    <a:pt x="2481" y="556"/>
                  </a:lnTo>
                  <a:lnTo>
                    <a:pt x="2481" y="518"/>
                  </a:lnTo>
                  <a:lnTo>
                    <a:pt x="2481" y="485"/>
                  </a:lnTo>
                  <a:lnTo>
                    <a:pt x="2519" y="447"/>
                  </a:lnTo>
                  <a:lnTo>
                    <a:pt x="2519" y="409"/>
                  </a:lnTo>
                  <a:lnTo>
                    <a:pt x="2519" y="371"/>
                  </a:lnTo>
                  <a:lnTo>
                    <a:pt x="2519" y="333"/>
                  </a:lnTo>
                  <a:lnTo>
                    <a:pt x="2519" y="294"/>
                  </a:lnTo>
                  <a:lnTo>
                    <a:pt x="2519" y="262"/>
                  </a:lnTo>
                  <a:lnTo>
                    <a:pt x="2519" y="224"/>
                  </a:lnTo>
                  <a:lnTo>
                    <a:pt x="2557" y="185"/>
                  </a:lnTo>
                  <a:lnTo>
                    <a:pt x="2557" y="147"/>
                  </a:lnTo>
                  <a:lnTo>
                    <a:pt x="2557" y="109"/>
                  </a:lnTo>
                  <a:lnTo>
                    <a:pt x="2557" y="71"/>
                  </a:lnTo>
                  <a:lnTo>
                    <a:pt x="2557" y="38"/>
                  </a:lnTo>
                  <a:lnTo>
                    <a:pt x="2557" y="0"/>
                  </a:lnTo>
                  <a:lnTo>
                    <a:pt x="2519" y="0"/>
                  </a:lnTo>
                  <a:lnTo>
                    <a:pt x="2481" y="0"/>
                  </a:lnTo>
                  <a:lnTo>
                    <a:pt x="2448" y="0"/>
                  </a:lnTo>
                  <a:lnTo>
                    <a:pt x="2410" y="0"/>
                  </a:lnTo>
                  <a:lnTo>
                    <a:pt x="2371" y="38"/>
                  </a:lnTo>
                  <a:lnTo>
                    <a:pt x="2333" y="38"/>
                  </a:lnTo>
                  <a:lnTo>
                    <a:pt x="2295" y="38"/>
                  </a:lnTo>
                  <a:lnTo>
                    <a:pt x="2262" y="71"/>
                  </a:lnTo>
                  <a:lnTo>
                    <a:pt x="2224" y="71"/>
                  </a:lnTo>
                  <a:lnTo>
                    <a:pt x="2186" y="71"/>
                  </a:lnTo>
                  <a:lnTo>
                    <a:pt x="2148" y="109"/>
                  </a:lnTo>
                  <a:lnTo>
                    <a:pt x="2110" y="109"/>
                  </a:lnTo>
                  <a:lnTo>
                    <a:pt x="2077" y="147"/>
                  </a:lnTo>
                  <a:lnTo>
                    <a:pt x="2039" y="147"/>
                  </a:lnTo>
                  <a:lnTo>
                    <a:pt x="2001" y="147"/>
                  </a:lnTo>
                  <a:lnTo>
                    <a:pt x="1963" y="185"/>
                  </a:lnTo>
                  <a:lnTo>
                    <a:pt x="1924" y="185"/>
                  </a:lnTo>
                  <a:lnTo>
                    <a:pt x="1892" y="185"/>
                  </a:lnTo>
                  <a:lnTo>
                    <a:pt x="1854" y="224"/>
                  </a:lnTo>
                  <a:lnTo>
                    <a:pt x="1815" y="224"/>
                  </a:lnTo>
                  <a:lnTo>
                    <a:pt x="1777" y="224"/>
                  </a:lnTo>
                  <a:lnTo>
                    <a:pt x="1739" y="262"/>
                  </a:lnTo>
                  <a:lnTo>
                    <a:pt x="1706" y="262"/>
                  </a:lnTo>
                  <a:lnTo>
                    <a:pt x="1668" y="262"/>
                  </a:lnTo>
                  <a:lnTo>
                    <a:pt x="1630" y="294"/>
                  </a:lnTo>
                  <a:lnTo>
                    <a:pt x="1592" y="294"/>
                  </a:lnTo>
                  <a:lnTo>
                    <a:pt x="1554" y="294"/>
                  </a:lnTo>
                  <a:lnTo>
                    <a:pt x="1521" y="333"/>
                  </a:lnTo>
                  <a:lnTo>
                    <a:pt x="1483" y="333"/>
                  </a:lnTo>
                  <a:lnTo>
                    <a:pt x="1445" y="333"/>
                  </a:lnTo>
                  <a:lnTo>
                    <a:pt x="1406" y="371"/>
                  </a:lnTo>
                  <a:lnTo>
                    <a:pt x="1374" y="371"/>
                  </a:lnTo>
                  <a:lnTo>
                    <a:pt x="1336" y="409"/>
                  </a:lnTo>
                  <a:lnTo>
                    <a:pt x="1297" y="409"/>
                  </a:lnTo>
                  <a:lnTo>
                    <a:pt x="1259" y="409"/>
                  </a:lnTo>
                  <a:lnTo>
                    <a:pt x="1221" y="447"/>
                  </a:lnTo>
                  <a:lnTo>
                    <a:pt x="1188" y="447"/>
                  </a:lnTo>
                  <a:lnTo>
                    <a:pt x="1150" y="447"/>
                  </a:lnTo>
                  <a:lnTo>
                    <a:pt x="1112" y="485"/>
                  </a:lnTo>
                  <a:lnTo>
                    <a:pt x="1074" y="485"/>
                  </a:lnTo>
                  <a:lnTo>
                    <a:pt x="1036" y="485"/>
                  </a:lnTo>
                  <a:lnTo>
                    <a:pt x="1003" y="518"/>
                  </a:lnTo>
                  <a:lnTo>
                    <a:pt x="965" y="518"/>
                  </a:lnTo>
                  <a:lnTo>
                    <a:pt x="927" y="518"/>
                  </a:lnTo>
                  <a:lnTo>
                    <a:pt x="888" y="556"/>
                  </a:lnTo>
                  <a:lnTo>
                    <a:pt x="850" y="556"/>
                  </a:lnTo>
                  <a:lnTo>
                    <a:pt x="818" y="556"/>
                  </a:lnTo>
                  <a:lnTo>
                    <a:pt x="779" y="594"/>
                  </a:lnTo>
                  <a:lnTo>
                    <a:pt x="741" y="594"/>
                  </a:lnTo>
                  <a:lnTo>
                    <a:pt x="703" y="594"/>
                  </a:lnTo>
                  <a:lnTo>
                    <a:pt x="665" y="632"/>
                  </a:lnTo>
                  <a:lnTo>
                    <a:pt x="632" y="632"/>
                  </a:lnTo>
                  <a:lnTo>
                    <a:pt x="594" y="632"/>
                  </a:lnTo>
                  <a:lnTo>
                    <a:pt x="556" y="671"/>
                  </a:lnTo>
                  <a:lnTo>
                    <a:pt x="518" y="671"/>
                  </a:lnTo>
                  <a:lnTo>
                    <a:pt x="480" y="703"/>
                  </a:lnTo>
                  <a:lnTo>
                    <a:pt x="447" y="703"/>
                  </a:lnTo>
                  <a:lnTo>
                    <a:pt x="409" y="703"/>
                  </a:lnTo>
                  <a:lnTo>
                    <a:pt x="370" y="741"/>
                  </a:lnTo>
                  <a:lnTo>
                    <a:pt x="332" y="741"/>
                  </a:lnTo>
                  <a:lnTo>
                    <a:pt x="300" y="741"/>
                  </a:lnTo>
                  <a:lnTo>
                    <a:pt x="261" y="780"/>
                  </a:lnTo>
                  <a:lnTo>
                    <a:pt x="223" y="780"/>
                  </a:lnTo>
                  <a:lnTo>
                    <a:pt x="185" y="780"/>
                  </a:lnTo>
                  <a:lnTo>
                    <a:pt x="147" y="818"/>
                  </a:lnTo>
                  <a:lnTo>
                    <a:pt x="114" y="818"/>
                  </a:lnTo>
                  <a:lnTo>
                    <a:pt x="114" y="856"/>
                  </a:lnTo>
                  <a:lnTo>
                    <a:pt x="114" y="894"/>
                  </a:lnTo>
                  <a:lnTo>
                    <a:pt x="114" y="927"/>
                  </a:lnTo>
                  <a:lnTo>
                    <a:pt x="114" y="965"/>
                  </a:lnTo>
                  <a:lnTo>
                    <a:pt x="114" y="1003"/>
                  </a:lnTo>
                  <a:lnTo>
                    <a:pt x="76" y="1041"/>
                  </a:lnTo>
                  <a:lnTo>
                    <a:pt x="76" y="1079"/>
                  </a:lnTo>
                  <a:lnTo>
                    <a:pt x="76" y="1117"/>
                  </a:lnTo>
                  <a:lnTo>
                    <a:pt x="76" y="1150"/>
                  </a:lnTo>
                  <a:lnTo>
                    <a:pt x="76" y="1188"/>
                  </a:lnTo>
                  <a:lnTo>
                    <a:pt x="76" y="1226"/>
                  </a:lnTo>
                  <a:lnTo>
                    <a:pt x="76" y="1265"/>
                  </a:lnTo>
                  <a:lnTo>
                    <a:pt x="76" y="1303"/>
                  </a:lnTo>
                  <a:lnTo>
                    <a:pt x="76" y="1335"/>
                  </a:lnTo>
                  <a:lnTo>
                    <a:pt x="76" y="1374"/>
                  </a:lnTo>
                  <a:lnTo>
                    <a:pt x="76" y="1412"/>
                  </a:lnTo>
                  <a:lnTo>
                    <a:pt x="76" y="1450"/>
                  </a:lnTo>
                  <a:lnTo>
                    <a:pt x="76" y="1488"/>
                  </a:lnTo>
                  <a:lnTo>
                    <a:pt x="76" y="1526"/>
                  </a:lnTo>
                  <a:lnTo>
                    <a:pt x="76" y="1559"/>
                  </a:lnTo>
                  <a:lnTo>
                    <a:pt x="76" y="1597"/>
                  </a:lnTo>
                  <a:lnTo>
                    <a:pt x="76" y="1635"/>
                  </a:lnTo>
                  <a:lnTo>
                    <a:pt x="76" y="1673"/>
                  </a:lnTo>
                  <a:lnTo>
                    <a:pt x="38" y="1712"/>
                  </a:lnTo>
                  <a:lnTo>
                    <a:pt x="38" y="1750"/>
                  </a:lnTo>
                  <a:lnTo>
                    <a:pt x="38" y="1782"/>
                  </a:lnTo>
                  <a:lnTo>
                    <a:pt x="38" y="1821"/>
                  </a:lnTo>
                  <a:lnTo>
                    <a:pt x="38" y="1859"/>
                  </a:lnTo>
                  <a:lnTo>
                    <a:pt x="38" y="1897"/>
                  </a:lnTo>
                  <a:lnTo>
                    <a:pt x="38" y="1935"/>
                  </a:lnTo>
                  <a:lnTo>
                    <a:pt x="38" y="1968"/>
                  </a:lnTo>
                  <a:lnTo>
                    <a:pt x="38" y="2006"/>
                  </a:lnTo>
                  <a:lnTo>
                    <a:pt x="38" y="2044"/>
                  </a:lnTo>
                  <a:lnTo>
                    <a:pt x="38" y="2082"/>
                  </a:lnTo>
                  <a:lnTo>
                    <a:pt x="38" y="2120"/>
                  </a:lnTo>
                  <a:lnTo>
                    <a:pt x="38" y="2158"/>
                  </a:lnTo>
                  <a:lnTo>
                    <a:pt x="38" y="2191"/>
                  </a:lnTo>
                  <a:lnTo>
                    <a:pt x="38" y="2229"/>
                  </a:lnTo>
                  <a:lnTo>
                    <a:pt x="38" y="2267"/>
                  </a:lnTo>
                  <a:lnTo>
                    <a:pt x="38" y="2306"/>
                  </a:lnTo>
                  <a:lnTo>
                    <a:pt x="0" y="2344"/>
                  </a:lnTo>
                  <a:lnTo>
                    <a:pt x="0" y="2382"/>
                  </a:lnTo>
                  <a:lnTo>
                    <a:pt x="0" y="2415"/>
                  </a:lnTo>
                  <a:lnTo>
                    <a:pt x="0" y="2453"/>
                  </a:lnTo>
                  <a:lnTo>
                    <a:pt x="0" y="2491"/>
                  </a:lnTo>
                  <a:lnTo>
                    <a:pt x="0" y="2529"/>
                  </a:lnTo>
                  <a:lnTo>
                    <a:pt x="0" y="2567"/>
                  </a:lnTo>
                  <a:lnTo>
                    <a:pt x="0" y="2600"/>
                  </a:lnTo>
                  <a:lnTo>
                    <a:pt x="0" y="2638"/>
                  </a:lnTo>
                  <a:lnTo>
                    <a:pt x="0" y="2676"/>
                  </a:lnTo>
                  <a:lnTo>
                    <a:pt x="0" y="2714"/>
                  </a:lnTo>
                  <a:lnTo>
                    <a:pt x="0" y="2753"/>
                  </a:lnTo>
                  <a:lnTo>
                    <a:pt x="0" y="2791"/>
                  </a:lnTo>
                  <a:lnTo>
                    <a:pt x="0" y="2823"/>
                  </a:lnTo>
                  <a:lnTo>
                    <a:pt x="0" y="2862"/>
                  </a:lnTo>
                  <a:lnTo>
                    <a:pt x="0" y="2900"/>
                  </a:lnTo>
                  <a:lnTo>
                    <a:pt x="0" y="2938"/>
                  </a:lnTo>
                  <a:lnTo>
                    <a:pt x="0" y="2976"/>
                  </a:lnTo>
                  <a:lnTo>
                    <a:pt x="0" y="3014"/>
                  </a:lnTo>
                  <a:lnTo>
                    <a:pt x="38" y="3014"/>
                  </a:lnTo>
                  <a:lnTo>
                    <a:pt x="76" y="3047"/>
                  </a:lnTo>
                  <a:lnTo>
                    <a:pt x="114" y="3047"/>
                  </a:lnTo>
                  <a:lnTo>
                    <a:pt x="147" y="3085"/>
                  </a:lnTo>
                  <a:lnTo>
                    <a:pt x="185" y="3123"/>
                  </a:lnTo>
                  <a:lnTo>
                    <a:pt x="223" y="3123"/>
                  </a:lnTo>
                  <a:lnTo>
                    <a:pt x="261" y="3161"/>
                  </a:lnTo>
                  <a:lnTo>
                    <a:pt x="300" y="3199"/>
                  </a:lnTo>
                  <a:lnTo>
                    <a:pt x="332" y="3199"/>
                  </a:lnTo>
                  <a:lnTo>
                    <a:pt x="370" y="3238"/>
                  </a:lnTo>
                  <a:lnTo>
                    <a:pt x="409" y="3270"/>
                  </a:lnTo>
                  <a:lnTo>
                    <a:pt x="447" y="3270"/>
                  </a:lnTo>
                  <a:lnTo>
                    <a:pt x="480" y="3308"/>
                  </a:lnTo>
                  <a:lnTo>
                    <a:pt x="518" y="3347"/>
                  </a:lnTo>
                  <a:lnTo>
                    <a:pt x="556" y="3347"/>
                  </a:lnTo>
                  <a:lnTo>
                    <a:pt x="594" y="3385"/>
                  </a:lnTo>
                  <a:lnTo>
                    <a:pt x="632" y="3385"/>
                  </a:lnTo>
                  <a:lnTo>
                    <a:pt x="665" y="3423"/>
                  </a:lnTo>
                  <a:lnTo>
                    <a:pt x="703" y="3456"/>
                  </a:lnTo>
                  <a:lnTo>
                    <a:pt x="741" y="3456"/>
                  </a:lnTo>
                  <a:lnTo>
                    <a:pt x="779" y="3494"/>
                  </a:lnTo>
                  <a:lnTo>
                    <a:pt x="818" y="3532"/>
                  </a:lnTo>
                  <a:lnTo>
                    <a:pt x="850" y="3532"/>
                  </a:lnTo>
                  <a:lnTo>
                    <a:pt x="888" y="3570"/>
                  </a:lnTo>
                  <a:lnTo>
                    <a:pt x="927" y="3570"/>
                  </a:lnTo>
                  <a:lnTo>
                    <a:pt x="965" y="3608"/>
                  </a:lnTo>
                  <a:lnTo>
                    <a:pt x="1003" y="3608"/>
                  </a:lnTo>
                  <a:lnTo>
                    <a:pt x="1036" y="3608"/>
                  </a:lnTo>
                  <a:lnTo>
                    <a:pt x="1074" y="3608"/>
                  </a:lnTo>
                  <a:close/>
                  <a:moveTo>
                    <a:pt x="1521" y="2753"/>
                  </a:moveTo>
                  <a:lnTo>
                    <a:pt x="1526" y="2742"/>
                  </a:lnTo>
                  <a:lnTo>
                    <a:pt x="1526" y="2731"/>
                  </a:lnTo>
                  <a:lnTo>
                    <a:pt x="1532" y="2720"/>
                  </a:lnTo>
                  <a:lnTo>
                    <a:pt x="1537" y="2709"/>
                  </a:lnTo>
                  <a:lnTo>
                    <a:pt x="1543" y="2703"/>
                  </a:lnTo>
                  <a:lnTo>
                    <a:pt x="1543" y="2693"/>
                  </a:lnTo>
                  <a:lnTo>
                    <a:pt x="1548" y="2682"/>
                  </a:lnTo>
                  <a:lnTo>
                    <a:pt x="1554" y="2671"/>
                  </a:lnTo>
                  <a:lnTo>
                    <a:pt x="1559" y="2665"/>
                  </a:lnTo>
                  <a:lnTo>
                    <a:pt x="1565" y="2654"/>
                  </a:lnTo>
                  <a:lnTo>
                    <a:pt x="1570" y="2649"/>
                  </a:lnTo>
                  <a:lnTo>
                    <a:pt x="1581" y="2644"/>
                  </a:lnTo>
                  <a:lnTo>
                    <a:pt x="1586" y="2638"/>
                  </a:lnTo>
                  <a:lnTo>
                    <a:pt x="1592" y="2633"/>
                  </a:lnTo>
                  <a:lnTo>
                    <a:pt x="1597" y="2622"/>
                  </a:lnTo>
                  <a:lnTo>
                    <a:pt x="1608" y="2616"/>
                  </a:lnTo>
                  <a:lnTo>
                    <a:pt x="1614" y="2611"/>
                  </a:lnTo>
                  <a:lnTo>
                    <a:pt x="1619" y="2605"/>
                  </a:lnTo>
                  <a:lnTo>
                    <a:pt x="1625" y="2600"/>
                  </a:lnTo>
                  <a:lnTo>
                    <a:pt x="1635" y="2594"/>
                  </a:lnTo>
                  <a:lnTo>
                    <a:pt x="1641" y="2584"/>
                  </a:lnTo>
                  <a:lnTo>
                    <a:pt x="1646" y="2578"/>
                  </a:lnTo>
                  <a:lnTo>
                    <a:pt x="1652" y="2573"/>
                  </a:lnTo>
                  <a:lnTo>
                    <a:pt x="1663" y="2567"/>
                  </a:lnTo>
                  <a:lnTo>
                    <a:pt x="1668" y="2562"/>
                  </a:lnTo>
                  <a:lnTo>
                    <a:pt x="1674" y="2556"/>
                  </a:lnTo>
                  <a:lnTo>
                    <a:pt x="1679" y="2551"/>
                  </a:lnTo>
                  <a:lnTo>
                    <a:pt x="1690" y="2545"/>
                  </a:lnTo>
                  <a:lnTo>
                    <a:pt x="1695" y="2535"/>
                  </a:lnTo>
                  <a:lnTo>
                    <a:pt x="1701" y="2529"/>
                  </a:lnTo>
                  <a:lnTo>
                    <a:pt x="1706" y="2529"/>
                  </a:lnTo>
                  <a:lnTo>
                    <a:pt x="1717" y="2535"/>
                  </a:lnTo>
                  <a:lnTo>
                    <a:pt x="1723" y="2545"/>
                  </a:lnTo>
                  <a:lnTo>
                    <a:pt x="1723" y="2556"/>
                  </a:lnTo>
                  <a:lnTo>
                    <a:pt x="1723" y="2567"/>
                  </a:lnTo>
                  <a:lnTo>
                    <a:pt x="1728" y="2578"/>
                  </a:lnTo>
                  <a:lnTo>
                    <a:pt x="1728" y="2589"/>
                  </a:lnTo>
                  <a:lnTo>
                    <a:pt x="1723" y="2600"/>
                  </a:lnTo>
                  <a:lnTo>
                    <a:pt x="1723" y="2611"/>
                  </a:lnTo>
                  <a:lnTo>
                    <a:pt x="1723" y="2622"/>
                  </a:lnTo>
                  <a:lnTo>
                    <a:pt x="1717" y="2633"/>
                  </a:lnTo>
                  <a:lnTo>
                    <a:pt x="1717" y="2644"/>
                  </a:lnTo>
                  <a:lnTo>
                    <a:pt x="1717" y="2654"/>
                  </a:lnTo>
                  <a:lnTo>
                    <a:pt x="1712" y="2665"/>
                  </a:lnTo>
                  <a:lnTo>
                    <a:pt x="1712" y="2676"/>
                  </a:lnTo>
                  <a:lnTo>
                    <a:pt x="1712" y="2687"/>
                  </a:lnTo>
                  <a:lnTo>
                    <a:pt x="1706" y="2703"/>
                  </a:lnTo>
                  <a:lnTo>
                    <a:pt x="1706" y="2714"/>
                  </a:lnTo>
                  <a:lnTo>
                    <a:pt x="1706" y="2725"/>
                  </a:lnTo>
                  <a:lnTo>
                    <a:pt x="1701" y="2736"/>
                  </a:lnTo>
                  <a:lnTo>
                    <a:pt x="1701" y="2747"/>
                  </a:lnTo>
                  <a:lnTo>
                    <a:pt x="1695" y="2753"/>
                  </a:lnTo>
                  <a:lnTo>
                    <a:pt x="1690" y="2763"/>
                  </a:lnTo>
                  <a:lnTo>
                    <a:pt x="1684" y="2763"/>
                  </a:lnTo>
                  <a:lnTo>
                    <a:pt x="1674" y="2769"/>
                  </a:lnTo>
                  <a:lnTo>
                    <a:pt x="1663" y="2769"/>
                  </a:lnTo>
                  <a:lnTo>
                    <a:pt x="1657" y="2774"/>
                  </a:lnTo>
                  <a:lnTo>
                    <a:pt x="1646" y="2774"/>
                  </a:lnTo>
                  <a:lnTo>
                    <a:pt x="1641" y="2774"/>
                  </a:lnTo>
                  <a:lnTo>
                    <a:pt x="1635" y="2774"/>
                  </a:lnTo>
                  <a:lnTo>
                    <a:pt x="1625" y="2774"/>
                  </a:lnTo>
                  <a:lnTo>
                    <a:pt x="1619" y="2774"/>
                  </a:lnTo>
                  <a:lnTo>
                    <a:pt x="1608" y="2774"/>
                  </a:lnTo>
                  <a:lnTo>
                    <a:pt x="1603" y="2774"/>
                  </a:lnTo>
                  <a:lnTo>
                    <a:pt x="1592" y="2774"/>
                  </a:lnTo>
                  <a:lnTo>
                    <a:pt x="1586" y="2774"/>
                  </a:lnTo>
                  <a:lnTo>
                    <a:pt x="1575" y="2769"/>
                  </a:lnTo>
                  <a:lnTo>
                    <a:pt x="1570" y="2769"/>
                  </a:lnTo>
                  <a:lnTo>
                    <a:pt x="1559" y="2769"/>
                  </a:lnTo>
                  <a:lnTo>
                    <a:pt x="1554" y="2763"/>
                  </a:lnTo>
                  <a:lnTo>
                    <a:pt x="1543" y="2763"/>
                  </a:lnTo>
                  <a:lnTo>
                    <a:pt x="1537" y="2758"/>
                  </a:lnTo>
                  <a:lnTo>
                    <a:pt x="1526" y="2758"/>
                  </a:lnTo>
                  <a:lnTo>
                    <a:pt x="1521" y="2753"/>
                  </a:lnTo>
                  <a:close/>
                  <a:moveTo>
                    <a:pt x="687" y="2267"/>
                  </a:moveTo>
                  <a:lnTo>
                    <a:pt x="692" y="2257"/>
                  </a:lnTo>
                  <a:lnTo>
                    <a:pt x="698" y="2251"/>
                  </a:lnTo>
                  <a:lnTo>
                    <a:pt x="709" y="2251"/>
                  </a:lnTo>
                  <a:lnTo>
                    <a:pt x="714" y="2251"/>
                  </a:lnTo>
                  <a:lnTo>
                    <a:pt x="725" y="2257"/>
                  </a:lnTo>
                  <a:lnTo>
                    <a:pt x="736" y="2262"/>
                  </a:lnTo>
                  <a:lnTo>
                    <a:pt x="736" y="2267"/>
                  </a:lnTo>
                  <a:lnTo>
                    <a:pt x="736" y="2273"/>
                  </a:lnTo>
                  <a:lnTo>
                    <a:pt x="725" y="2284"/>
                  </a:lnTo>
                  <a:lnTo>
                    <a:pt x="714" y="2284"/>
                  </a:lnTo>
                  <a:lnTo>
                    <a:pt x="709" y="2289"/>
                  </a:lnTo>
                  <a:lnTo>
                    <a:pt x="698" y="2284"/>
                  </a:lnTo>
                  <a:lnTo>
                    <a:pt x="692" y="2278"/>
                  </a:lnTo>
                  <a:lnTo>
                    <a:pt x="687" y="2267"/>
                  </a:lnTo>
                  <a:close/>
                  <a:moveTo>
                    <a:pt x="1368" y="632"/>
                  </a:moveTo>
                  <a:lnTo>
                    <a:pt x="1363" y="621"/>
                  </a:lnTo>
                  <a:lnTo>
                    <a:pt x="1357" y="611"/>
                  </a:lnTo>
                  <a:lnTo>
                    <a:pt x="1352" y="600"/>
                  </a:lnTo>
                  <a:lnTo>
                    <a:pt x="1352" y="594"/>
                  </a:lnTo>
                  <a:lnTo>
                    <a:pt x="1357" y="594"/>
                  </a:lnTo>
                  <a:lnTo>
                    <a:pt x="1363" y="589"/>
                  </a:lnTo>
                  <a:lnTo>
                    <a:pt x="1374" y="589"/>
                  </a:lnTo>
                  <a:lnTo>
                    <a:pt x="1379" y="594"/>
                  </a:lnTo>
                  <a:lnTo>
                    <a:pt x="1385" y="594"/>
                  </a:lnTo>
                  <a:lnTo>
                    <a:pt x="1390" y="600"/>
                  </a:lnTo>
                  <a:lnTo>
                    <a:pt x="1401" y="605"/>
                  </a:lnTo>
                  <a:lnTo>
                    <a:pt x="1406" y="611"/>
                  </a:lnTo>
                  <a:lnTo>
                    <a:pt x="1412" y="616"/>
                  </a:lnTo>
                  <a:lnTo>
                    <a:pt x="1417" y="616"/>
                  </a:lnTo>
                  <a:lnTo>
                    <a:pt x="1423" y="616"/>
                  </a:lnTo>
                  <a:lnTo>
                    <a:pt x="1428" y="621"/>
                  </a:lnTo>
                  <a:lnTo>
                    <a:pt x="1434" y="621"/>
                  </a:lnTo>
                  <a:lnTo>
                    <a:pt x="1445" y="627"/>
                  </a:lnTo>
                  <a:lnTo>
                    <a:pt x="1450" y="627"/>
                  </a:lnTo>
                  <a:lnTo>
                    <a:pt x="1455" y="632"/>
                  </a:lnTo>
                  <a:lnTo>
                    <a:pt x="1445" y="638"/>
                  </a:lnTo>
                  <a:lnTo>
                    <a:pt x="1439" y="638"/>
                  </a:lnTo>
                  <a:lnTo>
                    <a:pt x="1428" y="643"/>
                  </a:lnTo>
                  <a:lnTo>
                    <a:pt x="1423" y="643"/>
                  </a:lnTo>
                  <a:lnTo>
                    <a:pt x="1417" y="643"/>
                  </a:lnTo>
                  <a:lnTo>
                    <a:pt x="1412" y="643"/>
                  </a:lnTo>
                  <a:lnTo>
                    <a:pt x="1406" y="638"/>
                  </a:lnTo>
                  <a:lnTo>
                    <a:pt x="1396" y="638"/>
                  </a:lnTo>
                  <a:lnTo>
                    <a:pt x="1390" y="638"/>
                  </a:lnTo>
                  <a:lnTo>
                    <a:pt x="1385" y="638"/>
                  </a:lnTo>
                  <a:lnTo>
                    <a:pt x="1374" y="632"/>
                  </a:lnTo>
                  <a:lnTo>
                    <a:pt x="1368" y="632"/>
                  </a:lnTo>
                  <a:close/>
                  <a:moveTo>
                    <a:pt x="1074" y="3608"/>
                  </a:moveTo>
                  <a:lnTo>
                    <a:pt x="1112" y="3570"/>
                  </a:lnTo>
                  <a:lnTo>
                    <a:pt x="1150" y="3570"/>
                  </a:lnTo>
                  <a:lnTo>
                    <a:pt x="1188" y="3532"/>
                  </a:lnTo>
                  <a:lnTo>
                    <a:pt x="1221" y="3532"/>
                  </a:lnTo>
                  <a:lnTo>
                    <a:pt x="1259" y="3532"/>
                  </a:lnTo>
                  <a:lnTo>
                    <a:pt x="1297" y="3494"/>
                  </a:lnTo>
                  <a:lnTo>
                    <a:pt x="1336" y="3494"/>
                  </a:lnTo>
                  <a:lnTo>
                    <a:pt x="1374" y="3456"/>
                  </a:lnTo>
                  <a:lnTo>
                    <a:pt x="1406" y="3456"/>
                  </a:lnTo>
                  <a:lnTo>
                    <a:pt x="1445" y="3423"/>
                  </a:lnTo>
                  <a:lnTo>
                    <a:pt x="1483" y="3423"/>
                  </a:lnTo>
                  <a:lnTo>
                    <a:pt x="1521" y="3423"/>
                  </a:lnTo>
                  <a:lnTo>
                    <a:pt x="1521" y="3385"/>
                  </a:lnTo>
                  <a:lnTo>
                    <a:pt x="1554" y="3347"/>
                  </a:lnTo>
                  <a:lnTo>
                    <a:pt x="1554" y="3308"/>
                  </a:lnTo>
                  <a:lnTo>
                    <a:pt x="1592" y="3270"/>
                  </a:lnTo>
                  <a:lnTo>
                    <a:pt x="1592" y="3238"/>
                  </a:lnTo>
                  <a:lnTo>
                    <a:pt x="1630" y="3199"/>
                  </a:lnTo>
                  <a:lnTo>
                    <a:pt x="1630" y="3161"/>
                  </a:lnTo>
                  <a:lnTo>
                    <a:pt x="1668" y="3123"/>
                  </a:lnTo>
                  <a:lnTo>
                    <a:pt x="1668" y="3085"/>
                  </a:lnTo>
                  <a:lnTo>
                    <a:pt x="1706" y="3047"/>
                  </a:lnTo>
                  <a:lnTo>
                    <a:pt x="1706" y="3014"/>
                  </a:lnTo>
                  <a:lnTo>
                    <a:pt x="1739" y="2976"/>
                  </a:lnTo>
                  <a:lnTo>
                    <a:pt x="1739" y="2938"/>
                  </a:lnTo>
                  <a:lnTo>
                    <a:pt x="1777" y="2900"/>
                  </a:lnTo>
                  <a:lnTo>
                    <a:pt x="1777" y="2862"/>
                  </a:lnTo>
                  <a:lnTo>
                    <a:pt x="1815" y="2823"/>
                  </a:lnTo>
                  <a:lnTo>
                    <a:pt x="1815" y="2791"/>
                  </a:lnTo>
                  <a:lnTo>
                    <a:pt x="1854" y="2753"/>
                  </a:lnTo>
                  <a:lnTo>
                    <a:pt x="1854" y="2714"/>
                  </a:lnTo>
                  <a:lnTo>
                    <a:pt x="1892" y="2676"/>
                  </a:lnTo>
                  <a:lnTo>
                    <a:pt x="1892" y="2638"/>
                  </a:lnTo>
                  <a:lnTo>
                    <a:pt x="1924" y="2600"/>
                  </a:lnTo>
                  <a:lnTo>
                    <a:pt x="1924" y="2567"/>
                  </a:lnTo>
                  <a:lnTo>
                    <a:pt x="1963" y="2529"/>
                  </a:lnTo>
                  <a:lnTo>
                    <a:pt x="1963" y="2491"/>
                  </a:lnTo>
                  <a:lnTo>
                    <a:pt x="2001" y="2453"/>
                  </a:lnTo>
                  <a:lnTo>
                    <a:pt x="2001" y="2415"/>
                  </a:lnTo>
                  <a:lnTo>
                    <a:pt x="2039" y="2382"/>
                  </a:lnTo>
                  <a:lnTo>
                    <a:pt x="2039" y="2344"/>
                  </a:lnTo>
                  <a:lnTo>
                    <a:pt x="2077" y="2306"/>
                  </a:lnTo>
                  <a:lnTo>
                    <a:pt x="2077" y="2267"/>
                  </a:lnTo>
                  <a:lnTo>
                    <a:pt x="2110" y="2229"/>
                  </a:lnTo>
                  <a:lnTo>
                    <a:pt x="2110" y="2191"/>
                  </a:lnTo>
                  <a:lnTo>
                    <a:pt x="2148" y="2158"/>
                  </a:lnTo>
                  <a:lnTo>
                    <a:pt x="2148" y="2120"/>
                  </a:lnTo>
                  <a:lnTo>
                    <a:pt x="2186" y="2082"/>
                  </a:lnTo>
                  <a:lnTo>
                    <a:pt x="2186" y="2044"/>
                  </a:lnTo>
                  <a:lnTo>
                    <a:pt x="2224" y="2006"/>
                  </a:lnTo>
                  <a:lnTo>
                    <a:pt x="2224" y="1968"/>
                  </a:lnTo>
                  <a:lnTo>
                    <a:pt x="2224" y="1935"/>
                  </a:lnTo>
                  <a:lnTo>
                    <a:pt x="2262" y="1897"/>
                  </a:lnTo>
                  <a:lnTo>
                    <a:pt x="2262" y="1859"/>
                  </a:lnTo>
                  <a:lnTo>
                    <a:pt x="2262" y="1821"/>
                  </a:lnTo>
                  <a:lnTo>
                    <a:pt x="2295" y="1782"/>
                  </a:lnTo>
                  <a:lnTo>
                    <a:pt x="2295" y="1750"/>
                  </a:lnTo>
                  <a:lnTo>
                    <a:pt x="2295" y="1712"/>
                  </a:lnTo>
                  <a:lnTo>
                    <a:pt x="2333" y="1673"/>
                  </a:lnTo>
                  <a:lnTo>
                    <a:pt x="2333" y="1635"/>
                  </a:lnTo>
                  <a:lnTo>
                    <a:pt x="2333" y="1597"/>
                  </a:lnTo>
                  <a:lnTo>
                    <a:pt x="2333" y="1559"/>
                  </a:lnTo>
                  <a:lnTo>
                    <a:pt x="2333" y="1526"/>
                  </a:lnTo>
                  <a:lnTo>
                    <a:pt x="2371" y="1488"/>
                  </a:lnTo>
                  <a:lnTo>
                    <a:pt x="2371" y="1450"/>
                  </a:lnTo>
                  <a:lnTo>
                    <a:pt x="2371" y="1412"/>
                  </a:lnTo>
                  <a:lnTo>
                    <a:pt x="2371" y="1374"/>
                  </a:lnTo>
                  <a:lnTo>
                    <a:pt x="2371" y="1335"/>
                  </a:lnTo>
                  <a:lnTo>
                    <a:pt x="2371" y="1303"/>
                  </a:lnTo>
                  <a:lnTo>
                    <a:pt x="2371" y="1265"/>
                  </a:lnTo>
                  <a:lnTo>
                    <a:pt x="2410" y="1226"/>
                  </a:lnTo>
                  <a:lnTo>
                    <a:pt x="2410" y="1188"/>
                  </a:lnTo>
                  <a:lnTo>
                    <a:pt x="2410" y="1150"/>
                  </a:lnTo>
                  <a:lnTo>
                    <a:pt x="2410" y="1117"/>
                  </a:lnTo>
                  <a:lnTo>
                    <a:pt x="2410" y="1079"/>
                  </a:lnTo>
                  <a:lnTo>
                    <a:pt x="2410" y="1041"/>
                  </a:lnTo>
                  <a:lnTo>
                    <a:pt x="2410" y="1003"/>
                  </a:lnTo>
                  <a:lnTo>
                    <a:pt x="2448" y="965"/>
                  </a:lnTo>
                  <a:lnTo>
                    <a:pt x="2448" y="927"/>
                  </a:lnTo>
                  <a:lnTo>
                    <a:pt x="2448" y="894"/>
                  </a:lnTo>
                  <a:lnTo>
                    <a:pt x="2448" y="856"/>
                  </a:lnTo>
                  <a:lnTo>
                    <a:pt x="2448" y="818"/>
                  </a:lnTo>
                  <a:lnTo>
                    <a:pt x="2448" y="780"/>
                  </a:lnTo>
                  <a:lnTo>
                    <a:pt x="2448" y="741"/>
                  </a:lnTo>
                  <a:lnTo>
                    <a:pt x="2481" y="703"/>
                  </a:lnTo>
                  <a:lnTo>
                    <a:pt x="2481" y="671"/>
                  </a:lnTo>
                  <a:lnTo>
                    <a:pt x="2481" y="632"/>
                  </a:lnTo>
                  <a:lnTo>
                    <a:pt x="2481" y="594"/>
                  </a:lnTo>
                  <a:lnTo>
                    <a:pt x="2481" y="556"/>
                  </a:lnTo>
                  <a:lnTo>
                    <a:pt x="2481" y="518"/>
                  </a:lnTo>
                  <a:lnTo>
                    <a:pt x="2481" y="485"/>
                  </a:lnTo>
                  <a:lnTo>
                    <a:pt x="2519" y="447"/>
                  </a:lnTo>
                  <a:lnTo>
                    <a:pt x="2519" y="409"/>
                  </a:lnTo>
                  <a:lnTo>
                    <a:pt x="2519" y="371"/>
                  </a:lnTo>
                  <a:lnTo>
                    <a:pt x="2519" y="333"/>
                  </a:lnTo>
                  <a:lnTo>
                    <a:pt x="2519" y="294"/>
                  </a:lnTo>
                  <a:lnTo>
                    <a:pt x="2519" y="262"/>
                  </a:lnTo>
                  <a:lnTo>
                    <a:pt x="2519" y="224"/>
                  </a:lnTo>
                  <a:lnTo>
                    <a:pt x="2557" y="185"/>
                  </a:lnTo>
                  <a:lnTo>
                    <a:pt x="2557" y="147"/>
                  </a:lnTo>
                  <a:lnTo>
                    <a:pt x="2557" y="109"/>
                  </a:lnTo>
                  <a:lnTo>
                    <a:pt x="2557" y="71"/>
                  </a:lnTo>
                  <a:lnTo>
                    <a:pt x="2557" y="38"/>
                  </a:lnTo>
                  <a:lnTo>
                    <a:pt x="2557" y="0"/>
                  </a:lnTo>
                  <a:lnTo>
                    <a:pt x="2519" y="0"/>
                  </a:lnTo>
                  <a:lnTo>
                    <a:pt x="2481" y="0"/>
                  </a:lnTo>
                  <a:lnTo>
                    <a:pt x="2448" y="0"/>
                  </a:lnTo>
                  <a:lnTo>
                    <a:pt x="2410" y="0"/>
                  </a:lnTo>
                  <a:lnTo>
                    <a:pt x="2371" y="38"/>
                  </a:lnTo>
                  <a:lnTo>
                    <a:pt x="2333" y="38"/>
                  </a:lnTo>
                  <a:lnTo>
                    <a:pt x="2295" y="38"/>
                  </a:lnTo>
                  <a:lnTo>
                    <a:pt x="2262" y="71"/>
                  </a:lnTo>
                  <a:lnTo>
                    <a:pt x="2224" y="71"/>
                  </a:lnTo>
                  <a:lnTo>
                    <a:pt x="2186" y="71"/>
                  </a:lnTo>
                  <a:lnTo>
                    <a:pt x="2148" y="109"/>
                  </a:lnTo>
                  <a:lnTo>
                    <a:pt x="2110" y="109"/>
                  </a:lnTo>
                  <a:lnTo>
                    <a:pt x="2077" y="147"/>
                  </a:lnTo>
                  <a:lnTo>
                    <a:pt x="2039" y="147"/>
                  </a:lnTo>
                  <a:lnTo>
                    <a:pt x="2001" y="147"/>
                  </a:lnTo>
                  <a:lnTo>
                    <a:pt x="1963" y="185"/>
                  </a:lnTo>
                  <a:lnTo>
                    <a:pt x="1924" y="185"/>
                  </a:lnTo>
                  <a:lnTo>
                    <a:pt x="1892" y="185"/>
                  </a:lnTo>
                  <a:lnTo>
                    <a:pt x="1854" y="224"/>
                  </a:lnTo>
                  <a:lnTo>
                    <a:pt x="1815" y="224"/>
                  </a:lnTo>
                  <a:lnTo>
                    <a:pt x="1777" y="224"/>
                  </a:lnTo>
                  <a:lnTo>
                    <a:pt x="1739" y="262"/>
                  </a:lnTo>
                  <a:lnTo>
                    <a:pt x="1706" y="262"/>
                  </a:lnTo>
                  <a:lnTo>
                    <a:pt x="1668" y="262"/>
                  </a:lnTo>
                  <a:lnTo>
                    <a:pt x="1630" y="294"/>
                  </a:lnTo>
                  <a:lnTo>
                    <a:pt x="1592" y="294"/>
                  </a:lnTo>
                  <a:lnTo>
                    <a:pt x="1554" y="294"/>
                  </a:lnTo>
                  <a:lnTo>
                    <a:pt x="1521" y="333"/>
                  </a:lnTo>
                  <a:lnTo>
                    <a:pt x="1483" y="333"/>
                  </a:lnTo>
                  <a:lnTo>
                    <a:pt x="1445" y="333"/>
                  </a:lnTo>
                  <a:lnTo>
                    <a:pt x="1406" y="371"/>
                  </a:lnTo>
                  <a:lnTo>
                    <a:pt x="1374" y="371"/>
                  </a:lnTo>
                  <a:lnTo>
                    <a:pt x="1336" y="409"/>
                  </a:lnTo>
                  <a:lnTo>
                    <a:pt x="1297" y="409"/>
                  </a:lnTo>
                  <a:lnTo>
                    <a:pt x="1259" y="409"/>
                  </a:lnTo>
                  <a:lnTo>
                    <a:pt x="1221" y="447"/>
                  </a:lnTo>
                  <a:lnTo>
                    <a:pt x="1188" y="447"/>
                  </a:lnTo>
                  <a:lnTo>
                    <a:pt x="1150" y="447"/>
                  </a:lnTo>
                  <a:lnTo>
                    <a:pt x="1112" y="485"/>
                  </a:lnTo>
                  <a:lnTo>
                    <a:pt x="1074" y="485"/>
                  </a:lnTo>
                  <a:lnTo>
                    <a:pt x="1036" y="485"/>
                  </a:lnTo>
                  <a:lnTo>
                    <a:pt x="1003" y="518"/>
                  </a:lnTo>
                  <a:lnTo>
                    <a:pt x="965" y="518"/>
                  </a:lnTo>
                  <a:lnTo>
                    <a:pt x="927" y="518"/>
                  </a:lnTo>
                  <a:lnTo>
                    <a:pt x="888" y="556"/>
                  </a:lnTo>
                  <a:lnTo>
                    <a:pt x="850" y="556"/>
                  </a:lnTo>
                  <a:lnTo>
                    <a:pt x="818" y="556"/>
                  </a:lnTo>
                  <a:lnTo>
                    <a:pt x="779" y="594"/>
                  </a:lnTo>
                  <a:lnTo>
                    <a:pt x="741" y="594"/>
                  </a:lnTo>
                  <a:lnTo>
                    <a:pt x="703" y="594"/>
                  </a:lnTo>
                  <a:lnTo>
                    <a:pt x="665" y="632"/>
                  </a:lnTo>
                  <a:lnTo>
                    <a:pt x="632" y="632"/>
                  </a:lnTo>
                  <a:lnTo>
                    <a:pt x="594" y="632"/>
                  </a:lnTo>
                  <a:lnTo>
                    <a:pt x="556" y="671"/>
                  </a:lnTo>
                  <a:lnTo>
                    <a:pt x="518" y="671"/>
                  </a:lnTo>
                  <a:lnTo>
                    <a:pt x="480" y="703"/>
                  </a:lnTo>
                  <a:lnTo>
                    <a:pt x="447" y="703"/>
                  </a:lnTo>
                  <a:lnTo>
                    <a:pt x="409" y="703"/>
                  </a:lnTo>
                  <a:lnTo>
                    <a:pt x="370" y="741"/>
                  </a:lnTo>
                  <a:lnTo>
                    <a:pt x="332" y="741"/>
                  </a:lnTo>
                  <a:lnTo>
                    <a:pt x="300" y="741"/>
                  </a:lnTo>
                  <a:lnTo>
                    <a:pt x="261" y="780"/>
                  </a:lnTo>
                  <a:lnTo>
                    <a:pt x="223" y="780"/>
                  </a:lnTo>
                  <a:lnTo>
                    <a:pt x="185" y="780"/>
                  </a:lnTo>
                  <a:lnTo>
                    <a:pt x="147" y="818"/>
                  </a:lnTo>
                  <a:lnTo>
                    <a:pt x="114" y="818"/>
                  </a:lnTo>
                  <a:lnTo>
                    <a:pt x="114" y="856"/>
                  </a:lnTo>
                  <a:lnTo>
                    <a:pt x="114" y="894"/>
                  </a:lnTo>
                  <a:lnTo>
                    <a:pt x="114" y="927"/>
                  </a:lnTo>
                  <a:lnTo>
                    <a:pt x="114" y="965"/>
                  </a:lnTo>
                  <a:lnTo>
                    <a:pt x="114" y="1003"/>
                  </a:lnTo>
                  <a:lnTo>
                    <a:pt x="76" y="1041"/>
                  </a:lnTo>
                  <a:lnTo>
                    <a:pt x="76" y="1079"/>
                  </a:lnTo>
                  <a:lnTo>
                    <a:pt x="76" y="1117"/>
                  </a:lnTo>
                  <a:lnTo>
                    <a:pt x="76" y="1150"/>
                  </a:lnTo>
                  <a:lnTo>
                    <a:pt x="76" y="1188"/>
                  </a:lnTo>
                  <a:lnTo>
                    <a:pt x="76" y="1226"/>
                  </a:lnTo>
                  <a:lnTo>
                    <a:pt x="76" y="1265"/>
                  </a:lnTo>
                  <a:lnTo>
                    <a:pt x="76" y="1303"/>
                  </a:lnTo>
                  <a:lnTo>
                    <a:pt x="76" y="1335"/>
                  </a:lnTo>
                  <a:lnTo>
                    <a:pt x="76" y="1374"/>
                  </a:lnTo>
                  <a:lnTo>
                    <a:pt x="76" y="1412"/>
                  </a:lnTo>
                  <a:lnTo>
                    <a:pt x="76" y="1450"/>
                  </a:lnTo>
                  <a:lnTo>
                    <a:pt x="76" y="1488"/>
                  </a:lnTo>
                  <a:lnTo>
                    <a:pt x="76" y="1526"/>
                  </a:lnTo>
                  <a:lnTo>
                    <a:pt x="76" y="1559"/>
                  </a:lnTo>
                  <a:lnTo>
                    <a:pt x="76" y="1597"/>
                  </a:lnTo>
                  <a:lnTo>
                    <a:pt x="76" y="1635"/>
                  </a:lnTo>
                  <a:lnTo>
                    <a:pt x="76" y="1673"/>
                  </a:lnTo>
                  <a:lnTo>
                    <a:pt x="38" y="1712"/>
                  </a:lnTo>
                  <a:lnTo>
                    <a:pt x="38" y="1750"/>
                  </a:lnTo>
                  <a:lnTo>
                    <a:pt x="38" y="1782"/>
                  </a:lnTo>
                  <a:lnTo>
                    <a:pt x="38" y="1821"/>
                  </a:lnTo>
                  <a:lnTo>
                    <a:pt x="38" y="1859"/>
                  </a:lnTo>
                  <a:lnTo>
                    <a:pt x="38" y="1897"/>
                  </a:lnTo>
                  <a:lnTo>
                    <a:pt x="38" y="1935"/>
                  </a:lnTo>
                  <a:lnTo>
                    <a:pt x="38" y="1968"/>
                  </a:lnTo>
                  <a:lnTo>
                    <a:pt x="38" y="2006"/>
                  </a:lnTo>
                  <a:lnTo>
                    <a:pt x="38" y="2044"/>
                  </a:lnTo>
                  <a:lnTo>
                    <a:pt x="38" y="2082"/>
                  </a:lnTo>
                  <a:lnTo>
                    <a:pt x="38" y="2120"/>
                  </a:lnTo>
                  <a:lnTo>
                    <a:pt x="38" y="2158"/>
                  </a:lnTo>
                  <a:lnTo>
                    <a:pt x="38" y="2191"/>
                  </a:lnTo>
                  <a:lnTo>
                    <a:pt x="38" y="2229"/>
                  </a:lnTo>
                  <a:lnTo>
                    <a:pt x="38" y="2267"/>
                  </a:lnTo>
                  <a:lnTo>
                    <a:pt x="38" y="2306"/>
                  </a:lnTo>
                  <a:lnTo>
                    <a:pt x="0" y="2344"/>
                  </a:lnTo>
                  <a:lnTo>
                    <a:pt x="0" y="2382"/>
                  </a:lnTo>
                  <a:lnTo>
                    <a:pt x="0" y="2415"/>
                  </a:lnTo>
                  <a:lnTo>
                    <a:pt x="0" y="2453"/>
                  </a:lnTo>
                  <a:lnTo>
                    <a:pt x="0" y="2491"/>
                  </a:lnTo>
                  <a:lnTo>
                    <a:pt x="0" y="2529"/>
                  </a:lnTo>
                  <a:lnTo>
                    <a:pt x="0" y="2567"/>
                  </a:lnTo>
                  <a:lnTo>
                    <a:pt x="0" y="2600"/>
                  </a:lnTo>
                  <a:lnTo>
                    <a:pt x="0" y="2638"/>
                  </a:lnTo>
                  <a:lnTo>
                    <a:pt x="0" y="2676"/>
                  </a:lnTo>
                  <a:lnTo>
                    <a:pt x="0" y="2714"/>
                  </a:lnTo>
                  <a:lnTo>
                    <a:pt x="0" y="2753"/>
                  </a:lnTo>
                  <a:lnTo>
                    <a:pt x="0" y="2791"/>
                  </a:lnTo>
                  <a:lnTo>
                    <a:pt x="0" y="2823"/>
                  </a:lnTo>
                  <a:lnTo>
                    <a:pt x="0" y="2862"/>
                  </a:lnTo>
                  <a:lnTo>
                    <a:pt x="0" y="2900"/>
                  </a:lnTo>
                  <a:lnTo>
                    <a:pt x="0" y="2938"/>
                  </a:lnTo>
                  <a:lnTo>
                    <a:pt x="0" y="2976"/>
                  </a:lnTo>
                  <a:lnTo>
                    <a:pt x="0" y="3014"/>
                  </a:lnTo>
                  <a:lnTo>
                    <a:pt x="38" y="3014"/>
                  </a:lnTo>
                  <a:lnTo>
                    <a:pt x="76" y="3047"/>
                  </a:lnTo>
                  <a:lnTo>
                    <a:pt x="114" y="3047"/>
                  </a:lnTo>
                  <a:lnTo>
                    <a:pt x="147" y="3085"/>
                  </a:lnTo>
                  <a:lnTo>
                    <a:pt x="185" y="3123"/>
                  </a:lnTo>
                  <a:lnTo>
                    <a:pt x="223" y="3123"/>
                  </a:lnTo>
                  <a:lnTo>
                    <a:pt x="261" y="3161"/>
                  </a:lnTo>
                  <a:lnTo>
                    <a:pt x="300" y="3199"/>
                  </a:lnTo>
                  <a:lnTo>
                    <a:pt x="332" y="3199"/>
                  </a:lnTo>
                  <a:lnTo>
                    <a:pt x="370" y="3238"/>
                  </a:lnTo>
                  <a:lnTo>
                    <a:pt x="409" y="3270"/>
                  </a:lnTo>
                  <a:lnTo>
                    <a:pt x="447" y="3270"/>
                  </a:lnTo>
                  <a:lnTo>
                    <a:pt x="480" y="3308"/>
                  </a:lnTo>
                  <a:lnTo>
                    <a:pt x="518" y="3347"/>
                  </a:lnTo>
                  <a:lnTo>
                    <a:pt x="556" y="3347"/>
                  </a:lnTo>
                  <a:lnTo>
                    <a:pt x="594" y="3385"/>
                  </a:lnTo>
                  <a:lnTo>
                    <a:pt x="632" y="3385"/>
                  </a:lnTo>
                  <a:lnTo>
                    <a:pt x="665" y="3423"/>
                  </a:lnTo>
                  <a:lnTo>
                    <a:pt x="703" y="3456"/>
                  </a:lnTo>
                  <a:lnTo>
                    <a:pt x="741" y="3456"/>
                  </a:lnTo>
                  <a:lnTo>
                    <a:pt x="779" y="3494"/>
                  </a:lnTo>
                  <a:lnTo>
                    <a:pt x="818" y="3532"/>
                  </a:lnTo>
                  <a:lnTo>
                    <a:pt x="850" y="3532"/>
                  </a:lnTo>
                  <a:lnTo>
                    <a:pt x="888" y="3570"/>
                  </a:lnTo>
                  <a:lnTo>
                    <a:pt x="927" y="3570"/>
                  </a:lnTo>
                  <a:lnTo>
                    <a:pt x="965" y="3608"/>
                  </a:lnTo>
                  <a:lnTo>
                    <a:pt x="1003" y="3608"/>
                  </a:lnTo>
                  <a:lnTo>
                    <a:pt x="1036" y="3608"/>
                  </a:lnTo>
                  <a:lnTo>
                    <a:pt x="1074" y="3608"/>
                  </a:lnTo>
                  <a:close/>
                </a:path>
              </a:pathLst>
            </a:custGeom>
            <a:solidFill>
              <a:srgbClr val="cc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77" name=""/>
          <p:cNvSpPr/>
          <p:nvPr/>
        </p:nvSpPr>
        <p:spPr>
          <a:xfrm>
            <a:off x="3905280" y="5915160"/>
            <a:ext cx="52200" cy="42840"/>
          </a:xfrm>
          <a:custGeom>
            <a:avLst/>
            <a:gdLst/>
            <a:ahLst/>
            <a:rect l="l" t="t" r="r" b="b"/>
            <a:pathLst>
              <a:path w="33" h="27">
                <a:moveTo>
                  <a:pt x="0" y="27"/>
                </a:moveTo>
                <a:lnTo>
                  <a:pt x="0" y="22"/>
                </a:lnTo>
                <a:lnTo>
                  <a:pt x="22" y="5"/>
                </a:lnTo>
                <a:lnTo>
                  <a:pt x="22" y="5"/>
                </a:lnTo>
                <a:lnTo>
                  <a:pt x="17" y="5"/>
                </a:lnTo>
                <a:lnTo>
                  <a:pt x="17" y="5"/>
                </a:lnTo>
                <a:lnTo>
                  <a:pt x="17" y="5"/>
                </a:lnTo>
                <a:lnTo>
                  <a:pt x="17" y="5"/>
                </a:lnTo>
                <a:lnTo>
                  <a:pt x="17" y="5"/>
                </a:lnTo>
                <a:lnTo>
                  <a:pt x="11" y="5"/>
                </a:lnTo>
                <a:lnTo>
                  <a:pt x="11" y="5"/>
                </a:lnTo>
                <a:lnTo>
                  <a:pt x="17" y="0"/>
                </a:lnTo>
                <a:lnTo>
                  <a:pt x="17" y="0"/>
                </a:lnTo>
                <a:lnTo>
                  <a:pt x="17" y="5"/>
                </a:lnTo>
                <a:lnTo>
                  <a:pt x="22" y="5"/>
                </a:lnTo>
                <a:lnTo>
                  <a:pt x="22" y="5"/>
                </a:lnTo>
                <a:lnTo>
                  <a:pt x="22" y="5"/>
                </a:lnTo>
                <a:lnTo>
                  <a:pt x="28" y="5"/>
                </a:lnTo>
                <a:lnTo>
                  <a:pt x="28" y="5"/>
                </a:lnTo>
                <a:lnTo>
                  <a:pt x="28" y="5"/>
                </a:lnTo>
                <a:lnTo>
                  <a:pt x="33" y="5"/>
                </a:lnTo>
                <a:lnTo>
                  <a:pt x="0" y="27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8" name=""/>
          <p:cNvSpPr/>
          <p:nvPr/>
        </p:nvSpPr>
        <p:spPr>
          <a:xfrm>
            <a:off x="3922560" y="5950080"/>
            <a:ext cx="52560" cy="50760"/>
          </a:xfrm>
          <a:custGeom>
            <a:avLst/>
            <a:gdLst/>
            <a:ahLst/>
            <a:rect l="l" t="t" r="r" b="b"/>
            <a:pathLst>
              <a:path w="33" h="32">
                <a:moveTo>
                  <a:pt x="11" y="5"/>
                </a:moveTo>
                <a:lnTo>
                  <a:pt x="11" y="5"/>
                </a:lnTo>
                <a:lnTo>
                  <a:pt x="17" y="0"/>
                </a:lnTo>
                <a:lnTo>
                  <a:pt x="17" y="0"/>
                </a:lnTo>
                <a:lnTo>
                  <a:pt x="22" y="0"/>
                </a:lnTo>
                <a:lnTo>
                  <a:pt x="22" y="0"/>
                </a:lnTo>
                <a:lnTo>
                  <a:pt x="22" y="0"/>
                </a:lnTo>
                <a:lnTo>
                  <a:pt x="27" y="0"/>
                </a:lnTo>
                <a:lnTo>
                  <a:pt x="27" y="0"/>
                </a:lnTo>
                <a:lnTo>
                  <a:pt x="27" y="0"/>
                </a:lnTo>
                <a:lnTo>
                  <a:pt x="27" y="0"/>
                </a:lnTo>
                <a:lnTo>
                  <a:pt x="33" y="5"/>
                </a:lnTo>
                <a:lnTo>
                  <a:pt x="33" y="5"/>
                </a:lnTo>
                <a:lnTo>
                  <a:pt x="33" y="5"/>
                </a:lnTo>
                <a:lnTo>
                  <a:pt x="33" y="5"/>
                </a:lnTo>
                <a:lnTo>
                  <a:pt x="33" y="11"/>
                </a:lnTo>
                <a:lnTo>
                  <a:pt x="33" y="11"/>
                </a:lnTo>
                <a:lnTo>
                  <a:pt x="33" y="11"/>
                </a:lnTo>
                <a:lnTo>
                  <a:pt x="33" y="11"/>
                </a:lnTo>
                <a:lnTo>
                  <a:pt x="33" y="16"/>
                </a:lnTo>
                <a:lnTo>
                  <a:pt x="33" y="16"/>
                </a:lnTo>
                <a:lnTo>
                  <a:pt x="33" y="16"/>
                </a:lnTo>
                <a:lnTo>
                  <a:pt x="33" y="16"/>
                </a:lnTo>
                <a:lnTo>
                  <a:pt x="33" y="16"/>
                </a:lnTo>
                <a:lnTo>
                  <a:pt x="33" y="22"/>
                </a:lnTo>
                <a:lnTo>
                  <a:pt x="27" y="22"/>
                </a:lnTo>
                <a:lnTo>
                  <a:pt x="27" y="22"/>
                </a:lnTo>
                <a:lnTo>
                  <a:pt x="27" y="22"/>
                </a:lnTo>
                <a:lnTo>
                  <a:pt x="22" y="27"/>
                </a:lnTo>
                <a:lnTo>
                  <a:pt x="22" y="27"/>
                </a:lnTo>
                <a:lnTo>
                  <a:pt x="17" y="27"/>
                </a:lnTo>
                <a:lnTo>
                  <a:pt x="17" y="27"/>
                </a:lnTo>
                <a:lnTo>
                  <a:pt x="17" y="32"/>
                </a:lnTo>
                <a:lnTo>
                  <a:pt x="11" y="32"/>
                </a:lnTo>
                <a:lnTo>
                  <a:pt x="11" y="32"/>
                </a:lnTo>
                <a:lnTo>
                  <a:pt x="11" y="32"/>
                </a:lnTo>
                <a:lnTo>
                  <a:pt x="6" y="32"/>
                </a:lnTo>
                <a:lnTo>
                  <a:pt x="6" y="27"/>
                </a:lnTo>
                <a:lnTo>
                  <a:pt x="6" y="27"/>
                </a:lnTo>
                <a:lnTo>
                  <a:pt x="0" y="27"/>
                </a:lnTo>
                <a:lnTo>
                  <a:pt x="0" y="27"/>
                </a:lnTo>
                <a:lnTo>
                  <a:pt x="0" y="22"/>
                </a:lnTo>
                <a:lnTo>
                  <a:pt x="0" y="22"/>
                </a:lnTo>
                <a:lnTo>
                  <a:pt x="0" y="22"/>
                </a:lnTo>
                <a:lnTo>
                  <a:pt x="0" y="16"/>
                </a:lnTo>
                <a:lnTo>
                  <a:pt x="0" y="16"/>
                </a:lnTo>
                <a:lnTo>
                  <a:pt x="6" y="11"/>
                </a:lnTo>
                <a:lnTo>
                  <a:pt x="6" y="11"/>
                </a:lnTo>
                <a:lnTo>
                  <a:pt x="11" y="5"/>
                </a:lnTo>
                <a:close/>
                <a:moveTo>
                  <a:pt x="11" y="11"/>
                </a:moveTo>
                <a:lnTo>
                  <a:pt x="11" y="11"/>
                </a:lnTo>
                <a:lnTo>
                  <a:pt x="6" y="16"/>
                </a:lnTo>
                <a:lnTo>
                  <a:pt x="6" y="16"/>
                </a:lnTo>
                <a:lnTo>
                  <a:pt x="6" y="16"/>
                </a:lnTo>
                <a:lnTo>
                  <a:pt x="6" y="22"/>
                </a:lnTo>
                <a:lnTo>
                  <a:pt x="6" y="22"/>
                </a:lnTo>
                <a:lnTo>
                  <a:pt x="6" y="22"/>
                </a:lnTo>
                <a:lnTo>
                  <a:pt x="6" y="22"/>
                </a:lnTo>
                <a:lnTo>
                  <a:pt x="6" y="27"/>
                </a:lnTo>
                <a:lnTo>
                  <a:pt x="6" y="27"/>
                </a:lnTo>
                <a:lnTo>
                  <a:pt x="6" y="27"/>
                </a:lnTo>
                <a:lnTo>
                  <a:pt x="11" y="27"/>
                </a:lnTo>
                <a:lnTo>
                  <a:pt x="11" y="27"/>
                </a:lnTo>
                <a:lnTo>
                  <a:pt x="17" y="27"/>
                </a:lnTo>
                <a:lnTo>
                  <a:pt x="17" y="22"/>
                </a:lnTo>
                <a:lnTo>
                  <a:pt x="22" y="22"/>
                </a:lnTo>
                <a:lnTo>
                  <a:pt x="22" y="22"/>
                </a:lnTo>
                <a:lnTo>
                  <a:pt x="27" y="16"/>
                </a:lnTo>
                <a:lnTo>
                  <a:pt x="27" y="16"/>
                </a:lnTo>
                <a:lnTo>
                  <a:pt x="27" y="11"/>
                </a:lnTo>
                <a:lnTo>
                  <a:pt x="33" y="11"/>
                </a:lnTo>
                <a:lnTo>
                  <a:pt x="33" y="11"/>
                </a:lnTo>
                <a:lnTo>
                  <a:pt x="27" y="11"/>
                </a:lnTo>
                <a:lnTo>
                  <a:pt x="27" y="5"/>
                </a:lnTo>
                <a:lnTo>
                  <a:pt x="27" y="5"/>
                </a:lnTo>
                <a:lnTo>
                  <a:pt x="27" y="5"/>
                </a:lnTo>
                <a:lnTo>
                  <a:pt x="27" y="5"/>
                </a:lnTo>
                <a:lnTo>
                  <a:pt x="22" y="5"/>
                </a:lnTo>
                <a:lnTo>
                  <a:pt x="22" y="5"/>
                </a:lnTo>
                <a:lnTo>
                  <a:pt x="22" y="5"/>
                </a:lnTo>
                <a:lnTo>
                  <a:pt x="17" y="5"/>
                </a:lnTo>
                <a:lnTo>
                  <a:pt x="11" y="1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9" name=""/>
          <p:cNvSpPr/>
          <p:nvPr/>
        </p:nvSpPr>
        <p:spPr>
          <a:xfrm>
            <a:off x="3949560" y="5985000"/>
            <a:ext cx="51120" cy="50760"/>
          </a:xfrm>
          <a:custGeom>
            <a:avLst/>
            <a:gdLst/>
            <a:ahLst/>
            <a:rect l="l" t="t" r="r" b="b"/>
            <a:pathLst>
              <a:path w="32" h="32">
                <a:moveTo>
                  <a:pt x="10" y="5"/>
                </a:moveTo>
                <a:lnTo>
                  <a:pt x="10" y="5"/>
                </a:lnTo>
                <a:lnTo>
                  <a:pt x="16" y="5"/>
                </a:lnTo>
                <a:lnTo>
                  <a:pt x="16" y="5"/>
                </a:lnTo>
                <a:lnTo>
                  <a:pt x="21" y="0"/>
                </a:lnTo>
                <a:lnTo>
                  <a:pt x="21" y="0"/>
                </a:lnTo>
                <a:lnTo>
                  <a:pt x="21" y="0"/>
                </a:lnTo>
                <a:lnTo>
                  <a:pt x="27" y="0"/>
                </a:lnTo>
                <a:lnTo>
                  <a:pt x="27" y="0"/>
                </a:lnTo>
                <a:lnTo>
                  <a:pt x="27" y="5"/>
                </a:lnTo>
                <a:lnTo>
                  <a:pt x="27" y="5"/>
                </a:lnTo>
                <a:lnTo>
                  <a:pt x="32" y="5"/>
                </a:lnTo>
                <a:lnTo>
                  <a:pt x="32" y="5"/>
                </a:lnTo>
                <a:lnTo>
                  <a:pt x="32" y="10"/>
                </a:lnTo>
                <a:lnTo>
                  <a:pt x="32" y="10"/>
                </a:lnTo>
                <a:lnTo>
                  <a:pt x="32" y="10"/>
                </a:lnTo>
                <a:lnTo>
                  <a:pt x="32" y="10"/>
                </a:lnTo>
                <a:lnTo>
                  <a:pt x="32" y="10"/>
                </a:lnTo>
                <a:lnTo>
                  <a:pt x="32" y="16"/>
                </a:lnTo>
                <a:lnTo>
                  <a:pt x="32" y="16"/>
                </a:lnTo>
                <a:lnTo>
                  <a:pt x="32" y="16"/>
                </a:lnTo>
                <a:lnTo>
                  <a:pt x="32" y="16"/>
                </a:lnTo>
                <a:lnTo>
                  <a:pt x="32" y="21"/>
                </a:lnTo>
                <a:lnTo>
                  <a:pt x="32" y="21"/>
                </a:lnTo>
                <a:lnTo>
                  <a:pt x="27" y="21"/>
                </a:lnTo>
                <a:lnTo>
                  <a:pt x="27" y="21"/>
                </a:lnTo>
                <a:lnTo>
                  <a:pt x="27" y="21"/>
                </a:lnTo>
                <a:lnTo>
                  <a:pt x="27" y="27"/>
                </a:lnTo>
                <a:lnTo>
                  <a:pt x="21" y="27"/>
                </a:lnTo>
                <a:lnTo>
                  <a:pt x="21" y="27"/>
                </a:lnTo>
                <a:lnTo>
                  <a:pt x="16" y="32"/>
                </a:lnTo>
                <a:lnTo>
                  <a:pt x="16" y="32"/>
                </a:lnTo>
                <a:lnTo>
                  <a:pt x="10" y="32"/>
                </a:lnTo>
                <a:lnTo>
                  <a:pt x="10" y="32"/>
                </a:lnTo>
                <a:lnTo>
                  <a:pt x="10" y="32"/>
                </a:lnTo>
                <a:lnTo>
                  <a:pt x="5" y="32"/>
                </a:lnTo>
                <a:lnTo>
                  <a:pt x="5" y="32"/>
                </a:lnTo>
                <a:lnTo>
                  <a:pt x="5" y="32"/>
                </a:lnTo>
                <a:lnTo>
                  <a:pt x="5" y="32"/>
                </a:lnTo>
                <a:lnTo>
                  <a:pt x="0" y="27"/>
                </a:lnTo>
                <a:lnTo>
                  <a:pt x="0" y="27"/>
                </a:lnTo>
                <a:lnTo>
                  <a:pt x="0" y="27"/>
                </a:lnTo>
                <a:lnTo>
                  <a:pt x="0" y="21"/>
                </a:lnTo>
                <a:lnTo>
                  <a:pt x="0" y="21"/>
                </a:lnTo>
                <a:lnTo>
                  <a:pt x="0" y="16"/>
                </a:lnTo>
                <a:lnTo>
                  <a:pt x="0" y="16"/>
                </a:lnTo>
                <a:lnTo>
                  <a:pt x="5" y="10"/>
                </a:lnTo>
                <a:lnTo>
                  <a:pt x="5" y="10"/>
                </a:lnTo>
                <a:lnTo>
                  <a:pt x="10" y="5"/>
                </a:lnTo>
                <a:close/>
                <a:moveTo>
                  <a:pt x="10" y="10"/>
                </a:moveTo>
                <a:lnTo>
                  <a:pt x="10" y="16"/>
                </a:lnTo>
                <a:lnTo>
                  <a:pt x="5" y="16"/>
                </a:lnTo>
                <a:lnTo>
                  <a:pt x="5" y="16"/>
                </a:lnTo>
                <a:lnTo>
                  <a:pt x="5" y="21"/>
                </a:lnTo>
                <a:lnTo>
                  <a:pt x="5" y="21"/>
                </a:lnTo>
                <a:lnTo>
                  <a:pt x="5" y="21"/>
                </a:lnTo>
                <a:lnTo>
                  <a:pt x="5" y="21"/>
                </a:lnTo>
                <a:lnTo>
                  <a:pt x="5" y="27"/>
                </a:lnTo>
                <a:lnTo>
                  <a:pt x="5" y="27"/>
                </a:lnTo>
                <a:lnTo>
                  <a:pt x="5" y="27"/>
                </a:lnTo>
                <a:lnTo>
                  <a:pt x="5" y="27"/>
                </a:lnTo>
                <a:lnTo>
                  <a:pt x="10" y="27"/>
                </a:lnTo>
                <a:lnTo>
                  <a:pt x="10" y="27"/>
                </a:lnTo>
                <a:lnTo>
                  <a:pt x="16" y="27"/>
                </a:lnTo>
                <a:lnTo>
                  <a:pt x="16" y="27"/>
                </a:lnTo>
                <a:lnTo>
                  <a:pt x="21" y="21"/>
                </a:lnTo>
                <a:lnTo>
                  <a:pt x="21" y="21"/>
                </a:lnTo>
                <a:lnTo>
                  <a:pt x="27" y="16"/>
                </a:lnTo>
                <a:lnTo>
                  <a:pt x="27" y="16"/>
                </a:lnTo>
                <a:lnTo>
                  <a:pt x="27" y="16"/>
                </a:lnTo>
                <a:lnTo>
                  <a:pt x="27" y="10"/>
                </a:lnTo>
                <a:lnTo>
                  <a:pt x="27" y="10"/>
                </a:lnTo>
                <a:lnTo>
                  <a:pt x="27" y="10"/>
                </a:lnTo>
                <a:lnTo>
                  <a:pt x="27" y="10"/>
                </a:lnTo>
                <a:lnTo>
                  <a:pt x="27" y="5"/>
                </a:lnTo>
                <a:lnTo>
                  <a:pt x="27" y="5"/>
                </a:lnTo>
                <a:lnTo>
                  <a:pt x="27" y="5"/>
                </a:lnTo>
                <a:lnTo>
                  <a:pt x="21" y="5"/>
                </a:lnTo>
                <a:lnTo>
                  <a:pt x="21" y="5"/>
                </a:lnTo>
                <a:lnTo>
                  <a:pt x="16" y="5"/>
                </a:lnTo>
                <a:lnTo>
                  <a:pt x="16" y="10"/>
                </a:lnTo>
                <a:lnTo>
                  <a:pt x="10" y="1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0" name=""/>
          <p:cNvSpPr/>
          <p:nvPr/>
        </p:nvSpPr>
        <p:spPr>
          <a:xfrm>
            <a:off x="5411880" y="5689440"/>
            <a:ext cx="60120" cy="34920"/>
          </a:xfrm>
          <a:custGeom>
            <a:avLst/>
            <a:gdLst/>
            <a:ahLst/>
            <a:rect l="l" t="t" r="r" b="b"/>
            <a:pathLst>
              <a:path w="38" h="22">
                <a:moveTo>
                  <a:pt x="0" y="6"/>
                </a:moveTo>
                <a:lnTo>
                  <a:pt x="5" y="0"/>
                </a:lnTo>
                <a:lnTo>
                  <a:pt x="27" y="17"/>
                </a:lnTo>
                <a:lnTo>
                  <a:pt x="27" y="11"/>
                </a:lnTo>
                <a:lnTo>
                  <a:pt x="27" y="11"/>
                </a:lnTo>
                <a:lnTo>
                  <a:pt x="27" y="11"/>
                </a:lnTo>
                <a:lnTo>
                  <a:pt x="27" y="11"/>
                </a:lnTo>
                <a:lnTo>
                  <a:pt x="27" y="6"/>
                </a:lnTo>
                <a:lnTo>
                  <a:pt x="27" y="6"/>
                </a:lnTo>
                <a:lnTo>
                  <a:pt x="27" y="6"/>
                </a:lnTo>
                <a:lnTo>
                  <a:pt x="27" y="6"/>
                </a:lnTo>
                <a:lnTo>
                  <a:pt x="33" y="6"/>
                </a:lnTo>
                <a:lnTo>
                  <a:pt x="33" y="6"/>
                </a:lnTo>
                <a:lnTo>
                  <a:pt x="33" y="11"/>
                </a:lnTo>
                <a:lnTo>
                  <a:pt x="33" y="11"/>
                </a:lnTo>
                <a:lnTo>
                  <a:pt x="33" y="17"/>
                </a:lnTo>
                <a:lnTo>
                  <a:pt x="33" y="17"/>
                </a:lnTo>
                <a:lnTo>
                  <a:pt x="33" y="17"/>
                </a:lnTo>
                <a:lnTo>
                  <a:pt x="38" y="17"/>
                </a:lnTo>
                <a:lnTo>
                  <a:pt x="38" y="22"/>
                </a:lnTo>
                <a:lnTo>
                  <a:pt x="33" y="22"/>
                </a:lnTo>
                <a:lnTo>
                  <a:pt x="0" y="6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1" name=""/>
          <p:cNvSpPr/>
          <p:nvPr/>
        </p:nvSpPr>
        <p:spPr>
          <a:xfrm>
            <a:off x="5394240" y="5724360"/>
            <a:ext cx="60480" cy="43200"/>
          </a:xfrm>
          <a:custGeom>
            <a:avLst/>
            <a:gdLst/>
            <a:ahLst/>
            <a:rect l="l" t="t" r="r" b="b"/>
            <a:pathLst>
              <a:path w="38" h="27">
                <a:moveTo>
                  <a:pt x="22" y="0"/>
                </a:moveTo>
                <a:lnTo>
                  <a:pt x="27" y="5"/>
                </a:lnTo>
                <a:lnTo>
                  <a:pt x="27" y="5"/>
                </a:lnTo>
                <a:lnTo>
                  <a:pt x="33" y="5"/>
                </a:lnTo>
                <a:lnTo>
                  <a:pt x="33" y="5"/>
                </a:lnTo>
                <a:lnTo>
                  <a:pt x="33" y="11"/>
                </a:lnTo>
                <a:lnTo>
                  <a:pt x="33" y="11"/>
                </a:lnTo>
                <a:lnTo>
                  <a:pt x="38" y="11"/>
                </a:lnTo>
                <a:lnTo>
                  <a:pt x="38" y="16"/>
                </a:lnTo>
                <a:lnTo>
                  <a:pt x="38" y="16"/>
                </a:lnTo>
                <a:lnTo>
                  <a:pt x="38" y="16"/>
                </a:lnTo>
                <a:lnTo>
                  <a:pt x="38" y="22"/>
                </a:lnTo>
                <a:lnTo>
                  <a:pt x="33" y="22"/>
                </a:lnTo>
                <a:lnTo>
                  <a:pt x="33" y="22"/>
                </a:lnTo>
                <a:lnTo>
                  <a:pt x="33" y="22"/>
                </a:lnTo>
                <a:lnTo>
                  <a:pt x="33" y="22"/>
                </a:lnTo>
                <a:lnTo>
                  <a:pt x="33" y="27"/>
                </a:lnTo>
                <a:lnTo>
                  <a:pt x="33" y="27"/>
                </a:lnTo>
                <a:lnTo>
                  <a:pt x="27" y="27"/>
                </a:lnTo>
                <a:lnTo>
                  <a:pt x="27" y="27"/>
                </a:lnTo>
                <a:lnTo>
                  <a:pt x="27" y="27"/>
                </a:lnTo>
                <a:lnTo>
                  <a:pt x="27" y="27"/>
                </a:lnTo>
                <a:lnTo>
                  <a:pt x="22" y="27"/>
                </a:lnTo>
                <a:lnTo>
                  <a:pt x="22" y="27"/>
                </a:lnTo>
                <a:lnTo>
                  <a:pt x="22" y="27"/>
                </a:lnTo>
                <a:lnTo>
                  <a:pt x="22" y="27"/>
                </a:lnTo>
                <a:lnTo>
                  <a:pt x="16" y="27"/>
                </a:lnTo>
                <a:lnTo>
                  <a:pt x="16" y="22"/>
                </a:lnTo>
                <a:lnTo>
                  <a:pt x="11" y="22"/>
                </a:lnTo>
                <a:lnTo>
                  <a:pt x="11" y="22"/>
                </a:lnTo>
                <a:lnTo>
                  <a:pt x="6" y="22"/>
                </a:lnTo>
                <a:lnTo>
                  <a:pt x="6" y="16"/>
                </a:lnTo>
                <a:lnTo>
                  <a:pt x="6" y="16"/>
                </a:lnTo>
                <a:lnTo>
                  <a:pt x="6" y="16"/>
                </a:lnTo>
                <a:lnTo>
                  <a:pt x="0" y="16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6" y="0"/>
                </a:lnTo>
                <a:lnTo>
                  <a:pt x="6" y="0"/>
                </a:lnTo>
                <a:lnTo>
                  <a:pt x="6" y="0"/>
                </a:lnTo>
                <a:lnTo>
                  <a:pt x="11" y="0"/>
                </a:lnTo>
                <a:lnTo>
                  <a:pt x="11" y="0"/>
                </a:lnTo>
                <a:lnTo>
                  <a:pt x="16" y="0"/>
                </a:lnTo>
                <a:lnTo>
                  <a:pt x="22" y="0"/>
                </a:lnTo>
                <a:lnTo>
                  <a:pt x="22" y="0"/>
                </a:lnTo>
                <a:close/>
                <a:moveTo>
                  <a:pt x="22" y="5"/>
                </a:moveTo>
                <a:lnTo>
                  <a:pt x="16" y="5"/>
                </a:lnTo>
                <a:lnTo>
                  <a:pt x="16" y="5"/>
                </a:lnTo>
                <a:lnTo>
                  <a:pt x="11" y="0"/>
                </a:lnTo>
                <a:lnTo>
                  <a:pt x="11" y="0"/>
                </a:lnTo>
                <a:lnTo>
                  <a:pt x="11" y="0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11"/>
                </a:lnTo>
                <a:lnTo>
                  <a:pt x="6" y="11"/>
                </a:lnTo>
                <a:lnTo>
                  <a:pt x="6" y="11"/>
                </a:lnTo>
                <a:lnTo>
                  <a:pt x="6" y="11"/>
                </a:lnTo>
                <a:lnTo>
                  <a:pt x="11" y="16"/>
                </a:lnTo>
                <a:lnTo>
                  <a:pt x="11" y="16"/>
                </a:lnTo>
                <a:lnTo>
                  <a:pt x="16" y="16"/>
                </a:lnTo>
                <a:lnTo>
                  <a:pt x="16" y="22"/>
                </a:lnTo>
                <a:lnTo>
                  <a:pt x="22" y="22"/>
                </a:lnTo>
                <a:lnTo>
                  <a:pt x="27" y="22"/>
                </a:lnTo>
                <a:lnTo>
                  <a:pt x="27" y="22"/>
                </a:lnTo>
                <a:lnTo>
                  <a:pt x="27" y="22"/>
                </a:lnTo>
                <a:lnTo>
                  <a:pt x="27" y="22"/>
                </a:lnTo>
                <a:lnTo>
                  <a:pt x="33" y="22"/>
                </a:lnTo>
                <a:lnTo>
                  <a:pt x="33" y="22"/>
                </a:lnTo>
                <a:lnTo>
                  <a:pt x="33" y="16"/>
                </a:lnTo>
                <a:lnTo>
                  <a:pt x="33" y="16"/>
                </a:lnTo>
                <a:lnTo>
                  <a:pt x="33" y="16"/>
                </a:lnTo>
                <a:lnTo>
                  <a:pt x="33" y="16"/>
                </a:lnTo>
                <a:lnTo>
                  <a:pt x="33" y="11"/>
                </a:lnTo>
                <a:lnTo>
                  <a:pt x="27" y="11"/>
                </a:lnTo>
                <a:lnTo>
                  <a:pt x="27" y="5"/>
                </a:lnTo>
                <a:lnTo>
                  <a:pt x="22" y="5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2" name=""/>
          <p:cNvSpPr/>
          <p:nvPr/>
        </p:nvSpPr>
        <p:spPr>
          <a:xfrm>
            <a:off x="5376960" y="5759280"/>
            <a:ext cx="52200" cy="52560"/>
          </a:xfrm>
          <a:custGeom>
            <a:avLst/>
            <a:gdLst/>
            <a:ahLst/>
            <a:rect l="l" t="t" r="r" b="b"/>
            <a:pathLst>
              <a:path w="33" h="33">
                <a:moveTo>
                  <a:pt x="22" y="5"/>
                </a:moveTo>
                <a:lnTo>
                  <a:pt x="22" y="5"/>
                </a:lnTo>
                <a:lnTo>
                  <a:pt x="27" y="11"/>
                </a:lnTo>
                <a:lnTo>
                  <a:pt x="27" y="11"/>
                </a:lnTo>
                <a:lnTo>
                  <a:pt x="33" y="11"/>
                </a:lnTo>
                <a:lnTo>
                  <a:pt x="33" y="11"/>
                </a:lnTo>
                <a:lnTo>
                  <a:pt x="33" y="16"/>
                </a:lnTo>
                <a:lnTo>
                  <a:pt x="33" y="16"/>
                </a:lnTo>
                <a:lnTo>
                  <a:pt x="33" y="16"/>
                </a:lnTo>
                <a:lnTo>
                  <a:pt x="33" y="22"/>
                </a:lnTo>
                <a:lnTo>
                  <a:pt x="33" y="22"/>
                </a:lnTo>
                <a:lnTo>
                  <a:pt x="33" y="22"/>
                </a:lnTo>
                <a:lnTo>
                  <a:pt x="33" y="27"/>
                </a:lnTo>
                <a:lnTo>
                  <a:pt x="33" y="27"/>
                </a:lnTo>
                <a:lnTo>
                  <a:pt x="33" y="27"/>
                </a:lnTo>
                <a:lnTo>
                  <a:pt x="33" y="27"/>
                </a:lnTo>
                <a:lnTo>
                  <a:pt x="27" y="27"/>
                </a:lnTo>
                <a:lnTo>
                  <a:pt x="27" y="27"/>
                </a:lnTo>
                <a:lnTo>
                  <a:pt x="27" y="27"/>
                </a:lnTo>
                <a:lnTo>
                  <a:pt x="27" y="33"/>
                </a:lnTo>
                <a:lnTo>
                  <a:pt x="27" y="33"/>
                </a:lnTo>
                <a:lnTo>
                  <a:pt x="22" y="33"/>
                </a:lnTo>
                <a:lnTo>
                  <a:pt x="22" y="33"/>
                </a:lnTo>
                <a:lnTo>
                  <a:pt x="22" y="33"/>
                </a:lnTo>
                <a:lnTo>
                  <a:pt x="17" y="27"/>
                </a:lnTo>
                <a:lnTo>
                  <a:pt x="17" y="27"/>
                </a:lnTo>
                <a:lnTo>
                  <a:pt x="17" y="27"/>
                </a:lnTo>
                <a:lnTo>
                  <a:pt x="11" y="27"/>
                </a:lnTo>
                <a:lnTo>
                  <a:pt x="11" y="27"/>
                </a:lnTo>
                <a:lnTo>
                  <a:pt x="6" y="27"/>
                </a:lnTo>
                <a:lnTo>
                  <a:pt x="6" y="22"/>
                </a:lnTo>
                <a:lnTo>
                  <a:pt x="6" y="22"/>
                </a:lnTo>
                <a:lnTo>
                  <a:pt x="0" y="22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6" y="0"/>
                </a:lnTo>
                <a:lnTo>
                  <a:pt x="6" y="0"/>
                </a:lnTo>
                <a:lnTo>
                  <a:pt x="11" y="0"/>
                </a:lnTo>
                <a:lnTo>
                  <a:pt x="11" y="0"/>
                </a:lnTo>
                <a:lnTo>
                  <a:pt x="17" y="5"/>
                </a:lnTo>
                <a:lnTo>
                  <a:pt x="22" y="5"/>
                </a:lnTo>
                <a:close/>
                <a:moveTo>
                  <a:pt x="22" y="11"/>
                </a:moveTo>
                <a:lnTo>
                  <a:pt x="17" y="5"/>
                </a:lnTo>
                <a:lnTo>
                  <a:pt x="11" y="5"/>
                </a:lnTo>
                <a:lnTo>
                  <a:pt x="11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6" y="16"/>
                </a:lnTo>
                <a:lnTo>
                  <a:pt x="6" y="16"/>
                </a:lnTo>
                <a:lnTo>
                  <a:pt x="6" y="16"/>
                </a:lnTo>
                <a:lnTo>
                  <a:pt x="11" y="22"/>
                </a:lnTo>
                <a:lnTo>
                  <a:pt x="11" y="22"/>
                </a:lnTo>
                <a:lnTo>
                  <a:pt x="17" y="22"/>
                </a:lnTo>
                <a:lnTo>
                  <a:pt x="22" y="27"/>
                </a:lnTo>
                <a:lnTo>
                  <a:pt x="22" y="27"/>
                </a:lnTo>
                <a:lnTo>
                  <a:pt x="22" y="27"/>
                </a:lnTo>
                <a:lnTo>
                  <a:pt x="27" y="27"/>
                </a:lnTo>
                <a:lnTo>
                  <a:pt x="27" y="27"/>
                </a:lnTo>
                <a:lnTo>
                  <a:pt x="27" y="22"/>
                </a:lnTo>
                <a:lnTo>
                  <a:pt x="27" y="22"/>
                </a:lnTo>
                <a:lnTo>
                  <a:pt x="33" y="22"/>
                </a:lnTo>
                <a:lnTo>
                  <a:pt x="33" y="22"/>
                </a:lnTo>
                <a:lnTo>
                  <a:pt x="27" y="16"/>
                </a:lnTo>
                <a:lnTo>
                  <a:pt x="27" y="16"/>
                </a:lnTo>
                <a:lnTo>
                  <a:pt x="27" y="16"/>
                </a:lnTo>
                <a:lnTo>
                  <a:pt x="27" y="11"/>
                </a:lnTo>
                <a:lnTo>
                  <a:pt x="22" y="11"/>
                </a:lnTo>
                <a:lnTo>
                  <a:pt x="22" y="1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3" name=""/>
          <p:cNvSpPr/>
          <p:nvPr/>
        </p:nvSpPr>
        <p:spPr>
          <a:xfrm>
            <a:off x="4183200" y="4608360"/>
            <a:ext cx="42840" cy="42840"/>
          </a:xfrm>
          <a:custGeom>
            <a:avLst/>
            <a:gdLst/>
            <a:ahLst/>
            <a:rect l="l" t="t" r="r" b="b"/>
            <a:pathLst>
              <a:path w="27" h="27">
                <a:moveTo>
                  <a:pt x="0" y="0"/>
                </a:moveTo>
                <a:lnTo>
                  <a:pt x="0" y="0"/>
                </a:lnTo>
                <a:lnTo>
                  <a:pt x="22" y="22"/>
                </a:lnTo>
                <a:lnTo>
                  <a:pt x="22" y="22"/>
                </a:lnTo>
                <a:lnTo>
                  <a:pt x="22" y="16"/>
                </a:lnTo>
                <a:lnTo>
                  <a:pt x="22" y="16"/>
                </a:lnTo>
                <a:lnTo>
                  <a:pt x="22" y="16"/>
                </a:lnTo>
                <a:lnTo>
                  <a:pt x="22" y="16"/>
                </a:lnTo>
                <a:lnTo>
                  <a:pt x="22" y="11"/>
                </a:lnTo>
                <a:lnTo>
                  <a:pt x="22" y="11"/>
                </a:lnTo>
                <a:lnTo>
                  <a:pt x="22" y="11"/>
                </a:lnTo>
                <a:lnTo>
                  <a:pt x="27" y="16"/>
                </a:lnTo>
                <a:lnTo>
                  <a:pt x="27" y="16"/>
                </a:lnTo>
                <a:lnTo>
                  <a:pt x="27" y="16"/>
                </a:lnTo>
                <a:lnTo>
                  <a:pt x="27" y="22"/>
                </a:lnTo>
                <a:lnTo>
                  <a:pt x="22" y="22"/>
                </a:lnTo>
                <a:lnTo>
                  <a:pt x="22" y="22"/>
                </a:lnTo>
                <a:lnTo>
                  <a:pt x="22" y="27"/>
                </a:lnTo>
                <a:lnTo>
                  <a:pt x="22" y="27"/>
                </a:lnTo>
                <a:lnTo>
                  <a:pt x="22" y="27"/>
                </a:lnTo>
                <a:lnTo>
                  <a:pt x="22" y="27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4" name=""/>
          <p:cNvSpPr/>
          <p:nvPr/>
        </p:nvSpPr>
        <p:spPr>
          <a:xfrm>
            <a:off x="4148280" y="4626000"/>
            <a:ext cx="42840" cy="60480"/>
          </a:xfrm>
          <a:custGeom>
            <a:avLst/>
            <a:gdLst/>
            <a:ahLst/>
            <a:rect l="l" t="t" r="r" b="b"/>
            <a:pathLst>
              <a:path w="27" h="38">
                <a:moveTo>
                  <a:pt x="22" y="11"/>
                </a:moveTo>
                <a:lnTo>
                  <a:pt x="27" y="11"/>
                </a:lnTo>
                <a:lnTo>
                  <a:pt x="27" y="16"/>
                </a:lnTo>
                <a:lnTo>
                  <a:pt x="27" y="16"/>
                </a:lnTo>
                <a:lnTo>
                  <a:pt x="27" y="22"/>
                </a:lnTo>
                <a:lnTo>
                  <a:pt x="27" y="22"/>
                </a:lnTo>
                <a:lnTo>
                  <a:pt x="27" y="22"/>
                </a:lnTo>
                <a:lnTo>
                  <a:pt x="27" y="27"/>
                </a:lnTo>
                <a:lnTo>
                  <a:pt x="27" y="27"/>
                </a:lnTo>
                <a:lnTo>
                  <a:pt x="27" y="27"/>
                </a:lnTo>
                <a:lnTo>
                  <a:pt x="27" y="33"/>
                </a:lnTo>
                <a:lnTo>
                  <a:pt x="27" y="33"/>
                </a:lnTo>
                <a:lnTo>
                  <a:pt x="27" y="33"/>
                </a:lnTo>
                <a:lnTo>
                  <a:pt x="22" y="33"/>
                </a:lnTo>
                <a:lnTo>
                  <a:pt x="22" y="33"/>
                </a:lnTo>
                <a:lnTo>
                  <a:pt x="22" y="33"/>
                </a:lnTo>
                <a:lnTo>
                  <a:pt x="22" y="33"/>
                </a:lnTo>
                <a:lnTo>
                  <a:pt x="22" y="38"/>
                </a:lnTo>
                <a:lnTo>
                  <a:pt x="16" y="38"/>
                </a:lnTo>
                <a:lnTo>
                  <a:pt x="16" y="33"/>
                </a:lnTo>
                <a:lnTo>
                  <a:pt x="16" y="33"/>
                </a:lnTo>
                <a:lnTo>
                  <a:pt x="16" y="33"/>
                </a:lnTo>
                <a:lnTo>
                  <a:pt x="11" y="33"/>
                </a:lnTo>
                <a:lnTo>
                  <a:pt x="11" y="33"/>
                </a:lnTo>
                <a:lnTo>
                  <a:pt x="11" y="33"/>
                </a:lnTo>
                <a:lnTo>
                  <a:pt x="11" y="33"/>
                </a:lnTo>
                <a:lnTo>
                  <a:pt x="5" y="27"/>
                </a:lnTo>
                <a:lnTo>
                  <a:pt x="5" y="27"/>
                </a:lnTo>
                <a:lnTo>
                  <a:pt x="5" y="27"/>
                </a:lnTo>
                <a:lnTo>
                  <a:pt x="0" y="22"/>
                </a:lnTo>
                <a:lnTo>
                  <a:pt x="0" y="22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5" y="0"/>
                </a:lnTo>
                <a:lnTo>
                  <a:pt x="5" y="0"/>
                </a:lnTo>
                <a:lnTo>
                  <a:pt x="11" y="0"/>
                </a:lnTo>
                <a:lnTo>
                  <a:pt x="11" y="0"/>
                </a:lnTo>
                <a:lnTo>
                  <a:pt x="16" y="0"/>
                </a:lnTo>
                <a:lnTo>
                  <a:pt x="16" y="5"/>
                </a:lnTo>
                <a:lnTo>
                  <a:pt x="22" y="5"/>
                </a:lnTo>
                <a:lnTo>
                  <a:pt x="22" y="11"/>
                </a:lnTo>
                <a:close/>
                <a:moveTo>
                  <a:pt x="22" y="16"/>
                </a:moveTo>
                <a:lnTo>
                  <a:pt x="16" y="11"/>
                </a:lnTo>
                <a:lnTo>
                  <a:pt x="16" y="11"/>
                </a:lnTo>
                <a:lnTo>
                  <a:pt x="11" y="5"/>
                </a:lnTo>
                <a:lnTo>
                  <a:pt x="11" y="5"/>
                </a:lnTo>
                <a:lnTo>
                  <a:pt x="11" y="5"/>
                </a:lnTo>
                <a:lnTo>
                  <a:pt x="5" y="5"/>
                </a:lnTo>
                <a:lnTo>
                  <a:pt x="5" y="5"/>
                </a:lnTo>
                <a:lnTo>
                  <a:pt x="5" y="5"/>
                </a:lnTo>
                <a:lnTo>
                  <a:pt x="5" y="5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6"/>
                </a:lnTo>
                <a:lnTo>
                  <a:pt x="5" y="16"/>
                </a:lnTo>
                <a:lnTo>
                  <a:pt x="5" y="22"/>
                </a:lnTo>
                <a:lnTo>
                  <a:pt x="5" y="22"/>
                </a:lnTo>
                <a:lnTo>
                  <a:pt x="11" y="27"/>
                </a:lnTo>
                <a:lnTo>
                  <a:pt x="11" y="27"/>
                </a:lnTo>
                <a:lnTo>
                  <a:pt x="16" y="33"/>
                </a:lnTo>
                <a:lnTo>
                  <a:pt x="16" y="33"/>
                </a:lnTo>
                <a:lnTo>
                  <a:pt x="16" y="33"/>
                </a:lnTo>
                <a:lnTo>
                  <a:pt x="22" y="33"/>
                </a:lnTo>
                <a:lnTo>
                  <a:pt x="22" y="33"/>
                </a:lnTo>
                <a:lnTo>
                  <a:pt x="22" y="33"/>
                </a:lnTo>
                <a:lnTo>
                  <a:pt x="22" y="27"/>
                </a:lnTo>
                <a:lnTo>
                  <a:pt x="27" y="27"/>
                </a:lnTo>
                <a:lnTo>
                  <a:pt x="27" y="27"/>
                </a:lnTo>
                <a:lnTo>
                  <a:pt x="27" y="27"/>
                </a:lnTo>
                <a:lnTo>
                  <a:pt x="27" y="22"/>
                </a:lnTo>
                <a:lnTo>
                  <a:pt x="22" y="22"/>
                </a:lnTo>
                <a:lnTo>
                  <a:pt x="22" y="16"/>
                </a:lnTo>
                <a:lnTo>
                  <a:pt x="22" y="16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5" name=""/>
          <p:cNvSpPr/>
          <p:nvPr/>
        </p:nvSpPr>
        <p:spPr>
          <a:xfrm>
            <a:off x="4113360" y="4651200"/>
            <a:ext cx="42840" cy="60480"/>
          </a:xfrm>
          <a:custGeom>
            <a:avLst/>
            <a:gdLst/>
            <a:ahLst/>
            <a:rect l="l" t="t" r="r" b="b"/>
            <a:pathLst>
              <a:path w="27" h="38">
                <a:moveTo>
                  <a:pt x="22" y="11"/>
                </a:moveTo>
                <a:lnTo>
                  <a:pt x="22" y="17"/>
                </a:lnTo>
                <a:lnTo>
                  <a:pt x="27" y="17"/>
                </a:lnTo>
                <a:lnTo>
                  <a:pt x="27" y="22"/>
                </a:lnTo>
                <a:lnTo>
                  <a:pt x="27" y="22"/>
                </a:lnTo>
                <a:lnTo>
                  <a:pt x="27" y="22"/>
                </a:lnTo>
                <a:lnTo>
                  <a:pt x="27" y="27"/>
                </a:lnTo>
                <a:lnTo>
                  <a:pt x="27" y="27"/>
                </a:lnTo>
                <a:lnTo>
                  <a:pt x="27" y="27"/>
                </a:lnTo>
                <a:lnTo>
                  <a:pt x="27" y="33"/>
                </a:lnTo>
                <a:lnTo>
                  <a:pt x="27" y="33"/>
                </a:lnTo>
                <a:lnTo>
                  <a:pt x="27" y="33"/>
                </a:lnTo>
                <a:lnTo>
                  <a:pt x="27" y="33"/>
                </a:lnTo>
                <a:lnTo>
                  <a:pt x="22" y="33"/>
                </a:lnTo>
                <a:lnTo>
                  <a:pt x="22" y="38"/>
                </a:lnTo>
                <a:lnTo>
                  <a:pt x="22" y="38"/>
                </a:lnTo>
                <a:lnTo>
                  <a:pt x="22" y="38"/>
                </a:lnTo>
                <a:lnTo>
                  <a:pt x="17" y="38"/>
                </a:lnTo>
                <a:lnTo>
                  <a:pt x="17" y="38"/>
                </a:lnTo>
                <a:lnTo>
                  <a:pt x="17" y="38"/>
                </a:lnTo>
                <a:lnTo>
                  <a:pt x="17" y="38"/>
                </a:lnTo>
                <a:lnTo>
                  <a:pt x="17" y="38"/>
                </a:lnTo>
                <a:lnTo>
                  <a:pt x="11" y="33"/>
                </a:lnTo>
                <a:lnTo>
                  <a:pt x="11" y="33"/>
                </a:lnTo>
                <a:lnTo>
                  <a:pt x="11" y="33"/>
                </a:lnTo>
                <a:lnTo>
                  <a:pt x="11" y="33"/>
                </a:lnTo>
                <a:lnTo>
                  <a:pt x="6" y="33"/>
                </a:lnTo>
                <a:lnTo>
                  <a:pt x="6" y="27"/>
                </a:lnTo>
                <a:lnTo>
                  <a:pt x="6" y="27"/>
                </a:lnTo>
                <a:lnTo>
                  <a:pt x="0" y="27"/>
                </a:lnTo>
                <a:lnTo>
                  <a:pt x="0" y="22"/>
                </a:lnTo>
                <a:lnTo>
                  <a:pt x="0" y="22"/>
                </a:lnTo>
                <a:lnTo>
                  <a:pt x="0" y="17"/>
                </a:lnTo>
                <a:lnTo>
                  <a:pt x="0" y="17"/>
                </a:lnTo>
                <a:lnTo>
                  <a:pt x="0" y="17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6" y="6"/>
                </a:lnTo>
                <a:lnTo>
                  <a:pt x="6" y="6"/>
                </a:lnTo>
                <a:lnTo>
                  <a:pt x="11" y="0"/>
                </a:lnTo>
                <a:lnTo>
                  <a:pt x="11" y="6"/>
                </a:lnTo>
                <a:lnTo>
                  <a:pt x="11" y="6"/>
                </a:lnTo>
                <a:lnTo>
                  <a:pt x="17" y="6"/>
                </a:lnTo>
                <a:lnTo>
                  <a:pt x="22" y="11"/>
                </a:lnTo>
                <a:lnTo>
                  <a:pt x="22" y="11"/>
                </a:lnTo>
                <a:close/>
                <a:moveTo>
                  <a:pt x="17" y="17"/>
                </a:moveTo>
                <a:lnTo>
                  <a:pt x="17" y="11"/>
                </a:lnTo>
                <a:lnTo>
                  <a:pt x="17" y="11"/>
                </a:lnTo>
                <a:lnTo>
                  <a:pt x="11" y="6"/>
                </a:lnTo>
                <a:lnTo>
                  <a:pt x="11" y="6"/>
                </a:lnTo>
                <a:lnTo>
                  <a:pt x="6" y="6"/>
                </a:lnTo>
                <a:lnTo>
                  <a:pt x="6" y="6"/>
                </a:lnTo>
                <a:lnTo>
                  <a:pt x="6" y="6"/>
                </a:lnTo>
                <a:lnTo>
                  <a:pt x="6" y="6"/>
                </a:lnTo>
                <a:lnTo>
                  <a:pt x="6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7"/>
                </a:lnTo>
                <a:lnTo>
                  <a:pt x="6" y="17"/>
                </a:lnTo>
                <a:lnTo>
                  <a:pt x="6" y="22"/>
                </a:lnTo>
                <a:lnTo>
                  <a:pt x="6" y="22"/>
                </a:lnTo>
                <a:lnTo>
                  <a:pt x="11" y="27"/>
                </a:lnTo>
                <a:lnTo>
                  <a:pt x="11" y="27"/>
                </a:lnTo>
                <a:lnTo>
                  <a:pt x="17" y="33"/>
                </a:lnTo>
                <a:lnTo>
                  <a:pt x="17" y="33"/>
                </a:lnTo>
                <a:lnTo>
                  <a:pt x="17" y="33"/>
                </a:lnTo>
                <a:lnTo>
                  <a:pt x="22" y="33"/>
                </a:lnTo>
                <a:lnTo>
                  <a:pt x="22" y="33"/>
                </a:lnTo>
                <a:lnTo>
                  <a:pt x="22" y="33"/>
                </a:lnTo>
                <a:lnTo>
                  <a:pt x="22" y="33"/>
                </a:lnTo>
                <a:lnTo>
                  <a:pt x="22" y="27"/>
                </a:lnTo>
                <a:lnTo>
                  <a:pt x="27" y="27"/>
                </a:lnTo>
                <a:lnTo>
                  <a:pt x="27" y="27"/>
                </a:lnTo>
                <a:lnTo>
                  <a:pt x="22" y="22"/>
                </a:lnTo>
                <a:lnTo>
                  <a:pt x="22" y="22"/>
                </a:lnTo>
                <a:lnTo>
                  <a:pt x="22" y="17"/>
                </a:lnTo>
                <a:lnTo>
                  <a:pt x="17" y="17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6" name=""/>
          <p:cNvSpPr/>
          <p:nvPr/>
        </p:nvSpPr>
        <p:spPr>
          <a:xfrm>
            <a:off x="4363920" y="4340160"/>
            <a:ext cx="60480" cy="25560"/>
          </a:xfrm>
          <a:custGeom>
            <a:avLst/>
            <a:gdLst/>
            <a:ahLst/>
            <a:rect l="l" t="t" r="r" b="b"/>
            <a:pathLst>
              <a:path w="38" h="16">
                <a:moveTo>
                  <a:pt x="38" y="0"/>
                </a:moveTo>
                <a:lnTo>
                  <a:pt x="38" y="5"/>
                </a:lnTo>
                <a:lnTo>
                  <a:pt x="11" y="5"/>
                </a:lnTo>
                <a:lnTo>
                  <a:pt x="11" y="5"/>
                </a:lnTo>
                <a:lnTo>
                  <a:pt x="11" y="5"/>
                </a:lnTo>
                <a:lnTo>
                  <a:pt x="11" y="5"/>
                </a:lnTo>
                <a:lnTo>
                  <a:pt x="11" y="11"/>
                </a:lnTo>
                <a:lnTo>
                  <a:pt x="17" y="11"/>
                </a:lnTo>
                <a:lnTo>
                  <a:pt x="17" y="11"/>
                </a:lnTo>
                <a:lnTo>
                  <a:pt x="17" y="11"/>
                </a:lnTo>
                <a:lnTo>
                  <a:pt x="17" y="16"/>
                </a:lnTo>
                <a:lnTo>
                  <a:pt x="11" y="16"/>
                </a:lnTo>
                <a:lnTo>
                  <a:pt x="11" y="11"/>
                </a:lnTo>
                <a:lnTo>
                  <a:pt x="11" y="11"/>
                </a:lnTo>
                <a:lnTo>
                  <a:pt x="6" y="11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0" y="5"/>
                </a:lnTo>
                <a:lnTo>
                  <a:pt x="0" y="0"/>
                </a:lnTo>
                <a:lnTo>
                  <a:pt x="38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7" name=""/>
          <p:cNvSpPr/>
          <p:nvPr/>
        </p:nvSpPr>
        <p:spPr>
          <a:xfrm>
            <a:off x="4373640" y="4287960"/>
            <a:ext cx="50760" cy="34920"/>
          </a:xfrm>
          <a:custGeom>
            <a:avLst/>
            <a:gdLst/>
            <a:ahLst/>
            <a:rect l="l" t="t" r="r" b="b"/>
            <a:pathLst>
              <a:path w="32" h="22">
                <a:moveTo>
                  <a:pt x="16" y="22"/>
                </a:moveTo>
                <a:lnTo>
                  <a:pt x="11" y="22"/>
                </a:lnTo>
                <a:lnTo>
                  <a:pt x="11" y="22"/>
                </a:lnTo>
                <a:lnTo>
                  <a:pt x="5" y="22"/>
                </a:lnTo>
                <a:lnTo>
                  <a:pt x="5" y="22"/>
                </a:lnTo>
                <a:lnTo>
                  <a:pt x="5" y="22"/>
                </a:lnTo>
                <a:lnTo>
                  <a:pt x="0" y="17"/>
                </a:lnTo>
                <a:lnTo>
                  <a:pt x="0" y="17"/>
                </a:lnTo>
                <a:lnTo>
                  <a:pt x="0" y="17"/>
                </a:lnTo>
                <a:lnTo>
                  <a:pt x="0" y="17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0"/>
                </a:lnTo>
                <a:lnTo>
                  <a:pt x="0" y="0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11" y="0"/>
                </a:lnTo>
                <a:lnTo>
                  <a:pt x="11" y="0"/>
                </a:lnTo>
                <a:lnTo>
                  <a:pt x="11" y="0"/>
                </a:lnTo>
                <a:lnTo>
                  <a:pt x="16" y="0"/>
                </a:lnTo>
                <a:lnTo>
                  <a:pt x="16" y="0"/>
                </a:lnTo>
                <a:lnTo>
                  <a:pt x="22" y="0"/>
                </a:lnTo>
                <a:lnTo>
                  <a:pt x="22" y="0"/>
                </a:lnTo>
                <a:lnTo>
                  <a:pt x="27" y="0"/>
                </a:lnTo>
                <a:lnTo>
                  <a:pt x="27" y="0"/>
                </a:lnTo>
                <a:lnTo>
                  <a:pt x="27" y="0"/>
                </a:lnTo>
                <a:lnTo>
                  <a:pt x="32" y="0"/>
                </a:lnTo>
                <a:lnTo>
                  <a:pt x="32" y="6"/>
                </a:lnTo>
                <a:lnTo>
                  <a:pt x="32" y="6"/>
                </a:lnTo>
                <a:lnTo>
                  <a:pt x="32" y="6"/>
                </a:lnTo>
                <a:lnTo>
                  <a:pt x="32" y="6"/>
                </a:lnTo>
                <a:lnTo>
                  <a:pt x="32" y="11"/>
                </a:lnTo>
                <a:lnTo>
                  <a:pt x="32" y="11"/>
                </a:lnTo>
                <a:lnTo>
                  <a:pt x="32" y="17"/>
                </a:lnTo>
                <a:lnTo>
                  <a:pt x="32" y="17"/>
                </a:lnTo>
                <a:lnTo>
                  <a:pt x="32" y="17"/>
                </a:lnTo>
                <a:lnTo>
                  <a:pt x="32" y="22"/>
                </a:lnTo>
                <a:lnTo>
                  <a:pt x="27" y="22"/>
                </a:lnTo>
                <a:lnTo>
                  <a:pt x="27" y="22"/>
                </a:lnTo>
                <a:lnTo>
                  <a:pt x="22" y="22"/>
                </a:lnTo>
                <a:lnTo>
                  <a:pt x="16" y="22"/>
                </a:lnTo>
                <a:close/>
                <a:moveTo>
                  <a:pt x="16" y="17"/>
                </a:moveTo>
                <a:lnTo>
                  <a:pt x="22" y="17"/>
                </a:lnTo>
                <a:lnTo>
                  <a:pt x="22" y="17"/>
                </a:lnTo>
                <a:lnTo>
                  <a:pt x="27" y="17"/>
                </a:lnTo>
                <a:lnTo>
                  <a:pt x="27" y="17"/>
                </a:lnTo>
                <a:lnTo>
                  <a:pt x="27" y="17"/>
                </a:lnTo>
                <a:lnTo>
                  <a:pt x="32" y="17"/>
                </a:lnTo>
                <a:lnTo>
                  <a:pt x="32" y="11"/>
                </a:lnTo>
                <a:lnTo>
                  <a:pt x="32" y="11"/>
                </a:lnTo>
                <a:lnTo>
                  <a:pt x="32" y="11"/>
                </a:lnTo>
                <a:lnTo>
                  <a:pt x="32" y="6"/>
                </a:lnTo>
                <a:lnTo>
                  <a:pt x="32" y="6"/>
                </a:lnTo>
                <a:lnTo>
                  <a:pt x="27" y="6"/>
                </a:lnTo>
                <a:lnTo>
                  <a:pt x="27" y="6"/>
                </a:lnTo>
                <a:lnTo>
                  <a:pt x="22" y="6"/>
                </a:lnTo>
                <a:lnTo>
                  <a:pt x="22" y="6"/>
                </a:lnTo>
                <a:lnTo>
                  <a:pt x="16" y="6"/>
                </a:lnTo>
                <a:lnTo>
                  <a:pt x="11" y="6"/>
                </a:lnTo>
                <a:lnTo>
                  <a:pt x="11" y="6"/>
                </a:lnTo>
                <a:lnTo>
                  <a:pt x="5" y="6"/>
                </a:lnTo>
                <a:lnTo>
                  <a:pt x="5" y="6"/>
                </a:lnTo>
                <a:lnTo>
                  <a:pt x="5" y="6"/>
                </a:lnTo>
                <a:lnTo>
                  <a:pt x="0" y="6"/>
                </a:lnTo>
                <a:lnTo>
                  <a:pt x="0" y="6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5" y="11"/>
                </a:lnTo>
                <a:lnTo>
                  <a:pt x="5" y="17"/>
                </a:lnTo>
                <a:lnTo>
                  <a:pt x="5" y="17"/>
                </a:lnTo>
                <a:lnTo>
                  <a:pt x="11" y="17"/>
                </a:lnTo>
                <a:lnTo>
                  <a:pt x="11" y="17"/>
                </a:lnTo>
                <a:lnTo>
                  <a:pt x="16" y="17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8" name=""/>
          <p:cNvSpPr/>
          <p:nvPr/>
        </p:nvSpPr>
        <p:spPr>
          <a:xfrm>
            <a:off x="4373640" y="4237200"/>
            <a:ext cx="60120" cy="42840"/>
          </a:xfrm>
          <a:custGeom>
            <a:avLst/>
            <a:gdLst/>
            <a:ahLst/>
            <a:rect l="l" t="t" r="r" b="b"/>
            <a:pathLst>
              <a:path w="38" h="27">
                <a:moveTo>
                  <a:pt x="16" y="27"/>
                </a:moveTo>
                <a:lnTo>
                  <a:pt x="16" y="27"/>
                </a:lnTo>
                <a:lnTo>
                  <a:pt x="11" y="27"/>
                </a:lnTo>
                <a:lnTo>
                  <a:pt x="11" y="27"/>
                </a:lnTo>
                <a:lnTo>
                  <a:pt x="5" y="27"/>
                </a:lnTo>
                <a:lnTo>
                  <a:pt x="5" y="21"/>
                </a:lnTo>
                <a:lnTo>
                  <a:pt x="5" y="21"/>
                </a:lnTo>
                <a:lnTo>
                  <a:pt x="0" y="21"/>
                </a:lnTo>
                <a:lnTo>
                  <a:pt x="0" y="21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0"/>
                </a:lnTo>
                <a:lnTo>
                  <a:pt x="0" y="10"/>
                </a:lnTo>
                <a:lnTo>
                  <a:pt x="0" y="10"/>
                </a:lnTo>
                <a:lnTo>
                  <a:pt x="0" y="10"/>
                </a:lnTo>
                <a:lnTo>
                  <a:pt x="0" y="5"/>
                </a:lnTo>
                <a:lnTo>
                  <a:pt x="0" y="5"/>
                </a:lnTo>
                <a:lnTo>
                  <a:pt x="5" y="5"/>
                </a:lnTo>
                <a:lnTo>
                  <a:pt x="5" y="5"/>
                </a:lnTo>
                <a:lnTo>
                  <a:pt x="5" y="5"/>
                </a:lnTo>
                <a:lnTo>
                  <a:pt x="5" y="5"/>
                </a:lnTo>
                <a:lnTo>
                  <a:pt x="11" y="5"/>
                </a:lnTo>
                <a:lnTo>
                  <a:pt x="11" y="5"/>
                </a:lnTo>
                <a:lnTo>
                  <a:pt x="11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2" y="5"/>
                </a:lnTo>
                <a:lnTo>
                  <a:pt x="22" y="5"/>
                </a:lnTo>
                <a:lnTo>
                  <a:pt x="27" y="5"/>
                </a:lnTo>
                <a:lnTo>
                  <a:pt x="27" y="5"/>
                </a:lnTo>
                <a:lnTo>
                  <a:pt x="32" y="5"/>
                </a:lnTo>
                <a:lnTo>
                  <a:pt x="32" y="5"/>
                </a:lnTo>
                <a:lnTo>
                  <a:pt x="32" y="5"/>
                </a:lnTo>
                <a:lnTo>
                  <a:pt x="32" y="10"/>
                </a:lnTo>
                <a:lnTo>
                  <a:pt x="38" y="10"/>
                </a:lnTo>
                <a:lnTo>
                  <a:pt x="38" y="10"/>
                </a:lnTo>
                <a:lnTo>
                  <a:pt x="38" y="10"/>
                </a:lnTo>
                <a:lnTo>
                  <a:pt x="38" y="16"/>
                </a:lnTo>
                <a:lnTo>
                  <a:pt x="38" y="16"/>
                </a:lnTo>
                <a:lnTo>
                  <a:pt x="38" y="21"/>
                </a:lnTo>
                <a:lnTo>
                  <a:pt x="32" y="21"/>
                </a:lnTo>
                <a:lnTo>
                  <a:pt x="32" y="21"/>
                </a:lnTo>
                <a:lnTo>
                  <a:pt x="27" y="27"/>
                </a:lnTo>
                <a:lnTo>
                  <a:pt x="27" y="27"/>
                </a:lnTo>
                <a:lnTo>
                  <a:pt x="22" y="27"/>
                </a:lnTo>
                <a:lnTo>
                  <a:pt x="16" y="27"/>
                </a:lnTo>
                <a:close/>
                <a:moveTo>
                  <a:pt x="16" y="21"/>
                </a:moveTo>
                <a:lnTo>
                  <a:pt x="22" y="21"/>
                </a:lnTo>
                <a:lnTo>
                  <a:pt x="27" y="21"/>
                </a:lnTo>
                <a:lnTo>
                  <a:pt x="27" y="21"/>
                </a:lnTo>
                <a:lnTo>
                  <a:pt x="27" y="21"/>
                </a:lnTo>
                <a:lnTo>
                  <a:pt x="32" y="21"/>
                </a:lnTo>
                <a:lnTo>
                  <a:pt x="32" y="16"/>
                </a:lnTo>
                <a:lnTo>
                  <a:pt x="32" y="16"/>
                </a:lnTo>
                <a:lnTo>
                  <a:pt x="32" y="16"/>
                </a:lnTo>
                <a:lnTo>
                  <a:pt x="32" y="16"/>
                </a:lnTo>
                <a:lnTo>
                  <a:pt x="32" y="10"/>
                </a:lnTo>
                <a:lnTo>
                  <a:pt x="32" y="10"/>
                </a:lnTo>
                <a:lnTo>
                  <a:pt x="32" y="10"/>
                </a:lnTo>
                <a:lnTo>
                  <a:pt x="27" y="10"/>
                </a:lnTo>
                <a:lnTo>
                  <a:pt x="27" y="5"/>
                </a:lnTo>
                <a:lnTo>
                  <a:pt x="22" y="5"/>
                </a:lnTo>
                <a:lnTo>
                  <a:pt x="16" y="5"/>
                </a:lnTo>
                <a:lnTo>
                  <a:pt x="16" y="5"/>
                </a:lnTo>
                <a:lnTo>
                  <a:pt x="11" y="5"/>
                </a:lnTo>
                <a:lnTo>
                  <a:pt x="11" y="5"/>
                </a:lnTo>
                <a:lnTo>
                  <a:pt x="5" y="10"/>
                </a:lnTo>
                <a:lnTo>
                  <a:pt x="5" y="10"/>
                </a:lnTo>
                <a:lnTo>
                  <a:pt x="5" y="10"/>
                </a:lnTo>
                <a:lnTo>
                  <a:pt x="5" y="10"/>
                </a:lnTo>
                <a:lnTo>
                  <a:pt x="5" y="16"/>
                </a:lnTo>
                <a:lnTo>
                  <a:pt x="5" y="16"/>
                </a:lnTo>
                <a:lnTo>
                  <a:pt x="5" y="16"/>
                </a:lnTo>
                <a:lnTo>
                  <a:pt x="5" y="16"/>
                </a:lnTo>
                <a:lnTo>
                  <a:pt x="5" y="16"/>
                </a:lnTo>
                <a:lnTo>
                  <a:pt x="5" y="21"/>
                </a:lnTo>
                <a:lnTo>
                  <a:pt x="11" y="21"/>
                </a:lnTo>
                <a:lnTo>
                  <a:pt x="16" y="21"/>
                </a:lnTo>
                <a:lnTo>
                  <a:pt x="16" y="2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9" name=""/>
          <p:cNvSpPr/>
          <p:nvPr/>
        </p:nvSpPr>
        <p:spPr>
          <a:xfrm>
            <a:off x="4390920" y="3465360"/>
            <a:ext cx="50760" cy="34920"/>
          </a:xfrm>
          <a:custGeom>
            <a:avLst/>
            <a:gdLst/>
            <a:ahLst/>
            <a:rect l="l" t="t" r="r" b="b"/>
            <a:pathLst>
              <a:path w="32" h="22">
                <a:moveTo>
                  <a:pt x="0" y="6"/>
                </a:moveTo>
                <a:lnTo>
                  <a:pt x="0" y="0"/>
                </a:lnTo>
                <a:lnTo>
                  <a:pt x="27" y="11"/>
                </a:lnTo>
                <a:lnTo>
                  <a:pt x="27" y="11"/>
                </a:lnTo>
                <a:lnTo>
                  <a:pt x="27" y="11"/>
                </a:lnTo>
                <a:lnTo>
                  <a:pt x="27" y="11"/>
                </a:lnTo>
                <a:lnTo>
                  <a:pt x="27" y="6"/>
                </a:lnTo>
                <a:lnTo>
                  <a:pt x="27" y="6"/>
                </a:lnTo>
                <a:lnTo>
                  <a:pt x="27" y="6"/>
                </a:lnTo>
                <a:lnTo>
                  <a:pt x="27" y="6"/>
                </a:lnTo>
                <a:lnTo>
                  <a:pt x="27" y="0"/>
                </a:lnTo>
                <a:lnTo>
                  <a:pt x="27" y="6"/>
                </a:lnTo>
                <a:lnTo>
                  <a:pt x="27" y="6"/>
                </a:lnTo>
                <a:lnTo>
                  <a:pt x="27" y="6"/>
                </a:lnTo>
                <a:lnTo>
                  <a:pt x="27" y="11"/>
                </a:lnTo>
                <a:lnTo>
                  <a:pt x="32" y="11"/>
                </a:lnTo>
                <a:lnTo>
                  <a:pt x="32" y="11"/>
                </a:lnTo>
                <a:lnTo>
                  <a:pt x="32" y="17"/>
                </a:lnTo>
                <a:lnTo>
                  <a:pt x="32" y="17"/>
                </a:lnTo>
                <a:lnTo>
                  <a:pt x="32" y="17"/>
                </a:lnTo>
                <a:lnTo>
                  <a:pt x="32" y="22"/>
                </a:lnTo>
                <a:lnTo>
                  <a:pt x="0" y="6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0" name=""/>
          <p:cNvSpPr/>
          <p:nvPr/>
        </p:nvSpPr>
        <p:spPr>
          <a:xfrm>
            <a:off x="4373640" y="3500280"/>
            <a:ext cx="50760" cy="44640"/>
          </a:xfrm>
          <a:custGeom>
            <a:avLst/>
            <a:gdLst/>
            <a:ahLst/>
            <a:rect l="l" t="t" r="r" b="b"/>
            <a:pathLst>
              <a:path w="32" h="28">
                <a:moveTo>
                  <a:pt x="22" y="0"/>
                </a:moveTo>
                <a:lnTo>
                  <a:pt x="22" y="6"/>
                </a:lnTo>
                <a:lnTo>
                  <a:pt x="27" y="6"/>
                </a:lnTo>
                <a:lnTo>
                  <a:pt x="27" y="6"/>
                </a:lnTo>
                <a:lnTo>
                  <a:pt x="32" y="6"/>
                </a:lnTo>
                <a:lnTo>
                  <a:pt x="32" y="11"/>
                </a:lnTo>
                <a:lnTo>
                  <a:pt x="32" y="11"/>
                </a:lnTo>
                <a:lnTo>
                  <a:pt x="32" y="11"/>
                </a:lnTo>
                <a:lnTo>
                  <a:pt x="32" y="11"/>
                </a:lnTo>
                <a:lnTo>
                  <a:pt x="32" y="17"/>
                </a:lnTo>
                <a:lnTo>
                  <a:pt x="32" y="17"/>
                </a:lnTo>
                <a:lnTo>
                  <a:pt x="32" y="17"/>
                </a:lnTo>
                <a:lnTo>
                  <a:pt x="32" y="22"/>
                </a:lnTo>
                <a:lnTo>
                  <a:pt x="32" y="22"/>
                </a:lnTo>
                <a:lnTo>
                  <a:pt x="32" y="22"/>
                </a:lnTo>
                <a:lnTo>
                  <a:pt x="32" y="22"/>
                </a:lnTo>
                <a:lnTo>
                  <a:pt x="32" y="22"/>
                </a:lnTo>
                <a:lnTo>
                  <a:pt x="32" y="28"/>
                </a:lnTo>
                <a:lnTo>
                  <a:pt x="27" y="28"/>
                </a:lnTo>
                <a:lnTo>
                  <a:pt x="27" y="28"/>
                </a:lnTo>
                <a:lnTo>
                  <a:pt x="27" y="28"/>
                </a:lnTo>
                <a:lnTo>
                  <a:pt x="27" y="28"/>
                </a:lnTo>
                <a:lnTo>
                  <a:pt x="22" y="28"/>
                </a:lnTo>
                <a:lnTo>
                  <a:pt x="22" y="28"/>
                </a:lnTo>
                <a:lnTo>
                  <a:pt x="22" y="28"/>
                </a:lnTo>
                <a:lnTo>
                  <a:pt x="22" y="28"/>
                </a:lnTo>
                <a:lnTo>
                  <a:pt x="16" y="28"/>
                </a:lnTo>
                <a:lnTo>
                  <a:pt x="16" y="28"/>
                </a:lnTo>
                <a:lnTo>
                  <a:pt x="11" y="22"/>
                </a:lnTo>
                <a:lnTo>
                  <a:pt x="11" y="22"/>
                </a:lnTo>
                <a:lnTo>
                  <a:pt x="5" y="22"/>
                </a:lnTo>
                <a:lnTo>
                  <a:pt x="5" y="22"/>
                </a:lnTo>
                <a:lnTo>
                  <a:pt x="5" y="17"/>
                </a:lnTo>
                <a:lnTo>
                  <a:pt x="0" y="17"/>
                </a:lnTo>
                <a:lnTo>
                  <a:pt x="0" y="17"/>
                </a:lnTo>
                <a:lnTo>
                  <a:pt x="0" y="17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0"/>
                </a:lnTo>
                <a:lnTo>
                  <a:pt x="5" y="0"/>
                </a:lnTo>
                <a:lnTo>
                  <a:pt x="5" y="0"/>
                </a:lnTo>
                <a:lnTo>
                  <a:pt x="11" y="0"/>
                </a:lnTo>
                <a:lnTo>
                  <a:pt x="11" y="0"/>
                </a:lnTo>
                <a:lnTo>
                  <a:pt x="16" y="0"/>
                </a:lnTo>
                <a:lnTo>
                  <a:pt x="22" y="0"/>
                </a:lnTo>
                <a:close/>
                <a:moveTo>
                  <a:pt x="22" y="6"/>
                </a:moveTo>
                <a:lnTo>
                  <a:pt x="16" y="6"/>
                </a:lnTo>
                <a:lnTo>
                  <a:pt x="11" y="6"/>
                </a:lnTo>
                <a:lnTo>
                  <a:pt x="11" y="6"/>
                </a:lnTo>
                <a:lnTo>
                  <a:pt x="5" y="6"/>
                </a:lnTo>
                <a:lnTo>
                  <a:pt x="5" y="6"/>
                </a:lnTo>
                <a:lnTo>
                  <a:pt x="5" y="6"/>
                </a:lnTo>
                <a:lnTo>
                  <a:pt x="5" y="6"/>
                </a:lnTo>
                <a:lnTo>
                  <a:pt x="5" y="6"/>
                </a:lnTo>
                <a:lnTo>
                  <a:pt x="5" y="11"/>
                </a:lnTo>
                <a:lnTo>
                  <a:pt x="5" y="11"/>
                </a:lnTo>
                <a:lnTo>
                  <a:pt x="5" y="11"/>
                </a:lnTo>
                <a:lnTo>
                  <a:pt x="5" y="11"/>
                </a:lnTo>
                <a:lnTo>
                  <a:pt x="5" y="17"/>
                </a:lnTo>
                <a:lnTo>
                  <a:pt x="5" y="17"/>
                </a:lnTo>
                <a:lnTo>
                  <a:pt x="11" y="17"/>
                </a:lnTo>
                <a:lnTo>
                  <a:pt x="16" y="22"/>
                </a:lnTo>
                <a:lnTo>
                  <a:pt x="16" y="22"/>
                </a:lnTo>
                <a:lnTo>
                  <a:pt x="22" y="22"/>
                </a:lnTo>
                <a:lnTo>
                  <a:pt x="22" y="22"/>
                </a:lnTo>
                <a:lnTo>
                  <a:pt x="27" y="22"/>
                </a:lnTo>
                <a:lnTo>
                  <a:pt x="27" y="22"/>
                </a:lnTo>
                <a:lnTo>
                  <a:pt x="27" y="22"/>
                </a:lnTo>
                <a:lnTo>
                  <a:pt x="32" y="22"/>
                </a:lnTo>
                <a:lnTo>
                  <a:pt x="32" y="17"/>
                </a:lnTo>
                <a:lnTo>
                  <a:pt x="32" y="17"/>
                </a:lnTo>
                <a:lnTo>
                  <a:pt x="32" y="17"/>
                </a:lnTo>
                <a:lnTo>
                  <a:pt x="32" y="17"/>
                </a:lnTo>
                <a:lnTo>
                  <a:pt x="32" y="11"/>
                </a:lnTo>
                <a:lnTo>
                  <a:pt x="27" y="11"/>
                </a:lnTo>
                <a:lnTo>
                  <a:pt x="27" y="11"/>
                </a:lnTo>
                <a:lnTo>
                  <a:pt x="22" y="6"/>
                </a:lnTo>
                <a:lnTo>
                  <a:pt x="22" y="6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1" name=""/>
          <p:cNvSpPr/>
          <p:nvPr/>
        </p:nvSpPr>
        <p:spPr>
          <a:xfrm>
            <a:off x="4356000" y="3544920"/>
            <a:ext cx="60480" cy="42840"/>
          </a:xfrm>
          <a:custGeom>
            <a:avLst/>
            <a:gdLst/>
            <a:ahLst/>
            <a:rect l="l" t="t" r="r" b="b"/>
            <a:pathLst>
              <a:path w="38" h="27">
                <a:moveTo>
                  <a:pt x="22" y="0"/>
                </a:moveTo>
                <a:lnTo>
                  <a:pt x="27" y="0"/>
                </a:lnTo>
                <a:lnTo>
                  <a:pt x="27" y="5"/>
                </a:lnTo>
                <a:lnTo>
                  <a:pt x="27" y="5"/>
                </a:lnTo>
                <a:lnTo>
                  <a:pt x="33" y="5"/>
                </a:lnTo>
                <a:lnTo>
                  <a:pt x="33" y="5"/>
                </a:lnTo>
                <a:lnTo>
                  <a:pt x="33" y="10"/>
                </a:lnTo>
                <a:lnTo>
                  <a:pt x="33" y="10"/>
                </a:lnTo>
                <a:lnTo>
                  <a:pt x="33" y="10"/>
                </a:lnTo>
                <a:lnTo>
                  <a:pt x="38" y="16"/>
                </a:lnTo>
                <a:lnTo>
                  <a:pt x="38" y="16"/>
                </a:lnTo>
                <a:lnTo>
                  <a:pt x="33" y="16"/>
                </a:lnTo>
                <a:lnTo>
                  <a:pt x="33" y="16"/>
                </a:lnTo>
                <a:lnTo>
                  <a:pt x="33" y="21"/>
                </a:lnTo>
                <a:lnTo>
                  <a:pt x="33" y="21"/>
                </a:lnTo>
                <a:lnTo>
                  <a:pt x="33" y="21"/>
                </a:lnTo>
                <a:lnTo>
                  <a:pt x="33" y="21"/>
                </a:lnTo>
                <a:lnTo>
                  <a:pt x="33" y="21"/>
                </a:lnTo>
                <a:lnTo>
                  <a:pt x="27" y="27"/>
                </a:lnTo>
                <a:lnTo>
                  <a:pt x="27" y="27"/>
                </a:lnTo>
                <a:lnTo>
                  <a:pt x="27" y="27"/>
                </a:lnTo>
                <a:lnTo>
                  <a:pt x="27" y="27"/>
                </a:lnTo>
                <a:lnTo>
                  <a:pt x="27" y="27"/>
                </a:lnTo>
                <a:lnTo>
                  <a:pt x="22" y="27"/>
                </a:lnTo>
                <a:lnTo>
                  <a:pt x="22" y="27"/>
                </a:lnTo>
                <a:lnTo>
                  <a:pt x="22" y="27"/>
                </a:lnTo>
                <a:lnTo>
                  <a:pt x="16" y="27"/>
                </a:lnTo>
                <a:lnTo>
                  <a:pt x="16" y="21"/>
                </a:lnTo>
                <a:lnTo>
                  <a:pt x="11" y="21"/>
                </a:lnTo>
                <a:lnTo>
                  <a:pt x="11" y="21"/>
                </a:lnTo>
                <a:lnTo>
                  <a:pt x="5" y="21"/>
                </a:lnTo>
                <a:lnTo>
                  <a:pt x="5" y="21"/>
                </a:lnTo>
                <a:lnTo>
                  <a:pt x="5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0"/>
                </a:lnTo>
                <a:lnTo>
                  <a:pt x="0" y="10"/>
                </a:lnTo>
                <a:lnTo>
                  <a:pt x="0" y="10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0"/>
                </a:lnTo>
                <a:lnTo>
                  <a:pt x="5" y="0"/>
                </a:lnTo>
                <a:lnTo>
                  <a:pt x="5" y="0"/>
                </a:lnTo>
                <a:lnTo>
                  <a:pt x="11" y="0"/>
                </a:lnTo>
                <a:lnTo>
                  <a:pt x="11" y="0"/>
                </a:lnTo>
                <a:lnTo>
                  <a:pt x="16" y="0"/>
                </a:lnTo>
                <a:lnTo>
                  <a:pt x="22" y="0"/>
                </a:lnTo>
                <a:close/>
                <a:moveTo>
                  <a:pt x="22" y="5"/>
                </a:moveTo>
                <a:lnTo>
                  <a:pt x="16" y="5"/>
                </a:lnTo>
                <a:lnTo>
                  <a:pt x="11" y="5"/>
                </a:lnTo>
                <a:lnTo>
                  <a:pt x="11" y="5"/>
                </a:lnTo>
                <a:lnTo>
                  <a:pt x="11" y="5"/>
                </a:lnTo>
                <a:lnTo>
                  <a:pt x="5" y="5"/>
                </a:lnTo>
                <a:lnTo>
                  <a:pt x="5" y="5"/>
                </a:lnTo>
                <a:lnTo>
                  <a:pt x="5" y="5"/>
                </a:lnTo>
                <a:lnTo>
                  <a:pt x="5" y="5"/>
                </a:lnTo>
                <a:lnTo>
                  <a:pt x="5" y="5"/>
                </a:lnTo>
                <a:lnTo>
                  <a:pt x="5" y="10"/>
                </a:lnTo>
                <a:lnTo>
                  <a:pt x="5" y="10"/>
                </a:lnTo>
                <a:lnTo>
                  <a:pt x="5" y="10"/>
                </a:lnTo>
                <a:lnTo>
                  <a:pt x="5" y="16"/>
                </a:lnTo>
                <a:lnTo>
                  <a:pt x="5" y="16"/>
                </a:lnTo>
                <a:lnTo>
                  <a:pt x="11" y="16"/>
                </a:lnTo>
                <a:lnTo>
                  <a:pt x="16" y="16"/>
                </a:lnTo>
                <a:lnTo>
                  <a:pt x="16" y="21"/>
                </a:lnTo>
                <a:lnTo>
                  <a:pt x="22" y="21"/>
                </a:lnTo>
                <a:lnTo>
                  <a:pt x="27" y="21"/>
                </a:lnTo>
                <a:lnTo>
                  <a:pt x="27" y="21"/>
                </a:lnTo>
                <a:lnTo>
                  <a:pt x="27" y="21"/>
                </a:lnTo>
                <a:lnTo>
                  <a:pt x="27" y="21"/>
                </a:lnTo>
                <a:lnTo>
                  <a:pt x="33" y="16"/>
                </a:lnTo>
                <a:lnTo>
                  <a:pt x="33" y="16"/>
                </a:lnTo>
                <a:lnTo>
                  <a:pt x="33" y="16"/>
                </a:lnTo>
                <a:lnTo>
                  <a:pt x="33" y="16"/>
                </a:lnTo>
                <a:lnTo>
                  <a:pt x="33" y="10"/>
                </a:lnTo>
                <a:lnTo>
                  <a:pt x="33" y="10"/>
                </a:lnTo>
                <a:lnTo>
                  <a:pt x="27" y="10"/>
                </a:lnTo>
                <a:lnTo>
                  <a:pt x="27" y="10"/>
                </a:lnTo>
                <a:lnTo>
                  <a:pt x="22" y="5"/>
                </a:lnTo>
                <a:lnTo>
                  <a:pt x="22" y="5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2" name=""/>
          <p:cNvSpPr/>
          <p:nvPr/>
        </p:nvSpPr>
        <p:spPr>
          <a:xfrm>
            <a:off x="4857840" y="2808360"/>
            <a:ext cx="34920" cy="60120"/>
          </a:xfrm>
          <a:custGeom>
            <a:avLst/>
            <a:gdLst/>
            <a:ahLst/>
            <a:rect l="l" t="t" r="r" b="b"/>
            <a:pathLst>
              <a:path w="22" h="38">
                <a:moveTo>
                  <a:pt x="0" y="0"/>
                </a:moveTo>
                <a:lnTo>
                  <a:pt x="0" y="0"/>
                </a:lnTo>
                <a:lnTo>
                  <a:pt x="11" y="28"/>
                </a:lnTo>
                <a:lnTo>
                  <a:pt x="16" y="28"/>
                </a:lnTo>
                <a:lnTo>
                  <a:pt x="16" y="22"/>
                </a:lnTo>
                <a:lnTo>
                  <a:pt x="16" y="22"/>
                </a:lnTo>
                <a:lnTo>
                  <a:pt x="16" y="22"/>
                </a:lnTo>
                <a:lnTo>
                  <a:pt x="16" y="22"/>
                </a:lnTo>
                <a:lnTo>
                  <a:pt x="16" y="22"/>
                </a:lnTo>
                <a:lnTo>
                  <a:pt x="16" y="17"/>
                </a:lnTo>
                <a:lnTo>
                  <a:pt x="22" y="17"/>
                </a:lnTo>
                <a:lnTo>
                  <a:pt x="22" y="22"/>
                </a:lnTo>
                <a:lnTo>
                  <a:pt x="22" y="22"/>
                </a:lnTo>
                <a:lnTo>
                  <a:pt x="16" y="28"/>
                </a:lnTo>
                <a:lnTo>
                  <a:pt x="16" y="28"/>
                </a:lnTo>
                <a:lnTo>
                  <a:pt x="16" y="28"/>
                </a:lnTo>
                <a:lnTo>
                  <a:pt x="16" y="33"/>
                </a:lnTo>
                <a:lnTo>
                  <a:pt x="16" y="33"/>
                </a:lnTo>
                <a:lnTo>
                  <a:pt x="16" y="33"/>
                </a:lnTo>
                <a:lnTo>
                  <a:pt x="16" y="33"/>
                </a:lnTo>
                <a:lnTo>
                  <a:pt x="11" y="38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3" name=""/>
          <p:cNvSpPr/>
          <p:nvPr/>
        </p:nvSpPr>
        <p:spPr>
          <a:xfrm>
            <a:off x="4805280" y="2825640"/>
            <a:ext cx="52560" cy="52560"/>
          </a:xfrm>
          <a:custGeom>
            <a:avLst/>
            <a:gdLst/>
            <a:ahLst/>
            <a:rect l="l" t="t" r="r" b="b"/>
            <a:pathLst>
              <a:path w="33" h="33">
                <a:moveTo>
                  <a:pt x="28" y="11"/>
                </a:moveTo>
                <a:lnTo>
                  <a:pt x="28" y="17"/>
                </a:lnTo>
                <a:lnTo>
                  <a:pt x="28" y="17"/>
                </a:lnTo>
                <a:lnTo>
                  <a:pt x="28" y="22"/>
                </a:lnTo>
                <a:lnTo>
                  <a:pt x="33" y="22"/>
                </a:lnTo>
                <a:lnTo>
                  <a:pt x="33" y="27"/>
                </a:lnTo>
                <a:lnTo>
                  <a:pt x="28" y="27"/>
                </a:lnTo>
                <a:lnTo>
                  <a:pt x="28" y="27"/>
                </a:lnTo>
                <a:lnTo>
                  <a:pt x="28" y="27"/>
                </a:lnTo>
                <a:lnTo>
                  <a:pt x="28" y="33"/>
                </a:lnTo>
                <a:lnTo>
                  <a:pt x="28" y="33"/>
                </a:lnTo>
                <a:lnTo>
                  <a:pt x="28" y="33"/>
                </a:lnTo>
                <a:lnTo>
                  <a:pt x="22" y="33"/>
                </a:lnTo>
                <a:lnTo>
                  <a:pt x="22" y="33"/>
                </a:lnTo>
                <a:lnTo>
                  <a:pt x="22" y="33"/>
                </a:lnTo>
                <a:lnTo>
                  <a:pt x="22" y="33"/>
                </a:lnTo>
                <a:lnTo>
                  <a:pt x="17" y="33"/>
                </a:lnTo>
                <a:lnTo>
                  <a:pt x="17" y="33"/>
                </a:lnTo>
                <a:lnTo>
                  <a:pt x="17" y="33"/>
                </a:lnTo>
                <a:lnTo>
                  <a:pt x="17" y="33"/>
                </a:lnTo>
                <a:lnTo>
                  <a:pt x="17" y="33"/>
                </a:lnTo>
                <a:lnTo>
                  <a:pt x="11" y="33"/>
                </a:lnTo>
                <a:lnTo>
                  <a:pt x="11" y="33"/>
                </a:lnTo>
                <a:lnTo>
                  <a:pt x="11" y="33"/>
                </a:lnTo>
                <a:lnTo>
                  <a:pt x="11" y="27"/>
                </a:lnTo>
                <a:lnTo>
                  <a:pt x="11" y="27"/>
                </a:lnTo>
                <a:lnTo>
                  <a:pt x="6" y="27"/>
                </a:lnTo>
                <a:lnTo>
                  <a:pt x="6" y="22"/>
                </a:lnTo>
                <a:lnTo>
                  <a:pt x="6" y="22"/>
                </a:lnTo>
                <a:lnTo>
                  <a:pt x="6" y="22"/>
                </a:lnTo>
                <a:lnTo>
                  <a:pt x="6" y="17"/>
                </a:lnTo>
                <a:lnTo>
                  <a:pt x="0" y="17"/>
                </a:lnTo>
                <a:lnTo>
                  <a:pt x="0" y="11"/>
                </a:lnTo>
                <a:lnTo>
                  <a:pt x="0" y="11"/>
                </a:lnTo>
                <a:lnTo>
                  <a:pt x="0" y="6"/>
                </a:lnTo>
                <a:lnTo>
                  <a:pt x="0" y="6"/>
                </a:lnTo>
                <a:lnTo>
                  <a:pt x="6" y="6"/>
                </a:lnTo>
                <a:lnTo>
                  <a:pt x="6" y="6"/>
                </a:lnTo>
                <a:lnTo>
                  <a:pt x="6" y="0"/>
                </a:lnTo>
                <a:lnTo>
                  <a:pt x="6" y="0"/>
                </a:lnTo>
                <a:lnTo>
                  <a:pt x="11" y="0"/>
                </a:lnTo>
                <a:lnTo>
                  <a:pt x="11" y="0"/>
                </a:lnTo>
                <a:lnTo>
                  <a:pt x="11" y="0"/>
                </a:lnTo>
                <a:lnTo>
                  <a:pt x="17" y="0"/>
                </a:lnTo>
                <a:lnTo>
                  <a:pt x="17" y="0"/>
                </a:lnTo>
                <a:lnTo>
                  <a:pt x="22" y="0"/>
                </a:lnTo>
                <a:lnTo>
                  <a:pt x="22" y="6"/>
                </a:lnTo>
                <a:lnTo>
                  <a:pt x="28" y="6"/>
                </a:lnTo>
                <a:lnTo>
                  <a:pt x="28" y="11"/>
                </a:lnTo>
                <a:close/>
                <a:moveTo>
                  <a:pt x="22" y="17"/>
                </a:moveTo>
                <a:lnTo>
                  <a:pt x="22" y="11"/>
                </a:lnTo>
                <a:lnTo>
                  <a:pt x="22" y="6"/>
                </a:lnTo>
                <a:lnTo>
                  <a:pt x="17" y="6"/>
                </a:lnTo>
                <a:lnTo>
                  <a:pt x="17" y="6"/>
                </a:lnTo>
                <a:lnTo>
                  <a:pt x="17" y="6"/>
                </a:lnTo>
                <a:lnTo>
                  <a:pt x="11" y="6"/>
                </a:lnTo>
                <a:lnTo>
                  <a:pt x="11" y="6"/>
                </a:lnTo>
                <a:lnTo>
                  <a:pt x="11" y="6"/>
                </a:lnTo>
                <a:lnTo>
                  <a:pt x="11" y="6"/>
                </a:lnTo>
                <a:lnTo>
                  <a:pt x="6" y="6"/>
                </a:lnTo>
                <a:lnTo>
                  <a:pt x="6" y="6"/>
                </a:lnTo>
                <a:lnTo>
                  <a:pt x="6" y="11"/>
                </a:lnTo>
                <a:lnTo>
                  <a:pt x="6" y="11"/>
                </a:lnTo>
                <a:lnTo>
                  <a:pt x="6" y="11"/>
                </a:lnTo>
                <a:lnTo>
                  <a:pt x="6" y="17"/>
                </a:lnTo>
                <a:lnTo>
                  <a:pt x="11" y="22"/>
                </a:lnTo>
                <a:lnTo>
                  <a:pt x="11" y="22"/>
                </a:lnTo>
                <a:lnTo>
                  <a:pt x="11" y="27"/>
                </a:lnTo>
                <a:lnTo>
                  <a:pt x="17" y="27"/>
                </a:lnTo>
                <a:lnTo>
                  <a:pt x="17" y="33"/>
                </a:lnTo>
                <a:lnTo>
                  <a:pt x="17" y="33"/>
                </a:lnTo>
                <a:lnTo>
                  <a:pt x="22" y="33"/>
                </a:lnTo>
                <a:lnTo>
                  <a:pt x="22" y="33"/>
                </a:lnTo>
                <a:lnTo>
                  <a:pt x="22" y="33"/>
                </a:lnTo>
                <a:lnTo>
                  <a:pt x="22" y="33"/>
                </a:lnTo>
                <a:lnTo>
                  <a:pt x="22" y="27"/>
                </a:lnTo>
                <a:lnTo>
                  <a:pt x="28" y="27"/>
                </a:lnTo>
                <a:lnTo>
                  <a:pt x="28" y="27"/>
                </a:lnTo>
                <a:lnTo>
                  <a:pt x="28" y="22"/>
                </a:lnTo>
                <a:lnTo>
                  <a:pt x="28" y="22"/>
                </a:lnTo>
                <a:lnTo>
                  <a:pt x="22" y="17"/>
                </a:lnTo>
                <a:lnTo>
                  <a:pt x="22" y="17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4" name=""/>
          <p:cNvSpPr/>
          <p:nvPr/>
        </p:nvSpPr>
        <p:spPr>
          <a:xfrm>
            <a:off x="4772160" y="2843280"/>
            <a:ext cx="42840" cy="60120"/>
          </a:xfrm>
          <a:custGeom>
            <a:avLst/>
            <a:gdLst/>
            <a:ahLst/>
            <a:rect l="l" t="t" r="r" b="b"/>
            <a:pathLst>
              <a:path w="27" h="38">
                <a:moveTo>
                  <a:pt x="21" y="11"/>
                </a:moveTo>
                <a:lnTo>
                  <a:pt x="21" y="16"/>
                </a:lnTo>
                <a:lnTo>
                  <a:pt x="27" y="16"/>
                </a:lnTo>
                <a:lnTo>
                  <a:pt x="27" y="22"/>
                </a:lnTo>
                <a:lnTo>
                  <a:pt x="27" y="22"/>
                </a:lnTo>
                <a:lnTo>
                  <a:pt x="27" y="27"/>
                </a:lnTo>
                <a:lnTo>
                  <a:pt x="27" y="27"/>
                </a:lnTo>
                <a:lnTo>
                  <a:pt x="27" y="27"/>
                </a:lnTo>
                <a:lnTo>
                  <a:pt x="21" y="33"/>
                </a:lnTo>
                <a:lnTo>
                  <a:pt x="21" y="33"/>
                </a:lnTo>
                <a:lnTo>
                  <a:pt x="21" y="33"/>
                </a:lnTo>
                <a:lnTo>
                  <a:pt x="21" y="33"/>
                </a:lnTo>
                <a:lnTo>
                  <a:pt x="21" y="33"/>
                </a:lnTo>
                <a:lnTo>
                  <a:pt x="16" y="33"/>
                </a:lnTo>
                <a:lnTo>
                  <a:pt x="16" y="38"/>
                </a:lnTo>
                <a:lnTo>
                  <a:pt x="16" y="38"/>
                </a:lnTo>
                <a:lnTo>
                  <a:pt x="16" y="38"/>
                </a:lnTo>
                <a:lnTo>
                  <a:pt x="10" y="38"/>
                </a:lnTo>
                <a:lnTo>
                  <a:pt x="10" y="33"/>
                </a:lnTo>
                <a:lnTo>
                  <a:pt x="10" y="33"/>
                </a:lnTo>
                <a:lnTo>
                  <a:pt x="10" y="33"/>
                </a:lnTo>
                <a:lnTo>
                  <a:pt x="10" y="33"/>
                </a:lnTo>
                <a:lnTo>
                  <a:pt x="5" y="33"/>
                </a:lnTo>
                <a:lnTo>
                  <a:pt x="5" y="33"/>
                </a:lnTo>
                <a:lnTo>
                  <a:pt x="5" y="33"/>
                </a:lnTo>
                <a:lnTo>
                  <a:pt x="5" y="27"/>
                </a:lnTo>
                <a:lnTo>
                  <a:pt x="5" y="27"/>
                </a:lnTo>
                <a:lnTo>
                  <a:pt x="0" y="27"/>
                </a:lnTo>
                <a:lnTo>
                  <a:pt x="0" y="22"/>
                </a:lnTo>
                <a:lnTo>
                  <a:pt x="0" y="22"/>
                </a:lnTo>
                <a:lnTo>
                  <a:pt x="0" y="16"/>
                </a:lnTo>
                <a:lnTo>
                  <a:pt x="0" y="16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0"/>
                </a:lnTo>
                <a:lnTo>
                  <a:pt x="0" y="0"/>
                </a:lnTo>
                <a:lnTo>
                  <a:pt x="5" y="0"/>
                </a:lnTo>
                <a:lnTo>
                  <a:pt x="5" y="0"/>
                </a:lnTo>
                <a:lnTo>
                  <a:pt x="10" y="0"/>
                </a:lnTo>
                <a:lnTo>
                  <a:pt x="10" y="0"/>
                </a:lnTo>
                <a:lnTo>
                  <a:pt x="10" y="0"/>
                </a:lnTo>
                <a:lnTo>
                  <a:pt x="16" y="0"/>
                </a:lnTo>
                <a:lnTo>
                  <a:pt x="16" y="6"/>
                </a:lnTo>
                <a:lnTo>
                  <a:pt x="21" y="11"/>
                </a:lnTo>
                <a:lnTo>
                  <a:pt x="21" y="11"/>
                </a:lnTo>
                <a:close/>
                <a:moveTo>
                  <a:pt x="16" y="16"/>
                </a:moveTo>
                <a:lnTo>
                  <a:pt x="16" y="11"/>
                </a:lnTo>
                <a:lnTo>
                  <a:pt x="16" y="6"/>
                </a:lnTo>
                <a:lnTo>
                  <a:pt x="10" y="6"/>
                </a:lnTo>
                <a:lnTo>
                  <a:pt x="10" y="6"/>
                </a:lnTo>
                <a:lnTo>
                  <a:pt x="10" y="6"/>
                </a:lnTo>
                <a:lnTo>
                  <a:pt x="10" y="6"/>
                </a:lnTo>
                <a:lnTo>
                  <a:pt x="5" y="6"/>
                </a:lnTo>
                <a:lnTo>
                  <a:pt x="5" y="6"/>
                </a:lnTo>
                <a:lnTo>
                  <a:pt x="5" y="6"/>
                </a:lnTo>
                <a:lnTo>
                  <a:pt x="5" y="6"/>
                </a:lnTo>
                <a:lnTo>
                  <a:pt x="5" y="6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5" y="16"/>
                </a:lnTo>
                <a:lnTo>
                  <a:pt x="5" y="22"/>
                </a:lnTo>
                <a:lnTo>
                  <a:pt x="5" y="22"/>
                </a:lnTo>
                <a:lnTo>
                  <a:pt x="10" y="27"/>
                </a:lnTo>
                <a:lnTo>
                  <a:pt x="10" y="27"/>
                </a:lnTo>
                <a:lnTo>
                  <a:pt x="10" y="33"/>
                </a:lnTo>
                <a:lnTo>
                  <a:pt x="10" y="33"/>
                </a:lnTo>
                <a:lnTo>
                  <a:pt x="16" y="33"/>
                </a:lnTo>
                <a:lnTo>
                  <a:pt x="16" y="33"/>
                </a:lnTo>
                <a:lnTo>
                  <a:pt x="16" y="33"/>
                </a:lnTo>
                <a:lnTo>
                  <a:pt x="21" y="33"/>
                </a:lnTo>
                <a:lnTo>
                  <a:pt x="21" y="27"/>
                </a:lnTo>
                <a:lnTo>
                  <a:pt x="21" y="27"/>
                </a:lnTo>
                <a:lnTo>
                  <a:pt x="21" y="27"/>
                </a:lnTo>
                <a:lnTo>
                  <a:pt x="21" y="27"/>
                </a:lnTo>
                <a:lnTo>
                  <a:pt x="21" y="22"/>
                </a:lnTo>
                <a:lnTo>
                  <a:pt x="21" y="16"/>
                </a:lnTo>
                <a:lnTo>
                  <a:pt x="16" y="16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5" name=""/>
          <p:cNvSpPr/>
          <p:nvPr/>
        </p:nvSpPr>
        <p:spPr>
          <a:xfrm>
            <a:off x="5359320" y="3544920"/>
            <a:ext cx="60480" cy="25200"/>
          </a:xfrm>
          <a:custGeom>
            <a:avLst/>
            <a:gdLst/>
            <a:ahLst/>
            <a:rect l="l" t="t" r="r" b="b"/>
            <a:pathLst>
              <a:path w="38" h="16">
                <a:moveTo>
                  <a:pt x="0" y="10"/>
                </a:moveTo>
                <a:lnTo>
                  <a:pt x="0" y="5"/>
                </a:lnTo>
                <a:lnTo>
                  <a:pt x="28" y="10"/>
                </a:lnTo>
                <a:lnTo>
                  <a:pt x="28" y="5"/>
                </a:lnTo>
                <a:lnTo>
                  <a:pt x="28" y="5"/>
                </a:lnTo>
                <a:lnTo>
                  <a:pt x="28" y="5"/>
                </a:lnTo>
                <a:lnTo>
                  <a:pt x="28" y="5"/>
                </a:lnTo>
                <a:lnTo>
                  <a:pt x="28" y="5"/>
                </a:lnTo>
                <a:lnTo>
                  <a:pt x="28" y="0"/>
                </a:lnTo>
                <a:lnTo>
                  <a:pt x="28" y="0"/>
                </a:lnTo>
                <a:lnTo>
                  <a:pt x="22" y="0"/>
                </a:lnTo>
                <a:lnTo>
                  <a:pt x="28" y="0"/>
                </a:lnTo>
                <a:lnTo>
                  <a:pt x="28" y="0"/>
                </a:lnTo>
                <a:lnTo>
                  <a:pt x="33" y="5"/>
                </a:lnTo>
                <a:lnTo>
                  <a:pt x="33" y="5"/>
                </a:lnTo>
                <a:lnTo>
                  <a:pt x="33" y="5"/>
                </a:lnTo>
                <a:lnTo>
                  <a:pt x="33" y="5"/>
                </a:lnTo>
                <a:lnTo>
                  <a:pt x="33" y="10"/>
                </a:lnTo>
                <a:lnTo>
                  <a:pt x="38" y="10"/>
                </a:lnTo>
                <a:lnTo>
                  <a:pt x="38" y="10"/>
                </a:lnTo>
                <a:lnTo>
                  <a:pt x="38" y="16"/>
                </a:lnTo>
                <a:lnTo>
                  <a:pt x="0" y="1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6" name=""/>
          <p:cNvSpPr/>
          <p:nvPr/>
        </p:nvSpPr>
        <p:spPr>
          <a:xfrm>
            <a:off x="5359320" y="3578400"/>
            <a:ext cx="52560" cy="44280"/>
          </a:xfrm>
          <a:custGeom>
            <a:avLst/>
            <a:gdLst/>
            <a:ahLst/>
            <a:rect l="l" t="t" r="r" b="b"/>
            <a:pathLst>
              <a:path w="33" h="28">
                <a:moveTo>
                  <a:pt x="17" y="0"/>
                </a:moveTo>
                <a:lnTo>
                  <a:pt x="22" y="0"/>
                </a:lnTo>
                <a:lnTo>
                  <a:pt x="22" y="6"/>
                </a:lnTo>
                <a:lnTo>
                  <a:pt x="28" y="6"/>
                </a:lnTo>
                <a:lnTo>
                  <a:pt x="28" y="6"/>
                </a:lnTo>
                <a:lnTo>
                  <a:pt x="28" y="6"/>
                </a:lnTo>
                <a:lnTo>
                  <a:pt x="33" y="6"/>
                </a:lnTo>
                <a:lnTo>
                  <a:pt x="33" y="6"/>
                </a:lnTo>
                <a:lnTo>
                  <a:pt x="33" y="11"/>
                </a:lnTo>
                <a:lnTo>
                  <a:pt x="33" y="11"/>
                </a:lnTo>
                <a:lnTo>
                  <a:pt x="33" y="11"/>
                </a:lnTo>
                <a:lnTo>
                  <a:pt x="33" y="11"/>
                </a:lnTo>
                <a:lnTo>
                  <a:pt x="33" y="17"/>
                </a:lnTo>
                <a:lnTo>
                  <a:pt x="33" y="17"/>
                </a:lnTo>
                <a:lnTo>
                  <a:pt x="33" y="17"/>
                </a:lnTo>
                <a:lnTo>
                  <a:pt x="33" y="22"/>
                </a:lnTo>
                <a:lnTo>
                  <a:pt x="33" y="22"/>
                </a:lnTo>
                <a:lnTo>
                  <a:pt x="33" y="22"/>
                </a:lnTo>
                <a:lnTo>
                  <a:pt x="33" y="22"/>
                </a:lnTo>
                <a:lnTo>
                  <a:pt x="33" y="22"/>
                </a:lnTo>
                <a:lnTo>
                  <a:pt x="33" y="22"/>
                </a:lnTo>
                <a:lnTo>
                  <a:pt x="28" y="22"/>
                </a:lnTo>
                <a:lnTo>
                  <a:pt x="28" y="28"/>
                </a:lnTo>
                <a:lnTo>
                  <a:pt x="28" y="28"/>
                </a:lnTo>
                <a:lnTo>
                  <a:pt x="22" y="28"/>
                </a:lnTo>
                <a:lnTo>
                  <a:pt x="22" y="28"/>
                </a:lnTo>
                <a:lnTo>
                  <a:pt x="22" y="28"/>
                </a:lnTo>
                <a:lnTo>
                  <a:pt x="17" y="28"/>
                </a:lnTo>
                <a:lnTo>
                  <a:pt x="17" y="28"/>
                </a:lnTo>
                <a:lnTo>
                  <a:pt x="11" y="28"/>
                </a:lnTo>
                <a:lnTo>
                  <a:pt x="11" y="28"/>
                </a:lnTo>
                <a:lnTo>
                  <a:pt x="6" y="28"/>
                </a:lnTo>
                <a:lnTo>
                  <a:pt x="6" y="22"/>
                </a:lnTo>
                <a:lnTo>
                  <a:pt x="6" y="22"/>
                </a:lnTo>
                <a:lnTo>
                  <a:pt x="0" y="22"/>
                </a:lnTo>
                <a:lnTo>
                  <a:pt x="0" y="22"/>
                </a:lnTo>
                <a:lnTo>
                  <a:pt x="0" y="22"/>
                </a:lnTo>
                <a:lnTo>
                  <a:pt x="0" y="17"/>
                </a:lnTo>
                <a:lnTo>
                  <a:pt x="0" y="17"/>
                </a:lnTo>
                <a:lnTo>
                  <a:pt x="0" y="17"/>
                </a:lnTo>
                <a:lnTo>
                  <a:pt x="0" y="11"/>
                </a:lnTo>
                <a:lnTo>
                  <a:pt x="0" y="11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6" y="6"/>
                </a:lnTo>
                <a:lnTo>
                  <a:pt x="11" y="0"/>
                </a:lnTo>
                <a:lnTo>
                  <a:pt x="11" y="0"/>
                </a:lnTo>
                <a:lnTo>
                  <a:pt x="17" y="0"/>
                </a:lnTo>
                <a:close/>
                <a:moveTo>
                  <a:pt x="17" y="6"/>
                </a:moveTo>
                <a:lnTo>
                  <a:pt x="11" y="6"/>
                </a:lnTo>
                <a:lnTo>
                  <a:pt x="11" y="6"/>
                </a:lnTo>
                <a:lnTo>
                  <a:pt x="6" y="6"/>
                </a:lnTo>
                <a:lnTo>
                  <a:pt x="6" y="6"/>
                </a:lnTo>
                <a:lnTo>
                  <a:pt x="6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7"/>
                </a:lnTo>
                <a:lnTo>
                  <a:pt x="0" y="17"/>
                </a:lnTo>
                <a:lnTo>
                  <a:pt x="6" y="17"/>
                </a:lnTo>
                <a:lnTo>
                  <a:pt x="6" y="17"/>
                </a:lnTo>
                <a:lnTo>
                  <a:pt x="6" y="22"/>
                </a:lnTo>
                <a:lnTo>
                  <a:pt x="11" y="22"/>
                </a:lnTo>
                <a:lnTo>
                  <a:pt x="11" y="22"/>
                </a:lnTo>
                <a:lnTo>
                  <a:pt x="17" y="22"/>
                </a:lnTo>
                <a:lnTo>
                  <a:pt x="22" y="22"/>
                </a:lnTo>
                <a:lnTo>
                  <a:pt x="22" y="22"/>
                </a:lnTo>
                <a:lnTo>
                  <a:pt x="28" y="22"/>
                </a:lnTo>
                <a:lnTo>
                  <a:pt x="28" y="22"/>
                </a:lnTo>
                <a:lnTo>
                  <a:pt x="28" y="22"/>
                </a:lnTo>
                <a:lnTo>
                  <a:pt x="33" y="17"/>
                </a:lnTo>
                <a:lnTo>
                  <a:pt x="33" y="17"/>
                </a:lnTo>
                <a:lnTo>
                  <a:pt x="33" y="17"/>
                </a:lnTo>
                <a:lnTo>
                  <a:pt x="33" y="11"/>
                </a:lnTo>
                <a:lnTo>
                  <a:pt x="33" y="11"/>
                </a:lnTo>
                <a:lnTo>
                  <a:pt x="33" y="11"/>
                </a:lnTo>
                <a:lnTo>
                  <a:pt x="28" y="11"/>
                </a:lnTo>
                <a:lnTo>
                  <a:pt x="28" y="11"/>
                </a:lnTo>
                <a:lnTo>
                  <a:pt x="28" y="6"/>
                </a:lnTo>
                <a:lnTo>
                  <a:pt x="22" y="6"/>
                </a:lnTo>
                <a:lnTo>
                  <a:pt x="17" y="6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7" name=""/>
          <p:cNvSpPr/>
          <p:nvPr/>
        </p:nvSpPr>
        <p:spPr>
          <a:xfrm>
            <a:off x="5351400" y="3630600"/>
            <a:ext cx="60480" cy="34920"/>
          </a:xfrm>
          <a:custGeom>
            <a:avLst/>
            <a:gdLst/>
            <a:ahLst/>
            <a:rect l="l" t="t" r="r" b="b"/>
            <a:pathLst>
              <a:path w="38" h="22">
                <a:moveTo>
                  <a:pt x="22" y="0"/>
                </a:moveTo>
                <a:lnTo>
                  <a:pt x="22" y="0"/>
                </a:lnTo>
                <a:lnTo>
                  <a:pt x="27" y="0"/>
                </a:lnTo>
                <a:lnTo>
                  <a:pt x="27" y="0"/>
                </a:lnTo>
                <a:lnTo>
                  <a:pt x="33" y="0"/>
                </a:lnTo>
                <a:lnTo>
                  <a:pt x="33" y="0"/>
                </a:lnTo>
                <a:lnTo>
                  <a:pt x="33" y="0"/>
                </a:lnTo>
                <a:lnTo>
                  <a:pt x="38" y="5"/>
                </a:lnTo>
                <a:lnTo>
                  <a:pt x="38" y="5"/>
                </a:lnTo>
                <a:lnTo>
                  <a:pt x="38" y="5"/>
                </a:lnTo>
                <a:lnTo>
                  <a:pt x="38" y="5"/>
                </a:lnTo>
                <a:lnTo>
                  <a:pt x="38" y="11"/>
                </a:lnTo>
                <a:lnTo>
                  <a:pt x="38" y="11"/>
                </a:lnTo>
                <a:lnTo>
                  <a:pt x="38" y="11"/>
                </a:lnTo>
                <a:lnTo>
                  <a:pt x="38" y="16"/>
                </a:lnTo>
                <a:lnTo>
                  <a:pt x="38" y="16"/>
                </a:lnTo>
                <a:lnTo>
                  <a:pt x="38" y="16"/>
                </a:lnTo>
                <a:lnTo>
                  <a:pt x="38" y="16"/>
                </a:lnTo>
                <a:lnTo>
                  <a:pt x="38" y="16"/>
                </a:lnTo>
                <a:lnTo>
                  <a:pt x="33" y="16"/>
                </a:lnTo>
                <a:lnTo>
                  <a:pt x="33" y="22"/>
                </a:lnTo>
                <a:lnTo>
                  <a:pt x="33" y="22"/>
                </a:lnTo>
                <a:lnTo>
                  <a:pt x="33" y="22"/>
                </a:lnTo>
                <a:lnTo>
                  <a:pt x="27" y="22"/>
                </a:lnTo>
                <a:lnTo>
                  <a:pt x="27" y="22"/>
                </a:lnTo>
                <a:lnTo>
                  <a:pt x="27" y="22"/>
                </a:lnTo>
                <a:lnTo>
                  <a:pt x="22" y="22"/>
                </a:lnTo>
                <a:lnTo>
                  <a:pt x="22" y="22"/>
                </a:lnTo>
                <a:lnTo>
                  <a:pt x="22" y="22"/>
                </a:lnTo>
                <a:lnTo>
                  <a:pt x="16" y="22"/>
                </a:lnTo>
                <a:lnTo>
                  <a:pt x="11" y="22"/>
                </a:lnTo>
                <a:lnTo>
                  <a:pt x="11" y="22"/>
                </a:lnTo>
                <a:lnTo>
                  <a:pt x="11" y="22"/>
                </a:lnTo>
                <a:lnTo>
                  <a:pt x="5" y="16"/>
                </a:lnTo>
                <a:lnTo>
                  <a:pt x="5" y="16"/>
                </a:lnTo>
                <a:lnTo>
                  <a:pt x="5" y="16"/>
                </a:lnTo>
                <a:lnTo>
                  <a:pt x="5" y="16"/>
                </a:lnTo>
                <a:lnTo>
                  <a:pt x="0" y="16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5"/>
                </a:lnTo>
                <a:lnTo>
                  <a:pt x="5" y="5"/>
                </a:lnTo>
                <a:lnTo>
                  <a:pt x="5" y="0"/>
                </a:lnTo>
                <a:lnTo>
                  <a:pt x="5" y="0"/>
                </a:lnTo>
                <a:lnTo>
                  <a:pt x="11" y="0"/>
                </a:lnTo>
                <a:lnTo>
                  <a:pt x="11" y="0"/>
                </a:lnTo>
                <a:lnTo>
                  <a:pt x="16" y="0"/>
                </a:lnTo>
                <a:lnTo>
                  <a:pt x="22" y="0"/>
                </a:lnTo>
                <a:close/>
                <a:moveTo>
                  <a:pt x="22" y="0"/>
                </a:moveTo>
                <a:lnTo>
                  <a:pt x="16" y="0"/>
                </a:lnTo>
                <a:lnTo>
                  <a:pt x="11" y="0"/>
                </a:lnTo>
                <a:lnTo>
                  <a:pt x="11" y="5"/>
                </a:lnTo>
                <a:lnTo>
                  <a:pt x="11" y="5"/>
                </a:lnTo>
                <a:lnTo>
                  <a:pt x="5" y="5"/>
                </a:lnTo>
                <a:lnTo>
                  <a:pt x="5" y="5"/>
                </a:lnTo>
                <a:lnTo>
                  <a:pt x="5" y="5"/>
                </a:lnTo>
                <a:lnTo>
                  <a:pt x="5" y="11"/>
                </a:lnTo>
                <a:lnTo>
                  <a:pt x="5" y="11"/>
                </a:lnTo>
                <a:lnTo>
                  <a:pt x="5" y="11"/>
                </a:lnTo>
                <a:lnTo>
                  <a:pt x="5" y="11"/>
                </a:lnTo>
                <a:lnTo>
                  <a:pt x="5" y="16"/>
                </a:lnTo>
                <a:lnTo>
                  <a:pt x="11" y="16"/>
                </a:lnTo>
                <a:lnTo>
                  <a:pt x="11" y="16"/>
                </a:lnTo>
                <a:lnTo>
                  <a:pt x="16" y="16"/>
                </a:lnTo>
                <a:lnTo>
                  <a:pt x="22" y="16"/>
                </a:lnTo>
                <a:lnTo>
                  <a:pt x="22" y="16"/>
                </a:lnTo>
                <a:lnTo>
                  <a:pt x="27" y="16"/>
                </a:lnTo>
                <a:lnTo>
                  <a:pt x="27" y="16"/>
                </a:lnTo>
                <a:lnTo>
                  <a:pt x="33" y="16"/>
                </a:lnTo>
                <a:lnTo>
                  <a:pt x="33" y="16"/>
                </a:lnTo>
                <a:lnTo>
                  <a:pt x="33" y="11"/>
                </a:lnTo>
                <a:lnTo>
                  <a:pt x="33" y="11"/>
                </a:lnTo>
                <a:lnTo>
                  <a:pt x="33" y="11"/>
                </a:lnTo>
                <a:lnTo>
                  <a:pt x="33" y="11"/>
                </a:lnTo>
                <a:lnTo>
                  <a:pt x="33" y="5"/>
                </a:lnTo>
                <a:lnTo>
                  <a:pt x="33" y="5"/>
                </a:lnTo>
                <a:lnTo>
                  <a:pt x="33" y="5"/>
                </a:lnTo>
                <a:lnTo>
                  <a:pt x="33" y="5"/>
                </a:lnTo>
                <a:lnTo>
                  <a:pt x="27" y="5"/>
                </a:lnTo>
                <a:lnTo>
                  <a:pt x="27" y="5"/>
                </a:lnTo>
                <a:lnTo>
                  <a:pt x="22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8" name=""/>
          <p:cNvSpPr/>
          <p:nvPr/>
        </p:nvSpPr>
        <p:spPr>
          <a:xfrm>
            <a:off x="6216480" y="3587760"/>
            <a:ext cx="25560" cy="60480"/>
          </a:xfrm>
          <a:custGeom>
            <a:avLst/>
            <a:gdLst/>
            <a:ahLst/>
            <a:rect l="l" t="t" r="r" b="b"/>
            <a:pathLst>
              <a:path w="16" h="38">
                <a:moveTo>
                  <a:pt x="6" y="0"/>
                </a:moveTo>
                <a:lnTo>
                  <a:pt x="11" y="0"/>
                </a:lnTo>
                <a:lnTo>
                  <a:pt x="6" y="27"/>
                </a:lnTo>
                <a:lnTo>
                  <a:pt x="6" y="27"/>
                </a:lnTo>
                <a:lnTo>
                  <a:pt x="6" y="27"/>
                </a:lnTo>
                <a:lnTo>
                  <a:pt x="11" y="27"/>
                </a:lnTo>
                <a:lnTo>
                  <a:pt x="11" y="27"/>
                </a:lnTo>
                <a:lnTo>
                  <a:pt x="11" y="27"/>
                </a:lnTo>
                <a:lnTo>
                  <a:pt x="11" y="22"/>
                </a:lnTo>
                <a:lnTo>
                  <a:pt x="16" y="22"/>
                </a:lnTo>
                <a:lnTo>
                  <a:pt x="16" y="22"/>
                </a:lnTo>
                <a:lnTo>
                  <a:pt x="16" y="27"/>
                </a:lnTo>
                <a:lnTo>
                  <a:pt x="11" y="27"/>
                </a:lnTo>
                <a:lnTo>
                  <a:pt x="11" y="27"/>
                </a:lnTo>
                <a:lnTo>
                  <a:pt x="11" y="32"/>
                </a:lnTo>
                <a:lnTo>
                  <a:pt x="6" y="32"/>
                </a:lnTo>
                <a:lnTo>
                  <a:pt x="6" y="32"/>
                </a:lnTo>
                <a:lnTo>
                  <a:pt x="6" y="32"/>
                </a:lnTo>
                <a:lnTo>
                  <a:pt x="6" y="32"/>
                </a:lnTo>
                <a:lnTo>
                  <a:pt x="6" y="38"/>
                </a:lnTo>
                <a:lnTo>
                  <a:pt x="0" y="38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9" name=""/>
          <p:cNvSpPr/>
          <p:nvPr/>
        </p:nvSpPr>
        <p:spPr>
          <a:xfrm>
            <a:off x="6164280" y="3578400"/>
            <a:ext cx="34920" cy="60120"/>
          </a:xfrm>
          <a:custGeom>
            <a:avLst/>
            <a:gdLst/>
            <a:ahLst/>
            <a:rect l="l" t="t" r="r" b="b"/>
            <a:pathLst>
              <a:path w="22" h="38">
                <a:moveTo>
                  <a:pt x="22" y="22"/>
                </a:moveTo>
                <a:lnTo>
                  <a:pt x="22" y="22"/>
                </a:lnTo>
                <a:lnTo>
                  <a:pt x="22" y="28"/>
                </a:lnTo>
                <a:lnTo>
                  <a:pt x="22" y="28"/>
                </a:lnTo>
                <a:lnTo>
                  <a:pt x="22" y="33"/>
                </a:lnTo>
                <a:lnTo>
                  <a:pt x="22" y="33"/>
                </a:lnTo>
                <a:lnTo>
                  <a:pt x="17" y="33"/>
                </a:lnTo>
                <a:lnTo>
                  <a:pt x="17" y="38"/>
                </a:lnTo>
                <a:lnTo>
                  <a:pt x="17" y="38"/>
                </a:lnTo>
                <a:lnTo>
                  <a:pt x="17" y="38"/>
                </a:lnTo>
                <a:lnTo>
                  <a:pt x="11" y="38"/>
                </a:lnTo>
                <a:lnTo>
                  <a:pt x="11" y="38"/>
                </a:lnTo>
                <a:lnTo>
                  <a:pt x="11" y="38"/>
                </a:lnTo>
                <a:lnTo>
                  <a:pt x="6" y="38"/>
                </a:lnTo>
                <a:lnTo>
                  <a:pt x="6" y="38"/>
                </a:lnTo>
                <a:lnTo>
                  <a:pt x="6" y="38"/>
                </a:lnTo>
                <a:lnTo>
                  <a:pt x="6" y="38"/>
                </a:lnTo>
                <a:lnTo>
                  <a:pt x="6" y="38"/>
                </a:lnTo>
                <a:lnTo>
                  <a:pt x="0" y="33"/>
                </a:lnTo>
                <a:lnTo>
                  <a:pt x="0" y="33"/>
                </a:lnTo>
                <a:lnTo>
                  <a:pt x="0" y="33"/>
                </a:lnTo>
                <a:lnTo>
                  <a:pt x="0" y="33"/>
                </a:lnTo>
                <a:lnTo>
                  <a:pt x="0" y="28"/>
                </a:lnTo>
                <a:lnTo>
                  <a:pt x="0" y="28"/>
                </a:lnTo>
                <a:lnTo>
                  <a:pt x="0" y="28"/>
                </a:lnTo>
                <a:lnTo>
                  <a:pt x="0" y="28"/>
                </a:lnTo>
                <a:lnTo>
                  <a:pt x="0" y="22"/>
                </a:lnTo>
                <a:lnTo>
                  <a:pt x="0" y="22"/>
                </a:lnTo>
                <a:lnTo>
                  <a:pt x="0" y="17"/>
                </a:lnTo>
                <a:lnTo>
                  <a:pt x="0" y="17"/>
                </a:lnTo>
                <a:lnTo>
                  <a:pt x="0" y="11"/>
                </a:lnTo>
                <a:lnTo>
                  <a:pt x="0" y="11"/>
                </a:lnTo>
                <a:lnTo>
                  <a:pt x="0" y="6"/>
                </a:lnTo>
                <a:lnTo>
                  <a:pt x="6" y="6"/>
                </a:lnTo>
                <a:lnTo>
                  <a:pt x="6" y="6"/>
                </a:lnTo>
                <a:lnTo>
                  <a:pt x="6" y="6"/>
                </a:lnTo>
                <a:lnTo>
                  <a:pt x="6" y="0"/>
                </a:lnTo>
                <a:lnTo>
                  <a:pt x="11" y="0"/>
                </a:lnTo>
                <a:lnTo>
                  <a:pt x="11" y="0"/>
                </a:lnTo>
                <a:lnTo>
                  <a:pt x="11" y="0"/>
                </a:lnTo>
                <a:lnTo>
                  <a:pt x="17" y="0"/>
                </a:lnTo>
                <a:lnTo>
                  <a:pt x="17" y="0"/>
                </a:lnTo>
                <a:lnTo>
                  <a:pt x="17" y="0"/>
                </a:lnTo>
                <a:lnTo>
                  <a:pt x="22" y="6"/>
                </a:lnTo>
                <a:lnTo>
                  <a:pt x="22" y="6"/>
                </a:lnTo>
                <a:lnTo>
                  <a:pt x="22" y="11"/>
                </a:lnTo>
                <a:lnTo>
                  <a:pt x="22" y="11"/>
                </a:lnTo>
                <a:lnTo>
                  <a:pt x="22" y="17"/>
                </a:lnTo>
                <a:lnTo>
                  <a:pt x="22" y="22"/>
                </a:lnTo>
                <a:close/>
                <a:moveTo>
                  <a:pt x="17" y="22"/>
                </a:moveTo>
                <a:lnTo>
                  <a:pt x="22" y="17"/>
                </a:lnTo>
                <a:lnTo>
                  <a:pt x="22" y="11"/>
                </a:lnTo>
                <a:lnTo>
                  <a:pt x="22" y="11"/>
                </a:lnTo>
                <a:lnTo>
                  <a:pt x="17" y="11"/>
                </a:lnTo>
                <a:lnTo>
                  <a:pt x="17" y="6"/>
                </a:lnTo>
                <a:lnTo>
                  <a:pt x="17" y="6"/>
                </a:lnTo>
                <a:lnTo>
                  <a:pt x="17" y="6"/>
                </a:lnTo>
                <a:lnTo>
                  <a:pt x="11" y="6"/>
                </a:lnTo>
                <a:lnTo>
                  <a:pt x="11" y="6"/>
                </a:lnTo>
                <a:lnTo>
                  <a:pt x="11" y="6"/>
                </a:lnTo>
                <a:lnTo>
                  <a:pt x="11" y="6"/>
                </a:lnTo>
                <a:lnTo>
                  <a:pt x="6" y="6"/>
                </a:lnTo>
                <a:lnTo>
                  <a:pt x="6" y="11"/>
                </a:lnTo>
                <a:lnTo>
                  <a:pt x="6" y="11"/>
                </a:lnTo>
                <a:lnTo>
                  <a:pt x="6" y="17"/>
                </a:lnTo>
                <a:lnTo>
                  <a:pt x="6" y="17"/>
                </a:lnTo>
                <a:lnTo>
                  <a:pt x="6" y="22"/>
                </a:lnTo>
                <a:lnTo>
                  <a:pt x="6" y="28"/>
                </a:lnTo>
                <a:lnTo>
                  <a:pt x="6" y="28"/>
                </a:lnTo>
                <a:lnTo>
                  <a:pt x="6" y="33"/>
                </a:lnTo>
                <a:lnTo>
                  <a:pt x="6" y="33"/>
                </a:lnTo>
                <a:lnTo>
                  <a:pt x="6" y="33"/>
                </a:lnTo>
                <a:lnTo>
                  <a:pt x="11" y="33"/>
                </a:lnTo>
                <a:lnTo>
                  <a:pt x="11" y="33"/>
                </a:lnTo>
                <a:lnTo>
                  <a:pt x="11" y="33"/>
                </a:lnTo>
                <a:lnTo>
                  <a:pt x="11" y="33"/>
                </a:lnTo>
                <a:lnTo>
                  <a:pt x="17" y="33"/>
                </a:lnTo>
                <a:lnTo>
                  <a:pt x="17" y="33"/>
                </a:lnTo>
                <a:lnTo>
                  <a:pt x="17" y="33"/>
                </a:lnTo>
                <a:lnTo>
                  <a:pt x="17" y="28"/>
                </a:lnTo>
                <a:lnTo>
                  <a:pt x="17" y="22"/>
                </a:lnTo>
                <a:lnTo>
                  <a:pt x="17" y="2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0" name=""/>
          <p:cNvSpPr/>
          <p:nvPr/>
        </p:nvSpPr>
        <p:spPr>
          <a:xfrm>
            <a:off x="6121440" y="3570120"/>
            <a:ext cx="34920" cy="60480"/>
          </a:xfrm>
          <a:custGeom>
            <a:avLst/>
            <a:gdLst/>
            <a:ahLst/>
            <a:rect l="l" t="t" r="r" b="b"/>
            <a:pathLst>
              <a:path w="22" h="38">
                <a:moveTo>
                  <a:pt x="22" y="22"/>
                </a:moveTo>
                <a:lnTo>
                  <a:pt x="22" y="27"/>
                </a:lnTo>
                <a:lnTo>
                  <a:pt x="22" y="27"/>
                </a:lnTo>
                <a:lnTo>
                  <a:pt x="22" y="33"/>
                </a:lnTo>
                <a:lnTo>
                  <a:pt x="22" y="33"/>
                </a:lnTo>
                <a:lnTo>
                  <a:pt x="16" y="33"/>
                </a:lnTo>
                <a:lnTo>
                  <a:pt x="16" y="38"/>
                </a:lnTo>
                <a:lnTo>
                  <a:pt x="16" y="38"/>
                </a:lnTo>
                <a:lnTo>
                  <a:pt x="16" y="38"/>
                </a:lnTo>
                <a:lnTo>
                  <a:pt x="16" y="38"/>
                </a:lnTo>
                <a:lnTo>
                  <a:pt x="11" y="38"/>
                </a:lnTo>
                <a:lnTo>
                  <a:pt x="11" y="38"/>
                </a:lnTo>
                <a:lnTo>
                  <a:pt x="11" y="38"/>
                </a:lnTo>
                <a:lnTo>
                  <a:pt x="6" y="38"/>
                </a:lnTo>
                <a:lnTo>
                  <a:pt x="6" y="38"/>
                </a:lnTo>
                <a:lnTo>
                  <a:pt x="6" y="38"/>
                </a:lnTo>
                <a:lnTo>
                  <a:pt x="6" y="38"/>
                </a:lnTo>
                <a:lnTo>
                  <a:pt x="0" y="38"/>
                </a:lnTo>
                <a:lnTo>
                  <a:pt x="0" y="38"/>
                </a:lnTo>
                <a:lnTo>
                  <a:pt x="0" y="33"/>
                </a:lnTo>
                <a:lnTo>
                  <a:pt x="0" y="33"/>
                </a:lnTo>
                <a:lnTo>
                  <a:pt x="0" y="33"/>
                </a:lnTo>
                <a:lnTo>
                  <a:pt x="0" y="33"/>
                </a:lnTo>
                <a:lnTo>
                  <a:pt x="0" y="33"/>
                </a:lnTo>
                <a:lnTo>
                  <a:pt x="0" y="27"/>
                </a:lnTo>
                <a:lnTo>
                  <a:pt x="0" y="27"/>
                </a:lnTo>
                <a:lnTo>
                  <a:pt x="0" y="27"/>
                </a:lnTo>
                <a:lnTo>
                  <a:pt x="0" y="22"/>
                </a:lnTo>
                <a:lnTo>
                  <a:pt x="0" y="22"/>
                </a:lnTo>
                <a:lnTo>
                  <a:pt x="0" y="16"/>
                </a:lnTo>
                <a:lnTo>
                  <a:pt x="0" y="16"/>
                </a:lnTo>
                <a:lnTo>
                  <a:pt x="0" y="11"/>
                </a:lnTo>
                <a:lnTo>
                  <a:pt x="0" y="11"/>
                </a:lnTo>
                <a:lnTo>
                  <a:pt x="0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11" y="5"/>
                </a:lnTo>
                <a:lnTo>
                  <a:pt x="11" y="0"/>
                </a:lnTo>
                <a:lnTo>
                  <a:pt x="11" y="5"/>
                </a:lnTo>
                <a:lnTo>
                  <a:pt x="16" y="5"/>
                </a:lnTo>
                <a:lnTo>
                  <a:pt x="16" y="5"/>
                </a:lnTo>
                <a:lnTo>
                  <a:pt x="22" y="5"/>
                </a:lnTo>
                <a:lnTo>
                  <a:pt x="22" y="5"/>
                </a:lnTo>
                <a:lnTo>
                  <a:pt x="22" y="11"/>
                </a:lnTo>
                <a:lnTo>
                  <a:pt x="22" y="16"/>
                </a:lnTo>
                <a:lnTo>
                  <a:pt x="22" y="16"/>
                </a:lnTo>
                <a:lnTo>
                  <a:pt x="22" y="22"/>
                </a:lnTo>
                <a:close/>
                <a:moveTo>
                  <a:pt x="16" y="22"/>
                </a:moveTo>
                <a:lnTo>
                  <a:pt x="16" y="16"/>
                </a:lnTo>
                <a:lnTo>
                  <a:pt x="16" y="16"/>
                </a:lnTo>
                <a:lnTo>
                  <a:pt x="16" y="11"/>
                </a:lnTo>
                <a:lnTo>
                  <a:pt x="16" y="11"/>
                </a:lnTo>
                <a:lnTo>
                  <a:pt x="16" y="11"/>
                </a:lnTo>
                <a:lnTo>
                  <a:pt x="16" y="5"/>
                </a:lnTo>
                <a:lnTo>
                  <a:pt x="16" y="5"/>
                </a:lnTo>
                <a:lnTo>
                  <a:pt x="11" y="5"/>
                </a:lnTo>
                <a:lnTo>
                  <a:pt x="11" y="5"/>
                </a:lnTo>
                <a:lnTo>
                  <a:pt x="11" y="5"/>
                </a:lnTo>
                <a:lnTo>
                  <a:pt x="11" y="5"/>
                </a:lnTo>
                <a:lnTo>
                  <a:pt x="6" y="11"/>
                </a:lnTo>
                <a:lnTo>
                  <a:pt x="6" y="11"/>
                </a:lnTo>
                <a:lnTo>
                  <a:pt x="6" y="11"/>
                </a:lnTo>
                <a:lnTo>
                  <a:pt x="6" y="16"/>
                </a:lnTo>
                <a:lnTo>
                  <a:pt x="6" y="22"/>
                </a:lnTo>
                <a:lnTo>
                  <a:pt x="6" y="27"/>
                </a:lnTo>
                <a:lnTo>
                  <a:pt x="6" y="27"/>
                </a:lnTo>
                <a:lnTo>
                  <a:pt x="6" y="33"/>
                </a:lnTo>
                <a:lnTo>
                  <a:pt x="6" y="33"/>
                </a:lnTo>
                <a:lnTo>
                  <a:pt x="6" y="33"/>
                </a:lnTo>
                <a:lnTo>
                  <a:pt x="6" y="33"/>
                </a:lnTo>
                <a:lnTo>
                  <a:pt x="6" y="38"/>
                </a:lnTo>
                <a:lnTo>
                  <a:pt x="11" y="38"/>
                </a:lnTo>
                <a:lnTo>
                  <a:pt x="11" y="38"/>
                </a:lnTo>
                <a:lnTo>
                  <a:pt x="11" y="38"/>
                </a:lnTo>
                <a:lnTo>
                  <a:pt x="11" y="33"/>
                </a:lnTo>
                <a:lnTo>
                  <a:pt x="16" y="33"/>
                </a:lnTo>
                <a:lnTo>
                  <a:pt x="16" y="33"/>
                </a:lnTo>
                <a:lnTo>
                  <a:pt x="16" y="27"/>
                </a:lnTo>
                <a:lnTo>
                  <a:pt x="16" y="27"/>
                </a:lnTo>
                <a:lnTo>
                  <a:pt x="16" y="2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1" name=""/>
          <p:cNvSpPr/>
          <p:nvPr/>
        </p:nvSpPr>
        <p:spPr>
          <a:xfrm>
            <a:off x="3914640" y="2098800"/>
            <a:ext cx="50760" cy="52200"/>
          </a:xfrm>
          <a:custGeom>
            <a:avLst/>
            <a:gdLst/>
            <a:ahLst/>
            <a:rect l="l" t="t" r="r" b="b"/>
            <a:pathLst>
              <a:path w="32" h="33">
                <a:moveTo>
                  <a:pt x="27" y="0"/>
                </a:moveTo>
                <a:lnTo>
                  <a:pt x="32" y="6"/>
                </a:lnTo>
                <a:lnTo>
                  <a:pt x="11" y="28"/>
                </a:lnTo>
                <a:lnTo>
                  <a:pt x="11" y="28"/>
                </a:lnTo>
                <a:lnTo>
                  <a:pt x="11" y="28"/>
                </a:lnTo>
                <a:lnTo>
                  <a:pt x="16" y="28"/>
                </a:lnTo>
                <a:lnTo>
                  <a:pt x="16" y="28"/>
                </a:lnTo>
                <a:lnTo>
                  <a:pt x="16" y="28"/>
                </a:lnTo>
                <a:lnTo>
                  <a:pt x="22" y="28"/>
                </a:lnTo>
                <a:lnTo>
                  <a:pt x="22" y="28"/>
                </a:lnTo>
                <a:lnTo>
                  <a:pt x="22" y="28"/>
                </a:lnTo>
                <a:lnTo>
                  <a:pt x="16" y="33"/>
                </a:lnTo>
                <a:lnTo>
                  <a:pt x="16" y="28"/>
                </a:lnTo>
                <a:lnTo>
                  <a:pt x="16" y="28"/>
                </a:lnTo>
                <a:lnTo>
                  <a:pt x="11" y="28"/>
                </a:lnTo>
                <a:lnTo>
                  <a:pt x="11" y="28"/>
                </a:lnTo>
                <a:lnTo>
                  <a:pt x="11" y="28"/>
                </a:lnTo>
                <a:lnTo>
                  <a:pt x="5" y="28"/>
                </a:lnTo>
                <a:lnTo>
                  <a:pt x="5" y="28"/>
                </a:lnTo>
                <a:lnTo>
                  <a:pt x="5" y="28"/>
                </a:lnTo>
                <a:lnTo>
                  <a:pt x="0" y="28"/>
                </a:lnTo>
                <a:lnTo>
                  <a:pt x="27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2" name=""/>
          <p:cNvSpPr/>
          <p:nvPr/>
        </p:nvSpPr>
        <p:spPr>
          <a:xfrm>
            <a:off x="3887640" y="2073240"/>
            <a:ext cx="52560" cy="52560"/>
          </a:xfrm>
          <a:custGeom>
            <a:avLst/>
            <a:gdLst/>
            <a:ahLst/>
            <a:rect l="l" t="t" r="r" b="b"/>
            <a:pathLst>
              <a:path w="33" h="33">
                <a:moveTo>
                  <a:pt x="22" y="22"/>
                </a:moveTo>
                <a:lnTo>
                  <a:pt x="22" y="27"/>
                </a:lnTo>
                <a:lnTo>
                  <a:pt x="17" y="27"/>
                </a:lnTo>
                <a:lnTo>
                  <a:pt x="17" y="27"/>
                </a:lnTo>
                <a:lnTo>
                  <a:pt x="17" y="27"/>
                </a:lnTo>
                <a:lnTo>
                  <a:pt x="11" y="33"/>
                </a:lnTo>
                <a:lnTo>
                  <a:pt x="11" y="33"/>
                </a:lnTo>
                <a:lnTo>
                  <a:pt x="11" y="33"/>
                </a:lnTo>
                <a:lnTo>
                  <a:pt x="6" y="33"/>
                </a:lnTo>
                <a:lnTo>
                  <a:pt x="6" y="33"/>
                </a:lnTo>
                <a:lnTo>
                  <a:pt x="6" y="33"/>
                </a:lnTo>
                <a:lnTo>
                  <a:pt x="6" y="27"/>
                </a:lnTo>
                <a:lnTo>
                  <a:pt x="0" y="27"/>
                </a:lnTo>
                <a:lnTo>
                  <a:pt x="0" y="27"/>
                </a:lnTo>
                <a:lnTo>
                  <a:pt x="0" y="27"/>
                </a:lnTo>
                <a:lnTo>
                  <a:pt x="0" y="27"/>
                </a:lnTo>
                <a:lnTo>
                  <a:pt x="0" y="22"/>
                </a:lnTo>
                <a:lnTo>
                  <a:pt x="0" y="22"/>
                </a:lnTo>
                <a:lnTo>
                  <a:pt x="0" y="22"/>
                </a:lnTo>
                <a:lnTo>
                  <a:pt x="0" y="22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6" y="11"/>
                </a:lnTo>
                <a:lnTo>
                  <a:pt x="6" y="5"/>
                </a:lnTo>
                <a:lnTo>
                  <a:pt x="6" y="5"/>
                </a:lnTo>
                <a:lnTo>
                  <a:pt x="11" y="0"/>
                </a:lnTo>
                <a:lnTo>
                  <a:pt x="11" y="0"/>
                </a:lnTo>
                <a:lnTo>
                  <a:pt x="11" y="0"/>
                </a:lnTo>
                <a:lnTo>
                  <a:pt x="17" y="0"/>
                </a:lnTo>
                <a:lnTo>
                  <a:pt x="17" y="0"/>
                </a:lnTo>
                <a:lnTo>
                  <a:pt x="17" y="0"/>
                </a:lnTo>
                <a:lnTo>
                  <a:pt x="22" y="0"/>
                </a:lnTo>
                <a:lnTo>
                  <a:pt x="22" y="0"/>
                </a:lnTo>
                <a:lnTo>
                  <a:pt x="22" y="0"/>
                </a:lnTo>
                <a:lnTo>
                  <a:pt x="28" y="0"/>
                </a:lnTo>
                <a:lnTo>
                  <a:pt x="28" y="0"/>
                </a:lnTo>
                <a:lnTo>
                  <a:pt x="28" y="0"/>
                </a:lnTo>
                <a:lnTo>
                  <a:pt x="28" y="5"/>
                </a:lnTo>
                <a:lnTo>
                  <a:pt x="33" y="5"/>
                </a:lnTo>
                <a:lnTo>
                  <a:pt x="33" y="11"/>
                </a:lnTo>
                <a:lnTo>
                  <a:pt x="28" y="11"/>
                </a:lnTo>
                <a:lnTo>
                  <a:pt x="28" y="16"/>
                </a:lnTo>
                <a:lnTo>
                  <a:pt x="28" y="16"/>
                </a:lnTo>
                <a:lnTo>
                  <a:pt x="22" y="22"/>
                </a:lnTo>
                <a:close/>
                <a:moveTo>
                  <a:pt x="22" y="22"/>
                </a:moveTo>
                <a:lnTo>
                  <a:pt x="22" y="16"/>
                </a:lnTo>
                <a:lnTo>
                  <a:pt x="22" y="16"/>
                </a:lnTo>
                <a:lnTo>
                  <a:pt x="28" y="11"/>
                </a:lnTo>
                <a:lnTo>
                  <a:pt x="28" y="11"/>
                </a:lnTo>
                <a:lnTo>
                  <a:pt x="28" y="5"/>
                </a:lnTo>
                <a:lnTo>
                  <a:pt x="28" y="5"/>
                </a:lnTo>
                <a:lnTo>
                  <a:pt x="28" y="5"/>
                </a:lnTo>
                <a:lnTo>
                  <a:pt x="22" y="5"/>
                </a:lnTo>
                <a:lnTo>
                  <a:pt x="22" y="0"/>
                </a:lnTo>
                <a:lnTo>
                  <a:pt x="22" y="0"/>
                </a:lnTo>
                <a:lnTo>
                  <a:pt x="22" y="0"/>
                </a:lnTo>
                <a:lnTo>
                  <a:pt x="17" y="0"/>
                </a:lnTo>
                <a:lnTo>
                  <a:pt x="17" y="5"/>
                </a:lnTo>
                <a:lnTo>
                  <a:pt x="17" y="5"/>
                </a:lnTo>
                <a:lnTo>
                  <a:pt x="11" y="5"/>
                </a:lnTo>
                <a:lnTo>
                  <a:pt x="11" y="11"/>
                </a:lnTo>
                <a:lnTo>
                  <a:pt x="6" y="11"/>
                </a:lnTo>
                <a:lnTo>
                  <a:pt x="6" y="16"/>
                </a:lnTo>
                <a:lnTo>
                  <a:pt x="6" y="16"/>
                </a:lnTo>
                <a:lnTo>
                  <a:pt x="0" y="22"/>
                </a:lnTo>
                <a:lnTo>
                  <a:pt x="0" y="22"/>
                </a:lnTo>
                <a:lnTo>
                  <a:pt x="0" y="22"/>
                </a:lnTo>
                <a:lnTo>
                  <a:pt x="6" y="22"/>
                </a:lnTo>
                <a:lnTo>
                  <a:pt x="6" y="27"/>
                </a:lnTo>
                <a:lnTo>
                  <a:pt x="6" y="27"/>
                </a:lnTo>
                <a:lnTo>
                  <a:pt x="6" y="27"/>
                </a:lnTo>
                <a:lnTo>
                  <a:pt x="6" y="27"/>
                </a:lnTo>
                <a:lnTo>
                  <a:pt x="11" y="27"/>
                </a:lnTo>
                <a:lnTo>
                  <a:pt x="11" y="27"/>
                </a:lnTo>
                <a:lnTo>
                  <a:pt x="17" y="27"/>
                </a:lnTo>
                <a:lnTo>
                  <a:pt x="17" y="22"/>
                </a:lnTo>
                <a:lnTo>
                  <a:pt x="22" y="2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3" name=""/>
          <p:cNvSpPr/>
          <p:nvPr/>
        </p:nvSpPr>
        <p:spPr>
          <a:xfrm>
            <a:off x="3854520" y="2038320"/>
            <a:ext cx="50760" cy="52560"/>
          </a:xfrm>
          <a:custGeom>
            <a:avLst/>
            <a:gdLst/>
            <a:ahLst/>
            <a:rect l="l" t="t" r="r" b="b"/>
            <a:pathLst>
              <a:path w="32" h="33">
                <a:moveTo>
                  <a:pt x="21" y="27"/>
                </a:moveTo>
                <a:lnTo>
                  <a:pt x="21" y="27"/>
                </a:lnTo>
                <a:lnTo>
                  <a:pt x="21" y="27"/>
                </a:lnTo>
                <a:lnTo>
                  <a:pt x="16" y="33"/>
                </a:lnTo>
                <a:lnTo>
                  <a:pt x="16" y="33"/>
                </a:lnTo>
                <a:lnTo>
                  <a:pt x="16" y="33"/>
                </a:lnTo>
                <a:lnTo>
                  <a:pt x="11" y="33"/>
                </a:lnTo>
                <a:lnTo>
                  <a:pt x="11" y="33"/>
                </a:lnTo>
                <a:lnTo>
                  <a:pt x="11" y="33"/>
                </a:lnTo>
                <a:lnTo>
                  <a:pt x="5" y="33"/>
                </a:lnTo>
                <a:lnTo>
                  <a:pt x="5" y="33"/>
                </a:lnTo>
                <a:lnTo>
                  <a:pt x="5" y="33"/>
                </a:lnTo>
                <a:lnTo>
                  <a:pt x="0" y="33"/>
                </a:lnTo>
                <a:lnTo>
                  <a:pt x="0" y="27"/>
                </a:lnTo>
                <a:lnTo>
                  <a:pt x="0" y="27"/>
                </a:lnTo>
                <a:lnTo>
                  <a:pt x="0" y="27"/>
                </a:lnTo>
                <a:lnTo>
                  <a:pt x="0" y="27"/>
                </a:lnTo>
                <a:lnTo>
                  <a:pt x="0" y="27"/>
                </a:lnTo>
                <a:lnTo>
                  <a:pt x="0" y="22"/>
                </a:lnTo>
                <a:lnTo>
                  <a:pt x="0" y="22"/>
                </a:lnTo>
                <a:lnTo>
                  <a:pt x="0" y="22"/>
                </a:lnTo>
                <a:lnTo>
                  <a:pt x="0" y="22"/>
                </a:lnTo>
                <a:lnTo>
                  <a:pt x="0" y="17"/>
                </a:lnTo>
                <a:lnTo>
                  <a:pt x="0" y="17"/>
                </a:lnTo>
                <a:lnTo>
                  <a:pt x="0" y="17"/>
                </a:lnTo>
                <a:lnTo>
                  <a:pt x="0" y="17"/>
                </a:lnTo>
                <a:lnTo>
                  <a:pt x="5" y="11"/>
                </a:lnTo>
                <a:lnTo>
                  <a:pt x="5" y="11"/>
                </a:lnTo>
                <a:lnTo>
                  <a:pt x="5" y="11"/>
                </a:lnTo>
                <a:lnTo>
                  <a:pt x="11" y="6"/>
                </a:lnTo>
                <a:lnTo>
                  <a:pt x="11" y="6"/>
                </a:lnTo>
                <a:lnTo>
                  <a:pt x="11" y="6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1" y="0"/>
                </a:lnTo>
                <a:lnTo>
                  <a:pt x="21" y="0"/>
                </a:lnTo>
                <a:lnTo>
                  <a:pt x="21" y="0"/>
                </a:lnTo>
                <a:lnTo>
                  <a:pt x="27" y="0"/>
                </a:lnTo>
                <a:lnTo>
                  <a:pt x="27" y="0"/>
                </a:lnTo>
                <a:lnTo>
                  <a:pt x="27" y="6"/>
                </a:lnTo>
                <a:lnTo>
                  <a:pt x="27" y="6"/>
                </a:lnTo>
                <a:lnTo>
                  <a:pt x="32" y="6"/>
                </a:lnTo>
                <a:lnTo>
                  <a:pt x="32" y="11"/>
                </a:lnTo>
                <a:lnTo>
                  <a:pt x="32" y="11"/>
                </a:lnTo>
                <a:lnTo>
                  <a:pt x="32" y="17"/>
                </a:lnTo>
                <a:lnTo>
                  <a:pt x="27" y="17"/>
                </a:lnTo>
                <a:lnTo>
                  <a:pt x="27" y="22"/>
                </a:lnTo>
                <a:lnTo>
                  <a:pt x="21" y="27"/>
                </a:lnTo>
                <a:close/>
                <a:moveTo>
                  <a:pt x="21" y="22"/>
                </a:moveTo>
                <a:lnTo>
                  <a:pt x="21" y="17"/>
                </a:lnTo>
                <a:lnTo>
                  <a:pt x="27" y="17"/>
                </a:lnTo>
                <a:lnTo>
                  <a:pt x="27" y="17"/>
                </a:lnTo>
                <a:lnTo>
                  <a:pt x="27" y="11"/>
                </a:lnTo>
                <a:lnTo>
                  <a:pt x="27" y="11"/>
                </a:lnTo>
                <a:lnTo>
                  <a:pt x="27" y="11"/>
                </a:lnTo>
                <a:lnTo>
                  <a:pt x="27" y="6"/>
                </a:lnTo>
                <a:lnTo>
                  <a:pt x="27" y="6"/>
                </a:lnTo>
                <a:lnTo>
                  <a:pt x="21" y="6"/>
                </a:lnTo>
                <a:lnTo>
                  <a:pt x="21" y="6"/>
                </a:lnTo>
                <a:lnTo>
                  <a:pt x="21" y="6"/>
                </a:lnTo>
                <a:lnTo>
                  <a:pt x="21" y="6"/>
                </a:lnTo>
                <a:lnTo>
                  <a:pt x="16" y="6"/>
                </a:lnTo>
                <a:lnTo>
                  <a:pt x="16" y="6"/>
                </a:lnTo>
                <a:lnTo>
                  <a:pt x="11" y="11"/>
                </a:lnTo>
                <a:lnTo>
                  <a:pt x="11" y="11"/>
                </a:lnTo>
                <a:lnTo>
                  <a:pt x="5" y="17"/>
                </a:lnTo>
                <a:lnTo>
                  <a:pt x="5" y="17"/>
                </a:lnTo>
                <a:lnTo>
                  <a:pt x="5" y="22"/>
                </a:lnTo>
                <a:lnTo>
                  <a:pt x="5" y="22"/>
                </a:lnTo>
                <a:lnTo>
                  <a:pt x="5" y="22"/>
                </a:lnTo>
                <a:lnTo>
                  <a:pt x="5" y="27"/>
                </a:lnTo>
                <a:lnTo>
                  <a:pt x="5" y="27"/>
                </a:lnTo>
                <a:lnTo>
                  <a:pt x="5" y="27"/>
                </a:lnTo>
                <a:lnTo>
                  <a:pt x="5" y="27"/>
                </a:lnTo>
                <a:lnTo>
                  <a:pt x="5" y="27"/>
                </a:lnTo>
                <a:lnTo>
                  <a:pt x="11" y="27"/>
                </a:lnTo>
                <a:lnTo>
                  <a:pt x="11" y="27"/>
                </a:lnTo>
                <a:lnTo>
                  <a:pt x="11" y="27"/>
                </a:lnTo>
                <a:lnTo>
                  <a:pt x="16" y="27"/>
                </a:lnTo>
                <a:lnTo>
                  <a:pt x="16" y="27"/>
                </a:lnTo>
                <a:lnTo>
                  <a:pt x="21" y="2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4" name=""/>
          <p:cNvSpPr/>
          <p:nvPr/>
        </p:nvSpPr>
        <p:spPr>
          <a:xfrm>
            <a:off x="3403440" y="4064040"/>
            <a:ext cx="60480" cy="25200"/>
          </a:xfrm>
          <a:custGeom>
            <a:avLst/>
            <a:gdLst/>
            <a:ahLst/>
            <a:rect l="l" t="t" r="r" b="b"/>
            <a:pathLst>
              <a:path w="38" h="16">
                <a:moveTo>
                  <a:pt x="38" y="5"/>
                </a:moveTo>
                <a:lnTo>
                  <a:pt x="38" y="10"/>
                </a:lnTo>
                <a:lnTo>
                  <a:pt x="11" y="5"/>
                </a:lnTo>
                <a:lnTo>
                  <a:pt x="11" y="5"/>
                </a:lnTo>
                <a:lnTo>
                  <a:pt x="11" y="5"/>
                </a:lnTo>
                <a:lnTo>
                  <a:pt x="11" y="10"/>
                </a:lnTo>
                <a:lnTo>
                  <a:pt x="11" y="10"/>
                </a:lnTo>
                <a:lnTo>
                  <a:pt x="11" y="10"/>
                </a:lnTo>
                <a:lnTo>
                  <a:pt x="11" y="10"/>
                </a:lnTo>
                <a:lnTo>
                  <a:pt x="11" y="16"/>
                </a:lnTo>
                <a:lnTo>
                  <a:pt x="16" y="16"/>
                </a:lnTo>
                <a:lnTo>
                  <a:pt x="11" y="16"/>
                </a:lnTo>
                <a:lnTo>
                  <a:pt x="11" y="10"/>
                </a:lnTo>
                <a:lnTo>
                  <a:pt x="6" y="10"/>
                </a:lnTo>
                <a:lnTo>
                  <a:pt x="6" y="10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0" y="5"/>
                </a:lnTo>
                <a:lnTo>
                  <a:pt x="0" y="5"/>
                </a:lnTo>
                <a:lnTo>
                  <a:pt x="0" y="0"/>
                </a:lnTo>
                <a:lnTo>
                  <a:pt x="38" y="5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5" name=""/>
          <p:cNvSpPr/>
          <p:nvPr/>
        </p:nvSpPr>
        <p:spPr>
          <a:xfrm>
            <a:off x="3413160" y="4011480"/>
            <a:ext cx="60120" cy="34920"/>
          </a:xfrm>
          <a:custGeom>
            <a:avLst/>
            <a:gdLst/>
            <a:ahLst/>
            <a:rect l="l" t="t" r="r" b="b"/>
            <a:pathLst>
              <a:path w="38" h="22">
                <a:moveTo>
                  <a:pt x="16" y="22"/>
                </a:moveTo>
                <a:lnTo>
                  <a:pt x="10" y="22"/>
                </a:lnTo>
                <a:lnTo>
                  <a:pt x="10" y="22"/>
                </a:lnTo>
                <a:lnTo>
                  <a:pt x="5" y="22"/>
                </a:lnTo>
                <a:lnTo>
                  <a:pt x="5" y="22"/>
                </a:lnTo>
                <a:lnTo>
                  <a:pt x="5" y="22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0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10" y="0"/>
                </a:lnTo>
                <a:lnTo>
                  <a:pt x="10" y="0"/>
                </a:lnTo>
                <a:lnTo>
                  <a:pt x="10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1" y="0"/>
                </a:lnTo>
                <a:lnTo>
                  <a:pt x="21" y="0"/>
                </a:lnTo>
                <a:lnTo>
                  <a:pt x="27" y="0"/>
                </a:lnTo>
                <a:lnTo>
                  <a:pt x="27" y="0"/>
                </a:lnTo>
                <a:lnTo>
                  <a:pt x="32" y="5"/>
                </a:lnTo>
                <a:lnTo>
                  <a:pt x="32" y="5"/>
                </a:lnTo>
                <a:lnTo>
                  <a:pt x="32" y="5"/>
                </a:lnTo>
                <a:lnTo>
                  <a:pt x="32" y="5"/>
                </a:lnTo>
                <a:lnTo>
                  <a:pt x="32" y="5"/>
                </a:lnTo>
                <a:lnTo>
                  <a:pt x="38" y="11"/>
                </a:lnTo>
                <a:lnTo>
                  <a:pt x="38" y="11"/>
                </a:lnTo>
                <a:lnTo>
                  <a:pt x="38" y="11"/>
                </a:lnTo>
                <a:lnTo>
                  <a:pt x="38" y="16"/>
                </a:lnTo>
                <a:lnTo>
                  <a:pt x="32" y="16"/>
                </a:lnTo>
                <a:lnTo>
                  <a:pt x="32" y="22"/>
                </a:lnTo>
                <a:lnTo>
                  <a:pt x="32" y="22"/>
                </a:lnTo>
                <a:lnTo>
                  <a:pt x="27" y="22"/>
                </a:lnTo>
                <a:lnTo>
                  <a:pt x="27" y="22"/>
                </a:lnTo>
                <a:lnTo>
                  <a:pt x="21" y="22"/>
                </a:lnTo>
                <a:lnTo>
                  <a:pt x="16" y="22"/>
                </a:lnTo>
                <a:close/>
                <a:moveTo>
                  <a:pt x="16" y="16"/>
                </a:moveTo>
                <a:lnTo>
                  <a:pt x="21" y="16"/>
                </a:lnTo>
                <a:lnTo>
                  <a:pt x="21" y="16"/>
                </a:lnTo>
                <a:lnTo>
                  <a:pt x="27" y="16"/>
                </a:lnTo>
                <a:lnTo>
                  <a:pt x="27" y="16"/>
                </a:lnTo>
                <a:lnTo>
                  <a:pt x="32" y="16"/>
                </a:lnTo>
                <a:lnTo>
                  <a:pt x="32" y="16"/>
                </a:lnTo>
                <a:lnTo>
                  <a:pt x="32" y="16"/>
                </a:lnTo>
                <a:lnTo>
                  <a:pt x="32" y="11"/>
                </a:lnTo>
                <a:lnTo>
                  <a:pt x="32" y="11"/>
                </a:lnTo>
                <a:lnTo>
                  <a:pt x="32" y="11"/>
                </a:lnTo>
                <a:lnTo>
                  <a:pt x="32" y="11"/>
                </a:lnTo>
                <a:lnTo>
                  <a:pt x="27" y="5"/>
                </a:lnTo>
                <a:lnTo>
                  <a:pt x="27" y="5"/>
                </a:lnTo>
                <a:lnTo>
                  <a:pt x="27" y="5"/>
                </a:lnTo>
                <a:lnTo>
                  <a:pt x="21" y="5"/>
                </a:lnTo>
                <a:lnTo>
                  <a:pt x="16" y="5"/>
                </a:lnTo>
                <a:lnTo>
                  <a:pt x="16" y="5"/>
                </a:lnTo>
                <a:lnTo>
                  <a:pt x="10" y="5"/>
                </a:lnTo>
                <a:lnTo>
                  <a:pt x="5" y="5"/>
                </a:lnTo>
                <a:lnTo>
                  <a:pt x="5" y="5"/>
                </a:lnTo>
                <a:lnTo>
                  <a:pt x="5" y="5"/>
                </a:lnTo>
                <a:lnTo>
                  <a:pt x="5" y="5"/>
                </a:lnTo>
                <a:lnTo>
                  <a:pt x="5" y="11"/>
                </a:lnTo>
                <a:lnTo>
                  <a:pt x="0" y="11"/>
                </a:lnTo>
                <a:lnTo>
                  <a:pt x="0" y="11"/>
                </a:lnTo>
                <a:lnTo>
                  <a:pt x="5" y="11"/>
                </a:lnTo>
                <a:lnTo>
                  <a:pt x="5" y="16"/>
                </a:lnTo>
                <a:lnTo>
                  <a:pt x="5" y="16"/>
                </a:lnTo>
                <a:lnTo>
                  <a:pt x="5" y="16"/>
                </a:lnTo>
                <a:lnTo>
                  <a:pt x="10" y="16"/>
                </a:lnTo>
                <a:lnTo>
                  <a:pt x="10" y="16"/>
                </a:lnTo>
                <a:lnTo>
                  <a:pt x="16" y="16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6" name=""/>
          <p:cNvSpPr/>
          <p:nvPr/>
        </p:nvSpPr>
        <p:spPr>
          <a:xfrm>
            <a:off x="3413160" y="3968640"/>
            <a:ext cx="60120" cy="33480"/>
          </a:xfrm>
          <a:custGeom>
            <a:avLst/>
            <a:gdLst/>
            <a:ahLst/>
            <a:rect l="l" t="t" r="r" b="b"/>
            <a:pathLst>
              <a:path w="38" h="21">
                <a:moveTo>
                  <a:pt x="21" y="21"/>
                </a:moveTo>
                <a:lnTo>
                  <a:pt x="16" y="21"/>
                </a:lnTo>
                <a:lnTo>
                  <a:pt x="10" y="21"/>
                </a:lnTo>
                <a:lnTo>
                  <a:pt x="10" y="21"/>
                </a:lnTo>
                <a:lnTo>
                  <a:pt x="10" y="21"/>
                </a:lnTo>
                <a:lnTo>
                  <a:pt x="5" y="16"/>
                </a:lnTo>
                <a:lnTo>
                  <a:pt x="5" y="16"/>
                </a:lnTo>
                <a:lnTo>
                  <a:pt x="5" y="16"/>
                </a:lnTo>
                <a:lnTo>
                  <a:pt x="5" y="16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5"/>
                </a:lnTo>
                <a:lnTo>
                  <a:pt x="0" y="5"/>
                </a:lnTo>
                <a:lnTo>
                  <a:pt x="5" y="5"/>
                </a:lnTo>
                <a:lnTo>
                  <a:pt x="5" y="5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10" y="0"/>
                </a:lnTo>
                <a:lnTo>
                  <a:pt x="10" y="0"/>
                </a:lnTo>
                <a:lnTo>
                  <a:pt x="10" y="0"/>
                </a:lnTo>
                <a:lnTo>
                  <a:pt x="10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1" y="0"/>
                </a:lnTo>
                <a:lnTo>
                  <a:pt x="27" y="0"/>
                </a:lnTo>
                <a:lnTo>
                  <a:pt x="27" y="0"/>
                </a:lnTo>
                <a:lnTo>
                  <a:pt x="27" y="0"/>
                </a:lnTo>
                <a:lnTo>
                  <a:pt x="32" y="0"/>
                </a:lnTo>
                <a:lnTo>
                  <a:pt x="32" y="0"/>
                </a:lnTo>
                <a:lnTo>
                  <a:pt x="32" y="5"/>
                </a:lnTo>
                <a:lnTo>
                  <a:pt x="38" y="5"/>
                </a:lnTo>
                <a:lnTo>
                  <a:pt x="38" y="5"/>
                </a:lnTo>
                <a:lnTo>
                  <a:pt x="38" y="5"/>
                </a:lnTo>
                <a:lnTo>
                  <a:pt x="38" y="11"/>
                </a:lnTo>
                <a:lnTo>
                  <a:pt x="38" y="11"/>
                </a:lnTo>
                <a:lnTo>
                  <a:pt x="38" y="11"/>
                </a:lnTo>
                <a:lnTo>
                  <a:pt x="38" y="16"/>
                </a:lnTo>
                <a:lnTo>
                  <a:pt x="38" y="16"/>
                </a:lnTo>
                <a:lnTo>
                  <a:pt x="38" y="16"/>
                </a:lnTo>
                <a:lnTo>
                  <a:pt x="32" y="21"/>
                </a:lnTo>
                <a:lnTo>
                  <a:pt x="32" y="21"/>
                </a:lnTo>
                <a:lnTo>
                  <a:pt x="27" y="21"/>
                </a:lnTo>
                <a:lnTo>
                  <a:pt x="21" y="21"/>
                </a:lnTo>
                <a:lnTo>
                  <a:pt x="21" y="21"/>
                </a:lnTo>
                <a:close/>
                <a:moveTo>
                  <a:pt x="21" y="16"/>
                </a:moveTo>
                <a:lnTo>
                  <a:pt x="21" y="16"/>
                </a:lnTo>
                <a:lnTo>
                  <a:pt x="27" y="16"/>
                </a:lnTo>
                <a:lnTo>
                  <a:pt x="27" y="16"/>
                </a:lnTo>
                <a:lnTo>
                  <a:pt x="32" y="16"/>
                </a:lnTo>
                <a:lnTo>
                  <a:pt x="32" y="16"/>
                </a:lnTo>
                <a:lnTo>
                  <a:pt x="32" y="16"/>
                </a:lnTo>
                <a:lnTo>
                  <a:pt x="32" y="11"/>
                </a:lnTo>
                <a:lnTo>
                  <a:pt x="32" y="11"/>
                </a:lnTo>
                <a:lnTo>
                  <a:pt x="32" y="11"/>
                </a:lnTo>
                <a:lnTo>
                  <a:pt x="32" y="11"/>
                </a:lnTo>
                <a:lnTo>
                  <a:pt x="32" y="5"/>
                </a:lnTo>
                <a:lnTo>
                  <a:pt x="32" y="5"/>
                </a:lnTo>
                <a:lnTo>
                  <a:pt x="32" y="5"/>
                </a:lnTo>
                <a:lnTo>
                  <a:pt x="27" y="5"/>
                </a:lnTo>
                <a:lnTo>
                  <a:pt x="27" y="5"/>
                </a:lnTo>
                <a:lnTo>
                  <a:pt x="21" y="5"/>
                </a:lnTo>
                <a:lnTo>
                  <a:pt x="16" y="5"/>
                </a:lnTo>
                <a:lnTo>
                  <a:pt x="10" y="5"/>
                </a:lnTo>
                <a:lnTo>
                  <a:pt x="10" y="5"/>
                </a:lnTo>
                <a:lnTo>
                  <a:pt x="10" y="5"/>
                </a:lnTo>
                <a:lnTo>
                  <a:pt x="5" y="5"/>
                </a:lnTo>
                <a:lnTo>
                  <a:pt x="5" y="5"/>
                </a:lnTo>
                <a:lnTo>
                  <a:pt x="5" y="5"/>
                </a:lnTo>
                <a:lnTo>
                  <a:pt x="5" y="11"/>
                </a:lnTo>
                <a:lnTo>
                  <a:pt x="5" y="11"/>
                </a:lnTo>
                <a:lnTo>
                  <a:pt x="5" y="11"/>
                </a:lnTo>
                <a:lnTo>
                  <a:pt x="5" y="11"/>
                </a:lnTo>
                <a:lnTo>
                  <a:pt x="5" y="16"/>
                </a:lnTo>
                <a:lnTo>
                  <a:pt x="10" y="16"/>
                </a:lnTo>
                <a:lnTo>
                  <a:pt x="10" y="16"/>
                </a:lnTo>
                <a:lnTo>
                  <a:pt x="16" y="16"/>
                </a:lnTo>
                <a:lnTo>
                  <a:pt x="21" y="16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7" name=""/>
          <p:cNvSpPr/>
          <p:nvPr/>
        </p:nvSpPr>
        <p:spPr>
          <a:xfrm>
            <a:off x="5965920" y="4340160"/>
            <a:ext cx="52200" cy="25560"/>
          </a:xfrm>
          <a:custGeom>
            <a:avLst/>
            <a:gdLst/>
            <a:ahLst/>
            <a:rect l="l" t="t" r="r" b="b"/>
            <a:pathLst>
              <a:path w="33" h="16">
                <a:moveTo>
                  <a:pt x="0" y="16"/>
                </a:moveTo>
                <a:lnTo>
                  <a:pt x="0" y="11"/>
                </a:lnTo>
                <a:lnTo>
                  <a:pt x="27" y="5"/>
                </a:lnTo>
                <a:lnTo>
                  <a:pt x="27" y="5"/>
                </a:lnTo>
                <a:lnTo>
                  <a:pt x="27" y="5"/>
                </a:lnTo>
                <a:lnTo>
                  <a:pt x="22" y="5"/>
                </a:lnTo>
                <a:lnTo>
                  <a:pt x="22" y="5"/>
                </a:lnTo>
                <a:lnTo>
                  <a:pt x="22" y="0"/>
                </a:lnTo>
                <a:lnTo>
                  <a:pt x="22" y="0"/>
                </a:lnTo>
                <a:lnTo>
                  <a:pt x="22" y="0"/>
                </a:lnTo>
                <a:lnTo>
                  <a:pt x="22" y="0"/>
                </a:lnTo>
                <a:lnTo>
                  <a:pt x="22" y="0"/>
                </a:lnTo>
                <a:lnTo>
                  <a:pt x="27" y="0"/>
                </a:lnTo>
                <a:lnTo>
                  <a:pt x="27" y="0"/>
                </a:lnTo>
                <a:lnTo>
                  <a:pt x="27" y="5"/>
                </a:lnTo>
                <a:lnTo>
                  <a:pt x="27" y="5"/>
                </a:lnTo>
                <a:lnTo>
                  <a:pt x="33" y="5"/>
                </a:lnTo>
                <a:lnTo>
                  <a:pt x="33" y="5"/>
                </a:lnTo>
                <a:lnTo>
                  <a:pt x="33" y="5"/>
                </a:lnTo>
                <a:lnTo>
                  <a:pt x="33" y="5"/>
                </a:lnTo>
                <a:lnTo>
                  <a:pt x="33" y="11"/>
                </a:lnTo>
                <a:lnTo>
                  <a:pt x="0" y="16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8" name=""/>
          <p:cNvSpPr/>
          <p:nvPr/>
        </p:nvSpPr>
        <p:spPr>
          <a:xfrm>
            <a:off x="5965920" y="4375080"/>
            <a:ext cx="60120" cy="42840"/>
          </a:xfrm>
          <a:custGeom>
            <a:avLst/>
            <a:gdLst/>
            <a:ahLst/>
            <a:rect l="l" t="t" r="r" b="b"/>
            <a:pathLst>
              <a:path w="38" h="27">
                <a:moveTo>
                  <a:pt x="16" y="0"/>
                </a:moveTo>
                <a:lnTo>
                  <a:pt x="22" y="0"/>
                </a:lnTo>
                <a:lnTo>
                  <a:pt x="22" y="0"/>
                </a:lnTo>
                <a:lnTo>
                  <a:pt x="27" y="0"/>
                </a:lnTo>
                <a:lnTo>
                  <a:pt x="27" y="0"/>
                </a:lnTo>
                <a:lnTo>
                  <a:pt x="27" y="5"/>
                </a:lnTo>
                <a:lnTo>
                  <a:pt x="33" y="5"/>
                </a:lnTo>
                <a:lnTo>
                  <a:pt x="33" y="5"/>
                </a:lnTo>
                <a:lnTo>
                  <a:pt x="33" y="5"/>
                </a:lnTo>
                <a:lnTo>
                  <a:pt x="33" y="5"/>
                </a:lnTo>
                <a:lnTo>
                  <a:pt x="38" y="11"/>
                </a:lnTo>
                <a:lnTo>
                  <a:pt x="38" y="11"/>
                </a:lnTo>
                <a:lnTo>
                  <a:pt x="38" y="11"/>
                </a:lnTo>
                <a:lnTo>
                  <a:pt x="38" y="16"/>
                </a:lnTo>
                <a:lnTo>
                  <a:pt x="38" y="16"/>
                </a:lnTo>
                <a:lnTo>
                  <a:pt x="38" y="16"/>
                </a:lnTo>
                <a:lnTo>
                  <a:pt x="38" y="16"/>
                </a:lnTo>
                <a:lnTo>
                  <a:pt x="38" y="16"/>
                </a:lnTo>
                <a:lnTo>
                  <a:pt x="33" y="22"/>
                </a:lnTo>
                <a:lnTo>
                  <a:pt x="33" y="22"/>
                </a:lnTo>
                <a:lnTo>
                  <a:pt x="33" y="22"/>
                </a:lnTo>
                <a:lnTo>
                  <a:pt x="33" y="22"/>
                </a:lnTo>
                <a:lnTo>
                  <a:pt x="33" y="22"/>
                </a:lnTo>
                <a:lnTo>
                  <a:pt x="27" y="22"/>
                </a:lnTo>
                <a:lnTo>
                  <a:pt x="27" y="22"/>
                </a:lnTo>
                <a:lnTo>
                  <a:pt x="27" y="27"/>
                </a:lnTo>
                <a:lnTo>
                  <a:pt x="22" y="27"/>
                </a:lnTo>
                <a:lnTo>
                  <a:pt x="22" y="27"/>
                </a:lnTo>
                <a:lnTo>
                  <a:pt x="22" y="27"/>
                </a:lnTo>
                <a:lnTo>
                  <a:pt x="16" y="27"/>
                </a:lnTo>
                <a:lnTo>
                  <a:pt x="11" y="27"/>
                </a:lnTo>
                <a:lnTo>
                  <a:pt x="11" y="27"/>
                </a:lnTo>
                <a:lnTo>
                  <a:pt x="11" y="27"/>
                </a:lnTo>
                <a:lnTo>
                  <a:pt x="5" y="27"/>
                </a:lnTo>
                <a:lnTo>
                  <a:pt x="5" y="22"/>
                </a:lnTo>
                <a:lnTo>
                  <a:pt x="5" y="22"/>
                </a:lnTo>
                <a:lnTo>
                  <a:pt x="0" y="22"/>
                </a:lnTo>
                <a:lnTo>
                  <a:pt x="0" y="22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5"/>
                </a:lnTo>
                <a:lnTo>
                  <a:pt x="5" y="5"/>
                </a:lnTo>
                <a:lnTo>
                  <a:pt x="11" y="5"/>
                </a:lnTo>
                <a:lnTo>
                  <a:pt x="11" y="0"/>
                </a:lnTo>
                <a:lnTo>
                  <a:pt x="16" y="0"/>
                </a:lnTo>
                <a:close/>
                <a:moveTo>
                  <a:pt x="16" y="5"/>
                </a:moveTo>
                <a:lnTo>
                  <a:pt x="11" y="5"/>
                </a:lnTo>
                <a:lnTo>
                  <a:pt x="11" y="5"/>
                </a:lnTo>
                <a:lnTo>
                  <a:pt x="5" y="11"/>
                </a:lnTo>
                <a:lnTo>
                  <a:pt x="5" y="11"/>
                </a:lnTo>
                <a:lnTo>
                  <a:pt x="5" y="11"/>
                </a:lnTo>
                <a:lnTo>
                  <a:pt x="5" y="11"/>
                </a:lnTo>
                <a:lnTo>
                  <a:pt x="5" y="16"/>
                </a:lnTo>
                <a:lnTo>
                  <a:pt x="5" y="16"/>
                </a:lnTo>
                <a:lnTo>
                  <a:pt x="5" y="16"/>
                </a:lnTo>
                <a:lnTo>
                  <a:pt x="5" y="16"/>
                </a:lnTo>
                <a:lnTo>
                  <a:pt x="5" y="16"/>
                </a:lnTo>
                <a:lnTo>
                  <a:pt x="5" y="22"/>
                </a:lnTo>
                <a:lnTo>
                  <a:pt x="11" y="22"/>
                </a:lnTo>
                <a:lnTo>
                  <a:pt x="11" y="22"/>
                </a:lnTo>
                <a:lnTo>
                  <a:pt x="16" y="22"/>
                </a:lnTo>
                <a:lnTo>
                  <a:pt x="16" y="22"/>
                </a:lnTo>
                <a:lnTo>
                  <a:pt x="22" y="22"/>
                </a:lnTo>
                <a:lnTo>
                  <a:pt x="27" y="22"/>
                </a:lnTo>
                <a:lnTo>
                  <a:pt x="27" y="16"/>
                </a:lnTo>
                <a:lnTo>
                  <a:pt x="33" y="16"/>
                </a:lnTo>
                <a:lnTo>
                  <a:pt x="33" y="16"/>
                </a:lnTo>
                <a:lnTo>
                  <a:pt x="33" y="16"/>
                </a:lnTo>
                <a:lnTo>
                  <a:pt x="33" y="16"/>
                </a:lnTo>
                <a:lnTo>
                  <a:pt x="33" y="11"/>
                </a:lnTo>
                <a:lnTo>
                  <a:pt x="33" y="11"/>
                </a:lnTo>
                <a:lnTo>
                  <a:pt x="33" y="11"/>
                </a:lnTo>
                <a:lnTo>
                  <a:pt x="33" y="11"/>
                </a:lnTo>
                <a:lnTo>
                  <a:pt x="33" y="5"/>
                </a:lnTo>
                <a:lnTo>
                  <a:pt x="27" y="5"/>
                </a:lnTo>
                <a:lnTo>
                  <a:pt x="27" y="5"/>
                </a:lnTo>
                <a:lnTo>
                  <a:pt x="22" y="5"/>
                </a:lnTo>
                <a:lnTo>
                  <a:pt x="16" y="5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9" name=""/>
          <p:cNvSpPr/>
          <p:nvPr/>
        </p:nvSpPr>
        <p:spPr>
          <a:xfrm>
            <a:off x="5965920" y="4425840"/>
            <a:ext cx="60120" cy="34920"/>
          </a:xfrm>
          <a:custGeom>
            <a:avLst/>
            <a:gdLst/>
            <a:ahLst/>
            <a:rect l="l" t="t" r="r" b="b"/>
            <a:pathLst>
              <a:path w="38" h="22">
                <a:moveTo>
                  <a:pt x="22" y="0"/>
                </a:moveTo>
                <a:lnTo>
                  <a:pt x="22" y="0"/>
                </a:lnTo>
                <a:lnTo>
                  <a:pt x="27" y="0"/>
                </a:lnTo>
                <a:lnTo>
                  <a:pt x="27" y="0"/>
                </a:lnTo>
                <a:lnTo>
                  <a:pt x="33" y="0"/>
                </a:lnTo>
                <a:lnTo>
                  <a:pt x="33" y="0"/>
                </a:lnTo>
                <a:lnTo>
                  <a:pt x="33" y="0"/>
                </a:lnTo>
                <a:lnTo>
                  <a:pt x="33" y="0"/>
                </a:lnTo>
                <a:lnTo>
                  <a:pt x="38" y="0"/>
                </a:lnTo>
                <a:lnTo>
                  <a:pt x="38" y="0"/>
                </a:lnTo>
                <a:lnTo>
                  <a:pt x="38" y="6"/>
                </a:lnTo>
                <a:lnTo>
                  <a:pt x="38" y="6"/>
                </a:lnTo>
                <a:lnTo>
                  <a:pt x="38" y="6"/>
                </a:lnTo>
                <a:lnTo>
                  <a:pt x="38" y="11"/>
                </a:lnTo>
                <a:lnTo>
                  <a:pt x="38" y="11"/>
                </a:lnTo>
                <a:lnTo>
                  <a:pt x="38" y="11"/>
                </a:lnTo>
                <a:lnTo>
                  <a:pt x="38" y="11"/>
                </a:lnTo>
                <a:lnTo>
                  <a:pt x="38" y="17"/>
                </a:lnTo>
                <a:lnTo>
                  <a:pt x="38" y="17"/>
                </a:lnTo>
                <a:lnTo>
                  <a:pt x="38" y="17"/>
                </a:lnTo>
                <a:lnTo>
                  <a:pt x="38" y="17"/>
                </a:lnTo>
                <a:lnTo>
                  <a:pt x="33" y="17"/>
                </a:lnTo>
                <a:lnTo>
                  <a:pt x="33" y="17"/>
                </a:lnTo>
                <a:lnTo>
                  <a:pt x="33" y="22"/>
                </a:lnTo>
                <a:lnTo>
                  <a:pt x="33" y="22"/>
                </a:lnTo>
                <a:lnTo>
                  <a:pt x="27" y="22"/>
                </a:lnTo>
                <a:lnTo>
                  <a:pt x="27" y="22"/>
                </a:lnTo>
                <a:lnTo>
                  <a:pt x="22" y="22"/>
                </a:lnTo>
                <a:lnTo>
                  <a:pt x="22" y="22"/>
                </a:lnTo>
                <a:lnTo>
                  <a:pt x="16" y="22"/>
                </a:lnTo>
                <a:lnTo>
                  <a:pt x="16" y="22"/>
                </a:lnTo>
                <a:lnTo>
                  <a:pt x="11" y="22"/>
                </a:lnTo>
                <a:lnTo>
                  <a:pt x="11" y="22"/>
                </a:lnTo>
                <a:lnTo>
                  <a:pt x="11" y="22"/>
                </a:lnTo>
                <a:lnTo>
                  <a:pt x="5" y="22"/>
                </a:lnTo>
                <a:lnTo>
                  <a:pt x="5" y="17"/>
                </a:lnTo>
                <a:lnTo>
                  <a:pt x="5" y="17"/>
                </a:lnTo>
                <a:lnTo>
                  <a:pt x="5" y="17"/>
                </a:lnTo>
                <a:lnTo>
                  <a:pt x="5" y="17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6"/>
                </a:lnTo>
                <a:lnTo>
                  <a:pt x="5" y="6"/>
                </a:lnTo>
                <a:lnTo>
                  <a:pt x="5" y="0"/>
                </a:lnTo>
                <a:lnTo>
                  <a:pt x="5" y="0"/>
                </a:lnTo>
                <a:lnTo>
                  <a:pt x="11" y="0"/>
                </a:lnTo>
                <a:lnTo>
                  <a:pt x="16" y="0"/>
                </a:lnTo>
                <a:lnTo>
                  <a:pt x="22" y="0"/>
                </a:lnTo>
                <a:close/>
                <a:moveTo>
                  <a:pt x="22" y="0"/>
                </a:moveTo>
                <a:lnTo>
                  <a:pt x="16" y="0"/>
                </a:lnTo>
                <a:lnTo>
                  <a:pt x="11" y="6"/>
                </a:lnTo>
                <a:lnTo>
                  <a:pt x="11" y="6"/>
                </a:lnTo>
                <a:lnTo>
                  <a:pt x="11" y="6"/>
                </a:lnTo>
                <a:lnTo>
                  <a:pt x="5" y="6"/>
                </a:lnTo>
                <a:lnTo>
                  <a:pt x="5" y="6"/>
                </a:lnTo>
                <a:lnTo>
                  <a:pt x="5" y="11"/>
                </a:lnTo>
                <a:lnTo>
                  <a:pt x="5" y="11"/>
                </a:lnTo>
                <a:lnTo>
                  <a:pt x="5" y="11"/>
                </a:lnTo>
                <a:lnTo>
                  <a:pt x="5" y="11"/>
                </a:lnTo>
                <a:lnTo>
                  <a:pt x="5" y="17"/>
                </a:lnTo>
                <a:lnTo>
                  <a:pt x="11" y="17"/>
                </a:lnTo>
                <a:lnTo>
                  <a:pt x="11" y="17"/>
                </a:lnTo>
                <a:lnTo>
                  <a:pt x="16" y="17"/>
                </a:lnTo>
                <a:lnTo>
                  <a:pt x="16" y="17"/>
                </a:lnTo>
                <a:lnTo>
                  <a:pt x="22" y="17"/>
                </a:lnTo>
                <a:lnTo>
                  <a:pt x="27" y="17"/>
                </a:lnTo>
                <a:lnTo>
                  <a:pt x="27" y="17"/>
                </a:lnTo>
                <a:lnTo>
                  <a:pt x="33" y="17"/>
                </a:lnTo>
                <a:lnTo>
                  <a:pt x="33" y="17"/>
                </a:lnTo>
                <a:lnTo>
                  <a:pt x="33" y="11"/>
                </a:lnTo>
                <a:lnTo>
                  <a:pt x="33" y="11"/>
                </a:lnTo>
                <a:lnTo>
                  <a:pt x="38" y="11"/>
                </a:lnTo>
                <a:lnTo>
                  <a:pt x="38" y="6"/>
                </a:lnTo>
                <a:lnTo>
                  <a:pt x="33" y="6"/>
                </a:lnTo>
                <a:lnTo>
                  <a:pt x="33" y="6"/>
                </a:lnTo>
                <a:lnTo>
                  <a:pt x="33" y="6"/>
                </a:lnTo>
                <a:lnTo>
                  <a:pt x="33" y="6"/>
                </a:lnTo>
                <a:lnTo>
                  <a:pt x="33" y="0"/>
                </a:lnTo>
                <a:lnTo>
                  <a:pt x="27" y="0"/>
                </a:lnTo>
                <a:lnTo>
                  <a:pt x="22" y="0"/>
                </a:lnTo>
                <a:lnTo>
                  <a:pt x="22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0" name=""/>
          <p:cNvSpPr/>
          <p:nvPr/>
        </p:nvSpPr>
        <p:spPr>
          <a:xfrm>
            <a:off x="5359320" y="4219560"/>
            <a:ext cx="60480" cy="25560"/>
          </a:xfrm>
          <a:custGeom>
            <a:avLst/>
            <a:gdLst/>
            <a:ahLst/>
            <a:rect l="l" t="t" r="r" b="b"/>
            <a:pathLst>
              <a:path w="38" h="16">
                <a:moveTo>
                  <a:pt x="0" y="16"/>
                </a:moveTo>
                <a:lnTo>
                  <a:pt x="0" y="11"/>
                </a:lnTo>
                <a:lnTo>
                  <a:pt x="28" y="11"/>
                </a:lnTo>
                <a:lnTo>
                  <a:pt x="28" y="5"/>
                </a:lnTo>
                <a:lnTo>
                  <a:pt x="28" y="5"/>
                </a:lnTo>
                <a:lnTo>
                  <a:pt x="28" y="5"/>
                </a:lnTo>
                <a:lnTo>
                  <a:pt x="22" y="5"/>
                </a:lnTo>
                <a:lnTo>
                  <a:pt x="22" y="5"/>
                </a:lnTo>
                <a:lnTo>
                  <a:pt x="22" y="0"/>
                </a:lnTo>
                <a:lnTo>
                  <a:pt x="22" y="0"/>
                </a:lnTo>
                <a:lnTo>
                  <a:pt x="22" y="0"/>
                </a:lnTo>
                <a:lnTo>
                  <a:pt x="28" y="0"/>
                </a:lnTo>
                <a:lnTo>
                  <a:pt x="28" y="0"/>
                </a:lnTo>
                <a:lnTo>
                  <a:pt x="28" y="5"/>
                </a:lnTo>
                <a:lnTo>
                  <a:pt x="28" y="5"/>
                </a:lnTo>
                <a:lnTo>
                  <a:pt x="33" y="5"/>
                </a:lnTo>
                <a:lnTo>
                  <a:pt x="33" y="5"/>
                </a:lnTo>
                <a:lnTo>
                  <a:pt x="33" y="5"/>
                </a:lnTo>
                <a:lnTo>
                  <a:pt x="33" y="11"/>
                </a:lnTo>
                <a:lnTo>
                  <a:pt x="38" y="11"/>
                </a:lnTo>
                <a:lnTo>
                  <a:pt x="38" y="11"/>
                </a:lnTo>
                <a:lnTo>
                  <a:pt x="0" y="16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1" name=""/>
          <p:cNvSpPr/>
          <p:nvPr/>
        </p:nvSpPr>
        <p:spPr>
          <a:xfrm>
            <a:off x="5359320" y="4262400"/>
            <a:ext cx="60480" cy="34920"/>
          </a:xfrm>
          <a:custGeom>
            <a:avLst/>
            <a:gdLst/>
            <a:ahLst/>
            <a:rect l="l" t="t" r="r" b="b"/>
            <a:pathLst>
              <a:path w="38" h="22">
                <a:moveTo>
                  <a:pt x="22" y="0"/>
                </a:moveTo>
                <a:lnTo>
                  <a:pt x="22" y="0"/>
                </a:lnTo>
                <a:lnTo>
                  <a:pt x="28" y="0"/>
                </a:lnTo>
                <a:lnTo>
                  <a:pt x="28" y="0"/>
                </a:lnTo>
                <a:lnTo>
                  <a:pt x="28" y="0"/>
                </a:lnTo>
                <a:lnTo>
                  <a:pt x="33" y="0"/>
                </a:lnTo>
                <a:lnTo>
                  <a:pt x="33" y="0"/>
                </a:lnTo>
                <a:lnTo>
                  <a:pt x="33" y="0"/>
                </a:lnTo>
                <a:lnTo>
                  <a:pt x="38" y="0"/>
                </a:lnTo>
                <a:lnTo>
                  <a:pt x="38" y="5"/>
                </a:lnTo>
                <a:lnTo>
                  <a:pt x="38" y="5"/>
                </a:lnTo>
                <a:lnTo>
                  <a:pt x="38" y="5"/>
                </a:lnTo>
                <a:lnTo>
                  <a:pt x="38" y="11"/>
                </a:lnTo>
                <a:lnTo>
                  <a:pt x="38" y="11"/>
                </a:lnTo>
                <a:lnTo>
                  <a:pt x="38" y="11"/>
                </a:lnTo>
                <a:lnTo>
                  <a:pt x="38" y="11"/>
                </a:lnTo>
                <a:lnTo>
                  <a:pt x="38" y="16"/>
                </a:lnTo>
                <a:lnTo>
                  <a:pt x="38" y="16"/>
                </a:lnTo>
                <a:lnTo>
                  <a:pt x="38" y="16"/>
                </a:lnTo>
                <a:lnTo>
                  <a:pt x="38" y="16"/>
                </a:lnTo>
                <a:lnTo>
                  <a:pt x="38" y="16"/>
                </a:lnTo>
                <a:lnTo>
                  <a:pt x="33" y="16"/>
                </a:lnTo>
                <a:lnTo>
                  <a:pt x="33" y="22"/>
                </a:lnTo>
                <a:lnTo>
                  <a:pt x="33" y="22"/>
                </a:lnTo>
                <a:lnTo>
                  <a:pt x="33" y="22"/>
                </a:lnTo>
                <a:lnTo>
                  <a:pt x="28" y="22"/>
                </a:lnTo>
                <a:lnTo>
                  <a:pt x="28" y="22"/>
                </a:lnTo>
                <a:lnTo>
                  <a:pt x="22" y="22"/>
                </a:lnTo>
                <a:lnTo>
                  <a:pt x="22" y="22"/>
                </a:lnTo>
                <a:lnTo>
                  <a:pt x="17" y="22"/>
                </a:lnTo>
                <a:lnTo>
                  <a:pt x="17" y="22"/>
                </a:lnTo>
                <a:lnTo>
                  <a:pt x="11" y="22"/>
                </a:lnTo>
                <a:lnTo>
                  <a:pt x="11" y="22"/>
                </a:lnTo>
                <a:lnTo>
                  <a:pt x="11" y="22"/>
                </a:lnTo>
                <a:lnTo>
                  <a:pt x="6" y="22"/>
                </a:lnTo>
                <a:lnTo>
                  <a:pt x="6" y="22"/>
                </a:lnTo>
                <a:lnTo>
                  <a:pt x="6" y="16"/>
                </a:lnTo>
                <a:lnTo>
                  <a:pt x="6" y="16"/>
                </a:lnTo>
                <a:lnTo>
                  <a:pt x="6" y="16"/>
                </a:lnTo>
                <a:lnTo>
                  <a:pt x="0" y="16"/>
                </a:lnTo>
                <a:lnTo>
                  <a:pt x="0" y="11"/>
                </a:lnTo>
                <a:lnTo>
                  <a:pt x="0" y="11"/>
                </a:lnTo>
                <a:lnTo>
                  <a:pt x="0" y="5"/>
                </a:lnTo>
                <a:lnTo>
                  <a:pt x="6" y="5"/>
                </a:lnTo>
                <a:lnTo>
                  <a:pt x="6" y="5"/>
                </a:lnTo>
                <a:lnTo>
                  <a:pt x="6" y="0"/>
                </a:lnTo>
                <a:lnTo>
                  <a:pt x="11" y="0"/>
                </a:lnTo>
                <a:lnTo>
                  <a:pt x="17" y="0"/>
                </a:lnTo>
                <a:lnTo>
                  <a:pt x="22" y="0"/>
                </a:lnTo>
                <a:close/>
                <a:moveTo>
                  <a:pt x="22" y="5"/>
                </a:moveTo>
                <a:lnTo>
                  <a:pt x="17" y="5"/>
                </a:lnTo>
                <a:lnTo>
                  <a:pt x="11" y="5"/>
                </a:lnTo>
                <a:lnTo>
                  <a:pt x="11" y="5"/>
                </a:lnTo>
                <a:lnTo>
                  <a:pt x="6" y="5"/>
                </a:lnTo>
                <a:lnTo>
                  <a:pt x="6" y="5"/>
                </a:lnTo>
                <a:lnTo>
                  <a:pt x="6" y="11"/>
                </a:lnTo>
                <a:lnTo>
                  <a:pt x="6" y="11"/>
                </a:lnTo>
                <a:lnTo>
                  <a:pt x="6" y="11"/>
                </a:lnTo>
                <a:lnTo>
                  <a:pt x="6" y="11"/>
                </a:lnTo>
                <a:lnTo>
                  <a:pt x="6" y="16"/>
                </a:lnTo>
                <a:lnTo>
                  <a:pt x="6" y="16"/>
                </a:lnTo>
                <a:lnTo>
                  <a:pt x="11" y="16"/>
                </a:lnTo>
                <a:lnTo>
                  <a:pt x="11" y="16"/>
                </a:lnTo>
                <a:lnTo>
                  <a:pt x="17" y="16"/>
                </a:lnTo>
                <a:lnTo>
                  <a:pt x="17" y="16"/>
                </a:lnTo>
                <a:lnTo>
                  <a:pt x="22" y="16"/>
                </a:lnTo>
                <a:lnTo>
                  <a:pt x="28" y="16"/>
                </a:lnTo>
                <a:lnTo>
                  <a:pt x="28" y="16"/>
                </a:lnTo>
                <a:lnTo>
                  <a:pt x="33" y="16"/>
                </a:lnTo>
                <a:lnTo>
                  <a:pt x="33" y="16"/>
                </a:lnTo>
                <a:lnTo>
                  <a:pt x="33" y="11"/>
                </a:lnTo>
                <a:lnTo>
                  <a:pt x="33" y="11"/>
                </a:lnTo>
                <a:lnTo>
                  <a:pt x="33" y="11"/>
                </a:lnTo>
                <a:lnTo>
                  <a:pt x="38" y="11"/>
                </a:lnTo>
                <a:lnTo>
                  <a:pt x="33" y="5"/>
                </a:lnTo>
                <a:lnTo>
                  <a:pt x="33" y="5"/>
                </a:lnTo>
                <a:lnTo>
                  <a:pt x="33" y="5"/>
                </a:lnTo>
                <a:lnTo>
                  <a:pt x="33" y="5"/>
                </a:lnTo>
                <a:lnTo>
                  <a:pt x="33" y="5"/>
                </a:lnTo>
                <a:lnTo>
                  <a:pt x="28" y="5"/>
                </a:lnTo>
                <a:lnTo>
                  <a:pt x="22" y="5"/>
                </a:lnTo>
                <a:lnTo>
                  <a:pt x="22" y="5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2" name=""/>
          <p:cNvSpPr/>
          <p:nvPr/>
        </p:nvSpPr>
        <p:spPr>
          <a:xfrm>
            <a:off x="5369040" y="4305240"/>
            <a:ext cx="60120" cy="34920"/>
          </a:xfrm>
          <a:custGeom>
            <a:avLst/>
            <a:gdLst/>
            <a:ahLst/>
            <a:rect l="l" t="t" r="r" b="b"/>
            <a:pathLst>
              <a:path w="38" h="22">
                <a:moveTo>
                  <a:pt x="16" y="0"/>
                </a:moveTo>
                <a:lnTo>
                  <a:pt x="22" y="0"/>
                </a:lnTo>
                <a:lnTo>
                  <a:pt x="22" y="0"/>
                </a:lnTo>
                <a:lnTo>
                  <a:pt x="27" y="0"/>
                </a:lnTo>
                <a:lnTo>
                  <a:pt x="27" y="0"/>
                </a:lnTo>
                <a:lnTo>
                  <a:pt x="27" y="0"/>
                </a:lnTo>
                <a:lnTo>
                  <a:pt x="32" y="0"/>
                </a:lnTo>
                <a:lnTo>
                  <a:pt x="32" y="0"/>
                </a:lnTo>
                <a:lnTo>
                  <a:pt x="32" y="6"/>
                </a:lnTo>
                <a:lnTo>
                  <a:pt x="32" y="6"/>
                </a:lnTo>
                <a:lnTo>
                  <a:pt x="38" y="6"/>
                </a:lnTo>
                <a:lnTo>
                  <a:pt x="38" y="6"/>
                </a:lnTo>
                <a:lnTo>
                  <a:pt x="38" y="11"/>
                </a:lnTo>
                <a:lnTo>
                  <a:pt x="38" y="11"/>
                </a:lnTo>
                <a:lnTo>
                  <a:pt x="38" y="11"/>
                </a:lnTo>
                <a:lnTo>
                  <a:pt x="38" y="11"/>
                </a:lnTo>
                <a:lnTo>
                  <a:pt x="38" y="17"/>
                </a:lnTo>
                <a:lnTo>
                  <a:pt x="38" y="17"/>
                </a:lnTo>
                <a:lnTo>
                  <a:pt x="32" y="17"/>
                </a:lnTo>
                <a:lnTo>
                  <a:pt x="32" y="17"/>
                </a:lnTo>
                <a:lnTo>
                  <a:pt x="32" y="17"/>
                </a:lnTo>
                <a:lnTo>
                  <a:pt x="32" y="22"/>
                </a:lnTo>
                <a:lnTo>
                  <a:pt x="32" y="22"/>
                </a:lnTo>
                <a:lnTo>
                  <a:pt x="27" y="22"/>
                </a:lnTo>
                <a:lnTo>
                  <a:pt x="27" y="22"/>
                </a:lnTo>
                <a:lnTo>
                  <a:pt x="27" y="22"/>
                </a:lnTo>
                <a:lnTo>
                  <a:pt x="22" y="22"/>
                </a:lnTo>
                <a:lnTo>
                  <a:pt x="22" y="22"/>
                </a:lnTo>
                <a:lnTo>
                  <a:pt x="22" y="22"/>
                </a:lnTo>
                <a:lnTo>
                  <a:pt x="16" y="22"/>
                </a:lnTo>
                <a:lnTo>
                  <a:pt x="11" y="22"/>
                </a:lnTo>
                <a:lnTo>
                  <a:pt x="11" y="22"/>
                </a:lnTo>
                <a:lnTo>
                  <a:pt x="11" y="22"/>
                </a:lnTo>
                <a:lnTo>
                  <a:pt x="5" y="22"/>
                </a:lnTo>
                <a:lnTo>
                  <a:pt x="5" y="22"/>
                </a:lnTo>
                <a:lnTo>
                  <a:pt x="5" y="22"/>
                </a:lnTo>
                <a:lnTo>
                  <a:pt x="0" y="22"/>
                </a:lnTo>
                <a:lnTo>
                  <a:pt x="0" y="17"/>
                </a:lnTo>
                <a:lnTo>
                  <a:pt x="0" y="17"/>
                </a:lnTo>
                <a:lnTo>
                  <a:pt x="0" y="17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6"/>
                </a:lnTo>
                <a:lnTo>
                  <a:pt x="0" y="6"/>
                </a:lnTo>
                <a:lnTo>
                  <a:pt x="5" y="6"/>
                </a:lnTo>
                <a:lnTo>
                  <a:pt x="11" y="0"/>
                </a:lnTo>
                <a:lnTo>
                  <a:pt x="11" y="0"/>
                </a:lnTo>
                <a:lnTo>
                  <a:pt x="16" y="0"/>
                </a:lnTo>
                <a:close/>
                <a:moveTo>
                  <a:pt x="16" y="6"/>
                </a:moveTo>
                <a:lnTo>
                  <a:pt x="11" y="6"/>
                </a:lnTo>
                <a:lnTo>
                  <a:pt x="11" y="6"/>
                </a:lnTo>
                <a:lnTo>
                  <a:pt x="5" y="6"/>
                </a:lnTo>
                <a:lnTo>
                  <a:pt x="5" y="6"/>
                </a:lnTo>
                <a:lnTo>
                  <a:pt x="5" y="11"/>
                </a:lnTo>
                <a:lnTo>
                  <a:pt x="5" y="11"/>
                </a:lnTo>
                <a:lnTo>
                  <a:pt x="5" y="11"/>
                </a:lnTo>
                <a:lnTo>
                  <a:pt x="5" y="11"/>
                </a:lnTo>
                <a:lnTo>
                  <a:pt x="5" y="17"/>
                </a:lnTo>
                <a:lnTo>
                  <a:pt x="5" y="17"/>
                </a:lnTo>
                <a:lnTo>
                  <a:pt x="5" y="17"/>
                </a:lnTo>
                <a:lnTo>
                  <a:pt x="5" y="17"/>
                </a:lnTo>
                <a:lnTo>
                  <a:pt x="11" y="17"/>
                </a:lnTo>
                <a:lnTo>
                  <a:pt x="11" y="17"/>
                </a:lnTo>
                <a:lnTo>
                  <a:pt x="16" y="17"/>
                </a:lnTo>
                <a:lnTo>
                  <a:pt x="16" y="17"/>
                </a:lnTo>
                <a:lnTo>
                  <a:pt x="22" y="17"/>
                </a:lnTo>
                <a:lnTo>
                  <a:pt x="27" y="17"/>
                </a:lnTo>
                <a:lnTo>
                  <a:pt x="27" y="17"/>
                </a:lnTo>
                <a:lnTo>
                  <a:pt x="32" y="17"/>
                </a:lnTo>
                <a:lnTo>
                  <a:pt x="32" y="17"/>
                </a:lnTo>
                <a:lnTo>
                  <a:pt x="32" y="11"/>
                </a:lnTo>
                <a:lnTo>
                  <a:pt x="32" y="11"/>
                </a:lnTo>
                <a:lnTo>
                  <a:pt x="32" y="11"/>
                </a:lnTo>
                <a:lnTo>
                  <a:pt x="32" y="11"/>
                </a:lnTo>
                <a:lnTo>
                  <a:pt x="32" y="6"/>
                </a:lnTo>
                <a:lnTo>
                  <a:pt x="32" y="6"/>
                </a:lnTo>
                <a:lnTo>
                  <a:pt x="27" y="6"/>
                </a:lnTo>
                <a:lnTo>
                  <a:pt x="27" y="6"/>
                </a:lnTo>
                <a:lnTo>
                  <a:pt x="27" y="6"/>
                </a:lnTo>
                <a:lnTo>
                  <a:pt x="22" y="6"/>
                </a:lnTo>
                <a:lnTo>
                  <a:pt x="16" y="6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3" name=""/>
          <p:cNvSpPr/>
          <p:nvPr/>
        </p:nvSpPr>
        <p:spPr>
          <a:xfrm>
            <a:off x="3879720" y="3718080"/>
            <a:ext cx="60480" cy="25200"/>
          </a:xfrm>
          <a:custGeom>
            <a:avLst/>
            <a:gdLst/>
            <a:ahLst/>
            <a:rect l="l" t="t" r="r" b="b"/>
            <a:pathLst>
              <a:path w="38" h="16">
                <a:moveTo>
                  <a:pt x="0" y="10"/>
                </a:moveTo>
                <a:lnTo>
                  <a:pt x="0" y="5"/>
                </a:lnTo>
                <a:lnTo>
                  <a:pt x="27" y="10"/>
                </a:lnTo>
                <a:lnTo>
                  <a:pt x="27" y="10"/>
                </a:lnTo>
                <a:lnTo>
                  <a:pt x="27" y="10"/>
                </a:lnTo>
                <a:lnTo>
                  <a:pt x="27" y="10"/>
                </a:lnTo>
                <a:lnTo>
                  <a:pt x="27" y="5"/>
                </a:lnTo>
                <a:lnTo>
                  <a:pt x="27" y="5"/>
                </a:lnTo>
                <a:lnTo>
                  <a:pt x="27" y="5"/>
                </a:lnTo>
                <a:lnTo>
                  <a:pt x="27" y="5"/>
                </a:lnTo>
                <a:lnTo>
                  <a:pt x="27" y="0"/>
                </a:lnTo>
                <a:lnTo>
                  <a:pt x="27" y="5"/>
                </a:lnTo>
                <a:lnTo>
                  <a:pt x="33" y="5"/>
                </a:lnTo>
                <a:lnTo>
                  <a:pt x="33" y="5"/>
                </a:lnTo>
                <a:lnTo>
                  <a:pt x="33" y="10"/>
                </a:lnTo>
                <a:lnTo>
                  <a:pt x="33" y="10"/>
                </a:lnTo>
                <a:lnTo>
                  <a:pt x="33" y="10"/>
                </a:lnTo>
                <a:lnTo>
                  <a:pt x="33" y="10"/>
                </a:lnTo>
                <a:lnTo>
                  <a:pt x="38" y="16"/>
                </a:lnTo>
                <a:lnTo>
                  <a:pt x="38" y="16"/>
                </a:lnTo>
                <a:lnTo>
                  <a:pt x="38" y="16"/>
                </a:lnTo>
                <a:lnTo>
                  <a:pt x="0" y="1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4" name=""/>
          <p:cNvSpPr/>
          <p:nvPr/>
        </p:nvSpPr>
        <p:spPr>
          <a:xfrm>
            <a:off x="3871800" y="3760920"/>
            <a:ext cx="60480" cy="34920"/>
          </a:xfrm>
          <a:custGeom>
            <a:avLst/>
            <a:gdLst/>
            <a:ahLst/>
            <a:rect l="l" t="t" r="r" b="b"/>
            <a:pathLst>
              <a:path w="38" h="22">
                <a:moveTo>
                  <a:pt x="21" y="0"/>
                </a:moveTo>
                <a:lnTo>
                  <a:pt x="21" y="0"/>
                </a:lnTo>
                <a:lnTo>
                  <a:pt x="27" y="0"/>
                </a:lnTo>
                <a:lnTo>
                  <a:pt x="27" y="0"/>
                </a:lnTo>
                <a:lnTo>
                  <a:pt x="32" y="0"/>
                </a:lnTo>
                <a:lnTo>
                  <a:pt x="32" y="5"/>
                </a:lnTo>
                <a:lnTo>
                  <a:pt x="32" y="5"/>
                </a:lnTo>
                <a:lnTo>
                  <a:pt x="38" y="5"/>
                </a:lnTo>
                <a:lnTo>
                  <a:pt x="38" y="5"/>
                </a:lnTo>
                <a:lnTo>
                  <a:pt x="38" y="11"/>
                </a:lnTo>
                <a:lnTo>
                  <a:pt x="38" y="11"/>
                </a:lnTo>
                <a:lnTo>
                  <a:pt x="38" y="11"/>
                </a:lnTo>
                <a:lnTo>
                  <a:pt x="38" y="16"/>
                </a:lnTo>
                <a:lnTo>
                  <a:pt x="38" y="16"/>
                </a:lnTo>
                <a:lnTo>
                  <a:pt x="38" y="16"/>
                </a:lnTo>
                <a:lnTo>
                  <a:pt x="38" y="16"/>
                </a:lnTo>
                <a:lnTo>
                  <a:pt x="38" y="16"/>
                </a:lnTo>
                <a:lnTo>
                  <a:pt x="32" y="22"/>
                </a:lnTo>
                <a:lnTo>
                  <a:pt x="32" y="22"/>
                </a:lnTo>
                <a:lnTo>
                  <a:pt x="32" y="22"/>
                </a:lnTo>
                <a:lnTo>
                  <a:pt x="32" y="22"/>
                </a:lnTo>
                <a:lnTo>
                  <a:pt x="32" y="22"/>
                </a:lnTo>
                <a:lnTo>
                  <a:pt x="27" y="22"/>
                </a:lnTo>
                <a:lnTo>
                  <a:pt x="27" y="22"/>
                </a:lnTo>
                <a:lnTo>
                  <a:pt x="27" y="22"/>
                </a:lnTo>
                <a:lnTo>
                  <a:pt x="21" y="22"/>
                </a:lnTo>
                <a:lnTo>
                  <a:pt x="21" y="22"/>
                </a:lnTo>
                <a:lnTo>
                  <a:pt x="21" y="22"/>
                </a:lnTo>
                <a:lnTo>
                  <a:pt x="16" y="22"/>
                </a:lnTo>
                <a:lnTo>
                  <a:pt x="16" y="22"/>
                </a:lnTo>
                <a:lnTo>
                  <a:pt x="10" y="22"/>
                </a:lnTo>
                <a:lnTo>
                  <a:pt x="10" y="22"/>
                </a:lnTo>
                <a:lnTo>
                  <a:pt x="5" y="22"/>
                </a:lnTo>
                <a:lnTo>
                  <a:pt x="5" y="16"/>
                </a:lnTo>
                <a:lnTo>
                  <a:pt x="5" y="16"/>
                </a:lnTo>
                <a:lnTo>
                  <a:pt x="5" y="16"/>
                </a:lnTo>
                <a:lnTo>
                  <a:pt x="0" y="16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5"/>
                </a:lnTo>
                <a:lnTo>
                  <a:pt x="0" y="5"/>
                </a:lnTo>
                <a:lnTo>
                  <a:pt x="5" y="5"/>
                </a:lnTo>
                <a:lnTo>
                  <a:pt x="5" y="0"/>
                </a:lnTo>
                <a:lnTo>
                  <a:pt x="5" y="0"/>
                </a:lnTo>
                <a:lnTo>
                  <a:pt x="10" y="0"/>
                </a:lnTo>
                <a:lnTo>
                  <a:pt x="10" y="0"/>
                </a:lnTo>
                <a:lnTo>
                  <a:pt x="16" y="0"/>
                </a:lnTo>
                <a:lnTo>
                  <a:pt x="21" y="0"/>
                </a:lnTo>
                <a:close/>
                <a:moveTo>
                  <a:pt x="21" y="5"/>
                </a:moveTo>
                <a:lnTo>
                  <a:pt x="16" y="5"/>
                </a:lnTo>
                <a:lnTo>
                  <a:pt x="10" y="5"/>
                </a:lnTo>
                <a:lnTo>
                  <a:pt x="10" y="5"/>
                </a:lnTo>
                <a:lnTo>
                  <a:pt x="10" y="5"/>
                </a:lnTo>
                <a:lnTo>
                  <a:pt x="5" y="5"/>
                </a:lnTo>
                <a:lnTo>
                  <a:pt x="5" y="5"/>
                </a:lnTo>
                <a:lnTo>
                  <a:pt x="5" y="5"/>
                </a:lnTo>
                <a:lnTo>
                  <a:pt x="5" y="11"/>
                </a:lnTo>
                <a:lnTo>
                  <a:pt x="5" y="11"/>
                </a:lnTo>
                <a:lnTo>
                  <a:pt x="5" y="11"/>
                </a:lnTo>
                <a:lnTo>
                  <a:pt x="5" y="11"/>
                </a:lnTo>
                <a:lnTo>
                  <a:pt x="5" y="16"/>
                </a:lnTo>
                <a:lnTo>
                  <a:pt x="10" y="16"/>
                </a:lnTo>
                <a:lnTo>
                  <a:pt x="10" y="16"/>
                </a:lnTo>
                <a:lnTo>
                  <a:pt x="16" y="16"/>
                </a:lnTo>
                <a:lnTo>
                  <a:pt x="16" y="16"/>
                </a:lnTo>
                <a:lnTo>
                  <a:pt x="21" y="16"/>
                </a:lnTo>
                <a:lnTo>
                  <a:pt x="27" y="16"/>
                </a:lnTo>
                <a:lnTo>
                  <a:pt x="27" y="16"/>
                </a:lnTo>
                <a:lnTo>
                  <a:pt x="32" y="16"/>
                </a:lnTo>
                <a:lnTo>
                  <a:pt x="32" y="16"/>
                </a:lnTo>
                <a:lnTo>
                  <a:pt x="32" y="16"/>
                </a:lnTo>
                <a:lnTo>
                  <a:pt x="32" y="16"/>
                </a:lnTo>
                <a:lnTo>
                  <a:pt x="32" y="11"/>
                </a:lnTo>
                <a:lnTo>
                  <a:pt x="32" y="11"/>
                </a:lnTo>
                <a:lnTo>
                  <a:pt x="32" y="11"/>
                </a:lnTo>
                <a:lnTo>
                  <a:pt x="32" y="11"/>
                </a:lnTo>
                <a:lnTo>
                  <a:pt x="32" y="5"/>
                </a:lnTo>
                <a:lnTo>
                  <a:pt x="32" y="5"/>
                </a:lnTo>
                <a:lnTo>
                  <a:pt x="27" y="5"/>
                </a:lnTo>
                <a:lnTo>
                  <a:pt x="27" y="5"/>
                </a:lnTo>
                <a:lnTo>
                  <a:pt x="21" y="5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5" name=""/>
          <p:cNvSpPr/>
          <p:nvPr/>
        </p:nvSpPr>
        <p:spPr>
          <a:xfrm>
            <a:off x="3862440" y="3803760"/>
            <a:ext cx="60120" cy="34920"/>
          </a:xfrm>
          <a:custGeom>
            <a:avLst/>
            <a:gdLst/>
            <a:ahLst/>
            <a:rect l="l" t="t" r="r" b="b"/>
            <a:pathLst>
              <a:path w="38" h="22">
                <a:moveTo>
                  <a:pt x="22" y="0"/>
                </a:moveTo>
                <a:lnTo>
                  <a:pt x="27" y="0"/>
                </a:lnTo>
                <a:lnTo>
                  <a:pt x="27" y="0"/>
                </a:lnTo>
                <a:lnTo>
                  <a:pt x="33" y="0"/>
                </a:lnTo>
                <a:lnTo>
                  <a:pt x="33" y="5"/>
                </a:lnTo>
                <a:lnTo>
                  <a:pt x="33" y="5"/>
                </a:lnTo>
                <a:lnTo>
                  <a:pt x="38" y="5"/>
                </a:lnTo>
                <a:lnTo>
                  <a:pt x="38" y="5"/>
                </a:lnTo>
                <a:lnTo>
                  <a:pt x="38" y="5"/>
                </a:lnTo>
                <a:lnTo>
                  <a:pt x="38" y="11"/>
                </a:lnTo>
                <a:lnTo>
                  <a:pt x="38" y="11"/>
                </a:lnTo>
                <a:lnTo>
                  <a:pt x="38" y="11"/>
                </a:lnTo>
                <a:lnTo>
                  <a:pt x="38" y="16"/>
                </a:lnTo>
                <a:lnTo>
                  <a:pt x="38" y="16"/>
                </a:lnTo>
                <a:lnTo>
                  <a:pt x="38" y="16"/>
                </a:lnTo>
                <a:lnTo>
                  <a:pt x="38" y="16"/>
                </a:lnTo>
                <a:lnTo>
                  <a:pt x="38" y="22"/>
                </a:lnTo>
                <a:lnTo>
                  <a:pt x="38" y="22"/>
                </a:lnTo>
                <a:lnTo>
                  <a:pt x="33" y="22"/>
                </a:lnTo>
                <a:lnTo>
                  <a:pt x="33" y="22"/>
                </a:lnTo>
                <a:lnTo>
                  <a:pt x="33" y="22"/>
                </a:lnTo>
                <a:lnTo>
                  <a:pt x="33" y="22"/>
                </a:lnTo>
                <a:lnTo>
                  <a:pt x="33" y="22"/>
                </a:lnTo>
                <a:lnTo>
                  <a:pt x="27" y="22"/>
                </a:lnTo>
                <a:lnTo>
                  <a:pt x="27" y="22"/>
                </a:lnTo>
                <a:lnTo>
                  <a:pt x="27" y="22"/>
                </a:lnTo>
                <a:lnTo>
                  <a:pt x="22" y="22"/>
                </a:lnTo>
                <a:lnTo>
                  <a:pt x="22" y="22"/>
                </a:lnTo>
                <a:lnTo>
                  <a:pt x="16" y="22"/>
                </a:lnTo>
                <a:lnTo>
                  <a:pt x="16" y="22"/>
                </a:lnTo>
                <a:lnTo>
                  <a:pt x="11" y="22"/>
                </a:lnTo>
                <a:lnTo>
                  <a:pt x="11" y="22"/>
                </a:lnTo>
                <a:lnTo>
                  <a:pt x="11" y="22"/>
                </a:lnTo>
                <a:lnTo>
                  <a:pt x="6" y="22"/>
                </a:lnTo>
                <a:lnTo>
                  <a:pt x="6" y="16"/>
                </a:lnTo>
                <a:lnTo>
                  <a:pt x="6" y="16"/>
                </a:lnTo>
                <a:lnTo>
                  <a:pt x="6" y="16"/>
                </a:lnTo>
                <a:lnTo>
                  <a:pt x="0" y="16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5"/>
                </a:lnTo>
                <a:lnTo>
                  <a:pt x="6" y="5"/>
                </a:lnTo>
                <a:lnTo>
                  <a:pt x="6" y="0"/>
                </a:lnTo>
                <a:lnTo>
                  <a:pt x="6" y="0"/>
                </a:lnTo>
                <a:lnTo>
                  <a:pt x="11" y="0"/>
                </a:lnTo>
                <a:lnTo>
                  <a:pt x="11" y="0"/>
                </a:lnTo>
                <a:lnTo>
                  <a:pt x="16" y="0"/>
                </a:lnTo>
                <a:lnTo>
                  <a:pt x="22" y="0"/>
                </a:lnTo>
                <a:close/>
                <a:moveTo>
                  <a:pt x="22" y="5"/>
                </a:moveTo>
                <a:lnTo>
                  <a:pt x="16" y="5"/>
                </a:lnTo>
                <a:lnTo>
                  <a:pt x="16" y="5"/>
                </a:lnTo>
                <a:lnTo>
                  <a:pt x="11" y="5"/>
                </a:lnTo>
                <a:lnTo>
                  <a:pt x="11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11"/>
                </a:lnTo>
                <a:lnTo>
                  <a:pt x="6" y="11"/>
                </a:lnTo>
                <a:lnTo>
                  <a:pt x="6" y="11"/>
                </a:lnTo>
                <a:lnTo>
                  <a:pt x="6" y="11"/>
                </a:lnTo>
                <a:lnTo>
                  <a:pt x="6" y="16"/>
                </a:lnTo>
                <a:lnTo>
                  <a:pt x="11" y="16"/>
                </a:lnTo>
                <a:lnTo>
                  <a:pt x="11" y="16"/>
                </a:lnTo>
                <a:lnTo>
                  <a:pt x="16" y="16"/>
                </a:lnTo>
                <a:lnTo>
                  <a:pt x="22" y="16"/>
                </a:lnTo>
                <a:lnTo>
                  <a:pt x="22" y="22"/>
                </a:lnTo>
                <a:lnTo>
                  <a:pt x="27" y="22"/>
                </a:lnTo>
                <a:lnTo>
                  <a:pt x="27" y="22"/>
                </a:lnTo>
                <a:lnTo>
                  <a:pt x="33" y="16"/>
                </a:lnTo>
                <a:lnTo>
                  <a:pt x="33" y="16"/>
                </a:lnTo>
                <a:lnTo>
                  <a:pt x="33" y="16"/>
                </a:lnTo>
                <a:lnTo>
                  <a:pt x="33" y="16"/>
                </a:lnTo>
                <a:lnTo>
                  <a:pt x="33" y="16"/>
                </a:lnTo>
                <a:lnTo>
                  <a:pt x="33" y="11"/>
                </a:lnTo>
                <a:lnTo>
                  <a:pt x="33" y="11"/>
                </a:lnTo>
                <a:lnTo>
                  <a:pt x="33" y="11"/>
                </a:lnTo>
                <a:lnTo>
                  <a:pt x="33" y="11"/>
                </a:lnTo>
                <a:lnTo>
                  <a:pt x="33" y="5"/>
                </a:lnTo>
                <a:lnTo>
                  <a:pt x="27" y="5"/>
                </a:lnTo>
                <a:lnTo>
                  <a:pt x="27" y="5"/>
                </a:lnTo>
                <a:lnTo>
                  <a:pt x="22" y="5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6" name=""/>
          <p:cNvSpPr/>
          <p:nvPr/>
        </p:nvSpPr>
        <p:spPr>
          <a:xfrm>
            <a:off x="6035760" y="3968640"/>
            <a:ext cx="42840" cy="50760"/>
          </a:xfrm>
          <a:custGeom>
            <a:avLst/>
            <a:gdLst/>
            <a:ahLst/>
            <a:rect l="l" t="t" r="r" b="b"/>
            <a:pathLst>
              <a:path w="27" h="32">
                <a:moveTo>
                  <a:pt x="21" y="0"/>
                </a:moveTo>
                <a:lnTo>
                  <a:pt x="27" y="5"/>
                </a:lnTo>
                <a:lnTo>
                  <a:pt x="5" y="27"/>
                </a:lnTo>
                <a:lnTo>
                  <a:pt x="5" y="27"/>
                </a:lnTo>
                <a:lnTo>
                  <a:pt x="10" y="27"/>
                </a:lnTo>
                <a:lnTo>
                  <a:pt x="10" y="27"/>
                </a:lnTo>
                <a:lnTo>
                  <a:pt x="10" y="27"/>
                </a:lnTo>
                <a:lnTo>
                  <a:pt x="10" y="27"/>
                </a:lnTo>
                <a:lnTo>
                  <a:pt x="16" y="27"/>
                </a:lnTo>
                <a:lnTo>
                  <a:pt x="16" y="27"/>
                </a:lnTo>
                <a:lnTo>
                  <a:pt x="16" y="27"/>
                </a:lnTo>
                <a:lnTo>
                  <a:pt x="16" y="32"/>
                </a:lnTo>
                <a:lnTo>
                  <a:pt x="10" y="27"/>
                </a:lnTo>
                <a:lnTo>
                  <a:pt x="10" y="27"/>
                </a:lnTo>
                <a:lnTo>
                  <a:pt x="5" y="27"/>
                </a:lnTo>
                <a:lnTo>
                  <a:pt x="5" y="27"/>
                </a:lnTo>
                <a:lnTo>
                  <a:pt x="5" y="27"/>
                </a:lnTo>
                <a:lnTo>
                  <a:pt x="0" y="27"/>
                </a:lnTo>
                <a:lnTo>
                  <a:pt x="0" y="27"/>
                </a:lnTo>
                <a:lnTo>
                  <a:pt x="0" y="27"/>
                </a:lnTo>
                <a:lnTo>
                  <a:pt x="0" y="27"/>
                </a:lnTo>
                <a:lnTo>
                  <a:pt x="21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7" name=""/>
          <p:cNvSpPr/>
          <p:nvPr/>
        </p:nvSpPr>
        <p:spPr>
          <a:xfrm>
            <a:off x="6000840" y="3941640"/>
            <a:ext cx="50760" cy="52560"/>
          </a:xfrm>
          <a:custGeom>
            <a:avLst/>
            <a:gdLst/>
            <a:ahLst/>
            <a:rect l="l" t="t" r="r" b="b"/>
            <a:pathLst>
              <a:path w="32" h="33">
                <a:moveTo>
                  <a:pt x="27" y="22"/>
                </a:moveTo>
                <a:lnTo>
                  <a:pt x="22" y="28"/>
                </a:lnTo>
                <a:lnTo>
                  <a:pt x="22" y="28"/>
                </a:lnTo>
                <a:lnTo>
                  <a:pt x="16" y="28"/>
                </a:lnTo>
                <a:lnTo>
                  <a:pt x="16" y="28"/>
                </a:lnTo>
                <a:lnTo>
                  <a:pt x="16" y="28"/>
                </a:lnTo>
                <a:lnTo>
                  <a:pt x="11" y="33"/>
                </a:lnTo>
                <a:lnTo>
                  <a:pt x="11" y="33"/>
                </a:lnTo>
                <a:lnTo>
                  <a:pt x="11" y="33"/>
                </a:lnTo>
                <a:lnTo>
                  <a:pt x="5" y="33"/>
                </a:lnTo>
                <a:lnTo>
                  <a:pt x="5" y="28"/>
                </a:lnTo>
                <a:lnTo>
                  <a:pt x="5" y="28"/>
                </a:lnTo>
                <a:lnTo>
                  <a:pt x="5" y="28"/>
                </a:lnTo>
                <a:lnTo>
                  <a:pt x="0" y="28"/>
                </a:lnTo>
                <a:lnTo>
                  <a:pt x="0" y="28"/>
                </a:lnTo>
                <a:lnTo>
                  <a:pt x="0" y="22"/>
                </a:lnTo>
                <a:lnTo>
                  <a:pt x="0" y="22"/>
                </a:lnTo>
                <a:lnTo>
                  <a:pt x="0" y="22"/>
                </a:lnTo>
                <a:lnTo>
                  <a:pt x="0" y="22"/>
                </a:lnTo>
                <a:lnTo>
                  <a:pt x="0" y="22"/>
                </a:lnTo>
                <a:lnTo>
                  <a:pt x="0" y="17"/>
                </a:lnTo>
                <a:lnTo>
                  <a:pt x="0" y="17"/>
                </a:lnTo>
                <a:lnTo>
                  <a:pt x="0" y="17"/>
                </a:lnTo>
                <a:lnTo>
                  <a:pt x="0" y="17"/>
                </a:lnTo>
                <a:lnTo>
                  <a:pt x="0" y="11"/>
                </a:lnTo>
                <a:lnTo>
                  <a:pt x="5" y="11"/>
                </a:lnTo>
                <a:lnTo>
                  <a:pt x="5" y="11"/>
                </a:lnTo>
                <a:lnTo>
                  <a:pt x="5" y="6"/>
                </a:lnTo>
                <a:lnTo>
                  <a:pt x="5" y="6"/>
                </a:lnTo>
                <a:lnTo>
                  <a:pt x="11" y="6"/>
                </a:lnTo>
                <a:lnTo>
                  <a:pt x="11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2" y="0"/>
                </a:lnTo>
                <a:lnTo>
                  <a:pt x="22" y="0"/>
                </a:lnTo>
                <a:lnTo>
                  <a:pt x="22" y="0"/>
                </a:lnTo>
                <a:lnTo>
                  <a:pt x="27" y="0"/>
                </a:lnTo>
                <a:lnTo>
                  <a:pt x="27" y="0"/>
                </a:lnTo>
                <a:lnTo>
                  <a:pt x="27" y="0"/>
                </a:lnTo>
                <a:lnTo>
                  <a:pt x="27" y="0"/>
                </a:lnTo>
                <a:lnTo>
                  <a:pt x="32" y="6"/>
                </a:lnTo>
                <a:lnTo>
                  <a:pt x="32" y="6"/>
                </a:lnTo>
                <a:lnTo>
                  <a:pt x="32" y="6"/>
                </a:lnTo>
                <a:lnTo>
                  <a:pt x="32" y="11"/>
                </a:lnTo>
                <a:lnTo>
                  <a:pt x="32" y="11"/>
                </a:lnTo>
                <a:lnTo>
                  <a:pt x="32" y="17"/>
                </a:lnTo>
                <a:lnTo>
                  <a:pt x="27" y="17"/>
                </a:lnTo>
                <a:lnTo>
                  <a:pt x="27" y="22"/>
                </a:lnTo>
                <a:close/>
                <a:moveTo>
                  <a:pt x="22" y="22"/>
                </a:moveTo>
                <a:lnTo>
                  <a:pt x="22" y="17"/>
                </a:lnTo>
                <a:lnTo>
                  <a:pt x="27" y="11"/>
                </a:lnTo>
                <a:lnTo>
                  <a:pt x="27" y="11"/>
                </a:lnTo>
                <a:lnTo>
                  <a:pt x="27" y="11"/>
                </a:lnTo>
                <a:lnTo>
                  <a:pt x="27" y="6"/>
                </a:lnTo>
                <a:lnTo>
                  <a:pt x="27" y="6"/>
                </a:lnTo>
                <a:lnTo>
                  <a:pt x="27" y="6"/>
                </a:lnTo>
                <a:lnTo>
                  <a:pt x="27" y="6"/>
                </a:lnTo>
                <a:lnTo>
                  <a:pt x="27" y="0"/>
                </a:lnTo>
                <a:lnTo>
                  <a:pt x="22" y="0"/>
                </a:lnTo>
                <a:lnTo>
                  <a:pt x="22" y="0"/>
                </a:lnTo>
                <a:lnTo>
                  <a:pt x="22" y="0"/>
                </a:lnTo>
                <a:lnTo>
                  <a:pt x="16" y="0"/>
                </a:lnTo>
                <a:lnTo>
                  <a:pt x="16" y="6"/>
                </a:lnTo>
                <a:lnTo>
                  <a:pt x="16" y="6"/>
                </a:lnTo>
                <a:lnTo>
                  <a:pt x="11" y="11"/>
                </a:lnTo>
                <a:lnTo>
                  <a:pt x="5" y="11"/>
                </a:lnTo>
                <a:lnTo>
                  <a:pt x="5" y="17"/>
                </a:lnTo>
                <a:lnTo>
                  <a:pt x="5" y="17"/>
                </a:lnTo>
                <a:lnTo>
                  <a:pt x="5" y="17"/>
                </a:lnTo>
                <a:lnTo>
                  <a:pt x="5" y="22"/>
                </a:lnTo>
                <a:lnTo>
                  <a:pt x="5" y="22"/>
                </a:lnTo>
                <a:lnTo>
                  <a:pt x="5" y="22"/>
                </a:lnTo>
                <a:lnTo>
                  <a:pt x="5" y="28"/>
                </a:lnTo>
                <a:lnTo>
                  <a:pt x="5" y="28"/>
                </a:lnTo>
                <a:lnTo>
                  <a:pt x="5" y="28"/>
                </a:lnTo>
                <a:lnTo>
                  <a:pt x="11" y="28"/>
                </a:lnTo>
                <a:lnTo>
                  <a:pt x="11" y="28"/>
                </a:lnTo>
                <a:lnTo>
                  <a:pt x="11" y="28"/>
                </a:lnTo>
                <a:lnTo>
                  <a:pt x="16" y="22"/>
                </a:lnTo>
                <a:lnTo>
                  <a:pt x="16" y="22"/>
                </a:lnTo>
                <a:lnTo>
                  <a:pt x="22" y="2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8" name=""/>
          <p:cNvSpPr/>
          <p:nvPr/>
        </p:nvSpPr>
        <p:spPr>
          <a:xfrm>
            <a:off x="5965920" y="3906720"/>
            <a:ext cx="52200" cy="52560"/>
          </a:xfrm>
          <a:custGeom>
            <a:avLst/>
            <a:gdLst/>
            <a:ahLst/>
            <a:rect l="l" t="t" r="r" b="b"/>
            <a:pathLst>
              <a:path w="33" h="33">
                <a:moveTo>
                  <a:pt x="27" y="22"/>
                </a:moveTo>
                <a:lnTo>
                  <a:pt x="22" y="28"/>
                </a:lnTo>
                <a:lnTo>
                  <a:pt x="22" y="28"/>
                </a:lnTo>
                <a:lnTo>
                  <a:pt x="22" y="28"/>
                </a:lnTo>
                <a:lnTo>
                  <a:pt x="16" y="33"/>
                </a:lnTo>
                <a:lnTo>
                  <a:pt x="16" y="33"/>
                </a:lnTo>
                <a:lnTo>
                  <a:pt x="16" y="33"/>
                </a:lnTo>
                <a:lnTo>
                  <a:pt x="11" y="33"/>
                </a:lnTo>
                <a:lnTo>
                  <a:pt x="11" y="33"/>
                </a:lnTo>
                <a:lnTo>
                  <a:pt x="11" y="33"/>
                </a:lnTo>
                <a:lnTo>
                  <a:pt x="5" y="33"/>
                </a:lnTo>
                <a:lnTo>
                  <a:pt x="5" y="33"/>
                </a:lnTo>
                <a:lnTo>
                  <a:pt x="5" y="28"/>
                </a:lnTo>
                <a:lnTo>
                  <a:pt x="5" y="28"/>
                </a:lnTo>
                <a:lnTo>
                  <a:pt x="5" y="28"/>
                </a:lnTo>
                <a:lnTo>
                  <a:pt x="0" y="28"/>
                </a:lnTo>
                <a:lnTo>
                  <a:pt x="0" y="28"/>
                </a:lnTo>
                <a:lnTo>
                  <a:pt x="0" y="22"/>
                </a:lnTo>
                <a:lnTo>
                  <a:pt x="0" y="22"/>
                </a:lnTo>
                <a:lnTo>
                  <a:pt x="0" y="22"/>
                </a:lnTo>
                <a:lnTo>
                  <a:pt x="0" y="22"/>
                </a:lnTo>
                <a:lnTo>
                  <a:pt x="0" y="17"/>
                </a:lnTo>
                <a:lnTo>
                  <a:pt x="0" y="17"/>
                </a:lnTo>
                <a:lnTo>
                  <a:pt x="5" y="17"/>
                </a:lnTo>
                <a:lnTo>
                  <a:pt x="5" y="17"/>
                </a:lnTo>
                <a:lnTo>
                  <a:pt x="5" y="11"/>
                </a:lnTo>
                <a:lnTo>
                  <a:pt x="5" y="11"/>
                </a:lnTo>
                <a:lnTo>
                  <a:pt x="5" y="11"/>
                </a:lnTo>
                <a:lnTo>
                  <a:pt x="11" y="6"/>
                </a:lnTo>
                <a:lnTo>
                  <a:pt x="11" y="6"/>
                </a:lnTo>
                <a:lnTo>
                  <a:pt x="16" y="6"/>
                </a:lnTo>
                <a:lnTo>
                  <a:pt x="16" y="0"/>
                </a:lnTo>
                <a:lnTo>
                  <a:pt x="16" y="0"/>
                </a:lnTo>
                <a:lnTo>
                  <a:pt x="22" y="0"/>
                </a:lnTo>
                <a:lnTo>
                  <a:pt x="22" y="0"/>
                </a:lnTo>
                <a:lnTo>
                  <a:pt x="22" y="0"/>
                </a:lnTo>
                <a:lnTo>
                  <a:pt x="27" y="0"/>
                </a:lnTo>
                <a:lnTo>
                  <a:pt x="27" y="0"/>
                </a:lnTo>
                <a:lnTo>
                  <a:pt x="27" y="0"/>
                </a:lnTo>
                <a:lnTo>
                  <a:pt x="27" y="0"/>
                </a:lnTo>
                <a:lnTo>
                  <a:pt x="33" y="0"/>
                </a:lnTo>
                <a:lnTo>
                  <a:pt x="33" y="6"/>
                </a:lnTo>
                <a:lnTo>
                  <a:pt x="33" y="6"/>
                </a:lnTo>
                <a:lnTo>
                  <a:pt x="33" y="11"/>
                </a:lnTo>
                <a:lnTo>
                  <a:pt x="33" y="11"/>
                </a:lnTo>
                <a:lnTo>
                  <a:pt x="33" y="17"/>
                </a:lnTo>
                <a:lnTo>
                  <a:pt x="33" y="17"/>
                </a:lnTo>
                <a:lnTo>
                  <a:pt x="27" y="22"/>
                </a:lnTo>
                <a:lnTo>
                  <a:pt x="27" y="22"/>
                </a:lnTo>
                <a:close/>
                <a:moveTo>
                  <a:pt x="22" y="22"/>
                </a:moveTo>
                <a:lnTo>
                  <a:pt x="27" y="17"/>
                </a:lnTo>
                <a:lnTo>
                  <a:pt x="27" y="17"/>
                </a:lnTo>
                <a:lnTo>
                  <a:pt x="27" y="11"/>
                </a:lnTo>
                <a:lnTo>
                  <a:pt x="27" y="11"/>
                </a:lnTo>
                <a:lnTo>
                  <a:pt x="33" y="11"/>
                </a:lnTo>
                <a:lnTo>
                  <a:pt x="27" y="6"/>
                </a:lnTo>
                <a:lnTo>
                  <a:pt x="27" y="6"/>
                </a:lnTo>
                <a:lnTo>
                  <a:pt x="27" y="6"/>
                </a:lnTo>
                <a:lnTo>
                  <a:pt x="27" y="6"/>
                </a:lnTo>
                <a:lnTo>
                  <a:pt x="27" y="6"/>
                </a:lnTo>
                <a:lnTo>
                  <a:pt x="22" y="6"/>
                </a:lnTo>
                <a:lnTo>
                  <a:pt x="22" y="6"/>
                </a:lnTo>
                <a:lnTo>
                  <a:pt x="22" y="6"/>
                </a:lnTo>
                <a:lnTo>
                  <a:pt x="16" y="6"/>
                </a:lnTo>
                <a:lnTo>
                  <a:pt x="16" y="6"/>
                </a:lnTo>
                <a:lnTo>
                  <a:pt x="11" y="11"/>
                </a:lnTo>
                <a:lnTo>
                  <a:pt x="11" y="17"/>
                </a:lnTo>
                <a:lnTo>
                  <a:pt x="5" y="17"/>
                </a:lnTo>
                <a:lnTo>
                  <a:pt x="5" y="17"/>
                </a:lnTo>
                <a:lnTo>
                  <a:pt x="5" y="22"/>
                </a:lnTo>
                <a:lnTo>
                  <a:pt x="5" y="22"/>
                </a:lnTo>
                <a:lnTo>
                  <a:pt x="5" y="22"/>
                </a:lnTo>
                <a:lnTo>
                  <a:pt x="5" y="28"/>
                </a:lnTo>
                <a:lnTo>
                  <a:pt x="5" y="28"/>
                </a:lnTo>
                <a:lnTo>
                  <a:pt x="11" y="28"/>
                </a:lnTo>
                <a:lnTo>
                  <a:pt x="11" y="28"/>
                </a:lnTo>
                <a:lnTo>
                  <a:pt x="11" y="28"/>
                </a:lnTo>
                <a:lnTo>
                  <a:pt x="11" y="28"/>
                </a:lnTo>
                <a:lnTo>
                  <a:pt x="16" y="28"/>
                </a:lnTo>
                <a:lnTo>
                  <a:pt x="16" y="28"/>
                </a:lnTo>
                <a:lnTo>
                  <a:pt x="22" y="22"/>
                </a:lnTo>
                <a:lnTo>
                  <a:pt x="22" y="2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9" name=""/>
          <p:cNvSpPr/>
          <p:nvPr/>
        </p:nvSpPr>
        <p:spPr>
          <a:xfrm>
            <a:off x="4433760" y="2825640"/>
            <a:ext cx="25560" cy="60480"/>
          </a:xfrm>
          <a:custGeom>
            <a:avLst/>
            <a:gdLst/>
            <a:ahLst/>
            <a:rect l="l" t="t" r="r" b="b"/>
            <a:pathLst>
              <a:path w="16" h="38">
                <a:moveTo>
                  <a:pt x="5" y="38"/>
                </a:moveTo>
                <a:lnTo>
                  <a:pt x="0" y="38"/>
                </a:lnTo>
                <a:lnTo>
                  <a:pt x="11" y="11"/>
                </a:lnTo>
                <a:lnTo>
                  <a:pt x="11" y="11"/>
                </a:lnTo>
                <a:lnTo>
                  <a:pt x="5" y="11"/>
                </a:lnTo>
                <a:lnTo>
                  <a:pt x="5" y="11"/>
                </a:lnTo>
                <a:lnTo>
                  <a:pt x="5" y="11"/>
                </a:lnTo>
                <a:lnTo>
                  <a:pt x="5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6"/>
                </a:lnTo>
                <a:lnTo>
                  <a:pt x="5" y="6"/>
                </a:lnTo>
                <a:lnTo>
                  <a:pt x="5" y="6"/>
                </a:lnTo>
                <a:lnTo>
                  <a:pt x="5" y="6"/>
                </a:lnTo>
                <a:lnTo>
                  <a:pt x="11" y="6"/>
                </a:lnTo>
                <a:lnTo>
                  <a:pt x="11" y="6"/>
                </a:lnTo>
                <a:lnTo>
                  <a:pt x="11" y="6"/>
                </a:lnTo>
                <a:lnTo>
                  <a:pt x="11" y="6"/>
                </a:lnTo>
                <a:lnTo>
                  <a:pt x="16" y="0"/>
                </a:lnTo>
                <a:lnTo>
                  <a:pt x="16" y="6"/>
                </a:lnTo>
                <a:lnTo>
                  <a:pt x="5" y="38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0" name=""/>
          <p:cNvSpPr/>
          <p:nvPr/>
        </p:nvSpPr>
        <p:spPr>
          <a:xfrm>
            <a:off x="4459320" y="2843280"/>
            <a:ext cx="44280" cy="60120"/>
          </a:xfrm>
          <a:custGeom>
            <a:avLst/>
            <a:gdLst/>
            <a:ahLst/>
            <a:rect l="l" t="t" r="r" b="b"/>
            <a:pathLst>
              <a:path w="28" h="38">
                <a:moveTo>
                  <a:pt x="6" y="16"/>
                </a:moveTo>
                <a:lnTo>
                  <a:pt x="6" y="11"/>
                </a:lnTo>
                <a:lnTo>
                  <a:pt x="6" y="11"/>
                </a:lnTo>
                <a:lnTo>
                  <a:pt x="6" y="6"/>
                </a:lnTo>
                <a:lnTo>
                  <a:pt x="11" y="6"/>
                </a:lnTo>
                <a:lnTo>
                  <a:pt x="11" y="6"/>
                </a:lnTo>
                <a:lnTo>
                  <a:pt x="11" y="0"/>
                </a:lnTo>
                <a:lnTo>
                  <a:pt x="17" y="0"/>
                </a:lnTo>
                <a:lnTo>
                  <a:pt x="17" y="0"/>
                </a:lnTo>
                <a:lnTo>
                  <a:pt x="17" y="0"/>
                </a:lnTo>
                <a:lnTo>
                  <a:pt x="17" y="0"/>
                </a:lnTo>
                <a:lnTo>
                  <a:pt x="22" y="0"/>
                </a:lnTo>
                <a:lnTo>
                  <a:pt x="22" y="0"/>
                </a:lnTo>
                <a:lnTo>
                  <a:pt x="22" y="0"/>
                </a:lnTo>
                <a:lnTo>
                  <a:pt x="28" y="0"/>
                </a:lnTo>
                <a:lnTo>
                  <a:pt x="28" y="6"/>
                </a:lnTo>
                <a:lnTo>
                  <a:pt x="28" y="6"/>
                </a:lnTo>
                <a:lnTo>
                  <a:pt x="28" y="6"/>
                </a:lnTo>
                <a:lnTo>
                  <a:pt x="28" y="6"/>
                </a:lnTo>
                <a:lnTo>
                  <a:pt x="28" y="6"/>
                </a:lnTo>
                <a:lnTo>
                  <a:pt x="28" y="11"/>
                </a:lnTo>
                <a:lnTo>
                  <a:pt x="28" y="11"/>
                </a:lnTo>
                <a:lnTo>
                  <a:pt x="28" y="11"/>
                </a:lnTo>
                <a:lnTo>
                  <a:pt x="28" y="11"/>
                </a:lnTo>
                <a:lnTo>
                  <a:pt x="28" y="16"/>
                </a:lnTo>
                <a:lnTo>
                  <a:pt x="28" y="16"/>
                </a:lnTo>
                <a:lnTo>
                  <a:pt x="28" y="16"/>
                </a:lnTo>
                <a:lnTo>
                  <a:pt x="28" y="22"/>
                </a:lnTo>
                <a:lnTo>
                  <a:pt x="28" y="22"/>
                </a:lnTo>
                <a:lnTo>
                  <a:pt x="28" y="27"/>
                </a:lnTo>
                <a:lnTo>
                  <a:pt x="22" y="27"/>
                </a:lnTo>
                <a:lnTo>
                  <a:pt x="22" y="33"/>
                </a:lnTo>
                <a:lnTo>
                  <a:pt x="22" y="33"/>
                </a:lnTo>
                <a:lnTo>
                  <a:pt x="22" y="33"/>
                </a:lnTo>
                <a:lnTo>
                  <a:pt x="17" y="33"/>
                </a:lnTo>
                <a:lnTo>
                  <a:pt x="17" y="33"/>
                </a:lnTo>
                <a:lnTo>
                  <a:pt x="17" y="38"/>
                </a:lnTo>
                <a:lnTo>
                  <a:pt x="17" y="38"/>
                </a:lnTo>
                <a:lnTo>
                  <a:pt x="11" y="38"/>
                </a:lnTo>
                <a:lnTo>
                  <a:pt x="11" y="38"/>
                </a:lnTo>
                <a:lnTo>
                  <a:pt x="11" y="38"/>
                </a:lnTo>
                <a:lnTo>
                  <a:pt x="6" y="33"/>
                </a:lnTo>
                <a:lnTo>
                  <a:pt x="6" y="33"/>
                </a:lnTo>
                <a:lnTo>
                  <a:pt x="6" y="33"/>
                </a:lnTo>
                <a:lnTo>
                  <a:pt x="0" y="27"/>
                </a:lnTo>
                <a:lnTo>
                  <a:pt x="0" y="27"/>
                </a:lnTo>
                <a:lnTo>
                  <a:pt x="0" y="22"/>
                </a:lnTo>
                <a:lnTo>
                  <a:pt x="6" y="16"/>
                </a:lnTo>
                <a:lnTo>
                  <a:pt x="6" y="16"/>
                </a:lnTo>
                <a:close/>
                <a:moveTo>
                  <a:pt x="11" y="16"/>
                </a:moveTo>
                <a:lnTo>
                  <a:pt x="6" y="22"/>
                </a:lnTo>
                <a:lnTo>
                  <a:pt x="6" y="22"/>
                </a:lnTo>
                <a:lnTo>
                  <a:pt x="6" y="27"/>
                </a:lnTo>
                <a:lnTo>
                  <a:pt x="6" y="27"/>
                </a:lnTo>
                <a:lnTo>
                  <a:pt x="6" y="27"/>
                </a:lnTo>
                <a:lnTo>
                  <a:pt x="6" y="33"/>
                </a:lnTo>
                <a:lnTo>
                  <a:pt x="11" y="33"/>
                </a:lnTo>
                <a:lnTo>
                  <a:pt x="11" y="33"/>
                </a:lnTo>
                <a:lnTo>
                  <a:pt x="11" y="33"/>
                </a:lnTo>
                <a:lnTo>
                  <a:pt x="11" y="33"/>
                </a:lnTo>
                <a:lnTo>
                  <a:pt x="17" y="33"/>
                </a:lnTo>
                <a:lnTo>
                  <a:pt x="17" y="33"/>
                </a:lnTo>
                <a:lnTo>
                  <a:pt x="17" y="27"/>
                </a:lnTo>
                <a:lnTo>
                  <a:pt x="17" y="27"/>
                </a:lnTo>
                <a:lnTo>
                  <a:pt x="22" y="27"/>
                </a:lnTo>
                <a:lnTo>
                  <a:pt x="22" y="22"/>
                </a:lnTo>
                <a:lnTo>
                  <a:pt x="22" y="16"/>
                </a:lnTo>
                <a:lnTo>
                  <a:pt x="22" y="16"/>
                </a:lnTo>
                <a:lnTo>
                  <a:pt x="28" y="11"/>
                </a:lnTo>
                <a:lnTo>
                  <a:pt x="28" y="11"/>
                </a:lnTo>
                <a:lnTo>
                  <a:pt x="22" y="6"/>
                </a:lnTo>
                <a:lnTo>
                  <a:pt x="22" y="6"/>
                </a:lnTo>
                <a:lnTo>
                  <a:pt x="22" y="6"/>
                </a:lnTo>
                <a:lnTo>
                  <a:pt x="22" y="6"/>
                </a:lnTo>
                <a:lnTo>
                  <a:pt x="22" y="6"/>
                </a:lnTo>
                <a:lnTo>
                  <a:pt x="17" y="6"/>
                </a:lnTo>
                <a:lnTo>
                  <a:pt x="17" y="6"/>
                </a:lnTo>
                <a:lnTo>
                  <a:pt x="17" y="6"/>
                </a:lnTo>
                <a:lnTo>
                  <a:pt x="17" y="6"/>
                </a:lnTo>
                <a:lnTo>
                  <a:pt x="11" y="11"/>
                </a:lnTo>
                <a:lnTo>
                  <a:pt x="11" y="11"/>
                </a:lnTo>
                <a:lnTo>
                  <a:pt x="11" y="16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1" name=""/>
          <p:cNvSpPr/>
          <p:nvPr/>
        </p:nvSpPr>
        <p:spPr>
          <a:xfrm>
            <a:off x="4503600" y="2860560"/>
            <a:ext cx="42840" cy="60480"/>
          </a:xfrm>
          <a:custGeom>
            <a:avLst/>
            <a:gdLst/>
            <a:ahLst/>
            <a:rect l="l" t="t" r="r" b="b"/>
            <a:pathLst>
              <a:path w="27" h="38">
                <a:moveTo>
                  <a:pt x="5" y="11"/>
                </a:moveTo>
                <a:lnTo>
                  <a:pt x="5" y="11"/>
                </a:lnTo>
                <a:lnTo>
                  <a:pt x="5" y="5"/>
                </a:lnTo>
                <a:lnTo>
                  <a:pt x="5" y="5"/>
                </a:lnTo>
                <a:lnTo>
                  <a:pt x="10" y="5"/>
                </a:lnTo>
                <a:lnTo>
                  <a:pt x="10" y="5"/>
                </a:lnTo>
                <a:lnTo>
                  <a:pt x="10" y="0"/>
                </a:lnTo>
                <a:lnTo>
                  <a:pt x="10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1" y="0"/>
                </a:lnTo>
                <a:lnTo>
                  <a:pt x="21" y="0"/>
                </a:lnTo>
                <a:lnTo>
                  <a:pt x="21" y="0"/>
                </a:lnTo>
                <a:lnTo>
                  <a:pt x="21" y="0"/>
                </a:lnTo>
                <a:lnTo>
                  <a:pt x="27" y="5"/>
                </a:lnTo>
                <a:lnTo>
                  <a:pt x="27" y="5"/>
                </a:lnTo>
                <a:lnTo>
                  <a:pt x="27" y="5"/>
                </a:lnTo>
                <a:lnTo>
                  <a:pt x="27" y="5"/>
                </a:lnTo>
                <a:lnTo>
                  <a:pt x="27" y="5"/>
                </a:lnTo>
                <a:lnTo>
                  <a:pt x="27" y="5"/>
                </a:lnTo>
                <a:lnTo>
                  <a:pt x="27" y="11"/>
                </a:lnTo>
                <a:lnTo>
                  <a:pt x="27" y="11"/>
                </a:lnTo>
                <a:lnTo>
                  <a:pt x="27" y="11"/>
                </a:lnTo>
                <a:lnTo>
                  <a:pt x="27" y="16"/>
                </a:lnTo>
                <a:lnTo>
                  <a:pt x="27" y="16"/>
                </a:lnTo>
                <a:lnTo>
                  <a:pt x="27" y="16"/>
                </a:lnTo>
                <a:lnTo>
                  <a:pt x="27" y="22"/>
                </a:lnTo>
                <a:lnTo>
                  <a:pt x="27" y="22"/>
                </a:lnTo>
                <a:lnTo>
                  <a:pt x="21" y="27"/>
                </a:lnTo>
                <a:lnTo>
                  <a:pt x="21" y="27"/>
                </a:lnTo>
                <a:lnTo>
                  <a:pt x="21" y="27"/>
                </a:lnTo>
                <a:lnTo>
                  <a:pt x="21" y="33"/>
                </a:lnTo>
                <a:lnTo>
                  <a:pt x="16" y="33"/>
                </a:lnTo>
                <a:lnTo>
                  <a:pt x="16" y="33"/>
                </a:lnTo>
                <a:lnTo>
                  <a:pt x="16" y="33"/>
                </a:lnTo>
                <a:lnTo>
                  <a:pt x="16" y="38"/>
                </a:lnTo>
                <a:lnTo>
                  <a:pt x="10" y="38"/>
                </a:lnTo>
                <a:lnTo>
                  <a:pt x="10" y="38"/>
                </a:lnTo>
                <a:lnTo>
                  <a:pt x="10" y="38"/>
                </a:lnTo>
                <a:lnTo>
                  <a:pt x="5" y="33"/>
                </a:lnTo>
                <a:lnTo>
                  <a:pt x="5" y="33"/>
                </a:lnTo>
                <a:lnTo>
                  <a:pt x="5" y="33"/>
                </a:lnTo>
                <a:lnTo>
                  <a:pt x="0" y="33"/>
                </a:lnTo>
                <a:lnTo>
                  <a:pt x="0" y="27"/>
                </a:lnTo>
                <a:lnTo>
                  <a:pt x="0" y="27"/>
                </a:lnTo>
                <a:lnTo>
                  <a:pt x="0" y="22"/>
                </a:lnTo>
                <a:lnTo>
                  <a:pt x="0" y="16"/>
                </a:lnTo>
                <a:lnTo>
                  <a:pt x="5" y="11"/>
                </a:lnTo>
                <a:close/>
                <a:moveTo>
                  <a:pt x="5" y="16"/>
                </a:moveTo>
                <a:lnTo>
                  <a:pt x="5" y="22"/>
                </a:lnTo>
                <a:lnTo>
                  <a:pt x="5" y="22"/>
                </a:lnTo>
                <a:lnTo>
                  <a:pt x="5" y="27"/>
                </a:lnTo>
                <a:lnTo>
                  <a:pt x="5" y="27"/>
                </a:lnTo>
                <a:lnTo>
                  <a:pt x="5" y="27"/>
                </a:lnTo>
                <a:lnTo>
                  <a:pt x="5" y="33"/>
                </a:lnTo>
                <a:lnTo>
                  <a:pt x="5" y="33"/>
                </a:lnTo>
                <a:lnTo>
                  <a:pt x="10" y="33"/>
                </a:lnTo>
                <a:lnTo>
                  <a:pt x="10" y="33"/>
                </a:lnTo>
                <a:lnTo>
                  <a:pt x="10" y="33"/>
                </a:lnTo>
                <a:lnTo>
                  <a:pt x="10" y="33"/>
                </a:lnTo>
                <a:lnTo>
                  <a:pt x="16" y="33"/>
                </a:lnTo>
                <a:lnTo>
                  <a:pt x="16" y="27"/>
                </a:lnTo>
                <a:lnTo>
                  <a:pt x="16" y="27"/>
                </a:lnTo>
                <a:lnTo>
                  <a:pt x="21" y="22"/>
                </a:lnTo>
                <a:lnTo>
                  <a:pt x="21" y="22"/>
                </a:lnTo>
                <a:lnTo>
                  <a:pt x="21" y="16"/>
                </a:lnTo>
                <a:lnTo>
                  <a:pt x="21" y="11"/>
                </a:lnTo>
                <a:lnTo>
                  <a:pt x="21" y="11"/>
                </a:lnTo>
                <a:lnTo>
                  <a:pt x="21" y="11"/>
                </a:lnTo>
                <a:lnTo>
                  <a:pt x="21" y="5"/>
                </a:lnTo>
                <a:lnTo>
                  <a:pt x="21" y="5"/>
                </a:lnTo>
                <a:lnTo>
                  <a:pt x="21" y="5"/>
                </a:lnTo>
                <a:lnTo>
                  <a:pt x="21" y="5"/>
                </a:lnTo>
                <a:lnTo>
                  <a:pt x="16" y="5"/>
                </a:lnTo>
                <a:lnTo>
                  <a:pt x="16" y="5"/>
                </a:lnTo>
                <a:lnTo>
                  <a:pt x="16" y="5"/>
                </a:lnTo>
                <a:lnTo>
                  <a:pt x="16" y="5"/>
                </a:lnTo>
                <a:lnTo>
                  <a:pt x="10" y="5"/>
                </a:lnTo>
                <a:lnTo>
                  <a:pt x="10" y="11"/>
                </a:lnTo>
                <a:lnTo>
                  <a:pt x="10" y="11"/>
                </a:lnTo>
                <a:lnTo>
                  <a:pt x="5" y="16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2" name=""/>
          <p:cNvSpPr/>
          <p:nvPr/>
        </p:nvSpPr>
        <p:spPr>
          <a:xfrm>
            <a:off x="4321080" y="2575080"/>
            <a:ext cx="60480" cy="25200"/>
          </a:xfrm>
          <a:custGeom>
            <a:avLst/>
            <a:gdLst/>
            <a:ahLst/>
            <a:rect l="l" t="t" r="r" b="b"/>
            <a:pathLst>
              <a:path w="38" h="16">
                <a:moveTo>
                  <a:pt x="0" y="6"/>
                </a:moveTo>
                <a:lnTo>
                  <a:pt x="0" y="0"/>
                </a:lnTo>
                <a:lnTo>
                  <a:pt x="27" y="11"/>
                </a:lnTo>
                <a:lnTo>
                  <a:pt x="27" y="6"/>
                </a:lnTo>
                <a:lnTo>
                  <a:pt x="27" y="6"/>
                </a:lnTo>
                <a:lnTo>
                  <a:pt x="27" y="6"/>
                </a:lnTo>
                <a:lnTo>
                  <a:pt x="27" y="6"/>
                </a:lnTo>
                <a:lnTo>
                  <a:pt x="27" y="0"/>
                </a:lnTo>
                <a:lnTo>
                  <a:pt x="27" y="0"/>
                </a:lnTo>
                <a:lnTo>
                  <a:pt x="27" y="0"/>
                </a:lnTo>
                <a:lnTo>
                  <a:pt x="27" y="0"/>
                </a:lnTo>
                <a:lnTo>
                  <a:pt x="27" y="0"/>
                </a:lnTo>
                <a:lnTo>
                  <a:pt x="33" y="0"/>
                </a:lnTo>
                <a:lnTo>
                  <a:pt x="33" y="6"/>
                </a:lnTo>
                <a:lnTo>
                  <a:pt x="33" y="6"/>
                </a:lnTo>
                <a:lnTo>
                  <a:pt x="33" y="6"/>
                </a:lnTo>
                <a:lnTo>
                  <a:pt x="33" y="11"/>
                </a:lnTo>
                <a:lnTo>
                  <a:pt x="33" y="11"/>
                </a:lnTo>
                <a:lnTo>
                  <a:pt x="33" y="11"/>
                </a:lnTo>
                <a:lnTo>
                  <a:pt x="38" y="11"/>
                </a:lnTo>
                <a:lnTo>
                  <a:pt x="33" y="16"/>
                </a:lnTo>
                <a:lnTo>
                  <a:pt x="0" y="6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3" name=""/>
          <p:cNvSpPr/>
          <p:nvPr/>
        </p:nvSpPr>
        <p:spPr>
          <a:xfrm>
            <a:off x="4313160" y="2610000"/>
            <a:ext cx="60480" cy="34920"/>
          </a:xfrm>
          <a:custGeom>
            <a:avLst/>
            <a:gdLst/>
            <a:ahLst/>
            <a:rect l="l" t="t" r="r" b="b"/>
            <a:pathLst>
              <a:path w="38" h="22">
                <a:moveTo>
                  <a:pt x="21" y="0"/>
                </a:moveTo>
                <a:lnTo>
                  <a:pt x="21" y="0"/>
                </a:lnTo>
                <a:lnTo>
                  <a:pt x="27" y="0"/>
                </a:lnTo>
                <a:lnTo>
                  <a:pt x="27" y="0"/>
                </a:lnTo>
                <a:lnTo>
                  <a:pt x="27" y="5"/>
                </a:lnTo>
                <a:lnTo>
                  <a:pt x="32" y="5"/>
                </a:lnTo>
                <a:lnTo>
                  <a:pt x="32" y="5"/>
                </a:lnTo>
                <a:lnTo>
                  <a:pt x="32" y="5"/>
                </a:lnTo>
                <a:lnTo>
                  <a:pt x="32" y="11"/>
                </a:lnTo>
                <a:lnTo>
                  <a:pt x="32" y="11"/>
                </a:lnTo>
                <a:lnTo>
                  <a:pt x="38" y="11"/>
                </a:lnTo>
                <a:lnTo>
                  <a:pt x="38" y="16"/>
                </a:lnTo>
                <a:lnTo>
                  <a:pt x="32" y="16"/>
                </a:lnTo>
                <a:lnTo>
                  <a:pt x="32" y="16"/>
                </a:lnTo>
                <a:lnTo>
                  <a:pt x="32" y="16"/>
                </a:lnTo>
                <a:lnTo>
                  <a:pt x="32" y="22"/>
                </a:lnTo>
                <a:lnTo>
                  <a:pt x="32" y="22"/>
                </a:lnTo>
                <a:lnTo>
                  <a:pt x="32" y="22"/>
                </a:lnTo>
                <a:lnTo>
                  <a:pt x="32" y="22"/>
                </a:lnTo>
                <a:lnTo>
                  <a:pt x="27" y="22"/>
                </a:lnTo>
                <a:lnTo>
                  <a:pt x="27" y="22"/>
                </a:lnTo>
                <a:lnTo>
                  <a:pt x="27" y="22"/>
                </a:lnTo>
                <a:lnTo>
                  <a:pt x="27" y="22"/>
                </a:lnTo>
                <a:lnTo>
                  <a:pt x="21" y="22"/>
                </a:lnTo>
                <a:lnTo>
                  <a:pt x="21" y="22"/>
                </a:lnTo>
                <a:lnTo>
                  <a:pt x="21" y="22"/>
                </a:lnTo>
                <a:lnTo>
                  <a:pt x="21" y="22"/>
                </a:lnTo>
                <a:lnTo>
                  <a:pt x="16" y="22"/>
                </a:lnTo>
                <a:lnTo>
                  <a:pt x="16" y="22"/>
                </a:lnTo>
                <a:lnTo>
                  <a:pt x="10" y="22"/>
                </a:lnTo>
                <a:lnTo>
                  <a:pt x="10" y="22"/>
                </a:lnTo>
                <a:lnTo>
                  <a:pt x="5" y="22"/>
                </a:lnTo>
                <a:lnTo>
                  <a:pt x="5" y="22"/>
                </a:lnTo>
                <a:lnTo>
                  <a:pt x="5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5"/>
                </a:lnTo>
                <a:lnTo>
                  <a:pt x="0" y="5"/>
                </a:lnTo>
                <a:lnTo>
                  <a:pt x="0" y="0"/>
                </a:lnTo>
                <a:lnTo>
                  <a:pt x="0" y="0"/>
                </a:lnTo>
                <a:lnTo>
                  <a:pt x="5" y="0"/>
                </a:lnTo>
                <a:lnTo>
                  <a:pt x="5" y="0"/>
                </a:lnTo>
                <a:lnTo>
                  <a:pt x="10" y="0"/>
                </a:lnTo>
                <a:lnTo>
                  <a:pt x="16" y="0"/>
                </a:lnTo>
                <a:lnTo>
                  <a:pt x="21" y="0"/>
                </a:lnTo>
                <a:close/>
                <a:moveTo>
                  <a:pt x="16" y="5"/>
                </a:moveTo>
                <a:lnTo>
                  <a:pt x="16" y="5"/>
                </a:lnTo>
                <a:lnTo>
                  <a:pt x="10" y="5"/>
                </a:lnTo>
                <a:lnTo>
                  <a:pt x="10" y="5"/>
                </a:lnTo>
                <a:lnTo>
                  <a:pt x="5" y="5"/>
                </a:lnTo>
                <a:lnTo>
                  <a:pt x="5" y="5"/>
                </a:lnTo>
                <a:lnTo>
                  <a:pt x="5" y="5"/>
                </a:lnTo>
                <a:lnTo>
                  <a:pt x="5" y="5"/>
                </a:lnTo>
                <a:lnTo>
                  <a:pt x="0" y="5"/>
                </a:lnTo>
                <a:lnTo>
                  <a:pt x="0" y="11"/>
                </a:lnTo>
                <a:lnTo>
                  <a:pt x="0" y="11"/>
                </a:lnTo>
                <a:lnTo>
                  <a:pt x="5" y="11"/>
                </a:lnTo>
                <a:lnTo>
                  <a:pt x="5" y="11"/>
                </a:lnTo>
                <a:lnTo>
                  <a:pt x="5" y="16"/>
                </a:lnTo>
                <a:lnTo>
                  <a:pt x="10" y="16"/>
                </a:lnTo>
                <a:lnTo>
                  <a:pt x="10" y="16"/>
                </a:lnTo>
                <a:lnTo>
                  <a:pt x="16" y="16"/>
                </a:lnTo>
                <a:lnTo>
                  <a:pt x="21" y="22"/>
                </a:lnTo>
                <a:lnTo>
                  <a:pt x="21" y="22"/>
                </a:lnTo>
                <a:lnTo>
                  <a:pt x="27" y="22"/>
                </a:lnTo>
                <a:lnTo>
                  <a:pt x="27" y="22"/>
                </a:lnTo>
                <a:lnTo>
                  <a:pt x="27" y="16"/>
                </a:lnTo>
                <a:lnTo>
                  <a:pt x="32" y="16"/>
                </a:lnTo>
                <a:lnTo>
                  <a:pt x="32" y="16"/>
                </a:lnTo>
                <a:lnTo>
                  <a:pt x="32" y="16"/>
                </a:lnTo>
                <a:lnTo>
                  <a:pt x="32" y="11"/>
                </a:lnTo>
                <a:lnTo>
                  <a:pt x="32" y="11"/>
                </a:lnTo>
                <a:lnTo>
                  <a:pt x="32" y="11"/>
                </a:lnTo>
                <a:lnTo>
                  <a:pt x="32" y="11"/>
                </a:lnTo>
                <a:lnTo>
                  <a:pt x="27" y="5"/>
                </a:lnTo>
                <a:lnTo>
                  <a:pt x="27" y="5"/>
                </a:lnTo>
                <a:lnTo>
                  <a:pt x="21" y="5"/>
                </a:lnTo>
                <a:lnTo>
                  <a:pt x="16" y="5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4" name=""/>
          <p:cNvSpPr/>
          <p:nvPr/>
        </p:nvSpPr>
        <p:spPr>
          <a:xfrm>
            <a:off x="4303800" y="2652840"/>
            <a:ext cx="52200" cy="42840"/>
          </a:xfrm>
          <a:custGeom>
            <a:avLst/>
            <a:gdLst/>
            <a:ahLst/>
            <a:rect l="l" t="t" r="r" b="b"/>
            <a:pathLst>
              <a:path w="33" h="27">
                <a:moveTo>
                  <a:pt x="16" y="0"/>
                </a:moveTo>
                <a:lnTo>
                  <a:pt x="22" y="0"/>
                </a:lnTo>
                <a:lnTo>
                  <a:pt x="22" y="0"/>
                </a:lnTo>
                <a:lnTo>
                  <a:pt x="27" y="6"/>
                </a:lnTo>
                <a:lnTo>
                  <a:pt x="27" y="6"/>
                </a:lnTo>
                <a:lnTo>
                  <a:pt x="33" y="6"/>
                </a:lnTo>
                <a:lnTo>
                  <a:pt x="33" y="6"/>
                </a:lnTo>
                <a:lnTo>
                  <a:pt x="33" y="6"/>
                </a:lnTo>
                <a:lnTo>
                  <a:pt x="33" y="11"/>
                </a:lnTo>
                <a:lnTo>
                  <a:pt x="33" y="11"/>
                </a:lnTo>
                <a:lnTo>
                  <a:pt x="33" y="11"/>
                </a:lnTo>
                <a:lnTo>
                  <a:pt x="33" y="17"/>
                </a:lnTo>
                <a:lnTo>
                  <a:pt x="33" y="17"/>
                </a:lnTo>
                <a:lnTo>
                  <a:pt x="33" y="17"/>
                </a:lnTo>
                <a:lnTo>
                  <a:pt x="33" y="17"/>
                </a:lnTo>
                <a:lnTo>
                  <a:pt x="33" y="22"/>
                </a:lnTo>
                <a:lnTo>
                  <a:pt x="33" y="22"/>
                </a:lnTo>
                <a:lnTo>
                  <a:pt x="33" y="22"/>
                </a:lnTo>
                <a:lnTo>
                  <a:pt x="27" y="22"/>
                </a:lnTo>
                <a:lnTo>
                  <a:pt x="27" y="22"/>
                </a:lnTo>
                <a:lnTo>
                  <a:pt x="27" y="22"/>
                </a:lnTo>
                <a:lnTo>
                  <a:pt x="27" y="22"/>
                </a:lnTo>
                <a:lnTo>
                  <a:pt x="27" y="22"/>
                </a:lnTo>
                <a:lnTo>
                  <a:pt x="22" y="22"/>
                </a:lnTo>
                <a:lnTo>
                  <a:pt x="22" y="27"/>
                </a:lnTo>
                <a:lnTo>
                  <a:pt x="22" y="22"/>
                </a:lnTo>
                <a:lnTo>
                  <a:pt x="16" y="22"/>
                </a:lnTo>
                <a:lnTo>
                  <a:pt x="16" y="22"/>
                </a:lnTo>
                <a:lnTo>
                  <a:pt x="11" y="22"/>
                </a:lnTo>
                <a:lnTo>
                  <a:pt x="11" y="22"/>
                </a:lnTo>
                <a:lnTo>
                  <a:pt x="6" y="22"/>
                </a:lnTo>
                <a:lnTo>
                  <a:pt x="6" y="22"/>
                </a:lnTo>
                <a:lnTo>
                  <a:pt x="6" y="22"/>
                </a:lnTo>
                <a:lnTo>
                  <a:pt x="0" y="17"/>
                </a:lnTo>
                <a:lnTo>
                  <a:pt x="0" y="17"/>
                </a:lnTo>
                <a:lnTo>
                  <a:pt x="0" y="17"/>
                </a:lnTo>
                <a:lnTo>
                  <a:pt x="0" y="17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0"/>
                </a:lnTo>
                <a:lnTo>
                  <a:pt x="6" y="0"/>
                </a:lnTo>
                <a:lnTo>
                  <a:pt x="6" y="0"/>
                </a:lnTo>
                <a:lnTo>
                  <a:pt x="11" y="0"/>
                </a:lnTo>
                <a:lnTo>
                  <a:pt x="16" y="0"/>
                </a:lnTo>
                <a:lnTo>
                  <a:pt x="16" y="0"/>
                </a:lnTo>
                <a:close/>
                <a:moveTo>
                  <a:pt x="16" y="6"/>
                </a:moveTo>
                <a:lnTo>
                  <a:pt x="11" y="6"/>
                </a:lnTo>
                <a:lnTo>
                  <a:pt x="11" y="6"/>
                </a:lnTo>
                <a:lnTo>
                  <a:pt x="6" y="6"/>
                </a:lnTo>
                <a:lnTo>
                  <a:pt x="6" y="6"/>
                </a:lnTo>
                <a:lnTo>
                  <a:pt x="6" y="6"/>
                </a:lnTo>
                <a:lnTo>
                  <a:pt x="0" y="6"/>
                </a:lnTo>
                <a:lnTo>
                  <a:pt x="0" y="6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6" y="17"/>
                </a:lnTo>
                <a:lnTo>
                  <a:pt x="6" y="17"/>
                </a:lnTo>
                <a:lnTo>
                  <a:pt x="6" y="17"/>
                </a:lnTo>
                <a:lnTo>
                  <a:pt x="11" y="17"/>
                </a:lnTo>
                <a:lnTo>
                  <a:pt x="16" y="17"/>
                </a:lnTo>
                <a:lnTo>
                  <a:pt x="16" y="22"/>
                </a:lnTo>
                <a:lnTo>
                  <a:pt x="22" y="22"/>
                </a:lnTo>
                <a:lnTo>
                  <a:pt x="22" y="22"/>
                </a:lnTo>
                <a:lnTo>
                  <a:pt x="27" y="22"/>
                </a:lnTo>
                <a:lnTo>
                  <a:pt x="27" y="17"/>
                </a:lnTo>
                <a:lnTo>
                  <a:pt x="27" y="17"/>
                </a:lnTo>
                <a:lnTo>
                  <a:pt x="27" y="17"/>
                </a:lnTo>
                <a:lnTo>
                  <a:pt x="33" y="17"/>
                </a:lnTo>
                <a:lnTo>
                  <a:pt x="33" y="17"/>
                </a:lnTo>
                <a:lnTo>
                  <a:pt x="33" y="11"/>
                </a:lnTo>
                <a:lnTo>
                  <a:pt x="27" y="11"/>
                </a:lnTo>
                <a:lnTo>
                  <a:pt x="27" y="11"/>
                </a:lnTo>
                <a:lnTo>
                  <a:pt x="27" y="11"/>
                </a:lnTo>
                <a:lnTo>
                  <a:pt x="27" y="6"/>
                </a:lnTo>
                <a:lnTo>
                  <a:pt x="22" y="6"/>
                </a:lnTo>
                <a:lnTo>
                  <a:pt x="16" y="6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5" name=""/>
          <p:cNvSpPr/>
          <p:nvPr/>
        </p:nvSpPr>
        <p:spPr>
          <a:xfrm>
            <a:off x="5160960" y="2090880"/>
            <a:ext cx="60480" cy="34920"/>
          </a:xfrm>
          <a:custGeom>
            <a:avLst/>
            <a:gdLst/>
            <a:ahLst/>
            <a:rect l="l" t="t" r="r" b="b"/>
            <a:pathLst>
              <a:path w="38" h="22">
                <a:moveTo>
                  <a:pt x="0" y="22"/>
                </a:moveTo>
                <a:lnTo>
                  <a:pt x="0" y="16"/>
                </a:lnTo>
                <a:lnTo>
                  <a:pt x="27" y="11"/>
                </a:lnTo>
                <a:lnTo>
                  <a:pt x="27" y="11"/>
                </a:lnTo>
                <a:lnTo>
                  <a:pt x="27" y="11"/>
                </a:lnTo>
                <a:lnTo>
                  <a:pt x="27" y="5"/>
                </a:lnTo>
                <a:lnTo>
                  <a:pt x="27" y="5"/>
                </a:lnTo>
                <a:lnTo>
                  <a:pt x="27" y="5"/>
                </a:lnTo>
                <a:lnTo>
                  <a:pt x="22" y="5"/>
                </a:lnTo>
                <a:lnTo>
                  <a:pt x="22" y="5"/>
                </a:lnTo>
                <a:lnTo>
                  <a:pt x="22" y="0"/>
                </a:lnTo>
                <a:lnTo>
                  <a:pt x="27" y="0"/>
                </a:lnTo>
                <a:lnTo>
                  <a:pt x="27" y="5"/>
                </a:lnTo>
                <a:lnTo>
                  <a:pt x="27" y="5"/>
                </a:lnTo>
                <a:lnTo>
                  <a:pt x="33" y="5"/>
                </a:lnTo>
                <a:lnTo>
                  <a:pt x="33" y="5"/>
                </a:lnTo>
                <a:lnTo>
                  <a:pt x="33" y="11"/>
                </a:lnTo>
                <a:lnTo>
                  <a:pt x="33" y="11"/>
                </a:lnTo>
                <a:lnTo>
                  <a:pt x="38" y="11"/>
                </a:lnTo>
                <a:lnTo>
                  <a:pt x="38" y="11"/>
                </a:lnTo>
                <a:lnTo>
                  <a:pt x="38" y="16"/>
                </a:lnTo>
                <a:lnTo>
                  <a:pt x="0" y="2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6" name=""/>
          <p:cNvSpPr/>
          <p:nvPr/>
        </p:nvSpPr>
        <p:spPr>
          <a:xfrm>
            <a:off x="5168880" y="2133720"/>
            <a:ext cx="61920" cy="42840"/>
          </a:xfrm>
          <a:custGeom>
            <a:avLst/>
            <a:gdLst/>
            <a:ahLst/>
            <a:rect l="l" t="t" r="r" b="b"/>
            <a:pathLst>
              <a:path w="39" h="27">
                <a:moveTo>
                  <a:pt x="17" y="0"/>
                </a:moveTo>
                <a:lnTo>
                  <a:pt x="22" y="0"/>
                </a:lnTo>
                <a:lnTo>
                  <a:pt x="22" y="0"/>
                </a:lnTo>
                <a:lnTo>
                  <a:pt x="22" y="0"/>
                </a:lnTo>
                <a:lnTo>
                  <a:pt x="28" y="0"/>
                </a:lnTo>
                <a:lnTo>
                  <a:pt x="28" y="0"/>
                </a:lnTo>
                <a:lnTo>
                  <a:pt x="33" y="0"/>
                </a:lnTo>
                <a:lnTo>
                  <a:pt x="33" y="0"/>
                </a:lnTo>
                <a:lnTo>
                  <a:pt x="33" y="6"/>
                </a:lnTo>
                <a:lnTo>
                  <a:pt x="33" y="6"/>
                </a:lnTo>
                <a:lnTo>
                  <a:pt x="33" y="6"/>
                </a:lnTo>
                <a:lnTo>
                  <a:pt x="39" y="6"/>
                </a:lnTo>
                <a:lnTo>
                  <a:pt x="39" y="11"/>
                </a:lnTo>
                <a:lnTo>
                  <a:pt x="39" y="11"/>
                </a:lnTo>
                <a:lnTo>
                  <a:pt x="39" y="11"/>
                </a:lnTo>
                <a:lnTo>
                  <a:pt x="39" y="16"/>
                </a:lnTo>
                <a:lnTo>
                  <a:pt x="39" y="16"/>
                </a:lnTo>
                <a:lnTo>
                  <a:pt x="39" y="16"/>
                </a:lnTo>
                <a:lnTo>
                  <a:pt x="33" y="16"/>
                </a:lnTo>
                <a:lnTo>
                  <a:pt x="33" y="16"/>
                </a:lnTo>
                <a:lnTo>
                  <a:pt x="33" y="16"/>
                </a:lnTo>
                <a:lnTo>
                  <a:pt x="33" y="22"/>
                </a:lnTo>
                <a:lnTo>
                  <a:pt x="33" y="22"/>
                </a:lnTo>
                <a:lnTo>
                  <a:pt x="28" y="22"/>
                </a:lnTo>
                <a:lnTo>
                  <a:pt x="28" y="22"/>
                </a:lnTo>
                <a:lnTo>
                  <a:pt x="28" y="22"/>
                </a:lnTo>
                <a:lnTo>
                  <a:pt x="28" y="22"/>
                </a:lnTo>
                <a:lnTo>
                  <a:pt x="22" y="22"/>
                </a:lnTo>
                <a:lnTo>
                  <a:pt x="22" y="22"/>
                </a:lnTo>
                <a:lnTo>
                  <a:pt x="17" y="27"/>
                </a:lnTo>
                <a:lnTo>
                  <a:pt x="17" y="27"/>
                </a:lnTo>
                <a:lnTo>
                  <a:pt x="11" y="27"/>
                </a:lnTo>
                <a:lnTo>
                  <a:pt x="11" y="27"/>
                </a:lnTo>
                <a:lnTo>
                  <a:pt x="6" y="22"/>
                </a:lnTo>
                <a:lnTo>
                  <a:pt x="6" y="22"/>
                </a:lnTo>
                <a:lnTo>
                  <a:pt x="6" y="22"/>
                </a:lnTo>
                <a:lnTo>
                  <a:pt x="6" y="22"/>
                </a:lnTo>
                <a:lnTo>
                  <a:pt x="0" y="22"/>
                </a:lnTo>
                <a:lnTo>
                  <a:pt x="0" y="22"/>
                </a:lnTo>
                <a:lnTo>
                  <a:pt x="0" y="16"/>
                </a:lnTo>
                <a:lnTo>
                  <a:pt x="0" y="16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6"/>
                </a:lnTo>
                <a:lnTo>
                  <a:pt x="6" y="6"/>
                </a:lnTo>
                <a:lnTo>
                  <a:pt x="6" y="6"/>
                </a:lnTo>
                <a:lnTo>
                  <a:pt x="11" y="0"/>
                </a:lnTo>
                <a:lnTo>
                  <a:pt x="17" y="0"/>
                </a:lnTo>
                <a:close/>
                <a:moveTo>
                  <a:pt x="17" y="6"/>
                </a:moveTo>
                <a:lnTo>
                  <a:pt x="11" y="6"/>
                </a:lnTo>
                <a:lnTo>
                  <a:pt x="11" y="6"/>
                </a:lnTo>
                <a:lnTo>
                  <a:pt x="6" y="11"/>
                </a:lnTo>
                <a:lnTo>
                  <a:pt x="6" y="11"/>
                </a:lnTo>
                <a:lnTo>
                  <a:pt x="6" y="11"/>
                </a:lnTo>
                <a:lnTo>
                  <a:pt x="6" y="11"/>
                </a:lnTo>
                <a:lnTo>
                  <a:pt x="6" y="16"/>
                </a:lnTo>
                <a:lnTo>
                  <a:pt x="6" y="16"/>
                </a:lnTo>
                <a:lnTo>
                  <a:pt x="6" y="16"/>
                </a:lnTo>
                <a:lnTo>
                  <a:pt x="6" y="16"/>
                </a:lnTo>
                <a:lnTo>
                  <a:pt x="6" y="16"/>
                </a:lnTo>
                <a:lnTo>
                  <a:pt x="6" y="22"/>
                </a:lnTo>
                <a:lnTo>
                  <a:pt x="11" y="22"/>
                </a:lnTo>
                <a:lnTo>
                  <a:pt x="11" y="22"/>
                </a:lnTo>
                <a:lnTo>
                  <a:pt x="17" y="22"/>
                </a:lnTo>
                <a:lnTo>
                  <a:pt x="22" y="22"/>
                </a:lnTo>
                <a:lnTo>
                  <a:pt x="22" y="16"/>
                </a:lnTo>
                <a:lnTo>
                  <a:pt x="28" y="16"/>
                </a:lnTo>
                <a:lnTo>
                  <a:pt x="28" y="16"/>
                </a:lnTo>
                <a:lnTo>
                  <a:pt x="33" y="16"/>
                </a:lnTo>
                <a:lnTo>
                  <a:pt x="33" y="16"/>
                </a:lnTo>
                <a:lnTo>
                  <a:pt x="33" y="11"/>
                </a:lnTo>
                <a:lnTo>
                  <a:pt x="33" y="11"/>
                </a:lnTo>
                <a:lnTo>
                  <a:pt x="33" y="11"/>
                </a:lnTo>
                <a:lnTo>
                  <a:pt x="33" y="11"/>
                </a:lnTo>
                <a:lnTo>
                  <a:pt x="33" y="6"/>
                </a:lnTo>
                <a:lnTo>
                  <a:pt x="33" y="6"/>
                </a:lnTo>
                <a:lnTo>
                  <a:pt x="28" y="6"/>
                </a:lnTo>
                <a:lnTo>
                  <a:pt x="28" y="6"/>
                </a:lnTo>
                <a:lnTo>
                  <a:pt x="22" y="6"/>
                </a:lnTo>
                <a:lnTo>
                  <a:pt x="22" y="6"/>
                </a:lnTo>
                <a:lnTo>
                  <a:pt x="17" y="6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7" name=""/>
          <p:cNvSpPr/>
          <p:nvPr/>
        </p:nvSpPr>
        <p:spPr>
          <a:xfrm>
            <a:off x="5178600" y="2176560"/>
            <a:ext cx="60120" cy="44280"/>
          </a:xfrm>
          <a:custGeom>
            <a:avLst/>
            <a:gdLst/>
            <a:ahLst/>
            <a:rect l="l" t="t" r="r" b="b"/>
            <a:pathLst>
              <a:path w="38" h="28">
                <a:moveTo>
                  <a:pt x="16" y="0"/>
                </a:moveTo>
                <a:lnTo>
                  <a:pt x="16" y="0"/>
                </a:lnTo>
                <a:lnTo>
                  <a:pt x="22" y="0"/>
                </a:lnTo>
                <a:lnTo>
                  <a:pt x="22" y="0"/>
                </a:lnTo>
                <a:lnTo>
                  <a:pt x="27" y="0"/>
                </a:lnTo>
                <a:lnTo>
                  <a:pt x="27" y="0"/>
                </a:lnTo>
                <a:lnTo>
                  <a:pt x="27" y="0"/>
                </a:lnTo>
                <a:lnTo>
                  <a:pt x="33" y="6"/>
                </a:lnTo>
                <a:lnTo>
                  <a:pt x="33" y="6"/>
                </a:lnTo>
                <a:lnTo>
                  <a:pt x="33" y="6"/>
                </a:lnTo>
                <a:lnTo>
                  <a:pt x="33" y="6"/>
                </a:lnTo>
                <a:lnTo>
                  <a:pt x="33" y="11"/>
                </a:lnTo>
                <a:lnTo>
                  <a:pt x="38" y="11"/>
                </a:lnTo>
                <a:lnTo>
                  <a:pt x="38" y="11"/>
                </a:lnTo>
                <a:lnTo>
                  <a:pt x="38" y="11"/>
                </a:lnTo>
                <a:lnTo>
                  <a:pt x="38" y="17"/>
                </a:lnTo>
                <a:lnTo>
                  <a:pt x="38" y="17"/>
                </a:lnTo>
                <a:lnTo>
                  <a:pt x="33" y="17"/>
                </a:lnTo>
                <a:lnTo>
                  <a:pt x="33" y="17"/>
                </a:lnTo>
                <a:lnTo>
                  <a:pt x="33" y="17"/>
                </a:lnTo>
                <a:lnTo>
                  <a:pt x="33" y="22"/>
                </a:lnTo>
                <a:lnTo>
                  <a:pt x="33" y="22"/>
                </a:lnTo>
                <a:lnTo>
                  <a:pt x="33" y="22"/>
                </a:lnTo>
                <a:lnTo>
                  <a:pt x="27" y="22"/>
                </a:lnTo>
                <a:lnTo>
                  <a:pt x="27" y="22"/>
                </a:lnTo>
                <a:lnTo>
                  <a:pt x="27" y="22"/>
                </a:lnTo>
                <a:lnTo>
                  <a:pt x="22" y="22"/>
                </a:lnTo>
                <a:lnTo>
                  <a:pt x="22" y="28"/>
                </a:lnTo>
                <a:lnTo>
                  <a:pt x="22" y="28"/>
                </a:lnTo>
                <a:lnTo>
                  <a:pt x="16" y="28"/>
                </a:lnTo>
                <a:lnTo>
                  <a:pt x="11" y="28"/>
                </a:lnTo>
                <a:lnTo>
                  <a:pt x="11" y="28"/>
                </a:lnTo>
                <a:lnTo>
                  <a:pt x="11" y="28"/>
                </a:lnTo>
                <a:lnTo>
                  <a:pt x="5" y="28"/>
                </a:lnTo>
                <a:lnTo>
                  <a:pt x="5" y="28"/>
                </a:lnTo>
                <a:lnTo>
                  <a:pt x="5" y="22"/>
                </a:lnTo>
                <a:lnTo>
                  <a:pt x="0" y="22"/>
                </a:lnTo>
                <a:lnTo>
                  <a:pt x="0" y="22"/>
                </a:lnTo>
                <a:lnTo>
                  <a:pt x="0" y="22"/>
                </a:lnTo>
                <a:lnTo>
                  <a:pt x="0" y="17"/>
                </a:lnTo>
                <a:lnTo>
                  <a:pt x="0" y="17"/>
                </a:lnTo>
                <a:lnTo>
                  <a:pt x="0" y="17"/>
                </a:lnTo>
                <a:lnTo>
                  <a:pt x="0" y="11"/>
                </a:lnTo>
                <a:lnTo>
                  <a:pt x="0" y="11"/>
                </a:lnTo>
                <a:lnTo>
                  <a:pt x="0" y="6"/>
                </a:lnTo>
                <a:lnTo>
                  <a:pt x="5" y="6"/>
                </a:lnTo>
                <a:lnTo>
                  <a:pt x="5" y="6"/>
                </a:lnTo>
                <a:lnTo>
                  <a:pt x="11" y="6"/>
                </a:lnTo>
                <a:lnTo>
                  <a:pt x="16" y="0"/>
                </a:lnTo>
                <a:close/>
                <a:moveTo>
                  <a:pt x="16" y="6"/>
                </a:moveTo>
                <a:lnTo>
                  <a:pt x="11" y="6"/>
                </a:lnTo>
                <a:lnTo>
                  <a:pt x="11" y="6"/>
                </a:lnTo>
                <a:lnTo>
                  <a:pt x="5" y="11"/>
                </a:lnTo>
                <a:lnTo>
                  <a:pt x="5" y="11"/>
                </a:lnTo>
                <a:lnTo>
                  <a:pt x="5" y="11"/>
                </a:lnTo>
                <a:lnTo>
                  <a:pt x="5" y="11"/>
                </a:lnTo>
                <a:lnTo>
                  <a:pt x="0" y="17"/>
                </a:lnTo>
                <a:lnTo>
                  <a:pt x="0" y="17"/>
                </a:lnTo>
                <a:lnTo>
                  <a:pt x="5" y="17"/>
                </a:lnTo>
                <a:lnTo>
                  <a:pt x="5" y="17"/>
                </a:lnTo>
                <a:lnTo>
                  <a:pt x="5" y="22"/>
                </a:lnTo>
                <a:lnTo>
                  <a:pt x="5" y="22"/>
                </a:lnTo>
                <a:lnTo>
                  <a:pt x="11" y="22"/>
                </a:lnTo>
                <a:lnTo>
                  <a:pt x="11" y="22"/>
                </a:lnTo>
                <a:lnTo>
                  <a:pt x="16" y="22"/>
                </a:lnTo>
                <a:lnTo>
                  <a:pt x="16" y="22"/>
                </a:lnTo>
                <a:lnTo>
                  <a:pt x="22" y="22"/>
                </a:lnTo>
                <a:lnTo>
                  <a:pt x="27" y="17"/>
                </a:lnTo>
                <a:lnTo>
                  <a:pt x="27" y="17"/>
                </a:lnTo>
                <a:lnTo>
                  <a:pt x="33" y="17"/>
                </a:lnTo>
                <a:lnTo>
                  <a:pt x="33" y="17"/>
                </a:lnTo>
                <a:lnTo>
                  <a:pt x="33" y="17"/>
                </a:lnTo>
                <a:lnTo>
                  <a:pt x="33" y="11"/>
                </a:lnTo>
                <a:lnTo>
                  <a:pt x="33" y="11"/>
                </a:lnTo>
                <a:lnTo>
                  <a:pt x="33" y="11"/>
                </a:lnTo>
                <a:lnTo>
                  <a:pt x="33" y="11"/>
                </a:lnTo>
                <a:lnTo>
                  <a:pt x="33" y="6"/>
                </a:lnTo>
                <a:lnTo>
                  <a:pt x="27" y="6"/>
                </a:lnTo>
                <a:lnTo>
                  <a:pt x="27" y="6"/>
                </a:lnTo>
                <a:lnTo>
                  <a:pt x="22" y="6"/>
                </a:lnTo>
                <a:lnTo>
                  <a:pt x="22" y="6"/>
                </a:lnTo>
                <a:lnTo>
                  <a:pt x="16" y="6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8" name=""/>
          <p:cNvSpPr/>
          <p:nvPr/>
        </p:nvSpPr>
        <p:spPr>
          <a:xfrm>
            <a:off x="4649760" y="1874880"/>
            <a:ext cx="52560" cy="33120"/>
          </a:xfrm>
          <a:custGeom>
            <a:avLst/>
            <a:gdLst/>
            <a:ahLst/>
            <a:rect l="l" t="t" r="r" b="b"/>
            <a:pathLst>
              <a:path w="33" h="21">
                <a:moveTo>
                  <a:pt x="0" y="21"/>
                </a:moveTo>
                <a:lnTo>
                  <a:pt x="0" y="21"/>
                </a:lnTo>
                <a:lnTo>
                  <a:pt x="27" y="11"/>
                </a:lnTo>
                <a:lnTo>
                  <a:pt x="27" y="11"/>
                </a:lnTo>
                <a:lnTo>
                  <a:pt x="22" y="5"/>
                </a:lnTo>
                <a:lnTo>
                  <a:pt x="22" y="5"/>
                </a:lnTo>
                <a:lnTo>
                  <a:pt x="22" y="5"/>
                </a:lnTo>
                <a:lnTo>
                  <a:pt x="22" y="5"/>
                </a:lnTo>
                <a:lnTo>
                  <a:pt x="17" y="5"/>
                </a:lnTo>
                <a:lnTo>
                  <a:pt x="17" y="5"/>
                </a:lnTo>
                <a:lnTo>
                  <a:pt x="17" y="5"/>
                </a:lnTo>
                <a:lnTo>
                  <a:pt x="22" y="0"/>
                </a:lnTo>
                <a:lnTo>
                  <a:pt x="22" y="0"/>
                </a:lnTo>
                <a:lnTo>
                  <a:pt x="22" y="5"/>
                </a:lnTo>
                <a:lnTo>
                  <a:pt x="27" y="5"/>
                </a:lnTo>
                <a:lnTo>
                  <a:pt x="27" y="5"/>
                </a:lnTo>
                <a:lnTo>
                  <a:pt x="27" y="5"/>
                </a:lnTo>
                <a:lnTo>
                  <a:pt x="33" y="5"/>
                </a:lnTo>
                <a:lnTo>
                  <a:pt x="33" y="5"/>
                </a:lnTo>
                <a:lnTo>
                  <a:pt x="33" y="5"/>
                </a:lnTo>
                <a:lnTo>
                  <a:pt x="33" y="11"/>
                </a:lnTo>
                <a:lnTo>
                  <a:pt x="0" y="2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9" name=""/>
          <p:cNvSpPr/>
          <p:nvPr/>
        </p:nvSpPr>
        <p:spPr>
          <a:xfrm>
            <a:off x="4659480" y="1917720"/>
            <a:ext cx="60120" cy="42840"/>
          </a:xfrm>
          <a:custGeom>
            <a:avLst/>
            <a:gdLst/>
            <a:ahLst/>
            <a:rect l="l" t="t" r="r" b="b"/>
            <a:pathLst>
              <a:path w="38" h="27">
                <a:moveTo>
                  <a:pt x="16" y="0"/>
                </a:moveTo>
                <a:lnTo>
                  <a:pt x="16" y="0"/>
                </a:lnTo>
                <a:lnTo>
                  <a:pt x="21" y="0"/>
                </a:lnTo>
                <a:lnTo>
                  <a:pt x="21" y="0"/>
                </a:lnTo>
                <a:lnTo>
                  <a:pt x="27" y="0"/>
                </a:lnTo>
                <a:lnTo>
                  <a:pt x="27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8" y="0"/>
                </a:lnTo>
                <a:lnTo>
                  <a:pt x="38" y="5"/>
                </a:lnTo>
                <a:lnTo>
                  <a:pt x="38" y="5"/>
                </a:lnTo>
                <a:lnTo>
                  <a:pt x="38" y="5"/>
                </a:lnTo>
                <a:lnTo>
                  <a:pt x="38" y="5"/>
                </a:lnTo>
                <a:lnTo>
                  <a:pt x="38" y="11"/>
                </a:lnTo>
                <a:lnTo>
                  <a:pt x="38" y="11"/>
                </a:lnTo>
                <a:lnTo>
                  <a:pt x="38" y="11"/>
                </a:lnTo>
                <a:lnTo>
                  <a:pt x="38" y="11"/>
                </a:lnTo>
                <a:lnTo>
                  <a:pt x="38" y="16"/>
                </a:lnTo>
                <a:lnTo>
                  <a:pt x="38" y="16"/>
                </a:lnTo>
                <a:lnTo>
                  <a:pt x="38" y="16"/>
                </a:lnTo>
                <a:lnTo>
                  <a:pt x="32" y="16"/>
                </a:lnTo>
                <a:lnTo>
                  <a:pt x="32" y="16"/>
                </a:lnTo>
                <a:lnTo>
                  <a:pt x="32" y="16"/>
                </a:lnTo>
                <a:lnTo>
                  <a:pt x="32" y="22"/>
                </a:lnTo>
                <a:lnTo>
                  <a:pt x="27" y="22"/>
                </a:lnTo>
                <a:lnTo>
                  <a:pt x="27" y="22"/>
                </a:lnTo>
                <a:lnTo>
                  <a:pt x="27" y="22"/>
                </a:lnTo>
                <a:lnTo>
                  <a:pt x="21" y="22"/>
                </a:lnTo>
                <a:lnTo>
                  <a:pt x="21" y="27"/>
                </a:lnTo>
                <a:lnTo>
                  <a:pt x="16" y="27"/>
                </a:lnTo>
                <a:lnTo>
                  <a:pt x="16" y="27"/>
                </a:lnTo>
                <a:lnTo>
                  <a:pt x="11" y="27"/>
                </a:lnTo>
                <a:lnTo>
                  <a:pt x="11" y="27"/>
                </a:lnTo>
                <a:lnTo>
                  <a:pt x="11" y="27"/>
                </a:lnTo>
                <a:lnTo>
                  <a:pt x="5" y="22"/>
                </a:lnTo>
                <a:lnTo>
                  <a:pt x="5" y="22"/>
                </a:lnTo>
                <a:lnTo>
                  <a:pt x="5" y="22"/>
                </a:lnTo>
                <a:lnTo>
                  <a:pt x="5" y="22"/>
                </a:lnTo>
                <a:lnTo>
                  <a:pt x="5" y="16"/>
                </a:lnTo>
                <a:lnTo>
                  <a:pt x="0" y="16"/>
                </a:lnTo>
                <a:lnTo>
                  <a:pt x="0" y="16"/>
                </a:lnTo>
                <a:lnTo>
                  <a:pt x="0" y="11"/>
                </a:lnTo>
                <a:lnTo>
                  <a:pt x="5" y="11"/>
                </a:lnTo>
                <a:lnTo>
                  <a:pt x="5" y="5"/>
                </a:lnTo>
                <a:lnTo>
                  <a:pt x="5" y="5"/>
                </a:lnTo>
                <a:lnTo>
                  <a:pt x="11" y="0"/>
                </a:lnTo>
                <a:lnTo>
                  <a:pt x="16" y="0"/>
                </a:lnTo>
                <a:close/>
                <a:moveTo>
                  <a:pt x="16" y="5"/>
                </a:moveTo>
                <a:lnTo>
                  <a:pt x="16" y="5"/>
                </a:lnTo>
                <a:lnTo>
                  <a:pt x="11" y="11"/>
                </a:lnTo>
                <a:lnTo>
                  <a:pt x="11" y="11"/>
                </a:lnTo>
                <a:lnTo>
                  <a:pt x="5" y="11"/>
                </a:lnTo>
                <a:lnTo>
                  <a:pt x="5" y="11"/>
                </a:lnTo>
                <a:lnTo>
                  <a:pt x="5" y="16"/>
                </a:lnTo>
                <a:lnTo>
                  <a:pt x="5" y="16"/>
                </a:lnTo>
                <a:lnTo>
                  <a:pt x="5" y="16"/>
                </a:lnTo>
                <a:lnTo>
                  <a:pt x="5" y="16"/>
                </a:lnTo>
                <a:lnTo>
                  <a:pt x="5" y="22"/>
                </a:lnTo>
                <a:lnTo>
                  <a:pt x="11" y="22"/>
                </a:lnTo>
                <a:lnTo>
                  <a:pt x="11" y="22"/>
                </a:lnTo>
                <a:lnTo>
                  <a:pt x="11" y="22"/>
                </a:lnTo>
                <a:lnTo>
                  <a:pt x="16" y="22"/>
                </a:lnTo>
                <a:lnTo>
                  <a:pt x="21" y="22"/>
                </a:lnTo>
                <a:lnTo>
                  <a:pt x="21" y="16"/>
                </a:lnTo>
                <a:lnTo>
                  <a:pt x="27" y="16"/>
                </a:lnTo>
                <a:lnTo>
                  <a:pt x="27" y="16"/>
                </a:lnTo>
                <a:lnTo>
                  <a:pt x="32" y="16"/>
                </a:lnTo>
                <a:lnTo>
                  <a:pt x="32" y="11"/>
                </a:lnTo>
                <a:lnTo>
                  <a:pt x="32" y="11"/>
                </a:lnTo>
                <a:lnTo>
                  <a:pt x="32" y="11"/>
                </a:lnTo>
                <a:lnTo>
                  <a:pt x="32" y="5"/>
                </a:lnTo>
                <a:lnTo>
                  <a:pt x="32" y="5"/>
                </a:lnTo>
                <a:lnTo>
                  <a:pt x="32" y="5"/>
                </a:lnTo>
                <a:lnTo>
                  <a:pt x="32" y="5"/>
                </a:lnTo>
                <a:lnTo>
                  <a:pt x="32" y="5"/>
                </a:lnTo>
                <a:lnTo>
                  <a:pt x="32" y="0"/>
                </a:lnTo>
                <a:lnTo>
                  <a:pt x="27" y="0"/>
                </a:lnTo>
                <a:lnTo>
                  <a:pt x="27" y="5"/>
                </a:lnTo>
                <a:lnTo>
                  <a:pt x="21" y="5"/>
                </a:lnTo>
                <a:lnTo>
                  <a:pt x="16" y="5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0" name=""/>
          <p:cNvSpPr/>
          <p:nvPr/>
        </p:nvSpPr>
        <p:spPr>
          <a:xfrm>
            <a:off x="4676760" y="1960560"/>
            <a:ext cx="60480" cy="42840"/>
          </a:xfrm>
          <a:custGeom>
            <a:avLst/>
            <a:gdLst/>
            <a:ahLst/>
            <a:rect l="l" t="t" r="r" b="b"/>
            <a:pathLst>
              <a:path w="38" h="27">
                <a:moveTo>
                  <a:pt x="16" y="0"/>
                </a:moveTo>
                <a:lnTo>
                  <a:pt x="16" y="0"/>
                </a:lnTo>
                <a:lnTo>
                  <a:pt x="21" y="0"/>
                </a:lnTo>
                <a:lnTo>
                  <a:pt x="21" y="0"/>
                </a:lnTo>
                <a:lnTo>
                  <a:pt x="27" y="0"/>
                </a:lnTo>
                <a:lnTo>
                  <a:pt x="27" y="0"/>
                </a:lnTo>
                <a:lnTo>
                  <a:pt x="27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8" y="0"/>
                </a:lnTo>
                <a:lnTo>
                  <a:pt x="38" y="0"/>
                </a:lnTo>
                <a:lnTo>
                  <a:pt x="38" y="6"/>
                </a:lnTo>
                <a:lnTo>
                  <a:pt x="38" y="6"/>
                </a:lnTo>
                <a:lnTo>
                  <a:pt x="38" y="6"/>
                </a:lnTo>
                <a:lnTo>
                  <a:pt x="38" y="6"/>
                </a:lnTo>
                <a:lnTo>
                  <a:pt x="38" y="11"/>
                </a:lnTo>
                <a:lnTo>
                  <a:pt x="38" y="11"/>
                </a:lnTo>
                <a:lnTo>
                  <a:pt x="38" y="11"/>
                </a:lnTo>
                <a:lnTo>
                  <a:pt x="38" y="11"/>
                </a:lnTo>
                <a:lnTo>
                  <a:pt x="38" y="16"/>
                </a:lnTo>
                <a:lnTo>
                  <a:pt x="32" y="16"/>
                </a:lnTo>
                <a:lnTo>
                  <a:pt x="32" y="16"/>
                </a:lnTo>
                <a:lnTo>
                  <a:pt x="32" y="16"/>
                </a:lnTo>
                <a:lnTo>
                  <a:pt x="32" y="16"/>
                </a:lnTo>
                <a:lnTo>
                  <a:pt x="32" y="22"/>
                </a:lnTo>
                <a:lnTo>
                  <a:pt x="27" y="22"/>
                </a:lnTo>
                <a:lnTo>
                  <a:pt x="27" y="22"/>
                </a:lnTo>
                <a:lnTo>
                  <a:pt x="21" y="22"/>
                </a:lnTo>
                <a:lnTo>
                  <a:pt x="21" y="22"/>
                </a:lnTo>
                <a:lnTo>
                  <a:pt x="16" y="22"/>
                </a:lnTo>
                <a:lnTo>
                  <a:pt x="16" y="22"/>
                </a:lnTo>
                <a:lnTo>
                  <a:pt x="16" y="27"/>
                </a:lnTo>
                <a:lnTo>
                  <a:pt x="10" y="27"/>
                </a:lnTo>
                <a:lnTo>
                  <a:pt x="10" y="22"/>
                </a:lnTo>
                <a:lnTo>
                  <a:pt x="10" y="22"/>
                </a:lnTo>
                <a:lnTo>
                  <a:pt x="5" y="22"/>
                </a:lnTo>
                <a:lnTo>
                  <a:pt x="5" y="22"/>
                </a:lnTo>
                <a:lnTo>
                  <a:pt x="5" y="22"/>
                </a:lnTo>
                <a:lnTo>
                  <a:pt x="5" y="22"/>
                </a:lnTo>
                <a:lnTo>
                  <a:pt x="0" y="16"/>
                </a:lnTo>
                <a:lnTo>
                  <a:pt x="0" y="16"/>
                </a:lnTo>
                <a:lnTo>
                  <a:pt x="0" y="11"/>
                </a:lnTo>
                <a:lnTo>
                  <a:pt x="0" y="11"/>
                </a:lnTo>
                <a:lnTo>
                  <a:pt x="5" y="11"/>
                </a:lnTo>
                <a:lnTo>
                  <a:pt x="5" y="6"/>
                </a:lnTo>
                <a:lnTo>
                  <a:pt x="5" y="6"/>
                </a:lnTo>
                <a:lnTo>
                  <a:pt x="10" y="0"/>
                </a:lnTo>
                <a:lnTo>
                  <a:pt x="16" y="0"/>
                </a:lnTo>
                <a:close/>
                <a:moveTo>
                  <a:pt x="16" y="6"/>
                </a:moveTo>
                <a:lnTo>
                  <a:pt x="10" y="6"/>
                </a:lnTo>
                <a:lnTo>
                  <a:pt x="10" y="6"/>
                </a:lnTo>
                <a:lnTo>
                  <a:pt x="5" y="11"/>
                </a:lnTo>
                <a:lnTo>
                  <a:pt x="5" y="11"/>
                </a:lnTo>
                <a:lnTo>
                  <a:pt x="5" y="11"/>
                </a:lnTo>
                <a:lnTo>
                  <a:pt x="5" y="11"/>
                </a:lnTo>
                <a:lnTo>
                  <a:pt x="5" y="16"/>
                </a:lnTo>
                <a:lnTo>
                  <a:pt x="5" y="16"/>
                </a:lnTo>
                <a:lnTo>
                  <a:pt x="5" y="16"/>
                </a:lnTo>
                <a:lnTo>
                  <a:pt x="5" y="16"/>
                </a:lnTo>
                <a:lnTo>
                  <a:pt x="10" y="22"/>
                </a:lnTo>
                <a:lnTo>
                  <a:pt x="10" y="22"/>
                </a:lnTo>
                <a:lnTo>
                  <a:pt x="10" y="22"/>
                </a:lnTo>
                <a:lnTo>
                  <a:pt x="16" y="22"/>
                </a:lnTo>
                <a:lnTo>
                  <a:pt x="16" y="22"/>
                </a:lnTo>
                <a:lnTo>
                  <a:pt x="21" y="16"/>
                </a:lnTo>
                <a:lnTo>
                  <a:pt x="27" y="16"/>
                </a:lnTo>
                <a:lnTo>
                  <a:pt x="27" y="16"/>
                </a:lnTo>
                <a:lnTo>
                  <a:pt x="32" y="11"/>
                </a:lnTo>
                <a:lnTo>
                  <a:pt x="32" y="11"/>
                </a:lnTo>
                <a:lnTo>
                  <a:pt x="32" y="11"/>
                </a:lnTo>
                <a:lnTo>
                  <a:pt x="32" y="11"/>
                </a:lnTo>
                <a:lnTo>
                  <a:pt x="32" y="6"/>
                </a:lnTo>
                <a:lnTo>
                  <a:pt x="32" y="6"/>
                </a:lnTo>
                <a:lnTo>
                  <a:pt x="32" y="6"/>
                </a:lnTo>
                <a:lnTo>
                  <a:pt x="32" y="6"/>
                </a:lnTo>
                <a:lnTo>
                  <a:pt x="32" y="0"/>
                </a:lnTo>
                <a:lnTo>
                  <a:pt x="27" y="0"/>
                </a:lnTo>
                <a:lnTo>
                  <a:pt x="27" y="0"/>
                </a:lnTo>
                <a:lnTo>
                  <a:pt x="21" y="0"/>
                </a:lnTo>
                <a:lnTo>
                  <a:pt x="21" y="6"/>
                </a:lnTo>
                <a:lnTo>
                  <a:pt x="16" y="6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1" name=""/>
          <p:cNvSpPr/>
          <p:nvPr/>
        </p:nvSpPr>
        <p:spPr>
          <a:xfrm>
            <a:off x="3213000" y="5308560"/>
            <a:ext cx="60480" cy="27000"/>
          </a:xfrm>
          <a:custGeom>
            <a:avLst/>
            <a:gdLst/>
            <a:ahLst/>
            <a:rect l="l" t="t" r="r" b="b"/>
            <a:pathLst>
              <a:path w="38" h="17">
                <a:moveTo>
                  <a:pt x="38" y="6"/>
                </a:moveTo>
                <a:lnTo>
                  <a:pt x="33" y="11"/>
                </a:lnTo>
                <a:lnTo>
                  <a:pt x="6" y="6"/>
                </a:lnTo>
                <a:lnTo>
                  <a:pt x="6" y="6"/>
                </a:lnTo>
                <a:lnTo>
                  <a:pt x="6" y="6"/>
                </a:lnTo>
                <a:lnTo>
                  <a:pt x="11" y="6"/>
                </a:lnTo>
                <a:lnTo>
                  <a:pt x="11" y="11"/>
                </a:lnTo>
                <a:lnTo>
                  <a:pt x="11" y="11"/>
                </a:lnTo>
                <a:lnTo>
                  <a:pt x="11" y="11"/>
                </a:lnTo>
                <a:lnTo>
                  <a:pt x="11" y="11"/>
                </a:lnTo>
                <a:lnTo>
                  <a:pt x="11" y="17"/>
                </a:lnTo>
                <a:lnTo>
                  <a:pt x="6" y="11"/>
                </a:lnTo>
                <a:lnTo>
                  <a:pt x="6" y="11"/>
                </a:lnTo>
                <a:lnTo>
                  <a:pt x="6" y="11"/>
                </a:lnTo>
                <a:lnTo>
                  <a:pt x="6" y="6"/>
                </a:lnTo>
                <a:lnTo>
                  <a:pt x="6" y="6"/>
                </a:lnTo>
                <a:lnTo>
                  <a:pt x="0" y="6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38" y="6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2" name=""/>
          <p:cNvSpPr/>
          <p:nvPr/>
        </p:nvSpPr>
        <p:spPr>
          <a:xfrm>
            <a:off x="3222720" y="5257800"/>
            <a:ext cx="60120" cy="42840"/>
          </a:xfrm>
          <a:custGeom>
            <a:avLst/>
            <a:gdLst/>
            <a:ahLst/>
            <a:rect l="l" t="t" r="r" b="b"/>
            <a:pathLst>
              <a:path w="38" h="27">
                <a:moveTo>
                  <a:pt x="11" y="0"/>
                </a:moveTo>
                <a:lnTo>
                  <a:pt x="11" y="5"/>
                </a:lnTo>
                <a:lnTo>
                  <a:pt x="11" y="5"/>
                </a:lnTo>
                <a:lnTo>
                  <a:pt x="11" y="5"/>
                </a:lnTo>
                <a:lnTo>
                  <a:pt x="11" y="5"/>
                </a:lnTo>
                <a:lnTo>
                  <a:pt x="5" y="5"/>
                </a:lnTo>
                <a:lnTo>
                  <a:pt x="5" y="5"/>
                </a:lnTo>
                <a:lnTo>
                  <a:pt x="5" y="5"/>
                </a:lnTo>
                <a:lnTo>
                  <a:pt x="5" y="5"/>
                </a:lnTo>
                <a:lnTo>
                  <a:pt x="5" y="5"/>
                </a:lnTo>
                <a:lnTo>
                  <a:pt x="5" y="11"/>
                </a:lnTo>
                <a:lnTo>
                  <a:pt x="5" y="11"/>
                </a:lnTo>
                <a:lnTo>
                  <a:pt x="5" y="11"/>
                </a:lnTo>
                <a:lnTo>
                  <a:pt x="5" y="11"/>
                </a:lnTo>
                <a:lnTo>
                  <a:pt x="5" y="11"/>
                </a:lnTo>
                <a:lnTo>
                  <a:pt x="5" y="16"/>
                </a:lnTo>
                <a:lnTo>
                  <a:pt x="5" y="16"/>
                </a:lnTo>
                <a:lnTo>
                  <a:pt x="11" y="16"/>
                </a:lnTo>
                <a:lnTo>
                  <a:pt x="11" y="16"/>
                </a:lnTo>
                <a:lnTo>
                  <a:pt x="11" y="16"/>
                </a:lnTo>
                <a:lnTo>
                  <a:pt x="16" y="16"/>
                </a:lnTo>
                <a:lnTo>
                  <a:pt x="16" y="21"/>
                </a:lnTo>
                <a:lnTo>
                  <a:pt x="16" y="16"/>
                </a:lnTo>
                <a:lnTo>
                  <a:pt x="16" y="16"/>
                </a:lnTo>
                <a:lnTo>
                  <a:pt x="16" y="16"/>
                </a:lnTo>
                <a:lnTo>
                  <a:pt x="16" y="16"/>
                </a:lnTo>
                <a:lnTo>
                  <a:pt x="11" y="11"/>
                </a:lnTo>
                <a:lnTo>
                  <a:pt x="11" y="11"/>
                </a:lnTo>
                <a:lnTo>
                  <a:pt x="16" y="11"/>
                </a:lnTo>
                <a:lnTo>
                  <a:pt x="16" y="11"/>
                </a:lnTo>
                <a:lnTo>
                  <a:pt x="16" y="5"/>
                </a:lnTo>
                <a:lnTo>
                  <a:pt x="16" y="5"/>
                </a:lnTo>
                <a:lnTo>
                  <a:pt x="16" y="5"/>
                </a:lnTo>
                <a:lnTo>
                  <a:pt x="21" y="5"/>
                </a:lnTo>
                <a:lnTo>
                  <a:pt x="21" y="0"/>
                </a:lnTo>
                <a:lnTo>
                  <a:pt x="21" y="0"/>
                </a:lnTo>
                <a:lnTo>
                  <a:pt x="27" y="0"/>
                </a:lnTo>
                <a:lnTo>
                  <a:pt x="27" y="0"/>
                </a:lnTo>
                <a:lnTo>
                  <a:pt x="27" y="5"/>
                </a:lnTo>
                <a:lnTo>
                  <a:pt x="32" y="5"/>
                </a:lnTo>
                <a:lnTo>
                  <a:pt x="32" y="5"/>
                </a:lnTo>
                <a:lnTo>
                  <a:pt x="32" y="5"/>
                </a:lnTo>
                <a:lnTo>
                  <a:pt x="32" y="5"/>
                </a:lnTo>
                <a:lnTo>
                  <a:pt x="38" y="5"/>
                </a:lnTo>
                <a:lnTo>
                  <a:pt x="38" y="11"/>
                </a:lnTo>
                <a:lnTo>
                  <a:pt x="38" y="11"/>
                </a:lnTo>
                <a:lnTo>
                  <a:pt x="38" y="11"/>
                </a:lnTo>
                <a:lnTo>
                  <a:pt x="38" y="11"/>
                </a:lnTo>
                <a:lnTo>
                  <a:pt x="38" y="16"/>
                </a:lnTo>
                <a:lnTo>
                  <a:pt x="38" y="16"/>
                </a:lnTo>
                <a:lnTo>
                  <a:pt x="38" y="21"/>
                </a:lnTo>
                <a:lnTo>
                  <a:pt x="32" y="21"/>
                </a:lnTo>
                <a:lnTo>
                  <a:pt x="32" y="21"/>
                </a:lnTo>
                <a:lnTo>
                  <a:pt x="32" y="21"/>
                </a:lnTo>
                <a:lnTo>
                  <a:pt x="27" y="27"/>
                </a:lnTo>
                <a:lnTo>
                  <a:pt x="27" y="27"/>
                </a:lnTo>
                <a:lnTo>
                  <a:pt x="21" y="27"/>
                </a:lnTo>
                <a:lnTo>
                  <a:pt x="16" y="21"/>
                </a:lnTo>
                <a:lnTo>
                  <a:pt x="11" y="21"/>
                </a:lnTo>
                <a:lnTo>
                  <a:pt x="5" y="21"/>
                </a:lnTo>
                <a:lnTo>
                  <a:pt x="5" y="16"/>
                </a:lnTo>
                <a:lnTo>
                  <a:pt x="5" y="16"/>
                </a:lnTo>
                <a:lnTo>
                  <a:pt x="0" y="16"/>
                </a:lnTo>
                <a:lnTo>
                  <a:pt x="0" y="11"/>
                </a:lnTo>
                <a:lnTo>
                  <a:pt x="0" y="11"/>
                </a:lnTo>
                <a:lnTo>
                  <a:pt x="0" y="5"/>
                </a:lnTo>
                <a:lnTo>
                  <a:pt x="0" y="5"/>
                </a:lnTo>
                <a:lnTo>
                  <a:pt x="5" y="5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11" y="0"/>
                </a:lnTo>
                <a:lnTo>
                  <a:pt x="11" y="0"/>
                </a:lnTo>
                <a:lnTo>
                  <a:pt x="11" y="0"/>
                </a:lnTo>
                <a:close/>
                <a:moveTo>
                  <a:pt x="21" y="21"/>
                </a:moveTo>
                <a:lnTo>
                  <a:pt x="21" y="21"/>
                </a:lnTo>
                <a:lnTo>
                  <a:pt x="27" y="21"/>
                </a:lnTo>
                <a:lnTo>
                  <a:pt x="27" y="21"/>
                </a:lnTo>
                <a:lnTo>
                  <a:pt x="27" y="21"/>
                </a:lnTo>
                <a:lnTo>
                  <a:pt x="27" y="21"/>
                </a:lnTo>
                <a:lnTo>
                  <a:pt x="27" y="21"/>
                </a:lnTo>
                <a:lnTo>
                  <a:pt x="32" y="21"/>
                </a:lnTo>
                <a:lnTo>
                  <a:pt x="32" y="21"/>
                </a:lnTo>
                <a:lnTo>
                  <a:pt x="32" y="16"/>
                </a:lnTo>
                <a:lnTo>
                  <a:pt x="32" y="16"/>
                </a:lnTo>
                <a:lnTo>
                  <a:pt x="32" y="16"/>
                </a:lnTo>
                <a:lnTo>
                  <a:pt x="32" y="16"/>
                </a:lnTo>
                <a:lnTo>
                  <a:pt x="32" y="16"/>
                </a:lnTo>
                <a:lnTo>
                  <a:pt x="32" y="11"/>
                </a:lnTo>
                <a:lnTo>
                  <a:pt x="32" y="11"/>
                </a:lnTo>
                <a:lnTo>
                  <a:pt x="32" y="11"/>
                </a:lnTo>
                <a:lnTo>
                  <a:pt x="32" y="11"/>
                </a:lnTo>
                <a:lnTo>
                  <a:pt x="32" y="11"/>
                </a:lnTo>
                <a:lnTo>
                  <a:pt x="27" y="5"/>
                </a:lnTo>
                <a:lnTo>
                  <a:pt x="27" y="5"/>
                </a:lnTo>
                <a:lnTo>
                  <a:pt x="27" y="5"/>
                </a:lnTo>
                <a:lnTo>
                  <a:pt x="21" y="5"/>
                </a:lnTo>
                <a:lnTo>
                  <a:pt x="21" y="5"/>
                </a:lnTo>
                <a:lnTo>
                  <a:pt x="21" y="5"/>
                </a:lnTo>
                <a:lnTo>
                  <a:pt x="21" y="5"/>
                </a:lnTo>
                <a:lnTo>
                  <a:pt x="16" y="11"/>
                </a:lnTo>
                <a:lnTo>
                  <a:pt x="16" y="11"/>
                </a:lnTo>
                <a:lnTo>
                  <a:pt x="16" y="11"/>
                </a:lnTo>
                <a:lnTo>
                  <a:pt x="16" y="11"/>
                </a:lnTo>
                <a:lnTo>
                  <a:pt x="16" y="16"/>
                </a:lnTo>
                <a:lnTo>
                  <a:pt x="16" y="16"/>
                </a:lnTo>
                <a:lnTo>
                  <a:pt x="16" y="16"/>
                </a:lnTo>
                <a:lnTo>
                  <a:pt x="21" y="16"/>
                </a:lnTo>
                <a:lnTo>
                  <a:pt x="21" y="21"/>
                </a:lnTo>
                <a:lnTo>
                  <a:pt x="21" y="21"/>
                </a:lnTo>
                <a:lnTo>
                  <a:pt x="21" y="2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3" name=""/>
          <p:cNvSpPr/>
          <p:nvPr/>
        </p:nvSpPr>
        <p:spPr>
          <a:xfrm>
            <a:off x="3230640" y="5213520"/>
            <a:ext cx="60120" cy="44280"/>
          </a:xfrm>
          <a:custGeom>
            <a:avLst/>
            <a:gdLst/>
            <a:ahLst/>
            <a:rect l="l" t="t" r="r" b="b"/>
            <a:pathLst>
              <a:path w="38" h="28">
                <a:moveTo>
                  <a:pt x="16" y="22"/>
                </a:moveTo>
                <a:lnTo>
                  <a:pt x="16" y="22"/>
                </a:lnTo>
                <a:lnTo>
                  <a:pt x="11" y="22"/>
                </a:lnTo>
                <a:lnTo>
                  <a:pt x="11" y="22"/>
                </a:lnTo>
                <a:lnTo>
                  <a:pt x="11" y="22"/>
                </a:lnTo>
                <a:lnTo>
                  <a:pt x="6" y="17"/>
                </a:lnTo>
                <a:lnTo>
                  <a:pt x="6" y="17"/>
                </a:lnTo>
                <a:lnTo>
                  <a:pt x="6" y="17"/>
                </a:lnTo>
                <a:lnTo>
                  <a:pt x="6" y="17"/>
                </a:lnTo>
                <a:lnTo>
                  <a:pt x="6" y="11"/>
                </a:lnTo>
                <a:lnTo>
                  <a:pt x="0" y="11"/>
                </a:lnTo>
                <a:lnTo>
                  <a:pt x="0" y="11"/>
                </a:lnTo>
                <a:lnTo>
                  <a:pt x="6" y="6"/>
                </a:lnTo>
                <a:lnTo>
                  <a:pt x="6" y="6"/>
                </a:lnTo>
                <a:lnTo>
                  <a:pt x="6" y="6"/>
                </a:lnTo>
                <a:lnTo>
                  <a:pt x="6" y="6"/>
                </a:lnTo>
                <a:lnTo>
                  <a:pt x="6" y="0"/>
                </a:lnTo>
                <a:lnTo>
                  <a:pt x="6" y="0"/>
                </a:lnTo>
                <a:lnTo>
                  <a:pt x="6" y="0"/>
                </a:lnTo>
                <a:lnTo>
                  <a:pt x="11" y="0"/>
                </a:lnTo>
                <a:lnTo>
                  <a:pt x="11" y="0"/>
                </a:lnTo>
                <a:lnTo>
                  <a:pt x="11" y="0"/>
                </a:lnTo>
                <a:lnTo>
                  <a:pt x="11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2" y="0"/>
                </a:lnTo>
                <a:lnTo>
                  <a:pt x="22" y="0"/>
                </a:lnTo>
                <a:lnTo>
                  <a:pt x="22" y="0"/>
                </a:lnTo>
                <a:lnTo>
                  <a:pt x="27" y="0"/>
                </a:lnTo>
                <a:lnTo>
                  <a:pt x="27" y="0"/>
                </a:lnTo>
                <a:lnTo>
                  <a:pt x="33" y="6"/>
                </a:lnTo>
                <a:lnTo>
                  <a:pt x="33" y="6"/>
                </a:lnTo>
                <a:lnTo>
                  <a:pt x="38" y="6"/>
                </a:lnTo>
                <a:lnTo>
                  <a:pt x="38" y="6"/>
                </a:lnTo>
                <a:lnTo>
                  <a:pt x="38" y="11"/>
                </a:lnTo>
                <a:lnTo>
                  <a:pt x="38" y="11"/>
                </a:lnTo>
                <a:lnTo>
                  <a:pt x="38" y="11"/>
                </a:lnTo>
                <a:lnTo>
                  <a:pt x="38" y="11"/>
                </a:lnTo>
                <a:lnTo>
                  <a:pt x="38" y="17"/>
                </a:lnTo>
                <a:lnTo>
                  <a:pt x="38" y="17"/>
                </a:lnTo>
                <a:lnTo>
                  <a:pt x="38" y="22"/>
                </a:lnTo>
                <a:lnTo>
                  <a:pt x="38" y="22"/>
                </a:lnTo>
                <a:lnTo>
                  <a:pt x="33" y="22"/>
                </a:lnTo>
                <a:lnTo>
                  <a:pt x="33" y="22"/>
                </a:lnTo>
                <a:lnTo>
                  <a:pt x="33" y="28"/>
                </a:lnTo>
                <a:lnTo>
                  <a:pt x="27" y="28"/>
                </a:lnTo>
                <a:lnTo>
                  <a:pt x="22" y="28"/>
                </a:lnTo>
                <a:lnTo>
                  <a:pt x="16" y="22"/>
                </a:lnTo>
                <a:close/>
                <a:moveTo>
                  <a:pt x="22" y="22"/>
                </a:moveTo>
                <a:lnTo>
                  <a:pt x="22" y="22"/>
                </a:lnTo>
                <a:lnTo>
                  <a:pt x="27" y="22"/>
                </a:lnTo>
                <a:lnTo>
                  <a:pt x="27" y="22"/>
                </a:lnTo>
                <a:lnTo>
                  <a:pt x="33" y="22"/>
                </a:lnTo>
                <a:lnTo>
                  <a:pt x="33" y="22"/>
                </a:lnTo>
                <a:lnTo>
                  <a:pt x="33" y="17"/>
                </a:lnTo>
                <a:lnTo>
                  <a:pt x="33" y="17"/>
                </a:lnTo>
                <a:lnTo>
                  <a:pt x="38" y="17"/>
                </a:lnTo>
                <a:lnTo>
                  <a:pt x="38" y="17"/>
                </a:lnTo>
                <a:lnTo>
                  <a:pt x="38" y="11"/>
                </a:lnTo>
                <a:lnTo>
                  <a:pt x="33" y="11"/>
                </a:lnTo>
                <a:lnTo>
                  <a:pt x="33" y="11"/>
                </a:lnTo>
                <a:lnTo>
                  <a:pt x="33" y="11"/>
                </a:lnTo>
                <a:lnTo>
                  <a:pt x="33" y="6"/>
                </a:lnTo>
                <a:lnTo>
                  <a:pt x="27" y="6"/>
                </a:lnTo>
                <a:lnTo>
                  <a:pt x="22" y="6"/>
                </a:lnTo>
                <a:lnTo>
                  <a:pt x="16" y="6"/>
                </a:lnTo>
                <a:lnTo>
                  <a:pt x="16" y="6"/>
                </a:lnTo>
                <a:lnTo>
                  <a:pt x="11" y="6"/>
                </a:lnTo>
                <a:lnTo>
                  <a:pt x="11" y="6"/>
                </a:lnTo>
                <a:lnTo>
                  <a:pt x="11" y="6"/>
                </a:lnTo>
                <a:lnTo>
                  <a:pt x="6" y="6"/>
                </a:lnTo>
                <a:lnTo>
                  <a:pt x="6" y="6"/>
                </a:lnTo>
                <a:lnTo>
                  <a:pt x="6" y="11"/>
                </a:lnTo>
                <a:lnTo>
                  <a:pt x="6" y="11"/>
                </a:lnTo>
                <a:lnTo>
                  <a:pt x="6" y="11"/>
                </a:lnTo>
                <a:lnTo>
                  <a:pt x="6" y="11"/>
                </a:lnTo>
                <a:lnTo>
                  <a:pt x="6" y="17"/>
                </a:lnTo>
                <a:lnTo>
                  <a:pt x="11" y="17"/>
                </a:lnTo>
                <a:lnTo>
                  <a:pt x="11" y="17"/>
                </a:lnTo>
                <a:lnTo>
                  <a:pt x="16" y="17"/>
                </a:lnTo>
                <a:lnTo>
                  <a:pt x="22" y="2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4" name=""/>
          <p:cNvSpPr/>
          <p:nvPr/>
        </p:nvSpPr>
        <p:spPr>
          <a:xfrm>
            <a:off x="4398840" y="6053040"/>
            <a:ext cx="52560" cy="25560"/>
          </a:xfrm>
          <a:custGeom>
            <a:avLst/>
            <a:gdLst/>
            <a:ahLst/>
            <a:rect l="l" t="t" r="r" b="b"/>
            <a:pathLst>
              <a:path w="33" h="16">
                <a:moveTo>
                  <a:pt x="0" y="16"/>
                </a:moveTo>
                <a:lnTo>
                  <a:pt x="0" y="11"/>
                </a:lnTo>
                <a:lnTo>
                  <a:pt x="27" y="6"/>
                </a:lnTo>
                <a:lnTo>
                  <a:pt x="27" y="6"/>
                </a:lnTo>
                <a:lnTo>
                  <a:pt x="22" y="6"/>
                </a:lnTo>
                <a:lnTo>
                  <a:pt x="22" y="6"/>
                </a:lnTo>
                <a:lnTo>
                  <a:pt x="22" y="0"/>
                </a:lnTo>
                <a:lnTo>
                  <a:pt x="22" y="0"/>
                </a:lnTo>
                <a:lnTo>
                  <a:pt x="22" y="0"/>
                </a:lnTo>
                <a:lnTo>
                  <a:pt x="22" y="0"/>
                </a:lnTo>
                <a:lnTo>
                  <a:pt x="22" y="0"/>
                </a:lnTo>
                <a:lnTo>
                  <a:pt x="22" y="0"/>
                </a:lnTo>
                <a:lnTo>
                  <a:pt x="27" y="0"/>
                </a:lnTo>
                <a:lnTo>
                  <a:pt x="27" y="0"/>
                </a:lnTo>
                <a:lnTo>
                  <a:pt x="27" y="0"/>
                </a:lnTo>
                <a:lnTo>
                  <a:pt x="27" y="6"/>
                </a:lnTo>
                <a:lnTo>
                  <a:pt x="33" y="6"/>
                </a:lnTo>
                <a:lnTo>
                  <a:pt x="33" y="6"/>
                </a:lnTo>
                <a:lnTo>
                  <a:pt x="33" y="6"/>
                </a:lnTo>
                <a:lnTo>
                  <a:pt x="33" y="6"/>
                </a:lnTo>
                <a:lnTo>
                  <a:pt x="33" y="11"/>
                </a:lnTo>
                <a:lnTo>
                  <a:pt x="0" y="16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5" name=""/>
          <p:cNvSpPr/>
          <p:nvPr/>
        </p:nvSpPr>
        <p:spPr>
          <a:xfrm>
            <a:off x="4398840" y="6087960"/>
            <a:ext cx="60480" cy="42840"/>
          </a:xfrm>
          <a:custGeom>
            <a:avLst/>
            <a:gdLst/>
            <a:ahLst/>
            <a:rect l="l" t="t" r="r" b="b"/>
            <a:pathLst>
              <a:path w="38" h="27">
                <a:moveTo>
                  <a:pt x="33" y="22"/>
                </a:moveTo>
                <a:lnTo>
                  <a:pt x="27" y="16"/>
                </a:lnTo>
                <a:lnTo>
                  <a:pt x="33" y="16"/>
                </a:lnTo>
                <a:lnTo>
                  <a:pt x="33" y="16"/>
                </a:lnTo>
                <a:lnTo>
                  <a:pt x="33" y="16"/>
                </a:lnTo>
                <a:lnTo>
                  <a:pt x="33" y="16"/>
                </a:lnTo>
                <a:lnTo>
                  <a:pt x="33" y="16"/>
                </a:lnTo>
                <a:lnTo>
                  <a:pt x="33" y="16"/>
                </a:lnTo>
                <a:lnTo>
                  <a:pt x="33" y="11"/>
                </a:lnTo>
                <a:lnTo>
                  <a:pt x="33" y="11"/>
                </a:lnTo>
                <a:lnTo>
                  <a:pt x="33" y="11"/>
                </a:lnTo>
                <a:lnTo>
                  <a:pt x="33" y="11"/>
                </a:lnTo>
                <a:lnTo>
                  <a:pt x="33" y="11"/>
                </a:lnTo>
                <a:lnTo>
                  <a:pt x="33" y="11"/>
                </a:lnTo>
                <a:lnTo>
                  <a:pt x="33" y="5"/>
                </a:lnTo>
                <a:lnTo>
                  <a:pt x="33" y="5"/>
                </a:lnTo>
                <a:lnTo>
                  <a:pt x="27" y="5"/>
                </a:lnTo>
                <a:lnTo>
                  <a:pt x="27" y="5"/>
                </a:lnTo>
                <a:lnTo>
                  <a:pt x="27" y="5"/>
                </a:lnTo>
                <a:lnTo>
                  <a:pt x="22" y="5"/>
                </a:lnTo>
                <a:lnTo>
                  <a:pt x="22" y="5"/>
                </a:lnTo>
                <a:lnTo>
                  <a:pt x="16" y="5"/>
                </a:lnTo>
                <a:lnTo>
                  <a:pt x="22" y="5"/>
                </a:lnTo>
                <a:lnTo>
                  <a:pt x="22" y="5"/>
                </a:lnTo>
                <a:lnTo>
                  <a:pt x="22" y="11"/>
                </a:lnTo>
                <a:lnTo>
                  <a:pt x="22" y="11"/>
                </a:lnTo>
                <a:lnTo>
                  <a:pt x="22" y="11"/>
                </a:lnTo>
                <a:lnTo>
                  <a:pt x="22" y="11"/>
                </a:lnTo>
                <a:lnTo>
                  <a:pt x="27" y="11"/>
                </a:lnTo>
                <a:lnTo>
                  <a:pt x="27" y="16"/>
                </a:lnTo>
                <a:lnTo>
                  <a:pt x="27" y="16"/>
                </a:lnTo>
                <a:lnTo>
                  <a:pt x="27" y="16"/>
                </a:lnTo>
                <a:lnTo>
                  <a:pt x="22" y="22"/>
                </a:lnTo>
                <a:lnTo>
                  <a:pt x="22" y="22"/>
                </a:lnTo>
                <a:lnTo>
                  <a:pt x="22" y="22"/>
                </a:lnTo>
                <a:lnTo>
                  <a:pt x="22" y="27"/>
                </a:lnTo>
                <a:lnTo>
                  <a:pt x="16" y="27"/>
                </a:lnTo>
                <a:lnTo>
                  <a:pt x="16" y="27"/>
                </a:lnTo>
                <a:lnTo>
                  <a:pt x="11" y="27"/>
                </a:lnTo>
                <a:lnTo>
                  <a:pt x="11" y="27"/>
                </a:lnTo>
                <a:lnTo>
                  <a:pt x="11" y="27"/>
                </a:lnTo>
                <a:lnTo>
                  <a:pt x="11" y="27"/>
                </a:lnTo>
                <a:lnTo>
                  <a:pt x="6" y="27"/>
                </a:lnTo>
                <a:lnTo>
                  <a:pt x="6" y="22"/>
                </a:lnTo>
                <a:lnTo>
                  <a:pt x="6" y="22"/>
                </a:lnTo>
                <a:lnTo>
                  <a:pt x="6" y="22"/>
                </a:lnTo>
                <a:lnTo>
                  <a:pt x="0" y="22"/>
                </a:lnTo>
                <a:lnTo>
                  <a:pt x="0" y="22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1"/>
                </a:lnTo>
                <a:lnTo>
                  <a:pt x="0" y="11"/>
                </a:lnTo>
                <a:lnTo>
                  <a:pt x="6" y="5"/>
                </a:lnTo>
                <a:lnTo>
                  <a:pt x="6" y="5"/>
                </a:lnTo>
                <a:lnTo>
                  <a:pt x="11" y="5"/>
                </a:lnTo>
                <a:lnTo>
                  <a:pt x="11" y="0"/>
                </a:lnTo>
                <a:lnTo>
                  <a:pt x="16" y="0"/>
                </a:lnTo>
                <a:lnTo>
                  <a:pt x="22" y="0"/>
                </a:lnTo>
                <a:lnTo>
                  <a:pt x="27" y="0"/>
                </a:lnTo>
                <a:lnTo>
                  <a:pt x="27" y="0"/>
                </a:lnTo>
                <a:lnTo>
                  <a:pt x="33" y="5"/>
                </a:lnTo>
                <a:lnTo>
                  <a:pt x="33" y="5"/>
                </a:lnTo>
                <a:lnTo>
                  <a:pt x="38" y="5"/>
                </a:lnTo>
                <a:lnTo>
                  <a:pt x="38" y="11"/>
                </a:lnTo>
                <a:lnTo>
                  <a:pt x="38" y="11"/>
                </a:lnTo>
                <a:lnTo>
                  <a:pt x="38" y="16"/>
                </a:lnTo>
                <a:lnTo>
                  <a:pt x="38" y="16"/>
                </a:lnTo>
                <a:lnTo>
                  <a:pt x="38" y="16"/>
                </a:lnTo>
                <a:lnTo>
                  <a:pt x="38" y="22"/>
                </a:lnTo>
                <a:lnTo>
                  <a:pt x="33" y="22"/>
                </a:lnTo>
                <a:lnTo>
                  <a:pt x="33" y="22"/>
                </a:lnTo>
                <a:lnTo>
                  <a:pt x="33" y="22"/>
                </a:lnTo>
                <a:lnTo>
                  <a:pt x="33" y="22"/>
                </a:lnTo>
                <a:close/>
                <a:moveTo>
                  <a:pt x="11" y="5"/>
                </a:moveTo>
                <a:lnTo>
                  <a:pt x="11" y="5"/>
                </a:lnTo>
                <a:lnTo>
                  <a:pt x="11" y="5"/>
                </a:lnTo>
                <a:lnTo>
                  <a:pt x="11" y="11"/>
                </a:lnTo>
                <a:lnTo>
                  <a:pt x="6" y="11"/>
                </a:lnTo>
                <a:lnTo>
                  <a:pt x="6" y="11"/>
                </a:lnTo>
                <a:lnTo>
                  <a:pt x="6" y="11"/>
                </a:lnTo>
                <a:lnTo>
                  <a:pt x="6" y="11"/>
                </a:lnTo>
                <a:lnTo>
                  <a:pt x="6" y="11"/>
                </a:lnTo>
                <a:lnTo>
                  <a:pt x="6" y="11"/>
                </a:lnTo>
                <a:lnTo>
                  <a:pt x="6" y="16"/>
                </a:lnTo>
                <a:lnTo>
                  <a:pt x="6" y="16"/>
                </a:lnTo>
                <a:lnTo>
                  <a:pt x="6" y="16"/>
                </a:lnTo>
                <a:lnTo>
                  <a:pt x="6" y="16"/>
                </a:lnTo>
                <a:lnTo>
                  <a:pt x="6" y="16"/>
                </a:lnTo>
                <a:lnTo>
                  <a:pt x="6" y="22"/>
                </a:lnTo>
                <a:lnTo>
                  <a:pt x="6" y="22"/>
                </a:lnTo>
                <a:lnTo>
                  <a:pt x="11" y="22"/>
                </a:lnTo>
                <a:lnTo>
                  <a:pt x="11" y="22"/>
                </a:lnTo>
                <a:lnTo>
                  <a:pt x="11" y="22"/>
                </a:lnTo>
                <a:lnTo>
                  <a:pt x="16" y="22"/>
                </a:lnTo>
                <a:lnTo>
                  <a:pt x="16" y="22"/>
                </a:lnTo>
                <a:lnTo>
                  <a:pt x="16" y="22"/>
                </a:lnTo>
                <a:lnTo>
                  <a:pt x="16" y="22"/>
                </a:lnTo>
                <a:lnTo>
                  <a:pt x="22" y="16"/>
                </a:lnTo>
                <a:lnTo>
                  <a:pt x="22" y="16"/>
                </a:lnTo>
                <a:lnTo>
                  <a:pt x="22" y="16"/>
                </a:lnTo>
                <a:lnTo>
                  <a:pt x="22" y="16"/>
                </a:lnTo>
                <a:lnTo>
                  <a:pt x="22" y="11"/>
                </a:lnTo>
                <a:lnTo>
                  <a:pt x="22" y="11"/>
                </a:lnTo>
                <a:lnTo>
                  <a:pt x="22" y="11"/>
                </a:lnTo>
                <a:lnTo>
                  <a:pt x="22" y="11"/>
                </a:lnTo>
                <a:lnTo>
                  <a:pt x="16" y="11"/>
                </a:lnTo>
                <a:lnTo>
                  <a:pt x="16" y="5"/>
                </a:lnTo>
                <a:lnTo>
                  <a:pt x="16" y="5"/>
                </a:lnTo>
                <a:lnTo>
                  <a:pt x="16" y="5"/>
                </a:lnTo>
                <a:lnTo>
                  <a:pt x="11" y="5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6" name=""/>
          <p:cNvSpPr/>
          <p:nvPr/>
        </p:nvSpPr>
        <p:spPr>
          <a:xfrm>
            <a:off x="4408560" y="6130800"/>
            <a:ext cx="60120" cy="42840"/>
          </a:xfrm>
          <a:custGeom>
            <a:avLst/>
            <a:gdLst/>
            <a:ahLst/>
            <a:rect l="l" t="t" r="r" b="b"/>
            <a:pathLst>
              <a:path w="38" h="27">
                <a:moveTo>
                  <a:pt x="16" y="0"/>
                </a:moveTo>
                <a:lnTo>
                  <a:pt x="21" y="0"/>
                </a:lnTo>
                <a:lnTo>
                  <a:pt x="21" y="0"/>
                </a:lnTo>
                <a:lnTo>
                  <a:pt x="21" y="0"/>
                </a:lnTo>
                <a:lnTo>
                  <a:pt x="27" y="0"/>
                </a:lnTo>
                <a:lnTo>
                  <a:pt x="27" y="6"/>
                </a:lnTo>
                <a:lnTo>
                  <a:pt x="32" y="6"/>
                </a:lnTo>
                <a:lnTo>
                  <a:pt x="32" y="6"/>
                </a:lnTo>
                <a:lnTo>
                  <a:pt x="32" y="6"/>
                </a:lnTo>
                <a:lnTo>
                  <a:pt x="32" y="6"/>
                </a:lnTo>
                <a:lnTo>
                  <a:pt x="32" y="11"/>
                </a:lnTo>
                <a:lnTo>
                  <a:pt x="38" y="11"/>
                </a:lnTo>
                <a:lnTo>
                  <a:pt x="38" y="11"/>
                </a:lnTo>
                <a:lnTo>
                  <a:pt x="38" y="11"/>
                </a:lnTo>
                <a:lnTo>
                  <a:pt x="38" y="17"/>
                </a:lnTo>
                <a:lnTo>
                  <a:pt x="38" y="17"/>
                </a:lnTo>
                <a:lnTo>
                  <a:pt x="38" y="17"/>
                </a:lnTo>
                <a:lnTo>
                  <a:pt x="32" y="17"/>
                </a:lnTo>
                <a:lnTo>
                  <a:pt x="32" y="22"/>
                </a:lnTo>
                <a:lnTo>
                  <a:pt x="32" y="22"/>
                </a:lnTo>
                <a:lnTo>
                  <a:pt x="32" y="22"/>
                </a:lnTo>
                <a:lnTo>
                  <a:pt x="32" y="22"/>
                </a:lnTo>
                <a:lnTo>
                  <a:pt x="32" y="22"/>
                </a:lnTo>
                <a:lnTo>
                  <a:pt x="27" y="22"/>
                </a:lnTo>
                <a:lnTo>
                  <a:pt x="27" y="22"/>
                </a:lnTo>
                <a:lnTo>
                  <a:pt x="27" y="27"/>
                </a:lnTo>
                <a:lnTo>
                  <a:pt x="21" y="27"/>
                </a:lnTo>
                <a:lnTo>
                  <a:pt x="21" y="27"/>
                </a:lnTo>
                <a:lnTo>
                  <a:pt x="21" y="27"/>
                </a:lnTo>
                <a:lnTo>
                  <a:pt x="16" y="27"/>
                </a:lnTo>
                <a:lnTo>
                  <a:pt x="10" y="27"/>
                </a:lnTo>
                <a:lnTo>
                  <a:pt x="10" y="27"/>
                </a:lnTo>
                <a:lnTo>
                  <a:pt x="10" y="27"/>
                </a:lnTo>
                <a:lnTo>
                  <a:pt x="5" y="27"/>
                </a:lnTo>
                <a:lnTo>
                  <a:pt x="5" y="27"/>
                </a:lnTo>
                <a:lnTo>
                  <a:pt x="5" y="22"/>
                </a:lnTo>
                <a:lnTo>
                  <a:pt x="0" y="22"/>
                </a:lnTo>
                <a:lnTo>
                  <a:pt x="0" y="22"/>
                </a:lnTo>
                <a:lnTo>
                  <a:pt x="0" y="22"/>
                </a:lnTo>
                <a:lnTo>
                  <a:pt x="0" y="17"/>
                </a:lnTo>
                <a:lnTo>
                  <a:pt x="0" y="17"/>
                </a:lnTo>
                <a:lnTo>
                  <a:pt x="0" y="17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5" y="6"/>
                </a:lnTo>
                <a:lnTo>
                  <a:pt x="5" y="6"/>
                </a:lnTo>
                <a:lnTo>
                  <a:pt x="10" y="6"/>
                </a:lnTo>
                <a:lnTo>
                  <a:pt x="16" y="0"/>
                </a:lnTo>
                <a:close/>
                <a:moveTo>
                  <a:pt x="16" y="6"/>
                </a:moveTo>
                <a:lnTo>
                  <a:pt x="10" y="6"/>
                </a:lnTo>
                <a:lnTo>
                  <a:pt x="10" y="11"/>
                </a:lnTo>
                <a:lnTo>
                  <a:pt x="5" y="11"/>
                </a:lnTo>
                <a:lnTo>
                  <a:pt x="5" y="11"/>
                </a:lnTo>
                <a:lnTo>
                  <a:pt x="5" y="11"/>
                </a:lnTo>
                <a:lnTo>
                  <a:pt x="5" y="11"/>
                </a:lnTo>
                <a:lnTo>
                  <a:pt x="5" y="17"/>
                </a:lnTo>
                <a:lnTo>
                  <a:pt x="5" y="17"/>
                </a:lnTo>
                <a:lnTo>
                  <a:pt x="5" y="17"/>
                </a:lnTo>
                <a:lnTo>
                  <a:pt x="5" y="22"/>
                </a:lnTo>
                <a:lnTo>
                  <a:pt x="5" y="22"/>
                </a:lnTo>
                <a:lnTo>
                  <a:pt x="5" y="22"/>
                </a:lnTo>
                <a:lnTo>
                  <a:pt x="10" y="22"/>
                </a:lnTo>
                <a:lnTo>
                  <a:pt x="10" y="22"/>
                </a:lnTo>
                <a:lnTo>
                  <a:pt x="16" y="22"/>
                </a:lnTo>
                <a:lnTo>
                  <a:pt x="16" y="22"/>
                </a:lnTo>
                <a:lnTo>
                  <a:pt x="21" y="22"/>
                </a:lnTo>
                <a:lnTo>
                  <a:pt x="27" y="22"/>
                </a:lnTo>
                <a:lnTo>
                  <a:pt x="27" y="22"/>
                </a:lnTo>
                <a:lnTo>
                  <a:pt x="32" y="17"/>
                </a:lnTo>
                <a:lnTo>
                  <a:pt x="32" y="17"/>
                </a:lnTo>
                <a:lnTo>
                  <a:pt x="32" y="17"/>
                </a:lnTo>
                <a:lnTo>
                  <a:pt x="32" y="17"/>
                </a:lnTo>
                <a:lnTo>
                  <a:pt x="32" y="11"/>
                </a:lnTo>
                <a:lnTo>
                  <a:pt x="32" y="11"/>
                </a:lnTo>
                <a:lnTo>
                  <a:pt x="32" y="11"/>
                </a:lnTo>
                <a:lnTo>
                  <a:pt x="32" y="11"/>
                </a:lnTo>
                <a:lnTo>
                  <a:pt x="27" y="6"/>
                </a:lnTo>
                <a:lnTo>
                  <a:pt x="27" y="6"/>
                </a:lnTo>
                <a:lnTo>
                  <a:pt x="21" y="6"/>
                </a:lnTo>
                <a:lnTo>
                  <a:pt x="21" y="6"/>
                </a:lnTo>
                <a:lnTo>
                  <a:pt x="16" y="6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7" name=""/>
          <p:cNvSpPr/>
          <p:nvPr/>
        </p:nvSpPr>
        <p:spPr>
          <a:xfrm>
            <a:off x="4235400" y="5361120"/>
            <a:ext cx="50760" cy="42840"/>
          </a:xfrm>
          <a:custGeom>
            <a:avLst/>
            <a:gdLst/>
            <a:ahLst/>
            <a:rect l="l" t="t" r="r" b="b"/>
            <a:pathLst>
              <a:path w="32" h="27">
                <a:moveTo>
                  <a:pt x="0" y="6"/>
                </a:moveTo>
                <a:lnTo>
                  <a:pt x="5" y="0"/>
                </a:lnTo>
                <a:lnTo>
                  <a:pt x="27" y="16"/>
                </a:lnTo>
                <a:lnTo>
                  <a:pt x="27" y="16"/>
                </a:lnTo>
                <a:lnTo>
                  <a:pt x="27" y="16"/>
                </a:lnTo>
                <a:lnTo>
                  <a:pt x="27" y="16"/>
                </a:lnTo>
                <a:lnTo>
                  <a:pt x="27" y="11"/>
                </a:lnTo>
                <a:lnTo>
                  <a:pt x="27" y="11"/>
                </a:lnTo>
                <a:lnTo>
                  <a:pt x="27" y="11"/>
                </a:lnTo>
                <a:lnTo>
                  <a:pt x="27" y="11"/>
                </a:lnTo>
                <a:lnTo>
                  <a:pt x="27" y="6"/>
                </a:lnTo>
                <a:lnTo>
                  <a:pt x="32" y="11"/>
                </a:lnTo>
                <a:lnTo>
                  <a:pt x="32" y="11"/>
                </a:lnTo>
                <a:lnTo>
                  <a:pt x="32" y="16"/>
                </a:lnTo>
                <a:lnTo>
                  <a:pt x="32" y="16"/>
                </a:lnTo>
                <a:lnTo>
                  <a:pt x="32" y="16"/>
                </a:lnTo>
                <a:lnTo>
                  <a:pt x="32" y="22"/>
                </a:lnTo>
                <a:lnTo>
                  <a:pt x="32" y="22"/>
                </a:lnTo>
                <a:lnTo>
                  <a:pt x="32" y="22"/>
                </a:lnTo>
                <a:lnTo>
                  <a:pt x="32" y="27"/>
                </a:lnTo>
                <a:lnTo>
                  <a:pt x="32" y="27"/>
                </a:lnTo>
                <a:lnTo>
                  <a:pt x="0" y="6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8" name=""/>
          <p:cNvSpPr/>
          <p:nvPr/>
        </p:nvSpPr>
        <p:spPr>
          <a:xfrm>
            <a:off x="4208400" y="5396040"/>
            <a:ext cx="52560" cy="42840"/>
          </a:xfrm>
          <a:custGeom>
            <a:avLst/>
            <a:gdLst/>
            <a:ahLst/>
            <a:rect l="l" t="t" r="r" b="b"/>
            <a:pathLst>
              <a:path w="33" h="27">
                <a:moveTo>
                  <a:pt x="17" y="27"/>
                </a:moveTo>
                <a:lnTo>
                  <a:pt x="22" y="22"/>
                </a:lnTo>
                <a:lnTo>
                  <a:pt x="22" y="27"/>
                </a:lnTo>
                <a:lnTo>
                  <a:pt x="22" y="27"/>
                </a:lnTo>
                <a:lnTo>
                  <a:pt x="22" y="27"/>
                </a:lnTo>
                <a:lnTo>
                  <a:pt x="27" y="27"/>
                </a:lnTo>
                <a:lnTo>
                  <a:pt x="27" y="27"/>
                </a:lnTo>
                <a:lnTo>
                  <a:pt x="27" y="22"/>
                </a:lnTo>
                <a:lnTo>
                  <a:pt x="27" y="22"/>
                </a:lnTo>
                <a:lnTo>
                  <a:pt x="27" y="22"/>
                </a:lnTo>
                <a:lnTo>
                  <a:pt x="33" y="22"/>
                </a:lnTo>
                <a:lnTo>
                  <a:pt x="33" y="22"/>
                </a:lnTo>
                <a:lnTo>
                  <a:pt x="33" y="22"/>
                </a:lnTo>
                <a:lnTo>
                  <a:pt x="33" y="16"/>
                </a:lnTo>
                <a:lnTo>
                  <a:pt x="33" y="16"/>
                </a:lnTo>
                <a:lnTo>
                  <a:pt x="33" y="16"/>
                </a:lnTo>
                <a:lnTo>
                  <a:pt x="27" y="16"/>
                </a:lnTo>
                <a:lnTo>
                  <a:pt x="27" y="11"/>
                </a:lnTo>
                <a:lnTo>
                  <a:pt x="27" y="11"/>
                </a:lnTo>
                <a:lnTo>
                  <a:pt x="27" y="11"/>
                </a:lnTo>
                <a:lnTo>
                  <a:pt x="27" y="11"/>
                </a:lnTo>
                <a:lnTo>
                  <a:pt x="22" y="5"/>
                </a:lnTo>
                <a:lnTo>
                  <a:pt x="22" y="11"/>
                </a:lnTo>
                <a:lnTo>
                  <a:pt x="22" y="11"/>
                </a:lnTo>
                <a:lnTo>
                  <a:pt x="22" y="11"/>
                </a:lnTo>
                <a:lnTo>
                  <a:pt x="22" y="11"/>
                </a:lnTo>
                <a:lnTo>
                  <a:pt x="22" y="16"/>
                </a:lnTo>
                <a:lnTo>
                  <a:pt x="22" y="16"/>
                </a:lnTo>
                <a:lnTo>
                  <a:pt x="22" y="16"/>
                </a:lnTo>
                <a:lnTo>
                  <a:pt x="22" y="16"/>
                </a:lnTo>
                <a:lnTo>
                  <a:pt x="22" y="16"/>
                </a:lnTo>
                <a:lnTo>
                  <a:pt x="17" y="22"/>
                </a:lnTo>
                <a:lnTo>
                  <a:pt x="17" y="22"/>
                </a:lnTo>
                <a:lnTo>
                  <a:pt x="17" y="22"/>
                </a:lnTo>
                <a:lnTo>
                  <a:pt x="11" y="22"/>
                </a:lnTo>
                <a:lnTo>
                  <a:pt x="11" y="22"/>
                </a:lnTo>
                <a:lnTo>
                  <a:pt x="6" y="22"/>
                </a:lnTo>
                <a:lnTo>
                  <a:pt x="6" y="22"/>
                </a:lnTo>
                <a:lnTo>
                  <a:pt x="6" y="16"/>
                </a:lnTo>
                <a:lnTo>
                  <a:pt x="6" y="16"/>
                </a:lnTo>
                <a:lnTo>
                  <a:pt x="0" y="16"/>
                </a:lnTo>
                <a:lnTo>
                  <a:pt x="0" y="16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6" y="0"/>
                </a:lnTo>
                <a:lnTo>
                  <a:pt x="6" y="0"/>
                </a:lnTo>
                <a:lnTo>
                  <a:pt x="11" y="0"/>
                </a:lnTo>
                <a:lnTo>
                  <a:pt x="11" y="0"/>
                </a:lnTo>
                <a:lnTo>
                  <a:pt x="17" y="0"/>
                </a:lnTo>
                <a:lnTo>
                  <a:pt x="17" y="0"/>
                </a:lnTo>
                <a:lnTo>
                  <a:pt x="22" y="0"/>
                </a:lnTo>
                <a:lnTo>
                  <a:pt x="22" y="5"/>
                </a:lnTo>
                <a:lnTo>
                  <a:pt x="27" y="5"/>
                </a:lnTo>
                <a:lnTo>
                  <a:pt x="33" y="11"/>
                </a:lnTo>
                <a:lnTo>
                  <a:pt x="33" y="11"/>
                </a:lnTo>
                <a:lnTo>
                  <a:pt x="33" y="16"/>
                </a:lnTo>
                <a:lnTo>
                  <a:pt x="33" y="16"/>
                </a:lnTo>
                <a:lnTo>
                  <a:pt x="33" y="22"/>
                </a:lnTo>
                <a:lnTo>
                  <a:pt x="33" y="22"/>
                </a:lnTo>
                <a:lnTo>
                  <a:pt x="33" y="27"/>
                </a:lnTo>
                <a:lnTo>
                  <a:pt x="33" y="27"/>
                </a:lnTo>
                <a:lnTo>
                  <a:pt x="27" y="27"/>
                </a:lnTo>
                <a:lnTo>
                  <a:pt x="27" y="27"/>
                </a:lnTo>
                <a:lnTo>
                  <a:pt x="27" y="27"/>
                </a:lnTo>
                <a:lnTo>
                  <a:pt x="22" y="27"/>
                </a:lnTo>
                <a:lnTo>
                  <a:pt x="22" y="27"/>
                </a:lnTo>
                <a:lnTo>
                  <a:pt x="22" y="27"/>
                </a:lnTo>
                <a:lnTo>
                  <a:pt x="17" y="27"/>
                </a:lnTo>
                <a:close/>
                <a:moveTo>
                  <a:pt x="17" y="5"/>
                </a:moveTo>
                <a:lnTo>
                  <a:pt x="17" y="5"/>
                </a:lnTo>
                <a:lnTo>
                  <a:pt x="17" y="5"/>
                </a:lnTo>
                <a:lnTo>
                  <a:pt x="17" y="0"/>
                </a:lnTo>
                <a:lnTo>
                  <a:pt x="11" y="0"/>
                </a:lnTo>
                <a:lnTo>
                  <a:pt x="11" y="0"/>
                </a:lnTo>
                <a:lnTo>
                  <a:pt x="11" y="0"/>
                </a:lnTo>
                <a:lnTo>
                  <a:pt x="11" y="0"/>
                </a:lnTo>
                <a:lnTo>
                  <a:pt x="11" y="0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11"/>
                </a:lnTo>
                <a:lnTo>
                  <a:pt x="6" y="11"/>
                </a:lnTo>
                <a:lnTo>
                  <a:pt x="6" y="11"/>
                </a:lnTo>
                <a:lnTo>
                  <a:pt x="6" y="11"/>
                </a:lnTo>
                <a:lnTo>
                  <a:pt x="6" y="16"/>
                </a:lnTo>
                <a:lnTo>
                  <a:pt x="11" y="16"/>
                </a:lnTo>
                <a:lnTo>
                  <a:pt x="11" y="16"/>
                </a:lnTo>
                <a:lnTo>
                  <a:pt x="11" y="16"/>
                </a:lnTo>
                <a:lnTo>
                  <a:pt x="11" y="16"/>
                </a:lnTo>
                <a:lnTo>
                  <a:pt x="17" y="16"/>
                </a:lnTo>
                <a:lnTo>
                  <a:pt x="17" y="16"/>
                </a:lnTo>
                <a:lnTo>
                  <a:pt x="17" y="16"/>
                </a:lnTo>
                <a:lnTo>
                  <a:pt x="17" y="16"/>
                </a:lnTo>
                <a:lnTo>
                  <a:pt x="17" y="16"/>
                </a:lnTo>
                <a:lnTo>
                  <a:pt x="22" y="11"/>
                </a:lnTo>
                <a:lnTo>
                  <a:pt x="22" y="11"/>
                </a:lnTo>
                <a:lnTo>
                  <a:pt x="22" y="11"/>
                </a:lnTo>
                <a:lnTo>
                  <a:pt x="22" y="11"/>
                </a:lnTo>
                <a:lnTo>
                  <a:pt x="22" y="5"/>
                </a:lnTo>
                <a:lnTo>
                  <a:pt x="22" y="5"/>
                </a:lnTo>
                <a:lnTo>
                  <a:pt x="17" y="5"/>
                </a:lnTo>
                <a:lnTo>
                  <a:pt x="17" y="5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9" name=""/>
          <p:cNvSpPr/>
          <p:nvPr/>
        </p:nvSpPr>
        <p:spPr>
          <a:xfrm>
            <a:off x="4183200" y="5430960"/>
            <a:ext cx="52200" cy="42840"/>
          </a:xfrm>
          <a:custGeom>
            <a:avLst/>
            <a:gdLst/>
            <a:ahLst/>
            <a:rect l="l" t="t" r="r" b="b"/>
            <a:pathLst>
              <a:path w="33" h="27">
                <a:moveTo>
                  <a:pt x="22" y="5"/>
                </a:moveTo>
                <a:lnTo>
                  <a:pt x="27" y="5"/>
                </a:lnTo>
                <a:lnTo>
                  <a:pt x="27" y="11"/>
                </a:lnTo>
                <a:lnTo>
                  <a:pt x="33" y="11"/>
                </a:lnTo>
                <a:lnTo>
                  <a:pt x="33" y="11"/>
                </a:lnTo>
                <a:lnTo>
                  <a:pt x="33" y="11"/>
                </a:lnTo>
                <a:lnTo>
                  <a:pt x="33" y="16"/>
                </a:lnTo>
                <a:lnTo>
                  <a:pt x="33" y="16"/>
                </a:lnTo>
                <a:lnTo>
                  <a:pt x="33" y="16"/>
                </a:lnTo>
                <a:lnTo>
                  <a:pt x="33" y="22"/>
                </a:lnTo>
                <a:lnTo>
                  <a:pt x="33" y="22"/>
                </a:lnTo>
                <a:lnTo>
                  <a:pt x="33" y="22"/>
                </a:lnTo>
                <a:lnTo>
                  <a:pt x="33" y="27"/>
                </a:lnTo>
                <a:lnTo>
                  <a:pt x="33" y="27"/>
                </a:lnTo>
                <a:lnTo>
                  <a:pt x="33" y="27"/>
                </a:lnTo>
                <a:lnTo>
                  <a:pt x="27" y="27"/>
                </a:lnTo>
                <a:lnTo>
                  <a:pt x="27" y="27"/>
                </a:lnTo>
                <a:lnTo>
                  <a:pt x="27" y="27"/>
                </a:lnTo>
                <a:lnTo>
                  <a:pt x="27" y="27"/>
                </a:lnTo>
                <a:lnTo>
                  <a:pt x="27" y="27"/>
                </a:lnTo>
                <a:lnTo>
                  <a:pt x="22" y="27"/>
                </a:lnTo>
                <a:lnTo>
                  <a:pt x="22" y="27"/>
                </a:lnTo>
                <a:lnTo>
                  <a:pt x="22" y="27"/>
                </a:lnTo>
                <a:lnTo>
                  <a:pt x="22" y="27"/>
                </a:lnTo>
                <a:lnTo>
                  <a:pt x="16" y="27"/>
                </a:lnTo>
                <a:lnTo>
                  <a:pt x="16" y="27"/>
                </a:lnTo>
                <a:lnTo>
                  <a:pt x="16" y="27"/>
                </a:lnTo>
                <a:lnTo>
                  <a:pt x="11" y="27"/>
                </a:lnTo>
                <a:lnTo>
                  <a:pt x="11" y="22"/>
                </a:lnTo>
                <a:lnTo>
                  <a:pt x="5" y="22"/>
                </a:lnTo>
                <a:lnTo>
                  <a:pt x="5" y="22"/>
                </a:lnTo>
                <a:lnTo>
                  <a:pt x="5" y="16"/>
                </a:lnTo>
                <a:lnTo>
                  <a:pt x="5" y="16"/>
                </a:lnTo>
                <a:lnTo>
                  <a:pt x="0" y="16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11" y="0"/>
                </a:lnTo>
                <a:lnTo>
                  <a:pt x="11" y="0"/>
                </a:lnTo>
                <a:lnTo>
                  <a:pt x="16" y="0"/>
                </a:lnTo>
                <a:lnTo>
                  <a:pt x="22" y="0"/>
                </a:lnTo>
                <a:lnTo>
                  <a:pt x="22" y="5"/>
                </a:lnTo>
                <a:close/>
                <a:moveTo>
                  <a:pt x="22" y="11"/>
                </a:moveTo>
                <a:lnTo>
                  <a:pt x="16" y="5"/>
                </a:lnTo>
                <a:lnTo>
                  <a:pt x="16" y="5"/>
                </a:lnTo>
                <a:lnTo>
                  <a:pt x="11" y="5"/>
                </a:lnTo>
                <a:lnTo>
                  <a:pt x="11" y="5"/>
                </a:lnTo>
                <a:lnTo>
                  <a:pt x="11" y="5"/>
                </a:lnTo>
                <a:lnTo>
                  <a:pt x="5" y="5"/>
                </a:lnTo>
                <a:lnTo>
                  <a:pt x="5" y="5"/>
                </a:lnTo>
                <a:lnTo>
                  <a:pt x="5" y="5"/>
                </a:lnTo>
                <a:lnTo>
                  <a:pt x="5" y="5"/>
                </a:lnTo>
                <a:lnTo>
                  <a:pt x="5" y="11"/>
                </a:lnTo>
                <a:lnTo>
                  <a:pt x="5" y="11"/>
                </a:lnTo>
                <a:lnTo>
                  <a:pt x="5" y="11"/>
                </a:lnTo>
                <a:lnTo>
                  <a:pt x="5" y="11"/>
                </a:lnTo>
                <a:lnTo>
                  <a:pt x="5" y="16"/>
                </a:lnTo>
                <a:lnTo>
                  <a:pt x="11" y="16"/>
                </a:lnTo>
                <a:lnTo>
                  <a:pt x="11" y="22"/>
                </a:lnTo>
                <a:lnTo>
                  <a:pt x="16" y="22"/>
                </a:lnTo>
                <a:lnTo>
                  <a:pt x="22" y="22"/>
                </a:lnTo>
                <a:lnTo>
                  <a:pt x="22" y="27"/>
                </a:lnTo>
                <a:lnTo>
                  <a:pt x="22" y="27"/>
                </a:lnTo>
                <a:lnTo>
                  <a:pt x="27" y="27"/>
                </a:lnTo>
                <a:lnTo>
                  <a:pt x="27" y="27"/>
                </a:lnTo>
                <a:lnTo>
                  <a:pt x="27" y="22"/>
                </a:lnTo>
                <a:lnTo>
                  <a:pt x="27" y="22"/>
                </a:lnTo>
                <a:lnTo>
                  <a:pt x="33" y="22"/>
                </a:lnTo>
                <a:lnTo>
                  <a:pt x="33" y="22"/>
                </a:lnTo>
                <a:lnTo>
                  <a:pt x="33" y="22"/>
                </a:lnTo>
                <a:lnTo>
                  <a:pt x="33" y="16"/>
                </a:lnTo>
                <a:lnTo>
                  <a:pt x="27" y="16"/>
                </a:lnTo>
                <a:lnTo>
                  <a:pt x="27" y="11"/>
                </a:lnTo>
                <a:lnTo>
                  <a:pt x="27" y="11"/>
                </a:lnTo>
                <a:lnTo>
                  <a:pt x="22" y="1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0" name=""/>
          <p:cNvSpPr/>
          <p:nvPr/>
        </p:nvSpPr>
        <p:spPr>
          <a:xfrm>
            <a:off x="5126040" y="5240160"/>
            <a:ext cx="52560" cy="25560"/>
          </a:xfrm>
          <a:custGeom>
            <a:avLst/>
            <a:gdLst/>
            <a:ahLst/>
            <a:rect l="l" t="t" r="r" b="b"/>
            <a:pathLst>
              <a:path w="33" h="16">
                <a:moveTo>
                  <a:pt x="0" y="0"/>
                </a:moveTo>
                <a:lnTo>
                  <a:pt x="0" y="0"/>
                </a:lnTo>
                <a:lnTo>
                  <a:pt x="27" y="11"/>
                </a:lnTo>
                <a:lnTo>
                  <a:pt x="27" y="5"/>
                </a:lnTo>
                <a:lnTo>
                  <a:pt x="27" y="5"/>
                </a:lnTo>
                <a:lnTo>
                  <a:pt x="27" y="5"/>
                </a:lnTo>
                <a:lnTo>
                  <a:pt x="27" y="5"/>
                </a:lnTo>
                <a:lnTo>
                  <a:pt x="27" y="0"/>
                </a:lnTo>
                <a:lnTo>
                  <a:pt x="27" y="0"/>
                </a:lnTo>
                <a:lnTo>
                  <a:pt x="27" y="0"/>
                </a:lnTo>
                <a:lnTo>
                  <a:pt x="27" y="0"/>
                </a:lnTo>
                <a:lnTo>
                  <a:pt x="27" y="0"/>
                </a:lnTo>
                <a:lnTo>
                  <a:pt x="27" y="0"/>
                </a:lnTo>
                <a:lnTo>
                  <a:pt x="27" y="5"/>
                </a:lnTo>
                <a:lnTo>
                  <a:pt x="27" y="5"/>
                </a:lnTo>
                <a:lnTo>
                  <a:pt x="33" y="11"/>
                </a:lnTo>
                <a:lnTo>
                  <a:pt x="33" y="11"/>
                </a:lnTo>
                <a:lnTo>
                  <a:pt x="33" y="11"/>
                </a:lnTo>
                <a:lnTo>
                  <a:pt x="33" y="11"/>
                </a:lnTo>
                <a:lnTo>
                  <a:pt x="33" y="16"/>
                </a:lnTo>
                <a:lnTo>
                  <a:pt x="33" y="16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1" name=""/>
          <p:cNvSpPr/>
          <p:nvPr/>
        </p:nvSpPr>
        <p:spPr>
          <a:xfrm>
            <a:off x="5108400" y="5265720"/>
            <a:ext cx="52560" cy="42840"/>
          </a:xfrm>
          <a:custGeom>
            <a:avLst/>
            <a:gdLst/>
            <a:ahLst/>
            <a:rect l="l" t="t" r="r" b="b"/>
            <a:pathLst>
              <a:path w="33" h="27">
                <a:moveTo>
                  <a:pt x="22" y="27"/>
                </a:moveTo>
                <a:lnTo>
                  <a:pt x="22" y="22"/>
                </a:lnTo>
                <a:lnTo>
                  <a:pt x="22" y="27"/>
                </a:lnTo>
                <a:lnTo>
                  <a:pt x="27" y="27"/>
                </a:lnTo>
                <a:lnTo>
                  <a:pt x="27" y="27"/>
                </a:lnTo>
                <a:lnTo>
                  <a:pt x="27" y="22"/>
                </a:lnTo>
                <a:lnTo>
                  <a:pt x="27" y="22"/>
                </a:lnTo>
                <a:lnTo>
                  <a:pt x="27" y="22"/>
                </a:lnTo>
                <a:lnTo>
                  <a:pt x="27" y="22"/>
                </a:lnTo>
                <a:lnTo>
                  <a:pt x="33" y="22"/>
                </a:lnTo>
                <a:lnTo>
                  <a:pt x="33" y="22"/>
                </a:lnTo>
                <a:lnTo>
                  <a:pt x="33" y="16"/>
                </a:lnTo>
                <a:lnTo>
                  <a:pt x="33" y="16"/>
                </a:lnTo>
                <a:lnTo>
                  <a:pt x="33" y="16"/>
                </a:lnTo>
                <a:lnTo>
                  <a:pt x="33" y="16"/>
                </a:lnTo>
                <a:lnTo>
                  <a:pt x="27" y="16"/>
                </a:lnTo>
                <a:lnTo>
                  <a:pt x="27" y="11"/>
                </a:lnTo>
                <a:lnTo>
                  <a:pt x="27" y="11"/>
                </a:lnTo>
                <a:lnTo>
                  <a:pt x="27" y="11"/>
                </a:lnTo>
                <a:lnTo>
                  <a:pt x="27" y="11"/>
                </a:lnTo>
                <a:lnTo>
                  <a:pt x="22" y="11"/>
                </a:lnTo>
                <a:lnTo>
                  <a:pt x="22" y="6"/>
                </a:lnTo>
                <a:lnTo>
                  <a:pt x="22" y="11"/>
                </a:lnTo>
                <a:lnTo>
                  <a:pt x="22" y="11"/>
                </a:lnTo>
                <a:lnTo>
                  <a:pt x="22" y="11"/>
                </a:lnTo>
                <a:lnTo>
                  <a:pt x="22" y="11"/>
                </a:lnTo>
                <a:lnTo>
                  <a:pt x="22" y="16"/>
                </a:lnTo>
                <a:lnTo>
                  <a:pt x="22" y="16"/>
                </a:lnTo>
                <a:lnTo>
                  <a:pt x="22" y="16"/>
                </a:lnTo>
                <a:lnTo>
                  <a:pt x="22" y="16"/>
                </a:lnTo>
                <a:lnTo>
                  <a:pt x="22" y="22"/>
                </a:lnTo>
                <a:lnTo>
                  <a:pt x="22" y="22"/>
                </a:lnTo>
                <a:lnTo>
                  <a:pt x="17" y="22"/>
                </a:lnTo>
                <a:lnTo>
                  <a:pt x="17" y="22"/>
                </a:lnTo>
                <a:lnTo>
                  <a:pt x="11" y="22"/>
                </a:lnTo>
                <a:lnTo>
                  <a:pt x="11" y="22"/>
                </a:lnTo>
                <a:lnTo>
                  <a:pt x="11" y="22"/>
                </a:lnTo>
                <a:lnTo>
                  <a:pt x="6" y="22"/>
                </a:lnTo>
                <a:lnTo>
                  <a:pt x="6" y="22"/>
                </a:lnTo>
                <a:lnTo>
                  <a:pt x="6" y="22"/>
                </a:lnTo>
                <a:lnTo>
                  <a:pt x="0" y="22"/>
                </a:lnTo>
                <a:lnTo>
                  <a:pt x="0" y="22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6" y="0"/>
                </a:lnTo>
                <a:lnTo>
                  <a:pt x="6" y="0"/>
                </a:lnTo>
                <a:lnTo>
                  <a:pt x="11" y="0"/>
                </a:lnTo>
                <a:lnTo>
                  <a:pt x="11" y="0"/>
                </a:lnTo>
                <a:lnTo>
                  <a:pt x="17" y="0"/>
                </a:lnTo>
                <a:lnTo>
                  <a:pt x="22" y="6"/>
                </a:lnTo>
                <a:lnTo>
                  <a:pt x="27" y="6"/>
                </a:lnTo>
                <a:lnTo>
                  <a:pt x="27" y="6"/>
                </a:lnTo>
                <a:lnTo>
                  <a:pt x="33" y="11"/>
                </a:lnTo>
                <a:lnTo>
                  <a:pt x="33" y="11"/>
                </a:lnTo>
                <a:lnTo>
                  <a:pt x="33" y="16"/>
                </a:lnTo>
                <a:lnTo>
                  <a:pt x="33" y="16"/>
                </a:lnTo>
                <a:lnTo>
                  <a:pt x="33" y="22"/>
                </a:lnTo>
                <a:lnTo>
                  <a:pt x="33" y="22"/>
                </a:lnTo>
                <a:lnTo>
                  <a:pt x="33" y="22"/>
                </a:lnTo>
                <a:lnTo>
                  <a:pt x="33" y="27"/>
                </a:lnTo>
                <a:lnTo>
                  <a:pt x="33" y="27"/>
                </a:lnTo>
                <a:lnTo>
                  <a:pt x="27" y="27"/>
                </a:lnTo>
                <a:lnTo>
                  <a:pt x="27" y="27"/>
                </a:lnTo>
                <a:lnTo>
                  <a:pt x="27" y="27"/>
                </a:lnTo>
                <a:lnTo>
                  <a:pt x="22" y="27"/>
                </a:lnTo>
                <a:lnTo>
                  <a:pt x="22" y="27"/>
                </a:lnTo>
                <a:close/>
                <a:moveTo>
                  <a:pt x="17" y="6"/>
                </a:moveTo>
                <a:lnTo>
                  <a:pt x="11" y="6"/>
                </a:lnTo>
                <a:lnTo>
                  <a:pt x="11" y="6"/>
                </a:lnTo>
                <a:lnTo>
                  <a:pt x="11" y="6"/>
                </a:lnTo>
                <a:lnTo>
                  <a:pt x="11" y="6"/>
                </a:lnTo>
                <a:lnTo>
                  <a:pt x="11" y="6"/>
                </a:lnTo>
                <a:lnTo>
                  <a:pt x="6" y="6"/>
                </a:lnTo>
                <a:lnTo>
                  <a:pt x="6" y="6"/>
                </a:lnTo>
                <a:lnTo>
                  <a:pt x="6" y="6"/>
                </a:lnTo>
                <a:lnTo>
                  <a:pt x="6" y="6"/>
                </a:lnTo>
                <a:lnTo>
                  <a:pt x="6" y="6"/>
                </a:lnTo>
                <a:lnTo>
                  <a:pt x="6" y="11"/>
                </a:lnTo>
                <a:lnTo>
                  <a:pt x="6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6" y="16"/>
                </a:lnTo>
                <a:lnTo>
                  <a:pt x="6" y="16"/>
                </a:lnTo>
                <a:lnTo>
                  <a:pt x="6" y="16"/>
                </a:lnTo>
                <a:lnTo>
                  <a:pt x="6" y="16"/>
                </a:lnTo>
                <a:lnTo>
                  <a:pt x="6" y="16"/>
                </a:lnTo>
                <a:lnTo>
                  <a:pt x="11" y="22"/>
                </a:lnTo>
                <a:lnTo>
                  <a:pt x="11" y="22"/>
                </a:lnTo>
                <a:lnTo>
                  <a:pt x="11" y="22"/>
                </a:lnTo>
                <a:lnTo>
                  <a:pt x="17" y="22"/>
                </a:lnTo>
                <a:lnTo>
                  <a:pt x="17" y="16"/>
                </a:lnTo>
                <a:lnTo>
                  <a:pt x="17" y="16"/>
                </a:lnTo>
                <a:lnTo>
                  <a:pt x="17" y="16"/>
                </a:lnTo>
                <a:lnTo>
                  <a:pt x="17" y="16"/>
                </a:lnTo>
                <a:lnTo>
                  <a:pt x="17" y="16"/>
                </a:lnTo>
                <a:lnTo>
                  <a:pt x="17" y="11"/>
                </a:lnTo>
                <a:lnTo>
                  <a:pt x="17" y="11"/>
                </a:lnTo>
                <a:lnTo>
                  <a:pt x="17" y="11"/>
                </a:lnTo>
                <a:lnTo>
                  <a:pt x="17" y="11"/>
                </a:lnTo>
                <a:lnTo>
                  <a:pt x="17" y="6"/>
                </a:lnTo>
                <a:lnTo>
                  <a:pt x="17" y="6"/>
                </a:lnTo>
                <a:lnTo>
                  <a:pt x="17" y="6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2" name=""/>
          <p:cNvSpPr/>
          <p:nvPr/>
        </p:nvSpPr>
        <p:spPr>
          <a:xfrm>
            <a:off x="5091120" y="5308560"/>
            <a:ext cx="52560" cy="44640"/>
          </a:xfrm>
          <a:custGeom>
            <a:avLst/>
            <a:gdLst/>
            <a:ahLst/>
            <a:rect l="l" t="t" r="r" b="b"/>
            <a:pathLst>
              <a:path w="33" h="28">
                <a:moveTo>
                  <a:pt x="22" y="0"/>
                </a:moveTo>
                <a:lnTo>
                  <a:pt x="22" y="6"/>
                </a:lnTo>
                <a:lnTo>
                  <a:pt x="28" y="6"/>
                </a:lnTo>
                <a:lnTo>
                  <a:pt x="28" y="6"/>
                </a:lnTo>
                <a:lnTo>
                  <a:pt x="33" y="6"/>
                </a:lnTo>
                <a:lnTo>
                  <a:pt x="33" y="11"/>
                </a:lnTo>
                <a:lnTo>
                  <a:pt x="33" y="11"/>
                </a:lnTo>
                <a:lnTo>
                  <a:pt x="33" y="11"/>
                </a:lnTo>
                <a:lnTo>
                  <a:pt x="33" y="17"/>
                </a:lnTo>
                <a:lnTo>
                  <a:pt x="33" y="17"/>
                </a:lnTo>
                <a:lnTo>
                  <a:pt x="33" y="17"/>
                </a:lnTo>
                <a:lnTo>
                  <a:pt x="33" y="17"/>
                </a:lnTo>
                <a:lnTo>
                  <a:pt x="33" y="22"/>
                </a:lnTo>
                <a:lnTo>
                  <a:pt x="33" y="22"/>
                </a:lnTo>
                <a:lnTo>
                  <a:pt x="33" y="22"/>
                </a:lnTo>
                <a:lnTo>
                  <a:pt x="33" y="22"/>
                </a:lnTo>
                <a:lnTo>
                  <a:pt x="33" y="28"/>
                </a:lnTo>
                <a:lnTo>
                  <a:pt x="28" y="28"/>
                </a:lnTo>
                <a:lnTo>
                  <a:pt x="28" y="28"/>
                </a:lnTo>
                <a:lnTo>
                  <a:pt x="28" y="28"/>
                </a:lnTo>
                <a:lnTo>
                  <a:pt x="28" y="28"/>
                </a:lnTo>
                <a:lnTo>
                  <a:pt x="28" y="28"/>
                </a:lnTo>
                <a:lnTo>
                  <a:pt x="22" y="28"/>
                </a:lnTo>
                <a:lnTo>
                  <a:pt x="22" y="28"/>
                </a:lnTo>
                <a:lnTo>
                  <a:pt x="22" y="28"/>
                </a:lnTo>
                <a:lnTo>
                  <a:pt x="17" y="28"/>
                </a:lnTo>
                <a:lnTo>
                  <a:pt x="17" y="28"/>
                </a:lnTo>
                <a:lnTo>
                  <a:pt x="17" y="28"/>
                </a:lnTo>
                <a:lnTo>
                  <a:pt x="11" y="22"/>
                </a:lnTo>
                <a:lnTo>
                  <a:pt x="11" y="22"/>
                </a:lnTo>
                <a:lnTo>
                  <a:pt x="6" y="22"/>
                </a:lnTo>
                <a:lnTo>
                  <a:pt x="6" y="22"/>
                </a:lnTo>
                <a:lnTo>
                  <a:pt x="6" y="22"/>
                </a:lnTo>
                <a:lnTo>
                  <a:pt x="0" y="17"/>
                </a:lnTo>
                <a:lnTo>
                  <a:pt x="0" y="17"/>
                </a:lnTo>
                <a:lnTo>
                  <a:pt x="0" y="17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0"/>
                </a:lnTo>
                <a:lnTo>
                  <a:pt x="6" y="0"/>
                </a:lnTo>
                <a:lnTo>
                  <a:pt x="6" y="0"/>
                </a:lnTo>
                <a:lnTo>
                  <a:pt x="11" y="0"/>
                </a:lnTo>
                <a:lnTo>
                  <a:pt x="11" y="0"/>
                </a:lnTo>
                <a:lnTo>
                  <a:pt x="17" y="0"/>
                </a:lnTo>
                <a:lnTo>
                  <a:pt x="22" y="0"/>
                </a:lnTo>
                <a:close/>
                <a:moveTo>
                  <a:pt x="22" y="6"/>
                </a:moveTo>
                <a:lnTo>
                  <a:pt x="17" y="6"/>
                </a:lnTo>
                <a:lnTo>
                  <a:pt x="11" y="6"/>
                </a:lnTo>
                <a:lnTo>
                  <a:pt x="11" y="6"/>
                </a:lnTo>
                <a:lnTo>
                  <a:pt x="6" y="6"/>
                </a:lnTo>
                <a:lnTo>
                  <a:pt x="6" y="6"/>
                </a:lnTo>
                <a:lnTo>
                  <a:pt x="6" y="6"/>
                </a:lnTo>
                <a:lnTo>
                  <a:pt x="6" y="6"/>
                </a:lnTo>
                <a:lnTo>
                  <a:pt x="6" y="6"/>
                </a:lnTo>
                <a:lnTo>
                  <a:pt x="0" y="11"/>
                </a:lnTo>
                <a:lnTo>
                  <a:pt x="0" y="11"/>
                </a:lnTo>
                <a:lnTo>
                  <a:pt x="6" y="11"/>
                </a:lnTo>
                <a:lnTo>
                  <a:pt x="6" y="11"/>
                </a:lnTo>
                <a:lnTo>
                  <a:pt x="6" y="17"/>
                </a:lnTo>
                <a:lnTo>
                  <a:pt x="6" y="17"/>
                </a:lnTo>
                <a:lnTo>
                  <a:pt x="11" y="17"/>
                </a:lnTo>
                <a:lnTo>
                  <a:pt x="17" y="22"/>
                </a:lnTo>
                <a:lnTo>
                  <a:pt x="17" y="22"/>
                </a:lnTo>
                <a:lnTo>
                  <a:pt x="22" y="22"/>
                </a:lnTo>
                <a:lnTo>
                  <a:pt x="22" y="22"/>
                </a:lnTo>
                <a:lnTo>
                  <a:pt x="28" y="22"/>
                </a:lnTo>
                <a:lnTo>
                  <a:pt x="28" y="22"/>
                </a:lnTo>
                <a:lnTo>
                  <a:pt x="28" y="22"/>
                </a:lnTo>
                <a:lnTo>
                  <a:pt x="28" y="22"/>
                </a:lnTo>
                <a:lnTo>
                  <a:pt x="33" y="22"/>
                </a:lnTo>
                <a:lnTo>
                  <a:pt x="33" y="17"/>
                </a:lnTo>
                <a:lnTo>
                  <a:pt x="33" y="17"/>
                </a:lnTo>
                <a:lnTo>
                  <a:pt x="33" y="17"/>
                </a:lnTo>
                <a:lnTo>
                  <a:pt x="33" y="17"/>
                </a:lnTo>
                <a:lnTo>
                  <a:pt x="28" y="11"/>
                </a:lnTo>
                <a:lnTo>
                  <a:pt x="28" y="11"/>
                </a:lnTo>
                <a:lnTo>
                  <a:pt x="22" y="11"/>
                </a:lnTo>
                <a:lnTo>
                  <a:pt x="22" y="6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3" name=""/>
          <p:cNvSpPr/>
          <p:nvPr/>
        </p:nvSpPr>
        <p:spPr>
          <a:xfrm>
            <a:off x="4745160" y="1917720"/>
            <a:ext cx="52200" cy="42840"/>
          </a:xfrm>
          <a:custGeom>
            <a:avLst/>
            <a:gdLst/>
            <a:ahLst/>
            <a:rect l="l" t="t" r="r" b="b"/>
            <a:pathLst>
              <a:path w="33" h="27">
                <a:moveTo>
                  <a:pt x="0" y="27"/>
                </a:moveTo>
                <a:lnTo>
                  <a:pt x="0" y="22"/>
                </a:lnTo>
                <a:lnTo>
                  <a:pt x="22" y="11"/>
                </a:lnTo>
                <a:lnTo>
                  <a:pt x="22" y="11"/>
                </a:lnTo>
                <a:lnTo>
                  <a:pt x="22" y="11"/>
                </a:lnTo>
                <a:lnTo>
                  <a:pt x="22" y="11"/>
                </a:lnTo>
                <a:lnTo>
                  <a:pt x="22" y="5"/>
                </a:lnTo>
                <a:lnTo>
                  <a:pt x="17" y="5"/>
                </a:lnTo>
                <a:lnTo>
                  <a:pt x="17" y="5"/>
                </a:lnTo>
                <a:lnTo>
                  <a:pt x="17" y="5"/>
                </a:lnTo>
                <a:lnTo>
                  <a:pt x="17" y="5"/>
                </a:lnTo>
                <a:lnTo>
                  <a:pt x="22" y="0"/>
                </a:lnTo>
                <a:lnTo>
                  <a:pt x="22" y="5"/>
                </a:lnTo>
                <a:lnTo>
                  <a:pt x="22" y="5"/>
                </a:lnTo>
                <a:lnTo>
                  <a:pt x="27" y="5"/>
                </a:lnTo>
                <a:lnTo>
                  <a:pt x="27" y="5"/>
                </a:lnTo>
                <a:lnTo>
                  <a:pt x="27" y="5"/>
                </a:lnTo>
                <a:lnTo>
                  <a:pt x="27" y="11"/>
                </a:lnTo>
                <a:lnTo>
                  <a:pt x="33" y="11"/>
                </a:lnTo>
                <a:lnTo>
                  <a:pt x="33" y="11"/>
                </a:lnTo>
                <a:lnTo>
                  <a:pt x="33" y="11"/>
                </a:lnTo>
                <a:lnTo>
                  <a:pt x="0" y="27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4" name=""/>
          <p:cNvSpPr/>
          <p:nvPr/>
        </p:nvSpPr>
        <p:spPr>
          <a:xfrm>
            <a:off x="4754520" y="1960560"/>
            <a:ext cx="60480" cy="42840"/>
          </a:xfrm>
          <a:custGeom>
            <a:avLst/>
            <a:gdLst/>
            <a:ahLst/>
            <a:rect l="l" t="t" r="r" b="b"/>
            <a:pathLst>
              <a:path w="38" h="27">
                <a:moveTo>
                  <a:pt x="32" y="22"/>
                </a:moveTo>
                <a:lnTo>
                  <a:pt x="32" y="16"/>
                </a:lnTo>
                <a:lnTo>
                  <a:pt x="32" y="16"/>
                </a:lnTo>
                <a:lnTo>
                  <a:pt x="32" y="16"/>
                </a:lnTo>
                <a:lnTo>
                  <a:pt x="32" y="16"/>
                </a:lnTo>
                <a:lnTo>
                  <a:pt x="32" y="11"/>
                </a:lnTo>
                <a:lnTo>
                  <a:pt x="32" y="11"/>
                </a:lnTo>
                <a:lnTo>
                  <a:pt x="32" y="11"/>
                </a:lnTo>
                <a:lnTo>
                  <a:pt x="32" y="11"/>
                </a:lnTo>
                <a:lnTo>
                  <a:pt x="32" y="11"/>
                </a:lnTo>
                <a:lnTo>
                  <a:pt x="32" y="6"/>
                </a:lnTo>
                <a:lnTo>
                  <a:pt x="32" y="6"/>
                </a:lnTo>
                <a:lnTo>
                  <a:pt x="32" y="6"/>
                </a:lnTo>
                <a:lnTo>
                  <a:pt x="32" y="6"/>
                </a:lnTo>
                <a:lnTo>
                  <a:pt x="27" y="6"/>
                </a:lnTo>
                <a:lnTo>
                  <a:pt x="27" y="6"/>
                </a:lnTo>
                <a:lnTo>
                  <a:pt x="27" y="6"/>
                </a:lnTo>
                <a:lnTo>
                  <a:pt x="27" y="6"/>
                </a:lnTo>
                <a:lnTo>
                  <a:pt x="21" y="6"/>
                </a:lnTo>
                <a:lnTo>
                  <a:pt x="21" y="6"/>
                </a:lnTo>
                <a:lnTo>
                  <a:pt x="21" y="6"/>
                </a:lnTo>
                <a:lnTo>
                  <a:pt x="16" y="6"/>
                </a:lnTo>
                <a:lnTo>
                  <a:pt x="16" y="6"/>
                </a:lnTo>
                <a:lnTo>
                  <a:pt x="21" y="6"/>
                </a:lnTo>
                <a:lnTo>
                  <a:pt x="21" y="6"/>
                </a:lnTo>
                <a:lnTo>
                  <a:pt x="21" y="6"/>
                </a:lnTo>
                <a:lnTo>
                  <a:pt x="21" y="11"/>
                </a:lnTo>
                <a:lnTo>
                  <a:pt x="21" y="11"/>
                </a:lnTo>
                <a:lnTo>
                  <a:pt x="21" y="11"/>
                </a:lnTo>
                <a:lnTo>
                  <a:pt x="27" y="11"/>
                </a:lnTo>
                <a:lnTo>
                  <a:pt x="27" y="16"/>
                </a:lnTo>
                <a:lnTo>
                  <a:pt x="27" y="16"/>
                </a:lnTo>
                <a:lnTo>
                  <a:pt x="27" y="16"/>
                </a:lnTo>
                <a:lnTo>
                  <a:pt x="27" y="22"/>
                </a:lnTo>
                <a:lnTo>
                  <a:pt x="21" y="22"/>
                </a:lnTo>
                <a:lnTo>
                  <a:pt x="21" y="22"/>
                </a:lnTo>
                <a:lnTo>
                  <a:pt x="21" y="27"/>
                </a:lnTo>
                <a:lnTo>
                  <a:pt x="16" y="27"/>
                </a:lnTo>
                <a:lnTo>
                  <a:pt x="16" y="27"/>
                </a:lnTo>
                <a:lnTo>
                  <a:pt x="16" y="27"/>
                </a:lnTo>
                <a:lnTo>
                  <a:pt x="11" y="27"/>
                </a:lnTo>
                <a:lnTo>
                  <a:pt x="11" y="27"/>
                </a:lnTo>
                <a:lnTo>
                  <a:pt x="11" y="27"/>
                </a:lnTo>
                <a:lnTo>
                  <a:pt x="11" y="27"/>
                </a:lnTo>
                <a:lnTo>
                  <a:pt x="5" y="27"/>
                </a:lnTo>
                <a:lnTo>
                  <a:pt x="5" y="27"/>
                </a:lnTo>
                <a:lnTo>
                  <a:pt x="5" y="22"/>
                </a:lnTo>
                <a:lnTo>
                  <a:pt x="5" y="22"/>
                </a:lnTo>
                <a:lnTo>
                  <a:pt x="5" y="22"/>
                </a:lnTo>
                <a:lnTo>
                  <a:pt x="0" y="22"/>
                </a:lnTo>
                <a:lnTo>
                  <a:pt x="0" y="16"/>
                </a:lnTo>
                <a:lnTo>
                  <a:pt x="0" y="16"/>
                </a:lnTo>
                <a:lnTo>
                  <a:pt x="0" y="11"/>
                </a:lnTo>
                <a:lnTo>
                  <a:pt x="0" y="11"/>
                </a:lnTo>
                <a:lnTo>
                  <a:pt x="5" y="6"/>
                </a:lnTo>
                <a:lnTo>
                  <a:pt x="5" y="6"/>
                </a:lnTo>
                <a:lnTo>
                  <a:pt x="11" y="6"/>
                </a:lnTo>
                <a:lnTo>
                  <a:pt x="16" y="0"/>
                </a:lnTo>
                <a:lnTo>
                  <a:pt x="16" y="0"/>
                </a:lnTo>
                <a:lnTo>
                  <a:pt x="21" y="0"/>
                </a:lnTo>
                <a:lnTo>
                  <a:pt x="27" y="0"/>
                </a:lnTo>
                <a:lnTo>
                  <a:pt x="27" y="0"/>
                </a:lnTo>
                <a:lnTo>
                  <a:pt x="32" y="0"/>
                </a:lnTo>
                <a:lnTo>
                  <a:pt x="32" y="0"/>
                </a:lnTo>
                <a:lnTo>
                  <a:pt x="38" y="6"/>
                </a:lnTo>
                <a:lnTo>
                  <a:pt x="38" y="6"/>
                </a:lnTo>
                <a:lnTo>
                  <a:pt x="38" y="11"/>
                </a:lnTo>
                <a:lnTo>
                  <a:pt x="38" y="11"/>
                </a:lnTo>
                <a:lnTo>
                  <a:pt x="38" y="11"/>
                </a:lnTo>
                <a:lnTo>
                  <a:pt x="38" y="16"/>
                </a:lnTo>
                <a:lnTo>
                  <a:pt x="38" y="16"/>
                </a:lnTo>
                <a:lnTo>
                  <a:pt x="38" y="16"/>
                </a:lnTo>
                <a:lnTo>
                  <a:pt x="32" y="16"/>
                </a:lnTo>
                <a:lnTo>
                  <a:pt x="32" y="22"/>
                </a:lnTo>
                <a:close/>
                <a:moveTo>
                  <a:pt x="11" y="11"/>
                </a:moveTo>
                <a:lnTo>
                  <a:pt x="11" y="11"/>
                </a:lnTo>
                <a:lnTo>
                  <a:pt x="11" y="11"/>
                </a:lnTo>
                <a:lnTo>
                  <a:pt x="5" y="11"/>
                </a:lnTo>
                <a:lnTo>
                  <a:pt x="5" y="11"/>
                </a:lnTo>
                <a:lnTo>
                  <a:pt x="5" y="11"/>
                </a:lnTo>
                <a:lnTo>
                  <a:pt x="5" y="11"/>
                </a:lnTo>
                <a:lnTo>
                  <a:pt x="5" y="16"/>
                </a:lnTo>
                <a:lnTo>
                  <a:pt x="5" y="16"/>
                </a:lnTo>
                <a:lnTo>
                  <a:pt x="5" y="16"/>
                </a:lnTo>
                <a:lnTo>
                  <a:pt x="5" y="16"/>
                </a:lnTo>
                <a:lnTo>
                  <a:pt x="5" y="16"/>
                </a:lnTo>
                <a:lnTo>
                  <a:pt x="5" y="22"/>
                </a:lnTo>
                <a:lnTo>
                  <a:pt x="5" y="22"/>
                </a:lnTo>
                <a:lnTo>
                  <a:pt x="5" y="22"/>
                </a:lnTo>
                <a:lnTo>
                  <a:pt x="11" y="22"/>
                </a:lnTo>
                <a:lnTo>
                  <a:pt x="11" y="22"/>
                </a:lnTo>
                <a:lnTo>
                  <a:pt x="11" y="22"/>
                </a:lnTo>
                <a:lnTo>
                  <a:pt x="11" y="22"/>
                </a:lnTo>
                <a:lnTo>
                  <a:pt x="16" y="22"/>
                </a:lnTo>
                <a:lnTo>
                  <a:pt x="16" y="22"/>
                </a:lnTo>
                <a:lnTo>
                  <a:pt x="16" y="22"/>
                </a:lnTo>
                <a:lnTo>
                  <a:pt x="16" y="22"/>
                </a:lnTo>
                <a:lnTo>
                  <a:pt x="21" y="22"/>
                </a:lnTo>
                <a:lnTo>
                  <a:pt x="21" y="16"/>
                </a:lnTo>
                <a:lnTo>
                  <a:pt x="21" y="16"/>
                </a:lnTo>
                <a:lnTo>
                  <a:pt x="21" y="16"/>
                </a:lnTo>
                <a:lnTo>
                  <a:pt x="21" y="16"/>
                </a:lnTo>
                <a:lnTo>
                  <a:pt x="21" y="11"/>
                </a:lnTo>
                <a:lnTo>
                  <a:pt x="21" y="11"/>
                </a:lnTo>
                <a:lnTo>
                  <a:pt x="21" y="11"/>
                </a:lnTo>
                <a:lnTo>
                  <a:pt x="16" y="11"/>
                </a:lnTo>
                <a:lnTo>
                  <a:pt x="16" y="11"/>
                </a:lnTo>
                <a:lnTo>
                  <a:pt x="16" y="11"/>
                </a:lnTo>
                <a:lnTo>
                  <a:pt x="16" y="11"/>
                </a:lnTo>
                <a:lnTo>
                  <a:pt x="11" y="11"/>
                </a:lnTo>
                <a:lnTo>
                  <a:pt x="11" y="1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5" name=""/>
          <p:cNvSpPr/>
          <p:nvPr/>
        </p:nvSpPr>
        <p:spPr>
          <a:xfrm>
            <a:off x="4772160" y="2003400"/>
            <a:ext cx="60120" cy="44640"/>
          </a:xfrm>
          <a:custGeom>
            <a:avLst/>
            <a:gdLst/>
            <a:ahLst/>
            <a:rect l="l" t="t" r="r" b="b"/>
            <a:pathLst>
              <a:path w="38" h="28">
                <a:moveTo>
                  <a:pt x="16" y="0"/>
                </a:moveTo>
                <a:lnTo>
                  <a:pt x="16" y="0"/>
                </a:lnTo>
                <a:lnTo>
                  <a:pt x="21" y="0"/>
                </a:lnTo>
                <a:lnTo>
                  <a:pt x="21" y="0"/>
                </a:lnTo>
                <a:lnTo>
                  <a:pt x="27" y="0"/>
                </a:lnTo>
                <a:lnTo>
                  <a:pt x="27" y="0"/>
                </a:lnTo>
                <a:lnTo>
                  <a:pt x="27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8" y="6"/>
                </a:lnTo>
                <a:lnTo>
                  <a:pt x="38" y="6"/>
                </a:lnTo>
                <a:lnTo>
                  <a:pt x="38" y="6"/>
                </a:lnTo>
                <a:lnTo>
                  <a:pt x="38" y="6"/>
                </a:lnTo>
                <a:lnTo>
                  <a:pt x="38" y="11"/>
                </a:lnTo>
                <a:lnTo>
                  <a:pt x="38" y="11"/>
                </a:lnTo>
                <a:lnTo>
                  <a:pt x="38" y="11"/>
                </a:lnTo>
                <a:lnTo>
                  <a:pt x="38" y="11"/>
                </a:lnTo>
                <a:lnTo>
                  <a:pt x="38" y="17"/>
                </a:lnTo>
                <a:lnTo>
                  <a:pt x="32" y="17"/>
                </a:lnTo>
                <a:lnTo>
                  <a:pt x="32" y="17"/>
                </a:lnTo>
                <a:lnTo>
                  <a:pt x="32" y="17"/>
                </a:lnTo>
                <a:lnTo>
                  <a:pt x="32" y="17"/>
                </a:lnTo>
                <a:lnTo>
                  <a:pt x="32" y="22"/>
                </a:lnTo>
                <a:lnTo>
                  <a:pt x="27" y="22"/>
                </a:lnTo>
                <a:lnTo>
                  <a:pt x="27" y="22"/>
                </a:lnTo>
                <a:lnTo>
                  <a:pt x="27" y="22"/>
                </a:lnTo>
                <a:lnTo>
                  <a:pt x="21" y="22"/>
                </a:lnTo>
                <a:lnTo>
                  <a:pt x="21" y="22"/>
                </a:lnTo>
                <a:lnTo>
                  <a:pt x="16" y="28"/>
                </a:lnTo>
                <a:lnTo>
                  <a:pt x="16" y="28"/>
                </a:lnTo>
                <a:lnTo>
                  <a:pt x="10" y="28"/>
                </a:lnTo>
                <a:lnTo>
                  <a:pt x="10" y="28"/>
                </a:lnTo>
                <a:lnTo>
                  <a:pt x="10" y="28"/>
                </a:lnTo>
                <a:lnTo>
                  <a:pt x="5" y="28"/>
                </a:lnTo>
                <a:lnTo>
                  <a:pt x="5" y="28"/>
                </a:lnTo>
                <a:lnTo>
                  <a:pt x="5" y="22"/>
                </a:lnTo>
                <a:lnTo>
                  <a:pt x="5" y="22"/>
                </a:lnTo>
                <a:lnTo>
                  <a:pt x="0" y="22"/>
                </a:lnTo>
                <a:lnTo>
                  <a:pt x="0" y="22"/>
                </a:lnTo>
                <a:lnTo>
                  <a:pt x="0" y="17"/>
                </a:lnTo>
                <a:lnTo>
                  <a:pt x="0" y="17"/>
                </a:lnTo>
                <a:lnTo>
                  <a:pt x="0" y="11"/>
                </a:lnTo>
                <a:lnTo>
                  <a:pt x="0" y="11"/>
                </a:lnTo>
                <a:lnTo>
                  <a:pt x="5" y="6"/>
                </a:lnTo>
                <a:lnTo>
                  <a:pt x="5" y="6"/>
                </a:lnTo>
                <a:lnTo>
                  <a:pt x="10" y="6"/>
                </a:lnTo>
                <a:lnTo>
                  <a:pt x="16" y="0"/>
                </a:lnTo>
                <a:close/>
                <a:moveTo>
                  <a:pt x="16" y="6"/>
                </a:moveTo>
                <a:lnTo>
                  <a:pt x="10" y="6"/>
                </a:lnTo>
                <a:lnTo>
                  <a:pt x="10" y="11"/>
                </a:lnTo>
                <a:lnTo>
                  <a:pt x="5" y="11"/>
                </a:lnTo>
                <a:lnTo>
                  <a:pt x="5" y="11"/>
                </a:lnTo>
                <a:lnTo>
                  <a:pt x="5" y="11"/>
                </a:lnTo>
                <a:lnTo>
                  <a:pt x="5" y="17"/>
                </a:lnTo>
                <a:lnTo>
                  <a:pt x="5" y="17"/>
                </a:lnTo>
                <a:lnTo>
                  <a:pt x="5" y="17"/>
                </a:lnTo>
                <a:lnTo>
                  <a:pt x="5" y="22"/>
                </a:lnTo>
                <a:lnTo>
                  <a:pt x="5" y="22"/>
                </a:lnTo>
                <a:lnTo>
                  <a:pt x="5" y="22"/>
                </a:lnTo>
                <a:lnTo>
                  <a:pt x="10" y="22"/>
                </a:lnTo>
                <a:lnTo>
                  <a:pt x="10" y="22"/>
                </a:lnTo>
                <a:lnTo>
                  <a:pt x="16" y="22"/>
                </a:lnTo>
                <a:lnTo>
                  <a:pt x="16" y="22"/>
                </a:lnTo>
                <a:lnTo>
                  <a:pt x="21" y="22"/>
                </a:lnTo>
                <a:lnTo>
                  <a:pt x="27" y="17"/>
                </a:lnTo>
                <a:lnTo>
                  <a:pt x="27" y="17"/>
                </a:lnTo>
                <a:lnTo>
                  <a:pt x="32" y="17"/>
                </a:lnTo>
                <a:lnTo>
                  <a:pt x="32" y="11"/>
                </a:lnTo>
                <a:lnTo>
                  <a:pt x="32" y="11"/>
                </a:lnTo>
                <a:lnTo>
                  <a:pt x="32" y="11"/>
                </a:lnTo>
                <a:lnTo>
                  <a:pt x="32" y="11"/>
                </a:lnTo>
                <a:lnTo>
                  <a:pt x="32" y="6"/>
                </a:lnTo>
                <a:lnTo>
                  <a:pt x="32" y="6"/>
                </a:lnTo>
                <a:lnTo>
                  <a:pt x="32" y="6"/>
                </a:lnTo>
                <a:lnTo>
                  <a:pt x="32" y="6"/>
                </a:lnTo>
                <a:lnTo>
                  <a:pt x="27" y="6"/>
                </a:lnTo>
                <a:lnTo>
                  <a:pt x="27" y="6"/>
                </a:lnTo>
                <a:lnTo>
                  <a:pt x="21" y="6"/>
                </a:lnTo>
                <a:lnTo>
                  <a:pt x="21" y="6"/>
                </a:lnTo>
                <a:lnTo>
                  <a:pt x="16" y="6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6" name=""/>
          <p:cNvSpPr/>
          <p:nvPr/>
        </p:nvSpPr>
        <p:spPr>
          <a:xfrm>
            <a:off x="3551400" y="4106880"/>
            <a:ext cx="34920" cy="1728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7" name=""/>
          <p:cNvSpPr/>
          <p:nvPr/>
        </p:nvSpPr>
        <p:spPr>
          <a:xfrm>
            <a:off x="3611520" y="4141800"/>
            <a:ext cx="25560" cy="25560"/>
          </a:xfrm>
          <a:custGeom>
            <a:avLst/>
            <a:gdLst/>
            <a:ahLst/>
            <a:rect l="l" t="t" r="r" b="b"/>
            <a:pathLst>
              <a:path w="16" h="16">
                <a:moveTo>
                  <a:pt x="0" y="0"/>
                </a:moveTo>
                <a:lnTo>
                  <a:pt x="16" y="16"/>
                </a:lnTo>
                <a:lnTo>
                  <a:pt x="16" y="16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8" name=""/>
          <p:cNvSpPr/>
          <p:nvPr/>
        </p:nvSpPr>
        <p:spPr>
          <a:xfrm>
            <a:off x="3602160" y="4192560"/>
            <a:ext cx="17280" cy="34920"/>
          </a:xfrm>
          <a:custGeom>
            <a:avLst/>
            <a:gdLst/>
            <a:ahLst/>
            <a:rect l="l" t="t" r="r" b="b"/>
            <a:pathLst>
              <a:path w="11" h="22">
                <a:moveTo>
                  <a:pt x="11" y="0"/>
                </a:moveTo>
                <a:lnTo>
                  <a:pt x="11" y="6"/>
                </a:lnTo>
                <a:lnTo>
                  <a:pt x="0" y="22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9" name=""/>
          <p:cNvSpPr/>
          <p:nvPr/>
        </p:nvSpPr>
        <p:spPr>
          <a:xfrm flipH="1">
            <a:off x="3586320" y="4262400"/>
            <a:ext cx="7920" cy="3492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0" name=""/>
          <p:cNvSpPr/>
          <p:nvPr/>
        </p:nvSpPr>
        <p:spPr>
          <a:xfrm>
            <a:off x="3602160" y="4314960"/>
            <a:ext cx="34920" cy="252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1" name=""/>
          <p:cNvSpPr/>
          <p:nvPr/>
        </p:nvSpPr>
        <p:spPr>
          <a:xfrm>
            <a:off x="3664080" y="4357800"/>
            <a:ext cx="25200" cy="252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2" name=""/>
          <p:cNvSpPr/>
          <p:nvPr/>
        </p:nvSpPr>
        <p:spPr>
          <a:xfrm>
            <a:off x="3714840" y="4400640"/>
            <a:ext cx="34920" cy="1728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3" name=""/>
          <p:cNvSpPr/>
          <p:nvPr/>
        </p:nvSpPr>
        <p:spPr>
          <a:xfrm>
            <a:off x="3776760" y="4443480"/>
            <a:ext cx="25200" cy="1728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4" name=""/>
          <p:cNvSpPr/>
          <p:nvPr/>
        </p:nvSpPr>
        <p:spPr>
          <a:xfrm>
            <a:off x="3836880" y="4487760"/>
            <a:ext cx="25560" cy="176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5" name=""/>
          <p:cNvSpPr/>
          <p:nvPr/>
        </p:nvSpPr>
        <p:spPr>
          <a:xfrm>
            <a:off x="3887640" y="4521240"/>
            <a:ext cx="27000" cy="270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6" name=""/>
          <p:cNvSpPr/>
          <p:nvPr/>
        </p:nvSpPr>
        <p:spPr>
          <a:xfrm>
            <a:off x="3949560" y="4565520"/>
            <a:ext cx="25560" cy="25560"/>
          </a:xfrm>
          <a:custGeom>
            <a:avLst/>
            <a:gdLst/>
            <a:ahLst/>
            <a:rect l="l" t="t" r="r" b="b"/>
            <a:pathLst>
              <a:path w="16" h="16">
                <a:moveTo>
                  <a:pt x="0" y="0"/>
                </a:moveTo>
                <a:lnTo>
                  <a:pt x="10" y="11"/>
                </a:lnTo>
                <a:lnTo>
                  <a:pt x="16" y="16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7" name=""/>
          <p:cNvSpPr/>
          <p:nvPr/>
        </p:nvSpPr>
        <p:spPr>
          <a:xfrm>
            <a:off x="4000680" y="4608360"/>
            <a:ext cx="26640" cy="2556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8" name=""/>
          <p:cNvSpPr/>
          <p:nvPr/>
        </p:nvSpPr>
        <p:spPr>
          <a:xfrm>
            <a:off x="4060800" y="4651200"/>
            <a:ext cx="17640" cy="176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9" name=""/>
          <p:cNvSpPr/>
          <p:nvPr/>
        </p:nvSpPr>
        <p:spPr>
          <a:xfrm>
            <a:off x="5394240" y="4435560"/>
            <a:ext cx="34920" cy="14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0" name=""/>
          <p:cNvSpPr/>
          <p:nvPr/>
        </p:nvSpPr>
        <p:spPr>
          <a:xfrm>
            <a:off x="5437080" y="4452840"/>
            <a:ext cx="9720" cy="34920"/>
          </a:xfrm>
          <a:custGeom>
            <a:avLst/>
            <a:gdLst/>
            <a:ahLst/>
            <a:rect l="l" t="t" r="r" b="b"/>
            <a:pathLst>
              <a:path w="6" h="22">
                <a:moveTo>
                  <a:pt x="6" y="0"/>
                </a:moveTo>
                <a:lnTo>
                  <a:pt x="0" y="16"/>
                </a:lnTo>
                <a:lnTo>
                  <a:pt x="6" y="22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1" name=""/>
          <p:cNvSpPr/>
          <p:nvPr/>
        </p:nvSpPr>
        <p:spPr>
          <a:xfrm>
            <a:off x="5481720" y="4495680"/>
            <a:ext cx="33120" cy="17640"/>
          </a:xfrm>
          <a:custGeom>
            <a:avLst/>
            <a:gdLst/>
            <a:ahLst/>
            <a:rect l="l" t="t" r="r" b="b"/>
            <a:pathLst>
              <a:path w="21" h="11">
                <a:moveTo>
                  <a:pt x="0" y="0"/>
                </a:moveTo>
                <a:lnTo>
                  <a:pt x="11" y="6"/>
                </a:lnTo>
                <a:lnTo>
                  <a:pt x="21" y="11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2" name=""/>
          <p:cNvSpPr/>
          <p:nvPr/>
        </p:nvSpPr>
        <p:spPr>
          <a:xfrm>
            <a:off x="5541840" y="4530600"/>
            <a:ext cx="34920" cy="7920"/>
          </a:xfrm>
          <a:custGeom>
            <a:avLst/>
            <a:gdLst/>
            <a:ahLst/>
            <a:rect l="l" t="t" r="r" b="b"/>
            <a:pathLst>
              <a:path w="22" h="5">
                <a:moveTo>
                  <a:pt x="0" y="0"/>
                </a:moveTo>
                <a:lnTo>
                  <a:pt x="11" y="5"/>
                </a:lnTo>
                <a:lnTo>
                  <a:pt x="22" y="5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3" name=""/>
          <p:cNvSpPr/>
          <p:nvPr/>
        </p:nvSpPr>
        <p:spPr>
          <a:xfrm>
            <a:off x="5610240" y="4556160"/>
            <a:ext cx="34920" cy="936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4" name=""/>
          <p:cNvSpPr/>
          <p:nvPr/>
        </p:nvSpPr>
        <p:spPr>
          <a:xfrm>
            <a:off x="5680080" y="4565520"/>
            <a:ext cx="9360" cy="18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5" name=""/>
          <p:cNvSpPr/>
          <p:nvPr/>
        </p:nvSpPr>
        <p:spPr>
          <a:xfrm flipH="1">
            <a:off x="5358960" y="3855960"/>
            <a:ext cx="17640" cy="2556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6" name=""/>
          <p:cNvSpPr/>
          <p:nvPr/>
        </p:nvSpPr>
        <p:spPr>
          <a:xfrm>
            <a:off x="5359320" y="3916440"/>
            <a:ext cx="1800" cy="3492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7" name=""/>
          <p:cNvSpPr/>
          <p:nvPr/>
        </p:nvSpPr>
        <p:spPr>
          <a:xfrm>
            <a:off x="5359320" y="3986280"/>
            <a:ext cx="1800" cy="428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8" name=""/>
          <p:cNvSpPr/>
          <p:nvPr/>
        </p:nvSpPr>
        <p:spPr>
          <a:xfrm>
            <a:off x="5359320" y="4064040"/>
            <a:ext cx="1800" cy="3312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9" name=""/>
          <p:cNvSpPr/>
          <p:nvPr/>
        </p:nvSpPr>
        <p:spPr>
          <a:xfrm>
            <a:off x="5359320" y="4132440"/>
            <a:ext cx="1800" cy="3492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0" name=""/>
          <p:cNvSpPr/>
          <p:nvPr/>
        </p:nvSpPr>
        <p:spPr>
          <a:xfrm>
            <a:off x="5359320" y="4202280"/>
            <a:ext cx="1800" cy="3492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1" name=""/>
          <p:cNvSpPr/>
          <p:nvPr/>
        </p:nvSpPr>
        <p:spPr>
          <a:xfrm>
            <a:off x="5369040" y="4262400"/>
            <a:ext cx="25200" cy="7920"/>
          </a:xfrm>
          <a:custGeom>
            <a:avLst/>
            <a:gdLst/>
            <a:ahLst/>
            <a:rect l="l" t="t" r="r" b="b"/>
            <a:pathLst>
              <a:path w="16" h="5">
                <a:moveTo>
                  <a:pt x="0" y="0"/>
                </a:moveTo>
                <a:lnTo>
                  <a:pt x="16" y="0"/>
                </a:lnTo>
                <a:lnTo>
                  <a:pt x="16" y="5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2" name=""/>
          <p:cNvSpPr/>
          <p:nvPr/>
        </p:nvSpPr>
        <p:spPr>
          <a:xfrm>
            <a:off x="5394240" y="4305240"/>
            <a:ext cx="1800" cy="3492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3" name=""/>
          <p:cNvSpPr/>
          <p:nvPr/>
        </p:nvSpPr>
        <p:spPr>
          <a:xfrm>
            <a:off x="5386320" y="4375080"/>
            <a:ext cx="1800" cy="3492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4" name=""/>
          <p:cNvSpPr/>
          <p:nvPr/>
        </p:nvSpPr>
        <p:spPr>
          <a:xfrm flipH="1">
            <a:off x="5351040" y="4435560"/>
            <a:ext cx="25560" cy="14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5" name=""/>
          <p:cNvSpPr/>
          <p:nvPr/>
        </p:nvSpPr>
        <p:spPr>
          <a:xfrm>
            <a:off x="4295880" y="5057640"/>
            <a:ext cx="7920" cy="3492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6" name=""/>
          <p:cNvSpPr/>
          <p:nvPr/>
        </p:nvSpPr>
        <p:spPr>
          <a:xfrm>
            <a:off x="4313160" y="5127480"/>
            <a:ext cx="1800" cy="3492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7" name=""/>
          <p:cNvSpPr/>
          <p:nvPr/>
        </p:nvSpPr>
        <p:spPr>
          <a:xfrm>
            <a:off x="4321080" y="5197320"/>
            <a:ext cx="7920" cy="3348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8" name=""/>
          <p:cNvSpPr/>
          <p:nvPr/>
        </p:nvSpPr>
        <p:spPr>
          <a:xfrm>
            <a:off x="4338720" y="5265720"/>
            <a:ext cx="7920" cy="3492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9" name=""/>
          <p:cNvSpPr/>
          <p:nvPr/>
        </p:nvSpPr>
        <p:spPr>
          <a:xfrm>
            <a:off x="4356000" y="5335560"/>
            <a:ext cx="1800" cy="3492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0" name=""/>
          <p:cNvSpPr/>
          <p:nvPr/>
        </p:nvSpPr>
        <p:spPr>
          <a:xfrm>
            <a:off x="4363920" y="5403960"/>
            <a:ext cx="9720" cy="3492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1" name=""/>
          <p:cNvSpPr/>
          <p:nvPr/>
        </p:nvSpPr>
        <p:spPr>
          <a:xfrm>
            <a:off x="4381560" y="5473800"/>
            <a:ext cx="9360" cy="3492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2" name=""/>
          <p:cNvSpPr/>
          <p:nvPr/>
        </p:nvSpPr>
        <p:spPr>
          <a:xfrm>
            <a:off x="4390920" y="5543640"/>
            <a:ext cx="7920" cy="3312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3" name=""/>
          <p:cNvSpPr/>
          <p:nvPr/>
        </p:nvSpPr>
        <p:spPr>
          <a:xfrm>
            <a:off x="4408560" y="5611680"/>
            <a:ext cx="7920" cy="3492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4" name=""/>
          <p:cNvSpPr/>
          <p:nvPr/>
        </p:nvSpPr>
        <p:spPr>
          <a:xfrm>
            <a:off x="4424400" y="5681520"/>
            <a:ext cx="1440" cy="2556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5" name=""/>
          <p:cNvSpPr/>
          <p:nvPr/>
        </p:nvSpPr>
        <p:spPr>
          <a:xfrm>
            <a:off x="4321080" y="5049720"/>
            <a:ext cx="17640" cy="2556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6" name=""/>
          <p:cNvSpPr/>
          <p:nvPr/>
        </p:nvSpPr>
        <p:spPr>
          <a:xfrm>
            <a:off x="4356000" y="5110200"/>
            <a:ext cx="17640" cy="3492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7" name=""/>
          <p:cNvSpPr/>
          <p:nvPr/>
        </p:nvSpPr>
        <p:spPr>
          <a:xfrm>
            <a:off x="4381560" y="5170320"/>
            <a:ext cx="17280" cy="3492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8" name=""/>
          <p:cNvSpPr/>
          <p:nvPr/>
        </p:nvSpPr>
        <p:spPr>
          <a:xfrm>
            <a:off x="4416480" y="5240160"/>
            <a:ext cx="17280" cy="2556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9" name=""/>
          <p:cNvSpPr/>
          <p:nvPr/>
        </p:nvSpPr>
        <p:spPr>
          <a:xfrm>
            <a:off x="4451400" y="5300640"/>
            <a:ext cx="7920" cy="2556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0" name=""/>
          <p:cNvSpPr/>
          <p:nvPr/>
        </p:nvSpPr>
        <p:spPr>
          <a:xfrm>
            <a:off x="4476600" y="5361120"/>
            <a:ext cx="17640" cy="3492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1" name=""/>
          <p:cNvSpPr/>
          <p:nvPr/>
        </p:nvSpPr>
        <p:spPr>
          <a:xfrm>
            <a:off x="4511520" y="5421240"/>
            <a:ext cx="7920" cy="270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2" name=""/>
          <p:cNvSpPr/>
          <p:nvPr/>
        </p:nvSpPr>
        <p:spPr>
          <a:xfrm flipV="1">
            <a:off x="4381560" y="5481720"/>
            <a:ext cx="34920" cy="936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3" name=""/>
          <p:cNvSpPr/>
          <p:nvPr/>
        </p:nvSpPr>
        <p:spPr>
          <a:xfrm flipV="1">
            <a:off x="4451400" y="5455800"/>
            <a:ext cx="34920" cy="176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4" name=""/>
          <p:cNvSpPr/>
          <p:nvPr/>
        </p:nvSpPr>
        <p:spPr>
          <a:xfrm flipV="1">
            <a:off x="4511520" y="5430960"/>
            <a:ext cx="34920" cy="1728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5" name=""/>
          <p:cNvSpPr/>
          <p:nvPr/>
        </p:nvSpPr>
        <p:spPr>
          <a:xfrm>
            <a:off x="4572000" y="5386320"/>
            <a:ext cx="34920" cy="17640"/>
          </a:xfrm>
          <a:custGeom>
            <a:avLst/>
            <a:gdLst/>
            <a:ahLst/>
            <a:rect l="l" t="t" r="r" b="b"/>
            <a:pathLst>
              <a:path w="22" h="11">
                <a:moveTo>
                  <a:pt x="0" y="11"/>
                </a:moveTo>
                <a:lnTo>
                  <a:pt x="11" y="6"/>
                </a:lnTo>
                <a:lnTo>
                  <a:pt x="22" y="0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6" name=""/>
          <p:cNvSpPr/>
          <p:nvPr/>
        </p:nvSpPr>
        <p:spPr>
          <a:xfrm>
            <a:off x="4641840" y="5378400"/>
            <a:ext cx="34920" cy="18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7" name=""/>
          <p:cNvSpPr/>
          <p:nvPr/>
        </p:nvSpPr>
        <p:spPr>
          <a:xfrm flipV="1">
            <a:off x="4710240" y="5370480"/>
            <a:ext cx="34920" cy="792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8" name=""/>
          <p:cNvSpPr/>
          <p:nvPr/>
        </p:nvSpPr>
        <p:spPr>
          <a:xfrm flipV="1">
            <a:off x="4780080" y="5361120"/>
            <a:ext cx="34920" cy="936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99" name=""/>
          <p:cNvGrpSpPr/>
          <p:nvPr/>
        </p:nvGrpSpPr>
        <p:grpSpPr>
          <a:xfrm>
            <a:off x="2425680" y="3146400"/>
            <a:ext cx="4006800" cy="2571840"/>
            <a:chOff x="2425680" y="3146400"/>
            <a:chExt cx="4006800" cy="2571840"/>
          </a:xfrm>
        </p:grpSpPr>
        <p:sp>
          <p:nvSpPr>
            <p:cNvPr id="7800" name=""/>
            <p:cNvSpPr/>
            <p:nvPr/>
          </p:nvSpPr>
          <p:spPr>
            <a:xfrm flipV="1">
              <a:off x="4849920" y="5353200"/>
              <a:ext cx="33120" cy="79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1" name=""/>
            <p:cNvSpPr/>
            <p:nvPr/>
          </p:nvSpPr>
          <p:spPr>
            <a:xfrm>
              <a:off x="4917960" y="5353200"/>
              <a:ext cx="1800" cy="33120"/>
            </a:xfrm>
            <a:custGeom>
              <a:avLst/>
              <a:gdLst/>
              <a:ahLst/>
              <a:rect l="l" t="t" r="r" b="b"/>
              <a:pathLst>
                <a:path w="0" h="21">
                  <a:moveTo>
                    <a:pt x="0" y="0"/>
                  </a:moveTo>
                  <a:lnTo>
                    <a:pt x="0" y="0"/>
                  </a:lnTo>
                  <a:lnTo>
                    <a:pt x="0" y="21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2" name=""/>
            <p:cNvSpPr/>
            <p:nvPr/>
          </p:nvSpPr>
          <p:spPr>
            <a:xfrm>
              <a:off x="4917960" y="5421240"/>
              <a:ext cx="1800" cy="349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3" name=""/>
            <p:cNvSpPr/>
            <p:nvPr/>
          </p:nvSpPr>
          <p:spPr>
            <a:xfrm>
              <a:off x="4917960" y="5491080"/>
              <a:ext cx="1800" cy="349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4" name=""/>
            <p:cNvSpPr/>
            <p:nvPr/>
          </p:nvSpPr>
          <p:spPr>
            <a:xfrm>
              <a:off x="4917960" y="5559480"/>
              <a:ext cx="1800" cy="442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5" name=""/>
            <p:cNvSpPr/>
            <p:nvPr/>
          </p:nvSpPr>
          <p:spPr>
            <a:xfrm>
              <a:off x="4917960" y="5638680"/>
              <a:ext cx="9720" cy="334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6" name=""/>
            <p:cNvSpPr/>
            <p:nvPr/>
          </p:nvSpPr>
          <p:spPr>
            <a:xfrm>
              <a:off x="5118120" y="4608360"/>
              <a:ext cx="33480" cy="18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7" name=""/>
            <p:cNvSpPr/>
            <p:nvPr/>
          </p:nvSpPr>
          <p:spPr>
            <a:xfrm>
              <a:off x="5186520" y="4608360"/>
              <a:ext cx="27000" cy="17640"/>
            </a:xfrm>
            <a:custGeom>
              <a:avLst/>
              <a:gdLst/>
              <a:ahLst/>
              <a:rect l="l" t="t" r="r" b="b"/>
              <a:pathLst>
                <a:path w="17" h="11">
                  <a:moveTo>
                    <a:pt x="0" y="0"/>
                  </a:moveTo>
                  <a:lnTo>
                    <a:pt x="17" y="0"/>
                  </a:lnTo>
                  <a:lnTo>
                    <a:pt x="17" y="11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8" name=""/>
            <p:cNvSpPr/>
            <p:nvPr/>
          </p:nvSpPr>
          <p:spPr>
            <a:xfrm>
              <a:off x="5203800" y="4660920"/>
              <a:ext cx="1440" cy="33480"/>
            </a:xfrm>
            <a:custGeom>
              <a:avLst/>
              <a:gdLst/>
              <a:ahLst/>
              <a:rect l="l" t="t" r="r" b="b"/>
              <a:pathLst>
                <a:path w="0" h="21">
                  <a:moveTo>
                    <a:pt x="0" y="0"/>
                  </a:moveTo>
                  <a:lnTo>
                    <a:pt x="0" y="16"/>
                  </a:lnTo>
                  <a:lnTo>
                    <a:pt x="0" y="21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9" name=""/>
            <p:cNvSpPr/>
            <p:nvPr/>
          </p:nvSpPr>
          <p:spPr>
            <a:xfrm>
              <a:off x="5203800" y="4729320"/>
              <a:ext cx="1440" cy="349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0" name=""/>
            <p:cNvSpPr/>
            <p:nvPr/>
          </p:nvSpPr>
          <p:spPr>
            <a:xfrm>
              <a:off x="5195880" y="4799160"/>
              <a:ext cx="1440" cy="34920"/>
            </a:xfrm>
            <a:custGeom>
              <a:avLst/>
              <a:gdLst/>
              <a:ahLst/>
              <a:rect l="l" t="t" r="r" b="b"/>
              <a:pathLst>
                <a:path w="0" h="22">
                  <a:moveTo>
                    <a:pt x="0" y="0"/>
                  </a:moveTo>
                  <a:lnTo>
                    <a:pt x="0" y="11"/>
                  </a:lnTo>
                  <a:lnTo>
                    <a:pt x="0" y="22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1" name=""/>
            <p:cNvSpPr/>
            <p:nvPr/>
          </p:nvSpPr>
          <p:spPr>
            <a:xfrm>
              <a:off x="5203800" y="4867200"/>
              <a:ext cx="9720" cy="349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2" name=""/>
            <p:cNvSpPr/>
            <p:nvPr/>
          </p:nvSpPr>
          <p:spPr>
            <a:xfrm>
              <a:off x="5221440" y="4937040"/>
              <a:ext cx="9360" cy="349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3" name=""/>
            <p:cNvSpPr/>
            <p:nvPr/>
          </p:nvSpPr>
          <p:spPr>
            <a:xfrm>
              <a:off x="5238720" y="5006880"/>
              <a:ext cx="1440" cy="334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4" name=""/>
            <p:cNvSpPr/>
            <p:nvPr/>
          </p:nvSpPr>
          <p:spPr>
            <a:xfrm>
              <a:off x="5246640" y="5075280"/>
              <a:ext cx="9720" cy="349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5" name=""/>
            <p:cNvSpPr/>
            <p:nvPr/>
          </p:nvSpPr>
          <p:spPr>
            <a:xfrm>
              <a:off x="5264280" y="5145120"/>
              <a:ext cx="1440" cy="34920"/>
            </a:xfrm>
            <a:custGeom>
              <a:avLst/>
              <a:gdLst/>
              <a:ahLst/>
              <a:rect l="l" t="t" r="r" b="b"/>
              <a:pathLst>
                <a:path w="0" h="22">
                  <a:moveTo>
                    <a:pt x="0" y="0"/>
                  </a:moveTo>
                  <a:lnTo>
                    <a:pt x="0" y="11"/>
                  </a:lnTo>
                  <a:lnTo>
                    <a:pt x="0" y="22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6" name=""/>
            <p:cNvSpPr/>
            <p:nvPr/>
          </p:nvSpPr>
          <p:spPr>
            <a:xfrm flipH="1">
              <a:off x="5246280" y="5213520"/>
              <a:ext cx="9720" cy="349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7" name=""/>
            <p:cNvSpPr/>
            <p:nvPr/>
          </p:nvSpPr>
          <p:spPr>
            <a:xfrm flipH="1">
              <a:off x="5230800" y="5283360"/>
              <a:ext cx="7920" cy="349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8" name=""/>
            <p:cNvSpPr/>
            <p:nvPr/>
          </p:nvSpPr>
          <p:spPr>
            <a:xfrm flipH="1">
              <a:off x="5213520" y="5353200"/>
              <a:ext cx="792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9" name=""/>
            <p:cNvSpPr/>
            <p:nvPr/>
          </p:nvSpPr>
          <p:spPr>
            <a:xfrm>
              <a:off x="3792600" y="5291280"/>
              <a:ext cx="3492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0" name=""/>
            <p:cNvSpPr/>
            <p:nvPr/>
          </p:nvSpPr>
          <p:spPr>
            <a:xfrm>
              <a:off x="3862440" y="5300640"/>
              <a:ext cx="34920" cy="1440"/>
            </a:xfrm>
            <a:custGeom>
              <a:avLst/>
              <a:gdLst/>
              <a:ahLst/>
              <a:rect l="l" t="t" r="r" b="b"/>
              <a:pathLst>
                <a:path w="22" h="0">
                  <a:moveTo>
                    <a:pt x="0" y="0"/>
                  </a:moveTo>
                  <a:lnTo>
                    <a:pt x="0" y="0"/>
                  </a:lnTo>
                  <a:lnTo>
                    <a:pt x="22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1" name=""/>
            <p:cNvSpPr/>
            <p:nvPr/>
          </p:nvSpPr>
          <p:spPr>
            <a:xfrm>
              <a:off x="3932280" y="5300640"/>
              <a:ext cx="33120" cy="1440"/>
            </a:xfrm>
            <a:custGeom>
              <a:avLst/>
              <a:gdLst/>
              <a:ahLst/>
              <a:rect l="l" t="t" r="r" b="b"/>
              <a:pathLst>
                <a:path w="21" h="0">
                  <a:moveTo>
                    <a:pt x="0" y="0"/>
                  </a:moveTo>
                  <a:lnTo>
                    <a:pt x="11" y="0"/>
                  </a:lnTo>
                  <a:lnTo>
                    <a:pt x="21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2" name=""/>
            <p:cNvSpPr/>
            <p:nvPr/>
          </p:nvSpPr>
          <p:spPr>
            <a:xfrm>
              <a:off x="3983040" y="5248440"/>
              <a:ext cx="1440" cy="34920"/>
            </a:xfrm>
            <a:custGeom>
              <a:avLst/>
              <a:gdLst/>
              <a:ahLst/>
              <a:rect l="l" t="t" r="r" b="b"/>
              <a:pathLst>
                <a:path w="0" h="22">
                  <a:moveTo>
                    <a:pt x="0" y="22"/>
                  </a:moveTo>
                  <a:lnTo>
                    <a:pt x="0" y="11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3" name=""/>
            <p:cNvSpPr/>
            <p:nvPr/>
          </p:nvSpPr>
          <p:spPr>
            <a:xfrm flipV="1">
              <a:off x="3983040" y="5179680"/>
              <a:ext cx="9360" cy="334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4" name=""/>
            <p:cNvSpPr/>
            <p:nvPr/>
          </p:nvSpPr>
          <p:spPr>
            <a:xfrm>
              <a:off x="3992400" y="5127480"/>
              <a:ext cx="17640" cy="1764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0" y="11"/>
                  </a:moveTo>
                  <a:lnTo>
                    <a:pt x="0" y="0"/>
                  </a:lnTo>
                  <a:lnTo>
                    <a:pt x="11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5" name=""/>
            <p:cNvSpPr/>
            <p:nvPr/>
          </p:nvSpPr>
          <p:spPr>
            <a:xfrm flipV="1">
              <a:off x="4044960" y="5110200"/>
              <a:ext cx="33480" cy="79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6" name=""/>
            <p:cNvSpPr/>
            <p:nvPr/>
          </p:nvSpPr>
          <p:spPr>
            <a:xfrm flipV="1">
              <a:off x="4113360" y="5084280"/>
              <a:ext cx="34920" cy="176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7" name=""/>
            <p:cNvSpPr/>
            <p:nvPr/>
          </p:nvSpPr>
          <p:spPr>
            <a:xfrm flipV="1">
              <a:off x="4183200" y="5067360"/>
              <a:ext cx="34920" cy="79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8" name=""/>
            <p:cNvSpPr/>
            <p:nvPr/>
          </p:nvSpPr>
          <p:spPr>
            <a:xfrm>
              <a:off x="4251240" y="5049720"/>
              <a:ext cx="34920" cy="7920"/>
            </a:xfrm>
            <a:custGeom>
              <a:avLst/>
              <a:gdLst/>
              <a:ahLst/>
              <a:rect l="l" t="t" r="r" b="b"/>
              <a:pathLst>
                <a:path w="22" h="5">
                  <a:moveTo>
                    <a:pt x="0" y="5"/>
                  </a:moveTo>
                  <a:lnTo>
                    <a:pt x="6" y="5"/>
                  </a:lnTo>
                  <a:lnTo>
                    <a:pt x="22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9" name=""/>
            <p:cNvSpPr/>
            <p:nvPr/>
          </p:nvSpPr>
          <p:spPr>
            <a:xfrm>
              <a:off x="4313160" y="5014800"/>
              <a:ext cx="7920" cy="34920"/>
            </a:xfrm>
            <a:custGeom>
              <a:avLst/>
              <a:gdLst/>
              <a:ahLst/>
              <a:rect l="l" t="t" r="r" b="b"/>
              <a:pathLst>
                <a:path w="5" h="22">
                  <a:moveTo>
                    <a:pt x="5" y="22"/>
                  </a:moveTo>
                  <a:lnTo>
                    <a:pt x="5" y="16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0" name=""/>
            <p:cNvSpPr/>
            <p:nvPr/>
          </p:nvSpPr>
          <p:spPr>
            <a:xfrm flipH="1" flipV="1">
              <a:off x="4277880" y="4954320"/>
              <a:ext cx="17640" cy="349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1" name=""/>
            <p:cNvSpPr/>
            <p:nvPr/>
          </p:nvSpPr>
          <p:spPr>
            <a:xfrm>
              <a:off x="4251240" y="4902120"/>
              <a:ext cx="17640" cy="1764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6" y="11"/>
                  </a:moveTo>
                  <a:lnTo>
                    <a:pt x="0" y="0"/>
                  </a:lnTo>
                  <a:lnTo>
                    <a:pt x="11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2" name=""/>
            <p:cNvSpPr/>
            <p:nvPr/>
          </p:nvSpPr>
          <p:spPr>
            <a:xfrm flipV="1">
              <a:off x="4303800" y="4866840"/>
              <a:ext cx="25200" cy="176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3" name=""/>
            <p:cNvSpPr/>
            <p:nvPr/>
          </p:nvSpPr>
          <p:spPr>
            <a:xfrm flipV="1">
              <a:off x="4363920" y="4842000"/>
              <a:ext cx="34920" cy="93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4" name=""/>
            <p:cNvSpPr/>
            <p:nvPr/>
          </p:nvSpPr>
          <p:spPr>
            <a:xfrm>
              <a:off x="4424400" y="4807080"/>
              <a:ext cx="34920" cy="17280"/>
            </a:xfrm>
            <a:custGeom>
              <a:avLst/>
              <a:gdLst/>
              <a:ahLst/>
              <a:rect l="l" t="t" r="r" b="b"/>
              <a:pathLst>
                <a:path w="22" h="11">
                  <a:moveTo>
                    <a:pt x="0" y="11"/>
                  </a:moveTo>
                  <a:lnTo>
                    <a:pt x="17" y="6"/>
                  </a:lnTo>
                  <a:lnTo>
                    <a:pt x="22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5" name=""/>
            <p:cNvSpPr/>
            <p:nvPr/>
          </p:nvSpPr>
          <p:spPr>
            <a:xfrm flipV="1">
              <a:off x="4494240" y="4781160"/>
              <a:ext cx="34920" cy="176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6" name=""/>
            <p:cNvSpPr/>
            <p:nvPr/>
          </p:nvSpPr>
          <p:spPr>
            <a:xfrm flipV="1">
              <a:off x="4554360" y="4756320"/>
              <a:ext cx="35280" cy="79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7" name=""/>
            <p:cNvSpPr/>
            <p:nvPr/>
          </p:nvSpPr>
          <p:spPr>
            <a:xfrm flipV="1">
              <a:off x="4624560" y="4721400"/>
              <a:ext cx="25200" cy="172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8" name=""/>
            <p:cNvSpPr/>
            <p:nvPr/>
          </p:nvSpPr>
          <p:spPr>
            <a:xfrm flipV="1">
              <a:off x="4684680" y="4694400"/>
              <a:ext cx="34920" cy="172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9" name=""/>
            <p:cNvSpPr/>
            <p:nvPr/>
          </p:nvSpPr>
          <p:spPr>
            <a:xfrm flipV="1">
              <a:off x="4754520" y="4668840"/>
              <a:ext cx="25560" cy="93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0" name=""/>
            <p:cNvSpPr/>
            <p:nvPr/>
          </p:nvSpPr>
          <p:spPr>
            <a:xfrm flipV="1">
              <a:off x="4815000" y="4633920"/>
              <a:ext cx="34920" cy="172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1" name=""/>
            <p:cNvSpPr/>
            <p:nvPr/>
          </p:nvSpPr>
          <p:spPr>
            <a:xfrm>
              <a:off x="4875120" y="4608360"/>
              <a:ext cx="34920" cy="17640"/>
            </a:xfrm>
            <a:custGeom>
              <a:avLst/>
              <a:gdLst/>
              <a:ahLst/>
              <a:rect l="l" t="t" r="r" b="b"/>
              <a:pathLst>
                <a:path w="22" h="11">
                  <a:moveTo>
                    <a:pt x="0" y="11"/>
                  </a:moveTo>
                  <a:lnTo>
                    <a:pt x="16" y="0"/>
                  </a:lnTo>
                  <a:lnTo>
                    <a:pt x="22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2" name=""/>
            <p:cNvSpPr/>
            <p:nvPr/>
          </p:nvSpPr>
          <p:spPr>
            <a:xfrm>
              <a:off x="4944960" y="4608360"/>
              <a:ext cx="33480" cy="18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3" name=""/>
            <p:cNvSpPr/>
            <p:nvPr/>
          </p:nvSpPr>
          <p:spPr>
            <a:xfrm>
              <a:off x="5013360" y="4608360"/>
              <a:ext cx="34920" cy="18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4" name=""/>
            <p:cNvSpPr/>
            <p:nvPr/>
          </p:nvSpPr>
          <p:spPr>
            <a:xfrm>
              <a:off x="5091120" y="4608360"/>
              <a:ext cx="17280" cy="1764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0" y="0"/>
                  </a:moveTo>
                  <a:lnTo>
                    <a:pt x="11" y="0"/>
                  </a:lnTo>
                  <a:lnTo>
                    <a:pt x="11" y="11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5" name=""/>
            <p:cNvSpPr/>
            <p:nvPr/>
          </p:nvSpPr>
          <p:spPr>
            <a:xfrm>
              <a:off x="5091120" y="4660920"/>
              <a:ext cx="9360" cy="33480"/>
            </a:xfrm>
            <a:custGeom>
              <a:avLst/>
              <a:gdLst/>
              <a:ahLst/>
              <a:rect l="l" t="t" r="r" b="b"/>
              <a:pathLst>
                <a:path w="6" h="21">
                  <a:moveTo>
                    <a:pt x="6" y="0"/>
                  </a:moveTo>
                  <a:lnTo>
                    <a:pt x="6" y="0"/>
                  </a:lnTo>
                  <a:lnTo>
                    <a:pt x="0" y="21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6" name=""/>
            <p:cNvSpPr/>
            <p:nvPr/>
          </p:nvSpPr>
          <p:spPr>
            <a:xfrm flipH="1">
              <a:off x="5073120" y="4721400"/>
              <a:ext cx="9720" cy="349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7" name=""/>
            <p:cNvSpPr/>
            <p:nvPr/>
          </p:nvSpPr>
          <p:spPr>
            <a:xfrm flipH="1">
              <a:off x="5056200" y="4789440"/>
              <a:ext cx="9360" cy="349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8" name=""/>
            <p:cNvSpPr/>
            <p:nvPr/>
          </p:nvSpPr>
          <p:spPr>
            <a:xfrm>
              <a:off x="5030640" y="4859280"/>
              <a:ext cx="9720" cy="34920"/>
            </a:xfrm>
            <a:custGeom>
              <a:avLst/>
              <a:gdLst/>
              <a:ahLst/>
              <a:rect l="l" t="t" r="r" b="b"/>
              <a:pathLst>
                <a:path w="6" h="22">
                  <a:moveTo>
                    <a:pt x="6" y="0"/>
                  </a:moveTo>
                  <a:lnTo>
                    <a:pt x="6" y="5"/>
                  </a:lnTo>
                  <a:lnTo>
                    <a:pt x="0" y="16"/>
                  </a:lnTo>
                  <a:lnTo>
                    <a:pt x="0" y="22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9" name=""/>
            <p:cNvSpPr/>
            <p:nvPr/>
          </p:nvSpPr>
          <p:spPr>
            <a:xfrm>
              <a:off x="4970520" y="4902120"/>
              <a:ext cx="25200" cy="17640"/>
            </a:xfrm>
            <a:custGeom>
              <a:avLst/>
              <a:gdLst/>
              <a:ahLst/>
              <a:rect l="l" t="t" r="r" b="b"/>
              <a:pathLst>
                <a:path w="16" h="11">
                  <a:moveTo>
                    <a:pt x="16" y="0"/>
                  </a:moveTo>
                  <a:lnTo>
                    <a:pt x="0" y="6"/>
                  </a:lnTo>
                  <a:lnTo>
                    <a:pt x="5" y="11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0" name=""/>
            <p:cNvSpPr/>
            <p:nvPr/>
          </p:nvSpPr>
          <p:spPr>
            <a:xfrm>
              <a:off x="4987800" y="4954680"/>
              <a:ext cx="17640" cy="349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1" name=""/>
            <p:cNvSpPr/>
            <p:nvPr/>
          </p:nvSpPr>
          <p:spPr>
            <a:xfrm>
              <a:off x="5022720" y="5014800"/>
              <a:ext cx="7920" cy="349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2" name=""/>
            <p:cNvSpPr/>
            <p:nvPr/>
          </p:nvSpPr>
          <p:spPr>
            <a:xfrm>
              <a:off x="5048280" y="5084640"/>
              <a:ext cx="17280" cy="255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3" name=""/>
            <p:cNvSpPr/>
            <p:nvPr/>
          </p:nvSpPr>
          <p:spPr>
            <a:xfrm>
              <a:off x="5073480" y="5145120"/>
              <a:ext cx="17640" cy="349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4" name=""/>
            <p:cNvSpPr/>
            <p:nvPr/>
          </p:nvSpPr>
          <p:spPr>
            <a:xfrm>
              <a:off x="5108400" y="5213520"/>
              <a:ext cx="9720" cy="266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5" name=""/>
            <p:cNvSpPr/>
            <p:nvPr/>
          </p:nvSpPr>
          <p:spPr>
            <a:xfrm>
              <a:off x="5135400" y="5275440"/>
              <a:ext cx="16200" cy="331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6" name=""/>
            <p:cNvSpPr/>
            <p:nvPr/>
          </p:nvSpPr>
          <p:spPr>
            <a:xfrm>
              <a:off x="5160960" y="5343480"/>
              <a:ext cx="34920" cy="9720"/>
            </a:xfrm>
            <a:custGeom>
              <a:avLst/>
              <a:gdLst/>
              <a:ahLst/>
              <a:rect l="l" t="t" r="r" b="b"/>
              <a:pathLst>
                <a:path w="22" h="6">
                  <a:moveTo>
                    <a:pt x="0" y="0"/>
                  </a:moveTo>
                  <a:lnTo>
                    <a:pt x="0" y="0"/>
                  </a:lnTo>
                  <a:lnTo>
                    <a:pt x="22" y="6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7" name=""/>
            <p:cNvSpPr/>
            <p:nvPr/>
          </p:nvSpPr>
          <p:spPr>
            <a:xfrm>
              <a:off x="5230800" y="5353200"/>
              <a:ext cx="33480" cy="79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8" name=""/>
            <p:cNvSpPr/>
            <p:nvPr/>
          </p:nvSpPr>
          <p:spPr>
            <a:xfrm>
              <a:off x="5299200" y="5361120"/>
              <a:ext cx="3492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9" name=""/>
            <p:cNvSpPr/>
            <p:nvPr/>
          </p:nvSpPr>
          <p:spPr>
            <a:xfrm>
              <a:off x="5369040" y="5370480"/>
              <a:ext cx="34920" cy="1800"/>
            </a:xfrm>
            <a:custGeom>
              <a:avLst/>
              <a:gdLst/>
              <a:ahLst/>
              <a:rect l="l" t="t" r="r" b="b"/>
              <a:pathLst>
                <a:path w="22" h="0">
                  <a:moveTo>
                    <a:pt x="0" y="0"/>
                  </a:moveTo>
                  <a:lnTo>
                    <a:pt x="16" y="0"/>
                  </a:lnTo>
                  <a:lnTo>
                    <a:pt x="22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0" name=""/>
            <p:cNvSpPr/>
            <p:nvPr/>
          </p:nvSpPr>
          <p:spPr>
            <a:xfrm>
              <a:off x="5437080" y="5386320"/>
              <a:ext cx="27000" cy="176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1" name=""/>
            <p:cNvSpPr/>
            <p:nvPr/>
          </p:nvSpPr>
          <p:spPr>
            <a:xfrm>
              <a:off x="5499000" y="5421240"/>
              <a:ext cx="25560" cy="176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2" name=""/>
            <p:cNvSpPr/>
            <p:nvPr/>
          </p:nvSpPr>
          <p:spPr>
            <a:xfrm>
              <a:off x="5559480" y="5456160"/>
              <a:ext cx="25200" cy="176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3" name=""/>
            <p:cNvSpPr/>
            <p:nvPr/>
          </p:nvSpPr>
          <p:spPr>
            <a:xfrm>
              <a:off x="5619600" y="5491080"/>
              <a:ext cx="25560" cy="255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4" name=""/>
            <p:cNvSpPr/>
            <p:nvPr/>
          </p:nvSpPr>
          <p:spPr>
            <a:xfrm>
              <a:off x="5680080" y="5533920"/>
              <a:ext cx="25560" cy="176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5" name=""/>
            <p:cNvSpPr/>
            <p:nvPr/>
          </p:nvSpPr>
          <p:spPr>
            <a:xfrm flipH="1">
              <a:off x="5705640" y="5568840"/>
              <a:ext cx="17280" cy="349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6" name=""/>
            <p:cNvSpPr/>
            <p:nvPr/>
          </p:nvSpPr>
          <p:spPr>
            <a:xfrm flipH="1">
              <a:off x="5680080" y="5629320"/>
              <a:ext cx="9360" cy="349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7" name=""/>
            <p:cNvSpPr/>
            <p:nvPr/>
          </p:nvSpPr>
          <p:spPr>
            <a:xfrm>
              <a:off x="2425680" y="3146400"/>
              <a:ext cx="892080" cy="423720"/>
            </a:xfrm>
            <a:custGeom>
              <a:avLst/>
              <a:gdLst/>
              <a:ahLst/>
              <a:rect l="l" t="t" r="r" b="b"/>
              <a:pathLst>
                <a:path w="562" h="267">
                  <a:moveTo>
                    <a:pt x="562" y="49"/>
                  </a:moveTo>
                  <a:lnTo>
                    <a:pt x="507" y="43"/>
                  </a:lnTo>
                  <a:lnTo>
                    <a:pt x="354" y="22"/>
                  </a:lnTo>
                  <a:lnTo>
                    <a:pt x="251" y="5"/>
                  </a:lnTo>
                  <a:lnTo>
                    <a:pt x="174" y="0"/>
                  </a:lnTo>
                  <a:lnTo>
                    <a:pt x="180" y="71"/>
                  </a:lnTo>
                  <a:lnTo>
                    <a:pt x="180" y="136"/>
                  </a:lnTo>
                  <a:lnTo>
                    <a:pt x="174" y="147"/>
                  </a:lnTo>
                  <a:lnTo>
                    <a:pt x="169" y="163"/>
                  </a:lnTo>
                  <a:lnTo>
                    <a:pt x="120" y="201"/>
                  </a:lnTo>
                  <a:lnTo>
                    <a:pt x="49" y="245"/>
                  </a:lnTo>
                  <a:lnTo>
                    <a:pt x="0" y="267"/>
                  </a:lnTo>
                </a:path>
              </a:pathLst>
            </a:custGeom>
            <a:noFill/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8" name=""/>
            <p:cNvSpPr/>
            <p:nvPr/>
          </p:nvSpPr>
          <p:spPr>
            <a:xfrm>
              <a:off x="3819600" y="5102280"/>
              <a:ext cx="1440" cy="331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9" name=""/>
            <p:cNvSpPr/>
            <p:nvPr/>
          </p:nvSpPr>
          <p:spPr>
            <a:xfrm flipH="1">
              <a:off x="3801960" y="5170320"/>
              <a:ext cx="7920" cy="349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0" name=""/>
            <p:cNvSpPr/>
            <p:nvPr/>
          </p:nvSpPr>
          <p:spPr>
            <a:xfrm flipH="1">
              <a:off x="3792600" y="5240160"/>
              <a:ext cx="9360" cy="352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1" name=""/>
            <p:cNvSpPr/>
            <p:nvPr/>
          </p:nvSpPr>
          <p:spPr>
            <a:xfrm>
              <a:off x="3784680" y="5308560"/>
              <a:ext cx="1440" cy="349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2" name=""/>
            <p:cNvSpPr/>
            <p:nvPr/>
          </p:nvSpPr>
          <p:spPr>
            <a:xfrm flipH="1">
              <a:off x="3766680" y="5378400"/>
              <a:ext cx="9720" cy="349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3" name=""/>
            <p:cNvSpPr/>
            <p:nvPr/>
          </p:nvSpPr>
          <p:spPr>
            <a:xfrm flipH="1">
              <a:off x="3759120" y="5448240"/>
              <a:ext cx="7920" cy="334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4" name=""/>
            <p:cNvSpPr/>
            <p:nvPr/>
          </p:nvSpPr>
          <p:spPr>
            <a:xfrm>
              <a:off x="3749760" y="5516640"/>
              <a:ext cx="1440" cy="428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5" name=""/>
            <p:cNvSpPr/>
            <p:nvPr/>
          </p:nvSpPr>
          <p:spPr>
            <a:xfrm flipH="1">
              <a:off x="3731760" y="5594400"/>
              <a:ext cx="9720" cy="349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6" name=""/>
            <p:cNvSpPr/>
            <p:nvPr/>
          </p:nvSpPr>
          <p:spPr>
            <a:xfrm flipH="1">
              <a:off x="3724200" y="5664240"/>
              <a:ext cx="7920" cy="349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7" name=""/>
            <p:cNvSpPr/>
            <p:nvPr/>
          </p:nvSpPr>
          <p:spPr>
            <a:xfrm flipV="1">
              <a:off x="3819600" y="5032440"/>
              <a:ext cx="17280" cy="698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8" name=""/>
            <p:cNvSpPr/>
            <p:nvPr/>
          </p:nvSpPr>
          <p:spPr>
            <a:xfrm>
              <a:off x="3836880" y="4902120"/>
              <a:ext cx="25560" cy="60480"/>
            </a:xfrm>
            <a:custGeom>
              <a:avLst/>
              <a:gdLst/>
              <a:ahLst/>
              <a:rect l="l" t="t" r="r" b="b"/>
              <a:pathLst>
                <a:path w="16" h="38">
                  <a:moveTo>
                    <a:pt x="0" y="38"/>
                  </a:moveTo>
                  <a:lnTo>
                    <a:pt x="5" y="17"/>
                  </a:lnTo>
                  <a:lnTo>
                    <a:pt x="16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9" name=""/>
            <p:cNvSpPr/>
            <p:nvPr/>
          </p:nvSpPr>
          <p:spPr>
            <a:xfrm>
              <a:off x="3914640" y="4789440"/>
              <a:ext cx="42840" cy="52560"/>
            </a:xfrm>
            <a:custGeom>
              <a:avLst/>
              <a:gdLst/>
              <a:ahLst/>
              <a:rect l="l" t="t" r="r" b="b"/>
              <a:pathLst>
                <a:path w="27" h="33">
                  <a:moveTo>
                    <a:pt x="0" y="33"/>
                  </a:moveTo>
                  <a:lnTo>
                    <a:pt x="0" y="33"/>
                  </a:lnTo>
                  <a:lnTo>
                    <a:pt x="27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0" name=""/>
            <p:cNvSpPr/>
            <p:nvPr/>
          </p:nvSpPr>
          <p:spPr>
            <a:xfrm flipV="1">
              <a:off x="4010040" y="4686120"/>
              <a:ext cx="42840" cy="522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1" name=""/>
            <p:cNvSpPr/>
            <p:nvPr/>
          </p:nvSpPr>
          <p:spPr>
            <a:xfrm flipV="1">
              <a:off x="4095720" y="4582800"/>
              <a:ext cx="52560" cy="507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2" name=""/>
            <p:cNvSpPr/>
            <p:nvPr/>
          </p:nvSpPr>
          <p:spPr>
            <a:xfrm flipV="1">
              <a:off x="4191120" y="4478040"/>
              <a:ext cx="52200" cy="522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3" name=""/>
            <p:cNvSpPr/>
            <p:nvPr/>
          </p:nvSpPr>
          <p:spPr>
            <a:xfrm flipV="1">
              <a:off x="4286160" y="4374720"/>
              <a:ext cx="42840" cy="507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4" name=""/>
            <p:cNvSpPr/>
            <p:nvPr/>
          </p:nvSpPr>
          <p:spPr>
            <a:xfrm>
              <a:off x="4381560" y="4287960"/>
              <a:ext cx="52200" cy="27000"/>
            </a:xfrm>
            <a:custGeom>
              <a:avLst/>
              <a:gdLst/>
              <a:ahLst/>
              <a:rect l="l" t="t" r="r" b="b"/>
              <a:pathLst>
                <a:path w="33" h="17">
                  <a:moveTo>
                    <a:pt x="0" y="17"/>
                  </a:moveTo>
                  <a:lnTo>
                    <a:pt x="17" y="0"/>
                  </a:lnTo>
                  <a:lnTo>
                    <a:pt x="33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5" name=""/>
            <p:cNvSpPr/>
            <p:nvPr/>
          </p:nvSpPr>
          <p:spPr>
            <a:xfrm>
              <a:off x="4503600" y="4262400"/>
              <a:ext cx="68400" cy="17640"/>
            </a:xfrm>
            <a:custGeom>
              <a:avLst/>
              <a:gdLst/>
              <a:ahLst/>
              <a:rect l="l" t="t" r="r" b="b"/>
              <a:pathLst>
                <a:path w="43" h="11">
                  <a:moveTo>
                    <a:pt x="0" y="11"/>
                  </a:moveTo>
                  <a:lnTo>
                    <a:pt x="10" y="5"/>
                  </a:lnTo>
                  <a:lnTo>
                    <a:pt x="43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6" name=""/>
            <p:cNvSpPr/>
            <p:nvPr/>
          </p:nvSpPr>
          <p:spPr>
            <a:xfrm>
              <a:off x="2425680" y="3578400"/>
              <a:ext cx="34920" cy="172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7" name=""/>
            <p:cNvSpPr/>
            <p:nvPr/>
          </p:nvSpPr>
          <p:spPr>
            <a:xfrm>
              <a:off x="2495520" y="3605040"/>
              <a:ext cx="33480" cy="82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8" name=""/>
            <p:cNvSpPr/>
            <p:nvPr/>
          </p:nvSpPr>
          <p:spPr>
            <a:xfrm>
              <a:off x="2563920" y="3622680"/>
              <a:ext cx="27000" cy="15840"/>
            </a:xfrm>
            <a:custGeom>
              <a:avLst/>
              <a:gdLst/>
              <a:ahLst/>
              <a:rect l="l" t="t" r="r" b="b"/>
              <a:pathLst>
                <a:path w="17" h="10">
                  <a:moveTo>
                    <a:pt x="0" y="0"/>
                  </a:moveTo>
                  <a:lnTo>
                    <a:pt x="17" y="5"/>
                  </a:lnTo>
                  <a:lnTo>
                    <a:pt x="11" y="1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9" name=""/>
            <p:cNvSpPr/>
            <p:nvPr/>
          </p:nvSpPr>
          <p:spPr>
            <a:xfrm>
              <a:off x="2538360" y="3665520"/>
              <a:ext cx="25560" cy="2556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16" y="0"/>
                  </a:moveTo>
                  <a:lnTo>
                    <a:pt x="5" y="11"/>
                  </a:lnTo>
                  <a:lnTo>
                    <a:pt x="0" y="16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0" name=""/>
            <p:cNvSpPr/>
            <p:nvPr/>
          </p:nvSpPr>
          <p:spPr>
            <a:xfrm>
              <a:off x="2503440" y="3726000"/>
              <a:ext cx="17640" cy="34920"/>
            </a:xfrm>
            <a:custGeom>
              <a:avLst/>
              <a:gdLst/>
              <a:ahLst/>
              <a:rect l="l" t="t" r="r" b="b"/>
              <a:pathLst>
                <a:path w="11" h="22">
                  <a:moveTo>
                    <a:pt x="11" y="0"/>
                  </a:moveTo>
                  <a:lnTo>
                    <a:pt x="6" y="5"/>
                  </a:lnTo>
                  <a:lnTo>
                    <a:pt x="0" y="16"/>
                  </a:lnTo>
                  <a:lnTo>
                    <a:pt x="0" y="22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1" name=""/>
            <p:cNvSpPr/>
            <p:nvPr/>
          </p:nvSpPr>
          <p:spPr>
            <a:xfrm>
              <a:off x="2486160" y="3786120"/>
              <a:ext cx="9360" cy="34920"/>
            </a:xfrm>
            <a:custGeom>
              <a:avLst/>
              <a:gdLst/>
              <a:ahLst/>
              <a:rect l="l" t="t" r="r" b="b"/>
              <a:pathLst>
                <a:path w="6" h="22">
                  <a:moveTo>
                    <a:pt x="6" y="0"/>
                  </a:moveTo>
                  <a:lnTo>
                    <a:pt x="0" y="11"/>
                  </a:lnTo>
                  <a:lnTo>
                    <a:pt x="0" y="22"/>
                  </a:lnTo>
                  <a:lnTo>
                    <a:pt x="0" y="22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2" name=""/>
            <p:cNvSpPr/>
            <p:nvPr/>
          </p:nvSpPr>
          <p:spPr>
            <a:xfrm>
              <a:off x="2486160" y="3855960"/>
              <a:ext cx="1440" cy="34920"/>
            </a:xfrm>
            <a:custGeom>
              <a:avLst/>
              <a:gdLst/>
              <a:ahLst/>
              <a:rect l="l" t="t" r="r" b="b"/>
              <a:pathLst>
                <a:path w="0" h="22">
                  <a:moveTo>
                    <a:pt x="0" y="0"/>
                  </a:moveTo>
                  <a:lnTo>
                    <a:pt x="0" y="5"/>
                  </a:lnTo>
                  <a:lnTo>
                    <a:pt x="0" y="22"/>
                  </a:lnTo>
                  <a:lnTo>
                    <a:pt x="0" y="22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3" name=""/>
            <p:cNvSpPr/>
            <p:nvPr/>
          </p:nvSpPr>
          <p:spPr>
            <a:xfrm>
              <a:off x="2478240" y="3924360"/>
              <a:ext cx="1440" cy="34920"/>
            </a:xfrm>
            <a:custGeom>
              <a:avLst/>
              <a:gdLst/>
              <a:ahLst/>
              <a:rect l="l" t="t" r="r" b="b"/>
              <a:pathLst>
                <a:path w="0" h="22">
                  <a:moveTo>
                    <a:pt x="0" y="0"/>
                  </a:moveTo>
                  <a:lnTo>
                    <a:pt x="0" y="17"/>
                  </a:lnTo>
                  <a:lnTo>
                    <a:pt x="0" y="22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4" name=""/>
            <p:cNvSpPr/>
            <p:nvPr/>
          </p:nvSpPr>
          <p:spPr>
            <a:xfrm>
              <a:off x="2478240" y="4002120"/>
              <a:ext cx="1440" cy="34920"/>
            </a:xfrm>
            <a:custGeom>
              <a:avLst/>
              <a:gdLst/>
              <a:ahLst/>
              <a:rect l="l" t="t" r="r" b="b"/>
              <a:pathLst>
                <a:path w="0" h="22">
                  <a:moveTo>
                    <a:pt x="0" y="0"/>
                  </a:moveTo>
                  <a:lnTo>
                    <a:pt x="0" y="11"/>
                  </a:lnTo>
                  <a:lnTo>
                    <a:pt x="0" y="22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5" name=""/>
            <p:cNvSpPr/>
            <p:nvPr/>
          </p:nvSpPr>
          <p:spPr>
            <a:xfrm>
              <a:off x="2468520" y="4071960"/>
              <a:ext cx="1800" cy="25200"/>
            </a:xfrm>
            <a:custGeom>
              <a:avLst/>
              <a:gdLst/>
              <a:ahLst/>
              <a:rect l="l" t="t" r="r" b="b"/>
              <a:pathLst>
                <a:path w="0" h="16">
                  <a:moveTo>
                    <a:pt x="0" y="0"/>
                  </a:moveTo>
                  <a:lnTo>
                    <a:pt x="0" y="5"/>
                  </a:lnTo>
                  <a:lnTo>
                    <a:pt x="0" y="16"/>
                  </a:lnTo>
                  <a:lnTo>
                    <a:pt x="0" y="16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6" name=""/>
            <p:cNvSpPr/>
            <p:nvPr/>
          </p:nvSpPr>
          <p:spPr>
            <a:xfrm>
              <a:off x="2478240" y="4132440"/>
              <a:ext cx="7920" cy="34920"/>
            </a:xfrm>
            <a:custGeom>
              <a:avLst/>
              <a:gdLst/>
              <a:ahLst/>
              <a:rect l="l" t="t" r="r" b="b"/>
              <a:pathLst>
                <a:path w="5" h="22">
                  <a:moveTo>
                    <a:pt x="0" y="0"/>
                  </a:moveTo>
                  <a:lnTo>
                    <a:pt x="0" y="11"/>
                  </a:lnTo>
                  <a:lnTo>
                    <a:pt x="5" y="22"/>
                  </a:lnTo>
                  <a:lnTo>
                    <a:pt x="5" y="22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7" name=""/>
            <p:cNvSpPr/>
            <p:nvPr/>
          </p:nvSpPr>
          <p:spPr>
            <a:xfrm>
              <a:off x="2495520" y="4202280"/>
              <a:ext cx="17640" cy="34920"/>
            </a:xfrm>
            <a:custGeom>
              <a:avLst/>
              <a:gdLst/>
              <a:ahLst/>
              <a:rect l="l" t="t" r="r" b="b"/>
              <a:pathLst>
                <a:path w="11" h="22">
                  <a:moveTo>
                    <a:pt x="0" y="0"/>
                  </a:moveTo>
                  <a:lnTo>
                    <a:pt x="5" y="11"/>
                  </a:lnTo>
                  <a:lnTo>
                    <a:pt x="11" y="22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8" name=""/>
            <p:cNvSpPr/>
            <p:nvPr/>
          </p:nvSpPr>
          <p:spPr>
            <a:xfrm>
              <a:off x="2521080" y="4270320"/>
              <a:ext cx="7920" cy="34920"/>
            </a:xfrm>
            <a:custGeom>
              <a:avLst/>
              <a:gdLst/>
              <a:ahLst/>
              <a:rect l="l" t="t" r="r" b="b"/>
              <a:pathLst>
                <a:path w="5" h="22">
                  <a:moveTo>
                    <a:pt x="0" y="0"/>
                  </a:moveTo>
                  <a:lnTo>
                    <a:pt x="0" y="6"/>
                  </a:lnTo>
                  <a:lnTo>
                    <a:pt x="5" y="22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9" name=""/>
            <p:cNvSpPr/>
            <p:nvPr/>
          </p:nvSpPr>
          <p:spPr>
            <a:xfrm>
              <a:off x="2538360" y="4340160"/>
              <a:ext cx="17640" cy="25560"/>
            </a:xfrm>
            <a:custGeom>
              <a:avLst/>
              <a:gdLst/>
              <a:ahLst/>
              <a:rect l="l" t="t" r="r" b="b"/>
              <a:pathLst>
                <a:path w="11" h="16">
                  <a:moveTo>
                    <a:pt x="0" y="0"/>
                  </a:moveTo>
                  <a:lnTo>
                    <a:pt x="11" y="11"/>
                  </a:lnTo>
                  <a:lnTo>
                    <a:pt x="11" y="16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0" name=""/>
            <p:cNvSpPr/>
            <p:nvPr/>
          </p:nvSpPr>
          <p:spPr>
            <a:xfrm>
              <a:off x="2556000" y="4400640"/>
              <a:ext cx="1440" cy="349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1" name=""/>
            <p:cNvSpPr/>
            <p:nvPr/>
          </p:nvSpPr>
          <p:spPr>
            <a:xfrm>
              <a:off x="2556000" y="4470480"/>
              <a:ext cx="1440" cy="349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2" name=""/>
            <p:cNvSpPr/>
            <p:nvPr/>
          </p:nvSpPr>
          <p:spPr>
            <a:xfrm>
              <a:off x="2556000" y="4538520"/>
              <a:ext cx="1440" cy="34920"/>
            </a:xfrm>
            <a:custGeom>
              <a:avLst/>
              <a:gdLst/>
              <a:ahLst/>
              <a:rect l="l" t="t" r="r" b="b"/>
              <a:pathLst>
                <a:path w="0" h="22">
                  <a:moveTo>
                    <a:pt x="0" y="0"/>
                  </a:moveTo>
                  <a:lnTo>
                    <a:pt x="0" y="22"/>
                  </a:lnTo>
                  <a:lnTo>
                    <a:pt x="0" y="22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3" name=""/>
            <p:cNvSpPr/>
            <p:nvPr/>
          </p:nvSpPr>
          <p:spPr>
            <a:xfrm>
              <a:off x="2563920" y="4608360"/>
              <a:ext cx="1440" cy="349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4" name=""/>
            <p:cNvSpPr/>
            <p:nvPr/>
          </p:nvSpPr>
          <p:spPr>
            <a:xfrm>
              <a:off x="2563920" y="4678200"/>
              <a:ext cx="9360" cy="33480"/>
            </a:xfrm>
            <a:custGeom>
              <a:avLst/>
              <a:gdLst/>
              <a:ahLst/>
              <a:rect l="l" t="t" r="r" b="b"/>
              <a:pathLst>
                <a:path w="6" h="21">
                  <a:moveTo>
                    <a:pt x="0" y="0"/>
                  </a:moveTo>
                  <a:lnTo>
                    <a:pt x="0" y="16"/>
                  </a:lnTo>
                  <a:lnTo>
                    <a:pt x="6" y="21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5" name=""/>
            <p:cNvSpPr/>
            <p:nvPr/>
          </p:nvSpPr>
          <p:spPr>
            <a:xfrm>
              <a:off x="2598840" y="4738680"/>
              <a:ext cx="34920" cy="79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6" name=""/>
            <p:cNvSpPr/>
            <p:nvPr/>
          </p:nvSpPr>
          <p:spPr>
            <a:xfrm>
              <a:off x="2658960" y="4756320"/>
              <a:ext cx="27000" cy="7920"/>
            </a:xfrm>
            <a:custGeom>
              <a:avLst/>
              <a:gdLst/>
              <a:ahLst/>
              <a:rect l="l" t="t" r="r" b="b"/>
              <a:pathLst>
                <a:path w="17" h="5">
                  <a:moveTo>
                    <a:pt x="0" y="0"/>
                  </a:moveTo>
                  <a:lnTo>
                    <a:pt x="17" y="0"/>
                  </a:lnTo>
                  <a:lnTo>
                    <a:pt x="17" y="5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7" name=""/>
            <p:cNvSpPr/>
            <p:nvPr/>
          </p:nvSpPr>
          <p:spPr>
            <a:xfrm>
              <a:off x="2685960" y="4799160"/>
              <a:ext cx="7920" cy="349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8" name=""/>
            <p:cNvSpPr/>
            <p:nvPr/>
          </p:nvSpPr>
          <p:spPr>
            <a:xfrm>
              <a:off x="2693880" y="4867200"/>
              <a:ext cx="34920" cy="9720"/>
            </a:xfrm>
            <a:custGeom>
              <a:avLst/>
              <a:gdLst/>
              <a:ahLst/>
              <a:rect l="l" t="t" r="r" b="b"/>
              <a:pathLst>
                <a:path w="22" h="6">
                  <a:moveTo>
                    <a:pt x="0" y="0"/>
                  </a:moveTo>
                  <a:lnTo>
                    <a:pt x="5" y="6"/>
                  </a:lnTo>
                  <a:lnTo>
                    <a:pt x="22" y="6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9" name=""/>
            <p:cNvSpPr/>
            <p:nvPr/>
          </p:nvSpPr>
          <p:spPr>
            <a:xfrm>
              <a:off x="2763720" y="4884840"/>
              <a:ext cx="33480" cy="9360"/>
            </a:xfrm>
            <a:custGeom>
              <a:avLst/>
              <a:gdLst/>
              <a:ahLst/>
              <a:rect l="l" t="t" r="r" b="b"/>
              <a:pathLst>
                <a:path w="21" h="6">
                  <a:moveTo>
                    <a:pt x="0" y="0"/>
                  </a:moveTo>
                  <a:lnTo>
                    <a:pt x="11" y="6"/>
                  </a:lnTo>
                  <a:lnTo>
                    <a:pt x="21" y="6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0" name=""/>
            <p:cNvSpPr/>
            <p:nvPr/>
          </p:nvSpPr>
          <p:spPr>
            <a:xfrm>
              <a:off x="2832120" y="4902120"/>
              <a:ext cx="34920" cy="9720"/>
            </a:xfrm>
            <a:custGeom>
              <a:avLst/>
              <a:gdLst/>
              <a:ahLst/>
              <a:rect l="l" t="t" r="r" b="b"/>
              <a:pathLst>
                <a:path w="22" h="6">
                  <a:moveTo>
                    <a:pt x="0" y="0"/>
                  </a:moveTo>
                  <a:lnTo>
                    <a:pt x="22" y="6"/>
                  </a:lnTo>
                  <a:lnTo>
                    <a:pt x="22" y="6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1" name=""/>
            <p:cNvSpPr/>
            <p:nvPr/>
          </p:nvSpPr>
          <p:spPr>
            <a:xfrm>
              <a:off x="2901960" y="4919760"/>
              <a:ext cx="3492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2" name=""/>
            <p:cNvSpPr/>
            <p:nvPr/>
          </p:nvSpPr>
          <p:spPr>
            <a:xfrm>
              <a:off x="2970360" y="4929120"/>
              <a:ext cx="34920" cy="7920"/>
            </a:xfrm>
            <a:custGeom>
              <a:avLst/>
              <a:gdLst/>
              <a:ahLst/>
              <a:rect l="l" t="t" r="r" b="b"/>
              <a:pathLst>
                <a:path w="22" h="5">
                  <a:moveTo>
                    <a:pt x="0" y="0"/>
                  </a:moveTo>
                  <a:lnTo>
                    <a:pt x="22" y="5"/>
                  </a:lnTo>
                  <a:lnTo>
                    <a:pt x="22" y="5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3" name=""/>
            <p:cNvSpPr/>
            <p:nvPr/>
          </p:nvSpPr>
          <p:spPr>
            <a:xfrm>
              <a:off x="3040200" y="4944960"/>
              <a:ext cx="34920" cy="18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4" name=""/>
            <p:cNvSpPr/>
            <p:nvPr/>
          </p:nvSpPr>
          <p:spPr>
            <a:xfrm>
              <a:off x="3110040" y="4954680"/>
              <a:ext cx="34920" cy="7920"/>
            </a:xfrm>
            <a:custGeom>
              <a:avLst/>
              <a:gdLst/>
              <a:ahLst/>
              <a:rect l="l" t="t" r="r" b="b"/>
              <a:pathLst>
                <a:path w="22" h="5">
                  <a:moveTo>
                    <a:pt x="0" y="0"/>
                  </a:moveTo>
                  <a:lnTo>
                    <a:pt x="22" y="5"/>
                  </a:lnTo>
                  <a:lnTo>
                    <a:pt x="22" y="5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5" name=""/>
            <p:cNvSpPr/>
            <p:nvPr/>
          </p:nvSpPr>
          <p:spPr>
            <a:xfrm>
              <a:off x="3178080" y="4944960"/>
              <a:ext cx="34920" cy="9720"/>
            </a:xfrm>
            <a:custGeom>
              <a:avLst/>
              <a:gdLst/>
              <a:ahLst/>
              <a:rect l="l" t="t" r="r" b="b"/>
              <a:pathLst>
                <a:path w="22" h="6">
                  <a:moveTo>
                    <a:pt x="0" y="0"/>
                  </a:moveTo>
                  <a:lnTo>
                    <a:pt x="6" y="0"/>
                  </a:lnTo>
                  <a:lnTo>
                    <a:pt x="17" y="6"/>
                  </a:lnTo>
                  <a:lnTo>
                    <a:pt x="22" y="6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6" name=""/>
            <p:cNvSpPr/>
            <p:nvPr/>
          </p:nvSpPr>
          <p:spPr>
            <a:xfrm>
              <a:off x="3240000" y="4971960"/>
              <a:ext cx="33480" cy="176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7" name=""/>
            <p:cNvSpPr/>
            <p:nvPr/>
          </p:nvSpPr>
          <p:spPr>
            <a:xfrm>
              <a:off x="3308400" y="5006880"/>
              <a:ext cx="25200" cy="79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8" name=""/>
            <p:cNvSpPr/>
            <p:nvPr/>
          </p:nvSpPr>
          <p:spPr>
            <a:xfrm flipH="1">
              <a:off x="3343320" y="5049720"/>
              <a:ext cx="7920" cy="349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9" name=""/>
            <p:cNvSpPr/>
            <p:nvPr/>
          </p:nvSpPr>
          <p:spPr>
            <a:xfrm flipH="1">
              <a:off x="3333240" y="5118120"/>
              <a:ext cx="9720" cy="349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0" name=""/>
            <p:cNvSpPr/>
            <p:nvPr/>
          </p:nvSpPr>
          <p:spPr>
            <a:xfrm>
              <a:off x="3325680" y="5187960"/>
              <a:ext cx="7920" cy="34920"/>
            </a:xfrm>
            <a:custGeom>
              <a:avLst/>
              <a:gdLst/>
              <a:ahLst/>
              <a:rect l="l" t="t" r="r" b="b"/>
              <a:pathLst>
                <a:path w="5" h="22">
                  <a:moveTo>
                    <a:pt x="5" y="0"/>
                  </a:moveTo>
                  <a:lnTo>
                    <a:pt x="0" y="16"/>
                  </a:lnTo>
                  <a:lnTo>
                    <a:pt x="0" y="22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1" name=""/>
            <p:cNvSpPr/>
            <p:nvPr/>
          </p:nvSpPr>
          <p:spPr>
            <a:xfrm>
              <a:off x="3317760" y="5257800"/>
              <a:ext cx="1800" cy="33480"/>
            </a:xfrm>
            <a:custGeom>
              <a:avLst/>
              <a:gdLst/>
              <a:ahLst/>
              <a:rect l="l" t="t" r="r" b="b"/>
              <a:pathLst>
                <a:path w="0" h="21">
                  <a:moveTo>
                    <a:pt x="0" y="0"/>
                  </a:moveTo>
                  <a:lnTo>
                    <a:pt x="0" y="16"/>
                  </a:lnTo>
                  <a:lnTo>
                    <a:pt x="0" y="21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2" name=""/>
            <p:cNvSpPr/>
            <p:nvPr/>
          </p:nvSpPr>
          <p:spPr>
            <a:xfrm>
              <a:off x="3290760" y="5318280"/>
              <a:ext cx="9720" cy="34920"/>
            </a:xfrm>
            <a:custGeom>
              <a:avLst/>
              <a:gdLst/>
              <a:ahLst/>
              <a:rect l="l" t="t" r="r" b="b"/>
              <a:pathLst>
                <a:path w="6" h="22">
                  <a:moveTo>
                    <a:pt x="6" y="0"/>
                  </a:moveTo>
                  <a:lnTo>
                    <a:pt x="6" y="11"/>
                  </a:lnTo>
                  <a:lnTo>
                    <a:pt x="0" y="22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3" name=""/>
            <p:cNvSpPr/>
            <p:nvPr/>
          </p:nvSpPr>
          <p:spPr>
            <a:xfrm>
              <a:off x="3282840" y="5386320"/>
              <a:ext cx="1800" cy="34920"/>
            </a:xfrm>
            <a:custGeom>
              <a:avLst/>
              <a:gdLst/>
              <a:ahLst/>
              <a:rect l="l" t="t" r="r" b="b"/>
              <a:pathLst>
                <a:path w="0" h="22">
                  <a:moveTo>
                    <a:pt x="0" y="0"/>
                  </a:moveTo>
                  <a:lnTo>
                    <a:pt x="0" y="17"/>
                  </a:lnTo>
                  <a:lnTo>
                    <a:pt x="0" y="22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4" name=""/>
            <p:cNvSpPr/>
            <p:nvPr/>
          </p:nvSpPr>
          <p:spPr>
            <a:xfrm>
              <a:off x="3273480" y="5456160"/>
              <a:ext cx="1440" cy="428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5" name=""/>
            <p:cNvSpPr/>
            <p:nvPr/>
          </p:nvSpPr>
          <p:spPr>
            <a:xfrm>
              <a:off x="3265560" y="5533920"/>
              <a:ext cx="1440" cy="349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6" name=""/>
            <p:cNvSpPr/>
            <p:nvPr/>
          </p:nvSpPr>
          <p:spPr>
            <a:xfrm>
              <a:off x="3255840" y="5603760"/>
              <a:ext cx="1800" cy="349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7" name=""/>
            <p:cNvSpPr/>
            <p:nvPr/>
          </p:nvSpPr>
          <p:spPr>
            <a:xfrm flipH="1">
              <a:off x="3247920" y="5672160"/>
              <a:ext cx="7920" cy="349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8" name=""/>
            <p:cNvSpPr/>
            <p:nvPr/>
          </p:nvSpPr>
          <p:spPr>
            <a:xfrm flipH="1">
              <a:off x="6346440" y="5629320"/>
              <a:ext cx="3492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9" name=""/>
            <p:cNvSpPr/>
            <p:nvPr/>
          </p:nvSpPr>
          <p:spPr>
            <a:xfrm flipH="1">
              <a:off x="6276600" y="5629320"/>
              <a:ext cx="3492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0" name=""/>
            <p:cNvSpPr/>
            <p:nvPr/>
          </p:nvSpPr>
          <p:spPr>
            <a:xfrm flipH="1">
              <a:off x="6208200" y="5638680"/>
              <a:ext cx="33480" cy="18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1" name=""/>
            <p:cNvSpPr/>
            <p:nvPr/>
          </p:nvSpPr>
          <p:spPr>
            <a:xfrm flipH="1">
              <a:off x="6138360" y="5638680"/>
              <a:ext cx="34920" cy="18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2" name=""/>
            <p:cNvSpPr/>
            <p:nvPr/>
          </p:nvSpPr>
          <p:spPr>
            <a:xfrm flipH="1">
              <a:off x="6068520" y="5638680"/>
              <a:ext cx="34920" cy="79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3" name=""/>
            <p:cNvSpPr/>
            <p:nvPr/>
          </p:nvSpPr>
          <p:spPr>
            <a:xfrm flipH="1">
              <a:off x="6000480" y="5646600"/>
              <a:ext cx="34920" cy="18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4" name=""/>
            <p:cNvSpPr/>
            <p:nvPr/>
          </p:nvSpPr>
          <p:spPr>
            <a:xfrm flipH="1">
              <a:off x="5930640" y="5646600"/>
              <a:ext cx="34920" cy="18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5" name=""/>
            <p:cNvSpPr/>
            <p:nvPr/>
          </p:nvSpPr>
          <p:spPr>
            <a:xfrm flipH="1">
              <a:off x="5852880" y="5654520"/>
              <a:ext cx="34920" cy="18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6" name=""/>
            <p:cNvSpPr/>
            <p:nvPr/>
          </p:nvSpPr>
          <p:spPr>
            <a:xfrm flipH="1">
              <a:off x="5783040" y="5654520"/>
              <a:ext cx="34920" cy="18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7" name=""/>
            <p:cNvSpPr/>
            <p:nvPr/>
          </p:nvSpPr>
          <p:spPr>
            <a:xfrm flipH="1">
              <a:off x="5714640" y="5654520"/>
              <a:ext cx="34920" cy="9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8" name=""/>
            <p:cNvSpPr/>
            <p:nvPr/>
          </p:nvSpPr>
          <p:spPr>
            <a:xfrm flipH="1">
              <a:off x="5644800" y="5664240"/>
              <a:ext cx="3492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9" name=""/>
            <p:cNvSpPr/>
            <p:nvPr/>
          </p:nvSpPr>
          <p:spPr>
            <a:xfrm flipH="1">
              <a:off x="5576400" y="5664240"/>
              <a:ext cx="3348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0" name=""/>
            <p:cNvSpPr/>
            <p:nvPr/>
          </p:nvSpPr>
          <p:spPr>
            <a:xfrm flipH="1">
              <a:off x="5506560" y="5672160"/>
              <a:ext cx="3492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1" name=""/>
            <p:cNvSpPr/>
            <p:nvPr/>
          </p:nvSpPr>
          <p:spPr>
            <a:xfrm flipH="1">
              <a:off x="5436720" y="5672160"/>
              <a:ext cx="3492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2" name=""/>
            <p:cNvSpPr/>
            <p:nvPr/>
          </p:nvSpPr>
          <p:spPr>
            <a:xfrm flipH="1">
              <a:off x="5359320" y="5672160"/>
              <a:ext cx="4464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3" name=""/>
            <p:cNvSpPr/>
            <p:nvPr/>
          </p:nvSpPr>
          <p:spPr>
            <a:xfrm flipH="1">
              <a:off x="5290920" y="5672160"/>
              <a:ext cx="3492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4" name=""/>
            <p:cNvSpPr/>
            <p:nvPr/>
          </p:nvSpPr>
          <p:spPr>
            <a:xfrm flipH="1">
              <a:off x="5221080" y="5681520"/>
              <a:ext cx="34920" cy="18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5" name=""/>
            <p:cNvSpPr/>
            <p:nvPr/>
          </p:nvSpPr>
          <p:spPr>
            <a:xfrm flipH="1">
              <a:off x="5151240" y="5681520"/>
              <a:ext cx="34920" cy="18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6" name=""/>
            <p:cNvSpPr/>
            <p:nvPr/>
          </p:nvSpPr>
          <p:spPr>
            <a:xfrm flipH="1">
              <a:off x="5082840" y="5681520"/>
              <a:ext cx="34920" cy="18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7" name=""/>
            <p:cNvSpPr/>
            <p:nvPr/>
          </p:nvSpPr>
          <p:spPr>
            <a:xfrm flipH="1">
              <a:off x="5013000" y="5681520"/>
              <a:ext cx="34920" cy="18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8" name=""/>
            <p:cNvSpPr/>
            <p:nvPr/>
          </p:nvSpPr>
          <p:spPr>
            <a:xfrm flipH="1">
              <a:off x="4944600" y="5689440"/>
              <a:ext cx="33480" cy="18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9" name=""/>
            <p:cNvSpPr/>
            <p:nvPr/>
          </p:nvSpPr>
          <p:spPr>
            <a:xfrm flipH="1">
              <a:off x="4866840" y="5689440"/>
              <a:ext cx="42840" cy="18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0" name=""/>
            <p:cNvSpPr/>
            <p:nvPr/>
          </p:nvSpPr>
          <p:spPr>
            <a:xfrm flipH="1">
              <a:off x="4797000" y="5689440"/>
              <a:ext cx="34920" cy="18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1" name=""/>
            <p:cNvSpPr/>
            <p:nvPr/>
          </p:nvSpPr>
          <p:spPr>
            <a:xfrm flipH="1">
              <a:off x="4727160" y="5689440"/>
              <a:ext cx="34920" cy="9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2" name=""/>
            <p:cNvSpPr/>
            <p:nvPr/>
          </p:nvSpPr>
          <p:spPr>
            <a:xfrm flipH="1">
              <a:off x="4659480" y="5699160"/>
              <a:ext cx="3312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3" name=""/>
            <p:cNvSpPr/>
            <p:nvPr/>
          </p:nvSpPr>
          <p:spPr>
            <a:xfrm flipH="1">
              <a:off x="4589280" y="5699160"/>
              <a:ext cx="3492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4" name=""/>
            <p:cNvSpPr/>
            <p:nvPr/>
          </p:nvSpPr>
          <p:spPr>
            <a:xfrm flipH="1">
              <a:off x="4519080" y="5699160"/>
              <a:ext cx="3492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5" name=""/>
            <p:cNvSpPr/>
            <p:nvPr/>
          </p:nvSpPr>
          <p:spPr>
            <a:xfrm flipH="1">
              <a:off x="4451040" y="5699160"/>
              <a:ext cx="34920" cy="79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6" name=""/>
            <p:cNvSpPr/>
            <p:nvPr/>
          </p:nvSpPr>
          <p:spPr>
            <a:xfrm flipH="1">
              <a:off x="4373280" y="5707080"/>
              <a:ext cx="4284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7" name=""/>
            <p:cNvSpPr/>
            <p:nvPr/>
          </p:nvSpPr>
          <p:spPr>
            <a:xfrm flipH="1">
              <a:off x="4303440" y="5707080"/>
              <a:ext cx="3492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8" name=""/>
            <p:cNvSpPr/>
            <p:nvPr/>
          </p:nvSpPr>
          <p:spPr>
            <a:xfrm flipH="1">
              <a:off x="4235040" y="5707080"/>
              <a:ext cx="3348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9" name=""/>
            <p:cNvSpPr/>
            <p:nvPr/>
          </p:nvSpPr>
          <p:spPr>
            <a:xfrm flipH="1">
              <a:off x="4165200" y="5707080"/>
              <a:ext cx="3492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0" name=""/>
            <p:cNvSpPr/>
            <p:nvPr/>
          </p:nvSpPr>
          <p:spPr>
            <a:xfrm flipH="1">
              <a:off x="4095360" y="5707080"/>
              <a:ext cx="3492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1" name=""/>
            <p:cNvSpPr/>
            <p:nvPr/>
          </p:nvSpPr>
          <p:spPr>
            <a:xfrm flipH="1">
              <a:off x="4026960" y="5707080"/>
              <a:ext cx="3348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2" name=""/>
            <p:cNvSpPr/>
            <p:nvPr/>
          </p:nvSpPr>
          <p:spPr>
            <a:xfrm flipH="1">
              <a:off x="3957120" y="5707080"/>
              <a:ext cx="3492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3" name=""/>
            <p:cNvSpPr/>
            <p:nvPr/>
          </p:nvSpPr>
          <p:spPr>
            <a:xfrm>
              <a:off x="3879720" y="5707080"/>
              <a:ext cx="42840" cy="1440"/>
            </a:xfrm>
            <a:custGeom>
              <a:avLst/>
              <a:gdLst/>
              <a:ahLst/>
              <a:rect l="l" t="t" r="r" b="b"/>
              <a:pathLst>
                <a:path w="27" h="0">
                  <a:moveTo>
                    <a:pt x="27" y="0"/>
                  </a:moveTo>
                  <a:lnTo>
                    <a:pt x="5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4" name=""/>
            <p:cNvSpPr/>
            <p:nvPr/>
          </p:nvSpPr>
          <p:spPr>
            <a:xfrm flipH="1">
              <a:off x="3809520" y="5707080"/>
              <a:ext cx="3492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5" name=""/>
            <p:cNvSpPr/>
            <p:nvPr/>
          </p:nvSpPr>
          <p:spPr>
            <a:xfrm flipH="1">
              <a:off x="3741480" y="5707080"/>
              <a:ext cx="3492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6" name=""/>
            <p:cNvSpPr/>
            <p:nvPr/>
          </p:nvSpPr>
          <p:spPr>
            <a:xfrm flipH="1">
              <a:off x="3671640" y="5707080"/>
              <a:ext cx="3492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7" name=""/>
            <p:cNvSpPr/>
            <p:nvPr/>
          </p:nvSpPr>
          <p:spPr>
            <a:xfrm flipH="1">
              <a:off x="3601800" y="5707080"/>
              <a:ext cx="3492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8" name=""/>
            <p:cNvSpPr/>
            <p:nvPr/>
          </p:nvSpPr>
          <p:spPr>
            <a:xfrm flipH="1">
              <a:off x="3533400" y="5707080"/>
              <a:ext cx="3492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9" name=""/>
            <p:cNvSpPr/>
            <p:nvPr/>
          </p:nvSpPr>
          <p:spPr>
            <a:xfrm flipH="1">
              <a:off x="3463560" y="5707080"/>
              <a:ext cx="3492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0" name=""/>
            <p:cNvSpPr/>
            <p:nvPr/>
          </p:nvSpPr>
          <p:spPr>
            <a:xfrm flipH="1">
              <a:off x="3385800" y="5707080"/>
              <a:ext cx="3492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1" name=""/>
            <p:cNvSpPr/>
            <p:nvPr/>
          </p:nvSpPr>
          <p:spPr>
            <a:xfrm flipH="1">
              <a:off x="3317400" y="5707080"/>
              <a:ext cx="3348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2" name=""/>
            <p:cNvSpPr/>
            <p:nvPr/>
          </p:nvSpPr>
          <p:spPr>
            <a:xfrm flipH="1">
              <a:off x="3247560" y="5716440"/>
              <a:ext cx="34920" cy="18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3" name=""/>
            <p:cNvSpPr/>
            <p:nvPr/>
          </p:nvSpPr>
          <p:spPr>
            <a:xfrm flipH="1">
              <a:off x="3177720" y="5716440"/>
              <a:ext cx="34920" cy="18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4" name=""/>
            <p:cNvSpPr/>
            <p:nvPr/>
          </p:nvSpPr>
          <p:spPr>
            <a:xfrm flipH="1">
              <a:off x="3109680" y="5716440"/>
              <a:ext cx="34920" cy="18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5" name=""/>
            <p:cNvSpPr/>
            <p:nvPr/>
          </p:nvSpPr>
          <p:spPr>
            <a:xfrm flipH="1">
              <a:off x="3039840" y="5716440"/>
              <a:ext cx="34920" cy="18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6" name=""/>
            <p:cNvSpPr/>
            <p:nvPr/>
          </p:nvSpPr>
          <p:spPr>
            <a:xfrm>
              <a:off x="2970360" y="5716440"/>
              <a:ext cx="34920" cy="1800"/>
            </a:xfrm>
            <a:custGeom>
              <a:avLst/>
              <a:gdLst/>
              <a:ahLst/>
              <a:rect l="l" t="t" r="r" b="b"/>
              <a:pathLst>
                <a:path w="22" h="0">
                  <a:moveTo>
                    <a:pt x="22" y="0"/>
                  </a:moveTo>
                  <a:lnTo>
                    <a:pt x="17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7" name=""/>
            <p:cNvSpPr/>
            <p:nvPr/>
          </p:nvSpPr>
          <p:spPr>
            <a:xfrm flipH="1">
              <a:off x="2892240" y="5716440"/>
              <a:ext cx="34920" cy="18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8" name=""/>
            <p:cNvSpPr/>
            <p:nvPr/>
          </p:nvSpPr>
          <p:spPr>
            <a:xfrm flipH="1">
              <a:off x="2823840" y="5716440"/>
              <a:ext cx="34920" cy="18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9" name=""/>
            <p:cNvSpPr/>
            <p:nvPr/>
          </p:nvSpPr>
          <p:spPr>
            <a:xfrm flipH="1">
              <a:off x="2754000" y="5716440"/>
              <a:ext cx="34920" cy="18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0" name=""/>
            <p:cNvSpPr/>
            <p:nvPr/>
          </p:nvSpPr>
          <p:spPr>
            <a:xfrm flipH="1">
              <a:off x="2685600" y="5716440"/>
              <a:ext cx="33480" cy="18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1" name=""/>
            <p:cNvSpPr/>
            <p:nvPr/>
          </p:nvSpPr>
          <p:spPr>
            <a:xfrm flipV="1">
              <a:off x="6381720" y="5594040"/>
              <a:ext cx="7920" cy="349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2" name=""/>
            <p:cNvSpPr/>
            <p:nvPr/>
          </p:nvSpPr>
          <p:spPr>
            <a:xfrm>
              <a:off x="6399360" y="5526000"/>
              <a:ext cx="7920" cy="33480"/>
            </a:xfrm>
            <a:custGeom>
              <a:avLst/>
              <a:gdLst/>
              <a:ahLst/>
              <a:rect l="l" t="t" r="r" b="b"/>
              <a:pathLst>
                <a:path w="5" h="21">
                  <a:moveTo>
                    <a:pt x="0" y="21"/>
                  </a:moveTo>
                  <a:lnTo>
                    <a:pt x="0" y="21"/>
                  </a:lnTo>
                  <a:lnTo>
                    <a:pt x="5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3" name=""/>
            <p:cNvSpPr/>
            <p:nvPr/>
          </p:nvSpPr>
          <p:spPr>
            <a:xfrm flipV="1">
              <a:off x="6415200" y="5455800"/>
              <a:ext cx="9360" cy="349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4" name=""/>
            <p:cNvSpPr/>
            <p:nvPr/>
          </p:nvSpPr>
          <p:spPr>
            <a:xfrm>
              <a:off x="6424560" y="5386320"/>
              <a:ext cx="7920" cy="34920"/>
            </a:xfrm>
            <a:custGeom>
              <a:avLst/>
              <a:gdLst/>
              <a:ahLst/>
              <a:rect l="l" t="t" r="r" b="b"/>
              <a:pathLst>
                <a:path w="5" h="22">
                  <a:moveTo>
                    <a:pt x="5" y="22"/>
                  </a:moveTo>
                  <a:lnTo>
                    <a:pt x="0" y="22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5" name=""/>
            <p:cNvSpPr/>
            <p:nvPr/>
          </p:nvSpPr>
          <p:spPr>
            <a:xfrm>
              <a:off x="6372360" y="5335560"/>
              <a:ext cx="27000" cy="2556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17" y="16"/>
                  </a:moveTo>
                  <a:lnTo>
                    <a:pt x="11" y="11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6" name=""/>
            <p:cNvSpPr/>
            <p:nvPr/>
          </p:nvSpPr>
          <p:spPr>
            <a:xfrm>
              <a:off x="6337440" y="5283360"/>
              <a:ext cx="17280" cy="25200"/>
            </a:xfrm>
            <a:custGeom>
              <a:avLst/>
              <a:gdLst/>
              <a:ahLst/>
              <a:rect l="l" t="t" r="r" b="b"/>
              <a:pathLst>
                <a:path w="11" h="16">
                  <a:moveTo>
                    <a:pt x="11" y="16"/>
                  </a:moveTo>
                  <a:lnTo>
                    <a:pt x="6" y="5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7" name=""/>
            <p:cNvSpPr/>
            <p:nvPr/>
          </p:nvSpPr>
          <p:spPr>
            <a:xfrm>
              <a:off x="6294600" y="5222880"/>
              <a:ext cx="17280" cy="25560"/>
            </a:xfrm>
            <a:custGeom>
              <a:avLst/>
              <a:gdLst/>
              <a:ahLst/>
              <a:rect l="l" t="t" r="r" b="b"/>
              <a:pathLst>
                <a:path w="11" h="16">
                  <a:moveTo>
                    <a:pt x="11" y="16"/>
                  </a:moveTo>
                  <a:lnTo>
                    <a:pt x="11" y="11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8" name=""/>
            <p:cNvSpPr/>
            <p:nvPr/>
          </p:nvSpPr>
          <p:spPr>
            <a:xfrm flipV="1">
              <a:off x="6311880" y="5204880"/>
              <a:ext cx="9720" cy="349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9" name=""/>
            <p:cNvSpPr/>
            <p:nvPr/>
          </p:nvSpPr>
          <p:spPr>
            <a:xfrm>
              <a:off x="6321600" y="5135400"/>
              <a:ext cx="7920" cy="34920"/>
            </a:xfrm>
            <a:custGeom>
              <a:avLst/>
              <a:gdLst/>
              <a:ahLst/>
              <a:rect l="l" t="t" r="r" b="b"/>
              <a:pathLst>
                <a:path w="5" h="22">
                  <a:moveTo>
                    <a:pt x="0" y="22"/>
                  </a:moveTo>
                  <a:lnTo>
                    <a:pt x="5" y="6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0" name=""/>
            <p:cNvSpPr/>
            <p:nvPr/>
          </p:nvSpPr>
          <p:spPr>
            <a:xfrm>
              <a:off x="6303960" y="5075280"/>
              <a:ext cx="7920" cy="27000"/>
            </a:xfrm>
            <a:custGeom>
              <a:avLst/>
              <a:gdLst/>
              <a:ahLst/>
              <a:rect l="l" t="t" r="r" b="b"/>
              <a:pathLst>
                <a:path w="5" h="17">
                  <a:moveTo>
                    <a:pt x="5" y="17"/>
                  </a:moveTo>
                  <a:lnTo>
                    <a:pt x="5" y="17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1" name=""/>
            <p:cNvSpPr/>
            <p:nvPr/>
          </p:nvSpPr>
          <p:spPr>
            <a:xfrm>
              <a:off x="6259680" y="5014800"/>
              <a:ext cx="17280" cy="25560"/>
            </a:xfrm>
            <a:custGeom>
              <a:avLst/>
              <a:gdLst/>
              <a:ahLst/>
              <a:rect l="l" t="t" r="r" b="b"/>
              <a:pathLst>
                <a:path w="11" h="16">
                  <a:moveTo>
                    <a:pt x="11" y="16"/>
                  </a:moveTo>
                  <a:lnTo>
                    <a:pt x="6" y="11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2" name=""/>
            <p:cNvSpPr/>
            <p:nvPr/>
          </p:nvSpPr>
          <p:spPr>
            <a:xfrm>
              <a:off x="6242040" y="4944960"/>
              <a:ext cx="9360" cy="34920"/>
            </a:xfrm>
            <a:custGeom>
              <a:avLst/>
              <a:gdLst/>
              <a:ahLst/>
              <a:rect l="l" t="t" r="r" b="b"/>
              <a:pathLst>
                <a:path w="6" h="22">
                  <a:moveTo>
                    <a:pt x="6" y="22"/>
                  </a:moveTo>
                  <a:lnTo>
                    <a:pt x="0" y="6"/>
                  </a:lnTo>
                  <a:lnTo>
                    <a:pt x="6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3" name=""/>
            <p:cNvSpPr/>
            <p:nvPr/>
          </p:nvSpPr>
          <p:spPr>
            <a:xfrm>
              <a:off x="6251400" y="4876920"/>
              <a:ext cx="1800" cy="34920"/>
            </a:xfrm>
            <a:custGeom>
              <a:avLst/>
              <a:gdLst/>
              <a:ahLst/>
              <a:rect l="l" t="t" r="r" b="b"/>
              <a:pathLst>
                <a:path w="0" h="22">
                  <a:moveTo>
                    <a:pt x="0" y="22"/>
                  </a:moveTo>
                  <a:lnTo>
                    <a:pt x="0" y="22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4" name=""/>
            <p:cNvSpPr/>
            <p:nvPr/>
          </p:nvSpPr>
          <p:spPr>
            <a:xfrm>
              <a:off x="6242040" y="4807080"/>
              <a:ext cx="1440" cy="34920"/>
            </a:xfrm>
            <a:custGeom>
              <a:avLst/>
              <a:gdLst/>
              <a:ahLst/>
              <a:rect l="l" t="t" r="r" b="b"/>
              <a:pathLst>
                <a:path w="0" h="22">
                  <a:moveTo>
                    <a:pt x="0" y="22"/>
                  </a:moveTo>
                  <a:lnTo>
                    <a:pt x="0" y="17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5" name=""/>
            <p:cNvSpPr/>
            <p:nvPr/>
          </p:nvSpPr>
          <p:spPr>
            <a:xfrm>
              <a:off x="6242040" y="4738680"/>
              <a:ext cx="9360" cy="33480"/>
            </a:xfrm>
            <a:custGeom>
              <a:avLst/>
              <a:gdLst/>
              <a:ahLst/>
              <a:rect l="l" t="t" r="r" b="b"/>
              <a:pathLst>
                <a:path w="6" h="21">
                  <a:moveTo>
                    <a:pt x="0" y="21"/>
                  </a:moveTo>
                  <a:lnTo>
                    <a:pt x="0" y="5"/>
                  </a:lnTo>
                  <a:lnTo>
                    <a:pt x="6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6" name=""/>
            <p:cNvSpPr/>
            <p:nvPr/>
          </p:nvSpPr>
          <p:spPr>
            <a:xfrm>
              <a:off x="6269040" y="4678200"/>
              <a:ext cx="7920" cy="25560"/>
            </a:xfrm>
            <a:custGeom>
              <a:avLst/>
              <a:gdLst/>
              <a:ahLst/>
              <a:rect l="l" t="t" r="r" b="b"/>
              <a:pathLst>
                <a:path w="5" h="16">
                  <a:moveTo>
                    <a:pt x="0" y="16"/>
                  </a:moveTo>
                  <a:lnTo>
                    <a:pt x="0" y="16"/>
                  </a:lnTo>
                  <a:lnTo>
                    <a:pt x="5" y="5"/>
                  </a:lnTo>
                  <a:lnTo>
                    <a:pt x="5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7" name=""/>
            <p:cNvSpPr/>
            <p:nvPr/>
          </p:nvSpPr>
          <p:spPr>
            <a:xfrm>
              <a:off x="6294600" y="4608360"/>
              <a:ext cx="17280" cy="34920"/>
            </a:xfrm>
            <a:custGeom>
              <a:avLst/>
              <a:gdLst/>
              <a:ahLst/>
              <a:rect l="l" t="t" r="r" b="b"/>
              <a:pathLst>
                <a:path w="11" h="22">
                  <a:moveTo>
                    <a:pt x="0" y="22"/>
                  </a:moveTo>
                  <a:lnTo>
                    <a:pt x="0" y="16"/>
                  </a:lnTo>
                  <a:lnTo>
                    <a:pt x="11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8" name=""/>
            <p:cNvSpPr/>
            <p:nvPr/>
          </p:nvSpPr>
          <p:spPr>
            <a:xfrm>
              <a:off x="6311880" y="4548240"/>
              <a:ext cx="9720" cy="25200"/>
            </a:xfrm>
            <a:custGeom>
              <a:avLst/>
              <a:gdLst/>
              <a:ahLst/>
              <a:rect l="l" t="t" r="r" b="b"/>
              <a:pathLst>
                <a:path w="6" h="16">
                  <a:moveTo>
                    <a:pt x="6" y="16"/>
                  </a:moveTo>
                  <a:lnTo>
                    <a:pt x="6" y="16"/>
                  </a:lnTo>
                  <a:lnTo>
                    <a:pt x="0" y="5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9" name=""/>
            <p:cNvSpPr/>
            <p:nvPr/>
          </p:nvSpPr>
          <p:spPr>
            <a:xfrm>
              <a:off x="6329520" y="4513320"/>
              <a:ext cx="34920" cy="1440"/>
            </a:xfrm>
            <a:custGeom>
              <a:avLst/>
              <a:gdLst/>
              <a:ahLst/>
              <a:rect l="l" t="t" r="r" b="b"/>
              <a:pathLst>
                <a:path w="22" h="0">
                  <a:moveTo>
                    <a:pt x="0" y="0"/>
                  </a:moveTo>
                  <a:lnTo>
                    <a:pt x="5" y="0"/>
                  </a:lnTo>
                  <a:lnTo>
                    <a:pt x="22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00" name=""/>
          <p:cNvGrpSpPr/>
          <p:nvPr/>
        </p:nvGrpSpPr>
        <p:grpSpPr>
          <a:xfrm>
            <a:off x="2719080" y="2444760"/>
            <a:ext cx="4034160" cy="3271320"/>
            <a:chOff x="2719080" y="2444760"/>
            <a:chExt cx="4034160" cy="3271320"/>
          </a:xfrm>
        </p:grpSpPr>
        <p:sp>
          <p:nvSpPr>
            <p:cNvPr id="8001" name=""/>
            <p:cNvSpPr/>
            <p:nvPr/>
          </p:nvSpPr>
          <p:spPr>
            <a:xfrm>
              <a:off x="6399360" y="4495680"/>
              <a:ext cx="33120" cy="9720"/>
            </a:xfrm>
            <a:custGeom>
              <a:avLst/>
              <a:gdLst/>
              <a:ahLst/>
              <a:rect l="l" t="t" r="r" b="b"/>
              <a:pathLst>
                <a:path w="21" h="6">
                  <a:moveTo>
                    <a:pt x="0" y="6"/>
                  </a:moveTo>
                  <a:lnTo>
                    <a:pt x="10" y="6"/>
                  </a:lnTo>
                  <a:lnTo>
                    <a:pt x="21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2" name=""/>
            <p:cNvSpPr/>
            <p:nvPr/>
          </p:nvSpPr>
          <p:spPr>
            <a:xfrm flipV="1">
              <a:off x="6467400" y="4470480"/>
              <a:ext cx="34920" cy="172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3" name=""/>
            <p:cNvSpPr/>
            <p:nvPr/>
          </p:nvSpPr>
          <p:spPr>
            <a:xfrm>
              <a:off x="6537240" y="4435560"/>
              <a:ext cx="25560" cy="17280"/>
            </a:xfrm>
            <a:custGeom>
              <a:avLst/>
              <a:gdLst/>
              <a:ahLst/>
              <a:rect l="l" t="t" r="r" b="b"/>
              <a:pathLst>
                <a:path w="16" h="11">
                  <a:moveTo>
                    <a:pt x="0" y="11"/>
                  </a:moveTo>
                  <a:lnTo>
                    <a:pt x="5" y="5"/>
                  </a:lnTo>
                  <a:lnTo>
                    <a:pt x="16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4" name=""/>
            <p:cNvSpPr/>
            <p:nvPr/>
          </p:nvSpPr>
          <p:spPr>
            <a:xfrm>
              <a:off x="6589800" y="4392720"/>
              <a:ext cx="33120" cy="2520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0" y="16"/>
                  </a:moveTo>
                  <a:lnTo>
                    <a:pt x="0" y="16"/>
                  </a:lnTo>
                  <a:lnTo>
                    <a:pt x="21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5" name=""/>
            <p:cNvSpPr/>
            <p:nvPr/>
          </p:nvSpPr>
          <p:spPr>
            <a:xfrm>
              <a:off x="6649920" y="4348080"/>
              <a:ext cx="25560" cy="2700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0" y="17"/>
                  </a:moveTo>
                  <a:lnTo>
                    <a:pt x="11" y="0"/>
                  </a:lnTo>
                  <a:lnTo>
                    <a:pt x="16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6" name=""/>
            <p:cNvSpPr/>
            <p:nvPr/>
          </p:nvSpPr>
          <p:spPr>
            <a:xfrm>
              <a:off x="6700680" y="4322880"/>
              <a:ext cx="180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7" name=""/>
            <p:cNvSpPr/>
            <p:nvPr/>
          </p:nvSpPr>
          <p:spPr>
            <a:xfrm>
              <a:off x="4910040" y="3535200"/>
              <a:ext cx="233640" cy="243000"/>
            </a:xfrm>
            <a:custGeom>
              <a:avLst/>
              <a:gdLst/>
              <a:ahLst/>
              <a:rect l="l" t="t" r="r" b="b"/>
              <a:pathLst>
                <a:path w="147" h="153">
                  <a:moveTo>
                    <a:pt x="0" y="49"/>
                  </a:moveTo>
                  <a:lnTo>
                    <a:pt x="11" y="120"/>
                  </a:lnTo>
                  <a:lnTo>
                    <a:pt x="43" y="147"/>
                  </a:lnTo>
                  <a:lnTo>
                    <a:pt x="98" y="153"/>
                  </a:lnTo>
                  <a:lnTo>
                    <a:pt x="142" y="115"/>
                  </a:lnTo>
                  <a:lnTo>
                    <a:pt x="147" y="55"/>
                  </a:lnTo>
                  <a:lnTo>
                    <a:pt x="103" y="27"/>
                  </a:lnTo>
                  <a:lnTo>
                    <a:pt x="65" y="0"/>
                  </a:lnTo>
                  <a:lnTo>
                    <a:pt x="38" y="16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8" name=""/>
            <p:cNvSpPr/>
            <p:nvPr/>
          </p:nvSpPr>
          <p:spPr>
            <a:xfrm>
              <a:off x="4710240" y="4202280"/>
              <a:ext cx="34920" cy="79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9" name=""/>
            <p:cNvSpPr/>
            <p:nvPr/>
          </p:nvSpPr>
          <p:spPr>
            <a:xfrm>
              <a:off x="4780080" y="4219560"/>
              <a:ext cx="34920" cy="79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0" name=""/>
            <p:cNvSpPr/>
            <p:nvPr/>
          </p:nvSpPr>
          <p:spPr>
            <a:xfrm>
              <a:off x="4849920" y="4227480"/>
              <a:ext cx="33120" cy="9720"/>
            </a:xfrm>
            <a:custGeom>
              <a:avLst/>
              <a:gdLst/>
              <a:ahLst/>
              <a:rect l="l" t="t" r="r" b="b"/>
              <a:pathLst>
                <a:path w="21" h="6">
                  <a:moveTo>
                    <a:pt x="0" y="0"/>
                  </a:moveTo>
                  <a:lnTo>
                    <a:pt x="21" y="6"/>
                  </a:lnTo>
                  <a:lnTo>
                    <a:pt x="21" y="6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1" name=""/>
            <p:cNvSpPr/>
            <p:nvPr/>
          </p:nvSpPr>
          <p:spPr>
            <a:xfrm flipV="1">
              <a:off x="4892760" y="4167000"/>
              <a:ext cx="1440" cy="349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2" name=""/>
            <p:cNvSpPr/>
            <p:nvPr/>
          </p:nvSpPr>
          <p:spPr>
            <a:xfrm flipV="1">
              <a:off x="4900680" y="4097160"/>
              <a:ext cx="9360" cy="352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3" name=""/>
            <p:cNvSpPr/>
            <p:nvPr/>
          </p:nvSpPr>
          <p:spPr>
            <a:xfrm flipV="1">
              <a:off x="4910040" y="4028760"/>
              <a:ext cx="7920" cy="349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4" name=""/>
            <p:cNvSpPr/>
            <p:nvPr/>
          </p:nvSpPr>
          <p:spPr>
            <a:xfrm>
              <a:off x="4917960" y="3959280"/>
              <a:ext cx="9720" cy="34920"/>
            </a:xfrm>
            <a:custGeom>
              <a:avLst/>
              <a:gdLst/>
              <a:ahLst/>
              <a:rect l="l" t="t" r="r" b="b"/>
              <a:pathLst>
                <a:path w="6" h="22">
                  <a:moveTo>
                    <a:pt x="0" y="22"/>
                  </a:moveTo>
                  <a:lnTo>
                    <a:pt x="6" y="6"/>
                  </a:lnTo>
                  <a:lnTo>
                    <a:pt x="6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5" name=""/>
            <p:cNvSpPr/>
            <p:nvPr/>
          </p:nvSpPr>
          <p:spPr>
            <a:xfrm flipV="1">
              <a:off x="4927680" y="3890520"/>
              <a:ext cx="1440" cy="334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6" name=""/>
            <p:cNvSpPr/>
            <p:nvPr/>
          </p:nvSpPr>
          <p:spPr>
            <a:xfrm>
              <a:off x="4917960" y="3821040"/>
              <a:ext cx="9720" cy="34920"/>
            </a:xfrm>
            <a:custGeom>
              <a:avLst/>
              <a:gdLst/>
              <a:ahLst/>
              <a:rect l="l" t="t" r="r" b="b"/>
              <a:pathLst>
                <a:path w="6" h="22">
                  <a:moveTo>
                    <a:pt x="6" y="22"/>
                  </a:move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7" name=""/>
            <p:cNvSpPr/>
            <p:nvPr/>
          </p:nvSpPr>
          <p:spPr>
            <a:xfrm>
              <a:off x="4935600" y="3795840"/>
              <a:ext cx="27000" cy="7920"/>
            </a:xfrm>
            <a:custGeom>
              <a:avLst/>
              <a:gdLst/>
              <a:ahLst/>
              <a:rect l="l" t="t" r="r" b="b"/>
              <a:pathLst>
                <a:path w="17" h="5">
                  <a:moveTo>
                    <a:pt x="0" y="0"/>
                  </a:moveTo>
                  <a:lnTo>
                    <a:pt x="17" y="5"/>
                  </a:lnTo>
                  <a:lnTo>
                    <a:pt x="17" y="5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8" name=""/>
            <p:cNvSpPr/>
            <p:nvPr/>
          </p:nvSpPr>
          <p:spPr>
            <a:xfrm>
              <a:off x="4995720" y="3811680"/>
              <a:ext cx="3492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9" name=""/>
            <p:cNvSpPr/>
            <p:nvPr/>
          </p:nvSpPr>
          <p:spPr>
            <a:xfrm>
              <a:off x="5065560" y="3821040"/>
              <a:ext cx="34920" cy="79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0" name=""/>
            <p:cNvSpPr/>
            <p:nvPr/>
          </p:nvSpPr>
          <p:spPr>
            <a:xfrm>
              <a:off x="5108400" y="3683160"/>
              <a:ext cx="1644840" cy="657000"/>
            </a:xfrm>
            <a:custGeom>
              <a:avLst/>
              <a:gdLst/>
              <a:ahLst/>
              <a:rect l="l" t="t" r="r" b="b"/>
              <a:pathLst>
                <a:path w="1036" h="414">
                  <a:moveTo>
                    <a:pt x="1036" y="414"/>
                  </a:moveTo>
                  <a:lnTo>
                    <a:pt x="905" y="376"/>
                  </a:lnTo>
                  <a:lnTo>
                    <a:pt x="894" y="370"/>
                  </a:lnTo>
                  <a:lnTo>
                    <a:pt x="889" y="370"/>
                  </a:lnTo>
                  <a:lnTo>
                    <a:pt x="878" y="365"/>
                  </a:lnTo>
                  <a:lnTo>
                    <a:pt x="774" y="338"/>
                  </a:lnTo>
                  <a:lnTo>
                    <a:pt x="573" y="180"/>
                  </a:lnTo>
                  <a:lnTo>
                    <a:pt x="545" y="169"/>
                  </a:lnTo>
                  <a:lnTo>
                    <a:pt x="349" y="125"/>
                  </a:lnTo>
                  <a:lnTo>
                    <a:pt x="284" y="114"/>
                  </a:lnTo>
                  <a:lnTo>
                    <a:pt x="175" y="109"/>
                  </a:lnTo>
                  <a:lnTo>
                    <a:pt x="164" y="109"/>
                  </a:lnTo>
                  <a:lnTo>
                    <a:pt x="0" y="0"/>
                  </a:lnTo>
                </a:path>
              </a:pathLst>
            </a:custGeom>
            <a:noFill/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1" name=""/>
            <p:cNvSpPr/>
            <p:nvPr/>
          </p:nvSpPr>
          <p:spPr>
            <a:xfrm>
              <a:off x="5118120" y="3700440"/>
              <a:ext cx="1440" cy="334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2" name=""/>
            <p:cNvSpPr/>
            <p:nvPr/>
          </p:nvSpPr>
          <p:spPr>
            <a:xfrm>
              <a:off x="5118120" y="3768840"/>
              <a:ext cx="1440" cy="34920"/>
            </a:xfrm>
            <a:custGeom>
              <a:avLst/>
              <a:gdLst/>
              <a:ahLst/>
              <a:rect l="l" t="t" r="r" b="b"/>
              <a:pathLst>
                <a:path w="0" h="22">
                  <a:moveTo>
                    <a:pt x="0" y="0"/>
                  </a:moveTo>
                  <a:lnTo>
                    <a:pt x="0" y="6"/>
                  </a:lnTo>
                  <a:lnTo>
                    <a:pt x="0" y="22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3" name=""/>
            <p:cNvSpPr/>
            <p:nvPr/>
          </p:nvSpPr>
          <p:spPr>
            <a:xfrm>
              <a:off x="5118120" y="3838680"/>
              <a:ext cx="1440" cy="349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4" name=""/>
            <p:cNvSpPr/>
            <p:nvPr/>
          </p:nvSpPr>
          <p:spPr>
            <a:xfrm>
              <a:off x="5118120" y="3906720"/>
              <a:ext cx="1440" cy="349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5" name=""/>
            <p:cNvSpPr/>
            <p:nvPr/>
          </p:nvSpPr>
          <p:spPr>
            <a:xfrm>
              <a:off x="5118120" y="3976560"/>
              <a:ext cx="1440" cy="34920"/>
            </a:xfrm>
            <a:custGeom>
              <a:avLst/>
              <a:gdLst/>
              <a:ahLst/>
              <a:rect l="l" t="t" r="r" b="b"/>
              <a:pathLst>
                <a:path w="0" h="22">
                  <a:moveTo>
                    <a:pt x="0" y="0"/>
                  </a:moveTo>
                  <a:lnTo>
                    <a:pt x="0" y="22"/>
                  </a:lnTo>
                  <a:lnTo>
                    <a:pt x="0" y="22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6" name=""/>
            <p:cNvSpPr/>
            <p:nvPr/>
          </p:nvSpPr>
          <p:spPr>
            <a:xfrm>
              <a:off x="5118120" y="4046400"/>
              <a:ext cx="1440" cy="428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7" name=""/>
            <p:cNvSpPr/>
            <p:nvPr/>
          </p:nvSpPr>
          <p:spPr>
            <a:xfrm>
              <a:off x="5118120" y="4124160"/>
              <a:ext cx="1440" cy="34920"/>
            </a:xfrm>
            <a:custGeom>
              <a:avLst/>
              <a:gdLst/>
              <a:ahLst/>
              <a:rect l="l" t="t" r="r" b="b"/>
              <a:pathLst>
                <a:path w="0" h="22">
                  <a:moveTo>
                    <a:pt x="0" y="0"/>
                  </a:moveTo>
                  <a:lnTo>
                    <a:pt x="0" y="0"/>
                  </a:lnTo>
                  <a:lnTo>
                    <a:pt x="0" y="22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8" name=""/>
            <p:cNvSpPr/>
            <p:nvPr/>
          </p:nvSpPr>
          <p:spPr>
            <a:xfrm>
              <a:off x="5118120" y="4192560"/>
              <a:ext cx="1440" cy="34920"/>
            </a:xfrm>
            <a:custGeom>
              <a:avLst/>
              <a:gdLst/>
              <a:ahLst/>
              <a:rect l="l" t="t" r="r" b="b"/>
              <a:pathLst>
                <a:path w="0" h="22">
                  <a:moveTo>
                    <a:pt x="0" y="0"/>
                  </a:moveTo>
                  <a:lnTo>
                    <a:pt x="0" y="0"/>
                  </a:lnTo>
                  <a:lnTo>
                    <a:pt x="0" y="22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9" name=""/>
            <p:cNvSpPr/>
            <p:nvPr/>
          </p:nvSpPr>
          <p:spPr>
            <a:xfrm>
              <a:off x="5118120" y="4262400"/>
              <a:ext cx="1440" cy="349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0" name=""/>
            <p:cNvSpPr/>
            <p:nvPr/>
          </p:nvSpPr>
          <p:spPr>
            <a:xfrm>
              <a:off x="5118120" y="4332240"/>
              <a:ext cx="1440" cy="334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1" name=""/>
            <p:cNvSpPr/>
            <p:nvPr/>
          </p:nvSpPr>
          <p:spPr>
            <a:xfrm>
              <a:off x="5118120" y="4400640"/>
              <a:ext cx="1440" cy="349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2" name=""/>
            <p:cNvSpPr/>
            <p:nvPr/>
          </p:nvSpPr>
          <p:spPr>
            <a:xfrm>
              <a:off x="5118120" y="4470480"/>
              <a:ext cx="1440" cy="349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3" name=""/>
            <p:cNvSpPr/>
            <p:nvPr/>
          </p:nvSpPr>
          <p:spPr>
            <a:xfrm>
              <a:off x="5118120" y="4548240"/>
              <a:ext cx="1440" cy="34920"/>
            </a:xfrm>
            <a:custGeom>
              <a:avLst/>
              <a:gdLst/>
              <a:ahLst/>
              <a:rect l="l" t="t" r="r" b="b"/>
              <a:pathLst>
                <a:path w="0" h="22">
                  <a:moveTo>
                    <a:pt x="0" y="0"/>
                  </a:moveTo>
                  <a:lnTo>
                    <a:pt x="0" y="11"/>
                  </a:lnTo>
                  <a:lnTo>
                    <a:pt x="0" y="22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4" name=""/>
            <p:cNvSpPr/>
            <p:nvPr/>
          </p:nvSpPr>
          <p:spPr>
            <a:xfrm flipH="1" flipV="1">
              <a:off x="3014640" y="5681160"/>
              <a:ext cx="7920" cy="349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5" name=""/>
            <p:cNvSpPr/>
            <p:nvPr/>
          </p:nvSpPr>
          <p:spPr>
            <a:xfrm flipH="1" flipV="1">
              <a:off x="3005280" y="5611320"/>
              <a:ext cx="9360" cy="349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6" name=""/>
            <p:cNvSpPr/>
            <p:nvPr/>
          </p:nvSpPr>
          <p:spPr>
            <a:xfrm>
              <a:off x="3005280" y="5551560"/>
              <a:ext cx="17280" cy="25200"/>
            </a:xfrm>
            <a:custGeom>
              <a:avLst/>
              <a:gdLst/>
              <a:ahLst/>
              <a:rect l="l" t="t" r="r" b="b"/>
              <a:pathLst>
                <a:path w="11" h="16">
                  <a:moveTo>
                    <a:pt x="0" y="16"/>
                  </a:moveTo>
                  <a:lnTo>
                    <a:pt x="6" y="11"/>
                  </a:lnTo>
                  <a:lnTo>
                    <a:pt x="11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7" name=""/>
            <p:cNvSpPr/>
            <p:nvPr/>
          </p:nvSpPr>
          <p:spPr>
            <a:xfrm>
              <a:off x="3040200" y="5491080"/>
              <a:ext cx="17280" cy="25560"/>
            </a:xfrm>
            <a:custGeom>
              <a:avLst/>
              <a:gdLst/>
              <a:ahLst/>
              <a:rect l="l" t="t" r="r" b="b"/>
              <a:pathLst>
                <a:path w="11" h="16">
                  <a:moveTo>
                    <a:pt x="0" y="16"/>
                  </a:moveTo>
                  <a:lnTo>
                    <a:pt x="11" y="5"/>
                  </a:lnTo>
                  <a:lnTo>
                    <a:pt x="6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8" name=""/>
            <p:cNvSpPr/>
            <p:nvPr/>
          </p:nvSpPr>
          <p:spPr>
            <a:xfrm>
              <a:off x="3005280" y="5430960"/>
              <a:ext cx="27000" cy="2520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17" y="16"/>
                  </a:moveTo>
                  <a:lnTo>
                    <a:pt x="6" y="5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9" name=""/>
            <p:cNvSpPr/>
            <p:nvPr/>
          </p:nvSpPr>
          <p:spPr>
            <a:xfrm flipH="1" flipV="1">
              <a:off x="2970360" y="5370120"/>
              <a:ext cx="17280" cy="334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0" name=""/>
            <p:cNvSpPr/>
            <p:nvPr/>
          </p:nvSpPr>
          <p:spPr>
            <a:xfrm flipH="1" flipV="1">
              <a:off x="2927520" y="5318280"/>
              <a:ext cx="17280" cy="252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1" name=""/>
            <p:cNvSpPr/>
            <p:nvPr/>
          </p:nvSpPr>
          <p:spPr>
            <a:xfrm flipH="1" flipV="1">
              <a:off x="2883960" y="5257440"/>
              <a:ext cx="17640" cy="334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2" name=""/>
            <p:cNvSpPr/>
            <p:nvPr/>
          </p:nvSpPr>
          <p:spPr>
            <a:xfrm>
              <a:off x="2841480" y="5205240"/>
              <a:ext cx="17640" cy="25560"/>
            </a:xfrm>
            <a:custGeom>
              <a:avLst/>
              <a:gdLst/>
              <a:ahLst/>
              <a:rect l="l" t="t" r="r" b="b"/>
              <a:pathLst>
                <a:path w="11" h="16">
                  <a:moveTo>
                    <a:pt x="11" y="16"/>
                  </a:moveTo>
                  <a:lnTo>
                    <a:pt x="5" y="11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3" name=""/>
            <p:cNvSpPr/>
            <p:nvPr/>
          </p:nvSpPr>
          <p:spPr>
            <a:xfrm>
              <a:off x="2814480" y="5145120"/>
              <a:ext cx="1800" cy="34920"/>
            </a:xfrm>
            <a:custGeom>
              <a:avLst/>
              <a:gdLst/>
              <a:ahLst/>
              <a:rect l="l" t="t" r="r" b="b"/>
              <a:pathLst>
                <a:path w="0" h="22">
                  <a:moveTo>
                    <a:pt x="0" y="22"/>
                  </a:move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4" name=""/>
            <p:cNvSpPr/>
            <p:nvPr/>
          </p:nvSpPr>
          <p:spPr>
            <a:xfrm flipV="1">
              <a:off x="2824200" y="5074920"/>
              <a:ext cx="7920" cy="349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5" name=""/>
            <p:cNvSpPr/>
            <p:nvPr/>
          </p:nvSpPr>
          <p:spPr>
            <a:xfrm flipV="1">
              <a:off x="2841480" y="5006520"/>
              <a:ext cx="7920" cy="334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6" name=""/>
            <p:cNvSpPr/>
            <p:nvPr/>
          </p:nvSpPr>
          <p:spPr>
            <a:xfrm flipV="1">
              <a:off x="2849400" y="4936680"/>
              <a:ext cx="9720" cy="349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7" name=""/>
            <p:cNvSpPr/>
            <p:nvPr/>
          </p:nvSpPr>
          <p:spPr>
            <a:xfrm flipV="1">
              <a:off x="2867040" y="4866840"/>
              <a:ext cx="9360" cy="349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8" name=""/>
            <p:cNvSpPr/>
            <p:nvPr/>
          </p:nvSpPr>
          <p:spPr>
            <a:xfrm flipV="1">
              <a:off x="2876400" y="4798800"/>
              <a:ext cx="7920" cy="349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9" name=""/>
            <p:cNvSpPr/>
            <p:nvPr/>
          </p:nvSpPr>
          <p:spPr>
            <a:xfrm flipV="1">
              <a:off x="2892600" y="4728960"/>
              <a:ext cx="9360" cy="349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0" name=""/>
            <p:cNvSpPr/>
            <p:nvPr/>
          </p:nvSpPr>
          <p:spPr>
            <a:xfrm>
              <a:off x="2909880" y="4660920"/>
              <a:ext cx="1440" cy="33480"/>
            </a:xfrm>
            <a:custGeom>
              <a:avLst/>
              <a:gdLst/>
              <a:ahLst/>
              <a:rect l="l" t="t" r="r" b="b"/>
              <a:pathLst>
                <a:path w="0" h="21">
                  <a:moveTo>
                    <a:pt x="0" y="21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1" name=""/>
            <p:cNvSpPr/>
            <p:nvPr/>
          </p:nvSpPr>
          <p:spPr>
            <a:xfrm>
              <a:off x="2919240" y="4591080"/>
              <a:ext cx="17640" cy="34920"/>
            </a:xfrm>
            <a:custGeom>
              <a:avLst/>
              <a:gdLst/>
              <a:ahLst/>
              <a:rect l="l" t="t" r="r" b="b"/>
              <a:pathLst>
                <a:path w="11" h="22">
                  <a:moveTo>
                    <a:pt x="0" y="22"/>
                  </a:moveTo>
                  <a:lnTo>
                    <a:pt x="5" y="22"/>
                  </a:lnTo>
                  <a:lnTo>
                    <a:pt x="11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2" name=""/>
            <p:cNvSpPr/>
            <p:nvPr/>
          </p:nvSpPr>
          <p:spPr>
            <a:xfrm>
              <a:off x="2944800" y="4521240"/>
              <a:ext cx="9360" cy="34920"/>
            </a:xfrm>
            <a:custGeom>
              <a:avLst/>
              <a:gdLst/>
              <a:ahLst/>
              <a:rect l="l" t="t" r="r" b="b"/>
              <a:pathLst>
                <a:path w="6" h="22">
                  <a:moveTo>
                    <a:pt x="0" y="22"/>
                  </a:moveTo>
                  <a:lnTo>
                    <a:pt x="6" y="6"/>
                  </a:lnTo>
                  <a:lnTo>
                    <a:pt x="6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3" name=""/>
            <p:cNvSpPr/>
            <p:nvPr/>
          </p:nvSpPr>
          <p:spPr>
            <a:xfrm>
              <a:off x="2962440" y="4460760"/>
              <a:ext cx="7920" cy="27000"/>
            </a:xfrm>
            <a:custGeom>
              <a:avLst/>
              <a:gdLst/>
              <a:ahLst/>
              <a:rect l="l" t="t" r="r" b="b"/>
              <a:pathLst>
                <a:path w="5" h="17">
                  <a:moveTo>
                    <a:pt x="0" y="17"/>
                  </a:moveTo>
                  <a:lnTo>
                    <a:pt x="5" y="6"/>
                  </a:lnTo>
                  <a:lnTo>
                    <a:pt x="5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4" name=""/>
            <p:cNvSpPr/>
            <p:nvPr/>
          </p:nvSpPr>
          <p:spPr>
            <a:xfrm>
              <a:off x="2979720" y="4400640"/>
              <a:ext cx="17640" cy="25200"/>
            </a:xfrm>
            <a:custGeom>
              <a:avLst/>
              <a:gdLst/>
              <a:ahLst/>
              <a:rect l="l" t="t" r="r" b="b"/>
              <a:pathLst>
                <a:path w="11" h="16">
                  <a:moveTo>
                    <a:pt x="0" y="16"/>
                  </a:moveTo>
                  <a:lnTo>
                    <a:pt x="5" y="16"/>
                  </a:lnTo>
                  <a:lnTo>
                    <a:pt x="5" y="16"/>
                  </a:lnTo>
                  <a:lnTo>
                    <a:pt x="5" y="16"/>
                  </a:lnTo>
                  <a:lnTo>
                    <a:pt x="5" y="16"/>
                  </a:lnTo>
                  <a:lnTo>
                    <a:pt x="5" y="11"/>
                  </a:lnTo>
                  <a:lnTo>
                    <a:pt x="5" y="11"/>
                  </a:lnTo>
                  <a:lnTo>
                    <a:pt x="5" y="11"/>
                  </a:lnTo>
                  <a:lnTo>
                    <a:pt x="11" y="11"/>
                  </a:lnTo>
                  <a:lnTo>
                    <a:pt x="11" y="0"/>
                  </a:lnTo>
                  <a:lnTo>
                    <a:pt x="11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5" name=""/>
            <p:cNvSpPr/>
            <p:nvPr/>
          </p:nvSpPr>
          <p:spPr>
            <a:xfrm>
              <a:off x="2997360" y="4365720"/>
              <a:ext cx="34920" cy="17280"/>
            </a:xfrm>
            <a:custGeom>
              <a:avLst/>
              <a:gdLst/>
              <a:ahLst/>
              <a:rect l="l" t="t" r="r" b="b"/>
              <a:pathLst>
                <a:path w="22" h="11">
                  <a:moveTo>
                    <a:pt x="0" y="0"/>
                  </a:moveTo>
                  <a:lnTo>
                    <a:pt x="5" y="0"/>
                  </a:lnTo>
                  <a:lnTo>
                    <a:pt x="16" y="6"/>
                  </a:lnTo>
                  <a:lnTo>
                    <a:pt x="22" y="11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6" name=""/>
            <p:cNvSpPr/>
            <p:nvPr/>
          </p:nvSpPr>
          <p:spPr>
            <a:xfrm>
              <a:off x="3065400" y="4365720"/>
              <a:ext cx="34920" cy="9360"/>
            </a:xfrm>
            <a:custGeom>
              <a:avLst/>
              <a:gdLst/>
              <a:ahLst/>
              <a:rect l="l" t="t" r="r" b="b"/>
              <a:pathLst>
                <a:path w="22" h="6">
                  <a:moveTo>
                    <a:pt x="0" y="6"/>
                  </a:moveTo>
                  <a:lnTo>
                    <a:pt x="0" y="6"/>
                  </a:lnTo>
                  <a:lnTo>
                    <a:pt x="17" y="0"/>
                  </a:lnTo>
                  <a:lnTo>
                    <a:pt x="22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7" name=""/>
            <p:cNvSpPr/>
            <p:nvPr/>
          </p:nvSpPr>
          <p:spPr>
            <a:xfrm>
              <a:off x="3135240" y="4375080"/>
              <a:ext cx="34920" cy="7920"/>
            </a:xfrm>
            <a:custGeom>
              <a:avLst/>
              <a:gdLst/>
              <a:ahLst/>
              <a:rect l="l" t="t" r="r" b="b"/>
              <a:pathLst>
                <a:path w="22" h="5">
                  <a:moveTo>
                    <a:pt x="0" y="0"/>
                  </a:moveTo>
                  <a:lnTo>
                    <a:pt x="11" y="5"/>
                  </a:lnTo>
                  <a:lnTo>
                    <a:pt x="22" y="5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8" name=""/>
            <p:cNvSpPr/>
            <p:nvPr/>
          </p:nvSpPr>
          <p:spPr>
            <a:xfrm>
              <a:off x="3205080" y="4383000"/>
              <a:ext cx="34920" cy="17640"/>
            </a:xfrm>
            <a:custGeom>
              <a:avLst/>
              <a:gdLst/>
              <a:ahLst/>
              <a:rect l="l" t="t" r="r" b="b"/>
              <a:pathLst>
                <a:path w="22" h="11">
                  <a:moveTo>
                    <a:pt x="0" y="0"/>
                  </a:moveTo>
                  <a:lnTo>
                    <a:pt x="5" y="6"/>
                  </a:lnTo>
                  <a:lnTo>
                    <a:pt x="22" y="11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9" name=""/>
            <p:cNvSpPr/>
            <p:nvPr/>
          </p:nvSpPr>
          <p:spPr>
            <a:xfrm>
              <a:off x="3273480" y="4410000"/>
              <a:ext cx="27000" cy="7920"/>
            </a:xfrm>
            <a:custGeom>
              <a:avLst/>
              <a:gdLst/>
              <a:ahLst/>
              <a:rect l="l" t="t" r="r" b="b"/>
              <a:pathLst>
                <a:path w="17" h="5">
                  <a:moveTo>
                    <a:pt x="0" y="0"/>
                  </a:moveTo>
                  <a:lnTo>
                    <a:pt x="11" y="0"/>
                  </a:lnTo>
                  <a:lnTo>
                    <a:pt x="17" y="5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0" name=""/>
            <p:cNvSpPr/>
            <p:nvPr/>
          </p:nvSpPr>
          <p:spPr>
            <a:xfrm>
              <a:off x="3333600" y="4425840"/>
              <a:ext cx="27000" cy="17640"/>
            </a:xfrm>
            <a:custGeom>
              <a:avLst/>
              <a:gdLst/>
              <a:ahLst/>
              <a:rect l="l" t="t" r="r" b="b"/>
              <a:pathLst>
                <a:path w="17" h="11">
                  <a:moveTo>
                    <a:pt x="0" y="6"/>
                  </a:moveTo>
                  <a:lnTo>
                    <a:pt x="6" y="11"/>
                  </a:lnTo>
                  <a:lnTo>
                    <a:pt x="11" y="6"/>
                  </a:lnTo>
                  <a:lnTo>
                    <a:pt x="17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1" name=""/>
            <p:cNvSpPr/>
            <p:nvPr/>
          </p:nvSpPr>
          <p:spPr>
            <a:xfrm flipV="1">
              <a:off x="3378240" y="4365360"/>
              <a:ext cx="17280" cy="270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2" name=""/>
            <p:cNvSpPr/>
            <p:nvPr/>
          </p:nvSpPr>
          <p:spPr>
            <a:xfrm flipV="1">
              <a:off x="3413160" y="4304880"/>
              <a:ext cx="15840" cy="270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3" name=""/>
            <p:cNvSpPr/>
            <p:nvPr/>
          </p:nvSpPr>
          <p:spPr>
            <a:xfrm flipV="1">
              <a:off x="3446640" y="4245120"/>
              <a:ext cx="17280" cy="252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4" name=""/>
            <p:cNvSpPr/>
            <p:nvPr/>
          </p:nvSpPr>
          <p:spPr>
            <a:xfrm flipV="1">
              <a:off x="3481560" y="4184280"/>
              <a:ext cx="17280" cy="255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5" name=""/>
            <p:cNvSpPr/>
            <p:nvPr/>
          </p:nvSpPr>
          <p:spPr>
            <a:xfrm>
              <a:off x="3516480" y="4124160"/>
              <a:ext cx="17280" cy="25560"/>
            </a:xfrm>
            <a:custGeom>
              <a:avLst/>
              <a:gdLst/>
              <a:ahLst/>
              <a:rect l="l" t="t" r="r" b="b"/>
              <a:pathLst>
                <a:path w="11" h="16">
                  <a:moveTo>
                    <a:pt x="0" y="16"/>
                  </a:moveTo>
                  <a:lnTo>
                    <a:pt x="11" y="0"/>
                  </a:lnTo>
                  <a:lnTo>
                    <a:pt x="11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6" name=""/>
            <p:cNvSpPr/>
            <p:nvPr/>
          </p:nvSpPr>
          <p:spPr>
            <a:xfrm>
              <a:off x="3559320" y="4079880"/>
              <a:ext cx="27000" cy="17280"/>
            </a:xfrm>
            <a:custGeom>
              <a:avLst/>
              <a:gdLst/>
              <a:ahLst/>
              <a:rect l="l" t="t" r="r" b="b"/>
              <a:pathLst>
                <a:path w="17" h="11">
                  <a:moveTo>
                    <a:pt x="0" y="11"/>
                  </a:moveTo>
                  <a:lnTo>
                    <a:pt x="6" y="6"/>
                  </a:lnTo>
                  <a:lnTo>
                    <a:pt x="17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7" name=""/>
            <p:cNvSpPr/>
            <p:nvPr/>
          </p:nvSpPr>
          <p:spPr>
            <a:xfrm>
              <a:off x="3611520" y="4019400"/>
              <a:ext cx="25560" cy="34920"/>
            </a:xfrm>
            <a:custGeom>
              <a:avLst/>
              <a:gdLst/>
              <a:ahLst/>
              <a:rect l="l" t="t" r="r" b="b"/>
              <a:pathLst>
                <a:path w="16" h="22">
                  <a:moveTo>
                    <a:pt x="0" y="22"/>
                  </a:moveTo>
                  <a:lnTo>
                    <a:pt x="11" y="6"/>
                  </a:lnTo>
                  <a:lnTo>
                    <a:pt x="16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8" name=""/>
            <p:cNvSpPr/>
            <p:nvPr/>
          </p:nvSpPr>
          <p:spPr>
            <a:xfrm>
              <a:off x="3664080" y="3994200"/>
              <a:ext cx="25200" cy="7920"/>
            </a:xfrm>
            <a:custGeom>
              <a:avLst/>
              <a:gdLst/>
              <a:ahLst/>
              <a:rect l="l" t="t" r="r" b="b"/>
              <a:pathLst>
                <a:path w="16" h="5">
                  <a:moveTo>
                    <a:pt x="0" y="5"/>
                  </a:moveTo>
                  <a:lnTo>
                    <a:pt x="0" y="0"/>
                  </a:lnTo>
                  <a:lnTo>
                    <a:pt x="11" y="0"/>
                  </a:lnTo>
                  <a:lnTo>
                    <a:pt x="16" y="5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9" name=""/>
            <p:cNvSpPr/>
            <p:nvPr/>
          </p:nvSpPr>
          <p:spPr>
            <a:xfrm>
              <a:off x="3724200" y="4011480"/>
              <a:ext cx="25560" cy="7920"/>
            </a:xfrm>
            <a:custGeom>
              <a:avLst/>
              <a:gdLst/>
              <a:ahLst/>
              <a:rect l="l" t="t" r="r" b="b"/>
              <a:pathLst>
                <a:path w="16" h="5">
                  <a:moveTo>
                    <a:pt x="0" y="5"/>
                  </a:moveTo>
                  <a:lnTo>
                    <a:pt x="0" y="5"/>
                  </a:lnTo>
                  <a:lnTo>
                    <a:pt x="5" y="0"/>
                  </a:lnTo>
                  <a:lnTo>
                    <a:pt x="16" y="5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0" name=""/>
            <p:cNvSpPr/>
            <p:nvPr/>
          </p:nvSpPr>
          <p:spPr>
            <a:xfrm>
              <a:off x="3784680" y="4037040"/>
              <a:ext cx="34920" cy="9360"/>
            </a:xfrm>
            <a:custGeom>
              <a:avLst/>
              <a:gdLst/>
              <a:ahLst/>
              <a:rect l="l" t="t" r="r" b="b"/>
              <a:pathLst>
                <a:path w="22" h="6">
                  <a:moveTo>
                    <a:pt x="0" y="0"/>
                  </a:moveTo>
                  <a:lnTo>
                    <a:pt x="5" y="0"/>
                  </a:lnTo>
                  <a:lnTo>
                    <a:pt x="22" y="6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1" name=""/>
            <p:cNvSpPr/>
            <p:nvPr/>
          </p:nvSpPr>
          <p:spPr>
            <a:xfrm>
              <a:off x="3854520" y="4037040"/>
              <a:ext cx="25200" cy="9360"/>
            </a:xfrm>
            <a:custGeom>
              <a:avLst/>
              <a:gdLst/>
              <a:ahLst/>
              <a:rect l="l" t="t" r="r" b="b"/>
              <a:pathLst>
                <a:path w="16" h="6">
                  <a:moveTo>
                    <a:pt x="0" y="6"/>
                  </a:moveTo>
                  <a:lnTo>
                    <a:pt x="0" y="6"/>
                  </a:lnTo>
                  <a:lnTo>
                    <a:pt x="11" y="0"/>
                  </a:lnTo>
                  <a:lnTo>
                    <a:pt x="16" y="6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2" name=""/>
            <p:cNvSpPr/>
            <p:nvPr/>
          </p:nvSpPr>
          <p:spPr>
            <a:xfrm>
              <a:off x="3914640" y="4064040"/>
              <a:ext cx="34920" cy="1440"/>
            </a:xfrm>
            <a:custGeom>
              <a:avLst/>
              <a:gdLst/>
              <a:ahLst/>
              <a:rect l="l" t="t" r="r" b="b"/>
              <a:pathLst>
                <a:path w="22" h="0">
                  <a:moveTo>
                    <a:pt x="0" y="0"/>
                  </a:moveTo>
                  <a:lnTo>
                    <a:pt x="16" y="0"/>
                  </a:lnTo>
                  <a:lnTo>
                    <a:pt x="22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3" name=""/>
            <p:cNvSpPr/>
            <p:nvPr/>
          </p:nvSpPr>
          <p:spPr>
            <a:xfrm>
              <a:off x="3983040" y="4037040"/>
              <a:ext cx="27000" cy="17280"/>
            </a:xfrm>
            <a:custGeom>
              <a:avLst/>
              <a:gdLst/>
              <a:ahLst/>
              <a:rect l="l" t="t" r="r" b="b"/>
              <a:pathLst>
                <a:path w="17" h="11">
                  <a:moveTo>
                    <a:pt x="0" y="11"/>
                  </a:moveTo>
                  <a:lnTo>
                    <a:pt x="6" y="11"/>
                  </a:lnTo>
                  <a:lnTo>
                    <a:pt x="17" y="0"/>
                  </a:lnTo>
                  <a:lnTo>
                    <a:pt x="17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4" name=""/>
            <p:cNvSpPr/>
            <p:nvPr/>
          </p:nvSpPr>
          <p:spPr>
            <a:xfrm>
              <a:off x="4044960" y="4019400"/>
              <a:ext cx="33480" cy="1800"/>
            </a:xfrm>
            <a:custGeom>
              <a:avLst/>
              <a:gdLst/>
              <a:ahLst/>
              <a:rect l="l" t="t" r="r" b="b"/>
              <a:pathLst>
                <a:path w="21" h="0">
                  <a:moveTo>
                    <a:pt x="0" y="0"/>
                  </a:moveTo>
                  <a:lnTo>
                    <a:pt x="5" y="0"/>
                  </a:lnTo>
                  <a:lnTo>
                    <a:pt x="21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5" name=""/>
            <p:cNvSpPr/>
            <p:nvPr/>
          </p:nvSpPr>
          <p:spPr>
            <a:xfrm>
              <a:off x="4113360" y="4019400"/>
              <a:ext cx="34920" cy="9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6" name=""/>
            <p:cNvSpPr/>
            <p:nvPr/>
          </p:nvSpPr>
          <p:spPr>
            <a:xfrm>
              <a:off x="4183200" y="4029120"/>
              <a:ext cx="34920" cy="7920"/>
            </a:xfrm>
            <a:custGeom>
              <a:avLst/>
              <a:gdLst/>
              <a:ahLst/>
              <a:rect l="l" t="t" r="r" b="b"/>
              <a:pathLst>
                <a:path w="22" h="5">
                  <a:moveTo>
                    <a:pt x="0" y="0"/>
                  </a:moveTo>
                  <a:lnTo>
                    <a:pt x="0" y="0"/>
                  </a:lnTo>
                  <a:lnTo>
                    <a:pt x="22" y="5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7" name=""/>
            <p:cNvSpPr/>
            <p:nvPr/>
          </p:nvSpPr>
          <p:spPr>
            <a:xfrm>
              <a:off x="4251240" y="4037040"/>
              <a:ext cx="34920" cy="93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8" name=""/>
            <p:cNvSpPr/>
            <p:nvPr/>
          </p:nvSpPr>
          <p:spPr>
            <a:xfrm>
              <a:off x="4321080" y="4054320"/>
              <a:ext cx="34920" cy="9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9" name=""/>
            <p:cNvSpPr/>
            <p:nvPr/>
          </p:nvSpPr>
          <p:spPr>
            <a:xfrm>
              <a:off x="4381560" y="4071960"/>
              <a:ext cx="34920" cy="7920"/>
            </a:xfrm>
            <a:custGeom>
              <a:avLst/>
              <a:gdLst/>
              <a:ahLst/>
              <a:rect l="l" t="t" r="r" b="b"/>
              <a:pathLst>
                <a:path w="22" h="5">
                  <a:moveTo>
                    <a:pt x="0" y="0"/>
                  </a:moveTo>
                  <a:lnTo>
                    <a:pt x="17" y="5"/>
                  </a:lnTo>
                  <a:lnTo>
                    <a:pt x="22" y="5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0" name=""/>
            <p:cNvSpPr/>
            <p:nvPr/>
          </p:nvSpPr>
          <p:spPr>
            <a:xfrm>
              <a:off x="4451400" y="4097160"/>
              <a:ext cx="34920" cy="9720"/>
            </a:xfrm>
            <a:custGeom>
              <a:avLst/>
              <a:gdLst/>
              <a:ahLst/>
              <a:rect l="l" t="t" r="r" b="b"/>
              <a:pathLst>
                <a:path w="22" h="6">
                  <a:moveTo>
                    <a:pt x="0" y="0"/>
                  </a:moveTo>
                  <a:lnTo>
                    <a:pt x="5" y="0"/>
                  </a:lnTo>
                  <a:lnTo>
                    <a:pt x="22" y="6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1" name=""/>
            <p:cNvSpPr/>
            <p:nvPr/>
          </p:nvSpPr>
          <p:spPr>
            <a:xfrm>
              <a:off x="4519440" y="4106880"/>
              <a:ext cx="34920" cy="1440"/>
            </a:xfrm>
            <a:custGeom>
              <a:avLst/>
              <a:gdLst/>
              <a:ahLst/>
              <a:rect l="l" t="t" r="r" b="b"/>
              <a:pathLst>
                <a:path w="22" h="0">
                  <a:moveTo>
                    <a:pt x="0" y="0"/>
                  </a:moveTo>
                  <a:lnTo>
                    <a:pt x="11" y="0"/>
                  </a:lnTo>
                  <a:lnTo>
                    <a:pt x="22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2" name=""/>
            <p:cNvSpPr/>
            <p:nvPr/>
          </p:nvSpPr>
          <p:spPr>
            <a:xfrm>
              <a:off x="4589640" y="4106880"/>
              <a:ext cx="34920" cy="1440"/>
            </a:xfrm>
            <a:custGeom>
              <a:avLst/>
              <a:gdLst/>
              <a:ahLst/>
              <a:rect l="l" t="t" r="r" b="b"/>
              <a:pathLst>
                <a:path w="22" h="0">
                  <a:moveTo>
                    <a:pt x="0" y="0"/>
                  </a:moveTo>
                  <a:lnTo>
                    <a:pt x="6" y="0"/>
                  </a:lnTo>
                  <a:lnTo>
                    <a:pt x="22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3" name=""/>
            <p:cNvSpPr/>
            <p:nvPr/>
          </p:nvSpPr>
          <p:spPr>
            <a:xfrm flipV="1">
              <a:off x="4659480" y="4071600"/>
              <a:ext cx="7920" cy="349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4" name=""/>
            <p:cNvSpPr/>
            <p:nvPr/>
          </p:nvSpPr>
          <p:spPr>
            <a:xfrm flipV="1">
              <a:off x="4676760" y="4001760"/>
              <a:ext cx="7920" cy="349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5" name=""/>
            <p:cNvSpPr/>
            <p:nvPr/>
          </p:nvSpPr>
          <p:spPr>
            <a:xfrm>
              <a:off x="4710240" y="4002120"/>
              <a:ext cx="34920" cy="172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6" name=""/>
            <p:cNvSpPr/>
            <p:nvPr/>
          </p:nvSpPr>
          <p:spPr>
            <a:xfrm flipV="1">
              <a:off x="4772160" y="3976200"/>
              <a:ext cx="7920" cy="349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7" name=""/>
            <p:cNvSpPr/>
            <p:nvPr/>
          </p:nvSpPr>
          <p:spPr>
            <a:xfrm flipV="1">
              <a:off x="4797360" y="3906360"/>
              <a:ext cx="7920" cy="349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8" name=""/>
            <p:cNvSpPr/>
            <p:nvPr/>
          </p:nvSpPr>
          <p:spPr>
            <a:xfrm flipV="1">
              <a:off x="4815000" y="3846240"/>
              <a:ext cx="7920" cy="349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9" name=""/>
            <p:cNvSpPr/>
            <p:nvPr/>
          </p:nvSpPr>
          <p:spPr>
            <a:xfrm>
              <a:off x="4832280" y="3778200"/>
              <a:ext cx="17640" cy="33480"/>
            </a:xfrm>
            <a:custGeom>
              <a:avLst/>
              <a:gdLst/>
              <a:ahLst/>
              <a:rect l="l" t="t" r="r" b="b"/>
              <a:pathLst>
                <a:path w="11" h="21">
                  <a:moveTo>
                    <a:pt x="0" y="21"/>
                  </a:moveTo>
                  <a:lnTo>
                    <a:pt x="5" y="11"/>
                  </a:lnTo>
                  <a:lnTo>
                    <a:pt x="11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0" name=""/>
            <p:cNvSpPr/>
            <p:nvPr/>
          </p:nvSpPr>
          <p:spPr>
            <a:xfrm flipV="1">
              <a:off x="4857840" y="3708000"/>
              <a:ext cx="9360" cy="349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1" name=""/>
            <p:cNvSpPr/>
            <p:nvPr/>
          </p:nvSpPr>
          <p:spPr>
            <a:xfrm>
              <a:off x="4875120" y="3638520"/>
              <a:ext cx="7920" cy="34920"/>
            </a:xfrm>
            <a:custGeom>
              <a:avLst/>
              <a:gdLst/>
              <a:ahLst/>
              <a:rect l="l" t="t" r="r" b="b"/>
              <a:pathLst>
                <a:path w="5" h="22">
                  <a:moveTo>
                    <a:pt x="0" y="22"/>
                  </a:moveTo>
                  <a:lnTo>
                    <a:pt x="5" y="17"/>
                  </a:lnTo>
                  <a:lnTo>
                    <a:pt x="5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2" name=""/>
            <p:cNvSpPr/>
            <p:nvPr/>
          </p:nvSpPr>
          <p:spPr>
            <a:xfrm flipV="1">
              <a:off x="4900680" y="3604680"/>
              <a:ext cx="1440" cy="82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3" name=""/>
            <p:cNvSpPr/>
            <p:nvPr/>
          </p:nvSpPr>
          <p:spPr>
            <a:xfrm flipH="1">
              <a:off x="4727160" y="3552840"/>
              <a:ext cx="9720" cy="349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4" name=""/>
            <p:cNvSpPr/>
            <p:nvPr/>
          </p:nvSpPr>
          <p:spPr>
            <a:xfrm flipH="1">
              <a:off x="4719600" y="3622680"/>
              <a:ext cx="7920" cy="334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5" name=""/>
            <p:cNvSpPr/>
            <p:nvPr/>
          </p:nvSpPr>
          <p:spPr>
            <a:xfrm flipH="1" flipV="1">
              <a:off x="4667040" y="3673080"/>
              <a:ext cx="34920" cy="9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6" name=""/>
            <p:cNvSpPr/>
            <p:nvPr/>
          </p:nvSpPr>
          <p:spPr>
            <a:xfrm flipH="1" flipV="1">
              <a:off x="4598640" y="3665520"/>
              <a:ext cx="33480" cy="79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7" name=""/>
            <p:cNvSpPr/>
            <p:nvPr/>
          </p:nvSpPr>
          <p:spPr>
            <a:xfrm flipH="1" flipV="1">
              <a:off x="4528800" y="3656160"/>
              <a:ext cx="34920" cy="93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8" name=""/>
            <p:cNvSpPr/>
            <p:nvPr/>
          </p:nvSpPr>
          <p:spPr>
            <a:xfrm flipH="1">
              <a:off x="4458960" y="3648240"/>
              <a:ext cx="3492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9" name=""/>
            <p:cNvSpPr/>
            <p:nvPr/>
          </p:nvSpPr>
          <p:spPr>
            <a:xfrm flipH="1">
              <a:off x="4390560" y="3638520"/>
              <a:ext cx="3348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0" name=""/>
            <p:cNvSpPr/>
            <p:nvPr/>
          </p:nvSpPr>
          <p:spPr>
            <a:xfrm flipH="1" flipV="1">
              <a:off x="4320720" y="3622680"/>
              <a:ext cx="34920" cy="79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1" name=""/>
            <p:cNvSpPr/>
            <p:nvPr/>
          </p:nvSpPr>
          <p:spPr>
            <a:xfrm flipH="1" flipV="1">
              <a:off x="4250880" y="3613320"/>
              <a:ext cx="34920" cy="93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2" name=""/>
            <p:cNvSpPr/>
            <p:nvPr/>
          </p:nvSpPr>
          <p:spPr>
            <a:xfrm flipH="1" flipV="1">
              <a:off x="4182840" y="3604680"/>
              <a:ext cx="34920" cy="82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3" name=""/>
            <p:cNvSpPr/>
            <p:nvPr/>
          </p:nvSpPr>
          <p:spPr>
            <a:xfrm flipH="1">
              <a:off x="4113000" y="3595680"/>
              <a:ext cx="3492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4" name=""/>
            <p:cNvSpPr/>
            <p:nvPr/>
          </p:nvSpPr>
          <p:spPr>
            <a:xfrm flipH="1">
              <a:off x="4044600" y="3587760"/>
              <a:ext cx="3348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5" name=""/>
            <p:cNvSpPr/>
            <p:nvPr/>
          </p:nvSpPr>
          <p:spPr>
            <a:xfrm flipH="1" flipV="1">
              <a:off x="3974760" y="3569760"/>
              <a:ext cx="34920" cy="82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6" name=""/>
            <p:cNvSpPr/>
            <p:nvPr/>
          </p:nvSpPr>
          <p:spPr>
            <a:xfrm flipH="1" flipV="1">
              <a:off x="3904920" y="3560760"/>
              <a:ext cx="34920" cy="93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7" name=""/>
            <p:cNvSpPr/>
            <p:nvPr/>
          </p:nvSpPr>
          <p:spPr>
            <a:xfrm flipH="1" flipV="1">
              <a:off x="3836520" y="3552840"/>
              <a:ext cx="34920" cy="79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8" name=""/>
            <p:cNvSpPr/>
            <p:nvPr/>
          </p:nvSpPr>
          <p:spPr>
            <a:xfrm flipH="1" flipV="1">
              <a:off x="3766680" y="3544920"/>
              <a:ext cx="34920" cy="79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9" name=""/>
            <p:cNvSpPr/>
            <p:nvPr/>
          </p:nvSpPr>
          <p:spPr>
            <a:xfrm flipH="1">
              <a:off x="3688920" y="3535200"/>
              <a:ext cx="42840" cy="18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0" name=""/>
            <p:cNvSpPr/>
            <p:nvPr/>
          </p:nvSpPr>
          <p:spPr>
            <a:xfrm flipH="1">
              <a:off x="3619080" y="3527280"/>
              <a:ext cx="34920" cy="18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1" name=""/>
            <p:cNvSpPr/>
            <p:nvPr/>
          </p:nvSpPr>
          <p:spPr>
            <a:xfrm flipH="1" flipV="1">
              <a:off x="3551040" y="3510000"/>
              <a:ext cx="34920" cy="79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2" name=""/>
            <p:cNvSpPr/>
            <p:nvPr/>
          </p:nvSpPr>
          <p:spPr>
            <a:xfrm flipH="1" flipV="1">
              <a:off x="3481200" y="3499920"/>
              <a:ext cx="34920" cy="9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3" name=""/>
            <p:cNvSpPr/>
            <p:nvPr/>
          </p:nvSpPr>
          <p:spPr>
            <a:xfrm flipH="1" flipV="1">
              <a:off x="3412800" y="3492360"/>
              <a:ext cx="33480" cy="79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4" name=""/>
            <p:cNvSpPr/>
            <p:nvPr/>
          </p:nvSpPr>
          <p:spPr>
            <a:xfrm flipH="1">
              <a:off x="3342960" y="3483000"/>
              <a:ext cx="3492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5" name=""/>
            <p:cNvSpPr/>
            <p:nvPr/>
          </p:nvSpPr>
          <p:spPr>
            <a:xfrm flipH="1">
              <a:off x="3273120" y="3475080"/>
              <a:ext cx="3492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6" name=""/>
            <p:cNvSpPr/>
            <p:nvPr/>
          </p:nvSpPr>
          <p:spPr>
            <a:xfrm flipH="1" flipV="1">
              <a:off x="3204720" y="3457440"/>
              <a:ext cx="34920" cy="79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7" name=""/>
            <p:cNvSpPr/>
            <p:nvPr/>
          </p:nvSpPr>
          <p:spPr>
            <a:xfrm flipH="1" flipV="1">
              <a:off x="3134880" y="3449520"/>
              <a:ext cx="34920" cy="79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8" name=""/>
            <p:cNvSpPr/>
            <p:nvPr/>
          </p:nvSpPr>
          <p:spPr>
            <a:xfrm flipH="1" flipV="1">
              <a:off x="3065040" y="3440160"/>
              <a:ext cx="34920" cy="93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9" name=""/>
            <p:cNvSpPr/>
            <p:nvPr/>
          </p:nvSpPr>
          <p:spPr>
            <a:xfrm flipH="1">
              <a:off x="2997000" y="3432240"/>
              <a:ext cx="3492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0" name=""/>
            <p:cNvSpPr/>
            <p:nvPr/>
          </p:nvSpPr>
          <p:spPr>
            <a:xfrm flipH="1">
              <a:off x="2927160" y="3422520"/>
              <a:ext cx="34920" cy="18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1" name=""/>
            <p:cNvSpPr/>
            <p:nvPr/>
          </p:nvSpPr>
          <p:spPr>
            <a:xfrm flipH="1" flipV="1">
              <a:off x="2858760" y="3405240"/>
              <a:ext cx="33480" cy="93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2" name=""/>
            <p:cNvSpPr/>
            <p:nvPr/>
          </p:nvSpPr>
          <p:spPr>
            <a:xfrm flipH="1" flipV="1">
              <a:off x="2788920" y="3397320"/>
              <a:ext cx="34920" cy="79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3" name=""/>
            <p:cNvSpPr/>
            <p:nvPr/>
          </p:nvSpPr>
          <p:spPr>
            <a:xfrm flipH="1" flipV="1">
              <a:off x="2719080" y="3387240"/>
              <a:ext cx="34920" cy="9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4" name=""/>
            <p:cNvSpPr/>
            <p:nvPr/>
          </p:nvSpPr>
          <p:spPr>
            <a:xfrm>
              <a:off x="5143680" y="2938320"/>
              <a:ext cx="34920" cy="79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5" name=""/>
            <p:cNvSpPr/>
            <p:nvPr/>
          </p:nvSpPr>
          <p:spPr>
            <a:xfrm>
              <a:off x="5213520" y="2946240"/>
              <a:ext cx="17280" cy="18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6" name=""/>
            <p:cNvSpPr/>
            <p:nvPr/>
          </p:nvSpPr>
          <p:spPr>
            <a:xfrm flipH="1" flipV="1">
              <a:off x="5178240" y="3181320"/>
              <a:ext cx="34920" cy="79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7" name=""/>
            <p:cNvSpPr/>
            <p:nvPr/>
          </p:nvSpPr>
          <p:spPr>
            <a:xfrm flipV="1">
              <a:off x="5160960" y="3119040"/>
              <a:ext cx="1440" cy="349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8" name=""/>
            <p:cNvSpPr/>
            <p:nvPr/>
          </p:nvSpPr>
          <p:spPr>
            <a:xfrm flipH="1" flipV="1">
              <a:off x="5151600" y="3041640"/>
              <a:ext cx="9360" cy="446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9" name=""/>
            <p:cNvSpPr/>
            <p:nvPr/>
          </p:nvSpPr>
          <p:spPr>
            <a:xfrm flipV="1">
              <a:off x="5151600" y="2972880"/>
              <a:ext cx="1440" cy="349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0" name=""/>
            <p:cNvSpPr/>
            <p:nvPr/>
          </p:nvSpPr>
          <p:spPr>
            <a:xfrm flipV="1">
              <a:off x="5143680" y="2903040"/>
              <a:ext cx="1440" cy="349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1" name=""/>
            <p:cNvSpPr/>
            <p:nvPr/>
          </p:nvSpPr>
          <p:spPr>
            <a:xfrm>
              <a:off x="5135400" y="2868480"/>
              <a:ext cx="1800" cy="18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2" name=""/>
            <p:cNvSpPr/>
            <p:nvPr/>
          </p:nvSpPr>
          <p:spPr>
            <a:xfrm>
              <a:off x="5186520" y="3292560"/>
              <a:ext cx="9360" cy="34920"/>
            </a:xfrm>
            <a:custGeom>
              <a:avLst/>
              <a:gdLst/>
              <a:ahLst/>
              <a:rect l="l" t="t" r="r" b="b"/>
              <a:pathLst>
                <a:path w="6" h="22">
                  <a:moveTo>
                    <a:pt x="0" y="22"/>
                  </a:moveTo>
                  <a:lnTo>
                    <a:pt x="6" y="6"/>
                  </a:lnTo>
                  <a:lnTo>
                    <a:pt x="6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3" name=""/>
            <p:cNvSpPr/>
            <p:nvPr/>
          </p:nvSpPr>
          <p:spPr>
            <a:xfrm flipV="1">
              <a:off x="5203800" y="3231720"/>
              <a:ext cx="9720" cy="349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4" name=""/>
            <p:cNvSpPr/>
            <p:nvPr/>
          </p:nvSpPr>
          <p:spPr>
            <a:xfrm flipV="1">
              <a:off x="5213520" y="3154320"/>
              <a:ext cx="1440" cy="446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5" name=""/>
            <p:cNvSpPr/>
            <p:nvPr/>
          </p:nvSpPr>
          <p:spPr>
            <a:xfrm flipV="1">
              <a:off x="5221440" y="3086280"/>
              <a:ext cx="1440" cy="331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6" name=""/>
            <p:cNvSpPr/>
            <p:nvPr/>
          </p:nvSpPr>
          <p:spPr>
            <a:xfrm flipV="1">
              <a:off x="5221440" y="3015720"/>
              <a:ext cx="1440" cy="349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7" name=""/>
            <p:cNvSpPr/>
            <p:nvPr/>
          </p:nvSpPr>
          <p:spPr>
            <a:xfrm flipV="1">
              <a:off x="5230800" y="2945880"/>
              <a:ext cx="1440" cy="349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8" name=""/>
            <p:cNvSpPr/>
            <p:nvPr/>
          </p:nvSpPr>
          <p:spPr>
            <a:xfrm>
              <a:off x="5230800" y="2878200"/>
              <a:ext cx="1440" cy="34920"/>
            </a:xfrm>
            <a:custGeom>
              <a:avLst/>
              <a:gdLst/>
              <a:ahLst/>
              <a:rect l="l" t="t" r="r" b="b"/>
              <a:pathLst>
                <a:path w="0" h="22">
                  <a:moveTo>
                    <a:pt x="0" y="22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9" name=""/>
            <p:cNvSpPr/>
            <p:nvPr/>
          </p:nvSpPr>
          <p:spPr>
            <a:xfrm>
              <a:off x="5264280" y="2878200"/>
              <a:ext cx="34920" cy="7920"/>
            </a:xfrm>
            <a:custGeom>
              <a:avLst/>
              <a:gdLst/>
              <a:ahLst/>
              <a:rect l="l" t="t" r="r" b="b"/>
              <a:pathLst>
                <a:path w="22" h="5">
                  <a:moveTo>
                    <a:pt x="0" y="0"/>
                  </a:moveTo>
                  <a:lnTo>
                    <a:pt x="22" y="5"/>
                  </a:lnTo>
                  <a:lnTo>
                    <a:pt x="22" y="5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0" name=""/>
            <p:cNvSpPr/>
            <p:nvPr/>
          </p:nvSpPr>
          <p:spPr>
            <a:xfrm flipV="1">
              <a:off x="5326200" y="2843280"/>
              <a:ext cx="15840" cy="252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1" name=""/>
            <p:cNvSpPr/>
            <p:nvPr/>
          </p:nvSpPr>
          <p:spPr>
            <a:xfrm flipV="1">
              <a:off x="5359320" y="2782440"/>
              <a:ext cx="17640" cy="255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2" name=""/>
            <p:cNvSpPr/>
            <p:nvPr/>
          </p:nvSpPr>
          <p:spPr>
            <a:xfrm flipV="1">
              <a:off x="5394240" y="2739960"/>
              <a:ext cx="1800" cy="79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3" name=""/>
            <p:cNvSpPr/>
            <p:nvPr/>
          </p:nvSpPr>
          <p:spPr>
            <a:xfrm>
              <a:off x="6640560" y="2635200"/>
              <a:ext cx="1440" cy="349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4" name=""/>
            <p:cNvSpPr/>
            <p:nvPr/>
          </p:nvSpPr>
          <p:spPr>
            <a:xfrm>
              <a:off x="6615000" y="2695680"/>
              <a:ext cx="17640" cy="34920"/>
            </a:xfrm>
            <a:custGeom>
              <a:avLst/>
              <a:gdLst/>
              <a:ahLst/>
              <a:rect l="l" t="t" r="r" b="b"/>
              <a:pathLst>
                <a:path w="11" h="22">
                  <a:moveTo>
                    <a:pt x="11" y="0"/>
                  </a:moveTo>
                  <a:lnTo>
                    <a:pt x="0" y="17"/>
                  </a:lnTo>
                  <a:lnTo>
                    <a:pt x="0" y="22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5" name=""/>
            <p:cNvSpPr/>
            <p:nvPr/>
          </p:nvSpPr>
          <p:spPr>
            <a:xfrm flipH="1">
              <a:off x="6589800" y="2765520"/>
              <a:ext cx="15840" cy="349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6" name=""/>
            <p:cNvSpPr/>
            <p:nvPr/>
          </p:nvSpPr>
          <p:spPr>
            <a:xfrm>
              <a:off x="6572160" y="2835360"/>
              <a:ext cx="7920" cy="33120"/>
            </a:xfrm>
            <a:custGeom>
              <a:avLst/>
              <a:gdLst/>
              <a:ahLst/>
              <a:rect l="l" t="t" r="r" b="b"/>
              <a:pathLst>
                <a:path w="5" h="21">
                  <a:moveTo>
                    <a:pt x="5" y="0"/>
                  </a:moveTo>
                  <a:lnTo>
                    <a:pt x="5" y="16"/>
                  </a:lnTo>
                  <a:lnTo>
                    <a:pt x="0" y="21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7" name=""/>
            <p:cNvSpPr/>
            <p:nvPr/>
          </p:nvSpPr>
          <p:spPr>
            <a:xfrm>
              <a:off x="6554880" y="2903400"/>
              <a:ext cx="7920" cy="34920"/>
            </a:xfrm>
            <a:custGeom>
              <a:avLst/>
              <a:gdLst/>
              <a:ahLst/>
              <a:rect l="l" t="t" r="r" b="b"/>
              <a:pathLst>
                <a:path w="5" h="22">
                  <a:moveTo>
                    <a:pt x="5" y="0"/>
                  </a:moveTo>
                  <a:lnTo>
                    <a:pt x="5" y="0"/>
                  </a:lnTo>
                  <a:lnTo>
                    <a:pt x="5" y="11"/>
                  </a:lnTo>
                  <a:lnTo>
                    <a:pt x="0" y="22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8" name=""/>
            <p:cNvSpPr/>
            <p:nvPr/>
          </p:nvSpPr>
          <p:spPr>
            <a:xfrm>
              <a:off x="6510240" y="2963880"/>
              <a:ext cx="27000" cy="17280"/>
            </a:xfrm>
            <a:custGeom>
              <a:avLst/>
              <a:gdLst/>
              <a:ahLst/>
              <a:rect l="l" t="t" r="r" b="b"/>
              <a:pathLst>
                <a:path w="17" h="11">
                  <a:moveTo>
                    <a:pt x="17" y="0"/>
                  </a:moveTo>
                  <a:lnTo>
                    <a:pt x="0" y="11"/>
                  </a:lnTo>
                  <a:lnTo>
                    <a:pt x="0" y="11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9" name=""/>
            <p:cNvSpPr/>
            <p:nvPr/>
          </p:nvSpPr>
          <p:spPr>
            <a:xfrm>
              <a:off x="6450120" y="2998800"/>
              <a:ext cx="27000" cy="17280"/>
            </a:xfrm>
            <a:custGeom>
              <a:avLst/>
              <a:gdLst/>
              <a:ahLst/>
              <a:rect l="l" t="t" r="r" b="b"/>
              <a:pathLst>
                <a:path w="17" h="11">
                  <a:moveTo>
                    <a:pt x="17" y="0"/>
                  </a:moveTo>
                  <a:lnTo>
                    <a:pt x="17" y="0"/>
                  </a:lnTo>
                  <a:lnTo>
                    <a:pt x="0" y="11"/>
                  </a:lnTo>
                  <a:lnTo>
                    <a:pt x="0" y="11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0" name=""/>
            <p:cNvSpPr/>
            <p:nvPr/>
          </p:nvSpPr>
          <p:spPr>
            <a:xfrm>
              <a:off x="6415200" y="3051000"/>
              <a:ext cx="17280" cy="25560"/>
            </a:xfrm>
            <a:custGeom>
              <a:avLst/>
              <a:gdLst/>
              <a:ahLst/>
              <a:rect l="l" t="t" r="r" b="b"/>
              <a:pathLst>
                <a:path w="11" h="16">
                  <a:moveTo>
                    <a:pt x="11" y="0"/>
                  </a:moveTo>
                  <a:lnTo>
                    <a:pt x="6" y="0"/>
                  </a:lnTo>
                  <a:lnTo>
                    <a:pt x="0" y="16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1" name=""/>
            <p:cNvSpPr/>
            <p:nvPr/>
          </p:nvSpPr>
          <p:spPr>
            <a:xfrm flipH="1">
              <a:off x="6372360" y="3103560"/>
              <a:ext cx="17280" cy="334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2" name=""/>
            <p:cNvSpPr/>
            <p:nvPr/>
          </p:nvSpPr>
          <p:spPr>
            <a:xfrm>
              <a:off x="6337440" y="3164040"/>
              <a:ext cx="17280" cy="34920"/>
            </a:xfrm>
            <a:custGeom>
              <a:avLst/>
              <a:gdLst/>
              <a:ahLst/>
              <a:rect l="l" t="t" r="r" b="b"/>
              <a:pathLst>
                <a:path w="11" h="22">
                  <a:moveTo>
                    <a:pt x="11" y="0"/>
                  </a:moveTo>
                  <a:lnTo>
                    <a:pt x="6" y="11"/>
                  </a:lnTo>
                  <a:lnTo>
                    <a:pt x="0" y="22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3" name=""/>
            <p:cNvSpPr/>
            <p:nvPr/>
          </p:nvSpPr>
          <p:spPr>
            <a:xfrm>
              <a:off x="6303960" y="3224160"/>
              <a:ext cx="7920" cy="34920"/>
            </a:xfrm>
            <a:custGeom>
              <a:avLst/>
              <a:gdLst/>
              <a:ahLst/>
              <a:rect l="l" t="t" r="r" b="b"/>
              <a:pathLst>
                <a:path w="5" h="22">
                  <a:moveTo>
                    <a:pt x="5" y="0"/>
                  </a:moveTo>
                  <a:lnTo>
                    <a:pt x="0" y="16"/>
                  </a:lnTo>
                  <a:lnTo>
                    <a:pt x="0" y="22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4" name=""/>
            <p:cNvSpPr/>
            <p:nvPr/>
          </p:nvSpPr>
          <p:spPr>
            <a:xfrm flipH="1">
              <a:off x="6276600" y="3284640"/>
              <a:ext cx="9720" cy="349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5" name=""/>
            <p:cNvSpPr/>
            <p:nvPr/>
          </p:nvSpPr>
          <p:spPr>
            <a:xfrm>
              <a:off x="6251400" y="3354480"/>
              <a:ext cx="8280" cy="33120"/>
            </a:xfrm>
            <a:custGeom>
              <a:avLst/>
              <a:gdLst/>
              <a:ahLst/>
              <a:rect l="l" t="t" r="r" b="b"/>
              <a:pathLst>
                <a:path w="5" h="21">
                  <a:moveTo>
                    <a:pt x="5" y="0"/>
                  </a:moveTo>
                  <a:lnTo>
                    <a:pt x="0" y="5"/>
                  </a:lnTo>
                  <a:lnTo>
                    <a:pt x="0" y="21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6" name=""/>
            <p:cNvSpPr/>
            <p:nvPr/>
          </p:nvSpPr>
          <p:spPr>
            <a:xfrm>
              <a:off x="6259680" y="3422520"/>
              <a:ext cx="1440" cy="34920"/>
            </a:xfrm>
            <a:custGeom>
              <a:avLst/>
              <a:gdLst/>
              <a:ahLst/>
              <a:rect l="l" t="t" r="r" b="b"/>
              <a:pathLst>
                <a:path w="0" h="22">
                  <a:moveTo>
                    <a:pt x="0" y="0"/>
                  </a:moveTo>
                  <a:lnTo>
                    <a:pt x="0" y="0"/>
                  </a:lnTo>
                  <a:lnTo>
                    <a:pt x="0" y="17"/>
                  </a:lnTo>
                  <a:lnTo>
                    <a:pt x="0" y="22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7" name=""/>
            <p:cNvSpPr/>
            <p:nvPr/>
          </p:nvSpPr>
          <p:spPr>
            <a:xfrm flipH="1">
              <a:off x="6242040" y="3492360"/>
              <a:ext cx="9360" cy="349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8" name=""/>
            <p:cNvSpPr/>
            <p:nvPr/>
          </p:nvSpPr>
          <p:spPr>
            <a:xfrm>
              <a:off x="6216480" y="3560760"/>
              <a:ext cx="17640" cy="2700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11" y="0"/>
                  </a:moveTo>
                  <a:lnTo>
                    <a:pt x="11" y="6"/>
                  </a:lnTo>
                  <a:lnTo>
                    <a:pt x="0" y="17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9" name=""/>
            <p:cNvSpPr/>
            <p:nvPr/>
          </p:nvSpPr>
          <p:spPr>
            <a:xfrm>
              <a:off x="6164280" y="3578400"/>
              <a:ext cx="27000" cy="9360"/>
            </a:xfrm>
            <a:custGeom>
              <a:avLst/>
              <a:gdLst/>
              <a:ahLst/>
              <a:rect l="l" t="t" r="r" b="b"/>
              <a:pathLst>
                <a:path w="17" h="6">
                  <a:moveTo>
                    <a:pt x="17" y="6"/>
                  </a:moveTo>
                  <a:lnTo>
                    <a:pt x="0" y="0"/>
                  </a:lnTo>
                  <a:lnTo>
                    <a:pt x="0" y="6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0" name=""/>
            <p:cNvSpPr/>
            <p:nvPr/>
          </p:nvSpPr>
          <p:spPr>
            <a:xfrm>
              <a:off x="6130800" y="3613320"/>
              <a:ext cx="15840" cy="34920"/>
            </a:xfrm>
            <a:custGeom>
              <a:avLst/>
              <a:gdLst/>
              <a:ahLst/>
              <a:rect l="l" t="t" r="r" b="b"/>
              <a:pathLst>
                <a:path w="10" h="22">
                  <a:moveTo>
                    <a:pt x="10" y="0"/>
                  </a:moveTo>
                  <a:lnTo>
                    <a:pt x="10" y="6"/>
                  </a:lnTo>
                  <a:lnTo>
                    <a:pt x="0" y="22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1" name=""/>
            <p:cNvSpPr/>
            <p:nvPr/>
          </p:nvSpPr>
          <p:spPr>
            <a:xfrm>
              <a:off x="6138720" y="3683160"/>
              <a:ext cx="7920" cy="349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2" name=""/>
            <p:cNvSpPr/>
            <p:nvPr/>
          </p:nvSpPr>
          <p:spPr>
            <a:xfrm>
              <a:off x="6130800" y="3751200"/>
              <a:ext cx="1800" cy="34920"/>
            </a:xfrm>
            <a:custGeom>
              <a:avLst/>
              <a:gdLst/>
              <a:ahLst/>
              <a:rect l="l" t="t" r="r" b="b"/>
              <a:pathLst>
                <a:path w="0" h="22">
                  <a:moveTo>
                    <a:pt x="0" y="0"/>
                  </a:moveTo>
                  <a:lnTo>
                    <a:pt x="0" y="6"/>
                  </a:lnTo>
                  <a:lnTo>
                    <a:pt x="0" y="22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3" name=""/>
            <p:cNvSpPr/>
            <p:nvPr/>
          </p:nvSpPr>
          <p:spPr>
            <a:xfrm>
              <a:off x="6121440" y="3821040"/>
              <a:ext cx="1440" cy="349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4" name=""/>
            <p:cNvSpPr/>
            <p:nvPr/>
          </p:nvSpPr>
          <p:spPr>
            <a:xfrm>
              <a:off x="6113520" y="3890880"/>
              <a:ext cx="7920" cy="33480"/>
            </a:xfrm>
            <a:custGeom>
              <a:avLst/>
              <a:gdLst/>
              <a:ahLst/>
              <a:rect l="l" t="t" r="r" b="b"/>
              <a:pathLst>
                <a:path w="5" h="21">
                  <a:moveTo>
                    <a:pt x="5" y="0"/>
                  </a:moveTo>
                  <a:lnTo>
                    <a:pt x="0" y="10"/>
                  </a:lnTo>
                  <a:lnTo>
                    <a:pt x="0" y="21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5" name=""/>
            <p:cNvSpPr/>
            <p:nvPr/>
          </p:nvSpPr>
          <p:spPr>
            <a:xfrm>
              <a:off x="6086520" y="3959280"/>
              <a:ext cx="17280" cy="1728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11" y="0"/>
                  </a:moveTo>
                  <a:lnTo>
                    <a:pt x="11" y="11"/>
                  </a:lnTo>
                  <a:lnTo>
                    <a:pt x="0" y="6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6" name=""/>
            <p:cNvSpPr/>
            <p:nvPr/>
          </p:nvSpPr>
          <p:spPr>
            <a:xfrm flipH="1">
              <a:off x="6043680" y="3976560"/>
              <a:ext cx="17280" cy="255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7" name=""/>
            <p:cNvSpPr/>
            <p:nvPr/>
          </p:nvSpPr>
          <p:spPr>
            <a:xfrm flipH="1">
              <a:off x="6000840" y="4037040"/>
              <a:ext cx="17280" cy="270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8" name=""/>
            <p:cNvSpPr/>
            <p:nvPr/>
          </p:nvSpPr>
          <p:spPr>
            <a:xfrm flipH="1">
              <a:off x="5958000" y="4089240"/>
              <a:ext cx="15840" cy="255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9" name=""/>
            <p:cNvSpPr/>
            <p:nvPr/>
          </p:nvSpPr>
          <p:spPr>
            <a:xfrm flipH="1">
              <a:off x="5913000" y="4149720"/>
              <a:ext cx="27000" cy="255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0" name=""/>
            <p:cNvSpPr/>
            <p:nvPr/>
          </p:nvSpPr>
          <p:spPr>
            <a:xfrm flipH="1">
              <a:off x="5870160" y="4202280"/>
              <a:ext cx="25560" cy="349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1" name=""/>
            <p:cNvSpPr/>
            <p:nvPr/>
          </p:nvSpPr>
          <p:spPr>
            <a:xfrm>
              <a:off x="5827680" y="4253040"/>
              <a:ext cx="25560" cy="17280"/>
            </a:xfrm>
            <a:custGeom>
              <a:avLst/>
              <a:gdLst/>
              <a:ahLst/>
              <a:rect l="l" t="t" r="r" b="b"/>
              <a:pathLst>
                <a:path w="16" h="11">
                  <a:moveTo>
                    <a:pt x="16" y="6"/>
                  </a:moveTo>
                  <a:lnTo>
                    <a:pt x="11" y="11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2" name=""/>
            <p:cNvSpPr/>
            <p:nvPr/>
          </p:nvSpPr>
          <p:spPr>
            <a:xfrm flipH="1">
              <a:off x="5783400" y="4253040"/>
              <a:ext cx="17280" cy="349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3" name=""/>
            <p:cNvSpPr/>
            <p:nvPr/>
          </p:nvSpPr>
          <p:spPr>
            <a:xfrm>
              <a:off x="5767560" y="4314960"/>
              <a:ext cx="7920" cy="33120"/>
            </a:xfrm>
            <a:custGeom>
              <a:avLst/>
              <a:gdLst/>
              <a:ahLst/>
              <a:rect l="l" t="t" r="r" b="b"/>
              <a:pathLst>
                <a:path w="5" h="21">
                  <a:moveTo>
                    <a:pt x="5" y="0"/>
                  </a:moveTo>
                  <a:lnTo>
                    <a:pt x="0" y="11"/>
                  </a:lnTo>
                  <a:lnTo>
                    <a:pt x="0" y="21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4" name=""/>
            <p:cNvSpPr/>
            <p:nvPr/>
          </p:nvSpPr>
          <p:spPr>
            <a:xfrm flipH="1">
              <a:off x="5740560" y="4383000"/>
              <a:ext cx="9360" cy="349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5" name=""/>
            <p:cNvSpPr/>
            <p:nvPr/>
          </p:nvSpPr>
          <p:spPr>
            <a:xfrm flipH="1">
              <a:off x="5714640" y="4452840"/>
              <a:ext cx="17640" cy="349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6" name=""/>
            <p:cNvSpPr/>
            <p:nvPr/>
          </p:nvSpPr>
          <p:spPr>
            <a:xfrm flipH="1">
              <a:off x="5697000" y="4521240"/>
              <a:ext cx="8280" cy="270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7" name=""/>
            <p:cNvSpPr/>
            <p:nvPr/>
          </p:nvSpPr>
          <p:spPr>
            <a:xfrm flipH="1">
              <a:off x="5672160" y="4583160"/>
              <a:ext cx="7920" cy="331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8" name=""/>
            <p:cNvSpPr/>
            <p:nvPr/>
          </p:nvSpPr>
          <p:spPr>
            <a:xfrm flipH="1">
              <a:off x="5645160" y="4651200"/>
              <a:ext cx="17280" cy="352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9" name=""/>
            <p:cNvSpPr/>
            <p:nvPr/>
          </p:nvSpPr>
          <p:spPr>
            <a:xfrm flipH="1">
              <a:off x="5627160" y="4721400"/>
              <a:ext cx="9720" cy="349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0" name=""/>
            <p:cNvSpPr/>
            <p:nvPr/>
          </p:nvSpPr>
          <p:spPr>
            <a:xfrm flipH="1">
              <a:off x="5602320" y="4781520"/>
              <a:ext cx="17280" cy="349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1" name=""/>
            <p:cNvSpPr/>
            <p:nvPr/>
          </p:nvSpPr>
          <p:spPr>
            <a:xfrm flipH="1">
              <a:off x="5584320" y="4851360"/>
              <a:ext cx="9720" cy="334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2" name=""/>
            <p:cNvSpPr/>
            <p:nvPr/>
          </p:nvSpPr>
          <p:spPr>
            <a:xfrm flipH="1">
              <a:off x="5559480" y="4919760"/>
              <a:ext cx="7920" cy="349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3" name=""/>
            <p:cNvSpPr/>
            <p:nvPr/>
          </p:nvSpPr>
          <p:spPr>
            <a:xfrm flipH="1">
              <a:off x="5532480" y="4989600"/>
              <a:ext cx="17280" cy="252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4" name=""/>
            <p:cNvSpPr/>
            <p:nvPr/>
          </p:nvSpPr>
          <p:spPr>
            <a:xfrm>
              <a:off x="5697360" y="2444760"/>
              <a:ext cx="35280" cy="93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5" name=""/>
            <p:cNvSpPr/>
            <p:nvPr/>
          </p:nvSpPr>
          <p:spPr>
            <a:xfrm>
              <a:off x="5767560" y="2454120"/>
              <a:ext cx="33120" cy="18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6" name=""/>
            <p:cNvSpPr/>
            <p:nvPr/>
          </p:nvSpPr>
          <p:spPr>
            <a:xfrm>
              <a:off x="5835600" y="2454120"/>
              <a:ext cx="34920" cy="79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7" name=""/>
            <p:cNvSpPr/>
            <p:nvPr/>
          </p:nvSpPr>
          <p:spPr>
            <a:xfrm>
              <a:off x="5905440" y="2462040"/>
              <a:ext cx="34920" cy="18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8" name=""/>
            <p:cNvSpPr/>
            <p:nvPr/>
          </p:nvSpPr>
          <p:spPr>
            <a:xfrm>
              <a:off x="5973840" y="2462040"/>
              <a:ext cx="34920" cy="9720"/>
            </a:xfrm>
            <a:custGeom>
              <a:avLst/>
              <a:gdLst/>
              <a:ahLst/>
              <a:rect l="l" t="t" r="r" b="b"/>
              <a:pathLst>
                <a:path w="22" h="6">
                  <a:moveTo>
                    <a:pt x="0" y="0"/>
                  </a:moveTo>
                  <a:lnTo>
                    <a:pt x="6" y="0"/>
                  </a:lnTo>
                  <a:lnTo>
                    <a:pt x="22" y="6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9" name=""/>
            <p:cNvSpPr/>
            <p:nvPr/>
          </p:nvSpPr>
          <p:spPr>
            <a:xfrm>
              <a:off x="6043680" y="2489040"/>
              <a:ext cx="25200" cy="176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0" name=""/>
            <p:cNvSpPr/>
            <p:nvPr/>
          </p:nvSpPr>
          <p:spPr>
            <a:xfrm>
              <a:off x="6103800" y="2514600"/>
              <a:ext cx="34920" cy="176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1" name=""/>
            <p:cNvSpPr/>
            <p:nvPr/>
          </p:nvSpPr>
          <p:spPr>
            <a:xfrm>
              <a:off x="6173640" y="2549520"/>
              <a:ext cx="25560" cy="79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2" name=""/>
            <p:cNvSpPr/>
            <p:nvPr/>
          </p:nvSpPr>
          <p:spPr>
            <a:xfrm>
              <a:off x="6234120" y="2575080"/>
              <a:ext cx="34920" cy="172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3" name=""/>
            <p:cNvSpPr/>
            <p:nvPr/>
          </p:nvSpPr>
          <p:spPr>
            <a:xfrm>
              <a:off x="6294600" y="2610000"/>
              <a:ext cx="34920" cy="79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4" name=""/>
            <p:cNvSpPr/>
            <p:nvPr/>
          </p:nvSpPr>
          <p:spPr>
            <a:xfrm>
              <a:off x="6364440" y="2635200"/>
              <a:ext cx="34920" cy="176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5" name=""/>
            <p:cNvSpPr/>
            <p:nvPr/>
          </p:nvSpPr>
          <p:spPr>
            <a:xfrm>
              <a:off x="6424560" y="2662200"/>
              <a:ext cx="34920" cy="176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6" name=""/>
            <p:cNvSpPr/>
            <p:nvPr/>
          </p:nvSpPr>
          <p:spPr>
            <a:xfrm flipV="1">
              <a:off x="6494400" y="2652480"/>
              <a:ext cx="25560" cy="270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7" name=""/>
            <p:cNvSpPr/>
            <p:nvPr/>
          </p:nvSpPr>
          <p:spPr>
            <a:xfrm>
              <a:off x="6545160" y="2635200"/>
              <a:ext cx="34920" cy="18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8" name=""/>
            <p:cNvSpPr/>
            <p:nvPr/>
          </p:nvSpPr>
          <p:spPr>
            <a:xfrm flipV="1">
              <a:off x="6615000" y="2627280"/>
              <a:ext cx="34920" cy="79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9" name=""/>
            <p:cNvSpPr/>
            <p:nvPr/>
          </p:nvSpPr>
          <p:spPr>
            <a:xfrm flipH="1">
              <a:off x="5973840" y="2471760"/>
              <a:ext cx="9360" cy="349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0" name=""/>
            <p:cNvSpPr/>
            <p:nvPr/>
          </p:nvSpPr>
          <p:spPr>
            <a:xfrm>
              <a:off x="5965920" y="2540160"/>
              <a:ext cx="7920" cy="34920"/>
            </a:xfrm>
            <a:custGeom>
              <a:avLst/>
              <a:gdLst/>
              <a:ahLst/>
              <a:rect l="l" t="t" r="r" b="b"/>
              <a:pathLst>
                <a:path w="5" h="22">
                  <a:moveTo>
                    <a:pt x="5" y="0"/>
                  </a:moveTo>
                  <a:lnTo>
                    <a:pt x="5" y="11"/>
                  </a:lnTo>
                  <a:lnTo>
                    <a:pt x="0" y="22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01" name=""/>
          <p:cNvGrpSpPr/>
          <p:nvPr/>
        </p:nvGrpSpPr>
        <p:grpSpPr>
          <a:xfrm>
            <a:off x="2139840" y="1943280"/>
            <a:ext cx="4694040" cy="3877200"/>
            <a:chOff x="2139840" y="1943280"/>
            <a:chExt cx="4694040" cy="3877200"/>
          </a:xfrm>
        </p:grpSpPr>
        <p:sp>
          <p:nvSpPr>
            <p:cNvPr id="8202" name=""/>
            <p:cNvSpPr/>
            <p:nvPr/>
          </p:nvSpPr>
          <p:spPr>
            <a:xfrm flipH="1">
              <a:off x="5958000" y="2610000"/>
              <a:ext cx="7920" cy="349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3" name=""/>
            <p:cNvSpPr/>
            <p:nvPr/>
          </p:nvSpPr>
          <p:spPr>
            <a:xfrm>
              <a:off x="5940360" y="2679840"/>
              <a:ext cx="7920" cy="33120"/>
            </a:xfrm>
            <a:custGeom>
              <a:avLst/>
              <a:gdLst/>
              <a:ahLst/>
              <a:rect l="l" t="t" r="r" b="b"/>
              <a:pathLst>
                <a:path w="5" h="21">
                  <a:moveTo>
                    <a:pt x="5" y="0"/>
                  </a:moveTo>
                  <a:lnTo>
                    <a:pt x="0" y="16"/>
                  </a:lnTo>
                  <a:lnTo>
                    <a:pt x="0" y="21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4" name=""/>
            <p:cNvSpPr/>
            <p:nvPr/>
          </p:nvSpPr>
          <p:spPr>
            <a:xfrm>
              <a:off x="5913360" y="2747880"/>
              <a:ext cx="9720" cy="25560"/>
            </a:xfrm>
            <a:custGeom>
              <a:avLst/>
              <a:gdLst/>
              <a:ahLst/>
              <a:rect l="l" t="t" r="r" b="b"/>
              <a:pathLst>
                <a:path w="6" h="16">
                  <a:moveTo>
                    <a:pt x="6" y="0"/>
                  </a:moveTo>
                  <a:lnTo>
                    <a:pt x="6" y="6"/>
                  </a:lnTo>
                  <a:lnTo>
                    <a:pt x="0" y="16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5" name=""/>
            <p:cNvSpPr/>
            <p:nvPr/>
          </p:nvSpPr>
          <p:spPr>
            <a:xfrm>
              <a:off x="5888160" y="2808360"/>
              <a:ext cx="7920" cy="34920"/>
            </a:xfrm>
            <a:custGeom>
              <a:avLst/>
              <a:gdLst/>
              <a:ahLst/>
              <a:rect l="l" t="t" r="r" b="b"/>
              <a:pathLst>
                <a:path w="5" h="22">
                  <a:moveTo>
                    <a:pt x="5" y="0"/>
                  </a:moveTo>
                  <a:lnTo>
                    <a:pt x="5" y="6"/>
                  </a:lnTo>
                  <a:lnTo>
                    <a:pt x="0" y="22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6" name=""/>
            <p:cNvSpPr/>
            <p:nvPr/>
          </p:nvSpPr>
          <p:spPr>
            <a:xfrm>
              <a:off x="5878440" y="2878200"/>
              <a:ext cx="1800" cy="34920"/>
            </a:xfrm>
            <a:custGeom>
              <a:avLst/>
              <a:gdLst/>
              <a:ahLst/>
              <a:rect l="l" t="t" r="r" b="b"/>
              <a:pathLst>
                <a:path w="0" h="22">
                  <a:moveTo>
                    <a:pt x="0" y="0"/>
                  </a:moveTo>
                  <a:lnTo>
                    <a:pt x="0" y="5"/>
                  </a:lnTo>
                  <a:lnTo>
                    <a:pt x="0" y="16"/>
                  </a:lnTo>
                  <a:lnTo>
                    <a:pt x="0" y="22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7" name=""/>
            <p:cNvSpPr/>
            <p:nvPr/>
          </p:nvSpPr>
          <p:spPr>
            <a:xfrm>
              <a:off x="5888160" y="2946240"/>
              <a:ext cx="17280" cy="2700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0" y="0"/>
                  </a:moveTo>
                  <a:lnTo>
                    <a:pt x="5" y="0"/>
                  </a:lnTo>
                  <a:lnTo>
                    <a:pt x="5" y="6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11" y="17"/>
                  </a:lnTo>
                  <a:lnTo>
                    <a:pt x="11" y="17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8" name=""/>
            <p:cNvSpPr/>
            <p:nvPr/>
          </p:nvSpPr>
          <p:spPr>
            <a:xfrm>
              <a:off x="5888160" y="3016080"/>
              <a:ext cx="7920" cy="25560"/>
            </a:xfrm>
            <a:custGeom>
              <a:avLst/>
              <a:gdLst/>
              <a:ahLst/>
              <a:rect l="l" t="t" r="r" b="b"/>
              <a:pathLst>
                <a:path w="5" h="16">
                  <a:moveTo>
                    <a:pt x="5" y="0"/>
                  </a:moveTo>
                  <a:lnTo>
                    <a:pt x="5" y="11"/>
                  </a:lnTo>
                  <a:lnTo>
                    <a:pt x="0" y="16"/>
                  </a:lnTo>
                  <a:lnTo>
                    <a:pt x="0" y="16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9" name=""/>
            <p:cNvSpPr/>
            <p:nvPr/>
          </p:nvSpPr>
          <p:spPr>
            <a:xfrm>
              <a:off x="5845320" y="3059280"/>
              <a:ext cx="7920" cy="34920"/>
            </a:xfrm>
            <a:custGeom>
              <a:avLst/>
              <a:gdLst/>
              <a:ahLst/>
              <a:rect l="l" t="t" r="r" b="b"/>
              <a:pathLst>
                <a:path w="5" h="22">
                  <a:moveTo>
                    <a:pt x="5" y="0"/>
                  </a:moveTo>
                  <a:lnTo>
                    <a:pt x="5" y="11"/>
                  </a:lnTo>
                  <a:lnTo>
                    <a:pt x="0" y="22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0" name=""/>
            <p:cNvSpPr/>
            <p:nvPr/>
          </p:nvSpPr>
          <p:spPr>
            <a:xfrm>
              <a:off x="5783400" y="3103560"/>
              <a:ext cx="34920" cy="7920"/>
            </a:xfrm>
            <a:custGeom>
              <a:avLst/>
              <a:gdLst/>
              <a:ahLst/>
              <a:rect l="l" t="t" r="r" b="b"/>
              <a:pathLst>
                <a:path w="22" h="5">
                  <a:moveTo>
                    <a:pt x="22" y="0"/>
                  </a:moveTo>
                  <a:lnTo>
                    <a:pt x="6" y="5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1" name=""/>
            <p:cNvSpPr/>
            <p:nvPr/>
          </p:nvSpPr>
          <p:spPr>
            <a:xfrm>
              <a:off x="5715000" y="3094200"/>
              <a:ext cx="34920" cy="9360"/>
            </a:xfrm>
            <a:custGeom>
              <a:avLst/>
              <a:gdLst/>
              <a:ahLst/>
              <a:rect l="l" t="t" r="r" b="b"/>
              <a:pathLst>
                <a:path w="22" h="6">
                  <a:moveTo>
                    <a:pt x="22" y="6"/>
                  </a:moveTo>
                  <a:lnTo>
                    <a:pt x="16" y="6"/>
                  </a:lnTo>
                  <a:lnTo>
                    <a:pt x="0" y="0"/>
                  </a:lnTo>
                  <a:lnTo>
                    <a:pt x="0" y="6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2" name=""/>
            <p:cNvSpPr/>
            <p:nvPr/>
          </p:nvSpPr>
          <p:spPr>
            <a:xfrm>
              <a:off x="5680080" y="3137040"/>
              <a:ext cx="25560" cy="2700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16" y="0"/>
                  </a:moveTo>
                  <a:lnTo>
                    <a:pt x="16" y="0"/>
                  </a:lnTo>
                  <a:lnTo>
                    <a:pt x="16" y="6"/>
                  </a:lnTo>
                  <a:lnTo>
                    <a:pt x="11" y="11"/>
                  </a:lnTo>
                  <a:lnTo>
                    <a:pt x="0" y="17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3" name=""/>
            <p:cNvSpPr/>
            <p:nvPr/>
          </p:nvSpPr>
          <p:spPr>
            <a:xfrm>
              <a:off x="5672160" y="3189240"/>
              <a:ext cx="7920" cy="34920"/>
            </a:xfrm>
            <a:custGeom>
              <a:avLst/>
              <a:gdLst/>
              <a:ahLst/>
              <a:rect l="l" t="t" r="r" b="b"/>
              <a:pathLst>
                <a:path w="5" h="22">
                  <a:moveTo>
                    <a:pt x="0" y="0"/>
                  </a:moveTo>
                  <a:lnTo>
                    <a:pt x="0" y="11"/>
                  </a:lnTo>
                  <a:lnTo>
                    <a:pt x="5" y="22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4" name=""/>
            <p:cNvSpPr/>
            <p:nvPr/>
          </p:nvSpPr>
          <p:spPr>
            <a:xfrm>
              <a:off x="5645160" y="3259080"/>
              <a:ext cx="34920" cy="1800"/>
            </a:xfrm>
            <a:custGeom>
              <a:avLst/>
              <a:gdLst/>
              <a:ahLst/>
              <a:rect l="l" t="t" r="r" b="b"/>
              <a:pathLst>
                <a:path w="22" h="0">
                  <a:moveTo>
                    <a:pt x="22" y="0"/>
                  </a:moveTo>
                  <a:lnTo>
                    <a:pt x="22" y="0"/>
                  </a:lnTo>
                  <a:lnTo>
                    <a:pt x="6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5" name=""/>
            <p:cNvSpPr/>
            <p:nvPr/>
          </p:nvSpPr>
          <p:spPr>
            <a:xfrm>
              <a:off x="5602320" y="3284640"/>
              <a:ext cx="17280" cy="34920"/>
            </a:xfrm>
            <a:custGeom>
              <a:avLst/>
              <a:gdLst/>
              <a:ahLst/>
              <a:rect l="l" t="t" r="r" b="b"/>
              <a:pathLst>
                <a:path w="11" h="22">
                  <a:moveTo>
                    <a:pt x="11" y="0"/>
                  </a:moveTo>
                  <a:lnTo>
                    <a:pt x="5" y="11"/>
                  </a:lnTo>
                  <a:lnTo>
                    <a:pt x="0" y="22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6" name=""/>
            <p:cNvSpPr/>
            <p:nvPr/>
          </p:nvSpPr>
          <p:spPr>
            <a:xfrm flipH="1">
              <a:off x="5567400" y="3344760"/>
              <a:ext cx="17280" cy="349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7" name=""/>
            <p:cNvSpPr/>
            <p:nvPr/>
          </p:nvSpPr>
          <p:spPr>
            <a:xfrm>
              <a:off x="5524560" y="3405240"/>
              <a:ext cx="25200" cy="2700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16" y="0"/>
                  </a:moveTo>
                  <a:lnTo>
                    <a:pt x="11" y="6"/>
                  </a:lnTo>
                  <a:lnTo>
                    <a:pt x="5" y="17"/>
                  </a:lnTo>
                  <a:lnTo>
                    <a:pt x="0" y="17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8" name=""/>
            <p:cNvSpPr/>
            <p:nvPr/>
          </p:nvSpPr>
          <p:spPr>
            <a:xfrm>
              <a:off x="5481720" y="3379680"/>
              <a:ext cx="17280" cy="34920"/>
            </a:xfrm>
            <a:custGeom>
              <a:avLst/>
              <a:gdLst/>
              <a:ahLst/>
              <a:rect l="l" t="t" r="r" b="b"/>
              <a:pathLst>
                <a:path w="11" h="22">
                  <a:moveTo>
                    <a:pt x="11" y="22"/>
                  </a:moveTo>
                  <a:lnTo>
                    <a:pt x="11" y="22"/>
                  </a:lnTo>
                  <a:lnTo>
                    <a:pt x="0" y="5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9" name=""/>
            <p:cNvSpPr/>
            <p:nvPr/>
          </p:nvSpPr>
          <p:spPr>
            <a:xfrm flipH="1">
              <a:off x="5419440" y="3362400"/>
              <a:ext cx="3492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0" name=""/>
            <p:cNvSpPr/>
            <p:nvPr/>
          </p:nvSpPr>
          <p:spPr>
            <a:xfrm flipH="1">
              <a:off x="5351040" y="3354480"/>
              <a:ext cx="3492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1" name=""/>
            <p:cNvSpPr/>
            <p:nvPr/>
          </p:nvSpPr>
          <p:spPr>
            <a:xfrm flipH="1">
              <a:off x="5281200" y="3344760"/>
              <a:ext cx="34920" cy="18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2" name=""/>
            <p:cNvSpPr/>
            <p:nvPr/>
          </p:nvSpPr>
          <p:spPr>
            <a:xfrm flipH="1">
              <a:off x="5213520" y="3336840"/>
              <a:ext cx="33120" cy="18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3" name=""/>
            <p:cNvSpPr/>
            <p:nvPr/>
          </p:nvSpPr>
          <p:spPr>
            <a:xfrm>
              <a:off x="5186520" y="3344760"/>
              <a:ext cx="1440" cy="349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4" name=""/>
            <p:cNvSpPr/>
            <p:nvPr/>
          </p:nvSpPr>
          <p:spPr>
            <a:xfrm flipH="1">
              <a:off x="5178600" y="3414600"/>
              <a:ext cx="7920" cy="349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5" name=""/>
            <p:cNvSpPr/>
            <p:nvPr/>
          </p:nvSpPr>
          <p:spPr>
            <a:xfrm>
              <a:off x="5135400" y="3449520"/>
              <a:ext cx="8280" cy="15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5" y="0"/>
                  </a:moveTo>
                  <a:lnTo>
                    <a:pt x="0" y="0"/>
                  </a:lnTo>
                  <a:lnTo>
                    <a:pt x="0" y="1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6" name=""/>
            <p:cNvSpPr/>
            <p:nvPr/>
          </p:nvSpPr>
          <p:spPr>
            <a:xfrm>
              <a:off x="5126040" y="3500280"/>
              <a:ext cx="1440" cy="349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7" name=""/>
            <p:cNvSpPr/>
            <p:nvPr/>
          </p:nvSpPr>
          <p:spPr>
            <a:xfrm flipH="1" flipV="1">
              <a:off x="5073120" y="3544920"/>
              <a:ext cx="34920" cy="79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8" name=""/>
            <p:cNvSpPr/>
            <p:nvPr/>
          </p:nvSpPr>
          <p:spPr>
            <a:xfrm>
              <a:off x="5056200" y="3560760"/>
              <a:ext cx="1440" cy="176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9" name=""/>
            <p:cNvSpPr/>
            <p:nvPr/>
          </p:nvSpPr>
          <p:spPr>
            <a:xfrm flipH="1" flipV="1">
              <a:off x="4754160" y="3164040"/>
              <a:ext cx="17640" cy="252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0" name=""/>
            <p:cNvSpPr/>
            <p:nvPr/>
          </p:nvSpPr>
          <p:spPr>
            <a:xfrm>
              <a:off x="4737240" y="3094200"/>
              <a:ext cx="1440" cy="34920"/>
            </a:xfrm>
            <a:custGeom>
              <a:avLst/>
              <a:gdLst/>
              <a:ahLst/>
              <a:rect l="l" t="t" r="r" b="b"/>
              <a:pathLst>
                <a:path w="0" h="22">
                  <a:moveTo>
                    <a:pt x="0" y="22"/>
                  </a:move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1" name=""/>
            <p:cNvSpPr/>
            <p:nvPr/>
          </p:nvSpPr>
          <p:spPr>
            <a:xfrm>
              <a:off x="4737240" y="3025800"/>
              <a:ext cx="1440" cy="33480"/>
            </a:xfrm>
            <a:custGeom>
              <a:avLst/>
              <a:gdLst/>
              <a:ahLst/>
              <a:rect l="l" t="t" r="r" b="b"/>
              <a:pathLst>
                <a:path w="0" h="21">
                  <a:moveTo>
                    <a:pt x="0" y="21"/>
                  </a:moveTo>
                  <a:lnTo>
                    <a:pt x="0" y="1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2" name=""/>
            <p:cNvSpPr/>
            <p:nvPr/>
          </p:nvSpPr>
          <p:spPr>
            <a:xfrm>
              <a:off x="4737240" y="2955960"/>
              <a:ext cx="7920" cy="34920"/>
            </a:xfrm>
            <a:custGeom>
              <a:avLst/>
              <a:gdLst/>
              <a:ahLst/>
              <a:rect l="l" t="t" r="r" b="b"/>
              <a:pathLst>
                <a:path w="5" h="22">
                  <a:moveTo>
                    <a:pt x="0" y="22"/>
                  </a:moveTo>
                  <a:lnTo>
                    <a:pt x="0" y="16"/>
                  </a:lnTo>
                  <a:lnTo>
                    <a:pt x="5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3" name=""/>
            <p:cNvSpPr/>
            <p:nvPr/>
          </p:nvSpPr>
          <p:spPr>
            <a:xfrm>
              <a:off x="4745160" y="2886120"/>
              <a:ext cx="9360" cy="34920"/>
            </a:xfrm>
            <a:custGeom>
              <a:avLst/>
              <a:gdLst/>
              <a:ahLst/>
              <a:rect l="l" t="t" r="r" b="b"/>
              <a:pathLst>
                <a:path w="6" h="22">
                  <a:moveTo>
                    <a:pt x="0" y="22"/>
                  </a:moveTo>
                  <a:lnTo>
                    <a:pt x="6" y="11"/>
                  </a:lnTo>
                  <a:lnTo>
                    <a:pt x="6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4" name=""/>
            <p:cNvSpPr/>
            <p:nvPr/>
          </p:nvSpPr>
          <p:spPr>
            <a:xfrm>
              <a:off x="4727520" y="2825640"/>
              <a:ext cx="17640" cy="2700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11" y="17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5" name=""/>
            <p:cNvSpPr/>
            <p:nvPr/>
          </p:nvSpPr>
          <p:spPr>
            <a:xfrm>
              <a:off x="4676760" y="2782800"/>
              <a:ext cx="15840" cy="25560"/>
            </a:xfrm>
            <a:custGeom>
              <a:avLst/>
              <a:gdLst/>
              <a:ahLst/>
              <a:rect l="l" t="t" r="r" b="b"/>
              <a:pathLst>
                <a:path w="10" h="16">
                  <a:moveTo>
                    <a:pt x="10" y="16"/>
                  </a:moveTo>
                  <a:lnTo>
                    <a:pt x="0" y="5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6" name=""/>
            <p:cNvSpPr/>
            <p:nvPr/>
          </p:nvSpPr>
          <p:spPr>
            <a:xfrm>
              <a:off x="4632480" y="2722680"/>
              <a:ext cx="27000" cy="2520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17" y="16"/>
                  </a:moveTo>
                  <a:lnTo>
                    <a:pt x="11" y="5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7" name=""/>
            <p:cNvSpPr/>
            <p:nvPr/>
          </p:nvSpPr>
          <p:spPr>
            <a:xfrm>
              <a:off x="4589640" y="2670120"/>
              <a:ext cx="25200" cy="2556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16" y="16"/>
                  </a:moveTo>
                  <a:lnTo>
                    <a:pt x="6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8" name=""/>
            <p:cNvSpPr/>
            <p:nvPr/>
          </p:nvSpPr>
          <p:spPr>
            <a:xfrm flipH="1" flipV="1">
              <a:off x="4546080" y="2610000"/>
              <a:ext cx="17640" cy="252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9" name=""/>
            <p:cNvSpPr/>
            <p:nvPr/>
          </p:nvSpPr>
          <p:spPr>
            <a:xfrm flipH="1" flipV="1">
              <a:off x="4494240" y="2557080"/>
              <a:ext cx="25200" cy="270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0" name=""/>
            <p:cNvSpPr/>
            <p:nvPr/>
          </p:nvSpPr>
          <p:spPr>
            <a:xfrm>
              <a:off x="4451400" y="2506680"/>
              <a:ext cx="17280" cy="33480"/>
            </a:xfrm>
            <a:custGeom>
              <a:avLst/>
              <a:gdLst/>
              <a:ahLst/>
              <a:rect l="l" t="t" r="r" b="b"/>
              <a:pathLst>
                <a:path w="11" h="21">
                  <a:moveTo>
                    <a:pt x="11" y="21"/>
                  </a:moveTo>
                  <a:lnTo>
                    <a:pt x="11" y="16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1" name=""/>
            <p:cNvSpPr/>
            <p:nvPr/>
          </p:nvSpPr>
          <p:spPr>
            <a:xfrm flipH="1" flipV="1">
              <a:off x="4416480" y="2444400"/>
              <a:ext cx="17280" cy="349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2" name=""/>
            <p:cNvSpPr/>
            <p:nvPr/>
          </p:nvSpPr>
          <p:spPr>
            <a:xfrm>
              <a:off x="4346640" y="2444760"/>
              <a:ext cx="34920" cy="1440"/>
            </a:xfrm>
            <a:custGeom>
              <a:avLst/>
              <a:gdLst/>
              <a:ahLst/>
              <a:rect l="l" t="t" r="r" b="b"/>
              <a:pathLst>
                <a:path w="22" h="0">
                  <a:moveTo>
                    <a:pt x="22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3" name=""/>
            <p:cNvSpPr/>
            <p:nvPr/>
          </p:nvSpPr>
          <p:spPr>
            <a:xfrm flipH="1" flipV="1">
              <a:off x="4962600" y="3517560"/>
              <a:ext cx="15840" cy="270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4" name=""/>
            <p:cNvSpPr/>
            <p:nvPr/>
          </p:nvSpPr>
          <p:spPr>
            <a:xfrm>
              <a:off x="4927680" y="3457440"/>
              <a:ext cx="17280" cy="25560"/>
            </a:xfrm>
            <a:custGeom>
              <a:avLst/>
              <a:gdLst/>
              <a:ahLst/>
              <a:rect l="l" t="t" r="r" b="b"/>
              <a:pathLst>
                <a:path w="11" h="16">
                  <a:moveTo>
                    <a:pt x="11" y="16"/>
                  </a:moveTo>
                  <a:lnTo>
                    <a:pt x="11" y="16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5" name=""/>
            <p:cNvSpPr/>
            <p:nvPr/>
          </p:nvSpPr>
          <p:spPr>
            <a:xfrm>
              <a:off x="4900680" y="3387600"/>
              <a:ext cx="9360" cy="34920"/>
            </a:xfrm>
            <a:custGeom>
              <a:avLst/>
              <a:gdLst/>
              <a:ahLst/>
              <a:rect l="l" t="t" r="r" b="b"/>
              <a:pathLst>
                <a:path w="6" h="22">
                  <a:moveTo>
                    <a:pt x="6" y="22"/>
                  </a:moveTo>
                  <a:lnTo>
                    <a:pt x="0" y="11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6" name=""/>
            <p:cNvSpPr/>
            <p:nvPr/>
          </p:nvSpPr>
          <p:spPr>
            <a:xfrm>
              <a:off x="4867200" y="3327480"/>
              <a:ext cx="15840" cy="34920"/>
            </a:xfrm>
            <a:custGeom>
              <a:avLst/>
              <a:gdLst/>
              <a:ahLst/>
              <a:rect l="l" t="t" r="r" b="b"/>
              <a:pathLst>
                <a:path w="10" h="22">
                  <a:moveTo>
                    <a:pt x="10" y="22"/>
                  </a:moveTo>
                  <a:lnTo>
                    <a:pt x="5" y="11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7" name=""/>
            <p:cNvSpPr/>
            <p:nvPr/>
          </p:nvSpPr>
          <p:spPr>
            <a:xfrm flipH="1" flipV="1">
              <a:off x="4831920" y="3266640"/>
              <a:ext cx="25560" cy="255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8" name=""/>
            <p:cNvSpPr/>
            <p:nvPr/>
          </p:nvSpPr>
          <p:spPr>
            <a:xfrm>
              <a:off x="4788000" y="32148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7" y="17"/>
                  </a:moveTo>
                  <a:lnTo>
                    <a:pt x="6" y="6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9" name=""/>
            <p:cNvSpPr/>
            <p:nvPr/>
          </p:nvSpPr>
          <p:spPr>
            <a:xfrm flipV="1">
              <a:off x="4780080" y="3146040"/>
              <a:ext cx="1440" cy="349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0" name=""/>
            <p:cNvSpPr/>
            <p:nvPr/>
          </p:nvSpPr>
          <p:spPr>
            <a:xfrm flipV="1">
              <a:off x="4788000" y="3076200"/>
              <a:ext cx="9360" cy="349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1" name=""/>
            <p:cNvSpPr/>
            <p:nvPr/>
          </p:nvSpPr>
          <p:spPr>
            <a:xfrm flipV="1">
              <a:off x="4797360" y="3007800"/>
              <a:ext cx="7920" cy="334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2" name=""/>
            <p:cNvSpPr/>
            <p:nvPr/>
          </p:nvSpPr>
          <p:spPr>
            <a:xfrm>
              <a:off x="4805280" y="2938320"/>
              <a:ext cx="9720" cy="34920"/>
            </a:xfrm>
            <a:custGeom>
              <a:avLst/>
              <a:gdLst/>
              <a:ahLst/>
              <a:rect l="l" t="t" r="r" b="b"/>
              <a:pathLst>
                <a:path w="6" h="22">
                  <a:moveTo>
                    <a:pt x="0" y="22"/>
                  </a:moveTo>
                  <a:lnTo>
                    <a:pt x="0" y="16"/>
                  </a:lnTo>
                  <a:lnTo>
                    <a:pt x="6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3" name=""/>
            <p:cNvSpPr/>
            <p:nvPr/>
          </p:nvSpPr>
          <p:spPr>
            <a:xfrm flipV="1">
              <a:off x="4822920" y="2868120"/>
              <a:ext cx="1440" cy="349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4" name=""/>
            <p:cNvSpPr/>
            <p:nvPr/>
          </p:nvSpPr>
          <p:spPr>
            <a:xfrm flipV="1">
              <a:off x="4832280" y="2800080"/>
              <a:ext cx="1800" cy="349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5" name=""/>
            <p:cNvSpPr/>
            <p:nvPr/>
          </p:nvSpPr>
          <p:spPr>
            <a:xfrm>
              <a:off x="4840200" y="2730600"/>
              <a:ext cx="9720" cy="34920"/>
            </a:xfrm>
            <a:custGeom>
              <a:avLst/>
              <a:gdLst/>
              <a:ahLst/>
              <a:rect l="l" t="t" r="r" b="b"/>
              <a:pathLst>
                <a:path w="6" h="22">
                  <a:moveTo>
                    <a:pt x="0" y="22"/>
                  </a:moveTo>
                  <a:lnTo>
                    <a:pt x="6" y="0"/>
                  </a:lnTo>
                  <a:lnTo>
                    <a:pt x="6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6" name=""/>
            <p:cNvSpPr/>
            <p:nvPr/>
          </p:nvSpPr>
          <p:spPr>
            <a:xfrm flipV="1">
              <a:off x="4849920" y="2661840"/>
              <a:ext cx="7920" cy="334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7" name=""/>
            <p:cNvSpPr/>
            <p:nvPr/>
          </p:nvSpPr>
          <p:spPr>
            <a:xfrm flipV="1">
              <a:off x="4867200" y="2584080"/>
              <a:ext cx="1800" cy="334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8" name=""/>
            <p:cNvSpPr/>
            <p:nvPr/>
          </p:nvSpPr>
          <p:spPr>
            <a:xfrm flipV="1">
              <a:off x="4875120" y="2514240"/>
              <a:ext cx="1800" cy="349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9" name=""/>
            <p:cNvSpPr/>
            <p:nvPr/>
          </p:nvSpPr>
          <p:spPr>
            <a:xfrm flipV="1">
              <a:off x="4883040" y="2444400"/>
              <a:ext cx="9720" cy="349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0" name=""/>
            <p:cNvSpPr/>
            <p:nvPr/>
          </p:nvSpPr>
          <p:spPr>
            <a:xfrm flipV="1">
              <a:off x="4892760" y="2376000"/>
              <a:ext cx="7920" cy="349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1" name=""/>
            <p:cNvSpPr/>
            <p:nvPr/>
          </p:nvSpPr>
          <p:spPr>
            <a:xfrm flipV="1">
              <a:off x="4900680" y="2306160"/>
              <a:ext cx="9360" cy="349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2" name=""/>
            <p:cNvSpPr/>
            <p:nvPr/>
          </p:nvSpPr>
          <p:spPr>
            <a:xfrm flipV="1">
              <a:off x="4910040" y="2238480"/>
              <a:ext cx="7920" cy="331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3" name=""/>
            <p:cNvSpPr/>
            <p:nvPr/>
          </p:nvSpPr>
          <p:spPr>
            <a:xfrm flipV="1">
              <a:off x="4917960" y="2168280"/>
              <a:ext cx="9720" cy="349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4" name=""/>
            <p:cNvSpPr/>
            <p:nvPr/>
          </p:nvSpPr>
          <p:spPr>
            <a:xfrm flipV="1">
              <a:off x="4927680" y="2098440"/>
              <a:ext cx="7920" cy="349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5" name=""/>
            <p:cNvSpPr/>
            <p:nvPr/>
          </p:nvSpPr>
          <p:spPr>
            <a:xfrm>
              <a:off x="4935600" y="2048040"/>
              <a:ext cx="27000" cy="17280"/>
            </a:xfrm>
            <a:custGeom>
              <a:avLst/>
              <a:gdLst/>
              <a:ahLst/>
              <a:rect l="l" t="t" r="r" b="b"/>
              <a:pathLst>
                <a:path w="17" h="11">
                  <a:moveTo>
                    <a:pt x="0" y="11"/>
                  </a:moveTo>
                  <a:lnTo>
                    <a:pt x="6" y="0"/>
                  </a:lnTo>
                  <a:lnTo>
                    <a:pt x="17" y="5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6" name=""/>
            <p:cNvSpPr/>
            <p:nvPr/>
          </p:nvSpPr>
          <p:spPr>
            <a:xfrm>
              <a:off x="4995720" y="2055960"/>
              <a:ext cx="34920" cy="93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7" name=""/>
            <p:cNvSpPr/>
            <p:nvPr/>
          </p:nvSpPr>
          <p:spPr>
            <a:xfrm>
              <a:off x="5065560" y="2073240"/>
              <a:ext cx="34920" cy="79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8" name=""/>
            <p:cNvSpPr/>
            <p:nvPr/>
          </p:nvSpPr>
          <p:spPr>
            <a:xfrm flipV="1">
              <a:off x="5126040" y="2037960"/>
              <a:ext cx="25560" cy="270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9" name=""/>
            <p:cNvSpPr/>
            <p:nvPr/>
          </p:nvSpPr>
          <p:spPr>
            <a:xfrm flipV="1">
              <a:off x="5168880" y="1985760"/>
              <a:ext cx="27000" cy="270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0" name=""/>
            <p:cNvSpPr/>
            <p:nvPr/>
          </p:nvSpPr>
          <p:spPr>
            <a:xfrm>
              <a:off x="5221440" y="1943280"/>
              <a:ext cx="25200" cy="17280"/>
            </a:xfrm>
            <a:custGeom>
              <a:avLst/>
              <a:gdLst/>
              <a:ahLst/>
              <a:rect l="l" t="t" r="r" b="b"/>
              <a:pathLst>
                <a:path w="16" h="11">
                  <a:moveTo>
                    <a:pt x="0" y="11"/>
                  </a:moveTo>
                  <a:lnTo>
                    <a:pt x="6" y="0"/>
                  </a:lnTo>
                  <a:lnTo>
                    <a:pt x="16" y="11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1" name=""/>
            <p:cNvSpPr/>
            <p:nvPr/>
          </p:nvSpPr>
          <p:spPr>
            <a:xfrm>
              <a:off x="5273640" y="1969920"/>
              <a:ext cx="34920" cy="16200"/>
            </a:xfrm>
            <a:custGeom>
              <a:avLst/>
              <a:gdLst/>
              <a:ahLst/>
              <a:rect l="l" t="t" r="r" b="b"/>
              <a:pathLst>
                <a:path w="22" h="10">
                  <a:moveTo>
                    <a:pt x="0" y="0"/>
                  </a:moveTo>
                  <a:lnTo>
                    <a:pt x="22" y="10"/>
                  </a:lnTo>
                  <a:lnTo>
                    <a:pt x="22" y="1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2" name=""/>
            <p:cNvSpPr/>
            <p:nvPr/>
          </p:nvSpPr>
          <p:spPr>
            <a:xfrm>
              <a:off x="5342040" y="2003400"/>
              <a:ext cx="34920" cy="9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3" name=""/>
            <p:cNvSpPr/>
            <p:nvPr/>
          </p:nvSpPr>
          <p:spPr>
            <a:xfrm>
              <a:off x="5403960" y="2030400"/>
              <a:ext cx="33120" cy="176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4" name=""/>
            <p:cNvSpPr/>
            <p:nvPr/>
          </p:nvSpPr>
          <p:spPr>
            <a:xfrm>
              <a:off x="5472000" y="2055960"/>
              <a:ext cx="27000" cy="172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5" name=""/>
            <p:cNvSpPr/>
            <p:nvPr/>
          </p:nvSpPr>
          <p:spPr>
            <a:xfrm>
              <a:off x="5532480" y="2090880"/>
              <a:ext cx="34920" cy="79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6" name=""/>
            <p:cNvSpPr/>
            <p:nvPr/>
          </p:nvSpPr>
          <p:spPr>
            <a:xfrm>
              <a:off x="5602320" y="2116080"/>
              <a:ext cx="25200" cy="9720"/>
            </a:xfrm>
            <a:custGeom>
              <a:avLst/>
              <a:gdLst/>
              <a:ahLst/>
              <a:rect l="l" t="t" r="r" b="b"/>
              <a:pathLst>
                <a:path w="16" h="6">
                  <a:moveTo>
                    <a:pt x="0" y="0"/>
                  </a:moveTo>
                  <a:lnTo>
                    <a:pt x="11" y="6"/>
                  </a:lnTo>
                  <a:lnTo>
                    <a:pt x="16" y="6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7" name=""/>
            <p:cNvSpPr/>
            <p:nvPr/>
          </p:nvSpPr>
          <p:spPr>
            <a:xfrm>
              <a:off x="5662440" y="2143080"/>
              <a:ext cx="34920" cy="15840"/>
            </a:xfrm>
            <a:custGeom>
              <a:avLst/>
              <a:gdLst/>
              <a:ahLst/>
              <a:rect l="l" t="t" r="r" b="b"/>
              <a:pathLst>
                <a:path w="22" h="10">
                  <a:moveTo>
                    <a:pt x="0" y="0"/>
                  </a:moveTo>
                  <a:lnTo>
                    <a:pt x="22" y="10"/>
                  </a:lnTo>
                  <a:lnTo>
                    <a:pt x="22" y="1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8" name=""/>
            <p:cNvSpPr/>
            <p:nvPr/>
          </p:nvSpPr>
          <p:spPr>
            <a:xfrm>
              <a:off x="5705640" y="2193840"/>
              <a:ext cx="9360" cy="349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9" name=""/>
            <p:cNvSpPr/>
            <p:nvPr/>
          </p:nvSpPr>
          <p:spPr>
            <a:xfrm flipH="1">
              <a:off x="5705640" y="2263680"/>
              <a:ext cx="9360" cy="349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0" name=""/>
            <p:cNvSpPr/>
            <p:nvPr/>
          </p:nvSpPr>
          <p:spPr>
            <a:xfrm flipH="1">
              <a:off x="5697000" y="2332080"/>
              <a:ext cx="8280" cy="349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1" name=""/>
            <p:cNvSpPr/>
            <p:nvPr/>
          </p:nvSpPr>
          <p:spPr>
            <a:xfrm>
              <a:off x="5689440" y="2401920"/>
              <a:ext cx="7920" cy="349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2" name=""/>
            <p:cNvSpPr/>
            <p:nvPr/>
          </p:nvSpPr>
          <p:spPr>
            <a:xfrm flipH="1" flipV="1">
              <a:off x="4312800" y="2436840"/>
              <a:ext cx="33480" cy="79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3" name=""/>
            <p:cNvSpPr/>
            <p:nvPr/>
          </p:nvSpPr>
          <p:spPr>
            <a:xfrm>
              <a:off x="4268880" y="2454120"/>
              <a:ext cx="27000" cy="17640"/>
            </a:xfrm>
            <a:custGeom>
              <a:avLst/>
              <a:gdLst/>
              <a:ahLst/>
              <a:rect l="l" t="t" r="r" b="b"/>
              <a:pathLst>
                <a:path w="17" h="11">
                  <a:moveTo>
                    <a:pt x="17" y="0"/>
                  </a:moveTo>
                  <a:lnTo>
                    <a:pt x="17" y="0"/>
                  </a:lnTo>
                  <a:lnTo>
                    <a:pt x="0" y="11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4" name=""/>
            <p:cNvSpPr/>
            <p:nvPr/>
          </p:nvSpPr>
          <p:spPr>
            <a:xfrm>
              <a:off x="4218120" y="2489040"/>
              <a:ext cx="25200" cy="2556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16" y="0"/>
                  </a:moveTo>
                  <a:lnTo>
                    <a:pt x="5" y="11"/>
                  </a:lnTo>
                  <a:lnTo>
                    <a:pt x="0" y="16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5" name=""/>
            <p:cNvSpPr/>
            <p:nvPr/>
          </p:nvSpPr>
          <p:spPr>
            <a:xfrm>
              <a:off x="4156200" y="25225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7" y="0"/>
                  </a:moveTo>
                  <a:lnTo>
                    <a:pt x="11" y="6"/>
                  </a:lnTo>
                  <a:lnTo>
                    <a:pt x="0" y="11"/>
                  </a:lnTo>
                  <a:lnTo>
                    <a:pt x="0" y="17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6" name=""/>
            <p:cNvSpPr/>
            <p:nvPr/>
          </p:nvSpPr>
          <p:spPr>
            <a:xfrm>
              <a:off x="4130640" y="2584440"/>
              <a:ext cx="17640" cy="25560"/>
            </a:xfrm>
            <a:custGeom>
              <a:avLst/>
              <a:gdLst/>
              <a:ahLst/>
              <a:rect l="l" t="t" r="r" b="b"/>
              <a:pathLst>
                <a:path w="11" h="16">
                  <a:moveTo>
                    <a:pt x="11" y="0"/>
                  </a:moveTo>
                  <a:lnTo>
                    <a:pt x="11" y="0"/>
                  </a:lnTo>
                  <a:lnTo>
                    <a:pt x="6" y="10"/>
                  </a:lnTo>
                  <a:lnTo>
                    <a:pt x="0" y="16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7" name=""/>
            <p:cNvSpPr/>
            <p:nvPr/>
          </p:nvSpPr>
          <p:spPr>
            <a:xfrm>
              <a:off x="4078440" y="2635200"/>
              <a:ext cx="27000" cy="17640"/>
            </a:xfrm>
            <a:custGeom>
              <a:avLst/>
              <a:gdLst/>
              <a:ahLst/>
              <a:rect l="l" t="t" r="r" b="b"/>
              <a:pathLst>
                <a:path w="17" h="11">
                  <a:moveTo>
                    <a:pt x="17" y="0"/>
                  </a:moveTo>
                  <a:lnTo>
                    <a:pt x="6" y="6"/>
                  </a:lnTo>
                  <a:lnTo>
                    <a:pt x="0" y="11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8" name=""/>
            <p:cNvSpPr/>
            <p:nvPr/>
          </p:nvSpPr>
          <p:spPr>
            <a:xfrm>
              <a:off x="4017960" y="2670120"/>
              <a:ext cx="27000" cy="2556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17" y="0"/>
                  </a:moveTo>
                  <a:lnTo>
                    <a:pt x="11" y="6"/>
                  </a:lnTo>
                  <a:lnTo>
                    <a:pt x="0" y="16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9" name=""/>
            <p:cNvSpPr/>
            <p:nvPr/>
          </p:nvSpPr>
          <p:spPr>
            <a:xfrm flipH="1">
              <a:off x="3965040" y="2722680"/>
              <a:ext cx="27000" cy="172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0" name=""/>
            <p:cNvSpPr/>
            <p:nvPr/>
          </p:nvSpPr>
          <p:spPr>
            <a:xfrm>
              <a:off x="3905280" y="2765520"/>
              <a:ext cx="34920" cy="7920"/>
            </a:xfrm>
            <a:custGeom>
              <a:avLst/>
              <a:gdLst/>
              <a:ahLst/>
              <a:rect l="l" t="t" r="r" b="b"/>
              <a:pathLst>
                <a:path w="22" h="5">
                  <a:moveTo>
                    <a:pt x="22" y="0"/>
                  </a:moveTo>
                  <a:lnTo>
                    <a:pt x="17" y="0"/>
                  </a:lnTo>
                  <a:lnTo>
                    <a:pt x="6" y="5"/>
                  </a:lnTo>
                  <a:lnTo>
                    <a:pt x="0" y="5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1" name=""/>
            <p:cNvSpPr/>
            <p:nvPr/>
          </p:nvSpPr>
          <p:spPr>
            <a:xfrm>
              <a:off x="3862440" y="2722680"/>
              <a:ext cx="17280" cy="34920"/>
            </a:xfrm>
            <a:custGeom>
              <a:avLst/>
              <a:gdLst/>
              <a:ahLst/>
              <a:rect l="l" t="t" r="r" b="b"/>
              <a:pathLst>
                <a:path w="11" h="22">
                  <a:moveTo>
                    <a:pt x="11" y="22"/>
                  </a:moveTo>
                  <a:lnTo>
                    <a:pt x="11" y="22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2" name=""/>
            <p:cNvSpPr/>
            <p:nvPr/>
          </p:nvSpPr>
          <p:spPr>
            <a:xfrm flipH="1" flipV="1">
              <a:off x="3844440" y="2652480"/>
              <a:ext cx="9720" cy="349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3" name=""/>
            <p:cNvSpPr/>
            <p:nvPr/>
          </p:nvSpPr>
          <p:spPr>
            <a:xfrm flipH="1" flipV="1">
              <a:off x="3819240" y="2679840"/>
              <a:ext cx="34920" cy="158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4" name=""/>
            <p:cNvSpPr/>
            <p:nvPr/>
          </p:nvSpPr>
          <p:spPr>
            <a:xfrm>
              <a:off x="3767040" y="2635200"/>
              <a:ext cx="25560" cy="17640"/>
            </a:xfrm>
            <a:custGeom>
              <a:avLst/>
              <a:gdLst/>
              <a:ahLst/>
              <a:rect l="l" t="t" r="r" b="b"/>
              <a:pathLst>
                <a:path w="16" h="11">
                  <a:moveTo>
                    <a:pt x="16" y="11"/>
                  </a:moveTo>
                  <a:lnTo>
                    <a:pt x="11" y="6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5" name=""/>
            <p:cNvSpPr/>
            <p:nvPr/>
          </p:nvSpPr>
          <p:spPr>
            <a:xfrm>
              <a:off x="3714840" y="2592360"/>
              <a:ext cx="27000" cy="17640"/>
            </a:xfrm>
            <a:custGeom>
              <a:avLst/>
              <a:gdLst/>
              <a:ahLst/>
              <a:rect l="l" t="t" r="r" b="b"/>
              <a:pathLst>
                <a:path w="17" h="11">
                  <a:moveTo>
                    <a:pt x="17" y="11"/>
                  </a:moveTo>
                  <a:lnTo>
                    <a:pt x="11" y="5"/>
                  </a:lnTo>
                  <a:lnTo>
                    <a:pt x="0" y="0"/>
                  </a:lnTo>
                  <a:lnTo>
                    <a:pt x="0" y="5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6" name=""/>
            <p:cNvSpPr/>
            <p:nvPr/>
          </p:nvSpPr>
          <p:spPr>
            <a:xfrm>
              <a:off x="3654360" y="2617920"/>
              <a:ext cx="34920" cy="27000"/>
            </a:xfrm>
            <a:custGeom>
              <a:avLst/>
              <a:gdLst/>
              <a:ahLst/>
              <a:rect l="l" t="t" r="r" b="b"/>
              <a:pathLst>
                <a:path w="22" h="17">
                  <a:moveTo>
                    <a:pt x="22" y="0"/>
                  </a:moveTo>
                  <a:lnTo>
                    <a:pt x="17" y="6"/>
                  </a:lnTo>
                  <a:lnTo>
                    <a:pt x="0" y="17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7" name=""/>
            <p:cNvSpPr/>
            <p:nvPr/>
          </p:nvSpPr>
          <p:spPr>
            <a:xfrm>
              <a:off x="3602160" y="2662200"/>
              <a:ext cx="27000" cy="2556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17" y="0"/>
                  </a:moveTo>
                  <a:lnTo>
                    <a:pt x="6" y="11"/>
                  </a:lnTo>
                  <a:lnTo>
                    <a:pt x="0" y="16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8" name=""/>
            <p:cNvSpPr/>
            <p:nvPr/>
          </p:nvSpPr>
          <p:spPr>
            <a:xfrm flipH="1">
              <a:off x="3551400" y="2705040"/>
              <a:ext cx="25200" cy="255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9" name=""/>
            <p:cNvSpPr/>
            <p:nvPr/>
          </p:nvSpPr>
          <p:spPr>
            <a:xfrm flipH="1">
              <a:off x="3490560" y="2747880"/>
              <a:ext cx="25560" cy="255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0" name=""/>
            <p:cNvSpPr/>
            <p:nvPr/>
          </p:nvSpPr>
          <p:spPr>
            <a:xfrm>
              <a:off x="3463920" y="2790720"/>
              <a:ext cx="1440" cy="9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1" name=""/>
            <p:cNvSpPr/>
            <p:nvPr/>
          </p:nvSpPr>
          <p:spPr>
            <a:xfrm>
              <a:off x="3300480" y="2773440"/>
              <a:ext cx="25200" cy="450720"/>
            </a:xfrm>
            <a:custGeom>
              <a:avLst/>
              <a:gdLst/>
              <a:ahLst/>
              <a:rect l="l" t="t" r="r" b="b"/>
              <a:pathLst>
                <a:path w="16" h="284">
                  <a:moveTo>
                    <a:pt x="16" y="0"/>
                  </a:moveTo>
                  <a:lnTo>
                    <a:pt x="11" y="22"/>
                  </a:lnTo>
                  <a:lnTo>
                    <a:pt x="5" y="39"/>
                  </a:lnTo>
                  <a:lnTo>
                    <a:pt x="0" y="60"/>
                  </a:lnTo>
                  <a:lnTo>
                    <a:pt x="0" y="82"/>
                  </a:lnTo>
                  <a:lnTo>
                    <a:pt x="5" y="109"/>
                  </a:lnTo>
                  <a:lnTo>
                    <a:pt x="5" y="142"/>
                  </a:lnTo>
                  <a:lnTo>
                    <a:pt x="11" y="164"/>
                  </a:lnTo>
                  <a:lnTo>
                    <a:pt x="16" y="186"/>
                  </a:lnTo>
                  <a:lnTo>
                    <a:pt x="16" y="208"/>
                  </a:lnTo>
                  <a:lnTo>
                    <a:pt x="16" y="246"/>
                  </a:lnTo>
                  <a:lnTo>
                    <a:pt x="16" y="262"/>
                  </a:lnTo>
                  <a:lnTo>
                    <a:pt x="11" y="284"/>
                  </a:lnTo>
                </a:path>
              </a:pathLst>
            </a:custGeom>
            <a:noFill/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2" name=""/>
            <p:cNvSpPr/>
            <p:nvPr/>
          </p:nvSpPr>
          <p:spPr>
            <a:xfrm>
              <a:off x="3333600" y="2773440"/>
              <a:ext cx="1619280" cy="857160"/>
            </a:xfrm>
            <a:custGeom>
              <a:avLst/>
              <a:gdLst/>
              <a:ahLst/>
              <a:rect l="l" t="t" r="r" b="b"/>
              <a:pathLst>
                <a:path w="1020" h="540">
                  <a:moveTo>
                    <a:pt x="1020" y="540"/>
                  </a:moveTo>
                  <a:lnTo>
                    <a:pt x="944" y="507"/>
                  </a:lnTo>
                  <a:lnTo>
                    <a:pt x="824" y="469"/>
                  </a:lnTo>
                  <a:lnTo>
                    <a:pt x="693" y="415"/>
                  </a:lnTo>
                  <a:lnTo>
                    <a:pt x="638" y="366"/>
                  </a:lnTo>
                  <a:lnTo>
                    <a:pt x="578" y="333"/>
                  </a:lnTo>
                  <a:lnTo>
                    <a:pt x="491" y="273"/>
                  </a:lnTo>
                  <a:lnTo>
                    <a:pt x="409" y="213"/>
                  </a:lnTo>
                  <a:lnTo>
                    <a:pt x="366" y="175"/>
                  </a:lnTo>
                  <a:lnTo>
                    <a:pt x="339" y="153"/>
                  </a:lnTo>
                  <a:lnTo>
                    <a:pt x="279" y="82"/>
                  </a:lnTo>
                  <a:lnTo>
                    <a:pt x="251" y="66"/>
                  </a:lnTo>
                  <a:lnTo>
                    <a:pt x="115" y="33"/>
                  </a:lnTo>
                  <a:lnTo>
                    <a:pt x="66" y="11"/>
                  </a:lnTo>
                  <a:lnTo>
                    <a:pt x="0" y="0"/>
                  </a:lnTo>
                </a:path>
              </a:pathLst>
            </a:custGeom>
            <a:noFill/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3" name=""/>
            <p:cNvSpPr/>
            <p:nvPr/>
          </p:nvSpPr>
          <p:spPr>
            <a:xfrm>
              <a:off x="5213520" y="3171960"/>
              <a:ext cx="3312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4" name=""/>
            <p:cNvSpPr/>
            <p:nvPr/>
          </p:nvSpPr>
          <p:spPr>
            <a:xfrm>
              <a:off x="5281560" y="3171960"/>
              <a:ext cx="3492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5" name=""/>
            <p:cNvSpPr/>
            <p:nvPr/>
          </p:nvSpPr>
          <p:spPr>
            <a:xfrm flipV="1">
              <a:off x="5351400" y="3136680"/>
              <a:ext cx="7920" cy="349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6" name=""/>
            <p:cNvSpPr/>
            <p:nvPr/>
          </p:nvSpPr>
          <p:spPr>
            <a:xfrm>
              <a:off x="5386320" y="3111480"/>
              <a:ext cx="33480" cy="7920"/>
            </a:xfrm>
            <a:custGeom>
              <a:avLst/>
              <a:gdLst/>
              <a:ahLst/>
              <a:rect l="l" t="t" r="r" b="b"/>
              <a:pathLst>
                <a:path w="21" h="5">
                  <a:moveTo>
                    <a:pt x="0" y="5"/>
                  </a:moveTo>
                  <a:lnTo>
                    <a:pt x="11" y="0"/>
                  </a:lnTo>
                  <a:lnTo>
                    <a:pt x="21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7" name=""/>
            <p:cNvSpPr/>
            <p:nvPr/>
          </p:nvSpPr>
          <p:spPr>
            <a:xfrm>
              <a:off x="5135400" y="2868480"/>
              <a:ext cx="43200" cy="18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8" name=""/>
            <p:cNvSpPr/>
            <p:nvPr/>
          </p:nvSpPr>
          <p:spPr>
            <a:xfrm>
              <a:off x="5213520" y="2868480"/>
              <a:ext cx="17280" cy="18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9" name=""/>
            <p:cNvSpPr/>
            <p:nvPr/>
          </p:nvSpPr>
          <p:spPr>
            <a:xfrm>
              <a:off x="2139840" y="3552840"/>
              <a:ext cx="285840" cy="69840"/>
            </a:xfrm>
            <a:custGeom>
              <a:avLst/>
              <a:gdLst/>
              <a:ahLst/>
              <a:rect l="l" t="t" r="r" b="b"/>
              <a:pathLst>
                <a:path w="180" h="44">
                  <a:moveTo>
                    <a:pt x="180" y="16"/>
                  </a:moveTo>
                  <a:lnTo>
                    <a:pt x="175" y="16"/>
                  </a:lnTo>
                  <a:lnTo>
                    <a:pt x="158" y="11"/>
                  </a:lnTo>
                  <a:lnTo>
                    <a:pt x="142" y="5"/>
                  </a:lnTo>
                  <a:lnTo>
                    <a:pt x="125" y="0"/>
                  </a:lnTo>
                  <a:lnTo>
                    <a:pt x="120" y="0"/>
                  </a:lnTo>
                  <a:lnTo>
                    <a:pt x="109" y="0"/>
                  </a:lnTo>
                  <a:lnTo>
                    <a:pt x="104" y="5"/>
                  </a:lnTo>
                  <a:lnTo>
                    <a:pt x="93" y="22"/>
                  </a:lnTo>
                  <a:lnTo>
                    <a:pt x="87" y="27"/>
                  </a:lnTo>
                  <a:lnTo>
                    <a:pt x="76" y="33"/>
                  </a:lnTo>
                  <a:lnTo>
                    <a:pt x="55" y="38"/>
                  </a:lnTo>
                  <a:lnTo>
                    <a:pt x="0" y="44"/>
                  </a:lnTo>
                </a:path>
              </a:pathLst>
            </a:custGeom>
            <a:noFill/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0" name=""/>
            <p:cNvSpPr/>
            <p:nvPr/>
          </p:nvSpPr>
          <p:spPr>
            <a:xfrm>
              <a:off x="4572000" y="4245120"/>
              <a:ext cx="34920" cy="17280"/>
            </a:xfrm>
            <a:custGeom>
              <a:avLst/>
              <a:gdLst/>
              <a:ahLst/>
              <a:rect l="l" t="t" r="r" b="b"/>
              <a:pathLst>
                <a:path w="22" h="11">
                  <a:moveTo>
                    <a:pt x="0" y="11"/>
                  </a:moveTo>
                  <a:lnTo>
                    <a:pt x="22" y="0"/>
                  </a:lnTo>
                  <a:lnTo>
                    <a:pt x="22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1" name=""/>
            <p:cNvSpPr/>
            <p:nvPr/>
          </p:nvSpPr>
          <p:spPr>
            <a:xfrm flipV="1">
              <a:off x="4624560" y="4184280"/>
              <a:ext cx="7920" cy="349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2" name=""/>
            <p:cNvSpPr/>
            <p:nvPr/>
          </p:nvSpPr>
          <p:spPr>
            <a:xfrm flipV="1">
              <a:off x="4641840" y="4114440"/>
              <a:ext cx="7920" cy="349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3" name=""/>
            <p:cNvSpPr/>
            <p:nvPr/>
          </p:nvSpPr>
          <p:spPr>
            <a:xfrm>
              <a:off x="4606920" y="4245120"/>
              <a:ext cx="34920" cy="172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4" name=""/>
            <p:cNvSpPr/>
            <p:nvPr/>
          </p:nvSpPr>
          <p:spPr>
            <a:xfrm>
              <a:off x="4676760" y="4262400"/>
              <a:ext cx="25560" cy="17640"/>
            </a:xfrm>
            <a:custGeom>
              <a:avLst/>
              <a:gdLst/>
              <a:ahLst/>
              <a:rect l="l" t="t" r="r" b="b"/>
              <a:pathLst>
                <a:path w="16" h="11">
                  <a:moveTo>
                    <a:pt x="0" y="5"/>
                  </a:moveTo>
                  <a:lnTo>
                    <a:pt x="10" y="11"/>
                  </a:lnTo>
                  <a:lnTo>
                    <a:pt x="16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5" name=""/>
            <p:cNvSpPr/>
            <p:nvPr/>
          </p:nvSpPr>
          <p:spPr>
            <a:xfrm flipV="1">
              <a:off x="4710240" y="4192200"/>
              <a:ext cx="9360" cy="349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6" name=""/>
            <p:cNvSpPr/>
            <p:nvPr/>
          </p:nvSpPr>
          <p:spPr>
            <a:xfrm flipV="1">
              <a:off x="4727520" y="4123800"/>
              <a:ext cx="9720" cy="349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7" name=""/>
            <p:cNvSpPr/>
            <p:nvPr/>
          </p:nvSpPr>
          <p:spPr>
            <a:xfrm flipV="1">
              <a:off x="4754520" y="4053960"/>
              <a:ext cx="7920" cy="349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8" name=""/>
            <p:cNvSpPr/>
            <p:nvPr/>
          </p:nvSpPr>
          <p:spPr>
            <a:xfrm>
              <a:off x="4772160" y="4019400"/>
              <a:ext cx="1440" cy="18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9" name=""/>
            <p:cNvSpPr/>
            <p:nvPr/>
          </p:nvSpPr>
          <p:spPr>
            <a:xfrm flipV="1">
              <a:off x="4183200" y="3986280"/>
              <a:ext cx="7920" cy="331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0" name=""/>
            <p:cNvSpPr/>
            <p:nvPr/>
          </p:nvSpPr>
          <p:spPr>
            <a:xfrm flipV="1">
              <a:off x="4200480" y="3924000"/>
              <a:ext cx="17640" cy="270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1" name=""/>
            <p:cNvSpPr/>
            <p:nvPr/>
          </p:nvSpPr>
          <p:spPr>
            <a:xfrm flipV="1">
              <a:off x="4226040" y="3855600"/>
              <a:ext cx="9360" cy="349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2" name=""/>
            <p:cNvSpPr/>
            <p:nvPr/>
          </p:nvSpPr>
          <p:spPr>
            <a:xfrm flipV="1">
              <a:off x="4243320" y="3785760"/>
              <a:ext cx="7920" cy="349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3" name=""/>
            <p:cNvSpPr/>
            <p:nvPr/>
          </p:nvSpPr>
          <p:spPr>
            <a:xfrm flipV="1">
              <a:off x="4260960" y="3718080"/>
              <a:ext cx="17280" cy="331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4" name=""/>
            <p:cNvSpPr/>
            <p:nvPr/>
          </p:nvSpPr>
          <p:spPr>
            <a:xfrm flipV="1">
              <a:off x="4286160" y="3647880"/>
              <a:ext cx="9720" cy="349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5" name=""/>
            <p:cNvSpPr/>
            <p:nvPr/>
          </p:nvSpPr>
          <p:spPr>
            <a:xfrm>
              <a:off x="4122720" y="4608360"/>
              <a:ext cx="33480" cy="176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6" name=""/>
            <p:cNvSpPr/>
            <p:nvPr/>
          </p:nvSpPr>
          <p:spPr>
            <a:xfrm>
              <a:off x="4191120" y="4633920"/>
              <a:ext cx="17280" cy="2700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0" y="0"/>
                  </a:moveTo>
                  <a:lnTo>
                    <a:pt x="11" y="0"/>
                  </a:lnTo>
                  <a:lnTo>
                    <a:pt x="6" y="17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7" name=""/>
            <p:cNvSpPr/>
            <p:nvPr/>
          </p:nvSpPr>
          <p:spPr>
            <a:xfrm>
              <a:off x="4173480" y="4686480"/>
              <a:ext cx="17640" cy="34920"/>
            </a:xfrm>
            <a:custGeom>
              <a:avLst/>
              <a:gdLst/>
              <a:ahLst/>
              <a:rect l="l" t="t" r="r" b="b"/>
              <a:pathLst>
                <a:path w="11" h="22">
                  <a:moveTo>
                    <a:pt x="11" y="0"/>
                  </a:moveTo>
                  <a:lnTo>
                    <a:pt x="6" y="11"/>
                  </a:lnTo>
                  <a:lnTo>
                    <a:pt x="0" y="22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8" name=""/>
            <p:cNvSpPr/>
            <p:nvPr/>
          </p:nvSpPr>
          <p:spPr>
            <a:xfrm flipH="1">
              <a:off x="4156200" y="4756320"/>
              <a:ext cx="9360" cy="331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9" name=""/>
            <p:cNvSpPr/>
            <p:nvPr/>
          </p:nvSpPr>
          <p:spPr>
            <a:xfrm>
              <a:off x="4173480" y="4807080"/>
              <a:ext cx="34920" cy="17280"/>
            </a:xfrm>
            <a:custGeom>
              <a:avLst/>
              <a:gdLst/>
              <a:ahLst/>
              <a:rect l="l" t="t" r="r" b="b"/>
              <a:pathLst>
                <a:path w="22" h="11">
                  <a:moveTo>
                    <a:pt x="0" y="0"/>
                  </a:moveTo>
                  <a:lnTo>
                    <a:pt x="17" y="11"/>
                  </a:lnTo>
                  <a:lnTo>
                    <a:pt x="22" y="11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0" name=""/>
            <p:cNvSpPr/>
            <p:nvPr/>
          </p:nvSpPr>
          <p:spPr>
            <a:xfrm>
              <a:off x="4235400" y="4842000"/>
              <a:ext cx="33480" cy="172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1" name=""/>
            <p:cNvSpPr/>
            <p:nvPr/>
          </p:nvSpPr>
          <p:spPr>
            <a:xfrm flipH="1">
              <a:off x="4250880" y="4884840"/>
              <a:ext cx="27000" cy="172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2" name=""/>
            <p:cNvSpPr/>
            <p:nvPr/>
          </p:nvSpPr>
          <p:spPr>
            <a:xfrm flipV="1">
              <a:off x="4321080" y="5032440"/>
              <a:ext cx="34920" cy="79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3" name=""/>
            <p:cNvSpPr/>
            <p:nvPr/>
          </p:nvSpPr>
          <p:spPr>
            <a:xfrm flipH="1">
              <a:off x="4684680" y="4280040"/>
              <a:ext cx="7920" cy="252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4" name=""/>
            <p:cNvSpPr/>
            <p:nvPr/>
          </p:nvSpPr>
          <p:spPr>
            <a:xfrm flipH="1">
              <a:off x="4659480" y="4340160"/>
              <a:ext cx="7920" cy="349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5" name=""/>
            <p:cNvSpPr/>
            <p:nvPr/>
          </p:nvSpPr>
          <p:spPr>
            <a:xfrm flipH="1">
              <a:off x="4641840" y="4410000"/>
              <a:ext cx="7920" cy="334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6" name=""/>
            <p:cNvSpPr/>
            <p:nvPr/>
          </p:nvSpPr>
          <p:spPr>
            <a:xfrm flipH="1">
              <a:off x="4624560" y="4478400"/>
              <a:ext cx="7920" cy="349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7" name=""/>
            <p:cNvSpPr/>
            <p:nvPr/>
          </p:nvSpPr>
          <p:spPr>
            <a:xfrm flipH="1">
              <a:off x="4606920" y="4548240"/>
              <a:ext cx="7920" cy="349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8" name=""/>
            <p:cNvSpPr/>
            <p:nvPr/>
          </p:nvSpPr>
          <p:spPr>
            <a:xfrm>
              <a:off x="4614840" y="4616280"/>
              <a:ext cx="9720" cy="270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9" name=""/>
            <p:cNvSpPr/>
            <p:nvPr/>
          </p:nvSpPr>
          <p:spPr>
            <a:xfrm>
              <a:off x="4641840" y="4678200"/>
              <a:ext cx="17640" cy="334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0" name=""/>
            <p:cNvSpPr/>
            <p:nvPr/>
          </p:nvSpPr>
          <p:spPr>
            <a:xfrm>
              <a:off x="4363920" y="4340160"/>
              <a:ext cx="9720" cy="349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1" name=""/>
            <p:cNvSpPr/>
            <p:nvPr/>
          </p:nvSpPr>
          <p:spPr>
            <a:xfrm>
              <a:off x="4408560" y="4392720"/>
              <a:ext cx="7920" cy="25200"/>
            </a:xfrm>
            <a:custGeom>
              <a:avLst/>
              <a:gdLst/>
              <a:ahLst/>
              <a:rect l="l" t="t" r="r" b="b"/>
              <a:pathLst>
                <a:path w="5" h="16">
                  <a:moveTo>
                    <a:pt x="0" y="0"/>
                  </a:moveTo>
                  <a:lnTo>
                    <a:pt x="5" y="5"/>
                  </a:lnTo>
                  <a:lnTo>
                    <a:pt x="0" y="16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2" name=""/>
            <p:cNvSpPr/>
            <p:nvPr/>
          </p:nvSpPr>
          <p:spPr>
            <a:xfrm>
              <a:off x="4398840" y="4452840"/>
              <a:ext cx="9720" cy="34920"/>
            </a:xfrm>
            <a:custGeom>
              <a:avLst/>
              <a:gdLst/>
              <a:ahLst/>
              <a:rect l="l" t="t" r="r" b="b"/>
              <a:pathLst>
                <a:path w="6" h="22">
                  <a:moveTo>
                    <a:pt x="6" y="0"/>
                  </a:moveTo>
                  <a:lnTo>
                    <a:pt x="0" y="16"/>
                  </a:lnTo>
                  <a:lnTo>
                    <a:pt x="6" y="22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3" name=""/>
            <p:cNvSpPr/>
            <p:nvPr/>
          </p:nvSpPr>
          <p:spPr>
            <a:xfrm>
              <a:off x="4441680" y="4495680"/>
              <a:ext cx="34920" cy="176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4" name=""/>
            <p:cNvSpPr/>
            <p:nvPr/>
          </p:nvSpPr>
          <p:spPr>
            <a:xfrm>
              <a:off x="4511520" y="4513320"/>
              <a:ext cx="17640" cy="1728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0" y="5"/>
                  </a:moveTo>
                  <a:lnTo>
                    <a:pt x="5" y="11"/>
                  </a:lnTo>
                  <a:lnTo>
                    <a:pt x="11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5" name=""/>
            <p:cNvSpPr/>
            <p:nvPr/>
          </p:nvSpPr>
          <p:spPr>
            <a:xfrm flipV="1">
              <a:off x="4537080" y="4443120"/>
              <a:ext cx="9360" cy="349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6" name=""/>
            <p:cNvSpPr/>
            <p:nvPr/>
          </p:nvSpPr>
          <p:spPr>
            <a:xfrm flipV="1">
              <a:off x="4554360" y="4374720"/>
              <a:ext cx="17640" cy="349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7" name=""/>
            <p:cNvSpPr/>
            <p:nvPr/>
          </p:nvSpPr>
          <p:spPr>
            <a:xfrm flipV="1">
              <a:off x="4581360" y="4314960"/>
              <a:ext cx="8280" cy="252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8" name=""/>
            <p:cNvSpPr/>
            <p:nvPr/>
          </p:nvSpPr>
          <p:spPr>
            <a:xfrm flipV="1">
              <a:off x="4599000" y="4252680"/>
              <a:ext cx="7920" cy="270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9" name=""/>
            <p:cNvSpPr/>
            <p:nvPr/>
          </p:nvSpPr>
          <p:spPr>
            <a:xfrm>
              <a:off x="4295880" y="3181320"/>
              <a:ext cx="1440" cy="334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0" name=""/>
            <p:cNvSpPr/>
            <p:nvPr/>
          </p:nvSpPr>
          <p:spPr>
            <a:xfrm>
              <a:off x="4286160" y="3249720"/>
              <a:ext cx="1800" cy="349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1" name=""/>
            <p:cNvSpPr/>
            <p:nvPr/>
          </p:nvSpPr>
          <p:spPr>
            <a:xfrm flipV="1">
              <a:off x="4486320" y="3422160"/>
              <a:ext cx="17280" cy="270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2" name=""/>
            <p:cNvSpPr/>
            <p:nvPr/>
          </p:nvSpPr>
          <p:spPr>
            <a:xfrm flipV="1">
              <a:off x="4511520" y="3354480"/>
              <a:ext cx="1800" cy="331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3" name=""/>
            <p:cNvSpPr/>
            <p:nvPr/>
          </p:nvSpPr>
          <p:spPr>
            <a:xfrm>
              <a:off x="4519440" y="3284640"/>
              <a:ext cx="1800" cy="34920"/>
            </a:xfrm>
            <a:custGeom>
              <a:avLst/>
              <a:gdLst/>
              <a:ahLst/>
              <a:rect l="l" t="t" r="r" b="b"/>
              <a:pathLst>
                <a:path w="0" h="22">
                  <a:moveTo>
                    <a:pt x="0" y="22"/>
                  </a:moveTo>
                  <a:lnTo>
                    <a:pt x="0" y="11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4" name=""/>
            <p:cNvSpPr/>
            <p:nvPr/>
          </p:nvSpPr>
          <p:spPr>
            <a:xfrm flipV="1">
              <a:off x="4519440" y="3214440"/>
              <a:ext cx="9720" cy="349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5" name=""/>
            <p:cNvSpPr/>
            <p:nvPr/>
          </p:nvSpPr>
          <p:spPr>
            <a:xfrm flipV="1">
              <a:off x="4529160" y="3164040"/>
              <a:ext cx="1440" cy="172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6" name=""/>
            <p:cNvSpPr/>
            <p:nvPr/>
          </p:nvSpPr>
          <p:spPr>
            <a:xfrm flipV="1">
              <a:off x="4356000" y="3327120"/>
              <a:ext cx="1800" cy="349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7" name=""/>
            <p:cNvSpPr/>
            <p:nvPr/>
          </p:nvSpPr>
          <p:spPr>
            <a:xfrm>
              <a:off x="4356000" y="3276720"/>
              <a:ext cx="25560" cy="15840"/>
            </a:xfrm>
            <a:custGeom>
              <a:avLst/>
              <a:gdLst/>
              <a:ahLst/>
              <a:rect l="l" t="t" r="r" b="b"/>
              <a:pathLst>
                <a:path w="16" h="10">
                  <a:moveTo>
                    <a:pt x="0" y="10"/>
                  </a:moveTo>
                  <a:lnTo>
                    <a:pt x="0" y="0"/>
                  </a:lnTo>
                  <a:lnTo>
                    <a:pt x="16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8" name=""/>
            <p:cNvSpPr/>
            <p:nvPr/>
          </p:nvSpPr>
          <p:spPr>
            <a:xfrm>
              <a:off x="4416480" y="3284640"/>
              <a:ext cx="34920" cy="79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9" name=""/>
            <p:cNvSpPr/>
            <p:nvPr/>
          </p:nvSpPr>
          <p:spPr>
            <a:xfrm>
              <a:off x="4486320" y="3267000"/>
              <a:ext cx="1440" cy="25560"/>
            </a:xfrm>
            <a:custGeom>
              <a:avLst/>
              <a:gdLst/>
              <a:ahLst/>
              <a:rect l="l" t="t" r="r" b="b"/>
              <a:pathLst>
                <a:path w="0" h="16">
                  <a:moveTo>
                    <a:pt x="0" y="16"/>
                  </a:move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0" name=""/>
            <p:cNvSpPr/>
            <p:nvPr/>
          </p:nvSpPr>
          <p:spPr>
            <a:xfrm flipV="1">
              <a:off x="4494240" y="3206880"/>
              <a:ext cx="1440" cy="172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1" name=""/>
            <p:cNvSpPr/>
            <p:nvPr/>
          </p:nvSpPr>
          <p:spPr>
            <a:xfrm>
              <a:off x="3887640" y="2765520"/>
              <a:ext cx="34920" cy="25200"/>
            </a:xfrm>
            <a:custGeom>
              <a:avLst/>
              <a:gdLst/>
              <a:ahLst/>
              <a:rect l="l" t="t" r="r" b="b"/>
              <a:pathLst>
                <a:path w="22" h="16">
                  <a:moveTo>
                    <a:pt x="0" y="5"/>
                  </a:moveTo>
                  <a:lnTo>
                    <a:pt x="0" y="11"/>
                  </a:lnTo>
                  <a:lnTo>
                    <a:pt x="11" y="16"/>
                  </a:lnTo>
                  <a:lnTo>
                    <a:pt x="22" y="16"/>
                  </a:lnTo>
                  <a:lnTo>
                    <a:pt x="22" y="5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2" name=""/>
            <p:cNvSpPr/>
            <p:nvPr/>
          </p:nvSpPr>
          <p:spPr>
            <a:xfrm>
              <a:off x="5584680" y="2108160"/>
              <a:ext cx="42840" cy="2556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0" y="5"/>
                  </a:moveTo>
                  <a:lnTo>
                    <a:pt x="6" y="11"/>
                  </a:lnTo>
                  <a:lnTo>
                    <a:pt x="16" y="16"/>
                  </a:lnTo>
                  <a:lnTo>
                    <a:pt x="27" y="16"/>
                  </a:lnTo>
                  <a:lnTo>
                    <a:pt x="27" y="5"/>
                  </a:lnTo>
                  <a:lnTo>
                    <a:pt x="22" y="5"/>
                  </a:lnTo>
                  <a:lnTo>
                    <a:pt x="16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3" name=""/>
            <p:cNvSpPr/>
            <p:nvPr/>
          </p:nvSpPr>
          <p:spPr>
            <a:xfrm>
              <a:off x="6615000" y="2652840"/>
              <a:ext cx="52560" cy="42840"/>
            </a:xfrm>
            <a:custGeom>
              <a:avLst/>
              <a:gdLst/>
              <a:ahLst/>
              <a:rect l="l" t="t" r="r" b="b"/>
              <a:pathLst>
                <a:path w="33" h="27">
                  <a:moveTo>
                    <a:pt x="0" y="6"/>
                  </a:moveTo>
                  <a:lnTo>
                    <a:pt x="5" y="22"/>
                  </a:lnTo>
                  <a:lnTo>
                    <a:pt x="16" y="27"/>
                  </a:lnTo>
                  <a:lnTo>
                    <a:pt x="33" y="27"/>
                  </a:lnTo>
                  <a:lnTo>
                    <a:pt x="33" y="11"/>
                  </a:lnTo>
                  <a:lnTo>
                    <a:pt x="33" y="6"/>
                  </a:lnTo>
                  <a:lnTo>
                    <a:pt x="22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4" name=""/>
            <p:cNvSpPr/>
            <p:nvPr/>
          </p:nvSpPr>
          <p:spPr>
            <a:xfrm>
              <a:off x="6667920" y="2567160"/>
              <a:ext cx="15624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MAISA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5" name=""/>
            <p:cNvSpPr/>
            <p:nvPr/>
          </p:nvSpPr>
          <p:spPr>
            <a:xfrm>
              <a:off x="5970240" y="3043080"/>
              <a:ext cx="24012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Furna Feia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6" name=""/>
            <p:cNvSpPr/>
            <p:nvPr/>
          </p:nvSpPr>
          <p:spPr>
            <a:xfrm>
              <a:off x="5888160" y="2981160"/>
              <a:ext cx="95040" cy="7812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11" y="33"/>
                  </a:moveTo>
                  <a:lnTo>
                    <a:pt x="0" y="22"/>
                  </a:lnTo>
                  <a:lnTo>
                    <a:pt x="16" y="22"/>
                  </a:lnTo>
                  <a:lnTo>
                    <a:pt x="16" y="11"/>
                  </a:lnTo>
                  <a:lnTo>
                    <a:pt x="22" y="17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33" y="17"/>
                  </a:lnTo>
                  <a:lnTo>
                    <a:pt x="60" y="28"/>
                  </a:lnTo>
                  <a:lnTo>
                    <a:pt x="33" y="38"/>
                  </a:lnTo>
                  <a:lnTo>
                    <a:pt x="38" y="44"/>
                  </a:lnTo>
                  <a:lnTo>
                    <a:pt x="38" y="44"/>
                  </a:lnTo>
                  <a:lnTo>
                    <a:pt x="27" y="38"/>
                  </a:lnTo>
                  <a:lnTo>
                    <a:pt x="16" y="49"/>
                  </a:lnTo>
                  <a:lnTo>
                    <a:pt x="16" y="38"/>
                  </a:lnTo>
                  <a:lnTo>
                    <a:pt x="5" y="38"/>
                  </a:lnTo>
                  <a:lnTo>
                    <a:pt x="11" y="33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7" name=""/>
            <p:cNvSpPr/>
            <p:nvPr/>
          </p:nvSpPr>
          <p:spPr>
            <a:xfrm>
              <a:off x="5376960" y="2695680"/>
              <a:ext cx="52200" cy="34920"/>
            </a:xfrm>
            <a:custGeom>
              <a:avLst/>
              <a:gdLst/>
              <a:ahLst/>
              <a:rect l="l" t="t" r="r" b="b"/>
              <a:pathLst>
                <a:path w="33" h="22">
                  <a:moveTo>
                    <a:pt x="0" y="0"/>
                  </a:moveTo>
                  <a:lnTo>
                    <a:pt x="0" y="17"/>
                  </a:lnTo>
                  <a:lnTo>
                    <a:pt x="17" y="22"/>
                  </a:lnTo>
                  <a:lnTo>
                    <a:pt x="33" y="17"/>
                  </a:lnTo>
                  <a:lnTo>
                    <a:pt x="33" y="6"/>
                  </a:lnTo>
                  <a:lnTo>
                    <a:pt x="27" y="0"/>
                  </a:lnTo>
                  <a:lnTo>
                    <a:pt x="2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8" name=""/>
            <p:cNvSpPr/>
            <p:nvPr/>
          </p:nvSpPr>
          <p:spPr>
            <a:xfrm>
              <a:off x="5162400" y="2602080"/>
              <a:ext cx="21420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Vila Nova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9" name=""/>
            <p:cNvSpPr/>
            <p:nvPr/>
          </p:nvSpPr>
          <p:spPr>
            <a:xfrm>
              <a:off x="5186520" y="3094200"/>
              <a:ext cx="60120" cy="42840"/>
            </a:xfrm>
            <a:custGeom>
              <a:avLst/>
              <a:gdLst/>
              <a:ahLst/>
              <a:rect l="l" t="t" r="r" b="b"/>
              <a:pathLst>
                <a:path w="38" h="27">
                  <a:moveTo>
                    <a:pt x="0" y="6"/>
                  </a:moveTo>
                  <a:lnTo>
                    <a:pt x="6" y="22"/>
                  </a:lnTo>
                  <a:lnTo>
                    <a:pt x="22" y="27"/>
                  </a:lnTo>
                  <a:lnTo>
                    <a:pt x="38" y="22"/>
                  </a:lnTo>
                  <a:lnTo>
                    <a:pt x="38" y="11"/>
                  </a:lnTo>
                  <a:lnTo>
                    <a:pt x="33" y="6"/>
                  </a:lnTo>
                  <a:lnTo>
                    <a:pt x="28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0" name=""/>
            <p:cNvSpPr/>
            <p:nvPr/>
          </p:nvSpPr>
          <p:spPr>
            <a:xfrm>
              <a:off x="5052960" y="3025800"/>
              <a:ext cx="36648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Toca da Raposa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1" name=""/>
            <p:cNvSpPr/>
            <p:nvPr/>
          </p:nvSpPr>
          <p:spPr>
            <a:xfrm>
              <a:off x="6051600" y="3933720"/>
              <a:ext cx="61920" cy="34920"/>
            </a:xfrm>
            <a:custGeom>
              <a:avLst/>
              <a:gdLst/>
              <a:ahLst/>
              <a:rect l="l" t="t" r="r" b="b"/>
              <a:pathLst>
                <a:path w="39" h="22">
                  <a:moveTo>
                    <a:pt x="0" y="5"/>
                  </a:moveTo>
                  <a:lnTo>
                    <a:pt x="6" y="22"/>
                  </a:lnTo>
                  <a:lnTo>
                    <a:pt x="17" y="22"/>
                  </a:lnTo>
                  <a:lnTo>
                    <a:pt x="33" y="22"/>
                  </a:lnTo>
                  <a:lnTo>
                    <a:pt x="39" y="11"/>
                  </a:lnTo>
                  <a:lnTo>
                    <a:pt x="33" y="5"/>
                  </a:lnTo>
                  <a:lnTo>
                    <a:pt x="22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2" name=""/>
            <p:cNvSpPr/>
            <p:nvPr/>
          </p:nvSpPr>
          <p:spPr>
            <a:xfrm>
              <a:off x="6141240" y="3925800"/>
              <a:ext cx="17748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400" spc="-1" strike="noStrike">
                  <a:solidFill>
                    <a:srgbClr val="000000"/>
                  </a:solidFill>
                  <a:latin typeface="Arial"/>
                </a:rPr>
                <a:t>Juremal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3" name=""/>
            <p:cNvSpPr/>
            <p:nvPr/>
          </p:nvSpPr>
          <p:spPr>
            <a:xfrm>
              <a:off x="6417360" y="4098960"/>
              <a:ext cx="21420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Vertentes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4" name=""/>
            <p:cNvSpPr/>
            <p:nvPr/>
          </p:nvSpPr>
          <p:spPr>
            <a:xfrm>
              <a:off x="6329520" y="4141800"/>
              <a:ext cx="77760" cy="50760"/>
            </a:xfrm>
            <a:custGeom>
              <a:avLst/>
              <a:gdLst/>
              <a:ahLst/>
              <a:rect l="l" t="t" r="r" b="b"/>
              <a:pathLst>
                <a:path w="49" h="32">
                  <a:moveTo>
                    <a:pt x="0" y="5"/>
                  </a:moveTo>
                  <a:lnTo>
                    <a:pt x="5" y="27"/>
                  </a:lnTo>
                  <a:lnTo>
                    <a:pt x="27" y="32"/>
                  </a:lnTo>
                  <a:lnTo>
                    <a:pt x="44" y="27"/>
                  </a:lnTo>
                  <a:lnTo>
                    <a:pt x="49" y="16"/>
                  </a:lnTo>
                  <a:lnTo>
                    <a:pt x="44" y="5"/>
                  </a:lnTo>
                  <a:lnTo>
                    <a:pt x="27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5" name=""/>
            <p:cNvSpPr/>
            <p:nvPr/>
          </p:nvSpPr>
          <p:spPr>
            <a:xfrm>
              <a:off x="6364440" y="5353200"/>
              <a:ext cx="95040" cy="60120"/>
            </a:xfrm>
            <a:custGeom>
              <a:avLst/>
              <a:gdLst/>
              <a:ahLst/>
              <a:rect l="l" t="t" r="r" b="b"/>
              <a:pathLst>
                <a:path w="60" h="38">
                  <a:moveTo>
                    <a:pt x="0" y="5"/>
                  </a:moveTo>
                  <a:lnTo>
                    <a:pt x="11" y="27"/>
                  </a:lnTo>
                  <a:lnTo>
                    <a:pt x="32" y="38"/>
                  </a:lnTo>
                  <a:lnTo>
                    <a:pt x="54" y="32"/>
                  </a:lnTo>
                  <a:lnTo>
                    <a:pt x="60" y="16"/>
                  </a:lnTo>
                  <a:lnTo>
                    <a:pt x="49" y="5"/>
                  </a:lnTo>
                  <a:lnTo>
                    <a:pt x="38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6" name=""/>
            <p:cNvSpPr/>
            <p:nvPr/>
          </p:nvSpPr>
          <p:spPr>
            <a:xfrm>
              <a:off x="6430680" y="5283360"/>
              <a:ext cx="40320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Barreira Vermelha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7" name=""/>
            <p:cNvSpPr/>
            <p:nvPr/>
          </p:nvSpPr>
          <p:spPr>
            <a:xfrm>
              <a:off x="2661480" y="5759280"/>
              <a:ext cx="29808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Baixa Branca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8" name=""/>
            <p:cNvSpPr/>
            <p:nvPr/>
          </p:nvSpPr>
          <p:spPr>
            <a:xfrm>
              <a:off x="2763720" y="5699160"/>
              <a:ext cx="60480" cy="42840"/>
            </a:xfrm>
            <a:custGeom>
              <a:avLst/>
              <a:gdLst/>
              <a:ahLst/>
              <a:rect l="l" t="t" r="r" b="b"/>
              <a:pathLst>
                <a:path w="38" h="27">
                  <a:moveTo>
                    <a:pt x="0" y="5"/>
                  </a:moveTo>
                  <a:lnTo>
                    <a:pt x="5" y="21"/>
                  </a:lnTo>
                  <a:lnTo>
                    <a:pt x="21" y="27"/>
                  </a:lnTo>
                  <a:lnTo>
                    <a:pt x="32" y="21"/>
                  </a:lnTo>
                  <a:lnTo>
                    <a:pt x="38" y="11"/>
                  </a:lnTo>
                  <a:lnTo>
                    <a:pt x="32" y="5"/>
                  </a:lnTo>
                  <a:lnTo>
                    <a:pt x="21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9" name=""/>
            <p:cNvSpPr/>
            <p:nvPr/>
          </p:nvSpPr>
          <p:spPr>
            <a:xfrm>
              <a:off x="2529000" y="4678200"/>
              <a:ext cx="61920" cy="43200"/>
            </a:xfrm>
            <a:custGeom>
              <a:avLst/>
              <a:gdLst/>
              <a:ahLst/>
              <a:rect l="l" t="t" r="r" b="b"/>
              <a:pathLst>
                <a:path w="39" h="27">
                  <a:moveTo>
                    <a:pt x="0" y="5"/>
                  </a:moveTo>
                  <a:lnTo>
                    <a:pt x="6" y="21"/>
                  </a:lnTo>
                  <a:lnTo>
                    <a:pt x="22" y="27"/>
                  </a:lnTo>
                  <a:lnTo>
                    <a:pt x="39" y="21"/>
                  </a:lnTo>
                  <a:lnTo>
                    <a:pt x="39" y="10"/>
                  </a:lnTo>
                  <a:lnTo>
                    <a:pt x="33" y="5"/>
                  </a:lnTo>
                  <a:lnTo>
                    <a:pt x="28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0" name=""/>
            <p:cNvSpPr/>
            <p:nvPr/>
          </p:nvSpPr>
          <p:spPr>
            <a:xfrm>
              <a:off x="2495520" y="4237200"/>
              <a:ext cx="60480" cy="33120"/>
            </a:xfrm>
            <a:custGeom>
              <a:avLst/>
              <a:gdLst/>
              <a:ahLst/>
              <a:rect l="l" t="t" r="r" b="b"/>
              <a:pathLst>
                <a:path w="38" h="21">
                  <a:moveTo>
                    <a:pt x="0" y="5"/>
                  </a:moveTo>
                  <a:lnTo>
                    <a:pt x="5" y="21"/>
                  </a:lnTo>
                  <a:lnTo>
                    <a:pt x="21" y="21"/>
                  </a:lnTo>
                  <a:lnTo>
                    <a:pt x="38" y="21"/>
                  </a:lnTo>
                  <a:lnTo>
                    <a:pt x="38" y="10"/>
                  </a:lnTo>
                  <a:lnTo>
                    <a:pt x="32" y="5"/>
                  </a:lnTo>
                  <a:lnTo>
                    <a:pt x="27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1" name=""/>
            <p:cNvSpPr/>
            <p:nvPr/>
          </p:nvSpPr>
          <p:spPr>
            <a:xfrm>
              <a:off x="2574720" y="4184640"/>
              <a:ext cx="13032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400" spc="-1" strike="noStrike">
                  <a:solidFill>
                    <a:srgbClr val="000000"/>
                  </a:solidFill>
                  <a:latin typeface="Arial"/>
                </a:rPr>
                <a:t>Ubaia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2" name=""/>
            <p:cNvSpPr/>
            <p:nvPr/>
          </p:nvSpPr>
          <p:spPr>
            <a:xfrm>
              <a:off x="2592000" y="4635360"/>
              <a:ext cx="15912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Maxixe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3" name=""/>
            <p:cNvSpPr/>
            <p:nvPr/>
          </p:nvSpPr>
          <p:spPr>
            <a:xfrm>
              <a:off x="2558160" y="3068640"/>
              <a:ext cx="30996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Bom Sucesso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4" name=""/>
            <p:cNvSpPr/>
            <p:nvPr/>
          </p:nvSpPr>
          <p:spPr>
            <a:xfrm>
              <a:off x="2624040" y="3137040"/>
              <a:ext cx="61920" cy="34920"/>
            </a:xfrm>
            <a:custGeom>
              <a:avLst/>
              <a:gdLst/>
              <a:ahLst/>
              <a:rect l="l" t="t" r="r" b="b"/>
              <a:pathLst>
                <a:path w="39" h="22">
                  <a:moveTo>
                    <a:pt x="0" y="6"/>
                  </a:moveTo>
                  <a:lnTo>
                    <a:pt x="6" y="22"/>
                  </a:lnTo>
                  <a:lnTo>
                    <a:pt x="22" y="22"/>
                  </a:lnTo>
                  <a:lnTo>
                    <a:pt x="33" y="22"/>
                  </a:lnTo>
                  <a:lnTo>
                    <a:pt x="39" y="11"/>
                  </a:lnTo>
                  <a:lnTo>
                    <a:pt x="33" y="6"/>
                  </a:lnTo>
                  <a:lnTo>
                    <a:pt x="22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5" name=""/>
            <p:cNvSpPr/>
            <p:nvPr/>
          </p:nvSpPr>
          <p:spPr>
            <a:xfrm>
              <a:off x="4373640" y="4253040"/>
              <a:ext cx="60120" cy="34920"/>
            </a:xfrm>
            <a:custGeom>
              <a:avLst/>
              <a:gdLst/>
              <a:ahLst/>
              <a:rect l="l" t="t" r="r" b="b"/>
              <a:pathLst>
                <a:path w="38" h="22">
                  <a:moveTo>
                    <a:pt x="0" y="6"/>
                  </a:moveTo>
                  <a:lnTo>
                    <a:pt x="5" y="17"/>
                  </a:lnTo>
                  <a:lnTo>
                    <a:pt x="16" y="22"/>
                  </a:lnTo>
                  <a:lnTo>
                    <a:pt x="32" y="22"/>
                  </a:lnTo>
                  <a:lnTo>
                    <a:pt x="38" y="11"/>
                  </a:lnTo>
                  <a:lnTo>
                    <a:pt x="32" y="6"/>
                  </a:lnTo>
                  <a:lnTo>
                    <a:pt x="22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6" name=""/>
            <p:cNvSpPr/>
            <p:nvPr/>
          </p:nvSpPr>
          <p:spPr>
            <a:xfrm>
              <a:off x="4282200" y="4184640"/>
              <a:ext cx="25380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Catingueira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7" name=""/>
            <p:cNvSpPr/>
            <p:nvPr/>
          </p:nvSpPr>
          <p:spPr>
            <a:xfrm>
              <a:off x="5073480" y="4591080"/>
              <a:ext cx="61920" cy="34920"/>
            </a:xfrm>
            <a:custGeom>
              <a:avLst/>
              <a:gdLst/>
              <a:ahLst/>
              <a:rect l="l" t="t" r="r" b="b"/>
              <a:pathLst>
                <a:path w="39" h="22">
                  <a:moveTo>
                    <a:pt x="0" y="5"/>
                  </a:moveTo>
                  <a:lnTo>
                    <a:pt x="6" y="16"/>
                  </a:lnTo>
                  <a:lnTo>
                    <a:pt x="17" y="22"/>
                  </a:lnTo>
                  <a:lnTo>
                    <a:pt x="33" y="22"/>
                  </a:lnTo>
                  <a:lnTo>
                    <a:pt x="39" y="11"/>
                  </a:lnTo>
                  <a:lnTo>
                    <a:pt x="33" y="5"/>
                  </a:lnTo>
                  <a:lnTo>
                    <a:pt x="22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8" name=""/>
            <p:cNvSpPr/>
            <p:nvPr/>
          </p:nvSpPr>
          <p:spPr>
            <a:xfrm>
              <a:off x="5154120" y="4522680"/>
              <a:ext cx="21852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Boa Água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9" name=""/>
            <p:cNvSpPr/>
            <p:nvPr/>
          </p:nvSpPr>
          <p:spPr>
            <a:xfrm>
              <a:off x="4321080" y="5361120"/>
              <a:ext cx="52560" cy="34920"/>
            </a:xfrm>
            <a:custGeom>
              <a:avLst/>
              <a:gdLst/>
              <a:ahLst/>
              <a:rect l="l" t="t" r="r" b="b"/>
              <a:pathLst>
                <a:path w="33" h="22">
                  <a:moveTo>
                    <a:pt x="0" y="6"/>
                  </a:moveTo>
                  <a:lnTo>
                    <a:pt x="0" y="22"/>
                  </a:lnTo>
                  <a:lnTo>
                    <a:pt x="16" y="22"/>
                  </a:lnTo>
                  <a:lnTo>
                    <a:pt x="33" y="22"/>
                  </a:lnTo>
                  <a:lnTo>
                    <a:pt x="33" y="11"/>
                  </a:lnTo>
                  <a:lnTo>
                    <a:pt x="33" y="6"/>
                  </a:lnTo>
                  <a:lnTo>
                    <a:pt x="22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0" name=""/>
            <p:cNvSpPr/>
            <p:nvPr/>
          </p:nvSpPr>
          <p:spPr>
            <a:xfrm>
              <a:off x="4167360" y="5310360"/>
              <a:ext cx="14688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Canaã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1" name=""/>
            <p:cNvSpPr/>
            <p:nvPr/>
          </p:nvSpPr>
          <p:spPr>
            <a:xfrm>
              <a:off x="3967560" y="3648240"/>
              <a:ext cx="16848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400" spc="-1" strike="noStrike">
                  <a:solidFill>
                    <a:srgbClr val="000000"/>
                  </a:solidFill>
                  <a:latin typeface="Arial"/>
                </a:rPr>
                <a:t>Velame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2" name=""/>
            <p:cNvSpPr/>
            <p:nvPr/>
          </p:nvSpPr>
          <p:spPr>
            <a:xfrm>
              <a:off x="3883320" y="3916440"/>
              <a:ext cx="24012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Sumidouro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3" name=""/>
            <p:cNvSpPr/>
            <p:nvPr/>
          </p:nvSpPr>
          <p:spPr>
            <a:xfrm>
              <a:off x="5561640" y="2030400"/>
              <a:ext cx="28116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Pico Estreito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4" name=""/>
            <p:cNvSpPr/>
            <p:nvPr/>
          </p:nvSpPr>
          <p:spPr>
            <a:xfrm>
              <a:off x="4278240" y="2411280"/>
              <a:ext cx="60480" cy="33480"/>
            </a:xfrm>
            <a:custGeom>
              <a:avLst/>
              <a:gdLst/>
              <a:ahLst/>
              <a:rect l="l" t="t" r="r" b="b"/>
              <a:pathLst>
                <a:path w="38" h="21">
                  <a:moveTo>
                    <a:pt x="0" y="5"/>
                  </a:moveTo>
                  <a:lnTo>
                    <a:pt x="5" y="16"/>
                  </a:lnTo>
                  <a:lnTo>
                    <a:pt x="16" y="21"/>
                  </a:lnTo>
                  <a:lnTo>
                    <a:pt x="32" y="21"/>
                  </a:lnTo>
                  <a:lnTo>
                    <a:pt x="38" y="10"/>
                  </a:lnTo>
                  <a:lnTo>
                    <a:pt x="32" y="5"/>
                  </a:lnTo>
                  <a:lnTo>
                    <a:pt x="22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5" name=""/>
            <p:cNvSpPr/>
            <p:nvPr/>
          </p:nvSpPr>
          <p:spPr>
            <a:xfrm>
              <a:off x="4142880" y="2324160"/>
              <a:ext cx="14868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400" spc="-1" strike="noStrike">
                  <a:solidFill>
                    <a:srgbClr val="000000"/>
                  </a:solidFill>
                  <a:latin typeface="Arial"/>
                </a:rPr>
                <a:t>Lajeiro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6" name=""/>
            <p:cNvSpPr/>
            <p:nvPr/>
          </p:nvSpPr>
          <p:spPr>
            <a:xfrm>
              <a:off x="4719600" y="2835360"/>
              <a:ext cx="52560" cy="33120"/>
            </a:xfrm>
            <a:custGeom>
              <a:avLst/>
              <a:gdLst/>
              <a:ahLst/>
              <a:rect l="l" t="t" r="r" b="b"/>
              <a:pathLst>
                <a:path w="33" h="21">
                  <a:moveTo>
                    <a:pt x="0" y="5"/>
                  </a:moveTo>
                  <a:lnTo>
                    <a:pt x="0" y="16"/>
                  </a:lnTo>
                  <a:lnTo>
                    <a:pt x="16" y="21"/>
                  </a:lnTo>
                  <a:lnTo>
                    <a:pt x="33" y="21"/>
                  </a:lnTo>
                  <a:lnTo>
                    <a:pt x="33" y="11"/>
                  </a:lnTo>
                  <a:lnTo>
                    <a:pt x="33" y="5"/>
                  </a:lnTo>
                  <a:lnTo>
                    <a:pt x="22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7" name=""/>
            <p:cNvSpPr/>
            <p:nvPr/>
          </p:nvSpPr>
          <p:spPr>
            <a:xfrm>
              <a:off x="4335120" y="2860560"/>
              <a:ext cx="34524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Furna de Pedra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8" name=""/>
            <p:cNvSpPr/>
            <p:nvPr/>
          </p:nvSpPr>
          <p:spPr>
            <a:xfrm>
              <a:off x="3841920" y="2809800"/>
              <a:ext cx="26424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Formigueiro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9" name=""/>
            <p:cNvSpPr/>
            <p:nvPr/>
          </p:nvSpPr>
          <p:spPr>
            <a:xfrm>
              <a:off x="4173480" y="3249720"/>
              <a:ext cx="61920" cy="34920"/>
            </a:xfrm>
            <a:custGeom>
              <a:avLst/>
              <a:gdLst/>
              <a:ahLst/>
              <a:rect l="l" t="t" r="r" b="b"/>
              <a:pathLst>
                <a:path w="39" h="22">
                  <a:moveTo>
                    <a:pt x="0" y="6"/>
                  </a:moveTo>
                  <a:lnTo>
                    <a:pt x="6" y="22"/>
                  </a:lnTo>
                  <a:lnTo>
                    <a:pt x="17" y="22"/>
                  </a:lnTo>
                  <a:lnTo>
                    <a:pt x="33" y="22"/>
                  </a:lnTo>
                  <a:lnTo>
                    <a:pt x="39" y="11"/>
                  </a:lnTo>
                  <a:lnTo>
                    <a:pt x="33" y="6"/>
                  </a:lnTo>
                  <a:lnTo>
                    <a:pt x="22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0" name=""/>
            <p:cNvSpPr/>
            <p:nvPr/>
          </p:nvSpPr>
          <p:spPr>
            <a:xfrm>
              <a:off x="4036680" y="3311640"/>
              <a:ext cx="16236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Currais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1" name=""/>
            <p:cNvSpPr/>
            <p:nvPr/>
          </p:nvSpPr>
          <p:spPr>
            <a:xfrm>
              <a:off x="3524400" y="4071960"/>
              <a:ext cx="52200" cy="34920"/>
            </a:xfrm>
            <a:custGeom>
              <a:avLst/>
              <a:gdLst/>
              <a:ahLst/>
              <a:rect l="l" t="t" r="r" b="b"/>
              <a:pathLst>
                <a:path w="33" h="22">
                  <a:moveTo>
                    <a:pt x="0" y="5"/>
                  </a:moveTo>
                  <a:lnTo>
                    <a:pt x="0" y="16"/>
                  </a:lnTo>
                  <a:lnTo>
                    <a:pt x="17" y="22"/>
                  </a:lnTo>
                  <a:lnTo>
                    <a:pt x="33" y="22"/>
                  </a:lnTo>
                  <a:lnTo>
                    <a:pt x="33" y="11"/>
                  </a:lnTo>
                  <a:lnTo>
                    <a:pt x="33" y="5"/>
                  </a:lnTo>
                  <a:lnTo>
                    <a:pt x="22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02" name=""/>
          <p:cNvSpPr/>
          <p:nvPr/>
        </p:nvSpPr>
        <p:spPr>
          <a:xfrm>
            <a:off x="3336840" y="3994200"/>
            <a:ext cx="20952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Mato Alto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3" name=""/>
          <p:cNvSpPr/>
          <p:nvPr/>
        </p:nvSpPr>
        <p:spPr>
          <a:xfrm>
            <a:off x="4822920" y="4202280"/>
            <a:ext cx="60120" cy="34920"/>
          </a:xfrm>
          <a:custGeom>
            <a:avLst/>
            <a:gdLst/>
            <a:ahLst/>
            <a:rect l="l" t="t" r="r" b="b"/>
            <a:pathLst>
              <a:path w="38" h="22">
                <a:moveTo>
                  <a:pt x="0" y="5"/>
                </a:moveTo>
                <a:lnTo>
                  <a:pt x="6" y="22"/>
                </a:lnTo>
                <a:lnTo>
                  <a:pt x="17" y="22"/>
                </a:lnTo>
                <a:lnTo>
                  <a:pt x="33" y="22"/>
                </a:lnTo>
                <a:lnTo>
                  <a:pt x="38" y="11"/>
                </a:lnTo>
                <a:lnTo>
                  <a:pt x="33" y="5"/>
                </a:lnTo>
                <a:lnTo>
                  <a:pt x="22" y="0"/>
                </a:lnTo>
                <a:lnTo>
                  <a:pt x="0" y="5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4" name=""/>
          <p:cNvSpPr/>
          <p:nvPr/>
        </p:nvSpPr>
        <p:spPr>
          <a:xfrm>
            <a:off x="4732560" y="4272120"/>
            <a:ext cx="34200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Vereda do Anel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5" name=""/>
          <p:cNvSpPr/>
          <p:nvPr/>
        </p:nvSpPr>
        <p:spPr>
          <a:xfrm>
            <a:off x="5238720" y="3751200"/>
            <a:ext cx="60480" cy="34920"/>
          </a:xfrm>
          <a:custGeom>
            <a:avLst/>
            <a:gdLst/>
            <a:ahLst/>
            <a:rect l="l" t="t" r="r" b="b"/>
            <a:pathLst>
              <a:path w="38" h="22">
                <a:moveTo>
                  <a:pt x="0" y="6"/>
                </a:moveTo>
                <a:lnTo>
                  <a:pt x="5" y="22"/>
                </a:lnTo>
                <a:lnTo>
                  <a:pt x="22" y="22"/>
                </a:lnTo>
                <a:lnTo>
                  <a:pt x="38" y="22"/>
                </a:lnTo>
                <a:lnTo>
                  <a:pt x="38" y="11"/>
                </a:lnTo>
                <a:lnTo>
                  <a:pt x="33" y="6"/>
                </a:lnTo>
                <a:lnTo>
                  <a:pt x="27" y="0"/>
                </a:lnTo>
                <a:lnTo>
                  <a:pt x="0" y="6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6" name=""/>
          <p:cNvSpPr/>
          <p:nvPr/>
        </p:nvSpPr>
        <p:spPr>
          <a:xfrm>
            <a:off x="5295240" y="3691080"/>
            <a:ext cx="29340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Moinho Novo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7" name=""/>
          <p:cNvSpPr/>
          <p:nvPr/>
        </p:nvSpPr>
        <p:spPr>
          <a:xfrm>
            <a:off x="4883040" y="5699160"/>
            <a:ext cx="61920" cy="33480"/>
          </a:xfrm>
          <a:custGeom>
            <a:avLst/>
            <a:gdLst/>
            <a:ahLst/>
            <a:rect l="l" t="t" r="r" b="b"/>
            <a:pathLst>
              <a:path w="39" h="21">
                <a:moveTo>
                  <a:pt x="0" y="5"/>
                </a:moveTo>
                <a:lnTo>
                  <a:pt x="6" y="16"/>
                </a:lnTo>
                <a:lnTo>
                  <a:pt x="17" y="21"/>
                </a:lnTo>
                <a:lnTo>
                  <a:pt x="33" y="21"/>
                </a:lnTo>
                <a:lnTo>
                  <a:pt x="39" y="11"/>
                </a:lnTo>
                <a:lnTo>
                  <a:pt x="33" y="5"/>
                </a:lnTo>
                <a:lnTo>
                  <a:pt x="22" y="0"/>
                </a:lnTo>
                <a:lnTo>
                  <a:pt x="0" y="5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8" name=""/>
          <p:cNvSpPr/>
          <p:nvPr/>
        </p:nvSpPr>
        <p:spPr>
          <a:xfrm>
            <a:off x="4844160" y="5784840"/>
            <a:ext cx="25992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Trinta e U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9" name=""/>
          <p:cNvSpPr/>
          <p:nvPr/>
        </p:nvSpPr>
        <p:spPr>
          <a:xfrm>
            <a:off x="2581200" y="3648240"/>
            <a:ext cx="60480" cy="34920"/>
          </a:xfrm>
          <a:custGeom>
            <a:avLst/>
            <a:gdLst/>
            <a:ahLst/>
            <a:rect l="l" t="t" r="r" b="b"/>
            <a:pathLst>
              <a:path w="38" h="22">
                <a:moveTo>
                  <a:pt x="0" y="5"/>
                </a:moveTo>
                <a:lnTo>
                  <a:pt x="6" y="22"/>
                </a:lnTo>
                <a:lnTo>
                  <a:pt x="22" y="22"/>
                </a:lnTo>
                <a:lnTo>
                  <a:pt x="38" y="22"/>
                </a:lnTo>
                <a:lnTo>
                  <a:pt x="38" y="11"/>
                </a:lnTo>
                <a:lnTo>
                  <a:pt x="33" y="5"/>
                </a:lnTo>
                <a:lnTo>
                  <a:pt x="27" y="0"/>
                </a:lnTo>
                <a:lnTo>
                  <a:pt x="0" y="5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0" name=""/>
          <p:cNvSpPr/>
          <p:nvPr/>
        </p:nvSpPr>
        <p:spPr>
          <a:xfrm>
            <a:off x="2602440" y="3552840"/>
            <a:ext cx="31320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Baixa do Félix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1" name=""/>
          <p:cNvSpPr/>
          <p:nvPr/>
        </p:nvSpPr>
        <p:spPr>
          <a:xfrm>
            <a:off x="3300480" y="2747880"/>
            <a:ext cx="25200" cy="17640"/>
          </a:xfrm>
          <a:custGeom>
            <a:avLst/>
            <a:gdLst/>
            <a:ahLst/>
            <a:rect l="l" t="t" r="r" b="b"/>
            <a:pathLst>
              <a:path w="16" h="11">
                <a:moveTo>
                  <a:pt x="16" y="11"/>
                </a:moveTo>
                <a:lnTo>
                  <a:pt x="0" y="6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2" name=""/>
          <p:cNvSpPr/>
          <p:nvPr/>
        </p:nvSpPr>
        <p:spPr>
          <a:xfrm flipH="1" flipV="1">
            <a:off x="3239640" y="2704680"/>
            <a:ext cx="25560" cy="2556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3" name=""/>
          <p:cNvSpPr/>
          <p:nvPr/>
        </p:nvSpPr>
        <p:spPr>
          <a:xfrm flipH="1" flipV="1">
            <a:off x="3177720" y="2669760"/>
            <a:ext cx="34920" cy="176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4" name=""/>
          <p:cNvSpPr/>
          <p:nvPr/>
        </p:nvSpPr>
        <p:spPr>
          <a:xfrm>
            <a:off x="3110040" y="2652840"/>
            <a:ext cx="34920" cy="9360"/>
          </a:xfrm>
          <a:custGeom>
            <a:avLst/>
            <a:gdLst/>
            <a:ahLst/>
            <a:rect l="l" t="t" r="r" b="b"/>
            <a:pathLst>
              <a:path w="22" h="6">
                <a:moveTo>
                  <a:pt x="22" y="6"/>
                </a:moveTo>
                <a:lnTo>
                  <a:pt x="5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5" name=""/>
          <p:cNvSpPr/>
          <p:nvPr/>
        </p:nvSpPr>
        <p:spPr>
          <a:xfrm>
            <a:off x="3049560" y="2617920"/>
            <a:ext cx="25560" cy="27000"/>
          </a:xfrm>
          <a:custGeom>
            <a:avLst/>
            <a:gdLst/>
            <a:ahLst/>
            <a:rect l="l" t="t" r="r" b="b"/>
            <a:pathLst>
              <a:path w="16" h="17">
                <a:moveTo>
                  <a:pt x="16" y="17"/>
                </a:moveTo>
                <a:lnTo>
                  <a:pt x="10" y="11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6" name=""/>
          <p:cNvSpPr/>
          <p:nvPr/>
        </p:nvSpPr>
        <p:spPr>
          <a:xfrm>
            <a:off x="3005280" y="2567160"/>
            <a:ext cx="27000" cy="25200"/>
          </a:xfrm>
          <a:custGeom>
            <a:avLst/>
            <a:gdLst/>
            <a:ahLst/>
            <a:rect l="l" t="t" r="r" b="b"/>
            <a:pathLst>
              <a:path w="17" h="16">
                <a:moveTo>
                  <a:pt x="17" y="16"/>
                </a:moveTo>
                <a:lnTo>
                  <a:pt x="6" y="11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7" name=""/>
          <p:cNvSpPr/>
          <p:nvPr/>
        </p:nvSpPr>
        <p:spPr>
          <a:xfrm>
            <a:off x="2970360" y="2506680"/>
            <a:ext cx="17280" cy="33480"/>
          </a:xfrm>
          <a:custGeom>
            <a:avLst/>
            <a:gdLst/>
            <a:ahLst/>
            <a:rect l="l" t="t" r="r" b="b"/>
            <a:pathLst>
              <a:path w="11" h="21">
                <a:moveTo>
                  <a:pt x="11" y="21"/>
                </a:moveTo>
                <a:lnTo>
                  <a:pt x="6" y="5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8" name=""/>
          <p:cNvSpPr/>
          <p:nvPr/>
        </p:nvSpPr>
        <p:spPr>
          <a:xfrm flipH="1" flipV="1">
            <a:off x="2936880" y="2479680"/>
            <a:ext cx="7920" cy="936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9" name=""/>
          <p:cNvSpPr/>
          <p:nvPr/>
        </p:nvSpPr>
        <p:spPr>
          <a:xfrm>
            <a:off x="3317760" y="3232080"/>
            <a:ext cx="1800" cy="34920"/>
          </a:xfrm>
          <a:custGeom>
            <a:avLst/>
            <a:gdLst/>
            <a:ahLst/>
            <a:rect l="l" t="t" r="r" b="b"/>
            <a:pathLst>
              <a:path w="0" h="22">
                <a:moveTo>
                  <a:pt x="0" y="0"/>
                </a:moveTo>
                <a:lnTo>
                  <a:pt x="0" y="11"/>
                </a:lnTo>
                <a:lnTo>
                  <a:pt x="0" y="22"/>
                </a:lnTo>
                <a:lnTo>
                  <a:pt x="0" y="22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0" name=""/>
          <p:cNvSpPr/>
          <p:nvPr/>
        </p:nvSpPr>
        <p:spPr>
          <a:xfrm>
            <a:off x="3351240" y="3267000"/>
            <a:ext cx="34920" cy="9720"/>
          </a:xfrm>
          <a:custGeom>
            <a:avLst/>
            <a:gdLst/>
            <a:ahLst/>
            <a:rect l="l" t="t" r="r" b="b"/>
            <a:pathLst>
              <a:path w="22" h="6">
                <a:moveTo>
                  <a:pt x="0" y="6"/>
                </a:moveTo>
                <a:lnTo>
                  <a:pt x="11" y="6"/>
                </a:lnTo>
                <a:lnTo>
                  <a:pt x="22" y="0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1" name=""/>
          <p:cNvSpPr/>
          <p:nvPr/>
        </p:nvSpPr>
        <p:spPr>
          <a:xfrm flipV="1">
            <a:off x="3421080" y="3249720"/>
            <a:ext cx="34920" cy="936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2" name=""/>
          <p:cNvSpPr/>
          <p:nvPr/>
        </p:nvSpPr>
        <p:spPr>
          <a:xfrm>
            <a:off x="3490920" y="3249720"/>
            <a:ext cx="33480" cy="9360"/>
          </a:xfrm>
          <a:custGeom>
            <a:avLst/>
            <a:gdLst/>
            <a:ahLst/>
            <a:rect l="l" t="t" r="r" b="b"/>
            <a:pathLst>
              <a:path w="21" h="6">
                <a:moveTo>
                  <a:pt x="0" y="0"/>
                </a:moveTo>
                <a:lnTo>
                  <a:pt x="0" y="0"/>
                </a:lnTo>
                <a:lnTo>
                  <a:pt x="16" y="6"/>
                </a:lnTo>
                <a:lnTo>
                  <a:pt x="21" y="6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3" name=""/>
          <p:cNvSpPr/>
          <p:nvPr/>
        </p:nvSpPr>
        <p:spPr>
          <a:xfrm>
            <a:off x="3559320" y="3267000"/>
            <a:ext cx="34920" cy="18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4" name=""/>
          <p:cNvSpPr/>
          <p:nvPr/>
        </p:nvSpPr>
        <p:spPr>
          <a:xfrm>
            <a:off x="3629160" y="3267000"/>
            <a:ext cx="34920" cy="9720"/>
          </a:xfrm>
          <a:custGeom>
            <a:avLst/>
            <a:gdLst/>
            <a:ahLst/>
            <a:rect l="l" t="t" r="r" b="b"/>
            <a:pathLst>
              <a:path w="22" h="6">
                <a:moveTo>
                  <a:pt x="0" y="6"/>
                </a:moveTo>
                <a:lnTo>
                  <a:pt x="0" y="6"/>
                </a:lnTo>
                <a:lnTo>
                  <a:pt x="22" y="0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5" name=""/>
          <p:cNvSpPr/>
          <p:nvPr/>
        </p:nvSpPr>
        <p:spPr>
          <a:xfrm>
            <a:off x="3697200" y="3249720"/>
            <a:ext cx="34920" cy="9360"/>
          </a:xfrm>
          <a:custGeom>
            <a:avLst/>
            <a:gdLst/>
            <a:ahLst/>
            <a:rect l="l" t="t" r="r" b="b"/>
            <a:pathLst>
              <a:path w="22" h="6">
                <a:moveTo>
                  <a:pt x="0" y="6"/>
                </a:moveTo>
                <a:lnTo>
                  <a:pt x="22" y="0"/>
                </a:lnTo>
                <a:lnTo>
                  <a:pt x="22" y="0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6" name=""/>
          <p:cNvSpPr/>
          <p:nvPr/>
        </p:nvSpPr>
        <p:spPr>
          <a:xfrm>
            <a:off x="3749760" y="3198960"/>
            <a:ext cx="27000" cy="33120"/>
          </a:xfrm>
          <a:custGeom>
            <a:avLst/>
            <a:gdLst/>
            <a:ahLst/>
            <a:rect l="l" t="t" r="r" b="b"/>
            <a:pathLst>
              <a:path w="17" h="21">
                <a:moveTo>
                  <a:pt x="0" y="21"/>
                </a:moveTo>
                <a:lnTo>
                  <a:pt x="11" y="5"/>
                </a:lnTo>
                <a:lnTo>
                  <a:pt x="17" y="0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7" name=""/>
          <p:cNvSpPr/>
          <p:nvPr/>
        </p:nvSpPr>
        <p:spPr>
          <a:xfrm>
            <a:off x="3809880" y="3198960"/>
            <a:ext cx="34920" cy="1440"/>
          </a:xfrm>
          <a:custGeom>
            <a:avLst/>
            <a:gdLst/>
            <a:ahLst/>
            <a:rect l="l" t="t" r="r" b="b"/>
            <a:pathLst>
              <a:path w="22" h="0">
                <a:moveTo>
                  <a:pt x="0" y="0"/>
                </a:moveTo>
                <a:lnTo>
                  <a:pt x="0" y="0"/>
                </a:lnTo>
                <a:lnTo>
                  <a:pt x="22" y="0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8" name=""/>
          <p:cNvSpPr/>
          <p:nvPr/>
        </p:nvSpPr>
        <p:spPr>
          <a:xfrm>
            <a:off x="3879720" y="3206880"/>
            <a:ext cx="34920" cy="14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9" name=""/>
          <p:cNvSpPr/>
          <p:nvPr/>
        </p:nvSpPr>
        <p:spPr>
          <a:xfrm>
            <a:off x="3949560" y="3214800"/>
            <a:ext cx="33480" cy="936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0" name=""/>
          <p:cNvSpPr/>
          <p:nvPr/>
        </p:nvSpPr>
        <p:spPr>
          <a:xfrm>
            <a:off x="4017960" y="3224160"/>
            <a:ext cx="34920" cy="792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1" name=""/>
          <p:cNvSpPr/>
          <p:nvPr/>
        </p:nvSpPr>
        <p:spPr>
          <a:xfrm>
            <a:off x="4087800" y="3232080"/>
            <a:ext cx="34920" cy="972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2" name=""/>
          <p:cNvSpPr/>
          <p:nvPr/>
        </p:nvSpPr>
        <p:spPr>
          <a:xfrm rot="900000">
            <a:off x="6716160" y="4146480"/>
            <a:ext cx="3420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3" name=""/>
          <p:cNvSpPr/>
          <p:nvPr/>
        </p:nvSpPr>
        <p:spPr>
          <a:xfrm rot="900000">
            <a:off x="6751440" y="4152960"/>
            <a:ext cx="1440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4" name=""/>
          <p:cNvSpPr/>
          <p:nvPr/>
        </p:nvSpPr>
        <p:spPr>
          <a:xfrm rot="900000">
            <a:off x="6768720" y="4162320"/>
            <a:ext cx="1440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5" name=""/>
          <p:cNvSpPr/>
          <p:nvPr/>
        </p:nvSpPr>
        <p:spPr>
          <a:xfrm rot="900000">
            <a:off x="6777360" y="4165560"/>
            <a:ext cx="4176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6" name=""/>
          <p:cNvSpPr/>
          <p:nvPr/>
        </p:nvSpPr>
        <p:spPr>
          <a:xfrm rot="900000">
            <a:off x="6819840" y="41796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7" name=""/>
          <p:cNvSpPr/>
          <p:nvPr/>
        </p:nvSpPr>
        <p:spPr>
          <a:xfrm rot="900000">
            <a:off x="6854040" y="4179960"/>
            <a:ext cx="2664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8" name=""/>
          <p:cNvSpPr/>
          <p:nvPr/>
        </p:nvSpPr>
        <p:spPr>
          <a:xfrm rot="900000">
            <a:off x="6879240" y="4187520"/>
            <a:ext cx="2664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9" name=""/>
          <p:cNvSpPr/>
          <p:nvPr/>
        </p:nvSpPr>
        <p:spPr>
          <a:xfrm rot="900000">
            <a:off x="6906960" y="41958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0" name=""/>
          <p:cNvSpPr/>
          <p:nvPr/>
        </p:nvSpPr>
        <p:spPr>
          <a:xfrm rot="900000">
            <a:off x="6932520" y="4205160"/>
            <a:ext cx="1764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1" name=""/>
          <p:cNvSpPr/>
          <p:nvPr/>
        </p:nvSpPr>
        <p:spPr>
          <a:xfrm rot="900000">
            <a:off x="6949800" y="421308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ó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2" name=""/>
          <p:cNvSpPr/>
          <p:nvPr/>
        </p:nvSpPr>
        <p:spPr>
          <a:xfrm rot="900000">
            <a:off x="6975000" y="4213080"/>
            <a:ext cx="1440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3" name=""/>
          <p:cNvSpPr/>
          <p:nvPr/>
        </p:nvSpPr>
        <p:spPr>
          <a:xfrm rot="900000">
            <a:off x="6992640" y="4222800"/>
            <a:ext cx="1764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4" name=""/>
          <p:cNvSpPr/>
          <p:nvPr/>
        </p:nvSpPr>
        <p:spPr>
          <a:xfrm rot="900000">
            <a:off x="7010280" y="422244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5" name=""/>
          <p:cNvSpPr/>
          <p:nvPr/>
        </p:nvSpPr>
        <p:spPr>
          <a:xfrm rot="900000">
            <a:off x="7045200" y="423036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6" name=""/>
          <p:cNvSpPr/>
          <p:nvPr/>
        </p:nvSpPr>
        <p:spPr>
          <a:xfrm rot="900000">
            <a:off x="7070400" y="4240080"/>
            <a:ext cx="1440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7" name=""/>
          <p:cNvSpPr/>
          <p:nvPr/>
        </p:nvSpPr>
        <p:spPr>
          <a:xfrm rot="900000">
            <a:off x="7087320" y="4248000"/>
            <a:ext cx="2664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8" name=""/>
          <p:cNvSpPr/>
          <p:nvPr/>
        </p:nvSpPr>
        <p:spPr>
          <a:xfrm rot="900000">
            <a:off x="7115040" y="4260960"/>
            <a:ext cx="4176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9" name=""/>
          <p:cNvSpPr/>
          <p:nvPr/>
        </p:nvSpPr>
        <p:spPr>
          <a:xfrm rot="900000">
            <a:off x="7157520" y="4265640"/>
            <a:ext cx="1764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0" name=""/>
          <p:cNvSpPr/>
          <p:nvPr/>
        </p:nvSpPr>
        <p:spPr>
          <a:xfrm>
            <a:off x="6770520" y="4297320"/>
            <a:ext cx="208080" cy="60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1" name=""/>
          <p:cNvSpPr/>
          <p:nvPr/>
        </p:nvSpPr>
        <p:spPr>
          <a:xfrm>
            <a:off x="6918480" y="4305240"/>
            <a:ext cx="60120" cy="52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2" name=""/>
          <p:cNvSpPr/>
          <p:nvPr/>
        </p:nvSpPr>
        <p:spPr>
          <a:xfrm flipV="1">
            <a:off x="6900840" y="4357800"/>
            <a:ext cx="77760" cy="7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3" name=""/>
          <p:cNvSpPr/>
          <p:nvPr/>
        </p:nvSpPr>
        <p:spPr>
          <a:xfrm rot="21540000">
            <a:off x="1731600" y="3498840"/>
            <a:ext cx="3420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4" name=""/>
          <p:cNvSpPr/>
          <p:nvPr/>
        </p:nvSpPr>
        <p:spPr>
          <a:xfrm rot="21540000">
            <a:off x="1766880" y="3498480"/>
            <a:ext cx="1440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5" name=""/>
          <p:cNvSpPr/>
          <p:nvPr/>
        </p:nvSpPr>
        <p:spPr>
          <a:xfrm rot="21540000">
            <a:off x="1784520" y="3498480"/>
            <a:ext cx="1440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6" name=""/>
          <p:cNvSpPr/>
          <p:nvPr/>
        </p:nvSpPr>
        <p:spPr>
          <a:xfrm rot="21540000">
            <a:off x="1792080" y="3498840"/>
            <a:ext cx="4032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7" name=""/>
          <p:cNvSpPr/>
          <p:nvPr/>
        </p:nvSpPr>
        <p:spPr>
          <a:xfrm rot="21540000">
            <a:off x="1835280" y="349884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8" name=""/>
          <p:cNvSpPr/>
          <p:nvPr/>
        </p:nvSpPr>
        <p:spPr>
          <a:xfrm rot="21540000">
            <a:off x="1870200" y="3498480"/>
            <a:ext cx="1152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9" name=""/>
          <p:cNvSpPr/>
          <p:nvPr/>
        </p:nvSpPr>
        <p:spPr>
          <a:xfrm rot="21540000">
            <a:off x="1877400" y="3498840"/>
            <a:ext cx="2664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0" name=""/>
          <p:cNvSpPr/>
          <p:nvPr/>
        </p:nvSpPr>
        <p:spPr>
          <a:xfrm rot="21540000">
            <a:off x="1905120" y="349884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1" name=""/>
          <p:cNvSpPr/>
          <p:nvPr/>
        </p:nvSpPr>
        <p:spPr>
          <a:xfrm rot="21540000">
            <a:off x="1940040" y="3498480"/>
            <a:ext cx="1764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2" name=""/>
          <p:cNvSpPr/>
          <p:nvPr/>
        </p:nvSpPr>
        <p:spPr>
          <a:xfrm rot="21540000">
            <a:off x="1957680" y="349884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é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3" name=""/>
          <p:cNvSpPr/>
          <p:nvPr/>
        </p:nvSpPr>
        <p:spPr>
          <a:xfrm rot="21540000">
            <a:off x="1982880" y="3498480"/>
            <a:ext cx="1440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4" name=""/>
          <p:cNvSpPr/>
          <p:nvPr/>
        </p:nvSpPr>
        <p:spPr>
          <a:xfrm rot="21540000">
            <a:off x="2000160" y="3490560"/>
            <a:ext cx="1764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5" name=""/>
          <p:cNvSpPr/>
          <p:nvPr/>
        </p:nvSpPr>
        <p:spPr>
          <a:xfrm rot="21540000">
            <a:off x="2017800" y="349092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6" name=""/>
          <p:cNvSpPr/>
          <p:nvPr/>
        </p:nvSpPr>
        <p:spPr>
          <a:xfrm rot="21540000">
            <a:off x="2052720" y="349092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7" name=""/>
          <p:cNvSpPr/>
          <p:nvPr/>
        </p:nvSpPr>
        <p:spPr>
          <a:xfrm rot="21540000">
            <a:off x="2077920" y="3490560"/>
            <a:ext cx="1440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8" name=""/>
          <p:cNvSpPr/>
          <p:nvPr/>
        </p:nvSpPr>
        <p:spPr>
          <a:xfrm rot="21540000">
            <a:off x="2094840" y="3490920"/>
            <a:ext cx="2664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9" name=""/>
          <p:cNvSpPr/>
          <p:nvPr/>
        </p:nvSpPr>
        <p:spPr>
          <a:xfrm rot="21540000">
            <a:off x="2121120" y="3490560"/>
            <a:ext cx="4176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0" name=""/>
          <p:cNvSpPr/>
          <p:nvPr/>
        </p:nvSpPr>
        <p:spPr>
          <a:xfrm rot="21540000">
            <a:off x="2163600" y="3490560"/>
            <a:ext cx="1764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1" name=""/>
          <p:cNvSpPr/>
          <p:nvPr/>
        </p:nvSpPr>
        <p:spPr>
          <a:xfrm>
            <a:off x="1879560" y="3665520"/>
            <a:ext cx="208080" cy="7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2" name=""/>
          <p:cNvSpPr/>
          <p:nvPr/>
        </p:nvSpPr>
        <p:spPr>
          <a:xfrm flipH="1" flipV="1">
            <a:off x="1879560" y="3665160"/>
            <a:ext cx="6984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3" name=""/>
          <p:cNvSpPr/>
          <p:nvPr/>
        </p:nvSpPr>
        <p:spPr>
          <a:xfrm flipH="1">
            <a:off x="1879560" y="3630600"/>
            <a:ext cx="6984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4" name=""/>
          <p:cNvSpPr/>
          <p:nvPr/>
        </p:nvSpPr>
        <p:spPr>
          <a:xfrm>
            <a:off x="2590920" y="3630600"/>
            <a:ext cx="33120" cy="792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5" name=""/>
          <p:cNvSpPr/>
          <p:nvPr/>
        </p:nvSpPr>
        <p:spPr>
          <a:xfrm>
            <a:off x="2658960" y="3656160"/>
            <a:ext cx="34920" cy="936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6" name=""/>
          <p:cNvSpPr/>
          <p:nvPr/>
        </p:nvSpPr>
        <p:spPr>
          <a:xfrm>
            <a:off x="2728800" y="3673440"/>
            <a:ext cx="34920" cy="972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7" name=""/>
          <p:cNvSpPr/>
          <p:nvPr/>
        </p:nvSpPr>
        <p:spPr>
          <a:xfrm>
            <a:off x="2797200" y="3691080"/>
            <a:ext cx="9360" cy="936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8" name=""/>
          <p:cNvSpPr/>
          <p:nvPr/>
        </p:nvSpPr>
        <p:spPr>
          <a:xfrm>
            <a:off x="3844800" y="2990880"/>
            <a:ext cx="9720" cy="7920"/>
          </a:xfrm>
          <a:custGeom>
            <a:avLst/>
            <a:gdLst/>
            <a:ahLst/>
            <a:rect l="l" t="t" r="r" b="b"/>
            <a:pathLst>
              <a:path w="6" h="5">
                <a:moveTo>
                  <a:pt x="6" y="0"/>
                </a:moveTo>
                <a:lnTo>
                  <a:pt x="6" y="0"/>
                </a:lnTo>
                <a:lnTo>
                  <a:pt x="6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0"/>
                </a:lnTo>
                <a:lnTo>
                  <a:pt x="6" y="0"/>
                </a:lnTo>
                <a:lnTo>
                  <a:pt x="6" y="0"/>
                </a:lnTo>
                <a:lnTo>
                  <a:pt x="6" y="0"/>
                </a:lnTo>
                <a:lnTo>
                  <a:pt x="6" y="0"/>
                </a:lnTo>
                <a:lnTo>
                  <a:pt x="6" y="0"/>
                </a:lnTo>
                <a:lnTo>
                  <a:pt x="6" y="0"/>
                </a:lnTo>
                <a:lnTo>
                  <a:pt x="6" y="0"/>
                </a:lnTo>
                <a:lnTo>
                  <a:pt x="6" y="0"/>
                </a:lnTo>
                <a:lnTo>
                  <a:pt x="6" y="0"/>
                </a:lnTo>
                <a:lnTo>
                  <a:pt x="6" y="0"/>
                </a:lnTo>
                <a:lnTo>
                  <a:pt x="6" y="0"/>
                </a:lnTo>
                <a:lnTo>
                  <a:pt x="6" y="0"/>
                </a:lnTo>
                <a:lnTo>
                  <a:pt x="6" y="0"/>
                </a:lnTo>
                <a:lnTo>
                  <a:pt x="6" y="0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9" name=""/>
          <p:cNvSpPr/>
          <p:nvPr/>
        </p:nvSpPr>
        <p:spPr>
          <a:xfrm>
            <a:off x="3213000" y="3457440"/>
            <a:ext cx="9720" cy="7920"/>
          </a:xfrm>
          <a:custGeom>
            <a:avLst/>
            <a:gdLst/>
            <a:ahLst/>
            <a:rect l="l" t="t" r="r" b="b"/>
            <a:pathLst>
              <a:path w="6" h="5">
                <a:moveTo>
                  <a:pt x="6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0"/>
                </a:lnTo>
                <a:lnTo>
                  <a:pt x="6" y="0"/>
                </a:lnTo>
                <a:lnTo>
                  <a:pt x="6" y="0"/>
                </a:lnTo>
                <a:lnTo>
                  <a:pt x="6" y="0"/>
                </a:lnTo>
                <a:lnTo>
                  <a:pt x="6" y="0"/>
                </a:lnTo>
                <a:lnTo>
                  <a:pt x="6" y="0"/>
                </a:lnTo>
                <a:lnTo>
                  <a:pt x="6" y="0"/>
                </a:lnTo>
                <a:lnTo>
                  <a:pt x="6" y="0"/>
                </a:lnTo>
                <a:lnTo>
                  <a:pt x="6" y="0"/>
                </a:lnTo>
                <a:lnTo>
                  <a:pt x="6" y="0"/>
                </a:lnTo>
                <a:lnTo>
                  <a:pt x="6" y="0"/>
                </a:lnTo>
                <a:lnTo>
                  <a:pt x="6" y="0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0" name=""/>
          <p:cNvSpPr/>
          <p:nvPr/>
        </p:nvSpPr>
        <p:spPr>
          <a:xfrm>
            <a:off x="4286160" y="5699160"/>
            <a:ext cx="9720" cy="7920"/>
          </a:xfrm>
          <a:custGeom>
            <a:avLst/>
            <a:gdLst/>
            <a:ahLst/>
            <a:rect l="l" t="t" r="r" b="b"/>
            <a:pathLst>
              <a:path w="6" h="5">
                <a:moveTo>
                  <a:pt x="6" y="0"/>
                </a:moveTo>
                <a:lnTo>
                  <a:pt x="6" y="0"/>
                </a:lnTo>
                <a:lnTo>
                  <a:pt x="6" y="0"/>
                </a:lnTo>
                <a:lnTo>
                  <a:pt x="6" y="0"/>
                </a:lnTo>
                <a:lnTo>
                  <a:pt x="6" y="0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0"/>
                </a:lnTo>
                <a:lnTo>
                  <a:pt x="6" y="0"/>
                </a:lnTo>
                <a:lnTo>
                  <a:pt x="6" y="0"/>
                </a:lnTo>
                <a:lnTo>
                  <a:pt x="6" y="0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1" name=""/>
          <p:cNvSpPr/>
          <p:nvPr/>
        </p:nvSpPr>
        <p:spPr>
          <a:xfrm>
            <a:off x="4849920" y="4633920"/>
            <a:ext cx="7920" cy="9360"/>
          </a:xfrm>
          <a:custGeom>
            <a:avLst/>
            <a:gdLst/>
            <a:ahLst/>
            <a:rect l="l" t="t" r="r" b="b"/>
            <a:pathLst>
              <a:path w="5" h="6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0"/>
                </a:lnTo>
                <a:lnTo>
                  <a:pt x="0" y="0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2" name=""/>
          <p:cNvSpPr/>
          <p:nvPr/>
        </p:nvSpPr>
        <p:spPr>
          <a:xfrm>
            <a:off x="4268880" y="4435560"/>
            <a:ext cx="9360" cy="7920"/>
          </a:xfrm>
          <a:custGeom>
            <a:avLst/>
            <a:gdLst/>
            <a:ahLst/>
            <a:rect l="l" t="t" r="r" b="b"/>
            <a:pathLst>
              <a:path w="6" h="5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0"/>
                </a:lnTo>
                <a:lnTo>
                  <a:pt x="6" y="0"/>
                </a:lnTo>
                <a:lnTo>
                  <a:pt x="6" y="0"/>
                </a:lnTo>
                <a:lnTo>
                  <a:pt x="6" y="0"/>
                </a:lnTo>
                <a:lnTo>
                  <a:pt x="6" y="0"/>
                </a:lnTo>
                <a:lnTo>
                  <a:pt x="6" y="0"/>
                </a:lnTo>
                <a:lnTo>
                  <a:pt x="6" y="0"/>
                </a:lnTo>
                <a:lnTo>
                  <a:pt x="6" y="0"/>
                </a:lnTo>
                <a:lnTo>
                  <a:pt x="6" y="0"/>
                </a:lnTo>
                <a:lnTo>
                  <a:pt x="6" y="0"/>
                </a:lnTo>
                <a:lnTo>
                  <a:pt x="6" y="0"/>
                </a:lnTo>
                <a:lnTo>
                  <a:pt x="6" y="0"/>
                </a:lnTo>
                <a:lnTo>
                  <a:pt x="6" y="0"/>
                </a:lnTo>
                <a:lnTo>
                  <a:pt x="6" y="0"/>
                </a:lnTo>
                <a:lnTo>
                  <a:pt x="6" y="0"/>
                </a:lnTo>
                <a:lnTo>
                  <a:pt x="6" y="0"/>
                </a:lnTo>
                <a:lnTo>
                  <a:pt x="6" y="0"/>
                </a:lnTo>
                <a:lnTo>
                  <a:pt x="6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3" name=""/>
          <p:cNvSpPr/>
          <p:nvPr/>
        </p:nvSpPr>
        <p:spPr>
          <a:xfrm>
            <a:off x="5870520" y="4227480"/>
            <a:ext cx="7920" cy="9720"/>
          </a:xfrm>
          <a:custGeom>
            <a:avLst/>
            <a:gdLst/>
            <a:ahLst/>
            <a:rect l="l" t="t" r="r" b="b"/>
            <a:pathLst>
              <a:path w="5" h="6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5" y="6"/>
                </a:lnTo>
                <a:lnTo>
                  <a:pt x="5" y="6"/>
                </a:lnTo>
                <a:lnTo>
                  <a:pt x="5" y="6"/>
                </a:lnTo>
                <a:lnTo>
                  <a:pt x="5" y="6"/>
                </a:lnTo>
                <a:lnTo>
                  <a:pt x="5" y="6"/>
                </a:lnTo>
                <a:lnTo>
                  <a:pt x="5" y="6"/>
                </a:lnTo>
                <a:lnTo>
                  <a:pt x="5" y="6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4" name=""/>
          <p:cNvSpPr/>
          <p:nvPr/>
        </p:nvSpPr>
        <p:spPr>
          <a:xfrm>
            <a:off x="3421080" y="4305240"/>
            <a:ext cx="7920" cy="9720"/>
          </a:xfrm>
          <a:custGeom>
            <a:avLst/>
            <a:gdLst/>
            <a:ahLst/>
            <a:rect l="l" t="t" r="r" b="b"/>
            <a:pathLst>
              <a:path w="5" h="6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5" y="6"/>
                </a:lnTo>
                <a:lnTo>
                  <a:pt x="5" y="6"/>
                </a:lnTo>
                <a:lnTo>
                  <a:pt x="5" y="6"/>
                </a:lnTo>
                <a:lnTo>
                  <a:pt x="5" y="6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5" name=""/>
          <p:cNvSpPr/>
          <p:nvPr/>
        </p:nvSpPr>
        <p:spPr>
          <a:xfrm>
            <a:off x="5672160" y="3154320"/>
            <a:ext cx="7920" cy="9720"/>
          </a:xfrm>
          <a:custGeom>
            <a:avLst/>
            <a:gdLst/>
            <a:ahLst/>
            <a:rect l="l" t="t" r="r" b="b"/>
            <a:pathLst>
              <a:path w="5" h="6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5" y="6"/>
                </a:lnTo>
                <a:lnTo>
                  <a:pt x="5" y="6"/>
                </a:lnTo>
                <a:lnTo>
                  <a:pt x="5" y="6"/>
                </a:lnTo>
                <a:lnTo>
                  <a:pt x="5" y="6"/>
                </a:lnTo>
                <a:lnTo>
                  <a:pt x="5" y="6"/>
                </a:lnTo>
                <a:lnTo>
                  <a:pt x="5" y="6"/>
                </a:lnTo>
                <a:lnTo>
                  <a:pt x="5" y="6"/>
                </a:lnTo>
                <a:lnTo>
                  <a:pt x="5" y="6"/>
                </a:lnTo>
                <a:lnTo>
                  <a:pt x="5" y="6"/>
                </a:lnTo>
                <a:lnTo>
                  <a:pt x="5" y="6"/>
                </a:lnTo>
                <a:lnTo>
                  <a:pt x="5" y="6"/>
                </a:lnTo>
                <a:lnTo>
                  <a:pt x="5" y="6"/>
                </a:lnTo>
                <a:lnTo>
                  <a:pt x="5" y="6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6" name=""/>
          <p:cNvSpPr/>
          <p:nvPr/>
        </p:nvSpPr>
        <p:spPr>
          <a:xfrm>
            <a:off x="4363920" y="5430960"/>
            <a:ext cx="9720" cy="7920"/>
          </a:xfrm>
          <a:custGeom>
            <a:avLst/>
            <a:gdLst/>
            <a:ahLst/>
            <a:rect l="l" t="t" r="r" b="b"/>
            <a:pathLst>
              <a:path w="6" h="5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0"/>
                </a:lnTo>
                <a:lnTo>
                  <a:pt x="6" y="0"/>
                </a:lnTo>
                <a:lnTo>
                  <a:pt x="6" y="0"/>
                </a:lnTo>
                <a:lnTo>
                  <a:pt x="6" y="0"/>
                </a:lnTo>
                <a:lnTo>
                  <a:pt x="6" y="0"/>
                </a:lnTo>
                <a:lnTo>
                  <a:pt x="6" y="0"/>
                </a:lnTo>
                <a:lnTo>
                  <a:pt x="6" y="0"/>
                </a:lnTo>
                <a:lnTo>
                  <a:pt x="6" y="0"/>
                </a:lnTo>
                <a:lnTo>
                  <a:pt x="6" y="0"/>
                </a:lnTo>
                <a:lnTo>
                  <a:pt x="6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7" name=""/>
          <p:cNvSpPr/>
          <p:nvPr/>
        </p:nvSpPr>
        <p:spPr>
          <a:xfrm>
            <a:off x="1758960" y="3733920"/>
            <a:ext cx="9360" cy="9360"/>
          </a:xfrm>
          <a:custGeom>
            <a:avLst/>
            <a:gdLst/>
            <a:ahLst/>
            <a:rect l="l" t="t" r="r" b="b"/>
            <a:pathLst>
              <a:path w="6" h="6">
                <a:moveTo>
                  <a:pt x="6" y="0"/>
                </a:moveTo>
                <a:lnTo>
                  <a:pt x="6" y="0"/>
                </a:lnTo>
                <a:lnTo>
                  <a:pt x="6" y="0"/>
                </a:lnTo>
                <a:lnTo>
                  <a:pt x="6" y="0"/>
                </a:lnTo>
                <a:lnTo>
                  <a:pt x="6" y="0"/>
                </a:lnTo>
                <a:lnTo>
                  <a:pt x="6" y="0"/>
                </a:lnTo>
                <a:lnTo>
                  <a:pt x="0" y="0"/>
                </a:lnTo>
                <a:lnTo>
                  <a:pt x="0" y="0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6" y="6"/>
                </a:lnTo>
                <a:lnTo>
                  <a:pt x="6" y="6"/>
                </a:lnTo>
                <a:lnTo>
                  <a:pt x="6" y="6"/>
                </a:lnTo>
                <a:lnTo>
                  <a:pt x="6" y="6"/>
                </a:lnTo>
                <a:lnTo>
                  <a:pt x="6" y="6"/>
                </a:lnTo>
                <a:lnTo>
                  <a:pt x="6" y="6"/>
                </a:lnTo>
                <a:lnTo>
                  <a:pt x="6" y="6"/>
                </a:lnTo>
                <a:lnTo>
                  <a:pt x="6" y="6"/>
                </a:lnTo>
                <a:lnTo>
                  <a:pt x="6" y="6"/>
                </a:lnTo>
                <a:lnTo>
                  <a:pt x="6" y="6"/>
                </a:lnTo>
                <a:lnTo>
                  <a:pt x="6" y="6"/>
                </a:lnTo>
                <a:lnTo>
                  <a:pt x="6" y="6"/>
                </a:lnTo>
                <a:lnTo>
                  <a:pt x="6" y="6"/>
                </a:lnTo>
                <a:lnTo>
                  <a:pt x="6" y="6"/>
                </a:lnTo>
                <a:lnTo>
                  <a:pt x="6" y="6"/>
                </a:lnTo>
                <a:lnTo>
                  <a:pt x="6" y="6"/>
                </a:lnTo>
                <a:lnTo>
                  <a:pt x="6" y="6"/>
                </a:lnTo>
                <a:lnTo>
                  <a:pt x="6" y="6"/>
                </a:lnTo>
                <a:lnTo>
                  <a:pt x="6" y="6"/>
                </a:lnTo>
                <a:lnTo>
                  <a:pt x="6" y="6"/>
                </a:lnTo>
                <a:lnTo>
                  <a:pt x="6" y="6"/>
                </a:lnTo>
                <a:lnTo>
                  <a:pt x="6" y="6"/>
                </a:lnTo>
                <a:lnTo>
                  <a:pt x="6" y="6"/>
                </a:lnTo>
                <a:lnTo>
                  <a:pt x="6" y="6"/>
                </a:lnTo>
                <a:lnTo>
                  <a:pt x="6" y="6"/>
                </a:lnTo>
                <a:lnTo>
                  <a:pt x="6" y="6"/>
                </a:lnTo>
                <a:lnTo>
                  <a:pt x="6" y="6"/>
                </a:lnTo>
                <a:lnTo>
                  <a:pt x="6" y="6"/>
                </a:lnTo>
                <a:lnTo>
                  <a:pt x="6" y="6"/>
                </a:lnTo>
                <a:lnTo>
                  <a:pt x="6" y="6"/>
                </a:lnTo>
                <a:lnTo>
                  <a:pt x="6" y="0"/>
                </a:lnTo>
                <a:lnTo>
                  <a:pt x="6" y="0"/>
                </a:lnTo>
                <a:lnTo>
                  <a:pt x="6" y="0"/>
                </a:lnTo>
                <a:lnTo>
                  <a:pt x="6" y="0"/>
                </a:lnTo>
                <a:lnTo>
                  <a:pt x="6" y="0"/>
                </a:lnTo>
                <a:lnTo>
                  <a:pt x="6" y="0"/>
                </a:lnTo>
                <a:lnTo>
                  <a:pt x="6" y="0"/>
                </a:lnTo>
                <a:lnTo>
                  <a:pt x="6" y="0"/>
                </a:lnTo>
                <a:lnTo>
                  <a:pt x="6" y="0"/>
                </a:lnTo>
                <a:lnTo>
                  <a:pt x="6" y="0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8" name=""/>
          <p:cNvSpPr/>
          <p:nvPr/>
        </p:nvSpPr>
        <p:spPr>
          <a:xfrm>
            <a:off x="2400480" y="3751200"/>
            <a:ext cx="7920" cy="9720"/>
          </a:xfrm>
          <a:custGeom>
            <a:avLst/>
            <a:gdLst/>
            <a:ahLst/>
            <a:rect l="l" t="t" r="r" b="b"/>
            <a:pathLst>
              <a:path w="5" h="6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5" y="6"/>
                </a:lnTo>
                <a:lnTo>
                  <a:pt x="5" y="6"/>
                </a:lnTo>
                <a:lnTo>
                  <a:pt x="5" y="6"/>
                </a:lnTo>
                <a:lnTo>
                  <a:pt x="5" y="6"/>
                </a:lnTo>
                <a:lnTo>
                  <a:pt x="5" y="6"/>
                </a:lnTo>
                <a:lnTo>
                  <a:pt x="5" y="6"/>
                </a:lnTo>
                <a:lnTo>
                  <a:pt x="5" y="6"/>
                </a:lnTo>
                <a:lnTo>
                  <a:pt x="5" y="6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9" name=""/>
          <p:cNvSpPr/>
          <p:nvPr/>
        </p:nvSpPr>
        <p:spPr>
          <a:xfrm>
            <a:off x="2408400" y="3665520"/>
            <a:ext cx="9360" cy="7920"/>
          </a:xfrm>
          <a:custGeom>
            <a:avLst/>
            <a:gdLst/>
            <a:ahLst/>
            <a:rect l="l" t="t" r="r" b="b"/>
            <a:pathLst>
              <a:path w="6" h="5">
                <a:moveTo>
                  <a:pt x="6" y="0"/>
                </a:moveTo>
                <a:lnTo>
                  <a:pt x="6" y="0"/>
                </a:lnTo>
                <a:lnTo>
                  <a:pt x="6" y="0"/>
                </a:lnTo>
                <a:lnTo>
                  <a:pt x="6" y="0"/>
                </a:lnTo>
                <a:lnTo>
                  <a:pt x="6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0"/>
                </a:lnTo>
                <a:lnTo>
                  <a:pt x="6" y="0"/>
                </a:lnTo>
                <a:lnTo>
                  <a:pt x="6" y="0"/>
                </a:lnTo>
                <a:lnTo>
                  <a:pt x="6" y="0"/>
                </a:lnTo>
                <a:lnTo>
                  <a:pt x="6" y="0"/>
                </a:lnTo>
                <a:lnTo>
                  <a:pt x="6" y="0"/>
                </a:lnTo>
                <a:lnTo>
                  <a:pt x="6" y="0"/>
                </a:lnTo>
                <a:lnTo>
                  <a:pt x="6" y="0"/>
                </a:lnTo>
                <a:lnTo>
                  <a:pt x="6" y="0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0" name=""/>
          <p:cNvSpPr/>
          <p:nvPr/>
        </p:nvSpPr>
        <p:spPr>
          <a:xfrm>
            <a:off x="3049560" y="3821040"/>
            <a:ext cx="7920" cy="7920"/>
          </a:xfrm>
          <a:custGeom>
            <a:avLst/>
            <a:gdLst/>
            <a:ahLst/>
            <a:rect l="l" t="t" r="r" b="b"/>
            <a:pathLst>
              <a:path w="5" h="5">
                <a:moveTo>
                  <a:pt x="5" y="0"/>
                </a:move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5" y="5"/>
                </a:lnTo>
                <a:lnTo>
                  <a:pt x="5" y="5"/>
                </a:lnTo>
                <a:lnTo>
                  <a:pt x="5" y="5"/>
                </a:lnTo>
                <a:lnTo>
                  <a:pt x="5" y="5"/>
                </a:lnTo>
                <a:lnTo>
                  <a:pt x="5" y="5"/>
                </a:lnTo>
                <a:lnTo>
                  <a:pt x="5" y="5"/>
                </a:lnTo>
                <a:lnTo>
                  <a:pt x="5" y="5"/>
                </a:lnTo>
                <a:lnTo>
                  <a:pt x="5" y="5"/>
                </a:lnTo>
                <a:lnTo>
                  <a:pt x="5" y="5"/>
                </a:lnTo>
                <a:lnTo>
                  <a:pt x="5" y="5"/>
                </a:lnTo>
                <a:lnTo>
                  <a:pt x="5" y="5"/>
                </a:lnTo>
                <a:lnTo>
                  <a:pt x="5" y="5"/>
                </a:lnTo>
                <a:lnTo>
                  <a:pt x="5" y="5"/>
                </a:lnTo>
                <a:lnTo>
                  <a:pt x="5" y="5"/>
                </a:lnTo>
                <a:lnTo>
                  <a:pt x="5" y="5"/>
                </a:lnTo>
                <a:lnTo>
                  <a:pt x="5" y="5"/>
                </a:lnTo>
                <a:lnTo>
                  <a:pt x="5" y="5"/>
                </a:lnTo>
                <a:lnTo>
                  <a:pt x="5" y="5"/>
                </a:lnTo>
                <a:lnTo>
                  <a:pt x="5" y="5"/>
                </a:lnTo>
                <a:lnTo>
                  <a:pt x="5" y="5"/>
                </a:lnTo>
                <a:lnTo>
                  <a:pt x="5" y="5"/>
                </a:lnTo>
                <a:lnTo>
                  <a:pt x="5" y="5"/>
                </a:lnTo>
                <a:lnTo>
                  <a:pt x="5" y="5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1" name=""/>
          <p:cNvSpPr/>
          <p:nvPr/>
        </p:nvSpPr>
        <p:spPr>
          <a:xfrm>
            <a:off x="2382840" y="3397320"/>
            <a:ext cx="7920" cy="7920"/>
          </a:xfrm>
          <a:custGeom>
            <a:avLst/>
            <a:gdLst/>
            <a:ahLst/>
            <a:rect l="l" t="t" r="r" b="b"/>
            <a:pathLst>
              <a:path w="5" h="5">
                <a:moveTo>
                  <a:pt x="5" y="0"/>
                </a:move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5"/>
                </a:lnTo>
                <a:lnTo>
                  <a:pt x="0" y="5"/>
                </a:lnTo>
                <a:lnTo>
                  <a:pt x="5" y="5"/>
                </a:lnTo>
                <a:lnTo>
                  <a:pt x="5" y="5"/>
                </a:lnTo>
                <a:lnTo>
                  <a:pt x="5" y="5"/>
                </a:lnTo>
                <a:lnTo>
                  <a:pt x="5" y="5"/>
                </a:lnTo>
                <a:lnTo>
                  <a:pt x="5" y="5"/>
                </a:lnTo>
                <a:lnTo>
                  <a:pt x="5" y="5"/>
                </a:lnTo>
                <a:lnTo>
                  <a:pt x="5" y="5"/>
                </a:lnTo>
                <a:lnTo>
                  <a:pt x="5" y="5"/>
                </a:lnTo>
                <a:lnTo>
                  <a:pt x="5" y="5"/>
                </a:lnTo>
                <a:lnTo>
                  <a:pt x="5" y="5"/>
                </a:lnTo>
                <a:lnTo>
                  <a:pt x="5" y="5"/>
                </a:lnTo>
                <a:lnTo>
                  <a:pt x="5" y="5"/>
                </a:lnTo>
                <a:lnTo>
                  <a:pt x="5" y="5"/>
                </a:lnTo>
                <a:lnTo>
                  <a:pt x="5" y="5"/>
                </a:lnTo>
                <a:lnTo>
                  <a:pt x="5" y="5"/>
                </a:lnTo>
                <a:lnTo>
                  <a:pt x="5" y="5"/>
                </a:lnTo>
                <a:lnTo>
                  <a:pt x="5" y="5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2" name=""/>
          <p:cNvSpPr/>
          <p:nvPr/>
        </p:nvSpPr>
        <p:spPr>
          <a:xfrm>
            <a:off x="1620720" y="5802480"/>
            <a:ext cx="5591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3" name=""/>
          <p:cNvSpPr/>
          <p:nvPr/>
        </p:nvSpPr>
        <p:spPr>
          <a:xfrm flipV="1">
            <a:off x="2001960" y="5802480"/>
            <a:ext cx="1440" cy="69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4" name=""/>
          <p:cNvSpPr/>
          <p:nvPr/>
        </p:nvSpPr>
        <p:spPr>
          <a:xfrm flipV="1">
            <a:off x="2651040" y="5802480"/>
            <a:ext cx="1800" cy="69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5" name=""/>
          <p:cNvSpPr/>
          <p:nvPr/>
        </p:nvSpPr>
        <p:spPr>
          <a:xfrm flipV="1">
            <a:off x="3308400" y="5802480"/>
            <a:ext cx="1440" cy="69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6" name=""/>
          <p:cNvSpPr/>
          <p:nvPr/>
        </p:nvSpPr>
        <p:spPr>
          <a:xfrm flipV="1">
            <a:off x="3957480" y="5802480"/>
            <a:ext cx="1800" cy="69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7" name=""/>
          <p:cNvSpPr/>
          <p:nvPr/>
        </p:nvSpPr>
        <p:spPr>
          <a:xfrm flipV="1">
            <a:off x="4606920" y="5802480"/>
            <a:ext cx="1440" cy="69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8" name=""/>
          <p:cNvSpPr/>
          <p:nvPr/>
        </p:nvSpPr>
        <p:spPr>
          <a:xfrm flipV="1">
            <a:off x="5264280" y="5802480"/>
            <a:ext cx="1440" cy="69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9" name=""/>
          <p:cNvSpPr/>
          <p:nvPr/>
        </p:nvSpPr>
        <p:spPr>
          <a:xfrm flipV="1">
            <a:off x="5913360" y="5802480"/>
            <a:ext cx="1800" cy="69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0" name=""/>
          <p:cNvSpPr/>
          <p:nvPr/>
        </p:nvSpPr>
        <p:spPr>
          <a:xfrm flipV="1">
            <a:off x="6562800" y="5802480"/>
            <a:ext cx="1440" cy="69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1" name=""/>
          <p:cNvSpPr/>
          <p:nvPr/>
        </p:nvSpPr>
        <p:spPr>
          <a:xfrm>
            <a:off x="1830600" y="5872320"/>
            <a:ext cx="3391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3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2" name=""/>
          <p:cNvSpPr/>
          <p:nvPr/>
        </p:nvSpPr>
        <p:spPr>
          <a:xfrm>
            <a:off x="2480040" y="5872320"/>
            <a:ext cx="3391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35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3" name=""/>
          <p:cNvSpPr/>
          <p:nvPr/>
        </p:nvSpPr>
        <p:spPr>
          <a:xfrm>
            <a:off x="3137040" y="5872320"/>
            <a:ext cx="3391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4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4" name=""/>
          <p:cNvSpPr/>
          <p:nvPr/>
        </p:nvSpPr>
        <p:spPr>
          <a:xfrm>
            <a:off x="3786480" y="5872320"/>
            <a:ext cx="3391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45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5" name=""/>
          <p:cNvSpPr/>
          <p:nvPr/>
        </p:nvSpPr>
        <p:spPr>
          <a:xfrm>
            <a:off x="4435560" y="5872320"/>
            <a:ext cx="3391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5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6" name=""/>
          <p:cNvSpPr/>
          <p:nvPr/>
        </p:nvSpPr>
        <p:spPr>
          <a:xfrm>
            <a:off x="5092920" y="5872320"/>
            <a:ext cx="3391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55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7" name=""/>
          <p:cNvSpPr/>
          <p:nvPr/>
        </p:nvSpPr>
        <p:spPr>
          <a:xfrm>
            <a:off x="5742360" y="5872320"/>
            <a:ext cx="3391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6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8" name=""/>
          <p:cNvSpPr/>
          <p:nvPr/>
        </p:nvSpPr>
        <p:spPr>
          <a:xfrm>
            <a:off x="6391440" y="5872320"/>
            <a:ext cx="3391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65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9" name=""/>
          <p:cNvSpPr/>
          <p:nvPr/>
        </p:nvSpPr>
        <p:spPr>
          <a:xfrm>
            <a:off x="4068360" y="6037200"/>
            <a:ext cx="6818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TM Leste (m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0" name=""/>
          <p:cNvSpPr/>
          <p:nvPr/>
        </p:nvSpPr>
        <p:spPr>
          <a:xfrm flipV="1">
            <a:off x="2001960" y="1847520"/>
            <a:ext cx="1440" cy="3954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1" name=""/>
          <p:cNvSpPr/>
          <p:nvPr/>
        </p:nvSpPr>
        <p:spPr>
          <a:xfrm flipV="1">
            <a:off x="2651040" y="1847520"/>
            <a:ext cx="1800" cy="3954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2" name=""/>
          <p:cNvSpPr/>
          <p:nvPr/>
        </p:nvSpPr>
        <p:spPr>
          <a:xfrm flipV="1">
            <a:off x="3308400" y="1847520"/>
            <a:ext cx="1440" cy="3954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3" name=""/>
          <p:cNvSpPr/>
          <p:nvPr/>
        </p:nvSpPr>
        <p:spPr>
          <a:xfrm flipV="1">
            <a:off x="3957480" y="1847520"/>
            <a:ext cx="1800" cy="3954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4" name=""/>
          <p:cNvSpPr/>
          <p:nvPr/>
        </p:nvSpPr>
        <p:spPr>
          <a:xfrm flipV="1">
            <a:off x="4606920" y="1847520"/>
            <a:ext cx="1440" cy="3954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5" name=""/>
          <p:cNvSpPr/>
          <p:nvPr/>
        </p:nvSpPr>
        <p:spPr>
          <a:xfrm flipV="1">
            <a:off x="5264280" y="1847520"/>
            <a:ext cx="1440" cy="3954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6" name=""/>
          <p:cNvSpPr/>
          <p:nvPr/>
        </p:nvSpPr>
        <p:spPr>
          <a:xfrm flipV="1">
            <a:off x="5913360" y="1847520"/>
            <a:ext cx="1800" cy="3954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7" name=""/>
          <p:cNvSpPr/>
          <p:nvPr/>
        </p:nvSpPr>
        <p:spPr>
          <a:xfrm flipV="1">
            <a:off x="6562800" y="1847520"/>
            <a:ext cx="1440" cy="3954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8" name=""/>
          <p:cNvSpPr/>
          <p:nvPr/>
        </p:nvSpPr>
        <p:spPr>
          <a:xfrm>
            <a:off x="1620720" y="1847880"/>
            <a:ext cx="5591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9" name=""/>
          <p:cNvSpPr/>
          <p:nvPr/>
        </p:nvSpPr>
        <p:spPr>
          <a:xfrm flipV="1">
            <a:off x="2001960" y="1779480"/>
            <a:ext cx="1440" cy="68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0" name=""/>
          <p:cNvSpPr/>
          <p:nvPr/>
        </p:nvSpPr>
        <p:spPr>
          <a:xfrm flipV="1">
            <a:off x="2651040" y="1779480"/>
            <a:ext cx="1800" cy="68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1" name=""/>
          <p:cNvSpPr/>
          <p:nvPr/>
        </p:nvSpPr>
        <p:spPr>
          <a:xfrm flipV="1">
            <a:off x="3308400" y="1779480"/>
            <a:ext cx="1440" cy="68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2" name=""/>
          <p:cNvSpPr/>
          <p:nvPr/>
        </p:nvSpPr>
        <p:spPr>
          <a:xfrm flipV="1">
            <a:off x="3957480" y="1779480"/>
            <a:ext cx="1800" cy="68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3" name=""/>
          <p:cNvSpPr/>
          <p:nvPr/>
        </p:nvSpPr>
        <p:spPr>
          <a:xfrm flipV="1">
            <a:off x="4606920" y="1779480"/>
            <a:ext cx="1440" cy="68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4" name=""/>
          <p:cNvSpPr/>
          <p:nvPr/>
        </p:nvSpPr>
        <p:spPr>
          <a:xfrm flipV="1">
            <a:off x="5264280" y="1779480"/>
            <a:ext cx="1440" cy="68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5" name=""/>
          <p:cNvSpPr/>
          <p:nvPr/>
        </p:nvSpPr>
        <p:spPr>
          <a:xfrm flipV="1">
            <a:off x="5913360" y="1779480"/>
            <a:ext cx="1800" cy="68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6" name=""/>
          <p:cNvSpPr/>
          <p:nvPr/>
        </p:nvSpPr>
        <p:spPr>
          <a:xfrm flipV="1">
            <a:off x="6562800" y="1779480"/>
            <a:ext cx="1440" cy="68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7" name=""/>
          <p:cNvSpPr/>
          <p:nvPr/>
        </p:nvSpPr>
        <p:spPr>
          <a:xfrm flipV="1">
            <a:off x="1620720" y="1847520"/>
            <a:ext cx="1800" cy="3954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8" name=""/>
          <p:cNvSpPr/>
          <p:nvPr/>
        </p:nvSpPr>
        <p:spPr>
          <a:xfrm flipH="1">
            <a:off x="1550880" y="5386320"/>
            <a:ext cx="698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9" name=""/>
          <p:cNvSpPr/>
          <p:nvPr/>
        </p:nvSpPr>
        <p:spPr>
          <a:xfrm flipH="1">
            <a:off x="1550880" y="4738680"/>
            <a:ext cx="698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0" name=""/>
          <p:cNvSpPr/>
          <p:nvPr/>
        </p:nvSpPr>
        <p:spPr>
          <a:xfrm flipH="1">
            <a:off x="1550880" y="4079880"/>
            <a:ext cx="698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1" name=""/>
          <p:cNvSpPr/>
          <p:nvPr/>
        </p:nvSpPr>
        <p:spPr>
          <a:xfrm flipH="1">
            <a:off x="1550880" y="3432240"/>
            <a:ext cx="698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2" name=""/>
          <p:cNvSpPr/>
          <p:nvPr/>
        </p:nvSpPr>
        <p:spPr>
          <a:xfrm flipH="1">
            <a:off x="1550880" y="2782800"/>
            <a:ext cx="698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3" name=""/>
          <p:cNvSpPr/>
          <p:nvPr/>
        </p:nvSpPr>
        <p:spPr>
          <a:xfrm flipH="1">
            <a:off x="1550880" y="2125800"/>
            <a:ext cx="698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4" name=""/>
          <p:cNvSpPr/>
          <p:nvPr/>
        </p:nvSpPr>
        <p:spPr>
          <a:xfrm>
            <a:off x="1139040" y="5318280"/>
            <a:ext cx="3952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9425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5" name=""/>
          <p:cNvSpPr/>
          <p:nvPr/>
        </p:nvSpPr>
        <p:spPr>
          <a:xfrm>
            <a:off x="1139040" y="4668840"/>
            <a:ext cx="3952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943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6" name=""/>
          <p:cNvSpPr/>
          <p:nvPr/>
        </p:nvSpPr>
        <p:spPr>
          <a:xfrm>
            <a:off x="1139040" y="4021200"/>
            <a:ext cx="3952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9435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7" name=""/>
          <p:cNvSpPr/>
          <p:nvPr/>
        </p:nvSpPr>
        <p:spPr>
          <a:xfrm>
            <a:off x="1139040" y="3362400"/>
            <a:ext cx="3952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944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8" name=""/>
          <p:cNvSpPr/>
          <p:nvPr/>
        </p:nvSpPr>
        <p:spPr>
          <a:xfrm>
            <a:off x="1139040" y="2714760"/>
            <a:ext cx="3952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9445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9" name=""/>
          <p:cNvSpPr/>
          <p:nvPr/>
        </p:nvSpPr>
        <p:spPr>
          <a:xfrm>
            <a:off x="1139040" y="2055960"/>
            <a:ext cx="3952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945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0" name=""/>
          <p:cNvSpPr/>
          <p:nvPr/>
        </p:nvSpPr>
        <p:spPr>
          <a:xfrm rot="16200000">
            <a:off x="984600" y="4075560"/>
            <a:ext cx="73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1" name=""/>
          <p:cNvSpPr/>
          <p:nvPr/>
        </p:nvSpPr>
        <p:spPr>
          <a:xfrm rot="16200000">
            <a:off x="989640" y="4003560"/>
            <a:ext cx="63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2" name=""/>
          <p:cNvSpPr/>
          <p:nvPr/>
        </p:nvSpPr>
        <p:spPr>
          <a:xfrm rot="16200000">
            <a:off x="978480" y="3933720"/>
            <a:ext cx="8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3" name=""/>
          <p:cNvSpPr/>
          <p:nvPr/>
        </p:nvSpPr>
        <p:spPr>
          <a:xfrm rot="16200000">
            <a:off x="1006560" y="3875760"/>
            <a:ext cx="295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4" name=""/>
          <p:cNvSpPr/>
          <p:nvPr/>
        </p:nvSpPr>
        <p:spPr>
          <a:xfrm rot="16200000">
            <a:off x="984600" y="3817080"/>
            <a:ext cx="73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5" name=""/>
          <p:cNvSpPr/>
          <p:nvPr/>
        </p:nvSpPr>
        <p:spPr>
          <a:xfrm rot="16200000">
            <a:off x="992880" y="375660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6" name=""/>
          <p:cNvSpPr/>
          <p:nvPr/>
        </p:nvSpPr>
        <p:spPr>
          <a:xfrm rot="16200000">
            <a:off x="1004400" y="3706560"/>
            <a:ext cx="342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7" name=""/>
          <p:cNvSpPr/>
          <p:nvPr/>
        </p:nvSpPr>
        <p:spPr>
          <a:xfrm rot="16200000">
            <a:off x="1006560" y="3675240"/>
            <a:ext cx="295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8" name=""/>
          <p:cNvSpPr/>
          <p:nvPr/>
        </p:nvSpPr>
        <p:spPr>
          <a:xfrm rot="16200000">
            <a:off x="992880" y="363600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9" name=""/>
          <p:cNvSpPr/>
          <p:nvPr/>
        </p:nvSpPr>
        <p:spPr>
          <a:xfrm rot="16200000">
            <a:off x="1006560" y="3589560"/>
            <a:ext cx="295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0" name=""/>
          <p:cNvSpPr/>
          <p:nvPr/>
        </p:nvSpPr>
        <p:spPr>
          <a:xfrm rot="16200000">
            <a:off x="1004400" y="3558960"/>
            <a:ext cx="342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1" name=""/>
          <p:cNvSpPr/>
          <p:nvPr/>
        </p:nvSpPr>
        <p:spPr>
          <a:xfrm rot="16200000">
            <a:off x="978480" y="3501720"/>
            <a:ext cx="8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2" name=""/>
          <p:cNvSpPr/>
          <p:nvPr/>
        </p:nvSpPr>
        <p:spPr>
          <a:xfrm rot="16200000">
            <a:off x="1004400" y="3438360"/>
            <a:ext cx="342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3" name=""/>
          <p:cNvSpPr/>
          <p:nvPr/>
        </p:nvSpPr>
        <p:spPr>
          <a:xfrm>
            <a:off x="1620720" y="5386320"/>
            <a:ext cx="55911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4" name=""/>
          <p:cNvSpPr/>
          <p:nvPr/>
        </p:nvSpPr>
        <p:spPr>
          <a:xfrm>
            <a:off x="1620720" y="4738680"/>
            <a:ext cx="5591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5" name=""/>
          <p:cNvSpPr/>
          <p:nvPr/>
        </p:nvSpPr>
        <p:spPr>
          <a:xfrm>
            <a:off x="1620720" y="4079880"/>
            <a:ext cx="5591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6" name=""/>
          <p:cNvSpPr/>
          <p:nvPr/>
        </p:nvSpPr>
        <p:spPr>
          <a:xfrm>
            <a:off x="1620720" y="3432240"/>
            <a:ext cx="5591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7" name=""/>
          <p:cNvSpPr/>
          <p:nvPr/>
        </p:nvSpPr>
        <p:spPr>
          <a:xfrm>
            <a:off x="1620720" y="2782800"/>
            <a:ext cx="55911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8" name=""/>
          <p:cNvSpPr/>
          <p:nvPr/>
        </p:nvSpPr>
        <p:spPr>
          <a:xfrm>
            <a:off x="1620720" y="2125800"/>
            <a:ext cx="5591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9" name=""/>
          <p:cNvSpPr/>
          <p:nvPr/>
        </p:nvSpPr>
        <p:spPr>
          <a:xfrm flipV="1">
            <a:off x="7211880" y="1847520"/>
            <a:ext cx="1800" cy="3954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0" name=""/>
          <p:cNvSpPr/>
          <p:nvPr/>
        </p:nvSpPr>
        <p:spPr>
          <a:xfrm flipH="1">
            <a:off x="7211880" y="5386320"/>
            <a:ext cx="698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1" name=""/>
          <p:cNvSpPr/>
          <p:nvPr/>
        </p:nvSpPr>
        <p:spPr>
          <a:xfrm flipH="1">
            <a:off x="7211880" y="4738680"/>
            <a:ext cx="698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2" name=""/>
          <p:cNvSpPr/>
          <p:nvPr/>
        </p:nvSpPr>
        <p:spPr>
          <a:xfrm flipH="1">
            <a:off x="7211880" y="4079880"/>
            <a:ext cx="698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3" name=""/>
          <p:cNvSpPr/>
          <p:nvPr/>
        </p:nvSpPr>
        <p:spPr>
          <a:xfrm flipH="1">
            <a:off x="7211880" y="3432240"/>
            <a:ext cx="698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4" name=""/>
          <p:cNvSpPr/>
          <p:nvPr/>
        </p:nvSpPr>
        <p:spPr>
          <a:xfrm flipH="1">
            <a:off x="7211880" y="2782800"/>
            <a:ext cx="698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5" name=""/>
          <p:cNvSpPr/>
          <p:nvPr/>
        </p:nvSpPr>
        <p:spPr>
          <a:xfrm flipH="1">
            <a:off x="7211880" y="2125800"/>
            <a:ext cx="698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6" name=""/>
          <p:cNvSpPr/>
          <p:nvPr/>
        </p:nvSpPr>
        <p:spPr>
          <a:xfrm>
            <a:off x="1595520" y="1822320"/>
            <a:ext cx="50760" cy="52560"/>
          </a:xfrm>
          <a:custGeom>
            <a:avLst/>
            <a:gdLst/>
            <a:ahLst/>
            <a:rect l="l" t="t" r="r" b="b"/>
            <a:pathLst>
              <a:path w="32" h="33">
                <a:moveTo>
                  <a:pt x="16" y="33"/>
                </a:moveTo>
                <a:lnTo>
                  <a:pt x="16" y="33"/>
                </a:lnTo>
                <a:lnTo>
                  <a:pt x="16" y="16"/>
                </a:lnTo>
                <a:lnTo>
                  <a:pt x="32" y="16"/>
                </a:lnTo>
                <a:lnTo>
                  <a:pt x="32" y="16"/>
                </a:lnTo>
                <a:lnTo>
                  <a:pt x="16" y="16"/>
                </a:lnTo>
                <a:lnTo>
                  <a:pt x="16" y="0"/>
                </a:lnTo>
                <a:lnTo>
                  <a:pt x="16" y="0"/>
                </a:lnTo>
                <a:lnTo>
                  <a:pt x="16" y="16"/>
                </a:lnTo>
                <a:lnTo>
                  <a:pt x="0" y="16"/>
                </a:lnTo>
                <a:lnTo>
                  <a:pt x="0" y="16"/>
                </a:lnTo>
                <a:lnTo>
                  <a:pt x="16" y="16"/>
                </a:lnTo>
                <a:lnTo>
                  <a:pt x="16" y="33"/>
                </a:lnTo>
                <a:close/>
              </a:path>
            </a:pathLst>
          </a:custGeom>
          <a:solidFill>
            <a:srgbClr val="ff00ff"/>
          </a:solidFill>
          <a:ln w="0">
            <a:solidFill>
              <a:srgbClr val="ff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7" name=""/>
          <p:cNvSpPr/>
          <p:nvPr/>
        </p:nvSpPr>
        <p:spPr>
          <a:xfrm>
            <a:off x="7176960" y="1822320"/>
            <a:ext cx="60480" cy="52560"/>
          </a:xfrm>
          <a:custGeom>
            <a:avLst/>
            <a:gdLst/>
            <a:ahLst/>
            <a:rect l="l" t="t" r="r" b="b"/>
            <a:pathLst>
              <a:path w="38" h="33">
                <a:moveTo>
                  <a:pt x="17" y="33"/>
                </a:moveTo>
                <a:lnTo>
                  <a:pt x="22" y="33"/>
                </a:lnTo>
                <a:lnTo>
                  <a:pt x="22" y="16"/>
                </a:lnTo>
                <a:lnTo>
                  <a:pt x="38" y="16"/>
                </a:lnTo>
                <a:lnTo>
                  <a:pt x="38" y="16"/>
                </a:lnTo>
                <a:lnTo>
                  <a:pt x="22" y="16"/>
                </a:lnTo>
                <a:lnTo>
                  <a:pt x="22" y="0"/>
                </a:lnTo>
                <a:lnTo>
                  <a:pt x="17" y="0"/>
                </a:lnTo>
                <a:lnTo>
                  <a:pt x="17" y="16"/>
                </a:lnTo>
                <a:lnTo>
                  <a:pt x="0" y="16"/>
                </a:lnTo>
                <a:lnTo>
                  <a:pt x="0" y="16"/>
                </a:lnTo>
                <a:lnTo>
                  <a:pt x="17" y="16"/>
                </a:lnTo>
                <a:lnTo>
                  <a:pt x="17" y="33"/>
                </a:lnTo>
                <a:close/>
              </a:path>
            </a:pathLst>
          </a:custGeom>
          <a:solidFill>
            <a:srgbClr val="ff00ff"/>
          </a:solidFill>
          <a:ln w="0">
            <a:solidFill>
              <a:srgbClr val="ff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8" name=""/>
          <p:cNvSpPr/>
          <p:nvPr/>
        </p:nvSpPr>
        <p:spPr>
          <a:xfrm>
            <a:off x="7186680" y="5776920"/>
            <a:ext cx="60120" cy="60480"/>
          </a:xfrm>
          <a:custGeom>
            <a:avLst/>
            <a:gdLst/>
            <a:ahLst/>
            <a:rect l="l" t="t" r="r" b="b"/>
            <a:pathLst>
              <a:path w="38" h="38">
                <a:moveTo>
                  <a:pt x="16" y="38"/>
                </a:moveTo>
                <a:lnTo>
                  <a:pt x="22" y="38"/>
                </a:lnTo>
                <a:lnTo>
                  <a:pt x="22" y="22"/>
                </a:lnTo>
                <a:lnTo>
                  <a:pt x="38" y="22"/>
                </a:lnTo>
                <a:lnTo>
                  <a:pt x="38" y="16"/>
                </a:lnTo>
                <a:lnTo>
                  <a:pt x="22" y="16"/>
                </a:lnTo>
                <a:lnTo>
                  <a:pt x="22" y="0"/>
                </a:lnTo>
                <a:lnTo>
                  <a:pt x="16" y="0"/>
                </a:lnTo>
                <a:lnTo>
                  <a:pt x="16" y="16"/>
                </a:lnTo>
                <a:lnTo>
                  <a:pt x="0" y="16"/>
                </a:lnTo>
                <a:lnTo>
                  <a:pt x="0" y="22"/>
                </a:lnTo>
                <a:lnTo>
                  <a:pt x="16" y="22"/>
                </a:lnTo>
                <a:lnTo>
                  <a:pt x="16" y="38"/>
                </a:lnTo>
                <a:close/>
              </a:path>
            </a:pathLst>
          </a:custGeom>
          <a:solidFill>
            <a:srgbClr val="ff00ff"/>
          </a:solidFill>
          <a:ln w="0">
            <a:solidFill>
              <a:srgbClr val="ff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9" name=""/>
          <p:cNvSpPr/>
          <p:nvPr/>
        </p:nvSpPr>
        <p:spPr>
          <a:xfrm>
            <a:off x="1595520" y="5776920"/>
            <a:ext cx="50760" cy="60480"/>
          </a:xfrm>
          <a:custGeom>
            <a:avLst/>
            <a:gdLst/>
            <a:ahLst/>
            <a:rect l="l" t="t" r="r" b="b"/>
            <a:pathLst>
              <a:path w="32" h="38">
                <a:moveTo>
                  <a:pt x="16" y="38"/>
                </a:moveTo>
                <a:lnTo>
                  <a:pt x="16" y="38"/>
                </a:lnTo>
                <a:lnTo>
                  <a:pt x="16" y="22"/>
                </a:lnTo>
                <a:lnTo>
                  <a:pt x="32" y="22"/>
                </a:lnTo>
                <a:lnTo>
                  <a:pt x="32" y="16"/>
                </a:lnTo>
                <a:lnTo>
                  <a:pt x="16" y="16"/>
                </a:lnTo>
                <a:lnTo>
                  <a:pt x="16" y="0"/>
                </a:lnTo>
                <a:lnTo>
                  <a:pt x="16" y="0"/>
                </a:lnTo>
                <a:lnTo>
                  <a:pt x="16" y="16"/>
                </a:lnTo>
                <a:lnTo>
                  <a:pt x="0" y="16"/>
                </a:lnTo>
                <a:lnTo>
                  <a:pt x="0" y="22"/>
                </a:lnTo>
                <a:lnTo>
                  <a:pt x="16" y="22"/>
                </a:lnTo>
                <a:lnTo>
                  <a:pt x="16" y="38"/>
                </a:lnTo>
                <a:close/>
              </a:path>
            </a:pathLst>
          </a:custGeom>
          <a:solidFill>
            <a:srgbClr val="ff00ff"/>
          </a:solidFill>
          <a:ln w="0">
            <a:solidFill>
              <a:srgbClr val="ff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0" name=""/>
          <p:cNvSpPr/>
          <p:nvPr/>
        </p:nvSpPr>
        <p:spPr>
          <a:xfrm>
            <a:off x="5178600" y="3527280"/>
            <a:ext cx="328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600" spc="-1" strike="noStrike">
                <a:solidFill>
                  <a:srgbClr val="000000"/>
                </a:solidFill>
                <a:latin typeface="Arial"/>
              </a:rPr>
              <a:t>Barauna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1" name=""/>
          <p:cNvSpPr/>
          <p:nvPr/>
        </p:nvSpPr>
        <p:spPr>
          <a:xfrm flipV="1">
            <a:off x="2338560" y="5663880"/>
            <a:ext cx="69840" cy="1299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2" name=""/>
          <p:cNvSpPr/>
          <p:nvPr/>
        </p:nvSpPr>
        <p:spPr>
          <a:xfrm flipV="1">
            <a:off x="2468520" y="5412960"/>
            <a:ext cx="60480" cy="1206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3" name=""/>
          <p:cNvSpPr/>
          <p:nvPr/>
        </p:nvSpPr>
        <p:spPr>
          <a:xfrm flipV="1">
            <a:off x="2590920" y="5153040"/>
            <a:ext cx="60120" cy="13032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4" name=""/>
          <p:cNvSpPr/>
          <p:nvPr/>
        </p:nvSpPr>
        <p:spPr>
          <a:xfrm flipV="1">
            <a:off x="2711520" y="4902120"/>
            <a:ext cx="60120" cy="13032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5" name=""/>
          <p:cNvSpPr/>
          <p:nvPr/>
        </p:nvSpPr>
        <p:spPr>
          <a:xfrm flipV="1">
            <a:off x="2832120" y="4651200"/>
            <a:ext cx="69840" cy="1209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6" name=""/>
          <p:cNvSpPr/>
          <p:nvPr/>
        </p:nvSpPr>
        <p:spPr>
          <a:xfrm flipV="1">
            <a:off x="2962440" y="4392360"/>
            <a:ext cx="60120" cy="12852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7" name=""/>
          <p:cNvSpPr/>
          <p:nvPr/>
        </p:nvSpPr>
        <p:spPr>
          <a:xfrm flipV="1">
            <a:off x="3083040" y="4141440"/>
            <a:ext cx="61920" cy="12852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8" name=""/>
          <p:cNvSpPr/>
          <p:nvPr/>
        </p:nvSpPr>
        <p:spPr>
          <a:xfrm flipV="1">
            <a:off x="3205080" y="3890520"/>
            <a:ext cx="60480" cy="1206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9" name=""/>
          <p:cNvSpPr/>
          <p:nvPr/>
        </p:nvSpPr>
        <p:spPr>
          <a:xfrm flipV="1">
            <a:off x="3333600" y="3630600"/>
            <a:ext cx="61920" cy="13032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0" name=""/>
          <p:cNvSpPr/>
          <p:nvPr/>
        </p:nvSpPr>
        <p:spPr>
          <a:xfrm flipV="1">
            <a:off x="3446640" y="3371400"/>
            <a:ext cx="52200" cy="12852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1" name=""/>
          <p:cNvSpPr/>
          <p:nvPr/>
        </p:nvSpPr>
        <p:spPr>
          <a:xfrm flipV="1">
            <a:off x="3541680" y="3103560"/>
            <a:ext cx="52560" cy="1382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2" name=""/>
          <p:cNvSpPr/>
          <p:nvPr/>
        </p:nvSpPr>
        <p:spPr>
          <a:xfrm flipV="1">
            <a:off x="3637080" y="2842920"/>
            <a:ext cx="52200" cy="1299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3" name=""/>
          <p:cNvSpPr/>
          <p:nvPr/>
        </p:nvSpPr>
        <p:spPr>
          <a:xfrm flipV="1">
            <a:off x="3732120" y="2574720"/>
            <a:ext cx="52560" cy="1299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4" name=""/>
          <p:cNvSpPr/>
          <p:nvPr/>
        </p:nvSpPr>
        <p:spPr>
          <a:xfrm flipV="1">
            <a:off x="3827520" y="2306520"/>
            <a:ext cx="52200" cy="1382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5" name=""/>
          <p:cNvSpPr/>
          <p:nvPr/>
        </p:nvSpPr>
        <p:spPr>
          <a:xfrm flipV="1">
            <a:off x="3922560" y="2047680"/>
            <a:ext cx="52560" cy="12852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6" name=""/>
          <p:cNvSpPr/>
          <p:nvPr/>
        </p:nvSpPr>
        <p:spPr>
          <a:xfrm flipV="1">
            <a:off x="4017960" y="1779120"/>
            <a:ext cx="52560" cy="12852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7" name=""/>
          <p:cNvSpPr/>
          <p:nvPr/>
        </p:nvSpPr>
        <p:spPr>
          <a:xfrm rot="17760000">
            <a:off x="3762360" y="1997640"/>
            <a:ext cx="92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8" name=""/>
          <p:cNvSpPr/>
          <p:nvPr/>
        </p:nvSpPr>
        <p:spPr>
          <a:xfrm rot="17760000">
            <a:off x="3808800" y="1911600"/>
            <a:ext cx="84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9" name=""/>
          <p:cNvSpPr/>
          <p:nvPr/>
        </p:nvSpPr>
        <p:spPr>
          <a:xfrm rot="17280000">
            <a:off x="4038840" y="1958760"/>
            <a:ext cx="92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0" name=""/>
          <p:cNvSpPr/>
          <p:nvPr/>
        </p:nvSpPr>
        <p:spPr>
          <a:xfrm rot="17280000">
            <a:off x="4073760" y="1861920"/>
            <a:ext cx="92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91" name=""/>
          <p:cNvGrpSpPr/>
          <p:nvPr/>
        </p:nvGrpSpPr>
        <p:grpSpPr>
          <a:xfrm>
            <a:off x="7748640" y="2584440"/>
            <a:ext cx="577080" cy="2881080"/>
            <a:chOff x="7748640" y="2584440"/>
            <a:chExt cx="577080" cy="2881080"/>
          </a:xfrm>
        </p:grpSpPr>
        <p:sp>
          <p:nvSpPr>
            <p:cNvPr id="8592" name=""/>
            <p:cNvSpPr/>
            <p:nvPr/>
          </p:nvSpPr>
          <p:spPr>
            <a:xfrm>
              <a:off x="7956720" y="4842000"/>
              <a:ext cx="172800" cy="5619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3" name=""/>
            <p:cNvSpPr/>
            <p:nvPr/>
          </p:nvSpPr>
          <p:spPr>
            <a:xfrm>
              <a:off x="7956720" y="4270320"/>
              <a:ext cx="172800" cy="57168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4" name=""/>
            <p:cNvSpPr/>
            <p:nvPr/>
          </p:nvSpPr>
          <p:spPr>
            <a:xfrm>
              <a:off x="7956720" y="3708360"/>
              <a:ext cx="172800" cy="561960"/>
            </a:xfrm>
            <a:prstGeom prst="rect">
              <a:avLst/>
            </a:prstGeom>
            <a:solidFill>
              <a:srgbClr val="ffcc14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5" name=""/>
            <p:cNvSpPr/>
            <p:nvPr/>
          </p:nvSpPr>
          <p:spPr>
            <a:xfrm>
              <a:off x="7956720" y="3146400"/>
              <a:ext cx="172800" cy="561960"/>
            </a:xfrm>
            <a:prstGeom prst="rect">
              <a:avLst/>
            </a:prstGeom>
            <a:solidFill>
              <a:srgbClr val="ff6633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6" name=""/>
            <p:cNvSpPr/>
            <p:nvPr/>
          </p:nvSpPr>
          <p:spPr>
            <a:xfrm>
              <a:off x="7956720" y="2584440"/>
              <a:ext cx="172800" cy="561960"/>
            </a:xfrm>
            <a:prstGeom prst="rect">
              <a:avLst/>
            </a:prstGeom>
            <a:solidFill>
              <a:srgbClr val="cc6633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7" name=""/>
            <p:cNvSpPr/>
            <p:nvPr/>
          </p:nvSpPr>
          <p:spPr>
            <a:xfrm>
              <a:off x="8155440" y="534348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8" name=""/>
            <p:cNvSpPr/>
            <p:nvPr/>
          </p:nvSpPr>
          <p:spPr>
            <a:xfrm>
              <a:off x="8155800" y="4781520"/>
              <a:ext cx="16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9" name=""/>
            <p:cNvSpPr/>
            <p:nvPr/>
          </p:nvSpPr>
          <p:spPr>
            <a:xfrm>
              <a:off x="8155800" y="4210200"/>
              <a:ext cx="16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6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0" name=""/>
            <p:cNvSpPr/>
            <p:nvPr/>
          </p:nvSpPr>
          <p:spPr>
            <a:xfrm>
              <a:off x="8155800" y="3648240"/>
              <a:ext cx="16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2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1" name=""/>
            <p:cNvSpPr/>
            <p:nvPr/>
          </p:nvSpPr>
          <p:spPr>
            <a:xfrm>
              <a:off x="8155800" y="3086280"/>
              <a:ext cx="16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8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2" name=""/>
            <p:cNvSpPr/>
            <p:nvPr/>
          </p:nvSpPr>
          <p:spPr>
            <a:xfrm rot="16200000">
              <a:off x="7774920" y="440820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603" name=""/>
            <p:cNvGrpSpPr/>
            <p:nvPr/>
          </p:nvGrpSpPr>
          <p:grpSpPr>
            <a:xfrm>
              <a:off x="7748640" y="3479040"/>
              <a:ext cx="122040" cy="963000"/>
              <a:chOff x="7748640" y="3479040"/>
              <a:chExt cx="122040" cy="963000"/>
            </a:xfrm>
          </p:grpSpPr>
          <p:sp>
            <p:nvSpPr>
              <p:cNvPr id="8604" name=""/>
              <p:cNvSpPr/>
              <p:nvPr/>
            </p:nvSpPr>
            <p:spPr>
              <a:xfrm rot="16200000">
                <a:off x="7792560" y="436392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5" name=""/>
              <p:cNvSpPr/>
              <p:nvPr/>
            </p:nvSpPr>
            <p:spPr>
              <a:xfrm rot="16200000">
                <a:off x="7781040" y="43185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6" name=""/>
              <p:cNvSpPr/>
              <p:nvPr/>
            </p:nvSpPr>
            <p:spPr>
              <a:xfrm rot="16200000">
                <a:off x="7794720" y="428220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7" name=""/>
              <p:cNvSpPr/>
              <p:nvPr/>
            </p:nvSpPr>
            <p:spPr>
              <a:xfrm rot="16200000">
                <a:off x="7781040" y="42408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8" name=""/>
              <p:cNvSpPr/>
              <p:nvPr/>
            </p:nvSpPr>
            <p:spPr>
              <a:xfrm rot="16200000">
                <a:off x="7781040" y="41788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9" name=""/>
              <p:cNvSpPr/>
              <p:nvPr/>
            </p:nvSpPr>
            <p:spPr>
              <a:xfrm rot="16200000">
                <a:off x="7781040" y="41281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0" name=""/>
              <p:cNvSpPr/>
              <p:nvPr/>
            </p:nvSpPr>
            <p:spPr>
              <a:xfrm rot="16200000">
                <a:off x="7797600" y="4095000"/>
                <a:ext cx="237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1" name=""/>
              <p:cNvSpPr/>
              <p:nvPr/>
            </p:nvSpPr>
            <p:spPr>
              <a:xfrm rot="16200000">
                <a:off x="7781040" y="40503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2" name=""/>
              <p:cNvSpPr/>
              <p:nvPr/>
            </p:nvSpPr>
            <p:spPr>
              <a:xfrm rot="16200000">
                <a:off x="7781040" y="39978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3" name=""/>
              <p:cNvSpPr/>
              <p:nvPr/>
            </p:nvSpPr>
            <p:spPr>
              <a:xfrm rot="16200000">
                <a:off x="7781040" y="39456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4" name=""/>
              <p:cNvSpPr/>
              <p:nvPr/>
            </p:nvSpPr>
            <p:spPr>
              <a:xfrm rot="16200000">
                <a:off x="7781040" y="38836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5" name=""/>
              <p:cNvSpPr/>
              <p:nvPr/>
            </p:nvSpPr>
            <p:spPr>
              <a:xfrm rot="16200000">
                <a:off x="7783200" y="383292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6" name=""/>
              <p:cNvSpPr/>
              <p:nvPr/>
            </p:nvSpPr>
            <p:spPr>
              <a:xfrm rot="16200000">
                <a:off x="7794720" y="379440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7" name=""/>
              <p:cNvSpPr/>
              <p:nvPr/>
            </p:nvSpPr>
            <p:spPr>
              <a:xfrm rot="16200000">
                <a:off x="7792560" y="376380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8" name=""/>
              <p:cNvSpPr/>
              <p:nvPr/>
            </p:nvSpPr>
            <p:spPr>
              <a:xfrm rot="16200000">
                <a:off x="7766640" y="3713040"/>
                <a:ext cx="860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9" name=""/>
              <p:cNvSpPr/>
              <p:nvPr/>
            </p:nvSpPr>
            <p:spPr>
              <a:xfrm rot="16200000">
                <a:off x="7781040" y="36392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20" name=""/>
              <p:cNvSpPr/>
              <p:nvPr/>
            </p:nvSpPr>
            <p:spPr>
              <a:xfrm rot="16200000">
                <a:off x="7794720" y="36043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21" name=""/>
              <p:cNvSpPr/>
              <p:nvPr/>
            </p:nvSpPr>
            <p:spPr>
              <a:xfrm rot="16200000">
                <a:off x="7792560" y="357336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22" name=""/>
              <p:cNvSpPr/>
              <p:nvPr/>
            </p:nvSpPr>
            <p:spPr>
              <a:xfrm rot="16200000">
                <a:off x="7781040" y="35280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23" name=""/>
              <p:cNvSpPr/>
              <p:nvPr/>
            </p:nvSpPr>
            <p:spPr>
              <a:xfrm rot="16200000">
                <a:off x="7783200" y="347832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24" name=""/>
              <p:cNvSpPr/>
              <p:nvPr/>
            </p:nvSpPr>
            <p:spPr>
              <a:xfrm rot="16200000">
                <a:off x="7792560" y="343512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625" name=""/>
          <p:cNvSpPr/>
          <p:nvPr/>
        </p:nvSpPr>
        <p:spPr>
          <a:xfrm>
            <a:off x="1949400" y="2048040"/>
            <a:ext cx="389160" cy="388800"/>
          </a:xfrm>
          <a:prstGeom prst="ellipse">
            <a:avLst/>
          </a:pr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6" name=""/>
          <p:cNvSpPr/>
          <p:nvPr/>
        </p:nvSpPr>
        <p:spPr>
          <a:xfrm>
            <a:off x="2087280" y="21351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7" name=""/>
          <p:cNvSpPr/>
          <p:nvPr/>
        </p:nvSpPr>
        <p:spPr>
          <a:xfrm>
            <a:off x="2694960" y="1511280"/>
            <a:ext cx="3347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sistividade e Profundidade dos Poços (Planilha SERHI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1" dur="2000"/>
                                        <p:tgtEl>
                                          <p:spTgt spid="8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7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1" dur="500"/>
                                        <p:tgtEl>
                                          <p:spTgt spid="7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6" dur="2000"/>
                                        <p:tgtEl>
                                          <p:spTgt spid="7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8" name="PlaceHolder 1"/>
          <p:cNvSpPr>
            <a:spLocks noGrp="1"/>
          </p:cNvSpPr>
          <p:nvPr>
            <p:ph/>
          </p:nvPr>
        </p:nvSpPr>
        <p:spPr>
          <a:xfrm>
            <a:off x="1182600" y="1268280"/>
            <a:ext cx="777240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lvl="1" marL="698400" indent="-268560">
              <a:lnSpc>
                <a:spcPct val="120000"/>
              </a:lnSpc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Extensão e limites dos calcários aquífer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lnSpc>
                <a:spcPct val="120000"/>
              </a:lnSpc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Zoneament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lnSpc>
                <a:spcPct val="120000"/>
              </a:lnSpc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Indicação de zonas mais carstificadas (hipótese de trabalh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lnSpc>
                <a:spcPct val="120000"/>
              </a:lnSpc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Critério geofísico de locação (hipótese de trabalh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20000"/>
              </a:lnSpc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Definição de Rede de Observação (300 poço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lnSpc>
                <a:spcPct val="120000"/>
              </a:lnSpc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Nivelamento da Re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20000"/>
              </a:lnSpc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Análise preliminar dos dados dos poços (602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lnSpc>
                <a:spcPct val="120000"/>
              </a:lnSpc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120 poços não funcionando (20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lnSpc>
                <a:spcPct val="120000"/>
              </a:lnSpc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Maior concentração de poços: Setor SW de Baraun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lnSpc>
                <a:spcPct val="120000"/>
              </a:lnSpc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Maior concentração poços colapsados: Velame, Currais, Moinho Nov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lnSpc>
                <a:spcPct val="120000"/>
              </a:lnSpc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Causas: concentração/geologia local, projeto dos poço 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29" name=""/>
          <p:cNvSpPr/>
          <p:nvPr/>
        </p:nvSpPr>
        <p:spPr>
          <a:xfrm>
            <a:off x="1332000" y="333360"/>
            <a:ext cx="817236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99"/>
                </a:solidFill>
                <a:latin typeface="Tahoma"/>
              </a:rPr>
              <a:t>BARAUNAS – RN</a:t>
            </a:r>
            <a:br>
              <a:rPr sz="2400"/>
            </a:br>
            <a:r>
              <a:rPr b="0" lang="pt-BR" sz="2400" spc="-1" strike="noStrike">
                <a:solidFill>
                  <a:srgbClr val="333399"/>
                </a:solidFill>
                <a:latin typeface="Tahoma"/>
              </a:rPr>
              <a:t>Aquífero Jandaíra – Conclusões Prelimina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0" name="PlaceHolder 1"/>
          <p:cNvSpPr>
            <a:spLocks noGrp="1"/>
          </p:cNvSpPr>
          <p:nvPr>
            <p:ph/>
          </p:nvPr>
        </p:nvSpPr>
        <p:spPr>
          <a:xfrm>
            <a:off x="1116000" y="119664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Completar acessos para medidor nos 300 poç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Monitoramento Sistemátic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Análise do monitoramento (potenciometri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Re-avaliação de todos os poços (602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Identificação no camp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Histórico de bombeament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Disponibilidade Efetiv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secos (17), abandonados (22), desativados (81) --- CAUS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Avaliação da Recarga (Balanço Hídric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Perfuração de 10 poços de pesquis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3300"/>
                </a:solidFill>
                <a:latin typeface="Tahoma"/>
              </a:rPr>
              <a:t>CONTINUIDADE DE AÇÕES !!!!!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31" name=""/>
          <p:cNvSpPr/>
          <p:nvPr/>
        </p:nvSpPr>
        <p:spPr>
          <a:xfrm>
            <a:off x="1332000" y="333360"/>
            <a:ext cx="817236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99"/>
                </a:solidFill>
                <a:latin typeface="Tahoma"/>
              </a:rPr>
              <a:t>BARAUNAS – RN</a:t>
            </a:r>
            <a:br>
              <a:rPr sz="2400"/>
            </a:br>
            <a:r>
              <a:rPr b="0" lang="pt-BR" sz="2400" spc="-1" strike="noStrike">
                <a:solidFill>
                  <a:srgbClr val="333399"/>
                </a:solidFill>
                <a:latin typeface="Tahoma"/>
              </a:rPr>
              <a:t>Aquífero Jandaíra – Recomendaçõ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350720" y="259920"/>
            <a:ext cx="779292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99"/>
                </a:solidFill>
                <a:latin typeface="Tahoma"/>
              </a:rPr>
              <a:t>BARAUNAS – RN</a:t>
            </a:r>
            <a:br>
              <a:rPr sz="2400"/>
            </a:br>
            <a:r>
              <a:rPr b="0" lang="pt-BR" sz="2400" spc="-1" strike="noStrike">
                <a:solidFill>
                  <a:srgbClr val="333399"/>
                </a:solidFill>
                <a:latin typeface="Tahoma"/>
              </a:rPr>
              <a:t>Aquífero Jandaíra – Área Estudada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"/>
          <p:cNvSpPr/>
          <p:nvPr/>
        </p:nvSpPr>
        <p:spPr>
          <a:xfrm>
            <a:off x="2205000" y="3695760"/>
            <a:ext cx="58680" cy="125280"/>
          </a:xfrm>
          <a:custGeom>
            <a:avLst/>
            <a:gdLst/>
            <a:ahLst/>
            <a:rect l="l" t="t" r="r" b="b"/>
            <a:pathLst>
              <a:path w="37" h="79">
                <a:moveTo>
                  <a:pt x="17" y="0"/>
                </a:moveTo>
                <a:lnTo>
                  <a:pt x="15" y="5"/>
                </a:lnTo>
                <a:lnTo>
                  <a:pt x="0" y="75"/>
                </a:lnTo>
                <a:lnTo>
                  <a:pt x="21" y="79"/>
                </a:lnTo>
                <a:lnTo>
                  <a:pt x="37" y="10"/>
                </a:lnTo>
                <a:lnTo>
                  <a:pt x="17" y="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232000" y="3560760"/>
            <a:ext cx="171360" cy="158760"/>
          </a:xfrm>
          <a:custGeom>
            <a:avLst/>
            <a:gdLst/>
            <a:ahLst/>
            <a:rect l="l" t="t" r="r" b="b"/>
            <a:pathLst>
              <a:path w="108" h="100">
                <a:moveTo>
                  <a:pt x="100" y="2"/>
                </a:moveTo>
                <a:lnTo>
                  <a:pt x="85" y="0"/>
                </a:lnTo>
                <a:lnTo>
                  <a:pt x="0" y="85"/>
                </a:lnTo>
                <a:lnTo>
                  <a:pt x="16" y="100"/>
                </a:lnTo>
                <a:lnTo>
                  <a:pt x="100" y="16"/>
                </a:lnTo>
                <a:lnTo>
                  <a:pt x="100" y="2"/>
                </a:lnTo>
                <a:lnTo>
                  <a:pt x="100" y="16"/>
                </a:lnTo>
                <a:lnTo>
                  <a:pt x="108" y="9"/>
                </a:lnTo>
                <a:lnTo>
                  <a:pt x="100" y="2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278080" y="3476520"/>
            <a:ext cx="112680" cy="109800"/>
          </a:xfrm>
          <a:custGeom>
            <a:avLst/>
            <a:gdLst/>
            <a:ahLst/>
            <a:rect l="l" t="t" r="r" b="b"/>
            <a:pathLst>
              <a:path w="71" h="69">
                <a:moveTo>
                  <a:pt x="5" y="0"/>
                </a:moveTo>
                <a:lnTo>
                  <a:pt x="6" y="14"/>
                </a:lnTo>
                <a:lnTo>
                  <a:pt x="56" y="69"/>
                </a:lnTo>
                <a:lnTo>
                  <a:pt x="71" y="55"/>
                </a:lnTo>
                <a:lnTo>
                  <a:pt x="22" y="0"/>
                </a:lnTo>
                <a:lnTo>
                  <a:pt x="5" y="0"/>
                </a:lnTo>
                <a:lnTo>
                  <a:pt x="5" y="0"/>
                </a:lnTo>
                <a:lnTo>
                  <a:pt x="0" y="8"/>
                </a:lnTo>
                <a:lnTo>
                  <a:pt x="6" y="14"/>
                </a:lnTo>
                <a:lnTo>
                  <a:pt x="5" y="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286000" y="3300480"/>
            <a:ext cx="155520" cy="196920"/>
          </a:xfrm>
          <a:custGeom>
            <a:avLst/>
            <a:gdLst/>
            <a:ahLst/>
            <a:rect l="l" t="t" r="r" b="b"/>
            <a:pathLst>
              <a:path w="98" h="124">
                <a:moveTo>
                  <a:pt x="81" y="0"/>
                </a:moveTo>
                <a:lnTo>
                  <a:pt x="79" y="2"/>
                </a:lnTo>
                <a:lnTo>
                  <a:pt x="0" y="111"/>
                </a:lnTo>
                <a:lnTo>
                  <a:pt x="18" y="124"/>
                </a:lnTo>
                <a:lnTo>
                  <a:pt x="98" y="15"/>
                </a:lnTo>
                <a:lnTo>
                  <a:pt x="81" y="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414520" y="3230640"/>
            <a:ext cx="103320" cy="95040"/>
          </a:xfrm>
          <a:custGeom>
            <a:avLst/>
            <a:gdLst/>
            <a:ahLst/>
            <a:rect l="l" t="t" r="r" b="b"/>
            <a:pathLst>
              <a:path w="65" h="60">
                <a:moveTo>
                  <a:pt x="63" y="5"/>
                </a:moveTo>
                <a:lnTo>
                  <a:pt x="45" y="0"/>
                </a:lnTo>
                <a:lnTo>
                  <a:pt x="0" y="44"/>
                </a:lnTo>
                <a:lnTo>
                  <a:pt x="15" y="60"/>
                </a:lnTo>
                <a:lnTo>
                  <a:pt x="60" y="16"/>
                </a:lnTo>
                <a:lnTo>
                  <a:pt x="63" y="5"/>
                </a:lnTo>
                <a:lnTo>
                  <a:pt x="60" y="16"/>
                </a:lnTo>
                <a:lnTo>
                  <a:pt x="65" y="12"/>
                </a:lnTo>
                <a:lnTo>
                  <a:pt x="63" y="5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444760" y="3100320"/>
            <a:ext cx="69840" cy="147600"/>
          </a:xfrm>
          <a:custGeom>
            <a:avLst/>
            <a:gdLst/>
            <a:ahLst/>
            <a:rect l="l" t="t" r="r" b="b"/>
            <a:pathLst>
              <a:path w="44" h="93">
                <a:moveTo>
                  <a:pt x="11" y="0"/>
                </a:moveTo>
                <a:lnTo>
                  <a:pt x="3" y="13"/>
                </a:lnTo>
                <a:lnTo>
                  <a:pt x="22" y="93"/>
                </a:lnTo>
                <a:lnTo>
                  <a:pt x="44" y="87"/>
                </a:lnTo>
                <a:lnTo>
                  <a:pt x="24" y="8"/>
                </a:lnTo>
                <a:lnTo>
                  <a:pt x="11" y="0"/>
                </a:lnTo>
                <a:lnTo>
                  <a:pt x="11" y="0"/>
                </a:lnTo>
                <a:lnTo>
                  <a:pt x="0" y="3"/>
                </a:lnTo>
                <a:lnTo>
                  <a:pt x="3" y="13"/>
                </a:lnTo>
                <a:lnTo>
                  <a:pt x="11" y="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462040" y="3070080"/>
            <a:ext cx="130320" cy="63720"/>
          </a:xfrm>
          <a:custGeom>
            <a:avLst/>
            <a:gdLst/>
            <a:ahLst/>
            <a:rect l="l" t="t" r="r" b="b"/>
            <a:pathLst>
              <a:path w="82" h="40">
                <a:moveTo>
                  <a:pt x="82" y="15"/>
                </a:moveTo>
                <a:lnTo>
                  <a:pt x="69" y="0"/>
                </a:lnTo>
                <a:lnTo>
                  <a:pt x="0" y="19"/>
                </a:lnTo>
                <a:lnTo>
                  <a:pt x="6" y="40"/>
                </a:lnTo>
                <a:lnTo>
                  <a:pt x="75" y="20"/>
                </a:lnTo>
                <a:lnTo>
                  <a:pt x="82" y="15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562120" y="3005280"/>
            <a:ext cx="76320" cy="88920"/>
          </a:xfrm>
          <a:custGeom>
            <a:avLst/>
            <a:gdLst/>
            <a:ahLst/>
            <a:rect l="l" t="t" r="r" b="b"/>
            <a:pathLst>
              <a:path w="48" h="56">
                <a:moveTo>
                  <a:pt x="48" y="11"/>
                </a:moveTo>
                <a:lnTo>
                  <a:pt x="30" y="0"/>
                </a:lnTo>
                <a:lnTo>
                  <a:pt x="0" y="45"/>
                </a:lnTo>
                <a:lnTo>
                  <a:pt x="19" y="56"/>
                </a:lnTo>
                <a:lnTo>
                  <a:pt x="48" y="12"/>
                </a:lnTo>
                <a:lnTo>
                  <a:pt x="48" y="11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08200" y="2201760"/>
            <a:ext cx="433440" cy="820800"/>
          </a:xfrm>
          <a:custGeom>
            <a:avLst/>
            <a:gdLst/>
            <a:ahLst/>
            <a:rect l="l" t="t" r="r" b="b"/>
            <a:pathLst>
              <a:path w="273" h="517">
                <a:moveTo>
                  <a:pt x="261" y="0"/>
                </a:moveTo>
                <a:lnTo>
                  <a:pt x="254" y="5"/>
                </a:lnTo>
                <a:lnTo>
                  <a:pt x="0" y="508"/>
                </a:lnTo>
                <a:lnTo>
                  <a:pt x="19" y="517"/>
                </a:lnTo>
                <a:lnTo>
                  <a:pt x="273" y="16"/>
                </a:lnTo>
                <a:lnTo>
                  <a:pt x="261" y="0"/>
                </a:lnTo>
                <a:lnTo>
                  <a:pt x="261" y="0"/>
                </a:lnTo>
                <a:lnTo>
                  <a:pt x="256" y="1"/>
                </a:lnTo>
                <a:lnTo>
                  <a:pt x="254" y="5"/>
                </a:lnTo>
                <a:lnTo>
                  <a:pt x="261" y="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022560" y="2057400"/>
            <a:ext cx="662040" cy="177840"/>
          </a:xfrm>
          <a:custGeom>
            <a:avLst/>
            <a:gdLst/>
            <a:ahLst/>
            <a:rect l="l" t="t" r="r" b="b"/>
            <a:pathLst>
              <a:path w="417" h="112">
                <a:moveTo>
                  <a:pt x="417" y="4"/>
                </a:moveTo>
                <a:lnTo>
                  <a:pt x="408" y="1"/>
                </a:lnTo>
                <a:lnTo>
                  <a:pt x="0" y="91"/>
                </a:lnTo>
                <a:lnTo>
                  <a:pt x="4" y="112"/>
                </a:lnTo>
                <a:lnTo>
                  <a:pt x="412" y="22"/>
                </a:lnTo>
                <a:lnTo>
                  <a:pt x="417" y="4"/>
                </a:lnTo>
                <a:lnTo>
                  <a:pt x="417" y="4"/>
                </a:lnTo>
                <a:lnTo>
                  <a:pt x="413" y="0"/>
                </a:lnTo>
                <a:lnTo>
                  <a:pt x="408" y="1"/>
                </a:lnTo>
                <a:lnTo>
                  <a:pt x="417" y="4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659040" y="2063880"/>
            <a:ext cx="216000" cy="231480"/>
          </a:xfrm>
          <a:custGeom>
            <a:avLst/>
            <a:gdLst/>
            <a:ahLst/>
            <a:rect l="l" t="t" r="r" b="b"/>
            <a:pathLst>
              <a:path w="136" h="146">
                <a:moveTo>
                  <a:pt x="133" y="142"/>
                </a:moveTo>
                <a:lnTo>
                  <a:pt x="136" y="125"/>
                </a:lnTo>
                <a:lnTo>
                  <a:pt x="16" y="0"/>
                </a:lnTo>
                <a:lnTo>
                  <a:pt x="0" y="16"/>
                </a:lnTo>
                <a:lnTo>
                  <a:pt x="120" y="139"/>
                </a:lnTo>
                <a:lnTo>
                  <a:pt x="133" y="142"/>
                </a:lnTo>
                <a:lnTo>
                  <a:pt x="120" y="139"/>
                </a:lnTo>
                <a:lnTo>
                  <a:pt x="126" y="146"/>
                </a:lnTo>
                <a:lnTo>
                  <a:pt x="133" y="142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852720" y="2214720"/>
            <a:ext cx="81000" cy="74520"/>
          </a:xfrm>
          <a:custGeom>
            <a:avLst/>
            <a:gdLst/>
            <a:ahLst/>
            <a:rect l="l" t="t" r="r" b="b"/>
            <a:pathLst>
              <a:path w="51" h="47">
                <a:moveTo>
                  <a:pt x="50" y="3"/>
                </a:moveTo>
                <a:lnTo>
                  <a:pt x="40" y="3"/>
                </a:lnTo>
                <a:lnTo>
                  <a:pt x="0" y="27"/>
                </a:lnTo>
                <a:lnTo>
                  <a:pt x="11" y="47"/>
                </a:lnTo>
                <a:lnTo>
                  <a:pt x="51" y="22"/>
                </a:lnTo>
                <a:lnTo>
                  <a:pt x="50" y="3"/>
                </a:lnTo>
                <a:lnTo>
                  <a:pt x="50" y="3"/>
                </a:lnTo>
                <a:lnTo>
                  <a:pt x="45" y="0"/>
                </a:lnTo>
                <a:lnTo>
                  <a:pt x="40" y="3"/>
                </a:lnTo>
                <a:lnTo>
                  <a:pt x="50" y="3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917880" y="2219400"/>
            <a:ext cx="92160" cy="71280"/>
          </a:xfrm>
          <a:custGeom>
            <a:avLst/>
            <a:gdLst/>
            <a:ahLst/>
            <a:rect l="l" t="t" r="r" b="b"/>
            <a:pathLst>
              <a:path w="58" h="45">
                <a:moveTo>
                  <a:pt x="57" y="45"/>
                </a:moveTo>
                <a:lnTo>
                  <a:pt x="58" y="24"/>
                </a:lnTo>
                <a:lnTo>
                  <a:pt x="9" y="0"/>
                </a:lnTo>
                <a:lnTo>
                  <a:pt x="0" y="19"/>
                </a:lnTo>
                <a:lnTo>
                  <a:pt x="49" y="44"/>
                </a:lnTo>
                <a:lnTo>
                  <a:pt x="57" y="45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00680" y="2216160"/>
            <a:ext cx="158400" cy="74520"/>
          </a:xfrm>
          <a:custGeom>
            <a:avLst/>
            <a:gdLst/>
            <a:ahLst/>
            <a:rect l="l" t="t" r="r" b="b"/>
            <a:pathLst>
              <a:path w="100" h="47">
                <a:moveTo>
                  <a:pt x="100" y="0"/>
                </a:moveTo>
                <a:lnTo>
                  <a:pt x="94" y="0"/>
                </a:lnTo>
                <a:lnTo>
                  <a:pt x="0" y="25"/>
                </a:lnTo>
                <a:lnTo>
                  <a:pt x="5" y="47"/>
                </a:lnTo>
                <a:lnTo>
                  <a:pt x="99" y="21"/>
                </a:lnTo>
                <a:lnTo>
                  <a:pt x="100" y="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149720" y="2216160"/>
            <a:ext cx="117360" cy="66600"/>
          </a:xfrm>
          <a:custGeom>
            <a:avLst/>
            <a:gdLst/>
            <a:ahLst/>
            <a:rect l="l" t="t" r="r" b="b"/>
            <a:pathLst>
              <a:path w="74" h="42">
                <a:moveTo>
                  <a:pt x="74" y="22"/>
                </a:moveTo>
                <a:lnTo>
                  <a:pt x="70" y="21"/>
                </a:lnTo>
                <a:lnTo>
                  <a:pt x="6" y="0"/>
                </a:lnTo>
                <a:lnTo>
                  <a:pt x="0" y="21"/>
                </a:lnTo>
                <a:lnTo>
                  <a:pt x="63" y="42"/>
                </a:lnTo>
                <a:lnTo>
                  <a:pt x="74" y="22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246560" y="2251080"/>
            <a:ext cx="177840" cy="155520"/>
          </a:xfrm>
          <a:custGeom>
            <a:avLst/>
            <a:gdLst/>
            <a:ahLst/>
            <a:rect l="l" t="t" r="r" b="b"/>
            <a:pathLst>
              <a:path w="112" h="98">
                <a:moveTo>
                  <a:pt x="100" y="98"/>
                </a:moveTo>
                <a:lnTo>
                  <a:pt x="112" y="80"/>
                </a:lnTo>
                <a:lnTo>
                  <a:pt x="13" y="0"/>
                </a:lnTo>
                <a:lnTo>
                  <a:pt x="0" y="17"/>
                </a:lnTo>
                <a:lnTo>
                  <a:pt x="99" y="97"/>
                </a:lnTo>
                <a:lnTo>
                  <a:pt x="100" y="98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405320" y="2378160"/>
            <a:ext cx="150840" cy="109440"/>
          </a:xfrm>
          <a:custGeom>
            <a:avLst/>
            <a:gdLst/>
            <a:ahLst/>
            <a:rect l="l" t="t" r="r" b="b"/>
            <a:pathLst>
              <a:path w="95" h="69">
                <a:moveTo>
                  <a:pt x="87" y="69"/>
                </a:moveTo>
                <a:lnTo>
                  <a:pt x="95" y="49"/>
                </a:lnTo>
                <a:lnTo>
                  <a:pt x="10" y="0"/>
                </a:lnTo>
                <a:lnTo>
                  <a:pt x="0" y="18"/>
                </a:lnTo>
                <a:lnTo>
                  <a:pt x="84" y="67"/>
                </a:lnTo>
                <a:lnTo>
                  <a:pt x="87" y="69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543560" y="2454120"/>
            <a:ext cx="117360" cy="57240"/>
          </a:xfrm>
          <a:custGeom>
            <a:avLst/>
            <a:gdLst/>
            <a:ahLst/>
            <a:rect l="l" t="t" r="r" b="b"/>
            <a:pathLst>
              <a:path w="74" h="36">
                <a:moveTo>
                  <a:pt x="73" y="36"/>
                </a:moveTo>
                <a:lnTo>
                  <a:pt x="74" y="14"/>
                </a:lnTo>
                <a:lnTo>
                  <a:pt x="5" y="0"/>
                </a:lnTo>
                <a:lnTo>
                  <a:pt x="0" y="21"/>
                </a:lnTo>
                <a:lnTo>
                  <a:pt x="70" y="36"/>
                </a:lnTo>
                <a:lnTo>
                  <a:pt x="73" y="36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659480" y="2476440"/>
            <a:ext cx="77760" cy="34920"/>
          </a:xfrm>
          <a:custGeom>
            <a:avLst/>
            <a:gdLst/>
            <a:ahLst/>
            <a:rect l="l" t="t" r="r" b="b"/>
            <a:pathLst>
              <a:path w="49" h="22">
                <a:moveTo>
                  <a:pt x="49" y="22"/>
                </a:moveTo>
                <a:lnTo>
                  <a:pt x="49" y="0"/>
                </a:lnTo>
                <a:lnTo>
                  <a:pt x="0" y="0"/>
                </a:lnTo>
                <a:lnTo>
                  <a:pt x="0" y="22"/>
                </a:lnTo>
                <a:lnTo>
                  <a:pt x="49" y="22"/>
                </a:lnTo>
                <a:lnTo>
                  <a:pt x="49" y="22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735440" y="2468520"/>
            <a:ext cx="122400" cy="42840"/>
          </a:xfrm>
          <a:custGeom>
            <a:avLst/>
            <a:gdLst/>
            <a:ahLst/>
            <a:rect l="l" t="t" r="r" b="b"/>
            <a:pathLst>
              <a:path w="77" h="27">
                <a:moveTo>
                  <a:pt x="77" y="21"/>
                </a:moveTo>
                <a:lnTo>
                  <a:pt x="70" y="0"/>
                </a:lnTo>
                <a:lnTo>
                  <a:pt x="0" y="5"/>
                </a:lnTo>
                <a:lnTo>
                  <a:pt x="1" y="27"/>
                </a:lnTo>
                <a:lnTo>
                  <a:pt x="72" y="22"/>
                </a:lnTo>
                <a:lnTo>
                  <a:pt x="77" y="21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38760" y="2428920"/>
            <a:ext cx="81000" cy="73080"/>
          </a:xfrm>
          <a:custGeom>
            <a:avLst/>
            <a:gdLst/>
            <a:ahLst/>
            <a:rect l="l" t="t" r="r" b="b"/>
            <a:pathLst>
              <a:path w="51" h="46">
                <a:moveTo>
                  <a:pt x="47" y="0"/>
                </a:moveTo>
                <a:lnTo>
                  <a:pt x="39" y="2"/>
                </a:lnTo>
                <a:lnTo>
                  <a:pt x="0" y="28"/>
                </a:lnTo>
                <a:lnTo>
                  <a:pt x="12" y="46"/>
                </a:lnTo>
                <a:lnTo>
                  <a:pt x="51" y="21"/>
                </a:lnTo>
                <a:lnTo>
                  <a:pt x="47" y="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906800" y="2428920"/>
            <a:ext cx="344520" cy="90360"/>
          </a:xfrm>
          <a:custGeom>
            <a:avLst/>
            <a:gdLst/>
            <a:ahLst/>
            <a:rect l="l" t="t" r="r" b="b"/>
            <a:pathLst>
              <a:path w="217" h="57">
                <a:moveTo>
                  <a:pt x="216" y="57"/>
                </a:moveTo>
                <a:lnTo>
                  <a:pt x="217" y="35"/>
                </a:lnTo>
                <a:lnTo>
                  <a:pt x="4" y="0"/>
                </a:lnTo>
                <a:lnTo>
                  <a:pt x="0" y="22"/>
                </a:lnTo>
                <a:lnTo>
                  <a:pt x="213" y="56"/>
                </a:lnTo>
                <a:lnTo>
                  <a:pt x="216" y="57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249880" y="2476440"/>
            <a:ext cx="225360" cy="42840"/>
          </a:xfrm>
          <a:custGeom>
            <a:avLst/>
            <a:gdLst/>
            <a:ahLst/>
            <a:rect l="l" t="t" r="r" b="b"/>
            <a:pathLst>
              <a:path w="142" h="27">
                <a:moveTo>
                  <a:pt x="142" y="21"/>
                </a:moveTo>
                <a:lnTo>
                  <a:pt x="138" y="0"/>
                </a:lnTo>
                <a:lnTo>
                  <a:pt x="0" y="5"/>
                </a:lnTo>
                <a:lnTo>
                  <a:pt x="0" y="27"/>
                </a:lnTo>
                <a:lnTo>
                  <a:pt x="139" y="22"/>
                </a:lnTo>
                <a:lnTo>
                  <a:pt x="142" y="21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464080" y="2398680"/>
            <a:ext cx="231840" cy="111240"/>
          </a:xfrm>
          <a:custGeom>
            <a:avLst/>
            <a:gdLst/>
            <a:ahLst/>
            <a:rect l="l" t="t" r="r" b="b"/>
            <a:pathLst>
              <a:path w="146" h="70">
                <a:moveTo>
                  <a:pt x="143" y="0"/>
                </a:moveTo>
                <a:lnTo>
                  <a:pt x="140" y="0"/>
                </a:lnTo>
                <a:lnTo>
                  <a:pt x="0" y="50"/>
                </a:lnTo>
                <a:lnTo>
                  <a:pt x="7" y="70"/>
                </a:lnTo>
                <a:lnTo>
                  <a:pt x="146" y="21"/>
                </a:lnTo>
                <a:lnTo>
                  <a:pt x="143" y="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691240" y="2398680"/>
            <a:ext cx="114120" cy="34920"/>
          </a:xfrm>
          <a:custGeom>
            <a:avLst/>
            <a:gdLst/>
            <a:ahLst/>
            <a:rect l="l" t="t" r="r" b="b"/>
            <a:pathLst>
              <a:path w="72" h="22">
                <a:moveTo>
                  <a:pt x="72" y="0"/>
                </a:moveTo>
                <a:lnTo>
                  <a:pt x="69" y="0"/>
                </a:lnTo>
                <a:lnTo>
                  <a:pt x="0" y="0"/>
                </a:lnTo>
                <a:lnTo>
                  <a:pt x="0" y="22"/>
                </a:lnTo>
                <a:lnTo>
                  <a:pt x="69" y="22"/>
                </a:lnTo>
                <a:lnTo>
                  <a:pt x="72" y="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797440" y="2398680"/>
            <a:ext cx="262080" cy="79560"/>
          </a:xfrm>
          <a:custGeom>
            <a:avLst/>
            <a:gdLst/>
            <a:ahLst/>
            <a:rect l="l" t="t" r="r" b="b"/>
            <a:pathLst>
              <a:path w="165" h="50">
                <a:moveTo>
                  <a:pt x="165" y="30"/>
                </a:moveTo>
                <a:lnTo>
                  <a:pt x="164" y="30"/>
                </a:lnTo>
                <a:lnTo>
                  <a:pt x="5" y="0"/>
                </a:lnTo>
                <a:lnTo>
                  <a:pt x="0" y="21"/>
                </a:lnTo>
                <a:lnTo>
                  <a:pt x="160" y="50"/>
                </a:lnTo>
                <a:lnTo>
                  <a:pt x="165" y="3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048360" y="2446200"/>
            <a:ext cx="216000" cy="96840"/>
          </a:xfrm>
          <a:custGeom>
            <a:avLst/>
            <a:gdLst/>
            <a:ahLst/>
            <a:rect l="l" t="t" r="r" b="b"/>
            <a:pathLst>
              <a:path w="136" h="61">
                <a:moveTo>
                  <a:pt x="129" y="61"/>
                </a:moveTo>
                <a:lnTo>
                  <a:pt x="136" y="40"/>
                </a:lnTo>
                <a:lnTo>
                  <a:pt x="7" y="0"/>
                </a:lnTo>
                <a:lnTo>
                  <a:pt x="0" y="20"/>
                </a:lnTo>
                <a:lnTo>
                  <a:pt x="129" y="61"/>
                </a:lnTo>
                <a:lnTo>
                  <a:pt x="129" y="61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253200" y="2509920"/>
            <a:ext cx="225360" cy="87120"/>
          </a:xfrm>
          <a:custGeom>
            <a:avLst/>
            <a:gdLst/>
            <a:ahLst/>
            <a:rect l="l" t="t" r="r" b="b"/>
            <a:pathLst>
              <a:path w="142" h="55">
                <a:moveTo>
                  <a:pt x="142" y="35"/>
                </a:moveTo>
                <a:lnTo>
                  <a:pt x="141" y="34"/>
                </a:lnTo>
                <a:lnTo>
                  <a:pt x="7" y="0"/>
                </a:lnTo>
                <a:lnTo>
                  <a:pt x="0" y="21"/>
                </a:lnTo>
                <a:lnTo>
                  <a:pt x="134" y="55"/>
                </a:lnTo>
                <a:lnTo>
                  <a:pt x="142" y="35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464160" y="2565360"/>
            <a:ext cx="146160" cy="87480"/>
          </a:xfrm>
          <a:custGeom>
            <a:avLst/>
            <a:gdLst/>
            <a:ahLst/>
            <a:rect l="l" t="t" r="r" b="b"/>
            <a:pathLst>
              <a:path w="92" h="55">
                <a:moveTo>
                  <a:pt x="92" y="38"/>
                </a:moveTo>
                <a:lnTo>
                  <a:pt x="88" y="34"/>
                </a:lnTo>
                <a:lnTo>
                  <a:pt x="9" y="0"/>
                </a:lnTo>
                <a:lnTo>
                  <a:pt x="0" y="20"/>
                </a:lnTo>
                <a:lnTo>
                  <a:pt x="79" y="55"/>
                </a:lnTo>
                <a:lnTo>
                  <a:pt x="92" y="38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83320" y="2625840"/>
            <a:ext cx="82440" cy="91800"/>
          </a:xfrm>
          <a:custGeom>
            <a:avLst/>
            <a:gdLst/>
            <a:ahLst/>
            <a:rect l="l" t="t" r="r" b="b"/>
            <a:pathLst>
              <a:path w="52" h="58">
                <a:moveTo>
                  <a:pt x="36" y="58"/>
                </a:moveTo>
                <a:lnTo>
                  <a:pt x="52" y="44"/>
                </a:lnTo>
                <a:lnTo>
                  <a:pt x="17" y="0"/>
                </a:lnTo>
                <a:lnTo>
                  <a:pt x="0" y="13"/>
                </a:lnTo>
                <a:lnTo>
                  <a:pt x="36" y="58"/>
                </a:lnTo>
                <a:lnTo>
                  <a:pt x="36" y="58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640560" y="2695680"/>
            <a:ext cx="114120" cy="109440"/>
          </a:xfrm>
          <a:custGeom>
            <a:avLst/>
            <a:gdLst/>
            <a:ahLst/>
            <a:rect l="l" t="t" r="r" b="b"/>
            <a:pathLst>
              <a:path w="72" h="69">
                <a:moveTo>
                  <a:pt x="72" y="57"/>
                </a:moveTo>
                <a:lnTo>
                  <a:pt x="70" y="55"/>
                </a:lnTo>
                <a:lnTo>
                  <a:pt x="15" y="0"/>
                </a:lnTo>
                <a:lnTo>
                  <a:pt x="0" y="14"/>
                </a:lnTo>
                <a:lnTo>
                  <a:pt x="54" y="69"/>
                </a:lnTo>
                <a:lnTo>
                  <a:pt x="72" y="57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724800" y="2786040"/>
            <a:ext cx="69840" cy="108000"/>
          </a:xfrm>
          <a:custGeom>
            <a:avLst/>
            <a:gdLst/>
            <a:ahLst/>
            <a:rect l="l" t="t" r="r" b="b"/>
            <a:pathLst>
              <a:path w="44" h="68">
                <a:moveTo>
                  <a:pt x="44" y="62"/>
                </a:moveTo>
                <a:lnTo>
                  <a:pt x="44" y="60"/>
                </a:lnTo>
                <a:lnTo>
                  <a:pt x="19" y="0"/>
                </a:lnTo>
                <a:lnTo>
                  <a:pt x="0" y="9"/>
                </a:lnTo>
                <a:lnTo>
                  <a:pt x="25" y="68"/>
                </a:lnTo>
                <a:lnTo>
                  <a:pt x="44" y="62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761160" y="2884320"/>
            <a:ext cx="66600" cy="113040"/>
          </a:xfrm>
          <a:custGeom>
            <a:avLst/>
            <a:gdLst/>
            <a:ahLst/>
            <a:rect l="l" t="t" r="r" b="b"/>
            <a:pathLst>
              <a:path w="42" h="71">
                <a:moveTo>
                  <a:pt x="26" y="71"/>
                </a:moveTo>
                <a:lnTo>
                  <a:pt x="42" y="58"/>
                </a:lnTo>
                <a:lnTo>
                  <a:pt x="21" y="0"/>
                </a:lnTo>
                <a:lnTo>
                  <a:pt x="0" y="6"/>
                </a:lnTo>
                <a:lnTo>
                  <a:pt x="21" y="66"/>
                </a:lnTo>
                <a:lnTo>
                  <a:pt x="26" y="71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802560" y="2968560"/>
            <a:ext cx="71280" cy="54000"/>
          </a:xfrm>
          <a:custGeom>
            <a:avLst/>
            <a:gdLst/>
            <a:ahLst/>
            <a:rect l="l" t="t" r="r" b="b"/>
            <a:pathLst>
              <a:path w="45" h="34">
                <a:moveTo>
                  <a:pt x="45" y="21"/>
                </a:moveTo>
                <a:lnTo>
                  <a:pt x="39" y="14"/>
                </a:lnTo>
                <a:lnTo>
                  <a:pt x="9" y="0"/>
                </a:lnTo>
                <a:lnTo>
                  <a:pt x="0" y="18"/>
                </a:lnTo>
                <a:lnTo>
                  <a:pt x="30" y="34"/>
                </a:lnTo>
                <a:lnTo>
                  <a:pt x="45" y="21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842160" y="3002040"/>
            <a:ext cx="63360" cy="102960"/>
          </a:xfrm>
          <a:custGeom>
            <a:avLst/>
            <a:gdLst/>
            <a:ahLst/>
            <a:rect l="l" t="t" r="r" b="b"/>
            <a:pathLst>
              <a:path w="40" h="65">
                <a:moveTo>
                  <a:pt x="21" y="65"/>
                </a:moveTo>
                <a:lnTo>
                  <a:pt x="40" y="54"/>
                </a:lnTo>
                <a:lnTo>
                  <a:pt x="20" y="0"/>
                </a:lnTo>
                <a:lnTo>
                  <a:pt x="0" y="6"/>
                </a:lnTo>
                <a:lnTo>
                  <a:pt x="20" y="61"/>
                </a:lnTo>
                <a:lnTo>
                  <a:pt x="21" y="65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875640" y="3081240"/>
            <a:ext cx="69840" cy="71640"/>
          </a:xfrm>
          <a:custGeom>
            <a:avLst/>
            <a:gdLst/>
            <a:ahLst/>
            <a:rect l="l" t="t" r="r" b="b"/>
            <a:pathLst>
              <a:path w="44" h="45">
                <a:moveTo>
                  <a:pt x="44" y="34"/>
                </a:moveTo>
                <a:lnTo>
                  <a:pt x="42" y="30"/>
                </a:lnTo>
                <a:lnTo>
                  <a:pt x="17" y="0"/>
                </a:lnTo>
                <a:lnTo>
                  <a:pt x="0" y="15"/>
                </a:lnTo>
                <a:lnTo>
                  <a:pt x="26" y="45"/>
                </a:lnTo>
                <a:lnTo>
                  <a:pt x="44" y="34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912000" y="3135240"/>
            <a:ext cx="88920" cy="176400"/>
          </a:xfrm>
          <a:custGeom>
            <a:avLst/>
            <a:gdLst/>
            <a:ahLst/>
            <a:rect l="l" t="t" r="r" b="b"/>
            <a:pathLst>
              <a:path w="56" h="111">
                <a:moveTo>
                  <a:pt x="56" y="106"/>
                </a:moveTo>
                <a:lnTo>
                  <a:pt x="56" y="104"/>
                </a:lnTo>
                <a:lnTo>
                  <a:pt x="21" y="0"/>
                </a:lnTo>
                <a:lnTo>
                  <a:pt x="0" y="7"/>
                </a:lnTo>
                <a:lnTo>
                  <a:pt x="35" y="111"/>
                </a:lnTo>
                <a:lnTo>
                  <a:pt x="56" y="106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966000" y="3303720"/>
            <a:ext cx="58680" cy="139680"/>
          </a:xfrm>
          <a:custGeom>
            <a:avLst/>
            <a:gdLst/>
            <a:ahLst/>
            <a:rect l="l" t="t" r="r" b="b"/>
            <a:pathLst>
              <a:path w="37" h="88">
                <a:moveTo>
                  <a:pt x="16" y="88"/>
                </a:moveTo>
                <a:lnTo>
                  <a:pt x="37" y="84"/>
                </a:lnTo>
                <a:lnTo>
                  <a:pt x="22" y="0"/>
                </a:lnTo>
                <a:lnTo>
                  <a:pt x="0" y="4"/>
                </a:lnTo>
                <a:lnTo>
                  <a:pt x="16" y="88"/>
                </a:lnTo>
                <a:lnTo>
                  <a:pt x="16" y="88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991200" y="3436920"/>
            <a:ext cx="57240" cy="123840"/>
          </a:xfrm>
          <a:custGeom>
            <a:avLst/>
            <a:gdLst/>
            <a:ahLst/>
            <a:rect l="l" t="t" r="r" b="b"/>
            <a:pathLst>
              <a:path w="36" h="78">
                <a:moveTo>
                  <a:pt x="36" y="78"/>
                </a:moveTo>
                <a:lnTo>
                  <a:pt x="36" y="74"/>
                </a:lnTo>
                <a:lnTo>
                  <a:pt x="21" y="0"/>
                </a:lnTo>
                <a:lnTo>
                  <a:pt x="0" y="4"/>
                </a:lnTo>
                <a:lnTo>
                  <a:pt x="14" y="78"/>
                </a:lnTo>
                <a:lnTo>
                  <a:pt x="36" y="78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999120" y="3554280"/>
            <a:ext cx="49320" cy="106560"/>
          </a:xfrm>
          <a:custGeom>
            <a:avLst/>
            <a:gdLst/>
            <a:ahLst/>
            <a:rect l="l" t="t" r="r" b="b"/>
            <a:pathLst>
              <a:path w="31" h="67">
                <a:moveTo>
                  <a:pt x="0" y="67"/>
                </a:moveTo>
                <a:lnTo>
                  <a:pt x="21" y="64"/>
                </a:lnTo>
                <a:lnTo>
                  <a:pt x="31" y="4"/>
                </a:lnTo>
                <a:lnTo>
                  <a:pt x="9" y="0"/>
                </a:lnTo>
                <a:lnTo>
                  <a:pt x="0" y="60"/>
                </a:lnTo>
                <a:lnTo>
                  <a:pt x="0" y="67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999120" y="3646440"/>
            <a:ext cx="73080" cy="92160"/>
          </a:xfrm>
          <a:custGeom>
            <a:avLst/>
            <a:gdLst/>
            <a:ahLst/>
            <a:rect l="l" t="t" r="r" b="b"/>
            <a:pathLst>
              <a:path w="46" h="58">
                <a:moveTo>
                  <a:pt x="46" y="50"/>
                </a:moveTo>
                <a:lnTo>
                  <a:pt x="44" y="49"/>
                </a:lnTo>
                <a:lnTo>
                  <a:pt x="19" y="0"/>
                </a:lnTo>
                <a:lnTo>
                  <a:pt x="0" y="9"/>
                </a:lnTo>
                <a:lnTo>
                  <a:pt x="26" y="58"/>
                </a:lnTo>
                <a:lnTo>
                  <a:pt x="46" y="5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7039080" y="3726000"/>
            <a:ext cx="48960" cy="68040"/>
          </a:xfrm>
          <a:custGeom>
            <a:avLst/>
            <a:gdLst/>
            <a:ahLst/>
            <a:rect l="l" t="t" r="r" b="b"/>
            <a:pathLst>
              <a:path w="31" h="43">
                <a:moveTo>
                  <a:pt x="10" y="43"/>
                </a:moveTo>
                <a:lnTo>
                  <a:pt x="31" y="36"/>
                </a:lnTo>
                <a:lnTo>
                  <a:pt x="21" y="0"/>
                </a:lnTo>
                <a:lnTo>
                  <a:pt x="0" y="7"/>
                </a:lnTo>
                <a:lnTo>
                  <a:pt x="10" y="42"/>
                </a:lnTo>
                <a:lnTo>
                  <a:pt x="10" y="43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054920" y="3778200"/>
            <a:ext cx="81000" cy="103320"/>
          </a:xfrm>
          <a:custGeom>
            <a:avLst/>
            <a:gdLst/>
            <a:ahLst/>
            <a:rect l="l" t="t" r="r" b="b"/>
            <a:pathLst>
              <a:path w="51" h="65">
                <a:moveTo>
                  <a:pt x="51" y="60"/>
                </a:moveTo>
                <a:lnTo>
                  <a:pt x="50" y="55"/>
                </a:lnTo>
                <a:lnTo>
                  <a:pt x="20" y="0"/>
                </a:lnTo>
                <a:lnTo>
                  <a:pt x="0" y="10"/>
                </a:lnTo>
                <a:lnTo>
                  <a:pt x="30" y="65"/>
                </a:lnTo>
                <a:lnTo>
                  <a:pt x="51" y="6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101000" y="3873600"/>
            <a:ext cx="34920" cy="63360"/>
          </a:xfrm>
          <a:custGeom>
            <a:avLst/>
            <a:gdLst/>
            <a:ahLst/>
            <a:rect l="l" t="t" r="r" b="b"/>
            <a:pathLst>
              <a:path w="22" h="40">
                <a:moveTo>
                  <a:pt x="5" y="40"/>
                </a:moveTo>
                <a:lnTo>
                  <a:pt x="22" y="30"/>
                </a:lnTo>
                <a:lnTo>
                  <a:pt x="22" y="0"/>
                </a:lnTo>
                <a:lnTo>
                  <a:pt x="0" y="0"/>
                </a:lnTo>
                <a:lnTo>
                  <a:pt x="0" y="30"/>
                </a:lnTo>
                <a:lnTo>
                  <a:pt x="5" y="40"/>
                </a:lnTo>
                <a:lnTo>
                  <a:pt x="0" y="30"/>
                </a:lnTo>
                <a:lnTo>
                  <a:pt x="0" y="36"/>
                </a:lnTo>
                <a:lnTo>
                  <a:pt x="5" y="4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7108920" y="3906720"/>
            <a:ext cx="96840" cy="69840"/>
          </a:xfrm>
          <a:custGeom>
            <a:avLst/>
            <a:gdLst/>
            <a:ahLst/>
            <a:rect l="l" t="t" r="r" b="b"/>
            <a:pathLst>
              <a:path w="61" h="44">
                <a:moveTo>
                  <a:pt x="61" y="33"/>
                </a:moveTo>
                <a:lnTo>
                  <a:pt x="56" y="24"/>
                </a:lnTo>
                <a:lnTo>
                  <a:pt x="12" y="0"/>
                </a:lnTo>
                <a:lnTo>
                  <a:pt x="0" y="19"/>
                </a:lnTo>
                <a:lnTo>
                  <a:pt x="45" y="44"/>
                </a:lnTo>
                <a:lnTo>
                  <a:pt x="61" y="33"/>
                </a:lnTo>
                <a:lnTo>
                  <a:pt x="61" y="33"/>
                </a:lnTo>
                <a:lnTo>
                  <a:pt x="61" y="27"/>
                </a:lnTo>
                <a:lnTo>
                  <a:pt x="56" y="24"/>
                </a:lnTo>
                <a:lnTo>
                  <a:pt x="61" y="33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7172280" y="3959280"/>
            <a:ext cx="41400" cy="150840"/>
          </a:xfrm>
          <a:custGeom>
            <a:avLst/>
            <a:gdLst/>
            <a:ahLst/>
            <a:rect l="l" t="t" r="r" b="b"/>
            <a:pathLst>
              <a:path w="26" h="95">
                <a:moveTo>
                  <a:pt x="26" y="95"/>
                </a:moveTo>
                <a:lnTo>
                  <a:pt x="26" y="94"/>
                </a:lnTo>
                <a:lnTo>
                  <a:pt x="21" y="0"/>
                </a:lnTo>
                <a:lnTo>
                  <a:pt x="0" y="2"/>
                </a:lnTo>
                <a:lnTo>
                  <a:pt x="4" y="95"/>
                </a:lnTo>
                <a:lnTo>
                  <a:pt x="26" y="95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178760" y="4110120"/>
            <a:ext cx="34920" cy="95040"/>
          </a:xfrm>
          <a:custGeom>
            <a:avLst/>
            <a:gdLst/>
            <a:ahLst/>
            <a:rect l="l" t="t" r="r" b="b"/>
            <a:pathLst>
              <a:path w="22" h="60">
                <a:moveTo>
                  <a:pt x="1" y="60"/>
                </a:moveTo>
                <a:lnTo>
                  <a:pt x="22" y="55"/>
                </a:lnTo>
                <a:lnTo>
                  <a:pt x="22" y="0"/>
                </a:lnTo>
                <a:lnTo>
                  <a:pt x="0" y="0"/>
                </a:lnTo>
                <a:lnTo>
                  <a:pt x="0" y="55"/>
                </a:lnTo>
                <a:lnTo>
                  <a:pt x="1" y="6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180200" y="4189320"/>
            <a:ext cx="87480" cy="123840"/>
          </a:xfrm>
          <a:custGeom>
            <a:avLst/>
            <a:gdLst/>
            <a:ahLst/>
            <a:rect l="l" t="t" r="r" b="b"/>
            <a:pathLst>
              <a:path w="55" h="78">
                <a:moveTo>
                  <a:pt x="38" y="78"/>
                </a:moveTo>
                <a:lnTo>
                  <a:pt x="55" y="65"/>
                </a:lnTo>
                <a:lnTo>
                  <a:pt x="20" y="0"/>
                </a:lnTo>
                <a:lnTo>
                  <a:pt x="0" y="10"/>
                </a:lnTo>
                <a:lnTo>
                  <a:pt x="36" y="74"/>
                </a:lnTo>
                <a:lnTo>
                  <a:pt x="38" y="78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7240680" y="4286160"/>
            <a:ext cx="75960" cy="66600"/>
          </a:xfrm>
          <a:custGeom>
            <a:avLst/>
            <a:gdLst/>
            <a:ahLst/>
            <a:rect l="l" t="t" r="r" b="b"/>
            <a:pathLst>
              <a:path w="48" h="42">
                <a:moveTo>
                  <a:pt x="48" y="34"/>
                </a:moveTo>
                <a:lnTo>
                  <a:pt x="44" y="25"/>
                </a:lnTo>
                <a:lnTo>
                  <a:pt x="14" y="0"/>
                </a:lnTo>
                <a:lnTo>
                  <a:pt x="0" y="17"/>
                </a:lnTo>
                <a:lnTo>
                  <a:pt x="30" y="42"/>
                </a:lnTo>
                <a:lnTo>
                  <a:pt x="48" y="34"/>
                </a:lnTo>
                <a:lnTo>
                  <a:pt x="48" y="34"/>
                </a:lnTo>
                <a:lnTo>
                  <a:pt x="48" y="29"/>
                </a:lnTo>
                <a:lnTo>
                  <a:pt x="44" y="25"/>
                </a:lnTo>
                <a:lnTo>
                  <a:pt x="48" y="34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7281720" y="4340160"/>
            <a:ext cx="34920" cy="138240"/>
          </a:xfrm>
          <a:custGeom>
            <a:avLst/>
            <a:gdLst/>
            <a:ahLst/>
            <a:rect l="l" t="t" r="r" b="b"/>
            <a:pathLst>
              <a:path w="22" h="87">
                <a:moveTo>
                  <a:pt x="0" y="87"/>
                </a:moveTo>
                <a:lnTo>
                  <a:pt x="22" y="83"/>
                </a:lnTo>
                <a:lnTo>
                  <a:pt x="22" y="0"/>
                </a:lnTo>
                <a:lnTo>
                  <a:pt x="0" y="0"/>
                </a:lnTo>
                <a:lnTo>
                  <a:pt x="0" y="83"/>
                </a:lnTo>
                <a:lnTo>
                  <a:pt x="0" y="87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7281720" y="4468680"/>
            <a:ext cx="49320" cy="63720"/>
          </a:xfrm>
          <a:custGeom>
            <a:avLst/>
            <a:gdLst/>
            <a:ahLst/>
            <a:rect l="l" t="t" r="r" b="b"/>
            <a:pathLst>
              <a:path w="31" h="40">
                <a:moveTo>
                  <a:pt x="31" y="35"/>
                </a:moveTo>
                <a:lnTo>
                  <a:pt x="31" y="35"/>
                </a:lnTo>
                <a:lnTo>
                  <a:pt x="21" y="0"/>
                </a:lnTo>
                <a:lnTo>
                  <a:pt x="0" y="6"/>
                </a:lnTo>
                <a:lnTo>
                  <a:pt x="11" y="40"/>
                </a:lnTo>
                <a:lnTo>
                  <a:pt x="31" y="35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7299360" y="4524480"/>
            <a:ext cx="49320" cy="79200"/>
          </a:xfrm>
          <a:custGeom>
            <a:avLst/>
            <a:gdLst/>
            <a:ahLst/>
            <a:rect l="l" t="t" r="r" b="b"/>
            <a:pathLst>
              <a:path w="31" h="50">
                <a:moveTo>
                  <a:pt x="13" y="50"/>
                </a:moveTo>
                <a:lnTo>
                  <a:pt x="31" y="40"/>
                </a:lnTo>
                <a:lnTo>
                  <a:pt x="20" y="0"/>
                </a:lnTo>
                <a:lnTo>
                  <a:pt x="0" y="5"/>
                </a:lnTo>
                <a:lnTo>
                  <a:pt x="10" y="45"/>
                </a:lnTo>
                <a:lnTo>
                  <a:pt x="13" y="5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319880" y="4579920"/>
            <a:ext cx="90720" cy="85680"/>
          </a:xfrm>
          <a:custGeom>
            <a:avLst/>
            <a:gdLst/>
            <a:ahLst/>
            <a:rect l="l" t="t" r="r" b="b"/>
            <a:pathLst>
              <a:path w="57" h="54">
                <a:moveTo>
                  <a:pt x="57" y="45"/>
                </a:moveTo>
                <a:lnTo>
                  <a:pt x="54" y="39"/>
                </a:lnTo>
                <a:lnTo>
                  <a:pt x="14" y="0"/>
                </a:lnTo>
                <a:lnTo>
                  <a:pt x="0" y="15"/>
                </a:lnTo>
                <a:lnTo>
                  <a:pt x="39" y="54"/>
                </a:lnTo>
                <a:lnTo>
                  <a:pt x="57" y="45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377120" y="4651200"/>
            <a:ext cx="52560" cy="109800"/>
          </a:xfrm>
          <a:custGeom>
            <a:avLst/>
            <a:gdLst/>
            <a:ahLst/>
            <a:rect l="l" t="t" r="r" b="b"/>
            <a:pathLst>
              <a:path w="33" h="69">
                <a:moveTo>
                  <a:pt x="29" y="69"/>
                </a:moveTo>
                <a:lnTo>
                  <a:pt x="31" y="60"/>
                </a:lnTo>
                <a:lnTo>
                  <a:pt x="21" y="0"/>
                </a:lnTo>
                <a:lnTo>
                  <a:pt x="0" y="4"/>
                </a:lnTo>
                <a:lnTo>
                  <a:pt x="10" y="63"/>
                </a:lnTo>
                <a:lnTo>
                  <a:pt x="29" y="69"/>
                </a:lnTo>
                <a:lnTo>
                  <a:pt x="29" y="69"/>
                </a:lnTo>
                <a:lnTo>
                  <a:pt x="33" y="65"/>
                </a:lnTo>
                <a:lnTo>
                  <a:pt x="31" y="60"/>
                </a:lnTo>
                <a:lnTo>
                  <a:pt x="29" y="69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342200" y="4738680"/>
            <a:ext cx="81000" cy="88920"/>
          </a:xfrm>
          <a:custGeom>
            <a:avLst/>
            <a:gdLst/>
            <a:ahLst/>
            <a:rect l="l" t="t" r="r" b="b"/>
            <a:pathLst>
              <a:path w="51" h="56">
                <a:moveTo>
                  <a:pt x="12" y="56"/>
                </a:moveTo>
                <a:lnTo>
                  <a:pt x="16" y="53"/>
                </a:lnTo>
                <a:lnTo>
                  <a:pt x="51" y="14"/>
                </a:lnTo>
                <a:lnTo>
                  <a:pt x="35" y="0"/>
                </a:lnTo>
                <a:lnTo>
                  <a:pt x="0" y="39"/>
                </a:lnTo>
                <a:lnTo>
                  <a:pt x="12" y="56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269120" y="4795920"/>
            <a:ext cx="92160" cy="66600"/>
          </a:xfrm>
          <a:custGeom>
            <a:avLst/>
            <a:gdLst/>
            <a:ahLst/>
            <a:rect l="l" t="t" r="r" b="b"/>
            <a:pathLst>
              <a:path w="58" h="42">
                <a:moveTo>
                  <a:pt x="0" y="39"/>
                </a:moveTo>
                <a:lnTo>
                  <a:pt x="8" y="41"/>
                </a:lnTo>
                <a:lnTo>
                  <a:pt x="58" y="20"/>
                </a:lnTo>
                <a:lnTo>
                  <a:pt x="50" y="0"/>
                </a:lnTo>
                <a:lnTo>
                  <a:pt x="0" y="20"/>
                </a:lnTo>
                <a:lnTo>
                  <a:pt x="0" y="39"/>
                </a:lnTo>
                <a:lnTo>
                  <a:pt x="0" y="39"/>
                </a:lnTo>
                <a:lnTo>
                  <a:pt x="4" y="42"/>
                </a:lnTo>
                <a:lnTo>
                  <a:pt x="8" y="41"/>
                </a:lnTo>
                <a:lnTo>
                  <a:pt x="0" y="39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196040" y="4792680"/>
            <a:ext cx="85680" cy="65160"/>
          </a:xfrm>
          <a:custGeom>
            <a:avLst/>
            <a:gdLst/>
            <a:ahLst/>
            <a:rect l="l" t="t" r="r" b="b"/>
            <a:pathLst>
              <a:path w="54" h="41">
                <a:moveTo>
                  <a:pt x="0" y="4"/>
                </a:moveTo>
                <a:lnTo>
                  <a:pt x="1" y="22"/>
                </a:lnTo>
                <a:lnTo>
                  <a:pt x="46" y="41"/>
                </a:lnTo>
                <a:lnTo>
                  <a:pt x="54" y="22"/>
                </a:lnTo>
                <a:lnTo>
                  <a:pt x="10" y="2"/>
                </a:lnTo>
                <a:lnTo>
                  <a:pt x="0" y="4"/>
                </a:lnTo>
                <a:lnTo>
                  <a:pt x="10" y="2"/>
                </a:lnTo>
                <a:lnTo>
                  <a:pt x="5" y="0"/>
                </a:lnTo>
                <a:lnTo>
                  <a:pt x="0" y="4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7101000" y="4799160"/>
            <a:ext cx="112680" cy="91800"/>
          </a:xfrm>
          <a:custGeom>
            <a:avLst/>
            <a:gdLst/>
            <a:ahLst/>
            <a:rect l="l" t="t" r="r" b="b"/>
            <a:pathLst>
              <a:path w="71" h="58">
                <a:moveTo>
                  <a:pt x="5" y="58"/>
                </a:moveTo>
                <a:lnTo>
                  <a:pt x="11" y="57"/>
                </a:lnTo>
                <a:lnTo>
                  <a:pt x="71" y="18"/>
                </a:lnTo>
                <a:lnTo>
                  <a:pt x="60" y="0"/>
                </a:lnTo>
                <a:lnTo>
                  <a:pt x="0" y="39"/>
                </a:lnTo>
                <a:lnTo>
                  <a:pt x="5" y="58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021440" y="4849920"/>
            <a:ext cx="88920" cy="41040"/>
          </a:xfrm>
          <a:custGeom>
            <a:avLst/>
            <a:gdLst/>
            <a:ahLst/>
            <a:rect l="l" t="t" r="r" b="b"/>
            <a:pathLst>
              <a:path w="56" h="26">
                <a:moveTo>
                  <a:pt x="0" y="0"/>
                </a:moveTo>
                <a:lnTo>
                  <a:pt x="0" y="22"/>
                </a:lnTo>
                <a:lnTo>
                  <a:pt x="55" y="26"/>
                </a:lnTo>
                <a:lnTo>
                  <a:pt x="56" y="5"/>
                </a:lnTo>
                <a:lnTo>
                  <a:pt x="2" y="0"/>
                </a:lnTo>
                <a:lnTo>
                  <a:pt x="0" y="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958080" y="4849920"/>
            <a:ext cx="68040" cy="41040"/>
          </a:xfrm>
          <a:custGeom>
            <a:avLst/>
            <a:gdLst/>
            <a:ahLst/>
            <a:rect l="l" t="t" r="r" b="b"/>
            <a:pathLst>
              <a:path w="43" h="26">
                <a:moveTo>
                  <a:pt x="0" y="26"/>
                </a:moveTo>
                <a:lnTo>
                  <a:pt x="3" y="26"/>
                </a:lnTo>
                <a:lnTo>
                  <a:pt x="43" y="22"/>
                </a:lnTo>
                <a:lnTo>
                  <a:pt x="40" y="0"/>
                </a:lnTo>
                <a:lnTo>
                  <a:pt x="0" y="5"/>
                </a:lnTo>
                <a:lnTo>
                  <a:pt x="0" y="26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870600" y="4849920"/>
            <a:ext cx="92160" cy="41040"/>
          </a:xfrm>
          <a:custGeom>
            <a:avLst/>
            <a:gdLst/>
            <a:ahLst/>
            <a:rect l="l" t="t" r="r" b="b"/>
            <a:pathLst>
              <a:path w="58" h="26">
                <a:moveTo>
                  <a:pt x="2" y="0"/>
                </a:moveTo>
                <a:lnTo>
                  <a:pt x="0" y="22"/>
                </a:lnTo>
                <a:lnTo>
                  <a:pt x="55" y="26"/>
                </a:lnTo>
                <a:lnTo>
                  <a:pt x="58" y="5"/>
                </a:lnTo>
                <a:lnTo>
                  <a:pt x="3" y="0"/>
                </a:lnTo>
                <a:lnTo>
                  <a:pt x="2" y="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59720" y="4849920"/>
            <a:ext cx="114120" cy="34920"/>
          </a:xfrm>
          <a:custGeom>
            <a:avLst/>
            <a:gdLst/>
            <a:ahLst/>
            <a:rect l="l" t="t" r="r" b="b"/>
            <a:pathLst>
              <a:path w="72" h="22">
                <a:moveTo>
                  <a:pt x="0" y="20"/>
                </a:moveTo>
                <a:lnTo>
                  <a:pt x="8" y="22"/>
                </a:lnTo>
                <a:lnTo>
                  <a:pt x="72" y="22"/>
                </a:lnTo>
                <a:lnTo>
                  <a:pt x="72" y="0"/>
                </a:lnTo>
                <a:lnTo>
                  <a:pt x="8" y="0"/>
                </a:lnTo>
                <a:lnTo>
                  <a:pt x="0" y="2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657840" y="4764240"/>
            <a:ext cx="123840" cy="117360"/>
          </a:xfrm>
          <a:custGeom>
            <a:avLst/>
            <a:gdLst/>
            <a:ahLst/>
            <a:rect l="l" t="t" r="r" b="b"/>
            <a:pathLst>
              <a:path w="78" h="74">
                <a:moveTo>
                  <a:pt x="8" y="0"/>
                </a:moveTo>
                <a:lnTo>
                  <a:pt x="0" y="19"/>
                </a:lnTo>
                <a:lnTo>
                  <a:pt x="64" y="74"/>
                </a:lnTo>
                <a:lnTo>
                  <a:pt x="78" y="57"/>
                </a:lnTo>
                <a:lnTo>
                  <a:pt x="13" y="2"/>
                </a:lnTo>
                <a:lnTo>
                  <a:pt x="8" y="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539040" y="4746600"/>
            <a:ext cx="131760" cy="52560"/>
          </a:xfrm>
          <a:custGeom>
            <a:avLst/>
            <a:gdLst/>
            <a:ahLst/>
            <a:rect l="l" t="t" r="r" b="b"/>
            <a:pathLst>
              <a:path w="83" h="33">
                <a:moveTo>
                  <a:pt x="0" y="1"/>
                </a:moveTo>
                <a:lnTo>
                  <a:pt x="1" y="22"/>
                </a:lnTo>
                <a:lnTo>
                  <a:pt x="80" y="33"/>
                </a:lnTo>
                <a:lnTo>
                  <a:pt x="83" y="11"/>
                </a:lnTo>
                <a:lnTo>
                  <a:pt x="4" y="0"/>
                </a:lnTo>
                <a:lnTo>
                  <a:pt x="0" y="1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423120" y="4748040"/>
            <a:ext cx="123840" cy="59040"/>
          </a:xfrm>
          <a:custGeom>
            <a:avLst/>
            <a:gdLst/>
            <a:ahLst/>
            <a:rect l="l" t="t" r="r" b="b"/>
            <a:pathLst>
              <a:path w="78" h="37">
                <a:moveTo>
                  <a:pt x="0" y="34"/>
                </a:moveTo>
                <a:lnTo>
                  <a:pt x="8" y="36"/>
                </a:lnTo>
                <a:lnTo>
                  <a:pt x="78" y="21"/>
                </a:lnTo>
                <a:lnTo>
                  <a:pt x="73" y="0"/>
                </a:lnTo>
                <a:lnTo>
                  <a:pt x="4" y="15"/>
                </a:lnTo>
                <a:lnTo>
                  <a:pt x="0" y="34"/>
                </a:lnTo>
                <a:lnTo>
                  <a:pt x="0" y="34"/>
                </a:lnTo>
                <a:lnTo>
                  <a:pt x="4" y="37"/>
                </a:lnTo>
                <a:lnTo>
                  <a:pt x="8" y="36"/>
                </a:lnTo>
                <a:lnTo>
                  <a:pt x="0" y="34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335640" y="4707000"/>
            <a:ext cx="106560" cy="95040"/>
          </a:xfrm>
          <a:custGeom>
            <a:avLst/>
            <a:gdLst/>
            <a:ahLst/>
            <a:rect l="l" t="t" r="r" b="b"/>
            <a:pathLst>
              <a:path w="67" h="60">
                <a:moveTo>
                  <a:pt x="6" y="0"/>
                </a:moveTo>
                <a:lnTo>
                  <a:pt x="0" y="20"/>
                </a:lnTo>
                <a:lnTo>
                  <a:pt x="55" y="60"/>
                </a:lnTo>
                <a:lnTo>
                  <a:pt x="67" y="42"/>
                </a:lnTo>
                <a:lnTo>
                  <a:pt x="12" y="3"/>
                </a:lnTo>
                <a:lnTo>
                  <a:pt x="6" y="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6245280" y="4707000"/>
            <a:ext cx="100080" cy="36360"/>
          </a:xfrm>
          <a:custGeom>
            <a:avLst/>
            <a:gdLst/>
            <a:ahLst/>
            <a:rect l="l" t="t" r="r" b="b"/>
            <a:pathLst>
              <a:path w="63" h="23">
                <a:moveTo>
                  <a:pt x="0" y="2"/>
                </a:moveTo>
                <a:lnTo>
                  <a:pt x="4" y="23"/>
                </a:lnTo>
                <a:lnTo>
                  <a:pt x="63" y="23"/>
                </a:lnTo>
                <a:lnTo>
                  <a:pt x="63" y="0"/>
                </a:lnTo>
                <a:lnTo>
                  <a:pt x="4" y="0"/>
                </a:lnTo>
                <a:lnTo>
                  <a:pt x="0" y="2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167520" y="4710240"/>
            <a:ext cx="88920" cy="55440"/>
          </a:xfrm>
          <a:custGeom>
            <a:avLst/>
            <a:gdLst/>
            <a:ahLst/>
            <a:rect l="l" t="t" r="r" b="b"/>
            <a:pathLst>
              <a:path w="56" h="35">
                <a:moveTo>
                  <a:pt x="0" y="14"/>
                </a:moveTo>
                <a:lnTo>
                  <a:pt x="6" y="35"/>
                </a:lnTo>
                <a:lnTo>
                  <a:pt x="56" y="21"/>
                </a:lnTo>
                <a:lnTo>
                  <a:pt x="49" y="0"/>
                </a:lnTo>
                <a:lnTo>
                  <a:pt x="0" y="14"/>
                </a:lnTo>
                <a:lnTo>
                  <a:pt x="0" y="14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080040" y="4732200"/>
            <a:ext cx="96840" cy="66960"/>
          </a:xfrm>
          <a:custGeom>
            <a:avLst/>
            <a:gdLst/>
            <a:ahLst/>
            <a:rect l="l" t="t" r="r" b="b"/>
            <a:pathLst>
              <a:path w="61" h="42">
                <a:moveTo>
                  <a:pt x="3" y="42"/>
                </a:moveTo>
                <a:lnTo>
                  <a:pt x="7" y="40"/>
                </a:lnTo>
                <a:lnTo>
                  <a:pt x="61" y="21"/>
                </a:lnTo>
                <a:lnTo>
                  <a:pt x="55" y="0"/>
                </a:lnTo>
                <a:lnTo>
                  <a:pt x="0" y="21"/>
                </a:lnTo>
                <a:lnTo>
                  <a:pt x="3" y="42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958000" y="4764240"/>
            <a:ext cx="126720" cy="34920"/>
          </a:xfrm>
          <a:custGeom>
            <a:avLst/>
            <a:gdLst/>
            <a:ahLst/>
            <a:rect l="l" t="t" r="r" b="b"/>
            <a:pathLst>
              <a:path w="80" h="22">
                <a:moveTo>
                  <a:pt x="0" y="0"/>
                </a:moveTo>
                <a:lnTo>
                  <a:pt x="0" y="22"/>
                </a:lnTo>
                <a:lnTo>
                  <a:pt x="80" y="22"/>
                </a:lnTo>
                <a:lnTo>
                  <a:pt x="8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765760" y="4764240"/>
            <a:ext cx="195480" cy="41040"/>
          </a:xfrm>
          <a:custGeom>
            <a:avLst/>
            <a:gdLst/>
            <a:ahLst/>
            <a:rect l="l" t="t" r="r" b="b"/>
            <a:pathLst>
              <a:path w="123" h="26">
                <a:moveTo>
                  <a:pt x="0" y="24"/>
                </a:moveTo>
                <a:lnTo>
                  <a:pt x="8" y="26"/>
                </a:lnTo>
                <a:lnTo>
                  <a:pt x="123" y="22"/>
                </a:lnTo>
                <a:lnTo>
                  <a:pt x="121" y="0"/>
                </a:lnTo>
                <a:lnTo>
                  <a:pt x="7" y="5"/>
                </a:lnTo>
                <a:lnTo>
                  <a:pt x="0" y="24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727600" y="4743360"/>
            <a:ext cx="61920" cy="58680"/>
          </a:xfrm>
          <a:custGeom>
            <a:avLst/>
            <a:gdLst/>
            <a:ahLst/>
            <a:rect l="l" t="t" r="r" b="b"/>
            <a:pathLst>
              <a:path w="39" h="37">
                <a:moveTo>
                  <a:pt x="13" y="0"/>
                </a:moveTo>
                <a:lnTo>
                  <a:pt x="0" y="17"/>
                </a:lnTo>
                <a:lnTo>
                  <a:pt x="24" y="37"/>
                </a:lnTo>
                <a:lnTo>
                  <a:pt x="39" y="20"/>
                </a:lnTo>
                <a:lnTo>
                  <a:pt x="14" y="0"/>
                </a:lnTo>
                <a:lnTo>
                  <a:pt x="13" y="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5634000" y="4668840"/>
            <a:ext cx="114480" cy="103320"/>
          </a:xfrm>
          <a:custGeom>
            <a:avLst/>
            <a:gdLst/>
            <a:ahLst/>
            <a:rect l="l" t="t" r="r" b="b"/>
            <a:pathLst>
              <a:path w="72" h="65">
                <a:moveTo>
                  <a:pt x="4" y="0"/>
                </a:moveTo>
                <a:lnTo>
                  <a:pt x="0" y="19"/>
                </a:lnTo>
                <a:lnTo>
                  <a:pt x="60" y="65"/>
                </a:lnTo>
                <a:lnTo>
                  <a:pt x="72" y="47"/>
                </a:lnTo>
                <a:lnTo>
                  <a:pt x="13" y="2"/>
                </a:lnTo>
                <a:lnTo>
                  <a:pt x="4" y="0"/>
                </a:lnTo>
                <a:lnTo>
                  <a:pt x="13" y="2"/>
                </a:lnTo>
                <a:lnTo>
                  <a:pt x="9" y="0"/>
                </a:lnTo>
                <a:lnTo>
                  <a:pt x="4" y="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530680" y="4668840"/>
            <a:ext cx="115920" cy="57240"/>
          </a:xfrm>
          <a:custGeom>
            <a:avLst/>
            <a:gdLst/>
            <a:ahLst/>
            <a:rect l="l" t="t" r="r" b="b"/>
            <a:pathLst>
              <a:path w="73" h="36">
                <a:moveTo>
                  <a:pt x="0" y="36"/>
                </a:moveTo>
                <a:lnTo>
                  <a:pt x="4" y="36"/>
                </a:lnTo>
                <a:lnTo>
                  <a:pt x="73" y="22"/>
                </a:lnTo>
                <a:lnTo>
                  <a:pt x="69" y="0"/>
                </a:lnTo>
                <a:lnTo>
                  <a:pt x="0" y="15"/>
                </a:lnTo>
                <a:lnTo>
                  <a:pt x="0" y="36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402160" y="4668840"/>
            <a:ext cx="135000" cy="57240"/>
          </a:xfrm>
          <a:custGeom>
            <a:avLst/>
            <a:gdLst/>
            <a:ahLst/>
            <a:rect l="l" t="t" r="r" b="b"/>
            <a:pathLst>
              <a:path w="85" h="36">
                <a:moveTo>
                  <a:pt x="0" y="21"/>
                </a:moveTo>
                <a:lnTo>
                  <a:pt x="2" y="22"/>
                </a:lnTo>
                <a:lnTo>
                  <a:pt x="81" y="36"/>
                </a:lnTo>
                <a:lnTo>
                  <a:pt x="85" y="15"/>
                </a:lnTo>
                <a:lnTo>
                  <a:pt x="5" y="0"/>
                </a:lnTo>
                <a:lnTo>
                  <a:pt x="0" y="21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5292720" y="4637160"/>
            <a:ext cx="120600" cy="65160"/>
          </a:xfrm>
          <a:custGeom>
            <a:avLst/>
            <a:gdLst/>
            <a:ahLst/>
            <a:rect l="l" t="t" r="r" b="b"/>
            <a:pathLst>
              <a:path w="76" h="41">
                <a:moveTo>
                  <a:pt x="0" y="18"/>
                </a:moveTo>
                <a:lnTo>
                  <a:pt x="4" y="21"/>
                </a:lnTo>
                <a:lnTo>
                  <a:pt x="69" y="41"/>
                </a:lnTo>
                <a:lnTo>
                  <a:pt x="76" y="21"/>
                </a:lnTo>
                <a:lnTo>
                  <a:pt x="11" y="0"/>
                </a:lnTo>
                <a:lnTo>
                  <a:pt x="0" y="18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222880" y="4586400"/>
            <a:ext cx="93600" cy="79200"/>
          </a:xfrm>
          <a:custGeom>
            <a:avLst/>
            <a:gdLst/>
            <a:ahLst/>
            <a:rect l="l" t="t" r="r" b="b"/>
            <a:pathLst>
              <a:path w="59" h="50">
                <a:moveTo>
                  <a:pt x="1" y="6"/>
                </a:moveTo>
                <a:lnTo>
                  <a:pt x="5" y="17"/>
                </a:lnTo>
                <a:lnTo>
                  <a:pt x="44" y="50"/>
                </a:lnTo>
                <a:lnTo>
                  <a:pt x="59" y="35"/>
                </a:lnTo>
                <a:lnTo>
                  <a:pt x="18" y="0"/>
                </a:lnTo>
                <a:lnTo>
                  <a:pt x="1" y="6"/>
                </a:lnTo>
                <a:lnTo>
                  <a:pt x="1" y="6"/>
                </a:lnTo>
                <a:lnTo>
                  <a:pt x="0" y="13"/>
                </a:lnTo>
                <a:lnTo>
                  <a:pt x="5" y="17"/>
                </a:lnTo>
                <a:lnTo>
                  <a:pt x="1" y="6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5224320" y="4500720"/>
            <a:ext cx="52560" cy="101520"/>
          </a:xfrm>
          <a:custGeom>
            <a:avLst/>
            <a:gdLst/>
            <a:ahLst/>
            <a:rect l="l" t="t" r="r" b="b"/>
            <a:pathLst>
              <a:path w="33" h="64">
                <a:moveTo>
                  <a:pt x="29" y="0"/>
                </a:moveTo>
                <a:lnTo>
                  <a:pt x="9" y="6"/>
                </a:lnTo>
                <a:lnTo>
                  <a:pt x="0" y="60"/>
                </a:lnTo>
                <a:lnTo>
                  <a:pt x="21" y="64"/>
                </a:lnTo>
                <a:lnTo>
                  <a:pt x="32" y="9"/>
                </a:lnTo>
                <a:lnTo>
                  <a:pt x="29" y="0"/>
                </a:lnTo>
                <a:lnTo>
                  <a:pt x="32" y="9"/>
                </a:lnTo>
                <a:lnTo>
                  <a:pt x="33" y="4"/>
                </a:lnTo>
                <a:lnTo>
                  <a:pt x="29" y="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189400" y="4424400"/>
            <a:ext cx="81000" cy="100080"/>
          </a:xfrm>
          <a:custGeom>
            <a:avLst/>
            <a:gdLst/>
            <a:ahLst/>
            <a:rect l="l" t="t" r="r" b="b"/>
            <a:pathLst>
              <a:path w="51" h="63">
                <a:moveTo>
                  <a:pt x="0" y="8"/>
                </a:moveTo>
                <a:lnTo>
                  <a:pt x="0" y="22"/>
                </a:lnTo>
                <a:lnTo>
                  <a:pt x="34" y="63"/>
                </a:lnTo>
                <a:lnTo>
                  <a:pt x="51" y="48"/>
                </a:lnTo>
                <a:lnTo>
                  <a:pt x="16" y="9"/>
                </a:lnTo>
                <a:lnTo>
                  <a:pt x="0" y="8"/>
                </a:lnTo>
                <a:lnTo>
                  <a:pt x="16" y="9"/>
                </a:lnTo>
                <a:lnTo>
                  <a:pt x="9" y="0"/>
                </a:lnTo>
                <a:lnTo>
                  <a:pt x="0" y="8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126040" y="4437000"/>
            <a:ext cx="87480" cy="93600"/>
          </a:xfrm>
          <a:custGeom>
            <a:avLst/>
            <a:gdLst/>
            <a:ahLst/>
            <a:rect l="l" t="t" r="r" b="b"/>
            <a:pathLst>
              <a:path w="55" h="59">
                <a:moveTo>
                  <a:pt x="0" y="49"/>
                </a:moveTo>
                <a:lnTo>
                  <a:pt x="16" y="51"/>
                </a:lnTo>
                <a:lnTo>
                  <a:pt x="55" y="16"/>
                </a:lnTo>
                <a:lnTo>
                  <a:pt x="40" y="0"/>
                </a:lnTo>
                <a:lnTo>
                  <a:pt x="1" y="34"/>
                </a:lnTo>
                <a:lnTo>
                  <a:pt x="0" y="49"/>
                </a:lnTo>
                <a:lnTo>
                  <a:pt x="0" y="49"/>
                </a:lnTo>
                <a:lnTo>
                  <a:pt x="6" y="59"/>
                </a:lnTo>
                <a:lnTo>
                  <a:pt x="16" y="51"/>
                </a:lnTo>
                <a:lnTo>
                  <a:pt x="0" y="49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86440" y="4421160"/>
            <a:ext cx="66600" cy="93600"/>
          </a:xfrm>
          <a:custGeom>
            <a:avLst/>
            <a:gdLst/>
            <a:ahLst/>
            <a:rect l="l" t="t" r="r" b="b"/>
            <a:pathLst>
              <a:path w="42" h="59">
                <a:moveTo>
                  <a:pt x="0" y="11"/>
                </a:moveTo>
                <a:lnTo>
                  <a:pt x="0" y="24"/>
                </a:lnTo>
                <a:lnTo>
                  <a:pt x="25" y="59"/>
                </a:lnTo>
                <a:lnTo>
                  <a:pt x="42" y="46"/>
                </a:lnTo>
                <a:lnTo>
                  <a:pt x="17" y="11"/>
                </a:lnTo>
                <a:lnTo>
                  <a:pt x="0" y="11"/>
                </a:lnTo>
                <a:lnTo>
                  <a:pt x="17" y="11"/>
                </a:lnTo>
                <a:lnTo>
                  <a:pt x="9" y="0"/>
                </a:lnTo>
                <a:lnTo>
                  <a:pt x="0" y="11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14800" y="4438800"/>
            <a:ext cx="98640" cy="114120"/>
          </a:xfrm>
          <a:custGeom>
            <a:avLst/>
            <a:gdLst/>
            <a:ahLst/>
            <a:rect l="l" t="t" r="r" b="b"/>
            <a:pathLst>
              <a:path w="62" h="72">
                <a:moveTo>
                  <a:pt x="10" y="72"/>
                </a:moveTo>
                <a:lnTo>
                  <a:pt x="17" y="68"/>
                </a:lnTo>
                <a:lnTo>
                  <a:pt x="62" y="13"/>
                </a:lnTo>
                <a:lnTo>
                  <a:pt x="45" y="0"/>
                </a:lnTo>
                <a:lnTo>
                  <a:pt x="0" y="55"/>
                </a:lnTo>
                <a:lnTo>
                  <a:pt x="10" y="72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886280" y="4519440"/>
            <a:ext cx="144360" cy="49320"/>
          </a:xfrm>
          <a:custGeom>
            <a:avLst/>
            <a:gdLst/>
            <a:ahLst/>
            <a:rect l="l" t="t" r="r" b="b"/>
            <a:pathLst>
              <a:path w="91" h="31">
                <a:moveTo>
                  <a:pt x="0" y="17"/>
                </a:moveTo>
                <a:lnTo>
                  <a:pt x="12" y="31"/>
                </a:lnTo>
                <a:lnTo>
                  <a:pt x="91" y="21"/>
                </a:lnTo>
                <a:lnTo>
                  <a:pt x="88" y="0"/>
                </a:lnTo>
                <a:lnTo>
                  <a:pt x="9" y="9"/>
                </a:lnTo>
                <a:lnTo>
                  <a:pt x="0" y="17"/>
                </a:lnTo>
                <a:lnTo>
                  <a:pt x="9" y="9"/>
                </a:lnTo>
                <a:lnTo>
                  <a:pt x="3" y="10"/>
                </a:lnTo>
                <a:lnTo>
                  <a:pt x="0" y="17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4838760" y="4546440"/>
            <a:ext cx="81000" cy="146160"/>
          </a:xfrm>
          <a:custGeom>
            <a:avLst/>
            <a:gdLst/>
            <a:ahLst/>
            <a:rect l="l" t="t" r="r" b="b"/>
            <a:pathLst>
              <a:path w="51" h="92">
                <a:moveTo>
                  <a:pt x="0" y="92"/>
                </a:moveTo>
                <a:lnTo>
                  <a:pt x="21" y="91"/>
                </a:lnTo>
                <a:lnTo>
                  <a:pt x="51" y="6"/>
                </a:lnTo>
                <a:lnTo>
                  <a:pt x="30" y="0"/>
                </a:lnTo>
                <a:lnTo>
                  <a:pt x="0" y="85"/>
                </a:lnTo>
                <a:lnTo>
                  <a:pt x="0" y="92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838760" y="4678200"/>
            <a:ext cx="87120" cy="155880"/>
          </a:xfrm>
          <a:custGeom>
            <a:avLst/>
            <a:gdLst/>
            <a:ahLst/>
            <a:rect l="l" t="t" r="r" b="b"/>
            <a:pathLst>
              <a:path w="55" h="98">
                <a:moveTo>
                  <a:pt x="38" y="98"/>
                </a:moveTo>
                <a:lnTo>
                  <a:pt x="55" y="85"/>
                </a:lnTo>
                <a:lnTo>
                  <a:pt x="21" y="0"/>
                </a:lnTo>
                <a:lnTo>
                  <a:pt x="0" y="9"/>
                </a:lnTo>
                <a:lnTo>
                  <a:pt x="35" y="94"/>
                </a:lnTo>
                <a:lnTo>
                  <a:pt x="38" y="98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898880" y="4807080"/>
            <a:ext cx="133560" cy="112680"/>
          </a:xfrm>
          <a:custGeom>
            <a:avLst/>
            <a:gdLst/>
            <a:ahLst/>
            <a:rect l="l" t="t" r="r" b="b"/>
            <a:pathLst>
              <a:path w="84" h="71">
                <a:moveTo>
                  <a:pt x="82" y="66"/>
                </a:moveTo>
                <a:lnTo>
                  <a:pt x="79" y="55"/>
                </a:lnTo>
                <a:lnTo>
                  <a:pt x="14" y="0"/>
                </a:lnTo>
                <a:lnTo>
                  <a:pt x="0" y="17"/>
                </a:lnTo>
                <a:lnTo>
                  <a:pt x="65" y="71"/>
                </a:lnTo>
                <a:lnTo>
                  <a:pt x="82" y="66"/>
                </a:lnTo>
                <a:lnTo>
                  <a:pt x="82" y="66"/>
                </a:lnTo>
                <a:lnTo>
                  <a:pt x="84" y="60"/>
                </a:lnTo>
                <a:lnTo>
                  <a:pt x="79" y="55"/>
                </a:lnTo>
                <a:lnTo>
                  <a:pt x="82" y="66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973760" y="4902120"/>
            <a:ext cx="55440" cy="103320"/>
          </a:xfrm>
          <a:custGeom>
            <a:avLst/>
            <a:gdLst/>
            <a:ahLst/>
            <a:rect l="l" t="t" r="r" b="b"/>
            <a:pathLst>
              <a:path w="35" h="65">
                <a:moveTo>
                  <a:pt x="7" y="64"/>
                </a:moveTo>
                <a:lnTo>
                  <a:pt x="20" y="56"/>
                </a:lnTo>
                <a:lnTo>
                  <a:pt x="35" y="6"/>
                </a:lnTo>
                <a:lnTo>
                  <a:pt x="14" y="0"/>
                </a:lnTo>
                <a:lnTo>
                  <a:pt x="0" y="49"/>
                </a:lnTo>
                <a:lnTo>
                  <a:pt x="7" y="64"/>
                </a:lnTo>
                <a:lnTo>
                  <a:pt x="7" y="64"/>
                </a:lnTo>
                <a:lnTo>
                  <a:pt x="18" y="65"/>
                </a:lnTo>
                <a:lnTo>
                  <a:pt x="20" y="56"/>
                </a:lnTo>
                <a:lnTo>
                  <a:pt x="7" y="64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906800" y="4952880"/>
            <a:ext cx="87480" cy="50760"/>
          </a:xfrm>
          <a:custGeom>
            <a:avLst/>
            <a:gdLst/>
            <a:ahLst/>
            <a:rect l="l" t="t" r="r" b="b"/>
            <a:pathLst>
              <a:path w="55" h="32">
                <a:moveTo>
                  <a:pt x="0" y="19"/>
                </a:moveTo>
                <a:lnTo>
                  <a:pt x="5" y="21"/>
                </a:lnTo>
                <a:lnTo>
                  <a:pt x="49" y="32"/>
                </a:lnTo>
                <a:lnTo>
                  <a:pt x="55" y="9"/>
                </a:lnTo>
                <a:lnTo>
                  <a:pt x="9" y="0"/>
                </a:lnTo>
                <a:lnTo>
                  <a:pt x="0" y="19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863960" y="4910040"/>
            <a:ext cx="65160" cy="73080"/>
          </a:xfrm>
          <a:custGeom>
            <a:avLst/>
            <a:gdLst/>
            <a:ahLst/>
            <a:rect l="l" t="t" r="r" b="b"/>
            <a:pathLst>
              <a:path w="41" h="46">
                <a:moveTo>
                  <a:pt x="0" y="14"/>
                </a:moveTo>
                <a:lnTo>
                  <a:pt x="2" y="26"/>
                </a:lnTo>
                <a:lnTo>
                  <a:pt x="27" y="46"/>
                </a:lnTo>
                <a:lnTo>
                  <a:pt x="41" y="29"/>
                </a:lnTo>
                <a:lnTo>
                  <a:pt x="17" y="9"/>
                </a:lnTo>
                <a:lnTo>
                  <a:pt x="0" y="14"/>
                </a:lnTo>
                <a:lnTo>
                  <a:pt x="17" y="9"/>
                </a:lnTo>
                <a:lnTo>
                  <a:pt x="5" y="0"/>
                </a:lnTo>
                <a:lnTo>
                  <a:pt x="0" y="14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788000" y="4932360"/>
            <a:ext cx="106200" cy="190440"/>
          </a:xfrm>
          <a:custGeom>
            <a:avLst/>
            <a:gdLst/>
            <a:ahLst/>
            <a:rect l="l" t="t" r="r" b="b"/>
            <a:pathLst>
              <a:path w="67" h="120">
                <a:moveTo>
                  <a:pt x="5" y="120"/>
                </a:moveTo>
                <a:lnTo>
                  <a:pt x="23" y="117"/>
                </a:lnTo>
                <a:lnTo>
                  <a:pt x="67" y="8"/>
                </a:lnTo>
                <a:lnTo>
                  <a:pt x="48" y="0"/>
                </a:lnTo>
                <a:lnTo>
                  <a:pt x="2" y="110"/>
                </a:lnTo>
                <a:lnTo>
                  <a:pt x="5" y="120"/>
                </a:lnTo>
                <a:lnTo>
                  <a:pt x="2" y="110"/>
                </a:lnTo>
                <a:lnTo>
                  <a:pt x="0" y="115"/>
                </a:lnTo>
                <a:lnTo>
                  <a:pt x="5" y="12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795920" y="5100480"/>
            <a:ext cx="115920" cy="117720"/>
          </a:xfrm>
          <a:custGeom>
            <a:avLst/>
            <a:gdLst/>
            <a:ahLst/>
            <a:rect l="l" t="t" r="r" b="b"/>
            <a:pathLst>
              <a:path w="73" h="74">
                <a:moveTo>
                  <a:pt x="73" y="63"/>
                </a:moveTo>
                <a:lnTo>
                  <a:pt x="70" y="60"/>
                </a:lnTo>
                <a:lnTo>
                  <a:pt x="15" y="0"/>
                </a:lnTo>
                <a:lnTo>
                  <a:pt x="0" y="14"/>
                </a:lnTo>
                <a:lnTo>
                  <a:pt x="54" y="74"/>
                </a:lnTo>
                <a:lnTo>
                  <a:pt x="73" y="63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878360" y="5200560"/>
            <a:ext cx="50760" cy="71640"/>
          </a:xfrm>
          <a:custGeom>
            <a:avLst/>
            <a:gdLst/>
            <a:ahLst/>
            <a:rect l="l" t="t" r="r" b="b"/>
            <a:pathLst>
              <a:path w="32" h="45">
                <a:moveTo>
                  <a:pt x="28" y="45"/>
                </a:moveTo>
                <a:lnTo>
                  <a:pt x="31" y="36"/>
                </a:lnTo>
                <a:lnTo>
                  <a:pt x="21" y="0"/>
                </a:lnTo>
                <a:lnTo>
                  <a:pt x="0" y="7"/>
                </a:lnTo>
                <a:lnTo>
                  <a:pt x="10" y="41"/>
                </a:lnTo>
                <a:lnTo>
                  <a:pt x="28" y="45"/>
                </a:lnTo>
                <a:lnTo>
                  <a:pt x="28" y="45"/>
                </a:lnTo>
                <a:lnTo>
                  <a:pt x="32" y="41"/>
                </a:lnTo>
                <a:lnTo>
                  <a:pt x="31" y="36"/>
                </a:lnTo>
                <a:lnTo>
                  <a:pt x="28" y="45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846680" y="5251320"/>
            <a:ext cx="76320" cy="84240"/>
          </a:xfrm>
          <a:custGeom>
            <a:avLst/>
            <a:gdLst/>
            <a:ahLst/>
            <a:rect l="l" t="t" r="r" b="b"/>
            <a:pathLst>
              <a:path w="48" h="53">
                <a:moveTo>
                  <a:pt x="0" y="43"/>
                </a:moveTo>
                <a:lnTo>
                  <a:pt x="19" y="53"/>
                </a:lnTo>
                <a:lnTo>
                  <a:pt x="48" y="13"/>
                </a:lnTo>
                <a:lnTo>
                  <a:pt x="32" y="0"/>
                </a:lnTo>
                <a:lnTo>
                  <a:pt x="2" y="40"/>
                </a:lnTo>
                <a:lnTo>
                  <a:pt x="0" y="43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816440" y="5319720"/>
            <a:ext cx="63360" cy="111240"/>
          </a:xfrm>
          <a:custGeom>
            <a:avLst/>
            <a:gdLst/>
            <a:ahLst/>
            <a:rect l="l" t="t" r="r" b="b"/>
            <a:pathLst>
              <a:path w="40" h="70">
                <a:moveTo>
                  <a:pt x="18" y="70"/>
                </a:moveTo>
                <a:lnTo>
                  <a:pt x="19" y="66"/>
                </a:lnTo>
                <a:lnTo>
                  <a:pt x="40" y="6"/>
                </a:lnTo>
                <a:lnTo>
                  <a:pt x="19" y="0"/>
                </a:lnTo>
                <a:lnTo>
                  <a:pt x="0" y="59"/>
                </a:lnTo>
                <a:lnTo>
                  <a:pt x="18" y="7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4764240" y="5408640"/>
            <a:ext cx="80640" cy="90360"/>
          </a:xfrm>
          <a:custGeom>
            <a:avLst/>
            <a:gdLst/>
            <a:ahLst/>
            <a:rect l="l" t="t" r="r" b="b"/>
            <a:pathLst>
              <a:path w="51" h="57">
                <a:moveTo>
                  <a:pt x="8" y="57"/>
                </a:moveTo>
                <a:lnTo>
                  <a:pt x="16" y="54"/>
                </a:lnTo>
                <a:lnTo>
                  <a:pt x="51" y="14"/>
                </a:lnTo>
                <a:lnTo>
                  <a:pt x="34" y="0"/>
                </a:lnTo>
                <a:lnTo>
                  <a:pt x="0" y="40"/>
                </a:lnTo>
                <a:lnTo>
                  <a:pt x="8" y="57"/>
                </a:lnTo>
                <a:lnTo>
                  <a:pt x="8" y="57"/>
                </a:lnTo>
                <a:lnTo>
                  <a:pt x="13" y="57"/>
                </a:lnTo>
                <a:lnTo>
                  <a:pt x="16" y="54"/>
                </a:lnTo>
                <a:lnTo>
                  <a:pt x="8" y="57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710240" y="5465880"/>
            <a:ext cx="66600" cy="33120"/>
          </a:xfrm>
          <a:custGeom>
            <a:avLst/>
            <a:gdLst/>
            <a:ahLst/>
            <a:rect l="l" t="t" r="r" b="b"/>
            <a:pathLst>
              <a:path w="42" h="21">
                <a:moveTo>
                  <a:pt x="0" y="0"/>
                </a:moveTo>
                <a:lnTo>
                  <a:pt x="2" y="21"/>
                </a:lnTo>
                <a:lnTo>
                  <a:pt x="42" y="21"/>
                </a:lnTo>
                <a:lnTo>
                  <a:pt x="42" y="0"/>
                </a:lnTo>
                <a:lnTo>
                  <a:pt x="2" y="0"/>
                </a:lnTo>
                <a:lnTo>
                  <a:pt x="0" y="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586400" y="5465880"/>
            <a:ext cx="128520" cy="48960"/>
          </a:xfrm>
          <a:custGeom>
            <a:avLst/>
            <a:gdLst/>
            <a:ahLst/>
            <a:rect l="l" t="t" r="r" b="b"/>
            <a:pathLst>
              <a:path w="81" h="31">
                <a:moveTo>
                  <a:pt x="0" y="17"/>
                </a:moveTo>
                <a:lnTo>
                  <a:pt x="12" y="31"/>
                </a:lnTo>
                <a:lnTo>
                  <a:pt x="81" y="21"/>
                </a:lnTo>
                <a:lnTo>
                  <a:pt x="78" y="0"/>
                </a:lnTo>
                <a:lnTo>
                  <a:pt x="9" y="9"/>
                </a:lnTo>
                <a:lnTo>
                  <a:pt x="0" y="17"/>
                </a:lnTo>
                <a:lnTo>
                  <a:pt x="9" y="9"/>
                </a:lnTo>
                <a:lnTo>
                  <a:pt x="3" y="10"/>
                </a:lnTo>
                <a:lnTo>
                  <a:pt x="0" y="17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564080" y="5492880"/>
            <a:ext cx="55440" cy="87120"/>
          </a:xfrm>
          <a:custGeom>
            <a:avLst/>
            <a:gdLst/>
            <a:ahLst/>
            <a:rect l="l" t="t" r="r" b="b"/>
            <a:pathLst>
              <a:path w="35" h="55">
                <a:moveTo>
                  <a:pt x="9" y="55"/>
                </a:moveTo>
                <a:lnTo>
                  <a:pt x="20" y="47"/>
                </a:lnTo>
                <a:lnTo>
                  <a:pt x="35" y="8"/>
                </a:lnTo>
                <a:lnTo>
                  <a:pt x="14" y="0"/>
                </a:lnTo>
                <a:lnTo>
                  <a:pt x="0" y="39"/>
                </a:lnTo>
                <a:lnTo>
                  <a:pt x="9" y="55"/>
                </a:lnTo>
                <a:lnTo>
                  <a:pt x="9" y="55"/>
                </a:lnTo>
                <a:lnTo>
                  <a:pt x="17" y="55"/>
                </a:lnTo>
                <a:lnTo>
                  <a:pt x="20" y="47"/>
                </a:lnTo>
                <a:lnTo>
                  <a:pt x="9" y="55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476600" y="5543640"/>
            <a:ext cx="101880" cy="36360"/>
          </a:xfrm>
          <a:custGeom>
            <a:avLst/>
            <a:gdLst/>
            <a:ahLst/>
            <a:rect l="l" t="t" r="r" b="b"/>
            <a:pathLst>
              <a:path w="64" h="23">
                <a:moveTo>
                  <a:pt x="0" y="15"/>
                </a:moveTo>
                <a:lnTo>
                  <a:pt x="10" y="23"/>
                </a:lnTo>
                <a:lnTo>
                  <a:pt x="64" y="23"/>
                </a:lnTo>
                <a:lnTo>
                  <a:pt x="64" y="0"/>
                </a:lnTo>
                <a:lnTo>
                  <a:pt x="10" y="0"/>
                </a:lnTo>
                <a:lnTo>
                  <a:pt x="0" y="15"/>
                </a:lnTo>
                <a:lnTo>
                  <a:pt x="0" y="15"/>
                </a:lnTo>
                <a:lnTo>
                  <a:pt x="3" y="23"/>
                </a:lnTo>
                <a:lnTo>
                  <a:pt x="10" y="23"/>
                </a:lnTo>
                <a:lnTo>
                  <a:pt x="0" y="15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4452840" y="5499000"/>
            <a:ext cx="55800" cy="68400"/>
          </a:xfrm>
          <a:custGeom>
            <a:avLst/>
            <a:gdLst/>
            <a:ahLst/>
            <a:rect l="l" t="t" r="r" b="b"/>
            <a:pathLst>
              <a:path w="35" h="43">
                <a:moveTo>
                  <a:pt x="0" y="4"/>
                </a:moveTo>
                <a:lnTo>
                  <a:pt x="0" y="9"/>
                </a:lnTo>
                <a:lnTo>
                  <a:pt x="15" y="43"/>
                </a:lnTo>
                <a:lnTo>
                  <a:pt x="35" y="35"/>
                </a:lnTo>
                <a:lnTo>
                  <a:pt x="21" y="0"/>
                </a:lnTo>
                <a:lnTo>
                  <a:pt x="0" y="4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4452840" y="5416560"/>
            <a:ext cx="41400" cy="90360"/>
          </a:xfrm>
          <a:custGeom>
            <a:avLst/>
            <a:gdLst/>
            <a:ahLst/>
            <a:rect l="l" t="t" r="r" b="b"/>
            <a:pathLst>
              <a:path w="26" h="57">
                <a:moveTo>
                  <a:pt x="6" y="0"/>
                </a:moveTo>
                <a:lnTo>
                  <a:pt x="4" y="5"/>
                </a:lnTo>
                <a:lnTo>
                  <a:pt x="0" y="56"/>
                </a:lnTo>
                <a:lnTo>
                  <a:pt x="21" y="57"/>
                </a:lnTo>
                <a:lnTo>
                  <a:pt x="26" y="8"/>
                </a:lnTo>
                <a:lnTo>
                  <a:pt x="6" y="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462560" y="5369040"/>
            <a:ext cx="71280" cy="69840"/>
          </a:xfrm>
          <a:custGeom>
            <a:avLst/>
            <a:gdLst/>
            <a:ahLst/>
            <a:rect l="l" t="t" r="r" b="b"/>
            <a:pathLst>
              <a:path w="45" h="44">
                <a:moveTo>
                  <a:pt x="45" y="6"/>
                </a:moveTo>
                <a:lnTo>
                  <a:pt x="25" y="0"/>
                </a:lnTo>
                <a:lnTo>
                  <a:pt x="0" y="30"/>
                </a:lnTo>
                <a:lnTo>
                  <a:pt x="17" y="44"/>
                </a:lnTo>
                <a:lnTo>
                  <a:pt x="42" y="14"/>
                </a:lnTo>
                <a:lnTo>
                  <a:pt x="45" y="6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497480" y="5284800"/>
            <a:ext cx="36360" cy="93600"/>
          </a:xfrm>
          <a:custGeom>
            <a:avLst/>
            <a:gdLst/>
            <a:ahLst/>
            <a:rect l="l" t="t" r="r" b="b"/>
            <a:pathLst>
              <a:path w="23" h="59">
                <a:moveTo>
                  <a:pt x="12" y="0"/>
                </a:moveTo>
                <a:lnTo>
                  <a:pt x="0" y="10"/>
                </a:lnTo>
                <a:lnTo>
                  <a:pt x="0" y="59"/>
                </a:lnTo>
                <a:lnTo>
                  <a:pt x="23" y="59"/>
                </a:lnTo>
                <a:lnTo>
                  <a:pt x="23" y="10"/>
                </a:lnTo>
                <a:lnTo>
                  <a:pt x="12" y="0"/>
                </a:lnTo>
                <a:lnTo>
                  <a:pt x="23" y="10"/>
                </a:lnTo>
                <a:lnTo>
                  <a:pt x="23" y="0"/>
                </a:lnTo>
                <a:lnTo>
                  <a:pt x="12" y="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444920" y="5284800"/>
            <a:ext cx="71640" cy="34920"/>
          </a:xfrm>
          <a:custGeom>
            <a:avLst/>
            <a:gdLst/>
            <a:ahLst/>
            <a:rect l="l" t="t" r="r" b="b"/>
            <a:pathLst>
              <a:path w="45" h="22">
                <a:moveTo>
                  <a:pt x="0" y="11"/>
                </a:moveTo>
                <a:lnTo>
                  <a:pt x="10" y="22"/>
                </a:lnTo>
                <a:lnTo>
                  <a:pt x="45" y="22"/>
                </a:lnTo>
                <a:lnTo>
                  <a:pt x="45" y="0"/>
                </a:lnTo>
                <a:lnTo>
                  <a:pt x="10" y="0"/>
                </a:lnTo>
                <a:lnTo>
                  <a:pt x="0" y="11"/>
                </a:lnTo>
                <a:lnTo>
                  <a:pt x="0" y="11"/>
                </a:lnTo>
                <a:lnTo>
                  <a:pt x="1" y="22"/>
                </a:lnTo>
                <a:lnTo>
                  <a:pt x="10" y="22"/>
                </a:lnTo>
                <a:lnTo>
                  <a:pt x="0" y="11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435560" y="5205240"/>
            <a:ext cx="41040" cy="96840"/>
          </a:xfrm>
          <a:custGeom>
            <a:avLst/>
            <a:gdLst/>
            <a:ahLst/>
            <a:rect l="l" t="t" r="r" b="b"/>
            <a:pathLst>
              <a:path w="26" h="61">
                <a:moveTo>
                  <a:pt x="11" y="0"/>
                </a:moveTo>
                <a:lnTo>
                  <a:pt x="0" y="12"/>
                </a:lnTo>
                <a:lnTo>
                  <a:pt x="6" y="61"/>
                </a:lnTo>
                <a:lnTo>
                  <a:pt x="26" y="59"/>
                </a:lnTo>
                <a:lnTo>
                  <a:pt x="23" y="9"/>
                </a:lnTo>
                <a:lnTo>
                  <a:pt x="11" y="0"/>
                </a:lnTo>
                <a:lnTo>
                  <a:pt x="23" y="9"/>
                </a:lnTo>
                <a:lnTo>
                  <a:pt x="21" y="0"/>
                </a:lnTo>
                <a:lnTo>
                  <a:pt x="11" y="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4365720" y="5205240"/>
            <a:ext cx="87120" cy="33480"/>
          </a:xfrm>
          <a:custGeom>
            <a:avLst/>
            <a:gdLst/>
            <a:ahLst/>
            <a:rect l="l" t="t" r="r" b="b"/>
            <a:pathLst>
              <a:path w="55" h="21">
                <a:moveTo>
                  <a:pt x="0" y="16"/>
                </a:moveTo>
                <a:lnTo>
                  <a:pt x="11" y="21"/>
                </a:lnTo>
                <a:lnTo>
                  <a:pt x="55" y="21"/>
                </a:lnTo>
                <a:lnTo>
                  <a:pt x="55" y="0"/>
                </a:lnTo>
                <a:lnTo>
                  <a:pt x="11" y="0"/>
                </a:lnTo>
                <a:lnTo>
                  <a:pt x="0" y="16"/>
                </a:lnTo>
                <a:lnTo>
                  <a:pt x="0" y="16"/>
                </a:lnTo>
                <a:lnTo>
                  <a:pt x="4" y="21"/>
                </a:lnTo>
                <a:lnTo>
                  <a:pt x="11" y="21"/>
                </a:lnTo>
                <a:lnTo>
                  <a:pt x="0" y="16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4343400" y="5154480"/>
            <a:ext cx="54000" cy="76320"/>
          </a:xfrm>
          <a:custGeom>
            <a:avLst/>
            <a:gdLst/>
            <a:ahLst/>
            <a:rect l="l" t="t" r="r" b="b"/>
            <a:pathLst>
              <a:path w="34" h="48">
                <a:moveTo>
                  <a:pt x="6" y="2"/>
                </a:moveTo>
                <a:lnTo>
                  <a:pt x="0" y="18"/>
                </a:lnTo>
                <a:lnTo>
                  <a:pt x="14" y="48"/>
                </a:lnTo>
                <a:lnTo>
                  <a:pt x="34" y="37"/>
                </a:lnTo>
                <a:lnTo>
                  <a:pt x="19" y="7"/>
                </a:lnTo>
                <a:lnTo>
                  <a:pt x="6" y="2"/>
                </a:lnTo>
                <a:lnTo>
                  <a:pt x="19" y="7"/>
                </a:lnTo>
                <a:lnTo>
                  <a:pt x="15" y="0"/>
                </a:lnTo>
                <a:lnTo>
                  <a:pt x="6" y="2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32160" y="5157720"/>
            <a:ext cx="131760" cy="73080"/>
          </a:xfrm>
          <a:custGeom>
            <a:avLst/>
            <a:gdLst/>
            <a:ahLst/>
            <a:rect l="l" t="t" r="r" b="b"/>
            <a:pathLst>
              <a:path w="83" h="46">
                <a:moveTo>
                  <a:pt x="0" y="26"/>
                </a:moveTo>
                <a:lnTo>
                  <a:pt x="9" y="46"/>
                </a:lnTo>
                <a:lnTo>
                  <a:pt x="83" y="21"/>
                </a:lnTo>
                <a:lnTo>
                  <a:pt x="76" y="0"/>
                </a:lnTo>
                <a:lnTo>
                  <a:pt x="2" y="25"/>
                </a:lnTo>
                <a:lnTo>
                  <a:pt x="0" y="26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145040" y="5199120"/>
            <a:ext cx="102960" cy="79200"/>
          </a:xfrm>
          <a:custGeom>
            <a:avLst/>
            <a:gdLst/>
            <a:ahLst/>
            <a:rect l="l" t="t" r="r" b="b"/>
            <a:pathLst>
              <a:path w="65" h="50">
                <a:moveTo>
                  <a:pt x="0" y="38"/>
                </a:moveTo>
                <a:lnTo>
                  <a:pt x="16" y="44"/>
                </a:lnTo>
                <a:lnTo>
                  <a:pt x="65" y="20"/>
                </a:lnTo>
                <a:lnTo>
                  <a:pt x="55" y="0"/>
                </a:lnTo>
                <a:lnTo>
                  <a:pt x="5" y="25"/>
                </a:lnTo>
                <a:lnTo>
                  <a:pt x="0" y="38"/>
                </a:lnTo>
                <a:lnTo>
                  <a:pt x="0" y="38"/>
                </a:lnTo>
                <a:lnTo>
                  <a:pt x="5" y="50"/>
                </a:lnTo>
                <a:lnTo>
                  <a:pt x="16" y="44"/>
                </a:lnTo>
                <a:lnTo>
                  <a:pt x="0" y="38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097160" y="5113440"/>
            <a:ext cx="81000" cy="145800"/>
          </a:xfrm>
          <a:custGeom>
            <a:avLst/>
            <a:gdLst/>
            <a:ahLst/>
            <a:rect l="l" t="t" r="r" b="b"/>
            <a:pathLst>
              <a:path w="51" h="92">
                <a:moveTo>
                  <a:pt x="7" y="5"/>
                </a:moveTo>
                <a:lnTo>
                  <a:pt x="0" y="18"/>
                </a:lnTo>
                <a:lnTo>
                  <a:pt x="30" y="92"/>
                </a:lnTo>
                <a:lnTo>
                  <a:pt x="51" y="84"/>
                </a:lnTo>
                <a:lnTo>
                  <a:pt x="21" y="10"/>
                </a:lnTo>
                <a:lnTo>
                  <a:pt x="7" y="5"/>
                </a:lnTo>
                <a:lnTo>
                  <a:pt x="21" y="10"/>
                </a:lnTo>
                <a:lnTo>
                  <a:pt x="17" y="0"/>
                </a:lnTo>
                <a:lnTo>
                  <a:pt x="7" y="5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965400" y="5121360"/>
            <a:ext cx="157320" cy="92160"/>
          </a:xfrm>
          <a:custGeom>
            <a:avLst/>
            <a:gdLst/>
            <a:ahLst/>
            <a:rect l="l" t="t" r="r" b="b"/>
            <a:pathLst>
              <a:path w="99" h="58">
                <a:moveTo>
                  <a:pt x="0" y="43"/>
                </a:moveTo>
                <a:lnTo>
                  <a:pt x="14" y="58"/>
                </a:lnTo>
                <a:lnTo>
                  <a:pt x="99" y="19"/>
                </a:lnTo>
                <a:lnTo>
                  <a:pt x="90" y="0"/>
                </a:lnTo>
                <a:lnTo>
                  <a:pt x="5" y="39"/>
                </a:lnTo>
                <a:lnTo>
                  <a:pt x="0" y="43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903840" y="5189400"/>
            <a:ext cx="90360" cy="136800"/>
          </a:xfrm>
          <a:custGeom>
            <a:avLst/>
            <a:gdLst/>
            <a:ahLst/>
            <a:rect l="l" t="t" r="r" b="b"/>
            <a:pathLst>
              <a:path w="57" h="86">
                <a:moveTo>
                  <a:pt x="2" y="79"/>
                </a:moveTo>
                <a:lnTo>
                  <a:pt x="18" y="76"/>
                </a:lnTo>
                <a:lnTo>
                  <a:pt x="57" y="11"/>
                </a:lnTo>
                <a:lnTo>
                  <a:pt x="39" y="0"/>
                </a:lnTo>
                <a:lnTo>
                  <a:pt x="0" y="65"/>
                </a:lnTo>
                <a:lnTo>
                  <a:pt x="2" y="79"/>
                </a:lnTo>
                <a:lnTo>
                  <a:pt x="2" y="79"/>
                </a:lnTo>
                <a:lnTo>
                  <a:pt x="11" y="86"/>
                </a:lnTo>
                <a:lnTo>
                  <a:pt x="18" y="76"/>
                </a:lnTo>
                <a:lnTo>
                  <a:pt x="2" y="79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843360" y="5232240"/>
            <a:ext cx="84240" cy="82800"/>
          </a:xfrm>
          <a:custGeom>
            <a:avLst/>
            <a:gdLst/>
            <a:ahLst/>
            <a:rect l="l" t="t" r="r" b="b"/>
            <a:pathLst>
              <a:path w="53" h="52">
                <a:moveTo>
                  <a:pt x="0" y="5"/>
                </a:moveTo>
                <a:lnTo>
                  <a:pt x="0" y="22"/>
                </a:lnTo>
                <a:lnTo>
                  <a:pt x="40" y="52"/>
                </a:lnTo>
                <a:lnTo>
                  <a:pt x="53" y="35"/>
                </a:lnTo>
                <a:lnTo>
                  <a:pt x="13" y="5"/>
                </a:lnTo>
                <a:lnTo>
                  <a:pt x="0" y="5"/>
                </a:lnTo>
                <a:lnTo>
                  <a:pt x="13" y="5"/>
                </a:lnTo>
                <a:lnTo>
                  <a:pt x="6" y="0"/>
                </a:lnTo>
                <a:lnTo>
                  <a:pt x="0" y="5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765600" y="5240160"/>
            <a:ext cx="98280" cy="93960"/>
          </a:xfrm>
          <a:custGeom>
            <a:avLst/>
            <a:gdLst/>
            <a:ahLst/>
            <a:rect l="l" t="t" r="r" b="b"/>
            <a:pathLst>
              <a:path w="62" h="59">
                <a:moveTo>
                  <a:pt x="5" y="59"/>
                </a:moveTo>
                <a:lnTo>
                  <a:pt x="13" y="56"/>
                </a:lnTo>
                <a:lnTo>
                  <a:pt x="62" y="17"/>
                </a:lnTo>
                <a:lnTo>
                  <a:pt x="49" y="0"/>
                </a:lnTo>
                <a:lnTo>
                  <a:pt x="0" y="39"/>
                </a:lnTo>
                <a:lnTo>
                  <a:pt x="5" y="59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665520" y="5292720"/>
            <a:ext cx="111240" cy="41400"/>
          </a:xfrm>
          <a:custGeom>
            <a:avLst/>
            <a:gdLst/>
            <a:ahLst/>
            <a:rect l="l" t="t" r="r" b="b"/>
            <a:pathLst>
              <a:path w="70" h="26">
                <a:moveTo>
                  <a:pt x="0" y="15"/>
                </a:moveTo>
                <a:lnTo>
                  <a:pt x="8" y="21"/>
                </a:lnTo>
                <a:lnTo>
                  <a:pt x="68" y="26"/>
                </a:lnTo>
                <a:lnTo>
                  <a:pt x="70" y="5"/>
                </a:lnTo>
                <a:lnTo>
                  <a:pt x="11" y="0"/>
                </a:lnTo>
                <a:lnTo>
                  <a:pt x="0" y="15"/>
                </a:lnTo>
                <a:lnTo>
                  <a:pt x="0" y="15"/>
                </a:lnTo>
                <a:lnTo>
                  <a:pt x="3" y="21"/>
                </a:lnTo>
                <a:lnTo>
                  <a:pt x="8" y="21"/>
                </a:lnTo>
                <a:lnTo>
                  <a:pt x="0" y="15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624120" y="5237280"/>
            <a:ext cx="69840" cy="79200"/>
          </a:xfrm>
          <a:custGeom>
            <a:avLst/>
            <a:gdLst/>
            <a:ahLst/>
            <a:rect l="l" t="t" r="r" b="b"/>
            <a:pathLst>
              <a:path w="44" h="50">
                <a:moveTo>
                  <a:pt x="0" y="6"/>
                </a:moveTo>
                <a:lnTo>
                  <a:pt x="1" y="11"/>
                </a:lnTo>
                <a:lnTo>
                  <a:pt x="26" y="50"/>
                </a:lnTo>
                <a:lnTo>
                  <a:pt x="44" y="40"/>
                </a:lnTo>
                <a:lnTo>
                  <a:pt x="20" y="0"/>
                </a:lnTo>
                <a:lnTo>
                  <a:pt x="0" y="6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624120" y="5145120"/>
            <a:ext cx="33480" cy="101520"/>
          </a:xfrm>
          <a:custGeom>
            <a:avLst/>
            <a:gdLst/>
            <a:ahLst/>
            <a:rect l="l" t="t" r="r" b="b"/>
            <a:pathLst>
              <a:path w="21" h="64">
                <a:moveTo>
                  <a:pt x="17" y="0"/>
                </a:moveTo>
                <a:lnTo>
                  <a:pt x="0" y="9"/>
                </a:lnTo>
                <a:lnTo>
                  <a:pt x="0" y="64"/>
                </a:lnTo>
                <a:lnTo>
                  <a:pt x="21" y="64"/>
                </a:lnTo>
                <a:lnTo>
                  <a:pt x="21" y="9"/>
                </a:lnTo>
                <a:lnTo>
                  <a:pt x="17" y="0"/>
                </a:lnTo>
                <a:lnTo>
                  <a:pt x="21" y="9"/>
                </a:lnTo>
                <a:lnTo>
                  <a:pt x="21" y="3"/>
                </a:lnTo>
                <a:lnTo>
                  <a:pt x="17" y="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3560760" y="5094360"/>
            <a:ext cx="90360" cy="77760"/>
          </a:xfrm>
          <a:custGeom>
            <a:avLst/>
            <a:gdLst/>
            <a:ahLst/>
            <a:rect l="l" t="t" r="r" b="b"/>
            <a:pathLst>
              <a:path w="57" h="49">
                <a:moveTo>
                  <a:pt x="8" y="0"/>
                </a:moveTo>
                <a:lnTo>
                  <a:pt x="0" y="21"/>
                </a:lnTo>
                <a:lnTo>
                  <a:pt x="44" y="49"/>
                </a:lnTo>
                <a:lnTo>
                  <a:pt x="57" y="32"/>
                </a:lnTo>
                <a:lnTo>
                  <a:pt x="11" y="2"/>
                </a:lnTo>
                <a:lnTo>
                  <a:pt x="8" y="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3490920" y="5087880"/>
            <a:ext cx="82440" cy="41400"/>
          </a:xfrm>
          <a:custGeom>
            <a:avLst/>
            <a:gdLst/>
            <a:ahLst/>
            <a:rect l="l" t="t" r="r" b="b"/>
            <a:pathLst>
              <a:path w="52" h="26">
                <a:moveTo>
                  <a:pt x="0" y="21"/>
                </a:moveTo>
                <a:lnTo>
                  <a:pt x="0" y="21"/>
                </a:lnTo>
                <a:lnTo>
                  <a:pt x="49" y="26"/>
                </a:lnTo>
                <a:lnTo>
                  <a:pt x="52" y="4"/>
                </a:lnTo>
                <a:lnTo>
                  <a:pt x="1" y="0"/>
                </a:lnTo>
                <a:lnTo>
                  <a:pt x="0" y="21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417840" y="5079960"/>
            <a:ext cx="74520" cy="41400"/>
          </a:xfrm>
          <a:custGeom>
            <a:avLst/>
            <a:gdLst/>
            <a:ahLst/>
            <a:rect l="l" t="t" r="r" b="b"/>
            <a:pathLst>
              <a:path w="47" h="26">
                <a:moveTo>
                  <a:pt x="0" y="0"/>
                </a:moveTo>
                <a:lnTo>
                  <a:pt x="0" y="21"/>
                </a:lnTo>
                <a:lnTo>
                  <a:pt x="46" y="26"/>
                </a:lnTo>
                <a:lnTo>
                  <a:pt x="47" y="5"/>
                </a:lnTo>
                <a:lnTo>
                  <a:pt x="3" y="0"/>
                </a:lnTo>
                <a:lnTo>
                  <a:pt x="0" y="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308400" y="5079960"/>
            <a:ext cx="114120" cy="42840"/>
          </a:xfrm>
          <a:custGeom>
            <a:avLst/>
            <a:gdLst/>
            <a:ahLst/>
            <a:rect l="l" t="t" r="r" b="b"/>
            <a:pathLst>
              <a:path w="72" h="27">
                <a:moveTo>
                  <a:pt x="0" y="17"/>
                </a:moveTo>
                <a:lnTo>
                  <a:pt x="12" y="26"/>
                </a:lnTo>
                <a:lnTo>
                  <a:pt x="72" y="21"/>
                </a:lnTo>
                <a:lnTo>
                  <a:pt x="69" y="0"/>
                </a:lnTo>
                <a:lnTo>
                  <a:pt x="10" y="5"/>
                </a:lnTo>
                <a:lnTo>
                  <a:pt x="0" y="17"/>
                </a:lnTo>
                <a:lnTo>
                  <a:pt x="0" y="17"/>
                </a:lnTo>
                <a:lnTo>
                  <a:pt x="3" y="27"/>
                </a:lnTo>
                <a:lnTo>
                  <a:pt x="12" y="26"/>
                </a:lnTo>
                <a:lnTo>
                  <a:pt x="0" y="17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267000" y="4881600"/>
            <a:ext cx="76320" cy="225360"/>
          </a:xfrm>
          <a:custGeom>
            <a:avLst/>
            <a:gdLst/>
            <a:ahLst/>
            <a:rect l="l" t="t" r="r" b="b"/>
            <a:pathLst>
              <a:path w="48" h="142">
                <a:moveTo>
                  <a:pt x="9" y="0"/>
                </a:moveTo>
                <a:lnTo>
                  <a:pt x="1" y="13"/>
                </a:lnTo>
                <a:lnTo>
                  <a:pt x="26" y="142"/>
                </a:lnTo>
                <a:lnTo>
                  <a:pt x="48" y="138"/>
                </a:lnTo>
                <a:lnTo>
                  <a:pt x="22" y="9"/>
                </a:lnTo>
                <a:lnTo>
                  <a:pt x="9" y="0"/>
                </a:lnTo>
                <a:lnTo>
                  <a:pt x="9" y="0"/>
                </a:lnTo>
                <a:lnTo>
                  <a:pt x="0" y="2"/>
                </a:lnTo>
                <a:lnTo>
                  <a:pt x="1" y="13"/>
                </a:lnTo>
                <a:lnTo>
                  <a:pt x="9" y="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281400" y="4849920"/>
            <a:ext cx="165240" cy="66600"/>
          </a:xfrm>
          <a:custGeom>
            <a:avLst/>
            <a:gdLst/>
            <a:ahLst/>
            <a:rect l="l" t="t" r="r" b="b"/>
            <a:pathLst>
              <a:path w="104" h="42">
                <a:moveTo>
                  <a:pt x="103" y="11"/>
                </a:moveTo>
                <a:lnTo>
                  <a:pt x="90" y="0"/>
                </a:lnTo>
                <a:lnTo>
                  <a:pt x="0" y="20"/>
                </a:lnTo>
                <a:lnTo>
                  <a:pt x="5" y="42"/>
                </a:lnTo>
                <a:lnTo>
                  <a:pt x="95" y="21"/>
                </a:lnTo>
                <a:lnTo>
                  <a:pt x="103" y="11"/>
                </a:lnTo>
                <a:lnTo>
                  <a:pt x="95" y="21"/>
                </a:lnTo>
                <a:lnTo>
                  <a:pt x="104" y="20"/>
                </a:lnTo>
                <a:lnTo>
                  <a:pt x="103" y="11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3403440" y="4764240"/>
            <a:ext cx="41400" cy="104760"/>
          </a:xfrm>
          <a:custGeom>
            <a:avLst/>
            <a:gdLst/>
            <a:ahLst/>
            <a:rect l="l" t="t" r="r" b="b"/>
            <a:pathLst>
              <a:path w="26" h="66">
                <a:moveTo>
                  <a:pt x="0" y="1"/>
                </a:moveTo>
                <a:lnTo>
                  <a:pt x="0" y="1"/>
                </a:lnTo>
                <a:lnTo>
                  <a:pt x="5" y="66"/>
                </a:lnTo>
                <a:lnTo>
                  <a:pt x="26" y="65"/>
                </a:lnTo>
                <a:lnTo>
                  <a:pt x="21" y="0"/>
                </a:lnTo>
                <a:lnTo>
                  <a:pt x="0" y="1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3395520" y="4645080"/>
            <a:ext cx="41400" cy="120600"/>
          </a:xfrm>
          <a:custGeom>
            <a:avLst/>
            <a:gdLst/>
            <a:ahLst/>
            <a:rect l="l" t="t" r="r" b="b"/>
            <a:pathLst>
              <a:path w="26" h="76">
                <a:moveTo>
                  <a:pt x="1" y="0"/>
                </a:moveTo>
                <a:lnTo>
                  <a:pt x="0" y="7"/>
                </a:lnTo>
                <a:lnTo>
                  <a:pt x="5" y="76"/>
                </a:lnTo>
                <a:lnTo>
                  <a:pt x="26" y="75"/>
                </a:lnTo>
                <a:lnTo>
                  <a:pt x="22" y="6"/>
                </a:lnTo>
                <a:lnTo>
                  <a:pt x="1" y="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3397320" y="4524480"/>
            <a:ext cx="108000" cy="139680"/>
          </a:xfrm>
          <a:custGeom>
            <a:avLst/>
            <a:gdLst/>
            <a:ahLst/>
            <a:rect l="l" t="t" r="r" b="b"/>
            <a:pathLst>
              <a:path w="68" h="88">
                <a:moveTo>
                  <a:pt x="52" y="0"/>
                </a:moveTo>
                <a:lnTo>
                  <a:pt x="51" y="1"/>
                </a:lnTo>
                <a:lnTo>
                  <a:pt x="0" y="76"/>
                </a:lnTo>
                <a:lnTo>
                  <a:pt x="18" y="88"/>
                </a:lnTo>
                <a:lnTo>
                  <a:pt x="68" y="14"/>
                </a:lnTo>
                <a:lnTo>
                  <a:pt x="52" y="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479760" y="4397400"/>
            <a:ext cx="163440" cy="150840"/>
          </a:xfrm>
          <a:custGeom>
            <a:avLst/>
            <a:gdLst/>
            <a:ahLst/>
            <a:rect l="l" t="t" r="r" b="b"/>
            <a:pathLst>
              <a:path w="103" h="95">
                <a:moveTo>
                  <a:pt x="103" y="7"/>
                </a:moveTo>
                <a:lnTo>
                  <a:pt x="85" y="0"/>
                </a:lnTo>
                <a:lnTo>
                  <a:pt x="0" y="80"/>
                </a:lnTo>
                <a:lnTo>
                  <a:pt x="14" y="95"/>
                </a:lnTo>
                <a:lnTo>
                  <a:pt x="99" y="16"/>
                </a:lnTo>
                <a:lnTo>
                  <a:pt x="103" y="7"/>
                </a:lnTo>
                <a:lnTo>
                  <a:pt x="99" y="16"/>
                </a:lnTo>
                <a:lnTo>
                  <a:pt x="103" y="12"/>
                </a:lnTo>
                <a:lnTo>
                  <a:pt x="103" y="7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3598920" y="4334040"/>
            <a:ext cx="44280" cy="77760"/>
          </a:xfrm>
          <a:custGeom>
            <a:avLst/>
            <a:gdLst/>
            <a:ahLst/>
            <a:rect l="l" t="t" r="r" b="b"/>
            <a:pathLst>
              <a:path w="28" h="49">
                <a:moveTo>
                  <a:pt x="4" y="0"/>
                </a:moveTo>
                <a:lnTo>
                  <a:pt x="0" y="9"/>
                </a:lnTo>
                <a:lnTo>
                  <a:pt x="6" y="49"/>
                </a:lnTo>
                <a:lnTo>
                  <a:pt x="28" y="47"/>
                </a:lnTo>
                <a:lnTo>
                  <a:pt x="23" y="6"/>
                </a:lnTo>
                <a:lnTo>
                  <a:pt x="4" y="0"/>
                </a:lnTo>
                <a:lnTo>
                  <a:pt x="4" y="0"/>
                </a:lnTo>
                <a:lnTo>
                  <a:pt x="0" y="4"/>
                </a:lnTo>
                <a:lnTo>
                  <a:pt x="0" y="9"/>
                </a:lnTo>
                <a:lnTo>
                  <a:pt x="4" y="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3605040" y="4211640"/>
            <a:ext cx="157320" cy="149400"/>
          </a:xfrm>
          <a:custGeom>
            <a:avLst/>
            <a:gdLst/>
            <a:ahLst/>
            <a:rect l="l" t="t" r="r" b="b"/>
            <a:pathLst>
              <a:path w="99" h="94">
                <a:moveTo>
                  <a:pt x="93" y="0"/>
                </a:moveTo>
                <a:lnTo>
                  <a:pt x="85" y="3"/>
                </a:lnTo>
                <a:lnTo>
                  <a:pt x="0" y="77"/>
                </a:lnTo>
                <a:lnTo>
                  <a:pt x="15" y="94"/>
                </a:lnTo>
                <a:lnTo>
                  <a:pt x="99" y="18"/>
                </a:lnTo>
                <a:lnTo>
                  <a:pt x="93" y="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753000" y="4211640"/>
            <a:ext cx="83880" cy="33480"/>
          </a:xfrm>
          <a:custGeom>
            <a:avLst/>
            <a:gdLst/>
            <a:ahLst/>
            <a:rect l="l" t="t" r="r" b="b"/>
            <a:pathLst>
              <a:path w="53" h="21">
                <a:moveTo>
                  <a:pt x="49" y="8"/>
                </a:moveTo>
                <a:lnTo>
                  <a:pt x="39" y="0"/>
                </a:lnTo>
                <a:lnTo>
                  <a:pt x="0" y="0"/>
                </a:lnTo>
                <a:lnTo>
                  <a:pt x="0" y="21"/>
                </a:lnTo>
                <a:lnTo>
                  <a:pt x="39" y="21"/>
                </a:lnTo>
                <a:lnTo>
                  <a:pt x="49" y="8"/>
                </a:lnTo>
                <a:lnTo>
                  <a:pt x="39" y="21"/>
                </a:lnTo>
                <a:lnTo>
                  <a:pt x="53" y="21"/>
                </a:lnTo>
                <a:lnTo>
                  <a:pt x="49" y="8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773520" y="4146480"/>
            <a:ext cx="57240" cy="87480"/>
          </a:xfrm>
          <a:custGeom>
            <a:avLst/>
            <a:gdLst/>
            <a:ahLst/>
            <a:rect l="l" t="t" r="r" b="b"/>
            <a:pathLst>
              <a:path w="36" h="55">
                <a:moveTo>
                  <a:pt x="0" y="1"/>
                </a:moveTo>
                <a:lnTo>
                  <a:pt x="1" y="5"/>
                </a:lnTo>
                <a:lnTo>
                  <a:pt x="15" y="55"/>
                </a:lnTo>
                <a:lnTo>
                  <a:pt x="36" y="49"/>
                </a:lnTo>
                <a:lnTo>
                  <a:pt x="22" y="0"/>
                </a:lnTo>
                <a:lnTo>
                  <a:pt x="0" y="1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773520" y="4046400"/>
            <a:ext cx="42840" cy="104760"/>
          </a:xfrm>
          <a:custGeom>
            <a:avLst/>
            <a:gdLst/>
            <a:ahLst/>
            <a:rect l="l" t="t" r="r" b="b"/>
            <a:pathLst>
              <a:path w="27" h="66">
                <a:moveTo>
                  <a:pt x="19" y="0"/>
                </a:moveTo>
                <a:lnTo>
                  <a:pt x="5" y="9"/>
                </a:lnTo>
                <a:lnTo>
                  <a:pt x="0" y="64"/>
                </a:lnTo>
                <a:lnTo>
                  <a:pt x="22" y="66"/>
                </a:lnTo>
                <a:lnTo>
                  <a:pt x="27" y="12"/>
                </a:lnTo>
                <a:lnTo>
                  <a:pt x="19" y="0"/>
                </a:lnTo>
                <a:lnTo>
                  <a:pt x="27" y="12"/>
                </a:lnTo>
                <a:lnTo>
                  <a:pt x="27" y="3"/>
                </a:lnTo>
                <a:lnTo>
                  <a:pt x="19" y="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706920" y="4016520"/>
            <a:ext cx="96840" cy="63360"/>
          </a:xfrm>
          <a:custGeom>
            <a:avLst/>
            <a:gdLst/>
            <a:ahLst/>
            <a:rect l="l" t="t" r="r" b="b"/>
            <a:pathLst>
              <a:path w="61" h="40">
                <a:moveTo>
                  <a:pt x="7" y="0"/>
                </a:moveTo>
                <a:lnTo>
                  <a:pt x="0" y="20"/>
                </a:lnTo>
                <a:lnTo>
                  <a:pt x="55" y="40"/>
                </a:lnTo>
                <a:lnTo>
                  <a:pt x="61" y="19"/>
                </a:lnTo>
                <a:lnTo>
                  <a:pt x="7" y="0"/>
                </a:lnTo>
                <a:lnTo>
                  <a:pt x="7" y="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643200" y="3995640"/>
            <a:ext cx="74880" cy="52560"/>
          </a:xfrm>
          <a:custGeom>
            <a:avLst/>
            <a:gdLst/>
            <a:ahLst/>
            <a:rect l="l" t="t" r="r" b="b"/>
            <a:pathLst>
              <a:path w="47" h="33">
                <a:moveTo>
                  <a:pt x="0" y="6"/>
                </a:moveTo>
                <a:lnTo>
                  <a:pt x="5" y="23"/>
                </a:lnTo>
                <a:lnTo>
                  <a:pt x="40" y="33"/>
                </a:lnTo>
                <a:lnTo>
                  <a:pt x="47" y="13"/>
                </a:lnTo>
                <a:lnTo>
                  <a:pt x="11" y="2"/>
                </a:lnTo>
                <a:lnTo>
                  <a:pt x="0" y="6"/>
                </a:lnTo>
                <a:lnTo>
                  <a:pt x="11" y="2"/>
                </a:lnTo>
                <a:lnTo>
                  <a:pt x="5" y="0"/>
                </a:lnTo>
                <a:lnTo>
                  <a:pt x="0" y="6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595680" y="4005360"/>
            <a:ext cx="74520" cy="90360"/>
          </a:xfrm>
          <a:custGeom>
            <a:avLst/>
            <a:gdLst/>
            <a:ahLst/>
            <a:rect l="l" t="t" r="r" b="b"/>
            <a:pathLst>
              <a:path w="47" h="57">
                <a:moveTo>
                  <a:pt x="10" y="57"/>
                </a:moveTo>
                <a:lnTo>
                  <a:pt x="17" y="53"/>
                </a:lnTo>
                <a:lnTo>
                  <a:pt x="47" y="13"/>
                </a:lnTo>
                <a:lnTo>
                  <a:pt x="30" y="0"/>
                </a:lnTo>
                <a:lnTo>
                  <a:pt x="0" y="40"/>
                </a:lnTo>
                <a:lnTo>
                  <a:pt x="10" y="57"/>
                </a:lnTo>
                <a:lnTo>
                  <a:pt x="10" y="57"/>
                </a:lnTo>
                <a:lnTo>
                  <a:pt x="14" y="56"/>
                </a:lnTo>
                <a:lnTo>
                  <a:pt x="17" y="53"/>
                </a:lnTo>
                <a:lnTo>
                  <a:pt x="10" y="57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540240" y="4060800"/>
            <a:ext cx="71280" cy="44640"/>
          </a:xfrm>
          <a:custGeom>
            <a:avLst/>
            <a:gdLst/>
            <a:ahLst/>
            <a:rect l="l" t="t" r="r" b="b"/>
            <a:pathLst>
              <a:path w="45" h="28">
                <a:moveTo>
                  <a:pt x="0" y="7"/>
                </a:moveTo>
                <a:lnTo>
                  <a:pt x="5" y="28"/>
                </a:lnTo>
                <a:lnTo>
                  <a:pt x="45" y="22"/>
                </a:lnTo>
                <a:lnTo>
                  <a:pt x="43" y="0"/>
                </a:lnTo>
                <a:lnTo>
                  <a:pt x="2" y="5"/>
                </a:lnTo>
                <a:lnTo>
                  <a:pt x="0" y="7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484440" y="4071960"/>
            <a:ext cx="69840" cy="55440"/>
          </a:xfrm>
          <a:custGeom>
            <a:avLst/>
            <a:gdLst/>
            <a:ahLst/>
            <a:rect l="l" t="t" r="r" b="b"/>
            <a:pathLst>
              <a:path w="44" h="35">
                <a:moveTo>
                  <a:pt x="5" y="35"/>
                </a:moveTo>
                <a:lnTo>
                  <a:pt x="9" y="35"/>
                </a:lnTo>
                <a:lnTo>
                  <a:pt x="44" y="19"/>
                </a:lnTo>
                <a:lnTo>
                  <a:pt x="35" y="0"/>
                </a:lnTo>
                <a:lnTo>
                  <a:pt x="0" y="14"/>
                </a:lnTo>
                <a:lnTo>
                  <a:pt x="5" y="35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16400" y="4094280"/>
            <a:ext cx="75960" cy="33120"/>
          </a:xfrm>
          <a:custGeom>
            <a:avLst/>
            <a:gdLst/>
            <a:ahLst/>
            <a:rect l="l" t="t" r="r" b="b"/>
            <a:pathLst>
              <a:path w="48" h="21">
                <a:moveTo>
                  <a:pt x="2" y="12"/>
                </a:moveTo>
                <a:lnTo>
                  <a:pt x="13" y="21"/>
                </a:lnTo>
                <a:lnTo>
                  <a:pt x="48" y="21"/>
                </a:lnTo>
                <a:lnTo>
                  <a:pt x="48" y="0"/>
                </a:lnTo>
                <a:lnTo>
                  <a:pt x="13" y="0"/>
                </a:lnTo>
                <a:lnTo>
                  <a:pt x="2" y="12"/>
                </a:lnTo>
                <a:lnTo>
                  <a:pt x="13" y="0"/>
                </a:lnTo>
                <a:lnTo>
                  <a:pt x="0" y="0"/>
                </a:lnTo>
                <a:lnTo>
                  <a:pt x="2" y="12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419640" y="4108320"/>
            <a:ext cx="44280" cy="74880"/>
          </a:xfrm>
          <a:custGeom>
            <a:avLst/>
            <a:gdLst/>
            <a:ahLst/>
            <a:rect l="l" t="t" r="r" b="b"/>
            <a:pathLst>
              <a:path w="28" h="47">
                <a:moveTo>
                  <a:pt x="17" y="47"/>
                </a:moveTo>
                <a:lnTo>
                  <a:pt x="26" y="34"/>
                </a:lnTo>
                <a:lnTo>
                  <a:pt x="21" y="0"/>
                </a:lnTo>
                <a:lnTo>
                  <a:pt x="0" y="3"/>
                </a:lnTo>
                <a:lnTo>
                  <a:pt x="4" y="38"/>
                </a:lnTo>
                <a:lnTo>
                  <a:pt x="17" y="47"/>
                </a:lnTo>
                <a:lnTo>
                  <a:pt x="17" y="47"/>
                </a:lnTo>
                <a:lnTo>
                  <a:pt x="28" y="44"/>
                </a:lnTo>
                <a:lnTo>
                  <a:pt x="26" y="34"/>
                </a:lnTo>
                <a:lnTo>
                  <a:pt x="17" y="47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321000" y="4148280"/>
            <a:ext cx="125640" cy="56880"/>
          </a:xfrm>
          <a:custGeom>
            <a:avLst/>
            <a:gdLst/>
            <a:ahLst/>
            <a:rect l="l" t="t" r="r" b="b"/>
            <a:pathLst>
              <a:path w="79" h="36">
                <a:moveTo>
                  <a:pt x="0" y="15"/>
                </a:moveTo>
                <a:lnTo>
                  <a:pt x="5" y="36"/>
                </a:lnTo>
                <a:lnTo>
                  <a:pt x="79" y="22"/>
                </a:lnTo>
                <a:lnTo>
                  <a:pt x="75" y="0"/>
                </a:lnTo>
                <a:lnTo>
                  <a:pt x="1" y="15"/>
                </a:lnTo>
                <a:lnTo>
                  <a:pt x="0" y="15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203640" y="4172040"/>
            <a:ext cx="125280" cy="65160"/>
          </a:xfrm>
          <a:custGeom>
            <a:avLst/>
            <a:gdLst/>
            <a:ahLst/>
            <a:rect l="l" t="t" r="r" b="b"/>
            <a:pathLst>
              <a:path w="79" h="41">
                <a:moveTo>
                  <a:pt x="5" y="41"/>
                </a:moveTo>
                <a:lnTo>
                  <a:pt x="5" y="41"/>
                </a:lnTo>
                <a:lnTo>
                  <a:pt x="79" y="21"/>
                </a:lnTo>
                <a:lnTo>
                  <a:pt x="74" y="0"/>
                </a:lnTo>
                <a:lnTo>
                  <a:pt x="0" y="20"/>
                </a:lnTo>
                <a:lnTo>
                  <a:pt x="5" y="41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3102120" y="4203720"/>
            <a:ext cx="109440" cy="57240"/>
          </a:xfrm>
          <a:custGeom>
            <a:avLst/>
            <a:gdLst/>
            <a:ahLst/>
            <a:rect l="l" t="t" r="r" b="b"/>
            <a:pathLst>
              <a:path w="69" h="36">
                <a:moveTo>
                  <a:pt x="0" y="17"/>
                </a:moveTo>
                <a:lnTo>
                  <a:pt x="9" y="36"/>
                </a:lnTo>
                <a:lnTo>
                  <a:pt x="69" y="21"/>
                </a:lnTo>
                <a:lnTo>
                  <a:pt x="64" y="0"/>
                </a:lnTo>
                <a:lnTo>
                  <a:pt x="4" y="16"/>
                </a:lnTo>
                <a:lnTo>
                  <a:pt x="0" y="17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022560" y="4230720"/>
            <a:ext cx="100080" cy="96840"/>
          </a:xfrm>
          <a:custGeom>
            <a:avLst/>
            <a:gdLst/>
            <a:ahLst/>
            <a:rect l="l" t="t" r="r" b="b"/>
            <a:pathLst>
              <a:path w="63" h="61">
                <a:moveTo>
                  <a:pt x="4" y="58"/>
                </a:moveTo>
                <a:lnTo>
                  <a:pt x="13" y="57"/>
                </a:lnTo>
                <a:lnTo>
                  <a:pt x="63" y="17"/>
                </a:lnTo>
                <a:lnTo>
                  <a:pt x="50" y="0"/>
                </a:lnTo>
                <a:lnTo>
                  <a:pt x="0" y="40"/>
                </a:lnTo>
                <a:lnTo>
                  <a:pt x="4" y="58"/>
                </a:lnTo>
                <a:lnTo>
                  <a:pt x="4" y="58"/>
                </a:lnTo>
                <a:lnTo>
                  <a:pt x="10" y="61"/>
                </a:lnTo>
                <a:lnTo>
                  <a:pt x="13" y="57"/>
                </a:lnTo>
                <a:lnTo>
                  <a:pt x="4" y="58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2925720" y="4259160"/>
            <a:ext cx="114480" cy="63720"/>
          </a:xfrm>
          <a:custGeom>
            <a:avLst/>
            <a:gdLst/>
            <a:ahLst/>
            <a:rect l="l" t="t" r="r" b="b"/>
            <a:pathLst>
              <a:path w="72" h="40">
                <a:moveTo>
                  <a:pt x="2" y="0"/>
                </a:moveTo>
                <a:lnTo>
                  <a:pt x="0" y="21"/>
                </a:lnTo>
                <a:lnTo>
                  <a:pt x="65" y="40"/>
                </a:lnTo>
                <a:lnTo>
                  <a:pt x="72" y="20"/>
                </a:lnTo>
                <a:lnTo>
                  <a:pt x="7" y="0"/>
                </a:lnTo>
                <a:lnTo>
                  <a:pt x="2" y="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2847960" y="4259160"/>
            <a:ext cx="87480" cy="49320"/>
          </a:xfrm>
          <a:custGeom>
            <a:avLst/>
            <a:gdLst/>
            <a:ahLst/>
            <a:rect l="l" t="t" r="r" b="b"/>
            <a:pathLst>
              <a:path w="55" h="31">
                <a:moveTo>
                  <a:pt x="0" y="13"/>
                </a:moveTo>
                <a:lnTo>
                  <a:pt x="10" y="31"/>
                </a:lnTo>
                <a:lnTo>
                  <a:pt x="55" y="21"/>
                </a:lnTo>
                <a:lnTo>
                  <a:pt x="51" y="0"/>
                </a:lnTo>
                <a:lnTo>
                  <a:pt x="5" y="11"/>
                </a:lnTo>
                <a:lnTo>
                  <a:pt x="0" y="13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2792520" y="4280040"/>
            <a:ext cx="79200" cy="69840"/>
          </a:xfrm>
          <a:custGeom>
            <a:avLst/>
            <a:gdLst/>
            <a:ahLst/>
            <a:rect l="l" t="t" r="r" b="b"/>
            <a:pathLst>
              <a:path w="50" h="44">
                <a:moveTo>
                  <a:pt x="4" y="42"/>
                </a:moveTo>
                <a:lnTo>
                  <a:pt x="21" y="44"/>
                </a:lnTo>
                <a:lnTo>
                  <a:pt x="50" y="16"/>
                </a:lnTo>
                <a:lnTo>
                  <a:pt x="35" y="0"/>
                </a:lnTo>
                <a:lnTo>
                  <a:pt x="5" y="30"/>
                </a:lnTo>
                <a:lnTo>
                  <a:pt x="4" y="42"/>
                </a:lnTo>
                <a:lnTo>
                  <a:pt x="5" y="30"/>
                </a:lnTo>
                <a:lnTo>
                  <a:pt x="0" y="35"/>
                </a:lnTo>
                <a:lnTo>
                  <a:pt x="4" y="42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798640" y="4332240"/>
            <a:ext cx="65160" cy="84240"/>
          </a:xfrm>
          <a:custGeom>
            <a:avLst/>
            <a:gdLst/>
            <a:ahLst/>
            <a:rect l="l" t="t" r="r" b="b"/>
            <a:pathLst>
              <a:path w="41" h="53">
                <a:moveTo>
                  <a:pt x="39" y="53"/>
                </a:moveTo>
                <a:lnTo>
                  <a:pt x="39" y="45"/>
                </a:lnTo>
                <a:lnTo>
                  <a:pt x="19" y="0"/>
                </a:lnTo>
                <a:lnTo>
                  <a:pt x="0" y="9"/>
                </a:lnTo>
                <a:lnTo>
                  <a:pt x="19" y="53"/>
                </a:lnTo>
                <a:lnTo>
                  <a:pt x="39" y="53"/>
                </a:lnTo>
                <a:lnTo>
                  <a:pt x="39" y="53"/>
                </a:lnTo>
                <a:lnTo>
                  <a:pt x="41" y="49"/>
                </a:lnTo>
                <a:lnTo>
                  <a:pt x="39" y="45"/>
                </a:lnTo>
                <a:lnTo>
                  <a:pt x="39" y="53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813040" y="4403880"/>
            <a:ext cx="47520" cy="61920"/>
          </a:xfrm>
          <a:custGeom>
            <a:avLst/>
            <a:gdLst/>
            <a:ahLst/>
            <a:rect l="l" t="t" r="r" b="b"/>
            <a:pathLst>
              <a:path w="30" h="39">
                <a:moveTo>
                  <a:pt x="13" y="39"/>
                </a:moveTo>
                <a:lnTo>
                  <a:pt x="21" y="33"/>
                </a:lnTo>
                <a:lnTo>
                  <a:pt x="30" y="8"/>
                </a:lnTo>
                <a:lnTo>
                  <a:pt x="10" y="0"/>
                </a:lnTo>
                <a:lnTo>
                  <a:pt x="0" y="25"/>
                </a:lnTo>
                <a:lnTo>
                  <a:pt x="13" y="39"/>
                </a:lnTo>
                <a:lnTo>
                  <a:pt x="13" y="39"/>
                </a:lnTo>
                <a:lnTo>
                  <a:pt x="18" y="38"/>
                </a:lnTo>
                <a:lnTo>
                  <a:pt x="21" y="33"/>
                </a:lnTo>
                <a:lnTo>
                  <a:pt x="13" y="39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738520" y="4432320"/>
            <a:ext cx="95040" cy="50760"/>
          </a:xfrm>
          <a:custGeom>
            <a:avLst/>
            <a:gdLst/>
            <a:ahLst/>
            <a:rect l="l" t="t" r="r" b="b"/>
            <a:pathLst>
              <a:path w="60" h="32">
                <a:moveTo>
                  <a:pt x="0" y="13"/>
                </a:moveTo>
                <a:lnTo>
                  <a:pt x="9" y="32"/>
                </a:lnTo>
                <a:lnTo>
                  <a:pt x="60" y="21"/>
                </a:lnTo>
                <a:lnTo>
                  <a:pt x="55" y="0"/>
                </a:lnTo>
                <a:lnTo>
                  <a:pt x="5" y="10"/>
                </a:lnTo>
                <a:lnTo>
                  <a:pt x="0" y="13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2695680" y="4452840"/>
            <a:ext cx="68040" cy="65160"/>
          </a:xfrm>
          <a:custGeom>
            <a:avLst/>
            <a:gdLst/>
            <a:ahLst/>
            <a:rect l="l" t="t" r="r" b="b"/>
            <a:pathLst>
              <a:path w="43" h="41">
                <a:moveTo>
                  <a:pt x="0" y="29"/>
                </a:moveTo>
                <a:lnTo>
                  <a:pt x="18" y="41"/>
                </a:lnTo>
                <a:lnTo>
                  <a:pt x="43" y="16"/>
                </a:lnTo>
                <a:lnTo>
                  <a:pt x="27" y="0"/>
                </a:lnTo>
                <a:lnTo>
                  <a:pt x="2" y="25"/>
                </a:lnTo>
                <a:lnTo>
                  <a:pt x="0" y="29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670120" y="4498920"/>
            <a:ext cx="55440" cy="82440"/>
          </a:xfrm>
          <a:custGeom>
            <a:avLst/>
            <a:gdLst/>
            <a:ahLst/>
            <a:rect l="l" t="t" r="r" b="b"/>
            <a:pathLst>
              <a:path w="35" h="52">
                <a:moveTo>
                  <a:pt x="17" y="52"/>
                </a:moveTo>
                <a:lnTo>
                  <a:pt x="21" y="47"/>
                </a:lnTo>
                <a:lnTo>
                  <a:pt x="35" y="8"/>
                </a:lnTo>
                <a:lnTo>
                  <a:pt x="16" y="0"/>
                </a:lnTo>
                <a:lnTo>
                  <a:pt x="0" y="39"/>
                </a:lnTo>
                <a:lnTo>
                  <a:pt x="17" y="52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92360" y="4552920"/>
            <a:ext cx="104760" cy="87480"/>
          </a:xfrm>
          <a:custGeom>
            <a:avLst/>
            <a:gdLst/>
            <a:ahLst/>
            <a:rect l="l" t="t" r="r" b="b"/>
            <a:pathLst>
              <a:path w="66" h="55">
                <a:moveTo>
                  <a:pt x="9" y="55"/>
                </a:moveTo>
                <a:lnTo>
                  <a:pt x="11" y="53"/>
                </a:lnTo>
                <a:lnTo>
                  <a:pt x="66" y="18"/>
                </a:lnTo>
                <a:lnTo>
                  <a:pt x="54" y="0"/>
                </a:lnTo>
                <a:lnTo>
                  <a:pt x="0" y="35"/>
                </a:lnTo>
                <a:lnTo>
                  <a:pt x="9" y="55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492280" y="4606920"/>
            <a:ext cx="114480" cy="63360"/>
          </a:xfrm>
          <a:custGeom>
            <a:avLst/>
            <a:gdLst/>
            <a:ahLst/>
            <a:rect l="l" t="t" r="r" b="b"/>
            <a:pathLst>
              <a:path w="72" h="40">
                <a:moveTo>
                  <a:pt x="0" y="19"/>
                </a:moveTo>
                <a:lnTo>
                  <a:pt x="7" y="40"/>
                </a:lnTo>
                <a:lnTo>
                  <a:pt x="72" y="21"/>
                </a:lnTo>
                <a:lnTo>
                  <a:pt x="65" y="0"/>
                </a:lnTo>
                <a:lnTo>
                  <a:pt x="0" y="19"/>
                </a:lnTo>
                <a:lnTo>
                  <a:pt x="0" y="19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2417760" y="4637160"/>
            <a:ext cx="85680" cy="55440"/>
          </a:xfrm>
          <a:custGeom>
            <a:avLst/>
            <a:gdLst/>
            <a:ahLst/>
            <a:rect l="l" t="t" r="r" b="b"/>
            <a:pathLst>
              <a:path w="54" h="35">
                <a:moveTo>
                  <a:pt x="0" y="22"/>
                </a:moveTo>
                <a:lnTo>
                  <a:pt x="15" y="35"/>
                </a:lnTo>
                <a:lnTo>
                  <a:pt x="54" y="21"/>
                </a:lnTo>
                <a:lnTo>
                  <a:pt x="47" y="0"/>
                </a:lnTo>
                <a:lnTo>
                  <a:pt x="7" y="16"/>
                </a:lnTo>
                <a:lnTo>
                  <a:pt x="0" y="22"/>
                </a:lnTo>
                <a:lnTo>
                  <a:pt x="7" y="16"/>
                </a:lnTo>
                <a:lnTo>
                  <a:pt x="3" y="17"/>
                </a:lnTo>
                <a:lnTo>
                  <a:pt x="0" y="22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2395440" y="4672080"/>
            <a:ext cx="55800" cy="93600"/>
          </a:xfrm>
          <a:custGeom>
            <a:avLst/>
            <a:gdLst/>
            <a:ahLst/>
            <a:rect l="l" t="t" r="r" b="b"/>
            <a:pathLst>
              <a:path w="35" h="59">
                <a:moveTo>
                  <a:pt x="4" y="52"/>
                </a:moveTo>
                <a:lnTo>
                  <a:pt x="19" y="47"/>
                </a:lnTo>
                <a:lnTo>
                  <a:pt x="35" y="8"/>
                </a:lnTo>
                <a:lnTo>
                  <a:pt x="14" y="0"/>
                </a:lnTo>
                <a:lnTo>
                  <a:pt x="0" y="39"/>
                </a:lnTo>
                <a:lnTo>
                  <a:pt x="4" y="52"/>
                </a:lnTo>
                <a:lnTo>
                  <a:pt x="4" y="52"/>
                </a:lnTo>
                <a:lnTo>
                  <a:pt x="16" y="59"/>
                </a:lnTo>
                <a:lnTo>
                  <a:pt x="19" y="47"/>
                </a:lnTo>
                <a:lnTo>
                  <a:pt x="4" y="52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2359080" y="4695840"/>
            <a:ext cx="61920" cy="58680"/>
          </a:xfrm>
          <a:custGeom>
            <a:avLst/>
            <a:gdLst/>
            <a:ahLst/>
            <a:rect l="l" t="t" r="r" b="b"/>
            <a:pathLst>
              <a:path w="39" h="37">
                <a:moveTo>
                  <a:pt x="0" y="6"/>
                </a:moveTo>
                <a:lnTo>
                  <a:pt x="2" y="23"/>
                </a:lnTo>
                <a:lnTo>
                  <a:pt x="27" y="37"/>
                </a:lnTo>
                <a:lnTo>
                  <a:pt x="39" y="19"/>
                </a:lnTo>
                <a:lnTo>
                  <a:pt x="14" y="5"/>
                </a:lnTo>
                <a:lnTo>
                  <a:pt x="0" y="6"/>
                </a:lnTo>
                <a:lnTo>
                  <a:pt x="14" y="5"/>
                </a:lnTo>
                <a:lnTo>
                  <a:pt x="6" y="0"/>
                </a:lnTo>
                <a:lnTo>
                  <a:pt x="0" y="6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279520" y="4705200"/>
            <a:ext cx="104760" cy="115920"/>
          </a:xfrm>
          <a:custGeom>
            <a:avLst/>
            <a:gdLst/>
            <a:ahLst/>
            <a:rect l="l" t="t" r="r" b="b"/>
            <a:pathLst>
              <a:path w="66" h="73">
                <a:moveTo>
                  <a:pt x="11" y="73"/>
                </a:moveTo>
                <a:lnTo>
                  <a:pt x="16" y="69"/>
                </a:lnTo>
                <a:lnTo>
                  <a:pt x="66" y="14"/>
                </a:lnTo>
                <a:lnTo>
                  <a:pt x="50" y="0"/>
                </a:lnTo>
                <a:lnTo>
                  <a:pt x="0" y="55"/>
                </a:lnTo>
                <a:lnTo>
                  <a:pt x="11" y="73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2219400" y="4788000"/>
            <a:ext cx="77760" cy="48960"/>
          </a:xfrm>
          <a:custGeom>
            <a:avLst/>
            <a:gdLst/>
            <a:ahLst/>
            <a:rect l="l" t="t" r="r" b="b"/>
            <a:pathLst>
              <a:path w="49" h="31">
                <a:moveTo>
                  <a:pt x="0" y="29"/>
                </a:moveTo>
                <a:lnTo>
                  <a:pt x="9" y="30"/>
                </a:lnTo>
                <a:lnTo>
                  <a:pt x="49" y="21"/>
                </a:lnTo>
                <a:lnTo>
                  <a:pt x="43" y="0"/>
                </a:lnTo>
                <a:lnTo>
                  <a:pt x="4" y="9"/>
                </a:lnTo>
                <a:lnTo>
                  <a:pt x="0" y="29"/>
                </a:lnTo>
                <a:lnTo>
                  <a:pt x="0" y="29"/>
                </a:lnTo>
                <a:lnTo>
                  <a:pt x="4" y="31"/>
                </a:lnTo>
                <a:lnTo>
                  <a:pt x="9" y="30"/>
                </a:lnTo>
                <a:lnTo>
                  <a:pt x="0" y="29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2147760" y="4746600"/>
            <a:ext cx="92160" cy="87480"/>
          </a:xfrm>
          <a:custGeom>
            <a:avLst/>
            <a:gdLst/>
            <a:ahLst/>
            <a:rect l="l" t="t" r="r" b="b"/>
            <a:pathLst>
              <a:path w="58" h="55">
                <a:moveTo>
                  <a:pt x="5" y="1"/>
                </a:moveTo>
                <a:lnTo>
                  <a:pt x="0" y="20"/>
                </a:lnTo>
                <a:lnTo>
                  <a:pt x="45" y="55"/>
                </a:lnTo>
                <a:lnTo>
                  <a:pt x="58" y="38"/>
                </a:lnTo>
                <a:lnTo>
                  <a:pt x="14" y="3"/>
                </a:lnTo>
                <a:lnTo>
                  <a:pt x="5" y="1"/>
                </a:lnTo>
                <a:lnTo>
                  <a:pt x="14" y="3"/>
                </a:lnTo>
                <a:lnTo>
                  <a:pt x="10" y="0"/>
                </a:lnTo>
                <a:lnTo>
                  <a:pt x="5" y="1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2066760" y="4748040"/>
            <a:ext cx="95400" cy="47880"/>
          </a:xfrm>
          <a:custGeom>
            <a:avLst/>
            <a:gdLst/>
            <a:ahLst/>
            <a:rect l="l" t="t" r="r" b="b"/>
            <a:pathLst>
              <a:path w="60" h="30">
                <a:moveTo>
                  <a:pt x="0" y="10"/>
                </a:moveTo>
                <a:lnTo>
                  <a:pt x="5" y="30"/>
                </a:lnTo>
                <a:lnTo>
                  <a:pt x="60" y="21"/>
                </a:lnTo>
                <a:lnTo>
                  <a:pt x="56" y="0"/>
                </a:lnTo>
                <a:lnTo>
                  <a:pt x="1" y="10"/>
                </a:lnTo>
                <a:lnTo>
                  <a:pt x="0" y="1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1943280" y="4764240"/>
            <a:ext cx="134640" cy="68040"/>
          </a:xfrm>
          <a:custGeom>
            <a:avLst/>
            <a:gdLst/>
            <a:ahLst/>
            <a:rect l="l" t="t" r="r" b="b"/>
            <a:pathLst>
              <a:path w="85" h="43">
                <a:moveTo>
                  <a:pt x="0" y="39"/>
                </a:moveTo>
                <a:lnTo>
                  <a:pt x="9" y="41"/>
                </a:lnTo>
                <a:lnTo>
                  <a:pt x="85" y="20"/>
                </a:lnTo>
                <a:lnTo>
                  <a:pt x="78" y="0"/>
                </a:lnTo>
                <a:lnTo>
                  <a:pt x="4" y="20"/>
                </a:lnTo>
                <a:lnTo>
                  <a:pt x="0" y="39"/>
                </a:lnTo>
                <a:lnTo>
                  <a:pt x="0" y="39"/>
                </a:lnTo>
                <a:lnTo>
                  <a:pt x="4" y="43"/>
                </a:lnTo>
                <a:lnTo>
                  <a:pt x="9" y="41"/>
                </a:lnTo>
                <a:lnTo>
                  <a:pt x="0" y="39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868400" y="4737240"/>
            <a:ext cx="96840" cy="88920"/>
          </a:xfrm>
          <a:custGeom>
            <a:avLst/>
            <a:gdLst/>
            <a:ahLst/>
            <a:rect l="l" t="t" r="r" b="b"/>
            <a:pathLst>
              <a:path w="61" h="56">
                <a:moveTo>
                  <a:pt x="0" y="14"/>
                </a:moveTo>
                <a:lnTo>
                  <a:pt x="1" y="15"/>
                </a:lnTo>
                <a:lnTo>
                  <a:pt x="47" y="56"/>
                </a:lnTo>
                <a:lnTo>
                  <a:pt x="61" y="39"/>
                </a:lnTo>
                <a:lnTo>
                  <a:pt x="16" y="0"/>
                </a:lnTo>
                <a:lnTo>
                  <a:pt x="0" y="14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812960" y="4654440"/>
            <a:ext cx="84240" cy="104760"/>
          </a:xfrm>
          <a:custGeom>
            <a:avLst/>
            <a:gdLst/>
            <a:ahLst/>
            <a:rect l="l" t="t" r="r" b="b"/>
            <a:pathLst>
              <a:path w="53" h="66">
                <a:moveTo>
                  <a:pt x="9" y="0"/>
                </a:moveTo>
                <a:lnTo>
                  <a:pt x="0" y="17"/>
                </a:lnTo>
                <a:lnTo>
                  <a:pt x="35" y="66"/>
                </a:lnTo>
                <a:lnTo>
                  <a:pt x="53" y="53"/>
                </a:lnTo>
                <a:lnTo>
                  <a:pt x="18" y="4"/>
                </a:lnTo>
                <a:lnTo>
                  <a:pt x="9" y="0"/>
                </a:lnTo>
                <a:lnTo>
                  <a:pt x="18" y="4"/>
                </a:lnTo>
                <a:lnTo>
                  <a:pt x="14" y="0"/>
                </a:lnTo>
                <a:lnTo>
                  <a:pt x="9" y="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724040" y="4654440"/>
            <a:ext cx="103320" cy="32040"/>
          </a:xfrm>
          <a:custGeom>
            <a:avLst/>
            <a:gdLst/>
            <a:ahLst/>
            <a:rect l="l" t="t" r="r" b="b"/>
            <a:pathLst>
              <a:path w="65" h="20">
                <a:moveTo>
                  <a:pt x="0" y="0"/>
                </a:moveTo>
                <a:lnTo>
                  <a:pt x="0" y="20"/>
                </a:lnTo>
                <a:lnTo>
                  <a:pt x="65" y="20"/>
                </a:lnTo>
                <a:lnTo>
                  <a:pt x="65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1635120" y="4654440"/>
            <a:ext cx="88920" cy="32040"/>
          </a:xfrm>
          <a:custGeom>
            <a:avLst/>
            <a:gdLst/>
            <a:ahLst/>
            <a:rect l="l" t="t" r="r" b="b"/>
            <a:pathLst>
              <a:path w="56" h="20">
                <a:moveTo>
                  <a:pt x="1" y="9"/>
                </a:moveTo>
                <a:lnTo>
                  <a:pt x="12" y="20"/>
                </a:lnTo>
                <a:lnTo>
                  <a:pt x="56" y="20"/>
                </a:lnTo>
                <a:lnTo>
                  <a:pt x="56" y="0"/>
                </a:lnTo>
                <a:lnTo>
                  <a:pt x="12" y="0"/>
                </a:lnTo>
                <a:lnTo>
                  <a:pt x="1" y="9"/>
                </a:lnTo>
                <a:lnTo>
                  <a:pt x="1" y="9"/>
                </a:lnTo>
                <a:lnTo>
                  <a:pt x="0" y="20"/>
                </a:lnTo>
                <a:lnTo>
                  <a:pt x="12" y="20"/>
                </a:lnTo>
                <a:lnTo>
                  <a:pt x="1" y="9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1636560" y="4576680"/>
            <a:ext cx="44640" cy="95400"/>
          </a:xfrm>
          <a:custGeom>
            <a:avLst/>
            <a:gdLst/>
            <a:ahLst/>
            <a:rect l="l" t="t" r="r" b="b"/>
            <a:pathLst>
              <a:path w="28" h="60">
                <a:moveTo>
                  <a:pt x="23" y="0"/>
                </a:moveTo>
                <a:lnTo>
                  <a:pt x="6" y="8"/>
                </a:lnTo>
                <a:lnTo>
                  <a:pt x="0" y="58"/>
                </a:lnTo>
                <a:lnTo>
                  <a:pt x="21" y="60"/>
                </a:lnTo>
                <a:lnTo>
                  <a:pt x="27" y="11"/>
                </a:lnTo>
                <a:lnTo>
                  <a:pt x="23" y="0"/>
                </a:lnTo>
                <a:lnTo>
                  <a:pt x="27" y="11"/>
                </a:lnTo>
                <a:lnTo>
                  <a:pt x="28" y="4"/>
                </a:lnTo>
                <a:lnTo>
                  <a:pt x="23" y="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1600200" y="4527720"/>
            <a:ext cx="73080" cy="75960"/>
          </a:xfrm>
          <a:custGeom>
            <a:avLst/>
            <a:gdLst/>
            <a:ahLst/>
            <a:rect l="l" t="t" r="r" b="b"/>
            <a:pathLst>
              <a:path w="46" h="48">
                <a:moveTo>
                  <a:pt x="0" y="9"/>
                </a:moveTo>
                <a:lnTo>
                  <a:pt x="3" y="24"/>
                </a:lnTo>
                <a:lnTo>
                  <a:pt x="33" y="48"/>
                </a:lnTo>
                <a:lnTo>
                  <a:pt x="46" y="31"/>
                </a:lnTo>
                <a:lnTo>
                  <a:pt x="16" y="7"/>
                </a:lnTo>
                <a:lnTo>
                  <a:pt x="0" y="9"/>
                </a:lnTo>
                <a:lnTo>
                  <a:pt x="16" y="7"/>
                </a:lnTo>
                <a:lnTo>
                  <a:pt x="8" y="0"/>
                </a:lnTo>
                <a:lnTo>
                  <a:pt x="0" y="9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1544760" y="4541760"/>
            <a:ext cx="83880" cy="112680"/>
          </a:xfrm>
          <a:custGeom>
            <a:avLst/>
            <a:gdLst/>
            <a:ahLst/>
            <a:rect l="l" t="t" r="r" b="b"/>
            <a:pathLst>
              <a:path w="53" h="71">
                <a:moveTo>
                  <a:pt x="0" y="56"/>
                </a:moveTo>
                <a:lnTo>
                  <a:pt x="18" y="58"/>
                </a:lnTo>
                <a:lnTo>
                  <a:pt x="53" y="13"/>
                </a:lnTo>
                <a:lnTo>
                  <a:pt x="35" y="0"/>
                </a:lnTo>
                <a:lnTo>
                  <a:pt x="1" y="45"/>
                </a:lnTo>
                <a:lnTo>
                  <a:pt x="0" y="56"/>
                </a:lnTo>
                <a:lnTo>
                  <a:pt x="0" y="56"/>
                </a:lnTo>
                <a:lnTo>
                  <a:pt x="8" y="71"/>
                </a:lnTo>
                <a:lnTo>
                  <a:pt x="18" y="58"/>
                </a:lnTo>
                <a:lnTo>
                  <a:pt x="0" y="56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1511280" y="4552920"/>
            <a:ext cx="63360" cy="77760"/>
          </a:xfrm>
          <a:custGeom>
            <a:avLst/>
            <a:gdLst/>
            <a:ahLst/>
            <a:rect l="l" t="t" r="r" b="b"/>
            <a:pathLst>
              <a:path w="40" h="49">
                <a:moveTo>
                  <a:pt x="0" y="6"/>
                </a:moveTo>
                <a:lnTo>
                  <a:pt x="1" y="9"/>
                </a:lnTo>
                <a:lnTo>
                  <a:pt x="21" y="49"/>
                </a:lnTo>
                <a:lnTo>
                  <a:pt x="40" y="39"/>
                </a:lnTo>
                <a:lnTo>
                  <a:pt x="20" y="0"/>
                </a:lnTo>
                <a:lnTo>
                  <a:pt x="0" y="6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1487520" y="4444920"/>
            <a:ext cx="57240" cy="117720"/>
          </a:xfrm>
          <a:custGeom>
            <a:avLst/>
            <a:gdLst/>
            <a:ahLst/>
            <a:rect l="l" t="t" r="r" b="b"/>
            <a:pathLst>
              <a:path w="36" h="74">
                <a:moveTo>
                  <a:pt x="2" y="0"/>
                </a:moveTo>
                <a:lnTo>
                  <a:pt x="0" y="11"/>
                </a:lnTo>
                <a:lnTo>
                  <a:pt x="15" y="74"/>
                </a:lnTo>
                <a:lnTo>
                  <a:pt x="36" y="70"/>
                </a:lnTo>
                <a:lnTo>
                  <a:pt x="22" y="5"/>
                </a:lnTo>
                <a:lnTo>
                  <a:pt x="2" y="0"/>
                </a:lnTo>
                <a:lnTo>
                  <a:pt x="2" y="0"/>
                </a:lnTo>
                <a:lnTo>
                  <a:pt x="0" y="5"/>
                </a:lnTo>
                <a:lnTo>
                  <a:pt x="0" y="11"/>
                </a:lnTo>
                <a:lnTo>
                  <a:pt x="2" y="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1490760" y="4375080"/>
            <a:ext cx="90360" cy="93600"/>
          </a:xfrm>
          <a:custGeom>
            <a:avLst/>
            <a:gdLst/>
            <a:ahLst/>
            <a:rect l="l" t="t" r="r" b="b"/>
            <a:pathLst>
              <a:path w="57" h="59">
                <a:moveTo>
                  <a:pt x="57" y="12"/>
                </a:moveTo>
                <a:lnTo>
                  <a:pt x="40" y="0"/>
                </a:lnTo>
                <a:lnTo>
                  <a:pt x="0" y="44"/>
                </a:lnTo>
                <a:lnTo>
                  <a:pt x="17" y="59"/>
                </a:lnTo>
                <a:lnTo>
                  <a:pt x="56" y="14"/>
                </a:lnTo>
                <a:lnTo>
                  <a:pt x="57" y="12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1552680" y="4290840"/>
            <a:ext cx="75960" cy="103320"/>
          </a:xfrm>
          <a:custGeom>
            <a:avLst/>
            <a:gdLst/>
            <a:ahLst/>
            <a:rect l="l" t="t" r="r" b="b"/>
            <a:pathLst>
              <a:path w="48" h="65">
                <a:moveTo>
                  <a:pt x="30" y="0"/>
                </a:moveTo>
                <a:lnTo>
                  <a:pt x="30" y="1"/>
                </a:lnTo>
                <a:lnTo>
                  <a:pt x="0" y="54"/>
                </a:lnTo>
                <a:lnTo>
                  <a:pt x="18" y="65"/>
                </a:lnTo>
                <a:lnTo>
                  <a:pt x="48" y="10"/>
                </a:lnTo>
                <a:lnTo>
                  <a:pt x="30" y="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1600200" y="4229280"/>
            <a:ext cx="68400" cy="79200"/>
          </a:xfrm>
          <a:custGeom>
            <a:avLst/>
            <a:gdLst/>
            <a:ahLst/>
            <a:rect l="l" t="t" r="r" b="b"/>
            <a:pathLst>
              <a:path w="43" h="50">
                <a:moveTo>
                  <a:pt x="43" y="10"/>
                </a:moveTo>
                <a:lnTo>
                  <a:pt x="25" y="0"/>
                </a:lnTo>
                <a:lnTo>
                  <a:pt x="0" y="39"/>
                </a:lnTo>
                <a:lnTo>
                  <a:pt x="18" y="50"/>
                </a:lnTo>
                <a:lnTo>
                  <a:pt x="43" y="10"/>
                </a:lnTo>
                <a:lnTo>
                  <a:pt x="43" y="1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1639800" y="4135320"/>
            <a:ext cx="76320" cy="109800"/>
          </a:xfrm>
          <a:custGeom>
            <a:avLst/>
            <a:gdLst/>
            <a:ahLst/>
            <a:rect l="l" t="t" r="r" b="b"/>
            <a:pathLst>
              <a:path w="48" h="69">
                <a:moveTo>
                  <a:pt x="34" y="0"/>
                </a:moveTo>
                <a:lnTo>
                  <a:pt x="30" y="4"/>
                </a:lnTo>
                <a:lnTo>
                  <a:pt x="0" y="59"/>
                </a:lnTo>
                <a:lnTo>
                  <a:pt x="18" y="69"/>
                </a:lnTo>
                <a:lnTo>
                  <a:pt x="48" y="14"/>
                </a:lnTo>
                <a:lnTo>
                  <a:pt x="34" y="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1693800" y="4075200"/>
            <a:ext cx="103320" cy="88920"/>
          </a:xfrm>
          <a:custGeom>
            <a:avLst/>
            <a:gdLst/>
            <a:ahLst/>
            <a:rect l="l" t="t" r="r" b="b"/>
            <a:pathLst>
              <a:path w="65" h="56">
                <a:moveTo>
                  <a:pt x="62" y="2"/>
                </a:moveTo>
                <a:lnTo>
                  <a:pt x="54" y="3"/>
                </a:lnTo>
                <a:lnTo>
                  <a:pt x="0" y="38"/>
                </a:lnTo>
                <a:lnTo>
                  <a:pt x="10" y="56"/>
                </a:lnTo>
                <a:lnTo>
                  <a:pt x="65" y="21"/>
                </a:lnTo>
                <a:lnTo>
                  <a:pt x="62" y="2"/>
                </a:lnTo>
                <a:lnTo>
                  <a:pt x="62" y="2"/>
                </a:lnTo>
                <a:lnTo>
                  <a:pt x="57" y="0"/>
                </a:lnTo>
                <a:lnTo>
                  <a:pt x="54" y="3"/>
                </a:lnTo>
                <a:lnTo>
                  <a:pt x="62" y="2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1784520" y="4078440"/>
            <a:ext cx="112680" cy="56880"/>
          </a:xfrm>
          <a:custGeom>
            <a:avLst/>
            <a:gdLst/>
            <a:ahLst/>
            <a:rect l="l" t="t" r="r" b="b"/>
            <a:pathLst>
              <a:path w="71" h="36">
                <a:moveTo>
                  <a:pt x="71" y="35"/>
                </a:moveTo>
                <a:lnTo>
                  <a:pt x="69" y="15"/>
                </a:lnTo>
                <a:lnTo>
                  <a:pt x="5" y="0"/>
                </a:lnTo>
                <a:lnTo>
                  <a:pt x="0" y="20"/>
                </a:lnTo>
                <a:lnTo>
                  <a:pt x="65" y="36"/>
                </a:lnTo>
                <a:lnTo>
                  <a:pt x="71" y="35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1886040" y="4062240"/>
            <a:ext cx="120600" cy="71640"/>
          </a:xfrm>
          <a:custGeom>
            <a:avLst/>
            <a:gdLst/>
            <a:ahLst/>
            <a:rect l="l" t="t" r="r" b="b"/>
            <a:pathLst>
              <a:path w="76" h="45">
                <a:moveTo>
                  <a:pt x="76" y="16"/>
                </a:moveTo>
                <a:lnTo>
                  <a:pt x="63" y="0"/>
                </a:lnTo>
                <a:lnTo>
                  <a:pt x="0" y="25"/>
                </a:lnTo>
                <a:lnTo>
                  <a:pt x="7" y="45"/>
                </a:lnTo>
                <a:lnTo>
                  <a:pt x="71" y="20"/>
                </a:lnTo>
                <a:lnTo>
                  <a:pt x="76" y="16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1978200" y="3971880"/>
            <a:ext cx="83880" cy="115920"/>
          </a:xfrm>
          <a:custGeom>
            <a:avLst/>
            <a:gdLst/>
            <a:ahLst/>
            <a:rect l="l" t="t" r="r" b="b"/>
            <a:pathLst>
              <a:path w="53" h="73">
                <a:moveTo>
                  <a:pt x="37" y="0"/>
                </a:moveTo>
                <a:lnTo>
                  <a:pt x="35" y="3"/>
                </a:lnTo>
                <a:lnTo>
                  <a:pt x="0" y="61"/>
                </a:lnTo>
                <a:lnTo>
                  <a:pt x="18" y="73"/>
                </a:lnTo>
                <a:lnTo>
                  <a:pt x="53" y="13"/>
                </a:lnTo>
                <a:lnTo>
                  <a:pt x="37" y="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036880" y="3875040"/>
            <a:ext cx="110880" cy="120600"/>
          </a:xfrm>
          <a:custGeom>
            <a:avLst/>
            <a:gdLst/>
            <a:ahLst/>
            <a:rect l="l" t="t" r="r" b="b"/>
            <a:pathLst>
              <a:path w="70" h="76">
                <a:moveTo>
                  <a:pt x="56" y="0"/>
                </a:moveTo>
                <a:lnTo>
                  <a:pt x="54" y="1"/>
                </a:lnTo>
                <a:lnTo>
                  <a:pt x="0" y="61"/>
                </a:lnTo>
                <a:lnTo>
                  <a:pt x="15" y="76"/>
                </a:lnTo>
                <a:lnTo>
                  <a:pt x="70" y="17"/>
                </a:lnTo>
                <a:lnTo>
                  <a:pt x="56" y="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2125800" y="3807000"/>
            <a:ext cx="112680" cy="96840"/>
          </a:xfrm>
          <a:custGeom>
            <a:avLst/>
            <a:gdLst/>
            <a:ahLst/>
            <a:rect l="l" t="t" r="r" b="b"/>
            <a:pathLst>
              <a:path w="71" h="61">
                <a:moveTo>
                  <a:pt x="50" y="5"/>
                </a:moveTo>
                <a:lnTo>
                  <a:pt x="53" y="16"/>
                </a:lnTo>
                <a:lnTo>
                  <a:pt x="50" y="4"/>
                </a:lnTo>
                <a:lnTo>
                  <a:pt x="46" y="9"/>
                </a:lnTo>
                <a:lnTo>
                  <a:pt x="39" y="16"/>
                </a:lnTo>
                <a:lnTo>
                  <a:pt x="28" y="24"/>
                </a:lnTo>
                <a:lnTo>
                  <a:pt x="9" y="37"/>
                </a:lnTo>
                <a:lnTo>
                  <a:pt x="0" y="43"/>
                </a:lnTo>
                <a:lnTo>
                  <a:pt x="13" y="61"/>
                </a:lnTo>
                <a:lnTo>
                  <a:pt x="22" y="55"/>
                </a:lnTo>
                <a:lnTo>
                  <a:pt x="41" y="40"/>
                </a:lnTo>
                <a:lnTo>
                  <a:pt x="53" y="33"/>
                </a:lnTo>
                <a:lnTo>
                  <a:pt x="62" y="25"/>
                </a:lnTo>
                <a:lnTo>
                  <a:pt x="68" y="17"/>
                </a:lnTo>
                <a:lnTo>
                  <a:pt x="68" y="0"/>
                </a:lnTo>
                <a:lnTo>
                  <a:pt x="71" y="9"/>
                </a:lnTo>
                <a:lnTo>
                  <a:pt x="50" y="5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2436840" y="2092320"/>
            <a:ext cx="4951440" cy="2781360"/>
          </a:xfrm>
          <a:custGeom>
            <a:avLst/>
            <a:gdLst/>
            <a:ahLst/>
            <a:rect l="l" t="t" r="r" b="b"/>
            <a:pathLst>
              <a:path w="3119" h="1752">
                <a:moveTo>
                  <a:pt x="0" y="785"/>
                </a:moveTo>
                <a:lnTo>
                  <a:pt x="64" y="794"/>
                </a:lnTo>
                <a:lnTo>
                  <a:pt x="143" y="809"/>
                </a:lnTo>
                <a:lnTo>
                  <a:pt x="211" y="826"/>
                </a:lnTo>
                <a:lnTo>
                  <a:pt x="307" y="839"/>
                </a:lnTo>
                <a:lnTo>
                  <a:pt x="402" y="843"/>
                </a:lnTo>
                <a:lnTo>
                  <a:pt x="516" y="839"/>
                </a:lnTo>
                <a:lnTo>
                  <a:pt x="588" y="836"/>
                </a:lnTo>
                <a:lnTo>
                  <a:pt x="697" y="826"/>
                </a:lnTo>
                <a:lnTo>
                  <a:pt x="791" y="813"/>
                </a:lnTo>
                <a:lnTo>
                  <a:pt x="822" y="808"/>
                </a:lnTo>
                <a:lnTo>
                  <a:pt x="913" y="806"/>
                </a:lnTo>
                <a:lnTo>
                  <a:pt x="985" y="796"/>
                </a:lnTo>
                <a:lnTo>
                  <a:pt x="1028" y="789"/>
                </a:lnTo>
                <a:lnTo>
                  <a:pt x="1105" y="780"/>
                </a:lnTo>
                <a:lnTo>
                  <a:pt x="1175" y="764"/>
                </a:lnTo>
                <a:lnTo>
                  <a:pt x="1257" y="751"/>
                </a:lnTo>
                <a:lnTo>
                  <a:pt x="1335" y="739"/>
                </a:lnTo>
                <a:lnTo>
                  <a:pt x="1413" y="726"/>
                </a:lnTo>
                <a:lnTo>
                  <a:pt x="1442" y="720"/>
                </a:lnTo>
                <a:lnTo>
                  <a:pt x="1525" y="708"/>
                </a:lnTo>
                <a:lnTo>
                  <a:pt x="1574" y="685"/>
                </a:lnTo>
                <a:lnTo>
                  <a:pt x="1641" y="670"/>
                </a:lnTo>
                <a:lnTo>
                  <a:pt x="1708" y="665"/>
                </a:lnTo>
                <a:lnTo>
                  <a:pt x="1775" y="653"/>
                </a:lnTo>
                <a:lnTo>
                  <a:pt x="1863" y="646"/>
                </a:lnTo>
                <a:lnTo>
                  <a:pt x="1965" y="640"/>
                </a:lnTo>
                <a:lnTo>
                  <a:pt x="2014" y="656"/>
                </a:lnTo>
                <a:lnTo>
                  <a:pt x="2076" y="670"/>
                </a:lnTo>
                <a:lnTo>
                  <a:pt x="2158" y="690"/>
                </a:lnTo>
                <a:lnTo>
                  <a:pt x="2236" y="721"/>
                </a:lnTo>
                <a:lnTo>
                  <a:pt x="2286" y="728"/>
                </a:lnTo>
                <a:lnTo>
                  <a:pt x="2341" y="716"/>
                </a:lnTo>
                <a:lnTo>
                  <a:pt x="2439" y="700"/>
                </a:lnTo>
                <a:lnTo>
                  <a:pt x="2482" y="698"/>
                </a:lnTo>
                <a:lnTo>
                  <a:pt x="2558" y="696"/>
                </a:lnTo>
                <a:lnTo>
                  <a:pt x="2594" y="707"/>
                </a:lnTo>
                <a:lnTo>
                  <a:pt x="2623" y="733"/>
                </a:lnTo>
                <a:lnTo>
                  <a:pt x="2651" y="767"/>
                </a:lnTo>
                <a:lnTo>
                  <a:pt x="2663" y="811"/>
                </a:lnTo>
                <a:lnTo>
                  <a:pt x="2685" y="869"/>
                </a:lnTo>
                <a:lnTo>
                  <a:pt x="2698" y="898"/>
                </a:lnTo>
                <a:lnTo>
                  <a:pt x="2701" y="940"/>
                </a:lnTo>
                <a:lnTo>
                  <a:pt x="2697" y="986"/>
                </a:lnTo>
                <a:lnTo>
                  <a:pt x="2693" y="1045"/>
                </a:lnTo>
                <a:lnTo>
                  <a:pt x="2698" y="1098"/>
                </a:lnTo>
                <a:lnTo>
                  <a:pt x="2711" y="1149"/>
                </a:lnTo>
                <a:lnTo>
                  <a:pt x="2736" y="1205"/>
                </a:lnTo>
                <a:lnTo>
                  <a:pt x="2737" y="1226"/>
                </a:lnTo>
                <a:lnTo>
                  <a:pt x="2753" y="1275"/>
                </a:lnTo>
                <a:lnTo>
                  <a:pt x="2770" y="1320"/>
                </a:lnTo>
                <a:lnTo>
                  <a:pt x="2785" y="1360"/>
                </a:lnTo>
                <a:lnTo>
                  <a:pt x="2806" y="1413"/>
                </a:lnTo>
                <a:lnTo>
                  <a:pt x="2828" y="1489"/>
                </a:lnTo>
                <a:lnTo>
                  <a:pt x="2851" y="1541"/>
                </a:lnTo>
                <a:lnTo>
                  <a:pt x="2860" y="1590"/>
                </a:lnTo>
                <a:lnTo>
                  <a:pt x="2871" y="1638"/>
                </a:lnTo>
                <a:lnTo>
                  <a:pt x="2879" y="1684"/>
                </a:lnTo>
                <a:lnTo>
                  <a:pt x="2879" y="1709"/>
                </a:lnTo>
                <a:lnTo>
                  <a:pt x="2879" y="1719"/>
                </a:lnTo>
                <a:lnTo>
                  <a:pt x="2890" y="1736"/>
                </a:lnTo>
                <a:lnTo>
                  <a:pt x="2913" y="1752"/>
                </a:lnTo>
                <a:lnTo>
                  <a:pt x="2940" y="1749"/>
                </a:lnTo>
                <a:lnTo>
                  <a:pt x="2966" y="1719"/>
                </a:lnTo>
                <a:lnTo>
                  <a:pt x="2999" y="1693"/>
                </a:lnTo>
                <a:lnTo>
                  <a:pt x="3025" y="1710"/>
                </a:lnTo>
                <a:lnTo>
                  <a:pt x="3040" y="1718"/>
                </a:lnTo>
                <a:lnTo>
                  <a:pt x="3064" y="1707"/>
                </a:lnTo>
                <a:lnTo>
                  <a:pt x="3089" y="1703"/>
                </a:lnTo>
                <a:lnTo>
                  <a:pt x="3106" y="1687"/>
                </a:lnTo>
                <a:lnTo>
                  <a:pt x="3119" y="1657"/>
                </a:lnTo>
                <a:lnTo>
                  <a:pt x="3102" y="1618"/>
                </a:lnTo>
                <a:lnTo>
                  <a:pt x="3077" y="1589"/>
                </a:lnTo>
                <a:lnTo>
                  <a:pt x="3067" y="1560"/>
                </a:lnTo>
                <a:lnTo>
                  <a:pt x="3056" y="1478"/>
                </a:lnTo>
                <a:lnTo>
                  <a:pt x="3056" y="1438"/>
                </a:lnTo>
                <a:lnTo>
                  <a:pt x="3054" y="1422"/>
                </a:lnTo>
                <a:lnTo>
                  <a:pt x="3027" y="1408"/>
                </a:lnTo>
                <a:lnTo>
                  <a:pt x="3003" y="1360"/>
                </a:lnTo>
                <a:lnTo>
                  <a:pt x="2992" y="1321"/>
                </a:lnTo>
                <a:lnTo>
                  <a:pt x="2990" y="1253"/>
                </a:lnTo>
                <a:lnTo>
                  <a:pt x="2988" y="1214"/>
                </a:lnTo>
                <a:lnTo>
                  <a:pt x="2982" y="1186"/>
                </a:lnTo>
                <a:lnTo>
                  <a:pt x="2953" y="1173"/>
                </a:lnTo>
                <a:lnTo>
                  <a:pt x="2938" y="1158"/>
                </a:lnTo>
                <a:lnTo>
                  <a:pt x="2938" y="1123"/>
                </a:lnTo>
                <a:lnTo>
                  <a:pt x="2913" y="1078"/>
                </a:lnTo>
                <a:lnTo>
                  <a:pt x="2897" y="1042"/>
                </a:lnTo>
                <a:lnTo>
                  <a:pt x="2880" y="998"/>
                </a:lnTo>
                <a:lnTo>
                  <a:pt x="2871" y="980"/>
                </a:lnTo>
                <a:lnTo>
                  <a:pt x="2880" y="955"/>
                </a:lnTo>
                <a:lnTo>
                  <a:pt x="2882" y="921"/>
                </a:lnTo>
                <a:lnTo>
                  <a:pt x="2875" y="893"/>
                </a:lnTo>
                <a:lnTo>
                  <a:pt x="2857" y="804"/>
                </a:lnTo>
                <a:lnTo>
                  <a:pt x="2856" y="767"/>
                </a:lnTo>
                <a:lnTo>
                  <a:pt x="2839" y="731"/>
                </a:lnTo>
                <a:lnTo>
                  <a:pt x="2831" y="712"/>
                </a:lnTo>
                <a:lnTo>
                  <a:pt x="2827" y="672"/>
                </a:lnTo>
                <a:lnTo>
                  <a:pt x="2800" y="634"/>
                </a:lnTo>
                <a:lnTo>
                  <a:pt x="2795" y="614"/>
                </a:lnTo>
                <a:lnTo>
                  <a:pt x="2779" y="579"/>
                </a:lnTo>
                <a:lnTo>
                  <a:pt x="2746" y="570"/>
                </a:lnTo>
                <a:lnTo>
                  <a:pt x="2735" y="539"/>
                </a:lnTo>
                <a:lnTo>
                  <a:pt x="2720" y="480"/>
                </a:lnTo>
                <a:lnTo>
                  <a:pt x="2698" y="437"/>
                </a:lnTo>
                <a:lnTo>
                  <a:pt x="2668" y="407"/>
                </a:lnTo>
                <a:lnTo>
                  <a:pt x="2649" y="388"/>
                </a:lnTo>
                <a:lnTo>
                  <a:pt x="2631" y="363"/>
                </a:lnTo>
                <a:lnTo>
                  <a:pt x="2612" y="344"/>
                </a:lnTo>
                <a:lnTo>
                  <a:pt x="2547" y="320"/>
                </a:lnTo>
                <a:lnTo>
                  <a:pt x="2485" y="298"/>
                </a:lnTo>
                <a:lnTo>
                  <a:pt x="2446" y="289"/>
                </a:lnTo>
                <a:lnTo>
                  <a:pt x="2412" y="281"/>
                </a:lnTo>
                <a:lnTo>
                  <a:pt x="2381" y="275"/>
                </a:lnTo>
                <a:lnTo>
                  <a:pt x="2344" y="267"/>
                </a:lnTo>
                <a:lnTo>
                  <a:pt x="2296" y="253"/>
                </a:lnTo>
                <a:lnTo>
                  <a:pt x="2277" y="241"/>
                </a:lnTo>
                <a:lnTo>
                  <a:pt x="2246" y="234"/>
                </a:lnTo>
                <a:lnTo>
                  <a:pt x="2209" y="229"/>
                </a:lnTo>
                <a:lnTo>
                  <a:pt x="2162" y="220"/>
                </a:lnTo>
                <a:lnTo>
                  <a:pt x="2131" y="210"/>
                </a:lnTo>
                <a:lnTo>
                  <a:pt x="2084" y="211"/>
                </a:lnTo>
                <a:lnTo>
                  <a:pt x="2050" y="210"/>
                </a:lnTo>
                <a:lnTo>
                  <a:pt x="1914" y="263"/>
                </a:lnTo>
                <a:lnTo>
                  <a:pt x="1768" y="263"/>
                </a:lnTo>
                <a:lnTo>
                  <a:pt x="1639" y="245"/>
                </a:lnTo>
                <a:lnTo>
                  <a:pt x="1572" y="227"/>
                </a:lnTo>
                <a:lnTo>
                  <a:pt x="1544" y="242"/>
                </a:lnTo>
                <a:lnTo>
                  <a:pt x="1516" y="253"/>
                </a:lnTo>
                <a:lnTo>
                  <a:pt x="1408" y="260"/>
                </a:lnTo>
                <a:lnTo>
                  <a:pt x="1327" y="242"/>
                </a:lnTo>
                <a:lnTo>
                  <a:pt x="1236" y="190"/>
                </a:lnTo>
                <a:lnTo>
                  <a:pt x="1170" y="133"/>
                </a:lnTo>
                <a:lnTo>
                  <a:pt x="1140" y="111"/>
                </a:lnTo>
                <a:lnTo>
                  <a:pt x="1085" y="96"/>
                </a:lnTo>
                <a:lnTo>
                  <a:pt x="993" y="121"/>
                </a:lnTo>
                <a:lnTo>
                  <a:pt x="939" y="98"/>
                </a:lnTo>
                <a:lnTo>
                  <a:pt x="899" y="120"/>
                </a:lnTo>
                <a:lnTo>
                  <a:pt x="777" y="0"/>
                </a:lnTo>
                <a:lnTo>
                  <a:pt x="510" y="61"/>
                </a:lnTo>
                <a:lnTo>
                  <a:pt x="388" y="85"/>
                </a:lnTo>
                <a:lnTo>
                  <a:pt x="312" y="216"/>
                </a:lnTo>
                <a:lnTo>
                  <a:pt x="280" y="289"/>
                </a:lnTo>
                <a:lnTo>
                  <a:pt x="155" y="526"/>
                </a:lnTo>
                <a:lnTo>
                  <a:pt x="94" y="631"/>
                </a:lnTo>
                <a:lnTo>
                  <a:pt x="33" y="655"/>
                </a:lnTo>
                <a:lnTo>
                  <a:pt x="40" y="679"/>
                </a:lnTo>
                <a:lnTo>
                  <a:pt x="53" y="716"/>
                </a:lnTo>
                <a:lnTo>
                  <a:pt x="26" y="752"/>
                </a:lnTo>
                <a:lnTo>
                  <a:pt x="22" y="757"/>
                </a:lnTo>
                <a:lnTo>
                  <a:pt x="14" y="769"/>
                </a:lnTo>
                <a:lnTo>
                  <a:pt x="5" y="781"/>
                </a:lnTo>
                <a:lnTo>
                  <a:pt x="0" y="785"/>
                </a:lnTo>
                <a:close/>
              </a:path>
            </a:pathLst>
          </a:custGeom>
          <a:solidFill>
            <a:srgbClr val="afd2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3467160" y="2604960"/>
            <a:ext cx="79200" cy="85680"/>
          </a:xfrm>
          <a:prstGeom prst="rect">
            <a:avLst/>
          </a:prstGeom>
          <a:solidFill>
            <a:srgbClr val="da251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3467160" y="2604960"/>
            <a:ext cx="79200" cy="85680"/>
          </a:xfrm>
          <a:prstGeom prst="rect">
            <a:avLst/>
          </a:prstGeom>
          <a:noFill/>
          <a:ln w="1440">
            <a:solidFill>
              <a:srgbClr val="1f1a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5977080" y="3179880"/>
            <a:ext cx="45720" cy="50760"/>
          </a:xfrm>
          <a:prstGeom prst="rect">
            <a:avLst/>
          </a:prstGeom>
          <a:solidFill>
            <a:srgbClr val="da251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977080" y="3179880"/>
            <a:ext cx="45720" cy="50760"/>
          </a:xfrm>
          <a:prstGeom prst="rect">
            <a:avLst/>
          </a:prstGeom>
          <a:noFill/>
          <a:ln w="1440">
            <a:solidFill>
              <a:srgbClr val="1f1a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2746440" y="3389400"/>
            <a:ext cx="52200" cy="54000"/>
          </a:xfrm>
          <a:prstGeom prst="rect">
            <a:avLst/>
          </a:prstGeom>
          <a:solidFill>
            <a:srgbClr val="da251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2746440" y="3389400"/>
            <a:ext cx="52200" cy="54000"/>
          </a:xfrm>
          <a:prstGeom prst="rect">
            <a:avLst/>
          </a:prstGeom>
          <a:noFill/>
          <a:ln w="1440">
            <a:solidFill>
              <a:srgbClr val="1f1a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6932520" y="3635280"/>
            <a:ext cx="79560" cy="87480"/>
          </a:xfrm>
          <a:prstGeom prst="rect">
            <a:avLst/>
          </a:prstGeom>
          <a:solidFill>
            <a:srgbClr val="da251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6932520" y="3635280"/>
            <a:ext cx="79560" cy="87480"/>
          </a:xfrm>
          <a:prstGeom prst="rect">
            <a:avLst/>
          </a:prstGeom>
          <a:noFill/>
          <a:ln w="1440">
            <a:solidFill>
              <a:srgbClr val="1f1a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4192560" y="3211560"/>
            <a:ext cx="77760" cy="87120"/>
          </a:xfrm>
          <a:prstGeom prst="rect">
            <a:avLst/>
          </a:prstGeom>
          <a:solidFill>
            <a:srgbClr val="da251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4192560" y="3211560"/>
            <a:ext cx="77760" cy="87120"/>
          </a:xfrm>
          <a:prstGeom prst="rect">
            <a:avLst/>
          </a:prstGeom>
          <a:noFill/>
          <a:ln w="1440">
            <a:solidFill>
              <a:srgbClr val="1f1a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3859200" y="2227320"/>
            <a:ext cx="47520" cy="50760"/>
          </a:xfrm>
          <a:prstGeom prst="rect">
            <a:avLst/>
          </a:prstGeom>
          <a:solidFill>
            <a:srgbClr val="da251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59200" y="2227320"/>
            <a:ext cx="47520" cy="50760"/>
          </a:xfrm>
          <a:prstGeom prst="rect">
            <a:avLst/>
          </a:prstGeom>
          <a:noFill/>
          <a:ln w="1440">
            <a:solidFill>
              <a:srgbClr val="1f1a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4659480" y="2519280"/>
            <a:ext cx="47520" cy="52560"/>
          </a:xfrm>
          <a:prstGeom prst="rect">
            <a:avLst/>
          </a:prstGeom>
          <a:solidFill>
            <a:srgbClr val="da251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4659480" y="2519280"/>
            <a:ext cx="47520" cy="52560"/>
          </a:xfrm>
          <a:prstGeom prst="rect">
            <a:avLst/>
          </a:prstGeom>
          <a:noFill/>
          <a:ln w="1440">
            <a:solidFill>
              <a:srgbClr val="1f1a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489560" y="2489040"/>
            <a:ext cx="55440" cy="43200"/>
          </a:xfrm>
          <a:custGeom>
            <a:avLst/>
            <a:gdLst/>
            <a:ahLst/>
            <a:rect l="l" t="t" r="r" b="b"/>
            <a:pathLst>
              <a:path w="35" h="27">
                <a:moveTo>
                  <a:pt x="34" y="19"/>
                </a:moveTo>
                <a:lnTo>
                  <a:pt x="28" y="6"/>
                </a:lnTo>
                <a:lnTo>
                  <a:pt x="8" y="0"/>
                </a:lnTo>
                <a:lnTo>
                  <a:pt x="0" y="19"/>
                </a:lnTo>
                <a:lnTo>
                  <a:pt x="18" y="27"/>
                </a:lnTo>
                <a:lnTo>
                  <a:pt x="34" y="19"/>
                </a:lnTo>
                <a:lnTo>
                  <a:pt x="34" y="19"/>
                </a:lnTo>
                <a:lnTo>
                  <a:pt x="35" y="10"/>
                </a:lnTo>
                <a:lnTo>
                  <a:pt x="28" y="6"/>
                </a:lnTo>
                <a:lnTo>
                  <a:pt x="34" y="19"/>
                </a:lnTo>
                <a:close/>
              </a:path>
            </a:pathLst>
          </a:custGeom>
          <a:solidFill>
            <a:srgbClr val="0093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4494240" y="2514600"/>
            <a:ext cx="49320" cy="93600"/>
          </a:xfrm>
          <a:custGeom>
            <a:avLst/>
            <a:gdLst/>
            <a:ahLst/>
            <a:rect l="l" t="t" r="r" b="b"/>
            <a:pathLst>
              <a:path w="31" h="59">
                <a:moveTo>
                  <a:pt x="1" y="59"/>
                </a:moveTo>
                <a:lnTo>
                  <a:pt x="21" y="57"/>
                </a:lnTo>
                <a:lnTo>
                  <a:pt x="31" y="3"/>
                </a:lnTo>
                <a:lnTo>
                  <a:pt x="9" y="0"/>
                </a:lnTo>
                <a:lnTo>
                  <a:pt x="0" y="53"/>
                </a:lnTo>
                <a:lnTo>
                  <a:pt x="1" y="59"/>
                </a:lnTo>
                <a:close/>
              </a:path>
            </a:pathLst>
          </a:custGeom>
          <a:solidFill>
            <a:srgbClr val="0093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4495680" y="2592360"/>
            <a:ext cx="55800" cy="63360"/>
          </a:xfrm>
          <a:custGeom>
            <a:avLst/>
            <a:gdLst/>
            <a:ahLst/>
            <a:rect l="l" t="t" r="r" b="b"/>
            <a:pathLst>
              <a:path w="35" h="40">
                <a:moveTo>
                  <a:pt x="35" y="30"/>
                </a:moveTo>
                <a:lnTo>
                  <a:pt x="16" y="40"/>
                </a:lnTo>
                <a:lnTo>
                  <a:pt x="0" y="10"/>
                </a:lnTo>
                <a:lnTo>
                  <a:pt x="18" y="0"/>
                </a:lnTo>
                <a:lnTo>
                  <a:pt x="35" y="30"/>
                </a:lnTo>
                <a:close/>
              </a:path>
            </a:pathLst>
          </a:custGeom>
          <a:solidFill>
            <a:srgbClr val="0093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4522680" y="2743200"/>
            <a:ext cx="36720" cy="36360"/>
          </a:xfrm>
          <a:custGeom>
            <a:avLst/>
            <a:gdLst/>
            <a:ahLst/>
            <a:rect l="l" t="t" r="r" b="b"/>
            <a:pathLst>
              <a:path w="23" h="23">
                <a:moveTo>
                  <a:pt x="17" y="23"/>
                </a:moveTo>
                <a:lnTo>
                  <a:pt x="21" y="16"/>
                </a:lnTo>
                <a:lnTo>
                  <a:pt x="23" y="4"/>
                </a:lnTo>
                <a:lnTo>
                  <a:pt x="3" y="0"/>
                </a:lnTo>
                <a:lnTo>
                  <a:pt x="0" y="13"/>
                </a:lnTo>
                <a:lnTo>
                  <a:pt x="17" y="23"/>
                </a:lnTo>
                <a:lnTo>
                  <a:pt x="17" y="23"/>
                </a:lnTo>
                <a:lnTo>
                  <a:pt x="21" y="21"/>
                </a:lnTo>
                <a:lnTo>
                  <a:pt x="21" y="16"/>
                </a:lnTo>
                <a:lnTo>
                  <a:pt x="17" y="23"/>
                </a:lnTo>
                <a:close/>
              </a:path>
            </a:pathLst>
          </a:custGeom>
          <a:solidFill>
            <a:srgbClr val="0093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518000" y="2751120"/>
            <a:ext cx="31680" cy="38160"/>
          </a:xfrm>
          <a:custGeom>
            <a:avLst/>
            <a:gdLst/>
            <a:ahLst/>
            <a:rect l="l" t="t" r="r" b="b"/>
            <a:pathLst>
              <a:path w="20" h="24">
                <a:moveTo>
                  <a:pt x="12" y="24"/>
                </a:moveTo>
                <a:lnTo>
                  <a:pt x="0" y="5"/>
                </a:lnTo>
                <a:lnTo>
                  <a:pt x="8" y="0"/>
                </a:lnTo>
                <a:lnTo>
                  <a:pt x="20" y="18"/>
                </a:lnTo>
                <a:lnTo>
                  <a:pt x="12" y="24"/>
                </a:lnTo>
                <a:close/>
              </a:path>
            </a:pathLst>
          </a:custGeom>
          <a:solidFill>
            <a:srgbClr val="0093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4419720" y="2830680"/>
            <a:ext cx="46080" cy="42840"/>
          </a:xfrm>
          <a:custGeom>
            <a:avLst/>
            <a:gdLst/>
            <a:ahLst/>
            <a:rect l="l" t="t" r="r" b="b"/>
            <a:pathLst>
              <a:path w="29" h="27">
                <a:moveTo>
                  <a:pt x="18" y="27"/>
                </a:moveTo>
                <a:lnTo>
                  <a:pt x="18" y="27"/>
                </a:lnTo>
                <a:lnTo>
                  <a:pt x="29" y="11"/>
                </a:lnTo>
                <a:lnTo>
                  <a:pt x="9" y="0"/>
                </a:lnTo>
                <a:lnTo>
                  <a:pt x="0" y="15"/>
                </a:lnTo>
                <a:lnTo>
                  <a:pt x="18" y="27"/>
                </a:lnTo>
                <a:close/>
              </a:path>
            </a:pathLst>
          </a:custGeom>
          <a:solidFill>
            <a:srgbClr val="0093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4376880" y="2854440"/>
            <a:ext cx="71280" cy="81000"/>
          </a:xfrm>
          <a:custGeom>
            <a:avLst/>
            <a:gdLst/>
            <a:ahLst/>
            <a:rect l="l" t="t" r="r" b="b"/>
            <a:pathLst>
              <a:path w="45" h="51">
                <a:moveTo>
                  <a:pt x="0" y="43"/>
                </a:moveTo>
                <a:lnTo>
                  <a:pt x="20" y="51"/>
                </a:lnTo>
                <a:lnTo>
                  <a:pt x="45" y="12"/>
                </a:lnTo>
                <a:lnTo>
                  <a:pt x="27" y="0"/>
                </a:lnTo>
                <a:lnTo>
                  <a:pt x="2" y="39"/>
                </a:lnTo>
                <a:lnTo>
                  <a:pt x="0" y="43"/>
                </a:lnTo>
                <a:close/>
              </a:path>
            </a:pathLst>
          </a:custGeom>
          <a:solidFill>
            <a:srgbClr val="0093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4373640" y="2922480"/>
            <a:ext cx="38160" cy="34920"/>
          </a:xfrm>
          <a:custGeom>
            <a:avLst/>
            <a:gdLst/>
            <a:ahLst/>
            <a:rect l="l" t="t" r="r" b="b"/>
            <a:pathLst>
              <a:path w="24" h="22">
                <a:moveTo>
                  <a:pt x="12" y="22"/>
                </a:moveTo>
                <a:lnTo>
                  <a:pt x="22" y="13"/>
                </a:lnTo>
                <a:lnTo>
                  <a:pt x="24" y="3"/>
                </a:lnTo>
                <a:lnTo>
                  <a:pt x="2" y="0"/>
                </a:lnTo>
                <a:lnTo>
                  <a:pt x="0" y="11"/>
                </a:lnTo>
                <a:lnTo>
                  <a:pt x="12" y="22"/>
                </a:lnTo>
                <a:lnTo>
                  <a:pt x="12" y="22"/>
                </a:lnTo>
                <a:lnTo>
                  <a:pt x="21" y="22"/>
                </a:lnTo>
                <a:lnTo>
                  <a:pt x="22" y="13"/>
                </a:lnTo>
                <a:lnTo>
                  <a:pt x="12" y="22"/>
                </a:lnTo>
                <a:close/>
              </a:path>
            </a:pathLst>
          </a:custGeom>
          <a:solidFill>
            <a:srgbClr val="0093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336920" y="2925720"/>
            <a:ext cx="55800" cy="31680"/>
          </a:xfrm>
          <a:custGeom>
            <a:avLst/>
            <a:gdLst/>
            <a:ahLst/>
            <a:rect l="l" t="t" r="r" b="b"/>
            <a:pathLst>
              <a:path w="35" h="20">
                <a:moveTo>
                  <a:pt x="0" y="10"/>
                </a:moveTo>
                <a:lnTo>
                  <a:pt x="12" y="20"/>
                </a:lnTo>
                <a:lnTo>
                  <a:pt x="35" y="20"/>
                </a:lnTo>
                <a:lnTo>
                  <a:pt x="35" y="0"/>
                </a:lnTo>
                <a:lnTo>
                  <a:pt x="12" y="0"/>
                </a:lnTo>
                <a:lnTo>
                  <a:pt x="0" y="10"/>
                </a:lnTo>
                <a:lnTo>
                  <a:pt x="12" y="0"/>
                </a:lnTo>
                <a:lnTo>
                  <a:pt x="0" y="0"/>
                </a:lnTo>
                <a:lnTo>
                  <a:pt x="0" y="10"/>
                </a:lnTo>
                <a:close/>
              </a:path>
            </a:pathLst>
          </a:custGeom>
          <a:solidFill>
            <a:srgbClr val="0093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336920" y="2941560"/>
            <a:ext cx="34920" cy="15840"/>
          </a:xfrm>
          <a:prstGeom prst="rect">
            <a:avLst/>
          </a:prstGeom>
          <a:solidFill>
            <a:srgbClr val="0093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4302000" y="3046320"/>
            <a:ext cx="39960" cy="33480"/>
          </a:xfrm>
          <a:custGeom>
            <a:avLst/>
            <a:gdLst/>
            <a:ahLst/>
            <a:rect l="l" t="t" r="r" b="b"/>
            <a:pathLst>
              <a:path w="25" h="21">
                <a:moveTo>
                  <a:pt x="18" y="21"/>
                </a:moveTo>
                <a:lnTo>
                  <a:pt x="19" y="20"/>
                </a:lnTo>
                <a:lnTo>
                  <a:pt x="25" y="11"/>
                </a:lnTo>
                <a:lnTo>
                  <a:pt x="5" y="0"/>
                </a:lnTo>
                <a:lnTo>
                  <a:pt x="0" y="9"/>
                </a:lnTo>
                <a:lnTo>
                  <a:pt x="18" y="21"/>
                </a:lnTo>
                <a:close/>
              </a:path>
            </a:pathLst>
          </a:custGeom>
          <a:solidFill>
            <a:srgbClr val="0093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294080" y="3059280"/>
            <a:ext cx="36720" cy="34920"/>
          </a:xfrm>
          <a:custGeom>
            <a:avLst/>
            <a:gdLst/>
            <a:ahLst/>
            <a:rect l="l" t="t" r="r" b="b"/>
            <a:pathLst>
              <a:path w="23" h="22">
                <a:moveTo>
                  <a:pt x="15" y="22"/>
                </a:moveTo>
                <a:lnTo>
                  <a:pt x="0" y="8"/>
                </a:lnTo>
                <a:lnTo>
                  <a:pt x="6" y="0"/>
                </a:lnTo>
                <a:lnTo>
                  <a:pt x="23" y="13"/>
                </a:lnTo>
                <a:lnTo>
                  <a:pt x="15" y="22"/>
                </a:lnTo>
                <a:close/>
              </a:path>
            </a:pathLst>
          </a:custGeom>
          <a:solidFill>
            <a:srgbClr val="0093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4253040" y="3164040"/>
            <a:ext cx="34920" cy="17280"/>
          </a:xfrm>
          <a:custGeom>
            <a:avLst/>
            <a:gdLst/>
            <a:ahLst/>
            <a:rect l="l" t="t" r="r" b="b"/>
            <a:pathLst>
              <a:path w="22" h="11">
                <a:moveTo>
                  <a:pt x="0" y="6"/>
                </a:moveTo>
                <a:lnTo>
                  <a:pt x="20" y="11"/>
                </a:lnTo>
                <a:lnTo>
                  <a:pt x="22" y="8"/>
                </a:lnTo>
                <a:lnTo>
                  <a:pt x="1" y="0"/>
                </a:lnTo>
                <a:lnTo>
                  <a:pt x="1" y="2"/>
                </a:lnTo>
                <a:lnTo>
                  <a:pt x="0" y="6"/>
                </a:lnTo>
                <a:close/>
              </a:path>
            </a:pathLst>
          </a:custGeom>
          <a:solidFill>
            <a:srgbClr val="0093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4249800" y="3173400"/>
            <a:ext cx="38160" cy="42840"/>
          </a:xfrm>
          <a:custGeom>
            <a:avLst/>
            <a:gdLst/>
            <a:ahLst/>
            <a:rect l="l" t="t" r="r" b="b"/>
            <a:pathLst>
              <a:path w="24" h="27">
                <a:moveTo>
                  <a:pt x="0" y="27"/>
                </a:moveTo>
                <a:lnTo>
                  <a:pt x="22" y="27"/>
                </a:lnTo>
                <a:lnTo>
                  <a:pt x="24" y="1"/>
                </a:lnTo>
                <a:lnTo>
                  <a:pt x="2" y="0"/>
                </a:lnTo>
                <a:lnTo>
                  <a:pt x="0" y="26"/>
                </a:lnTo>
                <a:lnTo>
                  <a:pt x="0" y="27"/>
                </a:lnTo>
                <a:close/>
              </a:path>
            </a:pathLst>
          </a:custGeom>
          <a:solidFill>
            <a:srgbClr val="0093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4249800" y="3216240"/>
            <a:ext cx="34920" cy="66600"/>
          </a:xfrm>
          <a:custGeom>
            <a:avLst/>
            <a:gdLst/>
            <a:ahLst/>
            <a:rect l="l" t="t" r="r" b="b"/>
            <a:pathLst>
              <a:path w="22" h="42">
                <a:moveTo>
                  <a:pt x="21" y="42"/>
                </a:moveTo>
                <a:lnTo>
                  <a:pt x="22" y="38"/>
                </a:lnTo>
                <a:lnTo>
                  <a:pt x="22" y="0"/>
                </a:lnTo>
                <a:lnTo>
                  <a:pt x="0" y="0"/>
                </a:lnTo>
                <a:lnTo>
                  <a:pt x="0" y="38"/>
                </a:lnTo>
                <a:lnTo>
                  <a:pt x="21" y="42"/>
                </a:lnTo>
                <a:close/>
              </a:path>
            </a:pathLst>
          </a:custGeom>
          <a:solidFill>
            <a:srgbClr val="0093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32160" y="3271680"/>
            <a:ext cx="50760" cy="73080"/>
          </a:xfrm>
          <a:custGeom>
            <a:avLst/>
            <a:gdLst/>
            <a:ahLst/>
            <a:rect l="l" t="t" r="r" b="b"/>
            <a:pathLst>
              <a:path w="32" h="46">
                <a:moveTo>
                  <a:pt x="2" y="46"/>
                </a:moveTo>
                <a:lnTo>
                  <a:pt x="22" y="42"/>
                </a:lnTo>
                <a:lnTo>
                  <a:pt x="32" y="7"/>
                </a:lnTo>
                <a:lnTo>
                  <a:pt x="13" y="0"/>
                </a:lnTo>
                <a:lnTo>
                  <a:pt x="1" y="35"/>
                </a:lnTo>
                <a:lnTo>
                  <a:pt x="2" y="46"/>
                </a:lnTo>
                <a:lnTo>
                  <a:pt x="1" y="35"/>
                </a:lnTo>
                <a:lnTo>
                  <a:pt x="0" y="40"/>
                </a:lnTo>
                <a:lnTo>
                  <a:pt x="2" y="46"/>
                </a:lnTo>
                <a:close/>
              </a:path>
            </a:pathLst>
          </a:custGeom>
          <a:solidFill>
            <a:srgbClr val="0093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4235400" y="3324240"/>
            <a:ext cx="33480" cy="23760"/>
          </a:xfrm>
          <a:custGeom>
            <a:avLst/>
            <a:gdLst/>
            <a:ahLst/>
            <a:rect l="l" t="t" r="r" b="b"/>
            <a:pathLst>
              <a:path w="21" h="15">
                <a:moveTo>
                  <a:pt x="21" y="4"/>
                </a:moveTo>
                <a:lnTo>
                  <a:pt x="3" y="15"/>
                </a:lnTo>
                <a:lnTo>
                  <a:pt x="0" y="13"/>
                </a:lnTo>
                <a:lnTo>
                  <a:pt x="18" y="0"/>
                </a:lnTo>
                <a:lnTo>
                  <a:pt x="21" y="4"/>
                </a:lnTo>
                <a:close/>
              </a:path>
            </a:pathLst>
          </a:custGeom>
          <a:solidFill>
            <a:srgbClr val="0093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4260960" y="3424320"/>
            <a:ext cx="33120" cy="11160"/>
          </a:xfrm>
          <a:custGeom>
            <a:avLst/>
            <a:gdLst/>
            <a:ahLst/>
            <a:rect l="l" t="t" r="r" b="b"/>
            <a:pathLst>
              <a:path w="21" h="7">
                <a:moveTo>
                  <a:pt x="21" y="7"/>
                </a:moveTo>
                <a:lnTo>
                  <a:pt x="21" y="7"/>
                </a:lnTo>
                <a:lnTo>
                  <a:pt x="0" y="0"/>
                </a:lnTo>
                <a:lnTo>
                  <a:pt x="0" y="0"/>
                </a:lnTo>
                <a:lnTo>
                  <a:pt x="21" y="7"/>
                </a:lnTo>
                <a:close/>
              </a:path>
            </a:pathLst>
          </a:custGeom>
          <a:solidFill>
            <a:srgbClr val="0093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2743200" y="3394080"/>
            <a:ext cx="103320" cy="171360"/>
          </a:xfrm>
          <a:custGeom>
            <a:avLst/>
            <a:gdLst/>
            <a:ahLst/>
            <a:rect l="l" t="t" r="r" b="b"/>
            <a:pathLst>
              <a:path w="65" h="108">
                <a:moveTo>
                  <a:pt x="45" y="0"/>
                </a:moveTo>
                <a:lnTo>
                  <a:pt x="65" y="9"/>
                </a:lnTo>
                <a:lnTo>
                  <a:pt x="19" y="108"/>
                </a:lnTo>
                <a:lnTo>
                  <a:pt x="0" y="99"/>
                </a:lnTo>
                <a:lnTo>
                  <a:pt x="45" y="0"/>
                </a:lnTo>
                <a:close/>
              </a:path>
            </a:pathLst>
          </a:custGeom>
          <a:solidFill>
            <a:srgbClr val="0093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2847960" y="3268800"/>
            <a:ext cx="42840" cy="41040"/>
          </a:xfrm>
          <a:custGeom>
            <a:avLst/>
            <a:gdLst/>
            <a:ahLst/>
            <a:rect l="l" t="t" r="r" b="b"/>
            <a:pathLst>
              <a:path w="27" h="26">
                <a:moveTo>
                  <a:pt x="6" y="0"/>
                </a:moveTo>
                <a:lnTo>
                  <a:pt x="27" y="6"/>
                </a:lnTo>
                <a:lnTo>
                  <a:pt x="21" y="26"/>
                </a:lnTo>
                <a:lnTo>
                  <a:pt x="0" y="19"/>
                </a:lnTo>
                <a:lnTo>
                  <a:pt x="6" y="0"/>
                </a:lnTo>
                <a:close/>
              </a:path>
            </a:pathLst>
          </a:custGeom>
          <a:solidFill>
            <a:srgbClr val="0093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889360" y="3079800"/>
            <a:ext cx="56880" cy="100080"/>
          </a:xfrm>
          <a:custGeom>
            <a:avLst/>
            <a:gdLst/>
            <a:ahLst/>
            <a:rect l="l" t="t" r="r" b="b"/>
            <a:pathLst>
              <a:path w="36" h="63">
                <a:moveTo>
                  <a:pt x="19" y="0"/>
                </a:moveTo>
                <a:lnTo>
                  <a:pt x="17" y="5"/>
                </a:lnTo>
                <a:lnTo>
                  <a:pt x="0" y="56"/>
                </a:lnTo>
                <a:lnTo>
                  <a:pt x="21" y="63"/>
                </a:lnTo>
                <a:lnTo>
                  <a:pt x="36" y="12"/>
                </a:lnTo>
                <a:lnTo>
                  <a:pt x="19" y="0"/>
                </a:lnTo>
                <a:close/>
              </a:path>
            </a:pathLst>
          </a:custGeom>
          <a:solidFill>
            <a:srgbClr val="0093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2919240" y="3025800"/>
            <a:ext cx="92160" cy="81000"/>
          </a:xfrm>
          <a:custGeom>
            <a:avLst/>
            <a:gdLst/>
            <a:ahLst/>
            <a:rect l="l" t="t" r="r" b="b"/>
            <a:pathLst>
              <a:path w="58" h="51">
                <a:moveTo>
                  <a:pt x="45" y="0"/>
                </a:moveTo>
                <a:lnTo>
                  <a:pt x="58" y="17"/>
                </a:lnTo>
                <a:lnTo>
                  <a:pt x="15" y="51"/>
                </a:lnTo>
                <a:lnTo>
                  <a:pt x="0" y="34"/>
                </a:lnTo>
                <a:lnTo>
                  <a:pt x="45" y="0"/>
                </a:lnTo>
                <a:close/>
              </a:path>
            </a:pathLst>
          </a:custGeom>
          <a:solidFill>
            <a:srgbClr val="0093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3073320" y="2946240"/>
            <a:ext cx="42840" cy="43200"/>
          </a:xfrm>
          <a:custGeom>
            <a:avLst/>
            <a:gdLst/>
            <a:ahLst/>
            <a:rect l="l" t="t" r="r" b="b"/>
            <a:pathLst>
              <a:path w="27" h="27">
                <a:moveTo>
                  <a:pt x="14" y="0"/>
                </a:moveTo>
                <a:lnTo>
                  <a:pt x="13" y="0"/>
                </a:lnTo>
                <a:lnTo>
                  <a:pt x="0" y="10"/>
                </a:lnTo>
                <a:lnTo>
                  <a:pt x="13" y="27"/>
                </a:lnTo>
                <a:lnTo>
                  <a:pt x="27" y="16"/>
                </a:lnTo>
                <a:lnTo>
                  <a:pt x="14" y="0"/>
                </a:lnTo>
                <a:close/>
              </a:path>
            </a:pathLst>
          </a:custGeom>
          <a:solidFill>
            <a:srgbClr val="0093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3095640" y="2941560"/>
            <a:ext cx="25560" cy="33480"/>
          </a:xfrm>
          <a:custGeom>
            <a:avLst/>
            <a:gdLst/>
            <a:ahLst/>
            <a:rect l="l" t="t" r="r" b="b"/>
            <a:pathLst>
              <a:path w="16" h="21">
                <a:moveTo>
                  <a:pt x="4" y="0"/>
                </a:moveTo>
                <a:lnTo>
                  <a:pt x="16" y="18"/>
                </a:lnTo>
                <a:lnTo>
                  <a:pt x="12" y="21"/>
                </a:lnTo>
                <a:lnTo>
                  <a:pt x="0" y="3"/>
                </a:lnTo>
                <a:lnTo>
                  <a:pt x="4" y="0"/>
                </a:lnTo>
                <a:close/>
              </a:path>
            </a:pathLst>
          </a:custGeom>
          <a:solidFill>
            <a:srgbClr val="0093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3186000" y="2789280"/>
            <a:ext cx="163800" cy="123840"/>
          </a:xfrm>
          <a:custGeom>
            <a:avLst/>
            <a:gdLst/>
            <a:ahLst/>
            <a:rect l="l" t="t" r="r" b="b"/>
            <a:pathLst>
              <a:path w="103" h="78">
                <a:moveTo>
                  <a:pt x="91" y="0"/>
                </a:moveTo>
                <a:lnTo>
                  <a:pt x="103" y="18"/>
                </a:lnTo>
                <a:lnTo>
                  <a:pt x="12" y="78"/>
                </a:lnTo>
                <a:lnTo>
                  <a:pt x="0" y="60"/>
                </a:lnTo>
                <a:lnTo>
                  <a:pt x="91" y="0"/>
                </a:lnTo>
                <a:close/>
              </a:path>
            </a:pathLst>
          </a:custGeom>
          <a:solidFill>
            <a:srgbClr val="0093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403440" y="2695680"/>
            <a:ext cx="47880" cy="47520"/>
          </a:xfrm>
          <a:custGeom>
            <a:avLst/>
            <a:gdLst/>
            <a:ahLst/>
            <a:rect l="l" t="t" r="r" b="b"/>
            <a:pathLst>
              <a:path w="30" h="30">
                <a:moveTo>
                  <a:pt x="15" y="0"/>
                </a:moveTo>
                <a:lnTo>
                  <a:pt x="30" y="16"/>
                </a:lnTo>
                <a:lnTo>
                  <a:pt x="14" y="30"/>
                </a:lnTo>
                <a:lnTo>
                  <a:pt x="0" y="14"/>
                </a:lnTo>
                <a:lnTo>
                  <a:pt x="15" y="0"/>
                </a:lnTo>
                <a:close/>
              </a:path>
            </a:pathLst>
          </a:custGeom>
          <a:solidFill>
            <a:srgbClr val="0093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502080" y="2529000"/>
            <a:ext cx="120600" cy="118800"/>
          </a:xfrm>
          <a:custGeom>
            <a:avLst/>
            <a:gdLst/>
            <a:ahLst/>
            <a:rect l="l" t="t" r="r" b="b"/>
            <a:pathLst>
              <a:path w="76" h="75">
                <a:moveTo>
                  <a:pt x="76" y="15"/>
                </a:moveTo>
                <a:lnTo>
                  <a:pt x="60" y="0"/>
                </a:lnTo>
                <a:lnTo>
                  <a:pt x="0" y="60"/>
                </a:lnTo>
                <a:lnTo>
                  <a:pt x="16" y="75"/>
                </a:lnTo>
                <a:lnTo>
                  <a:pt x="76" y="15"/>
                </a:lnTo>
                <a:lnTo>
                  <a:pt x="76" y="15"/>
                </a:lnTo>
                <a:close/>
              </a:path>
            </a:pathLst>
          </a:custGeom>
          <a:solidFill>
            <a:srgbClr val="0093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595680" y="2502000"/>
            <a:ext cx="50760" cy="50760"/>
          </a:xfrm>
          <a:custGeom>
            <a:avLst/>
            <a:gdLst/>
            <a:ahLst/>
            <a:rect l="l" t="t" r="r" b="b"/>
            <a:pathLst>
              <a:path w="32" h="32">
                <a:moveTo>
                  <a:pt x="15" y="0"/>
                </a:moveTo>
                <a:lnTo>
                  <a:pt x="32" y="14"/>
                </a:lnTo>
                <a:lnTo>
                  <a:pt x="17" y="32"/>
                </a:lnTo>
                <a:lnTo>
                  <a:pt x="0" y="18"/>
                </a:lnTo>
                <a:lnTo>
                  <a:pt x="15" y="0"/>
                </a:lnTo>
                <a:close/>
              </a:path>
            </a:pathLst>
          </a:custGeom>
          <a:solidFill>
            <a:srgbClr val="0093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3687840" y="2395440"/>
            <a:ext cx="47520" cy="50760"/>
          </a:xfrm>
          <a:custGeom>
            <a:avLst/>
            <a:gdLst/>
            <a:ahLst/>
            <a:rect l="l" t="t" r="r" b="b"/>
            <a:pathLst>
              <a:path w="30" h="32">
                <a:moveTo>
                  <a:pt x="15" y="0"/>
                </a:moveTo>
                <a:lnTo>
                  <a:pt x="30" y="15"/>
                </a:lnTo>
                <a:lnTo>
                  <a:pt x="17" y="32"/>
                </a:lnTo>
                <a:lnTo>
                  <a:pt x="0" y="17"/>
                </a:lnTo>
                <a:lnTo>
                  <a:pt x="15" y="0"/>
                </a:lnTo>
                <a:close/>
              </a:path>
            </a:pathLst>
          </a:custGeom>
          <a:solidFill>
            <a:srgbClr val="0093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773520" y="2278080"/>
            <a:ext cx="55440" cy="58680"/>
          </a:xfrm>
          <a:custGeom>
            <a:avLst/>
            <a:gdLst/>
            <a:ahLst/>
            <a:rect l="l" t="t" r="r" b="b"/>
            <a:pathLst>
              <a:path w="35" h="37">
                <a:moveTo>
                  <a:pt x="17" y="0"/>
                </a:moveTo>
                <a:lnTo>
                  <a:pt x="0" y="24"/>
                </a:lnTo>
                <a:lnTo>
                  <a:pt x="18" y="37"/>
                </a:lnTo>
                <a:lnTo>
                  <a:pt x="35" y="13"/>
                </a:lnTo>
                <a:lnTo>
                  <a:pt x="17" y="0"/>
                </a:lnTo>
                <a:close/>
              </a:path>
            </a:pathLst>
          </a:custGeom>
          <a:solidFill>
            <a:srgbClr val="0093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587400" y="2519280"/>
            <a:ext cx="5752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1f1a17"/>
                </a:solidFill>
                <a:latin typeface="AvantGarde Bk BT"/>
              </a:rPr>
              <a:t>Mossoró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2563560" y="3189240"/>
            <a:ext cx="311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1f1a17"/>
                </a:solidFill>
                <a:latin typeface="AvantGarde Bk BT"/>
              </a:rPr>
              <a:t>Apod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663800" y="2286000"/>
            <a:ext cx="357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f1a17"/>
                </a:solidFill>
                <a:latin typeface="AvantGarde Bk BT"/>
              </a:rPr>
              <a:t>Maca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5731200" y="3344760"/>
            <a:ext cx="680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f1a17"/>
                </a:solidFill>
                <a:latin typeface="AvantGarde Bk BT"/>
              </a:rPr>
              <a:t>João Câmar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4052880" y="3009960"/>
            <a:ext cx="198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1f1a17"/>
                </a:solidFill>
                <a:latin typeface="AvantGarde Bk BT"/>
              </a:rPr>
              <a:t>Açú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731760" y="1984320"/>
            <a:ext cx="6836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f1a17"/>
                </a:solidFill>
                <a:latin typeface="AvantGarde Bk BT"/>
              </a:rPr>
              <a:t>Areia Branc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2632320" y="1817640"/>
            <a:ext cx="6285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1f1a17"/>
                </a:solidFill>
                <a:latin typeface="AvantGarde Bk BT"/>
              </a:rPr>
              <a:t>Barauna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7169760" y="3521160"/>
            <a:ext cx="285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f1a17"/>
                </a:solidFill>
                <a:latin typeface="AvantGarde Bk BT"/>
              </a:rPr>
              <a:t>Nat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 rot="18480000">
            <a:off x="3062880" y="3160080"/>
            <a:ext cx="723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f1a17"/>
                </a:solidFill>
                <a:latin typeface="AvantGarde Bk BT"/>
              </a:rPr>
              <a:t>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 rot="18480000">
            <a:off x="3114360" y="3124440"/>
            <a:ext cx="29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f1a17"/>
                </a:solidFill>
                <a:latin typeface="AvantGarde Bk BT"/>
              </a:rPr>
              <a:t>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 rot="18480000">
            <a:off x="3123000" y="3085560"/>
            <a:ext cx="69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f1a17"/>
                </a:solidFill>
                <a:latin typeface="AvantGarde Bk BT"/>
              </a:rPr>
              <a:t>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 rot="18480000">
            <a:off x="3175560" y="3044160"/>
            <a:ext cx="313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f1a17"/>
                </a:solidFill>
                <a:latin typeface="AvantGarde Bk BT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 rot="18480000">
            <a:off x="3196080" y="3017160"/>
            <a:ext cx="313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f1a17"/>
                </a:solidFill>
                <a:latin typeface="AvantGarde Bk BT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rot="18480000">
            <a:off x="3208320" y="2975040"/>
            <a:ext cx="73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f1a17"/>
                </a:solidFill>
                <a:latin typeface="AvantGarde Bk BT"/>
              </a:rPr>
              <a:t>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 rot="18480000">
            <a:off x="3253680" y="2918160"/>
            <a:ext cx="70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f1a17"/>
                </a:solidFill>
                <a:latin typeface="AvantGarde Bk BT"/>
              </a:rPr>
              <a:t>p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rot="18480000">
            <a:off x="3300480" y="2857320"/>
            <a:ext cx="69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f1a17"/>
                </a:solidFill>
                <a:latin typeface="AvantGarde Bk BT"/>
              </a:rPr>
              <a:t>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 rot="18480000">
            <a:off x="3345840" y="2802600"/>
            <a:ext cx="70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f1a17"/>
                </a:solidFill>
                <a:latin typeface="AvantGarde Bk BT"/>
              </a:rPr>
              <a:t>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rot="18480000">
            <a:off x="3400560" y="2762280"/>
            <a:ext cx="29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f1a17"/>
                </a:solidFill>
                <a:latin typeface="AvantGarde Bk BT"/>
              </a:rPr>
              <a:t>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 rot="18000000">
            <a:off x="4404240" y="3021840"/>
            <a:ext cx="723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f1a17"/>
                </a:solidFill>
                <a:latin typeface="AvantGarde Bk BT"/>
              </a:rPr>
              <a:t>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 rot="18000000">
            <a:off x="4447800" y="2984760"/>
            <a:ext cx="29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f1a17"/>
                </a:solidFill>
                <a:latin typeface="AvantGarde Bk BT"/>
              </a:rPr>
              <a:t>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 rot="18000000">
            <a:off x="4453560" y="2943000"/>
            <a:ext cx="69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f1a17"/>
                </a:solidFill>
                <a:latin typeface="AvantGarde Bk BT"/>
              </a:rPr>
              <a:t>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 rot="18000000">
            <a:off x="4499280" y="2895480"/>
            <a:ext cx="313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f1a17"/>
                </a:solidFill>
                <a:latin typeface="AvantGarde Bk BT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8000000">
            <a:off x="4505400" y="2851200"/>
            <a:ext cx="73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f1a17"/>
                </a:solidFill>
                <a:latin typeface="AvantGarde Bk BT"/>
              </a:rPr>
              <a:t>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 rot="18000000">
            <a:off x="4550760" y="2788920"/>
            <a:ext cx="554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f1a17"/>
                </a:solidFill>
                <a:latin typeface="AvantGarde Bk BT"/>
              </a:rPr>
              <a:t>ç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 rot="18000000">
            <a:off x="4579560" y="2729880"/>
            <a:ext cx="70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f1a17"/>
                </a:solidFill>
                <a:latin typeface="AvantGarde Bk BT"/>
              </a:rPr>
              <a:t>ú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027240" y="2414520"/>
            <a:ext cx="52560" cy="55800"/>
          </a:xfrm>
          <a:prstGeom prst="rect">
            <a:avLst/>
          </a:prstGeom>
          <a:solidFill>
            <a:srgbClr val="da251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027240" y="2414520"/>
            <a:ext cx="52560" cy="55800"/>
          </a:xfrm>
          <a:prstGeom prst="rect">
            <a:avLst/>
          </a:prstGeom>
          <a:noFill/>
          <a:ln w="1440">
            <a:solidFill>
              <a:srgbClr val="1f1a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814480" y="2360520"/>
            <a:ext cx="158760" cy="236520"/>
          </a:xfrm>
          <a:custGeom>
            <a:avLst/>
            <a:gdLst/>
            <a:ahLst/>
            <a:rect l="l" t="t" r="r" b="b"/>
            <a:pathLst>
              <a:path w="100" h="149">
                <a:moveTo>
                  <a:pt x="76" y="0"/>
                </a:moveTo>
                <a:lnTo>
                  <a:pt x="0" y="149"/>
                </a:lnTo>
                <a:lnTo>
                  <a:pt x="25" y="149"/>
                </a:lnTo>
                <a:lnTo>
                  <a:pt x="100" y="0"/>
                </a:lnTo>
                <a:lnTo>
                  <a:pt x="76" y="0"/>
                </a:lnTo>
                <a:close/>
              </a:path>
            </a:pathLst>
          </a:custGeom>
          <a:solidFill>
            <a:srgbClr val="5c4b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7" name=""/>
          <p:cNvGrpSpPr/>
          <p:nvPr/>
        </p:nvGrpSpPr>
        <p:grpSpPr>
          <a:xfrm>
            <a:off x="2771640" y="2349360"/>
            <a:ext cx="417600" cy="236520"/>
            <a:chOff x="2771640" y="2349360"/>
            <a:chExt cx="417600" cy="236520"/>
          </a:xfrm>
        </p:grpSpPr>
        <p:sp>
          <p:nvSpPr>
            <p:cNvPr id="438" name=""/>
            <p:cNvSpPr/>
            <p:nvPr/>
          </p:nvSpPr>
          <p:spPr>
            <a:xfrm>
              <a:off x="2771640" y="2349360"/>
              <a:ext cx="417600" cy="236520"/>
            </a:xfrm>
            <a:prstGeom prst="rect">
              <a:avLst/>
            </a:prstGeom>
            <a:solidFill>
              <a:srgbClr val="ebb3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838240" y="2349360"/>
              <a:ext cx="351000" cy="236520"/>
            </a:xfrm>
            <a:custGeom>
              <a:avLst/>
              <a:gdLst/>
              <a:ahLst/>
              <a:rect l="l" t="t" r="r" b="b"/>
              <a:pathLst>
                <a:path w="221" h="149">
                  <a:moveTo>
                    <a:pt x="76" y="0"/>
                  </a:moveTo>
                  <a:lnTo>
                    <a:pt x="48" y="47"/>
                  </a:lnTo>
                  <a:lnTo>
                    <a:pt x="16" y="120"/>
                  </a:lnTo>
                  <a:lnTo>
                    <a:pt x="0" y="149"/>
                  </a:lnTo>
                  <a:lnTo>
                    <a:pt x="221" y="149"/>
                  </a:lnTo>
                  <a:lnTo>
                    <a:pt x="221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9ad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0" name=""/>
          <p:cNvSpPr/>
          <p:nvPr/>
        </p:nvSpPr>
        <p:spPr>
          <a:xfrm>
            <a:off x="3027240" y="2414520"/>
            <a:ext cx="52560" cy="55800"/>
          </a:xfrm>
          <a:prstGeom prst="rect">
            <a:avLst/>
          </a:prstGeom>
          <a:solidFill>
            <a:srgbClr val="da24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027240" y="2414520"/>
            <a:ext cx="52560" cy="55800"/>
          </a:xfrm>
          <a:prstGeom prst="rect">
            <a:avLst/>
          </a:prstGeom>
          <a:noFill/>
          <a:ln w="1440">
            <a:solidFill>
              <a:srgbClr val="5c4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3110040" y="2360520"/>
            <a:ext cx="31680" cy="23760"/>
          </a:xfrm>
          <a:custGeom>
            <a:avLst/>
            <a:gdLst/>
            <a:ahLst/>
            <a:rect l="l" t="t" r="r" b="b"/>
            <a:pathLst>
              <a:path w="20" h="15">
                <a:moveTo>
                  <a:pt x="9" y="15"/>
                </a:moveTo>
                <a:lnTo>
                  <a:pt x="20" y="0"/>
                </a:lnTo>
                <a:lnTo>
                  <a:pt x="7" y="0"/>
                </a:lnTo>
                <a:lnTo>
                  <a:pt x="0" y="8"/>
                </a:lnTo>
                <a:lnTo>
                  <a:pt x="9" y="15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100320" y="2360520"/>
            <a:ext cx="85680" cy="34920"/>
          </a:xfrm>
          <a:custGeom>
            <a:avLst/>
            <a:gdLst/>
            <a:ahLst/>
            <a:rect l="l" t="t" r="r" b="b"/>
            <a:pathLst>
              <a:path w="54" h="22">
                <a:moveTo>
                  <a:pt x="0" y="17"/>
                </a:moveTo>
                <a:lnTo>
                  <a:pt x="7" y="22"/>
                </a:lnTo>
                <a:lnTo>
                  <a:pt x="54" y="6"/>
                </a:lnTo>
                <a:lnTo>
                  <a:pt x="53" y="0"/>
                </a:lnTo>
                <a:lnTo>
                  <a:pt x="39" y="0"/>
                </a:lnTo>
                <a:lnTo>
                  <a:pt x="4" y="13"/>
                </a:lnTo>
                <a:lnTo>
                  <a:pt x="10" y="19"/>
                </a:lnTo>
                <a:lnTo>
                  <a:pt x="0" y="17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3100320" y="2387520"/>
            <a:ext cx="11160" cy="14400"/>
          </a:xfrm>
          <a:custGeom>
            <a:avLst/>
            <a:gdLst/>
            <a:ahLst/>
            <a:rect l="l" t="t" r="r" b="b"/>
            <a:pathLst>
              <a:path w="7" h="9">
                <a:moveTo>
                  <a:pt x="0" y="0"/>
                </a:moveTo>
                <a:lnTo>
                  <a:pt x="0" y="9"/>
                </a:lnTo>
                <a:lnTo>
                  <a:pt x="7" y="5"/>
                </a:lnTo>
                <a:lnTo>
                  <a:pt x="0" y="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3100320" y="2360520"/>
            <a:ext cx="17640" cy="30240"/>
          </a:xfrm>
          <a:custGeom>
            <a:avLst/>
            <a:gdLst/>
            <a:ahLst/>
            <a:rect l="l" t="t" r="r" b="b"/>
            <a:pathLst>
              <a:path w="11" h="19">
                <a:moveTo>
                  <a:pt x="1" y="0"/>
                </a:moveTo>
                <a:lnTo>
                  <a:pt x="0" y="17"/>
                </a:lnTo>
                <a:lnTo>
                  <a:pt x="10" y="19"/>
                </a:lnTo>
                <a:lnTo>
                  <a:pt x="11" y="0"/>
                </a:lnTo>
                <a:lnTo>
                  <a:pt x="1" y="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997360" y="1955880"/>
            <a:ext cx="223560" cy="301680"/>
          </a:xfrm>
          <a:custGeom>
            <a:avLst/>
            <a:gdLst/>
            <a:ahLst/>
            <a:rect l="l" t="t" r="r" b="b"/>
            <a:pathLst>
              <a:path w="141" h="190">
                <a:moveTo>
                  <a:pt x="139" y="190"/>
                </a:moveTo>
                <a:lnTo>
                  <a:pt x="139" y="184"/>
                </a:lnTo>
                <a:lnTo>
                  <a:pt x="9" y="0"/>
                </a:lnTo>
                <a:lnTo>
                  <a:pt x="0" y="7"/>
                </a:lnTo>
                <a:lnTo>
                  <a:pt x="130" y="190"/>
                </a:lnTo>
                <a:lnTo>
                  <a:pt x="139" y="190"/>
                </a:lnTo>
                <a:lnTo>
                  <a:pt x="139" y="190"/>
                </a:lnTo>
                <a:lnTo>
                  <a:pt x="141" y="188"/>
                </a:lnTo>
                <a:lnTo>
                  <a:pt x="139" y="184"/>
                </a:lnTo>
                <a:lnTo>
                  <a:pt x="139" y="19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3110040" y="2247840"/>
            <a:ext cx="108000" cy="136440"/>
          </a:xfrm>
          <a:custGeom>
            <a:avLst/>
            <a:gdLst/>
            <a:ahLst/>
            <a:rect l="l" t="t" r="r" b="b"/>
            <a:pathLst>
              <a:path w="68" h="86">
                <a:moveTo>
                  <a:pt x="9" y="86"/>
                </a:moveTo>
                <a:lnTo>
                  <a:pt x="68" y="6"/>
                </a:lnTo>
                <a:lnTo>
                  <a:pt x="59" y="0"/>
                </a:lnTo>
                <a:lnTo>
                  <a:pt x="0" y="79"/>
                </a:lnTo>
                <a:lnTo>
                  <a:pt x="9" y="86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3100320" y="2352600"/>
            <a:ext cx="85680" cy="42840"/>
          </a:xfrm>
          <a:custGeom>
            <a:avLst/>
            <a:gdLst/>
            <a:ahLst/>
            <a:rect l="l" t="t" r="r" b="b"/>
            <a:pathLst>
              <a:path w="54" h="27">
                <a:moveTo>
                  <a:pt x="0" y="22"/>
                </a:moveTo>
                <a:lnTo>
                  <a:pt x="7" y="27"/>
                </a:lnTo>
                <a:lnTo>
                  <a:pt x="54" y="11"/>
                </a:lnTo>
                <a:lnTo>
                  <a:pt x="52" y="0"/>
                </a:lnTo>
                <a:lnTo>
                  <a:pt x="4" y="18"/>
                </a:lnTo>
                <a:lnTo>
                  <a:pt x="10" y="24"/>
                </a:lnTo>
                <a:lnTo>
                  <a:pt x="0" y="22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3100320" y="2387520"/>
            <a:ext cx="11160" cy="14400"/>
          </a:xfrm>
          <a:custGeom>
            <a:avLst/>
            <a:gdLst/>
            <a:ahLst/>
            <a:rect l="l" t="t" r="r" b="b"/>
            <a:pathLst>
              <a:path w="7" h="9">
                <a:moveTo>
                  <a:pt x="0" y="0"/>
                </a:moveTo>
                <a:lnTo>
                  <a:pt x="0" y="9"/>
                </a:lnTo>
                <a:lnTo>
                  <a:pt x="7" y="5"/>
                </a:lnTo>
                <a:lnTo>
                  <a:pt x="0" y="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100320" y="2306520"/>
            <a:ext cx="22320" cy="84240"/>
          </a:xfrm>
          <a:custGeom>
            <a:avLst/>
            <a:gdLst/>
            <a:ahLst/>
            <a:rect l="l" t="t" r="r" b="b"/>
            <a:pathLst>
              <a:path w="14" h="53">
                <a:moveTo>
                  <a:pt x="9" y="0"/>
                </a:moveTo>
                <a:lnTo>
                  <a:pt x="4" y="0"/>
                </a:lnTo>
                <a:lnTo>
                  <a:pt x="0" y="51"/>
                </a:lnTo>
                <a:lnTo>
                  <a:pt x="10" y="53"/>
                </a:lnTo>
                <a:lnTo>
                  <a:pt x="14" y="2"/>
                </a:lnTo>
                <a:lnTo>
                  <a:pt x="9" y="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 rot="18120000">
            <a:off x="1860480" y="3119400"/>
            <a:ext cx="128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1a17"/>
                </a:solidFill>
                <a:latin typeface="AvantGarde Bk BT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 rot="18120000">
            <a:off x="1958400" y="3027600"/>
            <a:ext cx="54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1a17"/>
                </a:solidFill>
                <a:latin typeface="AvantGarde Bk B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 rot="18120000">
            <a:off x="1988640" y="2978280"/>
            <a:ext cx="54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1a17"/>
                </a:solidFill>
                <a:latin typeface="AvantGarde Bk B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 rot="18120000">
            <a:off x="2020320" y="2928960"/>
            <a:ext cx="54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1a17"/>
                </a:solidFill>
                <a:latin typeface="AvantGarde Bk B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 rot="18120000">
            <a:off x="2034000" y="28641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1a17"/>
                </a:solidFill>
                <a:latin typeface="AvantGarde Bk BT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 rot="18120000">
            <a:off x="2110680" y="2792520"/>
            <a:ext cx="54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1a17"/>
                </a:solidFill>
                <a:latin typeface="AvantGarde Bk B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 rot="18120000">
            <a:off x="2140920" y="2745000"/>
            <a:ext cx="54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1a17"/>
                </a:solidFill>
                <a:latin typeface="AvantGarde Bk B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 rot="18120000">
            <a:off x="2174400" y="2695680"/>
            <a:ext cx="54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1a17"/>
                </a:solidFill>
                <a:latin typeface="AvantGarde Bk B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rot="18120000">
            <a:off x="2182320" y="2619000"/>
            <a:ext cx="130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1a17"/>
                </a:solidFill>
                <a:latin typeface="AvantGarde Bk BT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rot="18120000">
            <a:off x="2271240" y="2543400"/>
            <a:ext cx="54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1a17"/>
                </a:solidFill>
                <a:latin typeface="AvantGarde Bk B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rot="18120000">
            <a:off x="2304360" y="2492280"/>
            <a:ext cx="54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1a17"/>
                </a:solidFill>
                <a:latin typeface="AvantGarde Bk B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 rot="18120000">
            <a:off x="2334600" y="2443320"/>
            <a:ext cx="54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1a17"/>
                </a:solidFill>
                <a:latin typeface="AvantGarde Bk B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rot="18120000">
            <a:off x="2345760" y="2372040"/>
            <a:ext cx="127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1a17"/>
                </a:solidFill>
                <a:latin typeface="AvantGarde Bk BT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8120000">
            <a:off x="2428200" y="2298600"/>
            <a:ext cx="54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1a17"/>
                </a:solidFill>
                <a:latin typeface="AvantGarde Bk B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 rot="18120000">
            <a:off x="2461680" y="2249640"/>
            <a:ext cx="54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1a17"/>
                </a:solidFill>
                <a:latin typeface="AvantGarde Bk B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 rot="18120000">
            <a:off x="2491920" y="2201760"/>
            <a:ext cx="54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1a17"/>
                </a:solidFill>
                <a:latin typeface="AvantGarde Bk B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 rot="18120000">
            <a:off x="2501280" y="2125440"/>
            <a:ext cx="130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1a17"/>
                </a:solidFill>
                <a:latin typeface="AvantGarde Bk BT"/>
              </a:rPr>
              <a:t>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3467880" y="5749920"/>
            <a:ext cx="1797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1a17"/>
                </a:solidFill>
                <a:latin typeface="AvantGarde Bk BT"/>
              </a:rPr>
              <a:t>P   A   R   A   I   B   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042920" y="0"/>
            <a:ext cx="779328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99"/>
                </a:solidFill>
                <a:latin typeface="Tahoma"/>
              </a:rPr>
              <a:t>BARAUNAS – RN</a:t>
            </a:r>
            <a:br>
              <a:rPr sz="2400"/>
            </a:br>
            <a:r>
              <a:rPr b="0" lang="pt-BR" sz="2400" spc="-1" strike="noStrike">
                <a:solidFill>
                  <a:srgbClr val="333399"/>
                </a:solidFill>
                <a:latin typeface="Tahoma"/>
              </a:rPr>
              <a:t>Aquífero Jandaíra – Área Estudada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470" name="" descr=""/>
          <p:cNvPicPr/>
          <p:nvPr/>
        </p:nvPicPr>
        <p:blipFill>
          <a:blip r:embed="rId1"/>
          <a:stretch/>
        </p:blipFill>
        <p:spPr>
          <a:xfrm>
            <a:off x="1116000" y="1700280"/>
            <a:ext cx="67327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1350720" y="259920"/>
            <a:ext cx="779292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99"/>
                </a:solidFill>
                <a:latin typeface="Tahoma"/>
              </a:rPr>
              <a:t>BARAUNAS – RN</a:t>
            </a:r>
            <a:br>
              <a:rPr sz="2400"/>
            </a:br>
            <a:r>
              <a:rPr b="0" lang="pt-BR" sz="2400" spc="-1" strike="noStrike">
                <a:solidFill>
                  <a:srgbClr val="333399"/>
                </a:solidFill>
                <a:latin typeface="Tahoma"/>
              </a:rPr>
              <a:t>Aquífero Jandaíra – Serviços Realizados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Pró-Água, SDP nº 004/2003  -  Acordo de Empréstimo 4310-B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Área de 600 km</a:t>
            </a:r>
            <a:r>
              <a:rPr b="0" lang="pt-BR" sz="20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Geofísica (Eletroresistividad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51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186 km de perfis (11/12/03 – 24/01/04):   45 dia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Nivelamento de Poç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51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300 poços nivelados (06/01/04 – 06/04/04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"/>
          <p:cNvSpPr/>
          <p:nvPr/>
        </p:nvSpPr>
        <p:spPr>
          <a:xfrm>
            <a:off x="1403280" y="1557360"/>
            <a:ext cx="61340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55000"/>
              </a:lnSpc>
              <a:spcBef>
                <a:spcPts val="11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ndagem Elétrica (Exploração Vertic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55000"/>
              </a:lnSpc>
              <a:spcBef>
                <a:spcPts val="11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il Lateral (Exploração Horizon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4" name="" descr=""/>
          <p:cNvPicPr/>
          <p:nvPr/>
        </p:nvPicPr>
        <p:blipFill>
          <a:blip r:embed="rId1"/>
          <a:stretch/>
        </p:blipFill>
        <p:spPr>
          <a:xfrm>
            <a:off x="1116000" y="2492280"/>
            <a:ext cx="6408720" cy="2949840"/>
          </a:xfrm>
          <a:prstGeom prst="rect">
            <a:avLst/>
          </a:prstGeom>
          <a:ln w="0">
            <a:noFill/>
          </a:ln>
        </p:spPr>
      </p:pic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350720" y="259920"/>
            <a:ext cx="779292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99"/>
                </a:solidFill>
                <a:latin typeface="Tahoma"/>
              </a:rPr>
              <a:t>BARAUNAS – RN</a:t>
            </a:r>
            <a:br>
              <a:rPr sz="2400"/>
            </a:br>
            <a:r>
              <a:rPr b="0" lang="pt-BR" sz="2400" spc="-1" strike="noStrike">
                <a:solidFill>
                  <a:srgbClr val="333399"/>
                </a:solidFill>
                <a:latin typeface="Tahoma"/>
              </a:rPr>
              <a:t>Aquífero Jandaíra – Serviços Realizados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350720" y="259920"/>
            <a:ext cx="779292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99"/>
                </a:solidFill>
                <a:latin typeface="Tahoma"/>
              </a:rPr>
              <a:t>BARAUNAS – RN</a:t>
            </a:r>
            <a:br>
              <a:rPr sz="2400"/>
            </a:br>
            <a:r>
              <a:rPr b="0" lang="pt-BR" sz="2400" spc="-1" strike="noStrike">
                <a:solidFill>
                  <a:srgbClr val="333399"/>
                </a:solidFill>
                <a:latin typeface="Tahoma"/>
              </a:rPr>
              <a:t>Aquífero Jandaíra – Medições Elétricas Realizadas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477" name=""/>
          <p:cNvGrpSpPr/>
          <p:nvPr/>
        </p:nvGrpSpPr>
        <p:grpSpPr>
          <a:xfrm>
            <a:off x="3000240" y="2058840"/>
            <a:ext cx="3848400" cy="1976760"/>
            <a:chOff x="3000240" y="2058840"/>
            <a:chExt cx="3848400" cy="1976760"/>
          </a:xfrm>
        </p:grpSpPr>
        <p:sp>
          <p:nvSpPr>
            <p:cNvPr id="478" name=""/>
            <p:cNvSpPr/>
            <p:nvPr/>
          </p:nvSpPr>
          <p:spPr>
            <a:xfrm>
              <a:off x="6810480" y="399744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6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6783480" y="3984480"/>
              <a:ext cx="39600" cy="3816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17" y="0"/>
                  </a:moveTo>
                  <a:lnTo>
                    <a:pt x="17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9" y="16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6757920" y="3959280"/>
              <a:ext cx="39600" cy="50760"/>
            </a:xfrm>
            <a:custGeom>
              <a:avLst/>
              <a:gdLst/>
              <a:ahLst/>
              <a:rect l="l" t="t" r="r" b="b"/>
              <a:pathLst>
                <a:path w="25" h="32">
                  <a:moveTo>
                    <a:pt x="16" y="0"/>
                  </a:moveTo>
                  <a:lnTo>
                    <a:pt x="16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6732720" y="3946680"/>
              <a:ext cx="50760" cy="3780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16" y="0"/>
                  </a:move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6719760" y="393372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6694560" y="3908520"/>
              <a:ext cx="38160" cy="50760"/>
            </a:xfrm>
            <a:custGeom>
              <a:avLst/>
              <a:gdLst/>
              <a:ahLst/>
              <a:rect l="l" t="t" r="r" b="b"/>
              <a:pathLst>
                <a:path w="24" h="32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6669000" y="389556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6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6618240" y="3857760"/>
              <a:ext cx="50760" cy="3780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16" y="0"/>
                  </a:move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6605640" y="384480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6580080" y="3819600"/>
              <a:ext cx="38160" cy="50760"/>
            </a:xfrm>
            <a:custGeom>
              <a:avLst/>
              <a:gdLst/>
              <a:ahLst/>
              <a:rect l="l" t="t" r="r" b="b"/>
              <a:pathLst>
                <a:path w="24" h="32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6554880" y="3807000"/>
              <a:ext cx="38160" cy="378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6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6527880" y="3794040"/>
              <a:ext cx="39600" cy="3816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17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25" y="24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6502320" y="3768840"/>
              <a:ext cx="38160" cy="50760"/>
            </a:xfrm>
            <a:custGeom>
              <a:avLst/>
              <a:gdLst/>
              <a:ahLst/>
              <a:rect l="l" t="t" r="r" b="b"/>
              <a:pathLst>
                <a:path w="24" h="32">
                  <a:moveTo>
                    <a:pt x="16" y="0"/>
                  </a:move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6477120" y="3755880"/>
              <a:ext cx="50760" cy="3816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16" y="0"/>
                  </a:move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6451560" y="3741840"/>
              <a:ext cx="50760" cy="3960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16" y="0"/>
                  </a:move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9"/>
                  </a:lnTo>
                  <a:lnTo>
                    <a:pt x="8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17"/>
                  </a:lnTo>
                  <a:lnTo>
                    <a:pt x="8" y="17"/>
                  </a:lnTo>
                  <a:lnTo>
                    <a:pt x="8" y="17"/>
                  </a:lnTo>
                  <a:lnTo>
                    <a:pt x="8" y="17"/>
                  </a:lnTo>
                  <a:lnTo>
                    <a:pt x="8" y="17"/>
                  </a:lnTo>
                  <a:lnTo>
                    <a:pt x="8" y="17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32" y="17"/>
                  </a:lnTo>
                  <a:lnTo>
                    <a:pt x="32" y="17"/>
                  </a:lnTo>
                  <a:lnTo>
                    <a:pt x="32" y="9"/>
                  </a:lnTo>
                  <a:lnTo>
                    <a:pt x="32" y="9"/>
                  </a:lnTo>
                  <a:lnTo>
                    <a:pt x="32" y="9"/>
                  </a:lnTo>
                  <a:lnTo>
                    <a:pt x="32" y="9"/>
                  </a:lnTo>
                  <a:lnTo>
                    <a:pt x="32" y="9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6438960" y="3716280"/>
              <a:ext cx="38160" cy="39600"/>
            </a:xfrm>
            <a:custGeom>
              <a:avLst/>
              <a:gdLst/>
              <a:ahLst/>
              <a:rect l="l" t="t" r="r" b="b"/>
              <a:pathLst>
                <a:path w="24" h="25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6413400" y="370368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6388200" y="370368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6350040" y="3691080"/>
              <a:ext cx="50760" cy="3780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16" y="0"/>
                  </a:move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324480" y="3691080"/>
              <a:ext cx="38160" cy="378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6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6297480" y="3678120"/>
              <a:ext cx="39960" cy="3816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9" y="0"/>
                  </a:move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6272280" y="3678120"/>
              <a:ext cx="39600" cy="3816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6234120" y="3665520"/>
              <a:ext cx="50760" cy="50760"/>
            </a:xfrm>
            <a:custGeom>
              <a:avLst/>
              <a:gdLst/>
              <a:ahLst/>
              <a:rect l="l" t="t" r="r" b="b"/>
              <a:pathLst>
                <a:path w="32" h="32">
                  <a:moveTo>
                    <a:pt x="16" y="0"/>
                  </a:move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24" y="32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32" y="24"/>
                  </a:lnTo>
                  <a:lnTo>
                    <a:pt x="32" y="24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6208560" y="366552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6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6183360" y="3652920"/>
              <a:ext cx="38160" cy="50760"/>
            </a:xfrm>
            <a:custGeom>
              <a:avLst/>
              <a:gdLst/>
              <a:ahLst/>
              <a:rect l="l" t="t" r="r" b="b"/>
              <a:pathLst>
                <a:path w="24" h="32">
                  <a:moveTo>
                    <a:pt x="16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6157800" y="365292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6119640" y="3639960"/>
              <a:ext cx="51120" cy="51120"/>
            </a:xfrm>
            <a:custGeom>
              <a:avLst/>
              <a:gdLst/>
              <a:ahLst/>
              <a:rect l="l" t="t" r="r" b="b"/>
              <a:pathLst>
                <a:path w="32" h="32">
                  <a:moveTo>
                    <a:pt x="16" y="0"/>
                  </a:move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24" y="32"/>
                  </a:lnTo>
                  <a:lnTo>
                    <a:pt x="24" y="32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32" y="24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6094440" y="363996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6" y="0"/>
                  </a:move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6068880" y="3627360"/>
              <a:ext cx="38160" cy="50760"/>
            </a:xfrm>
            <a:custGeom>
              <a:avLst/>
              <a:gdLst/>
              <a:ahLst/>
              <a:rect l="l" t="t" r="r" b="b"/>
              <a:pathLst>
                <a:path w="24" h="32">
                  <a:moveTo>
                    <a:pt x="16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6041880" y="3627360"/>
              <a:ext cx="39960" cy="3816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25" y="24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17" y="8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6004080" y="3614760"/>
              <a:ext cx="50760" cy="50760"/>
            </a:xfrm>
            <a:custGeom>
              <a:avLst/>
              <a:gdLst/>
              <a:ahLst/>
              <a:rect l="l" t="t" r="r" b="b"/>
              <a:pathLst>
                <a:path w="32" h="32">
                  <a:moveTo>
                    <a:pt x="16" y="0"/>
                  </a:moveTo>
                  <a:lnTo>
                    <a:pt x="16" y="8"/>
                  </a:lnTo>
                  <a:lnTo>
                    <a:pt x="16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24" y="32"/>
                  </a:lnTo>
                  <a:lnTo>
                    <a:pt x="24" y="32"/>
                  </a:lnTo>
                  <a:lnTo>
                    <a:pt x="24" y="32"/>
                  </a:lnTo>
                  <a:lnTo>
                    <a:pt x="24" y="32"/>
                  </a:lnTo>
                  <a:lnTo>
                    <a:pt x="24" y="32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32" y="24"/>
                  </a:lnTo>
                  <a:lnTo>
                    <a:pt x="32" y="24"/>
                  </a:lnTo>
                  <a:lnTo>
                    <a:pt x="32" y="24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5978520" y="361476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6" y="0"/>
                  </a:move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5952960" y="361476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6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5927760" y="3602160"/>
              <a:ext cx="38160" cy="50760"/>
            </a:xfrm>
            <a:custGeom>
              <a:avLst/>
              <a:gdLst/>
              <a:ahLst/>
              <a:rect l="l" t="t" r="r" b="b"/>
              <a:pathLst>
                <a:path w="24" h="32">
                  <a:moveTo>
                    <a:pt x="8" y="0"/>
                  </a:move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5889600" y="3602160"/>
              <a:ext cx="50760" cy="50760"/>
            </a:xfrm>
            <a:custGeom>
              <a:avLst/>
              <a:gdLst/>
              <a:ahLst/>
              <a:rect l="l" t="t" r="r" b="b"/>
              <a:pathLst>
                <a:path w="32" h="32">
                  <a:moveTo>
                    <a:pt x="16" y="0"/>
                  </a:move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32" y="24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5864400" y="3602160"/>
              <a:ext cx="37800" cy="378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6" y="0"/>
                  </a:move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5838840" y="3602160"/>
              <a:ext cx="38160" cy="378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6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5811840" y="3602160"/>
              <a:ext cx="39600" cy="3780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9" y="0"/>
                  </a:move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25" y="24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5773680" y="3602160"/>
              <a:ext cx="52560" cy="37800"/>
            </a:xfrm>
            <a:custGeom>
              <a:avLst/>
              <a:gdLst/>
              <a:ahLst/>
              <a:rect l="l" t="t" r="r" b="b"/>
              <a:pathLst>
                <a:path w="33" h="24">
                  <a:moveTo>
                    <a:pt x="16" y="0"/>
                  </a:move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33" y="16"/>
                  </a:lnTo>
                  <a:lnTo>
                    <a:pt x="33" y="16"/>
                  </a:lnTo>
                  <a:lnTo>
                    <a:pt x="33" y="16"/>
                  </a:lnTo>
                  <a:lnTo>
                    <a:pt x="33" y="8"/>
                  </a:lnTo>
                  <a:lnTo>
                    <a:pt x="33" y="8"/>
                  </a:lnTo>
                  <a:lnTo>
                    <a:pt x="33" y="8"/>
                  </a:lnTo>
                  <a:lnTo>
                    <a:pt x="33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5748480" y="3602160"/>
              <a:ext cx="37800" cy="378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6" y="0"/>
                  </a:move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5722920" y="358920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5697360" y="357660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6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5672160" y="3551400"/>
              <a:ext cx="38160" cy="50760"/>
            </a:xfrm>
            <a:custGeom>
              <a:avLst/>
              <a:gdLst/>
              <a:ahLst/>
              <a:rect l="l" t="t" r="r" b="b"/>
              <a:pathLst>
                <a:path w="24" h="32">
                  <a:moveTo>
                    <a:pt x="16" y="0"/>
                  </a:moveTo>
                  <a:lnTo>
                    <a:pt x="16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5646600" y="353844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6" y="0"/>
                  </a:move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5621400" y="3525840"/>
              <a:ext cx="50760" cy="3816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16" y="0"/>
                  </a:move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595840" y="3513240"/>
              <a:ext cx="50760" cy="3816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16" y="0"/>
                  </a:move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5583240" y="3487680"/>
              <a:ext cx="38160" cy="50760"/>
            </a:xfrm>
            <a:custGeom>
              <a:avLst/>
              <a:gdLst/>
              <a:ahLst/>
              <a:rect l="l" t="t" r="r" b="b"/>
              <a:pathLst>
                <a:path w="24" h="32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5556240" y="3475080"/>
              <a:ext cx="39600" cy="3816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25" y="24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530680" y="3462480"/>
              <a:ext cx="38160" cy="378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5505480" y="344952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5249880" y="3333600"/>
              <a:ext cx="38160" cy="39960"/>
            </a:xfrm>
            <a:custGeom>
              <a:avLst/>
              <a:gdLst/>
              <a:ahLst/>
              <a:rect l="l" t="t" r="r" b="b"/>
              <a:pathLst>
                <a:path w="24" h="25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224320" y="332100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5186520" y="3308400"/>
              <a:ext cx="50760" cy="50760"/>
            </a:xfrm>
            <a:custGeom>
              <a:avLst/>
              <a:gdLst/>
              <a:ahLst/>
              <a:rect l="l" t="t" r="r" b="b"/>
              <a:pathLst>
                <a:path w="32" h="32">
                  <a:moveTo>
                    <a:pt x="16" y="0"/>
                  </a:moveTo>
                  <a:lnTo>
                    <a:pt x="16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24" y="32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32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5160960" y="3308400"/>
              <a:ext cx="50760" cy="3816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16" y="0"/>
                  </a:move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5135400" y="3295800"/>
              <a:ext cx="38160" cy="378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6" y="0"/>
                  </a:move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110200" y="328284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6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5083200" y="3270240"/>
              <a:ext cx="39600" cy="50760"/>
            </a:xfrm>
            <a:custGeom>
              <a:avLst/>
              <a:gdLst/>
              <a:ahLst/>
              <a:rect l="l" t="t" r="r" b="b"/>
              <a:pathLst>
                <a:path w="25" h="32">
                  <a:moveTo>
                    <a:pt x="17" y="0"/>
                  </a:moveTo>
                  <a:lnTo>
                    <a:pt x="9" y="0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9" y="24"/>
                  </a:lnTo>
                  <a:lnTo>
                    <a:pt x="9" y="32"/>
                  </a:lnTo>
                  <a:lnTo>
                    <a:pt x="9" y="32"/>
                  </a:lnTo>
                  <a:lnTo>
                    <a:pt x="9" y="32"/>
                  </a:lnTo>
                  <a:lnTo>
                    <a:pt x="9" y="32"/>
                  </a:lnTo>
                  <a:lnTo>
                    <a:pt x="9" y="32"/>
                  </a:lnTo>
                  <a:lnTo>
                    <a:pt x="9" y="32"/>
                  </a:lnTo>
                  <a:lnTo>
                    <a:pt x="9" y="32"/>
                  </a:lnTo>
                  <a:lnTo>
                    <a:pt x="17" y="32"/>
                  </a:lnTo>
                  <a:lnTo>
                    <a:pt x="17" y="32"/>
                  </a:lnTo>
                  <a:lnTo>
                    <a:pt x="17" y="32"/>
                  </a:lnTo>
                  <a:lnTo>
                    <a:pt x="17" y="32"/>
                  </a:lnTo>
                  <a:lnTo>
                    <a:pt x="17" y="32"/>
                  </a:lnTo>
                  <a:lnTo>
                    <a:pt x="17" y="32"/>
                  </a:lnTo>
                  <a:lnTo>
                    <a:pt x="17" y="32"/>
                  </a:lnTo>
                  <a:lnTo>
                    <a:pt x="17" y="32"/>
                  </a:lnTo>
                  <a:lnTo>
                    <a:pt x="17" y="32"/>
                  </a:lnTo>
                  <a:lnTo>
                    <a:pt x="17" y="32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5057640" y="3270240"/>
              <a:ext cx="39960" cy="3816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5019840" y="3257640"/>
              <a:ext cx="50760" cy="3816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16" y="0"/>
                  </a:move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994280" y="325764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6" y="0"/>
                  </a:move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968720" y="324468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6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4943520" y="3232080"/>
              <a:ext cx="38160" cy="50760"/>
            </a:xfrm>
            <a:custGeom>
              <a:avLst/>
              <a:gdLst/>
              <a:ahLst/>
              <a:rect l="l" t="t" r="r" b="b"/>
              <a:pathLst>
                <a:path w="24" h="32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4917960" y="323208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4892760" y="321948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4854600" y="3206880"/>
              <a:ext cx="50760" cy="3780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16" y="0"/>
                  </a:move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4827600" y="3193920"/>
              <a:ext cx="52200" cy="38160"/>
            </a:xfrm>
            <a:custGeom>
              <a:avLst/>
              <a:gdLst/>
              <a:ahLst/>
              <a:rect l="l" t="t" r="r" b="b"/>
              <a:pathLst>
                <a:path w="33" h="24">
                  <a:moveTo>
                    <a:pt x="17" y="0"/>
                  </a:moveTo>
                  <a:lnTo>
                    <a:pt x="17" y="0"/>
                  </a:lnTo>
                  <a:lnTo>
                    <a:pt x="17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33" y="16"/>
                  </a:lnTo>
                  <a:lnTo>
                    <a:pt x="33" y="16"/>
                  </a:lnTo>
                  <a:lnTo>
                    <a:pt x="33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4802040" y="318132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6" y="0"/>
                  </a:move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4776840" y="316872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6" y="0"/>
                  </a:move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4751280" y="3156120"/>
              <a:ext cx="38160" cy="378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6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4726080" y="314316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6" y="0"/>
                  </a:move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700520" y="313056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6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675320" y="3117960"/>
              <a:ext cx="3780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6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49760" y="310500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6" y="0"/>
                  </a:move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4624560" y="3079800"/>
              <a:ext cx="50760" cy="3816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16" y="0"/>
                  </a:move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11600" y="3054240"/>
              <a:ext cx="38160" cy="50760"/>
            </a:xfrm>
            <a:custGeom>
              <a:avLst/>
              <a:gdLst/>
              <a:ahLst/>
              <a:rect l="l" t="t" r="r" b="b"/>
              <a:pathLst>
                <a:path w="24" h="32">
                  <a:moveTo>
                    <a:pt x="8" y="0"/>
                  </a:move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4584600" y="3041640"/>
              <a:ext cx="39960" cy="3816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17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559400" y="302904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6" y="0"/>
                  </a:move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533840" y="301608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6" y="0"/>
                  </a:move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4508640" y="3003480"/>
              <a:ext cx="3780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6" y="0"/>
                  </a:move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4483080" y="299088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6" y="0"/>
                  </a:move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4457880" y="2976480"/>
              <a:ext cx="37800" cy="39600"/>
            </a:xfrm>
            <a:custGeom>
              <a:avLst/>
              <a:gdLst/>
              <a:ahLst/>
              <a:rect l="l" t="t" r="r" b="b"/>
              <a:pathLst>
                <a:path w="24" h="25">
                  <a:moveTo>
                    <a:pt x="16" y="0"/>
                  </a:move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8" y="17"/>
                  </a:lnTo>
                  <a:lnTo>
                    <a:pt x="8" y="17"/>
                  </a:lnTo>
                  <a:lnTo>
                    <a:pt x="8" y="17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9"/>
                  </a:lnTo>
                  <a:lnTo>
                    <a:pt x="24" y="9"/>
                  </a:lnTo>
                  <a:lnTo>
                    <a:pt x="24" y="9"/>
                  </a:lnTo>
                  <a:lnTo>
                    <a:pt x="24" y="9"/>
                  </a:lnTo>
                  <a:lnTo>
                    <a:pt x="24" y="9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432320" y="2951280"/>
              <a:ext cx="38160" cy="52200"/>
            </a:xfrm>
            <a:custGeom>
              <a:avLst/>
              <a:gdLst/>
              <a:ahLst/>
              <a:rect l="l" t="t" r="r" b="b"/>
              <a:pathLst>
                <a:path w="24" h="33">
                  <a:moveTo>
                    <a:pt x="16" y="0"/>
                  </a:move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16" y="33"/>
                  </a:lnTo>
                  <a:lnTo>
                    <a:pt x="16" y="33"/>
                  </a:lnTo>
                  <a:lnTo>
                    <a:pt x="16" y="33"/>
                  </a:lnTo>
                  <a:lnTo>
                    <a:pt x="16" y="33"/>
                  </a:lnTo>
                  <a:lnTo>
                    <a:pt x="16" y="33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406760" y="293832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6" y="0"/>
                  </a:move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4381560" y="2925720"/>
              <a:ext cx="50760" cy="3816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16" y="0"/>
                  </a:move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4356000" y="2900520"/>
              <a:ext cx="50760" cy="50760"/>
            </a:xfrm>
            <a:custGeom>
              <a:avLst/>
              <a:gdLst/>
              <a:ahLst/>
              <a:rect l="l" t="t" r="r" b="b"/>
              <a:pathLst>
                <a:path w="32" h="32">
                  <a:moveTo>
                    <a:pt x="16" y="0"/>
                  </a:moveTo>
                  <a:lnTo>
                    <a:pt x="16" y="0"/>
                  </a:lnTo>
                  <a:lnTo>
                    <a:pt x="16" y="0"/>
                  </a:lnTo>
                  <a:lnTo>
                    <a:pt x="16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24" y="32"/>
                  </a:lnTo>
                  <a:lnTo>
                    <a:pt x="24" y="32"/>
                  </a:lnTo>
                  <a:lnTo>
                    <a:pt x="24" y="32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32" y="24"/>
                  </a:lnTo>
                  <a:lnTo>
                    <a:pt x="32" y="24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341960" y="2887560"/>
              <a:ext cx="39600" cy="3816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9" y="0"/>
                  </a:move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4316400" y="2874960"/>
              <a:ext cx="39600" cy="3816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4290840" y="286236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265640" y="283680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6" y="0"/>
                  </a:move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4240080" y="2811600"/>
              <a:ext cx="50760" cy="50760"/>
            </a:xfrm>
            <a:custGeom>
              <a:avLst/>
              <a:gdLst/>
              <a:ahLst/>
              <a:rect l="l" t="t" r="r" b="b"/>
              <a:pathLst>
                <a:path w="32" h="32">
                  <a:moveTo>
                    <a:pt x="16" y="0"/>
                  </a:move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24" y="32"/>
                  </a:lnTo>
                  <a:lnTo>
                    <a:pt x="24" y="32"/>
                  </a:lnTo>
                  <a:lnTo>
                    <a:pt x="24" y="32"/>
                  </a:lnTo>
                  <a:lnTo>
                    <a:pt x="24" y="32"/>
                  </a:lnTo>
                  <a:lnTo>
                    <a:pt x="24" y="32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32" y="24"/>
                  </a:lnTo>
                  <a:lnTo>
                    <a:pt x="32" y="24"/>
                  </a:lnTo>
                  <a:lnTo>
                    <a:pt x="32" y="24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8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4227480" y="279864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4202280" y="2786040"/>
              <a:ext cx="3780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6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4176720" y="2760840"/>
              <a:ext cx="50760" cy="3780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16" y="0"/>
                  </a:move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4164120" y="274788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4138560" y="272268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113360" y="2709720"/>
              <a:ext cx="3780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6" y="0"/>
                  </a:move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4086360" y="2684520"/>
              <a:ext cx="52200" cy="50760"/>
            </a:xfrm>
            <a:custGeom>
              <a:avLst/>
              <a:gdLst/>
              <a:ahLst/>
              <a:rect l="l" t="t" r="r" b="b"/>
              <a:pathLst>
                <a:path w="33" h="32">
                  <a:moveTo>
                    <a:pt x="17" y="0"/>
                  </a:moveTo>
                  <a:lnTo>
                    <a:pt x="17" y="0"/>
                  </a:lnTo>
                  <a:lnTo>
                    <a:pt x="17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32"/>
                  </a:lnTo>
                  <a:lnTo>
                    <a:pt x="17" y="32"/>
                  </a:lnTo>
                  <a:lnTo>
                    <a:pt x="17" y="32"/>
                  </a:lnTo>
                  <a:lnTo>
                    <a:pt x="17" y="32"/>
                  </a:lnTo>
                  <a:lnTo>
                    <a:pt x="17" y="32"/>
                  </a:lnTo>
                  <a:lnTo>
                    <a:pt x="17" y="32"/>
                  </a:lnTo>
                  <a:lnTo>
                    <a:pt x="17" y="32"/>
                  </a:lnTo>
                  <a:lnTo>
                    <a:pt x="17" y="32"/>
                  </a:lnTo>
                  <a:lnTo>
                    <a:pt x="17" y="32"/>
                  </a:lnTo>
                  <a:lnTo>
                    <a:pt x="17" y="32"/>
                  </a:lnTo>
                  <a:lnTo>
                    <a:pt x="17" y="32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33" y="16"/>
                  </a:lnTo>
                  <a:lnTo>
                    <a:pt x="33" y="16"/>
                  </a:lnTo>
                  <a:lnTo>
                    <a:pt x="33" y="16"/>
                  </a:lnTo>
                  <a:lnTo>
                    <a:pt x="33" y="16"/>
                  </a:lnTo>
                  <a:lnTo>
                    <a:pt x="33" y="16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4060800" y="2671920"/>
              <a:ext cx="52560" cy="37800"/>
            </a:xfrm>
            <a:custGeom>
              <a:avLst/>
              <a:gdLst/>
              <a:ahLst/>
              <a:rect l="l" t="t" r="r" b="b"/>
              <a:pathLst>
                <a:path w="33" h="24">
                  <a:moveTo>
                    <a:pt x="16" y="0"/>
                  </a:move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33" y="16"/>
                  </a:lnTo>
                  <a:lnTo>
                    <a:pt x="33" y="16"/>
                  </a:lnTo>
                  <a:lnTo>
                    <a:pt x="33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4048200" y="2646360"/>
              <a:ext cx="38160" cy="50760"/>
            </a:xfrm>
            <a:custGeom>
              <a:avLst/>
              <a:gdLst/>
              <a:ahLst/>
              <a:rect l="l" t="t" r="r" b="b"/>
              <a:pathLst>
                <a:path w="24" h="32">
                  <a:moveTo>
                    <a:pt x="8" y="0"/>
                  </a:move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4022640" y="263376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6" y="0"/>
                  </a:move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997440" y="2608200"/>
              <a:ext cx="50760" cy="3816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16" y="0"/>
                  </a:move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984480" y="2581200"/>
              <a:ext cx="38160" cy="52560"/>
            </a:xfrm>
            <a:custGeom>
              <a:avLst/>
              <a:gdLst/>
              <a:ahLst/>
              <a:rect l="l" t="t" r="r" b="b"/>
              <a:pathLst>
                <a:path w="24" h="33">
                  <a:moveTo>
                    <a:pt x="16" y="0"/>
                  </a:move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8" y="25"/>
                  </a:lnTo>
                  <a:lnTo>
                    <a:pt x="8" y="33"/>
                  </a:lnTo>
                  <a:lnTo>
                    <a:pt x="8" y="33"/>
                  </a:lnTo>
                  <a:lnTo>
                    <a:pt x="8" y="33"/>
                  </a:lnTo>
                  <a:lnTo>
                    <a:pt x="8" y="33"/>
                  </a:lnTo>
                  <a:lnTo>
                    <a:pt x="8" y="33"/>
                  </a:lnTo>
                  <a:lnTo>
                    <a:pt x="8" y="33"/>
                  </a:lnTo>
                  <a:lnTo>
                    <a:pt x="8" y="33"/>
                  </a:lnTo>
                  <a:lnTo>
                    <a:pt x="8" y="33"/>
                  </a:lnTo>
                  <a:lnTo>
                    <a:pt x="16" y="33"/>
                  </a:lnTo>
                  <a:lnTo>
                    <a:pt x="16" y="33"/>
                  </a:lnTo>
                  <a:lnTo>
                    <a:pt x="16" y="33"/>
                  </a:lnTo>
                  <a:lnTo>
                    <a:pt x="16" y="33"/>
                  </a:lnTo>
                  <a:lnTo>
                    <a:pt x="16" y="33"/>
                  </a:lnTo>
                  <a:lnTo>
                    <a:pt x="16" y="33"/>
                  </a:lnTo>
                  <a:lnTo>
                    <a:pt x="16" y="33"/>
                  </a:lnTo>
                  <a:lnTo>
                    <a:pt x="16" y="33"/>
                  </a:lnTo>
                  <a:lnTo>
                    <a:pt x="16" y="33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3959280" y="2568600"/>
              <a:ext cx="50760" cy="3960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16" y="0"/>
                  </a:move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3946680" y="2543040"/>
              <a:ext cx="3780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3921120" y="2517840"/>
              <a:ext cx="38160" cy="50760"/>
            </a:xfrm>
            <a:custGeom>
              <a:avLst/>
              <a:gdLst/>
              <a:ahLst/>
              <a:rect l="l" t="t" r="r" b="b"/>
              <a:pathLst>
                <a:path w="24" h="32">
                  <a:moveTo>
                    <a:pt x="16" y="0"/>
                  </a:move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3895560" y="2505240"/>
              <a:ext cx="38160" cy="50760"/>
            </a:xfrm>
            <a:custGeom>
              <a:avLst/>
              <a:gdLst/>
              <a:ahLst/>
              <a:rect l="l" t="t" r="r" b="b"/>
              <a:pathLst>
                <a:path w="24" h="32">
                  <a:moveTo>
                    <a:pt x="16" y="0"/>
                  </a:moveTo>
                  <a:lnTo>
                    <a:pt x="16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870360" y="2505240"/>
              <a:ext cx="38160" cy="378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6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3843360" y="2492280"/>
              <a:ext cx="39600" cy="3816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17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3817800" y="2479680"/>
              <a:ext cx="38160" cy="50760"/>
            </a:xfrm>
            <a:custGeom>
              <a:avLst/>
              <a:gdLst/>
              <a:ahLst/>
              <a:rect l="l" t="t" r="r" b="b"/>
              <a:pathLst>
                <a:path w="24" h="32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3780000" y="2479680"/>
              <a:ext cx="50760" cy="3816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16" y="0"/>
                  </a:move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3754440" y="2467080"/>
              <a:ext cx="50760" cy="3816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16" y="0"/>
                  </a:move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3728880" y="245412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6" y="0"/>
                  </a:move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703680" y="245412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6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678120" y="244152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3652920" y="244152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3613320" y="2428920"/>
              <a:ext cx="52200" cy="38160"/>
            </a:xfrm>
            <a:custGeom>
              <a:avLst/>
              <a:gdLst/>
              <a:ahLst/>
              <a:rect l="l" t="t" r="r" b="b"/>
              <a:pathLst>
                <a:path w="33" h="24">
                  <a:moveTo>
                    <a:pt x="17" y="0"/>
                  </a:moveTo>
                  <a:lnTo>
                    <a:pt x="17" y="0"/>
                  </a:lnTo>
                  <a:lnTo>
                    <a:pt x="17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9" y="16"/>
                  </a:lnTo>
                  <a:lnTo>
                    <a:pt x="9" y="16"/>
                  </a:lnTo>
                  <a:lnTo>
                    <a:pt x="9" y="16"/>
                  </a:lnTo>
                  <a:lnTo>
                    <a:pt x="9" y="16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16"/>
                  </a:lnTo>
                  <a:lnTo>
                    <a:pt x="33" y="16"/>
                  </a:lnTo>
                  <a:lnTo>
                    <a:pt x="33" y="16"/>
                  </a:lnTo>
                  <a:lnTo>
                    <a:pt x="33" y="16"/>
                  </a:lnTo>
                  <a:lnTo>
                    <a:pt x="33" y="16"/>
                  </a:lnTo>
                  <a:lnTo>
                    <a:pt x="33" y="8"/>
                  </a:lnTo>
                  <a:lnTo>
                    <a:pt x="33" y="8"/>
                  </a:lnTo>
                  <a:lnTo>
                    <a:pt x="33" y="8"/>
                  </a:lnTo>
                  <a:lnTo>
                    <a:pt x="33" y="8"/>
                  </a:lnTo>
                  <a:lnTo>
                    <a:pt x="33" y="8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3587760" y="2416320"/>
              <a:ext cx="52200" cy="37800"/>
            </a:xfrm>
            <a:custGeom>
              <a:avLst/>
              <a:gdLst/>
              <a:ahLst/>
              <a:rect l="l" t="t" r="r" b="b"/>
              <a:pathLst>
                <a:path w="33" h="24">
                  <a:moveTo>
                    <a:pt x="16" y="0"/>
                  </a:move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16"/>
                  </a:lnTo>
                  <a:lnTo>
                    <a:pt x="33" y="16"/>
                  </a:lnTo>
                  <a:lnTo>
                    <a:pt x="33" y="16"/>
                  </a:lnTo>
                  <a:lnTo>
                    <a:pt x="33" y="16"/>
                  </a:lnTo>
                  <a:lnTo>
                    <a:pt x="33" y="16"/>
                  </a:lnTo>
                  <a:lnTo>
                    <a:pt x="33" y="8"/>
                  </a:lnTo>
                  <a:lnTo>
                    <a:pt x="33" y="8"/>
                  </a:lnTo>
                  <a:lnTo>
                    <a:pt x="33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3562200" y="240336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6" y="0"/>
                  </a:move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3537000" y="2390760"/>
              <a:ext cx="38160" cy="50760"/>
            </a:xfrm>
            <a:custGeom>
              <a:avLst/>
              <a:gdLst/>
              <a:ahLst/>
              <a:rect l="l" t="t" r="r" b="b"/>
              <a:pathLst>
                <a:path w="24" h="32">
                  <a:moveTo>
                    <a:pt x="16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3511440" y="239076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3486240" y="2378160"/>
              <a:ext cx="38160" cy="50760"/>
            </a:xfrm>
            <a:custGeom>
              <a:avLst/>
              <a:gdLst/>
              <a:ahLst/>
              <a:rect l="l" t="t" r="r" b="b"/>
              <a:pathLst>
                <a:path w="24" h="32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3448080" y="2378160"/>
              <a:ext cx="50760" cy="3816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16" y="0"/>
                  </a:move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3422520" y="236520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6" y="0"/>
                  </a:move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3397320" y="235260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6" y="0"/>
                  </a:move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3370320" y="2340000"/>
              <a:ext cx="39600" cy="3816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17" y="0"/>
                  </a:moveTo>
                  <a:lnTo>
                    <a:pt x="17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3357720" y="2314440"/>
              <a:ext cx="39600" cy="50760"/>
            </a:xfrm>
            <a:custGeom>
              <a:avLst/>
              <a:gdLst/>
              <a:ahLst/>
              <a:rect l="l" t="t" r="r" b="b"/>
              <a:pathLst>
                <a:path w="25" h="32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17" y="32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3332160" y="230184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6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3306600" y="2276640"/>
              <a:ext cx="38160" cy="50760"/>
            </a:xfrm>
            <a:custGeom>
              <a:avLst/>
              <a:gdLst/>
              <a:ahLst/>
              <a:rect l="l" t="t" r="r" b="b"/>
              <a:pathLst>
                <a:path w="24" h="32">
                  <a:moveTo>
                    <a:pt x="16" y="0"/>
                  </a:moveTo>
                  <a:lnTo>
                    <a:pt x="16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281400" y="2276640"/>
              <a:ext cx="38160" cy="378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6" y="0"/>
                  </a:move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3255840" y="226368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6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3230640" y="225108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192480" y="2251080"/>
              <a:ext cx="50760" cy="3816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16" y="0"/>
                  </a:move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3166920" y="223848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6" y="0"/>
                  </a:move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3141720" y="2225520"/>
              <a:ext cx="38160" cy="51120"/>
            </a:xfrm>
            <a:custGeom>
              <a:avLst/>
              <a:gdLst/>
              <a:ahLst/>
              <a:rect l="l" t="t" r="r" b="b"/>
              <a:pathLst>
                <a:path w="24" h="32">
                  <a:moveTo>
                    <a:pt x="16" y="0"/>
                  </a:moveTo>
                  <a:lnTo>
                    <a:pt x="16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127320" y="2211480"/>
              <a:ext cx="39600" cy="3960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9" y="0"/>
                  </a:move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25"/>
                  </a:lnTo>
                  <a:lnTo>
                    <a:pt x="9" y="25"/>
                  </a:lnTo>
                  <a:lnTo>
                    <a:pt x="9" y="25"/>
                  </a:lnTo>
                  <a:lnTo>
                    <a:pt x="9" y="25"/>
                  </a:lnTo>
                  <a:lnTo>
                    <a:pt x="9" y="25"/>
                  </a:lnTo>
                  <a:lnTo>
                    <a:pt x="9" y="25"/>
                  </a:lnTo>
                  <a:lnTo>
                    <a:pt x="9" y="25"/>
                  </a:lnTo>
                  <a:lnTo>
                    <a:pt x="9" y="25"/>
                  </a:lnTo>
                  <a:lnTo>
                    <a:pt x="9" y="25"/>
                  </a:lnTo>
                  <a:lnTo>
                    <a:pt x="9" y="25"/>
                  </a:lnTo>
                  <a:lnTo>
                    <a:pt x="9" y="25"/>
                  </a:lnTo>
                  <a:lnTo>
                    <a:pt x="17" y="25"/>
                  </a:lnTo>
                  <a:lnTo>
                    <a:pt x="17" y="25"/>
                  </a:lnTo>
                  <a:lnTo>
                    <a:pt x="17" y="25"/>
                  </a:lnTo>
                  <a:lnTo>
                    <a:pt x="17" y="25"/>
                  </a:lnTo>
                  <a:lnTo>
                    <a:pt x="17" y="25"/>
                  </a:lnTo>
                  <a:lnTo>
                    <a:pt x="17" y="25"/>
                  </a:lnTo>
                  <a:lnTo>
                    <a:pt x="17" y="25"/>
                  </a:lnTo>
                  <a:lnTo>
                    <a:pt x="17" y="25"/>
                  </a:lnTo>
                  <a:lnTo>
                    <a:pt x="17" y="17"/>
                  </a:lnTo>
                  <a:lnTo>
                    <a:pt x="25" y="17"/>
                  </a:lnTo>
                  <a:lnTo>
                    <a:pt x="25" y="17"/>
                  </a:lnTo>
                  <a:lnTo>
                    <a:pt x="25" y="17"/>
                  </a:lnTo>
                  <a:lnTo>
                    <a:pt x="25" y="17"/>
                  </a:lnTo>
                  <a:lnTo>
                    <a:pt x="25" y="9"/>
                  </a:lnTo>
                  <a:lnTo>
                    <a:pt x="25" y="9"/>
                  </a:lnTo>
                  <a:lnTo>
                    <a:pt x="25" y="9"/>
                  </a:lnTo>
                  <a:lnTo>
                    <a:pt x="25" y="9"/>
                  </a:lnTo>
                  <a:lnTo>
                    <a:pt x="25" y="9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3102120" y="2185920"/>
              <a:ext cx="39600" cy="3960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16" y="0"/>
                  </a:move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25" y="25"/>
                  </a:lnTo>
                  <a:lnTo>
                    <a:pt x="25" y="25"/>
                  </a:lnTo>
                  <a:lnTo>
                    <a:pt x="25" y="25"/>
                  </a:lnTo>
                  <a:lnTo>
                    <a:pt x="25" y="25"/>
                  </a:lnTo>
                  <a:lnTo>
                    <a:pt x="25" y="25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3089160" y="2160720"/>
              <a:ext cx="38160" cy="378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3063960" y="2135160"/>
              <a:ext cx="38160" cy="50760"/>
            </a:xfrm>
            <a:custGeom>
              <a:avLst/>
              <a:gdLst/>
              <a:ahLst/>
              <a:rect l="l" t="t" r="r" b="b"/>
              <a:pathLst>
                <a:path w="24" h="32">
                  <a:moveTo>
                    <a:pt x="16" y="0"/>
                  </a:moveTo>
                  <a:lnTo>
                    <a:pt x="16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24" y="32"/>
                  </a:lnTo>
                  <a:lnTo>
                    <a:pt x="24" y="32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3051000" y="212256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3038400" y="209700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3025800" y="207180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3000240" y="205884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4956120" y="3398760"/>
              <a:ext cx="50760" cy="3816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16" y="0"/>
                  </a:move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4930920" y="3398760"/>
              <a:ext cx="3780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6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4905360" y="3386160"/>
              <a:ext cx="38160" cy="50760"/>
            </a:xfrm>
            <a:custGeom>
              <a:avLst/>
              <a:gdLst/>
              <a:ahLst/>
              <a:rect l="l" t="t" r="r" b="b"/>
              <a:pathLst>
                <a:path w="24" h="32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4879800" y="338616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4840200" y="3386160"/>
              <a:ext cx="52560" cy="38160"/>
            </a:xfrm>
            <a:custGeom>
              <a:avLst/>
              <a:gdLst/>
              <a:ahLst/>
              <a:rect l="l" t="t" r="r" b="b"/>
              <a:pathLst>
                <a:path w="33" h="24">
                  <a:moveTo>
                    <a:pt x="17" y="0"/>
                  </a:moveTo>
                  <a:lnTo>
                    <a:pt x="17" y="0"/>
                  </a:lnTo>
                  <a:lnTo>
                    <a:pt x="17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9" y="16"/>
                  </a:lnTo>
                  <a:lnTo>
                    <a:pt x="9" y="16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33" y="8"/>
                  </a:lnTo>
                  <a:lnTo>
                    <a:pt x="33" y="8"/>
                  </a:lnTo>
                  <a:lnTo>
                    <a:pt x="33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4815000" y="3373560"/>
              <a:ext cx="39600" cy="50760"/>
            </a:xfrm>
            <a:custGeom>
              <a:avLst/>
              <a:gdLst/>
              <a:ahLst/>
              <a:rect l="l" t="t" r="r" b="b"/>
              <a:pathLst>
                <a:path w="25" h="32">
                  <a:moveTo>
                    <a:pt x="16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4789440" y="3373560"/>
              <a:ext cx="38160" cy="378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4764240" y="3373560"/>
              <a:ext cx="37800" cy="378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4726080" y="3359160"/>
              <a:ext cx="50760" cy="3960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16" y="0"/>
                  </a:move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9"/>
                  </a:lnTo>
                  <a:lnTo>
                    <a:pt x="8" y="9"/>
                  </a:lnTo>
                  <a:lnTo>
                    <a:pt x="8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32" y="17"/>
                  </a:lnTo>
                  <a:lnTo>
                    <a:pt x="24" y="17"/>
                  </a:lnTo>
                  <a:lnTo>
                    <a:pt x="24" y="9"/>
                  </a:lnTo>
                  <a:lnTo>
                    <a:pt x="24" y="9"/>
                  </a:lnTo>
                  <a:lnTo>
                    <a:pt x="24" y="9"/>
                  </a:lnTo>
                  <a:lnTo>
                    <a:pt x="24" y="9"/>
                  </a:lnTo>
                  <a:lnTo>
                    <a:pt x="24" y="9"/>
                  </a:lnTo>
                  <a:lnTo>
                    <a:pt x="24" y="9"/>
                  </a:lnTo>
                  <a:lnTo>
                    <a:pt x="24" y="9"/>
                  </a:lnTo>
                  <a:lnTo>
                    <a:pt x="24" y="9"/>
                  </a:lnTo>
                  <a:lnTo>
                    <a:pt x="24" y="9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4700520" y="3359160"/>
              <a:ext cx="38160" cy="39600"/>
            </a:xfrm>
            <a:custGeom>
              <a:avLst/>
              <a:gdLst/>
              <a:ahLst/>
              <a:rect l="l" t="t" r="r" b="b"/>
              <a:pathLst>
                <a:path w="24" h="25">
                  <a:moveTo>
                    <a:pt x="16" y="0"/>
                  </a:move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9"/>
                  </a:lnTo>
                  <a:lnTo>
                    <a:pt x="24" y="9"/>
                  </a:lnTo>
                  <a:lnTo>
                    <a:pt x="24" y="9"/>
                  </a:lnTo>
                  <a:lnTo>
                    <a:pt x="24" y="9"/>
                  </a:lnTo>
                  <a:lnTo>
                    <a:pt x="24" y="9"/>
                  </a:lnTo>
                  <a:lnTo>
                    <a:pt x="24" y="9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4675320" y="3359160"/>
              <a:ext cx="37800" cy="39600"/>
            </a:xfrm>
            <a:custGeom>
              <a:avLst/>
              <a:gdLst/>
              <a:ahLst/>
              <a:rect l="l" t="t" r="r" b="b"/>
              <a:pathLst>
                <a:path w="24" h="25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17"/>
                  </a:lnTo>
                  <a:lnTo>
                    <a:pt x="16" y="17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9"/>
                  </a:lnTo>
                  <a:lnTo>
                    <a:pt x="24" y="9"/>
                  </a:lnTo>
                  <a:lnTo>
                    <a:pt x="24" y="9"/>
                  </a:lnTo>
                  <a:lnTo>
                    <a:pt x="24" y="9"/>
                  </a:lnTo>
                  <a:lnTo>
                    <a:pt x="24" y="9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4637160" y="3346560"/>
              <a:ext cx="50760" cy="3960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16" y="0"/>
                  </a:move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8" y="17"/>
                  </a:lnTo>
                  <a:lnTo>
                    <a:pt x="8" y="17"/>
                  </a:lnTo>
                  <a:lnTo>
                    <a:pt x="8" y="17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32" y="25"/>
                  </a:lnTo>
                  <a:lnTo>
                    <a:pt x="32" y="17"/>
                  </a:lnTo>
                  <a:lnTo>
                    <a:pt x="32" y="17"/>
                  </a:lnTo>
                  <a:lnTo>
                    <a:pt x="32" y="17"/>
                  </a:lnTo>
                  <a:lnTo>
                    <a:pt x="32" y="17"/>
                  </a:lnTo>
                  <a:lnTo>
                    <a:pt x="32" y="17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4611600" y="3346560"/>
              <a:ext cx="38160" cy="39600"/>
            </a:xfrm>
            <a:custGeom>
              <a:avLst/>
              <a:gdLst/>
              <a:ahLst/>
              <a:rect l="l" t="t" r="r" b="b"/>
              <a:pathLst>
                <a:path w="24" h="25">
                  <a:moveTo>
                    <a:pt x="16" y="0"/>
                  </a:move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4584600" y="3346560"/>
              <a:ext cx="39960" cy="3960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17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8" y="17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17" y="25"/>
                  </a:lnTo>
                  <a:lnTo>
                    <a:pt x="17" y="25"/>
                  </a:lnTo>
                  <a:lnTo>
                    <a:pt x="17" y="25"/>
                  </a:lnTo>
                  <a:lnTo>
                    <a:pt x="17" y="25"/>
                  </a:lnTo>
                  <a:lnTo>
                    <a:pt x="17" y="25"/>
                  </a:lnTo>
                  <a:lnTo>
                    <a:pt x="17" y="25"/>
                  </a:lnTo>
                  <a:lnTo>
                    <a:pt x="17" y="25"/>
                  </a:lnTo>
                  <a:lnTo>
                    <a:pt x="17" y="25"/>
                  </a:lnTo>
                  <a:lnTo>
                    <a:pt x="17" y="25"/>
                  </a:lnTo>
                  <a:lnTo>
                    <a:pt x="17" y="25"/>
                  </a:lnTo>
                  <a:lnTo>
                    <a:pt x="25" y="17"/>
                  </a:lnTo>
                  <a:lnTo>
                    <a:pt x="25" y="17"/>
                  </a:lnTo>
                  <a:lnTo>
                    <a:pt x="25" y="17"/>
                  </a:lnTo>
                  <a:lnTo>
                    <a:pt x="25" y="17"/>
                  </a:lnTo>
                  <a:lnTo>
                    <a:pt x="25" y="17"/>
                  </a:lnTo>
                  <a:lnTo>
                    <a:pt x="25" y="17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4559400" y="3333600"/>
              <a:ext cx="38160" cy="52560"/>
            </a:xfrm>
            <a:custGeom>
              <a:avLst/>
              <a:gdLst/>
              <a:ahLst/>
              <a:rect l="l" t="t" r="r" b="b"/>
              <a:pathLst>
                <a:path w="24" h="33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33"/>
                  </a:lnTo>
                  <a:lnTo>
                    <a:pt x="8" y="33"/>
                  </a:lnTo>
                  <a:lnTo>
                    <a:pt x="8" y="33"/>
                  </a:lnTo>
                  <a:lnTo>
                    <a:pt x="8" y="33"/>
                  </a:lnTo>
                  <a:lnTo>
                    <a:pt x="16" y="33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4533840" y="3333600"/>
              <a:ext cx="38160" cy="39960"/>
            </a:xfrm>
            <a:custGeom>
              <a:avLst/>
              <a:gdLst/>
              <a:ahLst/>
              <a:rect l="l" t="t" r="r" b="b"/>
              <a:pathLst>
                <a:path w="24" h="25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4495680" y="3333600"/>
              <a:ext cx="38160" cy="39960"/>
            </a:xfrm>
            <a:custGeom>
              <a:avLst/>
              <a:gdLst/>
              <a:ahLst/>
              <a:rect l="l" t="t" r="r" b="b"/>
              <a:pathLst>
                <a:path w="24" h="25">
                  <a:moveTo>
                    <a:pt x="16" y="0"/>
                  </a:move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4470480" y="332100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6" y="0"/>
                  </a:move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4444920" y="332100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4406760" y="3321000"/>
              <a:ext cx="51120" cy="3816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16" y="0"/>
                  </a:move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4381560" y="330840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6" y="0"/>
                  </a:move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4356000" y="330840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6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4329000" y="3308400"/>
              <a:ext cx="39960" cy="3816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4290840" y="3295800"/>
              <a:ext cx="51120" cy="50760"/>
            </a:xfrm>
            <a:custGeom>
              <a:avLst/>
              <a:gdLst/>
              <a:ahLst/>
              <a:rect l="l" t="t" r="r" b="b"/>
              <a:pathLst>
                <a:path w="32" h="32">
                  <a:moveTo>
                    <a:pt x="16" y="0"/>
                  </a:move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4265640" y="3295800"/>
              <a:ext cx="38160" cy="378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6" y="0"/>
                  </a:move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4240080" y="3295800"/>
              <a:ext cx="38160" cy="378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6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4214880" y="328284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4176720" y="3282840"/>
              <a:ext cx="50760" cy="3816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16" y="0"/>
                  </a:move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4151160" y="328284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6" y="0"/>
                  </a:move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4125960" y="3270240"/>
              <a:ext cx="38160" cy="50760"/>
            </a:xfrm>
            <a:custGeom>
              <a:avLst/>
              <a:gdLst/>
              <a:ahLst/>
              <a:rect l="l" t="t" r="r" b="b"/>
              <a:pathLst>
                <a:path w="24" h="32">
                  <a:moveTo>
                    <a:pt x="16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4098960" y="3270240"/>
              <a:ext cx="39600" cy="3816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9" y="0"/>
                  </a:move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4060800" y="3270240"/>
              <a:ext cx="52560" cy="38160"/>
            </a:xfrm>
            <a:custGeom>
              <a:avLst/>
              <a:gdLst/>
              <a:ahLst/>
              <a:rect l="l" t="t" r="r" b="b"/>
              <a:pathLst>
                <a:path w="33" h="24">
                  <a:moveTo>
                    <a:pt x="16" y="0"/>
                  </a:move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33" y="16"/>
                  </a:lnTo>
                  <a:lnTo>
                    <a:pt x="33" y="8"/>
                  </a:lnTo>
                  <a:lnTo>
                    <a:pt x="33" y="8"/>
                  </a:lnTo>
                  <a:lnTo>
                    <a:pt x="33" y="8"/>
                  </a:lnTo>
                  <a:lnTo>
                    <a:pt x="33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4035600" y="3257640"/>
              <a:ext cx="3780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6" y="0"/>
                  </a:move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4010040" y="325764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3984480" y="3244680"/>
              <a:ext cx="38160" cy="51120"/>
            </a:xfrm>
            <a:custGeom>
              <a:avLst/>
              <a:gdLst/>
              <a:ahLst/>
              <a:rect l="l" t="t" r="r" b="b"/>
              <a:pathLst>
                <a:path w="24" h="32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3946680" y="3244680"/>
              <a:ext cx="50760" cy="3816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16" y="0"/>
                  </a:move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921120" y="324468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6" y="0"/>
                  </a:move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895560" y="324468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870360" y="3232080"/>
              <a:ext cx="38160" cy="50760"/>
            </a:xfrm>
            <a:custGeom>
              <a:avLst/>
              <a:gdLst/>
              <a:ahLst/>
              <a:rect l="l" t="t" r="r" b="b"/>
              <a:pathLst>
                <a:path w="24" h="32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830760" y="3232080"/>
              <a:ext cx="52200" cy="38160"/>
            </a:xfrm>
            <a:custGeom>
              <a:avLst/>
              <a:gdLst/>
              <a:ahLst/>
              <a:rect l="l" t="t" r="r" b="b"/>
              <a:pathLst>
                <a:path w="33" h="24">
                  <a:moveTo>
                    <a:pt x="16" y="0"/>
                  </a:move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33" y="16"/>
                  </a:lnTo>
                  <a:lnTo>
                    <a:pt x="33" y="16"/>
                  </a:lnTo>
                  <a:lnTo>
                    <a:pt x="33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805200" y="323208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6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3780000" y="3219480"/>
              <a:ext cx="3780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3754440" y="321948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3716280" y="3219480"/>
              <a:ext cx="50760" cy="3816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16" y="0"/>
                  </a:move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32" y="16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3691080" y="3206880"/>
              <a:ext cx="37800" cy="50760"/>
            </a:xfrm>
            <a:custGeom>
              <a:avLst/>
              <a:gdLst/>
              <a:ahLst/>
              <a:rect l="l" t="t" r="r" b="b"/>
              <a:pathLst>
                <a:path w="24" h="32">
                  <a:moveTo>
                    <a:pt x="16" y="0"/>
                  </a:move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32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3665520" y="3206880"/>
              <a:ext cx="38160" cy="378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3639960" y="3206880"/>
              <a:ext cx="38160" cy="378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600360" y="3193920"/>
              <a:ext cx="52560" cy="50760"/>
            </a:xfrm>
            <a:custGeom>
              <a:avLst/>
              <a:gdLst/>
              <a:ahLst/>
              <a:rect l="l" t="t" r="r" b="b"/>
              <a:pathLst>
                <a:path w="33" h="32">
                  <a:moveTo>
                    <a:pt x="17" y="0"/>
                  </a:moveTo>
                  <a:lnTo>
                    <a:pt x="17" y="0"/>
                  </a:lnTo>
                  <a:lnTo>
                    <a:pt x="17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7" y="24"/>
                  </a:lnTo>
                  <a:lnTo>
                    <a:pt x="17" y="32"/>
                  </a:lnTo>
                  <a:lnTo>
                    <a:pt x="17" y="32"/>
                  </a:lnTo>
                  <a:lnTo>
                    <a:pt x="17" y="32"/>
                  </a:lnTo>
                  <a:lnTo>
                    <a:pt x="17" y="32"/>
                  </a:lnTo>
                  <a:lnTo>
                    <a:pt x="17" y="32"/>
                  </a:lnTo>
                  <a:lnTo>
                    <a:pt x="17" y="32"/>
                  </a:lnTo>
                  <a:lnTo>
                    <a:pt x="17" y="32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33" y="16"/>
                  </a:lnTo>
                  <a:lnTo>
                    <a:pt x="33" y="16"/>
                  </a:lnTo>
                  <a:lnTo>
                    <a:pt x="33" y="16"/>
                  </a:lnTo>
                  <a:lnTo>
                    <a:pt x="33" y="16"/>
                  </a:lnTo>
                  <a:lnTo>
                    <a:pt x="33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3575160" y="319392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6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3549600" y="319392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3524400" y="3181320"/>
              <a:ext cx="3780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3486240" y="3181320"/>
              <a:ext cx="50760" cy="3816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16" y="0"/>
                  </a:move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32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3460680" y="318132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6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3435480" y="3168720"/>
              <a:ext cx="37800" cy="50760"/>
            </a:xfrm>
            <a:custGeom>
              <a:avLst/>
              <a:gdLst/>
              <a:ahLst/>
              <a:rect l="l" t="t" r="r" b="b"/>
              <a:pathLst>
                <a:path w="24" h="32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3409920" y="316872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3370320" y="3168720"/>
              <a:ext cx="52200" cy="38160"/>
            </a:xfrm>
            <a:custGeom>
              <a:avLst/>
              <a:gdLst/>
              <a:ahLst/>
              <a:rect l="l" t="t" r="r" b="b"/>
              <a:pathLst>
                <a:path w="33" h="24">
                  <a:moveTo>
                    <a:pt x="17" y="0"/>
                  </a:moveTo>
                  <a:lnTo>
                    <a:pt x="17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9" y="16"/>
                  </a:lnTo>
                  <a:lnTo>
                    <a:pt x="9" y="16"/>
                  </a:lnTo>
                  <a:lnTo>
                    <a:pt x="9" y="16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33" y="8"/>
                  </a:lnTo>
                  <a:lnTo>
                    <a:pt x="33" y="8"/>
                  </a:lnTo>
                  <a:lnTo>
                    <a:pt x="33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3344760" y="3156120"/>
              <a:ext cx="39960" cy="50760"/>
            </a:xfrm>
            <a:custGeom>
              <a:avLst/>
              <a:gdLst/>
              <a:ahLst/>
              <a:rect l="l" t="t" r="r" b="b"/>
              <a:pathLst>
                <a:path w="25" h="32">
                  <a:moveTo>
                    <a:pt x="16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3319560" y="3156120"/>
              <a:ext cx="38160" cy="378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8" name=""/>
          <p:cNvGrpSpPr/>
          <p:nvPr/>
        </p:nvGrpSpPr>
        <p:grpSpPr>
          <a:xfrm>
            <a:off x="2770200" y="3079800"/>
            <a:ext cx="4129200" cy="2627280"/>
            <a:chOff x="2770200" y="3079800"/>
            <a:chExt cx="4129200" cy="2627280"/>
          </a:xfrm>
        </p:grpSpPr>
        <p:sp>
          <p:nvSpPr>
            <p:cNvPr id="679" name=""/>
            <p:cNvSpPr/>
            <p:nvPr/>
          </p:nvSpPr>
          <p:spPr>
            <a:xfrm>
              <a:off x="3294000" y="3156120"/>
              <a:ext cx="38160" cy="378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3255840" y="3143160"/>
              <a:ext cx="38160" cy="50760"/>
            </a:xfrm>
            <a:custGeom>
              <a:avLst/>
              <a:gdLst/>
              <a:ahLst/>
              <a:rect l="l" t="t" r="r" b="b"/>
              <a:pathLst>
                <a:path w="24" h="32">
                  <a:moveTo>
                    <a:pt x="16" y="0"/>
                  </a:move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3230640" y="314316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6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205080" y="314316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3179880" y="3130560"/>
              <a:ext cx="38160" cy="50760"/>
            </a:xfrm>
            <a:custGeom>
              <a:avLst/>
              <a:gdLst/>
              <a:ahLst/>
              <a:rect l="l" t="t" r="r" b="b"/>
              <a:pathLst>
                <a:path w="24" h="32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3141720" y="3130560"/>
              <a:ext cx="50760" cy="3816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16" y="0"/>
                  </a:move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32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3114720" y="3130560"/>
              <a:ext cx="39600" cy="3816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17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25" y="24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3089160" y="311796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3051000" y="3117960"/>
              <a:ext cx="51120" cy="3816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16" y="0"/>
                  </a:move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3025800" y="3117960"/>
              <a:ext cx="50760" cy="3816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16" y="0"/>
                  </a:move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32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3000240" y="310500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6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975040" y="310500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936880" y="3105000"/>
              <a:ext cx="50760" cy="3816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16" y="0"/>
                  </a:move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2911320" y="309240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6" y="0"/>
                  </a:move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884320" y="3092400"/>
              <a:ext cx="39960" cy="3816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9" y="0"/>
                  </a:move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859120" y="3092400"/>
              <a:ext cx="39600" cy="3816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2820960" y="3079800"/>
              <a:ext cx="50760" cy="50760"/>
            </a:xfrm>
            <a:custGeom>
              <a:avLst/>
              <a:gdLst/>
              <a:ahLst/>
              <a:rect l="l" t="t" r="r" b="b"/>
              <a:pathLst>
                <a:path w="32" h="32">
                  <a:moveTo>
                    <a:pt x="16" y="0"/>
                  </a:move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2795760" y="3079800"/>
              <a:ext cx="3780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6" y="0"/>
                  </a:move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2770200" y="307980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6848640" y="5578560"/>
              <a:ext cx="50760" cy="3816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16" y="0"/>
                  </a:move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32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6823080" y="557856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6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6797520" y="5578560"/>
              <a:ext cx="38160" cy="50760"/>
            </a:xfrm>
            <a:custGeom>
              <a:avLst/>
              <a:gdLst/>
              <a:ahLst/>
              <a:rect l="l" t="t" r="r" b="b"/>
              <a:pathLst>
                <a:path w="24" h="32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6757920" y="5578560"/>
              <a:ext cx="52560" cy="50760"/>
            </a:xfrm>
            <a:custGeom>
              <a:avLst/>
              <a:gdLst/>
              <a:ahLst/>
              <a:rect l="l" t="t" r="r" b="b"/>
              <a:pathLst>
                <a:path w="33" h="32">
                  <a:moveTo>
                    <a:pt x="16" y="0"/>
                  </a:moveTo>
                  <a:lnTo>
                    <a:pt x="16" y="0"/>
                  </a:lnTo>
                  <a:lnTo>
                    <a:pt x="16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25" y="32"/>
                  </a:lnTo>
                  <a:lnTo>
                    <a:pt x="25" y="32"/>
                  </a:lnTo>
                  <a:lnTo>
                    <a:pt x="25" y="32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33" y="24"/>
                  </a:lnTo>
                  <a:lnTo>
                    <a:pt x="33" y="16"/>
                  </a:lnTo>
                  <a:lnTo>
                    <a:pt x="33" y="16"/>
                  </a:lnTo>
                  <a:lnTo>
                    <a:pt x="33" y="16"/>
                  </a:lnTo>
                  <a:lnTo>
                    <a:pt x="33" y="16"/>
                  </a:lnTo>
                  <a:lnTo>
                    <a:pt x="33" y="16"/>
                  </a:lnTo>
                  <a:lnTo>
                    <a:pt x="33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6732720" y="5591160"/>
              <a:ext cx="3780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6" y="0"/>
                  </a:move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6707160" y="559116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6681960" y="5591160"/>
              <a:ext cx="3780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6643800" y="5591160"/>
              <a:ext cx="50760" cy="3816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16" y="0"/>
                  </a:move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6618240" y="559116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6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6593040" y="5591160"/>
              <a:ext cx="37800" cy="50760"/>
            </a:xfrm>
            <a:custGeom>
              <a:avLst/>
              <a:gdLst/>
              <a:ahLst/>
              <a:rect l="l" t="t" r="r" b="b"/>
              <a:pathLst>
                <a:path w="24" h="32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6554880" y="5591160"/>
              <a:ext cx="50760" cy="50760"/>
            </a:xfrm>
            <a:custGeom>
              <a:avLst/>
              <a:gdLst/>
              <a:ahLst/>
              <a:rect l="l" t="t" r="r" b="b"/>
              <a:pathLst>
                <a:path w="32" h="32">
                  <a:moveTo>
                    <a:pt x="16" y="0"/>
                  </a:moveTo>
                  <a:lnTo>
                    <a:pt x="16" y="0"/>
                  </a:lnTo>
                  <a:lnTo>
                    <a:pt x="16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24" y="32"/>
                  </a:lnTo>
                  <a:lnTo>
                    <a:pt x="24" y="32"/>
                  </a:lnTo>
                  <a:lnTo>
                    <a:pt x="24" y="32"/>
                  </a:lnTo>
                  <a:lnTo>
                    <a:pt x="24" y="32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32" y="24"/>
                  </a:lnTo>
                  <a:lnTo>
                    <a:pt x="32" y="24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6527880" y="5603760"/>
              <a:ext cx="52200" cy="38160"/>
            </a:xfrm>
            <a:custGeom>
              <a:avLst/>
              <a:gdLst/>
              <a:ahLst/>
              <a:rect l="l" t="t" r="r" b="b"/>
              <a:pathLst>
                <a:path w="33" h="24">
                  <a:moveTo>
                    <a:pt x="17" y="0"/>
                  </a:moveTo>
                  <a:lnTo>
                    <a:pt x="17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33" y="8"/>
                  </a:lnTo>
                  <a:lnTo>
                    <a:pt x="33" y="8"/>
                  </a:lnTo>
                  <a:lnTo>
                    <a:pt x="33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6502320" y="560376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6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6477120" y="560376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6438960" y="5603760"/>
              <a:ext cx="50760" cy="3816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16" y="0"/>
                  </a:move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6413400" y="560376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6" y="0"/>
                  </a:move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6388200" y="5603760"/>
              <a:ext cx="38160" cy="52560"/>
            </a:xfrm>
            <a:custGeom>
              <a:avLst/>
              <a:gdLst/>
              <a:ahLst/>
              <a:rect l="l" t="t" r="r" b="b"/>
              <a:pathLst>
                <a:path w="24" h="33">
                  <a:moveTo>
                    <a:pt x="16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33"/>
                  </a:lnTo>
                  <a:lnTo>
                    <a:pt x="8" y="33"/>
                  </a:lnTo>
                  <a:lnTo>
                    <a:pt x="8" y="33"/>
                  </a:lnTo>
                  <a:lnTo>
                    <a:pt x="8" y="33"/>
                  </a:lnTo>
                  <a:lnTo>
                    <a:pt x="16" y="33"/>
                  </a:lnTo>
                  <a:lnTo>
                    <a:pt x="16" y="33"/>
                  </a:lnTo>
                  <a:lnTo>
                    <a:pt x="16" y="33"/>
                  </a:lnTo>
                  <a:lnTo>
                    <a:pt x="16" y="33"/>
                  </a:lnTo>
                  <a:lnTo>
                    <a:pt x="16" y="33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6350040" y="5603760"/>
              <a:ext cx="50760" cy="52560"/>
            </a:xfrm>
            <a:custGeom>
              <a:avLst/>
              <a:gdLst/>
              <a:ahLst/>
              <a:rect l="l" t="t" r="r" b="b"/>
              <a:pathLst>
                <a:path w="32" h="33">
                  <a:moveTo>
                    <a:pt x="16" y="0"/>
                  </a:moveTo>
                  <a:lnTo>
                    <a:pt x="16" y="0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33"/>
                  </a:lnTo>
                  <a:lnTo>
                    <a:pt x="8" y="33"/>
                  </a:lnTo>
                  <a:lnTo>
                    <a:pt x="16" y="33"/>
                  </a:lnTo>
                  <a:lnTo>
                    <a:pt x="16" y="33"/>
                  </a:lnTo>
                  <a:lnTo>
                    <a:pt x="16" y="33"/>
                  </a:lnTo>
                  <a:lnTo>
                    <a:pt x="16" y="33"/>
                  </a:lnTo>
                  <a:lnTo>
                    <a:pt x="16" y="33"/>
                  </a:lnTo>
                  <a:lnTo>
                    <a:pt x="16" y="33"/>
                  </a:lnTo>
                  <a:lnTo>
                    <a:pt x="16" y="33"/>
                  </a:lnTo>
                  <a:lnTo>
                    <a:pt x="16" y="33"/>
                  </a:lnTo>
                  <a:lnTo>
                    <a:pt x="16" y="33"/>
                  </a:lnTo>
                  <a:lnTo>
                    <a:pt x="16" y="33"/>
                  </a:lnTo>
                  <a:lnTo>
                    <a:pt x="24" y="33"/>
                  </a:lnTo>
                  <a:lnTo>
                    <a:pt x="24" y="33"/>
                  </a:lnTo>
                  <a:lnTo>
                    <a:pt x="24" y="33"/>
                  </a:lnTo>
                  <a:lnTo>
                    <a:pt x="24" y="33"/>
                  </a:lnTo>
                  <a:lnTo>
                    <a:pt x="24" y="33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32" y="24"/>
                  </a:lnTo>
                  <a:lnTo>
                    <a:pt x="32" y="24"/>
                  </a:lnTo>
                  <a:lnTo>
                    <a:pt x="32" y="24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6324480" y="5603760"/>
              <a:ext cx="50760" cy="52560"/>
            </a:xfrm>
            <a:custGeom>
              <a:avLst/>
              <a:gdLst/>
              <a:ahLst/>
              <a:rect l="l" t="t" r="r" b="b"/>
              <a:pathLst>
                <a:path w="32" h="33">
                  <a:moveTo>
                    <a:pt x="16" y="0"/>
                  </a:moveTo>
                  <a:lnTo>
                    <a:pt x="16" y="0"/>
                  </a:lnTo>
                  <a:lnTo>
                    <a:pt x="16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33"/>
                  </a:lnTo>
                  <a:lnTo>
                    <a:pt x="16" y="33"/>
                  </a:lnTo>
                  <a:lnTo>
                    <a:pt x="16" y="33"/>
                  </a:lnTo>
                  <a:lnTo>
                    <a:pt x="16" y="33"/>
                  </a:lnTo>
                  <a:lnTo>
                    <a:pt x="16" y="33"/>
                  </a:lnTo>
                  <a:lnTo>
                    <a:pt x="16" y="33"/>
                  </a:lnTo>
                  <a:lnTo>
                    <a:pt x="16" y="33"/>
                  </a:lnTo>
                  <a:lnTo>
                    <a:pt x="16" y="33"/>
                  </a:lnTo>
                  <a:lnTo>
                    <a:pt x="16" y="33"/>
                  </a:lnTo>
                  <a:lnTo>
                    <a:pt x="16" y="33"/>
                  </a:lnTo>
                  <a:lnTo>
                    <a:pt x="16" y="33"/>
                  </a:lnTo>
                  <a:lnTo>
                    <a:pt x="24" y="33"/>
                  </a:lnTo>
                  <a:lnTo>
                    <a:pt x="24" y="33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32" y="24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6297480" y="5616720"/>
              <a:ext cx="39960" cy="3960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17" y="0"/>
                  </a:move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9" y="16"/>
                  </a:lnTo>
                  <a:lnTo>
                    <a:pt x="9" y="16"/>
                  </a:lnTo>
                  <a:lnTo>
                    <a:pt x="9" y="25"/>
                  </a:lnTo>
                  <a:lnTo>
                    <a:pt x="9" y="25"/>
                  </a:lnTo>
                  <a:lnTo>
                    <a:pt x="9" y="25"/>
                  </a:lnTo>
                  <a:lnTo>
                    <a:pt x="9" y="25"/>
                  </a:lnTo>
                  <a:lnTo>
                    <a:pt x="9" y="25"/>
                  </a:lnTo>
                  <a:lnTo>
                    <a:pt x="9" y="25"/>
                  </a:lnTo>
                  <a:lnTo>
                    <a:pt x="9" y="25"/>
                  </a:lnTo>
                  <a:lnTo>
                    <a:pt x="17" y="25"/>
                  </a:lnTo>
                  <a:lnTo>
                    <a:pt x="17" y="25"/>
                  </a:lnTo>
                  <a:lnTo>
                    <a:pt x="17" y="25"/>
                  </a:lnTo>
                  <a:lnTo>
                    <a:pt x="17" y="25"/>
                  </a:lnTo>
                  <a:lnTo>
                    <a:pt x="17" y="25"/>
                  </a:lnTo>
                  <a:lnTo>
                    <a:pt x="17" y="25"/>
                  </a:lnTo>
                  <a:lnTo>
                    <a:pt x="17" y="25"/>
                  </a:lnTo>
                  <a:lnTo>
                    <a:pt x="17" y="25"/>
                  </a:lnTo>
                  <a:lnTo>
                    <a:pt x="17" y="25"/>
                  </a:lnTo>
                  <a:lnTo>
                    <a:pt x="17" y="25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6272280" y="5616720"/>
              <a:ext cx="39600" cy="3960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6246720" y="5616720"/>
              <a:ext cx="38160" cy="39600"/>
            </a:xfrm>
            <a:custGeom>
              <a:avLst/>
              <a:gdLst/>
              <a:ahLst/>
              <a:rect l="l" t="t" r="r" b="b"/>
              <a:pathLst>
                <a:path w="24" h="25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6208560" y="5616720"/>
              <a:ext cx="38160" cy="39600"/>
            </a:xfrm>
            <a:custGeom>
              <a:avLst/>
              <a:gdLst/>
              <a:ahLst/>
              <a:rect l="l" t="t" r="r" b="b"/>
              <a:pathLst>
                <a:path w="24" h="25">
                  <a:moveTo>
                    <a:pt x="16" y="0"/>
                  </a:move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83360" y="5616720"/>
              <a:ext cx="38160" cy="39600"/>
            </a:xfrm>
            <a:custGeom>
              <a:avLst/>
              <a:gdLst/>
              <a:ahLst/>
              <a:rect l="l" t="t" r="r" b="b"/>
              <a:pathLst>
                <a:path w="24" h="25">
                  <a:moveTo>
                    <a:pt x="16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24" y="25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6157800" y="5616720"/>
              <a:ext cx="38160" cy="39600"/>
            </a:xfrm>
            <a:custGeom>
              <a:avLst/>
              <a:gdLst/>
              <a:ahLst/>
              <a:rect l="l" t="t" r="r" b="b"/>
              <a:pathLst>
                <a:path w="24" h="25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24" y="25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6119640" y="5616720"/>
              <a:ext cx="51120" cy="3960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16" y="0"/>
                  </a:move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6094440" y="5616720"/>
              <a:ext cx="38160" cy="39600"/>
            </a:xfrm>
            <a:custGeom>
              <a:avLst/>
              <a:gdLst/>
              <a:ahLst/>
              <a:rect l="l" t="t" r="r" b="b"/>
              <a:pathLst>
                <a:path w="24" h="25">
                  <a:moveTo>
                    <a:pt x="16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6068880" y="5616720"/>
              <a:ext cx="38160" cy="39600"/>
            </a:xfrm>
            <a:custGeom>
              <a:avLst/>
              <a:gdLst/>
              <a:ahLst/>
              <a:rect l="l" t="t" r="r" b="b"/>
              <a:pathLst>
                <a:path w="24" h="25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6029280" y="5616720"/>
              <a:ext cx="52560" cy="52200"/>
            </a:xfrm>
            <a:custGeom>
              <a:avLst/>
              <a:gdLst/>
              <a:ahLst/>
              <a:rect l="l" t="t" r="r" b="b"/>
              <a:pathLst>
                <a:path w="33" h="33">
                  <a:moveTo>
                    <a:pt x="16" y="0"/>
                  </a:move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33"/>
                  </a:lnTo>
                  <a:lnTo>
                    <a:pt x="16" y="33"/>
                  </a:lnTo>
                  <a:lnTo>
                    <a:pt x="16" y="33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25" y="25"/>
                  </a:lnTo>
                  <a:lnTo>
                    <a:pt x="25" y="25"/>
                  </a:lnTo>
                  <a:lnTo>
                    <a:pt x="25" y="25"/>
                  </a:lnTo>
                  <a:lnTo>
                    <a:pt x="25" y="25"/>
                  </a:lnTo>
                  <a:lnTo>
                    <a:pt x="25" y="25"/>
                  </a:lnTo>
                  <a:lnTo>
                    <a:pt x="25" y="25"/>
                  </a:lnTo>
                  <a:lnTo>
                    <a:pt x="25" y="25"/>
                  </a:lnTo>
                  <a:lnTo>
                    <a:pt x="25" y="25"/>
                  </a:lnTo>
                  <a:lnTo>
                    <a:pt x="33" y="16"/>
                  </a:lnTo>
                  <a:lnTo>
                    <a:pt x="33" y="16"/>
                  </a:lnTo>
                  <a:lnTo>
                    <a:pt x="33" y="16"/>
                  </a:lnTo>
                  <a:lnTo>
                    <a:pt x="33" y="16"/>
                  </a:lnTo>
                  <a:lnTo>
                    <a:pt x="33" y="16"/>
                  </a:lnTo>
                  <a:lnTo>
                    <a:pt x="33" y="8"/>
                  </a:lnTo>
                  <a:lnTo>
                    <a:pt x="33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6004080" y="5616720"/>
              <a:ext cx="37800" cy="52200"/>
            </a:xfrm>
            <a:custGeom>
              <a:avLst/>
              <a:gdLst/>
              <a:ahLst/>
              <a:rect l="l" t="t" r="r" b="b"/>
              <a:pathLst>
                <a:path w="24" h="33">
                  <a:moveTo>
                    <a:pt x="16" y="0"/>
                  </a:move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33"/>
                  </a:lnTo>
                  <a:lnTo>
                    <a:pt x="16" y="33"/>
                  </a:lnTo>
                  <a:lnTo>
                    <a:pt x="16" y="33"/>
                  </a:lnTo>
                  <a:lnTo>
                    <a:pt x="16" y="33"/>
                  </a:lnTo>
                  <a:lnTo>
                    <a:pt x="16" y="33"/>
                  </a:lnTo>
                  <a:lnTo>
                    <a:pt x="16" y="33"/>
                  </a:lnTo>
                  <a:lnTo>
                    <a:pt x="16" y="33"/>
                  </a:lnTo>
                  <a:lnTo>
                    <a:pt x="16" y="33"/>
                  </a:lnTo>
                  <a:lnTo>
                    <a:pt x="16" y="33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5978520" y="5616720"/>
              <a:ext cx="38160" cy="52200"/>
            </a:xfrm>
            <a:custGeom>
              <a:avLst/>
              <a:gdLst/>
              <a:ahLst/>
              <a:rect l="l" t="t" r="r" b="b"/>
              <a:pathLst>
                <a:path w="24" h="33">
                  <a:moveTo>
                    <a:pt x="16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33"/>
                  </a:lnTo>
                  <a:lnTo>
                    <a:pt x="8" y="33"/>
                  </a:lnTo>
                  <a:lnTo>
                    <a:pt x="8" y="33"/>
                  </a:lnTo>
                  <a:lnTo>
                    <a:pt x="8" y="33"/>
                  </a:lnTo>
                  <a:lnTo>
                    <a:pt x="8" y="33"/>
                  </a:lnTo>
                  <a:lnTo>
                    <a:pt x="8" y="33"/>
                  </a:lnTo>
                  <a:lnTo>
                    <a:pt x="16" y="33"/>
                  </a:lnTo>
                  <a:lnTo>
                    <a:pt x="16" y="33"/>
                  </a:lnTo>
                  <a:lnTo>
                    <a:pt x="16" y="33"/>
                  </a:lnTo>
                  <a:lnTo>
                    <a:pt x="16" y="33"/>
                  </a:lnTo>
                  <a:lnTo>
                    <a:pt x="16" y="33"/>
                  </a:lnTo>
                  <a:lnTo>
                    <a:pt x="16" y="33"/>
                  </a:lnTo>
                  <a:lnTo>
                    <a:pt x="16" y="33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5952960" y="5616720"/>
              <a:ext cx="38160" cy="52200"/>
            </a:xfrm>
            <a:custGeom>
              <a:avLst/>
              <a:gdLst/>
              <a:ahLst/>
              <a:rect l="l" t="t" r="r" b="b"/>
              <a:pathLst>
                <a:path w="24" h="33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8" y="25"/>
                  </a:lnTo>
                  <a:lnTo>
                    <a:pt x="8" y="33"/>
                  </a:lnTo>
                  <a:lnTo>
                    <a:pt x="8" y="33"/>
                  </a:lnTo>
                  <a:lnTo>
                    <a:pt x="8" y="33"/>
                  </a:lnTo>
                  <a:lnTo>
                    <a:pt x="8" y="33"/>
                  </a:lnTo>
                  <a:lnTo>
                    <a:pt x="8" y="33"/>
                  </a:lnTo>
                  <a:lnTo>
                    <a:pt x="8" y="33"/>
                  </a:lnTo>
                  <a:lnTo>
                    <a:pt x="8" y="33"/>
                  </a:lnTo>
                  <a:lnTo>
                    <a:pt x="8" y="33"/>
                  </a:lnTo>
                  <a:lnTo>
                    <a:pt x="8" y="33"/>
                  </a:lnTo>
                  <a:lnTo>
                    <a:pt x="16" y="33"/>
                  </a:lnTo>
                  <a:lnTo>
                    <a:pt x="16" y="33"/>
                  </a:lnTo>
                  <a:lnTo>
                    <a:pt x="16" y="33"/>
                  </a:lnTo>
                  <a:lnTo>
                    <a:pt x="16" y="33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5915160" y="5629320"/>
              <a:ext cx="50760" cy="3960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16" y="0"/>
                  </a:move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8" y="17"/>
                  </a:lnTo>
                  <a:lnTo>
                    <a:pt x="8" y="17"/>
                  </a:lnTo>
                  <a:lnTo>
                    <a:pt x="8" y="17"/>
                  </a:lnTo>
                  <a:lnTo>
                    <a:pt x="8" y="17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32" y="17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5889600" y="5629320"/>
              <a:ext cx="38160" cy="39600"/>
            </a:xfrm>
            <a:custGeom>
              <a:avLst/>
              <a:gdLst/>
              <a:ahLst/>
              <a:rect l="l" t="t" r="r" b="b"/>
              <a:pathLst>
                <a:path w="24" h="25">
                  <a:moveTo>
                    <a:pt x="16" y="0"/>
                  </a:move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8" y="17"/>
                  </a:lnTo>
                  <a:lnTo>
                    <a:pt x="8" y="17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24" y="25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5864400" y="5629320"/>
              <a:ext cx="37800" cy="39600"/>
            </a:xfrm>
            <a:custGeom>
              <a:avLst/>
              <a:gdLst/>
              <a:ahLst/>
              <a:rect l="l" t="t" r="r" b="b"/>
              <a:pathLst>
                <a:path w="24" h="25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5838840" y="5629320"/>
              <a:ext cx="38160" cy="39600"/>
            </a:xfrm>
            <a:custGeom>
              <a:avLst/>
              <a:gdLst/>
              <a:ahLst/>
              <a:rect l="l" t="t" r="r" b="b"/>
              <a:pathLst>
                <a:path w="24" h="25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17"/>
                  </a:lnTo>
                  <a:lnTo>
                    <a:pt x="16" y="17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799240" y="5629320"/>
              <a:ext cx="39600" cy="3960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17" y="0"/>
                  </a:moveTo>
                  <a:lnTo>
                    <a:pt x="17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8" y="17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17" y="25"/>
                  </a:lnTo>
                  <a:lnTo>
                    <a:pt x="17" y="25"/>
                  </a:lnTo>
                  <a:lnTo>
                    <a:pt x="17" y="25"/>
                  </a:lnTo>
                  <a:lnTo>
                    <a:pt x="17" y="25"/>
                  </a:lnTo>
                  <a:lnTo>
                    <a:pt x="17" y="25"/>
                  </a:lnTo>
                  <a:lnTo>
                    <a:pt x="17" y="25"/>
                  </a:lnTo>
                  <a:lnTo>
                    <a:pt x="17" y="25"/>
                  </a:lnTo>
                  <a:lnTo>
                    <a:pt x="17" y="25"/>
                  </a:lnTo>
                  <a:lnTo>
                    <a:pt x="17" y="25"/>
                  </a:lnTo>
                  <a:lnTo>
                    <a:pt x="17" y="25"/>
                  </a:lnTo>
                  <a:lnTo>
                    <a:pt x="25" y="25"/>
                  </a:lnTo>
                  <a:lnTo>
                    <a:pt x="25" y="25"/>
                  </a:lnTo>
                  <a:lnTo>
                    <a:pt x="25" y="25"/>
                  </a:lnTo>
                  <a:lnTo>
                    <a:pt x="25" y="25"/>
                  </a:lnTo>
                  <a:lnTo>
                    <a:pt x="25" y="17"/>
                  </a:lnTo>
                  <a:lnTo>
                    <a:pt x="25" y="17"/>
                  </a:lnTo>
                  <a:lnTo>
                    <a:pt x="25" y="17"/>
                  </a:lnTo>
                  <a:lnTo>
                    <a:pt x="25" y="17"/>
                  </a:lnTo>
                  <a:lnTo>
                    <a:pt x="25" y="17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5773680" y="5629320"/>
              <a:ext cx="38160" cy="39600"/>
            </a:xfrm>
            <a:custGeom>
              <a:avLst/>
              <a:gdLst/>
              <a:ahLst/>
              <a:rect l="l" t="t" r="r" b="b"/>
              <a:pathLst>
                <a:path w="24" h="25">
                  <a:moveTo>
                    <a:pt x="16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5748480" y="5629320"/>
              <a:ext cx="37800" cy="39600"/>
            </a:xfrm>
            <a:custGeom>
              <a:avLst/>
              <a:gdLst/>
              <a:ahLst/>
              <a:rect l="l" t="t" r="r" b="b"/>
              <a:pathLst>
                <a:path w="24" h="25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24" y="25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5710320" y="5629320"/>
              <a:ext cx="50760" cy="3960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16" y="0"/>
                  </a:move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8" y="17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32" y="17"/>
                  </a:lnTo>
                  <a:lnTo>
                    <a:pt x="32" y="17"/>
                  </a:lnTo>
                  <a:lnTo>
                    <a:pt x="32" y="17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5684760" y="5629320"/>
              <a:ext cx="38160" cy="39600"/>
            </a:xfrm>
            <a:custGeom>
              <a:avLst/>
              <a:gdLst/>
              <a:ahLst/>
              <a:rect l="l" t="t" r="r" b="b"/>
              <a:pathLst>
                <a:path w="24" h="25">
                  <a:moveTo>
                    <a:pt x="16" y="0"/>
                  </a:move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5659560" y="5629320"/>
              <a:ext cx="37800" cy="39600"/>
            </a:xfrm>
            <a:custGeom>
              <a:avLst/>
              <a:gdLst/>
              <a:ahLst/>
              <a:rect l="l" t="t" r="r" b="b"/>
              <a:pathLst>
                <a:path w="24" h="25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621400" y="5629320"/>
              <a:ext cx="50760" cy="3960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16" y="0"/>
                  </a:move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8" y="17"/>
                  </a:lnTo>
                  <a:lnTo>
                    <a:pt x="8" y="17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32" y="17"/>
                  </a:lnTo>
                  <a:lnTo>
                    <a:pt x="32" y="17"/>
                  </a:lnTo>
                  <a:lnTo>
                    <a:pt x="32" y="17"/>
                  </a:lnTo>
                  <a:lnTo>
                    <a:pt x="32" y="17"/>
                  </a:lnTo>
                  <a:lnTo>
                    <a:pt x="32" y="17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5595840" y="5629320"/>
              <a:ext cx="50760" cy="52200"/>
            </a:xfrm>
            <a:custGeom>
              <a:avLst/>
              <a:gdLst/>
              <a:ahLst/>
              <a:rect l="l" t="t" r="r" b="b"/>
              <a:pathLst>
                <a:path w="32" h="33">
                  <a:moveTo>
                    <a:pt x="16" y="0"/>
                  </a:move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33"/>
                  </a:lnTo>
                  <a:lnTo>
                    <a:pt x="16" y="33"/>
                  </a:lnTo>
                  <a:lnTo>
                    <a:pt x="16" y="33"/>
                  </a:lnTo>
                  <a:lnTo>
                    <a:pt x="16" y="33"/>
                  </a:lnTo>
                  <a:lnTo>
                    <a:pt x="16" y="33"/>
                  </a:lnTo>
                  <a:lnTo>
                    <a:pt x="16" y="33"/>
                  </a:lnTo>
                  <a:lnTo>
                    <a:pt x="16" y="33"/>
                  </a:lnTo>
                  <a:lnTo>
                    <a:pt x="16" y="33"/>
                  </a:lnTo>
                  <a:lnTo>
                    <a:pt x="16" y="33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32" y="17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8840" y="5629320"/>
              <a:ext cx="39960" cy="52200"/>
            </a:xfrm>
            <a:custGeom>
              <a:avLst/>
              <a:gdLst/>
              <a:ahLst/>
              <a:rect l="l" t="t" r="r" b="b"/>
              <a:pathLst>
                <a:path w="25" h="33">
                  <a:moveTo>
                    <a:pt x="17" y="0"/>
                  </a:moveTo>
                  <a:lnTo>
                    <a:pt x="9" y="0"/>
                  </a:lnTo>
                  <a:lnTo>
                    <a:pt x="9" y="0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9" y="25"/>
                  </a:lnTo>
                  <a:lnTo>
                    <a:pt x="9" y="25"/>
                  </a:lnTo>
                  <a:lnTo>
                    <a:pt x="9" y="25"/>
                  </a:lnTo>
                  <a:lnTo>
                    <a:pt x="9" y="33"/>
                  </a:lnTo>
                  <a:lnTo>
                    <a:pt x="9" y="33"/>
                  </a:lnTo>
                  <a:lnTo>
                    <a:pt x="9" y="33"/>
                  </a:lnTo>
                  <a:lnTo>
                    <a:pt x="9" y="33"/>
                  </a:lnTo>
                  <a:lnTo>
                    <a:pt x="9" y="33"/>
                  </a:lnTo>
                  <a:lnTo>
                    <a:pt x="17" y="33"/>
                  </a:lnTo>
                  <a:lnTo>
                    <a:pt x="17" y="33"/>
                  </a:lnTo>
                  <a:lnTo>
                    <a:pt x="17" y="33"/>
                  </a:lnTo>
                  <a:lnTo>
                    <a:pt x="17" y="33"/>
                  </a:lnTo>
                  <a:lnTo>
                    <a:pt x="17" y="33"/>
                  </a:lnTo>
                  <a:lnTo>
                    <a:pt x="17" y="33"/>
                  </a:lnTo>
                  <a:lnTo>
                    <a:pt x="17" y="33"/>
                  </a:lnTo>
                  <a:lnTo>
                    <a:pt x="17" y="33"/>
                  </a:lnTo>
                  <a:lnTo>
                    <a:pt x="17" y="25"/>
                  </a:lnTo>
                  <a:lnTo>
                    <a:pt x="17" y="25"/>
                  </a:lnTo>
                  <a:lnTo>
                    <a:pt x="25" y="25"/>
                  </a:lnTo>
                  <a:lnTo>
                    <a:pt x="25" y="25"/>
                  </a:lnTo>
                  <a:lnTo>
                    <a:pt x="25" y="25"/>
                  </a:lnTo>
                  <a:lnTo>
                    <a:pt x="25" y="25"/>
                  </a:lnTo>
                  <a:lnTo>
                    <a:pt x="25" y="25"/>
                  </a:lnTo>
                  <a:lnTo>
                    <a:pt x="25" y="17"/>
                  </a:lnTo>
                  <a:lnTo>
                    <a:pt x="25" y="17"/>
                  </a:lnTo>
                  <a:lnTo>
                    <a:pt x="25" y="17"/>
                  </a:lnTo>
                  <a:lnTo>
                    <a:pt x="25" y="17"/>
                  </a:lnTo>
                  <a:lnTo>
                    <a:pt x="25" y="17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5543640" y="5641920"/>
              <a:ext cx="39600" cy="3960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17"/>
                  </a:lnTo>
                  <a:lnTo>
                    <a:pt x="25" y="17"/>
                  </a:lnTo>
                  <a:lnTo>
                    <a:pt x="25" y="17"/>
                  </a:lnTo>
                  <a:lnTo>
                    <a:pt x="25" y="17"/>
                  </a:lnTo>
                  <a:lnTo>
                    <a:pt x="25" y="17"/>
                  </a:lnTo>
                  <a:lnTo>
                    <a:pt x="25" y="17"/>
                  </a:lnTo>
                  <a:lnTo>
                    <a:pt x="25" y="9"/>
                  </a:lnTo>
                  <a:lnTo>
                    <a:pt x="25" y="9"/>
                  </a:lnTo>
                  <a:lnTo>
                    <a:pt x="25" y="9"/>
                  </a:lnTo>
                  <a:lnTo>
                    <a:pt x="25" y="9"/>
                  </a:lnTo>
                  <a:lnTo>
                    <a:pt x="25" y="9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5505480" y="5641920"/>
              <a:ext cx="50760" cy="3960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16" y="0"/>
                  </a:move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9"/>
                  </a:lnTo>
                  <a:lnTo>
                    <a:pt x="8" y="9"/>
                  </a:lnTo>
                  <a:lnTo>
                    <a:pt x="8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8" y="17"/>
                  </a:lnTo>
                  <a:lnTo>
                    <a:pt x="8" y="17"/>
                  </a:lnTo>
                  <a:lnTo>
                    <a:pt x="8" y="17"/>
                  </a:lnTo>
                  <a:lnTo>
                    <a:pt x="8" y="17"/>
                  </a:lnTo>
                  <a:lnTo>
                    <a:pt x="8" y="17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32" y="17"/>
                  </a:lnTo>
                  <a:lnTo>
                    <a:pt x="32" y="17"/>
                  </a:lnTo>
                  <a:lnTo>
                    <a:pt x="32" y="9"/>
                  </a:lnTo>
                  <a:lnTo>
                    <a:pt x="32" y="9"/>
                  </a:lnTo>
                  <a:lnTo>
                    <a:pt x="32" y="9"/>
                  </a:lnTo>
                  <a:lnTo>
                    <a:pt x="32" y="9"/>
                  </a:lnTo>
                  <a:lnTo>
                    <a:pt x="32" y="9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5479920" y="5641920"/>
              <a:ext cx="38160" cy="39600"/>
            </a:xfrm>
            <a:custGeom>
              <a:avLst/>
              <a:gdLst/>
              <a:ahLst/>
              <a:rect l="l" t="t" r="r" b="b"/>
              <a:pathLst>
                <a:path w="24" h="25">
                  <a:moveTo>
                    <a:pt x="16" y="0"/>
                  </a:move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8" y="17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9"/>
                  </a:lnTo>
                  <a:lnTo>
                    <a:pt x="24" y="9"/>
                  </a:lnTo>
                  <a:lnTo>
                    <a:pt x="24" y="9"/>
                  </a:lnTo>
                  <a:lnTo>
                    <a:pt x="24" y="9"/>
                  </a:lnTo>
                  <a:lnTo>
                    <a:pt x="24" y="9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5454720" y="5641920"/>
              <a:ext cx="38160" cy="39600"/>
            </a:xfrm>
            <a:custGeom>
              <a:avLst/>
              <a:gdLst/>
              <a:ahLst/>
              <a:rect l="l" t="t" r="r" b="b"/>
              <a:pathLst>
                <a:path w="24" h="25">
                  <a:moveTo>
                    <a:pt x="16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9"/>
                  </a:lnTo>
                  <a:lnTo>
                    <a:pt x="24" y="9"/>
                  </a:lnTo>
                  <a:lnTo>
                    <a:pt x="24" y="9"/>
                  </a:lnTo>
                  <a:lnTo>
                    <a:pt x="24" y="9"/>
                  </a:lnTo>
                  <a:lnTo>
                    <a:pt x="24" y="9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429160" y="5641920"/>
              <a:ext cx="38160" cy="39600"/>
            </a:xfrm>
            <a:custGeom>
              <a:avLst/>
              <a:gdLst/>
              <a:ahLst/>
              <a:rect l="l" t="t" r="r" b="b"/>
              <a:pathLst>
                <a:path w="24" h="25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17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9"/>
                  </a:lnTo>
                  <a:lnTo>
                    <a:pt x="24" y="9"/>
                  </a:lnTo>
                  <a:lnTo>
                    <a:pt x="24" y="9"/>
                  </a:lnTo>
                  <a:lnTo>
                    <a:pt x="24" y="9"/>
                  </a:lnTo>
                  <a:lnTo>
                    <a:pt x="24" y="9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391000" y="5641920"/>
              <a:ext cx="51120" cy="3960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16" y="0"/>
                  </a:move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8" y="17"/>
                  </a:lnTo>
                  <a:lnTo>
                    <a:pt x="8" y="17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32" y="17"/>
                  </a:lnTo>
                  <a:lnTo>
                    <a:pt x="32" y="17"/>
                  </a:lnTo>
                  <a:lnTo>
                    <a:pt x="32" y="9"/>
                  </a:lnTo>
                  <a:lnTo>
                    <a:pt x="32" y="9"/>
                  </a:lnTo>
                  <a:lnTo>
                    <a:pt x="32" y="9"/>
                  </a:lnTo>
                  <a:lnTo>
                    <a:pt x="24" y="9"/>
                  </a:lnTo>
                  <a:lnTo>
                    <a:pt x="24" y="9"/>
                  </a:lnTo>
                  <a:lnTo>
                    <a:pt x="24" y="9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5365800" y="5641920"/>
              <a:ext cx="38160" cy="39600"/>
            </a:xfrm>
            <a:custGeom>
              <a:avLst/>
              <a:gdLst/>
              <a:ahLst/>
              <a:rect l="l" t="t" r="r" b="b"/>
              <a:pathLst>
                <a:path w="24" h="25">
                  <a:moveTo>
                    <a:pt x="16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9"/>
                  </a:lnTo>
                  <a:lnTo>
                    <a:pt x="24" y="9"/>
                  </a:lnTo>
                  <a:lnTo>
                    <a:pt x="24" y="9"/>
                  </a:lnTo>
                  <a:lnTo>
                    <a:pt x="24" y="9"/>
                  </a:lnTo>
                  <a:lnTo>
                    <a:pt x="24" y="9"/>
                  </a:lnTo>
                  <a:lnTo>
                    <a:pt x="24" y="9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5340240" y="5641920"/>
              <a:ext cx="38160" cy="39600"/>
            </a:xfrm>
            <a:custGeom>
              <a:avLst/>
              <a:gdLst/>
              <a:ahLst/>
              <a:rect l="l" t="t" r="r" b="b"/>
              <a:pathLst>
                <a:path w="24" h="25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24" y="25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9"/>
                  </a:lnTo>
                  <a:lnTo>
                    <a:pt x="24" y="9"/>
                  </a:lnTo>
                  <a:lnTo>
                    <a:pt x="24" y="9"/>
                  </a:lnTo>
                  <a:lnTo>
                    <a:pt x="24" y="9"/>
                  </a:lnTo>
                  <a:lnTo>
                    <a:pt x="24" y="9"/>
                  </a:lnTo>
                  <a:lnTo>
                    <a:pt x="24" y="9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5300640" y="5641920"/>
              <a:ext cx="52560" cy="3960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16" y="0"/>
                  </a:move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9"/>
                  </a:lnTo>
                  <a:lnTo>
                    <a:pt x="8" y="9"/>
                  </a:lnTo>
                  <a:lnTo>
                    <a:pt x="8" y="9"/>
                  </a:lnTo>
                  <a:lnTo>
                    <a:pt x="8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25" y="25"/>
                  </a:lnTo>
                  <a:lnTo>
                    <a:pt x="25" y="25"/>
                  </a:lnTo>
                  <a:lnTo>
                    <a:pt x="25" y="25"/>
                  </a:lnTo>
                  <a:lnTo>
                    <a:pt x="25" y="25"/>
                  </a:lnTo>
                  <a:lnTo>
                    <a:pt x="25" y="25"/>
                  </a:lnTo>
                  <a:lnTo>
                    <a:pt x="25" y="25"/>
                  </a:lnTo>
                  <a:lnTo>
                    <a:pt x="25" y="25"/>
                  </a:lnTo>
                  <a:lnTo>
                    <a:pt x="25" y="17"/>
                  </a:lnTo>
                  <a:lnTo>
                    <a:pt x="33" y="17"/>
                  </a:lnTo>
                  <a:lnTo>
                    <a:pt x="33" y="17"/>
                  </a:lnTo>
                  <a:lnTo>
                    <a:pt x="33" y="17"/>
                  </a:lnTo>
                  <a:lnTo>
                    <a:pt x="33" y="17"/>
                  </a:lnTo>
                  <a:lnTo>
                    <a:pt x="33" y="9"/>
                  </a:lnTo>
                  <a:lnTo>
                    <a:pt x="25" y="9"/>
                  </a:lnTo>
                  <a:lnTo>
                    <a:pt x="25" y="9"/>
                  </a:lnTo>
                  <a:lnTo>
                    <a:pt x="25" y="9"/>
                  </a:lnTo>
                  <a:lnTo>
                    <a:pt x="25" y="9"/>
                  </a:lnTo>
                  <a:lnTo>
                    <a:pt x="25" y="9"/>
                  </a:lnTo>
                  <a:lnTo>
                    <a:pt x="25" y="9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5275440" y="5641920"/>
              <a:ext cx="37800" cy="39600"/>
            </a:xfrm>
            <a:custGeom>
              <a:avLst/>
              <a:gdLst/>
              <a:ahLst/>
              <a:rect l="l" t="t" r="r" b="b"/>
              <a:pathLst>
                <a:path w="24" h="25">
                  <a:moveTo>
                    <a:pt x="16" y="0"/>
                  </a:move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9"/>
                  </a:lnTo>
                  <a:lnTo>
                    <a:pt x="24" y="9"/>
                  </a:lnTo>
                  <a:lnTo>
                    <a:pt x="24" y="9"/>
                  </a:lnTo>
                  <a:lnTo>
                    <a:pt x="24" y="9"/>
                  </a:lnTo>
                  <a:lnTo>
                    <a:pt x="24" y="9"/>
                  </a:lnTo>
                  <a:lnTo>
                    <a:pt x="24" y="9"/>
                  </a:lnTo>
                  <a:lnTo>
                    <a:pt x="24" y="9"/>
                  </a:lnTo>
                  <a:lnTo>
                    <a:pt x="24" y="9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5249880" y="5641920"/>
              <a:ext cx="38160" cy="39600"/>
            </a:xfrm>
            <a:custGeom>
              <a:avLst/>
              <a:gdLst/>
              <a:ahLst/>
              <a:rect l="l" t="t" r="r" b="b"/>
              <a:pathLst>
                <a:path w="24" h="25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9"/>
                  </a:lnTo>
                  <a:lnTo>
                    <a:pt x="24" y="9"/>
                  </a:lnTo>
                  <a:lnTo>
                    <a:pt x="24" y="9"/>
                  </a:lnTo>
                  <a:lnTo>
                    <a:pt x="24" y="9"/>
                  </a:lnTo>
                  <a:lnTo>
                    <a:pt x="24" y="9"/>
                  </a:lnTo>
                  <a:lnTo>
                    <a:pt x="24" y="9"/>
                  </a:lnTo>
                  <a:lnTo>
                    <a:pt x="24" y="9"/>
                  </a:lnTo>
                  <a:lnTo>
                    <a:pt x="24" y="9"/>
                  </a:lnTo>
                  <a:lnTo>
                    <a:pt x="16" y="9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5224320" y="5641920"/>
              <a:ext cx="38160" cy="39600"/>
            </a:xfrm>
            <a:custGeom>
              <a:avLst/>
              <a:gdLst/>
              <a:ahLst/>
              <a:rect l="l" t="t" r="r" b="b"/>
              <a:pathLst>
                <a:path w="24" h="25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9"/>
                  </a:lnTo>
                  <a:lnTo>
                    <a:pt x="24" y="9"/>
                  </a:lnTo>
                  <a:lnTo>
                    <a:pt x="24" y="9"/>
                  </a:lnTo>
                  <a:lnTo>
                    <a:pt x="24" y="9"/>
                  </a:lnTo>
                  <a:lnTo>
                    <a:pt x="24" y="9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5186520" y="5641920"/>
              <a:ext cx="50760" cy="52560"/>
            </a:xfrm>
            <a:custGeom>
              <a:avLst/>
              <a:gdLst/>
              <a:ahLst/>
              <a:rect l="l" t="t" r="r" b="b"/>
              <a:pathLst>
                <a:path w="32" h="33">
                  <a:moveTo>
                    <a:pt x="16" y="0"/>
                  </a:move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9"/>
                  </a:lnTo>
                  <a:lnTo>
                    <a:pt x="8" y="9"/>
                  </a:lnTo>
                  <a:lnTo>
                    <a:pt x="8" y="9"/>
                  </a:lnTo>
                  <a:lnTo>
                    <a:pt x="8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16" y="33"/>
                  </a:lnTo>
                  <a:lnTo>
                    <a:pt x="16" y="33"/>
                  </a:lnTo>
                  <a:lnTo>
                    <a:pt x="16" y="33"/>
                  </a:lnTo>
                  <a:lnTo>
                    <a:pt x="16" y="33"/>
                  </a:lnTo>
                  <a:lnTo>
                    <a:pt x="16" y="33"/>
                  </a:lnTo>
                  <a:lnTo>
                    <a:pt x="16" y="33"/>
                  </a:lnTo>
                  <a:lnTo>
                    <a:pt x="16" y="33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17"/>
                  </a:lnTo>
                  <a:lnTo>
                    <a:pt x="32" y="17"/>
                  </a:lnTo>
                  <a:lnTo>
                    <a:pt x="32" y="17"/>
                  </a:lnTo>
                  <a:lnTo>
                    <a:pt x="32" y="17"/>
                  </a:lnTo>
                  <a:lnTo>
                    <a:pt x="24" y="9"/>
                  </a:lnTo>
                  <a:lnTo>
                    <a:pt x="24" y="9"/>
                  </a:lnTo>
                  <a:lnTo>
                    <a:pt x="24" y="9"/>
                  </a:lnTo>
                  <a:lnTo>
                    <a:pt x="24" y="9"/>
                  </a:lnTo>
                  <a:lnTo>
                    <a:pt x="24" y="9"/>
                  </a:lnTo>
                  <a:lnTo>
                    <a:pt x="24" y="9"/>
                  </a:lnTo>
                  <a:lnTo>
                    <a:pt x="24" y="9"/>
                  </a:lnTo>
                  <a:lnTo>
                    <a:pt x="24" y="9"/>
                  </a:lnTo>
                  <a:lnTo>
                    <a:pt x="24" y="9"/>
                  </a:lnTo>
                  <a:lnTo>
                    <a:pt x="24" y="9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5160960" y="5641920"/>
              <a:ext cx="38160" cy="52560"/>
            </a:xfrm>
            <a:custGeom>
              <a:avLst/>
              <a:gdLst/>
              <a:ahLst/>
              <a:rect l="l" t="t" r="r" b="b"/>
              <a:pathLst>
                <a:path w="24" h="33">
                  <a:moveTo>
                    <a:pt x="16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9"/>
                  </a:lnTo>
                  <a:lnTo>
                    <a:pt x="8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33"/>
                  </a:lnTo>
                  <a:lnTo>
                    <a:pt x="8" y="33"/>
                  </a:lnTo>
                  <a:lnTo>
                    <a:pt x="8" y="33"/>
                  </a:lnTo>
                  <a:lnTo>
                    <a:pt x="8" y="33"/>
                  </a:lnTo>
                  <a:lnTo>
                    <a:pt x="8" y="33"/>
                  </a:lnTo>
                  <a:lnTo>
                    <a:pt x="16" y="33"/>
                  </a:lnTo>
                  <a:lnTo>
                    <a:pt x="16" y="33"/>
                  </a:lnTo>
                  <a:lnTo>
                    <a:pt x="16" y="33"/>
                  </a:lnTo>
                  <a:lnTo>
                    <a:pt x="16" y="33"/>
                  </a:lnTo>
                  <a:lnTo>
                    <a:pt x="16" y="33"/>
                  </a:lnTo>
                  <a:lnTo>
                    <a:pt x="16" y="33"/>
                  </a:lnTo>
                  <a:lnTo>
                    <a:pt x="16" y="33"/>
                  </a:lnTo>
                  <a:lnTo>
                    <a:pt x="16" y="33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9"/>
                  </a:lnTo>
                  <a:lnTo>
                    <a:pt x="24" y="9"/>
                  </a:lnTo>
                  <a:lnTo>
                    <a:pt x="24" y="9"/>
                  </a:lnTo>
                  <a:lnTo>
                    <a:pt x="24" y="9"/>
                  </a:lnTo>
                  <a:lnTo>
                    <a:pt x="24" y="9"/>
                  </a:lnTo>
                  <a:lnTo>
                    <a:pt x="24" y="9"/>
                  </a:lnTo>
                  <a:lnTo>
                    <a:pt x="24" y="9"/>
                  </a:lnTo>
                  <a:lnTo>
                    <a:pt x="24" y="9"/>
                  </a:lnTo>
                  <a:lnTo>
                    <a:pt x="24" y="9"/>
                  </a:lnTo>
                  <a:lnTo>
                    <a:pt x="16" y="9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5135400" y="5641920"/>
              <a:ext cx="38160" cy="52560"/>
            </a:xfrm>
            <a:custGeom>
              <a:avLst/>
              <a:gdLst/>
              <a:ahLst/>
              <a:rect l="l" t="t" r="r" b="b"/>
              <a:pathLst>
                <a:path w="24" h="33">
                  <a:moveTo>
                    <a:pt x="8" y="0"/>
                  </a:moveTo>
                  <a:lnTo>
                    <a:pt x="8" y="0"/>
                  </a:lnTo>
                  <a:lnTo>
                    <a:pt x="8" y="9"/>
                  </a:lnTo>
                  <a:lnTo>
                    <a:pt x="8" y="9"/>
                  </a:lnTo>
                  <a:lnTo>
                    <a:pt x="8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8" y="25"/>
                  </a:lnTo>
                  <a:lnTo>
                    <a:pt x="8" y="33"/>
                  </a:lnTo>
                  <a:lnTo>
                    <a:pt x="8" y="33"/>
                  </a:lnTo>
                  <a:lnTo>
                    <a:pt x="8" y="33"/>
                  </a:lnTo>
                  <a:lnTo>
                    <a:pt x="8" y="33"/>
                  </a:lnTo>
                  <a:lnTo>
                    <a:pt x="8" y="33"/>
                  </a:lnTo>
                  <a:lnTo>
                    <a:pt x="8" y="33"/>
                  </a:lnTo>
                  <a:lnTo>
                    <a:pt x="8" y="33"/>
                  </a:lnTo>
                  <a:lnTo>
                    <a:pt x="8" y="33"/>
                  </a:lnTo>
                  <a:lnTo>
                    <a:pt x="8" y="33"/>
                  </a:lnTo>
                  <a:lnTo>
                    <a:pt x="16" y="33"/>
                  </a:lnTo>
                  <a:lnTo>
                    <a:pt x="16" y="33"/>
                  </a:lnTo>
                  <a:lnTo>
                    <a:pt x="16" y="33"/>
                  </a:lnTo>
                  <a:lnTo>
                    <a:pt x="16" y="33"/>
                  </a:lnTo>
                  <a:lnTo>
                    <a:pt x="16" y="33"/>
                  </a:lnTo>
                  <a:lnTo>
                    <a:pt x="16" y="33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9"/>
                  </a:lnTo>
                  <a:lnTo>
                    <a:pt x="24" y="9"/>
                  </a:lnTo>
                  <a:lnTo>
                    <a:pt x="24" y="9"/>
                  </a:lnTo>
                  <a:lnTo>
                    <a:pt x="24" y="9"/>
                  </a:lnTo>
                  <a:lnTo>
                    <a:pt x="24" y="9"/>
                  </a:lnTo>
                  <a:lnTo>
                    <a:pt x="24" y="9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16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5097600" y="5641920"/>
              <a:ext cx="50760" cy="52560"/>
            </a:xfrm>
            <a:custGeom>
              <a:avLst/>
              <a:gdLst/>
              <a:ahLst/>
              <a:rect l="l" t="t" r="r" b="b"/>
              <a:pathLst>
                <a:path w="32" h="33">
                  <a:moveTo>
                    <a:pt x="16" y="0"/>
                  </a:moveTo>
                  <a:lnTo>
                    <a:pt x="16" y="9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8" y="9"/>
                  </a:lnTo>
                  <a:lnTo>
                    <a:pt x="8" y="9"/>
                  </a:lnTo>
                  <a:lnTo>
                    <a:pt x="8" y="9"/>
                  </a:lnTo>
                  <a:lnTo>
                    <a:pt x="8" y="9"/>
                  </a:lnTo>
                  <a:lnTo>
                    <a:pt x="8" y="9"/>
                  </a:lnTo>
                  <a:lnTo>
                    <a:pt x="8" y="9"/>
                  </a:lnTo>
                  <a:lnTo>
                    <a:pt x="8" y="9"/>
                  </a:lnTo>
                  <a:lnTo>
                    <a:pt x="8" y="17"/>
                  </a:lnTo>
                  <a:lnTo>
                    <a:pt x="8" y="17"/>
                  </a:lnTo>
                  <a:lnTo>
                    <a:pt x="8" y="17"/>
                  </a:lnTo>
                  <a:lnTo>
                    <a:pt x="8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33"/>
                  </a:lnTo>
                  <a:lnTo>
                    <a:pt x="8" y="33"/>
                  </a:lnTo>
                  <a:lnTo>
                    <a:pt x="16" y="33"/>
                  </a:lnTo>
                  <a:lnTo>
                    <a:pt x="16" y="33"/>
                  </a:lnTo>
                  <a:lnTo>
                    <a:pt x="16" y="33"/>
                  </a:lnTo>
                  <a:lnTo>
                    <a:pt x="16" y="33"/>
                  </a:lnTo>
                  <a:lnTo>
                    <a:pt x="16" y="33"/>
                  </a:lnTo>
                  <a:lnTo>
                    <a:pt x="16" y="33"/>
                  </a:lnTo>
                  <a:lnTo>
                    <a:pt x="16" y="33"/>
                  </a:lnTo>
                  <a:lnTo>
                    <a:pt x="16" y="33"/>
                  </a:lnTo>
                  <a:lnTo>
                    <a:pt x="16" y="33"/>
                  </a:lnTo>
                  <a:lnTo>
                    <a:pt x="16" y="33"/>
                  </a:lnTo>
                  <a:lnTo>
                    <a:pt x="24" y="33"/>
                  </a:lnTo>
                  <a:lnTo>
                    <a:pt x="24" y="33"/>
                  </a:lnTo>
                  <a:lnTo>
                    <a:pt x="24" y="33"/>
                  </a:lnTo>
                  <a:lnTo>
                    <a:pt x="24" y="33"/>
                  </a:lnTo>
                  <a:lnTo>
                    <a:pt x="24" y="33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32" y="25"/>
                  </a:lnTo>
                  <a:lnTo>
                    <a:pt x="32" y="25"/>
                  </a:lnTo>
                  <a:lnTo>
                    <a:pt x="32" y="25"/>
                  </a:lnTo>
                  <a:lnTo>
                    <a:pt x="32" y="17"/>
                  </a:lnTo>
                  <a:lnTo>
                    <a:pt x="32" y="17"/>
                  </a:lnTo>
                  <a:lnTo>
                    <a:pt x="32" y="17"/>
                  </a:lnTo>
                  <a:lnTo>
                    <a:pt x="32" y="17"/>
                  </a:lnTo>
                  <a:lnTo>
                    <a:pt x="32" y="17"/>
                  </a:lnTo>
                  <a:lnTo>
                    <a:pt x="32" y="9"/>
                  </a:lnTo>
                  <a:lnTo>
                    <a:pt x="24" y="9"/>
                  </a:lnTo>
                  <a:lnTo>
                    <a:pt x="24" y="9"/>
                  </a:lnTo>
                  <a:lnTo>
                    <a:pt x="24" y="9"/>
                  </a:lnTo>
                  <a:lnTo>
                    <a:pt x="24" y="9"/>
                  </a:lnTo>
                  <a:lnTo>
                    <a:pt x="24" y="9"/>
                  </a:lnTo>
                  <a:lnTo>
                    <a:pt x="24" y="9"/>
                  </a:lnTo>
                  <a:lnTo>
                    <a:pt x="24" y="9"/>
                  </a:lnTo>
                  <a:lnTo>
                    <a:pt x="24" y="9"/>
                  </a:lnTo>
                  <a:lnTo>
                    <a:pt x="24" y="9"/>
                  </a:lnTo>
                  <a:lnTo>
                    <a:pt x="24" y="9"/>
                  </a:lnTo>
                  <a:lnTo>
                    <a:pt x="16" y="9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5070600" y="5656320"/>
              <a:ext cx="39600" cy="3816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17" y="0"/>
                  </a:moveTo>
                  <a:lnTo>
                    <a:pt x="17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25" y="24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5045040" y="565632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6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5019840" y="5656320"/>
              <a:ext cx="3780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4981680" y="5656320"/>
              <a:ext cx="50760" cy="3816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16" y="0"/>
                  </a:move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4956120" y="565632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6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930920" y="5656320"/>
              <a:ext cx="3780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4892760" y="5656320"/>
              <a:ext cx="50760" cy="3816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16" y="0"/>
                  </a:move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4867200" y="565632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6" y="0"/>
                  </a:move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4840200" y="5656320"/>
              <a:ext cx="39600" cy="3816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17" y="0"/>
                  </a:move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815000" y="5656320"/>
              <a:ext cx="39600" cy="50760"/>
            </a:xfrm>
            <a:custGeom>
              <a:avLst/>
              <a:gdLst/>
              <a:ahLst/>
              <a:rect l="l" t="t" r="r" b="b"/>
              <a:pathLst>
                <a:path w="25" h="32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16" y="32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4776840" y="5656320"/>
              <a:ext cx="50760" cy="50760"/>
            </a:xfrm>
            <a:custGeom>
              <a:avLst/>
              <a:gdLst/>
              <a:ahLst/>
              <a:rect l="l" t="t" r="r" b="b"/>
              <a:pathLst>
                <a:path w="32" h="32">
                  <a:moveTo>
                    <a:pt x="16" y="0"/>
                  </a:move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24" y="32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32" y="24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4751280" y="5656320"/>
              <a:ext cx="38160" cy="50760"/>
            </a:xfrm>
            <a:custGeom>
              <a:avLst/>
              <a:gdLst/>
              <a:ahLst/>
              <a:rect l="l" t="t" r="r" b="b"/>
              <a:pathLst>
                <a:path w="24" h="32">
                  <a:moveTo>
                    <a:pt x="16" y="0"/>
                  </a:move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4726080" y="5656320"/>
              <a:ext cx="38160" cy="50760"/>
            </a:xfrm>
            <a:custGeom>
              <a:avLst/>
              <a:gdLst/>
              <a:ahLst/>
              <a:rect l="l" t="t" r="r" b="b"/>
              <a:pathLst>
                <a:path w="24" h="32">
                  <a:moveTo>
                    <a:pt x="16" y="0"/>
                  </a:move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4687920" y="5656320"/>
              <a:ext cx="50760" cy="50760"/>
            </a:xfrm>
            <a:custGeom>
              <a:avLst/>
              <a:gdLst/>
              <a:ahLst/>
              <a:rect l="l" t="t" r="r" b="b"/>
              <a:pathLst>
                <a:path w="32" h="32">
                  <a:moveTo>
                    <a:pt x="16" y="0"/>
                  </a:moveTo>
                  <a:lnTo>
                    <a:pt x="16" y="0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24" y="32"/>
                  </a:lnTo>
                  <a:lnTo>
                    <a:pt x="24" y="32"/>
                  </a:lnTo>
                  <a:lnTo>
                    <a:pt x="24" y="32"/>
                  </a:lnTo>
                  <a:lnTo>
                    <a:pt x="24" y="32"/>
                  </a:lnTo>
                  <a:lnTo>
                    <a:pt x="24" y="32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32" y="24"/>
                  </a:lnTo>
                  <a:lnTo>
                    <a:pt x="32" y="24"/>
                  </a:lnTo>
                  <a:lnTo>
                    <a:pt x="32" y="24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4662360" y="5656320"/>
              <a:ext cx="38160" cy="50760"/>
            </a:xfrm>
            <a:custGeom>
              <a:avLst/>
              <a:gdLst/>
              <a:ahLst/>
              <a:rect l="l" t="t" r="r" b="b"/>
              <a:pathLst>
                <a:path w="24" h="32">
                  <a:moveTo>
                    <a:pt x="16" y="0"/>
                  </a:moveTo>
                  <a:lnTo>
                    <a:pt x="16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24" y="32"/>
                  </a:lnTo>
                  <a:lnTo>
                    <a:pt x="24" y="32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4637160" y="5656320"/>
              <a:ext cx="38160" cy="50760"/>
            </a:xfrm>
            <a:custGeom>
              <a:avLst/>
              <a:gdLst/>
              <a:ahLst/>
              <a:rect l="l" t="t" r="r" b="b"/>
              <a:pathLst>
                <a:path w="24" h="32">
                  <a:moveTo>
                    <a:pt x="16" y="0"/>
                  </a:move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11600" y="5656320"/>
              <a:ext cx="38160" cy="50760"/>
            </a:xfrm>
            <a:custGeom>
              <a:avLst/>
              <a:gdLst/>
              <a:ahLst/>
              <a:rect l="l" t="t" r="r" b="b"/>
              <a:pathLst>
                <a:path w="24" h="32">
                  <a:moveTo>
                    <a:pt x="8" y="0"/>
                  </a:move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4572000" y="5668920"/>
              <a:ext cx="52560" cy="38160"/>
            </a:xfrm>
            <a:custGeom>
              <a:avLst/>
              <a:gdLst/>
              <a:ahLst/>
              <a:rect l="l" t="t" r="r" b="b"/>
              <a:pathLst>
                <a:path w="33" h="24">
                  <a:moveTo>
                    <a:pt x="16" y="0"/>
                  </a:move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33" y="16"/>
                  </a:lnTo>
                  <a:lnTo>
                    <a:pt x="33" y="16"/>
                  </a:lnTo>
                  <a:lnTo>
                    <a:pt x="33" y="8"/>
                  </a:lnTo>
                  <a:lnTo>
                    <a:pt x="33" y="8"/>
                  </a:lnTo>
                  <a:lnTo>
                    <a:pt x="33" y="8"/>
                  </a:lnTo>
                  <a:lnTo>
                    <a:pt x="33" y="8"/>
                  </a:lnTo>
                  <a:lnTo>
                    <a:pt x="33" y="8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4546440" y="566892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6" y="0"/>
                  </a:move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4521240" y="566892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4495680" y="566892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4457880" y="5668920"/>
              <a:ext cx="50760" cy="3816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16" y="0"/>
                  </a:move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32" y="16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4432320" y="566892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6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4406760" y="566892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4381560" y="566892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4341960" y="5668920"/>
              <a:ext cx="52200" cy="38160"/>
            </a:xfrm>
            <a:custGeom>
              <a:avLst/>
              <a:gdLst/>
              <a:ahLst/>
              <a:rect l="l" t="t" r="r" b="b"/>
              <a:pathLst>
                <a:path w="33" h="24">
                  <a:moveTo>
                    <a:pt x="17" y="0"/>
                  </a:moveTo>
                  <a:lnTo>
                    <a:pt x="17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9" y="16"/>
                  </a:lnTo>
                  <a:lnTo>
                    <a:pt x="9" y="16"/>
                  </a:lnTo>
                  <a:lnTo>
                    <a:pt x="9" y="16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8"/>
                  </a:lnTo>
                  <a:lnTo>
                    <a:pt x="33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4316400" y="5668920"/>
              <a:ext cx="39600" cy="3816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4290840" y="566892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4253040" y="5668920"/>
              <a:ext cx="50760" cy="3816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16" y="0"/>
                  </a:move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227480" y="566892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6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4202280" y="5668920"/>
              <a:ext cx="3780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4164120" y="5668920"/>
              <a:ext cx="50760" cy="3816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16" y="0"/>
                  </a:move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8560" y="566892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6" y="0"/>
                  </a:move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113360" y="5668920"/>
              <a:ext cx="3780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6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86360" y="5668920"/>
              <a:ext cx="39600" cy="3816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048200" y="5668920"/>
              <a:ext cx="50760" cy="3816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16" y="0"/>
                  </a:move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32" y="16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022640" y="5656320"/>
              <a:ext cx="38160" cy="50760"/>
            </a:xfrm>
            <a:custGeom>
              <a:avLst/>
              <a:gdLst/>
              <a:ahLst/>
              <a:rect l="l" t="t" r="r" b="b"/>
              <a:pathLst>
                <a:path w="24" h="32">
                  <a:moveTo>
                    <a:pt x="16" y="0"/>
                  </a:moveTo>
                  <a:lnTo>
                    <a:pt x="16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24" y="32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3997440" y="566892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3971880" y="566892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3933720" y="566892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6" y="0"/>
                  </a:move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3908520" y="566892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6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3882960" y="5656320"/>
              <a:ext cx="38160" cy="50760"/>
            </a:xfrm>
            <a:custGeom>
              <a:avLst/>
              <a:gdLst/>
              <a:ahLst/>
              <a:rect l="l" t="t" r="r" b="b"/>
              <a:pathLst>
                <a:path w="24" h="32">
                  <a:moveTo>
                    <a:pt x="8" y="0"/>
                  </a:move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8" y="8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3843360" y="5656320"/>
              <a:ext cx="52200" cy="50760"/>
            </a:xfrm>
            <a:custGeom>
              <a:avLst/>
              <a:gdLst/>
              <a:ahLst/>
              <a:rect l="l" t="t" r="r" b="b"/>
              <a:pathLst>
                <a:path w="33" h="32">
                  <a:moveTo>
                    <a:pt x="17" y="0"/>
                  </a:moveTo>
                  <a:lnTo>
                    <a:pt x="17" y="8"/>
                  </a:lnTo>
                  <a:lnTo>
                    <a:pt x="17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17" y="32"/>
                  </a:lnTo>
                  <a:lnTo>
                    <a:pt x="17" y="32"/>
                  </a:lnTo>
                  <a:lnTo>
                    <a:pt x="17" y="32"/>
                  </a:lnTo>
                  <a:lnTo>
                    <a:pt x="17" y="32"/>
                  </a:lnTo>
                  <a:lnTo>
                    <a:pt x="17" y="32"/>
                  </a:lnTo>
                  <a:lnTo>
                    <a:pt x="17" y="32"/>
                  </a:lnTo>
                  <a:lnTo>
                    <a:pt x="17" y="32"/>
                  </a:lnTo>
                  <a:lnTo>
                    <a:pt x="17" y="32"/>
                  </a:lnTo>
                  <a:lnTo>
                    <a:pt x="17" y="32"/>
                  </a:lnTo>
                  <a:lnTo>
                    <a:pt x="17" y="32"/>
                  </a:lnTo>
                  <a:lnTo>
                    <a:pt x="25" y="32"/>
                  </a:lnTo>
                  <a:lnTo>
                    <a:pt x="25" y="32"/>
                  </a:lnTo>
                  <a:lnTo>
                    <a:pt x="25" y="32"/>
                  </a:lnTo>
                  <a:lnTo>
                    <a:pt x="25" y="32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33" y="24"/>
                  </a:lnTo>
                  <a:lnTo>
                    <a:pt x="33" y="24"/>
                  </a:lnTo>
                  <a:lnTo>
                    <a:pt x="33" y="16"/>
                  </a:lnTo>
                  <a:lnTo>
                    <a:pt x="33" y="16"/>
                  </a:lnTo>
                  <a:lnTo>
                    <a:pt x="33" y="16"/>
                  </a:lnTo>
                  <a:lnTo>
                    <a:pt x="33" y="16"/>
                  </a:lnTo>
                  <a:lnTo>
                    <a:pt x="33" y="16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3817800" y="5656320"/>
              <a:ext cx="38160" cy="50760"/>
            </a:xfrm>
            <a:custGeom>
              <a:avLst/>
              <a:gdLst/>
              <a:ahLst/>
              <a:rect l="l" t="t" r="r" b="b"/>
              <a:pathLst>
                <a:path w="24" h="32">
                  <a:moveTo>
                    <a:pt x="16" y="0"/>
                  </a:move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24" y="32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92600" y="566892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5429160" y="3513240"/>
              <a:ext cx="50760" cy="3816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16" y="0"/>
                  </a:move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32" y="16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5429160" y="3538440"/>
              <a:ext cx="50760" cy="3816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16" y="0"/>
                  </a:move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5429160" y="3564000"/>
              <a:ext cx="50760" cy="3816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16" y="0"/>
                  </a:move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5429160" y="3589200"/>
              <a:ext cx="50760" cy="50760"/>
            </a:xfrm>
            <a:custGeom>
              <a:avLst/>
              <a:gdLst/>
              <a:ahLst/>
              <a:rect l="l" t="t" r="r" b="b"/>
              <a:pathLst>
                <a:path w="32" h="32">
                  <a:moveTo>
                    <a:pt x="16" y="0"/>
                  </a:move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5429160" y="3627360"/>
              <a:ext cx="50760" cy="3816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16" y="0"/>
                  </a:move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32" y="16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5429160" y="3652920"/>
              <a:ext cx="50760" cy="3816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16" y="0"/>
                  </a:move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5429160" y="3678120"/>
              <a:ext cx="50760" cy="50760"/>
            </a:xfrm>
            <a:custGeom>
              <a:avLst/>
              <a:gdLst/>
              <a:ahLst/>
              <a:rect l="l" t="t" r="r" b="b"/>
              <a:pathLst>
                <a:path w="32" h="32">
                  <a:moveTo>
                    <a:pt x="16" y="0"/>
                  </a:move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5429160" y="3703680"/>
              <a:ext cx="50760" cy="52200"/>
            </a:xfrm>
            <a:custGeom>
              <a:avLst/>
              <a:gdLst/>
              <a:ahLst/>
              <a:rect l="l" t="t" r="r" b="b"/>
              <a:pathLst>
                <a:path w="32" h="33">
                  <a:moveTo>
                    <a:pt x="16" y="0"/>
                  </a:moveTo>
                  <a:lnTo>
                    <a:pt x="16" y="0"/>
                  </a:lnTo>
                  <a:lnTo>
                    <a:pt x="16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33"/>
                  </a:lnTo>
                  <a:lnTo>
                    <a:pt x="8" y="33"/>
                  </a:lnTo>
                  <a:lnTo>
                    <a:pt x="8" y="33"/>
                  </a:lnTo>
                  <a:lnTo>
                    <a:pt x="16" y="33"/>
                  </a:lnTo>
                  <a:lnTo>
                    <a:pt x="16" y="33"/>
                  </a:lnTo>
                  <a:lnTo>
                    <a:pt x="16" y="33"/>
                  </a:lnTo>
                  <a:lnTo>
                    <a:pt x="16" y="33"/>
                  </a:lnTo>
                  <a:lnTo>
                    <a:pt x="16" y="33"/>
                  </a:lnTo>
                  <a:lnTo>
                    <a:pt x="16" y="33"/>
                  </a:lnTo>
                  <a:lnTo>
                    <a:pt x="16" y="33"/>
                  </a:lnTo>
                  <a:lnTo>
                    <a:pt x="16" y="33"/>
                  </a:lnTo>
                  <a:lnTo>
                    <a:pt x="16" y="33"/>
                  </a:lnTo>
                  <a:lnTo>
                    <a:pt x="16" y="33"/>
                  </a:lnTo>
                  <a:lnTo>
                    <a:pt x="24" y="33"/>
                  </a:lnTo>
                  <a:lnTo>
                    <a:pt x="24" y="33"/>
                  </a:lnTo>
                  <a:lnTo>
                    <a:pt x="24" y="33"/>
                  </a:lnTo>
                  <a:lnTo>
                    <a:pt x="24" y="33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32" y="24"/>
                  </a:lnTo>
                  <a:lnTo>
                    <a:pt x="32" y="24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5442120" y="3741840"/>
              <a:ext cx="37800" cy="39600"/>
            </a:xfrm>
            <a:custGeom>
              <a:avLst/>
              <a:gdLst/>
              <a:ahLst/>
              <a:rect l="l" t="t" r="r" b="b"/>
              <a:pathLst>
                <a:path w="24" h="25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17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9"/>
                  </a:lnTo>
                  <a:lnTo>
                    <a:pt x="24" y="9"/>
                  </a:lnTo>
                  <a:lnTo>
                    <a:pt x="24" y="9"/>
                  </a:lnTo>
                  <a:lnTo>
                    <a:pt x="24" y="9"/>
                  </a:lnTo>
                  <a:lnTo>
                    <a:pt x="24" y="9"/>
                  </a:lnTo>
                  <a:lnTo>
                    <a:pt x="16" y="9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5442120" y="3768840"/>
              <a:ext cx="3780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5442120" y="3794040"/>
              <a:ext cx="37800" cy="50760"/>
            </a:xfrm>
            <a:custGeom>
              <a:avLst/>
              <a:gdLst/>
              <a:ahLst/>
              <a:rect l="l" t="t" r="r" b="b"/>
              <a:pathLst>
                <a:path w="24" h="32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5442120" y="3832200"/>
              <a:ext cx="3780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442120" y="3857760"/>
              <a:ext cx="37800" cy="378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442120" y="3882960"/>
              <a:ext cx="37800" cy="50760"/>
            </a:xfrm>
            <a:custGeom>
              <a:avLst/>
              <a:gdLst/>
              <a:ahLst/>
              <a:rect l="l" t="t" r="r" b="b"/>
              <a:pathLst>
                <a:path w="24" h="32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5442120" y="3921120"/>
              <a:ext cx="3780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429160" y="3946680"/>
              <a:ext cx="50760" cy="3780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16" y="0"/>
                  </a:move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429160" y="3971880"/>
              <a:ext cx="50760" cy="3816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16" y="0"/>
                  </a:move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442120" y="3997440"/>
              <a:ext cx="37800" cy="50760"/>
            </a:xfrm>
            <a:custGeom>
              <a:avLst/>
              <a:gdLst/>
              <a:ahLst/>
              <a:rect l="l" t="t" r="r" b="b"/>
              <a:pathLst>
                <a:path w="24" h="32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5442120" y="4035600"/>
              <a:ext cx="37800" cy="378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6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5442120" y="4060800"/>
              <a:ext cx="3780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6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442120" y="4086360"/>
              <a:ext cx="37800" cy="39600"/>
            </a:xfrm>
            <a:custGeom>
              <a:avLst/>
              <a:gdLst/>
              <a:ahLst/>
              <a:rect l="l" t="t" r="r" b="b"/>
              <a:pathLst>
                <a:path w="24" h="25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442120" y="4111560"/>
              <a:ext cx="37800" cy="52560"/>
            </a:xfrm>
            <a:custGeom>
              <a:avLst/>
              <a:gdLst/>
              <a:ahLst/>
              <a:rect l="l" t="t" r="r" b="b"/>
              <a:pathLst>
                <a:path w="24" h="33">
                  <a:moveTo>
                    <a:pt x="8" y="0"/>
                  </a:moveTo>
                  <a:lnTo>
                    <a:pt x="8" y="9"/>
                  </a:lnTo>
                  <a:lnTo>
                    <a:pt x="8" y="9"/>
                  </a:lnTo>
                  <a:lnTo>
                    <a:pt x="8" y="9"/>
                  </a:lnTo>
                  <a:lnTo>
                    <a:pt x="8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8" y="33"/>
                  </a:lnTo>
                  <a:lnTo>
                    <a:pt x="8" y="33"/>
                  </a:lnTo>
                  <a:lnTo>
                    <a:pt x="8" y="33"/>
                  </a:lnTo>
                  <a:lnTo>
                    <a:pt x="8" y="33"/>
                  </a:lnTo>
                  <a:lnTo>
                    <a:pt x="8" y="33"/>
                  </a:lnTo>
                  <a:lnTo>
                    <a:pt x="8" y="33"/>
                  </a:lnTo>
                  <a:lnTo>
                    <a:pt x="8" y="33"/>
                  </a:lnTo>
                  <a:lnTo>
                    <a:pt x="8" y="33"/>
                  </a:lnTo>
                  <a:lnTo>
                    <a:pt x="8" y="33"/>
                  </a:lnTo>
                  <a:lnTo>
                    <a:pt x="16" y="33"/>
                  </a:lnTo>
                  <a:lnTo>
                    <a:pt x="16" y="33"/>
                  </a:lnTo>
                  <a:lnTo>
                    <a:pt x="16" y="33"/>
                  </a:lnTo>
                  <a:lnTo>
                    <a:pt x="16" y="33"/>
                  </a:lnTo>
                  <a:lnTo>
                    <a:pt x="16" y="33"/>
                  </a:lnTo>
                  <a:lnTo>
                    <a:pt x="16" y="33"/>
                  </a:lnTo>
                  <a:lnTo>
                    <a:pt x="16" y="33"/>
                  </a:lnTo>
                  <a:lnTo>
                    <a:pt x="16" y="33"/>
                  </a:lnTo>
                  <a:lnTo>
                    <a:pt x="16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9"/>
                  </a:lnTo>
                  <a:lnTo>
                    <a:pt x="24" y="9"/>
                  </a:lnTo>
                  <a:lnTo>
                    <a:pt x="24" y="9"/>
                  </a:lnTo>
                  <a:lnTo>
                    <a:pt x="24" y="9"/>
                  </a:lnTo>
                  <a:lnTo>
                    <a:pt x="24" y="9"/>
                  </a:lnTo>
                  <a:lnTo>
                    <a:pt x="24" y="9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442120" y="4151160"/>
              <a:ext cx="3780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442120" y="4176720"/>
              <a:ext cx="3780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442120" y="4202280"/>
              <a:ext cx="37800" cy="50760"/>
            </a:xfrm>
            <a:custGeom>
              <a:avLst/>
              <a:gdLst/>
              <a:ahLst/>
              <a:rect l="l" t="t" r="r" b="b"/>
              <a:pathLst>
                <a:path w="24" h="32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442120" y="4240080"/>
              <a:ext cx="3780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442120" y="4265640"/>
              <a:ext cx="3780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442120" y="4290840"/>
              <a:ext cx="3780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442120" y="4329000"/>
              <a:ext cx="3780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9160" y="4354560"/>
              <a:ext cx="50760" cy="3816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16" y="0"/>
                  </a:move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429160" y="4379760"/>
              <a:ext cx="50760" cy="3816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16" y="0"/>
                  </a:move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429160" y="4405320"/>
              <a:ext cx="50760" cy="50760"/>
            </a:xfrm>
            <a:custGeom>
              <a:avLst/>
              <a:gdLst/>
              <a:ahLst/>
              <a:rect l="l" t="t" r="r" b="b"/>
              <a:pathLst>
                <a:path w="32" h="32">
                  <a:moveTo>
                    <a:pt x="16" y="0"/>
                  </a:moveTo>
                  <a:lnTo>
                    <a:pt x="16" y="0"/>
                  </a:lnTo>
                  <a:lnTo>
                    <a:pt x="16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24" y="32"/>
                  </a:lnTo>
                  <a:lnTo>
                    <a:pt x="24" y="32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32" y="24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429160" y="444348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6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16560" y="4468680"/>
              <a:ext cx="38160" cy="39960"/>
            </a:xfrm>
            <a:custGeom>
              <a:avLst/>
              <a:gdLst/>
              <a:ahLst/>
              <a:rect l="l" t="t" r="r" b="b"/>
              <a:pathLst>
                <a:path w="24" h="25">
                  <a:moveTo>
                    <a:pt x="16" y="0"/>
                  </a:move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16560" y="4494240"/>
              <a:ext cx="38160" cy="39600"/>
            </a:xfrm>
            <a:custGeom>
              <a:avLst/>
              <a:gdLst/>
              <a:ahLst/>
              <a:rect l="l" t="t" r="r" b="b"/>
              <a:pathLst>
                <a:path w="24" h="25">
                  <a:moveTo>
                    <a:pt x="16" y="0"/>
                  </a:move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9"/>
                  </a:lnTo>
                  <a:lnTo>
                    <a:pt x="24" y="9"/>
                  </a:lnTo>
                  <a:lnTo>
                    <a:pt x="24" y="9"/>
                  </a:lnTo>
                  <a:lnTo>
                    <a:pt x="24" y="9"/>
                  </a:lnTo>
                  <a:lnTo>
                    <a:pt x="24" y="9"/>
                  </a:lnTo>
                  <a:lnTo>
                    <a:pt x="24" y="9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416560" y="452124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403960" y="4546440"/>
              <a:ext cx="38160" cy="51120"/>
            </a:xfrm>
            <a:custGeom>
              <a:avLst/>
              <a:gdLst/>
              <a:ahLst/>
              <a:rect l="l" t="t" r="r" b="b"/>
              <a:pathLst>
                <a:path w="24" h="32">
                  <a:moveTo>
                    <a:pt x="16" y="0"/>
                  </a:move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391000" y="4572000"/>
              <a:ext cx="51120" cy="50760"/>
            </a:xfrm>
            <a:custGeom>
              <a:avLst/>
              <a:gdLst/>
              <a:ahLst/>
              <a:rect l="l" t="t" r="r" b="b"/>
              <a:pathLst>
                <a:path w="32" h="32">
                  <a:moveTo>
                    <a:pt x="16" y="0"/>
                  </a:moveTo>
                  <a:lnTo>
                    <a:pt x="16" y="0"/>
                  </a:lnTo>
                  <a:lnTo>
                    <a:pt x="16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24" y="32"/>
                  </a:lnTo>
                  <a:lnTo>
                    <a:pt x="24" y="32"/>
                  </a:lnTo>
                  <a:lnTo>
                    <a:pt x="24" y="32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32" y="24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391000" y="461016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378400" y="463536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6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365800" y="4660920"/>
              <a:ext cx="50760" cy="3816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16" y="0"/>
                  </a:move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365800" y="4686480"/>
              <a:ext cx="38160" cy="50760"/>
            </a:xfrm>
            <a:custGeom>
              <a:avLst/>
              <a:gdLst/>
              <a:ahLst/>
              <a:rect l="l" t="t" r="r" b="b"/>
              <a:pathLst>
                <a:path w="24" h="32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16" y="32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353200" y="4711680"/>
              <a:ext cx="37800" cy="50760"/>
            </a:xfrm>
            <a:custGeom>
              <a:avLst/>
              <a:gdLst/>
              <a:ahLst/>
              <a:rect l="l" t="t" r="r" b="b"/>
              <a:pathLst>
                <a:path w="24" h="32">
                  <a:moveTo>
                    <a:pt x="16" y="0"/>
                  </a:moveTo>
                  <a:lnTo>
                    <a:pt x="16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340240" y="4749840"/>
              <a:ext cx="50760" cy="3816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16" y="0"/>
                  </a:move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326200" y="4749840"/>
              <a:ext cx="52200" cy="50760"/>
            </a:xfrm>
            <a:custGeom>
              <a:avLst/>
              <a:gdLst/>
              <a:ahLst/>
              <a:rect l="l" t="t" r="r" b="b"/>
              <a:pathLst>
                <a:path w="33" h="32">
                  <a:moveTo>
                    <a:pt x="17" y="0"/>
                  </a:moveTo>
                  <a:lnTo>
                    <a:pt x="17" y="0"/>
                  </a:lnTo>
                  <a:lnTo>
                    <a:pt x="9" y="0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32"/>
                  </a:lnTo>
                  <a:lnTo>
                    <a:pt x="9" y="32"/>
                  </a:lnTo>
                  <a:lnTo>
                    <a:pt x="9" y="32"/>
                  </a:lnTo>
                  <a:lnTo>
                    <a:pt x="9" y="32"/>
                  </a:lnTo>
                  <a:lnTo>
                    <a:pt x="17" y="32"/>
                  </a:lnTo>
                  <a:lnTo>
                    <a:pt x="17" y="32"/>
                  </a:lnTo>
                  <a:lnTo>
                    <a:pt x="17" y="32"/>
                  </a:lnTo>
                  <a:lnTo>
                    <a:pt x="17" y="32"/>
                  </a:lnTo>
                  <a:lnTo>
                    <a:pt x="17" y="32"/>
                  </a:lnTo>
                  <a:lnTo>
                    <a:pt x="17" y="32"/>
                  </a:lnTo>
                  <a:lnTo>
                    <a:pt x="17" y="32"/>
                  </a:lnTo>
                  <a:lnTo>
                    <a:pt x="17" y="32"/>
                  </a:lnTo>
                  <a:lnTo>
                    <a:pt x="17" y="32"/>
                  </a:lnTo>
                  <a:lnTo>
                    <a:pt x="25" y="32"/>
                  </a:lnTo>
                  <a:lnTo>
                    <a:pt x="25" y="32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16"/>
                  </a:lnTo>
                  <a:lnTo>
                    <a:pt x="33" y="16"/>
                  </a:lnTo>
                  <a:lnTo>
                    <a:pt x="33" y="16"/>
                  </a:lnTo>
                  <a:lnTo>
                    <a:pt x="33" y="16"/>
                  </a:lnTo>
                  <a:lnTo>
                    <a:pt x="25" y="16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300640" y="4762440"/>
              <a:ext cx="39600" cy="50760"/>
            </a:xfrm>
            <a:custGeom>
              <a:avLst/>
              <a:gdLst/>
              <a:ahLst/>
              <a:rect l="l" t="t" r="r" b="b"/>
              <a:pathLst>
                <a:path w="25" h="32">
                  <a:moveTo>
                    <a:pt x="16" y="0"/>
                  </a:move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288040" y="478800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300640" y="4813200"/>
              <a:ext cx="39600" cy="3816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5" y="24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13240" y="4838760"/>
              <a:ext cx="39960" cy="52200"/>
            </a:xfrm>
            <a:custGeom>
              <a:avLst/>
              <a:gdLst/>
              <a:ahLst/>
              <a:rect l="l" t="t" r="r" b="b"/>
              <a:pathLst>
                <a:path w="25" h="33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33"/>
                  </a:lnTo>
                  <a:lnTo>
                    <a:pt x="8" y="33"/>
                  </a:lnTo>
                  <a:lnTo>
                    <a:pt x="8" y="33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25" y="24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313240" y="4863960"/>
              <a:ext cx="52560" cy="52560"/>
            </a:xfrm>
            <a:custGeom>
              <a:avLst/>
              <a:gdLst/>
              <a:ahLst/>
              <a:rect l="l" t="t" r="r" b="b"/>
              <a:pathLst>
                <a:path w="33" h="33">
                  <a:moveTo>
                    <a:pt x="17" y="0"/>
                  </a:moveTo>
                  <a:lnTo>
                    <a:pt x="17" y="0"/>
                  </a:lnTo>
                  <a:lnTo>
                    <a:pt x="17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8" y="17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17" y="25"/>
                  </a:lnTo>
                  <a:lnTo>
                    <a:pt x="17" y="25"/>
                  </a:lnTo>
                  <a:lnTo>
                    <a:pt x="17" y="25"/>
                  </a:lnTo>
                  <a:lnTo>
                    <a:pt x="17" y="33"/>
                  </a:lnTo>
                  <a:lnTo>
                    <a:pt x="17" y="33"/>
                  </a:lnTo>
                  <a:lnTo>
                    <a:pt x="17" y="33"/>
                  </a:lnTo>
                  <a:lnTo>
                    <a:pt x="17" y="33"/>
                  </a:lnTo>
                  <a:lnTo>
                    <a:pt x="17" y="33"/>
                  </a:lnTo>
                  <a:lnTo>
                    <a:pt x="17" y="25"/>
                  </a:lnTo>
                  <a:lnTo>
                    <a:pt x="17" y="25"/>
                  </a:lnTo>
                  <a:lnTo>
                    <a:pt x="25" y="25"/>
                  </a:lnTo>
                  <a:lnTo>
                    <a:pt x="25" y="25"/>
                  </a:lnTo>
                  <a:lnTo>
                    <a:pt x="25" y="25"/>
                  </a:lnTo>
                  <a:lnTo>
                    <a:pt x="25" y="25"/>
                  </a:lnTo>
                  <a:lnTo>
                    <a:pt x="25" y="25"/>
                  </a:lnTo>
                  <a:lnTo>
                    <a:pt x="25" y="25"/>
                  </a:lnTo>
                  <a:lnTo>
                    <a:pt x="25" y="25"/>
                  </a:lnTo>
                  <a:lnTo>
                    <a:pt x="25" y="25"/>
                  </a:lnTo>
                  <a:lnTo>
                    <a:pt x="33" y="17"/>
                  </a:lnTo>
                  <a:lnTo>
                    <a:pt x="33" y="17"/>
                  </a:lnTo>
                  <a:lnTo>
                    <a:pt x="33" y="17"/>
                  </a:lnTo>
                  <a:lnTo>
                    <a:pt x="33" y="17"/>
                  </a:lnTo>
                  <a:lnTo>
                    <a:pt x="33" y="17"/>
                  </a:lnTo>
                  <a:lnTo>
                    <a:pt x="33" y="8"/>
                  </a:lnTo>
                  <a:lnTo>
                    <a:pt x="33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5326200" y="4890960"/>
              <a:ext cx="52200" cy="50760"/>
            </a:xfrm>
            <a:custGeom>
              <a:avLst/>
              <a:gdLst/>
              <a:ahLst/>
              <a:rect l="l" t="t" r="r" b="b"/>
              <a:pathLst>
                <a:path w="33" h="32">
                  <a:moveTo>
                    <a:pt x="17" y="0"/>
                  </a:moveTo>
                  <a:lnTo>
                    <a:pt x="17" y="0"/>
                  </a:lnTo>
                  <a:lnTo>
                    <a:pt x="17" y="0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32"/>
                  </a:lnTo>
                  <a:lnTo>
                    <a:pt x="9" y="32"/>
                  </a:lnTo>
                  <a:lnTo>
                    <a:pt x="9" y="32"/>
                  </a:lnTo>
                  <a:lnTo>
                    <a:pt x="9" y="32"/>
                  </a:lnTo>
                  <a:lnTo>
                    <a:pt x="17" y="32"/>
                  </a:lnTo>
                  <a:lnTo>
                    <a:pt x="17" y="32"/>
                  </a:lnTo>
                  <a:lnTo>
                    <a:pt x="17" y="32"/>
                  </a:lnTo>
                  <a:lnTo>
                    <a:pt x="17" y="32"/>
                  </a:lnTo>
                  <a:lnTo>
                    <a:pt x="17" y="32"/>
                  </a:lnTo>
                  <a:lnTo>
                    <a:pt x="17" y="32"/>
                  </a:lnTo>
                  <a:lnTo>
                    <a:pt x="17" y="32"/>
                  </a:lnTo>
                  <a:lnTo>
                    <a:pt x="17" y="32"/>
                  </a:lnTo>
                  <a:lnTo>
                    <a:pt x="17" y="32"/>
                  </a:lnTo>
                  <a:lnTo>
                    <a:pt x="25" y="32"/>
                  </a:lnTo>
                  <a:lnTo>
                    <a:pt x="25" y="32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16"/>
                  </a:lnTo>
                  <a:lnTo>
                    <a:pt x="33" y="16"/>
                  </a:lnTo>
                  <a:lnTo>
                    <a:pt x="33" y="16"/>
                  </a:lnTo>
                  <a:lnTo>
                    <a:pt x="33" y="16"/>
                  </a:lnTo>
                  <a:lnTo>
                    <a:pt x="25" y="16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340240" y="492912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6" y="0"/>
                  </a:move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353200" y="4954680"/>
              <a:ext cx="3780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6" y="0"/>
                  </a:move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5365800" y="497988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6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5378400" y="500544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6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5391000" y="503064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403960" y="505620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5416560" y="5081760"/>
              <a:ext cx="38160" cy="378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5429160" y="5106960"/>
              <a:ext cx="38160" cy="50760"/>
            </a:xfrm>
            <a:custGeom>
              <a:avLst/>
              <a:gdLst/>
              <a:ahLst/>
              <a:rect l="l" t="t" r="r" b="b"/>
              <a:pathLst>
                <a:path w="24" h="32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16" y="32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5442120" y="5132520"/>
              <a:ext cx="37800" cy="50760"/>
            </a:xfrm>
            <a:custGeom>
              <a:avLst/>
              <a:gdLst/>
              <a:ahLst/>
              <a:rect l="l" t="t" r="r" b="b"/>
              <a:pathLst>
                <a:path w="24" h="32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5442120" y="5157720"/>
              <a:ext cx="50760" cy="50760"/>
            </a:xfrm>
            <a:custGeom>
              <a:avLst/>
              <a:gdLst/>
              <a:ahLst/>
              <a:rect l="l" t="t" r="r" b="b"/>
              <a:pathLst>
                <a:path w="32" h="32">
                  <a:moveTo>
                    <a:pt x="16" y="0"/>
                  </a:move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24" y="32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32" y="24"/>
                  </a:lnTo>
                  <a:lnTo>
                    <a:pt x="32" y="24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5454720" y="5183280"/>
              <a:ext cx="50760" cy="50760"/>
            </a:xfrm>
            <a:custGeom>
              <a:avLst/>
              <a:gdLst/>
              <a:ahLst/>
              <a:rect l="l" t="t" r="r" b="b"/>
              <a:pathLst>
                <a:path w="32" h="32">
                  <a:moveTo>
                    <a:pt x="16" y="0"/>
                  </a:moveTo>
                  <a:lnTo>
                    <a:pt x="16" y="0"/>
                  </a:lnTo>
                  <a:lnTo>
                    <a:pt x="16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24" y="32"/>
                  </a:lnTo>
                  <a:lnTo>
                    <a:pt x="24" y="32"/>
                  </a:lnTo>
                  <a:lnTo>
                    <a:pt x="24" y="32"/>
                  </a:lnTo>
                  <a:lnTo>
                    <a:pt x="24" y="32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32" y="24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5467320" y="5221440"/>
              <a:ext cx="50760" cy="3780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16" y="0"/>
                  </a:move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5479920" y="5246640"/>
              <a:ext cx="38160" cy="39600"/>
            </a:xfrm>
            <a:custGeom>
              <a:avLst/>
              <a:gdLst/>
              <a:ahLst/>
              <a:rect l="l" t="t" r="r" b="b"/>
              <a:pathLst>
                <a:path w="24" h="25">
                  <a:moveTo>
                    <a:pt x="16" y="0"/>
                  </a:move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8" y="17"/>
                  </a:lnTo>
                  <a:lnTo>
                    <a:pt x="8" y="17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5429160" y="444348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6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5403960" y="4430880"/>
              <a:ext cx="38160" cy="50760"/>
            </a:xfrm>
            <a:custGeom>
              <a:avLst/>
              <a:gdLst/>
              <a:ahLst/>
              <a:rect l="l" t="t" r="r" b="b"/>
              <a:pathLst>
                <a:path w="24" h="32">
                  <a:moveTo>
                    <a:pt x="8" y="0"/>
                  </a:move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5365800" y="4430880"/>
              <a:ext cx="50760" cy="50760"/>
            </a:xfrm>
            <a:custGeom>
              <a:avLst/>
              <a:gdLst/>
              <a:ahLst/>
              <a:rect l="l" t="t" r="r" b="b"/>
              <a:pathLst>
                <a:path w="32" h="32">
                  <a:moveTo>
                    <a:pt x="16" y="0"/>
                  </a:moveTo>
                  <a:lnTo>
                    <a:pt x="16" y="8"/>
                  </a:lnTo>
                  <a:lnTo>
                    <a:pt x="16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24" y="32"/>
                  </a:lnTo>
                  <a:lnTo>
                    <a:pt x="24" y="32"/>
                  </a:lnTo>
                  <a:lnTo>
                    <a:pt x="24" y="32"/>
                  </a:lnTo>
                  <a:lnTo>
                    <a:pt x="24" y="32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32" y="24"/>
                  </a:lnTo>
                  <a:lnTo>
                    <a:pt x="32" y="24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5340240" y="4430880"/>
              <a:ext cx="38160" cy="50760"/>
            </a:xfrm>
            <a:custGeom>
              <a:avLst/>
              <a:gdLst/>
              <a:ahLst/>
              <a:rect l="l" t="t" r="r" b="b"/>
              <a:pathLst>
                <a:path w="24" h="32">
                  <a:moveTo>
                    <a:pt x="16" y="0"/>
                  </a:move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5313240" y="4430880"/>
              <a:ext cx="39960" cy="50760"/>
            </a:xfrm>
            <a:custGeom>
              <a:avLst/>
              <a:gdLst/>
              <a:ahLst/>
              <a:rect l="l" t="t" r="r" b="b"/>
              <a:pathLst>
                <a:path w="25" h="32">
                  <a:moveTo>
                    <a:pt x="8" y="0"/>
                  </a:move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17" y="32"/>
                  </a:lnTo>
                  <a:lnTo>
                    <a:pt x="17" y="32"/>
                  </a:lnTo>
                  <a:lnTo>
                    <a:pt x="17" y="32"/>
                  </a:lnTo>
                  <a:lnTo>
                    <a:pt x="17" y="32"/>
                  </a:lnTo>
                  <a:lnTo>
                    <a:pt x="17" y="32"/>
                  </a:lnTo>
                  <a:lnTo>
                    <a:pt x="17" y="32"/>
                  </a:lnTo>
                  <a:lnTo>
                    <a:pt x="17" y="32"/>
                  </a:lnTo>
                  <a:lnTo>
                    <a:pt x="17" y="32"/>
                  </a:lnTo>
                  <a:lnTo>
                    <a:pt x="17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7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5288040" y="4430880"/>
              <a:ext cx="38160" cy="50760"/>
            </a:xfrm>
            <a:custGeom>
              <a:avLst/>
              <a:gdLst/>
              <a:ahLst/>
              <a:rect l="l" t="t" r="r" b="b"/>
              <a:pathLst>
                <a:path w="24" h="32">
                  <a:moveTo>
                    <a:pt x="8" y="0"/>
                  </a:move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249880" y="4430880"/>
              <a:ext cx="38160" cy="50760"/>
            </a:xfrm>
            <a:custGeom>
              <a:avLst/>
              <a:gdLst/>
              <a:ahLst/>
              <a:rect l="l" t="t" r="r" b="b"/>
              <a:pathLst>
                <a:path w="24" h="32">
                  <a:moveTo>
                    <a:pt x="16" y="0"/>
                  </a:moveTo>
                  <a:lnTo>
                    <a:pt x="16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24" y="32"/>
                  </a:lnTo>
                  <a:lnTo>
                    <a:pt x="24" y="32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224320" y="4430880"/>
              <a:ext cx="38160" cy="50760"/>
            </a:xfrm>
            <a:custGeom>
              <a:avLst/>
              <a:gdLst/>
              <a:ahLst/>
              <a:rect l="l" t="t" r="r" b="b"/>
              <a:pathLst>
                <a:path w="24" h="32">
                  <a:moveTo>
                    <a:pt x="16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5199120" y="444348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5173560" y="445608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5135400" y="4468680"/>
              <a:ext cx="51120" cy="399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16" y="0"/>
                  </a:move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9" name=""/>
          <p:cNvGrpSpPr/>
          <p:nvPr/>
        </p:nvGrpSpPr>
        <p:grpSpPr>
          <a:xfrm>
            <a:off x="2463840" y="2289240"/>
            <a:ext cx="4716360" cy="2627280"/>
            <a:chOff x="2463840" y="2289240"/>
            <a:chExt cx="4716360" cy="2627280"/>
          </a:xfrm>
        </p:grpSpPr>
        <p:sp>
          <p:nvSpPr>
            <p:cNvPr id="880" name=""/>
            <p:cNvSpPr/>
            <p:nvPr/>
          </p:nvSpPr>
          <p:spPr>
            <a:xfrm>
              <a:off x="5110200" y="4481640"/>
              <a:ext cx="50760" cy="3960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16" y="0"/>
                  </a:move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7"/>
                  </a:lnTo>
                  <a:lnTo>
                    <a:pt x="8" y="17"/>
                  </a:lnTo>
                  <a:lnTo>
                    <a:pt x="8" y="17"/>
                  </a:lnTo>
                  <a:lnTo>
                    <a:pt x="8" y="17"/>
                  </a:lnTo>
                  <a:lnTo>
                    <a:pt x="8" y="17"/>
                  </a:lnTo>
                  <a:lnTo>
                    <a:pt x="8" y="17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32" y="17"/>
                  </a:lnTo>
                  <a:lnTo>
                    <a:pt x="32" y="17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5083200" y="4481640"/>
              <a:ext cx="52200" cy="52200"/>
            </a:xfrm>
            <a:custGeom>
              <a:avLst/>
              <a:gdLst/>
              <a:ahLst/>
              <a:rect l="l" t="t" r="r" b="b"/>
              <a:pathLst>
                <a:path w="33" h="33">
                  <a:moveTo>
                    <a:pt x="17" y="0"/>
                  </a:moveTo>
                  <a:lnTo>
                    <a:pt x="17" y="0"/>
                  </a:lnTo>
                  <a:lnTo>
                    <a:pt x="17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0" y="8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9" y="25"/>
                  </a:lnTo>
                  <a:lnTo>
                    <a:pt x="9" y="25"/>
                  </a:lnTo>
                  <a:lnTo>
                    <a:pt x="9" y="25"/>
                  </a:lnTo>
                  <a:lnTo>
                    <a:pt x="9" y="25"/>
                  </a:lnTo>
                  <a:lnTo>
                    <a:pt x="9" y="33"/>
                  </a:lnTo>
                  <a:lnTo>
                    <a:pt x="9" y="33"/>
                  </a:lnTo>
                  <a:lnTo>
                    <a:pt x="9" y="33"/>
                  </a:lnTo>
                  <a:lnTo>
                    <a:pt x="9" y="33"/>
                  </a:lnTo>
                  <a:lnTo>
                    <a:pt x="17" y="33"/>
                  </a:lnTo>
                  <a:lnTo>
                    <a:pt x="17" y="33"/>
                  </a:lnTo>
                  <a:lnTo>
                    <a:pt x="17" y="33"/>
                  </a:lnTo>
                  <a:lnTo>
                    <a:pt x="17" y="33"/>
                  </a:lnTo>
                  <a:lnTo>
                    <a:pt x="17" y="33"/>
                  </a:lnTo>
                  <a:lnTo>
                    <a:pt x="17" y="33"/>
                  </a:lnTo>
                  <a:lnTo>
                    <a:pt x="17" y="33"/>
                  </a:lnTo>
                  <a:lnTo>
                    <a:pt x="17" y="33"/>
                  </a:lnTo>
                  <a:lnTo>
                    <a:pt x="17" y="33"/>
                  </a:lnTo>
                  <a:lnTo>
                    <a:pt x="17" y="33"/>
                  </a:lnTo>
                  <a:lnTo>
                    <a:pt x="25" y="33"/>
                  </a:lnTo>
                  <a:lnTo>
                    <a:pt x="25" y="33"/>
                  </a:lnTo>
                  <a:lnTo>
                    <a:pt x="25" y="33"/>
                  </a:lnTo>
                  <a:lnTo>
                    <a:pt x="25" y="25"/>
                  </a:lnTo>
                  <a:lnTo>
                    <a:pt x="25" y="25"/>
                  </a:lnTo>
                  <a:lnTo>
                    <a:pt x="25" y="25"/>
                  </a:lnTo>
                  <a:lnTo>
                    <a:pt x="25" y="25"/>
                  </a:lnTo>
                  <a:lnTo>
                    <a:pt x="25" y="25"/>
                  </a:lnTo>
                  <a:lnTo>
                    <a:pt x="33" y="25"/>
                  </a:lnTo>
                  <a:lnTo>
                    <a:pt x="33" y="17"/>
                  </a:lnTo>
                  <a:lnTo>
                    <a:pt x="33" y="17"/>
                  </a:lnTo>
                  <a:lnTo>
                    <a:pt x="33" y="17"/>
                  </a:lnTo>
                  <a:lnTo>
                    <a:pt x="33" y="17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17" y="8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5057640" y="4494240"/>
              <a:ext cx="52560" cy="52200"/>
            </a:xfrm>
            <a:custGeom>
              <a:avLst/>
              <a:gdLst/>
              <a:ahLst/>
              <a:rect l="l" t="t" r="r" b="b"/>
              <a:pathLst>
                <a:path w="33" h="33">
                  <a:moveTo>
                    <a:pt x="16" y="0"/>
                  </a:moveTo>
                  <a:lnTo>
                    <a:pt x="16" y="0"/>
                  </a:lnTo>
                  <a:lnTo>
                    <a:pt x="16" y="0"/>
                  </a:lnTo>
                  <a:lnTo>
                    <a:pt x="8" y="9"/>
                  </a:lnTo>
                  <a:lnTo>
                    <a:pt x="8" y="9"/>
                  </a:lnTo>
                  <a:lnTo>
                    <a:pt x="8" y="9"/>
                  </a:lnTo>
                  <a:lnTo>
                    <a:pt x="8" y="9"/>
                  </a:lnTo>
                  <a:lnTo>
                    <a:pt x="8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33"/>
                  </a:lnTo>
                  <a:lnTo>
                    <a:pt x="8" y="33"/>
                  </a:lnTo>
                  <a:lnTo>
                    <a:pt x="8" y="33"/>
                  </a:lnTo>
                  <a:lnTo>
                    <a:pt x="8" y="33"/>
                  </a:lnTo>
                  <a:lnTo>
                    <a:pt x="16" y="33"/>
                  </a:lnTo>
                  <a:lnTo>
                    <a:pt x="16" y="33"/>
                  </a:lnTo>
                  <a:lnTo>
                    <a:pt x="16" y="33"/>
                  </a:lnTo>
                  <a:lnTo>
                    <a:pt x="16" y="33"/>
                  </a:lnTo>
                  <a:lnTo>
                    <a:pt x="16" y="33"/>
                  </a:lnTo>
                  <a:lnTo>
                    <a:pt x="16" y="33"/>
                  </a:lnTo>
                  <a:lnTo>
                    <a:pt x="16" y="33"/>
                  </a:lnTo>
                  <a:lnTo>
                    <a:pt x="16" y="33"/>
                  </a:lnTo>
                  <a:lnTo>
                    <a:pt x="16" y="33"/>
                  </a:lnTo>
                  <a:lnTo>
                    <a:pt x="25" y="33"/>
                  </a:lnTo>
                  <a:lnTo>
                    <a:pt x="25" y="33"/>
                  </a:lnTo>
                  <a:lnTo>
                    <a:pt x="25" y="25"/>
                  </a:lnTo>
                  <a:lnTo>
                    <a:pt x="25" y="25"/>
                  </a:lnTo>
                  <a:lnTo>
                    <a:pt x="25" y="25"/>
                  </a:lnTo>
                  <a:lnTo>
                    <a:pt x="25" y="25"/>
                  </a:lnTo>
                  <a:lnTo>
                    <a:pt x="25" y="25"/>
                  </a:lnTo>
                  <a:lnTo>
                    <a:pt x="25" y="25"/>
                  </a:lnTo>
                  <a:lnTo>
                    <a:pt x="25" y="17"/>
                  </a:lnTo>
                  <a:lnTo>
                    <a:pt x="33" y="17"/>
                  </a:lnTo>
                  <a:lnTo>
                    <a:pt x="33" y="17"/>
                  </a:lnTo>
                  <a:lnTo>
                    <a:pt x="33" y="17"/>
                  </a:lnTo>
                  <a:lnTo>
                    <a:pt x="25" y="17"/>
                  </a:lnTo>
                  <a:lnTo>
                    <a:pt x="25" y="9"/>
                  </a:lnTo>
                  <a:lnTo>
                    <a:pt x="25" y="9"/>
                  </a:lnTo>
                  <a:lnTo>
                    <a:pt x="25" y="9"/>
                  </a:lnTo>
                  <a:lnTo>
                    <a:pt x="25" y="9"/>
                  </a:lnTo>
                  <a:lnTo>
                    <a:pt x="25" y="9"/>
                  </a:lnTo>
                  <a:lnTo>
                    <a:pt x="25" y="9"/>
                  </a:lnTo>
                  <a:lnTo>
                    <a:pt x="25" y="9"/>
                  </a:lnTo>
                  <a:lnTo>
                    <a:pt x="25" y="9"/>
                  </a:lnTo>
                  <a:lnTo>
                    <a:pt x="25" y="9"/>
                  </a:lnTo>
                  <a:lnTo>
                    <a:pt x="25" y="9"/>
                  </a:lnTo>
                  <a:lnTo>
                    <a:pt x="25" y="9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032440" y="4508640"/>
              <a:ext cx="38160" cy="50760"/>
            </a:xfrm>
            <a:custGeom>
              <a:avLst/>
              <a:gdLst/>
              <a:ahLst/>
              <a:rect l="l" t="t" r="r" b="b"/>
              <a:pathLst>
                <a:path w="24" h="32">
                  <a:moveTo>
                    <a:pt x="16" y="0"/>
                  </a:move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5006880" y="4521240"/>
              <a:ext cx="38160" cy="50760"/>
            </a:xfrm>
            <a:custGeom>
              <a:avLst/>
              <a:gdLst/>
              <a:ahLst/>
              <a:rect l="l" t="t" r="r" b="b"/>
              <a:pathLst>
                <a:path w="24" h="32">
                  <a:moveTo>
                    <a:pt x="16" y="0"/>
                  </a:move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981680" y="4533840"/>
              <a:ext cx="38160" cy="50760"/>
            </a:xfrm>
            <a:custGeom>
              <a:avLst/>
              <a:gdLst/>
              <a:ahLst/>
              <a:rect l="l" t="t" r="r" b="b"/>
              <a:pathLst>
                <a:path w="24" h="32">
                  <a:moveTo>
                    <a:pt x="16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4956120" y="454644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6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4930920" y="4559400"/>
              <a:ext cx="3780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905360" y="457200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4879800" y="458460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4854600" y="4597560"/>
              <a:ext cx="38160" cy="378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4827600" y="4610160"/>
              <a:ext cx="39600" cy="3816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4789440" y="4622760"/>
              <a:ext cx="50760" cy="3816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16" y="0"/>
                  </a:move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4764240" y="4635360"/>
              <a:ext cx="50760" cy="3816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16" y="0"/>
                  </a:move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4738680" y="464832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6" y="0"/>
                  </a:move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4713120" y="466092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6" y="0"/>
                  </a:move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4687920" y="4660920"/>
              <a:ext cx="38160" cy="50760"/>
            </a:xfrm>
            <a:custGeom>
              <a:avLst/>
              <a:gdLst/>
              <a:ahLst/>
              <a:rect l="l" t="t" r="r" b="b"/>
              <a:pathLst>
                <a:path w="24" h="32">
                  <a:moveTo>
                    <a:pt x="16" y="0"/>
                  </a:moveTo>
                  <a:lnTo>
                    <a:pt x="16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24" y="32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4662360" y="4673520"/>
              <a:ext cx="38160" cy="50760"/>
            </a:xfrm>
            <a:custGeom>
              <a:avLst/>
              <a:gdLst/>
              <a:ahLst/>
              <a:rect l="l" t="t" r="r" b="b"/>
              <a:pathLst>
                <a:path w="24" h="32">
                  <a:moveTo>
                    <a:pt x="16" y="0"/>
                  </a:move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4637160" y="4686480"/>
              <a:ext cx="38160" cy="50760"/>
            </a:xfrm>
            <a:custGeom>
              <a:avLst/>
              <a:gdLst/>
              <a:ahLst/>
              <a:rect l="l" t="t" r="r" b="b"/>
              <a:pathLst>
                <a:path w="24" h="32">
                  <a:moveTo>
                    <a:pt x="16" y="0"/>
                  </a:move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4611600" y="4699080"/>
              <a:ext cx="38160" cy="50760"/>
            </a:xfrm>
            <a:custGeom>
              <a:avLst/>
              <a:gdLst/>
              <a:ahLst/>
              <a:rect l="l" t="t" r="r" b="b"/>
              <a:pathLst>
                <a:path w="24" h="32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4584600" y="4711680"/>
              <a:ext cx="39960" cy="50760"/>
            </a:xfrm>
            <a:custGeom>
              <a:avLst/>
              <a:gdLst/>
              <a:ahLst/>
              <a:rect l="l" t="t" r="r" b="b"/>
              <a:pathLst>
                <a:path w="25" h="32">
                  <a:moveTo>
                    <a:pt x="17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17" y="32"/>
                  </a:lnTo>
                  <a:lnTo>
                    <a:pt x="17" y="32"/>
                  </a:lnTo>
                  <a:lnTo>
                    <a:pt x="17" y="32"/>
                  </a:lnTo>
                  <a:lnTo>
                    <a:pt x="17" y="32"/>
                  </a:lnTo>
                  <a:lnTo>
                    <a:pt x="17" y="32"/>
                  </a:lnTo>
                  <a:lnTo>
                    <a:pt x="17" y="32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4559400" y="4724280"/>
              <a:ext cx="38160" cy="50760"/>
            </a:xfrm>
            <a:custGeom>
              <a:avLst/>
              <a:gdLst/>
              <a:ahLst/>
              <a:rect l="l" t="t" r="r" b="b"/>
              <a:pathLst>
                <a:path w="24" h="32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16" y="32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4533840" y="4737240"/>
              <a:ext cx="38160" cy="50760"/>
            </a:xfrm>
            <a:custGeom>
              <a:avLst/>
              <a:gdLst/>
              <a:ahLst/>
              <a:rect l="l" t="t" r="r" b="b"/>
              <a:pathLst>
                <a:path w="24" h="32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4508640" y="4749840"/>
              <a:ext cx="37800" cy="50760"/>
            </a:xfrm>
            <a:custGeom>
              <a:avLst/>
              <a:gdLst/>
              <a:ahLst/>
              <a:rect l="l" t="t" r="r" b="b"/>
              <a:pathLst>
                <a:path w="24" h="32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4253040" y="4481640"/>
              <a:ext cx="50760" cy="52200"/>
            </a:xfrm>
            <a:custGeom>
              <a:avLst/>
              <a:gdLst/>
              <a:ahLst/>
              <a:rect l="l" t="t" r="r" b="b"/>
              <a:pathLst>
                <a:path w="32" h="33">
                  <a:moveTo>
                    <a:pt x="16" y="0"/>
                  </a:moveTo>
                  <a:lnTo>
                    <a:pt x="16" y="8"/>
                  </a:lnTo>
                  <a:lnTo>
                    <a:pt x="16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17"/>
                  </a:lnTo>
                  <a:lnTo>
                    <a:pt x="8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33"/>
                  </a:lnTo>
                  <a:lnTo>
                    <a:pt x="8" y="33"/>
                  </a:lnTo>
                  <a:lnTo>
                    <a:pt x="8" y="33"/>
                  </a:lnTo>
                  <a:lnTo>
                    <a:pt x="16" y="33"/>
                  </a:lnTo>
                  <a:lnTo>
                    <a:pt x="16" y="33"/>
                  </a:lnTo>
                  <a:lnTo>
                    <a:pt x="16" y="33"/>
                  </a:lnTo>
                  <a:lnTo>
                    <a:pt x="16" y="33"/>
                  </a:lnTo>
                  <a:lnTo>
                    <a:pt x="16" y="33"/>
                  </a:lnTo>
                  <a:lnTo>
                    <a:pt x="16" y="33"/>
                  </a:lnTo>
                  <a:lnTo>
                    <a:pt x="16" y="33"/>
                  </a:lnTo>
                  <a:lnTo>
                    <a:pt x="16" y="33"/>
                  </a:lnTo>
                  <a:lnTo>
                    <a:pt x="16" y="33"/>
                  </a:lnTo>
                  <a:lnTo>
                    <a:pt x="16" y="33"/>
                  </a:lnTo>
                  <a:lnTo>
                    <a:pt x="24" y="33"/>
                  </a:lnTo>
                  <a:lnTo>
                    <a:pt x="24" y="33"/>
                  </a:lnTo>
                  <a:lnTo>
                    <a:pt x="24" y="33"/>
                  </a:lnTo>
                  <a:lnTo>
                    <a:pt x="24" y="33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32" y="25"/>
                  </a:lnTo>
                  <a:lnTo>
                    <a:pt x="32" y="25"/>
                  </a:lnTo>
                  <a:lnTo>
                    <a:pt x="32" y="17"/>
                  </a:lnTo>
                  <a:lnTo>
                    <a:pt x="32" y="17"/>
                  </a:lnTo>
                  <a:lnTo>
                    <a:pt x="32" y="17"/>
                  </a:lnTo>
                  <a:lnTo>
                    <a:pt x="32" y="17"/>
                  </a:lnTo>
                  <a:lnTo>
                    <a:pt x="32" y="17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4240080" y="4468680"/>
              <a:ext cx="38160" cy="39960"/>
            </a:xfrm>
            <a:custGeom>
              <a:avLst/>
              <a:gdLst/>
              <a:ahLst/>
              <a:rect l="l" t="t" r="r" b="b"/>
              <a:pathLst>
                <a:path w="24" h="25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4214880" y="445608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4189320" y="4430880"/>
              <a:ext cx="38160" cy="50760"/>
            </a:xfrm>
            <a:custGeom>
              <a:avLst/>
              <a:gdLst/>
              <a:ahLst/>
              <a:rect l="l" t="t" r="r" b="b"/>
              <a:pathLst>
                <a:path w="24" h="32">
                  <a:moveTo>
                    <a:pt x="16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4164120" y="441792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6" y="0"/>
                  </a:move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4138560" y="4405320"/>
              <a:ext cx="50760" cy="3816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16" y="0"/>
                  </a:move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32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4125960" y="4379760"/>
              <a:ext cx="38160" cy="51120"/>
            </a:xfrm>
            <a:custGeom>
              <a:avLst/>
              <a:gdLst/>
              <a:ahLst/>
              <a:rect l="l" t="t" r="r" b="b"/>
              <a:pathLst>
                <a:path w="24" h="32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4086360" y="4367160"/>
              <a:ext cx="52200" cy="50760"/>
            </a:xfrm>
            <a:custGeom>
              <a:avLst/>
              <a:gdLst/>
              <a:ahLst/>
              <a:rect l="l" t="t" r="r" b="b"/>
              <a:pathLst>
                <a:path w="33" h="32">
                  <a:moveTo>
                    <a:pt x="17" y="0"/>
                  </a:move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32"/>
                  </a:lnTo>
                  <a:lnTo>
                    <a:pt x="17" y="32"/>
                  </a:lnTo>
                  <a:lnTo>
                    <a:pt x="17" y="32"/>
                  </a:lnTo>
                  <a:lnTo>
                    <a:pt x="17" y="32"/>
                  </a:lnTo>
                  <a:lnTo>
                    <a:pt x="17" y="32"/>
                  </a:lnTo>
                  <a:lnTo>
                    <a:pt x="17" y="32"/>
                  </a:lnTo>
                  <a:lnTo>
                    <a:pt x="17" y="32"/>
                  </a:lnTo>
                  <a:lnTo>
                    <a:pt x="17" y="32"/>
                  </a:lnTo>
                  <a:lnTo>
                    <a:pt x="25" y="32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33" y="24"/>
                  </a:lnTo>
                  <a:lnTo>
                    <a:pt x="33" y="24"/>
                  </a:lnTo>
                  <a:lnTo>
                    <a:pt x="33" y="16"/>
                  </a:lnTo>
                  <a:lnTo>
                    <a:pt x="33" y="16"/>
                  </a:lnTo>
                  <a:lnTo>
                    <a:pt x="33" y="16"/>
                  </a:lnTo>
                  <a:lnTo>
                    <a:pt x="33" y="16"/>
                  </a:lnTo>
                  <a:lnTo>
                    <a:pt x="33" y="16"/>
                  </a:lnTo>
                  <a:lnTo>
                    <a:pt x="33" y="8"/>
                  </a:lnTo>
                  <a:lnTo>
                    <a:pt x="33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4073400" y="4354560"/>
              <a:ext cx="39960" cy="3816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5" y="24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4048200" y="4341960"/>
              <a:ext cx="38160" cy="378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4022640" y="431640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6" y="0"/>
                  </a:move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3997440" y="4303800"/>
              <a:ext cx="50760" cy="3816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16" y="0"/>
                  </a:move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3984480" y="4278240"/>
              <a:ext cx="38160" cy="50760"/>
            </a:xfrm>
            <a:custGeom>
              <a:avLst/>
              <a:gdLst/>
              <a:ahLst/>
              <a:rect l="l" t="t" r="r" b="b"/>
              <a:pathLst>
                <a:path w="24" h="32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3959280" y="426564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3933720" y="4253040"/>
              <a:ext cx="38160" cy="378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6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3908520" y="422748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6" y="0"/>
                  </a:move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3882960" y="4214880"/>
              <a:ext cx="50760" cy="3816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16" y="0"/>
                  </a:move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32" y="16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3855960" y="4202280"/>
              <a:ext cx="52560" cy="37800"/>
            </a:xfrm>
            <a:custGeom>
              <a:avLst/>
              <a:gdLst/>
              <a:ahLst/>
              <a:rect l="l" t="t" r="r" b="b"/>
              <a:pathLst>
                <a:path w="33" h="24">
                  <a:moveTo>
                    <a:pt x="17" y="0"/>
                  </a:moveTo>
                  <a:lnTo>
                    <a:pt x="17" y="0"/>
                  </a:lnTo>
                  <a:lnTo>
                    <a:pt x="17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9" y="16"/>
                  </a:lnTo>
                  <a:lnTo>
                    <a:pt x="9" y="16"/>
                  </a:lnTo>
                  <a:lnTo>
                    <a:pt x="9" y="16"/>
                  </a:lnTo>
                  <a:lnTo>
                    <a:pt x="9" y="16"/>
                  </a:lnTo>
                  <a:lnTo>
                    <a:pt x="9" y="16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33" y="16"/>
                  </a:lnTo>
                  <a:lnTo>
                    <a:pt x="33" y="16"/>
                  </a:lnTo>
                  <a:lnTo>
                    <a:pt x="33" y="8"/>
                  </a:lnTo>
                  <a:lnTo>
                    <a:pt x="33" y="8"/>
                  </a:lnTo>
                  <a:lnTo>
                    <a:pt x="33" y="8"/>
                  </a:lnTo>
                  <a:lnTo>
                    <a:pt x="33" y="8"/>
                  </a:lnTo>
                  <a:lnTo>
                    <a:pt x="33" y="8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3843360" y="4176720"/>
              <a:ext cx="39600" cy="3816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25" y="24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3817800" y="416412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3792600" y="4138560"/>
              <a:ext cx="38160" cy="50760"/>
            </a:xfrm>
            <a:custGeom>
              <a:avLst/>
              <a:gdLst/>
              <a:ahLst/>
              <a:rect l="l" t="t" r="r" b="b"/>
              <a:pathLst>
                <a:path w="24" h="32">
                  <a:moveTo>
                    <a:pt x="16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3767040" y="412596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6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3741840" y="4111560"/>
              <a:ext cx="50760" cy="3960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16" y="0"/>
                  </a:move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8" y="17"/>
                  </a:lnTo>
                  <a:lnTo>
                    <a:pt x="8" y="17"/>
                  </a:lnTo>
                  <a:lnTo>
                    <a:pt x="8" y="17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32" y="17"/>
                  </a:lnTo>
                  <a:lnTo>
                    <a:pt x="32" y="17"/>
                  </a:lnTo>
                  <a:lnTo>
                    <a:pt x="32" y="9"/>
                  </a:lnTo>
                  <a:lnTo>
                    <a:pt x="32" y="9"/>
                  </a:lnTo>
                  <a:lnTo>
                    <a:pt x="32" y="9"/>
                  </a:lnTo>
                  <a:lnTo>
                    <a:pt x="24" y="9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3716280" y="4086360"/>
              <a:ext cx="50760" cy="52200"/>
            </a:xfrm>
            <a:custGeom>
              <a:avLst/>
              <a:gdLst/>
              <a:ahLst/>
              <a:rect l="l" t="t" r="r" b="b"/>
              <a:pathLst>
                <a:path w="32" h="33">
                  <a:moveTo>
                    <a:pt x="16" y="0"/>
                  </a:move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33"/>
                  </a:lnTo>
                  <a:lnTo>
                    <a:pt x="16" y="33"/>
                  </a:lnTo>
                  <a:lnTo>
                    <a:pt x="16" y="33"/>
                  </a:lnTo>
                  <a:lnTo>
                    <a:pt x="16" y="33"/>
                  </a:lnTo>
                  <a:lnTo>
                    <a:pt x="16" y="33"/>
                  </a:lnTo>
                  <a:lnTo>
                    <a:pt x="16" y="33"/>
                  </a:lnTo>
                  <a:lnTo>
                    <a:pt x="16" y="33"/>
                  </a:lnTo>
                  <a:lnTo>
                    <a:pt x="16" y="33"/>
                  </a:lnTo>
                  <a:lnTo>
                    <a:pt x="16" y="33"/>
                  </a:lnTo>
                  <a:lnTo>
                    <a:pt x="16" y="33"/>
                  </a:lnTo>
                  <a:lnTo>
                    <a:pt x="24" y="33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32" y="25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2616120" y="3346560"/>
              <a:ext cx="39600" cy="3960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25" y="25"/>
                  </a:lnTo>
                  <a:lnTo>
                    <a:pt x="25" y="17"/>
                  </a:lnTo>
                  <a:lnTo>
                    <a:pt x="25" y="17"/>
                  </a:lnTo>
                  <a:lnTo>
                    <a:pt x="25" y="17"/>
                  </a:lnTo>
                  <a:lnTo>
                    <a:pt x="25" y="17"/>
                  </a:lnTo>
                  <a:lnTo>
                    <a:pt x="25" y="17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2590920" y="3373560"/>
              <a:ext cx="38160" cy="378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6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2565360" y="3386160"/>
              <a:ext cx="50760" cy="50760"/>
            </a:xfrm>
            <a:custGeom>
              <a:avLst/>
              <a:gdLst/>
              <a:ahLst/>
              <a:rect l="l" t="t" r="r" b="b"/>
              <a:pathLst>
                <a:path w="32" h="32">
                  <a:moveTo>
                    <a:pt x="16" y="0"/>
                  </a:moveTo>
                  <a:lnTo>
                    <a:pt x="16" y="0"/>
                  </a:lnTo>
                  <a:lnTo>
                    <a:pt x="16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24" y="32"/>
                  </a:lnTo>
                  <a:lnTo>
                    <a:pt x="24" y="32"/>
                  </a:lnTo>
                  <a:lnTo>
                    <a:pt x="24" y="32"/>
                  </a:lnTo>
                  <a:lnTo>
                    <a:pt x="24" y="32"/>
                  </a:lnTo>
                  <a:lnTo>
                    <a:pt x="24" y="32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32" y="24"/>
                  </a:lnTo>
                  <a:lnTo>
                    <a:pt x="32" y="24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2552760" y="341136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6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2540160" y="3436920"/>
              <a:ext cx="37800" cy="50760"/>
            </a:xfrm>
            <a:custGeom>
              <a:avLst/>
              <a:gdLst/>
              <a:ahLst/>
              <a:rect l="l" t="t" r="r" b="b"/>
              <a:pathLst>
                <a:path w="24" h="32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32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2527200" y="3462480"/>
              <a:ext cx="38160" cy="50760"/>
            </a:xfrm>
            <a:custGeom>
              <a:avLst/>
              <a:gdLst/>
              <a:ahLst/>
              <a:rect l="l" t="t" r="r" b="b"/>
              <a:pathLst>
                <a:path w="24" h="32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16" y="32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2514600" y="3487680"/>
              <a:ext cx="38160" cy="50760"/>
            </a:xfrm>
            <a:custGeom>
              <a:avLst/>
              <a:gdLst/>
              <a:ahLst/>
              <a:rect l="l" t="t" r="r" b="b"/>
              <a:pathLst>
                <a:path w="24" h="32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2502000" y="3513240"/>
              <a:ext cx="38160" cy="50760"/>
            </a:xfrm>
            <a:custGeom>
              <a:avLst/>
              <a:gdLst/>
              <a:ahLst/>
              <a:rect l="l" t="t" r="r" b="b"/>
              <a:pathLst>
                <a:path w="24" h="32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2489040" y="3538440"/>
              <a:ext cx="51120" cy="50760"/>
            </a:xfrm>
            <a:custGeom>
              <a:avLst/>
              <a:gdLst/>
              <a:ahLst/>
              <a:rect l="l" t="t" r="r" b="b"/>
              <a:pathLst>
                <a:path w="32" h="32">
                  <a:moveTo>
                    <a:pt x="16" y="0"/>
                  </a:moveTo>
                  <a:lnTo>
                    <a:pt x="16" y="0"/>
                  </a:lnTo>
                  <a:lnTo>
                    <a:pt x="16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24" y="32"/>
                  </a:lnTo>
                  <a:lnTo>
                    <a:pt x="24" y="32"/>
                  </a:lnTo>
                  <a:lnTo>
                    <a:pt x="24" y="32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2489040" y="357660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6" y="0"/>
                  </a:move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2489040" y="3602160"/>
              <a:ext cx="38160" cy="378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6" y="0"/>
                  </a:move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2489040" y="3627360"/>
              <a:ext cx="38160" cy="50760"/>
            </a:xfrm>
            <a:custGeom>
              <a:avLst/>
              <a:gdLst/>
              <a:ahLst/>
              <a:rect l="l" t="t" r="r" b="b"/>
              <a:pathLst>
                <a:path w="24" h="32">
                  <a:moveTo>
                    <a:pt x="16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2489040" y="366552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2489040" y="3691080"/>
              <a:ext cx="38160" cy="378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2489040" y="3716280"/>
              <a:ext cx="38160" cy="52560"/>
            </a:xfrm>
            <a:custGeom>
              <a:avLst/>
              <a:gdLst/>
              <a:ahLst/>
              <a:rect l="l" t="t" r="r" b="b"/>
              <a:pathLst>
                <a:path w="24" h="33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33"/>
                  </a:lnTo>
                  <a:lnTo>
                    <a:pt x="8" y="33"/>
                  </a:lnTo>
                  <a:lnTo>
                    <a:pt x="8" y="33"/>
                  </a:lnTo>
                  <a:lnTo>
                    <a:pt x="8" y="33"/>
                  </a:lnTo>
                  <a:lnTo>
                    <a:pt x="8" y="33"/>
                  </a:lnTo>
                  <a:lnTo>
                    <a:pt x="16" y="33"/>
                  </a:lnTo>
                  <a:lnTo>
                    <a:pt x="16" y="33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2489040" y="3741840"/>
              <a:ext cx="38160" cy="52200"/>
            </a:xfrm>
            <a:custGeom>
              <a:avLst/>
              <a:gdLst/>
              <a:ahLst/>
              <a:rect l="l" t="t" r="r" b="b"/>
              <a:pathLst>
                <a:path w="24" h="33">
                  <a:moveTo>
                    <a:pt x="8" y="0"/>
                  </a:moveTo>
                  <a:lnTo>
                    <a:pt x="8" y="0"/>
                  </a:lnTo>
                  <a:lnTo>
                    <a:pt x="8" y="9"/>
                  </a:lnTo>
                  <a:lnTo>
                    <a:pt x="8" y="9"/>
                  </a:lnTo>
                  <a:lnTo>
                    <a:pt x="8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8" y="25"/>
                  </a:lnTo>
                  <a:lnTo>
                    <a:pt x="8" y="33"/>
                  </a:lnTo>
                  <a:lnTo>
                    <a:pt x="8" y="33"/>
                  </a:lnTo>
                  <a:lnTo>
                    <a:pt x="8" y="33"/>
                  </a:lnTo>
                  <a:lnTo>
                    <a:pt x="8" y="33"/>
                  </a:lnTo>
                  <a:lnTo>
                    <a:pt x="8" y="33"/>
                  </a:lnTo>
                  <a:lnTo>
                    <a:pt x="8" y="33"/>
                  </a:lnTo>
                  <a:lnTo>
                    <a:pt x="8" y="33"/>
                  </a:lnTo>
                  <a:lnTo>
                    <a:pt x="8" y="33"/>
                  </a:lnTo>
                  <a:lnTo>
                    <a:pt x="8" y="33"/>
                  </a:lnTo>
                  <a:lnTo>
                    <a:pt x="16" y="33"/>
                  </a:lnTo>
                  <a:lnTo>
                    <a:pt x="16" y="33"/>
                  </a:lnTo>
                  <a:lnTo>
                    <a:pt x="16" y="33"/>
                  </a:lnTo>
                  <a:lnTo>
                    <a:pt x="16" y="33"/>
                  </a:lnTo>
                  <a:lnTo>
                    <a:pt x="16" y="33"/>
                  </a:lnTo>
                  <a:lnTo>
                    <a:pt x="16" y="33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9"/>
                  </a:lnTo>
                  <a:lnTo>
                    <a:pt x="24" y="9"/>
                  </a:lnTo>
                  <a:lnTo>
                    <a:pt x="24" y="9"/>
                  </a:lnTo>
                  <a:lnTo>
                    <a:pt x="24" y="9"/>
                  </a:lnTo>
                  <a:lnTo>
                    <a:pt x="24" y="9"/>
                  </a:lnTo>
                  <a:lnTo>
                    <a:pt x="24" y="9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16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2476440" y="3781440"/>
              <a:ext cx="50760" cy="3816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16" y="0"/>
                  </a:move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2489040" y="3807000"/>
              <a:ext cx="38160" cy="378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2476440" y="383220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2463840" y="3857760"/>
              <a:ext cx="50760" cy="50760"/>
            </a:xfrm>
            <a:custGeom>
              <a:avLst/>
              <a:gdLst/>
              <a:ahLst/>
              <a:rect l="l" t="t" r="r" b="b"/>
              <a:pathLst>
                <a:path w="32" h="32">
                  <a:moveTo>
                    <a:pt x="16" y="0"/>
                  </a:move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32" y="24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2476440" y="3882960"/>
              <a:ext cx="50760" cy="50760"/>
            </a:xfrm>
            <a:custGeom>
              <a:avLst/>
              <a:gdLst/>
              <a:ahLst/>
              <a:rect l="l" t="t" r="r" b="b"/>
              <a:pathLst>
                <a:path w="32" h="32">
                  <a:moveTo>
                    <a:pt x="16" y="0"/>
                  </a:move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2489040" y="392112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2489040" y="3946680"/>
              <a:ext cx="38160" cy="378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6" y="0"/>
                  </a:move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2502000" y="397188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6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2514600" y="399744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2527200" y="402264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2527200" y="4048200"/>
              <a:ext cx="50760" cy="50760"/>
            </a:xfrm>
            <a:custGeom>
              <a:avLst/>
              <a:gdLst/>
              <a:ahLst/>
              <a:rect l="l" t="t" r="r" b="b"/>
              <a:pathLst>
                <a:path w="32" h="32">
                  <a:moveTo>
                    <a:pt x="16" y="0"/>
                  </a:move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2540160" y="4073400"/>
              <a:ext cx="37800" cy="52560"/>
            </a:xfrm>
            <a:custGeom>
              <a:avLst/>
              <a:gdLst/>
              <a:ahLst/>
              <a:rect l="l" t="t" r="r" b="b"/>
              <a:pathLst>
                <a:path w="24" h="33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33"/>
                  </a:lnTo>
                  <a:lnTo>
                    <a:pt x="8" y="33"/>
                  </a:lnTo>
                  <a:lnTo>
                    <a:pt x="8" y="33"/>
                  </a:lnTo>
                  <a:lnTo>
                    <a:pt x="8" y="33"/>
                  </a:lnTo>
                  <a:lnTo>
                    <a:pt x="8" y="33"/>
                  </a:lnTo>
                  <a:lnTo>
                    <a:pt x="8" y="33"/>
                  </a:lnTo>
                  <a:lnTo>
                    <a:pt x="8" y="33"/>
                  </a:lnTo>
                  <a:lnTo>
                    <a:pt x="8" y="33"/>
                  </a:lnTo>
                  <a:lnTo>
                    <a:pt x="8" y="33"/>
                  </a:lnTo>
                  <a:lnTo>
                    <a:pt x="8" y="33"/>
                  </a:lnTo>
                  <a:lnTo>
                    <a:pt x="16" y="33"/>
                  </a:lnTo>
                  <a:lnTo>
                    <a:pt x="16" y="33"/>
                  </a:lnTo>
                  <a:lnTo>
                    <a:pt x="16" y="33"/>
                  </a:lnTo>
                  <a:lnTo>
                    <a:pt x="16" y="33"/>
                  </a:lnTo>
                  <a:lnTo>
                    <a:pt x="16" y="33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2540160" y="4111560"/>
              <a:ext cx="37800" cy="39600"/>
            </a:xfrm>
            <a:custGeom>
              <a:avLst/>
              <a:gdLst/>
              <a:ahLst/>
              <a:rect l="l" t="t" r="r" b="b"/>
              <a:pathLst>
                <a:path w="24" h="25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24" y="25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9"/>
                  </a:lnTo>
                  <a:lnTo>
                    <a:pt x="24" y="9"/>
                  </a:lnTo>
                  <a:lnTo>
                    <a:pt x="24" y="9"/>
                  </a:lnTo>
                  <a:lnTo>
                    <a:pt x="24" y="9"/>
                  </a:lnTo>
                  <a:lnTo>
                    <a:pt x="24" y="9"/>
                  </a:lnTo>
                  <a:lnTo>
                    <a:pt x="24" y="9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2552760" y="413856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6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2565360" y="4151160"/>
              <a:ext cx="50760" cy="51120"/>
            </a:xfrm>
            <a:custGeom>
              <a:avLst/>
              <a:gdLst/>
              <a:ahLst/>
              <a:rect l="l" t="t" r="r" b="b"/>
              <a:pathLst>
                <a:path w="32" h="32">
                  <a:moveTo>
                    <a:pt x="16" y="0"/>
                  </a:moveTo>
                  <a:lnTo>
                    <a:pt x="16" y="0"/>
                  </a:lnTo>
                  <a:lnTo>
                    <a:pt x="16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24" y="32"/>
                  </a:lnTo>
                  <a:lnTo>
                    <a:pt x="24" y="32"/>
                  </a:lnTo>
                  <a:lnTo>
                    <a:pt x="24" y="32"/>
                  </a:lnTo>
                  <a:lnTo>
                    <a:pt x="24" y="32"/>
                  </a:lnTo>
                  <a:lnTo>
                    <a:pt x="24" y="32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32" y="24"/>
                  </a:lnTo>
                  <a:lnTo>
                    <a:pt x="32" y="24"/>
                  </a:lnTo>
                  <a:lnTo>
                    <a:pt x="32" y="24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2565360" y="4189320"/>
              <a:ext cx="50760" cy="3816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16" y="0"/>
                  </a:move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2565360" y="4214880"/>
              <a:ext cx="50760" cy="3816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16" y="0"/>
                  </a:move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2565360" y="4240080"/>
              <a:ext cx="50760" cy="50760"/>
            </a:xfrm>
            <a:custGeom>
              <a:avLst/>
              <a:gdLst/>
              <a:ahLst/>
              <a:rect l="l" t="t" r="r" b="b"/>
              <a:pathLst>
                <a:path w="32" h="32">
                  <a:moveTo>
                    <a:pt x="16" y="0"/>
                  </a:move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24" y="32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32" y="24"/>
                  </a:lnTo>
                  <a:lnTo>
                    <a:pt x="32" y="24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2577960" y="427824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2577960" y="430380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2565360" y="4329000"/>
              <a:ext cx="50760" cy="3816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16" y="0"/>
                  </a:move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32" y="24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2502000" y="397188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6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2577960" y="439272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2577960" y="441792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2577960" y="4443480"/>
              <a:ext cx="38160" cy="50760"/>
            </a:xfrm>
            <a:custGeom>
              <a:avLst/>
              <a:gdLst/>
              <a:ahLst/>
              <a:rect l="l" t="t" r="r" b="b"/>
              <a:pathLst>
                <a:path w="24" h="32">
                  <a:moveTo>
                    <a:pt x="16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2577960" y="4481640"/>
              <a:ext cx="38160" cy="39600"/>
            </a:xfrm>
            <a:custGeom>
              <a:avLst/>
              <a:gdLst/>
              <a:ahLst/>
              <a:rect l="l" t="t" r="r" b="b"/>
              <a:pathLst>
                <a:path w="24" h="25">
                  <a:moveTo>
                    <a:pt x="16" y="0"/>
                  </a:move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8" y="17"/>
                  </a:lnTo>
                  <a:lnTo>
                    <a:pt x="8" y="17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24" y="25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2577960" y="4508640"/>
              <a:ext cx="38160" cy="378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6" y="0"/>
                  </a:move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2577960" y="4533840"/>
              <a:ext cx="51120" cy="3816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16" y="0"/>
                  </a:move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637160" y="4086360"/>
              <a:ext cx="38160" cy="52200"/>
            </a:xfrm>
            <a:custGeom>
              <a:avLst/>
              <a:gdLst/>
              <a:ahLst/>
              <a:rect l="l" t="t" r="r" b="b"/>
              <a:pathLst>
                <a:path w="24" h="33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33"/>
                  </a:lnTo>
                  <a:lnTo>
                    <a:pt x="8" y="33"/>
                  </a:lnTo>
                  <a:lnTo>
                    <a:pt x="8" y="33"/>
                  </a:lnTo>
                  <a:lnTo>
                    <a:pt x="8" y="33"/>
                  </a:lnTo>
                  <a:lnTo>
                    <a:pt x="8" y="33"/>
                  </a:lnTo>
                  <a:lnTo>
                    <a:pt x="8" y="33"/>
                  </a:lnTo>
                  <a:lnTo>
                    <a:pt x="8" y="33"/>
                  </a:lnTo>
                  <a:lnTo>
                    <a:pt x="8" y="33"/>
                  </a:lnTo>
                  <a:lnTo>
                    <a:pt x="16" y="33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4611600" y="4111560"/>
              <a:ext cx="38160" cy="39600"/>
            </a:xfrm>
            <a:custGeom>
              <a:avLst/>
              <a:gdLst/>
              <a:ahLst/>
              <a:rect l="l" t="t" r="r" b="b"/>
              <a:pathLst>
                <a:path w="24" h="25">
                  <a:moveTo>
                    <a:pt x="16" y="0"/>
                  </a:move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9"/>
                  </a:lnTo>
                  <a:lnTo>
                    <a:pt x="24" y="9"/>
                  </a:lnTo>
                  <a:lnTo>
                    <a:pt x="24" y="9"/>
                  </a:lnTo>
                  <a:lnTo>
                    <a:pt x="24" y="9"/>
                  </a:lnTo>
                  <a:lnTo>
                    <a:pt x="24" y="9"/>
                  </a:lnTo>
                  <a:lnTo>
                    <a:pt x="24" y="9"/>
                  </a:lnTo>
                  <a:lnTo>
                    <a:pt x="24" y="9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4597560" y="4138560"/>
              <a:ext cx="39600" cy="3816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9" y="0"/>
                  </a:move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16"/>
                  </a:lnTo>
                  <a:lnTo>
                    <a:pt x="17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4572000" y="4151160"/>
              <a:ext cx="39600" cy="51120"/>
            </a:xfrm>
            <a:custGeom>
              <a:avLst/>
              <a:gdLst/>
              <a:ahLst/>
              <a:rect l="l" t="t" r="r" b="b"/>
              <a:pathLst>
                <a:path w="25" h="32">
                  <a:moveTo>
                    <a:pt x="16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4546440" y="4176720"/>
              <a:ext cx="51120" cy="3816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16" y="0"/>
                  </a:move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32" y="24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4533840" y="4202280"/>
              <a:ext cx="38160" cy="378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6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4521240" y="422748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4495680" y="4240080"/>
              <a:ext cx="38160" cy="50760"/>
            </a:xfrm>
            <a:custGeom>
              <a:avLst/>
              <a:gdLst/>
              <a:ahLst/>
              <a:rect l="l" t="t" r="r" b="b"/>
              <a:pathLst>
                <a:path w="24" h="32">
                  <a:moveTo>
                    <a:pt x="16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4483080" y="426564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4457880" y="4290840"/>
              <a:ext cx="3780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6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4444920" y="4303800"/>
              <a:ext cx="38160" cy="50760"/>
            </a:xfrm>
            <a:custGeom>
              <a:avLst/>
              <a:gdLst/>
              <a:ahLst/>
              <a:rect l="l" t="t" r="r" b="b"/>
              <a:pathLst>
                <a:path w="24" h="32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4419720" y="4329000"/>
              <a:ext cx="38160" cy="50760"/>
            </a:xfrm>
            <a:custGeom>
              <a:avLst/>
              <a:gdLst/>
              <a:ahLst/>
              <a:rect l="l" t="t" r="r" b="b"/>
              <a:pathLst>
                <a:path w="24" h="32">
                  <a:moveTo>
                    <a:pt x="16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4394160" y="4354560"/>
              <a:ext cx="50760" cy="3816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16" y="0"/>
                  </a:move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4381560" y="437976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6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4356000" y="4392720"/>
              <a:ext cx="50760" cy="3816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16" y="0"/>
                  </a:move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4341960" y="4417920"/>
              <a:ext cx="39600" cy="3816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9" y="0"/>
                  </a:move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25" y="24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4316400" y="4443480"/>
              <a:ext cx="52560" cy="38160"/>
            </a:xfrm>
            <a:custGeom>
              <a:avLst/>
              <a:gdLst/>
              <a:ahLst/>
              <a:rect l="l" t="t" r="r" b="b"/>
              <a:pathLst>
                <a:path w="33" h="24">
                  <a:moveTo>
                    <a:pt x="16" y="0"/>
                  </a:move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33" y="16"/>
                  </a:lnTo>
                  <a:lnTo>
                    <a:pt x="33" y="16"/>
                  </a:lnTo>
                  <a:lnTo>
                    <a:pt x="33" y="16"/>
                  </a:lnTo>
                  <a:lnTo>
                    <a:pt x="33" y="8"/>
                  </a:lnTo>
                  <a:lnTo>
                    <a:pt x="33" y="8"/>
                  </a:lnTo>
                  <a:lnTo>
                    <a:pt x="33" y="8"/>
                  </a:lnTo>
                  <a:lnTo>
                    <a:pt x="33" y="8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4303800" y="4456080"/>
              <a:ext cx="38160" cy="52560"/>
            </a:xfrm>
            <a:custGeom>
              <a:avLst/>
              <a:gdLst/>
              <a:ahLst/>
              <a:rect l="l" t="t" r="r" b="b"/>
              <a:pathLst>
                <a:path w="24" h="33">
                  <a:moveTo>
                    <a:pt x="16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33"/>
                  </a:lnTo>
                  <a:lnTo>
                    <a:pt x="8" y="33"/>
                  </a:lnTo>
                  <a:lnTo>
                    <a:pt x="8" y="33"/>
                  </a:lnTo>
                  <a:lnTo>
                    <a:pt x="8" y="33"/>
                  </a:lnTo>
                  <a:lnTo>
                    <a:pt x="8" y="33"/>
                  </a:lnTo>
                  <a:lnTo>
                    <a:pt x="8" y="33"/>
                  </a:lnTo>
                  <a:lnTo>
                    <a:pt x="8" y="33"/>
                  </a:lnTo>
                  <a:lnTo>
                    <a:pt x="16" y="33"/>
                  </a:lnTo>
                  <a:lnTo>
                    <a:pt x="16" y="33"/>
                  </a:lnTo>
                  <a:lnTo>
                    <a:pt x="16" y="33"/>
                  </a:lnTo>
                  <a:lnTo>
                    <a:pt x="16" y="33"/>
                  </a:lnTo>
                  <a:lnTo>
                    <a:pt x="16" y="33"/>
                  </a:lnTo>
                  <a:lnTo>
                    <a:pt x="16" y="33"/>
                  </a:lnTo>
                  <a:lnTo>
                    <a:pt x="16" y="33"/>
                  </a:lnTo>
                  <a:lnTo>
                    <a:pt x="16" y="33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4278240" y="4481640"/>
              <a:ext cx="50760" cy="3960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16" y="0"/>
                  </a:move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8" y="17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32" y="17"/>
                  </a:lnTo>
                  <a:lnTo>
                    <a:pt x="32" y="17"/>
                  </a:lnTo>
                  <a:lnTo>
                    <a:pt x="32" y="17"/>
                  </a:lnTo>
                  <a:lnTo>
                    <a:pt x="32" y="17"/>
                  </a:lnTo>
                  <a:lnTo>
                    <a:pt x="32" y="17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4265640" y="4508640"/>
              <a:ext cx="38160" cy="378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6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4240080" y="4521240"/>
              <a:ext cx="50760" cy="50760"/>
            </a:xfrm>
            <a:custGeom>
              <a:avLst/>
              <a:gdLst/>
              <a:ahLst/>
              <a:rect l="l" t="t" r="r" b="b"/>
              <a:pathLst>
                <a:path w="32" h="32">
                  <a:moveTo>
                    <a:pt x="16" y="0"/>
                  </a:moveTo>
                  <a:lnTo>
                    <a:pt x="16" y="0"/>
                  </a:lnTo>
                  <a:lnTo>
                    <a:pt x="16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24" y="32"/>
                  </a:lnTo>
                  <a:lnTo>
                    <a:pt x="24" y="32"/>
                  </a:lnTo>
                  <a:lnTo>
                    <a:pt x="24" y="32"/>
                  </a:lnTo>
                  <a:lnTo>
                    <a:pt x="24" y="32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32" y="24"/>
                  </a:lnTo>
                  <a:lnTo>
                    <a:pt x="32" y="24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4227480" y="454644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6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4202280" y="4572000"/>
              <a:ext cx="50760" cy="3816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16" y="0"/>
                  </a:move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4189320" y="4597560"/>
              <a:ext cx="38160" cy="378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6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4164120" y="4610160"/>
              <a:ext cx="50760" cy="50760"/>
            </a:xfrm>
            <a:custGeom>
              <a:avLst/>
              <a:gdLst/>
              <a:ahLst/>
              <a:rect l="l" t="t" r="r" b="b"/>
              <a:pathLst>
                <a:path w="32" h="32">
                  <a:moveTo>
                    <a:pt x="16" y="0"/>
                  </a:move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24" y="32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32" y="24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4151160" y="463536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4125960" y="4660920"/>
              <a:ext cx="50760" cy="3816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16" y="0"/>
                  </a:move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4113360" y="4686480"/>
              <a:ext cx="37800" cy="378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6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4086360" y="4699080"/>
              <a:ext cx="52200" cy="50760"/>
            </a:xfrm>
            <a:custGeom>
              <a:avLst/>
              <a:gdLst/>
              <a:ahLst/>
              <a:rect l="l" t="t" r="r" b="b"/>
              <a:pathLst>
                <a:path w="33" h="32">
                  <a:moveTo>
                    <a:pt x="17" y="0"/>
                  </a:moveTo>
                  <a:lnTo>
                    <a:pt x="17" y="0"/>
                  </a:lnTo>
                  <a:lnTo>
                    <a:pt x="17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7" y="24"/>
                  </a:lnTo>
                  <a:lnTo>
                    <a:pt x="17" y="32"/>
                  </a:lnTo>
                  <a:lnTo>
                    <a:pt x="17" y="32"/>
                  </a:lnTo>
                  <a:lnTo>
                    <a:pt x="17" y="32"/>
                  </a:lnTo>
                  <a:lnTo>
                    <a:pt x="17" y="32"/>
                  </a:lnTo>
                  <a:lnTo>
                    <a:pt x="17" y="32"/>
                  </a:lnTo>
                  <a:lnTo>
                    <a:pt x="17" y="32"/>
                  </a:lnTo>
                  <a:lnTo>
                    <a:pt x="17" y="32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33" y="16"/>
                  </a:lnTo>
                  <a:lnTo>
                    <a:pt x="33" y="16"/>
                  </a:lnTo>
                  <a:lnTo>
                    <a:pt x="33" y="16"/>
                  </a:lnTo>
                  <a:lnTo>
                    <a:pt x="33" y="16"/>
                  </a:lnTo>
                  <a:lnTo>
                    <a:pt x="33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4073400" y="4724280"/>
              <a:ext cx="39960" cy="3816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4048200" y="4749840"/>
              <a:ext cx="50760" cy="3816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16" y="0"/>
                  </a:move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4035600" y="4762440"/>
              <a:ext cx="37800" cy="50760"/>
            </a:xfrm>
            <a:custGeom>
              <a:avLst/>
              <a:gdLst/>
              <a:ahLst/>
              <a:rect l="l" t="t" r="r" b="b"/>
              <a:pathLst>
                <a:path w="24" h="32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4010040" y="4788000"/>
              <a:ext cx="50760" cy="3816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16" y="0"/>
                  </a:move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4010040" y="4813200"/>
              <a:ext cx="38160" cy="50760"/>
            </a:xfrm>
            <a:custGeom>
              <a:avLst/>
              <a:gdLst/>
              <a:ahLst/>
              <a:rect l="l" t="t" r="r" b="b"/>
              <a:pathLst>
                <a:path w="24" h="32">
                  <a:moveTo>
                    <a:pt x="16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4010040" y="4851360"/>
              <a:ext cx="38160" cy="39600"/>
            </a:xfrm>
            <a:custGeom>
              <a:avLst/>
              <a:gdLst/>
              <a:ahLst/>
              <a:rect l="l" t="t" r="r" b="b"/>
              <a:pathLst>
                <a:path w="24" h="25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3997440" y="4876920"/>
              <a:ext cx="50760" cy="3960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16" y="0"/>
                  </a:move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9"/>
                  </a:lnTo>
                  <a:lnTo>
                    <a:pt x="8" y="9"/>
                  </a:lnTo>
                  <a:lnTo>
                    <a:pt x="8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8" y="17"/>
                  </a:lnTo>
                  <a:lnTo>
                    <a:pt x="8" y="17"/>
                  </a:lnTo>
                  <a:lnTo>
                    <a:pt x="8" y="17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32" y="17"/>
                  </a:lnTo>
                  <a:lnTo>
                    <a:pt x="32" y="17"/>
                  </a:lnTo>
                  <a:lnTo>
                    <a:pt x="32" y="17"/>
                  </a:lnTo>
                  <a:lnTo>
                    <a:pt x="32" y="17"/>
                  </a:lnTo>
                  <a:lnTo>
                    <a:pt x="32" y="9"/>
                  </a:lnTo>
                  <a:lnTo>
                    <a:pt x="32" y="9"/>
                  </a:lnTo>
                  <a:lnTo>
                    <a:pt x="32" y="9"/>
                  </a:lnTo>
                  <a:lnTo>
                    <a:pt x="24" y="9"/>
                  </a:lnTo>
                  <a:lnTo>
                    <a:pt x="24" y="9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7129440" y="2289240"/>
              <a:ext cx="50760" cy="3816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16" y="0"/>
                  </a:move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7116840" y="231444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6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7104240" y="2340000"/>
              <a:ext cx="3780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6" y="0"/>
                  </a:move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7104240" y="2365200"/>
              <a:ext cx="3780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7091280" y="2390760"/>
              <a:ext cx="38160" cy="50760"/>
            </a:xfrm>
            <a:custGeom>
              <a:avLst/>
              <a:gdLst/>
              <a:ahLst/>
              <a:rect l="l" t="t" r="r" b="b"/>
              <a:pathLst>
                <a:path w="24" h="32">
                  <a:moveTo>
                    <a:pt x="16" y="0"/>
                  </a:moveTo>
                  <a:lnTo>
                    <a:pt x="16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7078680" y="2428920"/>
              <a:ext cx="50760" cy="3816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16" y="0"/>
                  </a:move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7078680" y="245412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6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7066080" y="2479680"/>
              <a:ext cx="50760" cy="3816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16" y="0"/>
                  </a:move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7066080" y="2505240"/>
              <a:ext cx="38160" cy="378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7053120" y="2530440"/>
              <a:ext cx="38160" cy="50760"/>
            </a:xfrm>
            <a:custGeom>
              <a:avLst/>
              <a:gdLst/>
              <a:ahLst/>
              <a:rect l="l" t="t" r="r" b="b"/>
              <a:pathLst>
                <a:path w="24" h="32">
                  <a:moveTo>
                    <a:pt x="16" y="0"/>
                  </a:move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7053120" y="2568600"/>
              <a:ext cx="38160" cy="39600"/>
            </a:xfrm>
            <a:custGeom>
              <a:avLst/>
              <a:gdLst/>
              <a:ahLst/>
              <a:rect l="l" t="t" r="r" b="b"/>
              <a:pathLst>
                <a:path w="24" h="25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7040520" y="2593800"/>
              <a:ext cx="38160" cy="39960"/>
            </a:xfrm>
            <a:custGeom>
              <a:avLst/>
              <a:gdLst/>
              <a:ahLst/>
              <a:rect l="l" t="t" r="r" b="b"/>
              <a:pathLst>
                <a:path w="24" h="25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17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9"/>
                  </a:lnTo>
                  <a:lnTo>
                    <a:pt x="24" y="9"/>
                  </a:lnTo>
                  <a:lnTo>
                    <a:pt x="24" y="9"/>
                  </a:lnTo>
                  <a:lnTo>
                    <a:pt x="24" y="9"/>
                  </a:lnTo>
                  <a:lnTo>
                    <a:pt x="24" y="9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7013520" y="2608200"/>
              <a:ext cx="39600" cy="3816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16"/>
                  </a:lnTo>
                  <a:lnTo>
                    <a:pt x="17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6988320" y="2620800"/>
              <a:ext cx="3780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6962760" y="263376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6937200" y="264636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6924600" y="2671920"/>
              <a:ext cx="38160" cy="378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6899400" y="2697120"/>
              <a:ext cx="50760" cy="3816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16" y="0"/>
                  </a:move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6886440" y="272268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6" y="0"/>
                  </a:move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6873840" y="274788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6848640" y="2773440"/>
              <a:ext cx="50760" cy="3816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16" y="0"/>
                  </a:move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6835680" y="279864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6" y="0"/>
                  </a:move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6823080" y="2811600"/>
              <a:ext cx="38160" cy="50760"/>
            </a:xfrm>
            <a:custGeom>
              <a:avLst/>
              <a:gdLst/>
              <a:ahLst/>
              <a:rect l="l" t="t" r="r" b="b"/>
              <a:pathLst>
                <a:path w="24" h="32">
                  <a:moveTo>
                    <a:pt x="16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6810480" y="2836800"/>
              <a:ext cx="38160" cy="50760"/>
            </a:xfrm>
            <a:custGeom>
              <a:avLst/>
              <a:gdLst/>
              <a:ahLst/>
              <a:rect l="l" t="t" r="r" b="b"/>
              <a:pathLst>
                <a:path w="24" h="32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6783480" y="2862360"/>
              <a:ext cx="52200" cy="38160"/>
            </a:xfrm>
            <a:custGeom>
              <a:avLst/>
              <a:gdLst/>
              <a:ahLst/>
              <a:rect l="l" t="t" r="r" b="b"/>
              <a:pathLst>
                <a:path w="33" h="24">
                  <a:moveTo>
                    <a:pt x="17" y="0"/>
                  </a:moveTo>
                  <a:lnTo>
                    <a:pt x="17" y="0"/>
                  </a:lnTo>
                  <a:lnTo>
                    <a:pt x="17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16"/>
                  </a:lnTo>
                  <a:lnTo>
                    <a:pt x="33" y="16"/>
                  </a:lnTo>
                  <a:lnTo>
                    <a:pt x="33" y="16"/>
                  </a:lnTo>
                  <a:lnTo>
                    <a:pt x="33" y="16"/>
                  </a:lnTo>
                  <a:lnTo>
                    <a:pt x="33" y="16"/>
                  </a:lnTo>
                  <a:lnTo>
                    <a:pt x="33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6770520" y="2887560"/>
              <a:ext cx="52560" cy="38160"/>
            </a:xfrm>
            <a:custGeom>
              <a:avLst/>
              <a:gdLst/>
              <a:ahLst/>
              <a:rect l="l" t="t" r="r" b="b"/>
              <a:pathLst>
                <a:path w="33" h="24">
                  <a:moveTo>
                    <a:pt x="17" y="0"/>
                  </a:moveTo>
                  <a:lnTo>
                    <a:pt x="17" y="0"/>
                  </a:lnTo>
                  <a:lnTo>
                    <a:pt x="17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33" y="24"/>
                  </a:lnTo>
                  <a:lnTo>
                    <a:pt x="33" y="16"/>
                  </a:lnTo>
                  <a:lnTo>
                    <a:pt x="33" y="16"/>
                  </a:lnTo>
                  <a:lnTo>
                    <a:pt x="33" y="16"/>
                  </a:lnTo>
                  <a:lnTo>
                    <a:pt x="33" y="16"/>
                  </a:lnTo>
                  <a:lnTo>
                    <a:pt x="33" y="16"/>
                  </a:lnTo>
                  <a:lnTo>
                    <a:pt x="33" y="8"/>
                  </a:lnTo>
                  <a:lnTo>
                    <a:pt x="33" y="8"/>
                  </a:lnTo>
                  <a:lnTo>
                    <a:pt x="33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6770520" y="2913120"/>
              <a:ext cx="39960" cy="50760"/>
            </a:xfrm>
            <a:custGeom>
              <a:avLst/>
              <a:gdLst/>
              <a:ahLst/>
              <a:rect l="l" t="t" r="r" b="b"/>
              <a:pathLst>
                <a:path w="25" h="32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17" y="32"/>
                  </a:lnTo>
                  <a:lnTo>
                    <a:pt x="17" y="32"/>
                  </a:lnTo>
                  <a:lnTo>
                    <a:pt x="17" y="32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6757920" y="2938320"/>
              <a:ext cx="39600" cy="52560"/>
            </a:xfrm>
            <a:custGeom>
              <a:avLst/>
              <a:gdLst/>
              <a:ahLst/>
              <a:rect l="l" t="t" r="r" b="b"/>
              <a:pathLst>
                <a:path w="25" h="33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33"/>
                  </a:lnTo>
                  <a:lnTo>
                    <a:pt x="8" y="33"/>
                  </a:lnTo>
                  <a:lnTo>
                    <a:pt x="8" y="33"/>
                  </a:lnTo>
                  <a:lnTo>
                    <a:pt x="8" y="33"/>
                  </a:lnTo>
                  <a:lnTo>
                    <a:pt x="8" y="33"/>
                  </a:lnTo>
                  <a:lnTo>
                    <a:pt x="8" y="33"/>
                  </a:lnTo>
                  <a:lnTo>
                    <a:pt x="8" y="33"/>
                  </a:lnTo>
                  <a:lnTo>
                    <a:pt x="8" y="33"/>
                  </a:lnTo>
                  <a:lnTo>
                    <a:pt x="8" y="33"/>
                  </a:lnTo>
                  <a:lnTo>
                    <a:pt x="16" y="33"/>
                  </a:lnTo>
                  <a:lnTo>
                    <a:pt x="16" y="33"/>
                  </a:lnTo>
                  <a:lnTo>
                    <a:pt x="16" y="33"/>
                  </a:lnTo>
                  <a:lnTo>
                    <a:pt x="16" y="33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6745320" y="2976480"/>
              <a:ext cx="38160" cy="39600"/>
            </a:xfrm>
            <a:custGeom>
              <a:avLst/>
              <a:gdLst/>
              <a:ahLst/>
              <a:rect l="l" t="t" r="r" b="b"/>
              <a:pathLst>
                <a:path w="24" h="25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17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9"/>
                  </a:lnTo>
                  <a:lnTo>
                    <a:pt x="24" y="9"/>
                  </a:lnTo>
                  <a:lnTo>
                    <a:pt x="24" y="9"/>
                  </a:lnTo>
                  <a:lnTo>
                    <a:pt x="24" y="9"/>
                  </a:lnTo>
                  <a:lnTo>
                    <a:pt x="24" y="9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6732720" y="3003480"/>
              <a:ext cx="3780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6719760" y="302904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6707160" y="305424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6707160" y="307980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6" y="0"/>
                  </a:move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6707160" y="3105000"/>
              <a:ext cx="50760" cy="3816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16" y="0"/>
                  </a:move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32" y="24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6719760" y="314316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6707160" y="3168720"/>
              <a:ext cx="50760" cy="3816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16" y="0"/>
                  </a:move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6707160" y="319392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6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6694560" y="3219480"/>
              <a:ext cx="50760" cy="50760"/>
            </a:xfrm>
            <a:custGeom>
              <a:avLst/>
              <a:gdLst/>
              <a:ahLst/>
              <a:rect l="l" t="t" r="r" b="b"/>
              <a:pathLst>
                <a:path w="32" h="32">
                  <a:moveTo>
                    <a:pt x="16" y="0"/>
                  </a:move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32" y="24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6694560" y="325764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6681960" y="3282840"/>
              <a:ext cx="3780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6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6669000" y="3295800"/>
              <a:ext cx="38160" cy="50760"/>
            </a:xfrm>
            <a:custGeom>
              <a:avLst/>
              <a:gdLst/>
              <a:ahLst/>
              <a:rect l="l" t="t" r="r" b="b"/>
              <a:pathLst>
                <a:path w="24" h="32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6643800" y="3295800"/>
              <a:ext cx="38160" cy="378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6605640" y="3282840"/>
              <a:ext cx="50760" cy="3816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16" y="0"/>
                  </a:move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6605640" y="3308400"/>
              <a:ext cx="38160" cy="50760"/>
            </a:xfrm>
            <a:custGeom>
              <a:avLst/>
              <a:gdLst/>
              <a:ahLst/>
              <a:rect l="l" t="t" r="r" b="b"/>
              <a:pathLst>
                <a:path w="24" h="32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6593040" y="3333600"/>
              <a:ext cx="37800" cy="39960"/>
            </a:xfrm>
            <a:custGeom>
              <a:avLst/>
              <a:gdLst/>
              <a:ahLst/>
              <a:rect l="l" t="t" r="r" b="b"/>
              <a:pathLst>
                <a:path w="24" h="25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24" y="25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6580080" y="3359160"/>
              <a:ext cx="38160" cy="52200"/>
            </a:xfrm>
            <a:custGeom>
              <a:avLst/>
              <a:gdLst/>
              <a:ahLst/>
              <a:rect l="l" t="t" r="r" b="b"/>
              <a:pathLst>
                <a:path w="24" h="33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9"/>
                  </a:lnTo>
                  <a:lnTo>
                    <a:pt x="8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33"/>
                  </a:lnTo>
                  <a:lnTo>
                    <a:pt x="8" y="33"/>
                  </a:lnTo>
                  <a:lnTo>
                    <a:pt x="8" y="33"/>
                  </a:lnTo>
                  <a:lnTo>
                    <a:pt x="8" y="33"/>
                  </a:lnTo>
                  <a:lnTo>
                    <a:pt x="8" y="33"/>
                  </a:lnTo>
                  <a:lnTo>
                    <a:pt x="8" y="33"/>
                  </a:lnTo>
                  <a:lnTo>
                    <a:pt x="8" y="33"/>
                  </a:lnTo>
                  <a:lnTo>
                    <a:pt x="16" y="33"/>
                  </a:lnTo>
                  <a:lnTo>
                    <a:pt x="16" y="33"/>
                  </a:lnTo>
                  <a:lnTo>
                    <a:pt x="16" y="33"/>
                  </a:lnTo>
                  <a:lnTo>
                    <a:pt x="16" y="33"/>
                  </a:lnTo>
                  <a:lnTo>
                    <a:pt x="16" y="33"/>
                  </a:lnTo>
                  <a:lnTo>
                    <a:pt x="16" y="33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9"/>
                  </a:lnTo>
                  <a:lnTo>
                    <a:pt x="24" y="9"/>
                  </a:lnTo>
                  <a:lnTo>
                    <a:pt x="24" y="9"/>
                  </a:lnTo>
                  <a:lnTo>
                    <a:pt x="24" y="9"/>
                  </a:lnTo>
                  <a:lnTo>
                    <a:pt x="24" y="9"/>
                  </a:lnTo>
                  <a:lnTo>
                    <a:pt x="24" y="9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6580080" y="339876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6" y="0"/>
                  </a:move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6580080" y="3424320"/>
              <a:ext cx="50760" cy="3816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16" y="0"/>
                  </a:move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6593040" y="3449520"/>
              <a:ext cx="3780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6580080" y="3475080"/>
              <a:ext cx="38160" cy="50760"/>
            </a:xfrm>
            <a:custGeom>
              <a:avLst/>
              <a:gdLst/>
              <a:ahLst/>
              <a:rect l="l" t="t" r="r" b="b"/>
              <a:pathLst>
                <a:path w="24" h="32">
                  <a:moveTo>
                    <a:pt x="16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6567480" y="3513240"/>
              <a:ext cx="50760" cy="3816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16" y="0"/>
                  </a:move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6567480" y="353844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6554880" y="3564000"/>
              <a:ext cx="50760" cy="3816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16" y="0"/>
                  </a:move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6554880" y="358920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6" y="0"/>
                  </a:move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6554880" y="3614760"/>
              <a:ext cx="38160" cy="50760"/>
            </a:xfrm>
            <a:custGeom>
              <a:avLst/>
              <a:gdLst/>
              <a:ahLst/>
              <a:rect l="l" t="t" r="r" b="b"/>
              <a:pathLst>
                <a:path w="24" h="32">
                  <a:moveTo>
                    <a:pt x="16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6554880" y="365292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6540480" y="3678120"/>
              <a:ext cx="52560" cy="38160"/>
            </a:xfrm>
            <a:custGeom>
              <a:avLst/>
              <a:gdLst/>
              <a:ahLst/>
              <a:rect l="l" t="t" r="r" b="b"/>
              <a:pathLst>
                <a:path w="33" h="24">
                  <a:moveTo>
                    <a:pt x="17" y="0"/>
                  </a:moveTo>
                  <a:lnTo>
                    <a:pt x="17" y="0"/>
                  </a:lnTo>
                  <a:lnTo>
                    <a:pt x="17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9" y="16"/>
                  </a:lnTo>
                  <a:lnTo>
                    <a:pt x="9" y="16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16"/>
                  </a:lnTo>
                  <a:lnTo>
                    <a:pt x="33" y="16"/>
                  </a:lnTo>
                  <a:lnTo>
                    <a:pt x="33" y="16"/>
                  </a:lnTo>
                  <a:lnTo>
                    <a:pt x="33" y="16"/>
                  </a:lnTo>
                  <a:lnTo>
                    <a:pt x="33" y="16"/>
                  </a:lnTo>
                  <a:lnTo>
                    <a:pt x="33" y="8"/>
                  </a:lnTo>
                  <a:lnTo>
                    <a:pt x="33" y="8"/>
                  </a:lnTo>
                  <a:lnTo>
                    <a:pt x="33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6540480" y="3703680"/>
              <a:ext cx="39600" cy="52200"/>
            </a:xfrm>
            <a:custGeom>
              <a:avLst/>
              <a:gdLst/>
              <a:ahLst/>
              <a:rect l="l" t="t" r="r" b="b"/>
              <a:pathLst>
                <a:path w="25" h="33">
                  <a:moveTo>
                    <a:pt x="17" y="0"/>
                  </a:moveTo>
                  <a:lnTo>
                    <a:pt x="17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33"/>
                  </a:lnTo>
                  <a:lnTo>
                    <a:pt x="9" y="33"/>
                  </a:lnTo>
                  <a:lnTo>
                    <a:pt x="17" y="33"/>
                  </a:lnTo>
                  <a:lnTo>
                    <a:pt x="17" y="33"/>
                  </a:lnTo>
                  <a:lnTo>
                    <a:pt x="17" y="33"/>
                  </a:lnTo>
                  <a:lnTo>
                    <a:pt x="17" y="33"/>
                  </a:lnTo>
                  <a:lnTo>
                    <a:pt x="17" y="33"/>
                  </a:lnTo>
                  <a:lnTo>
                    <a:pt x="17" y="33"/>
                  </a:lnTo>
                  <a:lnTo>
                    <a:pt x="17" y="33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6502320" y="3703680"/>
              <a:ext cx="52560" cy="52200"/>
            </a:xfrm>
            <a:custGeom>
              <a:avLst/>
              <a:gdLst/>
              <a:ahLst/>
              <a:rect l="l" t="t" r="r" b="b"/>
              <a:pathLst>
                <a:path w="33" h="33">
                  <a:moveTo>
                    <a:pt x="16" y="0"/>
                  </a:moveTo>
                  <a:lnTo>
                    <a:pt x="16" y="0"/>
                  </a:lnTo>
                  <a:lnTo>
                    <a:pt x="16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33"/>
                  </a:lnTo>
                  <a:lnTo>
                    <a:pt x="16" y="33"/>
                  </a:lnTo>
                  <a:lnTo>
                    <a:pt x="16" y="33"/>
                  </a:lnTo>
                  <a:lnTo>
                    <a:pt x="16" y="33"/>
                  </a:lnTo>
                  <a:lnTo>
                    <a:pt x="16" y="33"/>
                  </a:lnTo>
                  <a:lnTo>
                    <a:pt x="16" y="33"/>
                  </a:lnTo>
                  <a:lnTo>
                    <a:pt x="16" y="33"/>
                  </a:lnTo>
                  <a:lnTo>
                    <a:pt x="16" y="33"/>
                  </a:lnTo>
                  <a:lnTo>
                    <a:pt x="16" y="33"/>
                  </a:lnTo>
                  <a:lnTo>
                    <a:pt x="16" y="33"/>
                  </a:lnTo>
                  <a:lnTo>
                    <a:pt x="16" y="33"/>
                  </a:lnTo>
                  <a:lnTo>
                    <a:pt x="24" y="33"/>
                  </a:lnTo>
                  <a:lnTo>
                    <a:pt x="24" y="33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33" y="24"/>
                  </a:lnTo>
                  <a:lnTo>
                    <a:pt x="33" y="16"/>
                  </a:lnTo>
                  <a:lnTo>
                    <a:pt x="33" y="16"/>
                  </a:lnTo>
                  <a:lnTo>
                    <a:pt x="33" y="16"/>
                  </a:lnTo>
                  <a:lnTo>
                    <a:pt x="33" y="16"/>
                  </a:lnTo>
                  <a:lnTo>
                    <a:pt x="33" y="16"/>
                  </a:lnTo>
                  <a:lnTo>
                    <a:pt x="33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6489720" y="3728880"/>
              <a:ext cx="38160" cy="52560"/>
            </a:xfrm>
            <a:custGeom>
              <a:avLst/>
              <a:gdLst/>
              <a:ahLst/>
              <a:rect l="l" t="t" r="r" b="b"/>
              <a:pathLst>
                <a:path w="24" h="33">
                  <a:moveTo>
                    <a:pt x="16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33"/>
                  </a:lnTo>
                  <a:lnTo>
                    <a:pt x="16" y="33"/>
                  </a:lnTo>
                  <a:lnTo>
                    <a:pt x="16" y="33"/>
                  </a:lnTo>
                  <a:lnTo>
                    <a:pt x="16" y="33"/>
                  </a:lnTo>
                  <a:lnTo>
                    <a:pt x="16" y="33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6477120" y="375588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6451560" y="3781440"/>
              <a:ext cx="50760" cy="3816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16" y="0"/>
                  </a:move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6438960" y="3807000"/>
              <a:ext cx="38160" cy="378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6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6426360" y="3832200"/>
              <a:ext cx="3780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6400800" y="3844800"/>
              <a:ext cx="38160" cy="50760"/>
            </a:xfrm>
            <a:custGeom>
              <a:avLst/>
              <a:gdLst/>
              <a:ahLst/>
              <a:rect l="l" t="t" r="r" b="b"/>
              <a:pathLst>
                <a:path w="24" h="32">
                  <a:moveTo>
                    <a:pt x="16" y="0"/>
                  </a:moveTo>
                  <a:lnTo>
                    <a:pt x="16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24" y="32"/>
                  </a:lnTo>
                  <a:lnTo>
                    <a:pt x="24" y="32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6388200" y="387036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6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6375240" y="389556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6350040" y="392112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6" y="0"/>
                  </a:move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6337440" y="3946680"/>
              <a:ext cx="37800" cy="378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6311880" y="3971880"/>
              <a:ext cx="50760" cy="3816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16" y="0"/>
                  </a:move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6297480" y="3997440"/>
              <a:ext cx="39960" cy="3816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17" y="0"/>
                  </a:moveTo>
                  <a:lnTo>
                    <a:pt x="17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9" y="16"/>
                  </a:lnTo>
                  <a:lnTo>
                    <a:pt x="9" y="16"/>
                  </a:lnTo>
                  <a:lnTo>
                    <a:pt x="9" y="16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6284880" y="4010040"/>
              <a:ext cx="39600" cy="50760"/>
            </a:xfrm>
            <a:custGeom>
              <a:avLst/>
              <a:gdLst/>
              <a:ahLst/>
              <a:rect l="l" t="t" r="r" b="b"/>
              <a:pathLst>
                <a:path w="25" h="32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17" y="32"/>
                  </a:lnTo>
                  <a:lnTo>
                    <a:pt x="17" y="32"/>
                  </a:lnTo>
                  <a:lnTo>
                    <a:pt x="17" y="32"/>
                  </a:lnTo>
                  <a:lnTo>
                    <a:pt x="17" y="32"/>
                  </a:lnTo>
                  <a:lnTo>
                    <a:pt x="17" y="32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0" name=""/>
          <p:cNvGrpSpPr/>
          <p:nvPr/>
        </p:nvGrpSpPr>
        <p:grpSpPr>
          <a:xfrm>
            <a:off x="2540160" y="2058840"/>
            <a:ext cx="3771720" cy="2870280"/>
            <a:chOff x="2540160" y="2058840"/>
            <a:chExt cx="3771720" cy="2870280"/>
          </a:xfrm>
        </p:grpSpPr>
        <p:sp>
          <p:nvSpPr>
            <p:cNvPr id="1081" name=""/>
            <p:cNvSpPr/>
            <p:nvPr/>
          </p:nvSpPr>
          <p:spPr>
            <a:xfrm>
              <a:off x="6259680" y="4035600"/>
              <a:ext cx="52200" cy="37800"/>
            </a:xfrm>
            <a:custGeom>
              <a:avLst/>
              <a:gdLst/>
              <a:ahLst/>
              <a:rect l="l" t="t" r="r" b="b"/>
              <a:pathLst>
                <a:path w="33" h="24">
                  <a:moveTo>
                    <a:pt x="16" y="0"/>
                  </a:move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33" y="16"/>
                  </a:lnTo>
                  <a:lnTo>
                    <a:pt x="33" y="16"/>
                  </a:lnTo>
                  <a:lnTo>
                    <a:pt x="33" y="16"/>
                  </a:lnTo>
                  <a:lnTo>
                    <a:pt x="33" y="16"/>
                  </a:lnTo>
                  <a:lnTo>
                    <a:pt x="33" y="16"/>
                  </a:lnTo>
                  <a:lnTo>
                    <a:pt x="33" y="8"/>
                  </a:lnTo>
                  <a:lnTo>
                    <a:pt x="33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6246720" y="404820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6221520" y="4035600"/>
              <a:ext cx="38160" cy="378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6195960" y="4035600"/>
              <a:ext cx="38160" cy="378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6" y="0"/>
                  </a:move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6183360" y="406080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6" y="0"/>
                  </a:move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6183360" y="4086360"/>
              <a:ext cx="38160" cy="52200"/>
            </a:xfrm>
            <a:custGeom>
              <a:avLst/>
              <a:gdLst/>
              <a:ahLst/>
              <a:rect l="l" t="t" r="r" b="b"/>
              <a:pathLst>
                <a:path w="24" h="33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8" y="25"/>
                  </a:lnTo>
                  <a:lnTo>
                    <a:pt x="8" y="33"/>
                  </a:lnTo>
                  <a:lnTo>
                    <a:pt x="8" y="33"/>
                  </a:lnTo>
                  <a:lnTo>
                    <a:pt x="8" y="33"/>
                  </a:lnTo>
                  <a:lnTo>
                    <a:pt x="8" y="33"/>
                  </a:lnTo>
                  <a:lnTo>
                    <a:pt x="8" y="33"/>
                  </a:lnTo>
                  <a:lnTo>
                    <a:pt x="8" y="33"/>
                  </a:lnTo>
                  <a:lnTo>
                    <a:pt x="8" y="33"/>
                  </a:lnTo>
                  <a:lnTo>
                    <a:pt x="8" y="33"/>
                  </a:lnTo>
                  <a:lnTo>
                    <a:pt x="8" y="33"/>
                  </a:lnTo>
                  <a:lnTo>
                    <a:pt x="16" y="33"/>
                  </a:lnTo>
                  <a:lnTo>
                    <a:pt x="16" y="33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6170760" y="4111560"/>
              <a:ext cx="37800" cy="52560"/>
            </a:xfrm>
            <a:custGeom>
              <a:avLst/>
              <a:gdLst/>
              <a:ahLst/>
              <a:rect l="l" t="t" r="r" b="b"/>
              <a:pathLst>
                <a:path w="24" h="33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9"/>
                  </a:lnTo>
                  <a:lnTo>
                    <a:pt x="8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8" y="25"/>
                  </a:lnTo>
                  <a:lnTo>
                    <a:pt x="8" y="33"/>
                  </a:lnTo>
                  <a:lnTo>
                    <a:pt x="8" y="33"/>
                  </a:lnTo>
                  <a:lnTo>
                    <a:pt x="8" y="33"/>
                  </a:lnTo>
                  <a:lnTo>
                    <a:pt x="8" y="33"/>
                  </a:lnTo>
                  <a:lnTo>
                    <a:pt x="8" y="33"/>
                  </a:lnTo>
                  <a:lnTo>
                    <a:pt x="8" y="33"/>
                  </a:lnTo>
                  <a:lnTo>
                    <a:pt x="8" y="33"/>
                  </a:lnTo>
                  <a:lnTo>
                    <a:pt x="8" y="33"/>
                  </a:lnTo>
                  <a:lnTo>
                    <a:pt x="8" y="33"/>
                  </a:lnTo>
                  <a:lnTo>
                    <a:pt x="16" y="33"/>
                  </a:lnTo>
                  <a:lnTo>
                    <a:pt x="16" y="33"/>
                  </a:lnTo>
                  <a:lnTo>
                    <a:pt x="16" y="33"/>
                  </a:lnTo>
                  <a:lnTo>
                    <a:pt x="16" y="33"/>
                  </a:lnTo>
                  <a:lnTo>
                    <a:pt x="16" y="33"/>
                  </a:lnTo>
                  <a:lnTo>
                    <a:pt x="16" y="33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9"/>
                  </a:lnTo>
                  <a:lnTo>
                    <a:pt x="24" y="9"/>
                  </a:lnTo>
                  <a:lnTo>
                    <a:pt x="24" y="9"/>
                  </a:lnTo>
                  <a:lnTo>
                    <a:pt x="24" y="9"/>
                  </a:lnTo>
                  <a:lnTo>
                    <a:pt x="24" y="9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6157800" y="415116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6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6145200" y="4176720"/>
              <a:ext cx="50760" cy="3816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16" y="0"/>
                  </a:move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32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6132600" y="4202280"/>
              <a:ext cx="50760" cy="3780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16" y="0"/>
                  </a:move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6132600" y="422748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6119640" y="4253040"/>
              <a:ext cx="38160" cy="50760"/>
            </a:xfrm>
            <a:custGeom>
              <a:avLst/>
              <a:gdLst/>
              <a:ahLst/>
              <a:rect l="l" t="t" r="r" b="b"/>
              <a:pathLst>
                <a:path w="24" h="32">
                  <a:moveTo>
                    <a:pt x="16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6107040" y="4278240"/>
              <a:ext cx="50760" cy="50760"/>
            </a:xfrm>
            <a:custGeom>
              <a:avLst/>
              <a:gdLst/>
              <a:ahLst/>
              <a:rect l="l" t="t" r="r" b="b"/>
              <a:pathLst>
                <a:path w="32" h="32">
                  <a:moveTo>
                    <a:pt x="16" y="0"/>
                  </a:moveTo>
                  <a:lnTo>
                    <a:pt x="16" y="0"/>
                  </a:lnTo>
                  <a:lnTo>
                    <a:pt x="16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24" y="32"/>
                  </a:lnTo>
                  <a:lnTo>
                    <a:pt x="24" y="32"/>
                  </a:lnTo>
                  <a:lnTo>
                    <a:pt x="24" y="32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6107040" y="431640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6094440" y="4341960"/>
              <a:ext cx="38160" cy="378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6081840" y="4367160"/>
              <a:ext cx="3780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6" y="0"/>
                  </a:move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6068880" y="4392720"/>
              <a:ext cx="50760" cy="3816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16" y="0"/>
                  </a:move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6068880" y="4417920"/>
              <a:ext cx="38160" cy="50760"/>
            </a:xfrm>
            <a:custGeom>
              <a:avLst/>
              <a:gdLst/>
              <a:ahLst/>
              <a:rect l="l" t="t" r="r" b="b"/>
              <a:pathLst>
                <a:path w="24" h="32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16" y="32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6054840" y="4443480"/>
              <a:ext cx="39600" cy="50760"/>
            </a:xfrm>
            <a:custGeom>
              <a:avLst/>
              <a:gdLst/>
              <a:ahLst/>
              <a:rect l="l" t="t" r="r" b="b"/>
              <a:pathLst>
                <a:path w="25" h="32">
                  <a:moveTo>
                    <a:pt x="17" y="0"/>
                  </a:moveTo>
                  <a:lnTo>
                    <a:pt x="9" y="0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9" y="24"/>
                  </a:lnTo>
                  <a:lnTo>
                    <a:pt x="9" y="32"/>
                  </a:lnTo>
                  <a:lnTo>
                    <a:pt x="9" y="32"/>
                  </a:lnTo>
                  <a:lnTo>
                    <a:pt x="9" y="32"/>
                  </a:lnTo>
                  <a:lnTo>
                    <a:pt x="9" y="32"/>
                  </a:lnTo>
                  <a:lnTo>
                    <a:pt x="9" y="32"/>
                  </a:lnTo>
                  <a:lnTo>
                    <a:pt x="9" y="32"/>
                  </a:lnTo>
                  <a:lnTo>
                    <a:pt x="9" y="32"/>
                  </a:lnTo>
                  <a:lnTo>
                    <a:pt x="9" y="32"/>
                  </a:lnTo>
                  <a:lnTo>
                    <a:pt x="17" y="32"/>
                  </a:lnTo>
                  <a:lnTo>
                    <a:pt x="17" y="32"/>
                  </a:lnTo>
                  <a:lnTo>
                    <a:pt x="17" y="32"/>
                  </a:lnTo>
                  <a:lnTo>
                    <a:pt x="17" y="32"/>
                  </a:lnTo>
                  <a:lnTo>
                    <a:pt x="17" y="32"/>
                  </a:lnTo>
                  <a:lnTo>
                    <a:pt x="17" y="32"/>
                  </a:lnTo>
                  <a:lnTo>
                    <a:pt x="17" y="32"/>
                  </a:lnTo>
                  <a:lnTo>
                    <a:pt x="17" y="32"/>
                  </a:lnTo>
                  <a:lnTo>
                    <a:pt x="17" y="32"/>
                  </a:lnTo>
                  <a:lnTo>
                    <a:pt x="17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6041880" y="4481640"/>
              <a:ext cx="39960" cy="3960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17" y="0"/>
                  </a:moveTo>
                  <a:lnTo>
                    <a:pt x="17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8" y="17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17" y="25"/>
                  </a:lnTo>
                  <a:lnTo>
                    <a:pt x="17" y="25"/>
                  </a:lnTo>
                  <a:lnTo>
                    <a:pt x="17" y="25"/>
                  </a:lnTo>
                  <a:lnTo>
                    <a:pt x="17" y="25"/>
                  </a:lnTo>
                  <a:lnTo>
                    <a:pt x="17" y="25"/>
                  </a:lnTo>
                  <a:lnTo>
                    <a:pt x="17" y="25"/>
                  </a:lnTo>
                  <a:lnTo>
                    <a:pt x="17" y="25"/>
                  </a:lnTo>
                  <a:lnTo>
                    <a:pt x="17" y="25"/>
                  </a:lnTo>
                  <a:lnTo>
                    <a:pt x="17" y="25"/>
                  </a:lnTo>
                  <a:lnTo>
                    <a:pt x="17" y="25"/>
                  </a:lnTo>
                  <a:lnTo>
                    <a:pt x="25" y="25"/>
                  </a:lnTo>
                  <a:lnTo>
                    <a:pt x="25" y="25"/>
                  </a:lnTo>
                  <a:lnTo>
                    <a:pt x="25" y="17"/>
                  </a:lnTo>
                  <a:lnTo>
                    <a:pt x="25" y="17"/>
                  </a:lnTo>
                  <a:lnTo>
                    <a:pt x="25" y="17"/>
                  </a:lnTo>
                  <a:lnTo>
                    <a:pt x="25" y="17"/>
                  </a:lnTo>
                  <a:lnTo>
                    <a:pt x="25" y="17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6029280" y="4508640"/>
              <a:ext cx="52560" cy="37800"/>
            </a:xfrm>
            <a:custGeom>
              <a:avLst/>
              <a:gdLst/>
              <a:ahLst/>
              <a:rect l="l" t="t" r="r" b="b"/>
              <a:pathLst>
                <a:path w="33" h="24">
                  <a:moveTo>
                    <a:pt x="16" y="0"/>
                  </a:move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33" y="16"/>
                  </a:lnTo>
                  <a:lnTo>
                    <a:pt x="33" y="16"/>
                  </a:lnTo>
                  <a:lnTo>
                    <a:pt x="33" y="16"/>
                  </a:lnTo>
                  <a:lnTo>
                    <a:pt x="33" y="8"/>
                  </a:lnTo>
                  <a:lnTo>
                    <a:pt x="33" y="8"/>
                  </a:lnTo>
                  <a:lnTo>
                    <a:pt x="33" y="8"/>
                  </a:lnTo>
                  <a:lnTo>
                    <a:pt x="33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6029280" y="4533840"/>
              <a:ext cx="39600" cy="3816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5" y="24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6016680" y="455940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6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6004080" y="4584600"/>
              <a:ext cx="3780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6" y="0"/>
                  </a:move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6004080" y="4610160"/>
              <a:ext cx="37800" cy="50760"/>
            </a:xfrm>
            <a:custGeom>
              <a:avLst/>
              <a:gdLst/>
              <a:ahLst/>
              <a:rect l="l" t="t" r="r" b="b"/>
              <a:pathLst>
                <a:path w="24" h="32">
                  <a:moveTo>
                    <a:pt x="8" y="0"/>
                  </a:move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5991120" y="464832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5978520" y="467352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6" y="0"/>
                  </a:move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5965920" y="4699080"/>
              <a:ext cx="50760" cy="3816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16" y="0"/>
                  </a:move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5965920" y="472428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5952960" y="4749840"/>
              <a:ext cx="38160" cy="50760"/>
            </a:xfrm>
            <a:custGeom>
              <a:avLst/>
              <a:gdLst/>
              <a:ahLst/>
              <a:rect l="l" t="t" r="r" b="b"/>
              <a:pathLst>
                <a:path w="24" h="32">
                  <a:moveTo>
                    <a:pt x="16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5940360" y="4775040"/>
              <a:ext cx="50760" cy="51120"/>
            </a:xfrm>
            <a:custGeom>
              <a:avLst/>
              <a:gdLst/>
              <a:ahLst/>
              <a:rect l="l" t="t" r="r" b="b"/>
              <a:pathLst>
                <a:path w="32" h="32">
                  <a:moveTo>
                    <a:pt x="16" y="0"/>
                  </a:moveTo>
                  <a:lnTo>
                    <a:pt x="16" y="8"/>
                  </a:lnTo>
                  <a:lnTo>
                    <a:pt x="16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24" y="32"/>
                  </a:lnTo>
                  <a:lnTo>
                    <a:pt x="24" y="32"/>
                  </a:lnTo>
                  <a:lnTo>
                    <a:pt x="24" y="32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32" y="24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5940360" y="481320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5927760" y="483876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6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5915160" y="4863960"/>
              <a:ext cx="50760" cy="399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16" y="0"/>
                  </a:move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8" y="17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32" y="17"/>
                  </a:lnTo>
                  <a:lnTo>
                    <a:pt x="32" y="17"/>
                  </a:lnTo>
                  <a:lnTo>
                    <a:pt x="32" y="17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5915160" y="4890960"/>
              <a:ext cx="3780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2540160" y="3219480"/>
              <a:ext cx="37800" cy="50760"/>
            </a:xfrm>
            <a:custGeom>
              <a:avLst/>
              <a:gdLst/>
              <a:ahLst/>
              <a:rect l="l" t="t" r="r" b="b"/>
              <a:pathLst>
                <a:path w="24" h="32">
                  <a:moveTo>
                    <a:pt x="16" y="0"/>
                  </a:move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2565360" y="3206880"/>
              <a:ext cx="38160" cy="378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6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2590920" y="319392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6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2616120" y="3168720"/>
              <a:ext cx="39600" cy="50760"/>
            </a:xfrm>
            <a:custGeom>
              <a:avLst/>
              <a:gdLst/>
              <a:ahLst/>
              <a:rect l="l" t="t" r="r" b="b"/>
              <a:pathLst>
                <a:path w="25" h="32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2641680" y="3156120"/>
              <a:ext cx="39600" cy="3780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9" y="0"/>
                  </a:move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17" y="8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2668680" y="314316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2681280" y="3130560"/>
              <a:ext cx="50760" cy="3816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16" y="0"/>
                  </a:move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2706840" y="3105000"/>
              <a:ext cx="3780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6" y="0"/>
                  </a:move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2732040" y="309240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2732040" y="305424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6" y="0"/>
                  </a:move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4892760" y="3882960"/>
              <a:ext cx="50760" cy="3816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16" y="0"/>
                  </a:move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32" y="16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4867200" y="3870360"/>
              <a:ext cx="38160" cy="50760"/>
            </a:xfrm>
            <a:custGeom>
              <a:avLst/>
              <a:gdLst/>
              <a:ahLst/>
              <a:rect l="l" t="t" r="r" b="b"/>
              <a:pathLst>
                <a:path w="24" h="32">
                  <a:moveTo>
                    <a:pt x="16" y="0"/>
                  </a:move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4840200" y="3870360"/>
              <a:ext cx="39600" cy="3816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17" y="0"/>
                  </a:move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4815000" y="3870360"/>
              <a:ext cx="39600" cy="3816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4776840" y="3870360"/>
              <a:ext cx="50760" cy="3816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16" y="0"/>
                  </a:move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4751280" y="387036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6" y="0"/>
                  </a:move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4726080" y="387036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4700520" y="3857760"/>
              <a:ext cx="38160" cy="50760"/>
            </a:xfrm>
            <a:custGeom>
              <a:avLst/>
              <a:gdLst/>
              <a:ahLst/>
              <a:rect l="l" t="t" r="r" b="b"/>
              <a:pathLst>
                <a:path w="24" h="32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4662360" y="3857760"/>
              <a:ext cx="50760" cy="3780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16" y="0"/>
                  </a:move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4637160" y="3844800"/>
              <a:ext cx="50760" cy="3816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16" y="0"/>
                  </a:move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4611600" y="384480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6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4584600" y="3832200"/>
              <a:ext cx="39960" cy="3816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4559400" y="381960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4521240" y="3807000"/>
              <a:ext cx="50760" cy="50760"/>
            </a:xfrm>
            <a:custGeom>
              <a:avLst/>
              <a:gdLst/>
              <a:ahLst/>
              <a:rect l="l" t="t" r="r" b="b"/>
              <a:pathLst>
                <a:path w="32" h="32">
                  <a:moveTo>
                    <a:pt x="16" y="0"/>
                  </a:moveTo>
                  <a:lnTo>
                    <a:pt x="16" y="0"/>
                  </a:lnTo>
                  <a:lnTo>
                    <a:pt x="16" y="0"/>
                  </a:lnTo>
                  <a:lnTo>
                    <a:pt x="16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24" y="32"/>
                  </a:lnTo>
                  <a:lnTo>
                    <a:pt x="24" y="32"/>
                  </a:lnTo>
                  <a:lnTo>
                    <a:pt x="24" y="32"/>
                  </a:lnTo>
                  <a:lnTo>
                    <a:pt x="24" y="32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32" y="24"/>
                  </a:lnTo>
                  <a:lnTo>
                    <a:pt x="32" y="24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4495680" y="3807000"/>
              <a:ext cx="50760" cy="3780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16" y="0"/>
                  </a:move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4470480" y="3794040"/>
              <a:ext cx="38160" cy="50760"/>
            </a:xfrm>
            <a:custGeom>
              <a:avLst/>
              <a:gdLst/>
              <a:ahLst/>
              <a:rect l="l" t="t" r="r" b="b"/>
              <a:pathLst>
                <a:path w="24" h="32">
                  <a:moveTo>
                    <a:pt x="16" y="0"/>
                  </a:move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4444920" y="379404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4419720" y="379404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4381560" y="3781440"/>
              <a:ext cx="50760" cy="50760"/>
            </a:xfrm>
            <a:custGeom>
              <a:avLst/>
              <a:gdLst/>
              <a:ahLst/>
              <a:rect l="l" t="t" r="r" b="b"/>
              <a:pathLst>
                <a:path w="32" h="32">
                  <a:moveTo>
                    <a:pt x="16" y="0"/>
                  </a:move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24" y="32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4356000" y="3781440"/>
              <a:ext cx="38160" cy="50760"/>
            </a:xfrm>
            <a:custGeom>
              <a:avLst/>
              <a:gdLst/>
              <a:ahLst/>
              <a:rect l="l" t="t" r="r" b="b"/>
              <a:pathLst>
                <a:path w="24" h="32">
                  <a:moveTo>
                    <a:pt x="16" y="0"/>
                  </a:move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4329000" y="3781440"/>
              <a:ext cx="39960" cy="3816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25" y="24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4303800" y="3768840"/>
              <a:ext cx="38160" cy="50760"/>
            </a:xfrm>
            <a:custGeom>
              <a:avLst/>
              <a:gdLst/>
              <a:ahLst/>
              <a:rect l="l" t="t" r="r" b="b"/>
              <a:pathLst>
                <a:path w="24" h="32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4265640" y="3781440"/>
              <a:ext cx="50760" cy="3816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16" y="0"/>
                  </a:move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32" y="16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4240080" y="378144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6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4214880" y="378144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4189320" y="3794040"/>
              <a:ext cx="50760" cy="50760"/>
            </a:xfrm>
            <a:custGeom>
              <a:avLst/>
              <a:gdLst/>
              <a:ahLst/>
              <a:rect l="l" t="t" r="r" b="b"/>
              <a:pathLst>
                <a:path w="32" h="32">
                  <a:moveTo>
                    <a:pt x="16" y="0"/>
                  </a:moveTo>
                  <a:lnTo>
                    <a:pt x="16" y="0"/>
                  </a:lnTo>
                  <a:lnTo>
                    <a:pt x="16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24" y="32"/>
                  </a:lnTo>
                  <a:lnTo>
                    <a:pt x="24" y="32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32" y="24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4164120" y="3819600"/>
              <a:ext cx="50760" cy="3816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16" y="0"/>
                  </a:move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4138560" y="3819600"/>
              <a:ext cx="50760" cy="50760"/>
            </a:xfrm>
            <a:custGeom>
              <a:avLst/>
              <a:gdLst/>
              <a:ahLst/>
              <a:rect l="l" t="t" r="r" b="b"/>
              <a:pathLst>
                <a:path w="32" h="32">
                  <a:moveTo>
                    <a:pt x="16" y="0"/>
                  </a:move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24" y="32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32" y="24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4113360" y="3832200"/>
              <a:ext cx="3780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6" y="0"/>
                  </a:move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4086360" y="3819600"/>
              <a:ext cx="39600" cy="50760"/>
            </a:xfrm>
            <a:custGeom>
              <a:avLst/>
              <a:gdLst/>
              <a:ahLst/>
              <a:rect l="l" t="t" r="r" b="b"/>
              <a:pathLst>
                <a:path w="25" h="32">
                  <a:moveTo>
                    <a:pt x="17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17" y="32"/>
                  </a:lnTo>
                  <a:lnTo>
                    <a:pt x="17" y="32"/>
                  </a:lnTo>
                  <a:lnTo>
                    <a:pt x="17" y="32"/>
                  </a:lnTo>
                  <a:lnTo>
                    <a:pt x="17" y="32"/>
                  </a:lnTo>
                  <a:lnTo>
                    <a:pt x="17" y="32"/>
                  </a:lnTo>
                  <a:lnTo>
                    <a:pt x="17" y="32"/>
                  </a:lnTo>
                  <a:lnTo>
                    <a:pt x="17" y="32"/>
                  </a:lnTo>
                  <a:lnTo>
                    <a:pt x="17" y="32"/>
                  </a:lnTo>
                  <a:lnTo>
                    <a:pt x="17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4060800" y="3807000"/>
              <a:ext cx="38160" cy="50760"/>
            </a:xfrm>
            <a:custGeom>
              <a:avLst/>
              <a:gdLst/>
              <a:ahLst/>
              <a:rect l="l" t="t" r="r" b="b"/>
              <a:pathLst>
                <a:path w="24" h="32">
                  <a:moveTo>
                    <a:pt x="16" y="0"/>
                  </a:move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4035600" y="3794040"/>
              <a:ext cx="37800" cy="50760"/>
            </a:xfrm>
            <a:custGeom>
              <a:avLst/>
              <a:gdLst/>
              <a:ahLst/>
              <a:rect l="l" t="t" r="r" b="b"/>
              <a:pathLst>
                <a:path w="24" h="32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4010040" y="3807000"/>
              <a:ext cx="38160" cy="378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3971880" y="3807000"/>
              <a:ext cx="50760" cy="3780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16" y="0"/>
                  </a:move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3946680" y="3794040"/>
              <a:ext cx="37800" cy="50760"/>
            </a:xfrm>
            <a:custGeom>
              <a:avLst/>
              <a:gdLst/>
              <a:ahLst/>
              <a:rect l="l" t="t" r="r" b="b"/>
              <a:pathLst>
                <a:path w="24" h="32">
                  <a:moveTo>
                    <a:pt x="16" y="0"/>
                  </a:move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3921120" y="379404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6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3895560" y="378144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6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3870360" y="376884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3830760" y="3755880"/>
              <a:ext cx="52200" cy="38160"/>
            </a:xfrm>
            <a:custGeom>
              <a:avLst/>
              <a:gdLst/>
              <a:ahLst/>
              <a:rect l="l" t="t" r="r" b="b"/>
              <a:pathLst>
                <a:path w="33" h="24">
                  <a:moveTo>
                    <a:pt x="16" y="0"/>
                  </a:move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33" y="24"/>
                  </a:lnTo>
                  <a:lnTo>
                    <a:pt x="33" y="16"/>
                  </a:lnTo>
                  <a:lnTo>
                    <a:pt x="33" y="16"/>
                  </a:lnTo>
                  <a:lnTo>
                    <a:pt x="33" y="16"/>
                  </a:lnTo>
                  <a:lnTo>
                    <a:pt x="33" y="16"/>
                  </a:lnTo>
                  <a:lnTo>
                    <a:pt x="33" y="16"/>
                  </a:lnTo>
                  <a:lnTo>
                    <a:pt x="33" y="8"/>
                  </a:lnTo>
                  <a:lnTo>
                    <a:pt x="33" y="8"/>
                  </a:lnTo>
                  <a:lnTo>
                    <a:pt x="33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3805200" y="3755880"/>
              <a:ext cx="50760" cy="3816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16" y="0"/>
                  </a:move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3792600" y="378144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3767040" y="379404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6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3754440" y="381960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3728880" y="384480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6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3703680" y="3857760"/>
              <a:ext cx="50760" cy="3780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16" y="0"/>
                  </a:move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3678120" y="3870360"/>
              <a:ext cx="50760" cy="50760"/>
            </a:xfrm>
            <a:custGeom>
              <a:avLst/>
              <a:gdLst/>
              <a:ahLst/>
              <a:rect l="l" t="t" r="r" b="b"/>
              <a:pathLst>
                <a:path w="32" h="32">
                  <a:moveTo>
                    <a:pt x="16" y="0"/>
                  </a:moveTo>
                  <a:lnTo>
                    <a:pt x="16" y="0"/>
                  </a:lnTo>
                  <a:lnTo>
                    <a:pt x="16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24" y="32"/>
                  </a:lnTo>
                  <a:lnTo>
                    <a:pt x="24" y="32"/>
                  </a:lnTo>
                  <a:lnTo>
                    <a:pt x="24" y="32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3665520" y="3895560"/>
              <a:ext cx="38160" cy="51120"/>
            </a:xfrm>
            <a:custGeom>
              <a:avLst/>
              <a:gdLst/>
              <a:ahLst/>
              <a:rect l="l" t="t" r="r" b="b"/>
              <a:pathLst>
                <a:path w="24" h="32">
                  <a:moveTo>
                    <a:pt x="16" y="0"/>
                  </a:move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3652920" y="392112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6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3639960" y="3946680"/>
              <a:ext cx="38160" cy="378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3627360" y="397188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3600360" y="3997440"/>
              <a:ext cx="52560" cy="38160"/>
            </a:xfrm>
            <a:custGeom>
              <a:avLst/>
              <a:gdLst/>
              <a:ahLst/>
              <a:rect l="l" t="t" r="r" b="b"/>
              <a:pathLst>
                <a:path w="33" h="24">
                  <a:moveTo>
                    <a:pt x="17" y="0"/>
                  </a:moveTo>
                  <a:lnTo>
                    <a:pt x="17" y="0"/>
                  </a:lnTo>
                  <a:lnTo>
                    <a:pt x="17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33" y="16"/>
                  </a:lnTo>
                  <a:lnTo>
                    <a:pt x="33" y="16"/>
                  </a:lnTo>
                  <a:lnTo>
                    <a:pt x="33" y="16"/>
                  </a:lnTo>
                  <a:lnTo>
                    <a:pt x="33" y="16"/>
                  </a:lnTo>
                  <a:lnTo>
                    <a:pt x="33" y="16"/>
                  </a:lnTo>
                  <a:lnTo>
                    <a:pt x="33" y="8"/>
                  </a:lnTo>
                  <a:lnTo>
                    <a:pt x="33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3587760" y="4022640"/>
              <a:ext cx="39600" cy="3816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16" y="0"/>
                  </a:move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3575160" y="404820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6" y="0"/>
                  </a:move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3562200" y="407340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3549600" y="4098960"/>
              <a:ext cx="38160" cy="39600"/>
            </a:xfrm>
            <a:custGeom>
              <a:avLst/>
              <a:gdLst/>
              <a:ahLst/>
              <a:rect l="l" t="t" r="r" b="b"/>
              <a:pathLst>
                <a:path w="24" h="25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24" y="25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3537000" y="412596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3511440" y="4151160"/>
              <a:ext cx="50760" cy="3816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16" y="0"/>
                  </a:move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3498840" y="417672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6" y="0"/>
                  </a:move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3486240" y="4202280"/>
              <a:ext cx="38160" cy="378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6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3473280" y="422748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3460680" y="4253040"/>
              <a:ext cx="38160" cy="378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3435480" y="4253040"/>
              <a:ext cx="37800" cy="378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6" y="0"/>
                  </a:move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3409920" y="4227480"/>
              <a:ext cx="50760" cy="3816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16" y="0"/>
                  </a:move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3397320" y="421488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3370320" y="4214880"/>
              <a:ext cx="39600" cy="3816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9" y="0"/>
                  </a:move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3332160" y="4202280"/>
              <a:ext cx="52560" cy="50760"/>
            </a:xfrm>
            <a:custGeom>
              <a:avLst/>
              <a:gdLst/>
              <a:ahLst/>
              <a:rect l="l" t="t" r="r" b="b"/>
              <a:pathLst>
                <a:path w="33" h="32">
                  <a:moveTo>
                    <a:pt x="16" y="0"/>
                  </a:move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33" y="16"/>
                  </a:lnTo>
                  <a:lnTo>
                    <a:pt x="33" y="16"/>
                  </a:lnTo>
                  <a:lnTo>
                    <a:pt x="33" y="16"/>
                  </a:lnTo>
                  <a:lnTo>
                    <a:pt x="33" y="16"/>
                  </a:lnTo>
                  <a:lnTo>
                    <a:pt x="33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3306600" y="4189320"/>
              <a:ext cx="38160" cy="50760"/>
            </a:xfrm>
            <a:custGeom>
              <a:avLst/>
              <a:gdLst/>
              <a:ahLst/>
              <a:rect l="l" t="t" r="r" b="b"/>
              <a:pathLst>
                <a:path w="24" h="32">
                  <a:moveTo>
                    <a:pt x="16" y="0"/>
                  </a:move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3281400" y="418932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6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3255840" y="418932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3218040" y="4176720"/>
              <a:ext cx="50760" cy="3816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16" y="0"/>
                  </a:move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32" y="24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3192480" y="4176720"/>
              <a:ext cx="50760" cy="3816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16" y="0"/>
                  </a:move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32" y="16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3166920" y="4164120"/>
              <a:ext cx="38160" cy="50760"/>
            </a:xfrm>
            <a:custGeom>
              <a:avLst/>
              <a:gdLst/>
              <a:ahLst/>
              <a:rect l="l" t="t" r="r" b="b"/>
              <a:pathLst>
                <a:path w="24" h="32">
                  <a:moveTo>
                    <a:pt x="16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3141720" y="417672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3114720" y="4189320"/>
              <a:ext cx="39600" cy="3816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16"/>
                  </a:lnTo>
                  <a:lnTo>
                    <a:pt x="17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3076560" y="4176720"/>
              <a:ext cx="50760" cy="3816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16" y="0"/>
                  </a:move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3063960" y="417672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3063960" y="4202280"/>
              <a:ext cx="38160" cy="50760"/>
            </a:xfrm>
            <a:custGeom>
              <a:avLst/>
              <a:gdLst/>
              <a:ahLst/>
              <a:rect l="l" t="t" r="r" b="b"/>
              <a:pathLst>
                <a:path w="24" h="32">
                  <a:moveTo>
                    <a:pt x="8" y="0"/>
                  </a:move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3051000" y="4227480"/>
              <a:ext cx="38160" cy="50760"/>
            </a:xfrm>
            <a:custGeom>
              <a:avLst/>
              <a:gdLst/>
              <a:ahLst/>
              <a:rect l="l" t="t" r="r" b="b"/>
              <a:pathLst>
                <a:path w="24" h="32">
                  <a:moveTo>
                    <a:pt x="16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3038400" y="4253040"/>
              <a:ext cx="50760" cy="50760"/>
            </a:xfrm>
            <a:custGeom>
              <a:avLst/>
              <a:gdLst/>
              <a:ahLst/>
              <a:rect l="l" t="t" r="r" b="b"/>
              <a:pathLst>
                <a:path w="32" h="32">
                  <a:moveTo>
                    <a:pt x="16" y="0"/>
                  </a:moveTo>
                  <a:lnTo>
                    <a:pt x="16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24" y="32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3038400" y="429084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3025800" y="431640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6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3013200" y="4341960"/>
              <a:ext cx="50760" cy="3780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16" y="0"/>
                  </a:move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3013200" y="4367160"/>
              <a:ext cx="3780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5173560" y="2058840"/>
              <a:ext cx="38160" cy="51120"/>
            </a:xfrm>
            <a:custGeom>
              <a:avLst/>
              <a:gdLst/>
              <a:ahLst/>
              <a:rect l="l" t="t" r="r" b="b"/>
              <a:pathLst>
                <a:path w="24" h="32">
                  <a:moveTo>
                    <a:pt x="16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5173560" y="209700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5160960" y="2122560"/>
              <a:ext cx="50760" cy="3816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16" y="0"/>
                  </a:move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5160960" y="214776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6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5160960" y="2185920"/>
              <a:ext cx="38160" cy="39600"/>
            </a:xfrm>
            <a:custGeom>
              <a:avLst/>
              <a:gdLst/>
              <a:ahLst/>
              <a:rect l="l" t="t" r="r" b="b"/>
              <a:pathLst>
                <a:path w="24" h="25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5148360" y="2211480"/>
              <a:ext cx="38160" cy="39600"/>
            </a:xfrm>
            <a:custGeom>
              <a:avLst/>
              <a:gdLst/>
              <a:ahLst/>
              <a:rect l="l" t="t" r="r" b="b"/>
              <a:pathLst>
                <a:path w="24" h="25">
                  <a:moveTo>
                    <a:pt x="16" y="0"/>
                  </a:move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8" y="17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9"/>
                  </a:lnTo>
                  <a:lnTo>
                    <a:pt x="24" y="9"/>
                  </a:lnTo>
                  <a:lnTo>
                    <a:pt x="24" y="9"/>
                  </a:lnTo>
                  <a:lnTo>
                    <a:pt x="24" y="9"/>
                  </a:lnTo>
                  <a:lnTo>
                    <a:pt x="24" y="9"/>
                  </a:lnTo>
                  <a:lnTo>
                    <a:pt x="24" y="9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5148360" y="223848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6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5148360" y="2263680"/>
              <a:ext cx="38160" cy="50760"/>
            </a:xfrm>
            <a:custGeom>
              <a:avLst/>
              <a:gdLst/>
              <a:ahLst/>
              <a:rect l="l" t="t" r="r" b="b"/>
              <a:pathLst>
                <a:path w="24" h="32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16" y="32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5135400" y="2301840"/>
              <a:ext cx="51120" cy="3816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16" y="0"/>
                  </a:move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32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5135400" y="2327400"/>
              <a:ext cx="38160" cy="378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5135400" y="235260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5122800" y="2378160"/>
              <a:ext cx="38160" cy="50760"/>
            </a:xfrm>
            <a:custGeom>
              <a:avLst/>
              <a:gdLst/>
              <a:ahLst/>
              <a:rect l="l" t="t" r="r" b="b"/>
              <a:pathLst>
                <a:path w="24" h="32">
                  <a:moveTo>
                    <a:pt x="16" y="0"/>
                  </a:move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5122800" y="2416320"/>
              <a:ext cx="38160" cy="378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5110200" y="2441520"/>
              <a:ext cx="50760" cy="3816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16" y="0"/>
                  </a:move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5110200" y="246708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6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5110200" y="2492280"/>
              <a:ext cx="38160" cy="50760"/>
            </a:xfrm>
            <a:custGeom>
              <a:avLst/>
              <a:gdLst/>
              <a:ahLst/>
              <a:rect l="l" t="t" r="r" b="b"/>
              <a:pathLst>
                <a:path w="24" h="32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5097600" y="2530440"/>
              <a:ext cx="50760" cy="3816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16" y="0"/>
                  </a:move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32" y="16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5097600" y="2556000"/>
              <a:ext cx="37800" cy="378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6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5097600" y="2581200"/>
              <a:ext cx="37800" cy="39600"/>
            </a:xfrm>
            <a:custGeom>
              <a:avLst/>
              <a:gdLst/>
              <a:ahLst/>
              <a:rect l="l" t="t" r="r" b="b"/>
              <a:pathLst>
                <a:path w="24" h="25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5083200" y="2608200"/>
              <a:ext cx="52200" cy="50760"/>
            </a:xfrm>
            <a:custGeom>
              <a:avLst/>
              <a:gdLst/>
              <a:ahLst/>
              <a:rect l="l" t="t" r="r" b="b"/>
              <a:pathLst>
                <a:path w="33" h="32">
                  <a:moveTo>
                    <a:pt x="17" y="0"/>
                  </a:moveTo>
                  <a:lnTo>
                    <a:pt x="17" y="0"/>
                  </a:lnTo>
                  <a:lnTo>
                    <a:pt x="17" y="0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32"/>
                  </a:lnTo>
                  <a:lnTo>
                    <a:pt x="9" y="32"/>
                  </a:lnTo>
                  <a:lnTo>
                    <a:pt x="17" y="32"/>
                  </a:lnTo>
                  <a:lnTo>
                    <a:pt x="17" y="32"/>
                  </a:lnTo>
                  <a:lnTo>
                    <a:pt x="17" y="32"/>
                  </a:lnTo>
                  <a:lnTo>
                    <a:pt x="17" y="32"/>
                  </a:lnTo>
                  <a:lnTo>
                    <a:pt x="17" y="32"/>
                  </a:lnTo>
                  <a:lnTo>
                    <a:pt x="17" y="32"/>
                  </a:lnTo>
                  <a:lnTo>
                    <a:pt x="17" y="32"/>
                  </a:lnTo>
                  <a:lnTo>
                    <a:pt x="17" y="32"/>
                  </a:lnTo>
                  <a:lnTo>
                    <a:pt x="17" y="32"/>
                  </a:lnTo>
                  <a:lnTo>
                    <a:pt x="17" y="32"/>
                  </a:lnTo>
                  <a:lnTo>
                    <a:pt x="25" y="32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33" y="16"/>
                  </a:lnTo>
                  <a:lnTo>
                    <a:pt x="33" y="16"/>
                  </a:lnTo>
                  <a:lnTo>
                    <a:pt x="33" y="16"/>
                  </a:lnTo>
                  <a:lnTo>
                    <a:pt x="33" y="16"/>
                  </a:lnTo>
                  <a:lnTo>
                    <a:pt x="33" y="16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5083200" y="2646360"/>
              <a:ext cx="39600" cy="3816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17" y="0"/>
                  </a:move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5083200" y="2671920"/>
              <a:ext cx="39600" cy="3780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9" y="0"/>
                  </a:move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25" y="24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5070600" y="2697120"/>
              <a:ext cx="52200" cy="38160"/>
            </a:xfrm>
            <a:custGeom>
              <a:avLst/>
              <a:gdLst/>
              <a:ahLst/>
              <a:rect l="l" t="t" r="r" b="b"/>
              <a:pathLst>
                <a:path w="33" h="24">
                  <a:moveTo>
                    <a:pt x="17" y="0"/>
                  </a:moveTo>
                  <a:lnTo>
                    <a:pt x="17" y="0"/>
                  </a:lnTo>
                  <a:lnTo>
                    <a:pt x="17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33" y="16"/>
                  </a:lnTo>
                  <a:lnTo>
                    <a:pt x="33" y="16"/>
                  </a:lnTo>
                  <a:lnTo>
                    <a:pt x="33" y="16"/>
                  </a:lnTo>
                  <a:lnTo>
                    <a:pt x="33" y="16"/>
                  </a:lnTo>
                  <a:lnTo>
                    <a:pt x="33" y="16"/>
                  </a:lnTo>
                  <a:lnTo>
                    <a:pt x="33" y="8"/>
                  </a:lnTo>
                  <a:lnTo>
                    <a:pt x="33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5070600" y="2722680"/>
              <a:ext cx="39600" cy="50760"/>
            </a:xfrm>
            <a:custGeom>
              <a:avLst/>
              <a:gdLst/>
              <a:ahLst/>
              <a:rect l="l" t="t" r="r" b="b"/>
              <a:pathLst>
                <a:path w="25" h="32">
                  <a:moveTo>
                    <a:pt x="17" y="0"/>
                  </a:move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17" y="32"/>
                  </a:lnTo>
                  <a:lnTo>
                    <a:pt x="17" y="32"/>
                  </a:lnTo>
                  <a:lnTo>
                    <a:pt x="17" y="32"/>
                  </a:lnTo>
                  <a:lnTo>
                    <a:pt x="17" y="32"/>
                  </a:lnTo>
                  <a:lnTo>
                    <a:pt x="17" y="32"/>
                  </a:lnTo>
                  <a:lnTo>
                    <a:pt x="17" y="32"/>
                  </a:lnTo>
                  <a:lnTo>
                    <a:pt x="17" y="32"/>
                  </a:lnTo>
                  <a:lnTo>
                    <a:pt x="17" y="32"/>
                  </a:lnTo>
                  <a:lnTo>
                    <a:pt x="17" y="32"/>
                  </a:lnTo>
                  <a:lnTo>
                    <a:pt x="17" y="32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5070600" y="2760840"/>
              <a:ext cx="39600" cy="3780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25" y="24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5057640" y="2786040"/>
              <a:ext cx="52560" cy="38160"/>
            </a:xfrm>
            <a:custGeom>
              <a:avLst/>
              <a:gdLst/>
              <a:ahLst/>
              <a:rect l="l" t="t" r="r" b="b"/>
              <a:pathLst>
                <a:path w="33" h="24">
                  <a:moveTo>
                    <a:pt x="16" y="0"/>
                  </a:move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16"/>
                  </a:lnTo>
                  <a:lnTo>
                    <a:pt x="33" y="16"/>
                  </a:lnTo>
                  <a:lnTo>
                    <a:pt x="33" y="16"/>
                  </a:lnTo>
                  <a:lnTo>
                    <a:pt x="33" y="16"/>
                  </a:lnTo>
                  <a:lnTo>
                    <a:pt x="33" y="16"/>
                  </a:lnTo>
                  <a:lnTo>
                    <a:pt x="33" y="8"/>
                  </a:lnTo>
                  <a:lnTo>
                    <a:pt x="33" y="8"/>
                  </a:lnTo>
                  <a:lnTo>
                    <a:pt x="33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5057640" y="2811600"/>
              <a:ext cx="39960" cy="50760"/>
            </a:xfrm>
            <a:custGeom>
              <a:avLst/>
              <a:gdLst/>
              <a:ahLst/>
              <a:rect l="l" t="t" r="r" b="b"/>
              <a:pathLst>
                <a:path w="25" h="32">
                  <a:moveTo>
                    <a:pt x="16" y="0"/>
                  </a:move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5057640" y="2849400"/>
              <a:ext cx="39960" cy="3816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5070600" y="2874960"/>
              <a:ext cx="39600" cy="3816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17" y="0"/>
                  </a:moveTo>
                  <a:lnTo>
                    <a:pt x="17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5083200" y="2900520"/>
              <a:ext cx="52200" cy="37800"/>
            </a:xfrm>
            <a:custGeom>
              <a:avLst/>
              <a:gdLst/>
              <a:ahLst/>
              <a:rect l="l" t="t" r="r" b="b"/>
              <a:pathLst>
                <a:path w="33" h="24">
                  <a:moveTo>
                    <a:pt x="17" y="0"/>
                  </a:move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9" y="16"/>
                  </a:lnTo>
                  <a:lnTo>
                    <a:pt x="9" y="16"/>
                  </a:lnTo>
                  <a:lnTo>
                    <a:pt x="9" y="16"/>
                  </a:lnTo>
                  <a:lnTo>
                    <a:pt x="9" y="16"/>
                  </a:lnTo>
                  <a:lnTo>
                    <a:pt x="9" y="16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33" y="16"/>
                  </a:lnTo>
                  <a:lnTo>
                    <a:pt x="33" y="16"/>
                  </a:lnTo>
                  <a:lnTo>
                    <a:pt x="33" y="16"/>
                  </a:lnTo>
                  <a:lnTo>
                    <a:pt x="33" y="16"/>
                  </a:lnTo>
                  <a:lnTo>
                    <a:pt x="33" y="8"/>
                  </a:lnTo>
                  <a:lnTo>
                    <a:pt x="33" y="8"/>
                  </a:lnTo>
                  <a:lnTo>
                    <a:pt x="33" y="8"/>
                  </a:lnTo>
                  <a:lnTo>
                    <a:pt x="33" y="8"/>
                  </a:lnTo>
                  <a:lnTo>
                    <a:pt x="33" y="8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5110200" y="2913120"/>
              <a:ext cx="38160" cy="50760"/>
            </a:xfrm>
            <a:custGeom>
              <a:avLst/>
              <a:gdLst/>
              <a:ahLst/>
              <a:rect l="l" t="t" r="r" b="b"/>
              <a:pathLst>
                <a:path w="24" h="32">
                  <a:moveTo>
                    <a:pt x="16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5135400" y="293832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5148360" y="2963880"/>
              <a:ext cx="38160" cy="39600"/>
            </a:xfrm>
            <a:custGeom>
              <a:avLst/>
              <a:gdLst/>
              <a:ahLst/>
              <a:rect l="l" t="t" r="r" b="b"/>
              <a:pathLst>
                <a:path w="24" h="25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24" y="25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5160960" y="299088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5173560" y="3016080"/>
              <a:ext cx="38160" cy="51120"/>
            </a:xfrm>
            <a:custGeom>
              <a:avLst/>
              <a:gdLst/>
              <a:ahLst/>
              <a:rect l="l" t="t" r="r" b="b"/>
              <a:pathLst>
                <a:path w="24" h="32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5173560" y="3041640"/>
              <a:ext cx="50760" cy="50760"/>
            </a:xfrm>
            <a:custGeom>
              <a:avLst/>
              <a:gdLst/>
              <a:ahLst/>
              <a:rect l="l" t="t" r="r" b="b"/>
              <a:pathLst>
                <a:path w="32" h="32">
                  <a:moveTo>
                    <a:pt x="16" y="0"/>
                  </a:move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32" y="24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5186520" y="3067200"/>
              <a:ext cx="50760" cy="50760"/>
            </a:xfrm>
            <a:custGeom>
              <a:avLst/>
              <a:gdLst/>
              <a:ahLst/>
              <a:rect l="l" t="t" r="r" b="b"/>
              <a:pathLst>
                <a:path w="32" h="32">
                  <a:moveTo>
                    <a:pt x="16" y="0"/>
                  </a:moveTo>
                  <a:lnTo>
                    <a:pt x="16" y="0"/>
                  </a:lnTo>
                  <a:lnTo>
                    <a:pt x="16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24" y="32"/>
                  </a:lnTo>
                  <a:lnTo>
                    <a:pt x="24" y="32"/>
                  </a:lnTo>
                  <a:lnTo>
                    <a:pt x="24" y="32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32" y="24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5199120" y="3105000"/>
              <a:ext cx="50760" cy="3816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16" y="0"/>
                  </a:move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32" y="16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5211720" y="313056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6" y="0"/>
                  </a:move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5224320" y="3156120"/>
              <a:ext cx="38160" cy="378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6" y="0"/>
                  </a:move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5237280" y="3181320"/>
              <a:ext cx="50760" cy="3816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16" y="0"/>
                  </a:move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5262480" y="3206880"/>
              <a:ext cx="38160" cy="378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5275440" y="3232080"/>
              <a:ext cx="3780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5518080" y="300348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6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5543640" y="3016080"/>
              <a:ext cx="52200" cy="38160"/>
            </a:xfrm>
            <a:custGeom>
              <a:avLst/>
              <a:gdLst/>
              <a:ahLst/>
              <a:rect l="l" t="t" r="r" b="b"/>
              <a:pathLst>
                <a:path w="33" h="24">
                  <a:moveTo>
                    <a:pt x="16" y="0"/>
                  </a:move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33" y="8"/>
                  </a:lnTo>
                  <a:lnTo>
                    <a:pt x="33" y="8"/>
                  </a:lnTo>
                  <a:lnTo>
                    <a:pt x="33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5583240" y="301608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5608800" y="3016080"/>
              <a:ext cx="37800" cy="51120"/>
            </a:xfrm>
            <a:custGeom>
              <a:avLst/>
              <a:gdLst/>
              <a:ahLst/>
              <a:rect l="l" t="t" r="r" b="b"/>
              <a:pathLst>
                <a:path w="24" h="32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5634000" y="302904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6" y="0"/>
                  </a:move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5659560" y="3029040"/>
              <a:ext cx="50760" cy="3816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16" y="0"/>
                  </a:move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5697360" y="302904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5722920" y="3029040"/>
              <a:ext cx="38160" cy="50760"/>
            </a:xfrm>
            <a:custGeom>
              <a:avLst/>
              <a:gdLst/>
              <a:ahLst/>
              <a:rect l="l" t="t" r="r" b="b"/>
              <a:pathLst>
                <a:path w="24" h="32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5748480" y="3041640"/>
              <a:ext cx="50760" cy="3816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16" y="0"/>
                  </a:move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5773680" y="3041640"/>
              <a:ext cx="52560" cy="38160"/>
            </a:xfrm>
            <a:custGeom>
              <a:avLst/>
              <a:gdLst/>
              <a:ahLst/>
              <a:rect l="l" t="t" r="r" b="b"/>
              <a:pathLst>
                <a:path w="33" h="24">
                  <a:moveTo>
                    <a:pt x="16" y="0"/>
                  </a:move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33" y="16"/>
                  </a:lnTo>
                  <a:lnTo>
                    <a:pt x="33" y="16"/>
                  </a:lnTo>
                  <a:lnTo>
                    <a:pt x="33" y="16"/>
                  </a:lnTo>
                  <a:lnTo>
                    <a:pt x="33" y="16"/>
                  </a:lnTo>
                  <a:lnTo>
                    <a:pt x="33" y="8"/>
                  </a:lnTo>
                  <a:lnTo>
                    <a:pt x="33" y="8"/>
                  </a:lnTo>
                  <a:lnTo>
                    <a:pt x="33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5811840" y="3041640"/>
              <a:ext cx="39600" cy="3816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9" y="0"/>
                  </a:move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5838840" y="305424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5851440" y="307980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5864400" y="3092400"/>
              <a:ext cx="50760" cy="50760"/>
            </a:xfrm>
            <a:custGeom>
              <a:avLst/>
              <a:gdLst/>
              <a:ahLst/>
              <a:rect l="l" t="t" r="r" b="b"/>
              <a:pathLst>
                <a:path w="32" h="32">
                  <a:moveTo>
                    <a:pt x="16" y="0"/>
                  </a:move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5889600" y="311796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5902200" y="3117960"/>
              <a:ext cx="50760" cy="3816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16" y="0"/>
                  </a:move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5915160" y="3092400"/>
              <a:ext cx="50760" cy="3816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16" y="0"/>
                  </a:move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5940360" y="3067200"/>
              <a:ext cx="38160" cy="378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5952960" y="304164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6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5965920" y="301608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6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5978520" y="2990880"/>
              <a:ext cx="50760" cy="3816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16" y="0"/>
                  </a:move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6004080" y="2963880"/>
              <a:ext cx="37800" cy="39600"/>
            </a:xfrm>
            <a:custGeom>
              <a:avLst/>
              <a:gdLst/>
              <a:ahLst/>
              <a:rect l="l" t="t" r="r" b="b"/>
              <a:pathLst>
                <a:path w="24" h="25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24" y="25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6016680" y="293832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6041880" y="2925720"/>
              <a:ext cx="39960" cy="3816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17" y="8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6054840" y="2925720"/>
              <a:ext cx="52200" cy="38160"/>
            </a:xfrm>
            <a:custGeom>
              <a:avLst/>
              <a:gdLst/>
              <a:ahLst/>
              <a:rect l="l" t="t" r="r" b="b"/>
              <a:pathLst>
                <a:path w="33" h="24">
                  <a:moveTo>
                    <a:pt x="17" y="0"/>
                  </a:moveTo>
                  <a:lnTo>
                    <a:pt x="17" y="0"/>
                  </a:lnTo>
                  <a:lnTo>
                    <a:pt x="17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9" y="16"/>
                  </a:lnTo>
                  <a:lnTo>
                    <a:pt x="9" y="16"/>
                  </a:lnTo>
                  <a:lnTo>
                    <a:pt x="9" y="16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16"/>
                  </a:lnTo>
                  <a:lnTo>
                    <a:pt x="33" y="16"/>
                  </a:lnTo>
                  <a:lnTo>
                    <a:pt x="33" y="16"/>
                  </a:lnTo>
                  <a:lnTo>
                    <a:pt x="33" y="16"/>
                  </a:lnTo>
                  <a:lnTo>
                    <a:pt x="33" y="16"/>
                  </a:lnTo>
                  <a:lnTo>
                    <a:pt x="33" y="8"/>
                  </a:lnTo>
                  <a:lnTo>
                    <a:pt x="33" y="8"/>
                  </a:lnTo>
                  <a:lnTo>
                    <a:pt x="33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6068880" y="2900520"/>
              <a:ext cx="38160" cy="378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6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6054840" y="2874960"/>
              <a:ext cx="52200" cy="38160"/>
            </a:xfrm>
            <a:custGeom>
              <a:avLst/>
              <a:gdLst/>
              <a:ahLst/>
              <a:rect l="l" t="t" r="r" b="b"/>
              <a:pathLst>
                <a:path w="33" h="24">
                  <a:moveTo>
                    <a:pt x="17" y="0"/>
                  </a:moveTo>
                  <a:lnTo>
                    <a:pt x="17" y="0"/>
                  </a:lnTo>
                  <a:lnTo>
                    <a:pt x="17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9" y="16"/>
                  </a:lnTo>
                  <a:lnTo>
                    <a:pt x="9" y="16"/>
                  </a:lnTo>
                  <a:lnTo>
                    <a:pt x="9" y="16"/>
                  </a:lnTo>
                  <a:lnTo>
                    <a:pt x="9" y="16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33" y="16"/>
                  </a:lnTo>
                  <a:lnTo>
                    <a:pt x="33" y="16"/>
                  </a:lnTo>
                  <a:lnTo>
                    <a:pt x="33" y="8"/>
                  </a:lnTo>
                  <a:lnTo>
                    <a:pt x="33" y="8"/>
                  </a:lnTo>
                  <a:lnTo>
                    <a:pt x="33" y="8"/>
                  </a:lnTo>
                  <a:lnTo>
                    <a:pt x="33" y="8"/>
                  </a:lnTo>
                  <a:lnTo>
                    <a:pt x="33" y="8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6054840" y="2836800"/>
              <a:ext cx="39600" cy="50760"/>
            </a:xfrm>
            <a:custGeom>
              <a:avLst/>
              <a:gdLst/>
              <a:ahLst/>
              <a:rect l="l" t="t" r="r" b="b"/>
              <a:pathLst>
                <a:path w="25" h="32">
                  <a:moveTo>
                    <a:pt x="9" y="0"/>
                  </a:moveTo>
                  <a:lnTo>
                    <a:pt x="9" y="0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9" y="24"/>
                  </a:lnTo>
                  <a:lnTo>
                    <a:pt x="9" y="32"/>
                  </a:lnTo>
                  <a:lnTo>
                    <a:pt x="9" y="32"/>
                  </a:lnTo>
                  <a:lnTo>
                    <a:pt x="9" y="32"/>
                  </a:lnTo>
                  <a:lnTo>
                    <a:pt x="9" y="32"/>
                  </a:lnTo>
                  <a:lnTo>
                    <a:pt x="9" y="32"/>
                  </a:lnTo>
                  <a:lnTo>
                    <a:pt x="9" y="32"/>
                  </a:lnTo>
                  <a:lnTo>
                    <a:pt x="9" y="32"/>
                  </a:lnTo>
                  <a:lnTo>
                    <a:pt x="9" y="32"/>
                  </a:lnTo>
                  <a:lnTo>
                    <a:pt x="9" y="32"/>
                  </a:lnTo>
                  <a:lnTo>
                    <a:pt x="17" y="32"/>
                  </a:lnTo>
                  <a:lnTo>
                    <a:pt x="17" y="32"/>
                  </a:lnTo>
                  <a:lnTo>
                    <a:pt x="17" y="32"/>
                  </a:lnTo>
                  <a:lnTo>
                    <a:pt x="17" y="32"/>
                  </a:lnTo>
                  <a:lnTo>
                    <a:pt x="17" y="32"/>
                  </a:lnTo>
                  <a:lnTo>
                    <a:pt x="17" y="32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7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6068880" y="2811600"/>
              <a:ext cx="38160" cy="50760"/>
            </a:xfrm>
            <a:custGeom>
              <a:avLst/>
              <a:gdLst/>
              <a:ahLst/>
              <a:rect l="l" t="t" r="r" b="b"/>
              <a:pathLst>
                <a:path w="24" h="32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1" name=""/>
          <p:cNvGrpSpPr/>
          <p:nvPr/>
        </p:nvGrpSpPr>
        <p:grpSpPr>
          <a:xfrm>
            <a:off x="1492200" y="1306440"/>
            <a:ext cx="6378480" cy="4552920"/>
            <a:chOff x="1492200" y="1306440"/>
            <a:chExt cx="6378480" cy="4552920"/>
          </a:xfrm>
        </p:grpSpPr>
        <p:sp>
          <p:nvSpPr>
            <p:cNvPr id="1282" name=""/>
            <p:cNvSpPr/>
            <p:nvPr/>
          </p:nvSpPr>
          <p:spPr>
            <a:xfrm>
              <a:off x="6081840" y="2811600"/>
              <a:ext cx="50760" cy="3780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16" y="0"/>
                  </a:move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6094440" y="2773440"/>
              <a:ext cx="50760" cy="50760"/>
            </a:xfrm>
            <a:custGeom>
              <a:avLst/>
              <a:gdLst/>
              <a:ahLst/>
              <a:rect l="l" t="t" r="r" b="b"/>
              <a:pathLst>
                <a:path w="32" h="32">
                  <a:moveTo>
                    <a:pt x="16" y="0"/>
                  </a:moveTo>
                  <a:lnTo>
                    <a:pt x="16" y="0"/>
                  </a:lnTo>
                  <a:lnTo>
                    <a:pt x="16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24" y="32"/>
                  </a:lnTo>
                  <a:lnTo>
                    <a:pt x="24" y="32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32" y="24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6107040" y="2747880"/>
              <a:ext cx="38160" cy="50760"/>
            </a:xfrm>
            <a:custGeom>
              <a:avLst/>
              <a:gdLst/>
              <a:ahLst/>
              <a:rect l="l" t="t" r="r" b="b"/>
              <a:pathLst>
                <a:path w="24" h="32">
                  <a:moveTo>
                    <a:pt x="16" y="0"/>
                  </a:move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6132600" y="2747880"/>
              <a:ext cx="50760" cy="3816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16" y="0"/>
                  </a:move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6157800" y="2760840"/>
              <a:ext cx="50760" cy="3780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16" y="0"/>
                  </a:move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6183360" y="2760840"/>
              <a:ext cx="50760" cy="3780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16" y="0"/>
                  </a:move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6221520" y="2760840"/>
              <a:ext cx="38160" cy="378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6246720" y="274788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6259680" y="2722680"/>
              <a:ext cx="3780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6" y="0"/>
                  </a:move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6272280" y="2697120"/>
              <a:ext cx="39600" cy="3816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6297480" y="2684520"/>
              <a:ext cx="39960" cy="3816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9" y="0"/>
                  </a:move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25" y="24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6311880" y="2658960"/>
              <a:ext cx="38160" cy="50760"/>
            </a:xfrm>
            <a:custGeom>
              <a:avLst/>
              <a:gdLst/>
              <a:ahLst/>
              <a:rect l="l" t="t" r="r" b="b"/>
              <a:pathLst>
                <a:path w="24" h="32">
                  <a:moveTo>
                    <a:pt x="16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6311880" y="263376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6" y="0"/>
                  </a:move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6311880" y="2608200"/>
              <a:ext cx="50760" cy="3816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16" y="0"/>
                  </a:move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6311880" y="2581200"/>
              <a:ext cx="38160" cy="39600"/>
            </a:xfrm>
            <a:custGeom>
              <a:avLst/>
              <a:gdLst/>
              <a:ahLst/>
              <a:rect l="l" t="t" r="r" b="b"/>
              <a:pathLst>
                <a:path w="24" h="25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17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6297480" y="2556000"/>
              <a:ext cx="39960" cy="3780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9" y="0"/>
                  </a:move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6297480" y="2517840"/>
              <a:ext cx="39960" cy="50760"/>
            </a:xfrm>
            <a:custGeom>
              <a:avLst/>
              <a:gdLst/>
              <a:ahLst/>
              <a:rect l="l" t="t" r="r" b="b"/>
              <a:pathLst>
                <a:path w="25" h="32">
                  <a:moveTo>
                    <a:pt x="9" y="0"/>
                  </a:move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32"/>
                  </a:lnTo>
                  <a:lnTo>
                    <a:pt x="9" y="32"/>
                  </a:lnTo>
                  <a:lnTo>
                    <a:pt x="9" y="32"/>
                  </a:lnTo>
                  <a:lnTo>
                    <a:pt x="9" y="32"/>
                  </a:lnTo>
                  <a:lnTo>
                    <a:pt x="9" y="32"/>
                  </a:lnTo>
                  <a:lnTo>
                    <a:pt x="9" y="32"/>
                  </a:lnTo>
                  <a:lnTo>
                    <a:pt x="17" y="32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6297480" y="2492280"/>
              <a:ext cx="39960" cy="3816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9" y="0"/>
                  </a:move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6297480" y="2467080"/>
              <a:ext cx="39960" cy="3816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9" y="0"/>
                  </a:move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6311880" y="244152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6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6324480" y="2416320"/>
              <a:ext cx="38160" cy="378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6337440" y="2390760"/>
              <a:ext cx="3780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6350040" y="236520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6362640" y="234000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6362640" y="2301840"/>
              <a:ext cx="38160" cy="50760"/>
            </a:xfrm>
            <a:custGeom>
              <a:avLst/>
              <a:gdLst/>
              <a:ahLst/>
              <a:rect l="l" t="t" r="r" b="b"/>
              <a:pathLst>
                <a:path w="24" h="32">
                  <a:moveTo>
                    <a:pt x="16" y="0"/>
                  </a:move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6362640" y="2276640"/>
              <a:ext cx="50760" cy="3780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16" y="0"/>
                  </a:move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6375240" y="225108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6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6375240" y="222552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6" y="0"/>
                  </a:move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6375240" y="2185920"/>
              <a:ext cx="51120" cy="52560"/>
            </a:xfrm>
            <a:custGeom>
              <a:avLst/>
              <a:gdLst/>
              <a:ahLst/>
              <a:rect l="l" t="t" r="r" b="b"/>
              <a:pathLst>
                <a:path w="32" h="33">
                  <a:moveTo>
                    <a:pt x="16" y="0"/>
                  </a:moveTo>
                  <a:lnTo>
                    <a:pt x="16" y="0"/>
                  </a:lnTo>
                  <a:lnTo>
                    <a:pt x="16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33"/>
                  </a:lnTo>
                  <a:lnTo>
                    <a:pt x="8" y="33"/>
                  </a:lnTo>
                  <a:lnTo>
                    <a:pt x="16" y="33"/>
                  </a:lnTo>
                  <a:lnTo>
                    <a:pt x="16" y="33"/>
                  </a:lnTo>
                  <a:lnTo>
                    <a:pt x="16" y="33"/>
                  </a:lnTo>
                  <a:lnTo>
                    <a:pt x="16" y="33"/>
                  </a:lnTo>
                  <a:lnTo>
                    <a:pt x="16" y="33"/>
                  </a:lnTo>
                  <a:lnTo>
                    <a:pt x="16" y="33"/>
                  </a:lnTo>
                  <a:lnTo>
                    <a:pt x="16" y="33"/>
                  </a:lnTo>
                  <a:lnTo>
                    <a:pt x="16" y="33"/>
                  </a:lnTo>
                  <a:lnTo>
                    <a:pt x="16" y="33"/>
                  </a:lnTo>
                  <a:lnTo>
                    <a:pt x="16" y="33"/>
                  </a:lnTo>
                  <a:lnTo>
                    <a:pt x="24" y="33"/>
                  </a:lnTo>
                  <a:lnTo>
                    <a:pt x="24" y="33"/>
                  </a:lnTo>
                  <a:lnTo>
                    <a:pt x="24" y="33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32" y="25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6388200" y="2160720"/>
              <a:ext cx="38160" cy="378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6388200" y="213516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6" y="0"/>
                  </a:move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6400800" y="2109960"/>
              <a:ext cx="38160" cy="378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6400800" y="208440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6" y="0"/>
                  </a:move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6400800" y="2046240"/>
              <a:ext cx="50760" cy="50760"/>
            </a:xfrm>
            <a:custGeom>
              <a:avLst/>
              <a:gdLst/>
              <a:ahLst/>
              <a:rect l="l" t="t" r="r" b="b"/>
              <a:pathLst>
                <a:path w="32" h="32">
                  <a:moveTo>
                    <a:pt x="16" y="0"/>
                  </a:move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32" y="24"/>
                  </a:lnTo>
                  <a:lnTo>
                    <a:pt x="32" y="24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7192800" y="4138560"/>
              <a:ext cx="51120" cy="3816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16" y="0"/>
                  </a:move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7180200" y="415116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7155000" y="4164120"/>
              <a:ext cx="37800" cy="50760"/>
            </a:xfrm>
            <a:custGeom>
              <a:avLst/>
              <a:gdLst/>
              <a:ahLst/>
              <a:rect l="l" t="t" r="r" b="b"/>
              <a:pathLst>
                <a:path w="24" h="32">
                  <a:moveTo>
                    <a:pt x="16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7129440" y="418932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6" y="0"/>
                  </a:move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7104240" y="4202280"/>
              <a:ext cx="50760" cy="3780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16" y="0"/>
                  </a:move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7078680" y="4227480"/>
              <a:ext cx="50760" cy="3816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16" y="0"/>
                  </a:move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7066080" y="424008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7040520" y="4253040"/>
              <a:ext cx="38160" cy="378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7013520" y="4265640"/>
              <a:ext cx="39600" cy="50760"/>
            </a:xfrm>
            <a:custGeom>
              <a:avLst/>
              <a:gdLst/>
              <a:ahLst/>
              <a:rect l="l" t="t" r="r" b="b"/>
              <a:pathLst>
                <a:path w="25" h="32">
                  <a:moveTo>
                    <a:pt x="8" y="0"/>
                  </a:move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17" y="32"/>
                  </a:lnTo>
                  <a:lnTo>
                    <a:pt x="17" y="32"/>
                  </a:lnTo>
                  <a:lnTo>
                    <a:pt x="17" y="32"/>
                  </a:lnTo>
                  <a:lnTo>
                    <a:pt x="17" y="32"/>
                  </a:lnTo>
                  <a:lnTo>
                    <a:pt x="17" y="32"/>
                  </a:lnTo>
                  <a:lnTo>
                    <a:pt x="17" y="32"/>
                  </a:lnTo>
                  <a:lnTo>
                    <a:pt x="17" y="32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7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6988320" y="4290840"/>
              <a:ext cx="3780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6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6962760" y="4290840"/>
              <a:ext cx="38160" cy="51120"/>
            </a:xfrm>
            <a:custGeom>
              <a:avLst/>
              <a:gdLst/>
              <a:ahLst/>
              <a:rect l="l" t="t" r="r" b="b"/>
              <a:pathLst>
                <a:path w="24" h="32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6924600" y="4303800"/>
              <a:ext cx="50760" cy="3816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16" y="0"/>
                  </a:move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6899400" y="4316400"/>
              <a:ext cx="50760" cy="3816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16" y="0"/>
                  </a:move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6873840" y="4316400"/>
              <a:ext cx="38160" cy="50760"/>
            </a:xfrm>
            <a:custGeom>
              <a:avLst/>
              <a:gdLst/>
              <a:ahLst/>
              <a:rect l="l" t="t" r="r" b="b"/>
              <a:pathLst>
                <a:path w="24" h="32">
                  <a:moveTo>
                    <a:pt x="16" y="0"/>
                  </a:moveTo>
                  <a:lnTo>
                    <a:pt x="16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24" y="32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6848640" y="4329000"/>
              <a:ext cx="3780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6823080" y="432900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6797520" y="4341960"/>
              <a:ext cx="38160" cy="378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6783480" y="4367160"/>
              <a:ext cx="39600" cy="3816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9" y="0"/>
                  </a:move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16"/>
                  </a:lnTo>
                  <a:lnTo>
                    <a:pt x="17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6783480" y="4392720"/>
              <a:ext cx="39600" cy="3816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17" y="0"/>
                  </a:move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6783480" y="4417920"/>
              <a:ext cx="39600" cy="3816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9" y="0"/>
                  </a:move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6770520" y="4443480"/>
              <a:ext cx="39960" cy="3816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6757920" y="4468680"/>
              <a:ext cx="39600" cy="3996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25" y="25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6745320" y="4494240"/>
              <a:ext cx="38160" cy="39600"/>
            </a:xfrm>
            <a:custGeom>
              <a:avLst/>
              <a:gdLst/>
              <a:ahLst/>
              <a:rect l="l" t="t" r="r" b="b"/>
              <a:pathLst>
                <a:path w="24" h="25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9"/>
                  </a:lnTo>
                  <a:lnTo>
                    <a:pt x="24" y="9"/>
                  </a:lnTo>
                  <a:lnTo>
                    <a:pt x="24" y="9"/>
                  </a:lnTo>
                  <a:lnTo>
                    <a:pt x="24" y="9"/>
                  </a:lnTo>
                  <a:lnTo>
                    <a:pt x="24" y="9"/>
                  </a:lnTo>
                  <a:lnTo>
                    <a:pt x="24" y="9"/>
                  </a:lnTo>
                  <a:lnTo>
                    <a:pt x="24" y="9"/>
                  </a:lnTo>
                  <a:lnTo>
                    <a:pt x="24" y="9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6732720" y="4521240"/>
              <a:ext cx="37800" cy="50760"/>
            </a:xfrm>
            <a:custGeom>
              <a:avLst/>
              <a:gdLst/>
              <a:ahLst/>
              <a:rect l="l" t="t" r="r" b="b"/>
              <a:pathLst>
                <a:path w="24" h="32">
                  <a:moveTo>
                    <a:pt x="16" y="0"/>
                  </a:move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6732720" y="4546440"/>
              <a:ext cx="37800" cy="51120"/>
            </a:xfrm>
            <a:custGeom>
              <a:avLst/>
              <a:gdLst/>
              <a:ahLst/>
              <a:rect l="l" t="t" r="r" b="b"/>
              <a:pathLst>
                <a:path w="24" h="32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6707160" y="4572000"/>
              <a:ext cx="38160" cy="50760"/>
            </a:xfrm>
            <a:custGeom>
              <a:avLst/>
              <a:gdLst/>
              <a:ahLst/>
              <a:rect l="l" t="t" r="r" b="b"/>
              <a:pathLst>
                <a:path w="24" h="32">
                  <a:moveTo>
                    <a:pt x="16" y="0"/>
                  </a:move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6694560" y="4597560"/>
              <a:ext cx="50760" cy="50760"/>
            </a:xfrm>
            <a:custGeom>
              <a:avLst/>
              <a:gdLst/>
              <a:ahLst/>
              <a:rect l="l" t="t" r="r" b="b"/>
              <a:pathLst>
                <a:path w="32" h="32">
                  <a:moveTo>
                    <a:pt x="16" y="0"/>
                  </a:moveTo>
                  <a:lnTo>
                    <a:pt x="16" y="0"/>
                  </a:lnTo>
                  <a:lnTo>
                    <a:pt x="16" y="0"/>
                  </a:lnTo>
                  <a:lnTo>
                    <a:pt x="16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24" y="32"/>
                  </a:lnTo>
                  <a:lnTo>
                    <a:pt x="24" y="32"/>
                  </a:lnTo>
                  <a:lnTo>
                    <a:pt x="24" y="32"/>
                  </a:lnTo>
                  <a:lnTo>
                    <a:pt x="24" y="32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32" y="24"/>
                  </a:lnTo>
                  <a:lnTo>
                    <a:pt x="32" y="24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6694560" y="4635360"/>
              <a:ext cx="50760" cy="3816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16" y="0"/>
                  </a:move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6694560" y="4660920"/>
              <a:ext cx="50760" cy="3816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16" y="0"/>
                  </a:move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6694560" y="4686480"/>
              <a:ext cx="50760" cy="50760"/>
            </a:xfrm>
            <a:custGeom>
              <a:avLst/>
              <a:gdLst/>
              <a:ahLst/>
              <a:rect l="l" t="t" r="r" b="b"/>
              <a:pathLst>
                <a:path w="32" h="32">
                  <a:moveTo>
                    <a:pt x="16" y="0"/>
                  </a:move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6707160" y="4711680"/>
              <a:ext cx="38160" cy="50760"/>
            </a:xfrm>
            <a:custGeom>
              <a:avLst/>
              <a:gdLst/>
              <a:ahLst/>
              <a:rect l="l" t="t" r="r" b="b"/>
              <a:pathLst>
                <a:path w="24" h="32">
                  <a:moveTo>
                    <a:pt x="16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6707160" y="4737240"/>
              <a:ext cx="50760" cy="50760"/>
            </a:xfrm>
            <a:custGeom>
              <a:avLst/>
              <a:gdLst/>
              <a:ahLst/>
              <a:rect l="l" t="t" r="r" b="b"/>
              <a:pathLst>
                <a:path w="32" h="32">
                  <a:moveTo>
                    <a:pt x="16" y="0"/>
                  </a:moveTo>
                  <a:lnTo>
                    <a:pt x="16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24" y="32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32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6707160" y="477504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6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6707160" y="480060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6707160" y="4826160"/>
              <a:ext cx="38160" cy="50760"/>
            </a:xfrm>
            <a:custGeom>
              <a:avLst/>
              <a:gdLst/>
              <a:ahLst/>
              <a:rect l="l" t="t" r="r" b="b"/>
              <a:pathLst>
                <a:path w="24" h="32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6707160" y="4863960"/>
              <a:ext cx="38160" cy="39960"/>
            </a:xfrm>
            <a:custGeom>
              <a:avLst/>
              <a:gdLst/>
              <a:ahLst/>
              <a:rect l="l" t="t" r="r" b="b"/>
              <a:pathLst>
                <a:path w="24" h="25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17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6719760" y="489096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6732720" y="4916520"/>
              <a:ext cx="3780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6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6745320" y="4929120"/>
              <a:ext cx="38160" cy="50760"/>
            </a:xfrm>
            <a:custGeom>
              <a:avLst/>
              <a:gdLst/>
              <a:ahLst/>
              <a:rect l="l" t="t" r="r" b="b"/>
              <a:pathLst>
                <a:path w="24" h="32">
                  <a:moveTo>
                    <a:pt x="16" y="0"/>
                  </a:moveTo>
                  <a:lnTo>
                    <a:pt x="16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6757920" y="4954680"/>
              <a:ext cx="52560" cy="50760"/>
            </a:xfrm>
            <a:custGeom>
              <a:avLst/>
              <a:gdLst/>
              <a:ahLst/>
              <a:rect l="l" t="t" r="r" b="b"/>
              <a:pathLst>
                <a:path w="33" h="32">
                  <a:moveTo>
                    <a:pt x="16" y="0"/>
                  </a:move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25" y="32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33" y="24"/>
                  </a:lnTo>
                  <a:lnTo>
                    <a:pt x="33" y="16"/>
                  </a:lnTo>
                  <a:lnTo>
                    <a:pt x="33" y="16"/>
                  </a:lnTo>
                  <a:lnTo>
                    <a:pt x="33" y="16"/>
                  </a:lnTo>
                  <a:lnTo>
                    <a:pt x="33" y="16"/>
                  </a:lnTo>
                  <a:lnTo>
                    <a:pt x="33" y="16"/>
                  </a:lnTo>
                  <a:lnTo>
                    <a:pt x="33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6783480" y="4979880"/>
              <a:ext cx="39600" cy="50760"/>
            </a:xfrm>
            <a:custGeom>
              <a:avLst/>
              <a:gdLst/>
              <a:ahLst/>
              <a:rect l="l" t="t" r="r" b="b"/>
              <a:pathLst>
                <a:path w="25" h="32">
                  <a:moveTo>
                    <a:pt x="9" y="0"/>
                  </a:moveTo>
                  <a:lnTo>
                    <a:pt x="9" y="0"/>
                  </a:lnTo>
                  <a:lnTo>
                    <a:pt x="9" y="0"/>
                  </a:lnTo>
                  <a:lnTo>
                    <a:pt x="9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9" y="32"/>
                  </a:lnTo>
                  <a:lnTo>
                    <a:pt x="9" y="32"/>
                  </a:lnTo>
                  <a:lnTo>
                    <a:pt x="9" y="32"/>
                  </a:lnTo>
                  <a:lnTo>
                    <a:pt x="9" y="32"/>
                  </a:lnTo>
                  <a:lnTo>
                    <a:pt x="9" y="32"/>
                  </a:lnTo>
                  <a:lnTo>
                    <a:pt x="9" y="32"/>
                  </a:lnTo>
                  <a:lnTo>
                    <a:pt x="9" y="32"/>
                  </a:lnTo>
                  <a:lnTo>
                    <a:pt x="9" y="32"/>
                  </a:lnTo>
                  <a:lnTo>
                    <a:pt x="9" y="32"/>
                  </a:lnTo>
                  <a:lnTo>
                    <a:pt x="9" y="32"/>
                  </a:lnTo>
                  <a:lnTo>
                    <a:pt x="17" y="32"/>
                  </a:lnTo>
                  <a:lnTo>
                    <a:pt x="17" y="32"/>
                  </a:lnTo>
                  <a:lnTo>
                    <a:pt x="17" y="32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7" y="0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6783480" y="5018040"/>
              <a:ext cx="39600" cy="3816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17" y="0"/>
                  </a:move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9" y="16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25" y="24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6783480" y="5043600"/>
              <a:ext cx="52200" cy="38160"/>
            </a:xfrm>
            <a:custGeom>
              <a:avLst/>
              <a:gdLst/>
              <a:ahLst/>
              <a:rect l="l" t="t" r="r" b="b"/>
              <a:pathLst>
                <a:path w="33" h="24">
                  <a:moveTo>
                    <a:pt x="17" y="0"/>
                  </a:moveTo>
                  <a:lnTo>
                    <a:pt x="17" y="0"/>
                  </a:lnTo>
                  <a:lnTo>
                    <a:pt x="17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9" y="16"/>
                  </a:lnTo>
                  <a:lnTo>
                    <a:pt x="9" y="16"/>
                  </a:lnTo>
                  <a:lnTo>
                    <a:pt x="9" y="16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33" y="16"/>
                  </a:lnTo>
                  <a:lnTo>
                    <a:pt x="33" y="16"/>
                  </a:lnTo>
                  <a:lnTo>
                    <a:pt x="33" y="16"/>
                  </a:lnTo>
                  <a:lnTo>
                    <a:pt x="33" y="8"/>
                  </a:lnTo>
                  <a:lnTo>
                    <a:pt x="33" y="8"/>
                  </a:lnTo>
                  <a:lnTo>
                    <a:pt x="33" y="8"/>
                  </a:lnTo>
                  <a:lnTo>
                    <a:pt x="33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6783480" y="5068800"/>
              <a:ext cx="39600" cy="3816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17" y="0"/>
                  </a:moveTo>
                  <a:lnTo>
                    <a:pt x="17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6783480" y="5094360"/>
              <a:ext cx="39600" cy="50760"/>
            </a:xfrm>
            <a:custGeom>
              <a:avLst/>
              <a:gdLst/>
              <a:ahLst/>
              <a:rect l="l" t="t" r="r" b="b"/>
              <a:pathLst>
                <a:path w="25" h="32">
                  <a:moveTo>
                    <a:pt x="9" y="0"/>
                  </a:moveTo>
                  <a:lnTo>
                    <a:pt x="9" y="0"/>
                  </a:lnTo>
                  <a:lnTo>
                    <a:pt x="9" y="0"/>
                  </a:lnTo>
                  <a:lnTo>
                    <a:pt x="9" y="8"/>
                  </a:lnTo>
                  <a:lnTo>
                    <a:pt x="9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9" y="24"/>
                  </a:lnTo>
                  <a:lnTo>
                    <a:pt x="9" y="32"/>
                  </a:lnTo>
                  <a:lnTo>
                    <a:pt x="9" y="32"/>
                  </a:lnTo>
                  <a:lnTo>
                    <a:pt x="9" y="32"/>
                  </a:lnTo>
                  <a:lnTo>
                    <a:pt x="9" y="32"/>
                  </a:lnTo>
                  <a:lnTo>
                    <a:pt x="9" y="32"/>
                  </a:lnTo>
                  <a:lnTo>
                    <a:pt x="9" y="32"/>
                  </a:lnTo>
                  <a:lnTo>
                    <a:pt x="9" y="32"/>
                  </a:lnTo>
                  <a:lnTo>
                    <a:pt x="9" y="32"/>
                  </a:lnTo>
                  <a:lnTo>
                    <a:pt x="9" y="32"/>
                  </a:lnTo>
                  <a:lnTo>
                    <a:pt x="17" y="32"/>
                  </a:lnTo>
                  <a:lnTo>
                    <a:pt x="17" y="32"/>
                  </a:lnTo>
                  <a:lnTo>
                    <a:pt x="17" y="32"/>
                  </a:lnTo>
                  <a:lnTo>
                    <a:pt x="17" y="32"/>
                  </a:lnTo>
                  <a:lnTo>
                    <a:pt x="17" y="32"/>
                  </a:lnTo>
                  <a:lnTo>
                    <a:pt x="17" y="32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6770520" y="5132520"/>
              <a:ext cx="52560" cy="37800"/>
            </a:xfrm>
            <a:custGeom>
              <a:avLst/>
              <a:gdLst/>
              <a:ahLst/>
              <a:rect l="l" t="t" r="r" b="b"/>
              <a:pathLst>
                <a:path w="33" h="24">
                  <a:moveTo>
                    <a:pt x="17" y="0"/>
                  </a:moveTo>
                  <a:lnTo>
                    <a:pt x="17" y="0"/>
                  </a:lnTo>
                  <a:lnTo>
                    <a:pt x="17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33" y="16"/>
                  </a:lnTo>
                  <a:lnTo>
                    <a:pt x="33" y="16"/>
                  </a:lnTo>
                  <a:lnTo>
                    <a:pt x="33" y="8"/>
                  </a:lnTo>
                  <a:lnTo>
                    <a:pt x="33" y="8"/>
                  </a:lnTo>
                  <a:lnTo>
                    <a:pt x="33" y="8"/>
                  </a:lnTo>
                  <a:lnTo>
                    <a:pt x="33" y="8"/>
                  </a:lnTo>
                  <a:lnTo>
                    <a:pt x="33" y="8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6783480" y="5157720"/>
              <a:ext cx="39600" cy="3816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9" y="0"/>
                  </a:move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6797520" y="518328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6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6810480" y="5208480"/>
              <a:ext cx="50760" cy="3816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16" y="0"/>
                  </a:move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32" y="16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6835680" y="5221440"/>
              <a:ext cx="38160" cy="52200"/>
            </a:xfrm>
            <a:custGeom>
              <a:avLst/>
              <a:gdLst/>
              <a:ahLst/>
              <a:rect l="l" t="t" r="r" b="b"/>
              <a:pathLst>
                <a:path w="24" h="33">
                  <a:moveTo>
                    <a:pt x="8" y="0"/>
                  </a:move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33"/>
                  </a:lnTo>
                  <a:lnTo>
                    <a:pt x="8" y="33"/>
                  </a:lnTo>
                  <a:lnTo>
                    <a:pt x="8" y="33"/>
                  </a:lnTo>
                  <a:lnTo>
                    <a:pt x="8" y="33"/>
                  </a:lnTo>
                  <a:lnTo>
                    <a:pt x="8" y="33"/>
                  </a:lnTo>
                  <a:lnTo>
                    <a:pt x="8" y="33"/>
                  </a:lnTo>
                  <a:lnTo>
                    <a:pt x="8" y="33"/>
                  </a:lnTo>
                  <a:lnTo>
                    <a:pt x="8" y="33"/>
                  </a:lnTo>
                  <a:lnTo>
                    <a:pt x="8" y="33"/>
                  </a:lnTo>
                  <a:lnTo>
                    <a:pt x="8" y="33"/>
                  </a:lnTo>
                  <a:lnTo>
                    <a:pt x="8" y="33"/>
                  </a:lnTo>
                  <a:lnTo>
                    <a:pt x="16" y="33"/>
                  </a:lnTo>
                  <a:lnTo>
                    <a:pt x="16" y="33"/>
                  </a:lnTo>
                  <a:lnTo>
                    <a:pt x="16" y="33"/>
                  </a:lnTo>
                  <a:lnTo>
                    <a:pt x="16" y="33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6848640" y="5246640"/>
              <a:ext cx="37800" cy="52560"/>
            </a:xfrm>
            <a:custGeom>
              <a:avLst/>
              <a:gdLst/>
              <a:ahLst/>
              <a:rect l="l" t="t" r="r" b="b"/>
              <a:pathLst>
                <a:path w="24" h="33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33"/>
                  </a:lnTo>
                  <a:lnTo>
                    <a:pt x="8" y="33"/>
                  </a:lnTo>
                  <a:lnTo>
                    <a:pt x="8" y="33"/>
                  </a:lnTo>
                  <a:lnTo>
                    <a:pt x="8" y="33"/>
                  </a:lnTo>
                  <a:lnTo>
                    <a:pt x="8" y="33"/>
                  </a:lnTo>
                  <a:lnTo>
                    <a:pt x="8" y="33"/>
                  </a:lnTo>
                  <a:lnTo>
                    <a:pt x="8" y="33"/>
                  </a:lnTo>
                  <a:lnTo>
                    <a:pt x="8" y="33"/>
                  </a:lnTo>
                  <a:lnTo>
                    <a:pt x="16" y="33"/>
                  </a:lnTo>
                  <a:lnTo>
                    <a:pt x="16" y="33"/>
                  </a:lnTo>
                  <a:lnTo>
                    <a:pt x="16" y="33"/>
                  </a:lnTo>
                  <a:lnTo>
                    <a:pt x="16" y="33"/>
                  </a:lnTo>
                  <a:lnTo>
                    <a:pt x="16" y="33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6861240" y="5273640"/>
              <a:ext cx="50760" cy="3816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16" y="0"/>
                  </a:move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6886440" y="5299200"/>
              <a:ext cx="38160" cy="378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6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6899400" y="5324400"/>
              <a:ext cx="3780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6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6899400" y="5349960"/>
              <a:ext cx="50760" cy="3816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16" y="0"/>
                  </a:move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4662360" y="5641920"/>
              <a:ext cx="38160" cy="52560"/>
            </a:xfrm>
            <a:custGeom>
              <a:avLst/>
              <a:gdLst/>
              <a:ahLst/>
              <a:rect l="l" t="t" r="r" b="b"/>
              <a:pathLst>
                <a:path w="24" h="33">
                  <a:moveTo>
                    <a:pt x="16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9"/>
                  </a:lnTo>
                  <a:lnTo>
                    <a:pt x="8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33"/>
                  </a:lnTo>
                  <a:lnTo>
                    <a:pt x="8" y="33"/>
                  </a:lnTo>
                  <a:lnTo>
                    <a:pt x="8" y="33"/>
                  </a:lnTo>
                  <a:lnTo>
                    <a:pt x="8" y="33"/>
                  </a:lnTo>
                  <a:lnTo>
                    <a:pt x="8" y="33"/>
                  </a:lnTo>
                  <a:lnTo>
                    <a:pt x="16" y="33"/>
                  </a:lnTo>
                  <a:lnTo>
                    <a:pt x="16" y="33"/>
                  </a:lnTo>
                  <a:lnTo>
                    <a:pt x="16" y="33"/>
                  </a:lnTo>
                  <a:lnTo>
                    <a:pt x="16" y="33"/>
                  </a:lnTo>
                  <a:lnTo>
                    <a:pt x="16" y="33"/>
                  </a:lnTo>
                  <a:lnTo>
                    <a:pt x="16" y="33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9"/>
                  </a:lnTo>
                  <a:lnTo>
                    <a:pt x="24" y="9"/>
                  </a:lnTo>
                  <a:lnTo>
                    <a:pt x="24" y="9"/>
                  </a:lnTo>
                  <a:lnTo>
                    <a:pt x="24" y="9"/>
                  </a:lnTo>
                  <a:lnTo>
                    <a:pt x="24" y="9"/>
                  </a:lnTo>
                  <a:lnTo>
                    <a:pt x="24" y="9"/>
                  </a:lnTo>
                  <a:lnTo>
                    <a:pt x="24" y="9"/>
                  </a:lnTo>
                  <a:lnTo>
                    <a:pt x="24" y="9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4649760" y="5616720"/>
              <a:ext cx="50760" cy="3960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16" y="0"/>
                  </a:move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32" y="25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4649760" y="559116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6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4649760" y="556560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4637160" y="5527800"/>
              <a:ext cx="38160" cy="50760"/>
            </a:xfrm>
            <a:custGeom>
              <a:avLst/>
              <a:gdLst/>
              <a:ahLst/>
              <a:rect l="l" t="t" r="r" b="b"/>
              <a:pathLst>
                <a:path w="24" h="32">
                  <a:moveTo>
                    <a:pt x="16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4637160" y="550224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4624560" y="5477040"/>
              <a:ext cx="37800" cy="378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6" y="0"/>
                  </a:move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4624560" y="5451480"/>
              <a:ext cx="3780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4611600" y="542592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6" y="0"/>
                  </a:move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4611600" y="5388120"/>
              <a:ext cx="38160" cy="378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4597560" y="5362560"/>
              <a:ext cx="52200" cy="38160"/>
            </a:xfrm>
            <a:custGeom>
              <a:avLst/>
              <a:gdLst/>
              <a:ahLst/>
              <a:rect l="l" t="t" r="r" b="b"/>
              <a:pathLst>
                <a:path w="33" h="24">
                  <a:moveTo>
                    <a:pt x="17" y="0"/>
                  </a:moveTo>
                  <a:lnTo>
                    <a:pt x="17" y="0"/>
                  </a:lnTo>
                  <a:lnTo>
                    <a:pt x="17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8"/>
                  </a:lnTo>
                  <a:lnTo>
                    <a:pt x="9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9" y="16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33" y="16"/>
                  </a:lnTo>
                  <a:lnTo>
                    <a:pt x="33" y="16"/>
                  </a:lnTo>
                  <a:lnTo>
                    <a:pt x="33" y="16"/>
                  </a:lnTo>
                  <a:lnTo>
                    <a:pt x="33" y="8"/>
                  </a:lnTo>
                  <a:lnTo>
                    <a:pt x="33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4597560" y="5337000"/>
              <a:ext cx="39600" cy="3816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17" y="0"/>
                  </a:move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4584600" y="5299200"/>
              <a:ext cx="52560" cy="50760"/>
            </a:xfrm>
            <a:custGeom>
              <a:avLst/>
              <a:gdLst/>
              <a:ahLst/>
              <a:rect l="l" t="t" r="r" b="b"/>
              <a:pathLst>
                <a:path w="33" h="32">
                  <a:moveTo>
                    <a:pt x="17" y="0"/>
                  </a:moveTo>
                  <a:lnTo>
                    <a:pt x="17" y="0"/>
                  </a:lnTo>
                  <a:lnTo>
                    <a:pt x="17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32"/>
                  </a:lnTo>
                  <a:lnTo>
                    <a:pt x="17" y="32"/>
                  </a:lnTo>
                  <a:lnTo>
                    <a:pt x="17" y="32"/>
                  </a:lnTo>
                  <a:lnTo>
                    <a:pt x="17" y="32"/>
                  </a:lnTo>
                  <a:lnTo>
                    <a:pt x="17" y="32"/>
                  </a:lnTo>
                  <a:lnTo>
                    <a:pt x="17" y="32"/>
                  </a:lnTo>
                  <a:lnTo>
                    <a:pt x="17" y="32"/>
                  </a:lnTo>
                  <a:lnTo>
                    <a:pt x="17" y="32"/>
                  </a:lnTo>
                  <a:lnTo>
                    <a:pt x="17" y="32"/>
                  </a:lnTo>
                  <a:lnTo>
                    <a:pt x="17" y="32"/>
                  </a:lnTo>
                  <a:lnTo>
                    <a:pt x="25" y="32"/>
                  </a:lnTo>
                  <a:lnTo>
                    <a:pt x="25" y="32"/>
                  </a:lnTo>
                  <a:lnTo>
                    <a:pt x="25" y="32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33" y="24"/>
                  </a:lnTo>
                  <a:lnTo>
                    <a:pt x="33" y="24"/>
                  </a:lnTo>
                  <a:lnTo>
                    <a:pt x="33" y="16"/>
                  </a:lnTo>
                  <a:lnTo>
                    <a:pt x="33" y="16"/>
                  </a:lnTo>
                  <a:lnTo>
                    <a:pt x="33" y="16"/>
                  </a:lnTo>
                  <a:lnTo>
                    <a:pt x="33" y="16"/>
                  </a:lnTo>
                  <a:lnTo>
                    <a:pt x="33" y="16"/>
                  </a:lnTo>
                  <a:lnTo>
                    <a:pt x="33" y="8"/>
                  </a:lnTo>
                  <a:lnTo>
                    <a:pt x="33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4584600" y="5273640"/>
              <a:ext cx="39960" cy="3816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17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4572000" y="5246640"/>
              <a:ext cx="52560" cy="3960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16" y="0"/>
                  </a:move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8" y="17"/>
                  </a:lnTo>
                  <a:lnTo>
                    <a:pt x="8" y="17"/>
                  </a:lnTo>
                  <a:lnTo>
                    <a:pt x="8" y="17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25" y="25"/>
                  </a:lnTo>
                  <a:lnTo>
                    <a:pt x="25" y="25"/>
                  </a:lnTo>
                  <a:lnTo>
                    <a:pt x="25" y="25"/>
                  </a:lnTo>
                  <a:lnTo>
                    <a:pt x="25" y="25"/>
                  </a:lnTo>
                  <a:lnTo>
                    <a:pt x="25" y="25"/>
                  </a:lnTo>
                  <a:lnTo>
                    <a:pt x="25" y="25"/>
                  </a:lnTo>
                  <a:lnTo>
                    <a:pt x="25" y="25"/>
                  </a:lnTo>
                  <a:lnTo>
                    <a:pt x="25" y="25"/>
                  </a:lnTo>
                  <a:lnTo>
                    <a:pt x="33" y="17"/>
                  </a:lnTo>
                  <a:lnTo>
                    <a:pt x="33" y="17"/>
                  </a:lnTo>
                  <a:lnTo>
                    <a:pt x="33" y="17"/>
                  </a:lnTo>
                  <a:lnTo>
                    <a:pt x="33" y="17"/>
                  </a:lnTo>
                  <a:lnTo>
                    <a:pt x="33" y="17"/>
                  </a:lnTo>
                  <a:lnTo>
                    <a:pt x="33" y="8"/>
                  </a:lnTo>
                  <a:lnTo>
                    <a:pt x="33" y="8"/>
                  </a:lnTo>
                  <a:lnTo>
                    <a:pt x="33" y="8"/>
                  </a:lnTo>
                  <a:lnTo>
                    <a:pt x="33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4572000" y="5221440"/>
              <a:ext cx="39600" cy="3780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16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4572000" y="5183280"/>
              <a:ext cx="39600" cy="50760"/>
            </a:xfrm>
            <a:custGeom>
              <a:avLst/>
              <a:gdLst/>
              <a:ahLst/>
              <a:rect l="l" t="t" r="r" b="b"/>
              <a:pathLst>
                <a:path w="25" h="32">
                  <a:moveTo>
                    <a:pt x="8" y="0"/>
                  </a:move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4559400" y="515772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6" y="0"/>
                  </a:move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4559400" y="5132520"/>
              <a:ext cx="38160" cy="378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4546440" y="5106960"/>
              <a:ext cx="51120" cy="3816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16" y="0"/>
                  </a:move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4546440" y="5068800"/>
              <a:ext cx="38160" cy="50760"/>
            </a:xfrm>
            <a:custGeom>
              <a:avLst/>
              <a:gdLst/>
              <a:ahLst/>
              <a:rect l="l" t="t" r="r" b="b"/>
              <a:pathLst>
                <a:path w="24" h="32">
                  <a:moveTo>
                    <a:pt x="8" y="0"/>
                  </a:move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4533840" y="5043600"/>
              <a:ext cx="50760" cy="3816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16" y="0"/>
                  </a:move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4533840" y="501804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6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4521240" y="4992840"/>
              <a:ext cx="50760" cy="3780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16" y="0"/>
                  </a:move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4521240" y="496728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6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4521240" y="492912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3435480" y="2390760"/>
              <a:ext cx="50760" cy="3816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16" y="0"/>
                  </a:move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32" y="16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3435480" y="2416320"/>
              <a:ext cx="37800" cy="378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3422520" y="244152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3409920" y="246708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6" y="0"/>
                  </a:move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3409920" y="2492280"/>
              <a:ext cx="38160" cy="50760"/>
            </a:xfrm>
            <a:custGeom>
              <a:avLst/>
              <a:gdLst/>
              <a:ahLst/>
              <a:rect l="l" t="t" r="r" b="b"/>
              <a:pathLst>
                <a:path w="24" h="32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3409920" y="253044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3409920" y="2556000"/>
              <a:ext cx="38160" cy="378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6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3409920" y="2581200"/>
              <a:ext cx="38160" cy="39600"/>
            </a:xfrm>
            <a:custGeom>
              <a:avLst/>
              <a:gdLst/>
              <a:ahLst/>
              <a:rect l="l" t="t" r="r" b="b"/>
              <a:pathLst>
                <a:path w="24" h="25">
                  <a:moveTo>
                    <a:pt x="16" y="0"/>
                  </a:move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3409920" y="2608200"/>
              <a:ext cx="50760" cy="50760"/>
            </a:xfrm>
            <a:custGeom>
              <a:avLst/>
              <a:gdLst/>
              <a:ahLst/>
              <a:rect l="l" t="t" r="r" b="b"/>
              <a:pathLst>
                <a:path w="32" h="32">
                  <a:moveTo>
                    <a:pt x="16" y="0"/>
                  </a:moveTo>
                  <a:lnTo>
                    <a:pt x="16" y="8"/>
                  </a:lnTo>
                  <a:lnTo>
                    <a:pt x="16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24" y="32"/>
                  </a:lnTo>
                  <a:lnTo>
                    <a:pt x="24" y="32"/>
                  </a:lnTo>
                  <a:lnTo>
                    <a:pt x="24" y="32"/>
                  </a:lnTo>
                  <a:lnTo>
                    <a:pt x="24" y="32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32" y="24"/>
                  </a:lnTo>
                  <a:lnTo>
                    <a:pt x="32" y="24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3409920" y="2646360"/>
              <a:ext cx="50760" cy="3816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16" y="0"/>
                  </a:move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3422520" y="2671920"/>
              <a:ext cx="38160" cy="378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3422520" y="2697120"/>
              <a:ext cx="50760" cy="3816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16" y="0"/>
                  </a:move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3435480" y="2722680"/>
              <a:ext cx="37800" cy="50760"/>
            </a:xfrm>
            <a:custGeom>
              <a:avLst/>
              <a:gdLst/>
              <a:ahLst/>
              <a:rect l="l" t="t" r="r" b="b"/>
              <a:pathLst>
                <a:path w="24" h="32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3435480" y="2760840"/>
              <a:ext cx="37800" cy="378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3435480" y="2786040"/>
              <a:ext cx="3780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3435480" y="2811600"/>
              <a:ext cx="37800" cy="378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3435480" y="2849400"/>
              <a:ext cx="3780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3422520" y="2874960"/>
              <a:ext cx="50760" cy="3816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16" y="0"/>
                  </a:move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3422520" y="2900520"/>
              <a:ext cx="50760" cy="3780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16" y="0"/>
                  </a:move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3422520" y="2925720"/>
              <a:ext cx="38160" cy="50760"/>
            </a:xfrm>
            <a:custGeom>
              <a:avLst/>
              <a:gdLst/>
              <a:ahLst/>
              <a:rect l="l" t="t" r="r" b="b"/>
              <a:pathLst>
                <a:path w="24" h="32">
                  <a:moveTo>
                    <a:pt x="16" y="0"/>
                  </a:moveTo>
                  <a:lnTo>
                    <a:pt x="16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6413400" y="2033640"/>
              <a:ext cx="38160" cy="50760"/>
            </a:xfrm>
            <a:custGeom>
              <a:avLst/>
              <a:gdLst/>
              <a:ahLst/>
              <a:rect l="l" t="t" r="r" b="b"/>
              <a:pathLst>
                <a:path w="24" h="32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6438960" y="204624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6464160" y="205884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6489720" y="207180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6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6515280" y="2084400"/>
              <a:ext cx="39600" cy="3816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16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6540480" y="2097000"/>
              <a:ext cx="39600" cy="3816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17" y="0"/>
                  </a:move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6567480" y="2109960"/>
              <a:ext cx="38160" cy="378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6" y="0"/>
                  </a:move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6593040" y="2122560"/>
              <a:ext cx="3780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6" y="0"/>
                  </a:move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6618240" y="213516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6" y="0"/>
                  </a:move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6643800" y="2147760"/>
              <a:ext cx="50760" cy="3816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16" y="0"/>
                  </a:move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32" y="16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6669000" y="2160720"/>
              <a:ext cx="50760" cy="3780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16" y="0"/>
                  </a:move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32" y="16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1492200" y="1306440"/>
              <a:ext cx="127080" cy="127080"/>
            </a:xfrm>
            <a:custGeom>
              <a:avLst/>
              <a:gdLst/>
              <a:ahLst/>
              <a:rect l="l" t="t" r="r" b="b"/>
              <a:pathLst>
                <a:path w="80" h="80">
                  <a:moveTo>
                    <a:pt x="32" y="80"/>
                  </a:moveTo>
                  <a:lnTo>
                    <a:pt x="40" y="80"/>
                  </a:lnTo>
                  <a:lnTo>
                    <a:pt x="40" y="48"/>
                  </a:lnTo>
                  <a:lnTo>
                    <a:pt x="80" y="48"/>
                  </a:lnTo>
                  <a:lnTo>
                    <a:pt x="80" y="40"/>
                  </a:lnTo>
                  <a:lnTo>
                    <a:pt x="40" y="40"/>
                  </a:lnTo>
                  <a:lnTo>
                    <a:pt x="40" y="0"/>
                  </a:lnTo>
                  <a:lnTo>
                    <a:pt x="32" y="0"/>
                  </a:lnTo>
                  <a:lnTo>
                    <a:pt x="32" y="40"/>
                  </a:lnTo>
                  <a:lnTo>
                    <a:pt x="0" y="40"/>
                  </a:lnTo>
                  <a:lnTo>
                    <a:pt x="0" y="48"/>
                  </a:lnTo>
                  <a:lnTo>
                    <a:pt x="32" y="48"/>
                  </a:lnTo>
                  <a:lnTo>
                    <a:pt x="32" y="8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7729560" y="1306440"/>
              <a:ext cx="128520" cy="127080"/>
            </a:xfrm>
            <a:custGeom>
              <a:avLst/>
              <a:gdLst/>
              <a:ahLst/>
              <a:rect l="l" t="t" r="r" b="b"/>
              <a:pathLst>
                <a:path w="81" h="80">
                  <a:moveTo>
                    <a:pt x="41" y="80"/>
                  </a:moveTo>
                  <a:lnTo>
                    <a:pt x="49" y="80"/>
                  </a:lnTo>
                  <a:lnTo>
                    <a:pt x="49" y="48"/>
                  </a:lnTo>
                  <a:lnTo>
                    <a:pt x="81" y="48"/>
                  </a:lnTo>
                  <a:lnTo>
                    <a:pt x="81" y="40"/>
                  </a:lnTo>
                  <a:lnTo>
                    <a:pt x="49" y="40"/>
                  </a:lnTo>
                  <a:lnTo>
                    <a:pt x="49" y="0"/>
                  </a:lnTo>
                  <a:lnTo>
                    <a:pt x="41" y="0"/>
                  </a:lnTo>
                  <a:lnTo>
                    <a:pt x="41" y="40"/>
                  </a:lnTo>
                  <a:lnTo>
                    <a:pt x="0" y="40"/>
                  </a:lnTo>
                  <a:lnTo>
                    <a:pt x="0" y="48"/>
                  </a:lnTo>
                  <a:lnTo>
                    <a:pt x="41" y="48"/>
                  </a:lnTo>
                  <a:lnTo>
                    <a:pt x="41" y="8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7742160" y="5732640"/>
              <a:ext cx="128520" cy="126720"/>
            </a:xfrm>
            <a:custGeom>
              <a:avLst/>
              <a:gdLst/>
              <a:ahLst/>
              <a:rect l="l" t="t" r="r" b="b"/>
              <a:pathLst>
                <a:path w="81" h="80">
                  <a:moveTo>
                    <a:pt x="33" y="80"/>
                  </a:moveTo>
                  <a:lnTo>
                    <a:pt x="41" y="80"/>
                  </a:lnTo>
                  <a:lnTo>
                    <a:pt x="41" y="40"/>
                  </a:lnTo>
                  <a:lnTo>
                    <a:pt x="81" y="40"/>
                  </a:lnTo>
                  <a:lnTo>
                    <a:pt x="81" y="32"/>
                  </a:lnTo>
                  <a:lnTo>
                    <a:pt x="41" y="32"/>
                  </a:lnTo>
                  <a:lnTo>
                    <a:pt x="41" y="0"/>
                  </a:lnTo>
                  <a:lnTo>
                    <a:pt x="33" y="0"/>
                  </a:lnTo>
                  <a:lnTo>
                    <a:pt x="33" y="32"/>
                  </a:lnTo>
                  <a:lnTo>
                    <a:pt x="0" y="32"/>
                  </a:lnTo>
                  <a:lnTo>
                    <a:pt x="0" y="40"/>
                  </a:lnTo>
                  <a:lnTo>
                    <a:pt x="33" y="40"/>
                  </a:lnTo>
                  <a:lnTo>
                    <a:pt x="33" y="8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1492200" y="5732640"/>
              <a:ext cx="127080" cy="126720"/>
            </a:xfrm>
            <a:custGeom>
              <a:avLst/>
              <a:gdLst/>
              <a:ahLst/>
              <a:rect l="l" t="t" r="r" b="b"/>
              <a:pathLst>
                <a:path w="80" h="80">
                  <a:moveTo>
                    <a:pt x="32" y="80"/>
                  </a:moveTo>
                  <a:lnTo>
                    <a:pt x="40" y="80"/>
                  </a:lnTo>
                  <a:lnTo>
                    <a:pt x="40" y="40"/>
                  </a:lnTo>
                  <a:lnTo>
                    <a:pt x="80" y="40"/>
                  </a:lnTo>
                  <a:lnTo>
                    <a:pt x="80" y="32"/>
                  </a:lnTo>
                  <a:lnTo>
                    <a:pt x="40" y="32"/>
                  </a:lnTo>
                  <a:lnTo>
                    <a:pt x="40" y="0"/>
                  </a:lnTo>
                  <a:lnTo>
                    <a:pt x="32" y="0"/>
                  </a:lnTo>
                  <a:lnTo>
                    <a:pt x="32" y="32"/>
                  </a:lnTo>
                  <a:lnTo>
                    <a:pt x="0" y="32"/>
                  </a:lnTo>
                  <a:lnTo>
                    <a:pt x="0" y="40"/>
                  </a:lnTo>
                  <a:lnTo>
                    <a:pt x="32" y="40"/>
                  </a:lnTo>
                  <a:lnTo>
                    <a:pt x="32" y="8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3716280" y="3895560"/>
              <a:ext cx="38160" cy="255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3792600" y="3946680"/>
              <a:ext cx="12600" cy="50760"/>
            </a:xfrm>
            <a:custGeom>
              <a:avLst/>
              <a:gdLst/>
              <a:ahLst/>
              <a:rect l="l" t="t" r="r" b="b"/>
              <a:pathLst>
                <a:path w="8" h="32">
                  <a:moveTo>
                    <a:pt x="0" y="0"/>
                  </a:moveTo>
                  <a:lnTo>
                    <a:pt x="8" y="8"/>
                  </a:lnTo>
                  <a:lnTo>
                    <a:pt x="0" y="32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4" name=""/>
            <p:cNvSpPr/>
            <p:nvPr/>
          </p:nvSpPr>
          <p:spPr>
            <a:xfrm flipH="1">
              <a:off x="3754080" y="4035600"/>
              <a:ext cx="12600" cy="507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3767040" y="4125960"/>
              <a:ext cx="38160" cy="381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3855960" y="4189320"/>
              <a:ext cx="39600" cy="255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3933720" y="4253040"/>
              <a:ext cx="50760" cy="252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4022640" y="4316400"/>
              <a:ext cx="38160" cy="255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4098960" y="4379760"/>
              <a:ext cx="52200" cy="255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4189320" y="4430880"/>
              <a:ext cx="38160" cy="378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4265640" y="4494240"/>
              <a:ext cx="25200" cy="270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5773680" y="4253040"/>
              <a:ext cx="52560" cy="126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5826240" y="4303800"/>
              <a:ext cx="38160" cy="25200"/>
            </a:xfrm>
            <a:custGeom>
              <a:avLst/>
              <a:gdLst/>
              <a:ahLst/>
              <a:rect l="l" t="t" r="r" b="b"/>
              <a:pathLst>
                <a:path w="24" h="16">
                  <a:moveTo>
                    <a:pt x="0" y="0"/>
                  </a:moveTo>
                  <a:lnTo>
                    <a:pt x="0" y="8"/>
                  </a:lnTo>
                  <a:lnTo>
                    <a:pt x="24" y="16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5915160" y="4354560"/>
              <a:ext cx="37800" cy="25200"/>
            </a:xfrm>
            <a:custGeom>
              <a:avLst/>
              <a:gdLst/>
              <a:ahLst/>
              <a:rect l="l" t="t" r="r" b="b"/>
              <a:pathLst>
                <a:path w="24" h="16">
                  <a:moveTo>
                    <a:pt x="0" y="0"/>
                  </a:moveTo>
                  <a:lnTo>
                    <a:pt x="24" y="16"/>
                  </a:lnTo>
                  <a:lnTo>
                    <a:pt x="24" y="16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6004080" y="4392720"/>
              <a:ext cx="50760" cy="126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5735520" y="3614760"/>
              <a:ext cx="12960" cy="38160"/>
            </a:xfrm>
            <a:custGeom>
              <a:avLst/>
              <a:gdLst/>
              <a:ahLst/>
              <a:rect l="l" t="t" r="r" b="b"/>
              <a:pathLst>
                <a:path w="8" h="24">
                  <a:moveTo>
                    <a:pt x="8" y="0"/>
                  </a:moveTo>
                  <a:lnTo>
                    <a:pt x="0" y="24"/>
                  </a:lnTo>
                  <a:lnTo>
                    <a:pt x="0" y="24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5735520" y="3716280"/>
              <a:ext cx="1800" cy="525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5735520" y="3819600"/>
              <a:ext cx="1800" cy="507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9" name=""/>
            <p:cNvSpPr/>
            <p:nvPr/>
          </p:nvSpPr>
          <p:spPr>
            <a:xfrm flipH="1">
              <a:off x="5722560" y="3921120"/>
              <a:ext cx="12600" cy="507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5722920" y="4022640"/>
              <a:ext cx="12600" cy="38160"/>
            </a:xfrm>
            <a:custGeom>
              <a:avLst/>
              <a:gdLst/>
              <a:ahLst/>
              <a:rect l="l" t="t" r="r" b="b"/>
              <a:pathLst>
                <a:path w="8" h="24">
                  <a:moveTo>
                    <a:pt x="0" y="0"/>
                  </a:moveTo>
                  <a:lnTo>
                    <a:pt x="0" y="24"/>
                  </a:lnTo>
                  <a:lnTo>
                    <a:pt x="8" y="24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5773680" y="4086360"/>
              <a:ext cx="1800" cy="522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5761080" y="4189320"/>
              <a:ext cx="1440" cy="507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3" name=""/>
            <p:cNvSpPr/>
            <p:nvPr/>
          </p:nvSpPr>
          <p:spPr>
            <a:xfrm flipH="1">
              <a:off x="5722560" y="4253040"/>
              <a:ext cx="1260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4546440" y="4954680"/>
              <a:ext cx="1800" cy="507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4559400" y="5056200"/>
              <a:ext cx="12600" cy="507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4584600" y="5157720"/>
              <a:ext cx="12960" cy="507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4611600" y="5259240"/>
              <a:ext cx="1800" cy="525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4624560" y="5362560"/>
              <a:ext cx="12600" cy="507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4649760" y="5464080"/>
              <a:ext cx="12600" cy="507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4662360" y="5565600"/>
              <a:ext cx="12960" cy="511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4687920" y="5668920"/>
              <a:ext cx="1440" cy="126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4572000" y="4941720"/>
              <a:ext cx="25560" cy="511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4624560" y="5043600"/>
              <a:ext cx="12600" cy="381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4662360" y="5132520"/>
              <a:ext cx="25560" cy="507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4713120" y="5221440"/>
              <a:ext cx="25560" cy="522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4751280" y="5324400"/>
              <a:ext cx="25560" cy="381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7" name=""/>
            <p:cNvSpPr/>
            <p:nvPr/>
          </p:nvSpPr>
          <p:spPr>
            <a:xfrm flipV="1">
              <a:off x="4637160" y="5425920"/>
              <a:ext cx="50760" cy="129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4738680" y="5388120"/>
              <a:ext cx="50760" cy="25200"/>
            </a:xfrm>
            <a:custGeom>
              <a:avLst/>
              <a:gdLst/>
              <a:ahLst/>
              <a:rect l="l" t="t" r="r" b="b"/>
              <a:pathLst>
                <a:path w="32" h="16">
                  <a:moveTo>
                    <a:pt x="0" y="16"/>
                  </a:moveTo>
                  <a:lnTo>
                    <a:pt x="16" y="8"/>
                  </a:lnTo>
                  <a:lnTo>
                    <a:pt x="32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4827600" y="5337000"/>
              <a:ext cx="52200" cy="25560"/>
            </a:xfrm>
            <a:custGeom>
              <a:avLst/>
              <a:gdLst/>
              <a:ahLst/>
              <a:rect l="l" t="t" r="r" b="b"/>
              <a:pathLst>
                <a:path w="33" h="16">
                  <a:moveTo>
                    <a:pt x="0" y="16"/>
                  </a:moveTo>
                  <a:lnTo>
                    <a:pt x="8" y="16"/>
                  </a:lnTo>
                  <a:lnTo>
                    <a:pt x="33" y="0"/>
                  </a:lnTo>
                  <a:lnTo>
                    <a:pt x="33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0" name=""/>
            <p:cNvSpPr/>
            <p:nvPr/>
          </p:nvSpPr>
          <p:spPr>
            <a:xfrm flipV="1">
              <a:off x="4917960" y="5311440"/>
              <a:ext cx="63720" cy="126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5032440" y="5299200"/>
              <a:ext cx="50760" cy="12600"/>
            </a:xfrm>
            <a:custGeom>
              <a:avLst/>
              <a:gdLst/>
              <a:ahLst/>
              <a:rect l="l" t="t" r="r" b="b"/>
              <a:pathLst>
                <a:path w="32" h="8">
                  <a:moveTo>
                    <a:pt x="0" y="8"/>
                  </a:moveTo>
                  <a:lnTo>
                    <a:pt x="16" y="8"/>
                  </a:lnTo>
                  <a:lnTo>
                    <a:pt x="32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5135400" y="5299200"/>
              <a:ext cx="51120" cy="1440"/>
            </a:xfrm>
            <a:custGeom>
              <a:avLst/>
              <a:gdLst/>
              <a:ahLst/>
              <a:rect l="l" t="t" r="r" b="b"/>
              <a:pathLst>
                <a:path w="32" h="0">
                  <a:moveTo>
                    <a:pt x="0" y="0"/>
                  </a:moveTo>
                  <a:lnTo>
                    <a:pt x="0" y="0"/>
                  </a:lnTo>
                  <a:lnTo>
                    <a:pt x="32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5237280" y="5286240"/>
              <a:ext cx="1440" cy="50760"/>
            </a:xfrm>
            <a:custGeom>
              <a:avLst/>
              <a:gdLst/>
              <a:ahLst/>
              <a:rect l="l" t="t" r="r" b="b"/>
              <a:pathLst>
                <a:path w="0" h="32">
                  <a:moveTo>
                    <a:pt x="0" y="0"/>
                  </a:moveTo>
                  <a:lnTo>
                    <a:pt x="0" y="0"/>
                  </a:lnTo>
                  <a:lnTo>
                    <a:pt x="0" y="32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5237280" y="5388120"/>
              <a:ext cx="1440" cy="507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5237280" y="5489640"/>
              <a:ext cx="1440" cy="507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5237280" y="5591160"/>
              <a:ext cx="12600" cy="507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5454720" y="4456080"/>
              <a:ext cx="63360" cy="18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8" name=""/>
            <p:cNvSpPr/>
            <p:nvPr/>
          </p:nvSpPr>
          <p:spPr>
            <a:xfrm flipH="1">
              <a:off x="5555880" y="4456080"/>
              <a:ext cx="12600" cy="525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5556240" y="4559400"/>
              <a:ext cx="1440" cy="507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5543640" y="4673520"/>
              <a:ext cx="12600" cy="50760"/>
            </a:xfrm>
            <a:custGeom>
              <a:avLst/>
              <a:gdLst/>
              <a:ahLst/>
              <a:rect l="l" t="t" r="r" b="b"/>
              <a:pathLst>
                <a:path w="8" h="32">
                  <a:moveTo>
                    <a:pt x="8" y="0"/>
                  </a:moveTo>
                  <a:lnTo>
                    <a:pt x="0" y="8"/>
                  </a:lnTo>
                  <a:lnTo>
                    <a:pt x="8" y="32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5556240" y="4775040"/>
              <a:ext cx="12600" cy="38160"/>
            </a:xfrm>
            <a:custGeom>
              <a:avLst/>
              <a:gdLst/>
              <a:ahLst/>
              <a:rect l="l" t="t" r="r" b="b"/>
              <a:pathLst>
                <a:path w="8" h="24">
                  <a:moveTo>
                    <a:pt x="0" y="0"/>
                  </a:moveTo>
                  <a:lnTo>
                    <a:pt x="8" y="8"/>
                  </a:lnTo>
                  <a:lnTo>
                    <a:pt x="8" y="24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2" name=""/>
          <p:cNvGrpSpPr/>
          <p:nvPr/>
        </p:nvGrpSpPr>
        <p:grpSpPr>
          <a:xfrm>
            <a:off x="2463840" y="2811600"/>
            <a:ext cx="4832280" cy="2884320"/>
            <a:chOff x="2463840" y="2811600"/>
            <a:chExt cx="4832280" cy="2884320"/>
          </a:xfrm>
        </p:grpSpPr>
        <p:sp>
          <p:nvSpPr>
            <p:cNvPr id="1483" name=""/>
            <p:cNvSpPr/>
            <p:nvPr/>
          </p:nvSpPr>
          <p:spPr>
            <a:xfrm>
              <a:off x="5583240" y="4863960"/>
              <a:ext cx="12600" cy="525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5608800" y="4967280"/>
              <a:ext cx="12600" cy="507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5" name=""/>
            <p:cNvSpPr/>
            <p:nvPr/>
          </p:nvSpPr>
          <p:spPr>
            <a:xfrm flipH="1">
              <a:off x="5621040" y="5068800"/>
              <a:ext cx="12600" cy="507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6" name=""/>
            <p:cNvSpPr/>
            <p:nvPr/>
          </p:nvSpPr>
          <p:spPr>
            <a:xfrm flipH="1">
              <a:off x="5582880" y="5170320"/>
              <a:ext cx="25560" cy="511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5568840" y="5273640"/>
              <a:ext cx="1800" cy="126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3971880" y="5221440"/>
              <a:ext cx="63720" cy="1440"/>
            </a:xfrm>
            <a:custGeom>
              <a:avLst/>
              <a:gdLst/>
              <a:ahLst/>
              <a:rect l="l" t="t" r="r" b="b"/>
              <a:pathLst>
                <a:path w="40" h="0">
                  <a:moveTo>
                    <a:pt x="0" y="0"/>
                  </a:moveTo>
                  <a:lnTo>
                    <a:pt x="32" y="0"/>
                  </a:lnTo>
                  <a:lnTo>
                    <a:pt x="4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4086360" y="5221440"/>
              <a:ext cx="52200" cy="126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4189320" y="5183280"/>
              <a:ext cx="1800" cy="50760"/>
            </a:xfrm>
            <a:custGeom>
              <a:avLst/>
              <a:gdLst/>
              <a:ahLst/>
              <a:rect l="l" t="t" r="r" b="b"/>
              <a:pathLst>
                <a:path w="0" h="32">
                  <a:moveTo>
                    <a:pt x="0" y="32"/>
                  </a:moveTo>
                  <a:lnTo>
                    <a:pt x="0" y="32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1" name=""/>
            <p:cNvSpPr/>
            <p:nvPr/>
          </p:nvSpPr>
          <p:spPr>
            <a:xfrm flipV="1">
              <a:off x="4202280" y="5081400"/>
              <a:ext cx="1440" cy="507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2" name=""/>
            <p:cNvSpPr/>
            <p:nvPr/>
          </p:nvSpPr>
          <p:spPr>
            <a:xfrm flipV="1">
              <a:off x="4214880" y="5017680"/>
              <a:ext cx="38160" cy="255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3" name=""/>
            <p:cNvSpPr/>
            <p:nvPr/>
          </p:nvSpPr>
          <p:spPr>
            <a:xfrm flipV="1">
              <a:off x="4303800" y="4992480"/>
              <a:ext cx="52200" cy="126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4" name=""/>
            <p:cNvSpPr/>
            <p:nvPr/>
          </p:nvSpPr>
          <p:spPr>
            <a:xfrm flipV="1">
              <a:off x="4406760" y="4966920"/>
              <a:ext cx="51120" cy="126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5" name=""/>
            <p:cNvSpPr/>
            <p:nvPr/>
          </p:nvSpPr>
          <p:spPr>
            <a:xfrm flipV="1">
              <a:off x="4508640" y="4941720"/>
              <a:ext cx="50760" cy="129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6" name=""/>
            <p:cNvSpPr/>
            <p:nvPr/>
          </p:nvSpPr>
          <p:spPr>
            <a:xfrm flipH="1" flipV="1">
              <a:off x="4533480" y="4863600"/>
              <a:ext cx="25560" cy="399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4495680" y="4775040"/>
              <a:ext cx="25560" cy="38160"/>
            </a:xfrm>
            <a:custGeom>
              <a:avLst/>
              <a:gdLst/>
              <a:ahLst/>
              <a:rect l="l" t="t" r="r" b="b"/>
              <a:pathLst>
                <a:path w="16" h="24">
                  <a:moveTo>
                    <a:pt x="8" y="24"/>
                  </a:moveTo>
                  <a:lnTo>
                    <a:pt x="0" y="8"/>
                  </a:lnTo>
                  <a:lnTo>
                    <a:pt x="16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8" name=""/>
            <p:cNvSpPr/>
            <p:nvPr/>
          </p:nvSpPr>
          <p:spPr>
            <a:xfrm flipV="1">
              <a:off x="4559400" y="4736880"/>
              <a:ext cx="52200" cy="126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9" name=""/>
            <p:cNvSpPr/>
            <p:nvPr/>
          </p:nvSpPr>
          <p:spPr>
            <a:xfrm flipV="1">
              <a:off x="4662360" y="4686480"/>
              <a:ext cx="38160" cy="252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0" name=""/>
            <p:cNvSpPr/>
            <p:nvPr/>
          </p:nvSpPr>
          <p:spPr>
            <a:xfrm flipV="1">
              <a:off x="4751280" y="4648320"/>
              <a:ext cx="50760" cy="252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4854600" y="4610160"/>
              <a:ext cx="38160" cy="12600"/>
            </a:xfrm>
            <a:custGeom>
              <a:avLst/>
              <a:gdLst/>
              <a:ahLst/>
              <a:rect l="l" t="t" r="r" b="b"/>
              <a:pathLst>
                <a:path w="24" h="8">
                  <a:moveTo>
                    <a:pt x="0" y="8"/>
                  </a:moveTo>
                  <a:lnTo>
                    <a:pt x="8" y="8"/>
                  </a:lnTo>
                  <a:lnTo>
                    <a:pt x="24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2" name=""/>
            <p:cNvSpPr/>
            <p:nvPr/>
          </p:nvSpPr>
          <p:spPr>
            <a:xfrm flipV="1">
              <a:off x="4943520" y="4559400"/>
              <a:ext cx="50760" cy="252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3" name=""/>
            <p:cNvSpPr/>
            <p:nvPr/>
          </p:nvSpPr>
          <p:spPr>
            <a:xfrm flipV="1">
              <a:off x="5032440" y="4521240"/>
              <a:ext cx="50760" cy="252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4" name=""/>
            <p:cNvSpPr/>
            <p:nvPr/>
          </p:nvSpPr>
          <p:spPr>
            <a:xfrm flipV="1">
              <a:off x="5135400" y="4481280"/>
              <a:ext cx="51120" cy="126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5224320" y="4456080"/>
              <a:ext cx="51120" cy="1800"/>
            </a:xfrm>
            <a:custGeom>
              <a:avLst/>
              <a:gdLst/>
              <a:ahLst/>
              <a:rect l="l" t="t" r="r" b="b"/>
              <a:pathLst>
                <a:path w="32" h="0">
                  <a:moveTo>
                    <a:pt x="0" y="0"/>
                  </a:moveTo>
                  <a:lnTo>
                    <a:pt x="8" y="0"/>
                  </a:lnTo>
                  <a:lnTo>
                    <a:pt x="32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5340240" y="4456080"/>
              <a:ext cx="50760" cy="18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5442120" y="4456080"/>
              <a:ext cx="12600" cy="38160"/>
            </a:xfrm>
            <a:custGeom>
              <a:avLst/>
              <a:gdLst/>
              <a:ahLst/>
              <a:rect l="l" t="t" r="r" b="b"/>
              <a:pathLst>
                <a:path w="8" h="24">
                  <a:moveTo>
                    <a:pt x="0" y="0"/>
                  </a:moveTo>
                  <a:lnTo>
                    <a:pt x="8" y="0"/>
                  </a:lnTo>
                  <a:lnTo>
                    <a:pt x="0" y="16"/>
                  </a:lnTo>
                  <a:lnTo>
                    <a:pt x="0" y="24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8" name=""/>
            <p:cNvSpPr/>
            <p:nvPr/>
          </p:nvSpPr>
          <p:spPr>
            <a:xfrm flipH="1">
              <a:off x="5416200" y="4546440"/>
              <a:ext cx="12600" cy="511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9" name=""/>
            <p:cNvSpPr/>
            <p:nvPr/>
          </p:nvSpPr>
          <p:spPr>
            <a:xfrm flipH="1">
              <a:off x="5391000" y="4648320"/>
              <a:ext cx="12960" cy="507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5340240" y="4737240"/>
              <a:ext cx="38160" cy="378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24" y="0"/>
                  </a:moveTo>
                  <a:lnTo>
                    <a:pt x="16" y="16"/>
                  </a:lnTo>
                  <a:lnTo>
                    <a:pt x="0" y="24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5300640" y="4800600"/>
              <a:ext cx="25560" cy="507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5340240" y="4890960"/>
              <a:ext cx="25560" cy="507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5391000" y="4992840"/>
              <a:ext cx="12960" cy="378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5429160" y="5081760"/>
              <a:ext cx="12960" cy="507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5467320" y="5183280"/>
              <a:ext cx="25560" cy="381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5505480" y="5273640"/>
              <a:ext cx="50760" cy="12600"/>
            </a:xfrm>
            <a:custGeom>
              <a:avLst/>
              <a:gdLst/>
              <a:ahLst/>
              <a:rect l="l" t="t" r="r" b="b"/>
              <a:pathLst>
                <a:path w="32" h="8">
                  <a:moveTo>
                    <a:pt x="0" y="0"/>
                  </a:moveTo>
                  <a:lnTo>
                    <a:pt x="8" y="0"/>
                  </a:lnTo>
                  <a:lnTo>
                    <a:pt x="32" y="8"/>
                  </a:lnTo>
                  <a:lnTo>
                    <a:pt x="32" y="8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5608800" y="5286240"/>
              <a:ext cx="50760" cy="129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5710320" y="5299200"/>
              <a:ext cx="6336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5811840" y="5324400"/>
              <a:ext cx="52560" cy="255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5902200" y="5375160"/>
              <a:ext cx="50760" cy="255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5991120" y="5425920"/>
              <a:ext cx="50760" cy="381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6081840" y="5489640"/>
              <a:ext cx="50760" cy="252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6107040" y="5553000"/>
              <a:ext cx="25560" cy="38160"/>
            </a:xfrm>
            <a:custGeom>
              <a:avLst/>
              <a:gdLst/>
              <a:ahLst/>
              <a:rect l="l" t="t" r="r" b="b"/>
              <a:pathLst>
                <a:path w="16" h="24">
                  <a:moveTo>
                    <a:pt x="16" y="0"/>
                  </a:moveTo>
                  <a:lnTo>
                    <a:pt x="0" y="16"/>
                  </a:lnTo>
                  <a:lnTo>
                    <a:pt x="0" y="24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2463840" y="2811600"/>
              <a:ext cx="984240" cy="484200"/>
            </a:xfrm>
            <a:custGeom>
              <a:avLst/>
              <a:gdLst/>
              <a:ahLst/>
              <a:rect l="l" t="t" r="r" b="b"/>
              <a:pathLst>
                <a:path w="620" h="305">
                  <a:moveTo>
                    <a:pt x="620" y="64"/>
                  </a:moveTo>
                  <a:lnTo>
                    <a:pt x="555" y="56"/>
                  </a:lnTo>
                  <a:lnTo>
                    <a:pt x="386" y="32"/>
                  </a:lnTo>
                  <a:lnTo>
                    <a:pt x="274" y="8"/>
                  </a:lnTo>
                  <a:lnTo>
                    <a:pt x="193" y="0"/>
                  </a:lnTo>
                  <a:lnTo>
                    <a:pt x="193" y="80"/>
                  </a:lnTo>
                  <a:lnTo>
                    <a:pt x="193" y="161"/>
                  </a:lnTo>
                  <a:lnTo>
                    <a:pt x="185" y="169"/>
                  </a:lnTo>
                  <a:lnTo>
                    <a:pt x="185" y="193"/>
                  </a:lnTo>
                  <a:lnTo>
                    <a:pt x="129" y="233"/>
                  </a:lnTo>
                  <a:lnTo>
                    <a:pt x="48" y="281"/>
                  </a:lnTo>
                  <a:lnTo>
                    <a:pt x="0" y="305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4010040" y="5005440"/>
              <a:ext cx="1440" cy="507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6" name=""/>
            <p:cNvSpPr/>
            <p:nvPr/>
          </p:nvSpPr>
          <p:spPr>
            <a:xfrm flipH="1">
              <a:off x="3984480" y="5106960"/>
              <a:ext cx="12960" cy="507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7" name=""/>
            <p:cNvSpPr/>
            <p:nvPr/>
          </p:nvSpPr>
          <p:spPr>
            <a:xfrm flipH="1">
              <a:off x="3971520" y="5208480"/>
              <a:ext cx="12600" cy="507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3959280" y="5311800"/>
              <a:ext cx="1440" cy="633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9" name=""/>
            <p:cNvSpPr/>
            <p:nvPr/>
          </p:nvSpPr>
          <p:spPr>
            <a:xfrm flipH="1">
              <a:off x="3933720" y="5425920"/>
              <a:ext cx="12960" cy="511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0" name=""/>
            <p:cNvSpPr/>
            <p:nvPr/>
          </p:nvSpPr>
          <p:spPr>
            <a:xfrm flipH="1">
              <a:off x="3920760" y="5527800"/>
              <a:ext cx="12600" cy="507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3908520" y="5629320"/>
              <a:ext cx="1440" cy="522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2" name=""/>
            <p:cNvSpPr/>
            <p:nvPr/>
          </p:nvSpPr>
          <p:spPr>
            <a:xfrm flipV="1">
              <a:off x="4010040" y="4903920"/>
              <a:ext cx="12600" cy="1015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3" name=""/>
            <p:cNvSpPr/>
            <p:nvPr/>
          </p:nvSpPr>
          <p:spPr>
            <a:xfrm flipV="1">
              <a:off x="4048200" y="4724280"/>
              <a:ext cx="65160" cy="763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4" name=""/>
            <p:cNvSpPr/>
            <p:nvPr/>
          </p:nvSpPr>
          <p:spPr>
            <a:xfrm flipV="1">
              <a:off x="4176720" y="4572000"/>
              <a:ext cx="76320" cy="763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5" name=""/>
            <p:cNvSpPr/>
            <p:nvPr/>
          </p:nvSpPr>
          <p:spPr>
            <a:xfrm flipV="1">
              <a:off x="4316400" y="4404960"/>
              <a:ext cx="77760" cy="889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4457880" y="4253040"/>
              <a:ext cx="63360" cy="75960"/>
            </a:xfrm>
            <a:custGeom>
              <a:avLst/>
              <a:gdLst/>
              <a:ahLst/>
              <a:rect l="l" t="t" r="r" b="b"/>
              <a:pathLst>
                <a:path w="40" h="48">
                  <a:moveTo>
                    <a:pt x="0" y="48"/>
                  </a:moveTo>
                  <a:lnTo>
                    <a:pt x="32" y="16"/>
                  </a:lnTo>
                  <a:lnTo>
                    <a:pt x="4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7" name=""/>
            <p:cNvSpPr/>
            <p:nvPr/>
          </p:nvSpPr>
          <p:spPr>
            <a:xfrm flipV="1">
              <a:off x="4597560" y="4098960"/>
              <a:ext cx="64800" cy="777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4764240" y="4060800"/>
              <a:ext cx="90360" cy="38160"/>
            </a:xfrm>
            <a:custGeom>
              <a:avLst/>
              <a:gdLst/>
              <a:ahLst/>
              <a:rect l="l" t="t" r="r" b="b"/>
              <a:pathLst>
                <a:path w="57" h="24">
                  <a:moveTo>
                    <a:pt x="0" y="24"/>
                  </a:moveTo>
                  <a:lnTo>
                    <a:pt x="24" y="8"/>
                  </a:lnTo>
                  <a:lnTo>
                    <a:pt x="57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2463840" y="3308400"/>
              <a:ext cx="38160" cy="126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2552760" y="3333600"/>
              <a:ext cx="50760" cy="255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2590920" y="3386160"/>
              <a:ext cx="25200" cy="38160"/>
            </a:xfrm>
            <a:custGeom>
              <a:avLst/>
              <a:gdLst/>
              <a:ahLst/>
              <a:rect l="l" t="t" r="r" b="b"/>
              <a:pathLst>
                <a:path w="16" h="24">
                  <a:moveTo>
                    <a:pt x="16" y="0"/>
                  </a:moveTo>
                  <a:lnTo>
                    <a:pt x="8" y="8"/>
                  </a:lnTo>
                  <a:lnTo>
                    <a:pt x="0" y="24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2540160" y="3462480"/>
              <a:ext cx="25200" cy="50760"/>
            </a:xfrm>
            <a:custGeom>
              <a:avLst/>
              <a:gdLst/>
              <a:ahLst/>
              <a:rect l="l" t="t" r="r" b="b"/>
              <a:pathLst>
                <a:path w="16" h="32">
                  <a:moveTo>
                    <a:pt x="16" y="0"/>
                  </a:moveTo>
                  <a:lnTo>
                    <a:pt x="8" y="16"/>
                  </a:lnTo>
                  <a:lnTo>
                    <a:pt x="0" y="24"/>
                  </a:lnTo>
                  <a:lnTo>
                    <a:pt x="0" y="32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2514600" y="3564000"/>
              <a:ext cx="1440" cy="50760"/>
            </a:xfrm>
            <a:custGeom>
              <a:avLst/>
              <a:gdLst/>
              <a:ahLst/>
              <a:rect l="l" t="t" r="r" b="b"/>
              <a:pathLst>
                <a:path w="0" h="32">
                  <a:moveTo>
                    <a:pt x="0" y="0"/>
                  </a:moveTo>
                  <a:lnTo>
                    <a:pt x="0" y="8"/>
                  </a:lnTo>
                  <a:lnTo>
                    <a:pt x="0" y="32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2514600" y="3665520"/>
              <a:ext cx="1440" cy="50760"/>
            </a:xfrm>
            <a:custGeom>
              <a:avLst/>
              <a:gdLst/>
              <a:ahLst/>
              <a:rect l="l" t="t" r="r" b="b"/>
              <a:pathLst>
                <a:path w="0" h="32">
                  <a:moveTo>
                    <a:pt x="0" y="0"/>
                  </a:moveTo>
                  <a:lnTo>
                    <a:pt x="0" y="8"/>
                  </a:lnTo>
                  <a:lnTo>
                    <a:pt x="0" y="32"/>
                  </a:lnTo>
                  <a:lnTo>
                    <a:pt x="0" y="32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2514600" y="3768840"/>
              <a:ext cx="1440" cy="50760"/>
            </a:xfrm>
            <a:custGeom>
              <a:avLst/>
              <a:gdLst/>
              <a:ahLst/>
              <a:rect l="l" t="t" r="r" b="b"/>
              <a:pathLst>
                <a:path w="0" h="32">
                  <a:moveTo>
                    <a:pt x="0" y="0"/>
                  </a:moveTo>
                  <a:lnTo>
                    <a:pt x="0" y="16"/>
                  </a:lnTo>
                  <a:lnTo>
                    <a:pt x="0" y="32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2502000" y="3870360"/>
              <a:ext cx="12600" cy="50760"/>
            </a:xfrm>
            <a:custGeom>
              <a:avLst/>
              <a:gdLst/>
              <a:ahLst/>
              <a:rect l="l" t="t" r="r" b="b"/>
              <a:pathLst>
                <a:path w="8" h="32">
                  <a:moveTo>
                    <a:pt x="0" y="0"/>
                  </a:moveTo>
                  <a:lnTo>
                    <a:pt x="0" y="8"/>
                  </a:lnTo>
                  <a:lnTo>
                    <a:pt x="8" y="32"/>
                  </a:lnTo>
                  <a:lnTo>
                    <a:pt x="8" y="32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2527200" y="3971880"/>
              <a:ext cx="12960" cy="50760"/>
            </a:xfrm>
            <a:custGeom>
              <a:avLst/>
              <a:gdLst/>
              <a:ahLst/>
              <a:rect l="l" t="t" r="r" b="b"/>
              <a:pathLst>
                <a:path w="8" h="32">
                  <a:moveTo>
                    <a:pt x="0" y="0"/>
                  </a:moveTo>
                  <a:lnTo>
                    <a:pt x="0" y="16"/>
                  </a:lnTo>
                  <a:lnTo>
                    <a:pt x="8" y="32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2565360" y="4073400"/>
              <a:ext cx="1800" cy="52560"/>
            </a:xfrm>
            <a:custGeom>
              <a:avLst/>
              <a:gdLst/>
              <a:ahLst/>
              <a:rect l="l" t="t" r="r" b="b"/>
              <a:pathLst>
                <a:path w="0" h="33">
                  <a:moveTo>
                    <a:pt x="0" y="0"/>
                  </a:moveTo>
                  <a:lnTo>
                    <a:pt x="0" y="8"/>
                  </a:lnTo>
                  <a:lnTo>
                    <a:pt x="0" y="24"/>
                  </a:lnTo>
                  <a:lnTo>
                    <a:pt x="0" y="33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2590920" y="4164120"/>
              <a:ext cx="12600" cy="50760"/>
            </a:xfrm>
            <a:custGeom>
              <a:avLst/>
              <a:gdLst/>
              <a:ahLst/>
              <a:rect l="l" t="t" r="r" b="b"/>
              <a:pathLst>
                <a:path w="8" h="32">
                  <a:moveTo>
                    <a:pt x="0" y="0"/>
                  </a:moveTo>
                  <a:lnTo>
                    <a:pt x="0" y="8"/>
                  </a:lnTo>
                  <a:lnTo>
                    <a:pt x="8" y="16"/>
                  </a:lnTo>
                  <a:lnTo>
                    <a:pt x="8" y="32"/>
                  </a:lnTo>
                  <a:lnTo>
                    <a:pt x="8" y="32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2603520" y="4265640"/>
              <a:ext cx="1440" cy="507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2603520" y="4367160"/>
              <a:ext cx="1440" cy="50760"/>
            </a:xfrm>
            <a:custGeom>
              <a:avLst/>
              <a:gdLst/>
              <a:ahLst/>
              <a:rect l="l" t="t" r="r" b="b"/>
              <a:pathLst>
                <a:path w="0" h="32">
                  <a:moveTo>
                    <a:pt x="0" y="0"/>
                  </a:moveTo>
                  <a:lnTo>
                    <a:pt x="0" y="32"/>
                  </a:lnTo>
                  <a:lnTo>
                    <a:pt x="0" y="32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2603520" y="4468680"/>
              <a:ext cx="1440" cy="52560"/>
            </a:xfrm>
            <a:custGeom>
              <a:avLst/>
              <a:gdLst/>
              <a:ahLst/>
              <a:rect l="l" t="t" r="r" b="b"/>
              <a:pathLst>
                <a:path w="0" h="33">
                  <a:moveTo>
                    <a:pt x="0" y="0"/>
                  </a:moveTo>
                  <a:lnTo>
                    <a:pt x="0" y="33"/>
                  </a:lnTo>
                  <a:lnTo>
                    <a:pt x="0" y="33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2616120" y="4572000"/>
              <a:ext cx="39600" cy="25560"/>
            </a:xfrm>
            <a:custGeom>
              <a:avLst/>
              <a:gdLst/>
              <a:ahLst/>
              <a:rect l="l" t="t" r="r" b="b"/>
              <a:pathLst>
                <a:path w="25" h="16">
                  <a:moveTo>
                    <a:pt x="0" y="0"/>
                  </a:moveTo>
                  <a:lnTo>
                    <a:pt x="0" y="8"/>
                  </a:lnTo>
                  <a:lnTo>
                    <a:pt x="16" y="16"/>
                  </a:lnTo>
                  <a:lnTo>
                    <a:pt x="25" y="16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2706840" y="4622760"/>
              <a:ext cx="37800" cy="12600"/>
            </a:xfrm>
            <a:custGeom>
              <a:avLst/>
              <a:gdLst/>
              <a:ahLst/>
              <a:rect l="l" t="t" r="r" b="b"/>
              <a:pathLst>
                <a:path w="24" h="8">
                  <a:moveTo>
                    <a:pt x="0" y="0"/>
                  </a:moveTo>
                  <a:lnTo>
                    <a:pt x="24" y="0"/>
                  </a:lnTo>
                  <a:lnTo>
                    <a:pt x="24" y="8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2744640" y="4686480"/>
              <a:ext cx="12960" cy="507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2795760" y="4762440"/>
              <a:ext cx="50760" cy="126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2898720" y="4775040"/>
              <a:ext cx="50760" cy="12960"/>
            </a:xfrm>
            <a:custGeom>
              <a:avLst/>
              <a:gdLst/>
              <a:ahLst/>
              <a:rect l="l" t="t" r="r" b="b"/>
              <a:pathLst>
                <a:path w="32" h="8">
                  <a:moveTo>
                    <a:pt x="0" y="0"/>
                  </a:moveTo>
                  <a:lnTo>
                    <a:pt x="24" y="8"/>
                  </a:lnTo>
                  <a:lnTo>
                    <a:pt x="32" y="8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3000240" y="4800600"/>
              <a:ext cx="50760" cy="126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3102120" y="4813200"/>
              <a:ext cx="52200" cy="12960"/>
            </a:xfrm>
            <a:custGeom>
              <a:avLst/>
              <a:gdLst/>
              <a:ahLst/>
              <a:rect l="l" t="t" r="r" b="b"/>
              <a:pathLst>
                <a:path w="33" h="8">
                  <a:moveTo>
                    <a:pt x="0" y="0"/>
                  </a:moveTo>
                  <a:lnTo>
                    <a:pt x="0" y="8"/>
                  </a:lnTo>
                  <a:lnTo>
                    <a:pt x="33" y="8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3205080" y="4838760"/>
              <a:ext cx="50760" cy="12600"/>
            </a:xfrm>
            <a:custGeom>
              <a:avLst/>
              <a:gdLst/>
              <a:ahLst/>
              <a:rect l="l" t="t" r="r" b="b"/>
              <a:pathLst>
                <a:path w="32" h="8">
                  <a:moveTo>
                    <a:pt x="0" y="0"/>
                  </a:moveTo>
                  <a:lnTo>
                    <a:pt x="32" y="8"/>
                  </a:lnTo>
                  <a:lnTo>
                    <a:pt x="32" y="8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3294000" y="4838760"/>
              <a:ext cx="50760" cy="12600"/>
            </a:xfrm>
            <a:custGeom>
              <a:avLst/>
              <a:gdLst/>
              <a:ahLst/>
              <a:rect l="l" t="t" r="r" b="b"/>
              <a:pathLst>
                <a:path w="32" h="8">
                  <a:moveTo>
                    <a:pt x="0" y="0"/>
                  </a:moveTo>
                  <a:lnTo>
                    <a:pt x="0" y="0"/>
                  </a:lnTo>
                  <a:lnTo>
                    <a:pt x="24" y="0"/>
                  </a:lnTo>
                  <a:lnTo>
                    <a:pt x="32" y="8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3397320" y="4876920"/>
              <a:ext cx="38160" cy="27000"/>
            </a:xfrm>
            <a:custGeom>
              <a:avLst/>
              <a:gdLst/>
              <a:ahLst/>
              <a:rect l="l" t="t" r="r" b="b"/>
              <a:pathLst>
                <a:path w="24" h="17">
                  <a:moveTo>
                    <a:pt x="0" y="0"/>
                  </a:moveTo>
                  <a:lnTo>
                    <a:pt x="16" y="9"/>
                  </a:lnTo>
                  <a:lnTo>
                    <a:pt x="24" y="17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3486240" y="4929120"/>
              <a:ext cx="1440" cy="50760"/>
            </a:xfrm>
            <a:custGeom>
              <a:avLst/>
              <a:gdLst/>
              <a:ahLst/>
              <a:rect l="l" t="t" r="r" b="b"/>
              <a:pathLst>
                <a:path w="0" h="32">
                  <a:moveTo>
                    <a:pt x="0" y="0"/>
                  </a:moveTo>
                  <a:lnTo>
                    <a:pt x="0" y="8"/>
                  </a:lnTo>
                  <a:lnTo>
                    <a:pt x="0" y="32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3473280" y="5030640"/>
              <a:ext cx="1800" cy="511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3448080" y="5132520"/>
              <a:ext cx="12600" cy="50760"/>
            </a:xfrm>
            <a:custGeom>
              <a:avLst/>
              <a:gdLst/>
              <a:ahLst/>
              <a:rect l="l" t="t" r="r" b="b"/>
              <a:pathLst>
                <a:path w="8" h="32">
                  <a:moveTo>
                    <a:pt x="8" y="0"/>
                  </a:moveTo>
                  <a:lnTo>
                    <a:pt x="8" y="0"/>
                  </a:lnTo>
                  <a:lnTo>
                    <a:pt x="0" y="32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3422520" y="5234040"/>
              <a:ext cx="12960" cy="52200"/>
            </a:xfrm>
            <a:custGeom>
              <a:avLst/>
              <a:gdLst/>
              <a:ahLst/>
              <a:rect l="l" t="t" r="r" b="b"/>
              <a:pathLst>
                <a:path w="8" h="33">
                  <a:moveTo>
                    <a:pt x="8" y="0"/>
                  </a:moveTo>
                  <a:lnTo>
                    <a:pt x="0" y="16"/>
                  </a:lnTo>
                  <a:lnTo>
                    <a:pt x="0" y="33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3409920" y="5337000"/>
              <a:ext cx="1440" cy="51120"/>
            </a:xfrm>
            <a:custGeom>
              <a:avLst/>
              <a:gdLst/>
              <a:ahLst/>
              <a:rect l="l" t="t" r="r" b="b"/>
              <a:pathLst>
                <a:path w="0" h="32">
                  <a:moveTo>
                    <a:pt x="0" y="0"/>
                  </a:moveTo>
                  <a:lnTo>
                    <a:pt x="0" y="16"/>
                  </a:lnTo>
                  <a:lnTo>
                    <a:pt x="0" y="32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3397320" y="5438880"/>
              <a:ext cx="1440" cy="507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3384720" y="5540400"/>
              <a:ext cx="1440" cy="507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3370320" y="5641920"/>
              <a:ext cx="1440" cy="525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1" name=""/>
            <p:cNvSpPr/>
            <p:nvPr/>
          </p:nvSpPr>
          <p:spPr>
            <a:xfrm flipH="1">
              <a:off x="6822720" y="5591160"/>
              <a:ext cx="5076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2" name=""/>
            <p:cNvSpPr/>
            <p:nvPr/>
          </p:nvSpPr>
          <p:spPr>
            <a:xfrm flipH="1">
              <a:off x="6719400" y="5603760"/>
              <a:ext cx="50760" cy="18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3" name=""/>
            <p:cNvSpPr/>
            <p:nvPr/>
          </p:nvSpPr>
          <p:spPr>
            <a:xfrm flipH="1">
              <a:off x="6617880" y="5603760"/>
              <a:ext cx="50760" cy="18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4" name=""/>
            <p:cNvSpPr/>
            <p:nvPr/>
          </p:nvSpPr>
          <p:spPr>
            <a:xfrm flipH="1">
              <a:off x="6514920" y="5603760"/>
              <a:ext cx="52200" cy="129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5" name=""/>
            <p:cNvSpPr/>
            <p:nvPr/>
          </p:nvSpPr>
          <p:spPr>
            <a:xfrm flipH="1">
              <a:off x="6413040" y="5616720"/>
              <a:ext cx="5076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6" name=""/>
            <p:cNvSpPr/>
            <p:nvPr/>
          </p:nvSpPr>
          <p:spPr>
            <a:xfrm flipH="1">
              <a:off x="6311520" y="5616720"/>
              <a:ext cx="5076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7" name=""/>
            <p:cNvSpPr/>
            <p:nvPr/>
          </p:nvSpPr>
          <p:spPr>
            <a:xfrm flipH="1">
              <a:off x="6195600" y="5629320"/>
              <a:ext cx="5076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8" name=""/>
            <p:cNvSpPr/>
            <p:nvPr/>
          </p:nvSpPr>
          <p:spPr>
            <a:xfrm flipH="1">
              <a:off x="6094080" y="5629320"/>
              <a:ext cx="5076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5991120" y="5629320"/>
              <a:ext cx="50760" cy="12600"/>
            </a:xfrm>
            <a:custGeom>
              <a:avLst/>
              <a:gdLst/>
              <a:ahLst/>
              <a:rect l="l" t="t" r="r" b="b"/>
              <a:pathLst>
                <a:path w="32" h="8">
                  <a:moveTo>
                    <a:pt x="32" y="0"/>
                  </a:moveTo>
                  <a:lnTo>
                    <a:pt x="24" y="8"/>
                  </a:lnTo>
                  <a:lnTo>
                    <a:pt x="0" y="8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0" name=""/>
            <p:cNvSpPr/>
            <p:nvPr/>
          </p:nvSpPr>
          <p:spPr>
            <a:xfrm flipH="1">
              <a:off x="5889240" y="5641920"/>
              <a:ext cx="50760" cy="18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1" name=""/>
            <p:cNvSpPr/>
            <p:nvPr/>
          </p:nvSpPr>
          <p:spPr>
            <a:xfrm flipH="1">
              <a:off x="5786280" y="5641920"/>
              <a:ext cx="52560" cy="18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2" name=""/>
            <p:cNvSpPr/>
            <p:nvPr/>
          </p:nvSpPr>
          <p:spPr>
            <a:xfrm flipH="1">
              <a:off x="5684400" y="5641920"/>
              <a:ext cx="50760" cy="18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3" name=""/>
            <p:cNvSpPr/>
            <p:nvPr/>
          </p:nvSpPr>
          <p:spPr>
            <a:xfrm flipH="1">
              <a:off x="5582880" y="5656320"/>
              <a:ext cx="5076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4" name=""/>
            <p:cNvSpPr/>
            <p:nvPr/>
          </p:nvSpPr>
          <p:spPr>
            <a:xfrm flipH="1">
              <a:off x="5466960" y="5656320"/>
              <a:ext cx="5076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5" name=""/>
            <p:cNvSpPr/>
            <p:nvPr/>
          </p:nvSpPr>
          <p:spPr>
            <a:xfrm flipH="1">
              <a:off x="5365440" y="5656320"/>
              <a:ext cx="5076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6" name=""/>
            <p:cNvSpPr/>
            <p:nvPr/>
          </p:nvSpPr>
          <p:spPr>
            <a:xfrm flipH="1">
              <a:off x="5262120" y="5656320"/>
              <a:ext cx="5076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5160960" y="5668920"/>
              <a:ext cx="50760" cy="1800"/>
            </a:xfrm>
            <a:custGeom>
              <a:avLst/>
              <a:gdLst/>
              <a:ahLst/>
              <a:rect l="l" t="t" r="r" b="b"/>
              <a:pathLst>
                <a:path w="32" h="0">
                  <a:moveTo>
                    <a:pt x="32" y="0"/>
                  </a:moveTo>
                  <a:lnTo>
                    <a:pt x="8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8" name=""/>
            <p:cNvSpPr/>
            <p:nvPr/>
          </p:nvSpPr>
          <p:spPr>
            <a:xfrm flipH="1">
              <a:off x="5057640" y="5668920"/>
              <a:ext cx="52560" cy="18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9" name=""/>
            <p:cNvSpPr/>
            <p:nvPr/>
          </p:nvSpPr>
          <p:spPr>
            <a:xfrm flipH="1">
              <a:off x="4955760" y="5668920"/>
              <a:ext cx="50760" cy="18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0" name=""/>
            <p:cNvSpPr/>
            <p:nvPr/>
          </p:nvSpPr>
          <p:spPr>
            <a:xfrm flipH="1">
              <a:off x="4854240" y="5668920"/>
              <a:ext cx="50760" cy="126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1" name=""/>
            <p:cNvSpPr/>
            <p:nvPr/>
          </p:nvSpPr>
          <p:spPr>
            <a:xfrm flipH="1">
              <a:off x="4738320" y="5681520"/>
              <a:ext cx="50760" cy="18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2" name=""/>
            <p:cNvSpPr/>
            <p:nvPr/>
          </p:nvSpPr>
          <p:spPr>
            <a:xfrm flipH="1">
              <a:off x="4636800" y="5681520"/>
              <a:ext cx="50760" cy="18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3" name=""/>
            <p:cNvSpPr/>
            <p:nvPr/>
          </p:nvSpPr>
          <p:spPr>
            <a:xfrm flipH="1">
              <a:off x="4533480" y="5681520"/>
              <a:ext cx="50760" cy="18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4" name=""/>
            <p:cNvSpPr/>
            <p:nvPr/>
          </p:nvSpPr>
          <p:spPr>
            <a:xfrm flipH="1">
              <a:off x="4431960" y="5681520"/>
              <a:ext cx="50760" cy="18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5" name=""/>
            <p:cNvSpPr/>
            <p:nvPr/>
          </p:nvSpPr>
          <p:spPr>
            <a:xfrm flipH="1">
              <a:off x="4329000" y="5681520"/>
              <a:ext cx="52560" cy="18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6" name=""/>
            <p:cNvSpPr/>
            <p:nvPr/>
          </p:nvSpPr>
          <p:spPr>
            <a:xfrm flipH="1">
              <a:off x="4227120" y="5681520"/>
              <a:ext cx="50760" cy="18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7" name=""/>
            <p:cNvSpPr/>
            <p:nvPr/>
          </p:nvSpPr>
          <p:spPr>
            <a:xfrm flipH="1">
              <a:off x="4113360" y="5681520"/>
              <a:ext cx="63360" cy="18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8" name=""/>
            <p:cNvSpPr/>
            <p:nvPr/>
          </p:nvSpPr>
          <p:spPr>
            <a:xfrm flipH="1">
              <a:off x="4009680" y="5681520"/>
              <a:ext cx="50760" cy="18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9" name=""/>
            <p:cNvSpPr/>
            <p:nvPr/>
          </p:nvSpPr>
          <p:spPr>
            <a:xfrm flipH="1">
              <a:off x="3908160" y="5681520"/>
              <a:ext cx="50760" cy="18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0" name=""/>
            <p:cNvSpPr/>
            <p:nvPr/>
          </p:nvSpPr>
          <p:spPr>
            <a:xfrm flipH="1">
              <a:off x="3804840" y="5681520"/>
              <a:ext cx="50760" cy="18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3703680" y="5681520"/>
              <a:ext cx="50760" cy="1800"/>
            </a:xfrm>
            <a:custGeom>
              <a:avLst/>
              <a:gdLst/>
              <a:ahLst/>
              <a:rect l="l" t="t" r="r" b="b"/>
              <a:pathLst>
                <a:path w="32" h="0">
                  <a:moveTo>
                    <a:pt x="32" y="0"/>
                  </a:moveTo>
                  <a:lnTo>
                    <a:pt x="24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2" name=""/>
            <p:cNvSpPr/>
            <p:nvPr/>
          </p:nvSpPr>
          <p:spPr>
            <a:xfrm flipH="1">
              <a:off x="3600360" y="5681520"/>
              <a:ext cx="52560" cy="18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3" name=""/>
            <p:cNvSpPr/>
            <p:nvPr/>
          </p:nvSpPr>
          <p:spPr>
            <a:xfrm flipH="1">
              <a:off x="3498480" y="5681520"/>
              <a:ext cx="50760" cy="18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4" name=""/>
            <p:cNvSpPr/>
            <p:nvPr/>
          </p:nvSpPr>
          <p:spPr>
            <a:xfrm flipH="1">
              <a:off x="3384360" y="5694480"/>
              <a:ext cx="5076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5" name=""/>
            <p:cNvSpPr/>
            <p:nvPr/>
          </p:nvSpPr>
          <p:spPr>
            <a:xfrm flipH="1">
              <a:off x="3281040" y="5694480"/>
              <a:ext cx="5076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6" name=""/>
            <p:cNvSpPr/>
            <p:nvPr/>
          </p:nvSpPr>
          <p:spPr>
            <a:xfrm flipH="1">
              <a:off x="3179520" y="5694480"/>
              <a:ext cx="5076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3076560" y="5694480"/>
              <a:ext cx="50760" cy="1440"/>
            </a:xfrm>
            <a:custGeom>
              <a:avLst/>
              <a:gdLst/>
              <a:ahLst/>
              <a:rect l="l" t="t" r="r" b="b"/>
              <a:pathLst>
                <a:path w="32" h="0">
                  <a:moveTo>
                    <a:pt x="32" y="0"/>
                  </a:moveTo>
                  <a:lnTo>
                    <a:pt x="8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8" name=""/>
            <p:cNvSpPr/>
            <p:nvPr/>
          </p:nvSpPr>
          <p:spPr>
            <a:xfrm flipH="1">
              <a:off x="2974680" y="5694480"/>
              <a:ext cx="5076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9" name=""/>
            <p:cNvSpPr/>
            <p:nvPr/>
          </p:nvSpPr>
          <p:spPr>
            <a:xfrm flipH="1">
              <a:off x="2871720" y="5694480"/>
              <a:ext cx="5256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0" name=""/>
            <p:cNvSpPr/>
            <p:nvPr/>
          </p:nvSpPr>
          <p:spPr>
            <a:xfrm flipH="1">
              <a:off x="2769840" y="5694480"/>
              <a:ext cx="5076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1" name=""/>
            <p:cNvSpPr/>
            <p:nvPr/>
          </p:nvSpPr>
          <p:spPr>
            <a:xfrm flipV="1">
              <a:off x="6873840" y="5540040"/>
              <a:ext cx="12600" cy="507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2" name=""/>
            <p:cNvSpPr/>
            <p:nvPr/>
          </p:nvSpPr>
          <p:spPr>
            <a:xfrm flipV="1">
              <a:off x="6899400" y="5438520"/>
              <a:ext cx="12600" cy="507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6924600" y="5349960"/>
              <a:ext cx="1800" cy="50760"/>
            </a:xfrm>
            <a:custGeom>
              <a:avLst/>
              <a:gdLst/>
              <a:ahLst/>
              <a:rect l="l" t="t" r="r" b="b"/>
              <a:pathLst>
                <a:path w="0" h="32">
                  <a:moveTo>
                    <a:pt x="0" y="32"/>
                  </a:moveTo>
                  <a:lnTo>
                    <a:pt x="0" y="24"/>
                  </a:lnTo>
                  <a:lnTo>
                    <a:pt x="0" y="8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6861240" y="5259240"/>
              <a:ext cx="38160" cy="39960"/>
            </a:xfrm>
            <a:custGeom>
              <a:avLst/>
              <a:gdLst/>
              <a:ahLst/>
              <a:rect l="l" t="t" r="r" b="b"/>
              <a:pathLst>
                <a:path w="24" h="25">
                  <a:moveTo>
                    <a:pt x="24" y="25"/>
                  </a:moveTo>
                  <a:lnTo>
                    <a:pt x="16" y="17"/>
                  </a:lnTo>
                  <a:lnTo>
                    <a:pt x="0" y="9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6797520" y="518328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24" y="24"/>
                  </a:moveTo>
                  <a:lnTo>
                    <a:pt x="16" y="8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6" name=""/>
            <p:cNvSpPr/>
            <p:nvPr/>
          </p:nvSpPr>
          <p:spPr>
            <a:xfrm flipH="1" flipV="1">
              <a:off x="6757560" y="5119560"/>
              <a:ext cx="12600" cy="129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6797520" y="5106960"/>
              <a:ext cx="12960" cy="50760"/>
            </a:xfrm>
            <a:custGeom>
              <a:avLst/>
              <a:gdLst/>
              <a:ahLst/>
              <a:rect l="l" t="t" r="r" b="b"/>
              <a:pathLst>
                <a:path w="8" h="32">
                  <a:moveTo>
                    <a:pt x="0" y="32"/>
                  </a:moveTo>
                  <a:lnTo>
                    <a:pt x="8" y="8"/>
                  </a:lnTo>
                  <a:lnTo>
                    <a:pt x="8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6797520" y="5005440"/>
              <a:ext cx="12960" cy="50760"/>
            </a:xfrm>
            <a:custGeom>
              <a:avLst/>
              <a:gdLst/>
              <a:ahLst/>
              <a:rect l="l" t="t" r="r" b="b"/>
              <a:pathLst>
                <a:path w="8" h="32">
                  <a:moveTo>
                    <a:pt x="8" y="32"/>
                  </a:moveTo>
                  <a:lnTo>
                    <a:pt x="8" y="32"/>
                  </a:lnTo>
                  <a:lnTo>
                    <a:pt x="8" y="16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6745320" y="4916520"/>
              <a:ext cx="25200" cy="50760"/>
            </a:xfrm>
            <a:custGeom>
              <a:avLst/>
              <a:gdLst/>
              <a:ahLst/>
              <a:rect l="l" t="t" r="r" b="b"/>
              <a:pathLst>
                <a:path w="16" h="32">
                  <a:moveTo>
                    <a:pt x="16" y="32"/>
                  </a:moveTo>
                  <a:lnTo>
                    <a:pt x="8" y="8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6719760" y="4826160"/>
              <a:ext cx="1800" cy="50760"/>
            </a:xfrm>
            <a:custGeom>
              <a:avLst/>
              <a:gdLst/>
              <a:ahLst/>
              <a:rect l="l" t="t" r="r" b="b"/>
              <a:pathLst>
                <a:path w="0" h="32">
                  <a:moveTo>
                    <a:pt x="0" y="32"/>
                  </a:move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6719760" y="4724280"/>
              <a:ext cx="12960" cy="50760"/>
            </a:xfrm>
            <a:custGeom>
              <a:avLst/>
              <a:gdLst/>
              <a:ahLst/>
              <a:rect l="l" t="t" r="r" b="b"/>
              <a:pathLst>
                <a:path w="8" h="32">
                  <a:moveTo>
                    <a:pt x="8" y="32"/>
                  </a:moveTo>
                  <a:lnTo>
                    <a:pt x="8" y="24"/>
                  </a:lnTo>
                  <a:lnTo>
                    <a:pt x="8" y="8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6719760" y="4610160"/>
              <a:ext cx="1800" cy="50760"/>
            </a:xfrm>
            <a:custGeom>
              <a:avLst/>
              <a:gdLst/>
              <a:ahLst/>
              <a:rect l="l" t="t" r="r" b="b"/>
              <a:pathLst>
                <a:path w="0" h="32">
                  <a:moveTo>
                    <a:pt x="0" y="32"/>
                  </a:move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6745320" y="4521240"/>
              <a:ext cx="12600" cy="50760"/>
            </a:xfrm>
            <a:custGeom>
              <a:avLst/>
              <a:gdLst/>
              <a:ahLst/>
              <a:rect l="l" t="t" r="r" b="b"/>
              <a:pathLst>
                <a:path w="8" h="32">
                  <a:moveTo>
                    <a:pt x="0" y="32"/>
                  </a:moveTo>
                  <a:lnTo>
                    <a:pt x="0" y="24"/>
                  </a:lnTo>
                  <a:lnTo>
                    <a:pt x="8" y="16"/>
                  </a:lnTo>
                  <a:lnTo>
                    <a:pt x="8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6783480" y="4430880"/>
              <a:ext cx="27000" cy="37800"/>
            </a:xfrm>
            <a:custGeom>
              <a:avLst/>
              <a:gdLst/>
              <a:ahLst/>
              <a:rect l="l" t="t" r="r" b="b"/>
              <a:pathLst>
                <a:path w="17" h="24">
                  <a:moveTo>
                    <a:pt x="0" y="24"/>
                  </a:moveTo>
                  <a:lnTo>
                    <a:pt x="9" y="8"/>
                  </a:lnTo>
                  <a:lnTo>
                    <a:pt x="17" y="0"/>
                  </a:lnTo>
                  <a:lnTo>
                    <a:pt x="17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6797520" y="4341960"/>
              <a:ext cx="38160" cy="378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0" y="24"/>
                  </a:moveTo>
                  <a:lnTo>
                    <a:pt x="8" y="8"/>
                  </a:lnTo>
                  <a:lnTo>
                    <a:pt x="16" y="0"/>
                  </a:lnTo>
                  <a:lnTo>
                    <a:pt x="24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6886440" y="4329000"/>
              <a:ext cx="50760" cy="12960"/>
            </a:xfrm>
            <a:custGeom>
              <a:avLst/>
              <a:gdLst/>
              <a:ahLst/>
              <a:rect l="l" t="t" r="r" b="b"/>
              <a:pathLst>
                <a:path w="32" h="8">
                  <a:moveTo>
                    <a:pt x="0" y="8"/>
                  </a:moveTo>
                  <a:lnTo>
                    <a:pt x="16" y="8"/>
                  </a:lnTo>
                  <a:lnTo>
                    <a:pt x="32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6988320" y="4290840"/>
              <a:ext cx="52200" cy="25560"/>
            </a:xfrm>
            <a:custGeom>
              <a:avLst/>
              <a:gdLst/>
              <a:ahLst/>
              <a:rect l="l" t="t" r="r" b="b"/>
              <a:pathLst>
                <a:path w="33" h="16">
                  <a:moveTo>
                    <a:pt x="0" y="16"/>
                  </a:moveTo>
                  <a:lnTo>
                    <a:pt x="16" y="8"/>
                  </a:lnTo>
                  <a:lnTo>
                    <a:pt x="33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7078680" y="422748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0" y="24"/>
                  </a:moveTo>
                  <a:lnTo>
                    <a:pt x="16" y="8"/>
                  </a:lnTo>
                  <a:lnTo>
                    <a:pt x="24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7167600" y="416412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0" y="24"/>
                  </a:moveTo>
                  <a:lnTo>
                    <a:pt x="16" y="0"/>
                  </a:lnTo>
                  <a:lnTo>
                    <a:pt x="24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5237280" y="3257640"/>
              <a:ext cx="255600" cy="268200"/>
            </a:xfrm>
            <a:custGeom>
              <a:avLst/>
              <a:gdLst/>
              <a:ahLst/>
              <a:rect l="l" t="t" r="r" b="b"/>
              <a:pathLst>
                <a:path w="161" h="169">
                  <a:moveTo>
                    <a:pt x="0" y="56"/>
                  </a:moveTo>
                  <a:lnTo>
                    <a:pt x="8" y="129"/>
                  </a:lnTo>
                  <a:lnTo>
                    <a:pt x="40" y="161"/>
                  </a:lnTo>
                  <a:lnTo>
                    <a:pt x="105" y="169"/>
                  </a:lnTo>
                  <a:lnTo>
                    <a:pt x="153" y="129"/>
                  </a:lnTo>
                  <a:lnTo>
                    <a:pt x="161" y="64"/>
                  </a:lnTo>
                  <a:lnTo>
                    <a:pt x="113" y="32"/>
                  </a:lnTo>
                  <a:lnTo>
                    <a:pt x="73" y="0"/>
                  </a:lnTo>
                  <a:lnTo>
                    <a:pt x="40" y="16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5006880" y="3997440"/>
              <a:ext cx="50760" cy="126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5110200" y="4022640"/>
              <a:ext cx="50760" cy="129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3" name=""/>
            <p:cNvSpPr/>
            <p:nvPr/>
          </p:nvSpPr>
          <p:spPr>
            <a:xfrm flipV="1">
              <a:off x="5199120" y="3971520"/>
              <a:ext cx="12600" cy="507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4" name=""/>
            <p:cNvSpPr/>
            <p:nvPr/>
          </p:nvSpPr>
          <p:spPr>
            <a:xfrm flipV="1">
              <a:off x="5211720" y="3870000"/>
              <a:ext cx="12600" cy="507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5" name=""/>
            <p:cNvSpPr/>
            <p:nvPr/>
          </p:nvSpPr>
          <p:spPr>
            <a:xfrm flipV="1">
              <a:off x="5237280" y="3768480"/>
              <a:ext cx="1440" cy="507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6" name=""/>
            <p:cNvSpPr/>
            <p:nvPr/>
          </p:nvSpPr>
          <p:spPr>
            <a:xfrm flipV="1">
              <a:off x="5249880" y="3665160"/>
              <a:ext cx="1440" cy="507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5237280" y="3576600"/>
              <a:ext cx="12600" cy="38160"/>
            </a:xfrm>
            <a:custGeom>
              <a:avLst/>
              <a:gdLst/>
              <a:ahLst/>
              <a:rect l="l" t="t" r="r" b="b"/>
              <a:pathLst>
                <a:path w="8" h="24">
                  <a:moveTo>
                    <a:pt x="8" y="24"/>
                  </a:move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5275440" y="3551400"/>
              <a:ext cx="50760" cy="12600"/>
            </a:xfrm>
            <a:custGeom>
              <a:avLst/>
              <a:gdLst/>
              <a:ahLst/>
              <a:rect l="l" t="t" r="r" b="b"/>
              <a:pathLst>
                <a:path w="32" h="8">
                  <a:moveTo>
                    <a:pt x="0" y="0"/>
                  </a:moveTo>
                  <a:lnTo>
                    <a:pt x="8" y="0"/>
                  </a:lnTo>
                  <a:lnTo>
                    <a:pt x="32" y="8"/>
                  </a:lnTo>
                  <a:lnTo>
                    <a:pt x="32" y="8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5378400" y="3576600"/>
              <a:ext cx="50760" cy="18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5454720" y="3424320"/>
              <a:ext cx="1841400" cy="726840"/>
            </a:xfrm>
            <a:custGeom>
              <a:avLst/>
              <a:gdLst/>
              <a:ahLst/>
              <a:rect l="l" t="t" r="r" b="b"/>
              <a:pathLst>
                <a:path w="1160" h="458">
                  <a:moveTo>
                    <a:pt x="1160" y="458"/>
                  </a:moveTo>
                  <a:lnTo>
                    <a:pt x="1007" y="417"/>
                  </a:lnTo>
                  <a:lnTo>
                    <a:pt x="999" y="409"/>
                  </a:lnTo>
                  <a:lnTo>
                    <a:pt x="990" y="409"/>
                  </a:lnTo>
                  <a:lnTo>
                    <a:pt x="974" y="409"/>
                  </a:lnTo>
                  <a:lnTo>
                    <a:pt x="862" y="377"/>
                  </a:lnTo>
                  <a:lnTo>
                    <a:pt x="636" y="200"/>
                  </a:lnTo>
                  <a:lnTo>
                    <a:pt x="604" y="184"/>
                  </a:lnTo>
                  <a:lnTo>
                    <a:pt x="387" y="144"/>
                  </a:lnTo>
                  <a:lnTo>
                    <a:pt x="314" y="128"/>
                  </a:lnTo>
                  <a:lnTo>
                    <a:pt x="193" y="120"/>
                  </a:lnTo>
                  <a:lnTo>
                    <a:pt x="185" y="120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5467320" y="3436920"/>
              <a:ext cx="1440" cy="507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5454720" y="3538440"/>
              <a:ext cx="1440" cy="507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5454720" y="3639960"/>
              <a:ext cx="1440" cy="63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5454720" y="3755880"/>
              <a:ext cx="1440" cy="51120"/>
            </a:xfrm>
            <a:custGeom>
              <a:avLst/>
              <a:gdLst/>
              <a:ahLst/>
              <a:rect l="l" t="t" r="r" b="b"/>
              <a:pathLst>
                <a:path w="0" h="32">
                  <a:moveTo>
                    <a:pt x="0" y="0"/>
                  </a:moveTo>
                  <a:lnTo>
                    <a:pt x="0" y="16"/>
                  </a:lnTo>
                  <a:lnTo>
                    <a:pt x="0" y="32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5454720" y="3857760"/>
              <a:ext cx="1440" cy="507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5454720" y="3959280"/>
              <a:ext cx="12600" cy="50760"/>
            </a:xfrm>
            <a:custGeom>
              <a:avLst/>
              <a:gdLst/>
              <a:ahLst/>
              <a:rect l="l" t="t" r="r" b="b"/>
              <a:pathLst>
                <a:path w="8" h="32">
                  <a:moveTo>
                    <a:pt x="0" y="0"/>
                  </a:moveTo>
                  <a:lnTo>
                    <a:pt x="0" y="24"/>
                  </a:lnTo>
                  <a:lnTo>
                    <a:pt x="8" y="32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5467320" y="4060800"/>
              <a:ext cx="1440" cy="507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5467320" y="4164120"/>
              <a:ext cx="1440" cy="50760"/>
            </a:xfrm>
            <a:custGeom>
              <a:avLst/>
              <a:gdLst/>
              <a:ahLst/>
              <a:rect l="l" t="t" r="r" b="b"/>
              <a:pathLst>
                <a:path w="0" h="32">
                  <a:moveTo>
                    <a:pt x="0" y="0"/>
                  </a:moveTo>
                  <a:lnTo>
                    <a:pt x="0" y="24"/>
                  </a:lnTo>
                  <a:lnTo>
                    <a:pt x="0" y="32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9" name=""/>
            <p:cNvSpPr/>
            <p:nvPr/>
          </p:nvSpPr>
          <p:spPr>
            <a:xfrm flipH="1">
              <a:off x="5454360" y="4265640"/>
              <a:ext cx="12600" cy="633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5454720" y="4379760"/>
              <a:ext cx="1440" cy="51120"/>
            </a:xfrm>
            <a:custGeom>
              <a:avLst/>
              <a:gdLst/>
              <a:ahLst/>
              <a:rect l="l" t="t" r="r" b="b"/>
              <a:pathLst>
                <a:path w="0" h="32">
                  <a:moveTo>
                    <a:pt x="0" y="0"/>
                  </a:moveTo>
                  <a:lnTo>
                    <a:pt x="0" y="16"/>
                  </a:lnTo>
                  <a:lnTo>
                    <a:pt x="0" y="32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1" name=""/>
            <p:cNvSpPr/>
            <p:nvPr/>
          </p:nvSpPr>
          <p:spPr>
            <a:xfrm flipV="1">
              <a:off x="3114720" y="5641920"/>
              <a:ext cx="1440" cy="525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3089160" y="5540400"/>
              <a:ext cx="12960" cy="50760"/>
            </a:xfrm>
            <a:custGeom>
              <a:avLst/>
              <a:gdLst/>
              <a:ahLst/>
              <a:rect l="l" t="t" r="r" b="b"/>
              <a:pathLst>
                <a:path w="8" h="32">
                  <a:moveTo>
                    <a:pt x="8" y="32"/>
                  </a:moveTo>
                  <a:lnTo>
                    <a:pt x="0" y="8"/>
                  </a:lnTo>
                  <a:lnTo>
                    <a:pt x="8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3" name=""/>
            <p:cNvSpPr/>
            <p:nvPr/>
          </p:nvSpPr>
          <p:spPr>
            <a:xfrm flipV="1">
              <a:off x="3127320" y="5451120"/>
              <a:ext cx="27000" cy="507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3102120" y="5362560"/>
              <a:ext cx="25200" cy="50760"/>
            </a:xfrm>
            <a:custGeom>
              <a:avLst/>
              <a:gdLst/>
              <a:ahLst/>
              <a:rect l="l" t="t" r="r" b="b"/>
              <a:pathLst>
                <a:path w="16" h="32">
                  <a:moveTo>
                    <a:pt x="16" y="32"/>
                  </a:moveTo>
                  <a:lnTo>
                    <a:pt x="8" y="8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3038400" y="5286240"/>
              <a:ext cx="25560" cy="38160"/>
            </a:xfrm>
            <a:custGeom>
              <a:avLst/>
              <a:gdLst/>
              <a:ahLst/>
              <a:rect l="l" t="t" r="r" b="b"/>
              <a:pathLst>
                <a:path w="16" h="24">
                  <a:moveTo>
                    <a:pt x="16" y="24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6" name=""/>
            <p:cNvSpPr/>
            <p:nvPr/>
          </p:nvSpPr>
          <p:spPr>
            <a:xfrm flipH="1" flipV="1">
              <a:off x="2975040" y="5195880"/>
              <a:ext cx="25200" cy="381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2911320" y="5119560"/>
              <a:ext cx="25560" cy="38160"/>
            </a:xfrm>
            <a:custGeom>
              <a:avLst/>
              <a:gdLst/>
              <a:ahLst/>
              <a:rect l="l" t="t" r="r" b="b"/>
              <a:pathLst>
                <a:path w="16" h="24">
                  <a:moveTo>
                    <a:pt x="16" y="24"/>
                  </a:moveTo>
                  <a:lnTo>
                    <a:pt x="8" y="16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8" name=""/>
            <p:cNvSpPr/>
            <p:nvPr/>
          </p:nvSpPr>
          <p:spPr>
            <a:xfrm flipV="1">
              <a:off x="2884320" y="5017680"/>
              <a:ext cx="14400" cy="507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2911320" y="4916520"/>
              <a:ext cx="12960" cy="50760"/>
            </a:xfrm>
            <a:custGeom>
              <a:avLst/>
              <a:gdLst/>
              <a:ahLst/>
              <a:rect l="l" t="t" r="r" b="b"/>
              <a:pathLst>
                <a:path w="8" h="32">
                  <a:moveTo>
                    <a:pt x="0" y="32"/>
                  </a:moveTo>
                  <a:lnTo>
                    <a:pt x="0" y="16"/>
                  </a:lnTo>
                  <a:lnTo>
                    <a:pt x="8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0" name=""/>
            <p:cNvSpPr/>
            <p:nvPr/>
          </p:nvSpPr>
          <p:spPr>
            <a:xfrm flipV="1">
              <a:off x="2924280" y="4812840"/>
              <a:ext cx="12600" cy="507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1" name=""/>
            <p:cNvSpPr/>
            <p:nvPr/>
          </p:nvSpPr>
          <p:spPr>
            <a:xfrm flipV="1">
              <a:off x="2949480" y="4711320"/>
              <a:ext cx="12960" cy="507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2962440" y="4610160"/>
              <a:ext cx="12600" cy="50760"/>
            </a:xfrm>
            <a:custGeom>
              <a:avLst/>
              <a:gdLst/>
              <a:ahLst/>
              <a:rect l="l" t="t" r="r" b="b"/>
              <a:pathLst>
                <a:path w="8" h="32">
                  <a:moveTo>
                    <a:pt x="0" y="32"/>
                  </a:moveTo>
                  <a:lnTo>
                    <a:pt x="8" y="16"/>
                  </a:lnTo>
                  <a:lnTo>
                    <a:pt x="8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2987640" y="4508640"/>
              <a:ext cx="12600" cy="50760"/>
            </a:xfrm>
            <a:custGeom>
              <a:avLst/>
              <a:gdLst/>
              <a:ahLst/>
              <a:rect l="l" t="t" r="r" b="b"/>
              <a:pathLst>
                <a:path w="8" h="32">
                  <a:moveTo>
                    <a:pt x="0" y="32"/>
                  </a:moveTo>
                  <a:lnTo>
                    <a:pt x="8" y="8"/>
                  </a:lnTo>
                  <a:lnTo>
                    <a:pt x="8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3013200" y="4405320"/>
              <a:ext cx="12600" cy="50760"/>
            </a:xfrm>
            <a:custGeom>
              <a:avLst/>
              <a:gdLst/>
              <a:ahLst/>
              <a:rect l="l" t="t" r="r" b="b"/>
              <a:pathLst>
                <a:path w="8" h="32">
                  <a:moveTo>
                    <a:pt x="0" y="32"/>
                  </a:moveTo>
                  <a:lnTo>
                    <a:pt x="8" y="16"/>
                  </a:lnTo>
                  <a:lnTo>
                    <a:pt x="8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5" name=""/>
            <p:cNvSpPr/>
            <p:nvPr/>
          </p:nvSpPr>
          <p:spPr>
            <a:xfrm flipV="1">
              <a:off x="3038400" y="4316040"/>
              <a:ext cx="25560" cy="507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3063960" y="4227480"/>
              <a:ext cx="25200" cy="38160"/>
            </a:xfrm>
            <a:custGeom>
              <a:avLst/>
              <a:gdLst/>
              <a:ahLst/>
              <a:rect l="l" t="t" r="r" b="b"/>
              <a:pathLst>
                <a:path w="16" h="24">
                  <a:moveTo>
                    <a:pt x="0" y="24"/>
                  </a:moveTo>
                  <a:lnTo>
                    <a:pt x="8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16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3102120" y="4189320"/>
              <a:ext cx="52200" cy="12960"/>
            </a:xfrm>
            <a:custGeom>
              <a:avLst/>
              <a:gdLst/>
              <a:ahLst/>
              <a:rect l="l" t="t" r="r" b="b"/>
              <a:pathLst>
                <a:path w="33" h="8">
                  <a:moveTo>
                    <a:pt x="0" y="0"/>
                  </a:moveTo>
                  <a:lnTo>
                    <a:pt x="8" y="0"/>
                  </a:lnTo>
                  <a:lnTo>
                    <a:pt x="25" y="8"/>
                  </a:lnTo>
                  <a:lnTo>
                    <a:pt x="33" y="8"/>
                  </a:lnTo>
                  <a:lnTo>
                    <a:pt x="33" y="8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3205080" y="4189320"/>
              <a:ext cx="50760" cy="12960"/>
            </a:xfrm>
            <a:custGeom>
              <a:avLst/>
              <a:gdLst/>
              <a:ahLst/>
              <a:rect l="l" t="t" r="r" b="b"/>
              <a:pathLst>
                <a:path w="32" h="8">
                  <a:moveTo>
                    <a:pt x="0" y="0"/>
                  </a:moveTo>
                  <a:lnTo>
                    <a:pt x="8" y="0"/>
                  </a:lnTo>
                  <a:lnTo>
                    <a:pt x="24" y="8"/>
                  </a:lnTo>
                  <a:lnTo>
                    <a:pt x="32" y="8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3306600" y="4202280"/>
              <a:ext cx="51120" cy="25200"/>
            </a:xfrm>
            <a:custGeom>
              <a:avLst/>
              <a:gdLst/>
              <a:ahLst/>
              <a:rect l="l" t="t" r="r" b="b"/>
              <a:pathLst>
                <a:path w="32" h="16">
                  <a:moveTo>
                    <a:pt x="0" y="0"/>
                  </a:moveTo>
                  <a:lnTo>
                    <a:pt x="8" y="0"/>
                  </a:lnTo>
                  <a:lnTo>
                    <a:pt x="16" y="8"/>
                  </a:lnTo>
                  <a:lnTo>
                    <a:pt x="32" y="16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3409920" y="4227480"/>
              <a:ext cx="38160" cy="25560"/>
            </a:xfrm>
            <a:custGeom>
              <a:avLst/>
              <a:gdLst/>
              <a:ahLst/>
              <a:rect l="l" t="t" r="r" b="b"/>
              <a:pathLst>
                <a:path w="24" h="16">
                  <a:moveTo>
                    <a:pt x="0" y="0"/>
                  </a:moveTo>
                  <a:lnTo>
                    <a:pt x="8" y="0"/>
                  </a:lnTo>
                  <a:lnTo>
                    <a:pt x="16" y="8"/>
                  </a:lnTo>
                  <a:lnTo>
                    <a:pt x="24" y="16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1" name=""/>
            <p:cNvSpPr/>
            <p:nvPr/>
          </p:nvSpPr>
          <p:spPr>
            <a:xfrm flipV="1">
              <a:off x="3486240" y="4214880"/>
              <a:ext cx="25200" cy="381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2" name=""/>
            <p:cNvSpPr/>
            <p:nvPr/>
          </p:nvSpPr>
          <p:spPr>
            <a:xfrm flipV="1">
              <a:off x="3537000" y="4111560"/>
              <a:ext cx="25200" cy="525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3" name=""/>
            <p:cNvSpPr/>
            <p:nvPr/>
          </p:nvSpPr>
          <p:spPr>
            <a:xfrm flipV="1">
              <a:off x="3600360" y="4035240"/>
              <a:ext cx="27000" cy="378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3652920" y="3946680"/>
              <a:ext cx="25200" cy="37800"/>
            </a:xfrm>
            <a:custGeom>
              <a:avLst/>
              <a:gdLst/>
              <a:ahLst/>
              <a:rect l="l" t="t" r="r" b="b"/>
              <a:pathLst>
                <a:path w="16" h="24">
                  <a:moveTo>
                    <a:pt x="0" y="24"/>
                  </a:moveTo>
                  <a:lnTo>
                    <a:pt x="8" y="8"/>
                  </a:lnTo>
                  <a:lnTo>
                    <a:pt x="16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3703680" y="3870360"/>
              <a:ext cx="38160" cy="25200"/>
            </a:xfrm>
            <a:custGeom>
              <a:avLst/>
              <a:gdLst/>
              <a:ahLst/>
              <a:rect l="l" t="t" r="r" b="b"/>
              <a:pathLst>
                <a:path w="24" h="16">
                  <a:moveTo>
                    <a:pt x="0" y="16"/>
                  </a:moveTo>
                  <a:lnTo>
                    <a:pt x="0" y="8"/>
                  </a:lnTo>
                  <a:lnTo>
                    <a:pt x="16" y="0"/>
                  </a:lnTo>
                  <a:lnTo>
                    <a:pt x="24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3780000" y="3794040"/>
              <a:ext cx="3780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0" y="24"/>
                  </a:moveTo>
                  <a:lnTo>
                    <a:pt x="8" y="8"/>
                  </a:lnTo>
                  <a:lnTo>
                    <a:pt x="24" y="0"/>
                  </a:lnTo>
                  <a:lnTo>
                    <a:pt x="24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3855960" y="3768840"/>
              <a:ext cx="52560" cy="25200"/>
            </a:xfrm>
            <a:custGeom>
              <a:avLst/>
              <a:gdLst/>
              <a:ahLst/>
              <a:rect l="l" t="t" r="r" b="b"/>
              <a:pathLst>
                <a:path w="33" h="16">
                  <a:moveTo>
                    <a:pt x="0" y="0"/>
                  </a:moveTo>
                  <a:lnTo>
                    <a:pt x="9" y="8"/>
                  </a:lnTo>
                  <a:lnTo>
                    <a:pt x="25" y="16"/>
                  </a:lnTo>
                  <a:lnTo>
                    <a:pt x="33" y="16"/>
                  </a:lnTo>
                  <a:lnTo>
                    <a:pt x="33" y="16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3946680" y="3807000"/>
              <a:ext cx="50760" cy="12600"/>
            </a:xfrm>
            <a:custGeom>
              <a:avLst/>
              <a:gdLst/>
              <a:ahLst/>
              <a:rect l="l" t="t" r="r" b="b"/>
              <a:pathLst>
                <a:path w="32" h="8">
                  <a:moveTo>
                    <a:pt x="0" y="0"/>
                  </a:moveTo>
                  <a:lnTo>
                    <a:pt x="16" y="8"/>
                  </a:lnTo>
                  <a:lnTo>
                    <a:pt x="32" y="8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4048200" y="3819600"/>
              <a:ext cx="50760" cy="12600"/>
            </a:xfrm>
            <a:custGeom>
              <a:avLst/>
              <a:gdLst/>
              <a:ahLst/>
              <a:rect l="l" t="t" r="r" b="b"/>
              <a:pathLst>
                <a:path w="32" h="8">
                  <a:moveTo>
                    <a:pt x="0" y="0"/>
                  </a:moveTo>
                  <a:lnTo>
                    <a:pt x="0" y="0"/>
                  </a:lnTo>
                  <a:lnTo>
                    <a:pt x="8" y="0"/>
                  </a:lnTo>
                  <a:lnTo>
                    <a:pt x="24" y="8"/>
                  </a:lnTo>
                  <a:lnTo>
                    <a:pt x="32" y="8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4151160" y="3832200"/>
              <a:ext cx="38160" cy="12600"/>
            </a:xfrm>
            <a:custGeom>
              <a:avLst/>
              <a:gdLst/>
              <a:ahLst/>
              <a:rect l="l" t="t" r="r" b="b"/>
              <a:pathLst>
                <a:path w="24" h="8">
                  <a:moveTo>
                    <a:pt x="0" y="8"/>
                  </a:moveTo>
                  <a:lnTo>
                    <a:pt x="0" y="8"/>
                  </a:lnTo>
                  <a:lnTo>
                    <a:pt x="16" y="8"/>
                  </a:lnTo>
                  <a:lnTo>
                    <a:pt x="24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4240080" y="3794040"/>
              <a:ext cx="38160" cy="12960"/>
            </a:xfrm>
            <a:custGeom>
              <a:avLst/>
              <a:gdLst/>
              <a:ahLst/>
              <a:rect l="l" t="t" r="r" b="b"/>
              <a:pathLst>
                <a:path w="24" h="8">
                  <a:moveTo>
                    <a:pt x="0" y="8"/>
                  </a:moveTo>
                  <a:lnTo>
                    <a:pt x="0" y="0"/>
                  </a:lnTo>
                  <a:lnTo>
                    <a:pt x="16" y="0"/>
                  </a:lnTo>
                  <a:lnTo>
                    <a:pt x="24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4329000" y="3794040"/>
              <a:ext cx="52560" cy="12960"/>
            </a:xfrm>
            <a:custGeom>
              <a:avLst/>
              <a:gdLst/>
              <a:ahLst/>
              <a:rect l="l" t="t" r="r" b="b"/>
              <a:pathLst>
                <a:path w="33" h="8">
                  <a:moveTo>
                    <a:pt x="0" y="0"/>
                  </a:moveTo>
                  <a:lnTo>
                    <a:pt x="33" y="8"/>
                  </a:lnTo>
                  <a:lnTo>
                    <a:pt x="33" y="8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3" name=""/>
          <p:cNvGrpSpPr/>
          <p:nvPr/>
        </p:nvGrpSpPr>
        <p:grpSpPr>
          <a:xfrm>
            <a:off x="2130480" y="1485720"/>
            <a:ext cx="5036760" cy="3455640"/>
            <a:chOff x="2130480" y="1485720"/>
            <a:chExt cx="5036760" cy="3455640"/>
          </a:xfrm>
        </p:grpSpPr>
        <p:sp>
          <p:nvSpPr>
            <p:cNvPr id="1684" name=""/>
            <p:cNvSpPr/>
            <p:nvPr/>
          </p:nvSpPr>
          <p:spPr>
            <a:xfrm>
              <a:off x="4432320" y="3807000"/>
              <a:ext cx="50760" cy="12600"/>
            </a:xfrm>
            <a:custGeom>
              <a:avLst/>
              <a:gdLst/>
              <a:ahLst/>
              <a:rect l="l" t="t" r="r" b="b"/>
              <a:pathLst>
                <a:path w="32" h="8">
                  <a:moveTo>
                    <a:pt x="0" y="0"/>
                  </a:moveTo>
                  <a:lnTo>
                    <a:pt x="24" y="8"/>
                  </a:lnTo>
                  <a:lnTo>
                    <a:pt x="32" y="8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4533840" y="3832200"/>
              <a:ext cx="50760" cy="12600"/>
            </a:xfrm>
            <a:custGeom>
              <a:avLst/>
              <a:gdLst/>
              <a:ahLst/>
              <a:rect l="l" t="t" r="r" b="b"/>
              <a:pathLst>
                <a:path w="32" h="8">
                  <a:moveTo>
                    <a:pt x="0" y="0"/>
                  </a:moveTo>
                  <a:lnTo>
                    <a:pt x="8" y="0"/>
                  </a:lnTo>
                  <a:lnTo>
                    <a:pt x="32" y="8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4637160" y="3857760"/>
              <a:ext cx="50760" cy="12600"/>
            </a:xfrm>
            <a:custGeom>
              <a:avLst/>
              <a:gdLst/>
              <a:ahLst/>
              <a:rect l="l" t="t" r="r" b="b"/>
              <a:pathLst>
                <a:path w="32" h="8">
                  <a:moveTo>
                    <a:pt x="0" y="0"/>
                  </a:moveTo>
                  <a:lnTo>
                    <a:pt x="0" y="0"/>
                  </a:lnTo>
                  <a:lnTo>
                    <a:pt x="24" y="8"/>
                  </a:lnTo>
                  <a:lnTo>
                    <a:pt x="32" y="8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4738680" y="3882960"/>
              <a:ext cx="50760" cy="12600"/>
            </a:xfrm>
            <a:custGeom>
              <a:avLst/>
              <a:gdLst/>
              <a:ahLst/>
              <a:rect l="l" t="t" r="r" b="b"/>
              <a:pathLst>
                <a:path w="32" h="8">
                  <a:moveTo>
                    <a:pt x="0" y="0"/>
                  </a:moveTo>
                  <a:lnTo>
                    <a:pt x="24" y="8"/>
                  </a:lnTo>
                  <a:lnTo>
                    <a:pt x="32" y="8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8" name=""/>
            <p:cNvSpPr/>
            <p:nvPr/>
          </p:nvSpPr>
          <p:spPr>
            <a:xfrm>
              <a:off x="4840200" y="3895560"/>
              <a:ext cx="52560" cy="1800"/>
            </a:xfrm>
            <a:custGeom>
              <a:avLst/>
              <a:gdLst/>
              <a:ahLst/>
              <a:rect l="l" t="t" r="r" b="b"/>
              <a:pathLst>
                <a:path w="33" h="0">
                  <a:moveTo>
                    <a:pt x="0" y="0"/>
                  </a:moveTo>
                  <a:lnTo>
                    <a:pt x="9" y="0"/>
                  </a:lnTo>
                  <a:lnTo>
                    <a:pt x="25" y="0"/>
                  </a:lnTo>
                  <a:lnTo>
                    <a:pt x="33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9" name=""/>
            <p:cNvSpPr/>
            <p:nvPr/>
          </p:nvSpPr>
          <p:spPr>
            <a:xfrm flipV="1">
              <a:off x="4943520" y="3857400"/>
              <a:ext cx="12600" cy="378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4968720" y="3781440"/>
              <a:ext cx="38160" cy="25560"/>
            </a:xfrm>
            <a:custGeom>
              <a:avLst/>
              <a:gdLst/>
              <a:ahLst/>
              <a:rect l="l" t="t" r="r" b="b"/>
              <a:pathLst>
                <a:path w="24" h="16">
                  <a:moveTo>
                    <a:pt x="0" y="16"/>
                  </a:moveTo>
                  <a:lnTo>
                    <a:pt x="8" y="0"/>
                  </a:lnTo>
                  <a:lnTo>
                    <a:pt x="24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5057640" y="3768840"/>
              <a:ext cx="25560" cy="38160"/>
            </a:xfrm>
            <a:custGeom>
              <a:avLst/>
              <a:gdLst/>
              <a:ahLst/>
              <a:rect l="l" t="t" r="r" b="b"/>
              <a:pathLst>
                <a:path w="16" h="24">
                  <a:moveTo>
                    <a:pt x="0" y="16"/>
                  </a:moveTo>
                  <a:lnTo>
                    <a:pt x="8" y="24"/>
                  </a:lnTo>
                  <a:lnTo>
                    <a:pt x="16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5097600" y="3678120"/>
              <a:ext cx="12600" cy="38160"/>
            </a:xfrm>
            <a:custGeom>
              <a:avLst/>
              <a:gdLst/>
              <a:ahLst/>
              <a:rect l="l" t="t" r="r" b="b"/>
              <a:pathLst>
                <a:path w="8" h="24">
                  <a:moveTo>
                    <a:pt x="0" y="24"/>
                  </a:moveTo>
                  <a:lnTo>
                    <a:pt x="0" y="24"/>
                  </a:lnTo>
                  <a:lnTo>
                    <a:pt x="8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3" name=""/>
            <p:cNvSpPr/>
            <p:nvPr/>
          </p:nvSpPr>
          <p:spPr>
            <a:xfrm flipV="1">
              <a:off x="5122800" y="3576240"/>
              <a:ext cx="25560" cy="507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4" name=""/>
            <p:cNvSpPr/>
            <p:nvPr/>
          </p:nvSpPr>
          <p:spPr>
            <a:xfrm flipV="1">
              <a:off x="5160960" y="3474720"/>
              <a:ext cx="12600" cy="507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5186520" y="3373560"/>
              <a:ext cx="12600" cy="50760"/>
            </a:xfrm>
            <a:custGeom>
              <a:avLst/>
              <a:gdLst/>
              <a:ahLst/>
              <a:rect l="l" t="t" r="r" b="b"/>
              <a:pathLst>
                <a:path w="8" h="32">
                  <a:moveTo>
                    <a:pt x="0" y="32"/>
                  </a:moveTo>
                  <a:lnTo>
                    <a:pt x="8" y="16"/>
                  </a:lnTo>
                  <a:lnTo>
                    <a:pt x="8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6" name=""/>
            <p:cNvSpPr/>
            <p:nvPr/>
          </p:nvSpPr>
          <p:spPr>
            <a:xfrm>
              <a:off x="5032440" y="3282840"/>
              <a:ext cx="1440" cy="507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7" name=""/>
            <p:cNvSpPr/>
            <p:nvPr/>
          </p:nvSpPr>
          <p:spPr>
            <a:xfrm>
              <a:off x="5006880" y="3386160"/>
              <a:ext cx="12960" cy="38160"/>
            </a:xfrm>
            <a:custGeom>
              <a:avLst/>
              <a:gdLst/>
              <a:ahLst/>
              <a:rect l="l" t="t" r="r" b="b"/>
              <a:pathLst>
                <a:path w="8" h="24">
                  <a:moveTo>
                    <a:pt x="8" y="0"/>
                  </a:moveTo>
                  <a:lnTo>
                    <a:pt x="0" y="24"/>
                  </a:lnTo>
                  <a:lnTo>
                    <a:pt x="0" y="24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8" name=""/>
            <p:cNvSpPr/>
            <p:nvPr/>
          </p:nvSpPr>
          <p:spPr>
            <a:xfrm flipH="1">
              <a:off x="4892400" y="3411360"/>
              <a:ext cx="50760" cy="18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9" name=""/>
            <p:cNvSpPr/>
            <p:nvPr/>
          </p:nvSpPr>
          <p:spPr>
            <a:xfrm flipH="1" flipV="1">
              <a:off x="4789080" y="3385800"/>
              <a:ext cx="50760" cy="126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0" name=""/>
            <p:cNvSpPr/>
            <p:nvPr/>
          </p:nvSpPr>
          <p:spPr>
            <a:xfrm flipH="1" flipV="1">
              <a:off x="4687560" y="3373200"/>
              <a:ext cx="50760" cy="126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1" name=""/>
            <p:cNvSpPr/>
            <p:nvPr/>
          </p:nvSpPr>
          <p:spPr>
            <a:xfrm flipH="1" flipV="1">
              <a:off x="4584600" y="3359160"/>
              <a:ext cx="52560" cy="144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2" name=""/>
            <p:cNvSpPr/>
            <p:nvPr/>
          </p:nvSpPr>
          <p:spPr>
            <a:xfrm flipH="1">
              <a:off x="4482720" y="3346560"/>
              <a:ext cx="5076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3" name=""/>
            <p:cNvSpPr/>
            <p:nvPr/>
          </p:nvSpPr>
          <p:spPr>
            <a:xfrm flipH="1">
              <a:off x="4381200" y="3333600"/>
              <a:ext cx="50760" cy="18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4" name=""/>
            <p:cNvSpPr/>
            <p:nvPr/>
          </p:nvSpPr>
          <p:spPr>
            <a:xfrm flipH="1" flipV="1">
              <a:off x="4277880" y="3308040"/>
              <a:ext cx="50760" cy="126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5" name=""/>
            <p:cNvSpPr/>
            <p:nvPr/>
          </p:nvSpPr>
          <p:spPr>
            <a:xfrm flipH="1" flipV="1">
              <a:off x="4176360" y="3295440"/>
              <a:ext cx="50760" cy="126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6" name=""/>
            <p:cNvSpPr/>
            <p:nvPr/>
          </p:nvSpPr>
          <p:spPr>
            <a:xfrm flipH="1" flipV="1">
              <a:off x="4073400" y="3282840"/>
              <a:ext cx="52560" cy="129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7" name=""/>
            <p:cNvSpPr/>
            <p:nvPr/>
          </p:nvSpPr>
          <p:spPr>
            <a:xfrm flipH="1">
              <a:off x="3971520" y="3270240"/>
              <a:ext cx="5076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8" name=""/>
            <p:cNvSpPr/>
            <p:nvPr/>
          </p:nvSpPr>
          <p:spPr>
            <a:xfrm flipH="1">
              <a:off x="3870000" y="3257640"/>
              <a:ext cx="5076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9" name=""/>
            <p:cNvSpPr/>
            <p:nvPr/>
          </p:nvSpPr>
          <p:spPr>
            <a:xfrm flipH="1" flipV="1">
              <a:off x="3766680" y="3231720"/>
              <a:ext cx="50760" cy="126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0" name=""/>
            <p:cNvSpPr/>
            <p:nvPr/>
          </p:nvSpPr>
          <p:spPr>
            <a:xfrm flipH="1" flipV="1">
              <a:off x="3665160" y="3219120"/>
              <a:ext cx="50760" cy="126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1" name=""/>
            <p:cNvSpPr/>
            <p:nvPr/>
          </p:nvSpPr>
          <p:spPr>
            <a:xfrm flipH="1" flipV="1">
              <a:off x="3562200" y="3206520"/>
              <a:ext cx="51120" cy="126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2" name=""/>
            <p:cNvSpPr/>
            <p:nvPr/>
          </p:nvSpPr>
          <p:spPr>
            <a:xfrm flipH="1">
              <a:off x="3460320" y="3193920"/>
              <a:ext cx="50760" cy="18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3" name=""/>
            <p:cNvSpPr/>
            <p:nvPr/>
          </p:nvSpPr>
          <p:spPr>
            <a:xfrm flipH="1">
              <a:off x="3357360" y="3181320"/>
              <a:ext cx="5220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4" name=""/>
            <p:cNvSpPr/>
            <p:nvPr/>
          </p:nvSpPr>
          <p:spPr>
            <a:xfrm flipH="1" flipV="1">
              <a:off x="3242880" y="3155760"/>
              <a:ext cx="50760" cy="126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5" name=""/>
            <p:cNvSpPr/>
            <p:nvPr/>
          </p:nvSpPr>
          <p:spPr>
            <a:xfrm flipH="1" flipV="1">
              <a:off x="3141360" y="3143160"/>
              <a:ext cx="50760" cy="129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6" name=""/>
            <p:cNvSpPr/>
            <p:nvPr/>
          </p:nvSpPr>
          <p:spPr>
            <a:xfrm flipH="1" flipV="1">
              <a:off x="3038040" y="3130200"/>
              <a:ext cx="50760" cy="126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7" name=""/>
            <p:cNvSpPr/>
            <p:nvPr/>
          </p:nvSpPr>
          <p:spPr>
            <a:xfrm flipH="1">
              <a:off x="2936520" y="3117960"/>
              <a:ext cx="5076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8" name=""/>
            <p:cNvSpPr/>
            <p:nvPr/>
          </p:nvSpPr>
          <p:spPr>
            <a:xfrm flipH="1">
              <a:off x="2833200" y="3105000"/>
              <a:ext cx="50760" cy="18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9" name=""/>
            <p:cNvSpPr/>
            <p:nvPr/>
          </p:nvSpPr>
          <p:spPr>
            <a:xfrm>
              <a:off x="2782800" y="3092400"/>
              <a:ext cx="1800" cy="18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0" name=""/>
            <p:cNvSpPr/>
            <p:nvPr/>
          </p:nvSpPr>
          <p:spPr>
            <a:xfrm>
              <a:off x="5492880" y="2593800"/>
              <a:ext cx="50760" cy="18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1" name=""/>
            <p:cNvSpPr/>
            <p:nvPr/>
          </p:nvSpPr>
          <p:spPr>
            <a:xfrm flipH="1" flipV="1">
              <a:off x="5517720" y="2849400"/>
              <a:ext cx="50760" cy="129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2" name=""/>
            <p:cNvSpPr/>
            <p:nvPr/>
          </p:nvSpPr>
          <p:spPr>
            <a:xfrm flipV="1">
              <a:off x="5505480" y="2747520"/>
              <a:ext cx="1440" cy="507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3" name=""/>
            <p:cNvSpPr/>
            <p:nvPr/>
          </p:nvSpPr>
          <p:spPr>
            <a:xfrm flipH="1" flipV="1">
              <a:off x="5492520" y="2646000"/>
              <a:ext cx="12600" cy="507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4" name=""/>
            <p:cNvSpPr/>
            <p:nvPr/>
          </p:nvSpPr>
          <p:spPr>
            <a:xfrm>
              <a:off x="5492880" y="2543040"/>
              <a:ext cx="1440" cy="50760"/>
            </a:xfrm>
            <a:custGeom>
              <a:avLst/>
              <a:gdLst/>
              <a:ahLst/>
              <a:rect l="l" t="t" r="r" b="b"/>
              <a:pathLst>
                <a:path w="0" h="32">
                  <a:moveTo>
                    <a:pt x="0" y="32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5" name=""/>
            <p:cNvSpPr/>
            <p:nvPr/>
          </p:nvSpPr>
          <p:spPr>
            <a:xfrm>
              <a:off x="5543640" y="2976480"/>
              <a:ext cx="12600" cy="52560"/>
            </a:xfrm>
            <a:custGeom>
              <a:avLst/>
              <a:gdLst/>
              <a:ahLst/>
              <a:rect l="l" t="t" r="r" b="b"/>
              <a:pathLst>
                <a:path w="8" h="33">
                  <a:moveTo>
                    <a:pt x="0" y="33"/>
                  </a:moveTo>
                  <a:lnTo>
                    <a:pt x="0" y="9"/>
                  </a:lnTo>
                  <a:lnTo>
                    <a:pt x="8" y="9"/>
                  </a:lnTo>
                  <a:lnTo>
                    <a:pt x="8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6" name=""/>
            <p:cNvSpPr/>
            <p:nvPr/>
          </p:nvSpPr>
          <p:spPr>
            <a:xfrm flipV="1">
              <a:off x="5556240" y="2874600"/>
              <a:ext cx="12600" cy="507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7" name=""/>
            <p:cNvSpPr/>
            <p:nvPr/>
          </p:nvSpPr>
          <p:spPr>
            <a:xfrm>
              <a:off x="5568840" y="2773440"/>
              <a:ext cx="1800" cy="50760"/>
            </a:xfrm>
            <a:custGeom>
              <a:avLst/>
              <a:gdLst/>
              <a:ahLst/>
              <a:rect l="l" t="t" r="r" b="b"/>
              <a:pathLst>
                <a:path w="0" h="32">
                  <a:moveTo>
                    <a:pt x="0" y="32"/>
                  </a:moveTo>
                  <a:lnTo>
                    <a:pt x="0" y="24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8" name=""/>
            <p:cNvSpPr/>
            <p:nvPr/>
          </p:nvSpPr>
          <p:spPr>
            <a:xfrm flipV="1">
              <a:off x="5583240" y="2671560"/>
              <a:ext cx="1440" cy="507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9" name=""/>
            <p:cNvSpPr/>
            <p:nvPr/>
          </p:nvSpPr>
          <p:spPr>
            <a:xfrm>
              <a:off x="5583240" y="2568600"/>
              <a:ext cx="1440" cy="52200"/>
            </a:xfrm>
            <a:custGeom>
              <a:avLst/>
              <a:gdLst/>
              <a:ahLst/>
              <a:rect l="l" t="t" r="r" b="b"/>
              <a:pathLst>
                <a:path w="0" h="33">
                  <a:moveTo>
                    <a:pt x="0" y="33"/>
                  </a:move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0" name=""/>
            <p:cNvSpPr/>
            <p:nvPr/>
          </p:nvSpPr>
          <p:spPr>
            <a:xfrm>
              <a:off x="5595840" y="2517840"/>
              <a:ext cx="50760" cy="1440"/>
            </a:xfrm>
            <a:custGeom>
              <a:avLst/>
              <a:gdLst/>
              <a:ahLst/>
              <a:rect l="l" t="t" r="r" b="b"/>
              <a:pathLst>
                <a:path w="32" h="0">
                  <a:moveTo>
                    <a:pt x="0" y="0"/>
                  </a:moveTo>
                  <a:lnTo>
                    <a:pt x="0" y="0"/>
                  </a:lnTo>
                  <a:lnTo>
                    <a:pt x="32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1" name=""/>
            <p:cNvSpPr/>
            <p:nvPr/>
          </p:nvSpPr>
          <p:spPr>
            <a:xfrm>
              <a:off x="5697360" y="2479680"/>
              <a:ext cx="12960" cy="38160"/>
            </a:xfrm>
            <a:custGeom>
              <a:avLst/>
              <a:gdLst/>
              <a:ahLst/>
              <a:rect l="l" t="t" r="r" b="b"/>
              <a:pathLst>
                <a:path w="8" h="24">
                  <a:moveTo>
                    <a:pt x="0" y="24"/>
                  </a:moveTo>
                  <a:lnTo>
                    <a:pt x="8" y="0"/>
                  </a:lnTo>
                  <a:lnTo>
                    <a:pt x="8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2" name=""/>
            <p:cNvSpPr/>
            <p:nvPr/>
          </p:nvSpPr>
          <p:spPr>
            <a:xfrm flipV="1">
              <a:off x="5735520" y="2377800"/>
              <a:ext cx="25560" cy="507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3" name=""/>
            <p:cNvSpPr/>
            <p:nvPr/>
          </p:nvSpPr>
          <p:spPr>
            <a:xfrm flipH="1">
              <a:off x="7154640" y="2251080"/>
              <a:ext cx="12600" cy="507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4" name=""/>
            <p:cNvSpPr/>
            <p:nvPr/>
          </p:nvSpPr>
          <p:spPr>
            <a:xfrm>
              <a:off x="7116840" y="2340000"/>
              <a:ext cx="25200" cy="50760"/>
            </a:xfrm>
            <a:custGeom>
              <a:avLst/>
              <a:gdLst/>
              <a:ahLst/>
              <a:rect l="l" t="t" r="r" b="b"/>
              <a:pathLst>
                <a:path w="16" h="32">
                  <a:moveTo>
                    <a:pt x="16" y="0"/>
                  </a:moveTo>
                  <a:lnTo>
                    <a:pt x="16" y="0"/>
                  </a:lnTo>
                  <a:lnTo>
                    <a:pt x="8" y="32"/>
                  </a:lnTo>
                  <a:lnTo>
                    <a:pt x="0" y="32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5" name=""/>
            <p:cNvSpPr/>
            <p:nvPr/>
          </p:nvSpPr>
          <p:spPr>
            <a:xfrm>
              <a:off x="7091280" y="2441520"/>
              <a:ext cx="12960" cy="50760"/>
            </a:xfrm>
            <a:custGeom>
              <a:avLst/>
              <a:gdLst/>
              <a:ahLst/>
              <a:rect l="l" t="t" r="r" b="b"/>
              <a:pathLst>
                <a:path w="8" h="32">
                  <a:moveTo>
                    <a:pt x="8" y="0"/>
                  </a:moveTo>
                  <a:lnTo>
                    <a:pt x="8" y="0"/>
                  </a:lnTo>
                  <a:lnTo>
                    <a:pt x="0" y="32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6" name=""/>
            <p:cNvSpPr/>
            <p:nvPr/>
          </p:nvSpPr>
          <p:spPr>
            <a:xfrm>
              <a:off x="7066080" y="2543040"/>
              <a:ext cx="12600" cy="50760"/>
            </a:xfrm>
            <a:custGeom>
              <a:avLst/>
              <a:gdLst/>
              <a:ahLst/>
              <a:rect l="l" t="t" r="r" b="b"/>
              <a:pathLst>
                <a:path w="8" h="32">
                  <a:moveTo>
                    <a:pt x="8" y="0"/>
                  </a:moveTo>
                  <a:lnTo>
                    <a:pt x="8" y="0"/>
                  </a:lnTo>
                  <a:lnTo>
                    <a:pt x="8" y="16"/>
                  </a:lnTo>
                  <a:lnTo>
                    <a:pt x="0" y="32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7" name=""/>
            <p:cNvSpPr/>
            <p:nvPr/>
          </p:nvSpPr>
          <p:spPr>
            <a:xfrm>
              <a:off x="6988320" y="2633760"/>
              <a:ext cx="37800" cy="12600"/>
            </a:xfrm>
            <a:custGeom>
              <a:avLst/>
              <a:gdLst/>
              <a:ahLst/>
              <a:rect l="l" t="t" r="r" b="b"/>
              <a:pathLst>
                <a:path w="24" h="8">
                  <a:moveTo>
                    <a:pt x="24" y="0"/>
                  </a:moveTo>
                  <a:lnTo>
                    <a:pt x="16" y="0"/>
                  </a:lnTo>
                  <a:lnTo>
                    <a:pt x="0" y="8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8" name=""/>
            <p:cNvSpPr/>
            <p:nvPr/>
          </p:nvSpPr>
          <p:spPr>
            <a:xfrm>
              <a:off x="6924600" y="2684520"/>
              <a:ext cx="12600" cy="50760"/>
            </a:xfrm>
            <a:custGeom>
              <a:avLst/>
              <a:gdLst/>
              <a:ahLst/>
              <a:rect l="l" t="t" r="r" b="b"/>
              <a:pathLst>
                <a:path w="8" h="32">
                  <a:moveTo>
                    <a:pt x="8" y="0"/>
                  </a:moveTo>
                  <a:lnTo>
                    <a:pt x="0" y="24"/>
                  </a:lnTo>
                  <a:lnTo>
                    <a:pt x="0" y="32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9" name=""/>
            <p:cNvSpPr/>
            <p:nvPr/>
          </p:nvSpPr>
          <p:spPr>
            <a:xfrm>
              <a:off x="6861240" y="2773440"/>
              <a:ext cx="25200" cy="38160"/>
            </a:xfrm>
            <a:custGeom>
              <a:avLst/>
              <a:gdLst/>
              <a:ahLst/>
              <a:rect l="l" t="t" r="r" b="b"/>
              <a:pathLst>
                <a:path w="16" h="24">
                  <a:moveTo>
                    <a:pt x="16" y="0"/>
                  </a:moveTo>
                  <a:lnTo>
                    <a:pt x="0" y="24"/>
                  </a:lnTo>
                  <a:lnTo>
                    <a:pt x="0" y="24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6797520" y="286236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24" y="0"/>
                  </a:moveTo>
                  <a:lnTo>
                    <a:pt x="24" y="0"/>
                  </a:lnTo>
                  <a:lnTo>
                    <a:pt x="8" y="24"/>
                  </a:lnTo>
                  <a:lnTo>
                    <a:pt x="0" y="24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1" name=""/>
            <p:cNvSpPr/>
            <p:nvPr/>
          </p:nvSpPr>
          <p:spPr>
            <a:xfrm>
              <a:off x="6757920" y="2951280"/>
              <a:ext cx="25560" cy="39600"/>
            </a:xfrm>
            <a:custGeom>
              <a:avLst/>
              <a:gdLst/>
              <a:ahLst/>
              <a:rect l="l" t="t" r="r" b="b"/>
              <a:pathLst>
                <a:path w="16" h="25">
                  <a:moveTo>
                    <a:pt x="16" y="0"/>
                  </a:moveTo>
                  <a:lnTo>
                    <a:pt x="8" y="16"/>
                  </a:lnTo>
                  <a:lnTo>
                    <a:pt x="0" y="25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2" name=""/>
            <p:cNvSpPr/>
            <p:nvPr/>
          </p:nvSpPr>
          <p:spPr>
            <a:xfrm>
              <a:off x="6732720" y="3041640"/>
              <a:ext cx="12600" cy="50760"/>
            </a:xfrm>
            <a:custGeom>
              <a:avLst/>
              <a:gdLst/>
              <a:ahLst/>
              <a:rect l="l" t="t" r="r" b="b"/>
              <a:pathLst>
                <a:path w="8" h="32">
                  <a:moveTo>
                    <a:pt x="8" y="0"/>
                  </a:moveTo>
                  <a:lnTo>
                    <a:pt x="0" y="16"/>
                  </a:lnTo>
                  <a:lnTo>
                    <a:pt x="0" y="32"/>
                  </a:lnTo>
                  <a:lnTo>
                    <a:pt x="0" y="32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3" name=""/>
            <p:cNvSpPr/>
            <p:nvPr/>
          </p:nvSpPr>
          <p:spPr>
            <a:xfrm>
              <a:off x="6732720" y="3143160"/>
              <a:ext cx="12600" cy="50760"/>
            </a:xfrm>
            <a:custGeom>
              <a:avLst/>
              <a:gdLst/>
              <a:ahLst/>
              <a:rect l="l" t="t" r="r" b="b"/>
              <a:pathLst>
                <a:path w="8" h="32">
                  <a:moveTo>
                    <a:pt x="8" y="0"/>
                  </a:moveTo>
                  <a:lnTo>
                    <a:pt x="8" y="8"/>
                  </a:lnTo>
                  <a:lnTo>
                    <a:pt x="0" y="32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4" name=""/>
            <p:cNvSpPr/>
            <p:nvPr/>
          </p:nvSpPr>
          <p:spPr>
            <a:xfrm>
              <a:off x="6707160" y="3244680"/>
              <a:ext cx="12600" cy="51120"/>
            </a:xfrm>
            <a:custGeom>
              <a:avLst/>
              <a:gdLst/>
              <a:ahLst/>
              <a:rect l="l" t="t" r="r" b="b"/>
              <a:pathLst>
                <a:path w="8" h="32">
                  <a:moveTo>
                    <a:pt x="8" y="0"/>
                  </a:moveTo>
                  <a:lnTo>
                    <a:pt x="8" y="8"/>
                  </a:lnTo>
                  <a:lnTo>
                    <a:pt x="0" y="32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5" name=""/>
            <p:cNvSpPr/>
            <p:nvPr/>
          </p:nvSpPr>
          <p:spPr>
            <a:xfrm>
              <a:off x="6630840" y="3295800"/>
              <a:ext cx="38160" cy="12600"/>
            </a:xfrm>
            <a:custGeom>
              <a:avLst/>
              <a:gdLst/>
              <a:ahLst/>
              <a:rect l="l" t="t" r="r" b="b"/>
              <a:pathLst>
                <a:path w="24" h="8">
                  <a:moveTo>
                    <a:pt x="24" y="8"/>
                  </a:moveTo>
                  <a:lnTo>
                    <a:pt x="0" y="0"/>
                  </a:lnTo>
                  <a:lnTo>
                    <a:pt x="0" y="8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6" name=""/>
            <p:cNvSpPr/>
            <p:nvPr/>
          </p:nvSpPr>
          <p:spPr>
            <a:xfrm>
              <a:off x="6593040" y="3359160"/>
              <a:ext cx="12600" cy="52200"/>
            </a:xfrm>
            <a:custGeom>
              <a:avLst/>
              <a:gdLst/>
              <a:ahLst/>
              <a:rect l="l" t="t" r="r" b="b"/>
              <a:pathLst>
                <a:path w="8" h="33">
                  <a:moveTo>
                    <a:pt x="8" y="0"/>
                  </a:moveTo>
                  <a:lnTo>
                    <a:pt x="0" y="17"/>
                  </a:lnTo>
                  <a:lnTo>
                    <a:pt x="8" y="33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7" name=""/>
            <p:cNvSpPr/>
            <p:nvPr/>
          </p:nvSpPr>
          <p:spPr>
            <a:xfrm>
              <a:off x="6593040" y="3462480"/>
              <a:ext cx="12600" cy="50760"/>
            </a:xfrm>
            <a:custGeom>
              <a:avLst/>
              <a:gdLst/>
              <a:ahLst/>
              <a:rect l="l" t="t" r="r" b="b"/>
              <a:pathLst>
                <a:path w="8" h="32">
                  <a:moveTo>
                    <a:pt x="8" y="0"/>
                  </a:moveTo>
                  <a:lnTo>
                    <a:pt x="0" y="32"/>
                  </a:lnTo>
                  <a:lnTo>
                    <a:pt x="0" y="32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8" name=""/>
            <p:cNvSpPr/>
            <p:nvPr/>
          </p:nvSpPr>
          <p:spPr>
            <a:xfrm>
              <a:off x="6580080" y="3564000"/>
              <a:ext cx="12960" cy="50760"/>
            </a:xfrm>
            <a:custGeom>
              <a:avLst/>
              <a:gdLst/>
              <a:ahLst/>
              <a:rect l="l" t="t" r="r" b="b"/>
              <a:pathLst>
                <a:path w="8" h="32">
                  <a:moveTo>
                    <a:pt x="8" y="0"/>
                  </a:moveTo>
                  <a:lnTo>
                    <a:pt x="8" y="0"/>
                  </a:lnTo>
                  <a:lnTo>
                    <a:pt x="0" y="32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6567480" y="3665520"/>
              <a:ext cx="12600" cy="50760"/>
            </a:xfrm>
            <a:custGeom>
              <a:avLst/>
              <a:gdLst/>
              <a:ahLst/>
              <a:rect l="l" t="t" r="r" b="b"/>
              <a:pathLst>
                <a:path w="8" h="32">
                  <a:moveTo>
                    <a:pt x="8" y="0"/>
                  </a:moveTo>
                  <a:lnTo>
                    <a:pt x="8" y="0"/>
                  </a:lnTo>
                  <a:lnTo>
                    <a:pt x="0" y="24"/>
                  </a:lnTo>
                  <a:lnTo>
                    <a:pt x="0" y="32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0" name=""/>
            <p:cNvSpPr/>
            <p:nvPr/>
          </p:nvSpPr>
          <p:spPr>
            <a:xfrm>
              <a:off x="6515280" y="3728880"/>
              <a:ext cx="39600" cy="27000"/>
            </a:xfrm>
            <a:custGeom>
              <a:avLst/>
              <a:gdLst/>
              <a:ahLst/>
              <a:rect l="l" t="t" r="r" b="b"/>
              <a:pathLst>
                <a:path w="25" h="17">
                  <a:moveTo>
                    <a:pt x="25" y="8"/>
                  </a:moveTo>
                  <a:lnTo>
                    <a:pt x="8" y="0"/>
                  </a:lnTo>
                  <a:lnTo>
                    <a:pt x="0" y="17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1" name=""/>
            <p:cNvSpPr/>
            <p:nvPr/>
          </p:nvSpPr>
          <p:spPr>
            <a:xfrm flipH="1">
              <a:off x="6451200" y="3794040"/>
              <a:ext cx="25560" cy="507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2" name=""/>
            <p:cNvSpPr/>
            <p:nvPr/>
          </p:nvSpPr>
          <p:spPr>
            <a:xfrm flipH="1">
              <a:off x="6388200" y="3882960"/>
              <a:ext cx="25200" cy="381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3" name=""/>
            <p:cNvSpPr/>
            <p:nvPr/>
          </p:nvSpPr>
          <p:spPr>
            <a:xfrm flipH="1">
              <a:off x="6324480" y="3971880"/>
              <a:ext cx="38160" cy="381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4" name=""/>
            <p:cNvSpPr/>
            <p:nvPr/>
          </p:nvSpPr>
          <p:spPr>
            <a:xfrm>
              <a:off x="6259680" y="4048200"/>
              <a:ext cx="37800" cy="25200"/>
            </a:xfrm>
            <a:custGeom>
              <a:avLst/>
              <a:gdLst/>
              <a:ahLst/>
              <a:rect l="l" t="t" r="r" b="b"/>
              <a:pathLst>
                <a:path w="24" h="16">
                  <a:moveTo>
                    <a:pt x="24" y="0"/>
                  </a:moveTo>
                  <a:lnTo>
                    <a:pt x="8" y="16"/>
                  </a:lnTo>
                  <a:lnTo>
                    <a:pt x="0" y="8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5" name=""/>
            <p:cNvSpPr/>
            <p:nvPr/>
          </p:nvSpPr>
          <p:spPr>
            <a:xfrm flipH="1">
              <a:off x="6195600" y="4060800"/>
              <a:ext cx="25560" cy="507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6" name=""/>
            <p:cNvSpPr/>
            <p:nvPr/>
          </p:nvSpPr>
          <p:spPr>
            <a:xfrm flipH="1">
              <a:off x="6170400" y="4164120"/>
              <a:ext cx="12600" cy="507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7" name=""/>
            <p:cNvSpPr/>
            <p:nvPr/>
          </p:nvSpPr>
          <p:spPr>
            <a:xfrm flipH="1">
              <a:off x="6132240" y="4265640"/>
              <a:ext cx="12600" cy="381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8" name=""/>
            <p:cNvSpPr/>
            <p:nvPr/>
          </p:nvSpPr>
          <p:spPr>
            <a:xfrm flipH="1">
              <a:off x="6106680" y="4354560"/>
              <a:ext cx="12600" cy="507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9" name=""/>
            <p:cNvSpPr/>
            <p:nvPr/>
          </p:nvSpPr>
          <p:spPr>
            <a:xfrm flipH="1">
              <a:off x="6068880" y="4456080"/>
              <a:ext cx="12960" cy="525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0" name=""/>
            <p:cNvSpPr/>
            <p:nvPr/>
          </p:nvSpPr>
          <p:spPr>
            <a:xfrm flipH="1">
              <a:off x="6028920" y="4559400"/>
              <a:ext cx="25560" cy="507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1" name=""/>
            <p:cNvSpPr/>
            <p:nvPr/>
          </p:nvSpPr>
          <p:spPr>
            <a:xfrm flipH="1">
              <a:off x="6003720" y="4648320"/>
              <a:ext cx="12600" cy="507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2" name=""/>
            <p:cNvSpPr/>
            <p:nvPr/>
          </p:nvSpPr>
          <p:spPr>
            <a:xfrm flipH="1">
              <a:off x="5965560" y="4749840"/>
              <a:ext cx="12600" cy="507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3" name=""/>
            <p:cNvSpPr/>
            <p:nvPr/>
          </p:nvSpPr>
          <p:spPr>
            <a:xfrm flipH="1">
              <a:off x="5940000" y="4851360"/>
              <a:ext cx="12600" cy="525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4" name=""/>
            <p:cNvSpPr/>
            <p:nvPr/>
          </p:nvSpPr>
          <p:spPr>
            <a:xfrm>
              <a:off x="6107040" y="2046240"/>
              <a:ext cx="50760" cy="18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5" name=""/>
            <p:cNvSpPr/>
            <p:nvPr/>
          </p:nvSpPr>
          <p:spPr>
            <a:xfrm>
              <a:off x="6208560" y="2046240"/>
              <a:ext cx="51120" cy="18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6" name=""/>
            <p:cNvSpPr/>
            <p:nvPr/>
          </p:nvSpPr>
          <p:spPr>
            <a:xfrm>
              <a:off x="6311880" y="2058840"/>
              <a:ext cx="50760" cy="18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7" name=""/>
            <p:cNvSpPr/>
            <p:nvPr/>
          </p:nvSpPr>
          <p:spPr>
            <a:xfrm>
              <a:off x="6413400" y="2058840"/>
              <a:ext cx="50760" cy="12960"/>
            </a:xfrm>
            <a:custGeom>
              <a:avLst/>
              <a:gdLst/>
              <a:ahLst/>
              <a:rect l="l" t="t" r="r" b="b"/>
              <a:pathLst>
                <a:path w="32" h="8">
                  <a:moveTo>
                    <a:pt x="0" y="0"/>
                  </a:moveTo>
                  <a:lnTo>
                    <a:pt x="8" y="0"/>
                  </a:lnTo>
                  <a:lnTo>
                    <a:pt x="32" y="8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8" name=""/>
            <p:cNvSpPr/>
            <p:nvPr/>
          </p:nvSpPr>
          <p:spPr>
            <a:xfrm>
              <a:off x="6515280" y="2097000"/>
              <a:ext cx="52200" cy="255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9" name=""/>
            <p:cNvSpPr/>
            <p:nvPr/>
          </p:nvSpPr>
          <p:spPr>
            <a:xfrm>
              <a:off x="6605640" y="2135160"/>
              <a:ext cx="50760" cy="255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0" name=""/>
            <p:cNvSpPr/>
            <p:nvPr/>
          </p:nvSpPr>
          <p:spPr>
            <a:xfrm>
              <a:off x="6707160" y="2185920"/>
              <a:ext cx="50760" cy="126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1" name=""/>
            <p:cNvSpPr/>
            <p:nvPr/>
          </p:nvSpPr>
          <p:spPr>
            <a:xfrm>
              <a:off x="6797520" y="2225520"/>
              <a:ext cx="51120" cy="255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2" name=""/>
            <p:cNvSpPr/>
            <p:nvPr/>
          </p:nvSpPr>
          <p:spPr>
            <a:xfrm>
              <a:off x="6899400" y="2263680"/>
              <a:ext cx="37800" cy="255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3" name=""/>
            <p:cNvSpPr/>
            <p:nvPr/>
          </p:nvSpPr>
          <p:spPr>
            <a:xfrm flipV="1">
              <a:off x="6988320" y="2263680"/>
              <a:ext cx="37800" cy="381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4" name=""/>
            <p:cNvSpPr/>
            <p:nvPr/>
          </p:nvSpPr>
          <p:spPr>
            <a:xfrm>
              <a:off x="7078680" y="2251080"/>
              <a:ext cx="5076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5" name=""/>
            <p:cNvSpPr/>
            <p:nvPr/>
          </p:nvSpPr>
          <p:spPr>
            <a:xfrm>
              <a:off x="6426360" y="2071800"/>
              <a:ext cx="1440" cy="507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6" name=""/>
            <p:cNvSpPr/>
            <p:nvPr/>
          </p:nvSpPr>
          <p:spPr>
            <a:xfrm flipH="1">
              <a:off x="6400440" y="2173320"/>
              <a:ext cx="12600" cy="522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7" name=""/>
            <p:cNvSpPr/>
            <p:nvPr/>
          </p:nvSpPr>
          <p:spPr>
            <a:xfrm>
              <a:off x="6388200" y="2276640"/>
              <a:ext cx="12600" cy="50760"/>
            </a:xfrm>
            <a:custGeom>
              <a:avLst/>
              <a:gdLst/>
              <a:ahLst/>
              <a:rect l="l" t="t" r="r" b="b"/>
              <a:pathLst>
                <a:path w="8" h="32">
                  <a:moveTo>
                    <a:pt x="8" y="0"/>
                  </a:moveTo>
                  <a:lnTo>
                    <a:pt x="8" y="0"/>
                  </a:lnTo>
                  <a:lnTo>
                    <a:pt x="0" y="32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8" name=""/>
            <p:cNvSpPr/>
            <p:nvPr/>
          </p:nvSpPr>
          <p:spPr>
            <a:xfrm>
              <a:off x="6350040" y="2365200"/>
              <a:ext cx="12600" cy="51120"/>
            </a:xfrm>
            <a:custGeom>
              <a:avLst/>
              <a:gdLst/>
              <a:ahLst/>
              <a:rect l="l" t="t" r="r" b="b"/>
              <a:pathLst>
                <a:path w="8" h="32">
                  <a:moveTo>
                    <a:pt x="8" y="0"/>
                  </a:moveTo>
                  <a:lnTo>
                    <a:pt x="8" y="8"/>
                  </a:lnTo>
                  <a:lnTo>
                    <a:pt x="0" y="32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9" name=""/>
            <p:cNvSpPr/>
            <p:nvPr/>
          </p:nvSpPr>
          <p:spPr>
            <a:xfrm>
              <a:off x="6311880" y="2467080"/>
              <a:ext cx="12600" cy="50760"/>
            </a:xfrm>
            <a:custGeom>
              <a:avLst/>
              <a:gdLst/>
              <a:ahLst/>
              <a:rect l="l" t="t" r="r" b="b"/>
              <a:pathLst>
                <a:path w="8" h="32">
                  <a:moveTo>
                    <a:pt x="8" y="0"/>
                  </a:moveTo>
                  <a:lnTo>
                    <a:pt x="8" y="16"/>
                  </a:lnTo>
                  <a:lnTo>
                    <a:pt x="0" y="32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0" name=""/>
            <p:cNvSpPr/>
            <p:nvPr/>
          </p:nvSpPr>
          <p:spPr>
            <a:xfrm>
              <a:off x="6311880" y="2568600"/>
              <a:ext cx="25560" cy="52200"/>
            </a:xfrm>
            <a:custGeom>
              <a:avLst/>
              <a:gdLst/>
              <a:ahLst/>
              <a:rect l="l" t="t" r="r" b="b"/>
              <a:pathLst>
                <a:path w="16" h="33">
                  <a:moveTo>
                    <a:pt x="0" y="0"/>
                  </a:moveTo>
                  <a:lnTo>
                    <a:pt x="0" y="8"/>
                  </a:lnTo>
                  <a:lnTo>
                    <a:pt x="8" y="25"/>
                  </a:lnTo>
                  <a:lnTo>
                    <a:pt x="16" y="25"/>
                  </a:lnTo>
                  <a:lnTo>
                    <a:pt x="16" y="33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1" name=""/>
            <p:cNvSpPr/>
            <p:nvPr/>
          </p:nvSpPr>
          <p:spPr>
            <a:xfrm>
              <a:off x="6311880" y="2671920"/>
              <a:ext cx="25560" cy="37800"/>
            </a:xfrm>
            <a:custGeom>
              <a:avLst/>
              <a:gdLst/>
              <a:ahLst/>
              <a:rect l="l" t="t" r="r" b="b"/>
              <a:pathLst>
                <a:path w="16" h="24">
                  <a:moveTo>
                    <a:pt x="16" y="0"/>
                  </a:moveTo>
                  <a:lnTo>
                    <a:pt x="16" y="0"/>
                  </a:lnTo>
                  <a:lnTo>
                    <a:pt x="16" y="16"/>
                  </a:lnTo>
                  <a:lnTo>
                    <a:pt x="8" y="16"/>
                  </a:lnTo>
                  <a:lnTo>
                    <a:pt x="0" y="24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2" name=""/>
            <p:cNvSpPr/>
            <p:nvPr/>
          </p:nvSpPr>
          <p:spPr>
            <a:xfrm>
              <a:off x="6246720" y="2747880"/>
              <a:ext cx="38160" cy="25560"/>
            </a:xfrm>
            <a:custGeom>
              <a:avLst/>
              <a:gdLst/>
              <a:ahLst/>
              <a:rect l="l" t="t" r="r" b="b"/>
              <a:pathLst>
                <a:path w="24" h="16">
                  <a:moveTo>
                    <a:pt x="24" y="0"/>
                  </a:moveTo>
                  <a:lnTo>
                    <a:pt x="24" y="0"/>
                  </a:lnTo>
                  <a:lnTo>
                    <a:pt x="16" y="8"/>
                  </a:lnTo>
                  <a:lnTo>
                    <a:pt x="0" y="16"/>
                  </a:lnTo>
                  <a:lnTo>
                    <a:pt x="0" y="16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3" name=""/>
            <p:cNvSpPr/>
            <p:nvPr/>
          </p:nvSpPr>
          <p:spPr>
            <a:xfrm>
              <a:off x="6145200" y="2773440"/>
              <a:ext cx="50760" cy="1440"/>
            </a:xfrm>
            <a:custGeom>
              <a:avLst/>
              <a:gdLst/>
              <a:ahLst/>
              <a:rect l="l" t="t" r="r" b="b"/>
              <a:pathLst>
                <a:path w="32" h="0">
                  <a:moveTo>
                    <a:pt x="32" y="0"/>
                  </a:moveTo>
                  <a:lnTo>
                    <a:pt x="24" y="0"/>
                  </a:lnTo>
                  <a:lnTo>
                    <a:pt x="8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4" name=""/>
            <p:cNvSpPr/>
            <p:nvPr/>
          </p:nvSpPr>
          <p:spPr>
            <a:xfrm>
              <a:off x="6081840" y="2798640"/>
              <a:ext cx="3780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24" y="0"/>
                  </a:move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16"/>
                  </a:lnTo>
                  <a:lnTo>
                    <a:pt x="0" y="24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5" name=""/>
            <p:cNvSpPr/>
            <p:nvPr/>
          </p:nvSpPr>
          <p:spPr>
            <a:xfrm>
              <a:off x="6081840" y="2887560"/>
              <a:ext cx="12600" cy="50760"/>
            </a:xfrm>
            <a:custGeom>
              <a:avLst/>
              <a:gdLst/>
              <a:ahLst/>
              <a:rect l="l" t="t" r="r" b="b"/>
              <a:pathLst>
                <a:path w="8" h="32">
                  <a:moveTo>
                    <a:pt x="0" y="0"/>
                  </a:moveTo>
                  <a:lnTo>
                    <a:pt x="0" y="0"/>
                  </a:lnTo>
                  <a:lnTo>
                    <a:pt x="8" y="24"/>
                  </a:lnTo>
                  <a:lnTo>
                    <a:pt x="8" y="32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6" name=""/>
            <p:cNvSpPr/>
            <p:nvPr/>
          </p:nvSpPr>
          <p:spPr>
            <a:xfrm flipH="1">
              <a:off x="6016680" y="2951280"/>
              <a:ext cx="38160" cy="396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7" name=""/>
            <p:cNvSpPr/>
            <p:nvPr/>
          </p:nvSpPr>
          <p:spPr>
            <a:xfrm flipH="1">
              <a:off x="5965920" y="3041640"/>
              <a:ext cx="25200" cy="381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8" name=""/>
            <p:cNvSpPr/>
            <p:nvPr/>
          </p:nvSpPr>
          <p:spPr>
            <a:xfrm>
              <a:off x="5902200" y="3117960"/>
              <a:ext cx="25560" cy="2520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16" y="0"/>
                  </a:moveTo>
                  <a:lnTo>
                    <a:pt x="16" y="16"/>
                  </a:lnTo>
                  <a:lnTo>
                    <a:pt x="0" y="16"/>
                  </a:lnTo>
                  <a:lnTo>
                    <a:pt x="0" y="8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9" name=""/>
            <p:cNvSpPr/>
            <p:nvPr/>
          </p:nvSpPr>
          <p:spPr>
            <a:xfrm>
              <a:off x="5826240" y="3067200"/>
              <a:ext cx="38160" cy="12600"/>
            </a:xfrm>
            <a:custGeom>
              <a:avLst/>
              <a:gdLst/>
              <a:ahLst/>
              <a:rect l="l" t="t" r="r" b="b"/>
              <a:pathLst>
                <a:path w="24" h="8">
                  <a:moveTo>
                    <a:pt x="24" y="8"/>
                  </a:moveTo>
                  <a:lnTo>
                    <a:pt x="16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0" name=""/>
            <p:cNvSpPr/>
            <p:nvPr/>
          </p:nvSpPr>
          <p:spPr>
            <a:xfrm flipH="1">
              <a:off x="5722560" y="3054240"/>
              <a:ext cx="50760" cy="18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1" name=""/>
            <p:cNvSpPr/>
            <p:nvPr/>
          </p:nvSpPr>
          <p:spPr>
            <a:xfrm flipH="1">
              <a:off x="5621040" y="3041640"/>
              <a:ext cx="5076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2" name=""/>
            <p:cNvSpPr/>
            <p:nvPr/>
          </p:nvSpPr>
          <p:spPr>
            <a:xfrm>
              <a:off x="5543640" y="3029040"/>
              <a:ext cx="25200" cy="2520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16" y="0"/>
                  </a:moveTo>
                  <a:lnTo>
                    <a:pt x="0" y="0"/>
                  </a:lnTo>
                  <a:lnTo>
                    <a:pt x="0" y="16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3" name=""/>
            <p:cNvSpPr/>
            <p:nvPr/>
          </p:nvSpPr>
          <p:spPr>
            <a:xfrm>
              <a:off x="5530680" y="3105000"/>
              <a:ext cx="1800" cy="511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4" name=""/>
            <p:cNvSpPr/>
            <p:nvPr/>
          </p:nvSpPr>
          <p:spPr>
            <a:xfrm>
              <a:off x="5479920" y="3156120"/>
              <a:ext cx="1800" cy="50760"/>
            </a:xfrm>
            <a:custGeom>
              <a:avLst/>
              <a:gdLst/>
              <a:ahLst/>
              <a:rect l="l" t="t" r="r" b="b"/>
              <a:pathLst>
                <a:path w="0" h="32">
                  <a:moveTo>
                    <a:pt x="0" y="0"/>
                  </a:moveTo>
                  <a:lnTo>
                    <a:pt x="0" y="0"/>
                  </a:lnTo>
                  <a:lnTo>
                    <a:pt x="0" y="32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5" name=""/>
            <p:cNvSpPr/>
            <p:nvPr/>
          </p:nvSpPr>
          <p:spPr>
            <a:xfrm>
              <a:off x="5442120" y="3257640"/>
              <a:ext cx="25200" cy="2520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16" y="0"/>
                  </a:moveTo>
                  <a:lnTo>
                    <a:pt x="16" y="16"/>
                  </a:lnTo>
                  <a:lnTo>
                    <a:pt x="0" y="8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6" name=""/>
            <p:cNvSpPr/>
            <p:nvPr/>
          </p:nvSpPr>
          <p:spPr>
            <a:xfrm flipH="1">
              <a:off x="5391000" y="3270240"/>
              <a:ext cx="12960" cy="381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7" name=""/>
            <p:cNvSpPr/>
            <p:nvPr/>
          </p:nvSpPr>
          <p:spPr>
            <a:xfrm>
              <a:off x="5045040" y="2824200"/>
              <a:ext cx="25560" cy="50760"/>
            </a:xfrm>
            <a:custGeom>
              <a:avLst/>
              <a:gdLst/>
              <a:ahLst/>
              <a:rect l="l" t="t" r="r" b="b"/>
              <a:pathLst>
                <a:path w="16" h="32">
                  <a:moveTo>
                    <a:pt x="16" y="32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8" name=""/>
            <p:cNvSpPr/>
            <p:nvPr/>
          </p:nvSpPr>
          <p:spPr>
            <a:xfrm>
              <a:off x="5032440" y="2722680"/>
              <a:ext cx="1440" cy="50760"/>
            </a:xfrm>
            <a:custGeom>
              <a:avLst/>
              <a:gdLst/>
              <a:ahLst/>
              <a:rect l="l" t="t" r="r" b="b"/>
              <a:pathLst>
                <a:path w="0" h="32">
                  <a:moveTo>
                    <a:pt x="0" y="32"/>
                  </a:moveTo>
                  <a:lnTo>
                    <a:pt x="0" y="8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9" name=""/>
            <p:cNvSpPr/>
            <p:nvPr/>
          </p:nvSpPr>
          <p:spPr>
            <a:xfrm>
              <a:off x="5032440" y="2620800"/>
              <a:ext cx="1440" cy="51120"/>
            </a:xfrm>
            <a:custGeom>
              <a:avLst/>
              <a:gdLst/>
              <a:ahLst/>
              <a:rect l="l" t="t" r="r" b="b"/>
              <a:pathLst>
                <a:path w="0" h="32">
                  <a:moveTo>
                    <a:pt x="0" y="32"/>
                  </a:moveTo>
                  <a:lnTo>
                    <a:pt x="0" y="32"/>
                  </a:lnTo>
                  <a:lnTo>
                    <a:pt x="0" y="8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0" name=""/>
            <p:cNvSpPr/>
            <p:nvPr/>
          </p:nvSpPr>
          <p:spPr>
            <a:xfrm>
              <a:off x="5045040" y="2517840"/>
              <a:ext cx="12600" cy="50760"/>
            </a:xfrm>
            <a:custGeom>
              <a:avLst/>
              <a:gdLst/>
              <a:ahLst/>
              <a:rect l="l" t="t" r="r" b="b"/>
              <a:pathLst>
                <a:path w="8" h="32">
                  <a:moveTo>
                    <a:pt x="0" y="32"/>
                  </a:moveTo>
                  <a:lnTo>
                    <a:pt x="8" y="24"/>
                  </a:lnTo>
                  <a:lnTo>
                    <a:pt x="8" y="8"/>
                  </a:lnTo>
                  <a:lnTo>
                    <a:pt x="8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1" name=""/>
            <p:cNvSpPr/>
            <p:nvPr/>
          </p:nvSpPr>
          <p:spPr>
            <a:xfrm>
              <a:off x="4994280" y="244152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24" y="24"/>
                  </a:moveTo>
                  <a:lnTo>
                    <a:pt x="24" y="16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2" name=""/>
            <p:cNvSpPr/>
            <p:nvPr/>
          </p:nvSpPr>
          <p:spPr>
            <a:xfrm flipH="1" flipV="1">
              <a:off x="4930920" y="2352240"/>
              <a:ext cx="25200" cy="507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3" name=""/>
            <p:cNvSpPr/>
            <p:nvPr/>
          </p:nvSpPr>
          <p:spPr>
            <a:xfrm>
              <a:off x="4867200" y="2276640"/>
              <a:ext cx="38160" cy="378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24" y="24"/>
                  </a:moveTo>
                  <a:lnTo>
                    <a:pt x="8" y="8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4" name=""/>
            <p:cNvSpPr/>
            <p:nvPr/>
          </p:nvSpPr>
          <p:spPr>
            <a:xfrm>
              <a:off x="4802040" y="2198520"/>
              <a:ext cx="25560" cy="39960"/>
            </a:xfrm>
            <a:custGeom>
              <a:avLst/>
              <a:gdLst/>
              <a:ahLst/>
              <a:rect l="l" t="t" r="r" b="b"/>
              <a:pathLst>
                <a:path w="16" h="25">
                  <a:moveTo>
                    <a:pt x="16" y="25"/>
                  </a:moveTo>
                  <a:lnTo>
                    <a:pt x="8" y="17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5" name=""/>
            <p:cNvSpPr/>
            <p:nvPr/>
          </p:nvSpPr>
          <p:spPr>
            <a:xfrm>
              <a:off x="4726080" y="212256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24" y="24"/>
                  </a:moveTo>
                  <a:lnTo>
                    <a:pt x="24" y="24"/>
                  </a:lnTo>
                  <a:lnTo>
                    <a:pt x="8" y="8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6" name=""/>
            <p:cNvSpPr/>
            <p:nvPr/>
          </p:nvSpPr>
          <p:spPr>
            <a:xfrm>
              <a:off x="4675320" y="2033640"/>
              <a:ext cx="25200" cy="50760"/>
            </a:xfrm>
            <a:custGeom>
              <a:avLst/>
              <a:gdLst/>
              <a:ahLst/>
              <a:rect l="l" t="t" r="r" b="b"/>
              <a:pathLst>
                <a:path w="16" h="32">
                  <a:moveTo>
                    <a:pt x="16" y="32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7" name=""/>
            <p:cNvSpPr/>
            <p:nvPr/>
          </p:nvSpPr>
          <p:spPr>
            <a:xfrm>
              <a:off x="4597560" y="2033640"/>
              <a:ext cx="27000" cy="144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8" name=""/>
            <p:cNvSpPr/>
            <p:nvPr/>
          </p:nvSpPr>
          <p:spPr>
            <a:xfrm flipH="1" flipV="1">
              <a:off x="5275440" y="3219120"/>
              <a:ext cx="25200" cy="507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9" name=""/>
            <p:cNvSpPr/>
            <p:nvPr/>
          </p:nvSpPr>
          <p:spPr>
            <a:xfrm>
              <a:off x="5224320" y="3130560"/>
              <a:ext cx="25560" cy="50760"/>
            </a:xfrm>
            <a:custGeom>
              <a:avLst/>
              <a:gdLst/>
              <a:ahLst/>
              <a:rect l="l" t="t" r="r" b="b"/>
              <a:pathLst>
                <a:path w="16" h="32">
                  <a:moveTo>
                    <a:pt x="16" y="32"/>
                  </a:moveTo>
                  <a:lnTo>
                    <a:pt x="8" y="8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0" name=""/>
            <p:cNvSpPr/>
            <p:nvPr/>
          </p:nvSpPr>
          <p:spPr>
            <a:xfrm>
              <a:off x="5186520" y="3041640"/>
              <a:ext cx="25200" cy="38160"/>
            </a:xfrm>
            <a:custGeom>
              <a:avLst/>
              <a:gdLst/>
              <a:ahLst/>
              <a:rect l="l" t="t" r="r" b="b"/>
              <a:pathLst>
                <a:path w="16" h="24">
                  <a:moveTo>
                    <a:pt x="16" y="24"/>
                  </a:moveTo>
                  <a:lnTo>
                    <a:pt x="8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1" name=""/>
            <p:cNvSpPr/>
            <p:nvPr/>
          </p:nvSpPr>
          <p:spPr>
            <a:xfrm flipH="1" flipV="1">
              <a:off x="5135400" y="2951280"/>
              <a:ext cx="38160" cy="396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2" name=""/>
            <p:cNvSpPr/>
            <p:nvPr/>
          </p:nvSpPr>
          <p:spPr>
            <a:xfrm>
              <a:off x="5083200" y="2862360"/>
              <a:ext cx="27000" cy="50760"/>
            </a:xfrm>
            <a:custGeom>
              <a:avLst/>
              <a:gdLst/>
              <a:ahLst/>
              <a:rect l="l" t="t" r="r" b="b"/>
              <a:pathLst>
                <a:path w="17" h="32">
                  <a:moveTo>
                    <a:pt x="17" y="32"/>
                  </a:moveTo>
                  <a:lnTo>
                    <a:pt x="0" y="16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3" name=""/>
            <p:cNvSpPr/>
            <p:nvPr/>
          </p:nvSpPr>
          <p:spPr>
            <a:xfrm flipV="1">
              <a:off x="5083200" y="2760480"/>
              <a:ext cx="14400" cy="507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4" name=""/>
            <p:cNvSpPr/>
            <p:nvPr/>
          </p:nvSpPr>
          <p:spPr>
            <a:xfrm flipV="1">
              <a:off x="5110200" y="2658600"/>
              <a:ext cx="1440" cy="507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5" name=""/>
            <p:cNvSpPr/>
            <p:nvPr/>
          </p:nvSpPr>
          <p:spPr>
            <a:xfrm flipV="1">
              <a:off x="5122800" y="2555640"/>
              <a:ext cx="1800" cy="522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6" name=""/>
            <p:cNvSpPr/>
            <p:nvPr/>
          </p:nvSpPr>
          <p:spPr>
            <a:xfrm flipV="1">
              <a:off x="5135400" y="2454120"/>
              <a:ext cx="12960" cy="511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7" name=""/>
            <p:cNvSpPr/>
            <p:nvPr/>
          </p:nvSpPr>
          <p:spPr>
            <a:xfrm>
              <a:off x="5148360" y="2352600"/>
              <a:ext cx="12600" cy="50760"/>
            </a:xfrm>
            <a:custGeom>
              <a:avLst/>
              <a:gdLst/>
              <a:ahLst/>
              <a:rect l="l" t="t" r="r" b="b"/>
              <a:pathLst>
                <a:path w="8" h="32">
                  <a:moveTo>
                    <a:pt x="0" y="32"/>
                  </a:moveTo>
                  <a:lnTo>
                    <a:pt x="8" y="0"/>
                  </a:lnTo>
                  <a:lnTo>
                    <a:pt x="8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8" name=""/>
            <p:cNvSpPr/>
            <p:nvPr/>
          </p:nvSpPr>
          <p:spPr>
            <a:xfrm flipV="1">
              <a:off x="5173560" y="2250720"/>
              <a:ext cx="1800" cy="507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9" name=""/>
            <p:cNvSpPr/>
            <p:nvPr/>
          </p:nvSpPr>
          <p:spPr>
            <a:xfrm>
              <a:off x="5186520" y="2135160"/>
              <a:ext cx="1440" cy="63360"/>
            </a:xfrm>
            <a:custGeom>
              <a:avLst/>
              <a:gdLst/>
              <a:ahLst/>
              <a:rect l="l" t="t" r="r" b="b"/>
              <a:pathLst>
                <a:path w="0" h="40">
                  <a:moveTo>
                    <a:pt x="0" y="40"/>
                  </a:moveTo>
                  <a:lnTo>
                    <a:pt x="0" y="24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0" name=""/>
            <p:cNvSpPr/>
            <p:nvPr/>
          </p:nvSpPr>
          <p:spPr>
            <a:xfrm>
              <a:off x="5199120" y="2033640"/>
              <a:ext cx="1440" cy="50760"/>
            </a:xfrm>
            <a:custGeom>
              <a:avLst/>
              <a:gdLst/>
              <a:ahLst/>
              <a:rect l="l" t="t" r="r" b="b"/>
              <a:pathLst>
                <a:path w="0" h="32">
                  <a:moveTo>
                    <a:pt x="0" y="32"/>
                  </a:moveTo>
                  <a:lnTo>
                    <a:pt x="0" y="32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1" name=""/>
            <p:cNvSpPr/>
            <p:nvPr/>
          </p:nvSpPr>
          <p:spPr>
            <a:xfrm flipV="1">
              <a:off x="5211720" y="1931760"/>
              <a:ext cx="12600" cy="507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2" name=""/>
            <p:cNvSpPr/>
            <p:nvPr/>
          </p:nvSpPr>
          <p:spPr>
            <a:xfrm flipV="1">
              <a:off x="5224320" y="1828800"/>
              <a:ext cx="12960" cy="525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3" name=""/>
            <p:cNvSpPr/>
            <p:nvPr/>
          </p:nvSpPr>
          <p:spPr>
            <a:xfrm flipV="1">
              <a:off x="5237280" y="1726920"/>
              <a:ext cx="12600" cy="507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4" name=""/>
            <p:cNvSpPr/>
            <p:nvPr/>
          </p:nvSpPr>
          <p:spPr>
            <a:xfrm flipV="1">
              <a:off x="5249880" y="1625400"/>
              <a:ext cx="12600" cy="507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5" name=""/>
            <p:cNvSpPr/>
            <p:nvPr/>
          </p:nvSpPr>
          <p:spPr>
            <a:xfrm>
              <a:off x="5288040" y="1600200"/>
              <a:ext cx="52200" cy="126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6" name=""/>
            <p:cNvSpPr/>
            <p:nvPr/>
          </p:nvSpPr>
          <p:spPr>
            <a:xfrm>
              <a:off x="5391000" y="1612800"/>
              <a:ext cx="51120" cy="129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7" name=""/>
            <p:cNvSpPr/>
            <p:nvPr/>
          </p:nvSpPr>
          <p:spPr>
            <a:xfrm flipV="1">
              <a:off x="5479920" y="1574640"/>
              <a:ext cx="38160" cy="381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8" name=""/>
            <p:cNvSpPr/>
            <p:nvPr/>
          </p:nvSpPr>
          <p:spPr>
            <a:xfrm flipV="1">
              <a:off x="5543640" y="1485720"/>
              <a:ext cx="39600" cy="378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9" name=""/>
            <p:cNvSpPr/>
            <p:nvPr/>
          </p:nvSpPr>
          <p:spPr>
            <a:xfrm>
              <a:off x="5621400" y="1498680"/>
              <a:ext cx="50760" cy="252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0" name=""/>
            <p:cNvSpPr/>
            <p:nvPr/>
          </p:nvSpPr>
          <p:spPr>
            <a:xfrm>
              <a:off x="5722920" y="1549440"/>
              <a:ext cx="38160" cy="126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1" name=""/>
            <p:cNvSpPr/>
            <p:nvPr/>
          </p:nvSpPr>
          <p:spPr>
            <a:xfrm>
              <a:off x="5811840" y="1587600"/>
              <a:ext cx="52560" cy="252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2" name=""/>
            <p:cNvSpPr/>
            <p:nvPr/>
          </p:nvSpPr>
          <p:spPr>
            <a:xfrm>
              <a:off x="5902200" y="1625760"/>
              <a:ext cx="50760" cy="25200"/>
            </a:xfrm>
            <a:custGeom>
              <a:avLst/>
              <a:gdLst/>
              <a:ahLst/>
              <a:rect l="l" t="t" r="r" b="b"/>
              <a:pathLst>
                <a:path w="32" h="16">
                  <a:moveTo>
                    <a:pt x="0" y="0"/>
                  </a:moveTo>
                  <a:lnTo>
                    <a:pt x="8" y="8"/>
                  </a:lnTo>
                  <a:lnTo>
                    <a:pt x="32" y="16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3" name=""/>
            <p:cNvSpPr/>
            <p:nvPr/>
          </p:nvSpPr>
          <p:spPr>
            <a:xfrm>
              <a:off x="6004080" y="1676520"/>
              <a:ext cx="50760" cy="12600"/>
            </a:xfrm>
            <a:custGeom>
              <a:avLst/>
              <a:gdLst/>
              <a:ahLst/>
              <a:rect l="l" t="t" r="r" b="b"/>
              <a:pathLst>
                <a:path w="32" h="8">
                  <a:moveTo>
                    <a:pt x="0" y="0"/>
                  </a:moveTo>
                  <a:lnTo>
                    <a:pt x="8" y="0"/>
                  </a:lnTo>
                  <a:lnTo>
                    <a:pt x="32" y="8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4" name=""/>
            <p:cNvSpPr/>
            <p:nvPr/>
          </p:nvSpPr>
          <p:spPr>
            <a:xfrm>
              <a:off x="6094440" y="1714680"/>
              <a:ext cx="25200" cy="37800"/>
            </a:xfrm>
            <a:custGeom>
              <a:avLst/>
              <a:gdLst/>
              <a:ahLst/>
              <a:rect l="l" t="t" r="r" b="b"/>
              <a:pathLst>
                <a:path w="16" h="24">
                  <a:moveTo>
                    <a:pt x="0" y="0"/>
                  </a:moveTo>
                  <a:lnTo>
                    <a:pt x="8" y="0"/>
                  </a:lnTo>
                  <a:lnTo>
                    <a:pt x="16" y="24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5" name=""/>
            <p:cNvSpPr/>
            <p:nvPr/>
          </p:nvSpPr>
          <p:spPr>
            <a:xfrm flipH="1">
              <a:off x="6119640" y="1803240"/>
              <a:ext cx="12960" cy="525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6" name=""/>
            <p:cNvSpPr/>
            <p:nvPr/>
          </p:nvSpPr>
          <p:spPr>
            <a:xfrm flipH="1">
              <a:off x="6106680" y="1906560"/>
              <a:ext cx="12600" cy="507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7" name=""/>
            <p:cNvSpPr/>
            <p:nvPr/>
          </p:nvSpPr>
          <p:spPr>
            <a:xfrm>
              <a:off x="6107040" y="2008080"/>
              <a:ext cx="1800" cy="38160"/>
            </a:xfrm>
            <a:custGeom>
              <a:avLst/>
              <a:gdLst/>
              <a:ahLst/>
              <a:rect l="l" t="t" r="r" b="b"/>
              <a:pathLst>
                <a:path w="0" h="24">
                  <a:moveTo>
                    <a:pt x="0" y="0"/>
                  </a:moveTo>
                  <a:lnTo>
                    <a:pt x="0" y="24"/>
                  </a:lnTo>
                  <a:lnTo>
                    <a:pt x="0" y="24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8" name=""/>
            <p:cNvSpPr/>
            <p:nvPr/>
          </p:nvSpPr>
          <p:spPr>
            <a:xfrm flipH="1">
              <a:off x="4546440" y="2033640"/>
              <a:ext cx="5112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9" name=""/>
            <p:cNvSpPr/>
            <p:nvPr/>
          </p:nvSpPr>
          <p:spPr>
            <a:xfrm>
              <a:off x="4483080" y="2058840"/>
              <a:ext cx="38160" cy="25560"/>
            </a:xfrm>
            <a:custGeom>
              <a:avLst/>
              <a:gdLst/>
              <a:ahLst/>
              <a:rect l="l" t="t" r="r" b="b"/>
              <a:pathLst>
                <a:path w="24" h="16">
                  <a:moveTo>
                    <a:pt x="24" y="0"/>
                  </a:moveTo>
                  <a:lnTo>
                    <a:pt x="8" y="8"/>
                  </a:lnTo>
                  <a:lnTo>
                    <a:pt x="0" y="16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0" name=""/>
            <p:cNvSpPr/>
            <p:nvPr/>
          </p:nvSpPr>
          <p:spPr>
            <a:xfrm>
              <a:off x="4394160" y="2122560"/>
              <a:ext cx="50760" cy="12600"/>
            </a:xfrm>
            <a:custGeom>
              <a:avLst/>
              <a:gdLst/>
              <a:ahLst/>
              <a:rect l="l" t="t" r="r" b="b"/>
              <a:pathLst>
                <a:path w="32" h="8">
                  <a:moveTo>
                    <a:pt x="32" y="0"/>
                  </a:moveTo>
                  <a:lnTo>
                    <a:pt x="8" y="8"/>
                  </a:lnTo>
                  <a:lnTo>
                    <a:pt x="0" y="8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1" name=""/>
            <p:cNvSpPr/>
            <p:nvPr/>
          </p:nvSpPr>
          <p:spPr>
            <a:xfrm>
              <a:off x="4341960" y="2185920"/>
              <a:ext cx="39600" cy="3960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25" y="0"/>
                  </a:moveTo>
                  <a:lnTo>
                    <a:pt x="25" y="8"/>
                  </a:lnTo>
                  <a:lnTo>
                    <a:pt x="17" y="16"/>
                  </a:lnTo>
                  <a:lnTo>
                    <a:pt x="9" y="16"/>
                  </a:lnTo>
                  <a:lnTo>
                    <a:pt x="0" y="25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2" name=""/>
            <p:cNvSpPr/>
            <p:nvPr/>
          </p:nvSpPr>
          <p:spPr>
            <a:xfrm>
              <a:off x="4265640" y="2263680"/>
              <a:ext cx="50760" cy="25560"/>
            </a:xfrm>
            <a:custGeom>
              <a:avLst/>
              <a:gdLst/>
              <a:ahLst/>
              <a:rect l="l" t="t" r="r" b="b"/>
              <a:pathLst>
                <a:path w="32" h="16">
                  <a:moveTo>
                    <a:pt x="32" y="0"/>
                  </a:moveTo>
                  <a:lnTo>
                    <a:pt x="16" y="8"/>
                  </a:lnTo>
                  <a:lnTo>
                    <a:pt x="0" y="16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3" name=""/>
            <p:cNvSpPr/>
            <p:nvPr/>
          </p:nvSpPr>
          <p:spPr>
            <a:xfrm>
              <a:off x="4189320" y="2327400"/>
              <a:ext cx="38160" cy="25200"/>
            </a:xfrm>
            <a:custGeom>
              <a:avLst/>
              <a:gdLst/>
              <a:ahLst/>
              <a:rect l="l" t="t" r="r" b="b"/>
              <a:pathLst>
                <a:path w="24" h="16">
                  <a:moveTo>
                    <a:pt x="24" y="0"/>
                  </a:moveTo>
                  <a:lnTo>
                    <a:pt x="16" y="8"/>
                  </a:lnTo>
                  <a:lnTo>
                    <a:pt x="0" y="16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4" name=""/>
            <p:cNvSpPr/>
            <p:nvPr/>
          </p:nvSpPr>
          <p:spPr>
            <a:xfrm>
              <a:off x="4098960" y="2390760"/>
              <a:ext cx="52200" cy="12600"/>
            </a:xfrm>
            <a:custGeom>
              <a:avLst/>
              <a:gdLst/>
              <a:ahLst/>
              <a:rect l="l" t="t" r="r" b="b"/>
              <a:pathLst>
                <a:path w="33" h="8">
                  <a:moveTo>
                    <a:pt x="33" y="0"/>
                  </a:moveTo>
                  <a:lnTo>
                    <a:pt x="25" y="0"/>
                  </a:lnTo>
                  <a:lnTo>
                    <a:pt x="9" y="8"/>
                  </a:lnTo>
                  <a:lnTo>
                    <a:pt x="0" y="8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5" name=""/>
            <p:cNvSpPr/>
            <p:nvPr/>
          </p:nvSpPr>
          <p:spPr>
            <a:xfrm>
              <a:off x="4048200" y="2314440"/>
              <a:ext cx="25200" cy="50760"/>
            </a:xfrm>
            <a:custGeom>
              <a:avLst/>
              <a:gdLst/>
              <a:ahLst/>
              <a:rect l="l" t="t" r="r" b="b"/>
              <a:pathLst>
                <a:path w="16" h="32">
                  <a:moveTo>
                    <a:pt x="16" y="32"/>
                  </a:moveTo>
                  <a:lnTo>
                    <a:pt x="8" y="16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6" name=""/>
            <p:cNvSpPr/>
            <p:nvPr/>
          </p:nvSpPr>
          <p:spPr>
            <a:xfrm flipH="1" flipV="1">
              <a:off x="3997080" y="2289240"/>
              <a:ext cx="50760" cy="252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7" name=""/>
            <p:cNvSpPr/>
            <p:nvPr/>
          </p:nvSpPr>
          <p:spPr>
            <a:xfrm flipH="1" flipV="1">
              <a:off x="3921120" y="2225160"/>
              <a:ext cx="38160" cy="255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8" name=""/>
            <p:cNvSpPr/>
            <p:nvPr/>
          </p:nvSpPr>
          <p:spPr>
            <a:xfrm>
              <a:off x="3843360" y="2211480"/>
              <a:ext cx="39600" cy="3960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25" y="0"/>
                  </a:moveTo>
                  <a:lnTo>
                    <a:pt x="8" y="17"/>
                  </a:lnTo>
                  <a:lnTo>
                    <a:pt x="0" y="25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9" name=""/>
            <p:cNvSpPr/>
            <p:nvPr/>
          </p:nvSpPr>
          <p:spPr>
            <a:xfrm>
              <a:off x="3754440" y="2289240"/>
              <a:ext cx="50760" cy="25200"/>
            </a:xfrm>
            <a:custGeom>
              <a:avLst/>
              <a:gdLst/>
              <a:ahLst/>
              <a:rect l="l" t="t" r="r" b="b"/>
              <a:pathLst>
                <a:path w="32" h="16">
                  <a:moveTo>
                    <a:pt x="32" y="0"/>
                  </a:moveTo>
                  <a:lnTo>
                    <a:pt x="16" y="8"/>
                  </a:lnTo>
                  <a:lnTo>
                    <a:pt x="0" y="16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0" name=""/>
            <p:cNvSpPr/>
            <p:nvPr/>
          </p:nvSpPr>
          <p:spPr>
            <a:xfrm>
              <a:off x="3678120" y="234000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24" y="0"/>
                  </a:moveTo>
                  <a:lnTo>
                    <a:pt x="0" y="24"/>
                  </a:lnTo>
                  <a:lnTo>
                    <a:pt x="0" y="24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1" name=""/>
            <p:cNvSpPr/>
            <p:nvPr/>
          </p:nvSpPr>
          <p:spPr>
            <a:xfrm flipH="1">
              <a:off x="3613320" y="2403360"/>
              <a:ext cx="26640" cy="255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2" name=""/>
            <p:cNvSpPr/>
            <p:nvPr/>
          </p:nvSpPr>
          <p:spPr>
            <a:xfrm>
              <a:off x="3435480" y="2403360"/>
              <a:ext cx="25200" cy="509760"/>
            </a:xfrm>
            <a:custGeom>
              <a:avLst/>
              <a:gdLst/>
              <a:ahLst/>
              <a:rect l="l" t="t" r="r" b="b"/>
              <a:pathLst>
                <a:path w="16" h="321">
                  <a:moveTo>
                    <a:pt x="16" y="0"/>
                  </a:moveTo>
                  <a:lnTo>
                    <a:pt x="8" y="24"/>
                  </a:lnTo>
                  <a:lnTo>
                    <a:pt x="0" y="40"/>
                  </a:lnTo>
                  <a:lnTo>
                    <a:pt x="0" y="72"/>
                  </a:lnTo>
                  <a:lnTo>
                    <a:pt x="0" y="96"/>
                  </a:lnTo>
                  <a:lnTo>
                    <a:pt x="0" y="120"/>
                  </a:lnTo>
                  <a:lnTo>
                    <a:pt x="0" y="161"/>
                  </a:lnTo>
                  <a:lnTo>
                    <a:pt x="8" y="185"/>
                  </a:lnTo>
                  <a:lnTo>
                    <a:pt x="16" y="209"/>
                  </a:lnTo>
                  <a:lnTo>
                    <a:pt x="16" y="233"/>
                  </a:lnTo>
                  <a:lnTo>
                    <a:pt x="16" y="273"/>
                  </a:lnTo>
                  <a:lnTo>
                    <a:pt x="16" y="289"/>
                  </a:lnTo>
                  <a:lnTo>
                    <a:pt x="8" y="321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3" name=""/>
            <p:cNvSpPr/>
            <p:nvPr/>
          </p:nvSpPr>
          <p:spPr>
            <a:xfrm>
              <a:off x="3460680" y="2403360"/>
              <a:ext cx="1814760" cy="955800"/>
            </a:xfrm>
            <a:custGeom>
              <a:avLst/>
              <a:gdLst/>
              <a:ahLst/>
              <a:rect l="l" t="t" r="r" b="b"/>
              <a:pathLst>
                <a:path w="1143" h="602">
                  <a:moveTo>
                    <a:pt x="1143" y="602"/>
                  </a:moveTo>
                  <a:lnTo>
                    <a:pt x="1055" y="570"/>
                  </a:lnTo>
                  <a:lnTo>
                    <a:pt x="926" y="530"/>
                  </a:lnTo>
                  <a:lnTo>
                    <a:pt x="781" y="466"/>
                  </a:lnTo>
                  <a:lnTo>
                    <a:pt x="725" y="410"/>
                  </a:lnTo>
                  <a:lnTo>
                    <a:pt x="652" y="378"/>
                  </a:lnTo>
                  <a:lnTo>
                    <a:pt x="555" y="305"/>
                  </a:lnTo>
                  <a:lnTo>
                    <a:pt x="459" y="241"/>
                  </a:lnTo>
                  <a:lnTo>
                    <a:pt x="411" y="193"/>
                  </a:lnTo>
                  <a:lnTo>
                    <a:pt x="378" y="169"/>
                  </a:lnTo>
                  <a:lnTo>
                    <a:pt x="314" y="96"/>
                  </a:lnTo>
                  <a:lnTo>
                    <a:pt x="282" y="80"/>
                  </a:lnTo>
                  <a:lnTo>
                    <a:pt x="129" y="32"/>
                  </a:lnTo>
                  <a:lnTo>
                    <a:pt x="72" y="8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4" name=""/>
            <p:cNvSpPr/>
            <p:nvPr/>
          </p:nvSpPr>
          <p:spPr>
            <a:xfrm>
              <a:off x="5568840" y="2849400"/>
              <a:ext cx="52560" cy="18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5" name=""/>
            <p:cNvSpPr/>
            <p:nvPr/>
          </p:nvSpPr>
          <p:spPr>
            <a:xfrm>
              <a:off x="5672160" y="2849400"/>
              <a:ext cx="50760" cy="1800"/>
            </a:xfrm>
            <a:custGeom>
              <a:avLst/>
              <a:gdLst/>
              <a:ahLst/>
              <a:rect l="l" t="t" r="r" b="b"/>
              <a:pathLst>
                <a:path w="32" h="0">
                  <a:moveTo>
                    <a:pt x="0" y="0"/>
                  </a:moveTo>
                  <a:lnTo>
                    <a:pt x="32" y="0"/>
                  </a:lnTo>
                  <a:lnTo>
                    <a:pt x="32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6" name=""/>
            <p:cNvSpPr/>
            <p:nvPr/>
          </p:nvSpPr>
          <p:spPr>
            <a:xfrm>
              <a:off x="5735520" y="2786040"/>
              <a:ext cx="50760" cy="12600"/>
            </a:xfrm>
            <a:custGeom>
              <a:avLst/>
              <a:gdLst/>
              <a:ahLst/>
              <a:rect l="l" t="t" r="r" b="b"/>
              <a:pathLst>
                <a:path w="32" h="8">
                  <a:moveTo>
                    <a:pt x="0" y="8"/>
                  </a:moveTo>
                  <a:lnTo>
                    <a:pt x="0" y="8"/>
                  </a:lnTo>
                  <a:lnTo>
                    <a:pt x="24" y="0"/>
                  </a:lnTo>
                  <a:lnTo>
                    <a:pt x="32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7" name=""/>
            <p:cNvSpPr/>
            <p:nvPr/>
          </p:nvSpPr>
          <p:spPr>
            <a:xfrm>
              <a:off x="5479920" y="2517840"/>
              <a:ext cx="5076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8" name=""/>
            <p:cNvSpPr/>
            <p:nvPr/>
          </p:nvSpPr>
          <p:spPr>
            <a:xfrm>
              <a:off x="2130480" y="3270240"/>
              <a:ext cx="320760" cy="76320"/>
            </a:xfrm>
            <a:custGeom>
              <a:avLst/>
              <a:gdLst/>
              <a:ahLst/>
              <a:rect l="l" t="t" r="r" b="b"/>
              <a:pathLst>
                <a:path w="202" h="48">
                  <a:moveTo>
                    <a:pt x="202" y="16"/>
                  </a:moveTo>
                  <a:lnTo>
                    <a:pt x="194" y="24"/>
                  </a:lnTo>
                  <a:lnTo>
                    <a:pt x="178" y="16"/>
                  </a:lnTo>
                  <a:lnTo>
                    <a:pt x="161" y="8"/>
                  </a:lnTo>
                  <a:lnTo>
                    <a:pt x="145" y="0"/>
                  </a:lnTo>
                  <a:lnTo>
                    <a:pt x="129" y="0"/>
                  </a:lnTo>
                  <a:lnTo>
                    <a:pt x="121" y="0"/>
                  </a:lnTo>
                  <a:lnTo>
                    <a:pt x="113" y="8"/>
                  </a:lnTo>
                  <a:lnTo>
                    <a:pt x="105" y="24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65" y="40"/>
                  </a:lnTo>
                  <a:lnTo>
                    <a:pt x="0" y="48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9" name=""/>
            <p:cNvSpPr/>
            <p:nvPr/>
          </p:nvSpPr>
          <p:spPr>
            <a:xfrm>
              <a:off x="4854600" y="4035600"/>
              <a:ext cx="38160" cy="25200"/>
            </a:xfrm>
            <a:custGeom>
              <a:avLst/>
              <a:gdLst/>
              <a:ahLst/>
              <a:rect l="l" t="t" r="r" b="b"/>
              <a:pathLst>
                <a:path w="24" h="16">
                  <a:moveTo>
                    <a:pt x="0" y="16"/>
                  </a:moveTo>
                  <a:lnTo>
                    <a:pt x="24" y="8"/>
                  </a:lnTo>
                  <a:lnTo>
                    <a:pt x="24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0" name=""/>
            <p:cNvSpPr/>
            <p:nvPr/>
          </p:nvSpPr>
          <p:spPr>
            <a:xfrm flipV="1">
              <a:off x="4917960" y="3946320"/>
              <a:ext cx="12960" cy="507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1" name=""/>
            <p:cNvSpPr/>
            <p:nvPr/>
          </p:nvSpPr>
          <p:spPr>
            <a:xfrm>
              <a:off x="4892760" y="4048200"/>
              <a:ext cx="50760" cy="252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2" name=""/>
            <p:cNvSpPr/>
            <p:nvPr/>
          </p:nvSpPr>
          <p:spPr>
            <a:xfrm flipV="1">
              <a:off x="4994280" y="4022280"/>
              <a:ext cx="12600" cy="507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3" name=""/>
            <p:cNvSpPr/>
            <p:nvPr/>
          </p:nvSpPr>
          <p:spPr>
            <a:xfrm flipV="1">
              <a:off x="5019840" y="3933360"/>
              <a:ext cx="12600" cy="507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4" name=""/>
            <p:cNvSpPr/>
            <p:nvPr/>
          </p:nvSpPr>
          <p:spPr>
            <a:xfrm flipV="1">
              <a:off x="5045040" y="3831840"/>
              <a:ext cx="25560" cy="507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5" name=""/>
            <p:cNvSpPr/>
            <p:nvPr/>
          </p:nvSpPr>
          <p:spPr>
            <a:xfrm flipV="1">
              <a:off x="4419720" y="3755880"/>
              <a:ext cx="12600" cy="511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6" name=""/>
            <p:cNvSpPr/>
            <p:nvPr/>
          </p:nvSpPr>
          <p:spPr>
            <a:xfrm flipV="1">
              <a:off x="4444920" y="3652560"/>
              <a:ext cx="12960" cy="507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7" name=""/>
            <p:cNvSpPr/>
            <p:nvPr/>
          </p:nvSpPr>
          <p:spPr>
            <a:xfrm flipV="1">
              <a:off x="4483080" y="3551040"/>
              <a:ext cx="12600" cy="507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8" name=""/>
            <p:cNvSpPr/>
            <p:nvPr/>
          </p:nvSpPr>
          <p:spPr>
            <a:xfrm flipV="1">
              <a:off x="4508640" y="3449160"/>
              <a:ext cx="12600" cy="507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9" name=""/>
            <p:cNvSpPr/>
            <p:nvPr/>
          </p:nvSpPr>
          <p:spPr>
            <a:xfrm flipV="1">
              <a:off x="4533840" y="3359160"/>
              <a:ext cx="12600" cy="396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0" name=""/>
            <p:cNvSpPr/>
            <p:nvPr/>
          </p:nvSpPr>
          <p:spPr>
            <a:xfrm>
              <a:off x="4356000" y="4456080"/>
              <a:ext cx="50760" cy="126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1" name=""/>
            <p:cNvSpPr/>
            <p:nvPr/>
          </p:nvSpPr>
          <p:spPr>
            <a:xfrm flipH="1">
              <a:off x="4419360" y="4494240"/>
              <a:ext cx="12600" cy="522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2" name=""/>
            <p:cNvSpPr/>
            <p:nvPr/>
          </p:nvSpPr>
          <p:spPr>
            <a:xfrm flipH="1">
              <a:off x="4393800" y="4597560"/>
              <a:ext cx="12600" cy="507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3" name=""/>
            <p:cNvSpPr/>
            <p:nvPr/>
          </p:nvSpPr>
          <p:spPr>
            <a:xfrm>
              <a:off x="4406760" y="4673520"/>
              <a:ext cx="51120" cy="25560"/>
            </a:xfrm>
            <a:custGeom>
              <a:avLst/>
              <a:gdLst/>
              <a:ahLst/>
              <a:rect l="l" t="t" r="r" b="b"/>
              <a:pathLst>
                <a:path w="32" h="16">
                  <a:moveTo>
                    <a:pt x="0" y="0"/>
                  </a:moveTo>
                  <a:lnTo>
                    <a:pt x="16" y="16"/>
                  </a:lnTo>
                  <a:lnTo>
                    <a:pt x="32" y="16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4" name=""/>
            <p:cNvSpPr/>
            <p:nvPr/>
          </p:nvSpPr>
          <p:spPr>
            <a:xfrm>
              <a:off x="4495680" y="472428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0" y="0"/>
                  </a:moveTo>
                  <a:lnTo>
                    <a:pt x="24" y="16"/>
                  </a:lnTo>
                  <a:lnTo>
                    <a:pt x="16" y="24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5" name=""/>
            <p:cNvSpPr/>
            <p:nvPr/>
          </p:nvSpPr>
          <p:spPr>
            <a:xfrm flipV="1">
              <a:off x="4572000" y="4928760"/>
              <a:ext cx="52560" cy="126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6" name=""/>
            <p:cNvSpPr/>
            <p:nvPr/>
          </p:nvSpPr>
          <p:spPr>
            <a:xfrm flipH="1">
              <a:off x="4968720" y="4086360"/>
              <a:ext cx="12960" cy="522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7" name=""/>
            <p:cNvSpPr/>
            <p:nvPr/>
          </p:nvSpPr>
          <p:spPr>
            <a:xfrm flipH="1">
              <a:off x="4943160" y="4189320"/>
              <a:ext cx="12600" cy="381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8" name=""/>
            <p:cNvSpPr/>
            <p:nvPr/>
          </p:nvSpPr>
          <p:spPr>
            <a:xfrm>
              <a:off x="4917960" y="4278240"/>
              <a:ext cx="12960" cy="50760"/>
            </a:xfrm>
            <a:custGeom>
              <a:avLst/>
              <a:gdLst/>
              <a:ahLst/>
              <a:rect l="l" t="t" r="r" b="b"/>
              <a:pathLst>
                <a:path w="8" h="32">
                  <a:moveTo>
                    <a:pt x="8" y="0"/>
                  </a:moveTo>
                  <a:lnTo>
                    <a:pt x="0" y="8"/>
                  </a:lnTo>
                  <a:lnTo>
                    <a:pt x="0" y="32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9" name=""/>
            <p:cNvSpPr/>
            <p:nvPr/>
          </p:nvSpPr>
          <p:spPr>
            <a:xfrm flipH="1">
              <a:off x="4892400" y="4379760"/>
              <a:ext cx="12600" cy="511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0" name=""/>
            <p:cNvSpPr/>
            <p:nvPr/>
          </p:nvSpPr>
          <p:spPr>
            <a:xfrm>
              <a:off x="4905360" y="4481640"/>
              <a:ext cx="25560" cy="522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1" name=""/>
            <p:cNvSpPr/>
            <p:nvPr/>
          </p:nvSpPr>
          <p:spPr>
            <a:xfrm>
              <a:off x="4624560" y="4164120"/>
              <a:ext cx="12600" cy="38160"/>
            </a:xfrm>
            <a:custGeom>
              <a:avLst/>
              <a:gdLst/>
              <a:ahLst/>
              <a:rect l="l" t="t" r="r" b="b"/>
              <a:pathLst>
                <a:path w="8" h="24">
                  <a:moveTo>
                    <a:pt x="0" y="0"/>
                  </a:moveTo>
                  <a:lnTo>
                    <a:pt x="8" y="24"/>
                  </a:lnTo>
                  <a:lnTo>
                    <a:pt x="8" y="24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2" name=""/>
            <p:cNvSpPr/>
            <p:nvPr/>
          </p:nvSpPr>
          <p:spPr>
            <a:xfrm flipH="1">
              <a:off x="4662360" y="4227480"/>
              <a:ext cx="12960" cy="507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3" name=""/>
            <p:cNvSpPr/>
            <p:nvPr/>
          </p:nvSpPr>
          <p:spPr>
            <a:xfrm>
              <a:off x="4687920" y="4316400"/>
              <a:ext cx="38160" cy="255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4" name=""/>
          <p:cNvGrpSpPr/>
          <p:nvPr/>
        </p:nvGrpSpPr>
        <p:grpSpPr>
          <a:xfrm>
            <a:off x="812880" y="1293840"/>
            <a:ext cx="6994440" cy="4895280"/>
            <a:chOff x="812880" y="1293840"/>
            <a:chExt cx="6994440" cy="4895280"/>
          </a:xfrm>
        </p:grpSpPr>
        <p:sp>
          <p:nvSpPr>
            <p:cNvPr id="1885" name=""/>
            <p:cNvSpPr/>
            <p:nvPr/>
          </p:nvSpPr>
          <p:spPr>
            <a:xfrm>
              <a:off x="4776840" y="4341960"/>
              <a:ext cx="25200" cy="2520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16"/>
                  </a:moveTo>
                  <a:lnTo>
                    <a:pt x="8" y="16"/>
                  </a:lnTo>
                  <a:lnTo>
                    <a:pt x="16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6" name=""/>
            <p:cNvSpPr/>
            <p:nvPr/>
          </p:nvSpPr>
          <p:spPr>
            <a:xfrm flipV="1">
              <a:off x="4815000" y="4239720"/>
              <a:ext cx="25200" cy="507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7" name=""/>
            <p:cNvSpPr/>
            <p:nvPr/>
          </p:nvSpPr>
          <p:spPr>
            <a:xfrm flipV="1">
              <a:off x="4854600" y="4138200"/>
              <a:ext cx="12600" cy="507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8" name=""/>
            <p:cNvSpPr/>
            <p:nvPr/>
          </p:nvSpPr>
          <p:spPr>
            <a:xfrm flipV="1">
              <a:off x="4879800" y="4060440"/>
              <a:ext cx="12960" cy="255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9" name=""/>
            <p:cNvSpPr/>
            <p:nvPr/>
          </p:nvSpPr>
          <p:spPr>
            <a:xfrm flipH="1">
              <a:off x="4533480" y="2862360"/>
              <a:ext cx="12600" cy="507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0" name=""/>
            <p:cNvSpPr/>
            <p:nvPr/>
          </p:nvSpPr>
          <p:spPr>
            <a:xfrm flipH="1">
              <a:off x="4520880" y="2963880"/>
              <a:ext cx="12600" cy="522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1" name=""/>
            <p:cNvSpPr/>
            <p:nvPr/>
          </p:nvSpPr>
          <p:spPr>
            <a:xfrm flipV="1">
              <a:off x="4751280" y="3117600"/>
              <a:ext cx="25560" cy="507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2" name=""/>
            <p:cNvSpPr/>
            <p:nvPr/>
          </p:nvSpPr>
          <p:spPr>
            <a:xfrm flipV="1">
              <a:off x="4789440" y="3016080"/>
              <a:ext cx="1800" cy="511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3" name=""/>
            <p:cNvSpPr/>
            <p:nvPr/>
          </p:nvSpPr>
          <p:spPr>
            <a:xfrm flipV="1">
              <a:off x="4802040" y="2912760"/>
              <a:ext cx="1800" cy="507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4" name=""/>
            <p:cNvSpPr/>
            <p:nvPr/>
          </p:nvSpPr>
          <p:spPr>
            <a:xfrm flipV="1">
              <a:off x="4802040" y="2836440"/>
              <a:ext cx="1800" cy="255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5" name=""/>
            <p:cNvSpPr/>
            <p:nvPr/>
          </p:nvSpPr>
          <p:spPr>
            <a:xfrm flipV="1">
              <a:off x="4611600" y="3003120"/>
              <a:ext cx="1800" cy="507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6" name=""/>
            <p:cNvSpPr/>
            <p:nvPr/>
          </p:nvSpPr>
          <p:spPr>
            <a:xfrm>
              <a:off x="4624560" y="2963880"/>
              <a:ext cx="50760" cy="126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7" name=""/>
            <p:cNvSpPr/>
            <p:nvPr/>
          </p:nvSpPr>
          <p:spPr>
            <a:xfrm>
              <a:off x="4726080" y="2963880"/>
              <a:ext cx="38160" cy="27000"/>
            </a:xfrm>
            <a:custGeom>
              <a:avLst/>
              <a:gdLst/>
              <a:ahLst/>
              <a:rect l="l" t="t" r="r" b="b"/>
              <a:pathLst>
                <a:path w="24" h="17">
                  <a:moveTo>
                    <a:pt x="0" y="8"/>
                  </a:moveTo>
                  <a:lnTo>
                    <a:pt x="24" y="17"/>
                  </a:lnTo>
                  <a:lnTo>
                    <a:pt x="24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8" name=""/>
            <p:cNvSpPr/>
            <p:nvPr/>
          </p:nvSpPr>
          <p:spPr>
            <a:xfrm flipV="1">
              <a:off x="4764240" y="2887200"/>
              <a:ext cx="1440" cy="255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9" name=""/>
            <p:cNvSpPr/>
            <p:nvPr/>
          </p:nvSpPr>
          <p:spPr>
            <a:xfrm>
              <a:off x="4086360" y="2390760"/>
              <a:ext cx="39600" cy="3816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0" y="8"/>
                  </a:moveTo>
                  <a:lnTo>
                    <a:pt x="0" y="16"/>
                  </a:lnTo>
                  <a:lnTo>
                    <a:pt x="17" y="24"/>
                  </a:lnTo>
                  <a:lnTo>
                    <a:pt x="25" y="16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17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0" name=""/>
            <p:cNvSpPr/>
            <p:nvPr/>
          </p:nvSpPr>
          <p:spPr>
            <a:xfrm>
              <a:off x="5991120" y="1663560"/>
              <a:ext cx="38160" cy="25560"/>
            </a:xfrm>
            <a:custGeom>
              <a:avLst/>
              <a:gdLst/>
              <a:ahLst/>
              <a:rect l="l" t="t" r="r" b="b"/>
              <a:pathLst>
                <a:path w="24" h="16">
                  <a:moveTo>
                    <a:pt x="0" y="0"/>
                  </a:moveTo>
                  <a:lnTo>
                    <a:pt x="0" y="16"/>
                  </a:lnTo>
                  <a:lnTo>
                    <a:pt x="8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1" name=""/>
            <p:cNvSpPr/>
            <p:nvPr/>
          </p:nvSpPr>
          <p:spPr>
            <a:xfrm>
              <a:off x="7142040" y="2276640"/>
              <a:ext cx="50760" cy="50760"/>
            </a:xfrm>
            <a:custGeom>
              <a:avLst/>
              <a:gdLst/>
              <a:ahLst/>
              <a:rect l="l" t="t" r="r" b="b"/>
              <a:pathLst>
                <a:path w="32" h="32">
                  <a:moveTo>
                    <a:pt x="0" y="8"/>
                  </a:moveTo>
                  <a:lnTo>
                    <a:pt x="0" y="24"/>
                  </a:lnTo>
                  <a:lnTo>
                    <a:pt x="16" y="32"/>
                  </a:lnTo>
                  <a:lnTo>
                    <a:pt x="32" y="24"/>
                  </a:lnTo>
                  <a:lnTo>
                    <a:pt x="32" y="8"/>
                  </a:lnTo>
                  <a:lnTo>
                    <a:pt x="32" y="0"/>
                  </a:lnTo>
                  <a:lnTo>
                    <a:pt x="24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2" name=""/>
            <p:cNvSpPr/>
            <p:nvPr/>
          </p:nvSpPr>
          <p:spPr>
            <a:xfrm>
              <a:off x="7192080" y="2147760"/>
              <a:ext cx="20052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MAISA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3" name=""/>
            <p:cNvSpPr/>
            <p:nvPr/>
          </p:nvSpPr>
          <p:spPr>
            <a:xfrm>
              <a:off x="6398280" y="2697120"/>
              <a:ext cx="30852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Furna Feia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6324480" y="2633760"/>
              <a:ext cx="101880" cy="88920"/>
            </a:xfrm>
            <a:custGeom>
              <a:avLst/>
              <a:gdLst/>
              <a:ahLst/>
              <a:rect l="l" t="t" r="r" b="b"/>
              <a:pathLst>
                <a:path w="64" h="56">
                  <a:moveTo>
                    <a:pt x="16" y="40"/>
                  </a:moveTo>
                  <a:lnTo>
                    <a:pt x="0" y="32"/>
                  </a:lnTo>
                  <a:lnTo>
                    <a:pt x="16" y="24"/>
                  </a:lnTo>
                  <a:lnTo>
                    <a:pt x="16" y="16"/>
                  </a:lnTo>
                  <a:lnTo>
                    <a:pt x="24" y="24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40" y="24"/>
                  </a:lnTo>
                  <a:lnTo>
                    <a:pt x="64" y="32"/>
                  </a:lnTo>
                  <a:lnTo>
                    <a:pt x="32" y="40"/>
                  </a:lnTo>
                  <a:lnTo>
                    <a:pt x="40" y="56"/>
                  </a:lnTo>
                  <a:lnTo>
                    <a:pt x="40" y="56"/>
                  </a:lnTo>
                  <a:lnTo>
                    <a:pt x="24" y="48"/>
                  </a:lnTo>
                  <a:lnTo>
                    <a:pt x="16" y="56"/>
                  </a:lnTo>
                  <a:lnTo>
                    <a:pt x="16" y="48"/>
                  </a:lnTo>
                  <a:lnTo>
                    <a:pt x="8" y="48"/>
                  </a:lnTo>
                  <a:lnTo>
                    <a:pt x="16" y="4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5748480" y="2314440"/>
              <a:ext cx="63360" cy="38160"/>
            </a:xfrm>
            <a:custGeom>
              <a:avLst/>
              <a:gdLst/>
              <a:ahLst/>
              <a:rect l="l" t="t" r="r" b="b"/>
              <a:pathLst>
                <a:path w="40" h="24">
                  <a:moveTo>
                    <a:pt x="0" y="8"/>
                  </a:moveTo>
                  <a:lnTo>
                    <a:pt x="8" y="24"/>
                  </a:lnTo>
                  <a:lnTo>
                    <a:pt x="24" y="24"/>
                  </a:lnTo>
                  <a:lnTo>
                    <a:pt x="40" y="24"/>
                  </a:lnTo>
                  <a:lnTo>
                    <a:pt x="40" y="8"/>
                  </a:lnTo>
                  <a:lnTo>
                    <a:pt x="32" y="0"/>
                  </a:lnTo>
                  <a:lnTo>
                    <a:pt x="24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6" name=""/>
            <p:cNvSpPr/>
            <p:nvPr/>
          </p:nvSpPr>
          <p:spPr>
            <a:xfrm>
              <a:off x="5505120" y="2187720"/>
              <a:ext cx="2721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Vila Nova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7" name=""/>
            <p:cNvSpPr/>
            <p:nvPr/>
          </p:nvSpPr>
          <p:spPr>
            <a:xfrm>
              <a:off x="5543640" y="2760840"/>
              <a:ext cx="65160" cy="50760"/>
            </a:xfrm>
            <a:custGeom>
              <a:avLst/>
              <a:gdLst/>
              <a:ahLst/>
              <a:rect l="l" t="t" r="r" b="b"/>
              <a:pathLst>
                <a:path w="41" h="32">
                  <a:moveTo>
                    <a:pt x="0" y="8"/>
                  </a:moveTo>
                  <a:lnTo>
                    <a:pt x="8" y="24"/>
                  </a:lnTo>
                  <a:lnTo>
                    <a:pt x="16" y="32"/>
                  </a:lnTo>
                  <a:lnTo>
                    <a:pt x="41" y="24"/>
                  </a:lnTo>
                  <a:lnTo>
                    <a:pt x="41" y="16"/>
                  </a:lnTo>
                  <a:lnTo>
                    <a:pt x="33" y="8"/>
                  </a:lnTo>
                  <a:lnTo>
                    <a:pt x="25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8" name=""/>
            <p:cNvSpPr/>
            <p:nvPr/>
          </p:nvSpPr>
          <p:spPr>
            <a:xfrm>
              <a:off x="5375880" y="2671920"/>
              <a:ext cx="46692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Toca da Raposa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9" name=""/>
            <p:cNvSpPr/>
            <p:nvPr/>
          </p:nvSpPr>
          <p:spPr>
            <a:xfrm>
              <a:off x="6502320" y="3703680"/>
              <a:ext cx="65160" cy="38160"/>
            </a:xfrm>
            <a:custGeom>
              <a:avLst/>
              <a:gdLst/>
              <a:ahLst/>
              <a:rect l="l" t="t" r="r" b="b"/>
              <a:pathLst>
                <a:path w="41" h="24">
                  <a:moveTo>
                    <a:pt x="0" y="8"/>
                  </a:moveTo>
                  <a:lnTo>
                    <a:pt x="8" y="16"/>
                  </a:lnTo>
                  <a:lnTo>
                    <a:pt x="24" y="24"/>
                  </a:lnTo>
                  <a:lnTo>
                    <a:pt x="41" y="24"/>
                  </a:lnTo>
                  <a:lnTo>
                    <a:pt x="41" y="8"/>
                  </a:lnTo>
                  <a:lnTo>
                    <a:pt x="41" y="0"/>
                  </a:lnTo>
                  <a:lnTo>
                    <a:pt x="24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0" name=""/>
            <p:cNvSpPr/>
            <p:nvPr/>
          </p:nvSpPr>
          <p:spPr>
            <a:xfrm>
              <a:off x="6604560" y="3678120"/>
              <a:ext cx="2264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500" spc="-1" strike="noStrike">
                  <a:solidFill>
                    <a:srgbClr val="000000"/>
                  </a:solidFill>
                  <a:latin typeface="Arial"/>
                </a:rPr>
                <a:t>Juremal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1" name=""/>
            <p:cNvSpPr/>
            <p:nvPr/>
          </p:nvSpPr>
          <p:spPr>
            <a:xfrm>
              <a:off x="6910200" y="3870360"/>
              <a:ext cx="27360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Vertentes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2" name=""/>
            <p:cNvSpPr/>
            <p:nvPr/>
          </p:nvSpPr>
          <p:spPr>
            <a:xfrm>
              <a:off x="6823080" y="3933720"/>
              <a:ext cx="76320" cy="50760"/>
            </a:xfrm>
            <a:custGeom>
              <a:avLst/>
              <a:gdLst/>
              <a:ahLst/>
              <a:rect l="l" t="t" r="r" b="b"/>
              <a:pathLst>
                <a:path w="48" h="32">
                  <a:moveTo>
                    <a:pt x="0" y="8"/>
                  </a:moveTo>
                  <a:lnTo>
                    <a:pt x="0" y="24"/>
                  </a:lnTo>
                  <a:lnTo>
                    <a:pt x="24" y="32"/>
                  </a:lnTo>
                  <a:lnTo>
                    <a:pt x="48" y="32"/>
                  </a:lnTo>
                  <a:lnTo>
                    <a:pt x="48" y="16"/>
                  </a:lnTo>
                  <a:lnTo>
                    <a:pt x="40" y="8"/>
                  </a:lnTo>
                  <a:lnTo>
                    <a:pt x="32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3" name=""/>
            <p:cNvSpPr/>
            <p:nvPr/>
          </p:nvSpPr>
          <p:spPr>
            <a:xfrm>
              <a:off x="6861240" y="5286240"/>
              <a:ext cx="101520" cy="63720"/>
            </a:xfrm>
            <a:custGeom>
              <a:avLst/>
              <a:gdLst/>
              <a:ahLst/>
              <a:rect l="l" t="t" r="r" b="b"/>
              <a:pathLst>
                <a:path w="64" h="40">
                  <a:moveTo>
                    <a:pt x="0" y="8"/>
                  </a:moveTo>
                  <a:lnTo>
                    <a:pt x="8" y="32"/>
                  </a:lnTo>
                  <a:lnTo>
                    <a:pt x="32" y="40"/>
                  </a:lnTo>
                  <a:lnTo>
                    <a:pt x="56" y="40"/>
                  </a:lnTo>
                  <a:lnTo>
                    <a:pt x="64" y="16"/>
                  </a:lnTo>
                  <a:lnTo>
                    <a:pt x="48" y="8"/>
                  </a:lnTo>
                  <a:lnTo>
                    <a:pt x="32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4" name=""/>
            <p:cNvSpPr/>
            <p:nvPr/>
          </p:nvSpPr>
          <p:spPr>
            <a:xfrm>
              <a:off x="6909840" y="5195880"/>
              <a:ext cx="51588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Barreira Vermelha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5" name=""/>
            <p:cNvSpPr/>
            <p:nvPr/>
          </p:nvSpPr>
          <p:spPr>
            <a:xfrm>
              <a:off x="2718360" y="5732640"/>
              <a:ext cx="37872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Baixa Branca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6" name=""/>
            <p:cNvSpPr/>
            <p:nvPr/>
          </p:nvSpPr>
          <p:spPr>
            <a:xfrm>
              <a:off x="2833560" y="5681520"/>
              <a:ext cx="65160" cy="38160"/>
            </a:xfrm>
            <a:custGeom>
              <a:avLst/>
              <a:gdLst/>
              <a:ahLst/>
              <a:rect l="l" t="t" r="r" b="b"/>
              <a:pathLst>
                <a:path w="41" h="24">
                  <a:moveTo>
                    <a:pt x="0" y="0"/>
                  </a:moveTo>
                  <a:lnTo>
                    <a:pt x="0" y="16"/>
                  </a:lnTo>
                  <a:lnTo>
                    <a:pt x="16" y="24"/>
                  </a:lnTo>
                  <a:lnTo>
                    <a:pt x="32" y="24"/>
                  </a:lnTo>
                  <a:lnTo>
                    <a:pt x="41" y="8"/>
                  </a:lnTo>
                  <a:lnTo>
                    <a:pt x="32" y="0"/>
                  </a:lnTo>
                  <a:lnTo>
                    <a:pt x="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7" name=""/>
            <p:cNvSpPr/>
            <p:nvPr/>
          </p:nvSpPr>
          <p:spPr>
            <a:xfrm>
              <a:off x="2577960" y="4533840"/>
              <a:ext cx="63720" cy="38160"/>
            </a:xfrm>
            <a:custGeom>
              <a:avLst/>
              <a:gdLst/>
              <a:ahLst/>
              <a:rect l="l" t="t" r="r" b="b"/>
              <a:pathLst>
                <a:path w="40" h="24">
                  <a:moveTo>
                    <a:pt x="0" y="8"/>
                  </a:moveTo>
                  <a:lnTo>
                    <a:pt x="0" y="24"/>
                  </a:lnTo>
                  <a:lnTo>
                    <a:pt x="16" y="24"/>
                  </a:lnTo>
                  <a:lnTo>
                    <a:pt x="32" y="24"/>
                  </a:lnTo>
                  <a:lnTo>
                    <a:pt x="40" y="16"/>
                  </a:lnTo>
                  <a:lnTo>
                    <a:pt x="32" y="8"/>
                  </a:lnTo>
                  <a:lnTo>
                    <a:pt x="24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8" name=""/>
            <p:cNvSpPr/>
            <p:nvPr/>
          </p:nvSpPr>
          <p:spPr>
            <a:xfrm>
              <a:off x="2540160" y="4035600"/>
              <a:ext cx="63360" cy="50760"/>
            </a:xfrm>
            <a:custGeom>
              <a:avLst/>
              <a:gdLst/>
              <a:ahLst/>
              <a:rect l="l" t="t" r="r" b="b"/>
              <a:pathLst>
                <a:path w="40" h="32">
                  <a:moveTo>
                    <a:pt x="0" y="8"/>
                  </a:moveTo>
                  <a:lnTo>
                    <a:pt x="0" y="24"/>
                  </a:lnTo>
                  <a:lnTo>
                    <a:pt x="16" y="32"/>
                  </a:lnTo>
                  <a:lnTo>
                    <a:pt x="32" y="24"/>
                  </a:lnTo>
                  <a:lnTo>
                    <a:pt x="40" y="16"/>
                  </a:lnTo>
                  <a:lnTo>
                    <a:pt x="32" y="8"/>
                  </a:lnTo>
                  <a:lnTo>
                    <a:pt x="24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9" name=""/>
            <p:cNvSpPr/>
            <p:nvPr/>
          </p:nvSpPr>
          <p:spPr>
            <a:xfrm>
              <a:off x="2616120" y="3971880"/>
              <a:ext cx="1652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500" spc="-1" strike="noStrike">
                  <a:solidFill>
                    <a:srgbClr val="000000"/>
                  </a:solidFill>
                  <a:latin typeface="Arial"/>
                </a:rPr>
                <a:t>Ubaia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0" name=""/>
            <p:cNvSpPr/>
            <p:nvPr/>
          </p:nvSpPr>
          <p:spPr>
            <a:xfrm>
              <a:off x="2640600" y="4470480"/>
              <a:ext cx="2019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Maxixe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1" name=""/>
            <p:cNvSpPr/>
            <p:nvPr/>
          </p:nvSpPr>
          <p:spPr>
            <a:xfrm>
              <a:off x="2589120" y="2722680"/>
              <a:ext cx="3938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Bom Sucesso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2" name=""/>
            <p:cNvSpPr/>
            <p:nvPr/>
          </p:nvSpPr>
          <p:spPr>
            <a:xfrm>
              <a:off x="2681280" y="2811600"/>
              <a:ext cx="63360" cy="37800"/>
            </a:xfrm>
            <a:custGeom>
              <a:avLst/>
              <a:gdLst/>
              <a:ahLst/>
              <a:rect l="l" t="t" r="r" b="b"/>
              <a:pathLst>
                <a:path w="40" h="24">
                  <a:moveTo>
                    <a:pt x="0" y="8"/>
                  </a:moveTo>
                  <a:lnTo>
                    <a:pt x="0" y="24"/>
                  </a:lnTo>
                  <a:lnTo>
                    <a:pt x="16" y="24"/>
                  </a:lnTo>
                  <a:lnTo>
                    <a:pt x="32" y="24"/>
                  </a:lnTo>
                  <a:lnTo>
                    <a:pt x="40" y="16"/>
                  </a:lnTo>
                  <a:lnTo>
                    <a:pt x="32" y="8"/>
                  </a:lnTo>
                  <a:lnTo>
                    <a:pt x="24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3" name=""/>
            <p:cNvSpPr/>
            <p:nvPr/>
          </p:nvSpPr>
          <p:spPr>
            <a:xfrm>
              <a:off x="4624560" y="4060800"/>
              <a:ext cx="75960" cy="38160"/>
            </a:xfrm>
            <a:custGeom>
              <a:avLst/>
              <a:gdLst/>
              <a:ahLst/>
              <a:rect l="l" t="t" r="r" b="b"/>
              <a:pathLst>
                <a:path w="48" h="24">
                  <a:moveTo>
                    <a:pt x="0" y="0"/>
                  </a:moveTo>
                  <a:lnTo>
                    <a:pt x="8" y="16"/>
                  </a:lnTo>
                  <a:lnTo>
                    <a:pt x="24" y="24"/>
                  </a:lnTo>
                  <a:lnTo>
                    <a:pt x="40" y="24"/>
                  </a:lnTo>
                  <a:lnTo>
                    <a:pt x="48" y="8"/>
                  </a:lnTo>
                  <a:lnTo>
                    <a:pt x="40" y="0"/>
                  </a:lnTo>
                  <a:lnTo>
                    <a:pt x="3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4" name=""/>
            <p:cNvSpPr/>
            <p:nvPr/>
          </p:nvSpPr>
          <p:spPr>
            <a:xfrm>
              <a:off x="4520520" y="3971880"/>
              <a:ext cx="3236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Catingueira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5" name=""/>
            <p:cNvSpPr/>
            <p:nvPr/>
          </p:nvSpPr>
          <p:spPr>
            <a:xfrm>
              <a:off x="5416560" y="4430880"/>
              <a:ext cx="63360" cy="50760"/>
            </a:xfrm>
            <a:custGeom>
              <a:avLst/>
              <a:gdLst/>
              <a:ahLst/>
              <a:rect l="l" t="t" r="r" b="b"/>
              <a:pathLst>
                <a:path w="40" h="32">
                  <a:moveTo>
                    <a:pt x="0" y="8"/>
                  </a:moveTo>
                  <a:lnTo>
                    <a:pt x="0" y="24"/>
                  </a:lnTo>
                  <a:lnTo>
                    <a:pt x="16" y="32"/>
                  </a:lnTo>
                  <a:lnTo>
                    <a:pt x="32" y="24"/>
                  </a:lnTo>
                  <a:lnTo>
                    <a:pt x="40" y="16"/>
                  </a:lnTo>
                  <a:lnTo>
                    <a:pt x="32" y="8"/>
                  </a:lnTo>
                  <a:lnTo>
                    <a:pt x="24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6" name=""/>
            <p:cNvSpPr/>
            <p:nvPr/>
          </p:nvSpPr>
          <p:spPr>
            <a:xfrm>
              <a:off x="5491800" y="4341960"/>
              <a:ext cx="27972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Boa Água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7" name=""/>
            <p:cNvSpPr/>
            <p:nvPr/>
          </p:nvSpPr>
          <p:spPr>
            <a:xfrm>
              <a:off x="4572000" y="5299200"/>
              <a:ext cx="65160" cy="37800"/>
            </a:xfrm>
            <a:custGeom>
              <a:avLst/>
              <a:gdLst/>
              <a:ahLst/>
              <a:rect l="l" t="t" r="r" b="b"/>
              <a:pathLst>
                <a:path w="41" h="24">
                  <a:moveTo>
                    <a:pt x="0" y="8"/>
                  </a:moveTo>
                  <a:lnTo>
                    <a:pt x="0" y="24"/>
                  </a:lnTo>
                  <a:lnTo>
                    <a:pt x="16" y="24"/>
                  </a:lnTo>
                  <a:lnTo>
                    <a:pt x="33" y="24"/>
                  </a:lnTo>
                  <a:lnTo>
                    <a:pt x="41" y="8"/>
                  </a:lnTo>
                  <a:lnTo>
                    <a:pt x="33" y="0"/>
                  </a:lnTo>
                  <a:lnTo>
                    <a:pt x="25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8" name=""/>
            <p:cNvSpPr/>
            <p:nvPr/>
          </p:nvSpPr>
          <p:spPr>
            <a:xfrm>
              <a:off x="4393800" y="5222880"/>
              <a:ext cx="18648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Canaã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9" name=""/>
            <p:cNvSpPr/>
            <p:nvPr/>
          </p:nvSpPr>
          <p:spPr>
            <a:xfrm>
              <a:off x="4176000" y="3360600"/>
              <a:ext cx="2156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500" spc="-1" strike="noStrike">
                  <a:solidFill>
                    <a:srgbClr val="000000"/>
                  </a:solidFill>
                  <a:latin typeface="Arial"/>
                </a:rPr>
                <a:t>Velame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0" name=""/>
            <p:cNvSpPr/>
            <p:nvPr/>
          </p:nvSpPr>
          <p:spPr>
            <a:xfrm>
              <a:off x="4072320" y="3665520"/>
              <a:ext cx="30708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Sumidouro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1" name=""/>
            <p:cNvSpPr/>
            <p:nvPr/>
          </p:nvSpPr>
          <p:spPr>
            <a:xfrm>
              <a:off x="5951520" y="1562040"/>
              <a:ext cx="35892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Pico Estreito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2" name=""/>
            <p:cNvSpPr/>
            <p:nvPr/>
          </p:nvSpPr>
          <p:spPr>
            <a:xfrm>
              <a:off x="4521240" y="1995480"/>
              <a:ext cx="63360" cy="38160"/>
            </a:xfrm>
            <a:custGeom>
              <a:avLst/>
              <a:gdLst/>
              <a:ahLst/>
              <a:rect l="l" t="t" r="r" b="b"/>
              <a:pathLst>
                <a:path w="40" h="24">
                  <a:moveTo>
                    <a:pt x="0" y="8"/>
                  </a:moveTo>
                  <a:lnTo>
                    <a:pt x="8" y="24"/>
                  </a:lnTo>
                  <a:lnTo>
                    <a:pt x="24" y="24"/>
                  </a:lnTo>
                  <a:lnTo>
                    <a:pt x="40" y="24"/>
                  </a:lnTo>
                  <a:lnTo>
                    <a:pt x="40" y="16"/>
                  </a:lnTo>
                  <a:lnTo>
                    <a:pt x="32" y="8"/>
                  </a:lnTo>
                  <a:lnTo>
                    <a:pt x="24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3" name=""/>
            <p:cNvSpPr/>
            <p:nvPr/>
          </p:nvSpPr>
          <p:spPr>
            <a:xfrm>
              <a:off x="4368600" y="1893960"/>
              <a:ext cx="18972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500" spc="-1" strike="noStrike">
                  <a:solidFill>
                    <a:srgbClr val="000000"/>
                  </a:solidFill>
                  <a:latin typeface="Arial"/>
                </a:rPr>
                <a:t>Lajeiro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4" name=""/>
            <p:cNvSpPr/>
            <p:nvPr/>
          </p:nvSpPr>
          <p:spPr>
            <a:xfrm>
              <a:off x="5006880" y="2467080"/>
              <a:ext cx="76320" cy="50760"/>
            </a:xfrm>
            <a:custGeom>
              <a:avLst/>
              <a:gdLst/>
              <a:ahLst/>
              <a:rect l="l" t="t" r="r" b="b"/>
              <a:pathLst>
                <a:path w="48" h="32">
                  <a:moveTo>
                    <a:pt x="0" y="8"/>
                  </a:moveTo>
                  <a:lnTo>
                    <a:pt x="8" y="24"/>
                  </a:lnTo>
                  <a:lnTo>
                    <a:pt x="24" y="32"/>
                  </a:lnTo>
                  <a:lnTo>
                    <a:pt x="40" y="24"/>
                  </a:lnTo>
                  <a:lnTo>
                    <a:pt x="48" y="16"/>
                  </a:lnTo>
                  <a:lnTo>
                    <a:pt x="40" y="8"/>
                  </a:lnTo>
                  <a:lnTo>
                    <a:pt x="32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5" name=""/>
            <p:cNvSpPr/>
            <p:nvPr/>
          </p:nvSpPr>
          <p:spPr>
            <a:xfrm>
              <a:off x="4569120" y="2479680"/>
              <a:ext cx="44280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Furna de Pedra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6" name=""/>
            <p:cNvSpPr/>
            <p:nvPr/>
          </p:nvSpPr>
          <p:spPr>
            <a:xfrm>
              <a:off x="4020840" y="2428920"/>
              <a:ext cx="33912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Formigueiro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7" name=""/>
            <p:cNvSpPr/>
            <p:nvPr/>
          </p:nvSpPr>
          <p:spPr>
            <a:xfrm>
              <a:off x="4406760" y="2938320"/>
              <a:ext cx="63720" cy="38160"/>
            </a:xfrm>
            <a:custGeom>
              <a:avLst/>
              <a:gdLst/>
              <a:ahLst/>
              <a:rect l="l" t="t" r="r" b="b"/>
              <a:pathLst>
                <a:path w="40" h="24">
                  <a:moveTo>
                    <a:pt x="0" y="8"/>
                  </a:moveTo>
                  <a:lnTo>
                    <a:pt x="8" y="24"/>
                  </a:lnTo>
                  <a:lnTo>
                    <a:pt x="24" y="24"/>
                  </a:lnTo>
                  <a:lnTo>
                    <a:pt x="40" y="24"/>
                  </a:lnTo>
                  <a:lnTo>
                    <a:pt x="40" y="8"/>
                  </a:lnTo>
                  <a:lnTo>
                    <a:pt x="32" y="0"/>
                  </a:lnTo>
                  <a:lnTo>
                    <a:pt x="24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8" name=""/>
            <p:cNvSpPr/>
            <p:nvPr/>
          </p:nvSpPr>
          <p:spPr>
            <a:xfrm>
              <a:off x="4252320" y="2990880"/>
              <a:ext cx="2048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Currais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9" name=""/>
            <p:cNvSpPr/>
            <p:nvPr/>
          </p:nvSpPr>
          <p:spPr>
            <a:xfrm>
              <a:off x="3678120" y="3857760"/>
              <a:ext cx="63720" cy="37800"/>
            </a:xfrm>
            <a:custGeom>
              <a:avLst/>
              <a:gdLst/>
              <a:ahLst/>
              <a:rect l="l" t="t" r="r" b="b"/>
              <a:pathLst>
                <a:path w="40" h="24">
                  <a:moveTo>
                    <a:pt x="0" y="8"/>
                  </a:moveTo>
                  <a:lnTo>
                    <a:pt x="8" y="16"/>
                  </a:lnTo>
                  <a:lnTo>
                    <a:pt x="24" y="24"/>
                  </a:lnTo>
                  <a:lnTo>
                    <a:pt x="40" y="24"/>
                  </a:lnTo>
                  <a:lnTo>
                    <a:pt x="40" y="8"/>
                  </a:lnTo>
                  <a:lnTo>
                    <a:pt x="32" y="0"/>
                  </a:lnTo>
                  <a:lnTo>
                    <a:pt x="24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0" name=""/>
            <p:cNvSpPr/>
            <p:nvPr/>
          </p:nvSpPr>
          <p:spPr>
            <a:xfrm>
              <a:off x="3458880" y="3755880"/>
              <a:ext cx="2703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Mato Alto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1" name=""/>
            <p:cNvSpPr/>
            <p:nvPr/>
          </p:nvSpPr>
          <p:spPr>
            <a:xfrm>
              <a:off x="5135400" y="3997440"/>
              <a:ext cx="63720" cy="50760"/>
            </a:xfrm>
            <a:custGeom>
              <a:avLst/>
              <a:gdLst/>
              <a:ahLst/>
              <a:rect l="l" t="t" r="r" b="b"/>
              <a:pathLst>
                <a:path w="40" h="32">
                  <a:moveTo>
                    <a:pt x="0" y="8"/>
                  </a:moveTo>
                  <a:lnTo>
                    <a:pt x="0" y="24"/>
                  </a:lnTo>
                  <a:lnTo>
                    <a:pt x="16" y="32"/>
                  </a:lnTo>
                  <a:lnTo>
                    <a:pt x="32" y="24"/>
                  </a:lnTo>
                  <a:lnTo>
                    <a:pt x="40" y="16"/>
                  </a:lnTo>
                  <a:lnTo>
                    <a:pt x="32" y="8"/>
                  </a:lnTo>
                  <a:lnTo>
                    <a:pt x="24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2" name=""/>
            <p:cNvSpPr/>
            <p:nvPr/>
          </p:nvSpPr>
          <p:spPr>
            <a:xfrm>
              <a:off x="5018400" y="4062240"/>
              <a:ext cx="43812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Vereda do Anel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3" name=""/>
            <p:cNvSpPr/>
            <p:nvPr/>
          </p:nvSpPr>
          <p:spPr>
            <a:xfrm>
              <a:off x="5595840" y="3500280"/>
              <a:ext cx="76320" cy="38160"/>
            </a:xfrm>
            <a:custGeom>
              <a:avLst/>
              <a:gdLst/>
              <a:ahLst/>
              <a:rect l="l" t="t" r="r" b="b"/>
              <a:pathLst>
                <a:path w="48" h="24">
                  <a:moveTo>
                    <a:pt x="0" y="8"/>
                  </a:moveTo>
                  <a:lnTo>
                    <a:pt x="8" y="24"/>
                  </a:lnTo>
                  <a:lnTo>
                    <a:pt x="24" y="24"/>
                  </a:lnTo>
                  <a:lnTo>
                    <a:pt x="40" y="24"/>
                  </a:lnTo>
                  <a:lnTo>
                    <a:pt x="48" y="8"/>
                  </a:lnTo>
                  <a:lnTo>
                    <a:pt x="40" y="0"/>
                  </a:lnTo>
                  <a:lnTo>
                    <a:pt x="32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4" name=""/>
            <p:cNvSpPr/>
            <p:nvPr/>
          </p:nvSpPr>
          <p:spPr>
            <a:xfrm>
              <a:off x="5658480" y="3411360"/>
              <a:ext cx="3740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Moinho Novo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5" name=""/>
            <p:cNvSpPr/>
            <p:nvPr/>
          </p:nvSpPr>
          <p:spPr>
            <a:xfrm>
              <a:off x="5199120" y="5668920"/>
              <a:ext cx="63360" cy="50760"/>
            </a:xfrm>
            <a:custGeom>
              <a:avLst/>
              <a:gdLst/>
              <a:ahLst/>
              <a:rect l="l" t="t" r="r" b="b"/>
              <a:pathLst>
                <a:path w="40" h="32">
                  <a:moveTo>
                    <a:pt x="0" y="8"/>
                  </a:moveTo>
                  <a:lnTo>
                    <a:pt x="8" y="24"/>
                  </a:lnTo>
                  <a:lnTo>
                    <a:pt x="24" y="32"/>
                  </a:lnTo>
                  <a:lnTo>
                    <a:pt x="40" y="24"/>
                  </a:lnTo>
                  <a:lnTo>
                    <a:pt x="40" y="16"/>
                  </a:lnTo>
                  <a:lnTo>
                    <a:pt x="32" y="8"/>
                  </a:lnTo>
                  <a:lnTo>
                    <a:pt x="24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6" name=""/>
            <p:cNvSpPr/>
            <p:nvPr/>
          </p:nvSpPr>
          <p:spPr>
            <a:xfrm>
              <a:off x="5158080" y="5745240"/>
              <a:ext cx="3344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Trinta e Um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7" name=""/>
            <p:cNvSpPr/>
            <p:nvPr/>
          </p:nvSpPr>
          <p:spPr>
            <a:xfrm>
              <a:off x="2629080" y="3386160"/>
              <a:ext cx="64800" cy="38160"/>
            </a:xfrm>
            <a:custGeom>
              <a:avLst/>
              <a:gdLst/>
              <a:ahLst/>
              <a:rect l="l" t="t" r="r" b="b"/>
              <a:pathLst>
                <a:path w="41" h="24">
                  <a:moveTo>
                    <a:pt x="0" y="8"/>
                  </a:moveTo>
                  <a:lnTo>
                    <a:pt x="8" y="16"/>
                  </a:lnTo>
                  <a:lnTo>
                    <a:pt x="25" y="24"/>
                  </a:lnTo>
                  <a:lnTo>
                    <a:pt x="41" y="24"/>
                  </a:lnTo>
                  <a:lnTo>
                    <a:pt x="41" y="8"/>
                  </a:lnTo>
                  <a:lnTo>
                    <a:pt x="41" y="0"/>
                  </a:lnTo>
                  <a:lnTo>
                    <a:pt x="25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8" name=""/>
            <p:cNvSpPr/>
            <p:nvPr/>
          </p:nvSpPr>
          <p:spPr>
            <a:xfrm>
              <a:off x="2640240" y="3270240"/>
              <a:ext cx="3999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Baixa do Félix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9" name=""/>
            <p:cNvSpPr/>
            <p:nvPr/>
          </p:nvSpPr>
          <p:spPr>
            <a:xfrm>
              <a:off x="3409920" y="2365200"/>
              <a:ext cx="50760" cy="25560"/>
            </a:xfrm>
            <a:custGeom>
              <a:avLst/>
              <a:gdLst/>
              <a:ahLst/>
              <a:rect l="l" t="t" r="r" b="b"/>
              <a:pathLst>
                <a:path w="32" h="16">
                  <a:moveTo>
                    <a:pt x="32" y="16"/>
                  </a:moveTo>
                  <a:lnTo>
                    <a:pt x="16" y="8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0" name=""/>
            <p:cNvSpPr/>
            <p:nvPr/>
          </p:nvSpPr>
          <p:spPr>
            <a:xfrm>
              <a:off x="3332160" y="230184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24" y="24"/>
                  </a:moveTo>
                  <a:lnTo>
                    <a:pt x="8" y="8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1" name=""/>
            <p:cNvSpPr/>
            <p:nvPr/>
          </p:nvSpPr>
          <p:spPr>
            <a:xfrm>
              <a:off x="3230640" y="2276640"/>
              <a:ext cx="50760" cy="12600"/>
            </a:xfrm>
            <a:custGeom>
              <a:avLst/>
              <a:gdLst/>
              <a:ahLst/>
              <a:rect l="l" t="t" r="r" b="b"/>
              <a:pathLst>
                <a:path w="32" h="8">
                  <a:moveTo>
                    <a:pt x="32" y="8"/>
                  </a:moveTo>
                  <a:lnTo>
                    <a:pt x="24" y="8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2" name=""/>
            <p:cNvSpPr/>
            <p:nvPr/>
          </p:nvSpPr>
          <p:spPr>
            <a:xfrm>
              <a:off x="3141720" y="222552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24" y="24"/>
                  </a:moveTo>
                  <a:lnTo>
                    <a:pt x="16" y="16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3" name=""/>
            <p:cNvSpPr/>
            <p:nvPr/>
          </p:nvSpPr>
          <p:spPr>
            <a:xfrm flipH="1" flipV="1">
              <a:off x="3088800" y="2147760"/>
              <a:ext cx="25560" cy="381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4" name=""/>
            <p:cNvSpPr/>
            <p:nvPr/>
          </p:nvSpPr>
          <p:spPr>
            <a:xfrm flipH="1" flipV="1">
              <a:off x="3025800" y="2071800"/>
              <a:ext cx="25200" cy="252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5" name=""/>
            <p:cNvSpPr/>
            <p:nvPr/>
          </p:nvSpPr>
          <p:spPr>
            <a:xfrm>
              <a:off x="3448080" y="2913120"/>
              <a:ext cx="12600" cy="38160"/>
            </a:xfrm>
            <a:custGeom>
              <a:avLst/>
              <a:gdLst/>
              <a:ahLst/>
              <a:rect l="l" t="t" r="r" b="b"/>
              <a:pathLst>
                <a:path w="8" h="24">
                  <a:moveTo>
                    <a:pt x="0" y="0"/>
                  </a:moveTo>
                  <a:lnTo>
                    <a:pt x="0" y="16"/>
                  </a:lnTo>
                  <a:lnTo>
                    <a:pt x="0" y="24"/>
                  </a:lnTo>
                  <a:lnTo>
                    <a:pt x="8" y="24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6" name=""/>
            <p:cNvSpPr/>
            <p:nvPr/>
          </p:nvSpPr>
          <p:spPr>
            <a:xfrm>
              <a:off x="3511440" y="2951280"/>
              <a:ext cx="50760" cy="12600"/>
            </a:xfrm>
            <a:custGeom>
              <a:avLst/>
              <a:gdLst/>
              <a:ahLst/>
              <a:rect l="l" t="t" r="r" b="b"/>
              <a:pathLst>
                <a:path w="32" h="8">
                  <a:moveTo>
                    <a:pt x="0" y="8"/>
                  </a:moveTo>
                  <a:lnTo>
                    <a:pt x="8" y="8"/>
                  </a:lnTo>
                  <a:lnTo>
                    <a:pt x="32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7" name=""/>
            <p:cNvSpPr/>
            <p:nvPr/>
          </p:nvSpPr>
          <p:spPr>
            <a:xfrm>
              <a:off x="3613320" y="2925720"/>
              <a:ext cx="52200" cy="12600"/>
            </a:xfrm>
            <a:custGeom>
              <a:avLst/>
              <a:gdLst/>
              <a:ahLst/>
              <a:rect l="l" t="t" r="r" b="b"/>
              <a:pathLst>
                <a:path w="33" h="8">
                  <a:moveTo>
                    <a:pt x="0" y="0"/>
                  </a:moveTo>
                  <a:lnTo>
                    <a:pt x="9" y="0"/>
                  </a:lnTo>
                  <a:lnTo>
                    <a:pt x="25" y="8"/>
                  </a:lnTo>
                  <a:lnTo>
                    <a:pt x="33" y="8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8" name=""/>
            <p:cNvSpPr/>
            <p:nvPr/>
          </p:nvSpPr>
          <p:spPr>
            <a:xfrm>
              <a:off x="3716280" y="2951280"/>
              <a:ext cx="50760" cy="12600"/>
            </a:xfrm>
            <a:custGeom>
              <a:avLst/>
              <a:gdLst/>
              <a:ahLst/>
              <a:rect l="l" t="t" r="r" b="b"/>
              <a:pathLst>
                <a:path w="32" h="8">
                  <a:moveTo>
                    <a:pt x="0" y="0"/>
                  </a:moveTo>
                  <a:lnTo>
                    <a:pt x="24" y="8"/>
                  </a:lnTo>
                  <a:lnTo>
                    <a:pt x="32" y="8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9" name=""/>
            <p:cNvSpPr/>
            <p:nvPr/>
          </p:nvSpPr>
          <p:spPr>
            <a:xfrm flipV="1">
              <a:off x="3817800" y="2950920"/>
              <a:ext cx="52560" cy="126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0" name=""/>
            <p:cNvSpPr/>
            <p:nvPr/>
          </p:nvSpPr>
          <p:spPr>
            <a:xfrm>
              <a:off x="3921120" y="2900520"/>
              <a:ext cx="25560" cy="37800"/>
            </a:xfrm>
            <a:custGeom>
              <a:avLst/>
              <a:gdLst/>
              <a:ahLst/>
              <a:rect l="l" t="t" r="r" b="b"/>
              <a:pathLst>
                <a:path w="16" h="24">
                  <a:moveTo>
                    <a:pt x="0" y="24"/>
                  </a:moveTo>
                  <a:lnTo>
                    <a:pt x="8" y="16"/>
                  </a:lnTo>
                  <a:lnTo>
                    <a:pt x="16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1" name=""/>
            <p:cNvSpPr/>
            <p:nvPr/>
          </p:nvSpPr>
          <p:spPr>
            <a:xfrm>
              <a:off x="3997440" y="2874960"/>
              <a:ext cx="50760" cy="12600"/>
            </a:xfrm>
            <a:custGeom>
              <a:avLst/>
              <a:gdLst/>
              <a:ahLst/>
              <a:rect l="l" t="t" r="r" b="b"/>
              <a:pathLst>
                <a:path w="32" h="8">
                  <a:moveTo>
                    <a:pt x="0" y="0"/>
                  </a:moveTo>
                  <a:lnTo>
                    <a:pt x="0" y="0"/>
                  </a:lnTo>
                  <a:lnTo>
                    <a:pt x="32" y="8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2" name=""/>
            <p:cNvSpPr/>
            <p:nvPr/>
          </p:nvSpPr>
          <p:spPr>
            <a:xfrm>
              <a:off x="4098960" y="2887560"/>
              <a:ext cx="52200" cy="129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3" name=""/>
            <p:cNvSpPr/>
            <p:nvPr/>
          </p:nvSpPr>
          <p:spPr>
            <a:xfrm>
              <a:off x="4202280" y="2900520"/>
              <a:ext cx="50760" cy="126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4" name=""/>
            <p:cNvSpPr/>
            <p:nvPr/>
          </p:nvSpPr>
          <p:spPr>
            <a:xfrm>
              <a:off x="4303800" y="2925720"/>
              <a:ext cx="52200" cy="18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5" name=""/>
            <p:cNvSpPr/>
            <p:nvPr/>
          </p:nvSpPr>
          <p:spPr>
            <a:xfrm rot="900000">
              <a:off x="7251120" y="3925800"/>
              <a:ext cx="435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6" name=""/>
            <p:cNvSpPr/>
            <p:nvPr/>
          </p:nvSpPr>
          <p:spPr>
            <a:xfrm rot="900000">
              <a:off x="7290360" y="3935160"/>
              <a:ext cx="1908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7" name=""/>
            <p:cNvSpPr/>
            <p:nvPr/>
          </p:nvSpPr>
          <p:spPr>
            <a:xfrm rot="900000">
              <a:off x="7302960" y="3947760"/>
              <a:ext cx="1908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8" name=""/>
            <p:cNvSpPr/>
            <p:nvPr/>
          </p:nvSpPr>
          <p:spPr>
            <a:xfrm rot="900000">
              <a:off x="7315920" y="3952440"/>
              <a:ext cx="5400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9" name=""/>
            <p:cNvSpPr/>
            <p:nvPr/>
          </p:nvSpPr>
          <p:spPr>
            <a:xfrm rot="900000">
              <a:off x="7367040" y="3963960"/>
              <a:ext cx="356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0" name=""/>
            <p:cNvSpPr/>
            <p:nvPr/>
          </p:nvSpPr>
          <p:spPr>
            <a:xfrm rot="900000">
              <a:off x="7405200" y="3975120"/>
              <a:ext cx="327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1" name=""/>
            <p:cNvSpPr/>
            <p:nvPr/>
          </p:nvSpPr>
          <p:spPr>
            <a:xfrm rot="900000">
              <a:off x="7430760" y="3975120"/>
              <a:ext cx="327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2" name=""/>
            <p:cNvSpPr/>
            <p:nvPr/>
          </p:nvSpPr>
          <p:spPr>
            <a:xfrm rot="900000">
              <a:off x="7455600" y="3989520"/>
              <a:ext cx="356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3" name=""/>
            <p:cNvSpPr/>
            <p:nvPr/>
          </p:nvSpPr>
          <p:spPr>
            <a:xfrm rot="900000">
              <a:off x="7493760" y="3998880"/>
              <a:ext cx="219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4" name=""/>
            <p:cNvSpPr/>
            <p:nvPr/>
          </p:nvSpPr>
          <p:spPr>
            <a:xfrm rot="900000">
              <a:off x="7506720" y="4002120"/>
              <a:ext cx="356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ó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5" name=""/>
            <p:cNvSpPr/>
            <p:nvPr/>
          </p:nvSpPr>
          <p:spPr>
            <a:xfrm rot="900000">
              <a:off x="7545960" y="4011120"/>
              <a:ext cx="1908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6" name=""/>
            <p:cNvSpPr/>
            <p:nvPr/>
          </p:nvSpPr>
          <p:spPr>
            <a:xfrm rot="900000">
              <a:off x="7558560" y="4011120"/>
              <a:ext cx="219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7" name=""/>
            <p:cNvSpPr/>
            <p:nvPr/>
          </p:nvSpPr>
          <p:spPr>
            <a:xfrm rot="900000">
              <a:off x="7584480" y="4014720"/>
              <a:ext cx="356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8" name=""/>
            <p:cNvSpPr/>
            <p:nvPr/>
          </p:nvSpPr>
          <p:spPr>
            <a:xfrm rot="900000">
              <a:off x="7609680" y="4027320"/>
              <a:ext cx="356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9" name=""/>
            <p:cNvSpPr/>
            <p:nvPr/>
          </p:nvSpPr>
          <p:spPr>
            <a:xfrm rot="900000">
              <a:off x="7647480" y="4036680"/>
              <a:ext cx="1908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0" name=""/>
            <p:cNvSpPr/>
            <p:nvPr/>
          </p:nvSpPr>
          <p:spPr>
            <a:xfrm rot="900000">
              <a:off x="7660800" y="4038480"/>
              <a:ext cx="327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1" name=""/>
            <p:cNvSpPr/>
            <p:nvPr/>
          </p:nvSpPr>
          <p:spPr>
            <a:xfrm rot="900000">
              <a:off x="7686000" y="4055760"/>
              <a:ext cx="5400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2" name=""/>
            <p:cNvSpPr/>
            <p:nvPr/>
          </p:nvSpPr>
          <p:spPr>
            <a:xfrm rot="900000">
              <a:off x="7736400" y="4063680"/>
              <a:ext cx="219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3" name=""/>
            <p:cNvSpPr/>
            <p:nvPr/>
          </p:nvSpPr>
          <p:spPr>
            <a:xfrm>
              <a:off x="7308720" y="4111560"/>
              <a:ext cx="230400" cy="65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4" name=""/>
            <p:cNvSpPr/>
            <p:nvPr/>
          </p:nvSpPr>
          <p:spPr>
            <a:xfrm>
              <a:off x="7448400" y="4098960"/>
              <a:ext cx="90720" cy="77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5" name=""/>
            <p:cNvSpPr/>
            <p:nvPr/>
          </p:nvSpPr>
          <p:spPr>
            <a:xfrm flipV="1">
              <a:off x="7423200" y="4176360"/>
              <a:ext cx="115920" cy="12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6" name=""/>
            <p:cNvSpPr/>
            <p:nvPr/>
          </p:nvSpPr>
          <p:spPr>
            <a:xfrm rot="21540000">
              <a:off x="1667880" y="3204720"/>
              <a:ext cx="435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7" name=""/>
            <p:cNvSpPr/>
            <p:nvPr/>
          </p:nvSpPr>
          <p:spPr>
            <a:xfrm rot="21540000">
              <a:off x="1719720" y="3204720"/>
              <a:ext cx="1908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8" name=""/>
            <p:cNvSpPr/>
            <p:nvPr/>
          </p:nvSpPr>
          <p:spPr>
            <a:xfrm rot="21540000">
              <a:off x="1732320" y="3204720"/>
              <a:ext cx="1908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9" name=""/>
            <p:cNvSpPr/>
            <p:nvPr/>
          </p:nvSpPr>
          <p:spPr>
            <a:xfrm rot="21540000">
              <a:off x="1744920" y="3204720"/>
              <a:ext cx="5112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0" name=""/>
            <p:cNvSpPr/>
            <p:nvPr/>
          </p:nvSpPr>
          <p:spPr>
            <a:xfrm rot="21540000">
              <a:off x="1796400" y="3205080"/>
              <a:ext cx="356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1" name=""/>
            <p:cNvSpPr/>
            <p:nvPr/>
          </p:nvSpPr>
          <p:spPr>
            <a:xfrm rot="21540000">
              <a:off x="1834920" y="3204720"/>
              <a:ext cx="1440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2" name=""/>
            <p:cNvSpPr/>
            <p:nvPr/>
          </p:nvSpPr>
          <p:spPr>
            <a:xfrm rot="21540000">
              <a:off x="1847160" y="3205080"/>
              <a:ext cx="327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3" name=""/>
            <p:cNvSpPr/>
            <p:nvPr/>
          </p:nvSpPr>
          <p:spPr>
            <a:xfrm rot="21540000">
              <a:off x="1872360" y="3205080"/>
              <a:ext cx="356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4" name=""/>
            <p:cNvSpPr/>
            <p:nvPr/>
          </p:nvSpPr>
          <p:spPr>
            <a:xfrm rot="21540000">
              <a:off x="1910520" y="3205080"/>
              <a:ext cx="219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5" name=""/>
            <p:cNvSpPr/>
            <p:nvPr/>
          </p:nvSpPr>
          <p:spPr>
            <a:xfrm rot="21540000">
              <a:off x="1924920" y="3205080"/>
              <a:ext cx="356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é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6" name=""/>
            <p:cNvSpPr/>
            <p:nvPr/>
          </p:nvSpPr>
          <p:spPr>
            <a:xfrm rot="21540000">
              <a:off x="1962720" y="3204720"/>
              <a:ext cx="1908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7" name=""/>
            <p:cNvSpPr/>
            <p:nvPr/>
          </p:nvSpPr>
          <p:spPr>
            <a:xfrm rot="21540000">
              <a:off x="1975320" y="3205080"/>
              <a:ext cx="219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8" name=""/>
            <p:cNvSpPr/>
            <p:nvPr/>
          </p:nvSpPr>
          <p:spPr>
            <a:xfrm rot="21540000">
              <a:off x="2001240" y="3205080"/>
              <a:ext cx="356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9" name=""/>
            <p:cNvSpPr/>
            <p:nvPr/>
          </p:nvSpPr>
          <p:spPr>
            <a:xfrm rot="21540000">
              <a:off x="2026440" y="3205080"/>
              <a:ext cx="356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0" name=""/>
            <p:cNvSpPr/>
            <p:nvPr/>
          </p:nvSpPr>
          <p:spPr>
            <a:xfrm rot="21540000">
              <a:off x="2064240" y="3204720"/>
              <a:ext cx="1908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1" name=""/>
            <p:cNvSpPr/>
            <p:nvPr/>
          </p:nvSpPr>
          <p:spPr>
            <a:xfrm rot="21540000">
              <a:off x="2077200" y="3205080"/>
              <a:ext cx="327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2" name=""/>
            <p:cNvSpPr/>
            <p:nvPr/>
          </p:nvSpPr>
          <p:spPr>
            <a:xfrm rot="21540000">
              <a:off x="2115000" y="3204720"/>
              <a:ext cx="5400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3" name=""/>
            <p:cNvSpPr/>
            <p:nvPr/>
          </p:nvSpPr>
          <p:spPr>
            <a:xfrm rot="21540000">
              <a:off x="2167560" y="3205080"/>
              <a:ext cx="219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4" name=""/>
            <p:cNvSpPr/>
            <p:nvPr/>
          </p:nvSpPr>
          <p:spPr>
            <a:xfrm>
              <a:off x="1836720" y="3398760"/>
              <a:ext cx="230040" cy="12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5" name=""/>
            <p:cNvSpPr/>
            <p:nvPr/>
          </p:nvSpPr>
          <p:spPr>
            <a:xfrm flipH="1" flipV="1">
              <a:off x="1836360" y="3398400"/>
              <a:ext cx="103320" cy="63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6" name=""/>
            <p:cNvSpPr/>
            <p:nvPr/>
          </p:nvSpPr>
          <p:spPr>
            <a:xfrm flipH="1">
              <a:off x="1836720" y="3359160"/>
              <a:ext cx="11592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7" name=""/>
            <p:cNvSpPr/>
            <p:nvPr/>
          </p:nvSpPr>
          <p:spPr>
            <a:xfrm>
              <a:off x="2641680" y="3359160"/>
              <a:ext cx="52200" cy="270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8" name=""/>
            <p:cNvSpPr/>
            <p:nvPr/>
          </p:nvSpPr>
          <p:spPr>
            <a:xfrm>
              <a:off x="2744640" y="3398760"/>
              <a:ext cx="38160" cy="126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9" name=""/>
            <p:cNvSpPr/>
            <p:nvPr/>
          </p:nvSpPr>
          <p:spPr>
            <a:xfrm>
              <a:off x="2833560" y="3424320"/>
              <a:ext cx="38160" cy="126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0" name=""/>
            <p:cNvSpPr/>
            <p:nvPr/>
          </p:nvSpPr>
          <p:spPr>
            <a:xfrm>
              <a:off x="4035600" y="2646360"/>
              <a:ext cx="1260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1" name=""/>
            <p:cNvSpPr/>
            <p:nvPr/>
          </p:nvSpPr>
          <p:spPr>
            <a:xfrm>
              <a:off x="3332160" y="3168720"/>
              <a:ext cx="1260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2" name=""/>
            <p:cNvSpPr/>
            <p:nvPr/>
          </p:nvSpPr>
          <p:spPr>
            <a:xfrm>
              <a:off x="4533840" y="5681520"/>
              <a:ext cx="12600" cy="129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3" name=""/>
            <p:cNvSpPr/>
            <p:nvPr/>
          </p:nvSpPr>
          <p:spPr>
            <a:xfrm>
              <a:off x="5160960" y="4481640"/>
              <a:ext cx="1260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4" name=""/>
            <p:cNvSpPr/>
            <p:nvPr/>
          </p:nvSpPr>
          <p:spPr>
            <a:xfrm>
              <a:off x="4508640" y="4253040"/>
              <a:ext cx="1260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0"/>
                  </a:moveTo>
                  <a:lnTo>
                    <a:pt x="8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5" name=""/>
            <p:cNvSpPr/>
            <p:nvPr/>
          </p:nvSpPr>
          <p:spPr>
            <a:xfrm>
              <a:off x="6297480" y="4035600"/>
              <a:ext cx="14400" cy="1440"/>
            </a:xfrm>
            <a:custGeom>
              <a:avLst/>
              <a:gdLst/>
              <a:ahLst/>
              <a:rect l="l" t="t" r="r" b="b"/>
              <a:pathLst>
                <a:path w="9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6" name=""/>
            <p:cNvSpPr/>
            <p:nvPr/>
          </p:nvSpPr>
          <p:spPr>
            <a:xfrm>
              <a:off x="3562200" y="4111560"/>
              <a:ext cx="1296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8" y="9"/>
                  </a:lnTo>
                  <a:lnTo>
                    <a:pt x="8" y="9"/>
                  </a:lnTo>
                  <a:lnTo>
                    <a:pt x="8" y="9"/>
                  </a:lnTo>
                  <a:lnTo>
                    <a:pt x="8" y="9"/>
                  </a:lnTo>
                  <a:lnTo>
                    <a:pt x="8" y="9"/>
                  </a:lnTo>
                  <a:lnTo>
                    <a:pt x="8" y="9"/>
                  </a:lnTo>
                  <a:lnTo>
                    <a:pt x="8" y="9"/>
                  </a:lnTo>
                  <a:lnTo>
                    <a:pt x="8" y="9"/>
                  </a:lnTo>
                  <a:lnTo>
                    <a:pt x="8" y="9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7" name=""/>
            <p:cNvSpPr/>
            <p:nvPr/>
          </p:nvSpPr>
          <p:spPr>
            <a:xfrm>
              <a:off x="6081840" y="2836800"/>
              <a:ext cx="12600" cy="1800"/>
            </a:xfrm>
            <a:custGeom>
              <a:avLst/>
              <a:gdLst/>
              <a:ahLst/>
              <a:rect l="l" t="t" r="r" b="b"/>
              <a:pathLst>
                <a:path w="8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8" name=""/>
            <p:cNvSpPr/>
            <p:nvPr/>
          </p:nvSpPr>
          <p:spPr>
            <a:xfrm>
              <a:off x="4624560" y="5375160"/>
              <a:ext cx="1440" cy="12960"/>
            </a:xfrm>
            <a:custGeom>
              <a:avLst/>
              <a:gdLst/>
              <a:ahLst/>
              <a:rect l="l" t="t" r="r" b="b"/>
              <a:pathLst>
                <a:path w="0" h="8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9" name=""/>
            <p:cNvSpPr/>
            <p:nvPr/>
          </p:nvSpPr>
          <p:spPr>
            <a:xfrm>
              <a:off x="1709640" y="3475080"/>
              <a:ext cx="1296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0"/>
                  </a:move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0" name=""/>
            <p:cNvSpPr/>
            <p:nvPr/>
          </p:nvSpPr>
          <p:spPr>
            <a:xfrm>
              <a:off x="2425680" y="3500280"/>
              <a:ext cx="1440" cy="12960"/>
            </a:xfrm>
            <a:custGeom>
              <a:avLst/>
              <a:gdLst/>
              <a:ahLst/>
              <a:rect l="l" t="t" r="r" b="b"/>
              <a:pathLst>
                <a:path w="0" h="8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1" name=""/>
            <p:cNvSpPr/>
            <p:nvPr/>
          </p:nvSpPr>
          <p:spPr>
            <a:xfrm>
              <a:off x="2438280" y="3398760"/>
              <a:ext cx="1296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2" name=""/>
            <p:cNvSpPr/>
            <p:nvPr/>
          </p:nvSpPr>
          <p:spPr>
            <a:xfrm>
              <a:off x="3154320" y="3576600"/>
              <a:ext cx="1260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3" name=""/>
            <p:cNvSpPr/>
            <p:nvPr/>
          </p:nvSpPr>
          <p:spPr>
            <a:xfrm>
              <a:off x="2413080" y="3092400"/>
              <a:ext cx="1440" cy="12600"/>
            </a:xfrm>
            <a:custGeom>
              <a:avLst/>
              <a:gdLst/>
              <a:ahLst/>
              <a:rect l="l" t="t" r="r" b="b"/>
              <a:pathLst>
                <a:path w="0" h="8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4" name=""/>
            <p:cNvSpPr/>
            <p:nvPr/>
          </p:nvSpPr>
          <p:spPr>
            <a:xfrm>
              <a:off x="1555920" y="5796000"/>
              <a:ext cx="6251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5" name=""/>
            <p:cNvSpPr/>
            <p:nvPr/>
          </p:nvSpPr>
          <p:spPr>
            <a:xfrm flipV="1">
              <a:off x="1978200" y="5796000"/>
              <a:ext cx="1440" cy="76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6" name=""/>
            <p:cNvSpPr/>
            <p:nvPr/>
          </p:nvSpPr>
          <p:spPr>
            <a:xfrm flipV="1">
              <a:off x="2706840" y="5796000"/>
              <a:ext cx="1440" cy="76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7" name=""/>
            <p:cNvSpPr/>
            <p:nvPr/>
          </p:nvSpPr>
          <p:spPr>
            <a:xfrm flipV="1">
              <a:off x="3435480" y="5796000"/>
              <a:ext cx="1440" cy="76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8" name=""/>
            <p:cNvSpPr/>
            <p:nvPr/>
          </p:nvSpPr>
          <p:spPr>
            <a:xfrm flipV="1">
              <a:off x="4164120" y="5796000"/>
              <a:ext cx="1440" cy="76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9" name=""/>
            <p:cNvSpPr/>
            <p:nvPr/>
          </p:nvSpPr>
          <p:spPr>
            <a:xfrm flipV="1">
              <a:off x="4892760" y="5796000"/>
              <a:ext cx="1440" cy="76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0" name=""/>
            <p:cNvSpPr/>
            <p:nvPr/>
          </p:nvSpPr>
          <p:spPr>
            <a:xfrm flipV="1">
              <a:off x="5621400" y="5796000"/>
              <a:ext cx="1440" cy="76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1" name=""/>
            <p:cNvSpPr/>
            <p:nvPr/>
          </p:nvSpPr>
          <p:spPr>
            <a:xfrm flipV="1">
              <a:off x="6350040" y="5796000"/>
              <a:ext cx="1440" cy="76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2" name=""/>
            <p:cNvSpPr/>
            <p:nvPr/>
          </p:nvSpPr>
          <p:spPr>
            <a:xfrm flipV="1">
              <a:off x="7078680" y="5796000"/>
              <a:ext cx="1440" cy="76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3" name=""/>
            <p:cNvSpPr/>
            <p:nvPr/>
          </p:nvSpPr>
          <p:spPr>
            <a:xfrm>
              <a:off x="1784160" y="5872320"/>
              <a:ext cx="384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3000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4" name=""/>
            <p:cNvSpPr/>
            <p:nvPr/>
          </p:nvSpPr>
          <p:spPr>
            <a:xfrm>
              <a:off x="2512800" y="5872320"/>
              <a:ext cx="384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3500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5" name=""/>
            <p:cNvSpPr/>
            <p:nvPr/>
          </p:nvSpPr>
          <p:spPr>
            <a:xfrm>
              <a:off x="3241440" y="5872320"/>
              <a:ext cx="384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4000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6" name=""/>
            <p:cNvSpPr/>
            <p:nvPr/>
          </p:nvSpPr>
          <p:spPr>
            <a:xfrm>
              <a:off x="3970080" y="5872320"/>
              <a:ext cx="384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4500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7" name=""/>
            <p:cNvSpPr/>
            <p:nvPr/>
          </p:nvSpPr>
          <p:spPr>
            <a:xfrm>
              <a:off x="4698720" y="5872320"/>
              <a:ext cx="384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5000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8" name=""/>
            <p:cNvSpPr/>
            <p:nvPr/>
          </p:nvSpPr>
          <p:spPr>
            <a:xfrm>
              <a:off x="5427360" y="5872320"/>
              <a:ext cx="384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5500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9" name=""/>
            <p:cNvSpPr/>
            <p:nvPr/>
          </p:nvSpPr>
          <p:spPr>
            <a:xfrm>
              <a:off x="6156000" y="5872320"/>
              <a:ext cx="384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6000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0" name=""/>
            <p:cNvSpPr/>
            <p:nvPr/>
          </p:nvSpPr>
          <p:spPr>
            <a:xfrm>
              <a:off x="6884640" y="5872320"/>
              <a:ext cx="384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6500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1" name=""/>
            <p:cNvSpPr/>
            <p:nvPr/>
          </p:nvSpPr>
          <p:spPr>
            <a:xfrm>
              <a:off x="4289760" y="6051600"/>
              <a:ext cx="7642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UTM Leste (m)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2" name=""/>
            <p:cNvSpPr/>
            <p:nvPr/>
          </p:nvSpPr>
          <p:spPr>
            <a:xfrm flipV="1">
              <a:off x="1978200" y="1370160"/>
              <a:ext cx="1440" cy="4425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3" name=""/>
            <p:cNvSpPr/>
            <p:nvPr/>
          </p:nvSpPr>
          <p:spPr>
            <a:xfrm flipV="1">
              <a:off x="2706840" y="1370160"/>
              <a:ext cx="1440" cy="4425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4" name=""/>
            <p:cNvSpPr/>
            <p:nvPr/>
          </p:nvSpPr>
          <p:spPr>
            <a:xfrm flipV="1">
              <a:off x="3435480" y="1370160"/>
              <a:ext cx="1440" cy="4425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5" name=""/>
            <p:cNvSpPr/>
            <p:nvPr/>
          </p:nvSpPr>
          <p:spPr>
            <a:xfrm flipV="1">
              <a:off x="4164120" y="1370160"/>
              <a:ext cx="1440" cy="4425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6" name=""/>
            <p:cNvSpPr/>
            <p:nvPr/>
          </p:nvSpPr>
          <p:spPr>
            <a:xfrm flipV="1">
              <a:off x="4892760" y="1370160"/>
              <a:ext cx="1440" cy="4425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7" name=""/>
            <p:cNvSpPr/>
            <p:nvPr/>
          </p:nvSpPr>
          <p:spPr>
            <a:xfrm flipV="1">
              <a:off x="5621400" y="1370160"/>
              <a:ext cx="1440" cy="4425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8" name=""/>
            <p:cNvSpPr/>
            <p:nvPr/>
          </p:nvSpPr>
          <p:spPr>
            <a:xfrm flipV="1">
              <a:off x="6350040" y="1370160"/>
              <a:ext cx="1440" cy="4425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9" name=""/>
            <p:cNvSpPr/>
            <p:nvPr/>
          </p:nvSpPr>
          <p:spPr>
            <a:xfrm flipV="1">
              <a:off x="7078680" y="1370160"/>
              <a:ext cx="1440" cy="4425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0" name=""/>
            <p:cNvSpPr/>
            <p:nvPr/>
          </p:nvSpPr>
          <p:spPr>
            <a:xfrm>
              <a:off x="1555920" y="1370160"/>
              <a:ext cx="6251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1" name=""/>
            <p:cNvSpPr/>
            <p:nvPr/>
          </p:nvSpPr>
          <p:spPr>
            <a:xfrm flipV="1">
              <a:off x="1978200" y="1293840"/>
              <a:ext cx="1440" cy="76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2" name=""/>
            <p:cNvSpPr/>
            <p:nvPr/>
          </p:nvSpPr>
          <p:spPr>
            <a:xfrm flipV="1">
              <a:off x="2706840" y="1293840"/>
              <a:ext cx="1440" cy="76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3" name=""/>
            <p:cNvSpPr/>
            <p:nvPr/>
          </p:nvSpPr>
          <p:spPr>
            <a:xfrm flipV="1">
              <a:off x="3435480" y="1293840"/>
              <a:ext cx="1440" cy="76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4" name=""/>
            <p:cNvSpPr/>
            <p:nvPr/>
          </p:nvSpPr>
          <p:spPr>
            <a:xfrm flipV="1">
              <a:off x="4164120" y="1293840"/>
              <a:ext cx="1440" cy="76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5" name=""/>
            <p:cNvSpPr/>
            <p:nvPr/>
          </p:nvSpPr>
          <p:spPr>
            <a:xfrm flipV="1">
              <a:off x="4892760" y="1293840"/>
              <a:ext cx="1440" cy="76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6" name=""/>
            <p:cNvSpPr/>
            <p:nvPr/>
          </p:nvSpPr>
          <p:spPr>
            <a:xfrm flipV="1">
              <a:off x="5621400" y="1293840"/>
              <a:ext cx="1440" cy="76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7" name=""/>
            <p:cNvSpPr/>
            <p:nvPr/>
          </p:nvSpPr>
          <p:spPr>
            <a:xfrm flipV="1">
              <a:off x="6350040" y="1293840"/>
              <a:ext cx="1440" cy="76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8" name=""/>
            <p:cNvSpPr/>
            <p:nvPr/>
          </p:nvSpPr>
          <p:spPr>
            <a:xfrm flipV="1">
              <a:off x="7078680" y="1293840"/>
              <a:ext cx="1440" cy="76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9" name=""/>
            <p:cNvSpPr/>
            <p:nvPr/>
          </p:nvSpPr>
          <p:spPr>
            <a:xfrm flipV="1">
              <a:off x="1555920" y="1370160"/>
              <a:ext cx="1440" cy="4425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0" name=""/>
            <p:cNvSpPr/>
            <p:nvPr/>
          </p:nvSpPr>
          <p:spPr>
            <a:xfrm flipH="1">
              <a:off x="1479600" y="5324400"/>
              <a:ext cx="763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1" name=""/>
            <p:cNvSpPr/>
            <p:nvPr/>
          </p:nvSpPr>
          <p:spPr>
            <a:xfrm flipH="1">
              <a:off x="1479600" y="4597560"/>
              <a:ext cx="763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2" name=""/>
            <p:cNvSpPr/>
            <p:nvPr/>
          </p:nvSpPr>
          <p:spPr>
            <a:xfrm flipH="1">
              <a:off x="1479600" y="3870360"/>
              <a:ext cx="763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3" name=""/>
            <p:cNvSpPr/>
            <p:nvPr/>
          </p:nvSpPr>
          <p:spPr>
            <a:xfrm flipH="1">
              <a:off x="1479600" y="3143160"/>
              <a:ext cx="763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4" name=""/>
            <p:cNvSpPr/>
            <p:nvPr/>
          </p:nvSpPr>
          <p:spPr>
            <a:xfrm flipH="1">
              <a:off x="1479600" y="2416320"/>
              <a:ext cx="763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5" name=""/>
            <p:cNvSpPr/>
            <p:nvPr/>
          </p:nvSpPr>
          <p:spPr>
            <a:xfrm flipH="1">
              <a:off x="1479600" y="1676520"/>
              <a:ext cx="763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6" name=""/>
            <p:cNvSpPr/>
            <p:nvPr/>
          </p:nvSpPr>
          <p:spPr>
            <a:xfrm>
              <a:off x="1017000" y="5248440"/>
              <a:ext cx="44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942500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7" name=""/>
            <p:cNvSpPr/>
            <p:nvPr/>
          </p:nvSpPr>
          <p:spPr>
            <a:xfrm>
              <a:off x="1017000" y="4521240"/>
              <a:ext cx="44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943000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8" name=""/>
            <p:cNvSpPr/>
            <p:nvPr/>
          </p:nvSpPr>
          <p:spPr>
            <a:xfrm>
              <a:off x="1017000" y="3794040"/>
              <a:ext cx="44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943500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9" name=""/>
            <p:cNvSpPr/>
            <p:nvPr/>
          </p:nvSpPr>
          <p:spPr>
            <a:xfrm>
              <a:off x="1017000" y="3067200"/>
              <a:ext cx="44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944000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0" name=""/>
            <p:cNvSpPr/>
            <p:nvPr/>
          </p:nvSpPr>
          <p:spPr>
            <a:xfrm>
              <a:off x="1017000" y="2340000"/>
              <a:ext cx="44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944500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1" name=""/>
            <p:cNvSpPr/>
            <p:nvPr/>
          </p:nvSpPr>
          <p:spPr>
            <a:xfrm>
              <a:off x="1017000" y="1612800"/>
              <a:ext cx="44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945000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2" name=""/>
            <p:cNvSpPr/>
            <p:nvPr/>
          </p:nvSpPr>
          <p:spPr>
            <a:xfrm rot="16200000">
              <a:off x="839880" y="3859920"/>
              <a:ext cx="83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3" name=""/>
            <p:cNvSpPr/>
            <p:nvPr/>
          </p:nvSpPr>
          <p:spPr>
            <a:xfrm rot="16200000">
              <a:off x="846000" y="3778920"/>
              <a:ext cx="70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4" name=""/>
            <p:cNvSpPr/>
            <p:nvPr/>
          </p:nvSpPr>
          <p:spPr>
            <a:xfrm rot="16200000">
              <a:off x="834120" y="3701520"/>
              <a:ext cx="9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5" name=""/>
            <p:cNvSpPr/>
            <p:nvPr/>
          </p:nvSpPr>
          <p:spPr>
            <a:xfrm rot="16200000">
              <a:off x="865080" y="363132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6" name=""/>
            <p:cNvSpPr/>
            <p:nvPr/>
          </p:nvSpPr>
          <p:spPr>
            <a:xfrm rot="16200000">
              <a:off x="839880" y="3566160"/>
              <a:ext cx="83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7" name=""/>
            <p:cNvSpPr/>
            <p:nvPr/>
          </p:nvSpPr>
          <p:spPr>
            <a:xfrm rot="16200000">
              <a:off x="849240" y="35010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8" name=""/>
            <p:cNvSpPr/>
            <p:nvPr/>
          </p:nvSpPr>
          <p:spPr>
            <a:xfrm rot="16200000">
              <a:off x="862200" y="345060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9" name=""/>
            <p:cNvSpPr/>
            <p:nvPr/>
          </p:nvSpPr>
          <p:spPr>
            <a:xfrm rot="16200000">
              <a:off x="865080" y="341532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0" name=""/>
            <p:cNvSpPr/>
            <p:nvPr/>
          </p:nvSpPr>
          <p:spPr>
            <a:xfrm rot="16200000">
              <a:off x="849240" y="33613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1" name=""/>
            <p:cNvSpPr/>
            <p:nvPr/>
          </p:nvSpPr>
          <p:spPr>
            <a:xfrm rot="16200000">
              <a:off x="865080" y="331380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2" name=""/>
            <p:cNvSpPr/>
            <p:nvPr/>
          </p:nvSpPr>
          <p:spPr>
            <a:xfrm rot="16200000">
              <a:off x="862200" y="328572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3" name=""/>
            <p:cNvSpPr/>
            <p:nvPr/>
          </p:nvSpPr>
          <p:spPr>
            <a:xfrm rot="16200000">
              <a:off x="834120" y="3215520"/>
              <a:ext cx="9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4" name=""/>
            <p:cNvSpPr/>
            <p:nvPr/>
          </p:nvSpPr>
          <p:spPr>
            <a:xfrm rot="16200000">
              <a:off x="862200" y="314424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85" name=""/>
          <p:cNvSpPr/>
          <p:nvPr/>
        </p:nvSpPr>
        <p:spPr>
          <a:xfrm>
            <a:off x="1555920" y="5324400"/>
            <a:ext cx="62514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6" name=""/>
          <p:cNvSpPr/>
          <p:nvPr/>
        </p:nvSpPr>
        <p:spPr>
          <a:xfrm>
            <a:off x="1555920" y="4597560"/>
            <a:ext cx="6251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7" name=""/>
          <p:cNvSpPr/>
          <p:nvPr/>
        </p:nvSpPr>
        <p:spPr>
          <a:xfrm>
            <a:off x="1555920" y="3870360"/>
            <a:ext cx="6251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8" name=""/>
          <p:cNvSpPr/>
          <p:nvPr/>
        </p:nvSpPr>
        <p:spPr>
          <a:xfrm>
            <a:off x="1555920" y="3143160"/>
            <a:ext cx="62514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9" name=""/>
          <p:cNvSpPr/>
          <p:nvPr/>
        </p:nvSpPr>
        <p:spPr>
          <a:xfrm>
            <a:off x="1555920" y="2416320"/>
            <a:ext cx="6251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0" name=""/>
          <p:cNvSpPr/>
          <p:nvPr/>
        </p:nvSpPr>
        <p:spPr>
          <a:xfrm>
            <a:off x="1555920" y="1676520"/>
            <a:ext cx="6251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1" name=""/>
          <p:cNvSpPr/>
          <p:nvPr/>
        </p:nvSpPr>
        <p:spPr>
          <a:xfrm flipV="1">
            <a:off x="7807320" y="1370160"/>
            <a:ext cx="1440" cy="4425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2" name=""/>
          <p:cNvSpPr/>
          <p:nvPr/>
        </p:nvSpPr>
        <p:spPr>
          <a:xfrm flipH="1">
            <a:off x="7807320" y="5324400"/>
            <a:ext cx="763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3" name=""/>
          <p:cNvSpPr/>
          <p:nvPr/>
        </p:nvSpPr>
        <p:spPr>
          <a:xfrm flipH="1">
            <a:off x="7807320" y="4597560"/>
            <a:ext cx="76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4" name=""/>
          <p:cNvSpPr/>
          <p:nvPr/>
        </p:nvSpPr>
        <p:spPr>
          <a:xfrm flipH="1">
            <a:off x="7807320" y="3870360"/>
            <a:ext cx="76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5" name=""/>
          <p:cNvSpPr/>
          <p:nvPr/>
        </p:nvSpPr>
        <p:spPr>
          <a:xfrm flipH="1">
            <a:off x="7807320" y="3143160"/>
            <a:ext cx="763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6" name=""/>
          <p:cNvSpPr/>
          <p:nvPr/>
        </p:nvSpPr>
        <p:spPr>
          <a:xfrm flipH="1">
            <a:off x="7807320" y="2416320"/>
            <a:ext cx="76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7" name=""/>
          <p:cNvSpPr/>
          <p:nvPr/>
        </p:nvSpPr>
        <p:spPr>
          <a:xfrm flipH="1">
            <a:off x="7807320" y="1676520"/>
            <a:ext cx="76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8" name=""/>
          <p:cNvSpPr/>
          <p:nvPr/>
        </p:nvSpPr>
        <p:spPr>
          <a:xfrm>
            <a:off x="1517760" y="1344600"/>
            <a:ext cx="63360" cy="50760"/>
          </a:xfrm>
          <a:custGeom>
            <a:avLst/>
            <a:gdLst/>
            <a:ahLst/>
            <a:rect l="l" t="t" r="r" b="b"/>
            <a:pathLst>
              <a:path w="40" h="32">
                <a:moveTo>
                  <a:pt x="24" y="32"/>
                </a:moveTo>
                <a:lnTo>
                  <a:pt x="24" y="32"/>
                </a:lnTo>
                <a:lnTo>
                  <a:pt x="24" y="16"/>
                </a:lnTo>
                <a:lnTo>
                  <a:pt x="40" y="16"/>
                </a:lnTo>
                <a:lnTo>
                  <a:pt x="40" y="16"/>
                </a:lnTo>
                <a:lnTo>
                  <a:pt x="24" y="16"/>
                </a:lnTo>
                <a:lnTo>
                  <a:pt x="24" y="0"/>
                </a:lnTo>
                <a:lnTo>
                  <a:pt x="24" y="0"/>
                </a:lnTo>
                <a:lnTo>
                  <a:pt x="24" y="16"/>
                </a:lnTo>
                <a:lnTo>
                  <a:pt x="0" y="16"/>
                </a:lnTo>
                <a:lnTo>
                  <a:pt x="0" y="16"/>
                </a:lnTo>
                <a:lnTo>
                  <a:pt x="24" y="16"/>
                </a:lnTo>
                <a:lnTo>
                  <a:pt x="24" y="32"/>
                </a:lnTo>
                <a:close/>
              </a:path>
            </a:pathLst>
          </a:custGeom>
          <a:solidFill>
            <a:srgbClr val="ff00ff"/>
          </a:solidFill>
          <a:ln w="0">
            <a:solidFill>
              <a:srgbClr val="ff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9" name=""/>
          <p:cNvSpPr/>
          <p:nvPr/>
        </p:nvSpPr>
        <p:spPr>
          <a:xfrm>
            <a:off x="7769160" y="1344600"/>
            <a:ext cx="63720" cy="50760"/>
          </a:xfrm>
          <a:custGeom>
            <a:avLst/>
            <a:gdLst/>
            <a:ahLst/>
            <a:rect l="l" t="t" r="r" b="b"/>
            <a:pathLst>
              <a:path w="40" h="32">
                <a:moveTo>
                  <a:pt x="16" y="32"/>
                </a:moveTo>
                <a:lnTo>
                  <a:pt x="16" y="32"/>
                </a:lnTo>
                <a:lnTo>
                  <a:pt x="16" y="16"/>
                </a:lnTo>
                <a:lnTo>
                  <a:pt x="40" y="16"/>
                </a:lnTo>
                <a:lnTo>
                  <a:pt x="40" y="16"/>
                </a:lnTo>
                <a:lnTo>
                  <a:pt x="16" y="16"/>
                </a:lnTo>
                <a:lnTo>
                  <a:pt x="16" y="0"/>
                </a:lnTo>
                <a:lnTo>
                  <a:pt x="16" y="0"/>
                </a:lnTo>
                <a:lnTo>
                  <a:pt x="16" y="16"/>
                </a:lnTo>
                <a:lnTo>
                  <a:pt x="0" y="16"/>
                </a:lnTo>
                <a:lnTo>
                  <a:pt x="0" y="16"/>
                </a:lnTo>
                <a:lnTo>
                  <a:pt x="16" y="16"/>
                </a:lnTo>
                <a:lnTo>
                  <a:pt x="16" y="32"/>
                </a:lnTo>
                <a:close/>
              </a:path>
            </a:pathLst>
          </a:custGeom>
          <a:solidFill>
            <a:srgbClr val="ff00ff"/>
          </a:solidFill>
          <a:ln w="0">
            <a:solidFill>
              <a:srgbClr val="ff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0" name=""/>
          <p:cNvSpPr/>
          <p:nvPr/>
        </p:nvSpPr>
        <p:spPr>
          <a:xfrm>
            <a:off x="7769160" y="5757840"/>
            <a:ext cx="63720" cy="63360"/>
          </a:xfrm>
          <a:custGeom>
            <a:avLst/>
            <a:gdLst/>
            <a:ahLst/>
            <a:rect l="l" t="t" r="r" b="b"/>
            <a:pathLst>
              <a:path w="40" h="40">
                <a:moveTo>
                  <a:pt x="24" y="40"/>
                </a:moveTo>
                <a:lnTo>
                  <a:pt x="24" y="40"/>
                </a:lnTo>
                <a:lnTo>
                  <a:pt x="24" y="24"/>
                </a:lnTo>
                <a:lnTo>
                  <a:pt x="40" y="24"/>
                </a:lnTo>
                <a:lnTo>
                  <a:pt x="40" y="24"/>
                </a:lnTo>
                <a:lnTo>
                  <a:pt x="24" y="24"/>
                </a:lnTo>
                <a:lnTo>
                  <a:pt x="24" y="0"/>
                </a:lnTo>
                <a:lnTo>
                  <a:pt x="24" y="0"/>
                </a:lnTo>
                <a:lnTo>
                  <a:pt x="24" y="24"/>
                </a:lnTo>
                <a:lnTo>
                  <a:pt x="0" y="24"/>
                </a:lnTo>
                <a:lnTo>
                  <a:pt x="0" y="24"/>
                </a:lnTo>
                <a:lnTo>
                  <a:pt x="24" y="24"/>
                </a:lnTo>
                <a:lnTo>
                  <a:pt x="24" y="40"/>
                </a:lnTo>
                <a:close/>
              </a:path>
            </a:pathLst>
          </a:custGeom>
          <a:solidFill>
            <a:srgbClr val="ff00ff"/>
          </a:solidFill>
          <a:ln w="0">
            <a:solidFill>
              <a:srgbClr val="ff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1" name=""/>
          <p:cNvSpPr/>
          <p:nvPr/>
        </p:nvSpPr>
        <p:spPr>
          <a:xfrm>
            <a:off x="1517760" y="5757840"/>
            <a:ext cx="63360" cy="63360"/>
          </a:xfrm>
          <a:custGeom>
            <a:avLst/>
            <a:gdLst/>
            <a:ahLst/>
            <a:rect l="l" t="t" r="r" b="b"/>
            <a:pathLst>
              <a:path w="40" h="40">
                <a:moveTo>
                  <a:pt x="24" y="40"/>
                </a:moveTo>
                <a:lnTo>
                  <a:pt x="24" y="40"/>
                </a:lnTo>
                <a:lnTo>
                  <a:pt x="24" y="24"/>
                </a:lnTo>
                <a:lnTo>
                  <a:pt x="40" y="24"/>
                </a:lnTo>
                <a:lnTo>
                  <a:pt x="40" y="24"/>
                </a:lnTo>
                <a:lnTo>
                  <a:pt x="24" y="24"/>
                </a:lnTo>
                <a:lnTo>
                  <a:pt x="24" y="0"/>
                </a:lnTo>
                <a:lnTo>
                  <a:pt x="24" y="0"/>
                </a:lnTo>
                <a:lnTo>
                  <a:pt x="24" y="24"/>
                </a:lnTo>
                <a:lnTo>
                  <a:pt x="0" y="24"/>
                </a:lnTo>
                <a:lnTo>
                  <a:pt x="0" y="24"/>
                </a:lnTo>
                <a:lnTo>
                  <a:pt x="24" y="24"/>
                </a:lnTo>
                <a:lnTo>
                  <a:pt x="24" y="40"/>
                </a:lnTo>
                <a:close/>
              </a:path>
            </a:pathLst>
          </a:custGeom>
          <a:solidFill>
            <a:srgbClr val="ff00ff"/>
          </a:solidFill>
          <a:ln w="0">
            <a:solidFill>
              <a:srgbClr val="ff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2" name=""/>
          <p:cNvSpPr/>
          <p:nvPr/>
        </p:nvSpPr>
        <p:spPr>
          <a:xfrm>
            <a:off x="5531760" y="3257640"/>
            <a:ext cx="37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700" spc="-1" strike="noStrike">
                <a:solidFill>
                  <a:srgbClr val="000000"/>
                </a:solidFill>
                <a:latin typeface="Arial"/>
              </a:rPr>
              <a:t>Barauna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3" name=""/>
          <p:cNvSpPr/>
          <p:nvPr/>
        </p:nvSpPr>
        <p:spPr>
          <a:xfrm flipV="1">
            <a:off x="2360520" y="5591160"/>
            <a:ext cx="90720" cy="179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4" name=""/>
          <p:cNvSpPr/>
          <p:nvPr/>
        </p:nvSpPr>
        <p:spPr>
          <a:xfrm flipV="1">
            <a:off x="2540160" y="5208480"/>
            <a:ext cx="88920" cy="192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5" name=""/>
          <p:cNvSpPr/>
          <p:nvPr/>
        </p:nvSpPr>
        <p:spPr>
          <a:xfrm flipV="1">
            <a:off x="2719440" y="4838400"/>
            <a:ext cx="101520" cy="19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6" name=""/>
          <p:cNvSpPr/>
          <p:nvPr/>
        </p:nvSpPr>
        <p:spPr>
          <a:xfrm flipV="1">
            <a:off x="2911320" y="4468320"/>
            <a:ext cx="88920" cy="179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7" name=""/>
          <p:cNvSpPr/>
          <p:nvPr/>
        </p:nvSpPr>
        <p:spPr>
          <a:xfrm flipV="1">
            <a:off x="3089160" y="4086000"/>
            <a:ext cx="90720" cy="19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8" name=""/>
          <p:cNvSpPr/>
          <p:nvPr/>
        </p:nvSpPr>
        <p:spPr>
          <a:xfrm flipV="1">
            <a:off x="3268800" y="3716280"/>
            <a:ext cx="88920" cy="179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9" name=""/>
          <p:cNvSpPr/>
          <p:nvPr/>
        </p:nvSpPr>
        <p:spPr>
          <a:xfrm flipV="1">
            <a:off x="3448080" y="3333600"/>
            <a:ext cx="101520" cy="192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0" name=""/>
          <p:cNvSpPr/>
          <p:nvPr/>
        </p:nvSpPr>
        <p:spPr>
          <a:xfrm flipV="1">
            <a:off x="3627360" y="2950920"/>
            <a:ext cx="63720" cy="19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1" name=""/>
          <p:cNvSpPr/>
          <p:nvPr/>
        </p:nvSpPr>
        <p:spPr>
          <a:xfrm flipV="1">
            <a:off x="3767040" y="2555640"/>
            <a:ext cx="63720" cy="204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2" name=""/>
          <p:cNvSpPr/>
          <p:nvPr/>
        </p:nvSpPr>
        <p:spPr>
          <a:xfrm flipV="1">
            <a:off x="3908520" y="2160720"/>
            <a:ext cx="63360" cy="20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3" name=""/>
          <p:cNvSpPr/>
          <p:nvPr/>
        </p:nvSpPr>
        <p:spPr>
          <a:xfrm flipV="1">
            <a:off x="4048200" y="1777680"/>
            <a:ext cx="65160" cy="19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4" name=""/>
          <p:cNvSpPr/>
          <p:nvPr/>
        </p:nvSpPr>
        <p:spPr>
          <a:xfrm flipV="1">
            <a:off x="4189320" y="1382400"/>
            <a:ext cx="63720" cy="19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5" name=""/>
          <p:cNvSpPr/>
          <p:nvPr/>
        </p:nvSpPr>
        <p:spPr>
          <a:xfrm rot="17760000">
            <a:off x="3946320" y="1540080"/>
            <a:ext cx="1011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6" name=""/>
          <p:cNvSpPr/>
          <p:nvPr/>
        </p:nvSpPr>
        <p:spPr>
          <a:xfrm rot="17760000">
            <a:off x="3999600" y="1442520"/>
            <a:ext cx="936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7" name=""/>
          <p:cNvSpPr/>
          <p:nvPr/>
        </p:nvSpPr>
        <p:spPr>
          <a:xfrm rot="17280000">
            <a:off x="4257360" y="1495800"/>
            <a:ext cx="1011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8" name=""/>
          <p:cNvSpPr/>
          <p:nvPr/>
        </p:nvSpPr>
        <p:spPr>
          <a:xfrm rot="17280000">
            <a:off x="4295520" y="1393560"/>
            <a:ext cx="1011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9" name=""/>
          <p:cNvSpPr/>
          <p:nvPr/>
        </p:nvSpPr>
        <p:spPr>
          <a:xfrm>
            <a:off x="6912000" y="3679920"/>
            <a:ext cx="119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0" name=""/>
          <p:cNvSpPr/>
          <p:nvPr/>
        </p:nvSpPr>
        <p:spPr>
          <a:xfrm>
            <a:off x="2858760" y="1792440"/>
            <a:ext cx="153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A'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1" name=""/>
          <p:cNvSpPr/>
          <p:nvPr/>
        </p:nvSpPr>
        <p:spPr>
          <a:xfrm>
            <a:off x="4994280" y="3424320"/>
            <a:ext cx="119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2" name=""/>
          <p:cNvSpPr/>
          <p:nvPr/>
        </p:nvSpPr>
        <p:spPr>
          <a:xfrm>
            <a:off x="2425320" y="2901960"/>
            <a:ext cx="153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B'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3" name=""/>
          <p:cNvSpPr/>
          <p:nvPr/>
        </p:nvSpPr>
        <p:spPr>
          <a:xfrm>
            <a:off x="2731680" y="3348000"/>
            <a:ext cx="139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4" name=""/>
          <p:cNvSpPr/>
          <p:nvPr/>
        </p:nvSpPr>
        <p:spPr>
          <a:xfrm>
            <a:off x="2360160" y="4381560"/>
            <a:ext cx="172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G'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5" name=""/>
          <p:cNvSpPr/>
          <p:nvPr/>
        </p:nvSpPr>
        <p:spPr>
          <a:xfrm>
            <a:off x="4854600" y="3666960"/>
            <a:ext cx="119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6" name=""/>
          <p:cNvSpPr/>
          <p:nvPr/>
        </p:nvSpPr>
        <p:spPr>
          <a:xfrm>
            <a:off x="3076200" y="4316400"/>
            <a:ext cx="153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K'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7" name=""/>
          <p:cNvSpPr/>
          <p:nvPr/>
        </p:nvSpPr>
        <p:spPr>
          <a:xfrm>
            <a:off x="4341240" y="4457880"/>
            <a:ext cx="109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8" name=""/>
          <p:cNvSpPr/>
          <p:nvPr/>
        </p:nvSpPr>
        <p:spPr>
          <a:xfrm>
            <a:off x="3639600" y="4138560"/>
            <a:ext cx="142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F'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9" name=""/>
          <p:cNvSpPr/>
          <p:nvPr/>
        </p:nvSpPr>
        <p:spPr>
          <a:xfrm>
            <a:off x="4713120" y="404964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0" name=""/>
          <p:cNvSpPr/>
          <p:nvPr/>
        </p:nvSpPr>
        <p:spPr>
          <a:xfrm>
            <a:off x="3817800" y="4827600"/>
            <a:ext cx="162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H'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1" name=""/>
          <p:cNvSpPr/>
          <p:nvPr/>
        </p:nvSpPr>
        <p:spPr>
          <a:xfrm>
            <a:off x="4738320" y="5413320"/>
            <a:ext cx="139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2" name=""/>
          <p:cNvSpPr/>
          <p:nvPr/>
        </p:nvSpPr>
        <p:spPr>
          <a:xfrm>
            <a:off x="4571280" y="4764240"/>
            <a:ext cx="172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O'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3" name=""/>
          <p:cNvSpPr/>
          <p:nvPr/>
        </p:nvSpPr>
        <p:spPr>
          <a:xfrm>
            <a:off x="3627360" y="5477040"/>
            <a:ext cx="162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C'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4" name=""/>
          <p:cNvSpPr/>
          <p:nvPr/>
        </p:nvSpPr>
        <p:spPr>
          <a:xfrm>
            <a:off x="6950160" y="554184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5" name=""/>
          <p:cNvSpPr/>
          <p:nvPr/>
        </p:nvSpPr>
        <p:spPr>
          <a:xfrm>
            <a:off x="7000920" y="5311800"/>
            <a:ext cx="162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N'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6" name=""/>
          <p:cNvSpPr/>
          <p:nvPr/>
        </p:nvSpPr>
        <p:spPr>
          <a:xfrm>
            <a:off x="7205760" y="417672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7" name=""/>
          <p:cNvSpPr/>
          <p:nvPr/>
        </p:nvSpPr>
        <p:spPr>
          <a:xfrm>
            <a:off x="5863320" y="4954680"/>
            <a:ext cx="84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I'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8" name=""/>
          <p:cNvSpPr/>
          <p:nvPr/>
        </p:nvSpPr>
        <p:spPr>
          <a:xfrm>
            <a:off x="7242840" y="222552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9" name=""/>
          <p:cNvSpPr/>
          <p:nvPr/>
        </p:nvSpPr>
        <p:spPr>
          <a:xfrm>
            <a:off x="6745320" y="2136600"/>
            <a:ext cx="162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R'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0" name=""/>
          <p:cNvSpPr/>
          <p:nvPr/>
        </p:nvSpPr>
        <p:spPr>
          <a:xfrm>
            <a:off x="6234120" y="186840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1" name=""/>
          <p:cNvSpPr/>
          <p:nvPr/>
        </p:nvSpPr>
        <p:spPr>
          <a:xfrm>
            <a:off x="6451200" y="1843200"/>
            <a:ext cx="182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M'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2" name=""/>
          <p:cNvSpPr/>
          <p:nvPr/>
        </p:nvSpPr>
        <p:spPr>
          <a:xfrm>
            <a:off x="5582880" y="2811600"/>
            <a:ext cx="148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3" name=""/>
          <p:cNvSpPr/>
          <p:nvPr/>
        </p:nvSpPr>
        <p:spPr>
          <a:xfrm>
            <a:off x="5044680" y="179244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4" name=""/>
          <p:cNvSpPr/>
          <p:nvPr/>
        </p:nvSpPr>
        <p:spPr>
          <a:xfrm>
            <a:off x="5325480" y="3016080"/>
            <a:ext cx="133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L'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5" name=""/>
          <p:cNvSpPr/>
          <p:nvPr/>
        </p:nvSpPr>
        <p:spPr>
          <a:xfrm>
            <a:off x="3460320" y="2136600"/>
            <a:ext cx="139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Q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6" name=""/>
          <p:cNvSpPr/>
          <p:nvPr/>
        </p:nvSpPr>
        <p:spPr>
          <a:xfrm>
            <a:off x="3396600" y="2952720"/>
            <a:ext cx="172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Q'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7" name=""/>
          <p:cNvSpPr/>
          <p:nvPr/>
        </p:nvSpPr>
        <p:spPr>
          <a:xfrm>
            <a:off x="5288040" y="338616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8" name=""/>
          <p:cNvSpPr/>
          <p:nvPr/>
        </p:nvSpPr>
        <p:spPr>
          <a:xfrm>
            <a:off x="5479920" y="5311800"/>
            <a:ext cx="162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D'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9" name=""/>
          <p:cNvSpPr/>
          <p:nvPr/>
        </p:nvSpPr>
        <p:spPr>
          <a:xfrm>
            <a:off x="5518080" y="4432320"/>
            <a:ext cx="119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0" name=""/>
          <p:cNvSpPr/>
          <p:nvPr/>
        </p:nvSpPr>
        <p:spPr>
          <a:xfrm>
            <a:off x="4316040" y="4673520"/>
            <a:ext cx="153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E'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1" name=""/>
          <p:cNvSpPr/>
          <p:nvPr/>
        </p:nvSpPr>
        <p:spPr>
          <a:xfrm>
            <a:off x="2334600" y="318132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2" name=""/>
          <p:cNvSpPr/>
          <p:nvPr/>
        </p:nvSpPr>
        <p:spPr>
          <a:xfrm>
            <a:off x="2858040" y="2825640"/>
            <a:ext cx="124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J'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3" name=""/>
          <p:cNvSpPr/>
          <p:nvPr/>
        </p:nvSpPr>
        <p:spPr>
          <a:xfrm>
            <a:off x="1555920" y="4903920"/>
            <a:ext cx="1892160" cy="87948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4" name=""/>
          <p:cNvSpPr/>
          <p:nvPr/>
        </p:nvSpPr>
        <p:spPr>
          <a:xfrm>
            <a:off x="1824120" y="5299200"/>
            <a:ext cx="38160" cy="37800"/>
          </a:xfrm>
          <a:custGeom>
            <a:avLst/>
            <a:gdLst/>
            <a:ahLst/>
            <a:rect l="l" t="t" r="r" b="b"/>
            <a:pathLst>
              <a:path w="24" h="24">
                <a:moveTo>
                  <a:pt x="16" y="0"/>
                </a:move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0" y="0"/>
                </a:lnTo>
                <a:lnTo>
                  <a:pt x="0" y="0"/>
                </a:lnTo>
                <a:lnTo>
                  <a:pt x="0" y="8"/>
                </a:lnTo>
                <a:lnTo>
                  <a:pt x="0" y="8"/>
                </a:lnTo>
                <a:lnTo>
                  <a:pt x="0" y="8"/>
                </a:lnTo>
                <a:lnTo>
                  <a:pt x="0" y="8"/>
                </a:lnTo>
                <a:lnTo>
                  <a:pt x="0" y="8"/>
                </a:lnTo>
                <a:lnTo>
                  <a:pt x="0" y="8"/>
                </a:lnTo>
                <a:lnTo>
                  <a:pt x="0" y="8"/>
                </a:lnTo>
                <a:lnTo>
                  <a:pt x="0" y="8"/>
                </a:lnTo>
                <a:lnTo>
                  <a:pt x="0" y="8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24"/>
                </a:lnTo>
                <a:lnTo>
                  <a:pt x="8" y="24"/>
                </a:lnTo>
                <a:lnTo>
                  <a:pt x="8" y="24"/>
                </a:lnTo>
                <a:lnTo>
                  <a:pt x="8" y="24"/>
                </a:lnTo>
                <a:lnTo>
                  <a:pt x="8" y="24"/>
                </a:lnTo>
                <a:lnTo>
                  <a:pt x="8" y="24"/>
                </a:lnTo>
                <a:lnTo>
                  <a:pt x="8" y="24"/>
                </a:lnTo>
                <a:lnTo>
                  <a:pt x="8" y="24"/>
                </a:lnTo>
                <a:lnTo>
                  <a:pt x="8" y="24"/>
                </a:lnTo>
                <a:lnTo>
                  <a:pt x="8" y="24"/>
                </a:lnTo>
                <a:lnTo>
                  <a:pt x="16" y="24"/>
                </a:lnTo>
                <a:lnTo>
                  <a:pt x="16" y="24"/>
                </a:lnTo>
                <a:lnTo>
                  <a:pt x="16" y="24"/>
                </a:lnTo>
                <a:lnTo>
                  <a:pt x="16" y="24"/>
                </a:lnTo>
                <a:lnTo>
                  <a:pt x="16" y="24"/>
                </a:lnTo>
                <a:lnTo>
                  <a:pt x="16" y="24"/>
                </a:lnTo>
                <a:lnTo>
                  <a:pt x="16" y="24"/>
                </a:lnTo>
                <a:lnTo>
                  <a:pt x="16" y="24"/>
                </a:lnTo>
                <a:lnTo>
                  <a:pt x="16" y="24"/>
                </a:lnTo>
                <a:lnTo>
                  <a:pt x="16" y="24"/>
                </a:lnTo>
                <a:lnTo>
                  <a:pt x="24" y="24"/>
                </a:lnTo>
                <a:lnTo>
                  <a:pt x="24" y="16"/>
                </a:lnTo>
                <a:lnTo>
                  <a:pt x="24" y="16"/>
                </a:lnTo>
                <a:lnTo>
                  <a:pt x="24" y="16"/>
                </a:lnTo>
                <a:lnTo>
                  <a:pt x="24" y="16"/>
                </a:lnTo>
                <a:lnTo>
                  <a:pt x="24" y="16"/>
                </a:lnTo>
                <a:lnTo>
                  <a:pt x="24" y="8"/>
                </a:lnTo>
                <a:lnTo>
                  <a:pt x="24" y="8"/>
                </a:lnTo>
                <a:lnTo>
                  <a:pt x="24" y="8"/>
                </a:lnTo>
                <a:lnTo>
                  <a:pt x="24" y="8"/>
                </a:lnTo>
                <a:lnTo>
                  <a:pt x="24" y="8"/>
                </a:lnTo>
                <a:lnTo>
                  <a:pt x="24" y="8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close/>
              </a:path>
            </a:pathLst>
          </a:custGeom>
          <a:solidFill>
            <a:srgbClr val="0000ff"/>
          </a:solidFill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5" name=""/>
          <p:cNvSpPr/>
          <p:nvPr/>
        </p:nvSpPr>
        <p:spPr>
          <a:xfrm>
            <a:off x="1874880" y="5286240"/>
            <a:ext cx="38160" cy="38160"/>
          </a:xfrm>
          <a:custGeom>
            <a:avLst/>
            <a:gdLst/>
            <a:ahLst/>
            <a:rect l="l" t="t" r="r" b="b"/>
            <a:pathLst>
              <a:path w="24" h="24">
                <a:moveTo>
                  <a:pt x="8" y="0"/>
                </a:move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0" y="0"/>
                </a:lnTo>
                <a:lnTo>
                  <a:pt x="0" y="0"/>
                </a:lnTo>
                <a:lnTo>
                  <a:pt x="0" y="8"/>
                </a:lnTo>
                <a:lnTo>
                  <a:pt x="0" y="8"/>
                </a:lnTo>
                <a:lnTo>
                  <a:pt x="0" y="8"/>
                </a:lnTo>
                <a:lnTo>
                  <a:pt x="0" y="8"/>
                </a:lnTo>
                <a:lnTo>
                  <a:pt x="0" y="8"/>
                </a:lnTo>
                <a:lnTo>
                  <a:pt x="0" y="8"/>
                </a:lnTo>
                <a:lnTo>
                  <a:pt x="0" y="8"/>
                </a:lnTo>
                <a:lnTo>
                  <a:pt x="0" y="8"/>
                </a:lnTo>
                <a:lnTo>
                  <a:pt x="0" y="8"/>
                </a:lnTo>
                <a:lnTo>
                  <a:pt x="0" y="8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24"/>
                </a:lnTo>
                <a:lnTo>
                  <a:pt x="0" y="24"/>
                </a:lnTo>
                <a:lnTo>
                  <a:pt x="8" y="24"/>
                </a:lnTo>
                <a:lnTo>
                  <a:pt x="8" y="24"/>
                </a:lnTo>
                <a:lnTo>
                  <a:pt x="8" y="24"/>
                </a:lnTo>
                <a:lnTo>
                  <a:pt x="8" y="24"/>
                </a:lnTo>
                <a:lnTo>
                  <a:pt x="8" y="24"/>
                </a:lnTo>
                <a:lnTo>
                  <a:pt x="8" y="24"/>
                </a:lnTo>
                <a:lnTo>
                  <a:pt x="8" y="24"/>
                </a:lnTo>
                <a:lnTo>
                  <a:pt x="8" y="24"/>
                </a:lnTo>
                <a:lnTo>
                  <a:pt x="8" y="24"/>
                </a:lnTo>
                <a:lnTo>
                  <a:pt x="16" y="24"/>
                </a:lnTo>
                <a:lnTo>
                  <a:pt x="16" y="24"/>
                </a:lnTo>
                <a:lnTo>
                  <a:pt x="16" y="24"/>
                </a:lnTo>
                <a:lnTo>
                  <a:pt x="16" y="24"/>
                </a:lnTo>
                <a:lnTo>
                  <a:pt x="16" y="24"/>
                </a:lnTo>
                <a:lnTo>
                  <a:pt x="16" y="24"/>
                </a:lnTo>
                <a:lnTo>
                  <a:pt x="16" y="24"/>
                </a:lnTo>
                <a:lnTo>
                  <a:pt x="16" y="24"/>
                </a:lnTo>
                <a:lnTo>
                  <a:pt x="16" y="24"/>
                </a:lnTo>
                <a:lnTo>
                  <a:pt x="24" y="24"/>
                </a:lnTo>
                <a:lnTo>
                  <a:pt x="24" y="16"/>
                </a:lnTo>
                <a:lnTo>
                  <a:pt x="24" y="16"/>
                </a:lnTo>
                <a:lnTo>
                  <a:pt x="24" y="16"/>
                </a:lnTo>
                <a:lnTo>
                  <a:pt x="24" y="16"/>
                </a:lnTo>
                <a:lnTo>
                  <a:pt x="24" y="16"/>
                </a:lnTo>
                <a:lnTo>
                  <a:pt x="24" y="8"/>
                </a:lnTo>
                <a:lnTo>
                  <a:pt x="24" y="8"/>
                </a:lnTo>
                <a:lnTo>
                  <a:pt x="24" y="8"/>
                </a:lnTo>
                <a:lnTo>
                  <a:pt x="24" y="8"/>
                </a:lnTo>
                <a:lnTo>
                  <a:pt x="24" y="8"/>
                </a:lnTo>
                <a:lnTo>
                  <a:pt x="24" y="8"/>
                </a:lnTo>
                <a:lnTo>
                  <a:pt x="24" y="8"/>
                </a:lnTo>
                <a:lnTo>
                  <a:pt x="24" y="0"/>
                </a:lnTo>
                <a:lnTo>
                  <a:pt x="24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8" y="0"/>
                </a:lnTo>
                <a:close/>
              </a:path>
            </a:pathLst>
          </a:custGeom>
          <a:solidFill>
            <a:srgbClr val="0000ff"/>
          </a:solidFill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6" name=""/>
          <p:cNvSpPr/>
          <p:nvPr/>
        </p:nvSpPr>
        <p:spPr>
          <a:xfrm>
            <a:off x="1927080" y="5273640"/>
            <a:ext cx="38160" cy="38160"/>
          </a:xfrm>
          <a:custGeom>
            <a:avLst/>
            <a:gdLst/>
            <a:ahLst/>
            <a:rect l="l" t="t" r="r" b="b"/>
            <a:pathLst>
              <a:path w="24" h="24">
                <a:moveTo>
                  <a:pt x="8" y="0"/>
                </a:move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0" y="0"/>
                </a:lnTo>
                <a:lnTo>
                  <a:pt x="0" y="0"/>
                </a:lnTo>
                <a:lnTo>
                  <a:pt x="0" y="8"/>
                </a:lnTo>
                <a:lnTo>
                  <a:pt x="0" y="8"/>
                </a:lnTo>
                <a:lnTo>
                  <a:pt x="0" y="8"/>
                </a:lnTo>
                <a:lnTo>
                  <a:pt x="0" y="8"/>
                </a:lnTo>
                <a:lnTo>
                  <a:pt x="0" y="8"/>
                </a:lnTo>
                <a:lnTo>
                  <a:pt x="0" y="8"/>
                </a:lnTo>
                <a:lnTo>
                  <a:pt x="0" y="8"/>
                </a:lnTo>
                <a:lnTo>
                  <a:pt x="0" y="8"/>
                </a:lnTo>
                <a:lnTo>
                  <a:pt x="0" y="8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24"/>
                </a:lnTo>
                <a:lnTo>
                  <a:pt x="0" y="24"/>
                </a:lnTo>
                <a:lnTo>
                  <a:pt x="8" y="24"/>
                </a:lnTo>
                <a:lnTo>
                  <a:pt x="8" y="24"/>
                </a:lnTo>
                <a:lnTo>
                  <a:pt x="8" y="24"/>
                </a:lnTo>
                <a:lnTo>
                  <a:pt x="8" y="24"/>
                </a:lnTo>
                <a:lnTo>
                  <a:pt x="8" y="24"/>
                </a:lnTo>
                <a:lnTo>
                  <a:pt x="8" y="24"/>
                </a:lnTo>
                <a:lnTo>
                  <a:pt x="8" y="24"/>
                </a:lnTo>
                <a:lnTo>
                  <a:pt x="8" y="24"/>
                </a:lnTo>
                <a:lnTo>
                  <a:pt x="8" y="24"/>
                </a:lnTo>
                <a:lnTo>
                  <a:pt x="8" y="24"/>
                </a:lnTo>
                <a:lnTo>
                  <a:pt x="8" y="24"/>
                </a:lnTo>
                <a:lnTo>
                  <a:pt x="16" y="24"/>
                </a:lnTo>
                <a:lnTo>
                  <a:pt x="16" y="24"/>
                </a:lnTo>
                <a:lnTo>
                  <a:pt x="16" y="24"/>
                </a:lnTo>
                <a:lnTo>
                  <a:pt x="16" y="24"/>
                </a:lnTo>
                <a:lnTo>
                  <a:pt x="16" y="24"/>
                </a:lnTo>
                <a:lnTo>
                  <a:pt x="16" y="24"/>
                </a:lnTo>
                <a:lnTo>
                  <a:pt x="16" y="24"/>
                </a:lnTo>
                <a:lnTo>
                  <a:pt x="16" y="24"/>
                </a:lnTo>
                <a:lnTo>
                  <a:pt x="24" y="16"/>
                </a:lnTo>
                <a:lnTo>
                  <a:pt x="24" y="16"/>
                </a:lnTo>
                <a:lnTo>
                  <a:pt x="24" y="16"/>
                </a:lnTo>
                <a:lnTo>
                  <a:pt x="24" y="16"/>
                </a:lnTo>
                <a:lnTo>
                  <a:pt x="24" y="16"/>
                </a:lnTo>
                <a:lnTo>
                  <a:pt x="24" y="16"/>
                </a:lnTo>
                <a:lnTo>
                  <a:pt x="24" y="8"/>
                </a:lnTo>
                <a:lnTo>
                  <a:pt x="24" y="8"/>
                </a:lnTo>
                <a:lnTo>
                  <a:pt x="24" y="8"/>
                </a:lnTo>
                <a:lnTo>
                  <a:pt x="24" y="8"/>
                </a:lnTo>
                <a:lnTo>
                  <a:pt x="24" y="8"/>
                </a:lnTo>
                <a:lnTo>
                  <a:pt x="16" y="8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8" y="0"/>
                </a:lnTo>
                <a:lnTo>
                  <a:pt x="8" y="0"/>
                </a:lnTo>
                <a:close/>
              </a:path>
            </a:pathLst>
          </a:custGeom>
          <a:solidFill>
            <a:srgbClr val="0000ff"/>
          </a:solidFill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7" name=""/>
          <p:cNvSpPr/>
          <p:nvPr/>
        </p:nvSpPr>
        <p:spPr>
          <a:xfrm>
            <a:off x="1978200" y="5259240"/>
            <a:ext cx="37800" cy="39960"/>
          </a:xfrm>
          <a:custGeom>
            <a:avLst/>
            <a:gdLst/>
            <a:ahLst/>
            <a:rect l="l" t="t" r="r" b="b"/>
            <a:pathLst>
              <a:path w="24" h="25">
                <a:moveTo>
                  <a:pt x="8" y="0"/>
                </a:move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9"/>
                </a:lnTo>
                <a:lnTo>
                  <a:pt x="0" y="9"/>
                </a:lnTo>
                <a:lnTo>
                  <a:pt x="0" y="9"/>
                </a:lnTo>
                <a:lnTo>
                  <a:pt x="0" y="9"/>
                </a:lnTo>
                <a:lnTo>
                  <a:pt x="0" y="9"/>
                </a:lnTo>
                <a:lnTo>
                  <a:pt x="0" y="9"/>
                </a:lnTo>
                <a:lnTo>
                  <a:pt x="0" y="9"/>
                </a:lnTo>
                <a:lnTo>
                  <a:pt x="0" y="9"/>
                </a:lnTo>
                <a:lnTo>
                  <a:pt x="0" y="9"/>
                </a:lnTo>
                <a:lnTo>
                  <a:pt x="0" y="17"/>
                </a:lnTo>
                <a:lnTo>
                  <a:pt x="0" y="17"/>
                </a:lnTo>
                <a:lnTo>
                  <a:pt x="0" y="17"/>
                </a:lnTo>
                <a:lnTo>
                  <a:pt x="0" y="17"/>
                </a:lnTo>
                <a:lnTo>
                  <a:pt x="0" y="17"/>
                </a:lnTo>
                <a:lnTo>
                  <a:pt x="0" y="25"/>
                </a:lnTo>
                <a:lnTo>
                  <a:pt x="0" y="25"/>
                </a:lnTo>
                <a:lnTo>
                  <a:pt x="8" y="25"/>
                </a:lnTo>
                <a:lnTo>
                  <a:pt x="8" y="25"/>
                </a:lnTo>
                <a:lnTo>
                  <a:pt x="8" y="25"/>
                </a:lnTo>
                <a:lnTo>
                  <a:pt x="8" y="25"/>
                </a:lnTo>
                <a:lnTo>
                  <a:pt x="8" y="25"/>
                </a:lnTo>
                <a:lnTo>
                  <a:pt x="8" y="25"/>
                </a:lnTo>
                <a:lnTo>
                  <a:pt x="8" y="25"/>
                </a:lnTo>
                <a:lnTo>
                  <a:pt x="8" y="25"/>
                </a:lnTo>
                <a:lnTo>
                  <a:pt x="8" y="25"/>
                </a:lnTo>
                <a:lnTo>
                  <a:pt x="8" y="25"/>
                </a:lnTo>
                <a:lnTo>
                  <a:pt x="16" y="25"/>
                </a:lnTo>
                <a:lnTo>
                  <a:pt x="16" y="25"/>
                </a:lnTo>
                <a:lnTo>
                  <a:pt x="16" y="25"/>
                </a:lnTo>
                <a:lnTo>
                  <a:pt x="16" y="25"/>
                </a:lnTo>
                <a:lnTo>
                  <a:pt x="16" y="25"/>
                </a:lnTo>
                <a:lnTo>
                  <a:pt x="16" y="25"/>
                </a:lnTo>
                <a:lnTo>
                  <a:pt x="16" y="25"/>
                </a:lnTo>
                <a:lnTo>
                  <a:pt x="16" y="17"/>
                </a:lnTo>
                <a:lnTo>
                  <a:pt x="16" y="17"/>
                </a:lnTo>
                <a:lnTo>
                  <a:pt x="24" y="17"/>
                </a:lnTo>
                <a:lnTo>
                  <a:pt x="24" y="17"/>
                </a:lnTo>
                <a:lnTo>
                  <a:pt x="24" y="17"/>
                </a:lnTo>
                <a:lnTo>
                  <a:pt x="24" y="9"/>
                </a:lnTo>
                <a:lnTo>
                  <a:pt x="24" y="9"/>
                </a:lnTo>
                <a:lnTo>
                  <a:pt x="24" y="9"/>
                </a:lnTo>
                <a:lnTo>
                  <a:pt x="24" y="9"/>
                </a:lnTo>
                <a:lnTo>
                  <a:pt x="24" y="9"/>
                </a:lnTo>
                <a:lnTo>
                  <a:pt x="24" y="0"/>
                </a:lnTo>
                <a:lnTo>
                  <a:pt x="24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8" y="0"/>
                </a:lnTo>
                <a:lnTo>
                  <a:pt x="8" y="0"/>
                </a:lnTo>
                <a:close/>
              </a:path>
            </a:pathLst>
          </a:custGeom>
          <a:solidFill>
            <a:srgbClr val="0000ff"/>
          </a:solidFill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8" name=""/>
          <p:cNvSpPr/>
          <p:nvPr/>
        </p:nvSpPr>
        <p:spPr>
          <a:xfrm>
            <a:off x="2028960" y="5246640"/>
            <a:ext cx="37800" cy="39600"/>
          </a:xfrm>
          <a:custGeom>
            <a:avLst/>
            <a:gdLst/>
            <a:ahLst/>
            <a:rect l="l" t="t" r="r" b="b"/>
            <a:pathLst>
              <a:path w="24" h="25">
                <a:moveTo>
                  <a:pt x="8" y="0"/>
                </a:move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8"/>
                </a:lnTo>
                <a:lnTo>
                  <a:pt x="0" y="8"/>
                </a:lnTo>
                <a:lnTo>
                  <a:pt x="0" y="8"/>
                </a:lnTo>
                <a:lnTo>
                  <a:pt x="0" y="8"/>
                </a:lnTo>
                <a:lnTo>
                  <a:pt x="0" y="8"/>
                </a:lnTo>
                <a:lnTo>
                  <a:pt x="0" y="8"/>
                </a:lnTo>
                <a:lnTo>
                  <a:pt x="0" y="8"/>
                </a:lnTo>
                <a:lnTo>
                  <a:pt x="0" y="8"/>
                </a:lnTo>
                <a:lnTo>
                  <a:pt x="0" y="17"/>
                </a:lnTo>
                <a:lnTo>
                  <a:pt x="0" y="17"/>
                </a:lnTo>
                <a:lnTo>
                  <a:pt x="0" y="17"/>
                </a:lnTo>
                <a:lnTo>
                  <a:pt x="0" y="17"/>
                </a:lnTo>
                <a:lnTo>
                  <a:pt x="0" y="17"/>
                </a:lnTo>
                <a:lnTo>
                  <a:pt x="0" y="17"/>
                </a:lnTo>
                <a:lnTo>
                  <a:pt x="0" y="25"/>
                </a:lnTo>
                <a:lnTo>
                  <a:pt x="0" y="25"/>
                </a:lnTo>
                <a:lnTo>
                  <a:pt x="8" y="25"/>
                </a:lnTo>
                <a:lnTo>
                  <a:pt x="8" y="25"/>
                </a:lnTo>
                <a:lnTo>
                  <a:pt x="8" y="25"/>
                </a:lnTo>
                <a:lnTo>
                  <a:pt x="8" y="25"/>
                </a:lnTo>
                <a:lnTo>
                  <a:pt x="8" y="25"/>
                </a:lnTo>
                <a:lnTo>
                  <a:pt x="8" y="25"/>
                </a:lnTo>
                <a:lnTo>
                  <a:pt x="8" y="25"/>
                </a:lnTo>
                <a:lnTo>
                  <a:pt x="8" y="25"/>
                </a:lnTo>
                <a:lnTo>
                  <a:pt x="8" y="25"/>
                </a:lnTo>
                <a:lnTo>
                  <a:pt x="8" y="25"/>
                </a:lnTo>
                <a:lnTo>
                  <a:pt x="16" y="25"/>
                </a:lnTo>
                <a:lnTo>
                  <a:pt x="16" y="25"/>
                </a:lnTo>
                <a:lnTo>
                  <a:pt x="16" y="25"/>
                </a:lnTo>
                <a:lnTo>
                  <a:pt x="16" y="25"/>
                </a:lnTo>
                <a:lnTo>
                  <a:pt x="16" y="25"/>
                </a:lnTo>
                <a:lnTo>
                  <a:pt x="16" y="17"/>
                </a:lnTo>
                <a:lnTo>
                  <a:pt x="16" y="17"/>
                </a:lnTo>
                <a:lnTo>
                  <a:pt x="16" y="17"/>
                </a:lnTo>
                <a:lnTo>
                  <a:pt x="16" y="17"/>
                </a:lnTo>
                <a:lnTo>
                  <a:pt x="24" y="17"/>
                </a:lnTo>
                <a:lnTo>
                  <a:pt x="24" y="17"/>
                </a:lnTo>
                <a:lnTo>
                  <a:pt x="24" y="8"/>
                </a:lnTo>
                <a:lnTo>
                  <a:pt x="24" y="8"/>
                </a:lnTo>
                <a:lnTo>
                  <a:pt x="24" y="8"/>
                </a:lnTo>
                <a:lnTo>
                  <a:pt x="24" y="8"/>
                </a:lnTo>
                <a:lnTo>
                  <a:pt x="24" y="8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8" y="0"/>
                </a:lnTo>
                <a:lnTo>
                  <a:pt x="8" y="0"/>
                </a:lnTo>
                <a:close/>
              </a:path>
            </a:pathLst>
          </a:custGeom>
          <a:solidFill>
            <a:srgbClr val="0000ff"/>
          </a:solidFill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9" name=""/>
          <p:cNvSpPr/>
          <p:nvPr/>
        </p:nvSpPr>
        <p:spPr>
          <a:xfrm>
            <a:off x="2079720" y="5234040"/>
            <a:ext cx="38160" cy="39600"/>
          </a:xfrm>
          <a:custGeom>
            <a:avLst/>
            <a:gdLst/>
            <a:ahLst/>
            <a:rect l="l" t="t" r="r" b="b"/>
            <a:pathLst>
              <a:path w="24" h="25">
                <a:moveTo>
                  <a:pt x="8" y="0"/>
                </a:move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8"/>
                </a:lnTo>
                <a:lnTo>
                  <a:pt x="0" y="8"/>
                </a:lnTo>
                <a:lnTo>
                  <a:pt x="0" y="8"/>
                </a:lnTo>
                <a:lnTo>
                  <a:pt x="0" y="8"/>
                </a:lnTo>
                <a:lnTo>
                  <a:pt x="0" y="8"/>
                </a:lnTo>
                <a:lnTo>
                  <a:pt x="0" y="8"/>
                </a:lnTo>
                <a:lnTo>
                  <a:pt x="0" y="8"/>
                </a:lnTo>
                <a:lnTo>
                  <a:pt x="0" y="8"/>
                </a:lnTo>
                <a:lnTo>
                  <a:pt x="0" y="8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25"/>
                </a:lnTo>
                <a:lnTo>
                  <a:pt x="8" y="25"/>
                </a:lnTo>
                <a:lnTo>
                  <a:pt x="8" y="25"/>
                </a:lnTo>
                <a:lnTo>
                  <a:pt x="8" y="25"/>
                </a:lnTo>
                <a:lnTo>
                  <a:pt x="8" y="25"/>
                </a:lnTo>
                <a:lnTo>
                  <a:pt x="8" y="25"/>
                </a:lnTo>
                <a:lnTo>
                  <a:pt x="8" y="25"/>
                </a:lnTo>
                <a:lnTo>
                  <a:pt x="8" y="25"/>
                </a:lnTo>
                <a:lnTo>
                  <a:pt x="8" y="25"/>
                </a:lnTo>
                <a:lnTo>
                  <a:pt x="8" y="25"/>
                </a:lnTo>
                <a:lnTo>
                  <a:pt x="8" y="25"/>
                </a:lnTo>
                <a:lnTo>
                  <a:pt x="16" y="25"/>
                </a:lnTo>
                <a:lnTo>
                  <a:pt x="16" y="25"/>
                </a:lnTo>
                <a:lnTo>
                  <a:pt x="16" y="25"/>
                </a:lnTo>
                <a:lnTo>
                  <a:pt x="16" y="25"/>
                </a:lnTo>
                <a:lnTo>
                  <a:pt x="16" y="25"/>
                </a:lnTo>
                <a:lnTo>
                  <a:pt x="16" y="25"/>
                </a:lnTo>
                <a:lnTo>
                  <a:pt x="16" y="16"/>
                </a:lnTo>
                <a:lnTo>
                  <a:pt x="16" y="16"/>
                </a:lnTo>
                <a:lnTo>
                  <a:pt x="16" y="16"/>
                </a:lnTo>
                <a:lnTo>
                  <a:pt x="24" y="16"/>
                </a:lnTo>
                <a:lnTo>
                  <a:pt x="24" y="16"/>
                </a:lnTo>
                <a:lnTo>
                  <a:pt x="24" y="16"/>
                </a:lnTo>
                <a:lnTo>
                  <a:pt x="24" y="8"/>
                </a:lnTo>
                <a:lnTo>
                  <a:pt x="24" y="8"/>
                </a:lnTo>
                <a:lnTo>
                  <a:pt x="24" y="8"/>
                </a:lnTo>
                <a:lnTo>
                  <a:pt x="24" y="8"/>
                </a:lnTo>
                <a:lnTo>
                  <a:pt x="24" y="8"/>
                </a:lnTo>
                <a:lnTo>
                  <a:pt x="24" y="0"/>
                </a:lnTo>
                <a:lnTo>
                  <a:pt x="24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8" y="0"/>
                </a:lnTo>
                <a:lnTo>
                  <a:pt x="8" y="0"/>
                </a:lnTo>
                <a:close/>
              </a:path>
            </a:pathLst>
          </a:custGeom>
          <a:solidFill>
            <a:srgbClr val="0000ff"/>
          </a:solidFill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0" name=""/>
          <p:cNvSpPr/>
          <p:nvPr/>
        </p:nvSpPr>
        <p:spPr>
          <a:xfrm>
            <a:off x="2117880" y="5221440"/>
            <a:ext cx="52200" cy="37800"/>
          </a:xfrm>
          <a:custGeom>
            <a:avLst/>
            <a:gdLst/>
            <a:ahLst/>
            <a:rect l="l" t="t" r="r" b="b"/>
            <a:pathLst>
              <a:path w="33" h="24">
                <a:moveTo>
                  <a:pt x="16" y="0"/>
                </a:moveTo>
                <a:lnTo>
                  <a:pt x="16" y="0"/>
                </a:lnTo>
                <a:lnTo>
                  <a:pt x="16" y="0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0" y="8"/>
                </a:lnTo>
                <a:lnTo>
                  <a:pt x="0" y="8"/>
                </a:lnTo>
                <a:lnTo>
                  <a:pt x="0" y="8"/>
                </a:lnTo>
                <a:lnTo>
                  <a:pt x="0" y="8"/>
                </a:lnTo>
                <a:lnTo>
                  <a:pt x="0" y="8"/>
                </a:lnTo>
                <a:lnTo>
                  <a:pt x="0" y="16"/>
                </a:lnTo>
                <a:lnTo>
                  <a:pt x="0" y="16"/>
                </a:lnTo>
                <a:lnTo>
                  <a:pt x="8" y="16"/>
                </a:lnTo>
                <a:lnTo>
                  <a:pt x="8" y="16"/>
                </a:lnTo>
                <a:lnTo>
                  <a:pt x="8" y="16"/>
                </a:lnTo>
                <a:lnTo>
                  <a:pt x="8" y="16"/>
                </a:lnTo>
                <a:lnTo>
                  <a:pt x="8" y="24"/>
                </a:lnTo>
                <a:lnTo>
                  <a:pt x="8" y="24"/>
                </a:lnTo>
                <a:lnTo>
                  <a:pt x="8" y="24"/>
                </a:lnTo>
                <a:lnTo>
                  <a:pt x="8" y="24"/>
                </a:lnTo>
                <a:lnTo>
                  <a:pt x="8" y="24"/>
                </a:lnTo>
                <a:lnTo>
                  <a:pt x="16" y="24"/>
                </a:lnTo>
                <a:lnTo>
                  <a:pt x="16" y="24"/>
                </a:lnTo>
                <a:lnTo>
                  <a:pt x="16" y="24"/>
                </a:lnTo>
                <a:lnTo>
                  <a:pt x="16" y="24"/>
                </a:lnTo>
                <a:lnTo>
                  <a:pt x="16" y="24"/>
                </a:lnTo>
                <a:lnTo>
                  <a:pt x="16" y="24"/>
                </a:lnTo>
                <a:lnTo>
                  <a:pt x="16" y="24"/>
                </a:lnTo>
                <a:lnTo>
                  <a:pt x="16" y="24"/>
                </a:lnTo>
                <a:lnTo>
                  <a:pt x="16" y="24"/>
                </a:lnTo>
                <a:lnTo>
                  <a:pt x="16" y="24"/>
                </a:lnTo>
                <a:lnTo>
                  <a:pt x="24" y="24"/>
                </a:lnTo>
                <a:lnTo>
                  <a:pt x="24" y="24"/>
                </a:lnTo>
                <a:lnTo>
                  <a:pt x="24" y="24"/>
                </a:lnTo>
                <a:lnTo>
                  <a:pt x="24" y="24"/>
                </a:lnTo>
                <a:lnTo>
                  <a:pt x="24" y="16"/>
                </a:lnTo>
                <a:lnTo>
                  <a:pt x="24" y="16"/>
                </a:lnTo>
                <a:lnTo>
                  <a:pt x="24" y="16"/>
                </a:lnTo>
                <a:lnTo>
                  <a:pt x="24" y="16"/>
                </a:lnTo>
                <a:lnTo>
                  <a:pt x="33" y="16"/>
                </a:lnTo>
                <a:lnTo>
                  <a:pt x="33" y="16"/>
                </a:lnTo>
                <a:lnTo>
                  <a:pt x="33" y="8"/>
                </a:lnTo>
                <a:lnTo>
                  <a:pt x="33" y="8"/>
                </a:lnTo>
                <a:lnTo>
                  <a:pt x="33" y="8"/>
                </a:lnTo>
                <a:lnTo>
                  <a:pt x="24" y="8"/>
                </a:lnTo>
                <a:lnTo>
                  <a:pt x="24" y="8"/>
                </a:lnTo>
                <a:lnTo>
                  <a:pt x="24" y="8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close/>
              </a:path>
            </a:pathLst>
          </a:custGeom>
          <a:solidFill>
            <a:srgbClr val="0000ff"/>
          </a:solidFill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1" name=""/>
          <p:cNvSpPr/>
          <p:nvPr/>
        </p:nvSpPr>
        <p:spPr>
          <a:xfrm>
            <a:off x="2170080" y="5208480"/>
            <a:ext cx="38160" cy="38160"/>
          </a:xfrm>
          <a:custGeom>
            <a:avLst/>
            <a:gdLst/>
            <a:ahLst/>
            <a:rect l="l" t="t" r="r" b="b"/>
            <a:pathLst>
              <a:path w="24" h="24">
                <a:moveTo>
                  <a:pt x="16" y="0"/>
                </a:moveTo>
                <a:lnTo>
                  <a:pt x="16" y="0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0" y="8"/>
                </a:lnTo>
                <a:lnTo>
                  <a:pt x="0" y="8"/>
                </a:lnTo>
                <a:lnTo>
                  <a:pt x="0" y="8"/>
                </a:lnTo>
                <a:lnTo>
                  <a:pt x="0" y="8"/>
                </a:lnTo>
                <a:lnTo>
                  <a:pt x="0" y="8"/>
                </a:lnTo>
                <a:lnTo>
                  <a:pt x="0" y="8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8" y="16"/>
                </a:lnTo>
                <a:lnTo>
                  <a:pt x="8" y="24"/>
                </a:lnTo>
                <a:lnTo>
                  <a:pt x="8" y="24"/>
                </a:lnTo>
                <a:lnTo>
                  <a:pt x="8" y="24"/>
                </a:lnTo>
                <a:lnTo>
                  <a:pt x="8" y="24"/>
                </a:lnTo>
                <a:lnTo>
                  <a:pt x="8" y="24"/>
                </a:lnTo>
                <a:lnTo>
                  <a:pt x="8" y="24"/>
                </a:lnTo>
                <a:lnTo>
                  <a:pt x="8" y="24"/>
                </a:lnTo>
                <a:lnTo>
                  <a:pt x="8" y="24"/>
                </a:lnTo>
                <a:lnTo>
                  <a:pt x="16" y="24"/>
                </a:lnTo>
                <a:lnTo>
                  <a:pt x="16" y="24"/>
                </a:lnTo>
                <a:lnTo>
                  <a:pt x="16" y="24"/>
                </a:lnTo>
                <a:lnTo>
                  <a:pt x="16" y="24"/>
                </a:lnTo>
                <a:lnTo>
                  <a:pt x="16" y="24"/>
                </a:lnTo>
                <a:lnTo>
                  <a:pt x="16" y="24"/>
                </a:lnTo>
                <a:lnTo>
                  <a:pt x="16" y="24"/>
                </a:lnTo>
                <a:lnTo>
                  <a:pt x="16" y="24"/>
                </a:lnTo>
                <a:lnTo>
                  <a:pt x="16" y="24"/>
                </a:lnTo>
                <a:lnTo>
                  <a:pt x="16" y="24"/>
                </a:lnTo>
                <a:lnTo>
                  <a:pt x="24" y="24"/>
                </a:lnTo>
                <a:lnTo>
                  <a:pt x="24" y="24"/>
                </a:lnTo>
                <a:lnTo>
                  <a:pt x="24" y="24"/>
                </a:lnTo>
                <a:lnTo>
                  <a:pt x="24" y="24"/>
                </a:lnTo>
                <a:lnTo>
                  <a:pt x="24" y="24"/>
                </a:lnTo>
                <a:lnTo>
                  <a:pt x="24" y="16"/>
                </a:lnTo>
                <a:lnTo>
                  <a:pt x="24" y="16"/>
                </a:lnTo>
                <a:lnTo>
                  <a:pt x="24" y="16"/>
                </a:lnTo>
                <a:lnTo>
                  <a:pt x="24" y="16"/>
                </a:lnTo>
                <a:lnTo>
                  <a:pt x="24" y="16"/>
                </a:lnTo>
                <a:lnTo>
                  <a:pt x="24" y="8"/>
                </a:lnTo>
                <a:lnTo>
                  <a:pt x="24" y="8"/>
                </a:lnTo>
                <a:lnTo>
                  <a:pt x="24" y="8"/>
                </a:lnTo>
                <a:lnTo>
                  <a:pt x="24" y="8"/>
                </a:lnTo>
                <a:lnTo>
                  <a:pt x="24" y="8"/>
                </a:lnTo>
                <a:lnTo>
                  <a:pt x="24" y="8"/>
                </a:lnTo>
                <a:lnTo>
                  <a:pt x="24" y="8"/>
                </a:lnTo>
                <a:lnTo>
                  <a:pt x="24" y="8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close/>
              </a:path>
            </a:pathLst>
          </a:custGeom>
          <a:solidFill>
            <a:srgbClr val="0000ff"/>
          </a:solidFill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2" name=""/>
          <p:cNvSpPr/>
          <p:nvPr/>
        </p:nvSpPr>
        <p:spPr>
          <a:xfrm>
            <a:off x="2220840" y="5195880"/>
            <a:ext cx="38160" cy="38160"/>
          </a:xfrm>
          <a:custGeom>
            <a:avLst/>
            <a:gdLst/>
            <a:ahLst/>
            <a:rect l="l" t="t" r="r" b="b"/>
            <a:pathLst>
              <a:path w="24" h="24">
                <a:moveTo>
                  <a:pt x="8" y="0"/>
                </a:move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0" y="0"/>
                </a:lnTo>
                <a:lnTo>
                  <a:pt x="0" y="8"/>
                </a:lnTo>
                <a:lnTo>
                  <a:pt x="0" y="8"/>
                </a:lnTo>
                <a:lnTo>
                  <a:pt x="0" y="8"/>
                </a:lnTo>
                <a:lnTo>
                  <a:pt x="0" y="8"/>
                </a:lnTo>
                <a:lnTo>
                  <a:pt x="0" y="8"/>
                </a:lnTo>
                <a:lnTo>
                  <a:pt x="0" y="8"/>
                </a:lnTo>
                <a:lnTo>
                  <a:pt x="0" y="8"/>
                </a:lnTo>
                <a:lnTo>
                  <a:pt x="0" y="8"/>
                </a:lnTo>
                <a:lnTo>
                  <a:pt x="0" y="8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24"/>
                </a:lnTo>
                <a:lnTo>
                  <a:pt x="0" y="24"/>
                </a:lnTo>
                <a:lnTo>
                  <a:pt x="8" y="24"/>
                </a:lnTo>
                <a:lnTo>
                  <a:pt x="8" y="24"/>
                </a:lnTo>
                <a:lnTo>
                  <a:pt x="8" y="24"/>
                </a:lnTo>
                <a:lnTo>
                  <a:pt x="8" y="24"/>
                </a:lnTo>
                <a:lnTo>
                  <a:pt x="8" y="24"/>
                </a:lnTo>
                <a:lnTo>
                  <a:pt x="8" y="24"/>
                </a:lnTo>
                <a:lnTo>
                  <a:pt x="8" y="24"/>
                </a:lnTo>
                <a:lnTo>
                  <a:pt x="8" y="24"/>
                </a:lnTo>
                <a:lnTo>
                  <a:pt x="8" y="24"/>
                </a:lnTo>
                <a:lnTo>
                  <a:pt x="8" y="24"/>
                </a:lnTo>
                <a:lnTo>
                  <a:pt x="16" y="24"/>
                </a:lnTo>
                <a:lnTo>
                  <a:pt x="16" y="24"/>
                </a:lnTo>
                <a:lnTo>
                  <a:pt x="16" y="24"/>
                </a:lnTo>
                <a:lnTo>
                  <a:pt x="16" y="24"/>
                </a:lnTo>
                <a:lnTo>
                  <a:pt x="16" y="24"/>
                </a:lnTo>
                <a:lnTo>
                  <a:pt x="16" y="24"/>
                </a:lnTo>
                <a:lnTo>
                  <a:pt x="16" y="24"/>
                </a:lnTo>
                <a:lnTo>
                  <a:pt x="16" y="24"/>
                </a:lnTo>
                <a:lnTo>
                  <a:pt x="16" y="24"/>
                </a:lnTo>
                <a:lnTo>
                  <a:pt x="24" y="24"/>
                </a:lnTo>
                <a:lnTo>
                  <a:pt x="24" y="24"/>
                </a:lnTo>
                <a:lnTo>
                  <a:pt x="24" y="16"/>
                </a:lnTo>
                <a:lnTo>
                  <a:pt x="24" y="16"/>
                </a:lnTo>
                <a:lnTo>
                  <a:pt x="24" y="16"/>
                </a:lnTo>
                <a:lnTo>
                  <a:pt x="24" y="16"/>
                </a:lnTo>
                <a:lnTo>
                  <a:pt x="24" y="16"/>
                </a:lnTo>
                <a:lnTo>
                  <a:pt x="24" y="8"/>
                </a:lnTo>
                <a:lnTo>
                  <a:pt x="24" y="8"/>
                </a:lnTo>
                <a:lnTo>
                  <a:pt x="24" y="8"/>
                </a:lnTo>
                <a:lnTo>
                  <a:pt x="24" y="8"/>
                </a:lnTo>
                <a:lnTo>
                  <a:pt x="24" y="8"/>
                </a:lnTo>
                <a:lnTo>
                  <a:pt x="24" y="8"/>
                </a:lnTo>
                <a:lnTo>
                  <a:pt x="24" y="8"/>
                </a:lnTo>
                <a:lnTo>
                  <a:pt x="24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8" y="0"/>
                </a:lnTo>
                <a:close/>
              </a:path>
            </a:pathLst>
          </a:custGeom>
          <a:solidFill>
            <a:srgbClr val="0000ff"/>
          </a:solidFill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3" name=""/>
          <p:cNvSpPr/>
          <p:nvPr/>
        </p:nvSpPr>
        <p:spPr>
          <a:xfrm>
            <a:off x="2284200" y="5043600"/>
            <a:ext cx="77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ff"/>
                </a:solidFill>
                <a:latin typeface="Arial"/>
              </a:rPr>
              <a:t>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4" name=""/>
          <p:cNvSpPr/>
          <p:nvPr/>
        </p:nvSpPr>
        <p:spPr>
          <a:xfrm>
            <a:off x="1670040" y="5210280"/>
            <a:ext cx="98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ff"/>
                </a:solidFill>
                <a:latin typeface="Arial"/>
              </a:rPr>
              <a:t>B'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5" name=""/>
          <p:cNvSpPr/>
          <p:nvPr/>
        </p:nvSpPr>
        <p:spPr>
          <a:xfrm flipV="1">
            <a:off x="1927080" y="5489280"/>
            <a:ext cx="51120" cy="126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6" name=""/>
          <p:cNvSpPr/>
          <p:nvPr/>
        </p:nvSpPr>
        <p:spPr>
          <a:xfrm flipV="1">
            <a:off x="2028960" y="5464080"/>
            <a:ext cx="50760" cy="1296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7" name=""/>
          <p:cNvSpPr/>
          <p:nvPr/>
        </p:nvSpPr>
        <p:spPr>
          <a:xfrm flipV="1">
            <a:off x="2130480" y="5438520"/>
            <a:ext cx="52200" cy="126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8" name=""/>
          <p:cNvSpPr/>
          <p:nvPr/>
        </p:nvSpPr>
        <p:spPr>
          <a:xfrm flipV="1">
            <a:off x="2233440" y="5412960"/>
            <a:ext cx="38160" cy="126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9" name=""/>
          <p:cNvSpPr/>
          <p:nvPr/>
        </p:nvSpPr>
        <p:spPr>
          <a:xfrm flipV="1">
            <a:off x="1913040" y="5578200"/>
            <a:ext cx="345960" cy="9036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0" name=""/>
          <p:cNvSpPr/>
          <p:nvPr/>
        </p:nvSpPr>
        <p:spPr>
          <a:xfrm>
            <a:off x="2440440" y="5119560"/>
            <a:ext cx="872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erfil de Resistividad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1" name=""/>
          <p:cNvSpPr/>
          <p:nvPr/>
        </p:nvSpPr>
        <p:spPr>
          <a:xfrm>
            <a:off x="2442600" y="522288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t-BR" sz="700" spc="-1" strike="noStrike">
                <a:solidFill>
                  <a:srgbClr val="000000"/>
                </a:solidFill>
                <a:latin typeface="Arial"/>
              </a:rPr>
              <a:t>(AB200/MN20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2" name=""/>
          <p:cNvSpPr/>
          <p:nvPr/>
        </p:nvSpPr>
        <p:spPr>
          <a:xfrm>
            <a:off x="2455560" y="5400720"/>
            <a:ext cx="659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Estrada de Terr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3" name=""/>
          <p:cNvSpPr/>
          <p:nvPr/>
        </p:nvSpPr>
        <p:spPr>
          <a:xfrm>
            <a:off x="2441160" y="5580000"/>
            <a:ext cx="695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Estrada Asfaltad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4" name=""/>
          <p:cNvSpPr/>
          <p:nvPr/>
        </p:nvSpPr>
        <p:spPr>
          <a:xfrm>
            <a:off x="1722600" y="1600200"/>
            <a:ext cx="574560" cy="573120"/>
          </a:xfrm>
          <a:prstGeom prst="ellipse">
            <a:avLst/>
          </a:pr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5" name=""/>
          <p:cNvSpPr/>
          <p:nvPr/>
        </p:nvSpPr>
        <p:spPr>
          <a:xfrm>
            <a:off x="1926360" y="1727280"/>
            <a:ext cx="163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6" name=""/>
          <p:cNvSpPr/>
          <p:nvPr/>
        </p:nvSpPr>
        <p:spPr>
          <a:xfrm>
            <a:off x="3205080" y="6396120"/>
            <a:ext cx="30564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AB200/MN20        Passo = 200 metr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500"/>
                            </p:stCondLst>
                            <p:childTnLst>
                              <p:par>
                                <p:cTn id="29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2500"/>
                            </p:stCondLst>
                            <p:childTnLst>
                              <p:par>
                                <p:cTn id="34" nodeType="afterEffect" fill="hold" presetClass="entr" presetID="2" presetSubtype="1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3500"/>
                            </p:stCondLst>
                            <p:childTnLst>
                              <p:par>
                                <p:cTn id="39" nodeType="afterEffect" fill="hold" presetClass="entr" presetID="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4500"/>
                            </p:stCondLst>
                            <p:childTnLst>
                              <p:par>
                                <p:cTn id="4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2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000"/>
                            </p:stCondLst>
                            <p:childTnLst>
                              <p:par>
                                <p:cTn id="4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500"/>
                            </p:stCondLst>
                            <p:childTnLst>
                              <p:par>
                                <p:cTn id="5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6000"/>
                            </p:stCondLst>
                            <p:childTnLst>
                              <p:par>
                                <p:cTn id="5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2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2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6500"/>
                            </p:stCondLst>
                            <p:childTnLst>
                              <p:par>
                                <p:cTn id="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2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7000"/>
                            </p:stCondLst>
                            <p:childTnLst>
                              <p:par>
                                <p:cTn id="6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2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2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7500"/>
                            </p:stCondLst>
                            <p:childTnLst>
                              <p:par>
                                <p:cTn id="7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2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2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8000"/>
                            </p:stCondLst>
                            <p:childTnLst>
                              <p:par>
                                <p:cTn id="7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2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8500"/>
                            </p:stCondLst>
                            <p:childTnLst>
                              <p:par>
                                <p:cTn id="8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9000"/>
                            </p:stCondLst>
                            <p:childTnLst>
                              <p:par>
                                <p:cTn id="8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9500"/>
                            </p:stCondLst>
                            <p:childTnLst>
                              <p:par>
                                <p:cTn id="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2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2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0000"/>
                            </p:stCondLst>
                            <p:childTnLst>
                              <p:par>
                                <p:cTn id="9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2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2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0500"/>
                            </p:stCondLst>
                            <p:childTnLst>
                              <p:par>
                                <p:cTn id="10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2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1000"/>
                            </p:stCondLst>
                            <p:childTnLst>
                              <p:par>
                                <p:cTn id="10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2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11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2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2000"/>
                            </p:stCondLst>
                            <p:childTnLst>
                              <p:par>
                                <p:cTn id="11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2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2500"/>
                            </p:stCondLst>
                            <p:childTnLst>
                              <p:par>
                                <p:cTn id="12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2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2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3000"/>
                            </p:stCondLst>
                            <p:childTnLst>
                              <p:par>
                                <p:cTn id="12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2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2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3500"/>
                            </p:stCondLst>
                            <p:childTnLst>
                              <p:par>
                                <p:cTn id="13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2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4000"/>
                            </p:stCondLst>
                            <p:childTnLst>
                              <p:par>
                                <p:cTn id="13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2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2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14500"/>
                            </p:stCondLst>
                            <p:childTnLst>
                              <p:par>
                                <p:cTn id="14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15000"/>
                            </p:stCondLst>
                            <p:childTnLst>
                              <p:par>
                                <p:cTn id="14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2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15500"/>
                            </p:stCondLst>
                            <p:childTnLst>
                              <p:par>
                                <p:cTn id="15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16000"/>
                            </p:stCondLst>
                            <p:childTnLst>
                              <p:par>
                                <p:cTn id="15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2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65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7000"/>
                            </p:stCondLst>
                            <p:childTnLst>
                              <p:par>
                                <p:cTn id="16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7500"/>
                            </p:stCondLst>
                            <p:childTnLst>
                              <p:par>
                                <p:cTn id="17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2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8000"/>
                            </p:stCondLst>
                            <p:childTnLst>
                              <p:par>
                                <p:cTn id="17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2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2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18500"/>
                            </p:stCondLst>
                            <p:childTnLst>
                              <p:par>
                                <p:cTn id="18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2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19000"/>
                            </p:stCondLst>
                            <p:childTnLst>
                              <p:par>
                                <p:cTn id="18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2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9500"/>
                            </p:stCondLst>
                            <p:childTnLst>
                              <p:par>
                                <p:cTn id="1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20000"/>
                            </p:stCondLst>
                            <p:childTnLst>
                              <p:par>
                                <p:cTn id="19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2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20500"/>
                            </p:stCondLst>
                            <p:childTnLst>
                              <p:par>
                                <p:cTn id="20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2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2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21000"/>
                            </p:stCondLst>
                            <p:childTnLst>
                              <p:par>
                                <p:cTn id="20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2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2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7" name="PlaceHolder 1"/>
          <p:cNvSpPr>
            <a:spLocks noGrp="1"/>
          </p:cNvSpPr>
          <p:nvPr>
            <p:ph type="title"/>
          </p:nvPr>
        </p:nvSpPr>
        <p:spPr>
          <a:xfrm>
            <a:off x="1547640" y="259920"/>
            <a:ext cx="779328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99"/>
                </a:solidFill>
                <a:latin typeface="Tahoma"/>
              </a:rPr>
              <a:t>BARAUNAS – RN</a:t>
            </a:r>
            <a:br>
              <a:rPr sz="2400"/>
            </a:br>
            <a:r>
              <a:rPr b="0" lang="pt-BR" sz="2400" spc="-1" strike="noStrike">
                <a:solidFill>
                  <a:srgbClr val="333399"/>
                </a:solidFill>
                <a:latin typeface="Tahoma"/>
              </a:rPr>
              <a:t>Aquífero Jandaíra – Mapa de Resistividades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178" name="" descr=""/>
          <p:cNvPicPr/>
          <p:nvPr/>
        </p:nvPicPr>
        <p:blipFill>
          <a:blip r:embed="rId1"/>
          <a:stretch/>
        </p:blipFill>
        <p:spPr>
          <a:xfrm>
            <a:off x="611280" y="1268280"/>
            <a:ext cx="7993080" cy="497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79" name=""/>
          <p:cNvGrpSpPr/>
          <p:nvPr/>
        </p:nvGrpSpPr>
        <p:grpSpPr>
          <a:xfrm>
            <a:off x="1258920" y="4602240"/>
            <a:ext cx="7203960" cy="760320"/>
            <a:chOff x="1258920" y="4602240"/>
            <a:chExt cx="7203960" cy="760320"/>
          </a:xfrm>
        </p:grpSpPr>
        <p:grpSp>
          <p:nvGrpSpPr>
            <p:cNvPr id="2180" name=""/>
            <p:cNvGrpSpPr/>
            <p:nvPr/>
          </p:nvGrpSpPr>
          <p:grpSpPr>
            <a:xfrm>
              <a:off x="1258920" y="4602240"/>
              <a:ext cx="7203960" cy="760320"/>
              <a:chOff x="1258920" y="4602240"/>
              <a:chExt cx="7203960" cy="760320"/>
            </a:xfrm>
          </p:grpSpPr>
          <p:sp>
            <p:nvSpPr>
              <p:cNvPr id="2181" name=""/>
              <p:cNvSpPr/>
              <p:nvPr/>
            </p:nvSpPr>
            <p:spPr>
              <a:xfrm>
                <a:off x="1258920" y="4602240"/>
                <a:ext cx="3960720" cy="716040"/>
              </a:xfrm>
              <a:custGeom>
                <a:avLst/>
                <a:gdLst/>
                <a:ahLst/>
                <a:rect l="l" t="t" r="r" b="b"/>
                <a:pathLst>
                  <a:path w="2495" h="451">
                    <a:moveTo>
                      <a:pt x="0" y="0"/>
                    </a:moveTo>
                    <a:lnTo>
                      <a:pt x="122" y="0"/>
                    </a:lnTo>
                    <a:lnTo>
                      <a:pt x="251" y="0"/>
                    </a:lnTo>
                    <a:lnTo>
                      <a:pt x="384" y="0"/>
                    </a:lnTo>
                    <a:lnTo>
                      <a:pt x="479" y="6"/>
                    </a:lnTo>
                    <a:lnTo>
                      <a:pt x="585" y="23"/>
                    </a:lnTo>
                    <a:lnTo>
                      <a:pt x="702" y="39"/>
                    </a:lnTo>
                    <a:lnTo>
                      <a:pt x="897" y="45"/>
                    </a:lnTo>
                    <a:lnTo>
                      <a:pt x="1142" y="56"/>
                    </a:lnTo>
                    <a:lnTo>
                      <a:pt x="1381" y="45"/>
                    </a:lnTo>
                    <a:lnTo>
                      <a:pt x="1331" y="56"/>
                    </a:lnTo>
                    <a:lnTo>
                      <a:pt x="1142" y="84"/>
                    </a:lnTo>
                    <a:lnTo>
                      <a:pt x="1197" y="89"/>
                    </a:lnTo>
                    <a:lnTo>
                      <a:pt x="1476" y="89"/>
                    </a:lnTo>
                    <a:lnTo>
                      <a:pt x="1609" y="95"/>
                    </a:lnTo>
                    <a:lnTo>
                      <a:pt x="2127" y="101"/>
                    </a:lnTo>
                    <a:lnTo>
                      <a:pt x="2233" y="101"/>
                    </a:lnTo>
                    <a:lnTo>
                      <a:pt x="2445" y="101"/>
                    </a:lnTo>
                    <a:lnTo>
                      <a:pt x="2255" y="117"/>
                    </a:lnTo>
                    <a:lnTo>
                      <a:pt x="1977" y="117"/>
                    </a:lnTo>
                    <a:lnTo>
                      <a:pt x="1743" y="117"/>
                    </a:lnTo>
                    <a:lnTo>
                      <a:pt x="1609" y="123"/>
                    </a:lnTo>
                    <a:lnTo>
                      <a:pt x="1381" y="123"/>
                    </a:lnTo>
                    <a:lnTo>
                      <a:pt x="1403" y="167"/>
                    </a:lnTo>
                    <a:lnTo>
                      <a:pt x="1576" y="162"/>
                    </a:lnTo>
                    <a:lnTo>
                      <a:pt x="1682" y="162"/>
                    </a:lnTo>
                    <a:lnTo>
                      <a:pt x="1910" y="162"/>
                    </a:lnTo>
                    <a:lnTo>
                      <a:pt x="2044" y="167"/>
                    </a:lnTo>
                    <a:lnTo>
                      <a:pt x="2155" y="167"/>
                    </a:lnTo>
                    <a:lnTo>
                      <a:pt x="2328" y="167"/>
                    </a:lnTo>
                    <a:lnTo>
                      <a:pt x="2378" y="179"/>
                    </a:lnTo>
                    <a:lnTo>
                      <a:pt x="2333" y="190"/>
                    </a:lnTo>
                    <a:lnTo>
                      <a:pt x="2250" y="190"/>
                    </a:lnTo>
                    <a:lnTo>
                      <a:pt x="2166" y="190"/>
                    </a:lnTo>
                    <a:lnTo>
                      <a:pt x="2088" y="190"/>
                    </a:lnTo>
                    <a:lnTo>
                      <a:pt x="2027" y="190"/>
                    </a:lnTo>
                    <a:lnTo>
                      <a:pt x="1910" y="195"/>
                    </a:lnTo>
                    <a:lnTo>
                      <a:pt x="2005" y="167"/>
                    </a:lnTo>
                    <a:lnTo>
                      <a:pt x="1788" y="173"/>
                    </a:lnTo>
                    <a:lnTo>
                      <a:pt x="1665" y="173"/>
                    </a:lnTo>
                    <a:lnTo>
                      <a:pt x="1542" y="173"/>
                    </a:lnTo>
                    <a:lnTo>
                      <a:pt x="1431" y="173"/>
                    </a:lnTo>
                    <a:lnTo>
                      <a:pt x="1515" y="201"/>
                    </a:lnTo>
                    <a:lnTo>
                      <a:pt x="1270" y="218"/>
                    </a:lnTo>
                    <a:lnTo>
                      <a:pt x="1392" y="218"/>
                    </a:lnTo>
                    <a:lnTo>
                      <a:pt x="1598" y="218"/>
                    </a:lnTo>
                    <a:lnTo>
                      <a:pt x="1832" y="218"/>
                    </a:lnTo>
                    <a:lnTo>
                      <a:pt x="2021" y="223"/>
                    </a:lnTo>
                    <a:lnTo>
                      <a:pt x="2127" y="223"/>
                    </a:lnTo>
                    <a:lnTo>
                      <a:pt x="2211" y="223"/>
                    </a:lnTo>
                    <a:lnTo>
                      <a:pt x="2378" y="229"/>
                    </a:lnTo>
                    <a:lnTo>
                      <a:pt x="2495" y="229"/>
                    </a:lnTo>
                    <a:lnTo>
                      <a:pt x="2389" y="245"/>
                    </a:lnTo>
                    <a:lnTo>
                      <a:pt x="1860" y="251"/>
                    </a:lnTo>
                    <a:lnTo>
                      <a:pt x="1710" y="257"/>
                    </a:lnTo>
                    <a:lnTo>
                      <a:pt x="1671" y="257"/>
                    </a:lnTo>
                    <a:lnTo>
                      <a:pt x="1620" y="251"/>
                    </a:lnTo>
                    <a:lnTo>
                      <a:pt x="1671" y="245"/>
                    </a:lnTo>
                    <a:lnTo>
                      <a:pt x="1782" y="240"/>
                    </a:lnTo>
                    <a:lnTo>
                      <a:pt x="1921" y="229"/>
                    </a:lnTo>
                    <a:lnTo>
                      <a:pt x="1749" y="229"/>
                    </a:lnTo>
                    <a:lnTo>
                      <a:pt x="1671" y="229"/>
                    </a:lnTo>
                    <a:lnTo>
                      <a:pt x="1620" y="229"/>
                    </a:lnTo>
                    <a:lnTo>
                      <a:pt x="1548" y="229"/>
                    </a:lnTo>
                    <a:lnTo>
                      <a:pt x="1465" y="229"/>
                    </a:lnTo>
                    <a:lnTo>
                      <a:pt x="1554" y="245"/>
                    </a:lnTo>
                    <a:lnTo>
                      <a:pt x="1442" y="245"/>
                    </a:lnTo>
                    <a:lnTo>
                      <a:pt x="1370" y="251"/>
                    </a:lnTo>
                    <a:lnTo>
                      <a:pt x="1297" y="257"/>
                    </a:lnTo>
                    <a:lnTo>
                      <a:pt x="1270" y="279"/>
                    </a:lnTo>
                    <a:lnTo>
                      <a:pt x="1348" y="284"/>
                    </a:lnTo>
                    <a:lnTo>
                      <a:pt x="1459" y="296"/>
                    </a:lnTo>
                    <a:lnTo>
                      <a:pt x="1487" y="296"/>
                    </a:lnTo>
                    <a:lnTo>
                      <a:pt x="1598" y="296"/>
                    </a:lnTo>
                    <a:lnTo>
                      <a:pt x="1693" y="296"/>
                    </a:lnTo>
                    <a:lnTo>
                      <a:pt x="1771" y="296"/>
                    </a:lnTo>
                    <a:lnTo>
                      <a:pt x="1871" y="296"/>
                    </a:lnTo>
                    <a:lnTo>
                      <a:pt x="1988" y="301"/>
                    </a:lnTo>
                    <a:lnTo>
                      <a:pt x="2239" y="307"/>
                    </a:lnTo>
                    <a:lnTo>
                      <a:pt x="2317" y="323"/>
                    </a:lnTo>
                    <a:lnTo>
                      <a:pt x="2239" y="323"/>
                    </a:lnTo>
                    <a:lnTo>
                      <a:pt x="1960" y="323"/>
                    </a:lnTo>
                    <a:lnTo>
                      <a:pt x="1838" y="323"/>
                    </a:lnTo>
                    <a:lnTo>
                      <a:pt x="1932" y="374"/>
                    </a:lnTo>
                    <a:lnTo>
                      <a:pt x="1754" y="374"/>
                    </a:lnTo>
                    <a:lnTo>
                      <a:pt x="1659" y="379"/>
                    </a:lnTo>
                    <a:lnTo>
                      <a:pt x="1565" y="379"/>
                    </a:lnTo>
                    <a:lnTo>
                      <a:pt x="1504" y="379"/>
                    </a:lnTo>
                    <a:lnTo>
                      <a:pt x="1459" y="323"/>
                    </a:lnTo>
                    <a:lnTo>
                      <a:pt x="1314" y="335"/>
                    </a:lnTo>
                    <a:lnTo>
                      <a:pt x="1242" y="346"/>
                    </a:lnTo>
                    <a:lnTo>
                      <a:pt x="1431" y="368"/>
                    </a:lnTo>
                    <a:lnTo>
                      <a:pt x="1158" y="413"/>
                    </a:lnTo>
                    <a:lnTo>
                      <a:pt x="1258" y="424"/>
                    </a:lnTo>
                    <a:lnTo>
                      <a:pt x="1403" y="435"/>
                    </a:lnTo>
                    <a:lnTo>
                      <a:pt x="1531" y="435"/>
                    </a:lnTo>
                    <a:lnTo>
                      <a:pt x="1637" y="446"/>
                    </a:lnTo>
                    <a:lnTo>
                      <a:pt x="1754" y="440"/>
                    </a:lnTo>
                    <a:lnTo>
                      <a:pt x="1960" y="446"/>
                    </a:lnTo>
                    <a:lnTo>
                      <a:pt x="2066" y="451"/>
                    </a:lnTo>
                    <a:lnTo>
                      <a:pt x="1643" y="451"/>
                    </a:lnTo>
                    <a:lnTo>
                      <a:pt x="1164" y="451"/>
                    </a:lnTo>
                    <a:lnTo>
                      <a:pt x="919" y="451"/>
                    </a:lnTo>
                    <a:lnTo>
                      <a:pt x="813" y="446"/>
                    </a:lnTo>
                    <a:lnTo>
                      <a:pt x="1091" y="429"/>
                    </a:lnTo>
                    <a:lnTo>
                      <a:pt x="646" y="429"/>
                    </a:lnTo>
                    <a:lnTo>
                      <a:pt x="423" y="424"/>
                    </a:lnTo>
                    <a:lnTo>
                      <a:pt x="763" y="446"/>
                    </a:lnTo>
                    <a:lnTo>
                      <a:pt x="0" y="41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2" name=""/>
              <p:cNvSpPr/>
              <p:nvPr/>
            </p:nvSpPr>
            <p:spPr>
              <a:xfrm>
                <a:off x="4937040" y="4638600"/>
                <a:ext cx="3525840" cy="723960"/>
              </a:xfrm>
              <a:custGeom>
                <a:avLst/>
                <a:gdLst/>
                <a:ahLst/>
                <a:rect l="l" t="t" r="r" b="b"/>
                <a:pathLst>
                  <a:path w="2221" h="456">
                    <a:moveTo>
                      <a:pt x="2071" y="61"/>
                    </a:moveTo>
                    <a:lnTo>
                      <a:pt x="2121" y="128"/>
                    </a:lnTo>
                    <a:lnTo>
                      <a:pt x="2171" y="178"/>
                    </a:lnTo>
                    <a:lnTo>
                      <a:pt x="2221" y="234"/>
                    </a:lnTo>
                    <a:lnTo>
                      <a:pt x="2221" y="317"/>
                    </a:lnTo>
                    <a:lnTo>
                      <a:pt x="2121" y="373"/>
                    </a:lnTo>
                    <a:lnTo>
                      <a:pt x="2010" y="401"/>
                    </a:lnTo>
                    <a:lnTo>
                      <a:pt x="1798" y="412"/>
                    </a:lnTo>
                    <a:lnTo>
                      <a:pt x="1620" y="428"/>
                    </a:lnTo>
                    <a:lnTo>
                      <a:pt x="1358" y="440"/>
                    </a:lnTo>
                    <a:lnTo>
                      <a:pt x="1258" y="451"/>
                    </a:lnTo>
                    <a:lnTo>
                      <a:pt x="1169" y="451"/>
                    </a:lnTo>
                    <a:lnTo>
                      <a:pt x="1019" y="451"/>
                    </a:lnTo>
                    <a:lnTo>
                      <a:pt x="879" y="456"/>
                    </a:lnTo>
                    <a:lnTo>
                      <a:pt x="718" y="451"/>
                    </a:lnTo>
                    <a:lnTo>
                      <a:pt x="584" y="456"/>
                    </a:lnTo>
                    <a:lnTo>
                      <a:pt x="473" y="456"/>
                    </a:lnTo>
                    <a:lnTo>
                      <a:pt x="350" y="456"/>
                    </a:lnTo>
                    <a:lnTo>
                      <a:pt x="22" y="456"/>
                    </a:lnTo>
                    <a:lnTo>
                      <a:pt x="233" y="434"/>
                    </a:lnTo>
                    <a:lnTo>
                      <a:pt x="200" y="428"/>
                    </a:lnTo>
                    <a:lnTo>
                      <a:pt x="0" y="412"/>
                    </a:lnTo>
                    <a:lnTo>
                      <a:pt x="189" y="395"/>
                    </a:lnTo>
                    <a:lnTo>
                      <a:pt x="44" y="367"/>
                    </a:lnTo>
                    <a:lnTo>
                      <a:pt x="289" y="367"/>
                    </a:lnTo>
                    <a:lnTo>
                      <a:pt x="211" y="401"/>
                    </a:lnTo>
                    <a:lnTo>
                      <a:pt x="445" y="401"/>
                    </a:lnTo>
                    <a:lnTo>
                      <a:pt x="328" y="434"/>
                    </a:lnTo>
                    <a:lnTo>
                      <a:pt x="373" y="434"/>
                    </a:lnTo>
                    <a:lnTo>
                      <a:pt x="584" y="428"/>
                    </a:lnTo>
                    <a:lnTo>
                      <a:pt x="785" y="423"/>
                    </a:lnTo>
                    <a:lnTo>
                      <a:pt x="896" y="423"/>
                    </a:lnTo>
                    <a:lnTo>
                      <a:pt x="1091" y="417"/>
                    </a:lnTo>
                    <a:lnTo>
                      <a:pt x="1403" y="412"/>
                    </a:lnTo>
                    <a:lnTo>
                      <a:pt x="1659" y="406"/>
                    </a:lnTo>
                    <a:lnTo>
                      <a:pt x="1670" y="401"/>
                    </a:lnTo>
                    <a:lnTo>
                      <a:pt x="1236" y="395"/>
                    </a:lnTo>
                    <a:lnTo>
                      <a:pt x="1046" y="390"/>
                    </a:lnTo>
                    <a:lnTo>
                      <a:pt x="907" y="390"/>
                    </a:lnTo>
                    <a:lnTo>
                      <a:pt x="779" y="390"/>
                    </a:lnTo>
                    <a:lnTo>
                      <a:pt x="684" y="390"/>
                    </a:lnTo>
                    <a:lnTo>
                      <a:pt x="534" y="390"/>
                    </a:lnTo>
                    <a:lnTo>
                      <a:pt x="484" y="390"/>
                    </a:lnTo>
                    <a:lnTo>
                      <a:pt x="540" y="384"/>
                    </a:lnTo>
                    <a:lnTo>
                      <a:pt x="579" y="378"/>
                    </a:lnTo>
                    <a:lnTo>
                      <a:pt x="707" y="378"/>
                    </a:lnTo>
                    <a:lnTo>
                      <a:pt x="896" y="373"/>
                    </a:lnTo>
                    <a:lnTo>
                      <a:pt x="985" y="367"/>
                    </a:lnTo>
                    <a:lnTo>
                      <a:pt x="1046" y="367"/>
                    </a:lnTo>
                    <a:lnTo>
                      <a:pt x="1080" y="367"/>
                    </a:lnTo>
                    <a:lnTo>
                      <a:pt x="1102" y="362"/>
                    </a:lnTo>
                    <a:lnTo>
                      <a:pt x="829" y="362"/>
                    </a:lnTo>
                    <a:lnTo>
                      <a:pt x="707" y="356"/>
                    </a:lnTo>
                    <a:lnTo>
                      <a:pt x="590" y="362"/>
                    </a:lnTo>
                    <a:lnTo>
                      <a:pt x="462" y="362"/>
                    </a:lnTo>
                    <a:lnTo>
                      <a:pt x="612" y="356"/>
                    </a:lnTo>
                    <a:lnTo>
                      <a:pt x="813" y="351"/>
                    </a:lnTo>
                    <a:lnTo>
                      <a:pt x="913" y="345"/>
                    </a:lnTo>
                    <a:lnTo>
                      <a:pt x="1052" y="339"/>
                    </a:lnTo>
                    <a:lnTo>
                      <a:pt x="1158" y="334"/>
                    </a:lnTo>
                    <a:lnTo>
                      <a:pt x="1230" y="334"/>
                    </a:lnTo>
                    <a:lnTo>
                      <a:pt x="1325" y="328"/>
                    </a:lnTo>
                    <a:lnTo>
                      <a:pt x="1386" y="328"/>
                    </a:lnTo>
                    <a:lnTo>
                      <a:pt x="1436" y="328"/>
                    </a:lnTo>
                    <a:lnTo>
                      <a:pt x="1436" y="317"/>
                    </a:lnTo>
                    <a:lnTo>
                      <a:pt x="1002" y="317"/>
                    </a:lnTo>
                    <a:lnTo>
                      <a:pt x="785" y="317"/>
                    </a:lnTo>
                    <a:lnTo>
                      <a:pt x="356" y="317"/>
                    </a:lnTo>
                    <a:lnTo>
                      <a:pt x="540" y="312"/>
                    </a:lnTo>
                    <a:lnTo>
                      <a:pt x="723" y="306"/>
                    </a:lnTo>
                    <a:lnTo>
                      <a:pt x="863" y="306"/>
                    </a:lnTo>
                    <a:lnTo>
                      <a:pt x="1085" y="300"/>
                    </a:lnTo>
                    <a:lnTo>
                      <a:pt x="1397" y="289"/>
                    </a:lnTo>
                    <a:lnTo>
                      <a:pt x="1531" y="289"/>
                    </a:lnTo>
                    <a:lnTo>
                      <a:pt x="1687" y="284"/>
                    </a:lnTo>
                    <a:lnTo>
                      <a:pt x="1898" y="278"/>
                    </a:lnTo>
                    <a:lnTo>
                      <a:pt x="2032" y="278"/>
                    </a:lnTo>
                    <a:lnTo>
                      <a:pt x="2149" y="273"/>
                    </a:lnTo>
                    <a:lnTo>
                      <a:pt x="2194" y="267"/>
                    </a:lnTo>
                    <a:lnTo>
                      <a:pt x="2054" y="267"/>
                    </a:lnTo>
                    <a:lnTo>
                      <a:pt x="1809" y="261"/>
                    </a:lnTo>
                    <a:lnTo>
                      <a:pt x="1581" y="256"/>
                    </a:lnTo>
                    <a:lnTo>
                      <a:pt x="1163" y="256"/>
                    </a:lnTo>
                    <a:lnTo>
                      <a:pt x="1041" y="250"/>
                    </a:lnTo>
                    <a:lnTo>
                      <a:pt x="963" y="250"/>
                    </a:lnTo>
                    <a:lnTo>
                      <a:pt x="913" y="250"/>
                    </a:lnTo>
                    <a:lnTo>
                      <a:pt x="735" y="250"/>
                    </a:lnTo>
                    <a:lnTo>
                      <a:pt x="668" y="250"/>
                    </a:lnTo>
                    <a:lnTo>
                      <a:pt x="568" y="245"/>
                    </a:lnTo>
                    <a:lnTo>
                      <a:pt x="1542" y="222"/>
                    </a:lnTo>
                    <a:lnTo>
                      <a:pt x="1681" y="222"/>
                    </a:lnTo>
                    <a:lnTo>
                      <a:pt x="1798" y="217"/>
                    </a:lnTo>
                    <a:lnTo>
                      <a:pt x="2021" y="211"/>
                    </a:lnTo>
                    <a:lnTo>
                      <a:pt x="2082" y="206"/>
                    </a:lnTo>
                    <a:lnTo>
                      <a:pt x="2077" y="206"/>
                    </a:lnTo>
                    <a:lnTo>
                      <a:pt x="1681" y="206"/>
                    </a:lnTo>
                    <a:lnTo>
                      <a:pt x="1447" y="206"/>
                    </a:lnTo>
                    <a:lnTo>
                      <a:pt x="1303" y="200"/>
                    </a:lnTo>
                    <a:lnTo>
                      <a:pt x="1158" y="200"/>
                    </a:lnTo>
                    <a:lnTo>
                      <a:pt x="1019" y="200"/>
                    </a:lnTo>
                    <a:lnTo>
                      <a:pt x="941" y="200"/>
                    </a:lnTo>
                    <a:lnTo>
                      <a:pt x="885" y="200"/>
                    </a:lnTo>
                    <a:lnTo>
                      <a:pt x="640" y="200"/>
                    </a:lnTo>
                    <a:lnTo>
                      <a:pt x="835" y="189"/>
                    </a:lnTo>
                    <a:lnTo>
                      <a:pt x="896" y="189"/>
                    </a:lnTo>
                    <a:lnTo>
                      <a:pt x="1035" y="183"/>
                    </a:lnTo>
                    <a:lnTo>
                      <a:pt x="1108" y="178"/>
                    </a:lnTo>
                    <a:lnTo>
                      <a:pt x="1191" y="178"/>
                    </a:lnTo>
                    <a:lnTo>
                      <a:pt x="1275" y="172"/>
                    </a:lnTo>
                    <a:lnTo>
                      <a:pt x="1381" y="167"/>
                    </a:lnTo>
                    <a:lnTo>
                      <a:pt x="1553" y="161"/>
                    </a:lnTo>
                    <a:lnTo>
                      <a:pt x="1731" y="156"/>
                    </a:lnTo>
                    <a:lnTo>
                      <a:pt x="1982" y="144"/>
                    </a:lnTo>
                    <a:lnTo>
                      <a:pt x="1988" y="133"/>
                    </a:lnTo>
                    <a:lnTo>
                      <a:pt x="1809" y="133"/>
                    </a:lnTo>
                    <a:lnTo>
                      <a:pt x="1013" y="122"/>
                    </a:lnTo>
                    <a:lnTo>
                      <a:pt x="623" y="122"/>
                    </a:lnTo>
                    <a:lnTo>
                      <a:pt x="1124" y="94"/>
                    </a:lnTo>
                    <a:lnTo>
                      <a:pt x="1542" y="72"/>
                    </a:lnTo>
                    <a:lnTo>
                      <a:pt x="1564" y="61"/>
                    </a:lnTo>
                    <a:lnTo>
                      <a:pt x="1353" y="55"/>
                    </a:lnTo>
                    <a:lnTo>
                      <a:pt x="991" y="61"/>
                    </a:lnTo>
                    <a:lnTo>
                      <a:pt x="751" y="72"/>
                    </a:lnTo>
                    <a:lnTo>
                      <a:pt x="551" y="78"/>
                    </a:lnTo>
                    <a:lnTo>
                      <a:pt x="701" y="55"/>
                    </a:lnTo>
                    <a:lnTo>
                      <a:pt x="768" y="44"/>
                    </a:lnTo>
                    <a:lnTo>
                      <a:pt x="796" y="33"/>
                    </a:lnTo>
                    <a:lnTo>
                      <a:pt x="840" y="33"/>
                    </a:lnTo>
                    <a:lnTo>
                      <a:pt x="957" y="33"/>
                    </a:lnTo>
                    <a:lnTo>
                      <a:pt x="1113" y="27"/>
                    </a:lnTo>
                    <a:lnTo>
                      <a:pt x="1609" y="11"/>
                    </a:lnTo>
                    <a:lnTo>
                      <a:pt x="1865" y="0"/>
                    </a:lnTo>
                    <a:lnTo>
                      <a:pt x="1999" y="0"/>
                    </a:lnTo>
                    <a:lnTo>
                      <a:pt x="2071" y="61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83" name=""/>
            <p:cNvSpPr/>
            <p:nvPr/>
          </p:nvSpPr>
          <p:spPr>
            <a:xfrm>
              <a:off x="4776840" y="4805280"/>
              <a:ext cx="876240" cy="266760"/>
            </a:xfrm>
            <a:custGeom>
              <a:avLst/>
              <a:gdLst/>
              <a:ahLst/>
              <a:rect l="l" t="t" r="r" b="b"/>
              <a:pathLst>
                <a:path w="552" h="168">
                  <a:moveTo>
                    <a:pt x="34" y="0"/>
                  </a:moveTo>
                  <a:lnTo>
                    <a:pt x="501" y="0"/>
                  </a:lnTo>
                  <a:lnTo>
                    <a:pt x="351" y="12"/>
                  </a:lnTo>
                  <a:lnTo>
                    <a:pt x="552" y="28"/>
                  </a:lnTo>
                  <a:lnTo>
                    <a:pt x="362" y="39"/>
                  </a:lnTo>
                  <a:lnTo>
                    <a:pt x="529" y="56"/>
                  </a:lnTo>
                  <a:lnTo>
                    <a:pt x="385" y="62"/>
                  </a:lnTo>
                  <a:lnTo>
                    <a:pt x="507" y="78"/>
                  </a:lnTo>
                  <a:lnTo>
                    <a:pt x="401" y="78"/>
                  </a:lnTo>
                  <a:lnTo>
                    <a:pt x="501" y="101"/>
                  </a:lnTo>
                  <a:lnTo>
                    <a:pt x="396" y="106"/>
                  </a:lnTo>
                  <a:lnTo>
                    <a:pt x="474" y="117"/>
                  </a:lnTo>
                  <a:lnTo>
                    <a:pt x="323" y="123"/>
                  </a:lnTo>
                  <a:lnTo>
                    <a:pt x="396" y="140"/>
                  </a:lnTo>
                  <a:lnTo>
                    <a:pt x="234" y="145"/>
                  </a:lnTo>
                  <a:lnTo>
                    <a:pt x="334" y="168"/>
                  </a:lnTo>
                  <a:lnTo>
                    <a:pt x="212" y="168"/>
                  </a:lnTo>
                  <a:lnTo>
                    <a:pt x="78" y="162"/>
                  </a:lnTo>
                  <a:lnTo>
                    <a:pt x="323" y="84"/>
                  </a:lnTo>
                  <a:lnTo>
                    <a:pt x="112" y="84"/>
                  </a:lnTo>
                  <a:lnTo>
                    <a:pt x="290" y="62"/>
                  </a:lnTo>
                  <a:lnTo>
                    <a:pt x="0" y="62"/>
                  </a:lnTo>
                  <a:lnTo>
                    <a:pt x="284" y="45"/>
                  </a:lnTo>
                  <a:lnTo>
                    <a:pt x="234" y="39"/>
                  </a:lnTo>
                  <a:lnTo>
                    <a:pt x="0" y="39"/>
                  </a:lnTo>
                  <a:lnTo>
                    <a:pt x="95" y="23"/>
                  </a:lnTo>
                  <a:lnTo>
                    <a:pt x="290" y="17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4" name="PlaceHolder 1"/>
          <p:cNvSpPr>
            <a:spLocks noGrp="1"/>
          </p:cNvSpPr>
          <p:nvPr>
            <p:ph type="title"/>
          </p:nvPr>
        </p:nvSpPr>
        <p:spPr>
          <a:xfrm>
            <a:off x="1115640" y="0"/>
            <a:ext cx="779292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99"/>
                </a:solidFill>
                <a:latin typeface="Tahoma"/>
              </a:rPr>
              <a:t>BARAUNAS – RN</a:t>
            </a:r>
            <a:br>
              <a:rPr sz="2800"/>
            </a:br>
            <a:r>
              <a:rPr b="0" lang="pt-BR" sz="2800" spc="-1" strike="noStrike">
                <a:solidFill>
                  <a:srgbClr val="333399"/>
                </a:solidFill>
                <a:latin typeface="Tahoma"/>
              </a:rPr>
              <a:t>Aquífero Jandaíra – Perfil de Resistividade A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85" name=""/>
          <p:cNvSpPr/>
          <p:nvPr/>
        </p:nvSpPr>
        <p:spPr>
          <a:xfrm>
            <a:off x="1224000" y="3983040"/>
            <a:ext cx="7196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6" name=""/>
          <p:cNvSpPr/>
          <p:nvPr/>
        </p:nvSpPr>
        <p:spPr>
          <a:xfrm>
            <a:off x="1224000" y="3983040"/>
            <a:ext cx="1440" cy="81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7" name=""/>
          <p:cNvSpPr/>
          <p:nvPr/>
        </p:nvSpPr>
        <p:spPr>
          <a:xfrm>
            <a:off x="3441600" y="3983040"/>
            <a:ext cx="1800" cy="81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8" name=""/>
          <p:cNvSpPr/>
          <p:nvPr/>
        </p:nvSpPr>
        <p:spPr>
          <a:xfrm>
            <a:off x="5653080" y="3983040"/>
            <a:ext cx="1440" cy="81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9" name=""/>
          <p:cNvSpPr/>
          <p:nvPr/>
        </p:nvSpPr>
        <p:spPr>
          <a:xfrm>
            <a:off x="7870680" y="3983040"/>
            <a:ext cx="1800" cy="81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0" name=""/>
          <p:cNvSpPr/>
          <p:nvPr/>
        </p:nvSpPr>
        <p:spPr>
          <a:xfrm>
            <a:off x="1781280" y="3983040"/>
            <a:ext cx="1440" cy="4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1" name=""/>
          <p:cNvSpPr/>
          <p:nvPr/>
        </p:nvSpPr>
        <p:spPr>
          <a:xfrm>
            <a:off x="2336760" y="3983040"/>
            <a:ext cx="1800" cy="4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2" name=""/>
          <p:cNvSpPr/>
          <p:nvPr/>
        </p:nvSpPr>
        <p:spPr>
          <a:xfrm>
            <a:off x="2886120" y="3983040"/>
            <a:ext cx="1440" cy="4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3" name=""/>
          <p:cNvSpPr/>
          <p:nvPr/>
        </p:nvSpPr>
        <p:spPr>
          <a:xfrm>
            <a:off x="3998880" y="3983040"/>
            <a:ext cx="1800" cy="4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4" name=""/>
          <p:cNvSpPr/>
          <p:nvPr/>
        </p:nvSpPr>
        <p:spPr>
          <a:xfrm>
            <a:off x="4548240" y="3983040"/>
            <a:ext cx="1440" cy="4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5" name=""/>
          <p:cNvSpPr/>
          <p:nvPr/>
        </p:nvSpPr>
        <p:spPr>
          <a:xfrm>
            <a:off x="5103720" y="3983040"/>
            <a:ext cx="1800" cy="4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6" name=""/>
          <p:cNvSpPr/>
          <p:nvPr/>
        </p:nvSpPr>
        <p:spPr>
          <a:xfrm>
            <a:off x="6208560" y="3983040"/>
            <a:ext cx="1800" cy="4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7" name=""/>
          <p:cNvSpPr/>
          <p:nvPr/>
        </p:nvSpPr>
        <p:spPr>
          <a:xfrm>
            <a:off x="6765840" y="3983040"/>
            <a:ext cx="1800" cy="4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8" name=""/>
          <p:cNvSpPr/>
          <p:nvPr/>
        </p:nvSpPr>
        <p:spPr>
          <a:xfrm>
            <a:off x="7315200" y="3983040"/>
            <a:ext cx="1440" cy="4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9" name=""/>
          <p:cNvSpPr/>
          <p:nvPr/>
        </p:nvSpPr>
        <p:spPr>
          <a:xfrm>
            <a:off x="8420040" y="3983040"/>
            <a:ext cx="1800" cy="4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0" name=""/>
          <p:cNvSpPr/>
          <p:nvPr/>
        </p:nvSpPr>
        <p:spPr>
          <a:xfrm>
            <a:off x="1197000" y="412596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1" name=""/>
          <p:cNvSpPr/>
          <p:nvPr/>
        </p:nvSpPr>
        <p:spPr>
          <a:xfrm>
            <a:off x="3301920" y="4125960"/>
            <a:ext cx="2826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2" name=""/>
          <p:cNvSpPr/>
          <p:nvPr/>
        </p:nvSpPr>
        <p:spPr>
          <a:xfrm>
            <a:off x="5521320" y="4125960"/>
            <a:ext cx="2826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3" name=""/>
          <p:cNvSpPr/>
          <p:nvPr/>
        </p:nvSpPr>
        <p:spPr>
          <a:xfrm>
            <a:off x="7731000" y="4125960"/>
            <a:ext cx="2826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4" name=""/>
          <p:cNvSpPr/>
          <p:nvPr/>
        </p:nvSpPr>
        <p:spPr>
          <a:xfrm>
            <a:off x="1692360" y="4089240"/>
            <a:ext cx="1713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25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5" name=""/>
          <p:cNvSpPr/>
          <p:nvPr/>
        </p:nvSpPr>
        <p:spPr>
          <a:xfrm>
            <a:off x="2249640" y="4089240"/>
            <a:ext cx="1713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50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6" name=""/>
          <p:cNvSpPr/>
          <p:nvPr/>
        </p:nvSpPr>
        <p:spPr>
          <a:xfrm>
            <a:off x="2797200" y="4089240"/>
            <a:ext cx="1713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75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7" name=""/>
          <p:cNvSpPr/>
          <p:nvPr/>
        </p:nvSpPr>
        <p:spPr>
          <a:xfrm>
            <a:off x="3884760" y="4089240"/>
            <a:ext cx="214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125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8" name=""/>
          <p:cNvSpPr/>
          <p:nvPr/>
        </p:nvSpPr>
        <p:spPr>
          <a:xfrm>
            <a:off x="4441680" y="4089240"/>
            <a:ext cx="214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150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9" name=""/>
          <p:cNvSpPr/>
          <p:nvPr/>
        </p:nvSpPr>
        <p:spPr>
          <a:xfrm>
            <a:off x="4989600" y="4089240"/>
            <a:ext cx="214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175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0" name=""/>
          <p:cNvSpPr/>
          <p:nvPr/>
        </p:nvSpPr>
        <p:spPr>
          <a:xfrm>
            <a:off x="6094440" y="4089240"/>
            <a:ext cx="214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225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1" name=""/>
          <p:cNvSpPr/>
          <p:nvPr/>
        </p:nvSpPr>
        <p:spPr>
          <a:xfrm>
            <a:off x="6651720" y="4089240"/>
            <a:ext cx="214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250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2" name=""/>
          <p:cNvSpPr/>
          <p:nvPr/>
        </p:nvSpPr>
        <p:spPr>
          <a:xfrm>
            <a:off x="7209000" y="4089240"/>
            <a:ext cx="214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275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3" name=""/>
          <p:cNvSpPr/>
          <p:nvPr/>
        </p:nvSpPr>
        <p:spPr>
          <a:xfrm>
            <a:off x="8313840" y="4089240"/>
            <a:ext cx="214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325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4" name=""/>
          <p:cNvSpPr/>
          <p:nvPr/>
        </p:nvSpPr>
        <p:spPr>
          <a:xfrm>
            <a:off x="4300560" y="4232160"/>
            <a:ext cx="92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5" name=""/>
          <p:cNvSpPr/>
          <p:nvPr/>
        </p:nvSpPr>
        <p:spPr>
          <a:xfrm>
            <a:off x="4388040" y="4232160"/>
            <a:ext cx="28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6" name=""/>
          <p:cNvSpPr/>
          <p:nvPr/>
        </p:nvSpPr>
        <p:spPr>
          <a:xfrm>
            <a:off x="4414320" y="423216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7" name=""/>
          <p:cNvSpPr/>
          <p:nvPr/>
        </p:nvSpPr>
        <p:spPr>
          <a:xfrm>
            <a:off x="4476240" y="4232160"/>
            <a:ext cx="35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8" name=""/>
          <p:cNvSpPr/>
          <p:nvPr/>
        </p:nvSpPr>
        <p:spPr>
          <a:xfrm>
            <a:off x="4503240" y="42321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â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9" name=""/>
          <p:cNvSpPr/>
          <p:nvPr/>
        </p:nvSpPr>
        <p:spPr>
          <a:xfrm>
            <a:off x="4573080" y="42321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0" name=""/>
          <p:cNvSpPr/>
          <p:nvPr/>
        </p:nvSpPr>
        <p:spPr>
          <a:xfrm>
            <a:off x="4644360" y="423216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1" name=""/>
          <p:cNvSpPr/>
          <p:nvPr/>
        </p:nvSpPr>
        <p:spPr>
          <a:xfrm>
            <a:off x="4707000" y="4232160"/>
            <a:ext cx="28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2" name=""/>
          <p:cNvSpPr/>
          <p:nvPr/>
        </p:nvSpPr>
        <p:spPr>
          <a:xfrm>
            <a:off x="4731840" y="42321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3" name=""/>
          <p:cNvSpPr/>
          <p:nvPr/>
        </p:nvSpPr>
        <p:spPr>
          <a:xfrm>
            <a:off x="4803480" y="4232160"/>
            <a:ext cx="35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4" name=""/>
          <p:cNvSpPr/>
          <p:nvPr/>
        </p:nvSpPr>
        <p:spPr>
          <a:xfrm>
            <a:off x="4838400" y="4232160"/>
            <a:ext cx="43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5" name=""/>
          <p:cNvSpPr/>
          <p:nvPr/>
        </p:nvSpPr>
        <p:spPr>
          <a:xfrm>
            <a:off x="4875480" y="423216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6" name=""/>
          <p:cNvSpPr/>
          <p:nvPr/>
        </p:nvSpPr>
        <p:spPr>
          <a:xfrm>
            <a:off x="4971600" y="42321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7" name=""/>
          <p:cNvSpPr/>
          <p:nvPr/>
        </p:nvSpPr>
        <p:spPr>
          <a:xfrm>
            <a:off x="5041440" y="4232160"/>
            <a:ext cx="35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8" name=""/>
          <p:cNvSpPr/>
          <p:nvPr/>
        </p:nvSpPr>
        <p:spPr>
          <a:xfrm>
            <a:off x="5078160" y="4232160"/>
            <a:ext cx="43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9" name=""/>
          <p:cNvSpPr/>
          <p:nvPr/>
        </p:nvSpPr>
        <p:spPr>
          <a:xfrm>
            <a:off x="5113080" y="42321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0" name=""/>
          <p:cNvSpPr/>
          <p:nvPr/>
        </p:nvSpPr>
        <p:spPr>
          <a:xfrm>
            <a:off x="5182560" y="423216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1" name=""/>
          <p:cNvSpPr/>
          <p:nvPr/>
        </p:nvSpPr>
        <p:spPr>
          <a:xfrm>
            <a:off x="5244840" y="4232160"/>
            <a:ext cx="43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2" name=""/>
          <p:cNvSpPr/>
          <p:nvPr/>
        </p:nvSpPr>
        <p:spPr>
          <a:xfrm flipV="1">
            <a:off x="1224000" y="1825200"/>
            <a:ext cx="1440" cy="2157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3" name=""/>
          <p:cNvSpPr/>
          <p:nvPr/>
        </p:nvSpPr>
        <p:spPr>
          <a:xfrm flipH="1">
            <a:off x="1152000" y="3983040"/>
            <a:ext cx="716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4" name=""/>
          <p:cNvSpPr/>
          <p:nvPr/>
        </p:nvSpPr>
        <p:spPr>
          <a:xfrm flipH="1">
            <a:off x="1152000" y="3559320"/>
            <a:ext cx="716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5" name=""/>
          <p:cNvSpPr/>
          <p:nvPr/>
        </p:nvSpPr>
        <p:spPr>
          <a:xfrm flipH="1">
            <a:off x="1152000" y="3125880"/>
            <a:ext cx="716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6" name=""/>
          <p:cNvSpPr/>
          <p:nvPr/>
        </p:nvSpPr>
        <p:spPr>
          <a:xfrm flipH="1">
            <a:off x="1152000" y="2692440"/>
            <a:ext cx="716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7" name=""/>
          <p:cNvSpPr/>
          <p:nvPr/>
        </p:nvSpPr>
        <p:spPr>
          <a:xfrm flipH="1">
            <a:off x="1152000" y="2259000"/>
            <a:ext cx="716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8" name=""/>
          <p:cNvSpPr/>
          <p:nvPr/>
        </p:nvSpPr>
        <p:spPr>
          <a:xfrm flipH="1">
            <a:off x="1152000" y="1825560"/>
            <a:ext cx="716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9" name=""/>
          <p:cNvSpPr/>
          <p:nvPr/>
        </p:nvSpPr>
        <p:spPr>
          <a:xfrm flipH="1">
            <a:off x="1187280" y="3772080"/>
            <a:ext cx="36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0" name=""/>
          <p:cNvSpPr/>
          <p:nvPr/>
        </p:nvSpPr>
        <p:spPr>
          <a:xfrm flipH="1">
            <a:off x="1187280" y="3338640"/>
            <a:ext cx="36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1" name=""/>
          <p:cNvSpPr/>
          <p:nvPr/>
        </p:nvSpPr>
        <p:spPr>
          <a:xfrm flipH="1">
            <a:off x="1187280" y="2905200"/>
            <a:ext cx="36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2" name=""/>
          <p:cNvSpPr/>
          <p:nvPr/>
        </p:nvSpPr>
        <p:spPr>
          <a:xfrm flipH="1">
            <a:off x="1187280" y="2481120"/>
            <a:ext cx="36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3" name=""/>
          <p:cNvSpPr/>
          <p:nvPr/>
        </p:nvSpPr>
        <p:spPr>
          <a:xfrm flipH="1">
            <a:off x="1187280" y="2048040"/>
            <a:ext cx="36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4" name=""/>
          <p:cNvSpPr/>
          <p:nvPr/>
        </p:nvSpPr>
        <p:spPr>
          <a:xfrm>
            <a:off x="1028880" y="392256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5" name=""/>
          <p:cNvSpPr/>
          <p:nvPr/>
        </p:nvSpPr>
        <p:spPr>
          <a:xfrm>
            <a:off x="915120" y="3497400"/>
            <a:ext cx="1699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6" name=""/>
          <p:cNvSpPr/>
          <p:nvPr/>
        </p:nvSpPr>
        <p:spPr>
          <a:xfrm>
            <a:off x="915120" y="3063960"/>
            <a:ext cx="1699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7" name=""/>
          <p:cNvSpPr/>
          <p:nvPr/>
        </p:nvSpPr>
        <p:spPr>
          <a:xfrm>
            <a:off x="915120" y="2631960"/>
            <a:ext cx="1699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8" name=""/>
          <p:cNvSpPr/>
          <p:nvPr/>
        </p:nvSpPr>
        <p:spPr>
          <a:xfrm>
            <a:off x="915120" y="2198520"/>
            <a:ext cx="1699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9" name=""/>
          <p:cNvSpPr/>
          <p:nvPr/>
        </p:nvSpPr>
        <p:spPr>
          <a:xfrm>
            <a:off x="915120" y="1765440"/>
            <a:ext cx="1699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0" name=""/>
          <p:cNvSpPr/>
          <p:nvPr/>
        </p:nvSpPr>
        <p:spPr>
          <a:xfrm>
            <a:off x="1028880" y="3718080"/>
            <a:ext cx="86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1" name=""/>
          <p:cNvSpPr/>
          <p:nvPr/>
        </p:nvSpPr>
        <p:spPr>
          <a:xfrm>
            <a:off x="984240" y="3286080"/>
            <a:ext cx="1288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15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2" name=""/>
          <p:cNvSpPr/>
          <p:nvPr/>
        </p:nvSpPr>
        <p:spPr>
          <a:xfrm>
            <a:off x="984240" y="2860560"/>
            <a:ext cx="1288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25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3" name=""/>
          <p:cNvSpPr/>
          <p:nvPr/>
        </p:nvSpPr>
        <p:spPr>
          <a:xfrm>
            <a:off x="984240" y="2427120"/>
            <a:ext cx="1288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35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4" name=""/>
          <p:cNvSpPr/>
          <p:nvPr/>
        </p:nvSpPr>
        <p:spPr>
          <a:xfrm>
            <a:off x="984240" y="1994040"/>
            <a:ext cx="1288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45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5" name=""/>
          <p:cNvSpPr/>
          <p:nvPr/>
        </p:nvSpPr>
        <p:spPr>
          <a:xfrm rot="16200000">
            <a:off x="703440" y="3655800"/>
            <a:ext cx="92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6" name=""/>
          <p:cNvSpPr/>
          <p:nvPr/>
        </p:nvSpPr>
        <p:spPr>
          <a:xfrm rot="16200000">
            <a:off x="713880" y="358092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7" name=""/>
          <p:cNvSpPr/>
          <p:nvPr/>
        </p:nvSpPr>
        <p:spPr>
          <a:xfrm rot="16200000">
            <a:off x="717120" y="35125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8" name=""/>
          <p:cNvSpPr/>
          <p:nvPr/>
        </p:nvSpPr>
        <p:spPr>
          <a:xfrm rot="16200000">
            <a:off x="735480" y="3468600"/>
            <a:ext cx="28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9" name=""/>
          <p:cNvSpPr/>
          <p:nvPr/>
        </p:nvSpPr>
        <p:spPr>
          <a:xfrm rot="16200000">
            <a:off x="717120" y="3423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0" name=""/>
          <p:cNvSpPr/>
          <p:nvPr/>
        </p:nvSpPr>
        <p:spPr>
          <a:xfrm rot="16200000">
            <a:off x="731520" y="3376080"/>
            <a:ext cx="35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1" name=""/>
          <p:cNvSpPr/>
          <p:nvPr/>
        </p:nvSpPr>
        <p:spPr>
          <a:xfrm rot="16200000">
            <a:off x="735480" y="3354120"/>
            <a:ext cx="28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2" name=""/>
          <p:cNvSpPr/>
          <p:nvPr/>
        </p:nvSpPr>
        <p:spPr>
          <a:xfrm rot="16200000">
            <a:off x="717120" y="329976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3" name=""/>
          <p:cNvSpPr/>
          <p:nvPr/>
        </p:nvSpPr>
        <p:spPr>
          <a:xfrm rot="16200000">
            <a:off x="735480" y="3255840"/>
            <a:ext cx="28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4" name=""/>
          <p:cNvSpPr/>
          <p:nvPr/>
        </p:nvSpPr>
        <p:spPr>
          <a:xfrm rot="16200000">
            <a:off x="713880" y="32094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5" name=""/>
          <p:cNvSpPr/>
          <p:nvPr/>
        </p:nvSpPr>
        <p:spPr>
          <a:xfrm rot="16200000">
            <a:off x="713880" y="313812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6" name=""/>
          <p:cNvSpPr/>
          <p:nvPr/>
        </p:nvSpPr>
        <p:spPr>
          <a:xfrm rot="16200000">
            <a:off x="713880" y="30682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7" name=""/>
          <p:cNvSpPr/>
          <p:nvPr/>
        </p:nvSpPr>
        <p:spPr>
          <a:xfrm rot="16200000">
            <a:off x="713880" y="299664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8" name=""/>
          <p:cNvSpPr/>
          <p:nvPr/>
        </p:nvSpPr>
        <p:spPr>
          <a:xfrm rot="16200000">
            <a:off x="731520" y="2942640"/>
            <a:ext cx="35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9" name=""/>
          <p:cNvSpPr/>
          <p:nvPr/>
        </p:nvSpPr>
        <p:spPr>
          <a:xfrm rot="16200000">
            <a:off x="707040" y="2892600"/>
            <a:ext cx="84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0" name=""/>
          <p:cNvSpPr/>
          <p:nvPr/>
        </p:nvSpPr>
        <p:spPr>
          <a:xfrm rot="16200000">
            <a:off x="713880" y="28206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1" name=""/>
          <p:cNvSpPr/>
          <p:nvPr/>
        </p:nvSpPr>
        <p:spPr>
          <a:xfrm rot="16200000">
            <a:off x="713880" y="27489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2" name=""/>
          <p:cNvSpPr/>
          <p:nvPr/>
        </p:nvSpPr>
        <p:spPr>
          <a:xfrm rot="16200000">
            <a:off x="727560" y="2691000"/>
            <a:ext cx="43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3" name=""/>
          <p:cNvSpPr/>
          <p:nvPr/>
        </p:nvSpPr>
        <p:spPr>
          <a:xfrm rot="16200000">
            <a:off x="713880" y="263484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4" name=""/>
          <p:cNvSpPr/>
          <p:nvPr/>
        </p:nvSpPr>
        <p:spPr>
          <a:xfrm rot="16200000">
            <a:off x="713880" y="257292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5" name=""/>
          <p:cNvSpPr/>
          <p:nvPr/>
        </p:nvSpPr>
        <p:spPr>
          <a:xfrm rot="16200000">
            <a:off x="731520" y="2518560"/>
            <a:ext cx="35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6" name=""/>
          <p:cNvSpPr/>
          <p:nvPr/>
        </p:nvSpPr>
        <p:spPr>
          <a:xfrm rot="16200000">
            <a:off x="713880" y="24663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7" name=""/>
          <p:cNvSpPr/>
          <p:nvPr/>
        </p:nvSpPr>
        <p:spPr>
          <a:xfrm rot="16200000">
            <a:off x="731520" y="2412360"/>
            <a:ext cx="35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8" name=""/>
          <p:cNvSpPr/>
          <p:nvPr/>
        </p:nvSpPr>
        <p:spPr>
          <a:xfrm rot="16200000">
            <a:off x="727560" y="2381400"/>
            <a:ext cx="43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9" name=""/>
          <p:cNvSpPr/>
          <p:nvPr/>
        </p:nvSpPr>
        <p:spPr>
          <a:xfrm rot="16200000">
            <a:off x="713880" y="232524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0" name=""/>
          <p:cNvSpPr/>
          <p:nvPr/>
        </p:nvSpPr>
        <p:spPr>
          <a:xfrm rot="16200000">
            <a:off x="713880" y="22536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1" name=""/>
          <p:cNvSpPr/>
          <p:nvPr/>
        </p:nvSpPr>
        <p:spPr>
          <a:xfrm rot="16200000">
            <a:off x="696600" y="217224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2" name=""/>
          <p:cNvSpPr/>
          <p:nvPr/>
        </p:nvSpPr>
        <p:spPr>
          <a:xfrm rot="16200000">
            <a:off x="731520" y="2102760"/>
            <a:ext cx="35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3" name=""/>
          <p:cNvSpPr/>
          <p:nvPr/>
        </p:nvSpPr>
        <p:spPr>
          <a:xfrm rot="16200000">
            <a:off x="696600" y="204048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4" name=""/>
          <p:cNvSpPr/>
          <p:nvPr/>
        </p:nvSpPr>
        <p:spPr>
          <a:xfrm rot="16200000">
            <a:off x="727560" y="1973520"/>
            <a:ext cx="43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5" name=""/>
          <p:cNvSpPr/>
          <p:nvPr/>
        </p:nvSpPr>
        <p:spPr>
          <a:xfrm>
            <a:off x="1224000" y="3214800"/>
            <a:ext cx="2174760" cy="698400"/>
          </a:xfrm>
          <a:custGeom>
            <a:avLst/>
            <a:gdLst/>
            <a:ahLst/>
            <a:rect l="l" t="t" r="r" b="b"/>
            <a:pathLst>
              <a:path w="1370" h="440">
                <a:moveTo>
                  <a:pt x="0" y="412"/>
                </a:moveTo>
                <a:lnTo>
                  <a:pt x="33" y="440"/>
                </a:lnTo>
                <a:lnTo>
                  <a:pt x="55" y="434"/>
                </a:lnTo>
                <a:lnTo>
                  <a:pt x="89" y="412"/>
                </a:lnTo>
                <a:lnTo>
                  <a:pt x="111" y="362"/>
                </a:lnTo>
                <a:lnTo>
                  <a:pt x="144" y="301"/>
                </a:lnTo>
                <a:lnTo>
                  <a:pt x="167" y="373"/>
                </a:lnTo>
                <a:lnTo>
                  <a:pt x="200" y="367"/>
                </a:lnTo>
                <a:lnTo>
                  <a:pt x="228" y="367"/>
                </a:lnTo>
                <a:lnTo>
                  <a:pt x="256" y="356"/>
                </a:lnTo>
                <a:lnTo>
                  <a:pt x="284" y="373"/>
                </a:lnTo>
                <a:lnTo>
                  <a:pt x="312" y="379"/>
                </a:lnTo>
                <a:lnTo>
                  <a:pt x="339" y="379"/>
                </a:lnTo>
                <a:lnTo>
                  <a:pt x="367" y="373"/>
                </a:lnTo>
                <a:lnTo>
                  <a:pt x="395" y="367"/>
                </a:lnTo>
                <a:lnTo>
                  <a:pt x="423" y="373"/>
                </a:lnTo>
                <a:lnTo>
                  <a:pt x="451" y="351"/>
                </a:lnTo>
                <a:lnTo>
                  <a:pt x="479" y="345"/>
                </a:lnTo>
                <a:lnTo>
                  <a:pt x="506" y="329"/>
                </a:lnTo>
                <a:lnTo>
                  <a:pt x="534" y="306"/>
                </a:lnTo>
                <a:lnTo>
                  <a:pt x="562" y="329"/>
                </a:lnTo>
                <a:lnTo>
                  <a:pt x="590" y="340"/>
                </a:lnTo>
                <a:lnTo>
                  <a:pt x="618" y="351"/>
                </a:lnTo>
                <a:lnTo>
                  <a:pt x="646" y="329"/>
                </a:lnTo>
                <a:lnTo>
                  <a:pt x="674" y="312"/>
                </a:lnTo>
                <a:lnTo>
                  <a:pt x="701" y="284"/>
                </a:lnTo>
                <a:lnTo>
                  <a:pt x="729" y="284"/>
                </a:lnTo>
                <a:lnTo>
                  <a:pt x="757" y="267"/>
                </a:lnTo>
                <a:lnTo>
                  <a:pt x="785" y="217"/>
                </a:lnTo>
                <a:lnTo>
                  <a:pt x="813" y="195"/>
                </a:lnTo>
                <a:lnTo>
                  <a:pt x="841" y="139"/>
                </a:lnTo>
                <a:lnTo>
                  <a:pt x="868" y="145"/>
                </a:lnTo>
                <a:lnTo>
                  <a:pt x="896" y="128"/>
                </a:lnTo>
                <a:lnTo>
                  <a:pt x="924" y="95"/>
                </a:lnTo>
                <a:lnTo>
                  <a:pt x="952" y="139"/>
                </a:lnTo>
                <a:lnTo>
                  <a:pt x="980" y="100"/>
                </a:lnTo>
                <a:lnTo>
                  <a:pt x="1008" y="0"/>
                </a:lnTo>
                <a:lnTo>
                  <a:pt x="1035" y="173"/>
                </a:lnTo>
                <a:lnTo>
                  <a:pt x="1063" y="78"/>
                </a:lnTo>
                <a:lnTo>
                  <a:pt x="1091" y="217"/>
                </a:lnTo>
                <a:lnTo>
                  <a:pt x="1119" y="262"/>
                </a:lnTo>
                <a:lnTo>
                  <a:pt x="1147" y="290"/>
                </a:lnTo>
                <a:lnTo>
                  <a:pt x="1175" y="267"/>
                </a:lnTo>
                <a:lnTo>
                  <a:pt x="1203" y="312"/>
                </a:lnTo>
                <a:lnTo>
                  <a:pt x="1230" y="301"/>
                </a:lnTo>
                <a:lnTo>
                  <a:pt x="1258" y="312"/>
                </a:lnTo>
                <a:lnTo>
                  <a:pt x="1286" y="334"/>
                </a:lnTo>
                <a:lnTo>
                  <a:pt x="1314" y="312"/>
                </a:lnTo>
                <a:lnTo>
                  <a:pt x="1342" y="234"/>
                </a:lnTo>
                <a:lnTo>
                  <a:pt x="1370" y="306"/>
                </a:ln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6" name=""/>
          <p:cNvSpPr/>
          <p:nvPr/>
        </p:nvSpPr>
        <p:spPr>
          <a:xfrm>
            <a:off x="3892680" y="2117880"/>
            <a:ext cx="4032000" cy="1857240"/>
          </a:xfrm>
          <a:custGeom>
            <a:avLst/>
            <a:gdLst/>
            <a:ahLst/>
            <a:rect l="l" t="t" r="r" b="b"/>
            <a:pathLst>
              <a:path w="2540" h="1170">
                <a:moveTo>
                  <a:pt x="0" y="691"/>
                </a:moveTo>
                <a:lnTo>
                  <a:pt x="28" y="630"/>
                </a:lnTo>
                <a:lnTo>
                  <a:pt x="56" y="702"/>
                </a:lnTo>
                <a:lnTo>
                  <a:pt x="84" y="563"/>
                </a:lnTo>
                <a:lnTo>
                  <a:pt x="112" y="730"/>
                </a:lnTo>
                <a:lnTo>
                  <a:pt x="140" y="607"/>
                </a:lnTo>
                <a:lnTo>
                  <a:pt x="167" y="747"/>
                </a:lnTo>
                <a:lnTo>
                  <a:pt x="195" y="747"/>
                </a:lnTo>
                <a:lnTo>
                  <a:pt x="223" y="763"/>
                </a:lnTo>
                <a:lnTo>
                  <a:pt x="251" y="802"/>
                </a:lnTo>
                <a:lnTo>
                  <a:pt x="279" y="836"/>
                </a:lnTo>
                <a:lnTo>
                  <a:pt x="307" y="758"/>
                </a:lnTo>
                <a:lnTo>
                  <a:pt x="335" y="819"/>
                </a:lnTo>
                <a:lnTo>
                  <a:pt x="362" y="825"/>
                </a:lnTo>
                <a:lnTo>
                  <a:pt x="390" y="852"/>
                </a:lnTo>
                <a:lnTo>
                  <a:pt x="418" y="880"/>
                </a:lnTo>
                <a:lnTo>
                  <a:pt x="446" y="925"/>
                </a:lnTo>
                <a:lnTo>
                  <a:pt x="474" y="975"/>
                </a:lnTo>
                <a:lnTo>
                  <a:pt x="502" y="981"/>
                </a:lnTo>
                <a:lnTo>
                  <a:pt x="529" y="942"/>
                </a:lnTo>
                <a:lnTo>
                  <a:pt x="557" y="841"/>
                </a:lnTo>
                <a:lnTo>
                  <a:pt x="585" y="791"/>
                </a:lnTo>
                <a:lnTo>
                  <a:pt x="613" y="468"/>
                </a:lnTo>
                <a:lnTo>
                  <a:pt x="641" y="624"/>
                </a:lnTo>
                <a:lnTo>
                  <a:pt x="674" y="607"/>
                </a:lnTo>
                <a:lnTo>
                  <a:pt x="697" y="596"/>
                </a:lnTo>
                <a:lnTo>
                  <a:pt x="730" y="791"/>
                </a:lnTo>
                <a:lnTo>
                  <a:pt x="758" y="758"/>
                </a:lnTo>
                <a:lnTo>
                  <a:pt x="786" y="780"/>
                </a:lnTo>
                <a:lnTo>
                  <a:pt x="813" y="791"/>
                </a:lnTo>
                <a:lnTo>
                  <a:pt x="841" y="741"/>
                </a:lnTo>
                <a:lnTo>
                  <a:pt x="869" y="702"/>
                </a:lnTo>
                <a:lnTo>
                  <a:pt x="897" y="574"/>
                </a:lnTo>
                <a:lnTo>
                  <a:pt x="925" y="630"/>
                </a:lnTo>
                <a:lnTo>
                  <a:pt x="953" y="802"/>
                </a:lnTo>
                <a:lnTo>
                  <a:pt x="981" y="618"/>
                </a:lnTo>
                <a:lnTo>
                  <a:pt x="1008" y="318"/>
                </a:lnTo>
                <a:lnTo>
                  <a:pt x="1036" y="451"/>
                </a:lnTo>
                <a:lnTo>
                  <a:pt x="1064" y="585"/>
                </a:lnTo>
                <a:lnTo>
                  <a:pt x="1092" y="435"/>
                </a:lnTo>
                <a:lnTo>
                  <a:pt x="1120" y="178"/>
                </a:lnTo>
                <a:lnTo>
                  <a:pt x="1148" y="357"/>
                </a:lnTo>
                <a:lnTo>
                  <a:pt x="1175" y="474"/>
                </a:lnTo>
                <a:lnTo>
                  <a:pt x="1203" y="351"/>
                </a:lnTo>
                <a:lnTo>
                  <a:pt x="1231" y="162"/>
                </a:lnTo>
                <a:lnTo>
                  <a:pt x="1259" y="268"/>
                </a:lnTo>
                <a:lnTo>
                  <a:pt x="1287" y="429"/>
                </a:lnTo>
                <a:lnTo>
                  <a:pt x="1315" y="318"/>
                </a:lnTo>
                <a:lnTo>
                  <a:pt x="1342" y="61"/>
                </a:lnTo>
                <a:lnTo>
                  <a:pt x="1370" y="279"/>
                </a:lnTo>
                <a:lnTo>
                  <a:pt x="1398" y="713"/>
                </a:lnTo>
                <a:lnTo>
                  <a:pt x="1426" y="836"/>
                </a:lnTo>
                <a:lnTo>
                  <a:pt x="1454" y="858"/>
                </a:lnTo>
                <a:lnTo>
                  <a:pt x="1482" y="869"/>
                </a:lnTo>
                <a:lnTo>
                  <a:pt x="1510" y="830"/>
                </a:lnTo>
                <a:lnTo>
                  <a:pt x="1537" y="786"/>
                </a:lnTo>
                <a:lnTo>
                  <a:pt x="1565" y="791"/>
                </a:lnTo>
                <a:lnTo>
                  <a:pt x="1593" y="652"/>
                </a:lnTo>
                <a:lnTo>
                  <a:pt x="1621" y="0"/>
                </a:lnTo>
                <a:lnTo>
                  <a:pt x="1649" y="602"/>
                </a:lnTo>
                <a:lnTo>
                  <a:pt x="1677" y="518"/>
                </a:lnTo>
                <a:lnTo>
                  <a:pt x="1704" y="724"/>
                </a:lnTo>
                <a:lnTo>
                  <a:pt x="1732" y="869"/>
                </a:lnTo>
                <a:lnTo>
                  <a:pt x="1760" y="1036"/>
                </a:lnTo>
                <a:lnTo>
                  <a:pt x="1788" y="1086"/>
                </a:lnTo>
                <a:lnTo>
                  <a:pt x="1816" y="1042"/>
                </a:lnTo>
                <a:lnTo>
                  <a:pt x="1844" y="958"/>
                </a:lnTo>
                <a:lnTo>
                  <a:pt x="1872" y="1008"/>
                </a:lnTo>
                <a:lnTo>
                  <a:pt x="1899" y="1008"/>
                </a:lnTo>
                <a:lnTo>
                  <a:pt x="1927" y="975"/>
                </a:lnTo>
                <a:lnTo>
                  <a:pt x="1955" y="1125"/>
                </a:lnTo>
                <a:lnTo>
                  <a:pt x="1983" y="1153"/>
                </a:lnTo>
                <a:lnTo>
                  <a:pt x="2011" y="1153"/>
                </a:lnTo>
                <a:lnTo>
                  <a:pt x="2039" y="1148"/>
                </a:lnTo>
                <a:lnTo>
                  <a:pt x="2066" y="1136"/>
                </a:lnTo>
                <a:lnTo>
                  <a:pt x="2094" y="1136"/>
                </a:lnTo>
                <a:lnTo>
                  <a:pt x="2122" y="1114"/>
                </a:lnTo>
                <a:lnTo>
                  <a:pt x="2150" y="1070"/>
                </a:lnTo>
                <a:lnTo>
                  <a:pt x="2178" y="1070"/>
                </a:lnTo>
                <a:lnTo>
                  <a:pt x="2206" y="1008"/>
                </a:lnTo>
                <a:lnTo>
                  <a:pt x="2233" y="925"/>
                </a:lnTo>
                <a:lnTo>
                  <a:pt x="2261" y="1064"/>
                </a:lnTo>
                <a:lnTo>
                  <a:pt x="2289" y="1036"/>
                </a:lnTo>
                <a:lnTo>
                  <a:pt x="2317" y="1097"/>
                </a:lnTo>
                <a:lnTo>
                  <a:pt x="2345" y="1153"/>
                </a:lnTo>
                <a:lnTo>
                  <a:pt x="2373" y="1170"/>
                </a:lnTo>
                <a:lnTo>
                  <a:pt x="2401" y="1159"/>
                </a:lnTo>
                <a:lnTo>
                  <a:pt x="2428" y="1164"/>
                </a:lnTo>
                <a:lnTo>
                  <a:pt x="2456" y="1170"/>
                </a:lnTo>
                <a:lnTo>
                  <a:pt x="2484" y="891"/>
                </a:lnTo>
                <a:lnTo>
                  <a:pt x="2512" y="1081"/>
                </a:lnTo>
                <a:lnTo>
                  <a:pt x="2540" y="1109"/>
                </a:ln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7" name=""/>
          <p:cNvSpPr/>
          <p:nvPr/>
        </p:nvSpPr>
        <p:spPr>
          <a:xfrm>
            <a:off x="5033880" y="3648240"/>
            <a:ext cx="335160" cy="1440"/>
          </a:xfrm>
          <a:prstGeom prst="line">
            <a:avLst/>
          </a:prstGeom>
          <a:ln w="176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8" name=""/>
          <p:cNvSpPr/>
          <p:nvPr/>
        </p:nvSpPr>
        <p:spPr>
          <a:xfrm flipH="1" flipV="1">
            <a:off x="5033520" y="3647880"/>
            <a:ext cx="79560" cy="34920"/>
          </a:xfrm>
          <a:prstGeom prst="line">
            <a:avLst/>
          </a:prstGeom>
          <a:ln w="176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9" name=""/>
          <p:cNvSpPr/>
          <p:nvPr/>
        </p:nvSpPr>
        <p:spPr>
          <a:xfrm flipH="1">
            <a:off x="5033520" y="3613320"/>
            <a:ext cx="79560" cy="34920"/>
          </a:xfrm>
          <a:prstGeom prst="line">
            <a:avLst/>
          </a:prstGeom>
          <a:ln w="176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0" name=""/>
          <p:cNvSpPr/>
          <p:nvPr/>
        </p:nvSpPr>
        <p:spPr>
          <a:xfrm>
            <a:off x="5299200" y="3613320"/>
            <a:ext cx="69840" cy="34920"/>
          </a:xfrm>
          <a:prstGeom prst="line">
            <a:avLst/>
          </a:prstGeom>
          <a:ln w="176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1" name=""/>
          <p:cNvSpPr/>
          <p:nvPr/>
        </p:nvSpPr>
        <p:spPr>
          <a:xfrm flipV="1">
            <a:off x="5299200" y="3647880"/>
            <a:ext cx="69840" cy="34920"/>
          </a:xfrm>
          <a:prstGeom prst="line">
            <a:avLst/>
          </a:prstGeom>
          <a:ln w="176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2" name=""/>
          <p:cNvSpPr/>
          <p:nvPr/>
        </p:nvSpPr>
        <p:spPr>
          <a:xfrm>
            <a:off x="5041440" y="3745080"/>
            <a:ext cx="73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3" name=""/>
          <p:cNvSpPr/>
          <p:nvPr/>
        </p:nvSpPr>
        <p:spPr>
          <a:xfrm>
            <a:off x="5113440" y="374508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4" name=""/>
          <p:cNvSpPr/>
          <p:nvPr/>
        </p:nvSpPr>
        <p:spPr>
          <a:xfrm>
            <a:off x="5175000" y="3745080"/>
            <a:ext cx="342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5" name=""/>
          <p:cNvSpPr/>
          <p:nvPr/>
        </p:nvSpPr>
        <p:spPr>
          <a:xfrm>
            <a:off x="5202000" y="3745080"/>
            <a:ext cx="342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6" name=""/>
          <p:cNvSpPr/>
          <p:nvPr/>
        </p:nvSpPr>
        <p:spPr>
          <a:xfrm>
            <a:off x="5237280" y="374508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7" name=""/>
          <p:cNvSpPr/>
          <p:nvPr/>
        </p:nvSpPr>
        <p:spPr>
          <a:xfrm>
            <a:off x="5288760" y="3745080"/>
            <a:ext cx="237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8" name=""/>
          <p:cNvSpPr/>
          <p:nvPr/>
        </p:nvSpPr>
        <p:spPr>
          <a:xfrm>
            <a:off x="5315760" y="3745080"/>
            <a:ext cx="52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9" name=""/>
          <p:cNvSpPr/>
          <p:nvPr/>
        </p:nvSpPr>
        <p:spPr>
          <a:xfrm>
            <a:off x="3584520" y="2852640"/>
            <a:ext cx="1800" cy="362160"/>
          </a:xfrm>
          <a:prstGeom prst="line">
            <a:avLst/>
          </a:prstGeom>
          <a:ln w="176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0" name=""/>
          <p:cNvSpPr/>
          <p:nvPr/>
        </p:nvSpPr>
        <p:spPr>
          <a:xfrm flipH="1">
            <a:off x="3584160" y="3143160"/>
            <a:ext cx="34920" cy="71640"/>
          </a:xfrm>
          <a:prstGeom prst="line">
            <a:avLst/>
          </a:prstGeom>
          <a:ln w="176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1" name=""/>
          <p:cNvSpPr/>
          <p:nvPr/>
        </p:nvSpPr>
        <p:spPr>
          <a:xfrm>
            <a:off x="3548160" y="3143160"/>
            <a:ext cx="36360" cy="71640"/>
          </a:xfrm>
          <a:prstGeom prst="line">
            <a:avLst/>
          </a:prstGeom>
          <a:ln w="176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2" name=""/>
          <p:cNvSpPr/>
          <p:nvPr/>
        </p:nvSpPr>
        <p:spPr>
          <a:xfrm rot="16200000">
            <a:off x="3558600" y="2719080"/>
            <a:ext cx="694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3" name=""/>
          <p:cNvSpPr/>
          <p:nvPr/>
        </p:nvSpPr>
        <p:spPr>
          <a:xfrm rot="16200000">
            <a:off x="3564720" y="266292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4" name=""/>
          <p:cNvSpPr/>
          <p:nvPr/>
        </p:nvSpPr>
        <p:spPr>
          <a:xfrm rot="16200000">
            <a:off x="3576240" y="2614320"/>
            <a:ext cx="342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5" name=""/>
          <p:cNvSpPr/>
          <p:nvPr/>
        </p:nvSpPr>
        <p:spPr>
          <a:xfrm rot="16200000">
            <a:off x="3564720" y="256608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6" name=""/>
          <p:cNvSpPr/>
          <p:nvPr/>
        </p:nvSpPr>
        <p:spPr>
          <a:xfrm rot="16200000">
            <a:off x="3564720" y="251352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7" name=""/>
          <p:cNvSpPr/>
          <p:nvPr/>
        </p:nvSpPr>
        <p:spPr>
          <a:xfrm rot="16200000">
            <a:off x="3564720" y="245952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8" name=""/>
          <p:cNvSpPr/>
          <p:nvPr/>
        </p:nvSpPr>
        <p:spPr>
          <a:xfrm rot="16200000">
            <a:off x="3564720" y="240732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9" name=""/>
          <p:cNvSpPr/>
          <p:nvPr/>
        </p:nvSpPr>
        <p:spPr>
          <a:xfrm rot="16200000">
            <a:off x="3566880" y="2348640"/>
            <a:ext cx="52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0" name=""/>
          <p:cNvSpPr/>
          <p:nvPr/>
        </p:nvSpPr>
        <p:spPr>
          <a:xfrm>
            <a:off x="3044880" y="3824280"/>
            <a:ext cx="309600" cy="1440"/>
          </a:xfrm>
          <a:prstGeom prst="line">
            <a:avLst/>
          </a:prstGeom>
          <a:ln w="176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1" name=""/>
          <p:cNvSpPr/>
          <p:nvPr/>
        </p:nvSpPr>
        <p:spPr>
          <a:xfrm flipH="1" flipV="1">
            <a:off x="3044880" y="3823920"/>
            <a:ext cx="69840" cy="34920"/>
          </a:xfrm>
          <a:prstGeom prst="line">
            <a:avLst/>
          </a:prstGeom>
          <a:ln w="176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2" name=""/>
          <p:cNvSpPr/>
          <p:nvPr/>
        </p:nvSpPr>
        <p:spPr>
          <a:xfrm flipH="1">
            <a:off x="3044880" y="3789360"/>
            <a:ext cx="69840" cy="34920"/>
          </a:xfrm>
          <a:prstGeom prst="line">
            <a:avLst/>
          </a:prstGeom>
          <a:ln w="176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3" name=""/>
          <p:cNvSpPr/>
          <p:nvPr/>
        </p:nvSpPr>
        <p:spPr>
          <a:xfrm>
            <a:off x="3274920" y="3789360"/>
            <a:ext cx="79560" cy="34920"/>
          </a:xfrm>
          <a:prstGeom prst="line">
            <a:avLst/>
          </a:prstGeom>
          <a:ln w="176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4" name=""/>
          <p:cNvSpPr/>
          <p:nvPr/>
        </p:nvSpPr>
        <p:spPr>
          <a:xfrm flipV="1">
            <a:off x="3274920" y="3823920"/>
            <a:ext cx="79560" cy="34920"/>
          </a:xfrm>
          <a:prstGeom prst="line">
            <a:avLst/>
          </a:prstGeom>
          <a:ln w="176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5" name=""/>
          <p:cNvSpPr/>
          <p:nvPr/>
        </p:nvSpPr>
        <p:spPr>
          <a:xfrm>
            <a:off x="2893320" y="3851280"/>
            <a:ext cx="8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6" name=""/>
          <p:cNvSpPr/>
          <p:nvPr/>
        </p:nvSpPr>
        <p:spPr>
          <a:xfrm>
            <a:off x="2973240" y="385128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7" name=""/>
          <p:cNvSpPr/>
          <p:nvPr/>
        </p:nvSpPr>
        <p:spPr>
          <a:xfrm>
            <a:off x="3026520" y="3851280"/>
            <a:ext cx="237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8" name=""/>
          <p:cNvSpPr/>
          <p:nvPr/>
        </p:nvSpPr>
        <p:spPr>
          <a:xfrm>
            <a:off x="3052800" y="385128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9" name=""/>
          <p:cNvSpPr/>
          <p:nvPr/>
        </p:nvSpPr>
        <p:spPr>
          <a:xfrm>
            <a:off x="3106800" y="385128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0" name=""/>
          <p:cNvSpPr/>
          <p:nvPr/>
        </p:nvSpPr>
        <p:spPr>
          <a:xfrm>
            <a:off x="3159000" y="385128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1" name=""/>
          <p:cNvSpPr/>
          <p:nvPr/>
        </p:nvSpPr>
        <p:spPr>
          <a:xfrm>
            <a:off x="3220560" y="3851280"/>
            <a:ext cx="295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2" name=""/>
          <p:cNvSpPr/>
          <p:nvPr/>
        </p:nvSpPr>
        <p:spPr>
          <a:xfrm>
            <a:off x="3247560" y="3851280"/>
            <a:ext cx="73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3" name=""/>
          <p:cNvSpPr/>
          <p:nvPr/>
        </p:nvSpPr>
        <p:spPr>
          <a:xfrm>
            <a:off x="3317760" y="385128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4" name=""/>
          <p:cNvSpPr/>
          <p:nvPr/>
        </p:nvSpPr>
        <p:spPr>
          <a:xfrm>
            <a:off x="3371040" y="3851280"/>
            <a:ext cx="52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5" name=""/>
          <p:cNvSpPr/>
          <p:nvPr/>
        </p:nvSpPr>
        <p:spPr>
          <a:xfrm>
            <a:off x="3424320" y="385128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6" name=""/>
          <p:cNvSpPr/>
          <p:nvPr/>
        </p:nvSpPr>
        <p:spPr>
          <a:xfrm>
            <a:off x="1771560" y="3241800"/>
            <a:ext cx="1800" cy="371520"/>
          </a:xfrm>
          <a:prstGeom prst="line">
            <a:avLst/>
          </a:prstGeom>
          <a:ln w="176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7" name=""/>
          <p:cNvSpPr/>
          <p:nvPr/>
        </p:nvSpPr>
        <p:spPr>
          <a:xfrm flipH="1">
            <a:off x="1771200" y="3532320"/>
            <a:ext cx="34920" cy="81000"/>
          </a:xfrm>
          <a:prstGeom prst="line">
            <a:avLst/>
          </a:prstGeom>
          <a:ln w="176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8" name=""/>
          <p:cNvSpPr/>
          <p:nvPr/>
        </p:nvSpPr>
        <p:spPr>
          <a:xfrm>
            <a:off x="1736640" y="3532320"/>
            <a:ext cx="34920" cy="81000"/>
          </a:xfrm>
          <a:prstGeom prst="line">
            <a:avLst/>
          </a:prstGeom>
          <a:ln w="176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9" name=""/>
          <p:cNvSpPr/>
          <p:nvPr/>
        </p:nvSpPr>
        <p:spPr>
          <a:xfrm rot="16200000">
            <a:off x="1738080" y="3110040"/>
            <a:ext cx="52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0" name=""/>
          <p:cNvSpPr/>
          <p:nvPr/>
        </p:nvSpPr>
        <p:spPr>
          <a:xfrm rot="16200000">
            <a:off x="1735920" y="305172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1" name=""/>
          <p:cNvSpPr/>
          <p:nvPr/>
        </p:nvSpPr>
        <p:spPr>
          <a:xfrm rot="16200000">
            <a:off x="1747440" y="3012840"/>
            <a:ext cx="342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2" name=""/>
          <p:cNvSpPr/>
          <p:nvPr/>
        </p:nvSpPr>
        <p:spPr>
          <a:xfrm rot="16200000">
            <a:off x="1735920" y="296460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3" name=""/>
          <p:cNvSpPr/>
          <p:nvPr/>
        </p:nvSpPr>
        <p:spPr>
          <a:xfrm rot="16200000">
            <a:off x="1721520" y="2896920"/>
            <a:ext cx="8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4" name=""/>
          <p:cNvSpPr/>
          <p:nvPr/>
        </p:nvSpPr>
        <p:spPr>
          <a:xfrm rot="16200000">
            <a:off x="1735920" y="282780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5" name=""/>
          <p:cNvSpPr/>
          <p:nvPr/>
        </p:nvSpPr>
        <p:spPr>
          <a:xfrm rot="16200000">
            <a:off x="1752480" y="2783520"/>
            <a:ext cx="237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6" name=""/>
          <p:cNvSpPr/>
          <p:nvPr/>
        </p:nvSpPr>
        <p:spPr>
          <a:xfrm>
            <a:off x="1276200" y="3232080"/>
            <a:ext cx="1800" cy="362160"/>
          </a:xfrm>
          <a:prstGeom prst="line">
            <a:avLst/>
          </a:prstGeom>
          <a:ln w="176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7" name=""/>
          <p:cNvSpPr/>
          <p:nvPr/>
        </p:nvSpPr>
        <p:spPr>
          <a:xfrm flipH="1">
            <a:off x="1275840" y="3524400"/>
            <a:ext cx="34920" cy="69840"/>
          </a:xfrm>
          <a:prstGeom prst="line">
            <a:avLst/>
          </a:prstGeom>
          <a:ln w="176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8" name=""/>
          <p:cNvSpPr/>
          <p:nvPr/>
        </p:nvSpPr>
        <p:spPr>
          <a:xfrm>
            <a:off x="1241280" y="3524400"/>
            <a:ext cx="34920" cy="69840"/>
          </a:xfrm>
          <a:prstGeom prst="line">
            <a:avLst/>
          </a:prstGeom>
          <a:ln w="176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9" name=""/>
          <p:cNvSpPr/>
          <p:nvPr/>
        </p:nvSpPr>
        <p:spPr>
          <a:xfrm rot="16200000">
            <a:off x="1251720" y="3074760"/>
            <a:ext cx="694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0" name=""/>
          <p:cNvSpPr/>
          <p:nvPr/>
        </p:nvSpPr>
        <p:spPr>
          <a:xfrm rot="16200000">
            <a:off x="1257840" y="301680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1" name=""/>
          <p:cNvSpPr/>
          <p:nvPr/>
        </p:nvSpPr>
        <p:spPr>
          <a:xfrm rot="16200000">
            <a:off x="1269360" y="2968560"/>
            <a:ext cx="342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2" name=""/>
          <p:cNvSpPr/>
          <p:nvPr/>
        </p:nvSpPr>
        <p:spPr>
          <a:xfrm rot="16200000">
            <a:off x="1271520" y="2941920"/>
            <a:ext cx="295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3" name=""/>
          <p:cNvSpPr/>
          <p:nvPr/>
        </p:nvSpPr>
        <p:spPr>
          <a:xfrm rot="16200000">
            <a:off x="1257840" y="290268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4" name=""/>
          <p:cNvSpPr/>
          <p:nvPr/>
        </p:nvSpPr>
        <p:spPr>
          <a:xfrm rot="16200000">
            <a:off x="1257840" y="284076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5" name=""/>
          <p:cNvSpPr/>
          <p:nvPr/>
        </p:nvSpPr>
        <p:spPr>
          <a:xfrm rot="16200000">
            <a:off x="1271520" y="2800440"/>
            <a:ext cx="295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6" name=""/>
          <p:cNvSpPr/>
          <p:nvPr/>
        </p:nvSpPr>
        <p:spPr>
          <a:xfrm rot="16200000">
            <a:off x="1257840" y="276120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7" name=""/>
          <p:cNvSpPr/>
          <p:nvPr/>
        </p:nvSpPr>
        <p:spPr>
          <a:xfrm rot="16200000">
            <a:off x="1260000" y="2702160"/>
            <a:ext cx="52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8" name=""/>
          <p:cNvSpPr/>
          <p:nvPr/>
        </p:nvSpPr>
        <p:spPr>
          <a:xfrm>
            <a:off x="1390680" y="1984320"/>
            <a:ext cx="936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9" name=""/>
          <p:cNvSpPr/>
          <p:nvPr/>
        </p:nvSpPr>
        <p:spPr>
          <a:xfrm>
            <a:off x="1479600" y="1984320"/>
            <a:ext cx="936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0" name=""/>
          <p:cNvSpPr/>
          <p:nvPr/>
        </p:nvSpPr>
        <p:spPr>
          <a:xfrm>
            <a:off x="7977240" y="1976400"/>
            <a:ext cx="1011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1" name=""/>
          <p:cNvSpPr/>
          <p:nvPr/>
        </p:nvSpPr>
        <p:spPr>
          <a:xfrm>
            <a:off x="8082720" y="1976400"/>
            <a:ext cx="1332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2" name=""/>
          <p:cNvSpPr/>
          <p:nvPr/>
        </p:nvSpPr>
        <p:spPr>
          <a:xfrm flipV="1">
            <a:off x="1241280" y="4539960"/>
            <a:ext cx="1800" cy="717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3" name=""/>
          <p:cNvSpPr/>
          <p:nvPr/>
        </p:nvSpPr>
        <p:spPr>
          <a:xfrm flipH="1">
            <a:off x="1170000" y="5257800"/>
            <a:ext cx="712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4" name=""/>
          <p:cNvSpPr/>
          <p:nvPr/>
        </p:nvSpPr>
        <p:spPr>
          <a:xfrm flipH="1">
            <a:off x="1170000" y="5114880"/>
            <a:ext cx="712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5" name=""/>
          <p:cNvSpPr/>
          <p:nvPr/>
        </p:nvSpPr>
        <p:spPr>
          <a:xfrm flipH="1">
            <a:off x="1170000" y="4965840"/>
            <a:ext cx="712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6" name=""/>
          <p:cNvSpPr/>
          <p:nvPr/>
        </p:nvSpPr>
        <p:spPr>
          <a:xfrm flipH="1">
            <a:off x="1170000" y="4824360"/>
            <a:ext cx="712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7" name=""/>
          <p:cNvSpPr/>
          <p:nvPr/>
        </p:nvSpPr>
        <p:spPr>
          <a:xfrm flipH="1">
            <a:off x="1170000" y="4681440"/>
            <a:ext cx="712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8" name=""/>
          <p:cNvSpPr/>
          <p:nvPr/>
        </p:nvSpPr>
        <p:spPr>
          <a:xfrm flipH="1">
            <a:off x="1170000" y="4540320"/>
            <a:ext cx="712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9" name=""/>
          <p:cNvSpPr/>
          <p:nvPr/>
        </p:nvSpPr>
        <p:spPr>
          <a:xfrm flipH="1">
            <a:off x="1206000" y="5186520"/>
            <a:ext cx="34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0" name=""/>
          <p:cNvSpPr/>
          <p:nvPr/>
        </p:nvSpPr>
        <p:spPr>
          <a:xfrm flipH="1">
            <a:off x="1206000" y="5045040"/>
            <a:ext cx="34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1" name=""/>
          <p:cNvSpPr/>
          <p:nvPr/>
        </p:nvSpPr>
        <p:spPr>
          <a:xfrm flipH="1">
            <a:off x="1206000" y="4894200"/>
            <a:ext cx="34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2" name=""/>
          <p:cNvSpPr/>
          <p:nvPr/>
        </p:nvSpPr>
        <p:spPr>
          <a:xfrm flipH="1">
            <a:off x="1206000" y="4753080"/>
            <a:ext cx="34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3" name=""/>
          <p:cNvSpPr/>
          <p:nvPr/>
        </p:nvSpPr>
        <p:spPr>
          <a:xfrm flipH="1">
            <a:off x="1206000" y="4611600"/>
            <a:ext cx="34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4" name=""/>
          <p:cNvSpPr/>
          <p:nvPr/>
        </p:nvSpPr>
        <p:spPr>
          <a:xfrm>
            <a:off x="897480" y="5195880"/>
            <a:ext cx="2034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-1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5" name=""/>
          <p:cNvSpPr/>
          <p:nvPr/>
        </p:nvSpPr>
        <p:spPr>
          <a:xfrm>
            <a:off x="959040" y="5054760"/>
            <a:ext cx="1468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-5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6" name=""/>
          <p:cNvSpPr/>
          <p:nvPr/>
        </p:nvSpPr>
        <p:spPr>
          <a:xfrm>
            <a:off x="1046160" y="490392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7" name=""/>
          <p:cNvSpPr/>
          <p:nvPr/>
        </p:nvSpPr>
        <p:spPr>
          <a:xfrm>
            <a:off x="984600" y="4762440"/>
            <a:ext cx="1134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8" name=""/>
          <p:cNvSpPr/>
          <p:nvPr/>
        </p:nvSpPr>
        <p:spPr>
          <a:xfrm>
            <a:off x="932760" y="4621320"/>
            <a:ext cx="1699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9" name=""/>
          <p:cNvSpPr/>
          <p:nvPr/>
        </p:nvSpPr>
        <p:spPr>
          <a:xfrm>
            <a:off x="932760" y="4470480"/>
            <a:ext cx="1699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5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0" name=""/>
          <p:cNvSpPr/>
          <p:nvPr/>
        </p:nvSpPr>
        <p:spPr>
          <a:xfrm rot="16200000">
            <a:off x="720720" y="5168880"/>
            <a:ext cx="92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1" name=""/>
          <p:cNvSpPr/>
          <p:nvPr/>
        </p:nvSpPr>
        <p:spPr>
          <a:xfrm rot="16200000">
            <a:off x="731160" y="50922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2" name=""/>
          <p:cNvSpPr/>
          <p:nvPr/>
        </p:nvSpPr>
        <p:spPr>
          <a:xfrm rot="16200000">
            <a:off x="748800" y="5039640"/>
            <a:ext cx="35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3" name=""/>
          <p:cNvSpPr/>
          <p:nvPr/>
        </p:nvSpPr>
        <p:spPr>
          <a:xfrm rot="16200000">
            <a:off x="731160" y="49860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4" name=""/>
          <p:cNvSpPr/>
          <p:nvPr/>
        </p:nvSpPr>
        <p:spPr>
          <a:xfrm rot="16200000">
            <a:off x="734400" y="492696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5" name=""/>
          <p:cNvSpPr/>
          <p:nvPr/>
        </p:nvSpPr>
        <p:spPr>
          <a:xfrm rot="16200000">
            <a:off x="748800" y="4879440"/>
            <a:ext cx="35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6" name=""/>
          <p:cNvSpPr/>
          <p:nvPr/>
        </p:nvSpPr>
        <p:spPr>
          <a:xfrm rot="16200000">
            <a:off x="744840" y="4838760"/>
            <a:ext cx="43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7" name=""/>
          <p:cNvSpPr/>
          <p:nvPr/>
        </p:nvSpPr>
        <p:spPr>
          <a:xfrm rot="16200000">
            <a:off x="713880" y="47725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8" name=""/>
          <p:cNvSpPr/>
          <p:nvPr/>
        </p:nvSpPr>
        <p:spPr>
          <a:xfrm rot="16200000">
            <a:off x="731160" y="46936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9" name=""/>
          <p:cNvSpPr/>
          <p:nvPr/>
        </p:nvSpPr>
        <p:spPr>
          <a:xfrm rot="16200000">
            <a:off x="748800" y="4641120"/>
            <a:ext cx="35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0" name=""/>
          <p:cNvSpPr/>
          <p:nvPr/>
        </p:nvSpPr>
        <p:spPr>
          <a:xfrm rot="16200000">
            <a:off x="744840" y="4600800"/>
            <a:ext cx="43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1" name=""/>
          <p:cNvSpPr/>
          <p:nvPr/>
        </p:nvSpPr>
        <p:spPr>
          <a:xfrm rot="16200000">
            <a:off x="731160" y="45525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2" name=""/>
          <p:cNvSpPr/>
          <p:nvPr/>
        </p:nvSpPr>
        <p:spPr>
          <a:xfrm rot="16200000">
            <a:off x="734400" y="4485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3" name=""/>
          <p:cNvSpPr/>
          <p:nvPr/>
        </p:nvSpPr>
        <p:spPr>
          <a:xfrm rot="16200000">
            <a:off x="744840" y="4432320"/>
            <a:ext cx="43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4" name=""/>
          <p:cNvSpPr/>
          <p:nvPr/>
        </p:nvSpPr>
        <p:spPr>
          <a:xfrm>
            <a:off x="1231920" y="4584600"/>
            <a:ext cx="6861240" cy="106560"/>
          </a:xfrm>
          <a:custGeom>
            <a:avLst/>
            <a:gdLst/>
            <a:ahLst/>
            <a:rect l="l" t="t" r="r" b="b"/>
            <a:pathLst>
              <a:path w="4322" h="67">
                <a:moveTo>
                  <a:pt x="0" y="6"/>
                </a:moveTo>
                <a:lnTo>
                  <a:pt x="17" y="6"/>
                </a:lnTo>
                <a:lnTo>
                  <a:pt x="39" y="6"/>
                </a:lnTo>
                <a:lnTo>
                  <a:pt x="62" y="6"/>
                </a:lnTo>
                <a:lnTo>
                  <a:pt x="84" y="6"/>
                </a:lnTo>
                <a:lnTo>
                  <a:pt x="106" y="0"/>
                </a:lnTo>
                <a:lnTo>
                  <a:pt x="128" y="0"/>
                </a:lnTo>
                <a:lnTo>
                  <a:pt x="151" y="0"/>
                </a:lnTo>
                <a:lnTo>
                  <a:pt x="173" y="0"/>
                </a:lnTo>
                <a:lnTo>
                  <a:pt x="195" y="0"/>
                </a:lnTo>
                <a:lnTo>
                  <a:pt x="217" y="0"/>
                </a:lnTo>
                <a:lnTo>
                  <a:pt x="240" y="0"/>
                </a:lnTo>
                <a:lnTo>
                  <a:pt x="256" y="0"/>
                </a:lnTo>
                <a:lnTo>
                  <a:pt x="279" y="0"/>
                </a:lnTo>
                <a:lnTo>
                  <a:pt x="301" y="0"/>
                </a:lnTo>
                <a:lnTo>
                  <a:pt x="323" y="0"/>
                </a:lnTo>
                <a:lnTo>
                  <a:pt x="346" y="0"/>
                </a:lnTo>
                <a:lnTo>
                  <a:pt x="368" y="0"/>
                </a:lnTo>
                <a:lnTo>
                  <a:pt x="390" y="6"/>
                </a:lnTo>
                <a:lnTo>
                  <a:pt x="412" y="6"/>
                </a:lnTo>
                <a:lnTo>
                  <a:pt x="435" y="6"/>
                </a:lnTo>
                <a:lnTo>
                  <a:pt x="457" y="6"/>
                </a:lnTo>
                <a:lnTo>
                  <a:pt x="474" y="11"/>
                </a:lnTo>
                <a:lnTo>
                  <a:pt x="496" y="11"/>
                </a:lnTo>
                <a:lnTo>
                  <a:pt x="518" y="11"/>
                </a:lnTo>
                <a:lnTo>
                  <a:pt x="540" y="17"/>
                </a:lnTo>
                <a:lnTo>
                  <a:pt x="563" y="17"/>
                </a:lnTo>
                <a:lnTo>
                  <a:pt x="585" y="22"/>
                </a:lnTo>
                <a:lnTo>
                  <a:pt x="607" y="22"/>
                </a:lnTo>
                <a:lnTo>
                  <a:pt x="630" y="28"/>
                </a:lnTo>
                <a:lnTo>
                  <a:pt x="646" y="28"/>
                </a:lnTo>
                <a:lnTo>
                  <a:pt x="669" y="34"/>
                </a:lnTo>
                <a:lnTo>
                  <a:pt x="691" y="34"/>
                </a:lnTo>
                <a:lnTo>
                  <a:pt x="713" y="39"/>
                </a:lnTo>
                <a:lnTo>
                  <a:pt x="735" y="39"/>
                </a:lnTo>
                <a:lnTo>
                  <a:pt x="758" y="39"/>
                </a:lnTo>
                <a:lnTo>
                  <a:pt x="780" y="45"/>
                </a:lnTo>
                <a:lnTo>
                  <a:pt x="802" y="45"/>
                </a:lnTo>
                <a:lnTo>
                  <a:pt x="824" y="45"/>
                </a:lnTo>
                <a:lnTo>
                  <a:pt x="841" y="45"/>
                </a:lnTo>
                <a:lnTo>
                  <a:pt x="863" y="50"/>
                </a:lnTo>
                <a:lnTo>
                  <a:pt x="886" y="50"/>
                </a:lnTo>
                <a:lnTo>
                  <a:pt x="908" y="50"/>
                </a:lnTo>
                <a:lnTo>
                  <a:pt x="930" y="50"/>
                </a:lnTo>
                <a:lnTo>
                  <a:pt x="953" y="50"/>
                </a:lnTo>
                <a:lnTo>
                  <a:pt x="975" y="50"/>
                </a:lnTo>
                <a:lnTo>
                  <a:pt x="997" y="50"/>
                </a:lnTo>
                <a:lnTo>
                  <a:pt x="1019" y="50"/>
                </a:lnTo>
                <a:lnTo>
                  <a:pt x="1042" y="50"/>
                </a:lnTo>
                <a:lnTo>
                  <a:pt x="1058" y="50"/>
                </a:lnTo>
                <a:lnTo>
                  <a:pt x="1081" y="56"/>
                </a:lnTo>
                <a:lnTo>
                  <a:pt x="1103" y="56"/>
                </a:lnTo>
                <a:lnTo>
                  <a:pt x="1125" y="56"/>
                </a:lnTo>
                <a:lnTo>
                  <a:pt x="1147" y="56"/>
                </a:lnTo>
                <a:lnTo>
                  <a:pt x="1170" y="56"/>
                </a:lnTo>
                <a:lnTo>
                  <a:pt x="1192" y="56"/>
                </a:lnTo>
                <a:lnTo>
                  <a:pt x="1214" y="56"/>
                </a:lnTo>
                <a:lnTo>
                  <a:pt x="1237" y="56"/>
                </a:lnTo>
                <a:lnTo>
                  <a:pt x="1259" y="56"/>
                </a:lnTo>
                <a:lnTo>
                  <a:pt x="1275" y="56"/>
                </a:lnTo>
                <a:lnTo>
                  <a:pt x="1298" y="56"/>
                </a:lnTo>
                <a:lnTo>
                  <a:pt x="1320" y="56"/>
                </a:lnTo>
                <a:lnTo>
                  <a:pt x="1342" y="56"/>
                </a:lnTo>
                <a:lnTo>
                  <a:pt x="1365" y="56"/>
                </a:lnTo>
                <a:lnTo>
                  <a:pt x="1387" y="56"/>
                </a:lnTo>
                <a:lnTo>
                  <a:pt x="1409" y="56"/>
                </a:lnTo>
                <a:lnTo>
                  <a:pt x="1431" y="56"/>
                </a:lnTo>
                <a:lnTo>
                  <a:pt x="1454" y="56"/>
                </a:lnTo>
                <a:lnTo>
                  <a:pt x="1476" y="56"/>
                </a:lnTo>
                <a:lnTo>
                  <a:pt x="1498" y="56"/>
                </a:lnTo>
                <a:lnTo>
                  <a:pt x="1515" y="56"/>
                </a:lnTo>
                <a:lnTo>
                  <a:pt x="1537" y="56"/>
                </a:lnTo>
                <a:lnTo>
                  <a:pt x="1559" y="56"/>
                </a:lnTo>
                <a:lnTo>
                  <a:pt x="1582" y="56"/>
                </a:lnTo>
                <a:lnTo>
                  <a:pt x="1604" y="56"/>
                </a:lnTo>
                <a:lnTo>
                  <a:pt x="1626" y="61"/>
                </a:lnTo>
                <a:lnTo>
                  <a:pt x="1649" y="61"/>
                </a:lnTo>
                <a:lnTo>
                  <a:pt x="1671" y="61"/>
                </a:lnTo>
                <a:lnTo>
                  <a:pt x="1693" y="61"/>
                </a:lnTo>
                <a:lnTo>
                  <a:pt x="1715" y="61"/>
                </a:lnTo>
                <a:lnTo>
                  <a:pt x="1732" y="61"/>
                </a:lnTo>
                <a:lnTo>
                  <a:pt x="1754" y="61"/>
                </a:lnTo>
                <a:lnTo>
                  <a:pt x="1777" y="67"/>
                </a:lnTo>
                <a:lnTo>
                  <a:pt x="1799" y="67"/>
                </a:lnTo>
                <a:lnTo>
                  <a:pt x="1821" y="67"/>
                </a:lnTo>
                <a:lnTo>
                  <a:pt x="1843" y="67"/>
                </a:lnTo>
                <a:lnTo>
                  <a:pt x="1866" y="67"/>
                </a:lnTo>
                <a:lnTo>
                  <a:pt x="1888" y="67"/>
                </a:lnTo>
                <a:lnTo>
                  <a:pt x="1910" y="67"/>
                </a:lnTo>
                <a:lnTo>
                  <a:pt x="1933" y="67"/>
                </a:lnTo>
                <a:lnTo>
                  <a:pt x="1955" y="67"/>
                </a:lnTo>
                <a:lnTo>
                  <a:pt x="1972" y="67"/>
                </a:lnTo>
                <a:lnTo>
                  <a:pt x="1994" y="67"/>
                </a:lnTo>
                <a:lnTo>
                  <a:pt x="2016" y="67"/>
                </a:lnTo>
                <a:lnTo>
                  <a:pt x="2038" y="67"/>
                </a:lnTo>
                <a:lnTo>
                  <a:pt x="2061" y="67"/>
                </a:lnTo>
                <a:lnTo>
                  <a:pt x="2083" y="61"/>
                </a:lnTo>
                <a:lnTo>
                  <a:pt x="2105" y="61"/>
                </a:lnTo>
                <a:lnTo>
                  <a:pt x="2128" y="61"/>
                </a:lnTo>
                <a:lnTo>
                  <a:pt x="2150" y="61"/>
                </a:lnTo>
                <a:lnTo>
                  <a:pt x="2172" y="61"/>
                </a:lnTo>
                <a:lnTo>
                  <a:pt x="2189" y="61"/>
                </a:lnTo>
                <a:lnTo>
                  <a:pt x="2211" y="61"/>
                </a:lnTo>
                <a:lnTo>
                  <a:pt x="2233" y="61"/>
                </a:lnTo>
                <a:lnTo>
                  <a:pt x="2256" y="61"/>
                </a:lnTo>
                <a:lnTo>
                  <a:pt x="2278" y="61"/>
                </a:lnTo>
                <a:lnTo>
                  <a:pt x="2300" y="61"/>
                </a:lnTo>
                <a:lnTo>
                  <a:pt x="2322" y="61"/>
                </a:lnTo>
                <a:lnTo>
                  <a:pt x="2345" y="61"/>
                </a:lnTo>
                <a:lnTo>
                  <a:pt x="2367" y="61"/>
                </a:lnTo>
                <a:lnTo>
                  <a:pt x="2389" y="61"/>
                </a:lnTo>
                <a:lnTo>
                  <a:pt x="2412" y="61"/>
                </a:lnTo>
                <a:lnTo>
                  <a:pt x="2428" y="61"/>
                </a:lnTo>
                <a:lnTo>
                  <a:pt x="2450" y="61"/>
                </a:lnTo>
                <a:lnTo>
                  <a:pt x="2473" y="61"/>
                </a:lnTo>
                <a:lnTo>
                  <a:pt x="2495" y="61"/>
                </a:lnTo>
                <a:lnTo>
                  <a:pt x="2517" y="61"/>
                </a:lnTo>
                <a:lnTo>
                  <a:pt x="2540" y="61"/>
                </a:lnTo>
                <a:lnTo>
                  <a:pt x="2562" y="61"/>
                </a:lnTo>
                <a:lnTo>
                  <a:pt x="2584" y="61"/>
                </a:lnTo>
                <a:lnTo>
                  <a:pt x="2606" y="61"/>
                </a:lnTo>
                <a:lnTo>
                  <a:pt x="2629" y="61"/>
                </a:lnTo>
                <a:lnTo>
                  <a:pt x="2645" y="61"/>
                </a:lnTo>
                <a:lnTo>
                  <a:pt x="2668" y="61"/>
                </a:lnTo>
                <a:lnTo>
                  <a:pt x="2690" y="61"/>
                </a:lnTo>
                <a:lnTo>
                  <a:pt x="2712" y="61"/>
                </a:lnTo>
                <a:lnTo>
                  <a:pt x="2734" y="61"/>
                </a:lnTo>
                <a:lnTo>
                  <a:pt x="2757" y="61"/>
                </a:lnTo>
                <a:lnTo>
                  <a:pt x="2779" y="61"/>
                </a:lnTo>
                <a:lnTo>
                  <a:pt x="2801" y="61"/>
                </a:lnTo>
                <a:lnTo>
                  <a:pt x="2824" y="61"/>
                </a:lnTo>
                <a:lnTo>
                  <a:pt x="2846" y="61"/>
                </a:lnTo>
                <a:lnTo>
                  <a:pt x="2863" y="61"/>
                </a:lnTo>
                <a:lnTo>
                  <a:pt x="2885" y="61"/>
                </a:lnTo>
                <a:lnTo>
                  <a:pt x="2907" y="61"/>
                </a:lnTo>
                <a:lnTo>
                  <a:pt x="2929" y="67"/>
                </a:lnTo>
                <a:lnTo>
                  <a:pt x="2952" y="67"/>
                </a:lnTo>
                <a:lnTo>
                  <a:pt x="2974" y="67"/>
                </a:lnTo>
                <a:lnTo>
                  <a:pt x="2996" y="67"/>
                </a:lnTo>
                <a:lnTo>
                  <a:pt x="3018" y="67"/>
                </a:lnTo>
                <a:lnTo>
                  <a:pt x="3041" y="61"/>
                </a:lnTo>
                <a:lnTo>
                  <a:pt x="3063" y="61"/>
                </a:lnTo>
                <a:lnTo>
                  <a:pt x="3085" y="61"/>
                </a:lnTo>
                <a:lnTo>
                  <a:pt x="3102" y="61"/>
                </a:lnTo>
                <a:lnTo>
                  <a:pt x="3124" y="61"/>
                </a:lnTo>
                <a:lnTo>
                  <a:pt x="3147" y="61"/>
                </a:lnTo>
                <a:lnTo>
                  <a:pt x="3169" y="61"/>
                </a:lnTo>
                <a:lnTo>
                  <a:pt x="3191" y="61"/>
                </a:lnTo>
                <a:lnTo>
                  <a:pt x="3213" y="61"/>
                </a:lnTo>
                <a:lnTo>
                  <a:pt x="3236" y="61"/>
                </a:lnTo>
                <a:lnTo>
                  <a:pt x="3258" y="61"/>
                </a:lnTo>
                <a:lnTo>
                  <a:pt x="3280" y="61"/>
                </a:lnTo>
                <a:lnTo>
                  <a:pt x="3302" y="61"/>
                </a:lnTo>
                <a:lnTo>
                  <a:pt x="3325" y="61"/>
                </a:lnTo>
                <a:lnTo>
                  <a:pt x="3341" y="61"/>
                </a:lnTo>
                <a:lnTo>
                  <a:pt x="3364" y="61"/>
                </a:lnTo>
                <a:lnTo>
                  <a:pt x="3386" y="56"/>
                </a:lnTo>
                <a:lnTo>
                  <a:pt x="3408" y="56"/>
                </a:lnTo>
                <a:lnTo>
                  <a:pt x="3431" y="56"/>
                </a:lnTo>
                <a:lnTo>
                  <a:pt x="3453" y="56"/>
                </a:lnTo>
                <a:lnTo>
                  <a:pt x="3475" y="56"/>
                </a:lnTo>
                <a:lnTo>
                  <a:pt x="3497" y="56"/>
                </a:lnTo>
                <a:lnTo>
                  <a:pt x="3520" y="56"/>
                </a:lnTo>
                <a:lnTo>
                  <a:pt x="3542" y="56"/>
                </a:lnTo>
                <a:lnTo>
                  <a:pt x="3559" y="56"/>
                </a:lnTo>
                <a:lnTo>
                  <a:pt x="3581" y="56"/>
                </a:lnTo>
                <a:lnTo>
                  <a:pt x="3603" y="50"/>
                </a:lnTo>
                <a:lnTo>
                  <a:pt x="3625" y="50"/>
                </a:lnTo>
                <a:lnTo>
                  <a:pt x="3648" y="50"/>
                </a:lnTo>
                <a:lnTo>
                  <a:pt x="3670" y="50"/>
                </a:lnTo>
                <a:lnTo>
                  <a:pt x="3692" y="50"/>
                </a:lnTo>
                <a:lnTo>
                  <a:pt x="3715" y="50"/>
                </a:lnTo>
                <a:lnTo>
                  <a:pt x="3737" y="50"/>
                </a:lnTo>
                <a:lnTo>
                  <a:pt x="3759" y="50"/>
                </a:lnTo>
                <a:lnTo>
                  <a:pt x="3781" y="45"/>
                </a:lnTo>
                <a:lnTo>
                  <a:pt x="3798" y="45"/>
                </a:lnTo>
                <a:lnTo>
                  <a:pt x="3820" y="45"/>
                </a:lnTo>
                <a:lnTo>
                  <a:pt x="3843" y="45"/>
                </a:lnTo>
                <a:lnTo>
                  <a:pt x="3865" y="45"/>
                </a:lnTo>
                <a:lnTo>
                  <a:pt x="3887" y="45"/>
                </a:lnTo>
                <a:lnTo>
                  <a:pt x="3909" y="45"/>
                </a:lnTo>
                <a:lnTo>
                  <a:pt x="3932" y="39"/>
                </a:lnTo>
                <a:lnTo>
                  <a:pt x="3954" y="39"/>
                </a:lnTo>
                <a:lnTo>
                  <a:pt x="3976" y="39"/>
                </a:lnTo>
                <a:lnTo>
                  <a:pt x="3993" y="39"/>
                </a:lnTo>
                <a:lnTo>
                  <a:pt x="4015" y="39"/>
                </a:lnTo>
                <a:lnTo>
                  <a:pt x="4038" y="34"/>
                </a:lnTo>
                <a:lnTo>
                  <a:pt x="4060" y="34"/>
                </a:lnTo>
                <a:lnTo>
                  <a:pt x="4082" y="34"/>
                </a:lnTo>
                <a:lnTo>
                  <a:pt x="4104" y="34"/>
                </a:lnTo>
                <a:lnTo>
                  <a:pt x="4127" y="34"/>
                </a:lnTo>
                <a:lnTo>
                  <a:pt x="4149" y="34"/>
                </a:lnTo>
                <a:lnTo>
                  <a:pt x="4171" y="28"/>
                </a:lnTo>
                <a:lnTo>
                  <a:pt x="4193" y="28"/>
                </a:lnTo>
                <a:lnTo>
                  <a:pt x="4210" y="28"/>
                </a:lnTo>
                <a:lnTo>
                  <a:pt x="4232" y="28"/>
                </a:lnTo>
                <a:lnTo>
                  <a:pt x="4255" y="28"/>
                </a:lnTo>
                <a:lnTo>
                  <a:pt x="4277" y="22"/>
                </a:lnTo>
                <a:lnTo>
                  <a:pt x="4299" y="22"/>
                </a:lnTo>
                <a:lnTo>
                  <a:pt x="4322" y="22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5" name=""/>
          <p:cNvSpPr/>
          <p:nvPr/>
        </p:nvSpPr>
        <p:spPr>
          <a:xfrm>
            <a:off x="3114720" y="4681440"/>
            <a:ext cx="5261040" cy="663840"/>
          </a:xfrm>
          <a:custGeom>
            <a:avLst/>
            <a:gdLst/>
            <a:ahLst/>
            <a:rect l="l" t="t" r="r" b="b"/>
            <a:pathLst>
              <a:path w="3314" h="418">
                <a:moveTo>
                  <a:pt x="1755" y="95"/>
                </a:moveTo>
                <a:lnTo>
                  <a:pt x="3130" y="106"/>
                </a:lnTo>
                <a:lnTo>
                  <a:pt x="1771" y="173"/>
                </a:lnTo>
                <a:lnTo>
                  <a:pt x="2451" y="179"/>
                </a:lnTo>
                <a:lnTo>
                  <a:pt x="3241" y="179"/>
                </a:lnTo>
                <a:lnTo>
                  <a:pt x="2384" y="201"/>
                </a:lnTo>
                <a:lnTo>
                  <a:pt x="1660" y="218"/>
                </a:lnTo>
                <a:lnTo>
                  <a:pt x="3314" y="240"/>
                </a:lnTo>
                <a:lnTo>
                  <a:pt x="1521" y="285"/>
                </a:lnTo>
                <a:lnTo>
                  <a:pt x="2579" y="296"/>
                </a:lnTo>
                <a:lnTo>
                  <a:pt x="1565" y="335"/>
                </a:lnTo>
                <a:lnTo>
                  <a:pt x="2239" y="335"/>
                </a:lnTo>
                <a:lnTo>
                  <a:pt x="1716" y="351"/>
                </a:lnTo>
                <a:lnTo>
                  <a:pt x="1621" y="363"/>
                </a:lnTo>
                <a:lnTo>
                  <a:pt x="1855" y="363"/>
                </a:lnTo>
                <a:lnTo>
                  <a:pt x="2055" y="363"/>
                </a:lnTo>
                <a:lnTo>
                  <a:pt x="2206" y="368"/>
                </a:lnTo>
                <a:lnTo>
                  <a:pt x="2807" y="379"/>
                </a:lnTo>
                <a:lnTo>
                  <a:pt x="1810" y="396"/>
                </a:lnTo>
                <a:lnTo>
                  <a:pt x="1654" y="401"/>
                </a:lnTo>
                <a:lnTo>
                  <a:pt x="1599" y="401"/>
                </a:lnTo>
                <a:lnTo>
                  <a:pt x="1487" y="401"/>
                </a:lnTo>
                <a:lnTo>
                  <a:pt x="1599" y="374"/>
                </a:lnTo>
                <a:lnTo>
                  <a:pt x="1370" y="368"/>
                </a:lnTo>
                <a:lnTo>
                  <a:pt x="1443" y="340"/>
                </a:lnTo>
                <a:lnTo>
                  <a:pt x="1181" y="340"/>
                </a:lnTo>
                <a:lnTo>
                  <a:pt x="1331" y="374"/>
                </a:lnTo>
                <a:lnTo>
                  <a:pt x="1148" y="385"/>
                </a:lnTo>
                <a:lnTo>
                  <a:pt x="1320" y="401"/>
                </a:lnTo>
                <a:lnTo>
                  <a:pt x="1342" y="407"/>
                </a:lnTo>
                <a:lnTo>
                  <a:pt x="1287" y="413"/>
                </a:lnTo>
                <a:lnTo>
                  <a:pt x="1220" y="418"/>
                </a:lnTo>
                <a:lnTo>
                  <a:pt x="1175" y="418"/>
                </a:lnTo>
                <a:lnTo>
                  <a:pt x="841" y="396"/>
                </a:lnTo>
                <a:lnTo>
                  <a:pt x="591" y="385"/>
                </a:lnTo>
                <a:lnTo>
                  <a:pt x="451" y="390"/>
                </a:lnTo>
                <a:lnTo>
                  <a:pt x="346" y="385"/>
                </a:lnTo>
                <a:lnTo>
                  <a:pt x="195" y="379"/>
                </a:lnTo>
                <a:lnTo>
                  <a:pt x="117" y="374"/>
                </a:lnTo>
                <a:lnTo>
                  <a:pt x="0" y="363"/>
                </a:lnTo>
                <a:lnTo>
                  <a:pt x="273" y="318"/>
                </a:lnTo>
                <a:lnTo>
                  <a:pt x="89" y="296"/>
                </a:lnTo>
                <a:lnTo>
                  <a:pt x="290" y="273"/>
                </a:lnTo>
                <a:lnTo>
                  <a:pt x="335" y="329"/>
                </a:lnTo>
                <a:lnTo>
                  <a:pt x="557" y="329"/>
                </a:lnTo>
                <a:lnTo>
                  <a:pt x="769" y="324"/>
                </a:lnTo>
                <a:lnTo>
                  <a:pt x="680" y="273"/>
                </a:lnTo>
                <a:lnTo>
                  <a:pt x="769" y="279"/>
                </a:lnTo>
                <a:lnTo>
                  <a:pt x="1159" y="273"/>
                </a:lnTo>
                <a:lnTo>
                  <a:pt x="1075" y="257"/>
                </a:lnTo>
                <a:lnTo>
                  <a:pt x="741" y="246"/>
                </a:lnTo>
                <a:lnTo>
                  <a:pt x="574" y="240"/>
                </a:lnTo>
                <a:lnTo>
                  <a:pt x="390" y="246"/>
                </a:lnTo>
                <a:lnTo>
                  <a:pt x="106" y="229"/>
                </a:lnTo>
                <a:lnTo>
                  <a:pt x="140" y="207"/>
                </a:lnTo>
                <a:lnTo>
                  <a:pt x="223" y="201"/>
                </a:lnTo>
                <a:lnTo>
                  <a:pt x="396" y="195"/>
                </a:lnTo>
                <a:lnTo>
                  <a:pt x="318" y="179"/>
                </a:lnTo>
                <a:lnTo>
                  <a:pt x="724" y="179"/>
                </a:lnTo>
                <a:lnTo>
                  <a:pt x="496" y="195"/>
                </a:lnTo>
                <a:lnTo>
                  <a:pt x="435" y="201"/>
                </a:lnTo>
                <a:lnTo>
                  <a:pt x="496" y="207"/>
                </a:lnTo>
                <a:lnTo>
                  <a:pt x="708" y="201"/>
                </a:lnTo>
                <a:lnTo>
                  <a:pt x="1214" y="195"/>
                </a:lnTo>
                <a:lnTo>
                  <a:pt x="1337" y="173"/>
                </a:lnTo>
                <a:lnTo>
                  <a:pt x="663" y="168"/>
                </a:lnTo>
                <a:lnTo>
                  <a:pt x="112" y="168"/>
                </a:lnTo>
                <a:lnTo>
                  <a:pt x="357" y="151"/>
                </a:lnTo>
                <a:lnTo>
                  <a:pt x="257" y="123"/>
                </a:lnTo>
                <a:lnTo>
                  <a:pt x="346" y="123"/>
                </a:lnTo>
                <a:lnTo>
                  <a:pt x="412" y="123"/>
                </a:lnTo>
                <a:lnTo>
                  <a:pt x="529" y="123"/>
                </a:lnTo>
                <a:lnTo>
                  <a:pt x="691" y="117"/>
                </a:lnTo>
                <a:lnTo>
                  <a:pt x="825" y="123"/>
                </a:lnTo>
                <a:lnTo>
                  <a:pt x="719" y="145"/>
                </a:lnTo>
                <a:lnTo>
                  <a:pt x="1153" y="145"/>
                </a:lnTo>
                <a:lnTo>
                  <a:pt x="1220" y="129"/>
                </a:lnTo>
                <a:lnTo>
                  <a:pt x="1159" y="117"/>
                </a:lnTo>
                <a:lnTo>
                  <a:pt x="234" y="112"/>
                </a:lnTo>
                <a:lnTo>
                  <a:pt x="218" y="73"/>
                </a:lnTo>
                <a:lnTo>
                  <a:pt x="619" y="73"/>
                </a:lnTo>
                <a:lnTo>
                  <a:pt x="1042" y="67"/>
                </a:lnTo>
                <a:lnTo>
                  <a:pt x="1287" y="51"/>
                </a:lnTo>
                <a:lnTo>
                  <a:pt x="323" y="39"/>
                </a:lnTo>
                <a:lnTo>
                  <a:pt x="0" y="34"/>
                </a:lnTo>
                <a:lnTo>
                  <a:pt x="223" y="0"/>
                </a:lnTo>
                <a:lnTo>
                  <a:pt x="351" y="0"/>
                </a:lnTo>
                <a:lnTo>
                  <a:pt x="490" y="6"/>
                </a:lnTo>
                <a:lnTo>
                  <a:pt x="663" y="12"/>
                </a:lnTo>
                <a:lnTo>
                  <a:pt x="841" y="12"/>
                </a:lnTo>
                <a:lnTo>
                  <a:pt x="1086" y="6"/>
                </a:lnTo>
                <a:lnTo>
                  <a:pt x="1292" y="6"/>
                </a:lnTo>
                <a:lnTo>
                  <a:pt x="1515" y="6"/>
                </a:lnTo>
                <a:lnTo>
                  <a:pt x="1794" y="12"/>
                </a:lnTo>
                <a:lnTo>
                  <a:pt x="1933" y="6"/>
                </a:lnTo>
                <a:lnTo>
                  <a:pt x="1665" y="56"/>
                </a:lnTo>
                <a:lnTo>
                  <a:pt x="2323" y="34"/>
                </a:lnTo>
                <a:lnTo>
                  <a:pt x="2852" y="34"/>
                </a:lnTo>
                <a:lnTo>
                  <a:pt x="2484" y="51"/>
                </a:lnTo>
                <a:lnTo>
                  <a:pt x="3035" y="62"/>
                </a:lnTo>
                <a:lnTo>
                  <a:pt x="1755" y="95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86" name=""/>
          <p:cNvGrpSpPr/>
          <p:nvPr/>
        </p:nvGrpSpPr>
        <p:grpSpPr>
          <a:xfrm>
            <a:off x="1179360" y="5159520"/>
            <a:ext cx="2281320" cy="520200"/>
            <a:chOff x="1179360" y="5159520"/>
            <a:chExt cx="2281320" cy="520200"/>
          </a:xfrm>
        </p:grpSpPr>
        <p:sp>
          <p:nvSpPr>
            <p:cNvPr id="2387" name=""/>
            <p:cNvSpPr/>
            <p:nvPr/>
          </p:nvSpPr>
          <p:spPr>
            <a:xfrm>
              <a:off x="1179360" y="5451480"/>
              <a:ext cx="173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800" spc="-1" strike="noStrike">
                  <a:solidFill>
                    <a:srgbClr val="000000"/>
                  </a:solidFill>
                  <a:latin typeface="Arial"/>
                </a:rPr>
                <a:t>Variação de fácies da Form. Jandaíra.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88" name=""/>
            <p:cNvGrpSpPr/>
            <p:nvPr/>
          </p:nvGrpSpPr>
          <p:grpSpPr>
            <a:xfrm>
              <a:off x="1179720" y="5159520"/>
              <a:ext cx="2280960" cy="520200"/>
              <a:chOff x="1179720" y="5159520"/>
              <a:chExt cx="2280960" cy="520200"/>
            </a:xfrm>
          </p:grpSpPr>
          <p:sp>
            <p:nvSpPr>
              <p:cNvPr id="2389" name=""/>
              <p:cNvSpPr/>
              <p:nvPr/>
            </p:nvSpPr>
            <p:spPr>
              <a:xfrm>
                <a:off x="1179720" y="5557680"/>
                <a:ext cx="21358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800" spc="-1" strike="noStrike">
                    <a:solidFill>
                      <a:srgbClr val="000000"/>
                    </a:solidFill>
                    <a:latin typeface="Arial"/>
                  </a:rPr>
                  <a:t>Predominância de argilas e folhelhos cinzento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0" name=""/>
              <p:cNvSpPr/>
              <p:nvPr/>
            </p:nvSpPr>
            <p:spPr>
              <a:xfrm>
                <a:off x="2752560" y="5159520"/>
                <a:ext cx="708120" cy="433080"/>
              </a:xfrm>
              <a:custGeom>
                <a:avLst/>
                <a:gdLst/>
                <a:ahLst/>
                <a:rect l="l" t="t" r="r" b="b"/>
                <a:pathLst>
                  <a:path w="446" h="273">
                    <a:moveTo>
                      <a:pt x="340" y="273"/>
                    </a:moveTo>
                    <a:lnTo>
                      <a:pt x="446" y="178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391" name=""/>
          <p:cNvGrpSpPr/>
          <p:nvPr/>
        </p:nvGrpSpPr>
        <p:grpSpPr>
          <a:xfrm>
            <a:off x="4689720" y="5045040"/>
            <a:ext cx="1679400" cy="661680"/>
            <a:chOff x="4689720" y="5045040"/>
            <a:chExt cx="1679400" cy="661680"/>
          </a:xfrm>
        </p:grpSpPr>
        <p:sp>
          <p:nvSpPr>
            <p:cNvPr id="2392" name=""/>
            <p:cNvSpPr/>
            <p:nvPr/>
          </p:nvSpPr>
          <p:spPr>
            <a:xfrm>
              <a:off x="4689720" y="5584680"/>
              <a:ext cx="1480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800" spc="-1" strike="noStrike">
                  <a:solidFill>
                    <a:srgbClr val="000000"/>
                  </a:solidFill>
                  <a:latin typeface="Arial"/>
                </a:rPr>
                <a:t>Calcários da Formação Jandaír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3" name=""/>
            <p:cNvSpPr/>
            <p:nvPr/>
          </p:nvSpPr>
          <p:spPr>
            <a:xfrm>
              <a:off x="5616720" y="5045040"/>
              <a:ext cx="752400" cy="592200"/>
            </a:xfrm>
            <a:custGeom>
              <a:avLst/>
              <a:gdLst/>
              <a:ahLst/>
              <a:rect l="l" t="t" r="r" b="b"/>
              <a:pathLst>
                <a:path w="474" h="373">
                  <a:moveTo>
                    <a:pt x="357" y="373"/>
                  </a:moveTo>
                  <a:lnTo>
                    <a:pt x="474" y="317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94" name=""/>
          <p:cNvSpPr/>
          <p:nvPr/>
        </p:nvSpPr>
        <p:spPr>
          <a:xfrm>
            <a:off x="2054160" y="4788000"/>
            <a:ext cx="1211400" cy="222120"/>
          </a:xfrm>
          <a:custGeom>
            <a:avLst/>
            <a:gdLst/>
            <a:ahLst/>
            <a:rect l="l" t="t" r="r" b="b"/>
            <a:pathLst>
              <a:path w="763" h="140">
                <a:moveTo>
                  <a:pt x="390" y="0"/>
                </a:moveTo>
                <a:lnTo>
                  <a:pt x="0" y="0"/>
                </a:lnTo>
                <a:lnTo>
                  <a:pt x="279" y="62"/>
                </a:lnTo>
                <a:lnTo>
                  <a:pt x="22" y="62"/>
                </a:lnTo>
                <a:lnTo>
                  <a:pt x="273" y="78"/>
                </a:lnTo>
                <a:lnTo>
                  <a:pt x="100" y="89"/>
                </a:lnTo>
                <a:lnTo>
                  <a:pt x="301" y="89"/>
                </a:lnTo>
                <a:lnTo>
                  <a:pt x="167" y="134"/>
                </a:lnTo>
                <a:lnTo>
                  <a:pt x="607" y="140"/>
                </a:lnTo>
                <a:lnTo>
                  <a:pt x="446" y="95"/>
                </a:lnTo>
                <a:lnTo>
                  <a:pt x="763" y="84"/>
                </a:lnTo>
                <a:lnTo>
                  <a:pt x="468" y="62"/>
                </a:lnTo>
                <a:lnTo>
                  <a:pt x="680" y="50"/>
                </a:lnTo>
                <a:lnTo>
                  <a:pt x="507" y="39"/>
                </a:lnTo>
                <a:lnTo>
                  <a:pt x="618" y="28"/>
                </a:lnTo>
                <a:lnTo>
                  <a:pt x="251" y="28"/>
                </a:lnTo>
                <a:lnTo>
                  <a:pt x="390" y="0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5" name=""/>
          <p:cNvSpPr/>
          <p:nvPr/>
        </p:nvSpPr>
        <p:spPr>
          <a:xfrm>
            <a:off x="1231920" y="4735440"/>
            <a:ext cx="814320" cy="44640"/>
          </a:xfrm>
          <a:custGeom>
            <a:avLst/>
            <a:gdLst/>
            <a:ahLst/>
            <a:rect l="l" t="t" r="r" b="b"/>
            <a:pathLst>
              <a:path w="513" h="28">
                <a:moveTo>
                  <a:pt x="123" y="0"/>
                </a:moveTo>
                <a:lnTo>
                  <a:pt x="346" y="0"/>
                </a:lnTo>
                <a:lnTo>
                  <a:pt x="318" y="5"/>
                </a:lnTo>
                <a:lnTo>
                  <a:pt x="513" y="5"/>
                </a:lnTo>
                <a:lnTo>
                  <a:pt x="412" y="17"/>
                </a:lnTo>
                <a:lnTo>
                  <a:pt x="485" y="17"/>
                </a:lnTo>
                <a:lnTo>
                  <a:pt x="206" y="17"/>
                </a:lnTo>
                <a:lnTo>
                  <a:pt x="279" y="28"/>
                </a:lnTo>
                <a:lnTo>
                  <a:pt x="117" y="28"/>
                </a:lnTo>
                <a:lnTo>
                  <a:pt x="167" y="17"/>
                </a:lnTo>
                <a:lnTo>
                  <a:pt x="0" y="11"/>
                </a:lnTo>
                <a:lnTo>
                  <a:pt x="123" y="0"/>
                </a:lnTo>
                <a:lnTo>
                  <a:pt x="123" y="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6" name=""/>
          <p:cNvSpPr/>
          <p:nvPr/>
        </p:nvSpPr>
        <p:spPr>
          <a:xfrm>
            <a:off x="1258920" y="4973760"/>
            <a:ext cx="804960" cy="54000"/>
          </a:xfrm>
          <a:custGeom>
            <a:avLst/>
            <a:gdLst/>
            <a:ahLst/>
            <a:rect l="l" t="t" r="r" b="b"/>
            <a:pathLst>
              <a:path w="507" h="34">
                <a:moveTo>
                  <a:pt x="117" y="6"/>
                </a:moveTo>
                <a:lnTo>
                  <a:pt x="340" y="0"/>
                </a:lnTo>
                <a:lnTo>
                  <a:pt x="312" y="11"/>
                </a:lnTo>
                <a:lnTo>
                  <a:pt x="507" y="11"/>
                </a:lnTo>
                <a:lnTo>
                  <a:pt x="406" y="17"/>
                </a:lnTo>
                <a:lnTo>
                  <a:pt x="479" y="17"/>
                </a:lnTo>
                <a:lnTo>
                  <a:pt x="206" y="23"/>
                </a:lnTo>
                <a:lnTo>
                  <a:pt x="273" y="34"/>
                </a:lnTo>
                <a:lnTo>
                  <a:pt x="111" y="34"/>
                </a:lnTo>
                <a:lnTo>
                  <a:pt x="161" y="23"/>
                </a:lnTo>
                <a:lnTo>
                  <a:pt x="0" y="11"/>
                </a:lnTo>
                <a:lnTo>
                  <a:pt x="122" y="6"/>
                </a:lnTo>
                <a:lnTo>
                  <a:pt x="117" y="6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7" name=""/>
          <p:cNvSpPr/>
          <p:nvPr/>
        </p:nvSpPr>
        <p:spPr>
          <a:xfrm>
            <a:off x="1576440" y="5124600"/>
            <a:ext cx="814320" cy="52200"/>
          </a:xfrm>
          <a:custGeom>
            <a:avLst/>
            <a:gdLst/>
            <a:ahLst/>
            <a:rect l="l" t="t" r="r" b="b"/>
            <a:pathLst>
              <a:path w="513" h="33">
                <a:moveTo>
                  <a:pt x="123" y="6"/>
                </a:moveTo>
                <a:lnTo>
                  <a:pt x="340" y="0"/>
                </a:lnTo>
                <a:lnTo>
                  <a:pt x="318" y="11"/>
                </a:lnTo>
                <a:lnTo>
                  <a:pt x="513" y="11"/>
                </a:lnTo>
                <a:lnTo>
                  <a:pt x="413" y="17"/>
                </a:lnTo>
                <a:lnTo>
                  <a:pt x="485" y="17"/>
                </a:lnTo>
                <a:lnTo>
                  <a:pt x="206" y="22"/>
                </a:lnTo>
                <a:lnTo>
                  <a:pt x="273" y="33"/>
                </a:lnTo>
                <a:lnTo>
                  <a:pt x="112" y="33"/>
                </a:lnTo>
                <a:lnTo>
                  <a:pt x="167" y="22"/>
                </a:lnTo>
                <a:lnTo>
                  <a:pt x="0" y="11"/>
                </a:lnTo>
                <a:lnTo>
                  <a:pt x="123" y="6"/>
                </a:lnTo>
                <a:lnTo>
                  <a:pt x="123" y="6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2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2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2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8" name="PlaceHolder 1"/>
          <p:cNvSpPr>
            <a:spLocks noGrp="1"/>
          </p:cNvSpPr>
          <p:nvPr>
            <p:ph type="title"/>
          </p:nvPr>
        </p:nvSpPr>
        <p:spPr>
          <a:xfrm>
            <a:off x="1350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99"/>
                </a:solidFill>
                <a:latin typeface="Tahoma"/>
              </a:rPr>
              <a:t>BARAUNAS – RN</a:t>
            </a:r>
            <a:br>
              <a:rPr sz="2400"/>
            </a:br>
            <a:r>
              <a:rPr b="0" lang="pt-BR" sz="2400" spc="-1" strike="noStrike">
                <a:solidFill>
                  <a:srgbClr val="333399"/>
                </a:solidFill>
                <a:latin typeface="Tahoma"/>
              </a:rPr>
              <a:t>Aquífero Jandaíra – Indice de Carstificação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99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0" name=""/>
          <p:cNvSpPr/>
          <p:nvPr/>
        </p:nvSpPr>
        <p:spPr>
          <a:xfrm>
            <a:off x="0" y="31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1" name=""/>
              <p:cNvSpPr txBox="1"/>
              <p:nvPr/>
            </p:nvSpPr>
            <p:spPr>
              <a:xfrm>
                <a:off x="1403280" y="5516640"/>
                <a:ext cx="618192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IC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i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</m:e>
                            </m:d>
                          </m:e>
                        </m:nary>
                      </m:e>
                    </m:d>
                    <m:r>
                      <m:t xml:space="preserve"> </m:t>
                    </m:r>
                    <m:r>
                      <m:t xml:space="preserve">⋅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para</m:t>
                    </m:r>
                    <m:r>
                      <m:t xml:space="preserve"> </m:t>
                    </m:r>
                    <m:r>
                      <m:t xml:space="preserve">d</m:t>
                    </m:r>
                    <m:r>
                      <m:t xml:space="preserve">&lt;</m:t>
                    </m:r>
                    <m:r>
                      <m:rPr>
                        <m:lit/>
                        <m:nor/>
                      </m:rPr>
                      <m:t xml:space="preserve">250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metros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sendo</m:t>
                    </m:r>
                    <m:r>
                      <m:t xml:space="preserve"> </m:t>
                    </m:r>
                    <m:r>
                      <m:t xml:space="preserve">d</m:t>
                    </m:r>
                    <m:r>
                      <m:t xml:space="preserve"> </m:t>
                    </m:r>
                    <m:r>
                      <m:t xml:space="preserve">a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is</m:t>
                    </m:r>
                    <m:r>
                      <m:rPr>
                        <m:lit/>
                        <m:nor/>
                      </m:rPr>
                      <m:t xml:space="preserve">tan</m:t>
                    </m:r>
                    <m:r>
                      <m:rPr>
                        <m:lit/>
                        <m:nor/>
                      </m:rPr>
                      <m:t xml:space="preserve">cia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entre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os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pontos</m:t>
                    </m:r>
                    <m:r>
                      <m:t xml:space="preserve"> </m:t>
                    </m:r>
                    <m:r>
                      <m:t xml:space="preserve">i</m:t>
                    </m:r>
                    <m:r>
                      <m:t xml:space="preserve"> </m:t>
                    </m:r>
                    <m:r>
                      <m:t xml:space="preserve">e</m:t>
                    </m:r>
                    <m:r>
                      <m:t xml:space="preserve"> </m:t>
                    </m:r>
                    <m:r>
                      <m:t xml:space="preserve">j</m:t>
                    </m:r>
                    <m:r>
                      <m:t xml:space="preserve"> </m:t>
                    </m:r>
                    <m:r>
                      <m:t xml:space="preserve">e</m:t>
                    </m:r>
                    <m:r>
                      <m:t xml:space="preserve"> </m:t>
                    </m:r>
                    <m:r>
                      <m:t xml:space="preserve">n</m:t>
                    </m:r>
                    <m:r>
                      <m:t xml:space="preserve"> </m:t>
                    </m:r>
                    <m:r>
                      <m:t xml:space="preserve">o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número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e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medições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402" name=""/>
          <p:cNvGrpSpPr/>
          <p:nvPr/>
        </p:nvGrpSpPr>
        <p:grpSpPr>
          <a:xfrm>
            <a:off x="2268360" y="2133720"/>
            <a:ext cx="5486040" cy="2855880"/>
            <a:chOff x="2268360" y="2133720"/>
            <a:chExt cx="5486040" cy="2855880"/>
          </a:xfrm>
        </p:grpSpPr>
        <p:sp>
          <p:nvSpPr>
            <p:cNvPr id="2403" name=""/>
            <p:cNvSpPr/>
            <p:nvPr/>
          </p:nvSpPr>
          <p:spPr>
            <a:xfrm>
              <a:off x="7426080" y="4267440"/>
              <a:ext cx="157320" cy="431640"/>
            </a:xfrm>
            <a:prstGeom prst="rect">
              <a:avLst/>
            </a:prstGeom>
            <a:solidFill>
              <a:srgbClr val="cccc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4" name=""/>
            <p:cNvSpPr/>
            <p:nvPr/>
          </p:nvSpPr>
          <p:spPr>
            <a:xfrm>
              <a:off x="7426080" y="3843360"/>
              <a:ext cx="157320" cy="424080"/>
            </a:xfrm>
            <a:prstGeom prst="rect">
              <a:avLst/>
            </a:prstGeom>
            <a:solidFill>
              <a:srgbClr val="a1ccd6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5" name=""/>
            <p:cNvSpPr/>
            <p:nvPr/>
          </p:nvSpPr>
          <p:spPr>
            <a:xfrm>
              <a:off x="7426080" y="3413160"/>
              <a:ext cx="157320" cy="430200"/>
            </a:xfrm>
            <a:prstGeom prst="rect">
              <a:avLst/>
            </a:prstGeom>
            <a:solidFill>
              <a:srgbClr val="76cce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6" name=""/>
            <p:cNvSpPr/>
            <p:nvPr/>
          </p:nvSpPr>
          <p:spPr>
            <a:xfrm>
              <a:off x="7426080" y="2989440"/>
              <a:ext cx="157320" cy="423720"/>
            </a:xfrm>
            <a:prstGeom prst="rect">
              <a:avLst/>
            </a:prstGeom>
            <a:solidFill>
              <a:srgbClr val="4bcce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7" name=""/>
            <p:cNvSpPr/>
            <p:nvPr/>
          </p:nvSpPr>
          <p:spPr>
            <a:xfrm>
              <a:off x="7426080" y="2565720"/>
              <a:ext cx="157320" cy="423720"/>
            </a:xfrm>
            <a:prstGeom prst="rect">
              <a:avLst/>
            </a:prstGeom>
            <a:solidFill>
              <a:srgbClr val="20ccf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8" name=""/>
            <p:cNvSpPr/>
            <p:nvPr/>
          </p:nvSpPr>
          <p:spPr>
            <a:xfrm>
              <a:off x="7426080" y="2133720"/>
              <a:ext cx="157320" cy="432000"/>
            </a:xfrm>
            <a:prstGeom prst="rect">
              <a:avLst/>
            </a:prstGeom>
            <a:solidFill>
              <a:srgbClr val="00c6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9" name=""/>
            <p:cNvSpPr/>
            <p:nvPr/>
          </p:nvSpPr>
          <p:spPr>
            <a:xfrm>
              <a:off x="7607160" y="463716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0" name=""/>
            <p:cNvSpPr/>
            <p:nvPr/>
          </p:nvSpPr>
          <p:spPr>
            <a:xfrm>
              <a:off x="7607160" y="4213440"/>
              <a:ext cx="98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1" name=""/>
            <p:cNvSpPr/>
            <p:nvPr/>
          </p:nvSpPr>
          <p:spPr>
            <a:xfrm>
              <a:off x="7607520" y="3789360"/>
              <a:ext cx="1468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12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2" name=""/>
            <p:cNvSpPr/>
            <p:nvPr/>
          </p:nvSpPr>
          <p:spPr>
            <a:xfrm>
              <a:off x="7607520" y="3357720"/>
              <a:ext cx="1468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18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3" name=""/>
            <p:cNvSpPr/>
            <p:nvPr/>
          </p:nvSpPr>
          <p:spPr>
            <a:xfrm>
              <a:off x="7607520" y="2935440"/>
              <a:ext cx="1468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24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4" name=""/>
            <p:cNvSpPr/>
            <p:nvPr/>
          </p:nvSpPr>
          <p:spPr>
            <a:xfrm>
              <a:off x="7607520" y="2511720"/>
              <a:ext cx="1468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30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5" name=""/>
            <p:cNvSpPr/>
            <p:nvPr/>
          </p:nvSpPr>
          <p:spPr>
            <a:xfrm rot="16200000">
              <a:off x="7220160" y="3968640"/>
              <a:ext cx="648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6" name=""/>
            <p:cNvSpPr/>
            <p:nvPr/>
          </p:nvSpPr>
          <p:spPr>
            <a:xfrm rot="16200000">
              <a:off x="7228080" y="391284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7" name=""/>
            <p:cNvSpPr/>
            <p:nvPr/>
          </p:nvSpPr>
          <p:spPr>
            <a:xfrm rot="16200000">
              <a:off x="7230240" y="3859560"/>
              <a:ext cx="45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8" name=""/>
            <p:cNvSpPr/>
            <p:nvPr/>
          </p:nvSpPr>
          <p:spPr>
            <a:xfrm rot="16200000">
              <a:off x="7242480" y="3831120"/>
              <a:ext cx="205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9" name=""/>
            <p:cNvSpPr/>
            <p:nvPr/>
          </p:nvSpPr>
          <p:spPr>
            <a:xfrm rot="16200000">
              <a:off x="7230240" y="3796200"/>
              <a:ext cx="45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0" name=""/>
            <p:cNvSpPr/>
            <p:nvPr/>
          </p:nvSpPr>
          <p:spPr>
            <a:xfrm rot="16200000">
              <a:off x="7239960" y="3759480"/>
              <a:ext cx="25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1" name=""/>
            <p:cNvSpPr/>
            <p:nvPr/>
          </p:nvSpPr>
          <p:spPr>
            <a:xfrm rot="16200000">
              <a:off x="7242480" y="3737160"/>
              <a:ext cx="205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2" name=""/>
            <p:cNvSpPr/>
            <p:nvPr/>
          </p:nvSpPr>
          <p:spPr>
            <a:xfrm rot="16200000">
              <a:off x="7230240" y="3710520"/>
              <a:ext cx="45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3" name=""/>
            <p:cNvSpPr/>
            <p:nvPr/>
          </p:nvSpPr>
          <p:spPr>
            <a:xfrm rot="16200000">
              <a:off x="7242480" y="3673800"/>
              <a:ext cx="205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4" name=""/>
            <p:cNvSpPr/>
            <p:nvPr/>
          </p:nvSpPr>
          <p:spPr>
            <a:xfrm rot="16200000">
              <a:off x="7228080" y="364464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5" name=""/>
            <p:cNvSpPr/>
            <p:nvPr/>
          </p:nvSpPr>
          <p:spPr>
            <a:xfrm rot="16200000">
              <a:off x="7228080" y="359064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6" name=""/>
            <p:cNvSpPr/>
            <p:nvPr/>
          </p:nvSpPr>
          <p:spPr>
            <a:xfrm rot="16200000">
              <a:off x="7228080" y="354276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7" name=""/>
            <p:cNvSpPr/>
            <p:nvPr/>
          </p:nvSpPr>
          <p:spPr>
            <a:xfrm rot="16200000">
              <a:off x="7228080" y="349524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8" name=""/>
            <p:cNvSpPr/>
            <p:nvPr/>
          </p:nvSpPr>
          <p:spPr>
            <a:xfrm rot="16200000">
              <a:off x="7239960" y="3453120"/>
              <a:ext cx="25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9" name=""/>
            <p:cNvSpPr/>
            <p:nvPr/>
          </p:nvSpPr>
          <p:spPr>
            <a:xfrm rot="16200000">
              <a:off x="7222680" y="3412800"/>
              <a:ext cx="601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0" name=""/>
            <p:cNvSpPr/>
            <p:nvPr/>
          </p:nvSpPr>
          <p:spPr>
            <a:xfrm rot="16200000">
              <a:off x="7228080" y="336204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1" name=""/>
            <p:cNvSpPr/>
            <p:nvPr/>
          </p:nvSpPr>
          <p:spPr>
            <a:xfrm rot="16200000">
              <a:off x="7228080" y="330804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2" name=""/>
            <p:cNvSpPr/>
            <p:nvPr/>
          </p:nvSpPr>
          <p:spPr>
            <a:xfrm rot="16200000">
              <a:off x="7237800" y="3268440"/>
              <a:ext cx="295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3" name=""/>
            <p:cNvSpPr/>
            <p:nvPr/>
          </p:nvSpPr>
          <p:spPr>
            <a:xfrm rot="16200000">
              <a:off x="7228080" y="322848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4" name=""/>
            <p:cNvSpPr/>
            <p:nvPr/>
          </p:nvSpPr>
          <p:spPr>
            <a:xfrm rot="16200000">
              <a:off x="7228080" y="318240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5" name=""/>
            <p:cNvSpPr/>
            <p:nvPr/>
          </p:nvSpPr>
          <p:spPr>
            <a:xfrm rot="16200000">
              <a:off x="7239960" y="3146760"/>
              <a:ext cx="25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6" name=""/>
            <p:cNvSpPr/>
            <p:nvPr/>
          </p:nvSpPr>
          <p:spPr>
            <a:xfrm rot="16200000">
              <a:off x="7228080" y="311112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7" name=""/>
            <p:cNvSpPr/>
            <p:nvPr/>
          </p:nvSpPr>
          <p:spPr>
            <a:xfrm rot="16200000">
              <a:off x="7239960" y="3069000"/>
              <a:ext cx="25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8" name=""/>
            <p:cNvSpPr/>
            <p:nvPr/>
          </p:nvSpPr>
          <p:spPr>
            <a:xfrm rot="16200000">
              <a:off x="7237800" y="3041280"/>
              <a:ext cx="295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9" name=""/>
            <p:cNvSpPr/>
            <p:nvPr/>
          </p:nvSpPr>
          <p:spPr>
            <a:xfrm rot="16200000">
              <a:off x="7228080" y="300168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0" name=""/>
            <p:cNvSpPr/>
            <p:nvPr/>
          </p:nvSpPr>
          <p:spPr>
            <a:xfrm rot="16200000">
              <a:off x="7228080" y="295380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1" name=""/>
            <p:cNvSpPr/>
            <p:nvPr/>
          </p:nvSpPr>
          <p:spPr>
            <a:xfrm rot="16200000">
              <a:off x="7215840" y="2895120"/>
              <a:ext cx="738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2" name=""/>
            <p:cNvSpPr/>
            <p:nvPr/>
          </p:nvSpPr>
          <p:spPr>
            <a:xfrm rot="16200000">
              <a:off x="7239960" y="2840400"/>
              <a:ext cx="25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3" name=""/>
            <p:cNvSpPr/>
            <p:nvPr/>
          </p:nvSpPr>
          <p:spPr>
            <a:xfrm rot="16200000">
              <a:off x="7215840" y="2792520"/>
              <a:ext cx="738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4" name=""/>
            <p:cNvSpPr/>
            <p:nvPr/>
          </p:nvSpPr>
          <p:spPr>
            <a:xfrm rot="16200000">
              <a:off x="7237800" y="2742840"/>
              <a:ext cx="295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5" name=""/>
            <p:cNvSpPr/>
            <p:nvPr/>
          </p:nvSpPr>
          <p:spPr>
            <a:xfrm>
              <a:off x="2268360" y="2360880"/>
              <a:ext cx="4098960" cy="2628720"/>
            </a:xfrm>
            <a:custGeom>
              <a:avLst/>
              <a:gdLst/>
              <a:ahLst/>
              <a:rect l="l" t="t" r="r" b="b"/>
              <a:pathLst>
                <a:path w="2582" h="1656">
                  <a:moveTo>
                    <a:pt x="1177" y="1656"/>
                  </a:moveTo>
                  <a:lnTo>
                    <a:pt x="1182" y="1651"/>
                  </a:lnTo>
                  <a:lnTo>
                    <a:pt x="1187" y="1646"/>
                  </a:lnTo>
                  <a:lnTo>
                    <a:pt x="1192" y="1641"/>
                  </a:lnTo>
                  <a:lnTo>
                    <a:pt x="1197" y="1636"/>
                  </a:lnTo>
                  <a:lnTo>
                    <a:pt x="1202" y="1631"/>
                  </a:lnTo>
                  <a:lnTo>
                    <a:pt x="1202" y="1626"/>
                  </a:lnTo>
                  <a:lnTo>
                    <a:pt x="1207" y="1622"/>
                  </a:lnTo>
                  <a:lnTo>
                    <a:pt x="1212" y="1617"/>
                  </a:lnTo>
                  <a:lnTo>
                    <a:pt x="1212" y="1612"/>
                  </a:lnTo>
                  <a:lnTo>
                    <a:pt x="1217" y="1607"/>
                  </a:lnTo>
                  <a:lnTo>
                    <a:pt x="1227" y="1607"/>
                  </a:lnTo>
                  <a:lnTo>
                    <a:pt x="1236" y="1607"/>
                  </a:lnTo>
                  <a:lnTo>
                    <a:pt x="1241" y="1602"/>
                  </a:lnTo>
                  <a:lnTo>
                    <a:pt x="1241" y="1597"/>
                  </a:lnTo>
                  <a:lnTo>
                    <a:pt x="1246" y="1587"/>
                  </a:lnTo>
                  <a:lnTo>
                    <a:pt x="1251" y="1587"/>
                  </a:lnTo>
                  <a:lnTo>
                    <a:pt x="1256" y="1587"/>
                  </a:lnTo>
                  <a:lnTo>
                    <a:pt x="1266" y="1592"/>
                  </a:lnTo>
                  <a:lnTo>
                    <a:pt x="1271" y="1597"/>
                  </a:lnTo>
                  <a:lnTo>
                    <a:pt x="1271" y="1602"/>
                  </a:lnTo>
                  <a:lnTo>
                    <a:pt x="1266" y="1607"/>
                  </a:lnTo>
                  <a:lnTo>
                    <a:pt x="1261" y="1607"/>
                  </a:lnTo>
                  <a:lnTo>
                    <a:pt x="1251" y="1607"/>
                  </a:lnTo>
                  <a:lnTo>
                    <a:pt x="1246" y="1612"/>
                  </a:lnTo>
                  <a:lnTo>
                    <a:pt x="1241" y="1617"/>
                  </a:lnTo>
                  <a:lnTo>
                    <a:pt x="1241" y="1622"/>
                  </a:lnTo>
                  <a:lnTo>
                    <a:pt x="1241" y="1631"/>
                  </a:lnTo>
                  <a:lnTo>
                    <a:pt x="1241" y="1636"/>
                  </a:lnTo>
                  <a:lnTo>
                    <a:pt x="1246" y="1641"/>
                  </a:lnTo>
                  <a:lnTo>
                    <a:pt x="1246" y="1646"/>
                  </a:lnTo>
                  <a:lnTo>
                    <a:pt x="1251" y="1651"/>
                  </a:lnTo>
                  <a:lnTo>
                    <a:pt x="1251" y="1656"/>
                  </a:lnTo>
                  <a:lnTo>
                    <a:pt x="1276" y="1656"/>
                  </a:lnTo>
                  <a:lnTo>
                    <a:pt x="1301" y="1656"/>
                  </a:lnTo>
                  <a:lnTo>
                    <a:pt x="1330" y="1656"/>
                  </a:lnTo>
                  <a:lnTo>
                    <a:pt x="1355" y="1656"/>
                  </a:lnTo>
                  <a:lnTo>
                    <a:pt x="1385" y="1656"/>
                  </a:lnTo>
                  <a:lnTo>
                    <a:pt x="1410" y="1656"/>
                  </a:lnTo>
                  <a:lnTo>
                    <a:pt x="1434" y="1656"/>
                  </a:lnTo>
                  <a:lnTo>
                    <a:pt x="1464" y="1656"/>
                  </a:lnTo>
                  <a:lnTo>
                    <a:pt x="1489" y="1656"/>
                  </a:lnTo>
                  <a:lnTo>
                    <a:pt x="1513" y="1656"/>
                  </a:lnTo>
                  <a:lnTo>
                    <a:pt x="1543" y="1656"/>
                  </a:lnTo>
                  <a:lnTo>
                    <a:pt x="1568" y="1656"/>
                  </a:lnTo>
                  <a:lnTo>
                    <a:pt x="1598" y="1656"/>
                  </a:lnTo>
                  <a:lnTo>
                    <a:pt x="1622" y="1656"/>
                  </a:lnTo>
                  <a:lnTo>
                    <a:pt x="1647" y="1656"/>
                  </a:lnTo>
                  <a:lnTo>
                    <a:pt x="1677" y="1656"/>
                  </a:lnTo>
                  <a:lnTo>
                    <a:pt x="1701" y="1656"/>
                  </a:lnTo>
                  <a:lnTo>
                    <a:pt x="1726" y="1656"/>
                  </a:lnTo>
                  <a:lnTo>
                    <a:pt x="1756" y="1656"/>
                  </a:lnTo>
                  <a:lnTo>
                    <a:pt x="1780" y="1656"/>
                  </a:lnTo>
                  <a:lnTo>
                    <a:pt x="1810" y="1656"/>
                  </a:lnTo>
                  <a:lnTo>
                    <a:pt x="1835" y="1656"/>
                  </a:lnTo>
                  <a:lnTo>
                    <a:pt x="1860" y="1656"/>
                  </a:lnTo>
                  <a:lnTo>
                    <a:pt x="1889" y="1656"/>
                  </a:lnTo>
                  <a:lnTo>
                    <a:pt x="1914" y="1656"/>
                  </a:lnTo>
                  <a:lnTo>
                    <a:pt x="1944" y="1656"/>
                  </a:lnTo>
                  <a:lnTo>
                    <a:pt x="1968" y="1656"/>
                  </a:lnTo>
                  <a:lnTo>
                    <a:pt x="1993" y="1656"/>
                  </a:lnTo>
                  <a:lnTo>
                    <a:pt x="2023" y="1656"/>
                  </a:lnTo>
                  <a:lnTo>
                    <a:pt x="2048" y="1656"/>
                  </a:lnTo>
                  <a:lnTo>
                    <a:pt x="2072" y="1656"/>
                  </a:lnTo>
                  <a:lnTo>
                    <a:pt x="2102" y="1656"/>
                  </a:lnTo>
                  <a:lnTo>
                    <a:pt x="2127" y="1656"/>
                  </a:lnTo>
                  <a:lnTo>
                    <a:pt x="2156" y="1656"/>
                  </a:lnTo>
                  <a:lnTo>
                    <a:pt x="2181" y="1656"/>
                  </a:lnTo>
                  <a:lnTo>
                    <a:pt x="2206" y="1656"/>
                  </a:lnTo>
                  <a:lnTo>
                    <a:pt x="2235" y="1656"/>
                  </a:lnTo>
                  <a:lnTo>
                    <a:pt x="2260" y="1631"/>
                  </a:lnTo>
                  <a:lnTo>
                    <a:pt x="2285" y="1631"/>
                  </a:lnTo>
                  <a:lnTo>
                    <a:pt x="2315" y="1631"/>
                  </a:lnTo>
                  <a:lnTo>
                    <a:pt x="2339" y="1631"/>
                  </a:lnTo>
                  <a:lnTo>
                    <a:pt x="2369" y="1631"/>
                  </a:lnTo>
                  <a:lnTo>
                    <a:pt x="2394" y="1631"/>
                  </a:lnTo>
                  <a:lnTo>
                    <a:pt x="2418" y="1631"/>
                  </a:lnTo>
                  <a:lnTo>
                    <a:pt x="2448" y="1602"/>
                  </a:lnTo>
                  <a:lnTo>
                    <a:pt x="2448" y="1577"/>
                  </a:lnTo>
                  <a:lnTo>
                    <a:pt x="2448" y="1547"/>
                  </a:lnTo>
                  <a:lnTo>
                    <a:pt x="2448" y="1523"/>
                  </a:lnTo>
                  <a:lnTo>
                    <a:pt x="2473" y="1498"/>
                  </a:lnTo>
                  <a:lnTo>
                    <a:pt x="2473" y="1468"/>
                  </a:lnTo>
                  <a:lnTo>
                    <a:pt x="2473" y="1444"/>
                  </a:lnTo>
                  <a:lnTo>
                    <a:pt x="2473" y="1414"/>
                  </a:lnTo>
                  <a:lnTo>
                    <a:pt x="2503" y="1389"/>
                  </a:lnTo>
                  <a:lnTo>
                    <a:pt x="2503" y="1364"/>
                  </a:lnTo>
                  <a:lnTo>
                    <a:pt x="2503" y="1335"/>
                  </a:lnTo>
                  <a:lnTo>
                    <a:pt x="2503" y="1310"/>
                  </a:lnTo>
                  <a:lnTo>
                    <a:pt x="2527" y="1280"/>
                  </a:lnTo>
                  <a:lnTo>
                    <a:pt x="2527" y="1256"/>
                  </a:lnTo>
                  <a:lnTo>
                    <a:pt x="2527" y="1226"/>
                  </a:lnTo>
                  <a:lnTo>
                    <a:pt x="2527" y="1201"/>
                  </a:lnTo>
                  <a:lnTo>
                    <a:pt x="2552" y="1177"/>
                  </a:lnTo>
                  <a:lnTo>
                    <a:pt x="2552" y="1147"/>
                  </a:lnTo>
                  <a:lnTo>
                    <a:pt x="2552" y="1122"/>
                  </a:lnTo>
                  <a:lnTo>
                    <a:pt x="2552" y="1093"/>
                  </a:lnTo>
                  <a:lnTo>
                    <a:pt x="2582" y="1068"/>
                  </a:lnTo>
                  <a:lnTo>
                    <a:pt x="2582" y="1043"/>
                  </a:lnTo>
                  <a:lnTo>
                    <a:pt x="2582" y="1014"/>
                  </a:lnTo>
                  <a:lnTo>
                    <a:pt x="2582" y="989"/>
                  </a:lnTo>
                  <a:lnTo>
                    <a:pt x="2582" y="959"/>
                  </a:lnTo>
                  <a:lnTo>
                    <a:pt x="2582" y="934"/>
                  </a:lnTo>
                  <a:lnTo>
                    <a:pt x="2582" y="910"/>
                  </a:lnTo>
                  <a:lnTo>
                    <a:pt x="2582" y="880"/>
                  </a:lnTo>
                  <a:lnTo>
                    <a:pt x="2582" y="855"/>
                  </a:lnTo>
                  <a:lnTo>
                    <a:pt x="2582" y="826"/>
                  </a:lnTo>
                  <a:lnTo>
                    <a:pt x="2582" y="801"/>
                  </a:lnTo>
                  <a:lnTo>
                    <a:pt x="2582" y="776"/>
                  </a:lnTo>
                  <a:lnTo>
                    <a:pt x="2582" y="747"/>
                  </a:lnTo>
                  <a:lnTo>
                    <a:pt x="2582" y="722"/>
                  </a:lnTo>
                  <a:lnTo>
                    <a:pt x="2582" y="692"/>
                  </a:lnTo>
                  <a:lnTo>
                    <a:pt x="2582" y="668"/>
                  </a:lnTo>
                  <a:lnTo>
                    <a:pt x="2582" y="643"/>
                  </a:lnTo>
                  <a:lnTo>
                    <a:pt x="2582" y="613"/>
                  </a:lnTo>
                  <a:lnTo>
                    <a:pt x="2582" y="589"/>
                  </a:lnTo>
                  <a:lnTo>
                    <a:pt x="2582" y="559"/>
                  </a:lnTo>
                  <a:lnTo>
                    <a:pt x="2582" y="534"/>
                  </a:lnTo>
                  <a:lnTo>
                    <a:pt x="2582" y="504"/>
                  </a:lnTo>
                  <a:lnTo>
                    <a:pt x="2582" y="480"/>
                  </a:lnTo>
                  <a:lnTo>
                    <a:pt x="2582" y="455"/>
                  </a:lnTo>
                  <a:lnTo>
                    <a:pt x="2582" y="425"/>
                  </a:lnTo>
                  <a:lnTo>
                    <a:pt x="2582" y="401"/>
                  </a:lnTo>
                  <a:lnTo>
                    <a:pt x="2582" y="371"/>
                  </a:lnTo>
                  <a:lnTo>
                    <a:pt x="2582" y="346"/>
                  </a:lnTo>
                  <a:lnTo>
                    <a:pt x="2582" y="322"/>
                  </a:lnTo>
                  <a:lnTo>
                    <a:pt x="2582" y="292"/>
                  </a:lnTo>
                  <a:lnTo>
                    <a:pt x="2582" y="267"/>
                  </a:lnTo>
                  <a:lnTo>
                    <a:pt x="2582" y="238"/>
                  </a:lnTo>
                  <a:lnTo>
                    <a:pt x="2552" y="213"/>
                  </a:lnTo>
                  <a:lnTo>
                    <a:pt x="2552" y="188"/>
                  </a:lnTo>
                  <a:lnTo>
                    <a:pt x="2552" y="159"/>
                  </a:lnTo>
                  <a:lnTo>
                    <a:pt x="2552" y="149"/>
                  </a:lnTo>
                  <a:lnTo>
                    <a:pt x="2547" y="154"/>
                  </a:lnTo>
                  <a:lnTo>
                    <a:pt x="2542" y="159"/>
                  </a:lnTo>
                  <a:lnTo>
                    <a:pt x="2537" y="163"/>
                  </a:lnTo>
                  <a:lnTo>
                    <a:pt x="2537" y="168"/>
                  </a:lnTo>
                  <a:lnTo>
                    <a:pt x="2537" y="173"/>
                  </a:lnTo>
                  <a:lnTo>
                    <a:pt x="2542" y="178"/>
                  </a:lnTo>
                  <a:lnTo>
                    <a:pt x="2542" y="183"/>
                  </a:lnTo>
                  <a:lnTo>
                    <a:pt x="2547" y="193"/>
                  </a:lnTo>
                  <a:lnTo>
                    <a:pt x="2547" y="198"/>
                  </a:lnTo>
                  <a:lnTo>
                    <a:pt x="2547" y="203"/>
                  </a:lnTo>
                  <a:lnTo>
                    <a:pt x="2552" y="208"/>
                  </a:lnTo>
                  <a:lnTo>
                    <a:pt x="2547" y="213"/>
                  </a:lnTo>
                  <a:lnTo>
                    <a:pt x="2547" y="218"/>
                  </a:lnTo>
                  <a:lnTo>
                    <a:pt x="2542" y="223"/>
                  </a:lnTo>
                  <a:lnTo>
                    <a:pt x="2532" y="228"/>
                  </a:lnTo>
                  <a:lnTo>
                    <a:pt x="2527" y="233"/>
                  </a:lnTo>
                  <a:lnTo>
                    <a:pt x="2522" y="238"/>
                  </a:lnTo>
                  <a:lnTo>
                    <a:pt x="2512" y="238"/>
                  </a:lnTo>
                  <a:lnTo>
                    <a:pt x="2507" y="243"/>
                  </a:lnTo>
                  <a:lnTo>
                    <a:pt x="2503" y="247"/>
                  </a:lnTo>
                  <a:lnTo>
                    <a:pt x="2498" y="252"/>
                  </a:lnTo>
                  <a:lnTo>
                    <a:pt x="2498" y="257"/>
                  </a:lnTo>
                  <a:lnTo>
                    <a:pt x="2498" y="262"/>
                  </a:lnTo>
                  <a:lnTo>
                    <a:pt x="2493" y="272"/>
                  </a:lnTo>
                  <a:lnTo>
                    <a:pt x="2488" y="277"/>
                  </a:lnTo>
                  <a:lnTo>
                    <a:pt x="2483" y="277"/>
                  </a:lnTo>
                  <a:lnTo>
                    <a:pt x="2478" y="282"/>
                  </a:lnTo>
                  <a:lnTo>
                    <a:pt x="2473" y="287"/>
                  </a:lnTo>
                  <a:lnTo>
                    <a:pt x="2468" y="292"/>
                  </a:lnTo>
                  <a:lnTo>
                    <a:pt x="2468" y="302"/>
                  </a:lnTo>
                  <a:lnTo>
                    <a:pt x="2468" y="307"/>
                  </a:lnTo>
                  <a:lnTo>
                    <a:pt x="2468" y="312"/>
                  </a:lnTo>
                  <a:lnTo>
                    <a:pt x="2473" y="317"/>
                  </a:lnTo>
                  <a:lnTo>
                    <a:pt x="2478" y="322"/>
                  </a:lnTo>
                  <a:lnTo>
                    <a:pt x="2473" y="327"/>
                  </a:lnTo>
                  <a:lnTo>
                    <a:pt x="2473" y="322"/>
                  </a:lnTo>
                  <a:lnTo>
                    <a:pt x="2468" y="317"/>
                  </a:lnTo>
                  <a:lnTo>
                    <a:pt x="2458" y="317"/>
                  </a:lnTo>
                  <a:lnTo>
                    <a:pt x="2448" y="317"/>
                  </a:lnTo>
                  <a:lnTo>
                    <a:pt x="2438" y="317"/>
                  </a:lnTo>
                  <a:lnTo>
                    <a:pt x="2428" y="317"/>
                  </a:lnTo>
                  <a:lnTo>
                    <a:pt x="2423" y="322"/>
                  </a:lnTo>
                  <a:lnTo>
                    <a:pt x="2418" y="327"/>
                  </a:lnTo>
                  <a:lnTo>
                    <a:pt x="2418" y="336"/>
                  </a:lnTo>
                  <a:lnTo>
                    <a:pt x="2423" y="341"/>
                  </a:lnTo>
                  <a:lnTo>
                    <a:pt x="2428" y="346"/>
                  </a:lnTo>
                  <a:lnTo>
                    <a:pt x="2433" y="346"/>
                  </a:lnTo>
                  <a:lnTo>
                    <a:pt x="2443" y="351"/>
                  </a:lnTo>
                  <a:lnTo>
                    <a:pt x="2453" y="351"/>
                  </a:lnTo>
                  <a:lnTo>
                    <a:pt x="2458" y="356"/>
                  </a:lnTo>
                  <a:lnTo>
                    <a:pt x="2463" y="361"/>
                  </a:lnTo>
                  <a:lnTo>
                    <a:pt x="2463" y="366"/>
                  </a:lnTo>
                  <a:lnTo>
                    <a:pt x="2463" y="376"/>
                  </a:lnTo>
                  <a:lnTo>
                    <a:pt x="2463" y="381"/>
                  </a:lnTo>
                  <a:lnTo>
                    <a:pt x="2458" y="386"/>
                  </a:lnTo>
                  <a:lnTo>
                    <a:pt x="2453" y="391"/>
                  </a:lnTo>
                  <a:lnTo>
                    <a:pt x="2448" y="396"/>
                  </a:lnTo>
                  <a:lnTo>
                    <a:pt x="2443" y="401"/>
                  </a:lnTo>
                  <a:lnTo>
                    <a:pt x="2438" y="401"/>
                  </a:lnTo>
                  <a:lnTo>
                    <a:pt x="2433" y="411"/>
                  </a:lnTo>
                  <a:lnTo>
                    <a:pt x="2433" y="416"/>
                  </a:lnTo>
                  <a:lnTo>
                    <a:pt x="2428" y="420"/>
                  </a:lnTo>
                  <a:lnTo>
                    <a:pt x="2428" y="425"/>
                  </a:lnTo>
                  <a:lnTo>
                    <a:pt x="2428" y="430"/>
                  </a:lnTo>
                  <a:lnTo>
                    <a:pt x="2423" y="435"/>
                  </a:lnTo>
                  <a:lnTo>
                    <a:pt x="2418" y="440"/>
                  </a:lnTo>
                  <a:lnTo>
                    <a:pt x="2418" y="445"/>
                  </a:lnTo>
                  <a:lnTo>
                    <a:pt x="2418" y="455"/>
                  </a:lnTo>
                  <a:lnTo>
                    <a:pt x="2418" y="460"/>
                  </a:lnTo>
                  <a:lnTo>
                    <a:pt x="2414" y="465"/>
                  </a:lnTo>
                  <a:lnTo>
                    <a:pt x="2414" y="470"/>
                  </a:lnTo>
                  <a:lnTo>
                    <a:pt x="2409" y="475"/>
                  </a:lnTo>
                  <a:lnTo>
                    <a:pt x="2409" y="480"/>
                  </a:lnTo>
                  <a:lnTo>
                    <a:pt x="2404" y="485"/>
                  </a:lnTo>
                  <a:lnTo>
                    <a:pt x="2404" y="490"/>
                  </a:lnTo>
                  <a:lnTo>
                    <a:pt x="2404" y="500"/>
                  </a:lnTo>
                  <a:lnTo>
                    <a:pt x="2404" y="504"/>
                  </a:lnTo>
                  <a:lnTo>
                    <a:pt x="2399" y="509"/>
                  </a:lnTo>
                  <a:lnTo>
                    <a:pt x="2399" y="514"/>
                  </a:lnTo>
                  <a:lnTo>
                    <a:pt x="2399" y="519"/>
                  </a:lnTo>
                  <a:lnTo>
                    <a:pt x="2399" y="524"/>
                  </a:lnTo>
                  <a:lnTo>
                    <a:pt x="2394" y="529"/>
                  </a:lnTo>
                  <a:lnTo>
                    <a:pt x="2394" y="539"/>
                  </a:lnTo>
                  <a:lnTo>
                    <a:pt x="2389" y="544"/>
                  </a:lnTo>
                  <a:lnTo>
                    <a:pt x="2389" y="549"/>
                  </a:lnTo>
                  <a:lnTo>
                    <a:pt x="2389" y="554"/>
                  </a:lnTo>
                  <a:lnTo>
                    <a:pt x="2389" y="559"/>
                  </a:lnTo>
                  <a:lnTo>
                    <a:pt x="2394" y="564"/>
                  </a:lnTo>
                  <a:lnTo>
                    <a:pt x="2404" y="569"/>
                  </a:lnTo>
                  <a:lnTo>
                    <a:pt x="2409" y="574"/>
                  </a:lnTo>
                  <a:lnTo>
                    <a:pt x="2414" y="579"/>
                  </a:lnTo>
                  <a:lnTo>
                    <a:pt x="2414" y="584"/>
                  </a:lnTo>
                  <a:lnTo>
                    <a:pt x="2414" y="589"/>
                  </a:lnTo>
                  <a:lnTo>
                    <a:pt x="2414" y="593"/>
                  </a:lnTo>
                  <a:lnTo>
                    <a:pt x="2409" y="603"/>
                  </a:lnTo>
                  <a:lnTo>
                    <a:pt x="2404" y="608"/>
                  </a:lnTo>
                  <a:lnTo>
                    <a:pt x="2404" y="613"/>
                  </a:lnTo>
                  <a:lnTo>
                    <a:pt x="2409" y="618"/>
                  </a:lnTo>
                  <a:lnTo>
                    <a:pt x="2418" y="618"/>
                  </a:lnTo>
                  <a:lnTo>
                    <a:pt x="2423" y="623"/>
                  </a:lnTo>
                  <a:lnTo>
                    <a:pt x="2428" y="628"/>
                  </a:lnTo>
                  <a:lnTo>
                    <a:pt x="2433" y="633"/>
                  </a:lnTo>
                  <a:lnTo>
                    <a:pt x="2433" y="638"/>
                  </a:lnTo>
                  <a:lnTo>
                    <a:pt x="2433" y="648"/>
                  </a:lnTo>
                  <a:lnTo>
                    <a:pt x="2433" y="653"/>
                  </a:lnTo>
                  <a:lnTo>
                    <a:pt x="2428" y="663"/>
                  </a:lnTo>
                  <a:lnTo>
                    <a:pt x="2423" y="663"/>
                  </a:lnTo>
                  <a:lnTo>
                    <a:pt x="2418" y="663"/>
                  </a:lnTo>
                  <a:lnTo>
                    <a:pt x="2409" y="658"/>
                  </a:lnTo>
                  <a:lnTo>
                    <a:pt x="2404" y="653"/>
                  </a:lnTo>
                  <a:lnTo>
                    <a:pt x="2394" y="653"/>
                  </a:lnTo>
                  <a:lnTo>
                    <a:pt x="2394" y="653"/>
                  </a:lnTo>
                  <a:lnTo>
                    <a:pt x="2389" y="653"/>
                  </a:lnTo>
                  <a:lnTo>
                    <a:pt x="2384" y="663"/>
                  </a:lnTo>
                  <a:lnTo>
                    <a:pt x="2384" y="668"/>
                  </a:lnTo>
                  <a:lnTo>
                    <a:pt x="2379" y="677"/>
                  </a:lnTo>
                  <a:lnTo>
                    <a:pt x="2369" y="682"/>
                  </a:lnTo>
                  <a:lnTo>
                    <a:pt x="2364" y="682"/>
                  </a:lnTo>
                  <a:lnTo>
                    <a:pt x="2359" y="677"/>
                  </a:lnTo>
                  <a:lnTo>
                    <a:pt x="2359" y="673"/>
                  </a:lnTo>
                  <a:lnTo>
                    <a:pt x="2354" y="663"/>
                  </a:lnTo>
                  <a:lnTo>
                    <a:pt x="2349" y="658"/>
                  </a:lnTo>
                  <a:lnTo>
                    <a:pt x="2344" y="658"/>
                  </a:lnTo>
                  <a:lnTo>
                    <a:pt x="2339" y="653"/>
                  </a:lnTo>
                  <a:lnTo>
                    <a:pt x="2339" y="643"/>
                  </a:lnTo>
                  <a:lnTo>
                    <a:pt x="2334" y="638"/>
                  </a:lnTo>
                  <a:lnTo>
                    <a:pt x="2334" y="633"/>
                  </a:lnTo>
                  <a:lnTo>
                    <a:pt x="2334" y="628"/>
                  </a:lnTo>
                  <a:lnTo>
                    <a:pt x="2334" y="623"/>
                  </a:lnTo>
                  <a:lnTo>
                    <a:pt x="2334" y="618"/>
                  </a:lnTo>
                  <a:lnTo>
                    <a:pt x="2334" y="608"/>
                  </a:lnTo>
                  <a:lnTo>
                    <a:pt x="2329" y="603"/>
                  </a:lnTo>
                  <a:lnTo>
                    <a:pt x="2324" y="598"/>
                  </a:lnTo>
                  <a:lnTo>
                    <a:pt x="2320" y="593"/>
                  </a:lnTo>
                  <a:lnTo>
                    <a:pt x="2315" y="589"/>
                  </a:lnTo>
                  <a:lnTo>
                    <a:pt x="2310" y="593"/>
                  </a:lnTo>
                  <a:lnTo>
                    <a:pt x="2305" y="598"/>
                  </a:lnTo>
                  <a:lnTo>
                    <a:pt x="2300" y="603"/>
                  </a:lnTo>
                  <a:lnTo>
                    <a:pt x="2295" y="608"/>
                  </a:lnTo>
                  <a:lnTo>
                    <a:pt x="2295" y="613"/>
                  </a:lnTo>
                  <a:lnTo>
                    <a:pt x="2290" y="618"/>
                  </a:lnTo>
                  <a:lnTo>
                    <a:pt x="2285" y="623"/>
                  </a:lnTo>
                  <a:lnTo>
                    <a:pt x="2280" y="628"/>
                  </a:lnTo>
                  <a:lnTo>
                    <a:pt x="2275" y="633"/>
                  </a:lnTo>
                  <a:lnTo>
                    <a:pt x="2270" y="638"/>
                  </a:lnTo>
                  <a:lnTo>
                    <a:pt x="2265" y="643"/>
                  </a:lnTo>
                  <a:lnTo>
                    <a:pt x="2260" y="648"/>
                  </a:lnTo>
                  <a:lnTo>
                    <a:pt x="2255" y="653"/>
                  </a:lnTo>
                  <a:lnTo>
                    <a:pt x="2245" y="658"/>
                  </a:lnTo>
                  <a:lnTo>
                    <a:pt x="2240" y="663"/>
                  </a:lnTo>
                  <a:lnTo>
                    <a:pt x="2235" y="668"/>
                  </a:lnTo>
                  <a:lnTo>
                    <a:pt x="2231" y="673"/>
                  </a:lnTo>
                  <a:lnTo>
                    <a:pt x="2226" y="677"/>
                  </a:lnTo>
                  <a:lnTo>
                    <a:pt x="2221" y="677"/>
                  </a:lnTo>
                  <a:lnTo>
                    <a:pt x="2216" y="682"/>
                  </a:lnTo>
                  <a:lnTo>
                    <a:pt x="2206" y="687"/>
                  </a:lnTo>
                  <a:lnTo>
                    <a:pt x="2201" y="692"/>
                  </a:lnTo>
                  <a:lnTo>
                    <a:pt x="2196" y="697"/>
                  </a:lnTo>
                  <a:lnTo>
                    <a:pt x="2191" y="702"/>
                  </a:lnTo>
                  <a:lnTo>
                    <a:pt x="2186" y="702"/>
                  </a:lnTo>
                  <a:lnTo>
                    <a:pt x="2181" y="707"/>
                  </a:lnTo>
                  <a:lnTo>
                    <a:pt x="2171" y="712"/>
                  </a:lnTo>
                  <a:lnTo>
                    <a:pt x="2166" y="717"/>
                  </a:lnTo>
                  <a:lnTo>
                    <a:pt x="2161" y="722"/>
                  </a:lnTo>
                  <a:lnTo>
                    <a:pt x="2156" y="727"/>
                  </a:lnTo>
                  <a:lnTo>
                    <a:pt x="2151" y="732"/>
                  </a:lnTo>
                  <a:lnTo>
                    <a:pt x="2142" y="737"/>
                  </a:lnTo>
                  <a:lnTo>
                    <a:pt x="2137" y="737"/>
                  </a:lnTo>
                  <a:lnTo>
                    <a:pt x="2137" y="742"/>
                  </a:lnTo>
                  <a:lnTo>
                    <a:pt x="2132" y="752"/>
                  </a:lnTo>
                  <a:lnTo>
                    <a:pt x="2132" y="757"/>
                  </a:lnTo>
                  <a:lnTo>
                    <a:pt x="2132" y="762"/>
                  </a:lnTo>
                  <a:lnTo>
                    <a:pt x="2132" y="766"/>
                  </a:lnTo>
                  <a:lnTo>
                    <a:pt x="2127" y="771"/>
                  </a:lnTo>
                  <a:lnTo>
                    <a:pt x="2127" y="776"/>
                  </a:lnTo>
                  <a:lnTo>
                    <a:pt x="2127" y="781"/>
                  </a:lnTo>
                  <a:lnTo>
                    <a:pt x="2127" y="791"/>
                  </a:lnTo>
                  <a:lnTo>
                    <a:pt x="2127" y="796"/>
                  </a:lnTo>
                  <a:lnTo>
                    <a:pt x="2122" y="801"/>
                  </a:lnTo>
                  <a:lnTo>
                    <a:pt x="2122" y="806"/>
                  </a:lnTo>
                  <a:lnTo>
                    <a:pt x="2122" y="811"/>
                  </a:lnTo>
                  <a:lnTo>
                    <a:pt x="2122" y="816"/>
                  </a:lnTo>
                  <a:lnTo>
                    <a:pt x="2122" y="826"/>
                  </a:lnTo>
                  <a:lnTo>
                    <a:pt x="2122" y="831"/>
                  </a:lnTo>
                  <a:lnTo>
                    <a:pt x="2122" y="836"/>
                  </a:lnTo>
                  <a:lnTo>
                    <a:pt x="2117" y="841"/>
                  </a:lnTo>
                  <a:lnTo>
                    <a:pt x="2117" y="846"/>
                  </a:lnTo>
                  <a:lnTo>
                    <a:pt x="2117" y="850"/>
                  </a:lnTo>
                  <a:lnTo>
                    <a:pt x="2117" y="855"/>
                  </a:lnTo>
                  <a:lnTo>
                    <a:pt x="2112" y="865"/>
                  </a:lnTo>
                  <a:lnTo>
                    <a:pt x="2112" y="870"/>
                  </a:lnTo>
                  <a:lnTo>
                    <a:pt x="2112" y="875"/>
                  </a:lnTo>
                  <a:lnTo>
                    <a:pt x="2112" y="880"/>
                  </a:lnTo>
                  <a:lnTo>
                    <a:pt x="2112" y="885"/>
                  </a:lnTo>
                  <a:lnTo>
                    <a:pt x="2112" y="890"/>
                  </a:lnTo>
                  <a:lnTo>
                    <a:pt x="2112" y="895"/>
                  </a:lnTo>
                  <a:lnTo>
                    <a:pt x="2112" y="905"/>
                  </a:lnTo>
                  <a:lnTo>
                    <a:pt x="2112" y="910"/>
                  </a:lnTo>
                  <a:lnTo>
                    <a:pt x="2112" y="915"/>
                  </a:lnTo>
                  <a:lnTo>
                    <a:pt x="2112" y="920"/>
                  </a:lnTo>
                  <a:lnTo>
                    <a:pt x="2107" y="925"/>
                  </a:lnTo>
                  <a:lnTo>
                    <a:pt x="2112" y="930"/>
                  </a:lnTo>
                  <a:lnTo>
                    <a:pt x="2112" y="939"/>
                  </a:lnTo>
                  <a:lnTo>
                    <a:pt x="2112" y="944"/>
                  </a:lnTo>
                  <a:lnTo>
                    <a:pt x="2117" y="949"/>
                  </a:lnTo>
                  <a:lnTo>
                    <a:pt x="2122" y="954"/>
                  </a:lnTo>
                  <a:lnTo>
                    <a:pt x="2122" y="959"/>
                  </a:lnTo>
                  <a:lnTo>
                    <a:pt x="2127" y="964"/>
                  </a:lnTo>
                  <a:lnTo>
                    <a:pt x="2127" y="969"/>
                  </a:lnTo>
                  <a:lnTo>
                    <a:pt x="2127" y="979"/>
                  </a:lnTo>
                  <a:lnTo>
                    <a:pt x="2122" y="984"/>
                  </a:lnTo>
                  <a:lnTo>
                    <a:pt x="2117" y="989"/>
                  </a:lnTo>
                  <a:lnTo>
                    <a:pt x="2112" y="989"/>
                  </a:lnTo>
                  <a:lnTo>
                    <a:pt x="2102" y="994"/>
                  </a:lnTo>
                  <a:lnTo>
                    <a:pt x="2097" y="994"/>
                  </a:lnTo>
                  <a:lnTo>
                    <a:pt x="2087" y="994"/>
                  </a:lnTo>
                  <a:lnTo>
                    <a:pt x="2077" y="994"/>
                  </a:lnTo>
                  <a:lnTo>
                    <a:pt x="2067" y="994"/>
                  </a:lnTo>
                  <a:lnTo>
                    <a:pt x="2057" y="994"/>
                  </a:lnTo>
                  <a:lnTo>
                    <a:pt x="2052" y="994"/>
                  </a:lnTo>
                  <a:lnTo>
                    <a:pt x="2043" y="994"/>
                  </a:lnTo>
                  <a:lnTo>
                    <a:pt x="2033" y="994"/>
                  </a:lnTo>
                  <a:lnTo>
                    <a:pt x="2023" y="994"/>
                  </a:lnTo>
                  <a:lnTo>
                    <a:pt x="2018" y="994"/>
                  </a:lnTo>
                  <a:lnTo>
                    <a:pt x="2008" y="994"/>
                  </a:lnTo>
                  <a:lnTo>
                    <a:pt x="1998" y="994"/>
                  </a:lnTo>
                  <a:lnTo>
                    <a:pt x="1993" y="999"/>
                  </a:lnTo>
                  <a:lnTo>
                    <a:pt x="1983" y="1004"/>
                  </a:lnTo>
                  <a:lnTo>
                    <a:pt x="1978" y="1009"/>
                  </a:lnTo>
                  <a:lnTo>
                    <a:pt x="1973" y="1009"/>
                  </a:lnTo>
                  <a:lnTo>
                    <a:pt x="1963" y="1014"/>
                  </a:lnTo>
                  <a:lnTo>
                    <a:pt x="1963" y="1019"/>
                  </a:lnTo>
                  <a:lnTo>
                    <a:pt x="1963" y="1023"/>
                  </a:lnTo>
                  <a:lnTo>
                    <a:pt x="1963" y="1033"/>
                  </a:lnTo>
                  <a:lnTo>
                    <a:pt x="1963" y="1038"/>
                  </a:lnTo>
                  <a:lnTo>
                    <a:pt x="1959" y="1043"/>
                  </a:lnTo>
                  <a:lnTo>
                    <a:pt x="1954" y="1048"/>
                  </a:lnTo>
                  <a:lnTo>
                    <a:pt x="1949" y="1053"/>
                  </a:lnTo>
                  <a:lnTo>
                    <a:pt x="1939" y="1058"/>
                  </a:lnTo>
                  <a:lnTo>
                    <a:pt x="1934" y="1058"/>
                  </a:lnTo>
                  <a:lnTo>
                    <a:pt x="1924" y="1063"/>
                  </a:lnTo>
                  <a:lnTo>
                    <a:pt x="1919" y="1063"/>
                  </a:lnTo>
                  <a:lnTo>
                    <a:pt x="1909" y="1063"/>
                  </a:lnTo>
                  <a:lnTo>
                    <a:pt x="1899" y="1068"/>
                  </a:lnTo>
                  <a:lnTo>
                    <a:pt x="1899" y="1073"/>
                  </a:lnTo>
                  <a:lnTo>
                    <a:pt x="1899" y="1078"/>
                  </a:lnTo>
                  <a:lnTo>
                    <a:pt x="1899" y="1083"/>
                  </a:lnTo>
                  <a:lnTo>
                    <a:pt x="1899" y="1088"/>
                  </a:lnTo>
                  <a:lnTo>
                    <a:pt x="1899" y="1093"/>
                  </a:lnTo>
                  <a:lnTo>
                    <a:pt x="1894" y="1098"/>
                  </a:lnTo>
                  <a:lnTo>
                    <a:pt x="1884" y="1103"/>
                  </a:lnTo>
                  <a:lnTo>
                    <a:pt x="1879" y="1107"/>
                  </a:lnTo>
                  <a:lnTo>
                    <a:pt x="1870" y="1107"/>
                  </a:lnTo>
                  <a:lnTo>
                    <a:pt x="1860" y="1107"/>
                  </a:lnTo>
                  <a:lnTo>
                    <a:pt x="1855" y="1112"/>
                  </a:lnTo>
                  <a:lnTo>
                    <a:pt x="1845" y="1112"/>
                  </a:lnTo>
                  <a:lnTo>
                    <a:pt x="1840" y="1117"/>
                  </a:lnTo>
                  <a:lnTo>
                    <a:pt x="1830" y="1117"/>
                  </a:lnTo>
                  <a:lnTo>
                    <a:pt x="1830" y="1122"/>
                  </a:lnTo>
                  <a:lnTo>
                    <a:pt x="1840" y="1127"/>
                  </a:lnTo>
                  <a:lnTo>
                    <a:pt x="1850" y="1132"/>
                  </a:lnTo>
                  <a:lnTo>
                    <a:pt x="1855" y="1132"/>
                  </a:lnTo>
                  <a:lnTo>
                    <a:pt x="1860" y="1137"/>
                  </a:lnTo>
                  <a:lnTo>
                    <a:pt x="1865" y="1142"/>
                  </a:lnTo>
                  <a:lnTo>
                    <a:pt x="1870" y="1147"/>
                  </a:lnTo>
                  <a:lnTo>
                    <a:pt x="1874" y="1152"/>
                  </a:lnTo>
                  <a:lnTo>
                    <a:pt x="1879" y="1157"/>
                  </a:lnTo>
                  <a:lnTo>
                    <a:pt x="1879" y="1162"/>
                  </a:lnTo>
                  <a:lnTo>
                    <a:pt x="1884" y="1167"/>
                  </a:lnTo>
                  <a:lnTo>
                    <a:pt x="1884" y="1172"/>
                  </a:lnTo>
                  <a:lnTo>
                    <a:pt x="1889" y="1177"/>
                  </a:lnTo>
                  <a:lnTo>
                    <a:pt x="1894" y="1182"/>
                  </a:lnTo>
                  <a:lnTo>
                    <a:pt x="1899" y="1192"/>
                  </a:lnTo>
                  <a:lnTo>
                    <a:pt x="1904" y="1196"/>
                  </a:lnTo>
                  <a:lnTo>
                    <a:pt x="1904" y="1201"/>
                  </a:lnTo>
                  <a:lnTo>
                    <a:pt x="1899" y="1206"/>
                  </a:lnTo>
                  <a:lnTo>
                    <a:pt x="1894" y="1211"/>
                  </a:lnTo>
                  <a:lnTo>
                    <a:pt x="1884" y="1211"/>
                  </a:lnTo>
                  <a:lnTo>
                    <a:pt x="1879" y="1206"/>
                  </a:lnTo>
                  <a:lnTo>
                    <a:pt x="1874" y="1201"/>
                  </a:lnTo>
                  <a:lnTo>
                    <a:pt x="1870" y="1196"/>
                  </a:lnTo>
                  <a:lnTo>
                    <a:pt x="1860" y="1196"/>
                  </a:lnTo>
                  <a:lnTo>
                    <a:pt x="1855" y="1196"/>
                  </a:lnTo>
                  <a:lnTo>
                    <a:pt x="1845" y="1196"/>
                  </a:lnTo>
                  <a:lnTo>
                    <a:pt x="1835" y="1201"/>
                  </a:lnTo>
                  <a:lnTo>
                    <a:pt x="1830" y="1206"/>
                  </a:lnTo>
                  <a:lnTo>
                    <a:pt x="1825" y="1206"/>
                  </a:lnTo>
                  <a:lnTo>
                    <a:pt x="1820" y="1216"/>
                  </a:lnTo>
                  <a:lnTo>
                    <a:pt x="1815" y="1216"/>
                  </a:lnTo>
                  <a:lnTo>
                    <a:pt x="1805" y="1221"/>
                  </a:lnTo>
                  <a:lnTo>
                    <a:pt x="1800" y="1221"/>
                  </a:lnTo>
                  <a:lnTo>
                    <a:pt x="1790" y="1221"/>
                  </a:lnTo>
                  <a:lnTo>
                    <a:pt x="1780" y="1221"/>
                  </a:lnTo>
                  <a:lnTo>
                    <a:pt x="1771" y="1221"/>
                  </a:lnTo>
                  <a:lnTo>
                    <a:pt x="1761" y="1221"/>
                  </a:lnTo>
                  <a:lnTo>
                    <a:pt x="1756" y="1226"/>
                  </a:lnTo>
                  <a:lnTo>
                    <a:pt x="1751" y="1231"/>
                  </a:lnTo>
                  <a:lnTo>
                    <a:pt x="1746" y="1236"/>
                  </a:lnTo>
                  <a:lnTo>
                    <a:pt x="1741" y="1241"/>
                  </a:lnTo>
                  <a:lnTo>
                    <a:pt x="1736" y="1241"/>
                  </a:lnTo>
                  <a:lnTo>
                    <a:pt x="1731" y="1246"/>
                  </a:lnTo>
                  <a:lnTo>
                    <a:pt x="1726" y="1251"/>
                  </a:lnTo>
                  <a:lnTo>
                    <a:pt x="1721" y="1256"/>
                  </a:lnTo>
                  <a:lnTo>
                    <a:pt x="1711" y="1261"/>
                  </a:lnTo>
                  <a:lnTo>
                    <a:pt x="1706" y="1261"/>
                  </a:lnTo>
                  <a:lnTo>
                    <a:pt x="1696" y="1266"/>
                  </a:lnTo>
                  <a:lnTo>
                    <a:pt x="1687" y="1261"/>
                  </a:lnTo>
                  <a:lnTo>
                    <a:pt x="1677" y="1261"/>
                  </a:lnTo>
                  <a:lnTo>
                    <a:pt x="1672" y="1256"/>
                  </a:lnTo>
                  <a:lnTo>
                    <a:pt x="1662" y="1256"/>
                  </a:lnTo>
                  <a:lnTo>
                    <a:pt x="1657" y="1251"/>
                  </a:lnTo>
                  <a:lnTo>
                    <a:pt x="1652" y="1246"/>
                  </a:lnTo>
                  <a:lnTo>
                    <a:pt x="1647" y="1241"/>
                  </a:lnTo>
                  <a:lnTo>
                    <a:pt x="1642" y="1236"/>
                  </a:lnTo>
                  <a:lnTo>
                    <a:pt x="1637" y="1231"/>
                  </a:lnTo>
                  <a:lnTo>
                    <a:pt x="1632" y="1226"/>
                  </a:lnTo>
                  <a:lnTo>
                    <a:pt x="1627" y="1221"/>
                  </a:lnTo>
                  <a:lnTo>
                    <a:pt x="1617" y="1221"/>
                  </a:lnTo>
                  <a:lnTo>
                    <a:pt x="1612" y="1221"/>
                  </a:lnTo>
                  <a:lnTo>
                    <a:pt x="1602" y="1226"/>
                  </a:lnTo>
                  <a:lnTo>
                    <a:pt x="1593" y="1226"/>
                  </a:lnTo>
                  <a:lnTo>
                    <a:pt x="1593" y="1221"/>
                  </a:lnTo>
                  <a:lnTo>
                    <a:pt x="1588" y="1216"/>
                  </a:lnTo>
                  <a:lnTo>
                    <a:pt x="1588" y="1211"/>
                  </a:lnTo>
                  <a:lnTo>
                    <a:pt x="1583" y="1201"/>
                  </a:lnTo>
                  <a:lnTo>
                    <a:pt x="1583" y="1196"/>
                  </a:lnTo>
                  <a:lnTo>
                    <a:pt x="1578" y="1192"/>
                  </a:lnTo>
                  <a:lnTo>
                    <a:pt x="1573" y="1187"/>
                  </a:lnTo>
                  <a:lnTo>
                    <a:pt x="1563" y="1187"/>
                  </a:lnTo>
                  <a:lnTo>
                    <a:pt x="1558" y="1182"/>
                  </a:lnTo>
                  <a:lnTo>
                    <a:pt x="1548" y="1182"/>
                  </a:lnTo>
                  <a:lnTo>
                    <a:pt x="1538" y="1182"/>
                  </a:lnTo>
                  <a:lnTo>
                    <a:pt x="1533" y="1187"/>
                  </a:lnTo>
                  <a:lnTo>
                    <a:pt x="1528" y="1192"/>
                  </a:lnTo>
                  <a:lnTo>
                    <a:pt x="1523" y="1196"/>
                  </a:lnTo>
                  <a:lnTo>
                    <a:pt x="1518" y="1201"/>
                  </a:lnTo>
                  <a:lnTo>
                    <a:pt x="1513" y="1206"/>
                  </a:lnTo>
                  <a:lnTo>
                    <a:pt x="1508" y="1201"/>
                  </a:lnTo>
                  <a:lnTo>
                    <a:pt x="1518" y="1201"/>
                  </a:lnTo>
                  <a:lnTo>
                    <a:pt x="1528" y="1196"/>
                  </a:lnTo>
                  <a:lnTo>
                    <a:pt x="1533" y="1192"/>
                  </a:lnTo>
                  <a:lnTo>
                    <a:pt x="1538" y="1187"/>
                  </a:lnTo>
                  <a:lnTo>
                    <a:pt x="1538" y="1182"/>
                  </a:lnTo>
                  <a:lnTo>
                    <a:pt x="1538" y="1177"/>
                  </a:lnTo>
                  <a:lnTo>
                    <a:pt x="1538" y="1172"/>
                  </a:lnTo>
                  <a:lnTo>
                    <a:pt x="1533" y="1167"/>
                  </a:lnTo>
                  <a:lnTo>
                    <a:pt x="1528" y="1162"/>
                  </a:lnTo>
                  <a:lnTo>
                    <a:pt x="1523" y="1157"/>
                  </a:lnTo>
                  <a:lnTo>
                    <a:pt x="1513" y="1152"/>
                  </a:lnTo>
                  <a:lnTo>
                    <a:pt x="1508" y="1147"/>
                  </a:lnTo>
                  <a:lnTo>
                    <a:pt x="1508" y="1142"/>
                  </a:lnTo>
                  <a:lnTo>
                    <a:pt x="1504" y="1137"/>
                  </a:lnTo>
                  <a:lnTo>
                    <a:pt x="1504" y="1132"/>
                  </a:lnTo>
                  <a:lnTo>
                    <a:pt x="1499" y="1127"/>
                  </a:lnTo>
                  <a:lnTo>
                    <a:pt x="1494" y="1122"/>
                  </a:lnTo>
                  <a:lnTo>
                    <a:pt x="1489" y="1117"/>
                  </a:lnTo>
                  <a:lnTo>
                    <a:pt x="1484" y="1112"/>
                  </a:lnTo>
                  <a:lnTo>
                    <a:pt x="1479" y="1107"/>
                  </a:lnTo>
                  <a:lnTo>
                    <a:pt x="1479" y="1103"/>
                  </a:lnTo>
                  <a:lnTo>
                    <a:pt x="1474" y="1093"/>
                  </a:lnTo>
                  <a:lnTo>
                    <a:pt x="1474" y="1088"/>
                  </a:lnTo>
                  <a:lnTo>
                    <a:pt x="1469" y="1083"/>
                  </a:lnTo>
                  <a:lnTo>
                    <a:pt x="1469" y="1078"/>
                  </a:lnTo>
                  <a:lnTo>
                    <a:pt x="1464" y="1073"/>
                  </a:lnTo>
                  <a:lnTo>
                    <a:pt x="1454" y="1073"/>
                  </a:lnTo>
                  <a:lnTo>
                    <a:pt x="1449" y="1078"/>
                  </a:lnTo>
                  <a:lnTo>
                    <a:pt x="1444" y="1083"/>
                  </a:lnTo>
                  <a:lnTo>
                    <a:pt x="1439" y="1093"/>
                  </a:lnTo>
                  <a:lnTo>
                    <a:pt x="1439" y="1098"/>
                  </a:lnTo>
                  <a:lnTo>
                    <a:pt x="1439" y="1103"/>
                  </a:lnTo>
                  <a:lnTo>
                    <a:pt x="1439" y="1107"/>
                  </a:lnTo>
                  <a:lnTo>
                    <a:pt x="1444" y="1112"/>
                  </a:lnTo>
                  <a:lnTo>
                    <a:pt x="1449" y="1117"/>
                  </a:lnTo>
                  <a:lnTo>
                    <a:pt x="1449" y="1127"/>
                  </a:lnTo>
                  <a:lnTo>
                    <a:pt x="1449" y="1132"/>
                  </a:lnTo>
                  <a:lnTo>
                    <a:pt x="1454" y="1137"/>
                  </a:lnTo>
                  <a:lnTo>
                    <a:pt x="1454" y="1142"/>
                  </a:lnTo>
                  <a:lnTo>
                    <a:pt x="1454" y="1147"/>
                  </a:lnTo>
                  <a:lnTo>
                    <a:pt x="1459" y="1152"/>
                  </a:lnTo>
                  <a:lnTo>
                    <a:pt x="1464" y="1157"/>
                  </a:lnTo>
                  <a:lnTo>
                    <a:pt x="1469" y="1162"/>
                  </a:lnTo>
                  <a:lnTo>
                    <a:pt x="1474" y="1167"/>
                  </a:lnTo>
                  <a:lnTo>
                    <a:pt x="1474" y="1172"/>
                  </a:lnTo>
                  <a:lnTo>
                    <a:pt x="1474" y="1182"/>
                  </a:lnTo>
                  <a:lnTo>
                    <a:pt x="1474" y="1187"/>
                  </a:lnTo>
                  <a:lnTo>
                    <a:pt x="1469" y="1192"/>
                  </a:lnTo>
                  <a:lnTo>
                    <a:pt x="1464" y="1196"/>
                  </a:lnTo>
                  <a:lnTo>
                    <a:pt x="1459" y="1196"/>
                  </a:lnTo>
                  <a:lnTo>
                    <a:pt x="1454" y="1192"/>
                  </a:lnTo>
                  <a:lnTo>
                    <a:pt x="1449" y="1187"/>
                  </a:lnTo>
                  <a:lnTo>
                    <a:pt x="1444" y="1182"/>
                  </a:lnTo>
                  <a:lnTo>
                    <a:pt x="1434" y="1177"/>
                  </a:lnTo>
                  <a:lnTo>
                    <a:pt x="1429" y="1177"/>
                  </a:lnTo>
                  <a:lnTo>
                    <a:pt x="1419" y="1172"/>
                  </a:lnTo>
                  <a:lnTo>
                    <a:pt x="1410" y="1172"/>
                  </a:lnTo>
                  <a:lnTo>
                    <a:pt x="1405" y="1177"/>
                  </a:lnTo>
                  <a:lnTo>
                    <a:pt x="1405" y="1182"/>
                  </a:lnTo>
                  <a:lnTo>
                    <a:pt x="1405" y="1187"/>
                  </a:lnTo>
                  <a:lnTo>
                    <a:pt x="1405" y="1196"/>
                  </a:lnTo>
                  <a:lnTo>
                    <a:pt x="1405" y="1201"/>
                  </a:lnTo>
                  <a:lnTo>
                    <a:pt x="1405" y="1206"/>
                  </a:lnTo>
                  <a:lnTo>
                    <a:pt x="1400" y="1211"/>
                  </a:lnTo>
                  <a:lnTo>
                    <a:pt x="1400" y="1216"/>
                  </a:lnTo>
                  <a:lnTo>
                    <a:pt x="1400" y="1221"/>
                  </a:lnTo>
                  <a:lnTo>
                    <a:pt x="1400" y="1231"/>
                  </a:lnTo>
                  <a:lnTo>
                    <a:pt x="1405" y="1236"/>
                  </a:lnTo>
                  <a:lnTo>
                    <a:pt x="1415" y="1231"/>
                  </a:lnTo>
                  <a:lnTo>
                    <a:pt x="1419" y="1226"/>
                  </a:lnTo>
                  <a:lnTo>
                    <a:pt x="1424" y="1226"/>
                  </a:lnTo>
                  <a:lnTo>
                    <a:pt x="1434" y="1221"/>
                  </a:lnTo>
                  <a:lnTo>
                    <a:pt x="1444" y="1221"/>
                  </a:lnTo>
                  <a:lnTo>
                    <a:pt x="1454" y="1221"/>
                  </a:lnTo>
                  <a:lnTo>
                    <a:pt x="1459" y="1221"/>
                  </a:lnTo>
                  <a:lnTo>
                    <a:pt x="1464" y="1226"/>
                  </a:lnTo>
                  <a:lnTo>
                    <a:pt x="1469" y="1231"/>
                  </a:lnTo>
                  <a:lnTo>
                    <a:pt x="1474" y="1236"/>
                  </a:lnTo>
                  <a:lnTo>
                    <a:pt x="1474" y="1241"/>
                  </a:lnTo>
                  <a:lnTo>
                    <a:pt x="1479" y="1246"/>
                  </a:lnTo>
                  <a:lnTo>
                    <a:pt x="1484" y="1251"/>
                  </a:lnTo>
                  <a:lnTo>
                    <a:pt x="1489" y="1256"/>
                  </a:lnTo>
                  <a:lnTo>
                    <a:pt x="1494" y="1261"/>
                  </a:lnTo>
                  <a:lnTo>
                    <a:pt x="1494" y="1266"/>
                  </a:lnTo>
                  <a:lnTo>
                    <a:pt x="1499" y="1271"/>
                  </a:lnTo>
                  <a:lnTo>
                    <a:pt x="1504" y="1276"/>
                  </a:lnTo>
                  <a:lnTo>
                    <a:pt x="1508" y="1280"/>
                  </a:lnTo>
                  <a:lnTo>
                    <a:pt x="1513" y="1285"/>
                  </a:lnTo>
                  <a:lnTo>
                    <a:pt x="1513" y="1290"/>
                  </a:lnTo>
                  <a:lnTo>
                    <a:pt x="1518" y="1295"/>
                  </a:lnTo>
                  <a:lnTo>
                    <a:pt x="1523" y="1300"/>
                  </a:lnTo>
                  <a:lnTo>
                    <a:pt x="1528" y="1310"/>
                  </a:lnTo>
                  <a:lnTo>
                    <a:pt x="1528" y="1315"/>
                  </a:lnTo>
                  <a:lnTo>
                    <a:pt x="1533" y="1320"/>
                  </a:lnTo>
                  <a:lnTo>
                    <a:pt x="1538" y="1325"/>
                  </a:lnTo>
                  <a:lnTo>
                    <a:pt x="1543" y="1330"/>
                  </a:lnTo>
                  <a:lnTo>
                    <a:pt x="1548" y="1335"/>
                  </a:lnTo>
                  <a:lnTo>
                    <a:pt x="1548" y="1340"/>
                  </a:lnTo>
                  <a:lnTo>
                    <a:pt x="1553" y="1345"/>
                  </a:lnTo>
                  <a:lnTo>
                    <a:pt x="1558" y="1350"/>
                  </a:lnTo>
                  <a:lnTo>
                    <a:pt x="1563" y="1355"/>
                  </a:lnTo>
                  <a:lnTo>
                    <a:pt x="1563" y="1360"/>
                  </a:lnTo>
                  <a:lnTo>
                    <a:pt x="1568" y="1364"/>
                  </a:lnTo>
                  <a:lnTo>
                    <a:pt x="1573" y="1369"/>
                  </a:lnTo>
                  <a:lnTo>
                    <a:pt x="1583" y="1374"/>
                  </a:lnTo>
                  <a:lnTo>
                    <a:pt x="1588" y="1379"/>
                  </a:lnTo>
                  <a:lnTo>
                    <a:pt x="1593" y="1384"/>
                  </a:lnTo>
                  <a:lnTo>
                    <a:pt x="1598" y="1389"/>
                  </a:lnTo>
                  <a:lnTo>
                    <a:pt x="1602" y="1384"/>
                  </a:lnTo>
                  <a:lnTo>
                    <a:pt x="1607" y="1379"/>
                  </a:lnTo>
                  <a:lnTo>
                    <a:pt x="1612" y="1374"/>
                  </a:lnTo>
                  <a:lnTo>
                    <a:pt x="1617" y="1369"/>
                  </a:lnTo>
                  <a:lnTo>
                    <a:pt x="1617" y="1364"/>
                  </a:lnTo>
                  <a:lnTo>
                    <a:pt x="1622" y="1355"/>
                  </a:lnTo>
                  <a:lnTo>
                    <a:pt x="1627" y="1355"/>
                  </a:lnTo>
                  <a:lnTo>
                    <a:pt x="1637" y="1350"/>
                  </a:lnTo>
                  <a:lnTo>
                    <a:pt x="1642" y="1350"/>
                  </a:lnTo>
                  <a:lnTo>
                    <a:pt x="1652" y="1350"/>
                  </a:lnTo>
                  <a:lnTo>
                    <a:pt x="1662" y="1355"/>
                  </a:lnTo>
                  <a:lnTo>
                    <a:pt x="1667" y="1360"/>
                  </a:lnTo>
                  <a:lnTo>
                    <a:pt x="1672" y="1360"/>
                  </a:lnTo>
                  <a:lnTo>
                    <a:pt x="1672" y="1364"/>
                  </a:lnTo>
                  <a:lnTo>
                    <a:pt x="1662" y="1369"/>
                  </a:lnTo>
                  <a:lnTo>
                    <a:pt x="1657" y="1369"/>
                  </a:lnTo>
                  <a:lnTo>
                    <a:pt x="1647" y="1369"/>
                  </a:lnTo>
                  <a:lnTo>
                    <a:pt x="1637" y="1369"/>
                  </a:lnTo>
                  <a:lnTo>
                    <a:pt x="1627" y="1369"/>
                  </a:lnTo>
                  <a:lnTo>
                    <a:pt x="1622" y="1369"/>
                  </a:lnTo>
                  <a:lnTo>
                    <a:pt x="1612" y="1374"/>
                  </a:lnTo>
                  <a:lnTo>
                    <a:pt x="1607" y="1379"/>
                  </a:lnTo>
                  <a:lnTo>
                    <a:pt x="1602" y="1384"/>
                  </a:lnTo>
                  <a:lnTo>
                    <a:pt x="1598" y="1389"/>
                  </a:lnTo>
                  <a:lnTo>
                    <a:pt x="1593" y="1394"/>
                  </a:lnTo>
                  <a:lnTo>
                    <a:pt x="1588" y="1394"/>
                  </a:lnTo>
                  <a:lnTo>
                    <a:pt x="1578" y="1399"/>
                  </a:lnTo>
                  <a:lnTo>
                    <a:pt x="1573" y="1404"/>
                  </a:lnTo>
                  <a:lnTo>
                    <a:pt x="1563" y="1404"/>
                  </a:lnTo>
                  <a:lnTo>
                    <a:pt x="1558" y="1409"/>
                  </a:lnTo>
                  <a:lnTo>
                    <a:pt x="1548" y="1414"/>
                  </a:lnTo>
                  <a:lnTo>
                    <a:pt x="1543" y="1414"/>
                  </a:lnTo>
                  <a:lnTo>
                    <a:pt x="1533" y="1419"/>
                  </a:lnTo>
                  <a:lnTo>
                    <a:pt x="1528" y="1419"/>
                  </a:lnTo>
                  <a:lnTo>
                    <a:pt x="1518" y="1424"/>
                  </a:lnTo>
                  <a:lnTo>
                    <a:pt x="1513" y="1429"/>
                  </a:lnTo>
                  <a:lnTo>
                    <a:pt x="1508" y="1434"/>
                  </a:lnTo>
                  <a:lnTo>
                    <a:pt x="1504" y="1439"/>
                  </a:lnTo>
                  <a:lnTo>
                    <a:pt x="1499" y="1444"/>
                  </a:lnTo>
                  <a:lnTo>
                    <a:pt x="1494" y="1444"/>
                  </a:lnTo>
                  <a:lnTo>
                    <a:pt x="1484" y="1449"/>
                  </a:lnTo>
                  <a:lnTo>
                    <a:pt x="1474" y="1449"/>
                  </a:lnTo>
                  <a:lnTo>
                    <a:pt x="1469" y="1453"/>
                  </a:lnTo>
                  <a:lnTo>
                    <a:pt x="1459" y="1453"/>
                  </a:lnTo>
                  <a:lnTo>
                    <a:pt x="1449" y="1453"/>
                  </a:lnTo>
                  <a:lnTo>
                    <a:pt x="1439" y="1453"/>
                  </a:lnTo>
                  <a:lnTo>
                    <a:pt x="1434" y="1458"/>
                  </a:lnTo>
                  <a:lnTo>
                    <a:pt x="1424" y="1458"/>
                  </a:lnTo>
                  <a:lnTo>
                    <a:pt x="1419" y="1463"/>
                  </a:lnTo>
                  <a:lnTo>
                    <a:pt x="1415" y="1468"/>
                  </a:lnTo>
                  <a:lnTo>
                    <a:pt x="1410" y="1473"/>
                  </a:lnTo>
                  <a:lnTo>
                    <a:pt x="1400" y="1478"/>
                  </a:lnTo>
                  <a:lnTo>
                    <a:pt x="1395" y="1478"/>
                  </a:lnTo>
                  <a:lnTo>
                    <a:pt x="1385" y="1483"/>
                  </a:lnTo>
                  <a:lnTo>
                    <a:pt x="1380" y="1483"/>
                  </a:lnTo>
                  <a:lnTo>
                    <a:pt x="1375" y="1488"/>
                  </a:lnTo>
                  <a:lnTo>
                    <a:pt x="1365" y="1493"/>
                  </a:lnTo>
                  <a:lnTo>
                    <a:pt x="1360" y="1498"/>
                  </a:lnTo>
                  <a:lnTo>
                    <a:pt x="1355" y="1503"/>
                  </a:lnTo>
                  <a:lnTo>
                    <a:pt x="1350" y="1508"/>
                  </a:lnTo>
                  <a:lnTo>
                    <a:pt x="1350" y="1513"/>
                  </a:lnTo>
                  <a:lnTo>
                    <a:pt x="1345" y="1518"/>
                  </a:lnTo>
                  <a:lnTo>
                    <a:pt x="1340" y="1523"/>
                  </a:lnTo>
                  <a:lnTo>
                    <a:pt x="1340" y="1528"/>
                  </a:lnTo>
                  <a:lnTo>
                    <a:pt x="1335" y="1533"/>
                  </a:lnTo>
                  <a:lnTo>
                    <a:pt x="1330" y="1537"/>
                  </a:lnTo>
                  <a:lnTo>
                    <a:pt x="1326" y="1542"/>
                  </a:lnTo>
                  <a:lnTo>
                    <a:pt x="1321" y="1547"/>
                  </a:lnTo>
                  <a:lnTo>
                    <a:pt x="1311" y="1552"/>
                  </a:lnTo>
                  <a:lnTo>
                    <a:pt x="1311" y="1557"/>
                  </a:lnTo>
                  <a:lnTo>
                    <a:pt x="1311" y="1562"/>
                  </a:lnTo>
                  <a:lnTo>
                    <a:pt x="1311" y="1567"/>
                  </a:lnTo>
                  <a:lnTo>
                    <a:pt x="1311" y="1572"/>
                  </a:lnTo>
                  <a:lnTo>
                    <a:pt x="1306" y="1582"/>
                  </a:lnTo>
                  <a:lnTo>
                    <a:pt x="1301" y="1582"/>
                  </a:lnTo>
                  <a:lnTo>
                    <a:pt x="1296" y="1577"/>
                  </a:lnTo>
                  <a:lnTo>
                    <a:pt x="1291" y="1572"/>
                  </a:lnTo>
                  <a:lnTo>
                    <a:pt x="1286" y="1562"/>
                  </a:lnTo>
                  <a:lnTo>
                    <a:pt x="1286" y="1557"/>
                  </a:lnTo>
                  <a:lnTo>
                    <a:pt x="1281" y="1552"/>
                  </a:lnTo>
                  <a:lnTo>
                    <a:pt x="1276" y="1552"/>
                  </a:lnTo>
                  <a:lnTo>
                    <a:pt x="1271" y="1552"/>
                  </a:lnTo>
                  <a:lnTo>
                    <a:pt x="1261" y="1557"/>
                  </a:lnTo>
                  <a:lnTo>
                    <a:pt x="1256" y="1562"/>
                  </a:lnTo>
                  <a:lnTo>
                    <a:pt x="1246" y="1567"/>
                  </a:lnTo>
                  <a:lnTo>
                    <a:pt x="1236" y="1567"/>
                  </a:lnTo>
                  <a:lnTo>
                    <a:pt x="1232" y="1572"/>
                  </a:lnTo>
                  <a:lnTo>
                    <a:pt x="1222" y="1572"/>
                  </a:lnTo>
                  <a:lnTo>
                    <a:pt x="1217" y="1572"/>
                  </a:lnTo>
                  <a:lnTo>
                    <a:pt x="1207" y="1577"/>
                  </a:lnTo>
                  <a:lnTo>
                    <a:pt x="1197" y="1577"/>
                  </a:lnTo>
                  <a:lnTo>
                    <a:pt x="1192" y="1582"/>
                  </a:lnTo>
                  <a:lnTo>
                    <a:pt x="1182" y="1582"/>
                  </a:lnTo>
                  <a:lnTo>
                    <a:pt x="1177" y="1587"/>
                  </a:lnTo>
                  <a:lnTo>
                    <a:pt x="1167" y="1587"/>
                  </a:lnTo>
                  <a:lnTo>
                    <a:pt x="1157" y="1592"/>
                  </a:lnTo>
                  <a:lnTo>
                    <a:pt x="1147" y="1597"/>
                  </a:lnTo>
                  <a:lnTo>
                    <a:pt x="1143" y="1602"/>
                  </a:lnTo>
                  <a:lnTo>
                    <a:pt x="1143" y="1607"/>
                  </a:lnTo>
                  <a:lnTo>
                    <a:pt x="1143" y="1612"/>
                  </a:lnTo>
                  <a:lnTo>
                    <a:pt x="1143" y="1617"/>
                  </a:lnTo>
                  <a:lnTo>
                    <a:pt x="1138" y="1622"/>
                  </a:lnTo>
                  <a:lnTo>
                    <a:pt x="1138" y="1626"/>
                  </a:lnTo>
                  <a:lnTo>
                    <a:pt x="1138" y="1631"/>
                  </a:lnTo>
                  <a:lnTo>
                    <a:pt x="1138" y="1641"/>
                  </a:lnTo>
                  <a:lnTo>
                    <a:pt x="1138" y="1646"/>
                  </a:lnTo>
                  <a:lnTo>
                    <a:pt x="1138" y="1651"/>
                  </a:lnTo>
                  <a:lnTo>
                    <a:pt x="1138" y="1656"/>
                  </a:lnTo>
                  <a:lnTo>
                    <a:pt x="1143" y="1656"/>
                  </a:lnTo>
                  <a:lnTo>
                    <a:pt x="1172" y="1656"/>
                  </a:lnTo>
                  <a:lnTo>
                    <a:pt x="1177" y="1656"/>
                  </a:lnTo>
                  <a:close/>
                  <a:moveTo>
                    <a:pt x="1246" y="1656"/>
                  </a:moveTo>
                  <a:lnTo>
                    <a:pt x="1241" y="1651"/>
                  </a:lnTo>
                  <a:lnTo>
                    <a:pt x="1236" y="1651"/>
                  </a:lnTo>
                  <a:lnTo>
                    <a:pt x="1232" y="1646"/>
                  </a:lnTo>
                  <a:lnTo>
                    <a:pt x="1227" y="1646"/>
                  </a:lnTo>
                  <a:lnTo>
                    <a:pt x="1222" y="1646"/>
                  </a:lnTo>
                  <a:lnTo>
                    <a:pt x="1222" y="1651"/>
                  </a:lnTo>
                  <a:lnTo>
                    <a:pt x="1217" y="1651"/>
                  </a:lnTo>
                  <a:lnTo>
                    <a:pt x="1212" y="1656"/>
                  </a:lnTo>
                  <a:lnTo>
                    <a:pt x="1222" y="1656"/>
                  </a:lnTo>
                  <a:lnTo>
                    <a:pt x="1246" y="1656"/>
                  </a:lnTo>
                  <a:close/>
                  <a:moveTo>
                    <a:pt x="1370" y="1547"/>
                  </a:moveTo>
                  <a:lnTo>
                    <a:pt x="1370" y="1547"/>
                  </a:lnTo>
                  <a:lnTo>
                    <a:pt x="1375" y="1542"/>
                  </a:lnTo>
                  <a:lnTo>
                    <a:pt x="1380" y="1542"/>
                  </a:lnTo>
                  <a:lnTo>
                    <a:pt x="1380" y="1542"/>
                  </a:lnTo>
                  <a:lnTo>
                    <a:pt x="1385" y="1542"/>
                  </a:lnTo>
                  <a:lnTo>
                    <a:pt x="1390" y="1547"/>
                  </a:lnTo>
                  <a:lnTo>
                    <a:pt x="1390" y="1547"/>
                  </a:lnTo>
                  <a:lnTo>
                    <a:pt x="1390" y="1552"/>
                  </a:lnTo>
                  <a:lnTo>
                    <a:pt x="1385" y="1552"/>
                  </a:lnTo>
                  <a:lnTo>
                    <a:pt x="1385" y="1557"/>
                  </a:lnTo>
                  <a:lnTo>
                    <a:pt x="1380" y="1557"/>
                  </a:lnTo>
                  <a:lnTo>
                    <a:pt x="1375" y="1557"/>
                  </a:lnTo>
                  <a:lnTo>
                    <a:pt x="1375" y="1552"/>
                  </a:lnTo>
                  <a:lnTo>
                    <a:pt x="1370" y="1547"/>
                  </a:lnTo>
                  <a:close/>
                  <a:moveTo>
                    <a:pt x="1528" y="1389"/>
                  </a:moveTo>
                  <a:lnTo>
                    <a:pt x="1523" y="1384"/>
                  </a:lnTo>
                  <a:lnTo>
                    <a:pt x="1518" y="1379"/>
                  </a:lnTo>
                  <a:lnTo>
                    <a:pt x="1513" y="1374"/>
                  </a:lnTo>
                  <a:lnTo>
                    <a:pt x="1508" y="1379"/>
                  </a:lnTo>
                  <a:lnTo>
                    <a:pt x="1499" y="1379"/>
                  </a:lnTo>
                  <a:lnTo>
                    <a:pt x="1494" y="1384"/>
                  </a:lnTo>
                  <a:lnTo>
                    <a:pt x="1494" y="1389"/>
                  </a:lnTo>
                  <a:lnTo>
                    <a:pt x="1499" y="1399"/>
                  </a:lnTo>
                  <a:lnTo>
                    <a:pt x="1504" y="1399"/>
                  </a:lnTo>
                  <a:lnTo>
                    <a:pt x="1508" y="1404"/>
                  </a:lnTo>
                  <a:lnTo>
                    <a:pt x="1518" y="1404"/>
                  </a:lnTo>
                  <a:lnTo>
                    <a:pt x="1523" y="1404"/>
                  </a:lnTo>
                  <a:lnTo>
                    <a:pt x="1523" y="1394"/>
                  </a:lnTo>
                  <a:lnTo>
                    <a:pt x="1528" y="1389"/>
                  </a:lnTo>
                  <a:close/>
                  <a:moveTo>
                    <a:pt x="1706" y="1335"/>
                  </a:moveTo>
                  <a:lnTo>
                    <a:pt x="1711" y="1330"/>
                  </a:lnTo>
                  <a:lnTo>
                    <a:pt x="1716" y="1320"/>
                  </a:lnTo>
                  <a:lnTo>
                    <a:pt x="1721" y="1320"/>
                  </a:lnTo>
                  <a:lnTo>
                    <a:pt x="1726" y="1320"/>
                  </a:lnTo>
                  <a:lnTo>
                    <a:pt x="1736" y="1320"/>
                  </a:lnTo>
                  <a:lnTo>
                    <a:pt x="1741" y="1325"/>
                  </a:lnTo>
                  <a:lnTo>
                    <a:pt x="1746" y="1330"/>
                  </a:lnTo>
                  <a:lnTo>
                    <a:pt x="1746" y="1335"/>
                  </a:lnTo>
                  <a:lnTo>
                    <a:pt x="1746" y="1340"/>
                  </a:lnTo>
                  <a:lnTo>
                    <a:pt x="1736" y="1340"/>
                  </a:lnTo>
                  <a:lnTo>
                    <a:pt x="1731" y="1345"/>
                  </a:lnTo>
                  <a:lnTo>
                    <a:pt x="1721" y="1340"/>
                  </a:lnTo>
                  <a:lnTo>
                    <a:pt x="1716" y="1340"/>
                  </a:lnTo>
                  <a:lnTo>
                    <a:pt x="1706" y="1335"/>
                  </a:lnTo>
                  <a:close/>
                  <a:moveTo>
                    <a:pt x="2389" y="1147"/>
                  </a:moveTo>
                  <a:lnTo>
                    <a:pt x="2389" y="1142"/>
                  </a:lnTo>
                  <a:lnTo>
                    <a:pt x="2394" y="1142"/>
                  </a:lnTo>
                  <a:lnTo>
                    <a:pt x="2399" y="1142"/>
                  </a:lnTo>
                  <a:lnTo>
                    <a:pt x="2399" y="1147"/>
                  </a:lnTo>
                  <a:lnTo>
                    <a:pt x="2404" y="1152"/>
                  </a:lnTo>
                  <a:lnTo>
                    <a:pt x="2404" y="1152"/>
                  </a:lnTo>
                  <a:lnTo>
                    <a:pt x="2399" y="1157"/>
                  </a:lnTo>
                  <a:lnTo>
                    <a:pt x="2399" y="1162"/>
                  </a:lnTo>
                  <a:lnTo>
                    <a:pt x="2394" y="1162"/>
                  </a:lnTo>
                  <a:lnTo>
                    <a:pt x="2394" y="1162"/>
                  </a:lnTo>
                  <a:lnTo>
                    <a:pt x="2389" y="1162"/>
                  </a:lnTo>
                  <a:lnTo>
                    <a:pt x="2389" y="1157"/>
                  </a:lnTo>
                  <a:lnTo>
                    <a:pt x="2389" y="1152"/>
                  </a:lnTo>
                  <a:lnTo>
                    <a:pt x="2389" y="1147"/>
                  </a:lnTo>
                  <a:close/>
                  <a:moveTo>
                    <a:pt x="1568" y="1122"/>
                  </a:moveTo>
                  <a:lnTo>
                    <a:pt x="1568" y="1122"/>
                  </a:lnTo>
                  <a:lnTo>
                    <a:pt x="1568" y="1122"/>
                  </a:lnTo>
                  <a:lnTo>
                    <a:pt x="1568" y="1122"/>
                  </a:lnTo>
                  <a:lnTo>
                    <a:pt x="1568" y="1122"/>
                  </a:lnTo>
                  <a:lnTo>
                    <a:pt x="1568" y="1122"/>
                  </a:lnTo>
                  <a:lnTo>
                    <a:pt x="1568" y="1122"/>
                  </a:lnTo>
                  <a:lnTo>
                    <a:pt x="1568" y="1122"/>
                  </a:lnTo>
                  <a:lnTo>
                    <a:pt x="1568" y="1122"/>
                  </a:lnTo>
                  <a:lnTo>
                    <a:pt x="1568" y="1122"/>
                  </a:lnTo>
                  <a:lnTo>
                    <a:pt x="1568" y="1122"/>
                  </a:lnTo>
                  <a:lnTo>
                    <a:pt x="1568" y="1122"/>
                  </a:lnTo>
                  <a:lnTo>
                    <a:pt x="1568" y="1122"/>
                  </a:lnTo>
                  <a:lnTo>
                    <a:pt x="1568" y="1122"/>
                  </a:lnTo>
                  <a:lnTo>
                    <a:pt x="1568" y="1122"/>
                  </a:lnTo>
                  <a:close/>
                  <a:moveTo>
                    <a:pt x="1548" y="1093"/>
                  </a:moveTo>
                  <a:lnTo>
                    <a:pt x="1548" y="1088"/>
                  </a:lnTo>
                  <a:lnTo>
                    <a:pt x="1543" y="1088"/>
                  </a:lnTo>
                  <a:lnTo>
                    <a:pt x="1538" y="1083"/>
                  </a:lnTo>
                  <a:lnTo>
                    <a:pt x="1533" y="1088"/>
                  </a:lnTo>
                  <a:lnTo>
                    <a:pt x="1528" y="1088"/>
                  </a:lnTo>
                  <a:lnTo>
                    <a:pt x="1523" y="1093"/>
                  </a:lnTo>
                  <a:lnTo>
                    <a:pt x="1518" y="1098"/>
                  </a:lnTo>
                  <a:lnTo>
                    <a:pt x="1523" y="1098"/>
                  </a:lnTo>
                  <a:lnTo>
                    <a:pt x="1528" y="1103"/>
                  </a:lnTo>
                  <a:lnTo>
                    <a:pt x="1533" y="1107"/>
                  </a:lnTo>
                  <a:lnTo>
                    <a:pt x="1543" y="1107"/>
                  </a:lnTo>
                  <a:lnTo>
                    <a:pt x="1543" y="1103"/>
                  </a:lnTo>
                  <a:lnTo>
                    <a:pt x="1548" y="1103"/>
                  </a:lnTo>
                  <a:lnTo>
                    <a:pt x="1548" y="1093"/>
                  </a:lnTo>
                  <a:close/>
                  <a:moveTo>
                    <a:pt x="1528" y="1068"/>
                  </a:moveTo>
                  <a:lnTo>
                    <a:pt x="1523" y="1063"/>
                  </a:lnTo>
                  <a:lnTo>
                    <a:pt x="1523" y="1058"/>
                  </a:lnTo>
                  <a:lnTo>
                    <a:pt x="1518" y="1053"/>
                  </a:lnTo>
                  <a:lnTo>
                    <a:pt x="1513" y="1048"/>
                  </a:lnTo>
                  <a:lnTo>
                    <a:pt x="1508" y="1043"/>
                  </a:lnTo>
                  <a:lnTo>
                    <a:pt x="1508" y="1038"/>
                  </a:lnTo>
                  <a:lnTo>
                    <a:pt x="1504" y="1033"/>
                  </a:lnTo>
                  <a:lnTo>
                    <a:pt x="1499" y="1023"/>
                  </a:lnTo>
                  <a:lnTo>
                    <a:pt x="1499" y="1019"/>
                  </a:lnTo>
                  <a:lnTo>
                    <a:pt x="1494" y="1014"/>
                  </a:lnTo>
                  <a:lnTo>
                    <a:pt x="1489" y="1009"/>
                  </a:lnTo>
                  <a:lnTo>
                    <a:pt x="1484" y="1004"/>
                  </a:lnTo>
                  <a:lnTo>
                    <a:pt x="1484" y="999"/>
                  </a:lnTo>
                  <a:lnTo>
                    <a:pt x="1479" y="994"/>
                  </a:lnTo>
                  <a:lnTo>
                    <a:pt x="1474" y="989"/>
                  </a:lnTo>
                  <a:lnTo>
                    <a:pt x="1469" y="984"/>
                  </a:lnTo>
                  <a:lnTo>
                    <a:pt x="1469" y="979"/>
                  </a:lnTo>
                  <a:lnTo>
                    <a:pt x="1464" y="974"/>
                  </a:lnTo>
                  <a:lnTo>
                    <a:pt x="1459" y="969"/>
                  </a:lnTo>
                  <a:lnTo>
                    <a:pt x="1459" y="959"/>
                  </a:lnTo>
                  <a:lnTo>
                    <a:pt x="1454" y="954"/>
                  </a:lnTo>
                  <a:lnTo>
                    <a:pt x="1449" y="949"/>
                  </a:lnTo>
                  <a:lnTo>
                    <a:pt x="1444" y="944"/>
                  </a:lnTo>
                  <a:lnTo>
                    <a:pt x="1444" y="939"/>
                  </a:lnTo>
                  <a:lnTo>
                    <a:pt x="1439" y="934"/>
                  </a:lnTo>
                  <a:lnTo>
                    <a:pt x="1434" y="930"/>
                  </a:lnTo>
                  <a:lnTo>
                    <a:pt x="1424" y="925"/>
                  </a:lnTo>
                  <a:lnTo>
                    <a:pt x="1415" y="925"/>
                  </a:lnTo>
                  <a:lnTo>
                    <a:pt x="1410" y="925"/>
                  </a:lnTo>
                  <a:lnTo>
                    <a:pt x="1405" y="930"/>
                  </a:lnTo>
                  <a:lnTo>
                    <a:pt x="1400" y="934"/>
                  </a:lnTo>
                  <a:lnTo>
                    <a:pt x="1400" y="939"/>
                  </a:lnTo>
                  <a:lnTo>
                    <a:pt x="1395" y="944"/>
                  </a:lnTo>
                  <a:lnTo>
                    <a:pt x="1390" y="954"/>
                  </a:lnTo>
                  <a:lnTo>
                    <a:pt x="1385" y="959"/>
                  </a:lnTo>
                  <a:lnTo>
                    <a:pt x="1385" y="959"/>
                  </a:lnTo>
                  <a:lnTo>
                    <a:pt x="1390" y="964"/>
                  </a:lnTo>
                  <a:lnTo>
                    <a:pt x="1400" y="969"/>
                  </a:lnTo>
                  <a:lnTo>
                    <a:pt x="1405" y="974"/>
                  </a:lnTo>
                  <a:lnTo>
                    <a:pt x="1415" y="979"/>
                  </a:lnTo>
                  <a:lnTo>
                    <a:pt x="1419" y="984"/>
                  </a:lnTo>
                  <a:lnTo>
                    <a:pt x="1424" y="989"/>
                  </a:lnTo>
                  <a:lnTo>
                    <a:pt x="1429" y="994"/>
                  </a:lnTo>
                  <a:lnTo>
                    <a:pt x="1434" y="999"/>
                  </a:lnTo>
                  <a:lnTo>
                    <a:pt x="1439" y="1004"/>
                  </a:lnTo>
                  <a:lnTo>
                    <a:pt x="1444" y="1004"/>
                  </a:lnTo>
                  <a:lnTo>
                    <a:pt x="1449" y="1009"/>
                  </a:lnTo>
                  <a:lnTo>
                    <a:pt x="1454" y="1019"/>
                  </a:lnTo>
                  <a:lnTo>
                    <a:pt x="1454" y="1023"/>
                  </a:lnTo>
                  <a:lnTo>
                    <a:pt x="1459" y="1028"/>
                  </a:lnTo>
                  <a:lnTo>
                    <a:pt x="1464" y="1033"/>
                  </a:lnTo>
                  <a:lnTo>
                    <a:pt x="1469" y="1038"/>
                  </a:lnTo>
                  <a:lnTo>
                    <a:pt x="1474" y="1043"/>
                  </a:lnTo>
                  <a:lnTo>
                    <a:pt x="1474" y="1048"/>
                  </a:lnTo>
                  <a:lnTo>
                    <a:pt x="1474" y="1053"/>
                  </a:lnTo>
                  <a:lnTo>
                    <a:pt x="1474" y="1063"/>
                  </a:lnTo>
                  <a:lnTo>
                    <a:pt x="1474" y="1068"/>
                  </a:lnTo>
                  <a:lnTo>
                    <a:pt x="1479" y="1068"/>
                  </a:lnTo>
                  <a:lnTo>
                    <a:pt x="1489" y="1073"/>
                  </a:lnTo>
                  <a:lnTo>
                    <a:pt x="1494" y="1078"/>
                  </a:lnTo>
                  <a:lnTo>
                    <a:pt x="1504" y="1083"/>
                  </a:lnTo>
                  <a:lnTo>
                    <a:pt x="1508" y="1088"/>
                  </a:lnTo>
                  <a:lnTo>
                    <a:pt x="1513" y="1093"/>
                  </a:lnTo>
                  <a:lnTo>
                    <a:pt x="1518" y="1093"/>
                  </a:lnTo>
                  <a:lnTo>
                    <a:pt x="1523" y="1093"/>
                  </a:lnTo>
                  <a:lnTo>
                    <a:pt x="1523" y="1088"/>
                  </a:lnTo>
                  <a:lnTo>
                    <a:pt x="1528" y="1078"/>
                  </a:lnTo>
                  <a:lnTo>
                    <a:pt x="1528" y="1068"/>
                  </a:lnTo>
                  <a:close/>
                  <a:moveTo>
                    <a:pt x="1449" y="1043"/>
                  </a:moveTo>
                  <a:lnTo>
                    <a:pt x="1444" y="1038"/>
                  </a:lnTo>
                  <a:lnTo>
                    <a:pt x="1439" y="1038"/>
                  </a:lnTo>
                  <a:lnTo>
                    <a:pt x="1434" y="1038"/>
                  </a:lnTo>
                  <a:lnTo>
                    <a:pt x="1424" y="1038"/>
                  </a:lnTo>
                  <a:lnTo>
                    <a:pt x="1424" y="1043"/>
                  </a:lnTo>
                  <a:lnTo>
                    <a:pt x="1424" y="1043"/>
                  </a:lnTo>
                  <a:lnTo>
                    <a:pt x="1424" y="1048"/>
                  </a:lnTo>
                  <a:lnTo>
                    <a:pt x="1429" y="1053"/>
                  </a:lnTo>
                  <a:lnTo>
                    <a:pt x="1434" y="1053"/>
                  </a:lnTo>
                  <a:lnTo>
                    <a:pt x="1439" y="1058"/>
                  </a:lnTo>
                  <a:lnTo>
                    <a:pt x="1439" y="1053"/>
                  </a:lnTo>
                  <a:lnTo>
                    <a:pt x="1444" y="1053"/>
                  </a:lnTo>
                  <a:lnTo>
                    <a:pt x="1444" y="1048"/>
                  </a:lnTo>
                  <a:lnTo>
                    <a:pt x="1449" y="1043"/>
                  </a:lnTo>
                  <a:close/>
                  <a:moveTo>
                    <a:pt x="1415" y="1014"/>
                  </a:moveTo>
                  <a:lnTo>
                    <a:pt x="1415" y="1009"/>
                  </a:lnTo>
                  <a:lnTo>
                    <a:pt x="1410" y="1009"/>
                  </a:lnTo>
                  <a:lnTo>
                    <a:pt x="1405" y="1009"/>
                  </a:lnTo>
                  <a:lnTo>
                    <a:pt x="1400" y="1009"/>
                  </a:lnTo>
                  <a:lnTo>
                    <a:pt x="1395" y="1014"/>
                  </a:lnTo>
                  <a:lnTo>
                    <a:pt x="1395" y="1019"/>
                  </a:lnTo>
                  <a:lnTo>
                    <a:pt x="1395" y="1023"/>
                  </a:lnTo>
                  <a:lnTo>
                    <a:pt x="1400" y="1028"/>
                  </a:lnTo>
                  <a:lnTo>
                    <a:pt x="1405" y="1033"/>
                  </a:lnTo>
                  <a:lnTo>
                    <a:pt x="1410" y="1033"/>
                  </a:lnTo>
                  <a:lnTo>
                    <a:pt x="1415" y="1033"/>
                  </a:lnTo>
                  <a:lnTo>
                    <a:pt x="1415" y="1028"/>
                  </a:lnTo>
                  <a:lnTo>
                    <a:pt x="1415" y="1023"/>
                  </a:lnTo>
                  <a:lnTo>
                    <a:pt x="1415" y="1014"/>
                  </a:lnTo>
                  <a:close/>
                  <a:moveTo>
                    <a:pt x="2354" y="855"/>
                  </a:moveTo>
                  <a:lnTo>
                    <a:pt x="2359" y="850"/>
                  </a:lnTo>
                  <a:lnTo>
                    <a:pt x="2359" y="846"/>
                  </a:lnTo>
                  <a:lnTo>
                    <a:pt x="2364" y="846"/>
                  </a:lnTo>
                  <a:lnTo>
                    <a:pt x="2364" y="846"/>
                  </a:lnTo>
                  <a:lnTo>
                    <a:pt x="2369" y="846"/>
                  </a:lnTo>
                  <a:lnTo>
                    <a:pt x="2369" y="846"/>
                  </a:lnTo>
                  <a:lnTo>
                    <a:pt x="2369" y="850"/>
                  </a:lnTo>
                  <a:lnTo>
                    <a:pt x="2374" y="855"/>
                  </a:lnTo>
                  <a:lnTo>
                    <a:pt x="2369" y="855"/>
                  </a:lnTo>
                  <a:lnTo>
                    <a:pt x="2369" y="860"/>
                  </a:lnTo>
                  <a:lnTo>
                    <a:pt x="2364" y="860"/>
                  </a:lnTo>
                  <a:lnTo>
                    <a:pt x="2364" y="860"/>
                  </a:lnTo>
                  <a:lnTo>
                    <a:pt x="2359" y="855"/>
                  </a:lnTo>
                  <a:lnTo>
                    <a:pt x="2354" y="855"/>
                  </a:lnTo>
                  <a:close/>
                  <a:moveTo>
                    <a:pt x="2196" y="747"/>
                  </a:moveTo>
                  <a:lnTo>
                    <a:pt x="2201" y="747"/>
                  </a:lnTo>
                  <a:lnTo>
                    <a:pt x="2201" y="747"/>
                  </a:lnTo>
                  <a:lnTo>
                    <a:pt x="2206" y="742"/>
                  </a:lnTo>
                  <a:lnTo>
                    <a:pt x="2206" y="742"/>
                  </a:lnTo>
                  <a:lnTo>
                    <a:pt x="2206" y="747"/>
                  </a:lnTo>
                  <a:lnTo>
                    <a:pt x="2211" y="747"/>
                  </a:lnTo>
                  <a:lnTo>
                    <a:pt x="2211" y="747"/>
                  </a:lnTo>
                  <a:lnTo>
                    <a:pt x="2211" y="752"/>
                  </a:lnTo>
                  <a:lnTo>
                    <a:pt x="2206" y="752"/>
                  </a:lnTo>
                  <a:lnTo>
                    <a:pt x="2206" y="752"/>
                  </a:lnTo>
                  <a:lnTo>
                    <a:pt x="2206" y="752"/>
                  </a:lnTo>
                  <a:lnTo>
                    <a:pt x="2201" y="752"/>
                  </a:lnTo>
                  <a:lnTo>
                    <a:pt x="2201" y="752"/>
                  </a:lnTo>
                  <a:lnTo>
                    <a:pt x="2196" y="747"/>
                  </a:lnTo>
                  <a:close/>
                  <a:moveTo>
                    <a:pt x="297" y="643"/>
                  </a:moveTo>
                  <a:lnTo>
                    <a:pt x="297" y="633"/>
                  </a:lnTo>
                  <a:lnTo>
                    <a:pt x="302" y="628"/>
                  </a:lnTo>
                  <a:lnTo>
                    <a:pt x="302" y="623"/>
                  </a:lnTo>
                  <a:lnTo>
                    <a:pt x="307" y="618"/>
                  </a:lnTo>
                  <a:lnTo>
                    <a:pt x="307" y="613"/>
                  </a:lnTo>
                  <a:lnTo>
                    <a:pt x="307" y="608"/>
                  </a:lnTo>
                  <a:lnTo>
                    <a:pt x="312" y="598"/>
                  </a:lnTo>
                  <a:lnTo>
                    <a:pt x="317" y="593"/>
                  </a:lnTo>
                  <a:lnTo>
                    <a:pt x="322" y="593"/>
                  </a:lnTo>
                  <a:lnTo>
                    <a:pt x="327" y="589"/>
                  </a:lnTo>
                  <a:lnTo>
                    <a:pt x="336" y="589"/>
                  </a:lnTo>
                  <a:lnTo>
                    <a:pt x="346" y="593"/>
                  </a:lnTo>
                  <a:lnTo>
                    <a:pt x="356" y="593"/>
                  </a:lnTo>
                  <a:lnTo>
                    <a:pt x="366" y="598"/>
                  </a:lnTo>
                  <a:lnTo>
                    <a:pt x="371" y="598"/>
                  </a:lnTo>
                  <a:lnTo>
                    <a:pt x="381" y="603"/>
                  </a:lnTo>
                  <a:lnTo>
                    <a:pt x="386" y="608"/>
                  </a:lnTo>
                  <a:lnTo>
                    <a:pt x="391" y="613"/>
                  </a:lnTo>
                  <a:lnTo>
                    <a:pt x="396" y="618"/>
                  </a:lnTo>
                  <a:lnTo>
                    <a:pt x="401" y="623"/>
                  </a:lnTo>
                  <a:lnTo>
                    <a:pt x="406" y="618"/>
                  </a:lnTo>
                  <a:lnTo>
                    <a:pt x="416" y="613"/>
                  </a:lnTo>
                  <a:lnTo>
                    <a:pt x="420" y="613"/>
                  </a:lnTo>
                  <a:lnTo>
                    <a:pt x="430" y="608"/>
                  </a:lnTo>
                  <a:lnTo>
                    <a:pt x="440" y="608"/>
                  </a:lnTo>
                  <a:lnTo>
                    <a:pt x="450" y="603"/>
                  </a:lnTo>
                  <a:lnTo>
                    <a:pt x="455" y="598"/>
                  </a:lnTo>
                  <a:lnTo>
                    <a:pt x="455" y="593"/>
                  </a:lnTo>
                  <a:lnTo>
                    <a:pt x="460" y="589"/>
                  </a:lnTo>
                  <a:lnTo>
                    <a:pt x="460" y="584"/>
                  </a:lnTo>
                  <a:lnTo>
                    <a:pt x="460" y="579"/>
                  </a:lnTo>
                  <a:lnTo>
                    <a:pt x="460" y="569"/>
                  </a:lnTo>
                  <a:lnTo>
                    <a:pt x="465" y="564"/>
                  </a:lnTo>
                  <a:lnTo>
                    <a:pt x="465" y="559"/>
                  </a:lnTo>
                  <a:lnTo>
                    <a:pt x="470" y="554"/>
                  </a:lnTo>
                  <a:lnTo>
                    <a:pt x="470" y="549"/>
                  </a:lnTo>
                  <a:lnTo>
                    <a:pt x="475" y="544"/>
                  </a:lnTo>
                  <a:lnTo>
                    <a:pt x="475" y="539"/>
                  </a:lnTo>
                  <a:lnTo>
                    <a:pt x="480" y="534"/>
                  </a:lnTo>
                  <a:lnTo>
                    <a:pt x="485" y="529"/>
                  </a:lnTo>
                  <a:lnTo>
                    <a:pt x="495" y="529"/>
                  </a:lnTo>
                  <a:lnTo>
                    <a:pt x="505" y="529"/>
                  </a:lnTo>
                  <a:lnTo>
                    <a:pt x="514" y="524"/>
                  </a:lnTo>
                  <a:lnTo>
                    <a:pt x="524" y="519"/>
                  </a:lnTo>
                  <a:lnTo>
                    <a:pt x="529" y="519"/>
                  </a:lnTo>
                  <a:lnTo>
                    <a:pt x="534" y="514"/>
                  </a:lnTo>
                  <a:lnTo>
                    <a:pt x="539" y="504"/>
                  </a:lnTo>
                  <a:lnTo>
                    <a:pt x="539" y="500"/>
                  </a:lnTo>
                  <a:lnTo>
                    <a:pt x="544" y="495"/>
                  </a:lnTo>
                  <a:lnTo>
                    <a:pt x="544" y="490"/>
                  </a:lnTo>
                  <a:lnTo>
                    <a:pt x="544" y="485"/>
                  </a:lnTo>
                  <a:lnTo>
                    <a:pt x="549" y="480"/>
                  </a:lnTo>
                  <a:lnTo>
                    <a:pt x="549" y="475"/>
                  </a:lnTo>
                  <a:lnTo>
                    <a:pt x="549" y="465"/>
                  </a:lnTo>
                  <a:lnTo>
                    <a:pt x="549" y="460"/>
                  </a:lnTo>
                  <a:lnTo>
                    <a:pt x="549" y="455"/>
                  </a:lnTo>
                  <a:lnTo>
                    <a:pt x="554" y="450"/>
                  </a:lnTo>
                  <a:lnTo>
                    <a:pt x="554" y="445"/>
                  </a:lnTo>
                  <a:lnTo>
                    <a:pt x="559" y="440"/>
                  </a:lnTo>
                  <a:lnTo>
                    <a:pt x="559" y="430"/>
                  </a:lnTo>
                  <a:lnTo>
                    <a:pt x="559" y="425"/>
                  </a:lnTo>
                  <a:lnTo>
                    <a:pt x="564" y="420"/>
                  </a:lnTo>
                  <a:lnTo>
                    <a:pt x="564" y="416"/>
                  </a:lnTo>
                  <a:lnTo>
                    <a:pt x="569" y="411"/>
                  </a:lnTo>
                  <a:lnTo>
                    <a:pt x="569" y="406"/>
                  </a:lnTo>
                  <a:lnTo>
                    <a:pt x="574" y="401"/>
                  </a:lnTo>
                  <a:lnTo>
                    <a:pt x="574" y="391"/>
                  </a:lnTo>
                  <a:lnTo>
                    <a:pt x="579" y="386"/>
                  </a:lnTo>
                  <a:lnTo>
                    <a:pt x="584" y="381"/>
                  </a:lnTo>
                  <a:lnTo>
                    <a:pt x="584" y="376"/>
                  </a:lnTo>
                  <a:lnTo>
                    <a:pt x="589" y="371"/>
                  </a:lnTo>
                  <a:lnTo>
                    <a:pt x="589" y="366"/>
                  </a:lnTo>
                  <a:lnTo>
                    <a:pt x="589" y="361"/>
                  </a:lnTo>
                  <a:lnTo>
                    <a:pt x="594" y="351"/>
                  </a:lnTo>
                  <a:lnTo>
                    <a:pt x="594" y="346"/>
                  </a:lnTo>
                  <a:lnTo>
                    <a:pt x="594" y="341"/>
                  </a:lnTo>
                  <a:lnTo>
                    <a:pt x="599" y="336"/>
                  </a:lnTo>
                  <a:lnTo>
                    <a:pt x="599" y="331"/>
                  </a:lnTo>
                  <a:lnTo>
                    <a:pt x="603" y="327"/>
                  </a:lnTo>
                  <a:lnTo>
                    <a:pt x="608" y="322"/>
                  </a:lnTo>
                  <a:lnTo>
                    <a:pt x="608" y="317"/>
                  </a:lnTo>
                  <a:lnTo>
                    <a:pt x="613" y="307"/>
                  </a:lnTo>
                  <a:lnTo>
                    <a:pt x="613" y="302"/>
                  </a:lnTo>
                  <a:lnTo>
                    <a:pt x="618" y="297"/>
                  </a:lnTo>
                  <a:lnTo>
                    <a:pt x="618" y="292"/>
                  </a:lnTo>
                  <a:lnTo>
                    <a:pt x="623" y="287"/>
                  </a:lnTo>
                  <a:lnTo>
                    <a:pt x="623" y="282"/>
                  </a:lnTo>
                  <a:lnTo>
                    <a:pt x="623" y="277"/>
                  </a:lnTo>
                  <a:lnTo>
                    <a:pt x="628" y="267"/>
                  </a:lnTo>
                  <a:lnTo>
                    <a:pt x="628" y="262"/>
                  </a:lnTo>
                  <a:lnTo>
                    <a:pt x="628" y="257"/>
                  </a:lnTo>
                  <a:lnTo>
                    <a:pt x="633" y="252"/>
                  </a:lnTo>
                  <a:lnTo>
                    <a:pt x="638" y="247"/>
                  </a:lnTo>
                  <a:lnTo>
                    <a:pt x="643" y="243"/>
                  </a:lnTo>
                  <a:lnTo>
                    <a:pt x="648" y="238"/>
                  </a:lnTo>
                  <a:lnTo>
                    <a:pt x="653" y="233"/>
                  </a:lnTo>
                  <a:lnTo>
                    <a:pt x="653" y="228"/>
                  </a:lnTo>
                  <a:lnTo>
                    <a:pt x="658" y="223"/>
                  </a:lnTo>
                  <a:lnTo>
                    <a:pt x="658" y="213"/>
                  </a:lnTo>
                  <a:lnTo>
                    <a:pt x="658" y="208"/>
                  </a:lnTo>
                  <a:lnTo>
                    <a:pt x="663" y="203"/>
                  </a:lnTo>
                  <a:lnTo>
                    <a:pt x="663" y="198"/>
                  </a:lnTo>
                  <a:lnTo>
                    <a:pt x="668" y="193"/>
                  </a:lnTo>
                  <a:lnTo>
                    <a:pt x="673" y="188"/>
                  </a:lnTo>
                  <a:lnTo>
                    <a:pt x="683" y="183"/>
                  </a:lnTo>
                  <a:lnTo>
                    <a:pt x="688" y="178"/>
                  </a:lnTo>
                  <a:lnTo>
                    <a:pt x="692" y="173"/>
                  </a:lnTo>
                  <a:lnTo>
                    <a:pt x="697" y="173"/>
                  </a:lnTo>
                  <a:lnTo>
                    <a:pt x="707" y="168"/>
                  </a:lnTo>
                  <a:lnTo>
                    <a:pt x="712" y="163"/>
                  </a:lnTo>
                  <a:lnTo>
                    <a:pt x="717" y="159"/>
                  </a:lnTo>
                  <a:lnTo>
                    <a:pt x="727" y="154"/>
                  </a:lnTo>
                  <a:lnTo>
                    <a:pt x="737" y="149"/>
                  </a:lnTo>
                  <a:lnTo>
                    <a:pt x="742" y="154"/>
                  </a:lnTo>
                  <a:lnTo>
                    <a:pt x="747" y="154"/>
                  </a:lnTo>
                  <a:lnTo>
                    <a:pt x="752" y="163"/>
                  </a:lnTo>
                  <a:lnTo>
                    <a:pt x="757" y="168"/>
                  </a:lnTo>
                  <a:lnTo>
                    <a:pt x="762" y="168"/>
                  </a:lnTo>
                  <a:lnTo>
                    <a:pt x="772" y="173"/>
                  </a:lnTo>
                  <a:lnTo>
                    <a:pt x="777" y="178"/>
                  </a:lnTo>
                  <a:lnTo>
                    <a:pt x="781" y="183"/>
                  </a:lnTo>
                  <a:lnTo>
                    <a:pt x="786" y="188"/>
                  </a:lnTo>
                  <a:lnTo>
                    <a:pt x="791" y="193"/>
                  </a:lnTo>
                  <a:lnTo>
                    <a:pt x="796" y="198"/>
                  </a:lnTo>
                  <a:lnTo>
                    <a:pt x="801" y="203"/>
                  </a:lnTo>
                  <a:lnTo>
                    <a:pt x="806" y="208"/>
                  </a:lnTo>
                  <a:lnTo>
                    <a:pt x="811" y="213"/>
                  </a:lnTo>
                  <a:lnTo>
                    <a:pt x="816" y="218"/>
                  </a:lnTo>
                  <a:lnTo>
                    <a:pt x="816" y="228"/>
                  </a:lnTo>
                  <a:lnTo>
                    <a:pt x="821" y="233"/>
                  </a:lnTo>
                  <a:lnTo>
                    <a:pt x="826" y="233"/>
                  </a:lnTo>
                  <a:lnTo>
                    <a:pt x="831" y="233"/>
                  </a:lnTo>
                  <a:lnTo>
                    <a:pt x="836" y="228"/>
                  </a:lnTo>
                  <a:lnTo>
                    <a:pt x="846" y="223"/>
                  </a:lnTo>
                  <a:lnTo>
                    <a:pt x="851" y="218"/>
                  </a:lnTo>
                  <a:lnTo>
                    <a:pt x="861" y="213"/>
                  </a:lnTo>
                  <a:lnTo>
                    <a:pt x="866" y="208"/>
                  </a:lnTo>
                  <a:lnTo>
                    <a:pt x="871" y="203"/>
                  </a:lnTo>
                  <a:lnTo>
                    <a:pt x="875" y="198"/>
                  </a:lnTo>
                  <a:lnTo>
                    <a:pt x="885" y="198"/>
                  </a:lnTo>
                  <a:lnTo>
                    <a:pt x="890" y="193"/>
                  </a:lnTo>
                  <a:lnTo>
                    <a:pt x="900" y="193"/>
                  </a:lnTo>
                  <a:lnTo>
                    <a:pt x="905" y="188"/>
                  </a:lnTo>
                  <a:lnTo>
                    <a:pt x="910" y="183"/>
                  </a:lnTo>
                  <a:lnTo>
                    <a:pt x="915" y="178"/>
                  </a:lnTo>
                  <a:lnTo>
                    <a:pt x="915" y="168"/>
                  </a:lnTo>
                  <a:lnTo>
                    <a:pt x="910" y="163"/>
                  </a:lnTo>
                  <a:lnTo>
                    <a:pt x="905" y="159"/>
                  </a:lnTo>
                  <a:lnTo>
                    <a:pt x="895" y="159"/>
                  </a:lnTo>
                  <a:lnTo>
                    <a:pt x="885" y="154"/>
                  </a:lnTo>
                  <a:lnTo>
                    <a:pt x="880" y="154"/>
                  </a:lnTo>
                  <a:lnTo>
                    <a:pt x="875" y="149"/>
                  </a:lnTo>
                  <a:lnTo>
                    <a:pt x="871" y="144"/>
                  </a:lnTo>
                  <a:lnTo>
                    <a:pt x="871" y="139"/>
                  </a:lnTo>
                  <a:lnTo>
                    <a:pt x="871" y="134"/>
                  </a:lnTo>
                  <a:lnTo>
                    <a:pt x="866" y="124"/>
                  </a:lnTo>
                  <a:lnTo>
                    <a:pt x="861" y="119"/>
                  </a:lnTo>
                  <a:lnTo>
                    <a:pt x="856" y="114"/>
                  </a:lnTo>
                  <a:lnTo>
                    <a:pt x="856" y="109"/>
                  </a:lnTo>
                  <a:lnTo>
                    <a:pt x="856" y="104"/>
                  </a:lnTo>
                  <a:lnTo>
                    <a:pt x="861" y="99"/>
                  </a:lnTo>
                  <a:lnTo>
                    <a:pt x="866" y="94"/>
                  </a:lnTo>
                  <a:lnTo>
                    <a:pt x="875" y="94"/>
                  </a:lnTo>
                  <a:lnTo>
                    <a:pt x="885" y="89"/>
                  </a:lnTo>
                  <a:lnTo>
                    <a:pt x="890" y="84"/>
                  </a:lnTo>
                  <a:lnTo>
                    <a:pt x="895" y="79"/>
                  </a:lnTo>
                  <a:lnTo>
                    <a:pt x="895" y="74"/>
                  </a:lnTo>
                  <a:lnTo>
                    <a:pt x="895" y="70"/>
                  </a:lnTo>
                  <a:lnTo>
                    <a:pt x="895" y="65"/>
                  </a:lnTo>
                  <a:lnTo>
                    <a:pt x="890" y="55"/>
                  </a:lnTo>
                  <a:lnTo>
                    <a:pt x="885" y="50"/>
                  </a:lnTo>
                  <a:lnTo>
                    <a:pt x="880" y="45"/>
                  </a:lnTo>
                  <a:lnTo>
                    <a:pt x="875" y="40"/>
                  </a:lnTo>
                  <a:lnTo>
                    <a:pt x="871" y="35"/>
                  </a:lnTo>
                  <a:lnTo>
                    <a:pt x="866" y="30"/>
                  </a:lnTo>
                  <a:lnTo>
                    <a:pt x="856" y="30"/>
                  </a:lnTo>
                  <a:lnTo>
                    <a:pt x="851" y="25"/>
                  </a:lnTo>
                  <a:lnTo>
                    <a:pt x="846" y="20"/>
                  </a:lnTo>
                  <a:lnTo>
                    <a:pt x="841" y="15"/>
                  </a:lnTo>
                  <a:lnTo>
                    <a:pt x="836" y="10"/>
                  </a:lnTo>
                  <a:lnTo>
                    <a:pt x="831" y="5"/>
                  </a:lnTo>
                  <a:lnTo>
                    <a:pt x="826" y="0"/>
                  </a:lnTo>
                  <a:lnTo>
                    <a:pt x="826" y="0"/>
                  </a:lnTo>
                  <a:lnTo>
                    <a:pt x="796" y="0"/>
                  </a:lnTo>
                  <a:lnTo>
                    <a:pt x="772" y="0"/>
                  </a:lnTo>
                  <a:lnTo>
                    <a:pt x="742" y="0"/>
                  </a:lnTo>
                  <a:lnTo>
                    <a:pt x="717" y="0"/>
                  </a:lnTo>
                  <a:lnTo>
                    <a:pt x="692" y="0"/>
                  </a:lnTo>
                  <a:lnTo>
                    <a:pt x="663" y="0"/>
                  </a:lnTo>
                  <a:lnTo>
                    <a:pt x="638" y="0"/>
                  </a:lnTo>
                  <a:lnTo>
                    <a:pt x="613" y="0"/>
                  </a:lnTo>
                  <a:lnTo>
                    <a:pt x="584" y="25"/>
                  </a:lnTo>
                  <a:lnTo>
                    <a:pt x="559" y="55"/>
                  </a:lnTo>
                  <a:lnTo>
                    <a:pt x="529" y="79"/>
                  </a:lnTo>
                  <a:lnTo>
                    <a:pt x="505" y="104"/>
                  </a:lnTo>
                  <a:lnTo>
                    <a:pt x="490" y="119"/>
                  </a:lnTo>
                  <a:lnTo>
                    <a:pt x="490" y="124"/>
                  </a:lnTo>
                  <a:lnTo>
                    <a:pt x="485" y="129"/>
                  </a:lnTo>
                  <a:lnTo>
                    <a:pt x="480" y="139"/>
                  </a:lnTo>
                  <a:lnTo>
                    <a:pt x="480" y="144"/>
                  </a:lnTo>
                  <a:lnTo>
                    <a:pt x="475" y="149"/>
                  </a:lnTo>
                  <a:lnTo>
                    <a:pt x="470" y="154"/>
                  </a:lnTo>
                  <a:lnTo>
                    <a:pt x="470" y="159"/>
                  </a:lnTo>
                  <a:lnTo>
                    <a:pt x="465" y="168"/>
                  </a:lnTo>
                  <a:lnTo>
                    <a:pt x="460" y="173"/>
                  </a:lnTo>
                  <a:lnTo>
                    <a:pt x="455" y="178"/>
                  </a:lnTo>
                  <a:lnTo>
                    <a:pt x="450" y="183"/>
                  </a:lnTo>
                  <a:lnTo>
                    <a:pt x="445" y="188"/>
                  </a:lnTo>
                  <a:lnTo>
                    <a:pt x="440" y="193"/>
                  </a:lnTo>
                  <a:lnTo>
                    <a:pt x="435" y="198"/>
                  </a:lnTo>
                  <a:lnTo>
                    <a:pt x="430" y="203"/>
                  </a:lnTo>
                  <a:lnTo>
                    <a:pt x="430" y="213"/>
                  </a:lnTo>
                  <a:lnTo>
                    <a:pt x="430" y="218"/>
                  </a:lnTo>
                  <a:lnTo>
                    <a:pt x="435" y="223"/>
                  </a:lnTo>
                  <a:lnTo>
                    <a:pt x="440" y="233"/>
                  </a:lnTo>
                  <a:lnTo>
                    <a:pt x="445" y="233"/>
                  </a:lnTo>
                  <a:lnTo>
                    <a:pt x="455" y="238"/>
                  </a:lnTo>
                  <a:lnTo>
                    <a:pt x="460" y="233"/>
                  </a:lnTo>
                  <a:lnTo>
                    <a:pt x="465" y="228"/>
                  </a:lnTo>
                  <a:lnTo>
                    <a:pt x="470" y="223"/>
                  </a:lnTo>
                  <a:lnTo>
                    <a:pt x="475" y="213"/>
                  </a:lnTo>
                  <a:lnTo>
                    <a:pt x="475" y="208"/>
                  </a:lnTo>
                  <a:lnTo>
                    <a:pt x="480" y="208"/>
                  </a:lnTo>
                  <a:lnTo>
                    <a:pt x="485" y="213"/>
                  </a:lnTo>
                  <a:lnTo>
                    <a:pt x="480" y="223"/>
                  </a:lnTo>
                  <a:lnTo>
                    <a:pt x="475" y="228"/>
                  </a:lnTo>
                  <a:lnTo>
                    <a:pt x="465" y="228"/>
                  </a:lnTo>
                  <a:lnTo>
                    <a:pt x="460" y="238"/>
                  </a:lnTo>
                  <a:lnTo>
                    <a:pt x="460" y="243"/>
                  </a:lnTo>
                  <a:lnTo>
                    <a:pt x="455" y="247"/>
                  </a:lnTo>
                  <a:lnTo>
                    <a:pt x="455" y="252"/>
                  </a:lnTo>
                  <a:lnTo>
                    <a:pt x="455" y="262"/>
                  </a:lnTo>
                  <a:lnTo>
                    <a:pt x="455" y="267"/>
                  </a:lnTo>
                  <a:lnTo>
                    <a:pt x="450" y="272"/>
                  </a:lnTo>
                  <a:lnTo>
                    <a:pt x="445" y="277"/>
                  </a:lnTo>
                  <a:lnTo>
                    <a:pt x="445" y="282"/>
                  </a:lnTo>
                  <a:lnTo>
                    <a:pt x="440" y="292"/>
                  </a:lnTo>
                  <a:lnTo>
                    <a:pt x="440" y="297"/>
                  </a:lnTo>
                  <a:lnTo>
                    <a:pt x="435" y="302"/>
                  </a:lnTo>
                  <a:lnTo>
                    <a:pt x="435" y="307"/>
                  </a:lnTo>
                  <a:lnTo>
                    <a:pt x="430" y="312"/>
                  </a:lnTo>
                  <a:lnTo>
                    <a:pt x="425" y="322"/>
                  </a:lnTo>
                  <a:lnTo>
                    <a:pt x="420" y="327"/>
                  </a:lnTo>
                  <a:lnTo>
                    <a:pt x="420" y="331"/>
                  </a:lnTo>
                  <a:lnTo>
                    <a:pt x="420" y="336"/>
                  </a:lnTo>
                  <a:lnTo>
                    <a:pt x="416" y="346"/>
                  </a:lnTo>
                  <a:lnTo>
                    <a:pt x="416" y="351"/>
                  </a:lnTo>
                  <a:lnTo>
                    <a:pt x="411" y="356"/>
                  </a:lnTo>
                  <a:lnTo>
                    <a:pt x="406" y="361"/>
                  </a:lnTo>
                  <a:lnTo>
                    <a:pt x="401" y="366"/>
                  </a:lnTo>
                  <a:lnTo>
                    <a:pt x="401" y="376"/>
                  </a:lnTo>
                  <a:lnTo>
                    <a:pt x="401" y="381"/>
                  </a:lnTo>
                  <a:lnTo>
                    <a:pt x="406" y="391"/>
                  </a:lnTo>
                  <a:lnTo>
                    <a:pt x="411" y="396"/>
                  </a:lnTo>
                  <a:lnTo>
                    <a:pt x="420" y="401"/>
                  </a:lnTo>
                  <a:lnTo>
                    <a:pt x="425" y="396"/>
                  </a:lnTo>
                  <a:lnTo>
                    <a:pt x="435" y="391"/>
                  </a:lnTo>
                  <a:lnTo>
                    <a:pt x="440" y="386"/>
                  </a:lnTo>
                  <a:lnTo>
                    <a:pt x="445" y="381"/>
                  </a:lnTo>
                  <a:lnTo>
                    <a:pt x="450" y="376"/>
                  </a:lnTo>
                  <a:lnTo>
                    <a:pt x="455" y="376"/>
                  </a:lnTo>
                  <a:lnTo>
                    <a:pt x="455" y="386"/>
                  </a:lnTo>
                  <a:lnTo>
                    <a:pt x="455" y="391"/>
                  </a:lnTo>
                  <a:lnTo>
                    <a:pt x="455" y="401"/>
                  </a:lnTo>
                  <a:lnTo>
                    <a:pt x="455" y="406"/>
                  </a:lnTo>
                  <a:lnTo>
                    <a:pt x="450" y="416"/>
                  </a:lnTo>
                  <a:lnTo>
                    <a:pt x="450" y="420"/>
                  </a:lnTo>
                  <a:lnTo>
                    <a:pt x="445" y="425"/>
                  </a:lnTo>
                  <a:lnTo>
                    <a:pt x="440" y="430"/>
                  </a:lnTo>
                  <a:lnTo>
                    <a:pt x="440" y="435"/>
                  </a:lnTo>
                  <a:lnTo>
                    <a:pt x="435" y="440"/>
                  </a:lnTo>
                  <a:lnTo>
                    <a:pt x="435" y="450"/>
                  </a:lnTo>
                  <a:lnTo>
                    <a:pt x="430" y="455"/>
                  </a:lnTo>
                  <a:lnTo>
                    <a:pt x="430" y="465"/>
                  </a:lnTo>
                  <a:lnTo>
                    <a:pt x="425" y="470"/>
                  </a:lnTo>
                  <a:lnTo>
                    <a:pt x="420" y="470"/>
                  </a:lnTo>
                  <a:lnTo>
                    <a:pt x="416" y="465"/>
                  </a:lnTo>
                  <a:lnTo>
                    <a:pt x="406" y="460"/>
                  </a:lnTo>
                  <a:lnTo>
                    <a:pt x="401" y="455"/>
                  </a:lnTo>
                  <a:lnTo>
                    <a:pt x="396" y="445"/>
                  </a:lnTo>
                  <a:lnTo>
                    <a:pt x="396" y="440"/>
                  </a:lnTo>
                  <a:lnTo>
                    <a:pt x="401" y="435"/>
                  </a:lnTo>
                  <a:lnTo>
                    <a:pt x="406" y="430"/>
                  </a:lnTo>
                  <a:lnTo>
                    <a:pt x="411" y="420"/>
                  </a:lnTo>
                  <a:lnTo>
                    <a:pt x="416" y="416"/>
                  </a:lnTo>
                  <a:lnTo>
                    <a:pt x="420" y="411"/>
                  </a:lnTo>
                  <a:lnTo>
                    <a:pt x="420" y="406"/>
                  </a:lnTo>
                  <a:lnTo>
                    <a:pt x="420" y="401"/>
                  </a:lnTo>
                  <a:lnTo>
                    <a:pt x="420" y="391"/>
                  </a:lnTo>
                  <a:lnTo>
                    <a:pt x="416" y="386"/>
                  </a:lnTo>
                  <a:lnTo>
                    <a:pt x="406" y="381"/>
                  </a:lnTo>
                  <a:lnTo>
                    <a:pt x="401" y="376"/>
                  </a:lnTo>
                  <a:lnTo>
                    <a:pt x="396" y="376"/>
                  </a:lnTo>
                  <a:lnTo>
                    <a:pt x="391" y="381"/>
                  </a:lnTo>
                  <a:lnTo>
                    <a:pt x="391" y="391"/>
                  </a:lnTo>
                  <a:lnTo>
                    <a:pt x="391" y="396"/>
                  </a:lnTo>
                  <a:lnTo>
                    <a:pt x="386" y="406"/>
                  </a:lnTo>
                  <a:lnTo>
                    <a:pt x="386" y="411"/>
                  </a:lnTo>
                  <a:lnTo>
                    <a:pt x="386" y="420"/>
                  </a:lnTo>
                  <a:lnTo>
                    <a:pt x="381" y="425"/>
                  </a:lnTo>
                  <a:lnTo>
                    <a:pt x="376" y="425"/>
                  </a:lnTo>
                  <a:lnTo>
                    <a:pt x="366" y="430"/>
                  </a:lnTo>
                  <a:lnTo>
                    <a:pt x="361" y="435"/>
                  </a:lnTo>
                  <a:lnTo>
                    <a:pt x="361" y="445"/>
                  </a:lnTo>
                  <a:lnTo>
                    <a:pt x="361" y="450"/>
                  </a:lnTo>
                  <a:lnTo>
                    <a:pt x="356" y="455"/>
                  </a:lnTo>
                  <a:lnTo>
                    <a:pt x="351" y="460"/>
                  </a:lnTo>
                  <a:lnTo>
                    <a:pt x="346" y="465"/>
                  </a:lnTo>
                  <a:lnTo>
                    <a:pt x="341" y="470"/>
                  </a:lnTo>
                  <a:lnTo>
                    <a:pt x="336" y="475"/>
                  </a:lnTo>
                  <a:lnTo>
                    <a:pt x="327" y="480"/>
                  </a:lnTo>
                  <a:lnTo>
                    <a:pt x="322" y="485"/>
                  </a:lnTo>
                  <a:lnTo>
                    <a:pt x="317" y="490"/>
                  </a:lnTo>
                  <a:lnTo>
                    <a:pt x="307" y="500"/>
                  </a:lnTo>
                  <a:lnTo>
                    <a:pt x="302" y="504"/>
                  </a:lnTo>
                  <a:lnTo>
                    <a:pt x="297" y="504"/>
                  </a:lnTo>
                  <a:lnTo>
                    <a:pt x="287" y="504"/>
                  </a:lnTo>
                  <a:lnTo>
                    <a:pt x="282" y="500"/>
                  </a:lnTo>
                  <a:lnTo>
                    <a:pt x="277" y="495"/>
                  </a:lnTo>
                  <a:lnTo>
                    <a:pt x="272" y="490"/>
                  </a:lnTo>
                  <a:lnTo>
                    <a:pt x="262" y="485"/>
                  </a:lnTo>
                  <a:lnTo>
                    <a:pt x="257" y="485"/>
                  </a:lnTo>
                  <a:lnTo>
                    <a:pt x="247" y="490"/>
                  </a:lnTo>
                  <a:lnTo>
                    <a:pt x="237" y="495"/>
                  </a:lnTo>
                  <a:lnTo>
                    <a:pt x="233" y="500"/>
                  </a:lnTo>
                  <a:lnTo>
                    <a:pt x="228" y="504"/>
                  </a:lnTo>
                  <a:lnTo>
                    <a:pt x="228" y="509"/>
                  </a:lnTo>
                  <a:lnTo>
                    <a:pt x="218" y="514"/>
                  </a:lnTo>
                  <a:lnTo>
                    <a:pt x="213" y="519"/>
                  </a:lnTo>
                  <a:lnTo>
                    <a:pt x="203" y="524"/>
                  </a:lnTo>
                  <a:lnTo>
                    <a:pt x="193" y="524"/>
                  </a:lnTo>
                  <a:lnTo>
                    <a:pt x="188" y="529"/>
                  </a:lnTo>
                  <a:lnTo>
                    <a:pt x="183" y="534"/>
                  </a:lnTo>
                  <a:lnTo>
                    <a:pt x="178" y="539"/>
                  </a:lnTo>
                  <a:lnTo>
                    <a:pt x="173" y="549"/>
                  </a:lnTo>
                  <a:lnTo>
                    <a:pt x="168" y="549"/>
                  </a:lnTo>
                  <a:lnTo>
                    <a:pt x="158" y="554"/>
                  </a:lnTo>
                  <a:lnTo>
                    <a:pt x="148" y="549"/>
                  </a:lnTo>
                  <a:lnTo>
                    <a:pt x="139" y="549"/>
                  </a:lnTo>
                  <a:lnTo>
                    <a:pt x="134" y="544"/>
                  </a:lnTo>
                  <a:lnTo>
                    <a:pt x="129" y="534"/>
                  </a:lnTo>
                  <a:lnTo>
                    <a:pt x="124" y="529"/>
                  </a:lnTo>
                  <a:lnTo>
                    <a:pt x="114" y="529"/>
                  </a:lnTo>
                  <a:lnTo>
                    <a:pt x="104" y="524"/>
                  </a:lnTo>
                  <a:lnTo>
                    <a:pt x="94" y="524"/>
                  </a:lnTo>
                  <a:lnTo>
                    <a:pt x="84" y="524"/>
                  </a:lnTo>
                  <a:lnTo>
                    <a:pt x="79" y="524"/>
                  </a:lnTo>
                  <a:lnTo>
                    <a:pt x="69" y="519"/>
                  </a:lnTo>
                  <a:lnTo>
                    <a:pt x="64" y="514"/>
                  </a:lnTo>
                  <a:lnTo>
                    <a:pt x="59" y="509"/>
                  </a:lnTo>
                  <a:lnTo>
                    <a:pt x="55" y="504"/>
                  </a:lnTo>
                  <a:lnTo>
                    <a:pt x="55" y="504"/>
                  </a:lnTo>
                  <a:lnTo>
                    <a:pt x="45" y="504"/>
                  </a:lnTo>
                  <a:lnTo>
                    <a:pt x="40" y="509"/>
                  </a:lnTo>
                  <a:lnTo>
                    <a:pt x="35" y="514"/>
                  </a:lnTo>
                  <a:lnTo>
                    <a:pt x="30" y="519"/>
                  </a:lnTo>
                  <a:lnTo>
                    <a:pt x="25" y="519"/>
                  </a:lnTo>
                  <a:lnTo>
                    <a:pt x="20" y="524"/>
                  </a:lnTo>
                  <a:lnTo>
                    <a:pt x="20" y="529"/>
                  </a:lnTo>
                  <a:lnTo>
                    <a:pt x="15" y="534"/>
                  </a:lnTo>
                  <a:lnTo>
                    <a:pt x="15" y="539"/>
                  </a:lnTo>
                  <a:lnTo>
                    <a:pt x="20" y="544"/>
                  </a:lnTo>
                  <a:lnTo>
                    <a:pt x="25" y="549"/>
                  </a:lnTo>
                  <a:lnTo>
                    <a:pt x="30" y="554"/>
                  </a:lnTo>
                  <a:lnTo>
                    <a:pt x="35" y="554"/>
                  </a:lnTo>
                  <a:lnTo>
                    <a:pt x="45" y="559"/>
                  </a:lnTo>
                  <a:lnTo>
                    <a:pt x="50" y="559"/>
                  </a:lnTo>
                  <a:lnTo>
                    <a:pt x="55" y="564"/>
                  </a:lnTo>
                  <a:lnTo>
                    <a:pt x="59" y="564"/>
                  </a:lnTo>
                  <a:lnTo>
                    <a:pt x="69" y="564"/>
                  </a:lnTo>
                  <a:lnTo>
                    <a:pt x="74" y="569"/>
                  </a:lnTo>
                  <a:lnTo>
                    <a:pt x="84" y="569"/>
                  </a:lnTo>
                  <a:lnTo>
                    <a:pt x="89" y="569"/>
                  </a:lnTo>
                  <a:lnTo>
                    <a:pt x="99" y="569"/>
                  </a:lnTo>
                  <a:lnTo>
                    <a:pt x="104" y="569"/>
                  </a:lnTo>
                  <a:lnTo>
                    <a:pt x="114" y="574"/>
                  </a:lnTo>
                  <a:lnTo>
                    <a:pt x="119" y="574"/>
                  </a:lnTo>
                  <a:lnTo>
                    <a:pt x="129" y="574"/>
                  </a:lnTo>
                  <a:lnTo>
                    <a:pt x="134" y="579"/>
                  </a:lnTo>
                  <a:lnTo>
                    <a:pt x="139" y="584"/>
                  </a:lnTo>
                  <a:lnTo>
                    <a:pt x="139" y="589"/>
                  </a:lnTo>
                  <a:lnTo>
                    <a:pt x="148" y="589"/>
                  </a:lnTo>
                  <a:lnTo>
                    <a:pt x="153" y="593"/>
                  </a:lnTo>
                  <a:lnTo>
                    <a:pt x="163" y="593"/>
                  </a:lnTo>
                  <a:lnTo>
                    <a:pt x="168" y="593"/>
                  </a:lnTo>
                  <a:lnTo>
                    <a:pt x="178" y="593"/>
                  </a:lnTo>
                  <a:lnTo>
                    <a:pt x="183" y="593"/>
                  </a:lnTo>
                  <a:lnTo>
                    <a:pt x="193" y="593"/>
                  </a:lnTo>
                  <a:lnTo>
                    <a:pt x="198" y="593"/>
                  </a:lnTo>
                  <a:lnTo>
                    <a:pt x="208" y="593"/>
                  </a:lnTo>
                  <a:lnTo>
                    <a:pt x="213" y="593"/>
                  </a:lnTo>
                  <a:lnTo>
                    <a:pt x="223" y="593"/>
                  </a:lnTo>
                  <a:lnTo>
                    <a:pt x="228" y="593"/>
                  </a:lnTo>
                  <a:lnTo>
                    <a:pt x="237" y="593"/>
                  </a:lnTo>
                  <a:lnTo>
                    <a:pt x="242" y="593"/>
                  </a:lnTo>
                  <a:lnTo>
                    <a:pt x="247" y="593"/>
                  </a:lnTo>
                  <a:lnTo>
                    <a:pt x="252" y="598"/>
                  </a:lnTo>
                  <a:lnTo>
                    <a:pt x="257" y="603"/>
                  </a:lnTo>
                  <a:lnTo>
                    <a:pt x="262" y="608"/>
                  </a:lnTo>
                  <a:lnTo>
                    <a:pt x="262" y="613"/>
                  </a:lnTo>
                  <a:lnTo>
                    <a:pt x="262" y="618"/>
                  </a:lnTo>
                  <a:lnTo>
                    <a:pt x="262" y="623"/>
                  </a:lnTo>
                  <a:lnTo>
                    <a:pt x="262" y="628"/>
                  </a:lnTo>
                  <a:lnTo>
                    <a:pt x="262" y="633"/>
                  </a:lnTo>
                  <a:lnTo>
                    <a:pt x="267" y="638"/>
                  </a:lnTo>
                  <a:lnTo>
                    <a:pt x="272" y="638"/>
                  </a:lnTo>
                  <a:lnTo>
                    <a:pt x="282" y="643"/>
                  </a:lnTo>
                  <a:lnTo>
                    <a:pt x="287" y="643"/>
                  </a:lnTo>
                  <a:lnTo>
                    <a:pt x="297" y="643"/>
                  </a:lnTo>
                  <a:close/>
                  <a:moveTo>
                    <a:pt x="425" y="643"/>
                  </a:moveTo>
                  <a:lnTo>
                    <a:pt x="425" y="638"/>
                  </a:lnTo>
                  <a:lnTo>
                    <a:pt x="425" y="638"/>
                  </a:lnTo>
                  <a:lnTo>
                    <a:pt x="425" y="638"/>
                  </a:lnTo>
                  <a:lnTo>
                    <a:pt x="425" y="638"/>
                  </a:lnTo>
                  <a:lnTo>
                    <a:pt x="425" y="638"/>
                  </a:lnTo>
                  <a:lnTo>
                    <a:pt x="425" y="638"/>
                  </a:lnTo>
                  <a:lnTo>
                    <a:pt x="425" y="638"/>
                  </a:lnTo>
                  <a:lnTo>
                    <a:pt x="425" y="638"/>
                  </a:lnTo>
                  <a:lnTo>
                    <a:pt x="420" y="638"/>
                  </a:lnTo>
                  <a:lnTo>
                    <a:pt x="420" y="638"/>
                  </a:lnTo>
                  <a:lnTo>
                    <a:pt x="420" y="638"/>
                  </a:lnTo>
                  <a:lnTo>
                    <a:pt x="425" y="643"/>
                  </a:lnTo>
                  <a:lnTo>
                    <a:pt x="425" y="643"/>
                  </a:lnTo>
                  <a:lnTo>
                    <a:pt x="425" y="643"/>
                  </a:lnTo>
                  <a:close/>
                  <a:moveTo>
                    <a:pt x="1865" y="613"/>
                  </a:moveTo>
                  <a:lnTo>
                    <a:pt x="1870" y="608"/>
                  </a:lnTo>
                  <a:lnTo>
                    <a:pt x="1874" y="603"/>
                  </a:lnTo>
                  <a:lnTo>
                    <a:pt x="1874" y="598"/>
                  </a:lnTo>
                  <a:lnTo>
                    <a:pt x="1874" y="593"/>
                  </a:lnTo>
                  <a:lnTo>
                    <a:pt x="1874" y="589"/>
                  </a:lnTo>
                  <a:lnTo>
                    <a:pt x="1870" y="584"/>
                  </a:lnTo>
                  <a:lnTo>
                    <a:pt x="1870" y="574"/>
                  </a:lnTo>
                  <a:lnTo>
                    <a:pt x="1865" y="569"/>
                  </a:lnTo>
                  <a:lnTo>
                    <a:pt x="1860" y="574"/>
                  </a:lnTo>
                  <a:lnTo>
                    <a:pt x="1860" y="574"/>
                  </a:lnTo>
                  <a:lnTo>
                    <a:pt x="1860" y="584"/>
                  </a:lnTo>
                  <a:lnTo>
                    <a:pt x="1860" y="589"/>
                  </a:lnTo>
                  <a:lnTo>
                    <a:pt x="1860" y="593"/>
                  </a:lnTo>
                  <a:lnTo>
                    <a:pt x="1860" y="598"/>
                  </a:lnTo>
                  <a:lnTo>
                    <a:pt x="1860" y="603"/>
                  </a:lnTo>
                  <a:lnTo>
                    <a:pt x="1860" y="608"/>
                  </a:lnTo>
                  <a:lnTo>
                    <a:pt x="1860" y="618"/>
                  </a:lnTo>
                  <a:lnTo>
                    <a:pt x="1860" y="623"/>
                  </a:lnTo>
                  <a:lnTo>
                    <a:pt x="1865" y="623"/>
                  </a:lnTo>
                  <a:lnTo>
                    <a:pt x="1865" y="613"/>
                  </a:lnTo>
                  <a:close/>
                  <a:moveTo>
                    <a:pt x="15" y="559"/>
                  </a:moveTo>
                  <a:lnTo>
                    <a:pt x="0" y="554"/>
                  </a:lnTo>
                  <a:lnTo>
                    <a:pt x="0" y="559"/>
                  </a:lnTo>
                  <a:lnTo>
                    <a:pt x="0" y="579"/>
                  </a:lnTo>
                  <a:lnTo>
                    <a:pt x="15" y="559"/>
                  </a:lnTo>
                  <a:close/>
                  <a:moveTo>
                    <a:pt x="1088" y="534"/>
                  </a:moveTo>
                  <a:lnTo>
                    <a:pt x="1088" y="534"/>
                  </a:lnTo>
                  <a:lnTo>
                    <a:pt x="1088" y="534"/>
                  </a:lnTo>
                  <a:lnTo>
                    <a:pt x="1088" y="534"/>
                  </a:lnTo>
                  <a:lnTo>
                    <a:pt x="1088" y="534"/>
                  </a:lnTo>
                  <a:lnTo>
                    <a:pt x="1088" y="534"/>
                  </a:lnTo>
                  <a:lnTo>
                    <a:pt x="1088" y="534"/>
                  </a:lnTo>
                  <a:lnTo>
                    <a:pt x="1088" y="534"/>
                  </a:lnTo>
                  <a:lnTo>
                    <a:pt x="1088" y="534"/>
                  </a:lnTo>
                  <a:lnTo>
                    <a:pt x="1088" y="534"/>
                  </a:lnTo>
                  <a:lnTo>
                    <a:pt x="1088" y="534"/>
                  </a:lnTo>
                  <a:lnTo>
                    <a:pt x="1088" y="534"/>
                  </a:lnTo>
                  <a:lnTo>
                    <a:pt x="1088" y="534"/>
                  </a:lnTo>
                  <a:lnTo>
                    <a:pt x="1088" y="534"/>
                  </a:lnTo>
                  <a:lnTo>
                    <a:pt x="1088" y="534"/>
                  </a:lnTo>
                  <a:close/>
                  <a:moveTo>
                    <a:pt x="1899" y="534"/>
                  </a:moveTo>
                  <a:lnTo>
                    <a:pt x="1904" y="524"/>
                  </a:lnTo>
                  <a:lnTo>
                    <a:pt x="1909" y="519"/>
                  </a:lnTo>
                  <a:lnTo>
                    <a:pt x="1914" y="514"/>
                  </a:lnTo>
                  <a:lnTo>
                    <a:pt x="1909" y="504"/>
                  </a:lnTo>
                  <a:lnTo>
                    <a:pt x="1904" y="500"/>
                  </a:lnTo>
                  <a:lnTo>
                    <a:pt x="1894" y="490"/>
                  </a:lnTo>
                  <a:lnTo>
                    <a:pt x="1889" y="490"/>
                  </a:lnTo>
                  <a:lnTo>
                    <a:pt x="1884" y="500"/>
                  </a:lnTo>
                  <a:lnTo>
                    <a:pt x="1879" y="504"/>
                  </a:lnTo>
                  <a:lnTo>
                    <a:pt x="1879" y="514"/>
                  </a:lnTo>
                  <a:lnTo>
                    <a:pt x="1879" y="519"/>
                  </a:lnTo>
                  <a:lnTo>
                    <a:pt x="1884" y="529"/>
                  </a:lnTo>
                  <a:lnTo>
                    <a:pt x="1884" y="534"/>
                  </a:lnTo>
                  <a:lnTo>
                    <a:pt x="1884" y="544"/>
                  </a:lnTo>
                  <a:lnTo>
                    <a:pt x="1884" y="554"/>
                  </a:lnTo>
                  <a:lnTo>
                    <a:pt x="1889" y="559"/>
                  </a:lnTo>
                  <a:lnTo>
                    <a:pt x="1889" y="559"/>
                  </a:lnTo>
                  <a:lnTo>
                    <a:pt x="1894" y="554"/>
                  </a:lnTo>
                  <a:lnTo>
                    <a:pt x="1894" y="544"/>
                  </a:lnTo>
                  <a:lnTo>
                    <a:pt x="1899" y="534"/>
                  </a:lnTo>
                  <a:close/>
                  <a:moveTo>
                    <a:pt x="1924" y="480"/>
                  </a:moveTo>
                  <a:lnTo>
                    <a:pt x="1924" y="475"/>
                  </a:lnTo>
                  <a:lnTo>
                    <a:pt x="1924" y="470"/>
                  </a:lnTo>
                  <a:lnTo>
                    <a:pt x="1924" y="465"/>
                  </a:lnTo>
                  <a:lnTo>
                    <a:pt x="1924" y="460"/>
                  </a:lnTo>
                  <a:lnTo>
                    <a:pt x="1924" y="455"/>
                  </a:lnTo>
                  <a:lnTo>
                    <a:pt x="1919" y="450"/>
                  </a:lnTo>
                  <a:lnTo>
                    <a:pt x="1914" y="450"/>
                  </a:lnTo>
                  <a:lnTo>
                    <a:pt x="1909" y="455"/>
                  </a:lnTo>
                  <a:lnTo>
                    <a:pt x="1904" y="460"/>
                  </a:lnTo>
                  <a:lnTo>
                    <a:pt x="1904" y="465"/>
                  </a:lnTo>
                  <a:lnTo>
                    <a:pt x="1904" y="470"/>
                  </a:lnTo>
                  <a:lnTo>
                    <a:pt x="1904" y="475"/>
                  </a:lnTo>
                  <a:lnTo>
                    <a:pt x="1904" y="480"/>
                  </a:lnTo>
                  <a:lnTo>
                    <a:pt x="1909" y="485"/>
                  </a:lnTo>
                  <a:lnTo>
                    <a:pt x="1909" y="490"/>
                  </a:lnTo>
                  <a:lnTo>
                    <a:pt x="1914" y="495"/>
                  </a:lnTo>
                  <a:lnTo>
                    <a:pt x="1914" y="495"/>
                  </a:lnTo>
                  <a:lnTo>
                    <a:pt x="1919" y="495"/>
                  </a:lnTo>
                  <a:lnTo>
                    <a:pt x="1919" y="490"/>
                  </a:lnTo>
                  <a:lnTo>
                    <a:pt x="1924" y="480"/>
                  </a:lnTo>
                  <a:close/>
                  <a:moveTo>
                    <a:pt x="307" y="425"/>
                  </a:moveTo>
                  <a:lnTo>
                    <a:pt x="302" y="416"/>
                  </a:lnTo>
                  <a:lnTo>
                    <a:pt x="302" y="411"/>
                  </a:lnTo>
                  <a:lnTo>
                    <a:pt x="297" y="406"/>
                  </a:lnTo>
                  <a:lnTo>
                    <a:pt x="292" y="406"/>
                  </a:lnTo>
                  <a:lnTo>
                    <a:pt x="282" y="406"/>
                  </a:lnTo>
                  <a:lnTo>
                    <a:pt x="277" y="411"/>
                  </a:lnTo>
                  <a:lnTo>
                    <a:pt x="272" y="420"/>
                  </a:lnTo>
                  <a:lnTo>
                    <a:pt x="272" y="430"/>
                  </a:lnTo>
                  <a:lnTo>
                    <a:pt x="277" y="435"/>
                  </a:lnTo>
                  <a:lnTo>
                    <a:pt x="287" y="440"/>
                  </a:lnTo>
                  <a:lnTo>
                    <a:pt x="292" y="445"/>
                  </a:lnTo>
                  <a:lnTo>
                    <a:pt x="297" y="445"/>
                  </a:lnTo>
                  <a:lnTo>
                    <a:pt x="302" y="435"/>
                  </a:lnTo>
                  <a:lnTo>
                    <a:pt x="307" y="425"/>
                  </a:lnTo>
                  <a:close/>
                  <a:moveTo>
                    <a:pt x="331" y="401"/>
                  </a:moveTo>
                  <a:lnTo>
                    <a:pt x="331" y="396"/>
                  </a:lnTo>
                  <a:lnTo>
                    <a:pt x="336" y="391"/>
                  </a:lnTo>
                  <a:lnTo>
                    <a:pt x="341" y="386"/>
                  </a:lnTo>
                  <a:lnTo>
                    <a:pt x="341" y="381"/>
                  </a:lnTo>
                  <a:lnTo>
                    <a:pt x="346" y="371"/>
                  </a:lnTo>
                  <a:lnTo>
                    <a:pt x="351" y="366"/>
                  </a:lnTo>
                  <a:lnTo>
                    <a:pt x="361" y="361"/>
                  </a:lnTo>
                  <a:lnTo>
                    <a:pt x="366" y="356"/>
                  </a:lnTo>
                  <a:lnTo>
                    <a:pt x="366" y="351"/>
                  </a:lnTo>
                  <a:lnTo>
                    <a:pt x="366" y="346"/>
                  </a:lnTo>
                  <a:lnTo>
                    <a:pt x="361" y="341"/>
                  </a:lnTo>
                  <a:lnTo>
                    <a:pt x="351" y="336"/>
                  </a:lnTo>
                  <a:lnTo>
                    <a:pt x="346" y="331"/>
                  </a:lnTo>
                  <a:lnTo>
                    <a:pt x="341" y="336"/>
                  </a:lnTo>
                  <a:lnTo>
                    <a:pt x="336" y="341"/>
                  </a:lnTo>
                  <a:lnTo>
                    <a:pt x="331" y="346"/>
                  </a:lnTo>
                  <a:lnTo>
                    <a:pt x="327" y="356"/>
                  </a:lnTo>
                  <a:lnTo>
                    <a:pt x="327" y="361"/>
                  </a:lnTo>
                  <a:lnTo>
                    <a:pt x="322" y="366"/>
                  </a:lnTo>
                  <a:lnTo>
                    <a:pt x="317" y="371"/>
                  </a:lnTo>
                  <a:lnTo>
                    <a:pt x="312" y="376"/>
                  </a:lnTo>
                  <a:lnTo>
                    <a:pt x="307" y="381"/>
                  </a:lnTo>
                  <a:lnTo>
                    <a:pt x="302" y="386"/>
                  </a:lnTo>
                  <a:lnTo>
                    <a:pt x="297" y="391"/>
                  </a:lnTo>
                  <a:lnTo>
                    <a:pt x="297" y="396"/>
                  </a:lnTo>
                  <a:lnTo>
                    <a:pt x="297" y="401"/>
                  </a:lnTo>
                  <a:lnTo>
                    <a:pt x="302" y="406"/>
                  </a:lnTo>
                  <a:lnTo>
                    <a:pt x="312" y="411"/>
                  </a:lnTo>
                  <a:lnTo>
                    <a:pt x="317" y="416"/>
                  </a:lnTo>
                  <a:lnTo>
                    <a:pt x="322" y="416"/>
                  </a:lnTo>
                  <a:lnTo>
                    <a:pt x="327" y="411"/>
                  </a:lnTo>
                  <a:lnTo>
                    <a:pt x="331" y="401"/>
                  </a:lnTo>
                  <a:close/>
                  <a:moveTo>
                    <a:pt x="2428" y="371"/>
                  </a:moveTo>
                  <a:lnTo>
                    <a:pt x="2423" y="366"/>
                  </a:lnTo>
                  <a:lnTo>
                    <a:pt x="2423" y="361"/>
                  </a:lnTo>
                  <a:lnTo>
                    <a:pt x="2423" y="356"/>
                  </a:lnTo>
                  <a:lnTo>
                    <a:pt x="2423" y="351"/>
                  </a:lnTo>
                  <a:lnTo>
                    <a:pt x="2418" y="351"/>
                  </a:lnTo>
                  <a:lnTo>
                    <a:pt x="2418" y="351"/>
                  </a:lnTo>
                  <a:lnTo>
                    <a:pt x="2418" y="356"/>
                  </a:lnTo>
                  <a:lnTo>
                    <a:pt x="2418" y="361"/>
                  </a:lnTo>
                  <a:lnTo>
                    <a:pt x="2418" y="366"/>
                  </a:lnTo>
                  <a:lnTo>
                    <a:pt x="2418" y="376"/>
                  </a:lnTo>
                  <a:lnTo>
                    <a:pt x="2418" y="381"/>
                  </a:lnTo>
                  <a:lnTo>
                    <a:pt x="2418" y="381"/>
                  </a:lnTo>
                  <a:lnTo>
                    <a:pt x="2423" y="381"/>
                  </a:lnTo>
                  <a:lnTo>
                    <a:pt x="2428" y="371"/>
                  </a:lnTo>
                  <a:close/>
                  <a:moveTo>
                    <a:pt x="386" y="322"/>
                  </a:moveTo>
                  <a:lnTo>
                    <a:pt x="386" y="307"/>
                  </a:lnTo>
                  <a:lnTo>
                    <a:pt x="381" y="297"/>
                  </a:lnTo>
                  <a:lnTo>
                    <a:pt x="376" y="292"/>
                  </a:lnTo>
                  <a:lnTo>
                    <a:pt x="371" y="292"/>
                  </a:lnTo>
                  <a:lnTo>
                    <a:pt x="366" y="297"/>
                  </a:lnTo>
                  <a:lnTo>
                    <a:pt x="356" y="307"/>
                  </a:lnTo>
                  <a:lnTo>
                    <a:pt x="356" y="317"/>
                  </a:lnTo>
                  <a:lnTo>
                    <a:pt x="356" y="327"/>
                  </a:lnTo>
                  <a:lnTo>
                    <a:pt x="361" y="336"/>
                  </a:lnTo>
                  <a:lnTo>
                    <a:pt x="366" y="341"/>
                  </a:lnTo>
                  <a:lnTo>
                    <a:pt x="371" y="341"/>
                  </a:lnTo>
                  <a:lnTo>
                    <a:pt x="381" y="341"/>
                  </a:lnTo>
                  <a:lnTo>
                    <a:pt x="381" y="331"/>
                  </a:lnTo>
                  <a:lnTo>
                    <a:pt x="386" y="322"/>
                  </a:lnTo>
                  <a:close/>
                  <a:moveTo>
                    <a:pt x="411" y="292"/>
                  </a:moveTo>
                  <a:lnTo>
                    <a:pt x="411" y="287"/>
                  </a:lnTo>
                  <a:lnTo>
                    <a:pt x="416" y="282"/>
                  </a:lnTo>
                  <a:lnTo>
                    <a:pt x="420" y="277"/>
                  </a:lnTo>
                  <a:lnTo>
                    <a:pt x="430" y="272"/>
                  </a:lnTo>
                  <a:lnTo>
                    <a:pt x="440" y="267"/>
                  </a:lnTo>
                  <a:lnTo>
                    <a:pt x="450" y="267"/>
                  </a:lnTo>
                  <a:lnTo>
                    <a:pt x="455" y="262"/>
                  </a:lnTo>
                  <a:lnTo>
                    <a:pt x="455" y="257"/>
                  </a:lnTo>
                  <a:lnTo>
                    <a:pt x="450" y="247"/>
                  </a:lnTo>
                  <a:lnTo>
                    <a:pt x="445" y="238"/>
                  </a:lnTo>
                  <a:lnTo>
                    <a:pt x="440" y="233"/>
                  </a:lnTo>
                  <a:lnTo>
                    <a:pt x="435" y="223"/>
                  </a:lnTo>
                  <a:lnTo>
                    <a:pt x="430" y="218"/>
                  </a:lnTo>
                  <a:lnTo>
                    <a:pt x="425" y="218"/>
                  </a:lnTo>
                  <a:lnTo>
                    <a:pt x="420" y="223"/>
                  </a:lnTo>
                  <a:lnTo>
                    <a:pt x="416" y="228"/>
                  </a:lnTo>
                  <a:lnTo>
                    <a:pt x="411" y="238"/>
                  </a:lnTo>
                  <a:lnTo>
                    <a:pt x="406" y="243"/>
                  </a:lnTo>
                  <a:lnTo>
                    <a:pt x="406" y="247"/>
                  </a:lnTo>
                  <a:lnTo>
                    <a:pt x="401" y="252"/>
                  </a:lnTo>
                  <a:lnTo>
                    <a:pt x="396" y="262"/>
                  </a:lnTo>
                  <a:lnTo>
                    <a:pt x="391" y="267"/>
                  </a:lnTo>
                  <a:lnTo>
                    <a:pt x="386" y="272"/>
                  </a:lnTo>
                  <a:lnTo>
                    <a:pt x="381" y="277"/>
                  </a:lnTo>
                  <a:lnTo>
                    <a:pt x="371" y="282"/>
                  </a:lnTo>
                  <a:lnTo>
                    <a:pt x="371" y="292"/>
                  </a:lnTo>
                  <a:lnTo>
                    <a:pt x="376" y="297"/>
                  </a:lnTo>
                  <a:lnTo>
                    <a:pt x="381" y="302"/>
                  </a:lnTo>
                  <a:lnTo>
                    <a:pt x="391" y="307"/>
                  </a:lnTo>
                  <a:lnTo>
                    <a:pt x="401" y="307"/>
                  </a:lnTo>
                  <a:lnTo>
                    <a:pt x="406" y="302"/>
                  </a:lnTo>
                  <a:lnTo>
                    <a:pt x="411" y="292"/>
                  </a:lnTo>
                  <a:close/>
                  <a:moveTo>
                    <a:pt x="322" y="267"/>
                  </a:moveTo>
                  <a:lnTo>
                    <a:pt x="317" y="267"/>
                  </a:lnTo>
                  <a:lnTo>
                    <a:pt x="307" y="282"/>
                  </a:lnTo>
                  <a:lnTo>
                    <a:pt x="307" y="277"/>
                  </a:lnTo>
                  <a:lnTo>
                    <a:pt x="312" y="277"/>
                  </a:lnTo>
                  <a:lnTo>
                    <a:pt x="312" y="277"/>
                  </a:lnTo>
                  <a:lnTo>
                    <a:pt x="317" y="272"/>
                  </a:lnTo>
                  <a:lnTo>
                    <a:pt x="317" y="272"/>
                  </a:lnTo>
                  <a:lnTo>
                    <a:pt x="317" y="272"/>
                  </a:lnTo>
                  <a:lnTo>
                    <a:pt x="322" y="267"/>
                  </a:lnTo>
                  <a:lnTo>
                    <a:pt x="322" y="267"/>
                  </a:lnTo>
                  <a:close/>
                  <a:moveTo>
                    <a:pt x="346" y="238"/>
                  </a:moveTo>
                  <a:lnTo>
                    <a:pt x="346" y="238"/>
                  </a:lnTo>
                  <a:lnTo>
                    <a:pt x="346" y="243"/>
                  </a:lnTo>
                  <a:lnTo>
                    <a:pt x="346" y="238"/>
                  </a:lnTo>
                  <a:close/>
                  <a:moveTo>
                    <a:pt x="371" y="213"/>
                  </a:moveTo>
                  <a:lnTo>
                    <a:pt x="381" y="203"/>
                  </a:lnTo>
                  <a:lnTo>
                    <a:pt x="371" y="213"/>
                  </a:lnTo>
                  <a:lnTo>
                    <a:pt x="371" y="213"/>
                  </a:lnTo>
                  <a:lnTo>
                    <a:pt x="371" y="213"/>
                  </a:lnTo>
                  <a:close/>
                  <a:moveTo>
                    <a:pt x="430" y="159"/>
                  </a:moveTo>
                  <a:lnTo>
                    <a:pt x="425" y="159"/>
                  </a:lnTo>
                  <a:lnTo>
                    <a:pt x="411" y="173"/>
                  </a:lnTo>
                  <a:lnTo>
                    <a:pt x="416" y="168"/>
                  </a:lnTo>
                  <a:lnTo>
                    <a:pt x="416" y="168"/>
                  </a:lnTo>
                  <a:lnTo>
                    <a:pt x="420" y="168"/>
                  </a:lnTo>
                  <a:lnTo>
                    <a:pt x="420" y="163"/>
                  </a:lnTo>
                  <a:lnTo>
                    <a:pt x="420" y="163"/>
                  </a:lnTo>
                  <a:lnTo>
                    <a:pt x="425" y="163"/>
                  </a:lnTo>
                  <a:lnTo>
                    <a:pt x="425" y="163"/>
                  </a:lnTo>
                  <a:lnTo>
                    <a:pt x="430" y="159"/>
                  </a:lnTo>
                  <a:close/>
                  <a:moveTo>
                    <a:pt x="935" y="159"/>
                  </a:moveTo>
                  <a:lnTo>
                    <a:pt x="935" y="154"/>
                  </a:lnTo>
                  <a:lnTo>
                    <a:pt x="935" y="149"/>
                  </a:lnTo>
                  <a:lnTo>
                    <a:pt x="930" y="149"/>
                  </a:lnTo>
                  <a:lnTo>
                    <a:pt x="920" y="149"/>
                  </a:lnTo>
                  <a:lnTo>
                    <a:pt x="915" y="149"/>
                  </a:lnTo>
                  <a:lnTo>
                    <a:pt x="910" y="154"/>
                  </a:lnTo>
                  <a:lnTo>
                    <a:pt x="905" y="159"/>
                  </a:lnTo>
                  <a:lnTo>
                    <a:pt x="905" y="163"/>
                  </a:lnTo>
                  <a:lnTo>
                    <a:pt x="910" y="168"/>
                  </a:lnTo>
                  <a:lnTo>
                    <a:pt x="920" y="168"/>
                  </a:lnTo>
                  <a:lnTo>
                    <a:pt x="925" y="168"/>
                  </a:lnTo>
                  <a:lnTo>
                    <a:pt x="930" y="168"/>
                  </a:lnTo>
                  <a:lnTo>
                    <a:pt x="935" y="163"/>
                  </a:lnTo>
                  <a:lnTo>
                    <a:pt x="935" y="159"/>
                  </a:lnTo>
                  <a:close/>
                  <a:moveTo>
                    <a:pt x="475" y="134"/>
                  </a:moveTo>
                  <a:lnTo>
                    <a:pt x="450" y="134"/>
                  </a:lnTo>
                  <a:lnTo>
                    <a:pt x="450" y="149"/>
                  </a:lnTo>
                  <a:lnTo>
                    <a:pt x="475" y="134"/>
                  </a:lnTo>
                  <a:close/>
                  <a:moveTo>
                    <a:pt x="2552" y="104"/>
                  </a:moveTo>
                  <a:lnTo>
                    <a:pt x="2537" y="104"/>
                  </a:lnTo>
                  <a:lnTo>
                    <a:pt x="2552" y="124"/>
                  </a:lnTo>
                  <a:lnTo>
                    <a:pt x="2552" y="104"/>
                  </a:lnTo>
                  <a:close/>
                  <a:moveTo>
                    <a:pt x="732" y="79"/>
                  </a:moveTo>
                  <a:lnTo>
                    <a:pt x="737" y="74"/>
                  </a:lnTo>
                  <a:lnTo>
                    <a:pt x="737" y="70"/>
                  </a:lnTo>
                  <a:lnTo>
                    <a:pt x="742" y="70"/>
                  </a:lnTo>
                  <a:lnTo>
                    <a:pt x="747" y="70"/>
                  </a:lnTo>
                  <a:lnTo>
                    <a:pt x="747" y="70"/>
                  </a:lnTo>
                  <a:lnTo>
                    <a:pt x="752" y="74"/>
                  </a:lnTo>
                  <a:lnTo>
                    <a:pt x="752" y="79"/>
                  </a:lnTo>
                  <a:lnTo>
                    <a:pt x="752" y="84"/>
                  </a:lnTo>
                  <a:lnTo>
                    <a:pt x="752" y="84"/>
                  </a:lnTo>
                  <a:lnTo>
                    <a:pt x="747" y="89"/>
                  </a:lnTo>
                  <a:lnTo>
                    <a:pt x="742" y="89"/>
                  </a:lnTo>
                  <a:lnTo>
                    <a:pt x="737" y="84"/>
                  </a:lnTo>
                  <a:lnTo>
                    <a:pt x="737" y="84"/>
                  </a:lnTo>
                  <a:lnTo>
                    <a:pt x="732" y="79"/>
                  </a:lnTo>
                  <a:close/>
                  <a:moveTo>
                    <a:pt x="2527" y="79"/>
                  </a:moveTo>
                  <a:lnTo>
                    <a:pt x="2503" y="79"/>
                  </a:lnTo>
                  <a:lnTo>
                    <a:pt x="2498" y="79"/>
                  </a:lnTo>
                  <a:lnTo>
                    <a:pt x="2498" y="84"/>
                  </a:lnTo>
                  <a:lnTo>
                    <a:pt x="2503" y="84"/>
                  </a:lnTo>
                  <a:lnTo>
                    <a:pt x="2503" y="84"/>
                  </a:lnTo>
                  <a:lnTo>
                    <a:pt x="2507" y="89"/>
                  </a:lnTo>
                  <a:lnTo>
                    <a:pt x="2512" y="89"/>
                  </a:lnTo>
                  <a:lnTo>
                    <a:pt x="2517" y="89"/>
                  </a:lnTo>
                  <a:lnTo>
                    <a:pt x="2522" y="94"/>
                  </a:lnTo>
                  <a:lnTo>
                    <a:pt x="2527" y="94"/>
                  </a:lnTo>
                  <a:lnTo>
                    <a:pt x="2527" y="79"/>
                  </a:lnTo>
                  <a:close/>
                  <a:moveTo>
                    <a:pt x="2369" y="25"/>
                  </a:moveTo>
                  <a:lnTo>
                    <a:pt x="2369" y="25"/>
                  </a:lnTo>
                  <a:lnTo>
                    <a:pt x="2369" y="25"/>
                  </a:lnTo>
                  <a:lnTo>
                    <a:pt x="2369" y="25"/>
                  </a:lnTo>
                  <a:lnTo>
                    <a:pt x="2369" y="25"/>
                  </a:lnTo>
                  <a:lnTo>
                    <a:pt x="2369" y="25"/>
                  </a:lnTo>
                  <a:lnTo>
                    <a:pt x="2369" y="25"/>
                  </a:lnTo>
                  <a:lnTo>
                    <a:pt x="2369" y="25"/>
                  </a:lnTo>
                  <a:lnTo>
                    <a:pt x="2369" y="25"/>
                  </a:lnTo>
                  <a:lnTo>
                    <a:pt x="2369" y="25"/>
                  </a:lnTo>
                  <a:lnTo>
                    <a:pt x="2369" y="25"/>
                  </a:lnTo>
                  <a:close/>
                  <a:moveTo>
                    <a:pt x="2231" y="0"/>
                  </a:moveTo>
                  <a:lnTo>
                    <a:pt x="2206" y="0"/>
                  </a:lnTo>
                  <a:lnTo>
                    <a:pt x="2181" y="0"/>
                  </a:lnTo>
                  <a:lnTo>
                    <a:pt x="2176" y="0"/>
                  </a:lnTo>
                  <a:lnTo>
                    <a:pt x="2181" y="0"/>
                  </a:lnTo>
                  <a:lnTo>
                    <a:pt x="2186" y="0"/>
                  </a:lnTo>
                  <a:lnTo>
                    <a:pt x="2191" y="0"/>
                  </a:lnTo>
                  <a:lnTo>
                    <a:pt x="2196" y="0"/>
                  </a:lnTo>
                  <a:lnTo>
                    <a:pt x="2201" y="5"/>
                  </a:lnTo>
                  <a:lnTo>
                    <a:pt x="2206" y="5"/>
                  </a:lnTo>
                  <a:lnTo>
                    <a:pt x="2211" y="5"/>
                  </a:lnTo>
                  <a:lnTo>
                    <a:pt x="2216" y="5"/>
                  </a:lnTo>
                  <a:lnTo>
                    <a:pt x="2221" y="0"/>
                  </a:lnTo>
                  <a:lnTo>
                    <a:pt x="2226" y="0"/>
                  </a:lnTo>
                  <a:lnTo>
                    <a:pt x="2231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6" name=""/>
            <p:cNvSpPr/>
            <p:nvPr/>
          </p:nvSpPr>
          <p:spPr>
            <a:xfrm>
              <a:off x="2268360" y="2360880"/>
              <a:ext cx="4098960" cy="2628720"/>
            </a:xfrm>
            <a:custGeom>
              <a:avLst/>
              <a:gdLst/>
              <a:ahLst/>
              <a:rect l="l" t="t" r="r" b="b"/>
              <a:pathLst>
                <a:path w="2582" h="1656">
                  <a:moveTo>
                    <a:pt x="1177" y="1656"/>
                  </a:moveTo>
                  <a:lnTo>
                    <a:pt x="1182" y="1651"/>
                  </a:lnTo>
                  <a:lnTo>
                    <a:pt x="1187" y="1646"/>
                  </a:lnTo>
                  <a:lnTo>
                    <a:pt x="1192" y="1641"/>
                  </a:lnTo>
                  <a:lnTo>
                    <a:pt x="1197" y="1636"/>
                  </a:lnTo>
                  <a:lnTo>
                    <a:pt x="1202" y="1631"/>
                  </a:lnTo>
                  <a:lnTo>
                    <a:pt x="1202" y="1626"/>
                  </a:lnTo>
                  <a:lnTo>
                    <a:pt x="1207" y="1622"/>
                  </a:lnTo>
                  <a:lnTo>
                    <a:pt x="1212" y="1617"/>
                  </a:lnTo>
                  <a:lnTo>
                    <a:pt x="1212" y="1612"/>
                  </a:lnTo>
                  <a:lnTo>
                    <a:pt x="1217" y="1607"/>
                  </a:lnTo>
                  <a:lnTo>
                    <a:pt x="1227" y="1607"/>
                  </a:lnTo>
                  <a:lnTo>
                    <a:pt x="1236" y="1607"/>
                  </a:lnTo>
                  <a:lnTo>
                    <a:pt x="1241" y="1602"/>
                  </a:lnTo>
                  <a:lnTo>
                    <a:pt x="1241" y="1597"/>
                  </a:lnTo>
                  <a:lnTo>
                    <a:pt x="1246" y="1587"/>
                  </a:lnTo>
                  <a:lnTo>
                    <a:pt x="1251" y="1587"/>
                  </a:lnTo>
                  <a:lnTo>
                    <a:pt x="1256" y="1587"/>
                  </a:lnTo>
                  <a:lnTo>
                    <a:pt x="1266" y="1592"/>
                  </a:lnTo>
                  <a:lnTo>
                    <a:pt x="1271" y="1597"/>
                  </a:lnTo>
                  <a:lnTo>
                    <a:pt x="1271" y="1602"/>
                  </a:lnTo>
                  <a:lnTo>
                    <a:pt x="1266" y="1607"/>
                  </a:lnTo>
                  <a:lnTo>
                    <a:pt x="1261" y="1607"/>
                  </a:lnTo>
                  <a:lnTo>
                    <a:pt x="1251" y="1607"/>
                  </a:lnTo>
                  <a:lnTo>
                    <a:pt x="1246" y="1612"/>
                  </a:lnTo>
                  <a:lnTo>
                    <a:pt x="1241" y="1617"/>
                  </a:lnTo>
                  <a:lnTo>
                    <a:pt x="1241" y="1622"/>
                  </a:lnTo>
                  <a:lnTo>
                    <a:pt x="1241" y="1631"/>
                  </a:lnTo>
                  <a:lnTo>
                    <a:pt x="1241" y="1636"/>
                  </a:lnTo>
                  <a:lnTo>
                    <a:pt x="1246" y="1641"/>
                  </a:lnTo>
                  <a:lnTo>
                    <a:pt x="1246" y="1646"/>
                  </a:lnTo>
                  <a:lnTo>
                    <a:pt x="1251" y="1651"/>
                  </a:lnTo>
                  <a:lnTo>
                    <a:pt x="1251" y="1656"/>
                  </a:lnTo>
                  <a:lnTo>
                    <a:pt x="1276" y="1656"/>
                  </a:lnTo>
                  <a:lnTo>
                    <a:pt x="1301" y="1656"/>
                  </a:lnTo>
                  <a:lnTo>
                    <a:pt x="1330" y="1656"/>
                  </a:lnTo>
                  <a:lnTo>
                    <a:pt x="1355" y="1656"/>
                  </a:lnTo>
                  <a:lnTo>
                    <a:pt x="1385" y="1656"/>
                  </a:lnTo>
                  <a:lnTo>
                    <a:pt x="1410" y="1656"/>
                  </a:lnTo>
                  <a:lnTo>
                    <a:pt x="1434" y="1656"/>
                  </a:lnTo>
                  <a:lnTo>
                    <a:pt x="1464" y="1656"/>
                  </a:lnTo>
                  <a:lnTo>
                    <a:pt x="1489" y="1656"/>
                  </a:lnTo>
                  <a:lnTo>
                    <a:pt x="1513" y="1656"/>
                  </a:lnTo>
                  <a:lnTo>
                    <a:pt x="1543" y="1656"/>
                  </a:lnTo>
                  <a:lnTo>
                    <a:pt x="1568" y="1656"/>
                  </a:lnTo>
                  <a:lnTo>
                    <a:pt x="1598" y="1656"/>
                  </a:lnTo>
                  <a:lnTo>
                    <a:pt x="1622" y="1656"/>
                  </a:lnTo>
                  <a:lnTo>
                    <a:pt x="1647" y="1656"/>
                  </a:lnTo>
                  <a:lnTo>
                    <a:pt x="1677" y="1656"/>
                  </a:lnTo>
                  <a:lnTo>
                    <a:pt x="1701" y="1656"/>
                  </a:lnTo>
                  <a:lnTo>
                    <a:pt x="1726" y="1656"/>
                  </a:lnTo>
                  <a:lnTo>
                    <a:pt x="1756" y="1656"/>
                  </a:lnTo>
                  <a:lnTo>
                    <a:pt x="1780" y="1656"/>
                  </a:lnTo>
                  <a:lnTo>
                    <a:pt x="1810" y="1656"/>
                  </a:lnTo>
                  <a:lnTo>
                    <a:pt x="1835" y="1656"/>
                  </a:lnTo>
                  <a:lnTo>
                    <a:pt x="1860" y="1656"/>
                  </a:lnTo>
                  <a:lnTo>
                    <a:pt x="1889" y="1656"/>
                  </a:lnTo>
                  <a:lnTo>
                    <a:pt x="1914" y="1656"/>
                  </a:lnTo>
                  <a:lnTo>
                    <a:pt x="1944" y="1656"/>
                  </a:lnTo>
                  <a:lnTo>
                    <a:pt x="1968" y="1656"/>
                  </a:lnTo>
                  <a:lnTo>
                    <a:pt x="1993" y="1656"/>
                  </a:lnTo>
                  <a:lnTo>
                    <a:pt x="2023" y="1656"/>
                  </a:lnTo>
                  <a:lnTo>
                    <a:pt x="2048" y="1656"/>
                  </a:lnTo>
                  <a:lnTo>
                    <a:pt x="2072" y="1656"/>
                  </a:lnTo>
                  <a:lnTo>
                    <a:pt x="2102" y="1656"/>
                  </a:lnTo>
                  <a:lnTo>
                    <a:pt x="2127" y="1656"/>
                  </a:lnTo>
                  <a:lnTo>
                    <a:pt x="2156" y="1656"/>
                  </a:lnTo>
                  <a:lnTo>
                    <a:pt x="2181" y="1656"/>
                  </a:lnTo>
                  <a:lnTo>
                    <a:pt x="2206" y="1656"/>
                  </a:lnTo>
                  <a:lnTo>
                    <a:pt x="2235" y="1656"/>
                  </a:lnTo>
                  <a:lnTo>
                    <a:pt x="2260" y="1631"/>
                  </a:lnTo>
                  <a:lnTo>
                    <a:pt x="2285" y="1631"/>
                  </a:lnTo>
                  <a:lnTo>
                    <a:pt x="2315" y="1631"/>
                  </a:lnTo>
                  <a:lnTo>
                    <a:pt x="2339" y="1631"/>
                  </a:lnTo>
                  <a:lnTo>
                    <a:pt x="2369" y="1631"/>
                  </a:lnTo>
                  <a:lnTo>
                    <a:pt x="2394" y="1631"/>
                  </a:lnTo>
                  <a:lnTo>
                    <a:pt x="2418" y="1631"/>
                  </a:lnTo>
                  <a:lnTo>
                    <a:pt x="2448" y="1602"/>
                  </a:lnTo>
                  <a:lnTo>
                    <a:pt x="2448" y="1577"/>
                  </a:lnTo>
                  <a:lnTo>
                    <a:pt x="2448" y="1547"/>
                  </a:lnTo>
                  <a:lnTo>
                    <a:pt x="2448" y="1523"/>
                  </a:lnTo>
                  <a:lnTo>
                    <a:pt x="2473" y="1498"/>
                  </a:lnTo>
                  <a:lnTo>
                    <a:pt x="2473" y="1468"/>
                  </a:lnTo>
                  <a:lnTo>
                    <a:pt x="2473" y="1444"/>
                  </a:lnTo>
                  <a:lnTo>
                    <a:pt x="2473" y="1414"/>
                  </a:lnTo>
                  <a:lnTo>
                    <a:pt x="2503" y="1389"/>
                  </a:lnTo>
                  <a:lnTo>
                    <a:pt x="2503" y="1364"/>
                  </a:lnTo>
                  <a:lnTo>
                    <a:pt x="2503" y="1335"/>
                  </a:lnTo>
                  <a:lnTo>
                    <a:pt x="2503" y="1310"/>
                  </a:lnTo>
                  <a:lnTo>
                    <a:pt x="2527" y="1280"/>
                  </a:lnTo>
                  <a:lnTo>
                    <a:pt x="2527" y="1256"/>
                  </a:lnTo>
                  <a:lnTo>
                    <a:pt x="2527" y="1226"/>
                  </a:lnTo>
                  <a:lnTo>
                    <a:pt x="2527" y="1201"/>
                  </a:lnTo>
                  <a:lnTo>
                    <a:pt x="2552" y="1177"/>
                  </a:lnTo>
                  <a:lnTo>
                    <a:pt x="2552" y="1147"/>
                  </a:lnTo>
                  <a:lnTo>
                    <a:pt x="2552" y="1122"/>
                  </a:lnTo>
                  <a:lnTo>
                    <a:pt x="2552" y="1093"/>
                  </a:lnTo>
                  <a:lnTo>
                    <a:pt x="2582" y="1068"/>
                  </a:lnTo>
                  <a:lnTo>
                    <a:pt x="2582" y="1043"/>
                  </a:lnTo>
                  <a:lnTo>
                    <a:pt x="2582" y="1014"/>
                  </a:lnTo>
                  <a:lnTo>
                    <a:pt x="2582" y="989"/>
                  </a:lnTo>
                  <a:lnTo>
                    <a:pt x="2582" y="959"/>
                  </a:lnTo>
                  <a:lnTo>
                    <a:pt x="2582" y="934"/>
                  </a:lnTo>
                  <a:lnTo>
                    <a:pt x="2582" y="910"/>
                  </a:lnTo>
                  <a:lnTo>
                    <a:pt x="2582" y="880"/>
                  </a:lnTo>
                  <a:lnTo>
                    <a:pt x="2582" y="855"/>
                  </a:lnTo>
                  <a:lnTo>
                    <a:pt x="2582" y="826"/>
                  </a:lnTo>
                  <a:lnTo>
                    <a:pt x="2582" y="801"/>
                  </a:lnTo>
                  <a:lnTo>
                    <a:pt x="2582" y="776"/>
                  </a:lnTo>
                  <a:lnTo>
                    <a:pt x="2582" y="747"/>
                  </a:lnTo>
                  <a:lnTo>
                    <a:pt x="2582" y="722"/>
                  </a:lnTo>
                  <a:lnTo>
                    <a:pt x="2582" y="692"/>
                  </a:lnTo>
                  <a:lnTo>
                    <a:pt x="2582" y="668"/>
                  </a:lnTo>
                  <a:lnTo>
                    <a:pt x="2582" y="643"/>
                  </a:lnTo>
                  <a:lnTo>
                    <a:pt x="2582" y="613"/>
                  </a:lnTo>
                  <a:lnTo>
                    <a:pt x="2582" y="589"/>
                  </a:lnTo>
                  <a:lnTo>
                    <a:pt x="2582" y="559"/>
                  </a:lnTo>
                  <a:lnTo>
                    <a:pt x="2582" y="534"/>
                  </a:lnTo>
                  <a:lnTo>
                    <a:pt x="2582" y="504"/>
                  </a:lnTo>
                  <a:lnTo>
                    <a:pt x="2582" y="480"/>
                  </a:lnTo>
                  <a:lnTo>
                    <a:pt x="2582" y="455"/>
                  </a:lnTo>
                  <a:lnTo>
                    <a:pt x="2582" y="425"/>
                  </a:lnTo>
                  <a:lnTo>
                    <a:pt x="2582" y="401"/>
                  </a:lnTo>
                  <a:lnTo>
                    <a:pt x="2582" y="371"/>
                  </a:lnTo>
                  <a:lnTo>
                    <a:pt x="2582" y="346"/>
                  </a:lnTo>
                  <a:lnTo>
                    <a:pt x="2582" y="322"/>
                  </a:lnTo>
                  <a:lnTo>
                    <a:pt x="2582" y="292"/>
                  </a:lnTo>
                  <a:lnTo>
                    <a:pt x="2582" y="267"/>
                  </a:lnTo>
                  <a:lnTo>
                    <a:pt x="2582" y="238"/>
                  </a:lnTo>
                  <a:lnTo>
                    <a:pt x="2552" y="213"/>
                  </a:lnTo>
                  <a:lnTo>
                    <a:pt x="2552" y="188"/>
                  </a:lnTo>
                  <a:lnTo>
                    <a:pt x="2552" y="159"/>
                  </a:lnTo>
                  <a:lnTo>
                    <a:pt x="2552" y="149"/>
                  </a:lnTo>
                  <a:lnTo>
                    <a:pt x="2547" y="154"/>
                  </a:lnTo>
                  <a:lnTo>
                    <a:pt x="2542" y="159"/>
                  </a:lnTo>
                  <a:lnTo>
                    <a:pt x="2537" y="163"/>
                  </a:lnTo>
                  <a:lnTo>
                    <a:pt x="2537" y="168"/>
                  </a:lnTo>
                  <a:lnTo>
                    <a:pt x="2537" y="173"/>
                  </a:lnTo>
                  <a:lnTo>
                    <a:pt x="2542" y="178"/>
                  </a:lnTo>
                  <a:lnTo>
                    <a:pt x="2542" y="183"/>
                  </a:lnTo>
                  <a:lnTo>
                    <a:pt x="2547" y="193"/>
                  </a:lnTo>
                  <a:lnTo>
                    <a:pt x="2547" y="198"/>
                  </a:lnTo>
                  <a:lnTo>
                    <a:pt x="2547" y="203"/>
                  </a:lnTo>
                  <a:lnTo>
                    <a:pt x="2552" y="208"/>
                  </a:lnTo>
                  <a:lnTo>
                    <a:pt x="2547" y="213"/>
                  </a:lnTo>
                  <a:lnTo>
                    <a:pt x="2547" y="218"/>
                  </a:lnTo>
                  <a:lnTo>
                    <a:pt x="2542" y="223"/>
                  </a:lnTo>
                  <a:lnTo>
                    <a:pt x="2532" y="228"/>
                  </a:lnTo>
                  <a:lnTo>
                    <a:pt x="2527" y="233"/>
                  </a:lnTo>
                  <a:lnTo>
                    <a:pt x="2522" y="238"/>
                  </a:lnTo>
                  <a:lnTo>
                    <a:pt x="2512" y="238"/>
                  </a:lnTo>
                  <a:lnTo>
                    <a:pt x="2507" y="243"/>
                  </a:lnTo>
                  <a:lnTo>
                    <a:pt x="2503" y="247"/>
                  </a:lnTo>
                  <a:lnTo>
                    <a:pt x="2498" y="252"/>
                  </a:lnTo>
                  <a:lnTo>
                    <a:pt x="2498" y="257"/>
                  </a:lnTo>
                  <a:lnTo>
                    <a:pt x="2498" y="262"/>
                  </a:lnTo>
                  <a:lnTo>
                    <a:pt x="2493" y="272"/>
                  </a:lnTo>
                  <a:lnTo>
                    <a:pt x="2488" y="277"/>
                  </a:lnTo>
                  <a:lnTo>
                    <a:pt x="2483" y="277"/>
                  </a:lnTo>
                  <a:lnTo>
                    <a:pt x="2478" y="282"/>
                  </a:lnTo>
                  <a:lnTo>
                    <a:pt x="2473" y="287"/>
                  </a:lnTo>
                  <a:lnTo>
                    <a:pt x="2468" y="292"/>
                  </a:lnTo>
                  <a:lnTo>
                    <a:pt x="2468" y="302"/>
                  </a:lnTo>
                  <a:lnTo>
                    <a:pt x="2468" y="307"/>
                  </a:lnTo>
                  <a:lnTo>
                    <a:pt x="2468" y="312"/>
                  </a:lnTo>
                  <a:lnTo>
                    <a:pt x="2473" y="317"/>
                  </a:lnTo>
                  <a:lnTo>
                    <a:pt x="2478" y="322"/>
                  </a:lnTo>
                  <a:lnTo>
                    <a:pt x="2473" y="327"/>
                  </a:lnTo>
                  <a:lnTo>
                    <a:pt x="2473" y="322"/>
                  </a:lnTo>
                  <a:lnTo>
                    <a:pt x="2468" y="317"/>
                  </a:lnTo>
                  <a:lnTo>
                    <a:pt x="2458" y="317"/>
                  </a:lnTo>
                  <a:lnTo>
                    <a:pt x="2448" y="317"/>
                  </a:lnTo>
                  <a:lnTo>
                    <a:pt x="2438" y="317"/>
                  </a:lnTo>
                  <a:lnTo>
                    <a:pt x="2428" y="317"/>
                  </a:lnTo>
                  <a:lnTo>
                    <a:pt x="2423" y="322"/>
                  </a:lnTo>
                  <a:lnTo>
                    <a:pt x="2418" y="327"/>
                  </a:lnTo>
                  <a:lnTo>
                    <a:pt x="2418" y="336"/>
                  </a:lnTo>
                  <a:lnTo>
                    <a:pt x="2423" y="341"/>
                  </a:lnTo>
                  <a:lnTo>
                    <a:pt x="2428" y="346"/>
                  </a:lnTo>
                  <a:lnTo>
                    <a:pt x="2433" y="346"/>
                  </a:lnTo>
                  <a:lnTo>
                    <a:pt x="2443" y="351"/>
                  </a:lnTo>
                  <a:lnTo>
                    <a:pt x="2453" y="351"/>
                  </a:lnTo>
                  <a:lnTo>
                    <a:pt x="2458" y="356"/>
                  </a:lnTo>
                  <a:lnTo>
                    <a:pt x="2463" y="361"/>
                  </a:lnTo>
                  <a:lnTo>
                    <a:pt x="2463" y="366"/>
                  </a:lnTo>
                  <a:lnTo>
                    <a:pt x="2463" y="376"/>
                  </a:lnTo>
                  <a:lnTo>
                    <a:pt x="2463" y="381"/>
                  </a:lnTo>
                  <a:lnTo>
                    <a:pt x="2458" y="386"/>
                  </a:lnTo>
                  <a:lnTo>
                    <a:pt x="2453" y="391"/>
                  </a:lnTo>
                  <a:lnTo>
                    <a:pt x="2448" y="396"/>
                  </a:lnTo>
                  <a:lnTo>
                    <a:pt x="2443" y="401"/>
                  </a:lnTo>
                  <a:lnTo>
                    <a:pt x="2438" y="401"/>
                  </a:lnTo>
                  <a:lnTo>
                    <a:pt x="2433" y="411"/>
                  </a:lnTo>
                  <a:lnTo>
                    <a:pt x="2433" y="416"/>
                  </a:lnTo>
                  <a:lnTo>
                    <a:pt x="2428" y="420"/>
                  </a:lnTo>
                  <a:lnTo>
                    <a:pt x="2428" y="425"/>
                  </a:lnTo>
                  <a:lnTo>
                    <a:pt x="2428" y="430"/>
                  </a:lnTo>
                  <a:lnTo>
                    <a:pt x="2423" y="435"/>
                  </a:lnTo>
                  <a:lnTo>
                    <a:pt x="2418" y="440"/>
                  </a:lnTo>
                  <a:lnTo>
                    <a:pt x="2418" y="445"/>
                  </a:lnTo>
                  <a:lnTo>
                    <a:pt x="2418" y="455"/>
                  </a:lnTo>
                  <a:lnTo>
                    <a:pt x="2418" y="460"/>
                  </a:lnTo>
                  <a:lnTo>
                    <a:pt x="2414" y="465"/>
                  </a:lnTo>
                  <a:lnTo>
                    <a:pt x="2414" y="470"/>
                  </a:lnTo>
                  <a:lnTo>
                    <a:pt x="2409" y="475"/>
                  </a:lnTo>
                  <a:lnTo>
                    <a:pt x="2409" y="480"/>
                  </a:lnTo>
                  <a:lnTo>
                    <a:pt x="2404" y="485"/>
                  </a:lnTo>
                  <a:lnTo>
                    <a:pt x="2404" y="490"/>
                  </a:lnTo>
                  <a:lnTo>
                    <a:pt x="2404" y="500"/>
                  </a:lnTo>
                  <a:lnTo>
                    <a:pt x="2404" y="504"/>
                  </a:lnTo>
                  <a:lnTo>
                    <a:pt x="2399" y="509"/>
                  </a:lnTo>
                  <a:lnTo>
                    <a:pt x="2399" y="514"/>
                  </a:lnTo>
                  <a:lnTo>
                    <a:pt x="2399" y="519"/>
                  </a:lnTo>
                  <a:lnTo>
                    <a:pt x="2399" y="524"/>
                  </a:lnTo>
                  <a:lnTo>
                    <a:pt x="2394" y="529"/>
                  </a:lnTo>
                  <a:lnTo>
                    <a:pt x="2394" y="539"/>
                  </a:lnTo>
                  <a:lnTo>
                    <a:pt x="2389" y="544"/>
                  </a:lnTo>
                  <a:lnTo>
                    <a:pt x="2389" y="549"/>
                  </a:lnTo>
                  <a:lnTo>
                    <a:pt x="2389" y="554"/>
                  </a:lnTo>
                  <a:lnTo>
                    <a:pt x="2389" y="559"/>
                  </a:lnTo>
                  <a:lnTo>
                    <a:pt x="2394" y="564"/>
                  </a:lnTo>
                  <a:lnTo>
                    <a:pt x="2404" y="569"/>
                  </a:lnTo>
                  <a:lnTo>
                    <a:pt x="2409" y="574"/>
                  </a:lnTo>
                  <a:lnTo>
                    <a:pt x="2414" y="579"/>
                  </a:lnTo>
                  <a:lnTo>
                    <a:pt x="2414" y="584"/>
                  </a:lnTo>
                  <a:lnTo>
                    <a:pt x="2414" y="589"/>
                  </a:lnTo>
                  <a:lnTo>
                    <a:pt x="2414" y="593"/>
                  </a:lnTo>
                  <a:lnTo>
                    <a:pt x="2409" y="603"/>
                  </a:lnTo>
                  <a:lnTo>
                    <a:pt x="2404" y="608"/>
                  </a:lnTo>
                  <a:lnTo>
                    <a:pt x="2404" y="613"/>
                  </a:lnTo>
                  <a:lnTo>
                    <a:pt x="2409" y="618"/>
                  </a:lnTo>
                  <a:lnTo>
                    <a:pt x="2418" y="618"/>
                  </a:lnTo>
                  <a:lnTo>
                    <a:pt x="2423" y="623"/>
                  </a:lnTo>
                  <a:lnTo>
                    <a:pt x="2428" y="628"/>
                  </a:lnTo>
                  <a:lnTo>
                    <a:pt x="2433" y="633"/>
                  </a:lnTo>
                  <a:lnTo>
                    <a:pt x="2433" y="638"/>
                  </a:lnTo>
                  <a:lnTo>
                    <a:pt x="2433" y="648"/>
                  </a:lnTo>
                  <a:lnTo>
                    <a:pt x="2433" y="653"/>
                  </a:lnTo>
                  <a:lnTo>
                    <a:pt x="2428" y="663"/>
                  </a:lnTo>
                  <a:lnTo>
                    <a:pt x="2423" y="663"/>
                  </a:lnTo>
                  <a:lnTo>
                    <a:pt x="2418" y="663"/>
                  </a:lnTo>
                  <a:lnTo>
                    <a:pt x="2409" y="658"/>
                  </a:lnTo>
                  <a:lnTo>
                    <a:pt x="2404" y="653"/>
                  </a:lnTo>
                  <a:lnTo>
                    <a:pt x="2394" y="653"/>
                  </a:lnTo>
                  <a:lnTo>
                    <a:pt x="2394" y="653"/>
                  </a:lnTo>
                  <a:lnTo>
                    <a:pt x="2389" y="653"/>
                  </a:lnTo>
                  <a:lnTo>
                    <a:pt x="2384" y="663"/>
                  </a:lnTo>
                  <a:lnTo>
                    <a:pt x="2384" y="668"/>
                  </a:lnTo>
                  <a:lnTo>
                    <a:pt x="2379" y="677"/>
                  </a:lnTo>
                  <a:lnTo>
                    <a:pt x="2369" y="682"/>
                  </a:lnTo>
                  <a:lnTo>
                    <a:pt x="2364" y="682"/>
                  </a:lnTo>
                  <a:lnTo>
                    <a:pt x="2359" y="677"/>
                  </a:lnTo>
                  <a:lnTo>
                    <a:pt x="2359" y="673"/>
                  </a:lnTo>
                  <a:lnTo>
                    <a:pt x="2354" y="663"/>
                  </a:lnTo>
                  <a:lnTo>
                    <a:pt x="2349" y="658"/>
                  </a:lnTo>
                  <a:lnTo>
                    <a:pt x="2344" y="658"/>
                  </a:lnTo>
                  <a:lnTo>
                    <a:pt x="2339" y="653"/>
                  </a:lnTo>
                  <a:lnTo>
                    <a:pt x="2339" y="643"/>
                  </a:lnTo>
                  <a:lnTo>
                    <a:pt x="2334" y="638"/>
                  </a:lnTo>
                  <a:lnTo>
                    <a:pt x="2334" y="633"/>
                  </a:lnTo>
                  <a:lnTo>
                    <a:pt x="2334" y="628"/>
                  </a:lnTo>
                  <a:lnTo>
                    <a:pt x="2334" y="623"/>
                  </a:lnTo>
                  <a:lnTo>
                    <a:pt x="2334" y="618"/>
                  </a:lnTo>
                  <a:lnTo>
                    <a:pt x="2334" y="608"/>
                  </a:lnTo>
                  <a:lnTo>
                    <a:pt x="2329" y="603"/>
                  </a:lnTo>
                  <a:lnTo>
                    <a:pt x="2324" y="598"/>
                  </a:lnTo>
                  <a:lnTo>
                    <a:pt x="2320" y="593"/>
                  </a:lnTo>
                  <a:lnTo>
                    <a:pt x="2315" y="589"/>
                  </a:lnTo>
                  <a:lnTo>
                    <a:pt x="2310" y="593"/>
                  </a:lnTo>
                  <a:lnTo>
                    <a:pt x="2305" y="598"/>
                  </a:lnTo>
                  <a:lnTo>
                    <a:pt x="2300" y="603"/>
                  </a:lnTo>
                  <a:lnTo>
                    <a:pt x="2295" y="608"/>
                  </a:lnTo>
                  <a:lnTo>
                    <a:pt x="2295" y="613"/>
                  </a:lnTo>
                  <a:lnTo>
                    <a:pt x="2290" y="618"/>
                  </a:lnTo>
                  <a:lnTo>
                    <a:pt x="2285" y="623"/>
                  </a:lnTo>
                  <a:lnTo>
                    <a:pt x="2280" y="628"/>
                  </a:lnTo>
                  <a:lnTo>
                    <a:pt x="2275" y="633"/>
                  </a:lnTo>
                  <a:lnTo>
                    <a:pt x="2270" y="638"/>
                  </a:lnTo>
                  <a:lnTo>
                    <a:pt x="2265" y="643"/>
                  </a:lnTo>
                  <a:lnTo>
                    <a:pt x="2260" y="648"/>
                  </a:lnTo>
                  <a:lnTo>
                    <a:pt x="2255" y="653"/>
                  </a:lnTo>
                  <a:lnTo>
                    <a:pt x="2245" y="658"/>
                  </a:lnTo>
                  <a:lnTo>
                    <a:pt x="2240" y="663"/>
                  </a:lnTo>
                  <a:lnTo>
                    <a:pt x="2235" y="668"/>
                  </a:lnTo>
                  <a:lnTo>
                    <a:pt x="2231" y="673"/>
                  </a:lnTo>
                  <a:lnTo>
                    <a:pt x="2226" y="677"/>
                  </a:lnTo>
                  <a:lnTo>
                    <a:pt x="2221" y="677"/>
                  </a:lnTo>
                  <a:lnTo>
                    <a:pt x="2216" y="682"/>
                  </a:lnTo>
                  <a:lnTo>
                    <a:pt x="2206" y="687"/>
                  </a:lnTo>
                  <a:lnTo>
                    <a:pt x="2201" y="692"/>
                  </a:lnTo>
                  <a:lnTo>
                    <a:pt x="2196" y="697"/>
                  </a:lnTo>
                  <a:lnTo>
                    <a:pt x="2191" y="702"/>
                  </a:lnTo>
                  <a:lnTo>
                    <a:pt x="2186" y="702"/>
                  </a:lnTo>
                  <a:lnTo>
                    <a:pt x="2181" y="707"/>
                  </a:lnTo>
                  <a:lnTo>
                    <a:pt x="2171" y="712"/>
                  </a:lnTo>
                  <a:lnTo>
                    <a:pt x="2166" y="717"/>
                  </a:lnTo>
                  <a:lnTo>
                    <a:pt x="2161" y="722"/>
                  </a:lnTo>
                  <a:lnTo>
                    <a:pt x="2156" y="727"/>
                  </a:lnTo>
                  <a:lnTo>
                    <a:pt x="2151" y="732"/>
                  </a:lnTo>
                  <a:lnTo>
                    <a:pt x="2142" y="737"/>
                  </a:lnTo>
                  <a:lnTo>
                    <a:pt x="2137" y="737"/>
                  </a:lnTo>
                  <a:lnTo>
                    <a:pt x="2137" y="742"/>
                  </a:lnTo>
                  <a:lnTo>
                    <a:pt x="2132" y="752"/>
                  </a:lnTo>
                  <a:lnTo>
                    <a:pt x="2132" y="757"/>
                  </a:lnTo>
                  <a:lnTo>
                    <a:pt x="2132" y="762"/>
                  </a:lnTo>
                  <a:lnTo>
                    <a:pt x="2132" y="766"/>
                  </a:lnTo>
                  <a:lnTo>
                    <a:pt x="2127" y="771"/>
                  </a:lnTo>
                  <a:lnTo>
                    <a:pt x="2127" y="776"/>
                  </a:lnTo>
                  <a:lnTo>
                    <a:pt x="2127" y="781"/>
                  </a:lnTo>
                  <a:lnTo>
                    <a:pt x="2127" y="791"/>
                  </a:lnTo>
                  <a:lnTo>
                    <a:pt x="2127" y="796"/>
                  </a:lnTo>
                  <a:lnTo>
                    <a:pt x="2122" y="801"/>
                  </a:lnTo>
                  <a:lnTo>
                    <a:pt x="2122" y="806"/>
                  </a:lnTo>
                  <a:lnTo>
                    <a:pt x="2122" y="811"/>
                  </a:lnTo>
                  <a:lnTo>
                    <a:pt x="2122" y="816"/>
                  </a:lnTo>
                  <a:lnTo>
                    <a:pt x="2122" y="826"/>
                  </a:lnTo>
                  <a:lnTo>
                    <a:pt x="2122" y="831"/>
                  </a:lnTo>
                  <a:lnTo>
                    <a:pt x="2122" y="836"/>
                  </a:lnTo>
                  <a:lnTo>
                    <a:pt x="2117" y="841"/>
                  </a:lnTo>
                  <a:lnTo>
                    <a:pt x="2117" y="846"/>
                  </a:lnTo>
                  <a:lnTo>
                    <a:pt x="2117" y="850"/>
                  </a:lnTo>
                  <a:lnTo>
                    <a:pt x="2117" y="855"/>
                  </a:lnTo>
                  <a:lnTo>
                    <a:pt x="2112" y="865"/>
                  </a:lnTo>
                  <a:lnTo>
                    <a:pt x="2112" y="870"/>
                  </a:lnTo>
                  <a:lnTo>
                    <a:pt x="2112" y="875"/>
                  </a:lnTo>
                  <a:lnTo>
                    <a:pt x="2112" y="880"/>
                  </a:lnTo>
                  <a:lnTo>
                    <a:pt x="2112" y="885"/>
                  </a:lnTo>
                  <a:lnTo>
                    <a:pt x="2112" y="890"/>
                  </a:lnTo>
                  <a:lnTo>
                    <a:pt x="2112" y="895"/>
                  </a:lnTo>
                  <a:lnTo>
                    <a:pt x="2112" y="905"/>
                  </a:lnTo>
                  <a:lnTo>
                    <a:pt x="2112" y="910"/>
                  </a:lnTo>
                  <a:lnTo>
                    <a:pt x="2112" y="915"/>
                  </a:lnTo>
                  <a:lnTo>
                    <a:pt x="2112" y="920"/>
                  </a:lnTo>
                  <a:lnTo>
                    <a:pt x="2107" y="925"/>
                  </a:lnTo>
                  <a:lnTo>
                    <a:pt x="2112" y="930"/>
                  </a:lnTo>
                  <a:lnTo>
                    <a:pt x="2112" y="939"/>
                  </a:lnTo>
                  <a:lnTo>
                    <a:pt x="2112" y="944"/>
                  </a:lnTo>
                  <a:lnTo>
                    <a:pt x="2117" y="949"/>
                  </a:lnTo>
                  <a:lnTo>
                    <a:pt x="2122" y="954"/>
                  </a:lnTo>
                  <a:lnTo>
                    <a:pt x="2122" y="959"/>
                  </a:lnTo>
                  <a:lnTo>
                    <a:pt x="2127" y="964"/>
                  </a:lnTo>
                  <a:lnTo>
                    <a:pt x="2127" y="969"/>
                  </a:lnTo>
                  <a:lnTo>
                    <a:pt x="2127" y="979"/>
                  </a:lnTo>
                  <a:lnTo>
                    <a:pt x="2122" y="984"/>
                  </a:lnTo>
                  <a:lnTo>
                    <a:pt x="2117" y="989"/>
                  </a:lnTo>
                  <a:lnTo>
                    <a:pt x="2112" y="989"/>
                  </a:lnTo>
                  <a:lnTo>
                    <a:pt x="2102" y="994"/>
                  </a:lnTo>
                  <a:lnTo>
                    <a:pt x="2097" y="994"/>
                  </a:lnTo>
                  <a:lnTo>
                    <a:pt x="2087" y="994"/>
                  </a:lnTo>
                  <a:lnTo>
                    <a:pt x="2077" y="994"/>
                  </a:lnTo>
                  <a:lnTo>
                    <a:pt x="2067" y="994"/>
                  </a:lnTo>
                  <a:lnTo>
                    <a:pt x="2057" y="994"/>
                  </a:lnTo>
                  <a:lnTo>
                    <a:pt x="2052" y="994"/>
                  </a:lnTo>
                  <a:lnTo>
                    <a:pt x="2043" y="994"/>
                  </a:lnTo>
                  <a:lnTo>
                    <a:pt x="2033" y="994"/>
                  </a:lnTo>
                  <a:lnTo>
                    <a:pt x="2023" y="994"/>
                  </a:lnTo>
                  <a:lnTo>
                    <a:pt x="2018" y="994"/>
                  </a:lnTo>
                  <a:lnTo>
                    <a:pt x="2008" y="994"/>
                  </a:lnTo>
                  <a:lnTo>
                    <a:pt x="1998" y="994"/>
                  </a:lnTo>
                  <a:lnTo>
                    <a:pt x="1993" y="999"/>
                  </a:lnTo>
                  <a:lnTo>
                    <a:pt x="1983" y="1004"/>
                  </a:lnTo>
                  <a:lnTo>
                    <a:pt x="1978" y="1009"/>
                  </a:lnTo>
                  <a:lnTo>
                    <a:pt x="1973" y="1009"/>
                  </a:lnTo>
                  <a:lnTo>
                    <a:pt x="1963" y="1014"/>
                  </a:lnTo>
                  <a:lnTo>
                    <a:pt x="1963" y="1019"/>
                  </a:lnTo>
                  <a:lnTo>
                    <a:pt x="1963" y="1023"/>
                  </a:lnTo>
                  <a:lnTo>
                    <a:pt x="1963" y="1033"/>
                  </a:lnTo>
                  <a:lnTo>
                    <a:pt x="1963" y="1038"/>
                  </a:lnTo>
                  <a:lnTo>
                    <a:pt x="1959" y="1043"/>
                  </a:lnTo>
                  <a:lnTo>
                    <a:pt x="1954" y="1048"/>
                  </a:lnTo>
                  <a:lnTo>
                    <a:pt x="1949" y="1053"/>
                  </a:lnTo>
                  <a:lnTo>
                    <a:pt x="1939" y="1058"/>
                  </a:lnTo>
                  <a:lnTo>
                    <a:pt x="1934" y="1058"/>
                  </a:lnTo>
                  <a:lnTo>
                    <a:pt x="1924" y="1063"/>
                  </a:lnTo>
                  <a:lnTo>
                    <a:pt x="1919" y="1063"/>
                  </a:lnTo>
                  <a:lnTo>
                    <a:pt x="1909" y="1063"/>
                  </a:lnTo>
                  <a:lnTo>
                    <a:pt x="1899" y="1068"/>
                  </a:lnTo>
                  <a:lnTo>
                    <a:pt x="1899" y="1073"/>
                  </a:lnTo>
                  <a:lnTo>
                    <a:pt x="1899" y="1078"/>
                  </a:lnTo>
                  <a:lnTo>
                    <a:pt x="1899" y="1083"/>
                  </a:lnTo>
                  <a:lnTo>
                    <a:pt x="1899" y="1088"/>
                  </a:lnTo>
                  <a:lnTo>
                    <a:pt x="1899" y="1093"/>
                  </a:lnTo>
                  <a:lnTo>
                    <a:pt x="1894" y="1098"/>
                  </a:lnTo>
                  <a:lnTo>
                    <a:pt x="1884" y="1103"/>
                  </a:lnTo>
                  <a:lnTo>
                    <a:pt x="1879" y="1107"/>
                  </a:lnTo>
                  <a:lnTo>
                    <a:pt x="1870" y="1107"/>
                  </a:lnTo>
                  <a:lnTo>
                    <a:pt x="1860" y="1107"/>
                  </a:lnTo>
                  <a:lnTo>
                    <a:pt x="1855" y="1112"/>
                  </a:lnTo>
                  <a:lnTo>
                    <a:pt x="1845" y="1112"/>
                  </a:lnTo>
                  <a:lnTo>
                    <a:pt x="1840" y="1117"/>
                  </a:lnTo>
                  <a:lnTo>
                    <a:pt x="1830" y="1117"/>
                  </a:lnTo>
                  <a:lnTo>
                    <a:pt x="1830" y="1122"/>
                  </a:lnTo>
                  <a:lnTo>
                    <a:pt x="1840" y="1127"/>
                  </a:lnTo>
                  <a:lnTo>
                    <a:pt x="1850" y="1132"/>
                  </a:lnTo>
                  <a:lnTo>
                    <a:pt x="1855" y="1132"/>
                  </a:lnTo>
                  <a:lnTo>
                    <a:pt x="1860" y="1137"/>
                  </a:lnTo>
                  <a:lnTo>
                    <a:pt x="1865" y="1142"/>
                  </a:lnTo>
                  <a:lnTo>
                    <a:pt x="1870" y="1147"/>
                  </a:lnTo>
                  <a:lnTo>
                    <a:pt x="1874" y="1152"/>
                  </a:lnTo>
                  <a:lnTo>
                    <a:pt x="1879" y="1157"/>
                  </a:lnTo>
                  <a:lnTo>
                    <a:pt x="1879" y="1162"/>
                  </a:lnTo>
                  <a:lnTo>
                    <a:pt x="1884" y="1167"/>
                  </a:lnTo>
                  <a:lnTo>
                    <a:pt x="1884" y="1172"/>
                  </a:lnTo>
                  <a:lnTo>
                    <a:pt x="1889" y="1177"/>
                  </a:lnTo>
                  <a:lnTo>
                    <a:pt x="1894" y="1182"/>
                  </a:lnTo>
                  <a:lnTo>
                    <a:pt x="1899" y="1192"/>
                  </a:lnTo>
                  <a:lnTo>
                    <a:pt x="1904" y="1196"/>
                  </a:lnTo>
                  <a:lnTo>
                    <a:pt x="1904" y="1201"/>
                  </a:lnTo>
                  <a:lnTo>
                    <a:pt x="1899" y="1206"/>
                  </a:lnTo>
                  <a:lnTo>
                    <a:pt x="1894" y="1211"/>
                  </a:lnTo>
                  <a:lnTo>
                    <a:pt x="1884" y="1211"/>
                  </a:lnTo>
                  <a:lnTo>
                    <a:pt x="1879" y="1206"/>
                  </a:lnTo>
                  <a:lnTo>
                    <a:pt x="1874" y="1201"/>
                  </a:lnTo>
                  <a:lnTo>
                    <a:pt x="1870" y="1196"/>
                  </a:lnTo>
                  <a:lnTo>
                    <a:pt x="1860" y="1196"/>
                  </a:lnTo>
                  <a:lnTo>
                    <a:pt x="1855" y="1196"/>
                  </a:lnTo>
                  <a:lnTo>
                    <a:pt x="1845" y="1196"/>
                  </a:lnTo>
                  <a:lnTo>
                    <a:pt x="1835" y="1201"/>
                  </a:lnTo>
                  <a:lnTo>
                    <a:pt x="1830" y="1206"/>
                  </a:lnTo>
                  <a:lnTo>
                    <a:pt x="1825" y="1206"/>
                  </a:lnTo>
                  <a:lnTo>
                    <a:pt x="1820" y="1216"/>
                  </a:lnTo>
                  <a:lnTo>
                    <a:pt x="1815" y="1216"/>
                  </a:lnTo>
                  <a:lnTo>
                    <a:pt x="1805" y="1221"/>
                  </a:lnTo>
                  <a:lnTo>
                    <a:pt x="1800" y="1221"/>
                  </a:lnTo>
                  <a:lnTo>
                    <a:pt x="1790" y="1221"/>
                  </a:lnTo>
                  <a:lnTo>
                    <a:pt x="1780" y="1221"/>
                  </a:lnTo>
                  <a:lnTo>
                    <a:pt x="1771" y="1221"/>
                  </a:lnTo>
                  <a:lnTo>
                    <a:pt x="1761" y="1221"/>
                  </a:lnTo>
                  <a:lnTo>
                    <a:pt x="1756" y="1226"/>
                  </a:lnTo>
                  <a:lnTo>
                    <a:pt x="1751" y="1231"/>
                  </a:lnTo>
                  <a:lnTo>
                    <a:pt x="1746" y="1236"/>
                  </a:lnTo>
                  <a:lnTo>
                    <a:pt x="1741" y="1241"/>
                  </a:lnTo>
                  <a:lnTo>
                    <a:pt x="1736" y="1241"/>
                  </a:lnTo>
                  <a:lnTo>
                    <a:pt x="1731" y="1246"/>
                  </a:lnTo>
                  <a:lnTo>
                    <a:pt x="1726" y="1251"/>
                  </a:lnTo>
                  <a:lnTo>
                    <a:pt x="1721" y="1256"/>
                  </a:lnTo>
                  <a:lnTo>
                    <a:pt x="1711" y="1261"/>
                  </a:lnTo>
                  <a:lnTo>
                    <a:pt x="1706" y="1261"/>
                  </a:lnTo>
                  <a:lnTo>
                    <a:pt x="1696" y="1266"/>
                  </a:lnTo>
                  <a:lnTo>
                    <a:pt x="1687" y="1261"/>
                  </a:lnTo>
                  <a:lnTo>
                    <a:pt x="1677" y="1261"/>
                  </a:lnTo>
                  <a:lnTo>
                    <a:pt x="1672" y="1256"/>
                  </a:lnTo>
                  <a:lnTo>
                    <a:pt x="1662" y="1256"/>
                  </a:lnTo>
                  <a:lnTo>
                    <a:pt x="1657" y="1251"/>
                  </a:lnTo>
                  <a:lnTo>
                    <a:pt x="1652" y="1246"/>
                  </a:lnTo>
                  <a:lnTo>
                    <a:pt x="1647" y="1241"/>
                  </a:lnTo>
                  <a:lnTo>
                    <a:pt x="1642" y="1236"/>
                  </a:lnTo>
                  <a:lnTo>
                    <a:pt x="1637" y="1231"/>
                  </a:lnTo>
                  <a:lnTo>
                    <a:pt x="1632" y="1226"/>
                  </a:lnTo>
                  <a:lnTo>
                    <a:pt x="1627" y="1221"/>
                  </a:lnTo>
                  <a:lnTo>
                    <a:pt x="1617" y="1221"/>
                  </a:lnTo>
                  <a:lnTo>
                    <a:pt x="1612" y="1221"/>
                  </a:lnTo>
                  <a:lnTo>
                    <a:pt x="1602" y="1226"/>
                  </a:lnTo>
                  <a:lnTo>
                    <a:pt x="1593" y="1226"/>
                  </a:lnTo>
                  <a:lnTo>
                    <a:pt x="1593" y="1221"/>
                  </a:lnTo>
                  <a:lnTo>
                    <a:pt x="1588" y="1216"/>
                  </a:lnTo>
                  <a:lnTo>
                    <a:pt x="1588" y="1211"/>
                  </a:lnTo>
                  <a:lnTo>
                    <a:pt x="1583" y="1201"/>
                  </a:lnTo>
                  <a:lnTo>
                    <a:pt x="1583" y="1196"/>
                  </a:lnTo>
                  <a:lnTo>
                    <a:pt x="1578" y="1192"/>
                  </a:lnTo>
                  <a:lnTo>
                    <a:pt x="1573" y="1187"/>
                  </a:lnTo>
                  <a:lnTo>
                    <a:pt x="1563" y="1187"/>
                  </a:lnTo>
                  <a:lnTo>
                    <a:pt x="1558" y="1182"/>
                  </a:lnTo>
                  <a:lnTo>
                    <a:pt x="1548" y="1182"/>
                  </a:lnTo>
                  <a:lnTo>
                    <a:pt x="1538" y="1182"/>
                  </a:lnTo>
                  <a:lnTo>
                    <a:pt x="1533" y="1187"/>
                  </a:lnTo>
                  <a:lnTo>
                    <a:pt x="1528" y="1192"/>
                  </a:lnTo>
                  <a:lnTo>
                    <a:pt x="1523" y="1196"/>
                  </a:lnTo>
                  <a:lnTo>
                    <a:pt x="1518" y="1201"/>
                  </a:lnTo>
                  <a:lnTo>
                    <a:pt x="1513" y="1206"/>
                  </a:lnTo>
                  <a:lnTo>
                    <a:pt x="1508" y="1201"/>
                  </a:lnTo>
                  <a:lnTo>
                    <a:pt x="1518" y="1201"/>
                  </a:lnTo>
                  <a:lnTo>
                    <a:pt x="1528" y="1196"/>
                  </a:lnTo>
                  <a:lnTo>
                    <a:pt x="1533" y="1192"/>
                  </a:lnTo>
                  <a:lnTo>
                    <a:pt x="1538" y="1187"/>
                  </a:lnTo>
                  <a:lnTo>
                    <a:pt x="1538" y="1182"/>
                  </a:lnTo>
                  <a:lnTo>
                    <a:pt x="1538" y="1177"/>
                  </a:lnTo>
                  <a:lnTo>
                    <a:pt x="1538" y="1172"/>
                  </a:lnTo>
                  <a:lnTo>
                    <a:pt x="1533" y="1167"/>
                  </a:lnTo>
                  <a:lnTo>
                    <a:pt x="1528" y="1162"/>
                  </a:lnTo>
                  <a:lnTo>
                    <a:pt x="1523" y="1157"/>
                  </a:lnTo>
                  <a:lnTo>
                    <a:pt x="1513" y="1152"/>
                  </a:lnTo>
                  <a:lnTo>
                    <a:pt x="1508" y="1147"/>
                  </a:lnTo>
                  <a:lnTo>
                    <a:pt x="1508" y="1142"/>
                  </a:lnTo>
                  <a:lnTo>
                    <a:pt x="1504" y="1137"/>
                  </a:lnTo>
                  <a:lnTo>
                    <a:pt x="1504" y="1132"/>
                  </a:lnTo>
                  <a:lnTo>
                    <a:pt x="1499" y="1127"/>
                  </a:lnTo>
                  <a:lnTo>
                    <a:pt x="1494" y="1122"/>
                  </a:lnTo>
                  <a:lnTo>
                    <a:pt x="1489" y="1117"/>
                  </a:lnTo>
                  <a:lnTo>
                    <a:pt x="1484" y="1112"/>
                  </a:lnTo>
                  <a:lnTo>
                    <a:pt x="1479" y="1107"/>
                  </a:lnTo>
                  <a:lnTo>
                    <a:pt x="1479" y="1103"/>
                  </a:lnTo>
                  <a:lnTo>
                    <a:pt x="1474" y="1093"/>
                  </a:lnTo>
                  <a:lnTo>
                    <a:pt x="1474" y="1088"/>
                  </a:lnTo>
                  <a:lnTo>
                    <a:pt x="1469" y="1083"/>
                  </a:lnTo>
                  <a:lnTo>
                    <a:pt x="1469" y="1078"/>
                  </a:lnTo>
                  <a:lnTo>
                    <a:pt x="1464" y="1073"/>
                  </a:lnTo>
                  <a:lnTo>
                    <a:pt x="1454" y="1073"/>
                  </a:lnTo>
                  <a:lnTo>
                    <a:pt x="1449" y="1078"/>
                  </a:lnTo>
                  <a:lnTo>
                    <a:pt x="1444" y="1083"/>
                  </a:lnTo>
                  <a:lnTo>
                    <a:pt x="1439" y="1093"/>
                  </a:lnTo>
                  <a:lnTo>
                    <a:pt x="1439" y="1098"/>
                  </a:lnTo>
                  <a:lnTo>
                    <a:pt x="1439" y="1103"/>
                  </a:lnTo>
                  <a:lnTo>
                    <a:pt x="1439" y="1107"/>
                  </a:lnTo>
                  <a:lnTo>
                    <a:pt x="1444" y="1112"/>
                  </a:lnTo>
                  <a:lnTo>
                    <a:pt x="1449" y="1117"/>
                  </a:lnTo>
                  <a:lnTo>
                    <a:pt x="1449" y="1127"/>
                  </a:lnTo>
                  <a:lnTo>
                    <a:pt x="1449" y="1132"/>
                  </a:lnTo>
                  <a:lnTo>
                    <a:pt x="1454" y="1137"/>
                  </a:lnTo>
                  <a:lnTo>
                    <a:pt x="1454" y="1142"/>
                  </a:lnTo>
                  <a:lnTo>
                    <a:pt x="1454" y="1147"/>
                  </a:lnTo>
                  <a:lnTo>
                    <a:pt x="1459" y="1152"/>
                  </a:lnTo>
                  <a:lnTo>
                    <a:pt x="1464" y="1157"/>
                  </a:lnTo>
                  <a:lnTo>
                    <a:pt x="1469" y="1162"/>
                  </a:lnTo>
                  <a:lnTo>
                    <a:pt x="1474" y="1167"/>
                  </a:lnTo>
                  <a:lnTo>
                    <a:pt x="1474" y="1172"/>
                  </a:lnTo>
                  <a:lnTo>
                    <a:pt x="1474" y="1182"/>
                  </a:lnTo>
                  <a:lnTo>
                    <a:pt x="1474" y="1187"/>
                  </a:lnTo>
                  <a:lnTo>
                    <a:pt x="1469" y="1192"/>
                  </a:lnTo>
                  <a:lnTo>
                    <a:pt x="1464" y="1196"/>
                  </a:lnTo>
                  <a:lnTo>
                    <a:pt x="1459" y="1196"/>
                  </a:lnTo>
                  <a:lnTo>
                    <a:pt x="1454" y="1192"/>
                  </a:lnTo>
                  <a:lnTo>
                    <a:pt x="1449" y="1187"/>
                  </a:lnTo>
                  <a:lnTo>
                    <a:pt x="1444" y="1182"/>
                  </a:lnTo>
                  <a:lnTo>
                    <a:pt x="1434" y="1177"/>
                  </a:lnTo>
                  <a:lnTo>
                    <a:pt x="1429" y="1177"/>
                  </a:lnTo>
                  <a:lnTo>
                    <a:pt x="1419" y="1172"/>
                  </a:lnTo>
                  <a:lnTo>
                    <a:pt x="1410" y="1172"/>
                  </a:lnTo>
                  <a:lnTo>
                    <a:pt x="1405" y="1177"/>
                  </a:lnTo>
                  <a:lnTo>
                    <a:pt x="1405" y="1182"/>
                  </a:lnTo>
                  <a:lnTo>
                    <a:pt x="1405" y="1187"/>
                  </a:lnTo>
                  <a:lnTo>
                    <a:pt x="1405" y="1196"/>
                  </a:lnTo>
                  <a:lnTo>
                    <a:pt x="1405" y="1201"/>
                  </a:lnTo>
                  <a:lnTo>
                    <a:pt x="1405" y="1206"/>
                  </a:lnTo>
                  <a:lnTo>
                    <a:pt x="1400" y="1211"/>
                  </a:lnTo>
                  <a:lnTo>
                    <a:pt x="1400" y="1216"/>
                  </a:lnTo>
                  <a:lnTo>
                    <a:pt x="1400" y="1221"/>
                  </a:lnTo>
                  <a:lnTo>
                    <a:pt x="1400" y="1231"/>
                  </a:lnTo>
                  <a:lnTo>
                    <a:pt x="1405" y="1236"/>
                  </a:lnTo>
                  <a:lnTo>
                    <a:pt x="1415" y="1231"/>
                  </a:lnTo>
                  <a:lnTo>
                    <a:pt x="1419" y="1226"/>
                  </a:lnTo>
                  <a:lnTo>
                    <a:pt x="1424" y="1226"/>
                  </a:lnTo>
                  <a:lnTo>
                    <a:pt x="1434" y="1221"/>
                  </a:lnTo>
                  <a:lnTo>
                    <a:pt x="1444" y="1221"/>
                  </a:lnTo>
                  <a:lnTo>
                    <a:pt x="1454" y="1221"/>
                  </a:lnTo>
                  <a:lnTo>
                    <a:pt x="1459" y="1221"/>
                  </a:lnTo>
                  <a:lnTo>
                    <a:pt x="1464" y="1226"/>
                  </a:lnTo>
                  <a:lnTo>
                    <a:pt x="1469" y="1231"/>
                  </a:lnTo>
                  <a:lnTo>
                    <a:pt x="1474" y="1236"/>
                  </a:lnTo>
                  <a:lnTo>
                    <a:pt x="1474" y="1241"/>
                  </a:lnTo>
                  <a:lnTo>
                    <a:pt x="1479" y="1246"/>
                  </a:lnTo>
                  <a:lnTo>
                    <a:pt x="1484" y="1251"/>
                  </a:lnTo>
                  <a:lnTo>
                    <a:pt x="1489" y="1256"/>
                  </a:lnTo>
                  <a:lnTo>
                    <a:pt x="1494" y="1261"/>
                  </a:lnTo>
                  <a:lnTo>
                    <a:pt x="1494" y="1266"/>
                  </a:lnTo>
                  <a:lnTo>
                    <a:pt x="1499" y="1271"/>
                  </a:lnTo>
                  <a:lnTo>
                    <a:pt x="1504" y="1276"/>
                  </a:lnTo>
                  <a:lnTo>
                    <a:pt x="1508" y="1280"/>
                  </a:lnTo>
                  <a:lnTo>
                    <a:pt x="1513" y="1285"/>
                  </a:lnTo>
                  <a:lnTo>
                    <a:pt x="1513" y="1290"/>
                  </a:lnTo>
                  <a:lnTo>
                    <a:pt x="1518" y="1295"/>
                  </a:lnTo>
                  <a:lnTo>
                    <a:pt x="1523" y="1300"/>
                  </a:lnTo>
                  <a:lnTo>
                    <a:pt x="1528" y="1310"/>
                  </a:lnTo>
                  <a:lnTo>
                    <a:pt x="1528" y="1315"/>
                  </a:lnTo>
                  <a:lnTo>
                    <a:pt x="1533" y="1320"/>
                  </a:lnTo>
                  <a:lnTo>
                    <a:pt x="1538" y="1325"/>
                  </a:lnTo>
                  <a:lnTo>
                    <a:pt x="1543" y="1330"/>
                  </a:lnTo>
                  <a:lnTo>
                    <a:pt x="1548" y="1335"/>
                  </a:lnTo>
                  <a:lnTo>
                    <a:pt x="1548" y="1340"/>
                  </a:lnTo>
                  <a:lnTo>
                    <a:pt x="1553" y="1345"/>
                  </a:lnTo>
                  <a:lnTo>
                    <a:pt x="1558" y="1350"/>
                  </a:lnTo>
                  <a:lnTo>
                    <a:pt x="1563" y="1355"/>
                  </a:lnTo>
                  <a:lnTo>
                    <a:pt x="1563" y="1360"/>
                  </a:lnTo>
                  <a:lnTo>
                    <a:pt x="1568" y="1364"/>
                  </a:lnTo>
                  <a:lnTo>
                    <a:pt x="1573" y="1369"/>
                  </a:lnTo>
                  <a:lnTo>
                    <a:pt x="1583" y="1374"/>
                  </a:lnTo>
                  <a:lnTo>
                    <a:pt x="1588" y="1379"/>
                  </a:lnTo>
                  <a:lnTo>
                    <a:pt x="1593" y="1384"/>
                  </a:lnTo>
                  <a:lnTo>
                    <a:pt x="1598" y="1389"/>
                  </a:lnTo>
                  <a:lnTo>
                    <a:pt x="1602" y="1384"/>
                  </a:lnTo>
                  <a:lnTo>
                    <a:pt x="1607" y="1379"/>
                  </a:lnTo>
                  <a:lnTo>
                    <a:pt x="1612" y="1374"/>
                  </a:lnTo>
                  <a:lnTo>
                    <a:pt x="1617" y="1369"/>
                  </a:lnTo>
                  <a:lnTo>
                    <a:pt x="1617" y="1364"/>
                  </a:lnTo>
                  <a:lnTo>
                    <a:pt x="1622" y="1355"/>
                  </a:lnTo>
                  <a:lnTo>
                    <a:pt x="1627" y="1355"/>
                  </a:lnTo>
                  <a:lnTo>
                    <a:pt x="1637" y="1350"/>
                  </a:lnTo>
                  <a:lnTo>
                    <a:pt x="1642" y="1350"/>
                  </a:lnTo>
                  <a:lnTo>
                    <a:pt x="1652" y="1350"/>
                  </a:lnTo>
                  <a:lnTo>
                    <a:pt x="1662" y="1355"/>
                  </a:lnTo>
                  <a:lnTo>
                    <a:pt x="1667" y="1360"/>
                  </a:lnTo>
                  <a:lnTo>
                    <a:pt x="1672" y="1360"/>
                  </a:lnTo>
                  <a:lnTo>
                    <a:pt x="1672" y="1364"/>
                  </a:lnTo>
                  <a:lnTo>
                    <a:pt x="1662" y="1369"/>
                  </a:lnTo>
                  <a:lnTo>
                    <a:pt x="1657" y="1369"/>
                  </a:lnTo>
                  <a:lnTo>
                    <a:pt x="1647" y="1369"/>
                  </a:lnTo>
                  <a:lnTo>
                    <a:pt x="1637" y="1369"/>
                  </a:lnTo>
                  <a:lnTo>
                    <a:pt x="1627" y="1369"/>
                  </a:lnTo>
                  <a:lnTo>
                    <a:pt x="1622" y="1369"/>
                  </a:lnTo>
                  <a:lnTo>
                    <a:pt x="1612" y="1374"/>
                  </a:lnTo>
                  <a:lnTo>
                    <a:pt x="1607" y="1379"/>
                  </a:lnTo>
                  <a:lnTo>
                    <a:pt x="1602" y="1384"/>
                  </a:lnTo>
                  <a:lnTo>
                    <a:pt x="1598" y="1389"/>
                  </a:lnTo>
                  <a:lnTo>
                    <a:pt x="1593" y="1394"/>
                  </a:lnTo>
                  <a:lnTo>
                    <a:pt x="1588" y="1394"/>
                  </a:lnTo>
                  <a:lnTo>
                    <a:pt x="1578" y="1399"/>
                  </a:lnTo>
                  <a:lnTo>
                    <a:pt x="1573" y="1404"/>
                  </a:lnTo>
                  <a:lnTo>
                    <a:pt x="1563" y="1404"/>
                  </a:lnTo>
                  <a:lnTo>
                    <a:pt x="1558" y="1409"/>
                  </a:lnTo>
                  <a:lnTo>
                    <a:pt x="1548" y="1414"/>
                  </a:lnTo>
                  <a:lnTo>
                    <a:pt x="1543" y="1414"/>
                  </a:lnTo>
                  <a:lnTo>
                    <a:pt x="1533" y="1419"/>
                  </a:lnTo>
                  <a:lnTo>
                    <a:pt x="1528" y="1419"/>
                  </a:lnTo>
                  <a:lnTo>
                    <a:pt x="1518" y="1424"/>
                  </a:lnTo>
                  <a:lnTo>
                    <a:pt x="1513" y="1429"/>
                  </a:lnTo>
                  <a:lnTo>
                    <a:pt x="1508" y="1434"/>
                  </a:lnTo>
                  <a:lnTo>
                    <a:pt x="1504" y="1439"/>
                  </a:lnTo>
                  <a:lnTo>
                    <a:pt x="1499" y="1444"/>
                  </a:lnTo>
                  <a:lnTo>
                    <a:pt x="1494" y="1444"/>
                  </a:lnTo>
                  <a:lnTo>
                    <a:pt x="1484" y="1449"/>
                  </a:lnTo>
                  <a:lnTo>
                    <a:pt x="1474" y="1449"/>
                  </a:lnTo>
                  <a:lnTo>
                    <a:pt x="1469" y="1453"/>
                  </a:lnTo>
                  <a:lnTo>
                    <a:pt x="1459" y="1453"/>
                  </a:lnTo>
                  <a:lnTo>
                    <a:pt x="1449" y="1453"/>
                  </a:lnTo>
                  <a:lnTo>
                    <a:pt x="1439" y="1453"/>
                  </a:lnTo>
                  <a:lnTo>
                    <a:pt x="1434" y="1458"/>
                  </a:lnTo>
                  <a:lnTo>
                    <a:pt x="1424" y="1458"/>
                  </a:lnTo>
                  <a:lnTo>
                    <a:pt x="1419" y="1463"/>
                  </a:lnTo>
                  <a:lnTo>
                    <a:pt x="1415" y="1468"/>
                  </a:lnTo>
                  <a:lnTo>
                    <a:pt x="1410" y="1473"/>
                  </a:lnTo>
                  <a:lnTo>
                    <a:pt x="1400" y="1478"/>
                  </a:lnTo>
                  <a:lnTo>
                    <a:pt x="1395" y="1478"/>
                  </a:lnTo>
                  <a:lnTo>
                    <a:pt x="1385" y="1483"/>
                  </a:lnTo>
                  <a:lnTo>
                    <a:pt x="1380" y="1483"/>
                  </a:lnTo>
                  <a:lnTo>
                    <a:pt x="1375" y="1488"/>
                  </a:lnTo>
                  <a:lnTo>
                    <a:pt x="1365" y="1493"/>
                  </a:lnTo>
                  <a:lnTo>
                    <a:pt x="1360" y="1498"/>
                  </a:lnTo>
                  <a:lnTo>
                    <a:pt x="1355" y="1503"/>
                  </a:lnTo>
                  <a:lnTo>
                    <a:pt x="1350" y="1508"/>
                  </a:lnTo>
                  <a:lnTo>
                    <a:pt x="1350" y="1513"/>
                  </a:lnTo>
                  <a:lnTo>
                    <a:pt x="1345" y="1518"/>
                  </a:lnTo>
                  <a:lnTo>
                    <a:pt x="1340" y="1523"/>
                  </a:lnTo>
                  <a:lnTo>
                    <a:pt x="1340" y="1528"/>
                  </a:lnTo>
                  <a:lnTo>
                    <a:pt x="1335" y="1533"/>
                  </a:lnTo>
                  <a:lnTo>
                    <a:pt x="1330" y="1537"/>
                  </a:lnTo>
                  <a:lnTo>
                    <a:pt x="1326" y="1542"/>
                  </a:lnTo>
                  <a:lnTo>
                    <a:pt x="1321" y="1547"/>
                  </a:lnTo>
                  <a:lnTo>
                    <a:pt x="1311" y="1552"/>
                  </a:lnTo>
                  <a:lnTo>
                    <a:pt x="1311" y="1557"/>
                  </a:lnTo>
                  <a:lnTo>
                    <a:pt x="1311" y="1562"/>
                  </a:lnTo>
                  <a:lnTo>
                    <a:pt x="1311" y="1567"/>
                  </a:lnTo>
                  <a:lnTo>
                    <a:pt x="1311" y="1572"/>
                  </a:lnTo>
                  <a:lnTo>
                    <a:pt x="1306" y="1582"/>
                  </a:lnTo>
                  <a:lnTo>
                    <a:pt x="1301" y="1582"/>
                  </a:lnTo>
                  <a:lnTo>
                    <a:pt x="1296" y="1577"/>
                  </a:lnTo>
                  <a:lnTo>
                    <a:pt x="1291" y="1572"/>
                  </a:lnTo>
                  <a:lnTo>
                    <a:pt x="1286" y="1562"/>
                  </a:lnTo>
                  <a:lnTo>
                    <a:pt x="1286" y="1557"/>
                  </a:lnTo>
                  <a:lnTo>
                    <a:pt x="1281" y="1552"/>
                  </a:lnTo>
                  <a:lnTo>
                    <a:pt x="1276" y="1552"/>
                  </a:lnTo>
                  <a:lnTo>
                    <a:pt x="1271" y="1552"/>
                  </a:lnTo>
                  <a:lnTo>
                    <a:pt x="1261" y="1557"/>
                  </a:lnTo>
                  <a:lnTo>
                    <a:pt x="1256" y="1562"/>
                  </a:lnTo>
                  <a:lnTo>
                    <a:pt x="1246" y="1567"/>
                  </a:lnTo>
                  <a:lnTo>
                    <a:pt x="1236" y="1567"/>
                  </a:lnTo>
                  <a:lnTo>
                    <a:pt x="1232" y="1572"/>
                  </a:lnTo>
                  <a:lnTo>
                    <a:pt x="1222" y="1572"/>
                  </a:lnTo>
                  <a:lnTo>
                    <a:pt x="1217" y="1572"/>
                  </a:lnTo>
                  <a:lnTo>
                    <a:pt x="1207" y="1577"/>
                  </a:lnTo>
                  <a:lnTo>
                    <a:pt x="1197" y="1577"/>
                  </a:lnTo>
                  <a:lnTo>
                    <a:pt x="1192" y="1582"/>
                  </a:lnTo>
                  <a:lnTo>
                    <a:pt x="1182" y="1582"/>
                  </a:lnTo>
                  <a:lnTo>
                    <a:pt x="1177" y="1587"/>
                  </a:lnTo>
                  <a:lnTo>
                    <a:pt x="1167" y="1587"/>
                  </a:lnTo>
                  <a:lnTo>
                    <a:pt x="1157" y="1592"/>
                  </a:lnTo>
                  <a:lnTo>
                    <a:pt x="1147" y="1597"/>
                  </a:lnTo>
                  <a:lnTo>
                    <a:pt x="1143" y="1602"/>
                  </a:lnTo>
                  <a:lnTo>
                    <a:pt x="1143" y="1607"/>
                  </a:lnTo>
                  <a:lnTo>
                    <a:pt x="1143" y="1612"/>
                  </a:lnTo>
                  <a:lnTo>
                    <a:pt x="1143" y="1617"/>
                  </a:lnTo>
                  <a:lnTo>
                    <a:pt x="1138" y="1622"/>
                  </a:lnTo>
                  <a:lnTo>
                    <a:pt x="1138" y="1626"/>
                  </a:lnTo>
                  <a:lnTo>
                    <a:pt x="1138" y="1631"/>
                  </a:lnTo>
                  <a:lnTo>
                    <a:pt x="1138" y="1641"/>
                  </a:lnTo>
                  <a:lnTo>
                    <a:pt x="1138" y="1646"/>
                  </a:lnTo>
                  <a:lnTo>
                    <a:pt x="1138" y="1651"/>
                  </a:lnTo>
                  <a:lnTo>
                    <a:pt x="1138" y="1656"/>
                  </a:lnTo>
                  <a:lnTo>
                    <a:pt x="1143" y="1656"/>
                  </a:lnTo>
                  <a:lnTo>
                    <a:pt x="1172" y="1656"/>
                  </a:lnTo>
                  <a:lnTo>
                    <a:pt x="1177" y="1656"/>
                  </a:lnTo>
                  <a:close/>
                  <a:moveTo>
                    <a:pt x="1246" y="1656"/>
                  </a:moveTo>
                  <a:lnTo>
                    <a:pt x="1241" y="1651"/>
                  </a:lnTo>
                  <a:lnTo>
                    <a:pt x="1236" y="1651"/>
                  </a:lnTo>
                  <a:lnTo>
                    <a:pt x="1232" y="1646"/>
                  </a:lnTo>
                  <a:lnTo>
                    <a:pt x="1227" y="1646"/>
                  </a:lnTo>
                  <a:lnTo>
                    <a:pt x="1222" y="1646"/>
                  </a:lnTo>
                  <a:lnTo>
                    <a:pt x="1222" y="1651"/>
                  </a:lnTo>
                  <a:lnTo>
                    <a:pt x="1217" y="1651"/>
                  </a:lnTo>
                  <a:lnTo>
                    <a:pt x="1212" y="1656"/>
                  </a:lnTo>
                  <a:lnTo>
                    <a:pt x="1222" y="1656"/>
                  </a:lnTo>
                  <a:lnTo>
                    <a:pt x="1246" y="1656"/>
                  </a:lnTo>
                  <a:close/>
                  <a:moveTo>
                    <a:pt x="1370" y="1547"/>
                  </a:moveTo>
                  <a:lnTo>
                    <a:pt x="1370" y="1547"/>
                  </a:lnTo>
                  <a:lnTo>
                    <a:pt x="1375" y="1542"/>
                  </a:lnTo>
                  <a:lnTo>
                    <a:pt x="1380" y="1542"/>
                  </a:lnTo>
                  <a:lnTo>
                    <a:pt x="1380" y="1542"/>
                  </a:lnTo>
                  <a:lnTo>
                    <a:pt x="1385" y="1542"/>
                  </a:lnTo>
                  <a:lnTo>
                    <a:pt x="1390" y="1547"/>
                  </a:lnTo>
                  <a:lnTo>
                    <a:pt x="1390" y="1547"/>
                  </a:lnTo>
                  <a:lnTo>
                    <a:pt x="1390" y="1552"/>
                  </a:lnTo>
                  <a:lnTo>
                    <a:pt x="1385" y="1552"/>
                  </a:lnTo>
                  <a:lnTo>
                    <a:pt x="1385" y="1557"/>
                  </a:lnTo>
                  <a:lnTo>
                    <a:pt x="1380" y="1557"/>
                  </a:lnTo>
                  <a:lnTo>
                    <a:pt x="1375" y="1557"/>
                  </a:lnTo>
                  <a:lnTo>
                    <a:pt x="1375" y="1552"/>
                  </a:lnTo>
                  <a:lnTo>
                    <a:pt x="1370" y="1547"/>
                  </a:lnTo>
                  <a:close/>
                  <a:moveTo>
                    <a:pt x="1528" y="1389"/>
                  </a:moveTo>
                  <a:lnTo>
                    <a:pt x="1523" y="1384"/>
                  </a:lnTo>
                  <a:lnTo>
                    <a:pt x="1518" y="1379"/>
                  </a:lnTo>
                  <a:lnTo>
                    <a:pt x="1513" y="1374"/>
                  </a:lnTo>
                  <a:lnTo>
                    <a:pt x="1508" y="1379"/>
                  </a:lnTo>
                  <a:lnTo>
                    <a:pt x="1499" y="1379"/>
                  </a:lnTo>
                  <a:lnTo>
                    <a:pt x="1494" y="1384"/>
                  </a:lnTo>
                  <a:lnTo>
                    <a:pt x="1494" y="1389"/>
                  </a:lnTo>
                  <a:lnTo>
                    <a:pt x="1499" y="1399"/>
                  </a:lnTo>
                  <a:lnTo>
                    <a:pt x="1504" y="1399"/>
                  </a:lnTo>
                  <a:lnTo>
                    <a:pt x="1508" y="1404"/>
                  </a:lnTo>
                  <a:lnTo>
                    <a:pt x="1518" y="1404"/>
                  </a:lnTo>
                  <a:lnTo>
                    <a:pt x="1523" y="1404"/>
                  </a:lnTo>
                  <a:lnTo>
                    <a:pt x="1523" y="1394"/>
                  </a:lnTo>
                  <a:lnTo>
                    <a:pt x="1528" y="1389"/>
                  </a:lnTo>
                  <a:close/>
                  <a:moveTo>
                    <a:pt x="1706" y="1335"/>
                  </a:moveTo>
                  <a:lnTo>
                    <a:pt x="1711" y="1330"/>
                  </a:lnTo>
                  <a:lnTo>
                    <a:pt x="1716" y="1320"/>
                  </a:lnTo>
                  <a:lnTo>
                    <a:pt x="1721" y="1320"/>
                  </a:lnTo>
                  <a:lnTo>
                    <a:pt x="1726" y="1320"/>
                  </a:lnTo>
                  <a:lnTo>
                    <a:pt x="1736" y="1320"/>
                  </a:lnTo>
                  <a:lnTo>
                    <a:pt x="1741" y="1325"/>
                  </a:lnTo>
                  <a:lnTo>
                    <a:pt x="1746" y="1330"/>
                  </a:lnTo>
                  <a:lnTo>
                    <a:pt x="1746" y="1335"/>
                  </a:lnTo>
                  <a:lnTo>
                    <a:pt x="1746" y="1340"/>
                  </a:lnTo>
                  <a:lnTo>
                    <a:pt x="1736" y="1340"/>
                  </a:lnTo>
                  <a:lnTo>
                    <a:pt x="1731" y="1345"/>
                  </a:lnTo>
                  <a:lnTo>
                    <a:pt x="1721" y="1340"/>
                  </a:lnTo>
                  <a:lnTo>
                    <a:pt x="1716" y="1340"/>
                  </a:lnTo>
                  <a:lnTo>
                    <a:pt x="1706" y="1335"/>
                  </a:lnTo>
                  <a:close/>
                  <a:moveTo>
                    <a:pt x="2389" y="1147"/>
                  </a:moveTo>
                  <a:lnTo>
                    <a:pt x="2389" y="1142"/>
                  </a:lnTo>
                  <a:lnTo>
                    <a:pt x="2394" y="1142"/>
                  </a:lnTo>
                  <a:lnTo>
                    <a:pt x="2399" y="1142"/>
                  </a:lnTo>
                  <a:lnTo>
                    <a:pt x="2399" y="1147"/>
                  </a:lnTo>
                  <a:lnTo>
                    <a:pt x="2404" y="1152"/>
                  </a:lnTo>
                  <a:lnTo>
                    <a:pt x="2404" y="1152"/>
                  </a:lnTo>
                  <a:lnTo>
                    <a:pt x="2399" y="1157"/>
                  </a:lnTo>
                  <a:lnTo>
                    <a:pt x="2399" y="1162"/>
                  </a:lnTo>
                  <a:lnTo>
                    <a:pt x="2394" y="1162"/>
                  </a:lnTo>
                  <a:lnTo>
                    <a:pt x="2394" y="1162"/>
                  </a:lnTo>
                  <a:lnTo>
                    <a:pt x="2389" y="1162"/>
                  </a:lnTo>
                  <a:lnTo>
                    <a:pt x="2389" y="1157"/>
                  </a:lnTo>
                  <a:lnTo>
                    <a:pt x="2389" y="1152"/>
                  </a:lnTo>
                  <a:lnTo>
                    <a:pt x="2389" y="1147"/>
                  </a:lnTo>
                  <a:close/>
                  <a:moveTo>
                    <a:pt x="1568" y="1122"/>
                  </a:moveTo>
                  <a:lnTo>
                    <a:pt x="1568" y="1122"/>
                  </a:lnTo>
                  <a:lnTo>
                    <a:pt x="1568" y="1122"/>
                  </a:lnTo>
                  <a:lnTo>
                    <a:pt x="1568" y="1122"/>
                  </a:lnTo>
                  <a:lnTo>
                    <a:pt x="1568" y="1122"/>
                  </a:lnTo>
                  <a:lnTo>
                    <a:pt x="1568" y="1122"/>
                  </a:lnTo>
                  <a:lnTo>
                    <a:pt x="1568" y="1122"/>
                  </a:lnTo>
                  <a:lnTo>
                    <a:pt x="1568" y="1122"/>
                  </a:lnTo>
                  <a:lnTo>
                    <a:pt x="1568" y="1122"/>
                  </a:lnTo>
                  <a:lnTo>
                    <a:pt x="1568" y="1122"/>
                  </a:lnTo>
                  <a:lnTo>
                    <a:pt x="1568" y="1122"/>
                  </a:lnTo>
                  <a:lnTo>
                    <a:pt x="1568" y="1122"/>
                  </a:lnTo>
                  <a:lnTo>
                    <a:pt x="1568" y="1122"/>
                  </a:lnTo>
                  <a:lnTo>
                    <a:pt x="1568" y="1122"/>
                  </a:lnTo>
                  <a:lnTo>
                    <a:pt x="1568" y="1122"/>
                  </a:lnTo>
                  <a:close/>
                  <a:moveTo>
                    <a:pt x="1548" y="1093"/>
                  </a:moveTo>
                  <a:lnTo>
                    <a:pt x="1548" y="1088"/>
                  </a:lnTo>
                  <a:lnTo>
                    <a:pt x="1543" y="1088"/>
                  </a:lnTo>
                  <a:lnTo>
                    <a:pt x="1538" y="1083"/>
                  </a:lnTo>
                  <a:lnTo>
                    <a:pt x="1533" y="1088"/>
                  </a:lnTo>
                  <a:lnTo>
                    <a:pt x="1528" y="1088"/>
                  </a:lnTo>
                  <a:lnTo>
                    <a:pt x="1523" y="1093"/>
                  </a:lnTo>
                  <a:lnTo>
                    <a:pt x="1518" y="1098"/>
                  </a:lnTo>
                  <a:lnTo>
                    <a:pt x="1523" y="1098"/>
                  </a:lnTo>
                  <a:lnTo>
                    <a:pt x="1528" y="1103"/>
                  </a:lnTo>
                  <a:lnTo>
                    <a:pt x="1533" y="1107"/>
                  </a:lnTo>
                  <a:lnTo>
                    <a:pt x="1543" y="1107"/>
                  </a:lnTo>
                  <a:lnTo>
                    <a:pt x="1543" y="1103"/>
                  </a:lnTo>
                  <a:lnTo>
                    <a:pt x="1548" y="1103"/>
                  </a:lnTo>
                  <a:lnTo>
                    <a:pt x="1548" y="1093"/>
                  </a:lnTo>
                  <a:close/>
                  <a:moveTo>
                    <a:pt x="1528" y="1068"/>
                  </a:moveTo>
                  <a:lnTo>
                    <a:pt x="1523" y="1063"/>
                  </a:lnTo>
                  <a:lnTo>
                    <a:pt x="1523" y="1058"/>
                  </a:lnTo>
                  <a:lnTo>
                    <a:pt x="1518" y="1053"/>
                  </a:lnTo>
                  <a:lnTo>
                    <a:pt x="1513" y="1048"/>
                  </a:lnTo>
                  <a:lnTo>
                    <a:pt x="1508" y="1043"/>
                  </a:lnTo>
                  <a:lnTo>
                    <a:pt x="1508" y="1038"/>
                  </a:lnTo>
                  <a:lnTo>
                    <a:pt x="1504" y="1033"/>
                  </a:lnTo>
                  <a:lnTo>
                    <a:pt x="1499" y="1023"/>
                  </a:lnTo>
                  <a:lnTo>
                    <a:pt x="1499" y="1019"/>
                  </a:lnTo>
                  <a:lnTo>
                    <a:pt x="1494" y="1014"/>
                  </a:lnTo>
                  <a:lnTo>
                    <a:pt x="1489" y="1009"/>
                  </a:lnTo>
                  <a:lnTo>
                    <a:pt x="1484" y="1004"/>
                  </a:lnTo>
                  <a:lnTo>
                    <a:pt x="1484" y="999"/>
                  </a:lnTo>
                  <a:lnTo>
                    <a:pt x="1479" y="994"/>
                  </a:lnTo>
                  <a:lnTo>
                    <a:pt x="1474" y="989"/>
                  </a:lnTo>
                  <a:lnTo>
                    <a:pt x="1469" y="984"/>
                  </a:lnTo>
                  <a:lnTo>
                    <a:pt x="1469" y="979"/>
                  </a:lnTo>
                  <a:lnTo>
                    <a:pt x="1464" y="974"/>
                  </a:lnTo>
                  <a:lnTo>
                    <a:pt x="1459" y="969"/>
                  </a:lnTo>
                  <a:lnTo>
                    <a:pt x="1459" y="959"/>
                  </a:lnTo>
                  <a:lnTo>
                    <a:pt x="1454" y="954"/>
                  </a:lnTo>
                  <a:lnTo>
                    <a:pt x="1449" y="949"/>
                  </a:lnTo>
                  <a:lnTo>
                    <a:pt x="1444" y="944"/>
                  </a:lnTo>
                  <a:lnTo>
                    <a:pt x="1444" y="939"/>
                  </a:lnTo>
                  <a:lnTo>
                    <a:pt x="1439" y="934"/>
                  </a:lnTo>
                  <a:lnTo>
                    <a:pt x="1434" y="930"/>
                  </a:lnTo>
                  <a:lnTo>
                    <a:pt x="1424" y="925"/>
                  </a:lnTo>
                  <a:lnTo>
                    <a:pt x="1415" y="925"/>
                  </a:lnTo>
                  <a:lnTo>
                    <a:pt x="1410" y="925"/>
                  </a:lnTo>
                  <a:lnTo>
                    <a:pt x="1405" y="930"/>
                  </a:lnTo>
                  <a:lnTo>
                    <a:pt x="1400" y="934"/>
                  </a:lnTo>
                  <a:lnTo>
                    <a:pt x="1400" y="939"/>
                  </a:lnTo>
                  <a:lnTo>
                    <a:pt x="1395" y="944"/>
                  </a:lnTo>
                  <a:lnTo>
                    <a:pt x="1390" y="954"/>
                  </a:lnTo>
                  <a:lnTo>
                    <a:pt x="1385" y="959"/>
                  </a:lnTo>
                  <a:lnTo>
                    <a:pt x="1385" y="959"/>
                  </a:lnTo>
                  <a:lnTo>
                    <a:pt x="1390" y="964"/>
                  </a:lnTo>
                  <a:lnTo>
                    <a:pt x="1400" y="969"/>
                  </a:lnTo>
                  <a:lnTo>
                    <a:pt x="1405" y="974"/>
                  </a:lnTo>
                  <a:lnTo>
                    <a:pt x="1415" y="979"/>
                  </a:lnTo>
                  <a:lnTo>
                    <a:pt x="1419" y="984"/>
                  </a:lnTo>
                  <a:lnTo>
                    <a:pt x="1424" y="989"/>
                  </a:lnTo>
                  <a:lnTo>
                    <a:pt x="1429" y="994"/>
                  </a:lnTo>
                  <a:lnTo>
                    <a:pt x="1434" y="999"/>
                  </a:lnTo>
                  <a:lnTo>
                    <a:pt x="1439" y="1004"/>
                  </a:lnTo>
                  <a:lnTo>
                    <a:pt x="1444" y="1004"/>
                  </a:lnTo>
                  <a:lnTo>
                    <a:pt x="1449" y="1009"/>
                  </a:lnTo>
                  <a:lnTo>
                    <a:pt x="1454" y="1019"/>
                  </a:lnTo>
                  <a:lnTo>
                    <a:pt x="1454" y="1023"/>
                  </a:lnTo>
                  <a:lnTo>
                    <a:pt x="1459" y="1028"/>
                  </a:lnTo>
                  <a:lnTo>
                    <a:pt x="1464" y="1033"/>
                  </a:lnTo>
                  <a:lnTo>
                    <a:pt x="1469" y="1038"/>
                  </a:lnTo>
                  <a:lnTo>
                    <a:pt x="1474" y="1043"/>
                  </a:lnTo>
                  <a:lnTo>
                    <a:pt x="1474" y="1048"/>
                  </a:lnTo>
                  <a:lnTo>
                    <a:pt x="1474" y="1053"/>
                  </a:lnTo>
                  <a:lnTo>
                    <a:pt x="1474" y="1063"/>
                  </a:lnTo>
                  <a:lnTo>
                    <a:pt x="1474" y="1068"/>
                  </a:lnTo>
                  <a:lnTo>
                    <a:pt x="1479" y="1068"/>
                  </a:lnTo>
                  <a:lnTo>
                    <a:pt x="1489" y="1073"/>
                  </a:lnTo>
                  <a:lnTo>
                    <a:pt x="1494" y="1078"/>
                  </a:lnTo>
                  <a:lnTo>
                    <a:pt x="1504" y="1083"/>
                  </a:lnTo>
                  <a:lnTo>
                    <a:pt x="1508" y="1088"/>
                  </a:lnTo>
                  <a:lnTo>
                    <a:pt x="1513" y="1093"/>
                  </a:lnTo>
                  <a:lnTo>
                    <a:pt x="1518" y="1093"/>
                  </a:lnTo>
                  <a:lnTo>
                    <a:pt x="1523" y="1093"/>
                  </a:lnTo>
                  <a:lnTo>
                    <a:pt x="1523" y="1088"/>
                  </a:lnTo>
                  <a:lnTo>
                    <a:pt x="1528" y="1078"/>
                  </a:lnTo>
                  <a:lnTo>
                    <a:pt x="1528" y="1068"/>
                  </a:lnTo>
                  <a:close/>
                  <a:moveTo>
                    <a:pt x="1449" y="1043"/>
                  </a:moveTo>
                  <a:lnTo>
                    <a:pt x="1444" y="1038"/>
                  </a:lnTo>
                  <a:lnTo>
                    <a:pt x="1439" y="1038"/>
                  </a:lnTo>
                  <a:lnTo>
                    <a:pt x="1434" y="1038"/>
                  </a:lnTo>
                  <a:lnTo>
                    <a:pt x="1424" y="1038"/>
                  </a:lnTo>
                  <a:lnTo>
                    <a:pt x="1424" y="1043"/>
                  </a:lnTo>
                  <a:lnTo>
                    <a:pt x="1424" y="1043"/>
                  </a:lnTo>
                  <a:lnTo>
                    <a:pt x="1424" y="1048"/>
                  </a:lnTo>
                  <a:lnTo>
                    <a:pt x="1429" y="1053"/>
                  </a:lnTo>
                  <a:lnTo>
                    <a:pt x="1434" y="1053"/>
                  </a:lnTo>
                  <a:lnTo>
                    <a:pt x="1439" y="1058"/>
                  </a:lnTo>
                  <a:lnTo>
                    <a:pt x="1439" y="1053"/>
                  </a:lnTo>
                  <a:lnTo>
                    <a:pt x="1444" y="1053"/>
                  </a:lnTo>
                  <a:lnTo>
                    <a:pt x="1444" y="1048"/>
                  </a:lnTo>
                  <a:lnTo>
                    <a:pt x="1449" y="1043"/>
                  </a:lnTo>
                  <a:close/>
                  <a:moveTo>
                    <a:pt x="1415" y="1014"/>
                  </a:moveTo>
                  <a:lnTo>
                    <a:pt x="1415" y="1009"/>
                  </a:lnTo>
                  <a:lnTo>
                    <a:pt x="1410" y="1009"/>
                  </a:lnTo>
                  <a:lnTo>
                    <a:pt x="1405" y="1009"/>
                  </a:lnTo>
                  <a:lnTo>
                    <a:pt x="1400" y="1009"/>
                  </a:lnTo>
                  <a:lnTo>
                    <a:pt x="1395" y="1014"/>
                  </a:lnTo>
                  <a:lnTo>
                    <a:pt x="1395" y="1019"/>
                  </a:lnTo>
                  <a:lnTo>
                    <a:pt x="1395" y="1023"/>
                  </a:lnTo>
                  <a:lnTo>
                    <a:pt x="1400" y="1028"/>
                  </a:lnTo>
                  <a:lnTo>
                    <a:pt x="1405" y="1033"/>
                  </a:lnTo>
                  <a:lnTo>
                    <a:pt x="1410" y="1033"/>
                  </a:lnTo>
                  <a:lnTo>
                    <a:pt x="1415" y="1033"/>
                  </a:lnTo>
                  <a:lnTo>
                    <a:pt x="1415" y="1028"/>
                  </a:lnTo>
                  <a:lnTo>
                    <a:pt x="1415" y="1023"/>
                  </a:lnTo>
                  <a:lnTo>
                    <a:pt x="1415" y="1014"/>
                  </a:lnTo>
                  <a:close/>
                  <a:moveTo>
                    <a:pt x="2354" y="855"/>
                  </a:moveTo>
                  <a:lnTo>
                    <a:pt x="2359" y="850"/>
                  </a:lnTo>
                  <a:lnTo>
                    <a:pt x="2359" y="846"/>
                  </a:lnTo>
                  <a:lnTo>
                    <a:pt x="2364" y="846"/>
                  </a:lnTo>
                  <a:lnTo>
                    <a:pt x="2364" y="846"/>
                  </a:lnTo>
                  <a:lnTo>
                    <a:pt x="2369" y="846"/>
                  </a:lnTo>
                  <a:lnTo>
                    <a:pt x="2369" y="846"/>
                  </a:lnTo>
                  <a:lnTo>
                    <a:pt x="2369" y="850"/>
                  </a:lnTo>
                  <a:lnTo>
                    <a:pt x="2374" y="855"/>
                  </a:lnTo>
                  <a:lnTo>
                    <a:pt x="2369" y="855"/>
                  </a:lnTo>
                  <a:lnTo>
                    <a:pt x="2369" y="860"/>
                  </a:lnTo>
                  <a:lnTo>
                    <a:pt x="2364" y="860"/>
                  </a:lnTo>
                  <a:lnTo>
                    <a:pt x="2364" y="860"/>
                  </a:lnTo>
                  <a:lnTo>
                    <a:pt x="2359" y="855"/>
                  </a:lnTo>
                  <a:lnTo>
                    <a:pt x="2354" y="855"/>
                  </a:lnTo>
                  <a:close/>
                  <a:moveTo>
                    <a:pt x="2196" y="747"/>
                  </a:moveTo>
                  <a:lnTo>
                    <a:pt x="2201" y="747"/>
                  </a:lnTo>
                  <a:lnTo>
                    <a:pt x="2201" y="747"/>
                  </a:lnTo>
                  <a:lnTo>
                    <a:pt x="2206" y="742"/>
                  </a:lnTo>
                  <a:lnTo>
                    <a:pt x="2206" y="742"/>
                  </a:lnTo>
                  <a:lnTo>
                    <a:pt x="2206" y="747"/>
                  </a:lnTo>
                  <a:lnTo>
                    <a:pt x="2211" y="747"/>
                  </a:lnTo>
                  <a:lnTo>
                    <a:pt x="2211" y="747"/>
                  </a:lnTo>
                  <a:lnTo>
                    <a:pt x="2211" y="752"/>
                  </a:lnTo>
                  <a:lnTo>
                    <a:pt x="2206" y="752"/>
                  </a:lnTo>
                  <a:lnTo>
                    <a:pt x="2206" y="752"/>
                  </a:lnTo>
                  <a:lnTo>
                    <a:pt x="2206" y="752"/>
                  </a:lnTo>
                  <a:lnTo>
                    <a:pt x="2201" y="752"/>
                  </a:lnTo>
                  <a:lnTo>
                    <a:pt x="2201" y="752"/>
                  </a:lnTo>
                  <a:lnTo>
                    <a:pt x="2196" y="747"/>
                  </a:lnTo>
                  <a:close/>
                  <a:moveTo>
                    <a:pt x="297" y="643"/>
                  </a:moveTo>
                  <a:lnTo>
                    <a:pt x="297" y="633"/>
                  </a:lnTo>
                  <a:lnTo>
                    <a:pt x="302" y="628"/>
                  </a:lnTo>
                  <a:lnTo>
                    <a:pt x="302" y="623"/>
                  </a:lnTo>
                  <a:lnTo>
                    <a:pt x="307" y="618"/>
                  </a:lnTo>
                  <a:lnTo>
                    <a:pt x="307" y="613"/>
                  </a:lnTo>
                  <a:lnTo>
                    <a:pt x="307" y="608"/>
                  </a:lnTo>
                  <a:lnTo>
                    <a:pt x="312" y="598"/>
                  </a:lnTo>
                  <a:lnTo>
                    <a:pt x="317" y="593"/>
                  </a:lnTo>
                  <a:lnTo>
                    <a:pt x="322" y="593"/>
                  </a:lnTo>
                  <a:lnTo>
                    <a:pt x="327" y="589"/>
                  </a:lnTo>
                  <a:lnTo>
                    <a:pt x="336" y="589"/>
                  </a:lnTo>
                  <a:lnTo>
                    <a:pt x="346" y="593"/>
                  </a:lnTo>
                  <a:lnTo>
                    <a:pt x="356" y="593"/>
                  </a:lnTo>
                  <a:lnTo>
                    <a:pt x="366" y="598"/>
                  </a:lnTo>
                  <a:lnTo>
                    <a:pt x="371" y="598"/>
                  </a:lnTo>
                  <a:lnTo>
                    <a:pt x="381" y="603"/>
                  </a:lnTo>
                  <a:lnTo>
                    <a:pt x="386" y="608"/>
                  </a:lnTo>
                  <a:lnTo>
                    <a:pt x="391" y="613"/>
                  </a:lnTo>
                  <a:lnTo>
                    <a:pt x="396" y="618"/>
                  </a:lnTo>
                  <a:lnTo>
                    <a:pt x="401" y="623"/>
                  </a:lnTo>
                  <a:lnTo>
                    <a:pt x="406" y="618"/>
                  </a:lnTo>
                  <a:lnTo>
                    <a:pt x="416" y="613"/>
                  </a:lnTo>
                  <a:lnTo>
                    <a:pt x="420" y="613"/>
                  </a:lnTo>
                  <a:lnTo>
                    <a:pt x="430" y="608"/>
                  </a:lnTo>
                  <a:lnTo>
                    <a:pt x="440" y="608"/>
                  </a:lnTo>
                  <a:lnTo>
                    <a:pt x="450" y="603"/>
                  </a:lnTo>
                  <a:lnTo>
                    <a:pt x="455" y="598"/>
                  </a:lnTo>
                  <a:lnTo>
                    <a:pt x="455" y="593"/>
                  </a:lnTo>
                  <a:lnTo>
                    <a:pt x="460" y="589"/>
                  </a:lnTo>
                  <a:lnTo>
                    <a:pt x="460" y="584"/>
                  </a:lnTo>
                  <a:lnTo>
                    <a:pt x="460" y="579"/>
                  </a:lnTo>
                  <a:lnTo>
                    <a:pt x="460" y="569"/>
                  </a:lnTo>
                  <a:lnTo>
                    <a:pt x="465" y="564"/>
                  </a:lnTo>
                  <a:lnTo>
                    <a:pt x="465" y="559"/>
                  </a:lnTo>
                  <a:lnTo>
                    <a:pt x="470" y="554"/>
                  </a:lnTo>
                  <a:lnTo>
                    <a:pt x="470" y="549"/>
                  </a:lnTo>
                  <a:lnTo>
                    <a:pt x="475" y="544"/>
                  </a:lnTo>
                  <a:lnTo>
                    <a:pt x="475" y="539"/>
                  </a:lnTo>
                  <a:lnTo>
                    <a:pt x="480" y="534"/>
                  </a:lnTo>
                  <a:lnTo>
                    <a:pt x="485" y="529"/>
                  </a:lnTo>
                  <a:lnTo>
                    <a:pt x="495" y="529"/>
                  </a:lnTo>
                  <a:lnTo>
                    <a:pt x="505" y="529"/>
                  </a:lnTo>
                  <a:lnTo>
                    <a:pt x="514" y="524"/>
                  </a:lnTo>
                  <a:lnTo>
                    <a:pt x="524" y="519"/>
                  </a:lnTo>
                  <a:lnTo>
                    <a:pt x="529" y="519"/>
                  </a:lnTo>
                  <a:lnTo>
                    <a:pt x="534" y="514"/>
                  </a:lnTo>
                  <a:lnTo>
                    <a:pt x="539" y="504"/>
                  </a:lnTo>
                  <a:lnTo>
                    <a:pt x="539" y="500"/>
                  </a:lnTo>
                  <a:lnTo>
                    <a:pt x="544" y="495"/>
                  </a:lnTo>
                  <a:lnTo>
                    <a:pt x="544" y="490"/>
                  </a:lnTo>
                  <a:lnTo>
                    <a:pt x="544" y="485"/>
                  </a:lnTo>
                  <a:lnTo>
                    <a:pt x="549" y="480"/>
                  </a:lnTo>
                  <a:lnTo>
                    <a:pt x="549" y="475"/>
                  </a:lnTo>
                  <a:lnTo>
                    <a:pt x="549" y="465"/>
                  </a:lnTo>
                  <a:lnTo>
                    <a:pt x="549" y="460"/>
                  </a:lnTo>
                  <a:lnTo>
                    <a:pt x="549" y="455"/>
                  </a:lnTo>
                  <a:lnTo>
                    <a:pt x="554" y="450"/>
                  </a:lnTo>
                  <a:lnTo>
                    <a:pt x="554" y="445"/>
                  </a:lnTo>
                  <a:lnTo>
                    <a:pt x="559" y="440"/>
                  </a:lnTo>
                  <a:lnTo>
                    <a:pt x="559" y="430"/>
                  </a:lnTo>
                  <a:lnTo>
                    <a:pt x="559" y="425"/>
                  </a:lnTo>
                  <a:lnTo>
                    <a:pt x="564" y="420"/>
                  </a:lnTo>
                  <a:lnTo>
                    <a:pt x="564" y="416"/>
                  </a:lnTo>
                  <a:lnTo>
                    <a:pt x="569" y="411"/>
                  </a:lnTo>
                  <a:lnTo>
                    <a:pt x="569" y="406"/>
                  </a:lnTo>
                  <a:lnTo>
                    <a:pt x="574" y="401"/>
                  </a:lnTo>
                  <a:lnTo>
                    <a:pt x="574" y="391"/>
                  </a:lnTo>
                  <a:lnTo>
                    <a:pt x="579" y="386"/>
                  </a:lnTo>
                  <a:lnTo>
                    <a:pt x="584" y="381"/>
                  </a:lnTo>
                  <a:lnTo>
                    <a:pt x="584" y="376"/>
                  </a:lnTo>
                  <a:lnTo>
                    <a:pt x="589" y="371"/>
                  </a:lnTo>
                  <a:lnTo>
                    <a:pt x="589" y="366"/>
                  </a:lnTo>
                  <a:lnTo>
                    <a:pt x="589" y="361"/>
                  </a:lnTo>
                  <a:lnTo>
                    <a:pt x="594" y="351"/>
                  </a:lnTo>
                  <a:lnTo>
                    <a:pt x="594" y="346"/>
                  </a:lnTo>
                  <a:lnTo>
                    <a:pt x="594" y="341"/>
                  </a:lnTo>
                  <a:lnTo>
                    <a:pt x="599" y="336"/>
                  </a:lnTo>
                  <a:lnTo>
                    <a:pt x="599" y="331"/>
                  </a:lnTo>
                  <a:lnTo>
                    <a:pt x="603" y="327"/>
                  </a:lnTo>
                  <a:lnTo>
                    <a:pt x="608" y="322"/>
                  </a:lnTo>
                  <a:lnTo>
                    <a:pt x="608" y="317"/>
                  </a:lnTo>
                  <a:lnTo>
                    <a:pt x="613" y="307"/>
                  </a:lnTo>
                  <a:lnTo>
                    <a:pt x="613" y="302"/>
                  </a:lnTo>
                  <a:lnTo>
                    <a:pt x="618" y="297"/>
                  </a:lnTo>
                  <a:lnTo>
                    <a:pt x="618" y="292"/>
                  </a:lnTo>
                  <a:lnTo>
                    <a:pt x="623" y="287"/>
                  </a:lnTo>
                  <a:lnTo>
                    <a:pt x="623" y="282"/>
                  </a:lnTo>
                  <a:lnTo>
                    <a:pt x="623" y="277"/>
                  </a:lnTo>
                  <a:lnTo>
                    <a:pt x="628" y="267"/>
                  </a:lnTo>
                  <a:lnTo>
                    <a:pt x="628" y="262"/>
                  </a:lnTo>
                  <a:lnTo>
                    <a:pt x="628" y="257"/>
                  </a:lnTo>
                  <a:lnTo>
                    <a:pt x="633" y="252"/>
                  </a:lnTo>
                  <a:lnTo>
                    <a:pt x="638" y="247"/>
                  </a:lnTo>
                  <a:lnTo>
                    <a:pt x="643" y="243"/>
                  </a:lnTo>
                  <a:lnTo>
                    <a:pt x="648" y="238"/>
                  </a:lnTo>
                  <a:lnTo>
                    <a:pt x="653" y="233"/>
                  </a:lnTo>
                  <a:lnTo>
                    <a:pt x="653" y="228"/>
                  </a:lnTo>
                  <a:lnTo>
                    <a:pt x="658" y="223"/>
                  </a:lnTo>
                  <a:lnTo>
                    <a:pt x="658" y="213"/>
                  </a:lnTo>
                  <a:lnTo>
                    <a:pt x="658" y="208"/>
                  </a:lnTo>
                  <a:lnTo>
                    <a:pt x="663" y="203"/>
                  </a:lnTo>
                  <a:lnTo>
                    <a:pt x="663" y="198"/>
                  </a:lnTo>
                  <a:lnTo>
                    <a:pt x="668" y="193"/>
                  </a:lnTo>
                  <a:lnTo>
                    <a:pt x="673" y="188"/>
                  </a:lnTo>
                  <a:lnTo>
                    <a:pt x="683" y="183"/>
                  </a:lnTo>
                  <a:lnTo>
                    <a:pt x="688" y="178"/>
                  </a:lnTo>
                  <a:lnTo>
                    <a:pt x="692" y="173"/>
                  </a:lnTo>
                  <a:lnTo>
                    <a:pt x="697" y="173"/>
                  </a:lnTo>
                  <a:lnTo>
                    <a:pt x="707" y="168"/>
                  </a:lnTo>
                  <a:lnTo>
                    <a:pt x="712" y="163"/>
                  </a:lnTo>
                  <a:lnTo>
                    <a:pt x="717" y="159"/>
                  </a:lnTo>
                  <a:lnTo>
                    <a:pt x="727" y="154"/>
                  </a:lnTo>
                  <a:lnTo>
                    <a:pt x="737" y="149"/>
                  </a:lnTo>
                  <a:lnTo>
                    <a:pt x="742" y="154"/>
                  </a:lnTo>
                  <a:lnTo>
                    <a:pt x="747" y="154"/>
                  </a:lnTo>
                  <a:lnTo>
                    <a:pt x="752" y="163"/>
                  </a:lnTo>
                  <a:lnTo>
                    <a:pt x="757" y="168"/>
                  </a:lnTo>
                  <a:lnTo>
                    <a:pt x="762" y="168"/>
                  </a:lnTo>
                  <a:lnTo>
                    <a:pt x="772" y="173"/>
                  </a:lnTo>
                  <a:lnTo>
                    <a:pt x="777" y="178"/>
                  </a:lnTo>
                  <a:lnTo>
                    <a:pt x="781" y="183"/>
                  </a:lnTo>
                  <a:lnTo>
                    <a:pt x="786" y="188"/>
                  </a:lnTo>
                  <a:lnTo>
                    <a:pt x="791" y="193"/>
                  </a:lnTo>
                  <a:lnTo>
                    <a:pt x="796" y="198"/>
                  </a:lnTo>
                  <a:lnTo>
                    <a:pt x="801" y="203"/>
                  </a:lnTo>
                  <a:lnTo>
                    <a:pt x="806" y="208"/>
                  </a:lnTo>
                  <a:lnTo>
                    <a:pt x="811" y="213"/>
                  </a:lnTo>
                  <a:lnTo>
                    <a:pt x="816" y="218"/>
                  </a:lnTo>
                  <a:lnTo>
                    <a:pt x="816" y="228"/>
                  </a:lnTo>
                  <a:lnTo>
                    <a:pt x="821" y="233"/>
                  </a:lnTo>
                  <a:lnTo>
                    <a:pt x="826" y="233"/>
                  </a:lnTo>
                  <a:lnTo>
                    <a:pt x="831" y="233"/>
                  </a:lnTo>
                  <a:lnTo>
                    <a:pt x="836" y="228"/>
                  </a:lnTo>
                  <a:lnTo>
                    <a:pt x="846" y="223"/>
                  </a:lnTo>
                  <a:lnTo>
                    <a:pt x="851" y="218"/>
                  </a:lnTo>
                  <a:lnTo>
                    <a:pt x="861" y="213"/>
                  </a:lnTo>
                  <a:lnTo>
                    <a:pt x="866" y="208"/>
                  </a:lnTo>
                  <a:lnTo>
                    <a:pt x="871" y="203"/>
                  </a:lnTo>
                  <a:lnTo>
                    <a:pt x="875" y="198"/>
                  </a:lnTo>
                  <a:lnTo>
                    <a:pt x="885" y="198"/>
                  </a:lnTo>
                  <a:lnTo>
                    <a:pt x="890" y="193"/>
                  </a:lnTo>
                  <a:lnTo>
                    <a:pt x="900" y="193"/>
                  </a:lnTo>
                  <a:lnTo>
                    <a:pt x="905" y="188"/>
                  </a:lnTo>
                  <a:lnTo>
                    <a:pt x="910" y="183"/>
                  </a:lnTo>
                  <a:lnTo>
                    <a:pt x="915" y="178"/>
                  </a:lnTo>
                  <a:lnTo>
                    <a:pt x="915" y="168"/>
                  </a:lnTo>
                  <a:lnTo>
                    <a:pt x="910" y="163"/>
                  </a:lnTo>
                  <a:lnTo>
                    <a:pt x="905" y="159"/>
                  </a:lnTo>
                  <a:lnTo>
                    <a:pt x="895" y="159"/>
                  </a:lnTo>
                  <a:lnTo>
                    <a:pt x="885" y="154"/>
                  </a:lnTo>
                  <a:lnTo>
                    <a:pt x="880" y="154"/>
                  </a:lnTo>
                  <a:lnTo>
                    <a:pt x="875" y="149"/>
                  </a:lnTo>
                  <a:lnTo>
                    <a:pt x="871" y="144"/>
                  </a:lnTo>
                  <a:lnTo>
                    <a:pt x="871" y="139"/>
                  </a:lnTo>
                  <a:lnTo>
                    <a:pt x="871" y="134"/>
                  </a:lnTo>
                  <a:lnTo>
                    <a:pt x="866" y="124"/>
                  </a:lnTo>
                  <a:lnTo>
                    <a:pt x="861" y="119"/>
                  </a:lnTo>
                  <a:lnTo>
                    <a:pt x="856" y="114"/>
                  </a:lnTo>
                  <a:lnTo>
                    <a:pt x="856" y="109"/>
                  </a:lnTo>
                  <a:lnTo>
                    <a:pt x="856" y="104"/>
                  </a:lnTo>
                  <a:lnTo>
                    <a:pt x="861" y="99"/>
                  </a:lnTo>
                  <a:lnTo>
                    <a:pt x="866" y="94"/>
                  </a:lnTo>
                  <a:lnTo>
                    <a:pt x="875" y="94"/>
                  </a:lnTo>
                  <a:lnTo>
                    <a:pt x="885" y="89"/>
                  </a:lnTo>
                  <a:lnTo>
                    <a:pt x="890" y="84"/>
                  </a:lnTo>
                  <a:lnTo>
                    <a:pt x="895" y="79"/>
                  </a:lnTo>
                  <a:lnTo>
                    <a:pt x="895" y="74"/>
                  </a:lnTo>
                  <a:lnTo>
                    <a:pt x="895" y="70"/>
                  </a:lnTo>
                  <a:lnTo>
                    <a:pt x="895" y="65"/>
                  </a:lnTo>
                  <a:lnTo>
                    <a:pt x="890" y="55"/>
                  </a:lnTo>
                  <a:lnTo>
                    <a:pt x="885" y="50"/>
                  </a:lnTo>
                  <a:lnTo>
                    <a:pt x="880" y="45"/>
                  </a:lnTo>
                  <a:lnTo>
                    <a:pt x="875" y="40"/>
                  </a:lnTo>
                  <a:lnTo>
                    <a:pt x="871" y="35"/>
                  </a:lnTo>
                  <a:lnTo>
                    <a:pt x="866" y="30"/>
                  </a:lnTo>
                  <a:lnTo>
                    <a:pt x="856" y="30"/>
                  </a:lnTo>
                  <a:lnTo>
                    <a:pt x="851" y="25"/>
                  </a:lnTo>
                  <a:lnTo>
                    <a:pt x="846" y="20"/>
                  </a:lnTo>
                  <a:lnTo>
                    <a:pt x="841" y="15"/>
                  </a:lnTo>
                  <a:lnTo>
                    <a:pt x="836" y="10"/>
                  </a:lnTo>
                  <a:lnTo>
                    <a:pt x="831" y="5"/>
                  </a:lnTo>
                  <a:lnTo>
                    <a:pt x="826" y="0"/>
                  </a:lnTo>
                  <a:lnTo>
                    <a:pt x="826" y="0"/>
                  </a:lnTo>
                  <a:lnTo>
                    <a:pt x="796" y="0"/>
                  </a:lnTo>
                  <a:lnTo>
                    <a:pt x="772" y="0"/>
                  </a:lnTo>
                  <a:lnTo>
                    <a:pt x="742" y="0"/>
                  </a:lnTo>
                  <a:lnTo>
                    <a:pt x="717" y="0"/>
                  </a:lnTo>
                  <a:lnTo>
                    <a:pt x="692" y="0"/>
                  </a:lnTo>
                  <a:lnTo>
                    <a:pt x="663" y="0"/>
                  </a:lnTo>
                  <a:lnTo>
                    <a:pt x="638" y="0"/>
                  </a:lnTo>
                  <a:lnTo>
                    <a:pt x="613" y="0"/>
                  </a:lnTo>
                  <a:lnTo>
                    <a:pt x="584" y="25"/>
                  </a:lnTo>
                  <a:lnTo>
                    <a:pt x="559" y="55"/>
                  </a:lnTo>
                  <a:lnTo>
                    <a:pt x="529" y="79"/>
                  </a:lnTo>
                  <a:lnTo>
                    <a:pt x="505" y="104"/>
                  </a:lnTo>
                  <a:lnTo>
                    <a:pt x="490" y="119"/>
                  </a:lnTo>
                  <a:lnTo>
                    <a:pt x="490" y="124"/>
                  </a:lnTo>
                  <a:lnTo>
                    <a:pt x="485" y="129"/>
                  </a:lnTo>
                  <a:lnTo>
                    <a:pt x="480" y="139"/>
                  </a:lnTo>
                  <a:lnTo>
                    <a:pt x="480" y="144"/>
                  </a:lnTo>
                  <a:lnTo>
                    <a:pt x="475" y="149"/>
                  </a:lnTo>
                  <a:lnTo>
                    <a:pt x="470" y="154"/>
                  </a:lnTo>
                  <a:lnTo>
                    <a:pt x="470" y="159"/>
                  </a:lnTo>
                  <a:lnTo>
                    <a:pt x="465" y="168"/>
                  </a:lnTo>
                  <a:lnTo>
                    <a:pt x="460" y="173"/>
                  </a:lnTo>
                  <a:lnTo>
                    <a:pt x="455" y="178"/>
                  </a:lnTo>
                  <a:lnTo>
                    <a:pt x="450" y="183"/>
                  </a:lnTo>
                  <a:lnTo>
                    <a:pt x="445" y="188"/>
                  </a:lnTo>
                  <a:lnTo>
                    <a:pt x="440" y="193"/>
                  </a:lnTo>
                  <a:lnTo>
                    <a:pt x="435" y="198"/>
                  </a:lnTo>
                  <a:lnTo>
                    <a:pt x="430" y="203"/>
                  </a:lnTo>
                  <a:lnTo>
                    <a:pt x="430" y="213"/>
                  </a:lnTo>
                  <a:lnTo>
                    <a:pt x="430" y="218"/>
                  </a:lnTo>
                  <a:lnTo>
                    <a:pt x="435" y="223"/>
                  </a:lnTo>
                  <a:lnTo>
                    <a:pt x="440" y="233"/>
                  </a:lnTo>
                  <a:lnTo>
                    <a:pt x="445" y="233"/>
                  </a:lnTo>
                  <a:lnTo>
                    <a:pt x="455" y="238"/>
                  </a:lnTo>
                  <a:lnTo>
                    <a:pt x="460" y="233"/>
                  </a:lnTo>
                  <a:lnTo>
                    <a:pt x="465" y="228"/>
                  </a:lnTo>
                  <a:lnTo>
                    <a:pt x="470" y="223"/>
                  </a:lnTo>
                  <a:lnTo>
                    <a:pt x="475" y="213"/>
                  </a:lnTo>
                  <a:lnTo>
                    <a:pt x="475" y="208"/>
                  </a:lnTo>
                  <a:lnTo>
                    <a:pt x="480" y="208"/>
                  </a:lnTo>
                  <a:lnTo>
                    <a:pt x="485" y="213"/>
                  </a:lnTo>
                  <a:lnTo>
                    <a:pt x="480" y="223"/>
                  </a:lnTo>
                  <a:lnTo>
                    <a:pt x="475" y="228"/>
                  </a:lnTo>
                  <a:lnTo>
                    <a:pt x="465" y="228"/>
                  </a:lnTo>
                  <a:lnTo>
                    <a:pt x="460" y="238"/>
                  </a:lnTo>
                  <a:lnTo>
                    <a:pt x="460" y="243"/>
                  </a:lnTo>
                  <a:lnTo>
                    <a:pt x="455" y="247"/>
                  </a:lnTo>
                  <a:lnTo>
                    <a:pt x="455" y="252"/>
                  </a:lnTo>
                  <a:lnTo>
                    <a:pt x="455" y="262"/>
                  </a:lnTo>
                  <a:lnTo>
                    <a:pt x="455" y="267"/>
                  </a:lnTo>
                  <a:lnTo>
                    <a:pt x="450" y="272"/>
                  </a:lnTo>
                  <a:lnTo>
                    <a:pt x="445" y="277"/>
                  </a:lnTo>
                  <a:lnTo>
                    <a:pt x="445" y="282"/>
                  </a:lnTo>
                  <a:lnTo>
                    <a:pt x="440" y="292"/>
                  </a:lnTo>
                  <a:lnTo>
                    <a:pt x="440" y="297"/>
                  </a:lnTo>
                  <a:lnTo>
                    <a:pt x="435" y="302"/>
                  </a:lnTo>
                  <a:lnTo>
                    <a:pt x="435" y="307"/>
                  </a:lnTo>
                  <a:lnTo>
                    <a:pt x="430" y="312"/>
                  </a:lnTo>
                  <a:lnTo>
                    <a:pt x="425" y="322"/>
                  </a:lnTo>
                  <a:lnTo>
                    <a:pt x="420" y="327"/>
                  </a:lnTo>
                  <a:lnTo>
                    <a:pt x="420" y="331"/>
                  </a:lnTo>
                  <a:lnTo>
                    <a:pt x="420" y="336"/>
                  </a:lnTo>
                  <a:lnTo>
                    <a:pt x="416" y="346"/>
                  </a:lnTo>
                  <a:lnTo>
                    <a:pt x="416" y="351"/>
                  </a:lnTo>
                  <a:lnTo>
                    <a:pt x="411" y="356"/>
                  </a:lnTo>
                  <a:lnTo>
                    <a:pt x="406" y="361"/>
                  </a:lnTo>
                  <a:lnTo>
                    <a:pt x="401" y="366"/>
                  </a:lnTo>
                  <a:lnTo>
                    <a:pt x="401" y="376"/>
                  </a:lnTo>
                  <a:lnTo>
                    <a:pt x="401" y="381"/>
                  </a:lnTo>
                  <a:lnTo>
                    <a:pt x="406" y="391"/>
                  </a:lnTo>
                  <a:lnTo>
                    <a:pt x="411" y="396"/>
                  </a:lnTo>
                  <a:lnTo>
                    <a:pt x="420" y="401"/>
                  </a:lnTo>
                  <a:lnTo>
                    <a:pt x="425" y="396"/>
                  </a:lnTo>
                  <a:lnTo>
                    <a:pt x="435" y="391"/>
                  </a:lnTo>
                  <a:lnTo>
                    <a:pt x="440" y="386"/>
                  </a:lnTo>
                  <a:lnTo>
                    <a:pt x="445" y="381"/>
                  </a:lnTo>
                  <a:lnTo>
                    <a:pt x="450" y="376"/>
                  </a:lnTo>
                  <a:lnTo>
                    <a:pt x="455" y="376"/>
                  </a:lnTo>
                  <a:lnTo>
                    <a:pt x="455" y="386"/>
                  </a:lnTo>
                  <a:lnTo>
                    <a:pt x="455" y="391"/>
                  </a:lnTo>
                  <a:lnTo>
                    <a:pt x="455" y="401"/>
                  </a:lnTo>
                  <a:lnTo>
                    <a:pt x="455" y="406"/>
                  </a:lnTo>
                  <a:lnTo>
                    <a:pt x="450" y="416"/>
                  </a:lnTo>
                  <a:lnTo>
                    <a:pt x="450" y="420"/>
                  </a:lnTo>
                  <a:lnTo>
                    <a:pt x="445" y="425"/>
                  </a:lnTo>
                  <a:lnTo>
                    <a:pt x="440" y="430"/>
                  </a:lnTo>
                  <a:lnTo>
                    <a:pt x="440" y="435"/>
                  </a:lnTo>
                  <a:lnTo>
                    <a:pt x="435" y="440"/>
                  </a:lnTo>
                  <a:lnTo>
                    <a:pt x="435" y="450"/>
                  </a:lnTo>
                  <a:lnTo>
                    <a:pt x="430" y="455"/>
                  </a:lnTo>
                  <a:lnTo>
                    <a:pt x="430" y="465"/>
                  </a:lnTo>
                  <a:lnTo>
                    <a:pt x="425" y="470"/>
                  </a:lnTo>
                  <a:lnTo>
                    <a:pt x="420" y="470"/>
                  </a:lnTo>
                  <a:lnTo>
                    <a:pt x="416" y="465"/>
                  </a:lnTo>
                  <a:lnTo>
                    <a:pt x="406" y="460"/>
                  </a:lnTo>
                  <a:lnTo>
                    <a:pt x="401" y="455"/>
                  </a:lnTo>
                  <a:lnTo>
                    <a:pt x="396" y="445"/>
                  </a:lnTo>
                  <a:lnTo>
                    <a:pt x="396" y="440"/>
                  </a:lnTo>
                  <a:lnTo>
                    <a:pt x="401" y="435"/>
                  </a:lnTo>
                  <a:lnTo>
                    <a:pt x="406" y="430"/>
                  </a:lnTo>
                  <a:lnTo>
                    <a:pt x="411" y="420"/>
                  </a:lnTo>
                  <a:lnTo>
                    <a:pt x="416" y="416"/>
                  </a:lnTo>
                  <a:lnTo>
                    <a:pt x="420" y="411"/>
                  </a:lnTo>
                  <a:lnTo>
                    <a:pt x="420" y="406"/>
                  </a:lnTo>
                  <a:lnTo>
                    <a:pt x="420" y="401"/>
                  </a:lnTo>
                  <a:lnTo>
                    <a:pt x="420" y="391"/>
                  </a:lnTo>
                  <a:lnTo>
                    <a:pt x="416" y="386"/>
                  </a:lnTo>
                  <a:lnTo>
                    <a:pt x="406" y="381"/>
                  </a:lnTo>
                  <a:lnTo>
                    <a:pt x="401" y="376"/>
                  </a:lnTo>
                  <a:lnTo>
                    <a:pt x="396" y="376"/>
                  </a:lnTo>
                  <a:lnTo>
                    <a:pt x="391" y="381"/>
                  </a:lnTo>
                  <a:lnTo>
                    <a:pt x="391" y="391"/>
                  </a:lnTo>
                  <a:lnTo>
                    <a:pt x="391" y="396"/>
                  </a:lnTo>
                  <a:lnTo>
                    <a:pt x="386" y="406"/>
                  </a:lnTo>
                  <a:lnTo>
                    <a:pt x="386" y="411"/>
                  </a:lnTo>
                  <a:lnTo>
                    <a:pt x="386" y="420"/>
                  </a:lnTo>
                  <a:lnTo>
                    <a:pt x="381" y="425"/>
                  </a:lnTo>
                  <a:lnTo>
                    <a:pt x="376" y="425"/>
                  </a:lnTo>
                  <a:lnTo>
                    <a:pt x="366" y="430"/>
                  </a:lnTo>
                  <a:lnTo>
                    <a:pt x="361" y="435"/>
                  </a:lnTo>
                  <a:lnTo>
                    <a:pt x="361" y="445"/>
                  </a:lnTo>
                  <a:lnTo>
                    <a:pt x="361" y="450"/>
                  </a:lnTo>
                  <a:lnTo>
                    <a:pt x="356" y="455"/>
                  </a:lnTo>
                  <a:lnTo>
                    <a:pt x="351" y="460"/>
                  </a:lnTo>
                  <a:lnTo>
                    <a:pt x="346" y="465"/>
                  </a:lnTo>
                  <a:lnTo>
                    <a:pt x="341" y="470"/>
                  </a:lnTo>
                  <a:lnTo>
                    <a:pt x="336" y="475"/>
                  </a:lnTo>
                  <a:lnTo>
                    <a:pt x="327" y="480"/>
                  </a:lnTo>
                  <a:lnTo>
                    <a:pt x="322" y="485"/>
                  </a:lnTo>
                  <a:lnTo>
                    <a:pt x="317" y="490"/>
                  </a:lnTo>
                  <a:lnTo>
                    <a:pt x="307" y="500"/>
                  </a:lnTo>
                  <a:lnTo>
                    <a:pt x="302" y="504"/>
                  </a:lnTo>
                  <a:lnTo>
                    <a:pt x="297" y="504"/>
                  </a:lnTo>
                  <a:lnTo>
                    <a:pt x="287" y="504"/>
                  </a:lnTo>
                  <a:lnTo>
                    <a:pt x="282" y="500"/>
                  </a:lnTo>
                  <a:lnTo>
                    <a:pt x="277" y="495"/>
                  </a:lnTo>
                  <a:lnTo>
                    <a:pt x="272" y="490"/>
                  </a:lnTo>
                  <a:lnTo>
                    <a:pt x="262" y="485"/>
                  </a:lnTo>
                  <a:lnTo>
                    <a:pt x="257" y="485"/>
                  </a:lnTo>
                  <a:lnTo>
                    <a:pt x="247" y="490"/>
                  </a:lnTo>
                  <a:lnTo>
                    <a:pt x="237" y="495"/>
                  </a:lnTo>
                  <a:lnTo>
                    <a:pt x="233" y="500"/>
                  </a:lnTo>
                  <a:lnTo>
                    <a:pt x="228" y="504"/>
                  </a:lnTo>
                  <a:lnTo>
                    <a:pt x="228" y="509"/>
                  </a:lnTo>
                  <a:lnTo>
                    <a:pt x="218" y="514"/>
                  </a:lnTo>
                  <a:lnTo>
                    <a:pt x="213" y="519"/>
                  </a:lnTo>
                  <a:lnTo>
                    <a:pt x="203" y="524"/>
                  </a:lnTo>
                  <a:lnTo>
                    <a:pt x="193" y="524"/>
                  </a:lnTo>
                  <a:lnTo>
                    <a:pt x="188" y="529"/>
                  </a:lnTo>
                  <a:lnTo>
                    <a:pt x="183" y="534"/>
                  </a:lnTo>
                  <a:lnTo>
                    <a:pt x="178" y="539"/>
                  </a:lnTo>
                  <a:lnTo>
                    <a:pt x="173" y="549"/>
                  </a:lnTo>
                  <a:lnTo>
                    <a:pt x="168" y="549"/>
                  </a:lnTo>
                  <a:lnTo>
                    <a:pt x="158" y="554"/>
                  </a:lnTo>
                  <a:lnTo>
                    <a:pt x="148" y="549"/>
                  </a:lnTo>
                  <a:lnTo>
                    <a:pt x="139" y="549"/>
                  </a:lnTo>
                  <a:lnTo>
                    <a:pt x="134" y="544"/>
                  </a:lnTo>
                  <a:lnTo>
                    <a:pt x="129" y="534"/>
                  </a:lnTo>
                  <a:lnTo>
                    <a:pt x="124" y="529"/>
                  </a:lnTo>
                  <a:lnTo>
                    <a:pt x="114" y="529"/>
                  </a:lnTo>
                  <a:lnTo>
                    <a:pt x="104" y="524"/>
                  </a:lnTo>
                  <a:lnTo>
                    <a:pt x="94" y="524"/>
                  </a:lnTo>
                  <a:lnTo>
                    <a:pt x="84" y="524"/>
                  </a:lnTo>
                  <a:lnTo>
                    <a:pt x="79" y="524"/>
                  </a:lnTo>
                  <a:lnTo>
                    <a:pt x="69" y="519"/>
                  </a:lnTo>
                  <a:lnTo>
                    <a:pt x="64" y="514"/>
                  </a:lnTo>
                  <a:lnTo>
                    <a:pt x="59" y="509"/>
                  </a:lnTo>
                  <a:lnTo>
                    <a:pt x="55" y="504"/>
                  </a:lnTo>
                  <a:lnTo>
                    <a:pt x="55" y="504"/>
                  </a:lnTo>
                  <a:lnTo>
                    <a:pt x="45" y="504"/>
                  </a:lnTo>
                  <a:lnTo>
                    <a:pt x="40" y="509"/>
                  </a:lnTo>
                  <a:lnTo>
                    <a:pt x="35" y="514"/>
                  </a:lnTo>
                  <a:lnTo>
                    <a:pt x="30" y="519"/>
                  </a:lnTo>
                  <a:lnTo>
                    <a:pt x="25" y="519"/>
                  </a:lnTo>
                  <a:lnTo>
                    <a:pt x="20" y="524"/>
                  </a:lnTo>
                  <a:lnTo>
                    <a:pt x="20" y="529"/>
                  </a:lnTo>
                  <a:lnTo>
                    <a:pt x="15" y="534"/>
                  </a:lnTo>
                  <a:lnTo>
                    <a:pt x="15" y="539"/>
                  </a:lnTo>
                  <a:lnTo>
                    <a:pt x="20" y="544"/>
                  </a:lnTo>
                  <a:lnTo>
                    <a:pt x="25" y="549"/>
                  </a:lnTo>
                  <a:lnTo>
                    <a:pt x="30" y="554"/>
                  </a:lnTo>
                  <a:lnTo>
                    <a:pt x="35" y="554"/>
                  </a:lnTo>
                  <a:lnTo>
                    <a:pt x="45" y="559"/>
                  </a:lnTo>
                  <a:lnTo>
                    <a:pt x="50" y="559"/>
                  </a:lnTo>
                  <a:lnTo>
                    <a:pt x="55" y="564"/>
                  </a:lnTo>
                  <a:lnTo>
                    <a:pt x="59" y="564"/>
                  </a:lnTo>
                  <a:lnTo>
                    <a:pt x="69" y="564"/>
                  </a:lnTo>
                  <a:lnTo>
                    <a:pt x="74" y="569"/>
                  </a:lnTo>
                  <a:lnTo>
                    <a:pt x="84" y="569"/>
                  </a:lnTo>
                  <a:lnTo>
                    <a:pt x="89" y="569"/>
                  </a:lnTo>
                  <a:lnTo>
                    <a:pt x="99" y="569"/>
                  </a:lnTo>
                  <a:lnTo>
                    <a:pt x="104" y="569"/>
                  </a:lnTo>
                  <a:lnTo>
                    <a:pt x="114" y="574"/>
                  </a:lnTo>
                  <a:lnTo>
                    <a:pt x="119" y="574"/>
                  </a:lnTo>
                  <a:lnTo>
                    <a:pt x="129" y="574"/>
                  </a:lnTo>
                  <a:lnTo>
                    <a:pt x="134" y="579"/>
                  </a:lnTo>
                  <a:lnTo>
                    <a:pt x="139" y="584"/>
                  </a:lnTo>
                  <a:lnTo>
                    <a:pt x="139" y="589"/>
                  </a:lnTo>
                  <a:lnTo>
                    <a:pt x="148" y="589"/>
                  </a:lnTo>
                  <a:lnTo>
                    <a:pt x="153" y="593"/>
                  </a:lnTo>
                  <a:lnTo>
                    <a:pt x="163" y="593"/>
                  </a:lnTo>
                  <a:lnTo>
                    <a:pt x="168" y="593"/>
                  </a:lnTo>
                  <a:lnTo>
                    <a:pt x="178" y="593"/>
                  </a:lnTo>
                  <a:lnTo>
                    <a:pt x="183" y="593"/>
                  </a:lnTo>
                  <a:lnTo>
                    <a:pt x="193" y="593"/>
                  </a:lnTo>
                  <a:lnTo>
                    <a:pt x="198" y="593"/>
                  </a:lnTo>
                  <a:lnTo>
                    <a:pt x="208" y="593"/>
                  </a:lnTo>
                  <a:lnTo>
                    <a:pt x="213" y="593"/>
                  </a:lnTo>
                  <a:lnTo>
                    <a:pt x="223" y="593"/>
                  </a:lnTo>
                  <a:lnTo>
                    <a:pt x="228" y="593"/>
                  </a:lnTo>
                  <a:lnTo>
                    <a:pt x="237" y="593"/>
                  </a:lnTo>
                  <a:lnTo>
                    <a:pt x="242" y="593"/>
                  </a:lnTo>
                  <a:lnTo>
                    <a:pt x="247" y="593"/>
                  </a:lnTo>
                  <a:lnTo>
                    <a:pt x="252" y="598"/>
                  </a:lnTo>
                  <a:lnTo>
                    <a:pt x="257" y="603"/>
                  </a:lnTo>
                  <a:lnTo>
                    <a:pt x="262" y="608"/>
                  </a:lnTo>
                  <a:lnTo>
                    <a:pt x="262" y="613"/>
                  </a:lnTo>
                  <a:lnTo>
                    <a:pt x="262" y="618"/>
                  </a:lnTo>
                  <a:lnTo>
                    <a:pt x="262" y="623"/>
                  </a:lnTo>
                  <a:lnTo>
                    <a:pt x="262" y="628"/>
                  </a:lnTo>
                  <a:lnTo>
                    <a:pt x="262" y="633"/>
                  </a:lnTo>
                  <a:lnTo>
                    <a:pt x="267" y="638"/>
                  </a:lnTo>
                  <a:lnTo>
                    <a:pt x="272" y="638"/>
                  </a:lnTo>
                  <a:lnTo>
                    <a:pt x="282" y="643"/>
                  </a:lnTo>
                  <a:lnTo>
                    <a:pt x="287" y="643"/>
                  </a:lnTo>
                  <a:lnTo>
                    <a:pt x="297" y="643"/>
                  </a:lnTo>
                  <a:close/>
                  <a:moveTo>
                    <a:pt x="425" y="643"/>
                  </a:moveTo>
                  <a:lnTo>
                    <a:pt x="425" y="638"/>
                  </a:lnTo>
                  <a:lnTo>
                    <a:pt x="425" y="638"/>
                  </a:lnTo>
                  <a:lnTo>
                    <a:pt x="425" y="638"/>
                  </a:lnTo>
                  <a:lnTo>
                    <a:pt x="425" y="638"/>
                  </a:lnTo>
                  <a:lnTo>
                    <a:pt x="425" y="638"/>
                  </a:lnTo>
                  <a:lnTo>
                    <a:pt x="425" y="638"/>
                  </a:lnTo>
                  <a:lnTo>
                    <a:pt x="425" y="638"/>
                  </a:lnTo>
                  <a:lnTo>
                    <a:pt x="425" y="638"/>
                  </a:lnTo>
                  <a:lnTo>
                    <a:pt x="420" y="638"/>
                  </a:lnTo>
                  <a:lnTo>
                    <a:pt x="420" y="638"/>
                  </a:lnTo>
                  <a:lnTo>
                    <a:pt x="420" y="638"/>
                  </a:lnTo>
                  <a:lnTo>
                    <a:pt x="425" y="643"/>
                  </a:lnTo>
                  <a:lnTo>
                    <a:pt x="425" y="643"/>
                  </a:lnTo>
                  <a:lnTo>
                    <a:pt x="425" y="643"/>
                  </a:lnTo>
                  <a:close/>
                  <a:moveTo>
                    <a:pt x="1865" y="613"/>
                  </a:moveTo>
                  <a:lnTo>
                    <a:pt x="1870" y="608"/>
                  </a:lnTo>
                  <a:lnTo>
                    <a:pt x="1874" y="603"/>
                  </a:lnTo>
                  <a:lnTo>
                    <a:pt x="1874" y="598"/>
                  </a:lnTo>
                  <a:lnTo>
                    <a:pt x="1874" y="593"/>
                  </a:lnTo>
                  <a:lnTo>
                    <a:pt x="1874" y="589"/>
                  </a:lnTo>
                  <a:lnTo>
                    <a:pt x="1870" y="584"/>
                  </a:lnTo>
                  <a:lnTo>
                    <a:pt x="1870" y="574"/>
                  </a:lnTo>
                  <a:lnTo>
                    <a:pt x="1865" y="569"/>
                  </a:lnTo>
                  <a:lnTo>
                    <a:pt x="1860" y="574"/>
                  </a:lnTo>
                  <a:lnTo>
                    <a:pt x="1860" y="574"/>
                  </a:lnTo>
                  <a:lnTo>
                    <a:pt x="1860" y="584"/>
                  </a:lnTo>
                  <a:lnTo>
                    <a:pt x="1860" y="589"/>
                  </a:lnTo>
                  <a:lnTo>
                    <a:pt x="1860" y="593"/>
                  </a:lnTo>
                  <a:lnTo>
                    <a:pt x="1860" y="598"/>
                  </a:lnTo>
                  <a:lnTo>
                    <a:pt x="1860" y="603"/>
                  </a:lnTo>
                  <a:lnTo>
                    <a:pt x="1860" y="608"/>
                  </a:lnTo>
                  <a:lnTo>
                    <a:pt x="1860" y="618"/>
                  </a:lnTo>
                  <a:lnTo>
                    <a:pt x="1860" y="623"/>
                  </a:lnTo>
                  <a:lnTo>
                    <a:pt x="1865" y="623"/>
                  </a:lnTo>
                  <a:lnTo>
                    <a:pt x="1865" y="613"/>
                  </a:lnTo>
                  <a:close/>
                  <a:moveTo>
                    <a:pt x="15" y="559"/>
                  </a:moveTo>
                  <a:lnTo>
                    <a:pt x="0" y="554"/>
                  </a:lnTo>
                  <a:lnTo>
                    <a:pt x="0" y="559"/>
                  </a:lnTo>
                  <a:lnTo>
                    <a:pt x="0" y="579"/>
                  </a:lnTo>
                  <a:lnTo>
                    <a:pt x="15" y="559"/>
                  </a:lnTo>
                  <a:close/>
                  <a:moveTo>
                    <a:pt x="1088" y="534"/>
                  </a:moveTo>
                  <a:lnTo>
                    <a:pt x="1088" y="534"/>
                  </a:lnTo>
                  <a:lnTo>
                    <a:pt x="1088" y="534"/>
                  </a:lnTo>
                  <a:lnTo>
                    <a:pt x="1088" y="534"/>
                  </a:lnTo>
                  <a:lnTo>
                    <a:pt x="1088" y="534"/>
                  </a:lnTo>
                  <a:lnTo>
                    <a:pt x="1088" y="534"/>
                  </a:lnTo>
                  <a:lnTo>
                    <a:pt x="1088" y="534"/>
                  </a:lnTo>
                  <a:lnTo>
                    <a:pt x="1088" y="534"/>
                  </a:lnTo>
                  <a:lnTo>
                    <a:pt x="1088" y="534"/>
                  </a:lnTo>
                  <a:lnTo>
                    <a:pt x="1088" y="534"/>
                  </a:lnTo>
                  <a:lnTo>
                    <a:pt x="1088" y="534"/>
                  </a:lnTo>
                  <a:lnTo>
                    <a:pt x="1088" y="534"/>
                  </a:lnTo>
                  <a:lnTo>
                    <a:pt x="1088" y="534"/>
                  </a:lnTo>
                  <a:lnTo>
                    <a:pt x="1088" y="534"/>
                  </a:lnTo>
                  <a:lnTo>
                    <a:pt x="1088" y="534"/>
                  </a:lnTo>
                  <a:close/>
                  <a:moveTo>
                    <a:pt x="1899" y="534"/>
                  </a:moveTo>
                  <a:lnTo>
                    <a:pt x="1904" y="524"/>
                  </a:lnTo>
                  <a:lnTo>
                    <a:pt x="1909" y="519"/>
                  </a:lnTo>
                  <a:lnTo>
                    <a:pt x="1914" y="514"/>
                  </a:lnTo>
                  <a:lnTo>
                    <a:pt x="1909" y="504"/>
                  </a:lnTo>
                  <a:lnTo>
                    <a:pt x="1904" y="500"/>
                  </a:lnTo>
                  <a:lnTo>
                    <a:pt x="1894" y="490"/>
                  </a:lnTo>
                  <a:lnTo>
                    <a:pt x="1889" y="490"/>
                  </a:lnTo>
                  <a:lnTo>
                    <a:pt x="1884" y="500"/>
                  </a:lnTo>
                  <a:lnTo>
                    <a:pt x="1879" y="504"/>
                  </a:lnTo>
                  <a:lnTo>
                    <a:pt x="1879" y="514"/>
                  </a:lnTo>
                  <a:lnTo>
                    <a:pt x="1879" y="519"/>
                  </a:lnTo>
                  <a:lnTo>
                    <a:pt x="1884" y="529"/>
                  </a:lnTo>
                  <a:lnTo>
                    <a:pt x="1884" y="534"/>
                  </a:lnTo>
                  <a:lnTo>
                    <a:pt x="1884" y="544"/>
                  </a:lnTo>
                  <a:lnTo>
                    <a:pt x="1884" y="554"/>
                  </a:lnTo>
                  <a:lnTo>
                    <a:pt x="1889" y="559"/>
                  </a:lnTo>
                  <a:lnTo>
                    <a:pt x="1889" y="559"/>
                  </a:lnTo>
                  <a:lnTo>
                    <a:pt x="1894" y="554"/>
                  </a:lnTo>
                  <a:lnTo>
                    <a:pt x="1894" y="544"/>
                  </a:lnTo>
                  <a:lnTo>
                    <a:pt x="1899" y="534"/>
                  </a:lnTo>
                  <a:close/>
                  <a:moveTo>
                    <a:pt x="1924" y="480"/>
                  </a:moveTo>
                  <a:lnTo>
                    <a:pt x="1924" y="475"/>
                  </a:lnTo>
                  <a:lnTo>
                    <a:pt x="1924" y="470"/>
                  </a:lnTo>
                  <a:lnTo>
                    <a:pt x="1924" y="465"/>
                  </a:lnTo>
                  <a:lnTo>
                    <a:pt x="1924" y="460"/>
                  </a:lnTo>
                  <a:lnTo>
                    <a:pt x="1924" y="455"/>
                  </a:lnTo>
                  <a:lnTo>
                    <a:pt x="1919" y="450"/>
                  </a:lnTo>
                  <a:lnTo>
                    <a:pt x="1914" y="450"/>
                  </a:lnTo>
                  <a:lnTo>
                    <a:pt x="1909" y="455"/>
                  </a:lnTo>
                  <a:lnTo>
                    <a:pt x="1904" y="460"/>
                  </a:lnTo>
                  <a:lnTo>
                    <a:pt x="1904" y="465"/>
                  </a:lnTo>
                  <a:lnTo>
                    <a:pt x="1904" y="470"/>
                  </a:lnTo>
                  <a:lnTo>
                    <a:pt x="1904" y="475"/>
                  </a:lnTo>
                  <a:lnTo>
                    <a:pt x="1904" y="480"/>
                  </a:lnTo>
                  <a:lnTo>
                    <a:pt x="1909" y="485"/>
                  </a:lnTo>
                  <a:lnTo>
                    <a:pt x="1909" y="490"/>
                  </a:lnTo>
                  <a:lnTo>
                    <a:pt x="1914" y="495"/>
                  </a:lnTo>
                  <a:lnTo>
                    <a:pt x="1914" y="495"/>
                  </a:lnTo>
                  <a:lnTo>
                    <a:pt x="1919" y="495"/>
                  </a:lnTo>
                  <a:lnTo>
                    <a:pt x="1919" y="490"/>
                  </a:lnTo>
                  <a:lnTo>
                    <a:pt x="1924" y="480"/>
                  </a:lnTo>
                  <a:close/>
                  <a:moveTo>
                    <a:pt x="307" y="425"/>
                  </a:moveTo>
                  <a:lnTo>
                    <a:pt x="302" y="416"/>
                  </a:lnTo>
                  <a:lnTo>
                    <a:pt x="302" y="411"/>
                  </a:lnTo>
                  <a:lnTo>
                    <a:pt x="297" y="406"/>
                  </a:lnTo>
                  <a:lnTo>
                    <a:pt x="292" y="406"/>
                  </a:lnTo>
                  <a:lnTo>
                    <a:pt x="282" y="406"/>
                  </a:lnTo>
                  <a:lnTo>
                    <a:pt x="277" y="411"/>
                  </a:lnTo>
                  <a:lnTo>
                    <a:pt x="272" y="420"/>
                  </a:lnTo>
                  <a:lnTo>
                    <a:pt x="272" y="430"/>
                  </a:lnTo>
                  <a:lnTo>
                    <a:pt x="277" y="435"/>
                  </a:lnTo>
                  <a:lnTo>
                    <a:pt x="287" y="440"/>
                  </a:lnTo>
                  <a:lnTo>
                    <a:pt x="292" y="445"/>
                  </a:lnTo>
                  <a:lnTo>
                    <a:pt x="297" y="445"/>
                  </a:lnTo>
                  <a:lnTo>
                    <a:pt x="302" y="435"/>
                  </a:lnTo>
                  <a:lnTo>
                    <a:pt x="307" y="425"/>
                  </a:lnTo>
                  <a:close/>
                  <a:moveTo>
                    <a:pt x="331" y="401"/>
                  </a:moveTo>
                  <a:lnTo>
                    <a:pt x="331" y="396"/>
                  </a:lnTo>
                  <a:lnTo>
                    <a:pt x="336" y="391"/>
                  </a:lnTo>
                  <a:lnTo>
                    <a:pt x="341" y="386"/>
                  </a:lnTo>
                  <a:lnTo>
                    <a:pt x="341" y="381"/>
                  </a:lnTo>
                  <a:lnTo>
                    <a:pt x="346" y="371"/>
                  </a:lnTo>
                  <a:lnTo>
                    <a:pt x="351" y="366"/>
                  </a:lnTo>
                  <a:lnTo>
                    <a:pt x="361" y="361"/>
                  </a:lnTo>
                  <a:lnTo>
                    <a:pt x="366" y="356"/>
                  </a:lnTo>
                  <a:lnTo>
                    <a:pt x="366" y="351"/>
                  </a:lnTo>
                  <a:lnTo>
                    <a:pt x="366" y="346"/>
                  </a:lnTo>
                  <a:lnTo>
                    <a:pt x="361" y="341"/>
                  </a:lnTo>
                  <a:lnTo>
                    <a:pt x="351" y="336"/>
                  </a:lnTo>
                  <a:lnTo>
                    <a:pt x="346" y="331"/>
                  </a:lnTo>
                  <a:lnTo>
                    <a:pt x="341" y="336"/>
                  </a:lnTo>
                  <a:lnTo>
                    <a:pt x="336" y="341"/>
                  </a:lnTo>
                  <a:lnTo>
                    <a:pt x="331" y="346"/>
                  </a:lnTo>
                  <a:lnTo>
                    <a:pt x="327" y="356"/>
                  </a:lnTo>
                  <a:lnTo>
                    <a:pt x="327" y="361"/>
                  </a:lnTo>
                  <a:lnTo>
                    <a:pt x="322" y="366"/>
                  </a:lnTo>
                  <a:lnTo>
                    <a:pt x="317" y="371"/>
                  </a:lnTo>
                  <a:lnTo>
                    <a:pt x="312" y="376"/>
                  </a:lnTo>
                  <a:lnTo>
                    <a:pt x="307" y="381"/>
                  </a:lnTo>
                  <a:lnTo>
                    <a:pt x="302" y="386"/>
                  </a:lnTo>
                  <a:lnTo>
                    <a:pt x="297" y="391"/>
                  </a:lnTo>
                  <a:lnTo>
                    <a:pt x="297" y="396"/>
                  </a:lnTo>
                  <a:lnTo>
                    <a:pt x="297" y="401"/>
                  </a:lnTo>
                  <a:lnTo>
                    <a:pt x="302" y="406"/>
                  </a:lnTo>
                  <a:lnTo>
                    <a:pt x="312" y="411"/>
                  </a:lnTo>
                  <a:lnTo>
                    <a:pt x="317" y="416"/>
                  </a:lnTo>
                  <a:lnTo>
                    <a:pt x="322" y="416"/>
                  </a:lnTo>
                  <a:lnTo>
                    <a:pt x="327" y="411"/>
                  </a:lnTo>
                  <a:lnTo>
                    <a:pt x="331" y="401"/>
                  </a:lnTo>
                  <a:close/>
                  <a:moveTo>
                    <a:pt x="2428" y="371"/>
                  </a:moveTo>
                  <a:lnTo>
                    <a:pt x="2423" y="366"/>
                  </a:lnTo>
                  <a:lnTo>
                    <a:pt x="2423" y="361"/>
                  </a:lnTo>
                  <a:lnTo>
                    <a:pt x="2423" y="356"/>
                  </a:lnTo>
                  <a:lnTo>
                    <a:pt x="2423" y="351"/>
                  </a:lnTo>
                  <a:lnTo>
                    <a:pt x="2418" y="351"/>
                  </a:lnTo>
                  <a:lnTo>
                    <a:pt x="2418" y="351"/>
                  </a:lnTo>
                  <a:lnTo>
                    <a:pt x="2418" y="356"/>
                  </a:lnTo>
                  <a:lnTo>
                    <a:pt x="2418" y="361"/>
                  </a:lnTo>
                  <a:lnTo>
                    <a:pt x="2418" y="366"/>
                  </a:lnTo>
                  <a:lnTo>
                    <a:pt x="2418" y="376"/>
                  </a:lnTo>
                  <a:lnTo>
                    <a:pt x="2418" y="381"/>
                  </a:lnTo>
                  <a:lnTo>
                    <a:pt x="2418" y="381"/>
                  </a:lnTo>
                  <a:lnTo>
                    <a:pt x="2423" y="381"/>
                  </a:lnTo>
                  <a:lnTo>
                    <a:pt x="2428" y="371"/>
                  </a:lnTo>
                  <a:close/>
                  <a:moveTo>
                    <a:pt x="386" y="322"/>
                  </a:moveTo>
                  <a:lnTo>
                    <a:pt x="386" y="307"/>
                  </a:lnTo>
                  <a:lnTo>
                    <a:pt x="381" y="297"/>
                  </a:lnTo>
                  <a:lnTo>
                    <a:pt x="376" y="292"/>
                  </a:lnTo>
                  <a:lnTo>
                    <a:pt x="371" y="292"/>
                  </a:lnTo>
                  <a:lnTo>
                    <a:pt x="366" y="297"/>
                  </a:lnTo>
                  <a:lnTo>
                    <a:pt x="356" y="307"/>
                  </a:lnTo>
                  <a:lnTo>
                    <a:pt x="356" y="317"/>
                  </a:lnTo>
                  <a:lnTo>
                    <a:pt x="356" y="327"/>
                  </a:lnTo>
                  <a:lnTo>
                    <a:pt x="361" y="336"/>
                  </a:lnTo>
                  <a:lnTo>
                    <a:pt x="366" y="341"/>
                  </a:lnTo>
                  <a:lnTo>
                    <a:pt x="371" y="341"/>
                  </a:lnTo>
                  <a:lnTo>
                    <a:pt x="381" y="341"/>
                  </a:lnTo>
                  <a:lnTo>
                    <a:pt x="381" y="331"/>
                  </a:lnTo>
                  <a:lnTo>
                    <a:pt x="386" y="322"/>
                  </a:lnTo>
                  <a:close/>
                  <a:moveTo>
                    <a:pt x="411" y="292"/>
                  </a:moveTo>
                  <a:lnTo>
                    <a:pt x="411" y="287"/>
                  </a:lnTo>
                  <a:lnTo>
                    <a:pt x="416" y="282"/>
                  </a:lnTo>
                  <a:lnTo>
                    <a:pt x="420" y="277"/>
                  </a:lnTo>
                  <a:lnTo>
                    <a:pt x="430" y="272"/>
                  </a:lnTo>
                  <a:lnTo>
                    <a:pt x="440" y="267"/>
                  </a:lnTo>
                  <a:lnTo>
                    <a:pt x="450" y="267"/>
                  </a:lnTo>
                  <a:lnTo>
                    <a:pt x="455" y="262"/>
                  </a:lnTo>
                  <a:lnTo>
                    <a:pt x="455" y="257"/>
                  </a:lnTo>
                  <a:lnTo>
                    <a:pt x="450" y="247"/>
                  </a:lnTo>
                  <a:lnTo>
                    <a:pt x="445" y="238"/>
                  </a:lnTo>
                  <a:lnTo>
                    <a:pt x="440" y="233"/>
                  </a:lnTo>
                  <a:lnTo>
                    <a:pt x="435" y="223"/>
                  </a:lnTo>
                  <a:lnTo>
                    <a:pt x="430" y="218"/>
                  </a:lnTo>
                  <a:lnTo>
                    <a:pt x="425" y="218"/>
                  </a:lnTo>
                  <a:lnTo>
                    <a:pt x="420" y="223"/>
                  </a:lnTo>
                  <a:lnTo>
                    <a:pt x="416" y="228"/>
                  </a:lnTo>
                  <a:lnTo>
                    <a:pt x="411" y="238"/>
                  </a:lnTo>
                  <a:lnTo>
                    <a:pt x="406" y="243"/>
                  </a:lnTo>
                  <a:lnTo>
                    <a:pt x="406" y="247"/>
                  </a:lnTo>
                  <a:lnTo>
                    <a:pt x="401" y="252"/>
                  </a:lnTo>
                  <a:lnTo>
                    <a:pt x="396" y="262"/>
                  </a:lnTo>
                  <a:lnTo>
                    <a:pt x="391" y="267"/>
                  </a:lnTo>
                  <a:lnTo>
                    <a:pt x="386" y="272"/>
                  </a:lnTo>
                  <a:lnTo>
                    <a:pt x="381" y="277"/>
                  </a:lnTo>
                  <a:lnTo>
                    <a:pt x="371" y="282"/>
                  </a:lnTo>
                  <a:lnTo>
                    <a:pt x="371" y="292"/>
                  </a:lnTo>
                  <a:lnTo>
                    <a:pt x="376" y="297"/>
                  </a:lnTo>
                  <a:lnTo>
                    <a:pt x="381" y="302"/>
                  </a:lnTo>
                  <a:lnTo>
                    <a:pt x="391" y="307"/>
                  </a:lnTo>
                  <a:lnTo>
                    <a:pt x="401" y="307"/>
                  </a:lnTo>
                  <a:lnTo>
                    <a:pt x="406" y="302"/>
                  </a:lnTo>
                  <a:lnTo>
                    <a:pt x="411" y="292"/>
                  </a:lnTo>
                  <a:close/>
                  <a:moveTo>
                    <a:pt x="322" y="267"/>
                  </a:moveTo>
                  <a:lnTo>
                    <a:pt x="317" y="267"/>
                  </a:lnTo>
                  <a:lnTo>
                    <a:pt x="307" y="282"/>
                  </a:lnTo>
                  <a:lnTo>
                    <a:pt x="307" y="277"/>
                  </a:lnTo>
                  <a:lnTo>
                    <a:pt x="312" y="277"/>
                  </a:lnTo>
                  <a:lnTo>
                    <a:pt x="312" y="277"/>
                  </a:lnTo>
                  <a:lnTo>
                    <a:pt x="317" y="272"/>
                  </a:lnTo>
                  <a:lnTo>
                    <a:pt x="317" y="272"/>
                  </a:lnTo>
                  <a:lnTo>
                    <a:pt x="317" y="272"/>
                  </a:lnTo>
                  <a:lnTo>
                    <a:pt x="322" y="267"/>
                  </a:lnTo>
                  <a:lnTo>
                    <a:pt x="322" y="267"/>
                  </a:lnTo>
                  <a:close/>
                  <a:moveTo>
                    <a:pt x="346" y="238"/>
                  </a:moveTo>
                  <a:lnTo>
                    <a:pt x="346" y="238"/>
                  </a:lnTo>
                  <a:lnTo>
                    <a:pt x="346" y="243"/>
                  </a:lnTo>
                  <a:lnTo>
                    <a:pt x="346" y="238"/>
                  </a:lnTo>
                  <a:close/>
                  <a:moveTo>
                    <a:pt x="371" y="213"/>
                  </a:moveTo>
                  <a:lnTo>
                    <a:pt x="381" y="203"/>
                  </a:lnTo>
                  <a:lnTo>
                    <a:pt x="371" y="213"/>
                  </a:lnTo>
                  <a:lnTo>
                    <a:pt x="371" y="213"/>
                  </a:lnTo>
                  <a:lnTo>
                    <a:pt x="371" y="213"/>
                  </a:lnTo>
                  <a:close/>
                  <a:moveTo>
                    <a:pt x="430" y="159"/>
                  </a:moveTo>
                  <a:lnTo>
                    <a:pt x="425" y="159"/>
                  </a:lnTo>
                  <a:lnTo>
                    <a:pt x="411" y="173"/>
                  </a:lnTo>
                  <a:lnTo>
                    <a:pt x="416" y="168"/>
                  </a:lnTo>
                  <a:lnTo>
                    <a:pt x="416" y="168"/>
                  </a:lnTo>
                  <a:lnTo>
                    <a:pt x="420" y="168"/>
                  </a:lnTo>
                  <a:lnTo>
                    <a:pt x="420" y="163"/>
                  </a:lnTo>
                  <a:lnTo>
                    <a:pt x="420" y="163"/>
                  </a:lnTo>
                  <a:lnTo>
                    <a:pt x="425" y="163"/>
                  </a:lnTo>
                  <a:lnTo>
                    <a:pt x="425" y="163"/>
                  </a:lnTo>
                  <a:lnTo>
                    <a:pt x="430" y="159"/>
                  </a:lnTo>
                  <a:close/>
                  <a:moveTo>
                    <a:pt x="935" y="159"/>
                  </a:moveTo>
                  <a:lnTo>
                    <a:pt x="935" y="154"/>
                  </a:lnTo>
                  <a:lnTo>
                    <a:pt x="935" y="149"/>
                  </a:lnTo>
                  <a:lnTo>
                    <a:pt x="930" y="149"/>
                  </a:lnTo>
                  <a:lnTo>
                    <a:pt x="920" y="149"/>
                  </a:lnTo>
                  <a:lnTo>
                    <a:pt x="915" y="149"/>
                  </a:lnTo>
                  <a:lnTo>
                    <a:pt x="910" y="154"/>
                  </a:lnTo>
                  <a:lnTo>
                    <a:pt x="905" y="159"/>
                  </a:lnTo>
                  <a:lnTo>
                    <a:pt x="905" y="163"/>
                  </a:lnTo>
                  <a:lnTo>
                    <a:pt x="910" y="168"/>
                  </a:lnTo>
                  <a:lnTo>
                    <a:pt x="920" y="168"/>
                  </a:lnTo>
                  <a:lnTo>
                    <a:pt x="925" y="168"/>
                  </a:lnTo>
                  <a:lnTo>
                    <a:pt x="930" y="168"/>
                  </a:lnTo>
                  <a:lnTo>
                    <a:pt x="935" y="163"/>
                  </a:lnTo>
                  <a:lnTo>
                    <a:pt x="935" y="159"/>
                  </a:lnTo>
                  <a:close/>
                  <a:moveTo>
                    <a:pt x="475" y="134"/>
                  </a:moveTo>
                  <a:lnTo>
                    <a:pt x="450" y="134"/>
                  </a:lnTo>
                  <a:lnTo>
                    <a:pt x="450" y="149"/>
                  </a:lnTo>
                  <a:lnTo>
                    <a:pt x="475" y="134"/>
                  </a:lnTo>
                  <a:close/>
                  <a:moveTo>
                    <a:pt x="2552" y="104"/>
                  </a:moveTo>
                  <a:lnTo>
                    <a:pt x="2537" y="104"/>
                  </a:lnTo>
                  <a:lnTo>
                    <a:pt x="2552" y="124"/>
                  </a:lnTo>
                  <a:lnTo>
                    <a:pt x="2552" y="104"/>
                  </a:lnTo>
                  <a:close/>
                  <a:moveTo>
                    <a:pt x="732" y="79"/>
                  </a:moveTo>
                  <a:lnTo>
                    <a:pt x="737" y="74"/>
                  </a:lnTo>
                  <a:lnTo>
                    <a:pt x="737" y="70"/>
                  </a:lnTo>
                  <a:lnTo>
                    <a:pt x="742" y="70"/>
                  </a:lnTo>
                  <a:lnTo>
                    <a:pt x="747" y="70"/>
                  </a:lnTo>
                  <a:lnTo>
                    <a:pt x="747" y="70"/>
                  </a:lnTo>
                  <a:lnTo>
                    <a:pt x="752" y="74"/>
                  </a:lnTo>
                  <a:lnTo>
                    <a:pt x="752" y="79"/>
                  </a:lnTo>
                  <a:lnTo>
                    <a:pt x="752" y="84"/>
                  </a:lnTo>
                  <a:lnTo>
                    <a:pt x="752" y="84"/>
                  </a:lnTo>
                  <a:lnTo>
                    <a:pt x="747" y="89"/>
                  </a:lnTo>
                  <a:lnTo>
                    <a:pt x="742" y="89"/>
                  </a:lnTo>
                  <a:lnTo>
                    <a:pt x="737" y="84"/>
                  </a:lnTo>
                  <a:lnTo>
                    <a:pt x="737" y="84"/>
                  </a:lnTo>
                  <a:lnTo>
                    <a:pt x="732" y="79"/>
                  </a:lnTo>
                  <a:close/>
                  <a:moveTo>
                    <a:pt x="2527" y="79"/>
                  </a:moveTo>
                  <a:lnTo>
                    <a:pt x="2503" y="79"/>
                  </a:lnTo>
                  <a:lnTo>
                    <a:pt x="2498" y="79"/>
                  </a:lnTo>
                  <a:lnTo>
                    <a:pt x="2498" y="84"/>
                  </a:lnTo>
                  <a:lnTo>
                    <a:pt x="2503" y="84"/>
                  </a:lnTo>
                  <a:lnTo>
                    <a:pt x="2503" y="84"/>
                  </a:lnTo>
                  <a:lnTo>
                    <a:pt x="2507" y="89"/>
                  </a:lnTo>
                  <a:lnTo>
                    <a:pt x="2512" y="89"/>
                  </a:lnTo>
                  <a:lnTo>
                    <a:pt x="2517" y="89"/>
                  </a:lnTo>
                  <a:lnTo>
                    <a:pt x="2522" y="94"/>
                  </a:lnTo>
                  <a:lnTo>
                    <a:pt x="2527" y="94"/>
                  </a:lnTo>
                  <a:lnTo>
                    <a:pt x="2527" y="79"/>
                  </a:lnTo>
                  <a:close/>
                  <a:moveTo>
                    <a:pt x="2369" y="25"/>
                  </a:moveTo>
                  <a:lnTo>
                    <a:pt x="2369" y="25"/>
                  </a:lnTo>
                  <a:lnTo>
                    <a:pt x="2369" y="25"/>
                  </a:lnTo>
                  <a:lnTo>
                    <a:pt x="2369" y="25"/>
                  </a:lnTo>
                  <a:lnTo>
                    <a:pt x="2369" y="25"/>
                  </a:lnTo>
                  <a:lnTo>
                    <a:pt x="2369" y="25"/>
                  </a:lnTo>
                  <a:lnTo>
                    <a:pt x="2369" y="25"/>
                  </a:lnTo>
                  <a:lnTo>
                    <a:pt x="2369" y="25"/>
                  </a:lnTo>
                  <a:lnTo>
                    <a:pt x="2369" y="25"/>
                  </a:lnTo>
                  <a:lnTo>
                    <a:pt x="2369" y="25"/>
                  </a:lnTo>
                  <a:lnTo>
                    <a:pt x="2369" y="25"/>
                  </a:lnTo>
                  <a:close/>
                  <a:moveTo>
                    <a:pt x="2231" y="0"/>
                  </a:moveTo>
                  <a:lnTo>
                    <a:pt x="2206" y="0"/>
                  </a:lnTo>
                  <a:lnTo>
                    <a:pt x="2181" y="0"/>
                  </a:lnTo>
                  <a:lnTo>
                    <a:pt x="2176" y="0"/>
                  </a:lnTo>
                  <a:lnTo>
                    <a:pt x="2181" y="0"/>
                  </a:lnTo>
                  <a:lnTo>
                    <a:pt x="2186" y="0"/>
                  </a:lnTo>
                  <a:lnTo>
                    <a:pt x="2191" y="0"/>
                  </a:lnTo>
                  <a:lnTo>
                    <a:pt x="2196" y="0"/>
                  </a:lnTo>
                  <a:lnTo>
                    <a:pt x="2201" y="5"/>
                  </a:lnTo>
                  <a:lnTo>
                    <a:pt x="2206" y="5"/>
                  </a:lnTo>
                  <a:lnTo>
                    <a:pt x="2211" y="5"/>
                  </a:lnTo>
                  <a:lnTo>
                    <a:pt x="2216" y="5"/>
                  </a:lnTo>
                  <a:lnTo>
                    <a:pt x="2221" y="0"/>
                  </a:lnTo>
                  <a:lnTo>
                    <a:pt x="2226" y="0"/>
                  </a:lnTo>
                  <a:lnTo>
                    <a:pt x="2231" y="0"/>
                  </a:lnTo>
                  <a:close/>
                  <a:moveTo>
                    <a:pt x="2235" y="1656"/>
                  </a:moveTo>
                  <a:lnTo>
                    <a:pt x="2260" y="1631"/>
                  </a:lnTo>
                  <a:lnTo>
                    <a:pt x="2285" y="1631"/>
                  </a:lnTo>
                  <a:lnTo>
                    <a:pt x="2315" y="1631"/>
                  </a:lnTo>
                  <a:lnTo>
                    <a:pt x="2339" y="1631"/>
                  </a:lnTo>
                  <a:lnTo>
                    <a:pt x="2369" y="1631"/>
                  </a:lnTo>
                  <a:lnTo>
                    <a:pt x="2394" y="1631"/>
                  </a:lnTo>
                  <a:lnTo>
                    <a:pt x="2418" y="1631"/>
                  </a:lnTo>
                  <a:lnTo>
                    <a:pt x="2448" y="1602"/>
                  </a:lnTo>
                  <a:lnTo>
                    <a:pt x="2448" y="1577"/>
                  </a:lnTo>
                  <a:lnTo>
                    <a:pt x="2448" y="1547"/>
                  </a:lnTo>
                  <a:lnTo>
                    <a:pt x="2448" y="1523"/>
                  </a:lnTo>
                  <a:lnTo>
                    <a:pt x="2473" y="1498"/>
                  </a:lnTo>
                  <a:lnTo>
                    <a:pt x="2473" y="1468"/>
                  </a:lnTo>
                  <a:lnTo>
                    <a:pt x="2473" y="1444"/>
                  </a:lnTo>
                  <a:lnTo>
                    <a:pt x="2473" y="1414"/>
                  </a:lnTo>
                  <a:lnTo>
                    <a:pt x="2503" y="1389"/>
                  </a:lnTo>
                  <a:lnTo>
                    <a:pt x="2503" y="1364"/>
                  </a:lnTo>
                  <a:lnTo>
                    <a:pt x="2503" y="1335"/>
                  </a:lnTo>
                  <a:lnTo>
                    <a:pt x="2503" y="1310"/>
                  </a:lnTo>
                  <a:lnTo>
                    <a:pt x="2527" y="1280"/>
                  </a:lnTo>
                  <a:lnTo>
                    <a:pt x="2527" y="1256"/>
                  </a:lnTo>
                  <a:lnTo>
                    <a:pt x="2527" y="1226"/>
                  </a:lnTo>
                  <a:lnTo>
                    <a:pt x="2527" y="1201"/>
                  </a:lnTo>
                  <a:lnTo>
                    <a:pt x="2552" y="1177"/>
                  </a:lnTo>
                  <a:lnTo>
                    <a:pt x="2552" y="1147"/>
                  </a:lnTo>
                  <a:lnTo>
                    <a:pt x="2552" y="1122"/>
                  </a:lnTo>
                  <a:lnTo>
                    <a:pt x="2552" y="1093"/>
                  </a:lnTo>
                  <a:lnTo>
                    <a:pt x="2582" y="1068"/>
                  </a:lnTo>
                  <a:lnTo>
                    <a:pt x="2582" y="1043"/>
                  </a:lnTo>
                  <a:lnTo>
                    <a:pt x="2582" y="1014"/>
                  </a:lnTo>
                  <a:lnTo>
                    <a:pt x="2582" y="989"/>
                  </a:lnTo>
                  <a:lnTo>
                    <a:pt x="2582" y="959"/>
                  </a:lnTo>
                  <a:lnTo>
                    <a:pt x="2582" y="934"/>
                  </a:lnTo>
                  <a:lnTo>
                    <a:pt x="2582" y="910"/>
                  </a:lnTo>
                  <a:lnTo>
                    <a:pt x="2582" y="880"/>
                  </a:lnTo>
                  <a:lnTo>
                    <a:pt x="2582" y="855"/>
                  </a:lnTo>
                  <a:lnTo>
                    <a:pt x="2582" y="826"/>
                  </a:lnTo>
                  <a:lnTo>
                    <a:pt x="2582" y="801"/>
                  </a:lnTo>
                  <a:lnTo>
                    <a:pt x="2582" y="776"/>
                  </a:lnTo>
                  <a:lnTo>
                    <a:pt x="2582" y="747"/>
                  </a:lnTo>
                  <a:lnTo>
                    <a:pt x="2582" y="722"/>
                  </a:lnTo>
                  <a:lnTo>
                    <a:pt x="2582" y="692"/>
                  </a:lnTo>
                  <a:lnTo>
                    <a:pt x="2582" y="668"/>
                  </a:lnTo>
                  <a:lnTo>
                    <a:pt x="2582" y="643"/>
                  </a:lnTo>
                  <a:lnTo>
                    <a:pt x="2582" y="613"/>
                  </a:lnTo>
                  <a:lnTo>
                    <a:pt x="2582" y="589"/>
                  </a:lnTo>
                  <a:lnTo>
                    <a:pt x="2582" y="559"/>
                  </a:lnTo>
                  <a:lnTo>
                    <a:pt x="2582" y="534"/>
                  </a:lnTo>
                  <a:lnTo>
                    <a:pt x="2582" y="504"/>
                  </a:lnTo>
                  <a:lnTo>
                    <a:pt x="2582" y="480"/>
                  </a:lnTo>
                  <a:lnTo>
                    <a:pt x="2582" y="455"/>
                  </a:lnTo>
                  <a:lnTo>
                    <a:pt x="2582" y="425"/>
                  </a:lnTo>
                  <a:lnTo>
                    <a:pt x="2582" y="401"/>
                  </a:lnTo>
                  <a:lnTo>
                    <a:pt x="2582" y="371"/>
                  </a:lnTo>
                  <a:lnTo>
                    <a:pt x="2582" y="346"/>
                  </a:lnTo>
                  <a:lnTo>
                    <a:pt x="2582" y="322"/>
                  </a:lnTo>
                  <a:lnTo>
                    <a:pt x="2582" y="292"/>
                  </a:lnTo>
                  <a:lnTo>
                    <a:pt x="2582" y="267"/>
                  </a:lnTo>
                  <a:lnTo>
                    <a:pt x="2582" y="238"/>
                  </a:lnTo>
                  <a:lnTo>
                    <a:pt x="2552" y="213"/>
                  </a:lnTo>
                  <a:lnTo>
                    <a:pt x="2552" y="188"/>
                  </a:lnTo>
                  <a:lnTo>
                    <a:pt x="2552" y="159"/>
                  </a:lnTo>
                  <a:lnTo>
                    <a:pt x="2552" y="134"/>
                  </a:lnTo>
                  <a:lnTo>
                    <a:pt x="2552" y="104"/>
                  </a:lnTo>
                  <a:lnTo>
                    <a:pt x="2527" y="79"/>
                  </a:lnTo>
                  <a:lnTo>
                    <a:pt x="2503" y="79"/>
                  </a:lnTo>
                  <a:lnTo>
                    <a:pt x="2473" y="79"/>
                  </a:lnTo>
                  <a:lnTo>
                    <a:pt x="2448" y="55"/>
                  </a:lnTo>
                  <a:lnTo>
                    <a:pt x="2418" y="55"/>
                  </a:lnTo>
                  <a:lnTo>
                    <a:pt x="2394" y="55"/>
                  </a:lnTo>
                  <a:lnTo>
                    <a:pt x="2369" y="25"/>
                  </a:lnTo>
                  <a:lnTo>
                    <a:pt x="2339" y="25"/>
                  </a:lnTo>
                  <a:lnTo>
                    <a:pt x="2315" y="25"/>
                  </a:lnTo>
                  <a:lnTo>
                    <a:pt x="2285" y="0"/>
                  </a:lnTo>
                  <a:lnTo>
                    <a:pt x="2260" y="0"/>
                  </a:lnTo>
                  <a:lnTo>
                    <a:pt x="2235" y="0"/>
                  </a:lnTo>
                  <a:lnTo>
                    <a:pt x="2206" y="0"/>
                  </a:lnTo>
                  <a:lnTo>
                    <a:pt x="2181" y="0"/>
                  </a:lnTo>
                  <a:lnTo>
                    <a:pt x="2156" y="0"/>
                  </a:lnTo>
                  <a:lnTo>
                    <a:pt x="2127" y="0"/>
                  </a:lnTo>
                  <a:lnTo>
                    <a:pt x="2102" y="0"/>
                  </a:lnTo>
                  <a:lnTo>
                    <a:pt x="2072" y="0"/>
                  </a:lnTo>
                  <a:lnTo>
                    <a:pt x="2048" y="0"/>
                  </a:lnTo>
                  <a:lnTo>
                    <a:pt x="2023" y="0"/>
                  </a:lnTo>
                  <a:lnTo>
                    <a:pt x="1993" y="0"/>
                  </a:lnTo>
                  <a:lnTo>
                    <a:pt x="1968" y="0"/>
                  </a:lnTo>
                  <a:lnTo>
                    <a:pt x="1944" y="0"/>
                  </a:lnTo>
                  <a:lnTo>
                    <a:pt x="1934" y="0"/>
                  </a:lnTo>
                  <a:lnTo>
                    <a:pt x="1944" y="0"/>
                  </a:lnTo>
                  <a:lnTo>
                    <a:pt x="1949" y="5"/>
                  </a:lnTo>
                  <a:lnTo>
                    <a:pt x="1959" y="10"/>
                  </a:lnTo>
                  <a:lnTo>
                    <a:pt x="1963" y="10"/>
                  </a:lnTo>
                  <a:lnTo>
                    <a:pt x="1973" y="10"/>
                  </a:lnTo>
                  <a:lnTo>
                    <a:pt x="1978" y="15"/>
                  </a:lnTo>
                  <a:lnTo>
                    <a:pt x="1988" y="15"/>
                  </a:lnTo>
                  <a:lnTo>
                    <a:pt x="1993" y="15"/>
                  </a:lnTo>
                  <a:lnTo>
                    <a:pt x="2003" y="15"/>
                  </a:lnTo>
                  <a:lnTo>
                    <a:pt x="2013" y="15"/>
                  </a:lnTo>
                  <a:lnTo>
                    <a:pt x="2018" y="15"/>
                  </a:lnTo>
                  <a:lnTo>
                    <a:pt x="2028" y="20"/>
                  </a:lnTo>
                  <a:lnTo>
                    <a:pt x="2038" y="20"/>
                  </a:lnTo>
                  <a:lnTo>
                    <a:pt x="2043" y="20"/>
                  </a:lnTo>
                  <a:lnTo>
                    <a:pt x="2052" y="20"/>
                  </a:lnTo>
                  <a:lnTo>
                    <a:pt x="2062" y="20"/>
                  </a:lnTo>
                  <a:lnTo>
                    <a:pt x="2067" y="25"/>
                  </a:lnTo>
                  <a:lnTo>
                    <a:pt x="2077" y="25"/>
                  </a:lnTo>
                  <a:lnTo>
                    <a:pt x="2082" y="25"/>
                  </a:lnTo>
                  <a:lnTo>
                    <a:pt x="2092" y="25"/>
                  </a:lnTo>
                  <a:lnTo>
                    <a:pt x="2097" y="30"/>
                  </a:lnTo>
                  <a:lnTo>
                    <a:pt x="2097" y="35"/>
                  </a:lnTo>
                  <a:lnTo>
                    <a:pt x="2102" y="45"/>
                  </a:lnTo>
                  <a:lnTo>
                    <a:pt x="2102" y="50"/>
                  </a:lnTo>
                  <a:lnTo>
                    <a:pt x="2107" y="55"/>
                  </a:lnTo>
                  <a:lnTo>
                    <a:pt x="2112" y="55"/>
                  </a:lnTo>
                  <a:lnTo>
                    <a:pt x="2122" y="60"/>
                  </a:lnTo>
                  <a:lnTo>
                    <a:pt x="2127" y="60"/>
                  </a:lnTo>
                  <a:lnTo>
                    <a:pt x="2137" y="60"/>
                  </a:lnTo>
                  <a:lnTo>
                    <a:pt x="2142" y="65"/>
                  </a:lnTo>
                  <a:lnTo>
                    <a:pt x="2151" y="65"/>
                  </a:lnTo>
                  <a:lnTo>
                    <a:pt x="2156" y="70"/>
                  </a:lnTo>
                  <a:lnTo>
                    <a:pt x="2166" y="70"/>
                  </a:lnTo>
                  <a:lnTo>
                    <a:pt x="2171" y="70"/>
                  </a:lnTo>
                  <a:lnTo>
                    <a:pt x="2181" y="74"/>
                  </a:lnTo>
                  <a:lnTo>
                    <a:pt x="2191" y="74"/>
                  </a:lnTo>
                  <a:lnTo>
                    <a:pt x="2196" y="74"/>
                  </a:lnTo>
                  <a:lnTo>
                    <a:pt x="2206" y="79"/>
                  </a:lnTo>
                  <a:lnTo>
                    <a:pt x="2211" y="84"/>
                  </a:lnTo>
                  <a:lnTo>
                    <a:pt x="2216" y="89"/>
                  </a:lnTo>
                  <a:lnTo>
                    <a:pt x="2221" y="94"/>
                  </a:lnTo>
                  <a:lnTo>
                    <a:pt x="2226" y="94"/>
                  </a:lnTo>
                  <a:lnTo>
                    <a:pt x="2231" y="99"/>
                  </a:lnTo>
                  <a:lnTo>
                    <a:pt x="2240" y="99"/>
                  </a:lnTo>
                  <a:lnTo>
                    <a:pt x="2245" y="104"/>
                  </a:lnTo>
                  <a:lnTo>
                    <a:pt x="2255" y="104"/>
                  </a:lnTo>
                  <a:lnTo>
                    <a:pt x="2260" y="109"/>
                  </a:lnTo>
                  <a:lnTo>
                    <a:pt x="2260" y="114"/>
                  </a:lnTo>
                  <a:lnTo>
                    <a:pt x="2260" y="119"/>
                  </a:lnTo>
                  <a:lnTo>
                    <a:pt x="2260" y="124"/>
                  </a:lnTo>
                  <a:lnTo>
                    <a:pt x="2265" y="129"/>
                  </a:lnTo>
                  <a:lnTo>
                    <a:pt x="2265" y="134"/>
                  </a:lnTo>
                  <a:lnTo>
                    <a:pt x="2275" y="139"/>
                  </a:lnTo>
                  <a:lnTo>
                    <a:pt x="2280" y="144"/>
                  </a:lnTo>
                  <a:lnTo>
                    <a:pt x="2285" y="144"/>
                  </a:lnTo>
                  <a:lnTo>
                    <a:pt x="2290" y="149"/>
                  </a:lnTo>
                  <a:lnTo>
                    <a:pt x="2290" y="154"/>
                  </a:lnTo>
                  <a:lnTo>
                    <a:pt x="2295" y="159"/>
                  </a:lnTo>
                  <a:lnTo>
                    <a:pt x="2305" y="163"/>
                  </a:lnTo>
                  <a:lnTo>
                    <a:pt x="2310" y="163"/>
                  </a:lnTo>
                  <a:lnTo>
                    <a:pt x="2320" y="168"/>
                  </a:lnTo>
                  <a:lnTo>
                    <a:pt x="2324" y="173"/>
                  </a:lnTo>
                  <a:lnTo>
                    <a:pt x="2324" y="178"/>
                  </a:lnTo>
                  <a:lnTo>
                    <a:pt x="2329" y="183"/>
                  </a:lnTo>
                  <a:lnTo>
                    <a:pt x="2334" y="188"/>
                  </a:lnTo>
                  <a:lnTo>
                    <a:pt x="2339" y="193"/>
                  </a:lnTo>
                  <a:lnTo>
                    <a:pt x="2344" y="193"/>
                  </a:lnTo>
                  <a:lnTo>
                    <a:pt x="2354" y="198"/>
                  </a:lnTo>
                  <a:lnTo>
                    <a:pt x="2359" y="198"/>
                  </a:lnTo>
                  <a:lnTo>
                    <a:pt x="2369" y="203"/>
                  </a:lnTo>
                  <a:lnTo>
                    <a:pt x="2374" y="203"/>
                  </a:lnTo>
                  <a:lnTo>
                    <a:pt x="2379" y="208"/>
                  </a:lnTo>
                  <a:lnTo>
                    <a:pt x="2379" y="213"/>
                  </a:lnTo>
                  <a:lnTo>
                    <a:pt x="2384" y="218"/>
                  </a:lnTo>
                  <a:lnTo>
                    <a:pt x="2389" y="223"/>
                  </a:lnTo>
                  <a:lnTo>
                    <a:pt x="2399" y="228"/>
                  </a:lnTo>
                  <a:lnTo>
                    <a:pt x="2404" y="228"/>
                  </a:lnTo>
                  <a:lnTo>
                    <a:pt x="2414" y="233"/>
                  </a:lnTo>
                  <a:lnTo>
                    <a:pt x="2418" y="233"/>
                  </a:lnTo>
                  <a:lnTo>
                    <a:pt x="2423" y="238"/>
                  </a:lnTo>
                  <a:lnTo>
                    <a:pt x="2428" y="243"/>
                  </a:lnTo>
                  <a:lnTo>
                    <a:pt x="2433" y="247"/>
                  </a:lnTo>
                  <a:lnTo>
                    <a:pt x="2438" y="252"/>
                  </a:lnTo>
                  <a:lnTo>
                    <a:pt x="2443" y="257"/>
                  </a:lnTo>
                  <a:lnTo>
                    <a:pt x="2453" y="257"/>
                  </a:lnTo>
                  <a:lnTo>
                    <a:pt x="2458" y="262"/>
                  </a:lnTo>
                  <a:lnTo>
                    <a:pt x="2463" y="262"/>
                  </a:lnTo>
                  <a:lnTo>
                    <a:pt x="2468" y="267"/>
                  </a:lnTo>
                  <a:lnTo>
                    <a:pt x="2468" y="272"/>
                  </a:lnTo>
                  <a:lnTo>
                    <a:pt x="2463" y="277"/>
                  </a:lnTo>
                  <a:lnTo>
                    <a:pt x="2458" y="282"/>
                  </a:lnTo>
                  <a:lnTo>
                    <a:pt x="2453" y="287"/>
                  </a:lnTo>
                  <a:lnTo>
                    <a:pt x="2453" y="292"/>
                  </a:lnTo>
                  <a:lnTo>
                    <a:pt x="2448" y="297"/>
                  </a:lnTo>
                  <a:lnTo>
                    <a:pt x="2438" y="297"/>
                  </a:lnTo>
                  <a:lnTo>
                    <a:pt x="2428" y="297"/>
                  </a:lnTo>
                  <a:lnTo>
                    <a:pt x="2423" y="292"/>
                  </a:lnTo>
                  <a:lnTo>
                    <a:pt x="2414" y="292"/>
                  </a:lnTo>
                  <a:lnTo>
                    <a:pt x="2409" y="287"/>
                  </a:lnTo>
                  <a:lnTo>
                    <a:pt x="2399" y="287"/>
                  </a:lnTo>
                  <a:lnTo>
                    <a:pt x="2389" y="287"/>
                  </a:lnTo>
                  <a:lnTo>
                    <a:pt x="2384" y="292"/>
                  </a:lnTo>
                  <a:lnTo>
                    <a:pt x="2374" y="292"/>
                  </a:lnTo>
                  <a:lnTo>
                    <a:pt x="2369" y="292"/>
                  </a:lnTo>
                  <a:lnTo>
                    <a:pt x="2359" y="292"/>
                  </a:lnTo>
                  <a:lnTo>
                    <a:pt x="2349" y="292"/>
                  </a:lnTo>
                  <a:lnTo>
                    <a:pt x="2344" y="292"/>
                  </a:lnTo>
                  <a:lnTo>
                    <a:pt x="2334" y="287"/>
                  </a:lnTo>
                  <a:lnTo>
                    <a:pt x="2329" y="287"/>
                  </a:lnTo>
                  <a:lnTo>
                    <a:pt x="2320" y="282"/>
                  </a:lnTo>
                  <a:lnTo>
                    <a:pt x="2315" y="282"/>
                  </a:lnTo>
                  <a:lnTo>
                    <a:pt x="2305" y="282"/>
                  </a:lnTo>
                  <a:lnTo>
                    <a:pt x="2295" y="282"/>
                  </a:lnTo>
                  <a:lnTo>
                    <a:pt x="2290" y="282"/>
                  </a:lnTo>
                  <a:lnTo>
                    <a:pt x="2280" y="282"/>
                  </a:lnTo>
                  <a:lnTo>
                    <a:pt x="2270" y="282"/>
                  </a:lnTo>
                  <a:lnTo>
                    <a:pt x="2265" y="282"/>
                  </a:lnTo>
                  <a:lnTo>
                    <a:pt x="2255" y="277"/>
                  </a:lnTo>
                  <a:lnTo>
                    <a:pt x="2250" y="277"/>
                  </a:lnTo>
                  <a:lnTo>
                    <a:pt x="2250" y="272"/>
                  </a:lnTo>
                  <a:lnTo>
                    <a:pt x="2240" y="267"/>
                  </a:lnTo>
                  <a:lnTo>
                    <a:pt x="2235" y="262"/>
                  </a:lnTo>
                  <a:lnTo>
                    <a:pt x="2231" y="262"/>
                  </a:lnTo>
                  <a:lnTo>
                    <a:pt x="2221" y="262"/>
                  </a:lnTo>
                  <a:lnTo>
                    <a:pt x="2216" y="262"/>
                  </a:lnTo>
                  <a:lnTo>
                    <a:pt x="2206" y="262"/>
                  </a:lnTo>
                  <a:lnTo>
                    <a:pt x="2196" y="267"/>
                  </a:lnTo>
                  <a:lnTo>
                    <a:pt x="2201" y="272"/>
                  </a:lnTo>
                  <a:lnTo>
                    <a:pt x="2211" y="272"/>
                  </a:lnTo>
                  <a:lnTo>
                    <a:pt x="2216" y="277"/>
                  </a:lnTo>
                  <a:lnTo>
                    <a:pt x="2221" y="282"/>
                  </a:lnTo>
                  <a:lnTo>
                    <a:pt x="2221" y="287"/>
                  </a:lnTo>
                  <a:lnTo>
                    <a:pt x="2226" y="292"/>
                  </a:lnTo>
                  <a:lnTo>
                    <a:pt x="2226" y="297"/>
                  </a:lnTo>
                  <a:lnTo>
                    <a:pt x="2231" y="302"/>
                  </a:lnTo>
                  <a:lnTo>
                    <a:pt x="2235" y="307"/>
                  </a:lnTo>
                  <a:lnTo>
                    <a:pt x="2245" y="312"/>
                  </a:lnTo>
                  <a:lnTo>
                    <a:pt x="2250" y="312"/>
                  </a:lnTo>
                  <a:lnTo>
                    <a:pt x="2260" y="317"/>
                  </a:lnTo>
                  <a:lnTo>
                    <a:pt x="2265" y="322"/>
                  </a:lnTo>
                  <a:lnTo>
                    <a:pt x="2265" y="322"/>
                  </a:lnTo>
                  <a:lnTo>
                    <a:pt x="2270" y="327"/>
                  </a:lnTo>
                  <a:lnTo>
                    <a:pt x="2275" y="331"/>
                  </a:lnTo>
                  <a:lnTo>
                    <a:pt x="2280" y="336"/>
                  </a:lnTo>
                  <a:lnTo>
                    <a:pt x="2285" y="341"/>
                  </a:lnTo>
                  <a:lnTo>
                    <a:pt x="2290" y="346"/>
                  </a:lnTo>
                  <a:lnTo>
                    <a:pt x="2290" y="351"/>
                  </a:lnTo>
                  <a:lnTo>
                    <a:pt x="2295" y="356"/>
                  </a:lnTo>
                  <a:lnTo>
                    <a:pt x="2295" y="361"/>
                  </a:lnTo>
                  <a:lnTo>
                    <a:pt x="2295" y="371"/>
                  </a:lnTo>
                  <a:lnTo>
                    <a:pt x="2295" y="371"/>
                  </a:lnTo>
                  <a:lnTo>
                    <a:pt x="2285" y="376"/>
                  </a:lnTo>
                  <a:lnTo>
                    <a:pt x="2280" y="381"/>
                  </a:lnTo>
                  <a:lnTo>
                    <a:pt x="2270" y="381"/>
                  </a:lnTo>
                  <a:lnTo>
                    <a:pt x="2265" y="386"/>
                  </a:lnTo>
                  <a:lnTo>
                    <a:pt x="2260" y="386"/>
                  </a:lnTo>
                  <a:lnTo>
                    <a:pt x="2255" y="391"/>
                  </a:lnTo>
                  <a:lnTo>
                    <a:pt x="2255" y="401"/>
                  </a:lnTo>
                  <a:lnTo>
                    <a:pt x="2250" y="406"/>
                  </a:lnTo>
                  <a:lnTo>
                    <a:pt x="2250" y="411"/>
                  </a:lnTo>
                  <a:lnTo>
                    <a:pt x="2250" y="416"/>
                  </a:lnTo>
                  <a:lnTo>
                    <a:pt x="2245" y="420"/>
                  </a:lnTo>
                  <a:lnTo>
                    <a:pt x="2245" y="425"/>
                  </a:lnTo>
                  <a:lnTo>
                    <a:pt x="2240" y="430"/>
                  </a:lnTo>
                  <a:lnTo>
                    <a:pt x="2235" y="435"/>
                  </a:lnTo>
                  <a:lnTo>
                    <a:pt x="2231" y="440"/>
                  </a:lnTo>
                  <a:lnTo>
                    <a:pt x="2226" y="440"/>
                  </a:lnTo>
                  <a:lnTo>
                    <a:pt x="2221" y="445"/>
                  </a:lnTo>
                  <a:lnTo>
                    <a:pt x="2216" y="450"/>
                  </a:lnTo>
                  <a:lnTo>
                    <a:pt x="2206" y="450"/>
                  </a:lnTo>
                  <a:lnTo>
                    <a:pt x="2201" y="455"/>
                  </a:lnTo>
                  <a:lnTo>
                    <a:pt x="2196" y="460"/>
                  </a:lnTo>
                  <a:lnTo>
                    <a:pt x="2191" y="465"/>
                  </a:lnTo>
                  <a:lnTo>
                    <a:pt x="2181" y="465"/>
                  </a:lnTo>
                  <a:lnTo>
                    <a:pt x="2176" y="465"/>
                  </a:lnTo>
                  <a:lnTo>
                    <a:pt x="2166" y="465"/>
                  </a:lnTo>
                  <a:lnTo>
                    <a:pt x="2161" y="465"/>
                  </a:lnTo>
                  <a:lnTo>
                    <a:pt x="2151" y="465"/>
                  </a:lnTo>
                  <a:lnTo>
                    <a:pt x="2142" y="460"/>
                  </a:lnTo>
                  <a:lnTo>
                    <a:pt x="2137" y="460"/>
                  </a:lnTo>
                  <a:lnTo>
                    <a:pt x="2132" y="455"/>
                  </a:lnTo>
                  <a:lnTo>
                    <a:pt x="2122" y="455"/>
                  </a:lnTo>
                  <a:lnTo>
                    <a:pt x="2117" y="450"/>
                  </a:lnTo>
                  <a:lnTo>
                    <a:pt x="2107" y="445"/>
                  </a:lnTo>
                  <a:lnTo>
                    <a:pt x="2102" y="445"/>
                  </a:lnTo>
                  <a:lnTo>
                    <a:pt x="2097" y="440"/>
                  </a:lnTo>
                  <a:lnTo>
                    <a:pt x="2087" y="440"/>
                  </a:lnTo>
                  <a:lnTo>
                    <a:pt x="2082" y="435"/>
                  </a:lnTo>
                  <a:lnTo>
                    <a:pt x="2072" y="435"/>
                  </a:lnTo>
                  <a:lnTo>
                    <a:pt x="2067" y="430"/>
                  </a:lnTo>
                  <a:lnTo>
                    <a:pt x="2057" y="425"/>
                  </a:lnTo>
                  <a:lnTo>
                    <a:pt x="2057" y="425"/>
                  </a:lnTo>
                  <a:lnTo>
                    <a:pt x="2057" y="420"/>
                  </a:lnTo>
                  <a:lnTo>
                    <a:pt x="2057" y="411"/>
                  </a:lnTo>
                  <a:lnTo>
                    <a:pt x="2057" y="406"/>
                  </a:lnTo>
                  <a:lnTo>
                    <a:pt x="2057" y="401"/>
                  </a:lnTo>
                  <a:lnTo>
                    <a:pt x="2052" y="396"/>
                  </a:lnTo>
                  <a:lnTo>
                    <a:pt x="2048" y="391"/>
                  </a:lnTo>
                  <a:lnTo>
                    <a:pt x="2043" y="391"/>
                  </a:lnTo>
                  <a:lnTo>
                    <a:pt x="2033" y="396"/>
                  </a:lnTo>
                  <a:lnTo>
                    <a:pt x="2028" y="401"/>
                  </a:lnTo>
                  <a:lnTo>
                    <a:pt x="2018" y="401"/>
                  </a:lnTo>
                  <a:lnTo>
                    <a:pt x="2013" y="406"/>
                  </a:lnTo>
                  <a:lnTo>
                    <a:pt x="2003" y="411"/>
                  </a:lnTo>
                  <a:lnTo>
                    <a:pt x="1998" y="411"/>
                  </a:lnTo>
                  <a:lnTo>
                    <a:pt x="1988" y="411"/>
                  </a:lnTo>
                  <a:lnTo>
                    <a:pt x="1983" y="411"/>
                  </a:lnTo>
                  <a:lnTo>
                    <a:pt x="1973" y="416"/>
                  </a:lnTo>
                  <a:lnTo>
                    <a:pt x="1963" y="416"/>
                  </a:lnTo>
                  <a:lnTo>
                    <a:pt x="1959" y="416"/>
                  </a:lnTo>
                  <a:lnTo>
                    <a:pt x="1949" y="416"/>
                  </a:lnTo>
                  <a:lnTo>
                    <a:pt x="1944" y="416"/>
                  </a:lnTo>
                  <a:lnTo>
                    <a:pt x="1934" y="416"/>
                  </a:lnTo>
                  <a:lnTo>
                    <a:pt x="1924" y="416"/>
                  </a:lnTo>
                  <a:lnTo>
                    <a:pt x="1919" y="420"/>
                  </a:lnTo>
                  <a:lnTo>
                    <a:pt x="1909" y="420"/>
                  </a:lnTo>
                  <a:lnTo>
                    <a:pt x="1904" y="425"/>
                  </a:lnTo>
                  <a:lnTo>
                    <a:pt x="1899" y="430"/>
                  </a:lnTo>
                  <a:lnTo>
                    <a:pt x="1894" y="435"/>
                  </a:lnTo>
                  <a:lnTo>
                    <a:pt x="1889" y="440"/>
                  </a:lnTo>
                  <a:lnTo>
                    <a:pt x="1879" y="440"/>
                  </a:lnTo>
                  <a:lnTo>
                    <a:pt x="1874" y="445"/>
                  </a:lnTo>
                  <a:lnTo>
                    <a:pt x="1870" y="445"/>
                  </a:lnTo>
                  <a:lnTo>
                    <a:pt x="1865" y="450"/>
                  </a:lnTo>
                  <a:lnTo>
                    <a:pt x="1860" y="455"/>
                  </a:lnTo>
                  <a:lnTo>
                    <a:pt x="1860" y="450"/>
                  </a:lnTo>
                  <a:lnTo>
                    <a:pt x="1865" y="445"/>
                  </a:lnTo>
                  <a:lnTo>
                    <a:pt x="1870" y="440"/>
                  </a:lnTo>
                  <a:lnTo>
                    <a:pt x="1870" y="435"/>
                  </a:lnTo>
                  <a:lnTo>
                    <a:pt x="1874" y="430"/>
                  </a:lnTo>
                  <a:lnTo>
                    <a:pt x="1870" y="425"/>
                  </a:lnTo>
                  <a:lnTo>
                    <a:pt x="1870" y="420"/>
                  </a:lnTo>
                  <a:lnTo>
                    <a:pt x="1860" y="420"/>
                  </a:lnTo>
                  <a:lnTo>
                    <a:pt x="1855" y="416"/>
                  </a:lnTo>
                  <a:lnTo>
                    <a:pt x="1845" y="416"/>
                  </a:lnTo>
                  <a:lnTo>
                    <a:pt x="1835" y="420"/>
                  </a:lnTo>
                  <a:lnTo>
                    <a:pt x="1830" y="420"/>
                  </a:lnTo>
                  <a:lnTo>
                    <a:pt x="1825" y="425"/>
                  </a:lnTo>
                  <a:lnTo>
                    <a:pt x="1820" y="430"/>
                  </a:lnTo>
                  <a:lnTo>
                    <a:pt x="1820" y="435"/>
                  </a:lnTo>
                  <a:lnTo>
                    <a:pt x="1815" y="440"/>
                  </a:lnTo>
                  <a:lnTo>
                    <a:pt x="1815" y="445"/>
                  </a:lnTo>
                  <a:lnTo>
                    <a:pt x="1815" y="450"/>
                  </a:lnTo>
                  <a:lnTo>
                    <a:pt x="1815" y="460"/>
                  </a:lnTo>
                  <a:lnTo>
                    <a:pt x="1815" y="465"/>
                  </a:lnTo>
                  <a:lnTo>
                    <a:pt x="1815" y="470"/>
                  </a:lnTo>
                  <a:lnTo>
                    <a:pt x="1810" y="475"/>
                  </a:lnTo>
                  <a:lnTo>
                    <a:pt x="1810" y="480"/>
                  </a:lnTo>
                  <a:lnTo>
                    <a:pt x="1810" y="485"/>
                  </a:lnTo>
                  <a:lnTo>
                    <a:pt x="1805" y="490"/>
                  </a:lnTo>
                  <a:lnTo>
                    <a:pt x="1805" y="495"/>
                  </a:lnTo>
                  <a:lnTo>
                    <a:pt x="1805" y="500"/>
                  </a:lnTo>
                  <a:lnTo>
                    <a:pt x="1800" y="504"/>
                  </a:lnTo>
                  <a:lnTo>
                    <a:pt x="1800" y="509"/>
                  </a:lnTo>
                  <a:lnTo>
                    <a:pt x="1795" y="514"/>
                  </a:lnTo>
                  <a:lnTo>
                    <a:pt x="1795" y="519"/>
                  </a:lnTo>
                  <a:lnTo>
                    <a:pt x="1795" y="524"/>
                  </a:lnTo>
                  <a:lnTo>
                    <a:pt x="1790" y="529"/>
                  </a:lnTo>
                  <a:lnTo>
                    <a:pt x="1790" y="534"/>
                  </a:lnTo>
                  <a:lnTo>
                    <a:pt x="1790" y="539"/>
                  </a:lnTo>
                  <a:lnTo>
                    <a:pt x="1785" y="544"/>
                  </a:lnTo>
                  <a:lnTo>
                    <a:pt x="1785" y="549"/>
                  </a:lnTo>
                  <a:lnTo>
                    <a:pt x="1785" y="554"/>
                  </a:lnTo>
                  <a:lnTo>
                    <a:pt x="1780" y="564"/>
                  </a:lnTo>
                  <a:lnTo>
                    <a:pt x="1780" y="569"/>
                  </a:lnTo>
                  <a:lnTo>
                    <a:pt x="1780" y="574"/>
                  </a:lnTo>
                  <a:lnTo>
                    <a:pt x="1776" y="579"/>
                  </a:lnTo>
                  <a:lnTo>
                    <a:pt x="1776" y="584"/>
                  </a:lnTo>
                  <a:lnTo>
                    <a:pt x="1771" y="589"/>
                  </a:lnTo>
                  <a:lnTo>
                    <a:pt x="1771" y="593"/>
                  </a:lnTo>
                  <a:lnTo>
                    <a:pt x="1766" y="598"/>
                  </a:lnTo>
                  <a:lnTo>
                    <a:pt x="1761" y="603"/>
                  </a:lnTo>
                  <a:lnTo>
                    <a:pt x="1756" y="608"/>
                  </a:lnTo>
                  <a:lnTo>
                    <a:pt x="1751" y="608"/>
                  </a:lnTo>
                  <a:lnTo>
                    <a:pt x="1751" y="613"/>
                  </a:lnTo>
                  <a:lnTo>
                    <a:pt x="1751" y="618"/>
                  </a:lnTo>
                  <a:lnTo>
                    <a:pt x="1756" y="628"/>
                  </a:lnTo>
                  <a:lnTo>
                    <a:pt x="1756" y="633"/>
                  </a:lnTo>
                  <a:lnTo>
                    <a:pt x="1761" y="638"/>
                  </a:lnTo>
                  <a:lnTo>
                    <a:pt x="1761" y="643"/>
                  </a:lnTo>
                  <a:lnTo>
                    <a:pt x="1756" y="643"/>
                  </a:lnTo>
                  <a:lnTo>
                    <a:pt x="1746" y="648"/>
                  </a:lnTo>
                  <a:lnTo>
                    <a:pt x="1736" y="648"/>
                  </a:lnTo>
                  <a:lnTo>
                    <a:pt x="1731" y="643"/>
                  </a:lnTo>
                  <a:lnTo>
                    <a:pt x="1721" y="643"/>
                  </a:lnTo>
                  <a:lnTo>
                    <a:pt x="1711" y="643"/>
                  </a:lnTo>
                  <a:lnTo>
                    <a:pt x="1706" y="643"/>
                  </a:lnTo>
                  <a:lnTo>
                    <a:pt x="1696" y="643"/>
                  </a:lnTo>
                  <a:lnTo>
                    <a:pt x="1687" y="643"/>
                  </a:lnTo>
                  <a:lnTo>
                    <a:pt x="1682" y="643"/>
                  </a:lnTo>
                  <a:lnTo>
                    <a:pt x="1672" y="643"/>
                  </a:lnTo>
                  <a:lnTo>
                    <a:pt x="1667" y="638"/>
                  </a:lnTo>
                  <a:lnTo>
                    <a:pt x="1657" y="638"/>
                  </a:lnTo>
                  <a:lnTo>
                    <a:pt x="1647" y="638"/>
                  </a:lnTo>
                  <a:lnTo>
                    <a:pt x="1642" y="638"/>
                  </a:lnTo>
                  <a:lnTo>
                    <a:pt x="1632" y="633"/>
                  </a:lnTo>
                  <a:lnTo>
                    <a:pt x="1627" y="633"/>
                  </a:lnTo>
                  <a:lnTo>
                    <a:pt x="1617" y="633"/>
                  </a:lnTo>
                  <a:lnTo>
                    <a:pt x="1607" y="633"/>
                  </a:lnTo>
                  <a:lnTo>
                    <a:pt x="1602" y="638"/>
                  </a:lnTo>
                  <a:lnTo>
                    <a:pt x="1593" y="638"/>
                  </a:lnTo>
                  <a:lnTo>
                    <a:pt x="1588" y="638"/>
                  </a:lnTo>
                  <a:lnTo>
                    <a:pt x="1578" y="643"/>
                  </a:lnTo>
                  <a:lnTo>
                    <a:pt x="1578" y="648"/>
                  </a:lnTo>
                  <a:lnTo>
                    <a:pt x="1573" y="653"/>
                  </a:lnTo>
                  <a:lnTo>
                    <a:pt x="1573" y="658"/>
                  </a:lnTo>
                  <a:lnTo>
                    <a:pt x="1568" y="663"/>
                  </a:lnTo>
                  <a:lnTo>
                    <a:pt x="1563" y="668"/>
                  </a:lnTo>
                  <a:lnTo>
                    <a:pt x="1563" y="673"/>
                  </a:lnTo>
                  <a:lnTo>
                    <a:pt x="1558" y="677"/>
                  </a:lnTo>
                  <a:lnTo>
                    <a:pt x="1553" y="682"/>
                  </a:lnTo>
                  <a:lnTo>
                    <a:pt x="1553" y="687"/>
                  </a:lnTo>
                  <a:lnTo>
                    <a:pt x="1548" y="692"/>
                  </a:lnTo>
                  <a:lnTo>
                    <a:pt x="1543" y="697"/>
                  </a:lnTo>
                  <a:lnTo>
                    <a:pt x="1543" y="697"/>
                  </a:lnTo>
                  <a:lnTo>
                    <a:pt x="1538" y="692"/>
                  </a:lnTo>
                  <a:lnTo>
                    <a:pt x="1538" y="687"/>
                  </a:lnTo>
                  <a:lnTo>
                    <a:pt x="1538" y="682"/>
                  </a:lnTo>
                  <a:lnTo>
                    <a:pt x="1538" y="677"/>
                  </a:lnTo>
                  <a:lnTo>
                    <a:pt x="1533" y="673"/>
                  </a:lnTo>
                  <a:lnTo>
                    <a:pt x="1533" y="668"/>
                  </a:lnTo>
                  <a:lnTo>
                    <a:pt x="1533" y="663"/>
                  </a:lnTo>
                  <a:lnTo>
                    <a:pt x="1533" y="658"/>
                  </a:lnTo>
                  <a:lnTo>
                    <a:pt x="1533" y="653"/>
                  </a:lnTo>
                  <a:lnTo>
                    <a:pt x="1533" y="643"/>
                  </a:lnTo>
                  <a:lnTo>
                    <a:pt x="1533" y="638"/>
                  </a:lnTo>
                  <a:lnTo>
                    <a:pt x="1538" y="633"/>
                  </a:lnTo>
                  <a:lnTo>
                    <a:pt x="1538" y="628"/>
                  </a:lnTo>
                  <a:lnTo>
                    <a:pt x="1543" y="623"/>
                  </a:lnTo>
                  <a:lnTo>
                    <a:pt x="1548" y="618"/>
                  </a:lnTo>
                  <a:lnTo>
                    <a:pt x="1548" y="613"/>
                  </a:lnTo>
                  <a:lnTo>
                    <a:pt x="1548" y="608"/>
                  </a:lnTo>
                  <a:lnTo>
                    <a:pt x="1548" y="603"/>
                  </a:lnTo>
                  <a:lnTo>
                    <a:pt x="1548" y="598"/>
                  </a:lnTo>
                  <a:lnTo>
                    <a:pt x="1548" y="593"/>
                  </a:lnTo>
                  <a:lnTo>
                    <a:pt x="1548" y="589"/>
                  </a:lnTo>
                  <a:lnTo>
                    <a:pt x="1548" y="584"/>
                  </a:lnTo>
                  <a:lnTo>
                    <a:pt x="1543" y="579"/>
                  </a:lnTo>
                  <a:lnTo>
                    <a:pt x="1538" y="579"/>
                  </a:lnTo>
                  <a:lnTo>
                    <a:pt x="1528" y="579"/>
                  </a:lnTo>
                  <a:lnTo>
                    <a:pt x="1523" y="584"/>
                  </a:lnTo>
                  <a:lnTo>
                    <a:pt x="1518" y="589"/>
                  </a:lnTo>
                  <a:lnTo>
                    <a:pt x="1513" y="593"/>
                  </a:lnTo>
                  <a:lnTo>
                    <a:pt x="1508" y="598"/>
                  </a:lnTo>
                  <a:lnTo>
                    <a:pt x="1508" y="603"/>
                  </a:lnTo>
                  <a:lnTo>
                    <a:pt x="1504" y="608"/>
                  </a:lnTo>
                  <a:lnTo>
                    <a:pt x="1499" y="613"/>
                  </a:lnTo>
                  <a:lnTo>
                    <a:pt x="1499" y="618"/>
                  </a:lnTo>
                  <a:lnTo>
                    <a:pt x="1499" y="623"/>
                  </a:lnTo>
                  <a:lnTo>
                    <a:pt x="1499" y="628"/>
                  </a:lnTo>
                  <a:lnTo>
                    <a:pt x="1499" y="633"/>
                  </a:lnTo>
                  <a:lnTo>
                    <a:pt x="1499" y="638"/>
                  </a:lnTo>
                  <a:lnTo>
                    <a:pt x="1494" y="643"/>
                  </a:lnTo>
                  <a:lnTo>
                    <a:pt x="1494" y="653"/>
                  </a:lnTo>
                  <a:lnTo>
                    <a:pt x="1494" y="658"/>
                  </a:lnTo>
                  <a:lnTo>
                    <a:pt x="1494" y="663"/>
                  </a:lnTo>
                  <a:lnTo>
                    <a:pt x="1494" y="668"/>
                  </a:lnTo>
                  <a:lnTo>
                    <a:pt x="1489" y="673"/>
                  </a:lnTo>
                  <a:lnTo>
                    <a:pt x="1489" y="677"/>
                  </a:lnTo>
                  <a:lnTo>
                    <a:pt x="1489" y="682"/>
                  </a:lnTo>
                  <a:lnTo>
                    <a:pt x="1484" y="687"/>
                  </a:lnTo>
                  <a:lnTo>
                    <a:pt x="1484" y="692"/>
                  </a:lnTo>
                  <a:lnTo>
                    <a:pt x="1484" y="697"/>
                  </a:lnTo>
                  <a:lnTo>
                    <a:pt x="1484" y="702"/>
                  </a:lnTo>
                  <a:lnTo>
                    <a:pt x="1484" y="707"/>
                  </a:lnTo>
                  <a:lnTo>
                    <a:pt x="1479" y="712"/>
                  </a:lnTo>
                  <a:lnTo>
                    <a:pt x="1479" y="717"/>
                  </a:lnTo>
                  <a:lnTo>
                    <a:pt x="1479" y="722"/>
                  </a:lnTo>
                  <a:lnTo>
                    <a:pt x="1479" y="727"/>
                  </a:lnTo>
                  <a:lnTo>
                    <a:pt x="1479" y="737"/>
                  </a:lnTo>
                  <a:lnTo>
                    <a:pt x="1479" y="742"/>
                  </a:lnTo>
                  <a:lnTo>
                    <a:pt x="1479" y="747"/>
                  </a:lnTo>
                  <a:lnTo>
                    <a:pt x="1479" y="752"/>
                  </a:lnTo>
                  <a:lnTo>
                    <a:pt x="1479" y="757"/>
                  </a:lnTo>
                  <a:lnTo>
                    <a:pt x="1479" y="762"/>
                  </a:lnTo>
                  <a:lnTo>
                    <a:pt x="1479" y="766"/>
                  </a:lnTo>
                  <a:lnTo>
                    <a:pt x="1479" y="771"/>
                  </a:lnTo>
                  <a:lnTo>
                    <a:pt x="1479" y="776"/>
                  </a:lnTo>
                  <a:lnTo>
                    <a:pt x="1479" y="781"/>
                  </a:lnTo>
                  <a:lnTo>
                    <a:pt x="1479" y="786"/>
                  </a:lnTo>
                  <a:lnTo>
                    <a:pt x="1479" y="791"/>
                  </a:lnTo>
                  <a:lnTo>
                    <a:pt x="1479" y="796"/>
                  </a:lnTo>
                  <a:lnTo>
                    <a:pt x="1479" y="801"/>
                  </a:lnTo>
                  <a:lnTo>
                    <a:pt x="1479" y="806"/>
                  </a:lnTo>
                  <a:lnTo>
                    <a:pt x="1479" y="811"/>
                  </a:lnTo>
                  <a:lnTo>
                    <a:pt x="1479" y="821"/>
                  </a:lnTo>
                  <a:lnTo>
                    <a:pt x="1479" y="826"/>
                  </a:lnTo>
                  <a:lnTo>
                    <a:pt x="1479" y="831"/>
                  </a:lnTo>
                  <a:lnTo>
                    <a:pt x="1474" y="836"/>
                  </a:lnTo>
                  <a:lnTo>
                    <a:pt x="1469" y="846"/>
                  </a:lnTo>
                  <a:lnTo>
                    <a:pt x="1469" y="850"/>
                  </a:lnTo>
                  <a:lnTo>
                    <a:pt x="1464" y="850"/>
                  </a:lnTo>
                  <a:lnTo>
                    <a:pt x="1459" y="846"/>
                  </a:lnTo>
                  <a:lnTo>
                    <a:pt x="1449" y="846"/>
                  </a:lnTo>
                  <a:lnTo>
                    <a:pt x="1444" y="841"/>
                  </a:lnTo>
                  <a:lnTo>
                    <a:pt x="1434" y="836"/>
                  </a:lnTo>
                  <a:lnTo>
                    <a:pt x="1429" y="836"/>
                  </a:lnTo>
                  <a:lnTo>
                    <a:pt x="1424" y="841"/>
                  </a:lnTo>
                  <a:lnTo>
                    <a:pt x="1415" y="846"/>
                  </a:lnTo>
                  <a:lnTo>
                    <a:pt x="1410" y="850"/>
                  </a:lnTo>
                  <a:lnTo>
                    <a:pt x="1405" y="850"/>
                  </a:lnTo>
                  <a:lnTo>
                    <a:pt x="1400" y="855"/>
                  </a:lnTo>
                  <a:lnTo>
                    <a:pt x="1390" y="860"/>
                  </a:lnTo>
                  <a:lnTo>
                    <a:pt x="1385" y="860"/>
                  </a:lnTo>
                  <a:lnTo>
                    <a:pt x="1380" y="865"/>
                  </a:lnTo>
                  <a:lnTo>
                    <a:pt x="1370" y="870"/>
                  </a:lnTo>
                  <a:lnTo>
                    <a:pt x="1365" y="870"/>
                  </a:lnTo>
                  <a:lnTo>
                    <a:pt x="1360" y="875"/>
                  </a:lnTo>
                  <a:lnTo>
                    <a:pt x="1355" y="880"/>
                  </a:lnTo>
                  <a:lnTo>
                    <a:pt x="1355" y="885"/>
                  </a:lnTo>
                  <a:lnTo>
                    <a:pt x="1345" y="890"/>
                  </a:lnTo>
                  <a:lnTo>
                    <a:pt x="1340" y="895"/>
                  </a:lnTo>
                  <a:lnTo>
                    <a:pt x="1335" y="900"/>
                  </a:lnTo>
                  <a:lnTo>
                    <a:pt x="1330" y="900"/>
                  </a:lnTo>
                  <a:lnTo>
                    <a:pt x="1326" y="900"/>
                  </a:lnTo>
                  <a:lnTo>
                    <a:pt x="1321" y="895"/>
                  </a:lnTo>
                  <a:lnTo>
                    <a:pt x="1316" y="890"/>
                  </a:lnTo>
                  <a:lnTo>
                    <a:pt x="1311" y="880"/>
                  </a:lnTo>
                  <a:lnTo>
                    <a:pt x="1306" y="875"/>
                  </a:lnTo>
                  <a:lnTo>
                    <a:pt x="1301" y="875"/>
                  </a:lnTo>
                  <a:lnTo>
                    <a:pt x="1296" y="870"/>
                  </a:lnTo>
                  <a:lnTo>
                    <a:pt x="1291" y="865"/>
                  </a:lnTo>
                  <a:lnTo>
                    <a:pt x="1286" y="860"/>
                  </a:lnTo>
                  <a:lnTo>
                    <a:pt x="1281" y="860"/>
                  </a:lnTo>
                  <a:lnTo>
                    <a:pt x="1271" y="855"/>
                  </a:lnTo>
                  <a:lnTo>
                    <a:pt x="1266" y="850"/>
                  </a:lnTo>
                  <a:lnTo>
                    <a:pt x="1261" y="846"/>
                  </a:lnTo>
                  <a:lnTo>
                    <a:pt x="1256" y="841"/>
                  </a:lnTo>
                  <a:lnTo>
                    <a:pt x="1251" y="841"/>
                  </a:lnTo>
                  <a:lnTo>
                    <a:pt x="1246" y="836"/>
                  </a:lnTo>
                  <a:lnTo>
                    <a:pt x="1241" y="831"/>
                  </a:lnTo>
                  <a:lnTo>
                    <a:pt x="1236" y="826"/>
                  </a:lnTo>
                  <a:lnTo>
                    <a:pt x="1232" y="821"/>
                  </a:lnTo>
                  <a:lnTo>
                    <a:pt x="1222" y="821"/>
                  </a:lnTo>
                  <a:lnTo>
                    <a:pt x="1217" y="816"/>
                  </a:lnTo>
                  <a:lnTo>
                    <a:pt x="1217" y="811"/>
                  </a:lnTo>
                  <a:lnTo>
                    <a:pt x="1212" y="806"/>
                  </a:lnTo>
                  <a:lnTo>
                    <a:pt x="1212" y="801"/>
                  </a:lnTo>
                  <a:lnTo>
                    <a:pt x="1217" y="796"/>
                  </a:lnTo>
                  <a:lnTo>
                    <a:pt x="1217" y="791"/>
                  </a:lnTo>
                  <a:lnTo>
                    <a:pt x="1222" y="786"/>
                  </a:lnTo>
                  <a:lnTo>
                    <a:pt x="1222" y="781"/>
                  </a:lnTo>
                  <a:lnTo>
                    <a:pt x="1227" y="771"/>
                  </a:lnTo>
                  <a:lnTo>
                    <a:pt x="1222" y="766"/>
                  </a:lnTo>
                  <a:lnTo>
                    <a:pt x="1222" y="766"/>
                  </a:lnTo>
                  <a:lnTo>
                    <a:pt x="1217" y="762"/>
                  </a:lnTo>
                  <a:lnTo>
                    <a:pt x="1212" y="757"/>
                  </a:lnTo>
                  <a:lnTo>
                    <a:pt x="1202" y="752"/>
                  </a:lnTo>
                  <a:lnTo>
                    <a:pt x="1197" y="747"/>
                  </a:lnTo>
                  <a:lnTo>
                    <a:pt x="1192" y="752"/>
                  </a:lnTo>
                  <a:lnTo>
                    <a:pt x="1192" y="757"/>
                  </a:lnTo>
                  <a:lnTo>
                    <a:pt x="1187" y="762"/>
                  </a:lnTo>
                  <a:lnTo>
                    <a:pt x="1182" y="766"/>
                  </a:lnTo>
                  <a:lnTo>
                    <a:pt x="1182" y="771"/>
                  </a:lnTo>
                  <a:lnTo>
                    <a:pt x="1177" y="776"/>
                  </a:lnTo>
                  <a:lnTo>
                    <a:pt x="1177" y="781"/>
                  </a:lnTo>
                  <a:lnTo>
                    <a:pt x="1172" y="786"/>
                  </a:lnTo>
                  <a:lnTo>
                    <a:pt x="1167" y="791"/>
                  </a:lnTo>
                  <a:lnTo>
                    <a:pt x="1162" y="796"/>
                  </a:lnTo>
                  <a:lnTo>
                    <a:pt x="1157" y="801"/>
                  </a:lnTo>
                  <a:lnTo>
                    <a:pt x="1157" y="801"/>
                  </a:lnTo>
                  <a:lnTo>
                    <a:pt x="1167" y="806"/>
                  </a:lnTo>
                  <a:lnTo>
                    <a:pt x="1172" y="811"/>
                  </a:lnTo>
                  <a:lnTo>
                    <a:pt x="1177" y="811"/>
                  </a:lnTo>
                  <a:lnTo>
                    <a:pt x="1182" y="816"/>
                  </a:lnTo>
                  <a:lnTo>
                    <a:pt x="1187" y="821"/>
                  </a:lnTo>
                  <a:lnTo>
                    <a:pt x="1187" y="826"/>
                  </a:lnTo>
                  <a:lnTo>
                    <a:pt x="1192" y="831"/>
                  </a:lnTo>
                  <a:lnTo>
                    <a:pt x="1197" y="836"/>
                  </a:lnTo>
                  <a:lnTo>
                    <a:pt x="1197" y="841"/>
                  </a:lnTo>
                  <a:lnTo>
                    <a:pt x="1202" y="846"/>
                  </a:lnTo>
                  <a:lnTo>
                    <a:pt x="1207" y="850"/>
                  </a:lnTo>
                  <a:lnTo>
                    <a:pt x="1212" y="855"/>
                  </a:lnTo>
                  <a:lnTo>
                    <a:pt x="1212" y="860"/>
                  </a:lnTo>
                  <a:lnTo>
                    <a:pt x="1212" y="865"/>
                  </a:lnTo>
                  <a:lnTo>
                    <a:pt x="1212" y="870"/>
                  </a:lnTo>
                  <a:lnTo>
                    <a:pt x="1212" y="875"/>
                  </a:lnTo>
                  <a:lnTo>
                    <a:pt x="1217" y="880"/>
                  </a:lnTo>
                  <a:lnTo>
                    <a:pt x="1222" y="885"/>
                  </a:lnTo>
                  <a:lnTo>
                    <a:pt x="1227" y="890"/>
                  </a:lnTo>
                  <a:lnTo>
                    <a:pt x="1227" y="895"/>
                  </a:lnTo>
                  <a:lnTo>
                    <a:pt x="1232" y="900"/>
                  </a:lnTo>
                  <a:lnTo>
                    <a:pt x="1232" y="905"/>
                  </a:lnTo>
                  <a:lnTo>
                    <a:pt x="1236" y="910"/>
                  </a:lnTo>
                  <a:lnTo>
                    <a:pt x="1241" y="915"/>
                  </a:lnTo>
                  <a:lnTo>
                    <a:pt x="1241" y="920"/>
                  </a:lnTo>
                  <a:lnTo>
                    <a:pt x="1246" y="925"/>
                  </a:lnTo>
                  <a:lnTo>
                    <a:pt x="1251" y="930"/>
                  </a:lnTo>
                  <a:lnTo>
                    <a:pt x="1256" y="934"/>
                  </a:lnTo>
                  <a:lnTo>
                    <a:pt x="1256" y="939"/>
                  </a:lnTo>
                  <a:lnTo>
                    <a:pt x="1261" y="944"/>
                  </a:lnTo>
                  <a:lnTo>
                    <a:pt x="1261" y="949"/>
                  </a:lnTo>
                  <a:lnTo>
                    <a:pt x="1261" y="954"/>
                  </a:lnTo>
                  <a:lnTo>
                    <a:pt x="1261" y="959"/>
                  </a:lnTo>
                  <a:lnTo>
                    <a:pt x="1266" y="964"/>
                  </a:lnTo>
                  <a:lnTo>
                    <a:pt x="1271" y="969"/>
                  </a:lnTo>
                  <a:lnTo>
                    <a:pt x="1276" y="974"/>
                  </a:lnTo>
                  <a:lnTo>
                    <a:pt x="1276" y="979"/>
                  </a:lnTo>
                  <a:lnTo>
                    <a:pt x="1281" y="984"/>
                  </a:lnTo>
                  <a:lnTo>
                    <a:pt x="1286" y="989"/>
                  </a:lnTo>
                  <a:lnTo>
                    <a:pt x="1286" y="994"/>
                  </a:lnTo>
                  <a:lnTo>
                    <a:pt x="1291" y="999"/>
                  </a:lnTo>
                  <a:lnTo>
                    <a:pt x="1296" y="1004"/>
                  </a:lnTo>
                  <a:lnTo>
                    <a:pt x="1296" y="1009"/>
                  </a:lnTo>
                  <a:lnTo>
                    <a:pt x="1301" y="1014"/>
                  </a:lnTo>
                  <a:lnTo>
                    <a:pt x="1301" y="1019"/>
                  </a:lnTo>
                  <a:lnTo>
                    <a:pt x="1296" y="1023"/>
                  </a:lnTo>
                  <a:lnTo>
                    <a:pt x="1291" y="1028"/>
                  </a:lnTo>
                  <a:lnTo>
                    <a:pt x="1286" y="1033"/>
                  </a:lnTo>
                  <a:lnTo>
                    <a:pt x="1281" y="1038"/>
                  </a:lnTo>
                  <a:lnTo>
                    <a:pt x="1276" y="1038"/>
                  </a:lnTo>
                  <a:lnTo>
                    <a:pt x="1271" y="1043"/>
                  </a:lnTo>
                  <a:lnTo>
                    <a:pt x="1266" y="1048"/>
                  </a:lnTo>
                  <a:lnTo>
                    <a:pt x="1261" y="1053"/>
                  </a:lnTo>
                  <a:lnTo>
                    <a:pt x="1256" y="1058"/>
                  </a:lnTo>
                  <a:lnTo>
                    <a:pt x="1246" y="1058"/>
                  </a:lnTo>
                  <a:lnTo>
                    <a:pt x="1241" y="1063"/>
                  </a:lnTo>
                  <a:lnTo>
                    <a:pt x="1236" y="1063"/>
                  </a:lnTo>
                  <a:lnTo>
                    <a:pt x="1227" y="1068"/>
                  </a:lnTo>
                  <a:lnTo>
                    <a:pt x="1222" y="1068"/>
                  </a:lnTo>
                  <a:lnTo>
                    <a:pt x="1212" y="1068"/>
                  </a:lnTo>
                  <a:lnTo>
                    <a:pt x="1202" y="1073"/>
                  </a:lnTo>
                  <a:lnTo>
                    <a:pt x="1197" y="1073"/>
                  </a:lnTo>
                  <a:lnTo>
                    <a:pt x="1187" y="1073"/>
                  </a:lnTo>
                  <a:lnTo>
                    <a:pt x="1182" y="1073"/>
                  </a:lnTo>
                  <a:lnTo>
                    <a:pt x="1172" y="1073"/>
                  </a:lnTo>
                  <a:lnTo>
                    <a:pt x="1162" y="1073"/>
                  </a:lnTo>
                  <a:lnTo>
                    <a:pt x="1152" y="1073"/>
                  </a:lnTo>
                  <a:lnTo>
                    <a:pt x="1147" y="1078"/>
                  </a:lnTo>
                  <a:lnTo>
                    <a:pt x="1143" y="1078"/>
                  </a:lnTo>
                  <a:lnTo>
                    <a:pt x="1138" y="1083"/>
                  </a:lnTo>
                  <a:lnTo>
                    <a:pt x="1133" y="1088"/>
                  </a:lnTo>
                  <a:lnTo>
                    <a:pt x="1133" y="1093"/>
                  </a:lnTo>
                  <a:lnTo>
                    <a:pt x="1133" y="1098"/>
                  </a:lnTo>
                  <a:lnTo>
                    <a:pt x="1128" y="1103"/>
                  </a:lnTo>
                  <a:lnTo>
                    <a:pt x="1128" y="1107"/>
                  </a:lnTo>
                  <a:lnTo>
                    <a:pt x="1128" y="1112"/>
                  </a:lnTo>
                  <a:lnTo>
                    <a:pt x="1128" y="1122"/>
                  </a:lnTo>
                  <a:lnTo>
                    <a:pt x="1123" y="1127"/>
                  </a:lnTo>
                  <a:lnTo>
                    <a:pt x="1123" y="1132"/>
                  </a:lnTo>
                  <a:lnTo>
                    <a:pt x="1123" y="1142"/>
                  </a:lnTo>
                  <a:lnTo>
                    <a:pt x="1118" y="1142"/>
                  </a:lnTo>
                  <a:lnTo>
                    <a:pt x="1113" y="1142"/>
                  </a:lnTo>
                  <a:lnTo>
                    <a:pt x="1108" y="1142"/>
                  </a:lnTo>
                  <a:lnTo>
                    <a:pt x="1103" y="1137"/>
                  </a:lnTo>
                  <a:lnTo>
                    <a:pt x="1098" y="1132"/>
                  </a:lnTo>
                  <a:lnTo>
                    <a:pt x="1088" y="1127"/>
                  </a:lnTo>
                  <a:lnTo>
                    <a:pt x="1083" y="1122"/>
                  </a:lnTo>
                  <a:lnTo>
                    <a:pt x="1073" y="1122"/>
                  </a:lnTo>
                  <a:lnTo>
                    <a:pt x="1068" y="1122"/>
                  </a:lnTo>
                  <a:lnTo>
                    <a:pt x="1058" y="1122"/>
                  </a:lnTo>
                  <a:lnTo>
                    <a:pt x="1053" y="1122"/>
                  </a:lnTo>
                  <a:lnTo>
                    <a:pt x="1044" y="1122"/>
                  </a:lnTo>
                  <a:lnTo>
                    <a:pt x="1034" y="1122"/>
                  </a:lnTo>
                  <a:lnTo>
                    <a:pt x="1029" y="1127"/>
                  </a:lnTo>
                  <a:lnTo>
                    <a:pt x="1019" y="1127"/>
                  </a:lnTo>
                  <a:lnTo>
                    <a:pt x="1014" y="1127"/>
                  </a:lnTo>
                  <a:lnTo>
                    <a:pt x="1004" y="1127"/>
                  </a:lnTo>
                  <a:lnTo>
                    <a:pt x="994" y="1132"/>
                  </a:lnTo>
                  <a:lnTo>
                    <a:pt x="989" y="1132"/>
                  </a:lnTo>
                  <a:lnTo>
                    <a:pt x="979" y="1137"/>
                  </a:lnTo>
                  <a:lnTo>
                    <a:pt x="974" y="1142"/>
                  </a:lnTo>
                  <a:lnTo>
                    <a:pt x="974" y="1147"/>
                  </a:lnTo>
                  <a:lnTo>
                    <a:pt x="974" y="1152"/>
                  </a:lnTo>
                  <a:lnTo>
                    <a:pt x="974" y="1157"/>
                  </a:lnTo>
                  <a:lnTo>
                    <a:pt x="979" y="1162"/>
                  </a:lnTo>
                  <a:lnTo>
                    <a:pt x="984" y="1167"/>
                  </a:lnTo>
                  <a:lnTo>
                    <a:pt x="989" y="1172"/>
                  </a:lnTo>
                  <a:lnTo>
                    <a:pt x="989" y="1177"/>
                  </a:lnTo>
                  <a:lnTo>
                    <a:pt x="984" y="1182"/>
                  </a:lnTo>
                  <a:lnTo>
                    <a:pt x="979" y="1177"/>
                  </a:lnTo>
                  <a:lnTo>
                    <a:pt x="974" y="1172"/>
                  </a:lnTo>
                  <a:lnTo>
                    <a:pt x="964" y="1167"/>
                  </a:lnTo>
                  <a:lnTo>
                    <a:pt x="960" y="1167"/>
                  </a:lnTo>
                  <a:lnTo>
                    <a:pt x="955" y="1162"/>
                  </a:lnTo>
                  <a:lnTo>
                    <a:pt x="950" y="1157"/>
                  </a:lnTo>
                  <a:lnTo>
                    <a:pt x="945" y="1157"/>
                  </a:lnTo>
                  <a:lnTo>
                    <a:pt x="935" y="1152"/>
                  </a:lnTo>
                  <a:lnTo>
                    <a:pt x="930" y="1147"/>
                  </a:lnTo>
                  <a:lnTo>
                    <a:pt x="925" y="1147"/>
                  </a:lnTo>
                  <a:lnTo>
                    <a:pt x="915" y="1142"/>
                  </a:lnTo>
                  <a:lnTo>
                    <a:pt x="910" y="1142"/>
                  </a:lnTo>
                  <a:lnTo>
                    <a:pt x="900" y="1142"/>
                  </a:lnTo>
                  <a:lnTo>
                    <a:pt x="890" y="1137"/>
                  </a:lnTo>
                  <a:lnTo>
                    <a:pt x="885" y="1137"/>
                  </a:lnTo>
                  <a:lnTo>
                    <a:pt x="875" y="1132"/>
                  </a:lnTo>
                  <a:lnTo>
                    <a:pt x="871" y="1132"/>
                  </a:lnTo>
                  <a:lnTo>
                    <a:pt x="861" y="1132"/>
                  </a:lnTo>
                  <a:lnTo>
                    <a:pt x="856" y="1127"/>
                  </a:lnTo>
                  <a:lnTo>
                    <a:pt x="846" y="1127"/>
                  </a:lnTo>
                  <a:lnTo>
                    <a:pt x="841" y="1122"/>
                  </a:lnTo>
                  <a:lnTo>
                    <a:pt x="831" y="1122"/>
                  </a:lnTo>
                  <a:lnTo>
                    <a:pt x="826" y="1122"/>
                  </a:lnTo>
                  <a:lnTo>
                    <a:pt x="816" y="1117"/>
                  </a:lnTo>
                  <a:lnTo>
                    <a:pt x="811" y="1117"/>
                  </a:lnTo>
                  <a:lnTo>
                    <a:pt x="801" y="1112"/>
                  </a:lnTo>
                  <a:lnTo>
                    <a:pt x="796" y="1112"/>
                  </a:lnTo>
                  <a:lnTo>
                    <a:pt x="786" y="1112"/>
                  </a:lnTo>
                  <a:lnTo>
                    <a:pt x="777" y="1107"/>
                  </a:lnTo>
                  <a:lnTo>
                    <a:pt x="772" y="1107"/>
                  </a:lnTo>
                  <a:lnTo>
                    <a:pt x="762" y="1103"/>
                  </a:lnTo>
                  <a:lnTo>
                    <a:pt x="757" y="1103"/>
                  </a:lnTo>
                  <a:lnTo>
                    <a:pt x="747" y="1103"/>
                  </a:lnTo>
                  <a:lnTo>
                    <a:pt x="742" y="1098"/>
                  </a:lnTo>
                  <a:lnTo>
                    <a:pt x="732" y="1098"/>
                  </a:lnTo>
                  <a:lnTo>
                    <a:pt x="727" y="1093"/>
                  </a:lnTo>
                  <a:lnTo>
                    <a:pt x="717" y="1093"/>
                  </a:lnTo>
                  <a:lnTo>
                    <a:pt x="712" y="1088"/>
                  </a:lnTo>
                  <a:lnTo>
                    <a:pt x="702" y="1088"/>
                  </a:lnTo>
                  <a:lnTo>
                    <a:pt x="697" y="1088"/>
                  </a:lnTo>
                  <a:lnTo>
                    <a:pt x="688" y="1083"/>
                  </a:lnTo>
                  <a:lnTo>
                    <a:pt x="678" y="1083"/>
                  </a:lnTo>
                  <a:lnTo>
                    <a:pt x="673" y="1083"/>
                  </a:lnTo>
                  <a:lnTo>
                    <a:pt x="663" y="1083"/>
                  </a:lnTo>
                  <a:lnTo>
                    <a:pt x="658" y="1078"/>
                  </a:lnTo>
                  <a:lnTo>
                    <a:pt x="648" y="1073"/>
                  </a:lnTo>
                  <a:lnTo>
                    <a:pt x="643" y="1073"/>
                  </a:lnTo>
                  <a:lnTo>
                    <a:pt x="633" y="1073"/>
                  </a:lnTo>
                  <a:lnTo>
                    <a:pt x="628" y="1073"/>
                  </a:lnTo>
                  <a:lnTo>
                    <a:pt x="628" y="1078"/>
                  </a:lnTo>
                  <a:lnTo>
                    <a:pt x="623" y="1088"/>
                  </a:lnTo>
                  <a:lnTo>
                    <a:pt x="618" y="1093"/>
                  </a:lnTo>
                  <a:lnTo>
                    <a:pt x="618" y="1098"/>
                  </a:lnTo>
                  <a:lnTo>
                    <a:pt x="618" y="1103"/>
                  </a:lnTo>
                  <a:lnTo>
                    <a:pt x="618" y="1107"/>
                  </a:lnTo>
                  <a:lnTo>
                    <a:pt x="618" y="1112"/>
                  </a:lnTo>
                  <a:lnTo>
                    <a:pt x="613" y="1117"/>
                  </a:lnTo>
                  <a:lnTo>
                    <a:pt x="613" y="1122"/>
                  </a:lnTo>
                  <a:lnTo>
                    <a:pt x="613" y="1127"/>
                  </a:lnTo>
                  <a:lnTo>
                    <a:pt x="613" y="1137"/>
                  </a:lnTo>
                  <a:lnTo>
                    <a:pt x="613" y="1142"/>
                  </a:lnTo>
                  <a:lnTo>
                    <a:pt x="613" y="1147"/>
                  </a:lnTo>
                  <a:lnTo>
                    <a:pt x="613" y="1152"/>
                  </a:lnTo>
                  <a:lnTo>
                    <a:pt x="608" y="1157"/>
                  </a:lnTo>
                  <a:lnTo>
                    <a:pt x="608" y="1162"/>
                  </a:lnTo>
                  <a:lnTo>
                    <a:pt x="608" y="1167"/>
                  </a:lnTo>
                  <a:lnTo>
                    <a:pt x="608" y="1172"/>
                  </a:lnTo>
                  <a:lnTo>
                    <a:pt x="608" y="1177"/>
                  </a:lnTo>
                  <a:lnTo>
                    <a:pt x="608" y="1182"/>
                  </a:lnTo>
                  <a:lnTo>
                    <a:pt x="603" y="1187"/>
                  </a:lnTo>
                  <a:lnTo>
                    <a:pt x="603" y="1192"/>
                  </a:lnTo>
                  <a:lnTo>
                    <a:pt x="603" y="1196"/>
                  </a:lnTo>
                  <a:lnTo>
                    <a:pt x="603" y="1201"/>
                  </a:lnTo>
                  <a:lnTo>
                    <a:pt x="603" y="1211"/>
                  </a:lnTo>
                  <a:lnTo>
                    <a:pt x="603" y="1216"/>
                  </a:lnTo>
                  <a:lnTo>
                    <a:pt x="599" y="1221"/>
                  </a:lnTo>
                  <a:lnTo>
                    <a:pt x="599" y="1226"/>
                  </a:lnTo>
                  <a:lnTo>
                    <a:pt x="599" y="1231"/>
                  </a:lnTo>
                  <a:lnTo>
                    <a:pt x="599" y="1236"/>
                  </a:lnTo>
                  <a:lnTo>
                    <a:pt x="599" y="1241"/>
                  </a:lnTo>
                  <a:lnTo>
                    <a:pt x="599" y="1246"/>
                  </a:lnTo>
                  <a:lnTo>
                    <a:pt x="599" y="1251"/>
                  </a:lnTo>
                  <a:lnTo>
                    <a:pt x="594" y="1256"/>
                  </a:lnTo>
                  <a:lnTo>
                    <a:pt x="594" y="1261"/>
                  </a:lnTo>
                  <a:lnTo>
                    <a:pt x="594" y="1266"/>
                  </a:lnTo>
                  <a:lnTo>
                    <a:pt x="594" y="1271"/>
                  </a:lnTo>
                  <a:lnTo>
                    <a:pt x="594" y="1276"/>
                  </a:lnTo>
                  <a:lnTo>
                    <a:pt x="594" y="1280"/>
                  </a:lnTo>
                  <a:lnTo>
                    <a:pt x="589" y="1290"/>
                  </a:lnTo>
                  <a:lnTo>
                    <a:pt x="613" y="1310"/>
                  </a:lnTo>
                  <a:lnTo>
                    <a:pt x="638" y="1335"/>
                  </a:lnTo>
                  <a:lnTo>
                    <a:pt x="663" y="1364"/>
                  </a:lnTo>
                  <a:lnTo>
                    <a:pt x="692" y="1389"/>
                  </a:lnTo>
                  <a:lnTo>
                    <a:pt x="717" y="1414"/>
                  </a:lnTo>
                  <a:lnTo>
                    <a:pt x="742" y="1444"/>
                  </a:lnTo>
                  <a:lnTo>
                    <a:pt x="772" y="1468"/>
                  </a:lnTo>
                  <a:lnTo>
                    <a:pt x="796" y="1468"/>
                  </a:lnTo>
                  <a:lnTo>
                    <a:pt x="826" y="1498"/>
                  </a:lnTo>
                  <a:lnTo>
                    <a:pt x="851" y="1523"/>
                  </a:lnTo>
                  <a:lnTo>
                    <a:pt x="875" y="1547"/>
                  </a:lnTo>
                  <a:lnTo>
                    <a:pt x="905" y="1577"/>
                  </a:lnTo>
                  <a:lnTo>
                    <a:pt x="930" y="1602"/>
                  </a:lnTo>
                  <a:lnTo>
                    <a:pt x="955" y="1631"/>
                  </a:lnTo>
                  <a:lnTo>
                    <a:pt x="984" y="1656"/>
                  </a:lnTo>
                  <a:lnTo>
                    <a:pt x="1009" y="1656"/>
                  </a:lnTo>
                  <a:lnTo>
                    <a:pt x="1039" y="1656"/>
                  </a:lnTo>
                  <a:lnTo>
                    <a:pt x="1063" y="1656"/>
                  </a:lnTo>
                  <a:lnTo>
                    <a:pt x="1088" y="1656"/>
                  </a:lnTo>
                  <a:lnTo>
                    <a:pt x="1118" y="1656"/>
                  </a:lnTo>
                  <a:lnTo>
                    <a:pt x="1143" y="1656"/>
                  </a:lnTo>
                  <a:lnTo>
                    <a:pt x="1172" y="1656"/>
                  </a:lnTo>
                  <a:lnTo>
                    <a:pt x="1197" y="1656"/>
                  </a:lnTo>
                  <a:lnTo>
                    <a:pt x="1222" y="1656"/>
                  </a:lnTo>
                  <a:lnTo>
                    <a:pt x="1251" y="1656"/>
                  </a:lnTo>
                  <a:lnTo>
                    <a:pt x="1276" y="1656"/>
                  </a:lnTo>
                  <a:lnTo>
                    <a:pt x="1301" y="1656"/>
                  </a:lnTo>
                  <a:lnTo>
                    <a:pt x="1330" y="1656"/>
                  </a:lnTo>
                  <a:lnTo>
                    <a:pt x="1355" y="1656"/>
                  </a:lnTo>
                  <a:lnTo>
                    <a:pt x="1385" y="1656"/>
                  </a:lnTo>
                  <a:lnTo>
                    <a:pt x="1410" y="1656"/>
                  </a:lnTo>
                  <a:lnTo>
                    <a:pt x="1434" y="1656"/>
                  </a:lnTo>
                  <a:lnTo>
                    <a:pt x="1464" y="1656"/>
                  </a:lnTo>
                  <a:lnTo>
                    <a:pt x="1489" y="1656"/>
                  </a:lnTo>
                  <a:lnTo>
                    <a:pt x="1513" y="1656"/>
                  </a:lnTo>
                  <a:lnTo>
                    <a:pt x="1543" y="1656"/>
                  </a:lnTo>
                  <a:lnTo>
                    <a:pt x="1568" y="1656"/>
                  </a:lnTo>
                  <a:lnTo>
                    <a:pt x="1598" y="1656"/>
                  </a:lnTo>
                  <a:lnTo>
                    <a:pt x="1622" y="1656"/>
                  </a:lnTo>
                  <a:lnTo>
                    <a:pt x="1647" y="1656"/>
                  </a:lnTo>
                  <a:lnTo>
                    <a:pt x="1677" y="1656"/>
                  </a:lnTo>
                  <a:lnTo>
                    <a:pt x="1701" y="1656"/>
                  </a:lnTo>
                  <a:lnTo>
                    <a:pt x="1726" y="1656"/>
                  </a:lnTo>
                  <a:lnTo>
                    <a:pt x="1756" y="1656"/>
                  </a:lnTo>
                  <a:lnTo>
                    <a:pt x="1780" y="1656"/>
                  </a:lnTo>
                  <a:lnTo>
                    <a:pt x="1810" y="1656"/>
                  </a:lnTo>
                  <a:lnTo>
                    <a:pt x="1835" y="1656"/>
                  </a:lnTo>
                  <a:lnTo>
                    <a:pt x="1860" y="1656"/>
                  </a:lnTo>
                  <a:lnTo>
                    <a:pt x="1889" y="1656"/>
                  </a:lnTo>
                  <a:lnTo>
                    <a:pt x="1914" y="1656"/>
                  </a:lnTo>
                  <a:lnTo>
                    <a:pt x="1944" y="1656"/>
                  </a:lnTo>
                  <a:lnTo>
                    <a:pt x="1968" y="1656"/>
                  </a:lnTo>
                  <a:lnTo>
                    <a:pt x="1993" y="1656"/>
                  </a:lnTo>
                  <a:lnTo>
                    <a:pt x="2023" y="1656"/>
                  </a:lnTo>
                  <a:lnTo>
                    <a:pt x="2048" y="1656"/>
                  </a:lnTo>
                  <a:lnTo>
                    <a:pt x="2072" y="1656"/>
                  </a:lnTo>
                  <a:lnTo>
                    <a:pt x="2102" y="1656"/>
                  </a:lnTo>
                  <a:lnTo>
                    <a:pt x="2127" y="1656"/>
                  </a:lnTo>
                  <a:lnTo>
                    <a:pt x="2156" y="1656"/>
                  </a:lnTo>
                  <a:lnTo>
                    <a:pt x="2181" y="1656"/>
                  </a:lnTo>
                  <a:lnTo>
                    <a:pt x="2206" y="1656"/>
                  </a:lnTo>
                  <a:lnTo>
                    <a:pt x="2235" y="1656"/>
                  </a:lnTo>
                  <a:close/>
                  <a:moveTo>
                    <a:pt x="1192" y="1122"/>
                  </a:moveTo>
                  <a:lnTo>
                    <a:pt x="1192" y="1117"/>
                  </a:lnTo>
                  <a:lnTo>
                    <a:pt x="1197" y="1112"/>
                  </a:lnTo>
                  <a:lnTo>
                    <a:pt x="1197" y="1112"/>
                  </a:lnTo>
                  <a:lnTo>
                    <a:pt x="1202" y="1117"/>
                  </a:lnTo>
                  <a:lnTo>
                    <a:pt x="1207" y="1122"/>
                  </a:lnTo>
                  <a:lnTo>
                    <a:pt x="1207" y="1127"/>
                  </a:lnTo>
                  <a:lnTo>
                    <a:pt x="1207" y="1132"/>
                  </a:lnTo>
                  <a:lnTo>
                    <a:pt x="1202" y="1132"/>
                  </a:lnTo>
                  <a:lnTo>
                    <a:pt x="1197" y="1137"/>
                  </a:lnTo>
                  <a:lnTo>
                    <a:pt x="1197" y="1137"/>
                  </a:lnTo>
                  <a:lnTo>
                    <a:pt x="1192" y="1137"/>
                  </a:lnTo>
                  <a:lnTo>
                    <a:pt x="1192" y="1132"/>
                  </a:lnTo>
                  <a:lnTo>
                    <a:pt x="1192" y="1127"/>
                  </a:lnTo>
                  <a:lnTo>
                    <a:pt x="1192" y="1122"/>
                  </a:lnTo>
                  <a:close/>
                  <a:moveTo>
                    <a:pt x="653" y="1043"/>
                  </a:moveTo>
                  <a:lnTo>
                    <a:pt x="648" y="1033"/>
                  </a:lnTo>
                  <a:lnTo>
                    <a:pt x="643" y="1033"/>
                  </a:lnTo>
                  <a:lnTo>
                    <a:pt x="638" y="1033"/>
                  </a:lnTo>
                  <a:lnTo>
                    <a:pt x="633" y="1038"/>
                  </a:lnTo>
                  <a:lnTo>
                    <a:pt x="633" y="1043"/>
                  </a:lnTo>
                  <a:lnTo>
                    <a:pt x="633" y="1053"/>
                  </a:lnTo>
                  <a:lnTo>
                    <a:pt x="633" y="1058"/>
                  </a:lnTo>
                  <a:lnTo>
                    <a:pt x="633" y="1063"/>
                  </a:lnTo>
                  <a:lnTo>
                    <a:pt x="638" y="1063"/>
                  </a:lnTo>
                  <a:lnTo>
                    <a:pt x="638" y="1063"/>
                  </a:lnTo>
                  <a:lnTo>
                    <a:pt x="643" y="1063"/>
                  </a:lnTo>
                  <a:lnTo>
                    <a:pt x="648" y="1058"/>
                  </a:lnTo>
                  <a:lnTo>
                    <a:pt x="653" y="1048"/>
                  </a:lnTo>
                  <a:lnTo>
                    <a:pt x="653" y="1043"/>
                  </a:lnTo>
                  <a:close/>
                  <a:moveTo>
                    <a:pt x="638" y="855"/>
                  </a:moveTo>
                  <a:lnTo>
                    <a:pt x="638" y="850"/>
                  </a:lnTo>
                  <a:lnTo>
                    <a:pt x="638" y="846"/>
                  </a:lnTo>
                  <a:lnTo>
                    <a:pt x="643" y="841"/>
                  </a:lnTo>
                  <a:lnTo>
                    <a:pt x="643" y="836"/>
                  </a:lnTo>
                  <a:lnTo>
                    <a:pt x="643" y="831"/>
                  </a:lnTo>
                  <a:lnTo>
                    <a:pt x="638" y="826"/>
                  </a:lnTo>
                  <a:lnTo>
                    <a:pt x="638" y="816"/>
                  </a:lnTo>
                  <a:lnTo>
                    <a:pt x="638" y="811"/>
                  </a:lnTo>
                  <a:lnTo>
                    <a:pt x="638" y="811"/>
                  </a:lnTo>
                  <a:lnTo>
                    <a:pt x="633" y="816"/>
                  </a:lnTo>
                  <a:lnTo>
                    <a:pt x="633" y="821"/>
                  </a:lnTo>
                  <a:lnTo>
                    <a:pt x="633" y="831"/>
                  </a:lnTo>
                  <a:lnTo>
                    <a:pt x="628" y="836"/>
                  </a:lnTo>
                  <a:lnTo>
                    <a:pt x="628" y="841"/>
                  </a:lnTo>
                  <a:lnTo>
                    <a:pt x="633" y="841"/>
                  </a:lnTo>
                  <a:lnTo>
                    <a:pt x="633" y="846"/>
                  </a:lnTo>
                  <a:lnTo>
                    <a:pt x="633" y="855"/>
                  </a:lnTo>
                  <a:lnTo>
                    <a:pt x="638" y="860"/>
                  </a:lnTo>
                  <a:lnTo>
                    <a:pt x="638" y="860"/>
                  </a:lnTo>
                  <a:lnTo>
                    <a:pt x="638" y="855"/>
                  </a:lnTo>
                  <a:close/>
                  <a:moveTo>
                    <a:pt x="1855" y="826"/>
                  </a:moveTo>
                  <a:lnTo>
                    <a:pt x="1860" y="821"/>
                  </a:lnTo>
                  <a:lnTo>
                    <a:pt x="1865" y="816"/>
                  </a:lnTo>
                  <a:lnTo>
                    <a:pt x="1870" y="811"/>
                  </a:lnTo>
                  <a:lnTo>
                    <a:pt x="1870" y="806"/>
                  </a:lnTo>
                  <a:lnTo>
                    <a:pt x="1874" y="801"/>
                  </a:lnTo>
                  <a:lnTo>
                    <a:pt x="1879" y="796"/>
                  </a:lnTo>
                  <a:lnTo>
                    <a:pt x="1884" y="791"/>
                  </a:lnTo>
                  <a:lnTo>
                    <a:pt x="1889" y="786"/>
                  </a:lnTo>
                  <a:lnTo>
                    <a:pt x="1894" y="781"/>
                  </a:lnTo>
                  <a:lnTo>
                    <a:pt x="1894" y="776"/>
                  </a:lnTo>
                  <a:lnTo>
                    <a:pt x="1899" y="771"/>
                  </a:lnTo>
                  <a:lnTo>
                    <a:pt x="1904" y="766"/>
                  </a:lnTo>
                  <a:lnTo>
                    <a:pt x="1909" y="762"/>
                  </a:lnTo>
                  <a:lnTo>
                    <a:pt x="1914" y="757"/>
                  </a:lnTo>
                  <a:lnTo>
                    <a:pt x="1919" y="752"/>
                  </a:lnTo>
                  <a:lnTo>
                    <a:pt x="1924" y="742"/>
                  </a:lnTo>
                  <a:lnTo>
                    <a:pt x="1929" y="737"/>
                  </a:lnTo>
                  <a:lnTo>
                    <a:pt x="1934" y="732"/>
                  </a:lnTo>
                  <a:lnTo>
                    <a:pt x="1939" y="727"/>
                  </a:lnTo>
                  <a:lnTo>
                    <a:pt x="1939" y="722"/>
                  </a:lnTo>
                  <a:lnTo>
                    <a:pt x="1939" y="717"/>
                  </a:lnTo>
                  <a:lnTo>
                    <a:pt x="1934" y="712"/>
                  </a:lnTo>
                  <a:lnTo>
                    <a:pt x="1929" y="707"/>
                  </a:lnTo>
                  <a:lnTo>
                    <a:pt x="1924" y="702"/>
                  </a:lnTo>
                  <a:lnTo>
                    <a:pt x="1919" y="697"/>
                  </a:lnTo>
                  <a:lnTo>
                    <a:pt x="1919" y="692"/>
                  </a:lnTo>
                  <a:lnTo>
                    <a:pt x="1919" y="687"/>
                  </a:lnTo>
                  <a:lnTo>
                    <a:pt x="1919" y="677"/>
                  </a:lnTo>
                  <a:lnTo>
                    <a:pt x="1924" y="673"/>
                  </a:lnTo>
                  <a:lnTo>
                    <a:pt x="1929" y="668"/>
                  </a:lnTo>
                  <a:lnTo>
                    <a:pt x="1929" y="663"/>
                  </a:lnTo>
                  <a:lnTo>
                    <a:pt x="1934" y="658"/>
                  </a:lnTo>
                  <a:lnTo>
                    <a:pt x="1934" y="653"/>
                  </a:lnTo>
                  <a:lnTo>
                    <a:pt x="1939" y="648"/>
                  </a:lnTo>
                  <a:lnTo>
                    <a:pt x="1939" y="638"/>
                  </a:lnTo>
                  <a:lnTo>
                    <a:pt x="1944" y="633"/>
                  </a:lnTo>
                  <a:lnTo>
                    <a:pt x="1949" y="628"/>
                  </a:lnTo>
                  <a:lnTo>
                    <a:pt x="1954" y="623"/>
                  </a:lnTo>
                  <a:lnTo>
                    <a:pt x="1959" y="618"/>
                  </a:lnTo>
                  <a:lnTo>
                    <a:pt x="1963" y="618"/>
                  </a:lnTo>
                  <a:lnTo>
                    <a:pt x="1973" y="613"/>
                  </a:lnTo>
                  <a:lnTo>
                    <a:pt x="1983" y="613"/>
                  </a:lnTo>
                  <a:lnTo>
                    <a:pt x="1988" y="608"/>
                  </a:lnTo>
                  <a:lnTo>
                    <a:pt x="1993" y="603"/>
                  </a:lnTo>
                  <a:lnTo>
                    <a:pt x="1993" y="598"/>
                  </a:lnTo>
                  <a:lnTo>
                    <a:pt x="1998" y="593"/>
                  </a:lnTo>
                  <a:lnTo>
                    <a:pt x="1998" y="584"/>
                  </a:lnTo>
                  <a:lnTo>
                    <a:pt x="1998" y="579"/>
                  </a:lnTo>
                  <a:lnTo>
                    <a:pt x="1998" y="574"/>
                  </a:lnTo>
                  <a:lnTo>
                    <a:pt x="1998" y="569"/>
                  </a:lnTo>
                  <a:lnTo>
                    <a:pt x="1998" y="564"/>
                  </a:lnTo>
                  <a:lnTo>
                    <a:pt x="1998" y="554"/>
                  </a:lnTo>
                  <a:lnTo>
                    <a:pt x="1993" y="549"/>
                  </a:lnTo>
                  <a:lnTo>
                    <a:pt x="1993" y="544"/>
                  </a:lnTo>
                  <a:lnTo>
                    <a:pt x="1993" y="539"/>
                  </a:lnTo>
                  <a:lnTo>
                    <a:pt x="1993" y="534"/>
                  </a:lnTo>
                  <a:lnTo>
                    <a:pt x="1993" y="529"/>
                  </a:lnTo>
                  <a:lnTo>
                    <a:pt x="1993" y="519"/>
                  </a:lnTo>
                  <a:lnTo>
                    <a:pt x="1993" y="514"/>
                  </a:lnTo>
                  <a:lnTo>
                    <a:pt x="1993" y="509"/>
                  </a:lnTo>
                  <a:lnTo>
                    <a:pt x="1988" y="504"/>
                  </a:lnTo>
                  <a:lnTo>
                    <a:pt x="1988" y="500"/>
                  </a:lnTo>
                  <a:lnTo>
                    <a:pt x="1988" y="490"/>
                  </a:lnTo>
                  <a:lnTo>
                    <a:pt x="1988" y="485"/>
                  </a:lnTo>
                  <a:lnTo>
                    <a:pt x="1988" y="480"/>
                  </a:lnTo>
                  <a:lnTo>
                    <a:pt x="1993" y="475"/>
                  </a:lnTo>
                  <a:lnTo>
                    <a:pt x="2003" y="475"/>
                  </a:lnTo>
                  <a:lnTo>
                    <a:pt x="2013" y="480"/>
                  </a:lnTo>
                  <a:lnTo>
                    <a:pt x="2018" y="485"/>
                  </a:lnTo>
                  <a:lnTo>
                    <a:pt x="2023" y="490"/>
                  </a:lnTo>
                  <a:lnTo>
                    <a:pt x="2028" y="495"/>
                  </a:lnTo>
                  <a:lnTo>
                    <a:pt x="2033" y="500"/>
                  </a:lnTo>
                  <a:lnTo>
                    <a:pt x="2043" y="500"/>
                  </a:lnTo>
                  <a:lnTo>
                    <a:pt x="2052" y="504"/>
                  </a:lnTo>
                  <a:lnTo>
                    <a:pt x="2062" y="504"/>
                  </a:lnTo>
                  <a:lnTo>
                    <a:pt x="2067" y="509"/>
                  </a:lnTo>
                  <a:lnTo>
                    <a:pt x="2067" y="514"/>
                  </a:lnTo>
                  <a:lnTo>
                    <a:pt x="2062" y="519"/>
                  </a:lnTo>
                  <a:lnTo>
                    <a:pt x="2057" y="524"/>
                  </a:lnTo>
                  <a:lnTo>
                    <a:pt x="2052" y="534"/>
                  </a:lnTo>
                  <a:lnTo>
                    <a:pt x="2043" y="539"/>
                  </a:lnTo>
                  <a:lnTo>
                    <a:pt x="2043" y="544"/>
                  </a:lnTo>
                  <a:lnTo>
                    <a:pt x="2038" y="549"/>
                  </a:lnTo>
                  <a:lnTo>
                    <a:pt x="2038" y="554"/>
                  </a:lnTo>
                  <a:lnTo>
                    <a:pt x="2038" y="559"/>
                  </a:lnTo>
                  <a:lnTo>
                    <a:pt x="2038" y="564"/>
                  </a:lnTo>
                  <a:lnTo>
                    <a:pt x="2033" y="574"/>
                  </a:lnTo>
                  <a:lnTo>
                    <a:pt x="2033" y="579"/>
                  </a:lnTo>
                  <a:lnTo>
                    <a:pt x="2033" y="584"/>
                  </a:lnTo>
                  <a:lnTo>
                    <a:pt x="2033" y="589"/>
                  </a:lnTo>
                  <a:lnTo>
                    <a:pt x="2033" y="593"/>
                  </a:lnTo>
                  <a:lnTo>
                    <a:pt x="2033" y="603"/>
                  </a:lnTo>
                  <a:lnTo>
                    <a:pt x="2033" y="608"/>
                  </a:lnTo>
                  <a:lnTo>
                    <a:pt x="2033" y="613"/>
                  </a:lnTo>
                  <a:lnTo>
                    <a:pt x="2033" y="618"/>
                  </a:lnTo>
                  <a:lnTo>
                    <a:pt x="2033" y="623"/>
                  </a:lnTo>
                  <a:lnTo>
                    <a:pt x="2038" y="628"/>
                  </a:lnTo>
                  <a:lnTo>
                    <a:pt x="2038" y="638"/>
                  </a:lnTo>
                  <a:lnTo>
                    <a:pt x="2038" y="643"/>
                  </a:lnTo>
                  <a:lnTo>
                    <a:pt x="2038" y="648"/>
                  </a:lnTo>
                  <a:lnTo>
                    <a:pt x="2038" y="653"/>
                  </a:lnTo>
                  <a:lnTo>
                    <a:pt x="2038" y="658"/>
                  </a:lnTo>
                  <a:lnTo>
                    <a:pt x="2038" y="668"/>
                  </a:lnTo>
                  <a:lnTo>
                    <a:pt x="2038" y="673"/>
                  </a:lnTo>
                  <a:lnTo>
                    <a:pt x="2038" y="677"/>
                  </a:lnTo>
                  <a:lnTo>
                    <a:pt x="2038" y="682"/>
                  </a:lnTo>
                  <a:lnTo>
                    <a:pt x="2043" y="687"/>
                  </a:lnTo>
                  <a:lnTo>
                    <a:pt x="2043" y="692"/>
                  </a:lnTo>
                  <a:lnTo>
                    <a:pt x="2048" y="702"/>
                  </a:lnTo>
                  <a:lnTo>
                    <a:pt x="2052" y="707"/>
                  </a:lnTo>
                  <a:lnTo>
                    <a:pt x="2052" y="712"/>
                  </a:lnTo>
                  <a:lnTo>
                    <a:pt x="2052" y="717"/>
                  </a:lnTo>
                  <a:lnTo>
                    <a:pt x="2052" y="722"/>
                  </a:lnTo>
                  <a:lnTo>
                    <a:pt x="2052" y="727"/>
                  </a:lnTo>
                  <a:lnTo>
                    <a:pt x="2048" y="732"/>
                  </a:lnTo>
                  <a:lnTo>
                    <a:pt x="2043" y="737"/>
                  </a:lnTo>
                  <a:lnTo>
                    <a:pt x="2038" y="742"/>
                  </a:lnTo>
                  <a:lnTo>
                    <a:pt x="2033" y="747"/>
                  </a:lnTo>
                  <a:lnTo>
                    <a:pt x="2028" y="752"/>
                  </a:lnTo>
                  <a:lnTo>
                    <a:pt x="2023" y="757"/>
                  </a:lnTo>
                  <a:lnTo>
                    <a:pt x="2018" y="762"/>
                  </a:lnTo>
                  <a:lnTo>
                    <a:pt x="2018" y="771"/>
                  </a:lnTo>
                  <a:lnTo>
                    <a:pt x="2018" y="776"/>
                  </a:lnTo>
                  <a:lnTo>
                    <a:pt x="2023" y="781"/>
                  </a:lnTo>
                  <a:lnTo>
                    <a:pt x="2023" y="786"/>
                  </a:lnTo>
                  <a:lnTo>
                    <a:pt x="2028" y="791"/>
                  </a:lnTo>
                  <a:lnTo>
                    <a:pt x="2028" y="796"/>
                  </a:lnTo>
                  <a:lnTo>
                    <a:pt x="2033" y="801"/>
                  </a:lnTo>
                  <a:lnTo>
                    <a:pt x="2028" y="811"/>
                  </a:lnTo>
                  <a:lnTo>
                    <a:pt x="2028" y="816"/>
                  </a:lnTo>
                  <a:lnTo>
                    <a:pt x="2028" y="821"/>
                  </a:lnTo>
                  <a:lnTo>
                    <a:pt x="2023" y="826"/>
                  </a:lnTo>
                  <a:lnTo>
                    <a:pt x="2018" y="831"/>
                  </a:lnTo>
                  <a:lnTo>
                    <a:pt x="2013" y="831"/>
                  </a:lnTo>
                  <a:lnTo>
                    <a:pt x="2003" y="831"/>
                  </a:lnTo>
                  <a:lnTo>
                    <a:pt x="1988" y="831"/>
                  </a:lnTo>
                  <a:lnTo>
                    <a:pt x="1983" y="831"/>
                  </a:lnTo>
                  <a:lnTo>
                    <a:pt x="1973" y="831"/>
                  </a:lnTo>
                  <a:lnTo>
                    <a:pt x="1963" y="831"/>
                  </a:lnTo>
                  <a:lnTo>
                    <a:pt x="1954" y="831"/>
                  </a:lnTo>
                  <a:lnTo>
                    <a:pt x="1944" y="831"/>
                  </a:lnTo>
                  <a:lnTo>
                    <a:pt x="1939" y="836"/>
                  </a:lnTo>
                  <a:lnTo>
                    <a:pt x="1929" y="836"/>
                  </a:lnTo>
                  <a:lnTo>
                    <a:pt x="1919" y="836"/>
                  </a:lnTo>
                  <a:lnTo>
                    <a:pt x="1909" y="836"/>
                  </a:lnTo>
                  <a:lnTo>
                    <a:pt x="1899" y="836"/>
                  </a:lnTo>
                  <a:lnTo>
                    <a:pt x="1894" y="836"/>
                  </a:lnTo>
                  <a:lnTo>
                    <a:pt x="1884" y="836"/>
                  </a:lnTo>
                  <a:lnTo>
                    <a:pt x="1874" y="836"/>
                  </a:lnTo>
                  <a:lnTo>
                    <a:pt x="1865" y="836"/>
                  </a:lnTo>
                  <a:lnTo>
                    <a:pt x="1860" y="836"/>
                  </a:lnTo>
                  <a:lnTo>
                    <a:pt x="1855" y="826"/>
                  </a:lnTo>
                  <a:close/>
                  <a:moveTo>
                    <a:pt x="411" y="801"/>
                  </a:moveTo>
                  <a:lnTo>
                    <a:pt x="411" y="796"/>
                  </a:lnTo>
                  <a:lnTo>
                    <a:pt x="411" y="786"/>
                  </a:lnTo>
                  <a:lnTo>
                    <a:pt x="416" y="781"/>
                  </a:lnTo>
                  <a:lnTo>
                    <a:pt x="416" y="781"/>
                  </a:lnTo>
                  <a:lnTo>
                    <a:pt x="420" y="776"/>
                  </a:lnTo>
                  <a:lnTo>
                    <a:pt x="425" y="776"/>
                  </a:lnTo>
                  <a:lnTo>
                    <a:pt x="430" y="771"/>
                  </a:lnTo>
                  <a:lnTo>
                    <a:pt x="435" y="771"/>
                  </a:lnTo>
                  <a:lnTo>
                    <a:pt x="435" y="766"/>
                  </a:lnTo>
                  <a:lnTo>
                    <a:pt x="440" y="762"/>
                  </a:lnTo>
                  <a:lnTo>
                    <a:pt x="440" y="757"/>
                  </a:lnTo>
                  <a:lnTo>
                    <a:pt x="435" y="752"/>
                  </a:lnTo>
                  <a:lnTo>
                    <a:pt x="430" y="747"/>
                  </a:lnTo>
                  <a:lnTo>
                    <a:pt x="425" y="742"/>
                  </a:lnTo>
                  <a:lnTo>
                    <a:pt x="420" y="742"/>
                  </a:lnTo>
                  <a:lnTo>
                    <a:pt x="420" y="747"/>
                  </a:lnTo>
                  <a:lnTo>
                    <a:pt x="416" y="752"/>
                  </a:lnTo>
                  <a:lnTo>
                    <a:pt x="411" y="752"/>
                  </a:lnTo>
                  <a:lnTo>
                    <a:pt x="406" y="757"/>
                  </a:lnTo>
                  <a:lnTo>
                    <a:pt x="401" y="757"/>
                  </a:lnTo>
                  <a:lnTo>
                    <a:pt x="391" y="762"/>
                  </a:lnTo>
                  <a:lnTo>
                    <a:pt x="386" y="762"/>
                  </a:lnTo>
                  <a:lnTo>
                    <a:pt x="381" y="766"/>
                  </a:lnTo>
                  <a:lnTo>
                    <a:pt x="376" y="766"/>
                  </a:lnTo>
                  <a:lnTo>
                    <a:pt x="371" y="771"/>
                  </a:lnTo>
                  <a:lnTo>
                    <a:pt x="371" y="776"/>
                  </a:lnTo>
                  <a:lnTo>
                    <a:pt x="371" y="781"/>
                  </a:lnTo>
                  <a:lnTo>
                    <a:pt x="376" y="786"/>
                  </a:lnTo>
                  <a:lnTo>
                    <a:pt x="376" y="791"/>
                  </a:lnTo>
                  <a:lnTo>
                    <a:pt x="376" y="791"/>
                  </a:lnTo>
                  <a:lnTo>
                    <a:pt x="381" y="796"/>
                  </a:lnTo>
                  <a:lnTo>
                    <a:pt x="381" y="801"/>
                  </a:lnTo>
                  <a:lnTo>
                    <a:pt x="386" y="806"/>
                  </a:lnTo>
                  <a:lnTo>
                    <a:pt x="391" y="811"/>
                  </a:lnTo>
                  <a:lnTo>
                    <a:pt x="396" y="811"/>
                  </a:lnTo>
                  <a:lnTo>
                    <a:pt x="401" y="811"/>
                  </a:lnTo>
                  <a:lnTo>
                    <a:pt x="406" y="806"/>
                  </a:lnTo>
                  <a:lnTo>
                    <a:pt x="411" y="801"/>
                  </a:lnTo>
                  <a:close/>
                  <a:moveTo>
                    <a:pt x="1513" y="801"/>
                  </a:moveTo>
                  <a:lnTo>
                    <a:pt x="1513" y="801"/>
                  </a:lnTo>
                  <a:lnTo>
                    <a:pt x="1513" y="801"/>
                  </a:lnTo>
                  <a:lnTo>
                    <a:pt x="1513" y="796"/>
                  </a:lnTo>
                  <a:lnTo>
                    <a:pt x="1513" y="796"/>
                  </a:lnTo>
                  <a:lnTo>
                    <a:pt x="1513" y="796"/>
                  </a:lnTo>
                  <a:lnTo>
                    <a:pt x="1518" y="801"/>
                  </a:lnTo>
                  <a:lnTo>
                    <a:pt x="1518" y="801"/>
                  </a:lnTo>
                  <a:lnTo>
                    <a:pt x="1518" y="801"/>
                  </a:lnTo>
                  <a:lnTo>
                    <a:pt x="1518" y="801"/>
                  </a:lnTo>
                  <a:lnTo>
                    <a:pt x="1518" y="801"/>
                  </a:lnTo>
                  <a:lnTo>
                    <a:pt x="1513" y="801"/>
                  </a:lnTo>
                  <a:lnTo>
                    <a:pt x="1513" y="801"/>
                  </a:lnTo>
                  <a:lnTo>
                    <a:pt x="1513" y="801"/>
                  </a:lnTo>
                  <a:lnTo>
                    <a:pt x="1513" y="801"/>
                  </a:lnTo>
                  <a:close/>
                  <a:moveTo>
                    <a:pt x="1419" y="776"/>
                  </a:moveTo>
                  <a:lnTo>
                    <a:pt x="1419" y="766"/>
                  </a:lnTo>
                  <a:lnTo>
                    <a:pt x="1419" y="762"/>
                  </a:lnTo>
                  <a:lnTo>
                    <a:pt x="1419" y="757"/>
                  </a:lnTo>
                  <a:lnTo>
                    <a:pt x="1419" y="752"/>
                  </a:lnTo>
                  <a:lnTo>
                    <a:pt x="1419" y="747"/>
                  </a:lnTo>
                  <a:lnTo>
                    <a:pt x="1419" y="737"/>
                  </a:lnTo>
                  <a:lnTo>
                    <a:pt x="1419" y="732"/>
                  </a:lnTo>
                  <a:lnTo>
                    <a:pt x="1419" y="727"/>
                  </a:lnTo>
                  <a:lnTo>
                    <a:pt x="1419" y="722"/>
                  </a:lnTo>
                  <a:lnTo>
                    <a:pt x="1419" y="712"/>
                  </a:lnTo>
                  <a:lnTo>
                    <a:pt x="1419" y="707"/>
                  </a:lnTo>
                  <a:lnTo>
                    <a:pt x="1419" y="702"/>
                  </a:lnTo>
                  <a:lnTo>
                    <a:pt x="1419" y="697"/>
                  </a:lnTo>
                  <a:lnTo>
                    <a:pt x="1424" y="692"/>
                  </a:lnTo>
                  <a:lnTo>
                    <a:pt x="1429" y="687"/>
                  </a:lnTo>
                  <a:lnTo>
                    <a:pt x="1434" y="682"/>
                  </a:lnTo>
                  <a:lnTo>
                    <a:pt x="1439" y="677"/>
                  </a:lnTo>
                  <a:lnTo>
                    <a:pt x="1444" y="668"/>
                  </a:lnTo>
                  <a:lnTo>
                    <a:pt x="1444" y="663"/>
                  </a:lnTo>
                  <a:lnTo>
                    <a:pt x="1444" y="658"/>
                  </a:lnTo>
                  <a:lnTo>
                    <a:pt x="1449" y="653"/>
                  </a:lnTo>
                  <a:lnTo>
                    <a:pt x="1449" y="648"/>
                  </a:lnTo>
                  <a:lnTo>
                    <a:pt x="1449" y="638"/>
                  </a:lnTo>
                  <a:lnTo>
                    <a:pt x="1449" y="633"/>
                  </a:lnTo>
                  <a:lnTo>
                    <a:pt x="1449" y="628"/>
                  </a:lnTo>
                  <a:lnTo>
                    <a:pt x="1454" y="623"/>
                  </a:lnTo>
                  <a:lnTo>
                    <a:pt x="1454" y="618"/>
                  </a:lnTo>
                  <a:lnTo>
                    <a:pt x="1454" y="608"/>
                  </a:lnTo>
                  <a:lnTo>
                    <a:pt x="1454" y="603"/>
                  </a:lnTo>
                  <a:lnTo>
                    <a:pt x="1454" y="598"/>
                  </a:lnTo>
                  <a:lnTo>
                    <a:pt x="1459" y="593"/>
                  </a:lnTo>
                  <a:lnTo>
                    <a:pt x="1459" y="589"/>
                  </a:lnTo>
                  <a:lnTo>
                    <a:pt x="1464" y="579"/>
                  </a:lnTo>
                  <a:lnTo>
                    <a:pt x="1469" y="574"/>
                  </a:lnTo>
                  <a:lnTo>
                    <a:pt x="1474" y="569"/>
                  </a:lnTo>
                  <a:lnTo>
                    <a:pt x="1474" y="564"/>
                  </a:lnTo>
                  <a:lnTo>
                    <a:pt x="1479" y="559"/>
                  </a:lnTo>
                  <a:lnTo>
                    <a:pt x="1484" y="554"/>
                  </a:lnTo>
                  <a:lnTo>
                    <a:pt x="1484" y="549"/>
                  </a:lnTo>
                  <a:lnTo>
                    <a:pt x="1484" y="539"/>
                  </a:lnTo>
                  <a:lnTo>
                    <a:pt x="1489" y="534"/>
                  </a:lnTo>
                  <a:lnTo>
                    <a:pt x="1494" y="534"/>
                  </a:lnTo>
                  <a:lnTo>
                    <a:pt x="1499" y="524"/>
                  </a:lnTo>
                  <a:lnTo>
                    <a:pt x="1504" y="519"/>
                  </a:lnTo>
                  <a:lnTo>
                    <a:pt x="1504" y="514"/>
                  </a:lnTo>
                  <a:lnTo>
                    <a:pt x="1508" y="509"/>
                  </a:lnTo>
                  <a:lnTo>
                    <a:pt x="1508" y="504"/>
                  </a:lnTo>
                  <a:lnTo>
                    <a:pt x="1513" y="500"/>
                  </a:lnTo>
                  <a:lnTo>
                    <a:pt x="1513" y="490"/>
                  </a:lnTo>
                  <a:lnTo>
                    <a:pt x="1518" y="485"/>
                  </a:lnTo>
                  <a:lnTo>
                    <a:pt x="1518" y="480"/>
                  </a:lnTo>
                  <a:lnTo>
                    <a:pt x="1518" y="475"/>
                  </a:lnTo>
                  <a:lnTo>
                    <a:pt x="1513" y="470"/>
                  </a:lnTo>
                  <a:lnTo>
                    <a:pt x="1504" y="460"/>
                  </a:lnTo>
                  <a:lnTo>
                    <a:pt x="1499" y="460"/>
                  </a:lnTo>
                  <a:lnTo>
                    <a:pt x="1489" y="455"/>
                  </a:lnTo>
                  <a:lnTo>
                    <a:pt x="1484" y="455"/>
                  </a:lnTo>
                  <a:lnTo>
                    <a:pt x="1479" y="460"/>
                  </a:lnTo>
                  <a:lnTo>
                    <a:pt x="1469" y="465"/>
                  </a:lnTo>
                  <a:lnTo>
                    <a:pt x="1464" y="470"/>
                  </a:lnTo>
                  <a:lnTo>
                    <a:pt x="1454" y="475"/>
                  </a:lnTo>
                  <a:lnTo>
                    <a:pt x="1449" y="480"/>
                  </a:lnTo>
                  <a:lnTo>
                    <a:pt x="1439" y="480"/>
                  </a:lnTo>
                  <a:lnTo>
                    <a:pt x="1434" y="485"/>
                  </a:lnTo>
                  <a:lnTo>
                    <a:pt x="1429" y="490"/>
                  </a:lnTo>
                  <a:lnTo>
                    <a:pt x="1424" y="495"/>
                  </a:lnTo>
                  <a:lnTo>
                    <a:pt x="1419" y="500"/>
                  </a:lnTo>
                  <a:lnTo>
                    <a:pt x="1415" y="504"/>
                  </a:lnTo>
                  <a:lnTo>
                    <a:pt x="1410" y="509"/>
                  </a:lnTo>
                  <a:lnTo>
                    <a:pt x="1410" y="519"/>
                  </a:lnTo>
                  <a:lnTo>
                    <a:pt x="1405" y="524"/>
                  </a:lnTo>
                  <a:lnTo>
                    <a:pt x="1405" y="529"/>
                  </a:lnTo>
                  <a:lnTo>
                    <a:pt x="1400" y="534"/>
                  </a:lnTo>
                  <a:lnTo>
                    <a:pt x="1400" y="544"/>
                  </a:lnTo>
                  <a:lnTo>
                    <a:pt x="1395" y="549"/>
                  </a:lnTo>
                  <a:lnTo>
                    <a:pt x="1390" y="554"/>
                  </a:lnTo>
                  <a:lnTo>
                    <a:pt x="1380" y="554"/>
                  </a:lnTo>
                  <a:lnTo>
                    <a:pt x="1370" y="554"/>
                  </a:lnTo>
                  <a:lnTo>
                    <a:pt x="1360" y="554"/>
                  </a:lnTo>
                  <a:lnTo>
                    <a:pt x="1355" y="559"/>
                  </a:lnTo>
                  <a:lnTo>
                    <a:pt x="1350" y="564"/>
                  </a:lnTo>
                  <a:lnTo>
                    <a:pt x="1345" y="569"/>
                  </a:lnTo>
                  <a:lnTo>
                    <a:pt x="1345" y="574"/>
                  </a:lnTo>
                  <a:lnTo>
                    <a:pt x="1340" y="579"/>
                  </a:lnTo>
                  <a:lnTo>
                    <a:pt x="1340" y="584"/>
                  </a:lnTo>
                  <a:lnTo>
                    <a:pt x="1335" y="589"/>
                  </a:lnTo>
                  <a:lnTo>
                    <a:pt x="1335" y="598"/>
                  </a:lnTo>
                  <a:lnTo>
                    <a:pt x="1335" y="603"/>
                  </a:lnTo>
                  <a:lnTo>
                    <a:pt x="1335" y="608"/>
                  </a:lnTo>
                  <a:lnTo>
                    <a:pt x="1335" y="613"/>
                  </a:lnTo>
                  <a:lnTo>
                    <a:pt x="1330" y="623"/>
                  </a:lnTo>
                  <a:lnTo>
                    <a:pt x="1330" y="628"/>
                  </a:lnTo>
                  <a:lnTo>
                    <a:pt x="1330" y="633"/>
                  </a:lnTo>
                  <a:lnTo>
                    <a:pt x="1330" y="638"/>
                  </a:lnTo>
                  <a:lnTo>
                    <a:pt x="1326" y="643"/>
                  </a:lnTo>
                  <a:lnTo>
                    <a:pt x="1326" y="653"/>
                  </a:lnTo>
                  <a:lnTo>
                    <a:pt x="1326" y="658"/>
                  </a:lnTo>
                  <a:lnTo>
                    <a:pt x="1326" y="663"/>
                  </a:lnTo>
                  <a:lnTo>
                    <a:pt x="1326" y="668"/>
                  </a:lnTo>
                  <a:lnTo>
                    <a:pt x="1326" y="673"/>
                  </a:lnTo>
                  <a:lnTo>
                    <a:pt x="1326" y="677"/>
                  </a:lnTo>
                  <a:lnTo>
                    <a:pt x="1326" y="687"/>
                  </a:lnTo>
                  <a:lnTo>
                    <a:pt x="1326" y="692"/>
                  </a:lnTo>
                  <a:lnTo>
                    <a:pt x="1330" y="697"/>
                  </a:lnTo>
                  <a:lnTo>
                    <a:pt x="1335" y="702"/>
                  </a:lnTo>
                  <a:lnTo>
                    <a:pt x="1345" y="697"/>
                  </a:lnTo>
                  <a:lnTo>
                    <a:pt x="1355" y="697"/>
                  </a:lnTo>
                  <a:lnTo>
                    <a:pt x="1360" y="692"/>
                  </a:lnTo>
                  <a:lnTo>
                    <a:pt x="1370" y="687"/>
                  </a:lnTo>
                  <a:lnTo>
                    <a:pt x="1375" y="682"/>
                  </a:lnTo>
                  <a:lnTo>
                    <a:pt x="1385" y="682"/>
                  </a:lnTo>
                  <a:lnTo>
                    <a:pt x="1390" y="687"/>
                  </a:lnTo>
                  <a:lnTo>
                    <a:pt x="1395" y="692"/>
                  </a:lnTo>
                  <a:lnTo>
                    <a:pt x="1395" y="697"/>
                  </a:lnTo>
                  <a:lnTo>
                    <a:pt x="1395" y="702"/>
                  </a:lnTo>
                  <a:lnTo>
                    <a:pt x="1385" y="707"/>
                  </a:lnTo>
                  <a:lnTo>
                    <a:pt x="1380" y="712"/>
                  </a:lnTo>
                  <a:lnTo>
                    <a:pt x="1375" y="722"/>
                  </a:lnTo>
                  <a:lnTo>
                    <a:pt x="1385" y="727"/>
                  </a:lnTo>
                  <a:lnTo>
                    <a:pt x="1390" y="732"/>
                  </a:lnTo>
                  <a:lnTo>
                    <a:pt x="1395" y="737"/>
                  </a:lnTo>
                  <a:lnTo>
                    <a:pt x="1395" y="742"/>
                  </a:lnTo>
                  <a:lnTo>
                    <a:pt x="1400" y="747"/>
                  </a:lnTo>
                  <a:lnTo>
                    <a:pt x="1400" y="752"/>
                  </a:lnTo>
                  <a:lnTo>
                    <a:pt x="1400" y="757"/>
                  </a:lnTo>
                  <a:lnTo>
                    <a:pt x="1400" y="762"/>
                  </a:lnTo>
                  <a:lnTo>
                    <a:pt x="1405" y="771"/>
                  </a:lnTo>
                  <a:lnTo>
                    <a:pt x="1405" y="776"/>
                  </a:lnTo>
                  <a:lnTo>
                    <a:pt x="1405" y="786"/>
                  </a:lnTo>
                  <a:lnTo>
                    <a:pt x="1410" y="791"/>
                  </a:lnTo>
                  <a:lnTo>
                    <a:pt x="1410" y="791"/>
                  </a:lnTo>
                  <a:lnTo>
                    <a:pt x="1415" y="791"/>
                  </a:lnTo>
                  <a:lnTo>
                    <a:pt x="1415" y="786"/>
                  </a:lnTo>
                  <a:lnTo>
                    <a:pt x="1419" y="776"/>
                  </a:lnTo>
                  <a:close/>
                  <a:moveTo>
                    <a:pt x="317" y="692"/>
                  </a:moveTo>
                  <a:lnTo>
                    <a:pt x="322" y="692"/>
                  </a:lnTo>
                  <a:lnTo>
                    <a:pt x="331" y="692"/>
                  </a:lnTo>
                  <a:lnTo>
                    <a:pt x="336" y="697"/>
                  </a:lnTo>
                  <a:lnTo>
                    <a:pt x="346" y="697"/>
                  </a:lnTo>
                  <a:lnTo>
                    <a:pt x="351" y="697"/>
                  </a:lnTo>
                  <a:lnTo>
                    <a:pt x="361" y="702"/>
                  </a:lnTo>
                  <a:lnTo>
                    <a:pt x="366" y="702"/>
                  </a:lnTo>
                  <a:lnTo>
                    <a:pt x="376" y="702"/>
                  </a:lnTo>
                  <a:lnTo>
                    <a:pt x="381" y="697"/>
                  </a:lnTo>
                  <a:lnTo>
                    <a:pt x="386" y="697"/>
                  </a:lnTo>
                  <a:lnTo>
                    <a:pt x="396" y="692"/>
                  </a:lnTo>
                  <a:lnTo>
                    <a:pt x="401" y="687"/>
                  </a:lnTo>
                  <a:lnTo>
                    <a:pt x="406" y="682"/>
                  </a:lnTo>
                  <a:lnTo>
                    <a:pt x="411" y="677"/>
                  </a:lnTo>
                  <a:lnTo>
                    <a:pt x="416" y="673"/>
                  </a:lnTo>
                  <a:lnTo>
                    <a:pt x="420" y="673"/>
                  </a:lnTo>
                  <a:lnTo>
                    <a:pt x="425" y="668"/>
                  </a:lnTo>
                  <a:lnTo>
                    <a:pt x="430" y="663"/>
                  </a:lnTo>
                  <a:lnTo>
                    <a:pt x="435" y="658"/>
                  </a:lnTo>
                  <a:lnTo>
                    <a:pt x="440" y="658"/>
                  </a:lnTo>
                  <a:lnTo>
                    <a:pt x="445" y="653"/>
                  </a:lnTo>
                  <a:lnTo>
                    <a:pt x="450" y="648"/>
                  </a:lnTo>
                  <a:lnTo>
                    <a:pt x="455" y="643"/>
                  </a:lnTo>
                  <a:lnTo>
                    <a:pt x="460" y="638"/>
                  </a:lnTo>
                  <a:lnTo>
                    <a:pt x="465" y="633"/>
                  </a:lnTo>
                  <a:lnTo>
                    <a:pt x="465" y="628"/>
                  </a:lnTo>
                  <a:lnTo>
                    <a:pt x="470" y="623"/>
                  </a:lnTo>
                  <a:lnTo>
                    <a:pt x="475" y="618"/>
                  </a:lnTo>
                  <a:lnTo>
                    <a:pt x="475" y="613"/>
                  </a:lnTo>
                  <a:lnTo>
                    <a:pt x="480" y="608"/>
                  </a:lnTo>
                  <a:lnTo>
                    <a:pt x="490" y="608"/>
                  </a:lnTo>
                  <a:lnTo>
                    <a:pt x="500" y="608"/>
                  </a:lnTo>
                  <a:lnTo>
                    <a:pt x="505" y="608"/>
                  </a:lnTo>
                  <a:lnTo>
                    <a:pt x="509" y="613"/>
                  </a:lnTo>
                  <a:lnTo>
                    <a:pt x="514" y="618"/>
                  </a:lnTo>
                  <a:lnTo>
                    <a:pt x="514" y="623"/>
                  </a:lnTo>
                  <a:lnTo>
                    <a:pt x="519" y="628"/>
                  </a:lnTo>
                  <a:lnTo>
                    <a:pt x="519" y="633"/>
                  </a:lnTo>
                  <a:lnTo>
                    <a:pt x="519" y="638"/>
                  </a:lnTo>
                  <a:lnTo>
                    <a:pt x="524" y="643"/>
                  </a:lnTo>
                  <a:lnTo>
                    <a:pt x="524" y="648"/>
                  </a:lnTo>
                  <a:lnTo>
                    <a:pt x="529" y="653"/>
                  </a:lnTo>
                  <a:lnTo>
                    <a:pt x="534" y="658"/>
                  </a:lnTo>
                  <a:lnTo>
                    <a:pt x="544" y="653"/>
                  </a:lnTo>
                  <a:lnTo>
                    <a:pt x="549" y="653"/>
                  </a:lnTo>
                  <a:lnTo>
                    <a:pt x="559" y="648"/>
                  </a:lnTo>
                  <a:lnTo>
                    <a:pt x="569" y="643"/>
                  </a:lnTo>
                  <a:lnTo>
                    <a:pt x="574" y="643"/>
                  </a:lnTo>
                  <a:lnTo>
                    <a:pt x="579" y="638"/>
                  </a:lnTo>
                  <a:lnTo>
                    <a:pt x="579" y="633"/>
                  </a:lnTo>
                  <a:lnTo>
                    <a:pt x="584" y="628"/>
                  </a:lnTo>
                  <a:lnTo>
                    <a:pt x="584" y="623"/>
                  </a:lnTo>
                  <a:lnTo>
                    <a:pt x="584" y="618"/>
                  </a:lnTo>
                  <a:lnTo>
                    <a:pt x="584" y="613"/>
                  </a:lnTo>
                  <a:lnTo>
                    <a:pt x="584" y="608"/>
                  </a:lnTo>
                  <a:lnTo>
                    <a:pt x="579" y="603"/>
                  </a:lnTo>
                  <a:lnTo>
                    <a:pt x="579" y="598"/>
                  </a:lnTo>
                  <a:lnTo>
                    <a:pt x="579" y="593"/>
                  </a:lnTo>
                  <a:lnTo>
                    <a:pt x="579" y="584"/>
                  </a:lnTo>
                  <a:lnTo>
                    <a:pt x="579" y="579"/>
                  </a:lnTo>
                  <a:lnTo>
                    <a:pt x="579" y="574"/>
                  </a:lnTo>
                  <a:lnTo>
                    <a:pt x="579" y="569"/>
                  </a:lnTo>
                  <a:lnTo>
                    <a:pt x="584" y="564"/>
                  </a:lnTo>
                  <a:lnTo>
                    <a:pt x="589" y="559"/>
                  </a:lnTo>
                  <a:lnTo>
                    <a:pt x="594" y="559"/>
                  </a:lnTo>
                  <a:lnTo>
                    <a:pt x="599" y="554"/>
                  </a:lnTo>
                  <a:lnTo>
                    <a:pt x="603" y="549"/>
                  </a:lnTo>
                  <a:lnTo>
                    <a:pt x="603" y="544"/>
                  </a:lnTo>
                  <a:lnTo>
                    <a:pt x="603" y="539"/>
                  </a:lnTo>
                  <a:lnTo>
                    <a:pt x="603" y="534"/>
                  </a:lnTo>
                  <a:lnTo>
                    <a:pt x="608" y="524"/>
                  </a:lnTo>
                  <a:lnTo>
                    <a:pt x="608" y="519"/>
                  </a:lnTo>
                  <a:lnTo>
                    <a:pt x="603" y="514"/>
                  </a:lnTo>
                  <a:lnTo>
                    <a:pt x="603" y="509"/>
                  </a:lnTo>
                  <a:lnTo>
                    <a:pt x="603" y="504"/>
                  </a:lnTo>
                  <a:lnTo>
                    <a:pt x="599" y="500"/>
                  </a:lnTo>
                  <a:lnTo>
                    <a:pt x="594" y="495"/>
                  </a:lnTo>
                  <a:lnTo>
                    <a:pt x="594" y="490"/>
                  </a:lnTo>
                  <a:lnTo>
                    <a:pt x="594" y="485"/>
                  </a:lnTo>
                  <a:lnTo>
                    <a:pt x="594" y="480"/>
                  </a:lnTo>
                  <a:lnTo>
                    <a:pt x="594" y="475"/>
                  </a:lnTo>
                  <a:lnTo>
                    <a:pt x="599" y="470"/>
                  </a:lnTo>
                  <a:lnTo>
                    <a:pt x="603" y="470"/>
                  </a:lnTo>
                  <a:lnTo>
                    <a:pt x="613" y="465"/>
                  </a:lnTo>
                  <a:lnTo>
                    <a:pt x="618" y="460"/>
                  </a:lnTo>
                  <a:lnTo>
                    <a:pt x="623" y="455"/>
                  </a:lnTo>
                  <a:lnTo>
                    <a:pt x="628" y="450"/>
                  </a:lnTo>
                  <a:lnTo>
                    <a:pt x="628" y="445"/>
                  </a:lnTo>
                  <a:lnTo>
                    <a:pt x="633" y="440"/>
                  </a:lnTo>
                  <a:lnTo>
                    <a:pt x="638" y="440"/>
                  </a:lnTo>
                  <a:lnTo>
                    <a:pt x="643" y="435"/>
                  </a:lnTo>
                  <a:lnTo>
                    <a:pt x="648" y="430"/>
                  </a:lnTo>
                  <a:lnTo>
                    <a:pt x="653" y="425"/>
                  </a:lnTo>
                  <a:lnTo>
                    <a:pt x="658" y="420"/>
                  </a:lnTo>
                  <a:lnTo>
                    <a:pt x="663" y="416"/>
                  </a:lnTo>
                  <a:lnTo>
                    <a:pt x="668" y="411"/>
                  </a:lnTo>
                  <a:lnTo>
                    <a:pt x="673" y="406"/>
                  </a:lnTo>
                  <a:lnTo>
                    <a:pt x="678" y="406"/>
                  </a:lnTo>
                  <a:lnTo>
                    <a:pt x="683" y="401"/>
                  </a:lnTo>
                  <a:lnTo>
                    <a:pt x="683" y="396"/>
                  </a:lnTo>
                  <a:lnTo>
                    <a:pt x="688" y="391"/>
                  </a:lnTo>
                  <a:lnTo>
                    <a:pt x="692" y="386"/>
                  </a:lnTo>
                  <a:lnTo>
                    <a:pt x="697" y="381"/>
                  </a:lnTo>
                  <a:lnTo>
                    <a:pt x="702" y="376"/>
                  </a:lnTo>
                  <a:lnTo>
                    <a:pt x="707" y="376"/>
                  </a:lnTo>
                  <a:lnTo>
                    <a:pt x="712" y="371"/>
                  </a:lnTo>
                  <a:lnTo>
                    <a:pt x="717" y="366"/>
                  </a:lnTo>
                  <a:lnTo>
                    <a:pt x="722" y="361"/>
                  </a:lnTo>
                  <a:lnTo>
                    <a:pt x="727" y="356"/>
                  </a:lnTo>
                  <a:lnTo>
                    <a:pt x="732" y="351"/>
                  </a:lnTo>
                  <a:lnTo>
                    <a:pt x="742" y="351"/>
                  </a:lnTo>
                  <a:lnTo>
                    <a:pt x="747" y="346"/>
                  </a:lnTo>
                  <a:lnTo>
                    <a:pt x="752" y="341"/>
                  </a:lnTo>
                  <a:lnTo>
                    <a:pt x="757" y="336"/>
                  </a:lnTo>
                  <a:lnTo>
                    <a:pt x="762" y="336"/>
                  </a:lnTo>
                  <a:lnTo>
                    <a:pt x="767" y="331"/>
                  </a:lnTo>
                  <a:lnTo>
                    <a:pt x="772" y="327"/>
                  </a:lnTo>
                  <a:lnTo>
                    <a:pt x="777" y="322"/>
                  </a:lnTo>
                  <a:lnTo>
                    <a:pt x="781" y="317"/>
                  </a:lnTo>
                  <a:lnTo>
                    <a:pt x="786" y="312"/>
                  </a:lnTo>
                  <a:lnTo>
                    <a:pt x="791" y="307"/>
                  </a:lnTo>
                  <a:lnTo>
                    <a:pt x="796" y="307"/>
                  </a:lnTo>
                  <a:lnTo>
                    <a:pt x="801" y="302"/>
                  </a:lnTo>
                  <a:lnTo>
                    <a:pt x="801" y="297"/>
                  </a:lnTo>
                  <a:lnTo>
                    <a:pt x="806" y="292"/>
                  </a:lnTo>
                  <a:lnTo>
                    <a:pt x="811" y="287"/>
                  </a:lnTo>
                  <a:lnTo>
                    <a:pt x="821" y="282"/>
                  </a:lnTo>
                  <a:lnTo>
                    <a:pt x="826" y="282"/>
                  </a:lnTo>
                  <a:lnTo>
                    <a:pt x="836" y="277"/>
                  </a:lnTo>
                  <a:lnTo>
                    <a:pt x="841" y="277"/>
                  </a:lnTo>
                  <a:lnTo>
                    <a:pt x="846" y="272"/>
                  </a:lnTo>
                  <a:lnTo>
                    <a:pt x="851" y="267"/>
                  </a:lnTo>
                  <a:lnTo>
                    <a:pt x="856" y="262"/>
                  </a:lnTo>
                  <a:lnTo>
                    <a:pt x="856" y="257"/>
                  </a:lnTo>
                  <a:lnTo>
                    <a:pt x="861" y="252"/>
                  </a:lnTo>
                  <a:lnTo>
                    <a:pt x="866" y="247"/>
                  </a:lnTo>
                  <a:lnTo>
                    <a:pt x="871" y="247"/>
                  </a:lnTo>
                  <a:lnTo>
                    <a:pt x="880" y="243"/>
                  </a:lnTo>
                  <a:lnTo>
                    <a:pt x="885" y="238"/>
                  </a:lnTo>
                  <a:lnTo>
                    <a:pt x="890" y="233"/>
                  </a:lnTo>
                  <a:lnTo>
                    <a:pt x="895" y="228"/>
                  </a:lnTo>
                  <a:lnTo>
                    <a:pt x="900" y="223"/>
                  </a:lnTo>
                  <a:lnTo>
                    <a:pt x="900" y="223"/>
                  </a:lnTo>
                  <a:lnTo>
                    <a:pt x="905" y="218"/>
                  </a:lnTo>
                  <a:lnTo>
                    <a:pt x="910" y="213"/>
                  </a:lnTo>
                  <a:lnTo>
                    <a:pt x="915" y="208"/>
                  </a:lnTo>
                  <a:lnTo>
                    <a:pt x="920" y="203"/>
                  </a:lnTo>
                  <a:lnTo>
                    <a:pt x="925" y="198"/>
                  </a:lnTo>
                  <a:lnTo>
                    <a:pt x="930" y="193"/>
                  </a:lnTo>
                  <a:lnTo>
                    <a:pt x="935" y="188"/>
                  </a:lnTo>
                  <a:lnTo>
                    <a:pt x="940" y="188"/>
                  </a:lnTo>
                  <a:lnTo>
                    <a:pt x="945" y="183"/>
                  </a:lnTo>
                  <a:lnTo>
                    <a:pt x="945" y="178"/>
                  </a:lnTo>
                  <a:lnTo>
                    <a:pt x="950" y="173"/>
                  </a:lnTo>
                  <a:lnTo>
                    <a:pt x="950" y="168"/>
                  </a:lnTo>
                  <a:lnTo>
                    <a:pt x="955" y="163"/>
                  </a:lnTo>
                  <a:lnTo>
                    <a:pt x="955" y="154"/>
                  </a:lnTo>
                  <a:lnTo>
                    <a:pt x="960" y="154"/>
                  </a:lnTo>
                  <a:lnTo>
                    <a:pt x="964" y="149"/>
                  </a:lnTo>
                  <a:lnTo>
                    <a:pt x="974" y="149"/>
                  </a:lnTo>
                  <a:lnTo>
                    <a:pt x="979" y="149"/>
                  </a:lnTo>
                  <a:lnTo>
                    <a:pt x="989" y="144"/>
                  </a:lnTo>
                  <a:lnTo>
                    <a:pt x="999" y="144"/>
                  </a:lnTo>
                  <a:lnTo>
                    <a:pt x="1004" y="139"/>
                  </a:lnTo>
                  <a:lnTo>
                    <a:pt x="1009" y="139"/>
                  </a:lnTo>
                  <a:lnTo>
                    <a:pt x="1019" y="139"/>
                  </a:lnTo>
                  <a:lnTo>
                    <a:pt x="1029" y="134"/>
                  </a:lnTo>
                  <a:lnTo>
                    <a:pt x="1034" y="134"/>
                  </a:lnTo>
                  <a:lnTo>
                    <a:pt x="1039" y="129"/>
                  </a:lnTo>
                  <a:lnTo>
                    <a:pt x="1049" y="124"/>
                  </a:lnTo>
                  <a:lnTo>
                    <a:pt x="1053" y="124"/>
                  </a:lnTo>
                  <a:lnTo>
                    <a:pt x="1063" y="119"/>
                  </a:lnTo>
                  <a:lnTo>
                    <a:pt x="1068" y="119"/>
                  </a:lnTo>
                  <a:lnTo>
                    <a:pt x="1078" y="119"/>
                  </a:lnTo>
                  <a:lnTo>
                    <a:pt x="1083" y="114"/>
                  </a:lnTo>
                  <a:lnTo>
                    <a:pt x="1093" y="114"/>
                  </a:lnTo>
                  <a:lnTo>
                    <a:pt x="1098" y="114"/>
                  </a:lnTo>
                  <a:lnTo>
                    <a:pt x="1108" y="109"/>
                  </a:lnTo>
                  <a:lnTo>
                    <a:pt x="1113" y="109"/>
                  </a:lnTo>
                  <a:lnTo>
                    <a:pt x="1123" y="109"/>
                  </a:lnTo>
                  <a:lnTo>
                    <a:pt x="1128" y="104"/>
                  </a:lnTo>
                  <a:lnTo>
                    <a:pt x="1138" y="104"/>
                  </a:lnTo>
                  <a:lnTo>
                    <a:pt x="1143" y="99"/>
                  </a:lnTo>
                  <a:lnTo>
                    <a:pt x="1147" y="94"/>
                  </a:lnTo>
                  <a:lnTo>
                    <a:pt x="1152" y="89"/>
                  </a:lnTo>
                  <a:lnTo>
                    <a:pt x="1162" y="89"/>
                  </a:lnTo>
                  <a:lnTo>
                    <a:pt x="1167" y="89"/>
                  </a:lnTo>
                  <a:lnTo>
                    <a:pt x="1177" y="84"/>
                  </a:lnTo>
                  <a:lnTo>
                    <a:pt x="1182" y="84"/>
                  </a:lnTo>
                  <a:lnTo>
                    <a:pt x="1192" y="84"/>
                  </a:lnTo>
                  <a:lnTo>
                    <a:pt x="1202" y="84"/>
                  </a:lnTo>
                  <a:lnTo>
                    <a:pt x="1207" y="79"/>
                  </a:lnTo>
                  <a:lnTo>
                    <a:pt x="1217" y="79"/>
                  </a:lnTo>
                  <a:lnTo>
                    <a:pt x="1227" y="79"/>
                  </a:lnTo>
                  <a:lnTo>
                    <a:pt x="1232" y="74"/>
                  </a:lnTo>
                  <a:lnTo>
                    <a:pt x="1236" y="74"/>
                  </a:lnTo>
                  <a:lnTo>
                    <a:pt x="1241" y="70"/>
                  </a:lnTo>
                  <a:lnTo>
                    <a:pt x="1241" y="65"/>
                  </a:lnTo>
                  <a:lnTo>
                    <a:pt x="1246" y="60"/>
                  </a:lnTo>
                  <a:lnTo>
                    <a:pt x="1256" y="55"/>
                  </a:lnTo>
                  <a:lnTo>
                    <a:pt x="1261" y="55"/>
                  </a:lnTo>
                  <a:lnTo>
                    <a:pt x="1271" y="55"/>
                  </a:lnTo>
                  <a:lnTo>
                    <a:pt x="1276" y="50"/>
                  </a:lnTo>
                  <a:lnTo>
                    <a:pt x="1281" y="45"/>
                  </a:lnTo>
                  <a:lnTo>
                    <a:pt x="1286" y="40"/>
                  </a:lnTo>
                  <a:lnTo>
                    <a:pt x="1291" y="35"/>
                  </a:lnTo>
                  <a:lnTo>
                    <a:pt x="1296" y="35"/>
                  </a:lnTo>
                  <a:lnTo>
                    <a:pt x="1306" y="30"/>
                  </a:lnTo>
                  <a:lnTo>
                    <a:pt x="1311" y="25"/>
                  </a:lnTo>
                  <a:lnTo>
                    <a:pt x="1311" y="20"/>
                  </a:lnTo>
                  <a:lnTo>
                    <a:pt x="1306" y="15"/>
                  </a:lnTo>
                  <a:lnTo>
                    <a:pt x="1296" y="10"/>
                  </a:lnTo>
                  <a:lnTo>
                    <a:pt x="1296" y="5"/>
                  </a:lnTo>
                  <a:lnTo>
                    <a:pt x="1291" y="5"/>
                  </a:lnTo>
                  <a:lnTo>
                    <a:pt x="1286" y="0"/>
                  </a:lnTo>
                  <a:lnTo>
                    <a:pt x="1276" y="0"/>
                  </a:lnTo>
                  <a:lnTo>
                    <a:pt x="1251" y="0"/>
                  </a:lnTo>
                  <a:lnTo>
                    <a:pt x="1222" y="0"/>
                  </a:lnTo>
                  <a:lnTo>
                    <a:pt x="1197" y="0"/>
                  </a:lnTo>
                  <a:lnTo>
                    <a:pt x="1172" y="0"/>
                  </a:lnTo>
                  <a:lnTo>
                    <a:pt x="1143" y="0"/>
                  </a:lnTo>
                  <a:lnTo>
                    <a:pt x="1118" y="0"/>
                  </a:lnTo>
                  <a:lnTo>
                    <a:pt x="1088" y="0"/>
                  </a:lnTo>
                  <a:lnTo>
                    <a:pt x="1063" y="0"/>
                  </a:lnTo>
                  <a:lnTo>
                    <a:pt x="1039" y="0"/>
                  </a:lnTo>
                  <a:lnTo>
                    <a:pt x="1009" y="0"/>
                  </a:lnTo>
                  <a:lnTo>
                    <a:pt x="984" y="0"/>
                  </a:lnTo>
                  <a:lnTo>
                    <a:pt x="955" y="0"/>
                  </a:lnTo>
                  <a:lnTo>
                    <a:pt x="930" y="0"/>
                  </a:lnTo>
                  <a:lnTo>
                    <a:pt x="905" y="0"/>
                  </a:lnTo>
                  <a:lnTo>
                    <a:pt x="875" y="0"/>
                  </a:lnTo>
                  <a:lnTo>
                    <a:pt x="851" y="0"/>
                  </a:lnTo>
                  <a:lnTo>
                    <a:pt x="826" y="0"/>
                  </a:lnTo>
                  <a:lnTo>
                    <a:pt x="796" y="0"/>
                  </a:lnTo>
                  <a:lnTo>
                    <a:pt x="772" y="0"/>
                  </a:lnTo>
                  <a:lnTo>
                    <a:pt x="742" y="0"/>
                  </a:lnTo>
                  <a:lnTo>
                    <a:pt x="717" y="0"/>
                  </a:lnTo>
                  <a:lnTo>
                    <a:pt x="692" y="0"/>
                  </a:lnTo>
                  <a:lnTo>
                    <a:pt x="663" y="0"/>
                  </a:lnTo>
                  <a:lnTo>
                    <a:pt x="638" y="0"/>
                  </a:lnTo>
                  <a:lnTo>
                    <a:pt x="613" y="0"/>
                  </a:lnTo>
                  <a:lnTo>
                    <a:pt x="584" y="25"/>
                  </a:lnTo>
                  <a:lnTo>
                    <a:pt x="559" y="55"/>
                  </a:lnTo>
                  <a:lnTo>
                    <a:pt x="529" y="79"/>
                  </a:lnTo>
                  <a:lnTo>
                    <a:pt x="505" y="104"/>
                  </a:lnTo>
                  <a:lnTo>
                    <a:pt x="480" y="134"/>
                  </a:lnTo>
                  <a:lnTo>
                    <a:pt x="450" y="134"/>
                  </a:lnTo>
                  <a:lnTo>
                    <a:pt x="425" y="159"/>
                  </a:lnTo>
                  <a:lnTo>
                    <a:pt x="396" y="188"/>
                  </a:lnTo>
                  <a:lnTo>
                    <a:pt x="371" y="213"/>
                  </a:lnTo>
                  <a:lnTo>
                    <a:pt x="346" y="238"/>
                  </a:lnTo>
                  <a:lnTo>
                    <a:pt x="317" y="267"/>
                  </a:lnTo>
                  <a:lnTo>
                    <a:pt x="317" y="292"/>
                  </a:lnTo>
                  <a:lnTo>
                    <a:pt x="317" y="297"/>
                  </a:lnTo>
                  <a:lnTo>
                    <a:pt x="312" y="302"/>
                  </a:lnTo>
                  <a:lnTo>
                    <a:pt x="307" y="307"/>
                  </a:lnTo>
                  <a:lnTo>
                    <a:pt x="307" y="312"/>
                  </a:lnTo>
                  <a:lnTo>
                    <a:pt x="302" y="312"/>
                  </a:lnTo>
                  <a:lnTo>
                    <a:pt x="302" y="317"/>
                  </a:lnTo>
                  <a:lnTo>
                    <a:pt x="297" y="322"/>
                  </a:lnTo>
                  <a:lnTo>
                    <a:pt x="292" y="327"/>
                  </a:lnTo>
                  <a:lnTo>
                    <a:pt x="287" y="331"/>
                  </a:lnTo>
                  <a:lnTo>
                    <a:pt x="287" y="336"/>
                  </a:lnTo>
                  <a:lnTo>
                    <a:pt x="282" y="341"/>
                  </a:lnTo>
                  <a:lnTo>
                    <a:pt x="277" y="346"/>
                  </a:lnTo>
                  <a:lnTo>
                    <a:pt x="272" y="351"/>
                  </a:lnTo>
                  <a:lnTo>
                    <a:pt x="272" y="351"/>
                  </a:lnTo>
                  <a:lnTo>
                    <a:pt x="267" y="356"/>
                  </a:lnTo>
                  <a:lnTo>
                    <a:pt x="262" y="361"/>
                  </a:lnTo>
                  <a:lnTo>
                    <a:pt x="262" y="366"/>
                  </a:lnTo>
                  <a:lnTo>
                    <a:pt x="257" y="371"/>
                  </a:lnTo>
                  <a:lnTo>
                    <a:pt x="252" y="376"/>
                  </a:lnTo>
                  <a:lnTo>
                    <a:pt x="247" y="381"/>
                  </a:lnTo>
                  <a:lnTo>
                    <a:pt x="247" y="386"/>
                  </a:lnTo>
                  <a:lnTo>
                    <a:pt x="242" y="386"/>
                  </a:lnTo>
                  <a:lnTo>
                    <a:pt x="237" y="391"/>
                  </a:lnTo>
                  <a:lnTo>
                    <a:pt x="233" y="396"/>
                  </a:lnTo>
                  <a:lnTo>
                    <a:pt x="233" y="401"/>
                  </a:lnTo>
                  <a:lnTo>
                    <a:pt x="228" y="406"/>
                  </a:lnTo>
                  <a:lnTo>
                    <a:pt x="223" y="411"/>
                  </a:lnTo>
                  <a:lnTo>
                    <a:pt x="218" y="416"/>
                  </a:lnTo>
                  <a:lnTo>
                    <a:pt x="213" y="420"/>
                  </a:lnTo>
                  <a:lnTo>
                    <a:pt x="208" y="420"/>
                  </a:lnTo>
                  <a:lnTo>
                    <a:pt x="203" y="425"/>
                  </a:lnTo>
                  <a:lnTo>
                    <a:pt x="203" y="430"/>
                  </a:lnTo>
                  <a:lnTo>
                    <a:pt x="198" y="435"/>
                  </a:lnTo>
                  <a:lnTo>
                    <a:pt x="193" y="440"/>
                  </a:lnTo>
                  <a:lnTo>
                    <a:pt x="193" y="445"/>
                  </a:lnTo>
                  <a:lnTo>
                    <a:pt x="188" y="450"/>
                  </a:lnTo>
                  <a:lnTo>
                    <a:pt x="188" y="455"/>
                  </a:lnTo>
                  <a:lnTo>
                    <a:pt x="188" y="460"/>
                  </a:lnTo>
                  <a:lnTo>
                    <a:pt x="183" y="465"/>
                  </a:lnTo>
                  <a:lnTo>
                    <a:pt x="183" y="470"/>
                  </a:lnTo>
                  <a:lnTo>
                    <a:pt x="183" y="475"/>
                  </a:lnTo>
                  <a:lnTo>
                    <a:pt x="178" y="480"/>
                  </a:lnTo>
                  <a:lnTo>
                    <a:pt x="178" y="485"/>
                  </a:lnTo>
                  <a:lnTo>
                    <a:pt x="173" y="490"/>
                  </a:lnTo>
                  <a:lnTo>
                    <a:pt x="173" y="490"/>
                  </a:lnTo>
                  <a:lnTo>
                    <a:pt x="168" y="495"/>
                  </a:lnTo>
                  <a:lnTo>
                    <a:pt x="168" y="500"/>
                  </a:lnTo>
                  <a:lnTo>
                    <a:pt x="163" y="504"/>
                  </a:lnTo>
                  <a:lnTo>
                    <a:pt x="163" y="509"/>
                  </a:lnTo>
                  <a:lnTo>
                    <a:pt x="163" y="514"/>
                  </a:lnTo>
                  <a:lnTo>
                    <a:pt x="168" y="519"/>
                  </a:lnTo>
                  <a:lnTo>
                    <a:pt x="168" y="524"/>
                  </a:lnTo>
                  <a:lnTo>
                    <a:pt x="163" y="529"/>
                  </a:lnTo>
                  <a:lnTo>
                    <a:pt x="158" y="534"/>
                  </a:lnTo>
                  <a:lnTo>
                    <a:pt x="153" y="534"/>
                  </a:lnTo>
                  <a:lnTo>
                    <a:pt x="148" y="529"/>
                  </a:lnTo>
                  <a:lnTo>
                    <a:pt x="148" y="524"/>
                  </a:lnTo>
                  <a:lnTo>
                    <a:pt x="144" y="519"/>
                  </a:lnTo>
                  <a:lnTo>
                    <a:pt x="144" y="514"/>
                  </a:lnTo>
                  <a:lnTo>
                    <a:pt x="139" y="509"/>
                  </a:lnTo>
                  <a:lnTo>
                    <a:pt x="134" y="509"/>
                  </a:lnTo>
                  <a:lnTo>
                    <a:pt x="124" y="509"/>
                  </a:lnTo>
                  <a:lnTo>
                    <a:pt x="119" y="504"/>
                  </a:lnTo>
                  <a:lnTo>
                    <a:pt x="114" y="500"/>
                  </a:lnTo>
                  <a:lnTo>
                    <a:pt x="109" y="500"/>
                  </a:lnTo>
                  <a:lnTo>
                    <a:pt x="99" y="495"/>
                  </a:lnTo>
                  <a:lnTo>
                    <a:pt x="94" y="495"/>
                  </a:lnTo>
                  <a:lnTo>
                    <a:pt x="84" y="495"/>
                  </a:lnTo>
                  <a:lnTo>
                    <a:pt x="79" y="495"/>
                  </a:lnTo>
                  <a:lnTo>
                    <a:pt x="74" y="490"/>
                  </a:lnTo>
                  <a:lnTo>
                    <a:pt x="74" y="485"/>
                  </a:lnTo>
                  <a:lnTo>
                    <a:pt x="55" y="504"/>
                  </a:lnTo>
                  <a:lnTo>
                    <a:pt x="25" y="504"/>
                  </a:lnTo>
                  <a:lnTo>
                    <a:pt x="0" y="534"/>
                  </a:lnTo>
                  <a:lnTo>
                    <a:pt x="0" y="559"/>
                  </a:lnTo>
                  <a:lnTo>
                    <a:pt x="0" y="589"/>
                  </a:lnTo>
                  <a:lnTo>
                    <a:pt x="0" y="603"/>
                  </a:lnTo>
                  <a:lnTo>
                    <a:pt x="5" y="598"/>
                  </a:lnTo>
                  <a:lnTo>
                    <a:pt x="10" y="598"/>
                  </a:lnTo>
                  <a:lnTo>
                    <a:pt x="15" y="593"/>
                  </a:lnTo>
                  <a:lnTo>
                    <a:pt x="15" y="589"/>
                  </a:lnTo>
                  <a:lnTo>
                    <a:pt x="20" y="584"/>
                  </a:lnTo>
                  <a:lnTo>
                    <a:pt x="25" y="579"/>
                  </a:lnTo>
                  <a:lnTo>
                    <a:pt x="30" y="579"/>
                  </a:lnTo>
                  <a:lnTo>
                    <a:pt x="35" y="584"/>
                  </a:lnTo>
                  <a:lnTo>
                    <a:pt x="40" y="589"/>
                  </a:lnTo>
                  <a:lnTo>
                    <a:pt x="45" y="593"/>
                  </a:lnTo>
                  <a:lnTo>
                    <a:pt x="45" y="598"/>
                  </a:lnTo>
                  <a:lnTo>
                    <a:pt x="50" y="603"/>
                  </a:lnTo>
                  <a:lnTo>
                    <a:pt x="50" y="608"/>
                  </a:lnTo>
                  <a:lnTo>
                    <a:pt x="50" y="613"/>
                  </a:lnTo>
                  <a:lnTo>
                    <a:pt x="45" y="623"/>
                  </a:lnTo>
                  <a:lnTo>
                    <a:pt x="45" y="628"/>
                  </a:lnTo>
                  <a:lnTo>
                    <a:pt x="40" y="633"/>
                  </a:lnTo>
                  <a:lnTo>
                    <a:pt x="35" y="638"/>
                  </a:lnTo>
                  <a:lnTo>
                    <a:pt x="30" y="638"/>
                  </a:lnTo>
                  <a:lnTo>
                    <a:pt x="20" y="638"/>
                  </a:lnTo>
                  <a:lnTo>
                    <a:pt x="25" y="643"/>
                  </a:lnTo>
                  <a:lnTo>
                    <a:pt x="25" y="668"/>
                  </a:lnTo>
                  <a:lnTo>
                    <a:pt x="30" y="668"/>
                  </a:lnTo>
                  <a:lnTo>
                    <a:pt x="35" y="668"/>
                  </a:lnTo>
                  <a:lnTo>
                    <a:pt x="40" y="663"/>
                  </a:lnTo>
                  <a:lnTo>
                    <a:pt x="50" y="663"/>
                  </a:lnTo>
                  <a:lnTo>
                    <a:pt x="55" y="658"/>
                  </a:lnTo>
                  <a:lnTo>
                    <a:pt x="64" y="663"/>
                  </a:lnTo>
                  <a:lnTo>
                    <a:pt x="74" y="663"/>
                  </a:lnTo>
                  <a:lnTo>
                    <a:pt x="79" y="663"/>
                  </a:lnTo>
                  <a:lnTo>
                    <a:pt x="89" y="663"/>
                  </a:lnTo>
                  <a:lnTo>
                    <a:pt x="99" y="663"/>
                  </a:lnTo>
                  <a:lnTo>
                    <a:pt x="104" y="663"/>
                  </a:lnTo>
                  <a:lnTo>
                    <a:pt x="114" y="663"/>
                  </a:lnTo>
                  <a:lnTo>
                    <a:pt x="119" y="663"/>
                  </a:lnTo>
                  <a:lnTo>
                    <a:pt x="129" y="663"/>
                  </a:lnTo>
                  <a:lnTo>
                    <a:pt x="139" y="663"/>
                  </a:lnTo>
                  <a:lnTo>
                    <a:pt x="144" y="663"/>
                  </a:lnTo>
                  <a:lnTo>
                    <a:pt x="153" y="663"/>
                  </a:lnTo>
                  <a:lnTo>
                    <a:pt x="158" y="658"/>
                  </a:lnTo>
                  <a:lnTo>
                    <a:pt x="163" y="653"/>
                  </a:lnTo>
                  <a:lnTo>
                    <a:pt x="168" y="648"/>
                  </a:lnTo>
                  <a:lnTo>
                    <a:pt x="168" y="643"/>
                  </a:lnTo>
                  <a:lnTo>
                    <a:pt x="168" y="638"/>
                  </a:lnTo>
                  <a:lnTo>
                    <a:pt x="168" y="633"/>
                  </a:lnTo>
                  <a:lnTo>
                    <a:pt x="168" y="628"/>
                  </a:lnTo>
                  <a:lnTo>
                    <a:pt x="168" y="623"/>
                  </a:lnTo>
                  <a:lnTo>
                    <a:pt x="168" y="618"/>
                  </a:lnTo>
                  <a:lnTo>
                    <a:pt x="173" y="613"/>
                  </a:lnTo>
                  <a:lnTo>
                    <a:pt x="183" y="613"/>
                  </a:lnTo>
                  <a:lnTo>
                    <a:pt x="188" y="608"/>
                  </a:lnTo>
                  <a:lnTo>
                    <a:pt x="198" y="613"/>
                  </a:lnTo>
                  <a:lnTo>
                    <a:pt x="203" y="618"/>
                  </a:lnTo>
                  <a:lnTo>
                    <a:pt x="208" y="618"/>
                  </a:lnTo>
                  <a:lnTo>
                    <a:pt x="213" y="623"/>
                  </a:lnTo>
                  <a:lnTo>
                    <a:pt x="218" y="628"/>
                  </a:lnTo>
                  <a:lnTo>
                    <a:pt x="223" y="633"/>
                  </a:lnTo>
                  <a:lnTo>
                    <a:pt x="228" y="638"/>
                  </a:lnTo>
                  <a:lnTo>
                    <a:pt x="233" y="638"/>
                  </a:lnTo>
                  <a:lnTo>
                    <a:pt x="237" y="643"/>
                  </a:lnTo>
                  <a:lnTo>
                    <a:pt x="237" y="648"/>
                  </a:lnTo>
                  <a:lnTo>
                    <a:pt x="233" y="653"/>
                  </a:lnTo>
                  <a:lnTo>
                    <a:pt x="233" y="658"/>
                  </a:lnTo>
                  <a:lnTo>
                    <a:pt x="233" y="668"/>
                  </a:lnTo>
                  <a:lnTo>
                    <a:pt x="228" y="673"/>
                  </a:lnTo>
                  <a:lnTo>
                    <a:pt x="233" y="677"/>
                  </a:lnTo>
                  <a:lnTo>
                    <a:pt x="233" y="682"/>
                  </a:lnTo>
                  <a:lnTo>
                    <a:pt x="237" y="687"/>
                  </a:lnTo>
                  <a:lnTo>
                    <a:pt x="242" y="687"/>
                  </a:lnTo>
                  <a:lnTo>
                    <a:pt x="247" y="692"/>
                  </a:lnTo>
                  <a:lnTo>
                    <a:pt x="257" y="692"/>
                  </a:lnTo>
                  <a:lnTo>
                    <a:pt x="267" y="692"/>
                  </a:lnTo>
                  <a:lnTo>
                    <a:pt x="272" y="697"/>
                  </a:lnTo>
                  <a:lnTo>
                    <a:pt x="282" y="697"/>
                  </a:lnTo>
                  <a:lnTo>
                    <a:pt x="287" y="702"/>
                  </a:lnTo>
                  <a:lnTo>
                    <a:pt x="292" y="702"/>
                  </a:lnTo>
                  <a:lnTo>
                    <a:pt x="302" y="702"/>
                  </a:lnTo>
                  <a:lnTo>
                    <a:pt x="307" y="697"/>
                  </a:lnTo>
                  <a:lnTo>
                    <a:pt x="317" y="692"/>
                  </a:lnTo>
                  <a:close/>
                  <a:moveTo>
                    <a:pt x="188" y="668"/>
                  </a:moveTo>
                  <a:lnTo>
                    <a:pt x="188" y="668"/>
                  </a:lnTo>
                  <a:lnTo>
                    <a:pt x="188" y="668"/>
                  </a:lnTo>
                  <a:lnTo>
                    <a:pt x="183" y="663"/>
                  </a:lnTo>
                  <a:lnTo>
                    <a:pt x="183" y="663"/>
                  </a:lnTo>
                  <a:lnTo>
                    <a:pt x="183" y="663"/>
                  </a:lnTo>
                  <a:lnTo>
                    <a:pt x="183" y="668"/>
                  </a:lnTo>
                  <a:lnTo>
                    <a:pt x="178" y="668"/>
                  </a:lnTo>
                  <a:lnTo>
                    <a:pt x="178" y="668"/>
                  </a:lnTo>
                  <a:lnTo>
                    <a:pt x="178" y="668"/>
                  </a:lnTo>
                  <a:lnTo>
                    <a:pt x="183" y="668"/>
                  </a:lnTo>
                  <a:lnTo>
                    <a:pt x="183" y="668"/>
                  </a:lnTo>
                  <a:lnTo>
                    <a:pt x="183" y="668"/>
                  </a:lnTo>
                  <a:lnTo>
                    <a:pt x="183" y="668"/>
                  </a:lnTo>
                  <a:lnTo>
                    <a:pt x="188" y="668"/>
                  </a:lnTo>
                  <a:close/>
                  <a:moveTo>
                    <a:pt x="905" y="589"/>
                  </a:moveTo>
                  <a:lnTo>
                    <a:pt x="905" y="584"/>
                  </a:lnTo>
                  <a:lnTo>
                    <a:pt x="905" y="579"/>
                  </a:lnTo>
                  <a:lnTo>
                    <a:pt x="905" y="569"/>
                  </a:lnTo>
                  <a:lnTo>
                    <a:pt x="905" y="564"/>
                  </a:lnTo>
                  <a:lnTo>
                    <a:pt x="905" y="559"/>
                  </a:lnTo>
                  <a:lnTo>
                    <a:pt x="905" y="554"/>
                  </a:lnTo>
                  <a:lnTo>
                    <a:pt x="905" y="549"/>
                  </a:lnTo>
                  <a:lnTo>
                    <a:pt x="905" y="544"/>
                  </a:lnTo>
                  <a:lnTo>
                    <a:pt x="905" y="539"/>
                  </a:lnTo>
                  <a:lnTo>
                    <a:pt x="905" y="534"/>
                  </a:lnTo>
                  <a:lnTo>
                    <a:pt x="905" y="529"/>
                  </a:lnTo>
                  <a:lnTo>
                    <a:pt x="905" y="519"/>
                  </a:lnTo>
                  <a:lnTo>
                    <a:pt x="905" y="514"/>
                  </a:lnTo>
                  <a:lnTo>
                    <a:pt x="900" y="514"/>
                  </a:lnTo>
                  <a:lnTo>
                    <a:pt x="895" y="519"/>
                  </a:lnTo>
                  <a:lnTo>
                    <a:pt x="890" y="519"/>
                  </a:lnTo>
                  <a:lnTo>
                    <a:pt x="885" y="529"/>
                  </a:lnTo>
                  <a:lnTo>
                    <a:pt x="880" y="534"/>
                  </a:lnTo>
                  <a:lnTo>
                    <a:pt x="875" y="539"/>
                  </a:lnTo>
                  <a:lnTo>
                    <a:pt x="875" y="544"/>
                  </a:lnTo>
                  <a:lnTo>
                    <a:pt x="871" y="549"/>
                  </a:lnTo>
                  <a:lnTo>
                    <a:pt x="866" y="554"/>
                  </a:lnTo>
                  <a:lnTo>
                    <a:pt x="866" y="559"/>
                  </a:lnTo>
                  <a:lnTo>
                    <a:pt x="866" y="564"/>
                  </a:lnTo>
                  <a:lnTo>
                    <a:pt x="866" y="569"/>
                  </a:lnTo>
                  <a:lnTo>
                    <a:pt x="871" y="574"/>
                  </a:lnTo>
                  <a:lnTo>
                    <a:pt x="875" y="579"/>
                  </a:lnTo>
                  <a:lnTo>
                    <a:pt x="880" y="584"/>
                  </a:lnTo>
                  <a:lnTo>
                    <a:pt x="885" y="584"/>
                  </a:lnTo>
                  <a:lnTo>
                    <a:pt x="895" y="589"/>
                  </a:lnTo>
                  <a:lnTo>
                    <a:pt x="900" y="589"/>
                  </a:lnTo>
                  <a:lnTo>
                    <a:pt x="905" y="589"/>
                  </a:lnTo>
                  <a:close/>
                  <a:moveTo>
                    <a:pt x="1068" y="589"/>
                  </a:moveTo>
                  <a:lnTo>
                    <a:pt x="1068" y="584"/>
                  </a:lnTo>
                  <a:lnTo>
                    <a:pt x="1068" y="574"/>
                  </a:lnTo>
                  <a:lnTo>
                    <a:pt x="1068" y="569"/>
                  </a:lnTo>
                  <a:lnTo>
                    <a:pt x="1068" y="564"/>
                  </a:lnTo>
                  <a:lnTo>
                    <a:pt x="1063" y="554"/>
                  </a:lnTo>
                  <a:lnTo>
                    <a:pt x="1063" y="544"/>
                  </a:lnTo>
                  <a:lnTo>
                    <a:pt x="1063" y="544"/>
                  </a:lnTo>
                  <a:lnTo>
                    <a:pt x="1063" y="544"/>
                  </a:lnTo>
                  <a:lnTo>
                    <a:pt x="1063" y="554"/>
                  </a:lnTo>
                  <a:lnTo>
                    <a:pt x="1063" y="559"/>
                  </a:lnTo>
                  <a:lnTo>
                    <a:pt x="1058" y="569"/>
                  </a:lnTo>
                  <a:lnTo>
                    <a:pt x="1058" y="574"/>
                  </a:lnTo>
                  <a:lnTo>
                    <a:pt x="1058" y="579"/>
                  </a:lnTo>
                  <a:lnTo>
                    <a:pt x="1058" y="584"/>
                  </a:lnTo>
                  <a:lnTo>
                    <a:pt x="1063" y="593"/>
                  </a:lnTo>
                  <a:lnTo>
                    <a:pt x="1063" y="598"/>
                  </a:lnTo>
                  <a:lnTo>
                    <a:pt x="1063" y="603"/>
                  </a:lnTo>
                  <a:lnTo>
                    <a:pt x="1063" y="603"/>
                  </a:lnTo>
                  <a:lnTo>
                    <a:pt x="1063" y="598"/>
                  </a:lnTo>
                  <a:lnTo>
                    <a:pt x="1068" y="589"/>
                  </a:lnTo>
                  <a:close/>
                  <a:moveTo>
                    <a:pt x="1098" y="534"/>
                  </a:moveTo>
                  <a:lnTo>
                    <a:pt x="1098" y="524"/>
                  </a:lnTo>
                  <a:lnTo>
                    <a:pt x="1098" y="514"/>
                  </a:lnTo>
                  <a:lnTo>
                    <a:pt x="1093" y="509"/>
                  </a:lnTo>
                  <a:lnTo>
                    <a:pt x="1093" y="509"/>
                  </a:lnTo>
                  <a:lnTo>
                    <a:pt x="1083" y="509"/>
                  </a:lnTo>
                  <a:lnTo>
                    <a:pt x="1078" y="514"/>
                  </a:lnTo>
                  <a:lnTo>
                    <a:pt x="1068" y="519"/>
                  </a:lnTo>
                  <a:lnTo>
                    <a:pt x="1063" y="524"/>
                  </a:lnTo>
                  <a:lnTo>
                    <a:pt x="1063" y="534"/>
                  </a:lnTo>
                  <a:lnTo>
                    <a:pt x="1068" y="539"/>
                  </a:lnTo>
                  <a:lnTo>
                    <a:pt x="1078" y="544"/>
                  </a:lnTo>
                  <a:lnTo>
                    <a:pt x="1088" y="544"/>
                  </a:lnTo>
                  <a:lnTo>
                    <a:pt x="1093" y="539"/>
                  </a:lnTo>
                  <a:lnTo>
                    <a:pt x="1098" y="534"/>
                  </a:lnTo>
                  <a:close/>
                  <a:moveTo>
                    <a:pt x="856" y="504"/>
                  </a:moveTo>
                  <a:lnTo>
                    <a:pt x="861" y="504"/>
                  </a:lnTo>
                  <a:lnTo>
                    <a:pt x="871" y="500"/>
                  </a:lnTo>
                  <a:lnTo>
                    <a:pt x="875" y="500"/>
                  </a:lnTo>
                  <a:lnTo>
                    <a:pt x="875" y="495"/>
                  </a:lnTo>
                  <a:lnTo>
                    <a:pt x="880" y="490"/>
                  </a:lnTo>
                  <a:lnTo>
                    <a:pt x="880" y="485"/>
                  </a:lnTo>
                  <a:lnTo>
                    <a:pt x="880" y="480"/>
                  </a:lnTo>
                  <a:lnTo>
                    <a:pt x="875" y="475"/>
                  </a:lnTo>
                  <a:lnTo>
                    <a:pt x="875" y="470"/>
                  </a:lnTo>
                  <a:lnTo>
                    <a:pt x="866" y="465"/>
                  </a:lnTo>
                  <a:lnTo>
                    <a:pt x="861" y="460"/>
                  </a:lnTo>
                  <a:lnTo>
                    <a:pt x="856" y="455"/>
                  </a:lnTo>
                  <a:lnTo>
                    <a:pt x="856" y="455"/>
                  </a:lnTo>
                  <a:lnTo>
                    <a:pt x="856" y="450"/>
                  </a:lnTo>
                  <a:lnTo>
                    <a:pt x="856" y="445"/>
                  </a:lnTo>
                  <a:lnTo>
                    <a:pt x="856" y="440"/>
                  </a:lnTo>
                  <a:lnTo>
                    <a:pt x="861" y="430"/>
                  </a:lnTo>
                  <a:lnTo>
                    <a:pt x="861" y="425"/>
                  </a:lnTo>
                  <a:lnTo>
                    <a:pt x="861" y="420"/>
                  </a:lnTo>
                  <a:lnTo>
                    <a:pt x="861" y="416"/>
                  </a:lnTo>
                  <a:lnTo>
                    <a:pt x="856" y="411"/>
                  </a:lnTo>
                  <a:lnTo>
                    <a:pt x="856" y="406"/>
                  </a:lnTo>
                  <a:lnTo>
                    <a:pt x="851" y="401"/>
                  </a:lnTo>
                  <a:lnTo>
                    <a:pt x="851" y="401"/>
                  </a:lnTo>
                  <a:lnTo>
                    <a:pt x="851" y="391"/>
                  </a:lnTo>
                  <a:lnTo>
                    <a:pt x="856" y="391"/>
                  </a:lnTo>
                  <a:lnTo>
                    <a:pt x="856" y="386"/>
                  </a:lnTo>
                  <a:lnTo>
                    <a:pt x="861" y="381"/>
                  </a:lnTo>
                  <a:lnTo>
                    <a:pt x="861" y="376"/>
                  </a:lnTo>
                  <a:lnTo>
                    <a:pt x="861" y="366"/>
                  </a:lnTo>
                  <a:lnTo>
                    <a:pt x="861" y="361"/>
                  </a:lnTo>
                  <a:lnTo>
                    <a:pt x="861" y="356"/>
                  </a:lnTo>
                  <a:lnTo>
                    <a:pt x="861" y="351"/>
                  </a:lnTo>
                  <a:lnTo>
                    <a:pt x="856" y="346"/>
                  </a:lnTo>
                  <a:lnTo>
                    <a:pt x="851" y="346"/>
                  </a:lnTo>
                  <a:lnTo>
                    <a:pt x="841" y="346"/>
                  </a:lnTo>
                  <a:lnTo>
                    <a:pt x="836" y="346"/>
                  </a:lnTo>
                  <a:lnTo>
                    <a:pt x="826" y="346"/>
                  </a:lnTo>
                  <a:lnTo>
                    <a:pt x="821" y="351"/>
                  </a:lnTo>
                  <a:lnTo>
                    <a:pt x="811" y="351"/>
                  </a:lnTo>
                  <a:lnTo>
                    <a:pt x="806" y="356"/>
                  </a:lnTo>
                  <a:lnTo>
                    <a:pt x="801" y="361"/>
                  </a:lnTo>
                  <a:lnTo>
                    <a:pt x="801" y="366"/>
                  </a:lnTo>
                  <a:lnTo>
                    <a:pt x="796" y="371"/>
                  </a:lnTo>
                  <a:lnTo>
                    <a:pt x="791" y="371"/>
                  </a:lnTo>
                  <a:lnTo>
                    <a:pt x="786" y="376"/>
                  </a:lnTo>
                  <a:lnTo>
                    <a:pt x="781" y="381"/>
                  </a:lnTo>
                  <a:lnTo>
                    <a:pt x="777" y="386"/>
                  </a:lnTo>
                  <a:lnTo>
                    <a:pt x="772" y="391"/>
                  </a:lnTo>
                  <a:lnTo>
                    <a:pt x="767" y="396"/>
                  </a:lnTo>
                  <a:lnTo>
                    <a:pt x="762" y="396"/>
                  </a:lnTo>
                  <a:lnTo>
                    <a:pt x="757" y="401"/>
                  </a:lnTo>
                  <a:lnTo>
                    <a:pt x="752" y="406"/>
                  </a:lnTo>
                  <a:lnTo>
                    <a:pt x="752" y="411"/>
                  </a:lnTo>
                  <a:lnTo>
                    <a:pt x="747" y="416"/>
                  </a:lnTo>
                  <a:lnTo>
                    <a:pt x="742" y="420"/>
                  </a:lnTo>
                  <a:lnTo>
                    <a:pt x="737" y="420"/>
                  </a:lnTo>
                  <a:lnTo>
                    <a:pt x="727" y="425"/>
                  </a:lnTo>
                  <a:lnTo>
                    <a:pt x="727" y="430"/>
                  </a:lnTo>
                  <a:lnTo>
                    <a:pt x="727" y="435"/>
                  </a:lnTo>
                  <a:lnTo>
                    <a:pt x="732" y="440"/>
                  </a:lnTo>
                  <a:lnTo>
                    <a:pt x="737" y="445"/>
                  </a:lnTo>
                  <a:lnTo>
                    <a:pt x="742" y="450"/>
                  </a:lnTo>
                  <a:lnTo>
                    <a:pt x="742" y="455"/>
                  </a:lnTo>
                  <a:lnTo>
                    <a:pt x="747" y="460"/>
                  </a:lnTo>
                  <a:lnTo>
                    <a:pt x="757" y="460"/>
                  </a:lnTo>
                  <a:lnTo>
                    <a:pt x="762" y="465"/>
                  </a:lnTo>
                  <a:lnTo>
                    <a:pt x="772" y="460"/>
                  </a:lnTo>
                  <a:lnTo>
                    <a:pt x="777" y="460"/>
                  </a:lnTo>
                  <a:lnTo>
                    <a:pt x="781" y="455"/>
                  </a:lnTo>
                  <a:lnTo>
                    <a:pt x="786" y="450"/>
                  </a:lnTo>
                  <a:lnTo>
                    <a:pt x="791" y="445"/>
                  </a:lnTo>
                  <a:lnTo>
                    <a:pt x="796" y="445"/>
                  </a:lnTo>
                  <a:lnTo>
                    <a:pt x="806" y="445"/>
                  </a:lnTo>
                  <a:lnTo>
                    <a:pt x="816" y="445"/>
                  </a:lnTo>
                  <a:lnTo>
                    <a:pt x="821" y="445"/>
                  </a:lnTo>
                  <a:lnTo>
                    <a:pt x="826" y="450"/>
                  </a:lnTo>
                  <a:lnTo>
                    <a:pt x="831" y="455"/>
                  </a:lnTo>
                  <a:lnTo>
                    <a:pt x="836" y="460"/>
                  </a:lnTo>
                  <a:lnTo>
                    <a:pt x="836" y="465"/>
                  </a:lnTo>
                  <a:lnTo>
                    <a:pt x="836" y="470"/>
                  </a:lnTo>
                  <a:lnTo>
                    <a:pt x="836" y="475"/>
                  </a:lnTo>
                  <a:lnTo>
                    <a:pt x="841" y="480"/>
                  </a:lnTo>
                  <a:lnTo>
                    <a:pt x="841" y="485"/>
                  </a:lnTo>
                  <a:lnTo>
                    <a:pt x="841" y="490"/>
                  </a:lnTo>
                  <a:lnTo>
                    <a:pt x="846" y="495"/>
                  </a:lnTo>
                  <a:lnTo>
                    <a:pt x="846" y="500"/>
                  </a:lnTo>
                  <a:lnTo>
                    <a:pt x="846" y="504"/>
                  </a:lnTo>
                  <a:lnTo>
                    <a:pt x="851" y="509"/>
                  </a:lnTo>
                  <a:lnTo>
                    <a:pt x="851" y="514"/>
                  </a:lnTo>
                  <a:lnTo>
                    <a:pt x="851" y="514"/>
                  </a:lnTo>
                  <a:lnTo>
                    <a:pt x="856" y="504"/>
                  </a:lnTo>
                  <a:close/>
                  <a:moveTo>
                    <a:pt x="678" y="480"/>
                  </a:moveTo>
                  <a:lnTo>
                    <a:pt x="678" y="475"/>
                  </a:lnTo>
                  <a:lnTo>
                    <a:pt x="683" y="470"/>
                  </a:lnTo>
                  <a:lnTo>
                    <a:pt x="683" y="465"/>
                  </a:lnTo>
                  <a:lnTo>
                    <a:pt x="688" y="460"/>
                  </a:lnTo>
                  <a:lnTo>
                    <a:pt x="692" y="460"/>
                  </a:lnTo>
                  <a:lnTo>
                    <a:pt x="697" y="455"/>
                  </a:lnTo>
                  <a:lnTo>
                    <a:pt x="702" y="450"/>
                  </a:lnTo>
                  <a:lnTo>
                    <a:pt x="702" y="445"/>
                  </a:lnTo>
                  <a:lnTo>
                    <a:pt x="702" y="440"/>
                  </a:lnTo>
                  <a:lnTo>
                    <a:pt x="697" y="435"/>
                  </a:lnTo>
                  <a:lnTo>
                    <a:pt x="697" y="430"/>
                  </a:lnTo>
                  <a:lnTo>
                    <a:pt x="692" y="425"/>
                  </a:lnTo>
                  <a:lnTo>
                    <a:pt x="688" y="425"/>
                  </a:lnTo>
                  <a:lnTo>
                    <a:pt x="683" y="430"/>
                  </a:lnTo>
                  <a:lnTo>
                    <a:pt x="678" y="435"/>
                  </a:lnTo>
                  <a:lnTo>
                    <a:pt x="673" y="440"/>
                  </a:lnTo>
                  <a:lnTo>
                    <a:pt x="668" y="445"/>
                  </a:lnTo>
                  <a:lnTo>
                    <a:pt x="663" y="445"/>
                  </a:lnTo>
                  <a:lnTo>
                    <a:pt x="658" y="450"/>
                  </a:lnTo>
                  <a:lnTo>
                    <a:pt x="653" y="455"/>
                  </a:lnTo>
                  <a:lnTo>
                    <a:pt x="653" y="460"/>
                  </a:lnTo>
                  <a:lnTo>
                    <a:pt x="648" y="465"/>
                  </a:lnTo>
                  <a:lnTo>
                    <a:pt x="643" y="470"/>
                  </a:lnTo>
                  <a:lnTo>
                    <a:pt x="638" y="470"/>
                  </a:lnTo>
                  <a:lnTo>
                    <a:pt x="633" y="475"/>
                  </a:lnTo>
                  <a:lnTo>
                    <a:pt x="628" y="480"/>
                  </a:lnTo>
                  <a:lnTo>
                    <a:pt x="628" y="485"/>
                  </a:lnTo>
                  <a:lnTo>
                    <a:pt x="633" y="490"/>
                  </a:lnTo>
                  <a:lnTo>
                    <a:pt x="633" y="495"/>
                  </a:lnTo>
                  <a:lnTo>
                    <a:pt x="638" y="500"/>
                  </a:lnTo>
                  <a:lnTo>
                    <a:pt x="648" y="504"/>
                  </a:lnTo>
                  <a:lnTo>
                    <a:pt x="658" y="504"/>
                  </a:lnTo>
                  <a:lnTo>
                    <a:pt x="663" y="504"/>
                  </a:lnTo>
                  <a:lnTo>
                    <a:pt x="668" y="504"/>
                  </a:lnTo>
                  <a:lnTo>
                    <a:pt x="673" y="500"/>
                  </a:lnTo>
                  <a:lnTo>
                    <a:pt x="673" y="495"/>
                  </a:lnTo>
                  <a:lnTo>
                    <a:pt x="678" y="490"/>
                  </a:lnTo>
                  <a:lnTo>
                    <a:pt x="678" y="480"/>
                  </a:lnTo>
                  <a:close/>
                  <a:moveTo>
                    <a:pt x="1118" y="480"/>
                  </a:moveTo>
                  <a:lnTo>
                    <a:pt x="1118" y="480"/>
                  </a:lnTo>
                  <a:lnTo>
                    <a:pt x="1118" y="475"/>
                  </a:lnTo>
                  <a:lnTo>
                    <a:pt x="1118" y="475"/>
                  </a:lnTo>
                  <a:lnTo>
                    <a:pt x="1118" y="475"/>
                  </a:lnTo>
                  <a:lnTo>
                    <a:pt x="1118" y="475"/>
                  </a:lnTo>
                  <a:lnTo>
                    <a:pt x="1113" y="475"/>
                  </a:lnTo>
                  <a:lnTo>
                    <a:pt x="1113" y="475"/>
                  </a:lnTo>
                  <a:lnTo>
                    <a:pt x="1113" y="475"/>
                  </a:lnTo>
                  <a:lnTo>
                    <a:pt x="1108" y="480"/>
                  </a:lnTo>
                  <a:lnTo>
                    <a:pt x="1113" y="480"/>
                  </a:lnTo>
                  <a:lnTo>
                    <a:pt x="1113" y="480"/>
                  </a:lnTo>
                  <a:lnTo>
                    <a:pt x="1113" y="480"/>
                  </a:lnTo>
                  <a:lnTo>
                    <a:pt x="1118" y="480"/>
                  </a:lnTo>
                  <a:lnTo>
                    <a:pt x="1118" y="480"/>
                  </a:lnTo>
                  <a:close/>
                  <a:moveTo>
                    <a:pt x="134" y="455"/>
                  </a:moveTo>
                  <a:lnTo>
                    <a:pt x="139" y="450"/>
                  </a:lnTo>
                  <a:lnTo>
                    <a:pt x="144" y="445"/>
                  </a:lnTo>
                  <a:lnTo>
                    <a:pt x="148" y="440"/>
                  </a:lnTo>
                  <a:lnTo>
                    <a:pt x="153" y="435"/>
                  </a:lnTo>
                  <a:lnTo>
                    <a:pt x="158" y="430"/>
                  </a:lnTo>
                  <a:lnTo>
                    <a:pt x="163" y="425"/>
                  </a:lnTo>
                  <a:lnTo>
                    <a:pt x="163" y="420"/>
                  </a:lnTo>
                  <a:lnTo>
                    <a:pt x="163" y="416"/>
                  </a:lnTo>
                  <a:lnTo>
                    <a:pt x="163" y="411"/>
                  </a:lnTo>
                  <a:lnTo>
                    <a:pt x="163" y="406"/>
                  </a:lnTo>
                  <a:lnTo>
                    <a:pt x="163" y="401"/>
                  </a:lnTo>
                  <a:lnTo>
                    <a:pt x="158" y="401"/>
                  </a:lnTo>
                  <a:lnTo>
                    <a:pt x="134" y="425"/>
                  </a:lnTo>
                  <a:lnTo>
                    <a:pt x="104" y="455"/>
                  </a:lnTo>
                  <a:lnTo>
                    <a:pt x="104" y="455"/>
                  </a:lnTo>
                  <a:lnTo>
                    <a:pt x="109" y="460"/>
                  </a:lnTo>
                  <a:lnTo>
                    <a:pt x="114" y="460"/>
                  </a:lnTo>
                  <a:lnTo>
                    <a:pt x="119" y="465"/>
                  </a:lnTo>
                  <a:lnTo>
                    <a:pt x="124" y="470"/>
                  </a:lnTo>
                  <a:lnTo>
                    <a:pt x="129" y="475"/>
                  </a:lnTo>
                  <a:lnTo>
                    <a:pt x="134" y="475"/>
                  </a:lnTo>
                  <a:lnTo>
                    <a:pt x="134" y="475"/>
                  </a:lnTo>
                  <a:lnTo>
                    <a:pt x="134" y="470"/>
                  </a:lnTo>
                  <a:lnTo>
                    <a:pt x="134" y="465"/>
                  </a:lnTo>
                  <a:lnTo>
                    <a:pt x="134" y="460"/>
                  </a:lnTo>
                  <a:lnTo>
                    <a:pt x="134" y="455"/>
                  </a:lnTo>
                  <a:close/>
                  <a:moveTo>
                    <a:pt x="193" y="371"/>
                  </a:moveTo>
                  <a:lnTo>
                    <a:pt x="183" y="371"/>
                  </a:lnTo>
                  <a:lnTo>
                    <a:pt x="183" y="381"/>
                  </a:lnTo>
                  <a:lnTo>
                    <a:pt x="193" y="371"/>
                  </a:lnTo>
                  <a:close/>
                  <a:moveTo>
                    <a:pt x="223" y="346"/>
                  </a:moveTo>
                  <a:lnTo>
                    <a:pt x="213" y="346"/>
                  </a:lnTo>
                  <a:lnTo>
                    <a:pt x="213" y="356"/>
                  </a:lnTo>
                  <a:lnTo>
                    <a:pt x="223" y="346"/>
                  </a:lnTo>
                  <a:close/>
                  <a:moveTo>
                    <a:pt x="272" y="322"/>
                  </a:moveTo>
                  <a:lnTo>
                    <a:pt x="267" y="322"/>
                  </a:lnTo>
                  <a:lnTo>
                    <a:pt x="237" y="322"/>
                  </a:lnTo>
                  <a:lnTo>
                    <a:pt x="237" y="336"/>
                  </a:lnTo>
                  <a:lnTo>
                    <a:pt x="242" y="336"/>
                  </a:lnTo>
                  <a:lnTo>
                    <a:pt x="247" y="331"/>
                  </a:lnTo>
                  <a:lnTo>
                    <a:pt x="252" y="331"/>
                  </a:lnTo>
                  <a:lnTo>
                    <a:pt x="257" y="331"/>
                  </a:lnTo>
                  <a:lnTo>
                    <a:pt x="262" y="327"/>
                  </a:lnTo>
                  <a:lnTo>
                    <a:pt x="267" y="327"/>
                  </a:lnTo>
                  <a:lnTo>
                    <a:pt x="272" y="322"/>
                  </a:lnTo>
                  <a:lnTo>
                    <a:pt x="272" y="322"/>
                  </a:lnTo>
                  <a:close/>
                  <a:moveTo>
                    <a:pt x="317" y="292"/>
                  </a:moveTo>
                  <a:lnTo>
                    <a:pt x="292" y="292"/>
                  </a:lnTo>
                  <a:lnTo>
                    <a:pt x="292" y="317"/>
                  </a:lnTo>
                  <a:lnTo>
                    <a:pt x="317" y="292"/>
                  </a:lnTo>
                  <a:close/>
                </a:path>
              </a:pathLst>
            </a:custGeom>
            <a:solidFill>
              <a:srgbClr val="a1cc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7" name=""/>
            <p:cNvSpPr/>
            <p:nvPr/>
          </p:nvSpPr>
          <p:spPr>
            <a:xfrm>
              <a:off x="2268360" y="2360880"/>
              <a:ext cx="4098960" cy="2628720"/>
            </a:xfrm>
            <a:custGeom>
              <a:avLst/>
              <a:gdLst/>
              <a:ahLst/>
              <a:rect l="l" t="t" r="r" b="b"/>
              <a:pathLst>
                <a:path w="2582" h="1656">
                  <a:moveTo>
                    <a:pt x="2235" y="1656"/>
                  </a:moveTo>
                  <a:lnTo>
                    <a:pt x="2260" y="1631"/>
                  </a:lnTo>
                  <a:lnTo>
                    <a:pt x="2285" y="1631"/>
                  </a:lnTo>
                  <a:lnTo>
                    <a:pt x="2315" y="1631"/>
                  </a:lnTo>
                  <a:lnTo>
                    <a:pt x="2339" y="1631"/>
                  </a:lnTo>
                  <a:lnTo>
                    <a:pt x="2369" y="1631"/>
                  </a:lnTo>
                  <a:lnTo>
                    <a:pt x="2394" y="1631"/>
                  </a:lnTo>
                  <a:lnTo>
                    <a:pt x="2418" y="1631"/>
                  </a:lnTo>
                  <a:lnTo>
                    <a:pt x="2448" y="1602"/>
                  </a:lnTo>
                  <a:lnTo>
                    <a:pt x="2448" y="1577"/>
                  </a:lnTo>
                  <a:lnTo>
                    <a:pt x="2448" y="1547"/>
                  </a:lnTo>
                  <a:lnTo>
                    <a:pt x="2448" y="1523"/>
                  </a:lnTo>
                  <a:lnTo>
                    <a:pt x="2473" y="1498"/>
                  </a:lnTo>
                  <a:lnTo>
                    <a:pt x="2473" y="1468"/>
                  </a:lnTo>
                  <a:lnTo>
                    <a:pt x="2473" y="1444"/>
                  </a:lnTo>
                  <a:lnTo>
                    <a:pt x="2473" y="1414"/>
                  </a:lnTo>
                  <a:lnTo>
                    <a:pt x="2503" y="1389"/>
                  </a:lnTo>
                  <a:lnTo>
                    <a:pt x="2503" y="1364"/>
                  </a:lnTo>
                  <a:lnTo>
                    <a:pt x="2503" y="1335"/>
                  </a:lnTo>
                  <a:lnTo>
                    <a:pt x="2503" y="1310"/>
                  </a:lnTo>
                  <a:lnTo>
                    <a:pt x="2527" y="1280"/>
                  </a:lnTo>
                  <a:lnTo>
                    <a:pt x="2527" y="1256"/>
                  </a:lnTo>
                  <a:lnTo>
                    <a:pt x="2527" y="1226"/>
                  </a:lnTo>
                  <a:lnTo>
                    <a:pt x="2527" y="1201"/>
                  </a:lnTo>
                  <a:lnTo>
                    <a:pt x="2552" y="1177"/>
                  </a:lnTo>
                  <a:lnTo>
                    <a:pt x="2552" y="1147"/>
                  </a:lnTo>
                  <a:lnTo>
                    <a:pt x="2552" y="1122"/>
                  </a:lnTo>
                  <a:lnTo>
                    <a:pt x="2552" y="1093"/>
                  </a:lnTo>
                  <a:lnTo>
                    <a:pt x="2582" y="1068"/>
                  </a:lnTo>
                  <a:lnTo>
                    <a:pt x="2582" y="1043"/>
                  </a:lnTo>
                  <a:lnTo>
                    <a:pt x="2582" y="1014"/>
                  </a:lnTo>
                  <a:lnTo>
                    <a:pt x="2582" y="989"/>
                  </a:lnTo>
                  <a:lnTo>
                    <a:pt x="2582" y="959"/>
                  </a:lnTo>
                  <a:lnTo>
                    <a:pt x="2582" y="934"/>
                  </a:lnTo>
                  <a:lnTo>
                    <a:pt x="2582" y="910"/>
                  </a:lnTo>
                  <a:lnTo>
                    <a:pt x="2582" y="880"/>
                  </a:lnTo>
                  <a:lnTo>
                    <a:pt x="2582" y="855"/>
                  </a:lnTo>
                  <a:lnTo>
                    <a:pt x="2582" y="826"/>
                  </a:lnTo>
                  <a:lnTo>
                    <a:pt x="2582" y="801"/>
                  </a:lnTo>
                  <a:lnTo>
                    <a:pt x="2582" y="776"/>
                  </a:lnTo>
                  <a:lnTo>
                    <a:pt x="2582" y="747"/>
                  </a:lnTo>
                  <a:lnTo>
                    <a:pt x="2582" y="722"/>
                  </a:lnTo>
                  <a:lnTo>
                    <a:pt x="2582" y="692"/>
                  </a:lnTo>
                  <a:lnTo>
                    <a:pt x="2582" y="668"/>
                  </a:lnTo>
                  <a:lnTo>
                    <a:pt x="2582" y="643"/>
                  </a:lnTo>
                  <a:lnTo>
                    <a:pt x="2582" y="613"/>
                  </a:lnTo>
                  <a:lnTo>
                    <a:pt x="2582" y="589"/>
                  </a:lnTo>
                  <a:lnTo>
                    <a:pt x="2582" y="559"/>
                  </a:lnTo>
                  <a:lnTo>
                    <a:pt x="2582" y="534"/>
                  </a:lnTo>
                  <a:lnTo>
                    <a:pt x="2582" y="504"/>
                  </a:lnTo>
                  <a:lnTo>
                    <a:pt x="2582" y="480"/>
                  </a:lnTo>
                  <a:lnTo>
                    <a:pt x="2582" y="455"/>
                  </a:lnTo>
                  <a:lnTo>
                    <a:pt x="2582" y="425"/>
                  </a:lnTo>
                  <a:lnTo>
                    <a:pt x="2582" y="401"/>
                  </a:lnTo>
                  <a:lnTo>
                    <a:pt x="2582" y="371"/>
                  </a:lnTo>
                  <a:lnTo>
                    <a:pt x="2582" y="346"/>
                  </a:lnTo>
                  <a:lnTo>
                    <a:pt x="2582" y="322"/>
                  </a:lnTo>
                  <a:lnTo>
                    <a:pt x="2582" y="292"/>
                  </a:lnTo>
                  <a:lnTo>
                    <a:pt x="2582" y="267"/>
                  </a:lnTo>
                  <a:lnTo>
                    <a:pt x="2582" y="238"/>
                  </a:lnTo>
                  <a:lnTo>
                    <a:pt x="2552" y="213"/>
                  </a:lnTo>
                  <a:lnTo>
                    <a:pt x="2552" y="188"/>
                  </a:lnTo>
                  <a:lnTo>
                    <a:pt x="2552" y="159"/>
                  </a:lnTo>
                  <a:lnTo>
                    <a:pt x="2552" y="134"/>
                  </a:lnTo>
                  <a:lnTo>
                    <a:pt x="2552" y="104"/>
                  </a:lnTo>
                  <a:lnTo>
                    <a:pt x="2527" y="79"/>
                  </a:lnTo>
                  <a:lnTo>
                    <a:pt x="2503" y="79"/>
                  </a:lnTo>
                  <a:lnTo>
                    <a:pt x="2473" y="79"/>
                  </a:lnTo>
                  <a:lnTo>
                    <a:pt x="2448" y="55"/>
                  </a:lnTo>
                  <a:lnTo>
                    <a:pt x="2418" y="55"/>
                  </a:lnTo>
                  <a:lnTo>
                    <a:pt x="2394" y="55"/>
                  </a:lnTo>
                  <a:lnTo>
                    <a:pt x="2369" y="25"/>
                  </a:lnTo>
                  <a:lnTo>
                    <a:pt x="2339" y="25"/>
                  </a:lnTo>
                  <a:lnTo>
                    <a:pt x="2315" y="25"/>
                  </a:lnTo>
                  <a:lnTo>
                    <a:pt x="2285" y="0"/>
                  </a:lnTo>
                  <a:lnTo>
                    <a:pt x="2260" y="0"/>
                  </a:lnTo>
                  <a:lnTo>
                    <a:pt x="2235" y="0"/>
                  </a:lnTo>
                  <a:lnTo>
                    <a:pt x="2206" y="0"/>
                  </a:lnTo>
                  <a:lnTo>
                    <a:pt x="2181" y="0"/>
                  </a:lnTo>
                  <a:lnTo>
                    <a:pt x="2156" y="0"/>
                  </a:lnTo>
                  <a:lnTo>
                    <a:pt x="2127" y="0"/>
                  </a:lnTo>
                  <a:lnTo>
                    <a:pt x="2102" y="0"/>
                  </a:lnTo>
                  <a:lnTo>
                    <a:pt x="2072" y="0"/>
                  </a:lnTo>
                  <a:lnTo>
                    <a:pt x="2048" y="0"/>
                  </a:lnTo>
                  <a:lnTo>
                    <a:pt x="2023" y="0"/>
                  </a:lnTo>
                  <a:lnTo>
                    <a:pt x="1993" y="0"/>
                  </a:lnTo>
                  <a:lnTo>
                    <a:pt x="1968" y="0"/>
                  </a:lnTo>
                  <a:lnTo>
                    <a:pt x="1944" y="0"/>
                  </a:lnTo>
                  <a:lnTo>
                    <a:pt x="1934" y="0"/>
                  </a:lnTo>
                  <a:lnTo>
                    <a:pt x="1944" y="0"/>
                  </a:lnTo>
                  <a:lnTo>
                    <a:pt x="1949" y="5"/>
                  </a:lnTo>
                  <a:lnTo>
                    <a:pt x="1959" y="10"/>
                  </a:lnTo>
                  <a:lnTo>
                    <a:pt x="1963" y="10"/>
                  </a:lnTo>
                  <a:lnTo>
                    <a:pt x="1973" y="10"/>
                  </a:lnTo>
                  <a:lnTo>
                    <a:pt x="1978" y="15"/>
                  </a:lnTo>
                  <a:lnTo>
                    <a:pt x="1988" y="15"/>
                  </a:lnTo>
                  <a:lnTo>
                    <a:pt x="1993" y="15"/>
                  </a:lnTo>
                  <a:lnTo>
                    <a:pt x="2003" y="15"/>
                  </a:lnTo>
                  <a:lnTo>
                    <a:pt x="2013" y="15"/>
                  </a:lnTo>
                  <a:lnTo>
                    <a:pt x="2018" y="15"/>
                  </a:lnTo>
                  <a:lnTo>
                    <a:pt x="2028" y="20"/>
                  </a:lnTo>
                  <a:lnTo>
                    <a:pt x="2038" y="20"/>
                  </a:lnTo>
                  <a:lnTo>
                    <a:pt x="2043" y="20"/>
                  </a:lnTo>
                  <a:lnTo>
                    <a:pt x="2052" y="20"/>
                  </a:lnTo>
                  <a:lnTo>
                    <a:pt x="2062" y="20"/>
                  </a:lnTo>
                  <a:lnTo>
                    <a:pt x="2067" y="25"/>
                  </a:lnTo>
                  <a:lnTo>
                    <a:pt x="2077" y="25"/>
                  </a:lnTo>
                  <a:lnTo>
                    <a:pt x="2082" y="25"/>
                  </a:lnTo>
                  <a:lnTo>
                    <a:pt x="2092" y="25"/>
                  </a:lnTo>
                  <a:lnTo>
                    <a:pt x="2097" y="30"/>
                  </a:lnTo>
                  <a:lnTo>
                    <a:pt x="2097" y="35"/>
                  </a:lnTo>
                  <a:lnTo>
                    <a:pt x="2102" y="45"/>
                  </a:lnTo>
                  <a:lnTo>
                    <a:pt x="2102" y="50"/>
                  </a:lnTo>
                  <a:lnTo>
                    <a:pt x="2107" y="55"/>
                  </a:lnTo>
                  <a:lnTo>
                    <a:pt x="2112" y="55"/>
                  </a:lnTo>
                  <a:lnTo>
                    <a:pt x="2122" y="60"/>
                  </a:lnTo>
                  <a:lnTo>
                    <a:pt x="2127" y="60"/>
                  </a:lnTo>
                  <a:lnTo>
                    <a:pt x="2137" y="60"/>
                  </a:lnTo>
                  <a:lnTo>
                    <a:pt x="2142" y="65"/>
                  </a:lnTo>
                  <a:lnTo>
                    <a:pt x="2151" y="65"/>
                  </a:lnTo>
                  <a:lnTo>
                    <a:pt x="2156" y="70"/>
                  </a:lnTo>
                  <a:lnTo>
                    <a:pt x="2166" y="70"/>
                  </a:lnTo>
                  <a:lnTo>
                    <a:pt x="2171" y="70"/>
                  </a:lnTo>
                  <a:lnTo>
                    <a:pt x="2181" y="74"/>
                  </a:lnTo>
                  <a:lnTo>
                    <a:pt x="2191" y="74"/>
                  </a:lnTo>
                  <a:lnTo>
                    <a:pt x="2196" y="74"/>
                  </a:lnTo>
                  <a:lnTo>
                    <a:pt x="2206" y="79"/>
                  </a:lnTo>
                  <a:lnTo>
                    <a:pt x="2211" y="84"/>
                  </a:lnTo>
                  <a:lnTo>
                    <a:pt x="2216" y="89"/>
                  </a:lnTo>
                  <a:lnTo>
                    <a:pt x="2221" y="94"/>
                  </a:lnTo>
                  <a:lnTo>
                    <a:pt x="2226" y="94"/>
                  </a:lnTo>
                  <a:lnTo>
                    <a:pt x="2231" y="99"/>
                  </a:lnTo>
                  <a:lnTo>
                    <a:pt x="2240" y="99"/>
                  </a:lnTo>
                  <a:lnTo>
                    <a:pt x="2245" y="104"/>
                  </a:lnTo>
                  <a:lnTo>
                    <a:pt x="2255" y="104"/>
                  </a:lnTo>
                  <a:lnTo>
                    <a:pt x="2260" y="109"/>
                  </a:lnTo>
                  <a:lnTo>
                    <a:pt x="2260" y="114"/>
                  </a:lnTo>
                  <a:lnTo>
                    <a:pt x="2260" y="119"/>
                  </a:lnTo>
                  <a:lnTo>
                    <a:pt x="2260" y="124"/>
                  </a:lnTo>
                  <a:lnTo>
                    <a:pt x="2265" y="129"/>
                  </a:lnTo>
                  <a:lnTo>
                    <a:pt x="2265" y="134"/>
                  </a:lnTo>
                  <a:lnTo>
                    <a:pt x="2275" y="139"/>
                  </a:lnTo>
                  <a:lnTo>
                    <a:pt x="2280" y="144"/>
                  </a:lnTo>
                  <a:lnTo>
                    <a:pt x="2285" y="144"/>
                  </a:lnTo>
                  <a:lnTo>
                    <a:pt x="2290" y="149"/>
                  </a:lnTo>
                  <a:lnTo>
                    <a:pt x="2290" y="154"/>
                  </a:lnTo>
                  <a:lnTo>
                    <a:pt x="2295" y="159"/>
                  </a:lnTo>
                  <a:lnTo>
                    <a:pt x="2305" y="163"/>
                  </a:lnTo>
                  <a:lnTo>
                    <a:pt x="2310" y="163"/>
                  </a:lnTo>
                  <a:lnTo>
                    <a:pt x="2320" y="168"/>
                  </a:lnTo>
                  <a:lnTo>
                    <a:pt x="2324" y="173"/>
                  </a:lnTo>
                  <a:lnTo>
                    <a:pt x="2324" y="178"/>
                  </a:lnTo>
                  <a:lnTo>
                    <a:pt x="2329" y="183"/>
                  </a:lnTo>
                  <a:lnTo>
                    <a:pt x="2334" y="188"/>
                  </a:lnTo>
                  <a:lnTo>
                    <a:pt x="2339" y="193"/>
                  </a:lnTo>
                  <a:lnTo>
                    <a:pt x="2344" y="193"/>
                  </a:lnTo>
                  <a:lnTo>
                    <a:pt x="2354" y="198"/>
                  </a:lnTo>
                  <a:lnTo>
                    <a:pt x="2359" y="198"/>
                  </a:lnTo>
                  <a:lnTo>
                    <a:pt x="2369" y="203"/>
                  </a:lnTo>
                  <a:lnTo>
                    <a:pt x="2374" y="203"/>
                  </a:lnTo>
                  <a:lnTo>
                    <a:pt x="2379" y="208"/>
                  </a:lnTo>
                  <a:lnTo>
                    <a:pt x="2379" y="213"/>
                  </a:lnTo>
                  <a:lnTo>
                    <a:pt x="2384" y="218"/>
                  </a:lnTo>
                  <a:lnTo>
                    <a:pt x="2389" y="223"/>
                  </a:lnTo>
                  <a:lnTo>
                    <a:pt x="2399" y="228"/>
                  </a:lnTo>
                  <a:lnTo>
                    <a:pt x="2404" y="228"/>
                  </a:lnTo>
                  <a:lnTo>
                    <a:pt x="2414" y="233"/>
                  </a:lnTo>
                  <a:lnTo>
                    <a:pt x="2418" y="233"/>
                  </a:lnTo>
                  <a:lnTo>
                    <a:pt x="2423" y="238"/>
                  </a:lnTo>
                  <a:lnTo>
                    <a:pt x="2428" y="243"/>
                  </a:lnTo>
                  <a:lnTo>
                    <a:pt x="2433" y="247"/>
                  </a:lnTo>
                  <a:lnTo>
                    <a:pt x="2438" y="252"/>
                  </a:lnTo>
                  <a:lnTo>
                    <a:pt x="2443" y="257"/>
                  </a:lnTo>
                  <a:lnTo>
                    <a:pt x="2453" y="257"/>
                  </a:lnTo>
                  <a:lnTo>
                    <a:pt x="2458" y="262"/>
                  </a:lnTo>
                  <a:lnTo>
                    <a:pt x="2463" y="262"/>
                  </a:lnTo>
                  <a:lnTo>
                    <a:pt x="2468" y="267"/>
                  </a:lnTo>
                  <a:lnTo>
                    <a:pt x="2468" y="272"/>
                  </a:lnTo>
                  <a:lnTo>
                    <a:pt x="2463" y="277"/>
                  </a:lnTo>
                  <a:lnTo>
                    <a:pt x="2458" y="282"/>
                  </a:lnTo>
                  <a:lnTo>
                    <a:pt x="2453" y="287"/>
                  </a:lnTo>
                  <a:lnTo>
                    <a:pt x="2453" y="292"/>
                  </a:lnTo>
                  <a:lnTo>
                    <a:pt x="2448" y="297"/>
                  </a:lnTo>
                  <a:lnTo>
                    <a:pt x="2438" y="297"/>
                  </a:lnTo>
                  <a:lnTo>
                    <a:pt x="2428" y="297"/>
                  </a:lnTo>
                  <a:lnTo>
                    <a:pt x="2423" y="292"/>
                  </a:lnTo>
                  <a:lnTo>
                    <a:pt x="2414" y="292"/>
                  </a:lnTo>
                  <a:lnTo>
                    <a:pt x="2409" y="287"/>
                  </a:lnTo>
                  <a:lnTo>
                    <a:pt x="2399" y="287"/>
                  </a:lnTo>
                  <a:lnTo>
                    <a:pt x="2389" y="287"/>
                  </a:lnTo>
                  <a:lnTo>
                    <a:pt x="2384" y="292"/>
                  </a:lnTo>
                  <a:lnTo>
                    <a:pt x="2374" y="292"/>
                  </a:lnTo>
                  <a:lnTo>
                    <a:pt x="2369" y="292"/>
                  </a:lnTo>
                  <a:lnTo>
                    <a:pt x="2359" y="292"/>
                  </a:lnTo>
                  <a:lnTo>
                    <a:pt x="2349" y="292"/>
                  </a:lnTo>
                  <a:lnTo>
                    <a:pt x="2344" y="292"/>
                  </a:lnTo>
                  <a:lnTo>
                    <a:pt x="2334" y="287"/>
                  </a:lnTo>
                  <a:lnTo>
                    <a:pt x="2329" y="287"/>
                  </a:lnTo>
                  <a:lnTo>
                    <a:pt x="2320" y="282"/>
                  </a:lnTo>
                  <a:lnTo>
                    <a:pt x="2315" y="282"/>
                  </a:lnTo>
                  <a:lnTo>
                    <a:pt x="2305" y="282"/>
                  </a:lnTo>
                  <a:lnTo>
                    <a:pt x="2295" y="282"/>
                  </a:lnTo>
                  <a:lnTo>
                    <a:pt x="2290" y="282"/>
                  </a:lnTo>
                  <a:lnTo>
                    <a:pt x="2280" y="282"/>
                  </a:lnTo>
                  <a:lnTo>
                    <a:pt x="2270" y="282"/>
                  </a:lnTo>
                  <a:lnTo>
                    <a:pt x="2265" y="282"/>
                  </a:lnTo>
                  <a:lnTo>
                    <a:pt x="2255" y="277"/>
                  </a:lnTo>
                  <a:lnTo>
                    <a:pt x="2250" y="277"/>
                  </a:lnTo>
                  <a:lnTo>
                    <a:pt x="2250" y="272"/>
                  </a:lnTo>
                  <a:lnTo>
                    <a:pt x="2240" y="267"/>
                  </a:lnTo>
                  <a:lnTo>
                    <a:pt x="2235" y="262"/>
                  </a:lnTo>
                  <a:lnTo>
                    <a:pt x="2231" y="262"/>
                  </a:lnTo>
                  <a:lnTo>
                    <a:pt x="2221" y="262"/>
                  </a:lnTo>
                  <a:lnTo>
                    <a:pt x="2216" y="262"/>
                  </a:lnTo>
                  <a:lnTo>
                    <a:pt x="2206" y="262"/>
                  </a:lnTo>
                  <a:lnTo>
                    <a:pt x="2196" y="267"/>
                  </a:lnTo>
                  <a:lnTo>
                    <a:pt x="2201" y="272"/>
                  </a:lnTo>
                  <a:lnTo>
                    <a:pt x="2211" y="272"/>
                  </a:lnTo>
                  <a:lnTo>
                    <a:pt x="2216" y="277"/>
                  </a:lnTo>
                  <a:lnTo>
                    <a:pt x="2221" y="282"/>
                  </a:lnTo>
                  <a:lnTo>
                    <a:pt x="2221" y="287"/>
                  </a:lnTo>
                  <a:lnTo>
                    <a:pt x="2226" y="292"/>
                  </a:lnTo>
                  <a:lnTo>
                    <a:pt x="2226" y="297"/>
                  </a:lnTo>
                  <a:lnTo>
                    <a:pt x="2231" y="302"/>
                  </a:lnTo>
                  <a:lnTo>
                    <a:pt x="2235" y="307"/>
                  </a:lnTo>
                  <a:lnTo>
                    <a:pt x="2245" y="312"/>
                  </a:lnTo>
                  <a:lnTo>
                    <a:pt x="2250" y="312"/>
                  </a:lnTo>
                  <a:lnTo>
                    <a:pt x="2260" y="317"/>
                  </a:lnTo>
                  <a:lnTo>
                    <a:pt x="2265" y="322"/>
                  </a:lnTo>
                  <a:lnTo>
                    <a:pt x="2265" y="322"/>
                  </a:lnTo>
                  <a:lnTo>
                    <a:pt x="2270" y="327"/>
                  </a:lnTo>
                  <a:lnTo>
                    <a:pt x="2275" y="331"/>
                  </a:lnTo>
                  <a:lnTo>
                    <a:pt x="2280" y="336"/>
                  </a:lnTo>
                  <a:lnTo>
                    <a:pt x="2285" y="341"/>
                  </a:lnTo>
                  <a:lnTo>
                    <a:pt x="2290" y="346"/>
                  </a:lnTo>
                  <a:lnTo>
                    <a:pt x="2290" y="351"/>
                  </a:lnTo>
                  <a:lnTo>
                    <a:pt x="2295" y="356"/>
                  </a:lnTo>
                  <a:lnTo>
                    <a:pt x="2295" y="361"/>
                  </a:lnTo>
                  <a:lnTo>
                    <a:pt x="2295" y="371"/>
                  </a:lnTo>
                  <a:lnTo>
                    <a:pt x="2295" y="371"/>
                  </a:lnTo>
                  <a:lnTo>
                    <a:pt x="2285" y="376"/>
                  </a:lnTo>
                  <a:lnTo>
                    <a:pt x="2280" y="381"/>
                  </a:lnTo>
                  <a:lnTo>
                    <a:pt x="2270" y="381"/>
                  </a:lnTo>
                  <a:lnTo>
                    <a:pt x="2265" y="386"/>
                  </a:lnTo>
                  <a:lnTo>
                    <a:pt x="2260" y="386"/>
                  </a:lnTo>
                  <a:lnTo>
                    <a:pt x="2255" y="391"/>
                  </a:lnTo>
                  <a:lnTo>
                    <a:pt x="2255" y="401"/>
                  </a:lnTo>
                  <a:lnTo>
                    <a:pt x="2250" y="406"/>
                  </a:lnTo>
                  <a:lnTo>
                    <a:pt x="2250" y="411"/>
                  </a:lnTo>
                  <a:lnTo>
                    <a:pt x="2250" y="416"/>
                  </a:lnTo>
                  <a:lnTo>
                    <a:pt x="2245" y="420"/>
                  </a:lnTo>
                  <a:lnTo>
                    <a:pt x="2245" y="425"/>
                  </a:lnTo>
                  <a:lnTo>
                    <a:pt x="2240" y="430"/>
                  </a:lnTo>
                  <a:lnTo>
                    <a:pt x="2235" y="435"/>
                  </a:lnTo>
                  <a:lnTo>
                    <a:pt x="2231" y="440"/>
                  </a:lnTo>
                  <a:lnTo>
                    <a:pt x="2226" y="440"/>
                  </a:lnTo>
                  <a:lnTo>
                    <a:pt x="2221" y="445"/>
                  </a:lnTo>
                  <a:lnTo>
                    <a:pt x="2216" y="450"/>
                  </a:lnTo>
                  <a:lnTo>
                    <a:pt x="2206" y="450"/>
                  </a:lnTo>
                  <a:lnTo>
                    <a:pt x="2201" y="455"/>
                  </a:lnTo>
                  <a:lnTo>
                    <a:pt x="2196" y="460"/>
                  </a:lnTo>
                  <a:lnTo>
                    <a:pt x="2191" y="465"/>
                  </a:lnTo>
                  <a:lnTo>
                    <a:pt x="2181" y="465"/>
                  </a:lnTo>
                  <a:lnTo>
                    <a:pt x="2176" y="465"/>
                  </a:lnTo>
                  <a:lnTo>
                    <a:pt x="2166" y="465"/>
                  </a:lnTo>
                  <a:lnTo>
                    <a:pt x="2161" y="465"/>
                  </a:lnTo>
                  <a:lnTo>
                    <a:pt x="2151" y="465"/>
                  </a:lnTo>
                  <a:lnTo>
                    <a:pt x="2142" y="460"/>
                  </a:lnTo>
                  <a:lnTo>
                    <a:pt x="2137" y="460"/>
                  </a:lnTo>
                  <a:lnTo>
                    <a:pt x="2132" y="455"/>
                  </a:lnTo>
                  <a:lnTo>
                    <a:pt x="2122" y="455"/>
                  </a:lnTo>
                  <a:lnTo>
                    <a:pt x="2117" y="450"/>
                  </a:lnTo>
                  <a:lnTo>
                    <a:pt x="2107" y="445"/>
                  </a:lnTo>
                  <a:lnTo>
                    <a:pt x="2102" y="445"/>
                  </a:lnTo>
                  <a:lnTo>
                    <a:pt x="2097" y="440"/>
                  </a:lnTo>
                  <a:lnTo>
                    <a:pt x="2087" y="440"/>
                  </a:lnTo>
                  <a:lnTo>
                    <a:pt x="2082" y="435"/>
                  </a:lnTo>
                  <a:lnTo>
                    <a:pt x="2072" y="435"/>
                  </a:lnTo>
                  <a:lnTo>
                    <a:pt x="2067" y="430"/>
                  </a:lnTo>
                  <a:lnTo>
                    <a:pt x="2057" y="425"/>
                  </a:lnTo>
                  <a:lnTo>
                    <a:pt x="2057" y="425"/>
                  </a:lnTo>
                  <a:lnTo>
                    <a:pt x="2057" y="420"/>
                  </a:lnTo>
                  <a:lnTo>
                    <a:pt x="2057" y="411"/>
                  </a:lnTo>
                  <a:lnTo>
                    <a:pt x="2057" y="406"/>
                  </a:lnTo>
                  <a:lnTo>
                    <a:pt x="2057" y="401"/>
                  </a:lnTo>
                  <a:lnTo>
                    <a:pt x="2052" y="396"/>
                  </a:lnTo>
                  <a:lnTo>
                    <a:pt x="2048" y="391"/>
                  </a:lnTo>
                  <a:lnTo>
                    <a:pt x="2043" y="391"/>
                  </a:lnTo>
                  <a:lnTo>
                    <a:pt x="2033" y="396"/>
                  </a:lnTo>
                  <a:lnTo>
                    <a:pt x="2028" y="401"/>
                  </a:lnTo>
                  <a:lnTo>
                    <a:pt x="2018" y="401"/>
                  </a:lnTo>
                  <a:lnTo>
                    <a:pt x="2013" y="406"/>
                  </a:lnTo>
                  <a:lnTo>
                    <a:pt x="2003" y="411"/>
                  </a:lnTo>
                  <a:lnTo>
                    <a:pt x="1998" y="411"/>
                  </a:lnTo>
                  <a:lnTo>
                    <a:pt x="1988" y="411"/>
                  </a:lnTo>
                  <a:lnTo>
                    <a:pt x="1983" y="411"/>
                  </a:lnTo>
                  <a:lnTo>
                    <a:pt x="1973" y="416"/>
                  </a:lnTo>
                  <a:lnTo>
                    <a:pt x="1963" y="416"/>
                  </a:lnTo>
                  <a:lnTo>
                    <a:pt x="1959" y="416"/>
                  </a:lnTo>
                  <a:lnTo>
                    <a:pt x="1949" y="416"/>
                  </a:lnTo>
                  <a:lnTo>
                    <a:pt x="1944" y="416"/>
                  </a:lnTo>
                  <a:lnTo>
                    <a:pt x="1934" y="416"/>
                  </a:lnTo>
                  <a:lnTo>
                    <a:pt x="1924" y="416"/>
                  </a:lnTo>
                  <a:lnTo>
                    <a:pt x="1919" y="420"/>
                  </a:lnTo>
                  <a:lnTo>
                    <a:pt x="1909" y="420"/>
                  </a:lnTo>
                  <a:lnTo>
                    <a:pt x="1904" y="425"/>
                  </a:lnTo>
                  <a:lnTo>
                    <a:pt x="1899" y="430"/>
                  </a:lnTo>
                  <a:lnTo>
                    <a:pt x="1894" y="435"/>
                  </a:lnTo>
                  <a:lnTo>
                    <a:pt x="1889" y="440"/>
                  </a:lnTo>
                  <a:lnTo>
                    <a:pt x="1879" y="440"/>
                  </a:lnTo>
                  <a:lnTo>
                    <a:pt x="1874" y="445"/>
                  </a:lnTo>
                  <a:lnTo>
                    <a:pt x="1870" y="445"/>
                  </a:lnTo>
                  <a:lnTo>
                    <a:pt x="1865" y="450"/>
                  </a:lnTo>
                  <a:lnTo>
                    <a:pt x="1860" y="455"/>
                  </a:lnTo>
                  <a:lnTo>
                    <a:pt x="1860" y="450"/>
                  </a:lnTo>
                  <a:lnTo>
                    <a:pt x="1865" y="445"/>
                  </a:lnTo>
                  <a:lnTo>
                    <a:pt x="1870" y="440"/>
                  </a:lnTo>
                  <a:lnTo>
                    <a:pt x="1870" y="435"/>
                  </a:lnTo>
                  <a:lnTo>
                    <a:pt x="1874" y="430"/>
                  </a:lnTo>
                  <a:lnTo>
                    <a:pt x="1870" y="425"/>
                  </a:lnTo>
                  <a:lnTo>
                    <a:pt x="1870" y="420"/>
                  </a:lnTo>
                  <a:lnTo>
                    <a:pt x="1860" y="420"/>
                  </a:lnTo>
                  <a:lnTo>
                    <a:pt x="1855" y="416"/>
                  </a:lnTo>
                  <a:lnTo>
                    <a:pt x="1845" y="416"/>
                  </a:lnTo>
                  <a:lnTo>
                    <a:pt x="1835" y="420"/>
                  </a:lnTo>
                  <a:lnTo>
                    <a:pt x="1830" y="420"/>
                  </a:lnTo>
                  <a:lnTo>
                    <a:pt x="1825" y="425"/>
                  </a:lnTo>
                  <a:lnTo>
                    <a:pt x="1820" y="430"/>
                  </a:lnTo>
                  <a:lnTo>
                    <a:pt x="1820" y="435"/>
                  </a:lnTo>
                  <a:lnTo>
                    <a:pt x="1815" y="440"/>
                  </a:lnTo>
                  <a:lnTo>
                    <a:pt x="1815" y="445"/>
                  </a:lnTo>
                  <a:lnTo>
                    <a:pt x="1815" y="450"/>
                  </a:lnTo>
                  <a:lnTo>
                    <a:pt x="1815" y="460"/>
                  </a:lnTo>
                  <a:lnTo>
                    <a:pt x="1815" y="465"/>
                  </a:lnTo>
                  <a:lnTo>
                    <a:pt x="1815" y="470"/>
                  </a:lnTo>
                  <a:lnTo>
                    <a:pt x="1810" y="475"/>
                  </a:lnTo>
                  <a:lnTo>
                    <a:pt x="1810" y="480"/>
                  </a:lnTo>
                  <a:lnTo>
                    <a:pt x="1810" y="485"/>
                  </a:lnTo>
                  <a:lnTo>
                    <a:pt x="1805" y="490"/>
                  </a:lnTo>
                  <a:lnTo>
                    <a:pt x="1805" y="495"/>
                  </a:lnTo>
                  <a:lnTo>
                    <a:pt x="1805" y="500"/>
                  </a:lnTo>
                  <a:lnTo>
                    <a:pt x="1800" y="504"/>
                  </a:lnTo>
                  <a:lnTo>
                    <a:pt x="1800" y="509"/>
                  </a:lnTo>
                  <a:lnTo>
                    <a:pt x="1795" y="514"/>
                  </a:lnTo>
                  <a:lnTo>
                    <a:pt x="1795" y="519"/>
                  </a:lnTo>
                  <a:lnTo>
                    <a:pt x="1795" y="524"/>
                  </a:lnTo>
                  <a:lnTo>
                    <a:pt x="1790" y="529"/>
                  </a:lnTo>
                  <a:lnTo>
                    <a:pt x="1790" y="534"/>
                  </a:lnTo>
                  <a:lnTo>
                    <a:pt x="1790" y="539"/>
                  </a:lnTo>
                  <a:lnTo>
                    <a:pt x="1785" y="544"/>
                  </a:lnTo>
                  <a:lnTo>
                    <a:pt x="1785" y="549"/>
                  </a:lnTo>
                  <a:lnTo>
                    <a:pt x="1785" y="554"/>
                  </a:lnTo>
                  <a:lnTo>
                    <a:pt x="1780" y="564"/>
                  </a:lnTo>
                  <a:lnTo>
                    <a:pt x="1780" y="569"/>
                  </a:lnTo>
                  <a:lnTo>
                    <a:pt x="1780" y="574"/>
                  </a:lnTo>
                  <a:lnTo>
                    <a:pt x="1776" y="579"/>
                  </a:lnTo>
                  <a:lnTo>
                    <a:pt x="1776" y="584"/>
                  </a:lnTo>
                  <a:lnTo>
                    <a:pt x="1771" y="589"/>
                  </a:lnTo>
                  <a:lnTo>
                    <a:pt x="1771" y="593"/>
                  </a:lnTo>
                  <a:lnTo>
                    <a:pt x="1766" y="598"/>
                  </a:lnTo>
                  <a:lnTo>
                    <a:pt x="1761" y="603"/>
                  </a:lnTo>
                  <a:lnTo>
                    <a:pt x="1756" y="608"/>
                  </a:lnTo>
                  <a:lnTo>
                    <a:pt x="1751" y="608"/>
                  </a:lnTo>
                  <a:lnTo>
                    <a:pt x="1751" y="613"/>
                  </a:lnTo>
                  <a:lnTo>
                    <a:pt x="1751" y="618"/>
                  </a:lnTo>
                  <a:lnTo>
                    <a:pt x="1756" y="628"/>
                  </a:lnTo>
                  <a:lnTo>
                    <a:pt x="1756" y="633"/>
                  </a:lnTo>
                  <a:lnTo>
                    <a:pt x="1761" y="638"/>
                  </a:lnTo>
                  <a:lnTo>
                    <a:pt x="1761" y="643"/>
                  </a:lnTo>
                  <a:lnTo>
                    <a:pt x="1756" y="643"/>
                  </a:lnTo>
                  <a:lnTo>
                    <a:pt x="1746" y="648"/>
                  </a:lnTo>
                  <a:lnTo>
                    <a:pt x="1736" y="648"/>
                  </a:lnTo>
                  <a:lnTo>
                    <a:pt x="1731" y="643"/>
                  </a:lnTo>
                  <a:lnTo>
                    <a:pt x="1721" y="643"/>
                  </a:lnTo>
                  <a:lnTo>
                    <a:pt x="1711" y="643"/>
                  </a:lnTo>
                  <a:lnTo>
                    <a:pt x="1706" y="643"/>
                  </a:lnTo>
                  <a:lnTo>
                    <a:pt x="1696" y="643"/>
                  </a:lnTo>
                  <a:lnTo>
                    <a:pt x="1687" y="643"/>
                  </a:lnTo>
                  <a:lnTo>
                    <a:pt x="1682" y="643"/>
                  </a:lnTo>
                  <a:lnTo>
                    <a:pt x="1672" y="643"/>
                  </a:lnTo>
                  <a:lnTo>
                    <a:pt x="1667" y="638"/>
                  </a:lnTo>
                  <a:lnTo>
                    <a:pt x="1657" y="638"/>
                  </a:lnTo>
                  <a:lnTo>
                    <a:pt x="1647" y="638"/>
                  </a:lnTo>
                  <a:lnTo>
                    <a:pt x="1642" y="638"/>
                  </a:lnTo>
                  <a:lnTo>
                    <a:pt x="1632" y="633"/>
                  </a:lnTo>
                  <a:lnTo>
                    <a:pt x="1627" y="633"/>
                  </a:lnTo>
                  <a:lnTo>
                    <a:pt x="1617" y="633"/>
                  </a:lnTo>
                  <a:lnTo>
                    <a:pt x="1607" y="633"/>
                  </a:lnTo>
                  <a:lnTo>
                    <a:pt x="1602" y="638"/>
                  </a:lnTo>
                  <a:lnTo>
                    <a:pt x="1593" y="638"/>
                  </a:lnTo>
                  <a:lnTo>
                    <a:pt x="1588" y="638"/>
                  </a:lnTo>
                  <a:lnTo>
                    <a:pt x="1578" y="643"/>
                  </a:lnTo>
                  <a:lnTo>
                    <a:pt x="1578" y="648"/>
                  </a:lnTo>
                  <a:lnTo>
                    <a:pt x="1573" y="653"/>
                  </a:lnTo>
                  <a:lnTo>
                    <a:pt x="1573" y="658"/>
                  </a:lnTo>
                  <a:lnTo>
                    <a:pt x="1568" y="663"/>
                  </a:lnTo>
                  <a:lnTo>
                    <a:pt x="1563" y="668"/>
                  </a:lnTo>
                  <a:lnTo>
                    <a:pt x="1563" y="673"/>
                  </a:lnTo>
                  <a:lnTo>
                    <a:pt x="1558" y="677"/>
                  </a:lnTo>
                  <a:lnTo>
                    <a:pt x="1553" y="682"/>
                  </a:lnTo>
                  <a:lnTo>
                    <a:pt x="1553" y="687"/>
                  </a:lnTo>
                  <a:lnTo>
                    <a:pt x="1548" y="692"/>
                  </a:lnTo>
                  <a:lnTo>
                    <a:pt x="1543" y="697"/>
                  </a:lnTo>
                  <a:lnTo>
                    <a:pt x="1543" y="697"/>
                  </a:lnTo>
                  <a:lnTo>
                    <a:pt x="1538" y="692"/>
                  </a:lnTo>
                  <a:lnTo>
                    <a:pt x="1538" y="687"/>
                  </a:lnTo>
                  <a:lnTo>
                    <a:pt x="1538" y="682"/>
                  </a:lnTo>
                  <a:lnTo>
                    <a:pt x="1538" y="677"/>
                  </a:lnTo>
                  <a:lnTo>
                    <a:pt x="1533" y="673"/>
                  </a:lnTo>
                  <a:lnTo>
                    <a:pt x="1533" y="668"/>
                  </a:lnTo>
                  <a:lnTo>
                    <a:pt x="1533" y="663"/>
                  </a:lnTo>
                  <a:lnTo>
                    <a:pt x="1533" y="658"/>
                  </a:lnTo>
                  <a:lnTo>
                    <a:pt x="1533" y="653"/>
                  </a:lnTo>
                  <a:lnTo>
                    <a:pt x="1533" y="643"/>
                  </a:lnTo>
                  <a:lnTo>
                    <a:pt x="1533" y="638"/>
                  </a:lnTo>
                  <a:lnTo>
                    <a:pt x="1538" y="633"/>
                  </a:lnTo>
                  <a:lnTo>
                    <a:pt x="1538" y="628"/>
                  </a:lnTo>
                  <a:lnTo>
                    <a:pt x="1543" y="623"/>
                  </a:lnTo>
                  <a:lnTo>
                    <a:pt x="1548" y="618"/>
                  </a:lnTo>
                  <a:lnTo>
                    <a:pt x="1548" y="613"/>
                  </a:lnTo>
                  <a:lnTo>
                    <a:pt x="1548" y="608"/>
                  </a:lnTo>
                  <a:lnTo>
                    <a:pt x="1548" y="603"/>
                  </a:lnTo>
                  <a:lnTo>
                    <a:pt x="1548" y="598"/>
                  </a:lnTo>
                  <a:lnTo>
                    <a:pt x="1548" y="593"/>
                  </a:lnTo>
                  <a:lnTo>
                    <a:pt x="1548" y="589"/>
                  </a:lnTo>
                  <a:lnTo>
                    <a:pt x="1548" y="584"/>
                  </a:lnTo>
                  <a:lnTo>
                    <a:pt x="1543" y="579"/>
                  </a:lnTo>
                  <a:lnTo>
                    <a:pt x="1538" y="579"/>
                  </a:lnTo>
                  <a:lnTo>
                    <a:pt x="1528" y="579"/>
                  </a:lnTo>
                  <a:lnTo>
                    <a:pt x="1523" y="584"/>
                  </a:lnTo>
                  <a:lnTo>
                    <a:pt x="1518" y="589"/>
                  </a:lnTo>
                  <a:lnTo>
                    <a:pt x="1513" y="593"/>
                  </a:lnTo>
                  <a:lnTo>
                    <a:pt x="1508" y="598"/>
                  </a:lnTo>
                  <a:lnTo>
                    <a:pt x="1508" y="603"/>
                  </a:lnTo>
                  <a:lnTo>
                    <a:pt x="1504" y="608"/>
                  </a:lnTo>
                  <a:lnTo>
                    <a:pt x="1499" y="613"/>
                  </a:lnTo>
                  <a:lnTo>
                    <a:pt x="1499" y="618"/>
                  </a:lnTo>
                  <a:lnTo>
                    <a:pt x="1499" y="623"/>
                  </a:lnTo>
                  <a:lnTo>
                    <a:pt x="1499" y="628"/>
                  </a:lnTo>
                  <a:lnTo>
                    <a:pt x="1499" y="633"/>
                  </a:lnTo>
                  <a:lnTo>
                    <a:pt x="1499" y="638"/>
                  </a:lnTo>
                  <a:lnTo>
                    <a:pt x="1494" y="643"/>
                  </a:lnTo>
                  <a:lnTo>
                    <a:pt x="1494" y="653"/>
                  </a:lnTo>
                  <a:lnTo>
                    <a:pt x="1494" y="658"/>
                  </a:lnTo>
                  <a:lnTo>
                    <a:pt x="1494" y="663"/>
                  </a:lnTo>
                  <a:lnTo>
                    <a:pt x="1494" y="668"/>
                  </a:lnTo>
                  <a:lnTo>
                    <a:pt x="1489" y="673"/>
                  </a:lnTo>
                  <a:lnTo>
                    <a:pt x="1489" y="677"/>
                  </a:lnTo>
                  <a:lnTo>
                    <a:pt x="1489" y="682"/>
                  </a:lnTo>
                  <a:lnTo>
                    <a:pt x="1484" y="687"/>
                  </a:lnTo>
                  <a:lnTo>
                    <a:pt x="1484" y="692"/>
                  </a:lnTo>
                  <a:lnTo>
                    <a:pt x="1484" y="697"/>
                  </a:lnTo>
                  <a:lnTo>
                    <a:pt x="1484" y="702"/>
                  </a:lnTo>
                  <a:lnTo>
                    <a:pt x="1484" y="707"/>
                  </a:lnTo>
                  <a:lnTo>
                    <a:pt x="1479" y="712"/>
                  </a:lnTo>
                  <a:lnTo>
                    <a:pt x="1479" y="717"/>
                  </a:lnTo>
                  <a:lnTo>
                    <a:pt x="1479" y="722"/>
                  </a:lnTo>
                  <a:lnTo>
                    <a:pt x="1479" y="727"/>
                  </a:lnTo>
                  <a:lnTo>
                    <a:pt x="1479" y="737"/>
                  </a:lnTo>
                  <a:lnTo>
                    <a:pt x="1479" y="742"/>
                  </a:lnTo>
                  <a:lnTo>
                    <a:pt x="1479" y="747"/>
                  </a:lnTo>
                  <a:lnTo>
                    <a:pt x="1479" y="752"/>
                  </a:lnTo>
                  <a:lnTo>
                    <a:pt x="1479" y="757"/>
                  </a:lnTo>
                  <a:lnTo>
                    <a:pt x="1479" y="762"/>
                  </a:lnTo>
                  <a:lnTo>
                    <a:pt x="1479" y="766"/>
                  </a:lnTo>
                  <a:lnTo>
                    <a:pt x="1479" y="771"/>
                  </a:lnTo>
                  <a:lnTo>
                    <a:pt x="1479" y="776"/>
                  </a:lnTo>
                  <a:lnTo>
                    <a:pt x="1479" y="781"/>
                  </a:lnTo>
                  <a:lnTo>
                    <a:pt x="1479" y="786"/>
                  </a:lnTo>
                  <a:lnTo>
                    <a:pt x="1479" y="791"/>
                  </a:lnTo>
                  <a:lnTo>
                    <a:pt x="1479" y="796"/>
                  </a:lnTo>
                  <a:lnTo>
                    <a:pt x="1479" y="801"/>
                  </a:lnTo>
                  <a:lnTo>
                    <a:pt x="1479" y="806"/>
                  </a:lnTo>
                  <a:lnTo>
                    <a:pt x="1479" y="811"/>
                  </a:lnTo>
                  <a:lnTo>
                    <a:pt x="1479" y="821"/>
                  </a:lnTo>
                  <a:lnTo>
                    <a:pt x="1479" y="826"/>
                  </a:lnTo>
                  <a:lnTo>
                    <a:pt x="1479" y="831"/>
                  </a:lnTo>
                  <a:lnTo>
                    <a:pt x="1474" y="836"/>
                  </a:lnTo>
                  <a:lnTo>
                    <a:pt x="1469" y="846"/>
                  </a:lnTo>
                  <a:lnTo>
                    <a:pt x="1469" y="850"/>
                  </a:lnTo>
                  <a:lnTo>
                    <a:pt x="1464" y="850"/>
                  </a:lnTo>
                  <a:lnTo>
                    <a:pt x="1459" y="846"/>
                  </a:lnTo>
                  <a:lnTo>
                    <a:pt x="1449" y="846"/>
                  </a:lnTo>
                  <a:lnTo>
                    <a:pt x="1444" y="841"/>
                  </a:lnTo>
                  <a:lnTo>
                    <a:pt x="1434" y="836"/>
                  </a:lnTo>
                  <a:lnTo>
                    <a:pt x="1429" y="836"/>
                  </a:lnTo>
                  <a:lnTo>
                    <a:pt x="1424" y="841"/>
                  </a:lnTo>
                  <a:lnTo>
                    <a:pt x="1415" y="846"/>
                  </a:lnTo>
                  <a:lnTo>
                    <a:pt x="1410" y="850"/>
                  </a:lnTo>
                  <a:lnTo>
                    <a:pt x="1405" y="850"/>
                  </a:lnTo>
                  <a:lnTo>
                    <a:pt x="1400" y="855"/>
                  </a:lnTo>
                  <a:lnTo>
                    <a:pt x="1390" y="860"/>
                  </a:lnTo>
                  <a:lnTo>
                    <a:pt x="1385" y="860"/>
                  </a:lnTo>
                  <a:lnTo>
                    <a:pt x="1380" y="865"/>
                  </a:lnTo>
                  <a:lnTo>
                    <a:pt x="1370" y="870"/>
                  </a:lnTo>
                  <a:lnTo>
                    <a:pt x="1365" y="870"/>
                  </a:lnTo>
                  <a:lnTo>
                    <a:pt x="1360" y="875"/>
                  </a:lnTo>
                  <a:lnTo>
                    <a:pt x="1355" y="880"/>
                  </a:lnTo>
                  <a:lnTo>
                    <a:pt x="1355" y="885"/>
                  </a:lnTo>
                  <a:lnTo>
                    <a:pt x="1345" y="890"/>
                  </a:lnTo>
                  <a:lnTo>
                    <a:pt x="1340" y="895"/>
                  </a:lnTo>
                  <a:lnTo>
                    <a:pt x="1335" y="900"/>
                  </a:lnTo>
                  <a:lnTo>
                    <a:pt x="1330" y="900"/>
                  </a:lnTo>
                  <a:lnTo>
                    <a:pt x="1326" y="900"/>
                  </a:lnTo>
                  <a:lnTo>
                    <a:pt x="1321" y="895"/>
                  </a:lnTo>
                  <a:lnTo>
                    <a:pt x="1316" y="890"/>
                  </a:lnTo>
                  <a:lnTo>
                    <a:pt x="1311" y="880"/>
                  </a:lnTo>
                  <a:lnTo>
                    <a:pt x="1306" y="875"/>
                  </a:lnTo>
                  <a:lnTo>
                    <a:pt x="1301" y="875"/>
                  </a:lnTo>
                  <a:lnTo>
                    <a:pt x="1296" y="870"/>
                  </a:lnTo>
                  <a:lnTo>
                    <a:pt x="1291" y="865"/>
                  </a:lnTo>
                  <a:lnTo>
                    <a:pt x="1286" y="860"/>
                  </a:lnTo>
                  <a:lnTo>
                    <a:pt x="1281" y="860"/>
                  </a:lnTo>
                  <a:lnTo>
                    <a:pt x="1271" y="855"/>
                  </a:lnTo>
                  <a:lnTo>
                    <a:pt x="1266" y="850"/>
                  </a:lnTo>
                  <a:lnTo>
                    <a:pt x="1261" y="846"/>
                  </a:lnTo>
                  <a:lnTo>
                    <a:pt x="1256" y="841"/>
                  </a:lnTo>
                  <a:lnTo>
                    <a:pt x="1251" y="841"/>
                  </a:lnTo>
                  <a:lnTo>
                    <a:pt x="1246" y="836"/>
                  </a:lnTo>
                  <a:lnTo>
                    <a:pt x="1241" y="831"/>
                  </a:lnTo>
                  <a:lnTo>
                    <a:pt x="1236" y="826"/>
                  </a:lnTo>
                  <a:lnTo>
                    <a:pt x="1232" y="821"/>
                  </a:lnTo>
                  <a:lnTo>
                    <a:pt x="1222" y="821"/>
                  </a:lnTo>
                  <a:lnTo>
                    <a:pt x="1217" y="816"/>
                  </a:lnTo>
                  <a:lnTo>
                    <a:pt x="1217" y="811"/>
                  </a:lnTo>
                  <a:lnTo>
                    <a:pt x="1212" y="806"/>
                  </a:lnTo>
                  <a:lnTo>
                    <a:pt x="1212" y="801"/>
                  </a:lnTo>
                  <a:lnTo>
                    <a:pt x="1217" y="796"/>
                  </a:lnTo>
                  <a:lnTo>
                    <a:pt x="1217" y="791"/>
                  </a:lnTo>
                  <a:lnTo>
                    <a:pt x="1222" y="786"/>
                  </a:lnTo>
                  <a:lnTo>
                    <a:pt x="1222" y="781"/>
                  </a:lnTo>
                  <a:lnTo>
                    <a:pt x="1227" y="771"/>
                  </a:lnTo>
                  <a:lnTo>
                    <a:pt x="1222" y="766"/>
                  </a:lnTo>
                  <a:lnTo>
                    <a:pt x="1222" y="766"/>
                  </a:lnTo>
                  <a:lnTo>
                    <a:pt x="1217" y="762"/>
                  </a:lnTo>
                  <a:lnTo>
                    <a:pt x="1212" y="757"/>
                  </a:lnTo>
                  <a:lnTo>
                    <a:pt x="1202" y="752"/>
                  </a:lnTo>
                  <a:lnTo>
                    <a:pt x="1197" y="747"/>
                  </a:lnTo>
                  <a:lnTo>
                    <a:pt x="1192" y="752"/>
                  </a:lnTo>
                  <a:lnTo>
                    <a:pt x="1192" y="757"/>
                  </a:lnTo>
                  <a:lnTo>
                    <a:pt x="1187" y="762"/>
                  </a:lnTo>
                  <a:lnTo>
                    <a:pt x="1182" y="766"/>
                  </a:lnTo>
                  <a:lnTo>
                    <a:pt x="1182" y="771"/>
                  </a:lnTo>
                  <a:lnTo>
                    <a:pt x="1177" y="776"/>
                  </a:lnTo>
                  <a:lnTo>
                    <a:pt x="1177" y="781"/>
                  </a:lnTo>
                  <a:lnTo>
                    <a:pt x="1172" y="786"/>
                  </a:lnTo>
                  <a:lnTo>
                    <a:pt x="1167" y="791"/>
                  </a:lnTo>
                  <a:lnTo>
                    <a:pt x="1162" y="796"/>
                  </a:lnTo>
                  <a:lnTo>
                    <a:pt x="1157" y="801"/>
                  </a:lnTo>
                  <a:lnTo>
                    <a:pt x="1157" y="801"/>
                  </a:lnTo>
                  <a:lnTo>
                    <a:pt x="1167" y="806"/>
                  </a:lnTo>
                  <a:lnTo>
                    <a:pt x="1172" y="811"/>
                  </a:lnTo>
                  <a:lnTo>
                    <a:pt x="1177" y="811"/>
                  </a:lnTo>
                  <a:lnTo>
                    <a:pt x="1182" y="816"/>
                  </a:lnTo>
                  <a:lnTo>
                    <a:pt x="1187" y="821"/>
                  </a:lnTo>
                  <a:lnTo>
                    <a:pt x="1187" y="826"/>
                  </a:lnTo>
                  <a:lnTo>
                    <a:pt x="1192" y="831"/>
                  </a:lnTo>
                  <a:lnTo>
                    <a:pt x="1197" y="836"/>
                  </a:lnTo>
                  <a:lnTo>
                    <a:pt x="1197" y="841"/>
                  </a:lnTo>
                  <a:lnTo>
                    <a:pt x="1202" y="846"/>
                  </a:lnTo>
                  <a:lnTo>
                    <a:pt x="1207" y="850"/>
                  </a:lnTo>
                  <a:lnTo>
                    <a:pt x="1212" y="855"/>
                  </a:lnTo>
                  <a:lnTo>
                    <a:pt x="1212" y="860"/>
                  </a:lnTo>
                  <a:lnTo>
                    <a:pt x="1212" y="865"/>
                  </a:lnTo>
                  <a:lnTo>
                    <a:pt x="1212" y="870"/>
                  </a:lnTo>
                  <a:lnTo>
                    <a:pt x="1212" y="875"/>
                  </a:lnTo>
                  <a:lnTo>
                    <a:pt x="1217" y="880"/>
                  </a:lnTo>
                  <a:lnTo>
                    <a:pt x="1222" y="885"/>
                  </a:lnTo>
                  <a:lnTo>
                    <a:pt x="1227" y="890"/>
                  </a:lnTo>
                  <a:lnTo>
                    <a:pt x="1227" y="895"/>
                  </a:lnTo>
                  <a:lnTo>
                    <a:pt x="1232" y="900"/>
                  </a:lnTo>
                  <a:lnTo>
                    <a:pt x="1232" y="905"/>
                  </a:lnTo>
                  <a:lnTo>
                    <a:pt x="1236" y="910"/>
                  </a:lnTo>
                  <a:lnTo>
                    <a:pt x="1241" y="915"/>
                  </a:lnTo>
                  <a:lnTo>
                    <a:pt x="1241" y="920"/>
                  </a:lnTo>
                  <a:lnTo>
                    <a:pt x="1246" y="925"/>
                  </a:lnTo>
                  <a:lnTo>
                    <a:pt x="1251" y="930"/>
                  </a:lnTo>
                  <a:lnTo>
                    <a:pt x="1256" y="934"/>
                  </a:lnTo>
                  <a:lnTo>
                    <a:pt x="1256" y="939"/>
                  </a:lnTo>
                  <a:lnTo>
                    <a:pt x="1261" y="944"/>
                  </a:lnTo>
                  <a:lnTo>
                    <a:pt x="1261" y="949"/>
                  </a:lnTo>
                  <a:lnTo>
                    <a:pt x="1261" y="954"/>
                  </a:lnTo>
                  <a:lnTo>
                    <a:pt x="1261" y="959"/>
                  </a:lnTo>
                  <a:lnTo>
                    <a:pt x="1266" y="964"/>
                  </a:lnTo>
                  <a:lnTo>
                    <a:pt x="1271" y="969"/>
                  </a:lnTo>
                  <a:lnTo>
                    <a:pt x="1276" y="974"/>
                  </a:lnTo>
                  <a:lnTo>
                    <a:pt x="1276" y="979"/>
                  </a:lnTo>
                  <a:lnTo>
                    <a:pt x="1281" y="984"/>
                  </a:lnTo>
                  <a:lnTo>
                    <a:pt x="1286" y="989"/>
                  </a:lnTo>
                  <a:lnTo>
                    <a:pt x="1286" y="994"/>
                  </a:lnTo>
                  <a:lnTo>
                    <a:pt x="1291" y="999"/>
                  </a:lnTo>
                  <a:lnTo>
                    <a:pt x="1296" y="1004"/>
                  </a:lnTo>
                  <a:lnTo>
                    <a:pt x="1296" y="1009"/>
                  </a:lnTo>
                  <a:lnTo>
                    <a:pt x="1301" y="1014"/>
                  </a:lnTo>
                  <a:lnTo>
                    <a:pt x="1301" y="1019"/>
                  </a:lnTo>
                  <a:lnTo>
                    <a:pt x="1296" y="1023"/>
                  </a:lnTo>
                  <a:lnTo>
                    <a:pt x="1291" y="1028"/>
                  </a:lnTo>
                  <a:lnTo>
                    <a:pt x="1286" y="1033"/>
                  </a:lnTo>
                  <a:lnTo>
                    <a:pt x="1281" y="1038"/>
                  </a:lnTo>
                  <a:lnTo>
                    <a:pt x="1276" y="1038"/>
                  </a:lnTo>
                  <a:lnTo>
                    <a:pt x="1271" y="1043"/>
                  </a:lnTo>
                  <a:lnTo>
                    <a:pt x="1266" y="1048"/>
                  </a:lnTo>
                  <a:lnTo>
                    <a:pt x="1261" y="1053"/>
                  </a:lnTo>
                  <a:lnTo>
                    <a:pt x="1256" y="1058"/>
                  </a:lnTo>
                  <a:lnTo>
                    <a:pt x="1246" y="1058"/>
                  </a:lnTo>
                  <a:lnTo>
                    <a:pt x="1241" y="1063"/>
                  </a:lnTo>
                  <a:lnTo>
                    <a:pt x="1236" y="1063"/>
                  </a:lnTo>
                  <a:lnTo>
                    <a:pt x="1227" y="1068"/>
                  </a:lnTo>
                  <a:lnTo>
                    <a:pt x="1222" y="1068"/>
                  </a:lnTo>
                  <a:lnTo>
                    <a:pt x="1212" y="1068"/>
                  </a:lnTo>
                  <a:lnTo>
                    <a:pt x="1202" y="1073"/>
                  </a:lnTo>
                  <a:lnTo>
                    <a:pt x="1197" y="1073"/>
                  </a:lnTo>
                  <a:lnTo>
                    <a:pt x="1187" y="1073"/>
                  </a:lnTo>
                  <a:lnTo>
                    <a:pt x="1182" y="1073"/>
                  </a:lnTo>
                  <a:lnTo>
                    <a:pt x="1172" y="1073"/>
                  </a:lnTo>
                  <a:lnTo>
                    <a:pt x="1162" y="1073"/>
                  </a:lnTo>
                  <a:lnTo>
                    <a:pt x="1152" y="1073"/>
                  </a:lnTo>
                  <a:lnTo>
                    <a:pt x="1147" y="1078"/>
                  </a:lnTo>
                  <a:lnTo>
                    <a:pt x="1143" y="1078"/>
                  </a:lnTo>
                  <a:lnTo>
                    <a:pt x="1138" y="1083"/>
                  </a:lnTo>
                  <a:lnTo>
                    <a:pt x="1133" y="1088"/>
                  </a:lnTo>
                  <a:lnTo>
                    <a:pt x="1133" y="1093"/>
                  </a:lnTo>
                  <a:lnTo>
                    <a:pt x="1133" y="1098"/>
                  </a:lnTo>
                  <a:lnTo>
                    <a:pt x="1128" y="1103"/>
                  </a:lnTo>
                  <a:lnTo>
                    <a:pt x="1128" y="1107"/>
                  </a:lnTo>
                  <a:lnTo>
                    <a:pt x="1128" y="1112"/>
                  </a:lnTo>
                  <a:lnTo>
                    <a:pt x="1128" y="1122"/>
                  </a:lnTo>
                  <a:lnTo>
                    <a:pt x="1123" y="1127"/>
                  </a:lnTo>
                  <a:lnTo>
                    <a:pt x="1123" y="1132"/>
                  </a:lnTo>
                  <a:lnTo>
                    <a:pt x="1123" y="1142"/>
                  </a:lnTo>
                  <a:lnTo>
                    <a:pt x="1118" y="1142"/>
                  </a:lnTo>
                  <a:lnTo>
                    <a:pt x="1113" y="1142"/>
                  </a:lnTo>
                  <a:lnTo>
                    <a:pt x="1108" y="1142"/>
                  </a:lnTo>
                  <a:lnTo>
                    <a:pt x="1103" y="1137"/>
                  </a:lnTo>
                  <a:lnTo>
                    <a:pt x="1098" y="1132"/>
                  </a:lnTo>
                  <a:lnTo>
                    <a:pt x="1088" y="1127"/>
                  </a:lnTo>
                  <a:lnTo>
                    <a:pt x="1083" y="1122"/>
                  </a:lnTo>
                  <a:lnTo>
                    <a:pt x="1073" y="1122"/>
                  </a:lnTo>
                  <a:lnTo>
                    <a:pt x="1068" y="1122"/>
                  </a:lnTo>
                  <a:lnTo>
                    <a:pt x="1058" y="1122"/>
                  </a:lnTo>
                  <a:lnTo>
                    <a:pt x="1053" y="1122"/>
                  </a:lnTo>
                  <a:lnTo>
                    <a:pt x="1044" y="1122"/>
                  </a:lnTo>
                  <a:lnTo>
                    <a:pt x="1034" y="1122"/>
                  </a:lnTo>
                  <a:lnTo>
                    <a:pt x="1029" y="1127"/>
                  </a:lnTo>
                  <a:lnTo>
                    <a:pt x="1019" y="1127"/>
                  </a:lnTo>
                  <a:lnTo>
                    <a:pt x="1014" y="1127"/>
                  </a:lnTo>
                  <a:lnTo>
                    <a:pt x="1004" y="1127"/>
                  </a:lnTo>
                  <a:lnTo>
                    <a:pt x="994" y="1132"/>
                  </a:lnTo>
                  <a:lnTo>
                    <a:pt x="989" y="1132"/>
                  </a:lnTo>
                  <a:lnTo>
                    <a:pt x="979" y="1137"/>
                  </a:lnTo>
                  <a:lnTo>
                    <a:pt x="974" y="1142"/>
                  </a:lnTo>
                  <a:lnTo>
                    <a:pt x="974" y="1147"/>
                  </a:lnTo>
                  <a:lnTo>
                    <a:pt x="974" y="1152"/>
                  </a:lnTo>
                  <a:lnTo>
                    <a:pt x="974" y="1157"/>
                  </a:lnTo>
                  <a:lnTo>
                    <a:pt x="979" y="1162"/>
                  </a:lnTo>
                  <a:lnTo>
                    <a:pt x="984" y="1167"/>
                  </a:lnTo>
                  <a:lnTo>
                    <a:pt x="989" y="1172"/>
                  </a:lnTo>
                  <a:lnTo>
                    <a:pt x="989" y="1177"/>
                  </a:lnTo>
                  <a:lnTo>
                    <a:pt x="984" y="1182"/>
                  </a:lnTo>
                  <a:lnTo>
                    <a:pt x="979" y="1177"/>
                  </a:lnTo>
                  <a:lnTo>
                    <a:pt x="974" y="1172"/>
                  </a:lnTo>
                  <a:lnTo>
                    <a:pt x="964" y="1167"/>
                  </a:lnTo>
                  <a:lnTo>
                    <a:pt x="960" y="1167"/>
                  </a:lnTo>
                  <a:lnTo>
                    <a:pt x="955" y="1162"/>
                  </a:lnTo>
                  <a:lnTo>
                    <a:pt x="950" y="1157"/>
                  </a:lnTo>
                  <a:lnTo>
                    <a:pt x="945" y="1157"/>
                  </a:lnTo>
                  <a:lnTo>
                    <a:pt x="935" y="1152"/>
                  </a:lnTo>
                  <a:lnTo>
                    <a:pt x="930" y="1147"/>
                  </a:lnTo>
                  <a:lnTo>
                    <a:pt x="925" y="1147"/>
                  </a:lnTo>
                  <a:lnTo>
                    <a:pt x="915" y="1142"/>
                  </a:lnTo>
                  <a:lnTo>
                    <a:pt x="910" y="1142"/>
                  </a:lnTo>
                  <a:lnTo>
                    <a:pt x="900" y="1142"/>
                  </a:lnTo>
                  <a:lnTo>
                    <a:pt x="890" y="1137"/>
                  </a:lnTo>
                  <a:lnTo>
                    <a:pt x="885" y="1137"/>
                  </a:lnTo>
                  <a:lnTo>
                    <a:pt x="875" y="1132"/>
                  </a:lnTo>
                  <a:lnTo>
                    <a:pt x="871" y="1132"/>
                  </a:lnTo>
                  <a:lnTo>
                    <a:pt x="861" y="1132"/>
                  </a:lnTo>
                  <a:lnTo>
                    <a:pt x="856" y="1127"/>
                  </a:lnTo>
                  <a:lnTo>
                    <a:pt x="846" y="1127"/>
                  </a:lnTo>
                  <a:lnTo>
                    <a:pt x="841" y="1122"/>
                  </a:lnTo>
                  <a:lnTo>
                    <a:pt x="831" y="1122"/>
                  </a:lnTo>
                  <a:lnTo>
                    <a:pt x="826" y="1122"/>
                  </a:lnTo>
                  <a:lnTo>
                    <a:pt x="816" y="1117"/>
                  </a:lnTo>
                  <a:lnTo>
                    <a:pt x="811" y="1117"/>
                  </a:lnTo>
                  <a:lnTo>
                    <a:pt x="801" y="1112"/>
                  </a:lnTo>
                  <a:lnTo>
                    <a:pt x="796" y="1112"/>
                  </a:lnTo>
                  <a:lnTo>
                    <a:pt x="786" y="1112"/>
                  </a:lnTo>
                  <a:lnTo>
                    <a:pt x="777" y="1107"/>
                  </a:lnTo>
                  <a:lnTo>
                    <a:pt x="772" y="1107"/>
                  </a:lnTo>
                  <a:lnTo>
                    <a:pt x="762" y="1103"/>
                  </a:lnTo>
                  <a:lnTo>
                    <a:pt x="757" y="1103"/>
                  </a:lnTo>
                  <a:lnTo>
                    <a:pt x="747" y="1103"/>
                  </a:lnTo>
                  <a:lnTo>
                    <a:pt x="742" y="1098"/>
                  </a:lnTo>
                  <a:lnTo>
                    <a:pt x="732" y="1098"/>
                  </a:lnTo>
                  <a:lnTo>
                    <a:pt x="727" y="1093"/>
                  </a:lnTo>
                  <a:lnTo>
                    <a:pt x="717" y="1093"/>
                  </a:lnTo>
                  <a:lnTo>
                    <a:pt x="712" y="1088"/>
                  </a:lnTo>
                  <a:lnTo>
                    <a:pt x="702" y="1088"/>
                  </a:lnTo>
                  <a:lnTo>
                    <a:pt x="697" y="1088"/>
                  </a:lnTo>
                  <a:lnTo>
                    <a:pt x="688" y="1083"/>
                  </a:lnTo>
                  <a:lnTo>
                    <a:pt x="678" y="1083"/>
                  </a:lnTo>
                  <a:lnTo>
                    <a:pt x="673" y="1083"/>
                  </a:lnTo>
                  <a:lnTo>
                    <a:pt x="663" y="1083"/>
                  </a:lnTo>
                  <a:lnTo>
                    <a:pt x="658" y="1078"/>
                  </a:lnTo>
                  <a:lnTo>
                    <a:pt x="648" y="1073"/>
                  </a:lnTo>
                  <a:lnTo>
                    <a:pt x="643" y="1073"/>
                  </a:lnTo>
                  <a:lnTo>
                    <a:pt x="633" y="1073"/>
                  </a:lnTo>
                  <a:lnTo>
                    <a:pt x="628" y="1073"/>
                  </a:lnTo>
                  <a:lnTo>
                    <a:pt x="628" y="1078"/>
                  </a:lnTo>
                  <a:lnTo>
                    <a:pt x="623" y="1088"/>
                  </a:lnTo>
                  <a:lnTo>
                    <a:pt x="618" y="1093"/>
                  </a:lnTo>
                  <a:lnTo>
                    <a:pt x="618" y="1098"/>
                  </a:lnTo>
                  <a:lnTo>
                    <a:pt x="618" y="1103"/>
                  </a:lnTo>
                  <a:lnTo>
                    <a:pt x="618" y="1107"/>
                  </a:lnTo>
                  <a:lnTo>
                    <a:pt x="618" y="1112"/>
                  </a:lnTo>
                  <a:lnTo>
                    <a:pt x="613" y="1117"/>
                  </a:lnTo>
                  <a:lnTo>
                    <a:pt x="613" y="1122"/>
                  </a:lnTo>
                  <a:lnTo>
                    <a:pt x="613" y="1127"/>
                  </a:lnTo>
                  <a:lnTo>
                    <a:pt x="613" y="1137"/>
                  </a:lnTo>
                  <a:lnTo>
                    <a:pt x="613" y="1142"/>
                  </a:lnTo>
                  <a:lnTo>
                    <a:pt x="613" y="1147"/>
                  </a:lnTo>
                  <a:lnTo>
                    <a:pt x="613" y="1152"/>
                  </a:lnTo>
                  <a:lnTo>
                    <a:pt x="608" y="1157"/>
                  </a:lnTo>
                  <a:lnTo>
                    <a:pt x="608" y="1162"/>
                  </a:lnTo>
                  <a:lnTo>
                    <a:pt x="608" y="1167"/>
                  </a:lnTo>
                  <a:lnTo>
                    <a:pt x="608" y="1172"/>
                  </a:lnTo>
                  <a:lnTo>
                    <a:pt x="608" y="1177"/>
                  </a:lnTo>
                  <a:lnTo>
                    <a:pt x="608" y="1182"/>
                  </a:lnTo>
                  <a:lnTo>
                    <a:pt x="603" y="1187"/>
                  </a:lnTo>
                  <a:lnTo>
                    <a:pt x="603" y="1192"/>
                  </a:lnTo>
                  <a:lnTo>
                    <a:pt x="603" y="1196"/>
                  </a:lnTo>
                  <a:lnTo>
                    <a:pt x="603" y="1201"/>
                  </a:lnTo>
                  <a:lnTo>
                    <a:pt x="603" y="1211"/>
                  </a:lnTo>
                  <a:lnTo>
                    <a:pt x="603" y="1216"/>
                  </a:lnTo>
                  <a:lnTo>
                    <a:pt x="599" y="1221"/>
                  </a:lnTo>
                  <a:lnTo>
                    <a:pt x="599" y="1226"/>
                  </a:lnTo>
                  <a:lnTo>
                    <a:pt x="599" y="1231"/>
                  </a:lnTo>
                  <a:lnTo>
                    <a:pt x="599" y="1236"/>
                  </a:lnTo>
                  <a:lnTo>
                    <a:pt x="599" y="1241"/>
                  </a:lnTo>
                  <a:lnTo>
                    <a:pt x="599" y="1246"/>
                  </a:lnTo>
                  <a:lnTo>
                    <a:pt x="599" y="1251"/>
                  </a:lnTo>
                  <a:lnTo>
                    <a:pt x="594" y="1256"/>
                  </a:lnTo>
                  <a:lnTo>
                    <a:pt x="594" y="1261"/>
                  </a:lnTo>
                  <a:lnTo>
                    <a:pt x="594" y="1266"/>
                  </a:lnTo>
                  <a:lnTo>
                    <a:pt x="594" y="1271"/>
                  </a:lnTo>
                  <a:lnTo>
                    <a:pt x="594" y="1276"/>
                  </a:lnTo>
                  <a:lnTo>
                    <a:pt x="594" y="1280"/>
                  </a:lnTo>
                  <a:lnTo>
                    <a:pt x="589" y="1290"/>
                  </a:lnTo>
                  <a:lnTo>
                    <a:pt x="613" y="1310"/>
                  </a:lnTo>
                  <a:lnTo>
                    <a:pt x="638" y="1335"/>
                  </a:lnTo>
                  <a:lnTo>
                    <a:pt x="663" y="1364"/>
                  </a:lnTo>
                  <a:lnTo>
                    <a:pt x="692" y="1389"/>
                  </a:lnTo>
                  <a:lnTo>
                    <a:pt x="717" y="1414"/>
                  </a:lnTo>
                  <a:lnTo>
                    <a:pt x="742" y="1444"/>
                  </a:lnTo>
                  <a:lnTo>
                    <a:pt x="772" y="1468"/>
                  </a:lnTo>
                  <a:lnTo>
                    <a:pt x="796" y="1468"/>
                  </a:lnTo>
                  <a:lnTo>
                    <a:pt x="826" y="1498"/>
                  </a:lnTo>
                  <a:lnTo>
                    <a:pt x="851" y="1523"/>
                  </a:lnTo>
                  <a:lnTo>
                    <a:pt x="875" y="1547"/>
                  </a:lnTo>
                  <a:lnTo>
                    <a:pt x="905" y="1577"/>
                  </a:lnTo>
                  <a:lnTo>
                    <a:pt x="930" y="1602"/>
                  </a:lnTo>
                  <a:lnTo>
                    <a:pt x="955" y="1631"/>
                  </a:lnTo>
                  <a:lnTo>
                    <a:pt x="984" y="1656"/>
                  </a:lnTo>
                  <a:lnTo>
                    <a:pt x="1009" y="1656"/>
                  </a:lnTo>
                  <a:lnTo>
                    <a:pt x="1039" y="1656"/>
                  </a:lnTo>
                  <a:lnTo>
                    <a:pt x="1063" y="1656"/>
                  </a:lnTo>
                  <a:lnTo>
                    <a:pt x="1088" y="1656"/>
                  </a:lnTo>
                  <a:lnTo>
                    <a:pt x="1118" y="1656"/>
                  </a:lnTo>
                  <a:lnTo>
                    <a:pt x="1143" y="1656"/>
                  </a:lnTo>
                  <a:lnTo>
                    <a:pt x="1172" y="1656"/>
                  </a:lnTo>
                  <a:lnTo>
                    <a:pt x="1197" y="1656"/>
                  </a:lnTo>
                  <a:lnTo>
                    <a:pt x="1222" y="1656"/>
                  </a:lnTo>
                  <a:lnTo>
                    <a:pt x="1251" y="1656"/>
                  </a:lnTo>
                  <a:lnTo>
                    <a:pt x="1276" y="1656"/>
                  </a:lnTo>
                  <a:lnTo>
                    <a:pt x="1301" y="1656"/>
                  </a:lnTo>
                  <a:lnTo>
                    <a:pt x="1330" y="1656"/>
                  </a:lnTo>
                  <a:lnTo>
                    <a:pt x="1355" y="1656"/>
                  </a:lnTo>
                  <a:lnTo>
                    <a:pt x="1385" y="1656"/>
                  </a:lnTo>
                  <a:lnTo>
                    <a:pt x="1410" y="1656"/>
                  </a:lnTo>
                  <a:lnTo>
                    <a:pt x="1434" y="1656"/>
                  </a:lnTo>
                  <a:lnTo>
                    <a:pt x="1464" y="1656"/>
                  </a:lnTo>
                  <a:lnTo>
                    <a:pt x="1489" y="1656"/>
                  </a:lnTo>
                  <a:lnTo>
                    <a:pt x="1513" y="1656"/>
                  </a:lnTo>
                  <a:lnTo>
                    <a:pt x="1543" y="1656"/>
                  </a:lnTo>
                  <a:lnTo>
                    <a:pt x="1568" y="1656"/>
                  </a:lnTo>
                  <a:lnTo>
                    <a:pt x="1598" y="1656"/>
                  </a:lnTo>
                  <a:lnTo>
                    <a:pt x="1622" y="1656"/>
                  </a:lnTo>
                  <a:lnTo>
                    <a:pt x="1647" y="1656"/>
                  </a:lnTo>
                  <a:lnTo>
                    <a:pt x="1677" y="1656"/>
                  </a:lnTo>
                  <a:lnTo>
                    <a:pt x="1701" y="1656"/>
                  </a:lnTo>
                  <a:lnTo>
                    <a:pt x="1726" y="1656"/>
                  </a:lnTo>
                  <a:lnTo>
                    <a:pt x="1756" y="1656"/>
                  </a:lnTo>
                  <a:lnTo>
                    <a:pt x="1780" y="1656"/>
                  </a:lnTo>
                  <a:lnTo>
                    <a:pt x="1810" y="1656"/>
                  </a:lnTo>
                  <a:lnTo>
                    <a:pt x="1835" y="1656"/>
                  </a:lnTo>
                  <a:lnTo>
                    <a:pt x="1860" y="1656"/>
                  </a:lnTo>
                  <a:lnTo>
                    <a:pt x="1889" y="1656"/>
                  </a:lnTo>
                  <a:lnTo>
                    <a:pt x="1914" y="1656"/>
                  </a:lnTo>
                  <a:lnTo>
                    <a:pt x="1944" y="1656"/>
                  </a:lnTo>
                  <a:lnTo>
                    <a:pt x="1968" y="1656"/>
                  </a:lnTo>
                  <a:lnTo>
                    <a:pt x="1993" y="1656"/>
                  </a:lnTo>
                  <a:lnTo>
                    <a:pt x="2023" y="1656"/>
                  </a:lnTo>
                  <a:lnTo>
                    <a:pt x="2048" y="1656"/>
                  </a:lnTo>
                  <a:lnTo>
                    <a:pt x="2072" y="1656"/>
                  </a:lnTo>
                  <a:lnTo>
                    <a:pt x="2102" y="1656"/>
                  </a:lnTo>
                  <a:lnTo>
                    <a:pt x="2127" y="1656"/>
                  </a:lnTo>
                  <a:lnTo>
                    <a:pt x="2156" y="1656"/>
                  </a:lnTo>
                  <a:lnTo>
                    <a:pt x="2181" y="1656"/>
                  </a:lnTo>
                  <a:lnTo>
                    <a:pt x="2206" y="1656"/>
                  </a:lnTo>
                  <a:lnTo>
                    <a:pt x="2235" y="1656"/>
                  </a:lnTo>
                  <a:close/>
                  <a:moveTo>
                    <a:pt x="1192" y="1122"/>
                  </a:moveTo>
                  <a:lnTo>
                    <a:pt x="1192" y="1117"/>
                  </a:lnTo>
                  <a:lnTo>
                    <a:pt x="1197" y="1112"/>
                  </a:lnTo>
                  <a:lnTo>
                    <a:pt x="1197" y="1112"/>
                  </a:lnTo>
                  <a:lnTo>
                    <a:pt x="1202" y="1117"/>
                  </a:lnTo>
                  <a:lnTo>
                    <a:pt x="1207" y="1122"/>
                  </a:lnTo>
                  <a:lnTo>
                    <a:pt x="1207" y="1127"/>
                  </a:lnTo>
                  <a:lnTo>
                    <a:pt x="1207" y="1132"/>
                  </a:lnTo>
                  <a:lnTo>
                    <a:pt x="1202" y="1132"/>
                  </a:lnTo>
                  <a:lnTo>
                    <a:pt x="1197" y="1137"/>
                  </a:lnTo>
                  <a:lnTo>
                    <a:pt x="1197" y="1137"/>
                  </a:lnTo>
                  <a:lnTo>
                    <a:pt x="1192" y="1137"/>
                  </a:lnTo>
                  <a:lnTo>
                    <a:pt x="1192" y="1132"/>
                  </a:lnTo>
                  <a:lnTo>
                    <a:pt x="1192" y="1127"/>
                  </a:lnTo>
                  <a:lnTo>
                    <a:pt x="1192" y="1122"/>
                  </a:lnTo>
                  <a:close/>
                  <a:moveTo>
                    <a:pt x="653" y="1043"/>
                  </a:moveTo>
                  <a:lnTo>
                    <a:pt x="648" y="1033"/>
                  </a:lnTo>
                  <a:lnTo>
                    <a:pt x="643" y="1033"/>
                  </a:lnTo>
                  <a:lnTo>
                    <a:pt x="638" y="1033"/>
                  </a:lnTo>
                  <a:lnTo>
                    <a:pt x="633" y="1038"/>
                  </a:lnTo>
                  <a:lnTo>
                    <a:pt x="633" y="1043"/>
                  </a:lnTo>
                  <a:lnTo>
                    <a:pt x="633" y="1053"/>
                  </a:lnTo>
                  <a:lnTo>
                    <a:pt x="633" y="1058"/>
                  </a:lnTo>
                  <a:lnTo>
                    <a:pt x="633" y="1063"/>
                  </a:lnTo>
                  <a:lnTo>
                    <a:pt x="638" y="1063"/>
                  </a:lnTo>
                  <a:lnTo>
                    <a:pt x="638" y="1063"/>
                  </a:lnTo>
                  <a:lnTo>
                    <a:pt x="643" y="1063"/>
                  </a:lnTo>
                  <a:lnTo>
                    <a:pt x="648" y="1058"/>
                  </a:lnTo>
                  <a:lnTo>
                    <a:pt x="653" y="1048"/>
                  </a:lnTo>
                  <a:lnTo>
                    <a:pt x="653" y="1043"/>
                  </a:lnTo>
                  <a:close/>
                  <a:moveTo>
                    <a:pt x="638" y="855"/>
                  </a:moveTo>
                  <a:lnTo>
                    <a:pt x="638" y="850"/>
                  </a:lnTo>
                  <a:lnTo>
                    <a:pt x="638" y="846"/>
                  </a:lnTo>
                  <a:lnTo>
                    <a:pt x="643" y="841"/>
                  </a:lnTo>
                  <a:lnTo>
                    <a:pt x="643" y="836"/>
                  </a:lnTo>
                  <a:lnTo>
                    <a:pt x="643" y="831"/>
                  </a:lnTo>
                  <a:lnTo>
                    <a:pt x="638" y="826"/>
                  </a:lnTo>
                  <a:lnTo>
                    <a:pt x="638" y="816"/>
                  </a:lnTo>
                  <a:lnTo>
                    <a:pt x="638" y="811"/>
                  </a:lnTo>
                  <a:lnTo>
                    <a:pt x="638" y="811"/>
                  </a:lnTo>
                  <a:lnTo>
                    <a:pt x="633" y="816"/>
                  </a:lnTo>
                  <a:lnTo>
                    <a:pt x="633" y="821"/>
                  </a:lnTo>
                  <a:lnTo>
                    <a:pt x="633" y="831"/>
                  </a:lnTo>
                  <a:lnTo>
                    <a:pt x="628" y="836"/>
                  </a:lnTo>
                  <a:lnTo>
                    <a:pt x="628" y="841"/>
                  </a:lnTo>
                  <a:lnTo>
                    <a:pt x="633" y="841"/>
                  </a:lnTo>
                  <a:lnTo>
                    <a:pt x="633" y="846"/>
                  </a:lnTo>
                  <a:lnTo>
                    <a:pt x="633" y="855"/>
                  </a:lnTo>
                  <a:lnTo>
                    <a:pt x="638" y="860"/>
                  </a:lnTo>
                  <a:lnTo>
                    <a:pt x="638" y="860"/>
                  </a:lnTo>
                  <a:lnTo>
                    <a:pt x="638" y="855"/>
                  </a:lnTo>
                  <a:close/>
                  <a:moveTo>
                    <a:pt x="1855" y="826"/>
                  </a:moveTo>
                  <a:lnTo>
                    <a:pt x="1860" y="821"/>
                  </a:lnTo>
                  <a:lnTo>
                    <a:pt x="1865" y="816"/>
                  </a:lnTo>
                  <a:lnTo>
                    <a:pt x="1870" y="811"/>
                  </a:lnTo>
                  <a:lnTo>
                    <a:pt x="1870" y="806"/>
                  </a:lnTo>
                  <a:lnTo>
                    <a:pt x="1874" y="801"/>
                  </a:lnTo>
                  <a:lnTo>
                    <a:pt x="1879" y="796"/>
                  </a:lnTo>
                  <a:lnTo>
                    <a:pt x="1884" y="791"/>
                  </a:lnTo>
                  <a:lnTo>
                    <a:pt x="1889" y="786"/>
                  </a:lnTo>
                  <a:lnTo>
                    <a:pt x="1894" y="781"/>
                  </a:lnTo>
                  <a:lnTo>
                    <a:pt x="1894" y="776"/>
                  </a:lnTo>
                  <a:lnTo>
                    <a:pt x="1899" y="771"/>
                  </a:lnTo>
                  <a:lnTo>
                    <a:pt x="1904" y="766"/>
                  </a:lnTo>
                  <a:lnTo>
                    <a:pt x="1909" y="762"/>
                  </a:lnTo>
                  <a:lnTo>
                    <a:pt x="1914" y="757"/>
                  </a:lnTo>
                  <a:lnTo>
                    <a:pt x="1919" y="752"/>
                  </a:lnTo>
                  <a:lnTo>
                    <a:pt x="1924" y="742"/>
                  </a:lnTo>
                  <a:lnTo>
                    <a:pt x="1929" y="737"/>
                  </a:lnTo>
                  <a:lnTo>
                    <a:pt x="1934" y="732"/>
                  </a:lnTo>
                  <a:lnTo>
                    <a:pt x="1939" y="727"/>
                  </a:lnTo>
                  <a:lnTo>
                    <a:pt x="1939" y="722"/>
                  </a:lnTo>
                  <a:lnTo>
                    <a:pt x="1939" y="717"/>
                  </a:lnTo>
                  <a:lnTo>
                    <a:pt x="1934" y="712"/>
                  </a:lnTo>
                  <a:lnTo>
                    <a:pt x="1929" y="707"/>
                  </a:lnTo>
                  <a:lnTo>
                    <a:pt x="1924" y="702"/>
                  </a:lnTo>
                  <a:lnTo>
                    <a:pt x="1919" y="697"/>
                  </a:lnTo>
                  <a:lnTo>
                    <a:pt x="1919" y="692"/>
                  </a:lnTo>
                  <a:lnTo>
                    <a:pt x="1919" y="687"/>
                  </a:lnTo>
                  <a:lnTo>
                    <a:pt x="1919" y="677"/>
                  </a:lnTo>
                  <a:lnTo>
                    <a:pt x="1924" y="673"/>
                  </a:lnTo>
                  <a:lnTo>
                    <a:pt x="1929" y="668"/>
                  </a:lnTo>
                  <a:lnTo>
                    <a:pt x="1929" y="663"/>
                  </a:lnTo>
                  <a:lnTo>
                    <a:pt x="1934" y="658"/>
                  </a:lnTo>
                  <a:lnTo>
                    <a:pt x="1934" y="653"/>
                  </a:lnTo>
                  <a:lnTo>
                    <a:pt x="1939" y="648"/>
                  </a:lnTo>
                  <a:lnTo>
                    <a:pt x="1939" y="638"/>
                  </a:lnTo>
                  <a:lnTo>
                    <a:pt x="1944" y="633"/>
                  </a:lnTo>
                  <a:lnTo>
                    <a:pt x="1949" y="628"/>
                  </a:lnTo>
                  <a:lnTo>
                    <a:pt x="1954" y="623"/>
                  </a:lnTo>
                  <a:lnTo>
                    <a:pt x="1959" y="618"/>
                  </a:lnTo>
                  <a:lnTo>
                    <a:pt x="1963" y="618"/>
                  </a:lnTo>
                  <a:lnTo>
                    <a:pt x="1973" y="613"/>
                  </a:lnTo>
                  <a:lnTo>
                    <a:pt x="1983" y="613"/>
                  </a:lnTo>
                  <a:lnTo>
                    <a:pt x="1988" y="608"/>
                  </a:lnTo>
                  <a:lnTo>
                    <a:pt x="1993" y="603"/>
                  </a:lnTo>
                  <a:lnTo>
                    <a:pt x="1993" y="598"/>
                  </a:lnTo>
                  <a:lnTo>
                    <a:pt x="1998" y="593"/>
                  </a:lnTo>
                  <a:lnTo>
                    <a:pt x="1998" y="584"/>
                  </a:lnTo>
                  <a:lnTo>
                    <a:pt x="1998" y="579"/>
                  </a:lnTo>
                  <a:lnTo>
                    <a:pt x="1998" y="574"/>
                  </a:lnTo>
                  <a:lnTo>
                    <a:pt x="1998" y="569"/>
                  </a:lnTo>
                  <a:lnTo>
                    <a:pt x="1998" y="564"/>
                  </a:lnTo>
                  <a:lnTo>
                    <a:pt x="1998" y="554"/>
                  </a:lnTo>
                  <a:lnTo>
                    <a:pt x="1993" y="549"/>
                  </a:lnTo>
                  <a:lnTo>
                    <a:pt x="1993" y="544"/>
                  </a:lnTo>
                  <a:lnTo>
                    <a:pt x="1993" y="539"/>
                  </a:lnTo>
                  <a:lnTo>
                    <a:pt x="1993" y="534"/>
                  </a:lnTo>
                  <a:lnTo>
                    <a:pt x="1993" y="529"/>
                  </a:lnTo>
                  <a:lnTo>
                    <a:pt x="1993" y="519"/>
                  </a:lnTo>
                  <a:lnTo>
                    <a:pt x="1993" y="514"/>
                  </a:lnTo>
                  <a:lnTo>
                    <a:pt x="1993" y="509"/>
                  </a:lnTo>
                  <a:lnTo>
                    <a:pt x="1988" y="504"/>
                  </a:lnTo>
                  <a:lnTo>
                    <a:pt x="1988" y="500"/>
                  </a:lnTo>
                  <a:lnTo>
                    <a:pt x="1988" y="490"/>
                  </a:lnTo>
                  <a:lnTo>
                    <a:pt x="1988" y="485"/>
                  </a:lnTo>
                  <a:lnTo>
                    <a:pt x="1988" y="480"/>
                  </a:lnTo>
                  <a:lnTo>
                    <a:pt x="1993" y="475"/>
                  </a:lnTo>
                  <a:lnTo>
                    <a:pt x="2003" y="475"/>
                  </a:lnTo>
                  <a:lnTo>
                    <a:pt x="2013" y="480"/>
                  </a:lnTo>
                  <a:lnTo>
                    <a:pt x="2018" y="485"/>
                  </a:lnTo>
                  <a:lnTo>
                    <a:pt x="2023" y="490"/>
                  </a:lnTo>
                  <a:lnTo>
                    <a:pt x="2028" y="495"/>
                  </a:lnTo>
                  <a:lnTo>
                    <a:pt x="2033" y="500"/>
                  </a:lnTo>
                  <a:lnTo>
                    <a:pt x="2043" y="500"/>
                  </a:lnTo>
                  <a:lnTo>
                    <a:pt x="2052" y="504"/>
                  </a:lnTo>
                  <a:lnTo>
                    <a:pt x="2062" y="504"/>
                  </a:lnTo>
                  <a:lnTo>
                    <a:pt x="2067" y="509"/>
                  </a:lnTo>
                  <a:lnTo>
                    <a:pt x="2067" y="514"/>
                  </a:lnTo>
                  <a:lnTo>
                    <a:pt x="2062" y="519"/>
                  </a:lnTo>
                  <a:lnTo>
                    <a:pt x="2057" y="524"/>
                  </a:lnTo>
                  <a:lnTo>
                    <a:pt x="2052" y="534"/>
                  </a:lnTo>
                  <a:lnTo>
                    <a:pt x="2043" y="539"/>
                  </a:lnTo>
                  <a:lnTo>
                    <a:pt x="2043" y="544"/>
                  </a:lnTo>
                  <a:lnTo>
                    <a:pt x="2038" y="549"/>
                  </a:lnTo>
                  <a:lnTo>
                    <a:pt x="2038" y="554"/>
                  </a:lnTo>
                  <a:lnTo>
                    <a:pt x="2038" y="559"/>
                  </a:lnTo>
                  <a:lnTo>
                    <a:pt x="2038" y="564"/>
                  </a:lnTo>
                  <a:lnTo>
                    <a:pt x="2033" y="574"/>
                  </a:lnTo>
                  <a:lnTo>
                    <a:pt x="2033" y="579"/>
                  </a:lnTo>
                  <a:lnTo>
                    <a:pt x="2033" y="584"/>
                  </a:lnTo>
                  <a:lnTo>
                    <a:pt x="2033" y="589"/>
                  </a:lnTo>
                  <a:lnTo>
                    <a:pt x="2033" y="593"/>
                  </a:lnTo>
                  <a:lnTo>
                    <a:pt x="2033" y="603"/>
                  </a:lnTo>
                  <a:lnTo>
                    <a:pt x="2033" y="608"/>
                  </a:lnTo>
                  <a:lnTo>
                    <a:pt x="2033" y="613"/>
                  </a:lnTo>
                  <a:lnTo>
                    <a:pt x="2033" y="618"/>
                  </a:lnTo>
                  <a:lnTo>
                    <a:pt x="2033" y="623"/>
                  </a:lnTo>
                  <a:lnTo>
                    <a:pt x="2038" y="628"/>
                  </a:lnTo>
                  <a:lnTo>
                    <a:pt x="2038" y="638"/>
                  </a:lnTo>
                  <a:lnTo>
                    <a:pt x="2038" y="643"/>
                  </a:lnTo>
                  <a:lnTo>
                    <a:pt x="2038" y="648"/>
                  </a:lnTo>
                  <a:lnTo>
                    <a:pt x="2038" y="653"/>
                  </a:lnTo>
                  <a:lnTo>
                    <a:pt x="2038" y="658"/>
                  </a:lnTo>
                  <a:lnTo>
                    <a:pt x="2038" y="668"/>
                  </a:lnTo>
                  <a:lnTo>
                    <a:pt x="2038" y="673"/>
                  </a:lnTo>
                  <a:lnTo>
                    <a:pt x="2038" y="677"/>
                  </a:lnTo>
                  <a:lnTo>
                    <a:pt x="2038" y="682"/>
                  </a:lnTo>
                  <a:lnTo>
                    <a:pt x="2043" y="687"/>
                  </a:lnTo>
                  <a:lnTo>
                    <a:pt x="2043" y="692"/>
                  </a:lnTo>
                  <a:lnTo>
                    <a:pt x="2048" y="702"/>
                  </a:lnTo>
                  <a:lnTo>
                    <a:pt x="2052" y="707"/>
                  </a:lnTo>
                  <a:lnTo>
                    <a:pt x="2052" y="712"/>
                  </a:lnTo>
                  <a:lnTo>
                    <a:pt x="2052" y="717"/>
                  </a:lnTo>
                  <a:lnTo>
                    <a:pt x="2052" y="722"/>
                  </a:lnTo>
                  <a:lnTo>
                    <a:pt x="2052" y="727"/>
                  </a:lnTo>
                  <a:lnTo>
                    <a:pt x="2048" y="732"/>
                  </a:lnTo>
                  <a:lnTo>
                    <a:pt x="2043" y="737"/>
                  </a:lnTo>
                  <a:lnTo>
                    <a:pt x="2038" y="742"/>
                  </a:lnTo>
                  <a:lnTo>
                    <a:pt x="2033" y="747"/>
                  </a:lnTo>
                  <a:lnTo>
                    <a:pt x="2028" y="752"/>
                  </a:lnTo>
                  <a:lnTo>
                    <a:pt x="2023" y="757"/>
                  </a:lnTo>
                  <a:lnTo>
                    <a:pt x="2018" y="762"/>
                  </a:lnTo>
                  <a:lnTo>
                    <a:pt x="2018" y="771"/>
                  </a:lnTo>
                  <a:lnTo>
                    <a:pt x="2018" y="776"/>
                  </a:lnTo>
                  <a:lnTo>
                    <a:pt x="2023" y="781"/>
                  </a:lnTo>
                  <a:lnTo>
                    <a:pt x="2023" y="786"/>
                  </a:lnTo>
                  <a:lnTo>
                    <a:pt x="2028" y="791"/>
                  </a:lnTo>
                  <a:lnTo>
                    <a:pt x="2028" y="796"/>
                  </a:lnTo>
                  <a:lnTo>
                    <a:pt x="2033" y="801"/>
                  </a:lnTo>
                  <a:lnTo>
                    <a:pt x="2028" y="811"/>
                  </a:lnTo>
                  <a:lnTo>
                    <a:pt x="2028" y="816"/>
                  </a:lnTo>
                  <a:lnTo>
                    <a:pt x="2028" y="821"/>
                  </a:lnTo>
                  <a:lnTo>
                    <a:pt x="2023" y="826"/>
                  </a:lnTo>
                  <a:lnTo>
                    <a:pt x="2018" y="831"/>
                  </a:lnTo>
                  <a:lnTo>
                    <a:pt x="2013" y="831"/>
                  </a:lnTo>
                  <a:lnTo>
                    <a:pt x="2003" y="831"/>
                  </a:lnTo>
                  <a:lnTo>
                    <a:pt x="1988" y="831"/>
                  </a:lnTo>
                  <a:lnTo>
                    <a:pt x="1983" y="831"/>
                  </a:lnTo>
                  <a:lnTo>
                    <a:pt x="1973" y="831"/>
                  </a:lnTo>
                  <a:lnTo>
                    <a:pt x="1963" y="831"/>
                  </a:lnTo>
                  <a:lnTo>
                    <a:pt x="1954" y="831"/>
                  </a:lnTo>
                  <a:lnTo>
                    <a:pt x="1944" y="831"/>
                  </a:lnTo>
                  <a:lnTo>
                    <a:pt x="1939" y="836"/>
                  </a:lnTo>
                  <a:lnTo>
                    <a:pt x="1929" y="836"/>
                  </a:lnTo>
                  <a:lnTo>
                    <a:pt x="1919" y="836"/>
                  </a:lnTo>
                  <a:lnTo>
                    <a:pt x="1909" y="836"/>
                  </a:lnTo>
                  <a:lnTo>
                    <a:pt x="1899" y="836"/>
                  </a:lnTo>
                  <a:lnTo>
                    <a:pt x="1894" y="836"/>
                  </a:lnTo>
                  <a:lnTo>
                    <a:pt x="1884" y="836"/>
                  </a:lnTo>
                  <a:lnTo>
                    <a:pt x="1874" y="836"/>
                  </a:lnTo>
                  <a:lnTo>
                    <a:pt x="1865" y="836"/>
                  </a:lnTo>
                  <a:lnTo>
                    <a:pt x="1860" y="836"/>
                  </a:lnTo>
                  <a:lnTo>
                    <a:pt x="1855" y="826"/>
                  </a:lnTo>
                  <a:close/>
                  <a:moveTo>
                    <a:pt x="411" y="801"/>
                  </a:moveTo>
                  <a:lnTo>
                    <a:pt x="411" y="796"/>
                  </a:lnTo>
                  <a:lnTo>
                    <a:pt x="411" y="786"/>
                  </a:lnTo>
                  <a:lnTo>
                    <a:pt x="416" y="781"/>
                  </a:lnTo>
                  <a:lnTo>
                    <a:pt x="416" y="781"/>
                  </a:lnTo>
                  <a:lnTo>
                    <a:pt x="420" y="776"/>
                  </a:lnTo>
                  <a:lnTo>
                    <a:pt x="425" y="776"/>
                  </a:lnTo>
                  <a:lnTo>
                    <a:pt x="430" y="771"/>
                  </a:lnTo>
                  <a:lnTo>
                    <a:pt x="435" y="771"/>
                  </a:lnTo>
                  <a:lnTo>
                    <a:pt x="435" y="766"/>
                  </a:lnTo>
                  <a:lnTo>
                    <a:pt x="440" y="762"/>
                  </a:lnTo>
                  <a:lnTo>
                    <a:pt x="440" y="757"/>
                  </a:lnTo>
                  <a:lnTo>
                    <a:pt x="435" y="752"/>
                  </a:lnTo>
                  <a:lnTo>
                    <a:pt x="430" y="747"/>
                  </a:lnTo>
                  <a:lnTo>
                    <a:pt x="425" y="742"/>
                  </a:lnTo>
                  <a:lnTo>
                    <a:pt x="420" y="742"/>
                  </a:lnTo>
                  <a:lnTo>
                    <a:pt x="420" y="747"/>
                  </a:lnTo>
                  <a:lnTo>
                    <a:pt x="416" y="752"/>
                  </a:lnTo>
                  <a:lnTo>
                    <a:pt x="411" y="752"/>
                  </a:lnTo>
                  <a:lnTo>
                    <a:pt x="406" y="757"/>
                  </a:lnTo>
                  <a:lnTo>
                    <a:pt x="401" y="757"/>
                  </a:lnTo>
                  <a:lnTo>
                    <a:pt x="391" y="762"/>
                  </a:lnTo>
                  <a:lnTo>
                    <a:pt x="386" y="762"/>
                  </a:lnTo>
                  <a:lnTo>
                    <a:pt x="381" y="766"/>
                  </a:lnTo>
                  <a:lnTo>
                    <a:pt x="376" y="766"/>
                  </a:lnTo>
                  <a:lnTo>
                    <a:pt x="371" y="771"/>
                  </a:lnTo>
                  <a:lnTo>
                    <a:pt x="371" y="776"/>
                  </a:lnTo>
                  <a:lnTo>
                    <a:pt x="371" y="781"/>
                  </a:lnTo>
                  <a:lnTo>
                    <a:pt x="376" y="786"/>
                  </a:lnTo>
                  <a:lnTo>
                    <a:pt x="376" y="791"/>
                  </a:lnTo>
                  <a:lnTo>
                    <a:pt x="376" y="791"/>
                  </a:lnTo>
                  <a:lnTo>
                    <a:pt x="381" y="796"/>
                  </a:lnTo>
                  <a:lnTo>
                    <a:pt x="381" y="801"/>
                  </a:lnTo>
                  <a:lnTo>
                    <a:pt x="386" y="806"/>
                  </a:lnTo>
                  <a:lnTo>
                    <a:pt x="391" y="811"/>
                  </a:lnTo>
                  <a:lnTo>
                    <a:pt x="396" y="811"/>
                  </a:lnTo>
                  <a:lnTo>
                    <a:pt x="401" y="811"/>
                  </a:lnTo>
                  <a:lnTo>
                    <a:pt x="406" y="806"/>
                  </a:lnTo>
                  <a:lnTo>
                    <a:pt x="411" y="801"/>
                  </a:lnTo>
                  <a:close/>
                  <a:moveTo>
                    <a:pt x="1513" y="801"/>
                  </a:moveTo>
                  <a:lnTo>
                    <a:pt x="1513" y="801"/>
                  </a:lnTo>
                  <a:lnTo>
                    <a:pt x="1513" y="801"/>
                  </a:lnTo>
                  <a:lnTo>
                    <a:pt x="1513" y="796"/>
                  </a:lnTo>
                  <a:lnTo>
                    <a:pt x="1513" y="796"/>
                  </a:lnTo>
                  <a:lnTo>
                    <a:pt x="1513" y="796"/>
                  </a:lnTo>
                  <a:lnTo>
                    <a:pt x="1518" y="801"/>
                  </a:lnTo>
                  <a:lnTo>
                    <a:pt x="1518" y="801"/>
                  </a:lnTo>
                  <a:lnTo>
                    <a:pt x="1518" y="801"/>
                  </a:lnTo>
                  <a:lnTo>
                    <a:pt x="1518" y="801"/>
                  </a:lnTo>
                  <a:lnTo>
                    <a:pt x="1518" y="801"/>
                  </a:lnTo>
                  <a:lnTo>
                    <a:pt x="1513" y="801"/>
                  </a:lnTo>
                  <a:lnTo>
                    <a:pt x="1513" y="801"/>
                  </a:lnTo>
                  <a:lnTo>
                    <a:pt x="1513" y="801"/>
                  </a:lnTo>
                  <a:lnTo>
                    <a:pt x="1513" y="801"/>
                  </a:lnTo>
                  <a:close/>
                  <a:moveTo>
                    <a:pt x="1419" y="776"/>
                  </a:moveTo>
                  <a:lnTo>
                    <a:pt x="1419" y="766"/>
                  </a:lnTo>
                  <a:lnTo>
                    <a:pt x="1419" y="762"/>
                  </a:lnTo>
                  <a:lnTo>
                    <a:pt x="1419" y="757"/>
                  </a:lnTo>
                  <a:lnTo>
                    <a:pt x="1419" y="752"/>
                  </a:lnTo>
                  <a:lnTo>
                    <a:pt x="1419" y="747"/>
                  </a:lnTo>
                  <a:lnTo>
                    <a:pt x="1419" y="737"/>
                  </a:lnTo>
                  <a:lnTo>
                    <a:pt x="1419" y="732"/>
                  </a:lnTo>
                  <a:lnTo>
                    <a:pt x="1419" y="727"/>
                  </a:lnTo>
                  <a:lnTo>
                    <a:pt x="1419" y="722"/>
                  </a:lnTo>
                  <a:lnTo>
                    <a:pt x="1419" y="712"/>
                  </a:lnTo>
                  <a:lnTo>
                    <a:pt x="1419" y="707"/>
                  </a:lnTo>
                  <a:lnTo>
                    <a:pt x="1419" y="702"/>
                  </a:lnTo>
                  <a:lnTo>
                    <a:pt x="1419" y="697"/>
                  </a:lnTo>
                  <a:lnTo>
                    <a:pt x="1424" y="692"/>
                  </a:lnTo>
                  <a:lnTo>
                    <a:pt x="1429" y="687"/>
                  </a:lnTo>
                  <a:lnTo>
                    <a:pt x="1434" y="682"/>
                  </a:lnTo>
                  <a:lnTo>
                    <a:pt x="1439" y="677"/>
                  </a:lnTo>
                  <a:lnTo>
                    <a:pt x="1444" y="668"/>
                  </a:lnTo>
                  <a:lnTo>
                    <a:pt x="1444" y="663"/>
                  </a:lnTo>
                  <a:lnTo>
                    <a:pt x="1444" y="658"/>
                  </a:lnTo>
                  <a:lnTo>
                    <a:pt x="1449" y="653"/>
                  </a:lnTo>
                  <a:lnTo>
                    <a:pt x="1449" y="648"/>
                  </a:lnTo>
                  <a:lnTo>
                    <a:pt x="1449" y="638"/>
                  </a:lnTo>
                  <a:lnTo>
                    <a:pt x="1449" y="633"/>
                  </a:lnTo>
                  <a:lnTo>
                    <a:pt x="1449" y="628"/>
                  </a:lnTo>
                  <a:lnTo>
                    <a:pt x="1454" y="623"/>
                  </a:lnTo>
                  <a:lnTo>
                    <a:pt x="1454" y="618"/>
                  </a:lnTo>
                  <a:lnTo>
                    <a:pt x="1454" y="608"/>
                  </a:lnTo>
                  <a:lnTo>
                    <a:pt x="1454" y="603"/>
                  </a:lnTo>
                  <a:lnTo>
                    <a:pt x="1454" y="598"/>
                  </a:lnTo>
                  <a:lnTo>
                    <a:pt x="1459" y="593"/>
                  </a:lnTo>
                  <a:lnTo>
                    <a:pt x="1459" y="589"/>
                  </a:lnTo>
                  <a:lnTo>
                    <a:pt x="1464" y="579"/>
                  </a:lnTo>
                  <a:lnTo>
                    <a:pt x="1469" y="574"/>
                  </a:lnTo>
                  <a:lnTo>
                    <a:pt x="1474" y="569"/>
                  </a:lnTo>
                  <a:lnTo>
                    <a:pt x="1474" y="564"/>
                  </a:lnTo>
                  <a:lnTo>
                    <a:pt x="1479" y="559"/>
                  </a:lnTo>
                  <a:lnTo>
                    <a:pt x="1484" y="554"/>
                  </a:lnTo>
                  <a:lnTo>
                    <a:pt x="1484" y="549"/>
                  </a:lnTo>
                  <a:lnTo>
                    <a:pt x="1484" y="539"/>
                  </a:lnTo>
                  <a:lnTo>
                    <a:pt x="1489" y="534"/>
                  </a:lnTo>
                  <a:lnTo>
                    <a:pt x="1494" y="534"/>
                  </a:lnTo>
                  <a:lnTo>
                    <a:pt x="1499" y="524"/>
                  </a:lnTo>
                  <a:lnTo>
                    <a:pt x="1504" y="519"/>
                  </a:lnTo>
                  <a:lnTo>
                    <a:pt x="1504" y="514"/>
                  </a:lnTo>
                  <a:lnTo>
                    <a:pt x="1508" y="509"/>
                  </a:lnTo>
                  <a:lnTo>
                    <a:pt x="1508" y="504"/>
                  </a:lnTo>
                  <a:lnTo>
                    <a:pt x="1513" y="500"/>
                  </a:lnTo>
                  <a:lnTo>
                    <a:pt x="1513" y="490"/>
                  </a:lnTo>
                  <a:lnTo>
                    <a:pt x="1518" y="485"/>
                  </a:lnTo>
                  <a:lnTo>
                    <a:pt x="1518" y="480"/>
                  </a:lnTo>
                  <a:lnTo>
                    <a:pt x="1518" y="475"/>
                  </a:lnTo>
                  <a:lnTo>
                    <a:pt x="1513" y="470"/>
                  </a:lnTo>
                  <a:lnTo>
                    <a:pt x="1504" y="460"/>
                  </a:lnTo>
                  <a:lnTo>
                    <a:pt x="1499" y="460"/>
                  </a:lnTo>
                  <a:lnTo>
                    <a:pt x="1489" y="455"/>
                  </a:lnTo>
                  <a:lnTo>
                    <a:pt x="1484" y="455"/>
                  </a:lnTo>
                  <a:lnTo>
                    <a:pt x="1479" y="460"/>
                  </a:lnTo>
                  <a:lnTo>
                    <a:pt x="1469" y="465"/>
                  </a:lnTo>
                  <a:lnTo>
                    <a:pt x="1464" y="470"/>
                  </a:lnTo>
                  <a:lnTo>
                    <a:pt x="1454" y="475"/>
                  </a:lnTo>
                  <a:lnTo>
                    <a:pt x="1449" y="480"/>
                  </a:lnTo>
                  <a:lnTo>
                    <a:pt x="1439" y="480"/>
                  </a:lnTo>
                  <a:lnTo>
                    <a:pt x="1434" y="485"/>
                  </a:lnTo>
                  <a:lnTo>
                    <a:pt x="1429" y="490"/>
                  </a:lnTo>
                  <a:lnTo>
                    <a:pt x="1424" y="495"/>
                  </a:lnTo>
                  <a:lnTo>
                    <a:pt x="1419" y="500"/>
                  </a:lnTo>
                  <a:lnTo>
                    <a:pt x="1415" y="504"/>
                  </a:lnTo>
                  <a:lnTo>
                    <a:pt x="1410" y="509"/>
                  </a:lnTo>
                  <a:lnTo>
                    <a:pt x="1410" y="519"/>
                  </a:lnTo>
                  <a:lnTo>
                    <a:pt x="1405" y="524"/>
                  </a:lnTo>
                  <a:lnTo>
                    <a:pt x="1405" y="529"/>
                  </a:lnTo>
                  <a:lnTo>
                    <a:pt x="1400" y="534"/>
                  </a:lnTo>
                  <a:lnTo>
                    <a:pt x="1400" y="544"/>
                  </a:lnTo>
                  <a:lnTo>
                    <a:pt x="1395" y="549"/>
                  </a:lnTo>
                  <a:lnTo>
                    <a:pt x="1390" y="554"/>
                  </a:lnTo>
                  <a:lnTo>
                    <a:pt x="1380" y="554"/>
                  </a:lnTo>
                  <a:lnTo>
                    <a:pt x="1370" y="554"/>
                  </a:lnTo>
                  <a:lnTo>
                    <a:pt x="1360" y="554"/>
                  </a:lnTo>
                  <a:lnTo>
                    <a:pt x="1355" y="559"/>
                  </a:lnTo>
                  <a:lnTo>
                    <a:pt x="1350" y="564"/>
                  </a:lnTo>
                  <a:lnTo>
                    <a:pt x="1345" y="569"/>
                  </a:lnTo>
                  <a:lnTo>
                    <a:pt x="1345" y="574"/>
                  </a:lnTo>
                  <a:lnTo>
                    <a:pt x="1340" y="579"/>
                  </a:lnTo>
                  <a:lnTo>
                    <a:pt x="1340" y="584"/>
                  </a:lnTo>
                  <a:lnTo>
                    <a:pt x="1335" y="589"/>
                  </a:lnTo>
                  <a:lnTo>
                    <a:pt x="1335" y="598"/>
                  </a:lnTo>
                  <a:lnTo>
                    <a:pt x="1335" y="603"/>
                  </a:lnTo>
                  <a:lnTo>
                    <a:pt x="1335" y="608"/>
                  </a:lnTo>
                  <a:lnTo>
                    <a:pt x="1335" y="613"/>
                  </a:lnTo>
                  <a:lnTo>
                    <a:pt x="1330" y="623"/>
                  </a:lnTo>
                  <a:lnTo>
                    <a:pt x="1330" y="628"/>
                  </a:lnTo>
                  <a:lnTo>
                    <a:pt x="1330" y="633"/>
                  </a:lnTo>
                  <a:lnTo>
                    <a:pt x="1330" y="638"/>
                  </a:lnTo>
                  <a:lnTo>
                    <a:pt x="1326" y="643"/>
                  </a:lnTo>
                  <a:lnTo>
                    <a:pt x="1326" y="653"/>
                  </a:lnTo>
                  <a:lnTo>
                    <a:pt x="1326" y="658"/>
                  </a:lnTo>
                  <a:lnTo>
                    <a:pt x="1326" y="663"/>
                  </a:lnTo>
                  <a:lnTo>
                    <a:pt x="1326" y="668"/>
                  </a:lnTo>
                  <a:lnTo>
                    <a:pt x="1326" y="673"/>
                  </a:lnTo>
                  <a:lnTo>
                    <a:pt x="1326" y="677"/>
                  </a:lnTo>
                  <a:lnTo>
                    <a:pt x="1326" y="687"/>
                  </a:lnTo>
                  <a:lnTo>
                    <a:pt x="1326" y="692"/>
                  </a:lnTo>
                  <a:lnTo>
                    <a:pt x="1330" y="697"/>
                  </a:lnTo>
                  <a:lnTo>
                    <a:pt x="1335" y="702"/>
                  </a:lnTo>
                  <a:lnTo>
                    <a:pt x="1345" y="697"/>
                  </a:lnTo>
                  <a:lnTo>
                    <a:pt x="1355" y="697"/>
                  </a:lnTo>
                  <a:lnTo>
                    <a:pt x="1360" y="692"/>
                  </a:lnTo>
                  <a:lnTo>
                    <a:pt x="1370" y="687"/>
                  </a:lnTo>
                  <a:lnTo>
                    <a:pt x="1375" y="682"/>
                  </a:lnTo>
                  <a:lnTo>
                    <a:pt x="1385" y="682"/>
                  </a:lnTo>
                  <a:lnTo>
                    <a:pt x="1390" y="687"/>
                  </a:lnTo>
                  <a:lnTo>
                    <a:pt x="1395" y="692"/>
                  </a:lnTo>
                  <a:lnTo>
                    <a:pt x="1395" y="697"/>
                  </a:lnTo>
                  <a:lnTo>
                    <a:pt x="1395" y="702"/>
                  </a:lnTo>
                  <a:lnTo>
                    <a:pt x="1385" y="707"/>
                  </a:lnTo>
                  <a:lnTo>
                    <a:pt x="1380" y="712"/>
                  </a:lnTo>
                  <a:lnTo>
                    <a:pt x="1375" y="722"/>
                  </a:lnTo>
                  <a:lnTo>
                    <a:pt x="1385" y="727"/>
                  </a:lnTo>
                  <a:lnTo>
                    <a:pt x="1390" y="732"/>
                  </a:lnTo>
                  <a:lnTo>
                    <a:pt x="1395" y="737"/>
                  </a:lnTo>
                  <a:lnTo>
                    <a:pt x="1395" y="742"/>
                  </a:lnTo>
                  <a:lnTo>
                    <a:pt x="1400" y="747"/>
                  </a:lnTo>
                  <a:lnTo>
                    <a:pt x="1400" y="752"/>
                  </a:lnTo>
                  <a:lnTo>
                    <a:pt x="1400" y="757"/>
                  </a:lnTo>
                  <a:lnTo>
                    <a:pt x="1400" y="762"/>
                  </a:lnTo>
                  <a:lnTo>
                    <a:pt x="1405" y="771"/>
                  </a:lnTo>
                  <a:lnTo>
                    <a:pt x="1405" y="776"/>
                  </a:lnTo>
                  <a:lnTo>
                    <a:pt x="1405" y="786"/>
                  </a:lnTo>
                  <a:lnTo>
                    <a:pt x="1410" y="791"/>
                  </a:lnTo>
                  <a:lnTo>
                    <a:pt x="1410" y="791"/>
                  </a:lnTo>
                  <a:lnTo>
                    <a:pt x="1415" y="791"/>
                  </a:lnTo>
                  <a:lnTo>
                    <a:pt x="1415" y="786"/>
                  </a:lnTo>
                  <a:lnTo>
                    <a:pt x="1419" y="776"/>
                  </a:lnTo>
                  <a:close/>
                  <a:moveTo>
                    <a:pt x="317" y="692"/>
                  </a:moveTo>
                  <a:lnTo>
                    <a:pt x="322" y="692"/>
                  </a:lnTo>
                  <a:lnTo>
                    <a:pt x="331" y="692"/>
                  </a:lnTo>
                  <a:lnTo>
                    <a:pt x="336" y="697"/>
                  </a:lnTo>
                  <a:lnTo>
                    <a:pt x="346" y="697"/>
                  </a:lnTo>
                  <a:lnTo>
                    <a:pt x="351" y="697"/>
                  </a:lnTo>
                  <a:lnTo>
                    <a:pt x="361" y="702"/>
                  </a:lnTo>
                  <a:lnTo>
                    <a:pt x="366" y="702"/>
                  </a:lnTo>
                  <a:lnTo>
                    <a:pt x="376" y="702"/>
                  </a:lnTo>
                  <a:lnTo>
                    <a:pt x="381" y="697"/>
                  </a:lnTo>
                  <a:lnTo>
                    <a:pt x="386" y="697"/>
                  </a:lnTo>
                  <a:lnTo>
                    <a:pt x="396" y="692"/>
                  </a:lnTo>
                  <a:lnTo>
                    <a:pt x="401" y="687"/>
                  </a:lnTo>
                  <a:lnTo>
                    <a:pt x="406" y="682"/>
                  </a:lnTo>
                  <a:lnTo>
                    <a:pt x="411" y="677"/>
                  </a:lnTo>
                  <a:lnTo>
                    <a:pt x="416" y="673"/>
                  </a:lnTo>
                  <a:lnTo>
                    <a:pt x="420" y="673"/>
                  </a:lnTo>
                  <a:lnTo>
                    <a:pt x="425" y="668"/>
                  </a:lnTo>
                  <a:lnTo>
                    <a:pt x="430" y="663"/>
                  </a:lnTo>
                  <a:lnTo>
                    <a:pt x="435" y="658"/>
                  </a:lnTo>
                  <a:lnTo>
                    <a:pt x="440" y="658"/>
                  </a:lnTo>
                  <a:lnTo>
                    <a:pt x="445" y="653"/>
                  </a:lnTo>
                  <a:lnTo>
                    <a:pt x="450" y="648"/>
                  </a:lnTo>
                  <a:lnTo>
                    <a:pt x="455" y="643"/>
                  </a:lnTo>
                  <a:lnTo>
                    <a:pt x="460" y="638"/>
                  </a:lnTo>
                  <a:lnTo>
                    <a:pt x="465" y="633"/>
                  </a:lnTo>
                  <a:lnTo>
                    <a:pt x="465" y="628"/>
                  </a:lnTo>
                  <a:lnTo>
                    <a:pt x="470" y="623"/>
                  </a:lnTo>
                  <a:lnTo>
                    <a:pt x="475" y="618"/>
                  </a:lnTo>
                  <a:lnTo>
                    <a:pt x="475" y="613"/>
                  </a:lnTo>
                  <a:lnTo>
                    <a:pt x="480" y="608"/>
                  </a:lnTo>
                  <a:lnTo>
                    <a:pt x="490" y="608"/>
                  </a:lnTo>
                  <a:lnTo>
                    <a:pt x="500" y="608"/>
                  </a:lnTo>
                  <a:lnTo>
                    <a:pt x="505" y="608"/>
                  </a:lnTo>
                  <a:lnTo>
                    <a:pt x="509" y="613"/>
                  </a:lnTo>
                  <a:lnTo>
                    <a:pt x="514" y="618"/>
                  </a:lnTo>
                  <a:lnTo>
                    <a:pt x="514" y="623"/>
                  </a:lnTo>
                  <a:lnTo>
                    <a:pt x="519" y="628"/>
                  </a:lnTo>
                  <a:lnTo>
                    <a:pt x="519" y="633"/>
                  </a:lnTo>
                  <a:lnTo>
                    <a:pt x="519" y="638"/>
                  </a:lnTo>
                  <a:lnTo>
                    <a:pt x="524" y="643"/>
                  </a:lnTo>
                  <a:lnTo>
                    <a:pt x="524" y="648"/>
                  </a:lnTo>
                  <a:lnTo>
                    <a:pt x="529" y="653"/>
                  </a:lnTo>
                  <a:lnTo>
                    <a:pt x="534" y="658"/>
                  </a:lnTo>
                  <a:lnTo>
                    <a:pt x="544" y="653"/>
                  </a:lnTo>
                  <a:lnTo>
                    <a:pt x="549" y="653"/>
                  </a:lnTo>
                  <a:lnTo>
                    <a:pt x="559" y="648"/>
                  </a:lnTo>
                  <a:lnTo>
                    <a:pt x="569" y="643"/>
                  </a:lnTo>
                  <a:lnTo>
                    <a:pt x="574" y="643"/>
                  </a:lnTo>
                  <a:lnTo>
                    <a:pt x="579" y="638"/>
                  </a:lnTo>
                  <a:lnTo>
                    <a:pt x="579" y="633"/>
                  </a:lnTo>
                  <a:lnTo>
                    <a:pt x="584" y="628"/>
                  </a:lnTo>
                  <a:lnTo>
                    <a:pt x="584" y="623"/>
                  </a:lnTo>
                  <a:lnTo>
                    <a:pt x="584" y="618"/>
                  </a:lnTo>
                  <a:lnTo>
                    <a:pt x="584" y="613"/>
                  </a:lnTo>
                  <a:lnTo>
                    <a:pt x="584" y="608"/>
                  </a:lnTo>
                  <a:lnTo>
                    <a:pt x="579" y="603"/>
                  </a:lnTo>
                  <a:lnTo>
                    <a:pt x="579" y="598"/>
                  </a:lnTo>
                  <a:lnTo>
                    <a:pt x="579" y="593"/>
                  </a:lnTo>
                  <a:lnTo>
                    <a:pt x="579" y="584"/>
                  </a:lnTo>
                  <a:lnTo>
                    <a:pt x="579" y="579"/>
                  </a:lnTo>
                  <a:lnTo>
                    <a:pt x="579" y="574"/>
                  </a:lnTo>
                  <a:lnTo>
                    <a:pt x="579" y="569"/>
                  </a:lnTo>
                  <a:lnTo>
                    <a:pt x="584" y="564"/>
                  </a:lnTo>
                  <a:lnTo>
                    <a:pt x="589" y="559"/>
                  </a:lnTo>
                  <a:lnTo>
                    <a:pt x="594" y="559"/>
                  </a:lnTo>
                  <a:lnTo>
                    <a:pt x="599" y="554"/>
                  </a:lnTo>
                  <a:lnTo>
                    <a:pt x="603" y="549"/>
                  </a:lnTo>
                  <a:lnTo>
                    <a:pt x="603" y="544"/>
                  </a:lnTo>
                  <a:lnTo>
                    <a:pt x="603" y="539"/>
                  </a:lnTo>
                  <a:lnTo>
                    <a:pt x="603" y="534"/>
                  </a:lnTo>
                  <a:lnTo>
                    <a:pt x="608" y="524"/>
                  </a:lnTo>
                  <a:lnTo>
                    <a:pt x="608" y="519"/>
                  </a:lnTo>
                  <a:lnTo>
                    <a:pt x="603" y="514"/>
                  </a:lnTo>
                  <a:lnTo>
                    <a:pt x="603" y="509"/>
                  </a:lnTo>
                  <a:lnTo>
                    <a:pt x="603" y="504"/>
                  </a:lnTo>
                  <a:lnTo>
                    <a:pt x="599" y="500"/>
                  </a:lnTo>
                  <a:lnTo>
                    <a:pt x="594" y="495"/>
                  </a:lnTo>
                  <a:lnTo>
                    <a:pt x="594" y="490"/>
                  </a:lnTo>
                  <a:lnTo>
                    <a:pt x="594" y="485"/>
                  </a:lnTo>
                  <a:lnTo>
                    <a:pt x="594" y="480"/>
                  </a:lnTo>
                  <a:lnTo>
                    <a:pt x="594" y="475"/>
                  </a:lnTo>
                  <a:lnTo>
                    <a:pt x="599" y="470"/>
                  </a:lnTo>
                  <a:lnTo>
                    <a:pt x="603" y="470"/>
                  </a:lnTo>
                  <a:lnTo>
                    <a:pt x="613" y="465"/>
                  </a:lnTo>
                  <a:lnTo>
                    <a:pt x="618" y="460"/>
                  </a:lnTo>
                  <a:lnTo>
                    <a:pt x="623" y="455"/>
                  </a:lnTo>
                  <a:lnTo>
                    <a:pt x="628" y="450"/>
                  </a:lnTo>
                  <a:lnTo>
                    <a:pt x="628" y="445"/>
                  </a:lnTo>
                  <a:lnTo>
                    <a:pt x="633" y="440"/>
                  </a:lnTo>
                  <a:lnTo>
                    <a:pt x="638" y="440"/>
                  </a:lnTo>
                  <a:lnTo>
                    <a:pt x="643" y="435"/>
                  </a:lnTo>
                  <a:lnTo>
                    <a:pt x="648" y="430"/>
                  </a:lnTo>
                  <a:lnTo>
                    <a:pt x="653" y="425"/>
                  </a:lnTo>
                  <a:lnTo>
                    <a:pt x="658" y="420"/>
                  </a:lnTo>
                  <a:lnTo>
                    <a:pt x="663" y="416"/>
                  </a:lnTo>
                  <a:lnTo>
                    <a:pt x="668" y="411"/>
                  </a:lnTo>
                  <a:lnTo>
                    <a:pt x="673" y="406"/>
                  </a:lnTo>
                  <a:lnTo>
                    <a:pt x="678" y="406"/>
                  </a:lnTo>
                  <a:lnTo>
                    <a:pt x="683" y="401"/>
                  </a:lnTo>
                  <a:lnTo>
                    <a:pt x="683" y="396"/>
                  </a:lnTo>
                  <a:lnTo>
                    <a:pt x="688" y="391"/>
                  </a:lnTo>
                  <a:lnTo>
                    <a:pt x="692" y="386"/>
                  </a:lnTo>
                  <a:lnTo>
                    <a:pt x="697" y="381"/>
                  </a:lnTo>
                  <a:lnTo>
                    <a:pt x="702" y="376"/>
                  </a:lnTo>
                  <a:lnTo>
                    <a:pt x="707" y="376"/>
                  </a:lnTo>
                  <a:lnTo>
                    <a:pt x="712" y="371"/>
                  </a:lnTo>
                  <a:lnTo>
                    <a:pt x="717" y="366"/>
                  </a:lnTo>
                  <a:lnTo>
                    <a:pt x="722" y="361"/>
                  </a:lnTo>
                  <a:lnTo>
                    <a:pt x="727" y="356"/>
                  </a:lnTo>
                  <a:lnTo>
                    <a:pt x="732" y="351"/>
                  </a:lnTo>
                  <a:lnTo>
                    <a:pt x="742" y="351"/>
                  </a:lnTo>
                  <a:lnTo>
                    <a:pt x="747" y="346"/>
                  </a:lnTo>
                  <a:lnTo>
                    <a:pt x="752" y="341"/>
                  </a:lnTo>
                  <a:lnTo>
                    <a:pt x="757" y="336"/>
                  </a:lnTo>
                  <a:lnTo>
                    <a:pt x="762" y="336"/>
                  </a:lnTo>
                  <a:lnTo>
                    <a:pt x="767" y="331"/>
                  </a:lnTo>
                  <a:lnTo>
                    <a:pt x="772" y="327"/>
                  </a:lnTo>
                  <a:lnTo>
                    <a:pt x="777" y="322"/>
                  </a:lnTo>
                  <a:lnTo>
                    <a:pt x="781" y="317"/>
                  </a:lnTo>
                  <a:lnTo>
                    <a:pt x="786" y="312"/>
                  </a:lnTo>
                  <a:lnTo>
                    <a:pt x="791" y="307"/>
                  </a:lnTo>
                  <a:lnTo>
                    <a:pt x="796" y="307"/>
                  </a:lnTo>
                  <a:lnTo>
                    <a:pt x="801" y="302"/>
                  </a:lnTo>
                  <a:lnTo>
                    <a:pt x="801" y="297"/>
                  </a:lnTo>
                  <a:lnTo>
                    <a:pt x="806" y="292"/>
                  </a:lnTo>
                  <a:lnTo>
                    <a:pt x="811" y="287"/>
                  </a:lnTo>
                  <a:lnTo>
                    <a:pt x="821" y="282"/>
                  </a:lnTo>
                  <a:lnTo>
                    <a:pt x="826" y="282"/>
                  </a:lnTo>
                  <a:lnTo>
                    <a:pt x="836" y="277"/>
                  </a:lnTo>
                  <a:lnTo>
                    <a:pt x="841" y="277"/>
                  </a:lnTo>
                  <a:lnTo>
                    <a:pt x="846" y="272"/>
                  </a:lnTo>
                  <a:lnTo>
                    <a:pt x="851" y="267"/>
                  </a:lnTo>
                  <a:lnTo>
                    <a:pt x="856" y="262"/>
                  </a:lnTo>
                  <a:lnTo>
                    <a:pt x="856" y="257"/>
                  </a:lnTo>
                  <a:lnTo>
                    <a:pt x="861" y="252"/>
                  </a:lnTo>
                  <a:lnTo>
                    <a:pt x="866" y="247"/>
                  </a:lnTo>
                  <a:lnTo>
                    <a:pt x="871" y="247"/>
                  </a:lnTo>
                  <a:lnTo>
                    <a:pt x="880" y="243"/>
                  </a:lnTo>
                  <a:lnTo>
                    <a:pt x="885" y="238"/>
                  </a:lnTo>
                  <a:lnTo>
                    <a:pt x="890" y="233"/>
                  </a:lnTo>
                  <a:lnTo>
                    <a:pt x="895" y="228"/>
                  </a:lnTo>
                  <a:lnTo>
                    <a:pt x="900" y="223"/>
                  </a:lnTo>
                  <a:lnTo>
                    <a:pt x="900" y="223"/>
                  </a:lnTo>
                  <a:lnTo>
                    <a:pt x="905" y="218"/>
                  </a:lnTo>
                  <a:lnTo>
                    <a:pt x="910" y="213"/>
                  </a:lnTo>
                  <a:lnTo>
                    <a:pt x="915" y="208"/>
                  </a:lnTo>
                  <a:lnTo>
                    <a:pt x="920" y="203"/>
                  </a:lnTo>
                  <a:lnTo>
                    <a:pt x="925" y="198"/>
                  </a:lnTo>
                  <a:lnTo>
                    <a:pt x="930" y="193"/>
                  </a:lnTo>
                  <a:lnTo>
                    <a:pt x="935" y="188"/>
                  </a:lnTo>
                  <a:lnTo>
                    <a:pt x="940" y="188"/>
                  </a:lnTo>
                  <a:lnTo>
                    <a:pt x="945" y="183"/>
                  </a:lnTo>
                  <a:lnTo>
                    <a:pt x="945" y="178"/>
                  </a:lnTo>
                  <a:lnTo>
                    <a:pt x="950" y="173"/>
                  </a:lnTo>
                  <a:lnTo>
                    <a:pt x="950" y="168"/>
                  </a:lnTo>
                  <a:lnTo>
                    <a:pt x="955" y="163"/>
                  </a:lnTo>
                  <a:lnTo>
                    <a:pt x="955" y="154"/>
                  </a:lnTo>
                  <a:lnTo>
                    <a:pt x="960" y="154"/>
                  </a:lnTo>
                  <a:lnTo>
                    <a:pt x="964" y="149"/>
                  </a:lnTo>
                  <a:lnTo>
                    <a:pt x="974" y="149"/>
                  </a:lnTo>
                  <a:lnTo>
                    <a:pt x="979" y="149"/>
                  </a:lnTo>
                  <a:lnTo>
                    <a:pt x="989" y="144"/>
                  </a:lnTo>
                  <a:lnTo>
                    <a:pt x="999" y="144"/>
                  </a:lnTo>
                  <a:lnTo>
                    <a:pt x="1004" y="139"/>
                  </a:lnTo>
                  <a:lnTo>
                    <a:pt x="1009" y="139"/>
                  </a:lnTo>
                  <a:lnTo>
                    <a:pt x="1019" y="139"/>
                  </a:lnTo>
                  <a:lnTo>
                    <a:pt x="1029" y="134"/>
                  </a:lnTo>
                  <a:lnTo>
                    <a:pt x="1034" y="134"/>
                  </a:lnTo>
                  <a:lnTo>
                    <a:pt x="1039" y="129"/>
                  </a:lnTo>
                  <a:lnTo>
                    <a:pt x="1049" y="124"/>
                  </a:lnTo>
                  <a:lnTo>
                    <a:pt x="1053" y="124"/>
                  </a:lnTo>
                  <a:lnTo>
                    <a:pt x="1063" y="119"/>
                  </a:lnTo>
                  <a:lnTo>
                    <a:pt x="1068" y="119"/>
                  </a:lnTo>
                  <a:lnTo>
                    <a:pt x="1078" y="119"/>
                  </a:lnTo>
                  <a:lnTo>
                    <a:pt x="1083" y="114"/>
                  </a:lnTo>
                  <a:lnTo>
                    <a:pt x="1093" y="114"/>
                  </a:lnTo>
                  <a:lnTo>
                    <a:pt x="1098" y="114"/>
                  </a:lnTo>
                  <a:lnTo>
                    <a:pt x="1108" y="109"/>
                  </a:lnTo>
                  <a:lnTo>
                    <a:pt x="1113" y="109"/>
                  </a:lnTo>
                  <a:lnTo>
                    <a:pt x="1123" y="109"/>
                  </a:lnTo>
                  <a:lnTo>
                    <a:pt x="1128" y="104"/>
                  </a:lnTo>
                  <a:lnTo>
                    <a:pt x="1138" y="104"/>
                  </a:lnTo>
                  <a:lnTo>
                    <a:pt x="1143" y="99"/>
                  </a:lnTo>
                  <a:lnTo>
                    <a:pt x="1147" y="94"/>
                  </a:lnTo>
                  <a:lnTo>
                    <a:pt x="1152" y="89"/>
                  </a:lnTo>
                  <a:lnTo>
                    <a:pt x="1162" y="89"/>
                  </a:lnTo>
                  <a:lnTo>
                    <a:pt x="1167" y="89"/>
                  </a:lnTo>
                  <a:lnTo>
                    <a:pt x="1177" y="84"/>
                  </a:lnTo>
                  <a:lnTo>
                    <a:pt x="1182" y="84"/>
                  </a:lnTo>
                  <a:lnTo>
                    <a:pt x="1192" y="84"/>
                  </a:lnTo>
                  <a:lnTo>
                    <a:pt x="1202" y="84"/>
                  </a:lnTo>
                  <a:lnTo>
                    <a:pt x="1207" y="79"/>
                  </a:lnTo>
                  <a:lnTo>
                    <a:pt x="1217" y="79"/>
                  </a:lnTo>
                  <a:lnTo>
                    <a:pt x="1227" y="79"/>
                  </a:lnTo>
                  <a:lnTo>
                    <a:pt x="1232" y="74"/>
                  </a:lnTo>
                  <a:lnTo>
                    <a:pt x="1236" y="74"/>
                  </a:lnTo>
                  <a:lnTo>
                    <a:pt x="1241" y="70"/>
                  </a:lnTo>
                  <a:lnTo>
                    <a:pt x="1241" y="65"/>
                  </a:lnTo>
                  <a:lnTo>
                    <a:pt x="1246" y="60"/>
                  </a:lnTo>
                  <a:lnTo>
                    <a:pt x="1256" y="55"/>
                  </a:lnTo>
                  <a:lnTo>
                    <a:pt x="1261" y="55"/>
                  </a:lnTo>
                  <a:lnTo>
                    <a:pt x="1271" y="55"/>
                  </a:lnTo>
                  <a:lnTo>
                    <a:pt x="1276" y="50"/>
                  </a:lnTo>
                  <a:lnTo>
                    <a:pt x="1281" y="45"/>
                  </a:lnTo>
                  <a:lnTo>
                    <a:pt x="1286" y="40"/>
                  </a:lnTo>
                  <a:lnTo>
                    <a:pt x="1291" y="35"/>
                  </a:lnTo>
                  <a:lnTo>
                    <a:pt x="1296" y="35"/>
                  </a:lnTo>
                  <a:lnTo>
                    <a:pt x="1306" y="30"/>
                  </a:lnTo>
                  <a:lnTo>
                    <a:pt x="1311" y="25"/>
                  </a:lnTo>
                  <a:lnTo>
                    <a:pt x="1311" y="20"/>
                  </a:lnTo>
                  <a:lnTo>
                    <a:pt x="1306" y="15"/>
                  </a:lnTo>
                  <a:lnTo>
                    <a:pt x="1296" y="10"/>
                  </a:lnTo>
                  <a:lnTo>
                    <a:pt x="1296" y="5"/>
                  </a:lnTo>
                  <a:lnTo>
                    <a:pt x="1291" y="5"/>
                  </a:lnTo>
                  <a:lnTo>
                    <a:pt x="1286" y="0"/>
                  </a:lnTo>
                  <a:lnTo>
                    <a:pt x="1276" y="0"/>
                  </a:lnTo>
                  <a:lnTo>
                    <a:pt x="1251" y="0"/>
                  </a:lnTo>
                  <a:lnTo>
                    <a:pt x="1222" y="0"/>
                  </a:lnTo>
                  <a:lnTo>
                    <a:pt x="1197" y="0"/>
                  </a:lnTo>
                  <a:lnTo>
                    <a:pt x="1172" y="0"/>
                  </a:lnTo>
                  <a:lnTo>
                    <a:pt x="1143" y="0"/>
                  </a:lnTo>
                  <a:lnTo>
                    <a:pt x="1118" y="0"/>
                  </a:lnTo>
                  <a:lnTo>
                    <a:pt x="1088" y="0"/>
                  </a:lnTo>
                  <a:lnTo>
                    <a:pt x="1063" y="0"/>
                  </a:lnTo>
                  <a:lnTo>
                    <a:pt x="1039" y="0"/>
                  </a:lnTo>
                  <a:lnTo>
                    <a:pt x="1009" y="0"/>
                  </a:lnTo>
                  <a:lnTo>
                    <a:pt x="984" y="0"/>
                  </a:lnTo>
                  <a:lnTo>
                    <a:pt x="955" y="0"/>
                  </a:lnTo>
                  <a:lnTo>
                    <a:pt x="930" y="0"/>
                  </a:lnTo>
                  <a:lnTo>
                    <a:pt x="905" y="0"/>
                  </a:lnTo>
                  <a:lnTo>
                    <a:pt x="875" y="0"/>
                  </a:lnTo>
                  <a:lnTo>
                    <a:pt x="851" y="0"/>
                  </a:lnTo>
                  <a:lnTo>
                    <a:pt x="826" y="0"/>
                  </a:lnTo>
                  <a:lnTo>
                    <a:pt x="796" y="0"/>
                  </a:lnTo>
                  <a:lnTo>
                    <a:pt x="772" y="0"/>
                  </a:lnTo>
                  <a:lnTo>
                    <a:pt x="742" y="0"/>
                  </a:lnTo>
                  <a:lnTo>
                    <a:pt x="717" y="0"/>
                  </a:lnTo>
                  <a:lnTo>
                    <a:pt x="692" y="0"/>
                  </a:lnTo>
                  <a:lnTo>
                    <a:pt x="663" y="0"/>
                  </a:lnTo>
                  <a:lnTo>
                    <a:pt x="638" y="0"/>
                  </a:lnTo>
                  <a:lnTo>
                    <a:pt x="613" y="0"/>
                  </a:lnTo>
                  <a:lnTo>
                    <a:pt x="584" y="25"/>
                  </a:lnTo>
                  <a:lnTo>
                    <a:pt x="559" y="55"/>
                  </a:lnTo>
                  <a:lnTo>
                    <a:pt x="529" y="79"/>
                  </a:lnTo>
                  <a:lnTo>
                    <a:pt x="505" y="104"/>
                  </a:lnTo>
                  <a:lnTo>
                    <a:pt x="480" y="134"/>
                  </a:lnTo>
                  <a:lnTo>
                    <a:pt x="450" y="134"/>
                  </a:lnTo>
                  <a:lnTo>
                    <a:pt x="425" y="159"/>
                  </a:lnTo>
                  <a:lnTo>
                    <a:pt x="396" y="188"/>
                  </a:lnTo>
                  <a:lnTo>
                    <a:pt x="371" y="213"/>
                  </a:lnTo>
                  <a:lnTo>
                    <a:pt x="346" y="238"/>
                  </a:lnTo>
                  <a:lnTo>
                    <a:pt x="317" y="267"/>
                  </a:lnTo>
                  <a:lnTo>
                    <a:pt x="317" y="292"/>
                  </a:lnTo>
                  <a:lnTo>
                    <a:pt x="317" y="297"/>
                  </a:lnTo>
                  <a:lnTo>
                    <a:pt x="312" y="302"/>
                  </a:lnTo>
                  <a:lnTo>
                    <a:pt x="307" y="307"/>
                  </a:lnTo>
                  <a:lnTo>
                    <a:pt x="307" y="312"/>
                  </a:lnTo>
                  <a:lnTo>
                    <a:pt x="302" y="312"/>
                  </a:lnTo>
                  <a:lnTo>
                    <a:pt x="302" y="317"/>
                  </a:lnTo>
                  <a:lnTo>
                    <a:pt x="297" y="322"/>
                  </a:lnTo>
                  <a:lnTo>
                    <a:pt x="292" y="327"/>
                  </a:lnTo>
                  <a:lnTo>
                    <a:pt x="287" y="331"/>
                  </a:lnTo>
                  <a:lnTo>
                    <a:pt x="287" y="336"/>
                  </a:lnTo>
                  <a:lnTo>
                    <a:pt x="282" y="341"/>
                  </a:lnTo>
                  <a:lnTo>
                    <a:pt x="277" y="346"/>
                  </a:lnTo>
                  <a:lnTo>
                    <a:pt x="272" y="351"/>
                  </a:lnTo>
                  <a:lnTo>
                    <a:pt x="272" y="351"/>
                  </a:lnTo>
                  <a:lnTo>
                    <a:pt x="267" y="356"/>
                  </a:lnTo>
                  <a:lnTo>
                    <a:pt x="262" y="361"/>
                  </a:lnTo>
                  <a:lnTo>
                    <a:pt x="262" y="366"/>
                  </a:lnTo>
                  <a:lnTo>
                    <a:pt x="257" y="371"/>
                  </a:lnTo>
                  <a:lnTo>
                    <a:pt x="252" y="376"/>
                  </a:lnTo>
                  <a:lnTo>
                    <a:pt x="247" y="381"/>
                  </a:lnTo>
                  <a:lnTo>
                    <a:pt x="247" y="386"/>
                  </a:lnTo>
                  <a:lnTo>
                    <a:pt x="242" y="386"/>
                  </a:lnTo>
                  <a:lnTo>
                    <a:pt x="237" y="391"/>
                  </a:lnTo>
                  <a:lnTo>
                    <a:pt x="233" y="396"/>
                  </a:lnTo>
                  <a:lnTo>
                    <a:pt x="233" y="401"/>
                  </a:lnTo>
                  <a:lnTo>
                    <a:pt x="228" y="406"/>
                  </a:lnTo>
                  <a:lnTo>
                    <a:pt x="223" y="411"/>
                  </a:lnTo>
                  <a:lnTo>
                    <a:pt x="218" y="416"/>
                  </a:lnTo>
                  <a:lnTo>
                    <a:pt x="213" y="420"/>
                  </a:lnTo>
                  <a:lnTo>
                    <a:pt x="208" y="420"/>
                  </a:lnTo>
                  <a:lnTo>
                    <a:pt x="203" y="425"/>
                  </a:lnTo>
                  <a:lnTo>
                    <a:pt x="203" y="430"/>
                  </a:lnTo>
                  <a:lnTo>
                    <a:pt x="198" y="435"/>
                  </a:lnTo>
                  <a:lnTo>
                    <a:pt x="193" y="440"/>
                  </a:lnTo>
                  <a:lnTo>
                    <a:pt x="193" y="445"/>
                  </a:lnTo>
                  <a:lnTo>
                    <a:pt x="188" y="450"/>
                  </a:lnTo>
                  <a:lnTo>
                    <a:pt x="188" y="455"/>
                  </a:lnTo>
                  <a:lnTo>
                    <a:pt x="188" y="460"/>
                  </a:lnTo>
                  <a:lnTo>
                    <a:pt x="183" y="465"/>
                  </a:lnTo>
                  <a:lnTo>
                    <a:pt x="183" y="470"/>
                  </a:lnTo>
                  <a:lnTo>
                    <a:pt x="183" y="475"/>
                  </a:lnTo>
                  <a:lnTo>
                    <a:pt x="178" y="480"/>
                  </a:lnTo>
                  <a:lnTo>
                    <a:pt x="178" y="485"/>
                  </a:lnTo>
                  <a:lnTo>
                    <a:pt x="173" y="490"/>
                  </a:lnTo>
                  <a:lnTo>
                    <a:pt x="173" y="490"/>
                  </a:lnTo>
                  <a:lnTo>
                    <a:pt x="168" y="495"/>
                  </a:lnTo>
                  <a:lnTo>
                    <a:pt x="168" y="500"/>
                  </a:lnTo>
                  <a:lnTo>
                    <a:pt x="163" y="504"/>
                  </a:lnTo>
                  <a:lnTo>
                    <a:pt x="163" y="509"/>
                  </a:lnTo>
                  <a:lnTo>
                    <a:pt x="163" y="514"/>
                  </a:lnTo>
                  <a:lnTo>
                    <a:pt x="168" y="519"/>
                  </a:lnTo>
                  <a:lnTo>
                    <a:pt x="168" y="524"/>
                  </a:lnTo>
                  <a:lnTo>
                    <a:pt x="163" y="529"/>
                  </a:lnTo>
                  <a:lnTo>
                    <a:pt x="158" y="534"/>
                  </a:lnTo>
                  <a:lnTo>
                    <a:pt x="153" y="534"/>
                  </a:lnTo>
                  <a:lnTo>
                    <a:pt x="148" y="529"/>
                  </a:lnTo>
                  <a:lnTo>
                    <a:pt x="148" y="524"/>
                  </a:lnTo>
                  <a:lnTo>
                    <a:pt x="144" y="519"/>
                  </a:lnTo>
                  <a:lnTo>
                    <a:pt x="144" y="514"/>
                  </a:lnTo>
                  <a:lnTo>
                    <a:pt x="139" y="509"/>
                  </a:lnTo>
                  <a:lnTo>
                    <a:pt x="134" y="509"/>
                  </a:lnTo>
                  <a:lnTo>
                    <a:pt x="124" y="509"/>
                  </a:lnTo>
                  <a:lnTo>
                    <a:pt x="119" y="504"/>
                  </a:lnTo>
                  <a:lnTo>
                    <a:pt x="114" y="500"/>
                  </a:lnTo>
                  <a:lnTo>
                    <a:pt x="109" y="500"/>
                  </a:lnTo>
                  <a:lnTo>
                    <a:pt x="99" y="495"/>
                  </a:lnTo>
                  <a:lnTo>
                    <a:pt x="94" y="495"/>
                  </a:lnTo>
                  <a:lnTo>
                    <a:pt x="84" y="495"/>
                  </a:lnTo>
                  <a:lnTo>
                    <a:pt x="79" y="495"/>
                  </a:lnTo>
                  <a:lnTo>
                    <a:pt x="74" y="490"/>
                  </a:lnTo>
                  <a:lnTo>
                    <a:pt x="74" y="485"/>
                  </a:lnTo>
                  <a:lnTo>
                    <a:pt x="55" y="504"/>
                  </a:lnTo>
                  <a:lnTo>
                    <a:pt x="25" y="504"/>
                  </a:lnTo>
                  <a:lnTo>
                    <a:pt x="0" y="534"/>
                  </a:lnTo>
                  <a:lnTo>
                    <a:pt x="0" y="559"/>
                  </a:lnTo>
                  <a:lnTo>
                    <a:pt x="0" y="589"/>
                  </a:lnTo>
                  <a:lnTo>
                    <a:pt x="0" y="603"/>
                  </a:lnTo>
                  <a:lnTo>
                    <a:pt x="5" y="598"/>
                  </a:lnTo>
                  <a:lnTo>
                    <a:pt x="10" y="598"/>
                  </a:lnTo>
                  <a:lnTo>
                    <a:pt x="15" y="593"/>
                  </a:lnTo>
                  <a:lnTo>
                    <a:pt x="15" y="589"/>
                  </a:lnTo>
                  <a:lnTo>
                    <a:pt x="20" y="584"/>
                  </a:lnTo>
                  <a:lnTo>
                    <a:pt x="25" y="579"/>
                  </a:lnTo>
                  <a:lnTo>
                    <a:pt x="30" y="579"/>
                  </a:lnTo>
                  <a:lnTo>
                    <a:pt x="35" y="584"/>
                  </a:lnTo>
                  <a:lnTo>
                    <a:pt x="40" y="589"/>
                  </a:lnTo>
                  <a:lnTo>
                    <a:pt x="45" y="593"/>
                  </a:lnTo>
                  <a:lnTo>
                    <a:pt x="45" y="598"/>
                  </a:lnTo>
                  <a:lnTo>
                    <a:pt x="50" y="603"/>
                  </a:lnTo>
                  <a:lnTo>
                    <a:pt x="50" y="608"/>
                  </a:lnTo>
                  <a:lnTo>
                    <a:pt x="50" y="613"/>
                  </a:lnTo>
                  <a:lnTo>
                    <a:pt x="45" y="623"/>
                  </a:lnTo>
                  <a:lnTo>
                    <a:pt x="45" y="628"/>
                  </a:lnTo>
                  <a:lnTo>
                    <a:pt x="40" y="633"/>
                  </a:lnTo>
                  <a:lnTo>
                    <a:pt x="35" y="638"/>
                  </a:lnTo>
                  <a:lnTo>
                    <a:pt x="30" y="638"/>
                  </a:lnTo>
                  <a:lnTo>
                    <a:pt x="20" y="638"/>
                  </a:lnTo>
                  <a:lnTo>
                    <a:pt x="25" y="643"/>
                  </a:lnTo>
                  <a:lnTo>
                    <a:pt x="25" y="668"/>
                  </a:lnTo>
                  <a:lnTo>
                    <a:pt x="30" y="668"/>
                  </a:lnTo>
                  <a:lnTo>
                    <a:pt x="35" y="668"/>
                  </a:lnTo>
                  <a:lnTo>
                    <a:pt x="40" y="663"/>
                  </a:lnTo>
                  <a:lnTo>
                    <a:pt x="50" y="663"/>
                  </a:lnTo>
                  <a:lnTo>
                    <a:pt x="55" y="658"/>
                  </a:lnTo>
                  <a:lnTo>
                    <a:pt x="64" y="663"/>
                  </a:lnTo>
                  <a:lnTo>
                    <a:pt x="74" y="663"/>
                  </a:lnTo>
                  <a:lnTo>
                    <a:pt x="79" y="663"/>
                  </a:lnTo>
                  <a:lnTo>
                    <a:pt x="89" y="663"/>
                  </a:lnTo>
                  <a:lnTo>
                    <a:pt x="99" y="663"/>
                  </a:lnTo>
                  <a:lnTo>
                    <a:pt x="104" y="663"/>
                  </a:lnTo>
                  <a:lnTo>
                    <a:pt x="114" y="663"/>
                  </a:lnTo>
                  <a:lnTo>
                    <a:pt x="119" y="663"/>
                  </a:lnTo>
                  <a:lnTo>
                    <a:pt x="129" y="663"/>
                  </a:lnTo>
                  <a:lnTo>
                    <a:pt x="139" y="663"/>
                  </a:lnTo>
                  <a:lnTo>
                    <a:pt x="144" y="663"/>
                  </a:lnTo>
                  <a:lnTo>
                    <a:pt x="153" y="663"/>
                  </a:lnTo>
                  <a:lnTo>
                    <a:pt x="158" y="658"/>
                  </a:lnTo>
                  <a:lnTo>
                    <a:pt x="163" y="653"/>
                  </a:lnTo>
                  <a:lnTo>
                    <a:pt x="168" y="648"/>
                  </a:lnTo>
                  <a:lnTo>
                    <a:pt x="168" y="643"/>
                  </a:lnTo>
                  <a:lnTo>
                    <a:pt x="168" y="638"/>
                  </a:lnTo>
                  <a:lnTo>
                    <a:pt x="168" y="633"/>
                  </a:lnTo>
                  <a:lnTo>
                    <a:pt x="168" y="628"/>
                  </a:lnTo>
                  <a:lnTo>
                    <a:pt x="168" y="623"/>
                  </a:lnTo>
                  <a:lnTo>
                    <a:pt x="168" y="618"/>
                  </a:lnTo>
                  <a:lnTo>
                    <a:pt x="173" y="613"/>
                  </a:lnTo>
                  <a:lnTo>
                    <a:pt x="183" y="613"/>
                  </a:lnTo>
                  <a:lnTo>
                    <a:pt x="188" y="608"/>
                  </a:lnTo>
                  <a:lnTo>
                    <a:pt x="198" y="613"/>
                  </a:lnTo>
                  <a:lnTo>
                    <a:pt x="203" y="618"/>
                  </a:lnTo>
                  <a:lnTo>
                    <a:pt x="208" y="618"/>
                  </a:lnTo>
                  <a:lnTo>
                    <a:pt x="213" y="623"/>
                  </a:lnTo>
                  <a:lnTo>
                    <a:pt x="218" y="628"/>
                  </a:lnTo>
                  <a:lnTo>
                    <a:pt x="223" y="633"/>
                  </a:lnTo>
                  <a:lnTo>
                    <a:pt x="228" y="638"/>
                  </a:lnTo>
                  <a:lnTo>
                    <a:pt x="233" y="638"/>
                  </a:lnTo>
                  <a:lnTo>
                    <a:pt x="237" y="643"/>
                  </a:lnTo>
                  <a:lnTo>
                    <a:pt x="237" y="648"/>
                  </a:lnTo>
                  <a:lnTo>
                    <a:pt x="233" y="653"/>
                  </a:lnTo>
                  <a:lnTo>
                    <a:pt x="233" y="658"/>
                  </a:lnTo>
                  <a:lnTo>
                    <a:pt x="233" y="668"/>
                  </a:lnTo>
                  <a:lnTo>
                    <a:pt x="228" y="673"/>
                  </a:lnTo>
                  <a:lnTo>
                    <a:pt x="233" y="677"/>
                  </a:lnTo>
                  <a:lnTo>
                    <a:pt x="233" y="682"/>
                  </a:lnTo>
                  <a:lnTo>
                    <a:pt x="237" y="687"/>
                  </a:lnTo>
                  <a:lnTo>
                    <a:pt x="242" y="687"/>
                  </a:lnTo>
                  <a:lnTo>
                    <a:pt x="247" y="692"/>
                  </a:lnTo>
                  <a:lnTo>
                    <a:pt x="257" y="692"/>
                  </a:lnTo>
                  <a:lnTo>
                    <a:pt x="267" y="692"/>
                  </a:lnTo>
                  <a:lnTo>
                    <a:pt x="272" y="697"/>
                  </a:lnTo>
                  <a:lnTo>
                    <a:pt x="282" y="697"/>
                  </a:lnTo>
                  <a:lnTo>
                    <a:pt x="287" y="702"/>
                  </a:lnTo>
                  <a:lnTo>
                    <a:pt x="292" y="702"/>
                  </a:lnTo>
                  <a:lnTo>
                    <a:pt x="302" y="702"/>
                  </a:lnTo>
                  <a:lnTo>
                    <a:pt x="307" y="697"/>
                  </a:lnTo>
                  <a:lnTo>
                    <a:pt x="317" y="692"/>
                  </a:lnTo>
                  <a:close/>
                  <a:moveTo>
                    <a:pt x="188" y="668"/>
                  </a:moveTo>
                  <a:lnTo>
                    <a:pt x="188" y="668"/>
                  </a:lnTo>
                  <a:lnTo>
                    <a:pt x="188" y="668"/>
                  </a:lnTo>
                  <a:lnTo>
                    <a:pt x="183" y="663"/>
                  </a:lnTo>
                  <a:lnTo>
                    <a:pt x="183" y="663"/>
                  </a:lnTo>
                  <a:lnTo>
                    <a:pt x="183" y="663"/>
                  </a:lnTo>
                  <a:lnTo>
                    <a:pt x="183" y="668"/>
                  </a:lnTo>
                  <a:lnTo>
                    <a:pt x="178" y="668"/>
                  </a:lnTo>
                  <a:lnTo>
                    <a:pt x="178" y="668"/>
                  </a:lnTo>
                  <a:lnTo>
                    <a:pt x="178" y="668"/>
                  </a:lnTo>
                  <a:lnTo>
                    <a:pt x="183" y="668"/>
                  </a:lnTo>
                  <a:lnTo>
                    <a:pt x="183" y="668"/>
                  </a:lnTo>
                  <a:lnTo>
                    <a:pt x="183" y="668"/>
                  </a:lnTo>
                  <a:lnTo>
                    <a:pt x="183" y="668"/>
                  </a:lnTo>
                  <a:lnTo>
                    <a:pt x="188" y="668"/>
                  </a:lnTo>
                  <a:close/>
                  <a:moveTo>
                    <a:pt x="905" y="589"/>
                  </a:moveTo>
                  <a:lnTo>
                    <a:pt x="905" y="584"/>
                  </a:lnTo>
                  <a:lnTo>
                    <a:pt x="905" y="579"/>
                  </a:lnTo>
                  <a:lnTo>
                    <a:pt x="905" y="569"/>
                  </a:lnTo>
                  <a:lnTo>
                    <a:pt x="905" y="564"/>
                  </a:lnTo>
                  <a:lnTo>
                    <a:pt x="905" y="559"/>
                  </a:lnTo>
                  <a:lnTo>
                    <a:pt x="905" y="554"/>
                  </a:lnTo>
                  <a:lnTo>
                    <a:pt x="905" y="549"/>
                  </a:lnTo>
                  <a:lnTo>
                    <a:pt x="905" y="544"/>
                  </a:lnTo>
                  <a:lnTo>
                    <a:pt x="905" y="539"/>
                  </a:lnTo>
                  <a:lnTo>
                    <a:pt x="905" y="534"/>
                  </a:lnTo>
                  <a:lnTo>
                    <a:pt x="905" y="529"/>
                  </a:lnTo>
                  <a:lnTo>
                    <a:pt x="905" y="519"/>
                  </a:lnTo>
                  <a:lnTo>
                    <a:pt x="905" y="514"/>
                  </a:lnTo>
                  <a:lnTo>
                    <a:pt x="900" y="514"/>
                  </a:lnTo>
                  <a:lnTo>
                    <a:pt x="895" y="519"/>
                  </a:lnTo>
                  <a:lnTo>
                    <a:pt x="890" y="519"/>
                  </a:lnTo>
                  <a:lnTo>
                    <a:pt x="885" y="529"/>
                  </a:lnTo>
                  <a:lnTo>
                    <a:pt x="880" y="534"/>
                  </a:lnTo>
                  <a:lnTo>
                    <a:pt x="875" y="539"/>
                  </a:lnTo>
                  <a:lnTo>
                    <a:pt x="875" y="544"/>
                  </a:lnTo>
                  <a:lnTo>
                    <a:pt x="871" y="549"/>
                  </a:lnTo>
                  <a:lnTo>
                    <a:pt x="866" y="554"/>
                  </a:lnTo>
                  <a:lnTo>
                    <a:pt x="866" y="559"/>
                  </a:lnTo>
                  <a:lnTo>
                    <a:pt x="866" y="564"/>
                  </a:lnTo>
                  <a:lnTo>
                    <a:pt x="866" y="569"/>
                  </a:lnTo>
                  <a:lnTo>
                    <a:pt x="871" y="574"/>
                  </a:lnTo>
                  <a:lnTo>
                    <a:pt x="875" y="579"/>
                  </a:lnTo>
                  <a:lnTo>
                    <a:pt x="880" y="584"/>
                  </a:lnTo>
                  <a:lnTo>
                    <a:pt x="885" y="584"/>
                  </a:lnTo>
                  <a:lnTo>
                    <a:pt x="895" y="589"/>
                  </a:lnTo>
                  <a:lnTo>
                    <a:pt x="900" y="589"/>
                  </a:lnTo>
                  <a:lnTo>
                    <a:pt x="905" y="589"/>
                  </a:lnTo>
                  <a:close/>
                  <a:moveTo>
                    <a:pt x="1068" y="589"/>
                  </a:moveTo>
                  <a:lnTo>
                    <a:pt x="1068" y="584"/>
                  </a:lnTo>
                  <a:lnTo>
                    <a:pt x="1068" y="574"/>
                  </a:lnTo>
                  <a:lnTo>
                    <a:pt x="1068" y="569"/>
                  </a:lnTo>
                  <a:lnTo>
                    <a:pt x="1068" y="564"/>
                  </a:lnTo>
                  <a:lnTo>
                    <a:pt x="1063" y="554"/>
                  </a:lnTo>
                  <a:lnTo>
                    <a:pt x="1063" y="544"/>
                  </a:lnTo>
                  <a:lnTo>
                    <a:pt x="1063" y="544"/>
                  </a:lnTo>
                  <a:lnTo>
                    <a:pt x="1063" y="544"/>
                  </a:lnTo>
                  <a:lnTo>
                    <a:pt x="1063" y="554"/>
                  </a:lnTo>
                  <a:lnTo>
                    <a:pt x="1063" y="559"/>
                  </a:lnTo>
                  <a:lnTo>
                    <a:pt x="1058" y="569"/>
                  </a:lnTo>
                  <a:lnTo>
                    <a:pt x="1058" y="574"/>
                  </a:lnTo>
                  <a:lnTo>
                    <a:pt x="1058" y="579"/>
                  </a:lnTo>
                  <a:lnTo>
                    <a:pt x="1058" y="584"/>
                  </a:lnTo>
                  <a:lnTo>
                    <a:pt x="1063" y="593"/>
                  </a:lnTo>
                  <a:lnTo>
                    <a:pt x="1063" y="598"/>
                  </a:lnTo>
                  <a:lnTo>
                    <a:pt x="1063" y="603"/>
                  </a:lnTo>
                  <a:lnTo>
                    <a:pt x="1063" y="603"/>
                  </a:lnTo>
                  <a:lnTo>
                    <a:pt x="1063" y="598"/>
                  </a:lnTo>
                  <a:lnTo>
                    <a:pt x="1068" y="589"/>
                  </a:lnTo>
                  <a:close/>
                  <a:moveTo>
                    <a:pt x="1098" y="534"/>
                  </a:moveTo>
                  <a:lnTo>
                    <a:pt x="1098" y="524"/>
                  </a:lnTo>
                  <a:lnTo>
                    <a:pt x="1098" y="514"/>
                  </a:lnTo>
                  <a:lnTo>
                    <a:pt x="1093" y="509"/>
                  </a:lnTo>
                  <a:lnTo>
                    <a:pt x="1093" y="509"/>
                  </a:lnTo>
                  <a:lnTo>
                    <a:pt x="1083" y="509"/>
                  </a:lnTo>
                  <a:lnTo>
                    <a:pt x="1078" y="514"/>
                  </a:lnTo>
                  <a:lnTo>
                    <a:pt x="1068" y="519"/>
                  </a:lnTo>
                  <a:lnTo>
                    <a:pt x="1063" y="524"/>
                  </a:lnTo>
                  <a:lnTo>
                    <a:pt x="1063" y="534"/>
                  </a:lnTo>
                  <a:lnTo>
                    <a:pt x="1068" y="539"/>
                  </a:lnTo>
                  <a:lnTo>
                    <a:pt x="1078" y="544"/>
                  </a:lnTo>
                  <a:lnTo>
                    <a:pt x="1088" y="544"/>
                  </a:lnTo>
                  <a:lnTo>
                    <a:pt x="1093" y="539"/>
                  </a:lnTo>
                  <a:lnTo>
                    <a:pt x="1098" y="534"/>
                  </a:lnTo>
                  <a:close/>
                  <a:moveTo>
                    <a:pt x="856" y="504"/>
                  </a:moveTo>
                  <a:lnTo>
                    <a:pt x="861" y="504"/>
                  </a:lnTo>
                  <a:lnTo>
                    <a:pt x="871" y="500"/>
                  </a:lnTo>
                  <a:lnTo>
                    <a:pt x="875" y="500"/>
                  </a:lnTo>
                  <a:lnTo>
                    <a:pt x="875" y="495"/>
                  </a:lnTo>
                  <a:lnTo>
                    <a:pt x="880" y="490"/>
                  </a:lnTo>
                  <a:lnTo>
                    <a:pt x="880" y="485"/>
                  </a:lnTo>
                  <a:lnTo>
                    <a:pt x="880" y="480"/>
                  </a:lnTo>
                  <a:lnTo>
                    <a:pt x="875" y="475"/>
                  </a:lnTo>
                  <a:lnTo>
                    <a:pt x="875" y="470"/>
                  </a:lnTo>
                  <a:lnTo>
                    <a:pt x="866" y="465"/>
                  </a:lnTo>
                  <a:lnTo>
                    <a:pt x="861" y="460"/>
                  </a:lnTo>
                  <a:lnTo>
                    <a:pt x="856" y="455"/>
                  </a:lnTo>
                  <a:lnTo>
                    <a:pt x="856" y="455"/>
                  </a:lnTo>
                  <a:lnTo>
                    <a:pt x="856" y="450"/>
                  </a:lnTo>
                  <a:lnTo>
                    <a:pt x="856" y="445"/>
                  </a:lnTo>
                  <a:lnTo>
                    <a:pt x="856" y="440"/>
                  </a:lnTo>
                  <a:lnTo>
                    <a:pt x="861" y="430"/>
                  </a:lnTo>
                  <a:lnTo>
                    <a:pt x="861" y="425"/>
                  </a:lnTo>
                  <a:lnTo>
                    <a:pt x="861" y="420"/>
                  </a:lnTo>
                  <a:lnTo>
                    <a:pt x="861" y="416"/>
                  </a:lnTo>
                  <a:lnTo>
                    <a:pt x="856" y="411"/>
                  </a:lnTo>
                  <a:lnTo>
                    <a:pt x="856" y="406"/>
                  </a:lnTo>
                  <a:lnTo>
                    <a:pt x="851" y="401"/>
                  </a:lnTo>
                  <a:lnTo>
                    <a:pt x="851" y="401"/>
                  </a:lnTo>
                  <a:lnTo>
                    <a:pt x="851" y="391"/>
                  </a:lnTo>
                  <a:lnTo>
                    <a:pt x="856" y="391"/>
                  </a:lnTo>
                  <a:lnTo>
                    <a:pt x="856" y="386"/>
                  </a:lnTo>
                  <a:lnTo>
                    <a:pt x="861" y="381"/>
                  </a:lnTo>
                  <a:lnTo>
                    <a:pt x="861" y="376"/>
                  </a:lnTo>
                  <a:lnTo>
                    <a:pt x="861" y="366"/>
                  </a:lnTo>
                  <a:lnTo>
                    <a:pt x="861" y="361"/>
                  </a:lnTo>
                  <a:lnTo>
                    <a:pt x="861" y="356"/>
                  </a:lnTo>
                  <a:lnTo>
                    <a:pt x="861" y="351"/>
                  </a:lnTo>
                  <a:lnTo>
                    <a:pt x="856" y="346"/>
                  </a:lnTo>
                  <a:lnTo>
                    <a:pt x="851" y="346"/>
                  </a:lnTo>
                  <a:lnTo>
                    <a:pt x="841" y="346"/>
                  </a:lnTo>
                  <a:lnTo>
                    <a:pt x="836" y="346"/>
                  </a:lnTo>
                  <a:lnTo>
                    <a:pt x="826" y="346"/>
                  </a:lnTo>
                  <a:lnTo>
                    <a:pt x="821" y="351"/>
                  </a:lnTo>
                  <a:lnTo>
                    <a:pt x="811" y="351"/>
                  </a:lnTo>
                  <a:lnTo>
                    <a:pt x="806" y="356"/>
                  </a:lnTo>
                  <a:lnTo>
                    <a:pt x="801" y="361"/>
                  </a:lnTo>
                  <a:lnTo>
                    <a:pt x="801" y="366"/>
                  </a:lnTo>
                  <a:lnTo>
                    <a:pt x="796" y="371"/>
                  </a:lnTo>
                  <a:lnTo>
                    <a:pt x="791" y="371"/>
                  </a:lnTo>
                  <a:lnTo>
                    <a:pt x="786" y="376"/>
                  </a:lnTo>
                  <a:lnTo>
                    <a:pt x="781" y="381"/>
                  </a:lnTo>
                  <a:lnTo>
                    <a:pt x="777" y="386"/>
                  </a:lnTo>
                  <a:lnTo>
                    <a:pt x="772" y="391"/>
                  </a:lnTo>
                  <a:lnTo>
                    <a:pt x="767" y="396"/>
                  </a:lnTo>
                  <a:lnTo>
                    <a:pt x="762" y="396"/>
                  </a:lnTo>
                  <a:lnTo>
                    <a:pt x="757" y="401"/>
                  </a:lnTo>
                  <a:lnTo>
                    <a:pt x="752" y="406"/>
                  </a:lnTo>
                  <a:lnTo>
                    <a:pt x="752" y="411"/>
                  </a:lnTo>
                  <a:lnTo>
                    <a:pt x="747" y="416"/>
                  </a:lnTo>
                  <a:lnTo>
                    <a:pt x="742" y="420"/>
                  </a:lnTo>
                  <a:lnTo>
                    <a:pt x="737" y="420"/>
                  </a:lnTo>
                  <a:lnTo>
                    <a:pt x="727" y="425"/>
                  </a:lnTo>
                  <a:lnTo>
                    <a:pt x="727" y="430"/>
                  </a:lnTo>
                  <a:lnTo>
                    <a:pt x="727" y="435"/>
                  </a:lnTo>
                  <a:lnTo>
                    <a:pt x="732" y="440"/>
                  </a:lnTo>
                  <a:lnTo>
                    <a:pt x="737" y="445"/>
                  </a:lnTo>
                  <a:lnTo>
                    <a:pt x="742" y="450"/>
                  </a:lnTo>
                  <a:lnTo>
                    <a:pt x="742" y="455"/>
                  </a:lnTo>
                  <a:lnTo>
                    <a:pt x="747" y="460"/>
                  </a:lnTo>
                  <a:lnTo>
                    <a:pt x="757" y="460"/>
                  </a:lnTo>
                  <a:lnTo>
                    <a:pt x="762" y="465"/>
                  </a:lnTo>
                  <a:lnTo>
                    <a:pt x="772" y="460"/>
                  </a:lnTo>
                  <a:lnTo>
                    <a:pt x="777" y="460"/>
                  </a:lnTo>
                  <a:lnTo>
                    <a:pt x="781" y="455"/>
                  </a:lnTo>
                  <a:lnTo>
                    <a:pt x="786" y="450"/>
                  </a:lnTo>
                  <a:lnTo>
                    <a:pt x="791" y="445"/>
                  </a:lnTo>
                  <a:lnTo>
                    <a:pt x="796" y="445"/>
                  </a:lnTo>
                  <a:lnTo>
                    <a:pt x="806" y="445"/>
                  </a:lnTo>
                  <a:lnTo>
                    <a:pt x="816" y="445"/>
                  </a:lnTo>
                  <a:lnTo>
                    <a:pt x="821" y="445"/>
                  </a:lnTo>
                  <a:lnTo>
                    <a:pt x="826" y="450"/>
                  </a:lnTo>
                  <a:lnTo>
                    <a:pt x="831" y="455"/>
                  </a:lnTo>
                  <a:lnTo>
                    <a:pt x="836" y="460"/>
                  </a:lnTo>
                  <a:lnTo>
                    <a:pt x="836" y="465"/>
                  </a:lnTo>
                  <a:lnTo>
                    <a:pt x="836" y="470"/>
                  </a:lnTo>
                  <a:lnTo>
                    <a:pt x="836" y="475"/>
                  </a:lnTo>
                  <a:lnTo>
                    <a:pt x="841" y="480"/>
                  </a:lnTo>
                  <a:lnTo>
                    <a:pt x="841" y="485"/>
                  </a:lnTo>
                  <a:lnTo>
                    <a:pt x="841" y="490"/>
                  </a:lnTo>
                  <a:lnTo>
                    <a:pt x="846" y="495"/>
                  </a:lnTo>
                  <a:lnTo>
                    <a:pt x="846" y="500"/>
                  </a:lnTo>
                  <a:lnTo>
                    <a:pt x="846" y="504"/>
                  </a:lnTo>
                  <a:lnTo>
                    <a:pt x="851" y="509"/>
                  </a:lnTo>
                  <a:lnTo>
                    <a:pt x="851" y="514"/>
                  </a:lnTo>
                  <a:lnTo>
                    <a:pt x="851" y="514"/>
                  </a:lnTo>
                  <a:lnTo>
                    <a:pt x="856" y="504"/>
                  </a:lnTo>
                  <a:close/>
                  <a:moveTo>
                    <a:pt x="678" y="480"/>
                  </a:moveTo>
                  <a:lnTo>
                    <a:pt x="678" y="475"/>
                  </a:lnTo>
                  <a:lnTo>
                    <a:pt x="683" y="470"/>
                  </a:lnTo>
                  <a:lnTo>
                    <a:pt x="683" y="465"/>
                  </a:lnTo>
                  <a:lnTo>
                    <a:pt x="688" y="460"/>
                  </a:lnTo>
                  <a:lnTo>
                    <a:pt x="692" y="460"/>
                  </a:lnTo>
                  <a:lnTo>
                    <a:pt x="697" y="455"/>
                  </a:lnTo>
                  <a:lnTo>
                    <a:pt x="702" y="450"/>
                  </a:lnTo>
                  <a:lnTo>
                    <a:pt x="702" y="445"/>
                  </a:lnTo>
                  <a:lnTo>
                    <a:pt x="702" y="440"/>
                  </a:lnTo>
                  <a:lnTo>
                    <a:pt x="697" y="435"/>
                  </a:lnTo>
                  <a:lnTo>
                    <a:pt x="697" y="430"/>
                  </a:lnTo>
                  <a:lnTo>
                    <a:pt x="692" y="425"/>
                  </a:lnTo>
                  <a:lnTo>
                    <a:pt x="688" y="425"/>
                  </a:lnTo>
                  <a:lnTo>
                    <a:pt x="683" y="430"/>
                  </a:lnTo>
                  <a:lnTo>
                    <a:pt x="678" y="435"/>
                  </a:lnTo>
                  <a:lnTo>
                    <a:pt x="673" y="440"/>
                  </a:lnTo>
                  <a:lnTo>
                    <a:pt x="668" y="445"/>
                  </a:lnTo>
                  <a:lnTo>
                    <a:pt x="663" y="445"/>
                  </a:lnTo>
                  <a:lnTo>
                    <a:pt x="658" y="450"/>
                  </a:lnTo>
                  <a:lnTo>
                    <a:pt x="653" y="455"/>
                  </a:lnTo>
                  <a:lnTo>
                    <a:pt x="653" y="460"/>
                  </a:lnTo>
                  <a:lnTo>
                    <a:pt x="648" y="465"/>
                  </a:lnTo>
                  <a:lnTo>
                    <a:pt x="643" y="470"/>
                  </a:lnTo>
                  <a:lnTo>
                    <a:pt x="638" y="470"/>
                  </a:lnTo>
                  <a:lnTo>
                    <a:pt x="633" y="475"/>
                  </a:lnTo>
                  <a:lnTo>
                    <a:pt x="628" y="480"/>
                  </a:lnTo>
                  <a:lnTo>
                    <a:pt x="628" y="485"/>
                  </a:lnTo>
                  <a:lnTo>
                    <a:pt x="633" y="490"/>
                  </a:lnTo>
                  <a:lnTo>
                    <a:pt x="633" y="495"/>
                  </a:lnTo>
                  <a:lnTo>
                    <a:pt x="638" y="500"/>
                  </a:lnTo>
                  <a:lnTo>
                    <a:pt x="648" y="504"/>
                  </a:lnTo>
                  <a:lnTo>
                    <a:pt x="658" y="504"/>
                  </a:lnTo>
                  <a:lnTo>
                    <a:pt x="663" y="504"/>
                  </a:lnTo>
                  <a:lnTo>
                    <a:pt x="668" y="504"/>
                  </a:lnTo>
                  <a:lnTo>
                    <a:pt x="673" y="500"/>
                  </a:lnTo>
                  <a:lnTo>
                    <a:pt x="673" y="495"/>
                  </a:lnTo>
                  <a:lnTo>
                    <a:pt x="678" y="490"/>
                  </a:lnTo>
                  <a:lnTo>
                    <a:pt x="678" y="480"/>
                  </a:lnTo>
                  <a:close/>
                  <a:moveTo>
                    <a:pt x="1118" y="480"/>
                  </a:moveTo>
                  <a:lnTo>
                    <a:pt x="1118" y="480"/>
                  </a:lnTo>
                  <a:lnTo>
                    <a:pt x="1118" y="475"/>
                  </a:lnTo>
                  <a:lnTo>
                    <a:pt x="1118" y="475"/>
                  </a:lnTo>
                  <a:lnTo>
                    <a:pt x="1118" y="475"/>
                  </a:lnTo>
                  <a:lnTo>
                    <a:pt x="1118" y="475"/>
                  </a:lnTo>
                  <a:lnTo>
                    <a:pt x="1113" y="475"/>
                  </a:lnTo>
                  <a:lnTo>
                    <a:pt x="1113" y="475"/>
                  </a:lnTo>
                  <a:lnTo>
                    <a:pt x="1113" y="475"/>
                  </a:lnTo>
                  <a:lnTo>
                    <a:pt x="1108" y="480"/>
                  </a:lnTo>
                  <a:lnTo>
                    <a:pt x="1113" y="480"/>
                  </a:lnTo>
                  <a:lnTo>
                    <a:pt x="1113" y="480"/>
                  </a:lnTo>
                  <a:lnTo>
                    <a:pt x="1113" y="480"/>
                  </a:lnTo>
                  <a:lnTo>
                    <a:pt x="1118" y="480"/>
                  </a:lnTo>
                  <a:lnTo>
                    <a:pt x="1118" y="480"/>
                  </a:lnTo>
                  <a:close/>
                  <a:moveTo>
                    <a:pt x="134" y="455"/>
                  </a:moveTo>
                  <a:lnTo>
                    <a:pt x="139" y="450"/>
                  </a:lnTo>
                  <a:lnTo>
                    <a:pt x="144" y="445"/>
                  </a:lnTo>
                  <a:lnTo>
                    <a:pt x="148" y="440"/>
                  </a:lnTo>
                  <a:lnTo>
                    <a:pt x="153" y="435"/>
                  </a:lnTo>
                  <a:lnTo>
                    <a:pt x="158" y="430"/>
                  </a:lnTo>
                  <a:lnTo>
                    <a:pt x="163" y="425"/>
                  </a:lnTo>
                  <a:lnTo>
                    <a:pt x="163" y="420"/>
                  </a:lnTo>
                  <a:lnTo>
                    <a:pt x="163" y="416"/>
                  </a:lnTo>
                  <a:lnTo>
                    <a:pt x="163" y="411"/>
                  </a:lnTo>
                  <a:lnTo>
                    <a:pt x="163" y="406"/>
                  </a:lnTo>
                  <a:lnTo>
                    <a:pt x="163" y="401"/>
                  </a:lnTo>
                  <a:lnTo>
                    <a:pt x="158" y="401"/>
                  </a:lnTo>
                  <a:lnTo>
                    <a:pt x="134" y="425"/>
                  </a:lnTo>
                  <a:lnTo>
                    <a:pt x="104" y="455"/>
                  </a:lnTo>
                  <a:lnTo>
                    <a:pt x="104" y="455"/>
                  </a:lnTo>
                  <a:lnTo>
                    <a:pt x="109" y="460"/>
                  </a:lnTo>
                  <a:lnTo>
                    <a:pt x="114" y="460"/>
                  </a:lnTo>
                  <a:lnTo>
                    <a:pt x="119" y="465"/>
                  </a:lnTo>
                  <a:lnTo>
                    <a:pt x="124" y="470"/>
                  </a:lnTo>
                  <a:lnTo>
                    <a:pt x="129" y="475"/>
                  </a:lnTo>
                  <a:lnTo>
                    <a:pt x="134" y="475"/>
                  </a:lnTo>
                  <a:lnTo>
                    <a:pt x="134" y="475"/>
                  </a:lnTo>
                  <a:lnTo>
                    <a:pt x="134" y="470"/>
                  </a:lnTo>
                  <a:lnTo>
                    <a:pt x="134" y="465"/>
                  </a:lnTo>
                  <a:lnTo>
                    <a:pt x="134" y="460"/>
                  </a:lnTo>
                  <a:lnTo>
                    <a:pt x="134" y="455"/>
                  </a:lnTo>
                  <a:close/>
                  <a:moveTo>
                    <a:pt x="193" y="371"/>
                  </a:moveTo>
                  <a:lnTo>
                    <a:pt x="183" y="371"/>
                  </a:lnTo>
                  <a:lnTo>
                    <a:pt x="183" y="381"/>
                  </a:lnTo>
                  <a:lnTo>
                    <a:pt x="193" y="371"/>
                  </a:lnTo>
                  <a:close/>
                  <a:moveTo>
                    <a:pt x="223" y="346"/>
                  </a:moveTo>
                  <a:lnTo>
                    <a:pt x="213" y="346"/>
                  </a:lnTo>
                  <a:lnTo>
                    <a:pt x="213" y="356"/>
                  </a:lnTo>
                  <a:lnTo>
                    <a:pt x="223" y="346"/>
                  </a:lnTo>
                  <a:close/>
                  <a:moveTo>
                    <a:pt x="272" y="322"/>
                  </a:moveTo>
                  <a:lnTo>
                    <a:pt x="267" y="322"/>
                  </a:lnTo>
                  <a:lnTo>
                    <a:pt x="237" y="322"/>
                  </a:lnTo>
                  <a:lnTo>
                    <a:pt x="237" y="336"/>
                  </a:lnTo>
                  <a:lnTo>
                    <a:pt x="242" y="336"/>
                  </a:lnTo>
                  <a:lnTo>
                    <a:pt x="247" y="331"/>
                  </a:lnTo>
                  <a:lnTo>
                    <a:pt x="252" y="331"/>
                  </a:lnTo>
                  <a:lnTo>
                    <a:pt x="257" y="331"/>
                  </a:lnTo>
                  <a:lnTo>
                    <a:pt x="262" y="327"/>
                  </a:lnTo>
                  <a:lnTo>
                    <a:pt x="267" y="327"/>
                  </a:lnTo>
                  <a:lnTo>
                    <a:pt x="272" y="322"/>
                  </a:lnTo>
                  <a:lnTo>
                    <a:pt x="272" y="322"/>
                  </a:lnTo>
                  <a:close/>
                  <a:moveTo>
                    <a:pt x="317" y="292"/>
                  </a:moveTo>
                  <a:lnTo>
                    <a:pt x="292" y="292"/>
                  </a:lnTo>
                  <a:lnTo>
                    <a:pt x="292" y="317"/>
                  </a:lnTo>
                  <a:lnTo>
                    <a:pt x="317" y="292"/>
                  </a:lnTo>
                  <a:close/>
                  <a:moveTo>
                    <a:pt x="2235" y="1656"/>
                  </a:moveTo>
                  <a:lnTo>
                    <a:pt x="2260" y="1631"/>
                  </a:lnTo>
                  <a:lnTo>
                    <a:pt x="2285" y="1631"/>
                  </a:lnTo>
                  <a:lnTo>
                    <a:pt x="2315" y="1631"/>
                  </a:lnTo>
                  <a:lnTo>
                    <a:pt x="2339" y="1631"/>
                  </a:lnTo>
                  <a:lnTo>
                    <a:pt x="2369" y="1631"/>
                  </a:lnTo>
                  <a:lnTo>
                    <a:pt x="2394" y="1631"/>
                  </a:lnTo>
                  <a:lnTo>
                    <a:pt x="2418" y="1631"/>
                  </a:lnTo>
                  <a:lnTo>
                    <a:pt x="2448" y="1602"/>
                  </a:lnTo>
                  <a:lnTo>
                    <a:pt x="2448" y="1577"/>
                  </a:lnTo>
                  <a:lnTo>
                    <a:pt x="2448" y="1547"/>
                  </a:lnTo>
                  <a:lnTo>
                    <a:pt x="2448" y="1523"/>
                  </a:lnTo>
                  <a:lnTo>
                    <a:pt x="2473" y="1498"/>
                  </a:lnTo>
                  <a:lnTo>
                    <a:pt x="2473" y="1468"/>
                  </a:lnTo>
                  <a:lnTo>
                    <a:pt x="2473" y="1444"/>
                  </a:lnTo>
                  <a:lnTo>
                    <a:pt x="2473" y="1414"/>
                  </a:lnTo>
                  <a:lnTo>
                    <a:pt x="2503" y="1389"/>
                  </a:lnTo>
                  <a:lnTo>
                    <a:pt x="2503" y="1364"/>
                  </a:lnTo>
                  <a:lnTo>
                    <a:pt x="2503" y="1335"/>
                  </a:lnTo>
                  <a:lnTo>
                    <a:pt x="2503" y="1310"/>
                  </a:lnTo>
                  <a:lnTo>
                    <a:pt x="2527" y="1280"/>
                  </a:lnTo>
                  <a:lnTo>
                    <a:pt x="2527" y="1256"/>
                  </a:lnTo>
                  <a:lnTo>
                    <a:pt x="2527" y="1226"/>
                  </a:lnTo>
                  <a:lnTo>
                    <a:pt x="2527" y="1201"/>
                  </a:lnTo>
                  <a:lnTo>
                    <a:pt x="2552" y="1177"/>
                  </a:lnTo>
                  <a:lnTo>
                    <a:pt x="2552" y="1147"/>
                  </a:lnTo>
                  <a:lnTo>
                    <a:pt x="2552" y="1122"/>
                  </a:lnTo>
                  <a:lnTo>
                    <a:pt x="2552" y="1093"/>
                  </a:lnTo>
                  <a:lnTo>
                    <a:pt x="2582" y="1068"/>
                  </a:lnTo>
                  <a:lnTo>
                    <a:pt x="2582" y="1043"/>
                  </a:lnTo>
                  <a:lnTo>
                    <a:pt x="2582" y="1014"/>
                  </a:lnTo>
                  <a:lnTo>
                    <a:pt x="2582" y="989"/>
                  </a:lnTo>
                  <a:lnTo>
                    <a:pt x="2582" y="959"/>
                  </a:lnTo>
                  <a:lnTo>
                    <a:pt x="2582" y="934"/>
                  </a:lnTo>
                  <a:lnTo>
                    <a:pt x="2582" y="910"/>
                  </a:lnTo>
                  <a:lnTo>
                    <a:pt x="2582" y="880"/>
                  </a:lnTo>
                  <a:lnTo>
                    <a:pt x="2582" y="855"/>
                  </a:lnTo>
                  <a:lnTo>
                    <a:pt x="2582" y="826"/>
                  </a:lnTo>
                  <a:lnTo>
                    <a:pt x="2582" y="801"/>
                  </a:lnTo>
                  <a:lnTo>
                    <a:pt x="2582" y="776"/>
                  </a:lnTo>
                  <a:lnTo>
                    <a:pt x="2582" y="747"/>
                  </a:lnTo>
                  <a:lnTo>
                    <a:pt x="2582" y="722"/>
                  </a:lnTo>
                  <a:lnTo>
                    <a:pt x="2582" y="692"/>
                  </a:lnTo>
                  <a:lnTo>
                    <a:pt x="2582" y="668"/>
                  </a:lnTo>
                  <a:lnTo>
                    <a:pt x="2582" y="643"/>
                  </a:lnTo>
                  <a:lnTo>
                    <a:pt x="2582" y="613"/>
                  </a:lnTo>
                  <a:lnTo>
                    <a:pt x="2582" y="589"/>
                  </a:lnTo>
                  <a:lnTo>
                    <a:pt x="2582" y="559"/>
                  </a:lnTo>
                  <a:lnTo>
                    <a:pt x="2582" y="534"/>
                  </a:lnTo>
                  <a:lnTo>
                    <a:pt x="2582" y="504"/>
                  </a:lnTo>
                  <a:lnTo>
                    <a:pt x="2582" y="480"/>
                  </a:lnTo>
                  <a:lnTo>
                    <a:pt x="2582" y="455"/>
                  </a:lnTo>
                  <a:lnTo>
                    <a:pt x="2582" y="425"/>
                  </a:lnTo>
                  <a:lnTo>
                    <a:pt x="2582" y="401"/>
                  </a:lnTo>
                  <a:lnTo>
                    <a:pt x="2582" y="371"/>
                  </a:lnTo>
                  <a:lnTo>
                    <a:pt x="2582" y="346"/>
                  </a:lnTo>
                  <a:lnTo>
                    <a:pt x="2582" y="322"/>
                  </a:lnTo>
                  <a:lnTo>
                    <a:pt x="2582" y="292"/>
                  </a:lnTo>
                  <a:lnTo>
                    <a:pt x="2582" y="267"/>
                  </a:lnTo>
                  <a:lnTo>
                    <a:pt x="2582" y="238"/>
                  </a:lnTo>
                  <a:lnTo>
                    <a:pt x="2552" y="213"/>
                  </a:lnTo>
                  <a:lnTo>
                    <a:pt x="2552" y="188"/>
                  </a:lnTo>
                  <a:lnTo>
                    <a:pt x="2552" y="159"/>
                  </a:lnTo>
                  <a:lnTo>
                    <a:pt x="2552" y="134"/>
                  </a:lnTo>
                  <a:lnTo>
                    <a:pt x="2552" y="104"/>
                  </a:lnTo>
                  <a:lnTo>
                    <a:pt x="2527" y="79"/>
                  </a:lnTo>
                  <a:lnTo>
                    <a:pt x="2503" y="79"/>
                  </a:lnTo>
                  <a:lnTo>
                    <a:pt x="2473" y="79"/>
                  </a:lnTo>
                  <a:lnTo>
                    <a:pt x="2448" y="55"/>
                  </a:lnTo>
                  <a:lnTo>
                    <a:pt x="2418" y="55"/>
                  </a:lnTo>
                  <a:lnTo>
                    <a:pt x="2394" y="55"/>
                  </a:lnTo>
                  <a:lnTo>
                    <a:pt x="2369" y="25"/>
                  </a:lnTo>
                  <a:lnTo>
                    <a:pt x="2339" y="25"/>
                  </a:lnTo>
                  <a:lnTo>
                    <a:pt x="2315" y="25"/>
                  </a:lnTo>
                  <a:lnTo>
                    <a:pt x="2285" y="0"/>
                  </a:lnTo>
                  <a:lnTo>
                    <a:pt x="2260" y="0"/>
                  </a:lnTo>
                  <a:lnTo>
                    <a:pt x="2235" y="0"/>
                  </a:lnTo>
                  <a:lnTo>
                    <a:pt x="2206" y="0"/>
                  </a:lnTo>
                  <a:lnTo>
                    <a:pt x="2181" y="0"/>
                  </a:lnTo>
                  <a:lnTo>
                    <a:pt x="2156" y="0"/>
                  </a:lnTo>
                  <a:lnTo>
                    <a:pt x="2127" y="0"/>
                  </a:lnTo>
                  <a:lnTo>
                    <a:pt x="2102" y="0"/>
                  </a:lnTo>
                  <a:lnTo>
                    <a:pt x="2072" y="0"/>
                  </a:lnTo>
                  <a:lnTo>
                    <a:pt x="2048" y="0"/>
                  </a:lnTo>
                  <a:lnTo>
                    <a:pt x="2023" y="0"/>
                  </a:lnTo>
                  <a:lnTo>
                    <a:pt x="1993" y="0"/>
                  </a:lnTo>
                  <a:lnTo>
                    <a:pt x="1968" y="0"/>
                  </a:lnTo>
                  <a:lnTo>
                    <a:pt x="1944" y="0"/>
                  </a:lnTo>
                  <a:lnTo>
                    <a:pt x="1914" y="0"/>
                  </a:lnTo>
                  <a:lnTo>
                    <a:pt x="1889" y="0"/>
                  </a:lnTo>
                  <a:lnTo>
                    <a:pt x="1860" y="0"/>
                  </a:lnTo>
                  <a:lnTo>
                    <a:pt x="1835" y="0"/>
                  </a:lnTo>
                  <a:lnTo>
                    <a:pt x="1810" y="0"/>
                  </a:lnTo>
                  <a:lnTo>
                    <a:pt x="1780" y="0"/>
                  </a:lnTo>
                  <a:lnTo>
                    <a:pt x="1756" y="0"/>
                  </a:lnTo>
                  <a:lnTo>
                    <a:pt x="1726" y="0"/>
                  </a:lnTo>
                  <a:lnTo>
                    <a:pt x="1701" y="0"/>
                  </a:lnTo>
                  <a:lnTo>
                    <a:pt x="1677" y="0"/>
                  </a:lnTo>
                  <a:lnTo>
                    <a:pt x="1657" y="0"/>
                  </a:lnTo>
                  <a:lnTo>
                    <a:pt x="1662" y="0"/>
                  </a:lnTo>
                  <a:lnTo>
                    <a:pt x="1672" y="5"/>
                  </a:lnTo>
                  <a:lnTo>
                    <a:pt x="1677" y="10"/>
                  </a:lnTo>
                  <a:lnTo>
                    <a:pt x="1687" y="10"/>
                  </a:lnTo>
                  <a:lnTo>
                    <a:pt x="1691" y="15"/>
                  </a:lnTo>
                  <a:lnTo>
                    <a:pt x="1701" y="20"/>
                  </a:lnTo>
                  <a:lnTo>
                    <a:pt x="1706" y="20"/>
                  </a:lnTo>
                  <a:lnTo>
                    <a:pt x="1716" y="20"/>
                  </a:lnTo>
                  <a:lnTo>
                    <a:pt x="1726" y="25"/>
                  </a:lnTo>
                  <a:lnTo>
                    <a:pt x="1731" y="25"/>
                  </a:lnTo>
                  <a:lnTo>
                    <a:pt x="1741" y="25"/>
                  </a:lnTo>
                  <a:lnTo>
                    <a:pt x="1751" y="30"/>
                  </a:lnTo>
                  <a:lnTo>
                    <a:pt x="1756" y="35"/>
                  </a:lnTo>
                  <a:lnTo>
                    <a:pt x="1761" y="40"/>
                  </a:lnTo>
                  <a:lnTo>
                    <a:pt x="1766" y="45"/>
                  </a:lnTo>
                  <a:lnTo>
                    <a:pt x="1766" y="50"/>
                  </a:lnTo>
                  <a:lnTo>
                    <a:pt x="1776" y="55"/>
                  </a:lnTo>
                  <a:lnTo>
                    <a:pt x="1780" y="55"/>
                  </a:lnTo>
                  <a:lnTo>
                    <a:pt x="1790" y="55"/>
                  </a:lnTo>
                  <a:lnTo>
                    <a:pt x="1800" y="55"/>
                  </a:lnTo>
                  <a:lnTo>
                    <a:pt x="1810" y="55"/>
                  </a:lnTo>
                  <a:lnTo>
                    <a:pt x="1820" y="50"/>
                  </a:lnTo>
                  <a:lnTo>
                    <a:pt x="1830" y="50"/>
                  </a:lnTo>
                  <a:lnTo>
                    <a:pt x="1835" y="55"/>
                  </a:lnTo>
                  <a:lnTo>
                    <a:pt x="1840" y="60"/>
                  </a:lnTo>
                  <a:lnTo>
                    <a:pt x="1840" y="65"/>
                  </a:lnTo>
                  <a:lnTo>
                    <a:pt x="1845" y="70"/>
                  </a:lnTo>
                  <a:lnTo>
                    <a:pt x="1845" y="74"/>
                  </a:lnTo>
                  <a:lnTo>
                    <a:pt x="1850" y="79"/>
                  </a:lnTo>
                  <a:lnTo>
                    <a:pt x="1860" y="79"/>
                  </a:lnTo>
                  <a:lnTo>
                    <a:pt x="1870" y="79"/>
                  </a:lnTo>
                  <a:lnTo>
                    <a:pt x="1879" y="79"/>
                  </a:lnTo>
                  <a:lnTo>
                    <a:pt x="1889" y="79"/>
                  </a:lnTo>
                  <a:lnTo>
                    <a:pt x="1894" y="79"/>
                  </a:lnTo>
                  <a:lnTo>
                    <a:pt x="1904" y="79"/>
                  </a:lnTo>
                  <a:lnTo>
                    <a:pt x="1914" y="84"/>
                  </a:lnTo>
                  <a:lnTo>
                    <a:pt x="1919" y="89"/>
                  </a:lnTo>
                  <a:lnTo>
                    <a:pt x="1924" y="94"/>
                  </a:lnTo>
                  <a:lnTo>
                    <a:pt x="1924" y="99"/>
                  </a:lnTo>
                  <a:lnTo>
                    <a:pt x="1929" y="104"/>
                  </a:lnTo>
                  <a:lnTo>
                    <a:pt x="1934" y="109"/>
                  </a:lnTo>
                  <a:lnTo>
                    <a:pt x="1944" y="109"/>
                  </a:lnTo>
                  <a:lnTo>
                    <a:pt x="1954" y="109"/>
                  </a:lnTo>
                  <a:lnTo>
                    <a:pt x="1963" y="109"/>
                  </a:lnTo>
                  <a:lnTo>
                    <a:pt x="1973" y="109"/>
                  </a:lnTo>
                  <a:lnTo>
                    <a:pt x="1978" y="109"/>
                  </a:lnTo>
                  <a:lnTo>
                    <a:pt x="1988" y="109"/>
                  </a:lnTo>
                  <a:lnTo>
                    <a:pt x="1998" y="109"/>
                  </a:lnTo>
                  <a:lnTo>
                    <a:pt x="2003" y="109"/>
                  </a:lnTo>
                  <a:lnTo>
                    <a:pt x="2008" y="114"/>
                  </a:lnTo>
                  <a:lnTo>
                    <a:pt x="2013" y="119"/>
                  </a:lnTo>
                  <a:lnTo>
                    <a:pt x="2018" y="129"/>
                  </a:lnTo>
                  <a:lnTo>
                    <a:pt x="2018" y="134"/>
                  </a:lnTo>
                  <a:lnTo>
                    <a:pt x="2028" y="139"/>
                  </a:lnTo>
                  <a:lnTo>
                    <a:pt x="2033" y="139"/>
                  </a:lnTo>
                  <a:lnTo>
                    <a:pt x="2043" y="139"/>
                  </a:lnTo>
                  <a:lnTo>
                    <a:pt x="2052" y="139"/>
                  </a:lnTo>
                  <a:lnTo>
                    <a:pt x="2062" y="139"/>
                  </a:lnTo>
                  <a:lnTo>
                    <a:pt x="2072" y="139"/>
                  </a:lnTo>
                  <a:lnTo>
                    <a:pt x="2082" y="139"/>
                  </a:lnTo>
                  <a:lnTo>
                    <a:pt x="2087" y="139"/>
                  </a:lnTo>
                  <a:lnTo>
                    <a:pt x="2097" y="139"/>
                  </a:lnTo>
                  <a:lnTo>
                    <a:pt x="2107" y="139"/>
                  </a:lnTo>
                  <a:lnTo>
                    <a:pt x="2112" y="144"/>
                  </a:lnTo>
                  <a:lnTo>
                    <a:pt x="2112" y="149"/>
                  </a:lnTo>
                  <a:lnTo>
                    <a:pt x="2117" y="154"/>
                  </a:lnTo>
                  <a:lnTo>
                    <a:pt x="2122" y="163"/>
                  </a:lnTo>
                  <a:lnTo>
                    <a:pt x="2122" y="168"/>
                  </a:lnTo>
                  <a:lnTo>
                    <a:pt x="2127" y="173"/>
                  </a:lnTo>
                  <a:lnTo>
                    <a:pt x="2132" y="173"/>
                  </a:lnTo>
                  <a:lnTo>
                    <a:pt x="2142" y="178"/>
                  </a:lnTo>
                  <a:lnTo>
                    <a:pt x="2146" y="183"/>
                  </a:lnTo>
                  <a:lnTo>
                    <a:pt x="2151" y="188"/>
                  </a:lnTo>
                  <a:lnTo>
                    <a:pt x="2151" y="193"/>
                  </a:lnTo>
                  <a:lnTo>
                    <a:pt x="2151" y="198"/>
                  </a:lnTo>
                  <a:lnTo>
                    <a:pt x="2146" y="203"/>
                  </a:lnTo>
                  <a:lnTo>
                    <a:pt x="2146" y="208"/>
                  </a:lnTo>
                  <a:lnTo>
                    <a:pt x="2156" y="213"/>
                  </a:lnTo>
                  <a:lnTo>
                    <a:pt x="2156" y="208"/>
                  </a:lnTo>
                  <a:lnTo>
                    <a:pt x="2156" y="203"/>
                  </a:lnTo>
                  <a:lnTo>
                    <a:pt x="2156" y="193"/>
                  </a:lnTo>
                  <a:lnTo>
                    <a:pt x="2156" y="188"/>
                  </a:lnTo>
                  <a:lnTo>
                    <a:pt x="2156" y="183"/>
                  </a:lnTo>
                  <a:lnTo>
                    <a:pt x="2161" y="178"/>
                  </a:lnTo>
                  <a:lnTo>
                    <a:pt x="2166" y="173"/>
                  </a:lnTo>
                  <a:lnTo>
                    <a:pt x="2176" y="168"/>
                  </a:lnTo>
                  <a:lnTo>
                    <a:pt x="2181" y="168"/>
                  </a:lnTo>
                  <a:lnTo>
                    <a:pt x="2191" y="168"/>
                  </a:lnTo>
                  <a:lnTo>
                    <a:pt x="2196" y="173"/>
                  </a:lnTo>
                  <a:lnTo>
                    <a:pt x="2201" y="178"/>
                  </a:lnTo>
                  <a:lnTo>
                    <a:pt x="2206" y="183"/>
                  </a:lnTo>
                  <a:lnTo>
                    <a:pt x="2216" y="188"/>
                  </a:lnTo>
                  <a:lnTo>
                    <a:pt x="2221" y="193"/>
                  </a:lnTo>
                  <a:lnTo>
                    <a:pt x="2226" y="198"/>
                  </a:lnTo>
                  <a:lnTo>
                    <a:pt x="2231" y="203"/>
                  </a:lnTo>
                  <a:lnTo>
                    <a:pt x="2240" y="203"/>
                  </a:lnTo>
                  <a:lnTo>
                    <a:pt x="2245" y="208"/>
                  </a:lnTo>
                  <a:lnTo>
                    <a:pt x="2250" y="213"/>
                  </a:lnTo>
                  <a:lnTo>
                    <a:pt x="2255" y="218"/>
                  </a:lnTo>
                  <a:lnTo>
                    <a:pt x="2265" y="223"/>
                  </a:lnTo>
                  <a:lnTo>
                    <a:pt x="2270" y="223"/>
                  </a:lnTo>
                  <a:lnTo>
                    <a:pt x="2275" y="228"/>
                  </a:lnTo>
                  <a:lnTo>
                    <a:pt x="2280" y="233"/>
                  </a:lnTo>
                  <a:lnTo>
                    <a:pt x="2290" y="238"/>
                  </a:lnTo>
                  <a:lnTo>
                    <a:pt x="2295" y="243"/>
                  </a:lnTo>
                  <a:lnTo>
                    <a:pt x="2285" y="243"/>
                  </a:lnTo>
                  <a:lnTo>
                    <a:pt x="2275" y="247"/>
                  </a:lnTo>
                  <a:lnTo>
                    <a:pt x="2265" y="247"/>
                  </a:lnTo>
                  <a:lnTo>
                    <a:pt x="2260" y="247"/>
                  </a:lnTo>
                  <a:lnTo>
                    <a:pt x="2250" y="247"/>
                  </a:lnTo>
                  <a:lnTo>
                    <a:pt x="2240" y="247"/>
                  </a:lnTo>
                  <a:lnTo>
                    <a:pt x="2235" y="243"/>
                  </a:lnTo>
                  <a:lnTo>
                    <a:pt x="2226" y="243"/>
                  </a:lnTo>
                  <a:lnTo>
                    <a:pt x="2216" y="247"/>
                  </a:lnTo>
                  <a:lnTo>
                    <a:pt x="2206" y="247"/>
                  </a:lnTo>
                  <a:lnTo>
                    <a:pt x="2201" y="247"/>
                  </a:lnTo>
                  <a:lnTo>
                    <a:pt x="2191" y="252"/>
                  </a:lnTo>
                  <a:lnTo>
                    <a:pt x="2186" y="257"/>
                  </a:lnTo>
                  <a:lnTo>
                    <a:pt x="2181" y="262"/>
                  </a:lnTo>
                  <a:lnTo>
                    <a:pt x="2176" y="267"/>
                  </a:lnTo>
                  <a:lnTo>
                    <a:pt x="2176" y="272"/>
                  </a:lnTo>
                  <a:lnTo>
                    <a:pt x="2176" y="277"/>
                  </a:lnTo>
                  <a:lnTo>
                    <a:pt x="2176" y="282"/>
                  </a:lnTo>
                  <a:lnTo>
                    <a:pt x="2176" y="287"/>
                  </a:lnTo>
                  <a:lnTo>
                    <a:pt x="2176" y="292"/>
                  </a:lnTo>
                  <a:lnTo>
                    <a:pt x="2171" y="297"/>
                  </a:lnTo>
                  <a:lnTo>
                    <a:pt x="2166" y="302"/>
                  </a:lnTo>
                  <a:lnTo>
                    <a:pt x="2161" y="307"/>
                  </a:lnTo>
                  <a:lnTo>
                    <a:pt x="2156" y="312"/>
                  </a:lnTo>
                  <a:lnTo>
                    <a:pt x="2151" y="317"/>
                  </a:lnTo>
                  <a:lnTo>
                    <a:pt x="2146" y="322"/>
                  </a:lnTo>
                  <a:lnTo>
                    <a:pt x="2146" y="327"/>
                  </a:lnTo>
                  <a:lnTo>
                    <a:pt x="2142" y="331"/>
                  </a:lnTo>
                  <a:lnTo>
                    <a:pt x="2137" y="336"/>
                  </a:lnTo>
                  <a:lnTo>
                    <a:pt x="2127" y="341"/>
                  </a:lnTo>
                  <a:lnTo>
                    <a:pt x="2122" y="346"/>
                  </a:lnTo>
                  <a:lnTo>
                    <a:pt x="2117" y="351"/>
                  </a:lnTo>
                  <a:lnTo>
                    <a:pt x="2112" y="356"/>
                  </a:lnTo>
                  <a:lnTo>
                    <a:pt x="2107" y="356"/>
                  </a:lnTo>
                  <a:lnTo>
                    <a:pt x="2097" y="361"/>
                  </a:lnTo>
                  <a:lnTo>
                    <a:pt x="2092" y="366"/>
                  </a:lnTo>
                  <a:lnTo>
                    <a:pt x="2082" y="366"/>
                  </a:lnTo>
                  <a:lnTo>
                    <a:pt x="2072" y="366"/>
                  </a:lnTo>
                  <a:lnTo>
                    <a:pt x="2067" y="366"/>
                  </a:lnTo>
                  <a:lnTo>
                    <a:pt x="2057" y="371"/>
                  </a:lnTo>
                  <a:lnTo>
                    <a:pt x="2048" y="371"/>
                  </a:lnTo>
                  <a:lnTo>
                    <a:pt x="2038" y="371"/>
                  </a:lnTo>
                  <a:lnTo>
                    <a:pt x="2028" y="371"/>
                  </a:lnTo>
                  <a:lnTo>
                    <a:pt x="2023" y="371"/>
                  </a:lnTo>
                  <a:lnTo>
                    <a:pt x="2013" y="376"/>
                  </a:lnTo>
                  <a:lnTo>
                    <a:pt x="2008" y="376"/>
                  </a:lnTo>
                  <a:lnTo>
                    <a:pt x="1998" y="381"/>
                  </a:lnTo>
                  <a:lnTo>
                    <a:pt x="1988" y="381"/>
                  </a:lnTo>
                  <a:lnTo>
                    <a:pt x="1983" y="381"/>
                  </a:lnTo>
                  <a:lnTo>
                    <a:pt x="1973" y="381"/>
                  </a:lnTo>
                  <a:lnTo>
                    <a:pt x="1963" y="381"/>
                  </a:lnTo>
                  <a:lnTo>
                    <a:pt x="1954" y="386"/>
                  </a:lnTo>
                  <a:lnTo>
                    <a:pt x="1949" y="386"/>
                  </a:lnTo>
                  <a:lnTo>
                    <a:pt x="1939" y="386"/>
                  </a:lnTo>
                  <a:lnTo>
                    <a:pt x="1934" y="386"/>
                  </a:lnTo>
                  <a:lnTo>
                    <a:pt x="1924" y="386"/>
                  </a:lnTo>
                  <a:lnTo>
                    <a:pt x="1914" y="381"/>
                  </a:lnTo>
                  <a:lnTo>
                    <a:pt x="1904" y="381"/>
                  </a:lnTo>
                  <a:lnTo>
                    <a:pt x="1899" y="381"/>
                  </a:lnTo>
                  <a:lnTo>
                    <a:pt x="1889" y="381"/>
                  </a:lnTo>
                  <a:lnTo>
                    <a:pt x="1879" y="381"/>
                  </a:lnTo>
                  <a:lnTo>
                    <a:pt x="1870" y="381"/>
                  </a:lnTo>
                  <a:lnTo>
                    <a:pt x="1860" y="381"/>
                  </a:lnTo>
                  <a:lnTo>
                    <a:pt x="1855" y="381"/>
                  </a:lnTo>
                  <a:lnTo>
                    <a:pt x="1845" y="386"/>
                  </a:lnTo>
                  <a:lnTo>
                    <a:pt x="1835" y="386"/>
                  </a:lnTo>
                  <a:lnTo>
                    <a:pt x="1825" y="386"/>
                  </a:lnTo>
                  <a:lnTo>
                    <a:pt x="1820" y="386"/>
                  </a:lnTo>
                  <a:lnTo>
                    <a:pt x="1810" y="386"/>
                  </a:lnTo>
                  <a:lnTo>
                    <a:pt x="1800" y="391"/>
                  </a:lnTo>
                  <a:lnTo>
                    <a:pt x="1795" y="391"/>
                  </a:lnTo>
                  <a:lnTo>
                    <a:pt x="1790" y="396"/>
                  </a:lnTo>
                  <a:lnTo>
                    <a:pt x="1780" y="401"/>
                  </a:lnTo>
                  <a:lnTo>
                    <a:pt x="1776" y="401"/>
                  </a:lnTo>
                  <a:lnTo>
                    <a:pt x="1766" y="396"/>
                  </a:lnTo>
                  <a:lnTo>
                    <a:pt x="1761" y="391"/>
                  </a:lnTo>
                  <a:lnTo>
                    <a:pt x="1751" y="386"/>
                  </a:lnTo>
                  <a:lnTo>
                    <a:pt x="1746" y="381"/>
                  </a:lnTo>
                  <a:lnTo>
                    <a:pt x="1741" y="381"/>
                  </a:lnTo>
                  <a:lnTo>
                    <a:pt x="1736" y="376"/>
                  </a:lnTo>
                  <a:lnTo>
                    <a:pt x="1726" y="371"/>
                  </a:lnTo>
                  <a:lnTo>
                    <a:pt x="1721" y="371"/>
                  </a:lnTo>
                  <a:lnTo>
                    <a:pt x="1711" y="371"/>
                  </a:lnTo>
                  <a:lnTo>
                    <a:pt x="1701" y="371"/>
                  </a:lnTo>
                  <a:lnTo>
                    <a:pt x="1691" y="366"/>
                  </a:lnTo>
                  <a:lnTo>
                    <a:pt x="1682" y="366"/>
                  </a:lnTo>
                  <a:lnTo>
                    <a:pt x="1677" y="371"/>
                  </a:lnTo>
                  <a:lnTo>
                    <a:pt x="1667" y="371"/>
                  </a:lnTo>
                  <a:lnTo>
                    <a:pt x="1662" y="376"/>
                  </a:lnTo>
                  <a:lnTo>
                    <a:pt x="1652" y="376"/>
                  </a:lnTo>
                  <a:lnTo>
                    <a:pt x="1647" y="381"/>
                  </a:lnTo>
                  <a:lnTo>
                    <a:pt x="1642" y="386"/>
                  </a:lnTo>
                  <a:lnTo>
                    <a:pt x="1642" y="391"/>
                  </a:lnTo>
                  <a:lnTo>
                    <a:pt x="1642" y="401"/>
                  </a:lnTo>
                  <a:lnTo>
                    <a:pt x="1647" y="406"/>
                  </a:lnTo>
                  <a:lnTo>
                    <a:pt x="1657" y="406"/>
                  </a:lnTo>
                  <a:lnTo>
                    <a:pt x="1667" y="406"/>
                  </a:lnTo>
                  <a:lnTo>
                    <a:pt x="1672" y="411"/>
                  </a:lnTo>
                  <a:lnTo>
                    <a:pt x="1682" y="411"/>
                  </a:lnTo>
                  <a:lnTo>
                    <a:pt x="1691" y="411"/>
                  </a:lnTo>
                  <a:lnTo>
                    <a:pt x="1696" y="416"/>
                  </a:lnTo>
                  <a:lnTo>
                    <a:pt x="1706" y="416"/>
                  </a:lnTo>
                  <a:lnTo>
                    <a:pt x="1711" y="420"/>
                  </a:lnTo>
                  <a:lnTo>
                    <a:pt x="1721" y="425"/>
                  </a:lnTo>
                  <a:lnTo>
                    <a:pt x="1726" y="430"/>
                  </a:lnTo>
                  <a:lnTo>
                    <a:pt x="1731" y="435"/>
                  </a:lnTo>
                  <a:lnTo>
                    <a:pt x="1736" y="440"/>
                  </a:lnTo>
                  <a:lnTo>
                    <a:pt x="1736" y="445"/>
                  </a:lnTo>
                  <a:lnTo>
                    <a:pt x="1736" y="450"/>
                  </a:lnTo>
                  <a:lnTo>
                    <a:pt x="1736" y="455"/>
                  </a:lnTo>
                  <a:lnTo>
                    <a:pt x="1731" y="460"/>
                  </a:lnTo>
                  <a:lnTo>
                    <a:pt x="1726" y="465"/>
                  </a:lnTo>
                  <a:lnTo>
                    <a:pt x="1716" y="465"/>
                  </a:lnTo>
                  <a:lnTo>
                    <a:pt x="1711" y="465"/>
                  </a:lnTo>
                  <a:lnTo>
                    <a:pt x="1701" y="465"/>
                  </a:lnTo>
                  <a:lnTo>
                    <a:pt x="1691" y="460"/>
                  </a:lnTo>
                  <a:lnTo>
                    <a:pt x="1687" y="455"/>
                  </a:lnTo>
                  <a:lnTo>
                    <a:pt x="1677" y="455"/>
                  </a:lnTo>
                  <a:lnTo>
                    <a:pt x="1672" y="450"/>
                  </a:lnTo>
                  <a:lnTo>
                    <a:pt x="1662" y="445"/>
                  </a:lnTo>
                  <a:lnTo>
                    <a:pt x="1657" y="440"/>
                  </a:lnTo>
                  <a:lnTo>
                    <a:pt x="1652" y="440"/>
                  </a:lnTo>
                  <a:lnTo>
                    <a:pt x="1642" y="440"/>
                  </a:lnTo>
                  <a:lnTo>
                    <a:pt x="1637" y="445"/>
                  </a:lnTo>
                  <a:lnTo>
                    <a:pt x="1632" y="450"/>
                  </a:lnTo>
                  <a:lnTo>
                    <a:pt x="1632" y="455"/>
                  </a:lnTo>
                  <a:lnTo>
                    <a:pt x="1632" y="460"/>
                  </a:lnTo>
                  <a:lnTo>
                    <a:pt x="1637" y="465"/>
                  </a:lnTo>
                  <a:lnTo>
                    <a:pt x="1647" y="470"/>
                  </a:lnTo>
                  <a:lnTo>
                    <a:pt x="1657" y="475"/>
                  </a:lnTo>
                  <a:lnTo>
                    <a:pt x="1667" y="475"/>
                  </a:lnTo>
                  <a:lnTo>
                    <a:pt x="1672" y="480"/>
                  </a:lnTo>
                  <a:lnTo>
                    <a:pt x="1672" y="485"/>
                  </a:lnTo>
                  <a:lnTo>
                    <a:pt x="1662" y="490"/>
                  </a:lnTo>
                  <a:lnTo>
                    <a:pt x="1657" y="495"/>
                  </a:lnTo>
                  <a:lnTo>
                    <a:pt x="1647" y="495"/>
                  </a:lnTo>
                  <a:lnTo>
                    <a:pt x="1642" y="490"/>
                  </a:lnTo>
                  <a:lnTo>
                    <a:pt x="1642" y="485"/>
                  </a:lnTo>
                  <a:lnTo>
                    <a:pt x="1637" y="475"/>
                  </a:lnTo>
                  <a:lnTo>
                    <a:pt x="1632" y="470"/>
                  </a:lnTo>
                  <a:lnTo>
                    <a:pt x="1627" y="465"/>
                  </a:lnTo>
                  <a:lnTo>
                    <a:pt x="1622" y="460"/>
                  </a:lnTo>
                  <a:lnTo>
                    <a:pt x="1617" y="460"/>
                  </a:lnTo>
                  <a:lnTo>
                    <a:pt x="1612" y="465"/>
                  </a:lnTo>
                  <a:lnTo>
                    <a:pt x="1607" y="470"/>
                  </a:lnTo>
                  <a:lnTo>
                    <a:pt x="1602" y="475"/>
                  </a:lnTo>
                  <a:lnTo>
                    <a:pt x="1598" y="480"/>
                  </a:lnTo>
                  <a:lnTo>
                    <a:pt x="1588" y="485"/>
                  </a:lnTo>
                  <a:lnTo>
                    <a:pt x="1583" y="490"/>
                  </a:lnTo>
                  <a:lnTo>
                    <a:pt x="1578" y="495"/>
                  </a:lnTo>
                  <a:lnTo>
                    <a:pt x="1568" y="495"/>
                  </a:lnTo>
                  <a:lnTo>
                    <a:pt x="1563" y="495"/>
                  </a:lnTo>
                  <a:lnTo>
                    <a:pt x="1558" y="485"/>
                  </a:lnTo>
                  <a:lnTo>
                    <a:pt x="1558" y="480"/>
                  </a:lnTo>
                  <a:lnTo>
                    <a:pt x="1558" y="475"/>
                  </a:lnTo>
                  <a:lnTo>
                    <a:pt x="1558" y="470"/>
                  </a:lnTo>
                  <a:lnTo>
                    <a:pt x="1558" y="465"/>
                  </a:lnTo>
                  <a:lnTo>
                    <a:pt x="1558" y="455"/>
                  </a:lnTo>
                  <a:lnTo>
                    <a:pt x="1563" y="450"/>
                  </a:lnTo>
                  <a:lnTo>
                    <a:pt x="1568" y="445"/>
                  </a:lnTo>
                  <a:lnTo>
                    <a:pt x="1568" y="440"/>
                  </a:lnTo>
                  <a:lnTo>
                    <a:pt x="1573" y="435"/>
                  </a:lnTo>
                  <a:lnTo>
                    <a:pt x="1578" y="430"/>
                  </a:lnTo>
                  <a:lnTo>
                    <a:pt x="1578" y="425"/>
                  </a:lnTo>
                  <a:lnTo>
                    <a:pt x="1583" y="420"/>
                  </a:lnTo>
                  <a:lnTo>
                    <a:pt x="1588" y="416"/>
                  </a:lnTo>
                  <a:lnTo>
                    <a:pt x="1588" y="411"/>
                  </a:lnTo>
                  <a:lnTo>
                    <a:pt x="1593" y="406"/>
                  </a:lnTo>
                  <a:lnTo>
                    <a:pt x="1598" y="401"/>
                  </a:lnTo>
                  <a:lnTo>
                    <a:pt x="1602" y="396"/>
                  </a:lnTo>
                  <a:lnTo>
                    <a:pt x="1612" y="391"/>
                  </a:lnTo>
                  <a:lnTo>
                    <a:pt x="1617" y="386"/>
                  </a:lnTo>
                  <a:lnTo>
                    <a:pt x="1617" y="381"/>
                  </a:lnTo>
                  <a:lnTo>
                    <a:pt x="1622" y="376"/>
                  </a:lnTo>
                  <a:lnTo>
                    <a:pt x="1617" y="371"/>
                  </a:lnTo>
                  <a:lnTo>
                    <a:pt x="1607" y="366"/>
                  </a:lnTo>
                  <a:lnTo>
                    <a:pt x="1602" y="361"/>
                  </a:lnTo>
                  <a:lnTo>
                    <a:pt x="1593" y="361"/>
                  </a:lnTo>
                  <a:lnTo>
                    <a:pt x="1588" y="366"/>
                  </a:lnTo>
                  <a:lnTo>
                    <a:pt x="1583" y="371"/>
                  </a:lnTo>
                  <a:lnTo>
                    <a:pt x="1583" y="376"/>
                  </a:lnTo>
                  <a:lnTo>
                    <a:pt x="1578" y="381"/>
                  </a:lnTo>
                  <a:lnTo>
                    <a:pt x="1573" y="386"/>
                  </a:lnTo>
                  <a:lnTo>
                    <a:pt x="1563" y="391"/>
                  </a:lnTo>
                  <a:lnTo>
                    <a:pt x="1553" y="391"/>
                  </a:lnTo>
                  <a:lnTo>
                    <a:pt x="1548" y="396"/>
                  </a:lnTo>
                  <a:lnTo>
                    <a:pt x="1543" y="401"/>
                  </a:lnTo>
                  <a:lnTo>
                    <a:pt x="1538" y="406"/>
                  </a:lnTo>
                  <a:lnTo>
                    <a:pt x="1528" y="406"/>
                  </a:lnTo>
                  <a:lnTo>
                    <a:pt x="1523" y="411"/>
                  </a:lnTo>
                  <a:lnTo>
                    <a:pt x="1518" y="416"/>
                  </a:lnTo>
                  <a:lnTo>
                    <a:pt x="1508" y="420"/>
                  </a:lnTo>
                  <a:lnTo>
                    <a:pt x="1508" y="425"/>
                  </a:lnTo>
                  <a:lnTo>
                    <a:pt x="1504" y="430"/>
                  </a:lnTo>
                  <a:lnTo>
                    <a:pt x="1494" y="430"/>
                  </a:lnTo>
                  <a:lnTo>
                    <a:pt x="1489" y="435"/>
                  </a:lnTo>
                  <a:lnTo>
                    <a:pt x="1484" y="440"/>
                  </a:lnTo>
                  <a:lnTo>
                    <a:pt x="1474" y="445"/>
                  </a:lnTo>
                  <a:lnTo>
                    <a:pt x="1469" y="445"/>
                  </a:lnTo>
                  <a:lnTo>
                    <a:pt x="1464" y="450"/>
                  </a:lnTo>
                  <a:lnTo>
                    <a:pt x="1459" y="455"/>
                  </a:lnTo>
                  <a:lnTo>
                    <a:pt x="1454" y="460"/>
                  </a:lnTo>
                  <a:lnTo>
                    <a:pt x="1444" y="465"/>
                  </a:lnTo>
                  <a:lnTo>
                    <a:pt x="1439" y="470"/>
                  </a:lnTo>
                  <a:lnTo>
                    <a:pt x="1434" y="470"/>
                  </a:lnTo>
                  <a:lnTo>
                    <a:pt x="1424" y="475"/>
                  </a:lnTo>
                  <a:lnTo>
                    <a:pt x="1419" y="480"/>
                  </a:lnTo>
                  <a:lnTo>
                    <a:pt x="1415" y="485"/>
                  </a:lnTo>
                  <a:lnTo>
                    <a:pt x="1410" y="490"/>
                  </a:lnTo>
                  <a:lnTo>
                    <a:pt x="1405" y="495"/>
                  </a:lnTo>
                  <a:lnTo>
                    <a:pt x="1395" y="495"/>
                  </a:lnTo>
                  <a:lnTo>
                    <a:pt x="1390" y="500"/>
                  </a:lnTo>
                  <a:lnTo>
                    <a:pt x="1385" y="504"/>
                  </a:lnTo>
                  <a:lnTo>
                    <a:pt x="1385" y="509"/>
                  </a:lnTo>
                  <a:lnTo>
                    <a:pt x="1380" y="514"/>
                  </a:lnTo>
                  <a:lnTo>
                    <a:pt x="1375" y="519"/>
                  </a:lnTo>
                  <a:lnTo>
                    <a:pt x="1365" y="519"/>
                  </a:lnTo>
                  <a:lnTo>
                    <a:pt x="1355" y="519"/>
                  </a:lnTo>
                  <a:lnTo>
                    <a:pt x="1345" y="514"/>
                  </a:lnTo>
                  <a:lnTo>
                    <a:pt x="1340" y="514"/>
                  </a:lnTo>
                  <a:lnTo>
                    <a:pt x="1330" y="509"/>
                  </a:lnTo>
                  <a:lnTo>
                    <a:pt x="1326" y="504"/>
                  </a:lnTo>
                  <a:lnTo>
                    <a:pt x="1335" y="504"/>
                  </a:lnTo>
                  <a:lnTo>
                    <a:pt x="1340" y="500"/>
                  </a:lnTo>
                  <a:lnTo>
                    <a:pt x="1345" y="495"/>
                  </a:lnTo>
                  <a:lnTo>
                    <a:pt x="1345" y="485"/>
                  </a:lnTo>
                  <a:lnTo>
                    <a:pt x="1350" y="485"/>
                  </a:lnTo>
                  <a:lnTo>
                    <a:pt x="1360" y="480"/>
                  </a:lnTo>
                  <a:lnTo>
                    <a:pt x="1365" y="475"/>
                  </a:lnTo>
                  <a:lnTo>
                    <a:pt x="1365" y="470"/>
                  </a:lnTo>
                  <a:lnTo>
                    <a:pt x="1365" y="465"/>
                  </a:lnTo>
                  <a:lnTo>
                    <a:pt x="1370" y="455"/>
                  </a:lnTo>
                  <a:lnTo>
                    <a:pt x="1370" y="450"/>
                  </a:lnTo>
                  <a:lnTo>
                    <a:pt x="1375" y="445"/>
                  </a:lnTo>
                  <a:lnTo>
                    <a:pt x="1380" y="440"/>
                  </a:lnTo>
                  <a:lnTo>
                    <a:pt x="1385" y="435"/>
                  </a:lnTo>
                  <a:lnTo>
                    <a:pt x="1395" y="435"/>
                  </a:lnTo>
                  <a:lnTo>
                    <a:pt x="1400" y="430"/>
                  </a:lnTo>
                  <a:lnTo>
                    <a:pt x="1400" y="420"/>
                  </a:lnTo>
                  <a:lnTo>
                    <a:pt x="1405" y="416"/>
                  </a:lnTo>
                  <a:lnTo>
                    <a:pt x="1405" y="411"/>
                  </a:lnTo>
                  <a:lnTo>
                    <a:pt x="1415" y="411"/>
                  </a:lnTo>
                  <a:lnTo>
                    <a:pt x="1419" y="411"/>
                  </a:lnTo>
                  <a:lnTo>
                    <a:pt x="1429" y="411"/>
                  </a:lnTo>
                  <a:lnTo>
                    <a:pt x="1439" y="411"/>
                  </a:lnTo>
                  <a:lnTo>
                    <a:pt x="1449" y="406"/>
                  </a:lnTo>
                  <a:lnTo>
                    <a:pt x="1449" y="401"/>
                  </a:lnTo>
                  <a:lnTo>
                    <a:pt x="1449" y="396"/>
                  </a:lnTo>
                  <a:lnTo>
                    <a:pt x="1449" y="386"/>
                  </a:lnTo>
                  <a:lnTo>
                    <a:pt x="1444" y="386"/>
                  </a:lnTo>
                  <a:lnTo>
                    <a:pt x="1434" y="381"/>
                  </a:lnTo>
                  <a:lnTo>
                    <a:pt x="1424" y="381"/>
                  </a:lnTo>
                  <a:lnTo>
                    <a:pt x="1419" y="381"/>
                  </a:lnTo>
                  <a:lnTo>
                    <a:pt x="1410" y="386"/>
                  </a:lnTo>
                  <a:lnTo>
                    <a:pt x="1400" y="386"/>
                  </a:lnTo>
                  <a:lnTo>
                    <a:pt x="1390" y="386"/>
                  </a:lnTo>
                  <a:lnTo>
                    <a:pt x="1385" y="391"/>
                  </a:lnTo>
                  <a:lnTo>
                    <a:pt x="1375" y="391"/>
                  </a:lnTo>
                  <a:lnTo>
                    <a:pt x="1365" y="391"/>
                  </a:lnTo>
                  <a:lnTo>
                    <a:pt x="1355" y="391"/>
                  </a:lnTo>
                  <a:lnTo>
                    <a:pt x="1350" y="396"/>
                  </a:lnTo>
                  <a:lnTo>
                    <a:pt x="1340" y="396"/>
                  </a:lnTo>
                  <a:lnTo>
                    <a:pt x="1330" y="396"/>
                  </a:lnTo>
                  <a:lnTo>
                    <a:pt x="1321" y="396"/>
                  </a:lnTo>
                  <a:lnTo>
                    <a:pt x="1316" y="401"/>
                  </a:lnTo>
                  <a:lnTo>
                    <a:pt x="1306" y="401"/>
                  </a:lnTo>
                  <a:lnTo>
                    <a:pt x="1301" y="406"/>
                  </a:lnTo>
                  <a:lnTo>
                    <a:pt x="1301" y="411"/>
                  </a:lnTo>
                  <a:lnTo>
                    <a:pt x="1301" y="420"/>
                  </a:lnTo>
                  <a:lnTo>
                    <a:pt x="1296" y="425"/>
                  </a:lnTo>
                  <a:lnTo>
                    <a:pt x="1296" y="430"/>
                  </a:lnTo>
                  <a:lnTo>
                    <a:pt x="1296" y="435"/>
                  </a:lnTo>
                  <a:lnTo>
                    <a:pt x="1296" y="440"/>
                  </a:lnTo>
                  <a:lnTo>
                    <a:pt x="1296" y="445"/>
                  </a:lnTo>
                  <a:lnTo>
                    <a:pt x="1296" y="450"/>
                  </a:lnTo>
                  <a:lnTo>
                    <a:pt x="1291" y="460"/>
                  </a:lnTo>
                  <a:lnTo>
                    <a:pt x="1291" y="465"/>
                  </a:lnTo>
                  <a:lnTo>
                    <a:pt x="1286" y="470"/>
                  </a:lnTo>
                  <a:lnTo>
                    <a:pt x="1286" y="475"/>
                  </a:lnTo>
                  <a:lnTo>
                    <a:pt x="1286" y="480"/>
                  </a:lnTo>
                  <a:lnTo>
                    <a:pt x="1286" y="485"/>
                  </a:lnTo>
                  <a:lnTo>
                    <a:pt x="1291" y="490"/>
                  </a:lnTo>
                  <a:lnTo>
                    <a:pt x="1291" y="495"/>
                  </a:lnTo>
                  <a:lnTo>
                    <a:pt x="1296" y="504"/>
                  </a:lnTo>
                  <a:lnTo>
                    <a:pt x="1296" y="509"/>
                  </a:lnTo>
                  <a:lnTo>
                    <a:pt x="1291" y="514"/>
                  </a:lnTo>
                  <a:lnTo>
                    <a:pt x="1286" y="519"/>
                  </a:lnTo>
                  <a:lnTo>
                    <a:pt x="1281" y="524"/>
                  </a:lnTo>
                  <a:lnTo>
                    <a:pt x="1276" y="529"/>
                  </a:lnTo>
                  <a:lnTo>
                    <a:pt x="1271" y="534"/>
                  </a:lnTo>
                  <a:lnTo>
                    <a:pt x="1271" y="539"/>
                  </a:lnTo>
                  <a:lnTo>
                    <a:pt x="1271" y="544"/>
                  </a:lnTo>
                  <a:lnTo>
                    <a:pt x="1276" y="549"/>
                  </a:lnTo>
                  <a:lnTo>
                    <a:pt x="1281" y="544"/>
                  </a:lnTo>
                  <a:lnTo>
                    <a:pt x="1291" y="544"/>
                  </a:lnTo>
                  <a:lnTo>
                    <a:pt x="1296" y="539"/>
                  </a:lnTo>
                  <a:lnTo>
                    <a:pt x="1306" y="534"/>
                  </a:lnTo>
                  <a:lnTo>
                    <a:pt x="1311" y="539"/>
                  </a:lnTo>
                  <a:lnTo>
                    <a:pt x="1316" y="544"/>
                  </a:lnTo>
                  <a:lnTo>
                    <a:pt x="1316" y="549"/>
                  </a:lnTo>
                  <a:lnTo>
                    <a:pt x="1321" y="559"/>
                  </a:lnTo>
                  <a:lnTo>
                    <a:pt x="1321" y="564"/>
                  </a:lnTo>
                  <a:lnTo>
                    <a:pt x="1321" y="569"/>
                  </a:lnTo>
                  <a:lnTo>
                    <a:pt x="1316" y="574"/>
                  </a:lnTo>
                  <a:lnTo>
                    <a:pt x="1316" y="579"/>
                  </a:lnTo>
                  <a:lnTo>
                    <a:pt x="1311" y="584"/>
                  </a:lnTo>
                  <a:lnTo>
                    <a:pt x="1311" y="593"/>
                  </a:lnTo>
                  <a:lnTo>
                    <a:pt x="1311" y="598"/>
                  </a:lnTo>
                  <a:lnTo>
                    <a:pt x="1311" y="603"/>
                  </a:lnTo>
                  <a:lnTo>
                    <a:pt x="1311" y="608"/>
                  </a:lnTo>
                  <a:lnTo>
                    <a:pt x="1311" y="613"/>
                  </a:lnTo>
                  <a:lnTo>
                    <a:pt x="1311" y="618"/>
                  </a:lnTo>
                  <a:lnTo>
                    <a:pt x="1306" y="623"/>
                  </a:lnTo>
                  <a:lnTo>
                    <a:pt x="1306" y="628"/>
                  </a:lnTo>
                  <a:lnTo>
                    <a:pt x="1306" y="638"/>
                  </a:lnTo>
                  <a:lnTo>
                    <a:pt x="1306" y="643"/>
                  </a:lnTo>
                  <a:lnTo>
                    <a:pt x="1306" y="648"/>
                  </a:lnTo>
                  <a:lnTo>
                    <a:pt x="1301" y="653"/>
                  </a:lnTo>
                  <a:lnTo>
                    <a:pt x="1296" y="653"/>
                  </a:lnTo>
                  <a:lnTo>
                    <a:pt x="1291" y="648"/>
                  </a:lnTo>
                  <a:lnTo>
                    <a:pt x="1281" y="643"/>
                  </a:lnTo>
                  <a:lnTo>
                    <a:pt x="1276" y="638"/>
                  </a:lnTo>
                  <a:lnTo>
                    <a:pt x="1271" y="648"/>
                  </a:lnTo>
                  <a:lnTo>
                    <a:pt x="1271" y="653"/>
                  </a:lnTo>
                  <a:lnTo>
                    <a:pt x="1266" y="653"/>
                  </a:lnTo>
                  <a:lnTo>
                    <a:pt x="1261" y="658"/>
                  </a:lnTo>
                  <a:lnTo>
                    <a:pt x="1256" y="663"/>
                  </a:lnTo>
                  <a:lnTo>
                    <a:pt x="1251" y="668"/>
                  </a:lnTo>
                  <a:lnTo>
                    <a:pt x="1246" y="663"/>
                  </a:lnTo>
                  <a:lnTo>
                    <a:pt x="1246" y="658"/>
                  </a:lnTo>
                  <a:lnTo>
                    <a:pt x="1241" y="653"/>
                  </a:lnTo>
                  <a:lnTo>
                    <a:pt x="1241" y="648"/>
                  </a:lnTo>
                  <a:lnTo>
                    <a:pt x="1241" y="643"/>
                  </a:lnTo>
                  <a:lnTo>
                    <a:pt x="1236" y="638"/>
                  </a:lnTo>
                  <a:lnTo>
                    <a:pt x="1236" y="633"/>
                  </a:lnTo>
                  <a:lnTo>
                    <a:pt x="1236" y="623"/>
                  </a:lnTo>
                  <a:lnTo>
                    <a:pt x="1236" y="618"/>
                  </a:lnTo>
                  <a:lnTo>
                    <a:pt x="1232" y="613"/>
                  </a:lnTo>
                  <a:lnTo>
                    <a:pt x="1232" y="608"/>
                  </a:lnTo>
                  <a:lnTo>
                    <a:pt x="1232" y="603"/>
                  </a:lnTo>
                  <a:lnTo>
                    <a:pt x="1232" y="593"/>
                  </a:lnTo>
                  <a:lnTo>
                    <a:pt x="1232" y="589"/>
                  </a:lnTo>
                  <a:lnTo>
                    <a:pt x="1232" y="584"/>
                  </a:lnTo>
                  <a:lnTo>
                    <a:pt x="1232" y="579"/>
                  </a:lnTo>
                  <a:lnTo>
                    <a:pt x="1227" y="574"/>
                  </a:lnTo>
                  <a:lnTo>
                    <a:pt x="1227" y="569"/>
                  </a:lnTo>
                  <a:lnTo>
                    <a:pt x="1227" y="564"/>
                  </a:lnTo>
                  <a:lnTo>
                    <a:pt x="1222" y="554"/>
                  </a:lnTo>
                  <a:lnTo>
                    <a:pt x="1222" y="559"/>
                  </a:lnTo>
                  <a:lnTo>
                    <a:pt x="1222" y="569"/>
                  </a:lnTo>
                  <a:lnTo>
                    <a:pt x="1217" y="574"/>
                  </a:lnTo>
                  <a:lnTo>
                    <a:pt x="1217" y="579"/>
                  </a:lnTo>
                  <a:lnTo>
                    <a:pt x="1217" y="584"/>
                  </a:lnTo>
                  <a:lnTo>
                    <a:pt x="1217" y="589"/>
                  </a:lnTo>
                  <a:lnTo>
                    <a:pt x="1212" y="593"/>
                  </a:lnTo>
                  <a:lnTo>
                    <a:pt x="1212" y="598"/>
                  </a:lnTo>
                  <a:lnTo>
                    <a:pt x="1212" y="603"/>
                  </a:lnTo>
                  <a:lnTo>
                    <a:pt x="1212" y="613"/>
                  </a:lnTo>
                  <a:lnTo>
                    <a:pt x="1207" y="618"/>
                  </a:lnTo>
                  <a:lnTo>
                    <a:pt x="1207" y="623"/>
                  </a:lnTo>
                  <a:lnTo>
                    <a:pt x="1202" y="628"/>
                  </a:lnTo>
                  <a:lnTo>
                    <a:pt x="1197" y="633"/>
                  </a:lnTo>
                  <a:lnTo>
                    <a:pt x="1197" y="638"/>
                  </a:lnTo>
                  <a:lnTo>
                    <a:pt x="1192" y="643"/>
                  </a:lnTo>
                  <a:lnTo>
                    <a:pt x="1192" y="648"/>
                  </a:lnTo>
                  <a:lnTo>
                    <a:pt x="1187" y="653"/>
                  </a:lnTo>
                  <a:lnTo>
                    <a:pt x="1182" y="658"/>
                  </a:lnTo>
                  <a:lnTo>
                    <a:pt x="1182" y="663"/>
                  </a:lnTo>
                  <a:lnTo>
                    <a:pt x="1177" y="673"/>
                  </a:lnTo>
                  <a:lnTo>
                    <a:pt x="1172" y="677"/>
                  </a:lnTo>
                  <a:lnTo>
                    <a:pt x="1172" y="682"/>
                  </a:lnTo>
                  <a:lnTo>
                    <a:pt x="1167" y="687"/>
                  </a:lnTo>
                  <a:lnTo>
                    <a:pt x="1162" y="692"/>
                  </a:lnTo>
                  <a:lnTo>
                    <a:pt x="1157" y="697"/>
                  </a:lnTo>
                  <a:lnTo>
                    <a:pt x="1152" y="702"/>
                  </a:lnTo>
                  <a:lnTo>
                    <a:pt x="1147" y="707"/>
                  </a:lnTo>
                  <a:lnTo>
                    <a:pt x="1147" y="712"/>
                  </a:lnTo>
                  <a:lnTo>
                    <a:pt x="1143" y="712"/>
                  </a:lnTo>
                  <a:lnTo>
                    <a:pt x="1138" y="712"/>
                  </a:lnTo>
                  <a:lnTo>
                    <a:pt x="1133" y="707"/>
                  </a:lnTo>
                  <a:lnTo>
                    <a:pt x="1128" y="697"/>
                  </a:lnTo>
                  <a:lnTo>
                    <a:pt x="1123" y="692"/>
                  </a:lnTo>
                  <a:lnTo>
                    <a:pt x="1118" y="682"/>
                  </a:lnTo>
                  <a:lnTo>
                    <a:pt x="1118" y="682"/>
                  </a:lnTo>
                  <a:lnTo>
                    <a:pt x="1113" y="687"/>
                  </a:lnTo>
                  <a:lnTo>
                    <a:pt x="1113" y="697"/>
                  </a:lnTo>
                  <a:lnTo>
                    <a:pt x="1113" y="702"/>
                  </a:lnTo>
                  <a:lnTo>
                    <a:pt x="1113" y="707"/>
                  </a:lnTo>
                  <a:lnTo>
                    <a:pt x="1113" y="712"/>
                  </a:lnTo>
                  <a:lnTo>
                    <a:pt x="1113" y="717"/>
                  </a:lnTo>
                  <a:lnTo>
                    <a:pt x="1108" y="722"/>
                  </a:lnTo>
                  <a:lnTo>
                    <a:pt x="1108" y="727"/>
                  </a:lnTo>
                  <a:lnTo>
                    <a:pt x="1108" y="732"/>
                  </a:lnTo>
                  <a:lnTo>
                    <a:pt x="1108" y="742"/>
                  </a:lnTo>
                  <a:lnTo>
                    <a:pt x="1108" y="747"/>
                  </a:lnTo>
                  <a:lnTo>
                    <a:pt x="1103" y="752"/>
                  </a:lnTo>
                  <a:lnTo>
                    <a:pt x="1103" y="757"/>
                  </a:lnTo>
                  <a:lnTo>
                    <a:pt x="1103" y="762"/>
                  </a:lnTo>
                  <a:lnTo>
                    <a:pt x="1103" y="766"/>
                  </a:lnTo>
                  <a:lnTo>
                    <a:pt x="1103" y="776"/>
                  </a:lnTo>
                  <a:lnTo>
                    <a:pt x="1103" y="781"/>
                  </a:lnTo>
                  <a:lnTo>
                    <a:pt x="1103" y="786"/>
                  </a:lnTo>
                  <a:lnTo>
                    <a:pt x="1098" y="791"/>
                  </a:lnTo>
                  <a:lnTo>
                    <a:pt x="1093" y="796"/>
                  </a:lnTo>
                  <a:lnTo>
                    <a:pt x="1088" y="801"/>
                  </a:lnTo>
                  <a:lnTo>
                    <a:pt x="1078" y="801"/>
                  </a:lnTo>
                  <a:lnTo>
                    <a:pt x="1073" y="806"/>
                  </a:lnTo>
                  <a:lnTo>
                    <a:pt x="1063" y="806"/>
                  </a:lnTo>
                  <a:lnTo>
                    <a:pt x="1058" y="811"/>
                  </a:lnTo>
                  <a:lnTo>
                    <a:pt x="1058" y="821"/>
                  </a:lnTo>
                  <a:lnTo>
                    <a:pt x="1053" y="826"/>
                  </a:lnTo>
                  <a:lnTo>
                    <a:pt x="1053" y="831"/>
                  </a:lnTo>
                  <a:lnTo>
                    <a:pt x="1053" y="836"/>
                  </a:lnTo>
                  <a:lnTo>
                    <a:pt x="1053" y="841"/>
                  </a:lnTo>
                  <a:lnTo>
                    <a:pt x="1053" y="846"/>
                  </a:lnTo>
                  <a:lnTo>
                    <a:pt x="1049" y="850"/>
                  </a:lnTo>
                  <a:lnTo>
                    <a:pt x="1044" y="855"/>
                  </a:lnTo>
                  <a:lnTo>
                    <a:pt x="1039" y="860"/>
                  </a:lnTo>
                  <a:lnTo>
                    <a:pt x="1039" y="865"/>
                  </a:lnTo>
                  <a:lnTo>
                    <a:pt x="1034" y="875"/>
                  </a:lnTo>
                  <a:lnTo>
                    <a:pt x="1034" y="880"/>
                  </a:lnTo>
                  <a:lnTo>
                    <a:pt x="1034" y="885"/>
                  </a:lnTo>
                  <a:lnTo>
                    <a:pt x="1029" y="890"/>
                  </a:lnTo>
                  <a:lnTo>
                    <a:pt x="1029" y="895"/>
                  </a:lnTo>
                  <a:lnTo>
                    <a:pt x="1024" y="900"/>
                  </a:lnTo>
                  <a:lnTo>
                    <a:pt x="1024" y="905"/>
                  </a:lnTo>
                  <a:lnTo>
                    <a:pt x="1019" y="910"/>
                  </a:lnTo>
                  <a:lnTo>
                    <a:pt x="1014" y="915"/>
                  </a:lnTo>
                  <a:lnTo>
                    <a:pt x="1014" y="920"/>
                  </a:lnTo>
                  <a:lnTo>
                    <a:pt x="1009" y="930"/>
                  </a:lnTo>
                  <a:lnTo>
                    <a:pt x="1009" y="934"/>
                  </a:lnTo>
                  <a:lnTo>
                    <a:pt x="1009" y="939"/>
                  </a:lnTo>
                  <a:lnTo>
                    <a:pt x="1004" y="944"/>
                  </a:lnTo>
                  <a:lnTo>
                    <a:pt x="999" y="949"/>
                  </a:lnTo>
                  <a:lnTo>
                    <a:pt x="994" y="954"/>
                  </a:lnTo>
                  <a:lnTo>
                    <a:pt x="989" y="959"/>
                  </a:lnTo>
                  <a:lnTo>
                    <a:pt x="984" y="964"/>
                  </a:lnTo>
                  <a:lnTo>
                    <a:pt x="979" y="964"/>
                  </a:lnTo>
                  <a:lnTo>
                    <a:pt x="969" y="969"/>
                  </a:lnTo>
                  <a:lnTo>
                    <a:pt x="960" y="969"/>
                  </a:lnTo>
                  <a:lnTo>
                    <a:pt x="950" y="969"/>
                  </a:lnTo>
                  <a:lnTo>
                    <a:pt x="940" y="974"/>
                  </a:lnTo>
                  <a:lnTo>
                    <a:pt x="935" y="974"/>
                  </a:lnTo>
                  <a:lnTo>
                    <a:pt x="925" y="974"/>
                  </a:lnTo>
                  <a:lnTo>
                    <a:pt x="920" y="969"/>
                  </a:lnTo>
                  <a:lnTo>
                    <a:pt x="915" y="964"/>
                  </a:lnTo>
                  <a:lnTo>
                    <a:pt x="910" y="959"/>
                  </a:lnTo>
                  <a:lnTo>
                    <a:pt x="905" y="954"/>
                  </a:lnTo>
                  <a:lnTo>
                    <a:pt x="905" y="949"/>
                  </a:lnTo>
                  <a:lnTo>
                    <a:pt x="905" y="944"/>
                  </a:lnTo>
                  <a:lnTo>
                    <a:pt x="905" y="934"/>
                  </a:lnTo>
                  <a:lnTo>
                    <a:pt x="905" y="930"/>
                  </a:lnTo>
                  <a:lnTo>
                    <a:pt x="910" y="925"/>
                  </a:lnTo>
                  <a:lnTo>
                    <a:pt x="910" y="920"/>
                  </a:lnTo>
                  <a:lnTo>
                    <a:pt x="915" y="915"/>
                  </a:lnTo>
                  <a:lnTo>
                    <a:pt x="915" y="910"/>
                  </a:lnTo>
                  <a:lnTo>
                    <a:pt x="920" y="905"/>
                  </a:lnTo>
                  <a:lnTo>
                    <a:pt x="920" y="900"/>
                  </a:lnTo>
                  <a:lnTo>
                    <a:pt x="925" y="895"/>
                  </a:lnTo>
                  <a:lnTo>
                    <a:pt x="925" y="890"/>
                  </a:lnTo>
                  <a:lnTo>
                    <a:pt x="930" y="885"/>
                  </a:lnTo>
                  <a:lnTo>
                    <a:pt x="935" y="880"/>
                  </a:lnTo>
                  <a:lnTo>
                    <a:pt x="940" y="870"/>
                  </a:lnTo>
                  <a:lnTo>
                    <a:pt x="950" y="870"/>
                  </a:lnTo>
                  <a:lnTo>
                    <a:pt x="955" y="865"/>
                  </a:lnTo>
                  <a:lnTo>
                    <a:pt x="964" y="865"/>
                  </a:lnTo>
                  <a:lnTo>
                    <a:pt x="974" y="870"/>
                  </a:lnTo>
                  <a:lnTo>
                    <a:pt x="979" y="870"/>
                  </a:lnTo>
                  <a:lnTo>
                    <a:pt x="989" y="870"/>
                  </a:lnTo>
                  <a:lnTo>
                    <a:pt x="994" y="865"/>
                  </a:lnTo>
                  <a:lnTo>
                    <a:pt x="994" y="860"/>
                  </a:lnTo>
                  <a:lnTo>
                    <a:pt x="999" y="855"/>
                  </a:lnTo>
                  <a:lnTo>
                    <a:pt x="1004" y="850"/>
                  </a:lnTo>
                  <a:lnTo>
                    <a:pt x="1009" y="846"/>
                  </a:lnTo>
                  <a:lnTo>
                    <a:pt x="1019" y="841"/>
                  </a:lnTo>
                  <a:lnTo>
                    <a:pt x="1024" y="836"/>
                  </a:lnTo>
                  <a:lnTo>
                    <a:pt x="1029" y="831"/>
                  </a:lnTo>
                  <a:lnTo>
                    <a:pt x="1024" y="826"/>
                  </a:lnTo>
                  <a:lnTo>
                    <a:pt x="1019" y="821"/>
                  </a:lnTo>
                  <a:lnTo>
                    <a:pt x="1009" y="816"/>
                  </a:lnTo>
                  <a:lnTo>
                    <a:pt x="1004" y="816"/>
                  </a:lnTo>
                  <a:lnTo>
                    <a:pt x="999" y="806"/>
                  </a:lnTo>
                  <a:lnTo>
                    <a:pt x="999" y="801"/>
                  </a:lnTo>
                  <a:lnTo>
                    <a:pt x="994" y="796"/>
                  </a:lnTo>
                  <a:lnTo>
                    <a:pt x="994" y="791"/>
                  </a:lnTo>
                  <a:lnTo>
                    <a:pt x="994" y="786"/>
                  </a:lnTo>
                  <a:lnTo>
                    <a:pt x="994" y="781"/>
                  </a:lnTo>
                  <a:lnTo>
                    <a:pt x="994" y="776"/>
                  </a:lnTo>
                  <a:lnTo>
                    <a:pt x="989" y="771"/>
                  </a:lnTo>
                  <a:lnTo>
                    <a:pt x="989" y="762"/>
                  </a:lnTo>
                  <a:lnTo>
                    <a:pt x="989" y="757"/>
                  </a:lnTo>
                  <a:lnTo>
                    <a:pt x="989" y="752"/>
                  </a:lnTo>
                  <a:lnTo>
                    <a:pt x="984" y="747"/>
                  </a:lnTo>
                  <a:lnTo>
                    <a:pt x="984" y="742"/>
                  </a:lnTo>
                  <a:lnTo>
                    <a:pt x="984" y="737"/>
                  </a:lnTo>
                  <a:lnTo>
                    <a:pt x="979" y="732"/>
                  </a:lnTo>
                  <a:lnTo>
                    <a:pt x="979" y="727"/>
                  </a:lnTo>
                  <a:lnTo>
                    <a:pt x="974" y="717"/>
                  </a:lnTo>
                  <a:lnTo>
                    <a:pt x="974" y="712"/>
                  </a:lnTo>
                  <a:lnTo>
                    <a:pt x="969" y="707"/>
                  </a:lnTo>
                  <a:lnTo>
                    <a:pt x="969" y="702"/>
                  </a:lnTo>
                  <a:lnTo>
                    <a:pt x="969" y="697"/>
                  </a:lnTo>
                  <a:lnTo>
                    <a:pt x="969" y="692"/>
                  </a:lnTo>
                  <a:lnTo>
                    <a:pt x="964" y="687"/>
                  </a:lnTo>
                  <a:lnTo>
                    <a:pt x="964" y="682"/>
                  </a:lnTo>
                  <a:lnTo>
                    <a:pt x="964" y="673"/>
                  </a:lnTo>
                  <a:lnTo>
                    <a:pt x="969" y="668"/>
                  </a:lnTo>
                  <a:lnTo>
                    <a:pt x="969" y="663"/>
                  </a:lnTo>
                  <a:lnTo>
                    <a:pt x="969" y="658"/>
                  </a:lnTo>
                  <a:lnTo>
                    <a:pt x="969" y="653"/>
                  </a:lnTo>
                  <a:lnTo>
                    <a:pt x="969" y="643"/>
                  </a:lnTo>
                  <a:lnTo>
                    <a:pt x="964" y="638"/>
                  </a:lnTo>
                  <a:lnTo>
                    <a:pt x="960" y="638"/>
                  </a:lnTo>
                  <a:lnTo>
                    <a:pt x="955" y="633"/>
                  </a:lnTo>
                  <a:lnTo>
                    <a:pt x="950" y="628"/>
                  </a:lnTo>
                  <a:lnTo>
                    <a:pt x="950" y="618"/>
                  </a:lnTo>
                  <a:lnTo>
                    <a:pt x="950" y="613"/>
                  </a:lnTo>
                  <a:lnTo>
                    <a:pt x="945" y="608"/>
                  </a:lnTo>
                  <a:lnTo>
                    <a:pt x="945" y="603"/>
                  </a:lnTo>
                  <a:lnTo>
                    <a:pt x="945" y="598"/>
                  </a:lnTo>
                  <a:lnTo>
                    <a:pt x="940" y="593"/>
                  </a:lnTo>
                  <a:lnTo>
                    <a:pt x="940" y="589"/>
                  </a:lnTo>
                  <a:lnTo>
                    <a:pt x="940" y="579"/>
                  </a:lnTo>
                  <a:lnTo>
                    <a:pt x="940" y="574"/>
                  </a:lnTo>
                  <a:lnTo>
                    <a:pt x="940" y="569"/>
                  </a:lnTo>
                  <a:lnTo>
                    <a:pt x="940" y="564"/>
                  </a:lnTo>
                  <a:lnTo>
                    <a:pt x="940" y="559"/>
                  </a:lnTo>
                  <a:lnTo>
                    <a:pt x="940" y="554"/>
                  </a:lnTo>
                  <a:lnTo>
                    <a:pt x="935" y="549"/>
                  </a:lnTo>
                  <a:lnTo>
                    <a:pt x="935" y="539"/>
                  </a:lnTo>
                  <a:lnTo>
                    <a:pt x="930" y="534"/>
                  </a:lnTo>
                  <a:lnTo>
                    <a:pt x="930" y="529"/>
                  </a:lnTo>
                  <a:lnTo>
                    <a:pt x="925" y="524"/>
                  </a:lnTo>
                  <a:lnTo>
                    <a:pt x="925" y="519"/>
                  </a:lnTo>
                  <a:lnTo>
                    <a:pt x="925" y="514"/>
                  </a:lnTo>
                  <a:lnTo>
                    <a:pt x="920" y="509"/>
                  </a:lnTo>
                  <a:lnTo>
                    <a:pt x="920" y="504"/>
                  </a:lnTo>
                  <a:lnTo>
                    <a:pt x="915" y="500"/>
                  </a:lnTo>
                  <a:lnTo>
                    <a:pt x="910" y="495"/>
                  </a:lnTo>
                  <a:lnTo>
                    <a:pt x="905" y="490"/>
                  </a:lnTo>
                  <a:lnTo>
                    <a:pt x="900" y="485"/>
                  </a:lnTo>
                  <a:lnTo>
                    <a:pt x="900" y="480"/>
                  </a:lnTo>
                  <a:lnTo>
                    <a:pt x="900" y="470"/>
                  </a:lnTo>
                  <a:lnTo>
                    <a:pt x="905" y="470"/>
                  </a:lnTo>
                  <a:lnTo>
                    <a:pt x="910" y="480"/>
                  </a:lnTo>
                  <a:lnTo>
                    <a:pt x="920" y="485"/>
                  </a:lnTo>
                  <a:lnTo>
                    <a:pt x="925" y="490"/>
                  </a:lnTo>
                  <a:lnTo>
                    <a:pt x="930" y="490"/>
                  </a:lnTo>
                  <a:lnTo>
                    <a:pt x="935" y="495"/>
                  </a:lnTo>
                  <a:lnTo>
                    <a:pt x="940" y="500"/>
                  </a:lnTo>
                  <a:lnTo>
                    <a:pt x="945" y="504"/>
                  </a:lnTo>
                  <a:lnTo>
                    <a:pt x="950" y="509"/>
                  </a:lnTo>
                  <a:lnTo>
                    <a:pt x="955" y="514"/>
                  </a:lnTo>
                  <a:lnTo>
                    <a:pt x="960" y="519"/>
                  </a:lnTo>
                  <a:lnTo>
                    <a:pt x="964" y="514"/>
                  </a:lnTo>
                  <a:lnTo>
                    <a:pt x="969" y="509"/>
                  </a:lnTo>
                  <a:lnTo>
                    <a:pt x="974" y="504"/>
                  </a:lnTo>
                  <a:lnTo>
                    <a:pt x="974" y="500"/>
                  </a:lnTo>
                  <a:lnTo>
                    <a:pt x="974" y="495"/>
                  </a:lnTo>
                  <a:lnTo>
                    <a:pt x="974" y="485"/>
                  </a:lnTo>
                  <a:lnTo>
                    <a:pt x="969" y="480"/>
                  </a:lnTo>
                  <a:lnTo>
                    <a:pt x="969" y="475"/>
                  </a:lnTo>
                  <a:lnTo>
                    <a:pt x="969" y="470"/>
                  </a:lnTo>
                  <a:lnTo>
                    <a:pt x="964" y="465"/>
                  </a:lnTo>
                  <a:lnTo>
                    <a:pt x="964" y="460"/>
                  </a:lnTo>
                  <a:lnTo>
                    <a:pt x="964" y="455"/>
                  </a:lnTo>
                  <a:lnTo>
                    <a:pt x="960" y="450"/>
                  </a:lnTo>
                  <a:lnTo>
                    <a:pt x="960" y="440"/>
                  </a:lnTo>
                  <a:lnTo>
                    <a:pt x="960" y="435"/>
                  </a:lnTo>
                  <a:lnTo>
                    <a:pt x="960" y="430"/>
                  </a:lnTo>
                  <a:lnTo>
                    <a:pt x="955" y="425"/>
                  </a:lnTo>
                  <a:lnTo>
                    <a:pt x="955" y="420"/>
                  </a:lnTo>
                  <a:lnTo>
                    <a:pt x="955" y="416"/>
                  </a:lnTo>
                  <a:lnTo>
                    <a:pt x="950" y="411"/>
                  </a:lnTo>
                  <a:lnTo>
                    <a:pt x="950" y="401"/>
                  </a:lnTo>
                  <a:lnTo>
                    <a:pt x="950" y="396"/>
                  </a:lnTo>
                  <a:lnTo>
                    <a:pt x="945" y="391"/>
                  </a:lnTo>
                  <a:lnTo>
                    <a:pt x="945" y="386"/>
                  </a:lnTo>
                  <a:lnTo>
                    <a:pt x="945" y="381"/>
                  </a:lnTo>
                  <a:lnTo>
                    <a:pt x="940" y="376"/>
                  </a:lnTo>
                  <a:lnTo>
                    <a:pt x="940" y="371"/>
                  </a:lnTo>
                  <a:lnTo>
                    <a:pt x="940" y="366"/>
                  </a:lnTo>
                  <a:lnTo>
                    <a:pt x="935" y="356"/>
                  </a:lnTo>
                  <a:lnTo>
                    <a:pt x="935" y="351"/>
                  </a:lnTo>
                  <a:lnTo>
                    <a:pt x="935" y="346"/>
                  </a:lnTo>
                  <a:lnTo>
                    <a:pt x="935" y="341"/>
                  </a:lnTo>
                  <a:lnTo>
                    <a:pt x="930" y="336"/>
                  </a:lnTo>
                  <a:lnTo>
                    <a:pt x="930" y="331"/>
                  </a:lnTo>
                  <a:lnTo>
                    <a:pt x="930" y="327"/>
                  </a:lnTo>
                  <a:lnTo>
                    <a:pt x="930" y="317"/>
                  </a:lnTo>
                  <a:lnTo>
                    <a:pt x="935" y="312"/>
                  </a:lnTo>
                  <a:lnTo>
                    <a:pt x="940" y="312"/>
                  </a:lnTo>
                  <a:lnTo>
                    <a:pt x="950" y="312"/>
                  </a:lnTo>
                  <a:lnTo>
                    <a:pt x="960" y="307"/>
                  </a:lnTo>
                  <a:lnTo>
                    <a:pt x="964" y="307"/>
                  </a:lnTo>
                  <a:lnTo>
                    <a:pt x="974" y="302"/>
                  </a:lnTo>
                  <a:lnTo>
                    <a:pt x="979" y="297"/>
                  </a:lnTo>
                  <a:lnTo>
                    <a:pt x="984" y="292"/>
                  </a:lnTo>
                  <a:lnTo>
                    <a:pt x="989" y="287"/>
                  </a:lnTo>
                  <a:lnTo>
                    <a:pt x="994" y="282"/>
                  </a:lnTo>
                  <a:lnTo>
                    <a:pt x="999" y="277"/>
                  </a:lnTo>
                  <a:lnTo>
                    <a:pt x="1004" y="272"/>
                  </a:lnTo>
                  <a:lnTo>
                    <a:pt x="1014" y="272"/>
                  </a:lnTo>
                  <a:lnTo>
                    <a:pt x="1024" y="272"/>
                  </a:lnTo>
                  <a:lnTo>
                    <a:pt x="1034" y="272"/>
                  </a:lnTo>
                  <a:lnTo>
                    <a:pt x="1039" y="272"/>
                  </a:lnTo>
                  <a:lnTo>
                    <a:pt x="1044" y="267"/>
                  </a:lnTo>
                  <a:lnTo>
                    <a:pt x="1049" y="262"/>
                  </a:lnTo>
                  <a:lnTo>
                    <a:pt x="1053" y="257"/>
                  </a:lnTo>
                  <a:lnTo>
                    <a:pt x="1058" y="252"/>
                  </a:lnTo>
                  <a:lnTo>
                    <a:pt x="1063" y="247"/>
                  </a:lnTo>
                  <a:lnTo>
                    <a:pt x="1073" y="247"/>
                  </a:lnTo>
                  <a:lnTo>
                    <a:pt x="1083" y="247"/>
                  </a:lnTo>
                  <a:lnTo>
                    <a:pt x="1093" y="243"/>
                  </a:lnTo>
                  <a:lnTo>
                    <a:pt x="1098" y="238"/>
                  </a:lnTo>
                  <a:lnTo>
                    <a:pt x="1103" y="233"/>
                  </a:lnTo>
                  <a:lnTo>
                    <a:pt x="1108" y="228"/>
                  </a:lnTo>
                  <a:lnTo>
                    <a:pt x="1108" y="223"/>
                  </a:lnTo>
                  <a:lnTo>
                    <a:pt x="1113" y="218"/>
                  </a:lnTo>
                  <a:lnTo>
                    <a:pt x="1123" y="218"/>
                  </a:lnTo>
                  <a:lnTo>
                    <a:pt x="1133" y="218"/>
                  </a:lnTo>
                  <a:lnTo>
                    <a:pt x="1138" y="213"/>
                  </a:lnTo>
                  <a:lnTo>
                    <a:pt x="1143" y="208"/>
                  </a:lnTo>
                  <a:lnTo>
                    <a:pt x="1152" y="208"/>
                  </a:lnTo>
                  <a:lnTo>
                    <a:pt x="1162" y="213"/>
                  </a:lnTo>
                  <a:lnTo>
                    <a:pt x="1172" y="213"/>
                  </a:lnTo>
                  <a:lnTo>
                    <a:pt x="1177" y="208"/>
                  </a:lnTo>
                  <a:lnTo>
                    <a:pt x="1177" y="203"/>
                  </a:lnTo>
                  <a:lnTo>
                    <a:pt x="1177" y="198"/>
                  </a:lnTo>
                  <a:lnTo>
                    <a:pt x="1182" y="188"/>
                  </a:lnTo>
                  <a:lnTo>
                    <a:pt x="1182" y="183"/>
                  </a:lnTo>
                  <a:lnTo>
                    <a:pt x="1187" y="178"/>
                  </a:lnTo>
                  <a:lnTo>
                    <a:pt x="1192" y="173"/>
                  </a:lnTo>
                  <a:lnTo>
                    <a:pt x="1197" y="168"/>
                  </a:lnTo>
                  <a:lnTo>
                    <a:pt x="1207" y="168"/>
                  </a:lnTo>
                  <a:lnTo>
                    <a:pt x="1212" y="163"/>
                  </a:lnTo>
                  <a:lnTo>
                    <a:pt x="1222" y="163"/>
                  </a:lnTo>
                  <a:lnTo>
                    <a:pt x="1227" y="163"/>
                  </a:lnTo>
                  <a:lnTo>
                    <a:pt x="1236" y="168"/>
                  </a:lnTo>
                  <a:lnTo>
                    <a:pt x="1241" y="173"/>
                  </a:lnTo>
                  <a:lnTo>
                    <a:pt x="1241" y="178"/>
                  </a:lnTo>
                  <a:lnTo>
                    <a:pt x="1246" y="183"/>
                  </a:lnTo>
                  <a:lnTo>
                    <a:pt x="1256" y="183"/>
                  </a:lnTo>
                  <a:lnTo>
                    <a:pt x="1256" y="178"/>
                  </a:lnTo>
                  <a:lnTo>
                    <a:pt x="1256" y="173"/>
                  </a:lnTo>
                  <a:lnTo>
                    <a:pt x="1256" y="163"/>
                  </a:lnTo>
                  <a:lnTo>
                    <a:pt x="1256" y="159"/>
                  </a:lnTo>
                  <a:lnTo>
                    <a:pt x="1261" y="154"/>
                  </a:lnTo>
                  <a:lnTo>
                    <a:pt x="1266" y="149"/>
                  </a:lnTo>
                  <a:lnTo>
                    <a:pt x="1271" y="149"/>
                  </a:lnTo>
                  <a:lnTo>
                    <a:pt x="1276" y="144"/>
                  </a:lnTo>
                  <a:lnTo>
                    <a:pt x="1286" y="139"/>
                  </a:lnTo>
                  <a:lnTo>
                    <a:pt x="1291" y="134"/>
                  </a:lnTo>
                  <a:lnTo>
                    <a:pt x="1301" y="134"/>
                  </a:lnTo>
                  <a:lnTo>
                    <a:pt x="1311" y="134"/>
                  </a:lnTo>
                  <a:lnTo>
                    <a:pt x="1321" y="134"/>
                  </a:lnTo>
                  <a:lnTo>
                    <a:pt x="1326" y="129"/>
                  </a:lnTo>
                  <a:lnTo>
                    <a:pt x="1335" y="129"/>
                  </a:lnTo>
                  <a:lnTo>
                    <a:pt x="1340" y="124"/>
                  </a:lnTo>
                  <a:lnTo>
                    <a:pt x="1350" y="119"/>
                  </a:lnTo>
                  <a:lnTo>
                    <a:pt x="1355" y="119"/>
                  </a:lnTo>
                  <a:lnTo>
                    <a:pt x="1360" y="114"/>
                  </a:lnTo>
                  <a:lnTo>
                    <a:pt x="1370" y="114"/>
                  </a:lnTo>
                  <a:lnTo>
                    <a:pt x="1380" y="109"/>
                  </a:lnTo>
                  <a:lnTo>
                    <a:pt x="1385" y="104"/>
                  </a:lnTo>
                  <a:lnTo>
                    <a:pt x="1390" y="99"/>
                  </a:lnTo>
                  <a:lnTo>
                    <a:pt x="1395" y="94"/>
                  </a:lnTo>
                  <a:lnTo>
                    <a:pt x="1405" y="94"/>
                  </a:lnTo>
                  <a:lnTo>
                    <a:pt x="1410" y="89"/>
                  </a:lnTo>
                  <a:lnTo>
                    <a:pt x="1419" y="89"/>
                  </a:lnTo>
                  <a:lnTo>
                    <a:pt x="1429" y="84"/>
                  </a:lnTo>
                  <a:lnTo>
                    <a:pt x="1434" y="84"/>
                  </a:lnTo>
                  <a:lnTo>
                    <a:pt x="1444" y="79"/>
                  </a:lnTo>
                  <a:lnTo>
                    <a:pt x="1449" y="79"/>
                  </a:lnTo>
                  <a:lnTo>
                    <a:pt x="1459" y="74"/>
                  </a:lnTo>
                  <a:lnTo>
                    <a:pt x="1464" y="74"/>
                  </a:lnTo>
                  <a:lnTo>
                    <a:pt x="1469" y="70"/>
                  </a:lnTo>
                  <a:lnTo>
                    <a:pt x="1479" y="65"/>
                  </a:lnTo>
                  <a:lnTo>
                    <a:pt x="1484" y="60"/>
                  </a:lnTo>
                  <a:lnTo>
                    <a:pt x="1489" y="55"/>
                  </a:lnTo>
                  <a:lnTo>
                    <a:pt x="1499" y="55"/>
                  </a:lnTo>
                  <a:lnTo>
                    <a:pt x="1508" y="55"/>
                  </a:lnTo>
                  <a:lnTo>
                    <a:pt x="1508" y="45"/>
                  </a:lnTo>
                  <a:lnTo>
                    <a:pt x="1513" y="40"/>
                  </a:lnTo>
                  <a:lnTo>
                    <a:pt x="1518" y="40"/>
                  </a:lnTo>
                  <a:lnTo>
                    <a:pt x="1528" y="40"/>
                  </a:lnTo>
                  <a:lnTo>
                    <a:pt x="1538" y="40"/>
                  </a:lnTo>
                  <a:lnTo>
                    <a:pt x="1548" y="40"/>
                  </a:lnTo>
                  <a:lnTo>
                    <a:pt x="1553" y="35"/>
                  </a:lnTo>
                  <a:lnTo>
                    <a:pt x="1558" y="30"/>
                  </a:lnTo>
                  <a:lnTo>
                    <a:pt x="1563" y="25"/>
                  </a:lnTo>
                  <a:lnTo>
                    <a:pt x="1573" y="20"/>
                  </a:lnTo>
                  <a:lnTo>
                    <a:pt x="1578" y="20"/>
                  </a:lnTo>
                  <a:lnTo>
                    <a:pt x="1583" y="15"/>
                  </a:lnTo>
                  <a:lnTo>
                    <a:pt x="1593" y="15"/>
                  </a:lnTo>
                  <a:lnTo>
                    <a:pt x="1602" y="10"/>
                  </a:lnTo>
                  <a:lnTo>
                    <a:pt x="1607" y="10"/>
                  </a:lnTo>
                  <a:lnTo>
                    <a:pt x="1617" y="5"/>
                  </a:lnTo>
                  <a:lnTo>
                    <a:pt x="1627" y="5"/>
                  </a:lnTo>
                  <a:lnTo>
                    <a:pt x="1632" y="0"/>
                  </a:lnTo>
                  <a:lnTo>
                    <a:pt x="1642" y="0"/>
                  </a:lnTo>
                  <a:lnTo>
                    <a:pt x="1622" y="0"/>
                  </a:lnTo>
                  <a:lnTo>
                    <a:pt x="1598" y="0"/>
                  </a:lnTo>
                  <a:lnTo>
                    <a:pt x="1568" y="0"/>
                  </a:lnTo>
                  <a:lnTo>
                    <a:pt x="1543" y="0"/>
                  </a:lnTo>
                  <a:lnTo>
                    <a:pt x="1513" y="0"/>
                  </a:lnTo>
                  <a:lnTo>
                    <a:pt x="1489" y="0"/>
                  </a:lnTo>
                  <a:lnTo>
                    <a:pt x="1464" y="0"/>
                  </a:lnTo>
                  <a:lnTo>
                    <a:pt x="1434" y="0"/>
                  </a:lnTo>
                  <a:lnTo>
                    <a:pt x="1410" y="0"/>
                  </a:lnTo>
                  <a:lnTo>
                    <a:pt x="1385" y="0"/>
                  </a:lnTo>
                  <a:lnTo>
                    <a:pt x="1355" y="0"/>
                  </a:lnTo>
                  <a:lnTo>
                    <a:pt x="1330" y="0"/>
                  </a:lnTo>
                  <a:lnTo>
                    <a:pt x="1301" y="0"/>
                  </a:lnTo>
                  <a:lnTo>
                    <a:pt x="1276" y="0"/>
                  </a:lnTo>
                  <a:lnTo>
                    <a:pt x="1251" y="0"/>
                  </a:lnTo>
                  <a:lnTo>
                    <a:pt x="1222" y="0"/>
                  </a:lnTo>
                  <a:lnTo>
                    <a:pt x="1197" y="0"/>
                  </a:lnTo>
                  <a:lnTo>
                    <a:pt x="1172" y="0"/>
                  </a:lnTo>
                  <a:lnTo>
                    <a:pt x="1143" y="0"/>
                  </a:lnTo>
                  <a:lnTo>
                    <a:pt x="1118" y="0"/>
                  </a:lnTo>
                  <a:lnTo>
                    <a:pt x="1088" y="0"/>
                  </a:lnTo>
                  <a:lnTo>
                    <a:pt x="1063" y="0"/>
                  </a:lnTo>
                  <a:lnTo>
                    <a:pt x="1039" y="0"/>
                  </a:lnTo>
                  <a:lnTo>
                    <a:pt x="1009" y="0"/>
                  </a:lnTo>
                  <a:lnTo>
                    <a:pt x="984" y="0"/>
                  </a:lnTo>
                  <a:lnTo>
                    <a:pt x="955" y="0"/>
                  </a:lnTo>
                  <a:lnTo>
                    <a:pt x="930" y="0"/>
                  </a:lnTo>
                  <a:lnTo>
                    <a:pt x="905" y="0"/>
                  </a:lnTo>
                  <a:lnTo>
                    <a:pt x="875" y="0"/>
                  </a:lnTo>
                  <a:lnTo>
                    <a:pt x="851" y="0"/>
                  </a:lnTo>
                  <a:lnTo>
                    <a:pt x="826" y="0"/>
                  </a:lnTo>
                  <a:lnTo>
                    <a:pt x="796" y="0"/>
                  </a:lnTo>
                  <a:lnTo>
                    <a:pt x="772" y="0"/>
                  </a:lnTo>
                  <a:lnTo>
                    <a:pt x="742" y="0"/>
                  </a:lnTo>
                  <a:lnTo>
                    <a:pt x="717" y="0"/>
                  </a:lnTo>
                  <a:lnTo>
                    <a:pt x="692" y="0"/>
                  </a:lnTo>
                  <a:lnTo>
                    <a:pt x="663" y="0"/>
                  </a:lnTo>
                  <a:lnTo>
                    <a:pt x="638" y="0"/>
                  </a:lnTo>
                  <a:lnTo>
                    <a:pt x="613" y="0"/>
                  </a:lnTo>
                  <a:lnTo>
                    <a:pt x="584" y="25"/>
                  </a:lnTo>
                  <a:lnTo>
                    <a:pt x="559" y="55"/>
                  </a:lnTo>
                  <a:lnTo>
                    <a:pt x="529" y="79"/>
                  </a:lnTo>
                  <a:lnTo>
                    <a:pt x="505" y="104"/>
                  </a:lnTo>
                  <a:lnTo>
                    <a:pt x="480" y="134"/>
                  </a:lnTo>
                  <a:lnTo>
                    <a:pt x="450" y="134"/>
                  </a:lnTo>
                  <a:lnTo>
                    <a:pt x="425" y="159"/>
                  </a:lnTo>
                  <a:lnTo>
                    <a:pt x="396" y="188"/>
                  </a:lnTo>
                  <a:lnTo>
                    <a:pt x="371" y="213"/>
                  </a:lnTo>
                  <a:lnTo>
                    <a:pt x="346" y="238"/>
                  </a:lnTo>
                  <a:lnTo>
                    <a:pt x="317" y="267"/>
                  </a:lnTo>
                  <a:lnTo>
                    <a:pt x="292" y="292"/>
                  </a:lnTo>
                  <a:lnTo>
                    <a:pt x="267" y="322"/>
                  </a:lnTo>
                  <a:lnTo>
                    <a:pt x="237" y="322"/>
                  </a:lnTo>
                  <a:lnTo>
                    <a:pt x="213" y="346"/>
                  </a:lnTo>
                  <a:lnTo>
                    <a:pt x="213" y="371"/>
                  </a:lnTo>
                  <a:lnTo>
                    <a:pt x="218" y="371"/>
                  </a:lnTo>
                  <a:lnTo>
                    <a:pt x="223" y="371"/>
                  </a:lnTo>
                  <a:lnTo>
                    <a:pt x="223" y="376"/>
                  </a:lnTo>
                  <a:lnTo>
                    <a:pt x="218" y="381"/>
                  </a:lnTo>
                  <a:lnTo>
                    <a:pt x="218" y="381"/>
                  </a:lnTo>
                  <a:lnTo>
                    <a:pt x="213" y="386"/>
                  </a:lnTo>
                  <a:lnTo>
                    <a:pt x="208" y="386"/>
                  </a:lnTo>
                  <a:lnTo>
                    <a:pt x="203" y="391"/>
                  </a:lnTo>
                  <a:lnTo>
                    <a:pt x="203" y="396"/>
                  </a:lnTo>
                  <a:lnTo>
                    <a:pt x="198" y="396"/>
                  </a:lnTo>
                  <a:lnTo>
                    <a:pt x="198" y="401"/>
                  </a:lnTo>
                  <a:lnTo>
                    <a:pt x="193" y="406"/>
                  </a:lnTo>
                  <a:lnTo>
                    <a:pt x="188" y="406"/>
                  </a:lnTo>
                  <a:lnTo>
                    <a:pt x="188" y="411"/>
                  </a:lnTo>
                  <a:lnTo>
                    <a:pt x="183" y="411"/>
                  </a:lnTo>
                  <a:lnTo>
                    <a:pt x="183" y="406"/>
                  </a:lnTo>
                  <a:lnTo>
                    <a:pt x="178" y="401"/>
                  </a:lnTo>
                  <a:lnTo>
                    <a:pt x="158" y="401"/>
                  </a:lnTo>
                  <a:lnTo>
                    <a:pt x="134" y="425"/>
                  </a:lnTo>
                  <a:lnTo>
                    <a:pt x="104" y="455"/>
                  </a:lnTo>
                  <a:lnTo>
                    <a:pt x="79" y="480"/>
                  </a:lnTo>
                  <a:lnTo>
                    <a:pt x="55" y="504"/>
                  </a:lnTo>
                  <a:lnTo>
                    <a:pt x="25" y="504"/>
                  </a:lnTo>
                  <a:lnTo>
                    <a:pt x="0" y="534"/>
                  </a:lnTo>
                  <a:lnTo>
                    <a:pt x="0" y="559"/>
                  </a:lnTo>
                  <a:lnTo>
                    <a:pt x="0" y="589"/>
                  </a:lnTo>
                  <a:lnTo>
                    <a:pt x="0" y="613"/>
                  </a:lnTo>
                  <a:lnTo>
                    <a:pt x="25" y="643"/>
                  </a:lnTo>
                  <a:lnTo>
                    <a:pt x="25" y="668"/>
                  </a:lnTo>
                  <a:lnTo>
                    <a:pt x="55" y="692"/>
                  </a:lnTo>
                  <a:lnTo>
                    <a:pt x="79" y="722"/>
                  </a:lnTo>
                  <a:lnTo>
                    <a:pt x="104" y="747"/>
                  </a:lnTo>
                  <a:lnTo>
                    <a:pt x="134" y="776"/>
                  </a:lnTo>
                  <a:lnTo>
                    <a:pt x="134" y="801"/>
                  </a:lnTo>
                  <a:lnTo>
                    <a:pt x="158" y="826"/>
                  </a:lnTo>
                  <a:lnTo>
                    <a:pt x="183" y="855"/>
                  </a:lnTo>
                  <a:lnTo>
                    <a:pt x="213" y="880"/>
                  </a:lnTo>
                  <a:lnTo>
                    <a:pt x="237" y="910"/>
                  </a:lnTo>
                  <a:lnTo>
                    <a:pt x="267" y="934"/>
                  </a:lnTo>
                  <a:lnTo>
                    <a:pt x="292" y="959"/>
                  </a:lnTo>
                  <a:lnTo>
                    <a:pt x="292" y="989"/>
                  </a:lnTo>
                  <a:lnTo>
                    <a:pt x="317" y="1014"/>
                  </a:lnTo>
                  <a:lnTo>
                    <a:pt x="346" y="1043"/>
                  </a:lnTo>
                  <a:lnTo>
                    <a:pt x="371" y="1068"/>
                  </a:lnTo>
                  <a:lnTo>
                    <a:pt x="396" y="1093"/>
                  </a:lnTo>
                  <a:lnTo>
                    <a:pt x="425" y="1122"/>
                  </a:lnTo>
                  <a:lnTo>
                    <a:pt x="450" y="1147"/>
                  </a:lnTo>
                  <a:lnTo>
                    <a:pt x="480" y="1177"/>
                  </a:lnTo>
                  <a:lnTo>
                    <a:pt x="505" y="1201"/>
                  </a:lnTo>
                  <a:lnTo>
                    <a:pt x="529" y="1226"/>
                  </a:lnTo>
                  <a:lnTo>
                    <a:pt x="559" y="1256"/>
                  </a:lnTo>
                  <a:lnTo>
                    <a:pt x="584" y="1280"/>
                  </a:lnTo>
                  <a:lnTo>
                    <a:pt x="613" y="1310"/>
                  </a:lnTo>
                  <a:lnTo>
                    <a:pt x="638" y="1335"/>
                  </a:lnTo>
                  <a:lnTo>
                    <a:pt x="663" y="1364"/>
                  </a:lnTo>
                  <a:lnTo>
                    <a:pt x="692" y="1389"/>
                  </a:lnTo>
                  <a:lnTo>
                    <a:pt x="717" y="1414"/>
                  </a:lnTo>
                  <a:lnTo>
                    <a:pt x="742" y="1444"/>
                  </a:lnTo>
                  <a:lnTo>
                    <a:pt x="772" y="1468"/>
                  </a:lnTo>
                  <a:lnTo>
                    <a:pt x="796" y="1468"/>
                  </a:lnTo>
                  <a:lnTo>
                    <a:pt x="826" y="1498"/>
                  </a:lnTo>
                  <a:lnTo>
                    <a:pt x="851" y="1523"/>
                  </a:lnTo>
                  <a:lnTo>
                    <a:pt x="875" y="1547"/>
                  </a:lnTo>
                  <a:lnTo>
                    <a:pt x="905" y="1577"/>
                  </a:lnTo>
                  <a:lnTo>
                    <a:pt x="930" y="1602"/>
                  </a:lnTo>
                  <a:lnTo>
                    <a:pt x="955" y="1631"/>
                  </a:lnTo>
                  <a:lnTo>
                    <a:pt x="984" y="1656"/>
                  </a:lnTo>
                  <a:lnTo>
                    <a:pt x="1009" y="1656"/>
                  </a:lnTo>
                  <a:lnTo>
                    <a:pt x="1039" y="1656"/>
                  </a:lnTo>
                  <a:lnTo>
                    <a:pt x="1063" y="1656"/>
                  </a:lnTo>
                  <a:lnTo>
                    <a:pt x="1088" y="1656"/>
                  </a:lnTo>
                  <a:lnTo>
                    <a:pt x="1118" y="1656"/>
                  </a:lnTo>
                  <a:lnTo>
                    <a:pt x="1143" y="1656"/>
                  </a:lnTo>
                  <a:lnTo>
                    <a:pt x="1172" y="1656"/>
                  </a:lnTo>
                  <a:lnTo>
                    <a:pt x="1197" y="1656"/>
                  </a:lnTo>
                  <a:lnTo>
                    <a:pt x="1222" y="1656"/>
                  </a:lnTo>
                  <a:lnTo>
                    <a:pt x="1251" y="1656"/>
                  </a:lnTo>
                  <a:lnTo>
                    <a:pt x="1276" y="1656"/>
                  </a:lnTo>
                  <a:lnTo>
                    <a:pt x="1301" y="1656"/>
                  </a:lnTo>
                  <a:lnTo>
                    <a:pt x="1330" y="1656"/>
                  </a:lnTo>
                  <a:lnTo>
                    <a:pt x="1355" y="1656"/>
                  </a:lnTo>
                  <a:lnTo>
                    <a:pt x="1385" y="1656"/>
                  </a:lnTo>
                  <a:lnTo>
                    <a:pt x="1410" y="1656"/>
                  </a:lnTo>
                  <a:lnTo>
                    <a:pt x="1434" y="1656"/>
                  </a:lnTo>
                  <a:lnTo>
                    <a:pt x="1464" y="1656"/>
                  </a:lnTo>
                  <a:lnTo>
                    <a:pt x="1489" y="1656"/>
                  </a:lnTo>
                  <a:lnTo>
                    <a:pt x="1513" y="1656"/>
                  </a:lnTo>
                  <a:lnTo>
                    <a:pt x="1543" y="1656"/>
                  </a:lnTo>
                  <a:lnTo>
                    <a:pt x="1568" y="1656"/>
                  </a:lnTo>
                  <a:lnTo>
                    <a:pt x="1598" y="1656"/>
                  </a:lnTo>
                  <a:lnTo>
                    <a:pt x="1622" y="1656"/>
                  </a:lnTo>
                  <a:lnTo>
                    <a:pt x="1647" y="1656"/>
                  </a:lnTo>
                  <a:lnTo>
                    <a:pt x="1677" y="1656"/>
                  </a:lnTo>
                  <a:lnTo>
                    <a:pt x="1701" y="1656"/>
                  </a:lnTo>
                  <a:lnTo>
                    <a:pt x="1726" y="1656"/>
                  </a:lnTo>
                  <a:lnTo>
                    <a:pt x="1756" y="1656"/>
                  </a:lnTo>
                  <a:lnTo>
                    <a:pt x="1780" y="1656"/>
                  </a:lnTo>
                  <a:lnTo>
                    <a:pt x="1810" y="1656"/>
                  </a:lnTo>
                  <a:lnTo>
                    <a:pt x="1835" y="1656"/>
                  </a:lnTo>
                  <a:lnTo>
                    <a:pt x="1860" y="1656"/>
                  </a:lnTo>
                  <a:lnTo>
                    <a:pt x="1889" y="1656"/>
                  </a:lnTo>
                  <a:lnTo>
                    <a:pt x="1914" y="1656"/>
                  </a:lnTo>
                  <a:lnTo>
                    <a:pt x="1944" y="1656"/>
                  </a:lnTo>
                  <a:lnTo>
                    <a:pt x="1968" y="1656"/>
                  </a:lnTo>
                  <a:lnTo>
                    <a:pt x="1993" y="1656"/>
                  </a:lnTo>
                  <a:lnTo>
                    <a:pt x="2023" y="1656"/>
                  </a:lnTo>
                  <a:lnTo>
                    <a:pt x="2048" y="1656"/>
                  </a:lnTo>
                  <a:lnTo>
                    <a:pt x="2072" y="1656"/>
                  </a:lnTo>
                  <a:lnTo>
                    <a:pt x="2102" y="1656"/>
                  </a:lnTo>
                  <a:lnTo>
                    <a:pt x="2127" y="1656"/>
                  </a:lnTo>
                  <a:lnTo>
                    <a:pt x="2156" y="1656"/>
                  </a:lnTo>
                  <a:lnTo>
                    <a:pt x="2181" y="1656"/>
                  </a:lnTo>
                  <a:lnTo>
                    <a:pt x="2206" y="1656"/>
                  </a:lnTo>
                  <a:lnTo>
                    <a:pt x="2235" y="1656"/>
                  </a:lnTo>
                  <a:close/>
                  <a:moveTo>
                    <a:pt x="420" y="1068"/>
                  </a:moveTo>
                  <a:lnTo>
                    <a:pt x="416" y="1068"/>
                  </a:lnTo>
                  <a:lnTo>
                    <a:pt x="406" y="1063"/>
                  </a:lnTo>
                  <a:lnTo>
                    <a:pt x="401" y="1058"/>
                  </a:lnTo>
                  <a:lnTo>
                    <a:pt x="396" y="1053"/>
                  </a:lnTo>
                  <a:lnTo>
                    <a:pt x="396" y="1048"/>
                  </a:lnTo>
                  <a:lnTo>
                    <a:pt x="391" y="1048"/>
                  </a:lnTo>
                  <a:lnTo>
                    <a:pt x="386" y="1043"/>
                  </a:lnTo>
                  <a:lnTo>
                    <a:pt x="381" y="1038"/>
                  </a:lnTo>
                  <a:lnTo>
                    <a:pt x="376" y="1033"/>
                  </a:lnTo>
                  <a:lnTo>
                    <a:pt x="371" y="1028"/>
                  </a:lnTo>
                  <a:lnTo>
                    <a:pt x="371" y="1023"/>
                  </a:lnTo>
                  <a:lnTo>
                    <a:pt x="366" y="1019"/>
                  </a:lnTo>
                  <a:lnTo>
                    <a:pt x="361" y="1014"/>
                  </a:lnTo>
                  <a:lnTo>
                    <a:pt x="356" y="1014"/>
                  </a:lnTo>
                  <a:lnTo>
                    <a:pt x="356" y="1009"/>
                  </a:lnTo>
                  <a:lnTo>
                    <a:pt x="351" y="1004"/>
                  </a:lnTo>
                  <a:lnTo>
                    <a:pt x="346" y="999"/>
                  </a:lnTo>
                  <a:lnTo>
                    <a:pt x="346" y="994"/>
                  </a:lnTo>
                  <a:lnTo>
                    <a:pt x="341" y="989"/>
                  </a:lnTo>
                  <a:lnTo>
                    <a:pt x="336" y="984"/>
                  </a:lnTo>
                  <a:lnTo>
                    <a:pt x="331" y="979"/>
                  </a:lnTo>
                  <a:lnTo>
                    <a:pt x="331" y="974"/>
                  </a:lnTo>
                  <a:lnTo>
                    <a:pt x="327" y="969"/>
                  </a:lnTo>
                  <a:lnTo>
                    <a:pt x="322" y="964"/>
                  </a:lnTo>
                  <a:lnTo>
                    <a:pt x="317" y="959"/>
                  </a:lnTo>
                  <a:lnTo>
                    <a:pt x="317" y="959"/>
                  </a:lnTo>
                  <a:lnTo>
                    <a:pt x="312" y="954"/>
                  </a:lnTo>
                  <a:lnTo>
                    <a:pt x="307" y="949"/>
                  </a:lnTo>
                  <a:lnTo>
                    <a:pt x="302" y="944"/>
                  </a:lnTo>
                  <a:lnTo>
                    <a:pt x="302" y="939"/>
                  </a:lnTo>
                  <a:lnTo>
                    <a:pt x="297" y="934"/>
                  </a:lnTo>
                  <a:lnTo>
                    <a:pt x="292" y="930"/>
                  </a:lnTo>
                  <a:lnTo>
                    <a:pt x="292" y="925"/>
                  </a:lnTo>
                  <a:lnTo>
                    <a:pt x="287" y="920"/>
                  </a:lnTo>
                  <a:lnTo>
                    <a:pt x="282" y="915"/>
                  </a:lnTo>
                  <a:lnTo>
                    <a:pt x="277" y="910"/>
                  </a:lnTo>
                  <a:lnTo>
                    <a:pt x="277" y="910"/>
                  </a:lnTo>
                  <a:lnTo>
                    <a:pt x="272" y="905"/>
                  </a:lnTo>
                  <a:lnTo>
                    <a:pt x="267" y="900"/>
                  </a:lnTo>
                  <a:lnTo>
                    <a:pt x="262" y="895"/>
                  </a:lnTo>
                  <a:lnTo>
                    <a:pt x="262" y="890"/>
                  </a:lnTo>
                  <a:lnTo>
                    <a:pt x="257" y="885"/>
                  </a:lnTo>
                  <a:lnTo>
                    <a:pt x="252" y="880"/>
                  </a:lnTo>
                  <a:lnTo>
                    <a:pt x="252" y="875"/>
                  </a:lnTo>
                  <a:lnTo>
                    <a:pt x="247" y="870"/>
                  </a:lnTo>
                  <a:lnTo>
                    <a:pt x="242" y="865"/>
                  </a:lnTo>
                  <a:lnTo>
                    <a:pt x="237" y="860"/>
                  </a:lnTo>
                  <a:lnTo>
                    <a:pt x="237" y="860"/>
                  </a:lnTo>
                  <a:lnTo>
                    <a:pt x="233" y="855"/>
                  </a:lnTo>
                  <a:lnTo>
                    <a:pt x="228" y="850"/>
                  </a:lnTo>
                  <a:lnTo>
                    <a:pt x="223" y="846"/>
                  </a:lnTo>
                  <a:lnTo>
                    <a:pt x="223" y="841"/>
                  </a:lnTo>
                  <a:lnTo>
                    <a:pt x="218" y="836"/>
                  </a:lnTo>
                  <a:lnTo>
                    <a:pt x="213" y="831"/>
                  </a:lnTo>
                  <a:lnTo>
                    <a:pt x="213" y="826"/>
                  </a:lnTo>
                  <a:lnTo>
                    <a:pt x="208" y="821"/>
                  </a:lnTo>
                  <a:lnTo>
                    <a:pt x="203" y="816"/>
                  </a:lnTo>
                  <a:lnTo>
                    <a:pt x="198" y="811"/>
                  </a:lnTo>
                  <a:lnTo>
                    <a:pt x="198" y="806"/>
                  </a:lnTo>
                  <a:lnTo>
                    <a:pt x="193" y="806"/>
                  </a:lnTo>
                  <a:lnTo>
                    <a:pt x="188" y="801"/>
                  </a:lnTo>
                  <a:lnTo>
                    <a:pt x="183" y="796"/>
                  </a:lnTo>
                  <a:lnTo>
                    <a:pt x="183" y="791"/>
                  </a:lnTo>
                  <a:lnTo>
                    <a:pt x="178" y="786"/>
                  </a:lnTo>
                  <a:lnTo>
                    <a:pt x="173" y="781"/>
                  </a:lnTo>
                  <a:lnTo>
                    <a:pt x="168" y="776"/>
                  </a:lnTo>
                  <a:lnTo>
                    <a:pt x="168" y="771"/>
                  </a:lnTo>
                  <a:lnTo>
                    <a:pt x="163" y="766"/>
                  </a:lnTo>
                  <a:lnTo>
                    <a:pt x="158" y="762"/>
                  </a:lnTo>
                  <a:lnTo>
                    <a:pt x="158" y="757"/>
                  </a:lnTo>
                  <a:lnTo>
                    <a:pt x="153" y="757"/>
                  </a:lnTo>
                  <a:lnTo>
                    <a:pt x="148" y="752"/>
                  </a:lnTo>
                  <a:lnTo>
                    <a:pt x="144" y="747"/>
                  </a:lnTo>
                  <a:lnTo>
                    <a:pt x="144" y="742"/>
                  </a:lnTo>
                  <a:lnTo>
                    <a:pt x="139" y="737"/>
                  </a:lnTo>
                  <a:lnTo>
                    <a:pt x="134" y="732"/>
                  </a:lnTo>
                  <a:lnTo>
                    <a:pt x="129" y="727"/>
                  </a:lnTo>
                  <a:lnTo>
                    <a:pt x="124" y="722"/>
                  </a:lnTo>
                  <a:lnTo>
                    <a:pt x="129" y="717"/>
                  </a:lnTo>
                  <a:lnTo>
                    <a:pt x="134" y="712"/>
                  </a:lnTo>
                  <a:lnTo>
                    <a:pt x="134" y="717"/>
                  </a:lnTo>
                  <a:lnTo>
                    <a:pt x="134" y="727"/>
                  </a:lnTo>
                  <a:lnTo>
                    <a:pt x="139" y="732"/>
                  </a:lnTo>
                  <a:lnTo>
                    <a:pt x="144" y="737"/>
                  </a:lnTo>
                  <a:lnTo>
                    <a:pt x="148" y="742"/>
                  </a:lnTo>
                  <a:lnTo>
                    <a:pt x="153" y="742"/>
                  </a:lnTo>
                  <a:lnTo>
                    <a:pt x="158" y="742"/>
                  </a:lnTo>
                  <a:lnTo>
                    <a:pt x="163" y="742"/>
                  </a:lnTo>
                  <a:lnTo>
                    <a:pt x="168" y="737"/>
                  </a:lnTo>
                  <a:lnTo>
                    <a:pt x="178" y="732"/>
                  </a:lnTo>
                  <a:lnTo>
                    <a:pt x="183" y="727"/>
                  </a:lnTo>
                  <a:lnTo>
                    <a:pt x="188" y="727"/>
                  </a:lnTo>
                  <a:lnTo>
                    <a:pt x="198" y="727"/>
                  </a:lnTo>
                  <a:lnTo>
                    <a:pt x="203" y="732"/>
                  </a:lnTo>
                  <a:lnTo>
                    <a:pt x="208" y="737"/>
                  </a:lnTo>
                  <a:lnTo>
                    <a:pt x="213" y="742"/>
                  </a:lnTo>
                  <a:lnTo>
                    <a:pt x="218" y="747"/>
                  </a:lnTo>
                  <a:lnTo>
                    <a:pt x="218" y="752"/>
                  </a:lnTo>
                  <a:lnTo>
                    <a:pt x="223" y="757"/>
                  </a:lnTo>
                  <a:lnTo>
                    <a:pt x="228" y="762"/>
                  </a:lnTo>
                  <a:lnTo>
                    <a:pt x="233" y="766"/>
                  </a:lnTo>
                  <a:lnTo>
                    <a:pt x="237" y="766"/>
                  </a:lnTo>
                  <a:lnTo>
                    <a:pt x="242" y="766"/>
                  </a:lnTo>
                  <a:lnTo>
                    <a:pt x="247" y="766"/>
                  </a:lnTo>
                  <a:lnTo>
                    <a:pt x="252" y="762"/>
                  </a:lnTo>
                  <a:lnTo>
                    <a:pt x="262" y="757"/>
                  </a:lnTo>
                  <a:lnTo>
                    <a:pt x="267" y="752"/>
                  </a:lnTo>
                  <a:lnTo>
                    <a:pt x="272" y="752"/>
                  </a:lnTo>
                  <a:lnTo>
                    <a:pt x="282" y="752"/>
                  </a:lnTo>
                  <a:lnTo>
                    <a:pt x="287" y="747"/>
                  </a:lnTo>
                  <a:lnTo>
                    <a:pt x="292" y="747"/>
                  </a:lnTo>
                  <a:lnTo>
                    <a:pt x="302" y="747"/>
                  </a:lnTo>
                  <a:lnTo>
                    <a:pt x="307" y="752"/>
                  </a:lnTo>
                  <a:lnTo>
                    <a:pt x="312" y="757"/>
                  </a:lnTo>
                  <a:lnTo>
                    <a:pt x="317" y="762"/>
                  </a:lnTo>
                  <a:lnTo>
                    <a:pt x="317" y="766"/>
                  </a:lnTo>
                  <a:lnTo>
                    <a:pt x="322" y="771"/>
                  </a:lnTo>
                  <a:lnTo>
                    <a:pt x="322" y="776"/>
                  </a:lnTo>
                  <a:lnTo>
                    <a:pt x="322" y="781"/>
                  </a:lnTo>
                  <a:lnTo>
                    <a:pt x="317" y="786"/>
                  </a:lnTo>
                  <a:lnTo>
                    <a:pt x="317" y="786"/>
                  </a:lnTo>
                  <a:lnTo>
                    <a:pt x="312" y="781"/>
                  </a:lnTo>
                  <a:lnTo>
                    <a:pt x="302" y="776"/>
                  </a:lnTo>
                  <a:lnTo>
                    <a:pt x="297" y="771"/>
                  </a:lnTo>
                  <a:lnTo>
                    <a:pt x="292" y="766"/>
                  </a:lnTo>
                  <a:lnTo>
                    <a:pt x="292" y="771"/>
                  </a:lnTo>
                  <a:lnTo>
                    <a:pt x="292" y="776"/>
                  </a:lnTo>
                  <a:lnTo>
                    <a:pt x="292" y="781"/>
                  </a:lnTo>
                  <a:lnTo>
                    <a:pt x="287" y="786"/>
                  </a:lnTo>
                  <a:lnTo>
                    <a:pt x="287" y="791"/>
                  </a:lnTo>
                  <a:lnTo>
                    <a:pt x="287" y="796"/>
                  </a:lnTo>
                  <a:lnTo>
                    <a:pt x="292" y="801"/>
                  </a:lnTo>
                  <a:lnTo>
                    <a:pt x="297" y="806"/>
                  </a:lnTo>
                  <a:lnTo>
                    <a:pt x="307" y="806"/>
                  </a:lnTo>
                  <a:lnTo>
                    <a:pt x="317" y="806"/>
                  </a:lnTo>
                  <a:lnTo>
                    <a:pt x="322" y="806"/>
                  </a:lnTo>
                  <a:lnTo>
                    <a:pt x="327" y="811"/>
                  </a:lnTo>
                  <a:lnTo>
                    <a:pt x="331" y="816"/>
                  </a:lnTo>
                  <a:lnTo>
                    <a:pt x="331" y="821"/>
                  </a:lnTo>
                  <a:lnTo>
                    <a:pt x="336" y="826"/>
                  </a:lnTo>
                  <a:lnTo>
                    <a:pt x="341" y="831"/>
                  </a:lnTo>
                  <a:lnTo>
                    <a:pt x="346" y="836"/>
                  </a:lnTo>
                  <a:lnTo>
                    <a:pt x="351" y="836"/>
                  </a:lnTo>
                  <a:lnTo>
                    <a:pt x="356" y="841"/>
                  </a:lnTo>
                  <a:lnTo>
                    <a:pt x="361" y="846"/>
                  </a:lnTo>
                  <a:lnTo>
                    <a:pt x="366" y="850"/>
                  </a:lnTo>
                  <a:lnTo>
                    <a:pt x="371" y="855"/>
                  </a:lnTo>
                  <a:lnTo>
                    <a:pt x="376" y="850"/>
                  </a:lnTo>
                  <a:lnTo>
                    <a:pt x="386" y="850"/>
                  </a:lnTo>
                  <a:lnTo>
                    <a:pt x="391" y="850"/>
                  </a:lnTo>
                  <a:lnTo>
                    <a:pt x="401" y="850"/>
                  </a:lnTo>
                  <a:lnTo>
                    <a:pt x="406" y="846"/>
                  </a:lnTo>
                  <a:lnTo>
                    <a:pt x="411" y="841"/>
                  </a:lnTo>
                  <a:lnTo>
                    <a:pt x="416" y="836"/>
                  </a:lnTo>
                  <a:lnTo>
                    <a:pt x="420" y="836"/>
                  </a:lnTo>
                  <a:lnTo>
                    <a:pt x="425" y="831"/>
                  </a:lnTo>
                  <a:lnTo>
                    <a:pt x="430" y="826"/>
                  </a:lnTo>
                  <a:lnTo>
                    <a:pt x="435" y="821"/>
                  </a:lnTo>
                  <a:lnTo>
                    <a:pt x="440" y="816"/>
                  </a:lnTo>
                  <a:lnTo>
                    <a:pt x="445" y="816"/>
                  </a:lnTo>
                  <a:lnTo>
                    <a:pt x="455" y="811"/>
                  </a:lnTo>
                  <a:lnTo>
                    <a:pt x="460" y="806"/>
                  </a:lnTo>
                  <a:lnTo>
                    <a:pt x="465" y="806"/>
                  </a:lnTo>
                  <a:lnTo>
                    <a:pt x="470" y="801"/>
                  </a:lnTo>
                  <a:lnTo>
                    <a:pt x="475" y="796"/>
                  </a:lnTo>
                  <a:lnTo>
                    <a:pt x="485" y="796"/>
                  </a:lnTo>
                  <a:lnTo>
                    <a:pt x="490" y="796"/>
                  </a:lnTo>
                  <a:lnTo>
                    <a:pt x="500" y="801"/>
                  </a:lnTo>
                  <a:lnTo>
                    <a:pt x="505" y="801"/>
                  </a:lnTo>
                  <a:lnTo>
                    <a:pt x="514" y="796"/>
                  </a:lnTo>
                  <a:lnTo>
                    <a:pt x="519" y="791"/>
                  </a:lnTo>
                  <a:lnTo>
                    <a:pt x="524" y="791"/>
                  </a:lnTo>
                  <a:lnTo>
                    <a:pt x="534" y="791"/>
                  </a:lnTo>
                  <a:lnTo>
                    <a:pt x="539" y="791"/>
                  </a:lnTo>
                  <a:lnTo>
                    <a:pt x="544" y="796"/>
                  </a:lnTo>
                  <a:lnTo>
                    <a:pt x="549" y="801"/>
                  </a:lnTo>
                  <a:lnTo>
                    <a:pt x="549" y="806"/>
                  </a:lnTo>
                  <a:lnTo>
                    <a:pt x="549" y="811"/>
                  </a:lnTo>
                  <a:lnTo>
                    <a:pt x="549" y="816"/>
                  </a:lnTo>
                  <a:lnTo>
                    <a:pt x="549" y="821"/>
                  </a:lnTo>
                  <a:lnTo>
                    <a:pt x="544" y="826"/>
                  </a:lnTo>
                  <a:lnTo>
                    <a:pt x="544" y="831"/>
                  </a:lnTo>
                  <a:lnTo>
                    <a:pt x="544" y="836"/>
                  </a:lnTo>
                  <a:lnTo>
                    <a:pt x="544" y="841"/>
                  </a:lnTo>
                  <a:lnTo>
                    <a:pt x="539" y="846"/>
                  </a:lnTo>
                  <a:lnTo>
                    <a:pt x="539" y="850"/>
                  </a:lnTo>
                  <a:lnTo>
                    <a:pt x="539" y="855"/>
                  </a:lnTo>
                  <a:lnTo>
                    <a:pt x="539" y="860"/>
                  </a:lnTo>
                  <a:lnTo>
                    <a:pt x="539" y="865"/>
                  </a:lnTo>
                  <a:lnTo>
                    <a:pt x="539" y="870"/>
                  </a:lnTo>
                  <a:lnTo>
                    <a:pt x="539" y="875"/>
                  </a:lnTo>
                  <a:lnTo>
                    <a:pt x="534" y="880"/>
                  </a:lnTo>
                  <a:lnTo>
                    <a:pt x="534" y="885"/>
                  </a:lnTo>
                  <a:lnTo>
                    <a:pt x="534" y="890"/>
                  </a:lnTo>
                  <a:lnTo>
                    <a:pt x="534" y="895"/>
                  </a:lnTo>
                  <a:lnTo>
                    <a:pt x="534" y="900"/>
                  </a:lnTo>
                  <a:lnTo>
                    <a:pt x="534" y="905"/>
                  </a:lnTo>
                  <a:lnTo>
                    <a:pt x="534" y="910"/>
                  </a:lnTo>
                  <a:lnTo>
                    <a:pt x="529" y="915"/>
                  </a:lnTo>
                  <a:lnTo>
                    <a:pt x="529" y="925"/>
                  </a:lnTo>
                  <a:lnTo>
                    <a:pt x="529" y="930"/>
                  </a:lnTo>
                  <a:lnTo>
                    <a:pt x="529" y="934"/>
                  </a:lnTo>
                  <a:lnTo>
                    <a:pt x="529" y="939"/>
                  </a:lnTo>
                  <a:lnTo>
                    <a:pt x="524" y="939"/>
                  </a:lnTo>
                  <a:lnTo>
                    <a:pt x="519" y="944"/>
                  </a:lnTo>
                  <a:lnTo>
                    <a:pt x="514" y="949"/>
                  </a:lnTo>
                  <a:lnTo>
                    <a:pt x="514" y="954"/>
                  </a:lnTo>
                  <a:lnTo>
                    <a:pt x="505" y="959"/>
                  </a:lnTo>
                  <a:lnTo>
                    <a:pt x="505" y="964"/>
                  </a:lnTo>
                  <a:lnTo>
                    <a:pt x="509" y="969"/>
                  </a:lnTo>
                  <a:lnTo>
                    <a:pt x="514" y="974"/>
                  </a:lnTo>
                  <a:lnTo>
                    <a:pt x="519" y="979"/>
                  </a:lnTo>
                  <a:lnTo>
                    <a:pt x="519" y="984"/>
                  </a:lnTo>
                  <a:lnTo>
                    <a:pt x="524" y="984"/>
                  </a:lnTo>
                  <a:lnTo>
                    <a:pt x="529" y="989"/>
                  </a:lnTo>
                  <a:lnTo>
                    <a:pt x="534" y="994"/>
                  </a:lnTo>
                  <a:lnTo>
                    <a:pt x="539" y="999"/>
                  </a:lnTo>
                  <a:lnTo>
                    <a:pt x="544" y="1004"/>
                  </a:lnTo>
                  <a:lnTo>
                    <a:pt x="549" y="1009"/>
                  </a:lnTo>
                  <a:lnTo>
                    <a:pt x="554" y="1014"/>
                  </a:lnTo>
                  <a:lnTo>
                    <a:pt x="554" y="1014"/>
                  </a:lnTo>
                  <a:lnTo>
                    <a:pt x="549" y="1019"/>
                  </a:lnTo>
                  <a:lnTo>
                    <a:pt x="544" y="1023"/>
                  </a:lnTo>
                  <a:lnTo>
                    <a:pt x="534" y="1023"/>
                  </a:lnTo>
                  <a:lnTo>
                    <a:pt x="529" y="1028"/>
                  </a:lnTo>
                  <a:lnTo>
                    <a:pt x="519" y="1028"/>
                  </a:lnTo>
                  <a:lnTo>
                    <a:pt x="514" y="1033"/>
                  </a:lnTo>
                  <a:lnTo>
                    <a:pt x="505" y="1033"/>
                  </a:lnTo>
                  <a:lnTo>
                    <a:pt x="495" y="1033"/>
                  </a:lnTo>
                  <a:lnTo>
                    <a:pt x="490" y="1033"/>
                  </a:lnTo>
                  <a:lnTo>
                    <a:pt x="480" y="1033"/>
                  </a:lnTo>
                  <a:lnTo>
                    <a:pt x="475" y="1033"/>
                  </a:lnTo>
                  <a:lnTo>
                    <a:pt x="465" y="1033"/>
                  </a:lnTo>
                  <a:lnTo>
                    <a:pt x="455" y="1033"/>
                  </a:lnTo>
                  <a:lnTo>
                    <a:pt x="450" y="1033"/>
                  </a:lnTo>
                  <a:lnTo>
                    <a:pt x="440" y="1033"/>
                  </a:lnTo>
                  <a:lnTo>
                    <a:pt x="435" y="1033"/>
                  </a:lnTo>
                  <a:lnTo>
                    <a:pt x="425" y="1033"/>
                  </a:lnTo>
                  <a:lnTo>
                    <a:pt x="420" y="1038"/>
                  </a:lnTo>
                  <a:lnTo>
                    <a:pt x="411" y="1038"/>
                  </a:lnTo>
                  <a:lnTo>
                    <a:pt x="406" y="1043"/>
                  </a:lnTo>
                  <a:lnTo>
                    <a:pt x="406" y="1048"/>
                  </a:lnTo>
                  <a:lnTo>
                    <a:pt x="406" y="1053"/>
                  </a:lnTo>
                  <a:lnTo>
                    <a:pt x="406" y="1058"/>
                  </a:lnTo>
                  <a:lnTo>
                    <a:pt x="411" y="1063"/>
                  </a:lnTo>
                  <a:lnTo>
                    <a:pt x="420" y="1063"/>
                  </a:lnTo>
                  <a:lnTo>
                    <a:pt x="425" y="1068"/>
                  </a:lnTo>
                  <a:lnTo>
                    <a:pt x="420" y="1068"/>
                  </a:lnTo>
                  <a:close/>
                  <a:moveTo>
                    <a:pt x="465" y="989"/>
                  </a:moveTo>
                  <a:lnTo>
                    <a:pt x="460" y="984"/>
                  </a:lnTo>
                  <a:lnTo>
                    <a:pt x="460" y="984"/>
                  </a:lnTo>
                  <a:lnTo>
                    <a:pt x="455" y="984"/>
                  </a:lnTo>
                  <a:lnTo>
                    <a:pt x="450" y="984"/>
                  </a:lnTo>
                  <a:lnTo>
                    <a:pt x="445" y="984"/>
                  </a:lnTo>
                  <a:lnTo>
                    <a:pt x="445" y="984"/>
                  </a:lnTo>
                  <a:lnTo>
                    <a:pt x="445" y="989"/>
                  </a:lnTo>
                  <a:lnTo>
                    <a:pt x="445" y="989"/>
                  </a:lnTo>
                  <a:lnTo>
                    <a:pt x="445" y="989"/>
                  </a:lnTo>
                  <a:lnTo>
                    <a:pt x="450" y="994"/>
                  </a:lnTo>
                  <a:lnTo>
                    <a:pt x="455" y="994"/>
                  </a:lnTo>
                  <a:lnTo>
                    <a:pt x="460" y="989"/>
                  </a:lnTo>
                  <a:lnTo>
                    <a:pt x="460" y="989"/>
                  </a:lnTo>
                  <a:lnTo>
                    <a:pt x="465" y="989"/>
                  </a:lnTo>
                  <a:close/>
                  <a:moveTo>
                    <a:pt x="683" y="880"/>
                  </a:moveTo>
                  <a:lnTo>
                    <a:pt x="678" y="875"/>
                  </a:lnTo>
                  <a:lnTo>
                    <a:pt x="673" y="870"/>
                  </a:lnTo>
                  <a:lnTo>
                    <a:pt x="668" y="865"/>
                  </a:lnTo>
                  <a:lnTo>
                    <a:pt x="663" y="860"/>
                  </a:lnTo>
                  <a:lnTo>
                    <a:pt x="663" y="855"/>
                  </a:lnTo>
                  <a:lnTo>
                    <a:pt x="663" y="850"/>
                  </a:lnTo>
                  <a:lnTo>
                    <a:pt x="663" y="846"/>
                  </a:lnTo>
                  <a:lnTo>
                    <a:pt x="663" y="841"/>
                  </a:lnTo>
                  <a:lnTo>
                    <a:pt x="663" y="831"/>
                  </a:lnTo>
                  <a:lnTo>
                    <a:pt x="663" y="826"/>
                  </a:lnTo>
                  <a:lnTo>
                    <a:pt x="658" y="821"/>
                  </a:lnTo>
                  <a:lnTo>
                    <a:pt x="658" y="816"/>
                  </a:lnTo>
                  <a:lnTo>
                    <a:pt x="658" y="811"/>
                  </a:lnTo>
                  <a:lnTo>
                    <a:pt x="663" y="806"/>
                  </a:lnTo>
                  <a:lnTo>
                    <a:pt x="663" y="801"/>
                  </a:lnTo>
                  <a:lnTo>
                    <a:pt x="663" y="791"/>
                  </a:lnTo>
                  <a:lnTo>
                    <a:pt x="663" y="786"/>
                  </a:lnTo>
                  <a:lnTo>
                    <a:pt x="663" y="781"/>
                  </a:lnTo>
                  <a:lnTo>
                    <a:pt x="663" y="776"/>
                  </a:lnTo>
                  <a:lnTo>
                    <a:pt x="663" y="771"/>
                  </a:lnTo>
                  <a:lnTo>
                    <a:pt x="663" y="766"/>
                  </a:lnTo>
                  <a:lnTo>
                    <a:pt x="663" y="757"/>
                  </a:lnTo>
                  <a:lnTo>
                    <a:pt x="663" y="752"/>
                  </a:lnTo>
                  <a:lnTo>
                    <a:pt x="663" y="747"/>
                  </a:lnTo>
                  <a:lnTo>
                    <a:pt x="663" y="742"/>
                  </a:lnTo>
                  <a:lnTo>
                    <a:pt x="658" y="737"/>
                  </a:lnTo>
                  <a:lnTo>
                    <a:pt x="658" y="732"/>
                  </a:lnTo>
                  <a:lnTo>
                    <a:pt x="658" y="727"/>
                  </a:lnTo>
                  <a:lnTo>
                    <a:pt x="653" y="722"/>
                  </a:lnTo>
                  <a:lnTo>
                    <a:pt x="653" y="712"/>
                  </a:lnTo>
                  <a:lnTo>
                    <a:pt x="658" y="707"/>
                  </a:lnTo>
                  <a:lnTo>
                    <a:pt x="658" y="702"/>
                  </a:lnTo>
                  <a:lnTo>
                    <a:pt x="658" y="697"/>
                  </a:lnTo>
                  <a:lnTo>
                    <a:pt x="658" y="692"/>
                  </a:lnTo>
                  <a:lnTo>
                    <a:pt x="653" y="687"/>
                  </a:lnTo>
                  <a:lnTo>
                    <a:pt x="653" y="677"/>
                  </a:lnTo>
                  <a:lnTo>
                    <a:pt x="648" y="673"/>
                  </a:lnTo>
                  <a:lnTo>
                    <a:pt x="643" y="673"/>
                  </a:lnTo>
                  <a:lnTo>
                    <a:pt x="633" y="668"/>
                  </a:lnTo>
                  <a:lnTo>
                    <a:pt x="633" y="663"/>
                  </a:lnTo>
                  <a:lnTo>
                    <a:pt x="633" y="653"/>
                  </a:lnTo>
                  <a:lnTo>
                    <a:pt x="638" y="648"/>
                  </a:lnTo>
                  <a:lnTo>
                    <a:pt x="638" y="648"/>
                  </a:lnTo>
                  <a:lnTo>
                    <a:pt x="638" y="653"/>
                  </a:lnTo>
                  <a:lnTo>
                    <a:pt x="638" y="658"/>
                  </a:lnTo>
                  <a:lnTo>
                    <a:pt x="643" y="663"/>
                  </a:lnTo>
                  <a:lnTo>
                    <a:pt x="648" y="668"/>
                  </a:lnTo>
                  <a:lnTo>
                    <a:pt x="658" y="673"/>
                  </a:lnTo>
                  <a:lnTo>
                    <a:pt x="663" y="677"/>
                  </a:lnTo>
                  <a:lnTo>
                    <a:pt x="668" y="677"/>
                  </a:lnTo>
                  <a:lnTo>
                    <a:pt x="668" y="682"/>
                  </a:lnTo>
                  <a:lnTo>
                    <a:pt x="673" y="692"/>
                  </a:lnTo>
                  <a:lnTo>
                    <a:pt x="673" y="697"/>
                  </a:lnTo>
                  <a:lnTo>
                    <a:pt x="678" y="702"/>
                  </a:lnTo>
                  <a:lnTo>
                    <a:pt x="678" y="707"/>
                  </a:lnTo>
                  <a:lnTo>
                    <a:pt x="683" y="712"/>
                  </a:lnTo>
                  <a:lnTo>
                    <a:pt x="692" y="717"/>
                  </a:lnTo>
                  <a:lnTo>
                    <a:pt x="697" y="717"/>
                  </a:lnTo>
                  <a:lnTo>
                    <a:pt x="707" y="722"/>
                  </a:lnTo>
                  <a:lnTo>
                    <a:pt x="712" y="722"/>
                  </a:lnTo>
                  <a:lnTo>
                    <a:pt x="722" y="727"/>
                  </a:lnTo>
                  <a:lnTo>
                    <a:pt x="727" y="732"/>
                  </a:lnTo>
                  <a:lnTo>
                    <a:pt x="732" y="737"/>
                  </a:lnTo>
                  <a:lnTo>
                    <a:pt x="737" y="742"/>
                  </a:lnTo>
                  <a:lnTo>
                    <a:pt x="742" y="747"/>
                  </a:lnTo>
                  <a:lnTo>
                    <a:pt x="752" y="752"/>
                  </a:lnTo>
                  <a:lnTo>
                    <a:pt x="757" y="752"/>
                  </a:lnTo>
                  <a:lnTo>
                    <a:pt x="762" y="757"/>
                  </a:lnTo>
                  <a:lnTo>
                    <a:pt x="767" y="762"/>
                  </a:lnTo>
                  <a:lnTo>
                    <a:pt x="772" y="766"/>
                  </a:lnTo>
                  <a:lnTo>
                    <a:pt x="781" y="771"/>
                  </a:lnTo>
                  <a:lnTo>
                    <a:pt x="786" y="776"/>
                  </a:lnTo>
                  <a:lnTo>
                    <a:pt x="791" y="781"/>
                  </a:lnTo>
                  <a:lnTo>
                    <a:pt x="796" y="781"/>
                  </a:lnTo>
                  <a:lnTo>
                    <a:pt x="801" y="786"/>
                  </a:lnTo>
                  <a:lnTo>
                    <a:pt x="811" y="791"/>
                  </a:lnTo>
                  <a:lnTo>
                    <a:pt x="816" y="796"/>
                  </a:lnTo>
                  <a:lnTo>
                    <a:pt x="821" y="801"/>
                  </a:lnTo>
                  <a:lnTo>
                    <a:pt x="826" y="806"/>
                  </a:lnTo>
                  <a:lnTo>
                    <a:pt x="831" y="811"/>
                  </a:lnTo>
                  <a:lnTo>
                    <a:pt x="836" y="816"/>
                  </a:lnTo>
                  <a:lnTo>
                    <a:pt x="841" y="816"/>
                  </a:lnTo>
                  <a:lnTo>
                    <a:pt x="851" y="821"/>
                  </a:lnTo>
                  <a:lnTo>
                    <a:pt x="856" y="826"/>
                  </a:lnTo>
                  <a:lnTo>
                    <a:pt x="861" y="831"/>
                  </a:lnTo>
                  <a:lnTo>
                    <a:pt x="861" y="836"/>
                  </a:lnTo>
                  <a:lnTo>
                    <a:pt x="866" y="841"/>
                  </a:lnTo>
                  <a:lnTo>
                    <a:pt x="866" y="846"/>
                  </a:lnTo>
                  <a:lnTo>
                    <a:pt x="866" y="855"/>
                  </a:lnTo>
                  <a:lnTo>
                    <a:pt x="866" y="860"/>
                  </a:lnTo>
                  <a:lnTo>
                    <a:pt x="861" y="865"/>
                  </a:lnTo>
                  <a:lnTo>
                    <a:pt x="861" y="870"/>
                  </a:lnTo>
                  <a:lnTo>
                    <a:pt x="856" y="875"/>
                  </a:lnTo>
                  <a:lnTo>
                    <a:pt x="851" y="880"/>
                  </a:lnTo>
                  <a:lnTo>
                    <a:pt x="846" y="885"/>
                  </a:lnTo>
                  <a:lnTo>
                    <a:pt x="841" y="890"/>
                  </a:lnTo>
                  <a:lnTo>
                    <a:pt x="831" y="890"/>
                  </a:lnTo>
                  <a:lnTo>
                    <a:pt x="821" y="895"/>
                  </a:lnTo>
                  <a:lnTo>
                    <a:pt x="816" y="895"/>
                  </a:lnTo>
                  <a:lnTo>
                    <a:pt x="806" y="895"/>
                  </a:lnTo>
                  <a:lnTo>
                    <a:pt x="796" y="900"/>
                  </a:lnTo>
                  <a:lnTo>
                    <a:pt x="786" y="900"/>
                  </a:lnTo>
                  <a:lnTo>
                    <a:pt x="781" y="900"/>
                  </a:lnTo>
                  <a:lnTo>
                    <a:pt x="772" y="900"/>
                  </a:lnTo>
                  <a:lnTo>
                    <a:pt x="762" y="905"/>
                  </a:lnTo>
                  <a:lnTo>
                    <a:pt x="757" y="905"/>
                  </a:lnTo>
                  <a:lnTo>
                    <a:pt x="747" y="910"/>
                  </a:lnTo>
                  <a:lnTo>
                    <a:pt x="737" y="905"/>
                  </a:lnTo>
                  <a:lnTo>
                    <a:pt x="732" y="905"/>
                  </a:lnTo>
                  <a:lnTo>
                    <a:pt x="722" y="905"/>
                  </a:lnTo>
                  <a:lnTo>
                    <a:pt x="712" y="900"/>
                  </a:lnTo>
                  <a:lnTo>
                    <a:pt x="707" y="895"/>
                  </a:lnTo>
                  <a:lnTo>
                    <a:pt x="697" y="895"/>
                  </a:lnTo>
                  <a:lnTo>
                    <a:pt x="692" y="890"/>
                  </a:lnTo>
                  <a:lnTo>
                    <a:pt x="688" y="885"/>
                  </a:lnTo>
                  <a:lnTo>
                    <a:pt x="683" y="880"/>
                  </a:lnTo>
                  <a:close/>
                  <a:moveTo>
                    <a:pt x="1044" y="747"/>
                  </a:moveTo>
                  <a:lnTo>
                    <a:pt x="1044" y="742"/>
                  </a:lnTo>
                  <a:lnTo>
                    <a:pt x="1044" y="732"/>
                  </a:lnTo>
                  <a:lnTo>
                    <a:pt x="1044" y="727"/>
                  </a:lnTo>
                  <a:lnTo>
                    <a:pt x="1049" y="717"/>
                  </a:lnTo>
                  <a:lnTo>
                    <a:pt x="1049" y="707"/>
                  </a:lnTo>
                  <a:lnTo>
                    <a:pt x="1049" y="702"/>
                  </a:lnTo>
                  <a:lnTo>
                    <a:pt x="1049" y="692"/>
                  </a:lnTo>
                  <a:lnTo>
                    <a:pt x="1053" y="687"/>
                  </a:lnTo>
                  <a:lnTo>
                    <a:pt x="1053" y="682"/>
                  </a:lnTo>
                  <a:lnTo>
                    <a:pt x="1053" y="673"/>
                  </a:lnTo>
                  <a:lnTo>
                    <a:pt x="1053" y="663"/>
                  </a:lnTo>
                  <a:lnTo>
                    <a:pt x="1049" y="653"/>
                  </a:lnTo>
                  <a:lnTo>
                    <a:pt x="1039" y="648"/>
                  </a:lnTo>
                  <a:lnTo>
                    <a:pt x="1034" y="648"/>
                  </a:lnTo>
                  <a:lnTo>
                    <a:pt x="1034" y="653"/>
                  </a:lnTo>
                  <a:lnTo>
                    <a:pt x="1029" y="663"/>
                  </a:lnTo>
                  <a:lnTo>
                    <a:pt x="1029" y="668"/>
                  </a:lnTo>
                  <a:lnTo>
                    <a:pt x="1029" y="677"/>
                  </a:lnTo>
                  <a:lnTo>
                    <a:pt x="1024" y="687"/>
                  </a:lnTo>
                  <a:lnTo>
                    <a:pt x="1024" y="692"/>
                  </a:lnTo>
                  <a:lnTo>
                    <a:pt x="1024" y="702"/>
                  </a:lnTo>
                  <a:lnTo>
                    <a:pt x="1024" y="707"/>
                  </a:lnTo>
                  <a:lnTo>
                    <a:pt x="1024" y="717"/>
                  </a:lnTo>
                  <a:lnTo>
                    <a:pt x="1024" y="722"/>
                  </a:lnTo>
                  <a:lnTo>
                    <a:pt x="1024" y="732"/>
                  </a:lnTo>
                  <a:lnTo>
                    <a:pt x="1029" y="737"/>
                  </a:lnTo>
                  <a:lnTo>
                    <a:pt x="1029" y="747"/>
                  </a:lnTo>
                  <a:lnTo>
                    <a:pt x="1034" y="757"/>
                  </a:lnTo>
                  <a:lnTo>
                    <a:pt x="1034" y="762"/>
                  </a:lnTo>
                  <a:lnTo>
                    <a:pt x="1039" y="766"/>
                  </a:lnTo>
                  <a:lnTo>
                    <a:pt x="1039" y="762"/>
                  </a:lnTo>
                  <a:lnTo>
                    <a:pt x="1044" y="747"/>
                  </a:lnTo>
                  <a:close/>
                  <a:moveTo>
                    <a:pt x="1296" y="722"/>
                  </a:moveTo>
                  <a:lnTo>
                    <a:pt x="1301" y="717"/>
                  </a:lnTo>
                  <a:lnTo>
                    <a:pt x="1301" y="717"/>
                  </a:lnTo>
                  <a:lnTo>
                    <a:pt x="1301" y="712"/>
                  </a:lnTo>
                  <a:lnTo>
                    <a:pt x="1301" y="712"/>
                  </a:lnTo>
                  <a:lnTo>
                    <a:pt x="1306" y="712"/>
                  </a:lnTo>
                  <a:lnTo>
                    <a:pt x="1306" y="717"/>
                  </a:lnTo>
                  <a:lnTo>
                    <a:pt x="1306" y="717"/>
                  </a:lnTo>
                  <a:lnTo>
                    <a:pt x="1306" y="722"/>
                  </a:lnTo>
                  <a:lnTo>
                    <a:pt x="1306" y="722"/>
                  </a:lnTo>
                  <a:lnTo>
                    <a:pt x="1306" y="727"/>
                  </a:lnTo>
                  <a:lnTo>
                    <a:pt x="1301" y="727"/>
                  </a:lnTo>
                  <a:lnTo>
                    <a:pt x="1301" y="727"/>
                  </a:lnTo>
                  <a:lnTo>
                    <a:pt x="1301" y="722"/>
                  </a:lnTo>
                  <a:lnTo>
                    <a:pt x="1296" y="722"/>
                  </a:lnTo>
                  <a:close/>
                  <a:moveTo>
                    <a:pt x="524" y="692"/>
                  </a:moveTo>
                  <a:lnTo>
                    <a:pt x="529" y="692"/>
                  </a:lnTo>
                  <a:lnTo>
                    <a:pt x="529" y="692"/>
                  </a:lnTo>
                  <a:lnTo>
                    <a:pt x="529" y="692"/>
                  </a:lnTo>
                  <a:lnTo>
                    <a:pt x="534" y="692"/>
                  </a:lnTo>
                  <a:lnTo>
                    <a:pt x="534" y="692"/>
                  </a:lnTo>
                  <a:lnTo>
                    <a:pt x="534" y="692"/>
                  </a:lnTo>
                  <a:lnTo>
                    <a:pt x="534" y="692"/>
                  </a:lnTo>
                  <a:lnTo>
                    <a:pt x="534" y="697"/>
                  </a:lnTo>
                  <a:lnTo>
                    <a:pt x="534" y="697"/>
                  </a:lnTo>
                  <a:lnTo>
                    <a:pt x="534" y="697"/>
                  </a:lnTo>
                  <a:lnTo>
                    <a:pt x="529" y="697"/>
                  </a:lnTo>
                  <a:lnTo>
                    <a:pt x="529" y="697"/>
                  </a:lnTo>
                  <a:lnTo>
                    <a:pt x="529" y="697"/>
                  </a:lnTo>
                  <a:lnTo>
                    <a:pt x="524" y="692"/>
                  </a:lnTo>
                  <a:close/>
                  <a:moveTo>
                    <a:pt x="1068" y="643"/>
                  </a:moveTo>
                  <a:lnTo>
                    <a:pt x="1068" y="633"/>
                  </a:lnTo>
                  <a:lnTo>
                    <a:pt x="1068" y="628"/>
                  </a:lnTo>
                  <a:lnTo>
                    <a:pt x="1068" y="618"/>
                  </a:lnTo>
                  <a:lnTo>
                    <a:pt x="1073" y="613"/>
                  </a:lnTo>
                  <a:lnTo>
                    <a:pt x="1073" y="608"/>
                  </a:lnTo>
                  <a:lnTo>
                    <a:pt x="1073" y="598"/>
                  </a:lnTo>
                  <a:lnTo>
                    <a:pt x="1073" y="593"/>
                  </a:lnTo>
                  <a:lnTo>
                    <a:pt x="1073" y="589"/>
                  </a:lnTo>
                  <a:lnTo>
                    <a:pt x="1073" y="579"/>
                  </a:lnTo>
                  <a:lnTo>
                    <a:pt x="1073" y="574"/>
                  </a:lnTo>
                  <a:lnTo>
                    <a:pt x="1073" y="564"/>
                  </a:lnTo>
                  <a:lnTo>
                    <a:pt x="1078" y="559"/>
                  </a:lnTo>
                  <a:lnTo>
                    <a:pt x="1083" y="554"/>
                  </a:lnTo>
                  <a:lnTo>
                    <a:pt x="1093" y="549"/>
                  </a:lnTo>
                  <a:lnTo>
                    <a:pt x="1098" y="544"/>
                  </a:lnTo>
                  <a:lnTo>
                    <a:pt x="1103" y="539"/>
                  </a:lnTo>
                  <a:lnTo>
                    <a:pt x="1103" y="529"/>
                  </a:lnTo>
                  <a:lnTo>
                    <a:pt x="1103" y="524"/>
                  </a:lnTo>
                  <a:lnTo>
                    <a:pt x="1098" y="514"/>
                  </a:lnTo>
                  <a:lnTo>
                    <a:pt x="1098" y="509"/>
                  </a:lnTo>
                  <a:lnTo>
                    <a:pt x="1098" y="504"/>
                  </a:lnTo>
                  <a:lnTo>
                    <a:pt x="1108" y="500"/>
                  </a:lnTo>
                  <a:lnTo>
                    <a:pt x="1113" y="495"/>
                  </a:lnTo>
                  <a:lnTo>
                    <a:pt x="1118" y="490"/>
                  </a:lnTo>
                  <a:lnTo>
                    <a:pt x="1128" y="480"/>
                  </a:lnTo>
                  <a:lnTo>
                    <a:pt x="1128" y="475"/>
                  </a:lnTo>
                  <a:lnTo>
                    <a:pt x="1128" y="470"/>
                  </a:lnTo>
                  <a:lnTo>
                    <a:pt x="1123" y="465"/>
                  </a:lnTo>
                  <a:lnTo>
                    <a:pt x="1123" y="455"/>
                  </a:lnTo>
                  <a:lnTo>
                    <a:pt x="1118" y="445"/>
                  </a:lnTo>
                  <a:lnTo>
                    <a:pt x="1118" y="440"/>
                  </a:lnTo>
                  <a:lnTo>
                    <a:pt x="1118" y="440"/>
                  </a:lnTo>
                  <a:lnTo>
                    <a:pt x="1113" y="445"/>
                  </a:lnTo>
                  <a:lnTo>
                    <a:pt x="1108" y="455"/>
                  </a:lnTo>
                  <a:lnTo>
                    <a:pt x="1103" y="460"/>
                  </a:lnTo>
                  <a:lnTo>
                    <a:pt x="1098" y="465"/>
                  </a:lnTo>
                  <a:lnTo>
                    <a:pt x="1093" y="475"/>
                  </a:lnTo>
                  <a:lnTo>
                    <a:pt x="1088" y="480"/>
                  </a:lnTo>
                  <a:lnTo>
                    <a:pt x="1083" y="485"/>
                  </a:lnTo>
                  <a:lnTo>
                    <a:pt x="1083" y="490"/>
                  </a:lnTo>
                  <a:lnTo>
                    <a:pt x="1083" y="500"/>
                  </a:lnTo>
                  <a:lnTo>
                    <a:pt x="1078" y="504"/>
                  </a:lnTo>
                  <a:lnTo>
                    <a:pt x="1073" y="509"/>
                  </a:lnTo>
                  <a:lnTo>
                    <a:pt x="1068" y="514"/>
                  </a:lnTo>
                  <a:lnTo>
                    <a:pt x="1063" y="524"/>
                  </a:lnTo>
                  <a:lnTo>
                    <a:pt x="1058" y="529"/>
                  </a:lnTo>
                  <a:lnTo>
                    <a:pt x="1053" y="534"/>
                  </a:lnTo>
                  <a:lnTo>
                    <a:pt x="1053" y="539"/>
                  </a:lnTo>
                  <a:lnTo>
                    <a:pt x="1053" y="549"/>
                  </a:lnTo>
                  <a:lnTo>
                    <a:pt x="1053" y="554"/>
                  </a:lnTo>
                  <a:lnTo>
                    <a:pt x="1053" y="564"/>
                  </a:lnTo>
                  <a:lnTo>
                    <a:pt x="1053" y="569"/>
                  </a:lnTo>
                  <a:lnTo>
                    <a:pt x="1049" y="574"/>
                  </a:lnTo>
                  <a:lnTo>
                    <a:pt x="1049" y="584"/>
                  </a:lnTo>
                  <a:lnTo>
                    <a:pt x="1049" y="589"/>
                  </a:lnTo>
                  <a:lnTo>
                    <a:pt x="1049" y="593"/>
                  </a:lnTo>
                  <a:lnTo>
                    <a:pt x="1049" y="603"/>
                  </a:lnTo>
                  <a:lnTo>
                    <a:pt x="1049" y="608"/>
                  </a:lnTo>
                  <a:lnTo>
                    <a:pt x="1049" y="613"/>
                  </a:lnTo>
                  <a:lnTo>
                    <a:pt x="1044" y="623"/>
                  </a:lnTo>
                  <a:lnTo>
                    <a:pt x="1044" y="628"/>
                  </a:lnTo>
                  <a:lnTo>
                    <a:pt x="1044" y="633"/>
                  </a:lnTo>
                  <a:lnTo>
                    <a:pt x="1044" y="643"/>
                  </a:lnTo>
                  <a:lnTo>
                    <a:pt x="1053" y="648"/>
                  </a:lnTo>
                  <a:lnTo>
                    <a:pt x="1058" y="653"/>
                  </a:lnTo>
                  <a:lnTo>
                    <a:pt x="1063" y="658"/>
                  </a:lnTo>
                  <a:lnTo>
                    <a:pt x="1068" y="653"/>
                  </a:lnTo>
                  <a:lnTo>
                    <a:pt x="1068" y="643"/>
                  </a:lnTo>
                  <a:close/>
                  <a:moveTo>
                    <a:pt x="1647" y="589"/>
                  </a:moveTo>
                  <a:lnTo>
                    <a:pt x="1642" y="584"/>
                  </a:lnTo>
                  <a:lnTo>
                    <a:pt x="1632" y="584"/>
                  </a:lnTo>
                  <a:lnTo>
                    <a:pt x="1627" y="579"/>
                  </a:lnTo>
                  <a:lnTo>
                    <a:pt x="1622" y="579"/>
                  </a:lnTo>
                  <a:lnTo>
                    <a:pt x="1617" y="574"/>
                  </a:lnTo>
                  <a:lnTo>
                    <a:pt x="1612" y="569"/>
                  </a:lnTo>
                  <a:lnTo>
                    <a:pt x="1612" y="564"/>
                  </a:lnTo>
                  <a:lnTo>
                    <a:pt x="1607" y="559"/>
                  </a:lnTo>
                  <a:lnTo>
                    <a:pt x="1612" y="554"/>
                  </a:lnTo>
                  <a:lnTo>
                    <a:pt x="1617" y="549"/>
                  </a:lnTo>
                  <a:lnTo>
                    <a:pt x="1622" y="549"/>
                  </a:lnTo>
                  <a:lnTo>
                    <a:pt x="1627" y="544"/>
                  </a:lnTo>
                  <a:lnTo>
                    <a:pt x="1632" y="539"/>
                  </a:lnTo>
                  <a:lnTo>
                    <a:pt x="1637" y="539"/>
                  </a:lnTo>
                  <a:lnTo>
                    <a:pt x="1642" y="534"/>
                  </a:lnTo>
                  <a:lnTo>
                    <a:pt x="1647" y="529"/>
                  </a:lnTo>
                  <a:lnTo>
                    <a:pt x="1652" y="524"/>
                  </a:lnTo>
                  <a:lnTo>
                    <a:pt x="1657" y="524"/>
                  </a:lnTo>
                  <a:lnTo>
                    <a:pt x="1662" y="519"/>
                  </a:lnTo>
                  <a:lnTo>
                    <a:pt x="1667" y="514"/>
                  </a:lnTo>
                  <a:lnTo>
                    <a:pt x="1672" y="514"/>
                  </a:lnTo>
                  <a:lnTo>
                    <a:pt x="1682" y="509"/>
                  </a:lnTo>
                  <a:lnTo>
                    <a:pt x="1687" y="509"/>
                  </a:lnTo>
                  <a:lnTo>
                    <a:pt x="1691" y="504"/>
                  </a:lnTo>
                  <a:lnTo>
                    <a:pt x="1696" y="500"/>
                  </a:lnTo>
                  <a:lnTo>
                    <a:pt x="1701" y="500"/>
                  </a:lnTo>
                  <a:lnTo>
                    <a:pt x="1711" y="495"/>
                  </a:lnTo>
                  <a:lnTo>
                    <a:pt x="1716" y="495"/>
                  </a:lnTo>
                  <a:lnTo>
                    <a:pt x="1726" y="495"/>
                  </a:lnTo>
                  <a:lnTo>
                    <a:pt x="1731" y="495"/>
                  </a:lnTo>
                  <a:lnTo>
                    <a:pt x="1736" y="500"/>
                  </a:lnTo>
                  <a:lnTo>
                    <a:pt x="1741" y="504"/>
                  </a:lnTo>
                  <a:lnTo>
                    <a:pt x="1746" y="509"/>
                  </a:lnTo>
                  <a:lnTo>
                    <a:pt x="1746" y="514"/>
                  </a:lnTo>
                  <a:lnTo>
                    <a:pt x="1746" y="519"/>
                  </a:lnTo>
                  <a:lnTo>
                    <a:pt x="1741" y="524"/>
                  </a:lnTo>
                  <a:lnTo>
                    <a:pt x="1741" y="529"/>
                  </a:lnTo>
                  <a:lnTo>
                    <a:pt x="1736" y="534"/>
                  </a:lnTo>
                  <a:lnTo>
                    <a:pt x="1736" y="539"/>
                  </a:lnTo>
                  <a:lnTo>
                    <a:pt x="1731" y="544"/>
                  </a:lnTo>
                  <a:lnTo>
                    <a:pt x="1731" y="544"/>
                  </a:lnTo>
                  <a:lnTo>
                    <a:pt x="1731" y="549"/>
                  </a:lnTo>
                  <a:lnTo>
                    <a:pt x="1726" y="554"/>
                  </a:lnTo>
                  <a:lnTo>
                    <a:pt x="1726" y="559"/>
                  </a:lnTo>
                  <a:lnTo>
                    <a:pt x="1721" y="564"/>
                  </a:lnTo>
                  <a:lnTo>
                    <a:pt x="1716" y="569"/>
                  </a:lnTo>
                  <a:lnTo>
                    <a:pt x="1706" y="569"/>
                  </a:lnTo>
                  <a:lnTo>
                    <a:pt x="1701" y="574"/>
                  </a:lnTo>
                  <a:lnTo>
                    <a:pt x="1696" y="574"/>
                  </a:lnTo>
                  <a:lnTo>
                    <a:pt x="1687" y="579"/>
                  </a:lnTo>
                  <a:lnTo>
                    <a:pt x="1682" y="579"/>
                  </a:lnTo>
                  <a:lnTo>
                    <a:pt x="1677" y="579"/>
                  </a:lnTo>
                  <a:lnTo>
                    <a:pt x="1667" y="584"/>
                  </a:lnTo>
                  <a:lnTo>
                    <a:pt x="1662" y="584"/>
                  </a:lnTo>
                  <a:lnTo>
                    <a:pt x="1657" y="584"/>
                  </a:lnTo>
                  <a:lnTo>
                    <a:pt x="1647" y="589"/>
                  </a:lnTo>
                  <a:close/>
                  <a:moveTo>
                    <a:pt x="1236" y="480"/>
                  </a:moveTo>
                  <a:lnTo>
                    <a:pt x="1232" y="475"/>
                  </a:lnTo>
                  <a:lnTo>
                    <a:pt x="1227" y="475"/>
                  </a:lnTo>
                  <a:lnTo>
                    <a:pt x="1227" y="475"/>
                  </a:lnTo>
                  <a:lnTo>
                    <a:pt x="1227" y="475"/>
                  </a:lnTo>
                  <a:lnTo>
                    <a:pt x="1222" y="475"/>
                  </a:lnTo>
                  <a:lnTo>
                    <a:pt x="1222" y="475"/>
                  </a:lnTo>
                  <a:lnTo>
                    <a:pt x="1222" y="480"/>
                  </a:lnTo>
                  <a:lnTo>
                    <a:pt x="1222" y="480"/>
                  </a:lnTo>
                  <a:lnTo>
                    <a:pt x="1222" y="485"/>
                  </a:lnTo>
                  <a:lnTo>
                    <a:pt x="1222" y="485"/>
                  </a:lnTo>
                  <a:lnTo>
                    <a:pt x="1227" y="485"/>
                  </a:lnTo>
                  <a:lnTo>
                    <a:pt x="1227" y="485"/>
                  </a:lnTo>
                  <a:lnTo>
                    <a:pt x="1232" y="485"/>
                  </a:lnTo>
                  <a:lnTo>
                    <a:pt x="1236" y="480"/>
                  </a:lnTo>
                  <a:close/>
                  <a:moveTo>
                    <a:pt x="1598" y="455"/>
                  </a:moveTo>
                  <a:lnTo>
                    <a:pt x="1598" y="450"/>
                  </a:lnTo>
                  <a:lnTo>
                    <a:pt x="1593" y="455"/>
                  </a:lnTo>
                  <a:lnTo>
                    <a:pt x="1588" y="455"/>
                  </a:lnTo>
                  <a:lnTo>
                    <a:pt x="1588" y="460"/>
                  </a:lnTo>
                  <a:lnTo>
                    <a:pt x="1593" y="465"/>
                  </a:lnTo>
                  <a:lnTo>
                    <a:pt x="1593" y="465"/>
                  </a:lnTo>
                  <a:lnTo>
                    <a:pt x="1593" y="470"/>
                  </a:lnTo>
                  <a:lnTo>
                    <a:pt x="1598" y="470"/>
                  </a:lnTo>
                  <a:lnTo>
                    <a:pt x="1598" y="470"/>
                  </a:lnTo>
                  <a:lnTo>
                    <a:pt x="1598" y="470"/>
                  </a:lnTo>
                  <a:lnTo>
                    <a:pt x="1598" y="465"/>
                  </a:lnTo>
                  <a:lnTo>
                    <a:pt x="1598" y="465"/>
                  </a:lnTo>
                  <a:lnTo>
                    <a:pt x="1598" y="460"/>
                  </a:lnTo>
                  <a:lnTo>
                    <a:pt x="1598" y="455"/>
                  </a:lnTo>
                  <a:close/>
                  <a:moveTo>
                    <a:pt x="1143" y="425"/>
                  </a:moveTo>
                  <a:lnTo>
                    <a:pt x="1143" y="425"/>
                  </a:lnTo>
                  <a:lnTo>
                    <a:pt x="1143" y="420"/>
                  </a:lnTo>
                  <a:lnTo>
                    <a:pt x="1143" y="420"/>
                  </a:lnTo>
                  <a:lnTo>
                    <a:pt x="1143" y="420"/>
                  </a:lnTo>
                  <a:lnTo>
                    <a:pt x="1143" y="420"/>
                  </a:lnTo>
                  <a:lnTo>
                    <a:pt x="1143" y="420"/>
                  </a:lnTo>
                  <a:lnTo>
                    <a:pt x="1143" y="420"/>
                  </a:lnTo>
                  <a:lnTo>
                    <a:pt x="1143" y="420"/>
                  </a:lnTo>
                  <a:lnTo>
                    <a:pt x="1138" y="420"/>
                  </a:lnTo>
                  <a:lnTo>
                    <a:pt x="1138" y="425"/>
                  </a:lnTo>
                  <a:lnTo>
                    <a:pt x="1138" y="425"/>
                  </a:lnTo>
                  <a:lnTo>
                    <a:pt x="1143" y="425"/>
                  </a:lnTo>
                  <a:lnTo>
                    <a:pt x="1143" y="425"/>
                  </a:lnTo>
                  <a:lnTo>
                    <a:pt x="1143" y="425"/>
                  </a:lnTo>
                  <a:close/>
                  <a:moveTo>
                    <a:pt x="1261" y="425"/>
                  </a:moveTo>
                  <a:lnTo>
                    <a:pt x="1256" y="420"/>
                  </a:lnTo>
                  <a:lnTo>
                    <a:pt x="1256" y="416"/>
                  </a:lnTo>
                  <a:lnTo>
                    <a:pt x="1251" y="411"/>
                  </a:lnTo>
                  <a:lnTo>
                    <a:pt x="1251" y="411"/>
                  </a:lnTo>
                  <a:lnTo>
                    <a:pt x="1246" y="411"/>
                  </a:lnTo>
                  <a:lnTo>
                    <a:pt x="1246" y="416"/>
                  </a:lnTo>
                  <a:lnTo>
                    <a:pt x="1246" y="420"/>
                  </a:lnTo>
                  <a:lnTo>
                    <a:pt x="1246" y="425"/>
                  </a:lnTo>
                  <a:lnTo>
                    <a:pt x="1246" y="430"/>
                  </a:lnTo>
                  <a:lnTo>
                    <a:pt x="1246" y="435"/>
                  </a:lnTo>
                  <a:lnTo>
                    <a:pt x="1251" y="440"/>
                  </a:lnTo>
                  <a:lnTo>
                    <a:pt x="1251" y="435"/>
                  </a:lnTo>
                  <a:lnTo>
                    <a:pt x="1256" y="435"/>
                  </a:lnTo>
                  <a:lnTo>
                    <a:pt x="1261" y="425"/>
                  </a:lnTo>
                  <a:close/>
                  <a:moveTo>
                    <a:pt x="1632" y="425"/>
                  </a:moveTo>
                  <a:lnTo>
                    <a:pt x="1632" y="420"/>
                  </a:lnTo>
                  <a:lnTo>
                    <a:pt x="1627" y="416"/>
                  </a:lnTo>
                  <a:lnTo>
                    <a:pt x="1622" y="416"/>
                  </a:lnTo>
                  <a:lnTo>
                    <a:pt x="1617" y="416"/>
                  </a:lnTo>
                  <a:lnTo>
                    <a:pt x="1612" y="420"/>
                  </a:lnTo>
                  <a:lnTo>
                    <a:pt x="1612" y="425"/>
                  </a:lnTo>
                  <a:lnTo>
                    <a:pt x="1612" y="435"/>
                  </a:lnTo>
                  <a:lnTo>
                    <a:pt x="1612" y="440"/>
                  </a:lnTo>
                  <a:lnTo>
                    <a:pt x="1617" y="440"/>
                  </a:lnTo>
                  <a:lnTo>
                    <a:pt x="1622" y="445"/>
                  </a:lnTo>
                  <a:lnTo>
                    <a:pt x="1627" y="445"/>
                  </a:lnTo>
                  <a:lnTo>
                    <a:pt x="1627" y="440"/>
                  </a:lnTo>
                  <a:lnTo>
                    <a:pt x="1632" y="435"/>
                  </a:lnTo>
                  <a:lnTo>
                    <a:pt x="1632" y="425"/>
                  </a:lnTo>
                  <a:close/>
                  <a:moveTo>
                    <a:pt x="208" y="371"/>
                  </a:moveTo>
                  <a:lnTo>
                    <a:pt x="183" y="371"/>
                  </a:lnTo>
                  <a:lnTo>
                    <a:pt x="183" y="396"/>
                  </a:lnTo>
                  <a:lnTo>
                    <a:pt x="208" y="371"/>
                  </a:lnTo>
                  <a:close/>
                  <a:moveTo>
                    <a:pt x="1286" y="371"/>
                  </a:moveTo>
                  <a:lnTo>
                    <a:pt x="1281" y="371"/>
                  </a:lnTo>
                  <a:lnTo>
                    <a:pt x="1281" y="371"/>
                  </a:lnTo>
                  <a:lnTo>
                    <a:pt x="1276" y="371"/>
                  </a:lnTo>
                  <a:lnTo>
                    <a:pt x="1276" y="371"/>
                  </a:lnTo>
                  <a:lnTo>
                    <a:pt x="1276" y="371"/>
                  </a:lnTo>
                  <a:lnTo>
                    <a:pt x="1276" y="376"/>
                  </a:lnTo>
                  <a:lnTo>
                    <a:pt x="1276" y="376"/>
                  </a:lnTo>
                  <a:lnTo>
                    <a:pt x="1276" y="376"/>
                  </a:lnTo>
                  <a:lnTo>
                    <a:pt x="1276" y="376"/>
                  </a:lnTo>
                  <a:lnTo>
                    <a:pt x="1276" y="376"/>
                  </a:lnTo>
                  <a:lnTo>
                    <a:pt x="1281" y="376"/>
                  </a:lnTo>
                  <a:lnTo>
                    <a:pt x="1281" y="376"/>
                  </a:lnTo>
                  <a:lnTo>
                    <a:pt x="1281" y="376"/>
                  </a:lnTo>
                  <a:lnTo>
                    <a:pt x="1286" y="371"/>
                  </a:lnTo>
                  <a:close/>
                  <a:moveTo>
                    <a:pt x="1499" y="371"/>
                  </a:moveTo>
                  <a:lnTo>
                    <a:pt x="1494" y="371"/>
                  </a:lnTo>
                  <a:lnTo>
                    <a:pt x="1489" y="371"/>
                  </a:lnTo>
                  <a:lnTo>
                    <a:pt x="1484" y="371"/>
                  </a:lnTo>
                  <a:lnTo>
                    <a:pt x="1479" y="371"/>
                  </a:lnTo>
                  <a:lnTo>
                    <a:pt x="1474" y="371"/>
                  </a:lnTo>
                  <a:lnTo>
                    <a:pt x="1474" y="371"/>
                  </a:lnTo>
                  <a:lnTo>
                    <a:pt x="1469" y="371"/>
                  </a:lnTo>
                  <a:lnTo>
                    <a:pt x="1474" y="376"/>
                  </a:lnTo>
                  <a:lnTo>
                    <a:pt x="1474" y="376"/>
                  </a:lnTo>
                  <a:lnTo>
                    <a:pt x="1479" y="376"/>
                  </a:lnTo>
                  <a:lnTo>
                    <a:pt x="1484" y="376"/>
                  </a:lnTo>
                  <a:lnTo>
                    <a:pt x="1489" y="376"/>
                  </a:lnTo>
                  <a:lnTo>
                    <a:pt x="1494" y="376"/>
                  </a:lnTo>
                  <a:lnTo>
                    <a:pt x="1499" y="371"/>
                  </a:lnTo>
                  <a:close/>
                  <a:moveTo>
                    <a:pt x="871" y="267"/>
                  </a:moveTo>
                  <a:lnTo>
                    <a:pt x="875" y="262"/>
                  </a:lnTo>
                  <a:lnTo>
                    <a:pt x="880" y="257"/>
                  </a:lnTo>
                  <a:lnTo>
                    <a:pt x="885" y="252"/>
                  </a:lnTo>
                  <a:lnTo>
                    <a:pt x="890" y="247"/>
                  </a:lnTo>
                  <a:lnTo>
                    <a:pt x="895" y="247"/>
                  </a:lnTo>
                  <a:lnTo>
                    <a:pt x="900" y="243"/>
                  </a:lnTo>
                  <a:lnTo>
                    <a:pt x="905" y="238"/>
                  </a:lnTo>
                  <a:lnTo>
                    <a:pt x="910" y="233"/>
                  </a:lnTo>
                  <a:lnTo>
                    <a:pt x="915" y="228"/>
                  </a:lnTo>
                  <a:lnTo>
                    <a:pt x="920" y="223"/>
                  </a:lnTo>
                  <a:lnTo>
                    <a:pt x="920" y="218"/>
                  </a:lnTo>
                  <a:lnTo>
                    <a:pt x="925" y="213"/>
                  </a:lnTo>
                  <a:lnTo>
                    <a:pt x="930" y="208"/>
                  </a:lnTo>
                  <a:lnTo>
                    <a:pt x="935" y="208"/>
                  </a:lnTo>
                  <a:lnTo>
                    <a:pt x="940" y="198"/>
                  </a:lnTo>
                  <a:lnTo>
                    <a:pt x="945" y="193"/>
                  </a:lnTo>
                  <a:lnTo>
                    <a:pt x="950" y="193"/>
                  </a:lnTo>
                  <a:lnTo>
                    <a:pt x="955" y="188"/>
                  </a:lnTo>
                  <a:lnTo>
                    <a:pt x="960" y="183"/>
                  </a:lnTo>
                  <a:lnTo>
                    <a:pt x="969" y="183"/>
                  </a:lnTo>
                  <a:lnTo>
                    <a:pt x="974" y="178"/>
                  </a:lnTo>
                  <a:lnTo>
                    <a:pt x="979" y="173"/>
                  </a:lnTo>
                  <a:lnTo>
                    <a:pt x="984" y="173"/>
                  </a:lnTo>
                  <a:lnTo>
                    <a:pt x="994" y="168"/>
                  </a:lnTo>
                  <a:lnTo>
                    <a:pt x="999" y="163"/>
                  </a:lnTo>
                  <a:lnTo>
                    <a:pt x="1004" y="163"/>
                  </a:lnTo>
                  <a:lnTo>
                    <a:pt x="1014" y="159"/>
                  </a:lnTo>
                  <a:lnTo>
                    <a:pt x="1019" y="159"/>
                  </a:lnTo>
                  <a:lnTo>
                    <a:pt x="1029" y="159"/>
                  </a:lnTo>
                  <a:lnTo>
                    <a:pt x="1034" y="159"/>
                  </a:lnTo>
                  <a:lnTo>
                    <a:pt x="1044" y="154"/>
                  </a:lnTo>
                  <a:lnTo>
                    <a:pt x="1053" y="154"/>
                  </a:lnTo>
                  <a:lnTo>
                    <a:pt x="1058" y="149"/>
                  </a:lnTo>
                  <a:lnTo>
                    <a:pt x="1068" y="149"/>
                  </a:lnTo>
                  <a:lnTo>
                    <a:pt x="1073" y="154"/>
                  </a:lnTo>
                  <a:lnTo>
                    <a:pt x="1078" y="154"/>
                  </a:lnTo>
                  <a:lnTo>
                    <a:pt x="1088" y="159"/>
                  </a:lnTo>
                  <a:lnTo>
                    <a:pt x="1088" y="163"/>
                  </a:lnTo>
                  <a:lnTo>
                    <a:pt x="1078" y="163"/>
                  </a:lnTo>
                  <a:lnTo>
                    <a:pt x="1073" y="168"/>
                  </a:lnTo>
                  <a:lnTo>
                    <a:pt x="1068" y="168"/>
                  </a:lnTo>
                  <a:lnTo>
                    <a:pt x="1058" y="168"/>
                  </a:lnTo>
                  <a:lnTo>
                    <a:pt x="1049" y="168"/>
                  </a:lnTo>
                  <a:lnTo>
                    <a:pt x="1044" y="168"/>
                  </a:lnTo>
                  <a:lnTo>
                    <a:pt x="1034" y="168"/>
                  </a:lnTo>
                  <a:lnTo>
                    <a:pt x="1034" y="168"/>
                  </a:lnTo>
                  <a:lnTo>
                    <a:pt x="1034" y="173"/>
                  </a:lnTo>
                  <a:lnTo>
                    <a:pt x="1034" y="183"/>
                  </a:lnTo>
                  <a:lnTo>
                    <a:pt x="1034" y="188"/>
                  </a:lnTo>
                  <a:lnTo>
                    <a:pt x="1034" y="198"/>
                  </a:lnTo>
                  <a:lnTo>
                    <a:pt x="1029" y="203"/>
                  </a:lnTo>
                  <a:lnTo>
                    <a:pt x="1029" y="208"/>
                  </a:lnTo>
                  <a:lnTo>
                    <a:pt x="1019" y="213"/>
                  </a:lnTo>
                  <a:lnTo>
                    <a:pt x="1014" y="213"/>
                  </a:lnTo>
                  <a:lnTo>
                    <a:pt x="1004" y="213"/>
                  </a:lnTo>
                  <a:lnTo>
                    <a:pt x="994" y="208"/>
                  </a:lnTo>
                  <a:lnTo>
                    <a:pt x="984" y="208"/>
                  </a:lnTo>
                  <a:lnTo>
                    <a:pt x="984" y="213"/>
                  </a:lnTo>
                  <a:lnTo>
                    <a:pt x="979" y="218"/>
                  </a:lnTo>
                  <a:lnTo>
                    <a:pt x="974" y="223"/>
                  </a:lnTo>
                  <a:lnTo>
                    <a:pt x="969" y="228"/>
                  </a:lnTo>
                  <a:lnTo>
                    <a:pt x="964" y="233"/>
                  </a:lnTo>
                  <a:lnTo>
                    <a:pt x="960" y="238"/>
                  </a:lnTo>
                  <a:lnTo>
                    <a:pt x="955" y="243"/>
                  </a:lnTo>
                  <a:lnTo>
                    <a:pt x="950" y="247"/>
                  </a:lnTo>
                  <a:lnTo>
                    <a:pt x="950" y="252"/>
                  </a:lnTo>
                  <a:lnTo>
                    <a:pt x="945" y="257"/>
                  </a:lnTo>
                  <a:lnTo>
                    <a:pt x="940" y="262"/>
                  </a:lnTo>
                  <a:lnTo>
                    <a:pt x="935" y="262"/>
                  </a:lnTo>
                  <a:lnTo>
                    <a:pt x="930" y="262"/>
                  </a:lnTo>
                  <a:lnTo>
                    <a:pt x="920" y="257"/>
                  </a:lnTo>
                  <a:lnTo>
                    <a:pt x="915" y="252"/>
                  </a:lnTo>
                  <a:lnTo>
                    <a:pt x="910" y="247"/>
                  </a:lnTo>
                  <a:lnTo>
                    <a:pt x="905" y="243"/>
                  </a:lnTo>
                  <a:lnTo>
                    <a:pt x="900" y="243"/>
                  </a:lnTo>
                  <a:lnTo>
                    <a:pt x="900" y="247"/>
                  </a:lnTo>
                  <a:lnTo>
                    <a:pt x="895" y="252"/>
                  </a:lnTo>
                  <a:lnTo>
                    <a:pt x="890" y="257"/>
                  </a:lnTo>
                  <a:lnTo>
                    <a:pt x="890" y="262"/>
                  </a:lnTo>
                  <a:lnTo>
                    <a:pt x="885" y="272"/>
                  </a:lnTo>
                  <a:lnTo>
                    <a:pt x="880" y="277"/>
                  </a:lnTo>
                  <a:lnTo>
                    <a:pt x="880" y="282"/>
                  </a:lnTo>
                  <a:lnTo>
                    <a:pt x="875" y="282"/>
                  </a:lnTo>
                  <a:lnTo>
                    <a:pt x="875" y="282"/>
                  </a:lnTo>
                  <a:lnTo>
                    <a:pt x="871" y="277"/>
                  </a:lnTo>
                  <a:lnTo>
                    <a:pt x="871" y="267"/>
                  </a:lnTo>
                  <a:close/>
                  <a:moveTo>
                    <a:pt x="1330" y="159"/>
                  </a:moveTo>
                  <a:lnTo>
                    <a:pt x="1330" y="154"/>
                  </a:lnTo>
                  <a:lnTo>
                    <a:pt x="1330" y="154"/>
                  </a:lnTo>
                  <a:lnTo>
                    <a:pt x="1330" y="149"/>
                  </a:lnTo>
                  <a:lnTo>
                    <a:pt x="1330" y="149"/>
                  </a:lnTo>
                  <a:lnTo>
                    <a:pt x="1330" y="144"/>
                  </a:lnTo>
                  <a:lnTo>
                    <a:pt x="1330" y="144"/>
                  </a:lnTo>
                  <a:lnTo>
                    <a:pt x="1330" y="144"/>
                  </a:lnTo>
                  <a:lnTo>
                    <a:pt x="1330" y="149"/>
                  </a:lnTo>
                  <a:lnTo>
                    <a:pt x="1330" y="149"/>
                  </a:lnTo>
                  <a:lnTo>
                    <a:pt x="1330" y="154"/>
                  </a:lnTo>
                  <a:lnTo>
                    <a:pt x="1330" y="154"/>
                  </a:lnTo>
                  <a:lnTo>
                    <a:pt x="1330" y="159"/>
                  </a:lnTo>
                  <a:lnTo>
                    <a:pt x="1330" y="159"/>
                  </a:lnTo>
                  <a:lnTo>
                    <a:pt x="1330" y="159"/>
                  </a:lnTo>
                  <a:close/>
                  <a:moveTo>
                    <a:pt x="1123" y="134"/>
                  </a:moveTo>
                  <a:lnTo>
                    <a:pt x="1128" y="129"/>
                  </a:lnTo>
                  <a:lnTo>
                    <a:pt x="1133" y="129"/>
                  </a:lnTo>
                  <a:lnTo>
                    <a:pt x="1138" y="129"/>
                  </a:lnTo>
                  <a:lnTo>
                    <a:pt x="1143" y="124"/>
                  </a:lnTo>
                  <a:lnTo>
                    <a:pt x="1147" y="124"/>
                  </a:lnTo>
                  <a:lnTo>
                    <a:pt x="1152" y="124"/>
                  </a:lnTo>
                  <a:lnTo>
                    <a:pt x="1162" y="129"/>
                  </a:lnTo>
                  <a:lnTo>
                    <a:pt x="1167" y="129"/>
                  </a:lnTo>
                  <a:lnTo>
                    <a:pt x="1172" y="129"/>
                  </a:lnTo>
                  <a:lnTo>
                    <a:pt x="1172" y="134"/>
                  </a:lnTo>
                  <a:lnTo>
                    <a:pt x="1167" y="134"/>
                  </a:lnTo>
                  <a:lnTo>
                    <a:pt x="1162" y="139"/>
                  </a:lnTo>
                  <a:lnTo>
                    <a:pt x="1157" y="139"/>
                  </a:lnTo>
                  <a:lnTo>
                    <a:pt x="1152" y="139"/>
                  </a:lnTo>
                  <a:lnTo>
                    <a:pt x="1147" y="144"/>
                  </a:lnTo>
                  <a:lnTo>
                    <a:pt x="1143" y="144"/>
                  </a:lnTo>
                  <a:lnTo>
                    <a:pt x="1138" y="139"/>
                  </a:lnTo>
                  <a:lnTo>
                    <a:pt x="1133" y="139"/>
                  </a:lnTo>
                  <a:lnTo>
                    <a:pt x="1128" y="139"/>
                  </a:lnTo>
                  <a:lnTo>
                    <a:pt x="1123" y="134"/>
                  </a:lnTo>
                  <a:close/>
                  <a:moveTo>
                    <a:pt x="1222" y="104"/>
                  </a:moveTo>
                  <a:lnTo>
                    <a:pt x="1227" y="104"/>
                  </a:lnTo>
                  <a:lnTo>
                    <a:pt x="1227" y="104"/>
                  </a:lnTo>
                  <a:lnTo>
                    <a:pt x="1232" y="104"/>
                  </a:lnTo>
                  <a:lnTo>
                    <a:pt x="1236" y="104"/>
                  </a:lnTo>
                  <a:lnTo>
                    <a:pt x="1241" y="99"/>
                  </a:lnTo>
                  <a:lnTo>
                    <a:pt x="1246" y="99"/>
                  </a:lnTo>
                  <a:lnTo>
                    <a:pt x="1246" y="104"/>
                  </a:lnTo>
                  <a:lnTo>
                    <a:pt x="1251" y="104"/>
                  </a:lnTo>
                  <a:lnTo>
                    <a:pt x="1256" y="104"/>
                  </a:lnTo>
                  <a:lnTo>
                    <a:pt x="1256" y="104"/>
                  </a:lnTo>
                  <a:lnTo>
                    <a:pt x="1256" y="109"/>
                  </a:lnTo>
                  <a:lnTo>
                    <a:pt x="1251" y="109"/>
                  </a:lnTo>
                  <a:lnTo>
                    <a:pt x="1246" y="109"/>
                  </a:lnTo>
                  <a:lnTo>
                    <a:pt x="1241" y="114"/>
                  </a:lnTo>
                  <a:lnTo>
                    <a:pt x="1236" y="114"/>
                  </a:lnTo>
                  <a:lnTo>
                    <a:pt x="1236" y="114"/>
                  </a:lnTo>
                  <a:lnTo>
                    <a:pt x="1232" y="109"/>
                  </a:lnTo>
                  <a:lnTo>
                    <a:pt x="1227" y="109"/>
                  </a:lnTo>
                  <a:lnTo>
                    <a:pt x="1222" y="109"/>
                  </a:lnTo>
                  <a:lnTo>
                    <a:pt x="1222" y="104"/>
                  </a:lnTo>
                  <a:close/>
                  <a:moveTo>
                    <a:pt x="1321" y="79"/>
                  </a:moveTo>
                  <a:lnTo>
                    <a:pt x="1321" y="79"/>
                  </a:lnTo>
                  <a:lnTo>
                    <a:pt x="1326" y="74"/>
                  </a:lnTo>
                  <a:lnTo>
                    <a:pt x="1330" y="74"/>
                  </a:lnTo>
                  <a:lnTo>
                    <a:pt x="1335" y="74"/>
                  </a:lnTo>
                  <a:lnTo>
                    <a:pt x="1335" y="74"/>
                  </a:lnTo>
                  <a:lnTo>
                    <a:pt x="1340" y="79"/>
                  </a:lnTo>
                  <a:lnTo>
                    <a:pt x="1340" y="79"/>
                  </a:lnTo>
                  <a:lnTo>
                    <a:pt x="1340" y="84"/>
                  </a:lnTo>
                  <a:lnTo>
                    <a:pt x="1335" y="84"/>
                  </a:lnTo>
                  <a:lnTo>
                    <a:pt x="1330" y="84"/>
                  </a:lnTo>
                  <a:lnTo>
                    <a:pt x="1326" y="84"/>
                  </a:lnTo>
                  <a:lnTo>
                    <a:pt x="1326" y="84"/>
                  </a:lnTo>
                  <a:lnTo>
                    <a:pt x="1321" y="84"/>
                  </a:lnTo>
                  <a:lnTo>
                    <a:pt x="1321" y="79"/>
                  </a:lnTo>
                  <a:close/>
                </a:path>
              </a:pathLst>
            </a:custGeom>
            <a:solidFill>
              <a:srgbClr val="76cc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8" name=""/>
            <p:cNvSpPr/>
            <p:nvPr/>
          </p:nvSpPr>
          <p:spPr>
            <a:xfrm>
              <a:off x="2268360" y="2360880"/>
              <a:ext cx="4098960" cy="2628720"/>
            </a:xfrm>
            <a:custGeom>
              <a:avLst/>
              <a:gdLst/>
              <a:ahLst/>
              <a:rect l="l" t="t" r="r" b="b"/>
              <a:pathLst>
                <a:path w="2582" h="1656">
                  <a:moveTo>
                    <a:pt x="2235" y="1656"/>
                  </a:moveTo>
                  <a:lnTo>
                    <a:pt x="2260" y="1631"/>
                  </a:lnTo>
                  <a:lnTo>
                    <a:pt x="2285" y="1631"/>
                  </a:lnTo>
                  <a:lnTo>
                    <a:pt x="2315" y="1631"/>
                  </a:lnTo>
                  <a:lnTo>
                    <a:pt x="2339" y="1631"/>
                  </a:lnTo>
                  <a:lnTo>
                    <a:pt x="2369" y="1631"/>
                  </a:lnTo>
                  <a:lnTo>
                    <a:pt x="2394" y="1631"/>
                  </a:lnTo>
                  <a:lnTo>
                    <a:pt x="2418" y="1631"/>
                  </a:lnTo>
                  <a:lnTo>
                    <a:pt x="2448" y="1602"/>
                  </a:lnTo>
                  <a:lnTo>
                    <a:pt x="2448" y="1577"/>
                  </a:lnTo>
                  <a:lnTo>
                    <a:pt x="2448" y="1547"/>
                  </a:lnTo>
                  <a:lnTo>
                    <a:pt x="2448" y="1523"/>
                  </a:lnTo>
                  <a:lnTo>
                    <a:pt x="2473" y="1498"/>
                  </a:lnTo>
                  <a:lnTo>
                    <a:pt x="2473" y="1468"/>
                  </a:lnTo>
                  <a:lnTo>
                    <a:pt x="2473" y="1444"/>
                  </a:lnTo>
                  <a:lnTo>
                    <a:pt x="2473" y="1414"/>
                  </a:lnTo>
                  <a:lnTo>
                    <a:pt x="2503" y="1389"/>
                  </a:lnTo>
                  <a:lnTo>
                    <a:pt x="2503" y="1364"/>
                  </a:lnTo>
                  <a:lnTo>
                    <a:pt x="2503" y="1335"/>
                  </a:lnTo>
                  <a:lnTo>
                    <a:pt x="2503" y="1310"/>
                  </a:lnTo>
                  <a:lnTo>
                    <a:pt x="2527" y="1280"/>
                  </a:lnTo>
                  <a:lnTo>
                    <a:pt x="2527" y="1256"/>
                  </a:lnTo>
                  <a:lnTo>
                    <a:pt x="2527" y="1226"/>
                  </a:lnTo>
                  <a:lnTo>
                    <a:pt x="2527" y="1201"/>
                  </a:lnTo>
                  <a:lnTo>
                    <a:pt x="2552" y="1177"/>
                  </a:lnTo>
                  <a:lnTo>
                    <a:pt x="2552" y="1147"/>
                  </a:lnTo>
                  <a:lnTo>
                    <a:pt x="2552" y="1122"/>
                  </a:lnTo>
                  <a:lnTo>
                    <a:pt x="2552" y="1093"/>
                  </a:lnTo>
                  <a:lnTo>
                    <a:pt x="2582" y="1068"/>
                  </a:lnTo>
                  <a:lnTo>
                    <a:pt x="2582" y="1043"/>
                  </a:lnTo>
                  <a:lnTo>
                    <a:pt x="2582" y="1014"/>
                  </a:lnTo>
                  <a:lnTo>
                    <a:pt x="2582" y="989"/>
                  </a:lnTo>
                  <a:lnTo>
                    <a:pt x="2582" y="959"/>
                  </a:lnTo>
                  <a:lnTo>
                    <a:pt x="2582" y="934"/>
                  </a:lnTo>
                  <a:lnTo>
                    <a:pt x="2582" y="910"/>
                  </a:lnTo>
                  <a:lnTo>
                    <a:pt x="2582" y="880"/>
                  </a:lnTo>
                  <a:lnTo>
                    <a:pt x="2582" y="855"/>
                  </a:lnTo>
                  <a:lnTo>
                    <a:pt x="2582" y="826"/>
                  </a:lnTo>
                  <a:lnTo>
                    <a:pt x="2582" y="801"/>
                  </a:lnTo>
                  <a:lnTo>
                    <a:pt x="2582" y="776"/>
                  </a:lnTo>
                  <a:lnTo>
                    <a:pt x="2582" y="747"/>
                  </a:lnTo>
                  <a:lnTo>
                    <a:pt x="2582" y="722"/>
                  </a:lnTo>
                  <a:lnTo>
                    <a:pt x="2582" y="692"/>
                  </a:lnTo>
                  <a:lnTo>
                    <a:pt x="2582" y="668"/>
                  </a:lnTo>
                  <a:lnTo>
                    <a:pt x="2582" y="643"/>
                  </a:lnTo>
                  <a:lnTo>
                    <a:pt x="2582" y="613"/>
                  </a:lnTo>
                  <a:lnTo>
                    <a:pt x="2582" y="589"/>
                  </a:lnTo>
                  <a:lnTo>
                    <a:pt x="2582" y="559"/>
                  </a:lnTo>
                  <a:lnTo>
                    <a:pt x="2582" y="534"/>
                  </a:lnTo>
                  <a:lnTo>
                    <a:pt x="2582" y="504"/>
                  </a:lnTo>
                  <a:lnTo>
                    <a:pt x="2582" y="480"/>
                  </a:lnTo>
                  <a:lnTo>
                    <a:pt x="2582" y="455"/>
                  </a:lnTo>
                  <a:lnTo>
                    <a:pt x="2582" y="425"/>
                  </a:lnTo>
                  <a:lnTo>
                    <a:pt x="2582" y="401"/>
                  </a:lnTo>
                  <a:lnTo>
                    <a:pt x="2582" y="371"/>
                  </a:lnTo>
                  <a:lnTo>
                    <a:pt x="2582" y="346"/>
                  </a:lnTo>
                  <a:lnTo>
                    <a:pt x="2582" y="322"/>
                  </a:lnTo>
                  <a:lnTo>
                    <a:pt x="2582" y="292"/>
                  </a:lnTo>
                  <a:lnTo>
                    <a:pt x="2582" y="267"/>
                  </a:lnTo>
                  <a:lnTo>
                    <a:pt x="2582" y="238"/>
                  </a:lnTo>
                  <a:lnTo>
                    <a:pt x="2552" y="213"/>
                  </a:lnTo>
                  <a:lnTo>
                    <a:pt x="2552" y="188"/>
                  </a:lnTo>
                  <a:lnTo>
                    <a:pt x="2552" y="159"/>
                  </a:lnTo>
                  <a:lnTo>
                    <a:pt x="2552" y="134"/>
                  </a:lnTo>
                  <a:lnTo>
                    <a:pt x="2552" y="104"/>
                  </a:lnTo>
                  <a:lnTo>
                    <a:pt x="2527" y="79"/>
                  </a:lnTo>
                  <a:lnTo>
                    <a:pt x="2503" y="79"/>
                  </a:lnTo>
                  <a:lnTo>
                    <a:pt x="2473" y="79"/>
                  </a:lnTo>
                  <a:lnTo>
                    <a:pt x="2448" y="55"/>
                  </a:lnTo>
                  <a:lnTo>
                    <a:pt x="2418" y="55"/>
                  </a:lnTo>
                  <a:lnTo>
                    <a:pt x="2394" y="55"/>
                  </a:lnTo>
                  <a:lnTo>
                    <a:pt x="2369" y="25"/>
                  </a:lnTo>
                  <a:lnTo>
                    <a:pt x="2339" y="25"/>
                  </a:lnTo>
                  <a:lnTo>
                    <a:pt x="2315" y="25"/>
                  </a:lnTo>
                  <a:lnTo>
                    <a:pt x="2285" y="0"/>
                  </a:lnTo>
                  <a:lnTo>
                    <a:pt x="2260" y="0"/>
                  </a:lnTo>
                  <a:lnTo>
                    <a:pt x="2235" y="0"/>
                  </a:lnTo>
                  <a:lnTo>
                    <a:pt x="2206" y="0"/>
                  </a:lnTo>
                  <a:lnTo>
                    <a:pt x="2181" y="0"/>
                  </a:lnTo>
                  <a:lnTo>
                    <a:pt x="2156" y="0"/>
                  </a:lnTo>
                  <a:lnTo>
                    <a:pt x="2127" y="0"/>
                  </a:lnTo>
                  <a:lnTo>
                    <a:pt x="2102" y="0"/>
                  </a:lnTo>
                  <a:lnTo>
                    <a:pt x="2072" y="0"/>
                  </a:lnTo>
                  <a:lnTo>
                    <a:pt x="2048" y="0"/>
                  </a:lnTo>
                  <a:lnTo>
                    <a:pt x="2023" y="0"/>
                  </a:lnTo>
                  <a:lnTo>
                    <a:pt x="1993" y="0"/>
                  </a:lnTo>
                  <a:lnTo>
                    <a:pt x="1968" y="0"/>
                  </a:lnTo>
                  <a:lnTo>
                    <a:pt x="1944" y="0"/>
                  </a:lnTo>
                  <a:lnTo>
                    <a:pt x="1914" y="0"/>
                  </a:lnTo>
                  <a:lnTo>
                    <a:pt x="1889" y="0"/>
                  </a:lnTo>
                  <a:lnTo>
                    <a:pt x="1860" y="0"/>
                  </a:lnTo>
                  <a:lnTo>
                    <a:pt x="1835" y="0"/>
                  </a:lnTo>
                  <a:lnTo>
                    <a:pt x="1810" y="0"/>
                  </a:lnTo>
                  <a:lnTo>
                    <a:pt x="1780" y="0"/>
                  </a:lnTo>
                  <a:lnTo>
                    <a:pt x="1756" y="0"/>
                  </a:lnTo>
                  <a:lnTo>
                    <a:pt x="1726" y="0"/>
                  </a:lnTo>
                  <a:lnTo>
                    <a:pt x="1701" y="0"/>
                  </a:lnTo>
                  <a:lnTo>
                    <a:pt x="1677" y="0"/>
                  </a:lnTo>
                  <a:lnTo>
                    <a:pt x="1657" y="0"/>
                  </a:lnTo>
                  <a:lnTo>
                    <a:pt x="1662" y="0"/>
                  </a:lnTo>
                  <a:lnTo>
                    <a:pt x="1672" y="5"/>
                  </a:lnTo>
                  <a:lnTo>
                    <a:pt x="1677" y="10"/>
                  </a:lnTo>
                  <a:lnTo>
                    <a:pt x="1687" y="10"/>
                  </a:lnTo>
                  <a:lnTo>
                    <a:pt x="1691" y="15"/>
                  </a:lnTo>
                  <a:lnTo>
                    <a:pt x="1701" y="20"/>
                  </a:lnTo>
                  <a:lnTo>
                    <a:pt x="1706" y="20"/>
                  </a:lnTo>
                  <a:lnTo>
                    <a:pt x="1716" y="20"/>
                  </a:lnTo>
                  <a:lnTo>
                    <a:pt x="1726" y="25"/>
                  </a:lnTo>
                  <a:lnTo>
                    <a:pt x="1731" y="25"/>
                  </a:lnTo>
                  <a:lnTo>
                    <a:pt x="1741" y="25"/>
                  </a:lnTo>
                  <a:lnTo>
                    <a:pt x="1751" y="30"/>
                  </a:lnTo>
                  <a:lnTo>
                    <a:pt x="1756" y="35"/>
                  </a:lnTo>
                  <a:lnTo>
                    <a:pt x="1761" y="40"/>
                  </a:lnTo>
                  <a:lnTo>
                    <a:pt x="1766" y="45"/>
                  </a:lnTo>
                  <a:lnTo>
                    <a:pt x="1766" y="50"/>
                  </a:lnTo>
                  <a:lnTo>
                    <a:pt x="1776" y="55"/>
                  </a:lnTo>
                  <a:lnTo>
                    <a:pt x="1780" y="55"/>
                  </a:lnTo>
                  <a:lnTo>
                    <a:pt x="1790" y="55"/>
                  </a:lnTo>
                  <a:lnTo>
                    <a:pt x="1800" y="55"/>
                  </a:lnTo>
                  <a:lnTo>
                    <a:pt x="1810" y="55"/>
                  </a:lnTo>
                  <a:lnTo>
                    <a:pt x="1820" y="50"/>
                  </a:lnTo>
                  <a:lnTo>
                    <a:pt x="1830" y="50"/>
                  </a:lnTo>
                  <a:lnTo>
                    <a:pt x="1835" y="55"/>
                  </a:lnTo>
                  <a:lnTo>
                    <a:pt x="1840" y="60"/>
                  </a:lnTo>
                  <a:lnTo>
                    <a:pt x="1840" y="65"/>
                  </a:lnTo>
                  <a:lnTo>
                    <a:pt x="1845" y="70"/>
                  </a:lnTo>
                  <a:lnTo>
                    <a:pt x="1845" y="74"/>
                  </a:lnTo>
                  <a:lnTo>
                    <a:pt x="1850" y="79"/>
                  </a:lnTo>
                  <a:lnTo>
                    <a:pt x="1860" y="79"/>
                  </a:lnTo>
                  <a:lnTo>
                    <a:pt x="1870" y="79"/>
                  </a:lnTo>
                  <a:lnTo>
                    <a:pt x="1879" y="79"/>
                  </a:lnTo>
                  <a:lnTo>
                    <a:pt x="1889" y="79"/>
                  </a:lnTo>
                  <a:lnTo>
                    <a:pt x="1894" y="79"/>
                  </a:lnTo>
                  <a:lnTo>
                    <a:pt x="1904" y="79"/>
                  </a:lnTo>
                  <a:lnTo>
                    <a:pt x="1914" y="84"/>
                  </a:lnTo>
                  <a:lnTo>
                    <a:pt x="1919" y="89"/>
                  </a:lnTo>
                  <a:lnTo>
                    <a:pt x="1924" y="94"/>
                  </a:lnTo>
                  <a:lnTo>
                    <a:pt x="1924" y="99"/>
                  </a:lnTo>
                  <a:lnTo>
                    <a:pt x="1929" y="104"/>
                  </a:lnTo>
                  <a:lnTo>
                    <a:pt x="1934" y="109"/>
                  </a:lnTo>
                  <a:lnTo>
                    <a:pt x="1944" y="109"/>
                  </a:lnTo>
                  <a:lnTo>
                    <a:pt x="1954" y="109"/>
                  </a:lnTo>
                  <a:lnTo>
                    <a:pt x="1963" y="109"/>
                  </a:lnTo>
                  <a:lnTo>
                    <a:pt x="1973" y="109"/>
                  </a:lnTo>
                  <a:lnTo>
                    <a:pt x="1978" y="109"/>
                  </a:lnTo>
                  <a:lnTo>
                    <a:pt x="1988" y="109"/>
                  </a:lnTo>
                  <a:lnTo>
                    <a:pt x="1998" y="109"/>
                  </a:lnTo>
                  <a:lnTo>
                    <a:pt x="2003" y="109"/>
                  </a:lnTo>
                  <a:lnTo>
                    <a:pt x="2008" y="114"/>
                  </a:lnTo>
                  <a:lnTo>
                    <a:pt x="2013" y="119"/>
                  </a:lnTo>
                  <a:lnTo>
                    <a:pt x="2018" y="129"/>
                  </a:lnTo>
                  <a:lnTo>
                    <a:pt x="2018" y="134"/>
                  </a:lnTo>
                  <a:lnTo>
                    <a:pt x="2028" y="139"/>
                  </a:lnTo>
                  <a:lnTo>
                    <a:pt x="2033" y="139"/>
                  </a:lnTo>
                  <a:lnTo>
                    <a:pt x="2043" y="139"/>
                  </a:lnTo>
                  <a:lnTo>
                    <a:pt x="2052" y="139"/>
                  </a:lnTo>
                  <a:lnTo>
                    <a:pt x="2062" y="139"/>
                  </a:lnTo>
                  <a:lnTo>
                    <a:pt x="2072" y="139"/>
                  </a:lnTo>
                  <a:lnTo>
                    <a:pt x="2082" y="139"/>
                  </a:lnTo>
                  <a:lnTo>
                    <a:pt x="2087" y="139"/>
                  </a:lnTo>
                  <a:lnTo>
                    <a:pt x="2097" y="139"/>
                  </a:lnTo>
                  <a:lnTo>
                    <a:pt x="2107" y="139"/>
                  </a:lnTo>
                  <a:lnTo>
                    <a:pt x="2112" y="144"/>
                  </a:lnTo>
                  <a:lnTo>
                    <a:pt x="2112" y="149"/>
                  </a:lnTo>
                  <a:lnTo>
                    <a:pt x="2117" y="154"/>
                  </a:lnTo>
                  <a:lnTo>
                    <a:pt x="2122" y="163"/>
                  </a:lnTo>
                  <a:lnTo>
                    <a:pt x="2122" y="168"/>
                  </a:lnTo>
                  <a:lnTo>
                    <a:pt x="2127" y="173"/>
                  </a:lnTo>
                  <a:lnTo>
                    <a:pt x="2132" y="173"/>
                  </a:lnTo>
                  <a:lnTo>
                    <a:pt x="2142" y="178"/>
                  </a:lnTo>
                  <a:lnTo>
                    <a:pt x="2146" y="183"/>
                  </a:lnTo>
                  <a:lnTo>
                    <a:pt x="2151" y="188"/>
                  </a:lnTo>
                  <a:lnTo>
                    <a:pt x="2151" y="193"/>
                  </a:lnTo>
                  <a:lnTo>
                    <a:pt x="2151" y="198"/>
                  </a:lnTo>
                  <a:lnTo>
                    <a:pt x="2146" y="203"/>
                  </a:lnTo>
                  <a:lnTo>
                    <a:pt x="2146" y="208"/>
                  </a:lnTo>
                  <a:lnTo>
                    <a:pt x="2156" y="213"/>
                  </a:lnTo>
                  <a:lnTo>
                    <a:pt x="2156" y="208"/>
                  </a:lnTo>
                  <a:lnTo>
                    <a:pt x="2156" y="203"/>
                  </a:lnTo>
                  <a:lnTo>
                    <a:pt x="2156" y="193"/>
                  </a:lnTo>
                  <a:lnTo>
                    <a:pt x="2156" y="188"/>
                  </a:lnTo>
                  <a:lnTo>
                    <a:pt x="2156" y="183"/>
                  </a:lnTo>
                  <a:lnTo>
                    <a:pt x="2161" y="178"/>
                  </a:lnTo>
                  <a:lnTo>
                    <a:pt x="2166" y="173"/>
                  </a:lnTo>
                  <a:lnTo>
                    <a:pt x="2176" y="168"/>
                  </a:lnTo>
                  <a:lnTo>
                    <a:pt x="2181" y="168"/>
                  </a:lnTo>
                  <a:lnTo>
                    <a:pt x="2191" y="168"/>
                  </a:lnTo>
                  <a:lnTo>
                    <a:pt x="2196" y="173"/>
                  </a:lnTo>
                  <a:lnTo>
                    <a:pt x="2201" y="178"/>
                  </a:lnTo>
                  <a:lnTo>
                    <a:pt x="2206" y="183"/>
                  </a:lnTo>
                  <a:lnTo>
                    <a:pt x="2216" y="188"/>
                  </a:lnTo>
                  <a:lnTo>
                    <a:pt x="2221" y="193"/>
                  </a:lnTo>
                  <a:lnTo>
                    <a:pt x="2226" y="198"/>
                  </a:lnTo>
                  <a:lnTo>
                    <a:pt x="2231" y="203"/>
                  </a:lnTo>
                  <a:lnTo>
                    <a:pt x="2240" y="203"/>
                  </a:lnTo>
                  <a:lnTo>
                    <a:pt x="2245" y="208"/>
                  </a:lnTo>
                  <a:lnTo>
                    <a:pt x="2250" y="213"/>
                  </a:lnTo>
                  <a:lnTo>
                    <a:pt x="2255" y="218"/>
                  </a:lnTo>
                  <a:lnTo>
                    <a:pt x="2265" y="223"/>
                  </a:lnTo>
                  <a:lnTo>
                    <a:pt x="2270" y="223"/>
                  </a:lnTo>
                  <a:lnTo>
                    <a:pt x="2275" y="228"/>
                  </a:lnTo>
                  <a:lnTo>
                    <a:pt x="2280" y="233"/>
                  </a:lnTo>
                  <a:lnTo>
                    <a:pt x="2290" y="238"/>
                  </a:lnTo>
                  <a:lnTo>
                    <a:pt x="2295" y="243"/>
                  </a:lnTo>
                  <a:lnTo>
                    <a:pt x="2285" y="243"/>
                  </a:lnTo>
                  <a:lnTo>
                    <a:pt x="2275" y="247"/>
                  </a:lnTo>
                  <a:lnTo>
                    <a:pt x="2265" y="247"/>
                  </a:lnTo>
                  <a:lnTo>
                    <a:pt x="2260" y="247"/>
                  </a:lnTo>
                  <a:lnTo>
                    <a:pt x="2250" y="247"/>
                  </a:lnTo>
                  <a:lnTo>
                    <a:pt x="2240" y="247"/>
                  </a:lnTo>
                  <a:lnTo>
                    <a:pt x="2235" y="243"/>
                  </a:lnTo>
                  <a:lnTo>
                    <a:pt x="2226" y="243"/>
                  </a:lnTo>
                  <a:lnTo>
                    <a:pt x="2216" y="247"/>
                  </a:lnTo>
                  <a:lnTo>
                    <a:pt x="2206" y="247"/>
                  </a:lnTo>
                  <a:lnTo>
                    <a:pt x="2201" y="247"/>
                  </a:lnTo>
                  <a:lnTo>
                    <a:pt x="2191" y="252"/>
                  </a:lnTo>
                  <a:lnTo>
                    <a:pt x="2186" y="257"/>
                  </a:lnTo>
                  <a:lnTo>
                    <a:pt x="2181" y="262"/>
                  </a:lnTo>
                  <a:lnTo>
                    <a:pt x="2176" y="267"/>
                  </a:lnTo>
                  <a:lnTo>
                    <a:pt x="2176" y="272"/>
                  </a:lnTo>
                  <a:lnTo>
                    <a:pt x="2176" y="277"/>
                  </a:lnTo>
                  <a:lnTo>
                    <a:pt x="2176" y="282"/>
                  </a:lnTo>
                  <a:lnTo>
                    <a:pt x="2176" y="287"/>
                  </a:lnTo>
                  <a:lnTo>
                    <a:pt x="2176" y="292"/>
                  </a:lnTo>
                  <a:lnTo>
                    <a:pt x="2171" y="297"/>
                  </a:lnTo>
                  <a:lnTo>
                    <a:pt x="2166" y="302"/>
                  </a:lnTo>
                  <a:lnTo>
                    <a:pt x="2161" y="307"/>
                  </a:lnTo>
                  <a:lnTo>
                    <a:pt x="2156" y="312"/>
                  </a:lnTo>
                  <a:lnTo>
                    <a:pt x="2151" y="317"/>
                  </a:lnTo>
                  <a:lnTo>
                    <a:pt x="2146" y="322"/>
                  </a:lnTo>
                  <a:lnTo>
                    <a:pt x="2146" y="327"/>
                  </a:lnTo>
                  <a:lnTo>
                    <a:pt x="2142" y="331"/>
                  </a:lnTo>
                  <a:lnTo>
                    <a:pt x="2137" y="336"/>
                  </a:lnTo>
                  <a:lnTo>
                    <a:pt x="2127" y="341"/>
                  </a:lnTo>
                  <a:lnTo>
                    <a:pt x="2122" y="346"/>
                  </a:lnTo>
                  <a:lnTo>
                    <a:pt x="2117" y="351"/>
                  </a:lnTo>
                  <a:lnTo>
                    <a:pt x="2112" y="356"/>
                  </a:lnTo>
                  <a:lnTo>
                    <a:pt x="2107" y="356"/>
                  </a:lnTo>
                  <a:lnTo>
                    <a:pt x="2097" y="361"/>
                  </a:lnTo>
                  <a:lnTo>
                    <a:pt x="2092" y="366"/>
                  </a:lnTo>
                  <a:lnTo>
                    <a:pt x="2082" y="366"/>
                  </a:lnTo>
                  <a:lnTo>
                    <a:pt x="2072" y="366"/>
                  </a:lnTo>
                  <a:lnTo>
                    <a:pt x="2067" y="366"/>
                  </a:lnTo>
                  <a:lnTo>
                    <a:pt x="2057" y="371"/>
                  </a:lnTo>
                  <a:lnTo>
                    <a:pt x="2048" y="371"/>
                  </a:lnTo>
                  <a:lnTo>
                    <a:pt x="2038" y="371"/>
                  </a:lnTo>
                  <a:lnTo>
                    <a:pt x="2028" y="371"/>
                  </a:lnTo>
                  <a:lnTo>
                    <a:pt x="2023" y="371"/>
                  </a:lnTo>
                  <a:lnTo>
                    <a:pt x="2013" y="376"/>
                  </a:lnTo>
                  <a:lnTo>
                    <a:pt x="2008" y="376"/>
                  </a:lnTo>
                  <a:lnTo>
                    <a:pt x="1998" y="381"/>
                  </a:lnTo>
                  <a:lnTo>
                    <a:pt x="1988" y="381"/>
                  </a:lnTo>
                  <a:lnTo>
                    <a:pt x="1983" y="381"/>
                  </a:lnTo>
                  <a:lnTo>
                    <a:pt x="1973" y="381"/>
                  </a:lnTo>
                  <a:lnTo>
                    <a:pt x="1963" y="381"/>
                  </a:lnTo>
                  <a:lnTo>
                    <a:pt x="1954" y="386"/>
                  </a:lnTo>
                  <a:lnTo>
                    <a:pt x="1949" y="386"/>
                  </a:lnTo>
                  <a:lnTo>
                    <a:pt x="1939" y="386"/>
                  </a:lnTo>
                  <a:lnTo>
                    <a:pt x="1934" y="386"/>
                  </a:lnTo>
                  <a:lnTo>
                    <a:pt x="1924" y="386"/>
                  </a:lnTo>
                  <a:lnTo>
                    <a:pt x="1914" y="381"/>
                  </a:lnTo>
                  <a:lnTo>
                    <a:pt x="1904" y="381"/>
                  </a:lnTo>
                  <a:lnTo>
                    <a:pt x="1899" y="381"/>
                  </a:lnTo>
                  <a:lnTo>
                    <a:pt x="1889" y="381"/>
                  </a:lnTo>
                  <a:lnTo>
                    <a:pt x="1879" y="381"/>
                  </a:lnTo>
                  <a:lnTo>
                    <a:pt x="1870" y="381"/>
                  </a:lnTo>
                  <a:lnTo>
                    <a:pt x="1860" y="381"/>
                  </a:lnTo>
                  <a:lnTo>
                    <a:pt x="1855" y="381"/>
                  </a:lnTo>
                  <a:lnTo>
                    <a:pt x="1845" y="386"/>
                  </a:lnTo>
                  <a:lnTo>
                    <a:pt x="1835" y="386"/>
                  </a:lnTo>
                  <a:lnTo>
                    <a:pt x="1825" y="386"/>
                  </a:lnTo>
                  <a:lnTo>
                    <a:pt x="1820" y="386"/>
                  </a:lnTo>
                  <a:lnTo>
                    <a:pt x="1810" y="386"/>
                  </a:lnTo>
                  <a:lnTo>
                    <a:pt x="1800" y="391"/>
                  </a:lnTo>
                  <a:lnTo>
                    <a:pt x="1795" y="391"/>
                  </a:lnTo>
                  <a:lnTo>
                    <a:pt x="1790" y="396"/>
                  </a:lnTo>
                  <a:lnTo>
                    <a:pt x="1780" y="401"/>
                  </a:lnTo>
                  <a:lnTo>
                    <a:pt x="1776" y="401"/>
                  </a:lnTo>
                  <a:lnTo>
                    <a:pt x="1766" y="396"/>
                  </a:lnTo>
                  <a:lnTo>
                    <a:pt x="1761" y="391"/>
                  </a:lnTo>
                  <a:lnTo>
                    <a:pt x="1751" y="386"/>
                  </a:lnTo>
                  <a:lnTo>
                    <a:pt x="1746" y="381"/>
                  </a:lnTo>
                  <a:lnTo>
                    <a:pt x="1741" y="381"/>
                  </a:lnTo>
                  <a:lnTo>
                    <a:pt x="1736" y="376"/>
                  </a:lnTo>
                  <a:lnTo>
                    <a:pt x="1726" y="371"/>
                  </a:lnTo>
                  <a:lnTo>
                    <a:pt x="1721" y="371"/>
                  </a:lnTo>
                  <a:lnTo>
                    <a:pt x="1711" y="371"/>
                  </a:lnTo>
                  <a:lnTo>
                    <a:pt x="1701" y="371"/>
                  </a:lnTo>
                  <a:lnTo>
                    <a:pt x="1691" y="366"/>
                  </a:lnTo>
                  <a:lnTo>
                    <a:pt x="1682" y="366"/>
                  </a:lnTo>
                  <a:lnTo>
                    <a:pt x="1677" y="371"/>
                  </a:lnTo>
                  <a:lnTo>
                    <a:pt x="1667" y="371"/>
                  </a:lnTo>
                  <a:lnTo>
                    <a:pt x="1662" y="376"/>
                  </a:lnTo>
                  <a:lnTo>
                    <a:pt x="1652" y="376"/>
                  </a:lnTo>
                  <a:lnTo>
                    <a:pt x="1647" y="381"/>
                  </a:lnTo>
                  <a:lnTo>
                    <a:pt x="1642" y="386"/>
                  </a:lnTo>
                  <a:lnTo>
                    <a:pt x="1642" y="391"/>
                  </a:lnTo>
                  <a:lnTo>
                    <a:pt x="1642" y="401"/>
                  </a:lnTo>
                  <a:lnTo>
                    <a:pt x="1647" y="406"/>
                  </a:lnTo>
                  <a:lnTo>
                    <a:pt x="1657" y="406"/>
                  </a:lnTo>
                  <a:lnTo>
                    <a:pt x="1667" y="406"/>
                  </a:lnTo>
                  <a:lnTo>
                    <a:pt x="1672" y="411"/>
                  </a:lnTo>
                  <a:lnTo>
                    <a:pt x="1682" y="411"/>
                  </a:lnTo>
                  <a:lnTo>
                    <a:pt x="1691" y="411"/>
                  </a:lnTo>
                  <a:lnTo>
                    <a:pt x="1696" y="416"/>
                  </a:lnTo>
                  <a:lnTo>
                    <a:pt x="1706" y="416"/>
                  </a:lnTo>
                  <a:lnTo>
                    <a:pt x="1711" y="420"/>
                  </a:lnTo>
                  <a:lnTo>
                    <a:pt x="1721" y="425"/>
                  </a:lnTo>
                  <a:lnTo>
                    <a:pt x="1726" y="430"/>
                  </a:lnTo>
                  <a:lnTo>
                    <a:pt x="1731" y="435"/>
                  </a:lnTo>
                  <a:lnTo>
                    <a:pt x="1736" y="440"/>
                  </a:lnTo>
                  <a:lnTo>
                    <a:pt x="1736" y="445"/>
                  </a:lnTo>
                  <a:lnTo>
                    <a:pt x="1736" y="450"/>
                  </a:lnTo>
                  <a:lnTo>
                    <a:pt x="1736" y="455"/>
                  </a:lnTo>
                  <a:lnTo>
                    <a:pt x="1731" y="460"/>
                  </a:lnTo>
                  <a:lnTo>
                    <a:pt x="1726" y="465"/>
                  </a:lnTo>
                  <a:lnTo>
                    <a:pt x="1716" y="465"/>
                  </a:lnTo>
                  <a:lnTo>
                    <a:pt x="1711" y="465"/>
                  </a:lnTo>
                  <a:lnTo>
                    <a:pt x="1701" y="465"/>
                  </a:lnTo>
                  <a:lnTo>
                    <a:pt x="1691" y="460"/>
                  </a:lnTo>
                  <a:lnTo>
                    <a:pt x="1687" y="455"/>
                  </a:lnTo>
                  <a:lnTo>
                    <a:pt x="1677" y="455"/>
                  </a:lnTo>
                  <a:lnTo>
                    <a:pt x="1672" y="450"/>
                  </a:lnTo>
                  <a:lnTo>
                    <a:pt x="1662" y="445"/>
                  </a:lnTo>
                  <a:lnTo>
                    <a:pt x="1657" y="440"/>
                  </a:lnTo>
                  <a:lnTo>
                    <a:pt x="1652" y="440"/>
                  </a:lnTo>
                  <a:lnTo>
                    <a:pt x="1642" y="440"/>
                  </a:lnTo>
                  <a:lnTo>
                    <a:pt x="1637" y="445"/>
                  </a:lnTo>
                  <a:lnTo>
                    <a:pt x="1632" y="450"/>
                  </a:lnTo>
                  <a:lnTo>
                    <a:pt x="1632" y="455"/>
                  </a:lnTo>
                  <a:lnTo>
                    <a:pt x="1632" y="460"/>
                  </a:lnTo>
                  <a:lnTo>
                    <a:pt x="1637" y="465"/>
                  </a:lnTo>
                  <a:lnTo>
                    <a:pt x="1647" y="470"/>
                  </a:lnTo>
                  <a:lnTo>
                    <a:pt x="1657" y="475"/>
                  </a:lnTo>
                  <a:lnTo>
                    <a:pt x="1667" y="475"/>
                  </a:lnTo>
                  <a:lnTo>
                    <a:pt x="1672" y="480"/>
                  </a:lnTo>
                  <a:lnTo>
                    <a:pt x="1672" y="485"/>
                  </a:lnTo>
                  <a:lnTo>
                    <a:pt x="1662" y="490"/>
                  </a:lnTo>
                  <a:lnTo>
                    <a:pt x="1657" y="495"/>
                  </a:lnTo>
                  <a:lnTo>
                    <a:pt x="1647" y="495"/>
                  </a:lnTo>
                  <a:lnTo>
                    <a:pt x="1642" y="490"/>
                  </a:lnTo>
                  <a:lnTo>
                    <a:pt x="1642" y="485"/>
                  </a:lnTo>
                  <a:lnTo>
                    <a:pt x="1637" y="475"/>
                  </a:lnTo>
                  <a:lnTo>
                    <a:pt x="1632" y="470"/>
                  </a:lnTo>
                  <a:lnTo>
                    <a:pt x="1627" y="465"/>
                  </a:lnTo>
                  <a:lnTo>
                    <a:pt x="1622" y="460"/>
                  </a:lnTo>
                  <a:lnTo>
                    <a:pt x="1617" y="460"/>
                  </a:lnTo>
                  <a:lnTo>
                    <a:pt x="1612" y="465"/>
                  </a:lnTo>
                  <a:lnTo>
                    <a:pt x="1607" y="470"/>
                  </a:lnTo>
                  <a:lnTo>
                    <a:pt x="1602" y="475"/>
                  </a:lnTo>
                  <a:lnTo>
                    <a:pt x="1598" y="480"/>
                  </a:lnTo>
                  <a:lnTo>
                    <a:pt x="1588" y="485"/>
                  </a:lnTo>
                  <a:lnTo>
                    <a:pt x="1583" y="490"/>
                  </a:lnTo>
                  <a:lnTo>
                    <a:pt x="1578" y="495"/>
                  </a:lnTo>
                  <a:lnTo>
                    <a:pt x="1568" y="495"/>
                  </a:lnTo>
                  <a:lnTo>
                    <a:pt x="1563" y="495"/>
                  </a:lnTo>
                  <a:lnTo>
                    <a:pt x="1558" y="485"/>
                  </a:lnTo>
                  <a:lnTo>
                    <a:pt x="1558" y="480"/>
                  </a:lnTo>
                  <a:lnTo>
                    <a:pt x="1558" y="475"/>
                  </a:lnTo>
                  <a:lnTo>
                    <a:pt x="1558" y="470"/>
                  </a:lnTo>
                  <a:lnTo>
                    <a:pt x="1558" y="465"/>
                  </a:lnTo>
                  <a:lnTo>
                    <a:pt x="1558" y="455"/>
                  </a:lnTo>
                  <a:lnTo>
                    <a:pt x="1563" y="450"/>
                  </a:lnTo>
                  <a:lnTo>
                    <a:pt x="1568" y="445"/>
                  </a:lnTo>
                  <a:lnTo>
                    <a:pt x="1568" y="440"/>
                  </a:lnTo>
                  <a:lnTo>
                    <a:pt x="1573" y="435"/>
                  </a:lnTo>
                  <a:lnTo>
                    <a:pt x="1578" y="430"/>
                  </a:lnTo>
                  <a:lnTo>
                    <a:pt x="1578" y="425"/>
                  </a:lnTo>
                  <a:lnTo>
                    <a:pt x="1583" y="420"/>
                  </a:lnTo>
                  <a:lnTo>
                    <a:pt x="1588" y="416"/>
                  </a:lnTo>
                  <a:lnTo>
                    <a:pt x="1588" y="411"/>
                  </a:lnTo>
                  <a:lnTo>
                    <a:pt x="1593" y="406"/>
                  </a:lnTo>
                  <a:lnTo>
                    <a:pt x="1598" y="401"/>
                  </a:lnTo>
                  <a:lnTo>
                    <a:pt x="1602" y="396"/>
                  </a:lnTo>
                  <a:lnTo>
                    <a:pt x="1612" y="391"/>
                  </a:lnTo>
                  <a:lnTo>
                    <a:pt x="1617" y="386"/>
                  </a:lnTo>
                  <a:lnTo>
                    <a:pt x="1617" y="381"/>
                  </a:lnTo>
                  <a:lnTo>
                    <a:pt x="1622" y="376"/>
                  </a:lnTo>
                  <a:lnTo>
                    <a:pt x="1617" y="371"/>
                  </a:lnTo>
                  <a:lnTo>
                    <a:pt x="1607" y="366"/>
                  </a:lnTo>
                  <a:lnTo>
                    <a:pt x="1602" y="361"/>
                  </a:lnTo>
                  <a:lnTo>
                    <a:pt x="1593" y="361"/>
                  </a:lnTo>
                  <a:lnTo>
                    <a:pt x="1588" y="366"/>
                  </a:lnTo>
                  <a:lnTo>
                    <a:pt x="1583" y="371"/>
                  </a:lnTo>
                  <a:lnTo>
                    <a:pt x="1583" y="376"/>
                  </a:lnTo>
                  <a:lnTo>
                    <a:pt x="1578" y="381"/>
                  </a:lnTo>
                  <a:lnTo>
                    <a:pt x="1573" y="386"/>
                  </a:lnTo>
                  <a:lnTo>
                    <a:pt x="1563" y="391"/>
                  </a:lnTo>
                  <a:lnTo>
                    <a:pt x="1553" y="391"/>
                  </a:lnTo>
                  <a:lnTo>
                    <a:pt x="1548" y="396"/>
                  </a:lnTo>
                  <a:lnTo>
                    <a:pt x="1543" y="401"/>
                  </a:lnTo>
                  <a:lnTo>
                    <a:pt x="1538" y="406"/>
                  </a:lnTo>
                  <a:lnTo>
                    <a:pt x="1528" y="406"/>
                  </a:lnTo>
                  <a:lnTo>
                    <a:pt x="1523" y="411"/>
                  </a:lnTo>
                  <a:lnTo>
                    <a:pt x="1518" y="416"/>
                  </a:lnTo>
                  <a:lnTo>
                    <a:pt x="1508" y="420"/>
                  </a:lnTo>
                  <a:lnTo>
                    <a:pt x="1508" y="425"/>
                  </a:lnTo>
                  <a:lnTo>
                    <a:pt x="1504" y="430"/>
                  </a:lnTo>
                  <a:lnTo>
                    <a:pt x="1494" y="430"/>
                  </a:lnTo>
                  <a:lnTo>
                    <a:pt x="1489" y="435"/>
                  </a:lnTo>
                  <a:lnTo>
                    <a:pt x="1484" y="440"/>
                  </a:lnTo>
                  <a:lnTo>
                    <a:pt x="1474" y="445"/>
                  </a:lnTo>
                  <a:lnTo>
                    <a:pt x="1469" y="445"/>
                  </a:lnTo>
                  <a:lnTo>
                    <a:pt x="1464" y="450"/>
                  </a:lnTo>
                  <a:lnTo>
                    <a:pt x="1459" y="455"/>
                  </a:lnTo>
                  <a:lnTo>
                    <a:pt x="1454" y="460"/>
                  </a:lnTo>
                  <a:lnTo>
                    <a:pt x="1444" y="465"/>
                  </a:lnTo>
                  <a:lnTo>
                    <a:pt x="1439" y="470"/>
                  </a:lnTo>
                  <a:lnTo>
                    <a:pt x="1434" y="470"/>
                  </a:lnTo>
                  <a:lnTo>
                    <a:pt x="1424" y="475"/>
                  </a:lnTo>
                  <a:lnTo>
                    <a:pt x="1419" y="480"/>
                  </a:lnTo>
                  <a:lnTo>
                    <a:pt x="1415" y="485"/>
                  </a:lnTo>
                  <a:lnTo>
                    <a:pt x="1410" y="490"/>
                  </a:lnTo>
                  <a:lnTo>
                    <a:pt x="1405" y="495"/>
                  </a:lnTo>
                  <a:lnTo>
                    <a:pt x="1395" y="495"/>
                  </a:lnTo>
                  <a:lnTo>
                    <a:pt x="1390" y="500"/>
                  </a:lnTo>
                  <a:lnTo>
                    <a:pt x="1385" y="504"/>
                  </a:lnTo>
                  <a:lnTo>
                    <a:pt x="1385" y="509"/>
                  </a:lnTo>
                  <a:lnTo>
                    <a:pt x="1380" y="514"/>
                  </a:lnTo>
                  <a:lnTo>
                    <a:pt x="1375" y="519"/>
                  </a:lnTo>
                  <a:lnTo>
                    <a:pt x="1365" y="519"/>
                  </a:lnTo>
                  <a:lnTo>
                    <a:pt x="1355" y="519"/>
                  </a:lnTo>
                  <a:lnTo>
                    <a:pt x="1345" y="514"/>
                  </a:lnTo>
                  <a:lnTo>
                    <a:pt x="1340" y="514"/>
                  </a:lnTo>
                  <a:lnTo>
                    <a:pt x="1330" y="509"/>
                  </a:lnTo>
                  <a:lnTo>
                    <a:pt x="1326" y="504"/>
                  </a:lnTo>
                  <a:lnTo>
                    <a:pt x="1335" y="504"/>
                  </a:lnTo>
                  <a:lnTo>
                    <a:pt x="1340" y="500"/>
                  </a:lnTo>
                  <a:lnTo>
                    <a:pt x="1345" y="495"/>
                  </a:lnTo>
                  <a:lnTo>
                    <a:pt x="1345" y="485"/>
                  </a:lnTo>
                  <a:lnTo>
                    <a:pt x="1350" y="485"/>
                  </a:lnTo>
                  <a:lnTo>
                    <a:pt x="1360" y="480"/>
                  </a:lnTo>
                  <a:lnTo>
                    <a:pt x="1365" y="475"/>
                  </a:lnTo>
                  <a:lnTo>
                    <a:pt x="1365" y="470"/>
                  </a:lnTo>
                  <a:lnTo>
                    <a:pt x="1365" y="465"/>
                  </a:lnTo>
                  <a:lnTo>
                    <a:pt x="1370" y="455"/>
                  </a:lnTo>
                  <a:lnTo>
                    <a:pt x="1370" y="450"/>
                  </a:lnTo>
                  <a:lnTo>
                    <a:pt x="1375" y="445"/>
                  </a:lnTo>
                  <a:lnTo>
                    <a:pt x="1380" y="440"/>
                  </a:lnTo>
                  <a:lnTo>
                    <a:pt x="1385" y="435"/>
                  </a:lnTo>
                  <a:lnTo>
                    <a:pt x="1395" y="435"/>
                  </a:lnTo>
                  <a:lnTo>
                    <a:pt x="1400" y="430"/>
                  </a:lnTo>
                  <a:lnTo>
                    <a:pt x="1400" y="420"/>
                  </a:lnTo>
                  <a:lnTo>
                    <a:pt x="1405" y="416"/>
                  </a:lnTo>
                  <a:lnTo>
                    <a:pt x="1405" y="411"/>
                  </a:lnTo>
                  <a:lnTo>
                    <a:pt x="1415" y="411"/>
                  </a:lnTo>
                  <a:lnTo>
                    <a:pt x="1419" y="411"/>
                  </a:lnTo>
                  <a:lnTo>
                    <a:pt x="1429" y="411"/>
                  </a:lnTo>
                  <a:lnTo>
                    <a:pt x="1439" y="411"/>
                  </a:lnTo>
                  <a:lnTo>
                    <a:pt x="1449" y="406"/>
                  </a:lnTo>
                  <a:lnTo>
                    <a:pt x="1449" y="401"/>
                  </a:lnTo>
                  <a:lnTo>
                    <a:pt x="1449" y="396"/>
                  </a:lnTo>
                  <a:lnTo>
                    <a:pt x="1449" y="386"/>
                  </a:lnTo>
                  <a:lnTo>
                    <a:pt x="1444" y="386"/>
                  </a:lnTo>
                  <a:lnTo>
                    <a:pt x="1434" y="381"/>
                  </a:lnTo>
                  <a:lnTo>
                    <a:pt x="1424" y="381"/>
                  </a:lnTo>
                  <a:lnTo>
                    <a:pt x="1419" y="381"/>
                  </a:lnTo>
                  <a:lnTo>
                    <a:pt x="1410" y="386"/>
                  </a:lnTo>
                  <a:lnTo>
                    <a:pt x="1400" y="386"/>
                  </a:lnTo>
                  <a:lnTo>
                    <a:pt x="1390" y="386"/>
                  </a:lnTo>
                  <a:lnTo>
                    <a:pt x="1385" y="391"/>
                  </a:lnTo>
                  <a:lnTo>
                    <a:pt x="1375" y="391"/>
                  </a:lnTo>
                  <a:lnTo>
                    <a:pt x="1365" y="391"/>
                  </a:lnTo>
                  <a:lnTo>
                    <a:pt x="1355" y="391"/>
                  </a:lnTo>
                  <a:lnTo>
                    <a:pt x="1350" y="396"/>
                  </a:lnTo>
                  <a:lnTo>
                    <a:pt x="1340" y="396"/>
                  </a:lnTo>
                  <a:lnTo>
                    <a:pt x="1330" y="396"/>
                  </a:lnTo>
                  <a:lnTo>
                    <a:pt x="1321" y="396"/>
                  </a:lnTo>
                  <a:lnTo>
                    <a:pt x="1316" y="401"/>
                  </a:lnTo>
                  <a:lnTo>
                    <a:pt x="1306" y="401"/>
                  </a:lnTo>
                  <a:lnTo>
                    <a:pt x="1301" y="406"/>
                  </a:lnTo>
                  <a:lnTo>
                    <a:pt x="1301" y="411"/>
                  </a:lnTo>
                  <a:lnTo>
                    <a:pt x="1301" y="420"/>
                  </a:lnTo>
                  <a:lnTo>
                    <a:pt x="1296" y="425"/>
                  </a:lnTo>
                  <a:lnTo>
                    <a:pt x="1296" y="430"/>
                  </a:lnTo>
                  <a:lnTo>
                    <a:pt x="1296" y="435"/>
                  </a:lnTo>
                  <a:lnTo>
                    <a:pt x="1296" y="440"/>
                  </a:lnTo>
                  <a:lnTo>
                    <a:pt x="1296" y="445"/>
                  </a:lnTo>
                  <a:lnTo>
                    <a:pt x="1296" y="450"/>
                  </a:lnTo>
                  <a:lnTo>
                    <a:pt x="1291" y="460"/>
                  </a:lnTo>
                  <a:lnTo>
                    <a:pt x="1291" y="465"/>
                  </a:lnTo>
                  <a:lnTo>
                    <a:pt x="1286" y="470"/>
                  </a:lnTo>
                  <a:lnTo>
                    <a:pt x="1286" y="475"/>
                  </a:lnTo>
                  <a:lnTo>
                    <a:pt x="1286" y="480"/>
                  </a:lnTo>
                  <a:lnTo>
                    <a:pt x="1286" y="485"/>
                  </a:lnTo>
                  <a:lnTo>
                    <a:pt x="1291" y="490"/>
                  </a:lnTo>
                  <a:lnTo>
                    <a:pt x="1291" y="495"/>
                  </a:lnTo>
                  <a:lnTo>
                    <a:pt x="1296" y="504"/>
                  </a:lnTo>
                  <a:lnTo>
                    <a:pt x="1296" y="509"/>
                  </a:lnTo>
                  <a:lnTo>
                    <a:pt x="1291" y="514"/>
                  </a:lnTo>
                  <a:lnTo>
                    <a:pt x="1286" y="519"/>
                  </a:lnTo>
                  <a:lnTo>
                    <a:pt x="1281" y="524"/>
                  </a:lnTo>
                  <a:lnTo>
                    <a:pt x="1276" y="529"/>
                  </a:lnTo>
                  <a:lnTo>
                    <a:pt x="1271" y="534"/>
                  </a:lnTo>
                  <a:lnTo>
                    <a:pt x="1271" y="539"/>
                  </a:lnTo>
                  <a:lnTo>
                    <a:pt x="1271" y="544"/>
                  </a:lnTo>
                  <a:lnTo>
                    <a:pt x="1276" y="549"/>
                  </a:lnTo>
                  <a:lnTo>
                    <a:pt x="1281" y="544"/>
                  </a:lnTo>
                  <a:lnTo>
                    <a:pt x="1291" y="544"/>
                  </a:lnTo>
                  <a:lnTo>
                    <a:pt x="1296" y="539"/>
                  </a:lnTo>
                  <a:lnTo>
                    <a:pt x="1306" y="534"/>
                  </a:lnTo>
                  <a:lnTo>
                    <a:pt x="1311" y="539"/>
                  </a:lnTo>
                  <a:lnTo>
                    <a:pt x="1316" y="544"/>
                  </a:lnTo>
                  <a:lnTo>
                    <a:pt x="1316" y="549"/>
                  </a:lnTo>
                  <a:lnTo>
                    <a:pt x="1321" y="559"/>
                  </a:lnTo>
                  <a:lnTo>
                    <a:pt x="1321" y="564"/>
                  </a:lnTo>
                  <a:lnTo>
                    <a:pt x="1321" y="569"/>
                  </a:lnTo>
                  <a:lnTo>
                    <a:pt x="1316" y="574"/>
                  </a:lnTo>
                  <a:lnTo>
                    <a:pt x="1316" y="579"/>
                  </a:lnTo>
                  <a:lnTo>
                    <a:pt x="1311" y="584"/>
                  </a:lnTo>
                  <a:lnTo>
                    <a:pt x="1311" y="593"/>
                  </a:lnTo>
                  <a:lnTo>
                    <a:pt x="1311" y="598"/>
                  </a:lnTo>
                  <a:lnTo>
                    <a:pt x="1311" y="603"/>
                  </a:lnTo>
                  <a:lnTo>
                    <a:pt x="1311" y="608"/>
                  </a:lnTo>
                  <a:lnTo>
                    <a:pt x="1311" y="613"/>
                  </a:lnTo>
                  <a:lnTo>
                    <a:pt x="1311" y="618"/>
                  </a:lnTo>
                  <a:lnTo>
                    <a:pt x="1306" y="623"/>
                  </a:lnTo>
                  <a:lnTo>
                    <a:pt x="1306" y="628"/>
                  </a:lnTo>
                  <a:lnTo>
                    <a:pt x="1306" y="638"/>
                  </a:lnTo>
                  <a:lnTo>
                    <a:pt x="1306" y="643"/>
                  </a:lnTo>
                  <a:lnTo>
                    <a:pt x="1306" y="648"/>
                  </a:lnTo>
                  <a:lnTo>
                    <a:pt x="1301" y="653"/>
                  </a:lnTo>
                  <a:lnTo>
                    <a:pt x="1296" y="653"/>
                  </a:lnTo>
                  <a:lnTo>
                    <a:pt x="1291" y="648"/>
                  </a:lnTo>
                  <a:lnTo>
                    <a:pt x="1281" y="643"/>
                  </a:lnTo>
                  <a:lnTo>
                    <a:pt x="1276" y="638"/>
                  </a:lnTo>
                  <a:lnTo>
                    <a:pt x="1271" y="648"/>
                  </a:lnTo>
                  <a:lnTo>
                    <a:pt x="1271" y="653"/>
                  </a:lnTo>
                  <a:lnTo>
                    <a:pt x="1266" y="653"/>
                  </a:lnTo>
                  <a:lnTo>
                    <a:pt x="1261" y="658"/>
                  </a:lnTo>
                  <a:lnTo>
                    <a:pt x="1256" y="663"/>
                  </a:lnTo>
                  <a:lnTo>
                    <a:pt x="1251" y="668"/>
                  </a:lnTo>
                  <a:lnTo>
                    <a:pt x="1246" y="663"/>
                  </a:lnTo>
                  <a:lnTo>
                    <a:pt x="1246" y="658"/>
                  </a:lnTo>
                  <a:lnTo>
                    <a:pt x="1241" y="653"/>
                  </a:lnTo>
                  <a:lnTo>
                    <a:pt x="1241" y="648"/>
                  </a:lnTo>
                  <a:lnTo>
                    <a:pt x="1241" y="643"/>
                  </a:lnTo>
                  <a:lnTo>
                    <a:pt x="1236" y="638"/>
                  </a:lnTo>
                  <a:lnTo>
                    <a:pt x="1236" y="633"/>
                  </a:lnTo>
                  <a:lnTo>
                    <a:pt x="1236" y="623"/>
                  </a:lnTo>
                  <a:lnTo>
                    <a:pt x="1236" y="618"/>
                  </a:lnTo>
                  <a:lnTo>
                    <a:pt x="1232" y="613"/>
                  </a:lnTo>
                  <a:lnTo>
                    <a:pt x="1232" y="608"/>
                  </a:lnTo>
                  <a:lnTo>
                    <a:pt x="1232" y="603"/>
                  </a:lnTo>
                  <a:lnTo>
                    <a:pt x="1232" y="593"/>
                  </a:lnTo>
                  <a:lnTo>
                    <a:pt x="1232" y="589"/>
                  </a:lnTo>
                  <a:lnTo>
                    <a:pt x="1232" y="584"/>
                  </a:lnTo>
                  <a:lnTo>
                    <a:pt x="1232" y="579"/>
                  </a:lnTo>
                  <a:lnTo>
                    <a:pt x="1227" y="574"/>
                  </a:lnTo>
                  <a:lnTo>
                    <a:pt x="1227" y="569"/>
                  </a:lnTo>
                  <a:lnTo>
                    <a:pt x="1227" y="564"/>
                  </a:lnTo>
                  <a:lnTo>
                    <a:pt x="1222" y="554"/>
                  </a:lnTo>
                  <a:lnTo>
                    <a:pt x="1222" y="559"/>
                  </a:lnTo>
                  <a:lnTo>
                    <a:pt x="1222" y="569"/>
                  </a:lnTo>
                  <a:lnTo>
                    <a:pt x="1217" y="574"/>
                  </a:lnTo>
                  <a:lnTo>
                    <a:pt x="1217" y="579"/>
                  </a:lnTo>
                  <a:lnTo>
                    <a:pt x="1217" y="584"/>
                  </a:lnTo>
                  <a:lnTo>
                    <a:pt x="1217" y="589"/>
                  </a:lnTo>
                  <a:lnTo>
                    <a:pt x="1212" y="593"/>
                  </a:lnTo>
                  <a:lnTo>
                    <a:pt x="1212" y="598"/>
                  </a:lnTo>
                  <a:lnTo>
                    <a:pt x="1212" y="603"/>
                  </a:lnTo>
                  <a:lnTo>
                    <a:pt x="1212" y="613"/>
                  </a:lnTo>
                  <a:lnTo>
                    <a:pt x="1207" y="618"/>
                  </a:lnTo>
                  <a:lnTo>
                    <a:pt x="1207" y="623"/>
                  </a:lnTo>
                  <a:lnTo>
                    <a:pt x="1202" y="628"/>
                  </a:lnTo>
                  <a:lnTo>
                    <a:pt x="1197" y="633"/>
                  </a:lnTo>
                  <a:lnTo>
                    <a:pt x="1197" y="638"/>
                  </a:lnTo>
                  <a:lnTo>
                    <a:pt x="1192" y="643"/>
                  </a:lnTo>
                  <a:lnTo>
                    <a:pt x="1192" y="648"/>
                  </a:lnTo>
                  <a:lnTo>
                    <a:pt x="1187" y="653"/>
                  </a:lnTo>
                  <a:lnTo>
                    <a:pt x="1182" y="658"/>
                  </a:lnTo>
                  <a:lnTo>
                    <a:pt x="1182" y="663"/>
                  </a:lnTo>
                  <a:lnTo>
                    <a:pt x="1177" y="673"/>
                  </a:lnTo>
                  <a:lnTo>
                    <a:pt x="1172" y="677"/>
                  </a:lnTo>
                  <a:lnTo>
                    <a:pt x="1172" y="682"/>
                  </a:lnTo>
                  <a:lnTo>
                    <a:pt x="1167" y="687"/>
                  </a:lnTo>
                  <a:lnTo>
                    <a:pt x="1162" y="692"/>
                  </a:lnTo>
                  <a:lnTo>
                    <a:pt x="1157" y="697"/>
                  </a:lnTo>
                  <a:lnTo>
                    <a:pt x="1152" y="702"/>
                  </a:lnTo>
                  <a:lnTo>
                    <a:pt x="1147" y="707"/>
                  </a:lnTo>
                  <a:lnTo>
                    <a:pt x="1147" y="712"/>
                  </a:lnTo>
                  <a:lnTo>
                    <a:pt x="1143" y="712"/>
                  </a:lnTo>
                  <a:lnTo>
                    <a:pt x="1138" y="712"/>
                  </a:lnTo>
                  <a:lnTo>
                    <a:pt x="1133" y="707"/>
                  </a:lnTo>
                  <a:lnTo>
                    <a:pt x="1128" y="697"/>
                  </a:lnTo>
                  <a:lnTo>
                    <a:pt x="1123" y="692"/>
                  </a:lnTo>
                  <a:lnTo>
                    <a:pt x="1118" y="682"/>
                  </a:lnTo>
                  <a:lnTo>
                    <a:pt x="1118" y="682"/>
                  </a:lnTo>
                  <a:lnTo>
                    <a:pt x="1113" y="687"/>
                  </a:lnTo>
                  <a:lnTo>
                    <a:pt x="1113" y="697"/>
                  </a:lnTo>
                  <a:lnTo>
                    <a:pt x="1113" y="702"/>
                  </a:lnTo>
                  <a:lnTo>
                    <a:pt x="1113" y="707"/>
                  </a:lnTo>
                  <a:lnTo>
                    <a:pt x="1113" y="712"/>
                  </a:lnTo>
                  <a:lnTo>
                    <a:pt x="1113" y="717"/>
                  </a:lnTo>
                  <a:lnTo>
                    <a:pt x="1108" y="722"/>
                  </a:lnTo>
                  <a:lnTo>
                    <a:pt x="1108" y="727"/>
                  </a:lnTo>
                  <a:lnTo>
                    <a:pt x="1108" y="732"/>
                  </a:lnTo>
                  <a:lnTo>
                    <a:pt x="1108" y="742"/>
                  </a:lnTo>
                  <a:lnTo>
                    <a:pt x="1108" y="747"/>
                  </a:lnTo>
                  <a:lnTo>
                    <a:pt x="1103" y="752"/>
                  </a:lnTo>
                  <a:lnTo>
                    <a:pt x="1103" y="757"/>
                  </a:lnTo>
                  <a:lnTo>
                    <a:pt x="1103" y="762"/>
                  </a:lnTo>
                  <a:lnTo>
                    <a:pt x="1103" y="766"/>
                  </a:lnTo>
                  <a:lnTo>
                    <a:pt x="1103" y="776"/>
                  </a:lnTo>
                  <a:lnTo>
                    <a:pt x="1103" y="781"/>
                  </a:lnTo>
                  <a:lnTo>
                    <a:pt x="1103" y="786"/>
                  </a:lnTo>
                  <a:lnTo>
                    <a:pt x="1098" y="791"/>
                  </a:lnTo>
                  <a:lnTo>
                    <a:pt x="1093" y="796"/>
                  </a:lnTo>
                  <a:lnTo>
                    <a:pt x="1088" y="801"/>
                  </a:lnTo>
                  <a:lnTo>
                    <a:pt x="1078" y="801"/>
                  </a:lnTo>
                  <a:lnTo>
                    <a:pt x="1073" y="806"/>
                  </a:lnTo>
                  <a:lnTo>
                    <a:pt x="1063" y="806"/>
                  </a:lnTo>
                  <a:lnTo>
                    <a:pt x="1058" y="811"/>
                  </a:lnTo>
                  <a:lnTo>
                    <a:pt x="1058" y="821"/>
                  </a:lnTo>
                  <a:lnTo>
                    <a:pt x="1053" y="826"/>
                  </a:lnTo>
                  <a:lnTo>
                    <a:pt x="1053" y="831"/>
                  </a:lnTo>
                  <a:lnTo>
                    <a:pt x="1053" y="836"/>
                  </a:lnTo>
                  <a:lnTo>
                    <a:pt x="1053" y="841"/>
                  </a:lnTo>
                  <a:lnTo>
                    <a:pt x="1053" y="846"/>
                  </a:lnTo>
                  <a:lnTo>
                    <a:pt x="1049" y="850"/>
                  </a:lnTo>
                  <a:lnTo>
                    <a:pt x="1044" y="855"/>
                  </a:lnTo>
                  <a:lnTo>
                    <a:pt x="1039" y="860"/>
                  </a:lnTo>
                  <a:lnTo>
                    <a:pt x="1039" y="865"/>
                  </a:lnTo>
                  <a:lnTo>
                    <a:pt x="1034" y="875"/>
                  </a:lnTo>
                  <a:lnTo>
                    <a:pt x="1034" y="880"/>
                  </a:lnTo>
                  <a:lnTo>
                    <a:pt x="1034" y="885"/>
                  </a:lnTo>
                  <a:lnTo>
                    <a:pt x="1029" y="890"/>
                  </a:lnTo>
                  <a:lnTo>
                    <a:pt x="1029" y="895"/>
                  </a:lnTo>
                  <a:lnTo>
                    <a:pt x="1024" y="900"/>
                  </a:lnTo>
                  <a:lnTo>
                    <a:pt x="1024" y="905"/>
                  </a:lnTo>
                  <a:lnTo>
                    <a:pt x="1019" y="910"/>
                  </a:lnTo>
                  <a:lnTo>
                    <a:pt x="1014" y="915"/>
                  </a:lnTo>
                  <a:lnTo>
                    <a:pt x="1014" y="920"/>
                  </a:lnTo>
                  <a:lnTo>
                    <a:pt x="1009" y="930"/>
                  </a:lnTo>
                  <a:lnTo>
                    <a:pt x="1009" y="934"/>
                  </a:lnTo>
                  <a:lnTo>
                    <a:pt x="1009" y="939"/>
                  </a:lnTo>
                  <a:lnTo>
                    <a:pt x="1004" y="944"/>
                  </a:lnTo>
                  <a:lnTo>
                    <a:pt x="999" y="949"/>
                  </a:lnTo>
                  <a:lnTo>
                    <a:pt x="994" y="954"/>
                  </a:lnTo>
                  <a:lnTo>
                    <a:pt x="989" y="959"/>
                  </a:lnTo>
                  <a:lnTo>
                    <a:pt x="984" y="964"/>
                  </a:lnTo>
                  <a:lnTo>
                    <a:pt x="979" y="964"/>
                  </a:lnTo>
                  <a:lnTo>
                    <a:pt x="969" y="969"/>
                  </a:lnTo>
                  <a:lnTo>
                    <a:pt x="960" y="969"/>
                  </a:lnTo>
                  <a:lnTo>
                    <a:pt x="950" y="969"/>
                  </a:lnTo>
                  <a:lnTo>
                    <a:pt x="940" y="974"/>
                  </a:lnTo>
                  <a:lnTo>
                    <a:pt x="935" y="974"/>
                  </a:lnTo>
                  <a:lnTo>
                    <a:pt x="925" y="974"/>
                  </a:lnTo>
                  <a:lnTo>
                    <a:pt x="920" y="969"/>
                  </a:lnTo>
                  <a:lnTo>
                    <a:pt x="915" y="964"/>
                  </a:lnTo>
                  <a:lnTo>
                    <a:pt x="910" y="959"/>
                  </a:lnTo>
                  <a:lnTo>
                    <a:pt x="905" y="954"/>
                  </a:lnTo>
                  <a:lnTo>
                    <a:pt x="905" y="949"/>
                  </a:lnTo>
                  <a:lnTo>
                    <a:pt x="905" y="944"/>
                  </a:lnTo>
                  <a:lnTo>
                    <a:pt x="905" y="934"/>
                  </a:lnTo>
                  <a:lnTo>
                    <a:pt x="905" y="930"/>
                  </a:lnTo>
                  <a:lnTo>
                    <a:pt x="910" y="925"/>
                  </a:lnTo>
                  <a:lnTo>
                    <a:pt x="910" y="920"/>
                  </a:lnTo>
                  <a:lnTo>
                    <a:pt x="915" y="915"/>
                  </a:lnTo>
                  <a:lnTo>
                    <a:pt x="915" y="910"/>
                  </a:lnTo>
                  <a:lnTo>
                    <a:pt x="920" y="905"/>
                  </a:lnTo>
                  <a:lnTo>
                    <a:pt x="920" y="900"/>
                  </a:lnTo>
                  <a:lnTo>
                    <a:pt x="925" y="895"/>
                  </a:lnTo>
                  <a:lnTo>
                    <a:pt x="925" y="890"/>
                  </a:lnTo>
                  <a:lnTo>
                    <a:pt x="930" y="885"/>
                  </a:lnTo>
                  <a:lnTo>
                    <a:pt x="935" y="880"/>
                  </a:lnTo>
                  <a:lnTo>
                    <a:pt x="940" y="870"/>
                  </a:lnTo>
                  <a:lnTo>
                    <a:pt x="950" y="870"/>
                  </a:lnTo>
                  <a:lnTo>
                    <a:pt x="955" y="865"/>
                  </a:lnTo>
                  <a:lnTo>
                    <a:pt x="964" y="865"/>
                  </a:lnTo>
                  <a:lnTo>
                    <a:pt x="974" y="870"/>
                  </a:lnTo>
                  <a:lnTo>
                    <a:pt x="979" y="870"/>
                  </a:lnTo>
                  <a:lnTo>
                    <a:pt x="989" y="870"/>
                  </a:lnTo>
                  <a:lnTo>
                    <a:pt x="994" y="865"/>
                  </a:lnTo>
                  <a:lnTo>
                    <a:pt x="994" y="860"/>
                  </a:lnTo>
                  <a:lnTo>
                    <a:pt x="999" y="855"/>
                  </a:lnTo>
                  <a:lnTo>
                    <a:pt x="1004" y="850"/>
                  </a:lnTo>
                  <a:lnTo>
                    <a:pt x="1009" y="846"/>
                  </a:lnTo>
                  <a:lnTo>
                    <a:pt x="1019" y="841"/>
                  </a:lnTo>
                  <a:lnTo>
                    <a:pt x="1024" y="836"/>
                  </a:lnTo>
                  <a:lnTo>
                    <a:pt x="1029" y="831"/>
                  </a:lnTo>
                  <a:lnTo>
                    <a:pt x="1024" y="826"/>
                  </a:lnTo>
                  <a:lnTo>
                    <a:pt x="1019" y="821"/>
                  </a:lnTo>
                  <a:lnTo>
                    <a:pt x="1009" y="816"/>
                  </a:lnTo>
                  <a:lnTo>
                    <a:pt x="1004" y="816"/>
                  </a:lnTo>
                  <a:lnTo>
                    <a:pt x="999" y="806"/>
                  </a:lnTo>
                  <a:lnTo>
                    <a:pt x="999" y="801"/>
                  </a:lnTo>
                  <a:lnTo>
                    <a:pt x="994" y="796"/>
                  </a:lnTo>
                  <a:lnTo>
                    <a:pt x="994" y="791"/>
                  </a:lnTo>
                  <a:lnTo>
                    <a:pt x="994" y="786"/>
                  </a:lnTo>
                  <a:lnTo>
                    <a:pt x="994" y="781"/>
                  </a:lnTo>
                  <a:lnTo>
                    <a:pt x="994" y="776"/>
                  </a:lnTo>
                  <a:lnTo>
                    <a:pt x="989" y="771"/>
                  </a:lnTo>
                  <a:lnTo>
                    <a:pt x="989" y="762"/>
                  </a:lnTo>
                  <a:lnTo>
                    <a:pt x="989" y="757"/>
                  </a:lnTo>
                  <a:lnTo>
                    <a:pt x="989" y="752"/>
                  </a:lnTo>
                  <a:lnTo>
                    <a:pt x="984" y="747"/>
                  </a:lnTo>
                  <a:lnTo>
                    <a:pt x="984" y="742"/>
                  </a:lnTo>
                  <a:lnTo>
                    <a:pt x="984" y="737"/>
                  </a:lnTo>
                  <a:lnTo>
                    <a:pt x="979" y="732"/>
                  </a:lnTo>
                  <a:lnTo>
                    <a:pt x="979" y="727"/>
                  </a:lnTo>
                  <a:lnTo>
                    <a:pt x="974" y="717"/>
                  </a:lnTo>
                  <a:lnTo>
                    <a:pt x="974" y="712"/>
                  </a:lnTo>
                  <a:lnTo>
                    <a:pt x="969" y="707"/>
                  </a:lnTo>
                  <a:lnTo>
                    <a:pt x="969" y="702"/>
                  </a:lnTo>
                  <a:lnTo>
                    <a:pt x="969" y="697"/>
                  </a:lnTo>
                  <a:lnTo>
                    <a:pt x="969" y="692"/>
                  </a:lnTo>
                  <a:lnTo>
                    <a:pt x="964" y="687"/>
                  </a:lnTo>
                  <a:lnTo>
                    <a:pt x="964" y="682"/>
                  </a:lnTo>
                  <a:lnTo>
                    <a:pt x="964" y="673"/>
                  </a:lnTo>
                  <a:lnTo>
                    <a:pt x="969" y="668"/>
                  </a:lnTo>
                  <a:lnTo>
                    <a:pt x="969" y="663"/>
                  </a:lnTo>
                  <a:lnTo>
                    <a:pt x="969" y="658"/>
                  </a:lnTo>
                  <a:lnTo>
                    <a:pt x="969" y="653"/>
                  </a:lnTo>
                  <a:lnTo>
                    <a:pt x="969" y="643"/>
                  </a:lnTo>
                  <a:lnTo>
                    <a:pt x="964" y="638"/>
                  </a:lnTo>
                  <a:lnTo>
                    <a:pt x="960" y="638"/>
                  </a:lnTo>
                  <a:lnTo>
                    <a:pt x="955" y="633"/>
                  </a:lnTo>
                  <a:lnTo>
                    <a:pt x="950" y="628"/>
                  </a:lnTo>
                  <a:lnTo>
                    <a:pt x="950" y="618"/>
                  </a:lnTo>
                  <a:lnTo>
                    <a:pt x="950" y="613"/>
                  </a:lnTo>
                  <a:lnTo>
                    <a:pt x="945" y="608"/>
                  </a:lnTo>
                  <a:lnTo>
                    <a:pt x="945" y="603"/>
                  </a:lnTo>
                  <a:lnTo>
                    <a:pt x="945" y="598"/>
                  </a:lnTo>
                  <a:lnTo>
                    <a:pt x="940" y="593"/>
                  </a:lnTo>
                  <a:lnTo>
                    <a:pt x="940" y="589"/>
                  </a:lnTo>
                  <a:lnTo>
                    <a:pt x="940" y="579"/>
                  </a:lnTo>
                  <a:lnTo>
                    <a:pt x="940" y="574"/>
                  </a:lnTo>
                  <a:lnTo>
                    <a:pt x="940" y="569"/>
                  </a:lnTo>
                  <a:lnTo>
                    <a:pt x="940" y="564"/>
                  </a:lnTo>
                  <a:lnTo>
                    <a:pt x="940" y="559"/>
                  </a:lnTo>
                  <a:lnTo>
                    <a:pt x="940" y="554"/>
                  </a:lnTo>
                  <a:lnTo>
                    <a:pt x="935" y="549"/>
                  </a:lnTo>
                  <a:lnTo>
                    <a:pt x="935" y="539"/>
                  </a:lnTo>
                  <a:lnTo>
                    <a:pt x="930" y="534"/>
                  </a:lnTo>
                  <a:lnTo>
                    <a:pt x="930" y="529"/>
                  </a:lnTo>
                  <a:lnTo>
                    <a:pt x="925" y="524"/>
                  </a:lnTo>
                  <a:lnTo>
                    <a:pt x="925" y="519"/>
                  </a:lnTo>
                  <a:lnTo>
                    <a:pt x="925" y="514"/>
                  </a:lnTo>
                  <a:lnTo>
                    <a:pt x="920" y="509"/>
                  </a:lnTo>
                  <a:lnTo>
                    <a:pt x="920" y="504"/>
                  </a:lnTo>
                  <a:lnTo>
                    <a:pt x="915" y="500"/>
                  </a:lnTo>
                  <a:lnTo>
                    <a:pt x="910" y="495"/>
                  </a:lnTo>
                  <a:lnTo>
                    <a:pt x="905" y="490"/>
                  </a:lnTo>
                  <a:lnTo>
                    <a:pt x="900" y="485"/>
                  </a:lnTo>
                  <a:lnTo>
                    <a:pt x="900" y="480"/>
                  </a:lnTo>
                  <a:lnTo>
                    <a:pt x="900" y="470"/>
                  </a:lnTo>
                  <a:lnTo>
                    <a:pt x="905" y="470"/>
                  </a:lnTo>
                  <a:lnTo>
                    <a:pt x="910" y="480"/>
                  </a:lnTo>
                  <a:lnTo>
                    <a:pt x="920" y="485"/>
                  </a:lnTo>
                  <a:lnTo>
                    <a:pt x="925" y="490"/>
                  </a:lnTo>
                  <a:lnTo>
                    <a:pt x="930" y="490"/>
                  </a:lnTo>
                  <a:lnTo>
                    <a:pt x="935" y="495"/>
                  </a:lnTo>
                  <a:lnTo>
                    <a:pt x="940" y="500"/>
                  </a:lnTo>
                  <a:lnTo>
                    <a:pt x="945" y="504"/>
                  </a:lnTo>
                  <a:lnTo>
                    <a:pt x="950" y="509"/>
                  </a:lnTo>
                  <a:lnTo>
                    <a:pt x="955" y="514"/>
                  </a:lnTo>
                  <a:lnTo>
                    <a:pt x="960" y="519"/>
                  </a:lnTo>
                  <a:lnTo>
                    <a:pt x="964" y="514"/>
                  </a:lnTo>
                  <a:lnTo>
                    <a:pt x="969" y="509"/>
                  </a:lnTo>
                  <a:lnTo>
                    <a:pt x="974" y="504"/>
                  </a:lnTo>
                  <a:lnTo>
                    <a:pt x="974" y="500"/>
                  </a:lnTo>
                  <a:lnTo>
                    <a:pt x="974" y="495"/>
                  </a:lnTo>
                  <a:lnTo>
                    <a:pt x="974" y="485"/>
                  </a:lnTo>
                  <a:lnTo>
                    <a:pt x="969" y="480"/>
                  </a:lnTo>
                  <a:lnTo>
                    <a:pt x="969" y="475"/>
                  </a:lnTo>
                  <a:lnTo>
                    <a:pt x="969" y="470"/>
                  </a:lnTo>
                  <a:lnTo>
                    <a:pt x="964" y="465"/>
                  </a:lnTo>
                  <a:lnTo>
                    <a:pt x="964" y="460"/>
                  </a:lnTo>
                  <a:lnTo>
                    <a:pt x="964" y="455"/>
                  </a:lnTo>
                  <a:lnTo>
                    <a:pt x="960" y="450"/>
                  </a:lnTo>
                  <a:lnTo>
                    <a:pt x="960" y="440"/>
                  </a:lnTo>
                  <a:lnTo>
                    <a:pt x="960" y="435"/>
                  </a:lnTo>
                  <a:lnTo>
                    <a:pt x="960" y="430"/>
                  </a:lnTo>
                  <a:lnTo>
                    <a:pt x="955" y="425"/>
                  </a:lnTo>
                  <a:lnTo>
                    <a:pt x="955" y="420"/>
                  </a:lnTo>
                  <a:lnTo>
                    <a:pt x="955" y="416"/>
                  </a:lnTo>
                  <a:lnTo>
                    <a:pt x="950" y="411"/>
                  </a:lnTo>
                  <a:lnTo>
                    <a:pt x="950" y="401"/>
                  </a:lnTo>
                  <a:lnTo>
                    <a:pt x="950" y="396"/>
                  </a:lnTo>
                  <a:lnTo>
                    <a:pt x="945" y="391"/>
                  </a:lnTo>
                  <a:lnTo>
                    <a:pt x="945" y="386"/>
                  </a:lnTo>
                  <a:lnTo>
                    <a:pt x="945" y="381"/>
                  </a:lnTo>
                  <a:lnTo>
                    <a:pt x="940" y="376"/>
                  </a:lnTo>
                  <a:lnTo>
                    <a:pt x="940" y="371"/>
                  </a:lnTo>
                  <a:lnTo>
                    <a:pt x="940" y="366"/>
                  </a:lnTo>
                  <a:lnTo>
                    <a:pt x="935" y="356"/>
                  </a:lnTo>
                  <a:lnTo>
                    <a:pt x="935" y="351"/>
                  </a:lnTo>
                  <a:lnTo>
                    <a:pt x="935" y="346"/>
                  </a:lnTo>
                  <a:lnTo>
                    <a:pt x="935" y="341"/>
                  </a:lnTo>
                  <a:lnTo>
                    <a:pt x="930" y="336"/>
                  </a:lnTo>
                  <a:lnTo>
                    <a:pt x="930" y="331"/>
                  </a:lnTo>
                  <a:lnTo>
                    <a:pt x="930" y="327"/>
                  </a:lnTo>
                  <a:lnTo>
                    <a:pt x="930" y="317"/>
                  </a:lnTo>
                  <a:lnTo>
                    <a:pt x="935" y="312"/>
                  </a:lnTo>
                  <a:lnTo>
                    <a:pt x="940" y="312"/>
                  </a:lnTo>
                  <a:lnTo>
                    <a:pt x="950" y="312"/>
                  </a:lnTo>
                  <a:lnTo>
                    <a:pt x="960" y="307"/>
                  </a:lnTo>
                  <a:lnTo>
                    <a:pt x="964" y="307"/>
                  </a:lnTo>
                  <a:lnTo>
                    <a:pt x="974" y="302"/>
                  </a:lnTo>
                  <a:lnTo>
                    <a:pt x="979" y="297"/>
                  </a:lnTo>
                  <a:lnTo>
                    <a:pt x="984" y="292"/>
                  </a:lnTo>
                  <a:lnTo>
                    <a:pt x="989" y="287"/>
                  </a:lnTo>
                  <a:lnTo>
                    <a:pt x="994" y="282"/>
                  </a:lnTo>
                  <a:lnTo>
                    <a:pt x="999" y="277"/>
                  </a:lnTo>
                  <a:lnTo>
                    <a:pt x="1004" y="272"/>
                  </a:lnTo>
                  <a:lnTo>
                    <a:pt x="1014" y="272"/>
                  </a:lnTo>
                  <a:lnTo>
                    <a:pt x="1024" y="272"/>
                  </a:lnTo>
                  <a:lnTo>
                    <a:pt x="1034" y="272"/>
                  </a:lnTo>
                  <a:lnTo>
                    <a:pt x="1039" y="272"/>
                  </a:lnTo>
                  <a:lnTo>
                    <a:pt x="1044" y="267"/>
                  </a:lnTo>
                  <a:lnTo>
                    <a:pt x="1049" y="262"/>
                  </a:lnTo>
                  <a:lnTo>
                    <a:pt x="1053" y="257"/>
                  </a:lnTo>
                  <a:lnTo>
                    <a:pt x="1058" y="252"/>
                  </a:lnTo>
                  <a:lnTo>
                    <a:pt x="1063" y="247"/>
                  </a:lnTo>
                  <a:lnTo>
                    <a:pt x="1073" y="247"/>
                  </a:lnTo>
                  <a:lnTo>
                    <a:pt x="1083" y="247"/>
                  </a:lnTo>
                  <a:lnTo>
                    <a:pt x="1093" y="243"/>
                  </a:lnTo>
                  <a:lnTo>
                    <a:pt x="1098" y="238"/>
                  </a:lnTo>
                  <a:lnTo>
                    <a:pt x="1103" y="233"/>
                  </a:lnTo>
                  <a:lnTo>
                    <a:pt x="1108" y="228"/>
                  </a:lnTo>
                  <a:lnTo>
                    <a:pt x="1108" y="223"/>
                  </a:lnTo>
                  <a:lnTo>
                    <a:pt x="1113" y="218"/>
                  </a:lnTo>
                  <a:lnTo>
                    <a:pt x="1123" y="218"/>
                  </a:lnTo>
                  <a:lnTo>
                    <a:pt x="1133" y="218"/>
                  </a:lnTo>
                  <a:lnTo>
                    <a:pt x="1138" y="213"/>
                  </a:lnTo>
                  <a:lnTo>
                    <a:pt x="1143" y="208"/>
                  </a:lnTo>
                  <a:lnTo>
                    <a:pt x="1152" y="208"/>
                  </a:lnTo>
                  <a:lnTo>
                    <a:pt x="1162" y="213"/>
                  </a:lnTo>
                  <a:lnTo>
                    <a:pt x="1172" y="213"/>
                  </a:lnTo>
                  <a:lnTo>
                    <a:pt x="1177" y="208"/>
                  </a:lnTo>
                  <a:lnTo>
                    <a:pt x="1177" y="203"/>
                  </a:lnTo>
                  <a:lnTo>
                    <a:pt x="1177" y="198"/>
                  </a:lnTo>
                  <a:lnTo>
                    <a:pt x="1182" y="188"/>
                  </a:lnTo>
                  <a:lnTo>
                    <a:pt x="1182" y="183"/>
                  </a:lnTo>
                  <a:lnTo>
                    <a:pt x="1187" y="178"/>
                  </a:lnTo>
                  <a:lnTo>
                    <a:pt x="1192" y="173"/>
                  </a:lnTo>
                  <a:lnTo>
                    <a:pt x="1197" y="168"/>
                  </a:lnTo>
                  <a:lnTo>
                    <a:pt x="1207" y="168"/>
                  </a:lnTo>
                  <a:lnTo>
                    <a:pt x="1212" y="163"/>
                  </a:lnTo>
                  <a:lnTo>
                    <a:pt x="1222" y="163"/>
                  </a:lnTo>
                  <a:lnTo>
                    <a:pt x="1227" y="163"/>
                  </a:lnTo>
                  <a:lnTo>
                    <a:pt x="1236" y="168"/>
                  </a:lnTo>
                  <a:lnTo>
                    <a:pt x="1241" y="173"/>
                  </a:lnTo>
                  <a:lnTo>
                    <a:pt x="1241" y="178"/>
                  </a:lnTo>
                  <a:lnTo>
                    <a:pt x="1246" y="183"/>
                  </a:lnTo>
                  <a:lnTo>
                    <a:pt x="1256" y="183"/>
                  </a:lnTo>
                  <a:lnTo>
                    <a:pt x="1256" y="178"/>
                  </a:lnTo>
                  <a:lnTo>
                    <a:pt x="1256" y="173"/>
                  </a:lnTo>
                  <a:lnTo>
                    <a:pt x="1256" y="163"/>
                  </a:lnTo>
                  <a:lnTo>
                    <a:pt x="1256" y="159"/>
                  </a:lnTo>
                  <a:lnTo>
                    <a:pt x="1261" y="154"/>
                  </a:lnTo>
                  <a:lnTo>
                    <a:pt x="1266" y="149"/>
                  </a:lnTo>
                  <a:lnTo>
                    <a:pt x="1271" y="149"/>
                  </a:lnTo>
                  <a:lnTo>
                    <a:pt x="1276" y="144"/>
                  </a:lnTo>
                  <a:lnTo>
                    <a:pt x="1286" y="139"/>
                  </a:lnTo>
                  <a:lnTo>
                    <a:pt x="1291" y="134"/>
                  </a:lnTo>
                  <a:lnTo>
                    <a:pt x="1301" y="134"/>
                  </a:lnTo>
                  <a:lnTo>
                    <a:pt x="1311" y="134"/>
                  </a:lnTo>
                  <a:lnTo>
                    <a:pt x="1321" y="134"/>
                  </a:lnTo>
                  <a:lnTo>
                    <a:pt x="1326" y="129"/>
                  </a:lnTo>
                  <a:lnTo>
                    <a:pt x="1335" y="129"/>
                  </a:lnTo>
                  <a:lnTo>
                    <a:pt x="1340" y="124"/>
                  </a:lnTo>
                  <a:lnTo>
                    <a:pt x="1350" y="119"/>
                  </a:lnTo>
                  <a:lnTo>
                    <a:pt x="1355" y="119"/>
                  </a:lnTo>
                  <a:lnTo>
                    <a:pt x="1360" y="114"/>
                  </a:lnTo>
                  <a:lnTo>
                    <a:pt x="1370" y="114"/>
                  </a:lnTo>
                  <a:lnTo>
                    <a:pt x="1380" y="109"/>
                  </a:lnTo>
                  <a:lnTo>
                    <a:pt x="1385" y="104"/>
                  </a:lnTo>
                  <a:lnTo>
                    <a:pt x="1390" y="99"/>
                  </a:lnTo>
                  <a:lnTo>
                    <a:pt x="1395" y="94"/>
                  </a:lnTo>
                  <a:lnTo>
                    <a:pt x="1405" y="94"/>
                  </a:lnTo>
                  <a:lnTo>
                    <a:pt x="1410" y="89"/>
                  </a:lnTo>
                  <a:lnTo>
                    <a:pt x="1419" y="89"/>
                  </a:lnTo>
                  <a:lnTo>
                    <a:pt x="1429" y="84"/>
                  </a:lnTo>
                  <a:lnTo>
                    <a:pt x="1434" y="84"/>
                  </a:lnTo>
                  <a:lnTo>
                    <a:pt x="1444" y="79"/>
                  </a:lnTo>
                  <a:lnTo>
                    <a:pt x="1449" y="79"/>
                  </a:lnTo>
                  <a:lnTo>
                    <a:pt x="1459" y="74"/>
                  </a:lnTo>
                  <a:lnTo>
                    <a:pt x="1464" y="74"/>
                  </a:lnTo>
                  <a:lnTo>
                    <a:pt x="1469" y="70"/>
                  </a:lnTo>
                  <a:lnTo>
                    <a:pt x="1479" y="65"/>
                  </a:lnTo>
                  <a:lnTo>
                    <a:pt x="1484" y="60"/>
                  </a:lnTo>
                  <a:lnTo>
                    <a:pt x="1489" y="55"/>
                  </a:lnTo>
                  <a:lnTo>
                    <a:pt x="1499" y="55"/>
                  </a:lnTo>
                  <a:lnTo>
                    <a:pt x="1508" y="55"/>
                  </a:lnTo>
                  <a:lnTo>
                    <a:pt x="1508" y="45"/>
                  </a:lnTo>
                  <a:lnTo>
                    <a:pt x="1513" y="40"/>
                  </a:lnTo>
                  <a:lnTo>
                    <a:pt x="1518" y="40"/>
                  </a:lnTo>
                  <a:lnTo>
                    <a:pt x="1528" y="40"/>
                  </a:lnTo>
                  <a:lnTo>
                    <a:pt x="1538" y="40"/>
                  </a:lnTo>
                  <a:lnTo>
                    <a:pt x="1548" y="40"/>
                  </a:lnTo>
                  <a:lnTo>
                    <a:pt x="1553" y="35"/>
                  </a:lnTo>
                  <a:lnTo>
                    <a:pt x="1558" y="30"/>
                  </a:lnTo>
                  <a:lnTo>
                    <a:pt x="1563" y="25"/>
                  </a:lnTo>
                  <a:lnTo>
                    <a:pt x="1573" y="20"/>
                  </a:lnTo>
                  <a:lnTo>
                    <a:pt x="1578" y="20"/>
                  </a:lnTo>
                  <a:lnTo>
                    <a:pt x="1583" y="15"/>
                  </a:lnTo>
                  <a:lnTo>
                    <a:pt x="1593" y="15"/>
                  </a:lnTo>
                  <a:lnTo>
                    <a:pt x="1602" y="10"/>
                  </a:lnTo>
                  <a:lnTo>
                    <a:pt x="1607" y="10"/>
                  </a:lnTo>
                  <a:lnTo>
                    <a:pt x="1617" y="5"/>
                  </a:lnTo>
                  <a:lnTo>
                    <a:pt x="1627" y="5"/>
                  </a:lnTo>
                  <a:lnTo>
                    <a:pt x="1632" y="0"/>
                  </a:lnTo>
                  <a:lnTo>
                    <a:pt x="1642" y="0"/>
                  </a:lnTo>
                  <a:lnTo>
                    <a:pt x="1622" y="0"/>
                  </a:lnTo>
                  <a:lnTo>
                    <a:pt x="1598" y="0"/>
                  </a:lnTo>
                  <a:lnTo>
                    <a:pt x="1568" y="0"/>
                  </a:lnTo>
                  <a:lnTo>
                    <a:pt x="1543" y="0"/>
                  </a:lnTo>
                  <a:lnTo>
                    <a:pt x="1513" y="0"/>
                  </a:lnTo>
                  <a:lnTo>
                    <a:pt x="1489" y="0"/>
                  </a:lnTo>
                  <a:lnTo>
                    <a:pt x="1464" y="0"/>
                  </a:lnTo>
                  <a:lnTo>
                    <a:pt x="1434" y="0"/>
                  </a:lnTo>
                  <a:lnTo>
                    <a:pt x="1410" y="0"/>
                  </a:lnTo>
                  <a:lnTo>
                    <a:pt x="1385" y="0"/>
                  </a:lnTo>
                  <a:lnTo>
                    <a:pt x="1355" y="0"/>
                  </a:lnTo>
                  <a:lnTo>
                    <a:pt x="1330" y="0"/>
                  </a:lnTo>
                  <a:lnTo>
                    <a:pt x="1301" y="0"/>
                  </a:lnTo>
                  <a:lnTo>
                    <a:pt x="1276" y="0"/>
                  </a:lnTo>
                  <a:lnTo>
                    <a:pt x="1251" y="0"/>
                  </a:lnTo>
                  <a:lnTo>
                    <a:pt x="1222" y="0"/>
                  </a:lnTo>
                  <a:lnTo>
                    <a:pt x="1197" y="0"/>
                  </a:lnTo>
                  <a:lnTo>
                    <a:pt x="1172" y="0"/>
                  </a:lnTo>
                  <a:lnTo>
                    <a:pt x="1143" y="0"/>
                  </a:lnTo>
                  <a:lnTo>
                    <a:pt x="1118" y="0"/>
                  </a:lnTo>
                  <a:lnTo>
                    <a:pt x="1088" y="0"/>
                  </a:lnTo>
                  <a:lnTo>
                    <a:pt x="1063" y="0"/>
                  </a:lnTo>
                  <a:lnTo>
                    <a:pt x="1039" y="0"/>
                  </a:lnTo>
                  <a:lnTo>
                    <a:pt x="1009" y="0"/>
                  </a:lnTo>
                  <a:lnTo>
                    <a:pt x="984" y="0"/>
                  </a:lnTo>
                  <a:lnTo>
                    <a:pt x="955" y="0"/>
                  </a:lnTo>
                  <a:lnTo>
                    <a:pt x="930" y="0"/>
                  </a:lnTo>
                  <a:lnTo>
                    <a:pt x="905" y="0"/>
                  </a:lnTo>
                  <a:lnTo>
                    <a:pt x="875" y="0"/>
                  </a:lnTo>
                  <a:lnTo>
                    <a:pt x="851" y="0"/>
                  </a:lnTo>
                  <a:lnTo>
                    <a:pt x="826" y="0"/>
                  </a:lnTo>
                  <a:lnTo>
                    <a:pt x="796" y="0"/>
                  </a:lnTo>
                  <a:lnTo>
                    <a:pt x="772" y="0"/>
                  </a:lnTo>
                  <a:lnTo>
                    <a:pt x="742" y="0"/>
                  </a:lnTo>
                  <a:lnTo>
                    <a:pt x="717" y="0"/>
                  </a:lnTo>
                  <a:lnTo>
                    <a:pt x="692" y="0"/>
                  </a:lnTo>
                  <a:lnTo>
                    <a:pt x="663" y="0"/>
                  </a:lnTo>
                  <a:lnTo>
                    <a:pt x="638" y="0"/>
                  </a:lnTo>
                  <a:lnTo>
                    <a:pt x="613" y="0"/>
                  </a:lnTo>
                  <a:lnTo>
                    <a:pt x="584" y="25"/>
                  </a:lnTo>
                  <a:lnTo>
                    <a:pt x="559" y="55"/>
                  </a:lnTo>
                  <a:lnTo>
                    <a:pt x="529" y="79"/>
                  </a:lnTo>
                  <a:lnTo>
                    <a:pt x="505" y="104"/>
                  </a:lnTo>
                  <a:lnTo>
                    <a:pt x="480" y="134"/>
                  </a:lnTo>
                  <a:lnTo>
                    <a:pt x="450" y="134"/>
                  </a:lnTo>
                  <a:lnTo>
                    <a:pt x="425" y="159"/>
                  </a:lnTo>
                  <a:lnTo>
                    <a:pt x="396" y="188"/>
                  </a:lnTo>
                  <a:lnTo>
                    <a:pt x="371" y="213"/>
                  </a:lnTo>
                  <a:lnTo>
                    <a:pt x="346" y="238"/>
                  </a:lnTo>
                  <a:lnTo>
                    <a:pt x="317" y="267"/>
                  </a:lnTo>
                  <a:lnTo>
                    <a:pt x="292" y="292"/>
                  </a:lnTo>
                  <a:lnTo>
                    <a:pt x="267" y="322"/>
                  </a:lnTo>
                  <a:lnTo>
                    <a:pt x="237" y="322"/>
                  </a:lnTo>
                  <a:lnTo>
                    <a:pt x="213" y="346"/>
                  </a:lnTo>
                  <a:lnTo>
                    <a:pt x="213" y="371"/>
                  </a:lnTo>
                  <a:lnTo>
                    <a:pt x="218" y="371"/>
                  </a:lnTo>
                  <a:lnTo>
                    <a:pt x="223" y="371"/>
                  </a:lnTo>
                  <a:lnTo>
                    <a:pt x="223" y="376"/>
                  </a:lnTo>
                  <a:lnTo>
                    <a:pt x="218" y="381"/>
                  </a:lnTo>
                  <a:lnTo>
                    <a:pt x="218" y="381"/>
                  </a:lnTo>
                  <a:lnTo>
                    <a:pt x="213" y="386"/>
                  </a:lnTo>
                  <a:lnTo>
                    <a:pt x="208" y="386"/>
                  </a:lnTo>
                  <a:lnTo>
                    <a:pt x="203" y="391"/>
                  </a:lnTo>
                  <a:lnTo>
                    <a:pt x="203" y="396"/>
                  </a:lnTo>
                  <a:lnTo>
                    <a:pt x="198" y="396"/>
                  </a:lnTo>
                  <a:lnTo>
                    <a:pt x="198" y="401"/>
                  </a:lnTo>
                  <a:lnTo>
                    <a:pt x="193" y="406"/>
                  </a:lnTo>
                  <a:lnTo>
                    <a:pt x="188" y="406"/>
                  </a:lnTo>
                  <a:lnTo>
                    <a:pt x="188" y="411"/>
                  </a:lnTo>
                  <a:lnTo>
                    <a:pt x="183" y="411"/>
                  </a:lnTo>
                  <a:lnTo>
                    <a:pt x="183" y="406"/>
                  </a:lnTo>
                  <a:lnTo>
                    <a:pt x="178" y="401"/>
                  </a:lnTo>
                  <a:lnTo>
                    <a:pt x="158" y="401"/>
                  </a:lnTo>
                  <a:lnTo>
                    <a:pt x="134" y="425"/>
                  </a:lnTo>
                  <a:lnTo>
                    <a:pt x="104" y="455"/>
                  </a:lnTo>
                  <a:lnTo>
                    <a:pt x="79" y="480"/>
                  </a:lnTo>
                  <a:lnTo>
                    <a:pt x="55" y="504"/>
                  </a:lnTo>
                  <a:lnTo>
                    <a:pt x="25" y="504"/>
                  </a:lnTo>
                  <a:lnTo>
                    <a:pt x="0" y="534"/>
                  </a:lnTo>
                  <a:lnTo>
                    <a:pt x="0" y="559"/>
                  </a:lnTo>
                  <a:lnTo>
                    <a:pt x="0" y="589"/>
                  </a:lnTo>
                  <a:lnTo>
                    <a:pt x="0" y="613"/>
                  </a:lnTo>
                  <a:lnTo>
                    <a:pt x="25" y="643"/>
                  </a:lnTo>
                  <a:lnTo>
                    <a:pt x="25" y="668"/>
                  </a:lnTo>
                  <a:lnTo>
                    <a:pt x="55" y="692"/>
                  </a:lnTo>
                  <a:lnTo>
                    <a:pt x="79" y="722"/>
                  </a:lnTo>
                  <a:lnTo>
                    <a:pt x="104" y="747"/>
                  </a:lnTo>
                  <a:lnTo>
                    <a:pt x="134" y="776"/>
                  </a:lnTo>
                  <a:lnTo>
                    <a:pt x="134" y="801"/>
                  </a:lnTo>
                  <a:lnTo>
                    <a:pt x="158" y="826"/>
                  </a:lnTo>
                  <a:lnTo>
                    <a:pt x="183" y="855"/>
                  </a:lnTo>
                  <a:lnTo>
                    <a:pt x="213" y="880"/>
                  </a:lnTo>
                  <a:lnTo>
                    <a:pt x="237" y="910"/>
                  </a:lnTo>
                  <a:lnTo>
                    <a:pt x="267" y="934"/>
                  </a:lnTo>
                  <a:lnTo>
                    <a:pt x="292" y="959"/>
                  </a:lnTo>
                  <a:lnTo>
                    <a:pt x="292" y="989"/>
                  </a:lnTo>
                  <a:lnTo>
                    <a:pt x="317" y="1014"/>
                  </a:lnTo>
                  <a:lnTo>
                    <a:pt x="346" y="1043"/>
                  </a:lnTo>
                  <a:lnTo>
                    <a:pt x="371" y="1068"/>
                  </a:lnTo>
                  <a:lnTo>
                    <a:pt x="396" y="1093"/>
                  </a:lnTo>
                  <a:lnTo>
                    <a:pt x="425" y="1122"/>
                  </a:lnTo>
                  <a:lnTo>
                    <a:pt x="450" y="1147"/>
                  </a:lnTo>
                  <a:lnTo>
                    <a:pt x="480" y="1177"/>
                  </a:lnTo>
                  <a:lnTo>
                    <a:pt x="505" y="1201"/>
                  </a:lnTo>
                  <a:lnTo>
                    <a:pt x="529" y="1226"/>
                  </a:lnTo>
                  <a:lnTo>
                    <a:pt x="559" y="1256"/>
                  </a:lnTo>
                  <a:lnTo>
                    <a:pt x="584" y="1280"/>
                  </a:lnTo>
                  <a:lnTo>
                    <a:pt x="613" y="1310"/>
                  </a:lnTo>
                  <a:lnTo>
                    <a:pt x="638" y="1335"/>
                  </a:lnTo>
                  <a:lnTo>
                    <a:pt x="663" y="1364"/>
                  </a:lnTo>
                  <a:lnTo>
                    <a:pt x="692" y="1389"/>
                  </a:lnTo>
                  <a:lnTo>
                    <a:pt x="717" y="1414"/>
                  </a:lnTo>
                  <a:lnTo>
                    <a:pt x="742" y="1444"/>
                  </a:lnTo>
                  <a:lnTo>
                    <a:pt x="772" y="1468"/>
                  </a:lnTo>
                  <a:lnTo>
                    <a:pt x="796" y="1468"/>
                  </a:lnTo>
                  <a:lnTo>
                    <a:pt x="826" y="1498"/>
                  </a:lnTo>
                  <a:lnTo>
                    <a:pt x="851" y="1523"/>
                  </a:lnTo>
                  <a:lnTo>
                    <a:pt x="875" y="1547"/>
                  </a:lnTo>
                  <a:lnTo>
                    <a:pt x="905" y="1577"/>
                  </a:lnTo>
                  <a:lnTo>
                    <a:pt x="930" y="1602"/>
                  </a:lnTo>
                  <a:lnTo>
                    <a:pt x="955" y="1631"/>
                  </a:lnTo>
                  <a:lnTo>
                    <a:pt x="984" y="1656"/>
                  </a:lnTo>
                  <a:lnTo>
                    <a:pt x="1009" y="1656"/>
                  </a:lnTo>
                  <a:lnTo>
                    <a:pt x="1039" y="1656"/>
                  </a:lnTo>
                  <a:lnTo>
                    <a:pt x="1063" y="1656"/>
                  </a:lnTo>
                  <a:lnTo>
                    <a:pt x="1088" y="1656"/>
                  </a:lnTo>
                  <a:lnTo>
                    <a:pt x="1118" y="1656"/>
                  </a:lnTo>
                  <a:lnTo>
                    <a:pt x="1143" y="1656"/>
                  </a:lnTo>
                  <a:lnTo>
                    <a:pt x="1172" y="1656"/>
                  </a:lnTo>
                  <a:lnTo>
                    <a:pt x="1197" y="1656"/>
                  </a:lnTo>
                  <a:lnTo>
                    <a:pt x="1222" y="1656"/>
                  </a:lnTo>
                  <a:lnTo>
                    <a:pt x="1251" y="1656"/>
                  </a:lnTo>
                  <a:lnTo>
                    <a:pt x="1276" y="1656"/>
                  </a:lnTo>
                  <a:lnTo>
                    <a:pt x="1301" y="1656"/>
                  </a:lnTo>
                  <a:lnTo>
                    <a:pt x="1330" y="1656"/>
                  </a:lnTo>
                  <a:lnTo>
                    <a:pt x="1355" y="1656"/>
                  </a:lnTo>
                  <a:lnTo>
                    <a:pt x="1385" y="1656"/>
                  </a:lnTo>
                  <a:lnTo>
                    <a:pt x="1410" y="1656"/>
                  </a:lnTo>
                  <a:lnTo>
                    <a:pt x="1434" y="1656"/>
                  </a:lnTo>
                  <a:lnTo>
                    <a:pt x="1464" y="1656"/>
                  </a:lnTo>
                  <a:lnTo>
                    <a:pt x="1489" y="1656"/>
                  </a:lnTo>
                  <a:lnTo>
                    <a:pt x="1513" y="1656"/>
                  </a:lnTo>
                  <a:lnTo>
                    <a:pt x="1543" y="1656"/>
                  </a:lnTo>
                  <a:lnTo>
                    <a:pt x="1568" y="1656"/>
                  </a:lnTo>
                  <a:lnTo>
                    <a:pt x="1598" y="1656"/>
                  </a:lnTo>
                  <a:lnTo>
                    <a:pt x="1622" y="1656"/>
                  </a:lnTo>
                  <a:lnTo>
                    <a:pt x="1647" y="1656"/>
                  </a:lnTo>
                  <a:lnTo>
                    <a:pt x="1677" y="1656"/>
                  </a:lnTo>
                  <a:lnTo>
                    <a:pt x="1701" y="1656"/>
                  </a:lnTo>
                  <a:lnTo>
                    <a:pt x="1726" y="1656"/>
                  </a:lnTo>
                  <a:lnTo>
                    <a:pt x="1756" y="1656"/>
                  </a:lnTo>
                  <a:lnTo>
                    <a:pt x="1780" y="1656"/>
                  </a:lnTo>
                  <a:lnTo>
                    <a:pt x="1810" y="1656"/>
                  </a:lnTo>
                  <a:lnTo>
                    <a:pt x="1835" y="1656"/>
                  </a:lnTo>
                  <a:lnTo>
                    <a:pt x="1860" y="1656"/>
                  </a:lnTo>
                  <a:lnTo>
                    <a:pt x="1889" y="1656"/>
                  </a:lnTo>
                  <a:lnTo>
                    <a:pt x="1914" y="1656"/>
                  </a:lnTo>
                  <a:lnTo>
                    <a:pt x="1944" y="1656"/>
                  </a:lnTo>
                  <a:lnTo>
                    <a:pt x="1968" y="1656"/>
                  </a:lnTo>
                  <a:lnTo>
                    <a:pt x="1993" y="1656"/>
                  </a:lnTo>
                  <a:lnTo>
                    <a:pt x="2023" y="1656"/>
                  </a:lnTo>
                  <a:lnTo>
                    <a:pt x="2048" y="1656"/>
                  </a:lnTo>
                  <a:lnTo>
                    <a:pt x="2072" y="1656"/>
                  </a:lnTo>
                  <a:lnTo>
                    <a:pt x="2102" y="1656"/>
                  </a:lnTo>
                  <a:lnTo>
                    <a:pt x="2127" y="1656"/>
                  </a:lnTo>
                  <a:lnTo>
                    <a:pt x="2156" y="1656"/>
                  </a:lnTo>
                  <a:lnTo>
                    <a:pt x="2181" y="1656"/>
                  </a:lnTo>
                  <a:lnTo>
                    <a:pt x="2206" y="1656"/>
                  </a:lnTo>
                  <a:lnTo>
                    <a:pt x="2235" y="1656"/>
                  </a:lnTo>
                  <a:close/>
                  <a:moveTo>
                    <a:pt x="420" y="1068"/>
                  </a:moveTo>
                  <a:lnTo>
                    <a:pt x="416" y="1068"/>
                  </a:lnTo>
                  <a:lnTo>
                    <a:pt x="406" y="1063"/>
                  </a:lnTo>
                  <a:lnTo>
                    <a:pt x="401" y="1058"/>
                  </a:lnTo>
                  <a:lnTo>
                    <a:pt x="396" y="1053"/>
                  </a:lnTo>
                  <a:lnTo>
                    <a:pt x="396" y="1048"/>
                  </a:lnTo>
                  <a:lnTo>
                    <a:pt x="391" y="1048"/>
                  </a:lnTo>
                  <a:lnTo>
                    <a:pt x="386" y="1043"/>
                  </a:lnTo>
                  <a:lnTo>
                    <a:pt x="381" y="1038"/>
                  </a:lnTo>
                  <a:lnTo>
                    <a:pt x="376" y="1033"/>
                  </a:lnTo>
                  <a:lnTo>
                    <a:pt x="371" y="1028"/>
                  </a:lnTo>
                  <a:lnTo>
                    <a:pt x="371" y="1023"/>
                  </a:lnTo>
                  <a:lnTo>
                    <a:pt x="366" y="1019"/>
                  </a:lnTo>
                  <a:lnTo>
                    <a:pt x="361" y="1014"/>
                  </a:lnTo>
                  <a:lnTo>
                    <a:pt x="356" y="1014"/>
                  </a:lnTo>
                  <a:lnTo>
                    <a:pt x="356" y="1009"/>
                  </a:lnTo>
                  <a:lnTo>
                    <a:pt x="351" y="1004"/>
                  </a:lnTo>
                  <a:lnTo>
                    <a:pt x="346" y="999"/>
                  </a:lnTo>
                  <a:lnTo>
                    <a:pt x="346" y="994"/>
                  </a:lnTo>
                  <a:lnTo>
                    <a:pt x="341" y="989"/>
                  </a:lnTo>
                  <a:lnTo>
                    <a:pt x="336" y="984"/>
                  </a:lnTo>
                  <a:lnTo>
                    <a:pt x="331" y="979"/>
                  </a:lnTo>
                  <a:lnTo>
                    <a:pt x="331" y="974"/>
                  </a:lnTo>
                  <a:lnTo>
                    <a:pt x="327" y="969"/>
                  </a:lnTo>
                  <a:lnTo>
                    <a:pt x="322" y="964"/>
                  </a:lnTo>
                  <a:lnTo>
                    <a:pt x="317" y="959"/>
                  </a:lnTo>
                  <a:lnTo>
                    <a:pt x="317" y="959"/>
                  </a:lnTo>
                  <a:lnTo>
                    <a:pt x="312" y="954"/>
                  </a:lnTo>
                  <a:lnTo>
                    <a:pt x="307" y="949"/>
                  </a:lnTo>
                  <a:lnTo>
                    <a:pt x="302" y="944"/>
                  </a:lnTo>
                  <a:lnTo>
                    <a:pt x="302" y="939"/>
                  </a:lnTo>
                  <a:lnTo>
                    <a:pt x="297" y="934"/>
                  </a:lnTo>
                  <a:lnTo>
                    <a:pt x="292" y="930"/>
                  </a:lnTo>
                  <a:lnTo>
                    <a:pt x="292" y="925"/>
                  </a:lnTo>
                  <a:lnTo>
                    <a:pt x="287" y="920"/>
                  </a:lnTo>
                  <a:lnTo>
                    <a:pt x="282" y="915"/>
                  </a:lnTo>
                  <a:lnTo>
                    <a:pt x="277" y="910"/>
                  </a:lnTo>
                  <a:lnTo>
                    <a:pt x="277" y="910"/>
                  </a:lnTo>
                  <a:lnTo>
                    <a:pt x="272" y="905"/>
                  </a:lnTo>
                  <a:lnTo>
                    <a:pt x="267" y="900"/>
                  </a:lnTo>
                  <a:lnTo>
                    <a:pt x="262" y="895"/>
                  </a:lnTo>
                  <a:lnTo>
                    <a:pt x="262" y="890"/>
                  </a:lnTo>
                  <a:lnTo>
                    <a:pt x="257" y="885"/>
                  </a:lnTo>
                  <a:lnTo>
                    <a:pt x="252" y="880"/>
                  </a:lnTo>
                  <a:lnTo>
                    <a:pt x="252" y="875"/>
                  </a:lnTo>
                  <a:lnTo>
                    <a:pt x="247" y="870"/>
                  </a:lnTo>
                  <a:lnTo>
                    <a:pt x="242" y="865"/>
                  </a:lnTo>
                  <a:lnTo>
                    <a:pt x="237" y="860"/>
                  </a:lnTo>
                  <a:lnTo>
                    <a:pt x="237" y="860"/>
                  </a:lnTo>
                  <a:lnTo>
                    <a:pt x="233" y="855"/>
                  </a:lnTo>
                  <a:lnTo>
                    <a:pt x="228" y="850"/>
                  </a:lnTo>
                  <a:lnTo>
                    <a:pt x="223" y="846"/>
                  </a:lnTo>
                  <a:lnTo>
                    <a:pt x="223" y="841"/>
                  </a:lnTo>
                  <a:lnTo>
                    <a:pt x="218" y="836"/>
                  </a:lnTo>
                  <a:lnTo>
                    <a:pt x="213" y="831"/>
                  </a:lnTo>
                  <a:lnTo>
                    <a:pt x="213" y="826"/>
                  </a:lnTo>
                  <a:lnTo>
                    <a:pt x="208" y="821"/>
                  </a:lnTo>
                  <a:lnTo>
                    <a:pt x="203" y="816"/>
                  </a:lnTo>
                  <a:lnTo>
                    <a:pt x="198" y="811"/>
                  </a:lnTo>
                  <a:lnTo>
                    <a:pt x="198" y="806"/>
                  </a:lnTo>
                  <a:lnTo>
                    <a:pt x="193" y="806"/>
                  </a:lnTo>
                  <a:lnTo>
                    <a:pt x="188" y="801"/>
                  </a:lnTo>
                  <a:lnTo>
                    <a:pt x="183" y="796"/>
                  </a:lnTo>
                  <a:lnTo>
                    <a:pt x="183" y="791"/>
                  </a:lnTo>
                  <a:lnTo>
                    <a:pt x="178" y="786"/>
                  </a:lnTo>
                  <a:lnTo>
                    <a:pt x="173" y="781"/>
                  </a:lnTo>
                  <a:lnTo>
                    <a:pt x="168" y="776"/>
                  </a:lnTo>
                  <a:lnTo>
                    <a:pt x="168" y="771"/>
                  </a:lnTo>
                  <a:lnTo>
                    <a:pt x="163" y="766"/>
                  </a:lnTo>
                  <a:lnTo>
                    <a:pt x="158" y="762"/>
                  </a:lnTo>
                  <a:lnTo>
                    <a:pt x="158" y="757"/>
                  </a:lnTo>
                  <a:lnTo>
                    <a:pt x="153" y="757"/>
                  </a:lnTo>
                  <a:lnTo>
                    <a:pt x="148" y="752"/>
                  </a:lnTo>
                  <a:lnTo>
                    <a:pt x="144" y="747"/>
                  </a:lnTo>
                  <a:lnTo>
                    <a:pt x="144" y="742"/>
                  </a:lnTo>
                  <a:lnTo>
                    <a:pt x="139" y="737"/>
                  </a:lnTo>
                  <a:lnTo>
                    <a:pt x="134" y="732"/>
                  </a:lnTo>
                  <a:lnTo>
                    <a:pt x="129" y="727"/>
                  </a:lnTo>
                  <a:lnTo>
                    <a:pt x="124" y="722"/>
                  </a:lnTo>
                  <a:lnTo>
                    <a:pt x="129" y="717"/>
                  </a:lnTo>
                  <a:lnTo>
                    <a:pt x="134" y="712"/>
                  </a:lnTo>
                  <a:lnTo>
                    <a:pt x="134" y="717"/>
                  </a:lnTo>
                  <a:lnTo>
                    <a:pt x="134" y="727"/>
                  </a:lnTo>
                  <a:lnTo>
                    <a:pt x="139" y="732"/>
                  </a:lnTo>
                  <a:lnTo>
                    <a:pt x="144" y="737"/>
                  </a:lnTo>
                  <a:lnTo>
                    <a:pt x="148" y="742"/>
                  </a:lnTo>
                  <a:lnTo>
                    <a:pt x="153" y="742"/>
                  </a:lnTo>
                  <a:lnTo>
                    <a:pt x="158" y="742"/>
                  </a:lnTo>
                  <a:lnTo>
                    <a:pt x="163" y="742"/>
                  </a:lnTo>
                  <a:lnTo>
                    <a:pt x="168" y="737"/>
                  </a:lnTo>
                  <a:lnTo>
                    <a:pt x="178" y="732"/>
                  </a:lnTo>
                  <a:lnTo>
                    <a:pt x="183" y="727"/>
                  </a:lnTo>
                  <a:lnTo>
                    <a:pt x="188" y="727"/>
                  </a:lnTo>
                  <a:lnTo>
                    <a:pt x="198" y="727"/>
                  </a:lnTo>
                  <a:lnTo>
                    <a:pt x="203" y="732"/>
                  </a:lnTo>
                  <a:lnTo>
                    <a:pt x="208" y="737"/>
                  </a:lnTo>
                  <a:lnTo>
                    <a:pt x="213" y="742"/>
                  </a:lnTo>
                  <a:lnTo>
                    <a:pt x="218" y="747"/>
                  </a:lnTo>
                  <a:lnTo>
                    <a:pt x="218" y="752"/>
                  </a:lnTo>
                  <a:lnTo>
                    <a:pt x="223" y="757"/>
                  </a:lnTo>
                  <a:lnTo>
                    <a:pt x="228" y="762"/>
                  </a:lnTo>
                  <a:lnTo>
                    <a:pt x="233" y="766"/>
                  </a:lnTo>
                  <a:lnTo>
                    <a:pt x="237" y="766"/>
                  </a:lnTo>
                  <a:lnTo>
                    <a:pt x="242" y="766"/>
                  </a:lnTo>
                  <a:lnTo>
                    <a:pt x="247" y="766"/>
                  </a:lnTo>
                  <a:lnTo>
                    <a:pt x="252" y="762"/>
                  </a:lnTo>
                  <a:lnTo>
                    <a:pt x="262" y="757"/>
                  </a:lnTo>
                  <a:lnTo>
                    <a:pt x="267" y="752"/>
                  </a:lnTo>
                  <a:lnTo>
                    <a:pt x="272" y="752"/>
                  </a:lnTo>
                  <a:lnTo>
                    <a:pt x="282" y="752"/>
                  </a:lnTo>
                  <a:lnTo>
                    <a:pt x="287" y="747"/>
                  </a:lnTo>
                  <a:lnTo>
                    <a:pt x="292" y="747"/>
                  </a:lnTo>
                  <a:lnTo>
                    <a:pt x="302" y="747"/>
                  </a:lnTo>
                  <a:lnTo>
                    <a:pt x="307" y="752"/>
                  </a:lnTo>
                  <a:lnTo>
                    <a:pt x="312" y="757"/>
                  </a:lnTo>
                  <a:lnTo>
                    <a:pt x="317" y="762"/>
                  </a:lnTo>
                  <a:lnTo>
                    <a:pt x="317" y="766"/>
                  </a:lnTo>
                  <a:lnTo>
                    <a:pt x="322" y="771"/>
                  </a:lnTo>
                  <a:lnTo>
                    <a:pt x="322" y="776"/>
                  </a:lnTo>
                  <a:lnTo>
                    <a:pt x="322" y="781"/>
                  </a:lnTo>
                  <a:lnTo>
                    <a:pt x="317" y="786"/>
                  </a:lnTo>
                  <a:lnTo>
                    <a:pt x="317" y="786"/>
                  </a:lnTo>
                  <a:lnTo>
                    <a:pt x="312" y="781"/>
                  </a:lnTo>
                  <a:lnTo>
                    <a:pt x="302" y="776"/>
                  </a:lnTo>
                  <a:lnTo>
                    <a:pt x="297" y="771"/>
                  </a:lnTo>
                  <a:lnTo>
                    <a:pt x="292" y="766"/>
                  </a:lnTo>
                  <a:lnTo>
                    <a:pt x="292" y="771"/>
                  </a:lnTo>
                  <a:lnTo>
                    <a:pt x="292" y="776"/>
                  </a:lnTo>
                  <a:lnTo>
                    <a:pt x="292" y="781"/>
                  </a:lnTo>
                  <a:lnTo>
                    <a:pt x="287" y="786"/>
                  </a:lnTo>
                  <a:lnTo>
                    <a:pt x="287" y="791"/>
                  </a:lnTo>
                  <a:lnTo>
                    <a:pt x="287" y="796"/>
                  </a:lnTo>
                  <a:lnTo>
                    <a:pt x="292" y="801"/>
                  </a:lnTo>
                  <a:lnTo>
                    <a:pt x="297" y="806"/>
                  </a:lnTo>
                  <a:lnTo>
                    <a:pt x="307" y="806"/>
                  </a:lnTo>
                  <a:lnTo>
                    <a:pt x="317" y="806"/>
                  </a:lnTo>
                  <a:lnTo>
                    <a:pt x="322" y="806"/>
                  </a:lnTo>
                  <a:lnTo>
                    <a:pt x="327" y="811"/>
                  </a:lnTo>
                  <a:lnTo>
                    <a:pt x="331" y="816"/>
                  </a:lnTo>
                  <a:lnTo>
                    <a:pt x="331" y="821"/>
                  </a:lnTo>
                  <a:lnTo>
                    <a:pt x="336" y="826"/>
                  </a:lnTo>
                  <a:lnTo>
                    <a:pt x="341" y="831"/>
                  </a:lnTo>
                  <a:lnTo>
                    <a:pt x="346" y="836"/>
                  </a:lnTo>
                  <a:lnTo>
                    <a:pt x="351" y="836"/>
                  </a:lnTo>
                  <a:lnTo>
                    <a:pt x="356" y="841"/>
                  </a:lnTo>
                  <a:lnTo>
                    <a:pt x="361" y="846"/>
                  </a:lnTo>
                  <a:lnTo>
                    <a:pt x="366" y="850"/>
                  </a:lnTo>
                  <a:lnTo>
                    <a:pt x="371" y="855"/>
                  </a:lnTo>
                  <a:lnTo>
                    <a:pt x="376" y="850"/>
                  </a:lnTo>
                  <a:lnTo>
                    <a:pt x="386" y="850"/>
                  </a:lnTo>
                  <a:lnTo>
                    <a:pt x="391" y="850"/>
                  </a:lnTo>
                  <a:lnTo>
                    <a:pt x="401" y="850"/>
                  </a:lnTo>
                  <a:lnTo>
                    <a:pt x="406" y="846"/>
                  </a:lnTo>
                  <a:lnTo>
                    <a:pt x="411" y="841"/>
                  </a:lnTo>
                  <a:lnTo>
                    <a:pt x="416" y="836"/>
                  </a:lnTo>
                  <a:lnTo>
                    <a:pt x="420" y="836"/>
                  </a:lnTo>
                  <a:lnTo>
                    <a:pt x="425" y="831"/>
                  </a:lnTo>
                  <a:lnTo>
                    <a:pt x="430" y="826"/>
                  </a:lnTo>
                  <a:lnTo>
                    <a:pt x="435" y="821"/>
                  </a:lnTo>
                  <a:lnTo>
                    <a:pt x="440" y="816"/>
                  </a:lnTo>
                  <a:lnTo>
                    <a:pt x="445" y="816"/>
                  </a:lnTo>
                  <a:lnTo>
                    <a:pt x="455" y="811"/>
                  </a:lnTo>
                  <a:lnTo>
                    <a:pt x="460" y="806"/>
                  </a:lnTo>
                  <a:lnTo>
                    <a:pt x="465" y="806"/>
                  </a:lnTo>
                  <a:lnTo>
                    <a:pt x="470" y="801"/>
                  </a:lnTo>
                  <a:lnTo>
                    <a:pt x="475" y="796"/>
                  </a:lnTo>
                  <a:lnTo>
                    <a:pt x="485" y="796"/>
                  </a:lnTo>
                  <a:lnTo>
                    <a:pt x="490" y="796"/>
                  </a:lnTo>
                  <a:lnTo>
                    <a:pt x="500" y="801"/>
                  </a:lnTo>
                  <a:lnTo>
                    <a:pt x="505" y="801"/>
                  </a:lnTo>
                  <a:lnTo>
                    <a:pt x="514" y="796"/>
                  </a:lnTo>
                  <a:lnTo>
                    <a:pt x="519" y="791"/>
                  </a:lnTo>
                  <a:lnTo>
                    <a:pt x="524" y="791"/>
                  </a:lnTo>
                  <a:lnTo>
                    <a:pt x="534" y="791"/>
                  </a:lnTo>
                  <a:lnTo>
                    <a:pt x="539" y="791"/>
                  </a:lnTo>
                  <a:lnTo>
                    <a:pt x="544" y="796"/>
                  </a:lnTo>
                  <a:lnTo>
                    <a:pt x="549" y="801"/>
                  </a:lnTo>
                  <a:lnTo>
                    <a:pt x="549" y="806"/>
                  </a:lnTo>
                  <a:lnTo>
                    <a:pt x="549" y="811"/>
                  </a:lnTo>
                  <a:lnTo>
                    <a:pt x="549" y="816"/>
                  </a:lnTo>
                  <a:lnTo>
                    <a:pt x="549" y="821"/>
                  </a:lnTo>
                  <a:lnTo>
                    <a:pt x="544" y="826"/>
                  </a:lnTo>
                  <a:lnTo>
                    <a:pt x="544" y="831"/>
                  </a:lnTo>
                  <a:lnTo>
                    <a:pt x="544" y="836"/>
                  </a:lnTo>
                  <a:lnTo>
                    <a:pt x="544" y="841"/>
                  </a:lnTo>
                  <a:lnTo>
                    <a:pt x="539" y="846"/>
                  </a:lnTo>
                  <a:lnTo>
                    <a:pt x="539" y="850"/>
                  </a:lnTo>
                  <a:lnTo>
                    <a:pt x="539" y="855"/>
                  </a:lnTo>
                  <a:lnTo>
                    <a:pt x="539" y="860"/>
                  </a:lnTo>
                  <a:lnTo>
                    <a:pt x="539" y="865"/>
                  </a:lnTo>
                  <a:lnTo>
                    <a:pt x="539" y="870"/>
                  </a:lnTo>
                  <a:lnTo>
                    <a:pt x="539" y="875"/>
                  </a:lnTo>
                  <a:lnTo>
                    <a:pt x="534" y="880"/>
                  </a:lnTo>
                  <a:lnTo>
                    <a:pt x="534" y="885"/>
                  </a:lnTo>
                  <a:lnTo>
                    <a:pt x="534" y="890"/>
                  </a:lnTo>
                  <a:lnTo>
                    <a:pt x="534" y="895"/>
                  </a:lnTo>
                  <a:lnTo>
                    <a:pt x="534" y="900"/>
                  </a:lnTo>
                  <a:lnTo>
                    <a:pt x="534" y="905"/>
                  </a:lnTo>
                  <a:lnTo>
                    <a:pt x="534" y="910"/>
                  </a:lnTo>
                  <a:lnTo>
                    <a:pt x="529" y="915"/>
                  </a:lnTo>
                  <a:lnTo>
                    <a:pt x="529" y="925"/>
                  </a:lnTo>
                  <a:lnTo>
                    <a:pt x="529" y="930"/>
                  </a:lnTo>
                  <a:lnTo>
                    <a:pt x="529" y="934"/>
                  </a:lnTo>
                  <a:lnTo>
                    <a:pt x="529" y="939"/>
                  </a:lnTo>
                  <a:lnTo>
                    <a:pt x="524" y="939"/>
                  </a:lnTo>
                  <a:lnTo>
                    <a:pt x="519" y="944"/>
                  </a:lnTo>
                  <a:lnTo>
                    <a:pt x="514" y="949"/>
                  </a:lnTo>
                  <a:lnTo>
                    <a:pt x="514" y="954"/>
                  </a:lnTo>
                  <a:lnTo>
                    <a:pt x="505" y="959"/>
                  </a:lnTo>
                  <a:lnTo>
                    <a:pt x="505" y="964"/>
                  </a:lnTo>
                  <a:lnTo>
                    <a:pt x="509" y="969"/>
                  </a:lnTo>
                  <a:lnTo>
                    <a:pt x="514" y="974"/>
                  </a:lnTo>
                  <a:lnTo>
                    <a:pt x="519" y="979"/>
                  </a:lnTo>
                  <a:lnTo>
                    <a:pt x="519" y="984"/>
                  </a:lnTo>
                  <a:lnTo>
                    <a:pt x="524" y="984"/>
                  </a:lnTo>
                  <a:lnTo>
                    <a:pt x="529" y="989"/>
                  </a:lnTo>
                  <a:lnTo>
                    <a:pt x="534" y="994"/>
                  </a:lnTo>
                  <a:lnTo>
                    <a:pt x="539" y="999"/>
                  </a:lnTo>
                  <a:lnTo>
                    <a:pt x="544" y="1004"/>
                  </a:lnTo>
                  <a:lnTo>
                    <a:pt x="549" y="1009"/>
                  </a:lnTo>
                  <a:lnTo>
                    <a:pt x="554" y="1014"/>
                  </a:lnTo>
                  <a:lnTo>
                    <a:pt x="554" y="1014"/>
                  </a:lnTo>
                  <a:lnTo>
                    <a:pt x="549" y="1019"/>
                  </a:lnTo>
                  <a:lnTo>
                    <a:pt x="544" y="1023"/>
                  </a:lnTo>
                  <a:lnTo>
                    <a:pt x="534" y="1023"/>
                  </a:lnTo>
                  <a:lnTo>
                    <a:pt x="529" y="1028"/>
                  </a:lnTo>
                  <a:lnTo>
                    <a:pt x="519" y="1028"/>
                  </a:lnTo>
                  <a:lnTo>
                    <a:pt x="514" y="1033"/>
                  </a:lnTo>
                  <a:lnTo>
                    <a:pt x="505" y="1033"/>
                  </a:lnTo>
                  <a:lnTo>
                    <a:pt x="495" y="1033"/>
                  </a:lnTo>
                  <a:lnTo>
                    <a:pt x="490" y="1033"/>
                  </a:lnTo>
                  <a:lnTo>
                    <a:pt x="480" y="1033"/>
                  </a:lnTo>
                  <a:lnTo>
                    <a:pt x="475" y="1033"/>
                  </a:lnTo>
                  <a:lnTo>
                    <a:pt x="465" y="1033"/>
                  </a:lnTo>
                  <a:lnTo>
                    <a:pt x="455" y="1033"/>
                  </a:lnTo>
                  <a:lnTo>
                    <a:pt x="450" y="1033"/>
                  </a:lnTo>
                  <a:lnTo>
                    <a:pt x="440" y="1033"/>
                  </a:lnTo>
                  <a:lnTo>
                    <a:pt x="435" y="1033"/>
                  </a:lnTo>
                  <a:lnTo>
                    <a:pt x="425" y="1033"/>
                  </a:lnTo>
                  <a:lnTo>
                    <a:pt x="420" y="1038"/>
                  </a:lnTo>
                  <a:lnTo>
                    <a:pt x="411" y="1038"/>
                  </a:lnTo>
                  <a:lnTo>
                    <a:pt x="406" y="1043"/>
                  </a:lnTo>
                  <a:lnTo>
                    <a:pt x="406" y="1048"/>
                  </a:lnTo>
                  <a:lnTo>
                    <a:pt x="406" y="1053"/>
                  </a:lnTo>
                  <a:lnTo>
                    <a:pt x="406" y="1058"/>
                  </a:lnTo>
                  <a:lnTo>
                    <a:pt x="411" y="1063"/>
                  </a:lnTo>
                  <a:lnTo>
                    <a:pt x="420" y="1063"/>
                  </a:lnTo>
                  <a:lnTo>
                    <a:pt x="425" y="1068"/>
                  </a:lnTo>
                  <a:lnTo>
                    <a:pt x="420" y="1068"/>
                  </a:lnTo>
                  <a:close/>
                  <a:moveTo>
                    <a:pt x="465" y="989"/>
                  </a:moveTo>
                  <a:lnTo>
                    <a:pt x="460" y="984"/>
                  </a:lnTo>
                  <a:lnTo>
                    <a:pt x="460" y="984"/>
                  </a:lnTo>
                  <a:lnTo>
                    <a:pt x="455" y="984"/>
                  </a:lnTo>
                  <a:lnTo>
                    <a:pt x="450" y="984"/>
                  </a:lnTo>
                  <a:lnTo>
                    <a:pt x="445" y="984"/>
                  </a:lnTo>
                  <a:lnTo>
                    <a:pt x="445" y="984"/>
                  </a:lnTo>
                  <a:lnTo>
                    <a:pt x="445" y="989"/>
                  </a:lnTo>
                  <a:lnTo>
                    <a:pt x="445" y="989"/>
                  </a:lnTo>
                  <a:lnTo>
                    <a:pt x="445" y="989"/>
                  </a:lnTo>
                  <a:lnTo>
                    <a:pt x="450" y="994"/>
                  </a:lnTo>
                  <a:lnTo>
                    <a:pt x="455" y="994"/>
                  </a:lnTo>
                  <a:lnTo>
                    <a:pt x="460" y="989"/>
                  </a:lnTo>
                  <a:lnTo>
                    <a:pt x="460" y="989"/>
                  </a:lnTo>
                  <a:lnTo>
                    <a:pt x="465" y="989"/>
                  </a:lnTo>
                  <a:close/>
                  <a:moveTo>
                    <a:pt x="683" y="880"/>
                  </a:moveTo>
                  <a:lnTo>
                    <a:pt x="678" y="875"/>
                  </a:lnTo>
                  <a:lnTo>
                    <a:pt x="673" y="870"/>
                  </a:lnTo>
                  <a:lnTo>
                    <a:pt x="668" y="865"/>
                  </a:lnTo>
                  <a:lnTo>
                    <a:pt x="663" y="860"/>
                  </a:lnTo>
                  <a:lnTo>
                    <a:pt x="663" y="855"/>
                  </a:lnTo>
                  <a:lnTo>
                    <a:pt x="663" y="850"/>
                  </a:lnTo>
                  <a:lnTo>
                    <a:pt x="663" y="846"/>
                  </a:lnTo>
                  <a:lnTo>
                    <a:pt x="663" y="841"/>
                  </a:lnTo>
                  <a:lnTo>
                    <a:pt x="663" y="831"/>
                  </a:lnTo>
                  <a:lnTo>
                    <a:pt x="663" y="826"/>
                  </a:lnTo>
                  <a:lnTo>
                    <a:pt x="658" y="821"/>
                  </a:lnTo>
                  <a:lnTo>
                    <a:pt x="658" y="816"/>
                  </a:lnTo>
                  <a:lnTo>
                    <a:pt x="658" y="811"/>
                  </a:lnTo>
                  <a:lnTo>
                    <a:pt x="663" y="806"/>
                  </a:lnTo>
                  <a:lnTo>
                    <a:pt x="663" y="801"/>
                  </a:lnTo>
                  <a:lnTo>
                    <a:pt x="663" y="791"/>
                  </a:lnTo>
                  <a:lnTo>
                    <a:pt x="663" y="786"/>
                  </a:lnTo>
                  <a:lnTo>
                    <a:pt x="663" y="781"/>
                  </a:lnTo>
                  <a:lnTo>
                    <a:pt x="663" y="776"/>
                  </a:lnTo>
                  <a:lnTo>
                    <a:pt x="663" y="771"/>
                  </a:lnTo>
                  <a:lnTo>
                    <a:pt x="663" y="766"/>
                  </a:lnTo>
                  <a:lnTo>
                    <a:pt x="663" y="757"/>
                  </a:lnTo>
                  <a:lnTo>
                    <a:pt x="663" y="752"/>
                  </a:lnTo>
                  <a:lnTo>
                    <a:pt x="663" y="747"/>
                  </a:lnTo>
                  <a:lnTo>
                    <a:pt x="663" y="742"/>
                  </a:lnTo>
                  <a:lnTo>
                    <a:pt x="658" y="737"/>
                  </a:lnTo>
                  <a:lnTo>
                    <a:pt x="658" y="732"/>
                  </a:lnTo>
                  <a:lnTo>
                    <a:pt x="658" y="727"/>
                  </a:lnTo>
                  <a:lnTo>
                    <a:pt x="653" y="722"/>
                  </a:lnTo>
                  <a:lnTo>
                    <a:pt x="653" y="712"/>
                  </a:lnTo>
                  <a:lnTo>
                    <a:pt x="658" y="707"/>
                  </a:lnTo>
                  <a:lnTo>
                    <a:pt x="658" y="702"/>
                  </a:lnTo>
                  <a:lnTo>
                    <a:pt x="658" y="697"/>
                  </a:lnTo>
                  <a:lnTo>
                    <a:pt x="658" y="692"/>
                  </a:lnTo>
                  <a:lnTo>
                    <a:pt x="653" y="687"/>
                  </a:lnTo>
                  <a:lnTo>
                    <a:pt x="653" y="677"/>
                  </a:lnTo>
                  <a:lnTo>
                    <a:pt x="648" y="673"/>
                  </a:lnTo>
                  <a:lnTo>
                    <a:pt x="643" y="673"/>
                  </a:lnTo>
                  <a:lnTo>
                    <a:pt x="633" y="668"/>
                  </a:lnTo>
                  <a:lnTo>
                    <a:pt x="633" y="663"/>
                  </a:lnTo>
                  <a:lnTo>
                    <a:pt x="633" y="653"/>
                  </a:lnTo>
                  <a:lnTo>
                    <a:pt x="638" y="648"/>
                  </a:lnTo>
                  <a:lnTo>
                    <a:pt x="638" y="648"/>
                  </a:lnTo>
                  <a:lnTo>
                    <a:pt x="638" y="653"/>
                  </a:lnTo>
                  <a:lnTo>
                    <a:pt x="638" y="658"/>
                  </a:lnTo>
                  <a:lnTo>
                    <a:pt x="643" y="663"/>
                  </a:lnTo>
                  <a:lnTo>
                    <a:pt x="648" y="668"/>
                  </a:lnTo>
                  <a:lnTo>
                    <a:pt x="658" y="673"/>
                  </a:lnTo>
                  <a:lnTo>
                    <a:pt x="663" y="677"/>
                  </a:lnTo>
                  <a:lnTo>
                    <a:pt x="668" y="677"/>
                  </a:lnTo>
                  <a:lnTo>
                    <a:pt x="668" y="682"/>
                  </a:lnTo>
                  <a:lnTo>
                    <a:pt x="673" y="692"/>
                  </a:lnTo>
                  <a:lnTo>
                    <a:pt x="673" y="697"/>
                  </a:lnTo>
                  <a:lnTo>
                    <a:pt x="678" y="702"/>
                  </a:lnTo>
                  <a:lnTo>
                    <a:pt x="678" y="707"/>
                  </a:lnTo>
                  <a:lnTo>
                    <a:pt x="683" y="712"/>
                  </a:lnTo>
                  <a:lnTo>
                    <a:pt x="692" y="717"/>
                  </a:lnTo>
                  <a:lnTo>
                    <a:pt x="697" y="717"/>
                  </a:lnTo>
                  <a:lnTo>
                    <a:pt x="707" y="722"/>
                  </a:lnTo>
                  <a:lnTo>
                    <a:pt x="712" y="722"/>
                  </a:lnTo>
                  <a:lnTo>
                    <a:pt x="722" y="727"/>
                  </a:lnTo>
                  <a:lnTo>
                    <a:pt x="727" y="732"/>
                  </a:lnTo>
                  <a:lnTo>
                    <a:pt x="732" y="737"/>
                  </a:lnTo>
                  <a:lnTo>
                    <a:pt x="737" y="742"/>
                  </a:lnTo>
                  <a:lnTo>
                    <a:pt x="742" y="747"/>
                  </a:lnTo>
                  <a:lnTo>
                    <a:pt x="752" y="752"/>
                  </a:lnTo>
                  <a:lnTo>
                    <a:pt x="757" y="752"/>
                  </a:lnTo>
                  <a:lnTo>
                    <a:pt x="762" y="757"/>
                  </a:lnTo>
                  <a:lnTo>
                    <a:pt x="767" y="762"/>
                  </a:lnTo>
                  <a:lnTo>
                    <a:pt x="772" y="766"/>
                  </a:lnTo>
                  <a:lnTo>
                    <a:pt x="781" y="771"/>
                  </a:lnTo>
                  <a:lnTo>
                    <a:pt x="786" y="776"/>
                  </a:lnTo>
                  <a:lnTo>
                    <a:pt x="791" y="781"/>
                  </a:lnTo>
                  <a:lnTo>
                    <a:pt x="796" y="781"/>
                  </a:lnTo>
                  <a:lnTo>
                    <a:pt x="801" y="786"/>
                  </a:lnTo>
                  <a:lnTo>
                    <a:pt x="811" y="791"/>
                  </a:lnTo>
                  <a:lnTo>
                    <a:pt x="816" y="796"/>
                  </a:lnTo>
                  <a:lnTo>
                    <a:pt x="821" y="801"/>
                  </a:lnTo>
                  <a:lnTo>
                    <a:pt x="826" y="806"/>
                  </a:lnTo>
                  <a:lnTo>
                    <a:pt x="831" y="811"/>
                  </a:lnTo>
                  <a:lnTo>
                    <a:pt x="836" y="816"/>
                  </a:lnTo>
                  <a:lnTo>
                    <a:pt x="841" y="816"/>
                  </a:lnTo>
                  <a:lnTo>
                    <a:pt x="851" y="821"/>
                  </a:lnTo>
                  <a:lnTo>
                    <a:pt x="856" y="826"/>
                  </a:lnTo>
                  <a:lnTo>
                    <a:pt x="861" y="831"/>
                  </a:lnTo>
                  <a:lnTo>
                    <a:pt x="861" y="836"/>
                  </a:lnTo>
                  <a:lnTo>
                    <a:pt x="866" y="841"/>
                  </a:lnTo>
                  <a:lnTo>
                    <a:pt x="866" y="846"/>
                  </a:lnTo>
                  <a:lnTo>
                    <a:pt x="866" y="855"/>
                  </a:lnTo>
                  <a:lnTo>
                    <a:pt x="866" y="860"/>
                  </a:lnTo>
                  <a:lnTo>
                    <a:pt x="861" y="865"/>
                  </a:lnTo>
                  <a:lnTo>
                    <a:pt x="861" y="870"/>
                  </a:lnTo>
                  <a:lnTo>
                    <a:pt x="856" y="875"/>
                  </a:lnTo>
                  <a:lnTo>
                    <a:pt x="851" y="880"/>
                  </a:lnTo>
                  <a:lnTo>
                    <a:pt x="846" y="885"/>
                  </a:lnTo>
                  <a:lnTo>
                    <a:pt x="841" y="890"/>
                  </a:lnTo>
                  <a:lnTo>
                    <a:pt x="831" y="890"/>
                  </a:lnTo>
                  <a:lnTo>
                    <a:pt x="821" y="895"/>
                  </a:lnTo>
                  <a:lnTo>
                    <a:pt x="816" y="895"/>
                  </a:lnTo>
                  <a:lnTo>
                    <a:pt x="806" y="895"/>
                  </a:lnTo>
                  <a:lnTo>
                    <a:pt x="796" y="900"/>
                  </a:lnTo>
                  <a:lnTo>
                    <a:pt x="786" y="900"/>
                  </a:lnTo>
                  <a:lnTo>
                    <a:pt x="781" y="900"/>
                  </a:lnTo>
                  <a:lnTo>
                    <a:pt x="772" y="900"/>
                  </a:lnTo>
                  <a:lnTo>
                    <a:pt x="762" y="905"/>
                  </a:lnTo>
                  <a:lnTo>
                    <a:pt x="757" y="905"/>
                  </a:lnTo>
                  <a:lnTo>
                    <a:pt x="747" y="910"/>
                  </a:lnTo>
                  <a:lnTo>
                    <a:pt x="737" y="905"/>
                  </a:lnTo>
                  <a:lnTo>
                    <a:pt x="732" y="905"/>
                  </a:lnTo>
                  <a:lnTo>
                    <a:pt x="722" y="905"/>
                  </a:lnTo>
                  <a:lnTo>
                    <a:pt x="712" y="900"/>
                  </a:lnTo>
                  <a:lnTo>
                    <a:pt x="707" y="895"/>
                  </a:lnTo>
                  <a:lnTo>
                    <a:pt x="697" y="895"/>
                  </a:lnTo>
                  <a:lnTo>
                    <a:pt x="692" y="890"/>
                  </a:lnTo>
                  <a:lnTo>
                    <a:pt x="688" y="885"/>
                  </a:lnTo>
                  <a:lnTo>
                    <a:pt x="683" y="880"/>
                  </a:lnTo>
                  <a:close/>
                  <a:moveTo>
                    <a:pt x="1044" y="747"/>
                  </a:moveTo>
                  <a:lnTo>
                    <a:pt x="1044" y="742"/>
                  </a:lnTo>
                  <a:lnTo>
                    <a:pt x="1044" y="732"/>
                  </a:lnTo>
                  <a:lnTo>
                    <a:pt x="1044" y="727"/>
                  </a:lnTo>
                  <a:lnTo>
                    <a:pt x="1049" y="717"/>
                  </a:lnTo>
                  <a:lnTo>
                    <a:pt x="1049" y="707"/>
                  </a:lnTo>
                  <a:lnTo>
                    <a:pt x="1049" y="702"/>
                  </a:lnTo>
                  <a:lnTo>
                    <a:pt x="1049" y="692"/>
                  </a:lnTo>
                  <a:lnTo>
                    <a:pt x="1053" y="687"/>
                  </a:lnTo>
                  <a:lnTo>
                    <a:pt x="1053" y="682"/>
                  </a:lnTo>
                  <a:lnTo>
                    <a:pt x="1053" y="673"/>
                  </a:lnTo>
                  <a:lnTo>
                    <a:pt x="1053" y="663"/>
                  </a:lnTo>
                  <a:lnTo>
                    <a:pt x="1049" y="653"/>
                  </a:lnTo>
                  <a:lnTo>
                    <a:pt x="1039" y="648"/>
                  </a:lnTo>
                  <a:lnTo>
                    <a:pt x="1034" y="648"/>
                  </a:lnTo>
                  <a:lnTo>
                    <a:pt x="1034" y="653"/>
                  </a:lnTo>
                  <a:lnTo>
                    <a:pt x="1029" y="663"/>
                  </a:lnTo>
                  <a:lnTo>
                    <a:pt x="1029" y="668"/>
                  </a:lnTo>
                  <a:lnTo>
                    <a:pt x="1029" y="677"/>
                  </a:lnTo>
                  <a:lnTo>
                    <a:pt x="1024" y="687"/>
                  </a:lnTo>
                  <a:lnTo>
                    <a:pt x="1024" y="692"/>
                  </a:lnTo>
                  <a:lnTo>
                    <a:pt x="1024" y="702"/>
                  </a:lnTo>
                  <a:lnTo>
                    <a:pt x="1024" y="707"/>
                  </a:lnTo>
                  <a:lnTo>
                    <a:pt x="1024" y="717"/>
                  </a:lnTo>
                  <a:lnTo>
                    <a:pt x="1024" y="722"/>
                  </a:lnTo>
                  <a:lnTo>
                    <a:pt x="1024" y="732"/>
                  </a:lnTo>
                  <a:lnTo>
                    <a:pt x="1029" y="737"/>
                  </a:lnTo>
                  <a:lnTo>
                    <a:pt x="1029" y="747"/>
                  </a:lnTo>
                  <a:lnTo>
                    <a:pt x="1034" y="757"/>
                  </a:lnTo>
                  <a:lnTo>
                    <a:pt x="1034" y="762"/>
                  </a:lnTo>
                  <a:lnTo>
                    <a:pt x="1039" y="766"/>
                  </a:lnTo>
                  <a:lnTo>
                    <a:pt x="1039" y="762"/>
                  </a:lnTo>
                  <a:lnTo>
                    <a:pt x="1044" y="747"/>
                  </a:lnTo>
                  <a:close/>
                  <a:moveTo>
                    <a:pt x="1296" y="722"/>
                  </a:moveTo>
                  <a:lnTo>
                    <a:pt x="1301" y="717"/>
                  </a:lnTo>
                  <a:lnTo>
                    <a:pt x="1301" y="717"/>
                  </a:lnTo>
                  <a:lnTo>
                    <a:pt x="1301" y="712"/>
                  </a:lnTo>
                  <a:lnTo>
                    <a:pt x="1301" y="712"/>
                  </a:lnTo>
                  <a:lnTo>
                    <a:pt x="1306" y="712"/>
                  </a:lnTo>
                  <a:lnTo>
                    <a:pt x="1306" y="717"/>
                  </a:lnTo>
                  <a:lnTo>
                    <a:pt x="1306" y="717"/>
                  </a:lnTo>
                  <a:lnTo>
                    <a:pt x="1306" y="722"/>
                  </a:lnTo>
                  <a:lnTo>
                    <a:pt x="1306" y="722"/>
                  </a:lnTo>
                  <a:lnTo>
                    <a:pt x="1306" y="727"/>
                  </a:lnTo>
                  <a:lnTo>
                    <a:pt x="1301" y="727"/>
                  </a:lnTo>
                  <a:lnTo>
                    <a:pt x="1301" y="727"/>
                  </a:lnTo>
                  <a:lnTo>
                    <a:pt x="1301" y="722"/>
                  </a:lnTo>
                  <a:lnTo>
                    <a:pt x="1296" y="722"/>
                  </a:lnTo>
                  <a:close/>
                  <a:moveTo>
                    <a:pt x="524" y="692"/>
                  </a:moveTo>
                  <a:lnTo>
                    <a:pt x="529" y="692"/>
                  </a:lnTo>
                  <a:lnTo>
                    <a:pt x="529" y="692"/>
                  </a:lnTo>
                  <a:lnTo>
                    <a:pt x="529" y="692"/>
                  </a:lnTo>
                  <a:lnTo>
                    <a:pt x="534" y="692"/>
                  </a:lnTo>
                  <a:lnTo>
                    <a:pt x="534" y="692"/>
                  </a:lnTo>
                  <a:lnTo>
                    <a:pt x="534" y="692"/>
                  </a:lnTo>
                  <a:lnTo>
                    <a:pt x="534" y="692"/>
                  </a:lnTo>
                  <a:lnTo>
                    <a:pt x="534" y="697"/>
                  </a:lnTo>
                  <a:lnTo>
                    <a:pt x="534" y="697"/>
                  </a:lnTo>
                  <a:lnTo>
                    <a:pt x="534" y="697"/>
                  </a:lnTo>
                  <a:lnTo>
                    <a:pt x="529" y="697"/>
                  </a:lnTo>
                  <a:lnTo>
                    <a:pt x="529" y="697"/>
                  </a:lnTo>
                  <a:lnTo>
                    <a:pt x="529" y="697"/>
                  </a:lnTo>
                  <a:lnTo>
                    <a:pt x="524" y="692"/>
                  </a:lnTo>
                  <a:close/>
                  <a:moveTo>
                    <a:pt x="1068" y="643"/>
                  </a:moveTo>
                  <a:lnTo>
                    <a:pt x="1068" y="633"/>
                  </a:lnTo>
                  <a:lnTo>
                    <a:pt x="1068" y="628"/>
                  </a:lnTo>
                  <a:lnTo>
                    <a:pt x="1068" y="618"/>
                  </a:lnTo>
                  <a:lnTo>
                    <a:pt x="1073" y="613"/>
                  </a:lnTo>
                  <a:lnTo>
                    <a:pt x="1073" y="608"/>
                  </a:lnTo>
                  <a:lnTo>
                    <a:pt x="1073" y="598"/>
                  </a:lnTo>
                  <a:lnTo>
                    <a:pt x="1073" y="593"/>
                  </a:lnTo>
                  <a:lnTo>
                    <a:pt x="1073" y="589"/>
                  </a:lnTo>
                  <a:lnTo>
                    <a:pt x="1073" y="579"/>
                  </a:lnTo>
                  <a:lnTo>
                    <a:pt x="1073" y="574"/>
                  </a:lnTo>
                  <a:lnTo>
                    <a:pt x="1073" y="564"/>
                  </a:lnTo>
                  <a:lnTo>
                    <a:pt x="1078" y="559"/>
                  </a:lnTo>
                  <a:lnTo>
                    <a:pt x="1083" y="554"/>
                  </a:lnTo>
                  <a:lnTo>
                    <a:pt x="1093" y="549"/>
                  </a:lnTo>
                  <a:lnTo>
                    <a:pt x="1098" y="544"/>
                  </a:lnTo>
                  <a:lnTo>
                    <a:pt x="1103" y="539"/>
                  </a:lnTo>
                  <a:lnTo>
                    <a:pt x="1103" y="529"/>
                  </a:lnTo>
                  <a:lnTo>
                    <a:pt x="1103" y="524"/>
                  </a:lnTo>
                  <a:lnTo>
                    <a:pt x="1098" y="514"/>
                  </a:lnTo>
                  <a:lnTo>
                    <a:pt x="1098" y="509"/>
                  </a:lnTo>
                  <a:lnTo>
                    <a:pt x="1098" y="504"/>
                  </a:lnTo>
                  <a:lnTo>
                    <a:pt x="1108" y="500"/>
                  </a:lnTo>
                  <a:lnTo>
                    <a:pt x="1113" y="495"/>
                  </a:lnTo>
                  <a:lnTo>
                    <a:pt x="1118" y="490"/>
                  </a:lnTo>
                  <a:lnTo>
                    <a:pt x="1128" y="480"/>
                  </a:lnTo>
                  <a:lnTo>
                    <a:pt x="1128" y="475"/>
                  </a:lnTo>
                  <a:lnTo>
                    <a:pt x="1128" y="470"/>
                  </a:lnTo>
                  <a:lnTo>
                    <a:pt x="1123" y="465"/>
                  </a:lnTo>
                  <a:lnTo>
                    <a:pt x="1123" y="455"/>
                  </a:lnTo>
                  <a:lnTo>
                    <a:pt x="1118" y="445"/>
                  </a:lnTo>
                  <a:lnTo>
                    <a:pt x="1118" y="440"/>
                  </a:lnTo>
                  <a:lnTo>
                    <a:pt x="1118" y="440"/>
                  </a:lnTo>
                  <a:lnTo>
                    <a:pt x="1113" y="445"/>
                  </a:lnTo>
                  <a:lnTo>
                    <a:pt x="1108" y="455"/>
                  </a:lnTo>
                  <a:lnTo>
                    <a:pt x="1103" y="460"/>
                  </a:lnTo>
                  <a:lnTo>
                    <a:pt x="1098" y="465"/>
                  </a:lnTo>
                  <a:lnTo>
                    <a:pt x="1093" y="475"/>
                  </a:lnTo>
                  <a:lnTo>
                    <a:pt x="1088" y="480"/>
                  </a:lnTo>
                  <a:lnTo>
                    <a:pt x="1083" y="485"/>
                  </a:lnTo>
                  <a:lnTo>
                    <a:pt x="1083" y="490"/>
                  </a:lnTo>
                  <a:lnTo>
                    <a:pt x="1083" y="500"/>
                  </a:lnTo>
                  <a:lnTo>
                    <a:pt x="1078" y="504"/>
                  </a:lnTo>
                  <a:lnTo>
                    <a:pt x="1073" y="509"/>
                  </a:lnTo>
                  <a:lnTo>
                    <a:pt x="1068" y="514"/>
                  </a:lnTo>
                  <a:lnTo>
                    <a:pt x="1063" y="524"/>
                  </a:lnTo>
                  <a:lnTo>
                    <a:pt x="1058" y="529"/>
                  </a:lnTo>
                  <a:lnTo>
                    <a:pt x="1053" y="534"/>
                  </a:lnTo>
                  <a:lnTo>
                    <a:pt x="1053" y="539"/>
                  </a:lnTo>
                  <a:lnTo>
                    <a:pt x="1053" y="549"/>
                  </a:lnTo>
                  <a:lnTo>
                    <a:pt x="1053" y="554"/>
                  </a:lnTo>
                  <a:lnTo>
                    <a:pt x="1053" y="564"/>
                  </a:lnTo>
                  <a:lnTo>
                    <a:pt x="1053" y="569"/>
                  </a:lnTo>
                  <a:lnTo>
                    <a:pt x="1049" y="574"/>
                  </a:lnTo>
                  <a:lnTo>
                    <a:pt x="1049" y="584"/>
                  </a:lnTo>
                  <a:lnTo>
                    <a:pt x="1049" y="589"/>
                  </a:lnTo>
                  <a:lnTo>
                    <a:pt x="1049" y="593"/>
                  </a:lnTo>
                  <a:lnTo>
                    <a:pt x="1049" y="603"/>
                  </a:lnTo>
                  <a:lnTo>
                    <a:pt x="1049" y="608"/>
                  </a:lnTo>
                  <a:lnTo>
                    <a:pt x="1049" y="613"/>
                  </a:lnTo>
                  <a:lnTo>
                    <a:pt x="1044" y="623"/>
                  </a:lnTo>
                  <a:lnTo>
                    <a:pt x="1044" y="628"/>
                  </a:lnTo>
                  <a:lnTo>
                    <a:pt x="1044" y="633"/>
                  </a:lnTo>
                  <a:lnTo>
                    <a:pt x="1044" y="643"/>
                  </a:lnTo>
                  <a:lnTo>
                    <a:pt x="1053" y="648"/>
                  </a:lnTo>
                  <a:lnTo>
                    <a:pt x="1058" y="653"/>
                  </a:lnTo>
                  <a:lnTo>
                    <a:pt x="1063" y="658"/>
                  </a:lnTo>
                  <a:lnTo>
                    <a:pt x="1068" y="653"/>
                  </a:lnTo>
                  <a:lnTo>
                    <a:pt x="1068" y="643"/>
                  </a:lnTo>
                  <a:close/>
                  <a:moveTo>
                    <a:pt x="1647" y="589"/>
                  </a:moveTo>
                  <a:lnTo>
                    <a:pt x="1642" y="584"/>
                  </a:lnTo>
                  <a:lnTo>
                    <a:pt x="1632" y="584"/>
                  </a:lnTo>
                  <a:lnTo>
                    <a:pt x="1627" y="579"/>
                  </a:lnTo>
                  <a:lnTo>
                    <a:pt x="1622" y="579"/>
                  </a:lnTo>
                  <a:lnTo>
                    <a:pt x="1617" y="574"/>
                  </a:lnTo>
                  <a:lnTo>
                    <a:pt x="1612" y="569"/>
                  </a:lnTo>
                  <a:lnTo>
                    <a:pt x="1612" y="564"/>
                  </a:lnTo>
                  <a:lnTo>
                    <a:pt x="1607" y="559"/>
                  </a:lnTo>
                  <a:lnTo>
                    <a:pt x="1612" y="554"/>
                  </a:lnTo>
                  <a:lnTo>
                    <a:pt x="1617" y="549"/>
                  </a:lnTo>
                  <a:lnTo>
                    <a:pt x="1622" y="549"/>
                  </a:lnTo>
                  <a:lnTo>
                    <a:pt x="1627" y="544"/>
                  </a:lnTo>
                  <a:lnTo>
                    <a:pt x="1632" y="539"/>
                  </a:lnTo>
                  <a:lnTo>
                    <a:pt x="1637" y="539"/>
                  </a:lnTo>
                  <a:lnTo>
                    <a:pt x="1642" y="534"/>
                  </a:lnTo>
                  <a:lnTo>
                    <a:pt x="1647" y="529"/>
                  </a:lnTo>
                  <a:lnTo>
                    <a:pt x="1652" y="524"/>
                  </a:lnTo>
                  <a:lnTo>
                    <a:pt x="1657" y="524"/>
                  </a:lnTo>
                  <a:lnTo>
                    <a:pt x="1662" y="519"/>
                  </a:lnTo>
                  <a:lnTo>
                    <a:pt x="1667" y="514"/>
                  </a:lnTo>
                  <a:lnTo>
                    <a:pt x="1672" y="514"/>
                  </a:lnTo>
                  <a:lnTo>
                    <a:pt x="1682" y="509"/>
                  </a:lnTo>
                  <a:lnTo>
                    <a:pt x="1687" y="509"/>
                  </a:lnTo>
                  <a:lnTo>
                    <a:pt x="1691" y="504"/>
                  </a:lnTo>
                  <a:lnTo>
                    <a:pt x="1696" y="500"/>
                  </a:lnTo>
                  <a:lnTo>
                    <a:pt x="1701" y="500"/>
                  </a:lnTo>
                  <a:lnTo>
                    <a:pt x="1711" y="495"/>
                  </a:lnTo>
                  <a:lnTo>
                    <a:pt x="1716" y="495"/>
                  </a:lnTo>
                  <a:lnTo>
                    <a:pt x="1726" y="495"/>
                  </a:lnTo>
                  <a:lnTo>
                    <a:pt x="1731" y="495"/>
                  </a:lnTo>
                  <a:lnTo>
                    <a:pt x="1736" y="500"/>
                  </a:lnTo>
                  <a:lnTo>
                    <a:pt x="1741" y="504"/>
                  </a:lnTo>
                  <a:lnTo>
                    <a:pt x="1746" y="509"/>
                  </a:lnTo>
                  <a:lnTo>
                    <a:pt x="1746" y="514"/>
                  </a:lnTo>
                  <a:lnTo>
                    <a:pt x="1746" y="519"/>
                  </a:lnTo>
                  <a:lnTo>
                    <a:pt x="1741" y="524"/>
                  </a:lnTo>
                  <a:lnTo>
                    <a:pt x="1741" y="529"/>
                  </a:lnTo>
                  <a:lnTo>
                    <a:pt x="1736" y="534"/>
                  </a:lnTo>
                  <a:lnTo>
                    <a:pt x="1736" y="539"/>
                  </a:lnTo>
                  <a:lnTo>
                    <a:pt x="1731" y="544"/>
                  </a:lnTo>
                  <a:lnTo>
                    <a:pt x="1731" y="544"/>
                  </a:lnTo>
                  <a:lnTo>
                    <a:pt x="1731" y="549"/>
                  </a:lnTo>
                  <a:lnTo>
                    <a:pt x="1726" y="554"/>
                  </a:lnTo>
                  <a:lnTo>
                    <a:pt x="1726" y="559"/>
                  </a:lnTo>
                  <a:lnTo>
                    <a:pt x="1721" y="564"/>
                  </a:lnTo>
                  <a:lnTo>
                    <a:pt x="1716" y="569"/>
                  </a:lnTo>
                  <a:lnTo>
                    <a:pt x="1706" y="569"/>
                  </a:lnTo>
                  <a:lnTo>
                    <a:pt x="1701" y="574"/>
                  </a:lnTo>
                  <a:lnTo>
                    <a:pt x="1696" y="574"/>
                  </a:lnTo>
                  <a:lnTo>
                    <a:pt x="1687" y="579"/>
                  </a:lnTo>
                  <a:lnTo>
                    <a:pt x="1682" y="579"/>
                  </a:lnTo>
                  <a:lnTo>
                    <a:pt x="1677" y="579"/>
                  </a:lnTo>
                  <a:lnTo>
                    <a:pt x="1667" y="584"/>
                  </a:lnTo>
                  <a:lnTo>
                    <a:pt x="1662" y="584"/>
                  </a:lnTo>
                  <a:lnTo>
                    <a:pt x="1657" y="584"/>
                  </a:lnTo>
                  <a:lnTo>
                    <a:pt x="1647" y="589"/>
                  </a:lnTo>
                  <a:close/>
                  <a:moveTo>
                    <a:pt x="1236" y="480"/>
                  </a:moveTo>
                  <a:lnTo>
                    <a:pt x="1232" y="475"/>
                  </a:lnTo>
                  <a:lnTo>
                    <a:pt x="1227" y="475"/>
                  </a:lnTo>
                  <a:lnTo>
                    <a:pt x="1227" y="475"/>
                  </a:lnTo>
                  <a:lnTo>
                    <a:pt x="1227" y="475"/>
                  </a:lnTo>
                  <a:lnTo>
                    <a:pt x="1222" y="475"/>
                  </a:lnTo>
                  <a:lnTo>
                    <a:pt x="1222" y="475"/>
                  </a:lnTo>
                  <a:lnTo>
                    <a:pt x="1222" y="480"/>
                  </a:lnTo>
                  <a:lnTo>
                    <a:pt x="1222" y="480"/>
                  </a:lnTo>
                  <a:lnTo>
                    <a:pt x="1222" y="485"/>
                  </a:lnTo>
                  <a:lnTo>
                    <a:pt x="1222" y="485"/>
                  </a:lnTo>
                  <a:lnTo>
                    <a:pt x="1227" y="485"/>
                  </a:lnTo>
                  <a:lnTo>
                    <a:pt x="1227" y="485"/>
                  </a:lnTo>
                  <a:lnTo>
                    <a:pt x="1232" y="485"/>
                  </a:lnTo>
                  <a:lnTo>
                    <a:pt x="1236" y="480"/>
                  </a:lnTo>
                  <a:close/>
                  <a:moveTo>
                    <a:pt x="1598" y="455"/>
                  </a:moveTo>
                  <a:lnTo>
                    <a:pt x="1598" y="450"/>
                  </a:lnTo>
                  <a:lnTo>
                    <a:pt x="1593" y="455"/>
                  </a:lnTo>
                  <a:lnTo>
                    <a:pt x="1588" y="455"/>
                  </a:lnTo>
                  <a:lnTo>
                    <a:pt x="1588" y="460"/>
                  </a:lnTo>
                  <a:lnTo>
                    <a:pt x="1593" y="465"/>
                  </a:lnTo>
                  <a:lnTo>
                    <a:pt x="1593" y="465"/>
                  </a:lnTo>
                  <a:lnTo>
                    <a:pt x="1593" y="470"/>
                  </a:lnTo>
                  <a:lnTo>
                    <a:pt x="1598" y="470"/>
                  </a:lnTo>
                  <a:lnTo>
                    <a:pt x="1598" y="470"/>
                  </a:lnTo>
                  <a:lnTo>
                    <a:pt x="1598" y="470"/>
                  </a:lnTo>
                  <a:lnTo>
                    <a:pt x="1598" y="465"/>
                  </a:lnTo>
                  <a:lnTo>
                    <a:pt x="1598" y="465"/>
                  </a:lnTo>
                  <a:lnTo>
                    <a:pt x="1598" y="460"/>
                  </a:lnTo>
                  <a:lnTo>
                    <a:pt x="1598" y="455"/>
                  </a:lnTo>
                  <a:close/>
                  <a:moveTo>
                    <a:pt x="1143" y="425"/>
                  </a:moveTo>
                  <a:lnTo>
                    <a:pt x="1143" y="425"/>
                  </a:lnTo>
                  <a:lnTo>
                    <a:pt x="1143" y="420"/>
                  </a:lnTo>
                  <a:lnTo>
                    <a:pt x="1143" y="420"/>
                  </a:lnTo>
                  <a:lnTo>
                    <a:pt x="1143" y="420"/>
                  </a:lnTo>
                  <a:lnTo>
                    <a:pt x="1143" y="420"/>
                  </a:lnTo>
                  <a:lnTo>
                    <a:pt x="1143" y="420"/>
                  </a:lnTo>
                  <a:lnTo>
                    <a:pt x="1143" y="420"/>
                  </a:lnTo>
                  <a:lnTo>
                    <a:pt x="1143" y="420"/>
                  </a:lnTo>
                  <a:lnTo>
                    <a:pt x="1138" y="420"/>
                  </a:lnTo>
                  <a:lnTo>
                    <a:pt x="1138" y="425"/>
                  </a:lnTo>
                  <a:lnTo>
                    <a:pt x="1138" y="425"/>
                  </a:lnTo>
                  <a:lnTo>
                    <a:pt x="1143" y="425"/>
                  </a:lnTo>
                  <a:lnTo>
                    <a:pt x="1143" y="425"/>
                  </a:lnTo>
                  <a:lnTo>
                    <a:pt x="1143" y="425"/>
                  </a:lnTo>
                  <a:close/>
                  <a:moveTo>
                    <a:pt x="1261" y="425"/>
                  </a:moveTo>
                  <a:lnTo>
                    <a:pt x="1256" y="420"/>
                  </a:lnTo>
                  <a:lnTo>
                    <a:pt x="1256" y="416"/>
                  </a:lnTo>
                  <a:lnTo>
                    <a:pt x="1251" y="411"/>
                  </a:lnTo>
                  <a:lnTo>
                    <a:pt x="1251" y="411"/>
                  </a:lnTo>
                  <a:lnTo>
                    <a:pt x="1246" y="411"/>
                  </a:lnTo>
                  <a:lnTo>
                    <a:pt x="1246" y="416"/>
                  </a:lnTo>
                  <a:lnTo>
                    <a:pt x="1246" y="420"/>
                  </a:lnTo>
                  <a:lnTo>
                    <a:pt x="1246" y="425"/>
                  </a:lnTo>
                  <a:lnTo>
                    <a:pt x="1246" y="430"/>
                  </a:lnTo>
                  <a:lnTo>
                    <a:pt x="1246" y="435"/>
                  </a:lnTo>
                  <a:lnTo>
                    <a:pt x="1251" y="440"/>
                  </a:lnTo>
                  <a:lnTo>
                    <a:pt x="1251" y="435"/>
                  </a:lnTo>
                  <a:lnTo>
                    <a:pt x="1256" y="435"/>
                  </a:lnTo>
                  <a:lnTo>
                    <a:pt x="1261" y="425"/>
                  </a:lnTo>
                  <a:close/>
                  <a:moveTo>
                    <a:pt x="1632" y="425"/>
                  </a:moveTo>
                  <a:lnTo>
                    <a:pt x="1632" y="420"/>
                  </a:lnTo>
                  <a:lnTo>
                    <a:pt x="1627" y="416"/>
                  </a:lnTo>
                  <a:lnTo>
                    <a:pt x="1622" y="416"/>
                  </a:lnTo>
                  <a:lnTo>
                    <a:pt x="1617" y="416"/>
                  </a:lnTo>
                  <a:lnTo>
                    <a:pt x="1612" y="420"/>
                  </a:lnTo>
                  <a:lnTo>
                    <a:pt x="1612" y="425"/>
                  </a:lnTo>
                  <a:lnTo>
                    <a:pt x="1612" y="435"/>
                  </a:lnTo>
                  <a:lnTo>
                    <a:pt x="1612" y="440"/>
                  </a:lnTo>
                  <a:lnTo>
                    <a:pt x="1617" y="440"/>
                  </a:lnTo>
                  <a:lnTo>
                    <a:pt x="1622" y="445"/>
                  </a:lnTo>
                  <a:lnTo>
                    <a:pt x="1627" y="445"/>
                  </a:lnTo>
                  <a:lnTo>
                    <a:pt x="1627" y="440"/>
                  </a:lnTo>
                  <a:lnTo>
                    <a:pt x="1632" y="435"/>
                  </a:lnTo>
                  <a:lnTo>
                    <a:pt x="1632" y="425"/>
                  </a:lnTo>
                  <a:close/>
                  <a:moveTo>
                    <a:pt x="208" y="371"/>
                  </a:moveTo>
                  <a:lnTo>
                    <a:pt x="183" y="371"/>
                  </a:lnTo>
                  <a:lnTo>
                    <a:pt x="183" y="396"/>
                  </a:lnTo>
                  <a:lnTo>
                    <a:pt x="208" y="371"/>
                  </a:lnTo>
                  <a:close/>
                  <a:moveTo>
                    <a:pt x="1286" y="371"/>
                  </a:moveTo>
                  <a:lnTo>
                    <a:pt x="1281" y="371"/>
                  </a:lnTo>
                  <a:lnTo>
                    <a:pt x="1281" y="371"/>
                  </a:lnTo>
                  <a:lnTo>
                    <a:pt x="1276" y="371"/>
                  </a:lnTo>
                  <a:lnTo>
                    <a:pt x="1276" y="371"/>
                  </a:lnTo>
                  <a:lnTo>
                    <a:pt x="1276" y="371"/>
                  </a:lnTo>
                  <a:lnTo>
                    <a:pt x="1276" y="376"/>
                  </a:lnTo>
                  <a:lnTo>
                    <a:pt x="1276" y="376"/>
                  </a:lnTo>
                  <a:lnTo>
                    <a:pt x="1276" y="376"/>
                  </a:lnTo>
                  <a:lnTo>
                    <a:pt x="1276" y="376"/>
                  </a:lnTo>
                  <a:lnTo>
                    <a:pt x="1276" y="376"/>
                  </a:lnTo>
                  <a:lnTo>
                    <a:pt x="1281" y="376"/>
                  </a:lnTo>
                  <a:lnTo>
                    <a:pt x="1281" y="376"/>
                  </a:lnTo>
                  <a:lnTo>
                    <a:pt x="1281" y="376"/>
                  </a:lnTo>
                  <a:lnTo>
                    <a:pt x="1286" y="371"/>
                  </a:lnTo>
                  <a:close/>
                  <a:moveTo>
                    <a:pt x="1499" y="371"/>
                  </a:moveTo>
                  <a:lnTo>
                    <a:pt x="1494" y="371"/>
                  </a:lnTo>
                  <a:lnTo>
                    <a:pt x="1489" y="371"/>
                  </a:lnTo>
                  <a:lnTo>
                    <a:pt x="1484" y="371"/>
                  </a:lnTo>
                  <a:lnTo>
                    <a:pt x="1479" y="371"/>
                  </a:lnTo>
                  <a:lnTo>
                    <a:pt x="1474" y="371"/>
                  </a:lnTo>
                  <a:lnTo>
                    <a:pt x="1474" y="371"/>
                  </a:lnTo>
                  <a:lnTo>
                    <a:pt x="1469" y="371"/>
                  </a:lnTo>
                  <a:lnTo>
                    <a:pt x="1474" y="376"/>
                  </a:lnTo>
                  <a:lnTo>
                    <a:pt x="1474" y="376"/>
                  </a:lnTo>
                  <a:lnTo>
                    <a:pt x="1479" y="376"/>
                  </a:lnTo>
                  <a:lnTo>
                    <a:pt x="1484" y="376"/>
                  </a:lnTo>
                  <a:lnTo>
                    <a:pt x="1489" y="376"/>
                  </a:lnTo>
                  <a:lnTo>
                    <a:pt x="1494" y="376"/>
                  </a:lnTo>
                  <a:lnTo>
                    <a:pt x="1499" y="371"/>
                  </a:lnTo>
                  <a:close/>
                  <a:moveTo>
                    <a:pt x="871" y="267"/>
                  </a:moveTo>
                  <a:lnTo>
                    <a:pt x="875" y="262"/>
                  </a:lnTo>
                  <a:lnTo>
                    <a:pt x="880" y="257"/>
                  </a:lnTo>
                  <a:lnTo>
                    <a:pt x="885" y="252"/>
                  </a:lnTo>
                  <a:lnTo>
                    <a:pt x="890" y="247"/>
                  </a:lnTo>
                  <a:lnTo>
                    <a:pt x="895" y="247"/>
                  </a:lnTo>
                  <a:lnTo>
                    <a:pt x="900" y="243"/>
                  </a:lnTo>
                  <a:lnTo>
                    <a:pt x="905" y="238"/>
                  </a:lnTo>
                  <a:lnTo>
                    <a:pt x="910" y="233"/>
                  </a:lnTo>
                  <a:lnTo>
                    <a:pt x="915" y="228"/>
                  </a:lnTo>
                  <a:lnTo>
                    <a:pt x="920" y="223"/>
                  </a:lnTo>
                  <a:lnTo>
                    <a:pt x="920" y="218"/>
                  </a:lnTo>
                  <a:lnTo>
                    <a:pt x="925" y="213"/>
                  </a:lnTo>
                  <a:lnTo>
                    <a:pt x="930" y="208"/>
                  </a:lnTo>
                  <a:lnTo>
                    <a:pt x="935" y="208"/>
                  </a:lnTo>
                  <a:lnTo>
                    <a:pt x="940" y="198"/>
                  </a:lnTo>
                  <a:lnTo>
                    <a:pt x="945" y="193"/>
                  </a:lnTo>
                  <a:lnTo>
                    <a:pt x="950" y="193"/>
                  </a:lnTo>
                  <a:lnTo>
                    <a:pt x="955" y="188"/>
                  </a:lnTo>
                  <a:lnTo>
                    <a:pt x="960" y="183"/>
                  </a:lnTo>
                  <a:lnTo>
                    <a:pt x="969" y="183"/>
                  </a:lnTo>
                  <a:lnTo>
                    <a:pt x="974" y="178"/>
                  </a:lnTo>
                  <a:lnTo>
                    <a:pt x="979" y="173"/>
                  </a:lnTo>
                  <a:lnTo>
                    <a:pt x="984" y="173"/>
                  </a:lnTo>
                  <a:lnTo>
                    <a:pt x="994" y="168"/>
                  </a:lnTo>
                  <a:lnTo>
                    <a:pt x="999" y="163"/>
                  </a:lnTo>
                  <a:lnTo>
                    <a:pt x="1004" y="163"/>
                  </a:lnTo>
                  <a:lnTo>
                    <a:pt x="1014" y="159"/>
                  </a:lnTo>
                  <a:lnTo>
                    <a:pt x="1019" y="159"/>
                  </a:lnTo>
                  <a:lnTo>
                    <a:pt x="1029" y="159"/>
                  </a:lnTo>
                  <a:lnTo>
                    <a:pt x="1034" y="159"/>
                  </a:lnTo>
                  <a:lnTo>
                    <a:pt x="1044" y="154"/>
                  </a:lnTo>
                  <a:lnTo>
                    <a:pt x="1053" y="154"/>
                  </a:lnTo>
                  <a:lnTo>
                    <a:pt x="1058" y="149"/>
                  </a:lnTo>
                  <a:lnTo>
                    <a:pt x="1068" y="149"/>
                  </a:lnTo>
                  <a:lnTo>
                    <a:pt x="1073" y="154"/>
                  </a:lnTo>
                  <a:lnTo>
                    <a:pt x="1078" y="154"/>
                  </a:lnTo>
                  <a:lnTo>
                    <a:pt x="1088" y="159"/>
                  </a:lnTo>
                  <a:lnTo>
                    <a:pt x="1088" y="163"/>
                  </a:lnTo>
                  <a:lnTo>
                    <a:pt x="1078" y="163"/>
                  </a:lnTo>
                  <a:lnTo>
                    <a:pt x="1073" y="168"/>
                  </a:lnTo>
                  <a:lnTo>
                    <a:pt x="1068" y="168"/>
                  </a:lnTo>
                  <a:lnTo>
                    <a:pt x="1058" y="168"/>
                  </a:lnTo>
                  <a:lnTo>
                    <a:pt x="1049" y="168"/>
                  </a:lnTo>
                  <a:lnTo>
                    <a:pt x="1044" y="168"/>
                  </a:lnTo>
                  <a:lnTo>
                    <a:pt x="1034" y="168"/>
                  </a:lnTo>
                  <a:lnTo>
                    <a:pt x="1034" y="168"/>
                  </a:lnTo>
                  <a:lnTo>
                    <a:pt x="1034" y="173"/>
                  </a:lnTo>
                  <a:lnTo>
                    <a:pt x="1034" y="183"/>
                  </a:lnTo>
                  <a:lnTo>
                    <a:pt x="1034" y="188"/>
                  </a:lnTo>
                  <a:lnTo>
                    <a:pt x="1034" y="198"/>
                  </a:lnTo>
                  <a:lnTo>
                    <a:pt x="1029" y="203"/>
                  </a:lnTo>
                  <a:lnTo>
                    <a:pt x="1029" y="208"/>
                  </a:lnTo>
                  <a:lnTo>
                    <a:pt x="1019" y="213"/>
                  </a:lnTo>
                  <a:lnTo>
                    <a:pt x="1014" y="213"/>
                  </a:lnTo>
                  <a:lnTo>
                    <a:pt x="1004" y="213"/>
                  </a:lnTo>
                  <a:lnTo>
                    <a:pt x="994" y="208"/>
                  </a:lnTo>
                  <a:lnTo>
                    <a:pt x="984" y="208"/>
                  </a:lnTo>
                  <a:lnTo>
                    <a:pt x="984" y="213"/>
                  </a:lnTo>
                  <a:lnTo>
                    <a:pt x="979" y="218"/>
                  </a:lnTo>
                  <a:lnTo>
                    <a:pt x="974" y="223"/>
                  </a:lnTo>
                  <a:lnTo>
                    <a:pt x="969" y="228"/>
                  </a:lnTo>
                  <a:lnTo>
                    <a:pt x="964" y="233"/>
                  </a:lnTo>
                  <a:lnTo>
                    <a:pt x="960" y="238"/>
                  </a:lnTo>
                  <a:lnTo>
                    <a:pt x="955" y="243"/>
                  </a:lnTo>
                  <a:lnTo>
                    <a:pt x="950" y="247"/>
                  </a:lnTo>
                  <a:lnTo>
                    <a:pt x="950" y="252"/>
                  </a:lnTo>
                  <a:lnTo>
                    <a:pt x="945" y="257"/>
                  </a:lnTo>
                  <a:lnTo>
                    <a:pt x="940" y="262"/>
                  </a:lnTo>
                  <a:lnTo>
                    <a:pt x="935" y="262"/>
                  </a:lnTo>
                  <a:lnTo>
                    <a:pt x="930" y="262"/>
                  </a:lnTo>
                  <a:lnTo>
                    <a:pt x="920" y="257"/>
                  </a:lnTo>
                  <a:lnTo>
                    <a:pt x="915" y="252"/>
                  </a:lnTo>
                  <a:lnTo>
                    <a:pt x="910" y="247"/>
                  </a:lnTo>
                  <a:lnTo>
                    <a:pt x="905" y="243"/>
                  </a:lnTo>
                  <a:lnTo>
                    <a:pt x="900" y="243"/>
                  </a:lnTo>
                  <a:lnTo>
                    <a:pt x="900" y="247"/>
                  </a:lnTo>
                  <a:lnTo>
                    <a:pt x="895" y="252"/>
                  </a:lnTo>
                  <a:lnTo>
                    <a:pt x="890" y="257"/>
                  </a:lnTo>
                  <a:lnTo>
                    <a:pt x="890" y="262"/>
                  </a:lnTo>
                  <a:lnTo>
                    <a:pt x="885" y="272"/>
                  </a:lnTo>
                  <a:lnTo>
                    <a:pt x="880" y="277"/>
                  </a:lnTo>
                  <a:lnTo>
                    <a:pt x="880" y="282"/>
                  </a:lnTo>
                  <a:lnTo>
                    <a:pt x="875" y="282"/>
                  </a:lnTo>
                  <a:lnTo>
                    <a:pt x="875" y="282"/>
                  </a:lnTo>
                  <a:lnTo>
                    <a:pt x="871" y="277"/>
                  </a:lnTo>
                  <a:lnTo>
                    <a:pt x="871" y="267"/>
                  </a:lnTo>
                  <a:close/>
                  <a:moveTo>
                    <a:pt x="1330" y="159"/>
                  </a:moveTo>
                  <a:lnTo>
                    <a:pt x="1330" y="154"/>
                  </a:lnTo>
                  <a:lnTo>
                    <a:pt x="1330" y="154"/>
                  </a:lnTo>
                  <a:lnTo>
                    <a:pt x="1330" y="149"/>
                  </a:lnTo>
                  <a:lnTo>
                    <a:pt x="1330" y="149"/>
                  </a:lnTo>
                  <a:lnTo>
                    <a:pt x="1330" y="144"/>
                  </a:lnTo>
                  <a:lnTo>
                    <a:pt x="1330" y="144"/>
                  </a:lnTo>
                  <a:lnTo>
                    <a:pt x="1330" y="144"/>
                  </a:lnTo>
                  <a:lnTo>
                    <a:pt x="1330" y="149"/>
                  </a:lnTo>
                  <a:lnTo>
                    <a:pt x="1330" y="149"/>
                  </a:lnTo>
                  <a:lnTo>
                    <a:pt x="1330" y="154"/>
                  </a:lnTo>
                  <a:lnTo>
                    <a:pt x="1330" y="154"/>
                  </a:lnTo>
                  <a:lnTo>
                    <a:pt x="1330" y="159"/>
                  </a:lnTo>
                  <a:lnTo>
                    <a:pt x="1330" y="159"/>
                  </a:lnTo>
                  <a:lnTo>
                    <a:pt x="1330" y="159"/>
                  </a:lnTo>
                  <a:close/>
                  <a:moveTo>
                    <a:pt x="1123" y="134"/>
                  </a:moveTo>
                  <a:lnTo>
                    <a:pt x="1128" y="129"/>
                  </a:lnTo>
                  <a:lnTo>
                    <a:pt x="1133" y="129"/>
                  </a:lnTo>
                  <a:lnTo>
                    <a:pt x="1138" y="129"/>
                  </a:lnTo>
                  <a:lnTo>
                    <a:pt x="1143" y="124"/>
                  </a:lnTo>
                  <a:lnTo>
                    <a:pt x="1147" y="124"/>
                  </a:lnTo>
                  <a:lnTo>
                    <a:pt x="1152" y="124"/>
                  </a:lnTo>
                  <a:lnTo>
                    <a:pt x="1162" y="129"/>
                  </a:lnTo>
                  <a:lnTo>
                    <a:pt x="1167" y="129"/>
                  </a:lnTo>
                  <a:lnTo>
                    <a:pt x="1172" y="129"/>
                  </a:lnTo>
                  <a:lnTo>
                    <a:pt x="1172" y="134"/>
                  </a:lnTo>
                  <a:lnTo>
                    <a:pt x="1167" y="134"/>
                  </a:lnTo>
                  <a:lnTo>
                    <a:pt x="1162" y="139"/>
                  </a:lnTo>
                  <a:lnTo>
                    <a:pt x="1157" y="139"/>
                  </a:lnTo>
                  <a:lnTo>
                    <a:pt x="1152" y="139"/>
                  </a:lnTo>
                  <a:lnTo>
                    <a:pt x="1147" y="144"/>
                  </a:lnTo>
                  <a:lnTo>
                    <a:pt x="1143" y="144"/>
                  </a:lnTo>
                  <a:lnTo>
                    <a:pt x="1138" y="139"/>
                  </a:lnTo>
                  <a:lnTo>
                    <a:pt x="1133" y="139"/>
                  </a:lnTo>
                  <a:lnTo>
                    <a:pt x="1128" y="139"/>
                  </a:lnTo>
                  <a:lnTo>
                    <a:pt x="1123" y="134"/>
                  </a:lnTo>
                  <a:close/>
                  <a:moveTo>
                    <a:pt x="1222" y="104"/>
                  </a:moveTo>
                  <a:lnTo>
                    <a:pt x="1227" y="104"/>
                  </a:lnTo>
                  <a:lnTo>
                    <a:pt x="1227" y="104"/>
                  </a:lnTo>
                  <a:lnTo>
                    <a:pt x="1232" y="104"/>
                  </a:lnTo>
                  <a:lnTo>
                    <a:pt x="1236" y="104"/>
                  </a:lnTo>
                  <a:lnTo>
                    <a:pt x="1241" y="99"/>
                  </a:lnTo>
                  <a:lnTo>
                    <a:pt x="1246" y="99"/>
                  </a:lnTo>
                  <a:lnTo>
                    <a:pt x="1246" y="104"/>
                  </a:lnTo>
                  <a:lnTo>
                    <a:pt x="1251" y="104"/>
                  </a:lnTo>
                  <a:lnTo>
                    <a:pt x="1256" y="104"/>
                  </a:lnTo>
                  <a:lnTo>
                    <a:pt x="1256" y="104"/>
                  </a:lnTo>
                  <a:lnTo>
                    <a:pt x="1256" y="109"/>
                  </a:lnTo>
                  <a:lnTo>
                    <a:pt x="1251" y="109"/>
                  </a:lnTo>
                  <a:lnTo>
                    <a:pt x="1246" y="109"/>
                  </a:lnTo>
                  <a:lnTo>
                    <a:pt x="1241" y="114"/>
                  </a:lnTo>
                  <a:lnTo>
                    <a:pt x="1236" y="114"/>
                  </a:lnTo>
                  <a:lnTo>
                    <a:pt x="1236" y="114"/>
                  </a:lnTo>
                  <a:lnTo>
                    <a:pt x="1232" y="109"/>
                  </a:lnTo>
                  <a:lnTo>
                    <a:pt x="1227" y="109"/>
                  </a:lnTo>
                  <a:lnTo>
                    <a:pt x="1222" y="109"/>
                  </a:lnTo>
                  <a:lnTo>
                    <a:pt x="1222" y="104"/>
                  </a:lnTo>
                  <a:close/>
                  <a:moveTo>
                    <a:pt x="1321" y="79"/>
                  </a:moveTo>
                  <a:lnTo>
                    <a:pt x="1321" y="79"/>
                  </a:lnTo>
                  <a:lnTo>
                    <a:pt x="1326" y="74"/>
                  </a:lnTo>
                  <a:lnTo>
                    <a:pt x="1330" y="74"/>
                  </a:lnTo>
                  <a:lnTo>
                    <a:pt x="1335" y="74"/>
                  </a:lnTo>
                  <a:lnTo>
                    <a:pt x="1335" y="74"/>
                  </a:lnTo>
                  <a:lnTo>
                    <a:pt x="1340" y="79"/>
                  </a:lnTo>
                  <a:lnTo>
                    <a:pt x="1340" y="79"/>
                  </a:lnTo>
                  <a:lnTo>
                    <a:pt x="1340" y="84"/>
                  </a:lnTo>
                  <a:lnTo>
                    <a:pt x="1335" y="84"/>
                  </a:lnTo>
                  <a:lnTo>
                    <a:pt x="1330" y="84"/>
                  </a:lnTo>
                  <a:lnTo>
                    <a:pt x="1326" y="84"/>
                  </a:lnTo>
                  <a:lnTo>
                    <a:pt x="1326" y="84"/>
                  </a:lnTo>
                  <a:lnTo>
                    <a:pt x="1321" y="84"/>
                  </a:lnTo>
                  <a:lnTo>
                    <a:pt x="1321" y="79"/>
                  </a:lnTo>
                  <a:close/>
                  <a:moveTo>
                    <a:pt x="2235" y="1656"/>
                  </a:moveTo>
                  <a:lnTo>
                    <a:pt x="2260" y="1631"/>
                  </a:lnTo>
                  <a:lnTo>
                    <a:pt x="2285" y="1631"/>
                  </a:lnTo>
                  <a:lnTo>
                    <a:pt x="2315" y="1631"/>
                  </a:lnTo>
                  <a:lnTo>
                    <a:pt x="2339" y="1631"/>
                  </a:lnTo>
                  <a:lnTo>
                    <a:pt x="2369" y="1631"/>
                  </a:lnTo>
                  <a:lnTo>
                    <a:pt x="2394" y="1631"/>
                  </a:lnTo>
                  <a:lnTo>
                    <a:pt x="2418" y="1631"/>
                  </a:lnTo>
                  <a:lnTo>
                    <a:pt x="2448" y="1602"/>
                  </a:lnTo>
                  <a:lnTo>
                    <a:pt x="2448" y="1577"/>
                  </a:lnTo>
                  <a:lnTo>
                    <a:pt x="2448" y="1547"/>
                  </a:lnTo>
                  <a:lnTo>
                    <a:pt x="2448" y="1523"/>
                  </a:lnTo>
                  <a:lnTo>
                    <a:pt x="2473" y="1498"/>
                  </a:lnTo>
                  <a:lnTo>
                    <a:pt x="2473" y="1468"/>
                  </a:lnTo>
                  <a:lnTo>
                    <a:pt x="2473" y="1444"/>
                  </a:lnTo>
                  <a:lnTo>
                    <a:pt x="2473" y="1414"/>
                  </a:lnTo>
                  <a:lnTo>
                    <a:pt x="2503" y="1389"/>
                  </a:lnTo>
                  <a:lnTo>
                    <a:pt x="2503" y="1364"/>
                  </a:lnTo>
                  <a:lnTo>
                    <a:pt x="2503" y="1335"/>
                  </a:lnTo>
                  <a:lnTo>
                    <a:pt x="2503" y="1310"/>
                  </a:lnTo>
                  <a:lnTo>
                    <a:pt x="2527" y="1280"/>
                  </a:lnTo>
                  <a:lnTo>
                    <a:pt x="2527" y="1256"/>
                  </a:lnTo>
                  <a:lnTo>
                    <a:pt x="2527" y="1226"/>
                  </a:lnTo>
                  <a:lnTo>
                    <a:pt x="2527" y="1201"/>
                  </a:lnTo>
                  <a:lnTo>
                    <a:pt x="2552" y="1177"/>
                  </a:lnTo>
                  <a:lnTo>
                    <a:pt x="2552" y="1147"/>
                  </a:lnTo>
                  <a:lnTo>
                    <a:pt x="2552" y="1122"/>
                  </a:lnTo>
                  <a:lnTo>
                    <a:pt x="2552" y="1093"/>
                  </a:lnTo>
                  <a:lnTo>
                    <a:pt x="2582" y="1068"/>
                  </a:lnTo>
                  <a:lnTo>
                    <a:pt x="2582" y="1043"/>
                  </a:lnTo>
                  <a:lnTo>
                    <a:pt x="2582" y="1014"/>
                  </a:lnTo>
                  <a:lnTo>
                    <a:pt x="2582" y="989"/>
                  </a:lnTo>
                  <a:lnTo>
                    <a:pt x="2582" y="959"/>
                  </a:lnTo>
                  <a:lnTo>
                    <a:pt x="2582" y="934"/>
                  </a:lnTo>
                  <a:lnTo>
                    <a:pt x="2582" y="910"/>
                  </a:lnTo>
                  <a:lnTo>
                    <a:pt x="2582" y="880"/>
                  </a:lnTo>
                  <a:lnTo>
                    <a:pt x="2582" y="855"/>
                  </a:lnTo>
                  <a:lnTo>
                    <a:pt x="2582" y="826"/>
                  </a:lnTo>
                  <a:lnTo>
                    <a:pt x="2582" y="801"/>
                  </a:lnTo>
                  <a:lnTo>
                    <a:pt x="2582" y="776"/>
                  </a:lnTo>
                  <a:lnTo>
                    <a:pt x="2582" y="747"/>
                  </a:lnTo>
                  <a:lnTo>
                    <a:pt x="2582" y="722"/>
                  </a:lnTo>
                  <a:lnTo>
                    <a:pt x="2582" y="692"/>
                  </a:lnTo>
                  <a:lnTo>
                    <a:pt x="2582" y="668"/>
                  </a:lnTo>
                  <a:lnTo>
                    <a:pt x="2582" y="643"/>
                  </a:lnTo>
                  <a:lnTo>
                    <a:pt x="2582" y="613"/>
                  </a:lnTo>
                  <a:lnTo>
                    <a:pt x="2582" y="589"/>
                  </a:lnTo>
                  <a:lnTo>
                    <a:pt x="2582" y="559"/>
                  </a:lnTo>
                  <a:lnTo>
                    <a:pt x="2582" y="534"/>
                  </a:lnTo>
                  <a:lnTo>
                    <a:pt x="2582" y="504"/>
                  </a:lnTo>
                  <a:lnTo>
                    <a:pt x="2582" y="480"/>
                  </a:lnTo>
                  <a:lnTo>
                    <a:pt x="2582" y="455"/>
                  </a:lnTo>
                  <a:lnTo>
                    <a:pt x="2582" y="425"/>
                  </a:lnTo>
                  <a:lnTo>
                    <a:pt x="2582" y="401"/>
                  </a:lnTo>
                  <a:lnTo>
                    <a:pt x="2582" y="371"/>
                  </a:lnTo>
                  <a:lnTo>
                    <a:pt x="2582" y="346"/>
                  </a:lnTo>
                  <a:lnTo>
                    <a:pt x="2582" y="322"/>
                  </a:lnTo>
                  <a:lnTo>
                    <a:pt x="2582" y="292"/>
                  </a:lnTo>
                  <a:lnTo>
                    <a:pt x="2582" y="267"/>
                  </a:lnTo>
                  <a:lnTo>
                    <a:pt x="2582" y="238"/>
                  </a:lnTo>
                  <a:lnTo>
                    <a:pt x="2552" y="213"/>
                  </a:lnTo>
                  <a:lnTo>
                    <a:pt x="2552" y="188"/>
                  </a:lnTo>
                  <a:lnTo>
                    <a:pt x="2552" y="159"/>
                  </a:lnTo>
                  <a:lnTo>
                    <a:pt x="2552" y="134"/>
                  </a:lnTo>
                  <a:lnTo>
                    <a:pt x="2552" y="104"/>
                  </a:lnTo>
                  <a:lnTo>
                    <a:pt x="2527" y="79"/>
                  </a:lnTo>
                  <a:lnTo>
                    <a:pt x="2503" y="79"/>
                  </a:lnTo>
                  <a:lnTo>
                    <a:pt x="2473" y="79"/>
                  </a:lnTo>
                  <a:lnTo>
                    <a:pt x="2448" y="55"/>
                  </a:lnTo>
                  <a:lnTo>
                    <a:pt x="2418" y="55"/>
                  </a:lnTo>
                  <a:lnTo>
                    <a:pt x="2394" y="55"/>
                  </a:lnTo>
                  <a:lnTo>
                    <a:pt x="2369" y="25"/>
                  </a:lnTo>
                  <a:lnTo>
                    <a:pt x="2339" y="25"/>
                  </a:lnTo>
                  <a:lnTo>
                    <a:pt x="2315" y="25"/>
                  </a:lnTo>
                  <a:lnTo>
                    <a:pt x="2285" y="0"/>
                  </a:lnTo>
                  <a:lnTo>
                    <a:pt x="2260" y="0"/>
                  </a:lnTo>
                  <a:lnTo>
                    <a:pt x="2235" y="0"/>
                  </a:lnTo>
                  <a:lnTo>
                    <a:pt x="2206" y="0"/>
                  </a:lnTo>
                  <a:lnTo>
                    <a:pt x="2181" y="0"/>
                  </a:lnTo>
                  <a:lnTo>
                    <a:pt x="2156" y="0"/>
                  </a:lnTo>
                  <a:lnTo>
                    <a:pt x="2127" y="0"/>
                  </a:lnTo>
                  <a:lnTo>
                    <a:pt x="2102" y="0"/>
                  </a:lnTo>
                  <a:lnTo>
                    <a:pt x="2072" y="0"/>
                  </a:lnTo>
                  <a:lnTo>
                    <a:pt x="2048" y="0"/>
                  </a:lnTo>
                  <a:lnTo>
                    <a:pt x="2023" y="0"/>
                  </a:lnTo>
                  <a:lnTo>
                    <a:pt x="1993" y="0"/>
                  </a:lnTo>
                  <a:lnTo>
                    <a:pt x="1968" y="0"/>
                  </a:lnTo>
                  <a:lnTo>
                    <a:pt x="1944" y="0"/>
                  </a:lnTo>
                  <a:lnTo>
                    <a:pt x="1914" y="0"/>
                  </a:lnTo>
                  <a:lnTo>
                    <a:pt x="1889" y="0"/>
                  </a:lnTo>
                  <a:lnTo>
                    <a:pt x="1860" y="0"/>
                  </a:lnTo>
                  <a:lnTo>
                    <a:pt x="1835" y="0"/>
                  </a:lnTo>
                  <a:lnTo>
                    <a:pt x="1810" y="0"/>
                  </a:lnTo>
                  <a:lnTo>
                    <a:pt x="1780" y="0"/>
                  </a:lnTo>
                  <a:lnTo>
                    <a:pt x="1756" y="0"/>
                  </a:lnTo>
                  <a:lnTo>
                    <a:pt x="1726" y="0"/>
                  </a:lnTo>
                  <a:lnTo>
                    <a:pt x="1701" y="0"/>
                  </a:lnTo>
                  <a:lnTo>
                    <a:pt x="1677" y="0"/>
                  </a:lnTo>
                  <a:lnTo>
                    <a:pt x="1647" y="0"/>
                  </a:lnTo>
                  <a:lnTo>
                    <a:pt x="1622" y="0"/>
                  </a:lnTo>
                  <a:lnTo>
                    <a:pt x="1598" y="0"/>
                  </a:lnTo>
                  <a:lnTo>
                    <a:pt x="1568" y="0"/>
                  </a:lnTo>
                  <a:lnTo>
                    <a:pt x="1543" y="0"/>
                  </a:lnTo>
                  <a:lnTo>
                    <a:pt x="1513" y="0"/>
                  </a:lnTo>
                  <a:lnTo>
                    <a:pt x="1489" y="0"/>
                  </a:lnTo>
                  <a:lnTo>
                    <a:pt x="1464" y="0"/>
                  </a:lnTo>
                  <a:lnTo>
                    <a:pt x="1434" y="0"/>
                  </a:lnTo>
                  <a:lnTo>
                    <a:pt x="1410" y="0"/>
                  </a:lnTo>
                  <a:lnTo>
                    <a:pt x="1385" y="0"/>
                  </a:lnTo>
                  <a:lnTo>
                    <a:pt x="1355" y="0"/>
                  </a:lnTo>
                  <a:lnTo>
                    <a:pt x="1330" y="0"/>
                  </a:lnTo>
                  <a:lnTo>
                    <a:pt x="1301" y="0"/>
                  </a:lnTo>
                  <a:lnTo>
                    <a:pt x="1276" y="0"/>
                  </a:lnTo>
                  <a:lnTo>
                    <a:pt x="1251" y="0"/>
                  </a:lnTo>
                  <a:lnTo>
                    <a:pt x="1222" y="0"/>
                  </a:lnTo>
                  <a:lnTo>
                    <a:pt x="1197" y="0"/>
                  </a:lnTo>
                  <a:lnTo>
                    <a:pt x="1172" y="0"/>
                  </a:lnTo>
                  <a:lnTo>
                    <a:pt x="1143" y="0"/>
                  </a:lnTo>
                  <a:lnTo>
                    <a:pt x="1118" y="0"/>
                  </a:lnTo>
                  <a:lnTo>
                    <a:pt x="1088" y="0"/>
                  </a:lnTo>
                  <a:lnTo>
                    <a:pt x="1063" y="0"/>
                  </a:lnTo>
                  <a:lnTo>
                    <a:pt x="1039" y="0"/>
                  </a:lnTo>
                  <a:lnTo>
                    <a:pt x="1009" y="0"/>
                  </a:lnTo>
                  <a:lnTo>
                    <a:pt x="984" y="0"/>
                  </a:lnTo>
                  <a:lnTo>
                    <a:pt x="955" y="0"/>
                  </a:lnTo>
                  <a:lnTo>
                    <a:pt x="930" y="0"/>
                  </a:lnTo>
                  <a:lnTo>
                    <a:pt x="905" y="0"/>
                  </a:lnTo>
                  <a:lnTo>
                    <a:pt x="875" y="0"/>
                  </a:lnTo>
                  <a:lnTo>
                    <a:pt x="851" y="0"/>
                  </a:lnTo>
                  <a:lnTo>
                    <a:pt x="826" y="0"/>
                  </a:lnTo>
                  <a:lnTo>
                    <a:pt x="796" y="0"/>
                  </a:lnTo>
                  <a:lnTo>
                    <a:pt x="772" y="0"/>
                  </a:lnTo>
                  <a:lnTo>
                    <a:pt x="742" y="0"/>
                  </a:lnTo>
                  <a:lnTo>
                    <a:pt x="717" y="0"/>
                  </a:lnTo>
                  <a:lnTo>
                    <a:pt x="692" y="0"/>
                  </a:lnTo>
                  <a:lnTo>
                    <a:pt x="663" y="0"/>
                  </a:lnTo>
                  <a:lnTo>
                    <a:pt x="638" y="0"/>
                  </a:lnTo>
                  <a:lnTo>
                    <a:pt x="613" y="0"/>
                  </a:lnTo>
                  <a:lnTo>
                    <a:pt x="584" y="25"/>
                  </a:lnTo>
                  <a:lnTo>
                    <a:pt x="559" y="55"/>
                  </a:lnTo>
                  <a:lnTo>
                    <a:pt x="529" y="79"/>
                  </a:lnTo>
                  <a:lnTo>
                    <a:pt x="505" y="104"/>
                  </a:lnTo>
                  <a:lnTo>
                    <a:pt x="480" y="134"/>
                  </a:lnTo>
                  <a:lnTo>
                    <a:pt x="450" y="134"/>
                  </a:lnTo>
                  <a:lnTo>
                    <a:pt x="425" y="159"/>
                  </a:lnTo>
                  <a:lnTo>
                    <a:pt x="396" y="188"/>
                  </a:lnTo>
                  <a:lnTo>
                    <a:pt x="371" y="213"/>
                  </a:lnTo>
                  <a:lnTo>
                    <a:pt x="346" y="238"/>
                  </a:lnTo>
                  <a:lnTo>
                    <a:pt x="317" y="267"/>
                  </a:lnTo>
                  <a:lnTo>
                    <a:pt x="292" y="292"/>
                  </a:lnTo>
                  <a:lnTo>
                    <a:pt x="267" y="322"/>
                  </a:lnTo>
                  <a:lnTo>
                    <a:pt x="237" y="322"/>
                  </a:lnTo>
                  <a:lnTo>
                    <a:pt x="213" y="346"/>
                  </a:lnTo>
                  <a:lnTo>
                    <a:pt x="183" y="371"/>
                  </a:lnTo>
                  <a:lnTo>
                    <a:pt x="158" y="401"/>
                  </a:lnTo>
                  <a:lnTo>
                    <a:pt x="134" y="425"/>
                  </a:lnTo>
                  <a:lnTo>
                    <a:pt x="104" y="455"/>
                  </a:lnTo>
                  <a:lnTo>
                    <a:pt x="79" y="480"/>
                  </a:lnTo>
                  <a:lnTo>
                    <a:pt x="55" y="504"/>
                  </a:lnTo>
                  <a:lnTo>
                    <a:pt x="25" y="504"/>
                  </a:lnTo>
                  <a:lnTo>
                    <a:pt x="0" y="534"/>
                  </a:lnTo>
                  <a:lnTo>
                    <a:pt x="0" y="559"/>
                  </a:lnTo>
                  <a:lnTo>
                    <a:pt x="0" y="589"/>
                  </a:lnTo>
                  <a:lnTo>
                    <a:pt x="0" y="613"/>
                  </a:lnTo>
                  <a:lnTo>
                    <a:pt x="25" y="643"/>
                  </a:lnTo>
                  <a:lnTo>
                    <a:pt x="25" y="668"/>
                  </a:lnTo>
                  <a:lnTo>
                    <a:pt x="55" y="692"/>
                  </a:lnTo>
                  <a:lnTo>
                    <a:pt x="79" y="722"/>
                  </a:lnTo>
                  <a:lnTo>
                    <a:pt x="104" y="747"/>
                  </a:lnTo>
                  <a:lnTo>
                    <a:pt x="134" y="776"/>
                  </a:lnTo>
                  <a:lnTo>
                    <a:pt x="134" y="801"/>
                  </a:lnTo>
                  <a:lnTo>
                    <a:pt x="158" y="826"/>
                  </a:lnTo>
                  <a:lnTo>
                    <a:pt x="183" y="855"/>
                  </a:lnTo>
                  <a:lnTo>
                    <a:pt x="213" y="880"/>
                  </a:lnTo>
                  <a:lnTo>
                    <a:pt x="237" y="910"/>
                  </a:lnTo>
                  <a:lnTo>
                    <a:pt x="267" y="934"/>
                  </a:lnTo>
                  <a:lnTo>
                    <a:pt x="292" y="959"/>
                  </a:lnTo>
                  <a:lnTo>
                    <a:pt x="292" y="989"/>
                  </a:lnTo>
                  <a:lnTo>
                    <a:pt x="317" y="1014"/>
                  </a:lnTo>
                  <a:lnTo>
                    <a:pt x="346" y="1043"/>
                  </a:lnTo>
                  <a:lnTo>
                    <a:pt x="371" y="1068"/>
                  </a:lnTo>
                  <a:lnTo>
                    <a:pt x="396" y="1093"/>
                  </a:lnTo>
                  <a:lnTo>
                    <a:pt x="425" y="1122"/>
                  </a:lnTo>
                  <a:lnTo>
                    <a:pt x="450" y="1147"/>
                  </a:lnTo>
                  <a:lnTo>
                    <a:pt x="480" y="1177"/>
                  </a:lnTo>
                  <a:lnTo>
                    <a:pt x="505" y="1201"/>
                  </a:lnTo>
                  <a:lnTo>
                    <a:pt x="529" y="1226"/>
                  </a:lnTo>
                  <a:lnTo>
                    <a:pt x="559" y="1256"/>
                  </a:lnTo>
                  <a:lnTo>
                    <a:pt x="584" y="1280"/>
                  </a:lnTo>
                  <a:lnTo>
                    <a:pt x="613" y="1310"/>
                  </a:lnTo>
                  <a:lnTo>
                    <a:pt x="638" y="1335"/>
                  </a:lnTo>
                  <a:lnTo>
                    <a:pt x="663" y="1364"/>
                  </a:lnTo>
                  <a:lnTo>
                    <a:pt x="692" y="1389"/>
                  </a:lnTo>
                  <a:lnTo>
                    <a:pt x="717" y="1414"/>
                  </a:lnTo>
                  <a:lnTo>
                    <a:pt x="742" y="1444"/>
                  </a:lnTo>
                  <a:lnTo>
                    <a:pt x="772" y="1468"/>
                  </a:lnTo>
                  <a:lnTo>
                    <a:pt x="796" y="1468"/>
                  </a:lnTo>
                  <a:lnTo>
                    <a:pt x="826" y="1498"/>
                  </a:lnTo>
                  <a:lnTo>
                    <a:pt x="851" y="1523"/>
                  </a:lnTo>
                  <a:lnTo>
                    <a:pt x="875" y="1547"/>
                  </a:lnTo>
                  <a:lnTo>
                    <a:pt x="905" y="1577"/>
                  </a:lnTo>
                  <a:lnTo>
                    <a:pt x="930" y="1602"/>
                  </a:lnTo>
                  <a:lnTo>
                    <a:pt x="955" y="1631"/>
                  </a:lnTo>
                  <a:lnTo>
                    <a:pt x="984" y="1656"/>
                  </a:lnTo>
                  <a:lnTo>
                    <a:pt x="1009" y="1656"/>
                  </a:lnTo>
                  <a:lnTo>
                    <a:pt x="1039" y="1656"/>
                  </a:lnTo>
                  <a:lnTo>
                    <a:pt x="1063" y="1656"/>
                  </a:lnTo>
                  <a:lnTo>
                    <a:pt x="1088" y="1656"/>
                  </a:lnTo>
                  <a:lnTo>
                    <a:pt x="1118" y="1656"/>
                  </a:lnTo>
                  <a:lnTo>
                    <a:pt x="1143" y="1656"/>
                  </a:lnTo>
                  <a:lnTo>
                    <a:pt x="1172" y="1656"/>
                  </a:lnTo>
                  <a:lnTo>
                    <a:pt x="1197" y="1656"/>
                  </a:lnTo>
                  <a:lnTo>
                    <a:pt x="1222" y="1656"/>
                  </a:lnTo>
                  <a:lnTo>
                    <a:pt x="1251" y="1656"/>
                  </a:lnTo>
                  <a:lnTo>
                    <a:pt x="1276" y="1656"/>
                  </a:lnTo>
                  <a:lnTo>
                    <a:pt x="1301" y="1656"/>
                  </a:lnTo>
                  <a:lnTo>
                    <a:pt x="1330" y="1656"/>
                  </a:lnTo>
                  <a:lnTo>
                    <a:pt x="1355" y="1656"/>
                  </a:lnTo>
                  <a:lnTo>
                    <a:pt x="1385" y="1656"/>
                  </a:lnTo>
                  <a:lnTo>
                    <a:pt x="1410" y="1656"/>
                  </a:lnTo>
                  <a:lnTo>
                    <a:pt x="1434" y="1656"/>
                  </a:lnTo>
                  <a:lnTo>
                    <a:pt x="1464" y="1656"/>
                  </a:lnTo>
                  <a:lnTo>
                    <a:pt x="1489" y="1656"/>
                  </a:lnTo>
                  <a:lnTo>
                    <a:pt x="1513" y="1656"/>
                  </a:lnTo>
                  <a:lnTo>
                    <a:pt x="1543" y="1656"/>
                  </a:lnTo>
                  <a:lnTo>
                    <a:pt x="1568" y="1656"/>
                  </a:lnTo>
                  <a:lnTo>
                    <a:pt x="1598" y="1656"/>
                  </a:lnTo>
                  <a:lnTo>
                    <a:pt x="1622" y="1656"/>
                  </a:lnTo>
                  <a:lnTo>
                    <a:pt x="1647" y="1656"/>
                  </a:lnTo>
                  <a:lnTo>
                    <a:pt x="1677" y="1656"/>
                  </a:lnTo>
                  <a:lnTo>
                    <a:pt x="1701" y="1656"/>
                  </a:lnTo>
                  <a:lnTo>
                    <a:pt x="1726" y="1656"/>
                  </a:lnTo>
                  <a:lnTo>
                    <a:pt x="1756" y="1656"/>
                  </a:lnTo>
                  <a:lnTo>
                    <a:pt x="1780" y="1656"/>
                  </a:lnTo>
                  <a:lnTo>
                    <a:pt x="1810" y="1656"/>
                  </a:lnTo>
                  <a:lnTo>
                    <a:pt x="1835" y="1656"/>
                  </a:lnTo>
                  <a:lnTo>
                    <a:pt x="1860" y="1656"/>
                  </a:lnTo>
                  <a:lnTo>
                    <a:pt x="1889" y="1656"/>
                  </a:lnTo>
                  <a:lnTo>
                    <a:pt x="1914" y="1656"/>
                  </a:lnTo>
                  <a:lnTo>
                    <a:pt x="1944" y="1656"/>
                  </a:lnTo>
                  <a:lnTo>
                    <a:pt x="1968" y="1656"/>
                  </a:lnTo>
                  <a:lnTo>
                    <a:pt x="1993" y="1656"/>
                  </a:lnTo>
                  <a:lnTo>
                    <a:pt x="2023" y="1656"/>
                  </a:lnTo>
                  <a:lnTo>
                    <a:pt x="2048" y="1656"/>
                  </a:lnTo>
                  <a:lnTo>
                    <a:pt x="2072" y="1656"/>
                  </a:lnTo>
                  <a:lnTo>
                    <a:pt x="2102" y="1656"/>
                  </a:lnTo>
                  <a:lnTo>
                    <a:pt x="2127" y="1656"/>
                  </a:lnTo>
                  <a:lnTo>
                    <a:pt x="2156" y="1656"/>
                  </a:lnTo>
                  <a:lnTo>
                    <a:pt x="2181" y="1656"/>
                  </a:lnTo>
                  <a:lnTo>
                    <a:pt x="2206" y="1656"/>
                  </a:lnTo>
                  <a:lnTo>
                    <a:pt x="2235" y="1656"/>
                  </a:lnTo>
                  <a:close/>
                  <a:moveTo>
                    <a:pt x="945" y="934"/>
                  </a:moveTo>
                  <a:lnTo>
                    <a:pt x="950" y="930"/>
                  </a:lnTo>
                  <a:lnTo>
                    <a:pt x="950" y="925"/>
                  </a:lnTo>
                  <a:lnTo>
                    <a:pt x="955" y="925"/>
                  </a:lnTo>
                  <a:lnTo>
                    <a:pt x="955" y="925"/>
                  </a:lnTo>
                  <a:lnTo>
                    <a:pt x="960" y="920"/>
                  </a:lnTo>
                  <a:lnTo>
                    <a:pt x="964" y="920"/>
                  </a:lnTo>
                  <a:lnTo>
                    <a:pt x="969" y="925"/>
                  </a:lnTo>
                  <a:lnTo>
                    <a:pt x="974" y="925"/>
                  </a:lnTo>
                  <a:lnTo>
                    <a:pt x="979" y="930"/>
                  </a:lnTo>
                  <a:lnTo>
                    <a:pt x="979" y="930"/>
                  </a:lnTo>
                  <a:lnTo>
                    <a:pt x="984" y="934"/>
                  </a:lnTo>
                  <a:lnTo>
                    <a:pt x="984" y="934"/>
                  </a:lnTo>
                  <a:lnTo>
                    <a:pt x="979" y="939"/>
                  </a:lnTo>
                  <a:lnTo>
                    <a:pt x="974" y="939"/>
                  </a:lnTo>
                  <a:lnTo>
                    <a:pt x="969" y="939"/>
                  </a:lnTo>
                  <a:lnTo>
                    <a:pt x="964" y="939"/>
                  </a:lnTo>
                  <a:lnTo>
                    <a:pt x="960" y="939"/>
                  </a:lnTo>
                  <a:lnTo>
                    <a:pt x="955" y="939"/>
                  </a:lnTo>
                  <a:lnTo>
                    <a:pt x="950" y="939"/>
                  </a:lnTo>
                  <a:lnTo>
                    <a:pt x="945" y="934"/>
                  </a:lnTo>
                  <a:close/>
                  <a:moveTo>
                    <a:pt x="287" y="826"/>
                  </a:moveTo>
                  <a:lnTo>
                    <a:pt x="292" y="826"/>
                  </a:lnTo>
                  <a:lnTo>
                    <a:pt x="292" y="826"/>
                  </a:lnTo>
                  <a:lnTo>
                    <a:pt x="292" y="826"/>
                  </a:lnTo>
                  <a:lnTo>
                    <a:pt x="292" y="826"/>
                  </a:lnTo>
                  <a:lnTo>
                    <a:pt x="292" y="826"/>
                  </a:lnTo>
                  <a:lnTo>
                    <a:pt x="292" y="831"/>
                  </a:lnTo>
                  <a:lnTo>
                    <a:pt x="292" y="831"/>
                  </a:lnTo>
                  <a:lnTo>
                    <a:pt x="292" y="831"/>
                  </a:lnTo>
                  <a:lnTo>
                    <a:pt x="292" y="831"/>
                  </a:lnTo>
                  <a:lnTo>
                    <a:pt x="292" y="831"/>
                  </a:lnTo>
                  <a:lnTo>
                    <a:pt x="292" y="831"/>
                  </a:lnTo>
                  <a:lnTo>
                    <a:pt x="292" y="831"/>
                  </a:lnTo>
                  <a:lnTo>
                    <a:pt x="292" y="831"/>
                  </a:lnTo>
                  <a:lnTo>
                    <a:pt x="287" y="826"/>
                  </a:lnTo>
                  <a:close/>
                  <a:moveTo>
                    <a:pt x="262" y="776"/>
                  </a:moveTo>
                  <a:lnTo>
                    <a:pt x="267" y="771"/>
                  </a:lnTo>
                  <a:lnTo>
                    <a:pt x="267" y="776"/>
                  </a:lnTo>
                  <a:lnTo>
                    <a:pt x="272" y="781"/>
                  </a:lnTo>
                  <a:lnTo>
                    <a:pt x="272" y="781"/>
                  </a:lnTo>
                  <a:lnTo>
                    <a:pt x="267" y="786"/>
                  </a:lnTo>
                  <a:lnTo>
                    <a:pt x="267" y="791"/>
                  </a:lnTo>
                  <a:lnTo>
                    <a:pt x="267" y="791"/>
                  </a:lnTo>
                  <a:lnTo>
                    <a:pt x="267" y="796"/>
                  </a:lnTo>
                  <a:lnTo>
                    <a:pt x="262" y="796"/>
                  </a:lnTo>
                  <a:lnTo>
                    <a:pt x="262" y="791"/>
                  </a:lnTo>
                  <a:lnTo>
                    <a:pt x="262" y="791"/>
                  </a:lnTo>
                  <a:lnTo>
                    <a:pt x="262" y="786"/>
                  </a:lnTo>
                  <a:lnTo>
                    <a:pt x="262" y="781"/>
                  </a:lnTo>
                  <a:lnTo>
                    <a:pt x="262" y="776"/>
                  </a:lnTo>
                  <a:close/>
                  <a:moveTo>
                    <a:pt x="692" y="776"/>
                  </a:moveTo>
                  <a:lnTo>
                    <a:pt x="692" y="771"/>
                  </a:lnTo>
                  <a:lnTo>
                    <a:pt x="692" y="771"/>
                  </a:lnTo>
                  <a:lnTo>
                    <a:pt x="692" y="771"/>
                  </a:lnTo>
                  <a:lnTo>
                    <a:pt x="692" y="771"/>
                  </a:lnTo>
                  <a:lnTo>
                    <a:pt x="692" y="771"/>
                  </a:lnTo>
                  <a:lnTo>
                    <a:pt x="692" y="771"/>
                  </a:lnTo>
                  <a:lnTo>
                    <a:pt x="692" y="771"/>
                  </a:lnTo>
                  <a:lnTo>
                    <a:pt x="692" y="776"/>
                  </a:lnTo>
                  <a:lnTo>
                    <a:pt x="692" y="776"/>
                  </a:lnTo>
                  <a:lnTo>
                    <a:pt x="692" y="776"/>
                  </a:lnTo>
                  <a:lnTo>
                    <a:pt x="692" y="776"/>
                  </a:lnTo>
                  <a:lnTo>
                    <a:pt x="692" y="776"/>
                  </a:lnTo>
                  <a:lnTo>
                    <a:pt x="692" y="776"/>
                  </a:lnTo>
                  <a:lnTo>
                    <a:pt x="692" y="776"/>
                  </a:lnTo>
                  <a:close/>
                  <a:moveTo>
                    <a:pt x="1058" y="776"/>
                  </a:moveTo>
                  <a:lnTo>
                    <a:pt x="1058" y="766"/>
                  </a:lnTo>
                  <a:lnTo>
                    <a:pt x="1058" y="762"/>
                  </a:lnTo>
                  <a:lnTo>
                    <a:pt x="1058" y="757"/>
                  </a:lnTo>
                  <a:lnTo>
                    <a:pt x="1058" y="752"/>
                  </a:lnTo>
                  <a:lnTo>
                    <a:pt x="1058" y="742"/>
                  </a:lnTo>
                  <a:lnTo>
                    <a:pt x="1058" y="737"/>
                  </a:lnTo>
                  <a:lnTo>
                    <a:pt x="1058" y="732"/>
                  </a:lnTo>
                  <a:lnTo>
                    <a:pt x="1058" y="727"/>
                  </a:lnTo>
                  <a:lnTo>
                    <a:pt x="1058" y="717"/>
                  </a:lnTo>
                  <a:lnTo>
                    <a:pt x="1058" y="712"/>
                  </a:lnTo>
                  <a:lnTo>
                    <a:pt x="1058" y="702"/>
                  </a:lnTo>
                  <a:lnTo>
                    <a:pt x="1063" y="697"/>
                  </a:lnTo>
                  <a:lnTo>
                    <a:pt x="1068" y="697"/>
                  </a:lnTo>
                  <a:lnTo>
                    <a:pt x="1068" y="702"/>
                  </a:lnTo>
                  <a:lnTo>
                    <a:pt x="1073" y="712"/>
                  </a:lnTo>
                  <a:lnTo>
                    <a:pt x="1078" y="717"/>
                  </a:lnTo>
                  <a:lnTo>
                    <a:pt x="1078" y="727"/>
                  </a:lnTo>
                  <a:lnTo>
                    <a:pt x="1078" y="732"/>
                  </a:lnTo>
                  <a:lnTo>
                    <a:pt x="1073" y="737"/>
                  </a:lnTo>
                  <a:lnTo>
                    <a:pt x="1073" y="742"/>
                  </a:lnTo>
                  <a:lnTo>
                    <a:pt x="1068" y="747"/>
                  </a:lnTo>
                  <a:lnTo>
                    <a:pt x="1073" y="757"/>
                  </a:lnTo>
                  <a:lnTo>
                    <a:pt x="1073" y="762"/>
                  </a:lnTo>
                  <a:lnTo>
                    <a:pt x="1068" y="766"/>
                  </a:lnTo>
                  <a:lnTo>
                    <a:pt x="1068" y="771"/>
                  </a:lnTo>
                  <a:lnTo>
                    <a:pt x="1058" y="776"/>
                  </a:lnTo>
                  <a:close/>
                  <a:moveTo>
                    <a:pt x="994" y="692"/>
                  </a:moveTo>
                  <a:lnTo>
                    <a:pt x="994" y="687"/>
                  </a:lnTo>
                  <a:lnTo>
                    <a:pt x="994" y="682"/>
                  </a:lnTo>
                  <a:lnTo>
                    <a:pt x="999" y="677"/>
                  </a:lnTo>
                  <a:lnTo>
                    <a:pt x="999" y="668"/>
                  </a:lnTo>
                  <a:lnTo>
                    <a:pt x="999" y="663"/>
                  </a:lnTo>
                  <a:lnTo>
                    <a:pt x="999" y="658"/>
                  </a:lnTo>
                  <a:lnTo>
                    <a:pt x="999" y="653"/>
                  </a:lnTo>
                  <a:lnTo>
                    <a:pt x="999" y="648"/>
                  </a:lnTo>
                  <a:lnTo>
                    <a:pt x="999" y="638"/>
                  </a:lnTo>
                  <a:lnTo>
                    <a:pt x="999" y="633"/>
                  </a:lnTo>
                  <a:lnTo>
                    <a:pt x="999" y="628"/>
                  </a:lnTo>
                  <a:lnTo>
                    <a:pt x="999" y="623"/>
                  </a:lnTo>
                  <a:lnTo>
                    <a:pt x="999" y="613"/>
                  </a:lnTo>
                  <a:lnTo>
                    <a:pt x="999" y="608"/>
                  </a:lnTo>
                  <a:lnTo>
                    <a:pt x="999" y="603"/>
                  </a:lnTo>
                  <a:lnTo>
                    <a:pt x="999" y="598"/>
                  </a:lnTo>
                  <a:lnTo>
                    <a:pt x="999" y="589"/>
                  </a:lnTo>
                  <a:lnTo>
                    <a:pt x="994" y="584"/>
                  </a:lnTo>
                  <a:lnTo>
                    <a:pt x="994" y="579"/>
                  </a:lnTo>
                  <a:lnTo>
                    <a:pt x="994" y="574"/>
                  </a:lnTo>
                  <a:lnTo>
                    <a:pt x="994" y="564"/>
                  </a:lnTo>
                  <a:lnTo>
                    <a:pt x="994" y="559"/>
                  </a:lnTo>
                  <a:lnTo>
                    <a:pt x="999" y="554"/>
                  </a:lnTo>
                  <a:lnTo>
                    <a:pt x="1004" y="549"/>
                  </a:lnTo>
                  <a:lnTo>
                    <a:pt x="1009" y="544"/>
                  </a:lnTo>
                  <a:lnTo>
                    <a:pt x="1009" y="539"/>
                  </a:lnTo>
                  <a:lnTo>
                    <a:pt x="1014" y="534"/>
                  </a:lnTo>
                  <a:lnTo>
                    <a:pt x="1019" y="524"/>
                  </a:lnTo>
                  <a:lnTo>
                    <a:pt x="1019" y="519"/>
                  </a:lnTo>
                  <a:lnTo>
                    <a:pt x="1019" y="514"/>
                  </a:lnTo>
                  <a:lnTo>
                    <a:pt x="1019" y="509"/>
                  </a:lnTo>
                  <a:lnTo>
                    <a:pt x="1019" y="500"/>
                  </a:lnTo>
                  <a:lnTo>
                    <a:pt x="1019" y="495"/>
                  </a:lnTo>
                  <a:lnTo>
                    <a:pt x="1019" y="490"/>
                  </a:lnTo>
                  <a:lnTo>
                    <a:pt x="1024" y="485"/>
                  </a:lnTo>
                  <a:lnTo>
                    <a:pt x="1024" y="480"/>
                  </a:lnTo>
                  <a:lnTo>
                    <a:pt x="1029" y="470"/>
                  </a:lnTo>
                  <a:lnTo>
                    <a:pt x="1034" y="465"/>
                  </a:lnTo>
                  <a:lnTo>
                    <a:pt x="1034" y="460"/>
                  </a:lnTo>
                  <a:lnTo>
                    <a:pt x="1039" y="455"/>
                  </a:lnTo>
                  <a:lnTo>
                    <a:pt x="1034" y="450"/>
                  </a:lnTo>
                  <a:lnTo>
                    <a:pt x="1029" y="445"/>
                  </a:lnTo>
                  <a:lnTo>
                    <a:pt x="1029" y="440"/>
                  </a:lnTo>
                  <a:lnTo>
                    <a:pt x="1024" y="430"/>
                  </a:lnTo>
                  <a:lnTo>
                    <a:pt x="1019" y="425"/>
                  </a:lnTo>
                  <a:lnTo>
                    <a:pt x="1019" y="420"/>
                  </a:lnTo>
                  <a:lnTo>
                    <a:pt x="1019" y="416"/>
                  </a:lnTo>
                  <a:lnTo>
                    <a:pt x="1019" y="411"/>
                  </a:lnTo>
                  <a:lnTo>
                    <a:pt x="1019" y="401"/>
                  </a:lnTo>
                  <a:lnTo>
                    <a:pt x="1019" y="396"/>
                  </a:lnTo>
                  <a:lnTo>
                    <a:pt x="1019" y="391"/>
                  </a:lnTo>
                  <a:lnTo>
                    <a:pt x="1024" y="386"/>
                  </a:lnTo>
                  <a:lnTo>
                    <a:pt x="1024" y="376"/>
                  </a:lnTo>
                  <a:lnTo>
                    <a:pt x="1024" y="371"/>
                  </a:lnTo>
                  <a:lnTo>
                    <a:pt x="1019" y="366"/>
                  </a:lnTo>
                  <a:lnTo>
                    <a:pt x="1019" y="361"/>
                  </a:lnTo>
                  <a:lnTo>
                    <a:pt x="1019" y="356"/>
                  </a:lnTo>
                  <a:lnTo>
                    <a:pt x="1014" y="346"/>
                  </a:lnTo>
                  <a:lnTo>
                    <a:pt x="1014" y="341"/>
                  </a:lnTo>
                  <a:lnTo>
                    <a:pt x="1009" y="336"/>
                  </a:lnTo>
                  <a:lnTo>
                    <a:pt x="1009" y="331"/>
                  </a:lnTo>
                  <a:lnTo>
                    <a:pt x="1009" y="322"/>
                  </a:lnTo>
                  <a:lnTo>
                    <a:pt x="1004" y="317"/>
                  </a:lnTo>
                  <a:lnTo>
                    <a:pt x="1004" y="312"/>
                  </a:lnTo>
                  <a:lnTo>
                    <a:pt x="1004" y="307"/>
                  </a:lnTo>
                  <a:lnTo>
                    <a:pt x="1004" y="297"/>
                  </a:lnTo>
                  <a:lnTo>
                    <a:pt x="1009" y="292"/>
                  </a:lnTo>
                  <a:lnTo>
                    <a:pt x="1014" y="287"/>
                  </a:lnTo>
                  <a:lnTo>
                    <a:pt x="1024" y="287"/>
                  </a:lnTo>
                  <a:lnTo>
                    <a:pt x="1034" y="287"/>
                  </a:lnTo>
                  <a:lnTo>
                    <a:pt x="1039" y="287"/>
                  </a:lnTo>
                  <a:lnTo>
                    <a:pt x="1049" y="282"/>
                  </a:lnTo>
                  <a:lnTo>
                    <a:pt x="1049" y="272"/>
                  </a:lnTo>
                  <a:lnTo>
                    <a:pt x="1053" y="267"/>
                  </a:lnTo>
                  <a:lnTo>
                    <a:pt x="1058" y="262"/>
                  </a:lnTo>
                  <a:lnTo>
                    <a:pt x="1068" y="257"/>
                  </a:lnTo>
                  <a:lnTo>
                    <a:pt x="1078" y="257"/>
                  </a:lnTo>
                  <a:lnTo>
                    <a:pt x="1083" y="257"/>
                  </a:lnTo>
                  <a:lnTo>
                    <a:pt x="1093" y="252"/>
                  </a:lnTo>
                  <a:lnTo>
                    <a:pt x="1103" y="247"/>
                  </a:lnTo>
                  <a:lnTo>
                    <a:pt x="1108" y="243"/>
                  </a:lnTo>
                  <a:lnTo>
                    <a:pt x="1113" y="238"/>
                  </a:lnTo>
                  <a:lnTo>
                    <a:pt x="1118" y="233"/>
                  </a:lnTo>
                  <a:lnTo>
                    <a:pt x="1123" y="228"/>
                  </a:lnTo>
                  <a:lnTo>
                    <a:pt x="1133" y="228"/>
                  </a:lnTo>
                  <a:lnTo>
                    <a:pt x="1143" y="223"/>
                  </a:lnTo>
                  <a:lnTo>
                    <a:pt x="1152" y="223"/>
                  </a:lnTo>
                  <a:lnTo>
                    <a:pt x="1162" y="223"/>
                  </a:lnTo>
                  <a:lnTo>
                    <a:pt x="1172" y="228"/>
                  </a:lnTo>
                  <a:lnTo>
                    <a:pt x="1177" y="223"/>
                  </a:lnTo>
                  <a:lnTo>
                    <a:pt x="1187" y="218"/>
                  </a:lnTo>
                  <a:lnTo>
                    <a:pt x="1192" y="213"/>
                  </a:lnTo>
                  <a:lnTo>
                    <a:pt x="1197" y="208"/>
                  </a:lnTo>
                  <a:lnTo>
                    <a:pt x="1197" y="203"/>
                  </a:lnTo>
                  <a:lnTo>
                    <a:pt x="1197" y="198"/>
                  </a:lnTo>
                  <a:lnTo>
                    <a:pt x="1202" y="188"/>
                  </a:lnTo>
                  <a:lnTo>
                    <a:pt x="1207" y="183"/>
                  </a:lnTo>
                  <a:lnTo>
                    <a:pt x="1212" y="178"/>
                  </a:lnTo>
                  <a:lnTo>
                    <a:pt x="1222" y="178"/>
                  </a:lnTo>
                  <a:lnTo>
                    <a:pt x="1227" y="178"/>
                  </a:lnTo>
                  <a:lnTo>
                    <a:pt x="1232" y="183"/>
                  </a:lnTo>
                  <a:lnTo>
                    <a:pt x="1236" y="193"/>
                  </a:lnTo>
                  <a:lnTo>
                    <a:pt x="1241" y="198"/>
                  </a:lnTo>
                  <a:lnTo>
                    <a:pt x="1251" y="203"/>
                  </a:lnTo>
                  <a:lnTo>
                    <a:pt x="1256" y="198"/>
                  </a:lnTo>
                  <a:lnTo>
                    <a:pt x="1266" y="198"/>
                  </a:lnTo>
                  <a:lnTo>
                    <a:pt x="1271" y="188"/>
                  </a:lnTo>
                  <a:lnTo>
                    <a:pt x="1276" y="183"/>
                  </a:lnTo>
                  <a:lnTo>
                    <a:pt x="1276" y="178"/>
                  </a:lnTo>
                  <a:lnTo>
                    <a:pt x="1276" y="173"/>
                  </a:lnTo>
                  <a:lnTo>
                    <a:pt x="1276" y="168"/>
                  </a:lnTo>
                  <a:lnTo>
                    <a:pt x="1281" y="159"/>
                  </a:lnTo>
                  <a:lnTo>
                    <a:pt x="1286" y="154"/>
                  </a:lnTo>
                  <a:lnTo>
                    <a:pt x="1291" y="149"/>
                  </a:lnTo>
                  <a:lnTo>
                    <a:pt x="1296" y="144"/>
                  </a:lnTo>
                  <a:lnTo>
                    <a:pt x="1306" y="144"/>
                  </a:lnTo>
                  <a:lnTo>
                    <a:pt x="1311" y="144"/>
                  </a:lnTo>
                  <a:lnTo>
                    <a:pt x="1316" y="149"/>
                  </a:lnTo>
                  <a:lnTo>
                    <a:pt x="1321" y="159"/>
                  </a:lnTo>
                  <a:lnTo>
                    <a:pt x="1321" y="163"/>
                  </a:lnTo>
                  <a:lnTo>
                    <a:pt x="1326" y="173"/>
                  </a:lnTo>
                  <a:lnTo>
                    <a:pt x="1326" y="178"/>
                  </a:lnTo>
                  <a:lnTo>
                    <a:pt x="1335" y="178"/>
                  </a:lnTo>
                  <a:lnTo>
                    <a:pt x="1340" y="173"/>
                  </a:lnTo>
                  <a:lnTo>
                    <a:pt x="1350" y="168"/>
                  </a:lnTo>
                  <a:lnTo>
                    <a:pt x="1355" y="163"/>
                  </a:lnTo>
                  <a:lnTo>
                    <a:pt x="1360" y="159"/>
                  </a:lnTo>
                  <a:lnTo>
                    <a:pt x="1360" y="149"/>
                  </a:lnTo>
                  <a:lnTo>
                    <a:pt x="1360" y="144"/>
                  </a:lnTo>
                  <a:lnTo>
                    <a:pt x="1360" y="139"/>
                  </a:lnTo>
                  <a:lnTo>
                    <a:pt x="1360" y="134"/>
                  </a:lnTo>
                  <a:lnTo>
                    <a:pt x="1365" y="124"/>
                  </a:lnTo>
                  <a:lnTo>
                    <a:pt x="1370" y="119"/>
                  </a:lnTo>
                  <a:lnTo>
                    <a:pt x="1375" y="114"/>
                  </a:lnTo>
                  <a:lnTo>
                    <a:pt x="1380" y="114"/>
                  </a:lnTo>
                  <a:lnTo>
                    <a:pt x="1390" y="114"/>
                  </a:lnTo>
                  <a:lnTo>
                    <a:pt x="1400" y="114"/>
                  </a:lnTo>
                  <a:lnTo>
                    <a:pt x="1410" y="114"/>
                  </a:lnTo>
                  <a:lnTo>
                    <a:pt x="1419" y="119"/>
                  </a:lnTo>
                  <a:lnTo>
                    <a:pt x="1424" y="124"/>
                  </a:lnTo>
                  <a:lnTo>
                    <a:pt x="1429" y="129"/>
                  </a:lnTo>
                  <a:lnTo>
                    <a:pt x="1434" y="134"/>
                  </a:lnTo>
                  <a:lnTo>
                    <a:pt x="1439" y="134"/>
                  </a:lnTo>
                  <a:lnTo>
                    <a:pt x="1444" y="129"/>
                  </a:lnTo>
                  <a:lnTo>
                    <a:pt x="1444" y="124"/>
                  </a:lnTo>
                  <a:lnTo>
                    <a:pt x="1444" y="114"/>
                  </a:lnTo>
                  <a:lnTo>
                    <a:pt x="1439" y="109"/>
                  </a:lnTo>
                  <a:lnTo>
                    <a:pt x="1439" y="104"/>
                  </a:lnTo>
                  <a:lnTo>
                    <a:pt x="1439" y="99"/>
                  </a:lnTo>
                  <a:lnTo>
                    <a:pt x="1444" y="94"/>
                  </a:lnTo>
                  <a:lnTo>
                    <a:pt x="1454" y="89"/>
                  </a:lnTo>
                  <a:lnTo>
                    <a:pt x="1464" y="84"/>
                  </a:lnTo>
                  <a:lnTo>
                    <a:pt x="1474" y="79"/>
                  </a:lnTo>
                  <a:lnTo>
                    <a:pt x="1484" y="79"/>
                  </a:lnTo>
                  <a:lnTo>
                    <a:pt x="1489" y="84"/>
                  </a:lnTo>
                  <a:lnTo>
                    <a:pt x="1499" y="84"/>
                  </a:lnTo>
                  <a:lnTo>
                    <a:pt x="1504" y="89"/>
                  </a:lnTo>
                  <a:lnTo>
                    <a:pt x="1508" y="99"/>
                  </a:lnTo>
                  <a:lnTo>
                    <a:pt x="1513" y="104"/>
                  </a:lnTo>
                  <a:lnTo>
                    <a:pt x="1518" y="109"/>
                  </a:lnTo>
                  <a:lnTo>
                    <a:pt x="1523" y="109"/>
                  </a:lnTo>
                  <a:lnTo>
                    <a:pt x="1533" y="109"/>
                  </a:lnTo>
                  <a:lnTo>
                    <a:pt x="1538" y="104"/>
                  </a:lnTo>
                  <a:lnTo>
                    <a:pt x="1538" y="99"/>
                  </a:lnTo>
                  <a:lnTo>
                    <a:pt x="1528" y="89"/>
                  </a:lnTo>
                  <a:lnTo>
                    <a:pt x="1523" y="84"/>
                  </a:lnTo>
                  <a:lnTo>
                    <a:pt x="1518" y="79"/>
                  </a:lnTo>
                  <a:lnTo>
                    <a:pt x="1518" y="74"/>
                  </a:lnTo>
                  <a:lnTo>
                    <a:pt x="1523" y="70"/>
                  </a:lnTo>
                  <a:lnTo>
                    <a:pt x="1528" y="65"/>
                  </a:lnTo>
                  <a:lnTo>
                    <a:pt x="1538" y="60"/>
                  </a:lnTo>
                  <a:lnTo>
                    <a:pt x="1548" y="55"/>
                  </a:lnTo>
                  <a:lnTo>
                    <a:pt x="1553" y="55"/>
                  </a:lnTo>
                  <a:lnTo>
                    <a:pt x="1563" y="55"/>
                  </a:lnTo>
                  <a:lnTo>
                    <a:pt x="1573" y="55"/>
                  </a:lnTo>
                  <a:lnTo>
                    <a:pt x="1583" y="55"/>
                  </a:lnTo>
                  <a:lnTo>
                    <a:pt x="1593" y="55"/>
                  </a:lnTo>
                  <a:lnTo>
                    <a:pt x="1598" y="50"/>
                  </a:lnTo>
                  <a:lnTo>
                    <a:pt x="1602" y="45"/>
                  </a:lnTo>
                  <a:lnTo>
                    <a:pt x="1612" y="35"/>
                  </a:lnTo>
                  <a:lnTo>
                    <a:pt x="1617" y="30"/>
                  </a:lnTo>
                  <a:lnTo>
                    <a:pt x="1622" y="30"/>
                  </a:lnTo>
                  <a:lnTo>
                    <a:pt x="1632" y="30"/>
                  </a:lnTo>
                  <a:lnTo>
                    <a:pt x="1642" y="30"/>
                  </a:lnTo>
                  <a:lnTo>
                    <a:pt x="1652" y="30"/>
                  </a:lnTo>
                  <a:lnTo>
                    <a:pt x="1662" y="30"/>
                  </a:lnTo>
                  <a:lnTo>
                    <a:pt x="1672" y="30"/>
                  </a:lnTo>
                  <a:lnTo>
                    <a:pt x="1677" y="35"/>
                  </a:lnTo>
                  <a:lnTo>
                    <a:pt x="1682" y="40"/>
                  </a:lnTo>
                  <a:lnTo>
                    <a:pt x="1687" y="45"/>
                  </a:lnTo>
                  <a:lnTo>
                    <a:pt x="1696" y="50"/>
                  </a:lnTo>
                  <a:lnTo>
                    <a:pt x="1701" y="55"/>
                  </a:lnTo>
                  <a:lnTo>
                    <a:pt x="1711" y="55"/>
                  </a:lnTo>
                  <a:lnTo>
                    <a:pt x="1721" y="55"/>
                  </a:lnTo>
                  <a:lnTo>
                    <a:pt x="1731" y="55"/>
                  </a:lnTo>
                  <a:lnTo>
                    <a:pt x="1736" y="55"/>
                  </a:lnTo>
                  <a:lnTo>
                    <a:pt x="1746" y="55"/>
                  </a:lnTo>
                  <a:lnTo>
                    <a:pt x="1756" y="55"/>
                  </a:lnTo>
                  <a:lnTo>
                    <a:pt x="1766" y="55"/>
                  </a:lnTo>
                  <a:lnTo>
                    <a:pt x="1776" y="60"/>
                  </a:lnTo>
                  <a:lnTo>
                    <a:pt x="1785" y="60"/>
                  </a:lnTo>
                  <a:lnTo>
                    <a:pt x="1790" y="65"/>
                  </a:lnTo>
                  <a:lnTo>
                    <a:pt x="1795" y="70"/>
                  </a:lnTo>
                  <a:lnTo>
                    <a:pt x="1800" y="74"/>
                  </a:lnTo>
                  <a:lnTo>
                    <a:pt x="1805" y="79"/>
                  </a:lnTo>
                  <a:lnTo>
                    <a:pt x="1815" y="84"/>
                  </a:lnTo>
                  <a:lnTo>
                    <a:pt x="1825" y="84"/>
                  </a:lnTo>
                  <a:lnTo>
                    <a:pt x="1835" y="84"/>
                  </a:lnTo>
                  <a:lnTo>
                    <a:pt x="1845" y="84"/>
                  </a:lnTo>
                  <a:lnTo>
                    <a:pt x="1855" y="84"/>
                  </a:lnTo>
                  <a:lnTo>
                    <a:pt x="1865" y="84"/>
                  </a:lnTo>
                  <a:lnTo>
                    <a:pt x="1874" y="84"/>
                  </a:lnTo>
                  <a:lnTo>
                    <a:pt x="1884" y="84"/>
                  </a:lnTo>
                  <a:lnTo>
                    <a:pt x="1889" y="89"/>
                  </a:lnTo>
                  <a:lnTo>
                    <a:pt x="1894" y="94"/>
                  </a:lnTo>
                  <a:lnTo>
                    <a:pt x="1899" y="99"/>
                  </a:lnTo>
                  <a:lnTo>
                    <a:pt x="1904" y="104"/>
                  </a:lnTo>
                  <a:lnTo>
                    <a:pt x="1914" y="109"/>
                  </a:lnTo>
                  <a:lnTo>
                    <a:pt x="1919" y="114"/>
                  </a:lnTo>
                  <a:lnTo>
                    <a:pt x="1929" y="114"/>
                  </a:lnTo>
                  <a:lnTo>
                    <a:pt x="1939" y="114"/>
                  </a:lnTo>
                  <a:lnTo>
                    <a:pt x="1949" y="114"/>
                  </a:lnTo>
                  <a:lnTo>
                    <a:pt x="1959" y="114"/>
                  </a:lnTo>
                  <a:lnTo>
                    <a:pt x="1968" y="114"/>
                  </a:lnTo>
                  <a:lnTo>
                    <a:pt x="1978" y="114"/>
                  </a:lnTo>
                  <a:lnTo>
                    <a:pt x="1988" y="114"/>
                  </a:lnTo>
                  <a:lnTo>
                    <a:pt x="1993" y="114"/>
                  </a:lnTo>
                  <a:lnTo>
                    <a:pt x="2003" y="119"/>
                  </a:lnTo>
                  <a:lnTo>
                    <a:pt x="2008" y="124"/>
                  </a:lnTo>
                  <a:lnTo>
                    <a:pt x="2013" y="134"/>
                  </a:lnTo>
                  <a:lnTo>
                    <a:pt x="2013" y="139"/>
                  </a:lnTo>
                  <a:lnTo>
                    <a:pt x="2018" y="144"/>
                  </a:lnTo>
                  <a:lnTo>
                    <a:pt x="2028" y="144"/>
                  </a:lnTo>
                  <a:lnTo>
                    <a:pt x="2033" y="149"/>
                  </a:lnTo>
                  <a:lnTo>
                    <a:pt x="2043" y="149"/>
                  </a:lnTo>
                  <a:lnTo>
                    <a:pt x="2052" y="149"/>
                  </a:lnTo>
                  <a:lnTo>
                    <a:pt x="2062" y="149"/>
                  </a:lnTo>
                  <a:lnTo>
                    <a:pt x="2072" y="154"/>
                  </a:lnTo>
                  <a:lnTo>
                    <a:pt x="2082" y="154"/>
                  </a:lnTo>
                  <a:lnTo>
                    <a:pt x="2092" y="159"/>
                  </a:lnTo>
                  <a:lnTo>
                    <a:pt x="2097" y="159"/>
                  </a:lnTo>
                  <a:lnTo>
                    <a:pt x="2102" y="163"/>
                  </a:lnTo>
                  <a:lnTo>
                    <a:pt x="2102" y="168"/>
                  </a:lnTo>
                  <a:lnTo>
                    <a:pt x="2102" y="178"/>
                  </a:lnTo>
                  <a:lnTo>
                    <a:pt x="2102" y="183"/>
                  </a:lnTo>
                  <a:lnTo>
                    <a:pt x="2097" y="188"/>
                  </a:lnTo>
                  <a:lnTo>
                    <a:pt x="2097" y="198"/>
                  </a:lnTo>
                  <a:lnTo>
                    <a:pt x="2097" y="203"/>
                  </a:lnTo>
                  <a:lnTo>
                    <a:pt x="2097" y="208"/>
                  </a:lnTo>
                  <a:lnTo>
                    <a:pt x="2102" y="213"/>
                  </a:lnTo>
                  <a:lnTo>
                    <a:pt x="2102" y="223"/>
                  </a:lnTo>
                  <a:lnTo>
                    <a:pt x="2102" y="228"/>
                  </a:lnTo>
                  <a:lnTo>
                    <a:pt x="2102" y="233"/>
                  </a:lnTo>
                  <a:lnTo>
                    <a:pt x="2102" y="238"/>
                  </a:lnTo>
                  <a:lnTo>
                    <a:pt x="2102" y="247"/>
                  </a:lnTo>
                  <a:lnTo>
                    <a:pt x="2102" y="252"/>
                  </a:lnTo>
                  <a:lnTo>
                    <a:pt x="2112" y="252"/>
                  </a:lnTo>
                  <a:lnTo>
                    <a:pt x="2122" y="257"/>
                  </a:lnTo>
                  <a:lnTo>
                    <a:pt x="2132" y="252"/>
                  </a:lnTo>
                  <a:lnTo>
                    <a:pt x="2132" y="247"/>
                  </a:lnTo>
                  <a:lnTo>
                    <a:pt x="2132" y="243"/>
                  </a:lnTo>
                  <a:lnTo>
                    <a:pt x="2137" y="233"/>
                  </a:lnTo>
                  <a:lnTo>
                    <a:pt x="2142" y="233"/>
                  </a:lnTo>
                  <a:lnTo>
                    <a:pt x="2151" y="228"/>
                  </a:lnTo>
                  <a:lnTo>
                    <a:pt x="2156" y="223"/>
                  </a:lnTo>
                  <a:lnTo>
                    <a:pt x="2161" y="218"/>
                  </a:lnTo>
                  <a:lnTo>
                    <a:pt x="2166" y="208"/>
                  </a:lnTo>
                  <a:lnTo>
                    <a:pt x="2166" y="203"/>
                  </a:lnTo>
                  <a:lnTo>
                    <a:pt x="2171" y="198"/>
                  </a:lnTo>
                  <a:lnTo>
                    <a:pt x="2176" y="193"/>
                  </a:lnTo>
                  <a:lnTo>
                    <a:pt x="2181" y="188"/>
                  </a:lnTo>
                  <a:lnTo>
                    <a:pt x="2186" y="193"/>
                  </a:lnTo>
                  <a:lnTo>
                    <a:pt x="2191" y="198"/>
                  </a:lnTo>
                  <a:lnTo>
                    <a:pt x="2196" y="203"/>
                  </a:lnTo>
                  <a:lnTo>
                    <a:pt x="2201" y="208"/>
                  </a:lnTo>
                  <a:lnTo>
                    <a:pt x="2201" y="218"/>
                  </a:lnTo>
                  <a:lnTo>
                    <a:pt x="2201" y="223"/>
                  </a:lnTo>
                  <a:lnTo>
                    <a:pt x="2201" y="233"/>
                  </a:lnTo>
                  <a:lnTo>
                    <a:pt x="2196" y="238"/>
                  </a:lnTo>
                  <a:lnTo>
                    <a:pt x="2191" y="243"/>
                  </a:lnTo>
                  <a:lnTo>
                    <a:pt x="2186" y="243"/>
                  </a:lnTo>
                  <a:lnTo>
                    <a:pt x="2176" y="247"/>
                  </a:lnTo>
                  <a:lnTo>
                    <a:pt x="2171" y="252"/>
                  </a:lnTo>
                  <a:lnTo>
                    <a:pt x="2166" y="257"/>
                  </a:lnTo>
                  <a:lnTo>
                    <a:pt x="2166" y="262"/>
                  </a:lnTo>
                  <a:lnTo>
                    <a:pt x="2161" y="272"/>
                  </a:lnTo>
                  <a:lnTo>
                    <a:pt x="2161" y="277"/>
                  </a:lnTo>
                  <a:lnTo>
                    <a:pt x="2156" y="282"/>
                  </a:lnTo>
                  <a:lnTo>
                    <a:pt x="2151" y="287"/>
                  </a:lnTo>
                  <a:lnTo>
                    <a:pt x="2146" y="292"/>
                  </a:lnTo>
                  <a:lnTo>
                    <a:pt x="2137" y="297"/>
                  </a:lnTo>
                  <a:lnTo>
                    <a:pt x="2137" y="302"/>
                  </a:lnTo>
                  <a:lnTo>
                    <a:pt x="2132" y="307"/>
                  </a:lnTo>
                  <a:lnTo>
                    <a:pt x="2127" y="312"/>
                  </a:lnTo>
                  <a:lnTo>
                    <a:pt x="2122" y="317"/>
                  </a:lnTo>
                  <a:lnTo>
                    <a:pt x="2117" y="322"/>
                  </a:lnTo>
                  <a:lnTo>
                    <a:pt x="2112" y="327"/>
                  </a:lnTo>
                  <a:lnTo>
                    <a:pt x="2102" y="331"/>
                  </a:lnTo>
                  <a:lnTo>
                    <a:pt x="2092" y="331"/>
                  </a:lnTo>
                  <a:lnTo>
                    <a:pt x="2082" y="331"/>
                  </a:lnTo>
                  <a:lnTo>
                    <a:pt x="2072" y="331"/>
                  </a:lnTo>
                  <a:lnTo>
                    <a:pt x="2067" y="336"/>
                  </a:lnTo>
                  <a:lnTo>
                    <a:pt x="2057" y="341"/>
                  </a:lnTo>
                  <a:lnTo>
                    <a:pt x="2048" y="341"/>
                  </a:lnTo>
                  <a:lnTo>
                    <a:pt x="2038" y="346"/>
                  </a:lnTo>
                  <a:lnTo>
                    <a:pt x="2033" y="346"/>
                  </a:lnTo>
                  <a:lnTo>
                    <a:pt x="2023" y="346"/>
                  </a:lnTo>
                  <a:lnTo>
                    <a:pt x="2013" y="346"/>
                  </a:lnTo>
                  <a:lnTo>
                    <a:pt x="2003" y="346"/>
                  </a:lnTo>
                  <a:lnTo>
                    <a:pt x="1993" y="346"/>
                  </a:lnTo>
                  <a:lnTo>
                    <a:pt x="1983" y="346"/>
                  </a:lnTo>
                  <a:lnTo>
                    <a:pt x="1973" y="346"/>
                  </a:lnTo>
                  <a:lnTo>
                    <a:pt x="1963" y="346"/>
                  </a:lnTo>
                  <a:lnTo>
                    <a:pt x="1954" y="346"/>
                  </a:lnTo>
                  <a:lnTo>
                    <a:pt x="1944" y="346"/>
                  </a:lnTo>
                  <a:lnTo>
                    <a:pt x="1939" y="346"/>
                  </a:lnTo>
                  <a:lnTo>
                    <a:pt x="1929" y="346"/>
                  </a:lnTo>
                  <a:lnTo>
                    <a:pt x="1919" y="346"/>
                  </a:lnTo>
                  <a:lnTo>
                    <a:pt x="1909" y="346"/>
                  </a:lnTo>
                  <a:lnTo>
                    <a:pt x="1899" y="346"/>
                  </a:lnTo>
                  <a:lnTo>
                    <a:pt x="1889" y="346"/>
                  </a:lnTo>
                  <a:lnTo>
                    <a:pt x="1879" y="346"/>
                  </a:lnTo>
                  <a:lnTo>
                    <a:pt x="1870" y="346"/>
                  </a:lnTo>
                  <a:lnTo>
                    <a:pt x="1860" y="346"/>
                  </a:lnTo>
                  <a:lnTo>
                    <a:pt x="1850" y="346"/>
                  </a:lnTo>
                  <a:lnTo>
                    <a:pt x="1845" y="346"/>
                  </a:lnTo>
                  <a:lnTo>
                    <a:pt x="1835" y="346"/>
                  </a:lnTo>
                  <a:lnTo>
                    <a:pt x="1825" y="346"/>
                  </a:lnTo>
                  <a:lnTo>
                    <a:pt x="1815" y="351"/>
                  </a:lnTo>
                  <a:lnTo>
                    <a:pt x="1805" y="351"/>
                  </a:lnTo>
                  <a:lnTo>
                    <a:pt x="1795" y="351"/>
                  </a:lnTo>
                  <a:lnTo>
                    <a:pt x="1785" y="351"/>
                  </a:lnTo>
                  <a:lnTo>
                    <a:pt x="1780" y="356"/>
                  </a:lnTo>
                  <a:lnTo>
                    <a:pt x="1771" y="361"/>
                  </a:lnTo>
                  <a:lnTo>
                    <a:pt x="1761" y="361"/>
                  </a:lnTo>
                  <a:lnTo>
                    <a:pt x="1756" y="366"/>
                  </a:lnTo>
                  <a:lnTo>
                    <a:pt x="1746" y="361"/>
                  </a:lnTo>
                  <a:lnTo>
                    <a:pt x="1741" y="356"/>
                  </a:lnTo>
                  <a:lnTo>
                    <a:pt x="1731" y="351"/>
                  </a:lnTo>
                  <a:lnTo>
                    <a:pt x="1726" y="346"/>
                  </a:lnTo>
                  <a:lnTo>
                    <a:pt x="1716" y="346"/>
                  </a:lnTo>
                  <a:lnTo>
                    <a:pt x="1711" y="341"/>
                  </a:lnTo>
                  <a:lnTo>
                    <a:pt x="1701" y="336"/>
                  </a:lnTo>
                  <a:lnTo>
                    <a:pt x="1696" y="336"/>
                  </a:lnTo>
                  <a:lnTo>
                    <a:pt x="1687" y="331"/>
                  </a:lnTo>
                  <a:lnTo>
                    <a:pt x="1677" y="331"/>
                  </a:lnTo>
                  <a:lnTo>
                    <a:pt x="1672" y="327"/>
                  </a:lnTo>
                  <a:lnTo>
                    <a:pt x="1662" y="322"/>
                  </a:lnTo>
                  <a:lnTo>
                    <a:pt x="1657" y="317"/>
                  </a:lnTo>
                  <a:lnTo>
                    <a:pt x="1647" y="317"/>
                  </a:lnTo>
                  <a:lnTo>
                    <a:pt x="1642" y="312"/>
                  </a:lnTo>
                  <a:lnTo>
                    <a:pt x="1632" y="307"/>
                  </a:lnTo>
                  <a:lnTo>
                    <a:pt x="1627" y="302"/>
                  </a:lnTo>
                  <a:lnTo>
                    <a:pt x="1617" y="302"/>
                  </a:lnTo>
                  <a:lnTo>
                    <a:pt x="1607" y="297"/>
                  </a:lnTo>
                  <a:lnTo>
                    <a:pt x="1598" y="297"/>
                  </a:lnTo>
                  <a:lnTo>
                    <a:pt x="1588" y="297"/>
                  </a:lnTo>
                  <a:lnTo>
                    <a:pt x="1583" y="302"/>
                  </a:lnTo>
                  <a:lnTo>
                    <a:pt x="1573" y="302"/>
                  </a:lnTo>
                  <a:lnTo>
                    <a:pt x="1563" y="307"/>
                  </a:lnTo>
                  <a:lnTo>
                    <a:pt x="1558" y="312"/>
                  </a:lnTo>
                  <a:lnTo>
                    <a:pt x="1548" y="312"/>
                  </a:lnTo>
                  <a:lnTo>
                    <a:pt x="1543" y="317"/>
                  </a:lnTo>
                  <a:lnTo>
                    <a:pt x="1533" y="317"/>
                  </a:lnTo>
                  <a:lnTo>
                    <a:pt x="1523" y="317"/>
                  </a:lnTo>
                  <a:lnTo>
                    <a:pt x="1513" y="322"/>
                  </a:lnTo>
                  <a:lnTo>
                    <a:pt x="1508" y="327"/>
                  </a:lnTo>
                  <a:lnTo>
                    <a:pt x="1499" y="327"/>
                  </a:lnTo>
                  <a:lnTo>
                    <a:pt x="1494" y="331"/>
                  </a:lnTo>
                  <a:lnTo>
                    <a:pt x="1484" y="336"/>
                  </a:lnTo>
                  <a:lnTo>
                    <a:pt x="1474" y="336"/>
                  </a:lnTo>
                  <a:lnTo>
                    <a:pt x="1464" y="341"/>
                  </a:lnTo>
                  <a:lnTo>
                    <a:pt x="1454" y="341"/>
                  </a:lnTo>
                  <a:lnTo>
                    <a:pt x="1444" y="341"/>
                  </a:lnTo>
                  <a:lnTo>
                    <a:pt x="1439" y="341"/>
                  </a:lnTo>
                  <a:lnTo>
                    <a:pt x="1429" y="346"/>
                  </a:lnTo>
                  <a:lnTo>
                    <a:pt x="1424" y="346"/>
                  </a:lnTo>
                  <a:lnTo>
                    <a:pt x="1415" y="351"/>
                  </a:lnTo>
                  <a:lnTo>
                    <a:pt x="1410" y="356"/>
                  </a:lnTo>
                  <a:lnTo>
                    <a:pt x="1400" y="356"/>
                  </a:lnTo>
                  <a:lnTo>
                    <a:pt x="1390" y="356"/>
                  </a:lnTo>
                  <a:lnTo>
                    <a:pt x="1380" y="356"/>
                  </a:lnTo>
                  <a:lnTo>
                    <a:pt x="1375" y="351"/>
                  </a:lnTo>
                  <a:lnTo>
                    <a:pt x="1370" y="346"/>
                  </a:lnTo>
                  <a:lnTo>
                    <a:pt x="1360" y="341"/>
                  </a:lnTo>
                  <a:lnTo>
                    <a:pt x="1350" y="341"/>
                  </a:lnTo>
                  <a:lnTo>
                    <a:pt x="1340" y="341"/>
                  </a:lnTo>
                  <a:lnTo>
                    <a:pt x="1335" y="346"/>
                  </a:lnTo>
                  <a:lnTo>
                    <a:pt x="1330" y="351"/>
                  </a:lnTo>
                  <a:lnTo>
                    <a:pt x="1330" y="356"/>
                  </a:lnTo>
                  <a:lnTo>
                    <a:pt x="1321" y="361"/>
                  </a:lnTo>
                  <a:lnTo>
                    <a:pt x="1311" y="361"/>
                  </a:lnTo>
                  <a:lnTo>
                    <a:pt x="1301" y="361"/>
                  </a:lnTo>
                  <a:lnTo>
                    <a:pt x="1291" y="361"/>
                  </a:lnTo>
                  <a:lnTo>
                    <a:pt x="1281" y="361"/>
                  </a:lnTo>
                  <a:lnTo>
                    <a:pt x="1271" y="366"/>
                  </a:lnTo>
                  <a:lnTo>
                    <a:pt x="1266" y="366"/>
                  </a:lnTo>
                  <a:lnTo>
                    <a:pt x="1256" y="371"/>
                  </a:lnTo>
                  <a:lnTo>
                    <a:pt x="1251" y="376"/>
                  </a:lnTo>
                  <a:lnTo>
                    <a:pt x="1251" y="381"/>
                  </a:lnTo>
                  <a:lnTo>
                    <a:pt x="1241" y="386"/>
                  </a:lnTo>
                  <a:lnTo>
                    <a:pt x="1236" y="391"/>
                  </a:lnTo>
                  <a:lnTo>
                    <a:pt x="1232" y="401"/>
                  </a:lnTo>
                  <a:lnTo>
                    <a:pt x="1232" y="406"/>
                  </a:lnTo>
                  <a:lnTo>
                    <a:pt x="1232" y="411"/>
                  </a:lnTo>
                  <a:lnTo>
                    <a:pt x="1232" y="416"/>
                  </a:lnTo>
                  <a:lnTo>
                    <a:pt x="1232" y="420"/>
                  </a:lnTo>
                  <a:lnTo>
                    <a:pt x="1232" y="430"/>
                  </a:lnTo>
                  <a:lnTo>
                    <a:pt x="1232" y="435"/>
                  </a:lnTo>
                  <a:lnTo>
                    <a:pt x="1227" y="440"/>
                  </a:lnTo>
                  <a:lnTo>
                    <a:pt x="1217" y="445"/>
                  </a:lnTo>
                  <a:lnTo>
                    <a:pt x="1212" y="450"/>
                  </a:lnTo>
                  <a:lnTo>
                    <a:pt x="1207" y="455"/>
                  </a:lnTo>
                  <a:lnTo>
                    <a:pt x="1202" y="460"/>
                  </a:lnTo>
                  <a:lnTo>
                    <a:pt x="1202" y="465"/>
                  </a:lnTo>
                  <a:lnTo>
                    <a:pt x="1202" y="470"/>
                  </a:lnTo>
                  <a:lnTo>
                    <a:pt x="1202" y="480"/>
                  </a:lnTo>
                  <a:lnTo>
                    <a:pt x="1202" y="485"/>
                  </a:lnTo>
                  <a:lnTo>
                    <a:pt x="1197" y="490"/>
                  </a:lnTo>
                  <a:lnTo>
                    <a:pt x="1192" y="495"/>
                  </a:lnTo>
                  <a:lnTo>
                    <a:pt x="1187" y="500"/>
                  </a:lnTo>
                  <a:lnTo>
                    <a:pt x="1182" y="504"/>
                  </a:lnTo>
                  <a:lnTo>
                    <a:pt x="1177" y="509"/>
                  </a:lnTo>
                  <a:lnTo>
                    <a:pt x="1177" y="519"/>
                  </a:lnTo>
                  <a:lnTo>
                    <a:pt x="1177" y="524"/>
                  </a:lnTo>
                  <a:lnTo>
                    <a:pt x="1177" y="529"/>
                  </a:lnTo>
                  <a:lnTo>
                    <a:pt x="1177" y="534"/>
                  </a:lnTo>
                  <a:lnTo>
                    <a:pt x="1177" y="544"/>
                  </a:lnTo>
                  <a:lnTo>
                    <a:pt x="1172" y="549"/>
                  </a:lnTo>
                  <a:lnTo>
                    <a:pt x="1172" y="554"/>
                  </a:lnTo>
                  <a:lnTo>
                    <a:pt x="1162" y="559"/>
                  </a:lnTo>
                  <a:lnTo>
                    <a:pt x="1157" y="564"/>
                  </a:lnTo>
                  <a:lnTo>
                    <a:pt x="1152" y="569"/>
                  </a:lnTo>
                  <a:lnTo>
                    <a:pt x="1147" y="574"/>
                  </a:lnTo>
                  <a:lnTo>
                    <a:pt x="1143" y="579"/>
                  </a:lnTo>
                  <a:lnTo>
                    <a:pt x="1133" y="579"/>
                  </a:lnTo>
                  <a:lnTo>
                    <a:pt x="1123" y="574"/>
                  </a:lnTo>
                  <a:lnTo>
                    <a:pt x="1113" y="574"/>
                  </a:lnTo>
                  <a:lnTo>
                    <a:pt x="1108" y="579"/>
                  </a:lnTo>
                  <a:lnTo>
                    <a:pt x="1103" y="584"/>
                  </a:lnTo>
                  <a:lnTo>
                    <a:pt x="1103" y="593"/>
                  </a:lnTo>
                  <a:lnTo>
                    <a:pt x="1103" y="598"/>
                  </a:lnTo>
                  <a:lnTo>
                    <a:pt x="1103" y="603"/>
                  </a:lnTo>
                  <a:lnTo>
                    <a:pt x="1103" y="608"/>
                  </a:lnTo>
                  <a:lnTo>
                    <a:pt x="1108" y="613"/>
                  </a:lnTo>
                  <a:lnTo>
                    <a:pt x="1108" y="623"/>
                  </a:lnTo>
                  <a:lnTo>
                    <a:pt x="1108" y="628"/>
                  </a:lnTo>
                  <a:lnTo>
                    <a:pt x="1108" y="633"/>
                  </a:lnTo>
                  <a:lnTo>
                    <a:pt x="1103" y="638"/>
                  </a:lnTo>
                  <a:lnTo>
                    <a:pt x="1103" y="648"/>
                  </a:lnTo>
                  <a:lnTo>
                    <a:pt x="1098" y="658"/>
                  </a:lnTo>
                  <a:lnTo>
                    <a:pt x="1093" y="663"/>
                  </a:lnTo>
                  <a:lnTo>
                    <a:pt x="1088" y="663"/>
                  </a:lnTo>
                  <a:lnTo>
                    <a:pt x="1088" y="663"/>
                  </a:lnTo>
                  <a:lnTo>
                    <a:pt x="1083" y="658"/>
                  </a:lnTo>
                  <a:lnTo>
                    <a:pt x="1083" y="648"/>
                  </a:lnTo>
                  <a:lnTo>
                    <a:pt x="1078" y="643"/>
                  </a:lnTo>
                  <a:lnTo>
                    <a:pt x="1078" y="633"/>
                  </a:lnTo>
                  <a:lnTo>
                    <a:pt x="1078" y="628"/>
                  </a:lnTo>
                  <a:lnTo>
                    <a:pt x="1078" y="623"/>
                  </a:lnTo>
                  <a:lnTo>
                    <a:pt x="1083" y="618"/>
                  </a:lnTo>
                  <a:lnTo>
                    <a:pt x="1083" y="608"/>
                  </a:lnTo>
                  <a:lnTo>
                    <a:pt x="1083" y="603"/>
                  </a:lnTo>
                  <a:lnTo>
                    <a:pt x="1083" y="598"/>
                  </a:lnTo>
                  <a:lnTo>
                    <a:pt x="1083" y="593"/>
                  </a:lnTo>
                  <a:lnTo>
                    <a:pt x="1083" y="584"/>
                  </a:lnTo>
                  <a:lnTo>
                    <a:pt x="1083" y="579"/>
                  </a:lnTo>
                  <a:lnTo>
                    <a:pt x="1083" y="574"/>
                  </a:lnTo>
                  <a:lnTo>
                    <a:pt x="1083" y="569"/>
                  </a:lnTo>
                  <a:lnTo>
                    <a:pt x="1088" y="564"/>
                  </a:lnTo>
                  <a:lnTo>
                    <a:pt x="1093" y="559"/>
                  </a:lnTo>
                  <a:lnTo>
                    <a:pt x="1098" y="554"/>
                  </a:lnTo>
                  <a:lnTo>
                    <a:pt x="1103" y="544"/>
                  </a:lnTo>
                  <a:lnTo>
                    <a:pt x="1108" y="539"/>
                  </a:lnTo>
                  <a:lnTo>
                    <a:pt x="1108" y="534"/>
                  </a:lnTo>
                  <a:lnTo>
                    <a:pt x="1108" y="529"/>
                  </a:lnTo>
                  <a:lnTo>
                    <a:pt x="1108" y="519"/>
                  </a:lnTo>
                  <a:lnTo>
                    <a:pt x="1108" y="514"/>
                  </a:lnTo>
                  <a:lnTo>
                    <a:pt x="1108" y="509"/>
                  </a:lnTo>
                  <a:lnTo>
                    <a:pt x="1113" y="504"/>
                  </a:lnTo>
                  <a:lnTo>
                    <a:pt x="1118" y="500"/>
                  </a:lnTo>
                  <a:lnTo>
                    <a:pt x="1123" y="495"/>
                  </a:lnTo>
                  <a:lnTo>
                    <a:pt x="1128" y="490"/>
                  </a:lnTo>
                  <a:lnTo>
                    <a:pt x="1133" y="485"/>
                  </a:lnTo>
                  <a:lnTo>
                    <a:pt x="1138" y="480"/>
                  </a:lnTo>
                  <a:lnTo>
                    <a:pt x="1133" y="475"/>
                  </a:lnTo>
                  <a:lnTo>
                    <a:pt x="1133" y="465"/>
                  </a:lnTo>
                  <a:lnTo>
                    <a:pt x="1133" y="460"/>
                  </a:lnTo>
                  <a:lnTo>
                    <a:pt x="1133" y="455"/>
                  </a:lnTo>
                  <a:lnTo>
                    <a:pt x="1133" y="450"/>
                  </a:lnTo>
                  <a:lnTo>
                    <a:pt x="1138" y="445"/>
                  </a:lnTo>
                  <a:lnTo>
                    <a:pt x="1143" y="440"/>
                  </a:lnTo>
                  <a:lnTo>
                    <a:pt x="1152" y="435"/>
                  </a:lnTo>
                  <a:lnTo>
                    <a:pt x="1157" y="430"/>
                  </a:lnTo>
                  <a:lnTo>
                    <a:pt x="1157" y="425"/>
                  </a:lnTo>
                  <a:lnTo>
                    <a:pt x="1157" y="420"/>
                  </a:lnTo>
                  <a:lnTo>
                    <a:pt x="1157" y="411"/>
                  </a:lnTo>
                  <a:lnTo>
                    <a:pt x="1152" y="406"/>
                  </a:lnTo>
                  <a:lnTo>
                    <a:pt x="1152" y="401"/>
                  </a:lnTo>
                  <a:lnTo>
                    <a:pt x="1147" y="391"/>
                  </a:lnTo>
                  <a:lnTo>
                    <a:pt x="1147" y="381"/>
                  </a:lnTo>
                  <a:lnTo>
                    <a:pt x="1147" y="376"/>
                  </a:lnTo>
                  <a:lnTo>
                    <a:pt x="1143" y="376"/>
                  </a:lnTo>
                  <a:lnTo>
                    <a:pt x="1143" y="376"/>
                  </a:lnTo>
                  <a:lnTo>
                    <a:pt x="1138" y="381"/>
                  </a:lnTo>
                  <a:lnTo>
                    <a:pt x="1133" y="391"/>
                  </a:lnTo>
                  <a:lnTo>
                    <a:pt x="1128" y="396"/>
                  </a:lnTo>
                  <a:lnTo>
                    <a:pt x="1128" y="406"/>
                  </a:lnTo>
                  <a:lnTo>
                    <a:pt x="1123" y="411"/>
                  </a:lnTo>
                  <a:lnTo>
                    <a:pt x="1118" y="416"/>
                  </a:lnTo>
                  <a:lnTo>
                    <a:pt x="1108" y="420"/>
                  </a:lnTo>
                  <a:lnTo>
                    <a:pt x="1103" y="425"/>
                  </a:lnTo>
                  <a:lnTo>
                    <a:pt x="1098" y="430"/>
                  </a:lnTo>
                  <a:lnTo>
                    <a:pt x="1098" y="435"/>
                  </a:lnTo>
                  <a:lnTo>
                    <a:pt x="1098" y="440"/>
                  </a:lnTo>
                  <a:lnTo>
                    <a:pt x="1098" y="445"/>
                  </a:lnTo>
                  <a:lnTo>
                    <a:pt x="1093" y="455"/>
                  </a:lnTo>
                  <a:lnTo>
                    <a:pt x="1093" y="460"/>
                  </a:lnTo>
                  <a:lnTo>
                    <a:pt x="1083" y="465"/>
                  </a:lnTo>
                  <a:lnTo>
                    <a:pt x="1078" y="470"/>
                  </a:lnTo>
                  <a:lnTo>
                    <a:pt x="1073" y="475"/>
                  </a:lnTo>
                  <a:lnTo>
                    <a:pt x="1073" y="480"/>
                  </a:lnTo>
                  <a:lnTo>
                    <a:pt x="1068" y="485"/>
                  </a:lnTo>
                  <a:lnTo>
                    <a:pt x="1068" y="495"/>
                  </a:lnTo>
                  <a:lnTo>
                    <a:pt x="1068" y="500"/>
                  </a:lnTo>
                  <a:lnTo>
                    <a:pt x="1068" y="504"/>
                  </a:lnTo>
                  <a:lnTo>
                    <a:pt x="1063" y="509"/>
                  </a:lnTo>
                  <a:lnTo>
                    <a:pt x="1058" y="514"/>
                  </a:lnTo>
                  <a:lnTo>
                    <a:pt x="1053" y="519"/>
                  </a:lnTo>
                  <a:lnTo>
                    <a:pt x="1049" y="524"/>
                  </a:lnTo>
                  <a:lnTo>
                    <a:pt x="1049" y="534"/>
                  </a:lnTo>
                  <a:lnTo>
                    <a:pt x="1049" y="539"/>
                  </a:lnTo>
                  <a:lnTo>
                    <a:pt x="1044" y="544"/>
                  </a:lnTo>
                  <a:lnTo>
                    <a:pt x="1044" y="549"/>
                  </a:lnTo>
                  <a:lnTo>
                    <a:pt x="1044" y="559"/>
                  </a:lnTo>
                  <a:lnTo>
                    <a:pt x="1044" y="564"/>
                  </a:lnTo>
                  <a:lnTo>
                    <a:pt x="1044" y="569"/>
                  </a:lnTo>
                  <a:lnTo>
                    <a:pt x="1039" y="574"/>
                  </a:lnTo>
                  <a:lnTo>
                    <a:pt x="1039" y="579"/>
                  </a:lnTo>
                  <a:lnTo>
                    <a:pt x="1039" y="589"/>
                  </a:lnTo>
                  <a:lnTo>
                    <a:pt x="1039" y="593"/>
                  </a:lnTo>
                  <a:lnTo>
                    <a:pt x="1034" y="598"/>
                  </a:lnTo>
                  <a:lnTo>
                    <a:pt x="1034" y="603"/>
                  </a:lnTo>
                  <a:lnTo>
                    <a:pt x="1029" y="608"/>
                  </a:lnTo>
                  <a:lnTo>
                    <a:pt x="1024" y="618"/>
                  </a:lnTo>
                  <a:lnTo>
                    <a:pt x="1024" y="623"/>
                  </a:lnTo>
                  <a:lnTo>
                    <a:pt x="1024" y="628"/>
                  </a:lnTo>
                  <a:lnTo>
                    <a:pt x="1019" y="633"/>
                  </a:lnTo>
                  <a:lnTo>
                    <a:pt x="1019" y="638"/>
                  </a:lnTo>
                  <a:lnTo>
                    <a:pt x="1019" y="648"/>
                  </a:lnTo>
                  <a:lnTo>
                    <a:pt x="1019" y="653"/>
                  </a:lnTo>
                  <a:lnTo>
                    <a:pt x="1014" y="658"/>
                  </a:lnTo>
                  <a:lnTo>
                    <a:pt x="1014" y="663"/>
                  </a:lnTo>
                  <a:lnTo>
                    <a:pt x="1014" y="673"/>
                  </a:lnTo>
                  <a:lnTo>
                    <a:pt x="1014" y="677"/>
                  </a:lnTo>
                  <a:lnTo>
                    <a:pt x="1014" y="682"/>
                  </a:lnTo>
                  <a:lnTo>
                    <a:pt x="1014" y="687"/>
                  </a:lnTo>
                  <a:lnTo>
                    <a:pt x="1014" y="697"/>
                  </a:lnTo>
                  <a:lnTo>
                    <a:pt x="1014" y="702"/>
                  </a:lnTo>
                  <a:lnTo>
                    <a:pt x="1014" y="712"/>
                  </a:lnTo>
                  <a:lnTo>
                    <a:pt x="1009" y="717"/>
                  </a:lnTo>
                  <a:lnTo>
                    <a:pt x="1009" y="717"/>
                  </a:lnTo>
                  <a:lnTo>
                    <a:pt x="1009" y="717"/>
                  </a:lnTo>
                  <a:lnTo>
                    <a:pt x="1004" y="712"/>
                  </a:lnTo>
                  <a:lnTo>
                    <a:pt x="999" y="702"/>
                  </a:lnTo>
                  <a:lnTo>
                    <a:pt x="994" y="692"/>
                  </a:lnTo>
                  <a:close/>
                  <a:moveTo>
                    <a:pt x="955" y="589"/>
                  </a:moveTo>
                  <a:lnTo>
                    <a:pt x="955" y="584"/>
                  </a:lnTo>
                  <a:lnTo>
                    <a:pt x="955" y="584"/>
                  </a:lnTo>
                  <a:lnTo>
                    <a:pt x="955" y="584"/>
                  </a:lnTo>
                  <a:lnTo>
                    <a:pt x="955" y="584"/>
                  </a:lnTo>
                  <a:lnTo>
                    <a:pt x="960" y="584"/>
                  </a:lnTo>
                  <a:lnTo>
                    <a:pt x="960" y="584"/>
                  </a:lnTo>
                  <a:lnTo>
                    <a:pt x="960" y="584"/>
                  </a:lnTo>
                  <a:lnTo>
                    <a:pt x="960" y="589"/>
                  </a:lnTo>
                  <a:lnTo>
                    <a:pt x="960" y="589"/>
                  </a:lnTo>
                  <a:lnTo>
                    <a:pt x="960" y="589"/>
                  </a:lnTo>
                  <a:lnTo>
                    <a:pt x="960" y="589"/>
                  </a:lnTo>
                  <a:lnTo>
                    <a:pt x="955" y="589"/>
                  </a:lnTo>
                  <a:lnTo>
                    <a:pt x="955" y="589"/>
                  </a:lnTo>
                  <a:lnTo>
                    <a:pt x="955" y="589"/>
                  </a:lnTo>
                  <a:close/>
                  <a:moveTo>
                    <a:pt x="1157" y="534"/>
                  </a:moveTo>
                  <a:lnTo>
                    <a:pt x="1152" y="524"/>
                  </a:lnTo>
                  <a:lnTo>
                    <a:pt x="1147" y="519"/>
                  </a:lnTo>
                  <a:lnTo>
                    <a:pt x="1143" y="514"/>
                  </a:lnTo>
                  <a:lnTo>
                    <a:pt x="1143" y="519"/>
                  </a:lnTo>
                  <a:lnTo>
                    <a:pt x="1138" y="524"/>
                  </a:lnTo>
                  <a:lnTo>
                    <a:pt x="1138" y="534"/>
                  </a:lnTo>
                  <a:lnTo>
                    <a:pt x="1138" y="539"/>
                  </a:lnTo>
                  <a:lnTo>
                    <a:pt x="1138" y="549"/>
                  </a:lnTo>
                  <a:lnTo>
                    <a:pt x="1143" y="554"/>
                  </a:lnTo>
                  <a:lnTo>
                    <a:pt x="1143" y="554"/>
                  </a:lnTo>
                  <a:lnTo>
                    <a:pt x="1147" y="554"/>
                  </a:lnTo>
                  <a:lnTo>
                    <a:pt x="1152" y="549"/>
                  </a:lnTo>
                  <a:lnTo>
                    <a:pt x="1152" y="544"/>
                  </a:lnTo>
                  <a:lnTo>
                    <a:pt x="1157" y="534"/>
                  </a:lnTo>
                  <a:close/>
                  <a:moveTo>
                    <a:pt x="1182" y="480"/>
                  </a:moveTo>
                  <a:lnTo>
                    <a:pt x="1177" y="475"/>
                  </a:lnTo>
                  <a:lnTo>
                    <a:pt x="1177" y="470"/>
                  </a:lnTo>
                  <a:lnTo>
                    <a:pt x="1172" y="465"/>
                  </a:lnTo>
                  <a:lnTo>
                    <a:pt x="1172" y="465"/>
                  </a:lnTo>
                  <a:lnTo>
                    <a:pt x="1167" y="465"/>
                  </a:lnTo>
                  <a:lnTo>
                    <a:pt x="1167" y="470"/>
                  </a:lnTo>
                  <a:lnTo>
                    <a:pt x="1167" y="475"/>
                  </a:lnTo>
                  <a:lnTo>
                    <a:pt x="1167" y="480"/>
                  </a:lnTo>
                  <a:lnTo>
                    <a:pt x="1167" y="485"/>
                  </a:lnTo>
                  <a:lnTo>
                    <a:pt x="1167" y="490"/>
                  </a:lnTo>
                  <a:lnTo>
                    <a:pt x="1172" y="490"/>
                  </a:lnTo>
                  <a:lnTo>
                    <a:pt x="1172" y="490"/>
                  </a:lnTo>
                  <a:lnTo>
                    <a:pt x="1177" y="485"/>
                  </a:lnTo>
                  <a:lnTo>
                    <a:pt x="1182" y="480"/>
                  </a:lnTo>
                  <a:close/>
                  <a:moveTo>
                    <a:pt x="1424" y="455"/>
                  </a:moveTo>
                  <a:lnTo>
                    <a:pt x="1424" y="450"/>
                  </a:lnTo>
                  <a:lnTo>
                    <a:pt x="1429" y="445"/>
                  </a:lnTo>
                  <a:lnTo>
                    <a:pt x="1429" y="445"/>
                  </a:lnTo>
                  <a:lnTo>
                    <a:pt x="1434" y="445"/>
                  </a:lnTo>
                  <a:lnTo>
                    <a:pt x="1434" y="445"/>
                  </a:lnTo>
                  <a:lnTo>
                    <a:pt x="1439" y="445"/>
                  </a:lnTo>
                  <a:lnTo>
                    <a:pt x="1439" y="450"/>
                  </a:lnTo>
                  <a:lnTo>
                    <a:pt x="1439" y="450"/>
                  </a:lnTo>
                  <a:lnTo>
                    <a:pt x="1439" y="455"/>
                  </a:lnTo>
                  <a:lnTo>
                    <a:pt x="1434" y="455"/>
                  </a:lnTo>
                  <a:lnTo>
                    <a:pt x="1434" y="455"/>
                  </a:lnTo>
                  <a:lnTo>
                    <a:pt x="1429" y="455"/>
                  </a:lnTo>
                  <a:lnTo>
                    <a:pt x="1424" y="455"/>
                  </a:lnTo>
                  <a:lnTo>
                    <a:pt x="1424" y="455"/>
                  </a:lnTo>
                  <a:close/>
                  <a:moveTo>
                    <a:pt x="1172" y="346"/>
                  </a:moveTo>
                  <a:lnTo>
                    <a:pt x="1172" y="341"/>
                  </a:lnTo>
                  <a:lnTo>
                    <a:pt x="1172" y="341"/>
                  </a:lnTo>
                  <a:lnTo>
                    <a:pt x="1172" y="341"/>
                  </a:lnTo>
                  <a:lnTo>
                    <a:pt x="1167" y="341"/>
                  </a:lnTo>
                  <a:lnTo>
                    <a:pt x="1167" y="346"/>
                  </a:lnTo>
                  <a:lnTo>
                    <a:pt x="1167" y="346"/>
                  </a:lnTo>
                  <a:lnTo>
                    <a:pt x="1167" y="351"/>
                  </a:lnTo>
                  <a:lnTo>
                    <a:pt x="1167" y="351"/>
                  </a:lnTo>
                  <a:lnTo>
                    <a:pt x="1167" y="351"/>
                  </a:lnTo>
                  <a:lnTo>
                    <a:pt x="1172" y="351"/>
                  </a:lnTo>
                  <a:lnTo>
                    <a:pt x="1172" y="351"/>
                  </a:lnTo>
                  <a:lnTo>
                    <a:pt x="1172" y="351"/>
                  </a:lnTo>
                  <a:lnTo>
                    <a:pt x="1172" y="351"/>
                  </a:lnTo>
                  <a:lnTo>
                    <a:pt x="1172" y="346"/>
                  </a:lnTo>
                  <a:close/>
                  <a:moveTo>
                    <a:pt x="915" y="238"/>
                  </a:moveTo>
                  <a:lnTo>
                    <a:pt x="920" y="238"/>
                  </a:lnTo>
                  <a:lnTo>
                    <a:pt x="925" y="233"/>
                  </a:lnTo>
                  <a:lnTo>
                    <a:pt x="930" y="228"/>
                  </a:lnTo>
                  <a:lnTo>
                    <a:pt x="935" y="223"/>
                  </a:lnTo>
                  <a:lnTo>
                    <a:pt x="935" y="223"/>
                  </a:lnTo>
                  <a:lnTo>
                    <a:pt x="940" y="218"/>
                  </a:lnTo>
                  <a:lnTo>
                    <a:pt x="945" y="213"/>
                  </a:lnTo>
                  <a:lnTo>
                    <a:pt x="950" y="208"/>
                  </a:lnTo>
                  <a:lnTo>
                    <a:pt x="955" y="203"/>
                  </a:lnTo>
                  <a:lnTo>
                    <a:pt x="955" y="203"/>
                  </a:lnTo>
                  <a:lnTo>
                    <a:pt x="960" y="203"/>
                  </a:lnTo>
                  <a:lnTo>
                    <a:pt x="964" y="208"/>
                  </a:lnTo>
                  <a:lnTo>
                    <a:pt x="969" y="213"/>
                  </a:lnTo>
                  <a:lnTo>
                    <a:pt x="964" y="218"/>
                  </a:lnTo>
                  <a:lnTo>
                    <a:pt x="964" y="223"/>
                  </a:lnTo>
                  <a:lnTo>
                    <a:pt x="960" y="223"/>
                  </a:lnTo>
                  <a:lnTo>
                    <a:pt x="955" y="228"/>
                  </a:lnTo>
                  <a:lnTo>
                    <a:pt x="950" y="233"/>
                  </a:lnTo>
                  <a:lnTo>
                    <a:pt x="945" y="238"/>
                  </a:lnTo>
                  <a:lnTo>
                    <a:pt x="945" y="243"/>
                  </a:lnTo>
                  <a:lnTo>
                    <a:pt x="940" y="247"/>
                  </a:lnTo>
                  <a:lnTo>
                    <a:pt x="935" y="247"/>
                  </a:lnTo>
                  <a:lnTo>
                    <a:pt x="930" y="252"/>
                  </a:lnTo>
                  <a:lnTo>
                    <a:pt x="925" y="252"/>
                  </a:lnTo>
                  <a:lnTo>
                    <a:pt x="920" y="247"/>
                  </a:lnTo>
                  <a:lnTo>
                    <a:pt x="915" y="238"/>
                  </a:lnTo>
                  <a:close/>
                  <a:moveTo>
                    <a:pt x="989" y="188"/>
                  </a:moveTo>
                  <a:lnTo>
                    <a:pt x="994" y="178"/>
                  </a:lnTo>
                  <a:lnTo>
                    <a:pt x="999" y="173"/>
                  </a:lnTo>
                  <a:lnTo>
                    <a:pt x="1004" y="168"/>
                  </a:lnTo>
                  <a:lnTo>
                    <a:pt x="1014" y="168"/>
                  </a:lnTo>
                  <a:lnTo>
                    <a:pt x="1019" y="173"/>
                  </a:lnTo>
                  <a:lnTo>
                    <a:pt x="1024" y="178"/>
                  </a:lnTo>
                  <a:lnTo>
                    <a:pt x="1024" y="188"/>
                  </a:lnTo>
                  <a:lnTo>
                    <a:pt x="1024" y="193"/>
                  </a:lnTo>
                  <a:lnTo>
                    <a:pt x="1019" y="198"/>
                  </a:lnTo>
                  <a:lnTo>
                    <a:pt x="1014" y="203"/>
                  </a:lnTo>
                  <a:lnTo>
                    <a:pt x="1004" y="203"/>
                  </a:lnTo>
                  <a:lnTo>
                    <a:pt x="999" y="203"/>
                  </a:lnTo>
                  <a:lnTo>
                    <a:pt x="994" y="193"/>
                  </a:lnTo>
                  <a:lnTo>
                    <a:pt x="989" y="188"/>
                  </a:lnTo>
                  <a:close/>
                  <a:moveTo>
                    <a:pt x="1602" y="79"/>
                  </a:moveTo>
                  <a:lnTo>
                    <a:pt x="1602" y="74"/>
                  </a:lnTo>
                  <a:lnTo>
                    <a:pt x="1598" y="70"/>
                  </a:lnTo>
                  <a:lnTo>
                    <a:pt x="1598" y="65"/>
                  </a:lnTo>
                  <a:lnTo>
                    <a:pt x="1598" y="60"/>
                  </a:lnTo>
                  <a:lnTo>
                    <a:pt x="1598" y="60"/>
                  </a:lnTo>
                  <a:lnTo>
                    <a:pt x="1598" y="60"/>
                  </a:lnTo>
                  <a:lnTo>
                    <a:pt x="1593" y="60"/>
                  </a:lnTo>
                  <a:lnTo>
                    <a:pt x="1593" y="65"/>
                  </a:lnTo>
                  <a:lnTo>
                    <a:pt x="1593" y="65"/>
                  </a:lnTo>
                  <a:lnTo>
                    <a:pt x="1593" y="70"/>
                  </a:lnTo>
                  <a:lnTo>
                    <a:pt x="1593" y="74"/>
                  </a:lnTo>
                  <a:lnTo>
                    <a:pt x="1593" y="79"/>
                  </a:lnTo>
                  <a:lnTo>
                    <a:pt x="1598" y="84"/>
                  </a:lnTo>
                  <a:lnTo>
                    <a:pt x="1602" y="79"/>
                  </a:lnTo>
                  <a:close/>
                </a:path>
              </a:pathLst>
            </a:custGeom>
            <a:solidFill>
              <a:srgbClr val="4bc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9" name=""/>
            <p:cNvSpPr/>
            <p:nvPr/>
          </p:nvSpPr>
          <p:spPr>
            <a:xfrm>
              <a:off x="2268360" y="2360880"/>
              <a:ext cx="4098960" cy="2628720"/>
            </a:xfrm>
            <a:custGeom>
              <a:avLst/>
              <a:gdLst/>
              <a:ahLst/>
              <a:rect l="l" t="t" r="r" b="b"/>
              <a:pathLst>
                <a:path w="2582" h="1656">
                  <a:moveTo>
                    <a:pt x="2235" y="1656"/>
                  </a:moveTo>
                  <a:lnTo>
                    <a:pt x="2260" y="1631"/>
                  </a:lnTo>
                  <a:lnTo>
                    <a:pt x="2285" y="1631"/>
                  </a:lnTo>
                  <a:lnTo>
                    <a:pt x="2315" y="1631"/>
                  </a:lnTo>
                  <a:lnTo>
                    <a:pt x="2339" y="1631"/>
                  </a:lnTo>
                  <a:lnTo>
                    <a:pt x="2369" y="1631"/>
                  </a:lnTo>
                  <a:lnTo>
                    <a:pt x="2394" y="1631"/>
                  </a:lnTo>
                  <a:lnTo>
                    <a:pt x="2418" y="1631"/>
                  </a:lnTo>
                  <a:lnTo>
                    <a:pt x="2448" y="1602"/>
                  </a:lnTo>
                  <a:lnTo>
                    <a:pt x="2448" y="1577"/>
                  </a:lnTo>
                  <a:lnTo>
                    <a:pt x="2448" y="1547"/>
                  </a:lnTo>
                  <a:lnTo>
                    <a:pt x="2448" y="1523"/>
                  </a:lnTo>
                  <a:lnTo>
                    <a:pt x="2473" y="1498"/>
                  </a:lnTo>
                  <a:lnTo>
                    <a:pt x="2473" y="1468"/>
                  </a:lnTo>
                  <a:lnTo>
                    <a:pt x="2473" y="1444"/>
                  </a:lnTo>
                  <a:lnTo>
                    <a:pt x="2473" y="1414"/>
                  </a:lnTo>
                  <a:lnTo>
                    <a:pt x="2503" y="1389"/>
                  </a:lnTo>
                  <a:lnTo>
                    <a:pt x="2503" y="1364"/>
                  </a:lnTo>
                  <a:lnTo>
                    <a:pt x="2503" y="1335"/>
                  </a:lnTo>
                  <a:lnTo>
                    <a:pt x="2503" y="1310"/>
                  </a:lnTo>
                  <a:lnTo>
                    <a:pt x="2527" y="1280"/>
                  </a:lnTo>
                  <a:lnTo>
                    <a:pt x="2527" y="1256"/>
                  </a:lnTo>
                  <a:lnTo>
                    <a:pt x="2527" y="1226"/>
                  </a:lnTo>
                  <a:lnTo>
                    <a:pt x="2527" y="1201"/>
                  </a:lnTo>
                  <a:lnTo>
                    <a:pt x="2552" y="1177"/>
                  </a:lnTo>
                  <a:lnTo>
                    <a:pt x="2552" y="1147"/>
                  </a:lnTo>
                  <a:lnTo>
                    <a:pt x="2552" y="1122"/>
                  </a:lnTo>
                  <a:lnTo>
                    <a:pt x="2552" y="1093"/>
                  </a:lnTo>
                  <a:lnTo>
                    <a:pt x="2582" y="1068"/>
                  </a:lnTo>
                  <a:lnTo>
                    <a:pt x="2582" y="1043"/>
                  </a:lnTo>
                  <a:lnTo>
                    <a:pt x="2582" y="1014"/>
                  </a:lnTo>
                  <a:lnTo>
                    <a:pt x="2582" y="989"/>
                  </a:lnTo>
                  <a:lnTo>
                    <a:pt x="2582" y="959"/>
                  </a:lnTo>
                  <a:lnTo>
                    <a:pt x="2582" y="934"/>
                  </a:lnTo>
                  <a:lnTo>
                    <a:pt x="2582" y="910"/>
                  </a:lnTo>
                  <a:lnTo>
                    <a:pt x="2582" y="880"/>
                  </a:lnTo>
                  <a:lnTo>
                    <a:pt x="2582" y="855"/>
                  </a:lnTo>
                  <a:lnTo>
                    <a:pt x="2582" y="826"/>
                  </a:lnTo>
                  <a:lnTo>
                    <a:pt x="2582" y="801"/>
                  </a:lnTo>
                  <a:lnTo>
                    <a:pt x="2582" y="776"/>
                  </a:lnTo>
                  <a:lnTo>
                    <a:pt x="2582" y="747"/>
                  </a:lnTo>
                  <a:lnTo>
                    <a:pt x="2582" y="722"/>
                  </a:lnTo>
                  <a:lnTo>
                    <a:pt x="2582" y="692"/>
                  </a:lnTo>
                  <a:lnTo>
                    <a:pt x="2582" y="668"/>
                  </a:lnTo>
                  <a:lnTo>
                    <a:pt x="2582" y="643"/>
                  </a:lnTo>
                  <a:lnTo>
                    <a:pt x="2582" y="613"/>
                  </a:lnTo>
                  <a:lnTo>
                    <a:pt x="2582" y="589"/>
                  </a:lnTo>
                  <a:lnTo>
                    <a:pt x="2582" y="559"/>
                  </a:lnTo>
                  <a:lnTo>
                    <a:pt x="2582" y="534"/>
                  </a:lnTo>
                  <a:lnTo>
                    <a:pt x="2582" y="504"/>
                  </a:lnTo>
                  <a:lnTo>
                    <a:pt x="2582" y="480"/>
                  </a:lnTo>
                  <a:lnTo>
                    <a:pt x="2582" y="455"/>
                  </a:lnTo>
                  <a:lnTo>
                    <a:pt x="2582" y="425"/>
                  </a:lnTo>
                  <a:lnTo>
                    <a:pt x="2582" y="401"/>
                  </a:lnTo>
                  <a:lnTo>
                    <a:pt x="2582" y="371"/>
                  </a:lnTo>
                  <a:lnTo>
                    <a:pt x="2582" y="346"/>
                  </a:lnTo>
                  <a:lnTo>
                    <a:pt x="2582" y="322"/>
                  </a:lnTo>
                  <a:lnTo>
                    <a:pt x="2582" y="292"/>
                  </a:lnTo>
                  <a:lnTo>
                    <a:pt x="2582" y="267"/>
                  </a:lnTo>
                  <a:lnTo>
                    <a:pt x="2582" y="238"/>
                  </a:lnTo>
                  <a:lnTo>
                    <a:pt x="2552" y="213"/>
                  </a:lnTo>
                  <a:lnTo>
                    <a:pt x="2552" y="188"/>
                  </a:lnTo>
                  <a:lnTo>
                    <a:pt x="2552" y="159"/>
                  </a:lnTo>
                  <a:lnTo>
                    <a:pt x="2552" y="134"/>
                  </a:lnTo>
                  <a:lnTo>
                    <a:pt x="2552" y="104"/>
                  </a:lnTo>
                  <a:lnTo>
                    <a:pt x="2527" y="79"/>
                  </a:lnTo>
                  <a:lnTo>
                    <a:pt x="2503" y="79"/>
                  </a:lnTo>
                  <a:lnTo>
                    <a:pt x="2473" y="79"/>
                  </a:lnTo>
                  <a:lnTo>
                    <a:pt x="2448" y="55"/>
                  </a:lnTo>
                  <a:lnTo>
                    <a:pt x="2418" y="55"/>
                  </a:lnTo>
                  <a:lnTo>
                    <a:pt x="2394" y="55"/>
                  </a:lnTo>
                  <a:lnTo>
                    <a:pt x="2369" y="25"/>
                  </a:lnTo>
                  <a:lnTo>
                    <a:pt x="2339" y="25"/>
                  </a:lnTo>
                  <a:lnTo>
                    <a:pt x="2315" y="25"/>
                  </a:lnTo>
                  <a:lnTo>
                    <a:pt x="2285" y="0"/>
                  </a:lnTo>
                  <a:lnTo>
                    <a:pt x="2260" y="0"/>
                  </a:lnTo>
                  <a:lnTo>
                    <a:pt x="2235" y="0"/>
                  </a:lnTo>
                  <a:lnTo>
                    <a:pt x="2206" y="0"/>
                  </a:lnTo>
                  <a:lnTo>
                    <a:pt x="2181" y="0"/>
                  </a:lnTo>
                  <a:lnTo>
                    <a:pt x="2156" y="0"/>
                  </a:lnTo>
                  <a:lnTo>
                    <a:pt x="2127" y="0"/>
                  </a:lnTo>
                  <a:lnTo>
                    <a:pt x="2102" y="0"/>
                  </a:lnTo>
                  <a:lnTo>
                    <a:pt x="2072" y="0"/>
                  </a:lnTo>
                  <a:lnTo>
                    <a:pt x="2048" y="0"/>
                  </a:lnTo>
                  <a:lnTo>
                    <a:pt x="2023" y="0"/>
                  </a:lnTo>
                  <a:lnTo>
                    <a:pt x="1993" y="0"/>
                  </a:lnTo>
                  <a:lnTo>
                    <a:pt x="1968" y="0"/>
                  </a:lnTo>
                  <a:lnTo>
                    <a:pt x="1944" y="0"/>
                  </a:lnTo>
                  <a:lnTo>
                    <a:pt x="1914" y="0"/>
                  </a:lnTo>
                  <a:lnTo>
                    <a:pt x="1889" y="0"/>
                  </a:lnTo>
                  <a:lnTo>
                    <a:pt x="1860" y="0"/>
                  </a:lnTo>
                  <a:lnTo>
                    <a:pt x="1835" y="0"/>
                  </a:lnTo>
                  <a:lnTo>
                    <a:pt x="1810" y="0"/>
                  </a:lnTo>
                  <a:lnTo>
                    <a:pt x="1780" y="0"/>
                  </a:lnTo>
                  <a:lnTo>
                    <a:pt x="1756" y="0"/>
                  </a:lnTo>
                  <a:lnTo>
                    <a:pt x="1726" y="0"/>
                  </a:lnTo>
                  <a:lnTo>
                    <a:pt x="1701" y="0"/>
                  </a:lnTo>
                  <a:lnTo>
                    <a:pt x="1677" y="0"/>
                  </a:lnTo>
                  <a:lnTo>
                    <a:pt x="1647" y="0"/>
                  </a:lnTo>
                  <a:lnTo>
                    <a:pt x="1622" y="0"/>
                  </a:lnTo>
                  <a:lnTo>
                    <a:pt x="1598" y="0"/>
                  </a:lnTo>
                  <a:lnTo>
                    <a:pt x="1568" y="0"/>
                  </a:lnTo>
                  <a:lnTo>
                    <a:pt x="1543" y="0"/>
                  </a:lnTo>
                  <a:lnTo>
                    <a:pt x="1513" y="0"/>
                  </a:lnTo>
                  <a:lnTo>
                    <a:pt x="1489" y="0"/>
                  </a:lnTo>
                  <a:lnTo>
                    <a:pt x="1464" y="0"/>
                  </a:lnTo>
                  <a:lnTo>
                    <a:pt x="1434" y="0"/>
                  </a:lnTo>
                  <a:lnTo>
                    <a:pt x="1410" y="0"/>
                  </a:lnTo>
                  <a:lnTo>
                    <a:pt x="1385" y="0"/>
                  </a:lnTo>
                  <a:lnTo>
                    <a:pt x="1355" y="0"/>
                  </a:lnTo>
                  <a:lnTo>
                    <a:pt x="1330" y="0"/>
                  </a:lnTo>
                  <a:lnTo>
                    <a:pt x="1301" y="0"/>
                  </a:lnTo>
                  <a:lnTo>
                    <a:pt x="1276" y="0"/>
                  </a:lnTo>
                  <a:lnTo>
                    <a:pt x="1251" y="0"/>
                  </a:lnTo>
                  <a:lnTo>
                    <a:pt x="1222" y="0"/>
                  </a:lnTo>
                  <a:lnTo>
                    <a:pt x="1197" y="0"/>
                  </a:lnTo>
                  <a:lnTo>
                    <a:pt x="1172" y="0"/>
                  </a:lnTo>
                  <a:lnTo>
                    <a:pt x="1143" y="0"/>
                  </a:lnTo>
                  <a:lnTo>
                    <a:pt x="1118" y="0"/>
                  </a:lnTo>
                  <a:lnTo>
                    <a:pt x="1088" y="0"/>
                  </a:lnTo>
                  <a:lnTo>
                    <a:pt x="1063" y="0"/>
                  </a:lnTo>
                  <a:lnTo>
                    <a:pt x="1039" y="0"/>
                  </a:lnTo>
                  <a:lnTo>
                    <a:pt x="1009" y="0"/>
                  </a:lnTo>
                  <a:lnTo>
                    <a:pt x="984" y="0"/>
                  </a:lnTo>
                  <a:lnTo>
                    <a:pt x="955" y="0"/>
                  </a:lnTo>
                  <a:lnTo>
                    <a:pt x="930" y="0"/>
                  </a:lnTo>
                  <a:lnTo>
                    <a:pt x="905" y="0"/>
                  </a:lnTo>
                  <a:lnTo>
                    <a:pt x="875" y="0"/>
                  </a:lnTo>
                  <a:lnTo>
                    <a:pt x="851" y="0"/>
                  </a:lnTo>
                  <a:lnTo>
                    <a:pt x="826" y="0"/>
                  </a:lnTo>
                  <a:lnTo>
                    <a:pt x="796" y="0"/>
                  </a:lnTo>
                  <a:lnTo>
                    <a:pt x="772" y="0"/>
                  </a:lnTo>
                  <a:lnTo>
                    <a:pt x="742" y="0"/>
                  </a:lnTo>
                  <a:lnTo>
                    <a:pt x="717" y="0"/>
                  </a:lnTo>
                  <a:lnTo>
                    <a:pt x="692" y="0"/>
                  </a:lnTo>
                  <a:lnTo>
                    <a:pt x="663" y="0"/>
                  </a:lnTo>
                  <a:lnTo>
                    <a:pt x="638" y="0"/>
                  </a:lnTo>
                  <a:lnTo>
                    <a:pt x="613" y="0"/>
                  </a:lnTo>
                  <a:lnTo>
                    <a:pt x="584" y="25"/>
                  </a:lnTo>
                  <a:lnTo>
                    <a:pt x="559" y="55"/>
                  </a:lnTo>
                  <a:lnTo>
                    <a:pt x="529" y="79"/>
                  </a:lnTo>
                  <a:lnTo>
                    <a:pt x="505" y="104"/>
                  </a:lnTo>
                  <a:lnTo>
                    <a:pt x="480" y="134"/>
                  </a:lnTo>
                  <a:lnTo>
                    <a:pt x="450" y="134"/>
                  </a:lnTo>
                  <a:lnTo>
                    <a:pt x="425" y="159"/>
                  </a:lnTo>
                  <a:lnTo>
                    <a:pt x="396" y="188"/>
                  </a:lnTo>
                  <a:lnTo>
                    <a:pt x="371" y="213"/>
                  </a:lnTo>
                  <a:lnTo>
                    <a:pt x="346" y="238"/>
                  </a:lnTo>
                  <a:lnTo>
                    <a:pt x="317" y="267"/>
                  </a:lnTo>
                  <a:lnTo>
                    <a:pt x="292" y="292"/>
                  </a:lnTo>
                  <a:lnTo>
                    <a:pt x="267" y="322"/>
                  </a:lnTo>
                  <a:lnTo>
                    <a:pt x="237" y="322"/>
                  </a:lnTo>
                  <a:lnTo>
                    <a:pt x="213" y="346"/>
                  </a:lnTo>
                  <a:lnTo>
                    <a:pt x="183" y="371"/>
                  </a:lnTo>
                  <a:lnTo>
                    <a:pt x="158" y="401"/>
                  </a:lnTo>
                  <a:lnTo>
                    <a:pt x="134" y="425"/>
                  </a:lnTo>
                  <a:lnTo>
                    <a:pt x="104" y="455"/>
                  </a:lnTo>
                  <a:lnTo>
                    <a:pt x="79" y="480"/>
                  </a:lnTo>
                  <a:lnTo>
                    <a:pt x="55" y="504"/>
                  </a:lnTo>
                  <a:lnTo>
                    <a:pt x="25" y="504"/>
                  </a:lnTo>
                  <a:lnTo>
                    <a:pt x="0" y="534"/>
                  </a:lnTo>
                  <a:lnTo>
                    <a:pt x="0" y="559"/>
                  </a:lnTo>
                  <a:lnTo>
                    <a:pt x="0" y="589"/>
                  </a:lnTo>
                  <a:lnTo>
                    <a:pt x="0" y="613"/>
                  </a:lnTo>
                  <a:lnTo>
                    <a:pt x="25" y="643"/>
                  </a:lnTo>
                  <a:lnTo>
                    <a:pt x="25" y="668"/>
                  </a:lnTo>
                  <a:lnTo>
                    <a:pt x="55" y="692"/>
                  </a:lnTo>
                  <a:lnTo>
                    <a:pt x="79" y="722"/>
                  </a:lnTo>
                  <a:lnTo>
                    <a:pt x="104" y="747"/>
                  </a:lnTo>
                  <a:lnTo>
                    <a:pt x="134" y="776"/>
                  </a:lnTo>
                  <a:lnTo>
                    <a:pt x="134" y="801"/>
                  </a:lnTo>
                  <a:lnTo>
                    <a:pt x="158" y="826"/>
                  </a:lnTo>
                  <a:lnTo>
                    <a:pt x="183" y="855"/>
                  </a:lnTo>
                  <a:lnTo>
                    <a:pt x="213" y="880"/>
                  </a:lnTo>
                  <a:lnTo>
                    <a:pt x="237" y="910"/>
                  </a:lnTo>
                  <a:lnTo>
                    <a:pt x="267" y="934"/>
                  </a:lnTo>
                  <a:lnTo>
                    <a:pt x="292" y="959"/>
                  </a:lnTo>
                  <a:lnTo>
                    <a:pt x="292" y="989"/>
                  </a:lnTo>
                  <a:lnTo>
                    <a:pt x="317" y="1014"/>
                  </a:lnTo>
                  <a:lnTo>
                    <a:pt x="346" y="1043"/>
                  </a:lnTo>
                  <a:lnTo>
                    <a:pt x="371" y="1068"/>
                  </a:lnTo>
                  <a:lnTo>
                    <a:pt x="396" y="1093"/>
                  </a:lnTo>
                  <a:lnTo>
                    <a:pt x="425" y="1122"/>
                  </a:lnTo>
                  <a:lnTo>
                    <a:pt x="450" y="1147"/>
                  </a:lnTo>
                  <a:lnTo>
                    <a:pt x="480" y="1177"/>
                  </a:lnTo>
                  <a:lnTo>
                    <a:pt x="505" y="1201"/>
                  </a:lnTo>
                  <a:lnTo>
                    <a:pt x="529" y="1226"/>
                  </a:lnTo>
                  <a:lnTo>
                    <a:pt x="559" y="1256"/>
                  </a:lnTo>
                  <a:lnTo>
                    <a:pt x="584" y="1280"/>
                  </a:lnTo>
                  <a:lnTo>
                    <a:pt x="613" y="1310"/>
                  </a:lnTo>
                  <a:lnTo>
                    <a:pt x="638" y="1335"/>
                  </a:lnTo>
                  <a:lnTo>
                    <a:pt x="663" y="1364"/>
                  </a:lnTo>
                  <a:lnTo>
                    <a:pt x="692" y="1389"/>
                  </a:lnTo>
                  <a:lnTo>
                    <a:pt x="717" y="1414"/>
                  </a:lnTo>
                  <a:lnTo>
                    <a:pt x="742" y="1444"/>
                  </a:lnTo>
                  <a:lnTo>
                    <a:pt x="772" y="1468"/>
                  </a:lnTo>
                  <a:lnTo>
                    <a:pt x="796" y="1468"/>
                  </a:lnTo>
                  <a:lnTo>
                    <a:pt x="826" y="1498"/>
                  </a:lnTo>
                  <a:lnTo>
                    <a:pt x="851" y="1523"/>
                  </a:lnTo>
                  <a:lnTo>
                    <a:pt x="875" y="1547"/>
                  </a:lnTo>
                  <a:lnTo>
                    <a:pt x="905" y="1577"/>
                  </a:lnTo>
                  <a:lnTo>
                    <a:pt x="930" y="1602"/>
                  </a:lnTo>
                  <a:lnTo>
                    <a:pt x="955" y="1631"/>
                  </a:lnTo>
                  <a:lnTo>
                    <a:pt x="984" y="1656"/>
                  </a:lnTo>
                  <a:lnTo>
                    <a:pt x="1009" y="1656"/>
                  </a:lnTo>
                  <a:lnTo>
                    <a:pt x="1039" y="1656"/>
                  </a:lnTo>
                  <a:lnTo>
                    <a:pt x="1063" y="1656"/>
                  </a:lnTo>
                  <a:lnTo>
                    <a:pt x="1088" y="1656"/>
                  </a:lnTo>
                  <a:lnTo>
                    <a:pt x="1118" y="1656"/>
                  </a:lnTo>
                  <a:lnTo>
                    <a:pt x="1143" y="1656"/>
                  </a:lnTo>
                  <a:lnTo>
                    <a:pt x="1172" y="1656"/>
                  </a:lnTo>
                  <a:lnTo>
                    <a:pt x="1197" y="1656"/>
                  </a:lnTo>
                  <a:lnTo>
                    <a:pt x="1222" y="1656"/>
                  </a:lnTo>
                  <a:lnTo>
                    <a:pt x="1251" y="1656"/>
                  </a:lnTo>
                  <a:lnTo>
                    <a:pt x="1276" y="1656"/>
                  </a:lnTo>
                  <a:lnTo>
                    <a:pt x="1301" y="1656"/>
                  </a:lnTo>
                  <a:lnTo>
                    <a:pt x="1330" y="1656"/>
                  </a:lnTo>
                  <a:lnTo>
                    <a:pt x="1355" y="1656"/>
                  </a:lnTo>
                  <a:lnTo>
                    <a:pt x="1385" y="1656"/>
                  </a:lnTo>
                  <a:lnTo>
                    <a:pt x="1410" y="1656"/>
                  </a:lnTo>
                  <a:lnTo>
                    <a:pt x="1434" y="1656"/>
                  </a:lnTo>
                  <a:lnTo>
                    <a:pt x="1464" y="1656"/>
                  </a:lnTo>
                  <a:lnTo>
                    <a:pt x="1489" y="1656"/>
                  </a:lnTo>
                  <a:lnTo>
                    <a:pt x="1513" y="1656"/>
                  </a:lnTo>
                  <a:lnTo>
                    <a:pt x="1543" y="1656"/>
                  </a:lnTo>
                  <a:lnTo>
                    <a:pt x="1568" y="1656"/>
                  </a:lnTo>
                  <a:lnTo>
                    <a:pt x="1598" y="1656"/>
                  </a:lnTo>
                  <a:lnTo>
                    <a:pt x="1622" y="1656"/>
                  </a:lnTo>
                  <a:lnTo>
                    <a:pt x="1647" y="1656"/>
                  </a:lnTo>
                  <a:lnTo>
                    <a:pt x="1677" y="1656"/>
                  </a:lnTo>
                  <a:lnTo>
                    <a:pt x="1701" y="1656"/>
                  </a:lnTo>
                  <a:lnTo>
                    <a:pt x="1726" y="1656"/>
                  </a:lnTo>
                  <a:lnTo>
                    <a:pt x="1756" y="1656"/>
                  </a:lnTo>
                  <a:lnTo>
                    <a:pt x="1780" y="1656"/>
                  </a:lnTo>
                  <a:lnTo>
                    <a:pt x="1810" y="1656"/>
                  </a:lnTo>
                  <a:lnTo>
                    <a:pt x="1835" y="1656"/>
                  </a:lnTo>
                  <a:lnTo>
                    <a:pt x="1860" y="1656"/>
                  </a:lnTo>
                  <a:lnTo>
                    <a:pt x="1889" y="1656"/>
                  </a:lnTo>
                  <a:lnTo>
                    <a:pt x="1914" y="1656"/>
                  </a:lnTo>
                  <a:lnTo>
                    <a:pt x="1944" y="1656"/>
                  </a:lnTo>
                  <a:lnTo>
                    <a:pt x="1968" y="1656"/>
                  </a:lnTo>
                  <a:lnTo>
                    <a:pt x="1993" y="1656"/>
                  </a:lnTo>
                  <a:lnTo>
                    <a:pt x="2023" y="1656"/>
                  </a:lnTo>
                  <a:lnTo>
                    <a:pt x="2048" y="1656"/>
                  </a:lnTo>
                  <a:lnTo>
                    <a:pt x="2072" y="1656"/>
                  </a:lnTo>
                  <a:lnTo>
                    <a:pt x="2102" y="1656"/>
                  </a:lnTo>
                  <a:lnTo>
                    <a:pt x="2127" y="1656"/>
                  </a:lnTo>
                  <a:lnTo>
                    <a:pt x="2156" y="1656"/>
                  </a:lnTo>
                  <a:lnTo>
                    <a:pt x="2181" y="1656"/>
                  </a:lnTo>
                  <a:lnTo>
                    <a:pt x="2206" y="1656"/>
                  </a:lnTo>
                  <a:lnTo>
                    <a:pt x="2235" y="1656"/>
                  </a:lnTo>
                  <a:close/>
                  <a:moveTo>
                    <a:pt x="945" y="934"/>
                  </a:moveTo>
                  <a:lnTo>
                    <a:pt x="950" y="930"/>
                  </a:lnTo>
                  <a:lnTo>
                    <a:pt x="950" y="925"/>
                  </a:lnTo>
                  <a:lnTo>
                    <a:pt x="955" y="925"/>
                  </a:lnTo>
                  <a:lnTo>
                    <a:pt x="955" y="925"/>
                  </a:lnTo>
                  <a:lnTo>
                    <a:pt x="960" y="920"/>
                  </a:lnTo>
                  <a:lnTo>
                    <a:pt x="964" y="920"/>
                  </a:lnTo>
                  <a:lnTo>
                    <a:pt x="969" y="925"/>
                  </a:lnTo>
                  <a:lnTo>
                    <a:pt x="974" y="925"/>
                  </a:lnTo>
                  <a:lnTo>
                    <a:pt x="979" y="930"/>
                  </a:lnTo>
                  <a:lnTo>
                    <a:pt x="979" y="930"/>
                  </a:lnTo>
                  <a:lnTo>
                    <a:pt x="984" y="934"/>
                  </a:lnTo>
                  <a:lnTo>
                    <a:pt x="984" y="934"/>
                  </a:lnTo>
                  <a:lnTo>
                    <a:pt x="979" y="939"/>
                  </a:lnTo>
                  <a:lnTo>
                    <a:pt x="974" y="939"/>
                  </a:lnTo>
                  <a:lnTo>
                    <a:pt x="969" y="939"/>
                  </a:lnTo>
                  <a:lnTo>
                    <a:pt x="964" y="939"/>
                  </a:lnTo>
                  <a:lnTo>
                    <a:pt x="960" y="939"/>
                  </a:lnTo>
                  <a:lnTo>
                    <a:pt x="955" y="939"/>
                  </a:lnTo>
                  <a:lnTo>
                    <a:pt x="950" y="939"/>
                  </a:lnTo>
                  <a:lnTo>
                    <a:pt x="945" y="934"/>
                  </a:lnTo>
                  <a:close/>
                  <a:moveTo>
                    <a:pt x="287" y="826"/>
                  </a:moveTo>
                  <a:lnTo>
                    <a:pt x="292" y="826"/>
                  </a:lnTo>
                  <a:lnTo>
                    <a:pt x="292" y="826"/>
                  </a:lnTo>
                  <a:lnTo>
                    <a:pt x="292" y="826"/>
                  </a:lnTo>
                  <a:lnTo>
                    <a:pt x="292" y="826"/>
                  </a:lnTo>
                  <a:lnTo>
                    <a:pt x="292" y="826"/>
                  </a:lnTo>
                  <a:lnTo>
                    <a:pt x="292" y="831"/>
                  </a:lnTo>
                  <a:lnTo>
                    <a:pt x="292" y="831"/>
                  </a:lnTo>
                  <a:lnTo>
                    <a:pt x="292" y="831"/>
                  </a:lnTo>
                  <a:lnTo>
                    <a:pt x="292" y="831"/>
                  </a:lnTo>
                  <a:lnTo>
                    <a:pt x="292" y="831"/>
                  </a:lnTo>
                  <a:lnTo>
                    <a:pt x="292" y="831"/>
                  </a:lnTo>
                  <a:lnTo>
                    <a:pt x="292" y="831"/>
                  </a:lnTo>
                  <a:lnTo>
                    <a:pt x="292" y="831"/>
                  </a:lnTo>
                  <a:lnTo>
                    <a:pt x="287" y="826"/>
                  </a:lnTo>
                  <a:close/>
                  <a:moveTo>
                    <a:pt x="262" y="776"/>
                  </a:moveTo>
                  <a:lnTo>
                    <a:pt x="267" y="771"/>
                  </a:lnTo>
                  <a:lnTo>
                    <a:pt x="267" y="776"/>
                  </a:lnTo>
                  <a:lnTo>
                    <a:pt x="272" y="781"/>
                  </a:lnTo>
                  <a:lnTo>
                    <a:pt x="272" y="781"/>
                  </a:lnTo>
                  <a:lnTo>
                    <a:pt x="267" y="786"/>
                  </a:lnTo>
                  <a:lnTo>
                    <a:pt x="267" y="791"/>
                  </a:lnTo>
                  <a:lnTo>
                    <a:pt x="267" y="791"/>
                  </a:lnTo>
                  <a:lnTo>
                    <a:pt x="267" y="796"/>
                  </a:lnTo>
                  <a:lnTo>
                    <a:pt x="262" y="796"/>
                  </a:lnTo>
                  <a:lnTo>
                    <a:pt x="262" y="791"/>
                  </a:lnTo>
                  <a:lnTo>
                    <a:pt x="262" y="791"/>
                  </a:lnTo>
                  <a:lnTo>
                    <a:pt x="262" y="786"/>
                  </a:lnTo>
                  <a:lnTo>
                    <a:pt x="262" y="781"/>
                  </a:lnTo>
                  <a:lnTo>
                    <a:pt x="262" y="776"/>
                  </a:lnTo>
                  <a:close/>
                  <a:moveTo>
                    <a:pt x="692" y="776"/>
                  </a:moveTo>
                  <a:lnTo>
                    <a:pt x="692" y="771"/>
                  </a:lnTo>
                  <a:lnTo>
                    <a:pt x="692" y="771"/>
                  </a:lnTo>
                  <a:lnTo>
                    <a:pt x="692" y="771"/>
                  </a:lnTo>
                  <a:lnTo>
                    <a:pt x="692" y="771"/>
                  </a:lnTo>
                  <a:lnTo>
                    <a:pt x="692" y="771"/>
                  </a:lnTo>
                  <a:lnTo>
                    <a:pt x="692" y="771"/>
                  </a:lnTo>
                  <a:lnTo>
                    <a:pt x="692" y="771"/>
                  </a:lnTo>
                  <a:lnTo>
                    <a:pt x="692" y="776"/>
                  </a:lnTo>
                  <a:lnTo>
                    <a:pt x="692" y="776"/>
                  </a:lnTo>
                  <a:lnTo>
                    <a:pt x="692" y="776"/>
                  </a:lnTo>
                  <a:lnTo>
                    <a:pt x="692" y="776"/>
                  </a:lnTo>
                  <a:lnTo>
                    <a:pt x="692" y="776"/>
                  </a:lnTo>
                  <a:lnTo>
                    <a:pt x="692" y="776"/>
                  </a:lnTo>
                  <a:lnTo>
                    <a:pt x="692" y="776"/>
                  </a:lnTo>
                  <a:close/>
                  <a:moveTo>
                    <a:pt x="1058" y="776"/>
                  </a:moveTo>
                  <a:lnTo>
                    <a:pt x="1058" y="766"/>
                  </a:lnTo>
                  <a:lnTo>
                    <a:pt x="1058" y="762"/>
                  </a:lnTo>
                  <a:lnTo>
                    <a:pt x="1058" y="757"/>
                  </a:lnTo>
                  <a:lnTo>
                    <a:pt x="1058" y="752"/>
                  </a:lnTo>
                  <a:lnTo>
                    <a:pt x="1058" y="742"/>
                  </a:lnTo>
                  <a:lnTo>
                    <a:pt x="1058" y="737"/>
                  </a:lnTo>
                  <a:lnTo>
                    <a:pt x="1058" y="732"/>
                  </a:lnTo>
                  <a:lnTo>
                    <a:pt x="1058" y="727"/>
                  </a:lnTo>
                  <a:lnTo>
                    <a:pt x="1058" y="717"/>
                  </a:lnTo>
                  <a:lnTo>
                    <a:pt x="1058" y="712"/>
                  </a:lnTo>
                  <a:lnTo>
                    <a:pt x="1058" y="702"/>
                  </a:lnTo>
                  <a:lnTo>
                    <a:pt x="1063" y="697"/>
                  </a:lnTo>
                  <a:lnTo>
                    <a:pt x="1068" y="697"/>
                  </a:lnTo>
                  <a:lnTo>
                    <a:pt x="1068" y="702"/>
                  </a:lnTo>
                  <a:lnTo>
                    <a:pt x="1073" y="712"/>
                  </a:lnTo>
                  <a:lnTo>
                    <a:pt x="1078" y="717"/>
                  </a:lnTo>
                  <a:lnTo>
                    <a:pt x="1078" y="727"/>
                  </a:lnTo>
                  <a:lnTo>
                    <a:pt x="1078" y="732"/>
                  </a:lnTo>
                  <a:lnTo>
                    <a:pt x="1073" y="737"/>
                  </a:lnTo>
                  <a:lnTo>
                    <a:pt x="1073" y="742"/>
                  </a:lnTo>
                  <a:lnTo>
                    <a:pt x="1068" y="747"/>
                  </a:lnTo>
                  <a:lnTo>
                    <a:pt x="1073" y="757"/>
                  </a:lnTo>
                  <a:lnTo>
                    <a:pt x="1073" y="762"/>
                  </a:lnTo>
                  <a:lnTo>
                    <a:pt x="1068" y="766"/>
                  </a:lnTo>
                  <a:lnTo>
                    <a:pt x="1068" y="771"/>
                  </a:lnTo>
                  <a:lnTo>
                    <a:pt x="1058" y="776"/>
                  </a:lnTo>
                  <a:close/>
                  <a:moveTo>
                    <a:pt x="994" y="692"/>
                  </a:moveTo>
                  <a:lnTo>
                    <a:pt x="994" y="687"/>
                  </a:lnTo>
                  <a:lnTo>
                    <a:pt x="994" y="682"/>
                  </a:lnTo>
                  <a:lnTo>
                    <a:pt x="999" y="677"/>
                  </a:lnTo>
                  <a:lnTo>
                    <a:pt x="999" y="668"/>
                  </a:lnTo>
                  <a:lnTo>
                    <a:pt x="999" y="663"/>
                  </a:lnTo>
                  <a:lnTo>
                    <a:pt x="999" y="658"/>
                  </a:lnTo>
                  <a:lnTo>
                    <a:pt x="999" y="653"/>
                  </a:lnTo>
                  <a:lnTo>
                    <a:pt x="999" y="648"/>
                  </a:lnTo>
                  <a:lnTo>
                    <a:pt x="999" y="638"/>
                  </a:lnTo>
                  <a:lnTo>
                    <a:pt x="999" y="633"/>
                  </a:lnTo>
                  <a:lnTo>
                    <a:pt x="999" y="628"/>
                  </a:lnTo>
                  <a:lnTo>
                    <a:pt x="999" y="623"/>
                  </a:lnTo>
                  <a:lnTo>
                    <a:pt x="999" y="613"/>
                  </a:lnTo>
                  <a:lnTo>
                    <a:pt x="999" y="608"/>
                  </a:lnTo>
                  <a:lnTo>
                    <a:pt x="999" y="603"/>
                  </a:lnTo>
                  <a:lnTo>
                    <a:pt x="999" y="598"/>
                  </a:lnTo>
                  <a:lnTo>
                    <a:pt x="999" y="589"/>
                  </a:lnTo>
                  <a:lnTo>
                    <a:pt x="994" y="584"/>
                  </a:lnTo>
                  <a:lnTo>
                    <a:pt x="994" y="579"/>
                  </a:lnTo>
                  <a:lnTo>
                    <a:pt x="994" y="574"/>
                  </a:lnTo>
                  <a:lnTo>
                    <a:pt x="994" y="564"/>
                  </a:lnTo>
                  <a:lnTo>
                    <a:pt x="994" y="559"/>
                  </a:lnTo>
                  <a:lnTo>
                    <a:pt x="999" y="554"/>
                  </a:lnTo>
                  <a:lnTo>
                    <a:pt x="1004" y="549"/>
                  </a:lnTo>
                  <a:lnTo>
                    <a:pt x="1009" y="544"/>
                  </a:lnTo>
                  <a:lnTo>
                    <a:pt x="1009" y="539"/>
                  </a:lnTo>
                  <a:lnTo>
                    <a:pt x="1014" y="534"/>
                  </a:lnTo>
                  <a:lnTo>
                    <a:pt x="1019" y="524"/>
                  </a:lnTo>
                  <a:lnTo>
                    <a:pt x="1019" y="519"/>
                  </a:lnTo>
                  <a:lnTo>
                    <a:pt x="1019" y="514"/>
                  </a:lnTo>
                  <a:lnTo>
                    <a:pt x="1019" y="509"/>
                  </a:lnTo>
                  <a:lnTo>
                    <a:pt x="1019" y="500"/>
                  </a:lnTo>
                  <a:lnTo>
                    <a:pt x="1019" y="495"/>
                  </a:lnTo>
                  <a:lnTo>
                    <a:pt x="1019" y="490"/>
                  </a:lnTo>
                  <a:lnTo>
                    <a:pt x="1024" y="485"/>
                  </a:lnTo>
                  <a:lnTo>
                    <a:pt x="1024" y="480"/>
                  </a:lnTo>
                  <a:lnTo>
                    <a:pt x="1029" y="470"/>
                  </a:lnTo>
                  <a:lnTo>
                    <a:pt x="1034" y="465"/>
                  </a:lnTo>
                  <a:lnTo>
                    <a:pt x="1034" y="460"/>
                  </a:lnTo>
                  <a:lnTo>
                    <a:pt x="1039" y="455"/>
                  </a:lnTo>
                  <a:lnTo>
                    <a:pt x="1034" y="450"/>
                  </a:lnTo>
                  <a:lnTo>
                    <a:pt x="1029" y="445"/>
                  </a:lnTo>
                  <a:lnTo>
                    <a:pt x="1029" y="440"/>
                  </a:lnTo>
                  <a:lnTo>
                    <a:pt x="1024" y="430"/>
                  </a:lnTo>
                  <a:lnTo>
                    <a:pt x="1019" y="425"/>
                  </a:lnTo>
                  <a:lnTo>
                    <a:pt x="1019" y="420"/>
                  </a:lnTo>
                  <a:lnTo>
                    <a:pt x="1019" y="416"/>
                  </a:lnTo>
                  <a:lnTo>
                    <a:pt x="1019" y="411"/>
                  </a:lnTo>
                  <a:lnTo>
                    <a:pt x="1019" y="401"/>
                  </a:lnTo>
                  <a:lnTo>
                    <a:pt x="1019" y="396"/>
                  </a:lnTo>
                  <a:lnTo>
                    <a:pt x="1019" y="391"/>
                  </a:lnTo>
                  <a:lnTo>
                    <a:pt x="1024" y="386"/>
                  </a:lnTo>
                  <a:lnTo>
                    <a:pt x="1024" y="376"/>
                  </a:lnTo>
                  <a:lnTo>
                    <a:pt x="1024" y="371"/>
                  </a:lnTo>
                  <a:lnTo>
                    <a:pt x="1019" y="366"/>
                  </a:lnTo>
                  <a:lnTo>
                    <a:pt x="1019" y="361"/>
                  </a:lnTo>
                  <a:lnTo>
                    <a:pt x="1019" y="356"/>
                  </a:lnTo>
                  <a:lnTo>
                    <a:pt x="1014" y="346"/>
                  </a:lnTo>
                  <a:lnTo>
                    <a:pt x="1014" y="341"/>
                  </a:lnTo>
                  <a:lnTo>
                    <a:pt x="1009" y="336"/>
                  </a:lnTo>
                  <a:lnTo>
                    <a:pt x="1009" y="331"/>
                  </a:lnTo>
                  <a:lnTo>
                    <a:pt x="1009" y="322"/>
                  </a:lnTo>
                  <a:lnTo>
                    <a:pt x="1004" y="317"/>
                  </a:lnTo>
                  <a:lnTo>
                    <a:pt x="1004" y="312"/>
                  </a:lnTo>
                  <a:lnTo>
                    <a:pt x="1004" y="307"/>
                  </a:lnTo>
                  <a:lnTo>
                    <a:pt x="1004" y="297"/>
                  </a:lnTo>
                  <a:lnTo>
                    <a:pt x="1009" y="292"/>
                  </a:lnTo>
                  <a:lnTo>
                    <a:pt x="1014" y="287"/>
                  </a:lnTo>
                  <a:lnTo>
                    <a:pt x="1024" y="287"/>
                  </a:lnTo>
                  <a:lnTo>
                    <a:pt x="1034" y="287"/>
                  </a:lnTo>
                  <a:lnTo>
                    <a:pt x="1039" y="287"/>
                  </a:lnTo>
                  <a:lnTo>
                    <a:pt x="1049" y="282"/>
                  </a:lnTo>
                  <a:lnTo>
                    <a:pt x="1049" y="272"/>
                  </a:lnTo>
                  <a:lnTo>
                    <a:pt x="1053" y="267"/>
                  </a:lnTo>
                  <a:lnTo>
                    <a:pt x="1058" y="262"/>
                  </a:lnTo>
                  <a:lnTo>
                    <a:pt x="1068" y="257"/>
                  </a:lnTo>
                  <a:lnTo>
                    <a:pt x="1078" y="257"/>
                  </a:lnTo>
                  <a:lnTo>
                    <a:pt x="1083" y="257"/>
                  </a:lnTo>
                  <a:lnTo>
                    <a:pt x="1093" y="252"/>
                  </a:lnTo>
                  <a:lnTo>
                    <a:pt x="1103" y="247"/>
                  </a:lnTo>
                  <a:lnTo>
                    <a:pt x="1108" y="243"/>
                  </a:lnTo>
                  <a:lnTo>
                    <a:pt x="1113" y="238"/>
                  </a:lnTo>
                  <a:lnTo>
                    <a:pt x="1118" y="233"/>
                  </a:lnTo>
                  <a:lnTo>
                    <a:pt x="1123" y="228"/>
                  </a:lnTo>
                  <a:lnTo>
                    <a:pt x="1133" y="228"/>
                  </a:lnTo>
                  <a:lnTo>
                    <a:pt x="1143" y="223"/>
                  </a:lnTo>
                  <a:lnTo>
                    <a:pt x="1152" y="223"/>
                  </a:lnTo>
                  <a:lnTo>
                    <a:pt x="1162" y="223"/>
                  </a:lnTo>
                  <a:lnTo>
                    <a:pt x="1172" y="228"/>
                  </a:lnTo>
                  <a:lnTo>
                    <a:pt x="1177" y="223"/>
                  </a:lnTo>
                  <a:lnTo>
                    <a:pt x="1187" y="218"/>
                  </a:lnTo>
                  <a:lnTo>
                    <a:pt x="1192" y="213"/>
                  </a:lnTo>
                  <a:lnTo>
                    <a:pt x="1197" y="208"/>
                  </a:lnTo>
                  <a:lnTo>
                    <a:pt x="1197" y="203"/>
                  </a:lnTo>
                  <a:lnTo>
                    <a:pt x="1197" y="198"/>
                  </a:lnTo>
                  <a:lnTo>
                    <a:pt x="1202" y="188"/>
                  </a:lnTo>
                  <a:lnTo>
                    <a:pt x="1207" y="183"/>
                  </a:lnTo>
                  <a:lnTo>
                    <a:pt x="1212" y="178"/>
                  </a:lnTo>
                  <a:lnTo>
                    <a:pt x="1222" y="178"/>
                  </a:lnTo>
                  <a:lnTo>
                    <a:pt x="1227" y="178"/>
                  </a:lnTo>
                  <a:lnTo>
                    <a:pt x="1232" y="183"/>
                  </a:lnTo>
                  <a:lnTo>
                    <a:pt x="1236" y="193"/>
                  </a:lnTo>
                  <a:lnTo>
                    <a:pt x="1241" y="198"/>
                  </a:lnTo>
                  <a:lnTo>
                    <a:pt x="1251" y="203"/>
                  </a:lnTo>
                  <a:lnTo>
                    <a:pt x="1256" y="198"/>
                  </a:lnTo>
                  <a:lnTo>
                    <a:pt x="1266" y="198"/>
                  </a:lnTo>
                  <a:lnTo>
                    <a:pt x="1271" y="188"/>
                  </a:lnTo>
                  <a:lnTo>
                    <a:pt x="1276" y="183"/>
                  </a:lnTo>
                  <a:lnTo>
                    <a:pt x="1276" y="178"/>
                  </a:lnTo>
                  <a:lnTo>
                    <a:pt x="1276" y="173"/>
                  </a:lnTo>
                  <a:lnTo>
                    <a:pt x="1276" y="168"/>
                  </a:lnTo>
                  <a:lnTo>
                    <a:pt x="1281" y="159"/>
                  </a:lnTo>
                  <a:lnTo>
                    <a:pt x="1286" y="154"/>
                  </a:lnTo>
                  <a:lnTo>
                    <a:pt x="1291" y="149"/>
                  </a:lnTo>
                  <a:lnTo>
                    <a:pt x="1296" y="144"/>
                  </a:lnTo>
                  <a:lnTo>
                    <a:pt x="1306" y="144"/>
                  </a:lnTo>
                  <a:lnTo>
                    <a:pt x="1311" y="144"/>
                  </a:lnTo>
                  <a:lnTo>
                    <a:pt x="1316" y="149"/>
                  </a:lnTo>
                  <a:lnTo>
                    <a:pt x="1321" y="159"/>
                  </a:lnTo>
                  <a:lnTo>
                    <a:pt x="1321" y="163"/>
                  </a:lnTo>
                  <a:lnTo>
                    <a:pt x="1326" y="173"/>
                  </a:lnTo>
                  <a:lnTo>
                    <a:pt x="1326" y="178"/>
                  </a:lnTo>
                  <a:lnTo>
                    <a:pt x="1335" y="178"/>
                  </a:lnTo>
                  <a:lnTo>
                    <a:pt x="1340" y="173"/>
                  </a:lnTo>
                  <a:lnTo>
                    <a:pt x="1350" y="168"/>
                  </a:lnTo>
                  <a:lnTo>
                    <a:pt x="1355" y="163"/>
                  </a:lnTo>
                  <a:lnTo>
                    <a:pt x="1360" y="159"/>
                  </a:lnTo>
                  <a:lnTo>
                    <a:pt x="1360" y="149"/>
                  </a:lnTo>
                  <a:lnTo>
                    <a:pt x="1360" y="144"/>
                  </a:lnTo>
                  <a:lnTo>
                    <a:pt x="1360" y="139"/>
                  </a:lnTo>
                  <a:lnTo>
                    <a:pt x="1360" y="134"/>
                  </a:lnTo>
                  <a:lnTo>
                    <a:pt x="1365" y="124"/>
                  </a:lnTo>
                  <a:lnTo>
                    <a:pt x="1370" y="119"/>
                  </a:lnTo>
                  <a:lnTo>
                    <a:pt x="1375" y="114"/>
                  </a:lnTo>
                  <a:lnTo>
                    <a:pt x="1380" y="114"/>
                  </a:lnTo>
                  <a:lnTo>
                    <a:pt x="1390" y="114"/>
                  </a:lnTo>
                  <a:lnTo>
                    <a:pt x="1400" y="114"/>
                  </a:lnTo>
                  <a:lnTo>
                    <a:pt x="1410" y="114"/>
                  </a:lnTo>
                  <a:lnTo>
                    <a:pt x="1419" y="119"/>
                  </a:lnTo>
                  <a:lnTo>
                    <a:pt x="1424" y="124"/>
                  </a:lnTo>
                  <a:lnTo>
                    <a:pt x="1429" y="129"/>
                  </a:lnTo>
                  <a:lnTo>
                    <a:pt x="1434" y="134"/>
                  </a:lnTo>
                  <a:lnTo>
                    <a:pt x="1439" y="134"/>
                  </a:lnTo>
                  <a:lnTo>
                    <a:pt x="1444" y="129"/>
                  </a:lnTo>
                  <a:lnTo>
                    <a:pt x="1444" y="124"/>
                  </a:lnTo>
                  <a:lnTo>
                    <a:pt x="1444" y="114"/>
                  </a:lnTo>
                  <a:lnTo>
                    <a:pt x="1439" y="109"/>
                  </a:lnTo>
                  <a:lnTo>
                    <a:pt x="1439" y="104"/>
                  </a:lnTo>
                  <a:lnTo>
                    <a:pt x="1439" y="99"/>
                  </a:lnTo>
                  <a:lnTo>
                    <a:pt x="1444" y="94"/>
                  </a:lnTo>
                  <a:lnTo>
                    <a:pt x="1454" y="89"/>
                  </a:lnTo>
                  <a:lnTo>
                    <a:pt x="1464" y="84"/>
                  </a:lnTo>
                  <a:lnTo>
                    <a:pt x="1474" y="79"/>
                  </a:lnTo>
                  <a:lnTo>
                    <a:pt x="1484" y="79"/>
                  </a:lnTo>
                  <a:lnTo>
                    <a:pt x="1489" y="84"/>
                  </a:lnTo>
                  <a:lnTo>
                    <a:pt x="1499" y="84"/>
                  </a:lnTo>
                  <a:lnTo>
                    <a:pt x="1504" y="89"/>
                  </a:lnTo>
                  <a:lnTo>
                    <a:pt x="1508" y="99"/>
                  </a:lnTo>
                  <a:lnTo>
                    <a:pt x="1513" y="104"/>
                  </a:lnTo>
                  <a:lnTo>
                    <a:pt x="1518" y="109"/>
                  </a:lnTo>
                  <a:lnTo>
                    <a:pt x="1523" y="109"/>
                  </a:lnTo>
                  <a:lnTo>
                    <a:pt x="1533" y="109"/>
                  </a:lnTo>
                  <a:lnTo>
                    <a:pt x="1538" y="104"/>
                  </a:lnTo>
                  <a:lnTo>
                    <a:pt x="1538" y="99"/>
                  </a:lnTo>
                  <a:lnTo>
                    <a:pt x="1528" y="89"/>
                  </a:lnTo>
                  <a:lnTo>
                    <a:pt x="1523" y="84"/>
                  </a:lnTo>
                  <a:lnTo>
                    <a:pt x="1518" y="79"/>
                  </a:lnTo>
                  <a:lnTo>
                    <a:pt x="1518" y="74"/>
                  </a:lnTo>
                  <a:lnTo>
                    <a:pt x="1523" y="70"/>
                  </a:lnTo>
                  <a:lnTo>
                    <a:pt x="1528" y="65"/>
                  </a:lnTo>
                  <a:lnTo>
                    <a:pt x="1538" y="60"/>
                  </a:lnTo>
                  <a:lnTo>
                    <a:pt x="1548" y="55"/>
                  </a:lnTo>
                  <a:lnTo>
                    <a:pt x="1553" y="55"/>
                  </a:lnTo>
                  <a:lnTo>
                    <a:pt x="1563" y="55"/>
                  </a:lnTo>
                  <a:lnTo>
                    <a:pt x="1573" y="55"/>
                  </a:lnTo>
                  <a:lnTo>
                    <a:pt x="1583" y="55"/>
                  </a:lnTo>
                  <a:lnTo>
                    <a:pt x="1593" y="55"/>
                  </a:lnTo>
                  <a:lnTo>
                    <a:pt x="1598" y="50"/>
                  </a:lnTo>
                  <a:lnTo>
                    <a:pt x="1602" y="45"/>
                  </a:lnTo>
                  <a:lnTo>
                    <a:pt x="1612" y="35"/>
                  </a:lnTo>
                  <a:lnTo>
                    <a:pt x="1617" y="30"/>
                  </a:lnTo>
                  <a:lnTo>
                    <a:pt x="1622" y="30"/>
                  </a:lnTo>
                  <a:lnTo>
                    <a:pt x="1632" y="30"/>
                  </a:lnTo>
                  <a:lnTo>
                    <a:pt x="1642" y="30"/>
                  </a:lnTo>
                  <a:lnTo>
                    <a:pt x="1652" y="30"/>
                  </a:lnTo>
                  <a:lnTo>
                    <a:pt x="1662" y="30"/>
                  </a:lnTo>
                  <a:lnTo>
                    <a:pt x="1672" y="30"/>
                  </a:lnTo>
                  <a:lnTo>
                    <a:pt x="1677" y="35"/>
                  </a:lnTo>
                  <a:lnTo>
                    <a:pt x="1682" y="40"/>
                  </a:lnTo>
                  <a:lnTo>
                    <a:pt x="1687" y="45"/>
                  </a:lnTo>
                  <a:lnTo>
                    <a:pt x="1696" y="50"/>
                  </a:lnTo>
                  <a:lnTo>
                    <a:pt x="1701" y="55"/>
                  </a:lnTo>
                  <a:lnTo>
                    <a:pt x="1711" y="55"/>
                  </a:lnTo>
                  <a:lnTo>
                    <a:pt x="1721" y="55"/>
                  </a:lnTo>
                  <a:lnTo>
                    <a:pt x="1731" y="55"/>
                  </a:lnTo>
                  <a:lnTo>
                    <a:pt x="1736" y="55"/>
                  </a:lnTo>
                  <a:lnTo>
                    <a:pt x="1746" y="55"/>
                  </a:lnTo>
                  <a:lnTo>
                    <a:pt x="1756" y="55"/>
                  </a:lnTo>
                  <a:lnTo>
                    <a:pt x="1766" y="55"/>
                  </a:lnTo>
                  <a:lnTo>
                    <a:pt x="1776" y="60"/>
                  </a:lnTo>
                  <a:lnTo>
                    <a:pt x="1785" y="60"/>
                  </a:lnTo>
                  <a:lnTo>
                    <a:pt x="1790" y="65"/>
                  </a:lnTo>
                  <a:lnTo>
                    <a:pt x="1795" y="70"/>
                  </a:lnTo>
                  <a:lnTo>
                    <a:pt x="1800" y="74"/>
                  </a:lnTo>
                  <a:lnTo>
                    <a:pt x="1805" y="79"/>
                  </a:lnTo>
                  <a:lnTo>
                    <a:pt x="1815" y="84"/>
                  </a:lnTo>
                  <a:lnTo>
                    <a:pt x="1825" y="84"/>
                  </a:lnTo>
                  <a:lnTo>
                    <a:pt x="1835" y="84"/>
                  </a:lnTo>
                  <a:lnTo>
                    <a:pt x="1845" y="84"/>
                  </a:lnTo>
                  <a:lnTo>
                    <a:pt x="1855" y="84"/>
                  </a:lnTo>
                  <a:lnTo>
                    <a:pt x="1865" y="84"/>
                  </a:lnTo>
                  <a:lnTo>
                    <a:pt x="1874" y="84"/>
                  </a:lnTo>
                  <a:lnTo>
                    <a:pt x="1884" y="84"/>
                  </a:lnTo>
                  <a:lnTo>
                    <a:pt x="1889" y="89"/>
                  </a:lnTo>
                  <a:lnTo>
                    <a:pt x="1894" y="94"/>
                  </a:lnTo>
                  <a:lnTo>
                    <a:pt x="1899" y="99"/>
                  </a:lnTo>
                  <a:lnTo>
                    <a:pt x="1904" y="104"/>
                  </a:lnTo>
                  <a:lnTo>
                    <a:pt x="1914" y="109"/>
                  </a:lnTo>
                  <a:lnTo>
                    <a:pt x="1919" y="114"/>
                  </a:lnTo>
                  <a:lnTo>
                    <a:pt x="1929" y="114"/>
                  </a:lnTo>
                  <a:lnTo>
                    <a:pt x="1939" y="114"/>
                  </a:lnTo>
                  <a:lnTo>
                    <a:pt x="1949" y="114"/>
                  </a:lnTo>
                  <a:lnTo>
                    <a:pt x="1959" y="114"/>
                  </a:lnTo>
                  <a:lnTo>
                    <a:pt x="1968" y="114"/>
                  </a:lnTo>
                  <a:lnTo>
                    <a:pt x="1978" y="114"/>
                  </a:lnTo>
                  <a:lnTo>
                    <a:pt x="1988" y="114"/>
                  </a:lnTo>
                  <a:lnTo>
                    <a:pt x="1993" y="114"/>
                  </a:lnTo>
                  <a:lnTo>
                    <a:pt x="2003" y="119"/>
                  </a:lnTo>
                  <a:lnTo>
                    <a:pt x="2008" y="124"/>
                  </a:lnTo>
                  <a:lnTo>
                    <a:pt x="2013" y="134"/>
                  </a:lnTo>
                  <a:lnTo>
                    <a:pt x="2013" y="139"/>
                  </a:lnTo>
                  <a:lnTo>
                    <a:pt x="2018" y="144"/>
                  </a:lnTo>
                  <a:lnTo>
                    <a:pt x="2028" y="144"/>
                  </a:lnTo>
                  <a:lnTo>
                    <a:pt x="2033" y="149"/>
                  </a:lnTo>
                  <a:lnTo>
                    <a:pt x="2043" y="149"/>
                  </a:lnTo>
                  <a:lnTo>
                    <a:pt x="2052" y="149"/>
                  </a:lnTo>
                  <a:lnTo>
                    <a:pt x="2062" y="149"/>
                  </a:lnTo>
                  <a:lnTo>
                    <a:pt x="2072" y="154"/>
                  </a:lnTo>
                  <a:lnTo>
                    <a:pt x="2082" y="154"/>
                  </a:lnTo>
                  <a:lnTo>
                    <a:pt x="2092" y="159"/>
                  </a:lnTo>
                  <a:lnTo>
                    <a:pt x="2097" y="159"/>
                  </a:lnTo>
                  <a:lnTo>
                    <a:pt x="2102" y="163"/>
                  </a:lnTo>
                  <a:lnTo>
                    <a:pt x="2102" y="168"/>
                  </a:lnTo>
                  <a:lnTo>
                    <a:pt x="2102" y="178"/>
                  </a:lnTo>
                  <a:lnTo>
                    <a:pt x="2102" y="183"/>
                  </a:lnTo>
                  <a:lnTo>
                    <a:pt x="2097" y="188"/>
                  </a:lnTo>
                  <a:lnTo>
                    <a:pt x="2097" y="198"/>
                  </a:lnTo>
                  <a:lnTo>
                    <a:pt x="2097" y="203"/>
                  </a:lnTo>
                  <a:lnTo>
                    <a:pt x="2097" y="208"/>
                  </a:lnTo>
                  <a:lnTo>
                    <a:pt x="2102" y="213"/>
                  </a:lnTo>
                  <a:lnTo>
                    <a:pt x="2102" y="223"/>
                  </a:lnTo>
                  <a:lnTo>
                    <a:pt x="2102" y="228"/>
                  </a:lnTo>
                  <a:lnTo>
                    <a:pt x="2102" y="233"/>
                  </a:lnTo>
                  <a:lnTo>
                    <a:pt x="2102" y="238"/>
                  </a:lnTo>
                  <a:lnTo>
                    <a:pt x="2102" y="247"/>
                  </a:lnTo>
                  <a:lnTo>
                    <a:pt x="2102" y="252"/>
                  </a:lnTo>
                  <a:lnTo>
                    <a:pt x="2112" y="252"/>
                  </a:lnTo>
                  <a:lnTo>
                    <a:pt x="2122" y="257"/>
                  </a:lnTo>
                  <a:lnTo>
                    <a:pt x="2132" y="252"/>
                  </a:lnTo>
                  <a:lnTo>
                    <a:pt x="2132" y="247"/>
                  </a:lnTo>
                  <a:lnTo>
                    <a:pt x="2132" y="243"/>
                  </a:lnTo>
                  <a:lnTo>
                    <a:pt x="2137" y="233"/>
                  </a:lnTo>
                  <a:lnTo>
                    <a:pt x="2142" y="233"/>
                  </a:lnTo>
                  <a:lnTo>
                    <a:pt x="2151" y="228"/>
                  </a:lnTo>
                  <a:lnTo>
                    <a:pt x="2156" y="223"/>
                  </a:lnTo>
                  <a:lnTo>
                    <a:pt x="2161" y="218"/>
                  </a:lnTo>
                  <a:lnTo>
                    <a:pt x="2166" y="208"/>
                  </a:lnTo>
                  <a:lnTo>
                    <a:pt x="2166" y="203"/>
                  </a:lnTo>
                  <a:lnTo>
                    <a:pt x="2171" y="198"/>
                  </a:lnTo>
                  <a:lnTo>
                    <a:pt x="2176" y="193"/>
                  </a:lnTo>
                  <a:lnTo>
                    <a:pt x="2181" y="188"/>
                  </a:lnTo>
                  <a:lnTo>
                    <a:pt x="2186" y="193"/>
                  </a:lnTo>
                  <a:lnTo>
                    <a:pt x="2191" y="198"/>
                  </a:lnTo>
                  <a:lnTo>
                    <a:pt x="2196" y="203"/>
                  </a:lnTo>
                  <a:lnTo>
                    <a:pt x="2201" y="208"/>
                  </a:lnTo>
                  <a:lnTo>
                    <a:pt x="2201" y="218"/>
                  </a:lnTo>
                  <a:lnTo>
                    <a:pt x="2201" y="223"/>
                  </a:lnTo>
                  <a:lnTo>
                    <a:pt x="2201" y="233"/>
                  </a:lnTo>
                  <a:lnTo>
                    <a:pt x="2196" y="238"/>
                  </a:lnTo>
                  <a:lnTo>
                    <a:pt x="2191" y="243"/>
                  </a:lnTo>
                  <a:lnTo>
                    <a:pt x="2186" y="243"/>
                  </a:lnTo>
                  <a:lnTo>
                    <a:pt x="2176" y="247"/>
                  </a:lnTo>
                  <a:lnTo>
                    <a:pt x="2171" y="252"/>
                  </a:lnTo>
                  <a:lnTo>
                    <a:pt x="2166" y="257"/>
                  </a:lnTo>
                  <a:lnTo>
                    <a:pt x="2166" y="262"/>
                  </a:lnTo>
                  <a:lnTo>
                    <a:pt x="2161" y="272"/>
                  </a:lnTo>
                  <a:lnTo>
                    <a:pt x="2161" y="277"/>
                  </a:lnTo>
                  <a:lnTo>
                    <a:pt x="2156" y="282"/>
                  </a:lnTo>
                  <a:lnTo>
                    <a:pt x="2151" y="287"/>
                  </a:lnTo>
                  <a:lnTo>
                    <a:pt x="2146" y="292"/>
                  </a:lnTo>
                  <a:lnTo>
                    <a:pt x="2137" y="297"/>
                  </a:lnTo>
                  <a:lnTo>
                    <a:pt x="2137" y="302"/>
                  </a:lnTo>
                  <a:lnTo>
                    <a:pt x="2132" y="307"/>
                  </a:lnTo>
                  <a:lnTo>
                    <a:pt x="2127" y="312"/>
                  </a:lnTo>
                  <a:lnTo>
                    <a:pt x="2122" y="317"/>
                  </a:lnTo>
                  <a:lnTo>
                    <a:pt x="2117" y="322"/>
                  </a:lnTo>
                  <a:lnTo>
                    <a:pt x="2112" y="327"/>
                  </a:lnTo>
                  <a:lnTo>
                    <a:pt x="2102" y="331"/>
                  </a:lnTo>
                  <a:lnTo>
                    <a:pt x="2092" y="331"/>
                  </a:lnTo>
                  <a:lnTo>
                    <a:pt x="2082" y="331"/>
                  </a:lnTo>
                  <a:lnTo>
                    <a:pt x="2072" y="331"/>
                  </a:lnTo>
                  <a:lnTo>
                    <a:pt x="2067" y="336"/>
                  </a:lnTo>
                  <a:lnTo>
                    <a:pt x="2057" y="341"/>
                  </a:lnTo>
                  <a:lnTo>
                    <a:pt x="2048" y="341"/>
                  </a:lnTo>
                  <a:lnTo>
                    <a:pt x="2038" y="346"/>
                  </a:lnTo>
                  <a:lnTo>
                    <a:pt x="2033" y="346"/>
                  </a:lnTo>
                  <a:lnTo>
                    <a:pt x="2023" y="346"/>
                  </a:lnTo>
                  <a:lnTo>
                    <a:pt x="2013" y="346"/>
                  </a:lnTo>
                  <a:lnTo>
                    <a:pt x="2003" y="346"/>
                  </a:lnTo>
                  <a:lnTo>
                    <a:pt x="1993" y="346"/>
                  </a:lnTo>
                  <a:lnTo>
                    <a:pt x="1983" y="346"/>
                  </a:lnTo>
                  <a:lnTo>
                    <a:pt x="1973" y="346"/>
                  </a:lnTo>
                  <a:lnTo>
                    <a:pt x="1963" y="346"/>
                  </a:lnTo>
                  <a:lnTo>
                    <a:pt x="1954" y="346"/>
                  </a:lnTo>
                  <a:lnTo>
                    <a:pt x="1944" y="346"/>
                  </a:lnTo>
                  <a:lnTo>
                    <a:pt x="1939" y="346"/>
                  </a:lnTo>
                  <a:lnTo>
                    <a:pt x="1929" y="346"/>
                  </a:lnTo>
                  <a:lnTo>
                    <a:pt x="1919" y="346"/>
                  </a:lnTo>
                  <a:lnTo>
                    <a:pt x="1909" y="346"/>
                  </a:lnTo>
                  <a:lnTo>
                    <a:pt x="1899" y="346"/>
                  </a:lnTo>
                  <a:lnTo>
                    <a:pt x="1889" y="346"/>
                  </a:lnTo>
                  <a:lnTo>
                    <a:pt x="1879" y="346"/>
                  </a:lnTo>
                  <a:lnTo>
                    <a:pt x="1870" y="346"/>
                  </a:lnTo>
                  <a:lnTo>
                    <a:pt x="1860" y="346"/>
                  </a:lnTo>
                  <a:lnTo>
                    <a:pt x="1850" y="346"/>
                  </a:lnTo>
                  <a:lnTo>
                    <a:pt x="1845" y="346"/>
                  </a:lnTo>
                  <a:lnTo>
                    <a:pt x="1835" y="346"/>
                  </a:lnTo>
                  <a:lnTo>
                    <a:pt x="1825" y="346"/>
                  </a:lnTo>
                  <a:lnTo>
                    <a:pt x="1815" y="351"/>
                  </a:lnTo>
                  <a:lnTo>
                    <a:pt x="1805" y="351"/>
                  </a:lnTo>
                  <a:lnTo>
                    <a:pt x="1795" y="351"/>
                  </a:lnTo>
                  <a:lnTo>
                    <a:pt x="1785" y="351"/>
                  </a:lnTo>
                  <a:lnTo>
                    <a:pt x="1780" y="356"/>
                  </a:lnTo>
                  <a:lnTo>
                    <a:pt x="1771" y="361"/>
                  </a:lnTo>
                  <a:lnTo>
                    <a:pt x="1761" y="361"/>
                  </a:lnTo>
                  <a:lnTo>
                    <a:pt x="1756" y="366"/>
                  </a:lnTo>
                  <a:lnTo>
                    <a:pt x="1746" y="361"/>
                  </a:lnTo>
                  <a:lnTo>
                    <a:pt x="1741" y="356"/>
                  </a:lnTo>
                  <a:lnTo>
                    <a:pt x="1731" y="351"/>
                  </a:lnTo>
                  <a:lnTo>
                    <a:pt x="1726" y="346"/>
                  </a:lnTo>
                  <a:lnTo>
                    <a:pt x="1716" y="346"/>
                  </a:lnTo>
                  <a:lnTo>
                    <a:pt x="1711" y="341"/>
                  </a:lnTo>
                  <a:lnTo>
                    <a:pt x="1701" y="336"/>
                  </a:lnTo>
                  <a:lnTo>
                    <a:pt x="1696" y="336"/>
                  </a:lnTo>
                  <a:lnTo>
                    <a:pt x="1687" y="331"/>
                  </a:lnTo>
                  <a:lnTo>
                    <a:pt x="1677" y="331"/>
                  </a:lnTo>
                  <a:lnTo>
                    <a:pt x="1672" y="327"/>
                  </a:lnTo>
                  <a:lnTo>
                    <a:pt x="1662" y="322"/>
                  </a:lnTo>
                  <a:lnTo>
                    <a:pt x="1657" y="317"/>
                  </a:lnTo>
                  <a:lnTo>
                    <a:pt x="1647" y="317"/>
                  </a:lnTo>
                  <a:lnTo>
                    <a:pt x="1642" y="312"/>
                  </a:lnTo>
                  <a:lnTo>
                    <a:pt x="1632" y="307"/>
                  </a:lnTo>
                  <a:lnTo>
                    <a:pt x="1627" y="302"/>
                  </a:lnTo>
                  <a:lnTo>
                    <a:pt x="1617" y="302"/>
                  </a:lnTo>
                  <a:lnTo>
                    <a:pt x="1607" y="297"/>
                  </a:lnTo>
                  <a:lnTo>
                    <a:pt x="1598" y="297"/>
                  </a:lnTo>
                  <a:lnTo>
                    <a:pt x="1588" y="297"/>
                  </a:lnTo>
                  <a:lnTo>
                    <a:pt x="1583" y="302"/>
                  </a:lnTo>
                  <a:lnTo>
                    <a:pt x="1573" y="302"/>
                  </a:lnTo>
                  <a:lnTo>
                    <a:pt x="1563" y="307"/>
                  </a:lnTo>
                  <a:lnTo>
                    <a:pt x="1558" y="312"/>
                  </a:lnTo>
                  <a:lnTo>
                    <a:pt x="1548" y="312"/>
                  </a:lnTo>
                  <a:lnTo>
                    <a:pt x="1543" y="317"/>
                  </a:lnTo>
                  <a:lnTo>
                    <a:pt x="1533" y="317"/>
                  </a:lnTo>
                  <a:lnTo>
                    <a:pt x="1523" y="317"/>
                  </a:lnTo>
                  <a:lnTo>
                    <a:pt x="1513" y="322"/>
                  </a:lnTo>
                  <a:lnTo>
                    <a:pt x="1508" y="327"/>
                  </a:lnTo>
                  <a:lnTo>
                    <a:pt x="1499" y="327"/>
                  </a:lnTo>
                  <a:lnTo>
                    <a:pt x="1494" y="331"/>
                  </a:lnTo>
                  <a:lnTo>
                    <a:pt x="1484" y="336"/>
                  </a:lnTo>
                  <a:lnTo>
                    <a:pt x="1474" y="336"/>
                  </a:lnTo>
                  <a:lnTo>
                    <a:pt x="1464" y="341"/>
                  </a:lnTo>
                  <a:lnTo>
                    <a:pt x="1454" y="341"/>
                  </a:lnTo>
                  <a:lnTo>
                    <a:pt x="1444" y="341"/>
                  </a:lnTo>
                  <a:lnTo>
                    <a:pt x="1439" y="341"/>
                  </a:lnTo>
                  <a:lnTo>
                    <a:pt x="1429" y="346"/>
                  </a:lnTo>
                  <a:lnTo>
                    <a:pt x="1424" y="346"/>
                  </a:lnTo>
                  <a:lnTo>
                    <a:pt x="1415" y="351"/>
                  </a:lnTo>
                  <a:lnTo>
                    <a:pt x="1410" y="356"/>
                  </a:lnTo>
                  <a:lnTo>
                    <a:pt x="1400" y="356"/>
                  </a:lnTo>
                  <a:lnTo>
                    <a:pt x="1390" y="356"/>
                  </a:lnTo>
                  <a:lnTo>
                    <a:pt x="1380" y="356"/>
                  </a:lnTo>
                  <a:lnTo>
                    <a:pt x="1375" y="351"/>
                  </a:lnTo>
                  <a:lnTo>
                    <a:pt x="1370" y="346"/>
                  </a:lnTo>
                  <a:lnTo>
                    <a:pt x="1360" y="341"/>
                  </a:lnTo>
                  <a:lnTo>
                    <a:pt x="1350" y="341"/>
                  </a:lnTo>
                  <a:lnTo>
                    <a:pt x="1340" y="341"/>
                  </a:lnTo>
                  <a:lnTo>
                    <a:pt x="1335" y="346"/>
                  </a:lnTo>
                  <a:lnTo>
                    <a:pt x="1330" y="351"/>
                  </a:lnTo>
                  <a:lnTo>
                    <a:pt x="1330" y="356"/>
                  </a:lnTo>
                  <a:lnTo>
                    <a:pt x="1321" y="361"/>
                  </a:lnTo>
                  <a:lnTo>
                    <a:pt x="1311" y="361"/>
                  </a:lnTo>
                  <a:lnTo>
                    <a:pt x="1301" y="361"/>
                  </a:lnTo>
                  <a:lnTo>
                    <a:pt x="1291" y="361"/>
                  </a:lnTo>
                  <a:lnTo>
                    <a:pt x="1281" y="361"/>
                  </a:lnTo>
                  <a:lnTo>
                    <a:pt x="1271" y="366"/>
                  </a:lnTo>
                  <a:lnTo>
                    <a:pt x="1266" y="366"/>
                  </a:lnTo>
                  <a:lnTo>
                    <a:pt x="1256" y="371"/>
                  </a:lnTo>
                  <a:lnTo>
                    <a:pt x="1251" y="376"/>
                  </a:lnTo>
                  <a:lnTo>
                    <a:pt x="1251" y="381"/>
                  </a:lnTo>
                  <a:lnTo>
                    <a:pt x="1241" y="386"/>
                  </a:lnTo>
                  <a:lnTo>
                    <a:pt x="1236" y="391"/>
                  </a:lnTo>
                  <a:lnTo>
                    <a:pt x="1232" y="401"/>
                  </a:lnTo>
                  <a:lnTo>
                    <a:pt x="1232" y="406"/>
                  </a:lnTo>
                  <a:lnTo>
                    <a:pt x="1232" y="411"/>
                  </a:lnTo>
                  <a:lnTo>
                    <a:pt x="1232" y="416"/>
                  </a:lnTo>
                  <a:lnTo>
                    <a:pt x="1232" y="420"/>
                  </a:lnTo>
                  <a:lnTo>
                    <a:pt x="1232" y="430"/>
                  </a:lnTo>
                  <a:lnTo>
                    <a:pt x="1232" y="435"/>
                  </a:lnTo>
                  <a:lnTo>
                    <a:pt x="1227" y="440"/>
                  </a:lnTo>
                  <a:lnTo>
                    <a:pt x="1217" y="445"/>
                  </a:lnTo>
                  <a:lnTo>
                    <a:pt x="1212" y="450"/>
                  </a:lnTo>
                  <a:lnTo>
                    <a:pt x="1207" y="455"/>
                  </a:lnTo>
                  <a:lnTo>
                    <a:pt x="1202" y="460"/>
                  </a:lnTo>
                  <a:lnTo>
                    <a:pt x="1202" y="465"/>
                  </a:lnTo>
                  <a:lnTo>
                    <a:pt x="1202" y="470"/>
                  </a:lnTo>
                  <a:lnTo>
                    <a:pt x="1202" y="480"/>
                  </a:lnTo>
                  <a:lnTo>
                    <a:pt x="1202" y="485"/>
                  </a:lnTo>
                  <a:lnTo>
                    <a:pt x="1197" y="490"/>
                  </a:lnTo>
                  <a:lnTo>
                    <a:pt x="1192" y="495"/>
                  </a:lnTo>
                  <a:lnTo>
                    <a:pt x="1187" y="500"/>
                  </a:lnTo>
                  <a:lnTo>
                    <a:pt x="1182" y="504"/>
                  </a:lnTo>
                  <a:lnTo>
                    <a:pt x="1177" y="509"/>
                  </a:lnTo>
                  <a:lnTo>
                    <a:pt x="1177" y="519"/>
                  </a:lnTo>
                  <a:lnTo>
                    <a:pt x="1177" y="524"/>
                  </a:lnTo>
                  <a:lnTo>
                    <a:pt x="1177" y="529"/>
                  </a:lnTo>
                  <a:lnTo>
                    <a:pt x="1177" y="534"/>
                  </a:lnTo>
                  <a:lnTo>
                    <a:pt x="1177" y="544"/>
                  </a:lnTo>
                  <a:lnTo>
                    <a:pt x="1172" y="549"/>
                  </a:lnTo>
                  <a:lnTo>
                    <a:pt x="1172" y="554"/>
                  </a:lnTo>
                  <a:lnTo>
                    <a:pt x="1162" y="559"/>
                  </a:lnTo>
                  <a:lnTo>
                    <a:pt x="1157" y="564"/>
                  </a:lnTo>
                  <a:lnTo>
                    <a:pt x="1152" y="569"/>
                  </a:lnTo>
                  <a:lnTo>
                    <a:pt x="1147" y="574"/>
                  </a:lnTo>
                  <a:lnTo>
                    <a:pt x="1143" y="579"/>
                  </a:lnTo>
                  <a:lnTo>
                    <a:pt x="1133" y="579"/>
                  </a:lnTo>
                  <a:lnTo>
                    <a:pt x="1123" y="574"/>
                  </a:lnTo>
                  <a:lnTo>
                    <a:pt x="1113" y="574"/>
                  </a:lnTo>
                  <a:lnTo>
                    <a:pt x="1108" y="579"/>
                  </a:lnTo>
                  <a:lnTo>
                    <a:pt x="1103" y="584"/>
                  </a:lnTo>
                  <a:lnTo>
                    <a:pt x="1103" y="593"/>
                  </a:lnTo>
                  <a:lnTo>
                    <a:pt x="1103" y="598"/>
                  </a:lnTo>
                  <a:lnTo>
                    <a:pt x="1103" y="603"/>
                  </a:lnTo>
                  <a:lnTo>
                    <a:pt x="1103" y="608"/>
                  </a:lnTo>
                  <a:lnTo>
                    <a:pt x="1108" y="613"/>
                  </a:lnTo>
                  <a:lnTo>
                    <a:pt x="1108" y="623"/>
                  </a:lnTo>
                  <a:lnTo>
                    <a:pt x="1108" y="628"/>
                  </a:lnTo>
                  <a:lnTo>
                    <a:pt x="1108" y="633"/>
                  </a:lnTo>
                  <a:lnTo>
                    <a:pt x="1103" y="638"/>
                  </a:lnTo>
                  <a:lnTo>
                    <a:pt x="1103" y="648"/>
                  </a:lnTo>
                  <a:lnTo>
                    <a:pt x="1098" y="658"/>
                  </a:lnTo>
                  <a:lnTo>
                    <a:pt x="1093" y="663"/>
                  </a:lnTo>
                  <a:lnTo>
                    <a:pt x="1088" y="663"/>
                  </a:lnTo>
                  <a:lnTo>
                    <a:pt x="1088" y="663"/>
                  </a:lnTo>
                  <a:lnTo>
                    <a:pt x="1083" y="658"/>
                  </a:lnTo>
                  <a:lnTo>
                    <a:pt x="1083" y="648"/>
                  </a:lnTo>
                  <a:lnTo>
                    <a:pt x="1078" y="643"/>
                  </a:lnTo>
                  <a:lnTo>
                    <a:pt x="1078" y="633"/>
                  </a:lnTo>
                  <a:lnTo>
                    <a:pt x="1078" y="628"/>
                  </a:lnTo>
                  <a:lnTo>
                    <a:pt x="1078" y="623"/>
                  </a:lnTo>
                  <a:lnTo>
                    <a:pt x="1083" y="618"/>
                  </a:lnTo>
                  <a:lnTo>
                    <a:pt x="1083" y="608"/>
                  </a:lnTo>
                  <a:lnTo>
                    <a:pt x="1083" y="603"/>
                  </a:lnTo>
                  <a:lnTo>
                    <a:pt x="1083" y="598"/>
                  </a:lnTo>
                  <a:lnTo>
                    <a:pt x="1083" y="593"/>
                  </a:lnTo>
                  <a:lnTo>
                    <a:pt x="1083" y="584"/>
                  </a:lnTo>
                  <a:lnTo>
                    <a:pt x="1083" y="579"/>
                  </a:lnTo>
                  <a:lnTo>
                    <a:pt x="1083" y="574"/>
                  </a:lnTo>
                  <a:lnTo>
                    <a:pt x="1083" y="569"/>
                  </a:lnTo>
                  <a:lnTo>
                    <a:pt x="1088" y="564"/>
                  </a:lnTo>
                  <a:lnTo>
                    <a:pt x="1093" y="559"/>
                  </a:lnTo>
                  <a:lnTo>
                    <a:pt x="1098" y="554"/>
                  </a:lnTo>
                  <a:lnTo>
                    <a:pt x="1103" y="544"/>
                  </a:lnTo>
                  <a:lnTo>
                    <a:pt x="1108" y="539"/>
                  </a:lnTo>
                  <a:lnTo>
                    <a:pt x="1108" y="534"/>
                  </a:lnTo>
                  <a:lnTo>
                    <a:pt x="1108" y="529"/>
                  </a:lnTo>
                  <a:lnTo>
                    <a:pt x="1108" y="519"/>
                  </a:lnTo>
                  <a:lnTo>
                    <a:pt x="1108" y="514"/>
                  </a:lnTo>
                  <a:lnTo>
                    <a:pt x="1108" y="509"/>
                  </a:lnTo>
                  <a:lnTo>
                    <a:pt x="1113" y="504"/>
                  </a:lnTo>
                  <a:lnTo>
                    <a:pt x="1118" y="500"/>
                  </a:lnTo>
                  <a:lnTo>
                    <a:pt x="1123" y="495"/>
                  </a:lnTo>
                  <a:lnTo>
                    <a:pt x="1128" y="490"/>
                  </a:lnTo>
                  <a:lnTo>
                    <a:pt x="1133" y="485"/>
                  </a:lnTo>
                  <a:lnTo>
                    <a:pt x="1138" y="480"/>
                  </a:lnTo>
                  <a:lnTo>
                    <a:pt x="1133" y="475"/>
                  </a:lnTo>
                  <a:lnTo>
                    <a:pt x="1133" y="465"/>
                  </a:lnTo>
                  <a:lnTo>
                    <a:pt x="1133" y="460"/>
                  </a:lnTo>
                  <a:lnTo>
                    <a:pt x="1133" y="455"/>
                  </a:lnTo>
                  <a:lnTo>
                    <a:pt x="1133" y="450"/>
                  </a:lnTo>
                  <a:lnTo>
                    <a:pt x="1138" y="445"/>
                  </a:lnTo>
                  <a:lnTo>
                    <a:pt x="1143" y="440"/>
                  </a:lnTo>
                  <a:lnTo>
                    <a:pt x="1152" y="435"/>
                  </a:lnTo>
                  <a:lnTo>
                    <a:pt x="1157" y="430"/>
                  </a:lnTo>
                  <a:lnTo>
                    <a:pt x="1157" y="425"/>
                  </a:lnTo>
                  <a:lnTo>
                    <a:pt x="1157" y="420"/>
                  </a:lnTo>
                  <a:lnTo>
                    <a:pt x="1157" y="411"/>
                  </a:lnTo>
                  <a:lnTo>
                    <a:pt x="1152" y="406"/>
                  </a:lnTo>
                  <a:lnTo>
                    <a:pt x="1152" y="401"/>
                  </a:lnTo>
                  <a:lnTo>
                    <a:pt x="1147" y="391"/>
                  </a:lnTo>
                  <a:lnTo>
                    <a:pt x="1147" y="381"/>
                  </a:lnTo>
                  <a:lnTo>
                    <a:pt x="1147" y="376"/>
                  </a:lnTo>
                  <a:lnTo>
                    <a:pt x="1143" y="376"/>
                  </a:lnTo>
                  <a:lnTo>
                    <a:pt x="1143" y="376"/>
                  </a:lnTo>
                  <a:lnTo>
                    <a:pt x="1138" y="381"/>
                  </a:lnTo>
                  <a:lnTo>
                    <a:pt x="1133" y="391"/>
                  </a:lnTo>
                  <a:lnTo>
                    <a:pt x="1128" y="396"/>
                  </a:lnTo>
                  <a:lnTo>
                    <a:pt x="1128" y="406"/>
                  </a:lnTo>
                  <a:lnTo>
                    <a:pt x="1123" y="411"/>
                  </a:lnTo>
                  <a:lnTo>
                    <a:pt x="1118" y="416"/>
                  </a:lnTo>
                  <a:lnTo>
                    <a:pt x="1108" y="420"/>
                  </a:lnTo>
                  <a:lnTo>
                    <a:pt x="1103" y="425"/>
                  </a:lnTo>
                  <a:lnTo>
                    <a:pt x="1098" y="430"/>
                  </a:lnTo>
                  <a:lnTo>
                    <a:pt x="1098" y="435"/>
                  </a:lnTo>
                  <a:lnTo>
                    <a:pt x="1098" y="440"/>
                  </a:lnTo>
                  <a:lnTo>
                    <a:pt x="1098" y="445"/>
                  </a:lnTo>
                  <a:lnTo>
                    <a:pt x="1093" y="455"/>
                  </a:lnTo>
                  <a:lnTo>
                    <a:pt x="1093" y="460"/>
                  </a:lnTo>
                  <a:lnTo>
                    <a:pt x="1083" y="465"/>
                  </a:lnTo>
                  <a:lnTo>
                    <a:pt x="1078" y="470"/>
                  </a:lnTo>
                  <a:lnTo>
                    <a:pt x="1073" y="475"/>
                  </a:lnTo>
                  <a:lnTo>
                    <a:pt x="1073" y="480"/>
                  </a:lnTo>
                  <a:lnTo>
                    <a:pt x="1068" y="485"/>
                  </a:lnTo>
                  <a:lnTo>
                    <a:pt x="1068" y="495"/>
                  </a:lnTo>
                  <a:lnTo>
                    <a:pt x="1068" y="500"/>
                  </a:lnTo>
                  <a:lnTo>
                    <a:pt x="1068" y="504"/>
                  </a:lnTo>
                  <a:lnTo>
                    <a:pt x="1063" y="509"/>
                  </a:lnTo>
                  <a:lnTo>
                    <a:pt x="1058" y="514"/>
                  </a:lnTo>
                  <a:lnTo>
                    <a:pt x="1053" y="519"/>
                  </a:lnTo>
                  <a:lnTo>
                    <a:pt x="1049" y="524"/>
                  </a:lnTo>
                  <a:lnTo>
                    <a:pt x="1049" y="534"/>
                  </a:lnTo>
                  <a:lnTo>
                    <a:pt x="1049" y="539"/>
                  </a:lnTo>
                  <a:lnTo>
                    <a:pt x="1044" y="544"/>
                  </a:lnTo>
                  <a:lnTo>
                    <a:pt x="1044" y="549"/>
                  </a:lnTo>
                  <a:lnTo>
                    <a:pt x="1044" y="559"/>
                  </a:lnTo>
                  <a:lnTo>
                    <a:pt x="1044" y="564"/>
                  </a:lnTo>
                  <a:lnTo>
                    <a:pt x="1044" y="569"/>
                  </a:lnTo>
                  <a:lnTo>
                    <a:pt x="1039" y="574"/>
                  </a:lnTo>
                  <a:lnTo>
                    <a:pt x="1039" y="579"/>
                  </a:lnTo>
                  <a:lnTo>
                    <a:pt x="1039" y="589"/>
                  </a:lnTo>
                  <a:lnTo>
                    <a:pt x="1039" y="593"/>
                  </a:lnTo>
                  <a:lnTo>
                    <a:pt x="1034" y="598"/>
                  </a:lnTo>
                  <a:lnTo>
                    <a:pt x="1034" y="603"/>
                  </a:lnTo>
                  <a:lnTo>
                    <a:pt x="1029" y="608"/>
                  </a:lnTo>
                  <a:lnTo>
                    <a:pt x="1024" y="618"/>
                  </a:lnTo>
                  <a:lnTo>
                    <a:pt x="1024" y="623"/>
                  </a:lnTo>
                  <a:lnTo>
                    <a:pt x="1024" y="628"/>
                  </a:lnTo>
                  <a:lnTo>
                    <a:pt x="1019" y="633"/>
                  </a:lnTo>
                  <a:lnTo>
                    <a:pt x="1019" y="638"/>
                  </a:lnTo>
                  <a:lnTo>
                    <a:pt x="1019" y="648"/>
                  </a:lnTo>
                  <a:lnTo>
                    <a:pt x="1019" y="653"/>
                  </a:lnTo>
                  <a:lnTo>
                    <a:pt x="1014" y="658"/>
                  </a:lnTo>
                  <a:lnTo>
                    <a:pt x="1014" y="663"/>
                  </a:lnTo>
                  <a:lnTo>
                    <a:pt x="1014" y="673"/>
                  </a:lnTo>
                  <a:lnTo>
                    <a:pt x="1014" y="677"/>
                  </a:lnTo>
                  <a:lnTo>
                    <a:pt x="1014" y="682"/>
                  </a:lnTo>
                  <a:lnTo>
                    <a:pt x="1014" y="687"/>
                  </a:lnTo>
                  <a:lnTo>
                    <a:pt x="1014" y="697"/>
                  </a:lnTo>
                  <a:lnTo>
                    <a:pt x="1014" y="702"/>
                  </a:lnTo>
                  <a:lnTo>
                    <a:pt x="1014" y="712"/>
                  </a:lnTo>
                  <a:lnTo>
                    <a:pt x="1009" y="717"/>
                  </a:lnTo>
                  <a:lnTo>
                    <a:pt x="1009" y="717"/>
                  </a:lnTo>
                  <a:lnTo>
                    <a:pt x="1009" y="717"/>
                  </a:lnTo>
                  <a:lnTo>
                    <a:pt x="1004" y="712"/>
                  </a:lnTo>
                  <a:lnTo>
                    <a:pt x="999" y="702"/>
                  </a:lnTo>
                  <a:lnTo>
                    <a:pt x="994" y="692"/>
                  </a:lnTo>
                  <a:close/>
                  <a:moveTo>
                    <a:pt x="955" y="589"/>
                  </a:moveTo>
                  <a:lnTo>
                    <a:pt x="955" y="584"/>
                  </a:lnTo>
                  <a:lnTo>
                    <a:pt x="955" y="584"/>
                  </a:lnTo>
                  <a:lnTo>
                    <a:pt x="955" y="584"/>
                  </a:lnTo>
                  <a:lnTo>
                    <a:pt x="955" y="584"/>
                  </a:lnTo>
                  <a:lnTo>
                    <a:pt x="960" y="584"/>
                  </a:lnTo>
                  <a:lnTo>
                    <a:pt x="960" y="584"/>
                  </a:lnTo>
                  <a:lnTo>
                    <a:pt x="960" y="584"/>
                  </a:lnTo>
                  <a:lnTo>
                    <a:pt x="960" y="589"/>
                  </a:lnTo>
                  <a:lnTo>
                    <a:pt x="960" y="589"/>
                  </a:lnTo>
                  <a:lnTo>
                    <a:pt x="960" y="589"/>
                  </a:lnTo>
                  <a:lnTo>
                    <a:pt x="960" y="589"/>
                  </a:lnTo>
                  <a:lnTo>
                    <a:pt x="955" y="589"/>
                  </a:lnTo>
                  <a:lnTo>
                    <a:pt x="955" y="589"/>
                  </a:lnTo>
                  <a:lnTo>
                    <a:pt x="955" y="589"/>
                  </a:lnTo>
                  <a:close/>
                  <a:moveTo>
                    <a:pt x="1157" y="534"/>
                  </a:moveTo>
                  <a:lnTo>
                    <a:pt x="1152" y="524"/>
                  </a:lnTo>
                  <a:lnTo>
                    <a:pt x="1147" y="519"/>
                  </a:lnTo>
                  <a:lnTo>
                    <a:pt x="1143" y="514"/>
                  </a:lnTo>
                  <a:lnTo>
                    <a:pt x="1143" y="519"/>
                  </a:lnTo>
                  <a:lnTo>
                    <a:pt x="1138" y="524"/>
                  </a:lnTo>
                  <a:lnTo>
                    <a:pt x="1138" y="534"/>
                  </a:lnTo>
                  <a:lnTo>
                    <a:pt x="1138" y="539"/>
                  </a:lnTo>
                  <a:lnTo>
                    <a:pt x="1138" y="549"/>
                  </a:lnTo>
                  <a:lnTo>
                    <a:pt x="1143" y="554"/>
                  </a:lnTo>
                  <a:lnTo>
                    <a:pt x="1143" y="554"/>
                  </a:lnTo>
                  <a:lnTo>
                    <a:pt x="1147" y="554"/>
                  </a:lnTo>
                  <a:lnTo>
                    <a:pt x="1152" y="549"/>
                  </a:lnTo>
                  <a:lnTo>
                    <a:pt x="1152" y="544"/>
                  </a:lnTo>
                  <a:lnTo>
                    <a:pt x="1157" y="534"/>
                  </a:lnTo>
                  <a:close/>
                  <a:moveTo>
                    <a:pt x="1182" y="480"/>
                  </a:moveTo>
                  <a:lnTo>
                    <a:pt x="1177" y="475"/>
                  </a:lnTo>
                  <a:lnTo>
                    <a:pt x="1177" y="470"/>
                  </a:lnTo>
                  <a:lnTo>
                    <a:pt x="1172" y="465"/>
                  </a:lnTo>
                  <a:lnTo>
                    <a:pt x="1172" y="465"/>
                  </a:lnTo>
                  <a:lnTo>
                    <a:pt x="1167" y="465"/>
                  </a:lnTo>
                  <a:lnTo>
                    <a:pt x="1167" y="470"/>
                  </a:lnTo>
                  <a:lnTo>
                    <a:pt x="1167" y="475"/>
                  </a:lnTo>
                  <a:lnTo>
                    <a:pt x="1167" y="480"/>
                  </a:lnTo>
                  <a:lnTo>
                    <a:pt x="1167" y="485"/>
                  </a:lnTo>
                  <a:lnTo>
                    <a:pt x="1167" y="490"/>
                  </a:lnTo>
                  <a:lnTo>
                    <a:pt x="1172" y="490"/>
                  </a:lnTo>
                  <a:lnTo>
                    <a:pt x="1172" y="490"/>
                  </a:lnTo>
                  <a:lnTo>
                    <a:pt x="1177" y="485"/>
                  </a:lnTo>
                  <a:lnTo>
                    <a:pt x="1182" y="480"/>
                  </a:lnTo>
                  <a:close/>
                  <a:moveTo>
                    <a:pt x="1424" y="455"/>
                  </a:moveTo>
                  <a:lnTo>
                    <a:pt x="1424" y="450"/>
                  </a:lnTo>
                  <a:lnTo>
                    <a:pt x="1429" y="445"/>
                  </a:lnTo>
                  <a:lnTo>
                    <a:pt x="1429" y="445"/>
                  </a:lnTo>
                  <a:lnTo>
                    <a:pt x="1434" y="445"/>
                  </a:lnTo>
                  <a:lnTo>
                    <a:pt x="1434" y="445"/>
                  </a:lnTo>
                  <a:lnTo>
                    <a:pt x="1439" y="445"/>
                  </a:lnTo>
                  <a:lnTo>
                    <a:pt x="1439" y="450"/>
                  </a:lnTo>
                  <a:lnTo>
                    <a:pt x="1439" y="450"/>
                  </a:lnTo>
                  <a:lnTo>
                    <a:pt x="1439" y="455"/>
                  </a:lnTo>
                  <a:lnTo>
                    <a:pt x="1434" y="455"/>
                  </a:lnTo>
                  <a:lnTo>
                    <a:pt x="1434" y="455"/>
                  </a:lnTo>
                  <a:lnTo>
                    <a:pt x="1429" y="455"/>
                  </a:lnTo>
                  <a:lnTo>
                    <a:pt x="1424" y="455"/>
                  </a:lnTo>
                  <a:lnTo>
                    <a:pt x="1424" y="455"/>
                  </a:lnTo>
                  <a:close/>
                  <a:moveTo>
                    <a:pt x="1172" y="346"/>
                  </a:moveTo>
                  <a:lnTo>
                    <a:pt x="1172" y="341"/>
                  </a:lnTo>
                  <a:lnTo>
                    <a:pt x="1172" y="341"/>
                  </a:lnTo>
                  <a:lnTo>
                    <a:pt x="1172" y="341"/>
                  </a:lnTo>
                  <a:lnTo>
                    <a:pt x="1167" y="341"/>
                  </a:lnTo>
                  <a:lnTo>
                    <a:pt x="1167" y="346"/>
                  </a:lnTo>
                  <a:lnTo>
                    <a:pt x="1167" y="346"/>
                  </a:lnTo>
                  <a:lnTo>
                    <a:pt x="1167" y="351"/>
                  </a:lnTo>
                  <a:lnTo>
                    <a:pt x="1167" y="351"/>
                  </a:lnTo>
                  <a:lnTo>
                    <a:pt x="1167" y="351"/>
                  </a:lnTo>
                  <a:lnTo>
                    <a:pt x="1172" y="351"/>
                  </a:lnTo>
                  <a:lnTo>
                    <a:pt x="1172" y="351"/>
                  </a:lnTo>
                  <a:lnTo>
                    <a:pt x="1172" y="351"/>
                  </a:lnTo>
                  <a:lnTo>
                    <a:pt x="1172" y="351"/>
                  </a:lnTo>
                  <a:lnTo>
                    <a:pt x="1172" y="346"/>
                  </a:lnTo>
                  <a:close/>
                  <a:moveTo>
                    <a:pt x="915" y="238"/>
                  </a:moveTo>
                  <a:lnTo>
                    <a:pt x="920" y="238"/>
                  </a:lnTo>
                  <a:lnTo>
                    <a:pt x="925" y="233"/>
                  </a:lnTo>
                  <a:lnTo>
                    <a:pt x="930" y="228"/>
                  </a:lnTo>
                  <a:lnTo>
                    <a:pt x="935" y="223"/>
                  </a:lnTo>
                  <a:lnTo>
                    <a:pt x="935" y="223"/>
                  </a:lnTo>
                  <a:lnTo>
                    <a:pt x="940" y="218"/>
                  </a:lnTo>
                  <a:lnTo>
                    <a:pt x="945" y="213"/>
                  </a:lnTo>
                  <a:lnTo>
                    <a:pt x="950" y="208"/>
                  </a:lnTo>
                  <a:lnTo>
                    <a:pt x="955" y="203"/>
                  </a:lnTo>
                  <a:lnTo>
                    <a:pt x="955" y="203"/>
                  </a:lnTo>
                  <a:lnTo>
                    <a:pt x="960" y="203"/>
                  </a:lnTo>
                  <a:lnTo>
                    <a:pt x="964" y="208"/>
                  </a:lnTo>
                  <a:lnTo>
                    <a:pt x="969" y="213"/>
                  </a:lnTo>
                  <a:lnTo>
                    <a:pt x="964" y="218"/>
                  </a:lnTo>
                  <a:lnTo>
                    <a:pt x="964" y="223"/>
                  </a:lnTo>
                  <a:lnTo>
                    <a:pt x="960" y="223"/>
                  </a:lnTo>
                  <a:lnTo>
                    <a:pt x="955" y="228"/>
                  </a:lnTo>
                  <a:lnTo>
                    <a:pt x="950" y="233"/>
                  </a:lnTo>
                  <a:lnTo>
                    <a:pt x="945" y="238"/>
                  </a:lnTo>
                  <a:lnTo>
                    <a:pt x="945" y="243"/>
                  </a:lnTo>
                  <a:lnTo>
                    <a:pt x="940" y="247"/>
                  </a:lnTo>
                  <a:lnTo>
                    <a:pt x="935" y="247"/>
                  </a:lnTo>
                  <a:lnTo>
                    <a:pt x="930" y="252"/>
                  </a:lnTo>
                  <a:lnTo>
                    <a:pt x="925" y="252"/>
                  </a:lnTo>
                  <a:lnTo>
                    <a:pt x="920" y="247"/>
                  </a:lnTo>
                  <a:lnTo>
                    <a:pt x="915" y="238"/>
                  </a:lnTo>
                  <a:close/>
                  <a:moveTo>
                    <a:pt x="989" y="188"/>
                  </a:moveTo>
                  <a:lnTo>
                    <a:pt x="994" y="178"/>
                  </a:lnTo>
                  <a:lnTo>
                    <a:pt x="999" y="173"/>
                  </a:lnTo>
                  <a:lnTo>
                    <a:pt x="1004" y="168"/>
                  </a:lnTo>
                  <a:lnTo>
                    <a:pt x="1014" y="168"/>
                  </a:lnTo>
                  <a:lnTo>
                    <a:pt x="1019" y="173"/>
                  </a:lnTo>
                  <a:lnTo>
                    <a:pt x="1024" y="178"/>
                  </a:lnTo>
                  <a:lnTo>
                    <a:pt x="1024" y="188"/>
                  </a:lnTo>
                  <a:lnTo>
                    <a:pt x="1024" y="193"/>
                  </a:lnTo>
                  <a:lnTo>
                    <a:pt x="1019" y="198"/>
                  </a:lnTo>
                  <a:lnTo>
                    <a:pt x="1014" y="203"/>
                  </a:lnTo>
                  <a:lnTo>
                    <a:pt x="1004" y="203"/>
                  </a:lnTo>
                  <a:lnTo>
                    <a:pt x="999" y="203"/>
                  </a:lnTo>
                  <a:lnTo>
                    <a:pt x="994" y="193"/>
                  </a:lnTo>
                  <a:lnTo>
                    <a:pt x="989" y="188"/>
                  </a:lnTo>
                  <a:close/>
                  <a:moveTo>
                    <a:pt x="1602" y="79"/>
                  </a:moveTo>
                  <a:lnTo>
                    <a:pt x="1602" y="74"/>
                  </a:lnTo>
                  <a:lnTo>
                    <a:pt x="1598" y="70"/>
                  </a:lnTo>
                  <a:lnTo>
                    <a:pt x="1598" y="65"/>
                  </a:lnTo>
                  <a:lnTo>
                    <a:pt x="1598" y="60"/>
                  </a:lnTo>
                  <a:lnTo>
                    <a:pt x="1598" y="60"/>
                  </a:lnTo>
                  <a:lnTo>
                    <a:pt x="1598" y="60"/>
                  </a:lnTo>
                  <a:lnTo>
                    <a:pt x="1593" y="60"/>
                  </a:lnTo>
                  <a:lnTo>
                    <a:pt x="1593" y="65"/>
                  </a:lnTo>
                  <a:lnTo>
                    <a:pt x="1593" y="65"/>
                  </a:lnTo>
                  <a:lnTo>
                    <a:pt x="1593" y="70"/>
                  </a:lnTo>
                  <a:lnTo>
                    <a:pt x="1593" y="74"/>
                  </a:lnTo>
                  <a:lnTo>
                    <a:pt x="1593" y="79"/>
                  </a:lnTo>
                  <a:lnTo>
                    <a:pt x="1598" y="84"/>
                  </a:lnTo>
                  <a:lnTo>
                    <a:pt x="1602" y="79"/>
                  </a:lnTo>
                  <a:close/>
                  <a:moveTo>
                    <a:pt x="2235" y="1656"/>
                  </a:moveTo>
                  <a:lnTo>
                    <a:pt x="2260" y="1631"/>
                  </a:lnTo>
                  <a:lnTo>
                    <a:pt x="2285" y="1631"/>
                  </a:lnTo>
                  <a:lnTo>
                    <a:pt x="2315" y="1631"/>
                  </a:lnTo>
                  <a:lnTo>
                    <a:pt x="2339" y="1631"/>
                  </a:lnTo>
                  <a:lnTo>
                    <a:pt x="2369" y="1631"/>
                  </a:lnTo>
                  <a:lnTo>
                    <a:pt x="2394" y="1631"/>
                  </a:lnTo>
                  <a:lnTo>
                    <a:pt x="2418" y="1631"/>
                  </a:lnTo>
                  <a:lnTo>
                    <a:pt x="2448" y="1602"/>
                  </a:lnTo>
                  <a:lnTo>
                    <a:pt x="2448" y="1577"/>
                  </a:lnTo>
                  <a:lnTo>
                    <a:pt x="2448" y="1547"/>
                  </a:lnTo>
                  <a:lnTo>
                    <a:pt x="2448" y="1523"/>
                  </a:lnTo>
                  <a:lnTo>
                    <a:pt x="2473" y="1498"/>
                  </a:lnTo>
                  <a:lnTo>
                    <a:pt x="2473" y="1468"/>
                  </a:lnTo>
                  <a:lnTo>
                    <a:pt x="2473" y="1444"/>
                  </a:lnTo>
                  <a:lnTo>
                    <a:pt x="2473" y="1414"/>
                  </a:lnTo>
                  <a:lnTo>
                    <a:pt x="2503" y="1389"/>
                  </a:lnTo>
                  <a:lnTo>
                    <a:pt x="2503" y="1364"/>
                  </a:lnTo>
                  <a:lnTo>
                    <a:pt x="2503" y="1335"/>
                  </a:lnTo>
                  <a:lnTo>
                    <a:pt x="2503" y="1310"/>
                  </a:lnTo>
                  <a:lnTo>
                    <a:pt x="2527" y="1280"/>
                  </a:lnTo>
                  <a:lnTo>
                    <a:pt x="2527" y="1256"/>
                  </a:lnTo>
                  <a:lnTo>
                    <a:pt x="2527" y="1226"/>
                  </a:lnTo>
                  <a:lnTo>
                    <a:pt x="2527" y="1201"/>
                  </a:lnTo>
                  <a:lnTo>
                    <a:pt x="2552" y="1177"/>
                  </a:lnTo>
                  <a:lnTo>
                    <a:pt x="2552" y="1147"/>
                  </a:lnTo>
                  <a:lnTo>
                    <a:pt x="2552" y="1122"/>
                  </a:lnTo>
                  <a:lnTo>
                    <a:pt x="2552" y="1093"/>
                  </a:lnTo>
                  <a:lnTo>
                    <a:pt x="2582" y="1068"/>
                  </a:lnTo>
                  <a:lnTo>
                    <a:pt x="2582" y="1043"/>
                  </a:lnTo>
                  <a:lnTo>
                    <a:pt x="2582" y="1014"/>
                  </a:lnTo>
                  <a:lnTo>
                    <a:pt x="2582" y="989"/>
                  </a:lnTo>
                  <a:lnTo>
                    <a:pt x="2582" y="959"/>
                  </a:lnTo>
                  <a:lnTo>
                    <a:pt x="2582" y="934"/>
                  </a:lnTo>
                  <a:lnTo>
                    <a:pt x="2582" y="910"/>
                  </a:lnTo>
                  <a:lnTo>
                    <a:pt x="2582" y="880"/>
                  </a:lnTo>
                  <a:lnTo>
                    <a:pt x="2582" y="855"/>
                  </a:lnTo>
                  <a:lnTo>
                    <a:pt x="2582" y="826"/>
                  </a:lnTo>
                  <a:lnTo>
                    <a:pt x="2582" y="801"/>
                  </a:lnTo>
                  <a:lnTo>
                    <a:pt x="2582" y="776"/>
                  </a:lnTo>
                  <a:lnTo>
                    <a:pt x="2582" y="747"/>
                  </a:lnTo>
                  <a:lnTo>
                    <a:pt x="2582" y="722"/>
                  </a:lnTo>
                  <a:lnTo>
                    <a:pt x="2582" y="692"/>
                  </a:lnTo>
                  <a:lnTo>
                    <a:pt x="2582" y="668"/>
                  </a:lnTo>
                  <a:lnTo>
                    <a:pt x="2582" y="643"/>
                  </a:lnTo>
                  <a:lnTo>
                    <a:pt x="2582" y="613"/>
                  </a:lnTo>
                  <a:lnTo>
                    <a:pt x="2582" y="589"/>
                  </a:lnTo>
                  <a:lnTo>
                    <a:pt x="2582" y="559"/>
                  </a:lnTo>
                  <a:lnTo>
                    <a:pt x="2582" y="534"/>
                  </a:lnTo>
                  <a:lnTo>
                    <a:pt x="2582" y="504"/>
                  </a:lnTo>
                  <a:lnTo>
                    <a:pt x="2582" y="480"/>
                  </a:lnTo>
                  <a:lnTo>
                    <a:pt x="2582" y="455"/>
                  </a:lnTo>
                  <a:lnTo>
                    <a:pt x="2582" y="425"/>
                  </a:lnTo>
                  <a:lnTo>
                    <a:pt x="2582" y="401"/>
                  </a:lnTo>
                  <a:lnTo>
                    <a:pt x="2582" y="371"/>
                  </a:lnTo>
                  <a:lnTo>
                    <a:pt x="2582" y="346"/>
                  </a:lnTo>
                  <a:lnTo>
                    <a:pt x="2582" y="322"/>
                  </a:lnTo>
                  <a:lnTo>
                    <a:pt x="2582" y="292"/>
                  </a:lnTo>
                  <a:lnTo>
                    <a:pt x="2582" y="267"/>
                  </a:lnTo>
                  <a:lnTo>
                    <a:pt x="2582" y="238"/>
                  </a:lnTo>
                  <a:lnTo>
                    <a:pt x="2552" y="213"/>
                  </a:lnTo>
                  <a:lnTo>
                    <a:pt x="2552" y="188"/>
                  </a:lnTo>
                  <a:lnTo>
                    <a:pt x="2552" y="159"/>
                  </a:lnTo>
                  <a:lnTo>
                    <a:pt x="2552" y="134"/>
                  </a:lnTo>
                  <a:lnTo>
                    <a:pt x="2552" y="104"/>
                  </a:lnTo>
                  <a:lnTo>
                    <a:pt x="2527" y="79"/>
                  </a:lnTo>
                  <a:lnTo>
                    <a:pt x="2503" y="79"/>
                  </a:lnTo>
                  <a:lnTo>
                    <a:pt x="2473" y="79"/>
                  </a:lnTo>
                  <a:lnTo>
                    <a:pt x="2448" y="55"/>
                  </a:lnTo>
                  <a:lnTo>
                    <a:pt x="2418" y="55"/>
                  </a:lnTo>
                  <a:lnTo>
                    <a:pt x="2394" y="55"/>
                  </a:lnTo>
                  <a:lnTo>
                    <a:pt x="2369" y="25"/>
                  </a:lnTo>
                  <a:lnTo>
                    <a:pt x="2339" y="25"/>
                  </a:lnTo>
                  <a:lnTo>
                    <a:pt x="2315" y="25"/>
                  </a:lnTo>
                  <a:lnTo>
                    <a:pt x="2285" y="0"/>
                  </a:lnTo>
                  <a:lnTo>
                    <a:pt x="2260" y="0"/>
                  </a:lnTo>
                  <a:lnTo>
                    <a:pt x="2235" y="0"/>
                  </a:lnTo>
                  <a:lnTo>
                    <a:pt x="2206" y="0"/>
                  </a:lnTo>
                  <a:lnTo>
                    <a:pt x="2181" y="0"/>
                  </a:lnTo>
                  <a:lnTo>
                    <a:pt x="2156" y="0"/>
                  </a:lnTo>
                  <a:lnTo>
                    <a:pt x="2127" y="0"/>
                  </a:lnTo>
                  <a:lnTo>
                    <a:pt x="2102" y="0"/>
                  </a:lnTo>
                  <a:lnTo>
                    <a:pt x="2072" y="0"/>
                  </a:lnTo>
                  <a:lnTo>
                    <a:pt x="2048" y="0"/>
                  </a:lnTo>
                  <a:lnTo>
                    <a:pt x="2023" y="0"/>
                  </a:lnTo>
                  <a:lnTo>
                    <a:pt x="1993" y="0"/>
                  </a:lnTo>
                  <a:lnTo>
                    <a:pt x="1968" y="0"/>
                  </a:lnTo>
                  <a:lnTo>
                    <a:pt x="1944" y="0"/>
                  </a:lnTo>
                  <a:lnTo>
                    <a:pt x="1914" y="0"/>
                  </a:lnTo>
                  <a:lnTo>
                    <a:pt x="1889" y="0"/>
                  </a:lnTo>
                  <a:lnTo>
                    <a:pt x="1860" y="0"/>
                  </a:lnTo>
                  <a:lnTo>
                    <a:pt x="1835" y="0"/>
                  </a:lnTo>
                  <a:lnTo>
                    <a:pt x="1810" y="0"/>
                  </a:lnTo>
                  <a:lnTo>
                    <a:pt x="1780" y="0"/>
                  </a:lnTo>
                  <a:lnTo>
                    <a:pt x="1756" y="0"/>
                  </a:lnTo>
                  <a:lnTo>
                    <a:pt x="1726" y="0"/>
                  </a:lnTo>
                  <a:lnTo>
                    <a:pt x="1701" y="0"/>
                  </a:lnTo>
                  <a:lnTo>
                    <a:pt x="1677" y="0"/>
                  </a:lnTo>
                  <a:lnTo>
                    <a:pt x="1647" y="0"/>
                  </a:lnTo>
                  <a:lnTo>
                    <a:pt x="1622" y="0"/>
                  </a:lnTo>
                  <a:lnTo>
                    <a:pt x="1598" y="0"/>
                  </a:lnTo>
                  <a:lnTo>
                    <a:pt x="1568" y="0"/>
                  </a:lnTo>
                  <a:lnTo>
                    <a:pt x="1543" y="0"/>
                  </a:lnTo>
                  <a:lnTo>
                    <a:pt x="1513" y="0"/>
                  </a:lnTo>
                  <a:lnTo>
                    <a:pt x="1489" y="0"/>
                  </a:lnTo>
                  <a:lnTo>
                    <a:pt x="1464" y="0"/>
                  </a:lnTo>
                  <a:lnTo>
                    <a:pt x="1434" y="0"/>
                  </a:lnTo>
                  <a:lnTo>
                    <a:pt x="1410" y="0"/>
                  </a:lnTo>
                  <a:lnTo>
                    <a:pt x="1385" y="0"/>
                  </a:lnTo>
                  <a:lnTo>
                    <a:pt x="1355" y="0"/>
                  </a:lnTo>
                  <a:lnTo>
                    <a:pt x="1330" y="0"/>
                  </a:lnTo>
                  <a:lnTo>
                    <a:pt x="1301" y="0"/>
                  </a:lnTo>
                  <a:lnTo>
                    <a:pt x="1276" y="0"/>
                  </a:lnTo>
                  <a:lnTo>
                    <a:pt x="1251" y="0"/>
                  </a:lnTo>
                  <a:lnTo>
                    <a:pt x="1222" y="0"/>
                  </a:lnTo>
                  <a:lnTo>
                    <a:pt x="1197" y="0"/>
                  </a:lnTo>
                  <a:lnTo>
                    <a:pt x="1172" y="0"/>
                  </a:lnTo>
                  <a:lnTo>
                    <a:pt x="1143" y="0"/>
                  </a:lnTo>
                  <a:lnTo>
                    <a:pt x="1118" y="0"/>
                  </a:lnTo>
                  <a:lnTo>
                    <a:pt x="1088" y="0"/>
                  </a:lnTo>
                  <a:lnTo>
                    <a:pt x="1063" y="0"/>
                  </a:lnTo>
                  <a:lnTo>
                    <a:pt x="1039" y="0"/>
                  </a:lnTo>
                  <a:lnTo>
                    <a:pt x="1009" y="0"/>
                  </a:lnTo>
                  <a:lnTo>
                    <a:pt x="984" y="0"/>
                  </a:lnTo>
                  <a:lnTo>
                    <a:pt x="955" y="0"/>
                  </a:lnTo>
                  <a:lnTo>
                    <a:pt x="930" y="0"/>
                  </a:lnTo>
                  <a:lnTo>
                    <a:pt x="905" y="0"/>
                  </a:lnTo>
                  <a:lnTo>
                    <a:pt x="875" y="0"/>
                  </a:lnTo>
                  <a:lnTo>
                    <a:pt x="851" y="0"/>
                  </a:lnTo>
                  <a:lnTo>
                    <a:pt x="826" y="0"/>
                  </a:lnTo>
                  <a:lnTo>
                    <a:pt x="796" y="0"/>
                  </a:lnTo>
                  <a:lnTo>
                    <a:pt x="772" y="0"/>
                  </a:lnTo>
                  <a:lnTo>
                    <a:pt x="742" y="0"/>
                  </a:lnTo>
                  <a:lnTo>
                    <a:pt x="717" y="0"/>
                  </a:lnTo>
                  <a:lnTo>
                    <a:pt x="692" y="0"/>
                  </a:lnTo>
                  <a:lnTo>
                    <a:pt x="663" y="0"/>
                  </a:lnTo>
                  <a:lnTo>
                    <a:pt x="638" y="0"/>
                  </a:lnTo>
                  <a:lnTo>
                    <a:pt x="613" y="0"/>
                  </a:lnTo>
                  <a:lnTo>
                    <a:pt x="584" y="25"/>
                  </a:lnTo>
                  <a:lnTo>
                    <a:pt x="559" y="55"/>
                  </a:lnTo>
                  <a:lnTo>
                    <a:pt x="529" y="79"/>
                  </a:lnTo>
                  <a:lnTo>
                    <a:pt x="505" y="104"/>
                  </a:lnTo>
                  <a:lnTo>
                    <a:pt x="480" y="134"/>
                  </a:lnTo>
                  <a:lnTo>
                    <a:pt x="450" y="134"/>
                  </a:lnTo>
                  <a:lnTo>
                    <a:pt x="425" y="159"/>
                  </a:lnTo>
                  <a:lnTo>
                    <a:pt x="396" y="188"/>
                  </a:lnTo>
                  <a:lnTo>
                    <a:pt x="371" y="213"/>
                  </a:lnTo>
                  <a:lnTo>
                    <a:pt x="346" y="238"/>
                  </a:lnTo>
                  <a:lnTo>
                    <a:pt x="317" y="267"/>
                  </a:lnTo>
                  <a:lnTo>
                    <a:pt x="292" y="292"/>
                  </a:lnTo>
                  <a:lnTo>
                    <a:pt x="267" y="322"/>
                  </a:lnTo>
                  <a:lnTo>
                    <a:pt x="237" y="322"/>
                  </a:lnTo>
                  <a:lnTo>
                    <a:pt x="213" y="346"/>
                  </a:lnTo>
                  <a:lnTo>
                    <a:pt x="183" y="371"/>
                  </a:lnTo>
                  <a:lnTo>
                    <a:pt x="158" y="401"/>
                  </a:lnTo>
                  <a:lnTo>
                    <a:pt x="134" y="425"/>
                  </a:lnTo>
                  <a:lnTo>
                    <a:pt x="104" y="455"/>
                  </a:lnTo>
                  <a:lnTo>
                    <a:pt x="79" y="480"/>
                  </a:lnTo>
                  <a:lnTo>
                    <a:pt x="55" y="504"/>
                  </a:lnTo>
                  <a:lnTo>
                    <a:pt x="25" y="504"/>
                  </a:lnTo>
                  <a:lnTo>
                    <a:pt x="0" y="534"/>
                  </a:lnTo>
                  <a:lnTo>
                    <a:pt x="0" y="559"/>
                  </a:lnTo>
                  <a:lnTo>
                    <a:pt x="0" y="589"/>
                  </a:lnTo>
                  <a:lnTo>
                    <a:pt x="0" y="613"/>
                  </a:lnTo>
                  <a:lnTo>
                    <a:pt x="25" y="643"/>
                  </a:lnTo>
                  <a:lnTo>
                    <a:pt x="25" y="668"/>
                  </a:lnTo>
                  <a:lnTo>
                    <a:pt x="55" y="692"/>
                  </a:lnTo>
                  <a:lnTo>
                    <a:pt x="79" y="722"/>
                  </a:lnTo>
                  <a:lnTo>
                    <a:pt x="104" y="747"/>
                  </a:lnTo>
                  <a:lnTo>
                    <a:pt x="134" y="776"/>
                  </a:lnTo>
                  <a:lnTo>
                    <a:pt x="134" y="801"/>
                  </a:lnTo>
                  <a:lnTo>
                    <a:pt x="158" y="826"/>
                  </a:lnTo>
                  <a:lnTo>
                    <a:pt x="183" y="855"/>
                  </a:lnTo>
                  <a:lnTo>
                    <a:pt x="213" y="880"/>
                  </a:lnTo>
                  <a:lnTo>
                    <a:pt x="237" y="910"/>
                  </a:lnTo>
                  <a:lnTo>
                    <a:pt x="267" y="934"/>
                  </a:lnTo>
                  <a:lnTo>
                    <a:pt x="292" y="959"/>
                  </a:lnTo>
                  <a:lnTo>
                    <a:pt x="292" y="989"/>
                  </a:lnTo>
                  <a:lnTo>
                    <a:pt x="317" y="1014"/>
                  </a:lnTo>
                  <a:lnTo>
                    <a:pt x="346" y="1043"/>
                  </a:lnTo>
                  <a:lnTo>
                    <a:pt x="371" y="1068"/>
                  </a:lnTo>
                  <a:lnTo>
                    <a:pt x="396" y="1093"/>
                  </a:lnTo>
                  <a:lnTo>
                    <a:pt x="425" y="1122"/>
                  </a:lnTo>
                  <a:lnTo>
                    <a:pt x="450" y="1147"/>
                  </a:lnTo>
                  <a:lnTo>
                    <a:pt x="480" y="1177"/>
                  </a:lnTo>
                  <a:lnTo>
                    <a:pt x="505" y="1201"/>
                  </a:lnTo>
                  <a:lnTo>
                    <a:pt x="529" y="1226"/>
                  </a:lnTo>
                  <a:lnTo>
                    <a:pt x="559" y="1256"/>
                  </a:lnTo>
                  <a:lnTo>
                    <a:pt x="584" y="1280"/>
                  </a:lnTo>
                  <a:lnTo>
                    <a:pt x="613" y="1310"/>
                  </a:lnTo>
                  <a:lnTo>
                    <a:pt x="638" y="1335"/>
                  </a:lnTo>
                  <a:lnTo>
                    <a:pt x="663" y="1364"/>
                  </a:lnTo>
                  <a:lnTo>
                    <a:pt x="692" y="1389"/>
                  </a:lnTo>
                  <a:lnTo>
                    <a:pt x="717" y="1414"/>
                  </a:lnTo>
                  <a:lnTo>
                    <a:pt x="742" y="1444"/>
                  </a:lnTo>
                  <a:lnTo>
                    <a:pt x="772" y="1468"/>
                  </a:lnTo>
                  <a:lnTo>
                    <a:pt x="796" y="1468"/>
                  </a:lnTo>
                  <a:lnTo>
                    <a:pt x="826" y="1498"/>
                  </a:lnTo>
                  <a:lnTo>
                    <a:pt x="851" y="1523"/>
                  </a:lnTo>
                  <a:lnTo>
                    <a:pt x="875" y="1547"/>
                  </a:lnTo>
                  <a:lnTo>
                    <a:pt x="905" y="1577"/>
                  </a:lnTo>
                  <a:lnTo>
                    <a:pt x="930" y="1602"/>
                  </a:lnTo>
                  <a:lnTo>
                    <a:pt x="955" y="1631"/>
                  </a:lnTo>
                  <a:lnTo>
                    <a:pt x="984" y="1656"/>
                  </a:lnTo>
                  <a:lnTo>
                    <a:pt x="1009" y="1656"/>
                  </a:lnTo>
                  <a:lnTo>
                    <a:pt x="1039" y="1656"/>
                  </a:lnTo>
                  <a:lnTo>
                    <a:pt x="1063" y="1656"/>
                  </a:lnTo>
                  <a:lnTo>
                    <a:pt x="1088" y="1656"/>
                  </a:lnTo>
                  <a:lnTo>
                    <a:pt x="1118" y="1656"/>
                  </a:lnTo>
                  <a:lnTo>
                    <a:pt x="1143" y="1656"/>
                  </a:lnTo>
                  <a:lnTo>
                    <a:pt x="1172" y="1656"/>
                  </a:lnTo>
                  <a:lnTo>
                    <a:pt x="1197" y="1656"/>
                  </a:lnTo>
                  <a:lnTo>
                    <a:pt x="1222" y="1656"/>
                  </a:lnTo>
                  <a:lnTo>
                    <a:pt x="1251" y="1656"/>
                  </a:lnTo>
                  <a:lnTo>
                    <a:pt x="1276" y="1656"/>
                  </a:lnTo>
                  <a:lnTo>
                    <a:pt x="1301" y="1656"/>
                  </a:lnTo>
                  <a:lnTo>
                    <a:pt x="1330" y="1656"/>
                  </a:lnTo>
                  <a:lnTo>
                    <a:pt x="1355" y="1656"/>
                  </a:lnTo>
                  <a:lnTo>
                    <a:pt x="1385" y="1656"/>
                  </a:lnTo>
                  <a:lnTo>
                    <a:pt x="1410" y="1656"/>
                  </a:lnTo>
                  <a:lnTo>
                    <a:pt x="1434" y="1656"/>
                  </a:lnTo>
                  <a:lnTo>
                    <a:pt x="1464" y="1656"/>
                  </a:lnTo>
                  <a:lnTo>
                    <a:pt x="1489" y="1656"/>
                  </a:lnTo>
                  <a:lnTo>
                    <a:pt x="1513" y="1656"/>
                  </a:lnTo>
                  <a:lnTo>
                    <a:pt x="1543" y="1656"/>
                  </a:lnTo>
                  <a:lnTo>
                    <a:pt x="1568" y="1656"/>
                  </a:lnTo>
                  <a:lnTo>
                    <a:pt x="1598" y="1656"/>
                  </a:lnTo>
                  <a:lnTo>
                    <a:pt x="1622" y="1656"/>
                  </a:lnTo>
                  <a:lnTo>
                    <a:pt x="1647" y="1656"/>
                  </a:lnTo>
                  <a:lnTo>
                    <a:pt x="1677" y="1656"/>
                  </a:lnTo>
                  <a:lnTo>
                    <a:pt x="1701" y="1656"/>
                  </a:lnTo>
                  <a:lnTo>
                    <a:pt x="1726" y="1656"/>
                  </a:lnTo>
                  <a:lnTo>
                    <a:pt x="1756" y="1656"/>
                  </a:lnTo>
                  <a:lnTo>
                    <a:pt x="1780" y="1656"/>
                  </a:lnTo>
                  <a:lnTo>
                    <a:pt x="1810" y="1656"/>
                  </a:lnTo>
                  <a:lnTo>
                    <a:pt x="1835" y="1656"/>
                  </a:lnTo>
                  <a:lnTo>
                    <a:pt x="1860" y="1656"/>
                  </a:lnTo>
                  <a:lnTo>
                    <a:pt x="1889" y="1656"/>
                  </a:lnTo>
                  <a:lnTo>
                    <a:pt x="1914" y="1656"/>
                  </a:lnTo>
                  <a:lnTo>
                    <a:pt x="1944" y="1656"/>
                  </a:lnTo>
                  <a:lnTo>
                    <a:pt x="1968" y="1656"/>
                  </a:lnTo>
                  <a:lnTo>
                    <a:pt x="1993" y="1656"/>
                  </a:lnTo>
                  <a:lnTo>
                    <a:pt x="2023" y="1656"/>
                  </a:lnTo>
                  <a:lnTo>
                    <a:pt x="2048" y="1656"/>
                  </a:lnTo>
                  <a:lnTo>
                    <a:pt x="2072" y="1656"/>
                  </a:lnTo>
                  <a:lnTo>
                    <a:pt x="2102" y="1656"/>
                  </a:lnTo>
                  <a:lnTo>
                    <a:pt x="2127" y="1656"/>
                  </a:lnTo>
                  <a:lnTo>
                    <a:pt x="2156" y="1656"/>
                  </a:lnTo>
                  <a:lnTo>
                    <a:pt x="2181" y="1656"/>
                  </a:lnTo>
                  <a:lnTo>
                    <a:pt x="2206" y="1656"/>
                  </a:lnTo>
                  <a:lnTo>
                    <a:pt x="2235" y="1656"/>
                  </a:lnTo>
                  <a:close/>
                  <a:moveTo>
                    <a:pt x="1029" y="534"/>
                  </a:moveTo>
                  <a:lnTo>
                    <a:pt x="1034" y="524"/>
                  </a:lnTo>
                  <a:lnTo>
                    <a:pt x="1034" y="519"/>
                  </a:lnTo>
                  <a:lnTo>
                    <a:pt x="1034" y="519"/>
                  </a:lnTo>
                  <a:lnTo>
                    <a:pt x="1039" y="519"/>
                  </a:lnTo>
                  <a:lnTo>
                    <a:pt x="1039" y="524"/>
                  </a:lnTo>
                  <a:lnTo>
                    <a:pt x="1039" y="529"/>
                  </a:lnTo>
                  <a:lnTo>
                    <a:pt x="1039" y="534"/>
                  </a:lnTo>
                  <a:lnTo>
                    <a:pt x="1039" y="539"/>
                  </a:lnTo>
                  <a:lnTo>
                    <a:pt x="1039" y="544"/>
                  </a:lnTo>
                  <a:lnTo>
                    <a:pt x="1039" y="549"/>
                  </a:lnTo>
                  <a:lnTo>
                    <a:pt x="1034" y="549"/>
                  </a:lnTo>
                  <a:lnTo>
                    <a:pt x="1034" y="549"/>
                  </a:lnTo>
                  <a:lnTo>
                    <a:pt x="1034" y="539"/>
                  </a:lnTo>
                  <a:lnTo>
                    <a:pt x="1029" y="534"/>
                  </a:lnTo>
                  <a:close/>
                  <a:moveTo>
                    <a:pt x="1118" y="534"/>
                  </a:moveTo>
                  <a:lnTo>
                    <a:pt x="1118" y="529"/>
                  </a:lnTo>
                  <a:lnTo>
                    <a:pt x="1118" y="524"/>
                  </a:lnTo>
                  <a:lnTo>
                    <a:pt x="1118" y="524"/>
                  </a:lnTo>
                  <a:lnTo>
                    <a:pt x="1118" y="519"/>
                  </a:lnTo>
                  <a:lnTo>
                    <a:pt x="1118" y="519"/>
                  </a:lnTo>
                  <a:lnTo>
                    <a:pt x="1118" y="524"/>
                  </a:lnTo>
                  <a:lnTo>
                    <a:pt x="1118" y="524"/>
                  </a:lnTo>
                  <a:lnTo>
                    <a:pt x="1118" y="524"/>
                  </a:lnTo>
                  <a:lnTo>
                    <a:pt x="1118" y="529"/>
                  </a:lnTo>
                  <a:lnTo>
                    <a:pt x="1118" y="534"/>
                  </a:lnTo>
                  <a:lnTo>
                    <a:pt x="1118" y="534"/>
                  </a:lnTo>
                  <a:lnTo>
                    <a:pt x="1118" y="539"/>
                  </a:lnTo>
                  <a:lnTo>
                    <a:pt x="1118" y="539"/>
                  </a:lnTo>
                  <a:lnTo>
                    <a:pt x="1118" y="534"/>
                  </a:lnTo>
                  <a:close/>
                  <a:moveTo>
                    <a:pt x="1053" y="455"/>
                  </a:moveTo>
                  <a:lnTo>
                    <a:pt x="1058" y="445"/>
                  </a:lnTo>
                  <a:lnTo>
                    <a:pt x="1058" y="440"/>
                  </a:lnTo>
                  <a:lnTo>
                    <a:pt x="1063" y="440"/>
                  </a:lnTo>
                  <a:lnTo>
                    <a:pt x="1068" y="440"/>
                  </a:lnTo>
                  <a:lnTo>
                    <a:pt x="1068" y="445"/>
                  </a:lnTo>
                  <a:lnTo>
                    <a:pt x="1073" y="450"/>
                  </a:lnTo>
                  <a:lnTo>
                    <a:pt x="1073" y="455"/>
                  </a:lnTo>
                  <a:lnTo>
                    <a:pt x="1073" y="460"/>
                  </a:lnTo>
                  <a:lnTo>
                    <a:pt x="1068" y="465"/>
                  </a:lnTo>
                  <a:lnTo>
                    <a:pt x="1063" y="470"/>
                  </a:lnTo>
                  <a:lnTo>
                    <a:pt x="1063" y="470"/>
                  </a:lnTo>
                  <a:lnTo>
                    <a:pt x="1058" y="465"/>
                  </a:lnTo>
                  <a:lnTo>
                    <a:pt x="1058" y="460"/>
                  </a:lnTo>
                  <a:lnTo>
                    <a:pt x="1053" y="455"/>
                  </a:lnTo>
                  <a:close/>
                  <a:moveTo>
                    <a:pt x="1138" y="455"/>
                  </a:moveTo>
                  <a:lnTo>
                    <a:pt x="1143" y="450"/>
                  </a:lnTo>
                  <a:lnTo>
                    <a:pt x="1147" y="450"/>
                  </a:lnTo>
                  <a:lnTo>
                    <a:pt x="1152" y="455"/>
                  </a:lnTo>
                  <a:lnTo>
                    <a:pt x="1152" y="460"/>
                  </a:lnTo>
                  <a:lnTo>
                    <a:pt x="1152" y="465"/>
                  </a:lnTo>
                  <a:lnTo>
                    <a:pt x="1152" y="470"/>
                  </a:lnTo>
                  <a:lnTo>
                    <a:pt x="1147" y="475"/>
                  </a:lnTo>
                  <a:lnTo>
                    <a:pt x="1143" y="475"/>
                  </a:lnTo>
                  <a:lnTo>
                    <a:pt x="1143" y="475"/>
                  </a:lnTo>
                  <a:lnTo>
                    <a:pt x="1143" y="475"/>
                  </a:lnTo>
                  <a:lnTo>
                    <a:pt x="1143" y="470"/>
                  </a:lnTo>
                  <a:lnTo>
                    <a:pt x="1138" y="465"/>
                  </a:lnTo>
                  <a:lnTo>
                    <a:pt x="1138" y="460"/>
                  </a:lnTo>
                  <a:lnTo>
                    <a:pt x="1138" y="455"/>
                  </a:lnTo>
                  <a:close/>
                  <a:moveTo>
                    <a:pt x="1088" y="401"/>
                  </a:moveTo>
                  <a:lnTo>
                    <a:pt x="1083" y="396"/>
                  </a:lnTo>
                  <a:lnTo>
                    <a:pt x="1078" y="391"/>
                  </a:lnTo>
                  <a:lnTo>
                    <a:pt x="1068" y="386"/>
                  </a:lnTo>
                  <a:lnTo>
                    <a:pt x="1063" y="386"/>
                  </a:lnTo>
                  <a:lnTo>
                    <a:pt x="1058" y="381"/>
                  </a:lnTo>
                  <a:lnTo>
                    <a:pt x="1058" y="376"/>
                  </a:lnTo>
                  <a:lnTo>
                    <a:pt x="1053" y="366"/>
                  </a:lnTo>
                  <a:lnTo>
                    <a:pt x="1053" y="361"/>
                  </a:lnTo>
                  <a:lnTo>
                    <a:pt x="1058" y="356"/>
                  </a:lnTo>
                  <a:lnTo>
                    <a:pt x="1063" y="351"/>
                  </a:lnTo>
                  <a:lnTo>
                    <a:pt x="1068" y="351"/>
                  </a:lnTo>
                  <a:lnTo>
                    <a:pt x="1078" y="356"/>
                  </a:lnTo>
                  <a:lnTo>
                    <a:pt x="1083" y="361"/>
                  </a:lnTo>
                  <a:lnTo>
                    <a:pt x="1093" y="361"/>
                  </a:lnTo>
                  <a:lnTo>
                    <a:pt x="1098" y="366"/>
                  </a:lnTo>
                  <a:lnTo>
                    <a:pt x="1108" y="371"/>
                  </a:lnTo>
                  <a:lnTo>
                    <a:pt x="1113" y="371"/>
                  </a:lnTo>
                  <a:lnTo>
                    <a:pt x="1123" y="371"/>
                  </a:lnTo>
                  <a:lnTo>
                    <a:pt x="1128" y="366"/>
                  </a:lnTo>
                  <a:lnTo>
                    <a:pt x="1133" y="361"/>
                  </a:lnTo>
                  <a:lnTo>
                    <a:pt x="1138" y="356"/>
                  </a:lnTo>
                  <a:lnTo>
                    <a:pt x="1138" y="346"/>
                  </a:lnTo>
                  <a:lnTo>
                    <a:pt x="1138" y="341"/>
                  </a:lnTo>
                  <a:lnTo>
                    <a:pt x="1133" y="331"/>
                  </a:lnTo>
                  <a:lnTo>
                    <a:pt x="1128" y="327"/>
                  </a:lnTo>
                  <a:lnTo>
                    <a:pt x="1123" y="322"/>
                  </a:lnTo>
                  <a:lnTo>
                    <a:pt x="1118" y="322"/>
                  </a:lnTo>
                  <a:lnTo>
                    <a:pt x="1113" y="322"/>
                  </a:lnTo>
                  <a:lnTo>
                    <a:pt x="1108" y="327"/>
                  </a:lnTo>
                  <a:lnTo>
                    <a:pt x="1103" y="336"/>
                  </a:lnTo>
                  <a:lnTo>
                    <a:pt x="1098" y="336"/>
                  </a:lnTo>
                  <a:lnTo>
                    <a:pt x="1088" y="341"/>
                  </a:lnTo>
                  <a:lnTo>
                    <a:pt x="1083" y="341"/>
                  </a:lnTo>
                  <a:lnTo>
                    <a:pt x="1078" y="336"/>
                  </a:lnTo>
                  <a:lnTo>
                    <a:pt x="1073" y="331"/>
                  </a:lnTo>
                  <a:lnTo>
                    <a:pt x="1068" y="322"/>
                  </a:lnTo>
                  <a:lnTo>
                    <a:pt x="1068" y="317"/>
                  </a:lnTo>
                  <a:lnTo>
                    <a:pt x="1068" y="312"/>
                  </a:lnTo>
                  <a:lnTo>
                    <a:pt x="1068" y="307"/>
                  </a:lnTo>
                  <a:lnTo>
                    <a:pt x="1073" y="302"/>
                  </a:lnTo>
                  <a:lnTo>
                    <a:pt x="1073" y="297"/>
                  </a:lnTo>
                  <a:lnTo>
                    <a:pt x="1073" y="292"/>
                  </a:lnTo>
                  <a:lnTo>
                    <a:pt x="1073" y="282"/>
                  </a:lnTo>
                  <a:lnTo>
                    <a:pt x="1073" y="277"/>
                  </a:lnTo>
                  <a:lnTo>
                    <a:pt x="1078" y="272"/>
                  </a:lnTo>
                  <a:lnTo>
                    <a:pt x="1078" y="267"/>
                  </a:lnTo>
                  <a:lnTo>
                    <a:pt x="1088" y="267"/>
                  </a:lnTo>
                  <a:lnTo>
                    <a:pt x="1093" y="262"/>
                  </a:lnTo>
                  <a:lnTo>
                    <a:pt x="1103" y="257"/>
                  </a:lnTo>
                  <a:lnTo>
                    <a:pt x="1108" y="257"/>
                  </a:lnTo>
                  <a:lnTo>
                    <a:pt x="1113" y="252"/>
                  </a:lnTo>
                  <a:lnTo>
                    <a:pt x="1118" y="247"/>
                  </a:lnTo>
                  <a:lnTo>
                    <a:pt x="1123" y="243"/>
                  </a:lnTo>
                  <a:lnTo>
                    <a:pt x="1133" y="243"/>
                  </a:lnTo>
                  <a:lnTo>
                    <a:pt x="1138" y="238"/>
                  </a:lnTo>
                  <a:lnTo>
                    <a:pt x="1147" y="238"/>
                  </a:lnTo>
                  <a:lnTo>
                    <a:pt x="1152" y="238"/>
                  </a:lnTo>
                  <a:lnTo>
                    <a:pt x="1162" y="238"/>
                  </a:lnTo>
                  <a:lnTo>
                    <a:pt x="1172" y="238"/>
                  </a:lnTo>
                  <a:lnTo>
                    <a:pt x="1182" y="238"/>
                  </a:lnTo>
                  <a:lnTo>
                    <a:pt x="1187" y="243"/>
                  </a:lnTo>
                  <a:lnTo>
                    <a:pt x="1192" y="247"/>
                  </a:lnTo>
                  <a:lnTo>
                    <a:pt x="1202" y="247"/>
                  </a:lnTo>
                  <a:lnTo>
                    <a:pt x="1207" y="247"/>
                  </a:lnTo>
                  <a:lnTo>
                    <a:pt x="1217" y="247"/>
                  </a:lnTo>
                  <a:lnTo>
                    <a:pt x="1227" y="247"/>
                  </a:lnTo>
                  <a:lnTo>
                    <a:pt x="1236" y="243"/>
                  </a:lnTo>
                  <a:lnTo>
                    <a:pt x="1246" y="243"/>
                  </a:lnTo>
                  <a:lnTo>
                    <a:pt x="1251" y="238"/>
                  </a:lnTo>
                  <a:lnTo>
                    <a:pt x="1246" y="238"/>
                  </a:lnTo>
                  <a:lnTo>
                    <a:pt x="1241" y="233"/>
                  </a:lnTo>
                  <a:lnTo>
                    <a:pt x="1236" y="228"/>
                  </a:lnTo>
                  <a:lnTo>
                    <a:pt x="1227" y="223"/>
                  </a:lnTo>
                  <a:lnTo>
                    <a:pt x="1222" y="218"/>
                  </a:lnTo>
                  <a:lnTo>
                    <a:pt x="1222" y="213"/>
                  </a:lnTo>
                  <a:lnTo>
                    <a:pt x="1222" y="208"/>
                  </a:lnTo>
                  <a:lnTo>
                    <a:pt x="1227" y="208"/>
                  </a:lnTo>
                  <a:lnTo>
                    <a:pt x="1232" y="208"/>
                  </a:lnTo>
                  <a:lnTo>
                    <a:pt x="1236" y="218"/>
                  </a:lnTo>
                  <a:lnTo>
                    <a:pt x="1241" y="223"/>
                  </a:lnTo>
                  <a:lnTo>
                    <a:pt x="1246" y="233"/>
                  </a:lnTo>
                  <a:lnTo>
                    <a:pt x="1246" y="238"/>
                  </a:lnTo>
                  <a:lnTo>
                    <a:pt x="1246" y="238"/>
                  </a:lnTo>
                  <a:lnTo>
                    <a:pt x="1251" y="238"/>
                  </a:lnTo>
                  <a:lnTo>
                    <a:pt x="1256" y="233"/>
                  </a:lnTo>
                  <a:lnTo>
                    <a:pt x="1261" y="228"/>
                  </a:lnTo>
                  <a:lnTo>
                    <a:pt x="1271" y="223"/>
                  </a:lnTo>
                  <a:lnTo>
                    <a:pt x="1276" y="223"/>
                  </a:lnTo>
                  <a:lnTo>
                    <a:pt x="1286" y="218"/>
                  </a:lnTo>
                  <a:lnTo>
                    <a:pt x="1296" y="218"/>
                  </a:lnTo>
                  <a:lnTo>
                    <a:pt x="1301" y="218"/>
                  </a:lnTo>
                  <a:lnTo>
                    <a:pt x="1311" y="213"/>
                  </a:lnTo>
                  <a:lnTo>
                    <a:pt x="1316" y="213"/>
                  </a:lnTo>
                  <a:lnTo>
                    <a:pt x="1321" y="203"/>
                  </a:lnTo>
                  <a:lnTo>
                    <a:pt x="1326" y="198"/>
                  </a:lnTo>
                  <a:lnTo>
                    <a:pt x="1330" y="198"/>
                  </a:lnTo>
                  <a:lnTo>
                    <a:pt x="1335" y="198"/>
                  </a:lnTo>
                  <a:lnTo>
                    <a:pt x="1345" y="198"/>
                  </a:lnTo>
                  <a:lnTo>
                    <a:pt x="1355" y="198"/>
                  </a:lnTo>
                  <a:lnTo>
                    <a:pt x="1360" y="193"/>
                  </a:lnTo>
                  <a:lnTo>
                    <a:pt x="1370" y="193"/>
                  </a:lnTo>
                  <a:lnTo>
                    <a:pt x="1375" y="188"/>
                  </a:lnTo>
                  <a:lnTo>
                    <a:pt x="1380" y="178"/>
                  </a:lnTo>
                  <a:lnTo>
                    <a:pt x="1380" y="173"/>
                  </a:lnTo>
                  <a:lnTo>
                    <a:pt x="1385" y="173"/>
                  </a:lnTo>
                  <a:lnTo>
                    <a:pt x="1395" y="173"/>
                  </a:lnTo>
                  <a:lnTo>
                    <a:pt x="1405" y="173"/>
                  </a:lnTo>
                  <a:lnTo>
                    <a:pt x="1415" y="168"/>
                  </a:lnTo>
                  <a:lnTo>
                    <a:pt x="1419" y="168"/>
                  </a:lnTo>
                  <a:lnTo>
                    <a:pt x="1429" y="163"/>
                  </a:lnTo>
                  <a:lnTo>
                    <a:pt x="1434" y="163"/>
                  </a:lnTo>
                  <a:lnTo>
                    <a:pt x="1444" y="159"/>
                  </a:lnTo>
                  <a:lnTo>
                    <a:pt x="1449" y="154"/>
                  </a:lnTo>
                  <a:lnTo>
                    <a:pt x="1454" y="149"/>
                  </a:lnTo>
                  <a:lnTo>
                    <a:pt x="1459" y="149"/>
                  </a:lnTo>
                  <a:lnTo>
                    <a:pt x="1464" y="144"/>
                  </a:lnTo>
                  <a:lnTo>
                    <a:pt x="1474" y="144"/>
                  </a:lnTo>
                  <a:lnTo>
                    <a:pt x="1484" y="144"/>
                  </a:lnTo>
                  <a:lnTo>
                    <a:pt x="1494" y="139"/>
                  </a:lnTo>
                  <a:lnTo>
                    <a:pt x="1499" y="139"/>
                  </a:lnTo>
                  <a:lnTo>
                    <a:pt x="1504" y="134"/>
                  </a:lnTo>
                  <a:lnTo>
                    <a:pt x="1499" y="129"/>
                  </a:lnTo>
                  <a:lnTo>
                    <a:pt x="1489" y="124"/>
                  </a:lnTo>
                  <a:lnTo>
                    <a:pt x="1479" y="129"/>
                  </a:lnTo>
                  <a:lnTo>
                    <a:pt x="1469" y="129"/>
                  </a:lnTo>
                  <a:lnTo>
                    <a:pt x="1464" y="129"/>
                  </a:lnTo>
                  <a:lnTo>
                    <a:pt x="1459" y="129"/>
                  </a:lnTo>
                  <a:lnTo>
                    <a:pt x="1449" y="124"/>
                  </a:lnTo>
                  <a:lnTo>
                    <a:pt x="1444" y="119"/>
                  </a:lnTo>
                  <a:lnTo>
                    <a:pt x="1444" y="109"/>
                  </a:lnTo>
                  <a:lnTo>
                    <a:pt x="1444" y="104"/>
                  </a:lnTo>
                  <a:lnTo>
                    <a:pt x="1444" y="99"/>
                  </a:lnTo>
                  <a:lnTo>
                    <a:pt x="1449" y="94"/>
                  </a:lnTo>
                  <a:lnTo>
                    <a:pt x="1459" y="89"/>
                  </a:lnTo>
                  <a:lnTo>
                    <a:pt x="1464" y="89"/>
                  </a:lnTo>
                  <a:lnTo>
                    <a:pt x="1474" y="89"/>
                  </a:lnTo>
                  <a:lnTo>
                    <a:pt x="1484" y="89"/>
                  </a:lnTo>
                  <a:lnTo>
                    <a:pt x="1489" y="89"/>
                  </a:lnTo>
                  <a:lnTo>
                    <a:pt x="1499" y="94"/>
                  </a:lnTo>
                  <a:lnTo>
                    <a:pt x="1504" y="99"/>
                  </a:lnTo>
                  <a:lnTo>
                    <a:pt x="1504" y="104"/>
                  </a:lnTo>
                  <a:lnTo>
                    <a:pt x="1508" y="109"/>
                  </a:lnTo>
                  <a:lnTo>
                    <a:pt x="1508" y="114"/>
                  </a:lnTo>
                  <a:lnTo>
                    <a:pt x="1513" y="119"/>
                  </a:lnTo>
                  <a:lnTo>
                    <a:pt x="1518" y="124"/>
                  </a:lnTo>
                  <a:lnTo>
                    <a:pt x="1523" y="124"/>
                  </a:lnTo>
                  <a:lnTo>
                    <a:pt x="1533" y="124"/>
                  </a:lnTo>
                  <a:lnTo>
                    <a:pt x="1543" y="119"/>
                  </a:lnTo>
                  <a:lnTo>
                    <a:pt x="1553" y="114"/>
                  </a:lnTo>
                  <a:lnTo>
                    <a:pt x="1563" y="109"/>
                  </a:lnTo>
                  <a:lnTo>
                    <a:pt x="1563" y="109"/>
                  </a:lnTo>
                  <a:lnTo>
                    <a:pt x="1558" y="104"/>
                  </a:lnTo>
                  <a:lnTo>
                    <a:pt x="1553" y="104"/>
                  </a:lnTo>
                  <a:lnTo>
                    <a:pt x="1543" y="99"/>
                  </a:lnTo>
                  <a:lnTo>
                    <a:pt x="1533" y="94"/>
                  </a:lnTo>
                  <a:lnTo>
                    <a:pt x="1528" y="94"/>
                  </a:lnTo>
                  <a:lnTo>
                    <a:pt x="1523" y="89"/>
                  </a:lnTo>
                  <a:lnTo>
                    <a:pt x="1523" y="79"/>
                  </a:lnTo>
                  <a:lnTo>
                    <a:pt x="1523" y="74"/>
                  </a:lnTo>
                  <a:lnTo>
                    <a:pt x="1528" y="70"/>
                  </a:lnTo>
                  <a:lnTo>
                    <a:pt x="1533" y="65"/>
                  </a:lnTo>
                  <a:lnTo>
                    <a:pt x="1538" y="65"/>
                  </a:lnTo>
                  <a:lnTo>
                    <a:pt x="1548" y="60"/>
                  </a:lnTo>
                  <a:lnTo>
                    <a:pt x="1558" y="60"/>
                  </a:lnTo>
                  <a:lnTo>
                    <a:pt x="1563" y="60"/>
                  </a:lnTo>
                  <a:lnTo>
                    <a:pt x="1573" y="60"/>
                  </a:lnTo>
                  <a:lnTo>
                    <a:pt x="1578" y="65"/>
                  </a:lnTo>
                  <a:lnTo>
                    <a:pt x="1583" y="70"/>
                  </a:lnTo>
                  <a:lnTo>
                    <a:pt x="1588" y="74"/>
                  </a:lnTo>
                  <a:lnTo>
                    <a:pt x="1588" y="79"/>
                  </a:lnTo>
                  <a:lnTo>
                    <a:pt x="1593" y="89"/>
                  </a:lnTo>
                  <a:lnTo>
                    <a:pt x="1593" y="94"/>
                  </a:lnTo>
                  <a:lnTo>
                    <a:pt x="1598" y="94"/>
                  </a:lnTo>
                  <a:lnTo>
                    <a:pt x="1602" y="94"/>
                  </a:lnTo>
                  <a:lnTo>
                    <a:pt x="1607" y="89"/>
                  </a:lnTo>
                  <a:lnTo>
                    <a:pt x="1617" y="84"/>
                  </a:lnTo>
                  <a:lnTo>
                    <a:pt x="1627" y="84"/>
                  </a:lnTo>
                  <a:lnTo>
                    <a:pt x="1637" y="84"/>
                  </a:lnTo>
                  <a:lnTo>
                    <a:pt x="1642" y="84"/>
                  </a:lnTo>
                  <a:lnTo>
                    <a:pt x="1652" y="79"/>
                  </a:lnTo>
                  <a:lnTo>
                    <a:pt x="1647" y="79"/>
                  </a:lnTo>
                  <a:lnTo>
                    <a:pt x="1637" y="79"/>
                  </a:lnTo>
                  <a:lnTo>
                    <a:pt x="1627" y="79"/>
                  </a:lnTo>
                  <a:lnTo>
                    <a:pt x="1622" y="74"/>
                  </a:lnTo>
                  <a:lnTo>
                    <a:pt x="1612" y="74"/>
                  </a:lnTo>
                  <a:lnTo>
                    <a:pt x="1607" y="70"/>
                  </a:lnTo>
                  <a:lnTo>
                    <a:pt x="1602" y="65"/>
                  </a:lnTo>
                  <a:lnTo>
                    <a:pt x="1602" y="60"/>
                  </a:lnTo>
                  <a:lnTo>
                    <a:pt x="1602" y="50"/>
                  </a:lnTo>
                  <a:lnTo>
                    <a:pt x="1602" y="45"/>
                  </a:lnTo>
                  <a:lnTo>
                    <a:pt x="1607" y="40"/>
                  </a:lnTo>
                  <a:lnTo>
                    <a:pt x="1617" y="40"/>
                  </a:lnTo>
                  <a:lnTo>
                    <a:pt x="1622" y="35"/>
                  </a:lnTo>
                  <a:lnTo>
                    <a:pt x="1632" y="35"/>
                  </a:lnTo>
                  <a:lnTo>
                    <a:pt x="1637" y="30"/>
                  </a:lnTo>
                  <a:lnTo>
                    <a:pt x="1647" y="30"/>
                  </a:lnTo>
                  <a:lnTo>
                    <a:pt x="1657" y="30"/>
                  </a:lnTo>
                  <a:lnTo>
                    <a:pt x="1667" y="35"/>
                  </a:lnTo>
                  <a:lnTo>
                    <a:pt x="1672" y="35"/>
                  </a:lnTo>
                  <a:lnTo>
                    <a:pt x="1677" y="40"/>
                  </a:lnTo>
                  <a:lnTo>
                    <a:pt x="1682" y="45"/>
                  </a:lnTo>
                  <a:lnTo>
                    <a:pt x="1687" y="50"/>
                  </a:lnTo>
                  <a:lnTo>
                    <a:pt x="1696" y="55"/>
                  </a:lnTo>
                  <a:lnTo>
                    <a:pt x="1701" y="55"/>
                  </a:lnTo>
                  <a:lnTo>
                    <a:pt x="1711" y="60"/>
                  </a:lnTo>
                  <a:lnTo>
                    <a:pt x="1716" y="60"/>
                  </a:lnTo>
                  <a:lnTo>
                    <a:pt x="1726" y="60"/>
                  </a:lnTo>
                  <a:lnTo>
                    <a:pt x="1736" y="60"/>
                  </a:lnTo>
                  <a:lnTo>
                    <a:pt x="1746" y="60"/>
                  </a:lnTo>
                  <a:lnTo>
                    <a:pt x="1751" y="60"/>
                  </a:lnTo>
                  <a:lnTo>
                    <a:pt x="1761" y="60"/>
                  </a:lnTo>
                  <a:lnTo>
                    <a:pt x="1771" y="60"/>
                  </a:lnTo>
                  <a:lnTo>
                    <a:pt x="1776" y="65"/>
                  </a:lnTo>
                  <a:lnTo>
                    <a:pt x="1780" y="70"/>
                  </a:lnTo>
                  <a:lnTo>
                    <a:pt x="1790" y="74"/>
                  </a:lnTo>
                  <a:lnTo>
                    <a:pt x="1790" y="74"/>
                  </a:lnTo>
                  <a:lnTo>
                    <a:pt x="1800" y="79"/>
                  </a:lnTo>
                  <a:lnTo>
                    <a:pt x="1805" y="84"/>
                  </a:lnTo>
                  <a:lnTo>
                    <a:pt x="1815" y="84"/>
                  </a:lnTo>
                  <a:lnTo>
                    <a:pt x="1820" y="89"/>
                  </a:lnTo>
                  <a:lnTo>
                    <a:pt x="1830" y="89"/>
                  </a:lnTo>
                  <a:lnTo>
                    <a:pt x="1840" y="89"/>
                  </a:lnTo>
                  <a:lnTo>
                    <a:pt x="1845" y="89"/>
                  </a:lnTo>
                  <a:lnTo>
                    <a:pt x="1855" y="89"/>
                  </a:lnTo>
                  <a:lnTo>
                    <a:pt x="1865" y="89"/>
                  </a:lnTo>
                  <a:lnTo>
                    <a:pt x="1870" y="89"/>
                  </a:lnTo>
                  <a:lnTo>
                    <a:pt x="1879" y="94"/>
                  </a:lnTo>
                  <a:lnTo>
                    <a:pt x="1889" y="94"/>
                  </a:lnTo>
                  <a:lnTo>
                    <a:pt x="1894" y="99"/>
                  </a:lnTo>
                  <a:lnTo>
                    <a:pt x="1899" y="104"/>
                  </a:lnTo>
                  <a:lnTo>
                    <a:pt x="1904" y="109"/>
                  </a:lnTo>
                  <a:lnTo>
                    <a:pt x="1909" y="114"/>
                  </a:lnTo>
                  <a:lnTo>
                    <a:pt x="1914" y="119"/>
                  </a:lnTo>
                  <a:lnTo>
                    <a:pt x="1919" y="119"/>
                  </a:lnTo>
                  <a:lnTo>
                    <a:pt x="1929" y="119"/>
                  </a:lnTo>
                  <a:lnTo>
                    <a:pt x="1939" y="119"/>
                  </a:lnTo>
                  <a:lnTo>
                    <a:pt x="1949" y="119"/>
                  </a:lnTo>
                  <a:lnTo>
                    <a:pt x="1954" y="124"/>
                  </a:lnTo>
                  <a:lnTo>
                    <a:pt x="1963" y="124"/>
                  </a:lnTo>
                  <a:lnTo>
                    <a:pt x="1973" y="124"/>
                  </a:lnTo>
                  <a:lnTo>
                    <a:pt x="1983" y="124"/>
                  </a:lnTo>
                  <a:lnTo>
                    <a:pt x="1988" y="124"/>
                  </a:lnTo>
                  <a:lnTo>
                    <a:pt x="1998" y="124"/>
                  </a:lnTo>
                  <a:lnTo>
                    <a:pt x="2003" y="129"/>
                  </a:lnTo>
                  <a:lnTo>
                    <a:pt x="2003" y="134"/>
                  </a:lnTo>
                  <a:lnTo>
                    <a:pt x="2008" y="144"/>
                  </a:lnTo>
                  <a:lnTo>
                    <a:pt x="2013" y="149"/>
                  </a:lnTo>
                  <a:lnTo>
                    <a:pt x="2013" y="154"/>
                  </a:lnTo>
                  <a:lnTo>
                    <a:pt x="2023" y="154"/>
                  </a:lnTo>
                  <a:lnTo>
                    <a:pt x="2028" y="159"/>
                  </a:lnTo>
                  <a:lnTo>
                    <a:pt x="2038" y="159"/>
                  </a:lnTo>
                  <a:lnTo>
                    <a:pt x="2048" y="159"/>
                  </a:lnTo>
                  <a:lnTo>
                    <a:pt x="2048" y="163"/>
                  </a:lnTo>
                  <a:lnTo>
                    <a:pt x="2052" y="168"/>
                  </a:lnTo>
                  <a:lnTo>
                    <a:pt x="2048" y="173"/>
                  </a:lnTo>
                  <a:lnTo>
                    <a:pt x="2048" y="183"/>
                  </a:lnTo>
                  <a:lnTo>
                    <a:pt x="2048" y="188"/>
                  </a:lnTo>
                  <a:lnTo>
                    <a:pt x="2048" y="193"/>
                  </a:lnTo>
                  <a:lnTo>
                    <a:pt x="2048" y="198"/>
                  </a:lnTo>
                  <a:lnTo>
                    <a:pt x="2048" y="203"/>
                  </a:lnTo>
                  <a:lnTo>
                    <a:pt x="2048" y="208"/>
                  </a:lnTo>
                  <a:lnTo>
                    <a:pt x="2048" y="213"/>
                  </a:lnTo>
                  <a:lnTo>
                    <a:pt x="2048" y="218"/>
                  </a:lnTo>
                  <a:lnTo>
                    <a:pt x="2048" y="228"/>
                  </a:lnTo>
                  <a:lnTo>
                    <a:pt x="2048" y="233"/>
                  </a:lnTo>
                  <a:lnTo>
                    <a:pt x="2048" y="238"/>
                  </a:lnTo>
                  <a:lnTo>
                    <a:pt x="2048" y="243"/>
                  </a:lnTo>
                  <a:lnTo>
                    <a:pt x="2048" y="247"/>
                  </a:lnTo>
                  <a:lnTo>
                    <a:pt x="2048" y="252"/>
                  </a:lnTo>
                  <a:lnTo>
                    <a:pt x="2048" y="257"/>
                  </a:lnTo>
                  <a:lnTo>
                    <a:pt x="2048" y="262"/>
                  </a:lnTo>
                  <a:lnTo>
                    <a:pt x="2048" y="267"/>
                  </a:lnTo>
                  <a:lnTo>
                    <a:pt x="2043" y="272"/>
                  </a:lnTo>
                  <a:lnTo>
                    <a:pt x="2038" y="277"/>
                  </a:lnTo>
                  <a:lnTo>
                    <a:pt x="2033" y="282"/>
                  </a:lnTo>
                  <a:lnTo>
                    <a:pt x="2028" y="287"/>
                  </a:lnTo>
                  <a:lnTo>
                    <a:pt x="2023" y="292"/>
                  </a:lnTo>
                  <a:lnTo>
                    <a:pt x="2018" y="297"/>
                  </a:lnTo>
                  <a:lnTo>
                    <a:pt x="2008" y="297"/>
                  </a:lnTo>
                  <a:lnTo>
                    <a:pt x="2003" y="302"/>
                  </a:lnTo>
                  <a:lnTo>
                    <a:pt x="1993" y="307"/>
                  </a:lnTo>
                  <a:lnTo>
                    <a:pt x="1988" y="307"/>
                  </a:lnTo>
                  <a:lnTo>
                    <a:pt x="1978" y="307"/>
                  </a:lnTo>
                  <a:lnTo>
                    <a:pt x="1973" y="312"/>
                  </a:lnTo>
                  <a:lnTo>
                    <a:pt x="1963" y="312"/>
                  </a:lnTo>
                  <a:lnTo>
                    <a:pt x="1954" y="312"/>
                  </a:lnTo>
                  <a:lnTo>
                    <a:pt x="1944" y="312"/>
                  </a:lnTo>
                  <a:lnTo>
                    <a:pt x="1939" y="312"/>
                  </a:lnTo>
                  <a:lnTo>
                    <a:pt x="1929" y="312"/>
                  </a:lnTo>
                  <a:lnTo>
                    <a:pt x="1919" y="312"/>
                  </a:lnTo>
                  <a:lnTo>
                    <a:pt x="1914" y="312"/>
                  </a:lnTo>
                  <a:lnTo>
                    <a:pt x="1904" y="312"/>
                  </a:lnTo>
                  <a:lnTo>
                    <a:pt x="1894" y="312"/>
                  </a:lnTo>
                  <a:lnTo>
                    <a:pt x="1884" y="312"/>
                  </a:lnTo>
                  <a:lnTo>
                    <a:pt x="1879" y="312"/>
                  </a:lnTo>
                  <a:lnTo>
                    <a:pt x="1870" y="312"/>
                  </a:lnTo>
                  <a:lnTo>
                    <a:pt x="1860" y="312"/>
                  </a:lnTo>
                  <a:lnTo>
                    <a:pt x="1855" y="312"/>
                  </a:lnTo>
                  <a:lnTo>
                    <a:pt x="1845" y="312"/>
                  </a:lnTo>
                  <a:lnTo>
                    <a:pt x="1835" y="312"/>
                  </a:lnTo>
                  <a:lnTo>
                    <a:pt x="1830" y="312"/>
                  </a:lnTo>
                  <a:lnTo>
                    <a:pt x="1820" y="312"/>
                  </a:lnTo>
                  <a:lnTo>
                    <a:pt x="1810" y="312"/>
                  </a:lnTo>
                  <a:lnTo>
                    <a:pt x="1800" y="312"/>
                  </a:lnTo>
                  <a:lnTo>
                    <a:pt x="1795" y="317"/>
                  </a:lnTo>
                  <a:lnTo>
                    <a:pt x="1785" y="317"/>
                  </a:lnTo>
                  <a:lnTo>
                    <a:pt x="1776" y="317"/>
                  </a:lnTo>
                  <a:lnTo>
                    <a:pt x="1771" y="317"/>
                  </a:lnTo>
                  <a:lnTo>
                    <a:pt x="1761" y="317"/>
                  </a:lnTo>
                  <a:lnTo>
                    <a:pt x="1751" y="317"/>
                  </a:lnTo>
                  <a:lnTo>
                    <a:pt x="1746" y="312"/>
                  </a:lnTo>
                  <a:lnTo>
                    <a:pt x="1736" y="312"/>
                  </a:lnTo>
                  <a:lnTo>
                    <a:pt x="1726" y="312"/>
                  </a:lnTo>
                  <a:lnTo>
                    <a:pt x="1716" y="312"/>
                  </a:lnTo>
                  <a:lnTo>
                    <a:pt x="1711" y="317"/>
                  </a:lnTo>
                  <a:lnTo>
                    <a:pt x="1701" y="317"/>
                  </a:lnTo>
                  <a:lnTo>
                    <a:pt x="1696" y="312"/>
                  </a:lnTo>
                  <a:lnTo>
                    <a:pt x="1687" y="312"/>
                  </a:lnTo>
                  <a:lnTo>
                    <a:pt x="1682" y="307"/>
                  </a:lnTo>
                  <a:lnTo>
                    <a:pt x="1672" y="302"/>
                  </a:lnTo>
                  <a:lnTo>
                    <a:pt x="1667" y="302"/>
                  </a:lnTo>
                  <a:lnTo>
                    <a:pt x="1657" y="302"/>
                  </a:lnTo>
                  <a:lnTo>
                    <a:pt x="1647" y="302"/>
                  </a:lnTo>
                  <a:lnTo>
                    <a:pt x="1642" y="297"/>
                  </a:lnTo>
                  <a:lnTo>
                    <a:pt x="1637" y="292"/>
                  </a:lnTo>
                  <a:lnTo>
                    <a:pt x="1632" y="287"/>
                  </a:lnTo>
                  <a:lnTo>
                    <a:pt x="1622" y="287"/>
                  </a:lnTo>
                  <a:lnTo>
                    <a:pt x="1617" y="282"/>
                  </a:lnTo>
                  <a:lnTo>
                    <a:pt x="1607" y="282"/>
                  </a:lnTo>
                  <a:lnTo>
                    <a:pt x="1602" y="282"/>
                  </a:lnTo>
                  <a:lnTo>
                    <a:pt x="1593" y="282"/>
                  </a:lnTo>
                  <a:lnTo>
                    <a:pt x="1583" y="282"/>
                  </a:lnTo>
                  <a:lnTo>
                    <a:pt x="1573" y="282"/>
                  </a:lnTo>
                  <a:lnTo>
                    <a:pt x="1568" y="287"/>
                  </a:lnTo>
                  <a:lnTo>
                    <a:pt x="1558" y="287"/>
                  </a:lnTo>
                  <a:lnTo>
                    <a:pt x="1553" y="292"/>
                  </a:lnTo>
                  <a:lnTo>
                    <a:pt x="1548" y="297"/>
                  </a:lnTo>
                  <a:lnTo>
                    <a:pt x="1543" y="302"/>
                  </a:lnTo>
                  <a:lnTo>
                    <a:pt x="1533" y="302"/>
                  </a:lnTo>
                  <a:lnTo>
                    <a:pt x="1523" y="302"/>
                  </a:lnTo>
                  <a:lnTo>
                    <a:pt x="1518" y="307"/>
                  </a:lnTo>
                  <a:lnTo>
                    <a:pt x="1508" y="302"/>
                  </a:lnTo>
                  <a:lnTo>
                    <a:pt x="1499" y="302"/>
                  </a:lnTo>
                  <a:lnTo>
                    <a:pt x="1489" y="307"/>
                  </a:lnTo>
                  <a:lnTo>
                    <a:pt x="1484" y="307"/>
                  </a:lnTo>
                  <a:lnTo>
                    <a:pt x="1479" y="312"/>
                  </a:lnTo>
                  <a:lnTo>
                    <a:pt x="1474" y="317"/>
                  </a:lnTo>
                  <a:lnTo>
                    <a:pt x="1469" y="322"/>
                  </a:lnTo>
                  <a:lnTo>
                    <a:pt x="1459" y="322"/>
                  </a:lnTo>
                  <a:lnTo>
                    <a:pt x="1449" y="322"/>
                  </a:lnTo>
                  <a:lnTo>
                    <a:pt x="1444" y="322"/>
                  </a:lnTo>
                  <a:lnTo>
                    <a:pt x="1434" y="322"/>
                  </a:lnTo>
                  <a:lnTo>
                    <a:pt x="1424" y="317"/>
                  </a:lnTo>
                  <a:lnTo>
                    <a:pt x="1419" y="317"/>
                  </a:lnTo>
                  <a:lnTo>
                    <a:pt x="1410" y="317"/>
                  </a:lnTo>
                  <a:lnTo>
                    <a:pt x="1400" y="317"/>
                  </a:lnTo>
                  <a:lnTo>
                    <a:pt x="1390" y="312"/>
                  </a:lnTo>
                  <a:lnTo>
                    <a:pt x="1385" y="312"/>
                  </a:lnTo>
                  <a:lnTo>
                    <a:pt x="1375" y="317"/>
                  </a:lnTo>
                  <a:lnTo>
                    <a:pt x="1370" y="322"/>
                  </a:lnTo>
                  <a:lnTo>
                    <a:pt x="1365" y="327"/>
                  </a:lnTo>
                  <a:lnTo>
                    <a:pt x="1360" y="327"/>
                  </a:lnTo>
                  <a:lnTo>
                    <a:pt x="1350" y="331"/>
                  </a:lnTo>
                  <a:lnTo>
                    <a:pt x="1345" y="336"/>
                  </a:lnTo>
                  <a:lnTo>
                    <a:pt x="1335" y="336"/>
                  </a:lnTo>
                  <a:lnTo>
                    <a:pt x="1326" y="336"/>
                  </a:lnTo>
                  <a:lnTo>
                    <a:pt x="1321" y="336"/>
                  </a:lnTo>
                  <a:lnTo>
                    <a:pt x="1311" y="336"/>
                  </a:lnTo>
                  <a:lnTo>
                    <a:pt x="1301" y="341"/>
                  </a:lnTo>
                  <a:lnTo>
                    <a:pt x="1296" y="346"/>
                  </a:lnTo>
                  <a:lnTo>
                    <a:pt x="1291" y="346"/>
                  </a:lnTo>
                  <a:lnTo>
                    <a:pt x="1286" y="351"/>
                  </a:lnTo>
                  <a:lnTo>
                    <a:pt x="1276" y="351"/>
                  </a:lnTo>
                  <a:lnTo>
                    <a:pt x="1266" y="356"/>
                  </a:lnTo>
                  <a:lnTo>
                    <a:pt x="1256" y="356"/>
                  </a:lnTo>
                  <a:lnTo>
                    <a:pt x="1251" y="356"/>
                  </a:lnTo>
                  <a:lnTo>
                    <a:pt x="1246" y="351"/>
                  </a:lnTo>
                  <a:lnTo>
                    <a:pt x="1236" y="346"/>
                  </a:lnTo>
                  <a:lnTo>
                    <a:pt x="1232" y="341"/>
                  </a:lnTo>
                  <a:lnTo>
                    <a:pt x="1222" y="341"/>
                  </a:lnTo>
                  <a:lnTo>
                    <a:pt x="1217" y="346"/>
                  </a:lnTo>
                  <a:lnTo>
                    <a:pt x="1212" y="351"/>
                  </a:lnTo>
                  <a:lnTo>
                    <a:pt x="1207" y="361"/>
                  </a:lnTo>
                  <a:lnTo>
                    <a:pt x="1202" y="366"/>
                  </a:lnTo>
                  <a:lnTo>
                    <a:pt x="1197" y="366"/>
                  </a:lnTo>
                  <a:lnTo>
                    <a:pt x="1192" y="366"/>
                  </a:lnTo>
                  <a:lnTo>
                    <a:pt x="1187" y="361"/>
                  </a:lnTo>
                  <a:lnTo>
                    <a:pt x="1187" y="356"/>
                  </a:lnTo>
                  <a:lnTo>
                    <a:pt x="1182" y="351"/>
                  </a:lnTo>
                  <a:lnTo>
                    <a:pt x="1182" y="341"/>
                  </a:lnTo>
                  <a:lnTo>
                    <a:pt x="1187" y="336"/>
                  </a:lnTo>
                  <a:lnTo>
                    <a:pt x="1187" y="331"/>
                  </a:lnTo>
                  <a:lnTo>
                    <a:pt x="1187" y="327"/>
                  </a:lnTo>
                  <a:lnTo>
                    <a:pt x="1187" y="322"/>
                  </a:lnTo>
                  <a:lnTo>
                    <a:pt x="1182" y="317"/>
                  </a:lnTo>
                  <a:lnTo>
                    <a:pt x="1172" y="312"/>
                  </a:lnTo>
                  <a:lnTo>
                    <a:pt x="1167" y="317"/>
                  </a:lnTo>
                  <a:lnTo>
                    <a:pt x="1162" y="317"/>
                  </a:lnTo>
                  <a:lnTo>
                    <a:pt x="1157" y="327"/>
                  </a:lnTo>
                  <a:lnTo>
                    <a:pt x="1152" y="331"/>
                  </a:lnTo>
                  <a:lnTo>
                    <a:pt x="1152" y="336"/>
                  </a:lnTo>
                  <a:lnTo>
                    <a:pt x="1147" y="341"/>
                  </a:lnTo>
                  <a:lnTo>
                    <a:pt x="1147" y="346"/>
                  </a:lnTo>
                  <a:lnTo>
                    <a:pt x="1143" y="351"/>
                  </a:lnTo>
                  <a:lnTo>
                    <a:pt x="1138" y="356"/>
                  </a:lnTo>
                  <a:lnTo>
                    <a:pt x="1133" y="356"/>
                  </a:lnTo>
                  <a:lnTo>
                    <a:pt x="1128" y="361"/>
                  </a:lnTo>
                  <a:lnTo>
                    <a:pt x="1123" y="366"/>
                  </a:lnTo>
                  <a:lnTo>
                    <a:pt x="1118" y="371"/>
                  </a:lnTo>
                  <a:lnTo>
                    <a:pt x="1118" y="376"/>
                  </a:lnTo>
                  <a:lnTo>
                    <a:pt x="1113" y="381"/>
                  </a:lnTo>
                  <a:lnTo>
                    <a:pt x="1108" y="386"/>
                  </a:lnTo>
                  <a:lnTo>
                    <a:pt x="1103" y="391"/>
                  </a:lnTo>
                  <a:lnTo>
                    <a:pt x="1098" y="396"/>
                  </a:lnTo>
                  <a:lnTo>
                    <a:pt x="1093" y="401"/>
                  </a:lnTo>
                  <a:lnTo>
                    <a:pt x="1088" y="401"/>
                  </a:lnTo>
                  <a:close/>
                  <a:moveTo>
                    <a:pt x="1162" y="401"/>
                  </a:moveTo>
                  <a:lnTo>
                    <a:pt x="1162" y="391"/>
                  </a:lnTo>
                  <a:lnTo>
                    <a:pt x="1167" y="386"/>
                  </a:lnTo>
                  <a:lnTo>
                    <a:pt x="1172" y="386"/>
                  </a:lnTo>
                  <a:lnTo>
                    <a:pt x="1172" y="386"/>
                  </a:lnTo>
                  <a:lnTo>
                    <a:pt x="1177" y="396"/>
                  </a:lnTo>
                  <a:lnTo>
                    <a:pt x="1182" y="401"/>
                  </a:lnTo>
                  <a:lnTo>
                    <a:pt x="1182" y="406"/>
                  </a:lnTo>
                  <a:lnTo>
                    <a:pt x="1177" y="416"/>
                  </a:lnTo>
                  <a:lnTo>
                    <a:pt x="1172" y="420"/>
                  </a:lnTo>
                  <a:lnTo>
                    <a:pt x="1172" y="420"/>
                  </a:lnTo>
                  <a:lnTo>
                    <a:pt x="1167" y="420"/>
                  </a:lnTo>
                  <a:lnTo>
                    <a:pt x="1167" y="416"/>
                  </a:lnTo>
                  <a:lnTo>
                    <a:pt x="1162" y="411"/>
                  </a:lnTo>
                  <a:lnTo>
                    <a:pt x="1162" y="401"/>
                  </a:lnTo>
                  <a:close/>
                  <a:moveTo>
                    <a:pt x="1222" y="292"/>
                  </a:moveTo>
                  <a:lnTo>
                    <a:pt x="1222" y="292"/>
                  </a:lnTo>
                  <a:lnTo>
                    <a:pt x="1222" y="292"/>
                  </a:lnTo>
                  <a:lnTo>
                    <a:pt x="1222" y="292"/>
                  </a:lnTo>
                  <a:lnTo>
                    <a:pt x="1222" y="292"/>
                  </a:lnTo>
                  <a:lnTo>
                    <a:pt x="1222" y="292"/>
                  </a:lnTo>
                  <a:lnTo>
                    <a:pt x="1222" y="292"/>
                  </a:lnTo>
                  <a:lnTo>
                    <a:pt x="1222" y="292"/>
                  </a:lnTo>
                  <a:lnTo>
                    <a:pt x="1222" y="292"/>
                  </a:lnTo>
                  <a:lnTo>
                    <a:pt x="1222" y="292"/>
                  </a:lnTo>
                  <a:lnTo>
                    <a:pt x="1222" y="292"/>
                  </a:lnTo>
                  <a:lnTo>
                    <a:pt x="1222" y="292"/>
                  </a:lnTo>
                  <a:lnTo>
                    <a:pt x="1222" y="292"/>
                  </a:lnTo>
                  <a:lnTo>
                    <a:pt x="1222" y="292"/>
                  </a:lnTo>
                  <a:lnTo>
                    <a:pt x="1222" y="292"/>
                  </a:lnTo>
                  <a:close/>
                  <a:moveTo>
                    <a:pt x="1444" y="292"/>
                  </a:moveTo>
                  <a:lnTo>
                    <a:pt x="1439" y="292"/>
                  </a:lnTo>
                  <a:lnTo>
                    <a:pt x="1434" y="292"/>
                  </a:lnTo>
                  <a:lnTo>
                    <a:pt x="1429" y="297"/>
                  </a:lnTo>
                  <a:lnTo>
                    <a:pt x="1429" y="302"/>
                  </a:lnTo>
                  <a:lnTo>
                    <a:pt x="1429" y="312"/>
                  </a:lnTo>
                  <a:lnTo>
                    <a:pt x="1434" y="317"/>
                  </a:lnTo>
                  <a:lnTo>
                    <a:pt x="1434" y="317"/>
                  </a:lnTo>
                  <a:lnTo>
                    <a:pt x="1434" y="322"/>
                  </a:lnTo>
                  <a:lnTo>
                    <a:pt x="1439" y="322"/>
                  </a:lnTo>
                  <a:lnTo>
                    <a:pt x="1439" y="317"/>
                  </a:lnTo>
                  <a:lnTo>
                    <a:pt x="1439" y="312"/>
                  </a:lnTo>
                  <a:lnTo>
                    <a:pt x="1439" y="307"/>
                  </a:lnTo>
                  <a:lnTo>
                    <a:pt x="1444" y="302"/>
                  </a:lnTo>
                  <a:lnTo>
                    <a:pt x="1444" y="292"/>
                  </a:lnTo>
                  <a:close/>
                  <a:moveTo>
                    <a:pt x="1182" y="267"/>
                  </a:moveTo>
                  <a:lnTo>
                    <a:pt x="1182" y="257"/>
                  </a:lnTo>
                  <a:lnTo>
                    <a:pt x="1182" y="252"/>
                  </a:lnTo>
                  <a:lnTo>
                    <a:pt x="1177" y="247"/>
                  </a:lnTo>
                  <a:lnTo>
                    <a:pt x="1172" y="247"/>
                  </a:lnTo>
                  <a:lnTo>
                    <a:pt x="1167" y="247"/>
                  </a:lnTo>
                  <a:lnTo>
                    <a:pt x="1157" y="247"/>
                  </a:lnTo>
                  <a:lnTo>
                    <a:pt x="1152" y="247"/>
                  </a:lnTo>
                  <a:lnTo>
                    <a:pt x="1147" y="252"/>
                  </a:lnTo>
                  <a:lnTo>
                    <a:pt x="1143" y="257"/>
                  </a:lnTo>
                  <a:lnTo>
                    <a:pt x="1143" y="262"/>
                  </a:lnTo>
                  <a:lnTo>
                    <a:pt x="1143" y="267"/>
                  </a:lnTo>
                  <a:lnTo>
                    <a:pt x="1143" y="272"/>
                  </a:lnTo>
                  <a:lnTo>
                    <a:pt x="1143" y="282"/>
                  </a:lnTo>
                  <a:lnTo>
                    <a:pt x="1143" y="282"/>
                  </a:lnTo>
                  <a:lnTo>
                    <a:pt x="1147" y="282"/>
                  </a:lnTo>
                  <a:lnTo>
                    <a:pt x="1157" y="282"/>
                  </a:lnTo>
                  <a:lnTo>
                    <a:pt x="1167" y="277"/>
                  </a:lnTo>
                  <a:lnTo>
                    <a:pt x="1172" y="272"/>
                  </a:lnTo>
                  <a:lnTo>
                    <a:pt x="1177" y="267"/>
                  </a:lnTo>
                  <a:lnTo>
                    <a:pt x="1182" y="267"/>
                  </a:lnTo>
                  <a:close/>
                  <a:moveTo>
                    <a:pt x="2003" y="267"/>
                  </a:moveTo>
                  <a:lnTo>
                    <a:pt x="1998" y="262"/>
                  </a:lnTo>
                  <a:lnTo>
                    <a:pt x="1998" y="262"/>
                  </a:lnTo>
                  <a:lnTo>
                    <a:pt x="1993" y="262"/>
                  </a:lnTo>
                  <a:lnTo>
                    <a:pt x="1988" y="262"/>
                  </a:lnTo>
                  <a:lnTo>
                    <a:pt x="1988" y="267"/>
                  </a:lnTo>
                  <a:lnTo>
                    <a:pt x="1988" y="272"/>
                  </a:lnTo>
                  <a:lnTo>
                    <a:pt x="1988" y="277"/>
                  </a:lnTo>
                  <a:lnTo>
                    <a:pt x="1993" y="277"/>
                  </a:lnTo>
                  <a:lnTo>
                    <a:pt x="1993" y="282"/>
                  </a:lnTo>
                  <a:lnTo>
                    <a:pt x="1998" y="282"/>
                  </a:lnTo>
                  <a:lnTo>
                    <a:pt x="1998" y="277"/>
                  </a:lnTo>
                  <a:lnTo>
                    <a:pt x="1998" y="277"/>
                  </a:lnTo>
                  <a:lnTo>
                    <a:pt x="2003" y="272"/>
                  </a:lnTo>
                  <a:lnTo>
                    <a:pt x="2003" y="267"/>
                  </a:lnTo>
                  <a:close/>
                  <a:moveTo>
                    <a:pt x="1944" y="238"/>
                  </a:moveTo>
                  <a:lnTo>
                    <a:pt x="1944" y="238"/>
                  </a:lnTo>
                  <a:lnTo>
                    <a:pt x="1944" y="238"/>
                  </a:lnTo>
                  <a:lnTo>
                    <a:pt x="1944" y="238"/>
                  </a:lnTo>
                  <a:lnTo>
                    <a:pt x="1939" y="238"/>
                  </a:lnTo>
                  <a:lnTo>
                    <a:pt x="1939" y="238"/>
                  </a:lnTo>
                  <a:lnTo>
                    <a:pt x="1939" y="243"/>
                  </a:lnTo>
                  <a:lnTo>
                    <a:pt x="1939" y="243"/>
                  </a:lnTo>
                  <a:lnTo>
                    <a:pt x="1939" y="243"/>
                  </a:lnTo>
                  <a:lnTo>
                    <a:pt x="1939" y="243"/>
                  </a:lnTo>
                  <a:lnTo>
                    <a:pt x="1944" y="243"/>
                  </a:lnTo>
                  <a:lnTo>
                    <a:pt x="1944" y="243"/>
                  </a:lnTo>
                  <a:lnTo>
                    <a:pt x="1944" y="243"/>
                  </a:lnTo>
                  <a:lnTo>
                    <a:pt x="1944" y="243"/>
                  </a:lnTo>
                  <a:lnTo>
                    <a:pt x="1944" y="238"/>
                  </a:lnTo>
                  <a:close/>
                  <a:moveTo>
                    <a:pt x="2146" y="238"/>
                  </a:moveTo>
                  <a:lnTo>
                    <a:pt x="2151" y="238"/>
                  </a:lnTo>
                  <a:lnTo>
                    <a:pt x="2156" y="233"/>
                  </a:lnTo>
                  <a:lnTo>
                    <a:pt x="2161" y="228"/>
                  </a:lnTo>
                  <a:lnTo>
                    <a:pt x="2166" y="223"/>
                  </a:lnTo>
                  <a:lnTo>
                    <a:pt x="2166" y="218"/>
                  </a:lnTo>
                  <a:lnTo>
                    <a:pt x="2171" y="213"/>
                  </a:lnTo>
                  <a:lnTo>
                    <a:pt x="2176" y="203"/>
                  </a:lnTo>
                  <a:lnTo>
                    <a:pt x="2181" y="198"/>
                  </a:lnTo>
                  <a:lnTo>
                    <a:pt x="2181" y="198"/>
                  </a:lnTo>
                  <a:lnTo>
                    <a:pt x="2186" y="203"/>
                  </a:lnTo>
                  <a:lnTo>
                    <a:pt x="2191" y="213"/>
                  </a:lnTo>
                  <a:lnTo>
                    <a:pt x="2191" y="218"/>
                  </a:lnTo>
                  <a:lnTo>
                    <a:pt x="2191" y="223"/>
                  </a:lnTo>
                  <a:lnTo>
                    <a:pt x="2186" y="228"/>
                  </a:lnTo>
                  <a:lnTo>
                    <a:pt x="2181" y="233"/>
                  </a:lnTo>
                  <a:lnTo>
                    <a:pt x="2176" y="238"/>
                  </a:lnTo>
                  <a:lnTo>
                    <a:pt x="2171" y="238"/>
                  </a:lnTo>
                  <a:lnTo>
                    <a:pt x="2166" y="247"/>
                  </a:lnTo>
                  <a:lnTo>
                    <a:pt x="2161" y="252"/>
                  </a:lnTo>
                  <a:lnTo>
                    <a:pt x="2156" y="257"/>
                  </a:lnTo>
                  <a:lnTo>
                    <a:pt x="2156" y="262"/>
                  </a:lnTo>
                  <a:lnTo>
                    <a:pt x="2151" y="262"/>
                  </a:lnTo>
                  <a:lnTo>
                    <a:pt x="2151" y="262"/>
                  </a:lnTo>
                  <a:lnTo>
                    <a:pt x="2151" y="257"/>
                  </a:lnTo>
                  <a:lnTo>
                    <a:pt x="2146" y="247"/>
                  </a:lnTo>
                  <a:lnTo>
                    <a:pt x="2146" y="238"/>
                  </a:lnTo>
                  <a:close/>
                  <a:moveTo>
                    <a:pt x="1914" y="213"/>
                  </a:moveTo>
                  <a:lnTo>
                    <a:pt x="1914" y="213"/>
                  </a:lnTo>
                  <a:lnTo>
                    <a:pt x="1909" y="208"/>
                  </a:lnTo>
                  <a:lnTo>
                    <a:pt x="1904" y="208"/>
                  </a:lnTo>
                  <a:lnTo>
                    <a:pt x="1899" y="208"/>
                  </a:lnTo>
                  <a:lnTo>
                    <a:pt x="1894" y="213"/>
                  </a:lnTo>
                  <a:lnTo>
                    <a:pt x="1894" y="213"/>
                  </a:lnTo>
                  <a:lnTo>
                    <a:pt x="1889" y="213"/>
                  </a:lnTo>
                  <a:lnTo>
                    <a:pt x="1894" y="213"/>
                  </a:lnTo>
                  <a:lnTo>
                    <a:pt x="1894" y="213"/>
                  </a:lnTo>
                  <a:lnTo>
                    <a:pt x="1899" y="218"/>
                  </a:lnTo>
                  <a:lnTo>
                    <a:pt x="1904" y="218"/>
                  </a:lnTo>
                  <a:lnTo>
                    <a:pt x="1909" y="218"/>
                  </a:lnTo>
                  <a:lnTo>
                    <a:pt x="1914" y="213"/>
                  </a:lnTo>
                  <a:lnTo>
                    <a:pt x="1914" y="213"/>
                  </a:lnTo>
                  <a:close/>
                  <a:moveTo>
                    <a:pt x="999" y="188"/>
                  </a:moveTo>
                  <a:lnTo>
                    <a:pt x="1004" y="183"/>
                  </a:lnTo>
                  <a:lnTo>
                    <a:pt x="1004" y="178"/>
                  </a:lnTo>
                  <a:lnTo>
                    <a:pt x="1009" y="178"/>
                  </a:lnTo>
                  <a:lnTo>
                    <a:pt x="1014" y="178"/>
                  </a:lnTo>
                  <a:lnTo>
                    <a:pt x="1014" y="178"/>
                  </a:lnTo>
                  <a:lnTo>
                    <a:pt x="1019" y="183"/>
                  </a:lnTo>
                  <a:lnTo>
                    <a:pt x="1019" y="188"/>
                  </a:lnTo>
                  <a:lnTo>
                    <a:pt x="1019" y="193"/>
                  </a:lnTo>
                  <a:lnTo>
                    <a:pt x="1014" y="193"/>
                  </a:lnTo>
                  <a:lnTo>
                    <a:pt x="1009" y="198"/>
                  </a:lnTo>
                  <a:lnTo>
                    <a:pt x="1009" y="198"/>
                  </a:lnTo>
                  <a:lnTo>
                    <a:pt x="1004" y="193"/>
                  </a:lnTo>
                  <a:lnTo>
                    <a:pt x="999" y="193"/>
                  </a:lnTo>
                  <a:lnTo>
                    <a:pt x="999" y="188"/>
                  </a:lnTo>
                  <a:close/>
                  <a:moveTo>
                    <a:pt x="1870" y="188"/>
                  </a:moveTo>
                  <a:lnTo>
                    <a:pt x="1865" y="183"/>
                  </a:lnTo>
                  <a:lnTo>
                    <a:pt x="1865" y="183"/>
                  </a:lnTo>
                  <a:lnTo>
                    <a:pt x="1855" y="178"/>
                  </a:lnTo>
                  <a:lnTo>
                    <a:pt x="1850" y="183"/>
                  </a:lnTo>
                  <a:lnTo>
                    <a:pt x="1845" y="183"/>
                  </a:lnTo>
                  <a:lnTo>
                    <a:pt x="1840" y="183"/>
                  </a:lnTo>
                  <a:lnTo>
                    <a:pt x="1840" y="188"/>
                  </a:lnTo>
                  <a:lnTo>
                    <a:pt x="1840" y="188"/>
                  </a:lnTo>
                  <a:lnTo>
                    <a:pt x="1845" y="193"/>
                  </a:lnTo>
                  <a:lnTo>
                    <a:pt x="1855" y="193"/>
                  </a:lnTo>
                  <a:lnTo>
                    <a:pt x="1860" y="193"/>
                  </a:lnTo>
                  <a:lnTo>
                    <a:pt x="1865" y="193"/>
                  </a:lnTo>
                  <a:lnTo>
                    <a:pt x="1865" y="188"/>
                  </a:lnTo>
                  <a:lnTo>
                    <a:pt x="1870" y="188"/>
                  </a:lnTo>
                  <a:close/>
                  <a:moveTo>
                    <a:pt x="1291" y="159"/>
                  </a:moveTo>
                  <a:lnTo>
                    <a:pt x="1296" y="154"/>
                  </a:lnTo>
                  <a:lnTo>
                    <a:pt x="1301" y="149"/>
                  </a:lnTo>
                  <a:lnTo>
                    <a:pt x="1306" y="154"/>
                  </a:lnTo>
                  <a:lnTo>
                    <a:pt x="1311" y="159"/>
                  </a:lnTo>
                  <a:lnTo>
                    <a:pt x="1311" y="163"/>
                  </a:lnTo>
                  <a:lnTo>
                    <a:pt x="1311" y="168"/>
                  </a:lnTo>
                  <a:lnTo>
                    <a:pt x="1311" y="173"/>
                  </a:lnTo>
                  <a:lnTo>
                    <a:pt x="1306" y="178"/>
                  </a:lnTo>
                  <a:lnTo>
                    <a:pt x="1306" y="183"/>
                  </a:lnTo>
                  <a:lnTo>
                    <a:pt x="1301" y="183"/>
                  </a:lnTo>
                  <a:lnTo>
                    <a:pt x="1296" y="183"/>
                  </a:lnTo>
                  <a:lnTo>
                    <a:pt x="1296" y="178"/>
                  </a:lnTo>
                  <a:lnTo>
                    <a:pt x="1296" y="168"/>
                  </a:lnTo>
                  <a:lnTo>
                    <a:pt x="1291" y="159"/>
                  </a:lnTo>
                  <a:close/>
                  <a:moveTo>
                    <a:pt x="1810" y="159"/>
                  </a:moveTo>
                  <a:lnTo>
                    <a:pt x="1810" y="159"/>
                  </a:lnTo>
                  <a:lnTo>
                    <a:pt x="1805" y="154"/>
                  </a:lnTo>
                  <a:lnTo>
                    <a:pt x="1800" y="154"/>
                  </a:lnTo>
                  <a:lnTo>
                    <a:pt x="1795" y="154"/>
                  </a:lnTo>
                  <a:lnTo>
                    <a:pt x="1790" y="159"/>
                  </a:lnTo>
                  <a:lnTo>
                    <a:pt x="1790" y="159"/>
                  </a:lnTo>
                  <a:lnTo>
                    <a:pt x="1790" y="163"/>
                  </a:lnTo>
                  <a:lnTo>
                    <a:pt x="1795" y="163"/>
                  </a:lnTo>
                  <a:lnTo>
                    <a:pt x="1800" y="168"/>
                  </a:lnTo>
                  <a:lnTo>
                    <a:pt x="1805" y="168"/>
                  </a:lnTo>
                  <a:lnTo>
                    <a:pt x="1810" y="168"/>
                  </a:lnTo>
                  <a:lnTo>
                    <a:pt x="1810" y="168"/>
                  </a:lnTo>
                  <a:lnTo>
                    <a:pt x="1810" y="163"/>
                  </a:lnTo>
                  <a:lnTo>
                    <a:pt x="1810" y="159"/>
                  </a:lnTo>
                  <a:close/>
                  <a:moveTo>
                    <a:pt x="1365" y="134"/>
                  </a:moveTo>
                  <a:lnTo>
                    <a:pt x="1370" y="124"/>
                  </a:lnTo>
                  <a:lnTo>
                    <a:pt x="1375" y="119"/>
                  </a:lnTo>
                  <a:lnTo>
                    <a:pt x="1380" y="119"/>
                  </a:lnTo>
                  <a:lnTo>
                    <a:pt x="1385" y="119"/>
                  </a:lnTo>
                  <a:lnTo>
                    <a:pt x="1390" y="119"/>
                  </a:lnTo>
                  <a:lnTo>
                    <a:pt x="1395" y="124"/>
                  </a:lnTo>
                  <a:lnTo>
                    <a:pt x="1400" y="124"/>
                  </a:lnTo>
                  <a:lnTo>
                    <a:pt x="1405" y="129"/>
                  </a:lnTo>
                  <a:lnTo>
                    <a:pt x="1410" y="134"/>
                  </a:lnTo>
                  <a:lnTo>
                    <a:pt x="1405" y="139"/>
                  </a:lnTo>
                  <a:lnTo>
                    <a:pt x="1400" y="144"/>
                  </a:lnTo>
                  <a:lnTo>
                    <a:pt x="1395" y="149"/>
                  </a:lnTo>
                  <a:lnTo>
                    <a:pt x="1390" y="154"/>
                  </a:lnTo>
                  <a:lnTo>
                    <a:pt x="1385" y="154"/>
                  </a:lnTo>
                  <a:lnTo>
                    <a:pt x="1380" y="159"/>
                  </a:lnTo>
                  <a:lnTo>
                    <a:pt x="1380" y="154"/>
                  </a:lnTo>
                  <a:lnTo>
                    <a:pt x="1375" y="154"/>
                  </a:lnTo>
                  <a:lnTo>
                    <a:pt x="1370" y="149"/>
                  </a:lnTo>
                  <a:lnTo>
                    <a:pt x="1370" y="139"/>
                  </a:lnTo>
                  <a:lnTo>
                    <a:pt x="1365" y="134"/>
                  </a:lnTo>
                  <a:close/>
                  <a:moveTo>
                    <a:pt x="1756" y="134"/>
                  </a:moveTo>
                  <a:lnTo>
                    <a:pt x="1756" y="129"/>
                  </a:lnTo>
                  <a:lnTo>
                    <a:pt x="1751" y="129"/>
                  </a:lnTo>
                  <a:lnTo>
                    <a:pt x="1746" y="129"/>
                  </a:lnTo>
                  <a:lnTo>
                    <a:pt x="1746" y="129"/>
                  </a:lnTo>
                  <a:lnTo>
                    <a:pt x="1741" y="134"/>
                  </a:lnTo>
                  <a:lnTo>
                    <a:pt x="1741" y="134"/>
                  </a:lnTo>
                  <a:lnTo>
                    <a:pt x="1746" y="139"/>
                  </a:lnTo>
                  <a:lnTo>
                    <a:pt x="1746" y="139"/>
                  </a:lnTo>
                  <a:lnTo>
                    <a:pt x="1751" y="139"/>
                  </a:lnTo>
                  <a:lnTo>
                    <a:pt x="1756" y="144"/>
                  </a:lnTo>
                  <a:lnTo>
                    <a:pt x="1756" y="139"/>
                  </a:lnTo>
                  <a:lnTo>
                    <a:pt x="1756" y="139"/>
                  </a:lnTo>
                  <a:lnTo>
                    <a:pt x="1756" y="139"/>
                  </a:lnTo>
                  <a:lnTo>
                    <a:pt x="1756" y="134"/>
                  </a:lnTo>
                  <a:close/>
                  <a:moveTo>
                    <a:pt x="1706" y="104"/>
                  </a:moveTo>
                  <a:lnTo>
                    <a:pt x="1701" y="104"/>
                  </a:lnTo>
                  <a:lnTo>
                    <a:pt x="1701" y="104"/>
                  </a:lnTo>
                  <a:lnTo>
                    <a:pt x="1696" y="104"/>
                  </a:lnTo>
                  <a:lnTo>
                    <a:pt x="1696" y="104"/>
                  </a:lnTo>
                  <a:lnTo>
                    <a:pt x="1691" y="104"/>
                  </a:lnTo>
                  <a:lnTo>
                    <a:pt x="1691" y="109"/>
                  </a:lnTo>
                  <a:lnTo>
                    <a:pt x="1696" y="109"/>
                  </a:lnTo>
                  <a:lnTo>
                    <a:pt x="1696" y="109"/>
                  </a:lnTo>
                  <a:lnTo>
                    <a:pt x="1701" y="114"/>
                  </a:lnTo>
                  <a:lnTo>
                    <a:pt x="1701" y="114"/>
                  </a:lnTo>
                  <a:lnTo>
                    <a:pt x="1701" y="114"/>
                  </a:lnTo>
                  <a:lnTo>
                    <a:pt x="1706" y="109"/>
                  </a:lnTo>
                  <a:lnTo>
                    <a:pt x="1706" y="109"/>
                  </a:lnTo>
                  <a:lnTo>
                    <a:pt x="1706" y="104"/>
                  </a:lnTo>
                  <a:close/>
                </a:path>
              </a:pathLst>
            </a:custGeom>
            <a:solidFill>
              <a:srgbClr val="20cc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0" name=""/>
            <p:cNvSpPr/>
            <p:nvPr/>
          </p:nvSpPr>
          <p:spPr>
            <a:xfrm>
              <a:off x="2268360" y="2360880"/>
              <a:ext cx="4098960" cy="2628720"/>
            </a:xfrm>
            <a:custGeom>
              <a:avLst/>
              <a:gdLst/>
              <a:ahLst/>
              <a:rect l="l" t="t" r="r" b="b"/>
              <a:pathLst>
                <a:path w="2582" h="1656">
                  <a:moveTo>
                    <a:pt x="2235" y="1656"/>
                  </a:moveTo>
                  <a:lnTo>
                    <a:pt x="2260" y="1631"/>
                  </a:lnTo>
                  <a:lnTo>
                    <a:pt x="2285" y="1631"/>
                  </a:lnTo>
                  <a:lnTo>
                    <a:pt x="2315" y="1631"/>
                  </a:lnTo>
                  <a:lnTo>
                    <a:pt x="2339" y="1631"/>
                  </a:lnTo>
                  <a:lnTo>
                    <a:pt x="2369" y="1631"/>
                  </a:lnTo>
                  <a:lnTo>
                    <a:pt x="2394" y="1631"/>
                  </a:lnTo>
                  <a:lnTo>
                    <a:pt x="2418" y="1631"/>
                  </a:lnTo>
                  <a:lnTo>
                    <a:pt x="2448" y="1602"/>
                  </a:lnTo>
                  <a:lnTo>
                    <a:pt x="2448" y="1577"/>
                  </a:lnTo>
                  <a:lnTo>
                    <a:pt x="2448" y="1547"/>
                  </a:lnTo>
                  <a:lnTo>
                    <a:pt x="2448" y="1523"/>
                  </a:lnTo>
                  <a:lnTo>
                    <a:pt x="2473" y="1498"/>
                  </a:lnTo>
                  <a:lnTo>
                    <a:pt x="2473" y="1468"/>
                  </a:lnTo>
                  <a:lnTo>
                    <a:pt x="2473" y="1444"/>
                  </a:lnTo>
                  <a:lnTo>
                    <a:pt x="2473" y="1414"/>
                  </a:lnTo>
                  <a:lnTo>
                    <a:pt x="2503" y="1389"/>
                  </a:lnTo>
                  <a:lnTo>
                    <a:pt x="2503" y="1364"/>
                  </a:lnTo>
                  <a:lnTo>
                    <a:pt x="2503" y="1335"/>
                  </a:lnTo>
                  <a:lnTo>
                    <a:pt x="2503" y="1310"/>
                  </a:lnTo>
                  <a:lnTo>
                    <a:pt x="2527" y="1280"/>
                  </a:lnTo>
                  <a:lnTo>
                    <a:pt x="2527" y="1256"/>
                  </a:lnTo>
                  <a:lnTo>
                    <a:pt x="2527" y="1226"/>
                  </a:lnTo>
                  <a:lnTo>
                    <a:pt x="2527" y="1201"/>
                  </a:lnTo>
                  <a:lnTo>
                    <a:pt x="2552" y="1177"/>
                  </a:lnTo>
                  <a:lnTo>
                    <a:pt x="2552" y="1147"/>
                  </a:lnTo>
                  <a:lnTo>
                    <a:pt x="2552" y="1122"/>
                  </a:lnTo>
                  <a:lnTo>
                    <a:pt x="2552" y="1093"/>
                  </a:lnTo>
                  <a:lnTo>
                    <a:pt x="2582" y="1068"/>
                  </a:lnTo>
                  <a:lnTo>
                    <a:pt x="2582" y="1043"/>
                  </a:lnTo>
                  <a:lnTo>
                    <a:pt x="2582" y="1014"/>
                  </a:lnTo>
                  <a:lnTo>
                    <a:pt x="2582" y="989"/>
                  </a:lnTo>
                  <a:lnTo>
                    <a:pt x="2582" y="959"/>
                  </a:lnTo>
                  <a:lnTo>
                    <a:pt x="2582" y="934"/>
                  </a:lnTo>
                  <a:lnTo>
                    <a:pt x="2582" y="910"/>
                  </a:lnTo>
                  <a:lnTo>
                    <a:pt x="2582" y="880"/>
                  </a:lnTo>
                  <a:lnTo>
                    <a:pt x="2582" y="855"/>
                  </a:lnTo>
                  <a:lnTo>
                    <a:pt x="2582" y="826"/>
                  </a:lnTo>
                  <a:lnTo>
                    <a:pt x="2582" y="801"/>
                  </a:lnTo>
                  <a:lnTo>
                    <a:pt x="2582" y="776"/>
                  </a:lnTo>
                  <a:lnTo>
                    <a:pt x="2582" y="747"/>
                  </a:lnTo>
                  <a:lnTo>
                    <a:pt x="2582" y="722"/>
                  </a:lnTo>
                  <a:lnTo>
                    <a:pt x="2582" y="692"/>
                  </a:lnTo>
                  <a:lnTo>
                    <a:pt x="2582" y="668"/>
                  </a:lnTo>
                  <a:lnTo>
                    <a:pt x="2582" y="643"/>
                  </a:lnTo>
                  <a:lnTo>
                    <a:pt x="2582" y="613"/>
                  </a:lnTo>
                  <a:lnTo>
                    <a:pt x="2582" y="589"/>
                  </a:lnTo>
                  <a:lnTo>
                    <a:pt x="2582" y="559"/>
                  </a:lnTo>
                  <a:lnTo>
                    <a:pt x="2582" y="534"/>
                  </a:lnTo>
                  <a:lnTo>
                    <a:pt x="2582" y="504"/>
                  </a:lnTo>
                  <a:lnTo>
                    <a:pt x="2582" y="480"/>
                  </a:lnTo>
                  <a:lnTo>
                    <a:pt x="2582" y="455"/>
                  </a:lnTo>
                  <a:lnTo>
                    <a:pt x="2582" y="425"/>
                  </a:lnTo>
                  <a:lnTo>
                    <a:pt x="2582" y="401"/>
                  </a:lnTo>
                  <a:lnTo>
                    <a:pt x="2582" y="371"/>
                  </a:lnTo>
                  <a:lnTo>
                    <a:pt x="2582" y="346"/>
                  </a:lnTo>
                  <a:lnTo>
                    <a:pt x="2582" y="322"/>
                  </a:lnTo>
                  <a:lnTo>
                    <a:pt x="2582" y="292"/>
                  </a:lnTo>
                  <a:lnTo>
                    <a:pt x="2582" y="267"/>
                  </a:lnTo>
                  <a:lnTo>
                    <a:pt x="2582" y="238"/>
                  </a:lnTo>
                  <a:lnTo>
                    <a:pt x="2552" y="213"/>
                  </a:lnTo>
                  <a:lnTo>
                    <a:pt x="2552" y="188"/>
                  </a:lnTo>
                  <a:lnTo>
                    <a:pt x="2552" y="159"/>
                  </a:lnTo>
                  <a:lnTo>
                    <a:pt x="2552" y="134"/>
                  </a:lnTo>
                  <a:lnTo>
                    <a:pt x="2552" y="104"/>
                  </a:lnTo>
                  <a:lnTo>
                    <a:pt x="2527" y="79"/>
                  </a:lnTo>
                  <a:lnTo>
                    <a:pt x="2503" y="79"/>
                  </a:lnTo>
                  <a:lnTo>
                    <a:pt x="2473" y="79"/>
                  </a:lnTo>
                  <a:lnTo>
                    <a:pt x="2448" y="55"/>
                  </a:lnTo>
                  <a:lnTo>
                    <a:pt x="2418" y="55"/>
                  </a:lnTo>
                  <a:lnTo>
                    <a:pt x="2394" y="55"/>
                  </a:lnTo>
                  <a:lnTo>
                    <a:pt x="2369" y="25"/>
                  </a:lnTo>
                  <a:lnTo>
                    <a:pt x="2339" y="25"/>
                  </a:lnTo>
                  <a:lnTo>
                    <a:pt x="2315" y="25"/>
                  </a:lnTo>
                  <a:lnTo>
                    <a:pt x="2285" y="0"/>
                  </a:lnTo>
                  <a:lnTo>
                    <a:pt x="2260" y="0"/>
                  </a:lnTo>
                  <a:lnTo>
                    <a:pt x="2235" y="0"/>
                  </a:lnTo>
                  <a:lnTo>
                    <a:pt x="2206" y="0"/>
                  </a:lnTo>
                  <a:lnTo>
                    <a:pt x="2181" y="0"/>
                  </a:lnTo>
                  <a:lnTo>
                    <a:pt x="2156" y="0"/>
                  </a:lnTo>
                  <a:lnTo>
                    <a:pt x="2127" y="0"/>
                  </a:lnTo>
                  <a:lnTo>
                    <a:pt x="2102" y="0"/>
                  </a:lnTo>
                  <a:lnTo>
                    <a:pt x="2072" y="0"/>
                  </a:lnTo>
                  <a:lnTo>
                    <a:pt x="2048" y="0"/>
                  </a:lnTo>
                  <a:lnTo>
                    <a:pt x="2023" y="0"/>
                  </a:lnTo>
                  <a:lnTo>
                    <a:pt x="1993" y="0"/>
                  </a:lnTo>
                  <a:lnTo>
                    <a:pt x="1968" y="0"/>
                  </a:lnTo>
                  <a:lnTo>
                    <a:pt x="1944" y="0"/>
                  </a:lnTo>
                  <a:lnTo>
                    <a:pt x="1914" y="0"/>
                  </a:lnTo>
                  <a:lnTo>
                    <a:pt x="1889" y="0"/>
                  </a:lnTo>
                  <a:lnTo>
                    <a:pt x="1860" y="0"/>
                  </a:lnTo>
                  <a:lnTo>
                    <a:pt x="1835" y="0"/>
                  </a:lnTo>
                  <a:lnTo>
                    <a:pt x="1810" y="0"/>
                  </a:lnTo>
                  <a:lnTo>
                    <a:pt x="1780" y="0"/>
                  </a:lnTo>
                  <a:lnTo>
                    <a:pt x="1756" y="0"/>
                  </a:lnTo>
                  <a:lnTo>
                    <a:pt x="1726" y="0"/>
                  </a:lnTo>
                  <a:lnTo>
                    <a:pt x="1701" y="0"/>
                  </a:lnTo>
                  <a:lnTo>
                    <a:pt x="1677" y="0"/>
                  </a:lnTo>
                  <a:lnTo>
                    <a:pt x="1647" y="0"/>
                  </a:lnTo>
                  <a:lnTo>
                    <a:pt x="1622" y="0"/>
                  </a:lnTo>
                  <a:lnTo>
                    <a:pt x="1598" y="0"/>
                  </a:lnTo>
                  <a:lnTo>
                    <a:pt x="1568" y="0"/>
                  </a:lnTo>
                  <a:lnTo>
                    <a:pt x="1543" y="0"/>
                  </a:lnTo>
                  <a:lnTo>
                    <a:pt x="1513" y="0"/>
                  </a:lnTo>
                  <a:lnTo>
                    <a:pt x="1489" y="0"/>
                  </a:lnTo>
                  <a:lnTo>
                    <a:pt x="1464" y="0"/>
                  </a:lnTo>
                  <a:lnTo>
                    <a:pt x="1434" y="0"/>
                  </a:lnTo>
                  <a:lnTo>
                    <a:pt x="1410" y="0"/>
                  </a:lnTo>
                  <a:lnTo>
                    <a:pt x="1385" y="0"/>
                  </a:lnTo>
                  <a:lnTo>
                    <a:pt x="1355" y="0"/>
                  </a:lnTo>
                  <a:lnTo>
                    <a:pt x="1330" y="0"/>
                  </a:lnTo>
                  <a:lnTo>
                    <a:pt x="1301" y="0"/>
                  </a:lnTo>
                  <a:lnTo>
                    <a:pt x="1276" y="0"/>
                  </a:lnTo>
                  <a:lnTo>
                    <a:pt x="1251" y="0"/>
                  </a:lnTo>
                  <a:lnTo>
                    <a:pt x="1222" y="0"/>
                  </a:lnTo>
                  <a:lnTo>
                    <a:pt x="1197" y="0"/>
                  </a:lnTo>
                  <a:lnTo>
                    <a:pt x="1172" y="0"/>
                  </a:lnTo>
                  <a:lnTo>
                    <a:pt x="1143" y="0"/>
                  </a:lnTo>
                  <a:lnTo>
                    <a:pt x="1118" y="0"/>
                  </a:lnTo>
                  <a:lnTo>
                    <a:pt x="1088" y="0"/>
                  </a:lnTo>
                  <a:lnTo>
                    <a:pt x="1063" y="0"/>
                  </a:lnTo>
                  <a:lnTo>
                    <a:pt x="1039" y="0"/>
                  </a:lnTo>
                  <a:lnTo>
                    <a:pt x="1009" y="0"/>
                  </a:lnTo>
                  <a:lnTo>
                    <a:pt x="984" y="0"/>
                  </a:lnTo>
                  <a:lnTo>
                    <a:pt x="955" y="0"/>
                  </a:lnTo>
                  <a:lnTo>
                    <a:pt x="930" y="0"/>
                  </a:lnTo>
                  <a:lnTo>
                    <a:pt x="905" y="0"/>
                  </a:lnTo>
                  <a:lnTo>
                    <a:pt x="875" y="0"/>
                  </a:lnTo>
                  <a:lnTo>
                    <a:pt x="851" y="0"/>
                  </a:lnTo>
                  <a:lnTo>
                    <a:pt x="826" y="0"/>
                  </a:lnTo>
                  <a:lnTo>
                    <a:pt x="796" y="0"/>
                  </a:lnTo>
                  <a:lnTo>
                    <a:pt x="772" y="0"/>
                  </a:lnTo>
                  <a:lnTo>
                    <a:pt x="742" y="0"/>
                  </a:lnTo>
                  <a:lnTo>
                    <a:pt x="717" y="0"/>
                  </a:lnTo>
                  <a:lnTo>
                    <a:pt x="692" y="0"/>
                  </a:lnTo>
                  <a:lnTo>
                    <a:pt x="663" y="0"/>
                  </a:lnTo>
                  <a:lnTo>
                    <a:pt x="638" y="0"/>
                  </a:lnTo>
                  <a:lnTo>
                    <a:pt x="613" y="0"/>
                  </a:lnTo>
                  <a:lnTo>
                    <a:pt x="584" y="25"/>
                  </a:lnTo>
                  <a:lnTo>
                    <a:pt x="559" y="55"/>
                  </a:lnTo>
                  <a:lnTo>
                    <a:pt x="529" y="79"/>
                  </a:lnTo>
                  <a:lnTo>
                    <a:pt x="505" y="104"/>
                  </a:lnTo>
                  <a:lnTo>
                    <a:pt x="480" y="134"/>
                  </a:lnTo>
                  <a:lnTo>
                    <a:pt x="450" y="134"/>
                  </a:lnTo>
                  <a:lnTo>
                    <a:pt x="425" y="159"/>
                  </a:lnTo>
                  <a:lnTo>
                    <a:pt x="396" y="188"/>
                  </a:lnTo>
                  <a:lnTo>
                    <a:pt x="371" y="213"/>
                  </a:lnTo>
                  <a:lnTo>
                    <a:pt x="346" y="238"/>
                  </a:lnTo>
                  <a:lnTo>
                    <a:pt x="317" y="267"/>
                  </a:lnTo>
                  <a:lnTo>
                    <a:pt x="292" y="292"/>
                  </a:lnTo>
                  <a:lnTo>
                    <a:pt x="267" y="322"/>
                  </a:lnTo>
                  <a:lnTo>
                    <a:pt x="237" y="322"/>
                  </a:lnTo>
                  <a:lnTo>
                    <a:pt x="213" y="346"/>
                  </a:lnTo>
                  <a:lnTo>
                    <a:pt x="183" y="371"/>
                  </a:lnTo>
                  <a:lnTo>
                    <a:pt x="158" y="401"/>
                  </a:lnTo>
                  <a:lnTo>
                    <a:pt x="134" y="425"/>
                  </a:lnTo>
                  <a:lnTo>
                    <a:pt x="104" y="455"/>
                  </a:lnTo>
                  <a:lnTo>
                    <a:pt x="79" y="480"/>
                  </a:lnTo>
                  <a:lnTo>
                    <a:pt x="55" y="504"/>
                  </a:lnTo>
                  <a:lnTo>
                    <a:pt x="25" y="504"/>
                  </a:lnTo>
                  <a:lnTo>
                    <a:pt x="0" y="534"/>
                  </a:lnTo>
                  <a:lnTo>
                    <a:pt x="0" y="559"/>
                  </a:lnTo>
                  <a:lnTo>
                    <a:pt x="0" y="589"/>
                  </a:lnTo>
                  <a:lnTo>
                    <a:pt x="0" y="613"/>
                  </a:lnTo>
                  <a:lnTo>
                    <a:pt x="25" y="643"/>
                  </a:lnTo>
                  <a:lnTo>
                    <a:pt x="25" y="668"/>
                  </a:lnTo>
                  <a:lnTo>
                    <a:pt x="55" y="692"/>
                  </a:lnTo>
                  <a:lnTo>
                    <a:pt x="79" y="722"/>
                  </a:lnTo>
                  <a:lnTo>
                    <a:pt x="104" y="747"/>
                  </a:lnTo>
                  <a:lnTo>
                    <a:pt x="134" y="776"/>
                  </a:lnTo>
                  <a:lnTo>
                    <a:pt x="134" y="801"/>
                  </a:lnTo>
                  <a:lnTo>
                    <a:pt x="158" y="826"/>
                  </a:lnTo>
                  <a:lnTo>
                    <a:pt x="183" y="855"/>
                  </a:lnTo>
                  <a:lnTo>
                    <a:pt x="213" y="880"/>
                  </a:lnTo>
                  <a:lnTo>
                    <a:pt x="237" y="910"/>
                  </a:lnTo>
                  <a:lnTo>
                    <a:pt x="267" y="934"/>
                  </a:lnTo>
                  <a:lnTo>
                    <a:pt x="292" y="959"/>
                  </a:lnTo>
                  <a:lnTo>
                    <a:pt x="292" y="989"/>
                  </a:lnTo>
                  <a:lnTo>
                    <a:pt x="317" y="1014"/>
                  </a:lnTo>
                  <a:lnTo>
                    <a:pt x="346" y="1043"/>
                  </a:lnTo>
                  <a:lnTo>
                    <a:pt x="371" y="1068"/>
                  </a:lnTo>
                  <a:lnTo>
                    <a:pt x="396" y="1093"/>
                  </a:lnTo>
                  <a:lnTo>
                    <a:pt x="425" y="1122"/>
                  </a:lnTo>
                  <a:lnTo>
                    <a:pt x="450" y="1147"/>
                  </a:lnTo>
                  <a:lnTo>
                    <a:pt x="480" y="1177"/>
                  </a:lnTo>
                  <a:lnTo>
                    <a:pt x="505" y="1201"/>
                  </a:lnTo>
                  <a:lnTo>
                    <a:pt x="529" y="1226"/>
                  </a:lnTo>
                  <a:lnTo>
                    <a:pt x="559" y="1256"/>
                  </a:lnTo>
                  <a:lnTo>
                    <a:pt x="584" y="1280"/>
                  </a:lnTo>
                  <a:lnTo>
                    <a:pt x="613" y="1310"/>
                  </a:lnTo>
                  <a:lnTo>
                    <a:pt x="638" y="1335"/>
                  </a:lnTo>
                  <a:lnTo>
                    <a:pt x="663" y="1364"/>
                  </a:lnTo>
                  <a:lnTo>
                    <a:pt x="692" y="1389"/>
                  </a:lnTo>
                  <a:lnTo>
                    <a:pt x="717" y="1414"/>
                  </a:lnTo>
                  <a:lnTo>
                    <a:pt x="742" y="1444"/>
                  </a:lnTo>
                  <a:lnTo>
                    <a:pt x="772" y="1468"/>
                  </a:lnTo>
                  <a:lnTo>
                    <a:pt x="796" y="1468"/>
                  </a:lnTo>
                  <a:lnTo>
                    <a:pt x="826" y="1498"/>
                  </a:lnTo>
                  <a:lnTo>
                    <a:pt x="851" y="1523"/>
                  </a:lnTo>
                  <a:lnTo>
                    <a:pt x="875" y="1547"/>
                  </a:lnTo>
                  <a:lnTo>
                    <a:pt x="905" y="1577"/>
                  </a:lnTo>
                  <a:lnTo>
                    <a:pt x="930" y="1602"/>
                  </a:lnTo>
                  <a:lnTo>
                    <a:pt x="955" y="1631"/>
                  </a:lnTo>
                  <a:lnTo>
                    <a:pt x="984" y="1656"/>
                  </a:lnTo>
                  <a:lnTo>
                    <a:pt x="1009" y="1656"/>
                  </a:lnTo>
                  <a:lnTo>
                    <a:pt x="1039" y="1656"/>
                  </a:lnTo>
                  <a:lnTo>
                    <a:pt x="1063" y="1656"/>
                  </a:lnTo>
                  <a:lnTo>
                    <a:pt x="1088" y="1656"/>
                  </a:lnTo>
                  <a:lnTo>
                    <a:pt x="1118" y="1656"/>
                  </a:lnTo>
                  <a:lnTo>
                    <a:pt x="1143" y="1656"/>
                  </a:lnTo>
                  <a:lnTo>
                    <a:pt x="1172" y="1656"/>
                  </a:lnTo>
                  <a:lnTo>
                    <a:pt x="1197" y="1656"/>
                  </a:lnTo>
                  <a:lnTo>
                    <a:pt x="1222" y="1656"/>
                  </a:lnTo>
                  <a:lnTo>
                    <a:pt x="1251" y="1656"/>
                  </a:lnTo>
                  <a:lnTo>
                    <a:pt x="1276" y="1656"/>
                  </a:lnTo>
                  <a:lnTo>
                    <a:pt x="1301" y="1656"/>
                  </a:lnTo>
                  <a:lnTo>
                    <a:pt x="1330" y="1656"/>
                  </a:lnTo>
                  <a:lnTo>
                    <a:pt x="1355" y="1656"/>
                  </a:lnTo>
                  <a:lnTo>
                    <a:pt x="1385" y="1656"/>
                  </a:lnTo>
                  <a:lnTo>
                    <a:pt x="1410" y="1656"/>
                  </a:lnTo>
                  <a:lnTo>
                    <a:pt x="1434" y="1656"/>
                  </a:lnTo>
                  <a:lnTo>
                    <a:pt x="1464" y="1656"/>
                  </a:lnTo>
                  <a:lnTo>
                    <a:pt x="1489" y="1656"/>
                  </a:lnTo>
                  <a:lnTo>
                    <a:pt x="1513" y="1656"/>
                  </a:lnTo>
                  <a:lnTo>
                    <a:pt x="1543" y="1656"/>
                  </a:lnTo>
                  <a:lnTo>
                    <a:pt x="1568" y="1656"/>
                  </a:lnTo>
                  <a:lnTo>
                    <a:pt x="1598" y="1656"/>
                  </a:lnTo>
                  <a:lnTo>
                    <a:pt x="1622" y="1656"/>
                  </a:lnTo>
                  <a:lnTo>
                    <a:pt x="1647" y="1656"/>
                  </a:lnTo>
                  <a:lnTo>
                    <a:pt x="1677" y="1656"/>
                  </a:lnTo>
                  <a:lnTo>
                    <a:pt x="1701" y="1656"/>
                  </a:lnTo>
                  <a:lnTo>
                    <a:pt x="1726" y="1656"/>
                  </a:lnTo>
                  <a:lnTo>
                    <a:pt x="1756" y="1656"/>
                  </a:lnTo>
                  <a:lnTo>
                    <a:pt x="1780" y="1656"/>
                  </a:lnTo>
                  <a:lnTo>
                    <a:pt x="1810" y="1656"/>
                  </a:lnTo>
                  <a:lnTo>
                    <a:pt x="1835" y="1656"/>
                  </a:lnTo>
                  <a:lnTo>
                    <a:pt x="1860" y="1656"/>
                  </a:lnTo>
                  <a:lnTo>
                    <a:pt x="1889" y="1656"/>
                  </a:lnTo>
                  <a:lnTo>
                    <a:pt x="1914" y="1656"/>
                  </a:lnTo>
                  <a:lnTo>
                    <a:pt x="1944" y="1656"/>
                  </a:lnTo>
                  <a:lnTo>
                    <a:pt x="1968" y="1656"/>
                  </a:lnTo>
                  <a:lnTo>
                    <a:pt x="1993" y="1656"/>
                  </a:lnTo>
                  <a:lnTo>
                    <a:pt x="2023" y="1656"/>
                  </a:lnTo>
                  <a:lnTo>
                    <a:pt x="2048" y="1656"/>
                  </a:lnTo>
                  <a:lnTo>
                    <a:pt x="2072" y="1656"/>
                  </a:lnTo>
                  <a:lnTo>
                    <a:pt x="2102" y="1656"/>
                  </a:lnTo>
                  <a:lnTo>
                    <a:pt x="2127" y="1656"/>
                  </a:lnTo>
                  <a:lnTo>
                    <a:pt x="2156" y="1656"/>
                  </a:lnTo>
                  <a:lnTo>
                    <a:pt x="2181" y="1656"/>
                  </a:lnTo>
                  <a:lnTo>
                    <a:pt x="2206" y="1656"/>
                  </a:lnTo>
                  <a:lnTo>
                    <a:pt x="2235" y="1656"/>
                  </a:lnTo>
                  <a:close/>
                  <a:moveTo>
                    <a:pt x="1029" y="534"/>
                  </a:moveTo>
                  <a:lnTo>
                    <a:pt x="1034" y="524"/>
                  </a:lnTo>
                  <a:lnTo>
                    <a:pt x="1034" y="519"/>
                  </a:lnTo>
                  <a:lnTo>
                    <a:pt x="1034" y="519"/>
                  </a:lnTo>
                  <a:lnTo>
                    <a:pt x="1039" y="519"/>
                  </a:lnTo>
                  <a:lnTo>
                    <a:pt x="1039" y="524"/>
                  </a:lnTo>
                  <a:lnTo>
                    <a:pt x="1039" y="529"/>
                  </a:lnTo>
                  <a:lnTo>
                    <a:pt x="1039" y="534"/>
                  </a:lnTo>
                  <a:lnTo>
                    <a:pt x="1039" y="539"/>
                  </a:lnTo>
                  <a:lnTo>
                    <a:pt x="1039" y="544"/>
                  </a:lnTo>
                  <a:lnTo>
                    <a:pt x="1039" y="549"/>
                  </a:lnTo>
                  <a:lnTo>
                    <a:pt x="1034" y="549"/>
                  </a:lnTo>
                  <a:lnTo>
                    <a:pt x="1034" y="549"/>
                  </a:lnTo>
                  <a:lnTo>
                    <a:pt x="1034" y="539"/>
                  </a:lnTo>
                  <a:lnTo>
                    <a:pt x="1029" y="534"/>
                  </a:lnTo>
                  <a:close/>
                  <a:moveTo>
                    <a:pt x="1118" y="534"/>
                  </a:moveTo>
                  <a:lnTo>
                    <a:pt x="1118" y="529"/>
                  </a:lnTo>
                  <a:lnTo>
                    <a:pt x="1118" y="524"/>
                  </a:lnTo>
                  <a:lnTo>
                    <a:pt x="1118" y="524"/>
                  </a:lnTo>
                  <a:lnTo>
                    <a:pt x="1118" y="519"/>
                  </a:lnTo>
                  <a:lnTo>
                    <a:pt x="1118" y="519"/>
                  </a:lnTo>
                  <a:lnTo>
                    <a:pt x="1118" y="524"/>
                  </a:lnTo>
                  <a:lnTo>
                    <a:pt x="1118" y="524"/>
                  </a:lnTo>
                  <a:lnTo>
                    <a:pt x="1118" y="524"/>
                  </a:lnTo>
                  <a:lnTo>
                    <a:pt x="1118" y="529"/>
                  </a:lnTo>
                  <a:lnTo>
                    <a:pt x="1118" y="534"/>
                  </a:lnTo>
                  <a:lnTo>
                    <a:pt x="1118" y="534"/>
                  </a:lnTo>
                  <a:lnTo>
                    <a:pt x="1118" y="539"/>
                  </a:lnTo>
                  <a:lnTo>
                    <a:pt x="1118" y="539"/>
                  </a:lnTo>
                  <a:lnTo>
                    <a:pt x="1118" y="534"/>
                  </a:lnTo>
                  <a:close/>
                  <a:moveTo>
                    <a:pt x="1053" y="455"/>
                  </a:moveTo>
                  <a:lnTo>
                    <a:pt x="1058" y="445"/>
                  </a:lnTo>
                  <a:lnTo>
                    <a:pt x="1058" y="440"/>
                  </a:lnTo>
                  <a:lnTo>
                    <a:pt x="1063" y="440"/>
                  </a:lnTo>
                  <a:lnTo>
                    <a:pt x="1068" y="440"/>
                  </a:lnTo>
                  <a:lnTo>
                    <a:pt x="1068" y="445"/>
                  </a:lnTo>
                  <a:lnTo>
                    <a:pt x="1073" y="450"/>
                  </a:lnTo>
                  <a:lnTo>
                    <a:pt x="1073" y="455"/>
                  </a:lnTo>
                  <a:lnTo>
                    <a:pt x="1073" y="460"/>
                  </a:lnTo>
                  <a:lnTo>
                    <a:pt x="1068" y="465"/>
                  </a:lnTo>
                  <a:lnTo>
                    <a:pt x="1063" y="470"/>
                  </a:lnTo>
                  <a:lnTo>
                    <a:pt x="1063" y="470"/>
                  </a:lnTo>
                  <a:lnTo>
                    <a:pt x="1058" y="465"/>
                  </a:lnTo>
                  <a:lnTo>
                    <a:pt x="1058" y="460"/>
                  </a:lnTo>
                  <a:lnTo>
                    <a:pt x="1053" y="455"/>
                  </a:lnTo>
                  <a:close/>
                  <a:moveTo>
                    <a:pt x="1138" y="455"/>
                  </a:moveTo>
                  <a:lnTo>
                    <a:pt x="1143" y="450"/>
                  </a:lnTo>
                  <a:lnTo>
                    <a:pt x="1147" y="450"/>
                  </a:lnTo>
                  <a:lnTo>
                    <a:pt x="1152" y="455"/>
                  </a:lnTo>
                  <a:lnTo>
                    <a:pt x="1152" y="460"/>
                  </a:lnTo>
                  <a:lnTo>
                    <a:pt x="1152" y="465"/>
                  </a:lnTo>
                  <a:lnTo>
                    <a:pt x="1152" y="470"/>
                  </a:lnTo>
                  <a:lnTo>
                    <a:pt x="1147" y="475"/>
                  </a:lnTo>
                  <a:lnTo>
                    <a:pt x="1143" y="475"/>
                  </a:lnTo>
                  <a:lnTo>
                    <a:pt x="1143" y="475"/>
                  </a:lnTo>
                  <a:lnTo>
                    <a:pt x="1143" y="475"/>
                  </a:lnTo>
                  <a:lnTo>
                    <a:pt x="1143" y="470"/>
                  </a:lnTo>
                  <a:lnTo>
                    <a:pt x="1138" y="465"/>
                  </a:lnTo>
                  <a:lnTo>
                    <a:pt x="1138" y="460"/>
                  </a:lnTo>
                  <a:lnTo>
                    <a:pt x="1138" y="455"/>
                  </a:lnTo>
                  <a:close/>
                  <a:moveTo>
                    <a:pt x="1088" y="401"/>
                  </a:moveTo>
                  <a:lnTo>
                    <a:pt x="1083" y="396"/>
                  </a:lnTo>
                  <a:lnTo>
                    <a:pt x="1078" y="391"/>
                  </a:lnTo>
                  <a:lnTo>
                    <a:pt x="1068" y="386"/>
                  </a:lnTo>
                  <a:lnTo>
                    <a:pt x="1063" y="386"/>
                  </a:lnTo>
                  <a:lnTo>
                    <a:pt x="1058" y="381"/>
                  </a:lnTo>
                  <a:lnTo>
                    <a:pt x="1058" y="376"/>
                  </a:lnTo>
                  <a:lnTo>
                    <a:pt x="1053" y="366"/>
                  </a:lnTo>
                  <a:lnTo>
                    <a:pt x="1053" y="361"/>
                  </a:lnTo>
                  <a:lnTo>
                    <a:pt x="1058" y="356"/>
                  </a:lnTo>
                  <a:lnTo>
                    <a:pt x="1063" y="351"/>
                  </a:lnTo>
                  <a:lnTo>
                    <a:pt x="1068" y="351"/>
                  </a:lnTo>
                  <a:lnTo>
                    <a:pt x="1078" y="356"/>
                  </a:lnTo>
                  <a:lnTo>
                    <a:pt x="1083" y="361"/>
                  </a:lnTo>
                  <a:lnTo>
                    <a:pt x="1093" y="361"/>
                  </a:lnTo>
                  <a:lnTo>
                    <a:pt x="1098" y="366"/>
                  </a:lnTo>
                  <a:lnTo>
                    <a:pt x="1108" y="371"/>
                  </a:lnTo>
                  <a:lnTo>
                    <a:pt x="1113" y="371"/>
                  </a:lnTo>
                  <a:lnTo>
                    <a:pt x="1123" y="371"/>
                  </a:lnTo>
                  <a:lnTo>
                    <a:pt x="1128" y="366"/>
                  </a:lnTo>
                  <a:lnTo>
                    <a:pt x="1133" y="361"/>
                  </a:lnTo>
                  <a:lnTo>
                    <a:pt x="1138" y="356"/>
                  </a:lnTo>
                  <a:lnTo>
                    <a:pt x="1138" y="346"/>
                  </a:lnTo>
                  <a:lnTo>
                    <a:pt x="1138" y="341"/>
                  </a:lnTo>
                  <a:lnTo>
                    <a:pt x="1133" y="331"/>
                  </a:lnTo>
                  <a:lnTo>
                    <a:pt x="1128" y="327"/>
                  </a:lnTo>
                  <a:lnTo>
                    <a:pt x="1123" y="322"/>
                  </a:lnTo>
                  <a:lnTo>
                    <a:pt x="1118" y="322"/>
                  </a:lnTo>
                  <a:lnTo>
                    <a:pt x="1113" y="322"/>
                  </a:lnTo>
                  <a:lnTo>
                    <a:pt x="1108" y="327"/>
                  </a:lnTo>
                  <a:lnTo>
                    <a:pt x="1103" y="336"/>
                  </a:lnTo>
                  <a:lnTo>
                    <a:pt x="1098" y="336"/>
                  </a:lnTo>
                  <a:lnTo>
                    <a:pt x="1088" y="341"/>
                  </a:lnTo>
                  <a:lnTo>
                    <a:pt x="1083" y="341"/>
                  </a:lnTo>
                  <a:lnTo>
                    <a:pt x="1078" y="336"/>
                  </a:lnTo>
                  <a:lnTo>
                    <a:pt x="1073" y="331"/>
                  </a:lnTo>
                  <a:lnTo>
                    <a:pt x="1068" y="322"/>
                  </a:lnTo>
                  <a:lnTo>
                    <a:pt x="1068" y="317"/>
                  </a:lnTo>
                  <a:lnTo>
                    <a:pt x="1068" y="312"/>
                  </a:lnTo>
                  <a:lnTo>
                    <a:pt x="1068" y="307"/>
                  </a:lnTo>
                  <a:lnTo>
                    <a:pt x="1073" y="302"/>
                  </a:lnTo>
                  <a:lnTo>
                    <a:pt x="1073" y="297"/>
                  </a:lnTo>
                  <a:lnTo>
                    <a:pt x="1073" y="292"/>
                  </a:lnTo>
                  <a:lnTo>
                    <a:pt x="1073" y="282"/>
                  </a:lnTo>
                  <a:lnTo>
                    <a:pt x="1073" y="277"/>
                  </a:lnTo>
                  <a:lnTo>
                    <a:pt x="1078" y="272"/>
                  </a:lnTo>
                  <a:lnTo>
                    <a:pt x="1078" y="267"/>
                  </a:lnTo>
                  <a:lnTo>
                    <a:pt x="1088" y="267"/>
                  </a:lnTo>
                  <a:lnTo>
                    <a:pt x="1093" y="262"/>
                  </a:lnTo>
                  <a:lnTo>
                    <a:pt x="1103" y="257"/>
                  </a:lnTo>
                  <a:lnTo>
                    <a:pt x="1108" y="257"/>
                  </a:lnTo>
                  <a:lnTo>
                    <a:pt x="1113" y="252"/>
                  </a:lnTo>
                  <a:lnTo>
                    <a:pt x="1118" y="247"/>
                  </a:lnTo>
                  <a:lnTo>
                    <a:pt x="1123" y="243"/>
                  </a:lnTo>
                  <a:lnTo>
                    <a:pt x="1133" y="243"/>
                  </a:lnTo>
                  <a:lnTo>
                    <a:pt x="1138" y="238"/>
                  </a:lnTo>
                  <a:lnTo>
                    <a:pt x="1147" y="238"/>
                  </a:lnTo>
                  <a:lnTo>
                    <a:pt x="1152" y="238"/>
                  </a:lnTo>
                  <a:lnTo>
                    <a:pt x="1162" y="238"/>
                  </a:lnTo>
                  <a:lnTo>
                    <a:pt x="1172" y="238"/>
                  </a:lnTo>
                  <a:lnTo>
                    <a:pt x="1182" y="238"/>
                  </a:lnTo>
                  <a:lnTo>
                    <a:pt x="1187" y="243"/>
                  </a:lnTo>
                  <a:lnTo>
                    <a:pt x="1192" y="247"/>
                  </a:lnTo>
                  <a:lnTo>
                    <a:pt x="1202" y="247"/>
                  </a:lnTo>
                  <a:lnTo>
                    <a:pt x="1207" y="247"/>
                  </a:lnTo>
                  <a:lnTo>
                    <a:pt x="1217" y="247"/>
                  </a:lnTo>
                  <a:lnTo>
                    <a:pt x="1227" y="247"/>
                  </a:lnTo>
                  <a:lnTo>
                    <a:pt x="1236" y="243"/>
                  </a:lnTo>
                  <a:lnTo>
                    <a:pt x="1246" y="243"/>
                  </a:lnTo>
                  <a:lnTo>
                    <a:pt x="1251" y="238"/>
                  </a:lnTo>
                  <a:lnTo>
                    <a:pt x="1246" y="238"/>
                  </a:lnTo>
                  <a:lnTo>
                    <a:pt x="1241" y="233"/>
                  </a:lnTo>
                  <a:lnTo>
                    <a:pt x="1236" y="228"/>
                  </a:lnTo>
                  <a:lnTo>
                    <a:pt x="1227" y="223"/>
                  </a:lnTo>
                  <a:lnTo>
                    <a:pt x="1222" y="218"/>
                  </a:lnTo>
                  <a:lnTo>
                    <a:pt x="1222" y="213"/>
                  </a:lnTo>
                  <a:lnTo>
                    <a:pt x="1222" y="208"/>
                  </a:lnTo>
                  <a:lnTo>
                    <a:pt x="1227" y="208"/>
                  </a:lnTo>
                  <a:lnTo>
                    <a:pt x="1232" y="208"/>
                  </a:lnTo>
                  <a:lnTo>
                    <a:pt x="1236" y="218"/>
                  </a:lnTo>
                  <a:lnTo>
                    <a:pt x="1241" y="223"/>
                  </a:lnTo>
                  <a:lnTo>
                    <a:pt x="1246" y="233"/>
                  </a:lnTo>
                  <a:lnTo>
                    <a:pt x="1246" y="238"/>
                  </a:lnTo>
                  <a:lnTo>
                    <a:pt x="1246" y="238"/>
                  </a:lnTo>
                  <a:lnTo>
                    <a:pt x="1251" y="238"/>
                  </a:lnTo>
                  <a:lnTo>
                    <a:pt x="1256" y="233"/>
                  </a:lnTo>
                  <a:lnTo>
                    <a:pt x="1261" y="228"/>
                  </a:lnTo>
                  <a:lnTo>
                    <a:pt x="1271" y="223"/>
                  </a:lnTo>
                  <a:lnTo>
                    <a:pt x="1276" y="223"/>
                  </a:lnTo>
                  <a:lnTo>
                    <a:pt x="1286" y="218"/>
                  </a:lnTo>
                  <a:lnTo>
                    <a:pt x="1296" y="218"/>
                  </a:lnTo>
                  <a:lnTo>
                    <a:pt x="1301" y="218"/>
                  </a:lnTo>
                  <a:lnTo>
                    <a:pt x="1311" y="213"/>
                  </a:lnTo>
                  <a:lnTo>
                    <a:pt x="1316" y="213"/>
                  </a:lnTo>
                  <a:lnTo>
                    <a:pt x="1321" y="203"/>
                  </a:lnTo>
                  <a:lnTo>
                    <a:pt x="1326" y="198"/>
                  </a:lnTo>
                  <a:lnTo>
                    <a:pt x="1330" y="198"/>
                  </a:lnTo>
                  <a:lnTo>
                    <a:pt x="1335" y="198"/>
                  </a:lnTo>
                  <a:lnTo>
                    <a:pt x="1345" y="198"/>
                  </a:lnTo>
                  <a:lnTo>
                    <a:pt x="1355" y="198"/>
                  </a:lnTo>
                  <a:lnTo>
                    <a:pt x="1360" y="193"/>
                  </a:lnTo>
                  <a:lnTo>
                    <a:pt x="1370" y="193"/>
                  </a:lnTo>
                  <a:lnTo>
                    <a:pt x="1375" y="188"/>
                  </a:lnTo>
                  <a:lnTo>
                    <a:pt x="1380" y="178"/>
                  </a:lnTo>
                  <a:lnTo>
                    <a:pt x="1380" y="173"/>
                  </a:lnTo>
                  <a:lnTo>
                    <a:pt x="1385" y="173"/>
                  </a:lnTo>
                  <a:lnTo>
                    <a:pt x="1395" y="173"/>
                  </a:lnTo>
                  <a:lnTo>
                    <a:pt x="1405" y="173"/>
                  </a:lnTo>
                  <a:lnTo>
                    <a:pt x="1415" y="168"/>
                  </a:lnTo>
                  <a:lnTo>
                    <a:pt x="1419" y="168"/>
                  </a:lnTo>
                  <a:lnTo>
                    <a:pt x="1429" y="163"/>
                  </a:lnTo>
                  <a:lnTo>
                    <a:pt x="1434" y="163"/>
                  </a:lnTo>
                  <a:lnTo>
                    <a:pt x="1444" y="159"/>
                  </a:lnTo>
                  <a:lnTo>
                    <a:pt x="1449" y="154"/>
                  </a:lnTo>
                  <a:lnTo>
                    <a:pt x="1454" y="149"/>
                  </a:lnTo>
                  <a:lnTo>
                    <a:pt x="1459" y="149"/>
                  </a:lnTo>
                  <a:lnTo>
                    <a:pt x="1464" y="144"/>
                  </a:lnTo>
                  <a:lnTo>
                    <a:pt x="1474" y="144"/>
                  </a:lnTo>
                  <a:lnTo>
                    <a:pt x="1484" y="144"/>
                  </a:lnTo>
                  <a:lnTo>
                    <a:pt x="1494" y="139"/>
                  </a:lnTo>
                  <a:lnTo>
                    <a:pt x="1499" y="139"/>
                  </a:lnTo>
                  <a:lnTo>
                    <a:pt x="1504" y="134"/>
                  </a:lnTo>
                  <a:lnTo>
                    <a:pt x="1499" y="129"/>
                  </a:lnTo>
                  <a:lnTo>
                    <a:pt x="1489" y="124"/>
                  </a:lnTo>
                  <a:lnTo>
                    <a:pt x="1479" y="129"/>
                  </a:lnTo>
                  <a:lnTo>
                    <a:pt x="1469" y="129"/>
                  </a:lnTo>
                  <a:lnTo>
                    <a:pt x="1464" y="129"/>
                  </a:lnTo>
                  <a:lnTo>
                    <a:pt x="1459" y="129"/>
                  </a:lnTo>
                  <a:lnTo>
                    <a:pt x="1449" y="124"/>
                  </a:lnTo>
                  <a:lnTo>
                    <a:pt x="1444" y="119"/>
                  </a:lnTo>
                  <a:lnTo>
                    <a:pt x="1444" y="109"/>
                  </a:lnTo>
                  <a:lnTo>
                    <a:pt x="1444" y="104"/>
                  </a:lnTo>
                  <a:lnTo>
                    <a:pt x="1444" y="99"/>
                  </a:lnTo>
                  <a:lnTo>
                    <a:pt x="1449" y="94"/>
                  </a:lnTo>
                  <a:lnTo>
                    <a:pt x="1459" y="89"/>
                  </a:lnTo>
                  <a:lnTo>
                    <a:pt x="1464" y="89"/>
                  </a:lnTo>
                  <a:lnTo>
                    <a:pt x="1474" y="89"/>
                  </a:lnTo>
                  <a:lnTo>
                    <a:pt x="1484" y="89"/>
                  </a:lnTo>
                  <a:lnTo>
                    <a:pt x="1489" y="89"/>
                  </a:lnTo>
                  <a:lnTo>
                    <a:pt x="1499" y="94"/>
                  </a:lnTo>
                  <a:lnTo>
                    <a:pt x="1504" y="99"/>
                  </a:lnTo>
                  <a:lnTo>
                    <a:pt x="1504" y="104"/>
                  </a:lnTo>
                  <a:lnTo>
                    <a:pt x="1508" y="109"/>
                  </a:lnTo>
                  <a:lnTo>
                    <a:pt x="1508" y="114"/>
                  </a:lnTo>
                  <a:lnTo>
                    <a:pt x="1513" y="119"/>
                  </a:lnTo>
                  <a:lnTo>
                    <a:pt x="1518" y="124"/>
                  </a:lnTo>
                  <a:lnTo>
                    <a:pt x="1523" y="124"/>
                  </a:lnTo>
                  <a:lnTo>
                    <a:pt x="1533" y="124"/>
                  </a:lnTo>
                  <a:lnTo>
                    <a:pt x="1543" y="119"/>
                  </a:lnTo>
                  <a:lnTo>
                    <a:pt x="1553" y="114"/>
                  </a:lnTo>
                  <a:lnTo>
                    <a:pt x="1563" y="109"/>
                  </a:lnTo>
                  <a:lnTo>
                    <a:pt x="1563" y="109"/>
                  </a:lnTo>
                  <a:lnTo>
                    <a:pt x="1558" y="104"/>
                  </a:lnTo>
                  <a:lnTo>
                    <a:pt x="1553" y="104"/>
                  </a:lnTo>
                  <a:lnTo>
                    <a:pt x="1543" y="99"/>
                  </a:lnTo>
                  <a:lnTo>
                    <a:pt x="1533" y="94"/>
                  </a:lnTo>
                  <a:lnTo>
                    <a:pt x="1528" y="94"/>
                  </a:lnTo>
                  <a:lnTo>
                    <a:pt x="1523" y="89"/>
                  </a:lnTo>
                  <a:lnTo>
                    <a:pt x="1523" y="79"/>
                  </a:lnTo>
                  <a:lnTo>
                    <a:pt x="1523" y="74"/>
                  </a:lnTo>
                  <a:lnTo>
                    <a:pt x="1528" y="70"/>
                  </a:lnTo>
                  <a:lnTo>
                    <a:pt x="1533" y="65"/>
                  </a:lnTo>
                  <a:lnTo>
                    <a:pt x="1538" y="65"/>
                  </a:lnTo>
                  <a:lnTo>
                    <a:pt x="1548" y="60"/>
                  </a:lnTo>
                  <a:lnTo>
                    <a:pt x="1558" y="60"/>
                  </a:lnTo>
                  <a:lnTo>
                    <a:pt x="1563" y="60"/>
                  </a:lnTo>
                  <a:lnTo>
                    <a:pt x="1573" y="60"/>
                  </a:lnTo>
                  <a:lnTo>
                    <a:pt x="1578" y="65"/>
                  </a:lnTo>
                  <a:lnTo>
                    <a:pt x="1583" y="70"/>
                  </a:lnTo>
                  <a:lnTo>
                    <a:pt x="1588" y="74"/>
                  </a:lnTo>
                  <a:lnTo>
                    <a:pt x="1588" y="79"/>
                  </a:lnTo>
                  <a:lnTo>
                    <a:pt x="1593" y="89"/>
                  </a:lnTo>
                  <a:lnTo>
                    <a:pt x="1593" y="94"/>
                  </a:lnTo>
                  <a:lnTo>
                    <a:pt x="1598" y="94"/>
                  </a:lnTo>
                  <a:lnTo>
                    <a:pt x="1602" y="94"/>
                  </a:lnTo>
                  <a:lnTo>
                    <a:pt x="1607" y="89"/>
                  </a:lnTo>
                  <a:lnTo>
                    <a:pt x="1617" y="84"/>
                  </a:lnTo>
                  <a:lnTo>
                    <a:pt x="1627" y="84"/>
                  </a:lnTo>
                  <a:lnTo>
                    <a:pt x="1637" y="84"/>
                  </a:lnTo>
                  <a:lnTo>
                    <a:pt x="1642" y="84"/>
                  </a:lnTo>
                  <a:lnTo>
                    <a:pt x="1652" y="79"/>
                  </a:lnTo>
                  <a:lnTo>
                    <a:pt x="1647" y="79"/>
                  </a:lnTo>
                  <a:lnTo>
                    <a:pt x="1637" y="79"/>
                  </a:lnTo>
                  <a:lnTo>
                    <a:pt x="1627" y="79"/>
                  </a:lnTo>
                  <a:lnTo>
                    <a:pt x="1622" y="74"/>
                  </a:lnTo>
                  <a:lnTo>
                    <a:pt x="1612" y="74"/>
                  </a:lnTo>
                  <a:lnTo>
                    <a:pt x="1607" y="70"/>
                  </a:lnTo>
                  <a:lnTo>
                    <a:pt x="1602" y="65"/>
                  </a:lnTo>
                  <a:lnTo>
                    <a:pt x="1602" y="60"/>
                  </a:lnTo>
                  <a:lnTo>
                    <a:pt x="1602" y="50"/>
                  </a:lnTo>
                  <a:lnTo>
                    <a:pt x="1602" y="45"/>
                  </a:lnTo>
                  <a:lnTo>
                    <a:pt x="1607" y="40"/>
                  </a:lnTo>
                  <a:lnTo>
                    <a:pt x="1617" y="40"/>
                  </a:lnTo>
                  <a:lnTo>
                    <a:pt x="1622" y="35"/>
                  </a:lnTo>
                  <a:lnTo>
                    <a:pt x="1632" y="35"/>
                  </a:lnTo>
                  <a:lnTo>
                    <a:pt x="1637" y="30"/>
                  </a:lnTo>
                  <a:lnTo>
                    <a:pt x="1647" y="30"/>
                  </a:lnTo>
                  <a:lnTo>
                    <a:pt x="1657" y="30"/>
                  </a:lnTo>
                  <a:lnTo>
                    <a:pt x="1667" y="35"/>
                  </a:lnTo>
                  <a:lnTo>
                    <a:pt x="1672" y="35"/>
                  </a:lnTo>
                  <a:lnTo>
                    <a:pt x="1677" y="40"/>
                  </a:lnTo>
                  <a:lnTo>
                    <a:pt x="1682" y="45"/>
                  </a:lnTo>
                  <a:lnTo>
                    <a:pt x="1687" y="50"/>
                  </a:lnTo>
                  <a:lnTo>
                    <a:pt x="1696" y="55"/>
                  </a:lnTo>
                  <a:lnTo>
                    <a:pt x="1701" y="55"/>
                  </a:lnTo>
                  <a:lnTo>
                    <a:pt x="1711" y="60"/>
                  </a:lnTo>
                  <a:lnTo>
                    <a:pt x="1716" y="60"/>
                  </a:lnTo>
                  <a:lnTo>
                    <a:pt x="1726" y="60"/>
                  </a:lnTo>
                  <a:lnTo>
                    <a:pt x="1736" y="60"/>
                  </a:lnTo>
                  <a:lnTo>
                    <a:pt x="1746" y="60"/>
                  </a:lnTo>
                  <a:lnTo>
                    <a:pt x="1751" y="60"/>
                  </a:lnTo>
                  <a:lnTo>
                    <a:pt x="1761" y="60"/>
                  </a:lnTo>
                  <a:lnTo>
                    <a:pt x="1771" y="60"/>
                  </a:lnTo>
                  <a:lnTo>
                    <a:pt x="1776" y="65"/>
                  </a:lnTo>
                  <a:lnTo>
                    <a:pt x="1780" y="70"/>
                  </a:lnTo>
                  <a:lnTo>
                    <a:pt x="1790" y="74"/>
                  </a:lnTo>
                  <a:lnTo>
                    <a:pt x="1790" y="74"/>
                  </a:lnTo>
                  <a:lnTo>
                    <a:pt x="1800" y="79"/>
                  </a:lnTo>
                  <a:lnTo>
                    <a:pt x="1805" y="84"/>
                  </a:lnTo>
                  <a:lnTo>
                    <a:pt x="1815" y="84"/>
                  </a:lnTo>
                  <a:lnTo>
                    <a:pt x="1820" y="89"/>
                  </a:lnTo>
                  <a:lnTo>
                    <a:pt x="1830" y="89"/>
                  </a:lnTo>
                  <a:lnTo>
                    <a:pt x="1840" y="89"/>
                  </a:lnTo>
                  <a:lnTo>
                    <a:pt x="1845" y="89"/>
                  </a:lnTo>
                  <a:lnTo>
                    <a:pt x="1855" y="89"/>
                  </a:lnTo>
                  <a:lnTo>
                    <a:pt x="1865" y="89"/>
                  </a:lnTo>
                  <a:lnTo>
                    <a:pt x="1870" y="89"/>
                  </a:lnTo>
                  <a:lnTo>
                    <a:pt x="1879" y="94"/>
                  </a:lnTo>
                  <a:lnTo>
                    <a:pt x="1889" y="94"/>
                  </a:lnTo>
                  <a:lnTo>
                    <a:pt x="1894" y="99"/>
                  </a:lnTo>
                  <a:lnTo>
                    <a:pt x="1899" y="104"/>
                  </a:lnTo>
                  <a:lnTo>
                    <a:pt x="1904" y="109"/>
                  </a:lnTo>
                  <a:lnTo>
                    <a:pt x="1909" y="114"/>
                  </a:lnTo>
                  <a:lnTo>
                    <a:pt x="1914" y="119"/>
                  </a:lnTo>
                  <a:lnTo>
                    <a:pt x="1919" y="119"/>
                  </a:lnTo>
                  <a:lnTo>
                    <a:pt x="1929" y="119"/>
                  </a:lnTo>
                  <a:lnTo>
                    <a:pt x="1939" y="119"/>
                  </a:lnTo>
                  <a:lnTo>
                    <a:pt x="1949" y="119"/>
                  </a:lnTo>
                  <a:lnTo>
                    <a:pt x="1954" y="124"/>
                  </a:lnTo>
                  <a:lnTo>
                    <a:pt x="1963" y="124"/>
                  </a:lnTo>
                  <a:lnTo>
                    <a:pt x="1973" y="124"/>
                  </a:lnTo>
                  <a:lnTo>
                    <a:pt x="1983" y="124"/>
                  </a:lnTo>
                  <a:lnTo>
                    <a:pt x="1988" y="124"/>
                  </a:lnTo>
                  <a:lnTo>
                    <a:pt x="1998" y="124"/>
                  </a:lnTo>
                  <a:lnTo>
                    <a:pt x="2003" y="129"/>
                  </a:lnTo>
                  <a:lnTo>
                    <a:pt x="2003" y="134"/>
                  </a:lnTo>
                  <a:lnTo>
                    <a:pt x="2008" y="144"/>
                  </a:lnTo>
                  <a:lnTo>
                    <a:pt x="2013" y="149"/>
                  </a:lnTo>
                  <a:lnTo>
                    <a:pt x="2013" y="154"/>
                  </a:lnTo>
                  <a:lnTo>
                    <a:pt x="2023" y="154"/>
                  </a:lnTo>
                  <a:lnTo>
                    <a:pt x="2028" y="159"/>
                  </a:lnTo>
                  <a:lnTo>
                    <a:pt x="2038" y="159"/>
                  </a:lnTo>
                  <a:lnTo>
                    <a:pt x="2048" y="159"/>
                  </a:lnTo>
                  <a:lnTo>
                    <a:pt x="2048" y="163"/>
                  </a:lnTo>
                  <a:lnTo>
                    <a:pt x="2052" y="168"/>
                  </a:lnTo>
                  <a:lnTo>
                    <a:pt x="2048" y="173"/>
                  </a:lnTo>
                  <a:lnTo>
                    <a:pt x="2048" y="183"/>
                  </a:lnTo>
                  <a:lnTo>
                    <a:pt x="2048" y="188"/>
                  </a:lnTo>
                  <a:lnTo>
                    <a:pt x="2048" y="193"/>
                  </a:lnTo>
                  <a:lnTo>
                    <a:pt x="2048" y="198"/>
                  </a:lnTo>
                  <a:lnTo>
                    <a:pt x="2048" y="203"/>
                  </a:lnTo>
                  <a:lnTo>
                    <a:pt x="2048" y="208"/>
                  </a:lnTo>
                  <a:lnTo>
                    <a:pt x="2048" y="213"/>
                  </a:lnTo>
                  <a:lnTo>
                    <a:pt x="2048" y="218"/>
                  </a:lnTo>
                  <a:lnTo>
                    <a:pt x="2048" y="228"/>
                  </a:lnTo>
                  <a:lnTo>
                    <a:pt x="2048" y="233"/>
                  </a:lnTo>
                  <a:lnTo>
                    <a:pt x="2048" y="238"/>
                  </a:lnTo>
                  <a:lnTo>
                    <a:pt x="2048" y="243"/>
                  </a:lnTo>
                  <a:lnTo>
                    <a:pt x="2048" y="247"/>
                  </a:lnTo>
                  <a:lnTo>
                    <a:pt x="2048" y="252"/>
                  </a:lnTo>
                  <a:lnTo>
                    <a:pt x="2048" y="257"/>
                  </a:lnTo>
                  <a:lnTo>
                    <a:pt x="2048" y="262"/>
                  </a:lnTo>
                  <a:lnTo>
                    <a:pt x="2048" y="267"/>
                  </a:lnTo>
                  <a:lnTo>
                    <a:pt x="2043" y="272"/>
                  </a:lnTo>
                  <a:lnTo>
                    <a:pt x="2038" y="277"/>
                  </a:lnTo>
                  <a:lnTo>
                    <a:pt x="2033" y="282"/>
                  </a:lnTo>
                  <a:lnTo>
                    <a:pt x="2028" y="287"/>
                  </a:lnTo>
                  <a:lnTo>
                    <a:pt x="2023" y="292"/>
                  </a:lnTo>
                  <a:lnTo>
                    <a:pt x="2018" y="297"/>
                  </a:lnTo>
                  <a:lnTo>
                    <a:pt x="2008" y="297"/>
                  </a:lnTo>
                  <a:lnTo>
                    <a:pt x="2003" y="302"/>
                  </a:lnTo>
                  <a:lnTo>
                    <a:pt x="1993" y="307"/>
                  </a:lnTo>
                  <a:lnTo>
                    <a:pt x="1988" y="307"/>
                  </a:lnTo>
                  <a:lnTo>
                    <a:pt x="1978" y="307"/>
                  </a:lnTo>
                  <a:lnTo>
                    <a:pt x="1973" y="312"/>
                  </a:lnTo>
                  <a:lnTo>
                    <a:pt x="1963" y="312"/>
                  </a:lnTo>
                  <a:lnTo>
                    <a:pt x="1954" y="312"/>
                  </a:lnTo>
                  <a:lnTo>
                    <a:pt x="1944" y="312"/>
                  </a:lnTo>
                  <a:lnTo>
                    <a:pt x="1939" y="312"/>
                  </a:lnTo>
                  <a:lnTo>
                    <a:pt x="1929" y="312"/>
                  </a:lnTo>
                  <a:lnTo>
                    <a:pt x="1919" y="312"/>
                  </a:lnTo>
                  <a:lnTo>
                    <a:pt x="1914" y="312"/>
                  </a:lnTo>
                  <a:lnTo>
                    <a:pt x="1904" y="312"/>
                  </a:lnTo>
                  <a:lnTo>
                    <a:pt x="1894" y="312"/>
                  </a:lnTo>
                  <a:lnTo>
                    <a:pt x="1884" y="312"/>
                  </a:lnTo>
                  <a:lnTo>
                    <a:pt x="1879" y="312"/>
                  </a:lnTo>
                  <a:lnTo>
                    <a:pt x="1870" y="312"/>
                  </a:lnTo>
                  <a:lnTo>
                    <a:pt x="1860" y="312"/>
                  </a:lnTo>
                  <a:lnTo>
                    <a:pt x="1855" y="312"/>
                  </a:lnTo>
                  <a:lnTo>
                    <a:pt x="1845" y="312"/>
                  </a:lnTo>
                  <a:lnTo>
                    <a:pt x="1835" y="312"/>
                  </a:lnTo>
                  <a:lnTo>
                    <a:pt x="1830" y="312"/>
                  </a:lnTo>
                  <a:lnTo>
                    <a:pt x="1820" y="312"/>
                  </a:lnTo>
                  <a:lnTo>
                    <a:pt x="1810" y="312"/>
                  </a:lnTo>
                  <a:lnTo>
                    <a:pt x="1800" y="312"/>
                  </a:lnTo>
                  <a:lnTo>
                    <a:pt x="1795" y="317"/>
                  </a:lnTo>
                  <a:lnTo>
                    <a:pt x="1785" y="317"/>
                  </a:lnTo>
                  <a:lnTo>
                    <a:pt x="1776" y="317"/>
                  </a:lnTo>
                  <a:lnTo>
                    <a:pt x="1771" y="317"/>
                  </a:lnTo>
                  <a:lnTo>
                    <a:pt x="1761" y="317"/>
                  </a:lnTo>
                  <a:lnTo>
                    <a:pt x="1751" y="317"/>
                  </a:lnTo>
                  <a:lnTo>
                    <a:pt x="1746" y="312"/>
                  </a:lnTo>
                  <a:lnTo>
                    <a:pt x="1736" y="312"/>
                  </a:lnTo>
                  <a:lnTo>
                    <a:pt x="1726" y="312"/>
                  </a:lnTo>
                  <a:lnTo>
                    <a:pt x="1716" y="312"/>
                  </a:lnTo>
                  <a:lnTo>
                    <a:pt x="1711" y="317"/>
                  </a:lnTo>
                  <a:lnTo>
                    <a:pt x="1701" y="317"/>
                  </a:lnTo>
                  <a:lnTo>
                    <a:pt x="1696" y="312"/>
                  </a:lnTo>
                  <a:lnTo>
                    <a:pt x="1687" y="312"/>
                  </a:lnTo>
                  <a:lnTo>
                    <a:pt x="1682" y="307"/>
                  </a:lnTo>
                  <a:lnTo>
                    <a:pt x="1672" y="302"/>
                  </a:lnTo>
                  <a:lnTo>
                    <a:pt x="1667" y="302"/>
                  </a:lnTo>
                  <a:lnTo>
                    <a:pt x="1657" y="302"/>
                  </a:lnTo>
                  <a:lnTo>
                    <a:pt x="1647" y="302"/>
                  </a:lnTo>
                  <a:lnTo>
                    <a:pt x="1642" y="297"/>
                  </a:lnTo>
                  <a:lnTo>
                    <a:pt x="1637" y="292"/>
                  </a:lnTo>
                  <a:lnTo>
                    <a:pt x="1632" y="287"/>
                  </a:lnTo>
                  <a:lnTo>
                    <a:pt x="1622" y="287"/>
                  </a:lnTo>
                  <a:lnTo>
                    <a:pt x="1617" y="282"/>
                  </a:lnTo>
                  <a:lnTo>
                    <a:pt x="1607" y="282"/>
                  </a:lnTo>
                  <a:lnTo>
                    <a:pt x="1602" y="282"/>
                  </a:lnTo>
                  <a:lnTo>
                    <a:pt x="1593" y="282"/>
                  </a:lnTo>
                  <a:lnTo>
                    <a:pt x="1583" y="282"/>
                  </a:lnTo>
                  <a:lnTo>
                    <a:pt x="1573" y="282"/>
                  </a:lnTo>
                  <a:lnTo>
                    <a:pt x="1568" y="287"/>
                  </a:lnTo>
                  <a:lnTo>
                    <a:pt x="1558" y="287"/>
                  </a:lnTo>
                  <a:lnTo>
                    <a:pt x="1553" y="292"/>
                  </a:lnTo>
                  <a:lnTo>
                    <a:pt x="1548" y="297"/>
                  </a:lnTo>
                  <a:lnTo>
                    <a:pt x="1543" y="302"/>
                  </a:lnTo>
                  <a:lnTo>
                    <a:pt x="1533" y="302"/>
                  </a:lnTo>
                  <a:lnTo>
                    <a:pt x="1523" y="302"/>
                  </a:lnTo>
                  <a:lnTo>
                    <a:pt x="1518" y="307"/>
                  </a:lnTo>
                  <a:lnTo>
                    <a:pt x="1508" y="302"/>
                  </a:lnTo>
                  <a:lnTo>
                    <a:pt x="1499" y="302"/>
                  </a:lnTo>
                  <a:lnTo>
                    <a:pt x="1489" y="307"/>
                  </a:lnTo>
                  <a:lnTo>
                    <a:pt x="1484" y="307"/>
                  </a:lnTo>
                  <a:lnTo>
                    <a:pt x="1479" y="312"/>
                  </a:lnTo>
                  <a:lnTo>
                    <a:pt x="1474" y="317"/>
                  </a:lnTo>
                  <a:lnTo>
                    <a:pt x="1469" y="322"/>
                  </a:lnTo>
                  <a:lnTo>
                    <a:pt x="1459" y="322"/>
                  </a:lnTo>
                  <a:lnTo>
                    <a:pt x="1449" y="322"/>
                  </a:lnTo>
                  <a:lnTo>
                    <a:pt x="1444" y="322"/>
                  </a:lnTo>
                  <a:lnTo>
                    <a:pt x="1434" y="322"/>
                  </a:lnTo>
                  <a:lnTo>
                    <a:pt x="1424" y="317"/>
                  </a:lnTo>
                  <a:lnTo>
                    <a:pt x="1419" y="317"/>
                  </a:lnTo>
                  <a:lnTo>
                    <a:pt x="1410" y="317"/>
                  </a:lnTo>
                  <a:lnTo>
                    <a:pt x="1400" y="317"/>
                  </a:lnTo>
                  <a:lnTo>
                    <a:pt x="1390" y="312"/>
                  </a:lnTo>
                  <a:lnTo>
                    <a:pt x="1385" y="312"/>
                  </a:lnTo>
                  <a:lnTo>
                    <a:pt x="1375" y="317"/>
                  </a:lnTo>
                  <a:lnTo>
                    <a:pt x="1370" y="322"/>
                  </a:lnTo>
                  <a:lnTo>
                    <a:pt x="1365" y="327"/>
                  </a:lnTo>
                  <a:lnTo>
                    <a:pt x="1360" y="327"/>
                  </a:lnTo>
                  <a:lnTo>
                    <a:pt x="1350" y="331"/>
                  </a:lnTo>
                  <a:lnTo>
                    <a:pt x="1345" y="336"/>
                  </a:lnTo>
                  <a:lnTo>
                    <a:pt x="1335" y="336"/>
                  </a:lnTo>
                  <a:lnTo>
                    <a:pt x="1326" y="336"/>
                  </a:lnTo>
                  <a:lnTo>
                    <a:pt x="1321" y="336"/>
                  </a:lnTo>
                  <a:lnTo>
                    <a:pt x="1311" y="336"/>
                  </a:lnTo>
                  <a:lnTo>
                    <a:pt x="1301" y="341"/>
                  </a:lnTo>
                  <a:lnTo>
                    <a:pt x="1296" y="346"/>
                  </a:lnTo>
                  <a:lnTo>
                    <a:pt x="1291" y="346"/>
                  </a:lnTo>
                  <a:lnTo>
                    <a:pt x="1286" y="351"/>
                  </a:lnTo>
                  <a:lnTo>
                    <a:pt x="1276" y="351"/>
                  </a:lnTo>
                  <a:lnTo>
                    <a:pt x="1266" y="356"/>
                  </a:lnTo>
                  <a:lnTo>
                    <a:pt x="1256" y="356"/>
                  </a:lnTo>
                  <a:lnTo>
                    <a:pt x="1251" y="356"/>
                  </a:lnTo>
                  <a:lnTo>
                    <a:pt x="1246" y="351"/>
                  </a:lnTo>
                  <a:lnTo>
                    <a:pt x="1236" y="346"/>
                  </a:lnTo>
                  <a:lnTo>
                    <a:pt x="1232" y="341"/>
                  </a:lnTo>
                  <a:lnTo>
                    <a:pt x="1222" y="341"/>
                  </a:lnTo>
                  <a:lnTo>
                    <a:pt x="1217" y="346"/>
                  </a:lnTo>
                  <a:lnTo>
                    <a:pt x="1212" y="351"/>
                  </a:lnTo>
                  <a:lnTo>
                    <a:pt x="1207" y="361"/>
                  </a:lnTo>
                  <a:lnTo>
                    <a:pt x="1202" y="366"/>
                  </a:lnTo>
                  <a:lnTo>
                    <a:pt x="1197" y="366"/>
                  </a:lnTo>
                  <a:lnTo>
                    <a:pt x="1192" y="366"/>
                  </a:lnTo>
                  <a:lnTo>
                    <a:pt x="1187" y="361"/>
                  </a:lnTo>
                  <a:lnTo>
                    <a:pt x="1187" y="356"/>
                  </a:lnTo>
                  <a:lnTo>
                    <a:pt x="1182" y="351"/>
                  </a:lnTo>
                  <a:lnTo>
                    <a:pt x="1182" y="341"/>
                  </a:lnTo>
                  <a:lnTo>
                    <a:pt x="1187" y="336"/>
                  </a:lnTo>
                  <a:lnTo>
                    <a:pt x="1187" y="331"/>
                  </a:lnTo>
                  <a:lnTo>
                    <a:pt x="1187" y="327"/>
                  </a:lnTo>
                  <a:lnTo>
                    <a:pt x="1187" y="322"/>
                  </a:lnTo>
                  <a:lnTo>
                    <a:pt x="1182" y="317"/>
                  </a:lnTo>
                  <a:lnTo>
                    <a:pt x="1172" y="312"/>
                  </a:lnTo>
                  <a:lnTo>
                    <a:pt x="1167" y="317"/>
                  </a:lnTo>
                  <a:lnTo>
                    <a:pt x="1162" y="317"/>
                  </a:lnTo>
                  <a:lnTo>
                    <a:pt x="1157" y="327"/>
                  </a:lnTo>
                  <a:lnTo>
                    <a:pt x="1152" y="331"/>
                  </a:lnTo>
                  <a:lnTo>
                    <a:pt x="1152" y="336"/>
                  </a:lnTo>
                  <a:lnTo>
                    <a:pt x="1147" y="341"/>
                  </a:lnTo>
                  <a:lnTo>
                    <a:pt x="1147" y="346"/>
                  </a:lnTo>
                  <a:lnTo>
                    <a:pt x="1143" y="351"/>
                  </a:lnTo>
                  <a:lnTo>
                    <a:pt x="1138" y="356"/>
                  </a:lnTo>
                  <a:lnTo>
                    <a:pt x="1133" y="356"/>
                  </a:lnTo>
                  <a:lnTo>
                    <a:pt x="1128" y="361"/>
                  </a:lnTo>
                  <a:lnTo>
                    <a:pt x="1123" y="366"/>
                  </a:lnTo>
                  <a:lnTo>
                    <a:pt x="1118" y="371"/>
                  </a:lnTo>
                  <a:lnTo>
                    <a:pt x="1118" y="376"/>
                  </a:lnTo>
                  <a:lnTo>
                    <a:pt x="1113" y="381"/>
                  </a:lnTo>
                  <a:lnTo>
                    <a:pt x="1108" y="386"/>
                  </a:lnTo>
                  <a:lnTo>
                    <a:pt x="1103" y="391"/>
                  </a:lnTo>
                  <a:lnTo>
                    <a:pt x="1098" y="396"/>
                  </a:lnTo>
                  <a:lnTo>
                    <a:pt x="1093" y="401"/>
                  </a:lnTo>
                  <a:lnTo>
                    <a:pt x="1088" y="401"/>
                  </a:lnTo>
                  <a:close/>
                  <a:moveTo>
                    <a:pt x="1162" y="401"/>
                  </a:moveTo>
                  <a:lnTo>
                    <a:pt x="1162" y="391"/>
                  </a:lnTo>
                  <a:lnTo>
                    <a:pt x="1167" y="386"/>
                  </a:lnTo>
                  <a:lnTo>
                    <a:pt x="1172" y="386"/>
                  </a:lnTo>
                  <a:lnTo>
                    <a:pt x="1172" y="386"/>
                  </a:lnTo>
                  <a:lnTo>
                    <a:pt x="1177" y="396"/>
                  </a:lnTo>
                  <a:lnTo>
                    <a:pt x="1182" y="401"/>
                  </a:lnTo>
                  <a:lnTo>
                    <a:pt x="1182" y="406"/>
                  </a:lnTo>
                  <a:lnTo>
                    <a:pt x="1177" y="416"/>
                  </a:lnTo>
                  <a:lnTo>
                    <a:pt x="1172" y="420"/>
                  </a:lnTo>
                  <a:lnTo>
                    <a:pt x="1172" y="420"/>
                  </a:lnTo>
                  <a:lnTo>
                    <a:pt x="1167" y="420"/>
                  </a:lnTo>
                  <a:lnTo>
                    <a:pt x="1167" y="416"/>
                  </a:lnTo>
                  <a:lnTo>
                    <a:pt x="1162" y="411"/>
                  </a:lnTo>
                  <a:lnTo>
                    <a:pt x="1162" y="401"/>
                  </a:lnTo>
                  <a:close/>
                  <a:moveTo>
                    <a:pt x="1222" y="292"/>
                  </a:moveTo>
                  <a:lnTo>
                    <a:pt x="1222" y="292"/>
                  </a:lnTo>
                  <a:lnTo>
                    <a:pt x="1222" y="292"/>
                  </a:lnTo>
                  <a:lnTo>
                    <a:pt x="1222" y="292"/>
                  </a:lnTo>
                  <a:lnTo>
                    <a:pt x="1222" y="292"/>
                  </a:lnTo>
                  <a:lnTo>
                    <a:pt x="1222" y="292"/>
                  </a:lnTo>
                  <a:lnTo>
                    <a:pt x="1222" y="292"/>
                  </a:lnTo>
                  <a:lnTo>
                    <a:pt x="1222" y="292"/>
                  </a:lnTo>
                  <a:lnTo>
                    <a:pt x="1222" y="292"/>
                  </a:lnTo>
                  <a:lnTo>
                    <a:pt x="1222" y="292"/>
                  </a:lnTo>
                  <a:lnTo>
                    <a:pt x="1222" y="292"/>
                  </a:lnTo>
                  <a:lnTo>
                    <a:pt x="1222" y="292"/>
                  </a:lnTo>
                  <a:lnTo>
                    <a:pt x="1222" y="292"/>
                  </a:lnTo>
                  <a:lnTo>
                    <a:pt x="1222" y="292"/>
                  </a:lnTo>
                  <a:lnTo>
                    <a:pt x="1222" y="292"/>
                  </a:lnTo>
                  <a:close/>
                  <a:moveTo>
                    <a:pt x="1444" y="292"/>
                  </a:moveTo>
                  <a:lnTo>
                    <a:pt x="1439" y="292"/>
                  </a:lnTo>
                  <a:lnTo>
                    <a:pt x="1434" y="292"/>
                  </a:lnTo>
                  <a:lnTo>
                    <a:pt x="1429" y="297"/>
                  </a:lnTo>
                  <a:lnTo>
                    <a:pt x="1429" y="302"/>
                  </a:lnTo>
                  <a:lnTo>
                    <a:pt x="1429" y="312"/>
                  </a:lnTo>
                  <a:lnTo>
                    <a:pt x="1434" y="317"/>
                  </a:lnTo>
                  <a:lnTo>
                    <a:pt x="1434" y="317"/>
                  </a:lnTo>
                  <a:lnTo>
                    <a:pt x="1434" y="322"/>
                  </a:lnTo>
                  <a:lnTo>
                    <a:pt x="1439" y="322"/>
                  </a:lnTo>
                  <a:lnTo>
                    <a:pt x="1439" y="317"/>
                  </a:lnTo>
                  <a:lnTo>
                    <a:pt x="1439" y="312"/>
                  </a:lnTo>
                  <a:lnTo>
                    <a:pt x="1439" y="307"/>
                  </a:lnTo>
                  <a:lnTo>
                    <a:pt x="1444" y="302"/>
                  </a:lnTo>
                  <a:lnTo>
                    <a:pt x="1444" y="292"/>
                  </a:lnTo>
                  <a:close/>
                  <a:moveTo>
                    <a:pt x="1182" y="267"/>
                  </a:moveTo>
                  <a:lnTo>
                    <a:pt x="1182" y="257"/>
                  </a:lnTo>
                  <a:lnTo>
                    <a:pt x="1182" y="252"/>
                  </a:lnTo>
                  <a:lnTo>
                    <a:pt x="1177" y="247"/>
                  </a:lnTo>
                  <a:lnTo>
                    <a:pt x="1172" y="247"/>
                  </a:lnTo>
                  <a:lnTo>
                    <a:pt x="1167" y="247"/>
                  </a:lnTo>
                  <a:lnTo>
                    <a:pt x="1157" y="247"/>
                  </a:lnTo>
                  <a:lnTo>
                    <a:pt x="1152" y="247"/>
                  </a:lnTo>
                  <a:lnTo>
                    <a:pt x="1147" y="252"/>
                  </a:lnTo>
                  <a:lnTo>
                    <a:pt x="1143" y="257"/>
                  </a:lnTo>
                  <a:lnTo>
                    <a:pt x="1143" y="262"/>
                  </a:lnTo>
                  <a:lnTo>
                    <a:pt x="1143" y="267"/>
                  </a:lnTo>
                  <a:lnTo>
                    <a:pt x="1143" y="272"/>
                  </a:lnTo>
                  <a:lnTo>
                    <a:pt x="1143" y="282"/>
                  </a:lnTo>
                  <a:lnTo>
                    <a:pt x="1143" y="282"/>
                  </a:lnTo>
                  <a:lnTo>
                    <a:pt x="1147" y="282"/>
                  </a:lnTo>
                  <a:lnTo>
                    <a:pt x="1157" y="282"/>
                  </a:lnTo>
                  <a:lnTo>
                    <a:pt x="1167" y="277"/>
                  </a:lnTo>
                  <a:lnTo>
                    <a:pt x="1172" y="272"/>
                  </a:lnTo>
                  <a:lnTo>
                    <a:pt x="1177" y="267"/>
                  </a:lnTo>
                  <a:lnTo>
                    <a:pt x="1182" y="267"/>
                  </a:lnTo>
                  <a:close/>
                  <a:moveTo>
                    <a:pt x="2003" y="267"/>
                  </a:moveTo>
                  <a:lnTo>
                    <a:pt x="1998" y="262"/>
                  </a:lnTo>
                  <a:lnTo>
                    <a:pt x="1998" y="262"/>
                  </a:lnTo>
                  <a:lnTo>
                    <a:pt x="1993" y="262"/>
                  </a:lnTo>
                  <a:lnTo>
                    <a:pt x="1988" y="262"/>
                  </a:lnTo>
                  <a:lnTo>
                    <a:pt x="1988" y="267"/>
                  </a:lnTo>
                  <a:lnTo>
                    <a:pt x="1988" y="272"/>
                  </a:lnTo>
                  <a:lnTo>
                    <a:pt x="1988" y="277"/>
                  </a:lnTo>
                  <a:lnTo>
                    <a:pt x="1993" y="277"/>
                  </a:lnTo>
                  <a:lnTo>
                    <a:pt x="1993" y="282"/>
                  </a:lnTo>
                  <a:lnTo>
                    <a:pt x="1998" y="282"/>
                  </a:lnTo>
                  <a:lnTo>
                    <a:pt x="1998" y="277"/>
                  </a:lnTo>
                  <a:lnTo>
                    <a:pt x="1998" y="277"/>
                  </a:lnTo>
                  <a:lnTo>
                    <a:pt x="2003" y="272"/>
                  </a:lnTo>
                  <a:lnTo>
                    <a:pt x="2003" y="267"/>
                  </a:lnTo>
                  <a:close/>
                  <a:moveTo>
                    <a:pt x="1944" y="238"/>
                  </a:moveTo>
                  <a:lnTo>
                    <a:pt x="1944" y="238"/>
                  </a:lnTo>
                  <a:lnTo>
                    <a:pt x="1944" y="238"/>
                  </a:lnTo>
                  <a:lnTo>
                    <a:pt x="1944" y="238"/>
                  </a:lnTo>
                  <a:lnTo>
                    <a:pt x="1939" y="238"/>
                  </a:lnTo>
                  <a:lnTo>
                    <a:pt x="1939" y="238"/>
                  </a:lnTo>
                  <a:lnTo>
                    <a:pt x="1939" y="243"/>
                  </a:lnTo>
                  <a:lnTo>
                    <a:pt x="1939" y="243"/>
                  </a:lnTo>
                  <a:lnTo>
                    <a:pt x="1939" y="243"/>
                  </a:lnTo>
                  <a:lnTo>
                    <a:pt x="1939" y="243"/>
                  </a:lnTo>
                  <a:lnTo>
                    <a:pt x="1944" y="243"/>
                  </a:lnTo>
                  <a:lnTo>
                    <a:pt x="1944" y="243"/>
                  </a:lnTo>
                  <a:lnTo>
                    <a:pt x="1944" y="243"/>
                  </a:lnTo>
                  <a:lnTo>
                    <a:pt x="1944" y="243"/>
                  </a:lnTo>
                  <a:lnTo>
                    <a:pt x="1944" y="238"/>
                  </a:lnTo>
                  <a:close/>
                  <a:moveTo>
                    <a:pt x="2146" y="238"/>
                  </a:moveTo>
                  <a:lnTo>
                    <a:pt x="2151" y="238"/>
                  </a:lnTo>
                  <a:lnTo>
                    <a:pt x="2156" y="233"/>
                  </a:lnTo>
                  <a:lnTo>
                    <a:pt x="2161" y="228"/>
                  </a:lnTo>
                  <a:lnTo>
                    <a:pt x="2166" y="223"/>
                  </a:lnTo>
                  <a:lnTo>
                    <a:pt x="2166" y="218"/>
                  </a:lnTo>
                  <a:lnTo>
                    <a:pt x="2171" y="213"/>
                  </a:lnTo>
                  <a:lnTo>
                    <a:pt x="2176" y="203"/>
                  </a:lnTo>
                  <a:lnTo>
                    <a:pt x="2181" y="198"/>
                  </a:lnTo>
                  <a:lnTo>
                    <a:pt x="2181" y="198"/>
                  </a:lnTo>
                  <a:lnTo>
                    <a:pt x="2186" y="203"/>
                  </a:lnTo>
                  <a:lnTo>
                    <a:pt x="2191" y="213"/>
                  </a:lnTo>
                  <a:lnTo>
                    <a:pt x="2191" y="218"/>
                  </a:lnTo>
                  <a:lnTo>
                    <a:pt x="2191" y="223"/>
                  </a:lnTo>
                  <a:lnTo>
                    <a:pt x="2186" y="228"/>
                  </a:lnTo>
                  <a:lnTo>
                    <a:pt x="2181" y="233"/>
                  </a:lnTo>
                  <a:lnTo>
                    <a:pt x="2176" y="238"/>
                  </a:lnTo>
                  <a:lnTo>
                    <a:pt x="2171" y="238"/>
                  </a:lnTo>
                  <a:lnTo>
                    <a:pt x="2166" y="247"/>
                  </a:lnTo>
                  <a:lnTo>
                    <a:pt x="2161" y="252"/>
                  </a:lnTo>
                  <a:lnTo>
                    <a:pt x="2156" y="257"/>
                  </a:lnTo>
                  <a:lnTo>
                    <a:pt x="2156" y="262"/>
                  </a:lnTo>
                  <a:lnTo>
                    <a:pt x="2151" y="262"/>
                  </a:lnTo>
                  <a:lnTo>
                    <a:pt x="2151" y="262"/>
                  </a:lnTo>
                  <a:lnTo>
                    <a:pt x="2151" y="257"/>
                  </a:lnTo>
                  <a:lnTo>
                    <a:pt x="2146" y="247"/>
                  </a:lnTo>
                  <a:lnTo>
                    <a:pt x="2146" y="238"/>
                  </a:lnTo>
                  <a:close/>
                  <a:moveTo>
                    <a:pt x="1914" y="213"/>
                  </a:moveTo>
                  <a:lnTo>
                    <a:pt x="1914" y="213"/>
                  </a:lnTo>
                  <a:lnTo>
                    <a:pt x="1909" y="208"/>
                  </a:lnTo>
                  <a:lnTo>
                    <a:pt x="1904" y="208"/>
                  </a:lnTo>
                  <a:lnTo>
                    <a:pt x="1899" y="208"/>
                  </a:lnTo>
                  <a:lnTo>
                    <a:pt x="1894" y="213"/>
                  </a:lnTo>
                  <a:lnTo>
                    <a:pt x="1894" y="213"/>
                  </a:lnTo>
                  <a:lnTo>
                    <a:pt x="1889" y="213"/>
                  </a:lnTo>
                  <a:lnTo>
                    <a:pt x="1894" y="213"/>
                  </a:lnTo>
                  <a:lnTo>
                    <a:pt x="1894" y="213"/>
                  </a:lnTo>
                  <a:lnTo>
                    <a:pt x="1899" y="218"/>
                  </a:lnTo>
                  <a:lnTo>
                    <a:pt x="1904" y="218"/>
                  </a:lnTo>
                  <a:lnTo>
                    <a:pt x="1909" y="218"/>
                  </a:lnTo>
                  <a:lnTo>
                    <a:pt x="1914" y="213"/>
                  </a:lnTo>
                  <a:lnTo>
                    <a:pt x="1914" y="213"/>
                  </a:lnTo>
                  <a:close/>
                  <a:moveTo>
                    <a:pt x="999" y="188"/>
                  </a:moveTo>
                  <a:lnTo>
                    <a:pt x="1004" y="183"/>
                  </a:lnTo>
                  <a:lnTo>
                    <a:pt x="1004" y="178"/>
                  </a:lnTo>
                  <a:lnTo>
                    <a:pt x="1009" y="178"/>
                  </a:lnTo>
                  <a:lnTo>
                    <a:pt x="1014" y="178"/>
                  </a:lnTo>
                  <a:lnTo>
                    <a:pt x="1014" y="178"/>
                  </a:lnTo>
                  <a:lnTo>
                    <a:pt x="1019" y="183"/>
                  </a:lnTo>
                  <a:lnTo>
                    <a:pt x="1019" y="188"/>
                  </a:lnTo>
                  <a:lnTo>
                    <a:pt x="1019" y="193"/>
                  </a:lnTo>
                  <a:lnTo>
                    <a:pt x="1014" y="193"/>
                  </a:lnTo>
                  <a:lnTo>
                    <a:pt x="1009" y="198"/>
                  </a:lnTo>
                  <a:lnTo>
                    <a:pt x="1009" y="198"/>
                  </a:lnTo>
                  <a:lnTo>
                    <a:pt x="1004" y="193"/>
                  </a:lnTo>
                  <a:lnTo>
                    <a:pt x="999" y="193"/>
                  </a:lnTo>
                  <a:lnTo>
                    <a:pt x="999" y="188"/>
                  </a:lnTo>
                  <a:close/>
                  <a:moveTo>
                    <a:pt x="1870" y="188"/>
                  </a:moveTo>
                  <a:lnTo>
                    <a:pt x="1865" y="183"/>
                  </a:lnTo>
                  <a:lnTo>
                    <a:pt x="1865" y="183"/>
                  </a:lnTo>
                  <a:lnTo>
                    <a:pt x="1855" y="178"/>
                  </a:lnTo>
                  <a:lnTo>
                    <a:pt x="1850" y="183"/>
                  </a:lnTo>
                  <a:lnTo>
                    <a:pt x="1845" y="183"/>
                  </a:lnTo>
                  <a:lnTo>
                    <a:pt x="1840" y="183"/>
                  </a:lnTo>
                  <a:lnTo>
                    <a:pt x="1840" y="188"/>
                  </a:lnTo>
                  <a:lnTo>
                    <a:pt x="1840" y="188"/>
                  </a:lnTo>
                  <a:lnTo>
                    <a:pt x="1845" y="193"/>
                  </a:lnTo>
                  <a:lnTo>
                    <a:pt x="1855" y="193"/>
                  </a:lnTo>
                  <a:lnTo>
                    <a:pt x="1860" y="193"/>
                  </a:lnTo>
                  <a:lnTo>
                    <a:pt x="1865" y="193"/>
                  </a:lnTo>
                  <a:lnTo>
                    <a:pt x="1865" y="188"/>
                  </a:lnTo>
                  <a:lnTo>
                    <a:pt x="1870" y="188"/>
                  </a:lnTo>
                  <a:close/>
                  <a:moveTo>
                    <a:pt x="1291" y="159"/>
                  </a:moveTo>
                  <a:lnTo>
                    <a:pt x="1296" y="154"/>
                  </a:lnTo>
                  <a:lnTo>
                    <a:pt x="1301" y="149"/>
                  </a:lnTo>
                  <a:lnTo>
                    <a:pt x="1306" y="154"/>
                  </a:lnTo>
                  <a:lnTo>
                    <a:pt x="1311" y="159"/>
                  </a:lnTo>
                  <a:lnTo>
                    <a:pt x="1311" y="163"/>
                  </a:lnTo>
                  <a:lnTo>
                    <a:pt x="1311" y="168"/>
                  </a:lnTo>
                  <a:lnTo>
                    <a:pt x="1311" y="173"/>
                  </a:lnTo>
                  <a:lnTo>
                    <a:pt x="1306" y="178"/>
                  </a:lnTo>
                  <a:lnTo>
                    <a:pt x="1306" y="183"/>
                  </a:lnTo>
                  <a:lnTo>
                    <a:pt x="1301" y="183"/>
                  </a:lnTo>
                  <a:lnTo>
                    <a:pt x="1296" y="183"/>
                  </a:lnTo>
                  <a:lnTo>
                    <a:pt x="1296" y="178"/>
                  </a:lnTo>
                  <a:lnTo>
                    <a:pt x="1296" y="168"/>
                  </a:lnTo>
                  <a:lnTo>
                    <a:pt x="1291" y="159"/>
                  </a:lnTo>
                  <a:close/>
                  <a:moveTo>
                    <a:pt x="1810" y="159"/>
                  </a:moveTo>
                  <a:lnTo>
                    <a:pt x="1810" y="159"/>
                  </a:lnTo>
                  <a:lnTo>
                    <a:pt x="1805" y="154"/>
                  </a:lnTo>
                  <a:lnTo>
                    <a:pt x="1800" y="154"/>
                  </a:lnTo>
                  <a:lnTo>
                    <a:pt x="1795" y="154"/>
                  </a:lnTo>
                  <a:lnTo>
                    <a:pt x="1790" y="159"/>
                  </a:lnTo>
                  <a:lnTo>
                    <a:pt x="1790" y="159"/>
                  </a:lnTo>
                  <a:lnTo>
                    <a:pt x="1790" y="163"/>
                  </a:lnTo>
                  <a:lnTo>
                    <a:pt x="1795" y="163"/>
                  </a:lnTo>
                  <a:lnTo>
                    <a:pt x="1800" y="168"/>
                  </a:lnTo>
                  <a:lnTo>
                    <a:pt x="1805" y="168"/>
                  </a:lnTo>
                  <a:lnTo>
                    <a:pt x="1810" y="168"/>
                  </a:lnTo>
                  <a:lnTo>
                    <a:pt x="1810" y="168"/>
                  </a:lnTo>
                  <a:lnTo>
                    <a:pt x="1810" y="163"/>
                  </a:lnTo>
                  <a:lnTo>
                    <a:pt x="1810" y="159"/>
                  </a:lnTo>
                  <a:close/>
                  <a:moveTo>
                    <a:pt x="1365" y="134"/>
                  </a:moveTo>
                  <a:lnTo>
                    <a:pt x="1370" y="124"/>
                  </a:lnTo>
                  <a:lnTo>
                    <a:pt x="1375" y="119"/>
                  </a:lnTo>
                  <a:lnTo>
                    <a:pt x="1380" y="119"/>
                  </a:lnTo>
                  <a:lnTo>
                    <a:pt x="1385" y="119"/>
                  </a:lnTo>
                  <a:lnTo>
                    <a:pt x="1390" y="119"/>
                  </a:lnTo>
                  <a:lnTo>
                    <a:pt x="1395" y="124"/>
                  </a:lnTo>
                  <a:lnTo>
                    <a:pt x="1400" y="124"/>
                  </a:lnTo>
                  <a:lnTo>
                    <a:pt x="1405" y="129"/>
                  </a:lnTo>
                  <a:lnTo>
                    <a:pt x="1410" y="134"/>
                  </a:lnTo>
                  <a:lnTo>
                    <a:pt x="1405" y="139"/>
                  </a:lnTo>
                  <a:lnTo>
                    <a:pt x="1400" y="144"/>
                  </a:lnTo>
                  <a:lnTo>
                    <a:pt x="1395" y="149"/>
                  </a:lnTo>
                  <a:lnTo>
                    <a:pt x="1390" y="154"/>
                  </a:lnTo>
                  <a:lnTo>
                    <a:pt x="1385" y="154"/>
                  </a:lnTo>
                  <a:lnTo>
                    <a:pt x="1380" y="159"/>
                  </a:lnTo>
                  <a:lnTo>
                    <a:pt x="1380" y="154"/>
                  </a:lnTo>
                  <a:lnTo>
                    <a:pt x="1375" y="154"/>
                  </a:lnTo>
                  <a:lnTo>
                    <a:pt x="1370" y="149"/>
                  </a:lnTo>
                  <a:lnTo>
                    <a:pt x="1370" y="139"/>
                  </a:lnTo>
                  <a:lnTo>
                    <a:pt x="1365" y="134"/>
                  </a:lnTo>
                  <a:close/>
                  <a:moveTo>
                    <a:pt x="1756" y="134"/>
                  </a:moveTo>
                  <a:lnTo>
                    <a:pt x="1756" y="129"/>
                  </a:lnTo>
                  <a:lnTo>
                    <a:pt x="1751" y="129"/>
                  </a:lnTo>
                  <a:lnTo>
                    <a:pt x="1746" y="129"/>
                  </a:lnTo>
                  <a:lnTo>
                    <a:pt x="1746" y="129"/>
                  </a:lnTo>
                  <a:lnTo>
                    <a:pt x="1741" y="134"/>
                  </a:lnTo>
                  <a:lnTo>
                    <a:pt x="1741" y="134"/>
                  </a:lnTo>
                  <a:lnTo>
                    <a:pt x="1746" y="139"/>
                  </a:lnTo>
                  <a:lnTo>
                    <a:pt x="1746" y="139"/>
                  </a:lnTo>
                  <a:lnTo>
                    <a:pt x="1751" y="139"/>
                  </a:lnTo>
                  <a:lnTo>
                    <a:pt x="1756" y="144"/>
                  </a:lnTo>
                  <a:lnTo>
                    <a:pt x="1756" y="139"/>
                  </a:lnTo>
                  <a:lnTo>
                    <a:pt x="1756" y="139"/>
                  </a:lnTo>
                  <a:lnTo>
                    <a:pt x="1756" y="139"/>
                  </a:lnTo>
                  <a:lnTo>
                    <a:pt x="1756" y="134"/>
                  </a:lnTo>
                  <a:close/>
                  <a:moveTo>
                    <a:pt x="1706" y="104"/>
                  </a:moveTo>
                  <a:lnTo>
                    <a:pt x="1701" y="104"/>
                  </a:lnTo>
                  <a:lnTo>
                    <a:pt x="1701" y="104"/>
                  </a:lnTo>
                  <a:lnTo>
                    <a:pt x="1696" y="104"/>
                  </a:lnTo>
                  <a:lnTo>
                    <a:pt x="1696" y="104"/>
                  </a:lnTo>
                  <a:lnTo>
                    <a:pt x="1691" y="104"/>
                  </a:lnTo>
                  <a:lnTo>
                    <a:pt x="1691" y="109"/>
                  </a:lnTo>
                  <a:lnTo>
                    <a:pt x="1696" y="109"/>
                  </a:lnTo>
                  <a:lnTo>
                    <a:pt x="1696" y="109"/>
                  </a:lnTo>
                  <a:lnTo>
                    <a:pt x="1701" y="114"/>
                  </a:lnTo>
                  <a:lnTo>
                    <a:pt x="1701" y="114"/>
                  </a:lnTo>
                  <a:lnTo>
                    <a:pt x="1701" y="114"/>
                  </a:lnTo>
                  <a:lnTo>
                    <a:pt x="1706" y="109"/>
                  </a:lnTo>
                  <a:lnTo>
                    <a:pt x="1706" y="109"/>
                  </a:lnTo>
                  <a:lnTo>
                    <a:pt x="1706" y="104"/>
                  </a:lnTo>
                  <a:close/>
                  <a:moveTo>
                    <a:pt x="2235" y="1656"/>
                  </a:moveTo>
                  <a:lnTo>
                    <a:pt x="2260" y="1631"/>
                  </a:lnTo>
                  <a:lnTo>
                    <a:pt x="2285" y="1631"/>
                  </a:lnTo>
                  <a:lnTo>
                    <a:pt x="2315" y="1631"/>
                  </a:lnTo>
                  <a:lnTo>
                    <a:pt x="2339" y="1631"/>
                  </a:lnTo>
                  <a:lnTo>
                    <a:pt x="2369" y="1631"/>
                  </a:lnTo>
                  <a:lnTo>
                    <a:pt x="2394" y="1631"/>
                  </a:lnTo>
                  <a:lnTo>
                    <a:pt x="2418" y="1631"/>
                  </a:lnTo>
                  <a:lnTo>
                    <a:pt x="2448" y="1602"/>
                  </a:lnTo>
                  <a:lnTo>
                    <a:pt x="2448" y="1577"/>
                  </a:lnTo>
                  <a:lnTo>
                    <a:pt x="2448" y="1547"/>
                  </a:lnTo>
                  <a:lnTo>
                    <a:pt x="2448" y="1523"/>
                  </a:lnTo>
                  <a:lnTo>
                    <a:pt x="2473" y="1498"/>
                  </a:lnTo>
                  <a:lnTo>
                    <a:pt x="2473" y="1468"/>
                  </a:lnTo>
                  <a:lnTo>
                    <a:pt x="2473" y="1444"/>
                  </a:lnTo>
                  <a:lnTo>
                    <a:pt x="2473" y="1414"/>
                  </a:lnTo>
                  <a:lnTo>
                    <a:pt x="2503" y="1389"/>
                  </a:lnTo>
                  <a:lnTo>
                    <a:pt x="2503" y="1364"/>
                  </a:lnTo>
                  <a:lnTo>
                    <a:pt x="2503" y="1335"/>
                  </a:lnTo>
                  <a:lnTo>
                    <a:pt x="2503" y="1310"/>
                  </a:lnTo>
                  <a:lnTo>
                    <a:pt x="2527" y="1280"/>
                  </a:lnTo>
                  <a:lnTo>
                    <a:pt x="2527" y="1256"/>
                  </a:lnTo>
                  <a:lnTo>
                    <a:pt x="2527" y="1226"/>
                  </a:lnTo>
                  <a:lnTo>
                    <a:pt x="2527" y="1201"/>
                  </a:lnTo>
                  <a:lnTo>
                    <a:pt x="2552" y="1177"/>
                  </a:lnTo>
                  <a:lnTo>
                    <a:pt x="2552" y="1147"/>
                  </a:lnTo>
                  <a:lnTo>
                    <a:pt x="2552" y="1122"/>
                  </a:lnTo>
                  <a:lnTo>
                    <a:pt x="2552" y="1093"/>
                  </a:lnTo>
                  <a:lnTo>
                    <a:pt x="2582" y="1068"/>
                  </a:lnTo>
                  <a:lnTo>
                    <a:pt x="2582" y="1043"/>
                  </a:lnTo>
                  <a:lnTo>
                    <a:pt x="2582" y="1014"/>
                  </a:lnTo>
                  <a:lnTo>
                    <a:pt x="2582" y="989"/>
                  </a:lnTo>
                  <a:lnTo>
                    <a:pt x="2582" y="959"/>
                  </a:lnTo>
                  <a:lnTo>
                    <a:pt x="2582" y="934"/>
                  </a:lnTo>
                  <a:lnTo>
                    <a:pt x="2582" y="910"/>
                  </a:lnTo>
                  <a:lnTo>
                    <a:pt x="2582" y="880"/>
                  </a:lnTo>
                  <a:lnTo>
                    <a:pt x="2582" y="855"/>
                  </a:lnTo>
                  <a:lnTo>
                    <a:pt x="2582" y="826"/>
                  </a:lnTo>
                  <a:lnTo>
                    <a:pt x="2582" y="801"/>
                  </a:lnTo>
                  <a:lnTo>
                    <a:pt x="2582" y="776"/>
                  </a:lnTo>
                  <a:lnTo>
                    <a:pt x="2582" y="747"/>
                  </a:lnTo>
                  <a:lnTo>
                    <a:pt x="2582" y="722"/>
                  </a:lnTo>
                  <a:lnTo>
                    <a:pt x="2582" y="692"/>
                  </a:lnTo>
                  <a:lnTo>
                    <a:pt x="2582" y="668"/>
                  </a:lnTo>
                  <a:lnTo>
                    <a:pt x="2582" y="643"/>
                  </a:lnTo>
                  <a:lnTo>
                    <a:pt x="2582" y="613"/>
                  </a:lnTo>
                  <a:lnTo>
                    <a:pt x="2582" y="589"/>
                  </a:lnTo>
                  <a:lnTo>
                    <a:pt x="2582" y="559"/>
                  </a:lnTo>
                  <a:lnTo>
                    <a:pt x="2582" y="534"/>
                  </a:lnTo>
                  <a:lnTo>
                    <a:pt x="2582" y="504"/>
                  </a:lnTo>
                  <a:lnTo>
                    <a:pt x="2582" y="480"/>
                  </a:lnTo>
                  <a:lnTo>
                    <a:pt x="2582" y="455"/>
                  </a:lnTo>
                  <a:lnTo>
                    <a:pt x="2582" y="425"/>
                  </a:lnTo>
                  <a:lnTo>
                    <a:pt x="2582" y="401"/>
                  </a:lnTo>
                  <a:lnTo>
                    <a:pt x="2582" y="371"/>
                  </a:lnTo>
                  <a:lnTo>
                    <a:pt x="2582" y="346"/>
                  </a:lnTo>
                  <a:lnTo>
                    <a:pt x="2582" y="322"/>
                  </a:lnTo>
                  <a:lnTo>
                    <a:pt x="2582" y="292"/>
                  </a:lnTo>
                  <a:lnTo>
                    <a:pt x="2582" y="267"/>
                  </a:lnTo>
                  <a:lnTo>
                    <a:pt x="2582" y="238"/>
                  </a:lnTo>
                  <a:lnTo>
                    <a:pt x="2552" y="213"/>
                  </a:lnTo>
                  <a:lnTo>
                    <a:pt x="2552" y="188"/>
                  </a:lnTo>
                  <a:lnTo>
                    <a:pt x="2552" y="159"/>
                  </a:lnTo>
                  <a:lnTo>
                    <a:pt x="2552" y="134"/>
                  </a:lnTo>
                  <a:lnTo>
                    <a:pt x="2552" y="104"/>
                  </a:lnTo>
                  <a:lnTo>
                    <a:pt x="2527" y="79"/>
                  </a:lnTo>
                  <a:lnTo>
                    <a:pt x="2503" y="79"/>
                  </a:lnTo>
                  <a:lnTo>
                    <a:pt x="2473" y="79"/>
                  </a:lnTo>
                  <a:lnTo>
                    <a:pt x="2448" y="55"/>
                  </a:lnTo>
                  <a:lnTo>
                    <a:pt x="2418" y="55"/>
                  </a:lnTo>
                  <a:lnTo>
                    <a:pt x="2394" y="55"/>
                  </a:lnTo>
                  <a:lnTo>
                    <a:pt x="2369" y="25"/>
                  </a:lnTo>
                  <a:lnTo>
                    <a:pt x="2339" y="25"/>
                  </a:lnTo>
                  <a:lnTo>
                    <a:pt x="2315" y="25"/>
                  </a:lnTo>
                  <a:lnTo>
                    <a:pt x="2285" y="0"/>
                  </a:lnTo>
                  <a:lnTo>
                    <a:pt x="2260" y="0"/>
                  </a:lnTo>
                  <a:lnTo>
                    <a:pt x="2235" y="0"/>
                  </a:lnTo>
                  <a:lnTo>
                    <a:pt x="2206" y="0"/>
                  </a:lnTo>
                  <a:lnTo>
                    <a:pt x="2181" y="0"/>
                  </a:lnTo>
                  <a:lnTo>
                    <a:pt x="2156" y="0"/>
                  </a:lnTo>
                  <a:lnTo>
                    <a:pt x="2127" y="0"/>
                  </a:lnTo>
                  <a:lnTo>
                    <a:pt x="2102" y="0"/>
                  </a:lnTo>
                  <a:lnTo>
                    <a:pt x="2072" y="0"/>
                  </a:lnTo>
                  <a:lnTo>
                    <a:pt x="2048" y="0"/>
                  </a:lnTo>
                  <a:lnTo>
                    <a:pt x="2023" y="0"/>
                  </a:lnTo>
                  <a:lnTo>
                    <a:pt x="1993" y="0"/>
                  </a:lnTo>
                  <a:lnTo>
                    <a:pt x="1968" y="0"/>
                  </a:lnTo>
                  <a:lnTo>
                    <a:pt x="1944" y="0"/>
                  </a:lnTo>
                  <a:lnTo>
                    <a:pt x="1914" y="0"/>
                  </a:lnTo>
                  <a:lnTo>
                    <a:pt x="1889" y="0"/>
                  </a:lnTo>
                  <a:lnTo>
                    <a:pt x="1860" y="0"/>
                  </a:lnTo>
                  <a:lnTo>
                    <a:pt x="1835" y="0"/>
                  </a:lnTo>
                  <a:lnTo>
                    <a:pt x="1810" y="0"/>
                  </a:lnTo>
                  <a:lnTo>
                    <a:pt x="1780" y="0"/>
                  </a:lnTo>
                  <a:lnTo>
                    <a:pt x="1756" y="0"/>
                  </a:lnTo>
                  <a:lnTo>
                    <a:pt x="1726" y="0"/>
                  </a:lnTo>
                  <a:lnTo>
                    <a:pt x="1701" y="0"/>
                  </a:lnTo>
                  <a:lnTo>
                    <a:pt x="1677" y="0"/>
                  </a:lnTo>
                  <a:lnTo>
                    <a:pt x="1647" y="0"/>
                  </a:lnTo>
                  <a:lnTo>
                    <a:pt x="1622" y="0"/>
                  </a:lnTo>
                  <a:lnTo>
                    <a:pt x="1598" y="0"/>
                  </a:lnTo>
                  <a:lnTo>
                    <a:pt x="1568" y="0"/>
                  </a:lnTo>
                  <a:lnTo>
                    <a:pt x="1543" y="0"/>
                  </a:lnTo>
                  <a:lnTo>
                    <a:pt x="1513" y="0"/>
                  </a:lnTo>
                  <a:lnTo>
                    <a:pt x="1489" y="0"/>
                  </a:lnTo>
                  <a:lnTo>
                    <a:pt x="1464" y="0"/>
                  </a:lnTo>
                  <a:lnTo>
                    <a:pt x="1434" y="0"/>
                  </a:lnTo>
                  <a:lnTo>
                    <a:pt x="1410" y="0"/>
                  </a:lnTo>
                  <a:lnTo>
                    <a:pt x="1385" y="0"/>
                  </a:lnTo>
                  <a:lnTo>
                    <a:pt x="1355" y="0"/>
                  </a:lnTo>
                  <a:lnTo>
                    <a:pt x="1330" y="0"/>
                  </a:lnTo>
                  <a:lnTo>
                    <a:pt x="1301" y="0"/>
                  </a:lnTo>
                  <a:lnTo>
                    <a:pt x="1276" y="0"/>
                  </a:lnTo>
                  <a:lnTo>
                    <a:pt x="1251" y="0"/>
                  </a:lnTo>
                  <a:lnTo>
                    <a:pt x="1222" y="0"/>
                  </a:lnTo>
                  <a:lnTo>
                    <a:pt x="1197" y="0"/>
                  </a:lnTo>
                  <a:lnTo>
                    <a:pt x="1172" y="0"/>
                  </a:lnTo>
                  <a:lnTo>
                    <a:pt x="1143" y="0"/>
                  </a:lnTo>
                  <a:lnTo>
                    <a:pt x="1118" y="0"/>
                  </a:lnTo>
                  <a:lnTo>
                    <a:pt x="1088" y="0"/>
                  </a:lnTo>
                  <a:lnTo>
                    <a:pt x="1063" y="0"/>
                  </a:lnTo>
                  <a:lnTo>
                    <a:pt x="1039" y="0"/>
                  </a:lnTo>
                  <a:lnTo>
                    <a:pt x="1009" y="0"/>
                  </a:lnTo>
                  <a:lnTo>
                    <a:pt x="984" y="0"/>
                  </a:lnTo>
                  <a:lnTo>
                    <a:pt x="955" y="0"/>
                  </a:lnTo>
                  <a:lnTo>
                    <a:pt x="930" y="0"/>
                  </a:lnTo>
                  <a:lnTo>
                    <a:pt x="905" y="0"/>
                  </a:lnTo>
                  <a:lnTo>
                    <a:pt x="875" y="0"/>
                  </a:lnTo>
                  <a:lnTo>
                    <a:pt x="851" y="0"/>
                  </a:lnTo>
                  <a:lnTo>
                    <a:pt x="826" y="0"/>
                  </a:lnTo>
                  <a:lnTo>
                    <a:pt x="796" y="0"/>
                  </a:lnTo>
                  <a:lnTo>
                    <a:pt x="772" y="0"/>
                  </a:lnTo>
                  <a:lnTo>
                    <a:pt x="742" y="0"/>
                  </a:lnTo>
                  <a:lnTo>
                    <a:pt x="717" y="0"/>
                  </a:lnTo>
                  <a:lnTo>
                    <a:pt x="692" y="0"/>
                  </a:lnTo>
                  <a:lnTo>
                    <a:pt x="663" y="0"/>
                  </a:lnTo>
                  <a:lnTo>
                    <a:pt x="638" y="0"/>
                  </a:lnTo>
                  <a:lnTo>
                    <a:pt x="613" y="0"/>
                  </a:lnTo>
                  <a:lnTo>
                    <a:pt x="584" y="25"/>
                  </a:lnTo>
                  <a:lnTo>
                    <a:pt x="559" y="55"/>
                  </a:lnTo>
                  <a:lnTo>
                    <a:pt x="529" y="79"/>
                  </a:lnTo>
                  <a:lnTo>
                    <a:pt x="505" y="104"/>
                  </a:lnTo>
                  <a:lnTo>
                    <a:pt x="480" y="134"/>
                  </a:lnTo>
                  <a:lnTo>
                    <a:pt x="450" y="134"/>
                  </a:lnTo>
                  <a:lnTo>
                    <a:pt x="425" y="159"/>
                  </a:lnTo>
                  <a:lnTo>
                    <a:pt x="396" y="188"/>
                  </a:lnTo>
                  <a:lnTo>
                    <a:pt x="371" y="213"/>
                  </a:lnTo>
                  <a:lnTo>
                    <a:pt x="346" y="238"/>
                  </a:lnTo>
                  <a:lnTo>
                    <a:pt x="317" y="267"/>
                  </a:lnTo>
                  <a:lnTo>
                    <a:pt x="292" y="292"/>
                  </a:lnTo>
                  <a:lnTo>
                    <a:pt x="267" y="322"/>
                  </a:lnTo>
                  <a:lnTo>
                    <a:pt x="237" y="322"/>
                  </a:lnTo>
                  <a:lnTo>
                    <a:pt x="213" y="346"/>
                  </a:lnTo>
                  <a:lnTo>
                    <a:pt x="183" y="371"/>
                  </a:lnTo>
                  <a:lnTo>
                    <a:pt x="158" y="401"/>
                  </a:lnTo>
                  <a:lnTo>
                    <a:pt x="134" y="425"/>
                  </a:lnTo>
                  <a:lnTo>
                    <a:pt x="104" y="455"/>
                  </a:lnTo>
                  <a:lnTo>
                    <a:pt x="79" y="480"/>
                  </a:lnTo>
                  <a:lnTo>
                    <a:pt x="55" y="504"/>
                  </a:lnTo>
                  <a:lnTo>
                    <a:pt x="25" y="504"/>
                  </a:lnTo>
                  <a:lnTo>
                    <a:pt x="0" y="534"/>
                  </a:lnTo>
                  <a:lnTo>
                    <a:pt x="0" y="559"/>
                  </a:lnTo>
                  <a:lnTo>
                    <a:pt x="0" y="589"/>
                  </a:lnTo>
                  <a:lnTo>
                    <a:pt x="0" y="613"/>
                  </a:lnTo>
                  <a:lnTo>
                    <a:pt x="25" y="643"/>
                  </a:lnTo>
                  <a:lnTo>
                    <a:pt x="25" y="668"/>
                  </a:lnTo>
                  <a:lnTo>
                    <a:pt x="55" y="692"/>
                  </a:lnTo>
                  <a:lnTo>
                    <a:pt x="79" y="722"/>
                  </a:lnTo>
                  <a:lnTo>
                    <a:pt x="104" y="747"/>
                  </a:lnTo>
                  <a:lnTo>
                    <a:pt x="134" y="776"/>
                  </a:lnTo>
                  <a:lnTo>
                    <a:pt x="134" y="801"/>
                  </a:lnTo>
                  <a:lnTo>
                    <a:pt x="158" y="826"/>
                  </a:lnTo>
                  <a:lnTo>
                    <a:pt x="183" y="855"/>
                  </a:lnTo>
                  <a:lnTo>
                    <a:pt x="213" y="880"/>
                  </a:lnTo>
                  <a:lnTo>
                    <a:pt x="237" y="910"/>
                  </a:lnTo>
                  <a:lnTo>
                    <a:pt x="267" y="934"/>
                  </a:lnTo>
                  <a:lnTo>
                    <a:pt x="292" y="959"/>
                  </a:lnTo>
                  <a:lnTo>
                    <a:pt x="292" y="989"/>
                  </a:lnTo>
                  <a:lnTo>
                    <a:pt x="317" y="1014"/>
                  </a:lnTo>
                  <a:lnTo>
                    <a:pt x="346" y="1043"/>
                  </a:lnTo>
                  <a:lnTo>
                    <a:pt x="371" y="1068"/>
                  </a:lnTo>
                  <a:lnTo>
                    <a:pt x="396" y="1093"/>
                  </a:lnTo>
                  <a:lnTo>
                    <a:pt x="425" y="1122"/>
                  </a:lnTo>
                  <a:lnTo>
                    <a:pt x="450" y="1147"/>
                  </a:lnTo>
                  <a:lnTo>
                    <a:pt x="480" y="1177"/>
                  </a:lnTo>
                  <a:lnTo>
                    <a:pt x="505" y="1201"/>
                  </a:lnTo>
                  <a:lnTo>
                    <a:pt x="529" y="1226"/>
                  </a:lnTo>
                  <a:lnTo>
                    <a:pt x="559" y="1256"/>
                  </a:lnTo>
                  <a:lnTo>
                    <a:pt x="584" y="1280"/>
                  </a:lnTo>
                  <a:lnTo>
                    <a:pt x="613" y="1310"/>
                  </a:lnTo>
                  <a:lnTo>
                    <a:pt x="638" y="1335"/>
                  </a:lnTo>
                  <a:lnTo>
                    <a:pt x="663" y="1364"/>
                  </a:lnTo>
                  <a:lnTo>
                    <a:pt x="692" y="1389"/>
                  </a:lnTo>
                  <a:lnTo>
                    <a:pt x="717" y="1414"/>
                  </a:lnTo>
                  <a:lnTo>
                    <a:pt x="742" y="1444"/>
                  </a:lnTo>
                  <a:lnTo>
                    <a:pt x="772" y="1468"/>
                  </a:lnTo>
                  <a:lnTo>
                    <a:pt x="796" y="1468"/>
                  </a:lnTo>
                  <a:lnTo>
                    <a:pt x="826" y="1498"/>
                  </a:lnTo>
                  <a:lnTo>
                    <a:pt x="851" y="1523"/>
                  </a:lnTo>
                  <a:lnTo>
                    <a:pt x="875" y="1547"/>
                  </a:lnTo>
                  <a:lnTo>
                    <a:pt x="905" y="1577"/>
                  </a:lnTo>
                  <a:lnTo>
                    <a:pt x="930" y="1602"/>
                  </a:lnTo>
                  <a:lnTo>
                    <a:pt x="955" y="1631"/>
                  </a:lnTo>
                  <a:lnTo>
                    <a:pt x="984" y="1656"/>
                  </a:lnTo>
                  <a:lnTo>
                    <a:pt x="1009" y="1656"/>
                  </a:lnTo>
                  <a:lnTo>
                    <a:pt x="1039" y="1656"/>
                  </a:lnTo>
                  <a:lnTo>
                    <a:pt x="1063" y="1656"/>
                  </a:lnTo>
                  <a:lnTo>
                    <a:pt x="1088" y="1656"/>
                  </a:lnTo>
                  <a:lnTo>
                    <a:pt x="1118" y="1656"/>
                  </a:lnTo>
                  <a:lnTo>
                    <a:pt x="1143" y="1656"/>
                  </a:lnTo>
                  <a:lnTo>
                    <a:pt x="1172" y="1656"/>
                  </a:lnTo>
                  <a:lnTo>
                    <a:pt x="1197" y="1656"/>
                  </a:lnTo>
                  <a:lnTo>
                    <a:pt x="1222" y="1656"/>
                  </a:lnTo>
                  <a:lnTo>
                    <a:pt x="1251" y="1656"/>
                  </a:lnTo>
                  <a:lnTo>
                    <a:pt x="1276" y="1656"/>
                  </a:lnTo>
                  <a:lnTo>
                    <a:pt x="1301" y="1656"/>
                  </a:lnTo>
                  <a:lnTo>
                    <a:pt x="1330" y="1656"/>
                  </a:lnTo>
                  <a:lnTo>
                    <a:pt x="1355" y="1656"/>
                  </a:lnTo>
                  <a:lnTo>
                    <a:pt x="1385" y="1656"/>
                  </a:lnTo>
                  <a:lnTo>
                    <a:pt x="1410" y="1656"/>
                  </a:lnTo>
                  <a:lnTo>
                    <a:pt x="1434" y="1656"/>
                  </a:lnTo>
                  <a:lnTo>
                    <a:pt x="1464" y="1656"/>
                  </a:lnTo>
                  <a:lnTo>
                    <a:pt x="1489" y="1656"/>
                  </a:lnTo>
                  <a:lnTo>
                    <a:pt x="1513" y="1656"/>
                  </a:lnTo>
                  <a:lnTo>
                    <a:pt x="1543" y="1656"/>
                  </a:lnTo>
                  <a:lnTo>
                    <a:pt x="1568" y="1656"/>
                  </a:lnTo>
                  <a:lnTo>
                    <a:pt x="1598" y="1656"/>
                  </a:lnTo>
                  <a:lnTo>
                    <a:pt x="1622" y="1656"/>
                  </a:lnTo>
                  <a:lnTo>
                    <a:pt x="1647" y="1656"/>
                  </a:lnTo>
                  <a:lnTo>
                    <a:pt x="1677" y="1656"/>
                  </a:lnTo>
                  <a:lnTo>
                    <a:pt x="1701" y="1656"/>
                  </a:lnTo>
                  <a:lnTo>
                    <a:pt x="1726" y="1656"/>
                  </a:lnTo>
                  <a:lnTo>
                    <a:pt x="1756" y="1656"/>
                  </a:lnTo>
                  <a:lnTo>
                    <a:pt x="1780" y="1656"/>
                  </a:lnTo>
                  <a:lnTo>
                    <a:pt x="1810" y="1656"/>
                  </a:lnTo>
                  <a:lnTo>
                    <a:pt x="1835" y="1656"/>
                  </a:lnTo>
                  <a:lnTo>
                    <a:pt x="1860" y="1656"/>
                  </a:lnTo>
                  <a:lnTo>
                    <a:pt x="1889" y="1656"/>
                  </a:lnTo>
                  <a:lnTo>
                    <a:pt x="1914" y="1656"/>
                  </a:lnTo>
                  <a:lnTo>
                    <a:pt x="1944" y="1656"/>
                  </a:lnTo>
                  <a:lnTo>
                    <a:pt x="1968" y="1656"/>
                  </a:lnTo>
                  <a:lnTo>
                    <a:pt x="1993" y="1656"/>
                  </a:lnTo>
                  <a:lnTo>
                    <a:pt x="2023" y="1656"/>
                  </a:lnTo>
                  <a:lnTo>
                    <a:pt x="2048" y="1656"/>
                  </a:lnTo>
                  <a:lnTo>
                    <a:pt x="2072" y="1656"/>
                  </a:lnTo>
                  <a:lnTo>
                    <a:pt x="2102" y="1656"/>
                  </a:lnTo>
                  <a:lnTo>
                    <a:pt x="2127" y="1656"/>
                  </a:lnTo>
                  <a:lnTo>
                    <a:pt x="2156" y="1656"/>
                  </a:lnTo>
                  <a:lnTo>
                    <a:pt x="2181" y="1656"/>
                  </a:lnTo>
                  <a:lnTo>
                    <a:pt x="2206" y="1656"/>
                  </a:lnTo>
                  <a:lnTo>
                    <a:pt x="2235" y="1656"/>
                  </a:lnTo>
                  <a:close/>
                </a:path>
              </a:pathLst>
            </a:custGeom>
            <a:solidFill>
              <a:srgbClr val="00c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1" name=""/>
            <p:cNvSpPr/>
            <p:nvPr/>
          </p:nvSpPr>
          <p:spPr>
            <a:xfrm>
              <a:off x="4136760" y="4880160"/>
              <a:ext cx="149400" cy="109440"/>
            </a:xfrm>
            <a:custGeom>
              <a:avLst/>
              <a:gdLst/>
              <a:ahLst/>
              <a:rect l="l" t="t" r="r" b="b"/>
              <a:pathLst>
                <a:path w="94" h="69">
                  <a:moveTo>
                    <a:pt x="0" y="69"/>
                  </a:moveTo>
                  <a:lnTo>
                    <a:pt x="5" y="64"/>
                  </a:lnTo>
                  <a:lnTo>
                    <a:pt x="10" y="59"/>
                  </a:lnTo>
                  <a:lnTo>
                    <a:pt x="15" y="54"/>
                  </a:lnTo>
                  <a:lnTo>
                    <a:pt x="20" y="49"/>
                  </a:lnTo>
                  <a:lnTo>
                    <a:pt x="25" y="44"/>
                  </a:lnTo>
                  <a:lnTo>
                    <a:pt x="25" y="39"/>
                  </a:lnTo>
                  <a:lnTo>
                    <a:pt x="30" y="35"/>
                  </a:lnTo>
                  <a:lnTo>
                    <a:pt x="35" y="30"/>
                  </a:lnTo>
                  <a:lnTo>
                    <a:pt x="35" y="25"/>
                  </a:lnTo>
                  <a:lnTo>
                    <a:pt x="40" y="20"/>
                  </a:lnTo>
                  <a:lnTo>
                    <a:pt x="50" y="20"/>
                  </a:lnTo>
                  <a:lnTo>
                    <a:pt x="59" y="20"/>
                  </a:lnTo>
                  <a:lnTo>
                    <a:pt x="64" y="15"/>
                  </a:lnTo>
                  <a:lnTo>
                    <a:pt x="64" y="10"/>
                  </a:lnTo>
                  <a:lnTo>
                    <a:pt x="69" y="0"/>
                  </a:lnTo>
                  <a:lnTo>
                    <a:pt x="74" y="0"/>
                  </a:lnTo>
                  <a:lnTo>
                    <a:pt x="79" y="0"/>
                  </a:lnTo>
                  <a:lnTo>
                    <a:pt x="89" y="5"/>
                  </a:lnTo>
                  <a:lnTo>
                    <a:pt x="94" y="10"/>
                  </a:lnTo>
                  <a:lnTo>
                    <a:pt x="94" y="15"/>
                  </a:lnTo>
                  <a:lnTo>
                    <a:pt x="89" y="20"/>
                  </a:lnTo>
                  <a:lnTo>
                    <a:pt x="84" y="20"/>
                  </a:lnTo>
                  <a:lnTo>
                    <a:pt x="74" y="20"/>
                  </a:lnTo>
                  <a:lnTo>
                    <a:pt x="69" y="25"/>
                  </a:lnTo>
                  <a:lnTo>
                    <a:pt x="64" y="30"/>
                  </a:lnTo>
                  <a:lnTo>
                    <a:pt x="64" y="35"/>
                  </a:lnTo>
                  <a:lnTo>
                    <a:pt x="64" y="44"/>
                  </a:lnTo>
                  <a:lnTo>
                    <a:pt x="64" y="49"/>
                  </a:lnTo>
                  <a:lnTo>
                    <a:pt x="69" y="54"/>
                  </a:lnTo>
                  <a:lnTo>
                    <a:pt x="69" y="59"/>
                  </a:lnTo>
                  <a:lnTo>
                    <a:pt x="74" y="64"/>
                  </a:lnTo>
                  <a:lnTo>
                    <a:pt x="74" y="6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2" name=""/>
            <p:cNvSpPr/>
            <p:nvPr/>
          </p:nvSpPr>
          <p:spPr>
            <a:xfrm flipH="1">
              <a:off x="6311880" y="2597400"/>
              <a:ext cx="7920" cy="7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3" name=""/>
            <p:cNvSpPr/>
            <p:nvPr/>
          </p:nvSpPr>
          <p:spPr>
            <a:xfrm>
              <a:off x="6013440" y="2605320"/>
              <a:ext cx="306360" cy="838080"/>
            </a:xfrm>
            <a:custGeom>
              <a:avLst/>
              <a:gdLst/>
              <a:ahLst/>
              <a:rect l="l" t="t" r="r" b="b"/>
              <a:pathLst>
                <a:path w="193" h="528">
                  <a:moveTo>
                    <a:pt x="188" y="0"/>
                  </a:moveTo>
                  <a:lnTo>
                    <a:pt x="183" y="5"/>
                  </a:lnTo>
                  <a:lnTo>
                    <a:pt x="178" y="9"/>
                  </a:lnTo>
                  <a:lnTo>
                    <a:pt x="178" y="14"/>
                  </a:lnTo>
                  <a:lnTo>
                    <a:pt x="178" y="19"/>
                  </a:lnTo>
                  <a:lnTo>
                    <a:pt x="183" y="24"/>
                  </a:lnTo>
                  <a:lnTo>
                    <a:pt x="183" y="29"/>
                  </a:lnTo>
                  <a:lnTo>
                    <a:pt x="188" y="39"/>
                  </a:lnTo>
                  <a:lnTo>
                    <a:pt x="188" y="44"/>
                  </a:lnTo>
                  <a:lnTo>
                    <a:pt x="188" y="49"/>
                  </a:lnTo>
                  <a:lnTo>
                    <a:pt x="193" y="54"/>
                  </a:lnTo>
                  <a:lnTo>
                    <a:pt x="188" y="59"/>
                  </a:lnTo>
                  <a:lnTo>
                    <a:pt x="188" y="64"/>
                  </a:lnTo>
                  <a:lnTo>
                    <a:pt x="183" y="69"/>
                  </a:lnTo>
                  <a:lnTo>
                    <a:pt x="173" y="74"/>
                  </a:lnTo>
                  <a:lnTo>
                    <a:pt x="168" y="79"/>
                  </a:lnTo>
                  <a:lnTo>
                    <a:pt x="163" y="84"/>
                  </a:lnTo>
                  <a:lnTo>
                    <a:pt x="153" y="84"/>
                  </a:lnTo>
                  <a:lnTo>
                    <a:pt x="148" y="89"/>
                  </a:lnTo>
                  <a:lnTo>
                    <a:pt x="144" y="93"/>
                  </a:lnTo>
                  <a:lnTo>
                    <a:pt x="139" y="98"/>
                  </a:lnTo>
                  <a:lnTo>
                    <a:pt x="139" y="103"/>
                  </a:lnTo>
                  <a:lnTo>
                    <a:pt x="139" y="108"/>
                  </a:lnTo>
                  <a:lnTo>
                    <a:pt x="134" y="118"/>
                  </a:lnTo>
                  <a:lnTo>
                    <a:pt x="129" y="123"/>
                  </a:lnTo>
                  <a:lnTo>
                    <a:pt x="124" y="123"/>
                  </a:lnTo>
                  <a:lnTo>
                    <a:pt x="119" y="128"/>
                  </a:lnTo>
                  <a:lnTo>
                    <a:pt x="114" y="133"/>
                  </a:lnTo>
                  <a:lnTo>
                    <a:pt x="109" y="138"/>
                  </a:lnTo>
                  <a:lnTo>
                    <a:pt x="109" y="148"/>
                  </a:lnTo>
                  <a:lnTo>
                    <a:pt x="109" y="153"/>
                  </a:lnTo>
                  <a:lnTo>
                    <a:pt x="109" y="158"/>
                  </a:lnTo>
                  <a:lnTo>
                    <a:pt x="114" y="163"/>
                  </a:lnTo>
                  <a:lnTo>
                    <a:pt x="119" y="168"/>
                  </a:lnTo>
                  <a:lnTo>
                    <a:pt x="114" y="173"/>
                  </a:lnTo>
                  <a:lnTo>
                    <a:pt x="114" y="168"/>
                  </a:lnTo>
                  <a:lnTo>
                    <a:pt x="109" y="163"/>
                  </a:lnTo>
                  <a:lnTo>
                    <a:pt x="99" y="163"/>
                  </a:lnTo>
                  <a:lnTo>
                    <a:pt x="89" y="163"/>
                  </a:lnTo>
                  <a:lnTo>
                    <a:pt x="79" y="163"/>
                  </a:lnTo>
                  <a:lnTo>
                    <a:pt x="69" y="163"/>
                  </a:lnTo>
                  <a:lnTo>
                    <a:pt x="64" y="168"/>
                  </a:lnTo>
                  <a:lnTo>
                    <a:pt x="59" y="173"/>
                  </a:lnTo>
                  <a:lnTo>
                    <a:pt x="59" y="182"/>
                  </a:lnTo>
                  <a:lnTo>
                    <a:pt x="64" y="187"/>
                  </a:lnTo>
                  <a:lnTo>
                    <a:pt x="69" y="192"/>
                  </a:lnTo>
                  <a:lnTo>
                    <a:pt x="74" y="192"/>
                  </a:lnTo>
                  <a:lnTo>
                    <a:pt x="84" y="197"/>
                  </a:lnTo>
                  <a:lnTo>
                    <a:pt x="94" y="197"/>
                  </a:lnTo>
                  <a:lnTo>
                    <a:pt x="99" y="202"/>
                  </a:lnTo>
                  <a:lnTo>
                    <a:pt x="104" y="207"/>
                  </a:lnTo>
                  <a:lnTo>
                    <a:pt x="104" y="212"/>
                  </a:lnTo>
                  <a:lnTo>
                    <a:pt x="104" y="222"/>
                  </a:lnTo>
                  <a:lnTo>
                    <a:pt x="104" y="227"/>
                  </a:lnTo>
                  <a:lnTo>
                    <a:pt x="99" y="232"/>
                  </a:lnTo>
                  <a:lnTo>
                    <a:pt x="94" y="237"/>
                  </a:lnTo>
                  <a:lnTo>
                    <a:pt x="89" y="242"/>
                  </a:lnTo>
                  <a:lnTo>
                    <a:pt x="84" y="247"/>
                  </a:lnTo>
                  <a:lnTo>
                    <a:pt x="79" y="247"/>
                  </a:lnTo>
                  <a:lnTo>
                    <a:pt x="74" y="257"/>
                  </a:lnTo>
                  <a:lnTo>
                    <a:pt x="74" y="262"/>
                  </a:lnTo>
                  <a:lnTo>
                    <a:pt x="69" y="266"/>
                  </a:lnTo>
                  <a:lnTo>
                    <a:pt x="69" y="271"/>
                  </a:lnTo>
                  <a:lnTo>
                    <a:pt x="69" y="276"/>
                  </a:lnTo>
                  <a:lnTo>
                    <a:pt x="64" y="281"/>
                  </a:lnTo>
                  <a:lnTo>
                    <a:pt x="59" y="286"/>
                  </a:lnTo>
                  <a:lnTo>
                    <a:pt x="59" y="291"/>
                  </a:lnTo>
                  <a:lnTo>
                    <a:pt x="59" y="301"/>
                  </a:lnTo>
                  <a:lnTo>
                    <a:pt x="59" y="306"/>
                  </a:lnTo>
                  <a:lnTo>
                    <a:pt x="55" y="311"/>
                  </a:lnTo>
                  <a:lnTo>
                    <a:pt x="55" y="316"/>
                  </a:lnTo>
                  <a:lnTo>
                    <a:pt x="50" y="321"/>
                  </a:lnTo>
                  <a:lnTo>
                    <a:pt x="50" y="326"/>
                  </a:lnTo>
                  <a:lnTo>
                    <a:pt x="45" y="331"/>
                  </a:lnTo>
                  <a:lnTo>
                    <a:pt x="45" y="336"/>
                  </a:lnTo>
                  <a:lnTo>
                    <a:pt x="45" y="346"/>
                  </a:lnTo>
                  <a:lnTo>
                    <a:pt x="45" y="350"/>
                  </a:lnTo>
                  <a:lnTo>
                    <a:pt x="40" y="355"/>
                  </a:lnTo>
                  <a:lnTo>
                    <a:pt x="40" y="360"/>
                  </a:lnTo>
                  <a:lnTo>
                    <a:pt x="40" y="365"/>
                  </a:lnTo>
                  <a:lnTo>
                    <a:pt x="40" y="370"/>
                  </a:lnTo>
                  <a:lnTo>
                    <a:pt x="35" y="375"/>
                  </a:lnTo>
                  <a:lnTo>
                    <a:pt x="35" y="385"/>
                  </a:lnTo>
                  <a:lnTo>
                    <a:pt x="30" y="390"/>
                  </a:lnTo>
                  <a:lnTo>
                    <a:pt x="30" y="395"/>
                  </a:lnTo>
                  <a:lnTo>
                    <a:pt x="30" y="400"/>
                  </a:lnTo>
                  <a:lnTo>
                    <a:pt x="30" y="405"/>
                  </a:lnTo>
                  <a:lnTo>
                    <a:pt x="35" y="410"/>
                  </a:lnTo>
                  <a:lnTo>
                    <a:pt x="45" y="415"/>
                  </a:lnTo>
                  <a:lnTo>
                    <a:pt x="50" y="420"/>
                  </a:lnTo>
                  <a:lnTo>
                    <a:pt x="55" y="425"/>
                  </a:lnTo>
                  <a:lnTo>
                    <a:pt x="55" y="430"/>
                  </a:lnTo>
                  <a:lnTo>
                    <a:pt x="55" y="435"/>
                  </a:lnTo>
                  <a:lnTo>
                    <a:pt x="55" y="439"/>
                  </a:lnTo>
                  <a:lnTo>
                    <a:pt x="50" y="449"/>
                  </a:lnTo>
                  <a:lnTo>
                    <a:pt x="45" y="454"/>
                  </a:lnTo>
                  <a:lnTo>
                    <a:pt x="45" y="459"/>
                  </a:lnTo>
                  <a:lnTo>
                    <a:pt x="50" y="464"/>
                  </a:lnTo>
                  <a:lnTo>
                    <a:pt x="59" y="464"/>
                  </a:lnTo>
                  <a:lnTo>
                    <a:pt x="64" y="469"/>
                  </a:lnTo>
                  <a:lnTo>
                    <a:pt x="69" y="474"/>
                  </a:lnTo>
                  <a:lnTo>
                    <a:pt x="74" y="479"/>
                  </a:lnTo>
                  <a:lnTo>
                    <a:pt x="74" y="484"/>
                  </a:lnTo>
                  <a:lnTo>
                    <a:pt x="74" y="494"/>
                  </a:lnTo>
                  <a:lnTo>
                    <a:pt x="74" y="499"/>
                  </a:lnTo>
                  <a:lnTo>
                    <a:pt x="69" y="509"/>
                  </a:lnTo>
                  <a:lnTo>
                    <a:pt x="64" y="509"/>
                  </a:lnTo>
                  <a:lnTo>
                    <a:pt x="59" y="509"/>
                  </a:lnTo>
                  <a:lnTo>
                    <a:pt x="50" y="504"/>
                  </a:lnTo>
                  <a:lnTo>
                    <a:pt x="45" y="499"/>
                  </a:lnTo>
                  <a:lnTo>
                    <a:pt x="35" y="499"/>
                  </a:lnTo>
                  <a:lnTo>
                    <a:pt x="35" y="499"/>
                  </a:lnTo>
                  <a:lnTo>
                    <a:pt x="30" y="499"/>
                  </a:lnTo>
                  <a:lnTo>
                    <a:pt x="25" y="509"/>
                  </a:lnTo>
                  <a:lnTo>
                    <a:pt x="25" y="514"/>
                  </a:lnTo>
                  <a:lnTo>
                    <a:pt x="20" y="523"/>
                  </a:lnTo>
                  <a:lnTo>
                    <a:pt x="10" y="528"/>
                  </a:lnTo>
                  <a:lnTo>
                    <a:pt x="5" y="528"/>
                  </a:lnTo>
                  <a:lnTo>
                    <a:pt x="0" y="523"/>
                  </a:lnTo>
                  <a:lnTo>
                    <a:pt x="0" y="51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4" name=""/>
            <p:cNvSpPr/>
            <p:nvPr/>
          </p:nvSpPr>
          <p:spPr>
            <a:xfrm>
              <a:off x="6013440" y="3429000"/>
              <a:ext cx="14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5" name=""/>
            <p:cNvSpPr/>
            <p:nvPr/>
          </p:nvSpPr>
          <p:spPr>
            <a:xfrm>
              <a:off x="5957640" y="3341880"/>
              <a:ext cx="47520" cy="39600"/>
            </a:xfrm>
            <a:custGeom>
              <a:avLst/>
              <a:gdLst/>
              <a:ahLst/>
              <a:rect l="l" t="t" r="r" b="b"/>
              <a:pathLst>
                <a:path w="30" h="25">
                  <a:moveTo>
                    <a:pt x="25" y="20"/>
                  </a:moveTo>
                  <a:lnTo>
                    <a:pt x="25" y="15"/>
                  </a:lnTo>
                  <a:lnTo>
                    <a:pt x="25" y="15"/>
                  </a:lnTo>
                  <a:lnTo>
                    <a:pt x="25" y="15"/>
                  </a:lnTo>
                  <a:lnTo>
                    <a:pt x="30" y="15"/>
                  </a:lnTo>
                  <a:lnTo>
                    <a:pt x="30" y="10"/>
                  </a:lnTo>
                  <a:lnTo>
                    <a:pt x="30" y="10"/>
                  </a:lnTo>
                  <a:lnTo>
                    <a:pt x="30" y="10"/>
                  </a:lnTo>
                  <a:lnTo>
                    <a:pt x="30" y="10"/>
                  </a:lnTo>
                  <a:lnTo>
                    <a:pt x="30" y="10"/>
                  </a:lnTo>
                  <a:lnTo>
                    <a:pt x="30" y="10"/>
                  </a:lnTo>
                  <a:lnTo>
                    <a:pt x="25" y="5"/>
                  </a:lnTo>
                  <a:lnTo>
                    <a:pt x="25" y="5"/>
                  </a:lnTo>
                  <a:lnTo>
                    <a:pt x="25" y="5"/>
                  </a:lnTo>
                  <a:lnTo>
                    <a:pt x="25" y="5"/>
                  </a:lnTo>
                  <a:lnTo>
                    <a:pt x="25" y="5"/>
                  </a:lnTo>
                  <a:lnTo>
                    <a:pt x="25" y="5"/>
                  </a:lnTo>
                  <a:lnTo>
                    <a:pt x="20" y="5"/>
                  </a:lnTo>
                  <a:lnTo>
                    <a:pt x="20" y="5"/>
                  </a:lnTo>
                  <a:lnTo>
                    <a:pt x="20" y="5"/>
                  </a:lnTo>
                  <a:lnTo>
                    <a:pt x="15" y="5"/>
                  </a:lnTo>
                  <a:lnTo>
                    <a:pt x="15" y="5"/>
                  </a:lnTo>
                  <a:lnTo>
                    <a:pt x="15" y="5"/>
                  </a:lnTo>
                  <a:lnTo>
                    <a:pt x="15" y="5"/>
                  </a:lnTo>
                  <a:lnTo>
                    <a:pt x="20" y="10"/>
                  </a:lnTo>
                  <a:lnTo>
                    <a:pt x="20" y="10"/>
                  </a:lnTo>
                  <a:lnTo>
                    <a:pt x="20" y="10"/>
                  </a:lnTo>
                  <a:lnTo>
                    <a:pt x="20" y="10"/>
                  </a:lnTo>
                  <a:lnTo>
                    <a:pt x="20" y="10"/>
                  </a:lnTo>
                  <a:lnTo>
                    <a:pt x="20" y="10"/>
                  </a:lnTo>
                  <a:lnTo>
                    <a:pt x="20" y="15"/>
                  </a:lnTo>
                  <a:lnTo>
                    <a:pt x="20" y="15"/>
                  </a:lnTo>
                  <a:lnTo>
                    <a:pt x="20" y="15"/>
                  </a:lnTo>
                  <a:lnTo>
                    <a:pt x="20" y="20"/>
                  </a:lnTo>
                  <a:lnTo>
                    <a:pt x="20" y="20"/>
                  </a:lnTo>
                  <a:lnTo>
                    <a:pt x="20" y="20"/>
                  </a:lnTo>
                  <a:lnTo>
                    <a:pt x="20" y="20"/>
                  </a:lnTo>
                  <a:lnTo>
                    <a:pt x="15" y="25"/>
                  </a:lnTo>
                  <a:lnTo>
                    <a:pt x="15" y="25"/>
                  </a:lnTo>
                  <a:lnTo>
                    <a:pt x="15" y="25"/>
                  </a:lnTo>
                  <a:lnTo>
                    <a:pt x="10" y="25"/>
                  </a:lnTo>
                  <a:lnTo>
                    <a:pt x="10" y="25"/>
                  </a:lnTo>
                  <a:lnTo>
                    <a:pt x="10" y="25"/>
                  </a:lnTo>
                  <a:lnTo>
                    <a:pt x="10" y="25"/>
                  </a:lnTo>
                  <a:lnTo>
                    <a:pt x="5" y="25"/>
                  </a:lnTo>
                  <a:lnTo>
                    <a:pt x="5" y="20"/>
                  </a:lnTo>
                  <a:lnTo>
                    <a:pt x="5" y="20"/>
                  </a:lnTo>
                  <a:lnTo>
                    <a:pt x="5" y="20"/>
                  </a:lnTo>
                  <a:lnTo>
                    <a:pt x="5" y="20"/>
                  </a:lnTo>
                  <a:lnTo>
                    <a:pt x="5" y="20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0"/>
                  </a:lnTo>
                  <a:lnTo>
                    <a:pt x="5" y="10"/>
                  </a:lnTo>
                  <a:lnTo>
                    <a:pt x="5" y="10"/>
                  </a:lnTo>
                  <a:lnTo>
                    <a:pt x="5" y="5"/>
                  </a:lnTo>
                  <a:lnTo>
                    <a:pt x="10" y="5"/>
                  </a:lnTo>
                  <a:lnTo>
                    <a:pt x="15" y="5"/>
                  </a:lnTo>
                  <a:lnTo>
                    <a:pt x="15" y="0"/>
                  </a:lnTo>
                  <a:lnTo>
                    <a:pt x="20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5"/>
                  </a:lnTo>
                  <a:lnTo>
                    <a:pt x="30" y="5"/>
                  </a:lnTo>
                  <a:lnTo>
                    <a:pt x="30" y="5"/>
                  </a:lnTo>
                  <a:lnTo>
                    <a:pt x="30" y="10"/>
                  </a:lnTo>
                  <a:lnTo>
                    <a:pt x="30" y="10"/>
                  </a:lnTo>
                  <a:lnTo>
                    <a:pt x="30" y="10"/>
                  </a:lnTo>
                  <a:lnTo>
                    <a:pt x="30" y="10"/>
                  </a:lnTo>
                  <a:lnTo>
                    <a:pt x="30" y="15"/>
                  </a:lnTo>
                  <a:lnTo>
                    <a:pt x="30" y="15"/>
                  </a:lnTo>
                  <a:lnTo>
                    <a:pt x="30" y="15"/>
                  </a:lnTo>
                  <a:lnTo>
                    <a:pt x="30" y="15"/>
                  </a:lnTo>
                  <a:lnTo>
                    <a:pt x="25" y="20"/>
                  </a:lnTo>
                  <a:close/>
                  <a:moveTo>
                    <a:pt x="10" y="10"/>
                  </a:moveTo>
                  <a:lnTo>
                    <a:pt x="10" y="10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5" y="10"/>
                  </a:lnTo>
                  <a:lnTo>
                    <a:pt x="5" y="10"/>
                  </a:lnTo>
                  <a:lnTo>
                    <a:pt x="5" y="10"/>
                  </a:lnTo>
                  <a:lnTo>
                    <a:pt x="5" y="15"/>
                  </a:lnTo>
                  <a:lnTo>
                    <a:pt x="5" y="15"/>
                  </a:lnTo>
                  <a:lnTo>
                    <a:pt x="5" y="15"/>
                  </a:lnTo>
                  <a:lnTo>
                    <a:pt x="5" y="15"/>
                  </a:lnTo>
                  <a:lnTo>
                    <a:pt x="5" y="15"/>
                  </a:lnTo>
                  <a:lnTo>
                    <a:pt x="5" y="15"/>
                  </a:lnTo>
                  <a:lnTo>
                    <a:pt x="5" y="20"/>
                  </a:lnTo>
                  <a:lnTo>
                    <a:pt x="5" y="20"/>
                  </a:lnTo>
                  <a:lnTo>
                    <a:pt x="10" y="20"/>
                  </a:lnTo>
                  <a:lnTo>
                    <a:pt x="10" y="20"/>
                  </a:lnTo>
                  <a:lnTo>
                    <a:pt x="10" y="20"/>
                  </a:lnTo>
                  <a:lnTo>
                    <a:pt x="10" y="20"/>
                  </a:lnTo>
                  <a:lnTo>
                    <a:pt x="15" y="20"/>
                  </a:lnTo>
                  <a:lnTo>
                    <a:pt x="15" y="20"/>
                  </a:lnTo>
                  <a:lnTo>
                    <a:pt x="15" y="20"/>
                  </a:lnTo>
                  <a:lnTo>
                    <a:pt x="15" y="20"/>
                  </a:lnTo>
                  <a:lnTo>
                    <a:pt x="15" y="20"/>
                  </a:lnTo>
                  <a:lnTo>
                    <a:pt x="20" y="15"/>
                  </a:lnTo>
                  <a:lnTo>
                    <a:pt x="20" y="15"/>
                  </a:lnTo>
                  <a:lnTo>
                    <a:pt x="20" y="15"/>
                  </a:lnTo>
                  <a:lnTo>
                    <a:pt x="20" y="15"/>
                  </a:lnTo>
                  <a:lnTo>
                    <a:pt x="20" y="10"/>
                  </a:lnTo>
                  <a:lnTo>
                    <a:pt x="20" y="10"/>
                  </a:lnTo>
                  <a:lnTo>
                    <a:pt x="15" y="10"/>
                  </a:lnTo>
                  <a:lnTo>
                    <a:pt x="15" y="10"/>
                  </a:lnTo>
                  <a:lnTo>
                    <a:pt x="15" y="10"/>
                  </a:lnTo>
                  <a:lnTo>
                    <a:pt x="15" y="10"/>
                  </a:lnTo>
                  <a:lnTo>
                    <a:pt x="15" y="10"/>
                  </a:lnTo>
                  <a:lnTo>
                    <a:pt x="10" y="10"/>
                  </a:lnTo>
                  <a:lnTo>
                    <a:pt x="10" y="10"/>
                  </a:lnTo>
                  <a:close/>
                </a:path>
              </a:pathLst>
            </a:custGeom>
            <a:solidFill>
              <a:srgbClr val="666666"/>
            </a:solidFill>
            <a:ln w="0">
              <a:solidFill>
                <a:srgbClr val="6666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6" name=""/>
            <p:cNvSpPr/>
            <p:nvPr/>
          </p:nvSpPr>
          <p:spPr>
            <a:xfrm>
              <a:off x="5973480" y="3381480"/>
              <a:ext cx="47880" cy="31680"/>
            </a:xfrm>
            <a:custGeom>
              <a:avLst/>
              <a:gdLst/>
              <a:ahLst/>
              <a:rect l="l" t="t" r="r" b="b"/>
              <a:pathLst>
                <a:path w="30" h="20">
                  <a:moveTo>
                    <a:pt x="10" y="0"/>
                  </a:moveTo>
                  <a:lnTo>
                    <a:pt x="15" y="0"/>
                  </a:lnTo>
                  <a:lnTo>
                    <a:pt x="15" y="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0" y="5"/>
                  </a:lnTo>
                  <a:lnTo>
                    <a:pt x="30" y="5"/>
                  </a:lnTo>
                  <a:lnTo>
                    <a:pt x="30" y="5"/>
                  </a:lnTo>
                  <a:lnTo>
                    <a:pt x="30" y="5"/>
                  </a:lnTo>
                  <a:lnTo>
                    <a:pt x="30" y="10"/>
                  </a:lnTo>
                  <a:lnTo>
                    <a:pt x="30" y="10"/>
                  </a:lnTo>
                  <a:lnTo>
                    <a:pt x="30" y="10"/>
                  </a:lnTo>
                  <a:lnTo>
                    <a:pt x="30" y="10"/>
                  </a:lnTo>
                  <a:lnTo>
                    <a:pt x="30" y="10"/>
                  </a:lnTo>
                  <a:lnTo>
                    <a:pt x="30" y="10"/>
                  </a:lnTo>
                  <a:lnTo>
                    <a:pt x="25" y="15"/>
                  </a:lnTo>
                  <a:lnTo>
                    <a:pt x="25" y="15"/>
                  </a:lnTo>
                  <a:lnTo>
                    <a:pt x="25" y="15"/>
                  </a:lnTo>
                  <a:lnTo>
                    <a:pt x="25" y="15"/>
                  </a:lnTo>
                  <a:lnTo>
                    <a:pt x="20" y="15"/>
                  </a:lnTo>
                  <a:lnTo>
                    <a:pt x="20" y="15"/>
                  </a:lnTo>
                  <a:lnTo>
                    <a:pt x="20" y="20"/>
                  </a:lnTo>
                  <a:lnTo>
                    <a:pt x="15" y="20"/>
                  </a:lnTo>
                  <a:lnTo>
                    <a:pt x="15" y="20"/>
                  </a:lnTo>
                  <a:lnTo>
                    <a:pt x="10" y="20"/>
                  </a:lnTo>
                  <a:lnTo>
                    <a:pt x="10" y="20"/>
                  </a:lnTo>
                  <a:lnTo>
                    <a:pt x="10" y="20"/>
                  </a:lnTo>
                  <a:lnTo>
                    <a:pt x="10" y="20"/>
                  </a:lnTo>
                  <a:lnTo>
                    <a:pt x="5" y="20"/>
                  </a:lnTo>
                  <a:lnTo>
                    <a:pt x="5" y="20"/>
                  </a:lnTo>
                  <a:lnTo>
                    <a:pt x="5" y="20"/>
                  </a:lnTo>
                  <a:lnTo>
                    <a:pt x="5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10" y="0"/>
                  </a:lnTo>
                  <a:lnTo>
                    <a:pt x="10" y="0"/>
                  </a:lnTo>
                  <a:close/>
                  <a:moveTo>
                    <a:pt x="15" y="5"/>
                  </a:moveTo>
                  <a:lnTo>
                    <a:pt x="10" y="5"/>
                  </a:lnTo>
                  <a:lnTo>
                    <a:pt x="10" y="5"/>
                  </a:lnTo>
                  <a:lnTo>
                    <a:pt x="5" y="5"/>
                  </a:lnTo>
                  <a:lnTo>
                    <a:pt x="5" y="10"/>
                  </a:lnTo>
                  <a:lnTo>
                    <a:pt x="5" y="10"/>
                  </a:lnTo>
                  <a:lnTo>
                    <a:pt x="5" y="10"/>
                  </a:lnTo>
                  <a:lnTo>
                    <a:pt x="5" y="10"/>
                  </a:lnTo>
                  <a:lnTo>
                    <a:pt x="5" y="15"/>
                  </a:lnTo>
                  <a:lnTo>
                    <a:pt x="5" y="15"/>
                  </a:lnTo>
                  <a:lnTo>
                    <a:pt x="5" y="15"/>
                  </a:lnTo>
                  <a:lnTo>
                    <a:pt x="5" y="15"/>
                  </a:lnTo>
                  <a:lnTo>
                    <a:pt x="10" y="15"/>
                  </a:lnTo>
                  <a:lnTo>
                    <a:pt x="10" y="15"/>
                  </a:lnTo>
                  <a:lnTo>
                    <a:pt x="10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20" y="15"/>
                  </a:lnTo>
                  <a:lnTo>
                    <a:pt x="25" y="10"/>
                  </a:lnTo>
                  <a:lnTo>
                    <a:pt x="25" y="10"/>
                  </a:lnTo>
                  <a:lnTo>
                    <a:pt x="25" y="10"/>
                  </a:lnTo>
                  <a:lnTo>
                    <a:pt x="25" y="10"/>
                  </a:lnTo>
                  <a:lnTo>
                    <a:pt x="25" y="5"/>
                  </a:lnTo>
                  <a:lnTo>
                    <a:pt x="25" y="5"/>
                  </a:lnTo>
                  <a:lnTo>
                    <a:pt x="25" y="5"/>
                  </a:lnTo>
                  <a:lnTo>
                    <a:pt x="25" y="5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15" y="5"/>
                  </a:lnTo>
                  <a:close/>
                </a:path>
              </a:pathLst>
            </a:custGeom>
            <a:solidFill>
              <a:srgbClr val="666666"/>
            </a:solidFill>
            <a:ln w="0">
              <a:solidFill>
                <a:srgbClr val="6666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7" name=""/>
            <p:cNvSpPr/>
            <p:nvPr/>
          </p:nvSpPr>
          <p:spPr>
            <a:xfrm flipV="1">
              <a:off x="5973480" y="3326040"/>
              <a:ext cx="1800" cy="7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8" name=""/>
            <p:cNvSpPr/>
            <p:nvPr/>
          </p:nvSpPr>
          <p:spPr>
            <a:xfrm>
              <a:off x="5173560" y="3295800"/>
              <a:ext cx="799920" cy="963720"/>
            </a:xfrm>
            <a:custGeom>
              <a:avLst/>
              <a:gdLst/>
              <a:ahLst/>
              <a:rect l="l" t="t" r="r" b="b"/>
              <a:pathLst>
                <a:path w="504" h="607">
                  <a:moveTo>
                    <a:pt x="504" y="19"/>
                  </a:moveTo>
                  <a:lnTo>
                    <a:pt x="499" y="14"/>
                  </a:lnTo>
                  <a:lnTo>
                    <a:pt x="494" y="9"/>
                  </a:lnTo>
                  <a:lnTo>
                    <a:pt x="490" y="4"/>
                  </a:lnTo>
                  <a:lnTo>
                    <a:pt x="485" y="0"/>
                  </a:lnTo>
                  <a:lnTo>
                    <a:pt x="480" y="4"/>
                  </a:lnTo>
                  <a:lnTo>
                    <a:pt x="475" y="9"/>
                  </a:lnTo>
                  <a:lnTo>
                    <a:pt x="470" y="14"/>
                  </a:lnTo>
                  <a:lnTo>
                    <a:pt x="465" y="19"/>
                  </a:lnTo>
                  <a:lnTo>
                    <a:pt x="465" y="24"/>
                  </a:lnTo>
                  <a:lnTo>
                    <a:pt x="460" y="29"/>
                  </a:lnTo>
                  <a:lnTo>
                    <a:pt x="455" y="34"/>
                  </a:lnTo>
                  <a:lnTo>
                    <a:pt x="450" y="39"/>
                  </a:lnTo>
                  <a:lnTo>
                    <a:pt x="445" y="44"/>
                  </a:lnTo>
                  <a:lnTo>
                    <a:pt x="440" y="49"/>
                  </a:lnTo>
                  <a:lnTo>
                    <a:pt x="435" y="54"/>
                  </a:lnTo>
                  <a:lnTo>
                    <a:pt x="430" y="59"/>
                  </a:lnTo>
                  <a:lnTo>
                    <a:pt x="425" y="64"/>
                  </a:lnTo>
                  <a:lnTo>
                    <a:pt x="415" y="69"/>
                  </a:lnTo>
                  <a:lnTo>
                    <a:pt x="410" y="74"/>
                  </a:lnTo>
                  <a:lnTo>
                    <a:pt x="405" y="79"/>
                  </a:lnTo>
                  <a:lnTo>
                    <a:pt x="401" y="84"/>
                  </a:lnTo>
                  <a:lnTo>
                    <a:pt x="396" y="88"/>
                  </a:lnTo>
                  <a:lnTo>
                    <a:pt x="391" y="88"/>
                  </a:lnTo>
                  <a:lnTo>
                    <a:pt x="386" y="93"/>
                  </a:lnTo>
                  <a:lnTo>
                    <a:pt x="376" y="98"/>
                  </a:lnTo>
                  <a:lnTo>
                    <a:pt x="371" y="103"/>
                  </a:lnTo>
                  <a:lnTo>
                    <a:pt x="366" y="108"/>
                  </a:lnTo>
                  <a:lnTo>
                    <a:pt x="361" y="113"/>
                  </a:lnTo>
                  <a:lnTo>
                    <a:pt x="356" y="113"/>
                  </a:lnTo>
                  <a:lnTo>
                    <a:pt x="351" y="118"/>
                  </a:lnTo>
                  <a:lnTo>
                    <a:pt x="341" y="123"/>
                  </a:lnTo>
                  <a:lnTo>
                    <a:pt x="336" y="128"/>
                  </a:lnTo>
                  <a:lnTo>
                    <a:pt x="331" y="133"/>
                  </a:lnTo>
                  <a:lnTo>
                    <a:pt x="326" y="138"/>
                  </a:lnTo>
                  <a:lnTo>
                    <a:pt x="321" y="143"/>
                  </a:lnTo>
                  <a:lnTo>
                    <a:pt x="312" y="148"/>
                  </a:lnTo>
                  <a:lnTo>
                    <a:pt x="307" y="148"/>
                  </a:lnTo>
                  <a:lnTo>
                    <a:pt x="307" y="153"/>
                  </a:lnTo>
                  <a:lnTo>
                    <a:pt x="302" y="163"/>
                  </a:lnTo>
                  <a:lnTo>
                    <a:pt x="302" y="168"/>
                  </a:lnTo>
                  <a:lnTo>
                    <a:pt x="302" y="173"/>
                  </a:lnTo>
                  <a:lnTo>
                    <a:pt x="302" y="177"/>
                  </a:lnTo>
                  <a:lnTo>
                    <a:pt x="297" y="182"/>
                  </a:lnTo>
                  <a:lnTo>
                    <a:pt x="297" y="187"/>
                  </a:lnTo>
                  <a:lnTo>
                    <a:pt x="297" y="192"/>
                  </a:lnTo>
                  <a:lnTo>
                    <a:pt x="297" y="202"/>
                  </a:lnTo>
                  <a:lnTo>
                    <a:pt x="297" y="207"/>
                  </a:lnTo>
                  <a:lnTo>
                    <a:pt x="292" y="212"/>
                  </a:lnTo>
                  <a:lnTo>
                    <a:pt x="292" y="217"/>
                  </a:lnTo>
                  <a:lnTo>
                    <a:pt x="292" y="222"/>
                  </a:lnTo>
                  <a:lnTo>
                    <a:pt x="292" y="227"/>
                  </a:lnTo>
                  <a:lnTo>
                    <a:pt x="292" y="237"/>
                  </a:lnTo>
                  <a:lnTo>
                    <a:pt x="292" y="242"/>
                  </a:lnTo>
                  <a:lnTo>
                    <a:pt x="292" y="247"/>
                  </a:lnTo>
                  <a:lnTo>
                    <a:pt x="287" y="252"/>
                  </a:lnTo>
                  <a:lnTo>
                    <a:pt x="287" y="257"/>
                  </a:lnTo>
                  <a:lnTo>
                    <a:pt x="287" y="261"/>
                  </a:lnTo>
                  <a:lnTo>
                    <a:pt x="287" y="266"/>
                  </a:lnTo>
                  <a:lnTo>
                    <a:pt x="282" y="276"/>
                  </a:lnTo>
                  <a:lnTo>
                    <a:pt x="282" y="281"/>
                  </a:lnTo>
                  <a:lnTo>
                    <a:pt x="282" y="286"/>
                  </a:lnTo>
                  <a:lnTo>
                    <a:pt x="282" y="291"/>
                  </a:lnTo>
                  <a:lnTo>
                    <a:pt x="282" y="296"/>
                  </a:lnTo>
                  <a:lnTo>
                    <a:pt x="282" y="301"/>
                  </a:lnTo>
                  <a:lnTo>
                    <a:pt x="282" y="306"/>
                  </a:lnTo>
                  <a:lnTo>
                    <a:pt x="282" y="316"/>
                  </a:lnTo>
                  <a:lnTo>
                    <a:pt x="282" y="321"/>
                  </a:lnTo>
                  <a:lnTo>
                    <a:pt x="282" y="326"/>
                  </a:lnTo>
                  <a:lnTo>
                    <a:pt x="282" y="331"/>
                  </a:lnTo>
                  <a:lnTo>
                    <a:pt x="277" y="336"/>
                  </a:lnTo>
                  <a:lnTo>
                    <a:pt x="282" y="341"/>
                  </a:lnTo>
                  <a:lnTo>
                    <a:pt x="282" y="350"/>
                  </a:lnTo>
                  <a:lnTo>
                    <a:pt x="282" y="355"/>
                  </a:lnTo>
                  <a:lnTo>
                    <a:pt x="287" y="360"/>
                  </a:lnTo>
                  <a:lnTo>
                    <a:pt x="292" y="365"/>
                  </a:lnTo>
                  <a:lnTo>
                    <a:pt x="292" y="370"/>
                  </a:lnTo>
                  <a:lnTo>
                    <a:pt x="297" y="375"/>
                  </a:lnTo>
                  <a:lnTo>
                    <a:pt x="297" y="380"/>
                  </a:lnTo>
                  <a:lnTo>
                    <a:pt x="297" y="390"/>
                  </a:lnTo>
                  <a:lnTo>
                    <a:pt x="292" y="395"/>
                  </a:lnTo>
                  <a:lnTo>
                    <a:pt x="287" y="400"/>
                  </a:lnTo>
                  <a:lnTo>
                    <a:pt x="282" y="400"/>
                  </a:lnTo>
                  <a:lnTo>
                    <a:pt x="272" y="405"/>
                  </a:lnTo>
                  <a:lnTo>
                    <a:pt x="267" y="405"/>
                  </a:lnTo>
                  <a:lnTo>
                    <a:pt x="257" y="405"/>
                  </a:lnTo>
                  <a:lnTo>
                    <a:pt x="247" y="405"/>
                  </a:lnTo>
                  <a:lnTo>
                    <a:pt x="237" y="405"/>
                  </a:lnTo>
                  <a:lnTo>
                    <a:pt x="227" y="405"/>
                  </a:lnTo>
                  <a:lnTo>
                    <a:pt x="222" y="405"/>
                  </a:lnTo>
                  <a:lnTo>
                    <a:pt x="213" y="405"/>
                  </a:lnTo>
                  <a:lnTo>
                    <a:pt x="203" y="405"/>
                  </a:lnTo>
                  <a:lnTo>
                    <a:pt x="193" y="405"/>
                  </a:lnTo>
                  <a:lnTo>
                    <a:pt x="188" y="405"/>
                  </a:lnTo>
                  <a:lnTo>
                    <a:pt x="178" y="405"/>
                  </a:lnTo>
                  <a:lnTo>
                    <a:pt x="168" y="405"/>
                  </a:lnTo>
                  <a:lnTo>
                    <a:pt x="163" y="410"/>
                  </a:lnTo>
                  <a:lnTo>
                    <a:pt x="153" y="415"/>
                  </a:lnTo>
                  <a:lnTo>
                    <a:pt x="148" y="420"/>
                  </a:lnTo>
                  <a:lnTo>
                    <a:pt x="143" y="420"/>
                  </a:lnTo>
                  <a:lnTo>
                    <a:pt x="133" y="425"/>
                  </a:lnTo>
                  <a:lnTo>
                    <a:pt x="133" y="430"/>
                  </a:lnTo>
                  <a:lnTo>
                    <a:pt x="133" y="434"/>
                  </a:lnTo>
                  <a:lnTo>
                    <a:pt x="133" y="444"/>
                  </a:lnTo>
                  <a:lnTo>
                    <a:pt x="133" y="449"/>
                  </a:lnTo>
                  <a:lnTo>
                    <a:pt x="129" y="454"/>
                  </a:lnTo>
                  <a:lnTo>
                    <a:pt x="124" y="459"/>
                  </a:lnTo>
                  <a:lnTo>
                    <a:pt x="119" y="464"/>
                  </a:lnTo>
                  <a:lnTo>
                    <a:pt x="109" y="469"/>
                  </a:lnTo>
                  <a:lnTo>
                    <a:pt x="104" y="469"/>
                  </a:lnTo>
                  <a:lnTo>
                    <a:pt x="94" y="474"/>
                  </a:lnTo>
                  <a:lnTo>
                    <a:pt x="89" y="474"/>
                  </a:lnTo>
                  <a:lnTo>
                    <a:pt x="79" y="474"/>
                  </a:lnTo>
                  <a:lnTo>
                    <a:pt x="69" y="479"/>
                  </a:lnTo>
                  <a:lnTo>
                    <a:pt x="69" y="484"/>
                  </a:lnTo>
                  <a:lnTo>
                    <a:pt x="69" y="489"/>
                  </a:lnTo>
                  <a:lnTo>
                    <a:pt x="69" y="494"/>
                  </a:lnTo>
                  <a:lnTo>
                    <a:pt x="69" y="499"/>
                  </a:lnTo>
                  <a:lnTo>
                    <a:pt x="69" y="504"/>
                  </a:lnTo>
                  <a:lnTo>
                    <a:pt x="64" y="509"/>
                  </a:lnTo>
                  <a:lnTo>
                    <a:pt x="54" y="514"/>
                  </a:lnTo>
                  <a:lnTo>
                    <a:pt x="49" y="518"/>
                  </a:lnTo>
                  <a:lnTo>
                    <a:pt x="40" y="518"/>
                  </a:lnTo>
                  <a:lnTo>
                    <a:pt x="30" y="518"/>
                  </a:lnTo>
                  <a:lnTo>
                    <a:pt x="25" y="523"/>
                  </a:lnTo>
                  <a:lnTo>
                    <a:pt x="15" y="523"/>
                  </a:lnTo>
                  <a:lnTo>
                    <a:pt x="10" y="528"/>
                  </a:lnTo>
                  <a:lnTo>
                    <a:pt x="0" y="528"/>
                  </a:lnTo>
                  <a:lnTo>
                    <a:pt x="0" y="533"/>
                  </a:lnTo>
                  <a:lnTo>
                    <a:pt x="10" y="538"/>
                  </a:lnTo>
                  <a:lnTo>
                    <a:pt x="20" y="543"/>
                  </a:lnTo>
                  <a:lnTo>
                    <a:pt x="25" y="543"/>
                  </a:lnTo>
                  <a:lnTo>
                    <a:pt x="30" y="548"/>
                  </a:lnTo>
                  <a:lnTo>
                    <a:pt x="35" y="553"/>
                  </a:lnTo>
                  <a:lnTo>
                    <a:pt x="40" y="558"/>
                  </a:lnTo>
                  <a:lnTo>
                    <a:pt x="44" y="563"/>
                  </a:lnTo>
                  <a:lnTo>
                    <a:pt x="49" y="568"/>
                  </a:lnTo>
                  <a:lnTo>
                    <a:pt x="49" y="573"/>
                  </a:lnTo>
                  <a:lnTo>
                    <a:pt x="54" y="578"/>
                  </a:lnTo>
                  <a:lnTo>
                    <a:pt x="54" y="583"/>
                  </a:lnTo>
                  <a:lnTo>
                    <a:pt x="59" y="588"/>
                  </a:lnTo>
                  <a:lnTo>
                    <a:pt x="64" y="593"/>
                  </a:lnTo>
                  <a:lnTo>
                    <a:pt x="69" y="603"/>
                  </a:lnTo>
                  <a:lnTo>
                    <a:pt x="74" y="60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9" name=""/>
            <p:cNvSpPr/>
            <p:nvPr/>
          </p:nvSpPr>
          <p:spPr>
            <a:xfrm>
              <a:off x="5290920" y="4259520"/>
              <a:ext cx="18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0" name=""/>
            <p:cNvSpPr/>
            <p:nvPr/>
          </p:nvSpPr>
          <p:spPr>
            <a:xfrm>
              <a:off x="5205240" y="4237200"/>
              <a:ext cx="31680" cy="46080"/>
            </a:xfrm>
            <a:custGeom>
              <a:avLst/>
              <a:gdLst/>
              <a:ahLst/>
              <a:rect l="l" t="t" r="r" b="b"/>
              <a:pathLst>
                <a:path w="20" h="29">
                  <a:moveTo>
                    <a:pt x="20" y="10"/>
                  </a:moveTo>
                  <a:lnTo>
                    <a:pt x="15" y="10"/>
                  </a:lnTo>
                  <a:lnTo>
                    <a:pt x="15" y="10"/>
                  </a:lnTo>
                  <a:lnTo>
                    <a:pt x="15" y="5"/>
                  </a:lnTo>
                  <a:lnTo>
                    <a:pt x="15" y="5"/>
                  </a:lnTo>
                  <a:lnTo>
                    <a:pt x="15" y="5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10"/>
                  </a:lnTo>
                  <a:lnTo>
                    <a:pt x="5" y="10"/>
                  </a:lnTo>
                  <a:lnTo>
                    <a:pt x="5" y="10"/>
                  </a:lnTo>
                  <a:lnTo>
                    <a:pt x="5" y="10"/>
                  </a:lnTo>
                  <a:lnTo>
                    <a:pt x="5" y="14"/>
                  </a:lnTo>
                  <a:lnTo>
                    <a:pt x="5" y="14"/>
                  </a:lnTo>
                  <a:lnTo>
                    <a:pt x="5" y="14"/>
                  </a:lnTo>
                  <a:lnTo>
                    <a:pt x="5" y="14"/>
                  </a:lnTo>
                  <a:lnTo>
                    <a:pt x="5" y="14"/>
                  </a:lnTo>
                  <a:lnTo>
                    <a:pt x="5" y="14"/>
                  </a:lnTo>
                  <a:lnTo>
                    <a:pt x="5" y="14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15" y="10"/>
                  </a:lnTo>
                  <a:lnTo>
                    <a:pt x="15" y="14"/>
                  </a:lnTo>
                  <a:lnTo>
                    <a:pt x="15" y="14"/>
                  </a:lnTo>
                  <a:lnTo>
                    <a:pt x="20" y="14"/>
                  </a:lnTo>
                  <a:lnTo>
                    <a:pt x="20" y="14"/>
                  </a:lnTo>
                  <a:lnTo>
                    <a:pt x="20" y="19"/>
                  </a:lnTo>
                  <a:lnTo>
                    <a:pt x="20" y="19"/>
                  </a:lnTo>
                  <a:lnTo>
                    <a:pt x="20" y="19"/>
                  </a:lnTo>
                  <a:lnTo>
                    <a:pt x="20" y="24"/>
                  </a:lnTo>
                  <a:lnTo>
                    <a:pt x="20" y="24"/>
                  </a:lnTo>
                  <a:lnTo>
                    <a:pt x="20" y="24"/>
                  </a:lnTo>
                  <a:lnTo>
                    <a:pt x="20" y="24"/>
                  </a:lnTo>
                  <a:lnTo>
                    <a:pt x="20" y="29"/>
                  </a:lnTo>
                  <a:lnTo>
                    <a:pt x="15" y="29"/>
                  </a:lnTo>
                  <a:lnTo>
                    <a:pt x="15" y="29"/>
                  </a:lnTo>
                  <a:lnTo>
                    <a:pt x="15" y="29"/>
                  </a:lnTo>
                  <a:lnTo>
                    <a:pt x="15" y="29"/>
                  </a:lnTo>
                  <a:lnTo>
                    <a:pt x="10" y="29"/>
                  </a:lnTo>
                  <a:lnTo>
                    <a:pt x="10" y="29"/>
                  </a:lnTo>
                  <a:lnTo>
                    <a:pt x="10" y="29"/>
                  </a:lnTo>
                  <a:lnTo>
                    <a:pt x="5" y="29"/>
                  </a:lnTo>
                  <a:lnTo>
                    <a:pt x="5" y="29"/>
                  </a:lnTo>
                  <a:lnTo>
                    <a:pt x="5" y="29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14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5"/>
                  </a:lnTo>
                  <a:lnTo>
                    <a:pt x="5" y="5"/>
                  </a:lnTo>
                  <a:lnTo>
                    <a:pt x="5" y="0"/>
                  </a:lnTo>
                  <a:lnTo>
                    <a:pt x="5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5" y="0"/>
                  </a:lnTo>
                  <a:lnTo>
                    <a:pt x="15" y="5"/>
                  </a:lnTo>
                  <a:lnTo>
                    <a:pt x="15" y="5"/>
                  </a:lnTo>
                  <a:lnTo>
                    <a:pt x="15" y="5"/>
                  </a:lnTo>
                  <a:lnTo>
                    <a:pt x="15" y="5"/>
                  </a:lnTo>
                  <a:lnTo>
                    <a:pt x="20" y="10"/>
                  </a:lnTo>
                  <a:close/>
                  <a:moveTo>
                    <a:pt x="5" y="19"/>
                  </a:moveTo>
                  <a:lnTo>
                    <a:pt x="5" y="24"/>
                  </a:lnTo>
                  <a:lnTo>
                    <a:pt x="5" y="24"/>
                  </a:lnTo>
                  <a:lnTo>
                    <a:pt x="5" y="24"/>
                  </a:lnTo>
                  <a:lnTo>
                    <a:pt x="5" y="24"/>
                  </a:lnTo>
                  <a:lnTo>
                    <a:pt x="5" y="24"/>
                  </a:lnTo>
                  <a:lnTo>
                    <a:pt x="5" y="24"/>
                  </a:lnTo>
                  <a:lnTo>
                    <a:pt x="5" y="24"/>
                  </a:lnTo>
                  <a:lnTo>
                    <a:pt x="10" y="29"/>
                  </a:lnTo>
                  <a:lnTo>
                    <a:pt x="10" y="29"/>
                  </a:lnTo>
                  <a:lnTo>
                    <a:pt x="10" y="29"/>
                  </a:lnTo>
                  <a:lnTo>
                    <a:pt x="10" y="29"/>
                  </a:lnTo>
                  <a:lnTo>
                    <a:pt x="10" y="29"/>
                  </a:lnTo>
                  <a:lnTo>
                    <a:pt x="10" y="29"/>
                  </a:lnTo>
                  <a:lnTo>
                    <a:pt x="15" y="29"/>
                  </a:lnTo>
                  <a:lnTo>
                    <a:pt x="15" y="24"/>
                  </a:lnTo>
                  <a:lnTo>
                    <a:pt x="15" y="24"/>
                  </a:lnTo>
                  <a:lnTo>
                    <a:pt x="15" y="24"/>
                  </a:lnTo>
                  <a:lnTo>
                    <a:pt x="15" y="24"/>
                  </a:lnTo>
                  <a:lnTo>
                    <a:pt x="15" y="24"/>
                  </a:lnTo>
                  <a:lnTo>
                    <a:pt x="15" y="19"/>
                  </a:lnTo>
                  <a:lnTo>
                    <a:pt x="15" y="19"/>
                  </a:lnTo>
                  <a:lnTo>
                    <a:pt x="15" y="19"/>
                  </a:lnTo>
                  <a:lnTo>
                    <a:pt x="15" y="14"/>
                  </a:lnTo>
                  <a:lnTo>
                    <a:pt x="15" y="14"/>
                  </a:lnTo>
                  <a:lnTo>
                    <a:pt x="15" y="14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5" y="14"/>
                  </a:lnTo>
                  <a:lnTo>
                    <a:pt x="5" y="14"/>
                  </a:lnTo>
                  <a:lnTo>
                    <a:pt x="5" y="14"/>
                  </a:lnTo>
                  <a:lnTo>
                    <a:pt x="5" y="19"/>
                  </a:lnTo>
                  <a:lnTo>
                    <a:pt x="5" y="19"/>
                  </a:lnTo>
                  <a:lnTo>
                    <a:pt x="5" y="19"/>
                  </a:lnTo>
                  <a:lnTo>
                    <a:pt x="5" y="19"/>
                  </a:lnTo>
                  <a:close/>
                </a:path>
              </a:pathLst>
            </a:custGeom>
            <a:solidFill>
              <a:srgbClr val="666666"/>
            </a:solidFill>
            <a:ln w="0">
              <a:solidFill>
                <a:srgbClr val="6666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1" name=""/>
            <p:cNvSpPr/>
            <p:nvPr/>
          </p:nvSpPr>
          <p:spPr>
            <a:xfrm>
              <a:off x="5236920" y="4237200"/>
              <a:ext cx="30240" cy="46080"/>
            </a:xfrm>
            <a:custGeom>
              <a:avLst/>
              <a:gdLst/>
              <a:ahLst/>
              <a:rect l="l" t="t" r="r" b="b"/>
              <a:pathLst>
                <a:path w="19" h="29">
                  <a:moveTo>
                    <a:pt x="4" y="14"/>
                  </a:moveTo>
                  <a:lnTo>
                    <a:pt x="0" y="14"/>
                  </a:lnTo>
                  <a:lnTo>
                    <a:pt x="0" y="10"/>
                  </a:lnTo>
                  <a:lnTo>
                    <a:pt x="4" y="10"/>
                  </a:lnTo>
                  <a:lnTo>
                    <a:pt x="4" y="5"/>
                  </a:lnTo>
                  <a:lnTo>
                    <a:pt x="4" y="5"/>
                  </a:lnTo>
                  <a:lnTo>
                    <a:pt x="4" y="5"/>
                  </a:lnTo>
                  <a:lnTo>
                    <a:pt x="4" y="5"/>
                  </a:lnTo>
                  <a:lnTo>
                    <a:pt x="4" y="0"/>
                  </a:lnTo>
                  <a:lnTo>
                    <a:pt x="4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9" y="5"/>
                  </a:lnTo>
                  <a:lnTo>
                    <a:pt x="19" y="5"/>
                  </a:lnTo>
                  <a:lnTo>
                    <a:pt x="19" y="5"/>
                  </a:lnTo>
                  <a:lnTo>
                    <a:pt x="19" y="5"/>
                  </a:lnTo>
                  <a:lnTo>
                    <a:pt x="19" y="10"/>
                  </a:lnTo>
                  <a:lnTo>
                    <a:pt x="19" y="10"/>
                  </a:lnTo>
                  <a:lnTo>
                    <a:pt x="19" y="10"/>
                  </a:lnTo>
                  <a:lnTo>
                    <a:pt x="19" y="14"/>
                  </a:lnTo>
                  <a:lnTo>
                    <a:pt x="19" y="14"/>
                  </a:lnTo>
                  <a:lnTo>
                    <a:pt x="19" y="19"/>
                  </a:lnTo>
                  <a:lnTo>
                    <a:pt x="19" y="19"/>
                  </a:lnTo>
                  <a:lnTo>
                    <a:pt x="19" y="19"/>
                  </a:lnTo>
                  <a:lnTo>
                    <a:pt x="19" y="24"/>
                  </a:lnTo>
                  <a:lnTo>
                    <a:pt x="19" y="24"/>
                  </a:lnTo>
                  <a:lnTo>
                    <a:pt x="19" y="24"/>
                  </a:lnTo>
                  <a:lnTo>
                    <a:pt x="19" y="24"/>
                  </a:lnTo>
                  <a:lnTo>
                    <a:pt x="19" y="29"/>
                  </a:lnTo>
                  <a:lnTo>
                    <a:pt x="14" y="29"/>
                  </a:lnTo>
                  <a:lnTo>
                    <a:pt x="14" y="29"/>
                  </a:lnTo>
                  <a:lnTo>
                    <a:pt x="14" y="29"/>
                  </a:lnTo>
                  <a:lnTo>
                    <a:pt x="9" y="29"/>
                  </a:lnTo>
                  <a:lnTo>
                    <a:pt x="9" y="29"/>
                  </a:lnTo>
                  <a:lnTo>
                    <a:pt x="9" y="29"/>
                  </a:lnTo>
                  <a:lnTo>
                    <a:pt x="4" y="24"/>
                  </a:lnTo>
                  <a:lnTo>
                    <a:pt x="4" y="24"/>
                  </a:lnTo>
                  <a:lnTo>
                    <a:pt x="4" y="19"/>
                  </a:lnTo>
                  <a:lnTo>
                    <a:pt x="4" y="19"/>
                  </a:lnTo>
                  <a:lnTo>
                    <a:pt x="4" y="14"/>
                  </a:lnTo>
                  <a:close/>
                  <a:moveTo>
                    <a:pt x="4" y="14"/>
                  </a:moveTo>
                  <a:lnTo>
                    <a:pt x="4" y="19"/>
                  </a:lnTo>
                  <a:lnTo>
                    <a:pt x="4" y="19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14" y="24"/>
                  </a:lnTo>
                  <a:lnTo>
                    <a:pt x="14" y="24"/>
                  </a:lnTo>
                  <a:lnTo>
                    <a:pt x="14" y="24"/>
                  </a:lnTo>
                  <a:lnTo>
                    <a:pt x="14" y="24"/>
                  </a:lnTo>
                  <a:lnTo>
                    <a:pt x="14" y="24"/>
                  </a:lnTo>
                  <a:lnTo>
                    <a:pt x="19" y="19"/>
                  </a:lnTo>
                  <a:lnTo>
                    <a:pt x="19" y="19"/>
                  </a:lnTo>
                  <a:lnTo>
                    <a:pt x="19" y="14"/>
                  </a:lnTo>
                  <a:lnTo>
                    <a:pt x="19" y="14"/>
                  </a:lnTo>
                  <a:lnTo>
                    <a:pt x="19" y="10"/>
                  </a:lnTo>
                  <a:lnTo>
                    <a:pt x="14" y="10"/>
                  </a:lnTo>
                  <a:lnTo>
                    <a:pt x="14" y="5"/>
                  </a:lnTo>
                  <a:lnTo>
                    <a:pt x="14" y="5"/>
                  </a:lnTo>
                  <a:lnTo>
                    <a:pt x="14" y="5"/>
                  </a:lnTo>
                  <a:lnTo>
                    <a:pt x="14" y="5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lnTo>
                    <a:pt x="4" y="5"/>
                  </a:lnTo>
                  <a:lnTo>
                    <a:pt x="4" y="5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666666"/>
            </a:solidFill>
            <a:ln w="0">
              <a:solidFill>
                <a:srgbClr val="6666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2" name=""/>
            <p:cNvSpPr/>
            <p:nvPr/>
          </p:nvSpPr>
          <p:spPr>
            <a:xfrm flipH="1">
              <a:off x="5181480" y="4267440"/>
              <a:ext cx="7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3" name=""/>
            <p:cNvSpPr/>
            <p:nvPr/>
          </p:nvSpPr>
          <p:spPr>
            <a:xfrm>
              <a:off x="4491000" y="4064040"/>
              <a:ext cx="690480" cy="314280"/>
            </a:xfrm>
            <a:custGeom>
              <a:avLst/>
              <a:gdLst/>
              <a:ahLst/>
              <a:rect l="l" t="t" r="r" b="b"/>
              <a:pathLst>
                <a:path w="435" h="198">
                  <a:moveTo>
                    <a:pt x="435" y="128"/>
                  </a:moveTo>
                  <a:lnTo>
                    <a:pt x="430" y="133"/>
                  </a:lnTo>
                  <a:lnTo>
                    <a:pt x="425" y="133"/>
                  </a:lnTo>
                  <a:lnTo>
                    <a:pt x="420" y="143"/>
                  </a:lnTo>
                  <a:lnTo>
                    <a:pt x="415" y="143"/>
                  </a:lnTo>
                  <a:lnTo>
                    <a:pt x="405" y="148"/>
                  </a:lnTo>
                  <a:lnTo>
                    <a:pt x="400" y="148"/>
                  </a:lnTo>
                  <a:lnTo>
                    <a:pt x="390" y="148"/>
                  </a:lnTo>
                  <a:lnTo>
                    <a:pt x="380" y="148"/>
                  </a:lnTo>
                  <a:lnTo>
                    <a:pt x="371" y="148"/>
                  </a:lnTo>
                  <a:lnTo>
                    <a:pt x="361" y="148"/>
                  </a:lnTo>
                  <a:lnTo>
                    <a:pt x="356" y="153"/>
                  </a:lnTo>
                  <a:lnTo>
                    <a:pt x="351" y="158"/>
                  </a:lnTo>
                  <a:lnTo>
                    <a:pt x="346" y="163"/>
                  </a:lnTo>
                  <a:lnTo>
                    <a:pt x="341" y="168"/>
                  </a:lnTo>
                  <a:lnTo>
                    <a:pt x="336" y="168"/>
                  </a:lnTo>
                  <a:lnTo>
                    <a:pt x="331" y="173"/>
                  </a:lnTo>
                  <a:lnTo>
                    <a:pt x="326" y="178"/>
                  </a:lnTo>
                  <a:lnTo>
                    <a:pt x="321" y="183"/>
                  </a:lnTo>
                  <a:lnTo>
                    <a:pt x="311" y="188"/>
                  </a:lnTo>
                  <a:lnTo>
                    <a:pt x="306" y="188"/>
                  </a:lnTo>
                  <a:lnTo>
                    <a:pt x="296" y="193"/>
                  </a:lnTo>
                  <a:lnTo>
                    <a:pt x="287" y="188"/>
                  </a:lnTo>
                  <a:lnTo>
                    <a:pt x="277" y="188"/>
                  </a:lnTo>
                  <a:lnTo>
                    <a:pt x="272" y="183"/>
                  </a:lnTo>
                  <a:lnTo>
                    <a:pt x="262" y="183"/>
                  </a:lnTo>
                  <a:lnTo>
                    <a:pt x="257" y="178"/>
                  </a:lnTo>
                  <a:lnTo>
                    <a:pt x="252" y="173"/>
                  </a:lnTo>
                  <a:lnTo>
                    <a:pt x="247" y="168"/>
                  </a:lnTo>
                  <a:lnTo>
                    <a:pt x="242" y="163"/>
                  </a:lnTo>
                  <a:lnTo>
                    <a:pt x="237" y="158"/>
                  </a:lnTo>
                  <a:lnTo>
                    <a:pt x="232" y="153"/>
                  </a:lnTo>
                  <a:lnTo>
                    <a:pt x="227" y="148"/>
                  </a:lnTo>
                  <a:lnTo>
                    <a:pt x="217" y="148"/>
                  </a:lnTo>
                  <a:lnTo>
                    <a:pt x="212" y="148"/>
                  </a:lnTo>
                  <a:lnTo>
                    <a:pt x="202" y="153"/>
                  </a:lnTo>
                  <a:lnTo>
                    <a:pt x="193" y="153"/>
                  </a:lnTo>
                  <a:lnTo>
                    <a:pt x="193" y="148"/>
                  </a:lnTo>
                  <a:lnTo>
                    <a:pt x="188" y="143"/>
                  </a:lnTo>
                  <a:lnTo>
                    <a:pt x="188" y="138"/>
                  </a:lnTo>
                  <a:lnTo>
                    <a:pt x="183" y="128"/>
                  </a:lnTo>
                  <a:lnTo>
                    <a:pt x="183" y="123"/>
                  </a:lnTo>
                  <a:lnTo>
                    <a:pt x="178" y="119"/>
                  </a:lnTo>
                  <a:lnTo>
                    <a:pt x="173" y="114"/>
                  </a:lnTo>
                  <a:lnTo>
                    <a:pt x="163" y="114"/>
                  </a:lnTo>
                  <a:lnTo>
                    <a:pt x="158" y="109"/>
                  </a:lnTo>
                  <a:lnTo>
                    <a:pt x="148" y="109"/>
                  </a:lnTo>
                  <a:lnTo>
                    <a:pt x="138" y="109"/>
                  </a:lnTo>
                  <a:lnTo>
                    <a:pt x="133" y="114"/>
                  </a:lnTo>
                  <a:lnTo>
                    <a:pt x="128" y="119"/>
                  </a:lnTo>
                  <a:lnTo>
                    <a:pt x="123" y="123"/>
                  </a:lnTo>
                  <a:lnTo>
                    <a:pt x="118" y="128"/>
                  </a:lnTo>
                  <a:lnTo>
                    <a:pt x="113" y="133"/>
                  </a:lnTo>
                  <a:lnTo>
                    <a:pt x="108" y="128"/>
                  </a:lnTo>
                  <a:lnTo>
                    <a:pt x="118" y="128"/>
                  </a:lnTo>
                  <a:lnTo>
                    <a:pt x="128" y="123"/>
                  </a:lnTo>
                  <a:lnTo>
                    <a:pt x="133" y="119"/>
                  </a:lnTo>
                  <a:lnTo>
                    <a:pt x="138" y="114"/>
                  </a:lnTo>
                  <a:lnTo>
                    <a:pt x="138" y="109"/>
                  </a:lnTo>
                  <a:lnTo>
                    <a:pt x="138" y="104"/>
                  </a:lnTo>
                  <a:lnTo>
                    <a:pt x="138" y="99"/>
                  </a:lnTo>
                  <a:lnTo>
                    <a:pt x="133" y="94"/>
                  </a:lnTo>
                  <a:lnTo>
                    <a:pt x="128" y="89"/>
                  </a:lnTo>
                  <a:lnTo>
                    <a:pt x="123" y="84"/>
                  </a:lnTo>
                  <a:lnTo>
                    <a:pt x="113" y="79"/>
                  </a:lnTo>
                  <a:lnTo>
                    <a:pt x="108" y="74"/>
                  </a:lnTo>
                  <a:lnTo>
                    <a:pt x="108" y="69"/>
                  </a:lnTo>
                  <a:lnTo>
                    <a:pt x="104" y="64"/>
                  </a:lnTo>
                  <a:lnTo>
                    <a:pt x="104" y="59"/>
                  </a:lnTo>
                  <a:lnTo>
                    <a:pt x="99" y="54"/>
                  </a:lnTo>
                  <a:lnTo>
                    <a:pt x="94" y="49"/>
                  </a:lnTo>
                  <a:lnTo>
                    <a:pt x="89" y="44"/>
                  </a:lnTo>
                  <a:lnTo>
                    <a:pt x="84" y="39"/>
                  </a:lnTo>
                  <a:lnTo>
                    <a:pt x="79" y="34"/>
                  </a:lnTo>
                  <a:lnTo>
                    <a:pt x="79" y="30"/>
                  </a:lnTo>
                  <a:lnTo>
                    <a:pt x="74" y="20"/>
                  </a:lnTo>
                  <a:lnTo>
                    <a:pt x="74" y="15"/>
                  </a:lnTo>
                  <a:lnTo>
                    <a:pt x="69" y="10"/>
                  </a:lnTo>
                  <a:lnTo>
                    <a:pt x="69" y="5"/>
                  </a:lnTo>
                  <a:lnTo>
                    <a:pt x="64" y="0"/>
                  </a:lnTo>
                  <a:lnTo>
                    <a:pt x="54" y="0"/>
                  </a:lnTo>
                  <a:lnTo>
                    <a:pt x="49" y="5"/>
                  </a:lnTo>
                  <a:lnTo>
                    <a:pt x="44" y="10"/>
                  </a:lnTo>
                  <a:lnTo>
                    <a:pt x="39" y="20"/>
                  </a:lnTo>
                  <a:lnTo>
                    <a:pt x="39" y="25"/>
                  </a:lnTo>
                  <a:lnTo>
                    <a:pt x="39" y="30"/>
                  </a:lnTo>
                  <a:lnTo>
                    <a:pt x="39" y="34"/>
                  </a:lnTo>
                  <a:lnTo>
                    <a:pt x="44" y="39"/>
                  </a:lnTo>
                  <a:lnTo>
                    <a:pt x="49" y="44"/>
                  </a:lnTo>
                  <a:lnTo>
                    <a:pt x="49" y="54"/>
                  </a:lnTo>
                  <a:lnTo>
                    <a:pt x="49" y="59"/>
                  </a:lnTo>
                  <a:lnTo>
                    <a:pt x="54" y="64"/>
                  </a:lnTo>
                  <a:lnTo>
                    <a:pt x="54" y="69"/>
                  </a:lnTo>
                  <a:lnTo>
                    <a:pt x="54" y="74"/>
                  </a:lnTo>
                  <a:lnTo>
                    <a:pt x="59" y="79"/>
                  </a:lnTo>
                  <a:lnTo>
                    <a:pt x="64" y="84"/>
                  </a:lnTo>
                  <a:lnTo>
                    <a:pt x="69" y="89"/>
                  </a:lnTo>
                  <a:lnTo>
                    <a:pt x="74" y="94"/>
                  </a:lnTo>
                  <a:lnTo>
                    <a:pt x="74" y="99"/>
                  </a:lnTo>
                  <a:lnTo>
                    <a:pt x="74" y="109"/>
                  </a:lnTo>
                  <a:lnTo>
                    <a:pt x="74" y="114"/>
                  </a:lnTo>
                  <a:lnTo>
                    <a:pt x="69" y="119"/>
                  </a:lnTo>
                  <a:lnTo>
                    <a:pt x="64" y="123"/>
                  </a:lnTo>
                  <a:lnTo>
                    <a:pt x="59" y="123"/>
                  </a:lnTo>
                  <a:lnTo>
                    <a:pt x="54" y="119"/>
                  </a:lnTo>
                  <a:lnTo>
                    <a:pt x="49" y="114"/>
                  </a:lnTo>
                  <a:lnTo>
                    <a:pt x="44" y="109"/>
                  </a:lnTo>
                  <a:lnTo>
                    <a:pt x="34" y="104"/>
                  </a:lnTo>
                  <a:lnTo>
                    <a:pt x="29" y="104"/>
                  </a:lnTo>
                  <a:lnTo>
                    <a:pt x="19" y="99"/>
                  </a:lnTo>
                  <a:lnTo>
                    <a:pt x="10" y="99"/>
                  </a:lnTo>
                  <a:lnTo>
                    <a:pt x="5" y="104"/>
                  </a:lnTo>
                  <a:lnTo>
                    <a:pt x="5" y="109"/>
                  </a:lnTo>
                  <a:lnTo>
                    <a:pt x="5" y="114"/>
                  </a:lnTo>
                  <a:lnTo>
                    <a:pt x="5" y="123"/>
                  </a:lnTo>
                  <a:lnTo>
                    <a:pt x="5" y="128"/>
                  </a:lnTo>
                  <a:lnTo>
                    <a:pt x="5" y="133"/>
                  </a:lnTo>
                  <a:lnTo>
                    <a:pt x="0" y="138"/>
                  </a:lnTo>
                  <a:lnTo>
                    <a:pt x="0" y="143"/>
                  </a:lnTo>
                  <a:lnTo>
                    <a:pt x="0" y="148"/>
                  </a:lnTo>
                  <a:lnTo>
                    <a:pt x="0" y="158"/>
                  </a:lnTo>
                  <a:lnTo>
                    <a:pt x="5" y="163"/>
                  </a:lnTo>
                  <a:lnTo>
                    <a:pt x="15" y="158"/>
                  </a:lnTo>
                  <a:lnTo>
                    <a:pt x="19" y="153"/>
                  </a:lnTo>
                  <a:lnTo>
                    <a:pt x="24" y="153"/>
                  </a:lnTo>
                  <a:lnTo>
                    <a:pt x="34" y="148"/>
                  </a:lnTo>
                  <a:lnTo>
                    <a:pt x="44" y="148"/>
                  </a:lnTo>
                  <a:lnTo>
                    <a:pt x="54" y="148"/>
                  </a:lnTo>
                  <a:lnTo>
                    <a:pt x="59" y="148"/>
                  </a:lnTo>
                  <a:lnTo>
                    <a:pt x="64" y="153"/>
                  </a:lnTo>
                  <a:lnTo>
                    <a:pt x="69" y="158"/>
                  </a:lnTo>
                  <a:lnTo>
                    <a:pt x="74" y="163"/>
                  </a:lnTo>
                  <a:lnTo>
                    <a:pt x="74" y="168"/>
                  </a:lnTo>
                  <a:lnTo>
                    <a:pt x="79" y="173"/>
                  </a:lnTo>
                  <a:lnTo>
                    <a:pt x="84" y="178"/>
                  </a:lnTo>
                  <a:lnTo>
                    <a:pt x="89" y="183"/>
                  </a:lnTo>
                  <a:lnTo>
                    <a:pt x="94" y="188"/>
                  </a:lnTo>
                  <a:lnTo>
                    <a:pt x="94" y="193"/>
                  </a:lnTo>
                  <a:lnTo>
                    <a:pt x="99" y="19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4" name=""/>
            <p:cNvSpPr/>
            <p:nvPr/>
          </p:nvSpPr>
          <p:spPr>
            <a:xfrm>
              <a:off x="4647960" y="4378320"/>
              <a:ext cx="18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5" name=""/>
            <p:cNvSpPr/>
            <p:nvPr/>
          </p:nvSpPr>
          <p:spPr>
            <a:xfrm>
              <a:off x="4670280" y="4416480"/>
              <a:ext cx="39600" cy="3996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0" y="10"/>
                  </a:moveTo>
                  <a:lnTo>
                    <a:pt x="5" y="10"/>
                  </a:lnTo>
                  <a:lnTo>
                    <a:pt x="0" y="10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5" y="20"/>
                  </a:lnTo>
                  <a:lnTo>
                    <a:pt x="5" y="20"/>
                  </a:lnTo>
                  <a:lnTo>
                    <a:pt x="5" y="20"/>
                  </a:lnTo>
                  <a:lnTo>
                    <a:pt x="5" y="20"/>
                  </a:lnTo>
                  <a:lnTo>
                    <a:pt x="5" y="20"/>
                  </a:lnTo>
                  <a:lnTo>
                    <a:pt x="5" y="20"/>
                  </a:lnTo>
                  <a:lnTo>
                    <a:pt x="10" y="20"/>
                  </a:lnTo>
                  <a:lnTo>
                    <a:pt x="10" y="20"/>
                  </a:lnTo>
                  <a:lnTo>
                    <a:pt x="10" y="20"/>
                  </a:lnTo>
                  <a:lnTo>
                    <a:pt x="10" y="20"/>
                  </a:lnTo>
                  <a:lnTo>
                    <a:pt x="15" y="20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0" y="15"/>
                  </a:lnTo>
                  <a:lnTo>
                    <a:pt x="10" y="15"/>
                  </a:lnTo>
                  <a:lnTo>
                    <a:pt x="10" y="15"/>
                  </a:lnTo>
                  <a:lnTo>
                    <a:pt x="10" y="15"/>
                  </a:lnTo>
                  <a:lnTo>
                    <a:pt x="10" y="15"/>
                  </a:lnTo>
                  <a:lnTo>
                    <a:pt x="10" y="15"/>
                  </a:lnTo>
                  <a:lnTo>
                    <a:pt x="5" y="10"/>
                  </a:lnTo>
                  <a:lnTo>
                    <a:pt x="5" y="10"/>
                  </a:lnTo>
                  <a:lnTo>
                    <a:pt x="5" y="10"/>
                  </a:lnTo>
                  <a:lnTo>
                    <a:pt x="5" y="5"/>
                  </a:lnTo>
                  <a:lnTo>
                    <a:pt x="5" y="5"/>
                  </a:lnTo>
                  <a:lnTo>
                    <a:pt x="10" y="5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5"/>
                  </a:lnTo>
                  <a:lnTo>
                    <a:pt x="25" y="5"/>
                  </a:lnTo>
                  <a:lnTo>
                    <a:pt x="25" y="10"/>
                  </a:lnTo>
                  <a:lnTo>
                    <a:pt x="25" y="10"/>
                  </a:lnTo>
                  <a:lnTo>
                    <a:pt x="25" y="10"/>
                  </a:lnTo>
                  <a:lnTo>
                    <a:pt x="25" y="15"/>
                  </a:lnTo>
                  <a:lnTo>
                    <a:pt x="20" y="15"/>
                  </a:lnTo>
                  <a:lnTo>
                    <a:pt x="20" y="20"/>
                  </a:lnTo>
                  <a:lnTo>
                    <a:pt x="15" y="20"/>
                  </a:lnTo>
                  <a:lnTo>
                    <a:pt x="10" y="25"/>
                  </a:lnTo>
                  <a:lnTo>
                    <a:pt x="10" y="25"/>
                  </a:lnTo>
                  <a:lnTo>
                    <a:pt x="5" y="25"/>
                  </a:lnTo>
                  <a:lnTo>
                    <a:pt x="5" y="25"/>
                  </a:lnTo>
                  <a:lnTo>
                    <a:pt x="5" y="25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close/>
                  <a:moveTo>
                    <a:pt x="20" y="15"/>
                  </a:moveTo>
                  <a:lnTo>
                    <a:pt x="20" y="15"/>
                  </a:lnTo>
                  <a:lnTo>
                    <a:pt x="20" y="10"/>
                  </a:lnTo>
                  <a:lnTo>
                    <a:pt x="20" y="10"/>
                  </a:lnTo>
                  <a:lnTo>
                    <a:pt x="20" y="10"/>
                  </a:lnTo>
                  <a:lnTo>
                    <a:pt x="20" y="10"/>
                  </a:lnTo>
                  <a:lnTo>
                    <a:pt x="25" y="10"/>
                  </a:lnTo>
                  <a:lnTo>
                    <a:pt x="25" y="10"/>
                  </a:lnTo>
                  <a:lnTo>
                    <a:pt x="25" y="5"/>
                  </a:lnTo>
                  <a:lnTo>
                    <a:pt x="25" y="5"/>
                  </a:lnTo>
                  <a:lnTo>
                    <a:pt x="20" y="5"/>
                  </a:lnTo>
                  <a:lnTo>
                    <a:pt x="20" y="5"/>
                  </a:lnTo>
                  <a:lnTo>
                    <a:pt x="20" y="5"/>
                  </a:lnTo>
                  <a:lnTo>
                    <a:pt x="20" y="5"/>
                  </a:lnTo>
                  <a:lnTo>
                    <a:pt x="20" y="5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5"/>
                  </a:lnTo>
                  <a:lnTo>
                    <a:pt x="15" y="5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10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20" y="15"/>
                  </a:lnTo>
                  <a:lnTo>
                    <a:pt x="20" y="15"/>
                  </a:lnTo>
                  <a:close/>
                </a:path>
              </a:pathLst>
            </a:custGeom>
            <a:solidFill>
              <a:srgbClr val="666666"/>
            </a:solidFill>
            <a:ln w="0">
              <a:solidFill>
                <a:srgbClr val="6666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6" name=""/>
            <p:cNvSpPr/>
            <p:nvPr/>
          </p:nvSpPr>
          <p:spPr>
            <a:xfrm>
              <a:off x="4647960" y="4386600"/>
              <a:ext cx="38160" cy="378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9" y="19"/>
                  </a:moveTo>
                  <a:lnTo>
                    <a:pt x="14" y="19"/>
                  </a:lnTo>
                  <a:lnTo>
                    <a:pt x="14" y="24"/>
                  </a:lnTo>
                  <a:lnTo>
                    <a:pt x="14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5" y="24"/>
                  </a:lnTo>
                  <a:lnTo>
                    <a:pt x="5" y="24"/>
                  </a:lnTo>
                  <a:lnTo>
                    <a:pt x="5" y="24"/>
                  </a:lnTo>
                  <a:lnTo>
                    <a:pt x="5" y="24"/>
                  </a:lnTo>
                  <a:lnTo>
                    <a:pt x="0" y="24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5" y="9"/>
                  </a:lnTo>
                  <a:lnTo>
                    <a:pt x="5" y="9"/>
                  </a:lnTo>
                  <a:lnTo>
                    <a:pt x="5" y="4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4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24" y="0"/>
                  </a:lnTo>
                  <a:lnTo>
                    <a:pt x="24" y="4"/>
                  </a:lnTo>
                  <a:lnTo>
                    <a:pt x="24" y="4"/>
                  </a:lnTo>
                  <a:lnTo>
                    <a:pt x="24" y="4"/>
                  </a:lnTo>
                  <a:lnTo>
                    <a:pt x="24" y="9"/>
                  </a:lnTo>
                  <a:lnTo>
                    <a:pt x="24" y="9"/>
                  </a:lnTo>
                  <a:lnTo>
                    <a:pt x="24" y="9"/>
                  </a:lnTo>
                  <a:lnTo>
                    <a:pt x="24" y="14"/>
                  </a:lnTo>
                  <a:lnTo>
                    <a:pt x="24" y="14"/>
                  </a:lnTo>
                  <a:lnTo>
                    <a:pt x="19" y="19"/>
                  </a:lnTo>
                  <a:lnTo>
                    <a:pt x="19" y="19"/>
                  </a:lnTo>
                  <a:close/>
                  <a:moveTo>
                    <a:pt x="14" y="19"/>
                  </a:moveTo>
                  <a:lnTo>
                    <a:pt x="19" y="14"/>
                  </a:lnTo>
                  <a:lnTo>
                    <a:pt x="19" y="14"/>
                  </a:lnTo>
                  <a:lnTo>
                    <a:pt x="24" y="9"/>
                  </a:lnTo>
                  <a:lnTo>
                    <a:pt x="24" y="9"/>
                  </a:lnTo>
                  <a:lnTo>
                    <a:pt x="24" y="9"/>
                  </a:lnTo>
                  <a:lnTo>
                    <a:pt x="24" y="9"/>
                  </a:lnTo>
                  <a:lnTo>
                    <a:pt x="24" y="4"/>
                  </a:lnTo>
                  <a:lnTo>
                    <a:pt x="24" y="4"/>
                  </a:lnTo>
                  <a:lnTo>
                    <a:pt x="19" y="4"/>
                  </a:lnTo>
                  <a:lnTo>
                    <a:pt x="19" y="4"/>
                  </a:lnTo>
                  <a:lnTo>
                    <a:pt x="19" y="4"/>
                  </a:lnTo>
                  <a:lnTo>
                    <a:pt x="19" y="4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9" y="9"/>
                  </a:lnTo>
                  <a:lnTo>
                    <a:pt x="5" y="9"/>
                  </a:lnTo>
                  <a:lnTo>
                    <a:pt x="5" y="9"/>
                  </a:lnTo>
                  <a:lnTo>
                    <a:pt x="5" y="14"/>
                  </a:lnTo>
                  <a:lnTo>
                    <a:pt x="5" y="14"/>
                  </a:lnTo>
                  <a:lnTo>
                    <a:pt x="5" y="14"/>
                  </a:lnTo>
                  <a:lnTo>
                    <a:pt x="5" y="19"/>
                  </a:lnTo>
                  <a:lnTo>
                    <a:pt x="5" y="19"/>
                  </a:lnTo>
                  <a:lnTo>
                    <a:pt x="5" y="19"/>
                  </a:lnTo>
                  <a:lnTo>
                    <a:pt x="5" y="19"/>
                  </a:lnTo>
                  <a:lnTo>
                    <a:pt x="5" y="19"/>
                  </a:lnTo>
                  <a:lnTo>
                    <a:pt x="5" y="19"/>
                  </a:lnTo>
                  <a:lnTo>
                    <a:pt x="9" y="19"/>
                  </a:lnTo>
                  <a:lnTo>
                    <a:pt x="9" y="19"/>
                  </a:lnTo>
                  <a:lnTo>
                    <a:pt x="9" y="19"/>
                  </a:lnTo>
                  <a:lnTo>
                    <a:pt x="14" y="19"/>
                  </a:lnTo>
                  <a:lnTo>
                    <a:pt x="14" y="19"/>
                  </a:lnTo>
                  <a:close/>
                </a:path>
              </a:pathLst>
            </a:custGeom>
            <a:solidFill>
              <a:srgbClr val="666666"/>
            </a:solidFill>
            <a:ln w="0">
              <a:solidFill>
                <a:srgbClr val="6666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7" name=""/>
            <p:cNvSpPr/>
            <p:nvPr/>
          </p:nvSpPr>
          <p:spPr>
            <a:xfrm>
              <a:off x="4709880" y="4464360"/>
              <a:ext cx="18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8" name=""/>
            <p:cNvSpPr/>
            <p:nvPr/>
          </p:nvSpPr>
          <p:spPr>
            <a:xfrm>
              <a:off x="4074840" y="4464360"/>
              <a:ext cx="847800" cy="525240"/>
            </a:xfrm>
            <a:custGeom>
              <a:avLst/>
              <a:gdLst/>
              <a:ahLst/>
              <a:rect l="l" t="t" r="r" b="b"/>
              <a:pathLst>
                <a:path w="534" h="331">
                  <a:moveTo>
                    <a:pt x="400" y="0"/>
                  </a:moveTo>
                  <a:lnTo>
                    <a:pt x="405" y="5"/>
                  </a:lnTo>
                  <a:lnTo>
                    <a:pt x="410" y="10"/>
                  </a:lnTo>
                  <a:lnTo>
                    <a:pt x="410" y="15"/>
                  </a:lnTo>
                  <a:lnTo>
                    <a:pt x="415" y="20"/>
                  </a:lnTo>
                  <a:lnTo>
                    <a:pt x="420" y="25"/>
                  </a:lnTo>
                  <a:lnTo>
                    <a:pt x="425" y="30"/>
                  </a:lnTo>
                  <a:lnTo>
                    <a:pt x="425" y="35"/>
                  </a:lnTo>
                  <a:lnTo>
                    <a:pt x="430" y="39"/>
                  </a:lnTo>
                  <a:lnTo>
                    <a:pt x="435" y="44"/>
                  </a:lnTo>
                  <a:lnTo>
                    <a:pt x="445" y="49"/>
                  </a:lnTo>
                  <a:lnTo>
                    <a:pt x="450" y="54"/>
                  </a:lnTo>
                  <a:lnTo>
                    <a:pt x="455" y="59"/>
                  </a:lnTo>
                  <a:lnTo>
                    <a:pt x="460" y="64"/>
                  </a:lnTo>
                  <a:lnTo>
                    <a:pt x="464" y="59"/>
                  </a:lnTo>
                  <a:lnTo>
                    <a:pt x="469" y="54"/>
                  </a:lnTo>
                  <a:lnTo>
                    <a:pt x="474" y="49"/>
                  </a:lnTo>
                  <a:lnTo>
                    <a:pt x="479" y="44"/>
                  </a:lnTo>
                  <a:lnTo>
                    <a:pt x="479" y="39"/>
                  </a:lnTo>
                  <a:lnTo>
                    <a:pt x="484" y="30"/>
                  </a:lnTo>
                  <a:lnTo>
                    <a:pt x="489" y="30"/>
                  </a:lnTo>
                  <a:lnTo>
                    <a:pt x="499" y="25"/>
                  </a:lnTo>
                  <a:lnTo>
                    <a:pt x="504" y="25"/>
                  </a:lnTo>
                  <a:lnTo>
                    <a:pt x="514" y="25"/>
                  </a:lnTo>
                  <a:lnTo>
                    <a:pt x="524" y="30"/>
                  </a:lnTo>
                  <a:lnTo>
                    <a:pt x="529" y="35"/>
                  </a:lnTo>
                  <a:lnTo>
                    <a:pt x="534" y="35"/>
                  </a:lnTo>
                  <a:lnTo>
                    <a:pt x="534" y="39"/>
                  </a:lnTo>
                  <a:lnTo>
                    <a:pt x="524" y="44"/>
                  </a:lnTo>
                  <a:lnTo>
                    <a:pt x="519" y="44"/>
                  </a:lnTo>
                  <a:lnTo>
                    <a:pt x="509" y="44"/>
                  </a:lnTo>
                  <a:lnTo>
                    <a:pt x="499" y="44"/>
                  </a:lnTo>
                  <a:lnTo>
                    <a:pt x="489" y="44"/>
                  </a:lnTo>
                  <a:lnTo>
                    <a:pt x="484" y="44"/>
                  </a:lnTo>
                  <a:lnTo>
                    <a:pt x="474" y="49"/>
                  </a:lnTo>
                  <a:lnTo>
                    <a:pt x="469" y="54"/>
                  </a:lnTo>
                  <a:lnTo>
                    <a:pt x="464" y="59"/>
                  </a:lnTo>
                  <a:lnTo>
                    <a:pt x="460" y="64"/>
                  </a:lnTo>
                  <a:lnTo>
                    <a:pt x="455" y="69"/>
                  </a:lnTo>
                  <a:lnTo>
                    <a:pt x="450" y="69"/>
                  </a:lnTo>
                  <a:lnTo>
                    <a:pt x="440" y="74"/>
                  </a:lnTo>
                  <a:lnTo>
                    <a:pt x="435" y="79"/>
                  </a:lnTo>
                  <a:lnTo>
                    <a:pt x="425" y="79"/>
                  </a:lnTo>
                  <a:lnTo>
                    <a:pt x="420" y="84"/>
                  </a:lnTo>
                  <a:lnTo>
                    <a:pt x="410" y="89"/>
                  </a:lnTo>
                  <a:lnTo>
                    <a:pt x="405" y="89"/>
                  </a:lnTo>
                  <a:lnTo>
                    <a:pt x="395" y="94"/>
                  </a:lnTo>
                  <a:lnTo>
                    <a:pt x="390" y="94"/>
                  </a:lnTo>
                  <a:lnTo>
                    <a:pt x="380" y="99"/>
                  </a:lnTo>
                  <a:lnTo>
                    <a:pt x="375" y="104"/>
                  </a:lnTo>
                  <a:lnTo>
                    <a:pt x="370" y="109"/>
                  </a:lnTo>
                  <a:lnTo>
                    <a:pt x="366" y="114"/>
                  </a:lnTo>
                  <a:lnTo>
                    <a:pt x="361" y="119"/>
                  </a:lnTo>
                  <a:lnTo>
                    <a:pt x="356" y="119"/>
                  </a:lnTo>
                  <a:lnTo>
                    <a:pt x="346" y="124"/>
                  </a:lnTo>
                  <a:lnTo>
                    <a:pt x="336" y="124"/>
                  </a:lnTo>
                  <a:lnTo>
                    <a:pt x="331" y="128"/>
                  </a:lnTo>
                  <a:lnTo>
                    <a:pt x="321" y="128"/>
                  </a:lnTo>
                  <a:lnTo>
                    <a:pt x="311" y="128"/>
                  </a:lnTo>
                  <a:lnTo>
                    <a:pt x="301" y="128"/>
                  </a:lnTo>
                  <a:lnTo>
                    <a:pt x="296" y="133"/>
                  </a:lnTo>
                  <a:lnTo>
                    <a:pt x="286" y="133"/>
                  </a:lnTo>
                  <a:lnTo>
                    <a:pt x="281" y="138"/>
                  </a:lnTo>
                  <a:lnTo>
                    <a:pt x="277" y="143"/>
                  </a:lnTo>
                  <a:lnTo>
                    <a:pt x="272" y="148"/>
                  </a:lnTo>
                  <a:lnTo>
                    <a:pt x="262" y="153"/>
                  </a:lnTo>
                  <a:lnTo>
                    <a:pt x="257" y="153"/>
                  </a:lnTo>
                  <a:lnTo>
                    <a:pt x="247" y="158"/>
                  </a:lnTo>
                  <a:lnTo>
                    <a:pt x="242" y="158"/>
                  </a:lnTo>
                  <a:lnTo>
                    <a:pt x="237" y="163"/>
                  </a:lnTo>
                  <a:lnTo>
                    <a:pt x="227" y="168"/>
                  </a:lnTo>
                  <a:lnTo>
                    <a:pt x="222" y="173"/>
                  </a:lnTo>
                  <a:lnTo>
                    <a:pt x="217" y="178"/>
                  </a:lnTo>
                  <a:lnTo>
                    <a:pt x="212" y="183"/>
                  </a:lnTo>
                  <a:lnTo>
                    <a:pt x="212" y="188"/>
                  </a:lnTo>
                  <a:lnTo>
                    <a:pt x="207" y="193"/>
                  </a:lnTo>
                  <a:lnTo>
                    <a:pt x="202" y="198"/>
                  </a:lnTo>
                  <a:lnTo>
                    <a:pt x="202" y="203"/>
                  </a:lnTo>
                  <a:lnTo>
                    <a:pt x="197" y="208"/>
                  </a:lnTo>
                  <a:lnTo>
                    <a:pt x="192" y="212"/>
                  </a:lnTo>
                  <a:lnTo>
                    <a:pt x="188" y="217"/>
                  </a:lnTo>
                  <a:lnTo>
                    <a:pt x="183" y="222"/>
                  </a:lnTo>
                  <a:lnTo>
                    <a:pt x="173" y="227"/>
                  </a:lnTo>
                  <a:lnTo>
                    <a:pt x="173" y="232"/>
                  </a:lnTo>
                  <a:lnTo>
                    <a:pt x="173" y="237"/>
                  </a:lnTo>
                  <a:lnTo>
                    <a:pt x="173" y="242"/>
                  </a:lnTo>
                  <a:lnTo>
                    <a:pt x="173" y="247"/>
                  </a:lnTo>
                  <a:lnTo>
                    <a:pt x="168" y="257"/>
                  </a:lnTo>
                  <a:lnTo>
                    <a:pt x="163" y="257"/>
                  </a:lnTo>
                  <a:lnTo>
                    <a:pt x="158" y="252"/>
                  </a:lnTo>
                  <a:lnTo>
                    <a:pt x="153" y="247"/>
                  </a:lnTo>
                  <a:lnTo>
                    <a:pt x="148" y="237"/>
                  </a:lnTo>
                  <a:lnTo>
                    <a:pt x="148" y="232"/>
                  </a:lnTo>
                  <a:lnTo>
                    <a:pt x="143" y="227"/>
                  </a:lnTo>
                  <a:lnTo>
                    <a:pt x="138" y="227"/>
                  </a:lnTo>
                  <a:lnTo>
                    <a:pt x="133" y="227"/>
                  </a:lnTo>
                  <a:lnTo>
                    <a:pt x="123" y="232"/>
                  </a:lnTo>
                  <a:lnTo>
                    <a:pt x="118" y="237"/>
                  </a:lnTo>
                  <a:lnTo>
                    <a:pt x="108" y="242"/>
                  </a:lnTo>
                  <a:lnTo>
                    <a:pt x="98" y="242"/>
                  </a:lnTo>
                  <a:lnTo>
                    <a:pt x="94" y="247"/>
                  </a:lnTo>
                  <a:lnTo>
                    <a:pt x="84" y="247"/>
                  </a:lnTo>
                  <a:lnTo>
                    <a:pt x="79" y="247"/>
                  </a:lnTo>
                  <a:lnTo>
                    <a:pt x="69" y="252"/>
                  </a:lnTo>
                  <a:lnTo>
                    <a:pt x="59" y="252"/>
                  </a:lnTo>
                  <a:lnTo>
                    <a:pt x="54" y="257"/>
                  </a:lnTo>
                  <a:lnTo>
                    <a:pt x="44" y="257"/>
                  </a:lnTo>
                  <a:lnTo>
                    <a:pt x="39" y="262"/>
                  </a:lnTo>
                  <a:lnTo>
                    <a:pt x="29" y="262"/>
                  </a:lnTo>
                  <a:lnTo>
                    <a:pt x="19" y="267"/>
                  </a:lnTo>
                  <a:lnTo>
                    <a:pt x="9" y="272"/>
                  </a:lnTo>
                  <a:lnTo>
                    <a:pt x="5" y="277"/>
                  </a:lnTo>
                  <a:lnTo>
                    <a:pt x="5" y="282"/>
                  </a:lnTo>
                  <a:lnTo>
                    <a:pt x="5" y="287"/>
                  </a:lnTo>
                  <a:lnTo>
                    <a:pt x="5" y="292"/>
                  </a:lnTo>
                  <a:lnTo>
                    <a:pt x="0" y="297"/>
                  </a:lnTo>
                  <a:lnTo>
                    <a:pt x="0" y="301"/>
                  </a:lnTo>
                  <a:lnTo>
                    <a:pt x="0" y="306"/>
                  </a:lnTo>
                  <a:lnTo>
                    <a:pt x="0" y="316"/>
                  </a:lnTo>
                  <a:lnTo>
                    <a:pt x="0" y="321"/>
                  </a:lnTo>
                  <a:lnTo>
                    <a:pt x="0" y="326"/>
                  </a:lnTo>
                  <a:lnTo>
                    <a:pt x="0" y="33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9" name=""/>
            <p:cNvSpPr/>
            <p:nvPr/>
          </p:nvSpPr>
          <p:spPr>
            <a:xfrm>
              <a:off x="4192560" y="4973760"/>
              <a:ext cx="54000" cy="15840"/>
            </a:xfrm>
            <a:custGeom>
              <a:avLst/>
              <a:gdLst/>
              <a:ahLst/>
              <a:rect l="l" t="t" r="r" b="b"/>
              <a:pathLst>
                <a:path w="34" h="10">
                  <a:moveTo>
                    <a:pt x="34" y="10"/>
                  </a:moveTo>
                  <a:lnTo>
                    <a:pt x="29" y="5"/>
                  </a:lnTo>
                  <a:lnTo>
                    <a:pt x="24" y="5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10" y="0"/>
                  </a:lnTo>
                  <a:lnTo>
                    <a:pt x="10" y="5"/>
                  </a:lnTo>
                  <a:lnTo>
                    <a:pt x="5" y="5"/>
                  </a:lnTo>
                  <a:lnTo>
                    <a:pt x="0" y="1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0" name=""/>
            <p:cNvSpPr/>
            <p:nvPr/>
          </p:nvSpPr>
          <p:spPr>
            <a:xfrm>
              <a:off x="4443120" y="4808520"/>
              <a:ext cx="32040" cy="2412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0" y="5"/>
                  </a:moveTo>
                  <a:lnTo>
                    <a:pt x="0" y="5"/>
                  </a:lnTo>
                  <a:lnTo>
                    <a:pt x="5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5" y="0"/>
                  </a:lnTo>
                  <a:lnTo>
                    <a:pt x="20" y="5"/>
                  </a:lnTo>
                  <a:lnTo>
                    <a:pt x="20" y="5"/>
                  </a:lnTo>
                  <a:lnTo>
                    <a:pt x="20" y="10"/>
                  </a:lnTo>
                  <a:lnTo>
                    <a:pt x="15" y="10"/>
                  </a:lnTo>
                  <a:lnTo>
                    <a:pt x="15" y="15"/>
                  </a:lnTo>
                  <a:lnTo>
                    <a:pt x="10" y="15"/>
                  </a:lnTo>
                  <a:lnTo>
                    <a:pt x="5" y="15"/>
                  </a:lnTo>
                  <a:lnTo>
                    <a:pt x="5" y="10"/>
                  </a:lnTo>
                  <a:lnTo>
                    <a:pt x="0" y="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1" name=""/>
            <p:cNvSpPr/>
            <p:nvPr/>
          </p:nvSpPr>
          <p:spPr>
            <a:xfrm>
              <a:off x="4640040" y="4542120"/>
              <a:ext cx="54000" cy="47520"/>
            </a:xfrm>
            <a:custGeom>
              <a:avLst/>
              <a:gdLst/>
              <a:ahLst/>
              <a:rect l="l" t="t" r="r" b="b"/>
              <a:pathLst>
                <a:path w="34" h="30">
                  <a:moveTo>
                    <a:pt x="34" y="15"/>
                  </a:moveTo>
                  <a:lnTo>
                    <a:pt x="29" y="10"/>
                  </a:lnTo>
                  <a:lnTo>
                    <a:pt x="24" y="5"/>
                  </a:lnTo>
                  <a:lnTo>
                    <a:pt x="19" y="0"/>
                  </a:lnTo>
                  <a:lnTo>
                    <a:pt x="14" y="5"/>
                  </a:lnTo>
                  <a:lnTo>
                    <a:pt x="5" y="5"/>
                  </a:lnTo>
                  <a:lnTo>
                    <a:pt x="0" y="10"/>
                  </a:lnTo>
                  <a:lnTo>
                    <a:pt x="0" y="15"/>
                  </a:lnTo>
                  <a:lnTo>
                    <a:pt x="5" y="25"/>
                  </a:lnTo>
                  <a:lnTo>
                    <a:pt x="10" y="25"/>
                  </a:lnTo>
                  <a:lnTo>
                    <a:pt x="14" y="30"/>
                  </a:lnTo>
                  <a:lnTo>
                    <a:pt x="24" y="30"/>
                  </a:lnTo>
                  <a:lnTo>
                    <a:pt x="29" y="30"/>
                  </a:lnTo>
                  <a:lnTo>
                    <a:pt x="29" y="20"/>
                  </a:lnTo>
                  <a:lnTo>
                    <a:pt x="34" y="1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2" name=""/>
            <p:cNvSpPr/>
            <p:nvPr/>
          </p:nvSpPr>
          <p:spPr>
            <a:xfrm>
              <a:off x="4976640" y="4456440"/>
              <a:ext cx="63360" cy="39600"/>
            </a:xfrm>
            <a:custGeom>
              <a:avLst/>
              <a:gdLst/>
              <a:ahLst/>
              <a:rect l="l" t="t" r="r" b="b"/>
              <a:pathLst>
                <a:path w="40" h="25">
                  <a:moveTo>
                    <a:pt x="0" y="15"/>
                  </a:moveTo>
                  <a:lnTo>
                    <a:pt x="5" y="10"/>
                  </a:lnTo>
                  <a:lnTo>
                    <a:pt x="10" y="0"/>
                  </a:lnTo>
                  <a:lnTo>
                    <a:pt x="15" y="0"/>
                  </a:lnTo>
                  <a:lnTo>
                    <a:pt x="20" y="0"/>
                  </a:lnTo>
                  <a:lnTo>
                    <a:pt x="30" y="0"/>
                  </a:lnTo>
                  <a:lnTo>
                    <a:pt x="35" y="5"/>
                  </a:lnTo>
                  <a:lnTo>
                    <a:pt x="40" y="10"/>
                  </a:lnTo>
                  <a:lnTo>
                    <a:pt x="40" y="15"/>
                  </a:lnTo>
                  <a:lnTo>
                    <a:pt x="40" y="20"/>
                  </a:lnTo>
                  <a:lnTo>
                    <a:pt x="30" y="20"/>
                  </a:lnTo>
                  <a:lnTo>
                    <a:pt x="25" y="25"/>
                  </a:lnTo>
                  <a:lnTo>
                    <a:pt x="15" y="20"/>
                  </a:lnTo>
                  <a:lnTo>
                    <a:pt x="10" y="20"/>
                  </a:lnTo>
                  <a:lnTo>
                    <a:pt x="0" y="1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3" name=""/>
            <p:cNvSpPr/>
            <p:nvPr/>
          </p:nvSpPr>
          <p:spPr>
            <a:xfrm>
              <a:off x="6060960" y="4173840"/>
              <a:ext cx="23760" cy="31680"/>
            </a:xfrm>
            <a:custGeom>
              <a:avLst/>
              <a:gdLst/>
              <a:ahLst/>
              <a:rect l="l" t="t" r="r" b="b"/>
              <a:pathLst>
                <a:path w="15" h="20">
                  <a:moveTo>
                    <a:pt x="0" y="5"/>
                  </a:moveTo>
                  <a:lnTo>
                    <a:pt x="0" y="0"/>
                  </a:lnTo>
                  <a:lnTo>
                    <a:pt x="5" y="0"/>
                  </a:lnTo>
                  <a:lnTo>
                    <a:pt x="10" y="0"/>
                  </a:lnTo>
                  <a:lnTo>
                    <a:pt x="10" y="5"/>
                  </a:lnTo>
                  <a:lnTo>
                    <a:pt x="15" y="10"/>
                  </a:lnTo>
                  <a:lnTo>
                    <a:pt x="15" y="10"/>
                  </a:lnTo>
                  <a:lnTo>
                    <a:pt x="10" y="15"/>
                  </a:lnTo>
                  <a:lnTo>
                    <a:pt x="10" y="20"/>
                  </a:lnTo>
                  <a:lnTo>
                    <a:pt x="5" y="20"/>
                  </a:lnTo>
                  <a:lnTo>
                    <a:pt x="5" y="20"/>
                  </a:lnTo>
                  <a:lnTo>
                    <a:pt x="0" y="20"/>
                  </a:lnTo>
                  <a:lnTo>
                    <a:pt x="0" y="15"/>
                  </a:lnTo>
                  <a:lnTo>
                    <a:pt x="0" y="10"/>
                  </a:lnTo>
                  <a:lnTo>
                    <a:pt x="0" y="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4" name=""/>
            <p:cNvSpPr/>
            <p:nvPr/>
          </p:nvSpPr>
          <p:spPr>
            <a:xfrm>
              <a:off x="4757400" y="4141800"/>
              <a:ext cx="180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5" name=""/>
            <p:cNvSpPr/>
            <p:nvPr/>
          </p:nvSpPr>
          <p:spPr>
            <a:xfrm>
              <a:off x="4678200" y="4079880"/>
              <a:ext cx="47520" cy="38160"/>
            </a:xfrm>
            <a:custGeom>
              <a:avLst/>
              <a:gdLst/>
              <a:ahLst/>
              <a:rect l="l" t="t" r="r" b="b"/>
              <a:pathLst>
                <a:path w="30" h="24">
                  <a:moveTo>
                    <a:pt x="30" y="10"/>
                  </a:moveTo>
                  <a:lnTo>
                    <a:pt x="30" y="5"/>
                  </a:lnTo>
                  <a:lnTo>
                    <a:pt x="25" y="5"/>
                  </a:lnTo>
                  <a:lnTo>
                    <a:pt x="20" y="0"/>
                  </a:lnTo>
                  <a:lnTo>
                    <a:pt x="15" y="5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5"/>
                  </a:lnTo>
                  <a:lnTo>
                    <a:pt x="5" y="15"/>
                  </a:lnTo>
                  <a:lnTo>
                    <a:pt x="10" y="20"/>
                  </a:lnTo>
                  <a:lnTo>
                    <a:pt x="15" y="24"/>
                  </a:lnTo>
                  <a:lnTo>
                    <a:pt x="25" y="24"/>
                  </a:lnTo>
                  <a:lnTo>
                    <a:pt x="25" y="20"/>
                  </a:lnTo>
                  <a:lnTo>
                    <a:pt x="30" y="20"/>
                  </a:lnTo>
                  <a:lnTo>
                    <a:pt x="30" y="1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6" name=""/>
            <p:cNvSpPr/>
            <p:nvPr/>
          </p:nvSpPr>
          <p:spPr>
            <a:xfrm>
              <a:off x="4632120" y="3978360"/>
              <a:ext cx="46080" cy="38160"/>
            </a:xfrm>
            <a:custGeom>
              <a:avLst/>
              <a:gdLst/>
              <a:ahLst/>
              <a:rect l="l" t="t" r="r" b="b"/>
              <a:pathLst>
                <a:path w="29" h="24">
                  <a:moveTo>
                    <a:pt x="29" y="14"/>
                  </a:moveTo>
                  <a:lnTo>
                    <a:pt x="24" y="14"/>
                  </a:lnTo>
                  <a:lnTo>
                    <a:pt x="24" y="14"/>
                  </a:lnTo>
                  <a:lnTo>
                    <a:pt x="24" y="14"/>
                  </a:lnTo>
                  <a:lnTo>
                    <a:pt x="24" y="9"/>
                  </a:lnTo>
                  <a:lnTo>
                    <a:pt x="29" y="9"/>
                  </a:lnTo>
                  <a:lnTo>
                    <a:pt x="29" y="9"/>
                  </a:lnTo>
                  <a:lnTo>
                    <a:pt x="29" y="9"/>
                  </a:lnTo>
                  <a:lnTo>
                    <a:pt x="24" y="9"/>
                  </a:lnTo>
                  <a:lnTo>
                    <a:pt x="24" y="4"/>
                  </a:lnTo>
                  <a:lnTo>
                    <a:pt x="24" y="4"/>
                  </a:lnTo>
                  <a:lnTo>
                    <a:pt x="24" y="4"/>
                  </a:lnTo>
                  <a:lnTo>
                    <a:pt x="24" y="4"/>
                  </a:lnTo>
                  <a:lnTo>
                    <a:pt x="24" y="4"/>
                  </a:lnTo>
                  <a:lnTo>
                    <a:pt x="24" y="4"/>
                  </a:lnTo>
                  <a:lnTo>
                    <a:pt x="19" y="4"/>
                  </a:lnTo>
                  <a:lnTo>
                    <a:pt x="19" y="4"/>
                  </a:lnTo>
                  <a:lnTo>
                    <a:pt x="19" y="4"/>
                  </a:lnTo>
                  <a:lnTo>
                    <a:pt x="19" y="4"/>
                  </a:lnTo>
                  <a:lnTo>
                    <a:pt x="15" y="4"/>
                  </a:lnTo>
                  <a:lnTo>
                    <a:pt x="15" y="4"/>
                  </a:lnTo>
                  <a:lnTo>
                    <a:pt x="15" y="9"/>
                  </a:lnTo>
                  <a:lnTo>
                    <a:pt x="15" y="9"/>
                  </a:lnTo>
                  <a:lnTo>
                    <a:pt x="15" y="9"/>
                  </a:lnTo>
                  <a:lnTo>
                    <a:pt x="15" y="9"/>
                  </a:lnTo>
                  <a:lnTo>
                    <a:pt x="19" y="9"/>
                  </a:lnTo>
                  <a:lnTo>
                    <a:pt x="19" y="9"/>
                  </a:lnTo>
                  <a:lnTo>
                    <a:pt x="19" y="9"/>
                  </a:lnTo>
                  <a:lnTo>
                    <a:pt x="19" y="9"/>
                  </a:lnTo>
                  <a:lnTo>
                    <a:pt x="19" y="9"/>
                  </a:lnTo>
                  <a:lnTo>
                    <a:pt x="19" y="14"/>
                  </a:lnTo>
                  <a:lnTo>
                    <a:pt x="19" y="14"/>
                  </a:lnTo>
                  <a:lnTo>
                    <a:pt x="19" y="14"/>
                  </a:lnTo>
                  <a:lnTo>
                    <a:pt x="19" y="19"/>
                  </a:lnTo>
                  <a:lnTo>
                    <a:pt x="19" y="19"/>
                  </a:lnTo>
                  <a:lnTo>
                    <a:pt x="19" y="19"/>
                  </a:lnTo>
                  <a:lnTo>
                    <a:pt x="19" y="24"/>
                  </a:lnTo>
                  <a:lnTo>
                    <a:pt x="19" y="24"/>
                  </a:lnTo>
                  <a:lnTo>
                    <a:pt x="15" y="24"/>
                  </a:lnTo>
                  <a:lnTo>
                    <a:pt x="15" y="24"/>
                  </a:lnTo>
                  <a:lnTo>
                    <a:pt x="15" y="24"/>
                  </a:lnTo>
                  <a:lnTo>
                    <a:pt x="15" y="24"/>
                  </a:lnTo>
                  <a:lnTo>
                    <a:pt x="10" y="24"/>
                  </a:lnTo>
                  <a:lnTo>
                    <a:pt x="10" y="24"/>
                  </a:lnTo>
                  <a:lnTo>
                    <a:pt x="10" y="24"/>
                  </a:lnTo>
                  <a:lnTo>
                    <a:pt x="10" y="24"/>
                  </a:lnTo>
                  <a:lnTo>
                    <a:pt x="5" y="24"/>
                  </a:lnTo>
                  <a:lnTo>
                    <a:pt x="5" y="24"/>
                  </a:lnTo>
                  <a:lnTo>
                    <a:pt x="5" y="24"/>
                  </a:lnTo>
                  <a:lnTo>
                    <a:pt x="5" y="24"/>
                  </a:lnTo>
                  <a:lnTo>
                    <a:pt x="5" y="19"/>
                  </a:lnTo>
                  <a:lnTo>
                    <a:pt x="5" y="19"/>
                  </a:lnTo>
                  <a:lnTo>
                    <a:pt x="0" y="14"/>
                  </a:lnTo>
                  <a:lnTo>
                    <a:pt x="5" y="14"/>
                  </a:lnTo>
                  <a:lnTo>
                    <a:pt x="5" y="14"/>
                  </a:lnTo>
                  <a:lnTo>
                    <a:pt x="5" y="9"/>
                  </a:lnTo>
                  <a:lnTo>
                    <a:pt x="5" y="9"/>
                  </a:lnTo>
                  <a:lnTo>
                    <a:pt x="10" y="4"/>
                  </a:lnTo>
                  <a:lnTo>
                    <a:pt x="15" y="4"/>
                  </a:lnTo>
                  <a:lnTo>
                    <a:pt x="15" y="4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24" y="0"/>
                  </a:lnTo>
                  <a:lnTo>
                    <a:pt x="24" y="4"/>
                  </a:lnTo>
                  <a:lnTo>
                    <a:pt x="29" y="4"/>
                  </a:lnTo>
                  <a:lnTo>
                    <a:pt x="29" y="4"/>
                  </a:lnTo>
                  <a:lnTo>
                    <a:pt x="29" y="4"/>
                  </a:lnTo>
                  <a:lnTo>
                    <a:pt x="29" y="9"/>
                  </a:lnTo>
                  <a:lnTo>
                    <a:pt x="29" y="9"/>
                  </a:lnTo>
                  <a:lnTo>
                    <a:pt x="29" y="9"/>
                  </a:lnTo>
                  <a:lnTo>
                    <a:pt x="29" y="14"/>
                  </a:lnTo>
                  <a:lnTo>
                    <a:pt x="29" y="14"/>
                  </a:lnTo>
                  <a:lnTo>
                    <a:pt x="29" y="14"/>
                  </a:lnTo>
                  <a:lnTo>
                    <a:pt x="29" y="14"/>
                  </a:lnTo>
                  <a:close/>
                  <a:moveTo>
                    <a:pt x="10" y="9"/>
                  </a:moveTo>
                  <a:lnTo>
                    <a:pt x="10" y="14"/>
                  </a:lnTo>
                  <a:lnTo>
                    <a:pt x="10" y="14"/>
                  </a:lnTo>
                  <a:lnTo>
                    <a:pt x="5" y="14"/>
                  </a:lnTo>
                  <a:lnTo>
                    <a:pt x="5" y="14"/>
                  </a:lnTo>
                  <a:lnTo>
                    <a:pt x="5" y="14"/>
                  </a:lnTo>
                  <a:lnTo>
                    <a:pt x="5" y="14"/>
                  </a:lnTo>
                  <a:lnTo>
                    <a:pt x="5" y="14"/>
                  </a:lnTo>
                  <a:lnTo>
                    <a:pt x="5" y="19"/>
                  </a:lnTo>
                  <a:lnTo>
                    <a:pt x="5" y="19"/>
                  </a:lnTo>
                  <a:lnTo>
                    <a:pt x="5" y="19"/>
                  </a:lnTo>
                  <a:lnTo>
                    <a:pt x="5" y="19"/>
                  </a:lnTo>
                  <a:lnTo>
                    <a:pt x="5" y="19"/>
                  </a:lnTo>
                  <a:lnTo>
                    <a:pt x="5" y="19"/>
                  </a:lnTo>
                  <a:lnTo>
                    <a:pt x="10" y="24"/>
                  </a:lnTo>
                  <a:lnTo>
                    <a:pt x="10" y="24"/>
                  </a:lnTo>
                  <a:lnTo>
                    <a:pt x="10" y="24"/>
                  </a:lnTo>
                  <a:lnTo>
                    <a:pt x="10" y="24"/>
                  </a:lnTo>
                  <a:lnTo>
                    <a:pt x="15" y="24"/>
                  </a:lnTo>
                  <a:lnTo>
                    <a:pt x="15" y="24"/>
                  </a:lnTo>
                  <a:lnTo>
                    <a:pt x="15" y="19"/>
                  </a:lnTo>
                  <a:lnTo>
                    <a:pt x="15" y="19"/>
                  </a:lnTo>
                  <a:lnTo>
                    <a:pt x="19" y="19"/>
                  </a:lnTo>
                  <a:lnTo>
                    <a:pt x="19" y="19"/>
                  </a:lnTo>
                  <a:lnTo>
                    <a:pt x="19" y="19"/>
                  </a:lnTo>
                  <a:lnTo>
                    <a:pt x="19" y="14"/>
                  </a:lnTo>
                  <a:lnTo>
                    <a:pt x="19" y="14"/>
                  </a:lnTo>
                  <a:lnTo>
                    <a:pt x="19" y="14"/>
                  </a:lnTo>
                  <a:lnTo>
                    <a:pt x="19" y="14"/>
                  </a:lnTo>
                  <a:lnTo>
                    <a:pt x="15" y="9"/>
                  </a:lnTo>
                  <a:lnTo>
                    <a:pt x="15" y="9"/>
                  </a:lnTo>
                  <a:lnTo>
                    <a:pt x="15" y="9"/>
                  </a:lnTo>
                  <a:lnTo>
                    <a:pt x="15" y="9"/>
                  </a:lnTo>
                  <a:lnTo>
                    <a:pt x="15" y="9"/>
                  </a:lnTo>
                  <a:lnTo>
                    <a:pt x="10" y="9"/>
                  </a:lnTo>
                  <a:lnTo>
                    <a:pt x="10" y="9"/>
                  </a:lnTo>
                  <a:lnTo>
                    <a:pt x="10" y="9"/>
                  </a:lnTo>
                  <a:close/>
                </a:path>
              </a:pathLst>
            </a:custGeom>
            <a:solidFill>
              <a:srgbClr val="666666"/>
            </a:solidFill>
            <a:ln w="0">
              <a:solidFill>
                <a:srgbClr val="6666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7" name=""/>
            <p:cNvSpPr/>
            <p:nvPr/>
          </p:nvSpPr>
          <p:spPr>
            <a:xfrm>
              <a:off x="4655880" y="4008600"/>
              <a:ext cx="46080" cy="39600"/>
            </a:xfrm>
            <a:custGeom>
              <a:avLst/>
              <a:gdLst/>
              <a:ahLst/>
              <a:rect l="l" t="t" r="r" b="b"/>
              <a:pathLst>
                <a:path w="29" h="25">
                  <a:moveTo>
                    <a:pt x="9" y="5"/>
                  </a:moveTo>
                  <a:lnTo>
                    <a:pt x="9" y="5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5"/>
                  </a:lnTo>
                  <a:lnTo>
                    <a:pt x="24" y="5"/>
                  </a:lnTo>
                  <a:lnTo>
                    <a:pt x="29" y="5"/>
                  </a:lnTo>
                  <a:lnTo>
                    <a:pt x="29" y="5"/>
                  </a:lnTo>
                  <a:lnTo>
                    <a:pt x="29" y="5"/>
                  </a:lnTo>
                  <a:lnTo>
                    <a:pt x="29" y="10"/>
                  </a:lnTo>
                  <a:lnTo>
                    <a:pt x="29" y="10"/>
                  </a:lnTo>
                  <a:lnTo>
                    <a:pt x="29" y="10"/>
                  </a:lnTo>
                  <a:lnTo>
                    <a:pt x="29" y="10"/>
                  </a:lnTo>
                  <a:lnTo>
                    <a:pt x="29" y="10"/>
                  </a:lnTo>
                  <a:lnTo>
                    <a:pt x="24" y="15"/>
                  </a:lnTo>
                  <a:lnTo>
                    <a:pt x="24" y="15"/>
                  </a:lnTo>
                  <a:lnTo>
                    <a:pt x="24" y="15"/>
                  </a:lnTo>
                  <a:lnTo>
                    <a:pt x="24" y="15"/>
                  </a:lnTo>
                  <a:lnTo>
                    <a:pt x="24" y="15"/>
                  </a:lnTo>
                  <a:lnTo>
                    <a:pt x="24" y="20"/>
                  </a:lnTo>
                  <a:lnTo>
                    <a:pt x="19" y="20"/>
                  </a:lnTo>
                  <a:lnTo>
                    <a:pt x="19" y="20"/>
                  </a:lnTo>
                  <a:lnTo>
                    <a:pt x="19" y="20"/>
                  </a:lnTo>
                  <a:lnTo>
                    <a:pt x="14" y="25"/>
                  </a:lnTo>
                  <a:lnTo>
                    <a:pt x="14" y="25"/>
                  </a:lnTo>
                  <a:lnTo>
                    <a:pt x="9" y="25"/>
                  </a:lnTo>
                  <a:lnTo>
                    <a:pt x="9" y="25"/>
                  </a:lnTo>
                  <a:lnTo>
                    <a:pt x="9" y="25"/>
                  </a:lnTo>
                  <a:lnTo>
                    <a:pt x="9" y="25"/>
                  </a:lnTo>
                  <a:lnTo>
                    <a:pt x="4" y="25"/>
                  </a:lnTo>
                  <a:lnTo>
                    <a:pt x="4" y="25"/>
                  </a:lnTo>
                  <a:lnTo>
                    <a:pt x="4" y="25"/>
                  </a:lnTo>
                  <a:lnTo>
                    <a:pt x="4" y="25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0"/>
                  </a:lnTo>
                  <a:lnTo>
                    <a:pt x="4" y="10"/>
                  </a:lnTo>
                  <a:lnTo>
                    <a:pt x="4" y="5"/>
                  </a:lnTo>
                  <a:lnTo>
                    <a:pt x="9" y="5"/>
                  </a:lnTo>
                  <a:close/>
                  <a:moveTo>
                    <a:pt x="9" y="10"/>
                  </a:moveTo>
                  <a:lnTo>
                    <a:pt x="9" y="10"/>
                  </a:lnTo>
                  <a:lnTo>
                    <a:pt x="4" y="10"/>
                  </a:lnTo>
                  <a:lnTo>
                    <a:pt x="4" y="15"/>
                  </a:lnTo>
                  <a:lnTo>
                    <a:pt x="4" y="15"/>
                  </a:lnTo>
                  <a:lnTo>
                    <a:pt x="4" y="15"/>
                  </a:lnTo>
                  <a:lnTo>
                    <a:pt x="4" y="20"/>
                  </a:lnTo>
                  <a:lnTo>
                    <a:pt x="4" y="20"/>
                  </a:lnTo>
                  <a:lnTo>
                    <a:pt x="4" y="20"/>
                  </a:lnTo>
                  <a:lnTo>
                    <a:pt x="4" y="20"/>
                  </a:lnTo>
                  <a:lnTo>
                    <a:pt x="4" y="20"/>
                  </a:lnTo>
                  <a:lnTo>
                    <a:pt x="4" y="20"/>
                  </a:lnTo>
                  <a:lnTo>
                    <a:pt x="9" y="20"/>
                  </a:lnTo>
                  <a:lnTo>
                    <a:pt x="9" y="20"/>
                  </a:lnTo>
                  <a:lnTo>
                    <a:pt x="9" y="20"/>
                  </a:lnTo>
                  <a:lnTo>
                    <a:pt x="14" y="20"/>
                  </a:lnTo>
                  <a:lnTo>
                    <a:pt x="19" y="20"/>
                  </a:lnTo>
                  <a:lnTo>
                    <a:pt x="19" y="15"/>
                  </a:lnTo>
                  <a:lnTo>
                    <a:pt x="24" y="15"/>
                  </a:lnTo>
                  <a:lnTo>
                    <a:pt x="24" y="10"/>
                  </a:lnTo>
                  <a:lnTo>
                    <a:pt x="24" y="10"/>
                  </a:lnTo>
                  <a:lnTo>
                    <a:pt x="24" y="10"/>
                  </a:lnTo>
                  <a:lnTo>
                    <a:pt x="24" y="10"/>
                  </a:lnTo>
                  <a:lnTo>
                    <a:pt x="24" y="5"/>
                  </a:lnTo>
                  <a:lnTo>
                    <a:pt x="24" y="5"/>
                  </a:lnTo>
                  <a:lnTo>
                    <a:pt x="24" y="5"/>
                  </a:lnTo>
                  <a:lnTo>
                    <a:pt x="24" y="5"/>
                  </a:lnTo>
                  <a:lnTo>
                    <a:pt x="19" y="5"/>
                  </a:lnTo>
                  <a:lnTo>
                    <a:pt x="19" y="5"/>
                  </a:lnTo>
                  <a:lnTo>
                    <a:pt x="19" y="5"/>
                  </a:lnTo>
                  <a:lnTo>
                    <a:pt x="14" y="5"/>
                  </a:lnTo>
                  <a:lnTo>
                    <a:pt x="14" y="5"/>
                  </a:lnTo>
                  <a:lnTo>
                    <a:pt x="9" y="10"/>
                  </a:lnTo>
                  <a:close/>
                </a:path>
              </a:pathLst>
            </a:custGeom>
            <a:solidFill>
              <a:srgbClr val="666666"/>
            </a:solidFill>
            <a:ln w="0">
              <a:solidFill>
                <a:srgbClr val="6666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8" name=""/>
            <p:cNvSpPr/>
            <p:nvPr/>
          </p:nvSpPr>
          <p:spPr>
            <a:xfrm>
              <a:off x="4640040" y="3970440"/>
              <a:ext cx="18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9" name=""/>
            <p:cNvSpPr/>
            <p:nvPr/>
          </p:nvSpPr>
          <p:spPr>
            <a:xfrm>
              <a:off x="4466880" y="3829320"/>
              <a:ext cx="227160" cy="266760"/>
            </a:xfrm>
            <a:custGeom>
              <a:avLst/>
              <a:gdLst/>
              <a:ahLst/>
              <a:rect l="l" t="t" r="r" b="b"/>
              <a:pathLst>
                <a:path w="143" h="168">
                  <a:moveTo>
                    <a:pt x="109" y="89"/>
                  </a:moveTo>
                  <a:lnTo>
                    <a:pt x="104" y="84"/>
                  </a:lnTo>
                  <a:lnTo>
                    <a:pt x="99" y="79"/>
                  </a:lnTo>
                  <a:lnTo>
                    <a:pt x="99" y="74"/>
                  </a:lnTo>
                  <a:lnTo>
                    <a:pt x="94" y="69"/>
                  </a:lnTo>
                  <a:lnTo>
                    <a:pt x="89" y="64"/>
                  </a:lnTo>
                  <a:lnTo>
                    <a:pt x="84" y="59"/>
                  </a:lnTo>
                  <a:lnTo>
                    <a:pt x="84" y="54"/>
                  </a:lnTo>
                  <a:lnTo>
                    <a:pt x="79" y="49"/>
                  </a:lnTo>
                  <a:lnTo>
                    <a:pt x="74" y="44"/>
                  </a:lnTo>
                  <a:lnTo>
                    <a:pt x="74" y="34"/>
                  </a:lnTo>
                  <a:lnTo>
                    <a:pt x="69" y="29"/>
                  </a:lnTo>
                  <a:lnTo>
                    <a:pt x="64" y="24"/>
                  </a:lnTo>
                  <a:lnTo>
                    <a:pt x="59" y="19"/>
                  </a:lnTo>
                  <a:lnTo>
                    <a:pt x="59" y="14"/>
                  </a:lnTo>
                  <a:lnTo>
                    <a:pt x="54" y="9"/>
                  </a:lnTo>
                  <a:lnTo>
                    <a:pt x="49" y="5"/>
                  </a:lnTo>
                  <a:lnTo>
                    <a:pt x="39" y="0"/>
                  </a:lnTo>
                  <a:lnTo>
                    <a:pt x="30" y="0"/>
                  </a:lnTo>
                  <a:lnTo>
                    <a:pt x="25" y="0"/>
                  </a:lnTo>
                  <a:lnTo>
                    <a:pt x="20" y="5"/>
                  </a:lnTo>
                  <a:lnTo>
                    <a:pt x="15" y="9"/>
                  </a:lnTo>
                  <a:lnTo>
                    <a:pt x="15" y="14"/>
                  </a:lnTo>
                  <a:lnTo>
                    <a:pt x="10" y="19"/>
                  </a:lnTo>
                  <a:lnTo>
                    <a:pt x="5" y="29"/>
                  </a:lnTo>
                  <a:lnTo>
                    <a:pt x="0" y="34"/>
                  </a:lnTo>
                  <a:lnTo>
                    <a:pt x="0" y="34"/>
                  </a:lnTo>
                  <a:lnTo>
                    <a:pt x="5" y="39"/>
                  </a:lnTo>
                  <a:lnTo>
                    <a:pt x="15" y="44"/>
                  </a:lnTo>
                  <a:lnTo>
                    <a:pt x="20" y="49"/>
                  </a:lnTo>
                  <a:lnTo>
                    <a:pt x="30" y="54"/>
                  </a:lnTo>
                  <a:lnTo>
                    <a:pt x="34" y="59"/>
                  </a:lnTo>
                  <a:lnTo>
                    <a:pt x="39" y="64"/>
                  </a:lnTo>
                  <a:lnTo>
                    <a:pt x="44" y="69"/>
                  </a:lnTo>
                  <a:lnTo>
                    <a:pt x="49" y="74"/>
                  </a:lnTo>
                  <a:lnTo>
                    <a:pt x="54" y="79"/>
                  </a:lnTo>
                  <a:lnTo>
                    <a:pt x="59" y="79"/>
                  </a:lnTo>
                  <a:lnTo>
                    <a:pt x="64" y="84"/>
                  </a:lnTo>
                  <a:lnTo>
                    <a:pt x="69" y="94"/>
                  </a:lnTo>
                  <a:lnTo>
                    <a:pt x="69" y="98"/>
                  </a:lnTo>
                  <a:lnTo>
                    <a:pt x="74" y="103"/>
                  </a:lnTo>
                  <a:lnTo>
                    <a:pt x="79" y="108"/>
                  </a:lnTo>
                  <a:lnTo>
                    <a:pt x="84" y="113"/>
                  </a:lnTo>
                  <a:lnTo>
                    <a:pt x="89" y="118"/>
                  </a:lnTo>
                  <a:lnTo>
                    <a:pt x="89" y="123"/>
                  </a:lnTo>
                  <a:lnTo>
                    <a:pt x="89" y="128"/>
                  </a:lnTo>
                  <a:lnTo>
                    <a:pt x="89" y="138"/>
                  </a:lnTo>
                  <a:lnTo>
                    <a:pt x="89" y="143"/>
                  </a:lnTo>
                  <a:lnTo>
                    <a:pt x="94" y="143"/>
                  </a:lnTo>
                  <a:lnTo>
                    <a:pt x="104" y="148"/>
                  </a:lnTo>
                  <a:lnTo>
                    <a:pt x="109" y="153"/>
                  </a:lnTo>
                  <a:lnTo>
                    <a:pt x="119" y="158"/>
                  </a:lnTo>
                  <a:lnTo>
                    <a:pt x="123" y="163"/>
                  </a:lnTo>
                  <a:lnTo>
                    <a:pt x="128" y="168"/>
                  </a:lnTo>
                  <a:lnTo>
                    <a:pt x="133" y="168"/>
                  </a:lnTo>
                  <a:lnTo>
                    <a:pt x="138" y="168"/>
                  </a:lnTo>
                  <a:lnTo>
                    <a:pt x="138" y="163"/>
                  </a:lnTo>
                  <a:lnTo>
                    <a:pt x="143" y="153"/>
                  </a:lnTo>
                  <a:lnTo>
                    <a:pt x="143" y="14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0" name=""/>
            <p:cNvSpPr/>
            <p:nvPr/>
          </p:nvSpPr>
          <p:spPr>
            <a:xfrm>
              <a:off x="4528800" y="4008600"/>
              <a:ext cx="39960" cy="31680"/>
            </a:xfrm>
            <a:custGeom>
              <a:avLst/>
              <a:gdLst/>
              <a:ahLst/>
              <a:rect l="l" t="t" r="r" b="b"/>
              <a:pathLst>
                <a:path w="25" h="20">
                  <a:moveTo>
                    <a:pt x="25" y="5"/>
                  </a:moveTo>
                  <a:lnTo>
                    <a:pt x="20" y="0"/>
                  </a:lnTo>
                  <a:lnTo>
                    <a:pt x="15" y="0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10"/>
                  </a:lnTo>
                  <a:lnTo>
                    <a:pt x="5" y="15"/>
                  </a:lnTo>
                  <a:lnTo>
                    <a:pt x="10" y="15"/>
                  </a:lnTo>
                  <a:lnTo>
                    <a:pt x="15" y="20"/>
                  </a:lnTo>
                  <a:lnTo>
                    <a:pt x="15" y="15"/>
                  </a:lnTo>
                  <a:lnTo>
                    <a:pt x="20" y="15"/>
                  </a:lnTo>
                  <a:lnTo>
                    <a:pt x="20" y="10"/>
                  </a:lnTo>
                  <a:lnTo>
                    <a:pt x="25" y="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1" name=""/>
            <p:cNvSpPr/>
            <p:nvPr/>
          </p:nvSpPr>
          <p:spPr>
            <a:xfrm>
              <a:off x="4483080" y="3962520"/>
              <a:ext cx="31680" cy="38160"/>
            </a:xfrm>
            <a:custGeom>
              <a:avLst/>
              <a:gdLst/>
              <a:ahLst/>
              <a:rect l="l" t="t" r="r" b="b"/>
              <a:pathLst>
                <a:path w="20" h="24">
                  <a:moveTo>
                    <a:pt x="20" y="5"/>
                  </a:moveTo>
                  <a:lnTo>
                    <a:pt x="20" y="0"/>
                  </a:lnTo>
                  <a:lnTo>
                    <a:pt x="15" y="0"/>
                  </a:lnTo>
                  <a:lnTo>
                    <a:pt x="10" y="0"/>
                  </a:lnTo>
                  <a:lnTo>
                    <a:pt x="5" y="0"/>
                  </a:lnTo>
                  <a:lnTo>
                    <a:pt x="0" y="5"/>
                  </a:lnTo>
                  <a:lnTo>
                    <a:pt x="0" y="10"/>
                  </a:lnTo>
                  <a:lnTo>
                    <a:pt x="0" y="14"/>
                  </a:lnTo>
                  <a:lnTo>
                    <a:pt x="5" y="19"/>
                  </a:lnTo>
                  <a:lnTo>
                    <a:pt x="10" y="24"/>
                  </a:lnTo>
                  <a:lnTo>
                    <a:pt x="15" y="24"/>
                  </a:lnTo>
                  <a:lnTo>
                    <a:pt x="20" y="24"/>
                  </a:lnTo>
                  <a:lnTo>
                    <a:pt x="20" y="19"/>
                  </a:lnTo>
                  <a:lnTo>
                    <a:pt x="20" y="14"/>
                  </a:lnTo>
                  <a:lnTo>
                    <a:pt x="20" y="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2" name=""/>
            <p:cNvSpPr/>
            <p:nvPr/>
          </p:nvSpPr>
          <p:spPr>
            <a:xfrm>
              <a:off x="6005160" y="3703680"/>
              <a:ext cx="32040" cy="22320"/>
            </a:xfrm>
            <a:custGeom>
              <a:avLst/>
              <a:gdLst/>
              <a:ahLst/>
              <a:rect l="l" t="t" r="r" b="b"/>
              <a:pathLst>
                <a:path w="20" h="14">
                  <a:moveTo>
                    <a:pt x="0" y="9"/>
                  </a:moveTo>
                  <a:lnTo>
                    <a:pt x="5" y="4"/>
                  </a:lnTo>
                  <a:lnTo>
                    <a:pt x="5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4"/>
                  </a:lnTo>
                  <a:lnTo>
                    <a:pt x="20" y="9"/>
                  </a:lnTo>
                  <a:lnTo>
                    <a:pt x="15" y="9"/>
                  </a:lnTo>
                  <a:lnTo>
                    <a:pt x="15" y="14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5" y="9"/>
                  </a:lnTo>
                  <a:lnTo>
                    <a:pt x="0" y="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3" name=""/>
            <p:cNvSpPr/>
            <p:nvPr/>
          </p:nvSpPr>
          <p:spPr>
            <a:xfrm>
              <a:off x="5754600" y="3538800"/>
              <a:ext cx="23760" cy="15840"/>
            </a:xfrm>
            <a:custGeom>
              <a:avLst/>
              <a:gdLst/>
              <a:ahLst/>
              <a:rect l="l" t="t" r="r" b="b"/>
              <a:pathLst>
                <a:path w="15" h="10">
                  <a:moveTo>
                    <a:pt x="0" y="5"/>
                  </a:moveTo>
                  <a:lnTo>
                    <a:pt x="5" y="5"/>
                  </a:lnTo>
                  <a:lnTo>
                    <a:pt x="5" y="5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5"/>
                  </a:lnTo>
                  <a:lnTo>
                    <a:pt x="15" y="5"/>
                  </a:lnTo>
                  <a:lnTo>
                    <a:pt x="15" y="5"/>
                  </a:lnTo>
                  <a:lnTo>
                    <a:pt x="15" y="10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5" y="10"/>
                  </a:lnTo>
                  <a:lnTo>
                    <a:pt x="5" y="10"/>
                  </a:lnTo>
                  <a:lnTo>
                    <a:pt x="0" y="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4" name=""/>
            <p:cNvSpPr/>
            <p:nvPr/>
          </p:nvSpPr>
          <p:spPr>
            <a:xfrm>
              <a:off x="2755800" y="3302280"/>
              <a:ext cx="46080" cy="39600"/>
            </a:xfrm>
            <a:custGeom>
              <a:avLst/>
              <a:gdLst/>
              <a:ahLst/>
              <a:rect l="l" t="t" r="r" b="b"/>
              <a:pathLst>
                <a:path w="29" h="25">
                  <a:moveTo>
                    <a:pt x="15" y="25"/>
                  </a:moveTo>
                  <a:lnTo>
                    <a:pt x="15" y="20"/>
                  </a:lnTo>
                  <a:lnTo>
                    <a:pt x="20" y="25"/>
                  </a:lnTo>
                  <a:lnTo>
                    <a:pt x="20" y="25"/>
                  </a:lnTo>
                  <a:lnTo>
                    <a:pt x="20" y="25"/>
                  </a:lnTo>
                  <a:lnTo>
                    <a:pt x="20" y="25"/>
                  </a:lnTo>
                  <a:lnTo>
                    <a:pt x="20" y="25"/>
                  </a:lnTo>
                  <a:lnTo>
                    <a:pt x="24" y="20"/>
                  </a:lnTo>
                  <a:lnTo>
                    <a:pt x="24" y="20"/>
                  </a:lnTo>
                  <a:lnTo>
                    <a:pt x="24" y="20"/>
                  </a:lnTo>
                  <a:lnTo>
                    <a:pt x="24" y="20"/>
                  </a:lnTo>
                  <a:lnTo>
                    <a:pt x="24" y="20"/>
                  </a:lnTo>
                  <a:lnTo>
                    <a:pt x="24" y="20"/>
                  </a:lnTo>
                  <a:lnTo>
                    <a:pt x="24" y="20"/>
                  </a:lnTo>
                  <a:lnTo>
                    <a:pt x="24" y="15"/>
                  </a:lnTo>
                  <a:lnTo>
                    <a:pt x="24" y="15"/>
                  </a:lnTo>
                  <a:lnTo>
                    <a:pt x="24" y="15"/>
                  </a:lnTo>
                  <a:lnTo>
                    <a:pt x="24" y="15"/>
                  </a:lnTo>
                  <a:lnTo>
                    <a:pt x="24" y="10"/>
                  </a:lnTo>
                  <a:lnTo>
                    <a:pt x="20" y="10"/>
                  </a:lnTo>
                  <a:lnTo>
                    <a:pt x="20" y="10"/>
                  </a:lnTo>
                  <a:lnTo>
                    <a:pt x="20" y="10"/>
                  </a:lnTo>
                  <a:lnTo>
                    <a:pt x="20" y="10"/>
                  </a:lnTo>
                  <a:lnTo>
                    <a:pt x="20" y="10"/>
                  </a:lnTo>
                  <a:lnTo>
                    <a:pt x="20" y="10"/>
                  </a:lnTo>
                  <a:lnTo>
                    <a:pt x="20" y="15"/>
                  </a:lnTo>
                  <a:lnTo>
                    <a:pt x="20" y="15"/>
                  </a:lnTo>
                  <a:lnTo>
                    <a:pt x="20" y="15"/>
                  </a:lnTo>
                  <a:lnTo>
                    <a:pt x="20" y="15"/>
                  </a:lnTo>
                  <a:lnTo>
                    <a:pt x="20" y="15"/>
                  </a:lnTo>
                  <a:lnTo>
                    <a:pt x="15" y="20"/>
                  </a:lnTo>
                  <a:lnTo>
                    <a:pt x="15" y="20"/>
                  </a:lnTo>
                  <a:lnTo>
                    <a:pt x="15" y="20"/>
                  </a:lnTo>
                  <a:lnTo>
                    <a:pt x="10" y="20"/>
                  </a:lnTo>
                  <a:lnTo>
                    <a:pt x="10" y="20"/>
                  </a:lnTo>
                  <a:lnTo>
                    <a:pt x="10" y="20"/>
                  </a:lnTo>
                  <a:lnTo>
                    <a:pt x="5" y="20"/>
                  </a:lnTo>
                  <a:lnTo>
                    <a:pt x="5" y="20"/>
                  </a:lnTo>
                  <a:lnTo>
                    <a:pt x="5" y="15"/>
                  </a:lnTo>
                  <a:lnTo>
                    <a:pt x="5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5"/>
                  </a:lnTo>
                  <a:lnTo>
                    <a:pt x="0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5" y="0"/>
                  </a:lnTo>
                  <a:lnTo>
                    <a:pt x="15" y="5"/>
                  </a:lnTo>
                  <a:lnTo>
                    <a:pt x="20" y="5"/>
                  </a:lnTo>
                  <a:lnTo>
                    <a:pt x="24" y="5"/>
                  </a:lnTo>
                  <a:lnTo>
                    <a:pt x="24" y="10"/>
                  </a:lnTo>
                  <a:lnTo>
                    <a:pt x="24" y="15"/>
                  </a:lnTo>
                  <a:lnTo>
                    <a:pt x="29" y="15"/>
                  </a:lnTo>
                  <a:lnTo>
                    <a:pt x="29" y="15"/>
                  </a:lnTo>
                  <a:lnTo>
                    <a:pt x="29" y="20"/>
                  </a:lnTo>
                  <a:lnTo>
                    <a:pt x="29" y="20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0" y="25"/>
                  </a:lnTo>
                  <a:lnTo>
                    <a:pt x="20" y="25"/>
                  </a:lnTo>
                  <a:lnTo>
                    <a:pt x="20" y="25"/>
                  </a:lnTo>
                  <a:lnTo>
                    <a:pt x="15" y="25"/>
                  </a:lnTo>
                  <a:lnTo>
                    <a:pt x="15" y="25"/>
                  </a:lnTo>
                  <a:close/>
                  <a:moveTo>
                    <a:pt x="15" y="5"/>
                  </a:moveTo>
                  <a:lnTo>
                    <a:pt x="15" y="5"/>
                  </a:lnTo>
                  <a:lnTo>
                    <a:pt x="15" y="5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10"/>
                  </a:lnTo>
                  <a:lnTo>
                    <a:pt x="5" y="10"/>
                  </a:lnTo>
                  <a:lnTo>
                    <a:pt x="5" y="10"/>
                  </a:lnTo>
                  <a:lnTo>
                    <a:pt x="5" y="10"/>
                  </a:lnTo>
                  <a:lnTo>
                    <a:pt x="5" y="15"/>
                  </a:lnTo>
                  <a:lnTo>
                    <a:pt x="5" y="15"/>
                  </a:lnTo>
                  <a:lnTo>
                    <a:pt x="5" y="15"/>
                  </a:lnTo>
                  <a:lnTo>
                    <a:pt x="10" y="15"/>
                  </a:lnTo>
                  <a:lnTo>
                    <a:pt x="10" y="15"/>
                  </a:lnTo>
                  <a:lnTo>
                    <a:pt x="10" y="15"/>
                  </a:lnTo>
                  <a:lnTo>
                    <a:pt x="10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0"/>
                  </a:lnTo>
                  <a:lnTo>
                    <a:pt x="15" y="10"/>
                  </a:lnTo>
                  <a:lnTo>
                    <a:pt x="15" y="10"/>
                  </a:lnTo>
                  <a:lnTo>
                    <a:pt x="15" y="10"/>
                  </a:lnTo>
                  <a:lnTo>
                    <a:pt x="15" y="10"/>
                  </a:lnTo>
                  <a:lnTo>
                    <a:pt x="15" y="5"/>
                  </a:lnTo>
                  <a:lnTo>
                    <a:pt x="15" y="5"/>
                  </a:lnTo>
                  <a:close/>
                </a:path>
              </a:pathLst>
            </a:custGeom>
            <a:solidFill>
              <a:srgbClr val="666666"/>
            </a:solidFill>
            <a:ln w="0">
              <a:solidFill>
                <a:srgbClr val="6666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5" name=""/>
            <p:cNvSpPr/>
            <p:nvPr/>
          </p:nvSpPr>
          <p:spPr>
            <a:xfrm>
              <a:off x="2732040" y="3333960"/>
              <a:ext cx="47520" cy="39600"/>
            </a:xfrm>
            <a:custGeom>
              <a:avLst/>
              <a:gdLst/>
              <a:ahLst/>
              <a:rect l="l" t="t" r="r" b="b"/>
              <a:pathLst>
                <a:path w="30" h="25">
                  <a:moveTo>
                    <a:pt x="20" y="5"/>
                  </a:moveTo>
                  <a:lnTo>
                    <a:pt x="25" y="5"/>
                  </a:lnTo>
                  <a:lnTo>
                    <a:pt x="25" y="5"/>
                  </a:lnTo>
                  <a:lnTo>
                    <a:pt x="25" y="10"/>
                  </a:lnTo>
                  <a:lnTo>
                    <a:pt x="30" y="10"/>
                  </a:lnTo>
                  <a:lnTo>
                    <a:pt x="30" y="10"/>
                  </a:lnTo>
                  <a:lnTo>
                    <a:pt x="30" y="10"/>
                  </a:lnTo>
                  <a:lnTo>
                    <a:pt x="30" y="15"/>
                  </a:lnTo>
                  <a:lnTo>
                    <a:pt x="30" y="15"/>
                  </a:lnTo>
                  <a:lnTo>
                    <a:pt x="30" y="15"/>
                  </a:lnTo>
                  <a:lnTo>
                    <a:pt x="30" y="20"/>
                  </a:lnTo>
                  <a:lnTo>
                    <a:pt x="30" y="20"/>
                  </a:lnTo>
                  <a:lnTo>
                    <a:pt x="30" y="20"/>
                  </a:lnTo>
                  <a:lnTo>
                    <a:pt x="25" y="20"/>
                  </a:lnTo>
                  <a:lnTo>
                    <a:pt x="25" y="20"/>
                  </a:lnTo>
                  <a:lnTo>
                    <a:pt x="25" y="25"/>
                  </a:lnTo>
                  <a:lnTo>
                    <a:pt x="25" y="25"/>
                  </a:lnTo>
                  <a:lnTo>
                    <a:pt x="25" y="25"/>
                  </a:lnTo>
                  <a:lnTo>
                    <a:pt x="25" y="25"/>
                  </a:lnTo>
                  <a:lnTo>
                    <a:pt x="20" y="25"/>
                  </a:lnTo>
                  <a:lnTo>
                    <a:pt x="20" y="25"/>
                  </a:lnTo>
                  <a:lnTo>
                    <a:pt x="20" y="25"/>
                  </a:lnTo>
                  <a:lnTo>
                    <a:pt x="20" y="25"/>
                  </a:lnTo>
                  <a:lnTo>
                    <a:pt x="15" y="25"/>
                  </a:lnTo>
                  <a:lnTo>
                    <a:pt x="15" y="25"/>
                  </a:lnTo>
                  <a:lnTo>
                    <a:pt x="15" y="20"/>
                  </a:lnTo>
                  <a:lnTo>
                    <a:pt x="15" y="20"/>
                  </a:lnTo>
                  <a:lnTo>
                    <a:pt x="10" y="20"/>
                  </a:lnTo>
                  <a:lnTo>
                    <a:pt x="10" y="20"/>
                  </a:lnTo>
                  <a:lnTo>
                    <a:pt x="10" y="15"/>
                  </a:lnTo>
                  <a:lnTo>
                    <a:pt x="5" y="15"/>
                  </a:lnTo>
                  <a:lnTo>
                    <a:pt x="5" y="15"/>
                  </a:lnTo>
                  <a:lnTo>
                    <a:pt x="5" y="15"/>
                  </a:lnTo>
                  <a:lnTo>
                    <a:pt x="5" y="10"/>
                  </a:lnTo>
                  <a:lnTo>
                    <a:pt x="5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5"/>
                  </a:lnTo>
                  <a:lnTo>
                    <a:pt x="0" y="5"/>
                  </a:lnTo>
                  <a:lnTo>
                    <a:pt x="5" y="5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20" y="0"/>
                  </a:lnTo>
                  <a:lnTo>
                    <a:pt x="20" y="5"/>
                  </a:lnTo>
                  <a:close/>
                  <a:moveTo>
                    <a:pt x="20" y="5"/>
                  </a:moveTo>
                  <a:lnTo>
                    <a:pt x="15" y="5"/>
                  </a:lnTo>
                  <a:lnTo>
                    <a:pt x="15" y="5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10"/>
                  </a:lnTo>
                  <a:lnTo>
                    <a:pt x="5" y="10"/>
                  </a:lnTo>
                  <a:lnTo>
                    <a:pt x="10" y="10"/>
                  </a:lnTo>
                  <a:lnTo>
                    <a:pt x="10" y="15"/>
                  </a:lnTo>
                  <a:lnTo>
                    <a:pt x="10" y="15"/>
                  </a:lnTo>
                  <a:lnTo>
                    <a:pt x="15" y="20"/>
                  </a:lnTo>
                  <a:lnTo>
                    <a:pt x="15" y="20"/>
                  </a:lnTo>
                  <a:lnTo>
                    <a:pt x="20" y="20"/>
                  </a:lnTo>
                  <a:lnTo>
                    <a:pt x="20" y="20"/>
                  </a:lnTo>
                  <a:lnTo>
                    <a:pt x="20" y="20"/>
                  </a:lnTo>
                  <a:lnTo>
                    <a:pt x="25" y="20"/>
                  </a:lnTo>
                  <a:lnTo>
                    <a:pt x="25" y="20"/>
                  </a:lnTo>
                  <a:lnTo>
                    <a:pt x="25" y="20"/>
                  </a:lnTo>
                  <a:lnTo>
                    <a:pt x="25" y="20"/>
                  </a:lnTo>
                  <a:lnTo>
                    <a:pt x="25" y="15"/>
                  </a:lnTo>
                  <a:lnTo>
                    <a:pt x="25" y="15"/>
                  </a:lnTo>
                  <a:lnTo>
                    <a:pt x="25" y="15"/>
                  </a:lnTo>
                  <a:lnTo>
                    <a:pt x="25" y="15"/>
                  </a:lnTo>
                  <a:lnTo>
                    <a:pt x="25" y="10"/>
                  </a:lnTo>
                  <a:lnTo>
                    <a:pt x="20" y="10"/>
                  </a:lnTo>
                  <a:lnTo>
                    <a:pt x="20" y="5"/>
                  </a:lnTo>
                  <a:close/>
                </a:path>
              </a:pathLst>
            </a:custGeom>
            <a:solidFill>
              <a:srgbClr val="666666"/>
            </a:solidFill>
            <a:ln w="0">
              <a:solidFill>
                <a:srgbClr val="6666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6" name=""/>
            <p:cNvSpPr/>
            <p:nvPr/>
          </p:nvSpPr>
          <p:spPr>
            <a:xfrm>
              <a:off x="2793960" y="3295800"/>
              <a:ext cx="7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7" name=""/>
            <p:cNvSpPr/>
            <p:nvPr/>
          </p:nvSpPr>
          <p:spPr>
            <a:xfrm>
              <a:off x="2801880" y="2360880"/>
              <a:ext cx="919080" cy="988920"/>
            </a:xfrm>
            <a:custGeom>
              <a:avLst/>
              <a:gdLst/>
              <a:ahLst/>
              <a:rect l="l" t="t" r="r" b="b"/>
              <a:pathLst>
                <a:path w="579" h="623">
                  <a:moveTo>
                    <a:pt x="0" y="589"/>
                  </a:moveTo>
                  <a:lnTo>
                    <a:pt x="10" y="593"/>
                  </a:lnTo>
                  <a:lnTo>
                    <a:pt x="20" y="593"/>
                  </a:lnTo>
                  <a:lnTo>
                    <a:pt x="30" y="598"/>
                  </a:lnTo>
                  <a:lnTo>
                    <a:pt x="35" y="598"/>
                  </a:lnTo>
                  <a:lnTo>
                    <a:pt x="45" y="603"/>
                  </a:lnTo>
                  <a:lnTo>
                    <a:pt x="50" y="608"/>
                  </a:lnTo>
                  <a:lnTo>
                    <a:pt x="55" y="613"/>
                  </a:lnTo>
                  <a:lnTo>
                    <a:pt x="60" y="618"/>
                  </a:lnTo>
                  <a:lnTo>
                    <a:pt x="65" y="623"/>
                  </a:lnTo>
                  <a:lnTo>
                    <a:pt x="70" y="618"/>
                  </a:lnTo>
                  <a:lnTo>
                    <a:pt x="80" y="613"/>
                  </a:lnTo>
                  <a:lnTo>
                    <a:pt x="84" y="613"/>
                  </a:lnTo>
                  <a:lnTo>
                    <a:pt x="94" y="608"/>
                  </a:lnTo>
                  <a:lnTo>
                    <a:pt x="104" y="608"/>
                  </a:lnTo>
                  <a:lnTo>
                    <a:pt x="114" y="603"/>
                  </a:lnTo>
                  <a:lnTo>
                    <a:pt x="119" y="598"/>
                  </a:lnTo>
                  <a:lnTo>
                    <a:pt x="119" y="593"/>
                  </a:lnTo>
                  <a:lnTo>
                    <a:pt x="124" y="589"/>
                  </a:lnTo>
                  <a:lnTo>
                    <a:pt x="124" y="584"/>
                  </a:lnTo>
                  <a:lnTo>
                    <a:pt x="124" y="579"/>
                  </a:lnTo>
                  <a:lnTo>
                    <a:pt x="124" y="569"/>
                  </a:lnTo>
                  <a:lnTo>
                    <a:pt x="129" y="564"/>
                  </a:lnTo>
                  <a:lnTo>
                    <a:pt x="129" y="559"/>
                  </a:lnTo>
                  <a:lnTo>
                    <a:pt x="134" y="554"/>
                  </a:lnTo>
                  <a:lnTo>
                    <a:pt x="134" y="549"/>
                  </a:lnTo>
                  <a:lnTo>
                    <a:pt x="139" y="544"/>
                  </a:lnTo>
                  <a:lnTo>
                    <a:pt x="139" y="539"/>
                  </a:lnTo>
                  <a:lnTo>
                    <a:pt x="144" y="534"/>
                  </a:lnTo>
                  <a:lnTo>
                    <a:pt x="149" y="529"/>
                  </a:lnTo>
                  <a:lnTo>
                    <a:pt x="159" y="529"/>
                  </a:lnTo>
                  <a:lnTo>
                    <a:pt x="169" y="529"/>
                  </a:lnTo>
                  <a:lnTo>
                    <a:pt x="178" y="524"/>
                  </a:lnTo>
                  <a:lnTo>
                    <a:pt x="188" y="519"/>
                  </a:lnTo>
                  <a:lnTo>
                    <a:pt x="193" y="519"/>
                  </a:lnTo>
                  <a:lnTo>
                    <a:pt x="198" y="514"/>
                  </a:lnTo>
                  <a:lnTo>
                    <a:pt x="203" y="504"/>
                  </a:lnTo>
                  <a:lnTo>
                    <a:pt x="203" y="500"/>
                  </a:lnTo>
                  <a:lnTo>
                    <a:pt x="208" y="495"/>
                  </a:lnTo>
                  <a:lnTo>
                    <a:pt x="208" y="490"/>
                  </a:lnTo>
                  <a:lnTo>
                    <a:pt x="208" y="485"/>
                  </a:lnTo>
                  <a:lnTo>
                    <a:pt x="213" y="480"/>
                  </a:lnTo>
                  <a:lnTo>
                    <a:pt x="213" y="475"/>
                  </a:lnTo>
                  <a:lnTo>
                    <a:pt x="213" y="465"/>
                  </a:lnTo>
                  <a:lnTo>
                    <a:pt x="213" y="460"/>
                  </a:lnTo>
                  <a:lnTo>
                    <a:pt x="213" y="455"/>
                  </a:lnTo>
                  <a:lnTo>
                    <a:pt x="218" y="450"/>
                  </a:lnTo>
                  <a:lnTo>
                    <a:pt x="218" y="445"/>
                  </a:lnTo>
                  <a:lnTo>
                    <a:pt x="223" y="440"/>
                  </a:lnTo>
                  <a:lnTo>
                    <a:pt x="223" y="430"/>
                  </a:lnTo>
                  <a:lnTo>
                    <a:pt x="223" y="425"/>
                  </a:lnTo>
                  <a:lnTo>
                    <a:pt x="228" y="420"/>
                  </a:lnTo>
                  <a:lnTo>
                    <a:pt x="228" y="416"/>
                  </a:lnTo>
                  <a:lnTo>
                    <a:pt x="233" y="411"/>
                  </a:lnTo>
                  <a:lnTo>
                    <a:pt x="233" y="406"/>
                  </a:lnTo>
                  <a:lnTo>
                    <a:pt x="238" y="401"/>
                  </a:lnTo>
                  <a:lnTo>
                    <a:pt x="238" y="391"/>
                  </a:lnTo>
                  <a:lnTo>
                    <a:pt x="243" y="386"/>
                  </a:lnTo>
                  <a:lnTo>
                    <a:pt x="248" y="381"/>
                  </a:lnTo>
                  <a:lnTo>
                    <a:pt x="248" y="376"/>
                  </a:lnTo>
                  <a:lnTo>
                    <a:pt x="253" y="371"/>
                  </a:lnTo>
                  <a:lnTo>
                    <a:pt x="253" y="366"/>
                  </a:lnTo>
                  <a:lnTo>
                    <a:pt x="253" y="361"/>
                  </a:lnTo>
                  <a:lnTo>
                    <a:pt x="258" y="351"/>
                  </a:lnTo>
                  <a:lnTo>
                    <a:pt x="258" y="346"/>
                  </a:lnTo>
                  <a:lnTo>
                    <a:pt x="258" y="341"/>
                  </a:lnTo>
                  <a:lnTo>
                    <a:pt x="263" y="336"/>
                  </a:lnTo>
                  <a:lnTo>
                    <a:pt x="263" y="331"/>
                  </a:lnTo>
                  <a:lnTo>
                    <a:pt x="267" y="327"/>
                  </a:lnTo>
                  <a:lnTo>
                    <a:pt x="272" y="322"/>
                  </a:lnTo>
                  <a:lnTo>
                    <a:pt x="272" y="317"/>
                  </a:lnTo>
                  <a:lnTo>
                    <a:pt x="277" y="307"/>
                  </a:lnTo>
                  <a:lnTo>
                    <a:pt x="277" y="302"/>
                  </a:lnTo>
                  <a:lnTo>
                    <a:pt x="282" y="297"/>
                  </a:lnTo>
                  <a:lnTo>
                    <a:pt x="282" y="292"/>
                  </a:lnTo>
                  <a:lnTo>
                    <a:pt x="287" y="287"/>
                  </a:lnTo>
                  <a:lnTo>
                    <a:pt x="287" y="282"/>
                  </a:lnTo>
                  <a:lnTo>
                    <a:pt x="287" y="277"/>
                  </a:lnTo>
                  <a:lnTo>
                    <a:pt x="292" y="267"/>
                  </a:lnTo>
                  <a:lnTo>
                    <a:pt x="292" y="262"/>
                  </a:lnTo>
                  <a:lnTo>
                    <a:pt x="292" y="257"/>
                  </a:lnTo>
                  <a:lnTo>
                    <a:pt x="297" y="252"/>
                  </a:lnTo>
                  <a:lnTo>
                    <a:pt x="302" y="247"/>
                  </a:lnTo>
                  <a:lnTo>
                    <a:pt x="307" y="243"/>
                  </a:lnTo>
                  <a:lnTo>
                    <a:pt x="312" y="238"/>
                  </a:lnTo>
                  <a:lnTo>
                    <a:pt x="317" y="233"/>
                  </a:lnTo>
                  <a:lnTo>
                    <a:pt x="317" y="228"/>
                  </a:lnTo>
                  <a:lnTo>
                    <a:pt x="322" y="223"/>
                  </a:lnTo>
                  <a:lnTo>
                    <a:pt x="322" y="213"/>
                  </a:lnTo>
                  <a:lnTo>
                    <a:pt x="322" y="208"/>
                  </a:lnTo>
                  <a:lnTo>
                    <a:pt x="327" y="203"/>
                  </a:lnTo>
                  <a:lnTo>
                    <a:pt x="327" y="198"/>
                  </a:lnTo>
                  <a:lnTo>
                    <a:pt x="332" y="193"/>
                  </a:lnTo>
                  <a:lnTo>
                    <a:pt x="337" y="188"/>
                  </a:lnTo>
                  <a:lnTo>
                    <a:pt x="347" y="183"/>
                  </a:lnTo>
                  <a:lnTo>
                    <a:pt x="352" y="178"/>
                  </a:lnTo>
                  <a:lnTo>
                    <a:pt x="356" y="173"/>
                  </a:lnTo>
                  <a:lnTo>
                    <a:pt x="361" y="173"/>
                  </a:lnTo>
                  <a:lnTo>
                    <a:pt x="371" y="168"/>
                  </a:lnTo>
                  <a:lnTo>
                    <a:pt x="376" y="163"/>
                  </a:lnTo>
                  <a:lnTo>
                    <a:pt x="381" y="159"/>
                  </a:lnTo>
                  <a:lnTo>
                    <a:pt x="391" y="154"/>
                  </a:lnTo>
                  <a:lnTo>
                    <a:pt x="401" y="149"/>
                  </a:lnTo>
                  <a:lnTo>
                    <a:pt x="406" y="154"/>
                  </a:lnTo>
                  <a:lnTo>
                    <a:pt x="411" y="154"/>
                  </a:lnTo>
                  <a:lnTo>
                    <a:pt x="416" y="163"/>
                  </a:lnTo>
                  <a:lnTo>
                    <a:pt x="421" y="168"/>
                  </a:lnTo>
                  <a:lnTo>
                    <a:pt x="426" y="168"/>
                  </a:lnTo>
                  <a:lnTo>
                    <a:pt x="436" y="173"/>
                  </a:lnTo>
                  <a:lnTo>
                    <a:pt x="441" y="178"/>
                  </a:lnTo>
                  <a:lnTo>
                    <a:pt x="445" y="183"/>
                  </a:lnTo>
                  <a:lnTo>
                    <a:pt x="450" y="188"/>
                  </a:lnTo>
                  <a:lnTo>
                    <a:pt x="455" y="193"/>
                  </a:lnTo>
                  <a:lnTo>
                    <a:pt x="460" y="198"/>
                  </a:lnTo>
                  <a:lnTo>
                    <a:pt x="465" y="203"/>
                  </a:lnTo>
                  <a:lnTo>
                    <a:pt x="470" y="208"/>
                  </a:lnTo>
                  <a:lnTo>
                    <a:pt x="475" y="213"/>
                  </a:lnTo>
                  <a:lnTo>
                    <a:pt x="480" y="218"/>
                  </a:lnTo>
                  <a:lnTo>
                    <a:pt x="480" y="228"/>
                  </a:lnTo>
                  <a:lnTo>
                    <a:pt x="485" y="233"/>
                  </a:lnTo>
                  <a:lnTo>
                    <a:pt x="490" y="233"/>
                  </a:lnTo>
                  <a:lnTo>
                    <a:pt x="495" y="233"/>
                  </a:lnTo>
                  <a:lnTo>
                    <a:pt x="500" y="228"/>
                  </a:lnTo>
                  <a:lnTo>
                    <a:pt x="510" y="223"/>
                  </a:lnTo>
                  <a:lnTo>
                    <a:pt x="515" y="218"/>
                  </a:lnTo>
                  <a:lnTo>
                    <a:pt x="525" y="213"/>
                  </a:lnTo>
                  <a:lnTo>
                    <a:pt x="530" y="208"/>
                  </a:lnTo>
                  <a:lnTo>
                    <a:pt x="535" y="203"/>
                  </a:lnTo>
                  <a:lnTo>
                    <a:pt x="539" y="198"/>
                  </a:lnTo>
                  <a:lnTo>
                    <a:pt x="549" y="198"/>
                  </a:lnTo>
                  <a:lnTo>
                    <a:pt x="554" y="193"/>
                  </a:lnTo>
                  <a:lnTo>
                    <a:pt x="564" y="193"/>
                  </a:lnTo>
                  <a:lnTo>
                    <a:pt x="569" y="188"/>
                  </a:lnTo>
                  <a:lnTo>
                    <a:pt x="574" y="183"/>
                  </a:lnTo>
                  <a:lnTo>
                    <a:pt x="579" y="178"/>
                  </a:lnTo>
                  <a:lnTo>
                    <a:pt x="579" y="168"/>
                  </a:lnTo>
                  <a:lnTo>
                    <a:pt x="574" y="163"/>
                  </a:lnTo>
                  <a:lnTo>
                    <a:pt x="569" y="159"/>
                  </a:lnTo>
                  <a:lnTo>
                    <a:pt x="559" y="159"/>
                  </a:lnTo>
                  <a:lnTo>
                    <a:pt x="549" y="154"/>
                  </a:lnTo>
                  <a:lnTo>
                    <a:pt x="544" y="154"/>
                  </a:lnTo>
                  <a:lnTo>
                    <a:pt x="539" y="149"/>
                  </a:lnTo>
                  <a:lnTo>
                    <a:pt x="535" y="144"/>
                  </a:lnTo>
                  <a:lnTo>
                    <a:pt x="535" y="139"/>
                  </a:lnTo>
                  <a:lnTo>
                    <a:pt x="535" y="134"/>
                  </a:lnTo>
                  <a:lnTo>
                    <a:pt x="530" y="124"/>
                  </a:lnTo>
                  <a:lnTo>
                    <a:pt x="525" y="119"/>
                  </a:lnTo>
                  <a:lnTo>
                    <a:pt x="520" y="114"/>
                  </a:lnTo>
                  <a:lnTo>
                    <a:pt x="520" y="109"/>
                  </a:lnTo>
                  <a:lnTo>
                    <a:pt x="520" y="104"/>
                  </a:lnTo>
                  <a:lnTo>
                    <a:pt x="525" y="99"/>
                  </a:lnTo>
                  <a:lnTo>
                    <a:pt x="530" y="94"/>
                  </a:lnTo>
                  <a:lnTo>
                    <a:pt x="539" y="94"/>
                  </a:lnTo>
                  <a:lnTo>
                    <a:pt x="549" y="89"/>
                  </a:lnTo>
                  <a:lnTo>
                    <a:pt x="554" y="84"/>
                  </a:lnTo>
                  <a:lnTo>
                    <a:pt x="559" y="79"/>
                  </a:lnTo>
                  <a:lnTo>
                    <a:pt x="559" y="74"/>
                  </a:lnTo>
                  <a:lnTo>
                    <a:pt x="559" y="70"/>
                  </a:lnTo>
                  <a:lnTo>
                    <a:pt x="559" y="65"/>
                  </a:lnTo>
                  <a:lnTo>
                    <a:pt x="554" y="55"/>
                  </a:lnTo>
                  <a:lnTo>
                    <a:pt x="549" y="50"/>
                  </a:lnTo>
                  <a:lnTo>
                    <a:pt x="544" y="45"/>
                  </a:lnTo>
                  <a:lnTo>
                    <a:pt x="539" y="40"/>
                  </a:lnTo>
                  <a:lnTo>
                    <a:pt x="535" y="35"/>
                  </a:lnTo>
                  <a:lnTo>
                    <a:pt x="530" y="30"/>
                  </a:lnTo>
                  <a:lnTo>
                    <a:pt x="520" y="30"/>
                  </a:lnTo>
                  <a:lnTo>
                    <a:pt x="515" y="25"/>
                  </a:lnTo>
                  <a:lnTo>
                    <a:pt x="510" y="20"/>
                  </a:lnTo>
                  <a:lnTo>
                    <a:pt x="505" y="15"/>
                  </a:lnTo>
                  <a:lnTo>
                    <a:pt x="500" y="10"/>
                  </a:lnTo>
                  <a:lnTo>
                    <a:pt x="495" y="5"/>
                  </a:lnTo>
                  <a:lnTo>
                    <a:pt x="49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8" name=""/>
            <p:cNvSpPr/>
            <p:nvPr/>
          </p:nvSpPr>
          <p:spPr>
            <a:xfrm>
              <a:off x="3046320" y="2549520"/>
              <a:ext cx="1440" cy="8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9" name=""/>
            <p:cNvSpPr/>
            <p:nvPr/>
          </p:nvSpPr>
          <p:spPr>
            <a:xfrm>
              <a:off x="2950920" y="2557800"/>
              <a:ext cx="95400" cy="156960"/>
            </a:xfrm>
            <a:custGeom>
              <a:avLst/>
              <a:gdLst/>
              <a:ahLst/>
              <a:rect l="l" t="t" r="r" b="b"/>
              <a:pathLst>
                <a:path w="60" h="99">
                  <a:moveTo>
                    <a:pt x="60" y="0"/>
                  </a:moveTo>
                  <a:lnTo>
                    <a:pt x="55" y="5"/>
                  </a:lnTo>
                  <a:lnTo>
                    <a:pt x="50" y="15"/>
                  </a:lnTo>
                  <a:lnTo>
                    <a:pt x="50" y="20"/>
                  </a:lnTo>
                  <a:lnTo>
                    <a:pt x="45" y="25"/>
                  </a:lnTo>
                  <a:lnTo>
                    <a:pt x="40" y="30"/>
                  </a:lnTo>
                  <a:lnTo>
                    <a:pt x="40" y="35"/>
                  </a:lnTo>
                  <a:lnTo>
                    <a:pt x="35" y="44"/>
                  </a:lnTo>
                  <a:lnTo>
                    <a:pt x="30" y="49"/>
                  </a:lnTo>
                  <a:lnTo>
                    <a:pt x="25" y="54"/>
                  </a:lnTo>
                  <a:lnTo>
                    <a:pt x="20" y="59"/>
                  </a:lnTo>
                  <a:lnTo>
                    <a:pt x="15" y="64"/>
                  </a:lnTo>
                  <a:lnTo>
                    <a:pt x="10" y="69"/>
                  </a:lnTo>
                  <a:lnTo>
                    <a:pt x="5" y="74"/>
                  </a:lnTo>
                  <a:lnTo>
                    <a:pt x="0" y="79"/>
                  </a:lnTo>
                  <a:lnTo>
                    <a:pt x="0" y="89"/>
                  </a:lnTo>
                  <a:lnTo>
                    <a:pt x="0" y="94"/>
                  </a:lnTo>
                  <a:lnTo>
                    <a:pt x="5" y="9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0" name=""/>
            <p:cNvSpPr/>
            <p:nvPr/>
          </p:nvSpPr>
          <p:spPr>
            <a:xfrm>
              <a:off x="2958840" y="2714760"/>
              <a:ext cx="18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1" name=""/>
            <p:cNvSpPr/>
            <p:nvPr/>
          </p:nvSpPr>
          <p:spPr>
            <a:xfrm>
              <a:off x="2943000" y="2768760"/>
              <a:ext cx="47520" cy="31680"/>
            </a:xfrm>
            <a:custGeom>
              <a:avLst/>
              <a:gdLst/>
              <a:ahLst/>
              <a:rect l="l" t="t" r="r" b="b"/>
              <a:pathLst>
                <a:path w="30" h="20">
                  <a:moveTo>
                    <a:pt x="5" y="0"/>
                  </a:move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10"/>
                  </a:lnTo>
                  <a:lnTo>
                    <a:pt x="5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5" y="10"/>
                  </a:lnTo>
                  <a:lnTo>
                    <a:pt x="5" y="15"/>
                  </a:lnTo>
                  <a:lnTo>
                    <a:pt x="5" y="15"/>
                  </a:lnTo>
                  <a:lnTo>
                    <a:pt x="5" y="15"/>
                  </a:lnTo>
                  <a:lnTo>
                    <a:pt x="5" y="15"/>
                  </a:lnTo>
                  <a:lnTo>
                    <a:pt x="5" y="15"/>
                  </a:lnTo>
                  <a:lnTo>
                    <a:pt x="5" y="15"/>
                  </a:lnTo>
                  <a:lnTo>
                    <a:pt x="10" y="15"/>
                  </a:lnTo>
                  <a:lnTo>
                    <a:pt x="10" y="15"/>
                  </a:lnTo>
                  <a:lnTo>
                    <a:pt x="10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0" y="15"/>
                  </a:lnTo>
                  <a:lnTo>
                    <a:pt x="10" y="15"/>
                  </a:lnTo>
                  <a:lnTo>
                    <a:pt x="10" y="15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5"/>
                  </a:lnTo>
                  <a:lnTo>
                    <a:pt x="30" y="5"/>
                  </a:lnTo>
                  <a:lnTo>
                    <a:pt x="30" y="5"/>
                  </a:lnTo>
                  <a:lnTo>
                    <a:pt x="30" y="5"/>
                  </a:lnTo>
                  <a:lnTo>
                    <a:pt x="30" y="5"/>
                  </a:lnTo>
                  <a:lnTo>
                    <a:pt x="30" y="10"/>
                  </a:lnTo>
                  <a:lnTo>
                    <a:pt x="30" y="10"/>
                  </a:lnTo>
                  <a:lnTo>
                    <a:pt x="30" y="15"/>
                  </a:lnTo>
                  <a:lnTo>
                    <a:pt x="25" y="15"/>
                  </a:lnTo>
                  <a:lnTo>
                    <a:pt x="25" y="15"/>
                  </a:lnTo>
                  <a:lnTo>
                    <a:pt x="25" y="20"/>
                  </a:lnTo>
                  <a:lnTo>
                    <a:pt x="20" y="20"/>
                  </a:lnTo>
                  <a:lnTo>
                    <a:pt x="15" y="20"/>
                  </a:lnTo>
                  <a:lnTo>
                    <a:pt x="15" y="20"/>
                  </a:lnTo>
                  <a:lnTo>
                    <a:pt x="10" y="20"/>
                  </a:lnTo>
                  <a:lnTo>
                    <a:pt x="5" y="20"/>
                  </a:lnTo>
                  <a:lnTo>
                    <a:pt x="5" y="20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5" y="5"/>
                  </a:lnTo>
                  <a:lnTo>
                    <a:pt x="5" y="0"/>
                  </a:lnTo>
                  <a:close/>
                  <a:moveTo>
                    <a:pt x="20" y="15"/>
                  </a:moveTo>
                  <a:lnTo>
                    <a:pt x="20" y="15"/>
                  </a:lnTo>
                  <a:lnTo>
                    <a:pt x="20" y="15"/>
                  </a:lnTo>
                  <a:lnTo>
                    <a:pt x="25" y="15"/>
                  </a:lnTo>
                  <a:lnTo>
                    <a:pt x="25" y="15"/>
                  </a:lnTo>
                  <a:lnTo>
                    <a:pt x="25" y="15"/>
                  </a:lnTo>
                  <a:lnTo>
                    <a:pt x="25" y="10"/>
                  </a:lnTo>
                  <a:lnTo>
                    <a:pt x="25" y="10"/>
                  </a:lnTo>
                  <a:lnTo>
                    <a:pt x="25" y="10"/>
                  </a:lnTo>
                  <a:lnTo>
                    <a:pt x="25" y="10"/>
                  </a:lnTo>
                  <a:lnTo>
                    <a:pt x="25" y="10"/>
                  </a:lnTo>
                  <a:lnTo>
                    <a:pt x="25" y="10"/>
                  </a:lnTo>
                  <a:lnTo>
                    <a:pt x="25" y="10"/>
                  </a:lnTo>
                  <a:lnTo>
                    <a:pt x="25" y="5"/>
                  </a:lnTo>
                  <a:lnTo>
                    <a:pt x="25" y="5"/>
                  </a:lnTo>
                  <a:lnTo>
                    <a:pt x="25" y="5"/>
                  </a:lnTo>
                  <a:lnTo>
                    <a:pt x="25" y="5"/>
                  </a:lnTo>
                  <a:lnTo>
                    <a:pt x="25" y="5"/>
                  </a:lnTo>
                  <a:lnTo>
                    <a:pt x="20" y="5"/>
                  </a:lnTo>
                  <a:lnTo>
                    <a:pt x="20" y="5"/>
                  </a:lnTo>
                  <a:lnTo>
                    <a:pt x="20" y="5"/>
                  </a:lnTo>
                  <a:lnTo>
                    <a:pt x="15" y="5"/>
                  </a:lnTo>
                  <a:lnTo>
                    <a:pt x="15" y="5"/>
                  </a:lnTo>
                  <a:lnTo>
                    <a:pt x="15" y="5"/>
                  </a:lnTo>
                  <a:lnTo>
                    <a:pt x="15" y="5"/>
                  </a:lnTo>
                  <a:lnTo>
                    <a:pt x="15" y="5"/>
                  </a:lnTo>
                  <a:lnTo>
                    <a:pt x="15" y="10"/>
                  </a:lnTo>
                  <a:lnTo>
                    <a:pt x="15" y="10"/>
                  </a:lnTo>
                  <a:lnTo>
                    <a:pt x="15" y="10"/>
                  </a:lnTo>
                  <a:lnTo>
                    <a:pt x="15" y="10"/>
                  </a:lnTo>
                  <a:lnTo>
                    <a:pt x="15" y="10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20" y="15"/>
                  </a:lnTo>
                  <a:lnTo>
                    <a:pt x="20" y="15"/>
                  </a:lnTo>
                  <a:lnTo>
                    <a:pt x="20" y="15"/>
                  </a:lnTo>
                  <a:close/>
                </a:path>
              </a:pathLst>
            </a:custGeom>
            <a:solidFill>
              <a:srgbClr val="666666"/>
            </a:solidFill>
            <a:ln w="0">
              <a:solidFill>
                <a:srgbClr val="6666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2" name=""/>
            <p:cNvSpPr/>
            <p:nvPr/>
          </p:nvSpPr>
          <p:spPr>
            <a:xfrm>
              <a:off x="2935080" y="2730600"/>
              <a:ext cx="47520" cy="38160"/>
            </a:xfrm>
            <a:custGeom>
              <a:avLst/>
              <a:gdLst/>
              <a:ahLst/>
              <a:rect l="l" t="t" r="r" b="b"/>
              <a:pathLst>
                <a:path w="30" h="24">
                  <a:moveTo>
                    <a:pt x="15" y="19"/>
                  </a:moveTo>
                  <a:lnTo>
                    <a:pt x="15" y="19"/>
                  </a:lnTo>
                  <a:lnTo>
                    <a:pt x="15" y="24"/>
                  </a:lnTo>
                  <a:lnTo>
                    <a:pt x="10" y="24"/>
                  </a:lnTo>
                  <a:lnTo>
                    <a:pt x="10" y="19"/>
                  </a:lnTo>
                  <a:lnTo>
                    <a:pt x="5" y="19"/>
                  </a:lnTo>
                  <a:lnTo>
                    <a:pt x="5" y="19"/>
                  </a:lnTo>
                  <a:lnTo>
                    <a:pt x="5" y="19"/>
                  </a:lnTo>
                  <a:lnTo>
                    <a:pt x="5" y="19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5" y="10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15" y="5"/>
                  </a:lnTo>
                  <a:lnTo>
                    <a:pt x="15" y="5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25" y="5"/>
                  </a:lnTo>
                  <a:lnTo>
                    <a:pt x="25" y="5"/>
                  </a:lnTo>
                  <a:lnTo>
                    <a:pt x="25" y="5"/>
                  </a:lnTo>
                  <a:lnTo>
                    <a:pt x="25" y="5"/>
                  </a:lnTo>
                  <a:lnTo>
                    <a:pt x="30" y="5"/>
                  </a:lnTo>
                  <a:lnTo>
                    <a:pt x="30" y="5"/>
                  </a:lnTo>
                  <a:lnTo>
                    <a:pt x="30" y="5"/>
                  </a:lnTo>
                  <a:lnTo>
                    <a:pt x="30" y="10"/>
                  </a:lnTo>
                  <a:lnTo>
                    <a:pt x="30" y="10"/>
                  </a:lnTo>
                  <a:lnTo>
                    <a:pt x="30" y="10"/>
                  </a:lnTo>
                  <a:lnTo>
                    <a:pt x="30" y="14"/>
                  </a:lnTo>
                  <a:lnTo>
                    <a:pt x="30" y="14"/>
                  </a:lnTo>
                  <a:lnTo>
                    <a:pt x="30" y="14"/>
                  </a:lnTo>
                  <a:lnTo>
                    <a:pt x="25" y="19"/>
                  </a:lnTo>
                  <a:lnTo>
                    <a:pt x="25" y="19"/>
                  </a:lnTo>
                  <a:lnTo>
                    <a:pt x="20" y="19"/>
                  </a:lnTo>
                  <a:lnTo>
                    <a:pt x="15" y="19"/>
                  </a:lnTo>
                  <a:close/>
                  <a:moveTo>
                    <a:pt x="15" y="19"/>
                  </a:moveTo>
                  <a:lnTo>
                    <a:pt x="20" y="19"/>
                  </a:lnTo>
                  <a:lnTo>
                    <a:pt x="25" y="14"/>
                  </a:lnTo>
                  <a:lnTo>
                    <a:pt x="25" y="14"/>
                  </a:lnTo>
                  <a:lnTo>
                    <a:pt x="25" y="14"/>
                  </a:lnTo>
                  <a:lnTo>
                    <a:pt x="25" y="14"/>
                  </a:lnTo>
                  <a:lnTo>
                    <a:pt x="30" y="14"/>
                  </a:lnTo>
                  <a:lnTo>
                    <a:pt x="30" y="10"/>
                  </a:lnTo>
                  <a:lnTo>
                    <a:pt x="30" y="10"/>
                  </a:lnTo>
                  <a:lnTo>
                    <a:pt x="25" y="10"/>
                  </a:lnTo>
                  <a:lnTo>
                    <a:pt x="25" y="10"/>
                  </a:lnTo>
                  <a:lnTo>
                    <a:pt x="25" y="5"/>
                  </a:lnTo>
                  <a:lnTo>
                    <a:pt x="25" y="5"/>
                  </a:lnTo>
                  <a:lnTo>
                    <a:pt x="25" y="5"/>
                  </a:lnTo>
                  <a:lnTo>
                    <a:pt x="20" y="5"/>
                  </a:lnTo>
                  <a:lnTo>
                    <a:pt x="20" y="5"/>
                  </a:lnTo>
                  <a:lnTo>
                    <a:pt x="15" y="5"/>
                  </a:lnTo>
                  <a:lnTo>
                    <a:pt x="10" y="5"/>
                  </a:lnTo>
                  <a:lnTo>
                    <a:pt x="10" y="10"/>
                  </a:lnTo>
                  <a:lnTo>
                    <a:pt x="5" y="10"/>
                  </a:lnTo>
                  <a:lnTo>
                    <a:pt x="5" y="10"/>
                  </a:lnTo>
                  <a:lnTo>
                    <a:pt x="5" y="10"/>
                  </a:lnTo>
                  <a:lnTo>
                    <a:pt x="5" y="10"/>
                  </a:lnTo>
                  <a:lnTo>
                    <a:pt x="5" y="14"/>
                  </a:lnTo>
                  <a:lnTo>
                    <a:pt x="5" y="14"/>
                  </a:lnTo>
                  <a:lnTo>
                    <a:pt x="5" y="14"/>
                  </a:lnTo>
                  <a:lnTo>
                    <a:pt x="5" y="14"/>
                  </a:lnTo>
                  <a:lnTo>
                    <a:pt x="5" y="14"/>
                  </a:lnTo>
                  <a:lnTo>
                    <a:pt x="5" y="19"/>
                  </a:lnTo>
                  <a:lnTo>
                    <a:pt x="10" y="19"/>
                  </a:lnTo>
                  <a:lnTo>
                    <a:pt x="10" y="19"/>
                  </a:lnTo>
                  <a:lnTo>
                    <a:pt x="15" y="19"/>
                  </a:lnTo>
                  <a:lnTo>
                    <a:pt x="15" y="19"/>
                  </a:lnTo>
                  <a:close/>
                </a:path>
              </a:pathLst>
            </a:custGeom>
            <a:solidFill>
              <a:srgbClr val="666666"/>
            </a:solidFill>
            <a:ln w="0">
              <a:solidFill>
                <a:srgbClr val="6666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3" name=""/>
            <p:cNvSpPr/>
            <p:nvPr/>
          </p:nvSpPr>
          <p:spPr>
            <a:xfrm flipH="1">
              <a:off x="2966760" y="2816280"/>
              <a:ext cx="7920" cy="7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4" name=""/>
            <p:cNvSpPr/>
            <p:nvPr/>
          </p:nvSpPr>
          <p:spPr>
            <a:xfrm>
              <a:off x="2355840" y="2824200"/>
              <a:ext cx="634680" cy="416160"/>
            </a:xfrm>
            <a:custGeom>
              <a:avLst/>
              <a:gdLst/>
              <a:ahLst/>
              <a:rect l="l" t="t" r="r" b="b"/>
              <a:pathLst>
                <a:path w="400" h="262">
                  <a:moveTo>
                    <a:pt x="385" y="0"/>
                  </a:moveTo>
                  <a:lnTo>
                    <a:pt x="385" y="5"/>
                  </a:lnTo>
                  <a:lnTo>
                    <a:pt x="380" y="10"/>
                  </a:lnTo>
                  <a:lnTo>
                    <a:pt x="380" y="15"/>
                  </a:lnTo>
                  <a:lnTo>
                    <a:pt x="375" y="20"/>
                  </a:lnTo>
                  <a:lnTo>
                    <a:pt x="370" y="30"/>
                  </a:lnTo>
                  <a:lnTo>
                    <a:pt x="365" y="35"/>
                  </a:lnTo>
                  <a:lnTo>
                    <a:pt x="365" y="39"/>
                  </a:lnTo>
                  <a:lnTo>
                    <a:pt x="365" y="44"/>
                  </a:lnTo>
                  <a:lnTo>
                    <a:pt x="361" y="54"/>
                  </a:lnTo>
                  <a:lnTo>
                    <a:pt x="361" y="59"/>
                  </a:lnTo>
                  <a:lnTo>
                    <a:pt x="356" y="64"/>
                  </a:lnTo>
                  <a:lnTo>
                    <a:pt x="351" y="69"/>
                  </a:lnTo>
                  <a:lnTo>
                    <a:pt x="346" y="74"/>
                  </a:lnTo>
                  <a:lnTo>
                    <a:pt x="346" y="84"/>
                  </a:lnTo>
                  <a:lnTo>
                    <a:pt x="346" y="89"/>
                  </a:lnTo>
                  <a:lnTo>
                    <a:pt x="351" y="99"/>
                  </a:lnTo>
                  <a:lnTo>
                    <a:pt x="356" y="104"/>
                  </a:lnTo>
                  <a:lnTo>
                    <a:pt x="365" y="109"/>
                  </a:lnTo>
                  <a:lnTo>
                    <a:pt x="370" y="104"/>
                  </a:lnTo>
                  <a:lnTo>
                    <a:pt x="380" y="99"/>
                  </a:lnTo>
                  <a:lnTo>
                    <a:pt x="385" y="94"/>
                  </a:lnTo>
                  <a:lnTo>
                    <a:pt x="390" y="89"/>
                  </a:lnTo>
                  <a:lnTo>
                    <a:pt x="395" y="84"/>
                  </a:lnTo>
                  <a:lnTo>
                    <a:pt x="400" y="84"/>
                  </a:lnTo>
                  <a:lnTo>
                    <a:pt x="400" y="94"/>
                  </a:lnTo>
                  <a:lnTo>
                    <a:pt x="400" y="99"/>
                  </a:lnTo>
                  <a:lnTo>
                    <a:pt x="400" y="109"/>
                  </a:lnTo>
                  <a:lnTo>
                    <a:pt x="400" y="114"/>
                  </a:lnTo>
                  <a:lnTo>
                    <a:pt x="395" y="124"/>
                  </a:lnTo>
                  <a:lnTo>
                    <a:pt x="395" y="128"/>
                  </a:lnTo>
                  <a:lnTo>
                    <a:pt x="390" y="133"/>
                  </a:lnTo>
                  <a:lnTo>
                    <a:pt x="385" y="138"/>
                  </a:lnTo>
                  <a:lnTo>
                    <a:pt x="385" y="143"/>
                  </a:lnTo>
                  <a:lnTo>
                    <a:pt x="380" y="148"/>
                  </a:lnTo>
                  <a:lnTo>
                    <a:pt x="380" y="158"/>
                  </a:lnTo>
                  <a:lnTo>
                    <a:pt x="375" y="163"/>
                  </a:lnTo>
                  <a:lnTo>
                    <a:pt x="375" y="173"/>
                  </a:lnTo>
                  <a:lnTo>
                    <a:pt x="370" y="178"/>
                  </a:lnTo>
                  <a:lnTo>
                    <a:pt x="365" y="178"/>
                  </a:lnTo>
                  <a:lnTo>
                    <a:pt x="361" y="173"/>
                  </a:lnTo>
                  <a:lnTo>
                    <a:pt x="351" y="168"/>
                  </a:lnTo>
                  <a:lnTo>
                    <a:pt x="346" y="163"/>
                  </a:lnTo>
                  <a:lnTo>
                    <a:pt x="341" y="153"/>
                  </a:lnTo>
                  <a:lnTo>
                    <a:pt x="341" y="148"/>
                  </a:lnTo>
                  <a:lnTo>
                    <a:pt x="346" y="143"/>
                  </a:lnTo>
                  <a:lnTo>
                    <a:pt x="351" y="138"/>
                  </a:lnTo>
                  <a:lnTo>
                    <a:pt x="356" y="128"/>
                  </a:lnTo>
                  <a:lnTo>
                    <a:pt x="361" y="124"/>
                  </a:lnTo>
                  <a:lnTo>
                    <a:pt x="365" y="119"/>
                  </a:lnTo>
                  <a:lnTo>
                    <a:pt x="365" y="114"/>
                  </a:lnTo>
                  <a:lnTo>
                    <a:pt x="365" y="109"/>
                  </a:lnTo>
                  <a:lnTo>
                    <a:pt x="365" y="99"/>
                  </a:lnTo>
                  <a:lnTo>
                    <a:pt x="361" y="94"/>
                  </a:lnTo>
                  <a:lnTo>
                    <a:pt x="351" y="89"/>
                  </a:lnTo>
                  <a:lnTo>
                    <a:pt x="346" y="84"/>
                  </a:lnTo>
                  <a:lnTo>
                    <a:pt x="341" y="84"/>
                  </a:lnTo>
                  <a:lnTo>
                    <a:pt x="336" y="89"/>
                  </a:lnTo>
                  <a:lnTo>
                    <a:pt x="336" y="99"/>
                  </a:lnTo>
                  <a:lnTo>
                    <a:pt x="336" y="104"/>
                  </a:lnTo>
                  <a:lnTo>
                    <a:pt x="331" y="114"/>
                  </a:lnTo>
                  <a:lnTo>
                    <a:pt x="331" y="119"/>
                  </a:lnTo>
                  <a:lnTo>
                    <a:pt x="331" y="128"/>
                  </a:lnTo>
                  <a:lnTo>
                    <a:pt x="326" y="133"/>
                  </a:lnTo>
                  <a:lnTo>
                    <a:pt x="321" y="133"/>
                  </a:lnTo>
                  <a:lnTo>
                    <a:pt x="311" y="138"/>
                  </a:lnTo>
                  <a:lnTo>
                    <a:pt x="306" y="143"/>
                  </a:lnTo>
                  <a:lnTo>
                    <a:pt x="306" y="153"/>
                  </a:lnTo>
                  <a:lnTo>
                    <a:pt x="306" y="158"/>
                  </a:lnTo>
                  <a:lnTo>
                    <a:pt x="301" y="163"/>
                  </a:lnTo>
                  <a:lnTo>
                    <a:pt x="296" y="168"/>
                  </a:lnTo>
                  <a:lnTo>
                    <a:pt x="291" y="173"/>
                  </a:lnTo>
                  <a:lnTo>
                    <a:pt x="286" y="178"/>
                  </a:lnTo>
                  <a:lnTo>
                    <a:pt x="281" y="183"/>
                  </a:lnTo>
                  <a:lnTo>
                    <a:pt x="272" y="188"/>
                  </a:lnTo>
                  <a:lnTo>
                    <a:pt x="267" y="193"/>
                  </a:lnTo>
                  <a:lnTo>
                    <a:pt x="262" y="198"/>
                  </a:lnTo>
                  <a:lnTo>
                    <a:pt x="252" y="208"/>
                  </a:lnTo>
                  <a:lnTo>
                    <a:pt x="247" y="212"/>
                  </a:lnTo>
                  <a:lnTo>
                    <a:pt x="242" y="212"/>
                  </a:lnTo>
                  <a:lnTo>
                    <a:pt x="232" y="212"/>
                  </a:lnTo>
                  <a:lnTo>
                    <a:pt x="227" y="208"/>
                  </a:lnTo>
                  <a:lnTo>
                    <a:pt x="222" y="203"/>
                  </a:lnTo>
                  <a:lnTo>
                    <a:pt x="217" y="198"/>
                  </a:lnTo>
                  <a:lnTo>
                    <a:pt x="207" y="193"/>
                  </a:lnTo>
                  <a:lnTo>
                    <a:pt x="202" y="193"/>
                  </a:lnTo>
                  <a:lnTo>
                    <a:pt x="192" y="198"/>
                  </a:lnTo>
                  <a:lnTo>
                    <a:pt x="182" y="203"/>
                  </a:lnTo>
                  <a:lnTo>
                    <a:pt x="178" y="208"/>
                  </a:lnTo>
                  <a:lnTo>
                    <a:pt x="173" y="212"/>
                  </a:lnTo>
                  <a:lnTo>
                    <a:pt x="173" y="217"/>
                  </a:lnTo>
                  <a:lnTo>
                    <a:pt x="163" y="222"/>
                  </a:lnTo>
                  <a:lnTo>
                    <a:pt x="158" y="227"/>
                  </a:lnTo>
                  <a:lnTo>
                    <a:pt x="148" y="232"/>
                  </a:lnTo>
                  <a:lnTo>
                    <a:pt x="138" y="232"/>
                  </a:lnTo>
                  <a:lnTo>
                    <a:pt x="133" y="237"/>
                  </a:lnTo>
                  <a:lnTo>
                    <a:pt x="128" y="242"/>
                  </a:lnTo>
                  <a:lnTo>
                    <a:pt x="123" y="247"/>
                  </a:lnTo>
                  <a:lnTo>
                    <a:pt x="118" y="257"/>
                  </a:lnTo>
                  <a:lnTo>
                    <a:pt x="113" y="257"/>
                  </a:lnTo>
                  <a:lnTo>
                    <a:pt x="103" y="262"/>
                  </a:lnTo>
                  <a:lnTo>
                    <a:pt x="93" y="257"/>
                  </a:lnTo>
                  <a:lnTo>
                    <a:pt x="84" y="257"/>
                  </a:lnTo>
                  <a:lnTo>
                    <a:pt x="79" y="252"/>
                  </a:lnTo>
                  <a:lnTo>
                    <a:pt x="74" y="242"/>
                  </a:lnTo>
                  <a:lnTo>
                    <a:pt x="69" y="237"/>
                  </a:lnTo>
                  <a:lnTo>
                    <a:pt x="59" y="237"/>
                  </a:lnTo>
                  <a:lnTo>
                    <a:pt x="49" y="232"/>
                  </a:lnTo>
                  <a:lnTo>
                    <a:pt x="39" y="232"/>
                  </a:lnTo>
                  <a:lnTo>
                    <a:pt x="29" y="232"/>
                  </a:lnTo>
                  <a:lnTo>
                    <a:pt x="24" y="232"/>
                  </a:lnTo>
                  <a:lnTo>
                    <a:pt x="14" y="227"/>
                  </a:lnTo>
                  <a:lnTo>
                    <a:pt x="9" y="222"/>
                  </a:lnTo>
                  <a:lnTo>
                    <a:pt x="4" y="217"/>
                  </a:lnTo>
                  <a:lnTo>
                    <a:pt x="0" y="21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5" name=""/>
            <p:cNvSpPr/>
            <p:nvPr/>
          </p:nvSpPr>
          <p:spPr>
            <a:xfrm flipH="1">
              <a:off x="2331720" y="3160800"/>
              <a:ext cx="7920" cy="7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6" name=""/>
            <p:cNvSpPr/>
            <p:nvPr/>
          </p:nvSpPr>
          <p:spPr>
            <a:xfrm>
              <a:off x="2292120" y="3168720"/>
              <a:ext cx="330120" cy="133560"/>
            </a:xfrm>
            <a:custGeom>
              <a:avLst/>
              <a:gdLst/>
              <a:ahLst/>
              <a:rect l="l" t="t" r="r" b="b"/>
              <a:pathLst>
                <a:path w="208" h="84">
                  <a:moveTo>
                    <a:pt x="25" y="0"/>
                  </a:moveTo>
                  <a:lnTo>
                    <a:pt x="20" y="5"/>
                  </a:lnTo>
                  <a:lnTo>
                    <a:pt x="15" y="10"/>
                  </a:lnTo>
                  <a:lnTo>
                    <a:pt x="10" y="10"/>
                  </a:lnTo>
                  <a:lnTo>
                    <a:pt x="5" y="15"/>
                  </a:lnTo>
                  <a:lnTo>
                    <a:pt x="5" y="20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5" y="35"/>
                  </a:lnTo>
                  <a:lnTo>
                    <a:pt x="10" y="40"/>
                  </a:lnTo>
                  <a:lnTo>
                    <a:pt x="15" y="45"/>
                  </a:lnTo>
                  <a:lnTo>
                    <a:pt x="20" y="45"/>
                  </a:lnTo>
                  <a:lnTo>
                    <a:pt x="30" y="50"/>
                  </a:lnTo>
                  <a:lnTo>
                    <a:pt x="35" y="50"/>
                  </a:lnTo>
                  <a:lnTo>
                    <a:pt x="40" y="55"/>
                  </a:lnTo>
                  <a:lnTo>
                    <a:pt x="44" y="55"/>
                  </a:lnTo>
                  <a:lnTo>
                    <a:pt x="54" y="55"/>
                  </a:lnTo>
                  <a:lnTo>
                    <a:pt x="59" y="60"/>
                  </a:lnTo>
                  <a:lnTo>
                    <a:pt x="69" y="60"/>
                  </a:lnTo>
                  <a:lnTo>
                    <a:pt x="74" y="60"/>
                  </a:lnTo>
                  <a:lnTo>
                    <a:pt x="84" y="60"/>
                  </a:lnTo>
                  <a:lnTo>
                    <a:pt x="89" y="60"/>
                  </a:lnTo>
                  <a:lnTo>
                    <a:pt x="99" y="65"/>
                  </a:lnTo>
                  <a:lnTo>
                    <a:pt x="104" y="65"/>
                  </a:lnTo>
                  <a:lnTo>
                    <a:pt x="114" y="65"/>
                  </a:lnTo>
                  <a:lnTo>
                    <a:pt x="119" y="70"/>
                  </a:lnTo>
                  <a:lnTo>
                    <a:pt x="124" y="75"/>
                  </a:lnTo>
                  <a:lnTo>
                    <a:pt x="124" y="80"/>
                  </a:lnTo>
                  <a:lnTo>
                    <a:pt x="133" y="80"/>
                  </a:lnTo>
                  <a:lnTo>
                    <a:pt x="138" y="84"/>
                  </a:lnTo>
                  <a:lnTo>
                    <a:pt x="148" y="84"/>
                  </a:lnTo>
                  <a:lnTo>
                    <a:pt x="153" y="84"/>
                  </a:lnTo>
                  <a:lnTo>
                    <a:pt x="163" y="84"/>
                  </a:lnTo>
                  <a:lnTo>
                    <a:pt x="168" y="84"/>
                  </a:lnTo>
                  <a:lnTo>
                    <a:pt x="178" y="84"/>
                  </a:lnTo>
                  <a:lnTo>
                    <a:pt x="183" y="84"/>
                  </a:lnTo>
                  <a:lnTo>
                    <a:pt x="193" y="84"/>
                  </a:lnTo>
                  <a:lnTo>
                    <a:pt x="198" y="84"/>
                  </a:lnTo>
                  <a:lnTo>
                    <a:pt x="208" y="8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7" name=""/>
            <p:cNvSpPr/>
            <p:nvPr/>
          </p:nvSpPr>
          <p:spPr>
            <a:xfrm>
              <a:off x="2622240" y="3302280"/>
              <a:ext cx="18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8" name=""/>
            <p:cNvSpPr/>
            <p:nvPr/>
          </p:nvSpPr>
          <p:spPr>
            <a:xfrm>
              <a:off x="2644560" y="3326040"/>
              <a:ext cx="47520" cy="47520"/>
            </a:xfrm>
            <a:custGeom>
              <a:avLst/>
              <a:gdLst/>
              <a:ahLst/>
              <a:rect l="l" t="t" r="r" b="b"/>
              <a:pathLst>
                <a:path w="30" h="30">
                  <a:moveTo>
                    <a:pt x="5" y="15"/>
                  </a:moveTo>
                  <a:lnTo>
                    <a:pt x="5" y="15"/>
                  </a:lnTo>
                  <a:lnTo>
                    <a:pt x="5" y="15"/>
                  </a:lnTo>
                  <a:lnTo>
                    <a:pt x="5" y="20"/>
                  </a:lnTo>
                  <a:lnTo>
                    <a:pt x="5" y="20"/>
                  </a:lnTo>
                  <a:lnTo>
                    <a:pt x="5" y="20"/>
                  </a:lnTo>
                  <a:lnTo>
                    <a:pt x="5" y="20"/>
                  </a:lnTo>
                  <a:lnTo>
                    <a:pt x="5" y="20"/>
                  </a:lnTo>
                  <a:lnTo>
                    <a:pt x="5" y="25"/>
                  </a:lnTo>
                  <a:lnTo>
                    <a:pt x="5" y="25"/>
                  </a:lnTo>
                  <a:lnTo>
                    <a:pt x="5" y="25"/>
                  </a:lnTo>
                  <a:lnTo>
                    <a:pt x="10" y="25"/>
                  </a:lnTo>
                  <a:lnTo>
                    <a:pt x="10" y="25"/>
                  </a:lnTo>
                  <a:lnTo>
                    <a:pt x="10" y="25"/>
                  </a:lnTo>
                  <a:lnTo>
                    <a:pt x="10" y="25"/>
                  </a:lnTo>
                  <a:lnTo>
                    <a:pt x="10" y="25"/>
                  </a:lnTo>
                  <a:lnTo>
                    <a:pt x="15" y="25"/>
                  </a:lnTo>
                  <a:lnTo>
                    <a:pt x="15" y="25"/>
                  </a:lnTo>
                  <a:lnTo>
                    <a:pt x="15" y="25"/>
                  </a:lnTo>
                  <a:lnTo>
                    <a:pt x="15" y="20"/>
                  </a:lnTo>
                  <a:lnTo>
                    <a:pt x="20" y="20"/>
                  </a:lnTo>
                  <a:lnTo>
                    <a:pt x="20" y="20"/>
                  </a:lnTo>
                  <a:lnTo>
                    <a:pt x="20" y="20"/>
                  </a:lnTo>
                  <a:lnTo>
                    <a:pt x="15" y="20"/>
                  </a:lnTo>
                  <a:lnTo>
                    <a:pt x="15" y="20"/>
                  </a:lnTo>
                  <a:lnTo>
                    <a:pt x="15" y="20"/>
                  </a:lnTo>
                  <a:lnTo>
                    <a:pt x="15" y="20"/>
                  </a:lnTo>
                  <a:lnTo>
                    <a:pt x="15" y="20"/>
                  </a:lnTo>
                  <a:lnTo>
                    <a:pt x="10" y="20"/>
                  </a:lnTo>
                  <a:lnTo>
                    <a:pt x="10" y="20"/>
                  </a:lnTo>
                  <a:lnTo>
                    <a:pt x="10" y="15"/>
                  </a:lnTo>
                  <a:lnTo>
                    <a:pt x="10" y="15"/>
                  </a:lnTo>
                  <a:lnTo>
                    <a:pt x="10" y="15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15" y="5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25" y="0"/>
                  </a:lnTo>
                  <a:lnTo>
                    <a:pt x="25" y="5"/>
                  </a:lnTo>
                  <a:lnTo>
                    <a:pt x="25" y="5"/>
                  </a:lnTo>
                  <a:lnTo>
                    <a:pt x="25" y="5"/>
                  </a:lnTo>
                  <a:lnTo>
                    <a:pt x="30" y="5"/>
                  </a:lnTo>
                  <a:lnTo>
                    <a:pt x="30" y="10"/>
                  </a:lnTo>
                  <a:lnTo>
                    <a:pt x="30" y="10"/>
                  </a:lnTo>
                  <a:lnTo>
                    <a:pt x="30" y="15"/>
                  </a:lnTo>
                  <a:lnTo>
                    <a:pt x="25" y="15"/>
                  </a:lnTo>
                  <a:lnTo>
                    <a:pt x="25" y="20"/>
                  </a:lnTo>
                  <a:lnTo>
                    <a:pt x="25" y="20"/>
                  </a:lnTo>
                  <a:lnTo>
                    <a:pt x="20" y="25"/>
                  </a:lnTo>
                  <a:lnTo>
                    <a:pt x="15" y="25"/>
                  </a:lnTo>
                  <a:lnTo>
                    <a:pt x="15" y="25"/>
                  </a:lnTo>
                  <a:lnTo>
                    <a:pt x="10" y="30"/>
                  </a:lnTo>
                  <a:lnTo>
                    <a:pt x="10" y="30"/>
                  </a:lnTo>
                  <a:lnTo>
                    <a:pt x="10" y="30"/>
                  </a:lnTo>
                  <a:lnTo>
                    <a:pt x="5" y="25"/>
                  </a:lnTo>
                  <a:lnTo>
                    <a:pt x="5" y="25"/>
                  </a:lnTo>
                  <a:lnTo>
                    <a:pt x="5" y="25"/>
                  </a:lnTo>
                  <a:lnTo>
                    <a:pt x="0" y="25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5" y="15"/>
                  </a:lnTo>
                  <a:close/>
                  <a:moveTo>
                    <a:pt x="25" y="15"/>
                  </a:moveTo>
                  <a:lnTo>
                    <a:pt x="25" y="15"/>
                  </a:lnTo>
                  <a:lnTo>
                    <a:pt x="25" y="15"/>
                  </a:lnTo>
                  <a:lnTo>
                    <a:pt x="25" y="15"/>
                  </a:lnTo>
                  <a:lnTo>
                    <a:pt x="25" y="10"/>
                  </a:lnTo>
                  <a:lnTo>
                    <a:pt x="25" y="10"/>
                  </a:lnTo>
                  <a:lnTo>
                    <a:pt x="25" y="10"/>
                  </a:lnTo>
                  <a:lnTo>
                    <a:pt x="25" y="10"/>
                  </a:lnTo>
                  <a:lnTo>
                    <a:pt x="25" y="10"/>
                  </a:lnTo>
                  <a:lnTo>
                    <a:pt x="25" y="10"/>
                  </a:lnTo>
                  <a:lnTo>
                    <a:pt x="25" y="5"/>
                  </a:lnTo>
                  <a:lnTo>
                    <a:pt x="25" y="5"/>
                  </a:lnTo>
                  <a:lnTo>
                    <a:pt x="25" y="5"/>
                  </a:lnTo>
                  <a:lnTo>
                    <a:pt x="20" y="5"/>
                  </a:lnTo>
                  <a:lnTo>
                    <a:pt x="20" y="5"/>
                  </a:lnTo>
                  <a:lnTo>
                    <a:pt x="20" y="5"/>
                  </a:lnTo>
                  <a:lnTo>
                    <a:pt x="20" y="5"/>
                  </a:lnTo>
                  <a:lnTo>
                    <a:pt x="20" y="5"/>
                  </a:lnTo>
                  <a:lnTo>
                    <a:pt x="15" y="5"/>
                  </a:lnTo>
                  <a:lnTo>
                    <a:pt x="15" y="5"/>
                  </a:lnTo>
                  <a:lnTo>
                    <a:pt x="15" y="5"/>
                  </a:lnTo>
                  <a:lnTo>
                    <a:pt x="15" y="10"/>
                  </a:lnTo>
                  <a:lnTo>
                    <a:pt x="15" y="10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10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20" y="15"/>
                  </a:lnTo>
                  <a:lnTo>
                    <a:pt x="20" y="15"/>
                  </a:lnTo>
                  <a:lnTo>
                    <a:pt x="20" y="15"/>
                  </a:lnTo>
                  <a:lnTo>
                    <a:pt x="20" y="15"/>
                  </a:lnTo>
                  <a:lnTo>
                    <a:pt x="25" y="15"/>
                  </a:lnTo>
                  <a:close/>
                </a:path>
              </a:pathLst>
            </a:custGeom>
            <a:solidFill>
              <a:srgbClr val="666666"/>
            </a:solidFill>
            <a:ln w="0">
              <a:solidFill>
                <a:srgbClr val="6666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9" name=""/>
            <p:cNvSpPr/>
            <p:nvPr/>
          </p:nvSpPr>
          <p:spPr>
            <a:xfrm>
              <a:off x="2622240" y="3302280"/>
              <a:ext cx="38160" cy="47520"/>
            </a:xfrm>
            <a:custGeom>
              <a:avLst/>
              <a:gdLst/>
              <a:ahLst/>
              <a:rect l="l" t="t" r="r" b="b"/>
              <a:pathLst>
                <a:path w="24" h="30">
                  <a:moveTo>
                    <a:pt x="19" y="20"/>
                  </a:moveTo>
                  <a:lnTo>
                    <a:pt x="19" y="25"/>
                  </a:lnTo>
                  <a:lnTo>
                    <a:pt x="14" y="25"/>
                  </a:lnTo>
                  <a:lnTo>
                    <a:pt x="14" y="25"/>
                  </a:lnTo>
                  <a:lnTo>
                    <a:pt x="14" y="25"/>
                  </a:lnTo>
                  <a:lnTo>
                    <a:pt x="10" y="25"/>
                  </a:lnTo>
                  <a:lnTo>
                    <a:pt x="10" y="30"/>
                  </a:lnTo>
                  <a:lnTo>
                    <a:pt x="10" y="30"/>
                  </a:lnTo>
                  <a:lnTo>
                    <a:pt x="10" y="30"/>
                  </a:lnTo>
                  <a:lnTo>
                    <a:pt x="5" y="30"/>
                  </a:lnTo>
                  <a:lnTo>
                    <a:pt x="5" y="25"/>
                  </a:lnTo>
                  <a:lnTo>
                    <a:pt x="5" y="25"/>
                  </a:lnTo>
                  <a:lnTo>
                    <a:pt x="5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5" y="10"/>
                  </a:lnTo>
                  <a:lnTo>
                    <a:pt x="5" y="10"/>
                  </a:lnTo>
                  <a:lnTo>
                    <a:pt x="5" y="10"/>
                  </a:lnTo>
                  <a:lnTo>
                    <a:pt x="5" y="10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24" y="5"/>
                  </a:lnTo>
                  <a:lnTo>
                    <a:pt x="24" y="5"/>
                  </a:lnTo>
                  <a:lnTo>
                    <a:pt x="24" y="5"/>
                  </a:lnTo>
                  <a:lnTo>
                    <a:pt x="24" y="10"/>
                  </a:lnTo>
                  <a:lnTo>
                    <a:pt x="24" y="10"/>
                  </a:lnTo>
                  <a:lnTo>
                    <a:pt x="24" y="10"/>
                  </a:lnTo>
                  <a:lnTo>
                    <a:pt x="24" y="15"/>
                  </a:lnTo>
                  <a:lnTo>
                    <a:pt x="24" y="20"/>
                  </a:lnTo>
                  <a:lnTo>
                    <a:pt x="19" y="20"/>
                  </a:lnTo>
                  <a:close/>
                  <a:moveTo>
                    <a:pt x="19" y="20"/>
                  </a:moveTo>
                  <a:lnTo>
                    <a:pt x="19" y="15"/>
                  </a:lnTo>
                  <a:lnTo>
                    <a:pt x="19" y="15"/>
                  </a:lnTo>
                  <a:lnTo>
                    <a:pt x="19" y="10"/>
                  </a:lnTo>
                  <a:lnTo>
                    <a:pt x="24" y="10"/>
                  </a:lnTo>
                  <a:lnTo>
                    <a:pt x="24" y="10"/>
                  </a:lnTo>
                  <a:lnTo>
                    <a:pt x="24" y="5"/>
                  </a:lnTo>
                  <a:lnTo>
                    <a:pt x="19" y="5"/>
                  </a:lnTo>
                  <a:lnTo>
                    <a:pt x="19" y="5"/>
                  </a:lnTo>
                  <a:lnTo>
                    <a:pt x="19" y="5"/>
                  </a:lnTo>
                  <a:lnTo>
                    <a:pt x="19" y="5"/>
                  </a:lnTo>
                  <a:lnTo>
                    <a:pt x="19" y="5"/>
                  </a:lnTo>
                  <a:lnTo>
                    <a:pt x="14" y="5"/>
                  </a:lnTo>
                  <a:lnTo>
                    <a:pt x="14" y="5"/>
                  </a:lnTo>
                  <a:lnTo>
                    <a:pt x="14" y="5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5" y="15"/>
                  </a:lnTo>
                  <a:lnTo>
                    <a:pt x="5" y="15"/>
                  </a:lnTo>
                  <a:lnTo>
                    <a:pt x="5" y="15"/>
                  </a:lnTo>
                  <a:lnTo>
                    <a:pt x="5" y="20"/>
                  </a:lnTo>
                  <a:lnTo>
                    <a:pt x="5" y="20"/>
                  </a:lnTo>
                  <a:lnTo>
                    <a:pt x="5" y="20"/>
                  </a:lnTo>
                  <a:lnTo>
                    <a:pt x="5" y="20"/>
                  </a:lnTo>
                  <a:lnTo>
                    <a:pt x="5" y="25"/>
                  </a:lnTo>
                  <a:lnTo>
                    <a:pt x="5" y="25"/>
                  </a:lnTo>
                  <a:lnTo>
                    <a:pt x="5" y="25"/>
                  </a:lnTo>
                  <a:lnTo>
                    <a:pt x="10" y="25"/>
                  </a:lnTo>
                  <a:lnTo>
                    <a:pt x="10" y="25"/>
                  </a:lnTo>
                  <a:lnTo>
                    <a:pt x="10" y="25"/>
                  </a:lnTo>
                  <a:lnTo>
                    <a:pt x="14" y="25"/>
                  </a:lnTo>
                  <a:lnTo>
                    <a:pt x="14" y="20"/>
                  </a:lnTo>
                  <a:lnTo>
                    <a:pt x="19" y="20"/>
                  </a:lnTo>
                  <a:close/>
                </a:path>
              </a:pathLst>
            </a:custGeom>
            <a:solidFill>
              <a:srgbClr val="666666"/>
            </a:solidFill>
            <a:ln w="0">
              <a:solidFill>
                <a:srgbClr val="6666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0" name=""/>
            <p:cNvSpPr/>
            <p:nvPr/>
          </p:nvSpPr>
          <p:spPr>
            <a:xfrm>
              <a:off x="2692080" y="3373560"/>
              <a:ext cx="18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1" name=""/>
            <p:cNvSpPr/>
            <p:nvPr/>
          </p:nvSpPr>
          <p:spPr>
            <a:xfrm>
              <a:off x="2692080" y="3373560"/>
              <a:ext cx="47880" cy="7920"/>
            </a:xfrm>
            <a:custGeom>
              <a:avLst/>
              <a:gdLst/>
              <a:ahLst/>
              <a:rect l="l" t="t" r="r" b="b"/>
              <a:pathLst>
                <a:path w="30" h="5">
                  <a:moveTo>
                    <a:pt x="0" y="0"/>
                  </a:moveTo>
                  <a:lnTo>
                    <a:pt x="5" y="0"/>
                  </a:lnTo>
                  <a:lnTo>
                    <a:pt x="15" y="5"/>
                  </a:lnTo>
                  <a:lnTo>
                    <a:pt x="20" y="5"/>
                  </a:lnTo>
                  <a:lnTo>
                    <a:pt x="30" y="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2" name=""/>
            <p:cNvSpPr/>
            <p:nvPr/>
          </p:nvSpPr>
          <p:spPr>
            <a:xfrm>
              <a:off x="2935080" y="33735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5" y="5"/>
                  </a:move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3" name=""/>
            <p:cNvSpPr/>
            <p:nvPr/>
          </p:nvSpPr>
          <p:spPr>
            <a:xfrm>
              <a:off x="5221080" y="3264120"/>
              <a:ext cx="22320" cy="85680"/>
            </a:xfrm>
            <a:custGeom>
              <a:avLst/>
              <a:gdLst/>
              <a:ahLst/>
              <a:rect l="l" t="t" r="r" b="b"/>
              <a:pathLst>
                <a:path w="14" h="54">
                  <a:moveTo>
                    <a:pt x="5" y="44"/>
                  </a:moveTo>
                  <a:lnTo>
                    <a:pt x="10" y="39"/>
                  </a:lnTo>
                  <a:lnTo>
                    <a:pt x="14" y="34"/>
                  </a:lnTo>
                  <a:lnTo>
                    <a:pt x="14" y="29"/>
                  </a:lnTo>
                  <a:lnTo>
                    <a:pt x="14" y="24"/>
                  </a:lnTo>
                  <a:lnTo>
                    <a:pt x="14" y="20"/>
                  </a:lnTo>
                  <a:lnTo>
                    <a:pt x="10" y="15"/>
                  </a:lnTo>
                  <a:lnTo>
                    <a:pt x="10" y="5"/>
                  </a:lnTo>
                  <a:lnTo>
                    <a:pt x="5" y="0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15"/>
                  </a:lnTo>
                  <a:lnTo>
                    <a:pt x="0" y="20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0" y="49"/>
                  </a:lnTo>
                  <a:lnTo>
                    <a:pt x="0" y="54"/>
                  </a:lnTo>
                  <a:lnTo>
                    <a:pt x="5" y="54"/>
                  </a:lnTo>
                  <a:lnTo>
                    <a:pt x="5" y="4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4" name=""/>
            <p:cNvSpPr/>
            <p:nvPr/>
          </p:nvSpPr>
          <p:spPr>
            <a:xfrm flipH="1" flipV="1">
              <a:off x="2268360" y="3240360"/>
              <a:ext cx="23760" cy="7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5" name=""/>
            <p:cNvSpPr/>
            <p:nvPr/>
          </p:nvSpPr>
          <p:spPr>
            <a:xfrm flipV="1">
              <a:off x="2268360" y="3248280"/>
              <a:ext cx="23760" cy="31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6" name=""/>
            <p:cNvSpPr/>
            <p:nvPr/>
          </p:nvSpPr>
          <p:spPr>
            <a:xfrm>
              <a:off x="3995640" y="3208320"/>
              <a:ext cx="144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7" name=""/>
            <p:cNvSpPr/>
            <p:nvPr/>
          </p:nvSpPr>
          <p:spPr>
            <a:xfrm flipV="1">
              <a:off x="5283000" y="3192480"/>
              <a:ext cx="7920" cy="15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8" name=""/>
            <p:cNvSpPr/>
            <p:nvPr/>
          </p:nvSpPr>
          <p:spPr>
            <a:xfrm>
              <a:off x="5275080" y="3138480"/>
              <a:ext cx="31680" cy="54000"/>
            </a:xfrm>
            <a:custGeom>
              <a:avLst/>
              <a:gdLst/>
              <a:ahLst/>
              <a:rect l="l" t="t" r="r" b="b"/>
              <a:pathLst>
                <a:path w="20" h="34">
                  <a:moveTo>
                    <a:pt x="10" y="34"/>
                  </a:moveTo>
                  <a:lnTo>
                    <a:pt x="15" y="29"/>
                  </a:lnTo>
                  <a:lnTo>
                    <a:pt x="20" y="24"/>
                  </a:lnTo>
                  <a:lnTo>
                    <a:pt x="15" y="14"/>
                  </a:lnTo>
                  <a:lnTo>
                    <a:pt x="10" y="1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9" name=""/>
            <p:cNvSpPr/>
            <p:nvPr/>
          </p:nvSpPr>
          <p:spPr>
            <a:xfrm>
              <a:off x="5275080" y="3138480"/>
              <a:ext cx="14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0" name=""/>
            <p:cNvSpPr/>
            <p:nvPr/>
          </p:nvSpPr>
          <p:spPr>
            <a:xfrm>
              <a:off x="5243400" y="3192480"/>
              <a:ext cx="47520" cy="32040"/>
            </a:xfrm>
            <a:custGeom>
              <a:avLst/>
              <a:gdLst/>
              <a:ahLst/>
              <a:rect l="l" t="t" r="r" b="b"/>
              <a:pathLst>
                <a:path w="30" h="20">
                  <a:moveTo>
                    <a:pt x="10" y="0"/>
                  </a:moveTo>
                  <a:lnTo>
                    <a:pt x="10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5" y="10"/>
                  </a:lnTo>
                  <a:lnTo>
                    <a:pt x="5" y="10"/>
                  </a:lnTo>
                  <a:lnTo>
                    <a:pt x="5" y="15"/>
                  </a:lnTo>
                  <a:lnTo>
                    <a:pt x="5" y="15"/>
                  </a:lnTo>
                  <a:lnTo>
                    <a:pt x="5" y="15"/>
                  </a:lnTo>
                  <a:lnTo>
                    <a:pt x="5" y="15"/>
                  </a:lnTo>
                  <a:lnTo>
                    <a:pt x="10" y="15"/>
                  </a:lnTo>
                  <a:lnTo>
                    <a:pt x="10" y="15"/>
                  </a:lnTo>
                  <a:lnTo>
                    <a:pt x="10" y="15"/>
                  </a:lnTo>
                  <a:lnTo>
                    <a:pt x="15" y="15"/>
                  </a:lnTo>
                  <a:lnTo>
                    <a:pt x="10" y="15"/>
                  </a:lnTo>
                  <a:lnTo>
                    <a:pt x="10" y="15"/>
                  </a:lnTo>
                  <a:lnTo>
                    <a:pt x="10" y="15"/>
                  </a:lnTo>
                  <a:lnTo>
                    <a:pt x="10" y="15"/>
                  </a:lnTo>
                  <a:lnTo>
                    <a:pt x="10" y="15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15" y="5"/>
                  </a:lnTo>
                  <a:lnTo>
                    <a:pt x="15" y="5"/>
                  </a:lnTo>
                  <a:lnTo>
                    <a:pt x="15" y="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25" y="0"/>
                  </a:lnTo>
                  <a:lnTo>
                    <a:pt x="25" y="5"/>
                  </a:lnTo>
                  <a:lnTo>
                    <a:pt x="25" y="5"/>
                  </a:lnTo>
                  <a:lnTo>
                    <a:pt x="25" y="5"/>
                  </a:lnTo>
                  <a:lnTo>
                    <a:pt x="25" y="5"/>
                  </a:lnTo>
                  <a:lnTo>
                    <a:pt x="30" y="5"/>
                  </a:lnTo>
                  <a:lnTo>
                    <a:pt x="30" y="5"/>
                  </a:lnTo>
                  <a:lnTo>
                    <a:pt x="30" y="10"/>
                  </a:lnTo>
                  <a:lnTo>
                    <a:pt x="30" y="10"/>
                  </a:lnTo>
                  <a:lnTo>
                    <a:pt x="30" y="10"/>
                  </a:lnTo>
                  <a:lnTo>
                    <a:pt x="30" y="10"/>
                  </a:lnTo>
                  <a:lnTo>
                    <a:pt x="30" y="15"/>
                  </a:lnTo>
                  <a:lnTo>
                    <a:pt x="30" y="15"/>
                  </a:lnTo>
                  <a:lnTo>
                    <a:pt x="25" y="20"/>
                  </a:lnTo>
                  <a:lnTo>
                    <a:pt x="25" y="20"/>
                  </a:lnTo>
                  <a:lnTo>
                    <a:pt x="25" y="20"/>
                  </a:lnTo>
                  <a:lnTo>
                    <a:pt x="20" y="20"/>
                  </a:lnTo>
                  <a:lnTo>
                    <a:pt x="20" y="20"/>
                  </a:lnTo>
                  <a:lnTo>
                    <a:pt x="15" y="20"/>
                  </a:lnTo>
                  <a:lnTo>
                    <a:pt x="10" y="20"/>
                  </a:lnTo>
                  <a:lnTo>
                    <a:pt x="5" y="20"/>
                  </a:lnTo>
                  <a:lnTo>
                    <a:pt x="5" y="20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10" y="0"/>
                  </a:lnTo>
                  <a:close/>
                  <a:moveTo>
                    <a:pt x="20" y="15"/>
                  </a:moveTo>
                  <a:lnTo>
                    <a:pt x="20" y="15"/>
                  </a:lnTo>
                  <a:lnTo>
                    <a:pt x="20" y="15"/>
                  </a:lnTo>
                  <a:lnTo>
                    <a:pt x="20" y="15"/>
                  </a:lnTo>
                  <a:lnTo>
                    <a:pt x="20" y="15"/>
                  </a:lnTo>
                  <a:lnTo>
                    <a:pt x="25" y="15"/>
                  </a:lnTo>
                  <a:lnTo>
                    <a:pt x="25" y="15"/>
                  </a:lnTo>
                  <a:lnTo>
                    <a:pt x="25" y="15"/>
                  </a:lnTo>
                  <a:lnTo>
                    <a:pt x="25" y="15"/>
                  </a:lnTo>
                  <a:lnTo>
                    <a:pt x="25" y="15"/>
                  </a:lnTo>
                  <a:lnTo>
                    <a:pt x="25" y="15"/>
                  </a:lnTo>
                  <a:lnTo>
                    <a:pt x="25" y="15"/>
                  </a:lnTo>
                  <a:lnTo>
                    <a:pt x="25" y="10"/>
                  </a:lnTo>
                  <a:lnTo>
                    <a:pt x="25" y="10"/>
                  </a:lnTo>
                  <a:lnTo>
                    <a:pt x="25" y="10"/>
                  </a:lnTo>
                  <a:lnTo>
                    <a:pt x="25" y="10"/>
                  </a:lnTo>
                  <a:lnTo>
                    <a:pt x="25" y="10"/>
                  </a:lnTo>
                  <a:lnTo>
                    <a:pt x="25" y="5"/>
                  </a:lnTo>
                  <a:lnTo>
                    <a:pt x="25" y="5"/>
                  </a:lnTo>
                  <a:lnTo>
                    <a:pt x="20" y="5"/>
                  </a:lnTo>
                  <a:lnTo>
                    <a:pt x="20" y="5"/>
                  </a:lnTo>
                  <a:lnTo>
                    <a:pt x="20" y="5"/>
                  </a:lnTo>
                  <a:lnTo>
                    <a:pt x="15" y="5"/>
                  </a:lnTo>
                  <a:lnTo>
                    <a:pt x="15" y="5"/>
                  </a:lnTo>
                  <a:lnTo>
                    <a:pt x="15" y="5"/>
                  </a:lnTo>
                  <a:lnTo>
                    <a:pt x="15" y="5"/>
                  </a:lnTo>
                  <a:lnTo>
                    <a:pt x="15" y="10"/>
                  </a:lnTo>
                  <a:lnTo>
                    <a:pt x="15" y="10"/>
                  </a:lnTo>
                  <a:lnTo>
                    <a:pt x="15" y="10"/>
                  </a:lnTo>
                  <a:lnTo>
                    <a:pt x="15" y="10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20" y="15"/>
                  </a:lnTo>
                  <a:close/>
                </a:path>
              </a:pathLst>
            </a:custGeom>
            <a:solidFill>
              <a:srgbClr val="666666"/>
            </a:solidFill>
            <a:ln w="0">
              <a:solidFill>
                <a:srgbClr val="6666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1" name=""/>
            <p:cNvSpPr/>
            <p:nvPr/>
          </p:nvSpPr>
          <p:spPr>
            <a:xfrm>
              <a:off x="5243400" y="3160800"/>
              <a:ext cx="47520" cy="31680"/>
            </a:xfrm>
            <a:custGeom>
              <a:avLst/>
              <a:gdLst/>
              <a:ahLst/>
              <a:rect l="l" t="t" r="r" b="b"/>
              <a:pathLst>
                <a:path w="30" h="20">
                  <a:moveTo>
                    <a:pt x="15" y="20"/>
                  </a:moveTo>
                  <a:lnTo>
                    <a:pt x="15" y="15"/>
                  </a:lnTo>
                  <a:lnTo>
                    <a:pt x="10" y="15"/>
                  </a:lnTo>
                  <a:lnTo>
                    <a:pt x="10" y="15"/>
                  </a:lnTo>
                  <a:lnTo>
                    <a:pt x="10" y="15"/>
                  </a:lnTo>
                  <a:lnTo>
                    <a:pt x="5" y="15"/>
                  </a:lnTo>
                  <a:lnTo>
                    <a:pt x="5" y="15"/>
                  </a:lnTo>
                  <a:lnTo>
                    <a:pt x="5" y="15"/>
                  </a:lnTo>
                  <a:lnTo>
                    <a:pt x="5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5" y="5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0" y="5"/>
                  </a:lnTo>
                  <a:lnTo>
                    <a:pt x="30" y="5"/>
                  </a:lnTo>
                  <a:lnTo>
                    <a:pt x="30" y="5"/>
                  </a:lnTo>
                  <a:lnTo>
                    <a:pt x="30" y="5"/>
                  </a:lnTo>
                  <a:lnTo>
                    <a:pt x="30" y="10"/>
                  </a:lnTo>
                  <a:lnTo>
                    <a:pt x="30" y="10"/>
                  </a:lnTo>
                  <a:lnTo>
                    <a:pt x="30" y="10"/>
                  </a:lnTo>
                  <a:lnTo>
                    <a:pt x="30" y="15"/>
                  </a:lnTo>
                  <a:lnTo>
                    <a:pt x="30" y="15"/>
                  </a:lnTo>
                  <a:lnTo>
                    <a:pt x="30" y="15"/>
                  </a:lnTo>
                  <a:lnTo>
                    <a:pt x="25" y="15"/>
                  </a:lnTo>
                  <a:lnTo>
                    <a:pt x="25" y="20"/>
                  </a:lnTo>
                  <a:lnTo>
                    <a:pt x="20" y="20"/>
                  </a:lnTo>
                  <a:lnTo>
                    <a:pt x="15" y="20"/>
                  </a:lnTo>
                  <a:close/>
                  <a:moveTo>
                    <a:pt x="15" y="15"/>
                  </a:moveTo>
                  <a:lnTo>
                    <a:pt x="20" y="15"/>
                  </a:lnTo>
                  <a:lnTo>
                    <a:pt x="20" y="15"/>
                  </a:lnTo>
                  <a:lnTo>
                    <a:pt x="25" y="15"/>
                  </a:lnTo>
                  <a:lnTo>
                    <a:pt x="25" y="15"/>
                  </a:lnTo>
                  <a:lnTo>
                    <a:pt x="25" y="15"/>
                  </a:lnTo>
                  <a:lnTo>
                    <a:pt x="30" y="10"/>
                  </a:lnTo>
                  <a:lnTo>
                    <a:pt x="30" y="10"/>
                  </a:lnTo>
                  <a:lnTo>
                    <a:pt x="30" y="10"/>
                  </a:lnTo>
                  <a:lnTo>
                    <a:pt x="30" y="10"/>
                  </a:lnTo>
                  <a:lnTo>
                    <a:pt x="30" y="5"/>
                  </a:lnTo>
                  <a:lnTo>
                    <a:pt x="30" y="5"/>
                  </a:lnTo>
                  <a:lnTo>
                    <a:pt x="25" y="5"/>
                  </a:lnTo>
                  <a:lnTo>
                    <a:pt x="25" y="5"/>
                  </a:lnTo>
                  <a:lnTo>
                    <a:pt x="25" y="5"/>
                  </a:lnTo>
                  <a:lnTo>
                    <a:pt x="20" y="5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10"/>
                  </a:lnTo>
                  <a:lnTo>
                    <a:pt x="5" y="10"/>
                  </a:lnTo>
                  <a:lnTo>
                    <a:pt x="5" y="10"/>
                  </a:lnTo>
                  <a:lnTo>
                    <a:pt x="5" y="10"/>
                  </a:lnTo>
                  <a:lnTo>
                    <a:pt x="10" y="10"/>
                  </a:lnTo>
                  <a:lnTo>
                    <a:pt x="10" y="15"/>
                  </a:lnTo>
                  <a:lnTo>
                    <a:pt x="15" y="15"/>
                  </a:lnTo>
                  <a:lnTo>
                    <a:pt x="15" y="15"/>
                  </a:lnTo>
                  <a:close/>
                </a:path>
              </a:pathLst>
            </a:custGeom>
            <a:solidFill>
              <a:srgbClr val="666666"/>
            </a:solidFill>
            <a:ln w="0">
              <a:solidFill>
                <a:srgbClr val="6666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2" name=""/>
            <p:cNvSpPr/>
            <p:nvPr/>
          </p:nvSpPr>
          <p:spPr>
            <a:xfrm>
              <a:off x="5259240" y="3240360"/>
              <a:ext cx="7920" cy="7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3" name=""/>
            <p:cNvSpPr/>
            <p:nvPr/>
          </p:nvSpPr>
          <p:spPr>
            <a:xfrm>
              <a:off x="5267160" y="3208320"/>
              <a:ext cx="15840" cy="39960"/>
            </a:xfrm>
            <a:custGeom>
              <a:avLst/>
              <a:gdLst/>
              <a:ahLst/>
              <a:rect l="l" t="t" r="r" b="b"/>
              <a:pathLst>
                <a:path w="10" h="25">
                  <a:moveTo>
                    <a:pt x="0" y="25"/>
                  </a:moveTo>
                  <a:lnTo>
                    <a:pt x="0" y="25"/>
                  </a:lnTo>
                  <a:lnTo>
                    <a:pt x="5" y="20"/>
                  </a:lnTo>
                  <a:lnTo>
                    <a:pt x="5" y="10"/>
                  </a:lnTo>
                  <a:lnTo>
                    <a:pt x="1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4" name=""/>
            <p:cNvSpPr/>
            <p:nvPr/>
          </p:nvSpPr>
          <p:spPr>
            <a:xfrm>
              <a:off x="5290920" y="3075120"/>
              <a:ext cx="31680" cy="71640"/>
            </a:xfrm>
            <a:custGeom>
              <a:avLst/>
              <a:gdLst/>
              <a:ahLst/>
              <a:rect l="l" t="t" r="r" b="b"/>
              <a:pathLst>
                <a:path w="20" h="45">
                  <a:moveTo>
                    <a:pt x="20" y="30"/>
                  </a:moveTo>
                  <a:lnTo>
                    <a:pt x="20" y="25"/>
                  </a:lnTo>
                  <a:lnTo>
                    <a:pt x="20" y="20"/>
                  </a:lnTo>
                  <a:lnTo>
                    <a:pt x="20" y="15"/>
                  </a:lnTo>
                  <a:lnTo>
                    <a:pt x="20" y="10"/>
                  </a:lnTo>
                  <a:lnTo>
                    <a:pt x="20" y="5"/>
                  </a:lnTo>
                  <a:lnTo>
                    <a:pt x="15" y="0"/>
                  </a:lnTo>
                  <a:lnTo>
                    <a:pt x="10" y="0"/>
                  </a:lnTo>
                  <a:lnTo>
                    <a:pt x="5" y="5"/>
                  </a:lnTo>
                  <a:lnTo>
                    <a:pt x="0" y="10"/>
                  </a:lnTo>
                  <a:lnTo>
                    <a:pt x="0" y="15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5" y="35"/>
                  </a:lnTo>
                  <a:lnTo>
                    <a:pt x="5" y="40"/>
                  </a:lnTo>
                  <a:lnTo>
                    <a:pt x="10" y="45"/>
                  </a:lnTo>
                  <a:lnTo>
                    <a:pt x="10" y="45"/>
                  </a:lnTo>
                  <a:lnTo>
                    <a:pt x="15" y="45"/>
                  </a:lnTo>
                  <a:lnTo>
                    <a:pt x="15" y="40"/>
                  </a:lnTo>
                  <a:lnTo>
                    <a:pt x="20" y="3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5" name=""/>
            <p:cNvSpPr/>
            <p:nvPr/>
          </p:nvSpPr>
          <p:spPr>
            <a:xfrm>
              <a:off x="2700000" y="3005280"/>
              <a:ext cx="55800" cy="61920"/>
            </a:xfrm>
            <a:custGeom>
              <a:avLst/>
              <a:gdLst/>
              <a:ahLst/>
              <a:rect l="l" t="t" r="r" b="b"/>
              <a:pathLst>
                <a:path w="35" h="39">
                  <a:moveTo>
                    <a:pt x="35" y="19"/>
                  </a:moveTo>
                  <a:lnTo>
                    <a:pt x="30" y="10"/>
                  </a:lnTo>
                  <a:lnTo>
                    <a:pt x="30" y="5"/>
                  </a:lnTo>
                  <a:lnTo>
                    <a:pt x="25" y="0"/>
                  </a:lnTo>
                  <a:lnTo>
                    <a:pt x="20" y="0"/>
                  </a:lnTo>
                  <a:lnTo>
                    <a:pt x="10" y="0"/>
                  </a:lnTo>
                  <a:lnTo>
                    <a:pt x="5" y="5"/>
                  </a:lnTo>
                  <a:lnTo>
                    <a:pt x="0" y="14"/>
                  </a:lnTo>
                  <a:lnTo>
                    <a:pt x="0" y="24"/>
                  </a:lnTo>
                  <a:lnTo>
                    <a:pt x="5" y="29"/>
                  </a:lnTo>
                  <a:lnTo>
                    <a:pt x="15" y="34"/>
                  </a:lnTo>
                  <a:lnTo>
                    <a:pt x="20" y="39"/>
                  </a:lnTo>
                  <a:lnTo>
                    <a:pt x="25" y="39"/>
                  </a:lnTo>
                  <a:lnTo>
                    <a:pt x="30" y="29"/>
                  </a:lnTo>
                  <a:lnTo>
                    <a:pt x="35" y="1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6" name=""/>
            <p:cNvSpPr/>
            <p:nvPr/>
          </p:nvSpPr>
          <p:spPr>
            <a:xfrm>
              <a:off x="2809800" y="2918160"/>
              <a:ext cx="39600" cy="3960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15" y="25"/>
                  </a:moveTo>
                  <a:lnTo>
                    <a:pt x="15" y="25"/>
                  </a:lnTo>
                  <a:lnTo>
                    <a:pt x="15" y="25"/>
                  </a:lnTo>
                  <a:lnTo>
                    <a:pt x="20" y="25"/>
                  </a:lnTo>
                  <a:lnTo>
                    <a:pt x="20" y="25"/>
                  </a:lnTo>
                  <a:lnTo>
                    <a:pt x="20" y="25"/>
                  </a:lnTo>
                  <a:lnTo>
                    <a:pt x="20" y="25"/>
                  </a:lnTo>
                  <a:lnTo>
                    <a:pt x="20" y="25"/>
                  </a:lnTo>
                  <a:lnTo>
                    <a:pt x="20" y="20"/>
                  </a:lnTo>
                  <a:lnTo>
                    <a:pt x="25" y="20"/>
                  </a:lnTo>
                  <a:lnTo>
                    <a:pt x="25" y="20"/>
                  </a:lnTo>
                  <a:lnTo>
                    <a:pt x="25" y="20"/>
                  </a:lnTo>
                  <a:lnTo>
                    <a:pt x="25" y="20"/>
                  </a:lnTo>
                  <a:lnTo>
                    <a:pt x="25" y="20"/>
                  </a:lnTo>
                  <a:lnTo>
                    <a:pt x="25" y="15"/>
                  </a:lnTo>
                  <a:lnTo>
                    <a:pt x="25" y="15"/>
                  </a:lnTo>
                  <a:lnTo>
                    <a:pt x="25" y="15"/>
                  </a:lnTo>
                  <a:lnTo>
                    <a:pt x="25" y="15"/>
                  </a:lnTo>
                  <a:lnTo>
                    <a:pt x="20" y="15"/>
                  </a:lnTo>
                  <a:lnTo>
                    <a:pt x="20" y="10"/>
                  </a:lnTo>
                  <a:lnTo>
                    <a:pt x="20" y="10"/>
                  </a:lnTo>
                  <a:lnTo>
                    <a:pt x="20" y="10"/>
                  </a:lnTo>
                  <a:lnTo>
                    <a:pt x="20" y="10"/>
                  </a:lnTo>
                  <a:lnTo>
                    <a:pt x="20" y="10"/>
                  </a:lnTo>
                  <a:lnTo>
                    <a:pt x="20" y="15"/>
                  </a:lnTo>
                  <a:lnTo>
                    <a:pt x="20" y="15"/>
                  </a:lnTo>
                  <a:lnTo>
                    <a:pt x="20" y="15"/>
                  </a:lnTo>
                  <a:lnTo>
                    <a:pt x="20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20"/>
                  </a:lnTo>
                  <a:lnTo>
                    <a:pt x="15" y="20"/>
                  </a:lnTo>
                  <a:lnTo>
                    <a:pt x="15" y="20"/>
                  </a:lnTo>
                  <a:lnTo>
                    <a:pt x="10" y="20"/>
                  </a:lnTo>
                  <a:lnTo>
                    <a:pt x="10" y="20"/>
                  </a:lnTo>
                  <a:lnTo>
                    <a:pt x="5" y="20"/>
                  </a:lnTo>
                  <a:lnTo>
                    <a:pt x="5" y="20"/>
                  </a:lnTo>
                  <a:lnTo>
                    <a:pt x="5" y="20"/>
                  </a:lnTo>
                  <a:lnTo>
                    <a:pt x="5" y="20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5" y="5"/>
                  </a:lnTo>
                  <a:lnTo>
                    <a:pt x="5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5" y="0"/>
                  </a:lnTo>
                  <a:lnTo>
                    <a:pt x="15" y="5"/>
                  </a:lnTo>
                  <a:lnTo>
                    <a:pt x="20" y="5"/>
                  </a:lnTo>
                  <a:lnTo>
                    <a:pt x="20" y="10"/>
                  </a:lnTo>
                  <a:lnTo>
                    <a:pt x="25" y="10"/>
                  </a:lnTo>
                  <a:lnTo>
                    <a:pt x="25" y="15"/>
                  </a:lnTo>
                  <a:lnTo>
                    <a:pt x="25" y="15"/>
                  </a:lnTo>
                  <a:lnTo>
                    <a:pt x="25" y="20"/>
                  </a:lnTo>
                  <a:lnTo>
                    <a:pt x="25" y="20"/>
                  </a:lnTo>
                  <a:lnTo>
                    <a:pt x="25" y="20"/>
                  </a:lnTo>
                  <a:lnTo>
                    <a:pt x="25" y="25"/>
                  </a:lnTo>
                  <a:lnTo>
                    <a:pt x="25" y="25"/>
                  </a:lnTo>
                  <a:lnTo>
                    <a:pt x="25" y="25"/>
                  </a:lnTo>
                  <a:lnTo>
                    <a:pt x="20" y="25"/>
                  </a:lnTo>
                  <a:lnTo>
                    <a:pt x="20" y="25"/>
                  </a:lnTo>
                  <a:lnTo>
                    <a:pt x="20" y="25"/>
                  </a:lnTo>
                  <a:lnTo>
                    <a:pt x="15" y="25"/>
                  </a:lnTo>
                  <a:lnTo>
                    <a:pt x="15" y="25"/>
                  </a:lnTo>
                  <a:lnTo>
                    <a:pt x="15" y="25"/>
                  </a:lnTo>
                  <a:close/>
                  <a:moveTo>
                    <a:pt x="15" y="5"/>
                  </a:moveTo>
                  <a:lnTo>
                    <a:pt x="10" y="5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5" y="10"/>
                  </a:lnTo>
                  <a:lnTo>
                    <a:pt x="5" y="15"/>
                  </a:lnTo>
                  <a:lnTo>
                    <a:pt x="5" y="15"/>
                  </a:lnTo>
                  <a:lnTo>
                    <a:pt x="5" y="15"/>
                  </a:lnTo>
                  <a:lnTo>
                    <a:pt x="5" y="15"/>
                  </a:lnTo>
                  <a:lnTo>
                    <a:pt x="5" y="15"/>
                  </a:lnTo>
                  <a:lnTo>
                    <a:pt x="10" y="15"/>
                  </a:lnTo>
                  <a:lnTo>
                    <a:pt x="10" y="15"/>
                  </a:lnTo>
                  <a:lnTo>
                    <a:pt x="10" y="15"/>
                  </a:lnTo>
                  <a:lnTo>
                    <a:pt x="10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0"/>
                  </a:lnTo>
                  <a:lnTo>
                    <a:pt x="15" y="10"/>
                  </a:lnTo>
                  <a:lnTo>
                    <a:pt x="15" y="10"/>
                  </a:lnTo>
                  <a:lnTo>
                    <a:pt x="15" y="10"/>
                  </a:lnTo>
                  <a:lnTo>
                    <a:pt x="15" y="5"/>
                  </a:lnTo>
                  <a:lnTo>
                    <a:pt x="15" y="5"/>
                  </a:lnTo>
                  <a:close/>
                </a:path>
              </a:pathLst>
            </a:custGeom>
            <a:solidFill>
              <a:srgbClr val="666666"/>
            </a:solidFill>
            <a:ln w="0">
              <a:solidFill>
                <a:srgbClr val="6666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7" name=""/>
            <p:cNvSpPr/>
            <p:nvPr/>
          </p:nvSpPr>
          <p:spPr>
            <a:xfrm>
              <a:off x="2787480" y="2949840"/>
              <a:ext cx="46080" cy="39600"/>
            </a:xfrm>
            <a:custGeom>
              <a:avLst/>
              <a:gdLst/>
              <a:ahLst/>
              <a:rect l="l" t="t" r="r" b="b"/>
              <a:pathLst>
                <a:path w="29" h="25">
                  <a:moveTo>
                    <a:pt x="19" y="5"/>
                  </a:moveTo>
                  <a:lnTo>
                    <a:pt x="24" y="5"/>
                  </a:lnTo>
                  <a:lnTo>
                    <a:pt x="24" y="10"/>
                  </a:lnTo>
                  <a:lnTo>
                    <a:pt x="24" y="10"/>
                  </a:lnTo>
                  <a:lnTo>
                    <a:pt x="24" y="10"/>
                  </a:lnTo>
                  <a:lnTo>
                    <a:pt x="29" y="10"/>
                  </a:lnTo>
                  <a:lnTo>
                    <a:pt x="29" y="15"/>
                  </a:lnTo>
                  <a:lnTo>
                    <a:pt x="29" y="15"/>
                  </a:lnTo>
                  <a:lnTo>
                    <a:pt x="29" y="15"/>
                  </a:lnTo>
                  <a:lnTo>
                    <a:pt x="29" y="15"/>
                  </a:lnTo>
                  <a:lnTo>
                    <a:pt x="29" y="20"/>
                  </a:lnTo>
                  <a:lnTo>
                    <a:pt x="29" y="20"/>
                  </a:lnTo>
                  <a:lnTo>
                    <a:pt x="24" y="20"/>
                  </a:lnTo>
                  <a:lnTo>
                    <a:pt x="24" y="20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19" y="25"/>
                  </a:lnTo>
                  <a:lnTo>
                    <a:pt x="19" y="25"/>
                  </a:lnTo>
                  <a:lnTo>
                    <a:pt x="19" y="25"/>
                  </a:lnTo>
                  <a:lnTo>
                    <a:pt x="19" y="25"/>
                  </a:lnTo>
                  <a:lnTo>
                    <a:pt x="19" y="25"/>
                  </a:lnTo>
                  <a:lnTo>
                    <a:pt x="14" y="25"/>
                  </a:lnTo>
                  <a:lnTo>
                    <a:pt x="14" y="25"/>
                  </a:lnTo>
                  <a:lnTo>
                    <a:pt x="14" y="25"/>
                  </a:lnTo>
                  <a:lnTo>
                    <a:pt x="14" y="25"/>
                  </a:lnTo>
                  <a:lnTo>
                    <a:pt x="9" y="20"/>
                  </a:lnTo>
                  <a:lnTo>
                    <a:pt x="9" y="20"/>
                  </a:lnTo>
                  <a:lnTo>
                    <a:pt x="4" y="20"/>
                  </a:lnTo>
                  <a:lnTo>
                    <a:pt x="4" y="15"/>
                  </a:lnTo>
                  <a:lnTo>
                    <a:pt x="4" y="15"/>
                  </a:lnTo>
                  <a:lnTo>
                    <a:pt x="4" y="15"/>
                  </a:lnTo>
                  <a:lnTo>
                    <a:pt x="0" y="15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5"/>
                  </a:lnTo>
                  <a:lnTo>
                    <a:pt x="0" y="5"/>
                  </a:lnTo>
                  <a:lnTo>
                    <a:pt x="4" y="5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14" y="0"/>
                  </a:lnTo>
                  <a:lnTo>
                    <a:pt x="14" y="5"/>
                  </a:lnTo>
                  <a:lnTo>
                    <a:pt x="19" y="5"/>
                  </a:lnTo>
                  <a:close/>
                  <a:moveTo>
                    <a:pt x="19" y="10"/>
                  </a:moveTo>
                  <a:lnTo>
                    <a:pt x="14" y="5"/>
                  </a:lnTo>
                  <a:lnTo>
                    <a:pt x="14" y="5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lnTo>
                    <a:pt x="4" y="5"/>
                  </a:lnTo>
                  <a:lnTo>
                    <a:pt x="4" y="5"/>
                  </a:lnTo>
                  <a:lnTo>
                    <a:pt x="4" y="5"/>
                  </a:lnTo>
                  <a:lnTo>
                    <a:pt x="4" y="5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5"/>
                  </a:lnTo>
                  <a:lnTo>
                    <a:pt x="9" y="15"/>
                  </a:lnTo>
                  <a:lnTo>
                    <a:pt x="9" y="15"/>
                  </a:lnTo>
                  <a:lnTo>
                    <a:pt x="14" y="20"/>
                  </a:lnTo>
                  <a:lnTo>
                    <a:pt x="14" y="20"/>
                  </a:lnTo>
                  <a:lnTo>
                    <a:pt x="19" y="20"/>
                  </a:lnTo>
                  <a:lnTo>
                    <a:pt x="19" y="20"/>
                  </a:lnTo>
                  <a:lnTo>
                    <a:pt x="19" y="20"/>
                  </a:lnTo>
                  <a:lnTo>
                    <a:pt x="24" y="20"/>
                  </a:lnTo>
                  <a:lnTo>
                    <a:pt x="24" y="20"/>
                  </a:lnTo>
                  <a:lnTo>
                    <a:pt x="24" y="20"/>
                  </a:lnTo>
                  <a:lnTo>
                    <a:pt x="24" y="20"/>
                  </a:lnTo>
                  <a:lnTo>
                    <a:pt x="24" y="20"/>
                  </a:lnTo>
                  <a:lnTo>
                    <a:pt x="24" y="15"/>
                  </a:lnTo>
                  <a:lnTo>
                    <a:pt x="24" y="15"/>
                  </a:lnTo>
                  <a:lnTo>
                    <a:pt x="24" y="15"/>
                  </a:lnTo>
                  <a:lnTo>
                    <a:pt x="24" y="10"/>
                  </a:lnTo>
                  <a:lnTo>
                    <a:pt x="19" y="10"/>
                  </a:lnTo>
                  <a:lnTo>
                    <a:pt x="19" y="10"/>
                  </a:lnTo>
                  <a:close/>
                </a:path>
              </a:pathLst>
            </a:custGeom>
            <a:solidFill>
              <a:srgbClr val="666666"/>
            </a:solidFill>
            <a:ln w="0">
              <a:solidFill>
                <a:srgbClr val="6666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8" name=""/>
            <p:cNvSpPr/>
            <p:nvPr/>
          </p:nvSpPr>
          <p:spPr>
            <a:xfrm>
              <a:off x="2849400" y="2909880"/>
              <a:ext cx="14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9" name=""/>
            <p:cNvSpPr/>
            <p:nvPr/>
          </p:nvSpPr>
          <p:spPr>
            <a:xfrm>
              <a:off x="2739960" y="2886120"/>
              <a:ext cx="109440" cy="135000"/>
            </a:xfrm>
            <a:custGeom>
              <a:avLst/>
              <a:gdLst/>
              <a:ahLst/>
              <a:rect l="l" t="t" r="r" b="b"/>
              <a:pathLst>
                <a:path w="69" h="85">
                  <a:moveTo>
                    <a:pt x="69" y="15"/>
                  </a:moveTo>
                  <a:lnTo>
                    <a:pt x="64" y="10"/>
                  </a:lnTo>
                  <a:lnTo>
                    <a:pt x="54" y="5"/>
                  </a:lnTo>
                  <a:lnTo>
                    <a:pt x="49" y="0"/>
                  </a:lnTo>
                  <a:lnTo>
                    <a:pt x="44" y="5"/>
                  </a:lnTo>
                  <a:lnTo>
                    <a:pt x="39" y="10"/>
                  </a:lnTo>
                  <a:lnTo>
                    <a:pt x="34" y="15"/>
                  </a:lnTo>
                  <a:lnTo>
                    <a:pt x="30" y="25"/>
                  </a:lnTo>
                  <a:lnTo>
                    <a:pt x="30" y="30"/>
                  </a:lnTo>
                  <a:lnTo>
                    <a:pt x="25" y="35"/>
                  </a:lnTo>
                  <a:lnTo>
                    <a:pt x="20" y="40"/>
                  </a:lnTo>
                  <a:lnTo>
                    <a:pt x="15" y="45"/>
                  </a:lnTo>
                  <a:lnTo>
                    <a:pt x="10" y="50"/>
                  </a:lnTo>
                  <a:lnTo>
                    <a:pt x="5" y="55"/>
                  </a:lnTo>
                  <a:lnTo>
                    <a:pt x="0" y="60"/>
                  </a:lnTo>
                  <a:lnTo>
                    <a:pt x="0" y="65"/>
                  </a:lnTo>
                  <a:lnTo>
                    <a:pt x="0" y="70"/>
                  </a:lnTo>
                  <a:lnTo>
                    <a:pt x="5" y="75"/>
                  </a:lnTo>
                  <a:lnTo>
                    <a:pt x="15" y="80"/>
                  </a:lnTo>
                  <a:lnTo>
                    <a:pt x="20" y="85"/>
                  </a:lnTo>
                  <a:lnTo>
                    <a:pt x="25" y="85"/>
                  </a:lnTo>
                  <a:lnTo>
                    <a:pt x="30" y="80"/>
                  </a:lnTo>
                  <a:lnTo>
                    <a:pt x="34" y="7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0" name=""/>
            <p:cNvSpPr/>
            <p:nvPr/>
          </p:nvSpPr>
          <p:spPr>
            <a:xfrm>
              <a:off x="6107040" y="2918160"/>
              <a:ext cx="15840" cy="47520"/>
            </a:xfrm>
            <a:custGeom>
              <a:avLst/>
              <a:gdLst/>
              <a:ahLst/>
              <a:rect l="l" t="t" r="r" b="b"/>
              <a:pathLst>
                <a:path w="10" h="30">
                  <a:moveTo>
                    <a:pt x="10" y="20"/>
                  </a:moveTo>
                  <a:lnTo>
                    <a:pt x="5" y="15"/>
                  </a:lnTo>
                  <a:lnTo>
                    <a:pt x="5" y="10"/>
                  </a:lnTo>
                  <a:lnTo>
                    <a:pt x="5" y="5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0" y="10"/>
                  </a:lnTo>
                  <a:lnTo>
                    <a:pt x="0" y="15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5" y="30"/>
                  </a:lnTo>
                  <a:lnTo>
                    <a:pt x="10" y="2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1" name=""/>
            <p:cNvSpPr/>
            <p:nvPr/>
          </p:nvSpPr>
          <p:spPr>
            <a:xfrm>
              <a:off x="2833560" y="2824200"/>
              <a:ext cx="47520" cy="77760"/>
            </a:xfrm>
            <a:custGeom>
              <a:avLst/>
              <a:gdLst/>
              <a:ahLst/>
              <a:rect l="l" t="t" r="r" b="b"/>
              <a:pathLst>
                <a:path w="30" h="49">
                  <a:moveTo>
                    <a:pt x="30" y="30"/>
                  </a:moveTo>
                  <a:lnTo>
                    <a:pt x="30" y="15"/>
                  </a:lnTo>
                  <a:lnTo>
                    <a:pt x="25" y="5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10" y="5"/>
                  </a:lnTo>
                  <a:lnTo>
                    <a:pt x="0" y="15"/>
                  </a:lnTo>
                  <a:lnTo>
                    <a:pt x="0" y="25"/>
                  </a:lnTo>
                  <a:lnTo>
                    <a:pt x="0" y="35"/>
                  </a:lnTo>
                  <a:lnTo>
                    <a:pt x="5" y="44"/>
                  </a:lnTo>
                  <a:lnTo>
                    <a:pt x="10" y="49"/>
                  </a:lnTo>
                  <a:lnTo>
                    <a:pt x="15" y="49"/>
                  </a:lnTo>
                  <a:lnTo>
                    <a:pt x="25" y="49"/>
                  </a:lnTo>
                  <a:lnTo>
                    <a:pt x="25" y="39"/>
                  </a:lnTo>
                  <a:lnTo>
                    <a:pt x="30" y="3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2" name=""/>
            <p:cNvSpPr/>
            <p:nvPr/>
          </p:nvSpPr>
          <p:spPr>
            <a:xfrm>
              <a:off x="2935080" y="2752920"/>
              <a:ext cx="47520" cy="39600"/>
            </a:xfrm>
            <a:custGeom>
              <a:avLst/>
              <a:gdLst/>
              <a:ahLst/>
              <a:rect l="l" t="t" r="r" b="b"/>
              <a:pathLst>
                <a:path w="30" h="25">
                  <a:moveTo>
                    <a:pt x="15" y="25"/>
                  </a:moveTo>
                  <a:lnTo>
                    <a:pt x="20" y="20"/>
                  </a:lnTo>
                  <a:lnTo>
                    <a:pt x="20" y="20"/>
                  </a:lnTo>
                  <a:lnTo>
                    <a:pt x="20" y="20"/>
                  </a:lnTo>
                  <a:lnTo>
                    <a:pt x="20" y="20"/>
                  </a:lnTo>
                  <a:lnTo>
                    <a:pt x="20" y="20"/>
                  </a:lnTo>
                  <a:lnTo>
                    <a:pt x="20" y="20"/>
                  </a:lnTo>
                  <a:lnTo>
                    <a:pt x="25" y="20"/>
                  </a:lnTo>
                  <a:lnTo>
                    <a:pt x="25" y="20"/>
                  </a:lnTo>
                  <a:lnTo>
                    <a:pt x="25" y="20"/>
                  </a:lnTo>
                  <a:lnTo>
                    <a:pt x="25" y="20"/>
                  </a:lnTo>
                  <a:lnTo>
                    <a:pt x="25" y="15"/>
                  </a:lnTo>
                  <a:lnTo>
                    <a:pt x="25" y="15"/>
                  </a:lnTo>
                  <a:lnTo>
                    <a:pt x="25" y="15"/>
                  </a:lnTo>
                  <a:lnTo>
                    <a:pt x="25" y="15"/>
                  </a:lnTo>
                  <a:lnTo>
                    <a:pt x="25" y="15"/>
                  </a:lnTo>
                  <a:lnTo>
                    <a:pt x="25" y="10"/>
                  </a:lnTo>
                  <a:lnTo>
                    <a:pt x="25" y="10"/>
                  </a:lnTo>
                  <a:lnTo>
                    <a:pt x="25" y="10"/>
                  </a:lnTo>
                  <a:lnTo>
                    <a:pt x="20" y="10"/>
                  </a:lnTo>
                  <a:lnTo>
                    <a:pt x="20" y="10"/>
                  </a:lnTo>
                  <a:lnTo>
                    <a:pt x="20" y="5"/>
                  </a:lnTo>
                  <a:lnTo>
                    <a:pt x="20" y="5"/>
                  </a:lnTo>
                  <a:lnTo>
                    <a:pt x="20" y="10"/>
                  </a:lnTo>
                  <a:lnTo>
                    <a:pt x="20" y="10"/>
                  </a:lnTo>
                  <a:lnTo>
                    <a:pt x="20" y="10"/>
                  </a:lnTo>
                  <a:lnTo>
                    <a:pt x="20" y="10"/>
                  </a:lnTo>
                  <a:lnTo>
                    <a:pt x="20" y="15"/>
                  </a:lnTo>
                  <a:lnTo>
                    <a:pt x="20" y="15"/>
                  </a:lnTo>
                  <a:lnTo>
                    <a:pt x="20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0" y="20"/>
                  </a:lnTo>
                  <a:lnTo>
                    <a:pt x="10" y="20"/>
                  </a:lnTo>
                  <a:lnTo>
                    <a:pt x="10" y="20"/>
                  </a:lnTo>
                  <a:lnTo>
                    <a:pt x="5" y="15"/>
                  </a:lnTo>
                  <a:lnTo>
                    <a:pt x="5" y="15"/>
                  </a:lnTo>
                  <a:lnTo>
                    <a:pt x="5" y="15"/>
                  </a:lnTo>
                  <a:lnTo>
                    <a:pt x="5" y="15"/>
                  </a:lnTo>
                  <a:lnTo>
                    <a:pt x="0" y="15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20" y="0"/>
                  </a:lnTo>
                  <a:lnTo>
                    <a:pt x="25" y="5"/>
                  </a:lnTo>
                  <a:lnTo>
                    <a:pt x="25" y="5"/>
                  </a:lnTo>
                  <a:lnTo>
                    <a:pt x="25" y="10"/>
                  </a:lnTo>
                  <a:lnTo>
                    <a:pt x="30" y="10"/>
                  </a:lnTo>
                  <a:lnTo>
                    <a:pt x="30" y="15"/>
                  </a:lnTo>
                  <a:lnTo>
                    <a:pt x="30" y="15"/>
                  </a:lnTo>
                  <a:lnTo>
                    <a:pt x="30" y="20"/>
                  </a:lnTo>
                  <a:lnTo>
                    <a:pt x="25" y="20"/>
                  </a:lnTo>
                  <a:lnTo>
                    <a:pt x="25" y="20"/>
                  </a:lnTo>
                  <a:lnTo>
                    <a:pt x="25" y="25"/>
                  </a:lnTo>
                  <a:lnTo>
                    <a:pt x="25" y="25"/>
                  </a:lnTo>
                  <a:lnTo>
                    <a:pt x="20" y="25"/>
                  </a:lnTo>
                  <a:lnTo>
                    <a:pt x="20" y="25"/>
                  </a:lnTo>
                  <a:lnTo>
                    <a:pt x="20" y="25"/>
                  </a:lnTo>
                  <a:lnTo>
                    <a:pt x="15" y="25"/>
                  </a:lnTo>
                  <a:lnTo>
                    <a:pt x="15" y="25"/>
                  </a:lnTo>
                  <a:close/>
                  <a:moveTo>
                    <a:pt x="15" y="5"/>
                  </a:moveTo>
                  <a:lnTo>
                    <a:pt x="15" y="5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5" y="0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10"/>
                  </a:lnTo>
                  <a:lnTo>
                    <a:pt x="5" y="10"/>
                  </a:lnTo>
                  <a:lnTo>
                    <a:pt x="5" y="10"/>
                  </a:lnTo>
                  <a:lnTo>
                    <a:pt x="5" y="10"/>
                  </a:lnTo>
                  <a:lnTo>
                    <a:pt x="5" y="15"/>
                  </a:lnTo>
                  <a:lnTo>
                    <a:pt x="10" y="15"/>
                  </a:lnTo>
                  <a:lnTo>
                    <a:pt x="10" y="15"/>
                  </a:lnTo>
                  <a:lnTo>
                    <a:pt x="10" y="15"/>
                  </a:lnTo>
                  <a:lnTo>
                    <a:pt x="10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0"/>
                  </a:lnTo>
                  <a:lnTo>
                    <a:pt x="15" y="10"/>
                  </a:lnTo>
                  <a:lnTo>
                    <a:pt x="15" y="10"/>
                  </a:lnTo>
                  <a:lnTo>
                    <a:pt x="15" y="10"/>
                  </a:lnTo>
                  <a:lnTo>
                    <a:pt x="15" y="5"/>
                  </a:lnTo>
                  <a:lnTo>
                    <a:pt x="15" y="5"/>
                  </a:lnTo>
                  <a:lnTo>
                    <a:pt x="15" y="5"/>
                  </a:lnTo>
                  <a:lnTo>
                    <a:pt x="15" y="5"/>
                  </a:lnTo>
                  <a:lnTo>
                    <a:pt x="15" y="5"/>
                  </a:lnTo>
                  <a:close/>
                </a:path>
              </a:pathLst>
            </a:custGeom>
            <a:solidFill>
              <a:srgbClr val="666666"/>
            </a:solidFill>
            <a:ln w="0">
              <a:solidFill>
                <a:srgbClr val="6666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3" name=""/>
            <p:cNvSpPr/>
            <p:nvPr/>
          </p:nvSpPr>
          <p:spPr>
            <a:xfrm>
              <a:off x="2912760" y="2776680"/>
              <a:ext cx="46080" cy="39600"/>
            </a:xfrm>
            <a:custGeom>
              <a:avLst/>
              <a:gdLst/>
              <a:ahLst/>
              <a:rect l="l" t="t" r="r" b="b"/>
              <a:pathLst>
                <a:path w="29" h="25">
                  <a:moveTo>
                    <a:pt x="19" y="5"/>
                  </a:moveTo>
                  <a:lnTo>
                    <a:pt x="24" y="10"/>
                  </a:lnTo>
                  <a:lnTo>
                    <a:pt x="24" y="10"/>
                  </a:lnTo>
                  <a:lnTo>
                    <a:pt x="24" y="10"/>
                  </a:lnTo>
                  <a:lnTo>
                    <a:pt x="29" y="10"/>
                  </a:lnTo>
                  <a:lnTo>
                    <a:pt x="29" y="15"/>
                  </a:lnTo>
                  <a:lnTo>
                    <a:pt x="29" y="15"/>
                  </a:lnTo>
                  <a:lnTo>
                    <a:pt x="29" y="15"/>
                  </a:lnTo>
                  <a:lnTo>
                    <a:pt x="29" y="20"/>
                  </a:lnTo>
                  <a:lnTo>
                    <a:pt x="29" y="20"/>
                  </a:lnTo>
                  <a:lnTo>
                    <a:pt x="29" y="20"/>
                  </a:lnTo>
                  <a:lnTo>
                    <a:pt x="29" y="20"/>
                  </a:lnTo>
                  <a:lnTo>
                    <a:pt x="29" y="25"/>
                  </a:lnTo>
                  <a:lnTo>
                    <a:pt x="29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19" y="25"/>
                  </a:lnTo>
                  <a:lnTo>
                    <a:pt x="19" y="25"/>
                  </a:lnTo>
                  <a:lnTo>
                    <a:pt x="19" y="25"/>
                  </a:lnTo>
                  <a:lnTo>
                    <a:pt x="19" y="25"/>
                  </a:lnTo>
                  <a:lnTo>
                    <a:pt x="14" y="25"/>
                  </a:lnTo>
                  <a:lnTo>
                    <a:pt x="14" y="25"/>
                  </a:lnTo>
                  <a:lnTo>
                    <a:pt x="14" y="25"/>
                  </a:lnTo>
                  <a:lnTo>
                    <a:pt x="14" y="25"/>
                  </a:lnTo>
                  <a:lnTo>
                    <a:pt x="10" y="20"/>
                  </a:lnTo>
                  <a:lnTo>
                    <a:pt x="10" y="20"/>
                  </a:lnTo>
                  <a:lnTo>
                    <a:pt x="5" y="20"/>
                  </a:lnTo>
                  <a:lnTo>
                    <a:pt x="5" y="20"/>
                  </a:lnTo>
                  <a:lnTo>
                    <a:pt x="5" y="15"/>
                  </a:lnTo>
                  <a:lnTo>
                    <a:pt x="5" y="15"/>
                  </a:lnTo>
                  <a:lnTo>
                    <a:pt x="5" y="15"/>
                  </a:lnTo>
                  <a:lnTo>
                    <a:pt x="5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5" y="10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4" y="0"/>
                  </a:lnTo>
                  <a:lnTo>
                    <a:pt x="14" y="5"/>
                  </a:lnTo>
                  <a:lnTo>
                    <a:pt x="19" y="5"/>
                  </a:lnTo>
                  <a:lnTo>
                    <a:pt x="19" y="5"/>
                  </a:lnTo>
                  <a:close/>
                  <a:moveTo>
                    <a:pt x="19" y="10"/>
                  </a:moveTo>
                  <a:lnTo>
                    <a:pt x="14" y="10"/>
                  </a:lnTo>
                  <a:lnTo>
                    <a:pt x="14" y="5"/>
                  </a:lnTo>
                  <a:lnTo>
                    <a:pt x="14" y="5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10"/>
                  </a:lnTo>
                  <a:lnTo>
                    <a:pt x="5" y="10"/>
                  </a:lnTo>
                  <a:lnTo>
                    <a:pt x="5" y="10"/>
                  </a:lnTo>
                  <a:lnTo>
                    <a:pt x="5" y="10"/>
                  </a:lnTo>
                  <a:lnTo>
                    <a:pt x="5" y="15"/>
                  </a:lnTo>
                  <a:lnTo>
                    <a:pt x="10" y="15"/>
                  </a:lnTo>
                  <a:lnTo>
                    <a:pt x="10" y="15"/>
                  </a:lnTo>
                  <a:lnTo>
                    <a:pt x="14" y="20"/>
                  </a:lnTo>
                  <a:lnTo>
                    <a:pt x="14" y="20"/>
                  </a:lnTo>
                  <a:lnTo>
                    <a:pt x="19" y="25"/>
                  </a:lnTo>
                  <a:lnTo>
                    <a:pt x="19" y="25"/>
                  </a:lnTo>
                  <a:lnTo>
                    <a:pt x="19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20"/>
                  </a:lnTo>
                  <a:lnTo>
                    <a:pt x="24" y="20"/>
                  </a:lnTo>
                  <a:lnTo>
                    <a:pt x="24" y="20"/>
                  </a:lnTo>
                  <a:lnTo>
                    <a:pt x="24" y="20"/>
                  </a:lnTo>
                  <a:lnTo>
                    <a:pt x="24" y="15"/>
                  </a:lnTo>
                  <a:lnTo>
                    <a:pt x="24" y="15"/>
                  </a:lnTo>
                  <a:lnTo>
                    <a:pt x="24" y="15"/>
                  </a:lnTo>
                  <a:lnTo>
                    <a:pt x="19" y="10"/>
                  </a:lnTo>
                  <a:lnTo>
                    <a:pt x="19" y="10"/>
                  </a:lnTo>
                  <a:close/>
                </a:path>
              </a:pathLst>
            </a:custGeom>
            <a:solidFill>
              <a:srgbClr val="666666"/>
            </a:solidFill>
            <a:ln w="0">
              <a:solidFill>
                <a:srgbClr val="6666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4" name=""/>
            <p:cNvSpPr/>
            <p:nvPr/>
          </p:nvSpPr>
          <p:spPr>
            <a:xfrm flipV="1">
              <a:off x="2974680" y="2738520"/>
              <a:ext cx="1800" cy="7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5" name=""/>
            <p:cNvSpPr/>
            <p:nvPr/>
          </p:nvSpPr>
          <p:spPr>
            <a:xfrm>
              <a:off x="2857320" y="2706840"/>
              <a:ext cx="117360" cy="141120"/>
            </a:xfrm>
            <a:custGeom>
              <a:avLst/>
              <a:gdLst/>
              <a:ahLst/>
              <a:rect l="l" t="t" r="r" b="b"/>
              <a:pathLst>
                <a:path w="74" h="89">
                  <a:moveTo>
                    <a:pt x="74" y="20"/>
                  </a:moveTo>
                  <a:lnTo>
                    <a:pt x="69" y="15"/>
                  </a:lnTo>
                  <a:lnTo>
                    <a:pt x="64" y="5"/>
                  </a:lnTo>
                  <a:lnTo>
                    <a:pt x="59" y="0"/>
                  </a:lnTo>
                  <a:lnTo>
                    <a:pt x="54" y="0"/>
                  </a:lnTo>
                  <a:lnTo>
                    <a:pt x="49" y="5"/>
                  </a:lnTo>
                  <a:lnTo>
                    <a:pt x="45" y="10"/>
                  </a:lnTo>
                  <a:lnTo>
                    <a:pt x="40" y="20"/>
                  </a:lnTo>
                  <a:lnTo>
                    <a:pt x="35" y="25"/>
                  </a:lnTo>
                  <a:lnTo>
                    <a:pt x="35" y="29"/>
                  </a:lnTo>
                  <a:lnTo>
                    <a:pt x="30" y="34"/>
                  </a:lnTo>
                  <a:lnTo>
                    <a:pt x="25" y="44"/>
                  </a:lnTo>
                  <a:lnTo>
                    <a:pt x="20" y="49"/>
                  </a:lnTo>
                  <a:lnTo>
                    <a:pt x="15" y="54"/>
                  </a:lnTo>
                  <a:lnTo>
                    <a:pt x="10" y="59"/>
                  </a:lnTo>
                  <a:lnTo>
                    <a:pt x="0" y="64"/>
                  </a:lnTo>
                  <a:lnTo>
                    <a:pt x="0" y="74"/>
                  </a:lnTo>
                  <a:lnTo>
                    <a:pt x="5" y="79"/>
                  </a:lnTo>
                  <a:lnTo>
                    <a:pt x="10" y="84"/>
                  </a:lnTo>
                  <a:lnTo>
                    <a:pt x="20" y="89"/>
                  </a:lnTo>
                  <a:lnTo>
                    <a:pt x="30" y="89"/>
                  </a:lnTo>
                  <a:lnTo>
                    <a:pt x="35" y="84"/>
                  </a:lnTo>
                  <a:lnTo>
                    <a:pt x="40" y="7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6" name=""/>
            <p:cNvSpPr/>
            <p:nvPr/>
          </p:nvSpPr>
          <p:spPr>
            <a:xfrm>
              <a:off x="2755800" y="2784600"/>
              <a:ext cx="23760" cy="23760"/>
            </a:xfrm>
            <a:custGeom>
              <a:avLst/>
              <a:gdLst/>
              <a:ahLst/>
              <a:rect l="l" t="t" r="r" b="b"/>
              <a:pathLst>
                <a:path w="15" h="15">
                  <a:moveTo>
                    <a:pt x="0" y="15"/>
                  </a:moveTo>
                  <a:lnTo>
                    <a:pt x="0" y="10"/>
                  </a:lnTo>
                  <a:lnTo>
                    <a:pt x="5" y="10"/>
                  </a:lnTo>
                  <a:lnTo>
                    <a:pt x="5" y="10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15" y="0"/>
                  </a:lnTo>
                  <a:lnTo>
                    <a:pt x="15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7" name=""/>
            <p:cNvSpPr/>
            <p:nvPr/>
          </p:nvSpPr>
          <p:spPr>
            <a:xfrm flipV="1">
              <a:off x="2817720" y="2738520"/>
              <a:ext cx="1440" cy="7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8" name=""/>
            <p:cNvSpPr/>
            <p:nvPr/>
          </p:nvSpPr>
          <p:spPr>
            <a:xfrm flipV="1">
              <a:off x="2857320" y="2683080"/>
              <a:ext cx="15840" cy="15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9" name=""/>
            <p:cNvSpPr/>
            <p:nvPr/>
          </p:nvSpPr>
          <p:spPr>
            <a:xfrm>
              <a:off x="2857320" y="2698920"/>
              <a:ext cx="14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0" name=""/>
            <p:cNvSpPr/>
            <p:nvPr/>
          </p:nvSpPr>
          <p:spPr>
            <a:xfrm>
              <a:off x="2920680" y="2613240"/>
              <a:ext cx="30240" cy="22320"/>
            </a:xfrm>
            <a:custGeom>
              <a:avLst/>
              <a:gdLst/>
              <a:ahLst/>
              <a:rect l="l" t="t" r="r" b="b"/>
              <a:pathLst>
                <a:path w="19" h="14">
                  <a:moveTo>
                    <a:pt x="0" y="14"/>
                  </a:moveTo>
                  <a:lnTo>
                    <a:pt x="5" y="9"/>
                  </a:lnTo>
                  <a:lnTo>
                    <a:pt x="5" y="9"/>
                  </a:lnTo>
                  <a:lnTo>
                    <a:pt x="9" y="9"/>
                  </a:lnTo>
                  <a:lnTo>
                    <a:pt x="9" y="4"/>
                  </a:lnTo>
                  <a:lnTo>
                    <a:pt x="9" y="4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9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1" name=""/>
            <p:cNvSpPr/>
            <p:nvPr/>
          </p:nvSpPr>
          <p:spPr>
            <a:xfrm>
              <a:off x="3705120" y="2597400"/>
              <a:ext cx="47520" cy="30240"/>
            </a:xfrm>
            <a:custGeom>
              <a:avLst/>
              <a:gdLst/>
              <a:ahLst/>
              <a:rect l="l" t="t" r="r" b="b"/>
              <a:pathLst>
                <a:path w="30" h="19">
                  <a:moveTo>
                    <a:pt x="30" y="10"/>
                  </a:moveTo>
                  <a:lnTo>
                    <a:pt x="30" y="5"/>
                  </a:lnTo>
                  <a:lnTo>
                    <a:pt x="30" y="0"/>
                  </a:lnTo>
                  <a:lnTo>
                    <a:pt x="25" y="0"/>
                  </a:lnTo>
                  <a:lnTo>
                    <a:pt x="15" y="0"/>
                  </a:lnTo>
                  <a:lnTo>
                    <a:pt x="10" y="0"/>
                  </a:lnTo>
                  <a:lnTo>
                    <a:pt x="5" y="5"/>
                  </a:lnTo>
                  <a:lnTo>
                    <a:pt x="0" y="10"/>
                  </a:lnTo>
                  <a:lnTo>
                    <a:pt x="0" y="14"/>
                  </a:lnTo>
                  <a:lnTo>
                    <a:pt x="5" y="19"/>
                  </a:lnTo>
                  <a:lnTo>
                    <a:pt x="15" y="19"/>
                  </a:lnTo>
                  <a:lnTo>
                    <a:pt x="20" y="19"/>
                  </a:lnTo>
                  <a:lnTo>
                    <a:pt x="25" y="19"/>
                  </a:lnTo>
                  <a:lnTo>
                    <a:pt x="30" y="14"/>
                  </a:lnTo>
                  <a:lnTo>
                    <a:pt x="30" y="1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2" name=""/>
            <p:cNvSpPr/>
            <p:nvPr/>
          </p:nvSpPr>
          <p:spPr>
            <a:xfrm flipV="1">
              <a:off x="2982600" y="2573640"/>
              <a:ext cx="39960" cy="23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3" name=""/>
            <p:cNvSpPr/>
            <p:nvPr/>
          </p:nvSpPr>
          <p:spPr>
            <a:xfrm>
              <a:off x="6295680" y="2525760"/>
              <a:ext cx="24120" cy="32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4" name=""/>
            <p:cNvSpPr/>
            <p:nvPr/>
          </p:nvSpPr>
          <p:spPr>
            <a:xfrm>
              <a:off x="3430440" y="2471760"/>
              <a:ext cx="31680" cy="30240"/>
            </a:xfrm>
            <a:custGeom>
              <a:avLst/>
              <a:gdLst/>
              <a:ahLst/>
              <a:rect l="l" t="t" r="r" b="b"/>
              <a:pathLst>
                <a:path w="20" h="19">
                  <a:moveTo>
                    <a:pt x="0" y="9"/>
                  </a:moveTo>
                  <a:lnTo>
                    <a:pt x="5" y="4"/>
                  </a:lnTo>
                  <a:lnTo>
                    <a:pt x="5" y="0"/>
                  </a:lnTo>
                  <a:lnTo>
                    <a:pt x="10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20" y="4"/>
                  </a:lnTo>
                  <a:lnTo>
                    <a:pt x="20" y="9"/>
                  </a:lnTo>
                  <a:lnTo>
                    <a:pt x="20" y="14"/>
                  </a:lnTo>
                  <a:lnTo>
                    <a:pt x="20" y="14"/>
                  </a:lnTo>
                  <a:lnTo>
                    <a:pt x="15" y="19"/>
                  </a:lnTo>
                  <a:lnTo>
                    <a:pt x="10" y="19"/>
                  </a:lnTo>
                  <a:lnTo>
                    <a:pt x="5" y="14"/>
                  </a:lnTo>
                  <a:lnTo>
                    <a:pt x="5" y="14"/>
                  </a:lnTo>
                  <a:lnTo>
                    <a:pt x="0" y="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5" name=""/>
            <p:cNvSpPr/>
            <p:nvPr/>
          </p:nvSpPr>
          <p:spPr>
            <a:xfrm>
              <a:off x="6233760" y="2486160"/>
              <a:ext cx="46080" cy="23760"/>
            </a:xfrm>
            <a:custGeom>
              <a:avLst/>
              <a:gdLst/>
              <a:ahLst/>
              <a:rect l="l" t="t" r="r" b="b"/>
              <a:pathLst>
                <a:path w="29" h="15">
                  <a:moveTo>
                    <a:pt x="0" y="0"/>
                  </a:moveTo>
                  <a:lnTo>
                    <a:pt x="0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9" y="10"/>
                  </a:lnTo>
                  <a:lnTo>
                    <a:pt x="14" y="10"/>
                  </a:lnTo>
                  <a:lnTo>
                    <a:pt x="19" y="10"/>
                  </a:lnTo>
                  <a:lnTo>
                    <a:pt x="24" y="15"/>
                  </a:lnTo>
                  <a:lnTo>
                    <a:pt x="29" y="1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6" name=""/>
            <p:cNvSpPr/>
            <p:nvPr/>
          </p:nvSpPr>
          <p:spPr>
            <a:xfrm>
              <a:off x="6029280" y="2400480"/>
              <a:ext cx="1440" cy="144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7" name=""/>
            <p:cNvSpPr/>
            <p:nvPr/>
          </p:nvSpPr>
          <p:spPr>
            <a:xfrm>
              <a:off x="5722920" y="2360880"/>
              <a:ext cx="87120" cy="7920"/>
            </a:xfrm>
            <a:custGeom>
              <a:avLst/>
              <a:gdLst/>
              <a:ahLst/>
              <a:rect l="l" t="t" r="r" b="b"/>
              <a:pathLst>
                <a:path w="55" h="5">
                  <a:moveTo>
                    <a:pt x="0" y="0"/>
                  </a:moveTo>
                  <a:lnTo>
                    <a:pt x="5" y="0"/>
                  </a:lnTo>
                  <a:lnTo>
                    <a:pt x="10" y="0"/>
                  </a:lnTo>
                  <a:lnTo>
                    <a:pt x="15" y="0"/>
                  </a:lnTo>
                  <a:lnTo>
                    <a:pt x="20" y="0"/>
                  </a:lnTo>
                  <a:lnTo>
                    <a:pt x="25" y="5"/>
                  </a:lnTo>
                  <a:lnTo>
                    <a:pt x="30" y="5"/>
                  </a:lnTo>
                  <a:lnTo>
                    <a:pt x="35" y="5"/>
                  </a:lnTo>
                  <a:lnTo>
                    <a:pt x="40" y="5"/>
                  </a:lnTo>
                  <a:lnTo>
                    <a:pt x="45" y="0"/>
                  </a:lnTo>
                  <a:lnTo>
                    <a:pt x="50" y="0"/>
                  </a:lnTo>
                  <a:lnTo>
                    <a:pt x="55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8" name=""/>
            <p:cNvSpPr/>
            <p:nvPr/>
          </p:nvSpPr>
          <p:spPr>
            <a:xfrm>
              <a:off x="3203280" y="2360880"/>
              <a:ext cx="2982960" cy="2047680"/>
            </a:xfrm>
            <a:custGeom>
              <a:avLst/>
              <a:gdLst/>
              <a:ahLst/>
              <a:rect l="l" t="t" r="r" b="b"/>
              <a:pathLst>
                <a:path w="1879" h="1290">
                  <a:moveTo>
                    <a:pt x="1345" y="0"/>
                  </a:moveTo>
                  <a:lnTo>
                    <a:pt x="1355" y="0"/>
                  </a:lnTo>
                  <a:lnTo>
                    <a:pt x="1360" y="5"/>
                  </a:lnTo>
                  <a:lnTo>
                    <a:pt x="1370" y="10"/>
                  </a:lnTo>
                  <a:lnTo>
                    <a:pt x="1374" y="10"/>
                  </a:lnTo>
                  <a:lnTo>
                    <a:pt x="1384" y="10"/>
                  </a:lnTo>
                  <a:lnTo>
                    <a:pt x="1389" y="15"/>
                  </a:lnTo>
                  <a:lnTo>
                    <a:pt x="1399" y="15"/>
                  </a:lnTo>
                  <a:lnTo>
                    <a:pt x="1404" y="15"/>
                  </a:lnTo>
                  <a:lnTo>
                    <a:pt x="1414" y="15"/>
                  </a:lnTo>
                  <a:lnTo>
                    <a:pt x="1424" y="15"/>
                  </a:lnTo>
                  <a:lnTo>
                    <a:pt x="1429" y="15"/>
                  </a:lnTo>
                  <a:lnTo>
                    <a:pt x="1439" y="20"/>
                  </a:lnTo>
                  <a:lnTo>
                    <a:pt x="1449" y="20"/>
                  </a:lnTo>
                  <a:lnTo>
                    <a:pt x="1454" y="20"/>
                  </a:lnTo>
                  <a:lnTo>
                    <a:pt x="1463" y="20"/>
                  </a:lnTo>
                  <a:lnTo>
                    <a:pt x="1473" y="20"/>
                  </a:lnTo>
                  <a:lnTo>
                    <a:pt x="1478" y="25"/>
                  </a:lnTo>
                  <a:lnTo>
                    <a:pt x="1488" y="25"/>
                  </a:lnTo>
                  <a:lnTo>
                    <a:pt x="1493" y="25"/>
                  </a:lnTo>
                  <a:lnTo>
                    <a:pt x="1503" y="25"/>
                  </a:lnTo>
                  <a:lnTo>
                    <a:pt x="1508" y="30"/>
                  </a:lnTo>
                  <a:lnTo>
                    <a:pt x="1508" y="35"/>
                  </a:lnTo>
                  <a:lnTo>
                    <a:pt x="1513" y="45"/>
                  </a:lnTo>
                  <a:lnTo>
                    <a:pt x="1513" y="50"/>
                  </a:lnTo>
                  <a:lnTo>
                    <a:pt x="1518" y="55"/>
                  </a:lnTo>
                  <a:lnTo>
                    <a:pt x="1523" y="55"/>
                  </a:lnTo>
                  <a:lnTo>
                    <a:pt x="1533" y="60"/>
                  </a:lnTo>
                  <a:lnTo>
                    <a:pt x="1538" y="60"/>
                  </a:lnTo>
                  <a:lnTo>
                    <a:pt x="1548" y="60"/>
                  </a:lnTo>
                  <a:lnTo>
                    <a:pt x="1553" y="65"/>
                  </a:lnTo>
                  <a:lnTo>
                    <a:pt x="1562" y="65"/>
                  </a:lnTo>
                  <a:lnTo>
                    <a:pt x="1567" y="70"/>
                  </a:lnTo>
                  <a:lnTo>
                    <a:pt x="1577" y="70"/>
                  </a:lnTo>
                  <a:lnTo>
                    <a:pt x="1582" y="70"/>
                  </a:lnTo>
                  <a:lnTo>
                    <a:pt x="1592" y="74"/>
                  </a:lnTo>
                  <a:lnTo>
                    <a:pt x="1602" y="74"/>
                  </a:lnTo>
                  <a:lnTo>
                    <a:pt x="1607" y="74"/>
                  </a:lnTo>
                  <a:lnTo>
                    <a:pt x="1617" y="79"/>
                  </a:lnTo>
                  <a:lnTo>
                    <a:pt x="1622" y="84"/>
                  </a:lnTo>
                  <a:lnTo>
                    <a:pt x="1627" y="89"/>
                  </a:lnTo>
                  <a:lnTo>
                    <a:pt x="1632" y="94"/>
                  </a:lnTo>
                  <a:lnTo>
                    <a:pt x="1637" y="94"/>
                  </a:lnTo>
                  <a:lnTo>
                    <a:pt x="1642" y="99"/>
                  </a:lnTo>
                  <a:lnTo>
                    <a:pt x="1651" y="99"/>
                  </a:lnTo>
                  <a:lnTo>
                    <a:pt x="1656" y="104"/>
                  </a:lnTo>
                  <a:lnTo>
                    <a:pt x="1666" y="104"/>
                  </a:lnTo>
                  <a:lnTo>
                    <a:pt x="1671" y="109"/>
                  </a:lnTo>
                  <a:lnTo>
                    <a:pt x="1671" y="114"/>
                  </a:lnTo>
                  <a:lnTo>
                    <a:pt x="1671" y="119"/>
                  </a:lnTo>
                  <a:lnTo>
                    <a:pt x="1671" y="124"/>
                  </a:lnTo>
                  <a:lnTo>
                    <a:pt x="1676" y="129"/>
                  </a:lnTo>
                  <a:lnTo>
                    <a:pt x="1676" y="134"/>
                  </a:lnTo>
                  <a:lnTo>
                    <a:pt x="1686" y="139"/>
                  </a:lnTo>
                  <a:lnTo>
                    <a:pt x="1691" y="144"/>
                  </a:lnTo>
                  <a:lnTo>
                    <a:pt x="1696" y="144"/>
                  </a:lnTo>
                  <a:lnTo>
                    <a:pt x="1701" y="149"/>
                  </a:lnTo>
                  <a:lnTo>
                    <a:pt x="1701" y="154"/>
                  </a:lnTo>
                  <a:lnTo>
                    <a:pt x="1706" y="159"/>
                  </a:lnTo>
                  <a:lnTo>
                    <a:pt x="1716" y="163"/>
                  </a:lnTo>
                  <a:lnTo>
                    <a:pt x="1721" y="163"/>
                  </a:lnTo>
                  <a:lnTo>
                    <a:pt x="1731" y="168"/>
                  </a:lnTo>
                  <a:lnTo>
                    <a:pt x="1735" y="173"/>
                  </a:lnTo>
                  <a:lnTo>
                    <a:pt x="1735" y="178"/>
                  </a:lnTo>
                  <a:lnTo>
                    <a:pt x="1740" y="183"/>
                  </a:lnTo>
                  <a:lnTo>
                    <a:pt x="1745" y="188"/>
                  </a:lnTo>
                  <a:lnTo>
                    <a:pt x="1750" y="193"/>
                  </a:lnTo>
                  <a:lnTo>
                    <a:pt x="1755" y="193"/>
                  </a:lnTo>
                  <a:lnTo>
                    <a:pt x="1765" y="198"/>
                  </a:lnTo>
                  <a:lnTo>
                    <a:pt x="1770" y="198"/>
                  </a:lnTo>
                  <a:lnTo>
                    <a:pt x="1780" y="203"/>
                  </a:lnTo>
                  <a:lnTo>
                    <a:pt x="1785" y="203"/>
                  </a:lnTo>
                  <a:lnTo>
                    <a:pt x="1790" y="208"/>
                  </a:lnTo>
                  <a:lnTo>
                    <a:pt x="1790" y="213"/>
                  </a:lnTo>
                  <a:lnTo>
                    <a:pt x="1795" y="218"/>
                  </a:lnTo>
                  <a:lnTo>
                    <a:pt x="1800" y="223"/>
                  </a:lnTo>
                  <a:lnTo>
                    <a:pt x="1810" y="228"/>
                  </a:lnTo>
                  <a:lnTo>
                    <a:pt x="1815" y="228"/>
                  </a:lnTo>
                  <a:lnTo>
                    <a:pt x="1825" y="233"/>
                  </a:lnTo>
                  <a:lnTo>
                    <a:pt x="1829" y="233"/>
                  </a:lnTo>
                  <a:lnTo>
                    <a:pt x="1834" y="238"/>
                  </a:lnTo>
                  <a:lnTo>
                    <a:pt x="1839" y="243"/>
                  </a:lnTo>
                  <a:lnTo>
                    <a:pt x="1844" y="247"/>
                  </a:lnTo>
                  <a:lnTo>
                    <a:pt x="1849" y="252"/>
                  </a:lnTo>
                  <a:lnTo>
                    <a:pt x="1854" y="257"/>
                  </a:lnTo>
                  <a:lnTo>
                    <a:pt x="1864" y="257"/>
                  </a:lnTo>
                  <a:lnTo>
                    <a:pt x="1869" y="262"/>
                  </a:lnTo>
                  <a:lnTo>
                    <a:pt x="1874" y="262"/>
                  </a:lnTo>
                  <a:lnTo>
                    <a:pt x="1879" y="267"/>
                  </a:lnTo>
                  <a:lnTo>
                    <a:pt x="1879" y="272"/>
                  </a:lnTo>
                  <a:lnTo>
                    <a:pt x="1874" y="277"/>
                  </a:lnTo>
                  <a:lnTo>
                    <a:pt x="1869" y="282"/>
                  </a:lnTo>
                  <a:lnTo>
                    <a:pt x="1864" y="287"/>
                  </a:lnTo>
                  <a:lnTo>
                    <a:pt x="1864" y="292"/>
                  </a:lnTo>
                  <a:lnTo>
                    <a:pt x="1859" y="297"/>
                  </a:lnTo>
                  <a:lnTo>
                    <a:pt x="1849" y="297"/>
                  </a:lnTo>
                  <a:lnTo>
                    <a:pt x="1839" y="297"/>
                  </a:lnTo>
                  <a:lnTo>
                    <a:pt x="1834" y="292"/>
                  </a:lnTo>
                  <a:lnTo>
                    <a:pt x="1825" y="292"/>
                  </a:lnTo>
                  <a:lnTo>
                    <a:pt x="1820" y="287"/>
                  </a:lnTo>
                  <a:lnTo>
                    <a:pt x="1810" y="287"/>
                  </a:lnTo>
                  <a:lnTo>
                    <a:pt x="1800" y="287"/>
                  </a:lnTo>
                  <a:lnTo>
                    <a:pt x="1795" y="292"/>
                  </a:lnTo>
                  <a:lnTo>
                    <a:pt x="1785" y="292"/>
                  </a:lnTo>
                  <a:lnTo>
                    <a:pt x="1780" y="292"/>
                  </a:lnTo>
                  <a:lnTo>
                    <a:pt x="1770" y="292"/>
                  </a:lnTo>
                  <a:lnTo>
                    <a:pt x="1760" y="292"/>
                  </a:lnTo>
                  <a:lnTo>
                    <a:pt x="1755" y="292"/>
                  </a:lnTo>
                  <a:lnTo>
                    <a:pt x="1745" y="287"/>
                  </a:lnTo>
                  <a:lnTo>
                    <a:pt x="1740" y="287"/>
                  </a:lnTo>
                  <a:lnTo>
                    <a:pt x="1731" y="282"/>
                  </a:lnTo>
                  <a:lnTo>
                    <a:pt x="1726" y="282"/>
                  </a:lnTo>
                  <a:lnTo>
                    <a:pt x="1716" y="282"/>
                  </a:lnTo>
                  <a:lnTo>
                    <a:pt x="1706" y="282"/>
                  </a:lnTo>
                  <a:lnTo>
                    <a:pt x="1701" y="282"/>
                  </a:lnTo>
                  <a:lnTo>
                    <a:pt x="1691" y="282"/>
                  </a:lnTo>
                  <a:lnTo>
                    <a:pt x="1681" y="282"/>
                  </a:lnTo>
                  <a:lnTo>
                    <a:pt x="1676" y="282"/>
                  </a:lnTo>
                  <a:lnTo>
                    <a:pt x="1666" y="277"/>
                  </a:lnTo>
                  <a:lnTo>
                    <a:pt x="1661" y="277"/>
                  </a:lnTo>
                  <a:lnTo>
                    <a:pt x="1661" y="272"/>
                  </a:lnTo>
                  <a:lnTo>
                    <a:pt x="1651" y="267"/>
                  </a:lnTo>
                  <a:lnTo>
                    <a:pt x="1646" y="262"/>
                  </a:lnTo>
                  <a:lnTo>
                    <a:pt x="1642" y="262"/>
                  </a:lnTo>
                  <a:lnTo>
                    <a:pt x="1632" y="262"/>
                  </a:lnTo>
                  <a:lnTo>
                    <a:pt x="1627" y="262"/>
                  </a:lnTo>
                  <a:lnTo>
                    <a:pt x="1617" y="262"/>
                  </a:lnTo>
                  <a:lnTo>
                    <a:pt x="1607" y="267"/>
                  </a:lnTo>
                  <a:lnTo>
                    <a:pt x="1612" y="272"/>
                  </a:lnTo>
                  <a:lnTo>
                    <a:pt x="1622" y="272"/>
                  </a:lnTo>
                  <a:lnTo>
                    <a:pt x="1627" y="277"/>
                  </a:lnTo>
                  <a:lnTo>
                    <a:pt x="1632" y="282"/>
                  </a:lnTo>
                  <a:lnTo>
                    <a:pt x="1632" y="287"/>
                  </a:lnTo>
                  <a:lnTo>
                    <a:pt x="1637" y="292"/>
                  </a:lnTo>
                  <a:lnTo>
                    <a:pt x="1637" y="297"/>
                  </a:lnTo>
                  <a:lnTo>
                    <a:pt x="1642" y="302"/>
                  </a:lnTo>
                  <a:lnTo>
                    <a:pt x="1646" y="307"/>
                  </a:lnTo>
                  <a:lnTo>
                    <a:pt x="1656" y="312"/>
                  </a:lnTo>
                  <a:lnTo>
                    <a:pt x="1661" y="312"/>
                  </a:lnTo>
                  <a:lnTo>
                    <a:pt x="1671" y="317"/>
                  </a:lnTo>
                  <a:lnTo>
                    <a:pt x="1676" y="322"/>
                  </a:lnTo>
                  <a:lnTo>
                    <a:pt x="1676" y="322"/>
                  </a:lnTo>
                  <a:lnTo>
                    <a:pt x="1681" y="327"/>
                  </a:lnTo>
                  <a:lnTo>
                    <a:pt x="1686" y="331"/>
                  </a:lnTo>
                  <a:lnTo>
                    <a:pt x="1691" y="336"/>
                  </a:lnTo>
                  <a:lnTo>
                    <a:pt x="1696" y="341"/>
                  </a:lnTo>
                  <a:lnTo>
                    <a:pt x="1701" y="346"/>
                  </a:lnTo>
                  <a:lnTo>
                    <a:pt x="1701" y="351"/>
                  </a:lnTo>
                  <a:lnTo>
                    <a:pt x="1706" y="356"/>
                  </a:lnTo>
                  <a:lnTo>
                    <a:pt x="1706" y="361"/>
                  </a:lnTo>
                  <a:lnTo>
                    <a:pt x="1706" y="371"/>
                  </a:lnTo>
                  <a:lnTo>
                    <a:pt x="1706" y="371"/>
                  </a:lnTo>
                  <a:lnTo>
                    <a:pt x="1696" y="376"/>
                  </a:lnTo>
                  <a:lnTo>
                    <a:pt x="1691" y="381"/>
                  </a:lnTo>
                  <a:lnTo>
                    <a:pt x="1681" y="381"/>
                  </a:lnTo>
                  <a:lnTo>
                    <a:pt x="1676" y="386"/>
                  </a:lnTo>
                  <a:lnTo>
                    <a:pt x="1671" y="386"/>
                  </a:lnTo>
                  <a:lnTo>
                    <a:pt x="1666" y="391"/>
                  </a:lnTo>
                  <a:lnTo>
                    <a:pt x="1666" y="401"/>
                  </a:lnTo>
                  <a:lnTo>
                    <a:pt x="1661" y="406"/>
                  </a:lnTo>
                  <a:lnTo>
                    <a:pt x="1661" y="411"/>
                  </a:lnTo>
                  <a:lnTo>
                    <a:pt x="1661" y="416"/>
                  </a:lnTo>
                  <a:lnTo>
                    <a:pt x="1656" y="420"/>
                  </a:lnTo>
                  <a:lnTo>
                    <a:pt x="1656" y="425"/>
                  </a:lnTo>
                  <a:lnTo>
                    <a:pt x="1651" y="430"/>
                  </a:lnTo>
                  <a:lnTo>
                    <a:pt x="1646" y="435"/>
                  </a:lnTo>
                  <a:lnTo>
                    <a:pt x="1642" y="440"/>
                  </a:lnTo>
                  <a:lnTo>
                    <a:pt x="1637" y="440"/>
                  </a:lnTo>
                  <a:lnTo>
                    <a:pt x="1632" y="445"/>
                  </a:lnTo>
                  <a:lnTo>
                    <a:pt x="1627" y="450"/>
                  </a:lnTo>
                  <a:lnTo>
                    <a:pt x="1617" y="450"/>
                  </a:lnTo>
                  <a:lnTo>
                    <a:pt x="1612" y="455"/>
                  </a:lnTo>
                  <a:lnTo>
                    <a:pt x="1607" y="460"/>
                  </a:lnTo>
                  <a:lnTo>
                    <a:pt x="1602" y="465"/>
                  </a:lnTo>
                  <a:lnTo>
                    <a:pt x="1592" y="465"/>
                  </a:lnTo>
                  <a:lnTo>
                    <a:pt x="1587" y="465"/>
                  </a:lnTo>
                  <a:lnTo>
                    <a:pt x="1577" y="465"/>
                  </a:lnTo>
                  <a:lnTo>
                    <a:pt x="1572" y="465"/>
                  </a:lnTo>
                  <a:lnTo>
                    <a:pt x="1562" y="465"/>
                  </a:lnTo>
                  <a:lnTo>
                    <a:pt x="1553" y="460"/>
                  </a:lnTo>
                  <a:lnTo>
                    <a:pt x="1548" y="460"/>
                  </a:lnTo>
                  <a:lnTo>
                    <a:pt x="1543" y="455"/>
                  </a:lnTo>
                  <a:lnTo>
                    <a:pt x="1533" y="455"/>
                  </a:lnTo>
                  <a:lnTo>
                    <a:pt x="1528" y="450"/>
                  </a:lnTo>
                  <a:lnTo>
                    <a:pt x="1518" y="445"/>
                  </a:lnTo>
                  <a:lnTo>
                    <a:pt x="1513" y="445"/>
                  </a:lnTo>
                  <a:lnTo>
                    <a:pt x="1508" y="440"/>
                  </a:lnTo>
                  <a:lnTo>
                    <a:pt x="1498" y="440"/>
                  </a:lnTo>
                  <a:lnTo>
                    <a:pt x="1493" y="435"/>
                  </a:lnTo>
                  <a:lnTo>
                    <a:pt x="1483" y="435"/>
                  </a:lnTo>
                  <a:lnTo>
                    <a:pt x="1478" y="430"/>
                  </a:lnTo>
                  <a:lnTo>
                    <a:pt x="1468" y="425"/>
                  </a:lnTo>
                  <a:lnTo>
                    <a:pt x="1468" y="425"/>
                  </a:lnTo>
                  <a:lnTo>
                    <a:pt x="1468" y="420"/>
                  </a:lnTo>
                  <a:lnTo>
                    <a:pt x="1468" y="411"/>
                  </a:lnTo>
                  <a:lnTo>
                    <a:pt x="1468" y="406"/>
                  </a:lnTo>
                  <a:lnTo>
                    <a:pt x="1468" y="401"/>
                  </a:lnTo>
                  <a:lnTo>
                    <a:pt x="1463" y="396"/>
                  </a:lnTo>
                  <a:lnTo>
                    <a:pt x="1459" y="391"/>
                  </a:lnTo>
                  <a:lnTo>
                    <a:pt x="1454" y="391"/>
                  </a:lnTo>
                  <a:lnTo>
                    <a:pt x="1444" y="396"/>
                  </a:lnTo>
                  <a:lnTo>
                    <a:pt x="1439" y="401"/>
                  </a:lnTo>
                  <a:lnTo>
                    <a:pt x="1429" y="401"/>
                  </a:lnTo>
                  <a:lnTo>
                    <a:pt x="1424" y="406"/>
                  </a:lnTo>
                  <a:lnTo>
                    <a:pt x="1414" y="411"/>
                  </a:lnTo>
                  <a:lnTo>
                    <a:pt x="1409" y="411"/>
                  </a:lnTo>
                  <a:lnTo>
                    <a:pt x="1399" y="411"/>
                  </a:lnTo>
                  <a:lnTo>
                    <a:pt x="1394" y="411"/>
                  </a:lnTo>
                  <a:lnTo>
                    <a:pt x="1384" y="416"/>
                  </a:lnTo>
                  <a:lnTo>
                    <a:pt x="1374" y="416"/>
                  </a:lnTo>
                  <a:lnTo>
                    <a:pt x="1370" y="416"/>
                  </a:lnTo>
                  <a:lnTo>
                    <a:pt x="1360" y="416"/>
                  </a:lnTo>
                  <a:lnTo>
                    <a:pt x="1355" y="416"/>
                  </a:lnTo>
                  <a:lnTo>
                    <a:pt x="1345" y="416"/>
                  </a:lnTo>
                  <a:lnTo>
                    <a:pt x="1335" y="416"/>
                  </a:lnTo>
                  <a:lnTo>
                    <a:pt x="1330" y="420"/>
                  </a:lnTo>
                  <a:lnTo>
                    <a:pt x="1320" y="420"/>
                  </a:lnTo>
                  <a:lnTo>
                    <a:pt x="1315" y="425"/>
                  </a:lnTo>
                  <a:lnTo>
                    <a:pt x="1310" y="430"/>
                  </a:lnTo>
                  <a:lnTo>
                    <a:pt x="1305" y="435"/>
                  </a:lnTo>
                  <a:lnTo>
                    <a:pt x="1300" y="440"/>
                  </a:lnTo>
                  <a:lnTo>
                    <a:pt x="1290" y="440"/>
                  </a:lnTo>
                  <a:lnTo>
                    <a:pt x="1285" y="445"/>
                  </a:lnTo>
                  <a:lnTo>
                    <a:pt x="1281" y="445"/>
                  </a:lnTo>
                  <a:lnTo>
                    <a:pt x="1276" y="450"/>
                  </a:lnTo>
                  <a:lnTo>
                    <a:pt x="1271" y="455"/>
                  </a:lnTo>
                  <a:lnTo>
                    <a:pt x="1271" y="450"/>
                  </a:lnTo>
                  <a:lnTo>
                    <a:pt x="1276" y="445"/>
                  </a:lnTo>
                  <a:lnTo>
                    <a:pt x="1281" y="440"/>
                  </a:lnTo>
                  <a:lnTo>
                    <a:pt x="1281" y="435"/>
                  </a:lnTo>
                  <a:lnTo>
                    <a:pt x="1285" y="430"/>
                  </a:lnTo>
                  <a:lnTo>
                    <a:pt x="1281" y="425"/>
                  </a:lnTo>
                  <a:lnTo>
                    <a:pt x="1281" y="420"/>
                  </a:lnTo>
                  <a:lnTo>
                    <a:pt x="1271" y="420"/>
                  </a:lnTo>
                  <a:lnTo>
                    <a:pt x="1266" y="416"/>
                  </a:lnTo>
                  <a:lnTo>
                    <a:pt x="1256" y="416"/>
                  </a:lnTo>
                  <a:lnTo>
                    <a:pt x="1246" y="420"/>
                  </a:lnTo>
                  <a:lnTo>
                    <a:pt x="1241" y="420"/>
                  </a:lnTo>
                  <a:lnTo>
                    <a:pt x="1236" y="425"/>
                  </a:lnTo>
                  <a:lnTo>
                    <a:pt x="1231" y="430"/>
                  </a:lnTo>
                  <a:lnTo>
                    <a:pt x="1231" y="435"/>
                  </a:lnTo>
                  <a:lnTo>
                    <a:pt x="1226" y="440"/>
                  </a:lnTo>
                  <a:lnTo>
                    <a:pt x="1226" y="445"/>
                  </a:lnTo>
                  <a:lnTo>
                    <a:pt x="1226" y="450"/>
                  </a:lnTo>
                  <a:lnTo>
                    <a:pt x="1226" y="460"/>
                  </a:lnTo>
                  <a:lnTo>
                    <a:pt x="1226" y="465"/>
                  </a:lnTo>
                  <a:lnTo>
                    <a:pt x="1226" y="470"/>
                  </a:lnTo>
                  <a:lnTo>
                    <a:pt x="1221" y="475"/>
                  </a:lnTo>
                  <a:lnTo>
                    <a:pt x="1221" y="480"/>
                  </a:lnTo>
                  <a:lnTo>
                    <a:pt x="1221" y="485"/>
                  </a:lnTo>
                  <a:lnTo>
                    <a:pt x="1216" y="490"/>
                  </a:lnTo>
                  <a:lnTo>
                    <a:pt x="1216" y="495"/>
                  </a:lnTo>
                  <a:lnTo>
                    <a:pt x="1216" y="500"/>
                  </a:lnTo>
                  <a:lnTo>
                    <a:pt x="1211" y="504"/>
                  </a:lnTo>
                  <a:lnTo>
                    <a:pt x="1211" y="509"/>
                  </a:lnTo>
                  <a:lnTo>
                    <a:pt x="1206" y="514"/>
                  </a:lnTo>
                  <a:lnTo>
                    <a:pt x="1206" y="519"/>
                  </a:lnTo>
                  <a:lnTo>
                    <a:pt x="1206" y="524"/>
                  </a:lnTo>
                  <a:lnTo>
                    <a:pt x="1201" y="529"/>
                  </a:lnTo>
                  <a:lnTo>
                    <a:pt x="1201" y="534"/>
                  </a:lnTo>
                  <a:lnTo>
                    <a:pt x="1201" y="539"/>
                  </a:lnTo>
                  <a:lnTo>
                    <a:pt x="1196" y="544"/>
                  </a:lnTo>
                  <a:lnTo>
                    <a:pt x="1196" y="549"/>
                  </a:lnTo>
                  <a:lnTo>
                    <a:pt x="1196" y="554"/>
                  </a:lnTo>
                  <a:lnTo>
                    <a:pt x="1191" y="564"/>
                  </a:lnTo>
                  <a:lnTo>
                    <a:pt x="1191" y="569"/>
                  </a:lnTo>
                  <a:lnTo>
                    <a:pt x="1191" y="574"/>
                  </a:lnTo>
                  <a:lnTo>
                    <a:pt x="1187" y="579"/>
                  </a:lnTo>
                  <a:lnTo>
                    <a:pt x="1187" y="584"/>
                  </a:lnTo>
                  <a:lnTo>
                    <a:pt x="1182" y="589"/>
                  </a:lnTo>
                  <a:lnTo>
                    <a:pt x="1182" y="593"/>
                  </a:lnTo>
                  <a:lnTo>
                    <a:pt x="1177" y="598"/>
                  </a:lnTo>
                  <a:lnTo>
                    <a:pt x="1172" y="603"/>
                  </a:lnTo>
                  <a:lnTo>
                    <a:pt x="1167" y="608"/>
                  </a:lnTo>
                  <a:lnTo>
                    <a:pt x="1162" y="608"/>
                  </a:lnTo>
                  <a:lnTo>
                    <a:pt x="1162" y="613"/>
                  </a:lnTo>
                  <a:lnTo>
                    <a:pt x="1162" y="618"/>
                  </a:lnTo>
                  <a:lnTo>
                    <a:pt x="1167" y="628"/>
                  </a:lnTo>
                  <a:lnTo>
                    <a:pt x="1167" y="633"/>
                  </a:lnTo>
                  <a:lnTo>
                    <a:pt x="1172" y="638"/>
                  </a:lnTo>
                  <a:lnTo>
                    <a:pt x="1172" y="643"/>
                  </a:lnTo>
                  <a:lnTo>
                    <a:pt x="1167" y="643"/>
                  </a:lnTo>
                  <a:lnTo>
                    <a:pt x="1157" y="648"/>
                  </a:lnTo>
                  <a:lnTo>
                    <a:pt x="1147" y="648"/>
                  </a:lnTo>
                  <a:lnTo>
                    <a:pt x="1142" y="643"/>
                  </a:lnTo>
                  <a:lnTo>
                    <a:pt x="1132" y="643"/>
                  </a:lnTo>
                  <a:lnTo>
                    <a:pt x="1122" y="643"/>
                  </a:lnTo>
                  <a:lnTo>
                    <a:pt x="1117" y="643"/>
                  </a:lnTo>
                  <a:lnTo>
                    <a:pt x="1107" y="643"/>
                  </a:lnTo>
                  <a:lnTo>
                    <a:pt x="1098" y="643"/>
                  </a:lnTo>
                  <a:lnTo>
                    <a:pt x="1093" y="643"/>
                  </a:lnTo>
                  <a:lnTo>
                    <a:pt x="1083" y="643"/>
                  </a:lnTo>
                  <a:lnTo>
                    <a:pt x="1078" y="638"/>
                  </a:lnTo>
                  <a:lnTo>
                    <a:pt x="1068" y="638"/>
                  </a:lnTo>
                  <a:lnTo>
                    <a:pt x="1058" y="638"/>
                  </a:lnTo>
                  <a:lnTo>
                    <a:pt x="1053" y="638"/>
                  </a:lnTo>
                  <a:lnTo>
                    <a:pt x="1043" y="633"/>
                  </a:lnTo>
                  <a:lnTo>
                    <a:pt x="1038" y="633"/>
                  </a:lnTo>
                  <a:lnTo>
                    <a:pt x="1028" y="633"/>
                  </a:lnTo>
                  <a:lnTo>
                    <a:pt x="1018" y="633"/>
                  </a:lnTo>
                  <a:lnTo>
                    <a:pt x="1013" y="638"/>
                  </a:lnTo>
                  <a:lnTo>
                    <a:pt x="1004" y="638"/>
                  </a:lnTo>
                  <a:lnTo>
                    <a:pt x="999" y="638"/>
                  </a:lnTo>
                  <a:lnTo>
                    <a:pt x="989" y="643"/>
                  </a:lnTo>
                  <a:lnTo>
                    <a:pt x="989" y="648"/>
                  </a:lnTo>
                  <a:lnTo>
                    <a:pt x="984" y="653"/>
                  </a:lnTo>
                  <a:lnTo>
                    <a:pt x="984" y="658"/>
                  </a:lnTo>
                  <a:lnTo>
                    <a:pt x="979" y="663"/>
                  </a:lnTo>
                  <a:lnTo>
                    <a:pt x="974" y="668"/>
                  </a:lnTo>
                  <a:lnTo>
                    <a:pt x="974" y="673"/>
                  </a:lnTo>
                  <a:lnTo>
                    <a:pt x="969" y="677"/>
                  </a:lnTo>
                  <a:lnTo>
                    <a:pt x="964" y="682"/>
                  </a:lnTo>
                  <a:lnTo>
                    <a:pt x="964" y="687"/>
                  </a:lnTo>
                  <a:lnTo>
                    <a:pt x="959" y="692"/>
                  </a:lnTo>
                  <a:lnTo>
                    <a:pt x="954" y="697"/>
                  </a:lnTo>
                  <a:lnTo>
                    <a:pt x="954" y="697"/>
                  </a:lnTo>
                  <a:lnTo>
                    <a:pt x="949" y="692"/>
                  </a:lnTo>
                  <a:lnTo>
                    <a:pt x="949" y="687"/>
                  </a:lnTo>
                  <a:lnTo>
                    <a:pt x="949" y="682"/>
                  </a:lnTo>
                  <a:lnTo>
                    <a:pt x="949" y="677"/>
                  </a:lnTo>
                  <a:lnTo>
                    <a:pt x="944" y="673"/>
                  </a:lnTo>
                  <a:lnTo>
                    <a:pt x="944" y="668"/>
                  </a:lnTo>
                  <a:lnTo>
                    <a:pt x="944" y="663"/>
                  </a:lnTo>
                  <a:lnTo>
                    <a:pt x="944" y="658"/>
                  </a:lnTo>
                  <a:lnTo>
                    <a:pt x="944" y="653"/>
                  </a:lnTo>
                  <a:lnTo>
                    <a:pt x="944" y="643"/>
                  </a:lnTo>
                  <a:lnTo>
                    <a:pt x="944" y="638"/>
                  </a:lnTo>
                  <a:lnTo>
                    <a:pt x="949" y="633"/>
                  </a:lnTo>
                  <a:lnTo>
                    <a:pt x="949" y="628"/>
                  </a:lnTo>
                  <a:lnTo>
                    <a:pt x="954" y="623"/>
                  </a:lnTo>
                  <a:lnTo>
                    <a:pt x="959" y="618"/>
                  </a:lnTo>
                  <a:lnTo>
                    <a:pt x="959" y="613"/>
                  </a:lnTo>
                  <a:lnTo>
                    <a:pt x="959" y="608"/>
                  </a:lnTo>
                  <a:lnTo>
                    <a:pt x="959" y="603"/>
                  </a:lnTo>
                  <a:lnTo>
                    <a:pt x="959" y="598"/>
                  </a:lnTo>
                  <a:lnTo>
                    <a:pt x="959" y="593"/>
                  </a:lnTo>
                  <a:lnTo>
                    <a:pt x="959" y="589"/>
                  </a:lnTo>
                  <a:lnTo>
                    <a:pt x="959" y="584"/>
                  </a:lnTo>
                  <a:lnTo>
                    <a:pt x="954" y="579"/>
                  </a:lnTo>
                  <a:lnTo>
                    <a:pt x="949" y="579"/>
                  </a:lnTo>
                  <a:lnTo>
                    <a:pt x="939" y="579"/>
                  </a:lnTo>
                  <a:lnTo>
                    <a:pt x="934" y="584"/>
                  </a:lnTo>
                  <a:lnTo>
                    <a:pt x="929" y="589"/>
                  </a:lnTo>
                  <a:lnTo>
                    <a:pt x="924" y="593"/>
                  </a:lnTo>
                  <a:lnTo>
                    <a:pt x="919" y="598"/>
                  </a:lnTo>
                  <a:lnTo>
                    <a:pt x="919" y="603"/>
                  </a:lnTo>
                  <a:lnTo>
                    <a:pt x="915" y="608"/>
                  </a:lnTo>
                  <a:lnTo>
                    <a:pt x="910" y="613"/>
                  </a:lnTo>
                  <a:lnTo>
                    <a:pt x="910" y="618"/>
                  </a:lnTo>
                  <a:lnTo>
                    <a:pt x="910" y="623"/>
                  </a:lnTo>
                  <a:lnTo>
                    <a:pt x="910" y="628"/>
                  </a:lnTo>
                  <a:lnTo>
                    <a:pt x="910" y="633"/>
                  </a:lnTo>
                  <a:lnTo>
                    <a:pt x="910" y="638"/>
                  </a:lnTo>
                  <a:lnTo>
                    <a:pt x="905" y="643"/>
                  </a:lnTo>
                  <a:lnTo>
                    <a:pt x="905" y="653"/>
                  </a:lnTo>
                  <a:lnTo>
                    <a:pt x="905" y="658"/>
                  </a:lnTo>
                  <a:lnTo>
                    <a:pt x="905" y="663"/>
                  </a:lnTo>
                  <a:lnTo>
                    <a:pt x="905" y="668"/>
                  </a:lnTo>
                  <a:lnTo>
                    <a:pt x="900" y="673"/>
                  </a:lnTo>
                  <a:lnTo>
                    <a:pt x="900" y="677"/>
                  </a:lnTo>
                  <a:lnTo>
                    <a:pt x="900" y="682"/>
                  </a:lnTo>
                  <a:lnTo>
                    <a:pt x="895" y="687"/>
                  </a:lnTo>
                  <a:lnTo>
                    <a:pt x="895" y="692"/>
                  </a:lnTo>
                  <a:lnTo>
                    <a:pt x="895" y="697"/>
                  </a:lnTo>
                  <a:lnTo>
                    <a:pt x="895" y="702"/>
                  </a:lnTo>
                  <a:lnTo>
                    <a:pt x="895" y="707"/>
                  </a:lnTo>
                  <a:lnTo>
                    <a:pt x="890" y="712"/>
                  </a:lnTo>
                  <a:lnTo>
                    <a:pt x="890" y="717"/>
                  </a:lnTo>
                  <a:lnTo>
                    <a:pt x="890" y="722"/>
                  </a:lnTo>
                  <a:lnTo>
                    <a:pt x="890" y="727"/>
                  </a:lnTo>
                  <a:lnTo>
                    <a:pt x="890" y="737"/>
                  </a:lnTo>
                  <a:lnTo>
                    <a:pt x="890" y="742"/>
                  </a:lnTo>
                  <a:lnTo>
                    <a:pt x="890" y="747"/>
                  </a:lnTo>
                  <a:lnTo>
                    <a:pt x="890" y="752"/>
                  </a:lnTo>
                  <a:lnTo>
                    <a:pt x="890" y="757"/>
                  </a:lnTo>
                  <a:lnTo>
                    <a:pt x="890" y="762"/>
                  </a:lnTo>
                  <a:lnTo>
                    <a:pt x="890" y="766"/>
                  </a:lnTo>
                  <a:lnTo>
                    <a:pt x="890" y="771"/>
                  </a:lnTo>
                  <a:lnTo>
                    <a:pt x="890" y="776"/>
                  </a:lnTo>
                  <a:lnTo>
                    <a:pt x="890" y="781"/>
                  </a:lnTo>
                  <a:lnTo>
                    <a:pt x="890" y="786"/>
                  </a:lnTo>
                  <a:lnTo>
                    <a:pt x="890" y="791"/>
                  </a:lnTo>
                  <a:lnTo>
                    <a:pt x="890" y="796"/>
                  </a:lnTo>
                  <a:lnTo>
                    <a:pt x="890" y="801"/>
                  </a:lnTo>
                  <a:lnTo>
                    <a:pt x="890" y="806"/>
                  </a:lnTo>
                  <a:lnTo>
                    <a:pt x="890" y="811"/>
                  </a:lnTo>
                  <a:lnTo>
                    <a:pt x="890" y="821"/>
                  </a:lnTo>
                  <a:lnTo>
                    <a:pt x="890" y="826"/>
                  </a:lnTo>
                  <a:lnTo>
                    <a:pt x="890" y="831"/>
                  </a:lnTo>
                  <a:lnTo>
                    <a:pt x="885" y="836"/>
                  </a:lnTo>
                  <a:lnTo>
                    <a:pt x="880" y="846"/>
                  </a:lnTo>
                  <a:lnTo>
                    <a:pt x="880" y="850"/>
                  </a:lnTo>
                  <a:lnTo>
                    <a:pt x="875" y="850"/>
                  </a:lnTo>
                  <a:lnTo>
                    <a:pt x="870" y="846"/>
                  </a:lnTo>
                  <a:lnTo>
                    <a:pt x="860" y="846"/>
                  </a:lnTo>
                  <a:lnTo>
                    <a:pt x="855" y="841"/>
                  </a:lnTo>
                  <a:lnTo>
                    <a:pt x="845" y="836"/>
                  </a:lnTo>
                  <a:lnTo>
                    <a:pt x="840" y="836"/>
                  </a:lnTo>
                  <a:lnTo>
                    <a:pt x="835" y="841"/>
                  </a:lnTo>
                  <a:lnTo>
                    <a:pt x="826" y="846"/>
                  </a:lnTo>
                  <a:lnTo>
                    <a:pt x="821" y="850"/>
                  </a:lnTo>
                  <a:lnTo>
                    <a:pt x="816" y="850"/>
                  </a:lnTo>
                  <a:lnTo>
                    <a:pt x="811" y="855"/>
                  </a:lnTo>
                  <a:lnTo>
                    <a:pt x="801" y="860"/>
                  </a:lnTo>
                  <a:lnTo>
                    <a:pt x="796" y="860"/>
                  </a:lnTo>
                  <a:lnTo>
                    <a:pt x="791" y="865"/>
                  </a:lnTo>
                  <a:lnTo>
                    <a:pt x="781" y="870"/>
                  </a:lnTo>
                  <a:lnTo>
                    <a:pt x="776" y="870"/>
                  </a:lnTo>
                  <a:lnTo>
                    <a:pt x="771" y="875"/>
                  </a:lnTo>
                  <a:lnTo>
                    <a:pt x="766" y="880"/>
                  </a:lnTo>
                  <a:lnTo>
                    <a:pt x="766" y="885"/>
                  </a:lnTo>
                  <a:lnTo>
                    <a:pt x="756" y="890"/>
                  </a:lnTo>
                  <a:lnTo>
                    <a:pt x="751" y="895"/>
                  </a:lnTo>
                  <a:lnTo>
                    <a:pt x="746" y="900"/>
                  </a:lnTo>
                  <a:lnTo>
                    <a:pt x="741" y="900"/>
                  </a:lnTo>
                  <a:lnTo>
                    <a:pt x="737" y="900"/>
                  </a:lnTo>
                  <a:lnTo>
                    <a:pt x="732" y="895"/>
                  </a:lnTo>
                  <a:lnTo>
                    <a:pt x="727" y="890"/>
                  </a:lnTo>
                  <a:lnTo>
                    <a:pt x="722" y="880"/>
                  </a:lnTo>
                  <a:lnTo>
                    <a:pt x="717" y="875"/>
                  </a:lnTo>
                  <a:lnTo>
                    <a:pt x="712" y="875"/>
                  </a:lnTo>
                  <a:lnTo>
                    <a:pt x="707" y="870"/>
                  </a:lnTo>
                  <a:lnTo>
                    <a:pt x="702" y="865"/>
                  </a:lnTo>
                  <a:lnTo>
                    <a:pt x="697" y="860"/>
                  </a:lnTo>
                  <a:lnTo>
                    <a:pt x="692" y="860"/>
                  </a:lnTo>
                  <a:lnTo>
                    <a:pt x="682" y="855"/>
                  </a:lnTo>
                  <a:lnTo>
                    <a:pt x="677" y="850"/>
                  </a:lnTo>
                  <a:lnTo>
                    <a:pt x="672" y="846"/>
                  </a:lnTo>
                  <a:lnTo>
                    <a:pt x="667" y="841"/>
                  </a:lnTo>
                  <a:lnTo>
                    <a:pt x="662" y="841"/>
                  </a:lnTo>
                  <a:lnTo>
                    <a:pt x="657" y="836"/>
                  </a:lnTo>
                  <a:lnTo>
                    <a:pt x="652" y="831"/>
                  </a:lnTo>
                  <a:lnTo>
                    <a:pt x="647" y="826"/>
                  </a:lnTo>
                  <a:lnTo>
                    <a:pt x="643" y="821"/>
                  </a:lnTo>
                  <a:lnTo>
                    <a:pt x="633" y="821"/>
                  </a:lnTo>
                  <a:lnTo>
                    <a:pt x="628" y="816"/>
                  </a:lnTo>
                  <a:lnTo>
                    <a:pt x="628" y="811"/>
                  </a:lnTo>
                  <a:lnTo>
                    <a:pt x="623" y="806"/>
                  </a:lnTo>
                  <a:lnTo>
                    <a:pt x="623" y="801"/>
                  </a:lnTo>
                  <a:lnTo>
                    <a:pt x="628" y="796"/>
                  </a:lnTo>
                  <a:lnTo>
                    <a:pt x="628" y="791"/>
                  </a:lnTo>
                  <a:lnTo>
                    <a:pt x="633" y="786"/>
                  </a:lnTo>
                  <a:lnTo>
                    <a:pt x="633" y="781"/>
                  </a:lnTo>
                  <a:lnTo>
                    <a:pt x="638" y="771"/>
                  </a:lnTo>
                  <a:lnTo>
                    <a:pt x="633" y="766"/>
                  </a:lnTo>
                  <a:lnTo>
                    <a:pt x="633" y="766"/>
                  </a:lnTo>
                  <a:lnTo>
                    <a:pt x="628" y="762"/>
                  </a:lnTo>
                  <a:lnTo>
                    <a:pt x="623" y="757"/>
                  </a:lnTo>
                  <a:lnTo>
                    <a:pt x="613" y="752"/>
                  </a:lnTo>
                  <a:lnTo>
                    <a:pt x="608" y="747"/>
                  </a:lnTo>
                  <a:lnTo>
                    <a:pt x="603" y="752"/>
                  </a:lnTo>
                  <a:lnTo>
                    <a:pt x="603" y="757"/>
                  </a:lnTo>
                  <a:lnTo>
                    <a:pt x="598" y="762"/>
                  </a:lnTo>
                  <a:lnTo>
                    <a:pt x="593" y="766"/>
                  </a:lnTo>
                  <a:lnTo>
                    <a:pt x="593" y="771"/>
                  </a:lnTo>
                  <a:lnTo>
                    <a:pt x="588" y="776"/>
                  </a:lnTo>
                  <a:lnTo>
                    <a:pt x="588" y="781"/>
                  </a:lnTo>
                  <a:lnTo>
                    <a:pt x="583" y="786"/>
                  </a:lnTo>
                  <a:lnTo>
                    <a:pt x="578" y="791"/>
                  </a:lnTo>
                  <a:lnTo>
                    <a:pt x="573" y="796"/>
                  </a:lnTo>
                  <a:lnTo>
                    <a:pt x="568" y="801"/>
                  </a:lnTo>
                  <a:lnTo>
                    <a:pt x="568" y="801"/>
                  </a:lnTo>
                  <a:lnTo>
                    <a:pt x="578" y="806"/>
                  </a:lnTo>
                  <a:lnTo>
                    <a:pt x="583" y="811"/>
                  </a:lnTo>
                  <a:lnTo>
                    <a:pt x="588" y="811"/>
                  </a:lnTo>
                  <a:lnTo>
                    <a:pt x="593" y="816"/>
                  </a:lnTo>
                  <a:lnTo>
                    <a:pt x="598" y="821"/>
                  </a:lnTo>
                  <a:lnTo>
                    <a:pt x="598" y="826"/>
                  </a:lnTo>
                  <a:lnTo>
                    <a:pt x="603" y="831"/>
                  </a:lnTo>
                  <a:lnTo>
                    <a:pt x="608" y="836"/>
                  </a:lnTo>
                  <a:lnTo>
                    <a:pt x="608" y="841"/>
                  </a:lnTo>
                  <a:lnTo>
                    <a:pt x="613" y="846"/>
                  </a:lnTo>
                  <a:lnTo>
                    <a:pt x="618" y="850"/>
                  </a:lnTo>
                  <a:lnTo>
                    <a:pt x="623" y="855"/>
                  </a:lnTo>
                  <a:lnTo>
                    <a:pt x="623" y="860"/>
                  </a:lnTo>
                  <a:lnTo>
                    <a:pt x="623" y="865"/>
                  </a:lnTo>
                  <a:lnTo>
                    <a:pt x="623" y="870"/>
                  </a:lnTo>
                  <a:lnTo>
                    <a:pt x="623" y="875"/>
                  </a:lnTo>
                  <a:lnTo>
                    <a:pt x="628" y="880"/>
                  </a:lnTo>
                  <a:lnTo>
                    <a:pt x="633" y="885"/>
                  </a:lnTo>
                  <a:lnTo>
                    <a:pt x="638" y="890"/>
                  </a:lnTo>
                  <a:lnTo>
                    <a:pt x="638" y="895"/>
                  </a:lnTo>
                  <a:lnTo>
                    <a:pt x="643" y="900"/>
                  </a:lnTo>
                  <a:lnTo>
                    <a:pt x="643" y="905"/>
                  </a:lnTo>
                  <a:lnTo>
                    <a:pt x="647" y="910"/>
                  </a:lnTo>
                  <a:lnTo>
                    <a:pt x="652" y="915"/>
                  </a:lnTo>
                  <a:lnTo>
                    <a:pt x="652" y="920"/>
                  </a:lnTo>
                  <a:lnTo>
                    <a:pt x="657" y="925"/>
                  </a:lnTo>
                  <a:lnTo>
                    <a:pt x="662" y="930"/>
                  </a:lnTo>
                  <a:lnTo>
                    <a:pt x="667" y="934"/>
                  </a:lnTo>
                  <a:lnTo>
                    <a:pt x="667" y="939"/>
                  </a:lnTo>
                  <a:lnTo>
                    <a:pt x="672" y="944"/>
                  </a:lnTo>
                  <a:lnTo>
                    <a:pt x="672" y="949"/>
                  </a:lnTo>
                  <a:lnTo>
                    <a:pt x="672" y="954"/>
                  </a:lnTo>
                  <a:lnTo>
                    <a:pt x="672" y="959"/>
                  </a:lnTo>
                  <a:lnTo>
                    <a:pt x="677" y="964"/>
                  </a:lnTo>
                  <a:lnTo>
                    <a:pt x="682" y="969"/>
                  </a:lnTo>
                  <a:lnTo>
                    <a:pt x="687" y="974"/>
                  </a:lnTo>
                  <a:lnTo>
                    <a:pt x="687" y="979"/>
                  </a:lnTo>
                  <a:lnTo>
                    <a:pt x="692" y="984"/>
                  </a:lnTo>
                  <a:lnTo>
                    <a:pt x="697" y="989"/>
                  </a:lnTo>
                  <a:lnTo>
                    <a:pt x="697" y="994"/>
                  </a:lnTo>
                  <a:lnTo>
                    <a:pt x="702" y="999"/>
                  </a:lnTo>
                  <a:lnTo>
                    <a:pt x="707" y="1004"/>
                  </a:lnTo>
                  <a:lnTo>
                    <a:pt x="707" y="1009"/>
                  </a:lnTo>
                  <a:lnTo>
                    <a:pt x="712" y="1014"/>
                  </a:lnTo>
                  <a:lnTo>
                    <a:pt x="712" y="1019"/>
                  </a:lnTo>
                  <a:lnTo>
                    <a:pt x="707" y="1023"/>
                  </a:lnTo>
                  <a:lnTo>
                    <a:pt x="702" y="1028"/>
                  </a:lnTo>
                  <a:lnTo>
                    <a:pt x="697" y="1033"/>
                  </a:lnTo>
                  <a:lnTo>
                    <a:pt x="692" y="1038"/>
                  </a:lnTo>
                  <a:lnTo>
                    <a:pt x="687" y="1038"/>
                  </a:lnTo>
                  <a:lnTo>
                    <a:pt x="682" y="1043"/>
                  </a:lnTo>
                  <a:lnTo>
                    <a:pt x="677" y="1048"/>
                  </a:lnTo>
                  <a:lnTo>
                    <a:pt x="672" y="1053"/>
                  </a:lnTo>
                  <a:lnTo>
                    <a:pt x="667" y="1058"/>
                  </a:lnTo>
                  <a:lnTo>
                    <a:pt x="657" y="1058"/>
                  </a:lnTo>
                  <a:lnTo>
                    <a:pt x="652" y="1063"/>
                  </a:lnTo>
                  <a:lnTo>
                    <a:pt x="647" y="1063"/>
                  </a:lnTo>
                  <a:lnTo>
                    <a:pt x="638" y="1068"/>
                  </a:lnTo>
                  <a:lnTo>
                    <a:pt x="633" y="1068"/>
                  </a:lnTo>
                  <a:lnTo>
                    <a:pt x="623" y="1068"/>
                  </a:lnTo>
                  <a:lnTo>
                    <a:pt x="613" y="1073"/>
                  </a:lnTo>
                  <a:lnTo>
                    <a:pt x="608" y="1073"/>
                  </a:lnTo>
                  <a:lnTo>
                    <a:pt x="598" y="1073"/>
                  </a:lnTo>
                  <a:lnTo>
                    <a:pt x="593" y="1073"/>
                  </a:lnTo>
                  <a:lnTo>
                    <a:pt x="583" y="1073"/>
                  </a:lnTo>
                  <a:lnTo>
                    <a:pt x="573" y="1073"/>
                  </a:lnTo>
                  <a:lnTo>
                    <a:pt x="563" y="1073"/>
                  </a:lnTo>
                  <a:lnTo>
                    <a:pt x="558" y="1078"/>
                  </a:lnTo>
                  <a:lnTo>
                    <a:pt x="554" y="1078"/>
                  </a:lnTo>
                  <a:lnTo>
                    <a:pt x="549" y="1083"/>
                  </a:lnTo>
                  <a:lnTo>
                    <a:pt x="544" y="1088"/>
                  </a:lnTo>
                  <a:lnTo>
                    <a:pt x="544" y="1093"/>
                  </a:lnTo>
                  <a:lnTo>
                    <a:pt x="544" y="1098"/>
                  </a:lnTo>
                  <a:lnTo>
                    <a:pt x="539" y="1103"/>
                  </a:lnTo>
                  <a:lnTo>
                    <a:pt x="539" y="1107"/>
                  </a:lnTo>
                  <a:lnTo>
                    <a:pt x="539" y="1112"/>
                  </a:lnTo>
                  <a:lnTo>
                    <a:pt x="539" y="1122"/>
                  </a:lnTo>
                  <a:lnTo>
                    <a:pt x="534" y="1127"/>
                  </a:lnTo>
                  <a:lnTo>
                    <a:pt x="534" y="1132"/>
                  </a:lnTo>
                  <a:lnTo>
                    <a:pt x="534" y="1142"/>
                  </a:lnTo>
                  <a:lnTo>
                    <a:pt x="529" y="1142"/>
                  </a:lnTo>
                  <a:lnTo>
                    <a:pt x="524" y="1142"/>
                  </a:lnTo>
                  <a:lnTo>
                    <a:pt x="519" y="1142"/>
                  </a:lnTo>
                  <a:lnTo>
                    <a:pt x="514" y="1137"/>
                  </a:lnTo>
                  <a:lnTo>
                    <a:pt x="509" y="1132"/>
                  </a:lnTo>
                  <a:lnTo>
                    <a:pt x="499" y="1127"/>
                  </a:lnTo>
                  <a:lnTo>
                    <a:pt x="494" y="1122"/>
                  </a:lnTo>
                  <a:lnTo>
                    <a:pt x="484" y="1122"/>
                  </a:lnTo>
                  <a:lnTo>
                    <a:pt x="479" y="1122"/>
                  </a:lnTo>
                  <a:lnTo>
                    <a:pt x="469" y="1122"/>
                  </a:lnTo>
                  <a:lnTo>
                    <a:pt x="464" y="1122"/>
                  </a:lnTo>
                  <a:lnTo>
                    <a:pt x="455" y="1122"/>
                  </a:lnTo>
                  <a:lnTo>
                    <a:pt x="445" y="1122"/>
                  </a:lnTo>
                  <a:lnTo>
                    <a:pt x="440" y="1127"/>
                  </a:lnTo>
                  <a:lnTo>
                    <a:pt x="430" y="1127"/>
                  </a:lnTo>
                  <a:lnTo>
                    <a:pt x="425" y="1127"/>
                  </a:lnTo>
                  <a:lnTo>
                    <a:pt x="415" y="1127"/>
                  </a:lnTo>
                  <a:lnTo>
                    <a:pt x="405" y="1132"/>
                  </a:lnTo>
                  <a:lnTo>
                    <a:pt x="400" y="1132"/>
                  </a:lnTo>
                  <a:lnTo>
                    <a:pt x="390" y="1137"/>
                  </a:lnTo>
                  <a:lnTo>
                    <a:pt x="385" y="1142"/>
                  </a:lnTo>
                  <a:lnTo>
                    <a:pt x="385" y="1147"/>
                  </a:lnTo>
                  <a:lnTo>
                    <a:pt x="385" y="1152"/>
                  </a:lnTo>
                  <a:lnTo>
                    <a:pt x="385" y="1157"/>
                  </a:lnTo>
                  <a:lnTo>
                    <a:pt x="390" y="1162"/>
                  </a:lnTo>
                  <a:lnTo>
                    <a:pt x="395" y="1167"/>
                  </a:lnTo>
                  <a:lnTo>
                    <a:pt x="400" y="1172"/>
                  </a:lnTo>
                  <a:lnTo>
                    <a:pt x="400" y="1177"/>
                  </a:lnTo>
                  <a:lnTo>
                    <a:pt x="395" y="1182"/>
                  </a:lnTo>
                  <a:lnTo>
                    <a:pt x="390" y="1177"/>
                  </a:lnTo>
                  <a:lnTo>
                    <a:pt x="385" y="1172"/>
                  </a:lnTo>
                  <a:lnTo>
                    <a:pt x="375" y="1167"/>
                  </a:lnTo>
                  <a:lnTo>
                    <a:pt x="371" y="1167"/>
                  </a:lnTo>
                  <a:lnTo>
                    <a:pt x="366" y="1162"/>
                  </a:lnTo>
                  <a:lnTo>
                    <a:pt x="361" y="1157"/>
                  </a:lnTo>
                  <a:lnTo>
                    <a:pt x="356" y="1157"/>
                  </a:lnTo>
                  <a:lnTo>
                    <a:pt x="346" y="1152"/>
                  </a:lnTo>
                  <a:lnTo>
                    <a:pt x="341" y="1147"/>
                  </a:lnTo>
                  <a:lnTo>
                    <a:pt x="336" y="1147"/>
                  </a:lnTo>
                  <a:lnTo>
                    <a:pt x="326" y="1142"/>
                  </a:lnTo>
                  <a:lnTo>
                    <a:pt x="321" y="1142"/>
                  </a:lnTo>
                  <a:lnTo>
                    <a:pt x="311" y="1142"/>
                  </a:lnTo>
                  <a:lnTo>
                    <a:pt x="301" y="1137"/>
                  </a:lnTo>
                  <a:lnTo>
                    <a:pt x="296" y="1137"/>
                  </a:lnTo>
                  <a:lnTo>
                    <a:pt x="286" y="1132"/>
                  </a:lnTo>
                  <a:lnTo>
                    <a:pt x="282" y="1132"/>
                  </a:lnTo>
                  <a:lnTo>
                    <a:pt x="272" y="1132"/>
                  </a:lnTo>
                  <a:lnTo>
                    <a:pt x="267" y="1127"/>
                  </a:lnTo>
                  <a:lnTo>
                    <a:pt x="257" y="1127"/>
                  </a:lnTo>
                  <a:lnTo>
                    <a:pt x="252" y="1122"/>
                  </a:lnTo>
                  <a:lnTo>
                    <a:pt x="242" y="1122"/>
                  </a:lnTo>
                  <a:lnTo>
                    <a:pt x="237" y="1122"/>
                  </a:lnTo>
                  <a:lnTo>
                    <a:pt x="227" y="1117"/>
                  </a:lnTo>
                  <a:lnTo>
                    <a:pt x="222" y="1117"/>
                  </a:lnTo>
                  <a:lnTo>
                    <a:pt x="212" y="1112"/>
                  </a:lnTo>
                  <a:lnTo>
                    <a:pt x="207" y="1112"/>
                  </a:lnTo>
                  <a:lnTo>
                    <a:pt x="197" y="1112"/>
                  </a:lnTo>
                  <a:lnTo>
                    <a:pt x="188" y="1107"/>
                  </a:lnTo>
                  <a:lnTo>
                    <a:pt x="183" y="1107"/>
                  </a:lnTo>
                  <a:lnTo>
                    <a:pt x="173" y="1103"/>
                  </a:lnTo>
                  <a:lnTo>
                    <a:pt x="168" y="1103"/>
                  </a:lnTo>
                  <a:lnTo>
                    <a:pt x="158" y="1103"/>
                  </a:lnTo>
                  <a:lnTo>
                    <a:pt x="153" y="1098"/>
                  </a:lnTo>
                  <a:lnTo>
                    <a:pt x="143" y="1098"/>
                  </a:lnTo>
                  <a:lnTo>
                    <a:pt x="138" y="1093"/>
                  </a:lnTo>
                  <a:lnTo>
                    <a:pt x="128" y="1093"/>
                  </a:lnTo>
                  <a:lnTo>
                    <a:pt x="123" y="1088"/>
                  </a:lnTo>
                  <a:lnTo>
                    <a:pt x="113" y="1088"/>
                  </a:lnTo>
                  <a:lnTo>
                    <a:pt x="108" y="1088"/>
                  </a:lnTo>
                  <a:lnTo>
                    <a:pt x="99" y="1083"/>
                  </a:lnTo>
                  <a:lnTo>
                    <a:pt x="89" y="1083"/>
                  </a:lnTo>
                  <a:lnTo>
                    <a:pt x="84" y="1083"/>
                  </a:lnTo>
                  <a:lnTo>
                    <a:pt x="74" y="1083"/>
                  </a:lnTo>
                  <a:lnTo>
                    <a:pt x="69" y="1078"/>
                  </a:lnTo>
                  <a:lnTo>
                    <a:pt x="59" y="1073"/>
                  </a:lnTo>
                  <a:lnTo>
                    <a:pt x="54" y="1073"/>
                  </a:lnTo>
                  <a:lnTo>
                    <a:pt x="44" y="1073"/>
                  </a:lnTo>
                  <a:lnTo>
                    <a:pt x="39" y="1073"/>
                  </a:lnTo>
                  <a:lnTo>
                    <a:pt x="39" y="1078"/>
                  </a:lnTo>
                  <a:lnTo>
                    <a:pt x="34" y="1088"/>
                  </a:lnTo>
                  <a:lnTo>
                    <a:pt x="29" y="1093"/>
                  </a:lnTo>
                  <a:lnTo>
                    <a:pt x="29" y="1098"/>
                  </a:lnTo>
                  <a:lnTo>
                    <a:pt x="29" y="1103"/>
                  </a:lnTo>
                  <a:lnTo>
                    <a:pt x="29" y="1107"/>
                  </a:lnTo>
                  <a:lnTo>
                    <a:pt x="29" y="1112"/>
                  </a:lnTo>
                  <a:lnTo>
                    <a:pt x="24" y="1117"/>
                  </a:lnTo>
                  <a:lnTo>
                    <a:pt x="24" y="1122"/>
                  </a:lnTo>
                  <a:lnTo>
                    <a:pt x="24" y="1127"/>
                  </a:lnTo>
                  <a:lnTo>
                    <a:pt x="24" y="1137"/>
                  </a:lnTo>
                  <a:lnTo>
                    <a:pt x="24" y="1142"/>
                  </a:lnTo>
                  <a:lnTo>
                    <a:pt x="24" y="1147"/>
                  </a:lnTo>
                  <a:lnTo>
                    <a:pt x="24" y="1152"/>
                  </a:lnTo>
                  <a:lnTo>
                    <a:pt x="19" y="1157"/>
                  </a:lnTo>
                  <a:lnTo>
                    <a:pt x="19" y="1162"/>
                  </a:lnTo>
                  <a:lnTo>
                    <a:pt x="19" y="1167"/>
                  </a:lnTo>
                  <a:lnTo>
                    <a:pt x="19" y="1172"/>
                  </a:lnTo>
                  <a:lnTo>
                    <a:pt x="19" y="1177"/>
                  </a:lnTo>
                  <a:lnTo>
                    <a:pt x="19" y="1182"/>
                  </a:lnTo>
                  <a:lnTo>
                    <a:pt x="14" y="1187"/>
                  </a:lnTo>
                  <a:lnTo>
                    <a:pt x="14" y="1192"/>
                  </a:lnTo>
                  <a:lnTo>
                    <a:pt x="14" y="1196"/>
                  </a:lnTo>
                  <a:lnTo>
                    <a:pt x="14" y="1201"/>
                  </a:lnTo>
                  <a:lnTo>
                    <a:pt x="14" y="1211"/>
                  </a:lnTo>
                  <a:lnTo>
                    <a:pt x="14" y="1216"/>
                  </a:lnTo>
                  <a:lnTo>
                    <a:pt x="10" y="1221"/>
                  </a:lnTo>
                  <a:lnTo>
                    <a:pt x="10" y="1226"/>
                  </a:lnTo>
                  <a:lnTo>
                    <a:pt x="10" y="1231"/>
                  </a:lnTo>
                  <a:lnTo>
                    <a:pt x="10" y="1236"/>
                  </a:lnTo>
                  <a:lnTo>
                    <a:pt x="10" y="1241"/>
                  </a:lnTo>
                  <a:lnTo>
                    <a:pt x="10" y="1246"/>
                  </a:lnTo>
                  <a:lnTo>
                    <a:pt x="10" y="1251"/>
                  </a:lnTo>
                  <a:lnTo>
                    <a:pt x="5" y="1256"/>
                  </a:lnTo>
                  <a:lnTo>
                    <a:pt x="5" y="1261"/>
                  </a:lnTo>
                  <a:lnTo>
                    <a:pt x="5" y="1266"/>
                  </a:lnTo>
                  <a:lnTo>
                    <a:pt x="5" y="1271"/>
                  </a:lnTo>
                  <a:lnTo>
                    <a:pt x="5" y="1276"/>
                  </a:lnTo>
                  <a:lnTo>
                    <a:pt x="5" y="1280"/>
                  </a:lnTo>
                  <a:lnTo>
                    <a:pt x="0" y="129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9" name=""/>
            <p:cNvSpPr/>
            <p:nvPr/>
          </p:nvSpPr>
          <p:spPr>
            <a:xfrm>
              <a:off x="4160520" y="4125960"/>
              <a:ext cx="24120" cy="39960"/>
            </a:xfrm>
            <a:custGeom>
              <a:avLst/>
              <a:gdLst/>
              <a:ahLst/>
              <a:rect l="l" t="t" r="r" b="b"/>
              <a:pathLst>
                <a:path w="15" h="25">
                  <a:moveTo>
                    <a:pt x="0" y="10"/>
                  </a:moveTo>
                  <a:lnTo>
                    <a:pt x="0" y="5"/>
                  </a:lnTo>
                  <a:lnTo>
                    <a:pt x="5" y="0"/>
                  </a:lnTo>
                  <a:lnTo>
                    <a:pt x="5" y="0"/>
                  </a:lnTo>
                  <a:lnTo>
                    <a:pt x="10" y="5"/>
                  </a:lnTo>
                  <a:lnTo>
                    <a:pt x="15" y="10"/>
                  </a:lnTo>
                  <a:lnTo>
                    <a:pt x="15" y="15"/>
                  </a:lnTo>
                  <a:lnTo>
                    <a:pt x="15" y="20"/>
                  </a:lnTo>
                  <a:lnTo>
                    <a:pt x="10" y="20"/>
                  </a:lnTo>
                  <a:lnTo>
                    <a:pt x="5" y="25"/>
                  </a:lnTo>
                  <a:lnTo>
                    <a:pt x="5" y="25"/>
                  </a:lnTo>
                  <a:lnTo>
                    <a:pt x="0" y="25"/>
                  </a:lnTo>
                  <a:lnTo>
                    <a:pt x="0" y="20"/>
                  </a:lnTo>
                  <a:lnTo>
                    <a:pt x="0" y="15"/>
                  </a:lnTo>
                  <a:lnTo>
                    <a:pt x="0" y="1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0" name=""/>
            <p:cNvSpPr/>
            <p:nvPr/>
          </p:nvSpPr>
          <p:spPr>
            <a:xfrm>
              <a:off x="3273120" y="4000680"/>
              <a:ext cx="32040" cy="47520"/>
            </a:xfrm>
            <a:custGeom>
              <a:avLst/>
              <a:gdLst/>
              <a:ahLst/>
              <a:rect l="l" t="t" r="r" b="b"/>
              <a:pathLst>
                <a:path w="20" h="30">
                  <a:moveTo>
                    <a:pt x="20" y="10"/>
                  </a:moveTo>
                  <a:lnTo>
                    <a:pt x="15" y="0"/>
                  </a:lnTo>
                  <a:lnTo>
                    <a:pt x="10" y="0"/>
                  </a:lnTo>
                  <a:lnTo>
                    <a:pt x="5" y="0"/>
                  </a:lnTo>
                  <a:lnTo>
                    <a:pt x="0" y="5"/>
                  </a:lnTo>
                  <a:lnTo>
                    <a:pt x="0" y="10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5" y="30"/>
                  </a:lnTo>
                  <a:lnTo>
                    <a:pt x="5" y="30"/>
                  </a:lnTo>
                  <a:lnTo>
                    <a:pt x="10" y="30"/>
                  </a:lnTo>
                  <a:lnTo>
                    <a:pt x="15" y="25"/>
                  </a:lnTo>
                  <a:lnTo>
                    <a:pt x="20" y="15"/>
                  </a:lnTo>
                  <a:lnTo>
                    <a:pt x="20" y="1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1" name=""/>
            <p:cNvSpPr/>
            <p:nvPr/>
          </p:nvSpPr>
          <p:spPr>
            <a:xfrm>
              <a:off x="3265200" y="3648240"/>
              <a:ext cx="23760" cy="77760"/>
            </a:xfrm>
            <a:custGeom>
              <a:avLst/>
              <a:gdLst/>
              <a:ahLst/>
              <a:rect l="l" t="t" r="r" b="b"/>
              <a:pathLst>
                <a:path w="15" h="49">
                  <a:moveTo>
                    <a:pt x="10" y="44"/>
                  </a:moveTo>
                  <a:lnTo>
                    <a:pt x="10" y="39"/>
                  </a:lnTo>
                  <a:lnTo>
                    <a:pt x="10" y="35"/>
                  </a:lnTo>
                  <a:lnTo>
                    <a:pt x="15" y="30"/>
                  </a:lnTo>
                  <a:lnTo>
                    <a:pt x="15" y="25"/>
                  </a:lnTo>
                  <a:lnTo>
                    <a:pt x="15" y="20"/>
                  </a:lnTo>
                  <a:lnTo>
                    <a:pt x="10" y="15"/>
                  </a:lnTo>
                  <a:lnTo>
                    <a:pt x="10" y="5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5" y="5"/>
                  </a:lnTo>
                  <a:lnTo>
                    <a:pt x="5" y="10"/>
                  </a:lnTo>
                  <a:lnTo>
                    <a:pt x="5" y="20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5" y="30"/>
                  </a:lnTo>
                  <a:lnTo>
                    <a:pt x="5" y="35"/>
                  </a:lnTo>
                  <a:lnTo>
                    <a:pt x="5" y="44"/>
                  </a:lnTo>
                  <a:lnTo>
                    <a:pt x="10" y="49"/>
                  </a:lnTo>
                  <a:lnTo>
                    <a:pt x="10" y="49"/>
                  </a:lnTo>
                  <a:lnTo>
                    <a:pt x="10" y="4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2" name=""/>
            <p:cNvSpPr/>
            <p:nvPr/>
          </p:nvSpPr>
          <p:spPr>
            <a:xfrm>
              <a:off x="5213160" y="3114720"/>
              <a:ext cx="336600" cy="573120"/>
            </a:xfrm>
            <a:custGeom>
              <a:avLst/>
              <a:gdLst/>
              <a:ahLst/>
              <a:rect l="l" t="t" r="r" b="b"/>
              <a:pathLst>
                <a:path w="212" h="361">
                  <a:moveTo>
                    <a:pt x="0" y="351"/>
                  </a:moveTo>
                  <a:lnTo>
                    <a:pt x="5" y="346"/>
                  </a:lnTo>
                  <a:lnTo>
                    <a:pt x="10" y="341"/>
                  </a:lnTo>
                  <a:lnTo>
                    <a:pt x="15" y="336"/>
                  </a:lnTo>
                  <a:lnTo>
                    <a:pt x="15" y="331"/>
                  </a:lnTo>
                  <a:lnTo>
                    <a:pt x="19" y="326"/>
                  </a:lnTo>
                  <a:lnTo>
                    <a:pt x="24" y="321"/>
                  </a:lnTo>
                  <a:lnTo>
                    <a:pt x="29" y="316"/>
                  </a:lnTo>
                  <a:lnTo>
                    <a:pt x="34" y="311"/>
                  </a:lnTo>
                  <a:lnTo>
                    <a:pt x="39" y="306"/>
                  </a:lnTo>
                  <a:lnTo>
                    <a:pt x="39" y="301"/>
                  </a:lnTo>
                  <a:lnTo>
                    <a:pt x="44" y="296"/>
                  </a:lnTo>
                  <a:lnTo>
                    <a:pt x="49" y="291"/>
                  </a:lnTo>
                  <a:lnTo>
                    <a:pt x="54" y="287"/>
                  </a:lnTo>
                  <a:lnTo>
                    <a:pt x="59" y="282"/>
                  </a:lnTo>
                  <a:lnTo>
                    <a:pt x="64" y="277"/>
                  </a:lnTo>
                  <a:lnTo>
                    <a:pt x="69" y="267"/>
                  </a:lnTo>
                  <a:lnTo>
                    <a:pt x="74" y="262"/>
                  </a:lnTo>
                  <a:lnTo>
                    <a:pt x="79" y="257"/>
                  </a:lnTo>
                  <a:lnTo>
                    <a:pt x="84" y="252"/>
                  </a:lnTo>
                  <a:lnTo>
                    <a:pt x="84" y="247"/>
                  </a:lnTo>
                  <a:lnTo>
                    <a:pt x="84" y="242"/>
                  </a:lnTo>
                  <a:lnTo>
                    <a:pt x="79" y="237"/>
                  </a:lnTo>
                  <a:lnTo>
                    <a:pt x="74" y="232"/>
                  </a:lnTo>
                  <a:lnTo>
                    <a:pt x="69" y="227"/>
                  </a:lnTo>
                  <a:lnTo>
                    <a:pt x="64" y="222"/>
                  </a:lnTo>
                  <a:lnTo>
                    <a:pt x="64" y="217"/>
                  </a:lnTo>
                  <a:lnTo>
                    <a:pt x="64" y="212"/>
                  </a:lnTo>
                  <a:lnTo>
                    <a:pt x="64" y="202"/>
                  </a:lnTo>
                  <a:lnTo>
                    <a:pt x="69" y="198"/>
                  </a:lnTo>
                  <a:lnTo>
                    <a:pt x="74" y="193"/>
                  </a:lnTo>
                  <a:lnTo>
                    <a:pt x="74" y="188"/>
                  </a:lnTo>
                  <a:lnTo>
                    <a:pt x="79" y="183"/>
                  </a:lnTo>
                  <a:lnTo>
                    <a:pt x="79" y="178"/>
                  </a:lnTo>
                  <a:lnTo>
                    <a:pt x="84" y="173"/>
                  </a:lnTo>
                  <a:lnTo>
                    <a:pt x="84" y="163"/>
                  </a:lnTo>
                  <a:lnTo>
                    <a:pt x="89" y="158"/>
                  </a:lnTo>
                  <a:lnTo>
                    <a:pt x="94" y="153"/>
                  </a:lnTo>
                  <a:lnTo>
                    <a:pt x="99" y="148"/>
                  </a:lnTo>
                  <a:lnTo>
                    <a:pt x="104" y="143"/>
                  </a:lnTo>
                  <a:lnTo>
                    <a:pt x="108" y="143"/>
                  </a:lnTo>
                  <a:lnTo>
                    <a:pt x="118" y="138"/>
                  </a:lnTo>
                  <a:lnTo>
                    <a:pt x="128" y="138"/>
                  </a:lnTo>
                  <a:lnTo>
                    <a:pt x="133" y="133"/>
                  </a:lnTo>
                  <a:lnTo>
                    <a:pt x="138" y="128"/>
                  </a:lnTo>
                  <a:lnTo>
                    <a:pt x="138" y="123"/>
                  </a:lnTo>
                  <a:lnTo>
                    <a:pt x="143" y="118"/>
                  </a:lnTo>
                  <a:lnTo>
                    <a:pt x="143" y="109"/>
                  </a:lnTo>
                  <a:lnTo>
                    <a:pt x="143" y="104"/>
                  </a:lnTo>
                  <a:lnTo>
                    <a:pt x="143" y="99"/>
                  </a:lnTo>
                  <a:lnTo>
                    <a:pt x="143" y="94"/>
                  </a:lnTo>
                  <a:lnTo>
                    <a:pt x="143" y="89"/>
                  </a:lnTo>
                  <a:lnTo>
                    <a:pt x="143" y="79"/>
                  </a:lnTo>
                  <a:lnTo>
                    <a:pt x="138" y="74"/>
                  </a:lnTo>
                  <a:lnTo>
                    <a:pt x="138" y="69"/>
                  </a:lnTo>
                  <a:lnTo>
                    <a:pt x="138" y="64"/>
                  </a:lnTo>
                  <a:lnTo>
                    <a:pt x="138" y="59"/>
                  </a:lnTo>
                  <a:lnTo>
                    <a:pt x="138" y="54"/>
                  </a:lnTo>
                  <a:lnTo>
                    <a:pt x="138" y="44"/>
                  </a:lnTo>
                  <a:lnTo>
                    <a:pt x="138" y="39"/>
                  </a:lnTo>
                  <a:lnTo>
                    <a:pt x="138" y="34"/>
                  </a:lnTo>
                  <a:lnTo>
                    <a:pt x="133" y="29"/>
                  </a:lnTo>
                  <a:lnTo>
                    <a:pt x="133" y="25"/>
                  </a:lnTo>
                  <a:lnTo>
                    <a:pt x="133" y="15"/>
                  </a:lnTo>
                  <a:lnTo>
                    <a:pt x="133" y="10"/>
                  </a:lnTo>
                  <a:lnTo>
                    <a:pt x="133" y="5"/>
                  </a:lnTo>
                  <a:lnTo>
                    <a:pt x="138" y="0"/>
                  </a:lnTo>
                  <a:lnTo>
                    <a:pt x="148" y="0"/>
                  </a:lnTo>
                  <a:lnTo>
                    <a:pt x="158" y="5"/>
                  </a:lnTo>
                  <a:lnTo>
                    <a:pt x="163" y="10"/>
                  </a:lnTo>
                  <a:lnTo>
                    <a:pt x="168" y="15"/>
                  </a:lnTo>
                  <a:lnTo>
                    <a:pt x="173" y="20"/>
                  </a:lnTo>
                  <a:lnTo>
                    <a:pt x="178" y="25"/>
                  </a:lnTo>
                  <a:lnTo>
                    <a:pt x="188" y="25"/>
                  </a:lnTo>
                  <a:lnTo>
                    <a:pt x="197" y="29"/>
                  </a:lnTo>
                  <a:lnTo>
                    <a:pt x="207" y="29"/>
                  </a:lnTo>
                  <a:lnTo>
                    <a:pt x="212" y="34"/>
                  </a:lnTo>
                  <a:lnTo>
                    <a:pt x="212" y="39"/>
                  </a:lnTo>
                  <a:lnTo>
                    <a:pt x="207" y="44"/>
                  </a:lnTo>
                  <a:lnTo>
                    <a:pt x="202" y="49"/>
                  </a:lnTo>
                  <a:lnTo>
                    <a:pt x="197" y="59"/>
                  </a:lnTo>
                  <a:lnTo>
                    <a:pt x="188" y="64"/>
                  </a:lnTo>
                  <a:lnTo>
                    <a:pt x="188" y="69"/>
                  </a:lnTo>
                  <a:lnTo>
                    <a:pt x="183" y="74"/>
                  </a:lnTo>
                  <a:lnTo>
                    <a:pt x="183" y="79"/>
                  </a:lnTo>
                  <a:lnTo>
                    <a:pt x="183" y="84"/>
                  </a:lnTo>
                  <a:lnTo>
                    <a:pt x="183" y="89"/>
                  </a:lnTo>
                  <a:lnTo>
                    <a:pt x="178" y="99"/>
                  </a:lnTo>
                  <a:lnTo>
                    <a:pt x="178" y="104"/>
                  </a:lnTo>
                  <a:lnTo>
                    <a:pt x="178" y="109"/>
                  </a:lnTo>
                  <a:lnTo>
                    <a:pt x="178" y="114"/>
                  </a:lnTo>
                  <a:lnTo>
                    <a:pt x="178" y="118"/>
                  </a:lnTo>
                  <a:lnTo>
                    <a:pt x="178" y="128"/>
                  </a:lnTo>
                  <a:lnTo>
                    <a:pt x="178" y="133"/>
                  </a:lnTo>
                  <a:lnTo>
                    <a:pt x="178" y="138"/>
                  </a:lnTo>
                  <a:lnTo>
                    <a:pt x="178" y="143"/>
                  </a:lnTo>
                  <a:lnTo>
                    <a:pt x="178" y="148"/>
                  </a:lnTo>
                  <a:lnTo>
                    <a:pt x="183" y="153"/>
                  </a:lnTo>
                  <a:lnTo>
                    <a:pt x="183" y="163"/>
                  </a:lnTo>
                  <a:lnTo>
                    <a:pt x="183" y="168"/>
                  </a:lnTo>
                  <a:lnTo>
                    <a:pt x="183" y="173"/>
                  </a:lnTo>
                  <a:lnTo>
                    <a:pt x="183" y="178"/>
                  </a:lnTo>
                  <a:lnTo>
                    <a:pt x="183" y="183"/>
                  </a:lnTo>
                  <a:lnTo>
                    <a:pt x="183" y="193"/>
                  </a:lnTo>
                  <a:lnTo>
                    <a:pt x="183" y="198"/>
                  </a:lnTo>
                  <a:lnTo>
                    <a:pt x="183" y="202"/>
                  </a:lnTo>
                  <a:lnTo>
                    <a:pt x="183" y="207"/>
                  </a:lnTo>
                  <a:lnTo>
                    <a:pt x="188" y="212"/>
                  </a:lnTo>
                  <a:lnTo>
                    <a:pt x="188" y="217"/>
                  </a:lnTo>
                  <a:lnTo>
                    <a:pt x="193" y="227"/>
                  </a:lnTo>
                  <a:lnTo>
                    <a:pt x="197" y="232"/>
                  </a:lnTo>
                  <a:lnTo>
                    <a:pt x="197" y="237"/>
                  </a:lnTo>
                  <a:lnTo>
                    <a:pt x="197" y="242"/>
                  </a:lnTo>
                  <a:lnTo>
                    <a:pt x="197" y="247"/>
                  </a:lnTo>
                  <a:lnTo>
                    <a:pt x="197" y="252"/>
                  </a:lnTo>
                  <a:lnTo>
                    <a:pt x="193" y="257"/>
                  </a:lnTo>
                  <a:lnTo>
                    <a:pt x="188" y="262"/>
                  </a:lnTo>
                  <a:lnTo>
                    <a:pt x="183" y="267"/>
                  </a:lnTo>
                  <a:lnTo>
                    <a:pt x="178" y="272"/>
                  </a:lnTo>
                  <a:lnTo>
                    <a:pt x="173" y="277"/>
                  </a:lnTo>
                  <a:lnTo>
                    <a:pt x="168" y="282"/>
                  </a:lnTo>
                  <a:lnTo>
                    <a:pt x="163" y="287"/>
                  </a:lnTo>
                  <a:lnTo>
                    <a:pt x="163" y="296"/>
                  </a:lnTo>
                  <a:lnTo>
                    <a:pt x="163" y="301"/>
                  </a:lnTo>
                  <a:lnTo>
                    <a:pt x="168" y="306"/>
                  </a:lnTo>
                  <a:lnTo>
                    <a:pt x="168" y="311"/>
                  </a:lnTo>
                  <a:lnTo>
                    <a:pt x="173" y="316"/>
                  </a:lnTo>
                  <a:lnTo>
                    <a:pt x="173" y="321"/>
                  </a:lnTo>
                  <a:lnTo>
                    <a:pt x="178" y="326"/>
                  </a:lnTo>
                  <a:lnTo>
                    <a:pt x="173" y="336"/>
                  </a:lnTo>
                  <a:lnTo>
                    <a:pt x="173" y="341"/>
                  </a:lnTo>
                  <a:lnTo>
                    <a:pt x="173" y="346"/>
                  </a:lnTo>
                  <a:lnTo>
                    <a:pt x="168" y="351"/>
                  </a:lnTo>
                  <a:lnTo>
                    <a:pt x="163" y="356"/>
                  </a:lnTo>
                  <a:lnTo>
                    <a:pt x="158" y="356"/>
                  </a:lnTo>
                  <a:lnTo>
                    <a:pt x="148" y="356"/>
                  </a:lnTo>
                  <a:lnTo>
                    <a:pt x="133" y="356"/>
                  </a:lnTo>
                  <a:lnTo>
                    <a:pt x="128" y="356"/>
                  </a:lnTo>
                  <a:lnTo>
                    <a:pt x="118" y="356"/>
                  </a:lnTo>
                  <a:lnTo>
                    <a:pt x="108" y="356"/>
                  </a:lnTo>
                  <a:lnTo>
                    <a:pt x="99" y="356"/>
                  </a:lnTo>
                  <a:lnTo>
                    <a:pt x="89" y="356"/>
                  </a:lnTo>
                  <a:lnTo>
                    <a:pt x="84" y="361"/>
                  </a:lnTo>
                  <a:lnTo>
                    <a:pt x="74" y="361"/>
                  </a:lnTo>
                  <a:lnTo>
                    <a:pt x="64" y="361"/>
                  </a:lnTo>
                  <a:lnTo>
                    <a:pt x="54" y="361"/>
                  </a:lnTo>
                  <a:lnTo>
                    <a:pt x="44" y="361"/>
                  </a:lnTo>
                  <a:lnTo>
                    <a:pt x="39" y="361"/>
                  </a:lnTo>
                  <a:lnTo>
                    <a:pt x="29" y="361"/>
                  </a:lnTo>
                  <a:lnTo>
                    <a:pt x="19" y="361"/>
                  </a:lnTo>
                  <a:lnTo>
                    <a:pt x="10" y="361"/>
                  </a:lnTo>
                  <a:lnTo>
                    <a:pt x="5" y="361"/>
                  </a:lnTo>
                  <a:lnTo>
                    <a:pt x="0" y="35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3" name=""/>
            <p:cNvSpPr/>
            <p:nvPr/>
          </p:nvSpPr>
          <p:spPr>
            <a:xfrm>
              <a:off x="2857320" y="3538800"/>
              <a:ext cx="109440" cy="109440"/>
            </a:xfrm>
            <a:custGeom>
              <a:avLst/>
              <a:gdLst/>
              <a:ahLst/>
              <a:rect l="l" t="t" r="r" b="b"/>
              <a:pathLst>
                <a:path w="69" h="69">
                  <a:moveTo>
                    <a:pt x="40" y="59"/>
                  </a:moveTo>
                  <a:lnTo>
                    <a:pt x="40" y="54"/>
                  </a:lnTo>
                  <a:lnTo>
                    <a:pt x="40" y="44"/>
                  </a:lnTo>
                  <a:lnTo>
                    <a:pt x="45" y="39"/>
                  </a:lnTo>
                  <a:lnTo>
                    <a:pt x="45" y="39"/>
                  </a:lnTo>
                  <a:lnTo>
                    <a:pt x="49" y="34"/>
                  </a:lnTo>
                  <a:lnTo>
                    <a:pt x="54" y="34"/>
                  </a:lnTo>
                  <a:lnTo>
                    <a:pt x="59" y="29"/>
                  </a:lnTo>
                  <a:lnTo>
                    <a:pt x="64" y="29"/>
                  </a:lnTo>
                  <a:lnTo>
                    <a:pt x="64" y="24"/>
                  </a:lnTo>
                  <a:lnTo>
                    <a:pt x="69" y="20"/>
                  </a:lnTo>
                  <a:lnTo>
                    <a:pt x="69" y="15"/>
                  </a:lnTo>
                  <a:lnTo>
                    <a:pt x="64" y="10"/>
                  </a:lnTo>
                  <a:lnTo>
                    <a:pt x="59" y="5"/>
                  </a:lnTo>
                  <a:lnTo>
                    <a:pt x="54" y="0"/>
                  </a:lnTo>
                  <a:lnTo>
                    <a:pt x="49" y="0"/>
                  </a:lnTo>
                  <a:lnTo>
                    <a:pt x="49" y="5"/>
                  </a:lnTo>
                  <a:lnTo>
                    <a:pt x="45" y="10"/>
                  </a:lnTo>
                  <a:lnTo>
                    <a:pt x="40" y="10"/>
                  </a:lnTo>
                  <a:lnTo>
                    <a:pt x="35" y="15"/>
                  </a:lnTo>
                  <a:lnTo>
                    <a:pt x="30" y="15"/>
                  </a:lnTo>
                  <a:lnTo>
                    <a:pt x="20" y="20"/>
                  </a:lnTo>
                  <a:lnTo>
                    <a:pt x="15" y="20"/>
                  </a:lnTo>
                  <a:lnTo>
                    <a:pt x="10" y="24"/>
                  </a:lnTo>
                  <a:lnTo>
                    <a:pt x="5" y="24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5" y="44"/>
                  </a:lnTo>
                  <a:lnTo>
                    <a:pt x="5" y="49"/>
                  </a:lnTo>
                  <a:lnTo>
                    <a:pt x="5" y="49"/>
                  </a:lnTo>
                  <a:lnTo>
                    <a:pt x="10" y="54"/>
                  </a:lnTo>
                  <a:lnTo>
                    <a:pt x="10" y="59"/>
                  </a:lnTo>
                  <a:lnTo>
                    <a:pt x="15" y="64"/>
                  </a:lnTo>
                  <a:lnTo>
                    <a:pt x="20" y="69"/>
                  </a:lnTo>
                  <a:lnTo>
                    <a:pt x="25" y="69"/>
                  </a:lnTo>
                  <a:lnTo>
                    <a:pt x="30" y="69"/>
                  </a:lnTo>
                  <a:lnTo>
                    <a:pt x="35" y="64"/>
                  </a:lnTo>
                  <a:lnTo>
                    <a:pt x="40" y="5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4" name=""/>
            <p:cNvSpPr/>
            <p:nvPr/>
          </p:nvSpPr>
          <p:spPr>
            <a:xfrm>
              <a:off x="4670280" y="36244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5"/>
                  </a:moveTo>
                  <a:lnTo>
                    <a:pt x="0" y="5"/>
                  </a:lnTo>
                  <a:lnTo>
                    <a:pt x="0" y="5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5" name=""/>
            <p:cNvSpPr/>
            <p:nvPr/>
          </p:nvSpPr>
          <p:spPr>
            <a:xfrm>
              <a:off x="4373280" y="3083040"/>
              <a:ext cx="304920" cy="533520"/>
            </a:xfrm>
            <a:custGeom>
              <a:avLst/>
              <a:gdLst/>
              <a:ahLst/>
              <a:rect l="l" t="t" r="r" b="b"/>
              <a:pathLst>
                <a:path w="192" h="336">
                  <a:moveTo>
                    <a:pt x="93" y="321"/>
                  </a:moveTo>
                  <a:lnTo>
                    <a:pt x="93" y="311"/>
                  </a:lnTo>
                  <a:lnTo>
                    <a:pt x="93" y="307"/>
                  </a:lnTo>
                  <a:lnTo>
                    <a:pt x="93" y="302"/>
                  </a:lnTo>
                  <a:lnTo>
                    <a:pt x="93" y="297"/>
                  </a:lnTo>
                  <a:lnTo>
                    <a:pt x="93" y="292"/>
                  </a:lnTo>
                  <a:lnTo>
                    <a:pt x="93" y="282"/>
                  </a:lnTo>
                  <a:lnTo>
                    <a:pt x="93" y="277"/>
                  </a:lnTo>
                  <a:lnTo>
                    <a:pt x="93" y="272"/>
                  </a:lnTo>
                  <a:lnTo>
                    <a:pt x="93" y="267"/>
                  </a:lnTo>
                  <a:lnTo>
                    <a:pt x="93" y="257"/>
                  </a:lnTo>
                  <a:lnTo>
                    <a:pt x="93" y="252"/>
                  </a:lnTo>
                  <a:lnTo>
                    <a:pt x="93" y="247"/>
                  </a:lnTo>
                  <a:lnTo>
                    <a:pt x="93" y="242"/>
                  </a:lnTo>
                  <a:lnTo>
                    <a:pt x="98" y="237"/>
                  </a:lnTo>
                  <a:lnTo>
                    <a:pt x="103" y="232"/>
                  </a:lnTo>
                  <a:lnTo>
                    <a:pt x="108" y="227"/>
                  </a:lnTo>
                  <a:lnTo>
                    <a:pt x="113" y="222"/>
                  </a:lnTo>
                  <a:lnTo>
                    <a:pt x="118" y="213"/>
                  </a:lnTo>
                  <a:lnTo>
                    <a:pt x="118" y="208"/>
                  </a:lnTo>
                  <a:lnTo>
                    <a:pt x="118" y="203"/>
                  </a:lnTo>
                  <a:lnTo>
                    <a:pt x="123" y="198"/>
                  </a:lnTo>
                  <a:lnTo>
                    <a:pt x="123" y="193"/>
                  </a:lnTo>
                  <a:lnTo>
                    <a:pt x="123" y="183"/>
                  </a:lnTo>
                  <a:lnTo>
                    <a:pt x="123" y="178"/>
                  </a:lnTo>
                  <a:lnTo>
                    <a:pt x="123" y="173"/>
                  </a:lnTo>
                  <a:lnTo>
                    <a:pt x="128" y="168"/>
                  </a:lnTo>
                  <a:lnTo>
                    <a:pt x="128" y="163"/>
                  </a:lnTo>
                  <a:lnTo>
                    <a:pt x="128" y="153"/>
                  </a:lnTo>
                  <a:lnTo>
                    <a:pt x="128" y="148"/>
                  </a:lnTo>
                  <a:lnTo>
                    <a:pt x="128" y="143"/>
                  </a:lnTo>
                  <a:lnTo>
                    <a:pt x="133" y="138"/>
                  </a:lnTo>
                  <a:lnTo>
                    <a:pt x="133" y="134"/>
                  </a:lnTo>
                  <a:lnTo>
                    <a:pt x="138" y="124"/>
                  </a:lnTo>
                  <a:lnTo>
                    <a:pt x="143" y="119"/>
                  </a:lnTo>
                  <a:lnTo>
                    <a:pt x="148" y="114"/>
                  </a:lnTo>
                  <a:lnTo>
                    <a:pt x="148" y="109"/>
                  </a:lnTo>
                  <a:lnTo>
                    <a:pt x="153" y="104"/>
                  </a:lnTo>
                  <a:lnTo>
                    <a:pt x="158" y="99"/>
                  </a:lnTo>
                  <a:lnTo>
                    <a:pt x="158" y="94"/>
                  </a:lnTo>
                  <a:lnTo>
                    <a:pt x="158" y="84"/>
                  </a:lnTo>
                  <a:lnTo>
                    <a:pt x="163" y="79"/>
                  </a:lnTo>
                  <a:lnTo>
                    <a:pt x="168" y="79"/>
                  </a:lnTo>
                  <a:lnTo>
                    <a:pt x="173" y="69"/>
                  </a:lnTo>
                  <a:lnTo>
                    <a:pt x="178" y="64"/>
                  </a:lnTo>
                  <a:lnTo>
                    <a:pt x="178" y="59"/>
                  </a:lnTo>
                  <a:lnTo>
                    <a:pt x="182" y="54"/>
                  </a:lnTo>
                  <a:lnTo>
                    <a:pt x="182" y="49"/>
                  </a:lnTo>
                  <a:lnTo>
                    <a:pt x="187" y="45"/>
                  </a:lnTo>
                  <a:lnTo>
                    <a:pt x="187" y="35"/>
                  </a:lnTo>
                  <a:lnTo>
                    <a:pt x="192" y="30"/>
                  </a:lnTo>
                  <a:lnTo>
                    <a:pt x="192" y="25"/>
                  </a:lnTo>
                  <a:lnTo>
                    <a:pt x="192" y="20"/>
                  </a:lnTo>
                  <a:lnTo>
                    <a:pt x="187" y="15"/>
                  </a:lnTo>
                  <a:lnTo>
                    <a:pt x="178" y="5"/>
                  </a:lnTo>
                  <a:lnTo>
                    <a:pt x="173" y="5"/>
                  </a:lnTo>
                  <a:lnTo>
                    <a:pt x="163" y="0"/>
                  </a:lnTo>
                  <a:lnTo>
                    <a:pt x="158" y="0"/>
                  </a:lnTo>
                  <a:lnTo>
                    <a:pt x="153" y="5"/>
                  </a:lnTo>
                  <a:lnTo>
                    <a:pt x="143" y="10"/>
                  </a:lnTo>
                  <a:lnTo>
                    <a:pt x="138" y="15"/>
                  </a:lnTo>
                  <a:lnTo>
                    <a:pt x="128" y="20"/>
                  </a:lnTo>
                  <a:lnTo>
                    <a:pt x="123" y="25"/>
                  </a:lnTo>
                  <a:lnTo>
                    <a:pt x="113" y="25"/>
                  </a:lnTo>
                  <a:lnTo>
                    <a:pt x="108" y="30"/>
                  </a:lnTo>
                  <a:lnTo>
                    <a:pt x="103" y="35"/>
                  </a:lnTo>
                  <a:lnTo>
                    <a:pt x="98" y="40"/>
                  </a:lnTo>
                  <a:lnTo>
                    <a:pt x="93" y="45"/>
                  </a:lnTo>
                  <a:lnTo>
                    <a:pt x="89" y="49"/>
                  </a:lnTo>
                  <a:lnTo>
                    <a:pt x="84" y="54"/>
                  </a:lnTo>
                  <a:lnTo>
                    <a:pt x="84" y="64"/>
                  </a:lnTo>
                  <a:lnTo>
                    <a:pt x="79" y="69"/>
                  </a:lnTo>
                  <a:lnTo>
                    <a:pt x="79" y="74"/>
                  </a:lnTo>
                  <a:lnTo>
                    <a:pt x="74" y="79"/>
                  </a:lnTo>
                  <a:lnTo>
                    <a:pt x="74" y="89"/>
                  </a:lnTo>
                  <a:lnTo>
                    <a:pt x="69" y="94"/>
                  </a:lnTo>
                  <a:lnTo>
                    <a:pt x="64" y="99"/>
                  </a:lnTo>
                  <a:lnTo>
                    <a:pt x="54" y="99"/>
                  </a:lnTo>
                  <a:lnTo>
                    <a:pt x="44" y="99"/>
                  </a:lnTo>
                  <a:lnTo>
                    <a:pt x="34" y="99"/>
                  </a:lnTo>
                  <a:lnTo>
                    <a:pt x="29" y="104"/>
                  </a:lnTo>
                  <a:lnTo>
                    <a:pt x="24" y="109"/>
                  </a:lnTo>
                  <a:lnTo>
                    <a:pt x="19" y="114"/>
                  </a:lnTo>
                  <a:lnTo>
                    <a:pt x="19" y="119"/>
                  </a:lnTo>
                  <a:lnTo>
                    <a:pt x="14" y="124"/>
                  </a:lnTo>
                  <a:lnTo>
                    <a:pt x="14" y="129"/>
                  </a:lnTo>
                  <a:lnTo>
                    <a:pt x="9" y="134"/>
                  </a:lnTo>
                  <a:lnTo>
                    <a:pt x="9" y="143"/>
                  </a:lnTo>
                  <a:lnTo>
                    <a:pt x="9" y="148"/>
                  </a:lnTo>
                  <a:lnTo>
                    <a:pt x="9" y="153"/>
                  </a:lnTo>
                  <a:lnTo>
                    <a:pt x="9" y="158"/>
                  </a:lnTo>
                  <a:lnTo>
                    <a:pt x="4" y="168"/>
                  </a:lnTo>
                  <a:lnTo>
                    <a:pt x="4" y="173"/>
                  </a:lnTo>
                  <a:lnTo>
                    <a:pt x="4" y="178"/>
                  </a:lnTo>
                  <a:lnTo>
                    <a:pt x="4" y="183"/>
                  </a:lnTo>
                  <a:lnTo>
                    <a:pt x="0" y="188"/>
                  </a:lnTo>
                  <a:lnTo>
                    <a:pt x="0" y="198"/>
                  </a:lnTo>
                  <a:lnTo>
                    <a:pt x="0" y="203"/>
                  </a:lnTo>
                  <a:lnTo>
                    <a:pt x="0" y="208"/>
                  </a:lnTo>
                  <a:lnTo>
                    <a:pt x="0" y="213"/>
                  </a:lnTo>
                  <a:lnTo>
                    <a:pt x="0" y="218"/>
                  </a:lnTo>
                  <a:lnTo>
                    <a:pt x="0" y="222"/>
                  </a:lnTo>
                  <a:lnTo>
                    <a:pt x="0" y="232"/>
                  </a:lnTo>
                  <a:lnTo>
                    <a:pt x="0" y="237"/>
                  </a:lnTo>
                  <a:lnTo>
                    <a:pt x="4" y="242"/>
                  </a:lnTo>
                  <a:lnTo>
                    <a:pt x="9" y="247"/>
                  </a:lnTo>
                  <a:lnTo>
                    <a:pt x="19" y="242"/>
                  </a:lnTo>
                  <a:lnTo>
                    <a:pt x="29" y="242"/>
                  </a:lnTo>
                  <a:lnTo>
                    <a:pt x="34" y="237"/>
                  </a:lnTo>
                  <a:lnTo>
                    <a:pt x="44" y="232"/>
                  </a:lnTo>
                  <a:lnTo>
                    <a:pt x="49" y="227"/>
                  </a:lnTo>
                  <a:lnTo>
                    <a:pt x="59" y="227"/>
                  </a:lnTo>
                  <a:lnTo>
                    <a:pt x="64" y="232"/>
                  </a:lnTo>
                  <a:lnTo>
                    <a:pt x="69" y="237"/>
                  </a:lnTo>
                  <a:lnTo>
                    <a:pt x="69" y="242"/>
                  </a:lnTo>
                  <a:lnTo>
                    <a:pt x="69" y="247"/>
                  </a:lnTo>
                  <a:lnTo>
                    <a:pt x="59" y="252"/>
                  </a:lnTo>
                  <a:lnTo>
                    <a:pt x="54" y="257"/>
                  </a:lnTo>
                  <a:lnTo>
                    <a:pt x="49" y="267"/>
                  </a:lnTo>
                  <a:lnTo>
                    <a:pt x="59" y="272"/>
                  </a:lnTo>
                  <a:lnTo>
                    <a:pt x="64" y="277"/>
                  </a:lnTo>
                  <a:lnTo>
                    <a:pt x="69" y="282"/>
                  </a:lnTo>
                  <a:lnTo>
                    <a:pt x="69" y="287"/>
                  </a:lnTo>
                  <a:lnTo>
                    <a:pt x="74" y="292"/>
                  </a:lnTo>
                  <a:lnTo>
                    <a:pt x="74" y="297"/>
                  </a:lnTo>
                  <a:lnTo>
                    <a:pt x="74" y="302"/>
                  </a:lnTo>
                  <a:lnTo>
                    <a:pt x="74" y="307"/>
                  </a:lnTo>
                  <a:lnTo>
                    <a:pt x="79" y="316"/>
                  </a:lnTo>
                  <a:lnTo>
                    <a:pt x="79" y="321"/>
                  </a:lnTo>
                  <a:lnTo>
                    <a:pt x="79" y="331"/>
                  </a:lnTo>
                  <a:lnTo>
                    <a:pt x="84" y="336"/>
                  </a:lnTo>
                  <a:lnTo>
                    <a:pt x="84" y="336"/>
                  </a:lnTo>
                  <a:lnTo>
                    <a:pt x="89" y="336"/>
                  </a:lnTo>
                  <a:lnTo>
                    <a:pt x="89" y="331"/>
                  </a:lnTo>
                  <a:lnTo>
                    <a:pt x="93" y="32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6" name=""/>
            <p:cNvSpPr/>
            <p:nvPr/>
          </p:nvSpPr>
          <p:spPr>
            <a:xfrm>
              <a:off x="2771640" y="2360880"/>
              <a:ext cx="1577880" cy="1114200"/>
            </a:xfrm>
            <a:custGeom>
              <a:avLst/>
              <a:gdLst/>
              <a:ahLst/>
              <a:rect l="l" t="t" r="r" b="b"/>
              <a:pathLst>
                <a:path w="994" h="702">
                  <a:moveTo>
                    <a:pt x="0" y="692"/>
                  </a:moveTo>
                  <a:lnTo>
                    <a:pt x="5" y="692"/>
                  </a:lnTo>
                  <a:lnTo>
                    <a:pt x="14" y="692"/>
                  </a:lnTo>
                  <a:lnTo>
                    <a:pt x="19" y="697"/>
                  </a:lnTo>
                  <a:lnTo>
                    <a:pt x="29" y="697"/>
                  </a:lnTo>
                  <a:lnTo>
                    <a:pt x="34" y="697"/>
                  </a:lnTo>
                  <a:lnTo>
                    <a:pt x="44" y="702"/>
                  </a:lnTo>
                  <a:lnTo>
                    <a:pt x="49" y="702"/>
                  </a:lnTo>
                  <a:lnTo>
                    <a:pt x="59" y="702"/>
                  </a:lnTo>
                  <a:lnTo>
                    <a:pt x="64" y="697"/>
                  </a:lnTo>
                  <a:lnTo>
                    <a:pt x="69" y="697"/>
                  </a:lnTo>
                  <a:lnTo>
                    <a:pt x="79" y="692"/>
                  </a:lnTo>
                  <a:lnTo>
                    <a:pt x="84" y="687"/>
                  </a:lnTo>
                  <a:lnTo>
                    <a:pt x="89" y="682"/>
                  </a:lnTo>
                  <a:lnTo>
                    <a:pt x="94" y="677"/>
                  </a:lnTo>
                  <a:lnTo>
                    <a:pt x="99" y="673"/>
                  </a:lnTo>
                  <a:lnTo>
                    <a:pt x="103" y="673"/>
                  </a:lnTo>
                  <a:lnTo>
                    <a:pt x="108" y="668"/>
                  </a:lnTo>
                  <a:lnTo>
                    <a:pt x="113" y="663"/>
                  </a:lnTo>
                  <a:lnTo>
                    <a:pt x="118" y="658"/>
                  </a:lnTo>
                  <a:lnTo>
                    <a:pt x="123" y="658"/>
                  </a:lnTo>
                  <a:lnTo>
                    <a:pt x="128" y="653"/>
                  </a:lnTo>
                  <a:lnTo>
                    <a:pt x="133" y="648"/>
                  </a:lnTo>
                  <a:lnTo>
                    <a:pt x="138" y="643"/>
                  </a:lnTo>
                  <a:lnTo>
                    <a:pt x="143" y="638"/>
                  </a:lnTo>
                  <a:lnTo>
                    <a:pt x="148" y="633"/>
                  </a:lnTo>
                  <a:lnTo>
                    <a:pt x="148" y="628"/>
                  </a:lnTo>
                  <a:lnTo>
                    <a:pt x="153" y="623"/>
                  </a:lnTo>
                  <a:lnTo>
                    <a:pt x="158" y="618"/>
                  </a:lnTo>
                  <a:lnTo>
                    <a:pt x="158" y="613"/>
                  </a:lnTo>
                  <a:lnTo>
                    <a:pt x="163" y="608"/>
                  </a:lnTo>
                  <a:lnTo>
                    <a:pt x="173" y="608"/>
                  </a:lnTo>
                  <a:lnTo>
                    <a:pt x="183" y="608"/>
                  </a:lnTo>
                  <a:lnTo>
                    <a:pt x="188" y="608"/>
                  </a:lnTo>
                  <a:lnTo>
                    <a:pt x="192" y="613"/>
                  </a:lnTo>
                  <a:lnTo>
                    <a:pt x="197" y="618"/>
                  </a:lnTo>
                  <a:lnTo>
                    <a:pt x="197" y="623"/>
                  </a:lnTo>
                  <a:lnTo>
                    <a:pt x="202" y="628"/>
                  </a:lnTo>
                  <a:lnTo>
                    <a:pt x="202" y="633"/>
                  </a:lnTo>
                  <a:lnTo>
                    <a:pt x="202" y="638"/>
                  </a:lnTo>
                  <a:lnTo>
                    <a:pt x="207" y="643"/>
                  </a:lnTo>
                  <a:lnTo>
                    <a:pt x="207" y="648"/>
                  </a:lnTo>
                  <a:lnTo>
                    <a:pt x="212" y="653"/>
                  </a:lnTo>
                  <a:lnTo>
                    <a:pt x="217" y="658"/>
                  </a:lnTo>
                  <a:lnTo>
                    <a:pt x="227" y="653"/>
                  </a:lnTo>
                  <a:lnTo>
                    <a:pt x="232" y="653"/>
                  </a:lnTo>
                  <a:lnTo>
                    <a:pt x="242" y="648"/>
                  </a:lnTo>
                  <a:lnTo>
                    <a:pt x="252" y="643"/>
                  </a:lnTo>
                  <a:lnTo>
                    <a:pt x="257" y="643"/>
                  </a:lnTo>
                  <a:lnTo>
                    <a:pt x="262" y="638"/>
                  </a:lnTo>
                  <a:lnTo>
                    <a:pt x="262" y="633"/>
                  </a:lnTo>
                  <a:lnTo>
                    <a:pt x="267" y="628"/>
                  </a:lnTo>
                  <a:lnTo>
                    <a:pt x="267" y="623"/>
                  </a:lnTo>
                  <a:lnTo>
                    <a:pt x="267" y="618"/>
                  </a:lnTo>
                  <a:lnTo>
                    <a:pt x="267" y="613"/>
                  </a:lnTo>
                  <a:lnTo>
                    <a:pt x="267" y="608"/>
                  </a:lnTo>
                  <a:lnTo>
                    <a:pt x="262" y="603"/>
                  </a:lnTo>
                  <a:lnTo>
                    <a:pt x="262" y="598"/>
                  </a:lnTo>
                  <a:lnTo>
                    <a:pt x="262" y="593"/>
                  </a:lnTo>
                  <a:lnTo>
                    <a:pt x="262" y="584"/>
                  </a:lnTo>
                  <a:lnTo>
                    <a:pt x="262" y="579"/>
                  </a:lnTo>
                  <a:lnTo>
                    <a:pt x="262" y="574"/>
                  </a:lnTo>
                  <a:lnTo>
                    <a:pt x="262" y="569"/>
                  </a:lnTo>
                  <a:lnTo>
                    <a:pt x="267" y="564"/>
                  </a:lnTo>
                  <a:lnTo>
                    <a:pt x="272" y="559"/>
                  </a:lnTo>
                  <a:lnTo>
                    <a:pt x="277" y="559"/>
                  </a:lnTo>
                  <a:lnTo>
                    <a:pt x="282" y="554"/>
                  </a:lnTo>
                  <a:lnTo>
                    <a:pt x="286" y="549"/>
                  </a:lnTo>
                  <a:lnTo>
                    <a:pt x="286" y="544"/>
                  </a:lnTo>
                  <a:lnTo>
                    <a:pt x="286" y="539"/>
                  </a:lnTo>
                  <a:lnTo>
                    <a:pt x="286" y="534"/>
                  </a:lnTo>
                  <a:lnTo>
                    <a:pt x="291" y="524"/>
                  </a:lnTo>
                  <a:lnTo>
                    <a:pt x="291" y="519"/>
                  </a:lnTo>
                  <a:lnTo>
                    <a:pt x="286" y="514"/>
                  </a:lnTo>
                  <a:lnTo>
                    <a:pt x="286" y="509"/>
                  </a:lnTo>
                  <a:lnTo>
                    <a:pt x="286" y="504"/>
                  </a:lnTo>
                  <a:lnTo>
                    <a:pt x="282" y="500"/>
                  </a:lnTo>
                  <a:lnTo>
                    <a:pt x="277" y="495"/>
                  </a:lnTo>
                  <a:lnTo>
                    <a:pt x="277" y="490"/>
                  </a:lnTo>
                  <a:lnTo>
                    <a:pt x="277" y="485"/>
                  </a:lnTo>
                  <a:lnTo>
                    <a:pt x="277" y="480"/>
                  </a:lnTo>
                  <a:lnTo>
                    <a:pt x="277" y="475"/>
                  </a:lnTo>
                  <a:lnTo>
                    <a:pt x="282" y="470"/>
                  </a:lnTo>
                  <a:lnTo>
                    <a:pt x="286" y="470"/>
                  </a:lnTo>
                  <a:lnTo>
                    <a:pt x="296" y="465"/>
                  </a:lnTo>
                  <a:lnTo>
                    <a:pt x="301" y="460"/>
                  </a:lnTo>
                  <a:lnTo>
                    <a:pt x="306" y="455"/>
                  </a:lnTo>
                  <a:lnTo>
                    <a:pt x="311" y="450"/>
                  </a:lnTo>
                  <a:lnTo>
                    <a:pt x="311" y="445"/>
                  </a:lnTo>
                  <a:lnTo>
                    <a:pt x="316" y="440"/>
                  </a:lnTo>
                  <a:lnTo>
                    <a:pt x="321" y="440"/>
                  </a:lnTo>
                  <a:lnTo>
                    <a:pt x="326" y="435"/>
                  </a:lnTo>
                  <a:lnTo>
                    <a:pt x="331" y="430"/>
                  </a:lnTo>
                  <a:lnTo>
                    <a:pt x="336" y="425"/>
                  </a:lnTo>
                  <a:lnTo>
                    <a:pt x="341" y="420"/>
                  </a:lnTo>
                  <a:lnTo>
                    <a:pt x="346" y="416"/>
                  </a:lnTo>
                  <a:lnTo>
                    <a:pt x="351" y="411"/>
                  </a:lnTo>
                  <a:lnTo>
                    <a:pt x="356" y="406"/>
                  </a:lnTo>
                  <a:lnTo>
                    <a:pt x="361" y="406"/>
                  </a:lnTo>
                  <a:lnTo>
                    <a:pt x="366" y="401"/>
                  </a:lnTo>
                  <a:lnTo>
                    <a:pt x="366" y="396"/>
                  </a:lnTo>
                  <a:lnTo>
                    <a:pt x="371" y="391"/>
                  </a:lnTo>
                  <a:lnTo>
                    <a:pt x="375" y="386"/>
                  </a:lnTo>
                  <a:lnTo>
                    <a:pt x="380" y="381"/>
                  </a:lnTo>
                  <a:lnTo>
                    <a:pt x="385" y="376"/>
                  </a:lnTo>
                  <a:lnTo>
                    <a:pt x="390" y="376"/>
                  </a:lnTo>
                  <a:lnTo>
                    <a:pt x="395" y="371"/>
                  </a:lnTo>
                  <a:lnTo>
                    <a:pt x="400" y="366"/>
                  </a:lnTo>
                  <a:lnTo>
                    <a:pt x="405" y="361"/>
                  </a:lnTo>
                  <a:lnTo>
                    <a:pt x="410" y="356"/>
                  </a:lnTo>
                  <a:lnTo>
                    <a:pt x="415" y="351"/>
                  </a:lnTo>
                  <a:lnTo>
                    <a:pt x="425" y="351"/>
                  </a:lnTo>
                  <a:lnTo>
                    <a:pt x="430" y="346"/>
                  </a:lnTo>
                  <a:lnTo>
                    <a:pt x="435" y="341"/>
                  </a:lnTo>
                  <a:lnTo>
                    <a:pt x="440" y="336"/>
                  </a:lnTo>
                  <a:lnTo>
                    <a:pt x="445" y="336"/>
                  </a:lnTo>
                  <a:lnTo>
                    <a:pt x="450" y="331"/>
                  </a:lnTo>
                  <a:lnTo>
                    <a:pt x="455" y="327"/>
                  </a:lnTo>
                  <a:lnTo>
                    <a:pt x="460" y="322"/>
                  </a:lnTo>
                  <a:lnTo>
                    <a:pt x="464" y="317"/>
                  </a:lnTo>
                  <a:lnTo>
                    <a:pt x="469" y="312"/>
                  </a:lnTo>
                  <a:lnTo>
                    <a:pt x="474" y="307"/>
                  </a:lnTo>
                  <a:lnTo>
                    <a:pt x="479" y="307"/>
                  </a:lnTo>
                  <a:lnTo>
                    <a:pt x="484" y="302"/>
                  </a:lnTo>
                  <a:lnTo>
                    <a:pt x="484" y="297"/>
                  </a:lnTo>
                  <a:lnTo>
                    <a:pt x="489" y="292"/>
                  </a:lnTo>
                  <a:lnTo>
                    <a:pt x="494" y="287"/>
                  </a:lnTo>
                  <a:lnTo>
                    <a:pt x="504" y="282"/>
                  </a:lnTo>
                  <a:lnTo>
                    <a:pt x="509" y="282"/>
                  </a:lnTo>
                  <a:lnTo>
                    <a:pt x="519" y="277"/>
                  </a:lnTo>
                  <a:lnTo>
                    <a:pt x="524" y="277"/>
                  </a:lnTo>
                  <a:lnTo>
                    <a:pt x="529" y="272"/>
                  </a:lnTo>
                  <a:lnTo>
                    <a:pt x="534" y="267"/>
                  </a:lnTo>
                  <a:lnTo>
                    <a:pt x="539" y="262"/>
                  </a:lnTo>
                  <a:lnTo>
                    <a:pt x="539" y="257"/>
                  </a:lnTo>
                  <a:lnTo>
                    <a:pt x="544" y="252"/>
                  </a:lnTo>
                  <a:lnTo>
                    <a:pt x="549" y="247"/>
                  </a:lnTo>
                  <a:lnTo>
                    <a:pt x="554" y="247"/>
                  </a:lnTo>
                  <a:lnTo>
                    <a:pt x="563" y="243"/>
                  </a:lnTo>
                  <a:lnTo>
                    <a:pt x="568" y="238"/>
                  </a:lnTo>
                  <a:lnTo>
                    <a:pt x="573" y="233"/>
                  </a:lnTo>
                  <a:lnTo>
                    <a:pt x="578" y="228"/>
                  </a:lnTo>
                  <a:lnTo>
                    <a:pt x="583" y="223"/>
                  </a:lnTo>
                  <a:lnTo>
                    <a:pt x="583" y="223"/>
                  </a:lnTo>
                  <a:lnTo>
                    <a:pt x="588" y="218"/>
                  </a:lnTo>
                  <a:lnTo>
                    <a:pt x="593" y="213"/>
                  </a:lnTo>
                  <a:lnTo>
                    <a:pt x="598" y="208"/>
                  </a:lnTo>
                  <a:lnTo>
                    <a:pt x="603" y="203"/>
                  </a:lnTo>
                  <a:lnTo>
                    <a:pt x="608" y="198"/>
                  </a:lnTo>
                  <a:lnTo>
                    <a:pt x="613" y="193"/>
                  </a:lnTo>
                  <a:lnTo>
                    <a:pt x="618" y="188"/>
                  </a:lnTo>
                  <a:lnTo>
                    <a:pt x="623" y="188"/>
                  </a:lnTo>
                  <a:lnTo>
                    <a:pt x="628" y="183"/>
                  </a:lnTo>
                  <a:lnTo>
                    <a:pt x="628" y="178"/>
                  </a:lnTo>
                  <a:lnTo>
                    <a:pt x="633" y="173"/>
                  </a:lnTo>
                  <a:lnTo>
                    <a:pt x="633" y="168"/>
                  </a:lnTo>
                  <a:lnTo>
                    <a:pt x="638" y="163"/>
                  </a:lnTo>
                  <a:lnTo>
                    <a:pt x="638" y="154"/>
                  </a:lnTo>
                  <a:lnTo>
                    <a:pt x="643" y="154"/>
                  </a:lnTo>
                  <a:lnTo>
                    <a:pt x="647" y="149"/>
                  </a:lnTo>
                  <a:lnTo>
                    <a:pt x="657" y="149"/>
                  </a:lnTo>
                  <a:lnTo>
                    <a:pt x="662" y="149"/>
                  </a:lnTo>
                  <a:lnTo>
                    <a:pt x="672" y="144"/>
                  </a:lnTo>
                  <a:lnTo>
                    <a:pt x="682" y="144"/>
                  </a:lnTo>
                  <a:lnTo>
                    <a:pt x="687" y="139"/>
                  </a:lnTo>
                  <a:lnTo>
                    <a:pt x="692" y="139"/>
                  </a:lnTo>
                  <a:lnTo>
                    <a:pt x="702" y="139"/>
                  </a:lnTo>
                  <a:lnTo>
                    <a:pt x="712" y="134"/>
                  </a:lnTo>
                  <a:lnTo>
                    <a:pt x="717" y="134"/>
                  </a:lnTo>
                  <a:lnTo>
                    <a:pt x="722" y="129"/>
                  </a:lnTo>
                  <a:lnTo>
                    <a:pt x="732" y="124"/>
                  </a:lnTo>
                  <a:lnTo>
                    <a:pt x="736" y="124"/>
                  </a:lnTo>
                  <a:lnTo>
                    <a:pt x="746" y="119"/>
                  </a:lnTo>
                  <a:lnTo>
                    <a:pt x="751" y="119"/>
                  </a:lnTo>
                  <a:lnTo>
                    <a:pt x="761" y="119"/>
                  </a:lnTo>
                  <a:lnTo>
                    <a:pt x="766" y="114"/>
                  </a:lnTo>
                  <a:lnTo>
                    <a:pt x="776" y="114"/>
                  </a:lnTo>
                  <a:lnTo>
                    <a:pt x="781" y="114"/>
                  </a:lnTo>
                  <a:lnTo>
                    <a:pt x="791" y="109"/>
                  </a:lnTo>
                  <a:lnTo>
                    <a:pt x="796" y="109"/>
                  </a:lnTo>
                  <a:lnTo>
                    <a:pt x="806" y="109"/>
                  </a:lnTo>
                  <a:lnTo>
                    <a:pt x="811" y="104"/>
                  </a:lnTo>
                  <a:lnTo>
                    <a:pt x="821" y="104"/>
                  </a:lnTo>
                  <a:lnTo>
                    <a:pt x="826" y="99"/>
                  </a:lnTo>
                  <a:lnTo>
                    <a:pt x="830" y="94"/>
                  </a:lnTo>
                  <a:lnTo>
                    <a:pt x="835" y="89"/>
                  </a:lnTo>
                  <a:lnTo>
                    <a:pt x="845" y="89"/>
                  </a:lnTo>
                  <a:lnTo>
                    <a:pt x="850" y="89"/>
                  </a:lnTo>
                  <a:lnTo>
                    <a:pt x="860" y="84"/>
                  </a:lnTo>
                  <a:lnTo>
                    <a:pt x="865" y="84"/>
                  </a:lnTo>
                  <a:lnTo>
                    <a:pt x="875" y="84"/>
                  </a:lnTo>
                  <a:lnTo>
                    <a:pt x="885" y="84"/>
                  </a:lnTo>
                  <a:lnTo>
                    <a:pt x="890" y="79"/>
                  </a:lnTo>
                  <a:lnTo>
                    <a:pt x="900" y="79"/>
                  </a:lnTo>
                  <a:lnTo>
                    <a:pt x="910" y="79"/>
                  </a:lnTo>
                  <a:lnTo>
                    <a:pt x="915" y="74"/>
                  </a:lnTo>
                  <a:lnTo>
                    <a:pt x="919" y="74"/>
                  </a:lnTo>
                  <a:lnTo>
                    <a:pt x="924" y="70"/>
                  </a:lnTo>
                  <a:lnTo>
                    <a:pt x="924" y="65"/>
                  </a:lnTo>
                  <a:lnTo>
                    <a:pt x="929" y="60"/>
                  </a:lnTo>
                  <a:lnTo>
                    <a:pt x="939" y="55"/>
                  </a:lnTo>
                  <a:lnTo>
                    <a:pt x="944" y="55"/>
                  </a:lnTo>
                  <a:lnTo>
                    <a:pt x="954" y="55"/>
                  </a:lnTo>
                  <a:lnTo>
                    <a:pt x="959" y="50"/>
                  </a:lnTo>
                  <a:lnTo>
                    <a:pt x="964" y="45"/>
                  </a:lnTo>
                  <a:lnTo>
                    <a:pt x="969" y="40"/>
                  </a:lnTo>
                  <a:lnTo>
                    <a:pt x="974" y="35"/>
                  </a:lnTo>
                  <a:lnTo>
                    <a:pt x="979" y="35"/>
                  </a:lnTo>
                  <a:lnTo>
                    <a:pt x="989" y="30"/>
                  </a:lnTo>
                  <a:lnTo>
                    <a:pt x="994" y="25"/>
                  </a:lnTo>
                  <a:lnTo>
                    <a:pt x="994" y="20"/>
                  </a:lnTo>
                  <a:lnTo>
                    <a:pt x="989" y="15"/>
                  </a:lnTo>
                  <a:lnTo>
                    <a:pt x="979" y="10"/>
                  </a:lnTo>
                  <a:lnTo>
                    <a:pt x="979" y="5"/>
                  </a:lnTo>
                  <a:lnTo>
                    <a:pt x="974" y="5"/>
                  </a:lnTo>
                  <a:lnTo>
                    <a:pt x="969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7" name=""/>
            <p:cNvSpPr/>
            <p:nvPr/>
          </p:nvSpPr>
          <p:spPr>
            <a:xfrm>
              <a:off x="2385720" y="2824200"/>
              <a:ext cx="385920" cy="384120"/>
            </a:xfrm>
            <a:custGeom>
              <a:avLst/>
              <a:gdLst/>
              <a:ahLst/>
              <a:rect l="l" t="t" r="r" b="b"/>
              <a:pathLst>
                <a:path w="243" h="242">
                  <a:moveTo>
                    <a:pt x="243" y="0"/>
                  </a:moveTo>
                  <a:lnTo>
                    <a:pt x="243" y="5"/>
                  </a:lnTo>
                  <a:lnTo>
                    <a:pt x="238" y="10"/>
                  </a:lnTo>
                  <a:lnTo>
                    <a:pt x="233" y="15"/>
                  </a:lnTo>
                  <a:lnTo>
                    <a:pt x="233" y="20"/>
                  </a:lnTo>
                  <a:lnTo>
                    <a:pt x="228" y="20"/>
                  </a:lnTo>
                  <a:lnTo>
                    <a:pt x="228" y="25"/>
                  </a:lnTo>
                  <a:lnTo>
                    <a:pt x="223" y="30"/>
                  </a:lnTo>
                  <a:lnTo>
                    <a:pt x="218" y="35"/>
                  </a:lnTo>
                  <a:lnTo>
                    <a:pt x="213" y="39"/>
                  </a:lnTo>
                  <a:lnTo>
                    <a:pt x="213" y="44"/>
                  </a:lnTo>
                  <a:lnTo>
                    <a:pt x="208" y="49"/>
                  </a:lnTo>
                  <a:lnTo>
                    <a:pt x="203" y="54"/>
                  </a:lnTo>
                  <a:lnTo>
                    <a:pt x="198" y="59"/>
                  </a:lnTo>
                  <a:lnTo>
                    <a:pt x="198" y="59"/>
                  </a:lnTo>
                  <a:lnTo>
                    <a:pt x="193" y="64"/>
                  </a:lnTo>
                  <a:lnTo>
                    <a:pt x="188" y="69"/>
                  </a:lnTo>
                  <a:lnTo>
                    <a:pt x="188" y="74"/>
                  </a:lnTo>
                  <a:lnTo>
                    <a:pt x="183" y="79"/>
                  </a:lnTo>
                  <a:lnTo>
                    <a:pt x="178" y="84"/>
                  </a:lnTo>
                  <a:lnTo>
                    <a:pt x="173" y="89"/>
                  </a:lnTo>
                  <a:lnTo>
                    <a:pt x="173" y="94"/>
                  </a:lnTo>
                  <a:lnTo>
                    <a:pt x="168" y="94"/>
                  </a:lnTo>
                  <a:lnTo>
                    <a:pt x="163" y="99"/>
                  </a:lnTo>
                  <a:lnTo>
                    <a:pt x="159" y="104"/>
                  </a:lnTo>
                  <a:lnTo>
                    <a:pt x="159" y="109"/>
                  </a:lnTo>
                  <a:lnTo>
                    <a:pt x="154" y="114"/>
                  </a:lnTo>
                  <a:lnTo>
                    <a:pt x="149" y="119"/>
                  </a:lnTo>
                  <a:lnTo>
                    <a:pt x="144" y="124"/>
                  </a:lnTo>
                  <a:lnTo>
                    <a:pt x="139" y="128"/>
                  </a:lnTo>
                  <a:lnTo>
                    <a:pt x="134" y="128"/>
                  </a:lnTo>
                  <a:lnTo>
                    <a:pt x="129" y="133"/>
                  </a:lnTo>
                  <a:lnTo>
                    <a:pt x="129" y="138"/>
                  </a:lnTo>
                  <a:lnTo>
                    <a:pt x="124" y="143"/>
                  </a:lnTo>
                  <a:lnTo>
                    <a:pt x="119" y="148"/>
                  </a:lnTo>
                  <a:lnTo>
                    <a:pt x="119" y="153"/>
                  </a:lnTo>
                  <a:lnTo>
                    <a:pt x="114" y="158"/>
                  </a:lnTo>
                  <a:lnTo>
                    <a:pt x="114" y="163"/>
                  </a:lnTo>
                  <a:lnTo>
                    <a:pt x="114" y="168"/>
                  </a:lnTo>
                  <a:lnTo>
                    <a:pt x="109" y="173"/>
                  </a:lnTo>
                  <a:lnTo>
                    <a:pt x="109" y="178"/>
                  </a:lnTo>
                  <a:lnTo>
                    <a:pt x="109" y="183"/>
                  </a:lnTo>
                  <a:lnTo>
                    <a:pt x="104" y="188"/>
                  </a:lnTo>
                  <a:lnTo>
                    <a:pt x="104" y="193"/>
                  </a:lnTo>
                  <a:lnTo>
                    <a:pt x="99" y="198"/>
                  </a:lnTo>
                  <a:lnTo>
                    <a:pt x="99" y="198"/>
                  </a:lnTo>
                  <a:lnTo>
                    <a:pt x="94" y="203"/>
                  </a:lnTo>
                  <a:lnTo>
                    <a:pt x="94" y="208"/>
                  </a:lnTo>
                  <a:lnTo>
                    <a:pt x="89" y="212"/>
                  </a:lnTo>
                  <a:lnTo>
                    <a:pt x="89" y="217"/>
                  </a:lnTo>
                  <a:lnTo>
                    <a:pt x="89" y="222"/>
                  </a:lnTo>
                  <a:lnTo>
                    <a:pt x="94" y="227"/>
                  </a:lnTo>
                  <a:lnTo>
                    <a:pt x="94" y="232"/>
                  </a:lnTo>
                  <a:lnTo>
                    <a:pt x="89" y="237"/>
                  </a:lnTo>
                  <a:lnTo>
                    <a:pt x="84" y="242"/>
                  </a:lnTo>
                  <a:lnTo>
                    <a:pt x="79" y="242"/>
                  </a:lnTo>
                  <a:lnTo>
                    <a:pt x="74" y="237"/>
                  </a:lnTo>
                  <a:lnTo>
                    <a:pt x="74" y="232"/>
                  </a:lnTo>
                  <a:lnTo>
                    <a:pt x="70" y="227"/>
                  </a:lnTo>
                  <a:lnTo>
                    <a:pt x="70" y="222"/>
                  </a:lnTo>
                  <a:lnTo>
                    <a:pt x="65" y="217"/>
                  </a:lnTo>
                  <a:lnTo>
                    <a:pt x="60" y="217"/>
                  </a:lnTo>
                  <a:lnTo>
                    <a:pt x="50" y="217"/>
                  </a:lnTo>
                  <a:lnTo>
                    <a:pt x="45" y="212"/>
                  </a:lnTo>
                  <a:lnTo>
                    <a:pt x="40" y="208"/>
                  </a:lnTo>
                  <a:lnTo>
                    <a:pt x="35" y="208"/>
                  </a:lnTo>
                  <a:lnTo>
                    <a:pt x="25" y="203"/>
                  </a:lnTo>
                  <a:lnTo>
                    <a:pt x="20" y="203"/>
                  </a:lnTo>
                  <a:lnTo>
                    <a:pt x="10" y="203"/>
                  </a:lnTo>
                  <a:lnTo>
                    <a:pt x="5" y="203"/>
                  </a:lnTo>
                  <a:lnTo>
                    <a:pt x="0" y="198"/>
                  </a:lnTo>
                  <a:lnTo>
                    <a:pt x="0" y="19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8" name=""/>
            <p:cNvSpPr/>
            <p:nvPr/>
          </p:nvSpPr>
          <p:spPr>
            <a:xfrm>
              <a:off x="2268360" y="3279960"/>
              <a:ext cx="79200" cy="936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0" y="24"/>
                  </a:moveTo>
                  <a:lnTo>
                    <a:pt x="5" y="19"/>
                  </a:lnTo>
                  <a:lnTo>
                    <a:pt x="10" y="19"/>
                  </a:lnTo>
                  <a:lnTo>
                    <a:pt x="15" y="14"/>
                  </a:lnTo>
                  <a:lnTo>
                    <a:pt x="15" y="10"/>
                  </a:lnTo>
                  <a:lnTo>
                    <a:pt x="20" y="5"/>
                  </a:lnTo>
                  <a:lnTo>
                    <a:pt x="25" y="0"/>
                  </a:lnTo>
                  <a:lnTo>
                    <a:pt x="30" y="0"/>
                  </a:lnTo>
                  <a:lnTo>
                    <a:pt x="35" y="5"/>
                  </a:lnTo>
                  <a:lnTo>
                    <a:pt x="40" y="10"/>
                  </a:lnTo>
                  <a:lnTo>
                    <a:pt x="45" y="14"/>
                  </a:lnTo>
                  <a:lnTo>
                    <a:pt x="45" y="19"/>
                  </a:lnTo>
                  <a:lnTo>
                    <a:pt x="50" y="24"/>
                  </a:lnTo>
                  <a:lnTo>
                    <a:pt x="50" y="29"/>
                  </a:lnTo>
                  <a:lnTo>
                    <a:pt x="50" y="34"/>
                  </a:lnTo>
                  <a:lnTo>
                    <a:pt x="45" y="44"/>
                  </a:lnTo>
                  <a:lnTo>
                    <a:pt x="45" y="49"/>
                  </a:lnTo>
                  <a:lnTo>
                    <a:pt x="40" y="54"/>
                  </a:lnTo>
                  <a:lnTo>
                    <a:pt x="35" y="59"/>
                  </a:lnTo>
                  <a:lnTo>
                    <a:pt x="30" y="59"/>
                  </a:lnTo>
                  <a:lnTo>
                    <a:pt x="20" y="5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9" name=""/>
            <p:cNvSpPr/>
            <p:nvPr/>
          </p:nvSpPr>
          <p:spPr>
            <a:xfrm>
              <a:off x="2315880" y="3326040"/>
              <a:ext cx="455760" cy="149040"/>
            </a:xfrm>
            <a:custGeom>
              <a:avLst/>
              <a:gdLst/>
              <a:ahLst/>
              <a:rect l="l" t="t" r="r" b="b"/>
              <a:pathLst>
                <a:path w="287" h="94">
                  <a:moveTo>
                    <a:pt x="0" y="60"/>
                  </a:moveTo>
                  <a:lnTo>
                    <a:pt x="5" y="60"/>
                  </a:lnTo>
                  <a:lnTo>
                    <a:pt x="10" y="55"/>
                  </a:lnTo>
                  <a:lnTo>
                    <a:pt x="20" y="55"/>
                  </a:lnTo>
                  <a:lnTo>
                    <a:pt x="25" y="50"/>
                  </a:lnTo>
                  <a:lnTo>
                    <a:pt x="34" y="55"/>
                  </a:lnTo>
                  <a:lnTo>
                    <a:pt x="44" y="55"/>
                  </a:lnTo>
                  <a:lnTo>
                    <a:pt x="49" y="55"/>
                  </a:lnTo>
                  <a:lnTo>
                    <a:pt x="59" y="55"/>
                  </a:lnTo>
                  <a:lnTo>
                    <a:pt x="69" y="55"/>
                  </a:lnTo>
                  <a:lnTo>
                    <a:pt x="74" y="55"/>
                  </a:lnTo>
                  <a:lnTo>
                    <a:pt x="84" y="55"/>
                  </a:lnTo>
                  <a:lnTo>
                    <a:pt x="89" y="55"/>
                  </a:lnTo>
                  <a:lnTo>
                    <a:pt x="99" y="55"/>
                  </a:lnTo>
                  <a:lnTo>
                    <a:pt x="109" y="55"/>
                  </a:lnTo>
                  <a:lnTo>
                    <a:pt x="114" y="55"/>
                  </a:lnTo>
                  <a:lnTo>
                    <a:pt x="123" y="55"/>
                  </a:lnTo>
                  <a:lnTo>
                    <a:pt x="128" y="50"/>
                  </a:lnTo>
                  <a:lnTo>
                    <a:pt x="133" y="45"/>
                  </a:lnTo>
                  <a:lnTo>
                    <a:pt x="138" y="40"/>
                  </a:lnTo>
                  <a:lnTo>
                    <a:pt x="138" y="35"/>
                  </a:lnTo>
                  <a:lnTo>
                    <a:pt x="138" y="30"/>
                  </a:lnTo>
                  <a:lnTo>
                    <a:pt x="138" y="25"/>
                  </a:lnTo>
                  <a:lnTo>
                    <a:pt x="138" y="20"/>
                  </a:lnTo>
                  <a:lnTo>
                    <a:pt x="138" y="15"/>
                  </a:lnTo>
                  <a:lnTo>
                    <a:pt x="138" y="10"/>
                  </a:lnTo>
                  <a:lnTo>
                    <a:pt x="143" y="5"/>
                  </a:lnTo>
                  <a:lnTo>
                    <a:pt x="153" y="5"/>
                  </a:lnTo>
                  <a:lnTo>
                    <a:pt x="158" y="0"/>
                  </a:lnTo>
                  <a:lnTo>
                    <a:pt x="168" y="5"/>
                  </a:lnTo>
                  <a:lnTo>
                    <a:pt x="173" y="10"/>
                  </a:lnTo>
                  <a:lnTo>
                    <a:pt x="178" y="10"/>
                  </a:lnTo>
                  <a:lnTo>
                    <a:pt x="183" y="15"/>
                  </a:lnTo>
                  <a:lnTo>
                    <a:pt x="188" y="20"/>
                  </a:lnTo>
                  <a:lnTo>
                    <a:pt x="193" y="25"/>
                  </a:lnTo>
                  <a:lnTo>
                    <a:pt x="198" y="30"/>
                  </a:lnTo>
                  <a:lnTo>
                    <a:pt x="203" y="30"/>
                  </a:lnTo>
                  <a:lnTo>
                    <a:pt x="207" y="35"/>
                  </a:lnTo>
                  <a:lnTo>
                    <a:pt x="207" y="40"/>
                  </a:lnTo>
                  <a:lnTo>
                    <a:pt x="203" y="45"/>
                  </a:lnTo>
                  <a:lnTo>
                    <a:pt x="203" y="50"/>
                  </a:lnTo>
                  <a:lnTo>
                    <a:pt x="203" y="60"/>
                  </a:lnTo>
                  <a:lnTo>
                    <a:pt x="198" y="65"/>
                  </a:lnTo>
                  <a:lnTo>
                    <a:pt x="203" y="69"/>
                  </a:lnTo>
                  <a:lnTo>
                    <a:pt x="203" y="74"/>
                  </a:lnTo>
                  <a:lnTo>
                    <a:pt x="207" y="79"/>
                  </a:lnTo>
                  <a:lnTo>
                    <a:pt x="212" y="79"/>
                  </a:lnTo>
                  <a:lnTo>
                    <a:pt x="217" y="84"/>
                  </a:lnTo>
                  <a:lnTo>
                    <a:pt x="227" y="84"/>
                  </a:lnTo>
                  <a:lnTo>
                    <a:pt x="237" y="84"/>
                  </a:lnTo>
                  <a:lnTo>
                    <a:pt x="242" y="89"/>
                  </a:lnTo>
                  <a:lnTo>
                    <a:pt x="252" y="89"/>
                  </a:lnTo>
                  <a:lnTo>
                    <a:pt x="257" y="94"/>
                  </a:lnTo>
                  <a:lnTo>
                    <a:pt x="262" y="94"/>
                  </a:lnTo>
                  <a:lnTo>
                    <a:pt x="272" y="94"/>
                  </a:lnTo>
                  <a:lnTo>
                    <a:pt x="277" y="89"/>
                  </a:lnTo>
                  <a:lnTo>
                    <a:pt x="287" y="8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0" name=""/>
            <p:cNvSpPr/>
            <p:nvPr/>
          </p:nvSpPr>
          <p:spPr>
            <a:xfrm>
              <a:off x="2550960" y="3413160"/>
              <a:ext cx="15840" cy="7920"/>
            </a:xfrm>
            <a:custGeom>
              <a:avLst/>
              <a:gdLst/>
              <a:ahLst/>
              <a:rect l="l" t="t" r="r" b="b"/>
              <a:pathLst>
                <a:path w="10" h="5">
                  <a:moveTo>
                    <a:pt x="10" y="5"/>
                  </a:moveTo>
                  <a:lnTo>
                    <a:pt x="10" y="5"/>
                  </a:lnTo>
                  <a:lnTo>
                    <a:pt x="10" y="5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10" y="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1" name=""/>
            <p:cNvSpPr/>
            <p:nvPr/>
          </p:nvSpPr>
          <p:spPr>
            <a:xfrm>
              <a:off x="3643200" y="3176640"/>
              <a:ext cx="61920" cy="119160"/>
            </a:xfrm>
            <a:custGeom>
              <a:avLst/>
              <a:gdLst/>
              <a:ahLst/>
              <a:rect l="l" t="t" r="r" b="b"/>
              <a:pathLst>
                <a:path w="39" h="75">
                  <a:moveTo>
                    <a:pt x="39" y="75"/>
                  </a:moveTo>
                  <a:lnTo>
                    <a:pt x="39" y="70"/>
                  </a:lnTo>
                  <a:lnTo>
                    <a:pt x="39" y="65"/>
                  </a:lnTo>
                  <a:lnTo>
                    <a:pt x="39" y="55"/>
                  </a:lnTo>
                  <a:lnTo>
                    <a:pt x="39" y="50"/>
                  </a:lnTo>
                  <a:lnTo>
                    <a:pt x="39" y="45"/>
                  </a:lnTo>
                  <a:lnTo>
                    <a:pt x="39" y="40"/>
                  </a:lnTo>
                  <a:lnTo>
                    <a:pt x="39" y="35"/>
                  </a:lnTo>
                  <a:lnTo>
                    <a:pt x="39" y="30"/>
                  </a:lnTo>
                  <a:lnTo>
                    <a:pt x="39" y="25"/>
                  </a:lnTo>
                  <a:lnTo>
                    <a:pt x="39" y="20"/>
                  </a:lnTo>
                  <a:lnTo>
                    <a:pt x="39" y="15"/>
                  </a:lnTo>
                  <a:lnTo>
                    <a:pt x="39" y="5"/>
                  </a:lnTo>
                  <a:lnTo>
                    <a:pt x="39" y="0"/>
                  </a:lnTo>
                  <a:lnTo>
                    <a:pt x="34" y="0"/>
                  </a:lnTo>
                  <a:lnTo>
                    <a:pt x="29" y="5"/>
                  </a:lnTo>
                  <a:lnTo>
                    <a:pt x="24" y="5"/>
                  </a:lnTo>
                  <a:lnTo>
                    <a:pt x="19" y="15"/>
                  </a:lnTo>
                  <a:lnTo>
                    <a:pt x="14" y="20"/>
                  </a:lnTo>
                  <a:lnTo>
                    <a:pt x="9" y="25"/>
                  </a:lnTo>
                  <a:lnTo>
                    <a:pt x="9" y="30"/>
                  </a:lnTo>
                  <a:lnTo>
                    <a:pt x="5" y="35"/>
                  </a:lnTo>
                  <a:lnTo>
                    <a:pt x="0" y="40"/>
                  </a:lnTo>
                  <a:lnTo>
                    <a:pt x="0" y="45"/>
                  </a:lnTo>
                  <a:lnTo>
                    <a:pt x="0" y="50"/>
                  </a:lnTo>
                  <a:lnTo>
                    <a:pt x="0" y="55"/>
                  </a:lnTo>
                  <a:lnTo>
                    <a:pt x="5" y="60"/>
                  </a:lnTo>
                  <a:lnTo>
                    <a:pt x="9" y="65"/>
                  </a:lnTo>
                  <a:lnTo>
                    <a:pt x="14" y="70"/>
                  </a:lnTo>
                  <a:lnTo>
                    <a:pt x="19" y="70"/>
                  </a:lnTo>
                  <a:lnTo>
                    <a:pt x="29" y="75"/>
                  </a:lnTo>
                  <a:lnTo>
                    <a:pt x="34" y="75"/>
                  </a:lnTo>
                  <a:lnTo>
                    <a:pt x="39" y="7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2" name=""/>
            <p:cNvSpPr/>
            <p:nvPr/>
          </p:nvSpPr>
          <p:spPr>
            <a:xfrm>
              <a:off x="3947760" y="3224520"/>
              <a:ext cx="16200" cy="93600"/>
            </a:xfrm>
            <a:custGeom>
              <a:avLst/>
              <a:gdLst/>
              <a:ahLst/>
              <a:rect l="l" t="t" r="r" b="b"/>
              <a:pathLst>
                <a:path w="10" h="59">
                  <a:moveTo>
                    <a:pt x="10" y="45"/>
                  </a:moveTo>
                  <a:lnTo>
                    <a:pt x="10" y="40"/>
                  </a:lnTo>
                  <a:lnTo>
                    <a:pt x="10" y="30"/>
                  </a:lnTo>
                  <a:lnTo>
                    <a:pt x="10" y="25"/>
                  </a:lnTo>
                  <a:lnTo>
                    <a:pt x="10" y="20"/>
                  </a:lnTo>
                  <a:lnTo>
                    <a:pt x="5" y="1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10"/>
                  </a:lnTo>
                  <a:lnTo>
                    <a:pt x="5" y="15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0" y="40"/>
                  </a:lnTo>
                  <a:lnTo>
                    <a:pt x="5" y="49"/>
                  </a:lnTo>
                  <a:lnTo>
                    <a:pt x="5" y="54"/>
                  </a:lnTo>
                  <a:lnTo>
                    <a:pt x="5" y="59"/>
                  </a:lnTo>
                  <a:lnTo>
                    <a:pt x="5" y="59"/>
                  </a:lnTo>
                  <a:lnTo>
                    <a:pt x="5" y="54"/>
                  </a:lnTo>
                  <a:lnTo>
                    <a:pt x="10" y="4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3" name=""/>
            <p:cNvSpPr/>
            <p:nvPr/>
          </p:nvSpPr>
          <p:spPr>
            <a:xfrm>
              <a:off x="3956040" y="3168720"/>
              <a:ext cx="55440" cy="55800"/>
            </a:xfrm>
            <a:custGeom>
              <a:avLst/>
              <a:gdLst/>
              <a:ahLst/>
              <a:rect l="l" t="t" r="r" b="b"/>
              <a:pathLst>
                <a:path w="35" h="35">
                  <a:moveTo>
                    <a:pt x="35" y="25"/>
                  </a:moveTo>
                  <a:lnTo>
                    <a:pt x="35" y="15"/>
                  </a:lnTo>
                  <a:lnTo>
                    <a:pt x="35" y="5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0" y="0"/>
                  </a:lnTo>
                  <a:lnTo>
                    <a:pt x="15" y="5"/>
                  </a:lnTo>
                  <a:lnTo>
                    <a:pt x="5" y="10"/>
                  </a:lnTo>
                  <a:lnTo>
                    <a:pt x="0" y="15"/>
                  </a:lnTo>
                  <a:lnTo>
                    <a:pt x="0" y="25"/>
                  </a:lnTo>
                  <a:lnTo>
                    <a:pt x="5" y="30"/>
                  </a:lnTo>
                  <a:lnTo>
                    <a:pt x="15" y="35"/>
                  </a:lnTo>
                  <a:lnTo>
                    <a:pt x="25" y="35"/>
                  </a:lnTo>
                  <a:lnTo>
                    <a:pt x="30" y="30"/>
                  </a:lnTo>
                  <a:lnTo>
                    <a:pt x="35" y="2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4" name=""/>
            <p:cNvSpPr/>
            <p:nvPr/>
          </p:nvSpPr>
          <p:spPr>
            <a:xfrm>
              <a:off x="3422520" y="2909880"/>
              <a:ext cx="243000" cy="266760"/>
            </a:xfrm>
            <a:custGeom>
              <a:avLst/>
              <a:gdLst/>
              <a:ahLst/>
              <a:rect l="l" t="t" r="r" b="b"/>
              <a:pathLst>
                <a:path w="153" h="168">
                  <a:moveTo>
                    <a:pt x="129" y="158"/>
                  </a:moveTo>
                  <a:lnTo>
                    <a:pt x="134" y="158"/>
                  </a:lnTo>
                  <a:lnTo>
                    <a:pt x="144" y="154"/>
                  </a:lnTo>
                  <a:lnTo>
                    <a:pt x="148" y="154"/>
                  </a:lnTo>
                  <a:lnTo>
                    <a:pt x="148" y="149"/>
                  </a:lnTo>
                  <a:lnTo>
                    <a:pt x="153" y="144"/>
                  </a:lnTo>
                  <a:lnTo>
                    <a:pt x="153" y="139"/>
                  </a:lnTo>
                  <a:lnTo>
                    <a:pt x="153" y="134"/>
                  </a:lnTo>
                  <a:lnTo>
                    <a:pt x="148" y="129"/>
                  </a:lnTo>
                  <a:lnTo>
                    <a:pt x="148" y="124"/>
                  </a:lnTo>
                  <a:lnTo>
                    <a:pt x="139" y="119"/>
                  </a:lnTo>
                  <a:lnTo>
                    <a:pt x="134" y="114"/>
                  </a:lnTo>
                  <a:lnTo>
                    <a:pt x="129" y="109"/>
                  </a:lnTo>
                  <a:lnTo>
                    <a:pt x="129" y="109"/>
                  </a:lnTo>
                  <a:lnTo>
                    <a:pt x="129" y="104"/>
                  </a:lnTo>
                  <a:lnTo>
                    <a:pt x="129" y="99"/>
                  </a:lnTo>
                  <a:lnTo>
                    <a:pt x="129" y="94"/>
                  </a:lnTo>
                  <a:lnTo>
                    <a:pt x="134" y="84"/>
                  </a:lnTo>
                  <a:lnTo>
                    <a:pt x="134" y="79"/>
                  </a:lnTo>
                  <a:lnTo>
                    <a:pt x="134" y="74"/>
                  </a:lnTo>
                  <a:lnTo>
                    <a:pt x="134" y="70"/>
                  </a:lnTo>
                  <a:lnTo>
                    <a:pt x="129" y="65"/>
                  </a:lnTo>
                  <a:lnTo>
                    <a:pt x="129" y="60"/>
                  </a:lnTo>
                  <a:lnTo>
                    <a:pt x="124" y="55"/>
                  </a:lnTo>
                  <a:lnTo>
                    <a:pt x="124" y="55"/>
                  </a:lnTo>
                  <a:lnTo>
                    <a:pt x="124" y="45"/>
                  </a:lnTo>
                  <a:lnTo>
                    <a:pt x="129" y="45"/>
                  </a:lnTo>
                  <a:lnTo>
                    <a:pt x="129" y="40"/>
                  </a:lnTo>
                  <a:lnTo>
                    <a:pt x="134" y="35"/>
                  </a:lnTo>
                  <a:lnTo>
                    <a:pt x="134" y="30"/>
                  </a:lnTo>
                  <a:lnTo>
                    <a:pt x="134" y="20"/>
                  </a:lnTo>
                  <a:lnTo>
                    <a:pt x="134" y="15"/>
                  </a:lnTo>
                  <a:lnTo>
                    <a:pt x="134" y="10"/>
                  </a:lnTo>
                  <a:lnTo>
                    <a:pt x="134" y="5"/>
                  </a:lnTo>
                  <a:lnTo>
                    <a:pt x="129" y="0"/>
                  </a:lnTo>
                  <a:lnTo>
                    <a:pt x="124" y="0"/>
                  </a:lnTo>
                  <a:lnTo>
                    <a:pt x="114" y="0"/>
                  </a:lnTo>
                  <a:lnTo>
                    <a:pt x="109" y="0"/>
                  </a:lnTo>
                  <a:lnTo>
                    <a:pt x="99" y="0"/>
                  </a:lnTo>
                  <a:lnTo>
                    <a:pt x="94" y="5"/>
                  </a:lnTo>
                  <a:lnTo>
                    <a:pt x="84" y="5"/>
                  </a:lnTo>
                  <a:lnTo>
                    <a:pt x="79" y="10"/>
                  </a:lnTo>
                  <a:lnTo>
                    <a:pt x="74" y="15"/>
                  </a:lnTo>
                  <a:lnTo>
                    <a:pt x="74" y="20"/>
                  </a:lnTo>
                  <a:lnTo>
                    <a:pt x="69" y="25"/>
                  </a:lnTo>
                  <a:lnTo>
                    <a:pt x="64" y="25"/>
                  </a:lnTo>
                  <a:lnTo>
                    <a:pt x="59" y="30"/>
                  </a:lnTo>
                  <a:lnTo>
                    <a:pt x="54" y="35"/>
                  </a:lnTo>
                  <a:lnTo>
                    <a:pt x="50" y="40"/>
                  </a:lnTo>
                  <a:lnTo>
                    <a:pt x="45" y="45"/>
                  </a:lnTo>
                  <a:lnTo>
                    <a:pt x="40" y="50"/>
                  </a:lnTo>
                  <a:lnTo>
                    <a:pt x="35" y="50"/>
                  </a:lnTo>
                  <a:lnTo>
                    <a:pt x="30" y="55"/>
                  </a:lnTo>
                  <a:lnTo>
                    <a:pt x="25" y="60"/>
                  </a:lnTo>
                  <a:lnTo>
                    <a:pt x="25" y="65"/>
                  </a:lnTo>
                  <a:lnTo>
                    <a:pt x="20" y="70"/>
                  </a:lnTo>
                  <a:lnTo>
                    <a:pt x="15" y="74"/>
                  </a:lnTo>
                  <a:lnTo>
                    <a:pt x="10" y="74"/>
                  </a:lnTo>
                  <a:lnTo>
                    <a:pt x="0" y="79"/>
                  </a:lnTo>
                  <a:lnTo>
                    <a:pt x="0" y="84"/>
                  </a:lnTo>
                  <a:lnTo>
                    <a:pt x="0" y="89"/>
                  </a:lnTo>
                  <a:lnTo>
                    <a:pt x="5" y="94"/>
                  </a:lnTo>
                  <a:lnTo>
                    <a:pt x="10" y="99"/>
                  </a:lnTo>
                  <a:lnTo>
                    <a:pt x="15" y="104"/>
                  </a:lnTo>
                  <a:lnTo>
                    <a:pt x="15" y="109"/>
                  </a:lnTo>
                  <a:lnTo>
                    <a:pt x="20" y="114"/>
                  </a:lnTo>
                  <a:lnTo>
                    <a:pt x="30" y="114"/>
                  </a:lnTo>
                  <a:lnTo>
                    <a:pt x="35" y="119"/>
                  </a:lnTo>
                  <a:lnTo>
                    <a:pt x="45" y="114"/>
                  </a:lnTo>
                  <a:lnTo>
                    <a:pt x="50" y="114"/>
                  </a:lnTo>
                  <a:lnTo>
                    <a:pt x="54" y="109"/>
                  </a:lnTo>
                  <a:lnTo>
                    <a:pt x="59" y="104"/>
                  </a:lnTo>
                  <a:lnTo>
                    <a:pt x="64" y="99"/>
                  </a:lnTo>
                  <a:lnTo>
                    <a:pt x="69" y="99"/>
                  </a:lnTo>
                  <a:lnTo>
                    <a:pt x="79" y="99"/>
                  </a:lnTo>
                  <a:lnTo>
                    <a:pt x="89" y="99"/>
                  </a:lnTo>
                  <a:lnTo>
                    <a:pt x="94" y="99"/>
                  </a:lnTo>
                  <a:lnTo>
                    <a:pt x="99" y="104"/>
                  </a:lnTo>
                  <a:lnTo>
                    <a:pt x="104" y="109"/>
                  </a:lnTo>
                  <a:lnTo>
                    <a:pt x="109" y="114"/>
                  </a:lnTo>
                  <a:lnTo>
                    <a:pt x="109" y="119"/>
                  </a:lnTo>
                  <a:lnTo>
                    <a:pt x="109" y="124"/>
                  </a:lnTo>
                  <a:lnTo>
                    <a:pt x="109" y="129"/>
                  </a:lnTo>
                  <a:lnTo>
                    <a:pt x="114" y="134"/>
                  </a:lnTo>
                  <a:lnTo>
                    <a:pt x="114" y="139"/>
                  </a:lnTo>
                  <a:lnTo>
                    <a:pt x="114" y="144"/>
                  </a:lnTo>
                  <a:lnTo>
                    <a:pt x="119" y="149"/>
                  </a:lnTo>
                  <a:lnTo>
                    <a:pt x="119" y="154"/>
                  </a:lnTo>
                  <a:lnTo>
                    <a:pt x="119" y="158"/>
                  </a:lnTo>
                  <a:lnTo>
                    <a:pt x="124" y="163"/>
                  </a:lnTo>
                  <a:lnTo>
                    <a:pt x="124" y="168"/>
                  </a:lnTo>
                  <a:lnTo>
                    <a:pt x="124" y="168"/>
                  </a:lnTo>
                  <a:lnTo>
                    <a:pt x="129" y="15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5" name=""/>
            <p:cNvSpPr/>
            <p:nvPr/>
          </p:nvSpPr>
          <p:spPr>
            <a:xfrm>
              <a:off x="3265200" y="3035520"/>
              <a:ext cx="117720" cy="125280"/>
            </a:xfrm>
            <a:custGeom>
              <a:avLst/>
              <a:gdLst/>
              <a:ahLst/>
              <a:rect l="l" t="t" r="r" b="b"/>
              <a:pathLst>
                <a:path w="74" h="79">
                  <a:moveTo>
                    <a:pt x="50" y="55"/>
                  </a:moveTo>
                  <a:lnTo>
                    <a:pt x="50" y="50"/>
                  </a:lnTo>
                  <a:lnTo>
                    <a:pt x="55" y="45"/>
                  </a:lnTo>
                  <a:lnTo>
                    <a:pt x="55" y="40"/>
                  </a:lnTo>
                  <a:lnTo>
                    <a:pt x="60" y="35"/>
                  </a:lnTo>
                  <a:lnTo>
                    <a:pt x="64" y="35"/>
                  </a:lnTo>
                  <a:lnTo>
                    <a:pt x="69" y="30"/>
                  </a:lnTo>
                  <a:lnTo>
                    <a:pt x="74" y="25"/>
                  </a:lnTo>
                  <a:lnTo>
                    <a:pt x="74" y="20"/>
                  </a:lnTo>
                  <a:lnTo>
                    <a:pt x="74" y="15"/>
                  </a:lnTo>
                  <a:lnTo>
                    <a:pt x="69" y="10"/>
                  </a:lnTo>
                  <a:lnTo>
                    <a:pt x="69" y="5"/>
                  </a:lnTo>
                  <a:lnTo>
                    <a:pt x="64" y="0"/>
                  </a:lnTo>
                  <a:lnTo>
                    <a:pt x="60" y="0"/>
                  </a:lnTo>
                  <a:lnTo>
                    <a:pt x="55" y="5"/>
                  </a:lnTo>
                  <a:lnTo>
                    <a:pt x="50" y="10"/>
                  </a:lnTo>
                  <a:lnTo>
                    <a:pt x="45" y="15"/>
                  </a:lnTo>
                  <a:lnTo>
                    <a:pt x="40" y="20"/>
                  </a:lnTo>
                  <a:lnTo>
                    <a:pt x="35" y="20"/>
                  </a:lnTo>
                  <a:lnTo>
                    <a:pt x="30" y="25"/>
                  </a:lnTo>
                  <a:lnTo>
                    <a:pt x="25" y="30"/>
                  </a:lnTo>
                  <a:lnTo>
                    <a:pt x="25" y="35"/>
                  </a:lnTo>
                  <a:lnTo>
                    <a:pt x="20" y="40"/>
                  </a:lnTo>
                  <a:lnTo>
                    <a:pt x="15" y="45"/>
                  </a:lnTo>
                  <a:lnTo>
                    <a:pt x="10" y="45"/>
                  </a:lnTo>
                  <a:lnTo>
                    <a:pt x="5" y="50"/>
                  </a:lnTo>
                  <a:lnTo>
                    <a:pt x="0" y="55"/>
                  </a:lnTo>
                  <a:lnTo>
                    <a:pt x="0" y="60"/>
                  </a:lnTo>
                  <a:lnTo>
                    <a:pt x="5" y="65"/>
                  </a:lnTo>
                  <a:lnTo>
                    <a:pt x="5" y="70"/>
                  </a:lnTo>
                  <a:lnTo>
                    <a:pt x="10" y="75"/>
                  </a:lnTo>
                  <a:lnTo>
                    <a:pt x="20" y="79"/>
                  </a:lnTo>
                  <a:lnTo>
                    <a:pt x="30" y="79"/>
                  </a:lnTo>
                  <a:lnTo>
                    <a:pt x="35" y="79"/>
                  </a:lnTo>
                  <a:lnTo>
                    <a:pt x="40" y="79"/>
                  </a:lnTo>
                  <a:lnTo>
                    <a:pt x="45" y="75"/>
                  </a:lnTo>
                  <a:lnTo>
                    <a:pt x="45" y="70"/>
                  </a:lnTo>
                  <a:lnTo>
                    <a:pt x="50" y="65"/>
                  </a:lnTo>
                  <a:lnTo>
                    <a:pt x="50" y="5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6" name=""/>
            <p:cNvSpPr/>
            <p:nvPr/>
          </p:nvSpPr>
          <p:spPr>
            <a:xfrm>
              <a:off x="4027320" y="3114720"/>
              <a:ext cx="15840" cy="7920"/>
            </a:xfrm>
            <a:custGeom>
              <a:avLst/>
              <a:gdLst/>
              <a:ahLst/>
              <a:rect l="l" t="t" r="r" b="b"/>
              <a:pathLst>
                <a:path w="10" h="5">
                  <a:moveTo>
                    <a:pt x="10" y="5"/>
                  </a:moveTo>
                  <a:lnTo>
                    <a:pt x="10" y="5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10" y="5"/>
                  </a:lnTo>
                  <a:lnTo>
                    <a:pt x="10" y="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7" name=""/>
            <p:cNvSpPr/>
            <p:nvPr/>
          </p:nvSpPr>
          <p:spPr>
            <a:xfrm>
              <a:off x="2481120" y="2997360"/>
              <a:ext cx="46080" cy="85680"/>
            </a:xfrm>
            <a:custGeom>
              <a:avLst/>
              <a:gdLst/>
              <a:ahLst/>
              <a:rect l="l" t="t" r="r" b="b"/>
              <a:pathLst>
                <a:path w="29" h="54">
                  <a:moveTo>
                    <a:pt x="0" y="54"/>
                  </a:moveTo>
                  <a:lnTo>
                    <a:pt x="5" y="49"/>
                  </a:lnTo>
                  <a:lnTo>
                    <a:pt x="10" y="44"/>
                  </a:lnTo>
                  <a:lnTo>
                    <a:pt x="14" y="39"/>
                  </a:lnTo>
                  <a:lnTo>
                    <a:pt x="19" y="34"/>
                  </a:lnTo>
                  <a:lnTo>
                    <a:pt x="24" y="29"/>
                  </a:lnTo>
                  <a:lnTo>
                    <a:pt x="29" y="24"/>
                  </a:lnTo>
                  <a:lnTo>
                    <a:pt x="29" y="19"/>
                  </a:lnTo>
                  <a:lnTo>
                    <a:pt x="29" y="15"/>
                  </a:lnTo>
                  <a:lnTo>
                    <a:pt x="29" y="10"/>
                  </a:lnTo>
                  <a:lnTo>
                    <a:pt x="29" y="5"/>
                  </a:lnTo>
                  <a:lnTo>
                    <a:pt x="29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8" name=""/>
            <p:cNvSpPr/>
            <p:nvPr/>
          </p:nvSpPr>
          <p:spPr>
            <a:xfrm>
              <a:off x="2433600" y="3083040"/>
              <a:ext cx="47520" cy="31680"/>
            </a:xfrm>
            <a:custGeom>
              <a:avLst/>
              <a:gdLst/>
              <a:ahLst/>
              <a:rect l="l" t="t" r="r" b="b"/>
              <a:pathLst>
                <a:path w="30" h="20">
                  <a:moveTo>
                    <a:pt x="0" y="0"/>
                  </a:moveTo>
                  <a:lnTo>
                    <a:pt x="5" y="5"/>
                  </a:lnTo>
                  <a:lnTo>
                    <a:pt x="10" y="5"/>
                  </a:lnTo>
                  <a:lnTo>
                    <a:pt x="15" y="10"/>
                  </a:lnTo>
                  <a:lnTo>
                    <a:pt x="20" y="15"/>
                  </a:lnTo>
                  <a:lnTo>
                    <a:pt x="25" y="20"/>
                  </a:lnTo>
                  <a:lnTo>
                    <a:pt x="30" y="20"/>
                  </a:lnTo>
                  <a:lnTo>
                    <a:pt x="30" y="20"/>
                  </a:lnTo>
                  <a:lnTo>
                    <a:pt x="30" y="15"/>
                  </a:lnTo>
                  <a:lnTo>
                    <a:pt x="30" y="10"/>
                  </a:lnTo>
                  <a:lnTo>
                    <a:pt x="30" y="5"/>
                  </a:lnTo>
                  <a:lnTo>
                    <a:pt x="3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9" name=""/>
            <p:cNvSpPr/>
            <p:nvPr/>
          </p:nvSpPr>
          <p:spPr>
            <a:xfrm flipV="1">
              <a:off x="2558880" y="2949840"/>
              <a:ext cx="15840" cy="15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0" name=""/>
            <p:cNvSpPr/>
            <p:nvPr/>
          </p:nvSpPr>
          <p:spPr>
            <a:xfrm flipV="1">
              <a:off x="2606400" y="2909520"/>
              <a:ext cx="1584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1" name=""/>
            <p:cNvSpPr/>
            <p:nvPr/>
          </p:nvSpPr>
          <p:spPr>
            <a:xfrm>
              <a:off x="2644560" y="2872080"/>
              <a:ext cx="55440" cy="21960"/>
            </a:xfrm>
            <a:custGeom>
              <a:avLst/>
              <a:gdLst/>
              <a:ahLst/>
              <a:rect l="l" t="t" r="r" b="b"/>
              <a:pathLst>
                <a:path w="35" h="14">
                  <a:moveTo>
                    <a:pt x="0" y="14"/>
                  </a:moveTo>
                  <a:lnTo>
                    <a:pt x="5" y="14"/>
                  </a:lnTo>
                  <a:lnTo>
                    <a:pt x="10" y="9"/>
                  </a:lnTo>
                  <a:lnTo>
                    <a:pt x="15" y="9"/>
                  </a:lnTo>
                  <a:lnTo>
                    <a:pt x="20" y="9"/>
                  </a:lnTo>
                  <a:lnTo>
                    <a:pt x="25" y="5"/>
                  </a:lnTo>
                  <a:lnTo>
                    <a:pt x="30" y="5"/>
                  </a:lnTo>
                  <a:lnTo>
                    <a:pt x="35" y="0"/>
                  </a:lnTo>
                  <a:lnTo>
                    <a:pt x="35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2" name=""/>
            <p:cNvSpPr/>
            <p:nvPr/>
          </p:nvSpPr>
          <p:spPr>
            <a:xfrm flipV="1">
              <a:off x="2732040" y="2823840"/>
              <a:ext cx="39600" cy="39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3" name=""/>
            <p:cNvSpPr/>
            <p:nvPr/>
          </p:nvSpPr>
          <p:spPr>
            <a:xfrm>
              <a:off x="4898880" y="2360880"/>
              <a:ext cx="7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4" name=""/>
            <p:cNvSpPr/>
            <p:nvPr/>
          </p:nvSpPr>
          <p:spPr>
            <a:xfrm>
              <a:off x="4906800" y="2360880"/>
              <a:ext cx="957240" cy="353880"/>
            </a:xfrm>
            <a:custGeom>
              <a:avLst/>
              <a:gdLst/>
              <a:ahLst/>
              <a:rect l="l" t="t" r="r" b="b"/>
              <a:pathLst>
                <a:path w="603" h="223">
                  <a:moveTo>
                    <a:pt x="0" y="0"/>
                  </a:moveTo>
                  <a:lnTo>
                    <a:pt x="10" y="5"/>
                  </a:lnTo>
                  <a:lnTo>
                    <a:pt x="15" y="10"/>
                  </a:lnTo>
                  <a:lnTo>
                    <a:pt x="25" y="10"/>
                  </a:lnTo>
                  <a:lnTo>
                    <a:pt x="29" y="15"/>
                  </a:lnTo>
                  <a:lnTo>
                    <a:pt x="39" y="20"/>
                  </a:lnTo>
                  <a:lnTo>
                    <a:pt x="44" y="20"/>
                  </a:lnTo>
                  <a:lnTo>
                    <a:pt x="54" y="20"/>
                  </a:lnTo>
                  <a:lnTo>
                    <a:pt x="64" y="25"/>
                  </a:lnTo>
                  <a:lnTo>
                    <a:pt x="69" y="25"/>
                  </a:lnTo>
                  <a:lnTo>
                    <a:pt x="79" y="25"/>
                  </a:lnTo>
                  <a:lnTo>
                    <a:pt x="89" y="30"/>
                  </a:lnTo>
                  <a:lnTo>
                    <a:pt x="94" y="35"/>
                  </a:lnTo>
                  <a:lnTo>
                    <a:pt x="99" y="40"/>
                  </a:lnTo>
                  <a:lnTo>
                    <a:pt x="104" y="45"/>
                  </a:lnTo>
                  <a:lnTo>
                    <a:pt x="104" y="50"/>
                  </a:lnTo>
                  <a:lnTo>
                    <a:pt x="114" y="55"/>
                  </a:lnTo>
                  <a:lnTo>
                    <a:pt x="118" y="55"/>
                  </a:lnTo>
                  <a:lnTo>
                    <a:pt x="128" y="55"/>
                  </a:lnTo>
                  <a:lnTo>
                    <a:pt x="138" y="55"/>
                  </a:lnTo>
                  <a:lnTo>
                    <a:pt x="148" y="55"/>
                  </a:lnTo>
                  <a:lnTo>
                    <a:pt x="158" y="50"/>
                  </a:lnTo>
                  <a:lnTo>
                    <a:pt x="168" y="50"/>
                  </a:lnTo>
                  <a:lnTo>
                    <a:pt x="173" y="55"/>
                  </a:lnTo>
                  <a:lnTo>
                    <a:pt x="178" y="60"/>
                  </a:lnTo>
                  <a:lnTo>
                    <a:pt x="178" y="65"/>
                  </a:lnTo>
                  <a:lnTo>
                    <a:pt x="183" y="70"/>
                  </a:lnTo>
                  <a:lnTo>
                    <a:pt x="183" y="74"/>
                  </a:lnTo>
                  <a:lnTo>
                    <a:pt x="188" y="79"/>
                  </a:lnTo>
                  <a:lnTo>
                    <a:pt x="198" y="79"/>
                  </a:lnTo>
                  <a:lnTo>
                    <a:pt x="208" y="79"/>
                  </a:lnTo>
                  <a:lnTo>
                    <a:pt x="217" y="79"/>
                  </a:lnTo>
                  <a:lnTo>
                    <a:pt x="227" y="79"/>
                  </a:lnTo>
                  <a:lnTo>
                    <a:pt x="232" y="79"/>
                  </a:lnTo>
                  <a:lnTo>
                    <a:pt x="242" y="79"/>
                  </a:lnTo>
                  <a:lnTo>
                    <a:pt x="252" y="84"/>
                  </a:lnTo>
                  <a:lnTo>
                    <a:pt x="257" y="89"/>
                  </a:lnTo>
                  <a:lnTo>
                    <a:pt x="262" y="94"/>
                  </a:lnTo>
                  <a:lnTo>
                    <a:pt x="262" y="99"/>
                  </a:lnTo>
                  <a:lnTo>
                    <a:pt x="267" y="104"/>
                  </a:lnTo>
                  <a:lnTo>
                    <a:pt x="272" y="109"/>
                  </a:lnTo>
                  <a:lnTo>
                    <a:pt x="282" y="109"/>
                  </a:lnTo>
                  <a:lnTo>
                    <a:pt x="292" y="109"/>
                  </a:lnTo>
                  <a:lnTo>
                    <a:pt x="301" y="109"/>
                  </a:lnTo>
                  <a:lnTo>
                    <a:pt x="311" y="109"/>
                  </a:lnTo>
                  <a:lnTo>
                    <a:pt x="316" y="109"/>
                  </a:lnTo>
                  <a:lnTo>
                    <a:pt x="326" y="109"/>
                  </a:lnTo>
                  <a:lnTo>
                    <a:pt x="336" y="109"/>
                  </a:lnTo>
                  <a:lnTo>
                    <a:pt x="341" y="109"/>
                  </a:lnTo>
                  <a:lnTo>
                    <a:pt x="346" y="114"/>
                  </a:lnTo>
                  <a:lnTo>
                    <a:pt x="351" y="119"/>
                  </a:lnTo>
                  <a:lnTo>
                    <a:pt x="356" y="129"/>
                  </a:lnTo>
                  <a:lnTo>
                    <a:pt x="356" y="134"/>
                  </a:lnTo>
                  <a:lnTo>
                    <a:pt x="366" y="139"/>
                  </a:lnTo>
                  <a:lnTo>
                    <a:pt x="371" y="139"/>
                  </a:lnTo>
                  <a:lnTo>
                    <a:pt x="381" y="139"/>
                  </a:lnTo>
                  <a:lnTo>
                    <a:pt x="390" y="139"/>
                  </a:lnTo>
                  <a:lnTo>
                    <a:pt x="400" y="139"/>
                  </a:lnTo>
                  <a:lnTo>
                    <a:pt x="410" y="139"/>
                  </a:lnTo>
                  <a:lnTo>
                    <a:pt x="420" y="139"/>
                  </a:lnTo>
                  <a:lnTo>
                    <a:pt x="425" y="139"/>
                  </a:lnTo>
                  <a:lnTo>
                    <a:pt x="435" y="139"/>
                  </a:lnTo>
                  <a:lnTo>
                    <a:pt x="445" y="139"/>
                  </a:lnTo>
                  <a:lnTo>
                    <a:pt x="450" y="144"/>
                  </a:lnTo>
                  <a:lnTo>
                    <a:pt x="450" y="149"/>
                  </a:lnTo>
                  <a:lnTo>
                    <a:pt x="455" y="154"/>
                  </a:lnTo>
                  <a:lnTo>
                    <a:pt x="460" y="163"/>
                  </a:lnTo>
                  <a:lnTo>
                    <a:pt x="460" y="168"/>
                  </a:lnTo>
                  <a:lnTo>
                    <a:pt x="465" y="173"/>
                  </a:lnTo>
                  <a:lnTo>
                    <a:pt x="470" y="173"/>
                  </a:lnTo>
                  <a:lnTo>
                    <a:pt x="480" y="178"/>
                  </a:lnTo>
                  <a:lnTo>
                    <a:pt x="484" y="183"/>
                  </a:lnTo>
                  <a:lnTo>
                    <a:pt x="489" y="188"/>
                  </a:lnTo>
                  <a:lnTo>
                    <a:pt x="489" y="193"/>
                  </a:lnTo>
                  <a:lnTo>
                    <a:pt x="489" y="198"/>
                  </a:lnTo>
                  <a:lnTo>
                    <a:pt x="484" y="203"/>
                  </a:lnTo>
                  <a:lnTo>
                    <a:pt x="484" y="208"/>
                  </a:lnTo>
                  <a:lnTo>
                    <a:pt x="494" y="213"/>
                  </a:lnTo>
                  <a:lnTo>
                    <a:pt x="494" y="208"/>
                  </a:lnTo>
                  <a:lnTo>
                    <a:pt x="494" y="203"/>
                  </a:lnTo>
                  <a:lnTo>
                    <a:pt x="494" y="193"/>
                  </a:lnTo>
                  <a:lnTo>
                    <a:pt x="494" y="188"/>
                  </a:lnTo>
                  <a:lnTo>
                    <a:pt x="494" y="183"/>
                  </a:lnTo>
                  <a:lnTo>
                    <a:pt x="499" y="178"/>
                  </a:lnTo>
                  <a:lnTo>
                    <a:pt x="504" y="173"/>
                  </a:lnTo>
                  <a:lnTo>
                    <a:pt x="514" y="168"/>
                  </a:lnTo>
                  <a:lnTo>
                    <a:pt x="519" y="168"/>
                  </a:lnTo>
                  <a:lnTo>
                    <a:pt x="529" y="168"/>
                  </a:lnTo>
                  <a:lnTo>
                    <a:pt x="534" y="173"/>
                  </a:lnTo>
                  <a:lnTo>
                    <a:pt x="539" y="178"/>
                  </a:lnTo>
                  <a:lnTo>
                    <a:pt x="544" y="183"/>
                  </a:lnTo>
                  <a:lnTo>
                    <a:pt x="554" y="188"/>
                  </a:lnTo>
                  <a:lnTo>
                    <a:pt x="559" y="193"/>
                  </a:lnTo>
                  <a:lnTo>
                    <a:pt x="564" y="198"/>
                  </a:lnTo>
                  <a:lnTo>
                    <a:pt x="569" y="203"/>
                  </a:lnTo>
                  <a:lnTo>
                    <a:pt x="578" y="203"/>
                  </a:lnTo>
                  <a:lnTo>
                    <a:pt x="583" y="208"/>
                  </a:lnTo>
                  <a:lnTo>
                    <a:pt x="588" y="213"/>
                  </a:lnTo>
                  <a:lnTo>
                    <a:pt x="593" y="218"/>
                  </a:lnTo>
                  <a:lnTo>
                    <a:pt x="603" y="22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5" name=""/>
            <p:cNvSpPr/>
            <p:nvPr/>
          </p:nvSpPr>
          <p:spPr>
            <a:xfrm>
              <a:off x="5864040" y="2714760"/>
              <a:ext cx="14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6" name=""/>
            <p:cNvSpPr/>
            <p:nvPr/>
          </p:nvSpPr>
          <p:spPr>
            <a:xfrm>
              <a:off x="5754600" y="2730600"/>
              <a:ext cx="23760" cy="46080"/>
            </a:xfrm>
            <a:custGeom>
              <a:avLst/>
              <a:gdLst/>
              <a:ahLst/>
              <a:rect l="l" t="t" r="r" b="b"/>
              <a:pathLst>
                <a:path w="15" h="29">
                  <a:moveTo>
                    <a:pt x="15" y="24"/>
                  </a:moveTo>
                  <a:lnTo>
                    <a:pt x="15" y="29"/>
                  </a:lnTo>
                  <a:lnTo>
                    <a:pt x="5" y="5"/>
                  </a:lnTo>
                  <a:lnTo>
                    <a:pt x="5" y="10"/>
                  </a:lnTo>
                  <a:lnTo>
                    <a:pt x="5" y="10"/>
                  </a:lnTo>
                  <a:lnTo>
                    <a:pt x="5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15" y="24"/>
                  </a:lnTo>
                  <a:close/>
                </a:path>
              </a:pathLst>
            </a:custGeom>
            <a:solidFill>
              <a:srgbClr val="666666"/>
            </a:solidFill>
            <a:ln w="0">
              <a:solidFill>
                <a:srgbClr val="6666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7" name=""/>
            <p:cNvSpPr/>
            <p:nvPr/>
          </p:nvSpPr>
          <p:spPr>
            <a:xfrm>
              <a:off x="5778360" y="2714760"/>
              <a:ext cx="38160" cy="46080"/>
            </a:xfrm>
            <a:custGeom>
              <a:avLst/>
              <a:gdLst/>
              <a:ahLst/>
              <a:rect l="l" t="t" r="r" b="b"/>
              <a:pathLst>
                <a:path w="24" h="29">
                  <a:moveTo>
                    <a:pt x="10" y="15"/>
                  </a:moveTo>
                  <a:lnTo>
                    <a:pt x="10" y="15"/>
                  </a:lnTo>
                  <a:lnTo>
                    <a:pt x="5" y="15"/>
                  </a:lnTo>
                  <a:lnTo>
                    <a:pt x="5" y="15"/>
                  </a:lnTo>
                  <a:lnTo>
                    <a:pt x="5" y="15"/>
                  </a:lnTo>
                  <a:lnTo>
                    <a:pt x="5" y="15"/>
                  </a:lnTo>
                  <a:lnTo>
                    <a:pt x="5" y="15"/>
                  </a:lnTo>
                  <a:lnTo>
                    <a:pt x="5" y="15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5"/>
                  </a:lnTo>
                  <a:lnTo>
                    <a:pt x="15" y="5"/>
                  </a:lnTo>
                  <a:lnTo>
                    <a:pt x="20" y="5"/>
                  </a:lnTo>
                  <a:lnTo>
                    <a:pt x="20" y="5"/>
                  </a:lnTo>
                  <a:lnTo>
                    <a:pt x="20" y="5"/>
                  </a:lnTo>
                  <a:lnTo>
                    <a:pt x="20" y="10"/>
                  </a:lnTo>
                  <a:lnTo>
                    <a:pt x="20" y="10"/>
                  </a:lnTo>
                  <a:lnTo>
                    <a:pt x="20" y="10"/>
                  </a:lnTo>
                  <a:lnTo>
                    <a:pt x="20" y="10"/>
                  </a:lnTo>
                  <a:lnTo>
                    <a:pt x="15" y="10"/>
                  </a:lnTo>
                  <a:lnTo>
                    <a:pt x="15" y="15"/>
                  </a:lnTo>
                  <a:lnTo>
                    <a:pt x="20" y="15"/>
                  </a:lnTo>
                  <a:lnTo>
                    <a:pt x="20" y="15"/>
                  </a:lnTo>
                  <a:lnTo>
                    <a:pt x="20" y="15"/>
                  </a:lnTo>
                  <a:lnTo>
                    <a:pt x="20" y="15"/>
                  </a:lnTo>
                  <a:lnTo>
                    <a:pt x="20" y="15"/>
                  </a:lnTo>
                  <a:lnTo>
                    <a:pt x="24" y="15"/>
                  </a:lnTo>
                  <a:lnTo>
                    <a:pt x="24" y="15"/>
                  </a:lnTo>
                  <a:lnTo>
                    <a:pt x="24" y="15"/>
                  </a:lnTo>
                  <a:lnTo>
                    <a:pt x="24" y="20"/>
                  </a:lnTo>
                  <a:lnTo>
                    <a:pt x="24" y="20"/>
                  </a:lnTo>
                  <a:lnTo>
                    <a:pt x="24" y="20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0" y="29"/>
                  </a:lnTo>
                  <a:lnTo>
                    <a:pt x="20" y="29"/>
                  </a:lnTo>
                  <a:lnTo>
                    <a:pt x="20" y="29"/>
                  </a:lnTo>
                  <a:lnTo>
                    <a:pt x="15" y="29"/>
                  </a:lnTo>
                  <a:lnTo>
                    <a:pt x="15" y="29"/>
                  </a:lnTo>
                  <a:lnTo>
                    <a:pt x="10" y="29"/>
                  </a:lnTo>
                  <a:lnTo>
                    <a:pt x="10" y="29"/>
                  </a:lnTo>
                  <a:lnTo>
                    <a:pt x="10" y="29"/>
                  </a:lnTo>
                  <a:lnTo>
                    <a:pt x="10" y="24"/>
                  </a:lnTo>
                  <a:lnTo>
                    <a:pt x="5" y="24"/>
                  </a:lnTo>
                  <a:lnTo>
                    <a:pt x="5" y="24"/>
                  </a:lnTo>
                  <a:lnTo>
                    <a:pt x="5" y="24"/>
                  </a:lnTo>
                  <a:lnTo>
                    <a:pt x="5" y="20"/>
                  </a:lnTo>
                  <a:lnTo>
                    <a:pt x="5" y="20"/>
                  </a:lnTo>
                  <a:lnTo>
                    <a:pt x="5" y="20"/>
                  </a:lnTo>
                  <a:lnTo>
                    <a:pt x="5" y="20"/>
                  </a:lnTo>
                  <a:lnTo>
                    <a:pt x="10" y="15"/>
                  </a:lnTo>
                  <a:lnTo>
                    <a:pt x="10" y="15"/>
                  </a:lnTo>
                  <a:close/>
                  <a:moveTo>
                    <a:pt x="5" y="10"/>
                  </a:moveTo>
                  <a:lnTo>
                    <a:pt x="5" y="10"/>
                  </a:lnTo>
                  <a:lnTo>
                    <a:pt x="5" y="10"/>
                  </a:lnTo>
                  <a:lnTo>
                    <a:pt x="10" y="15"/>
                  </a:lnTo>
                  <a:lnTo>
                    <a:pt x="10" y="15"/>
                  </a:lnTo>
                  <a:lnTo>
                    <a:pt x="10" y="15"/>
                  </a:lnTo>
                  <a:lnTo>
                    <a:pt x="10" y="15"/>
                  </a:lnTo>
                  <a:lnTo>
                    <a:pt x="10" y="15"/>
                  </a:lnTo>
                  <a:lnTo>
                    <a:pt x="10" y="15"/>
                  </a:lnTo>
                  <a:lnTo>
                    <a:pt x="15" y="15"/>
                  </a:lnTo>
                  <a:lnTo>
                    <a:pt x="15" y="10"/>
                  </a:lnTo>
                  <a:lnTo>
                    <a:pt x="15" y="10"/>
                  </a:lnTo>
                  <a:lnTo>
                    <a:pt x="15" y="10"/>
                  </a:lnTo>
                  <a:lnTo>
                    <a:pt x="15" y="10"/>
                  </a:lnTo>
                  <a:lnTo>
                    <a:pt x="15" y="10"/>
                  </a:lnTo>
                  <a:lnTo>
                    <a:pt x="15" y="10"/>
                  </a:lnTo>
                  <a:lnTo>
                    <a:pt x="15" y="5"/>
                  </a:lnTo>
                  <a:lnTo>
                    <a:pt x="15" y="5"/>
                  </a:lnTo>
                  <a:lnTo>
                    <a:pt x="15" y="5"/>
                  </a:lnTo>
                  <a:lnTo>
                    <a:pt x="15" y="5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10"/>
                  </a:lnTo>
                  <a:lnTo>
                    <a:pt x="5" y="10"/>
                  </a:lnTo>
                  <a:lnTo>
                    <a:pt x="5" y="10"/>
                  </a:lnTo>
                  <a:lnTo>
                    <a:pt x="5" y="10"/>
                  </a:lnTo>
                  <a:close/>
                  <a:moveTo>
                    <a:pt x="10" y="24"/>
                  </a:moveTo>
                  <a:lnTo>
                    <a:pt x="10" y="24"/>
                  </a:lnTo>
                  <a:lnTo>
                    <a:pt x="10" y="24"/>
                  </a:lnTo>
                  <a:lnTo>
                    <a:pt x="10" y="24"/>
                  </a:lnTo>
                  <a:lnTo>
                    <a:pt x="10" y="24"/>
                  </a:lnTo>
                  <a:lnTo>
                    <a:pt x="15" y="24"/>
                  </a:lnTo>
                  <a:lnTo>
                    <a:pt x="15" y="24"/>
                  </a:lnTo>
                  <a:lnTo>
                    <a:pt x="15" y="24"/>
                  </a:lnTo>
                  <a:lnTo>
                    <a:pt x="15" y="24"/>
                  </a:lnTo>
                  <a:lnTo>
                    <a:pt x="15" y="24"/>
                  </a:lnTo>
                  <a:lnTo>
                    <a:pt x="15" y="24"/>
                  </a:lnTo>
                  <a:lnTo>
                    <a:pt x="20" y="24"/>
                  </a:lnTo>
                  <a:lnTo>
                    <a:pt x="20" y="24"/>
                  </a:lnTo>
                  <a:lnTo>
                    <a:pt x="20" y="24"/>
                  </a:lnTo>
                  <a:lnTo>
                    <a:pt x="20" y="24"/>
                  </a:lnTo>
                  <a:lnTo>
                    <a:pt x="20" y="24"/>
                  </a:lnTo>
                  <a:lnTo>
                    <a:pt x="20" y="24"/>
                  </a:lnTo>
                  <a:lnTo>
                    <a:pt x="20" y="20"/>
                  </a:lnTo>
                  <a:lnTo>
                    <a:pt x="20" y="20"/>
                  </a:lnTo>
                  <a:lnTo>
                    <a:pt x="20" y="20"/>
                  </a:lnTo>
                  <a:lnTo>
                    <a:pt x="20" y="20"/>
                  </a:lnTo>
                  <a:lnTo>
                    <a:pt x="20" y="20"/>
                  </a:lnTo>
                  <a:lnTo>
                    <a:pt x="20" y="15"/>
                  </a:lnTo>
                  <a:lnTo>
                    <a:pt x="20" y="15"/>
                  </a:lnTo>
                  <a:lnTo>
                    <a:pt x="20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0" y="15"/>
                  </a:lnTo>
                  <a:lnTo>
                    <a:pt x="10" y="15"/>
                  </a:lnTo>
                  <a:lnTo>
                    <a:pt x="10" y="20"/>
                  </a:lnTo>
                  <a:lnTo>
                    <a:pt x="10" y="20"/>
                  </a:lnTo>
                  <a:lnTo>
                    <a:pt x="10" y="20"/>
                  </a:lnTo>
                  <a:lnTo>
                    <a:pt x="10" y="20"/>
                  </a:lnTo>
                  <a:lnTo>
                    <a:pt x="10" y="24"/>
                  </a:lnTo>
                  <a:lnTo>
                    <a:pt x="10" y="24"/>
                  </a:lnTo>
                  <a:close/>
                </a:path>
              </a:pathLst>
            </a:custGeom>
            <a:solidFill>
              <a:srgbClr val="666666"/>
            </a:solidFill>
            <a:ln w="0">
              <a:solidFill>
                <a:srgbClr val="6666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8" name=""/>
            <p:cNvSpPr/>
            <p:nvPr/>
          </p:nvSpPr>
          <p:spPr>
            <a:xfrm>
              <a:off x="5816520" y="2698920"/>
              <a:ext cx="31680" cy="47520"/>
            </a:xfrm>
            <a:custGeom>
              <a:avLst/>
              <a:gdLst/>
              <a:ahLst/>
              <a:rect l="l" t="t" r="r" b="b"/>
              <a:pathLst>
                <a:path w="20" h="30">
                  <a:moveTo>
                    <a:pt x="0" y="20"/>
                  </a:moveTo>
                  <a:lnTo>
                    <a:pt x="0" y="20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15" y="5"/>
                  </a:lnTo>
                  <a:lnTo>
                    <a:pt x="15" y="5"/>
                  </a:lnTo>
                  <a:lnTo>
                    <a:pt x="15" y="5"/>
                  </a:lnTo>
                  <a:lnTo>
                    <a:pt x="15" y="5"/>
                  </a:lnTo>
                  <a:lnTo>
                    <a:pt x="15" y="10"/>
                  </a:lnTo>
                  <a:lnTo>
                    <a:pt x="15" y="10"/>
                  </a:lnTo>
                  <a:lnTo>
                    <a:pt x="20" y="10"/>
                  </a:lnTo>
                  <a:lnTo>
                    <a:pt x="20" y="15"/>
                  </a:lnTo>
                  <a:lnTo>
                    <a:pt x="20" y="15"/>
                  </a:lnTo>
                  <a:lnTo>
                    <a:pt x="20" y="20"/>
                  </a:lnTo>
                  <a:lnTo>
                    <a:pt x="20" y="20"/>
                  </a:lnTo>
                  <a:lnTo>
                    <a:pt x="20" y="20"/>
                  </a:lnTo>
                  <a:lnTo>
                    <a:pt x="20" y="25"/>
                  </a:lnTo>
                  <a:lnTo>
                    <a:pt x="20" y="25"/>
                  </a:lnTo>
                  <a:lnTo>
                    <a:pt x="20" y="25"/>
                  </a:lnTo>
                  <a:lnTo>
                    <a:pt x="20" y="25"/>
                  </a:lnTo>
                  <a:lnTo>
                    <a:pt x="20" y="30"/>
                  </a:lnTo>
                  <a:lnTo>
                    <a:pt x="15" y="30"/>
                  </a:lnTo>
                  <a:lnTo>
                    <a:pt x="15" y="30"/>
                  </a:lnTo>
                  <a:lnTo>
                    <a:pt x="15" y="30"/>
                  </a:lnTo>
                  <a:lnTo>
                    <a:pt x="10" y="30"/>
                  </a:lnTo>
                  <a:lnTo>
                    <a:pt x="10" y="30"/>
                  </a:lnTo>
                  <a:lnTo>
                    <a:pt x="10" y="30"/>
                  </a:lnTo>
                  <a:lnTo>
                    <a:pt x="5" y="30"/>
                  </a:lnTo>
                  <a:lnTo>
                    <a:pt x="5" y="25"/>
                  </a:lnTo>
                  <a:lnTo>
                    <a:pt x="0" y="25"/>
                  </a:lnTo>
                  <a:lnTo>
                    <a:pt x="0" y="20"/>
                  </a:lnTo>
                  <a:close/>
                  <a:moveTo>
                    <a:pt x="5" y="20"/>
                  </a:moveTo>
                  <a:lnTo>
                    <a:pt x="5" y="20"/>
                  </a:lnTo>
                  <a:lnTo>
                    <a:pt x="5" y="25"/>
                  </a:lnTo>
                  <a:lnTo>
                    <a:pt x="10" y="25"/>
                  </a:lnTo>
                  <a:lnTo>
                    <a:pt x="10" y="25"/>
                  </a:lnTo>
                  <a:lnTo>
                    <a:pt x="10" y="25"/>
                  </a:lnTo>
                  <a:lnTo>
                    <a:pt x="10" y="30"/>
                  </a:lnTo>
                  <a:lnTo>
                    <a:pt x="15" y="30"/>
                  </a:lnTo>
                  <a:lnTo>
                    <a:pt x="15" y="25"/>
                  </a:lnTo>
                  <a:lnTo>
                    <a:pt x="15" y="25"/>
                  </a:lnTo>
                  <a:lnTo>
                    <a:pt x="15" y="25"/>
                  </a:lnTo>
                  <a:lnTo>
                    <a:pt x="15" y="25"/>
                  </a:lnTo>
                  <a:lnTo>
                    <a:pt x="15" y="25"/>
                  </a:lnTo>
                  <a:lnTo>
                    <a:pt x="15" y="20"/>
                  </a:lnTo>
                  <a:lnTo>
                    <a:pt x="15" y="20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0"/>
                  </a:lnTo>
                  <a:lnTo>
                    <a:pt x="10" y="10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0" y="5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5"/>
                  </a:lnTo>
                  <a:lnTo>
                    <a:pt x="5" y="15"/>
                  </a:lnTo>
                  <a:lnTo>
                    <a:pt x="5" y="20"/>
                  </a:lnTo>
                  <a:close/>
                </a:path>
              </a:pathLst>
            </a:custGeom>
            <a:solidFill>
              <a:srgbClr val="666666"/>
            </a:solidFill>
            <a:ln w="0">
              <a:solidFill>
                <a:srgbClr val="6666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9" name=""/>
            <p:cNvSpPr/>
            <p:nvPr/>
          </p:nvSpPr>
          <p:spPr>
            <a:xfrm flipH="1">
              <a:off x="5730840" y="2768760"/>
              <a:ext cx="7920" cy="7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0" name=""/>
            <p:cNvSpPr/>
            <p:nvPr/>
          </p:nvSpPr>
          <p:spPr>
            <a:xfrm>
              <a:off x="4859280" y="2776680"/>
              <a:ext cx="871560" cy="370080"/>
            </a:xfrm>
            <a:custGeom>
              <a:avLst/>
              <a:gdLst/>
              <a:ahLst/>
              <a:rect l="l" t="t" r="r" b="b"/>
              <a:pathLst>
                <a:path w="549" h="233">
                  <a:moveTo>
                    <a:pt x="549" y="0"/>
                  </a:moveTo>
                  <a:lnTo>
                    <a:pt x="544" y="5"/>
                  </a:lnTo>
                  <a:lnTo>
                    <a:pt x="544" y="10"/>
                  </a:lnTo>
                  <a:lnTo>
                    <a:pt x="544" y="15"/>
                  </a:lnTo>
                  <a:lnTo>
                    <a:pt x="544" y="20"/>
                  </a:lnTo>
                  <a:lnTo>
                    <a:pt x="544" y="25"/>
                  </a:lnTo>
                  <a:lnTo>
                    <a:pt x="544" y="30"/>
                  </a:lnTo>
                  <a:lnTo>
                    <a:pt x="539" y="35"/>
                  </a:lnTo>
                  <a:lnTo>
                    <a:pt x="534" y="40"/>
                  </a:lnTo>
                  <a:lnTo>
                    <a:pt x="529" y="45"/>
                  </a:lnTo>
                  <a:lnTo>
                    <a:pt x="524" y="50"/>
                  </a:lnTo>
                  <a:lnTo>
                    <a:pt x="519" y="55"/>
                  </a:lnTo>
                  <a:lnTo>
                    <a:pt x="514" y="60"/>
                  </a:lnTo>
                  <a:lnTo>
                    <a:pt x="514" y="65"/>
                  </a:lnTo>
                  <a:lnTo>
                    <a:pt x="510" y="69"/>
                  </a:lnTo>
                  <a:lnTo>
                    <a:pt x="505" y="74"/>
                  </a:lnTo>
                  <a:lnTo>
                    <a:pt x="495" y="79"/>
                  </a:lnTo>
                  <a:lnTo>
                    <a:pt x="490" y="84"/>
                  </a:lnTo>
                  <a:lnTo>
                    <a:pt x="485" y="89"/>
                  </a:lnTo>
                  <a:lnTo>
                    <a:pt x="480" y="94"/>
                  </a:lnTo>
                  <a:lnTo>
                    <a:pt x="475" y="94"/>
                  </a:lnTo>
                  <a:lnTo>
                    <a:pt x="465" y="99"/>
                  </a:lnTo>
                  <a:lnTo>
                    <a:pt x="460" y="104"/>
                  </a:lnTo>
                  <a:lnTo>
                    <a:pt x="450" y="104"/>
                  </a:lnTo>
                  <a:lnTo>
                    <a:pt x="440" y="104"/>
                  </a:lnTo>
                  <a:lnTo>
                    <a:pt x="435" y="104"/>
                  </a:lnTo>
                  <a:lnTo>
                    <a:pt x="425" y="109"/>
                  </a:lnTo>
                  <a:lnTo>
                    <a:pt x="416" y="109"/>
                  </a:lnTo>
                  <a:lnTo>
                    <a:pt x="406" y="109"/>
                  </a:lnTo>
                  <a:lnTo>
                    <a:pt x="396" y="109"/>
                  </a:lnTo>
                  <a:lnTo>
                    <a:pt x="391" y="109"/>
                  </a:lnTo>
                  <a:lnTo>
                    <a:pt x="381" y="114"/>
                  </a:lnTo>
                  <a:lnTo>
                    <a:pt x="376" y="114"/>
                  </a:lnTo>
                  <a:lnTo>
                    <a:pt x="366" y="119"/>
                  </a:lnTo>
                  <a:lnTo>
                    <a:pt x="356" y="119"/>
                  </a:lnTo>
                  <a:lnTo>
                    <a:pt x="351" y="119"/>
                  </a:lnTo>
                  <a:lnTo>
                    <a:pt x="341" y="119"/>
                  </a:lnTo>
                  <a:lnTo>
                    <a:pt x="331" y="119"/>
                  </a:lnTo>
                  <a:lnTo>
                    <a:pt x="322" y="124"/>
                  </a:lnTo>
                  <a:lnTo>
                    <a:pt x="317" y="124"/>
                  </a:lnTo>
                  <a:lnTo>
                    <a:pt x="307" y="124"/>
                  </a:lnTo>
                  <a:lnTo>
                    <a:pt x="302" y="124"/>
                  </a:lnTo>
                  <a:lnTo>
                    <a:pt x="292" y="124"/>
                  </a:lnTo>
                  <a:lnTo>
                    <a:pt x="282" y="119"/>
                  </a:lnTo>
                  <a:lnTo>
                    <a:pt x="272" y="119"/>
                  </a:lnTo>
                  <a:lnTo>
                    <a:pt x="267" y="119"/>
                  </a:lnTo>
                  <a:lnTo>
                    <a:pt x="257" y="119"/>
                  </a:lnTo>
                  <a:lnTo>
                    <a:pt x="247" y="119"/>
                  </a:lnTo>
                  <a:lnTo>
                    <a:pt x="238" y="119"/>
                  </a:lnTo>
                  <a:lnTo>
                    <a:pt x="228" y="119"/>
                  </a:lnTo>
                  <a:lnTo>
                    <a:pt x="223" y="119"/>
                  </a:lnTo>
                  <a:lnTo>
                    <a:pt x="213" y="124"/>
                  </a:lnTo>
                  <a:lnTo>
                    <a:pt x="203" y="124"/>
                  </a:lnTo>
                  <a:lnTo>
                    <a:pt x="193" y="124"/>
                  </a:lnTo>
                  <a:lnTo>
                    <a:pt x="188" y="124"/>
                  </a:lnTo>
                  <a:lnTo>
                    <a:pt x="178" y="124"/>
                  </a:lnTo>
                  <a:lnTo>
                    <a:pt x="168" y="129"/>
                  </a:lnTo>
                  <a:lnTo>
                    <a:pt x="163" y="129"/>
                  </a:lnTo>
                  <a:lnTo>
                    <a:pt x="158" y="134"/>
                  </a:lnTo>
                  <a:lnTo>
                    <a:pt x="148" y="139"/>
                  </a:lnTo>
                  <a:lnTo>
                    <a:pt x="144" y="139"/>
                  </a:lnTo>
                  <a:lnTo>
                    <a:pt x="134" y="134"/>
                  </a:lnTo>
                  <a:lnTo>
                    <a:pt x="129" y="129"/>
                  </a:lnTo>
                  <a:lnTo>
                    <a:pt x="119" y="124"/>
                  </a:lnTo>
                  <a:lnTo>
                    <a:pt x="114" y="119"/>
                  </a:lnTo>
                  <a:lnTo>
                    <a:pt x="109" y="119"/>
                  </a:lnTo>
                  <a:lnTo>
                    <a:pt x="104" y="114"/>
                  </a:lnTo>
                  <a:lnTo>
                    <a:pt x="94" y="109"/>
                  </a:lnTo>
                  <a:lnTo>
                    <a:pt x="89" y="109"/>
                  </a:lnTo>
                  <a:lnTo>
                    <a:pt x="79" y="109"/>
                  </a:lnTo>
                  <a:lnTo>
                    <a:pt x="69" y="109"/>
                  </a:lnTo>
                  <a:lnTo>
                    <a:pt x="59" y="104"/>
                  </a:lnTo>
                  <a:lnTo>
                    <a:pt x="50" y="104"/>
                  </a:lnTo>
                  <a:lnTo>
                    <a:pt x="45" y="109"/>
                  </a:lnTo>
                  <a:lnTo>
                    <a:pt x="35" y="109"/>
                  </a:lnTo>
                  <a:lnTo>
                    <a:pt x="30" y="114"/>
                  </a:lnTo>
                  <a:lnTo>
                    <a:pt x="20" y="114"/>
                  </a:lnTo>
                  <a:lnTo>
                    <a:pt x="15" y="119"/>
                  </a:lnTo>
                  <a:lnTo>
                    <a:pt x="10" y="124"/>
                  </a:lnTo>
                  <a:lnTo>
                    <a:pt x="10" y="129"/>
                  </a:lnTo>
                  <a:lnTo>
                    <a:pt x="10" y="139"/>
                  </a:lnTo>
                  <a:lnTo>
                    <a:pt x="15" y="144"/>
                  </a:lnTo>
                  <a:lnTo>
                    <a:pt x="25" y="144"/>
                  </a:lnTo>
                  <a:lnTo>
                    <a:pt x="35" y="144"/>
                  </a:lnTo>
                  <a:lnTo>
                    <a:pt x="40" y="149"/>
                  </a:lnTo>
                  <a:lnTo>
                    <a:pt x="50" y="149"/>
                  </a:lnTo>
                  <a:lnTo>
                    <a:pt x="59" y="149"/>
                  </a:lnTo>
                  <a:lnTo>
                    <a:pt x="64" y="154"/>
                  </a:lnTo>
                  <a:lnTo>
                    <a:pt x="74" y="154"/>
                  </a:lnTo>
                  <a:lnTo>
                    <a:pt x="79" y="158"/>
                  </a:lnTo>
                  <a:lnTo>
                    <a:pt x="89" y="163"/>
                  </a:lnTo>
                  <a:lnTo>
                    <a:pt x="94" y="168"/>
                  </a:lnTo>
                  <a:lnTo>
                    <a:pt x="99" y="173"/>
                  </a:lnTo>
                  <a:lnTo>
                    <a:pt x="104" y="178"/>
                  </a:lnTo>
                  <a:lnTo>
                    <a:pt x="104" y="183"/>
                  </a:lnTo>
                  <a:lnTo>
                    <a:pt x="104" y="188"/>
                  </a:lnTo>
                  <a:lnTo>
                    <a:pt x="104" y="193"/>
                  </a:lnTo>
                  <a:lnTo>
                    <a:pt x="99" y="198"/>
                  </a:lnTo>
                  <a:lnTo>
                    <a:pt x="94" y="203"/>
                  </a:lnTo>
                  <a:lnTo>
                    <a:pt x="84" y="203"/>
                  </a:lnTo>
                  <a:lnTo>
                    <a:pt x="79" y="203"/>
                  </a:lnTo>
                  <a:lnTo>
                    <a:pt x="69" y="203"/>
                  </a:lnTo>
                  <a:lnTo>
                    <a:pt x="59" y="198"/>
                  </a:lnTo>
                  <a:lnTo>
                    <a:pt x="55" y="193"/>
                  </a:lnTo>
                  <a:lnTo>
                    <a:pt x="45" y="193"/>
                  </a:lnTo>
                  <a:lnTo>
                    <a:pt x="40" y="188"/>
                  </a:lnTo>
                  <a:lnTo>
                    <a:pt x="30" y="183"/>
                  </a:lnTo>
                  <a:lnTo>
                    <a:pt x="25" y="178"/>
                  </a:lnTo>
                  <a:lnTo>
                    <a:pt x="20" y="178"/>
                  </a:lnTo>
                  <a:lnTo>
                    <a:pt x="10" y="178"/>
                  </a:lnTo>
                  <a:lnTo>
                    <a:pt x="5" y="183"/>
                  </a:lnTo>
                  <a:lnTo>
                    <a:pt x="0" y="188"/>
                  </a:lnTo>
                  <a:lnTo>
                    <a:pt x="0" y="193"/>
                  </a:lnTo>
                  <a:lnTo>
                    <a:pt x="0" y="198"/>
                  </a:lnTo>
                  <a:lnTo>
                    <a:pt x="5" y="203"/>
                  </a:lnTo>
                  <a:lnTo>
                    <a:pt x="15" y="208"/>
                  </a:lnTo>
                  <a:lnTo>
                    <a:pt x="25" y="213"/>
                  </a:lnTo>
                  <a:lnTo>
                    <a:pt x="35" y="213"/>
                  </a:lnTo>
                  <a:lnTo>
                    <a:pt x="40" y="218"/>
                  </a:lnTo>
                  <a:lnTo>
                    <a:pt x="40" y="223"/>
                  </a:lnTo>
                  <a:lnTo>
                    <a:pt x="30" y="228"/>
                  </a:lnTo>
                  <a:lnTo>
                    <a:pt x="25" y="233"/>
                  </a:lnTo>
                  <a:lnTo>
                    <a:pt x="15" y="233"/>
                  </a:lnTo>
                  <a:lnTo>
                    <a:pt x="10" y="228"/>
                  </a:lnTo>
                  <a:lnTo>
                    <a:pt x="10" y="223"/>
                  </a:lnTo>
                  <a:lnTo>
                    <a:pt x="5" y="213"/>
                  </a:lnTo>
                  <a:lnTo>
                    <a:pt x="0" y="20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1" name=""/>
            <p:cNvSpPr/>
            <p:nvPr/>
          </p:nvSpPr>
          <p:spPr>
            <a:xfrm>
              <a:off x="4859280" y="3106800"/>
              <a:ext cx="14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2" name=""/>
            <p:cNvSpPr/>
            <p:nvPr/>
          </p:nvSpPr>
          <p:spPr>
            <a:xfrm>
              <a:off x="4819320" y="2989440"/>
              <a:ext cx="47880" cy="23760"/>
            </a:xfrm>
            <a:custGeom>
              <a:avLst/>
              <a:gdLst/>
              <a:ahLst/>
              <a:rect l="l" t="t" r="r" b="b"/>
              <a:pathLst>
                <a:path w="30" h="15">
                  <a:moveTo>
                    <a:pt x="0" y="15"/>
                  </a:moveTo>
                  <a:lnTo>
                    <a:pt x="0" y="15"/>
                  </a:lnTo>
                  <a:lnTo>
                    <a:pt x="20" y="10"/>
                  </a:lnTo>
                  <a:lnTo>
                    <a:pt x="20" y="5"/>
                  </a:lnTo>
                  <a:lnTo>
                    <a:pt x="20" y="5"/>
                  </a:lnTo>
                  <a:lnTo>
                    <a:pt x="20" y="5"/>
                  </a:lnTo>
                  <a:lnTo>
                    <a:pt x="20" y="5"/>
                  </a:lnTo>
                  <a:lnTo>
                    <a:pt x="20" y="5"/>
                  </a:lnTo>
                  <a:lnTo>
                    <a:pt x="15" y="5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20" y="5"/>
                  </a:lnTo>
                  <a:lnTo>
                    <a:pt x="25" y="5"/>
                  </a:lnTo>
                  <a:lnTo>
                    <a:pt x="25" y="5"/>
                  </a:lnTo>
                  <a:lnTo>
                    <a:pt x="25" y="5"/>
                  </a:lnTo>
                  <a:lnTo>
                    <a:pt x="25" y="5"/>
                  </a:lnTo>
                  <a:lnTo>
                    <a:pt x="30" y="5"/>
                  </a:lnTo>
                  <a:lnTo>
                    <a:pt x="30" y="10"/>
                  </a:lnTo>
                  <a:lnTo>
                    <a:pt x="30" y="10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666666"/>
            </a:solidFill>
            <a:ln w="0">
              <a:solidFill>
                <a:srgbClr val="6666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3" name=""/>
            <p:cNvSpPr/>
            <p:nvPr/>
          </p:nvSpPr>
          <p:spPr>
            <a:xfrm>
              <a:off x="4827240" y="3021120"/>
              <a:ext cx="47880" cy="38160"/>
            </a:xfrm>
            <a:custGeom>
              <a:avLst/>
              <a:gdLst/>
              <a:ahLst/>
              <a:rect l="l" t="t" r="r" b="b"/>
              <a:pathLst>
                <a:path w="30" h="24">
                  <a:moveTo>
                    <a:pt x="15" y="4"/>
                  </a:moveTo>
                  <a:lnTo>
                    <a:pt x="15" y="4"/>
                  </a:lnTo>
                  <a:lnTo>
                    <a:pt x="15" y="4"/>
                  </a:lnTo>
                  <a:lnTo>
                    <a:pt x="15" y="4"/>
                  </a:lnTo>
                  <a:lnTo>
                    <a:pt x="15" y="4"/>
                  </a:lnTo>
                  <a:lnTo>
                    <a:pt x="15" y="4"/>
                  </a:lnTo>
                  <a:lnTo>
                    <a:pt x="15" y="4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25" y="0"/>
                  </a:lnTo>
                  <a:lnTo>
                    <a:pt x="25" y="4"/>
                  </a:lnTo>
                  <a:lnTo>
                    <a:pt x="25" y="4"/>
                  </a:lnTo>
                  <a:lnTo>
                    <a:pt x="25" y="4"/>
                  </a:lnTo>
                  <a:lnTo>
                    <a:pt x="30" y="4"/>
                  </a:lnTo>
                  <a:lnTo>
                    <a:pt x="30" y="9"/>
                  </a:lnTo>
                  <a:lnTo>
                    <a:pt x="30" y="9"/>
                  </a:lnTo>
                  <a:lnTo>
                    <a:pt x="30" y="9"/>
                  </a:lnTo>
                  <a:lnTo>
                    <a:pt x="30" y="14"/>
                  </a:lnTo>
                  <a:lnTo>
                    <a:pt x="25" y="14"/>
                  </a:lnTo>
                  <a:lnTo>
                    <a:pt x="25" y="14"/>
                  </a:lnTo>
                  <a:lnTo>
                    <a:pt x="25" y="14"/>
                  </a:lnTo>
                  <a:lnTo>
                    <a:pt x="25" y="19"/>
                  </a:lnTo>
                  <a:lnTo>
                    <a:pt x="20" y="19"/>
                  </a:lnTo>
                  <a:lnTo>
                    <a:pt x="20" y="19"/>
                  </a:lnTo>
                  <a:lnTo>
                    <a:pt x="20" y="19"/>
                  </a:lnTo>
                  <a:lnTo>
                    <a:pt x="20" y="19"/>
                  </a:lnTo>
                  <a:lnTo>
                    <a:pt x="20" y="19"/>
                  </a:lnTo>
                  <a:lnTo>
                    <a:pt x="20" y="19"/>
                  </a:lnTo>
                  <a:lnTo>
                    <a:pt x="15" y="14"/>
                  </a:lnTo>
                  <a:lnTo>
                    <a:pt x="15" y="14"/>
                  </a:lnTo>
                  <a:lnTo>
                    <a:pt x="15" y="14"/>
                  </a:lnTo>
                  <a:lnTo>
                    <a:pt x="15" y="14"/>
                  </a:lnTo>
                  <a:lnTo>
                    <a:pt x="15" y="19"/>
                  </a:lnTo>
                  <a:lnTo>
                    <a:pt x="15" y="19"/>
                  </a:lnTo>
                  <a:lnTo>
                    <a:pt x="15" y="19"/>
                  </a:lnTo>
                  <a:lnTo>
                    <a:pt x="15" y="19"/>
                  </a:lnTo>
                  <a:lnTo>
                    <a:pt x="10" y="19"/>
                  </a:lnTo>
                  <a:lnTo>
                    <a:pt x="10" y="19"/>
                  </a:lnTo>
                  <a:lnTo>
                    <a:pt x="10" y="24"/>
                  </a:lnTo>
                  <a:lnTo>
                    <a:pt x="5" y="24"/>
                  </a:lnTo>
                  <a:lnTo>
                    <a:pt x="5" y="24"/>
                  </a:lnTo>
                  <a:lnTo>
                    <a:pt x="5" y="19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5" y="4"/>
                  </a:lnTo>
                  <a:lnTo>
                    <a:pt x="15" y="4"/>
                  </a:lnTo>
                  <a:close/>
                  <a:moveTo>
                    <a:pt x="20" y="4"/>
                  </a:moveTo>
                  <a:lnTo>
                    <a:pt x="20" y="4"/>
                  </a:lnTo>
                  <a:lnTo>
                    <a:pt x="20" y="4"/>
                  </a:lnTo>
                  <a:lnTo>
                    <a:pt x="15" y="4"/>
                  </a:lnTo>
                  <a:lnTo>
                    <a:pt x="15" y="4"/>
                  </a:lnTo>
                  <a:lnTo>
                    <a:pt x="15" y="9"/>
                  </a:lnTo>
                  <a:lnTo>
                    <a:pt x="15" y="9"/>
                  </a:lnTo>
                  <a:lnTo>
                    <a:pt x="15" y="9"/>
                  </a:lnTo>
                  <a:lnTo>
                    <a:pt x="15" y="9"/>
                  </a:lnTo>
                  <a:lnTo>
                    <a:pt x="15" y="9"/>
                  </a:lnTo>
                  <a:lnTo>
                    <a:pt x="15" y="14"/>
                  </a:lnTo>
                  <a:lnTo>
                    <a:pt x="15" y="14"/>
                  </a:lnTo>
                  <a:lnTo>
                    <a:pt x="20" y="14"/>
                  </a:lnTo>
                  <a:lnTo>
                    <a:pt x="20" y="14"/>
                  </a:lnTo>
                  <a:lnTo>
                    <a:pt x="20" y="14"/>
                  </a:lnTo>
                  <a:lnTo>
                    <a:pt x="20" y="14"/>
                  </a:lnTo>
                  <a:lnTo>
                    <a:pt x="20" y="14"/>
                  </a:lnTo>
                  <a:lnTo>
                    <a:pt x="20" y="14"/>
                  </a:lnTo>
                  <a:lnTo>
                    <a:pt x="25" y="14"/>
                  </a:lnTo>
                  <a:lnTo>
                    <a:pt x="25" y="14"/>
                  </a:lnTo>
                  <a:lnTo>
                    <a:pt x="25" y="14"/>
                  </a:lnTo>
                  <a:lnTo>
                    <a:pt x="25" y="9"/>
                  </a:lnTo>
                  <a:lnTo>
                    <a:pt x="25" y="9"/>
                  </a:lnTo>
                  <a:lnTo>
                    <a:pt x="25" y="9"/>
                  </a:lnTo>
                  <a:lnTo>
                    <a:pt x="25" y="9"/>
                  </a:lnTo>
                  <a:lnTo>
                    <a:pt x="25" y="9"/>
                  </a:lnTo>
                  <a:lnTo>
                    <a:pt x="25" y="4"/>
                  </a:lnTo>
                  <a:lnTo>
                    <a:pt x="25" y="4"/>
                  </a:lnTo>
                  <a:lnTo>
                    <a:pt x="25" y="4"/>
                  </a:lnTo>
                  <a:lnTo>
                    <a:pt x="20" y="4"/>
                  </a:lnTo>
                  <a:lnTo>
                    <a:pt x="20" y="4"/>
                  </a:lnTo>
                  <a:lnTo>
                    <a:pt x="20" y="4"/>
                  </a:lnTo>
                  <a:lnTo>
                    <a:pt x="20" y="4"/>
                  </a:lnTo>
                  <a:close/>
                  <a:moveTo>
                    <a:pt x="5" y="4"/>
                  </a:moveTo>
                  <a:lnTo>
                    <a:pt x="5" y="4"/>
                  </a:lnTo>
                  <a:lnTo>
                    <a:pt x="5" y="9"/>
                  </a:lnTo>
                  <a:lnTo>
                    <a:pt x="5" y="9"/>
                  </a:lnTo>
                  <a:lnTo>
                    <a:pt x="5" y="9"/>
                  </a:lnTo>
                  <a:lnTo>
                    <a:pt x="5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5" y="14"/>
                  </a:lnTo>
                  <a:lnTo>
                    <a:pt x="5" y="19"/>
                  </a:lnTo>
                  <a:lnTo>
                    <a:pt x="5" y="19"/>
                  </a:lnTo>
                  <a:lnTo>
                    <a:pt x="5" y="19"/>
                  </a:lnTo>
                  <a:lnTo>
                    <a:pt x="5" y="19"/>
                  </a:lnTo>
                  <a:lnTo>
                    <a:pt x="10" y="19"/>
                  </a:lnTo>
                  <a:lnTo>
                    <a:pt x="10" y="19"/>
                  </a:lnTo>
                  <a:lnTo>
                    <a:pt x="10" y="19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15" y="14"/>
                  </a:lnTo>
                  <a:lnTo>
                    <a:pt x="15" y="14"/>
                  </a:lnTo>
                  <a:lnTo>
                    <a:pt x="15" y="14"/>
                  </a:lnTo>
                  <a:lnTo>
                    <a:pt x="15" y="9"/>
                  </a:lnTo>
                  <a:lnTo>
                    <a:pt x="15" y="9"/>
                  </a:lnTo>
                  <a:lnTo>
                    <a:pt x="10" y="9"/>
                  </a:lnTo>
                  <a:lnTo>
                    <a:pt x="10" y="9"/>
                  </a:lnTo>
                  <a:lnTo>
                    <a:pt x="10" y="9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5" y="4"/>
                  </a:lnTo>
                  <a:lnTo>
                    <a:pt x="5" y="4"/>
                  </a:lnTo>
                  <a:close/>
                </a:path>
              </a:pathLst>
            </a:custGeom>
            <a:solidFill>
              <a:srgbClr val="666666"/>
            </a:solidFill>
            <a:ln w="0">
              <a:solidFill>
                <a:srgbClr val="6666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4" name=""/>
            <p:cNvSpPr/>
            <p:nvPr/>
          </p:nvSpPr>
          <p:spPr>
            <a:xfrm>
              <a:off x="4835520" y="3059280"/>
              <a:ext cx="47520" cy="31680"/>
            </a:xfrm>
            <a:custGeom>
              <a:avLst/>
              <a:gdLst/>
              <a:ahLst/>
              <a:rect l="l" t="t" r="r" b="b"/>
              <a:pathLst>
                <a:path w="30" h="20">
                  <a:moveTo>
                    <a:pt x="10" y="0"/>
                  </a:moveTo>
                  <a:lnTo>
                    <a:pt x="15" y="0"/>
                  </a:lnTo>
                  <a:lnTo>
                    <a:pt x="15" y="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5"/>
                  </a:lnTo>
                  <a:lnTo>
                    <a:pt x="25" y="5"/>
                  </a:lnTo>
                  <a:lnTo>
                    <a:pt x="30" y="5"/>
                  </a:lnTo>
                  <a:lnTo>
                    <a:pt x="30" y="5"/>
                  </a:lnTo>
                  <a:lnTo>
                    <a:pt x="30" y="10"/>
                  </a:lnTo>
                  <a:lnTo>
                    <a:pt x="30" y="10"/>
                  </a:lnTo>
                  <a:lnTo>
                    <a:pt x="30" y="10"/>
                  </a:lnTo>
                  <a:lnTo>
                    <a:pt x="25" y="10"/>
                  </a:lnTo>
                  <a:lnTo>
                    <a:pt x="25" y="10"/>
                  </a:lnTo>
                  <a:lnTo>
                    <a:pt x="25" y="15"/>
                  </a:lnTo>
                  <a:lnTo>
                    <a:pt x="25" y="15"/>
                  </a:lnTo>
                  <a:lnTo>
                    <a:pt x="25" y="15"/>
                  </a:lnTo>
                  <a:lnTo>
                    <a:pt x="25" y="15"/>
                  </a:lnTo>
                  <a:lnTo>
                    <a:pt x="25" y="15"/>
                  </a:lnTo>
                  <a:lnTo>
                    <a:pt x="20" y="15"/>
                  </a:lnTo>
                  <a:lnTo>
                    <a:pt x="20" y="15"/>
                  </a:lnTo>
                  <a:lnTo>
                    <a:pt x="20" y="20"/>
                  </a:lnTo>
                  <a:lnTo>
                    <a:pt x="15" y="20"/>
                  </a:lnTo>
                  <a:lnTo>
                    <a:pt x="15" y="20"/>
                  </a:lnTo>
                  <a:lnTo>
                    <a:pt x="10" y="20"/>
                  </a:lnTo>
                  <a:lnTo>
                    <a:pt x="10" y="20"/>
                  </a:lnTo>
                  <a:lnTo>
                    <a:pt x="10" y="20"/>
                  </a:lnTo>
                  <a:lnTo>
                    <a:pt x="5" y="20"/>
                  </a:lnTo>
                  <a:lnTo>
                    <a:pt x="5" y="20"/>
                  </a:lnTo>
                  <a:lnTo>
                    <a:pt x="5" y="20"/>
                  </a:lnTo>
                  <a:lnTo>
                    <a:pt x="0" y="20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5" y="0"/>
                  </a:lnTo>
                  <a:lnTo>
                    <a:pt x="5" y="0"/>
                  </a:lnTo>
                  <a:lnTo>
                    <a:pt x="10" y="0"/>
                  </a:lnTo>
                  <a:close/>
                  <a:moveTo>
                    <a:pt x="10" y="5"/>
                  </a:moveTo>
                  <a:lnTo>
                    <a:pt x="10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5" y="15"/>
                  </a:lnTo>
                  <a:lnTo>
                    <a:pt x="5" y="15"/>
                  </a:lnTo>
                  <a:lnTo>
                    <a:pt x="5" y="15"/>
                  </a:lnTo>
                  <a:lnTo>
                    <a:pt x="10" y="15"/>
                  </a:lnTo>
                  <a:lnTo>
                    <a:pt x="10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20" y="15"/>
                  </a:lnTo>
                  <a:lnTo>
                    <a:pt x="20" y="10"/>
                  </a:lnTo>
                  <a:lnTo>
                    <a:pt x="25" y="10"/>
                  </a:lnTo>
                  <a:lnTo>
                    <a:pt x="25" y="10"/>
                  </a:lnTo>
                  <a:lnTo>
                    <a:pt x="25" y="10"/>
                  </a:lnTo>
                  <a:lnTo>
                    <a:pt x="25" y="10"/>
                  </a:lnTo>
                  <a:lnTo>
                    <a:pt x="25" y="5"/>
                  </a:lnTo>
                  <a:lnTo>
                    <a:pt x="25" y="5"/>
                  </a:lnTo>
                  <a:lnTo>
                    <a:pt x="25" y="5"/>
                  </a:lnTo>
                  <a:lnTo>
                    <a:pt x="25" y="5"/>
                  </a:lnTo>
                  <a:lnTo>
                    <a:pt x="20" y="5"/>
                  </a:lnTo>
                  <a:lnTo>
                    <a:pt x="20" y="5"/>
                  </a:lnTo>
                  <a:lnTo>
                    <a:pt x="20" y="5"/>
                  </a:lnTo>
                  <a:lnTo>
                    <a:pt x="15" y="5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666666"/>
            </a:solidFill>
            <a:ln w="0">
              <a:solidFill>
                <a:srgbClr val="6666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5" name=""/>
            <p:cNvSpPr/>
            <p:nvPr/>
          </p:nvSpPr>
          <p:spPr>
            <a:xfrm flipV="1">
              <a:off x="4835520" y="2965680"/>
              <a:ext cx="1440" cy="7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6" name=""/>
            <p:cNvSpPr/>
            <p:nvPr/>
          </p:nvSpPr>
          <p:spPr>
            <a:xfrm>
              <a:off x="4286160" y="2934000"/>
              <a:ext cx="557280" cy="407880"/>
            </a:xfrm>
            <a:custGeom>
              <a:avLst/>
              <a:gdLst/>
              <a:ahLst/>
              <a:rect l="l" t="t" r="r" b="b"/>
              <a:pathLst>
                <a:path w="351" h="257">
                  <a:moveTo>
                    <a:pt x="346" y="20"/>
                  </a:moveTo>
                  <a:lnTo>
                    <a:pt x="351" y="15"/>
                  </a:lnTo>
                  <a:lnTo>
                    <a:pt x="346" y="10"/>
                  </a:lnTo>
                  <a:lnTo>
                    <a:pt x="336" y="5"/>
                  </a:lnTo>
                  <a:lnTo>
                    <a:pt x="331" y="0"/>
                  </a:lnTo>
                  <a:lnTo>
                    <a:pt x="322" y="0"/>
                  </a:lnTo>
                  <a:lnTo>
                    <a:pt x="317" y="5"/>
                  </a:lnTo>
                  <a:lnTo>
                    <a:pt x="312" y="10"/>
                  </a:lnTo>
                  <a:lnTo>
                    <a:pt x="312" y="15"/>
                  </a:lnTo>
                  <a:lnTo>
                    <a:pt x="307" y="20"/>
                  </a:lnTo>
                  <a:lnTo>
                    <a:pt x="302" y="25"/>
                  </a:lnTo>
                  <a:lnTo>
                    <a:pt x="292" y="30"/>
                  </a:lnTo>
                  <a:lnTo>
                    <a:pt x="282" y="30"/>
                  </a:lnTo>
                  <a:lnTo>
                    <a:pt x="277" y="35"/>
                  </a:lnTo>
                  <a:lnTo>
                    <a:pt x="272" y="40"/>
                  </a:lnTo>
                  <a:lnTo>
                    <a:pt x="267" y="45"/>
                  </a:lnTo>
                  <a:lnTo>
                    <a:pt x="257" y="45"/>
                  </a:lnTo>
                  <a:lnTo>
                    <a:pt x="252" y="50"/>
                  </a:lnTo>
                  <a:lnTo>
                    <a:pt x="247" y="55"/>
                  </a:lnTo>
                  <a:lnTo>
                    <a:pt x="237" y="59"/>
                  </a:lnTo>
                  <a:lnTo>
                    <a:pt x="237" y="64"/>
                  </a:lnTo>
                  <a:lnTo>
                    <a:pt x="233" y="69"/>
                  </a:lnTo>
                  <a:lnTo>
                    <a:pt x="223" y="69"/>
                  </a:lnTo>
                  <a:lnTo>
                    <a:pt x="218" y="74"/>
                  </a:lnTo>
                  <a:lnTo>
                    <a:pt x="213" y="79"/>
                  </a:lnTo>
                  <a:lnTo>
                    <a:pt x="203" y="84"/>
                  </a:lnTo>
                  <a:lnTo>
                    <a:pt x="198" y="84"/>
                  </a:lnTo>
                  <a:lnTo>
                    <a:pt x="193" y="89"/>
                  </a:lnTo>
                  <a:lnTo>
                    <a:pt x="188" y="94"/>
                  </a:lnTo>
                  <a:lnTo>
                    <a:pt x="183" y="99"/>
                  </a:lnTo>
                  <a:lnTo>
                    <a:pt x="173" y="104"/>
                  </a:lnTo>
                  <a:lnTo>
                    <a:pt x="168" y="109"/>
                  </a:lnTo>
                  <a:lnTo>
                    <a:pt x="163" y="109"/>
                  </a:lnTo>
                  <a:lnTo>
                    <a:pt x="153" y="114"/>
                  </a:lnTo>
                  <a:lnTo>
                    <a:pt x="148" y="119"/>
                  </a:lnTo>
                  <a:lnTo>
                    <a:pt x="144" y="124"/>
                  </a:lnTo>
                  <a:lnTo>
                    <a:pt x="139" y="129"/>
                  </a:lnTo>
                  <a:lnTo>
                    <a:pt x="134" y="134"/>
                  </a:lnTo>
                  <a:lnTo>
                    <a:pt x="124" y="134"/>
                  </a:lnTo>
                  <a:lnTo>
                    <a:pt x="119" y="139"/>
                  </a:lnTo>
                  <a:lnTo>
                    <a:pt x="114" y="143"/>
                  </a:lnTo>
                  <a:lnTo>
                    <a:pt x="114" y="148"/>
                  </a:lnTo>
                  <a:lnTo>
                    <a:pt x="109" y="153"/>
                  </a:lnTo>
                  <a:lnTo>
                    <a:pt x="104" y="158"/>
                  </a:lnTo>
                  <a:lnTo>
                    <a:pt x="94" y="158"/>
                  </a:lnTo>
                  <a:lnTo>
                    <a:pt x="84" y="158"/>
                  </a:lnTo>
                  <a:lnTo>
                    <a:pt x="74" y="153"/>
                  </a:lnTo>
                  <a:lnTo>
                    <a:pt x="69" y="153"/>
                  </a:lnTo>
                  <a:lnTo>
                    <a:pt x="59" y="148"/>
                  </a:lnTo>
                  <a:lnTo>
                    <a:pt x="55" y="143"/>
                  </a:lnTo>
                  <a:lnTo>
                    <a:pt x="64" y="143"/>
                  </a:lnTo>
                  <a:lnTo>
                    <a:pt x="69" y="139"/>
                  </a:lnTo>
                  <a:lnTo>
                    <a:pt x="74" y="134"/>
                  </a:lnTo>
                  <a:lnTo>
                    <a:pt x="74" y="124"/>
                  </a:lnTo>
                  <a:lnTo>
                    <a:pt x="79" y="124"/>
                  </a:lnTo>
                  <a:lnTo>
                    <a:pt x="89" y="119"/>
                  </a:lnTo>
                  <a:lnTo>
                    <a:pt x="94" y="114"/>
                  </a:lnTo>
                  <a:lnTo>
                    <a:pt x="94" y="109"/>
                  </a:lnTo>
                  <a:lnTo>
                    <a:pt x="94" y="104"/>
                  </a:lnTo>
                  <a:lnTo>
                    <a:pt x="99" y="94"/>
                  </a:lnTo>
                  <a:lnTo>
                    <a:pt x="99" y="89"/>
                  </a:lnTo>
                  <a:lnTo>
                    <a:pt x="104" y="84"/>
                  </a:lnTo>
                  <a:lnTo>
                    <a:pt x="109" y="79"/>
                  </a:lnTo>
                  <a:lnTo>
                    <a:pt x="114" y="74"/>
                  </a:lnTo>
                  <a:lnTo>
                    <a:pt x="124" y="74"/>
                  </a:lnTo>
                  <a:lnTo>
                    <a:pt x="129" y="69"/>
                  </a:lnTo>
                  <a:lnTo>
                    <a:pt x="129" y="59"/>
                  </a:lnTo>
                  <a:lnTo>
                    <a:pt x="134" y="55"/>
                  </a:lnTo>
                  <a:lnTo>
                    <a:pt x="134" y="50"/>
                  </a:lnTo>
                  <a:lnTo>
                    <a:pt x="144" y="50"/>
                  </a:lnTo>
                  <a:lnTo>
                    <a:pt x="148" y="50"/>
                  </a:lnTo>
                  <a:lnTo>
                    <a:pt x="158" y="50"/>
                  </a:lnTo>
                  <a:lnTo>
                    <a:pt x="168" y="50"/>
                  </a:lnTo>
                  <a:lnTo>
                    <a:pt x="178" y="45"/>
                  </a:lnTo>
                  <a:lnTo>
                    <a:pt x="178" y="40"/>
                  </a:lnTo>
                  <a:lnTo>
                    <a:pt x="178" y="35"/>
                  </a:lnTo>
                  <a:lnTo>
                    <a:pt x="178" y="25"/>
                  </a:lnTo>
                  <a:lnTo>
                    <a:pt x="173" y="25"/>
                  </a:lnTo>
                  <a:lnTo>
                    <a:pt x="163" y="20"/>
                  </a:lnTo>
                  <a:lnTo>
                    <a:pt x="153" y="20"/>
                  </a:lnTo>
                  <a:lnTo>
                    <a:pt x="148" y="20"/>
                  </a:lnTo>
                  <a:lnTo>
                    <a:pt x="139" y="25"/>
                  </a:lnTo>
                  <a:lnTo>
                    <a:pt x="129" y="25"/>
                  </a:lnTo>
                  <a:lnTo>
                    <a:pt x="119" y="25"/>
                  </a:lnTo>
                  <a:lnTo>
                    <a:pt x="114" y="30"/>
                  </a:lnTo>
                  <a:lnTo>
                    <a:pt x="104" y="30"/>
                  </a:lnTo>
                  <a:lnTo>
                    <a:pt x="94" y="30"/>
                  </a:lnTo>
                  <a:lnTo>
                    <a:pt x="84" y="30"/>
                  </a:lnTo>
                  <a:lnTo>
                    <a:pt x="79" y="35"/>
                  </a:lnTo>
                  <a:lnTo>
                    <a:pt x="69" y="35"/>
                  </a:lnTo>
                  <a:lnTo>
                    <a:pt x="59" y="35"/>
                  </a:lnTo>
                  <a:lnTo>
                    <a:pt x="50" y="35"/>
                  </a:lnTo>
                  <a:lnTo>
                    <a:pt x="45" y="40"/>
                  </a:lnTo>
                  <a:lnTo>
                    <a:pt x="35" y="40"/>
                  </a:lnTo>
                  <a:lnTo>
                    <a:pt x="30" y="45"/>
                  </a:lnTo>
                  <a:lnTo>
                    <a:pt x="30" y="50"/>
                  </a:lnTo>
                  <a:lnTo>
                    <a:pt x="30" y="59"/>
                  </a:lnTo>
                  <a:lnTo>
                    <a:pt x="25" y="64"/>
                  </a:lnTo>
                  <a:lnTo>
                    <a:pt x="25" y="69"/>
                  </a:lnTo>
                  <a:lnTo>
                    <a:pt x="25" y="74"/>
                  </a:lnTo>
                  <a:lnTo>
                    <a:pt x="25" y="79"/>
                  </a:lnTo>
                  <a:lnTo>
                    <a:pt x="25" y="84"/>
                  </a:lnTo>
                  <a:lnTo>
                    <a:pt x="25" y="89"/>
                  </a:lnTo>
                  <a:lnTo>
                    <a:pt x="20" y="99"/>
                  </a:lnTo>
                  <a:lnTo>
                    <a:pt x="20" y="104"/>
                  </a:lnTo>
                  <a:lnTo>
                    <a:pt x="15" y="109"/>
                  </a:lnTo>
                  <a:lnTo>
                    <a:pt x="15" y="114"/>
                  </a:lnTo>
                  <a:lnTo>
                    <a:pt x="15" y="119"/>
                  </a:lnTo>
                  <a:lnTo>
                    <a:pt x="15" y="124"/>
                  </a:lnTo>
                  <a:lnTo>
                    <a:pt x="20" y="129"/>
                  </a:lnTo>
                  <a:lnTo>
                    <a:pt x="20" y="134"/>
                  </a:lnTo>
                  <a:lnTo>
                    <a:pt x="25" y="143"/>
                  </a:lnTo>
                  <a:lnTo>
                    <a:pt x="25" y="148"/>
                  </a:lnTo>
                  <a:lnTo>
                    <a:pt x="20" y="153"/>
                  </a:lnTo>
                  <a:lnTo>
                    <a:pt x="15" y="158"/>
                  </a:lnTo>
                  <a:lnTo>
                    <a:pt x="10" y="163"/>
                  </a:lnTo>
                  <a:lnTo>
                    <a:pt x="5" y="168"/>
                  </a:lnTo>
                  <a:lnTo>
                    <a:pt x="0" y="173"/>
                  </a:lnTo>
                  <a:lnTo>
                    <a:pt x="0" y="178"/>
                  </a:lnTo>
                  <a:lnTo>
                    <a:pt x="0" y="183"/>
                  </a:lnTo>
                  <a:lnTo>
                    <a:pt x="5" y="188"/>
                  </a:lnTo>
                  <a:lnTo>
                    <a:pt x="10" y="183"/>
                  </a:lnTo>
                  <a:lnTo>
                    <a:pt x="20" y="183"/>
                  </a:lnTo>
                  <a:lnTo>
                    <a:pt x="25" y="178"/>
                  </a:lnTo>
                  <a:lnTo>
                    <a:pt x="35" y="173"/>
                  </a:lnTo>
                  <a:lnTo>
                    <a:pt x="40" y="178"/>
                  </a:lnTo>
                  <a:lnTo>
                    <a:pt x="45" y="183"/>
                  </a:lnTo>
                  <a:lnTo>
                    <a:pt x="45" y="188"/>
                  </a:lnTo>
                  <a:lnTo>
                    <a:pt x="50" y="198"/>
                  </a:lnTo>
                  <a:lnTo>
                    <a:pt x="50" y="203"/>
                  </a:lnTo>
                  <a:lnTo>
                    <a:pt x="50" y="208"/>
                  </a:lnTo>
                  <a:lnTo>
                    <a:pt x="45" y="213"/>
                  </a:lnTo>
                  <a:lnTo>
                    <a:pt x="45" y="218"/>
                  </a:lnTo>
                  <a:lnTo>
                    <a:pt x="40" y="223"/>
                  </a:lnTo>
                  <a:lnTo>
                    <a:pt x="40" y="232"/>
                  </a:lnTo>
                  <a:lnTo>
                    <a:pt x="40" y="237"/>
                  </a:lnTo>
                  <a:lnTo>
                    <a:pt x="40" y="242"/>
                  </a:lnTo>
                  <a:lnTo>
                    <a:pt x="40" y="247"/>
                  </a:lnTo>
                  <a:lnTo>
                    <a:pt x="40" y="252"/>
                  </a:lnTo>
                  <a:lnTo>
                    <a:pt x="40" y="25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7" name=""/>
            <p:cNvSpPr/>
            <p:nvPr/>
          </p:nvSpPr>
          <p:spPr>
            <a:xfrm>
              <a:off x="4349520" y="3341880"/>
              <a:ext cx="18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8" name=""/>
            <p:cNvSpPr/>
            <p:nvPr/>
          </p:nvSpPr>
          <p:spPr>
            <a:xfrm>
              <a:off x="4238280" y="3279960"/>
              <a:ext cx="24120" cy="46080"/>
            </a:xfrm>
            <a:custGeom>
              <a:avLst/>
              <a:gdLst/>
              <a:ahLst/>
              <a:rect l="l" t="t" r="r" b="b"/>
              <a:pathLst>
                <a:path w="15" h="29">
                  <a:moveTo>
                    <a:pt x="5" y="29"/>
                  </a:moveTo>
                  <a:lnTo>
                    <a:pt x="0" y="24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5" y="29"/>
                  </a:lnTo>
                  <a:close/>
                </a:path>
              </a:pathLst>
            </a:custGeom>
            <a:solidFill>
              <a:srgbClr val="666666"/>
            </a:solidFill>
            <a:ln w="0">
              <a:solidFill>
                <a:srgbClr val="6666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9" name=""/>
            <p:cNvSpPr/>
            <p:nvPr/>
          </p:nvSpPr>
          <p:spPr>
            <a:xfrm>
              <a:off x="4262400" y="3295800"/>
              <a:ext cx="39600" cy="46080"/>
            </a:xfrm>
            <a:custGeom>
              <a:avLst/>
              <a:gdLst/>
              <a:ahLst/>
              <a:rect l="l" t="t" r="r" b="b"/>
              <a:pathLst>
                <a:path w="25" h="29">
                  <a:moveTo>
                    <a:pt x="10" y="9"/>
                  </a:moveTo>
                  <a:lnTo>
                    <a:pt x="10" y="9"/>
                  </a:lnTo>
                  <a:lnTo>
                    <a:pt x="10" y="9"/>
                  </a:lnTo>
                  <a:lnTo>
                    <a:pt x="10" y="9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4"/>
                  </a:lnTo>
                  <a:lnTo>
                    <a:pt x="25" y="4"/>
                  </a:lnTo>
                  <a:lnTo>
                    <a:pt x="25" y="4"/>
                  </a:lnTo>
                  <a:lnTo>
                    <a:pt x="25" y="9"/>
                  </a:lnTo>
                  <a:lnTo>
                    <a:pt x="25" y="9"/>
                  </a:lnTo>
                  <a:lnTo>
                    <a:pt x="25" y="9"/>
                  </a:lnTo>
                  <a:lnTo>
                    <a:pt x="25" y="9"/>
                  </a:lnTo>
                  <a:lnTo>
                    <a:pt x="25" y="9"/>
                  </a:lnTo>
                  <a:lnTo>
                    <a:pt x="20" y="14"/>
                  </a:lnTo>
                  <a:lnTo>
                    <a:pt x="20" y="14"/>
                  </a:lnTo>
                  <a:lnTo>
                    <a:pt x="20" y="14"/>
                  </a:lnTo>
                  <a:lnTo>
                    <a:pt x="20" y="14"/>
                  </a:lnTo>
                  <a:lnTo>
                    <a:pt x="20" y="14"/>
                  </a:lnTo>
                  <a:lnTo>
                    <a:pt x="20" y="14"/>
                  </a:lnTo>
                  <a:lnTo>
                    <a:pt x="20" y="14"/>
                  </a:lnTo>
                  <a:lnTo>
                    <a:pt x="20" y="14"/>
                  </a:lnTo>
                  <a:lnTo>
                    <a:pt x="20" y="19"/>
                  </a:lnTo>
                  <a:lnTo>
                    <a:pt x="20" y="19"/>
                  </a:lnTo>
                  <a:lnTo>
                    <a:pt x="20" y="19"/>
                  </a:lnTo>
                  <a:lnTo>
                    <a:pt x="20" y="19"/>
                  </a:lnTo>
                  <a:lnTo>
                    <a:pt x="20" y="24"/>
                  </a:lnTo>
                  <a:lnTo>
                    <a:pt x="20" y="24"/>
                  </a:lnTo>
                  <a:lnTo>
                    <a:pt x="20" y="24"/>
                  </a:lnTo>
                  <a:lnTo>
                    <a:pt x="15" y="24"/>
                  </a:lnTo>
                  <a:lnTo>
                    <a:pt x="15" y="29"/>
                  </a:lnTo>
                  <a:lnTo>
                    <a:pt x="15" y="29"/>
                  </a:lnTo>
                  <a:lnTo>
                    <a:pt x="10" y="29"/>
                  </a:lnTo>
                  <a:lnTo>
                    <a:pt x="10" y="29"/>
                  </a:lnTo>
                  <a:lnTo>
                    <a:pt x="5" y="24"/>
                  </a:lnTo>
                  <a:lnTo>
                    <a:pt x="5" y="24"/>
                  </a:lnTo>
                  <a:lnTo>
                    <a:pt x="5" y="24"/>
                  </a:lnTo>
                  <a:lnTo>
                    <a:pt x="5" y="24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5" y="14"/>
                  </a:lnTo>
                  <a:lnTo>
                    <a:pt x="5" y="9"/>
                  </a:lnTo>
                  <a:lnTo>
                    <a:pt x="5" y="9"/>
                  </a:lnTo>
                  <a:lnTo>
                    <a:pt x="5" y="9"/>
                  </a:lnTo>
                  <a:lnTo>
                    <a:pt x="5" y="9"/>
                  </a:lnTo>
                  <a:lnTo>
                    <a:pt x="10" y="9"/>
                  </a:lnTo>
                  <a:lnTo>
                    <a:pt x="10" y="9"/>
                  </a:lnTo>
                  <a:lnTo>
                    <a:pt x="10" y="9"/>
                  </a:lnTo>
                  <a:close/>
                  <a:moveTo>
                    <a:pt x="10" y="4"/>
                  </a:moveTo>
                  <a:lnTo>
                    <a:pt x="10" y="4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0" y="9"/>
                  </a:lnTo>
                  <a:lnTo>
                    <a:pt x="10" y="9"/>
                  </a:lnTo>
                  <a:lnTo>
                    <a:pt x="15" y="9"/>
                  </a:lnTo>
                  <a:lnTo>
                    <a:pt x="15" y="9"/>
                  </a:lnTo>
                  <a:lnTo>
                    <a:pt x="15" y="9"/>
                  </a:lnTo>
                  <a:lnTo>
                    <a:pt x="15" y="9"/>
                  </a:lnTo>
                  <a:lnTo>
                    <a:pt x="15" y="9"/>
                  </a:lnTo>
                  <a:lnTo>
                    <a:pt x="15" y="9"/>
                  </a:lnTo>
                  <a:lnTo>
                    <a:pt x="20" y="9"/>
                  </a:lnTo>
                  <a:lnTo>
                    <a:pt x="20" y="9"/>
                  </a:lnTo>
                  <a:lnTo>
                    <a:pt x="20" y="9"/>
                  </a:lnTo>
                  <a:lnTo>
                    <a:pt x="20" y="9"/>
                  </a:lnTo>
                  <a:lnTo>
                    <a:pt x="20" y="9"/>
                  </a:lnTo>
                  <a:lnTo>
                    <a:pt x="20" y="4"/>
                  </a:lnTo>
                  <a:lnTo>
                    <a:pt x="20" y="4"/>
                  </a:lnTo>
                  <a:lnTo>
                    <a:pt x="20" y="4"/>
                  </a:lnTo>
                  <a:lnTo>
                    <a:pt x="20" y="4"/>
                  </a:lnTo>
                  <a:lnTo>
                    <a:pt x="20" y="4"/>
                  </a:lnTo>
                  <a:lnTo>
                    <a:pt x="20" y="4"/>
                  </a:lnTo>
                  <a:lnTo>
                    <a:pt x="20" y="4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4"/>
                  </a:lnTo>
                  <a:lnTo>
                    <a:pt x="15" y="4"/>
                  </a:lnTo>
                  <a:lnTo>
                    <a:pt x="10" y="4"/>
                  </a:lnTo>
                  <a:close/>
                  <a:moveTo>
                    <a:pt x="5" y="14"/>
                  </a:moveTo>
                  <a:lnTo>
                    <a:pt x="5" y="14"/>
                  </a:lnTo>
                  <a:lnTo>
                    <a:pt x="5" y="19"/>
                  </a:lnTo>
                  <a:lnTo>
                    <a:pt x="5" y="19"/>
                  </a:lnTo>
                  <a:lnTo>
                    <a:pt x="5" y="19"/>
                  </a:lnTo>
                  <a:lnTo>
                    <a:pt x="5" y="19"/>
                  </a:lnTo>
                  <a:lnTo>
                    <a:pt x="5" y="19"/>
                  </a:lnTo>
                  <a:lnTo>
                    <a:pt x="5" y="19"/>
                  </a:lnTo>
                  <a:lnTo>
                    <a:pt x="5" y="19"/>
                  </a:lnTo>
                  <a:lnTo>
                    <a:pt x="5" y="24"/>
                  </a:lnTo>
                  <a:lnTo>
                    <a:pt x="5" y="24"/>
                  </a:lnTo>
                  <a:lnTo>
                    <a:pt x="10" y="24"/>
                  </a:lnTo>
                  <a:lnTo>
                    <a:pt x="10" y="24"/>
                  </a:lnTo>
                  <a:lnTo>
                    <a:pt x="10" y="24"/>
                  </a:lnTo>
                  <a:lnTo>
                    <a:pt x="10" y="24"/>
                  </a:lnTo>
                  <a:lnTo>
                    <a:pt x="10" y="24"/>
                  </a:lnTo>
                  <a:lnTo>
                    <a:pt x="15" y="24"/>
                  </a:lnTo>
                  <a:lnTo>
                    <a:pt x="15" y="24"/>
                  </a:lnTo>
                  <a:lnTo>
                    <a:pt x="15" y="24"/>
                  </a:lnTo>
                  <a:lnTo>
                    <a:pt x="15" y="19"/>
                  </a:lnTo>
                  <a:lnTo>
                    <a:pt x="15" y="19"/>
                  </a:lnTo>
                  <a:lnTo>
                    <a:pt x="15" y="19"/>
                  </a:lnTo>
                  <a:lnTo>
                    <a:pt x="15" y="19"/>
                  </a:lnTo>
                  <a:lnTo>
                    <a:pt x="15" y="19"/>
                  </a:lnTo>
                  <a:lnTo>
                    <a:pt x="15" y="14"/>
                  </a:lnTo>
                  <a:lnTo>
                    <a:pt x="15" y="14"/>
                  </a:lnTo>
                  <a:lnTo>
                    <a:pt x="15" y="14"/>
                  </a:lnTo>
                  <a:lnTo>
                    <a:pt x="15" y="14"/>
                  </a:lnTo>
                  <a:lnTo>
                    <a:pt x="15" y="14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5" y="14"/>
                  </a:lnTo>
                  <a:lnTo>
                    <a:pt x="5" y="14"/>
                  </a:lnTo>
                  <a:lnTo>
                    <a:pt x="5" y="14"/>
                  </a:lnTo>
                  <a:close/>
                </a:path>
              </a:pathLst>
            </a:custGeom>
            <a:solidFill>
              <a:srgbClr val="666666"/>
            </a:solidFill>
            <a:ln w="0">
              <a:solidFill>
                <a:srgbClr val="6666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0" name=""/>
            <p:cNvSpPr/>
            <p:nvPr/>
          </p:nvSpPr>
          <p:spPr>
            <a:xfrm>
              <a:off x="4302000" y="3310200"/>
              <a:ext cx="31680" cy="39600"/>
            </a:xfrm>
            <a:custGeom>
              <a:avLst/>
              <a:gdLst/>
              <a:ahLst/>
              <a:rect l="l" t="t" r="r" b="b"/>
              <a:pathLst>
                <a:path w="20" h="25">
                  <a:moveTo>
                    <a:pt x="0" y="10"/>
                  </a:moveTo>
                  <a:lnTo>
                    <a:pt x="0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20" y="5"/>
                  </a:lnTo>
                  <a:lnTo>
                    <a:pt x="20" y="5"/>
                  </a:lnTo>
                  <a:lnTo>
                    <a:pt x="20" y="5"/>
                  </a:lnTo>
                  <a:lnTo>
                    <a:pt x="20" y="5"/>
                  </a:lnTo>
                  <a:lnTo>
                    <a:pt x="20" y="5"/>
                  </a:lnTo>
                  <a:lnTo>
                    <a:pt x="20" y="10"/>
                  </a:lnTo>
                  <a:lnTo>
                    <a:pt x="20" y="10"/>
                  </a:lnTo>
                  <a:lnTo>
                    <a:pt x="20" y="10"/>
                  </a:lnTo>
                  <a:lnTo>
                    <a:pt x="20" y="15"/>
                  </a:lnTo>
                  <a:lnTo>
                    <a:pt x="20" y="15"/>
                  </a:lnTo>
                  <a:lnTo>
                    <a:pt x="20" y="15"/>
                  </a:lnTo>
                  <a:lnTo>
                    <a:pt x="15" y="20"/>
                  </a:lnTo>
                  <a:lnTo>
                    <a:pt x="15" y="20"/>
                  </a:lnTo>
                  <a:lnTo>
                    <a:pt x="15" y="20"/>
                  </a:lnTo>
                  <a:lnTo>
                    <a:pt x="15" y="25"/>
                  </a:lnTo>
                  <a:lnTo>
                    <a:pt x="15" y="25"/>
                  </a:lnTo>
                  <a:lnTo>
                    <a:pt x="10" y="25"/>
                  </a:lnTo>
                  <a:lnTo>
                    <a:pt x="10" y="25"/>
                  </a:lnTo>
                  <a:lnTo>
                    <a:pt x="10" y="25"/>
                  </a:lnTo>
                  <a:lnTo>
                    <a:pt x="10" y="25"/>
                  </a:lnTo>
                  <a:lnTo>
                    <a:pt x="5" y="25"/>
                  </a:lnTo>
                  <a:lnTo>
                    <a:pt x="5" y="25"/>
                  </a:lnTo>
                  <a:lnTo>
                    <a:pt x="5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15"/>
                  </a:lnTo>
                  <a:lnTo>
                    <a:pt x="0" y="10"/>
                  </a:lnTo>
                  <a:lnTo>
                    <a:pt x="0" y="10"/>
                  </a:lnTo>
                  <a:close/>
                  <a:moveTo>
                    <a:pt x="5" y="10"/>
                  </a:moveTo>
                  <a:lnTo>
                    <a:pt x="5" y="15"/>
                  </a:lnTo>
                  <a:lnTo>
                    <a:pt x="0" y="15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5" y="20"/>
                  </a:lnTo>
                  <a:lnTo>
                    <a:pt x="5" y="25"/>
                  </a:lnTo>
                  <a:lnTo>
                    <a:pt x="5" y="25"/>
                  </a:lnTo>
                  <a:lnTo>
                    <a:pt x="5" y="25"/>
                  </a:lnTo>
                  <a:lnTo>
                    <a:pt x="5" y="25"/>
                  </a:lnTo>
                  <a:lnTo>
                    <a:pt x="10" y="25"/>
                  </a:lnTo>
                  <a:lnTo>
                    <a:pt x="10" y="25"/>
                  </a:lnTo>
                  <a:lnTo>
                    <a:pt x="10" y="20"/>
                  </a:lnTo>
                  <a:lnTo>
                    <a:pt x="10" y="20"/>
                  </a:lnTo>
                  <a:lnTo>
                    <a:pt x="15" y="20"/>
                  </a:lnTo>
                  <a:lnTo>
                    <a:pt x="15" y="15"/>
                  </a:lnTo>
                  <a:lnTo>
                    <a:pt x="15" y="10"/>
                  </a:lnTo>
                  <a:lnTo>
                    <a:pt x="15" y="10"/>
                  </a:lnTo>
                  <a:lnTo>
                    <a:pt x="15" y="5"/>
                  </a:lnTo>
                  <a:lnTo>
                    <a:pt x="15" y="5"/>
                  </a:lnTo>
                  <a:lnTo>
                    <a:pt x="15" y="5"/>
                  </a:lnTo>
                  <a:lnTo>
                    <a:pt x="15" y="5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10"/>
                  </a:lnTo>
                  <a:close/>
                </a:path>
              </a:pathLst>
            </a:custGeom>
            <a:solidFill>
              <a:srgbClr val="666666"/>
            </a:solidFill>
            <a:ln w="0">
              <a:solidFill>
                <a:srgbClr val="6666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1" name=""/>
            <p:cNvSpPr/>
            <p:nvPr/>
          </p:nvSpPr>
          <p:spPr>
            <a:xfrm flipV="1">
              <a:off x="4224240" y="3279960"/>
              <a:ext cx="1440" cy="7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2" name=""/>
            <p:cNvSpPr/>
            <p:nvPr/>
          </p:nvSpPr>
          <p:spPr>
            <a:xfrm>
              <a:off x="3705120" y="3240360"/>
              <a:ext cx="519120" cy="666720"/>
            </a:xfrm>
            <a:custGeom>
              <a:avLst/>
              <a:gdLst/>
              <a:ahLst/>
              <a:rect l="l" t="t" r="r" b="b"/>
              <a:pathLst>
                <a:path w="327" h="420">
                  <a:moveTo>
                    <a:pt x="327" y="25"/>
                  </a:moveTo>
                  <a:lnTo>
                    <a:pt x="322" y="20"/>
                  </a:lnTo>
                  <a:lnTo>
                    <a:pt x="322" y="15"/>
                  </a:lnTo>
                  <a:lnTo>
                    <a:pt x="322" y="10"/>
                  </a:lnTo>
                  <a:lnTo>
                    <a:pt x="317" y="0"/>
                  </a:lnTo>
                  <a:lnTo>
                    <a:pt x="317" y="5"/>
                  </a:lnTo>
                  <a:lnTo>
                    <a:pt x="317" y="15"/>
                  </a:lnTo>
                  <a:lnTo>
                    <a:pt x="312" y="20"/>
                  </a:lnTo>
                  <a:lnTo>
                    <a:pt x="312" y="25"/>
                  </a:lnTo>
                  <a:lnTo>
                    <a:pt x="312" y="30"/>
                  </a:lnTo>
                  <a:lnTo>
                    <a:pt x="312" y="35"/>
                  </a:lnTo>
                  <a:lnTo>
                    <a:pt x="307" y="39"/>
                  </a:lnTo>
                  <a:lnTo>
                    <a:pt x="307" y="44"/>
                  </a:lnTo>
                  <a:lnTo>
                    <a:pt x="307" y="49"/>
                  </a:lnTo>
                  <a:lnTo>
                    <a:pt x="307" y="59"/>
                  </a:lnTo>
                  <a:lnTo>
                    <a:pt x="302" y="64"/>
                  </a:lnTo>
                  <a:lnTo>
                    <a:pt x="302" y="69"/>
                  </a:lnTo>
                  <a:lnTo>
                    <a:pt x="297" y="74"/>
                  </a:lnTo>
                  <a:lnTo>
                    <a:pt x="292" y="79"/>
                  </a:lnTo>
                  <a:lnTo>
                    <a:pt x="292" y="84"/>
                  </a:lnTo>
                  <a:lnTo>
                    <a:pt x="287" y="89"/>
                  </a:lnTo>
                  <a:lnTo>
                    <a:pt x="287" y="94"/>
                  </a:lnTo>
                  <a:lnTo>
                    <a:pt x="282" y="99"/>
                  </a:lnTo>
                  <a:lnTo>
                    <a:pt x="277" y="104"/>
                  </a:lnTo>
                  <a:lnTo>
                    <a:pt x="277" y="109"/>
                  </a:lnTo>
                  <a:lnTo>
                    <a:pt x="272" y="119"/>
                  </a:lnTo>
                  <a:lnTo>
                    <a:pt x="267" y="123"/>
                  </a:lnTo>
                  <a:lnTo>
                    <a:pt x="267" y="128"/>
                  </a:lnTo>
                  <a:lnTo>
                    <a:pt x="262" y="133"/>
                  </a:lnTo>
                  <a:lnTo>
                    <a:pt x="257" y="138"/>
                  </a:lnTo>
                  <a:lnTo>
                    <a:pt x="252" y="143"/>
                  </a:lnTo>
                  <a:lnTo>
                    <a:pt x="247" y="148"/>
                  </a:lnTo>
                  <a:lnTo>
                    <a:pt x="242" y="153"/>
                  </a:lnTo>
                  <a:lnTo>
                    <a:pt x="242" y="158"/>
                  </a:lnTo>
                  <a:lnTo>
                    <a:pt x="238" y="158"/>
                  </a:lnTo>
                  <a:lnTo>
                    <a:pt x="233" y="158"/>
                  </a:lnTo>
                  <a:lnTo>
                    <a:pt x="228" y="153"/>
                  </a:lnTo>
                  <a:lnTo>
                    <a:pt x="223" y="143"/>
                  </a:lnTo>
                  <a:lnTo>
                    <a:pt x="218" y="138"/>
                  </a:lnTo>
                  <a:lnTo>
                    <a:pt x="213" y="128"/>
                  </a:lnTo>
                  <a:lnTo>
                    <a:pt x="213" y="128"/>
                  </a:lnTo>
                  <a:lnTo>
                    <a:pt x="208" y="133"/>
                  </a:lnTo>
                  <a:lnTo>
                    <a:pt x="208" y="143"/>
                  </a:lnTo>
                  <a:lnTo>
                    <a:pt x="208" y="148"/>
                  </a:lnTo>
                  <a:lnTo>
                    <a:pt x="208" y="153"/>
                  </a:lnTo>
                  <a:lnTo>
                    <a:pt x="208" y="158"/>
                  </a:lnTo>
                  <a:lnTo>
                    <a:pt x="208" y="163"/>
                  </a:lnTo>
                  <a:lnTo>
                    <a:pt x="203" y="168"/>
                  </a:lnTo>
                  <a:lnTo>
                    <a:pt x="203" y="173"/>
                  </a:lnTo>
                  <a:lnTo>
                    <a:pt x="203" y="178"/>
                  </a:lnTo>
                  <a:lnTo>
                    <a:pt x="203" y="188"/>
                  </a:lnTo>
                  <a:lnTo>
                    <a:pt x="203" y="193"/>
                  </a:lnTo>
                  <a:lnTo>
                    <a:pt x="198" y="198"/>
                  </a:lnTo>
                  <a:lnTo>
                    <a:pt x="198" y="203"/>
                  </a:lnTo>
                  <a:lnTo>
                    <a:pt x="198" y="208"/>
                  </a:lnTo>
                  <a:lnTo>
                    <a:pt x="198" y="212"/>
                  </a:lnTo>
                  <a:lnTo>
                    <a:pt x="198" y="222"/>
                  </a:lnTo>
                  <a:lnTo>
                    <a:pt x="198" y="227"/>
                  </a:lnTo>
                  <a:lnTo>
                    <a:pt x="198" y="232"/>
                  </a:lnTo>
                  <a:lnTo>
                    <a:pt x="193" y="237"/>
                  </a:lnTo>
                  <a:lnTo>
                    <a:pt x="188" y="242"/>
                  </a:lnTo>
                  <a:lnTo>
                    <a:pt x="183" y="247"/>
                  </a:lnTo>
                  <a:lnTo>
                    <a:pt x="173" y="247"/>
                  </a:lnTo>
                  <a:lnTo>
                    <a:pt x="168" y="252"/>
                  </a:lnTo>
                  <a:lnTo>
                    <a:pt x="158" y="252"/>
                  </a:lnTo>
                  <a:lnTo>
                    <a:pt x="153" y="257"/>
                  </a:lnTo>
                  <a:lnTo>
                    <a:pt x="153" y="267"/>
                  </a:lnTo>
                  <a:lnTo>
                    <a:pt x="148" y="272"/>
                  </a:lnTo>
                  <a:lnTo>
                    <a:pt x="148" y="277"/>
                  </a:lnTo>
                  <a:lnTo>
                    <a:pt x="148" y="282"/>
                  </a:lnTo>
                  <a:lnTo>
                    <a:pt x="148" y="287"/>
                  </a:lnTo>
                  <a:lnTo>
                    <a:pt x="148" y="292"/>
                  </a:lnTo>
                  <a:lnTo>
                    <a:pt x="144" y="296"/>
                  </a:lnTo>
                  <a:lnTo>
                    <a:pt x="139" y="301"/>
                  </a:lnTo>
                  <a:lnTo>
                    <a:pt x="134" y="306"/>
                  </a:lnTo>
                  <a:lnTo>
                    <a:pt x="134" y="311"/>
                  </a:lnTo>
                  <a:lnTo>
                    <a:pt x="129" y="321"/>
                  </a:lnTo>
                  <a:lnTo>
                    <a:pt x="129" y="326"/>
                  </a:lnTo>
                  <a:lnTo>
                    <a:pt x="129" y="331"/>
                  </a:lnTo>
                  <a:lnTo>
                    <a:pt x="124" y="336"/>
                  </a:lnTo>
                  <a:lnTo>
                    <a:pt x="124" y="341"/>
                  </a:lnTo>
                  <a:lnTo>
                    <a:pt x="119" y="346"/>
                  </a:lnTo>
                  <a:lnTo>
                    <a:pt x="119" y="351"/>
                  </a:lnTo>
                  <a:lnTo>
                    <a:pt x="114" y="356"/>
                  </a:lnTo>
                  <a:lnTo>
                    <a:pt x="109" y="361"/>
                  </a:lnTo>
                  <a:lnTo>
                    <a:pt x="109" y="366"/>
                  </a:lnTo>
                  <a:lnTo>
                    <a:pt x="104" y="376"/>
                  </a:lnTo>
                  <a:lnTo>
                    <a:pt x="104" y="380"/>
                  </a:lnTo>
                  <a:lnTo>
                    <a:pt x="104" y="385"/>
                  </a:lnTo>
                  <a:lnTo>
                    <a:pt x="99" y="390"/>
                  </a:lnTo>
                  <a:lnTo>
                    <a:pt x="94" y="395"/>
                  </a:lnTo>
                  <a:lnTo>
                    <a:pt x="89" y="400"/>
                  </a:lnTo>
                  <a:lnTo>
                    <a:pt x="84" y="405"/>
                  </a:lnTo>
                  <a:lnTo>
                    <a:pt x="79" y="410"/>
                  </a:lnTo>
                  <a:lnTo>
                    <a:pt x="74" y="410"/>
                  </a:lnTo>
                  <a:lnTo>
                    <a:pt x="64" y="415"/>
                  </a:lnTo>
                  <a:lnTo>
                    <a:pt x="55" y="415"/>
                  </a:lnTo>
                  <a:lnTo>
                    <a:pt x="45" y="415"/>
                  </a:lnTo>
                  <a:lnTo>
                    <a:pt x="35" y="420"/>
                  </a:lnTo>
                  <a:lnTo>
                    <a:pt x="30" y="420"/>
                  </a:lnTo>
                  <a:lnTo>
                    <a:pt x="20" y="420"/>
                  </a:lnTo>
                  <a:lnTo>
                    <a:pt x="15" y="415"/>
                  </a:lnTo>
                  <a:lnTo>
                    <a:pt x="10" y="410"/>
                  </a:lnTo>
                  <a:lnTo>
                    <a:pt x="5" y="405"/>
                  </a:lnTo>
                  <a:lnTo>
                    <a:pt x="0" y="400"/>
                  </a:lnTo>
                  <a:lnTo>
                    <a:pt x="0" y="395"/>
                  </a:lnTo>
                  <a:lnTo>
                    <a:pt x="0" y="390"/>
                  </a:lnTo>
                  <a:lnTo>
                    <a:pt x="0" y="380"/>
                  </a:lnTo>
                  <a:lnTo>
                    <a:pt x="0" y="376"/>
                  </a:lnTo>
                  <a:lnTo>
                    <a:pt x="5" y="371"/>
                  </a:lnTo>
                  <a:lnTo>
                    <a:pt x="5" y="366"/>
                  </a:lnTo>
                  <a:lnTo>
                    <a:pt x="10" y="361"/>
                  </a:lnTo>
                  <a:lnTo>
                    <a:pt x="10" y="356"/>
                  </a:lnTo>
                  <a:lnTo>
                    <a:pt x="15" y="351"/>
                  </a:lnTo>
                  <a:lnTo>
                    <a:pt x="15" y="346"/>
                  </a:lnTo>
                  <a:lnTo>
                    <a:pt x="20" y="341"/>
                  </a:lnTo>
                  <a:lnTo>
                    <a:pt x="20" y="336"/>
                  </a:lnTo>
                  <a:lnTo>
                    <a:pt x="25" y="331"/>
                  </a:lnTo>
                  <a:lnTo>
                    <a:pt x="30" y="326"/>
                  </a:lnTo>
                  <a:lnTo>
                    <a:pt x="35" y="316"/>
                  </a:lnTo>
                  <a:lnTo>
                    <a:pt x="45" y="316"/>
                  </a:lnTo>
                  <a:lnTo>
                    <a:pt x="50" y="311"/>
                  </a:lnTo>
                  <a:lnTo>
                    <a:pt x="59" y="311"/>
                  </a:lnTo>
                  <a:lnTo>
                    <a:pt x="69" y="316"/>
                  </a:lnTo>
                  <a:lnTo>
                    <a:pt x="74" y="316"/>
                  </a:lnTo>
                  <a:lnTo>
                    <a:pt x="84" y="316"/>
                  </a:lnTo>
                  <a:lnTo>
                    <a:pt x="89" y="311"/>
                  </a:lnTo>
                  <a:lnTo>
                    <a:pt x="89" y="306"/>
                  </a:lnTo>
                  <a:lnTo>
                    <a:pt x="94" y="301"/>
                  </a:lnTo>
                  <a:lnTo>
                    <a:pt x="99" y="296"/>
                  </a:lnTo>
                  <a:lnTo>
                    <a:pt x="104" y="292"/>
                  </a:lnTo>
                  <a:lnTo>
                    <a:pt x="114" y="287"/>
                  </a:lnTo>
                  <a:lnTo>
                    <a:pt x="119" y="282"/>
                  </a:lnTo>
                  <a:lnTo>
                    <a:pt x="124" y="277"/>
                  </a:lnTo>
                  <a:lnTo>
                    <a:pt x="119" y="272"/>
                  </a:lnTo>
                  <a:lnTo>
                    <a:pt x="114" y="267"/>
                  </a:lnTo>
                  <a:lnTo>
                    <a:pt x="104" y="262"/>
                  </a:lnTo>
                  <a:lnTo>
                    <a:pt x="99" y="262"/>
                  </a:lnTo>
                  <a:lnTo>
                    <a:pt x="94" y="252"/>
                  </a:lnTo>
                  <a:lnTo>
                    <a:pt x="94" y="247"/>
                  </a:lnTo>
                  <a:lnTo>
                    <a:pt x="89" y="242"/>
                  </a:lnTo>
                  <a:lnTo>
                    <a:pt x="89" y="237"/>
                  </a:lnTo>
                  <a:lnTo>
                    <a:pt x="89" y="232"/>
                  </a:lnTo>
                  <a:lnTo>
                    <a:pt x="89" y="227"/>
                  </a:lnTo>
                  <a:lnTo>
                    <a:pt x="89" y="222"/>
                  </a:lnTo>
                  <a:lnTo>
                    <a:pt x="84" y="217"/>
                  </a:lnTo>
                  <a:lnTo>
                    <a:pt x="84" y="208"/>
                  </a:lnTo>
                  <a:lnTo>
                    <a:pt x="84" y="203"/>
                  </a:lnTo>
                  <a:lnTo>
                    <a:pt x="84" y="198"/>
                  </a:lnTo>
                  <a:lnTo>
                    <a:pt x="79" y="193"/>
                  </a:lnTo>
                  <a:lnTo>
                    <a:pt x="79" y="188"/>
                  </a:lnTo>
                  <a:lnTo>
                    <a:pt x="79" y="183"/>
                  </a:lnTo>
                  <a:lnTo>
                    <a:pt x="74" y="178"/>
                  </a:lnTo>
                  <a:lnTo>
                    <a:pt x="74" y="17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3" name=""/>
            <p:cNvSpPr/>
            <p:nvPr/>
          </p:nvSpPr>
          <p:spPr>
            <a:xfrm>
              <a:off x="3822480" y="3515040"/>
              <a:ext cx="18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4" name=""/>
            <p:cNvSpPr/>
            <p:nvPr/>
          </p:nvSpPr>
          <p:spPr>
            <a:xfrm>
              <a:off x="3776400" y="3397320"/>
              <a:ext cx="46080" cy="23760"/>
            </a:xfrm>
            <a:custGeom>
              <a:avLst/>
              <a:gdLst/>
              <a:ahLst/>
              <a:rect l="l" t="t" r="r" b="b"/>
              <a:pathLst>
                <a:path w="29" h="15">
                  <a:moveTo>
                    <a:pt x="5" y="15"/>
                  </a:moveTo>
                  <a:lnTo>
                    <a:pt x="0" y="10"/>
                  </a:lnTo>
                  <a:lnTo>
                    <a:pt x="24" y="5"/>
                  </a:lnTo>
                  <a:lnTo>
                    <a:pt x="24" y="5"/>
                  </a:lnTo>
                  <a:lnTo>
                    <a:pt x="24" y="5"/>
                  </a:lnTo>
                  <a:lnTo>
                    <a:pt x="24" y="5"/>
                  </a:lnTo>
                  <a:lnTo>
                    <a:pt x="19" y="5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9" y="5"/>
                  </a:lnTo>
                  <a:lnTo>
                    <a:pt x="29" y="5"/>
                  </a:lnTo>
                  <a:lnTo>
                    <a:pt x="29" y="5"/>
                  </a:lnTo>
                  <a:lnTo>
                    <a:pt x="29" y="5"/>
                  </a:lnTo>
                  <a:lnTo>
                    <a:pt x="29" y="5"/>
                  </a:lnTo>
                  <a:lnTo>
                    <a:pt x="29" y="10"/>
                  </a:lnTo>
                  <a:lnTo>
                    <a:pt x="5" y="15"/>
                  </a:lnTo>
                  <a:close/>
                </a:path>
              </a:pathLst>
            </a:custGeom>
            <a:solidFill>
              <a:srgbClr val="666666"/>
            </a:solidFill>
            <a:ln w="0">
              <a:solidFill>
                <a:srgbClr val="6666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5" name=""/>
            <p:cNvSpPr/>
            <p:nvPr/>
          </p:nvSpPr>
          <p:spPr>
            <a:xfrm>
              <a:off x="3784320" y="3429000"/>
              <a:ext cx="46080" cy="30240"/>
            </a:xfrm>
            <a:custGeom>
              <a:avLst/>
              <a:gdLst/>
              <a:ahLst/>
              <a:rect l="l" t="t" r="r" b="b"/>
              <a:pathLst>
                <a:path w="29" h="19">
                  <a:moveTo>
                    <a:pt x="14" y="4"/>
                  </a:moveTo>
                  <a:lnTo>
                    <a:pt x="14" y="4"/>
                  </a:lnTo>
                  <a:lnTo>
                    <a:pt x="14" y="4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9" y="0"/>
                  </a:lnTo>
                  <a:lnTo>
                    <a:pt x="29" y="4"/>
                  </a:lnTo>
                  <a:lnTo>
                    <a:pt x="29" y="4"/>
                  </a:lnTo>
                  <a:lnTo>
                    <a:pt x="29" y="4"/>
                  </a:lnTo>
                  <a:lnTo>
                    <a:pt x="29" y="9"/>
                  </a:lnTo>
                  <a:lnTo>
                    <a:pt x="29" y="9"/>
                  </a:lnTo>
                  <a:lnTo>
                    <a:pt x="29" y="9"/>
                  </a:lnTo>
                  <a:lnTo>
                    <a:pt x="29" y="14"/>
                  </a:lnTo>
                  <a:lnTo>
                    <a:pt x="29" y="14"/>
                  </a:lnTo>
                  <a:lnTo>
                    <a:pt x="24" y="14"/>
                  </a:lnTo>
                  <a:lnTo>
                    <a:pt x="24" y="14"/>
                  </a:lnTo>
                  <a:lnTo>
                    <a:pt x="24" y="14"/>
                  </a:lnTo>
                  <a:lnTo>
                    <a:pt x="24" y="14"/>
                  </a:lnTo>
                  <a:lnTo>
                    <a:pt x="19" y="14"/>
                  </a:lnTo>
                  <a:lnTo>
                    <a:pt x="19" y="14"/>
                  </a:lnTo>
                  <a:lnTo>
                    <a:pt x="19" y="14"/>
                  </a:lnTo>
                  <a:lnTo>
                    <a:pt x="19" y="14"/>
                  </a:lnTo>
                  <a:lnTo>
                    <a:pt x="19" y="14"/>
                  </a:lnTo>
                  <a:lnTo>
                    <a:pt x="19" y="14"/>
                  </a:lnTo>
                  <a:lnTo>
                    <a:pt x="19" y="14"/>
                  </a:lnTo>
                  <a:lnTo>
                    <a:pt x="19" y="14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4" y="19"/>
                  </a:lnTo>
                  <a:lnTo>
                    <a:pt x="14" y="19"/>
                  </a:lnTo>
                  <a:lnTo>
                    <a:pt x="14" y="19"/>
                  </a:lnTo>
                  <a:lnTo>
                    <a:pt x="14" y="19"/>
                  </a:lnTo>
                  <a:lnTo>
                    <a:pt x="9" y="19"/>
                  </a:lnTo>
                  <a:lnTo>
                    <a:pt x="9" y="19"/>
                  </a:lnTo>
                  <a:lnTo>
                    <a:pt x="9" y="19"/>
                  </a:lnTo>
                  <a:lnTo>
                    <a:pt x="5" y="19"/>
                  </a:lnTo>
                  <a:lnTo>
                    <a:pt x="5" y="19"/>
                  </a:lnTo>
                  <a:lnTo>
                    <a:pt x="5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4"/>
                  </a:lnTo>
                  <a:lnTo>
                    <a:pt x="0" y="4"/>
                  </a:lnTo>
                  <a:lnTo>
                    <a:pt x="5" y="4"/>
                  </a:lnTo>
                  <a:lnTo>
                    <a:pt x="5" y="0"/>
                  </a:lnTo>
                  <a:lnTo>
                    <a:pt x="5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4" y="4"/>
                  </a:lnTo>
                  <a:close/>
                  <a:moveTo>
                    <a:pt x="19" y="4"/>
                  </a:moveTo>
                  <a:lnTo>
                    <a:pt x="19" y="4"/>
                  </a:lnTo>
                  <a:lnTo>
                    <a:pt x="19" y="4"/>
                  </a:lnTo>
                  <a:lnTo>
                    <a:pt x="19" y="4"/>
                  </a:lnTo>
                  <a:lnTo>
                    <a:pt x="19" y="4"/>
                  </a:lnTo>
                  <a:lnTo>
                    <a:pt x="19" y="4"/>
                  </a:lnTo>
                  <a:lnTo>
                    <a:pt x="19" y="4"/>
                  </a:lnTo>
                  <a:lnTo>
                    <a:pt x="19" y="9"/>
                  </a:lnTo>
                  <a:lnTo>
                    <a:pt x="19" y="9"/>
                  </a:lnTo>
                  <a:lnTo>
                    <a:pt x="19" y="9"/>
                  </a:lnTo>
                  <a:lnTo>
                    <a:pt x="19" y="9"/>
                  </a:lnTo>
                  <a:lnTo>
                    <a:pt x="19" y="9"/>
                  </a:lnTo>
                  <a:lnTo>
                    <a:pt x="19" y="9"/>
                  </a:lnTo>
                  <a:lnTo>
                    <a:pt x="19" y="14"/>
                  </a:lnTo>
                  <a:lnTo>
                    <a:pt x="19" y="14"/>
                  </a:lnTo>
                  <a:lnTo>
                    <a:pt x="24" y="14"/>
                  </a:lnTo>
                  <a:lnTo>
                    <a:pt x="24" y="14"/>
                  </a:lnTo>
                  <a:lnTo>
                    <a:pt x="24" y="14"/>
                  </a:lnTo>
                  <a:lnTo>
                    <a:pt x="24" y="9"/>
                  </a:lnTo>
                  <a:lnTo>
                    <a:pt x="24" y="9"/>
                  </a:lnTo>
                  <a:lnTo>
                    <a:pt x="24" y="9"/>
                  </a:lnTo>
                  <a:lnTo>
                    <a:pt x="24" y="9"/>
                  </a:lnTo>
                  <a:lnTo>
                    <a:pt x="29" y="9"/>
                  </a:lnTo>
                  <a:lnTo>
                    <a:pt x="29" y="9"/>
                  </a:lnTo>
                  <a:lnTo>
                    <a:pt x="29" y="4"/>
                  </a:lnTo>
                  <a:lnTo>
                    <a:pt x="24" y="4"/>
                  </a:lnTo>
                  <a:lnTo>
                    <a:pt x="24" y="4"/>
                  </a:lnTo>
                  <a:lnTo>
                    <a:pt x="24" y="4"/>
                  </a:lnTo>
                  <a:lnTo>
                    <a:pt x="24" y="4"/>
                  </a:lnTo>
                  <a:lnTo>
                    <a:pt x="24" y="4"/>
                  </a:lnTo>
                  <a:lnTo>
                    <a:pt x="24" y="4"/>
                  </a:lnTo>
                  <a:lnTo>
                    <a:pt x="24" y="4"/>
                  </a:lnTo>
                  <a:lnTo>
                    <a:pt x="19" y="4"/>
                  </a:lnTo>
                  <a:close/>
                  <a:moveTo>
                    <a:pt x="9" y="4"/>
                  </a:moveTo>
                  <a:lnTo>
                    <a:pt x="9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9"/>
                  </a:lnTo>
                  <a:lnTo>
                    <a:pt x="5" y="9"/>
                  </a:lnTo>
                  <a:lnTo>
                    <a:pt x="5" y="9"/>
                  </a:lnTo>
                  <a:lnTo>
                    <a:pt x="5" y="9"/>
                  </a:lnTo>
                  <a:lnTo>
                    <a:pt x="5" y="9"/>
                  </a:lnTo>
                  <a:lnTo>
                    <a:pt x="5" y="9"/>
                  </a:lnTo>
                  <a:lnTo>
                    <a:pt x="5" y="14"/>
                  </a:lnTo>
                  <a:lnTo>
                    <a:pt x="5" y="14"/>
                  </a:lnTo>
                  <a:lnTo>
                    <a:pt x="5" y="14"/>
                  </a:lnTo>
                  <a:lnTo>
                    <a:pt x="5" y="14"/>
                  </a:lnTo>
                  <a:lnTo>
                    <a:pt x="5" y="14"/>
                  </a:lnTo>
                  <a:lnTo>
                    <a:pt x="9" y="14"/>
                  </a:lnTo>
                  <a:lnTo>
                    <a:pt x="9" y="14"/>
                  </a:lnTo>
                  <a:lnTo>
                    <a:pt x="9" y="14"/>
                  </a:lnTo>
                  <a:lnTo>
                    <a:pt x="9" y="14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4"/>
                  </a:lnTo>
                  <a:close/>
                </a:path>
              </a:pathLst>
            </a:custGeom>
            <a:solidFill>
              <a:srgbClr val="666666"/>
            </a:solidFill>
            <a:ln w="0">
              <a:solidFill>
                <a:srgbClr val="6666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6" name=""/>
            <p:cNvSpPr/>
            <p:nvPr/>
          </p:nvSpPr>
          <p:spPr>
            <a:xfrm>
              <a:off x="3792240" y="3459240"/>
              <a:ext cx="46080" cy="31680"/>
            </a:xfrm>
            <a:custGeom>
              <a:avLst/>
              <a:gdLst/>
              <a:ahLst/>
              <a:rect l="l" t="t" r="r" b="b"/>
              <a:pathLst>
                <a:path w="29" h="20">
                  <a:moveTo>
                    <a:pt x="14" y="5"/>
                  </a:moveTo>
                  <a:lnTo>
                    <a:pt x="14" y="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24" y="5"/>
                  </a:lnTo>
                  <a:lnTo>
                    <a:pt x="24" y="5"/>
                  </a:lnTo>
                  <a:lnTo>
                    <a:pt x="24" y="5"/>
                  </a:lnTo>
                  <a:lnTo>
                    <a:pt x="24" y="5"/>
                  </a:lnTo>
                  <a:lnTo>
                    <a:pt x="29" y="5"/>
                  </a:lnTo>
                  <a:lnTo>
                    <a:pt x="29" y="5"/>
                  </a:lnTo>
                  <a:lnTo>
                    <a:pt x="29" y="10"/>
                  </a:lnTo>
                  <a:lnTo>
                    <a:pt x="29" y="10"/>
                  </a:lnTo>
                  <a:lnTo>
                    <a:pt x="29" y="10"/>
                  </a:lnTo>
                  <a:lnTo>
                    <a:pt x="29" y="10"/>
                  </a:lnTo>
                  <a:lnTo>
                    <a:pt x="29" y="15"/>
                  </a:lnTo>
                  <a:lnTo>
                    <a:pt x="29" y="15"/>
                  </a:lnTo>
                  <a:lnTo>
                    <a:pt x="29" y="15"/>
                  </a:lnTo>
                  <a:lnTo>
                    <a:pt x="29" y="15"/>
                  </a:lnTo>
                  <a:lnTo>
                    <a:pt x="29" y="15"/>
                  </a:lnTo>
                  <a:lnTo>
                    <a:pt x="24" y="15"/>
                  </a:lnTo>
                  <a:lnTo>
                    <a:pt x="24" y="20"/>
                  </a:lnTo>
                  <a:lnTo>
                    <a:pt x="24" y="20"/>
                  </a:lnTo>
                  <a:lnTo>
                    <a:pt x="24" y="20"/>
                  </a:lnTo>
                  <a:lnTo>
                    <a:pt x="24" y="20"/>
                  </a:lnTo>
                  <a:lnTo>
                    <a:pt x="19" y="20"/>
                  </a:lnTo>
                  <a:lnTo>
                    <a:pt x="19" y="20"/>
                  </a:lnTo>
                  <a:lnTo>
                    <a:pt x="19" y="20"/>
                  </a:lnTo>
                  <a:lnTo>
                    <a:pt x="14" y="20"/>
                  </a:lnTo>
                  <a:lnTo>
                    <a:pt x="14" y="20"/>
                  </a:lnTo>
                  <a:lnTo>
                    <a:pt x="9" y="20"/>
                  </a:lnTo>
                  <a:lnTo>
                    <a:pt x="9" y="20"/>
                  </a:lnTo>
                  <a:lnTo>
                    <a:pt x="9" y="20"/>
                  </a:lnTo>
                  <a:lnTo>
                    <a:pt x="4" y="20"/>
                  </a:lnTo>
                  <a:lnTo>
                    <a:pt x="4" y="20"/>
                  </a:lnTo>
                  <a:lnTo>
                    <a:pt x="4" y="2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4" y="5"/>
                  </a:lnTo>
                  <a:lnTo>
                    <a:pt x="4" y="5"/>
                  </a:lnTo>
                  <a:lnTo>
                    <a:pt x="9" y="5"/>
                  </a:lnTo>
                  <a:lnTo>
                    <a:pt x="14" y="5"/>
                  </a:lnTo>
                  <a:close/>
                  <a:moveTo>
                    <a:pt x="14" y="5"/>
                  </a:moveTo>
                  <a:lnTo>
                    <a:pt x="9" y="5"/>
                  </a:lnTo>
                  <a:lnTo>
                    <a:pt x="9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0" y="15"/>
                  </a:lnTo>
                  <a:lnTo>
                    <a:pt x="4" y="15"/>
                  </a:lnTo>
                  <a:lnTo>
                    <a:pt x="4" y="15"/>
                  </a:lnTo>
                  <a:lnTo>
                    <a:pt x="4" y="15"/>
                  </a:lnTo>
                  <a:lnTo>
                    <a:pt x="4" y="15"/>
                  </a:lnTo>
                  <a:lnTo>
                    <a:pt x="4" y="20"/>
                  </a:lnTo>
                  <a:lnTo>
                    <a:pt x="4" y="20"/>
                  </a:lnTo>
                  <a:lnTo>
                    <a:pt x="9" y="20"/>
                  </a:lnTo>
                  <a:lnTo>
                    <a:pt x="9" y="20"/>
                  </a:lnTo>
                  <a:lnTo>
                    <a:pt x="14" y="20"/>
                  </a:lnTo>
                  <a:lnTo>
                    <a:pt x="19" y="15"/>
                  </a:lnTo>
                  <a:lnTo>
                    <a:pt x="19" y="15"/>
                  </a:lnTo>
                  <a:lnTo>
                    <a:pt x="24" y="15"/>
                  </a:lnTo>
                  <a:lnTo>
                    <a:pt x="24" y="15"/>
                  </a:lnTo>
                  <a:lnTo>
                    <a:pt x="24" y="15"/>
                  </a:lnTo>
                  <a:lnTo>
                    <a:pt x="24" y="10"/>
                  </a:lnTo>
                  <a:lnTo>
                    <a:pt x="24" y="10"/>
                  </a:lnTo>
                  <a:lnTo>
                    <a:pt x="24" y="10"/>
                  </a:lnTo>
                  <a:lnTo>
                    <a:pt x="24" y="10"/>
                  </a:lnTo>
                  <a:lnTo>
                    <a:pt x="24" y="10"/>
                  </a:lnTo>
                  <a:lnTo>
                    <a:pt x="24" y="5"/>
                  </a:lnTo>
                  <a:lnTo>
                    <a:pt x="24" y="5"/>
                  </a:lnTo>
                  <a:lnTo>
                    <a:pt x="19" y="5"/>
                  </a:lnTo>
                  <a:lnTo>
                    <a:pt x="19" y="5"/>
                  </a:lnTo>
                  <a:lnTo>
                    <a:pt x="14" y="5"/>
                  </a:lnTo>
                  <a:lnTo>
                    <a:pt x="14" y="5"/>
                  </a:lnTo>
                  <a:close/>
                </a:path>
              </a:pathLst>
            </a:custGeom>
            <a:solidFill>
              <a:srgbClr val="666666"/>
            </a:solidFill>
            <a:ln w="0">
              <a:solidFill>
                <a:srgbClr val="6666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7" name=""/>
            <p:cNvSpPr/>
            <p:nvPr/>
          </p:nvSpPr>
          <p:spPr>
            <a:xfrm flipH="1">
              <a:off x="3792240" y="3373560"/>
              <a:ext cx="64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8" name=""/>
            <p:cNvSpPr/>
            <p:nvPr/>
          </p:nvSpPr>
          <p:spPr>
            <a:xfrm>
              <a:off x="3697200" y="2360880"/>
              <a:ext cx="1177920" cy="1012680"/>
            </a:xfrm>
            <a:custGeom>
              <a:avLst/>
              <a:gdLst/>
              <a:ahLst/>
              <a:rect l="l" t="t" r="r" b="b"/>
              <a:pathLst>
                <a:path w="742" h="638">
                  <a:moveTo>
                    <a:pt x="60" y="638"/>
                  </a:moveTo>
                  <a:lnTo>
                    <a:pt x="55" y="633"/>
                  </a:lnTo>
                  <a:lnTo>
                    <a:pt x="50" y="628"/>
                  </a:lnTo>
                  <a:lnTo>
                    <a:pt x="50" y="618"/>
                  </a:lnTo>
                  <a:lnTo>
                    <a:pt x="50" y="613"/>
                  </a:lnTo>
                  <a:lnTo>
                    <a:pt x="45" y="608"/>
                  </a:lnTo>
                  <a:lnTo>
                    <a:pt x="45" y="603"/>
                  </a:lnTo>
                  <a:lnTo>
                    <a:pt x="45" y="598"/>
                  </a:lnTo>
                  <a:lnTo>
                    <a:pt x="40" y="593"/>
                  </a:lnTo>
                  <a:lnTo>
                    <a:pt x="40" y="589"/>
                  </a:lnTo>
                  <a:lnTo>
                    <a:pt x="40" y="579"/>
                  </a:lnTo>
                  <a:lnTo>
                    <a:pt x="40" y="574"/>
                  </a:lnTo>
                  <a:lnTo>
                    <a:pt x="40" y="569"/>
                  </a:lnTo>
                  <a:lnTo>
                    <a:pt x="40" y="564"/>
                  </a:lnTo>
                  <a:lnTo>
                    <a:pt x="40" y="559"/>
                  </a:lnTo>
                  <a:lnTo>
                    <a:pt x="40" y="554"/>
                  </a:lnTo>
                  <a:lnTo>
                    <a:pt x="35" y="549"/>
                  </a:lnTo>
                  <a:lnTo>
                    <a:pt x="35" y="539"/>
                  </a:lnTo>
                  <a:lnTo>
                    <a:pt x="30" y="534"/>
                  </a:lnTo>
                  <a:lnTo>
                    <a:pt x="30" y="529"/>
                  </a:lnTo>
                  <a:lnTo>
                    <a:pt x="25" y="524"/>
                  </a:lnTo>
                  <a:lnTo>
                    <a:pt x="25" y="519"/>
                  </a:lnTo>
                  <a:lnTo>
                    <a:pt x="25" y="514"/>
                  </a:lnTo>
                  <a:lnTo>
                    <a:pt x="20" y="509"/>
                  </a:lnTo>
                  <a:lnTo>
                    <a:pt x="20" y="504"/>
                  </a:lnTo>
                  <a:lnTo>
                    <a:pt x="15" y="500"/>
                  </a:lnTo>
                  <a:lnTo>
                    <a:pt x="10" y="495"/>
                  </a:lnTo>
                  <a:lnTo>
                    <a:pt x="5" y="490"/>
                  </a:lnTo>
                  <a:lnTo>
                    <a:pt x="0" y="485"/>
                  </a:lnTo>
                  <a:lnTo>
                    <a:pt x="0" y="480"/>
                  </a:lnTo>
                  <a:lnTo>
                    <a:pt x="0" y="470"/>
                  </a:lnTo>
                  <a:lnTo>
                    <a:pt x="5" y="470"/>
                  </a:lnTo>
                  <a:lnTo>
                    <a:pt x="10" y="480"/>
                  </a:lnTo>
                  <a:lnTo>
                    <a:pt x="20" y="485"/>
                  </a:lnTo>
                  <a:lnTo>
                    <a:pt x="25" y="490"/>
                  </a:lnTo>
                  <a:lnTo>
                    <a:pt x="30" y="490"/>
                  </a:lnTo>
                  <a:lnTo>
                    <a:pt x="35" y="495"/>
                  </a:lnTo>
                  <a:lnTo>
                    <a:pt x="40" y="500"/>
                  </a:lnTo>
                  <a:lnTo>
                    <a:pt x="45" y="504"/>
                  </a:lnTo>
                  <a:lnTo>
                    <a:pt x="50" y="509"/>
                  </a:lnTo>
                  <a:lnTo>
                    <a:pt x="55" y="514"/>
                  </a:lnTo>
                  <a:lnTo>
                    <a:pt x="60" y="519"/>
                  </a:lnTo>
                  <a:lnTo>
                    <a:pt x="64" y="514"/>
                  </a:lnTo>
                  <a:lnTo>
                    <a:pt x="69" y="509"/>
                  </a:lnTo>
                  <a:lnTo>
                    <a:pt x="74" y="504"/>
                  </a:lnTo>
                  <a:lnTo>
                    <a:pt x="74" y="500"/>
                  </a:lnTo>
                  <a:lnTo>
                    <a:pt x="74" y="495"/>
                  </a:lnTo>
                  <a:lnTo>
                    <a:pt x="74" y="485"/>
                  </a:lnTo>
                  <a:lnTo>
                    <a:pt x="69" y="480"/>
                  </a:lnTo>
                  <a:lnTo>
                    <a:pt x="69" y="475"/>
                  </a:lnTo>
                  <a:lnTo>
                    <a:pt x="69" y="470"/>
                  </a:lnTo>
                  <a:lnTo>
                    <a:pt x="64" y="465"/>
                  </a:lnTo>
                  <a:lnTo>
                    <a:pt x="64" y="460"/>
                  </a:lnTo>
                  <a:lnTo>
                    <a:pt x="64" y="455"/>
                  </a:lnTo>
                  <a:lnTo>
                    <a:pt x="60" y="450"/>
                  </a:lnTo>
                  <a:lnTo>
                    <a:pt x="60" y="440"/>
                  </a:lnTo>
                  <a:lnTo>
                    <a:pt x="60" y="435"/>
                  </a:lnTo>
                  <a:lnTo>
                    <a:pt x="60" y="430"/>
                  </a:lnTo>
                  <a:lnTo>
                    <a:pt x="55" y="425"/>
                  </a:lnTo>
                  <a:lnTo>
                    <a:pt x="55" y="420"/>
                  </a:lnTo>
                  <a:lnTo>
                    <a:pt x="55" y="416"/>
                  </a:lnTo>
                  <a:lnTo>
                    <a:pt x="50" y="411"/>
                  </a:lnTo>
                  <a:lnTo>
                    <a:pt x="50" y="401"/>
                  </a:lnTo>
                  <a:lnTo>
                    <a:pt x="50" y="396"/>
                  </a:lnTo>
                  <a:lnTo>
                    <a:pt x="45" y="391"/>
                  </a:lnTo>
                  <a:lnTo>
                    <a:pt x="45" y="386"/>
                  </a:lnTo>
                  <a:lnTo>
                    <a:pt x="45" y="381"/>
                  </a:lnTo>
                  <a:lnTo>
                    <a:pt x="40" y="376"/>
                  </a:lnTo>
                  <a:lnTo>
                    <a:pt x="40" y="371"/>
                  </a:lnTo>
                  <a:lnTo>
                    <a:pt x="40" y="366"/>
                  </a:lnTo>
                  <a:lnTo>
                    <a:pt x="35" y="356"/>
                  </a:lnTo>
                  <a:lnTo>
                    <a:pt x="35" y="351"/>
                  </a:lnTo>
                  <a:lnTo>
                    <a:pt x="35" y="346"/>
                  </a:lnTo>
                  <a:lnTo>
                    <a:pt x="35" y="341"/>
                  </a:lnTo>
                  <a:lnTo>
                    <a:pt x="30" y="336"/>
                  </a:lnTo>
                  <a:lnTo>
                    <a:pt x="30" y="331"/>
                  </a:lnTo>
                  <a:lnTo>
                    <a:pt x="30" y="327"/>
                  </a:lnTo>
                  <a:lnTo>
                    <a:pt x="30" y="317"/>
                  </a:lnTo>
                  <a:lnTo>
                    <a:pt x="35" y="312"/>
                  </a:lnTo>
                  <a:lnTo>
                    <a:pt x="40" y="312"/>
                  </a:lnTo>
                  <a:lnTo>
                    <a:pt x="50" y="312"/>
                  </a:lnTo>
                  <a:lnTo>
                    <a:pt x="60" y="307"/>
                  </a:lnTo>
                  <a:lnTo>
                    <a:pt x="64" y="307"/>
                  </a:lnTo>
                  <a:lnTo>
                    <a:pt x="74" y="302"/>
                  </a:lnTo>
                  <a:lnTo>
                    <a:pt x="79" y="297"/>
                  </a:lnTo>
                  <a:lnTo>
                    <a:pt x="84" y="292"/>
                  </a:lnTo>
                  <a:lnTo>
                    <a:pt x="89" y="287"/>
                  </a:lnTo>
                  <a:lnTo>
                    <a:pt x="94" y="282"/>
                  </a:lnTo>
                  <a:lnTo>
                    <a:pt x="99" y="277"/>
                  </a:lnTo>
                  <a:lnTo>
                    <a:pt x="104" y="272"/>
                  </a:lnTo>
                  <a:lnTo>
                    <a:pt x="114" y="272"/>
                  </a:lnTo>
                  <a:lnTo>
                    <a:pt x="124" y="272"/>
                  </a:lnTo>
                  <a:lnTo>
                    <a:pt x="134" y="272"/>
                  </a:lnTo>
                  <a:lnTo>
                    <a:pt x="139" y="272"/>
                  </a:lnTo>
                  <a:lnTo>
                    <a:pt x="144" y="267"/>
                  </a:lnTo>
                  <a:lnTo>
                    <a:pt x="149" y="262"/>
                  </a:lnTo>
                  <a:lnTo>
                    <a:pt x="153" y="257"/>
                  </a:lnTo>
                  <a:lnTo>
                    <a:pt x="158" y="252"/>
                  </a:lnTo>
                  <a:lnTo>
                    <a:pt x="163" y="247"/>
                  </a:lnTo>
                  <a:lnTo>
                    <a:pt x="173" y="247"/>
                  </a:lnTo>
                  <a:lnTo>
                    <a:pt x="183" y="247"/>
                  </a:lnTo>
                  <a:lnTo>
                    <a:pt x="193" y="243"/>
                  </a:lnTo>
                  <a:lnTo>
                    <a:pt x="198" y="238"/>
                  </a:lnTo>
                  <a:lnTo>
                    <a:pt x="203" y="233"/>
                  </a:lnTo>
                  <a:lnTo>
                    <a:pt x="208" y="228"/>
                  </a:lnTo>
                  <a:lnTo>
                    <a:pt x="208" y="223"/>
                  </a:lnTo>
                  <a:lnTo>
                    <a:pt x="213" y="218"/>
                  </a:lnTo>
                  <a:lnTo>
                    <a:pt x="223" y="218"/>
                  </a:lnTo>
                  <a:lnTo>
                    <a:pt x="233" y="218"/>
                  </a:lnTo>
                  <a:lnTo>
                    <a:pt x="238" y="213"/>
                  </a:lnTo>
                  <a:lnTo>
                    <a:pt x="243" y="208"/>
                  </a:lnTo>
                  <a:lnTo>
                    <a:pt x="252" y="208"/>
                  </a:lnTo>
                  <a:lnTo>
                    <a:pt x="262" y="213"/>
                  </a:lnTo>
                  <a:lnTo>
                    <a:pt x="272" y="213"/>
                  </a:lnTo>
                  <a:lnTo>
                    <a:pt x="277" y="208"/>
                  </a:lnTo>
                  <a:lnTo>
                    <a:pt x="277" y="203"/>
                  </a:lnTo>
                  <a:lnTo>
                    <a:pt x="277" y="198"/>
                  </a:lnTo>
                  <a:lnTo>
                    <a:pt x="282" y="188"/>
                  </a:lnTo>
                  <a:lnTo>
                    <a:pt x="282" y="183"/>
                  </a:lnTo>
                  <a:lnTo>
                    <a:pt x="287" y="178"/>
                  </a:lnTo>
                  <a:lnTo>
                    <a:pt x="292" y="173"/>
                  </a:lnTo>
                  <a:lnTo>
                    <a:pt x="297" y="168"/>
                  </a:lnTo>
                  <a:lnTo>
                    <a:pt x="307" y="168"/>
                  </a:lnTo>
                  <a:lnTo>
                    <a:pt x="312" y="163"/>
                  </a:lnTo>
                  <a:lnTo>
                    <a:pt x="322" y="163"/>
                  </a:lnTo>
                  <a:lnTo>
                    <a:pt x="327" y="163"/>
                  </a:lnTo>
                  <a:lnTo>
                    <a:pt x="336" y="168"/>
                  </a:lnTo>
                  <a:lnTo>
                    <a:pt x="341" y="173"/>
                  </a:lnTo>
                  <a:lnTo>
                    <a:pt x="341" y="178"/>
                  </a:lnTo>
                  <a:lnTo>
                    <a:pt x="346" y="183"/>
                  </a:lnTo>
                  <a:lnTo>
                    <a:pt x="356" y="183"/>
                  </a:lnTo>
                  <a:lnTo>
                    <a:pt x="356" y="178"/>
                  </a:lnTo>
                  <a:lnTo>
                    <a:pt x="356" y="173"/>
                  </a:lnTo>
                  <a:lnTo>
                    <a:pt x="356" y="163"/>
                  </a:lnTo>
                  <a:lnTo>
                    <a:pt x="356" y="159"/>
                  </a:lnTo>
                  <a:lnTo>
                    <a:pt x="361" y="154"/>
                  </a:lnTo>
                  <a:lnTo>
                    <a:pt x="366" y="149"/>
                  </a:lnTo>
                  <a:lnTo>
                    <a:pt x="371" y="149"/>
                  </a:lnTo>
                  <a:lnTo>
                    <a:pt x="376" y="144"/>
                  </a:lnTo>
                  <a:lnTo>
                    <a:pt x="386" y="139"/>
                  </a:lnTo>
                  <a:lnTo>
                    <a:pt x="391" y="134"/>
                  </a:lnTo>
                  <a:lnTo>
                    <a:pt x="401" y="134"/>
                  </a:lnTo>
                  <a:lnTo>
                    <a:pt x="411" y="134"/>
                  </a:lnTo>
                  <a:lnTo>
                    <a:pt x="421" y="134"/>
                  </a:lnTo>
                  <a:lnTo>
                    <a:pt x="426" y="129"/>
                  </a:lnTo>
                  <a:lnTo>
                    <a:pt x="435" y="129"/>
                  </a:lnTo>
                  <a:lnTo>
                    <a:pt x="440" y="124"/>
                  </a:lnTo>
                  <a:lnTo>
                    <a:pt x="450" y="119"/>
                  </a:lnTo>
                  <a:lnTo>
                    <a:pt x="455" y="119"/>
                  </a:lnTo>
                  <a:lnTo>
                    <a:pt x="460" y="114"/>
                  </a:lnTo>
                  <a:lnTo>
                    <a:pt x="470" y="114"/>
                  </a:lnTo>
                  <a:lnTo>
                    <a:pt x="480" y="109"/>
                  </a:lnTo>
                  <a:lnTo>
                    <a:pt x="485" y="104"/>
                  </a:lnTo>
                  <a:lnTo>
                    <a:pt x="490" y="99"/>
                  </a:lnTo>
                  <a:lnTo>
                    <a:pt x="495" y="94"/>
                  </a:lnTo>
                  <a:lnTo>
                    <a:pt x="505" y="94"/>
                  </a:lnTo>
                  <a:lnTo>
                    <a:pt x="510" y="89"/>
                  </a:lnTo>
                  <a:lnTo>
                    <a:pt x="519" y="89"/>
                  </a:lnTo>
                  <a:lnTo>
                    <a:pt x="529" y="84"/>
                  </a:lnTo>
                  <a:lnTo>
                    <a:pt x="534" y="84"/>
                  </a:lnTo>
                  <a:lnTo>
                    <a:pt x="544" y="79"/>
                  </a:lnTo>
                  <a:lnTo>
                    <a:pt x="549" y="79"/>
                  </a:lnTo>
                  <a:lnTo>
                    <a:pt x="559" y="74"/>
                  </a:lnTo>
                  <a:lnTo>
                    <a:pt x="564" y="74"/>
                  </a:lnTo>
                  <a:lnTo>
                    <a:pt x="569" y="70"/>
                  </a:lnTo>
                  <a:lnTo>
                    <a:pt x="579" y="65"/>
                  </a:lnTo>
                  <a:lnTo>
                    <a:pt x="584" y="60"/>
                  </a:lnTo>
                  <a:lnTo>
                    <a:pt x="589" y="55"/>
                  </a:lnTo>
                  <a:lnTo>
                    <a:pt x="599" y="55"/>
                  </a:lnTo>
                  <a:lnTo>
                    <a:pt x="608" y="55"/>
                  </a:lnTo>
                  <a:lnTo>
                    <a:pt x="608" y="45"/>
                  </a:lnTo>
                  <a:lnTo>
                    <a:pt x="613" y="40"/>
                  </a:lnTo>
                  <a:lnTo>
                    <a:pt x="618" y="40"/>
                  </a:lnTo>
                  <a:lnTo>
                    <a:pt x="628" y="40"/>
                  </a:lnTo>
                  <a:lnTo>
                    <a:pt x="638" y="40"/>
                  </a:lnTo>
                  <a:lnTo>
                    <a:pt x="648" y="40"/>
                  </a:lnTo>
                  <a:lnTo>
                    <a:pt x="653" y="35"/>
                  </a:lnTo>
                  <a:lnTo>
                    <a:pt x="658" y="30"/>
                  </a:lnTo>
                  <a:lnTo>
                    <a:pt x="663" y="25"/>
                  </a:lnTo>
                  <a:lnTo>
                    <a:pt x="673" y="20"/>
                  </a:lnTo>
                  <a:lnTo>
                    <a:pt x="678" y="20"/>
                  </a:lnTo>
                  <a:lnTo>
                    <a:pt x="683" y="15"/>
                  </a:lnTo>
                  <a:lnTo>
                    <a:pt x="693" y="15"/>
                  </a:lnTo>
                  <a:lnTo>
                    <a:pt x="702" y="10"/>
                  </a:lnTo>
                  <a:lnTo>
                    <a:pt x="707" y="10"/>
                  </a:lnTo>
                  <a:lnTo>
                    <a:pt x="717" y="5"/>
                  </a:lnTo>
                  <a:lnTo>
                    <a:pt x="727" y="5"/>
                  </a:lnTo>
                  <a:lnTo>
                    <a:pt x="732" y="0"/>
                  </a:lnTo>
                  <a:lnTo>
                    <a:pt x="74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9" name=""/>
            <p:cNvSpPr/>
            <p:nvPr/>
          </p:nvSpPr>
          <p:spPr>
            <a:xfrm>
              <a:off x="2550960" y="2949840"/>
              <a:ext cx="71280" cy="63360"/>
            </a:xfrm>
            <a:custGeom>
              <a:avLst/>
              <a:gdLst/>
              <a:ahLst/>
              <a:rect l="l" t="t" r="r" b="b"/>
              <a:pathLst>
                <a:path w="45" h="40">
                  <a:moveTo>
                    <a:pt x="35" y="0"/>
                  </a:moveTo>
                  <a:lnTo>
                    <a:pt x="40" y="0"/>
                  </a:lnTo>
                  <a:lnTo>
                    <a:pt x="45" y="0"/>
                  </a:lnTo>
                  <a:lnTo>
                    <a:pt x="45" y="5"/>
                  </a:lnTo>
                  <a:lnTo>
                    <a:pt x="40" y="10"/>
                  </a:lnTo>
                  <a:lnTo>
                    <a:pt x="40" y="10"/>
                  </a:lnTo>
                  <a:lnTo>
                    <a:pt x="35" y="15"/>
                  </a:lnTo>
                  <a:lnTo>
                    <a:pt x="30" y="15"/>
                  </a:lnTo>
                  <a:lnTo>
                    <a:pt x="25" y="20"/>
                  </a:lnTo>
                  <a:lnTo>
                    <a:pt x="25" y="25"/>
                  </a:lnTo>
                  <a:lnTo>
                    <a:pt x="20" y="25"/>
                  </a:lnTo>
                  <a:lnTo>
                    <a:pt x="20" y="30"/>
                  </a:lnTo>
                  <a:lnTo>
                    <a:pt x="15" y="35"/>
                  </a:lnTo>
                  <a:lnTo>
                    <a:pt x="10" y="35"/>
                  </a:lnTo>
                  <a:lnTo>
                    <a:pt x="10" y="40"/>
                  </a:lnTo>
                  <a:lnTo>
                    <a:pt x="5" y="40"/>
                  </a:lnTo>
                  <a:lnTo>
                    <a:pt x="5" y="35"/>
                  </a:lnTo>
                  <a:lnTo>
                    <a:pt x="0" y="3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0" name=""/>
            <p:cNvSpPr/>
            <p:nvPr/>
          </p:nvSpPr>
          <p:spPr>
            <a:xfrm>
              <a:off x="2841480" y="3970440"/>
              <a:ext cx="39600" cy="3816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5" y="24"/>
                  </a:moveTo>
                  <a:lnTo>
                    <a:pt x="0" y="19"/>
                  </a:lnTo>
                  <a:lnTo>
                    <a:pt x="20" y="5"/>
                  </a:lnTo>
                  <a:lnTo>
                    <a:pt x="15" y="5"/>
                  </a:lnTo>
                  <a:lnTo>
                    <a:pt x="15" y="5"/>
                  </a:lnTo>
                  <a:lnTo>
                    <a:pt x="15" y="5"/>
                  </a:lnTo>
                  <a:lnTo>
                    <a:pt x="15" y="5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5" y="24"/>
                  </a:lnTo>
                  <a:close/>
                </a:path>
              </a:pathLst>
            </a:custGeom>
            <a:solidFill>
              <a:srgbClr val="666666"/>
            </a:solidFill>
            <a:ln w="0">
              <a:solidFill>
                <a:srgbClr val="6666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1" name=""/>
            <p:cNvSpPr/>
            <p:nvPr/>
          </p:nvSpPr>
          <p:spPr>
            <a:xfrm>
              <a:off x="2865240" y="3984840"/>
              <a:ext cx="39600" cy="47520"/>
            </a:xfrm>
            <a:custGeom>
              <a:avLst/>
              <a:gdLst/>
              <a:ahLst/>
              <a:rect l="l" t="t" r="r" b="b"/>
              <a:pathLst>
                <a:path w="25" h="30">
                  <a:moveTo>
                    <a:pt x="10" y="10"/>
                  </a:moveTo>
                  <a:lnTo>
                    <a:pt x="10" y="10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15" y="5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20" y="5"/>
                  </a:lnTo>
                  <a:lnTo>
                    <a:pt x="25" y="5"/>
                  </a:lnTo>
                  <a:lnTo>
                    <a:pt x="25" y="5"/>
                  </a:lnTo>
                  <a:lnTo>
                    <a:pt x="25" y="5"/>
                  </a:lnTo>
                  <a:lnTo>
                    <a:pt x="25" y="10"/>
                  </a:lnTo>
                  <a:lnTo>
                    <a:pt x="25" y="10"/>
                  </a:lnTo>
                  <a:lnTo>
                    <a:pt x="25" y="10"/>
                  </a:lnTo>
                  <a:lnTo>
                    <a:pt x="25" y="15"/>
                  </a:lnTo>
                  <a:lnTo>
                    <a:pt x="25" y="15"/>
                  </a:lnTo>
                  <a:lnTo>
                    <a:pt x="25" y="15"/>
                  </a:lnTo>
                  <a:lnTo>
                    <a:pt x="25" y="15"/>
                  </a:lnTo>
                  <a:lnTo>
                    <a:pt x="25" y="15"/>
                  </a:lnTo>
                  <a:lnTo>
                    <a:pt x="25" y="15"/>
                  </a:lnTo>
                  <a:lnTo>
                    <a:pt x="20" y="20"/>
                  </a:lnTo>
                  <a:lnTo>
                    <a:pt x="20" y="20"/>
                  </a:lnTo>
                  <a:lnTo>
                    <a:pt x="20" y="20"/>
                  </a:lnTo>
                  <a:lnTo>
                    <a:pt x="20" y="20"/>
                  </a:lnTo>
                  <a:lnTo>
                    <a:pt x="20" y="15"/>
                  </a:lnTo>
                  <a:lnTo>
                    <a:pt x="20" y="20"/>
                  </a:lnTo>
                  <a:lnTo>
                    <a:pt x="20" y="20"/>
                  </a:lnTo>
                  <a:lnTo>
                    <a:pt x="20" y="20"/>
                  </a:lnTo>
                  <a:lnTo>
                    <a:pt x="20" y="20"/>
                  </a:lnTo>
                  <a:lnTo>
                    <a:pt x="20" y="25"/>
                  </a:lnTo>
                  <a:lnTo>
                    <a:pt x="20" y="25"/>
                  </a:lnTo>
                  <a:lnTo>
                    <a:pt x="15" y="25"/>
                  </a:lnTo>
                  <a:lnTo>
                    <a:pt x="15" y="25"/>
                  </a:lnTo>
                  <a:lnTo>
                    <a:pt x="15" y="30"/>
                  </a:lnTo>
                  <a:lnTo>
                    <a:pt x="15" y="30"/>
                  </a:lnTo>
                  <a:lnTo>
                    <a:pt x="10" y="30"/>
                  </a:lnTo>
                  <a:lnTo>
                    <a:pt x="10" y="30"/>
                  </a:lnTo>
                  <a:lnTo>
                    <a:pt x="10" y="30"/>
                  </a:lnTo>
                  <a:lnTo>
                    <a:pt x="5" y="30"/>
                  </a:lnTo>
                  <a:lnTo>
                    <a:pt x="5" y="30"/>
                  </a:lnTo>
                  <a:lnTo>
                    <a:pt x="5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5" y="10"/>
                  </a:lnTo>
                  <a:lnTo>
                    <a:pt x="5" y="10"/>
                  </a:lnTo>
                  <a:lnTo>
                    <a:pt x="5" y="10"/>
                  </a:lnTo>
                  <a:lnTo>
                    <a:pt x="5" y="10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10" y="10"/>
                  </a:lnTo>
                  <a:close/>
                  <a:moveTo>
                    <a:pt x="15" y="5"/>
                  </a:moveTo>
                  <a:lnTo>
                    <a:pt x="15" y="5"/>
                  </a:lnTo>
                  <a:lnTo>
                    <a:pt x="15" y="10"/>
                  </a:lnTo>
                  <a:lnTo>
                    <a:pt x="15" y="10"/>
                  </a:lnTo>
                  <a:lnTo>
                    <a:pt x="15" y="10"/>
                  </a:lnTo>
                  <a:lnTo>
                    <a:pt x="15" y="10"/>
                  </a:lnTo>
                  <a:lnTo>
                    <a:pt x="15" y="10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20" y="15"/>
                  </a:lnTo>
                  <a:lnTo>
                    <a:pt x="20" y="15"/>
                  </a:lnTo>
                  <a:lnTo>
                    <a:pt x="20" y="15"/>
                  </a:lnTo>
                  <a:lnTo>
                    <a:pt x="20" y="15"/>
                  </a:lnTo>
                  <a:lnTo>
                    <a:pt x="20" y="15"/>
                  </a:lnTo>
                  <a:lnTo>
                    <a:pt x="20" y="15"/>
                  </a:lnTo>
                  <a:lnTo>
                    <a:pt x="25" y="10"/>
                  </a:lnTo>
                  <a:lnTo>
                    <a:pt x="25" y="10"/>
                  </a:lnTo>
                  <a:lnTo>
                    <a:pt x="25" y="10"/>
                  </a:lnTo>
                  <a:lnTo>
                    <a:pt x="25" y="10"/>
                  </a:lnTo>
                  <a:lnTo>
                    <a:pt x="25" y="10"/>
                  </a:lnTo>
                  <a:lnTo>
                    <a:pt x="25" y="10"/>
                  </a:lnTo>
                  <a:lnTo>
                    <a:pt x="20" y="5"/>
                  </a:lnTo>
                  <a:lnTo>
                    <a:pt x="20" y="5"/>
                  </a:lnTo>
                  <a:lnTo>
                    <a:pt x="20" y="5"/>
                  </a:lnTo>
                  <a:lnTo>
                    <a:pt x="20" y="5"/>
                  </a:lnTo>
                  <a:lnTo>
                    <a:pt x="20" y="5"/>
                  </a:lnTo>
                  <a:lnTo>
                    <a:pt x="20" y="5"/>
                  </a:lnTo>
                  <a:lnTo>
                    <a:pt x="15" y="5"/>
                  </a:lnTo>
                  <a:lnTo>
                    <a:pt x="15" y="5"/>
                  </a:lnTo>
                  <a:lnTo>
                    <a:pt x="15" y="5"/>
                  </a:lnTo>
                  <a:lnTo>
                    <a:pt x="15" y="5"/>
                  </a:lnTo>
                  <a:close/>
                  <a:moveTo>
                    <a:pt x="5" y="15"/>
                  </a:moveTo>
                  <a:lnTo>
                    <a:pt x="5" y="15"/>
                  </a:lnTo>
                  <a:lnTo>
                    <a:pt x="5" y="15"/>
                  </a:lnTo>
                  <a:lnTo>
                    <a:pt x="5" y="20"/>
                  </a:lnTo>
                  <a:lnTo>
                    <a:pt x="5" y="20"/>
                  </a:lnTo>
                  <a:lnTo>
                    <a:pt x="5" y="20"/>
                  </a:lnTo>
                  <a:lnTo>
                    <a:pt x="5" y="20"/>
                  </a:lnTo>
                  <a:lnTo>
                    <a:pt x="5" y="20"/>
                  </a:lnTo>
                  <a:lnTo>
                    <a:pt x="5" y="20"/>
                  </a:lnTo>
                  <a:lnTo>
                    <a:pt x="5" y="20"/>
                  </a:lnTo>
                  <a:lnTo>
                    <a:pt x="5" y="25"/>
                  </a:lnTo>
                  <a:lnTo>
                    <a:pt x="5" y="25"/>
                  </a:lnTo>
                  <a:lnTo>
                    <a:pt x="5" y="25"/>
                  </a:lnTo>
                  <a:lnTo>
                    <a:pt x="5" y="25"/>
                  </a:lnTo>
                  <a:lnTo>
                    <a:pt x="5" y="25"/>
                  </a:lnTo>
                  <a:lnTo>
                    <a:pt x="10" y="25"/>
                  </a:lnTo>
                  <a:lnTo>
                    <a:pt x="10" y="25"/>
                  </a:lnTo>
                  <a:lnTo>
                    <a:pt x="10" y="25"/>
                  </a:lnTo>
                  <a:lnTo>
                    <a:pt x="10" y="25"/>
                  </a:lnTo>
                  <a:lnTo>
                    <a:pt x="15" y="25"/>
                  </a:lnTo>
                  <a:lnTo>
                    <a:pt x="15" y="25"/>
                  </a:lnTo>
                  <a:lnTo>
                    <a:pt x="15" y="25"/>
                  </a:lnTo>
                  <a:lnTo>
                    <a:pt x="15" y="20"/>
                  </a:lnTo>
                  <a:lnTo>
                    <a:pt x="15" y="20"/>
                  </a:lnTo>
                  <a:lnTo>
                    <a:pt x="15" y="20"/>
                  </a:lnTo>
                  <a:lnTo>
                    <a:pt x="15" y="20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0" y="15"/>
                  </a:lnTo>
                  <a:lnTo>
                    <a:pt x="10" y="15"/>
                  </a:lnTo>
                  <a:lnTo>
                    <a:pt x="10" y="15"/>
                  </a:lnTo>
                  <a:lnTo>
                    <a:pt x="10" y="15"/>
                  </a:lnTo>
                  <a:lnTo>
                    <a:pt x="10" y="15"/>
                  </a:lnTo>
                  <a:lnTo>
                    <a:pt x="5" y="15"/>
                  </a:lnTo>
                  <a:lnTo>
                    <a:pt x="5" y="15"/>
                  </a:lnTo>
                  <a:lnTo>
                    <a:pt x="5" y="15"/>
                  </a:lnTo>
                  <a:close/>
                </a:path>
              </a:pathLst>
            </a:custGeom>
            <a:solidFill>
              <a:srgbClr val="666666"/>
            </a:solidFill>
            <a:ln w="0">
              <a:solidFill>
                <a:srgbClr val="6666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2" name=""/>
            <p:cNvSpPr/>
            <p:nvPr/>
          </p:nvSpPr>
          <p:spPr>
            <a:xfrm>
              <a:off x="2889000" y="4008600"/>
              <a:ext cx="46080" cy="47520"/>
            </a:xfrm>
            <a:custGeom>
              <a:avLst/>
              <a:gdLst/>
              <a:ahLst/>
              <a:rect l="l" t="t" r="r" b="b"/>
              <a:pathLst>
                <a:path w="29" h="30">
                  <a:moveTo>
                    <a:pt x="10" y="10"/>
                  </a:moveTo>
                  <a:lnTo>
                    <a:pt x="10" y="10"/>
                  </a:lnTo>
                  <a:lnTo>
                    <a:pt x="10" y="5"/>
                  </a:lnTo>
                  <a:lnTo>
                    <a:pt x="15" y="5"/>
                  </a:lnTo>
                  <a:lnTo>
                    <a:pt x="15" y="5"/>
                  </a:lnTo>
                  <a:lnTo>
                    <a:pt x="15" y="5"/>
                  </a:lnTo>
                  <a:lnTo>
                    <a:pt x="20" y="5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20" y="5"/>
                  </a:lnTo>
                  <a:lnTo>
                    <a:pt x="25" y="5"/>
                  </a:lnTo>
                  <a:lnTo>
                    <a:pt x="25" y="5"/>
                  </a:lnTo>
                  <a:lnTo>
                    <a:pt x="25" y="5"/>
                  </a:lnTo>
                  <a:lnTo>
                    <a:pt x="25" y="5"/>
                  </a:lnTo>
                  <a:lnTo>
                    <a:pt x="25" y="5"/>
                  </a:lnTo>
                  <a:lnTo>
                    <a:pt x="29" y="5"/>
                  </a:lnTo>
                  <a:lnTo>
                    <a:pt x="29" y="10"/>
                  </a:lnTo>
                  <a:lnTo>
                    <a:pt x="29" y="10"/>
                  </a:lnTo>
                  <a:lnTo>
                    <a:pt x="29" y="10"/>
                  </a:lnTo>
                  <a:lnTo>
                    <a:pt x="29" y="10"/>
                  </a:lnTo>
                  <a:lnTo>
                    <a:pt x="29" y="10"/>
                  </a:lnTo>
                  <a:lnTo>
                    <a:pt x="29" y="15"/>
                  </a:lnTo>
                  <a:lnTo>
                    <a:pt x="29" y="15"/>
                  </a:lnTo>
                  <a:lnTo>
                    <a:pt x="29" y="15"/>
                  </a:lnTo>
                  <a:lnTo>
                    <a:pt x="25" y="15"/>
                  </a:lnTo>
                  <a:lnTo>
                    <a:pt x="25" y="20"/>
                  </a:lnTo>
                  <a:lnTo>
                    <a:pt x="25" y="20"/>
                  </a:lnTo>
                  <a:lnTo>
                    <a:pt x="25" y="20"/>
                  </a:lnTo>
                  <a:lnTo>
                    <a:pt x="25" y="25"/>
                  </a:lnTo>
                  <a:lnTo>
                    <a:pt x="20" y="25"/>
                  </a:lnTo>
                  <a:lnTo>
                    <a:pt x="20" y="25"/>
                  </a:lnTo>
                  <a:lnTo>
                    <a:pt x="20" y="25"/>
                  </a:lnTo>
                  <a:lnTo>
                    <a:pt x="15" y="30"/>
                  </a:lnTo>
                  <a:lnTo>
                    <a:pt x="15" y="30"/>
                  </a:lnTo>
                  <a:lnTo>
                    <a:pt x="15" y="30"/>
                  </a:lnTo>
                  <a:lnTo>
                    <a:pt x="10" y="30"/>
                  </a:lnTo>
                  <a:lnTo>
                    <a:pt x="10" y="30"/>
                  </a:lnTo>
                  <a:lnTo>
                    <a:pt x="10" y="30"/>
                  </a:lnTo>
                  <a:lnTo>
                    <a:pt x="10" y="30"/>
                  </a:lnTo>
                  <a:lnTo>
                    <a:pt x="5" y="30"/>
                  </a:lnTo>
                  <a:lnTo>
                    <a:pt x="5" y="25"/>
                  </a:lnTo>
                  <a:lnTo>
                    <a:pt x="5" y="25"/>
                  </a:lnTo>
                  <a:lnTo>
                    <a:pt x="5" y="25"/>
                  </a:lnTo>
                  <a:lnTo>
                    <a:pt x="5" y="20"/>
                  </a:lnTo>
                  <a:lnTo>
                    <a:pt x="0" y="20"/>
                  </a:lnTo>
                  <a:lnTo>
                    <a:pt x="5" y="20"/>
                  </a:lnTo>
                  <a:lnTo>
                    <a:pt x="5" y="15"/>
                  </a:lnTo>
                  <a:lnTo>
                    <a:pt x="5" y="10"/>
                  </a:lnTo>
                  <a:lnTo>
                    <a:pt x="10" y="10"/>
                  </a:lnTo>
                  <a:close/>
                  <a:moveTo>
                    <a:pt x="10" y="10"/>
                  </a:moveTo>
                  <a:lnTo>
                    <a:pt x="10" y="15"/>
                  </a:lnTo>
                  <a:lnTo>
                    <a:pt x="5" y="15"/>
                  </a:lnTo>
                  <a:lnTo>
                    <a:pt x="5" y="20"/>
                  </a:lnTo>
                  <a:lnTo>
                    <a:pt x="5" y="20"/>
                  </a:lnTo>
                  <a:lnTo>
                    <a:pt x="5" y="20"/>
                  </a:lnTo>
                  <a:lnTo>
                    <a:pt x="5" y="25"/>
                  </a:lnTo>
                  <a:lnTo>
                    <a:pt x="5" y="25"/>
                  </a:lnTo>
                  <a:lnTo>
                    <a:pt x="5" y="25"/>
                  </a:lnTo>
                  <a:lnTo>
                    <a:pt x="10" y="25"/>
                  </a:lnTo>
                  <a:lnTo>
                    <a:pt x="10" y="25"/>
                  </a:lnTo>
                  <a:lnTo>
                    <a:pt x="10" y="25"/>
                  </a:lnTo>
                  <a:lnTo>
                    <a:pt x="10" y="25"/>
                  </a:lnTo>
                  <a:lnTo>
                    <a:pt x="15" y="25"/>
                  </a:lnTo>
                  <a:lnTo>
                    <a:pt x="15" y="25"/>
                  </a:lnTo>
                  <a:lnTo>
                    <a:pt x="20" y="20"/>
                  </a:lnTo>
                  <a:lnTo>
                    <a:pt x="20" y="20"/>
                  </a:lnTo>
                  <a:lnTo>
                    <a:pt x="20" y="15"/>
                  </a:lnTo>
                  <a:lnTo>
                    <a:pt x="25" y="15"/>
                  </a:lnTo>
                  <a:lnTo>
                    <a:pt x="25" y="15"/>
                  </a:lnTo>
                  <a:lnTo>
                    <a:pt x="25" y="10"/>
                  </a:lnTo>
                  <a:lnTo>
                    <a:pt x="25" y="10"/>
                  </a:lnTo>
                  <a:lnTo>
                    <a:pt x="25" y="10"/>
                  </a:lnTo>
                  <a:lnTo>
                    <a:pt x="25" y="10"/>
                  </a:lnTo>
                  <a:lnTo>
                    <a:pt x="25" y="5"/>
                  </a:lnTo>
                  <a:lnTo>
                    <a:pt x="25" y="5"/>
                  </a:lnTo>
                  <a:lnTo>
                    <a:pt x="20" y="5"/>
                  </a:lnTo>
                  <a:lnTo>
                    <a:pt x="20" y="5"/>
                  </a:lnTo>
                  <a:lnTo>
                    <a:pt x="20" y="5"/>
                  </a:lnTo>
                  <a:lnTo>
                    <a:pt x="20" y="5"/>
                  </a:lnTo>
                  <a:lnTo>
                    <a:pt x="15" y="10"/>
                  </a:lnTo>
                  <a:lnTo>
                    <a:pt x="15" y="10"/>
                  </a:lnTo>
                  <a:lnTo>
                    <a:pt x="10" y="10"/>
                  </a:lnTo>
                  <a:close/>
                </a:path>
              </a:pathLst>
            </a:custGeom>
            <a:solidFill>
              <a:srgbClr val="666666"/>
            </a:solidFill>
            <a:ln w="0">
              <a:solidFill>
                <a:srgbClr val="6666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3" name=""/>
            <p:cNvSpPr/>
            <p:nvPr/>
          </p:nvSpPr>
          <p:spPr>
            <a:xfrm>
              <a:off x="2833560" y="3962520"/>
              <a:ext cx="14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4" name=""/>
            <p:cNvSpPr/>
            <p:nvPr/>
          </p:nvSpPr>
          <p:spPr>
            <a:xfrm>
              <a:off x="2465280" y="3490920"/>
              <a:ext cx="682560" cy="565200"/>
            </a:xfrm>
            <a:custGeom>
              <a:avLst/>
              <a:gdLst/>
              <a:ahLst/>
              <a:rect l="l" t="t" r="r" b="b"/>
              <a:pathLst>
                <a:path w="430" h="356">
                  <a:moveTo>
                    <a:pt x="232" y="297"/>
                  </a:moveTo>
                  <a:lnTo>
                    <a:pt x="227" y="292"/>
                  </a:lnTo>
                  <a:lnTo>
                    <a:pt x="222" y="287"/>
                  </a:lnTo>
                  <a:lnTo>
                    <a:pt x="222" y="282"/>
                  </a:lnTo>
                  <a:lnTo>
                    <a:pt x="217" y="277"/>
                  </a:lnTo>
                  <a:lnTo>
                    <a:pt x="212" y="272"/>
                  </a:lnTo>
                  <a:lnTo>
                    <a:pt x="207" y="267"/>
                  </a:lnTo>
                  <a:lnTo>
                    <a:pt x="207" y="262"/>
                  </a:lnTo>
                  <a:lnTo>
                    <a:pt x="203" y="257"/>
                  </a:lnTo>
                  <a:lnTo>
                    <a:pt x="198" y="252"/>
                  </a:lnTo>
                  <a:lnTo>
                    <a:pt x="193" y="247"/>
                  </a:lnTo>
                  <a:lnTo>
                    <a:pt x="193" y="247"/>
                  </a:lnTo>
                  <a:lnTo>
                    <a:pt x="188" y="242"/>
                  </a:lnTo>
                  <a:lnTo>
                    <a:pt x="183" y="237"/>
                  </a:lnTo>
                  <a:lnTo>
                    <a:pt x="178" y="232"/>
                  </a:lnTo>
                  <a:lnTo>
                    <a:pt x="178" y="227"/>
                  </a:lnTo>
                  <a:lnTo>
                    <a:pt x="173" y="222"/>
                  </a:lnTo>
                  <a:lnTo>
                    <a:pt x="168" y="218"/>
                  </a:lnTo>
                  <a:lnTo>
                    <a:pt x="168" y="213"/>
                  </a:lnTo>
                  <a:lnTo>
                    <a:pt x="163" y="208"/>
                  </a:lnTo>
                  <a:lnTo>
                    <a:pt x="158" y="203"/>
                  </a:lnTo>
                  <a:lnTo>
                    <a:pt x="153" y="198"/>
                  </a:lnTo>
                  <a:lnTo>
                    <a:pt x="153" y="198"/>
                  </a:lnTo>
                  <a:lnTo>
                    <a:pt x="148" y="193"/>
                  </a:lnTo>
                  <a:lnTo>
                    <a:pt x="143" y="188"/>
                  </a:lnTo>
                  <a:lnTo>
                    <a:pt x="138" y="183"/>
                  </a:lnTo>
                  <a:lnTo>
                    <a:pt x="138" y="178"/>
                  </a:lnTo>
                  <a:lnTo>
                    <a:pt x="133" y="173"/>
                  </a:lnTo>
                  <a:lnTo>
                    <a:pt x="128" y="168"/>
                  </a:lnTo>
                  <a:lnTo>
                    <a:pt x="128" y="163"/>
                  </a:lnTo>
                  <a:lnTo>
                    <a:pt x="123" y="158"/>
                  </a:lnTo>
                  <a:lnTo>
                    <a:pt x="118" y="153"/>
                  </a:lnTo>
                  <a:lnTo>
                    <a:pt x="113" y="148"/>
                  </a:lnTo>
                  <a:lnTo>
                    <a:pt x="113" y="148"/>
                  </a:lnTo>
                  <a:lnTo>
                    <a:pt x="109" y="143"/>
                  </a:lnTo>
                  <a:lnTo>
                    <a:pt x="104" y="138"/>
                  </a:lnTo>
                  <a:lnTo>
                    <a:pt x="99" y="134"/>
                  </a:lnTo>
                  <a:lnTo>
                    <a:pt x="99" y="129"/>
                  </a:lnTo>
                  <a:lnTo>
                    <a:pt x="94" y="124"/>
                  </a:lnTo>
                  <a:lnTo>
                    <a:pt x="89" y="119"/>
                  </a:lnTo>
                  <a:lnTo>
                    <a:pt x="89" y="114"/>
                  </a:lnTo>
                  <a:lnTo>
                    <a:pt x="84" y="109"/>
                  </a:lnTo>
                  <a:lnTo>
                    <a:pt x="79" y="104"/>
                  </a:lnTo>
                  <a:lnTo>
                    <a:pt x="74" y="99"/>
                  </a:lnTo>
                  <a:lnTo>
                    <a:pt x="74" y="94"/>
                  </a:lnTo>
                  <a:lnTo>
                    <a:pt x="69" y="94"/>
                  </a:lnTo>
                  <a:lnTo>
                    <a:pt x="64" y="89"/>
                  </a:lnTo>
                  <a:lnTo>
                    <a:pt x="59" y="84"/>
                  </a:lnTo>
                  <a:lnTo>
                    <a:pt x="59" y="79"/>
                  </a:lnTo>
                  <a:lnTo>
                    <a:pt x="54" y="74"/>
                  </a:lnTo>
                  <a:lnTo>
                    <a:pt x="49" y="69"/>
                  </a:lnTo>
                  <a:lnTo>
                    <a:pt x="44" y="64"/>
                  </a:lnTo>
                  <a:lnTo>
                    <a:pt x="44" y="59"/>
                  </a:lnTo>
                  <a:lnTo>
                    <a:pt x="39" y="54"/>
                  </a:lnTo>
                  <a:lnTo>
                    <a:pt x="34" y="50"/>
                  </a:lnTo>
                  <a:lnTo>
                    <a:pt x="34" y="45"/>
                  </a:lnTo>
                  <a:lnTo>
                    <a:pt x="29" y="45"/>
                  </a:lnTo>
                  <a:lnTo>
                    <a:pt x="24" y="40"/>
                  </a:lnTo>
                  <a:lnTo>
                    <a:pt x="20" y="35"/>
                  </a:lnTo>
                  <a:lnTo>
                    <a:pt x="20" y="30"/>
                  </a:lnTo>
                  <a:lnTo>
                    <a:pt x="15" y="25"/>
                  </a:lnTo>
                  <a:lnTo>
                    <a:pt x="10" y="20"/>
                  </a:lnTo>
                  <a:lnTo>
                    <a:pt x="5" y="15"/>
                  </a:lnTo>
                  <a:lnTo>
                    <a:pt x="0" y="10"/>
                  </a:lnTo>
                  <a:lnTo>
                    <a:pt x="5" y="5"/>
                  </a:lnTo>
                  <a:lnTo>
                    <a:pt x="10" y="0"/>
                  </a:lnTo>
                  <a:lnTo>
                    <a:pt x="10" y="5"/>
                  </a:lnTo>
                  <a:lnTo>
                    <a:pt x="10" y="15"/>
                  </a:lnTo>
                  <a:lnTo>
                    <a:pt x="15" y="20"/>
                  </a:lnTo>
                  <a:lnTo>
                    <a:pt x="20" y="25"/>
                  </a:lnTo>
                  <a:lnTo>
                    <a:pt x="24" y="30"/>
                  </a:lnTo>
                  <a:lnTo>
                    <a:pt x="29" y="30"/>
                  </a:lnTo>
                  <a:lnTo>
                    <a:pt x="34" y="30"/>
                  </a:lnTo>
                  <a:lnTo>
                    <a:pt x="39" y="30"/>
                  </a:lnTo>
                  <a:lnTo>
                    <a:pt x="44" y="25"/>
                  </a:lnTo>
                  <a:lnTo>
                    <a:pt x="54" y="20"/>
                  </a:lnTo>
                  <a:lnTo>
                    <a:pt x="59" y="15"/>
                  </a:lnTo>
                  <a:lnTo>
                    <a:pt x="64" y="15"/>
                  </a:lnTo>
                  <a:lnTo>
                    <a:pt x="74" y="15"/>
                  </a:lnTo>
                  <a:lnTo>
                    <a:pt x="79" y="20"/>
                  </a:lnTo>
                  <a:lnTo>
                    <a:pt x="84" y="25"/>
                  </a:lnTo>
                  <a:lnTo>
                    <a:pt x="89" y="30"/>
                  </a:lnTo>
                  <a:lnTo>
                    <a:pt x="94" y="35"/>
                  </a:lnTo>
                  <a:lnTo>
                    <a:pt x="94" y="40"/>
                  </a:lnTo>
                  <a:lnTo>
                    <a:pt x="99" y="45"/>
                  </a:lnTo>
                  <a:lnTo>
                    <a:pt x="104" y="50"/>
                  </a:lnTo>
                  <a:lnTo>
                    <a:pt x="109" y="54"/>
                  </a:lnTo>
                  <a:lnTo>
                    <a:pt x="113" y="54"/>
                  </a:lnTo>
                  <a:lnTo>
                    <a:pt x="118" y="54"/>
                  </a:lnTo>
                  <a:lnTo>
                    <a:pt x="123" y="54"/>
                  </a:lnTo>
                  <a:lnTo>
                    <a:pt x="128" y="50"/>
                  </a:lnTo>
                  <a:lnTo>
                    <a:pt x="138" y="45"/>
                  </a:lnTo>
                  <a:lnTo>
                    <a:pt x="143" y="40"/>
                  </a:lnTo>
                  <a:lnTo>
                    <a:pt x="148" y="40"/>
                  </a:lnTo>
                  <a:lnTo>
                    <a:pt x="158" y="40"/>
                  </a:lnTo>
                  <a:lnTo>
                    <a:pt x="163" y="35"/>
                  </a:lnTo>
                  <a:lnTo>
                    <a:pt x="168" y="35"/>
                  </a:lnTo>
                  <a:lnTo>
                    <a:pt x="178" y="35"/>
                  </a:lnTo>
                  <a:lnTo>
                    <a:pt x="183" y="40"/>
                  </a:lnTo>
                  <a:lnTo>
                    <a:pt x="188" y="45"/>
                  </a:lnTo>
                  <a:lnTo>
                    <a:pt x="193" y="50"/>
                  </a:lnTo>
                  <a:lnTo>
                    <a:pt x="193" y="54"/>
                  </a:lnTo>
                  <a:lnTo>
                    <a:pt x="198" y="59"/>
                  </a:lnTo>
                  <a:lnTo>
                    <a:pt x="198" y="64"/>
                  </a:lnTo>
                  <a:lnTo>
                    <a:pt x="198" y="69"/>
                  </a:lnTo>
                  <a:lnTo>
                    <a:pt x="193" y="74"/>
                  </a:lnTo>
                  <a:lnTo>
                    <a:pt x="193" y="74"/>
                  </a:lnTo>
                  <a:lnTo>
                    <a:pt x="188" y="69"/>
                  </a:lnTo>
                  <a:lnTo>
                    <a:pt x="178" y="64"/>
                  </a:lnTo>
                  <a:lnTo>
                    <a:pt x="173" y="59"/>
                  </a:lnTo>
                  <a:lnTo>
                    <a:pt x="168" y="54"/>
                  </a:lnTo>
                  <a:lnTo>
                    <a:pt x="168" y="59"/>
                  </a:lnTo>
                  <a:lnTo>
                    <a:pt x="168" y="64"/>
                  </a:lnTo>
                  <a:lnTo>
                    <a:pt x="168" y="69"/>
                  </a:lnTo>
                  <a:lnTo>
                    <a:pt x="163" y="74"/>
                  </a:lnTo>
                  <a:lnTo>
                    <a:pt x="163" y="79"/>
                  </a:lnTo>
                  <a:lnTo>
                    <a:pt x="163" y="84"/>
                  </a:lnTo>
                  <a:lnTo>
                    <a:pt x="168" y="89"/>
                  </a:lnTo>
                  <a:lnTo>
                    <a:pt x="173" y="94"/>
                  </a:lnTo>
                  <a:lnTo>
                    <a:pt x="183" y="94"/>
                  </a:lnTo>
                  <a:lnTo>
                    <a:pt x="193" y="94"/>
                  </a:lnTo>
                  <a:lnTo>
                    <a:pt x="198" y="94"/>
                  </a:lnTo>
                  <a:lnTo>
                    <a:pt x="203" y="99"/>
                  </a:lnTo>
                  <a:lnTo>
                    <a:pt x="207" y="104"/>
                  </a:lnTo>
                  <a:lnTo>
                    <a:pt x="207" y="109"/>
                  </a:lnTo>
                  <a:lnTo>
                    <a:pt x="212" y="114"/>
                  </a:lnTo>
                  <a:lnTo>
                    <a:pt x="217" y="119"/>
                  </a:lnTo>
                  <a:lnTo>
                    <a:pt x="222" y="124"/>
                  </a:lnTo>
                  <a:lnTo>
                    <a:pt x="227" y="124"/>
                  </a:lnTo>
                  <a:lnTo>
                    <a:pt x="232" y="129"/>
                  </a:lnTo>
                  <a:lnTo>
                    <a:pt x="237" y="134"/>
                  </a:lnTo>
                  <a:lnTo>
                    <a:pt x="242" y="138"/>
                  </a:lnTo>
                  <a:lnTo>
                    <a:pt x="247" y="143"/>
                  </a:lnTo>
                  <a:lnTo>
                    <a:pt x="252" y="138"/>
                  </a:lnTo>
                  <a:lnTo>
                    <a:pt x="262" y="138"/>
                  </a:lnTo>
                  <a:lnTo>
                    <a:pt x="267" y="138"/>
                  </a:lnTo>
                  <a:lnTo>
                    <a:pt x="277" y="138"/>
                  </a:lnTo>
                  <a:lnTo>
                    <a:pt x="282" y="134"/>
                  </a:lnTo>
                  <a:lnTo>
                    <a:pt x="287" y="129"/>
                  </a:lnTo>
                  <a:lnTo>
                    <a:pt x="292" y="124"/>
                  </a:lnTo>
                  <a:lnTo>
                    <a:pt x="296" y="124"/>
                  </a:lnTo>
                  <a:lnTo>
                    <a:pt x="301" y="119"/>
                  </a:lnTo>
                  <a:lnTo>
                    <a:pt x="306" y="114"/>
                  </a:lnTo>
                  <a:lnTo>
                    <a:pt x="311" y="109"/>
                  </a:lnTo>
                  <a:lnTo>
                    <a:pt x="316" y="104"/>
                  </a:lnTo>
                  <a:lnTo>
                    <a:pt x="321" y="104"/>
                  </a:lnTo>
                  <a:lnTo>
                    <a:pt x="331" y="99"/>
                  </a:lnTo>
                  <a:lnTo>
                    <a:pt x="336" y="94"/>
                  </a:lnTo>
                  <a:lnTo>
                    <a:pt x="341" y="94"/>
                  </a:lnTo>
                  <a:lnTo>
                    <a:pt x="346" y="89"/>
                  </a:lnTo>
                  <a:lnTo>
                    <a:pt x="351" y="84"/>
                  </a:lnTo>
                  <a:lnTo>
                    <a:pt x="361" y="84"/>
                  </a:lnTo>
                  <a:lnTo>
                    <a:pt x="366" y="84"/>
                  </a:lnTo>
                  <a:lnTo>
                    <a:pt x="376" y="89"/>
                  </a:lnTo>
                  <a:lnTo>
                    <a:pt x="381" y="89"/>
                  </a:lnTo>
                  <a:lnTo>
                    <a:pt x="390" y="84"/>
                  </a:lnTo>
                  <a:lnTo>
                    <a:pt x="395" y="79"/>
                  </a:lnTo>
                  <a:lnTo>
                    <a:pt x="400" y="79"/>
                  </a:lnTo>
                  <a:lnTo>
                    <a:pt x="410" y="79"/>
                  </a:lnTo>
                  <a:lnTo>
                    <a:pt x="415" y="79"/>
                  </a:lnTo>
                  <a:lnTo>
                    <a:pt x="420" y="84"/>
                  </a:lnTo>
                  <a:lnTo>
                    <a:pt x="425" y="89"/>
                  </a:lnTo>
                  <a:lnTo>
                    <a:pt x="425" y="94"/>
                  </a:lnTo>
                  <a:lnTo>
                    <a:pt x="425" y="99"/>
                  </a:lnTo>
                  <a:lnTo>
                    <a:pt x="425" y="104"/>
                  </a:lnTo>
                  <a:lnTo>
                    <a:pt x="425" y="109"/>
                  </a:lnTo>
                  <a:lnTo>
                    <a:pt x="420" y="114"/>
                  </a:lnTo>
                  <a:lnTo>
                    <a:pt x="420" y="119"/>
                  </a:lnTo>
                  <a:lnTo>
                    <a:pt x="420" y="124"/>
                  </a:lnTo>
                  <a:lnTo>
                    <a:pt x="420" y="129"/>
                  </a:lnTo>
                  <a:lnTo>
                    <a:pt x="415" y="134"/>
                  </a:lnTo>
                  <a:lnTo>
                    <a:pt x="415" y="138"/>
                  </a:lnTo>
                  <a:lnTo>
                    <a:pt x="415" y="143"/>
                  </a:lnTo>
                  <a:lnTo>
                    <a:pt x="415" y="148"/>
                  </a:lnTo>
                  <a:lnTo>
                    <a:pt x="415" y="153"/>
                  </a:lnTo>
                  <a:lnTo>
                    <a:pt x="415" y="158"/>
                  </a:lnTo>
                  <a:lnTo>
                    <a:pt x="415" y="163"/>
                  </a:lnTo>
                  <a:lnTo>
                    <a:pt x="410" y="168"/>
                  </a:lnTo>
                  <a:lnTo>
                    <a:pt x="410" y="173"/>
                  </a:lnTo>
                  <a:lnTo>
                    <a:pt x="410" y="178"/>
                  </a:lnTo>
                  <a:lnTo>
                    <a:pt x="410" y="183"/>
                  </a:lnTo>
                  <a:lnTo>
                    <a:pt x="410" y="188"/>
                  </a:lnTo>
                  <a:lnTo>
                    <a:pt x="410" y="193"/>
                  </a:lnTo>
                  <a:lnTo>
                    <a:pt x="410" y="198"/>
                  </a:lnTo>
                  <a:lnTo>
                    <a:pt x="405" y="203"/>
                  </a:lnTo>
                  <a:lnTo>
                    <a:pt x="405" y="213"/>
                  </a:lnTo>
                  <a:lnTo>
                    <a:pt x="405" y="218"/>
                  </a:lnTo>
                  <a:lnTo>
                    <a:pt x="405" y="222"/>
                  </a:lnTo>
                  <a:lnTo>
                    <a:pt x="405" y="227"/>
                  </a:lnTo>
                  <a:lnTo>
                    <a:pt x="400" y="227"/>
                  </a:lnTo>
                  <a:lnTo>
                    <a:pt x="395" y="232"/>
                  </a:lnTo>
                  <a:lnTo>
                    <a:pt x="390" y="237"/>
                  </a:lnTo>
                  <a:lnTo>
                    <a:pt x="390" y="242"/>
                  </a:lnTo>
                  <a:lnTo>
                    <a:pt x="381" y="247"/>
                  </a:lnTo>
                  <a:lnTo>
                    <a:pt x="381" y="252"/>
                  </a:lnTo>
                  <a:lnTo>
                    <a:pt x="385" y="257"/>
                  </a:lnTo>
                  <a:lnTo>
                    <a:pt x="390" y="262"/>
                  </a:lnTo>
                  <a:lnTo>
                    <a:pt x="395" y="267"/>
                  </a:lnTo>
                  <a:lnTo>
                    <a:pt x="395" y="272"/>
                  </a:lnTo>
                  <a:lnTo>
                    <a:pt x="400" y="272"/>
                  </a:lnTo>
                  <a:lnTo>
                    <a:pt x="405" y="277"/>
                  </a:lnTo>
                  <a:lnTo>
                    <a:pt x="410" y="282"/>
                  </a:lnTo>
                  <a:lnTo>
                    <a:pt x="415" y="287"/>
                  </a:lnTo>
                  <a:lnTo>
                    <a:pt x="420" y="292"/>
                  </a:lnTo>
                  <a:lnTo>
                    <a:pt x="425" y="297"/>
                  </a:lnTo>
                  <a:lnTo>
                    <a:pt x="430" y="302"/>
                  </a:lnTo>
                  <a:lnTo>
                    <a:pt x="430" y="302"/>
                  </a:lnTo>
                  <a:lnTo>
                    <a:pt x="425" y="307"/>
                  </a:lnTo>
                  <a:lnTo>
                    <a:pt x="420" y="311"/>
                  </a:lnTo>
                  <a:lnTo>
                    <a:pt x="410" y="311"/>
                  </a:lnTo>
                  <a:lnTo>
                    <a:pt x="405" y="316"/>
                  </a:lnTo>
                  <a:lnTo>
                    <a:pt x="395" y="316"/>
                  </a:lnTo>
                  <a:lnTo>
                    <a:pt x="390" y="321"/>
                  </a:lnTo>
                  <a:lnTo>
                    <a:pt x="381" y="321"/>
                  </a:lnTo>
                  <a:lnTo>
                    <a:pt x="371" y="321"/>
                  </a:lnTo>
                  <a:lnTo>
                    <a:pt x="366" y="321"/>
                  </a:lnTo>
                  <a:lnTo>
                    <a:pt x="356" y="321"/>
                  </a:lnTo>
                  <a:lnTo>
                    <a:pt x="351" y="321"/>
                  </a:lnTo>
                  <a:lnTo>
                    <a:pt x="341" y="321"/>
                  </a:lnTo>
                  <a:lnTo>
                    <a:pt x="331" y="321"/>
                  </a:lnTo>
                  <a:lnTo>
                    <a:pt x="326" y="321"/>
                  </a:lnTo>
                  <a:lnTo>
                    <a:pt x="316" y="321"/>
                  </a:lnTo>
                  <a:lnTo>
                    <a:pt x="311" y="321"/>
                  </a:lnTo>
                  <a:lnTo>
                    <a:pt x="301" y="321"/>
                  </a:lnTo>
                  <a:lnTo>
                    <a:pt x="296" y="326"/>
                  </a:lnTo>
                  <a:lnTo>
                    <a:pt x="287" y="326"/>
                  </a:lnTo>
                  <a:lnTo>
                    <a:pt x="282" y="331"/>
                  </a:lnTo>
                  <a:lnTo>
                    <a:pt x="282" y="336"/>
                  </a:lnTo>
                  <a:lnTo>
                    <a:pt x="282" y="341"/>
                  </a:lnTo>
                  <a:lnTo>
                    <a:pt x="282" y="346"/>
                  </a:lnTo>
                  <a:lnTo>
                    <a:pt x="287" y="351"/>
                  </a:lnTo>
                  <a:lnTo>
                    <a:pt x="296" y="351"/>
                  </a:lnTo>
                  <a:lnTo>
                    <a:pt x="301" y="356"/>
                  </a:lnTo>
                  <a:lnTo>
                    <a:pt x="296" y="35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5" name=""/>
            <p:cNvSpPr/>
            <p:nvPr/>
          </p:nvSpPr>
          <p:spPr>
            <a:xfrm>
              <a:off x="2974680" y="3922920"/>
              <a:ext cx="32040" cy="15840"/>
            </a:xfrm>
            <a:custGeom>
              <a:avLst/>
              <a:gdLst/>
              <a:ahLst/>
              <a:rect l="l" t="t" r="r" b="b"/>
              <a:pathLst>
                <a:path w="20" h="10">
                  <a:moveTo>
                    <a:pt x="20" y="5"/>
                  </a:moveTo>
                  <a:lnTo>
                    <a:pt x="15" y="0"/>
                  </a:lnTo>
                  <a:lnTo>
                    <a:pt x="15" y="0"/>
                  </a:lnTo>
                  <a:lnTo>
                    <a:pt x="10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5" y="10"/>
                  </a:lnTo>
                  <a:lnTo>
                    <a:pt x="10" y="10"/>
                  </a:lnTo>
                  <a:lnTo>
                    <a:pt x="15" y="5"/>
                  </a:lnTo>
                  <a:lnTo>
                    <a:pt x="15" y="5"/>
                  </a:lnTo>
                  <a:lnTo>
                    <a:pt x="20" y="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6" name=""/>
            <p:cNvSpPr/>
            <p:nvPr/>
          </p:nvSpPr>
          <p:spPr>
            <a:xfrm>
              <a:off x="3305160" y="3648240"/>
              <a:ext cx="47520" cy="23760"/>
            </a:xfrm>
            <a:custGeom>
              <a:avLst/>
              <a:gdLst/>
              <a:ahLst/>
              <a:rect l="l" t="t" r="r" b="b"/>
              <a:pathLst>
                <a:path w="30" h="15">
                  <a:moveTo>
                    <a:pt x="0" y="15"/>
                  </a:moveTo>
                  <a:lnTo>
                    <a:pt x="0" y="10"/>
                  </a:lnTo>
                  <a:lnTo>
                    <a:pt x="20" y="5"/>
                  </a:lnTo>
                  <a:lnTo>
                    <a:pt x="20" y="5"/>
                  </a:lnTo>
                  <a:lnTo>
                    <a:pt x="20" y="5"/>
                  </a:lnTo>
                  <a:lnTo>
                    <a:pt x="20" y="5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5"/>
                  </a:lnTo>
                  <a:lnTo>
                    <a:pt x="25" y="5"/>
                  </a:lnTo>
                  <a:lnTo>
                    <a:pt x="25" y="5"/>
                  </a:lnTo>
                  <a:lnTo>
                    <a:pt x="30" y="5"/>
                  </a:lnTo>
                  <a:lnTo>
                    <a:pt x="30" y="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666666"/>
            </a:solidFill>
            <a:ln w="0">
              <a:solidFill>
                <a:srgbClr val="6666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7" name=""/>
            <p:cNvSpPr/>
            <p:nvPr/>
          </p:nvSpPr>
          <p:spPr>
            <a:xfrm>
              <a:off x="3313080" y="3679920"/>
              <a:ext cx="47520" cy="30240"/>
            </a:xfrm>
            <a:custGeom>
              <a:avLst/>
              <a:gdLst/>
              <a:ahLst/>
              <a:rect l="l" t="t" r="r" b="b"/>
              <a:pathLst>
                <a:path w="30" h="19">
                  <a:moveTo>
                    <a:pt x="15" y="5"/>
                  </a:moveTo>
                  <a:lnTo>
                    <a:pt x="15" y="5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30" y="5"/>
                  </a:lnTo>
                  <a:lnTo>
                    <a:pt x="30" y="5"/>
                  </a:lnTo>
                  <a:lnTo>
                    <a:pt x="30" y="5"/>
                  </a:lnTo>
                  <a:lnTo>
                    <a:pt x="30" y="10"/>
                  </a:lnTo>
                  <a:lnTo>
                    <a:pt x="30" y="10"/>
                  </a:lnTo>
                  <a:lnTo>
                    <a:pt x="30" y="10"/>
                  </a:lnTo>
                  <a:lnTo>
                    <a:pt x="25" y="15"/>
                  </a:lnTo>
                  <a:lnTo>
                    <a:pt x="25" y="15"/>
                  </a:lnTo>
                  <a:lnTo>
                    <a:pt x="25" y="15"/>
                  </a:lnTo>
                  <a:lnTo>
                    <a:pt x="25" y="15"/>
                  </a:lnTo>
                  <a:lnTo>
                    <a:pt x="20" y="15"/>
                  </a:lnTo>
                  <a:lnTo>
                    <a:pt x="20" y="15"/>
                  </a:lnTo>
                  <a:lnTo>
                    <a:pt x="20" y="15"/>
                  </a:lnTo>
                  <a:lnTo>
                    <a:pt x="20" y="15"/>
                  </a:lnTo>
                  <a:lnTo>
                    <a:pt x="20" y="15"/>
                  </a:lnTo>
                  <a:lnTo>
                    <a:pt x="20" y="15"/>
                  </a:lnTo>
                  <a:lnTo>
                    <a:pt x="15" y="15"/>
                  </a:lnTo>
                  <a:lnTo>
                    <a:pt x="15" y="10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9"/>
                  </a:lnTo>
                  <a:lnTo>
                    <a:pt x="15" y="19"/>
                  </a:lnTo>
                  <a:lnTo>
                    <a:pt x="10" y="19"/>
                  </a:lnTo>
                  <a:lnTo>
                    <a:pt x="10" y="19"/>
                  </a:lnTo>
                  <a:lnTo>
                    <a:pt x="10" y="19"/>
                  </a:lnTo>
                  <a:lnTo>
                    <a:pt x="5" y="19"/>
                  </a:lnTo>
                  <a:lnTo>
                    <a:pt x="5" y="19"/>
                  </a:lnTo>
                  <a:lnTo>
                    <a:pt x="5" y="19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5" y="0"/>
                  </a:lnTo>
                  <a:lnTo>
                    <a:pt x="15" y="5"/>
                  </a:lnTo>
                  <a:lnTo>
                    <a:pt x="15" y="5"/>
                  </a:lnTo>
                  <a:close/>
                  <a:moveTo>
                    <a:pt x="20" y="0"/>
                  </a:moveTo>
                  <a:lnTo>
                    <a:pt x="20" y="0"/>
                  </a:lnTo>
                  <a:lnTo>
                    <a:pt x="20" y="5"/>
                  </a:lnTo>
                  <a:lnTo>
                    <a:pt x="20" y="5"/>
                  </a:lnTo>
                  <a:lnTo>
                    <a:pt x="15" y="5"/>
                  </a:lnTo>
                  <a:lnTo>
                    <a:pt x="15" y="5"/>
                  </a:lnTo>
                  <a:lnTo>
                    <a:pt x="15" y="5"/>
                  </a:lnTo>
                  <a:lnTo>
                    <a:pt x="15" y="5"/>
                  </a:lnTo>
                  <a:lnTo>
                    <a:pt x="15" y="10"/>
                  </a:lnTo>
                  <a:lnTo>
                    <a:pt x="15" y="10"/>
                  </a:lnTo>
                  <a:lnTo>
                    <a:pt x="20" y="10"/>
                  </a:lnTo>
                  <a:lnTo>
                    <a:pt x="20" y="10"/>
                  </a:lnTo>
                  <a:lnTo>
                    <a:pt x="20" y="10"/>
                  </a:lnTo>
                  <a:lnTo>
                    <a:pt x="20" y="10"/>
                  </a:lnTo>
                  <a:lnTo>
                    <a:pt x="20" y="10"/>
                  </a:lnTo>
                  <a:lnTo>
                    <a:pt x="20" y="10"/>
                  </a:lnTo>
                  <a:lnTo>
                    <a:pt x="20" y="10"/>
                  </a:lnTo>
                  <a:lnTo>
                    <a:pt x="25" y="10"/>
                  </a:lnTo>
                  <a:lnTo>
                    <a:pt x="25" y="10"/>
                  </a:lnTo>
                  <a:lnTo>
                    <a:pt x="25" y="10"/>
                  </a:lnTo>
                  <a:lnTo>
                    <a:pt x="25" y="10"/>
                  </a:lnTo>
                  <a:lnTo>
                    <a:pt x="25" y="10"/>
                  </a:lnTo>
                  <a:lnTo>
                    <a:pt x="25" y="5"/>
                  </a:lnTo>
                  <a:lnTo>
                    <a:pt x="25" y="5"/>
                  </a:lnTo>
                  <a:lnTo>
                    <a:pt x="25" y="5"/>
                  </a:lnTo>
                  <a:lnTo>
                    <a:pt x="25" y="5"/>
                  </a:lnTo>
                  <a:lnTo>
                    <a:pt x="25" y="5"/>
                  </a:lnTo>
                  <a:lnTo>
                    <a:pt x="25" y="5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20" y="0"/>
                  </a:lnTo>
                  <a:close/>
                  <a:moveTo>
                    <a:pt x="5" y="5"/>
                  </a:move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5" y="15"/>
                  </a:lnTo>
                  <a:lnTo>
                    <a:pt x="5" y="15"/>
                  </a:lnTo>
                  <a:lnTo>
                    <a:pt x="5" y="15"/>
                  </a:lnTo>
                  <a:lnTo>
                    <a:pt x="5" y="15"/>
                  </a:lnTo>
                  <a:lnTo>
                    <a:pt x="5" y="15"/>
                  </a:lnTo>
                  <a:lnTo>
                    <a:pt x="5" y="15"/>
                  </a:lnTo>
                  <a:lnTo>
                    <a:pt x="10" y="15"/>
                  </a:lnTo>
                  <a:lnTo>
                    <a:pt x="10" y="15"/>
                  </a:lnTo>
                  <a:lnTo>
                    <a:pt x="10" y="15"/>
                  </a:lnTo>
                  <a:lnTo>
                    <a:pt x="10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0"/>
                  </a:lnTo>
                  <a:lnTo>
                    <a:pt x="15" y="10"/>
                  </a:lnTo>
                  <a:lnTo>
                    <a:pt x="15" y="10"/>
                  </a:lnTo>
                  <a:lnTo>
                    <a:pt x="15" y="10"/>
                  </a:lnTo>
                  <a:lnTo>
                    <a:pt x="15" y="5"/>
                  </a:lnTo>
                  <a:lnTo>
                    <a:pt x="15" y="5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5" y="5"/>
                  </a:lnTo>
                  <a:close/>
                </a:path>
              </a:pathLst>
            </a:custGeom>
            <a:solidFill>
              <a:srgbClr val="666666"/>
            </a:solidFill>
            <a:ln w="0">
              <a:solidFill>
                <a:srgbClr val="6666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8" name=""/>
            <p:cNvSpPr/>
            <p:nvPr/>
          </p:nvSpPr>
          <p:spPr>
            <a:xfrm>
              <a:off x="3321000" y="3710160"/>
              <a:ext cx="46080" cy="31680"/>
            </a:xfrm>
            <a:custGeom>
              <a:avLst/>
              <a:gdLst/>
              <a:ahLst/>
              <a:rect l="l" t="t" r="r" b="b"/>
              <a:pathLst>
                <a:path w="29" h="20">
                  <a:moveTo>
                    <a:pt x="10" y="0"/>
                  </a:moveTo>
                  <a:lnTo>
                    <a:pt x="15" y="0"/>
                  </a:lnTo>
                  <a:lnTo>
                    <a:pt x="15" y="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5"/>
                  </a:lnTo>
                  <a:lnTo>
                    <a:pt x="29" y="5"/>
                  </a:lnTo>
                  <a:lnTo>
                    <a:pt x="29" y="5"/>
                  </a:lnTo>
                  <a:lnTo>
                    <a:pt x="29" y="5"/>
                  </a:lnTo>
                  <a:lnTo>
                    <a:pt x="29" y="10"/>
                  </a:lnTo>
                  <a:lnTo>
                    <a:pt x="29" y="10"/>
                  </a:lnTo>
                  <a:lnTo>
                    <a:pt x="29" y="10"/>
                  </a:lnTo>
                  <a:lnTo>
                    <a:pt x="29" y="10"/>
                  </a:lnTo>
                  <a:lnTo>
                    <a:pt x="29" y="10"/>
                  </a:lnTo>
                  <a:lnTo>
                    <a:pt x="29" y="15"/>
                  </a:lnTo>
                  <a:lnTo>
                    <a:pt x="29" y="15"/>
                  </a:lnTo>
                  <a:lnTo>
                    <a:pt x="29" y="15"/>
                  </a:lnTo>
                  <a:lnTo>
                    <a:pt x="25" y="15"/>
                  </a:lnTo>
                  <a:lnTo>
                    <a:pt x="25" y="15"/>
                  </a:lnTo>
                  <a:lnTo>
                    <a:pt x="25" y="15"/>
                  </a:lnTo>
                  <a:lnTo>
                    <a:pt x="25" y="20"/>
                  </a:lnTo>
                  <a:lnTo>
                    <a:pt x="20" y="20"/>
                  </a:lnTo>
                  <a:lnTo>
                    <a:pt x="20" y="20"/>
                  </a:lnTo>
                  <a:lnTo>
                    <a:pt x="20" y="20"/>
                  </a:lnTo>
                  <a:lnTo>
                    <a:pt x="15" y="20"/>
                  </a:lnTo>
                  <a:lnTo>
                    <a:pt x="15" y="20"/>
                  </a:lnTo>
                  <a:lnTo>
                    <a:pt x="15" y="20"/>
                  </a:lnTo>
                  <a:lnTo>
                    <a:pt x="10" y="20"/>
                  </a:lnTo>
                  <a:lnTo>
                    <a:pt x="10" y="20"/>
                  </a:lnTo>
                  <a:lnTo>
                    <a:pt x="5" y="20"/>
                  </a:lnTo>
                  <a:lnTo>
                    <a:pt x="5" y="20"/>
                  </a:lnTo>
                  <a:lnTo>
                    <a:pt x="5" y="20"/>
                  </a:lnTo>
                  <a:lnTo>
                    <a:pt x="5" y="20"/>
                  </a:lnTo>
                  <a:lnTo>
                    <a:pt x="0" y="20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10" y="5"/>
                  </a:lnTo>
                  <a:lnTo>
                    <a:pt x="10" y="0"/>
                  </a:lnTo>
                  <a:close/>
                  <a:moveTo>
                    <a:pt x="15" y="5"/>
                  </a:moveTo>
                  <a:lnTo>
                    <a:pt x="10" y="5"/>
                  </a:lnTo>
                  <a:lnTo>
                    <a:pt x="5" y="5"/>
                  </a:lnTo>
                  <a:lnTo>
                    <a:pt x="5" y="10"/>
                  </a:lnTo>
                  <a:lnTo>
                    <a:pt x="5" y="10"/>
                  </a:lnTo>
                  <a:lnTo>
                    <a:pt x="5" y="10"/>
                  </a:lnTo>
                  <a:lnTo>
                    <a:pt x="5" y="10"/>
                  </a:lnTo>
                  <a:lnTo>
                    <a:pt x="5" y="15"/>
                  </a:lnTo>
                  <a:lnTo>
                    <a:pt x="5" y="15"/>
                  </a:lnTo>
                  <a:lnTo>
                    <a:pt x="5" y="15"/>
                  </a:lnTo>
                  <a:lnTo>
                    <a:pt x="5" y="15"/>
                  </a:lnTo>
                  <a:lnTo>
                    <a:pt x="5" y="15"/>
                  </a:lnTo>
                  <a:lnTo>
                    <a:pt x="5" y="15"/>
                  </a:lnTo>
                  <a:lnTo>
                    <a:pt x="10" y="20"/>
                  </a:lnTo>
                  <a:lnTo>
                    <a:pt x="10" y="20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20" y="15"/>
                  </a:lnTo>
                  <a:lnTo>
                    <a:pt x="20" y="15"/>
                  </a:lnTo>
                  <a:lnTo>
                    <a:pt x="25" y="15"/>
                  </a:lnTo>
                  <a:lnTo>
                    <a:pt x="25" y="10"/>
                  </a:lnTo>
                  <a:lnTo>
                    <a:pt x="25" y="10"/>
                  </a:lnTo>
                  <a:lnTo>
                    <a:pt x="25" y="10"/>
                  </a:lnTo>
                  <a:lnTo>
                    <a:pt x="25" y="10"/>
                  </a:lnTo>
                  <a:lnTo>
                    <a:pt x="25" y="10"/>
                  </a:lnTo>
                  <a:lnTo>
                    <a:pt x="25" y="5"/>
                  </a:lnTo>
                  <a:lnTo>
                    <a:pt x="25" y="5"/>
                  </a:lnTo>
                  <a:lnTo>
                    <a:pt x="25" y="5"/>
                  </a:lnTo>
                  <a:lnTo>
                    <a:pt x="25" y="5"/>
                  </a:lnTo>
                  <a:lnTo>
                    <a:pt x="20" y="5"/>
                  </a:lnTo>
                  <a:lnTo>
                    <a:pt x="20" y="5"/>
                  </a:lnTo>
                  <a:lnTo>
                    <a:pt x="15" y="5"/>
                  </a:lnTo>
                  <a:lnTo>
                    <a:pt x="15" y="5"/>
                  </a:lnTo>
                  <a:close/>
                </a:path>
              </a:pathLst>
            </a:custGeom>
            <a:solidFill>
              <a:srgbClr val="666666"/>
            </a:solidFill>
            <a:ln w="0">
              <a:solidFill>
                <a:srgbClr val="6666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9" name=""/>
            <p:cNvSpPr/>
            <p:nvPr/>
          </p:nvSpPr>
          <p:spPr>
            <a:xfrm flipV="1">
              <a:off x="3321000" y="3616560"/>
              <a:ext cx="1440" cy="7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0" name=""/>
            <p:cNvSpPr/>
            <p:nvPr/>
          </p:nvSpPr>
          <p:spPr>
            <a:xfrm>
              <a:off x="3273120" y="3389400"/>
              <a:ext cx="370080" cy="416160"/>
            </a:xfrm>
            <a:custGeom>
              <a:avLst/>
              <a:gdLst/>
              <a:ahLst/>
              <a:rect l="l" t="t" r="r" b="b"/>
              <a:pathLst>
                <a:path w="233" h="262">
                  <a:moveTo>
                    <a:pt x="30" y="143"/>
                  </a:moveTo>
                  <a:lnTo>
                    <a:pt x="30" y="138"/>
                  </a:lnTo>
                  <a:lnTo>
                    <a:pt x="30" y="133"/>
                  </a:lnTo>
                  <a:lnTo>
                    <a:pt x="30" y="128"/>
                  </a:lnTo>
                  <a:lnTo>
                    <a:pt x="30" y="123"/>
                  </a:lnTo>
                  <a:lnTo>
                    <a:pt x="30" y="118"/>
                  </a:lnTo>
                  <a:lnTo>
                    <a:pt x="30" y="109"/>
                  </a:lnTo>
                  <a:lnTo>
                    <a:pt x="30" y="104"/>
                  </a:lnTo>
                  <a:lnTo>
                    <a:pt x="30" y="99"/>
                  </a:lnTo>
                  <a:lnTo>
                    <a:pt x="30" y="94"/>
                  </a:lnTo>
                  <a:lnTo>
                    <a:pt x="25" y="89"/>
                  </a:lnTo>
                  <a:lnTo>
                    <a:pt x="25" y="84"/>
                  </a:lnTo>
                  <a:lnTo>
                    <a:pt x="25" y="79"/>
                  </a:lnTo>
                  <a:lnTo>
                    <a:pt x="20" y="74"/>
                  </a:lnTo>
                  <a:lnTo>
                    <a:pt x="20" y="64"/>
                  </a:lnTo>
                  <a:lnTo>
                    <a:pt x="25" y="59"/>
                  </a:lnTo>
                  <a:lnTo>
                    <a:pt x="25" y="54"/>
                  </a:lnTo>
                  <a:lnTo>
                    <a:pt x="25" y="49"/>
                  </a:lnTo>
                  <a:lnTo>
                    <a:pt x="25" y="44"/>
                  </a:lnTo>
                  <a:lnTo>
                    <a:pt x="20" y="39"/>
                  </a:lnTo>
                  <a:lnTo>
                    <a:pt x="20" y="29"/>
                  </a:lnTo>
                  <a:lnTo>
                    <a:pt x="15" y="25"/>
                  </a:lnTo>
                  <a:lnTo>
                    <a:pt x="10" y="25"/>
                  </a:lnTo>
                  <a:lnTo>
                    <a:pt x="0" y="20"/>
                  </a:lnTo>
                  <a:lnTo>
                    <a:pt x="0" y="15"/>
                  </a:lnTo>
                  <a:lnTo>
                    <a:pt x="0" y="5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5"/>
                  </a:lnTo>
                  <a:lnTo>
                    <a:pt x="5" y="10"/>
                  </a:lnTo>
                  <a:lnTo>
                    <a:pt x="10" y="15"/>
                  </a:lnTo>
                  <a:lnTo>
                    <a:pt x="15" y="20"/>
                  </a:lnTo>
                  <a:lnTo>
                    <a:pt x="25" y="25"/>
                  </a:lnTo>
                  <a:lnTo>
                    <a:pt x="30" y="29"/>
                  </a:lnTo>
                  <a:lnTo>
                    <a:pt x="35" y="29"/>
                  </a:lnTo>
                  <a:lnTo>
                    <a:pt x="35" y="34"/>
                  </a:lnTo>
                  <a:lnTo>
                    <a:pt x="40" y="44"/>
                  </a:lnTo>
                  <a:lnTo>
                    <a:pt x="40" y="49"/>
                  </a:lnTo>
                  <a:lnTo>
                    <a:pt x="45" y="54"/>
                  </a:lnTo>
                  <a:lnTo>
                    <a:pt x="45" y="59"/>
                  </a:lnTo>
                  <a:lnTo>
                    <a:pt x="50" y="64"/>
                  </a:lnTo>
                  <a:lnTo>
                    <a:pt x="59" y="69"/>
                  </a:lnTo>
                  <a:lnTo>
                    <a:pt x="64" y="69"/>
                  </a:lnTo>
                  <a:lnTo>
                    <a:pt x="74" y="74"/>
                  </a:lnTo>
                  <a:lnTo>
                    <a:pt x="79" y="74"/>
                  </a:lnTo>
                  <a:lnTo>
                    <a:pt x="89" y="79"/>
                  </a:lnTo>
                  <a:lnTo>
                    <a:pt x="94" y="84"/>
                  </a:lnTo>
                  <a:lnTo>
                    <a:pt x="99" y="89"/>
                  </a:lnTo>
                  <a:lnTo>
                    <a:pt x="104" y="94"/>
                  </a:lnTo>
                  <a:lnTo>
                    <a:pt x="109" y="99"/>
                  </a:lnTo>
                  <a:lnTo>
                    <a:pt x="119" y="104"/>
                  </a:lnTo>
                  <a:lnTo>
                    <a:pt x="124" y="104"/>
                  </a:lnTo>
                  <a:lnTo>
                    <a:pt x="129" y="109"/>
                  </a:lnTo>
                  <a:lnTo>
                    <a:pt x="134" y="114"/>
                  </a:lnTo>
                  <a:lnTo>
                    <a:pt x="139" y="118"/>
                  </a:lnTo>
                  <a:lnTo>
                    <a:pt x="148" y="123"/>
                  </a:lnTo>
                  <a:lnTo>
                    <a:pt x="153" y="128"/>
                  </a:lnTo>
                  <a:lnTo>
                    <a:pt x="158" y="133"/>
                  </a:lnTo>
                  <a:lnTo>
                    <a:pt x="163" y="133"/>
                  </a:lnTo>
                  <a:lnTo>
                    <a:pt x="168" y="138"/>
                  </a:lnTo>
                  <a:lnTo>
                    <a:pt x="178" y="143"/>
                  </a:lnTo>
                  <a:lnTo>
                    <a:pt x="183" y="148"/>
                  </a:lnTo>
                  <a:lnTo>
                    <a:pt x="188" y="153"/>
                  </a:lnTo>
                  <a:lnTo>
                    <a:pt x="193" y="158"/>
                  </a:lnTo>
                  <a:lnTo>
                    <a:pt x="198" y="163"/>
                  </a:lnTo>
                  <a:lnTo>
                    <a:pt x="203" y="168"/>
                  </a:lnTo>
                  <a:lnTo>
                    <a:pt x="208" y="168"/>
                  </a:lnTo>
                  <a:lnTo>
                    <a:pt x="218" y="173"/>
                  </a:lnTo>
                  <a:lnTo>
                    <a:pt x="223" y="178"/>
                  </a:lnTo>
                  <a:lnTo>
                    <a:pt x="228" y="183"/>
                  </a:lnTo>
                  <a:lnTo>
                    <a:pt x="228" y="188"/>
                  </a:lnTo>
                  <a:lnTo>
                    <a:pt x="233" y="193"/>
                  </a:lnTo>
                  <a:lnTo>
                    <a:pt x="233" y="198"/>
                  </a:lnTo>
                  <a:lnTo>
                    <a:pt x="233" y="207"/>
                  </a:lnTo>
                  <a:lnTo>
                    <a:pt x="233" y="212"/>
                  </a:lnTo>
                  <a:lnTo>
                    <a:pt x="228" y="217"/>
                  </a:lnTo>
                  <a:lnTo>
                    <a:pt x="228" y="222"/>
                  </a:lnTo>
                  <a:lnTo>
                    <a:pt x="223" y="227"/>
                  </a:lnTo>
                  <a:lnTo>
                    <a:pt x="218" y="232"/>
                  </a:lnTo>
                  <a:lnTo>
                    <a:pt x="213" y="237"/>
                  </a:lnTo>
                  <a:lnTo>
                    <a:pt x="208" y="242"/>
                  </a:lnTo>
                  <a:lnTo>
                    <a:pt x="198" y="242"/>
                  </a:lnTo>
                  <a:lnTo>
                    <a:pt x="188" y="247"/>
                  </a:lnTo>
                  <a:lnTo>
                    <a:pt x="183" y="247"/>
                  </a:lnTo>
                  <a:lnTo>
                    <a:pt x="173" y="247"/>
                  </a:lnTo>
                  <a:lnTo>
                    <a:pt x="163" y="252"/>
                  </a:lnTo>
                  <a:lnTo>
                    <a:pt x="153" y="252"/>
                  </a:lnTo>
                  <a:lnTo>
                    <a:pt x="148" y="252"/>
                  </a:lnTo>
                  <a:lnTo>
                    <a:pt x="139" y="252"/>
                  </a:lnTo>
                  <a:lnTo>
                    <a:pt x="129" y="257"/>
                  </a:lnTo>
                  <a:lnTo>
                    <a:pt x="124" y="257"/>
                  </a:lnTo>
                  <a:lnTo>
                    <a:pt x="114" y="262"/>
                  </a:lnTo>
                  <a:lnTo>
                    <a:pt x="104" y="257"/>
                  </a:lnTo>
                  <a:lnTo>
                    <a:pt x="99" y="257"/>
                  </a:lnTo>
                  <a:lnTo>
                    <a:pt x="89" y="257"/>
                  </a:lnTo>
                  <a:lnTo>
                    <a:pt x="79" y="252"/>
                  </a:lnTo>
                  <a:lnTo>
                    <a:pt x="74" y="247"/>
                  </a:lnTo>
                  <a:lnTo>
                    <a:pt x="64" y="247"/>
                  </a:lnTo>
                  <a:lnTo>
                    <a:pt x="59" y="242"/>
                  </a:lnTo>
                  <a:lnTo>
                    <a:pt x="55" y="237"/>
                  </a:lnTo>
                  <a:lnTo>
                    <a:pt x="50" y="23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1" name=""/>
            <p:cNvSpPr/>
            <p:nvPr/>
          </p:nvSpPr>
          <p:spPr>
            <a:xfrm>
              <a:off x="3909960" y="3435480"/>
              <a:ext cx="46080" cy="15840"/>
            </a:xfrm>
            <a:custGeom>
              <a:avLst/>
              <a:gdLst/>
              <a:ahLst/>
              <a:rect l="l" t="t" r="r" b="b"/>
              <a:pathLst>
                <a:path w="29" h="10">
                  <a:moveTo>
                    <a:pt x="0" y="5"/>
                  </a:moveTo>
                  <a:lnTo>
                    <a:pt x="0" y="5"/>
                  </a:lnTo>
                  <a:lnTo>
                    <a:pt x="24" y="5"/>
                  </a:lnTo>
                  <a:lnTo>
                    <a:pt x="24" y="5"/>
                  </a:lnTo>
                  <a:lnTo>
                    <a:pt x="24" y="5"/>
                  </a:lnTo>
                  <a:lnTo>
                    <a:pt x="24" y="5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5"/>
                  </a:lnTo>
                  <a:lnTo>
                    <a:pt x="29" y="5"/>
                  </a:lnTo>
                  <a:lnTo>
                    <a:pt x="29" y="5"/>
                  </a:lnTo>
                  <a:lnTo>
                    <a:pt x="29" y="5"/>
                  </a:lnTo>
                  <a:lnTo>
                    <a:pt x="29" y="5"/>
                  </a:lnTo>
                  <a:lnTo>
                    <a:pt x="29" y="10"/>
                  </a:lnTo>
                  <a:lnTo>
                    <a:pt x="29" y="1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666666"/>
            </a:solidFill>
            <a:ln w="0">
              <a:solidFill>
                <a:srgbClr val="6666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2" name=""/>
            <p:cNvSpPr/>
            <p:nvPr/>
          </p:nvSpPr>
          <p:spPr>
            <a:xfrm>
              <a:off x="3909960" y="3459240"/>
              <a:ext cx="46080" cy="31680"/>
            </a:xfrm>
            <a:custGeom>
              <a:avLst/>
              <a:gdLst/>
              <a:ahLst/>
              <a:rect l="l" t="t" r="r" b="b"/>
              <a:pathLst>
                <a:path w="29" h="20">
                  <a:moveTo>
                    <a:pt x="15" y="10"/>
                  </a:moveTo>
                  <a:lnTo>
                    <a:pt x="15" y="5"/>
                  </a:lnTo>
                  <a:lnTo>
                    <a:pt x="15" y="5"/>
                  </a:lnTo>
                  <a:lnTo>
                    <a:pt x="19" y="5"/>
                  </a:lnTo>
                  <a:lnTo>
                    <a:pt x="19" y="5"/>
                  </a:lnTo>
                  <a:lnTo>
                    <a:pt x="19" y="5"/>
                  </a:lnTo>
                  <a:lnTo>
                    <a:pt x="19" y="5"/>
                  </a:lnTo>
                  <a:lnTo>
                    <a:pt x="19" y="5"/>
                  </a:lnTo>
                  <a:lnTo>
                    <a:pt x="19" y="5"/>
                  </a:lnTo>
                  <a:lnTo>
                    <a:pt x="24" y="5"/>
                  </a:lnTo>
                  <a:lnTo>
                    <a:pt x="24" y="5"/>
                  </a:lnTo>
                  <a:lnTo>
                    <a:pt x="24" y="5"/>
                  </a:lnTo>
                  <a:lnTo>
                    <a:pt x="24" y="10"/>
                  </a:lnTo>
                  <a:lnTo>
                    <a:pt x="29" y="10"/>
                  </a:lnTo>
                  <a:lnTo>
                    <a:pt x="29" y="10"/>
                  </a:lnTo>
                  <a:lnTo>
                    <a:pt x="29" y="10"/>
                  </a:lnTo>
                  <a:lnTo>
                    <a:pt x="29" y="15"/>
                  </a:lnTo>
                  <a:lnTo>
                    <a:pt x="29" y="15"/>
                  </a:lnTo>
                  <a:lnTo>
                    <a:pt x="29" y="15"/>
                  </a:lnTo>
                  <a:lnTo>
                    <a:pt x="24" y="20"/>
                  </a:lnTo>
                  <a:lnTo>
                    <a:pt x="24" y="20"/>
                  </a:lnTo>
                  <a:lnTo>
                    <a:pt x="24" y="20"/>
                  </a:lnTo>
                  <a:lnTo>
                    <a:pt x="24" y="20"/>
                  </a:lnTo>
                  <a:lnTo>
                    <a:pt x="19" y="20"/>
                  </a:lnTo>
                  <a:lnTo>
                    <a:pt x="19" y="20"/>
                  </a:lnTo>
                  <a:lnTo>
                    <a:pt x="19" y="20"/>
                  </a:lnTo>
                  <a:lnTo>
                    <a:pt x="19" y="20"/>
                  </a:lnTo>
                  <a:lnTo>
                    <a:pt x="19" y="20"/>
                  </a:lnTo>
                  <a:lnTo>
                    <a:pt x="15" y="20"/>
                  </a:lnTo>
                  <a:lnTo>
                    <a:pt x="15" y="20"/>
                  </a:lnTo>
                  <a:lnTo>
                    <a:pt x="15" y="20"/>
                  </a:lnTo>
                  <a:lnTo>
                    <a:pt x="15" y="20"/>
                  </a:lnTo>
                  <a:lnTo>
                    <a:pt x="15" y="15"/>
                  </a:lnTo>
                  <a:lnTo>
                    <a:pt x="15" y="20"/>
                  </a:lnTo>
                  <a:lnTo>
                    <a:pt x="15" y="20"/>
                  </a:lnTo>
                  <a:lnTo>
                    <a:pt x="15" y="20"/>
                  </a:lnTo>
                  <a:lnTo>
                    <a:pt x="10" y="20"/>
                  </a:lnTo>
                  <a:lnTo>
                    <a:pt x="10" y="20"/>
                  </a:lnTo>
                  <a:lnTo>
                    <a:pt x="10" y="20"/>
                  </a:lnTo>
                  <a:lnTo>
                    <a:pt x="10" y="20"/>
                  </a:lnTo>
                  <a:lnTo>
                    <a:pt x="5" y="20"/>
                  </a:lnTo>
                  <a:lnTo>
                    <a:pt x="5" y="20"/>
                  </a:lnTo>
                  <a:lnTo>
                    <a:pt x="5" y="2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5" y="5"/>
                  </a:lnTo>
                  <a:lnTo>
                    <a:pt x="5" y="0"/>
                  </a:lnTo>
                  <a:lnTo>
                    <a:pt x="5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5"/>
                  </a:lnTo>
                  <a:lnTo>
                    <a:pt x="15" y="5"/>
                  </a:lnTo>
                  <a:lnTo>
                    <a:pt x="15" y="5"/>
                  </a:lnTo>
                  <a:lnTo>
                    <a:pt x="15" y="5"/>
                  </a:lnTo>
                  <a:lnTo>
                    <a:pt x="15" y="5"/>
                  </a:lnTo>
                  <a:lnTo>
                    <a:pt x="15" y="5"/>
                  </a:lnTo>
                  <a:lnTo>
                    <a:pt x="15" y="10"/>
                  </a:lnTo>
                  <a:close/>
                  <a:moveTo>
                    <a:pt x="19" y="10"/>
                  </a:moveTo>
                  <a:lnTo>
                    <a:pt x="19" y="10"/>
                  </a:lnTo>
                  <a:lnTo>
                    <a:pt x="19" y="10"/>
                  </a:lnTo>
                  <a:lnTo>
                    <a:pt x="19" y="10"/>
                  </a:lnTo>
                  <a:lnTo>
                    <a:pt x="19" y="10"/>
                  </a:lnTo>
                  <a:lnTo>
                    <a:pt x="19" y="10"/>
                  </a:lnTo>
                  <a:lnTo>
                    <a:pt x="15" y="10"/>
                  </a:lnTo>
                  <a:lnTo>
                    <a:pt x="15" y="10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9" y="15"/>
                  </a:lnTo>
                  <a:lnTo>
                    <a:pt x="19" y="15"/>
                  </a:lnTo>
                  <a:lnTo>
                    <a:pt x="19" y="15"/>
                  </a:lnTo>
                  <a:lnTo>
                    <a:pt x="19" y="20"/>
                  </a:lnTo>
                  <a:lnTo>
                    <a:pt x="19" y="20"/>
                  </a:lnTo>
                  <a:lnTo>
                    <a:pt x="19" y="20"/>
                  </a:lnTo>
                  <a:lnTo>
                    <a:pt x="24" y="20"/>
                  </a:lnTo>
                  <a:lnTo>
                    <a:pt x="24" y="15"/>
                  </a:lnTo>
                  <a:lnTo>
                    <a:pt x="24" y="15"/>
                  </a:lnTo>
                  <a:lnTo>
                    <a:pt x="24" y="15"/>
                  </a:lnTo>
                  <a:lnTo>
                    <a:pt x="24" y="15"/>
                  </a:lnTo>
                  <a:lnTo>
                    <a:pt x="24" y="15"/>
                  </a:lnTo>
                  <a:lnTo>
                    <a:pt x="24" y="15"/>
                  </a:lnTo>
                  <a:lnTo>
                    <a:pt x="24" y="15"/>
                  </a:lnTo>
                  <a:lnTo>
                    <a:pt x="24" y="10"/>
                  </a:lnTo>
                  <a:lnTo>
                    <a:pt x="24" y="10"/>
                  </a:lnTo>
                  <a:lnTo>
                    <a:pt x="24" y="10"/>
                  </a:lnTo>
                  <a:lnTo>
                    <a:pt x="24" y="10"/>
                  </a:lnTo>
                  <a:lnTo>
                    <a:pt x="24" y="10"/>
                  </a:lnTo>
                  <a:lnTo>
                    <a:pt x="24" y="10"/>
                  </a:lnTo>
                  <a:lnTo>
                    <a:pt x="19" y="10"/>
                  </a:lnTo>
                  <a:close/>
                  <a:moveTo>
                    <a:pt x="10" y="5"/>
                  </a:moveTo>
                  <a:lnTo>
                    <a:pt x="10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5" y="15"/>
                  </a:lnTo>
                  <a:lnTo>
                    <a:pt x="5" y="15"/>
                  </a:lnTo>
                  <a:lnTo>
                    <a:pt x="5" y="15"/>
                  </a:lnTo>
                  <a:lnTo>
                    <a:pt x="5" y="15"/>
                  </a:lnTo>
                  <a:lnTo>
                    <a:pt x="5" y="20"/>
                  </a:lnTo>
                  <a:lnTo>
                    <a:pt x="10" y="20"/>
                  </a:lnTo>
                  <a:lnTo>
                    <a:pt x="10" y="15"/>
                  </a:lnTo>
                  <a:lnTo>
                    <a:pt x="10" y="15"/>
                  </a:lnTo>
                  <a:lnTo>
                    <a:pt x="10" y="15"/>
                  </a:lnTo>
                  <a:lnTo>
                    <a:pt x="10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0"/>
                  </a:lnTo>
                  <a:lnTo>
                    <a:pt x="15" y="10"/>
                  </a:lnTo>
                  <a:lnTo>
                    <a:pt x="15" y="10"/>
                  </a:lnTo>
                  <a:lnTo>
                    <a:pt x="15" y="10"/>
                  </a:lnTo>
                  <a:lnTo>
                    <a:pt x="15" y="10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666666"/>
            </a:solidFill>
            <a:ln w="0">
              <a:solidFill>
                <a:srgbClr val="6666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03" name=""/>
          <p:cNvGrpSpPr/>
          <p:nvPr/>
        </p:nvGrpSpPr>
        <p:grpSpPr>
          <a:xfrm>
            <a:off x="2124000" y="1773360"/>
            <a:ext cx="4757400" cy="3388680"/>
            <a:chOff x="2124000" y="1773360"/>
            <a:chExt cx="4757400" cy="3388680"/>
          </a:xfrm>
        </p:grpSpPr>
        <p:sp>
          <p:nvSpPr>
            <p:cNvPr id="2604" name=""/>
            <p:cNvSpPr/>
            <p:nvPr/>
          </p:nvSpPr>
          <p:spPr>
            <a:xfrm>
              <a:off x="3898800" y="3506400"/>
              <a:ext cx="45720" cy="31680"/>
            </a:xfrm>
            <a:custGeom>
              <a:avLst/>
              <a:gdLst/>
              <a:ahLst/>
              <a:rect l="l" t="t" r="r" b="b"/>
              <a:pathLst>
                <a:path w="29" h="20">
                  <a:moveTo>
                    <a:pt x="15" y="0"/>
                  </a:moveTo>
                  <a:lnTo>
                    <a:pt x="20" y="0"/>
                  </a:lnTo>
                  <a:lnTo>
                    <a:pt x="20" y="0"/>
                  </a:lnTo>
                  <a:lnTo>
                    <a:pt x="24" y="0"/>
                  </a:lnTo>
                  <a:lnTo>
                    <a:pt x="24" y="5"/>
                  </a:lnTo>
                  <a:lnTo>
                    <a:pt x="24" y="5"/>
                  </a:lnTo>
                  <a:lnTo>
                    <a:pt x="29" y="5"/>
                  </a:lnTo>
                  <a:lnTo>
                    <a:pt x="29" y="5"/>
                  </a:lnTo>
                  <a:lnTo>
                    <a:pt x="29" y="5"/>
                  </a:lnTo>
                  <a:lnTo>
                    <a:pt x="29" y="10"/>
                  </a:lnTo>
                  <a:lnTo>
                    <a:pt x="29" y="10"/>
                  </a:lnTo>
                  <a:lnTo>
                    <a:pt x="29" y="10"/>
                  </a:lnTo>
                  <a:lnTo>
                    <a:pt x="29" y="10"/>
                  </a:lnTo>
                  <a:lnTo>
                    <a:pt x="29" y="15"/>
                  </a:lnTo>
                  <a:lnTo>
                    <a:pt x="29" y="15"/>
                  </a:lnTo>
                  <a:lnTo>
                    <a:pt x="29" y="15"/>
                  </a:lnTo>
                  <a:lnTo>
                    <a:pt x="29" y="15"/>
                  </a:lnTo>
                  <a:lnTo>
                    <a:pt x="29" y="15"/>
                  </a:lnTo>
                  <a:lnTo>
                    <a:pt x="29" y="15"/>
                  </a:lnTo>
                  <a:lnTo>
                    <a:pt x="29" y="20"/>
                  </a:lnTo>
                  <a:lnTo>
                    <a:pt x="24" y="20"/>
                  </a:lnTo>
                  <a:lnTo>
                    <a:pt x="24" y="20"/>
                  </a:lnTo>
                  <a:lnTo>
                    <a:pt x="24" y="20"/>
                  </a:lnTo>
                  <a:lnTo>
                    <a:pt x="24" y="20"/>
                  </a:lnTo>
                  <a:lnTo>
                    <a:pt x="20" y="20"/>
                  </a:lnTo>
                  <a:lnTo>
                    <a:pt x="20" y="20"/>
                  </a:lnTo>
                  <a:lnTo>
                    <a:pt x="20" y="20"/>
                  </a:lnTo>
                  <a:lnTo>
                    <a:pt x="15" y="20"/>
                  </a:lnTo>
                  <a:lnTo>
                    <a:pt x="15" y="20"/>
                  </a:lnTo>
                  <a:lnTo>
                    <a:pt x="15" y="20"/>
                  </a:lnTo>
                  <a:lnTo>
                    <a:pt x="10" y="20"/>
                  </a:lnTo>
                  <a:lnTo>
                    <a:pt x="10" y="20"/>
                  </a:lnTo>
                  <a:lnTo>
                    <a:pt x="5" y="20"/>
                  </a:lnTo>
                  <a:lnTo>
                    <a:pt x="5" y="15"/>
                  </a:lnTo>
                  <a:lnTo>
                    <a:pt x="5" y="15"/>
                  </a:lnTo>
                  <a:lnTo>
                    <a:pt x="5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5"/>
                  </a:lnTo>
                  <a:lnTo>
                    <a:pt x="0" y="5"/>
                  </a:lnTo>
                  <a:lnTo>
                    <a:pt x="5" y="5"/>
                  </a:lnTo>
                  <a:lnTo>
                    <a:pt x="5" y="0"/>
                  </a:lnTo>
                  <a:lnTo>
                    <a:pt x="5" y="0"/>
                  </a:lnTo>
                  <a:lnTo>
                    <a:pt x="10" y="0"/>
                  </a:lnTo>
                  <a:lnTo>
                    <a:pt x="15" y="0"/>
                  </a:lnTo>
                  <a:lnTo>
                    <a:pt x="15" y="0"/>
                  </a:lnTo>
                  <a:close/>
                  <a:moveTo>
                    <a:pt x="15" y="5"/>
                  </a:moveTo>
                  <a:lnTo>
                    <a:pt x="15" y="5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10"/>
                  </a:lnTo>
                  <a:lnTo>
                    <a:pt x="5" y="10"/>
                  </a:lnTo>
                  <a:lnTo>
                    <a:pt x="5" y="10"/>
                  </a:lnTo>
                  <a:lnTo>
                    <a:pt x="5" y="10"/>
                  </a:lnTo>
                  <a:lnTo>
                    <a:pt x="5" y="10"/>
                  </a:lnTo>
                  <a:lnTo>
                    <a:pt x="5" y="15"/>
                  </a:lnTo>
                  <a:lnTo>
                    <a:pt x="10" y="15"/>
                  </a:lnTo>
                  <a:lnTo>
                    <a:pt x="10" y="15"/>
                  </a:lnTo>
                  <a:lnTo>
                    <a:pt x="10" y="15"/>
                  </a:lnTo>
                  <a:lnTo>
                    <a:pt x="15" y="15"/>
                  </a:lnTo>
                  <a:lnTo>
                    <a:pt x="20" y="15"/>
                  </a:lnTo>
                  <a:lnTo>
                    <a:pt x="20" y="15"/>
                  </a:lnTo>
                  <a:lnTo>
                    <a:pt x="24" y="15"/>
                  </a:lnTo>
                  <a:lnTo>
                    <a:pt x="24" y="15"/>
                  </a:lnTo>
                  <a:lnTo>
                    <a:pt x="24" y="15"/>
                  </a:lnTo>
                  <a:lnTo>
                    <a:pt x="29" y="15"/>
                  </a:lnTo>
                  <a:lnTo>
                    <a:pt x="29" y="15"/>
                  </a:lnTo>
                  <a:lnTo>
                    <a:pt x="29" y="10"/>
                  </a:lnTo>
                  <a:lnTo>
                    <a:pt x="29" y="10"/>
                  </a:lnTo>
                  <a:lnTo>
                    <a:pt x="29" y="10"/>
                  </a:lnTo>
                  <a:lnTo>
                    <a:pt x="29" y="10"/>
                  </a:lnTo>
                  <a:lnTo>
                    <a:pt x="24" y="5"/>
                  </a:lnTo>
                  <a:lnTo>
                    <a:pt x="24" y="5"/>
                  </a:lnTo>
                  <a:lnTo>
                    <a:pt x="24" y="5"/>
                  </a:lnTo>
                  <a:lnTo>
                    <a:pt x="20" y="5"/>
                  </a:lnTo>
                  <a:lnTo>
                    <a:pt x="15" y="5"/>
                  </a:lnTo>
                  <a:close/>
                </a:path>
              </a:pathLst>
            </a:custGeom>
            <a:solidFill>
              <a:srgbClr val="666666"/>
            </a:solidFill>
            <a:ln w="0">
              <a:solidFill>
                <a:srgbClr val="6666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5" name=""/>
            <p:cNvSpPr/>
            <p:nvPr/>
          </p:nvSpPr>
          <p:spPr>
            <a:xfrm flipH="1" flipV="1">
              <a:off x="3930120" y="3404520"/>
              <a:ext cx="6120" cy="15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6" name=""/>
            <p:cNvSpPr/>
            <p:nvPr/>
          </p:nvSpPr>
          <p:spPr>
            <a:xfrm>
              <a:off x="3890880" y="3396960"/>
              <a:ext cx="39600" cy="187200"/>
            </a:xfrm>
            <a:custGeom>
              <a:avLst/>
              <a:gdLst/>
              <a:ahLst/>
              <a:rect l="l" t="t" r="r" b="b"/>
              <a:pathLst>
                <a:path w="25" h="118">
                  <a:moveTo>
                    <a:pt x="25" y="5"/>
                  </a:moveTo>
                  <a:lnTo>
                    <a:pt x="15" y="0"/>
                  </a:lnTo>
                  <a:lnTo>
                    <a:pt x="10" y="0"/>
                  </a:lnTo>
                  <a:lnTo>
                    <a:pt x="10" y="5"/>
                  </a:lnTo>
                  <a:lnTo>
                    <a:pt x="5" y="15"/>
                  </a:lnTo>
                  <a:lnTo>
                    <a:pt x="5" y="20"/>
                  </a:lnTo>
                  <a:lnTo>
                    <a:pt x="5" y="29"/>
                  </a:lnTo>
                  <a:lnTo>
                    <a:pt x="0" y="39"/>
                  </a:lnTo>
                  <a:lnTo>
                    <a:pt x="0" y="44"/>
                  </a:lnTo>
                  <a:lnTo>
                    <a:pt x="0" y="54"/>
                  </a:lnTo>
                  <a:lnTo>
                    <a:pt x="0" y="59"/>
                  </a:lnTo>
                  <a:lnTo>
                    <a:pt x="0" y="69"/>
                  </a:lnTo>
                  <a:lnTo>
                    <a:pt x="0" y="74"/>
                  </a:lnTo>
                  <a:lnTo>
                    <a:pt x="0" y="84"/>
                  </a:lnTo>
                  <a:lnTo>
                    <a:pt x="5" y="89"/>
                  </a:lnTo>
                  <a:lnTo>
                    <a:pt x="5" y="99"/>
                  </a:lnTo>
                  <a:lnTo>
                    <a:pt x="10" y="109"/>
                  </a:lnTo>
                  <a:lnTo>
                    <a:pt x="10" y="114"/>
                  </a:lnTo>
                  <a:lnTo>
                    <a:pt x="15" y="118"/>
                  </a:lnTo>
                  <a:lnTo>
                    <a:pt x="15" y="114"/>
                  </a:lnTo>
                  <a:lnTo>
                    <a:pt x="20" y="9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7" name=""/>
            <p:cNvSpPr/>
            <p:nvPr/>
          </p:nvSpPr>
          <p:spPr>
            <a:xfrm>
              <a:off x="4322520" y="3498480"/>
              <a:ext cx="15840" cy="23760"/>
            </a:xfrm>
            <a:custGeom>
              <a:avLst/>
              <a:gdLst/>
              <a:ahLst/>
              <a:rect l="l" t="t" r="r" b="b"/>
              <a:pathLst>
                <a:path w="10" h="15">
                  <a:moveTo>
                    <a:pt x="0" y="10"/>
                  </a:moveTo>
                  <a:lnTo>
                    <a:pt x="5" y="5"/>
                  </a:lnTo>
                  <a:lnTo>
                    <a:pt x="5" y="5"/>
                  </a:lnTo>
                  <a:lnTo>
                    <a:pt x="5" y="0"/>
                  </a:lnTo>
                  <a:lnTo>
                    <a:pt x="5" y="0"/>
                  </a:lnTo>
                  <a:lnTo>
                    <a:pt x="10" y="0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10" y="15"/>
                  </a:lnTo>
                  <a:lnTo>
                    <a:pt x="5" y="15"/>
                  </a:lnTo>
                  <a:lnTo>
                    <a:pt x="5" y="15"/>
                  </a:lnTo>
                  <a:lnTo>
                    <a:pt x="5" y="10"/>
                  </a:lnTo>
                  <a:lnTo>
                    <a:pt x="0" y="1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8" name=""/>
            <p:cNvSpPr/>
            <p:nvPr/>
          </p:nvSpPr>
          <p:spPr>
            <a:xfrm>
              <a:off x="3097080" y="3466800"/>
              <a:ext cx="15840" cy="7560"/>
            </a:xfrm>
            <a:custGeom>
              <a:avLst/>
              <a:gdLst/>
              <a:ahLst/>
              <a:rect l="l" t="t" r="r" b="b"/>
              <a:pathLst>
                <a:path w="10" h="5">
                  <a:moveTo>
                    <a:pt x="0" y="0"/>
                  </a:move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9" name=""/>
            <p:cNvSpPr/>
            <p:nvPr/>
          </p:nvSpPr>
          <p:spPr>
            <a:xfrm>
              <a:off x="3952800" y="3271680"/>
              <a:ext cx="47520" cy="23400"/>
            </a:xfrm>
            <a:custGeom>
              <a:avLst/>
              <a:gdLst/>
              <a:ahLst/>
              <a:rect l="l" t="t" r="r" b="b"/>
              <a:pathLst>
                <a:path w="30" h="15">
                  <a:moveTo>
                    <a:pt x="0" y="10"/>
                  </a:moveTo>
                  <a:lnTo>
                    <a:pt x="5" y="5"/>
                  </a:lnTo>
                  <a:lnTo>
                    <a:pt x="25" y="10"/>
                  </a:lnTo>
                  <a:lnTo>
                    <a:pt x="25" y="10"/>
                  </a:lnTo>
                  <a:lnTo>
                    <a:pt x="25" y="5"/>
                  </a:lnTo>
                  <a:lnTo>
                    <a:pt x="25" y="5"/>
                  </a:lnTo>
                  <a:lnTo>
                    <a:pt x="25" y="5"/>
                  </a:lnTo>
                  <a:lnTo>
                    <a:pt x="25" y="5"/>
                  </a:lnTo>
                  <a:lnTo>
                    <a:pt x="25" y="5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5"/>
                  </a:lnTo>
                  <a:lnTo>
                    <a:pt x="25" y="5"/>
                  </a:lnTo>
                  <a:lnTo>
                    <a:pt x="30" y="5"/>
                  </a:lnTo>
                  <a:lnTo>
                    <a:pt x="30" y="10"/>
                  </a:lnTo>
                  <a:lnTo>
                    <a:pt x="30" y="10"/>
                  </a:lnTo>
                  <a:lnTo>
                    <a:pt x="30" y="10"/>
                  </a:lnTo>
                  <a:lnTo>
                    <a:pt x="30" y="10"/>
                  </a:lnTo>
                  <a:lnTo>
                    <a:pt x="30" y="10"/>
                  </a:lnTo>
                  <a:lnTo>
                    <a:pt x="30" y="15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666666"/>
            </a:solidFill>
            <a:ln w="0">
              <a:solidFill>
                <a:srgbClr val="6666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0" name=""/>
            <p:cNvSpPr/>
            <p:nvPr/>
          </p:nvSpPr>
          <p:spPr>
            <a:xfrm>
              <a:off x="3952800" y="3303360"/>
              <a:ext cx="47520" cy="29880"/>
            </a:xfrm>
            <a:custGeom>
              <a:avLst/>
              <a:gdLst/>
              <a:ahLst/>
              <a:rect l="l" t="t" r="r" b="b"/>
              <a:pathLst>
                <a:path w="30" h="19">
                  <a:moveTo>
                    <a:pt x="15" y="4"/>
                  </a:moveTo>
                  <a:lnTo>
                    <a:pt x="15" y="4"/>
                  </a:lnTo>
                  <a:lnTo>
                    <a:pt x="15" y="4"/>
                  </a:lnTo>
                  <a:lnTo>
                    <a:pt x="15" y="4"/>
                  </a:lnTo>
                  <a:lnTo>
                    <a:pt x="20" y="4"/>
                  </a:lnTo>
                  <a:lnTo>
                    <a:pt x="20" y="4"/>
                  </a:lnTo>
                  <a:lnTo>
                    <a:pt x="20" y="4"/>
                  </a:lnTo>
                  <a:lnTo>
                    <a:pt x="20" y="4"/>
                  </a:lnTo>
                  <a:lnTo>
                    <a:pt x="20" y="4"/>
                  </a:lnTo>
                  <a:lnTo>
                    <a:pt x="25" y="4"/>
                  </a:lnTo>
                  <a:lnTo>
                    <a:pt x="25" y="4"/>
                  </a:lnTo>
                  <a:lnTo>
                    <a:pt x="25" y="4"/>
                  </a:lnTo>
                  <a:lnTo>
                    <a:pt x="25" y="4"/>
                  </a:lnTo>
                  <a:lnTo>
                    <a:pt x="25" y="9"/>
                  </a:lnTo>
                  <a:lnTo>
                    <a:pt x="30" y="9"/>
                  </a:lnTo>
                  <a:lnTo>
                    <a:pt x="30" y="9"/>
                  </a:lnTo>
                  <a:lnTo>
                    <a:pt x="30" y="14"/>
                  </a:lnTo>
                  <a:lnTo>
                    <a:pt x="25" y="14"/>
                  </a:lnTo>
                  <a:lnTo>
                    <a:pt x="25" y="14"/>
                  </a:lnTo>
                  <a:lnTo>
                    <a:pt x="25" y="14"/>
                  </a:lnTo>
                  <a:lnTo>
                    <a:pt x="25" y="19"/>
                  </a:lnTo>
                  <a:lnTo>
                    <a:pt x="25" y="19"/>
                  </a:lnTo>
                  <a:lnTo>
                    <a:pt x="20" y="19"/>
                  </a:lnTo>
                  <a:lnTo>
                    <a:pt x="20" y="19"/>
                  </a:lnTo>
                  <a:lnTo>
                    <a:pt x="20" y="19"/>
                  </a:lnTo>
                  <a:lnTo>
                    <a:pt x="15" y="19"/>
                  </a:lnTo>
                  <a:lnTo>
                    <a:pt x="15" y="19"/>
                  </a:lnTo>
                  <a:lnTo>
                    <a:pt x="15" y="19"/>
                  </a:lnTo>
                  <a:lnTo>
                    <a:pt x="15" y="19"/>
                  </a:lnTo>
                  <a:lnTo>
                    <a:pt x="15" y="14"/>
                  </a:lnTo>
                  <a:lnTo>
                    <a:pt x="15" y="14"/>
                  </a:lnTo>
                  <a:lnTo>
                    <a:pt x="15" y="14"/>
                  </a:lnTo>
                  <a:lnTo>
                    <a:pt x="15" y="14"/>
                  </a:lnTo>
                  <a:lnTo>
                    <a:pt x="15" y="14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10" y="19"/>
                  </a:lnTo>
                  <a:lnTo>
                    <a:pt x="10" y="19"/>
                  </a:lnTo>
                  <a:lnTo>
                    <a:pt x="5" y="19"/>
                  </a:lnTo>
                  <a:lnTo>
                    <a:pt x="5" y="19"/>
                  </a:lnTo>
                  <a:lnTo>
                    <a:pt x="5" y="19"/>
                  </a:lnTo>
                  <a:lnTo>
                    <a:pt x="5" y="19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4"/>
                  </a:lnTo>
                  <a:lnTo>
                    <a:pt x="15" y="4"/>
                  </a:lnTo>
                  <a:lnTo>
                    <a:pt x="15" y="4"/>
                  </a:lnTo>
                  <a:close/>
                  <a:moveTo>
                    <a:pt x="20" y="4"/>
                  </a:moveTo>
                  <a:lnTo>
                    <a:pt x="20" y="4"/>
                  </a:lnTo>
                  <a:lnTo>
                    <a:pt x="20" y="4"/>
                  </a:lnTo>
                  <a:lnTo>
                    <a:pt x="20" y="4"/>
                  </a:lnTo>
                  <a:lnTo>
                    <a:pt x="20" y="4"/>
                  </a:lnTo>
                  <a:lnTo>
                    <a:pt x="15" y="9"/>
                  </a:lnTo>
                  <a:lnTo>
                    <a:pt x="15" y="9"/>
                  </a:lnTo>
                  <a:lnTo>
                    <a:pt x="15" y="9"/>
                  </a:lnTo>
                  <a:lnTo>
                    <a:pt x="15" y="9"/>
                  </a:lnTo>
                  <a:lnTo>
                    <a:pt x="15" y="9"/>
                  </a:lnTo>
                  <a:lnTo>
                    <a:pt x="15" y="9"/>
                  </a:lnTo>
                  <a:lnTo>
                    <a:pt x="15" y="14"/>
                  </a:lnTo>
                  <a:lnTo>
                    <a:pt x="15" y="14"/>
                  </a:lnTo>
                  <a:lnTo>
                    <a:pt x="15" y="14"/>
                  </a:lnTo>
                  <a:lnTo>
                    <a:pt x="15" y="14"/>
                  </a:lnTo>
                  <a:lnTo>
                    <a:pt x="20" y="14"/>
                  </a:lnTo>
                  <a:lnTo>
                    <a:pt x="20" y="14"/>
                  </a:lnTo>
                  <a:lnTo>
                    <a:pt x="20" y="14"/>
                  </a:lnTo>
                  <a:lnTo>
                    <a:pt x="20" y="14"/>
                  </a:lnTo>
                  <a:lnTo>
                    <a:pt x="20" y="14"/>
                  </a:lnTo>
                  <a:lnTo>
                    <a:pt x="25" y="14"/>
                  </a:lnTo>
                  <a:lnTo>
                    <a:pt x="25" y="14"/>
                  </a:lnTo>
                  <a:lnTo>
                    <a:pt x="25" y="14"/>
                  </a:lnTo>
                  <a:lnTo>
                    <a:pt x="25" y="14"/>
                  </a:lnTo>
                  <a:lnTo>
                    <a:pt x="25" y="9"/>
                  </a:lnTo>
                  <a:lnTo>
                    <a:pt x="25" y="9"/>
                  </a:lnTo>
                  <a:lnTo>
                    <a:pt x="25" y="9"/>
                  </a:lnTo>
                  <a:lnTo>
                    <a:pt x="25" y="9"/>
                  </a:lnTo>
                  <a:lnTo>
                    <a:pt x="25" y="9"/>
                  </a:lnTo>
                  <a:lnTo>
                    <a:pt x="25" y="9"/>
                  </a:lnTo>
                  <a:lnTo>
                    <a:pt x="25" y="4"/>
                  </a:lnTo>
                  <a:lnTo>
                    <a:pt x="20" y="4"/>
                  </a:lnTo>
                  <a:lnTo>
                    <a:pt x="20" y="4"/>
                  </a:lnTo>
                  <a:close/>
                  <a:moveTo>
                    <a:pt x="10" y="4"/>
                  </a:move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14"/>
                  </a:lnTo>
                  <a:lnTo>
                    <a:pt x="5" y="14"/>
                  </a:lnTo>
                  <a:lnTo>
                    <a:pt x="5" y="14"/>
                  </a:lnTo>
                  <a:lnTo>
                    <a:pt x="5" y="14"/>
                  </a:lnTo>
                  <a:lnTo>
                    <a:pt x="5" y="14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10" y="9"/>
                  </a:lnTo>
                  <a:lnTo>
                    <a:pt x="10" y="9"/>
                  </a:lnTo>
                  <a:lnTo>
                    <a:pt x="15" y="9"/>
                  </a:lnTo>
                  <a:lnTo>
                    <a:pt x="15" y="9"/>
                  </a:lnTo>
                  <a:lnTo>
                    <a:pt x="15" y="4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0" y="4"/>
                  </a:lnTo>
                  <a:close/>
                </a:path>
              </a:pathLst>
            </a:custGeom>
            <a:solidFill>
              <a:srgbClr val="666666"/>
            </a:solidFill>
            <a:ln w="0">
              <a:solidFill>
                <a:srgbClr val="6666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1" name=""/>
            <p:cNvSpPr/>
            <p:nvPr/>
          </p:nvSpPr>
          <p:spPr>
            <a:xfrm>
              <a:off x="3944520" y="3333600"/>
              <a:ext cx="47880" cy="31320"/>
            </a:xfrm>
            <a:custGeom>
              <a:avLst/>
              <a:gdLst/>
              <a:ahLst/>
              <a:rect l="l" t="t" r="r" b="b"/>
              <a:pathLst>
                <a:path w="30" h="20">
                  <a:moveTo>
                    <a:pt x="15" y="5"/>
                  </a:moveTo>
                  <a:lnTo>
                    <a:pt x="20" y="5"/>
                  </a:lnTo>
                  <a:lnTo>
                    <a:pt x="20" y="5"/>
                  </a:lnTo>
                  <a:lnTo>
                    <a:pt x="20" y="5"/>
                  </a:lnTo>
                  <a:lnTo>
                    <a:pt x="25" y="5"/>
                  </a:lnTo>
                  <a:lnTo>
                    <a:pt x="25" y="5"/>
                  </a:lnTo>
                  <a:lnTo>
                    <a:pt x="25" y="5"/>
                  </a:lnTo>
                  <a:lnTo>
                    <a:pt x="25" y="10"/>
                  </a:lnTo>
                  <a:lnTo>
                    <a:pt x="30" y="10"/>
                  </a:lnTo>
                  <a:lnTo>
                    <a:pt x="30" y="10"/>
                  </a:lnTo>
                  <a:lnTo>
                    <a:pt x="30" y="10"/>
                  </a:lnTo>
                  <a:lnTo>
                    <a:pt x="30" y="15"/>
                  </a:lnTo>
                  <a:lnTo>
                    <a:pt x="30" y="15"/>
                  </a:lnTo>
                  <a:lnTo>
                    <a:pt x="30" y="15"/>
                  </a:lnTo>
                  <a:lnTo>
                    <a:pt x="30" y="15"/>
                  </a:lnTo>
                  <a:lnTo>
                    <a:pt x="25" y="20"/>
                  </a:lnTo>
                  <a:lnTo>
                    <a:pt x="25" y="20"/>
                  </a:lnTo>
                  <a:lnTo>
                    <a:pt x="25" y="20"/>
                  </a:lnTo>
                  <a:lnTo>
                    <a:pt x="25" y="20"/>
                  </a:lnTo>
                  <a:lnTo>
                    <a:pt x="25" y="20"/>
                  </a:lnTo>
                  <a:lnTo>
                    <a:pt x="25" y="20"/>
                  </a:lnTo>
                  <a:lnTo>
                    <a:pt x="20" y="20"/>
                  </a:lnTo>
                  <a:lnTo>
                    <a:pt x="20" y="20"/>
                  </a:lnTo>
                  <a:lnTo>
                    <a:pt x="20" y="20"/>
                  </a:lnTo>
                  <a:lnTo>
                    <a:pt x="20" y="20"/>
                  </a:lnTo>
                  <a:lnTo>
                    <a:pt x="15" y="20"/>
                  </a:lnTo>
                  <a:lnTo>
                    <a:pt x="15" y="20"/>
                  </a:lnTo>
                  <a:lnTo>
                    <a:pt x="15" y="20"/>
                  </a:lnTo>
                  <a:lnTo>
                    <a:pt x="10" y="20"/>
                  </a:lnTo>
                  <a:lnTo>
                    <a:pt x="10" y="20"/>
                  </a:lnTo>
                  <a:lnTo>
                    <a:pt x="5" y="20"/>
                  </a:lnTo>
                  <a:lnTo>
                    <a:pt x="5" y="20"/>
                  </a:lnTo>
                  <a:lnTo>
                    <a:pt x="5" y="20"/>
                  </a:lnTo>
                  <a:lnTo>
                    <a:pt x="0" y="20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5"/>
                  </a:lnTo>
                  <a:lnTo>
                    <a:pt x="0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5" y="5"/>
                  </a:lnTo>
                  <a:close/>
                  <a:moveTo>
                    <a:pt x="15" y="5"/>
                  </a:moveTo>
                  <a:lnTo>
                    <a:pt x="10" y="5"/>
                  </a:lnTo>
                  <a:lnTo>
                    <a:pt x="10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5"/>
                  </a:lnTo>
                  <a:lnTo>
                    <a:pt x="5" y="15"/>
                  </a:lnTo>
                  <a:lnTo>
                    <a:pt x="5" y="15"/>
                  </a:lnTo>
                  <a:lnTo>
                    <a:pt x="5" y="15"/>
                  </a:lnTo>
                  <a:lnTo>
                    <a:pt x="10" y="15"/>
                  </a:lnTo>
                  <a:lnTo>
                    <a:pt x="10" y="20"/>
                  </a:lnTo>
                  <a:lnTo>
                    <a:pt x="15" y="20"/>
                  </a:lnTo>
                  <a:lnTo>
                    <a:pt x="20" y="20"/>
                  </a:lnTo>
                  <a:lnTo>
                    <a:pt x="20" y="20"/>
                  </a:lnTo>
                  <a:lnTo>
                    <a:pt x="20" y="20"/>
                  </a:lnTo>
                  <a:lnTo>
                    <a:pt x="25" y="20"/>
                  </a:lnTo>
                  <a:lnTo>
                    <a:pt x="25" y="15"/>
                  </a:lnTo>
                  <a:lnTo>
                    <a:pt x="25" y="15"/>
                  </a:lnTo>
                  <a:lnTo>
                    <a:pt x="25" y="15"/>
                  </a:lnTo>
                  <a:lnTo>
                    <a:pt x="25" y="15"/>
                  </a:lnTo>
                  <a:lnTo>
                    <a:pt x="25" y="10"/>
                  </a:lnTo>
                  <a:lnTo>
                    <a:pt x="25" y="10"/>
                  </a:lnTo>
                  <a:lnTo>
                    <a:pt x="25" y="10"/>
                  </a:lnTo>
                  <a:lnTo>
                    <a:pt x="25" y="10"/>
                  </a:lnTo>
                  <a:lnTo>
                    <a:pt x="20" y="10"/>
                  </a:lnTo>
                  <a:lnTo>
                    <a:pt x="20" y="5"/>
                  </a:lnTo>
                  <a:lnTo>
                    <a:pt x="15" y="5"/>
                  </a:lnTo>
                  <a:close/>
                </a:path>
              </a:pathLst>
            </a:custGeom>
            <a:solidFill>
              <a:srgbClr val="666666"/>
            </a:solidFill>
            <a:ln w="0">
              <a:solidFill>
                <a:srgbClr val="6666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2" name=""/>
            <p:cNvSpPr/>
            <p:nvPr/>
          </p:nvSpPr>
          <p:spPr>
            <a:xfrm>
              <a:off x="3984480" y="3247920"/>
              <a:ext cx="144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3" name=""/>
            <p:cNvSpPr/>
            <p:nvPr/>
          </p:nvSpPr>
          <p:spPr>
            <a:xfrm>
              <a:off x="3922560" y="3066840"/>
              <a:ext cx="133200" cy="345600"/>
            </a:xfrm>
            <a:custGeom>
              <a:avLst/>
              <a:gdLst/>
              <a:ahLst/>
              <a:rect l="l" t="t" r="r" b="b"/>
              <a:pathLst>
                <a:path w="84" h="218">
                  <a:moveTo>
                    <a:pt x="39" y="114"/>
                  </a:moveTo>
                  <a:lnTo>
                    <a:pt x="49" y="109"/>
                  </a:lnTo>
                  <a:lnTo>
                    <a:pt x="54" y="104"/>
                  </a:lnTo>
                  <a:lnTo>
                    <a:pt x="59" y="99"/>
                  </a:lnTo>
                  <a:lnTo>
                    <a:pt x="59" y="89"/>
                  </a:lnTo>
                  <a:lnTo>
                    <a:pt x="59" y="84"/>
                  </a:lnTo>
                  <a:lnTo>
                    <a:pt x="54" y="74"/>
                  </a:lnTo>
                  <a:lnTo>
                    <a:pt x="54" y="69"/>
                  </a:lnTo>
                  <a:lnTo>
                    <a:pt x="54" y="64"/>
                  </a:lnTo>
                  <a:lnTo>
                    <a:pt x="64" y="60"/>
                  </a:lnTo>
                  <a:lnTo>
                    <a:pt x="69" y="55"/>
                  </a:lnTo>
                  <a:lnTo>
                    <a:pt x="74" y="50"/>
                  </a:lnTo>
                  <a:lnTo>
                    <a:pt x="84" y="40"/>
                  </a:lnTo>
                  <a:lnTo>
                    <a:pt x="84" y="35"/>
                  </a:lnTo>
                  <a:lnTo>
                    <a:pt x="84" y="30"/>
                  </a:lnTo>
                  <a:lnTo>
                    <a:pt x="79" y="25"/>
                  </a:lnTo>
                  <a:lnTo>
                    <a:pt x="79" y="15"/>
                  </a:lnTo>
                  <a:lnTo>
                    <a:pt x="74" y="5"/>
                  </a:lnTo>
                  <a:lnTo>
                    <a:pt x="74" y="0"/>
                  </a:lnTo>
                  <a:lnTo>
                    <a:pt x="74" y="0"/>
                  </a:lnTo>
                  <a:lnTo>
                    <a:pt x="69" y="5"/>
                  </a:lnTo>
                  <a:lnTo>
                    <a:pt x="64" y="15"/>
                  </a:lnTo>
                  <a:lnTo>
                    <a:pt x="59" y="20"/>
                  </a:lnTo>
                  <a:lnTo>
                    <a:pt x="54" y="25"/>
                  </a:lnTo>
                  <a:lnTo>
                    <a:pt x="49" y="35"/>
                  </a:lnTo>
                  <a:lnTo>
                    <a:pt x="44" y="40"/>
                  </a:lnTo>
                  <a:lnTo>
                    <a:pt x="39" y="45"/>
                  </a:lnTo>
                  <a:lnTo>
                    <a:pt x="39" y="50"/>
                  </a:lnTo>
                  <a:lnTo>
                    <a:pt x="39" y="60"/>
                  </a:lnTo>
                  <a:lnTo>
                    <a:pt x="34" y="64"/>
                  </a:lnTo>
                  <a:lnTo>
                    <a:pt x="29" y="69"/>
                  </a:lnTo>
                  <a:lnTo>
                    <a:pt x="24" y="74"/>
                  </a:lnTo>
                  <a:lnTo>
                    <a:pt x="19" y="84"/>
                  </a:lnTo>
                  <a:lnTo>
                    <a:pt x="14" y="89"/>
                  </a:lnTo>
                  <a:lnTo>
                    <a:pt x="9" y="94"/>
                  </a:lnTo>
                  <a:lnTo>
                    <a:pt x="9" y="99"/>
                  </a:lnTo>
                  <a:lnTo>
                    <a:pt x="9" y="109"/>
                  </a:lnTo>
                  <a:lnTo>
                    <a:pt x="9" y="114"/>
                  </a:lnTo>
                  <a:lnTo>
                    <a:pt x="9" y="124"/>
                  </a:lnTo>
                  <a:lnTo>
                    <a:pt x="9" y="129"/>
                  </a:lnTo>
                  <a:lnTo>
                    <a:pt x="5" y="134"/>
                  </a:lnTo>
                  <a:lnTo>
                    <a:pt x="5" y="144"/>
                  </a:lnTo>
                  <a:lnTo>
                    <a:pt x="5" y="149"/>
                  </a:lnTo>
                  <a:lnTo>
                    <a:pt x="5" y="153"/>
                  </a:lnTo>
                  <a:lnTo>
                    <a:pt x="5" y="163"/>
                  </a:lnTo>
                  <a:lnTo>
                    <a:pt x="5" y="168"/>
                  </a:lnTo>
                  <a:lnTo>
                    <a:pt x="5" y="173"/>
                  </a:lnTo>
                  <a:lnTo>
                    <a:pt x="0" y="183"/>
                  </a:lnTo>
                  <a:lnTo>
                    <a:pt x="0" y="188"/>
                  </a:lnTo>
                  <a:lnTo>
                    <a:pt x="0" y="193"/>
                  </a:lnTo>
                  <a:lnTo>
                    <a:pt x="0" y="203"/>
                  </a:lnTo>
                  <a:lnTo>
                    <a:pt x="9" y="208"/>
                  </a:lnTo>
                  <a:lnTo>
                    <a:pt x="14" y="213"/>
                  </a:lnTo>
                  <a:lnTo>
                    <a:pt x="19" y="218"/>
                  </a:lnTo>
                  <a:lnTo>
                    <a:pt x="24" y="213"/>
                  </a:lnTo>
                  <a:lnTo>
                    <a:pt x="24" y="20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4" name=""/>
            <p:cNvSpPr/>
            <p:nvPr/>
          </p:nvSpPr>
          <p:spPr>
            <a:xfrm>
              <a:off x="4903560" y="3192120"/>
              <a:ext cx="39600" cy="31680"/>
            </a:xfrm>
            <a:custGeom>
              <a:avLst/>
              <a:gdLst/>
              <a:ahLst/>
              <a:rect l="l" t="t" r="r" b="b"/>
              <a:pathLst>
                <a:path w="25" h="20">
                  <a:moveTo>
                    <a:pt x="0" y="5"/>
                  </a:moveTo>
                  <a:lnTo>
                    <a:pt x="0" y="0"/>
                  </a:lnTo>
                  <a:lnTo>
                    <a:pt x="20" y="10"/>
                  </a:lnTo>
                  <a:lnTo>
                    <a:pt x="20" y="10"/>
                  </a:lnTo>
                  <a:lnTo>
                    <a:pt x="20" y="10"/>
                  </a:lnTo>
                  <a:lnTo>
                    <a:pt x="20" y="10"/>
                  </a:lnTo>
                  <a:lnTo>
                    <a:pt x="20" y="10"/>
                  </a:lnTo>
                  <a:lnTo>
                    <a:pt x="20" y="5"/>
                  </a:lnTo>
                  <a:lnTo>
                    <a:pt x="20" y="5"/>
                  </a:lnTo>
                  <a:lnTo>
                    <a:pt x="20" y="5"/>
                  </a:lnTo>
                  <a:lnTo>
                    <a:pt x="20" y="5"/>
                  </a:lnTo>
                  <a:lnTo>
                    <a:pt x="25" y="5"/>
                  </a:lnTo>
                  <a:lnTo>
                    <a:pt x="25" y="5"/>
                  </a:lnTo>
                  <a:lnTo>
                    <a:pt x="25" y="10"/>
                  </a:lnTo>
                  <a:lnTo>
                    <a:pt x="25" y="10"/>
                  </a:lnTo>
                  <a:lnTo>
                    <a:pt x="25" y="10"/>
                  </a:lnTo>
                  <a:lnTo>
                    <a:pt x="25" y="15"/>
                  </a:lnTo>
                  <a:lnTo>
                    <a:pt x="25" y="15"/>
                  </a:lnTo>
                  <a:lnTo>
                    <a:pt x="25" y="15"/>
                  </a:lnTo>
                  <a:lnTo>
                    <a:pt x="25" y="15"/>
                  </a:lnTo>
                  <a:lnTo>
                    <a:pt x="25" y="2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666666"/>
            </a:solidFill>
            <a:ln w="0">
              <a:solidFill>
                <a:srgbClr val="6666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5" name=""/>
            <p:cNvSpPr/>
            <p:nvPr/>
          </p:nvSpPr>
          <p:spPr>
            <a:xfrm>
              <a:off x="4887720" y="3215880"/>
              <a:ext cx="47520" cy="39600"/>
            </a:xfrm>
            <a:custGeom>
              <a:avLst/>
              <a:gdLst/>
              <a:ahLst/>
              <a:rect l="l" t="t" r="r" b="b"/>
              <a:pathLst>
                <a:path w="30" h="25">
                  <a:moveTo>
                    <a:pt x="15" y="10"/>
                  </a:moveTo>
                  <a:lnTo>
                    <a:pt x="20" y="10"/>
                  </a:lnTo>
                  <a:lnTo>
                    <a:pt x="20" y="10"/>
                  </a:lnTo>
                  <a:lnTo>
                    <a:pt x="20" y="10"/>
                  </a:lnTo>
                  <a:lnTo>
                    <a:pt x="20" y="10"/>
                  </a:lnTo>
                  <a:lnTo>
                    <a:pt x="20" y="10"/>
                  </a:lnTo>
                  <a:lnTo>
                    <a:pt x="25" y="10"/>
                  </a:lnTo>
                  <a:lnTo>
                    <a:pt x="25" y="10"/>
                  </a:lnTo>
                  <a:lnTo>
                    <a:pt x="25" y="10"/>
                  </a:lnTo>
                  <a:lnTo>
                    <a:pt x="25" y="10"/>
                  </a:lnTo>
                  <a:lnTo>
                    <a:pt x="25" y="10"/>
                  </a:lnTo>
                  <a:lnTo>
                    <a:pt x="30" y="10"/>
                  </a:lnTo>
                  <a:lnTo>
                    <a:pt x="30" y="15"/>
                  </a:lnTo>
                  <a:lnTo>
                    <a:pt x="30" y="15"/>
                  </a:lnTo>
                  <a:lnTo>
                    <a:pt x="30" y="15"/>
                  </a:lnTo>
                  <a:lnTo>
                    <a:pt x="30" y="20"/>
                  </a:lnTo>
                  <a:lnTo>
                    <a:pt x="30" y="20"/>
                  </a:lnTo>
                  <a:lnTo>
                    <a:pt x="25" y="20"/>
                  </a:lnTo>
                  <a:lnTo>
                    <a:pt x="25" y="25"/>
                  </a:lnTo>
                  <a:lnTo>
                    <a:pt x="25" y="25"/>
                  </a:lnTo>
                  <a:lnTo>
                    <a:pt x="25" y="25"/>
                  </a:lnTo>
                  <a:lnTo>
                    <a:pt x="20" y="25"/>
                  </a:lnTo>
                  <a:lnTo>
                    <a:pt x="20" y="25"/>
                  </a:lnTo>
                  <a:lnTo>
                    <a:pt x="20" y="25"/>
                  </a:lnTo>
                  <a:lnTo>
                    <a:pt x="15" y="25"/>
                  </a:lnTo>
                  <a:lnTo>
                    <a:pt x="15" y="25"/>
                  </a:lnTo>
                  <a:lnTo>
                    <a:pt x="15" y="25"/>
                  </a:lnTo>
                  <a:lnTo>
                    <a:pt x="15" y="25"/>
                  </a:lnTo>
                  <a:lnTo>
                    <a:pt x="15" y="20"/>
                  </a:lnTo>
                  <a:lnTo>
                    <a:pt x="15" y="20"/>
                  </a:lnTo>
                  <a:lnTo>
                    <a:pt x="15" y="20"/>
                  </a:lnTo>
                  <a:lnTo>
                    <a:pt x="15" y="20"/>
                  </a:lnTo>
                  <a:lnTo>
                    <a:pt x="15" y="20"/>
                  </a:lnTo>
                  <a:lnTo>
                    <a:pt x="15" y="20"/>
                  </a:lnTo>
                  <a:lnTo>
                    <a:pt x="10" y="20"/>
                  </a:lnTo>
                  <a:lnTo>
                    <a:pt x="10" y="20"/>
                  </a:lnTo>
                  <a:lnTo>
                    <a:pt x="10" y="20"/>
                  </a:lnTo>
                  <a:lnTo>
                    <a:pt x="10" y="20"/>
                  </a:lnTo>
                  <a:lnTo>
                    <a:pt x="5" y="20"/>
                  </a:lnTo>
                  <a:lnTo>
                    <a:pt x="5" y="20"/>
                  </a:lnTo>
                  <a:lnTo>
                    <a:pt x="5" y="20"/>
                  </a:lnTo>
                  <a:lnTo>
                    <a:pt x="5" y="20"/>
                  </a:lnTo>
                  <a:lnTo>
                    <a:pt x="0" y="20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5" y="5"/>
                  </a:lnTo>
                  <a:lnTo>
                    <a:pt x="15" y="5"/>
                  </a:lnTo>
                  <a:lnTo>
                    <a:pt x="15" y="5"/>
                  </a:lnTo>
                  <a:lnTo>
                    <a:pt x="15" y="5"/>
                  </a:lnTo>
                  <a:lnTo>
                    <a:pt x="15" y="5"/>
                  </a:lnTo>
                  <a:lnTo>
                    <a:pt x="15" y="5"/>
                  </a:lnTo>
                  <a:lnTo>
                    <a:pt x="15" y="10"/>
                  </a:lnTo>
                  <a:lnTo>
                    <a:pt x="15" y="10"/>
                  </a:lnTo>
                  <a:lnTo>
                    <a:pt x="15" y="10"/>
                  </a:lnTo>
                  <a:close/>
                  <a:moveTo>
                    <a:pt x="25" y="15"/>
                  </a:moveTo>
                  <a:lnTo>
                    <a:pt x="20" y="10"/>
                  </a:lnTo>
                  <a:lnTo>
                    <a:pt x="20" y="10"/>
                  </a:lnTo>
                  <a:lnTo>
                    <a:pt x="20" y="10"/>
                  </a:lnTo>
                  <a:lnTo>
                    <a:pt x="20" y="10"/>
                  </a:lnTo>
                  <a:lnTo>
                    <a:pt x="20" y="15"/>
                  </a:lnTo>
                  <a:lnTo>
                    <a:pt x="20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20"/>
                  </a:lnTo>
                  <a:lnTo>
                    <a:pt x="15" y="20"/>
                  </a:lnTo>
                  <a:lnTo>
                    <a:pt x="15" y="20"/>
                  </a:lnTo>
                  <a:lnTo>
                    <a:pt x="15" y="20"/>
                  </a:lnTo>
                  <a:lnTo>
                    <a:pt x="20" y="20"/>
                  </a:lnTo>
                  <a:lnTo>
                    <a:pt x="20" y="20"/>
                  </a:lnTo>
                  <a:lnTo>
                    <a:pt x="20" y="20"/>
                  </a:lnTo>
                  <a:lnTo>
                    <a:pt x="20" y="20"/>
                  </a:lnTo>
                  <a:lnTo>
                    <a:pt x="20" y="20"/>
                  </a:lnTo>
                  <a:lnTo>
                    <a:pt x="25" y="20"/>
                  </a:lnTo>
                  <a:lnTo>
                    <a:pt x="25" y="20"/>
                  </a:lnTo>
                  <a:lnTo>
                    <a:pt x="25" y="20"/>
                  </a:lnTo>
                  <a:lnTo>
                    <a:pt x="25" y="20"/>
                  </a:lnTo>
                  <a:lnTo>
                    <a:pt x="25" y="20"/>
                  </a:lnTo>
                  <a:lnTo>
                    <a:pt x="25" y="20"/>
                  </a:lnTo>
                  <a:lnTo>
                    <a:pt x="25" y="15"/>
                  </a:lnTo>
                  <a:lnTo>
                    <a:pt x="25" y="15"/>
                  </a:lnTo>
                  <a:lnTo>
                    <a:pt x="25" y="15"/>
                  </a:lnTo>
                  <a:lnTo>
                    <a:pt x="25" y="15"/>
                  </a:lnTo>
                  <a:lnTo>
                    <a:pt x="25" y="15"/>
                  </a:lnTo>
                  <a:lnTo>
                    <a:pt x="25" y="15"/>
                  </a:lnTo>
                  <a:lnTo>
                    <a:pt x="25" y="15"/>
                  </a:lnTo>
                  <a:close/>
                  <a:moveTo>
                    <a:pt x="10" y="5"/>
                  </a:moveTo>
                  <a:lnTo>
                    <a:pt x="10" y="5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10"/>
                  </a:lnTo>
                  <a:lnTo>
                    <a:pt x="5" y="10"/>
                  </a:lnTo>
                  <a:lnTo>
                    <a:pt x="5" y="10"/>
                  </a:lnTo>
                  <a:lnTo>
                    <a:pt x="5" y="10"/>
                  </a:lnTo>
                  <a:lnTo>
                    <a:pt x="5" y="10"/>
                  </a:lnTo>
                  <a:lnTo>
                    <a:pt x="5" y="15"/>
                  </a:lnTo>
                  <a:lnTo>
                    <a:pt x="5" y="15"/>
                  </a:lnTo>
                  <a:lnTo>
                    <a:pt x="5" y="15"/>
                  </a:lnTo>
                  <a:lnTo>
                    <a:pt x="5" y="15"/>
                  </a:lnTo>
                  <a:lnTo>
                    <a:pt x="5" y="15"/>
                  </a:lnTo>
                  <a:lnTo>
                    <a:pt x="5" y="15"/>
                  </a:lnTo>
                  <a:lnTo>
                    <a:pt x="10" y="15"/>
                  </a:lnTo>
                  <a:lnTo>
                    <a:pt x="10" y="15"/>
                  </a:lnTo>
                  <a:lnTo>
                    <a:pt x="10" y="15"/>
                  </a:lnTo>
                  <a:lnTo>
                    <a:pt x="10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0"/>
                  </a:lnTo>
                  <a:lnTo>
                    <a:pt x="15" y="10"/>
                  </a:lnTo>
                  <a:lnTo>
                    <a:pt x="15" y="10"/>
                  </a:lnTo>
                  <a:lnTo>
                    <a:pt x="15" y="10"/>
                  </a:lnTo>
                  <a:lnTo>
                    <a:pt x="15" y="5"/>
                  </a:lnTo>
                  <a:lnTo>
                    <a:pt x="10" y="5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666666"/>
            </a:solidFill>
            <a:ln w="0">
              <a:solidFill>
                <a:srgbClr val="6666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6" name=""/>
            <p:cNvSpPr/>
            <p:nvPr/>
          </p:nvSpPr>
          <p:spPr>
            <a:xfrm>
              <a:off x="4871880" y="3255840"/>
              <a:ext cx="47520" cy="31320"/>
            </a:xfrm>
            <a:custGeom>
              <a:avLst/>
              <a:gdLst/>
              <a:ahLst/>
              <a:rect l="l" t="t" r="r" b="b"/>
              <a:pathLst>
                <a:path w="30" h="20">
                  <a:moveTo>
                    <a:pt x="20" y="0"/>
                  </a:moveTo>
                  <a:lnTo>
                    <a:pt x="20" y="0"/>
                  </a:lnTo>
                  <a:lnTo>
                    <a:pt x="25" y="5"/>
                  </a:lnTo>
                  <a:lnTo>
                    <a:pt x="25" y="5"/>
                  </a:lnTo>
                  <a:lnTo>
                    <a:pt x="25" y="5"/>
                  </a:lnTo>
                  <a:lnTo>
                    <a:pt x="25" y="5"/>
                  </a:lnTo>
                  <a:lnTo>
                    <a:pt x="30" y="10"/>
                  </a:lnTo>
                  <a:lnTo>
                    <a:pt x="30" y="10"/>
                  </a:lnTo>
                  <a:lnTo>
                    <a:pt x="30" y="10"/>
                  </a:lnTo>
                  <a:lnTo>
                    <a:pt x="30" y="10"/>
                  </a:lnTo>
                  <a:lnTo>
                    <a:pt x="30" y="15"/>
                  </a:lnTo>
                  <a:lnTo>
                    <a:pt x="30" y="15"/>
                  </a:lnTo>
                  <a:lnTo>
                    <a:pt x="30" y="15"/>
                  </a:lnTo>
                  <a:lnTo>
                    <a:pt x="30" y="15"/>
                  </a:lnTo>
                  <a:lnTo>
                    <a:pt x="25" y="20"/>
                  </a:lnTo>
                  <a:lnTo>
                    <a:pt x="25" y="20"/>
                  </a:lnTo>
                  <a:lnTo>
                    <a:pt x="25" y="20"/>
                  </a:lnTo>
                  <a:lnTo>
                    <a:pt x="25" y="20"/>
                  </a:lnTo>
                  <a:lnTo>
                    <a:pt x="25" y="20"/>
                  </a:lnTo>
                  <a:lnTo>
                    <a:pt x="25" y="20"/>
                  </a:lnTo>
                  <a:lnTo>
                    <a:pt x="20" y="20"/>
                  </a:lnTo>
                  <a:lnTo>
                    <a:pt x="20" y="20"/>
                  </a:lnTo>
                  <a:lnTo>
                    <a:pt x="20" y="20"/>
                  </a:lnTo>
                  <a:lnTo>
                    <a:pt x="20" y="20"/>
                  </a:lnTo>
                  <a:lnTo>
                    <a:pt x="15" y="20"/>
                  </a:lnTo>
                  <a:lnTo>
                    <a:pt x="15" y="20"/>
                  </a:lnTo>
                  <a:lnTo>
                    <a:pt x="15" y="20"/>
                  </a:lnTo>
                  <a:lnTo>
                    <a:pt x="15" y="20"/>
                  </a:lnTo>
                  <a:lnTo>
                    <a:pt x="10" y="20"/>
                  </a:lnTo>
                  <a:lnTo>
                    <a:pt x="10" y="20"/>
                  </a:lnTo>
                  <a:lnTo>
                    <a:pt x="5" y="15"/>
                  </a:lnTo>
                  <a:lnTo>
                    <a:pt x="5" y="15"/>
                  </a:lnTo>
                  <a:lnTo>
                    <a:pt x="5" y="15"/>
                  </a:lnTo>
                  <a:lnTo>
                    <a:pt x="0" y="15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5" y="0"/>
                  </a:lnTo>
                  <a:lnTo>
                    <a:pt x="20" y="0"/>
                  </a:lnTo>
                  <a:close/>
                  <a:moveTo>
                    <a:pt x="15" y="5"/>
                  </a:moveTo>
                  <a:lnTo>
                    <a:pt x="15" y="5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5" y="0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10"/>
                  </a:lnTo>
                  <a:lnTo>
                    <a:pt x="5" y="10"/>
                  </a:lnTo>
                  <a:lnTo>
                    <a:pt x="5" y="10"/>
                  </a:lnTo>
                  <a:lnTo>
                    <a:pt x="5" y="10"/>
                  </a:lnTo>
                  <a:lnTo>
                    <a:pt x="10" y="15"/>
                  </a:lnTo>
                  <a:lnTo>
                    <a:pt x="10" y="15"/>
                  </a:lnTo>
                  <a:lnTo>
                    <a:pt x="15" y="15"/>
                  </a:lnTo>
                  <a:lnTo>
                    <a:pt x="20" y="15"/>
                  </a:lnTo>
                  <a:lnTo>
                    <a:pt x="20" y="20"/>
                  </a:lnTo>
                  <a:lnTo>
                    <a:pt x="20" y="20"/>
                  </a:lnTo>
                  <a:lnTo>
                    <a:pt x="25" y="15"/>
                  </a:lnTo>
                  <a:lnTo>
                    <a:pt x="25" y="15"/>
                  </a:lnTo>
                  <a:lnTo>
                    <a:pt x="25" y="15"/>
                  </a:lnTo>
                  <a:lnTo>
                    <a:pt x="25" y="15"/>
                  </a:lnTo>
                  <a:lnTo>
                    <a:pt x="25" y="15"/>
                  </a:lnTo>
                  <a:lnTo>
                    <a:pt x="25" y="15"/>
                  </a:lnTo>
                  <a:lnTo>
                    <a:pt x="25" y="10"/>
                  </a:lnTo>
                  <a:lnTo>
                    <a:pt x="25" y="10"/>
                  </a:lnTo>
                  <a:lnTo>
                    <a:pt x="25" y="10"/>
                  </a:lnTo>
                  <a:lnTo>
                    <a:pt x="25" y="5"/>
                  </a:lnTo>
                  <a:lnTo>
                    <a:pt x="20" y="5"/>
                  </a:lnTo>
                  <a:lnTo>
                    <a:pt x="15" y="5"/>
                  </a:lnTo>
                  <a:close/>
                </a:path>
              </a:pathLst>
            </a:custGeom>
            <a:solidFill>
              <a:srgbClr val="666666"/>
            </a:solidFill>
            <a:ln w="0">
              <a:solidFill>
                <a:srgbClr val="6666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7" name=""/>
            <p:cNvSpPr/>
            <p:nvPr/>
          </p:nvSpPr>
          <p:spPr>
            <a:xfrm>
              <a:off x="4935240" y="3176280"/>
              <a:ext cx="7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8" name=""/>
            <p:cNvSpPr/>
            <p:nvPr/>
          </p:nvSpPr>
          <p:spPr>
            <a:xfrm>
              <a:off x="4879800" y="3154320"/>
              <a:ext cx="156960" cy="148680"/>
            </a:xfrm>
            <a:custGeom>
              <a:avLst/>
              <a:gdLst/>
              <a:ahLst/>
              <a:rect l="l" t="t" r="r" b="b"/>
              <a:pathLst>
                <a:path w="99" h="94">
                  <a:moveTo>
                    <a:pt x="40" y="14"/>
                  </a:moveTo>
                  <a:lnTo>
                    <a:pt x="44" y="9"/>
                  </a:lnTo>
                  <a:lnTo>
                    <a:pt x="49" y="5"/>
                  </a:lnTo>
                  <a:lnTo>
                    <a:pt x="54" y="5"/>
                  </a:lnTo>
                  <a:lnTo>
                    <a:pt x="64" y="0"/>
                  </a:lnTo>
                  <a:lnTo>
                    <a:pt x="69" y="0"/>
                  </a:lnTo>
                  <a:lnTo>
                    <a:pt x="79" y="0"/>
                  </a:lnTo>
                  <a:lnTo>
                    <a:pt x="84" y="0"/>
                  </a:lnTo>
                  <a:lnTo>
                    <a:pt x="89" y="5"/>
                  </a:lnTo>
                  <a:lnTo>
                    <a:pt x="94" y="9"/>
                  </a:lnTo>
                  <a:lnTo>
                    <a:pt x="99" y="14"/>
                  </a:lnTo>
                  <a:lnTo>
                    <a:pt x="99" y="19"/>
                  </a:lnTo>
                  <a:lnTo>
                    <a:pt x="99" y="24"/>
                  </a:lnTo>
                  <a:lnTo>
                    <a:pt x="94" y="29"/>
                  </a:lnTo>
                  <a:lnTo>
                    <a:pt x="94" y="34"/>
                  </a:lnTo>
                  <a:lnTo>
                    <a:pt x="89" y="39"/>
                  </a:lnTo>
                  <a:lnTo>
                    <a:pt x="89" y="44"/>
                  </a:lnTo>
                  <a:lnTo>
                    <a:pt x="84" y="49"/>
                  </a:lnTo>
                  <a:lnTo>
                    <a:pt x="84" y="49"/>
                  </a:lnTo>
                  <a:lnTo>
                    <a:pt x="84" y="54"/>
                  </a:lnTo>
                  <a:lnTo>
                    <a:pt x="79" y="59"/>
                  </a:lnTo>
                  <a:lnTo>
                    <a:pt x="79" y="64"/>
                  </a:lnTo>
                  <a:lnTo>
                    <a:pt x="74" y="69"/>
                  </a:lnTo>
                  <a:lnTo>
                    <a:pt x="69" y="74"/>
                  </a:lnTo>
                  <a:lnTo>
                    <a:pt x="59" y="74"/>
                  </a:lnTo>
                  <a:lnTo>
                    <a:pt x="54" y="79"/>
                  </a:lnTo>
                  <a:lnTo>
                    <a:pt x="49" y="79"/>
                  </a:lnTo>
                  <a:lnTo>
                    <a:pt x="40" y="84"/>
                  </a:lnTo>
                  <a:lnTo>
                    <a:pt x="35" y="84"/>
                  </a:lnTo>
                  <a:lnTo>
                    <a:pt x="30" y="84"/>
                  </a:lnTo>
                  <a:lnTo>
                    <a:pt x="20" y="89"/>
                  </a:lnTo>
                  <a:lnTo>
                    <a:pt x="15" y="89"/>
                  </a:lnTo>
                  <a:lnTo>
                    <a:pt x="10" y="89"/>
                  </a:lnTo>
                  <a:lnTo>
                    <a:pt x="0" y="9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9" name=""/>
            <p:cNvSpPr/>
            <p:nvPr/>
          </p:nvSpPr>
          <p:spPr>
            <a:xfrm>
              <a:off x="4205160" y="3122280"/>
              <a:ext cx="21960" cy="15480"/>
            </a:xfrm>
            <a:custGeom>
              <a:avLst/>
              <a:gdLst/>
              <a:ahLst/>
              <a:rect l="l" t="t" r="r" b="b"/>
              <a:pathLst>
                <a:path w="14" h="10">
                  <a:moveTo>
                    <a:pt x="14" y="5"/>
                  </a:moveTo>
                  <a:lnTo>
                    <a:pt x="10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5" y="10"/>
                  </a:lnTo>
                  <a:lnTo>
                    <a:pt x="5" y="10"/>
                  </a:lnTo>
                  <a:lnTo>
                    <a:pt x="10" y="10"/>
                  </a:lnTo>
                  <a:lnTo>
                    <a:pt x="14" y="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0" name=""/>
            <p:cNvSpPr/>
            <p:nvPr/>
          </p:nvSpPr>
          <p:spPr>
            <a:xfrm>
              <a:off x="4786200" y="3082680"/>
              <a:ext cx="15840" cy="31320"/>
            </a:xfrm>
            <a:custGeom>
              <a:avLst/>
              <a:gdLst/>
              <a:ahLst/>
              <a:rect l="l" t="t" r="r" b="b"/>
              <a:pathLst>
                <a:path w="10" h="20">
                  <a:moveTo>
                    <a:pt x="10" y="5"/>
                  </a:moveTo>
                  <a:lnTo>
                    <a:pt x="10" y="0"/>
                  </a:lnTo>
                  <a:lnTo>
                    <a:pt x="5" y="5"/>
                  </a:lnTo>
                  <a:lnTo>
                    <a:pt x="0" y="5"/>
                  </a:lnTo>
                  <a:lnTo>
                    <a:pt x="0" y="10"/>
                  </a:lnTo>
                  <a:lnTo>
                    <a:pt x="5" y="15"/>
                  </a:lnTo>
                  <a:lnTo>
                    <a:pt x="5" y="15"/>
                  </a:lnTo>
                  <a:lnTo>
                    <a:pt x="5" y="20"/>
                  </a:lnTo>
                  <a:lnTo>
                    <a:pt x="10" y="20"/>
                  </a:lnTo>
                  <a:lnTo>
                    <a:pt x="10" y="20"/>
                  </a:lnTo>
                  <a:lnTo>
                    <a:pt x="10" y="20"/>
                  </a:lnTo>
                  <a:lnTo>
                    <a:pt x="10" y="15"/>
                  </a:lnTo>
                  <a:lnTo>
                    <a:pt x="10" y="15"/>
                  </a:lnTo>
                  <a:lnTo>
                    <a:pt x="10" y="10"/>
                  </a:lnTo>
                  <a:lnTo>
                    <a:pt x="10" y="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1" name=""/>
            <p:cNvSpPr/>
            <p:nvPr/>
          </p:nvSpPr>
          <p:spPr>
            <a:xfrm>
              <a:off x="4071600" y="3035160"/>
              <a:ext cx="7920" cy="756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5" y="5"/>
                  </a:moveTo>
                  <a:lnTo>
                    <a:pt x="5" y="5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0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2" name=""/>
            <p:cNvSpPr/>
            <p:nvPr/>
          </p:nvSpPr>
          <p:spPr>
            <a:xfrm>
              <a:off x="4243320" y="3020760"/>
              <a:ext cx="23760" cy="45720"/>
            </a:xfrm>
            <a:custGeom>
              <a:avLst/>
              <a:gdLst/>
              <a:ahLst/>
              <a:rect l="l" t="t" r="r" b="b"/>
              <a:pathLst>
                <a:path w="15" h="29">
                  <a:moveTo>
                    <a:pt x="15" y="14"/>
                  </a:moveTo>
                  <a:lnTo>
                    <a:pt x="10" y="9"/>
                  </a:lnTo>
                  <a:lnTo>
                    <a:pt x="10" y="5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0" y="9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0" y="24"/>
                  </a:lnTo>
                  <a:lnTo>
                    <a:pt x="5" y="29"/>
                  </a:lnTo>
                  <a:lnTo>
                    <a:pt x="5" y="24"/>
                  </a:lnTo>
                  <a:lnTo>
                    <a:pt x="10" y="24"/>
                  </a:lnTo>
                  <a:lnTo>
                    <a:pt x="15" y="1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3" name=""/>
            <p:cNvSpPr/>
            <p:nvPr/>
          </p:nvSpPr>
          <p:spPr>
            <a:xfrm>
              <a:off x="4824000" y="3028680"/>
              <a:ext cx="32040" cy="45720"/>
            </a:xfrm>
            <a:custGeom>
              <a:avLst/>
              <a:gdLst/>
              <a:ahLst/>
              <a:rect l="l" t="t" r="r" b="b"/>
              <a:pathLst>
                <a:path w="20" h="29">
                  <a:moveTo>
                    <a:pt x="20" y="9"/>
                  </a:moveTo>
                  <a:lnTo>
                    <a:pt x="20" y="4"/>
                  </a:lnTo>
                  <a:lnTo>
                    <a:pt x="15" y="0"/>
                  </a:lnTo>
                  <a:lnTo>
                    <a:pt x="10" y="0"/>
                  </a:lnTo>
                  <a:lnTo>
                    <a:pt x="5" y="0"/>
                  </a:lnTo>
                  <a:lnTo>
                    <a:pt x="0" y="4"/>
                  </a:lnTo>
                  <a:lnTo>
                    <a:pt x="0" y="9"/>
                  </a:lnTo>
                  <a:lnTo>
                    <a:pt x="0" y="19"/>
                  </a:lnTo>
                  <a:lnTo>
                    <a:pt x="0" y="24"/>
                  </a:lnTo>
                  <a:lnTo>
                    <a:pt x="5" y="24"/>
                  </a:lnTo>
                  <a:lnTo>
                    <a:pt x="10" y="29"/>
                  </a:lnTo>
                  <a:lnTo>
                    <a:pt x="15" y="29"/>
                  </a:lnTo>
                  <a:lnTo>
                    <a:pt x="15" y="24"/>
                  </a:lnTo>
                  <a:lnTo>
                    <a:pt x="20" y="19"/>
                  </a:lnTo>
                  <a:lnTo>
                    <a:pt x="20" y="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4" name=""/>
            <p:cNvSpPr/>
            <p:nvPr/>
          </p:nvSpPr>
          <p:spPr>
            <a:xfrm flipV="1">
              <a:off x="2555640" y="2957040"/>
              <a:ext cx="39600" cy="39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5" name=""/>
            <p:cNvSpPr/>
            <p:nvPr/>
          </p:nvSpPr>
          <p:spPr>
            <a:xfrm>
              <a:off x="4290840" y="2957400"/>
              <a:ext cx="15840" cy="7560"/>
            </a:xfrm>
            <a:custGeom>
              <a:avLst/>
              <a:gdLst/>
              <a:ahLst/>
              <a:rect l="l" t="t" r="r" b="b"/>
              <a:pathLst>
                <a:path w="10" h="5">
                  <a:moveTo>
                    <a:pt x="10" y="0"/>
                  </a:moveTo>
                  <a:lnTo>
                    <a:pt x="5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1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6" name=""/>
            <p:cNvSpPr/>
            <p:nvPr/>
          </p:nvSpPr>
          <p:spPr>
            <a:xfrm>
              <a:off x="4597200" y="2957400"/>
              <a:ext cx="47520" cy="7560"/>
            </a:xfrm>
            <a:custGeom>
              <a:avLst/>
              <a:gdLst/>
              <a:ahLst/>
              <a:rect l="l" t="t" r="r" b="b"/>
              <a:pathLst>
                <a:path w="30" h="5">
                  <a:moveTo>
                    <a:pt x="30" y="0"/>
                  </a:moveTo>
                  <a:lnTo>
                    <a:pt x="25" y="0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10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5" y="5"/>
                  </a:lnTo>
                  <a:lnTo>
                    <a:pt x="5" y="5"/>
                  </a:lnTo>
                  <a:lnTo>
                    <a:pt x="10" y="5"/>
                  </a:lnTo>
                  <a:lnTo>
                    <a:pt x="15" y="5"/>
                  </a:lnTo>
                  <a:lnTo>
                    <a:pt x="20" y="5"/>
                  </a:lnTo>
                  <a:lnTo>
                    <a:pt x="25" y="5"/>
                  </a:lnTo>
                  <a:lnTo>
                    <a:pt x="3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7" name=""/>
            <p:cNvSpPr/>
            <p:nvPr/>
          </p:nvSpPr>
          <p:spPr>
            <a:xfrm flipV="1">
              <a:off x="3647880" y="2783880"/>
              <a:ext cx="6120" cy="7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8" name=""/>
            <p:cNvSpPr/>
            <p:nvPr/>
          </p:nvSpPr>
          <p:spPr>
            <a:xfrm>
              <a:off x="3654000" y="2604960"/>
              <a:ext cx="338400" cy="178920"/>
            </a:xfrm>
            <a:custGeom>
              <a:avLst/>
              <a:gdLst/>
              <a:ahLst/>
              <a:rect l="l" t="t" r="r" b="b"/>
              <a:pathLst>
                <a:path w="213" h="113">
                  <a:moveTo>
                    <a:pt x="0" y="113"/>
                  </a:moveTo>
                  <a:lnTo>
                    <a:pt x="5" y="108"/>
                  </a:lnTo>
                  <a:lnTo>
                    <a:pt x="10" y="103"/>
                  </a:lnTo>
                  <a:lnTo>
                    <a:pt x="15" y="98"/>
                  </a:lnTo>
                  <a:lnTo>
                    <a:pt x="20" y="98"/>
                  </a:lnTo>
                  <a:lnTo>
                    <a:pt x="25" y="94"/>
                  </a:lnTo>
                  <a:lnTo>
                    <a:pt x="30" y="89"/>
                  </a:lnTo>
                  <a:lnTo>
                    <a:pt x="35" y="84"/>
                  </a:lnTo>
                  <a:lnTo>
                    <a:pt x="40" y="79"/>
                  </a:lnTo>
                  <a:lnTo>
                    <a:pt x="45" y="74"/>
                  </a:lnTo>
                  <a:lnTo>
                    <a:pt x="45" y="69"/>
                  </a:lnTo>
                  <a:lnTo>
                    <a:pt x="50" y="64"/>
                  </a:lnTo>
                  <a:lnTo>
                    <a:pt x="55" y="59"/>
                  </a:lnTo>
                  <a:lnTo>
                    <a:pt x="60" y="59"/>
                  </a:lnTo>
                  <a:lnTo>
                    <a:pt x="65" y="49"/>
                  </a:lnTo>
                  <a:lnTo>
                    <a:pt x="70" y="44"/>
                  </a:lnTo>
                  <a:lnTo>
                    <a:pt x="75" y="44"/>
                  </a:lnTo>
                  <a:lnTo>
                    <a:pt x="80" y="39"/>
                  </a:lnTo>
                  <a:lnTo>
                    <a:pt x="85" y="34"/>
                  </a:lnTo>
                  <a:lnTo>
                    <a:pt x="94" y="34"/>
                  </a:lnTo>
                  <a:lnTo>
                    <a:pt x="99" y="29"/>
                  </a:lnTo>
                  <a:lnTo>
                    <a:pt x="104" y="24"/>
                  </a:lnTo>
                  <a:lnTo>
                    <a:pt x="109" y="24"/>
                  </a:lnTo>
                  <a:lnTo>
                    <a:pt x="119" y="19"/>
                  </a:lnTo>
                  <a:lnTo>
                    <a:pt x="124" y="14"/>
                  </a:lnTo>
                  <a:lnTo>
                    <a:pt x="129" y="14"/>
                  </a:lnTo>
                  <a:lnTo>
                    <a:pt x="139" y="10"/>
                  </a:lnTo>
                  <a:lnTo>
                    <a:pt x="144" y="10"/>
                  </a:lnTo>
                  <a:lnTo>
                    <a:pt x="154" y="10"/>
                  </a:lnTo>
                  <a:lnTo>
                    <a:pt x="159" y="10"/>
                  </a:lnTo>
                  <a:lnTo>
                    <a:pt x="169" y="5"/>
                  </a:lnTo>
                  <a:lnTo>
                    <a:pt x="178" y="5"/>
                  </a:lnTo>
                  <a:lnTo>
                    <a:pt x="183" y="0"/>
                  </a:lnTo>
                  <a:lnTo>
                    <a:pt x="193" y="0"/>
                  </a:lnTo>
                  <a:lnTo>
                    <a:pt x="198" y="5"/>
                  </a:lnTo>
                  <a:lnTo>
                    <a:pt x="203" y="5"/>
                  </a:lnTo>
                  <a:lnTo>
                    <a:pt x="213" y="10"/>
                  </a:lnTo>
                  <a:lnTo>
                    <a:pt x="213" y="14"/>
                  </a:lnTo>
                  <a:lnTo>
                    <a:pt x="203" y="14"/>
                  </a:lnTo>
                  <a:lnTo>
                    <a:pt x="198" y="19"/>
                  </a:lnTo>
                  <a:lnTo>
                    <a:pt x="193" y="19"/>
                  </a:lnTo>
                  <a:lnTo>
                    <a:pt x="183" y="19"/>
                  </a:lnTo>
                  <a:lnTo>
                    <a:pt x="174" y="19"/>
                  </a:lnTo>
                  <a:lnTo>
                    <a:pt x="169" y="19"/>
                  </a:lnTo>
                  <a:lnTo>
                    <a:pt x="159" y="19"/>
                  </a:lnTo>
                  <a:lnTo>
                    <a:pt x="159" y="19"/>
                  </a:lnTo>
                  <a:lnTo>
                    <a:pt x="159" y="24"/>
                  </a:lnTo>
                  <a:lnTo>
                    <a:pt x="159" y="34"/>
                  </a:lnTo>
                  <a:lnTo>
                    <a:pt x="159" y="39"/>
                  </a:lnTo>
                  <a:lnTo>
                    <a:pt x="159" y="49"/>
                  </a:lnTo>
                  <a:lnTo>
                    <a:pt x="154" y="54"/>
                  </a:lnTo>
                  <a:lnTo>
                    <a:pt x="154" y="59"/>
                  </a:lnTo>
                  <a:lnTo>
                    <a:pt x="144" y="64"/>
                  </a:lnTo>
                  <a:lnTo>
                    <a:pt x="139" y="64"/>
                  </a:lnTo>
                  <a:lnTo>
                    <a:pt x="129" y="64"/>
                  </a:lnTo>
                  <a:lnTo>
                    <a:pt x="119" y="59"/>
                  </a:lnTo>
                  <a:lnTo>
                    <a:pt x="109" y="59"/>
                  </a:lnTo>
                  <a:lnTo>
                    <a:pt x="109" y="64"/>
                  </a:lnTo>
                  <a:lnTo>
                    <a:pt x="104" y="6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9" name=""/>
            <p:cNvSpPr/>
            <p:nvPr/>
          </p:nvSpPr>
          <p:spPr>
            <a:xfrm>
              <a:off x="3819240" y="2714400"/>
              <a:ext cx="180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0" name=""/>
            <p:cNvSpPr/>
            <p:nvPr/>
          </p:nvSpPr>
          <p:spPr>
            <a:xfrm>
              <a:off x="3709800" y="2722320"/>
              <a:ext cx="23760" cy="45720"/>
            </a:xfrm>
            <a:custGeom>
              <a:avLst/>
              <a:gdLst/>
              <a:ahLst/>
              <a:rect l="l" t="t" r="r" b="b"/>
              <a:pathLst>
                <a:path w="15" h="29">
                  <a:moveTo>
                    <a:pt x="15" y="29"/>
                  </a:moveTo>
                  <a:lnTo>
                    <a:pt x="10" y="29"/>
                  </a:lnTo>
                  <a:lnTo>
                    <a:pt x="5" y="10"/>
                  </a:lnTo>
                  <a:lnTo>
                    <a:pt x="5" y="10"/>
                  </a:lnTo>
                  <a:lnTo>
                    <a:pt x="5" y="10"/>
                  </a:lnTo>
                  <a:lnTo>
                    <a:pt x="5" y="10"/>
                  </a:lnTo>
                  <a:lnTo>
                    <a:pt x="5" y="10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0"/>
                  </a:lnTo>
                  <a:lnTo>
                    <a:pt x="5" y="0"/>
                  </a:lnTo>
                  <a:lnTo>
                    <a:pt x="15" y="29"/>
                  </a:lnTo>
                  <a:close/>
                </a:path>
              </a:pathLst>
            </a:custGeom>
            <a:solidFill>
              <a:srgbClr val="666666"/>
            </a:solidFill>
            <a:ln w="0">
              <a:solidFill>
                <a:srgbClr val="6666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1" name=""/>
            <p:cNvSpPr/>
            <p:nvPr/>
          </p:nvSpPr>
          <p:spPr>
            <a:xfrm>
              <a:off x="3741480" y="2714400"/>
              <a:ext cx="31680" cy="45720"/>
            </a:xfrm>
            <a:custGeom>
              <a:avLst/>
              <a:gdLst/>
              <a:ahLst/>
              <a:rect l="l" t="t" r="r" b="b"/>
              <a:pathLst>
                <a:path w="20" h="29">
                  <a:moveTo>
                    <a:pt x="5" y="15"/>
                  </a:moveTo>
                  <a:lnTo>
                    <a:pt x="5" y="15"/>
                  </a:lnTo>
                  <a:lnTo>
                    <a:pt x="5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5"/>
                  </a:lnTo>
                  <a:lnTo>
                    <a:pt x="15" y="5"/>
                  </a:lnTo>
                  <a:lnTo>
                    <a:pt x="15" y="5"/>
                  </a:lnTo>
                  <a:lnTo>
                    <a:pt x="15" y="5"/>
                  </a:lnTo>
                  <a:lnTo>
                    <a:pt x="15" y="10"/>
                  </a:lnTo>
                  <a:lnTo>
                    <a:pt x="15" y="10"/>
                  </a:lnTo>
                  <a:lnTo>
                    <a:pt x="15" y="10"/>
                  </a:lnTo>
                  <a:lnTo>
                    <a:pt x="15" y="10"/>
                  </a:lnTo>
                  <a:lnTo>
                    <a:pt x="15" y="10"/>
                  </a:lnTo>
                  <a:lnTo>
                    <a:pt x="15" y="10"/>
                  </a:lnTo>
                  <a:lnTo>
                    <a:pt x="15" y="10"/>
                  </a:lnTo>
                  <a:lnTo>
                    <a:pt x="15" y="10"/>
                  </a:lnTo>
                  <a:lnTo>
                    <a:pt x="15" y="15"/>
                  </a:lnTo>
                  <a:lnTo>
                    <a:pt x="20" y="15"/>
                  </a:lnTo>
                  <a:lnTo>
                    <a:pt x="20" y="15"/>
                  </a:lnTo>
                  <a:lnTo>
                    <a:pt x="20" y="15"/>
                  </a:lnTo>
                  <a:lnTo>
                    <a:pt x="20" y="15"/>
                  </a:lnTo>
                  <a:lnTo>
                    <a:pt x="20" y="15"/>
                  </a:lnTo>
                  <a:lnTo>
                    <a:pt x="20" y="20"/>
                  </a:lnTo>
                  <a:lnTo>
                    <a:pt x="20" y="20"/>
                  </a:lnTo>
                  <a:lnTo>
                    <a:pt x="20" y="25"/>
                  </a:lnTo>
                  <a:lnTo>
                    <a:pt x="20" y="25"/>
                  </a:lnTo>
                  <a:lnTo>
                    <a:pt x="20" y="25"/>
                  </a:lnTo>
                  <a:lnTo>
                    <a:pt x="20" y="25"/>
                  </a:lnTo>
                  <a:lnTo>
                    <a:pt x="15" y="29"/>
                  </a:lnTo>
                  <a:lnTo>
                    <a:pt x="15" y="29"/>
                  </a:lnTo>
                  <a:lnTo>
                    <a:pt x="10" y="29"/>
                  </a:lnTo>
                  <a:lnTo>
                    <a:pt x="10" y="29"/>
                  </a:lnTo>
                  <a:lnTo>
                    <a:pt x="10" y="29"/>
                  </a:lnTo>
                  <a:lnTo>
                    <a:pt x="5" y="29"/>
                  </a:lnTo>
                  <a:lnTo>
                    <a:pt x="5" y="29"/>
                  </a:lnTo>
                  <a:lnTo>
                    <a:pt x="5" y="25"/>
                  </a:lnTo>
                  <a:lnTo>
                    <a:pt x="5" y="25"/>
                  </a:lnTo>
                  <a:lnTo>
                    <a:pt x="0" y="25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15"/>
                  </a:lnTo>
                  <a:lnTo>
                    <a:pt x="5" y="15"/>
                  </a:lnTo>
                  <a:lnTo>
                    <a:pt x="5" y="15"/>
                  </a:lnTo>
                  <a:lnTo>
                    <a:pt x="5" y="15"/>
                  </a:lnTo>
                  <a:close/>
                  <a:moveTo>
                    <a:pt x="0" y="10"/>
                  </a:moveTo>
                  <a:lnTo>
                    <a:pt x="5" y="10"/>
                  </a:lnTo>
                  <a:lnTo>
                    <a:pt x="5" y="10"/>
                  </a:lnTo>
                  <a:lnTo>
                    <a:pt x="5" y="10"/>
                  </a:lnTo>
                  <a:lnTo>
                    <a:pt x="5" y="10"/>
                  </a:lnTo>
                  <a:lnTo>
                    <a:pt x="5" y="10"/>
                  </a:lnTo>
                  <a:lnTo>
                    <a:pt x="5" y="10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10"/>
                  </a:lnTo>
                  <a:lnTo>
                    <a:pt x="0" y="10"/>
                  </a:lnTo>
                  <a:close/>
                  <a:moveTo>
                    <a:pt x="5" y="20"/>
                  </a:moveTo>
                  <a:lnTo>
                    <a:pt x="5" y="25"/>
                  </a:lnTo>
                  <a:lnTo>
                    <a:pt x="5" y="25"/>
                  </a:lnTo>
                  <a:lnTo>
                    <a:pt x="5" y="25"/>
                  </a:lnTo>
                  <a:lnTo>
                    <a:pt x="5" y="25"/>
                  </a:lnTo>
                  <a:lnTo>
                    <a:pt x="10" y="25"/>
                  </a:lnTo>
                  <a:lnTo>
                    <a:pt x="10" y="25"/>
                  </a:lnTo>
                  <a:lnTo>
                    <a:pt x="10" y="25"/>
                  </a:lnTo>
                  <a:lnTo>
                    <a:pt x="10" y="25"/>
                  </a:lnTo>
                  <a:lnTo>
                    <a:pt x="10" y="25"/>
                  </a:lnTo>
                  <a:lnTo>
                    <a:pt x="10" y="25"/>
                  </a:lnTo>
                  <a:lnTo>
                    <a:pt x="15" y="25"/>
                  </a:lnTo>
                  <a:lnTo>
                    <a:pt x="15" y="25"/>
                  </a:lnTo>
                  <a:lnTo>
                    <a:pt x="15" y="25"/>
                  </a:lnTo>
                  <a:lnTo>
                    <a:pt x="15" y="25"/>
                  </a:lnTo>
                  <a:lnTo>
                    <a:pt x="15" y="25"/>
                  </a:lnTo>
                  <a:lnTo>
                    <a:pt x="15" y="25"/>
                  </a:lnTo>
                  <a:lnTo>
                    <a:pt x="15" y="20"/>
                  </a:lnTo>
                  <a:lnTo>
                    <a:pt x="15" y="20"/>
                  </a:lnTo>
                  <a:lnTo>
                    <a:pt x="15" y="20"/>
                  </a:lnTo>
                  <a:lnTo>
                    <a:pt x="15" y="20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0" y="15"/>
                  </a:lnTo>
                  <a:lnTo>
                    <a:pt x="10" y="15"/>
                  </a:lnTo>
                  <a:lnTo>
                    <a:pt x="10" y="15"/>
                  </a:lnTo>
                  <a:lnTo>
                    <a:pt x="10" y="15"/>
                  </a:lnTo>
                  <a:lnTo>
                    <a:pt x="5" y="15"/>
                  </a:lnTo>
                  <a:lnTo>
                    <a:pt x="5" y="15"/>
                  </a:lnTo>
                  <a:lnTo>
                    <a:pt x="5" y="20"/>
                  </a:lnTo>
                  <a:lnTo>
                    <a:pt x="5" y="20"/>
                  </a:lnTo>
                  <a:lnTo>
                    <a:pt x="5" y="20"/>
                  </a:lnTo>
                  <a:lnTo>
                    <a:pt x="5" y="20"/>
                  </a:lnTo>
                  <a:lnTo>
                    <a:pt x="5" y="20"/>
                  </a:lnTo>
                  <a:close/>
                </a:path>
              </a:pathLst>
            </a:custGeom>
            <a:solidFill>
              <a:srgbClr val="666666"/>
            </a:solidFill>
            <a:ln w="0">
              <a:solidFill>
                <a:srgbClr val="6666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2" name=""/>
            <p:cNvSpPr/>
            <p:nvPr/>
          </p:nvSpPr>
          <p:spPr>
            <a:xfrm>
              <a:off x="3773160" y="2698560"/>
              <a:ext cx="30240" cy="47160"/>
            </a:xfrm>
            <a:custGeom>
              <a:avLst/>
              <a:gdLst/>
              <a:ahLst/>
              <a:rect l="l" t="t" r="r" b="b"/>
              <a:pathLst>
                <a:path w="19" h="30">
                  <a:moveTo>
                    <a:pt x="0" y="20"/>
                  </a:moveTo>
                  <a:lnTo>
                    <a:pt x="0" y="20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10" y="0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14" y="5"/>
                  </a:lnTo>
                  <a:lnTo>
                    <a:pt x="14" y="5"/>
                  </a:lnTo>
                  <a:lnTo>
                    <a:pt x="14" y="5"/>
                  </a:lnTo>
                  <a:lnTo>
                    <a:pt x="14" y="5"/>
                  </a:lnTo>
                  <a:lnTo>
                    <a:pt x="14" y="5"/>
                  </a:lnTo>
                  <a:lnTo>
                    <a:pt x="14" y="5"/>
                  </a:lnTo>
                  <a:lnTo>
                    <a:pt x="19" y="10"/>
                  </a:lnTo>
                  <a:lnTo>
                    <a:pt x="19" y="10"/>
                  </a:lnTo>
                  <a:lnTo>
                    <a:pt x="19" y="10"/>
                  </a:lnTo>
                  <a:lnTo>
                    <a:pt x="19" y="10"/>
                  </a:lnTo>
                  <a:lnTo>
                    <a:pt x="19" y="15"/>
                  </a:lnTo>
                  <a:lnTo>
                    <a:pt x="19" y="15"/>
                  </a:lnTo>
                  <a:lnTo>
                    <a:pt x="19" y="20"/>
                  </a:lnTo>
                  <a:lnTo>
                    <a:pt x="19" y="20"/>
                  </a:lnTo>
                  <a:lnTo>
                    <a:pt x="19" y="25"/>
                  </a:lnTo>
                  <a:lnTo>
                    <a:pt x="19" y="25"/>
                  </a:lnTo>
                  <a:lnTo>
                    <a:pt x="19" y="25"/>
                  </a:lnTo>
                  <a:lnTo>
                    <a:pt x="19" y="25"/>
                  </a:lnTo>
                  <a:lnTo>
                    <a:pt x="19" y="30"/>
                  </a:lnTo>
                  <a:lnTo>
                    <a:pt x="19" y="30"/>
                  </a:lnTo>
                  <a:lnTo>
                    <a:pt x="19" y="30"/>
                  </a:lnTo>
                  <a:lnTo>
                    <a:pt x="14" y="30"/>
                  </a:lnTo>
                  <a:lnTo>
                    <a:pt x="14" y="30"/>
                  </a:lnTo>
                  <a:lnTo>
                    <a:pt x="14" y="30"/>
                  </a:lnTo>
                  <a:lnTo>
                    <a:pt x="10" y="30"/>
                  </a:lnTo>
                  <a:lnTo>
                    <a:pt x="10" y="30"/>
                  </a:lnTo>
                  <a:lnTo>
                    <a:pt x="10" y="30"/>
                  </a:lnTo>
                  <a:lnTo>
                    <a:pt x="5" y="30"/>
                  </a:lnTo>
                  <a:lnTo>
                    <a:pt x="5" y="25"/>
                  </a:lnTo>
                  <a:lnTo>
                    <a:pt x="5" y="25"/>
                  </a:lnTo>
                  <a:lnTo>
                    <a:pt x="0" y="20"/>
                  </a:lnTo>
                  <a:close/>
                  <a:moveTo>
                    <a:pt x="5" y="20"/>
                  </a:moveTo>
                  <a:lnTo>
                    <a:pt x="5" y="20"/>
                  </a:lnTo>
                  <a:lnTo>
                    <a:pt x="10" y="25"/>
                  </a:lnTo>
                  <a:lnTo>
                    <a:pt x="10" y="25"/>
                  </a:lnTo>
                  <a:lnTo>
                    <a:pt x="10" y="30"/>
                  </a:lnTo>
                  <a:lnTo>
                    <a:pt x="10" y="30"/>
                  </a:lnTo>
                  <a:lnTo>
                    <a:pt x="14" y="30"/>
                  </a:lnTo>
                  <a:lnTo>
                    <a:pt x="14" y="30"/>
                  </a:lnTo>
                  <a:lnTo>
                    <a:pt x="14" y="30"/>
                  </a:lnTo>
                  <a:lnTo>
                    <a:pt x="14" y="30"/>
                  </a:lnTo>
                  <a:lnTo>
                    <a:pt x="14" y="30"/>
                  </a:lnTo>
                  <a:lnTo>
                    <a:pt x="19" y="25"/>
                  </a:lnTo>
                  <a:lnTo>
                    <a:pt x="19" y="25"/>
                  </a:lnTo>
                  <a:lnTo>
                    <a:pt x="19" y="25"/>
                  </a:lnTo>
                  <a:lnTo>
                    <a:pt x="19" y="20"/>
                  </a:lnTo>
                  <a:lnTo>
                    <a:pt x="19" y="20"/>
                  </a:lnTo>
                  <a:lnTo>
                    <a:pt x="14" y="15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10"/>
                  </a:lnTo>
                  <a:lnTo>
                    <a:pt x="5" y="10"/>
                  </a:lnTo>
                  <a:lnTo>
                    <a:pt x="5" y="10"/>
                  </a:lnTo>
                  <a:lnTo>
                    <a:pt x="5" y="15"/>
                  </a:lnTo>
                  <a:lnTo>
                    <a:pt x="5" y="15"/>
                  </a:lnTo>
                  <a:lnTo>
                    <a:pt x="5" y="20"/>
                  </a:lnTo>
                  <a:close/>
                </a:path>
              </a:pathLst>
            </a:custGeom>
            <a:solidFill>
              <a:srgbClr val="666666"/>
            </a:solidFill>
            <a:ln w="0">
              <a:solidFill>
                <a:srgbClr val="6666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3" name=""/>
            <p:cNvSpPr/>
            <p:nvPr/>
          </p:nvSpPr>
          <p:spPr>
            <a:xfrm flipH="1">
              <a:off x="3686040" y="2760480"/>
              <a:ext cx="7920" cy="7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4" name=""/>
            <p:cNvSpPr/>
            <p:nvPr/>
          </p:nvSpPr>
          <p:spPr>
            <a:xfrm>
              <a:off x="3647880" y="2768400"/>
              <a:ext cx="38160" cy="47160"/>
            </a:xfrm>
            <a:custGeom>
              <a:avLst/>
              <a:gdLst/>
              <a:ahLst/>
              <a:rect l="l" t="t" r="r" b="b"/>
              <a:pathLst>
                <a:path w="24" h="30">
                  <a:moveTo>
                    <a:pt x="24" y="0"/>
                  </a:moveTo>
                  <a:lnTo>
                    <a:pt x="19" y="5"/>
                  </a:lnTo>
                  <a:lnTo>
                    <a:pt x="19" y="10"/>
                  </a:lnTo>
                  <a:lnTo>
                    <a:pt x="14" y="20"/>
                  </a:lnTo>
                  <a:lnTo>
                    <a:pt x="9" y="25"/>
                  </a:lnTo>
                  <a:lnTo>
                    <a:pt x="9" y="30"/>
                  </a:lnTo>
                  <a:lnTo>
                    <a:pt x="4" y="30"/>
                  </a:lnTo>
                  <a:lnTo>
                    <a:pt x="4" y="30"/>
                  </a:lnTo>
                  <a:lnTo>
                    <a:pt x="0" y="25"/>
                  </a:lnTo>
                  <a:lnTo>
                    <a:pt x="0" y="1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5" name=""/>
            <p:cNvSpPr/>
            <p:nvPr/>
          </p:nvSpPr>
          <p:spPr>
            <a:xfrm>
              <a:off x="4376520" y="2597040"/>
              <a:ext cx="1440" cy="23400"/>
            </a:xfrm>
            <a:custGeom>
              <a:avLst/>
              <a:gdLst/>
              <a:ahLst/>
              <a:rect l="l" t="t" r="r" b="b"/>
              <a:pathLst>
                <a:path w="0" h="15">
                  <a:moveTo>
                    <a:pt x="0" y="15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6" name=""/>
            <p:cNvSpPr/>
            <p:nvPr/>
          </p:nvSpPr>
          <p:spPr>
            <a:xfrm>
              <a:off x="4047840" y="2565360"/>
              <a:ext cx="77760" cy="31320"/>
            </a:xfrm>
            <a:custGeom>
              <a:avLst/>
              <a:gdLst/>
              <a:ahLst/>
              <a:rect l="l" t="t" r="r" b="b"/>
              <a:pathLst>
                <a:path w="49" h="20">
                  <a:moveTo>
                    <a:pt x="0" y="10"/>
                  </a:moveTo>
                  <a:lnTo>
                    <a:pt x="5" y="5"/>
                  </a:lnTo>
                  <a:lnTo>
                    <a:pt x="10" y="5"/>
                  </a:lnTo>
                  <a:lnTo>
                    <a:pt x="15" y="5"/>
                  </a:lnTo>
                  <a:lnTo>
                    <a:pt x="20" y="0"/>
                  </a:lnTo>
                  <a:lnTo>
                    <a:pt x="24" y="0"/>
                  </a:lnTo>
                  <a:lnTo>
                    <a:pt x="29" y="0"/>
                  </a:lnTo>
                  <a:lnTo>
                    <a:pt x="39" y="5"/>
                  </a:lnTo>
                  <a:lnTo>
                    <a:pt x="44" y="5"/>
                  </a:lnTo>
                  <a:lnTo>
                    <a:pt x="49" y="5"/>
                  </a:lnTo>
                  <a:lnTo>
                    <a:pt x="49" y="10"/>
                  </a:lnTo>
                  <a:lnTo>
                    <a:pt x="44" y="10"/>
                  </a:lnTo>
                  <a:lnTo>
                    <a:pt x="39" y="15"/>
                  </a:lnTo>
                  <a:lnTo>
                    <a:pt x="34" y="15"/>
                  </a:lnTo>
                  <a:lnTo>
                    <a:pt x="29" y="15"/>
                  </a:lnTo>
                  <a:lnTo>
                    <a:pt x="24" y="20"/>
                  </a:lnTo>
                  <a:lnTo>
                    <a:pt x="20" y="20"/>
                  </a:lnTo>
                  <a:lnTo>
                    <a:pt x="15" y="15"/>
                  </a:lnTo>
                  <a:lnTo>
                    <a:pt x="10" y="15"/>
                  </a:lnTo>
                  <a:lnTo>
                    <a:pt x="5" y="15"/>
                  </a:lnTo>
                  <a:lnTo>
                    <a:pt x="0" y="1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7" name=""/>
            <p:cNvSpPr/>
            <p:nvPr/>
          </p:nvSpPr>
          <p:spPr>
            <a:xfrm>
              <a:off x="4205160" y="2525400"/>
              <a:ext cx="54000" cy="23400"/>
            </a:xfrm>
            <a:custGeom>
              <a:avLst/>
              <a:gdLst/>
              <a:ahLst/>
              <a:rect l="l" t="t" r="r" b="b"/>
              <a:pathLst>
                <a:path w="34" h="15">
                  <a:moveTo>
                    <a:pt x="0" y="5"/>
                  </a:moveTo>
                  <a:lnTo>
                    <a:pt x="5" y="5"/>
                  </a:lnTo>
                  <a:lnTo>
                    <a:pt x="5" y="5"/>
                  </a:lnTo>
                  <a:lnTo>
                    <a:pt x="10" y="5"/>
                  </a:lnTo>
                  <a:lnTo>
                    <a:pt x="14" y="5"/>
                  </a:lnTo>
                  <a:lnTo>
                    <a:pt x="19" y="0"/>
                  </a:lnTo>
                  <a:lnTo>
                    <a:pt x="24" y="0"/>
                  </a:lnTo>
                  <a:lnTo>
                    <a:pt x="24" y="5"/>
                  </a:lnTo>
                  <a:lnTo>
                    <a:pt x="29" y="5"/>
                  </a:lnTo>
                  <a:lnTo>
                    <a:pt x="34" y="5"/>
                  </a:lnTo>
                  <a:lnTo>
                    <a:pt x="34" y="5"/>
                  </a:lnTo>
                  <a:lnTo>
                    <a:pt x="34" y="10"/>
                  </a:lnTo>
                  <a:lnTo>
                    <a:pt x="29" y="10"/>
                  </a:lnTo>
                  <a:lnTo>
                    <a:pt x="24" y="10"/>
                  </a:lnTo>
                  <a:lnTo>
                    <a:pt x="19" y="15"/>
                  </a:lnTo>
                  <a:lnTo>
                    <a:pt x="14" y="15"/>
                  </a:lnTo>
                  <a:lnTo>
                    <a:pt x="14" y="15"/>
                  </a:lnTo>
                  <a:lnTo>
                    <a:pt x="10" y="10"/>
                  </a:lnTo>
                  <a:lnTo>
                    <a:pt x="5" y="10"/>
                  </a:lnTo>
                  <a:lnTo>
                    <a:pt x="0" y="10"/>
                  </a:lnTo>
                  <a:lnTo>
                    <a:pt x="0" y="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8" name=""/>
            <p:cNvSpPr/>
            <p:nvPr/>
          </p:nvSpPr>
          <p:spPr>
            <a:xfrm>
              <a:off x="4362120" y="2485800"/>
              <a:ext cx="30240" cy="15480"/>
            </a:xfrm>
            <a:custGeom>
              <a:avLst/>
              <a:gdLst/>
              <a:ahLst/>
              <a:rect l="l" t="t" r="r" b="b"/>
              <a:pathLst>
                <a:path w="19" h="10">
                  <a:moveTo>
                    <a:pt x="0" y="5"/>
                  </a:moveTo>
                  <a:lnTo>
                    <a:pt x="0" y="5"/>
                  </a:lnTo>
                  <a:lnTo>
                    <a:pt x="5" y="0"/>
                  </a:lnTo>
                  <a:lnTo>
                    <a:pt x="9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9" y="5"/>
                  </a:lnTo>
                  <a:lnTo>
                    <a:pt x="19" y="5"/>
                  </a:lnTo>
                  <a:lnTo>
                    <a:pt x="19" y="10"/>
                  </a:lnTo>
                  <a:lnTo>
                    <a:pt x="14" y="10"/>
                  </a:lnTo>
                  <a:lnTo>
                    <a:pt x="9" y="10"/>
                  </a:lnTo>
                  <a:lnTo>
                    <a:pt x="5" y="10"/>
                  </a:lnTo>
                  <a:lnTo>
                    <a:pt x="5" y="10"/>
                  </a:lnTo>
                  <a:lnTo>
                    <a:pt x="0" y="10"/>
                  </a:lnTo>
                  <a:lnTo>
                    <a:pt x="0" y="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9" name=""/>
            <p:cNvSpPr/>
            <p:nvPr/>
          </p:nvSpPr>
          <p:spPr>
            <a:xfrm>
              <a:off x="3765240" y="3828960"/>
              <a:ext cx="61920" cy="29520"/>
            </a:xfrm>
            <a:custGeom>
              <a:avLst/>
              <a:gdLst/>
              <a:ahLst/>
              <a:rect l="l" t="t" r="r" b="b"/>
              <a:pathLst>
                <a:path w="39" h="19">
                  <a:moveTo>
                    <a:pt x="0" y="14"/>
                  </a:moveTo>
                  <a:lnTo>
                    <a:pt x="5" y="10"/>
                  </a:lnTo>
                  <a:lnTo>
                    <a:pt x="5" y="5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15" y="0"/>
                  </a:lnTo>
                  <a:lnTo>
                    <a:pt x="19" y="0"/>
                  </a:lnTo>
                  <a:lnTo>
                    <a:pt x="24" y="5"/>
                  </a:lnTo>
                  <a:lnTo>
                    <a:pt x="29" y="5"/>
                  </a:lnTo>
                  <a:lnTo>
                    <a:pt x="34" y="10"/>
                  </a:lnTo>
                  <a:lnTo>
                    <a:pt x="34" y="10"/>
                  </a:lnTo>
                  <a:lnTo>
                    <a:pt x="39" y="14"/>
                  </a:lnTo>
                  <a:lnTo>
                    <a:pt x="39" y="14"/>
                  </a:lnTo>
                  <a:lnTo>
                    <a:pt x="34" y="19"/>
                  </a:lnTo>
                  <a:lnTo>
                    <a:pt x="29" y="19"/>
                  </a:lnTo>
                  <a:lnTo>
                    <a:pt x="24" y="19"/>
                  </a:lnTo>
                  <a:lnTo>
                    <a:pt x="19" y="19"/>
                  </a:lnTo>
                  <a:lnTo>
                    <a:pt x="15" y="19"/>
                  </a:lnTo>
                  <a:lnTo>
                    <a:pt x="10" y="19"/>
                  </a:lnTo>
                  <a:lnTo>
                    <a:pt x="5" y="19"/>
                  </a:lnTo>
                  <a:lnTo>
                    <a:pt x="0" y="1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0" name=""/>
            <p:cNvSpPr/>
            <p:nvPr/>
          </p:nvSpPr>
          <p:spPr>
            <a:xfrm>
              <a:off x="2720880" y="3679560"/>
              <a:ext cx="7920" cy="756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1" name=""/>
            <p:cNvSpPr/>
            <p:nvPr/>
          </p:nvSpPr>
          <p:spPr>
            <a:xfrm>
              <a:off x="2680920" y="3592440"/>
              <a:ext cx="15840" cy="39240"/>
            </a:xfrm>
            <a:custGeom>
              <a:avLst/>
              <a:gdLst/>
              <a:ahLst/>
              <a:rect l="l" t="t" r="r" b="b"/>
              <a:pathLst>
                <a:path w="10" h="25">
                  <a:moveTo>
                    <a:pt x="0" y="5"/>
                  </a:moveTo>
                  <a:lnTo>
                    <a:pt x="5" y="0"/>
                  </a:lnTo>
                  <a:lnTo>
                    <a:pt x="5" y="5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5" y="15"/>
                  </a:lnTo>
                  <a:lnTo>
                    <a:pt x="5" y="20"/>
                  </a:lnTo>
                  <a:lnTo>
                    <a:pt x="5" y="20"/>
                  </a:lnTo>
                  <a:lnTo>
                    <a:pt x="5" y="25"/>
                  </a:lnTo>
                  <a:lnTo>
                    <a:pt x="0" y="25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15"/>
                  </a:lnTo>
                  <a:lnTo>
                    <a:pt x="0" y="10"/>
                  </a:lnTo>
                  <a:lnTo>
                    <a:pt x="0" y="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2" name=""/>
            <p:cNvSpPr/>
            <p:nvPr/>
          </p:nvSpPr>
          <p:spPr>
            <a:xfrm>
              <a:off x="3363840" y="3592440"/>
              <a:ext cx="1440" cy="7560"/>
            </a:xfrm>
            <a:custGeom>
              <a:avLst/>
              <a:gdLst/>
              <a:ahLst/>
              <a:rect l="l" t="t" r="r" b="b"/>
              <a:pathLst>
                <a:path w="0" h="5">
                  <a:moveTo>
                    <a:pt x="0" y="5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3" name=""/>
            <p:cNvSpPr/>
            <p:nvPr/>
          </p:nvSpPr>
          <p:spPr>
            <a:xfrm>
              <a:off x="3944520" y="3474720"/>
              <a:ext cx="32040" cy="125280"/>
            </a:xfrm>
            <a:custGeom>
              <a:avLst/>
              <a:gdLst/>
              <a:ahLst/>
              <a:rect l="l" t="t" r="r" b="b"/>
              <a:pathLst>
                <a:path w="20" h="79">
                  <a:moveTo>
                    <a:pt x="0" y="79"/>
                  </a:moveTo>
                  <a:lnTo>
                    <a:pt x="0" y="69"/>
                  </a:lnTo>
                  <a:lnTo>
                    <a:pt x="0" y="65"/>
                  </a:lnTo>
                  <a:lnTo>
                    <a:pt x="0" y="60"/>
                  </a:lnTo>
                  <a:lnTo>
                    <a:pt x="0" y="55"/>
                  </a:lnTo>
                  <a:lnTo>
                    <a:pt x="0" y="45"/>
                  </a:lnTo>
                  <a:lnTo>
                    <a:pt x="0" y="40"/>
                  </a:lnTo>
                  <a:lnTo>
                    <a:pt x="0" y="35"/>
                  </a:lnTo>
                  <a:lnTo>
                    <a:pt x="0" y="30"/>
                  </a:lnTo>
                  <a:lnTo>
                    <a:pt x="0" y="20"/>
                  </a:lnTo>
                  <a:lnTo>
                    <a:pt x="0" y="15"/>
                  </a:lnTo>
                  <a:lnTo>
                    <a:pt x="0" y="5"/>
                  </a:lnTo>
                  <a:lnTo>
                    <a:pt x="5" y="0"/>
                  </a:lnTo>
                  <a:lnTo>
                    <a:pt x="10" y="0"/>
                  </a:lnTo>
                  <a:lnTo>
                    <a:pt x="10" y="5"/>
                  </a:lnTo>
                  <a:lnTo>
                    <a:pt x="15" y="15"/>
                  </a:lnTo>
                  <a:lnTo>
                    <a:pt x="20" y="20"/>
                  </a:lnTo>
                  <a:lnTo>
                    <a:pt x="20" y="30"/>
                  </a:lnTo>
                  <a:lnTo>
                    <a:pt x="20" y="35"/>
                  </a:lnTo>
                  <a:lnTo>
                    <a:pt x="15" y="40"/>
                  </a:lnTo>
                  <a:lnTo>
                    <a:pt x="15" y="45"/>
                  </a:lnTo>
                  <a:lnTo>
                    <a:pt x="10" y="50"/>
                  </a:lnTo>
                  <a:lnTo>
                    <a:pt x="15" y="60"/>
                  </a:lnTo>
                  <a:lnTo>
                    <a:pt x="15" y="65"/>
                  </a:lnTo>
                  <a:lnTo>
                    <a:pt x="10" y="69"/>
                  </a:lnTo>
                  <a:lnTo>
                    <a:pt x="10" y="74"/>
                  </a:lnTo>
                  <a:lnTo>
                    <a:pt x="0" y="7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4" name=""/>
            <p:cNvSpPr/>
            <p:nvPr/>
          </p:nvSpPr>
          <p:spPr>
            <a:xfrm>
              <a:off x="3843000" y="2415960"/>
              <a:ext cx="1916280" cy="1090080"/>
            </a:xfrm>
            <a:custGeom>
              <a:avLst/>
              <a:gdLst/>
              <a:ahLst/>
              <a:rect l="l" t="t" r="r" b="b"/>
              <a:pathLst>
                <a:path w="1207" h="687">
                  <a:moveTo>
                    <a:pt x="0" y="662"/>
                  </a:moveTo>
                  <a:lnTo>
                    <a:pt x="0" y="657"/>
                  </a:lnTo>
                  <a:lnTo>
                    <a:pt x="0" y="652"/>
                  </a:lnTo>
                  <a:lnTo>
                    <a:pt x="5" y="647"/>
                  </a:lnTo>
                  <a:lnTo>
                    <a:pt x="5" y="638"/>
                  </a:lnTo>
                  <a:lnTo>
                    <a:pt x="5" y="633"/>
                  </a:lnTo>
                  <a:lnTo>
                    <a:pt x="5" y="628"/>
                  </a:lnTo>
                  <a:lnTo>
                    <a:pt x="5" y="623"/>
                  </a:lnTo>
                  <a:lnTo>
                    <a:pt x="5" y="618"/>
                  </a:lnTo>
                  <a:lnTo>
                    <a:pt x="5" y="608"/>
                  </a:lnTo>
                  <a:lnTo>
                    <a:pt x="5" y="603"/>
                  </a:lnTo>
                  <a:lnTo>
                    <a:pt x="5" y="598"/>
                  </a:lnTo>
                  <a:lnTo>
                    <a:pt x="5" y="593"/>
                  </a:lnTo>
                  <a:lnTo>
                    <a:pt x="5" y="583"/>
                  </a:lnTo>
                  <a:lnTo>
                    <a:pt x="5" y="578"/>
                  </a:lnTo>
                  <a:lnTo>
                    <a:pt x="5" y="573"/>
                  </a:lnTo>
                  <a:lnTo>
                    <a:pt x="5" y="568"/>
                  </a:lnTo>
                  <a:lnTo>
                    <a:pt x="5" y="559"/>
                  </a:lnTo>
                  <a:lnTo>
                    <a:pt x="0" y="554"/>
                  </a:lnTo>
                  <a:lnTo>
                    <a:pt x="0" y="549"/>
                  </a:lnTo>
                  <a:lnTo>
                    <a:pt x="0" y="544"/>
                  </a:lnTo>
                  <a:lnTo>
                    <a:pt x="0" y="534"/>
                  </a:lnTo>
                  <a:lnTo>
                    <a:pt x="0" y="529"/>
                  </a:lnTo>
                  <a:lnTo>
                    <a:pt x="5" y="524"/>
                  </a:lnTo>
                  <a:lnTo>
                    <a:pt x="10" y="519"/>
                  </a:lnTo>
                  <a:lnTo>
                    <a:pt x="15" y="514"/>
                  </a:lnTo>
                  <a:lnTo>
                    <a:pt x="15" y="509"/>
                  </a:lnTo>
                  <a:lnTo>
                    <a:pt x="20" y="504"/>
                  </a:lnTo>
                  <a:lnTo>
                    <a:pt x="25" y="494"/>
                  </a:lnTo>
                  <a:lnTo>
                    <a:pt x="25" y="489"/>
                  </a:lnTo>
                  <a:lnTo>
                    <a:pt x="25" y="484"/>
                  </a:lnTo>
                  <a:lnTo>
                    <a:pt x="25" y="479"/>
                  </a:lnTo>
                  <a:lnTo>
                    <a:pt x="25" y="470"/>
                  </a:lnTo>
                  <a:lnTo>
                    <a:pt x="25" y="465"/>
                  </a:lnTo>
                  <a:lnTo>
                    <a:pt x="25" y="460"/>
                  </a:lnTo>
                  <a:lnTo>
                    <a:pt x="30" y="455"/>
                  </a:lnTo>
                  <a:lnTo>
                    <a:pt x="30" y="450"/>
                  </a:lnTo>
                  <a:lnTo>
                    <a:pt x="35" y="440"/>
                  </a:lnTo>
                  <a:lnTo>
                    <a:pt x="40" y="435"/>
                  </a:lnTo>
                  <a:lnTo>
                    <a:pt x="40" y="430"/>
                  </a:lnTo>
                  <a:lnTo>
                    <a:pt x="45" y="425"/>
                  </a:lnTo>
                  <a:lnTo>
                    <a:pt x="40" y="420"/>
                  </a:lnTo>
                  <a:lnTo>
                    <a:pt x="35" y="415"/>
                  </a:lnTo>
                  <a:lnTo>
                    <a:pt x="35" y="410"/>
                  </a:lnTo>
                  <a:lnTo>
                    <a:pt x="30" y="400"/>
                  </a:lnTo>
                  <a:lnTo>
                    <a:pt x="25" y="395"/>
                  </a:lnTo>
                  <a:lnTo>
                    <a:pt x="25" y="390"/>
                  </a:lnTo>
                  <a:lnTo>
                    <a:pt x="25" y="386"/>
                  </a:lnTo>
                  <a:lnTo>
                    <a:pt x="25" y="381"/>
                  </a:lnTo>
                  <a:lnTo>
                    <a:pt x="25" y="371"/>
                  </a:lnTo>
                  <a:lnTo>
                    <a:pt x="25" y="366"/>
                  </a:lnTo>
                  <a:lnTo>
                    <a:pt x="25" y="361"/>
                  </a:lnTo>
                  <a:lnTo>
                    <a:pt x="30" y="356"/>
                  </a:lnTo>
                  <a:lnTo>
                    <a:pt x="30" y="346"/>
                  </a:lnTo>
                  <a:lnTo>
                    <a:pt x="30" y="341"/>
                  </a:lnTo>
                  <a:lnTo>
                    <a:pt x="25" y="336"/>
                  </a:lnTo>
                  <a:lnTo>
                    <a:pt x="25" y="331"/>
                  </a:lnTo>
                  <a:lnTo>
                    <a:pt x="25" y="326"/>
                  </a:lnTo>
                  <a:lnTo>
                    <a:pt x="20" y="316"/>
                  </a:lnTo>
                  <a:lnTo>
                    <a:pt x="20" y="311"/>
                  </a:lnTo>
                  <a:lnTo>
                    <a:pt x="15" y="306"/>
                  </a:lnTo>
                  <a:lnTo>
                    <a:pt x="15" y="301"/>
                  </a:lnTo>
                  <a:lnTo>
                    <a:pt x="15" y="292"/>
                  </a:lnTo>
                  <a:lnTo>
                    <a:pt x="10" y="287"/>
                  </a:lnTo>
                  <a:lnTo>
                    <a:pt x="10" y="282"/>
                  </a:lnTo>
                  <a:lnTo>
                    <a:pt x="10" y="277"/>
                  </a:lnTo>
                  <a:lnTo>
                    <a:pt x="10" y="267"/>
                  </a:lnTo>
                  <a:lnTo>
                    <a:pt x="15" y="262"/>
                  </a:lnTo>
                  <a:lnTo>
                    <a:pt x="20" y="257"/>
                  </a:lnTo>
                  <a:lnTo>
                    <a:pt x="30" y="257"/>
                  </a:lnTo>
                  <a:lnTo>
                    <a:pt x="40" y="257"/>
                  </a:lnTo>
                  <a:lnTo>
                    <a:pt x="45" y="257"/>
                  </a:lnTo>
                  <a:lnTo>
                    <a:pt x="55" y="252"/>
                  </a:lnTo>
                  <a:lnTo>
                    <a:pt x="55" y="242"/>
                  </a:lnTo>
                  <a:lnTo>
                    <a:pt x="59" y="237"/>
                  </a:lnTo>
                  <a:lnTo>
                    <a:pt x="64" y="232"/>
                  </a:lnTo>
                  <a:lnTo>
                    <a:pt x="74" y="227"/>
                  </a:lnTo>
                  <a:lnTo>
                    <a:pt x="84" y="227"/>
                  </a:lnTo>
                  <a:lnTo>
                    <a:pt x="89" y="227"/>
                  </a:lnTo>
                  <a:lnTo>
                    <a:pt x="99" y="222"/>
                  </a:lnTo>
                  <a:lnTo>
                    <a:pt x="109" y="217"/>
                  </a:lnTo>
                  <a:lnTo>
                    <a:pt x="114" y="213"/>
                  </a:lnTo>
                  <a:lnTo>
                    <a:pt x="119" y="208"/>
                  </a:lnTo>
                  <a:lnTo>
                    <a:pt x="124" y="203"/>
                  </a:lnTo>
                  <a:lnTo>
                    <a:pt x="129" y="198"/>
                  </a:lnTo>
                  <a:lnTo>
                    <a:pt x="139" y="198"/>
                  </a:lnTo>
                  <a:lnTo>
                    <a:pt x="149" y="193"/>
                  </a:lnTo>
                  <a:lnTo>
                    <a:pt x="158" y="193"/>
                  </a:lnTo>
                  <a:lnTo>
                    <a:pt x="168" y="193"/>
                  </a:lnTo>
                  <a:lnTo>
                    <a:pt x="178" y="198"/>
                  </a:lnTo>
                  <a:lnTo>
                    <a:pt x="183" y="193"/>
                  </a:lnTo>
                  <a:lnTo>
                    <a:pt x="193" y="188"/>
                  </a:lnTo>
                  <a:lnTo>
                    <a:pt x="198" y="183"/>
                  </a:lnTo>
                  <a:lnTo>
                    <a:pt x="203" y="178"/>
                  </a:lnTo>
                  <a:lnTo>
                    <a:pt x="203" y="173"/>
                  </a:lnTo>
                  <a:lnTo>
                    <a:pt x="203" y="168"/>
                  </a:lnTo>
                  <a:lnTo>
                    <a:pt x="208" y="158"/>
                  </a:lnTo>
                  <a:lnTo>
                    <a:pt x="213" y="153"/>
                  </a:lnTo>
                  <a:lnTo>
                    <a:pt x="218" y="148"/>
                  </a:lnTo>
                  <a:lnTo>
                    <a:pt x="228" y="148"/>
                  </a:lnTo>
                  <a:lnTo>
                    <a:pt x="233" y="148"/>
                  </a:lnTo>
                  <a:lnTo>
                    <a:pt x="238" y="153"/>
                  </a:lnTo>
                  <a:lnTo>
                    <a:pt x="242" y="163"/>
                  </a:lnTo>
                  <a:lnTo>
                    <a:pt x="247" y="168"/>
                  </a:lnTo>
                  <a:lnTo>
                    <a:pt x="257" y="173"/>
                  </a:lnTo>
                  <a:lnTo>
                    <a:pt x="262" y="168"/>
                  </a:lnTo>
                  <a:lnTo>
                    <a:pt x="272" y="168"/>
                  </a:lnTo>
                  <a:lnTo>
                    <a:pt x="277" y="158"/>
                  </a:lnTo>
                  <a:lnTo>
                    <a:pt x="282" y="153"/>
                  </a:lnTo>
                  <a:lnTo>
                    <a:pt x="282" y="148"/>
                  </a:lnTo>
                  <a:lnTo>
                    <a:pt x="282" y="143"/>
                  </a:lnTo>
                  <a:lnTo>
                    <a:pt x="282" y="138"/>
                  </a:lnTo>
                  <a:lnTo>
                    <a:pt x="287" y="129"/>
                  </a:lnTo>
                  <a:lnTo>
                    <a:pt x="292" y="124"/>
                  </a:lnTo>
                  <a:lnTo>
                    <a:pt x="297" y="119"/>
                  </a:lnTo>
                  <a:lnTo>
                    <a:pt x="302" y="114"/>
                  </a:lnTo>
                  <a:lnTo>
                    <a:pt x="312" y="114"/>
                  </a:lnTo>
                  <a:lnTo>
                    <a:pt x="317" y="114"/>
                  </a:lnTo>
                  <a:lnTo>
                    <a:pt x="322" y="119"/>
                  </a:lnTo>
                  <a:lnTo>
                    <a:pt x="327" y="129"/>
                  </a:lnTo>
                  <a:lnTo>
                    <a:pt x="327" y="133"/>
                  </a:lnTo>
                  <a:lnTo>
                    <a:pt x="332" y="143"/>
                  </a:lnTo>
                  <a:lnTo>
                    <a:pt x="332" y="148"/>
                  </a:lnTo>
                  <a:lnTo>
                    <a:pt x="341" y="148"/>
                  </a:lnTo>
                  <a:lnTo>
                    <a:pt x="346" y="143"/>
                  </a:lnTo>
                  <a:lnTo>
                    <a:pt x="356" y="138"/>
                  </a:lnTo>
                  <a:lnTo>
                    <a:pt x="361" y="133"/>
                  </a:lnTo>
                  <a:lnTo>
                    <a:pt x="366" y="129"/>
                  </a:lnTo>
                  <a:lnTo>
                    <a:pt x="366" y="119"/>
                  </a:lnTo>
                  <a:lnTo>
                    <a:pt x="366" y="114"/>
                  </a:lnTo>
                  <a:lnTo>
                    <a:pt x="366" y="109"/>
                  </a:lnTo>
                  <a:lnTo>
                    <a:pt x="366" y="104"/>
                  </a:lnTo>
                  <a:lnTo>
                    <a:pt x="371" y="94"/>
                  </a:lnTo>
                  <a:lnTo>
                    <a:pt x="376" y="89"/>
                  </a:lnTo>
                  <a:lnTo>
                    <a:pt x="381" y="84"/>
                  </a:lnTo>
                  <a:lnTo>
                    <a:pt x="386" y="84"/>
                  </a:lnTo>
                  <a:lnTo>
                    <a:pt x="396" y="84"/>
                  </a:lnTo>
                  <a:lnTo>
                    <a:pt x="406" y="84"/>
                  </a:lnTo>
                  <a:lnTo>
                    <a:pt x="416" y="84"/>
                  </a:lnTo>
                  <a:lnTo>
                    <a:pt x="425" y="89"/>
                  </a:lnTo>
                  <a:lnTo>
                    <a:pt x="430" y="94"/>
                  </a:lnTo>
                  <a:lnTo>
                    <a:pt x="435" y="99"/>
                  </a:lnTo>
                  <a:lnTo>
                    <a:pt x="440" y="104"/>
                  </a:lnTo>
                  <a:lnTo>
                    <a:pt x="445" y="104"/>
                  </a:lnTo>
                  <a:lnTo>
                    <a:pt x="450" y="99"/>
                  </a:lnTo>
                  <a:lnTo>
                    <a:pt x="450" y="94"/>
                  </a:lnTo>
                  <a:lnTo>
                    <a:pt x="450" y="84"/>
                  </a:lnTo>
                  <a:lnTo>
                    <a:pt x="445" y="79"/>
                  </a:lnTo>
                  <a:lnTo>
                    <a:pt x="445" y="74"/>
                  </a:lnTo>
                  <a:lnTo>
                    <a:pt x="445" y="69"/>
                  </a:lnTo>
                  <a:lnTo>
                    <a:pt x="450" y="64"/>
                  </a:lnTo>
                  <a:lnTo>
                    <a:pt x="460" y="59"/>
                  </a:lnTo>
                  <a:lnTo>
                    <a:pt x="470" y="54"/>
                  </a:lnTo>
                  <a:lnTo>
                    <a:pt x="480" y="49"/>
                  </a:lnTo>
                  <a:lnTo>
                    <a:pt x="490" y="49"/>
                  </a:lnTo>
                  <a:lnTo>
                    <a:pt x="495" y="54"/>
                  </a:lnTo>
                  <a:lnTo>
                    <a:pt x="505" y="54"/>
                  </a:lnTo>
                  <a:lnTo>
                    <a:pt x="510" y="59"/>
                  </a:lnTo>
                  <a:lnTo>
                    <a:pt x="514" y="69"/>
                  </a:lnTo>
                  <a:lnTo>
                    <a:pt x="519" y="74"/>
                  </a:lnTo>
                  <a:lnTo>
                    <a:pt x="524" y="79"/>
                  </a:lnTo>
                  <a:lnTo>
                    <a:pt x="529" y="79"/>
                  </a:lnTo>
                  <a:lnTo>
                    <a:pt x="539" y="79"/>
                  </a:lnTo>
                  <a:lnTo>
                    <a:pt x="544" y="74"/>
                  </a:lnTo>
                  <a:lnTo>
                    <a:pt x="544" y="69"/>
                  </a:lnTo>
                  <a:lnTo>
                    <a:pt x="534" y="59"/>
                  </a:lnTo>
                  <a:lnTo>
                    <a:pt x="529" y="54"/>
                  </a:lnTo>
                  <a:lnTo>
                    <a:pt x="524" y="49"/>
                  </a:lnTo>
                  <a:lnTo>
                    <a:pt x="524" y="44"/>
                  </a:lnTo>
                  <a:lnTo>
                    <a:pt x="529" y="40"/>
                  </a:lnTo>
                  <a:lnTo>
                    <a:pt x="534" y="35"/>
                  </a:lnTo>
                  <a:lnTo>
                    <a:pt x="544" y="30"/>
                  </a:lnTo>
                  <a:lnTo>
                    <a:pt x="554" y="25"/>
                  </a:lnTo>
                  <a:lnTo>
                    <a:pt x="559" y="25"/>
                  </a:lnTo>
                  <a:lnTo>
                    <a:pt x="569" y="25"/>
                  </a:lnTo>
                  <a:lnTo>
                    <a:pt x="579" y="25"/>
                  </a:lnTo>
                  <a:lnTo>
                    <a:pt x="589" y="25"/>
                  </a:lnTo>
                  <a:lnTo>
                    <a:pt x="599" y="25"/>
                  </a:lnTo>
                  <a:lnTo>
                    <a:pt x="604" y="20"/>
                  </a:lnTo>
                  <a:lnTo>
                    <a:pt x="608" y="15"/>
                  </a:lnTo>
                  <a:lnTo>
                    <a:pt x="618" y="5"/>
                  </a:lnTo>
                  <a:lnTo>
                    <a:pt x="623" y="0"/>
                  </a:lnTo>
                  <a:lnTo>
                    <a:pt x="628" y="0"/>
                  </a:lnTo>
                  <a:lnTo>
                    <a:pt x="638" y="0"/>
                  </a:lnTo>
                  <a:lnTo>
                    <a:pt x="648" y="0"/>
                  </a:lnTo>
                  <a:lnTo>
                    <a:pt x="658" y="0"/>
                  </a:lnTo>
                  <a:lnTo>
                    <a:pt x="668" y="0"/>
                  </a:lnTo>
                  <a:lnTo>
                    <a:pt x="678" y="0"/>
                  </a:lnTo>
                  <a:lnTo>
                    <a:pt x="683" y="5"/>
                  </a:lnTo>
                  <a:lnTo>
                    <a:pt x="688" y="10"/>
                  </a:lnTo>
                  <a:lnTo>
                    <a:pt x="693" y="15"/>
                  </a:lnTo>
                  <a:lnTo>
                    <a:pt x="702" y="20"/>
                  </a:lnTo>
                  <a:lnTo>
                    <a:pt x="707" y="25"/>
                  </a:lnTo>
                  <a:lnTo>
                    <a:pt x="717" y="25"/>
                  </a:lnTo>
                  <a:lnTo>
                    <a:pt x="727" y="25"/>
                  </a:lnTo>
                  <a:lnTo>
                    <a:pt x="737" y="25"/>
                  </a:lnTo>
                  <a:lnTo>
                    <a:pt x="742" y="25"/>
                  </a:lnTo>
                  <a:lnTo>
                    <a:pt x="752" y="25"/>
                  </a:lnTo>
                  <a:lnTo>
                    <a:pt x="762" y="25"/>
                  </a:lnTo>
                  <a:lnTo>
                    <a:pt x="772" y="25"/>
                  </a:lnTo>
                  <a:lnTo>
                    <a:pt x="782" y="30"/>
                  </a:lnTo>
                  <a:lnTo>
                    <a:pt x="791" y="30"/>
                  </a:lnTo>
                  <a:lnTo>
                    <a:pt x="796" y="35"/>
                  </a:lnTo>
                  <a:lnTo>
                    <a:pt x="801" y="40"/>
                  </a:lnTo>
                  <a:lnTo>
                    <a:pt x="806" y="44"/>
                  </a:lnTo>
                  <a:lnTo>
                    <a:pt x="811" y="49"/>
                  </a:lnTo>
                  <a:lnTo>
                    <a:pt x="821" y="54"/>
                  </a:lnTo>
                  <a:lnTo>
                    <a:pt x="831" y="54"/>
                  </a:lnTo>
                  <a:lnTo>
                    <a:pt x="841" y="54"/>
                  </a:lnTo>
                  <a:lnTo>
                    <a:pt x="851" y="54"/>
                  </a:lnTo>
                  <a:lnTo>
                    <a:pt x="861" y="54"/>
                  </a:lnTo>
                  <a:lnTo>
                    <a:pt x="871" y="54"/>
                  </a:lnTo>
                  <a:lnTo>
                    <a:pt x="880" y="54"/>
                  </a:lnTo>
                  <a:lnTo>
                    <a:pt x="890" y="54"/>
                  </a:lnTo>
                  <a:lnTo>
                    <a:pt x="895" y="59"/>
                  </a:lnTo>
                  <a:lnTo>
                    <a:pt x="900" y="64"/>
                  </a:lnTo>
                  <a:lnTo>
                    <a:pt x="905" y="69"/>
                  </a:lnTo>
                  <a:lnTo>
                    <a:pt x="910" y="74"/>
                  </a:lnTo>
                  <a:lnTo>
                    <a:pt x="920" y="79"/>
                  </a:lnTo>
                  <a:lnTo>
                    <a:pt x="925" y="84"/>
                  </a:lnTo>
                  <a:lnTo>
                    <a:pt x="935" y="84"/>
                  </a:lnTo>
                  <a:lnTo>
                    <a:pt x="945" y="84"/>
                  </a:lnTo>
                  <a:lnTo>
                    <a:pt x="955" y="84"/>
                  </a:lnTo>
                  <a:lnTo>
                    <a:pt x="965" y="84"/>
                  </a:lnTo>
                  <a:lnTo>
                    <a:pt x="974" y="84"/>
                  </a:lnTo>
                  <a:lnTo>
                    <a:pt x="984" y="84"/>
                  </a:lnTo>
                  <a:lnTo>
                    <a:pt x="994" y="84"/>
                  </a:lnTo>
                  <a:lnTo>
                    <a:pt x="999" y="84"/>
                  </a:lnTo>
                  <a:lnTo>
                    <a:pt x="1009" y="89"/>
                  </a:lnTo>
                  <a:lnTo>
                    <a:pt x="1014" y="94"/>
                  </a:lnTo>
                  <a:lnTo>
                    <a:pt x="1019" y="104"/>
                  </a:lnTo>
                  <a:lnTo>
                    <a:pt x="1019" y="109"/>
                  </a:lnTo>
                  <a:lnTo>
                    <a:pt x="1024" y="114"/>
                  </a:lnTo>
                  <a:lnTo>
                    <a:pt x="1034" y="114"/>
                  </a:lnTo>
                  <a:lnTo>
                    <a:pt x="1039" y="119"/>
                  </a:lnTo>
                  <a:lnTo>
                    <a:pt x="1049" y="119"/>
                  </a:lnTo>
                  <a:lnTo>
                    <a:pt x="1058" y="119"/>
                  </a:lnTo>
                  <a:lnTo>
                    <a:pt x="1068" y="119"/>
                  </a:lnTo>
                  <a:lnTo>
                    <a:pt x="1078" y="124"/>
                  </a:lnTo>
                  <a:lnTo>
                    <a:pt x="1088" y="124"/>
                  </a:lnTo>
                  <a:lnTo>
                    <a:pt x="1098" y="129"/>
                  </a:lnTo>
                  <a:lnTo>
                    <a:pt x="1103" y="129"/>
                  </a:lnTo>
                  <a:lnTo>
                    <a:pt x="1108" y="133"/>
                  </a:lnTo>
                  <a:lnTo>
                    <a:pt x="1108" y="138"/>
                  </a:lnTo>
                  <a:lnTo>
                    <a:pt x="1108" y="148"/>
                  </a:lnTo>
                  <a:lnTo>
                    <a:pt x="1108" y="153"/>
                  </a:lnTo>
                  <a:lnTo>
                    <a:pt x="1103" y="158"/>
                  </a:lnTo>
                  <a:lnTo>
                    <a:pt x="1103" y="168"/>
                  </a:lnTo>
                  <a:lnTo>
                    <a:pt x="1103" y="173"/>
                  </a:lnTo>
                  <a:lnTo>
                    <a:pt x="1103" y="178"/>
                  </a:lnTo>
                  <a:lnTo>
                    <a:pt x="1108" y="183"/>
                  </a:lnTo>
                  <a:lnTo>
                    <a:pt x="1108" y="193"/>
                  </a:lnTo>
                  <a:lnTo>
                    <a:pt x="1108" y="198"/>
                  </a:lnTo>
                  <a:lnTo>
                    <a:pt x="1108" y="203"/>
                  </a:lnTo>
                  <a:lnTo>
                    <a:pt x="1108" y="208"/>
                  </a:lnTo>
                  <a:lnTo>
                    <a:pt x="1108" y="217"/>
                  </a:lnTo>
                  <a:lnTo>
                    <a:pt x="1108" y="222"/>
                  </a:lnTo>
                  <a:lnTo>
                    <a:pt x="1118" y="222"/>
                  </a:lnTo>
                  <a:lnTo>
                    <a:pt x="1128" y="227"/>
                  </a:lnTo>
                  <a:lnTo>
                    <a:pt x="1138" y="222"/>
                  </a:lnTo>
                  <a:lnTo>
                    <a:pt x="1138" y="217"/>
                  </a:lnTo>
                  <a:lnTo>
                    <a:pt x="1138" y="213"/>
                  </a:lnTo>
                  <a:lnTo>
                    <a:pt x="1143" y="203"/>
                  </a:lnTo>
                  <a:lnTo>
                    <a:pt x="1148" y="203"/>
                  </a:lnTo>
                  <a:lnTo>
                    <a:pt x="1157" y="198"/>
                  </a:lnTo>
                  <a:lnTo>
                    <a:pt x="1162" y="193"/>
                  </a:lnTo>
                  <a:lnTo>
                    <a:pt x="1167" y="188"/>
                  </a:lnTo>
                  <a:lnTo>
                    <a:pt x="1172" y="178"/>
                  </a:lnTo>
                  <a:lnTo>
                    <a:pt x="1172" y="173"/>
                  </a:lnTo>
                  <a:lnTo>
                    <a:pt x="1177" y="168"/>
                  </a:lnTo>
                  <a:lnTo>
                    <a:pt x="1182" y="163"/>
                  </a:lnTo>
                  <a:lnTo>
                    <a:pt x="1187" y="158"/>
                  </a:lnTo>
                  <a:lnTo>
                    <a:pt x="1192" y="163"/>
                  </a:lnTo>
                  <a:lnTo>
                    <a:pt x="1197" y="168"/>
                  </a:lnTo>
                  <a:lnTo>
                    <a:pt x="1202" y="173"/>
                  </a:lnTo>
                  <a:lnTo>
                    <a:pt x="1207" y="178"/>
                  </a:lnTo>
                  <a:lnTo>
                    <a:pt x="1207" y="188"/>
                  </a:lnTo>
                  <a:lnTo>
                    <a:pt x="1207" y="193"/>
                  </a:lnTo>
                  <a:lnTo>
                    <a:pt x="1207" y="203"/>
                  </a:lnTo>
                  <a:lnTo>
                    <a:pt x="1202" y="208"/>
                  </a:lnTo>
                  <a:lnTo>
                    <a:pt x="1197" y="213"/>
                  </a:lnTo>
                  <a:lnTo>
                    <a:pt x="1192" y="213"/>
                  </a:lnTo>
                  <a:lnTo>
                    <a:pt x="1182" y="217"/>
                  </a:lnTo>
                  <a:lnTo>
                    <a:pt x="1177" y="222"/>
                  </a:lnTo>
                  <a:lnTo>
                    <a:pt x="1172" y="227"/>
                  </a:lnTo>
                  <a:lnTo>
                    <a:pt x="1172" y="232"/>
                  </a:lnTo>
                  <a:lnTo>
                    <a:pt x="1167" y="242"/>
                  </a:lnTo>
                  <a:lnTo>
                    <a:pt x="1167" y="247"/>
                  </a:lnTo>
                  <a:lnTo>
                    <a:pt x="1162" y="252"/>
                  </a:lnTo>
                  <a:lnTo>
                    <a:pt x="1157" y="257"/>
                  </a:lnTo>
                  <a:lnTo>
                    <a:pt x="1152" y="262"/>
                  </a:lnTo>
                  <a:lnTo>
                    <a:pt x="1143" y="267"/>
                  </a:lnTo>
                  <a:lnTo>
                    <a:pt x="1143" y="272"/>
                  </a:lnTo>
                  <a:lnTo>
                    <a:pt x="1138" y="277"/>
                  </a:lnTo>
                  <a:lnTo>
                    <a:pt x="1133" y="282"/>
                  </a:lnTo>
                  <a:lnTo>
                    <a:pt x="1128" y="287"/>
                  </a:lnTo>
                  <a:lnTo>
                    <a:pt x="1123" y="292"/>
                  </a:lnTo>
                  <a:lnTo>
                    <a:pt x="1118" y="297"/>
                  </a:lnTo>
                  <a:lnTo>
                    <a:pt x="1108" y="301"/>
                  </a:lnTo>
                  <a:lnTo>
                    <a:pt x="1098" y="301"/>
                  </a:lnTo>
                  <a:lnTo>
                    <a:pt x="1088" y="301"/>
                  </a:lnTo>
                  <a:lnTo>
                    <a:pt x="1078" y="301"/>
                  </a:lnTo>
                  <a:lnTo>
                    <a:pt x="1073" y="306"/>
                  </a:lnTo>
                  <a:lnTo>
                    <a:pt x="1063" y="311"/>
                  </a:lnTo>
                  <a:lnTo>
                    <a:pt x="1054" y="311"/>
                  </a:lnTo>
                  <a:lnTo>
                    <a:pt x="1044" y="316"/>
                  </a:lnTo>
                  <a:lnTo>
                    <a:pt x="1039" y="316"/>
                  </a:lnTo>
                  <a:lnTo>
                    <a:pt x="1029" y="316"/>
                  </a:lnTo>
                  <a:lnTo>
                    <a:pt x="1019" y="316"/>
                  </a:lnTo>
                  <a:lnTo>
                    <a:pt x="1009" y="316"/>
                  </a:lnTo>
                  <a:lnTo>
                    <a:pt x="999" y="316"/>
                  </a:lnTo>
                  <a:lnTo>
                    <a:pt x="989" y="316"/>
                  </a:lnTo>
                  <a:lnTo>
                    <a:pt x="979" y="316"/>
                  </a:lnTo>
                  <a:lnTo>
                    <a:pt x="969" y="316"/>
                  </a:lnTo>
                  <a:lnTo>
                    <a:pt x="960" y="316"/>
                  </a:lnTo>
                  <a:lnTo>
                    <a:pt x="950" y="316"/>
                  </a:lnTo>
                  <a:lnTo>
                    <a:pt x="945" y="316"/>
                  </a:lnTo>
                  <a:lnTo>
                    <a:pt x="935" y="316"/>
                  </a:lnTo>
                  <a:lnTo>
                    <a:pt x="925" y="316"/>
                  </a:lnTo>
                  <a:lnTo>
                    <a:pt x="915" y="316"/>
                  </a:lnTo>
                  <a:lnTo>
                    <a:pt x="905" y="316"/>
                  </a:lnTo>
                  <a:lnTo>
                    <a:pt x="895" y="316"/>
                  </a:lnTo>
                  <a:lnTo>
                    <a:pt x="885" y="316"/>
                  </a:lnTo>
                  <a:lnTo>
                    <a:pt x="876" y="316"/>
                  </a:lnTo>
                  <a:lnTo>
                    <a:pt x="866" y="316"/>
                  </a:lnTo>
                  <a:lnTo>
                    <a:pt x="856" y="316"/>
                  </a:lnTo>
                  <a:lnTo>
                    <a:pt x="851" y="316"/>
                  </a:lnTo>
                  <a:lnTo>
                    <a:pt x="841" y="316"/>
                  </a:lnTo>
                  <a:lnTo>
                    <a:pt x="831" y="316"/>
                  </a:lnTo>
                  <a:lnTo>
                    <a:pt x="821" y="321"/>
                  </a:lnTo>
                  <a:lnTo>
                    <a:pt x="811" y="321"/>
                  </a:lnTo>
                  <a:lnTo>
                    <a:pt x="801" y="321"/>
                  </a:lnTo>
                  <a:lnTo>
                    <a:pt x="791" y="321"/>
                  </a:lnTo>
                  <a:lnTo>
                    <a:pt x="786" y="326"/>
                  </a:lnTo>
                  <a:lnTo>
                    <a:pt x="777" y="331"/>
                  </a:lnTo>
                  <a:lnTo>
                    <a:pt x="767" y="331"/>
                  </a:lnTo>
                  <a:lnTo>
                    <a:pt x="762" y="336"/>
                  </a:lnTo>
                  <a:lnTo>
                    <a:pt x="752" y="331"/>
                  </a:lnTo>
                  <a:lnTo>
                    <a:pt x="747" y="326"/>
                  </a:lnTo>
                  <a:lnTo>
                    <a:pt x="737" y="321"/>
                  </a:lnTo>
                  <a:lnTo>
                    <a:pt x="732" y="316"/>
                  </a:lnTo>
                  <a:lnTo>
                    <a:pt x="722" y="316"/>
                  </a:lnTo>
                  <a:lnTo>
                    <a:pt x="717" y="311"/>
                  </a:lnTo>
                  <a:lnTo>
                    <a:pt x="707" y="306"/>
                  </a:lnTo>
                  <a:lnTo>
                    <a:pt x="702" y="306"/>
                  </a:lnTo>
                  <a:lnTo>
                    <a:pt x="693" y="301"/>
                  </a:lnTo>
                  <a:lnTo>
                    <a:pt x="683" y="301"/>
                  </a:lnTo>
                  <a:lnTo>
                    <a:pt x="678" y="297"/>
                  </a:lnTo>
                  <a:lnTo>
                    <a:pt x="668" y="292"/>
                  </a:lnTo>
                  <a:lnTo>
                    <a:pt x="663" y="287"/>
                  </a:lnTo>
                  <a:lnTo>
                    <a:pt x="653" y="287"/>
                  </a:lnTo>
                  <a:lnTo>
                    <a:pt x="648" y="282"/>
                  </a:lnTo>
                  <a:lnTo>
                    <a:pt x="638" y="277"/>
                  </a:lnTo>
                  <a:lnTo>
                    <a:pt x="633" y="272"/>
                  </a:lnTo>
                  <a:lnTo>
                    <a:pt x="623" y="272"/>
                  </a:lnTo>
                  <a:lnTo>
                    <a:pt x="613" y="267"/>
                  </a:lnTo>
                  <a:lnTo>
                    <a:pt x="604" y="267"/>
                  </a:lnTo>
                  <a:lnTo>
                    <a:pt x="594" y="267"/>
                  </a:lnTo>
                  <a:lnTo>
                    <a:pt x="589" y="272"/>
                  </a:lnTo>
                  <a:lnTo>
                    <a:pt x="579" y="272"/>
                  </a:lnTo>
                  <a:lnTo>
                    <a:pt x="569" y="277"/>
                  </a:lnTo>
                  <a:lnTo>
                    <a:pt x="564" y="282"/>
                  </a:lnTo>
                  <a:lnTo>
                    <a:pt x="554" y="282"/>
                  </a:lnTo>
                  <a:lnTo>
                    <a:pt x="549" y="287"/>
                  </a:lnTo>
                  <a:lnTo>
                    <a:pt x="539" y="287"/>
                  </a:lnTo>
                  <a:lnTo>
                    <a:pt x="529" y="287"/>
                  </a:lnTo>
                  <a:lnTo>
                    <a:pt x="519" y="292"/>
                  </a:lnTo>
                  <a:lnTo>
                    <a:pt x="514" y="297"/>
                  </a:lnTo>
                  <a:lnTo>
                    <a:pt x="505" y="297"/>
                  </a:lnTo>
                  <a:lnTo>
                    <a:pt x="500" y="301"/>
                  </a:lnTo>
                  <a:lnTo>
                    <a:pt x="490" y="306"/>
                  </a:lnTo>
                  <a:lnTo>
                    <a:pt x="480" y="306"/>
                  </a:lnTo>
                  <a:lnTo>
                    <a:pt x="470" y="311"/>
                  </a:lnTo>
                  <a:lnTo>
                    <a:pt x="460" y="311"/>
                  </a:lnTo>
                  <a:lnTo>
                    <a:pt x="450" y="311"/>
                  </a:lnTo>
                  <a:lnTo>
                    <a:pt x="445" y="311"/>
                  </a:lnTo>
                  <a:lnTo>
                    <a:pt x="435" y="316"/>
                  </a:lnTo>
                  <a:lnTo>
                    <a:pt x="430" y="316"/>
                  </a:lnTo>
                  <a:lnTo>
                    <a:pt x="421" y="321"/>
                  </a:lnTo>
                  <a:lnTo>
                    <a:pt x="416" y="326"/>
                  </a:lnTo>
                  <a:lnTo>
                    <a:pt x="406" y="326"/>
                  </a:lnTo>
                  <a:lnTo>
                    <a:pt x="396" y="326"/>
                  </a:lnTo>
                  <a:lnTo>
                    <a:pt x="386" y="326"/>
                  </a:lnTo>
                  <a:lnTo>
                    <a:pt x="381" y="321"/>
                  </a:lnTo>
                  <a:lnTo>
                    <a:pt x="376" y="316"/>
                  </a:lnTo>
                  <a:lnTo>
                    <a:pt x="366" y="311"/>
                  </a:lnTo>
                  <a:lnTo>
                    <a:pt x="356" y="311"/>
                  </a:lnTo>
                  <a:lnTo>
                    <a:pt x="346" y="311"/>
                  </a:lnTo>
                  <a:lnTo>
                    <a:pt x="341" y="316"/>
                  </a:lnTo>
                  <a:lnTo>
                    <a:pt x="336" y="321"/>
                  </a:lnTo>
                  <a:lnTo>
                    <a:pt x="336" y="326"/>
                  </a:lnTo>
                  <a:lnTo>
                    <a:pt x="327" y="331"/>
                  </a:lnTo>
                  <a:lnTo>
                    <a:pt x="317" y="331"/>
                  </a:lnTo>
                  <a:lnTo>
                    <a:pt x="307" y="331"/>
                  </a:lnTo>
                  <a:lnTo>
                    <a:pt x="297" y="331"/>
                  </a:lnTo>
                  <a:lnTo>
                    <a:pt x="287" y="331"/>
                  </a:lnTo>
                  <a:lnTo>
                    <a:pt x="277" y="336"/>
                  </a:lnTo>
                  <a:lnTo>
                    <a:pt x="272" y="336"/>
                  </a:lnTo>
                  <a:lnTo>
                    <a:pt x="262" y="341"/>
                  </a:lnTo>
                  <a:lnTo>
                    <a:pt x="257" y="346"/>
                  </a:lnTo>
                  <a:lnTo>
                    <a:pt x="257" y="351"/>
                  </a:lnTo>
                  <a:lnTo>
                    <a:pt x="247" y="356"/>
                  </a:lnTo>
                  <a:lnTo>
                    <a:pt x="242" y="361"/>
                  </a:lnTo>
                  <a:lnTo>
                    <a:pt x="238" y="371"/>
                  </a:lnTo>
                  <a:lnTo>
                    <a:pt x="238" y="376"/>
                  </a:lnTo>
                  <a:lnTo>
                    <a:pt x="238" y="381"/>
                  </a:lnTo>
                  <a:lnTo>
                    <a:pt x="238" y="386"/>
                  </a:lnTo>
                  <a:lnTo>
                    <a:pt x="238" y="390"/>
                  </a:lnTo>
                  <a:lnTo>
                    <a:pt x="238" y="400"/>
                  </a:lnTo>
                  <a:lnTo>
                    <a:pt x="238" y="405"/>
                  </a:lnTo>
                  <a:lnTo>
                    <a:pt x="233" y="410"/>
                  </a:lnTo>
                  <a:lnTo>
                    <a:pt x="223" y="415"/>
                  </a:lnTo>
                  <a:lnTo>
                    <a:pt x="218" y="420"/>
                  </a:lnTo>
                  <a:lnTo>
                    <a:pt x="213" y="425"/>
                  </a:lnTo>
                  <a:lnTo>
                    <a:pt x="208" y="430"/>
                  </a:lnTo>
                  <a:lnTo>
                    <a:pt x="208" y="435"/>
                  </a:lnTo>
                  <a:lnTo>
                    <a:pt x="208" y="440"/>
                  </a:lnTo>
                  <a:lnTo>
                    <a:pt x="208" y="450"/>
                  </a:lnTo>
                  <a:lnTo>
                    <a:pt x="208" y="455"/>
                  </a:lnTo>
                  <a:lnTo>
                    <a:pt x="203" y="460"/>
                  </a:lnTo>
                  <a:lnTo>
                    <a:pt x="198" y="465"/>
                  </a:lnTo>
                  <a:lnTo>
                    <a:pt x="193" y="470"/>
                  </a:lnTo>
                  <a:lnTo>
                    <a:pt x="188" y="474"/>
                  </a:lnTo>
                  <a:lnTo>
                    <a:pt x="183" y="479"/>
                  </a:lnTo>
                  <a:lnTo>
                    <a:pt x="183" y="489"/>
                  </a:lnTo>
                  <a:lnTo>
                    <a:pt x="183" y="494"/>
                  </a:lnTo>
                  <a:lnTo>
                    <a:pt x="183" y="499"/>
                  </a:lnTo>
                  <a:lnTo>
                    <a:pt x="183" y="504"/>
                  </a:lnTo>
                  <a:lnTo>
                    <a:pt x="183" y="514"/>
                  </a:lnTo>
                  <a:lnTo>
                    <a:pt x="178" y="519"/>
                  </a:lnTo>
                  <a:lnTo>
                    <a:pt x="178" y="524"/>
                  </a:lnTo>
                  <a:lnTo>
                    <a:pt x="168" y="529"/>
                  </a:lnTo>
                  <a:lnTo>
                    <a:pt x="163" y="534"/>
                  </a:lnTo>
                  <a:lnTo>
                    <a:pt x="158" y="539"/>
                  </a:lnTo>
                  <a:lnTo>
                    <a:pt x="153" y="544"/>
                  </a:lnTo>
                  <a:lnTo>
                    <a:pt x="149" y="549"/>
                  </a:lnTo>
                  <a:lnTo>
                    <a:pt x="139" y="549"/>
                  </a:lnTo>
                  <a:lnTo>
                    <a:pt x="129" y="544"/>
                  </a:lnTo>
                  <a:lnTo>
                    <a:pt x="119" y="544"/>
                  </a:lnTo>
                  <a:lnTo>
                    <a:pt x="114" y="549"/>
                  </a:lnTo>
                  <a:lnTo>
                    <a:pt x="109" y="554"/>
                  </a:lnTo>
                  <a:lnTo>
                    <a:pt x="109" y="563"/>
                  </a:lnTo>
                  <a:lnTo>
                    <a:pt x="109" y="568"/>
                  </a:lnTo>
                  <a:lnTo>
                    <a:pt x="109" y="573"/>
                  </a:lnTo>
                  <a:lnTo>
                    <a:pt x="109" y="578"/>
                  </a:lnTo>
                  <a:lnTo>
                    <a:pt x="114" y="583"/>
                  </a:lnTo>
                  <a:lnTo>
                    <a:pt x="114" y="593"/>
                  </a:lnTo>
                  <a:lnTo>
                    <a:pt x="114" y="598"/>
                  </a:lnTo>
                  <a:lnTo>
                    <a:pt x="114" y="603"/>
                  </a:lnTo>
                  <a:lnTo>
                    <a:pt x="109" y="608"/>
                  </a:lnTo>
                  <a:lnTo>
                    <a:pt x="109" y="618"/>
                  </a:lnTo>
                  <a:lnTo>
                    <a:pt x="104" y="628"/>
                  </a:lnTo>
                  <a:lnTo>
                    <a:pt x="99" y="633"/>
                  </a:lnTo>
                  <a:lnTo>
                    <a:pt x="94" y="633"/>
                  </a:lnTo>
                  <a:lnTo>
                    <a:pt x="94" y="633"/>
                  </a:lnTo>
                  <a:lnTo>
                    <a:pt x="89" y="628"/>
                  </a:lnTo>
                  <a:lnTo>
                    <a:pt x="89" y="618"/>
                  </a:lnTo>
                  <a:lnTo>
                    <a:pt x="84" y="613"/>
                  </a:lnTo>
                  <a:lnTo>
                    <a:pt x="84" y="603"/>
                  </a:lnTo>
                  <a:lnTo>
                    <a:pt x="84" y="598"/>
                  </a:lnTo>
                  <a:lnTo>
                    <a:pt x="84" y="593"/>
                  </a:lnTo>
                  <a:lnTo>
                    <a:pt x="89" y="588"/>
                  </a:lnTo>
                  <a:lnTo>
                    <a:pt x="89" y="578"/>
                  </a:lnTo>
                  <a:lnTo>
                    <a:pt x="89" y="573"/>
                  </a:lnTo>
                  <a:lnTo>
                    <a:pt x="89" y="568"/>
                  </a:lnTo>
                  <a:lnTo>
                    <a:pt x="89" y="563"/>
                  </a:lnTo>
                  <a:lnTo>
                    <a:pt x="89" y="554"/>
                  </a:lnTo>
                  <a:lnTo>
                    <a:pt x="89" y="549"/>
                  </a:lnTo>
                  <a:lnTo>
                    <a:pt x="89" y="544"/>
                  </a:lnTo>
                  <a:lnTo>
                    <a:pt x="89" y="539"/>
                  </a:lnTo>
                  <a:lnTo>
                    <a:pt x="94" y="534"/>
                  </a:lnTo>
                  <a:lnTo>
                    <a:pt x="99" y="529"/>
                  </a:lnTo>
                  <a:lnTo>
                    <a:pt x="104" y="524"/>
                  </a:lnTo>
                  <a:lnTo>
                    <a:pt x="109" y="514"/>
                  </a:lnTo>
                  <a:lnTo>
                    <a:pt x="114" y="509"/>
                  </a:lnTo>
                  <a:lnTo>
                    <a:pt x="114" y="504"/>
                  </a:lnTo>
                  <a:lnTo>
                    <a:pt x="114" y="499"/>
                  </a:lnTo>
                  <a:lnTo>
                    <a:pt x="114" y="489"/>
                  </a:lnTo>
                  <a:lnTo>
                    <a:pt x="114" y="484"/>
                  </a:lnTo>
                  <a:lnTo>
                    <a:pt x="114" y="479"/>
                  </a:lnTo>
                  <a:lnTo>
                    <a:pt x="119" y="474"/>
                  </a:lnTo>
                  <a:lnTo>
                    <a:pt x="124" y="470"/>
                  </a:lnTo>
                  <a:lnTo>
                    <a:pt x="129" y="465"/>
                  </a:lnTo>
                  <a:lnTo>
                    <a:pt x="134" y="460"/>
                  </a:lnTo>
                  <a:lnTo>
                    <a:pt x="139" y="455"/>
                  </a:lnTo>
                  <a:lnTo>
                    <a:pt x="144" y="450"/>
                  </a:lnTo>
                  <a:lnTo>
                    <a:pt x="139" y="445"/>
                  </a:lnTo>
                  <a:lnTo>
                    <a:pt x="139" y="435"/>
                  </a:lnTo>
                  <a:lnTo>
                    <a:pt x="139" y="430"/>
                  </a:lnTo>
                  <a:lnTo>
                    <a:pt x="139" y="425"/>
                  </a:lnTo>
                  <a:lnTo>
                    <a:pt x="139" y="420"/>
                  </a:lnTo>
                  <a:lnTo>
                    <a:pt x="144" y="415"/>
                  </a:lnTo>
                  <a:lnTo>
                    <a:pt x="149" y="410"/>
                  </a:lnTo>
                  <a:lnTo>
                    <a:pt x="158" y="405"/>
                  </a:lnTo>
                  <a:lnTo>
                    <a:pt x="163" y="400"/>
                  </a:lnTo>
                  <a:lnTo>
                    <a:pt x="163" y="395"/>
                  </a:lnTo>
                  <a:lnTo>
                    <a:pt x="163" y="390"/>
                  </a:lnTo>
                  <a:lnTo>
                    <a:pt x="163" y="381"/>
                  </a:lnTo>
                  <a:lnTo>
                    <a:pt x="158" y="376"/>
                  </a:lnTo>
                  <a:lnTo>
                    <a:pt x="158" y="371"/>
                  </a:lnTo>
                  <a:lnTo>
                    <a:pt x="153" y="361"/>
                  </a:lnTo>
                  <a:lnTo>
                    <a:pt x="153" y="351"/>
                  </a:lnTo>
                  <a:lnTo>
                    <a:pt x="153" y="346"/>
                  </a:lnTo>
                  <a:lnTo>
                    <a:pt x="149" y="346"/>
                  </a:lnTo>
                  <a:lnTo>
                    <a:pt x="149" y="346"/>
                  </a:lnTo>
                  <a:lnTo>
                    <a:pt x="144" y="351"/>
                  </a:lnTo>
                  <a:lnTo>
                    <a:pt x="139" y="361"/>
                  </a:lnTo>
                  <a:lnTo>
                    <a:pt x="134" y="366"/>
                  </a:lnTo>
                  <a:lnTo>
                    <a:pt x="134" y="376"/>
                  </a:lnTo>
                  <a:lnTo>
                    <a:pt x="129" y="381"/>
                  </a:lnTo>
                  <a:lnTo>
                    <a:pt x="124" y="386"/>
                  </a:lnTo>
                  <a:lnTo>
                    <a:pt x="114" y="390"/>
                  </a:lnTo>
                  <a:lnTo>
                    <a:pt x="109" y="395"/>
                  </a:lnTo>
                  <a:lnTo>
                    <a:pt x="104" y="400"/>
                  </a:lnTo>
                  <a:lnTo>
                    <a:pt x="104" y="405"/>
                  </a:lnTo>
                  <a:lnTo>
                    <a:pt x="104" y="410"/>
                  </a:lnTo>
                  <a:lnTo>
                    <a:pt x="104" y="415"/>
                  </a:lnTo>
                  <a:lnTo>
                    <a:pt x="99" y="425"/>
                  </a:lnTo>
                  <a:lnTo>
                    <a:pt x="99" y="430"/>
                  </a:lnTo>
                  <a:lnTo>
                    <a:pt x="89" y="435"/>
                  </a:lnTo>
                  <a:lnTo>
                    <a:pt x="84" y="440"/>
                  </a:lnTo>
                  <a:lnTo>
                    <a:pt x="79" y="445"/>
                  </a:lnTo>
                  <a:lnTo>
                    <a:pt x="79" y="450"/>
                  </a:lnTo>
                  <a:lnTo>
                    <a:pt x="74" y="455"/>
                  </a:lnTo>
                  <a:lnTo>
                    <a:pt x="74" y="465"/>
                  </a:lnTo>
                  <a:lnTo>
                    <a:pt x="74" y="470"/>
                  </a:lnTo>
                  <a:lnTo>
                    <a:pt x="74" y="474"/>
                  </a:lnTo>
                  <a:lnTo>
                    <a:pt x="69" y="479"/>
                  </a:lnTo>
                  <a:lnTo>
                    <a:pt x="64" y="484"/>
                  </a:lnTo>
                  <a:lnTo>
                    <a:pt x="59" y="489"/>
                  </a:lnTo>
                  <a:lnTo>
                    <a:pt x="55" y="494"/>
                  </a:lnTo>
                  <a:lnTo>
                    <a:pt x="55" y="504"/>
                  </a:lnTo>
                  <a:lnTo>
                    <a:pt x="55" y="509"/>
                  </a:lnTo>
                  <a:lnTo>
                    <a:pt x="50" y="514"/>
                  </a:lnTo>
                  <a:lnTo>
                    <a:pt x="50" y="519"/>
                  </a:lnTo>
                  <a:lnTo>
                    <a:pt x="50" y="529"/>
                  </a:lnTo>
                  <a:lnTo>
                    <a:pt x="50" y="534"/>
                  </a:lnTo>
                  <a:lnTo>
                    <a:pt x="50" y="539"/>
                  </a:lnTo>
                  <a:lnTo>
                    <a:pt x="45" y="544"/>
                  </a:lnTo>
                  <a:lnTo>
                    <a:pt x="45" y="549"/>
                  </a:lnTo>
                  <a:lnTo>
                    <a:pt x="45" y="559"/>
                  </a:lnTo>
                  <a:lnTo>
                    <a:pt x="45" y="563"/>
                  </a:lnTo>
                  <a:lnTo>
                    <a:pt x="40" y="568"/>
                  </a:lnTo>
                  <a:lnTo>
                    <a:pt x="40" y="573"/>
                  </a:lnTo>
                  <a:lnTo>
                    <a:pt x="35" y="578"/>
                  </a:lnTo>
                  <a:lnTo>
                    <a:pt x="30" y="588"/>
                  </a:lnTo>
                  <a:lnTo>
                    <a:pt x="30" y="593"/>
                  </a:lnTo>
                  <a:lnTo>
                    <a:pt x="30" y="598"/>
                  </a:lnTo>
                  <a:lnTo>
                    <a:pt x="25" y="603"/>
                  </a:lnTo>
                  <a:lnTo>
                    <a:pt x="25" y="608"/>
                  </a:lnTo>
                  <a:lnTo>
                    <a:pt x="25" y="618"/>
                  </a:lnTo>
                  <a:lnTo>
                    <a:pt x="25" y="623"/>
                  </a:lnTo>
                  <a:lnTo>
                    <a:pt x="20" y="628"/>
                  </a:lnTo>
                  <a:lnTo>
                    <a:pt x="20" y="633"/>
                  </a:lnTo>
                  <a:lnTo>
                    <a:pt x="20" y="643"/>
                  </a:lnTo>
                  <a:lnTo>
                    <a:pt x="20" y="647"/>
                  </a:lnTo>
                  <a:lnTo>
                    <a:pt x="20" y="652"/>
                  </a:lnTo>
                  <a:lnTo>
                    <a:pt x="20" y="657"/>
                  </a:lnTo>
                  <a:lnTo>
                    <a:pt x="20" y="667"/>
                  </a:lnTo>
                  <a:lnTo>
                    <a:pt x="20" y="672"/>
                  </a:lnTo>
                  <a:lnTo>
                    <a:pt x="20" y="682"/>
                  </a:lnTo>
                  <a:lnTo>
                    <a:pt x="15" y="687"/>
                  </a:lnTo>
                  <a:lnTo>
                    <a:pt x="15" y="687"/>
                  </a:lnTo>
                  <a:lnTo>
                    <a:pt x="15" y="687"/>
                  </a:lnTo>
                  <a:lnTo>
                    <a:pt x="10" y="682"/>
                  </a:lnTo>
                  <a:lnTo>
                    <a:pt x="5" y="672"/>
                  </a:lnTo>
                  <a:lnTo>
                    <a:pt x="0" y="66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5" name=""/>
            <p:cNvSpPr/>
            <p:nvPr/>
          </p:nvSpPr>
          <p:spPr>
            <a:xfrm>
              <a:off x="3781080" y="3295440"/>
              <a:ext cx="7920" cy="756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5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6" name=""/>
            <p:cNvSpPr/>
            <p:nvPr/>
          </p:nvSpPr>
          <p:spPr>
            <a:xfrm>
              <a:off x="4071600" y="3184200"/>
              <a:ext cx="30240" cy="63360"/>
            </a:xfrm>
            <a:custGeom>
              <a:avLst/>
              <a:gdLst/>
              <a:ahLst/>
              <a:rect l="l" t="t" r="r" b="b"/>
              <a:pathLst>
                <a:path w="19" h="40">
                  <a:moveTo>
                    <a:pt x="19" y="20"/>
                  </a:moveTo>
                  <a:lnTo>
                    <a:pt x="14" y="10"/>
                  </a:lnTo>
                  <a:lnTo>
                    <a:pt x="9" y="5"/>
                  </a:lnTo>
                  <a:lnTo>
                    <a:pt x="5" y="0"/>
                  </a:lnTo>
                  <a:lnTo>
                    <a:pt x="5" y="5"/>
                  </a:lnTo>
                  <a:lnTo>
                    <a:pt x="0" y="10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0" y="35"/>
                  </a:lnTo>
                  <a:lnTo>
                    <a:pt x="5" y="40"/>
                  </a:lnTo>
                  <a:lnTo>
                    <a:pt x="5" y="40"/>
                  </a:lnTo>
                  <a:lnTo>
                    <a:pt x="9" y="40"/>
                  </a:lnTo>
                  <a:lnTo>
                    <a:pt x="14" y="35"/>
                  </a:lnTo>
                  <a:lnTo>
                    <a:pt x="14" y="30"/>
                  </a:lnTo>
                  <a:lnTo>
                    <a:pt x="19" y="2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7" name=""/>
            <p:cNvSpPr/>
            <p:nvPr/>
          </p:nvSpPr>
          <p:spPr>
            <a:xfrm>
              <a:off x="4117680" y="3106440"/>
              <a:ext cx="23760" cy="39240"/>
            </a:xfrm>
            <a:custGeom>
              <a:avLst/>
              <a:gdLst/>
              <a:ahLst/>
              <a:rect l="l" t="t" r="r" b="b"/>
              <a:pathLst>
                <a:path w="15" h="25">
                  <a:moveTo>
                    <a:pt x="15" y="15"/>
                  </a:moveTo>
                  <a:lnTo>
                    <a:pt x="10" y="10"/>
                  </a:lnTo>
                  <a:lnTo>
                    <a:pt x="10" y="5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0" y="10"/>
                  </a:lnTo>
                  <a:lnTo>
                    <a:pt x="0" y="15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5" y="25"/>
                  </a:lnTo>
                  <a:lnTo>
                    <a:pt x="5" y="25"/>
                  </a:lnTo>
                  <a:lnTo>
                    <a:pt x="10" y="20"/>
                  </a:lnTo>
                  <a:lnTo>
                    <a:pt x="15" y="1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8" name=""/>
            <p:cNvSpPr/>
            <p:nvPr/>
          </p:nvSpPr>
          <p:spPr>
            <a:xfrm>
              <a:off x="4525560" y="3074760"/>
              <a:ext cx="24120" cy="15480"/>
            </a:xfrm>
            <a:custGeom>
              <a:avLst/>
              <a:gdLst/>
              <a:ahLst/>
              <a:rect l="l" t="t" r="r" b="b"/>
              <a:pathLst>
                <a:path w="15" h="10">
                  <a:moveTo>
                    <a:pt x="0" y="10"/>
                  </a:moveTo>
                  <a:lnTo>
                    <a:pt x="0" y="5"/>
                  </a:lnTo>
                  <a:lnTo>
                    <a:pt x="5" y="0"/>
                  </a:lnTo>
                  <a:lnTo>
                    <a:pt x="5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5" y="0"/>
                  </a:lnTo>
                  <a:lnTo>
                    <a:pt x="15" y="5"/>
                  </a:lnTo>
                  <a:lnTo>
                    <a:pt x="15" y="5"/>
                  </a:lnTo>
                  <a:lnTo>
                    <a:pt x="15" y="10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5" y="10"/>
                  </a:lnTo>
                  <a:lnTo>
                    <a:pt x="0" y="10"/>
                  </a:lnTo>
                  <a:lnTo>
                    <a:pt x="0" y="1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9" name=""/>
            <p:cNvSpPr/>
            <p:nvPr/>
          </p:nvSpPr>
          <p:spPr>
            <a:xfrm>
              <a:off x="4117680" y="2909520"/>
              <a:ext cx="7920" cy="15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5" y="5"/>
                  </a:move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5" y="10"/>
                  </a:lnTo>
                  <a:lnTo>
                    <a:pt x="5" y="10"/>
                  </a:lnTo>
                  <a:lnTo>
                    <a:pt x="5" y="10"/>
                  </a:lnTo>
                  <a:lnTo>
                    <a:pt x="5" y="10"/>
                  </a:lnTo>
                  <a:lnTo>
                    <a:pt x="5" y="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0" name=""/>
            <p:cNvSpPr/>
            <p:nvPr/>
          </p:nvSpPr>
          <p:spPr>
            <a:xfrm>
              <a:off x="3717720" y="2690640"/>
              <a:ext cx="85680" cy="77400"/>
            </a:xfrm>
            <a:custGeom>
              <a:avLst/>
              <a:gdLst/>
              <a:ahLst/>
              <a:rect l="l" t="t" r="r" b="b"/>
              <a:pathLst>
                <a:path w="54" h="49">
                  <a:moveTo>
                    <a:pt x="0" y="35"/>
                  </a:moveTo>
                  <a:lnTo>
                    <a:pt x="5" y="35"/>
                  </a:lnTo>
                  <a:lnTo>
                    <a:pt x="10" y="30"/>
                  </a:lnTo>
                  <a:lnTo>
                    <a:pt x="15" y="25"/>
                  </a:lnTo>
                  <a:lnTo>
                    <a:pt x="20" y="20"/>
                  </a:lnTo>
                  <a:lnTo>
                    <a:pt x="20" y="20"/>
                  </a:lnTo>
                  <a:lnTo>
                    <a:pt x="25" y="15"/>
                  </a:lnTo>
                  <a:lnTo>
                    <a:pt x="30" y="10"/>
                  </a:lnTo>
                  <a:lnTo>
                    <a:pt x="35" y="5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45" y="0"/>
                  </a:lnTo>
                  <a:lnTo>
                    <a:pt x="49" y="5"/>
                  </a:lnTo>
                  <a:lnTo>
                    <a:pt x="54" y="10"/>
                  </a:lnTo>
                  <a:lnTo>
                    <a:pt x="49" y="15"/>
                  </a:lnTo>
                  <a:lnTo>
                    <a:pt x="49" y="20"/>
                  </a:lnTo>
                  <a:lnTo>
                    <a:pt x="45" y="20"/>
                  </a:lnTo>
                  <a:lnTo>
                    <a:pt x="40" y="25"/>
                  </a:lnTo>
                  <a:lnTo>
                    <a:pt x="35" y="30"/>
                  </a:lnTo>
                  <a:lnTo>
                    <a:pt x="30" y="35"/>
                  </a:lnTo>
                  <a:lnTo>
                    <a:pt x="30" y="40"/>
                  </a:lnTo>
                  <a:lnTo>
                    <a:pt x="25" y="44"/>
                  </a:lnTo>
                  <a:lnTo>
                    <a:pt x="20" y="44"/>
                  </a:lnTo>
                  <a:lnTo>
                    <a:pt x="15" y="49"/>
                  </a:lnTo>
                  <a:lnTo>
                    <a:pt x="10" y="49"/>
                  </a:lnTo>
                  <a:lnTo>
                    <a:pt x="5" y="44"/>
                  </a:lnTo>
                  <a:lnTo>
                    <a:pt x="0" y="3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1" name=""/>
            <p:cNvSpPr/>
            <p:nvPr/>
          </p:nvSpPr>
          <p:spPr>
            <a:xfrm>
              <a:off x="3835080" y="2635200"/>
              <a:ext cx="55800" cy="55080"/>
            </a:xfrm>
            <a:custGeom>
              <a:avLst/>
              <a:gdLst/>
              <a:ahLst/>
              <a:rect l="l" t="t" r="r" b="b"/>
              <a:pathLst>
                <a:path w="35" h="35">
                  <a:moveTo>
                    <a:pt x="0" y="20"/>
                  </a:moveTo>
                  <a:lnTo>
                    <a:pt x="5" y="10"/>
                  </a:lnTo>
                  <a:lnTo>
                    <a:pt x="10" y="5"/>
                  </a:lnTo>
                  <a:lnTo>
                    <a:pt x="15" y="0"/>
                  </a:lnTo>
                  <a:lnTo>
                    <a:pt x="25" y="0"/>
                  </a:lnTo>
                  <a:lnTo>
                    <a:pt x="30" y="5"/>
                  </a:lnTo>
                  <a:lnTo>
                    <a:pt x="35" y="10"/>
                  </a:lnTo>
                  <a:lnTo>
                    <a:pt x="35" y="20"/>
                  </a:lnTo>
                  <a:lnTo>
                    <a:pt x="35" y="25"/>
                  </a:lnTo>
                  <a:lnTo>
                    <a:pt x="30" y="30"/>
                  </a:lnTo>
                  <a:lnTo>
                    <a:pt x="25" y="35"/>
                  </a:lnTo>
                  <a:lnTo>
                    <a:pt x="15" y="35"/>
                  </a:lnTo>
                  <a:lnTo>
                    <a:pt x="10" y="35"/>
                  </a:lnTo>
                  <a:lnTo>
                    <a:pt x="5" y="25"/>
                  </a:lnTo>
                  <a:lnTo>
                    <a:pt x="0" y="2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2" name=""/>
            <p:cNvSpPr/>
            <p:nvPr/>
          </p:nvSpPr>
          <p:spPr>
            <a:xfrm>
              <a:off x="4794120" y="2463480"/>
              <a:ext cx="14040" cy="37800"/>
            </a:xfrm>
            <a:custGeom>
              <a:avLst/>
              <a:gdLst/>
              <a:ahLst/>
              <a:rect l="l" t="t" r="r" b="b"/>
              <a:pathLst>
                <a:path w="9" h="24">
                  <a:moveTo>
                    <a:pt x="9" y="19"/>
                  </a:moveTo>
                  <a:lnTo>
                    <a:pt x="9" y="14"/>
                  </a:lnTo>
                  <a:lnTo>
                    <a:pt x="5" y="10"/>
                  </a:lnTo>
                  <a:lnTo>
                    <a:pt x="5" y="5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10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5" y="24"/>
                  </a:lnTo>
                  <a:lnTo>
                    <a:pt x="9" y="1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3" name=""/>
            <p:cNvSpPr/>
            <p:nvPr/>
          </p:nvSpPr>
          <p:spPr>
            <a:xfrm>
              <a:off x="3898800" y="3192120"/>
              <a:ext cx="15840" cy="47520"/>
            </a:xfrm>
            <a:custGeom>
              <a:avLst/>
              <a:gdLst/>
              <a:ahLst/>
              <a:rect l="l" t="t" r="r" b="b"/>
              <a:pathLst>
                <a:path w="10" h="30">
                  <a:moveTo>
                    <a:pt x="0" y="15"/>
                  </a:moveTo>
                  <a:lnTo>
                    <a:pt x="5" y="5"/>
                  </a:lnTo>
                  <a:lnTo>
                    <a:pt x="5" y="0"/>
                  </a:lnTo>
                  <a:lnTo>
                    <a:pt x="5" y="0"/>
                  </a:lnTo>
                  <a:lnTo>
                    <a:pt x="10" y="0"/>
                  </a:lnTo>
                  <a:lnTo>
                    <a:pt x="10" y="5"/>
                  </a:lnTo>
                  <a:lnTo>
                    <a:pt x="10" y="10"/>
                  </a:lnTo>
                  <a:lnTo>
                    <a:pt x="10" y="15"/>
                  </a:lnTo>
                  <a:lnTo>
                    <a:pt x="10" y="20"/>
                  </a:lnTo>
                  <a:lnTo>
                    <a:pt x="10" y="25"/>
                  </a:lnTo>
                  <a:lnTo>
                    <a:pt x="10" y="30"/>
                  </a:lnTo>
                  <a:lnTo>
                    <a:pt x="5" y="30"/>
                  </a:lnTo>
                  <a:lnTo>
                    <a:pt x="5" y="30"/>
                  </a:lnTo>
                  <a:lnTo>
                    <a:pt x="5" y="20"/>
                  </a:lnTo>
                  <a:lnTo>
                    <a:pt x="0" y="1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4" name=""/>
            <p:cNvSpPr/>
            <p:nvPr/>
          </p:nvSpPr>
          <p:spPr>
            <a:xfrm>
              <a:off x="4039920" y="3192120"/>
              <a:ext cx="1440" cy="31680"/>
            </a:xfrm>
            <a:custGeom>
              <a:avLst/>
              <a:gdLst/>
              <a:ahLst/>
              <a:rect l="l" t="t" r="r" b="b"/>
              <a:pathLst>
                <a:path w="0" h="20">
                  <a:moveTo>
                    <a:pt x="0" y="15"/>
                  </a:moveTo>
                  <a:lnTo>
                    <a:pt x="0" y="10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10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1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5" name=""/>
            <p:cNvSpPr/>
            <p:nvPr/>
          </p:nvSpPr>
          <p:spPr>
            <a:xfrm>
              <a:off x="3936600" y="3066840"/>
              <a:ext cx="32040" cy="47160"/>
            </a:xfrm>
            <a:custGeom>
              <a:avLst/>
              <a:gdLst/>
              <a:ahLst/>
              <a:rect l="l" t="t" r="r" b="b"/>
              <a:pathLst>
                <a:path w="20" h="30">
                  <a:moveTo>
                    <a:pt x="0" y="15"/>
                  </a:moveTo>
                  <a:lnTo>
                    <a:pt x="5" y="5"/>
                  </a:lnTo>
                  <a:lnTo>
                    <a:pt x="5" y="0"/>
                  </a:lnTo>
                  <a:lnTo>
                    <a:pt x="10" y="0"/>
                  </a:lnTo>
                  <a:lnTo>
                    <a:pt x="15" y="0"/>
                  </a:lnTo>
                  <a:lnTo>
                    <a:pt x="15" y="5"/>
                  </a:lnTo>
                  <a:lnTo>
                    <a:pt x="20" y="10"/>
                  </a:lnTo>
                  <a:lnTo>
                    <a:pt x="20" y="15"/>
                  </a:lnTo>
                  <a:lnTo>
                    <a:pt x="20" y="20"/>
                  </a:lnTo>
                  <a:lnTo>
                    <a:pt x="15" y="25"/>
                  </a:lnTo>
                  <a:lnTo>
                    <a:pt x="10" y="30"/>
                  </a:lnTo>
                  <a:lnTo>
                    <a:pt x="10" y="30"/>
                  </a:lnTo>
                  <a:lnTo>
                    <a:pt x="5" y="25"/>
                  </a:lnTo>
                  <a:lnTo>
                    <a:pt x="5" y="20"/>
                  </a:lnTo>
                  <a:lnTo>
                    <a:pt x="0" y="1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6" name=""/>
            <p:cNvSpPr/>
            <p:nvPr/>
          </p:nvSpPr>
          <p:spPr>
            <a:xfrm>
              <a:off x="4071600" y="3082680"/>
              <a:ext cx="22320" cy="39240"/>
            </a:xfrm>
            <a:custGeom>
              <a:avLst/>
              <a:gdLst/>
              <a:ahLst/>
              <a:rect l="l" t="t" r="r" b="b"/>
              <a:pathLst>
                <a:path w="14" h="25">
                  <a:moveTo>
                    <a:pt x="0" y="5"/>
                  </a:moveTo>
                  <a:lnTo>
                    <a:pt x="5" y="0"/>
                  </a:lnTo>
                  <a:lnTo>
                    <a:pt x="9" y="0"/>
                  </a:lnTo>
                  <a:lnTo>
                    <a:pt x="14" y="5"/>
                  </a:lnTo>
                  <a:lnTo>
                    <a:pt x="14" y="10"/>
                  </a:lnTo>
                  <a:lnTo>
                    <a:pt x="14" y="15"/>
                  </a:lnTo>
                  <a:lnTo>
                    <a:pt x="14" y="20"/>
                  </a:lnTo>
                  <a:lnTo>
                    <a:pt x="9" y="25"/>
                  </a:lnTo>
                  <a:lnTo>
                    <a:pt x="5" y="25"/>
                  </a:lnTo>
                  <a:lnTo>
                    <a:pt x="5" y="25"/>
                  </a:lnTo>
                  <a:lnTo>
                    <a:pt x="5" y="25"/>
                  </a:lnTo>
                  <a:lnTo>
                    <a:pt x="5" y="20"/>
                  </a:lnTo>
                  <a:lnTo>
                    <a:pt x="0" y="15"/>
                  </a:lnTo>
                  <a:lnTo>
                    <a:pt x="0" y="10"/>
                  </a:lnTo>
                  <a:lnTo>
                    <a:pt x="0" y="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7" name=""/>
            <p:cNvSpPr/>
            <p:nvPr/>
          </p:nvSpPr>
          <p:spPr>
            <a:xfrm>
              <a:off x="3944520" y="2887560"/>
              <a:ext cx="47880" cy="29520"/>
            </a:xfrm>
            <a:custGeom>
              <a:avLst/>
              <a:gdLst/>
              <a:ahLst/>
              <a:rect l="l" t="t" r="r" b="b"/>
              <a:pathLst>
                <a:path w="30" h="19">
                  <a:moveTo>
                    <a:pt x="5" y="0"/>
                  </a:moveTo>
                  <a:lnTo>
                    <a:pt x="10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9"/>
                  </a:lnTo>
                  <a:lnTo>
                    <a:pt x="5" y="9"/>
                  </a:lnTo>
                  <a:lnTo>
                    <a:pt x="5" y="9"/>
                  </a:lnTo>
                  <a:lnTo>
                    <a:pt x="5" y="9"/>
                  </a:lnTo>
                  <a:lnTo>
                    <a:pt x="5" y="9"/>
                  </a:lnTo>
                  <a:lnTo>
                    <a:pt x="5" y="14"/>
                  </a:lnTo>
                  <a:lnTo>
                    <a:pt x="5" y="14"/>
                  </a:lnTo>
                  <a:lnTo>
                    <a:pt x="5" y="14"/>
                  </a:lnTo>
                  <a:lnTo>
                    <a:pt x="5" y="14"/>
                  </a:lnTo>
                  <a:lnTo>
                    <a:pt x="5" y="14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15" y="14"/>
                  </a:lnTo>
                  <a:lnTo>
                    <a:pt x="15" y="14"/>
                  </a:lnTo>
                  <a:lnTo>
                    <a:pt x="15" y="14"/>
                  </a:lnTo>
                  <a:lnTo>
                    <a:pt x="15" y="14"/>
                  </a:lnTo>
                  <a:lnTo>
                    <a:pt x="15" y="9"/>
                  </a:lnTo>
                  <a:lnTo>
                    <a:pt x="15" y="9"/>
                  </a:lnTo>
                  <a:lnTo>
                    <a:pt x="15" y="9"/>
                  </a:lnTo>
                  <a:lnTo>
                    <a:pt x="15" y="9"/>
                  </a:lnTo>
                  <a:lnTo>
                    <a:pt x="15" y="9"/>
                  </a:lnTo>
                  <a:lnTo>
                    <a:pt x="15" y="9"/>
                  </a:lnTo>
                  <a:lnTo>
                    <a:pt x="15" y="4"/>
                  </a:lnTo>
                  <a:lnTo>
                    <a:pt x="15" y="4"/>
                  </a:lnTo>
                  <a:lnTo>
                    <a:pt x="15" y="4"/>
                  </a:lnTo>
                  <a:lnTo>
                    <a:pt x="15" y="4"/>
                  </a:lnTo>
                  <a:lnTo>
                    <a:pt x="15" y="4"/>
                  </a:lnTo>
                  <a:lnTo>
                    <a:pt x="20" y="4"/>
                  </a:lnTo>
                  <a:lnTo>
                    <a:pt x="20" y="9"/>
                  </a:lnTo>
                  <a:lnTo>
                    <a:pt x="20" y="9"/>
                  </a:lnTo>
                  <a:lnTo>
                    <a:pt x="20" y="9"/>
                  </a:lnTo>
                  <a:lnTo>
                    <a:pt x="20" y="9"/>
                  </a:lnTo>
                  <a:lnTo>
                    <a:pt x="20" y="9"/>
                  </a:lnTo>
                  <a:lnTo>
                    <a:pt x="20" y="9"/>
                  </a:lnTo>
                  <a:lnTo>
                    <a:pt x="25" y="9"/>
                  </a:lnTo>
                  <a:lnTo>
                    <a:pt x="25" y="9"/>
                  </a:lnTo>
                  <a:lnTo>
                    <a:pt x="25" y="9"/>
                  </a:lnTo>
                  <a:lnTo>
                    <a:pt x="25" y="9"/>
                  </a:lnTo>
                  <a:lnTo>
                    <a:pt x="25" y="9"/>
                  </a:lnTo>
                  <a:lnTo>
                    <a:pt x="25" y="9"/>
                  </a:lnTo>
                  <a:lnTo>
                    <a:pt x="25" y="9"/>
                  </a:lnTo>
                  <a:lnTo>
                    <a:pt x="25" y="9"/>
                  </a:lnTo>
                  <a:lnTo>
                    <a:pt x="25" y="4"/>
                  </a:lnTo>
                  <a:lnTo>
                    <a:pt x="25" y="4"/>
                  </a:lnTo>
                  <a:lnTo>
                    <a:pt x="25" y="4"/>
                  </a:lnTo>
                  <a:lnTo>
                    <a:pt x="25" y="4"/>
                  </a:lnTo>
                  <a:lnTo>
                    <a:pt x="25" y="4"/>
                  </a:lnTo>
                  <a:lnTo>
                    <a:pt x="25" y="4"/>
                  </a:lnTo>
                  <a:lnTo>
                    <a:pt x="25" y="4"/>
                  </a:lnTo>
                  <a:lnTo>
                    <a:pt x="25" y="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0" y="4"/>
                  </a:lnTo>
                  <a:lnTo>
                    <a:pt x="30" y="4"/>
                  </a:lnTo>
                  <a:lnTo>
                    <a:pt x="30" y="4"/>
                  </a:lnTo>
                  <a:lnTo>
                    <a:pt x="30" y="9"/>
                  </a:lnTo>
                  <a:lnTo>
                    <a:pt x="30" y="9"/>
                  </a:lnTo>
                  <a:lnTo>
                    <a:pt x="30" y="9"/>
                  </a:lnTo>
                  <a:lnTo>
                    <a:pt x="30" y="9"/>
                  </a:lnTo>
                  <a:lnTo>
                    <a:pt x="30" y="9"/>
                  </a:lnTo>
                  <a:lnTo>
                    <a:pt x="30" y="14"/>
                  </a:lnTo>
                  <a:lnTo>
                    <a:pt x="30" y="14"/>
                  </a:lnTo>
                  <a:lnTo>
                    <a:pt x="25" y="14"/>
                  </a:lnTo>
                  <a:lnTo>
                    <a:pt x="25" y="14"/>
                  </a:lnTo>
                  <a:lnTo>
                    <a:pt x="25" y="14"/>
                  </a:lnTo>
                  <a:lnTo>
                    <a:pt x="25" y="14"/>
                  </a:lnTo>
                  <a:lnTo>
                    <a:pt x="25" y="14"/>
                  </a:lnTo>
                  <a:lnTo>
                    <a:pt x="25" y="14"/>
                  </a:lnTo>
                  <a:lnTo>
                    <a:pt x="20" y="14"/>
                  </a:lnTo>
                  <a:lnTo>
                    <a:pt x="20" y="14"/>
                  </a:lnTo>
                  <a:lnTo>
                    <a:pt x="20" y="14"/>
                  </a:lnTo>
                  <a:lnTo>
                    <a:pt x="20" y="14"/>
                  </a:lnTo>
                  <a:lnTo>
                    <a:pt x="20" y="14"/>
                  </a:lnTo>
                  <a:lnTo>
                    <a:pt x="20" y="14"/>
                  </a:lnTo>
                  <a:lnTo>
                    <a:pt x="20" y="14"/>
                  </a:lnTo>
                  <a:lnTo>
                    <a:pt x="15" y="14"/>
                  </a:lnTo>
                  <a:lnTo>
                    <a:pt x="15" y="14"/>
                  </a:lnTo>
                  <a:lnTo>
                    <a:pt x="15" y="14"/>
                  </a:lnTo>
                  <a:lnTo>
                    <a:pt x="15" y="19"/>
                  </a:lnTo>
                  <a:lnTo>
                    <a:pt x="15" y="19"/>
                  </a:lnTo>
                  <a:lnTo>
                    <a:pt x="15" y="19"/>
                  </a:lnTo>
                  <a:lnTo>
                    <a:pt x="10" y="19"/>
                  </a:lnTo>
                  <a:lnTo>
                    <a:pt x="10" y="19"/>
                  </a:lnTo>
                  <a:lnTo>
                    <a:pt x="10" y="19"/>
                  </a:lnTo>
                  <a:lnTo>
                    <a:pt x="5" y="19"/>
                  </a:lnTo>
                  <a:lnTo>
                    <a:pt x="5" y="19"/>
                  </a:lnTo>
                  <a:lnTo>
                    <a:pt x="5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5" y="4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solidFill>
                <a:srgbClr val="6666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8" name=""/>
            <p:cNvSpPr/>
            <p:nvPr/>
          </p:nvSpPr>
          <p:spPr>
            <a:xfrm>
              <a:off x="3952800" y="2917440"/>
              <a:ext cx="47520" cy="31680"/>
            </a:xfrm>
            <a:custGeom>
              <a:avLst/>
              <a:gdLst/>
              <a:ahLst/>
              <a:rect l="l" t="t" r="r" b="b"/>
              <a:pathLst>
                <a:path w="30" h="20">
                  <a:moveTo>
                    <a:pt x="15" y="0"/>
                  </a:moveTo>
                  <a:lnTo>
                    <a:pt x="15" y="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5"/>
                  </a:lnTo>
                  <a:lnTo>
                    <a:pt x="25" y="5"/>
                  </a:lnTo>
                  <a:lnTo>
                    <a:pt x="30" y="5"/>
                  </a:lnTo>
                  <a:lnTo>
                    <a:pt x="30" y="5"/>
                  </a:lnTo>
                  <a:lnTo>
                    <a:pt x="30" y="5"/>
                  </a:lnTo>
                  <a:lnTo>
                    <a:pt x="30" y="10"/>
                  </a:lnTo>
                  <a:lnTo>
                    <a:pt x="30" y="10"/>
                  </a:lnTo>
                  <a:lnTo>
                    <a:pt x="30" y="10"/>
                  </a:lnTo>
                  <a:lnTo>
                    <a:pt x="30" y="10"/>
                  </a:lnTo>
                  <a:lnTo>
                    <a:pt x="30" y="15"/>
                  </a:lnTo>
                  <a:lnTo>
                    <a:pt x="30" y="15"/>
                  </a:lnTo>
                  <a:lnTo>
                    <a:pt x="30" y="15"/>
                  </a:lnTo>
                  <a:lnTo>
                    <a:pt x="30" y="15"/>
                  </a:lnTo>
                  <a:lnTo>
                    <a:pt x="30" y="15"/>
                  </a:lnTo>
                  <a:lnTo>
                    <a:pt x="25" y="15"/>
                  </a:lnTo>
                  <a:lnTo>
                    <a:pt x="25" y="20"/>
                  </a:lnTo>
                  <a:lnTo>
                    <a:pt x="25" y="20"/>
                  </a:lnTo>
                  <a:lnTo>
                    <a:pt x="25" y="20"/>
                  </a:lnTo>
                  <a:lnTo>
                    <a:pt x="25" y="20"/>
                  </a:lnTo>
                  <a:lnTo>
                    <a:pt x="20" y="20"/>
                  </a:lnTo>
                  <a:lnTo>
                    <a:pt x="20" y="20"/>
                  </a:lnTo>
                  <a:lnTo>
                    <a:pt x="20" y="20"/>
                  </a:lnTo>
                  <a:lnTo>
                    <a:pt x="15" y="20"/>
                  </a:lnTo>
                  <a:lnTo>
                    <a:pt x="15" y="20"/>
                  </a:lnTo>
                  <a:lnTo>
                    <a:pt x="10" y="20"/>
                  </a:lnTo>
                  <a:lnTo>
                    <a:pt x="10" y="20"/>
                  </a:lnTo>
                  <a:lnTo>
                    <a:pt x="5" y="20"/>
                  </a:lnTo>
                  <a:lnTo>
                    <a:pt x="5" y="20"/>
                  </a:lnTo>
                  <a:lnTo>
                    <a:pt x="5" y="20"/>
                  </a:lnTo>
                  <a:lnTo>
                    <a:pt x="5" y="20"/>
                  </a:lnTo>
                  <a:lnTo>
                    <a:pt x="5" y="20"/>
                  </a:lnTo>
                  <a:lnTo>
                    <a:pt x="0" y="20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5" y="5"/>
                  </a:lnTo>
                  <a:lnTo>
                    <a:pt x="5" y="5"/>
                  </a:lnTo>
                  <a:lnTo>
                    <a:pt x="10" y="5"/>
                  </a:lnTo>
                  <a:lnTo>
                    <a:pt x="15" y="0"/>
                  </a:lnTo>
                  <a:close/>
                  <a:moveTo>
                    <a:pt x="15" y="5"/>
                  </a:moveTo>
                  <a:lnTo>
                    <a:pt x="10" y="5"/>
                  </a:lnTo>
                  <a:lnTo>
                    <a:pt x="10" y="10"/>
                  </a:lnTo>
                  <a:lnTo>
                    <a:pt x="5" y="10"/>
                  </a:lnTo>
                  <a:lnTo>
                    <a:pt x="5" y="10"/>
                  </a:lnTo>
                  <a:lnTo>
                    <a:pt x="5" y="10"/>
                  </a:lnTo>
                  <a:lnTo>
                    <a:pt x="5" y="10"/>
                  </a:lnTo>
                  <a:lnTo>
                    <a:pt x="5" y="15"/>
                  </a:lnTo>
                  <a:lnTo>
                    <a:pt x="5" y="15"/>
                  </a:lnTo>
                  <a:lnTo>
                    <a:pt x="5" y="15"/>
                  </a:lnTo>
                  <a:lnTo>
                    <a:pt x="5" y="15"/>
                  </a:lnTo>
                  <a:lnTo>
                    <a:pt x="5" y="15"/>
                  </a:lnTo>
                  <a:lnTo>
                    <a:pt x="5" y="20"/>
                  </a:lnTo>
                  <a:lnTo>
                    <a:pt x="10" y="20"/>
                  </a:lnTo>
                  <a:lnTo>
                    <a:pt x="10" y="20"/>
                  </a:lnTo>
                  <a:lnTo>
                    <a:pt x="15" y="20"/>
                  </a:lnTo>
                  <a:lnTo>
                    <a:pt x="15" y="15"/>
                  </a:lnTo>
                  <a:lnTo>
                    <a:pt x="20" y="15"/>
                  </a:lnTo>
                  <a:lnTo>
                    <a:pt x="25" y="15"/>
                  </a:lnTo>
                  <a:lnTo>
                    <a:pt x="25" y="15"/>
                  </a:lnTo>
                  <a:lnTo>
                    <a:pt x="25" y="15"/>
                  </a:lnTo>
                  <a:lnTo>
                    <a:pt x="25" y="10"/>
                  </a:lnTo>
                  <a:lnTo>
                    <a:pt x="25" y="10"/>
                  </a:lnTo>
                  <a:lnTo>
                    <a:pt x="25" y="10"/>
                  </a:lnTo>
                  <a:lnTo>
                    <a:pt x="25" y="10"/>
                  </a:lnTo>
                  <a:lnTo>
                    <a:pt x="25" y="10"/>
                  </a:lnTo>
                  <a:lnTo>
                    <a:pt x="25" y="5"/>
                  </a:lnTo>
                  <a:lnTo>
                    <a:pt x="25" y="5"/>
                  </a:lnTo>
                  <a:lnTo>
                    <a:pt x="25" y="5"/>
                  </a:lnTo>
                  <a:lnTo>
                    <a:pt x="25" y="5"/>
                  </a:lnTo>
                  <a:lnTo>
                    <a:pt x="20" y="5"/>
                  </a:lnTo>
                  <a:lnTo>
                    <a:pt x="15" y="5"/>
                  </a:lnTo>
                  <a:lnTo>
                    <a:pt x="15" y="5"/>
                  </a:lnTo>
                  <a:close/>
                </a:path>
              </a:pathLst>
            </a:custGeom>
            <a:solidFill>
              <a:srgbClr val="666666"/>
            </a:solidFill>
            <a:ln w="0">
              <a:solidFill>
                <a:srgbClr val="6666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9" name=""/>
            <p:cNvSpPr/>
            <p:nvPr/>
          </p:nvSpPr>
          <p:spPr>
            <a:xfrm>
              <a:off x="3960720" y="2957400"/>
              <a:ext cx="47520" cy="31320"/>
            </a:xfrm>
            <a:custGeom>
              <a:avLst/>
              <a:gdLst/>
              <a:ahLst/>
              <a:rect l="l" t="t" r="r" b="b"/>
              <a:pathLst>
                <a:path w="30" h="20">
                  <a:moveTo>
                    <a:pt x="15" y="0"/>
                  </a:moveTo>
                  <a:lnTo>
                    <a:pt x="15" y="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30" y="0"/>
                  </a:lnTo>
                  <a:lnTo>
                    <a:pt x="30" y="5"/>
                  </a:lnTo>
                  <a:lnTo>
                    <a:pt x="30" y="5"/>
                  </a:lnTo>
                  <a:lnTo>
                    <a:pt x="30" y="5"/>
                  </a:lnTo>
                  <a:lnTo>
                    <a:pt x="30" y="5"/>
                  </a:lnTo>
                  <a:lnTo>
                    <a:pt x="30" y="10"/>
                  </a:lnTo>
                  <a:lnTo>
                    <a:pt x="30" y="10"/>
                  </a:lnTo>
                  <a:lnTo>
                    <a:pt x="30" y="10"/>
                  </a:lnTo>
                  <a:lnTo>
                    <a:pt x="30" y="10"/>
                  </a:lnTo>
                  <a:lnTo>
                    <a:pt x="30" y="10"/>
                  </a:lnTo>
                  <a:lnTo>
                    <a:pt x="30" y="15"/>
                  </a:lnTo>
                  <a:lnTo>
                    <a:pt x="30" y="15"/>
                  </a:lnTo>
                  <a:lnTo>
                    <a:pt x="25" y="15"/>
                  </a:lnTo>
                  <a:lnTo>
                    <a:pt x="25" y="15"/>
                  </a:lnTo>
                  <a:lnTo>
                    <a:pt x="25" y="15"/>
                  </a:lnTo>
                  <a:lnTo>
                    <a:pt x="25" y="15"/>
                  </a:lnTo>
                  <a:lnTo>
                    <a:pt x="25" y="15"/>
                  </a:lnTo>
                  <a:lnTo>
                    <a:pt x="20" y="15"/>
                  </a:lnTo>
                  <a:lnTo>
                    <a:pt x="20" y="20"/>
                  </a:lnTo>
                  <a:lnTo>
                    <a:pt x="20" y="20"/>
                  </a:lnTo>
                  <a:lnTo>
                    <a:pt x="15" y="20"/>
                  </a:lnTo>
                  <a:lnTo>
                    <a:pt x="15" y="20"/>
                  </a:lnTo>
                  <a:lnTo>
                    <a:pt x="10" y="20"/>
                  </a:lnTo>
                  <a:lnTo>
                    <a:pt x="10" y="20"/>
                  </a:lnTo>
                  <a:lnTo>
                    <a:pt x="10" y="20"/>
                  </a:lnTo>
                  <a:lnTo>
                    <a:pt x="5" y="20"/>
                  </a:lnTo>
                  <a:lnTo>
                    <a:pt x="5" y="20"/>
                  </a:lnTo>
                  <a:lnTo>
                    <a:pt x="5" y="15"/>
                  </a:lnTo>
                  <a:lnTo>
                    <a:pt x="5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5"/>
                  </a:lnTo>
                  <a:lnTo>
                    <a:pt x="0" y="5"/>
                  </a:lnTo>
                  <a:lnTo>
                    <a:pt x="5" y="5"/>
                  </a:lnTo>
                  <a:lnTo>
                    <a:pt x="5" y="0"/>
                  </a:lnTo>
                  <a:lnTo>
                    <a:pt x="10" y="0"/>
                  </a:lnTo>
                  <a:lnTo>
                    <a:pt x="15" y="0"/>
                  </a:lnTo>
                  <a:close/>
                  <a:moveTo>
                    <a:pt x="15" y="5"/>
                  </a:moveTo>
                  <a:lnTo>
                    <a:pt x="10" y="5"/>
                  </a:lnTo>
                  <a:lnTo>
                    <a:pt x="10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10"/>
                  </a:lnTo>
                  <a:lnTo>
                    <a:pt x="5" y="10"/>
                  </a:lnTo>
                  <a:lnTo>
                    <a:pt x="5" y="10"/>
                  </a:lnTo>
                  <a:lnTo>
                    <a:pt x="5" y="10"/>
                  </a:lnTo>
                  <a:lnTo>
                    <a:pt x="5" y="15"/>
                  </a:lnTo>
                  <a:lnTo>
                    <a:pt x="5" y="15"/>
                  </a:lnTo>
                  <a:lnTo>
                    <a:pt x="5" y="15"/>
                  </a:lnTo>
                  <a:lnTo>
                    <a:pt x="5" y="15"/>
                  </a:lnTo>
                  <a:lnTo>
                    <a:pt x="10" y="15"/>
                  </a:lnTo>
                  <a:lnTo>
                    <a:pt x="10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20" y="15"/>
                  </a:lnTo>
                  <a:lnTo>
                    <a:pt x="25" y="15"/>
                  </a:lnTo>
                  <a:lnTo>
                    <a:pt x="25" y="10"/>
                  </a:lnTo>
                  <a:lnTo>
                    <a:pt x="25" y="10"/>
                  </a:lnTo>
                  <a:lnTo>
                    <a:pt x="25" y="10"/>
                  </a:lnTo>
                  <a:lnTo>
                    <a:pt x="25" y="10"/>
                  </a:lnTo>
                  <a:lnTo>
                    <a:pt x="25" y="10"/>
                  </a:lnTo>
                  <a:lnTo>
                    <a:pt x="25" y="5"/>
                  </a:lnTo>
                  <a:lnTo>
                    <a:pt x="25" y="5"/>
                  </a:lnTo>
                  <a:lnTo>
                    <a:pt x="25" y="5"/>
                  </a:lnTo>
                  <a:lnTo>
                    <a:pt x="25" y="5"/>
                  </a:lnTo>
                  <a:lnTo>
                    <a:pt x="25" y="5"/>
                  </a:lnTo>
                  <a:lnTo>
                    <a:pt x="25" y="0"/>
                  </a:lnTo>
                  <a:lnTo>
                    <a:pt x="20" y="0"/>
                  </a:lnTo>
                  <a:lnTo>
                    <a:pt x="20" y="5"/>
                  </a:lnTo>
                  <a:lnTo>
                    <a:pt x="15" y="5"/>
                  </a:lnTo>
                  <a:close/>
                </a:path>
              </a:pathLst>
            </a:custGeom>
            <a:solidFill>
              <a:srgbClr val="666666"/>
            </a:solidFill>
            <a:ln w="0">
              <a:solidFill>
                <a:srgbClr val="6666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0" name=""/>
            <p:cNvSpPr/>
            <p:nvPr/>
          </p:nvSpPr>
          <p:spPr>
            <a:xfrm flipV="1">
              <a:off x="3960720" y="2863440"/>
              <a:ext cx="1440" cy="7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1" name=""/>
            <p:cNvSpPr/>
            <p:nvPr/>
          </p:nvSpPr>
          <p:spPr>
            <a:xfrm>
              <a:off x="3960720" y="2415960"/>
              <a:ext cx="1562040" cy="447480"/>
            </a:xfrm>
            <a:custGeom>
              <a:avLst/>
              <a:gdLst/>
              <a:ahLst/>
              <a:rect l="l" t="t" r="r" b="b"/>
              <a:pathLst>
                <a:path w="984" h="282">
                  <a:moveTo>
                    <a:pt x="0" y="282"/>
                  </a:moveTo>
                  <a:lnTo>
                    <a:pt x="0" y="277"/>
                  </a:lnTo>
                  <a:lnTo>
                    <a:pt x="5" y="272"/>
                  </a:lnTo>
                  <a:lnTo>
                    <a:pt x="5" y="267"/>
                  </a:lnTo>
                  <a:lnTo>
                    <a:pt x="5" y="262"/>
                  </a:lnTo>
                  <a:lnTo>
                    <a:pt x="5" y="252"/>
                  </a:lnTo>
                  <a:lnTo>
                    <a:pt x="5" y="247"/>
                  </a:lnTo>
                  <a:lnTo>
                    <a:pt x="10" y="242"/>
                  </a:lnTo>
                  <a:lnTo>
                    <a:pt x="10" y="237"/>
                  </a:lnTo>
                  <a:lnTo>
                    <a:pt x="20" y="237"/>
                  </a:lnTo>
                  <a:lnTo>
                    <a:pt x="25" y="232"/>
                  </a:lnTo>
                  <a:lnTo>
                    <a:pt x="35" y="227"/>
                  </a:lnTo>
                  <a:lnTo>
                    <a:pt x="40" y="227"/>
                  </a:lnTo>
                  <a:lnTo>
                    <a:pt x="45" y="222"/>
                  </a:lnTo>
                  <a:lnTo>
                    <a:pt x="50" y="217"/>
                  </a:lnTo>
                  <a:lnTo>
                    <a:pt x="55" y="213"/>
                  </a:lnTo>
                  <a:lnTo>
                    <a:pt x="65" y="213"/>
                  </a:lnTo>
                  <a:lnTo>
                    <a:pt x="70" y="208"/>
                  </a:lnTo>
                  <a:lnTo>
                    <a:pt x="79" y="208"/>
                  </a:lnTo>
                  <a:lnTo>
                    <a:pt x="84" y="208"/>
                  </a:lnTo>
                  <a:lnTo>
                    <a:pt x="94" y="208"/>
                  </a:lnTo>
                  <a:lnTo>
                    <a:pt x="104" y="208"/>
                  </a:lnTo>
                  <a:lnTo>
                    <a:pt x="114" y="208"/>
                  </a:lnTo>
                  <a:lnTo>
                    <a:pt x="119" y="213"/>
                  </a:lnTo>
                  <a:lnTo>
                    <a:pt x="124" y="217"/>
                  </a:lnTo>
                  <a:lnTo>
                    <a:pt x="134" y="217"/>
                  </a:lnTo>
                  <a:lnTo>
                    <a:pt x="139" y="217"/>
                  </a:lnTo>
                  <a:lnTo>
                    <a:pt x="149" y="217"/>
                  </a:lnTo>
                  <a:lnTo>
                    <a:pt x="159" y="217"/>
                  </a:lnTo>
                  <a:lnTo>
                    <a:pt x="168" y="213"/>
                  </a:lnTo>
                  <a:lnTo>
                    <a:pt x="178" y="213"/>
                  </a:lnTo>
                  <a:lnTo>
                    <a:pt x="183" y="208"/>
                  </a:lnTo>
                  <a:lnTo>
                    <a:pt x="178" y="208"/>
                  </a:lnTo>
                  <a:lnTo>
                    <a:pt x="173" y="203"/>
                  </a:lnTo>
                  <a:lnTo>
                    <a:pt x="168" y="198"/>
                  </a:lnTo>
                  <a:lnTo>
                    <a:pt x="159" y="193"/>
                  </a:lnTo>
                  <a:lnTo>
                    <a:pt x="154" y="188"/>
                  </a:lnTo>
                  <a:lnTo>
                    <a:pt x="154" y="183"/>
                  </a:lnTo>
                  <a:lnTo>
                    <a:pt x="154" y="178"/>
                  </a:lnTo>
                  <a:lnTo>
                    <a:pt x="159" y="178"/>
                  </a:lnTo>
                  <a:lnTo>
                    <a:pt x="164" y="178"/>
                  </a:lnTo>
                  <a:lnTo>
                    <a:pt x="168" y="188"/>
                  </a:lnTo>
                  <a:lnTo>
                    <a:pt x="173" y="193"/>
                  </a:lnTo>
                  <a:lnTo>
                    <a:pt x="178" y="203"/>
                  </a:lnTo>
                  <a:lnTo>
                    <a:pt x="178" y="208"/>
                  </a:lnTo>
                  <a:lnTo>
                    <a:pt x="178" y="208"/>
                  </a:lnTo>
                  <a:lnTo>
                    <a:pt x="183" y="208"/>
                  </a:lnTo>
                  <a:lnTo>
                    <a:pt x="188" y="203"/>
                  </a:lnTo>
                  <a:lnTo>
                    <a:pt x="193" y="198"/>
                  </a:lnTo>
                  <a:lnTo>
                    <a:pt x="203" y="193"/>
                  </a:lnTo>
                  <a:lnTo>
                    <a:pt x="208" y="193"/>
                  </a:lnTo>
                  <a:lnTo>
                    <a:pt x="218" y="188"/>
                  </a:lnTo>
                  <a:lnTo>
                    <a:pt x="228" y="188"/>
                  </a:lnTo>
                  <a:lnTo>
                    <a:pt x="233" y="188"/>
                  </a:lnTo>
                  <a:lnTo>
                    <a:pt x="243" y="183"/>
                  </a:lnTo>
                  <a:lnTo>
                    <a:pt x="248" y="183"/>
                  </a:lnTo>
                  <a:lnTo>
                    <a:pt x="253" y="173"/>
                  </a:lnTo>
                  <a:lnTo>
                    <a:pt x="258" y="168"/>
                  </a:lnTo>
                  <a:lnTo>
                    <a:pt x="262" y="168"/>
                  </a:lnTo>
                  <a:lnTo>
                    <a:pt x="267" y="168"/>
                  </a:lnTo>
                  <a:lnTo>
                    <a:pt x="277" y="168"/>
                  </a:lnTo>
                  <a:lnTo>
                    <a:pt x="287" y="168"/>
                  </a:lnTo>
                  <a:lnTo>
                    <a:pt x="292" y="163"/>
                  </a:lnTo>
                  <a:lnTo>
                    <a:pt x="302" y="163"/>
                  </a:lnTo>
                  <a:lnTo>
                    <a:pt x="307" y="158"/>
                  </a:lnTo>
                  <a:lnTo>
                    <a:pt x="312" y="148"/>
                  </a:lnTo>
                  <a:lnTo>
                    <a:pt x="312" y="143"/>
                  </a:lnTo>
                  <a:lnTo>
                    <a:pt x="317" y="143"/>
                  </a:lnTo>
                  <a:lnTo>
                    <a:pt x="327" y="143"/>
                  </a:lnTo>
                  <a:lnTo>
                    <a:pt x="337" y="143"/>
                  </a:lnTo>
                  <a:lnTo>
                    <a:pt x="347" y="138"/>
                  </a:lnTo>
                  <a:lnTo>
                    <a:pt x="351" y="138"/>
                  </a:lnTo>
                  <a:lnTo>
                    <a:pt x="361" y="133"/>
                  </a:lnTo>
                  <a:lnTo>
                    <a:pt x="366" y="133"/>
                  </a:lnTo>
                  <a:lnTo>
                    <a:pt x="376" y="129"/>
                  </a:lnTo>
                  <a:lnTo>
                    <a:pt x="381" y="124"/>
                  </a:lnTo>
                  <a:lnTo>
                    <a:pt x="386" y="119"/>
                  </a:lnTo>
                  <a:lnTo>
                    <a:pt x="391" y="119"/>
                  </a:lnTo>
                  <a:lnTo>
                    <a:pt x="396" y="114"/>
                  </a:lnTo>
                  <a:lnTo>
                    <a:pt x="406" y="114"/>
                  </a:lnTo>
                  <a:lnTo>
                    <a:pt x="416" y="114"/>
                  </a:lnTo>
                  <a:lnTo>
                    <a:pt x="426" y="109"/>
                  </a:lnTo>
                  <a:lnTo>
                    <a:pt x="431" y="109"/>
                  </a:lnTo>
                  <a:lnTo>
                    <a:pt x="436" y="104"/>
                  </a:lnTo>
                  <a:lnTo>
                    <a:pt x="431" y="99"/>
                  </a:lnTo>
                  <a:lnTo>
                    <a:pt x="421" y="94"/>
                  </a:lnTo>
                  <a:lnTo>
                    <a:pt x="411" y="99"/>
                  </a:lnTo>
                  <a:lnTo>
                    <a:pt x="401" y="99"/>
                  </a:lnTo>
                  <a:lnTo>
                    <a:pt x="396" y="99"/>
                  </a:lnTo>
                  <a:lnTo>
                    <a:pt x="391" y="99"/>
                  </a:lnTo>
                  <a:lnTo>
                    <a:pt x="381" y="94"/>
                  </a:lnTo>
                  <a:lnTo>
                    <a:pt x="376" y="89"/>
                  </a:lnTo>
                  <a:lnTo>
                    <a:pt x="376" y="79"/>
                  </a:lnTo>
                  <a:lnTo>
                    <a:pt x="376" y="74"/>
                  </a:lnTo>
                  <a:lnTo>
                    <a:pt x="376" y="69"/>
                  </a:lnTo>
                  <a:lnTo>
                    <a:pt x="381" y="64"/>
                  </a:lnTo>
                  <a:lnTo>
                    <a:pt x="391" y="59"/>
                  </a:lnTo>
                  <a:lnTo>
                    <a:pt x="396" y="59"/>
                  </a:lnTo>
                  <a:lnTo>
                    <a:pt x="406" y="59"/>
                  </a:lnTo>
                  <a:lnTo>
                    <a:pt x="416" y="59"/>
                  </a:lnTo>
                  <a:lnTo>
                    <a:pt x="421" y="59"/>
                  </a:lnTo>
                  <a:lnTo>
                    <a:pt x="431" y="64"/>
                  </a:lnTo>
                  <a:lnTo>
                    <a:pt x="436" y="69"/>
                  </a:lnTo>
                  <a:lnTo>
                    <a:pt x="436" y="74"/>
                  </a:lnTo>
                  <a:lnTo>
                    <a:pt x="440" y="79"/>
                  </a:lnTo>
                  <a:lnTo>
                    <a:pt x="440" y="84"/>
                  </a:lnTo>
                  <a:lnTo>
                    <a:pt x="445" y="89"/>
                  </a:lnTo>
                  <a:lnTo>
                    <a:pt x="450" y="94"/>
                  </a:lnTo>
                  <a:lnTo>
                    <a:pt x="455" y="94"/>
                  </a:lnTo>
                  <a:lnTo>
                    <a:pt x="465" y="94"/>
                  </a:lnTo>
                  <a:lnTo>
                    <a:pt x="475" y="89"/>
                  </a:lnTo>
                  <a:lnTo>
                    <a:pt x="485" y="84"/>
                  </a:lnTo>
                  <a:lnTo>
                    <a:pt x="495" y="79"/>
                  </a:lnTo>
                  <a:lnTo>
                    <a:pt x="495" y="79"/>
                  </a:lnTo>
                  <a:lnTo>
                    <a:pt x="490" y="74"/>
                  </a:lnTo>
                  <a:lnTo>
                    <a:pt x="485" y="74"/>
                  </a:lnTo>
                  <a:lnTo>
                    <a:pt x="475" y="69"/>
                  </a:lnTo>
                  <a:lnTo>
                    <a:pt x="465" y="64"/>
                  </a:lnTo>
                  <a:lnTo>
                    <a:pt x="460" y="64"/>
                  </a:lnTo>
                  <a:lnTo>
                    <a:pt x="455" y="59"/>
                  </a:lnTo>
                  <a:lnTo>
                    <a:pt x="455" y="49"/>
                  </a:lnTo>
                  <a:lnTo>
                    <a:pt x="455" y="44"/>
                  </a:lnTo>
                  <a:lnTo>
                    <a:pt x="460" y="40"/>
                  </a:lnTo>
                  <a:lnTo>
                    <a:pt x="465" y="35"/>
                  </a:lnTo>
                  <a:lnTo>
                    <a:pt x="470" y="35"/>
                  </a:lnTo>
                  <a:lnTo>
                    <a:pt x="480" y="30"/>
                  </a:lnTo>
                  <a:lnTo>
                    <a:pt x="490" y="30"/>
                  </a:lnTo>
                  <a:lnTo>
                    <a:pt x="495" y="30"/>
                  </a:lnTo>
                  <a:lnTo>
                    <a:pt x="505" y="30"/>
                  </a:lnTo>
                  <a:lnTo>
                    <a:pt x="510" y="35"/>
                  </a:lnTo>
                  <a:lnTo>
                    <a:pt x="515" y="40"/>
                  </a:lnTo>
                  <a:lnTo>
                    <a:pt x="520" y="44"/>
                  </a:lnTo>
                  <a:lnTo>
                    <a:pt x="520" y="49"/>
                  </a:lnTo>
                  <a:lnTo>
                    <a:pt x="525" y="59"/>
                  </a:lnTo>
                  <a:lnTo>
                    <a:pt x="525" y="64"/>
                  </a:lnTo>
                  <a:lnTo>
                    <a:pt x="530" y="64"/>
                  </a:lnTo>
                  <a:lnTo>
                    <a:pt x="534" y="64"/>
                  </a:lnTo>
                  <a:lnTo>
                    <a:pt x="539" y="59"/>
                  </a:lnTo>
                  <a:lnTo>
                    <a:pt x="549" y="54"/>
                  </a:lnTo>
                  <a:lnTo>
                    <a:pt x="559" y="54"/>
                  </a:lnTo>
                  <a:lnTo>
                    <a:pt x="569" y="54"/>
                  </a:lnTo>
                  <a:lnTo>
                    <a:pt x="574" y="54"/>
                  </a:lnTo>
                  <a:lnTo>
                    <a:pt x="584" y="49"/>
                  </a:lnTo>
                  <a:lnTo>
                    <a:pt x="579" y="49"/>
                  </a:lnTo>
                  <a:lnTo>
                    <a:pt x="569" y="49"/>
                  </a:lnTo>
                  <a:lnTo>
                    <a:pt x="559" y="49"/>
                  </a:lnTo>
                  <a:lnTo>
                    <a:pt x="554" y="44"/>
                  </a:lnTo>
                  <a:lnTo>
                    <a:pt x="544" y="44"/>
                  </a:lnTo>
                  <a:lnTo>
                    <a:pt x="539" y="40"/>
                  </a:lnTo>
                  <a:lnTo>
                    <a:pt x="534" y="35"/>
                  </a:lnTo>
                  <a:lnTo>
                    <a:pt x="534" y="30"/>
                  </a:lnTo>
                  <a:lnTo>
                    <a:pt x="534" y="20"/>
                  </a:lnTo>
                  <a:lnTo>
                    <a:pt x="534" y="15"/>
                  </a:lnTo>
                  <a:lnTo>
                    <a:pt x="539" y="10"/>
                  </a:lnTo>
                  <a:lnTo>
                    <a:pt x="549" y="10"/>
                  </a:lnTo>
                  <a:lnTo>
                    <a:pt x="554" y="5"/>
                  </a:lnTo>
                  <a:lnTo>
                    <a:pt x="564" y="5"/>
                  </a:lnTo>
                  <a:lnTo>
                    <a:pt x="569" y="0"/>
                  </a:lnTo>
                  <a:lnTo>
                    <a:pt x="579" y="0"/>
                  </a:lnTo>
                  <a:lnTo>
                    <a:pt x="589" y="0"/>
                  </a:lnTo>
                  <a:lnTo>
                    <a:pt x="599" y="5"/>
                  </a:lnTo>
                  <a:lnTo>
                    <a:pt x="604" y="5"/>
                  </a:lnTo>
                  <a:lnTo>
                    <a:pt x="609" y="10"/>
                  </a:lnTo>
                  <a:lnTo>
                    <a:pt x="614" y="15"/>
                  </a:lnTo>
                  <a:lnTo>
                    <a:pt x="619" y="20"/>
                  </a:lnTo>
                  <a:lnTo>
                    <a:pt x="628" y="25"/>
                  </a:lnTo>
                  <a:lnTo>
                    <a:pt x="633" y="25"/>
                  </a:lnTo>
                  <a:lnTo>
                    <a:pt x="643" y="30"/>
                  </a:lnTo>
                  <a:lnTo>
                    <a:pt x="648" y="30"/>
                  </a:lnTo>
                  <a:lnTo>
                    <a:pt x="658" y="30"/>
                  </a:lnTo>
                  <a:lnTo>
                    <a:pt x="668" y="30"/>
                  </a:lnTo>
                  <a:lnTo>
                    <a:pt x="678" y="30"/>
                  </a:lnTo>
                  <a:lnTo>
                    <a:pt x="683" y="30"/>
                  </a:lnTo>
                  <a:lnTo>
                    <a:pt x="693" y="30"/>
                  </a:lnTo>
                  <a:lnTo>
                    <a:pt x="703" y="30"/>
                  </a:lnTo>
                  <a:lnTo>
                    <a:pt x="708" y="35"/>
                  </a:lnTo>
                  <a:lnTo>
                    <a:pt x="712" y="40"/>
                  </a:lnTo>
                  <a:lnTo>
                    <a:pt x="722" y="44"/>
                  </a:lnTo>
                  <a:lnTo>
                    <a:pt x="722" y="44"/>
                  </a:lnTo>
                  <a:lnTo>
                    <a:pt x="732" y="49"/>
                  </a:lnTo>
                  <a:lnTo>
                    <a:pt x="737" y="54"/>
                  </a:lnTo>
                  <a:lnTo>
                    <a:pt x="747" y="54"/>
                  </a:lnTo>
                  <a:lnTo>
                    <a:pt x="752" y="59"/>
                  </a:lnTo>
                  <a:lnTo>
                    <a:pt x="762" y="59"/>
                  </a:lnTo>
                  <a:lnTo>
                    <a:pt x="772" y="59"/>
                  </a:lnTo>
                  <a:lnTo>
                    <a:pt x="777" y="59"/>
                  </a:lnTo>
                  <a:lnTo>
                    <a:pt x="787" y="59"/>
                  </a:lnTo>
                  <a:lnTo>
                    <a:pt x="797" y="59"/>
                  </a:lnTo>
                  <a:lnTo>
                    <a:pt x="802" y="59"/>
                  </a:lnTo>
                  <a:lnTo>
                    <a:pt x="811" y="64"/>
                  </a:lnTo>
                  <a:lnTo>
                    <a:pt x="821" y="64"/>
                  </a:lnTo>
                  <a:lnTo>
                    <a:pt x="826" y="69"/>
                  </a:lnTo>
                  <a:lnTo>
                    <a:pt x="831" y="74"/>
                  </a:lnTo>
                  <a:lnTo>
                    <a:pt x="836" y="79"/>
                  </a:lnTo>
                  <a:lnTo>
                    <a:pt x="841" y="84"/>
                  </a:lnTo>
                  <a:lnTo>
                    <a:pt x="846" y="89"/>
                  </a:lnTo>
                  <a:lnTo>
                    <a:pt x="851" y="89"/>
                  </a:lnTo>
                  <a:lnTo>
                    <a:pt x="861" y="89"/>
                  </a:lnTo>
                  <a:lnTo>
                    <a:pt x="871" y="89"/>
                  </a:lnTo>
                  <a:lnTo>
                    <a:pt x="881" y="89"/>
                  </a:lnTo>
                  <a:lnTo>
                    <a:pt x="886" y="94"/>
                  </a:lnTo>
                  <a:lnTo>
                    <a:pt x="895" y="94"/>
                  </a:lnTo>
                  <a:lnTo>
                    <a:pt x="905" y="94"/>
                  </a:lnTo>
                  <a:lnTo>
                    <a:pt x="915" y="94"/>
                  </a:lnTo>
                  <a:lnTo>
                    <a:pt x="920" y="94"/>
                  </a:lnTo>
                  <a:lnTo>
                    <a:pt x="930" y="94"/>
                  </a:lnTo>
                  <a:lnTo>
                    <a:pt x="935" y="99"/>
                  </a:lnTo>
                  <a:lnTo>
                    <a:pt x="935" y="104"/>
                  </a:lnTo>
                  <a:lnTo>
                    <a:pt x="940" y="114"/>
                  </a:lnTo>
                  <a:lnTo>
                    <a:pt x="945" y="119"/>
                  </a:lnTo>
                  <a:lnTo>
                    <a:pt x="945" y="124"/>
                  </a:lnTo>
                  <a:lnTo>
                    <a:pt x="955" y="124"/>
                  </a:lnTo>
                  <a:lnTo>
                    <a:pt x="960" y="129"/>
                  </a:lnTo>
                  <a:lnTo>
                    <a:pt x="970" y="129"/>
                  </a:lnTo>
                  <a:lnTo>
                    <a:pt x="980" y="129"/>
                  </a:lnTo>
                  <a:lnTo>
                    <a:pt x="980" y="133"/>
                  </a:lnTo>
                  <a:lnTo>
                    <a:pt x="984" y="138"/>
                  </a:lnTo>
                  <a:lnTo>
                    <a:pt x="980" y="143"/>
                  </a:lnTo>
                  <a:lnTo>
                    <a:pt x="980" y="153"/>
                  </a:lnTo>
                  <a:lnTo>
                    <a:pt x="980" y="158"/>
                  </a:lnTo>
                  <a:lnTo>
                    <a:pt x="980" y="163"/>
                  </a:lnTo>
                  <a:lnTo>
                    <a:pt x="980" y="168"/>
                  </a:lnTo>
                  <a:lnTo>
                    <a:pt x="980" y="173"/>
                  </a:lnTo>
                  <a:lnTo>
                    <a:pt x="980" y="178"/>
                  </a:lnTo>
                  <a:lnTo>
                    <a:pt x="980" y="183"/>
                  </a:lnTo>
                  <a:lnTo>
                    <a:pt x="980" y="18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2" name=""/>
            <p:cNvSpPr/>
            <p:nvPr/>
          </p:nvSpPr>
          <p:spPr>
            <a:xfrm>
              <a:off x="5516280" y="2714400"/>
              <a:ext cx="180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3" name=""/>
            <p:cNvSpPr/>
            <p:nvPr/>
          </p:nvSpPr>
          <p:spPr>
            <a:xfrm>
              <a:off x="5445000" y="2792160"/>
              <a:ext cx="47520" cy="39240"/>
            </a:xfrm>
            <a:custGeom>
              <a:avLst/>
              <a:gdLst/>
              <a:ahLst/>
              <a:rect l="l" t="t" r="r" b="b"/>
              <a:pathLst>
                <a:path w="30" h="25">
                  <a:moveTo>
                    <a:pt x="20" y="25"/>
                  </a:moveTo>
                  <a:lnTo>
                    <a:pt x="20" y="20"/>
                  </a:lnTo>
                  <a:lnTo>
                    <a:pt x="20" y="20"/>
                  </a:lnTo>
                  <a:lnTo>
                    <a:pt x="20" y="20"/>
                  </a:lnTo>
                  <a:lnTo>
                    <a:pt x="25" y="20"/>
                  </a:lnTo>
                  <a:lnTo>
                    <a:pt x="25" y="20"/>
                  </a:lnTo>
                  <a:lnTo>
                    <a:pt x="25" y="20"/>
                  </a:lnTo>
                  <a:lnTo>
                    <a:pt x="25" y="20"/>
                  </a:lnTo>
                  <a:lnTo>
                    <a:pt x="25" y="20"/>
                  </a:lnTo>
                  <a:lnTo>
                    <a:pt x="25" y="20"/>
                  </a:lnTo>
                  <a:lnTo>
                    <a:pt x="25" y="15"/>
                  </a:lnTo>
                  <a:lnTo>
                    <a:pt x="25" y="15"/>
                  </a:lnTo>
                  <a:lnTo>
                    <a:pt x="25" y="15"/>
                  </a:lnTo>
                  <a:lnTo>
                    <a:pt x="25" y="15"/>
                  </a:lnTo>
                  <a:lnTo>
                    <a:pt x="25" y="10"/>
                  </a:lnTo>
                  <a:lnTo>
                    <a:pt x="25" y="10"/>
                  </a:lnTo>
                  <a:lnTo>
                    <a:pt x="25" y="10"/>
                  </a:lnTo>
                  <a:lnTo>
                    <a:pt x="25" y="10"/>
                  </a:lnTo>
                  <a:lnTo>
                    <a:pt x="20" y="10"/>
                  </a:lnTo>
                  <a:lnTo>
                    <a:pt x="20" y="10"/>
                  </a:lnTo>
                  <a:lnTo>
                    <a:pt x="20" y="10"/>
                  </a:lnTo>
                  <a:lnTo>
                    <a:pt x="20" y="10"/>
                  </a:lnTo>
                  <a:lnTo>
                    <a:pt x="20" y="10"/>
                  </a:lnTo>
                  <a:lnTo>
                    <a:pt x="15" y="10"/>
                  </a:lnTo>
                  <a:lnTo>
                    <a:pt x="15" y="10"/>
                  </a:lnTo>
                  <a:lnTo>
                    <a:pt x="15" y="10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0" y="15"/>
                  </a:lnTo>
                  <a:lnTo>
                    <a:pt x="10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0"/>
                  </a:lnTo>
                  <a:lnTo>
                    <a:pt x="15" y="10"/>
                  </a:lnTo>
                  <a:lnTo>
                    <a:pt x="15" y="10"/>
                  </a:lnTo>
                  <a:lnTo>
                    <a:pt x="15" y="10"/>
                  </a:lnTo>
                  <a:lnTo>
                    <a:pt x="15" y="10"/>
                  </a:lnTo>
                  <a:lnTo>
                    <a:pt x="15" y="5"/>
                  </a:lnTo>
                  <a:lnTo>
                    <a:pt x="15" y="5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10"/>
                  </a:lnTo>
                  <a:lnTo>
                    <a:pt x="5" y="10"/>
                  </a:lnTo>
                  <a:lnTo>
                    <a:pt x="5" y="10"/>
                  </a:lnTo>
                  <a:lnTo>
                    <a:pt x="5" y="10"/>
                  </a:lnTo>
                  <a:lnTo>
                    <a:pt x="5" y="10"/>
                  </a:lnTo>
                  <a:lnTo>
                    <a:pt x="5" y="15"/>
                  </a:lnTo>
                  <a:lnTo>
                    <a:pt x="5" y="15"/>
                  </a:lnTo>
                  <a:lnTo>
                    <a:pt x="5" y="15"/>
                  </a:lnTo>
                  <a:lnTo>
                    <a:pt x="5" y="15"/>
                  </a:lnTo>
                  <a:lnTo>
                    <a:pt x="5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5"/>
                  </a:lnTo>
                  <a:lnTo>
                    <a:pt x="0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5"/>
                  </a:lnTo>
                  <a:lnTo>
                    <a:pt x="15" y="5"/>
                  </a:lnTo>
                  <a:lnTo>
                    <a:pt x="15" y="5"/>
                  </a:lnTo>
                  <a:lnTo>
                    <a:pt x="15" y="5"/>
                  </a:lnTo>
                  <a:lnTo>
                    <a:pt x="15" y="5"/>
                  </a:lnTo>
                  <a:lnTo>
                    <a:pt x="15" y="10"/>
                  </a:lnTo>
                  <a:lnTo>
                    <a:pt x="15" y="5"/>
                  </a:lnTo>
                  <a:lnTo>
                    <a:pt x="20" y="5"/>
                  </a:lnTo>
                  <a:lnTo>
                    <a:pt x="20" y="5"/>
                  </a:lnTo>
                  <a:lnTo>
                    <a:pt x="20" y="5"/>
                  </a:lnTo>
                  <a:lnTo>
                    <a:pt x="20" y="5"/>
                  </a:lnTo>
                  <a:lnTo>
                    <a:pt x="25" y="5"/>
                  </a:lnTo>
                  <a:lnTo>
                    <a:pt x="25" y="5"/>
                  </a:lnTo>
                  <a:lnTo>
                    <a:pt x="25" y="5"/>
                  </a:lnTo>
                  <a:lnTo>
                    <a:pt x="25" y="5"/>
                  </a:lnTo>
                  <a:lnTo>
                    <a:pt x="30" y="10"/>
                  </a:lnTo>
                  <a:lnTo>
                    <a:pt x="30" y="10"/>
                  </a:lnTo>
                  <a:lnTo>
                    <a:pt x="30" y="10"/>
                  </a:lnTo>
                  <a:lnTo>
                    <a:pt x="30" y="15"/>
                  </a:lnTo>
                  <a:lnTo>
                    <a:pt x="30" y="15"/>
                  </a:lnTo>
                  <a:lnTo>
                    <a:pt x="30" y="15"/>
                  </a:lnTo>
                  <a:lnTo>
                    <a:pt x="30" y="20"/>
                  </a:lnTo>
                  <a:lnTo>
                    <a:pt x="30" y="20"/>
                  </a:lnTo>
                  <a:lnTo>
                    <a:pt x="25" y="20"/>
                  </a:lnTo>
                  <a:lnTo>
                    <a:pt x="25" y="25"/>
                  </a:lnTo>
                  <a:lnTo>
                    <a:pt x="25" y="25"/>
                  </a:lnTo>
                  <a:lnTo>
                    <a:pt x="25" y="25"/>
                  </a:lnTo>
                  <a:lnTo>
                    <a:pt x="20" y="25"/>
                  </a:lnTo>
                  <a:lnTo>
                    <a:pt x="20" y="25"/>
                  </a:lnTo>
                  <a:lnTo>
                    <a:pt x="20" y="25"/>
                  </a:lnTo>
                  <a:close/>
                </a:path>
              </a:pathLst>
            </a:custGeom>
            <a:solidFill>
              <a:srgbClr val="666666"/>
            </a:solidFill>
            <a:ln w="0">
              <a:solidFill>
                <a:srgbClr val="6666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4" name=""/>
            <p:cNvSpPr/>
            <p:nvPr/>
          </p:nvSpPr>
          <p:spPr>
            <a:xfrm>
              <a:off x="5460840" y="2760480"/>
              <a:ext cx="47520" cy="39240"/>
            </a:xfrm>
            <a:custGeom>
              <a:avLst/>
              <a:gdLst/>
              <a:ahLst/>
              <a:rect l="l" t="t" r="r" b="b"/>
              <a:pathLst>
                <a:path w="30" h="25">
                  <a:moveTo>
                    <a:pt x="10" y="20"/>
                  </a:moveTo>
                  <a:lnTo>
                    <a:pt x="10" y="20"/>
                  </a:lnTo>
                  <a:lnTo>
                    <a:pt x="5" y="20"/>
                  </a:lnTo>
                  <a:lnTo>
                    <a:pt x="5" y="15"/>
                  </a:lnTo>
                  <a:lnTo>
                    <a:pt x="5" y="15"/>
                  </a:lnTo>
                  <a:lnTo>
                    <a:pt x="5" y="15"/>
                  </a:lnTo>
                  <a:lnTo>
                    <a:pt x="0" y="15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5"/>
                  </a:lnTo>
                  <a:lnTo>
                    <a:pt x="0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20" y="0"/>
                  </a:lnTo>
                  <a:lnTo>
                    <a:pt x="20" y="5"/>
                  </a:lnTo>
                  <a:lnTo>
                    <a:pt x="20" y="5"/>
                  </a:lnTo>
                  <a:lnTo>
                    <a:pt x="25" y="5"/>
                  </a:lnTo>
                  <a:lnTo>
                    <a:pt x="25" y="5"/>
                  </a:lnTo>
                  <a:lnTo>
                    <a:pt x="25" y="5"/>
                  </a:lnTo>
                  <a:lnTo>
                    <a:pt x="30" y="10"/>
                  </a:lnTo>
                  <a:lnTo>
                    <a:pt x="30" y="10"/>
                  </a:lnTo>
                  <a:lnTo>
                    <a:pt x="30" y="10"/>
                  </a:lnTo>
                  <a:lnTo>
                    <a:pt x="30" y="10"/>
                  </a:lnTo>
                  <a:lnTo>
                    <a:pt x="30" y="15"/>
                  </a:lnTo>
                  <a:lnTo>
                    <a:pt x="30" y="15"/>
                  </a:lnTo>
                  <a:lnTo>
                    <a:pt x="30" y="15"/>
                  </a:lnTo>
                  <a:lnTo>
                    <a:pt x="30" y="20"/>
                  </a:lnTo>
                  <a:lnTo>
                    <a:pt x="30" y="20"/>
                  </a:lnTo>
                  <a:lnTo>
                    <a:pt x="25" y="20"/>
                  </a:lnTo>
                  <a:lnTo>
                    <a:pt x="25" y="20"/>
                  </a:lnTo>
                  <a:lnTo>
                    <a:pt x="25" y="25"/>
                  </a:lnTo>
                  <a:lnTo>
                    <a:pt x="20" y="25"/>
                  </a:lnTo>
                  <a:lnTo>
                    <a:pt x="20" y="25"/>
                  </a:lnTo>
                  <a:lnTo>
                    <a:pt x="15" y="20"/>
                  </a:lnTo>
                  <a:lnTo>
                    <a:pt x="10" y="20"/>
                  </a:lnTo>
                  <a:close/>
                  <a:moveTo>
                    <a:pt x="15" y="15"/>
                  </a:moveTo>
                  <a:lnTo>
                    <a:pt x="15" y="20"/>
                  </a:lnTo>
                  <a:lnTo>
                    <a:pt x="20" y="20"/>
                  </a:lnTo>
                  <a:lnTo>
                    <a:pt x="20" y="20"/>
                  </a:lnTo>
                  <a:lnTo>
                    <a:pt x="20" y="20"/>
                  </a:lnTo>
                  <a:lnTo>
                    <a:pt x="25" y="20"/>
                  </a:lnTo>
                  <a:lnTo>
                    <a:pt x="25" y="20"/>
                  </a:lnTo>
                  <a:lnTo>
                    <a:pt x="25" y="20"/>
                  </a:lnTo>
                  <a:lnTo>
                    <a:pt x="25" y="15"/>
                  </a:lnTo>
                  <a:lnTo>
                    <a:pt x="25" y="15"/>
                  </a:lnTo>
                  <a:lnTo>
                    <a:pt x="25" y="15"/>
                  </a:lnTo>
                  <a:lnTo>
                    <a:pt x="25" y="15"/>
                  </a:lnTo>
                  <a:lnTo>
                    <a:pt x="25" y="10"/>
                  </a:lnTo>
                  <a:lnTo>
                    <a:pt x="25" y="10"/>
                  </a:lnTo>
                  <a:lnTo>
                    <a:pt x="25" y="10"/>
                  </a:lnTo>
                  <a:lnTo>
                    <a:pt x="20" y="10"/>
                  </a:lnTo>
                  <a:lnTo>
                    <a:pt x="20" y="5"/>
                  </a:lnTo>
                  <a:lnTo>
                    <a:pt x="15" y="5"/>
                  </a:lnTo>
                  <a:lnTo>
                    <a:pt x="15" y="5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10"/>
                  </a:lnTo>
                  <a:lnTo>
                    <a:pt x="5" y="10"/>
                  </a:lnTo>
                  <a:lnTo>
                    <a:pt x="5" y="10"/>
                  </a:lnTo>
                  <a:lnTo>
                    <a:pt x="5" y="10"/>
                  </a:lnTo>
                  <a:lnTo>
                    <a:pt x="10" y="15"/>
                  </a:lnTo>
                  <a:lnTo>
                    <a:pt x="10" y="15"/>
                  </a:lnTo>
                  <a:lnTo>
                    <a:pt x="15" y="15"/>
                  </a:lnTo>
                  <a:close/>
                </a:path>
              </a:pathLst>
            </a:custGeom>
            <a:solidFill>
              <a:srgbClr val="666666"/>
            </a:solidFill>
            <a:ln w="0">
              <a:solidFill>
                <a:srgbClr val="6666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5" name=""/>
            <p:cNvSpPr/>
            <p:nvPr/>
          </p:nvSpPr>
          <p:spPr>
            <a:xfrm>
              <a:off x="5476680" y="2730240"/>
              <a:ext cx="46080" cy="29880"/>
            </a:xfrm>
            <a:custGeom>
              <a:avLst/>
              <a:gdLst/>
              <a:ahLst/>
              <a:rect l="l" t="t" r="r" b="b"/>
              <a:pathLst>
                <a:path w="29" h="19">
                  <a:moveTo>
                    <a:pt x="10" y="19"/>
                  </a:moveTo>
                  <a:lnTo>
                    <a:pt x="10" y="19"/>
                  </a:lnTo>
                  <a:lnTo>
                    <a:pt x="5" y="15"/>
                  </a:lnTo>
                  <a:lnTo>
                    <a:pt x="5" y="15"/>
                  </a:lnTo>
                  <a:lnTo>
                    <a:pt x="5" y="15"/>
                  </a:lnTo>
                  <a:lnTo>
                    <a:pt x="5" y="15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5" y="5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20" y="5"/>
                  </a:lnTo>
                  <a:lnTo>
                    <a:pt x="25" y="5"/>
                  </a:lnTo>
                  <a:lnTo>
                    <a:pt x="25" y="5"/>
                  </a:lnTo>
                  <a:lnTo>
                    <a:pt x="25" y="5"/>
                  </a:lnTo>
                  <a:lnTo>
                    <a:pt x="29" y="10"/>
                  </a:lnTo>
                  <a:lnTo>
                    <a:pt x="29" y="10"/>
                  </a:lnTo>
                  <a:lnTo>
                    <a:pt x="29" y="10"/>
                  </a:lnTo>
                  <a:lnTo>
                    <a:pt x="29" y="10"/>
                  </a:lnTo>
                  <a:lnTo>
                    <a:pt x="29" y="15"/>
                  </a:lnTo>
                  <a:lnTo>
                    <a:pt x="29" y="15"/>
                  </a:lnTo>
                  <a:lnTo>
                    <a:pt x="29" y="15"/>
                  </a:lnTo>
                  <a:lnTo>
                    <a:pt x="29" y="15"/>
                  </a:lnTo>
                  <a:lnTo>
                    <a:pt x="29" y="19"/>
                  </a:lnTo>
                  <a:lnTo>
                    <a:pt x="25" y="19"/>
                  </a:lnTo>
                  <a:lnTo>
                    <a:pt x="25" y="19"/>
                  </a:lnTo>
                  <a:lnTo>
                    <a:pt x="25" y="19"/>
                  </a:lnTo>
                  <a:lnTo>
                    <a:pt x="20" y="19"/>
                  </a:lnTo>
                  <a:lnTo>
                    <a:pt x="20" y="19"/>
                  </a:lnTo>
                  <a:lnTo>
                    <a:pt x="15" y="19"/>
                  </a:lnTo>
                  <a:lnTo>
                    <a:pt x="10" y="19"/>
                  </a:lnTo>
                  <a:close/>
                  <a:moveTo>
                    <a:pt x="15" y="15"/>
                  </a:moveTo>
                  <a:lnTo>
                    <a:pt x="15" y="15"/>
                  </a:lnTo>
                  <a:lnTo>
                    <a:pt x="20" y="19"/>
                  </a:lnTo>
                  <a:lnTo>
                    <a:pt x="20" y="19"/>
                  </a:lnTo>
                  <a:lnTo>
                    <a:pt x="25" y="19"/>
                  </a:lnTo>
                  <a:lnTo>
                    <a:pt x="25" y="19"/>
                  </a:lnTo>
                  <a:lnTo>
                    <a:pt x="25" y="19"/>
                  </a:lnTo>
                  <a:lnTo>
                    <a:pt x="25" y="15"/>
                  </a:lnTo>
                  <a:lnTo>
                    <a:pt x="25" y="15"/>
                  </a:lnTo>
                  <a:lnTo>
                    <a:pt x="25" y="15"/>
                  </a:lnTo>
                  <a:lnTo>
                    <a:pt x="25" y="15"/>
                  </a:lnTo>
                  <a:lnTo>
                    <a:pt x="25" y="10"/>
                  </a:lnTo>
                  <a:lnTo>
                    <a:pt x="25" y="10"/>
                  </a:lnTo>
                  <a:lnTo>
                    <a:pt x="25" y="10"/>
                  </a:lnTo>
                  <a:lnTo>
                    <a:pt x="25" y="10"/>
                  </a:lnTo>
                  <a:lnTo>
                    <a:pt x="20" y="5"/>
                  </a:lnTo>
                  <a:lnTo>
                    <a:pt x="20" y="5"/>
                  </a:lnTo>
                  <a:lnTo>
                    <a:pt x="15" y="5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10"/>
                  </a:lnTo>
                  <a:lnTo>
                    <a:pt x="5" y="10"/>
                  </a:lnTo>
                  <a:lnTo>
                    <a:pt x="5" y="10"/>
                  </a:lnTo>
                  <a:lnTo>
                    <a:pt x="5" y="10"/>
                  </a:lnTo>
                  <a:lnTo>
                    <a:pt x="10" y="15"/>
                  </a:lnTo>
                  <a:lnTo>
                    <a:pt x="10" y="15"/>
                  </a:lnTo>
                  <a:lnTo>
                    <a:pt x="15" y="15"/>
                  </a:lnTo>
                  <a:close/>
                </a:path>
              </a:pathLst>
            </a:custGeom>
            <a:solidFill>
              <a:srgbClr val="666666"/>
            </a:solidFill>
            <a:ln w="0">
              <a:solidFill>
                <a:srgbClr val="6666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6" name=""/>
            <p:cNvSpPr/>
            <p:nvPr/>
          </p:nvSpPr>
          <p:spPr>
            <a:xfrm>
              <a:off x="5452920" y="2839680"/>
              <a:ext cx="14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7" name=""/>
            <p:cNvSpPr/>
            <p:nvPr/>
          </p:nvSpPr>
          <p:spPr>
            <a:xfrm>
              <a:off x="3992400" y="2815920"/>
              <a:ext cx="1460520" cy="188640"/>
            </a:xfrm>
            <a:custGeom>
              <a:avLst/>
              <a:gdLst/>
              <a:ahLst/>
              <a:rect l="l" t="t" r="r" b="b"/>
              <a:pathLst>
                <a:path w="920" h="119">
                  <a:moveTo>
                    <a:pt x="920" y="15"/>
                  </a:moveTo>
                  <a:lnTo>
                    <a:pt x="915" y="20"/>
                  </a:lnTo>
                  <a:lnTo>
                    <a:pt x="905" y="25"/>
                  </a:lnTo>
                  <a:lnTo>
                    <a:pt x="900" y="25"/>
                  </a:lnTo>
                  <a:lnTo>
                    <a:pt x="890" y="25"/>
                  </a:lnTo>
                  <a:lnTo>
                    <a:pt x="885" y="30"/>
                  </a:lnTo>
                  <a:lnTo>
                    <a:pt x="875" y="30"/>
                  </a:lnTo>
                  <a:lnTo>
                    <a:pt x="866" y="30"/>
                  </a:lnTo>
                  <a:lnTo>
                    <a:pt x="856" y="30"/>
                  </a:lnTo>
                  <a:lnTo>
                    <a:pt x="851" y="30"/>
                  </a:lnTo>
                  <a:lnTo>
                    <a:pt x="841" y="30"/>
                  </a:lnTo>
                  <a:lnTo>
                    <a:pt x="831" y="30"/>
                  </a:lnTo>
                  <a:lnTo>
                    <a:pt x="826" y="30"/>
                  </a:lnTo>
                  <a:lnTo>
                    <a:pt x="816" y="30"/>
                  </a:lnTo>
                  <a:lnTo>
                    <a:pt x="806" y="30"/>
                  </a:lnTo>
                  <a:lnTo>
                    <a:pt x="796" y="30"/>
                  </a:lnTo>
                  <a:lnTo>
                    <a:pt x="791" y="30"/>
                  </a:lnTo>
                  <a:lnTo>
                    <a:pt x="782" y="30"/>
                  </a:lnTo>
                  <a:lnTo>
                    <a:pt x="772" y="30"/>
                  </a:lnTo>
                  <a:lnTo>
                    <a:pt x="767" y="30"/>
                  </a:lnTo>
                  <a:lnTo>
                    <a:pt x="757" y="30"/>
                  </a:lnTo>
                  <a:lnTo>
                    <a:pt x="747" y="30"/>
                  </a:lnTo>
                  <a:lnTo>
                    <a:pt x="742" y="30"/>
                  </a:lnTo>
                  <a:lnTo>
                    <a:pt x="732" y="30"/>
                  </a:lnTo>
                  <a:lnTo>
                    <a:pt x="722" y="30"/>
                  </a:lnTo>
                  <a:lnTo>
                    <a:pt x="712" y="30"/>
                  </a:lnTo>
                  <a:lnTo>
                    <a:pt x="707" y="35"/>
                  </a:lnTo>
                  <a:lnTo>
                    <a:pt x="697" y="35"/>
                  </a:lnTo>
                  <a:lnTo>
                    <a:pt x="688" y="35"/>
                  </a:lnTo>
                  <a:lnTo>
                    <a:pt x="683" y="35"/>
                  </a:lnTo>
                  <a:lnTo>
                    <a:pt x="673" y="35"/>
                  </a:lnTo>
                  <a:lnTo>
                    <a:pt x="663" y="35"/>
                  </a:lnTo>
                  <a:lnTo>
                    <a:pt x="658" y="30"/>
                  </a:lnTo>
                  <a:lnTo>
                    <a:pt x="648" y="30"/>
                  </a:lnTo>
                  <a:lnTo>
                    <a:pt x="638" y="30"/>
                  </a:lnTo>
                  <a:lnTo>
                    <a:pt x="628" y="30"/>
                  </a:lnTo>
                  <a:lnTo>
                    <a:pt x="623" y="35"/>
                  </a:lnTo>
                  <a:lnTo>
                    <a:pt x="613" y="35"/>
                  </a:lnTo>
                  <a:lnTo>
                    <a:pt x="608" y="30"/>
                  </a:lnTo>
                  <a:lnTo>
                    <a:pt x="599" y="30"/>
                  </a:lnTo>
                  <a:lnTo>
                    <a:pt x="594" y="25"/>
                  </a:lnTo>
                  <a:lnTo>
                    <a:pt x="584" y="20"/>
                  </a:lnTo>
                  <a:lnTo>
                    <a:pt x="579" y="20"/>
                  </a:lnTo>
                  <a:lnTo>
                    <a:pt x="569" y="20"/>
                  </a:lnTo>
                  <a:lnTo>
                    <a:pt x="559" y="20"/>
                  </a:lnTo>
                  <a:lnTo>
                    <a:pt x="554" y="15"/>
                  </a:lnTo>
                  <a:lnTo>
                    <a:pt x="549" y="10"/>
                  </a:lnTo>
                  <a:lnTo>
                    <a:pt x="544" y="5"/>
                  </a:lnTo>
                  <a:lnTo>
                    <a:pt x="534" y="5"/>
                  </a:lnTo>
                  <a:lnTo>
                    <a:pt x="529" y="0"/>
                  </a:lnTo>
                  <a:lnTo>
                    <a:pt x="519" y="0"/>
                  </a:lnTo>
                  <a:lnTo>
                    <a:pt x="514" y="0"/>
                  </a:lnTo>
                  <a:lnTo>
                    <a:pt x="505" y="0"/>
                  </a:lnTo>
                  <a:lnTo>
                    <a:pt x="495" y="0"/>
                  </a:lnTo>
                  <a:lnTo>
                    <a:pt x="485" y="0"/>
                  </a:lnTo>
                  <a:lnTo>
                    <a:pt x="480" y="5"/>
                  </a:lnTo>
                  <a:lnTo>
                    <a:pt x="470" y="5"/>
                  </a:lnTo>
                  <a:lnTo>
                    <a:pt x="465" y="10"/>
                  </a:lnTo>
                  <a:lnTo>
                    <a:pt x="460" y="15"/>
                  </a:lnTo>
                  <a:lnTo>
                    <a:pt x="455" y="20"/>
                  </a:lnTo>
                  <a:lnTo>
                    <a:pt x="445" y="20"/>
                  </a:lnTo>
                  <a:lnTo>
                    <a:pt x="435" y="20"/>
                  </a:lnTo>
                  <a:lnTo>
                    <a:pt x="430" y="25"/>
                  </a:lnTo>
                  <a:lnTo>
                    <a:pt x="420" y="20"/>
                  </a:lnTo>
                  <a:lnTo>
                    <a:pt x="411" y="20"/>
                  </a:lnTo>
                  <a:lnTo>
                    <a:pt x="401" y="25"/>
                  </a:lnTo>
                  <a:lnTo>
                    <a:pt x="396" y="25"/>
                  </a:lnTo>
                  <a:lnTo>
                    <a:pt x="391" y="30"/>
                  </a:lnTo>
                  <a:lnTo>
                    <a:pt x="386" y="35"/>
                  </a:lnTo>
                  <a:lnTo>
                    <a:pt x="381" y="40"/>
                  </a:lnTo>
                  <a:lnTo>
                    <a:pt x="371" y="40"/>
                  </a:lnTo>
                  <a:lnTo>
                    <a:pt x="361" y="40"/>
                  </a:lnTo>
                  <a:lnTo>
                    <a:pt x="356" y="40"/>
                  </a:lnTo>
                  <a:lnTo>
                    <a:pt x="346" y="40"/>
                  </a:lnTo>
                  <a:lnTo>
                    <a:pt x="336" y="35"/>
                  </a:lnTo>
                  <a:lnTo>
                    <a:pt x="331" y="35"/>
                  </a:lnTo>
                  <a:lnTo>
                    <a:pt x="322" y="35"/>
                  </a:lnTo>
                  <a:lnTo>
                    <a:pt x="312" y="35"/>
                  </a:lnTo>
                  <a:lnTo>
                    <a:pt x="302" y="30"/>
                  </a:lnTo>
                  <a:lnTo>
                    <a:pt x="297" y="30"/>
                  </a:lnTo>
                  <a:lnTo>
                    <a:pt x="287" y="35"/>
                  </a:lnTo>
                  <a:lnTo>
                    <a:pt x="282" y="40"/>
                  </a:lnTo>
                  <a:lnTo>
                    <a:pt x="277" y="45"/>
                  </a:lnTo>
                  <a:lnTo>
                    <a:pt x="272" y="45"/>
                  </a:lnTo>
                  <a:lnTo>
                    <a:pt x="262" y="49"/>
                  </a:lnTo>
                  <a:lnTo>
                    <a:pt x="257" y="54"/>
                  </a:lnTo>
                  <a:lnTo>
                    <a:pt x="247" y="54"/>
                  </a:lnTo>
                  <a:lnTo>
                    <a:pt x="238" y="54"/>
                  </a:lnTo>
                  <a:lnTo>
                    <a:pt x="233" y="54"/>
                  </a:lnTo>
                  <a:lnTo>
                    <a:pt x="223" y="54"/>
                  </a:lnTo>
                  <a:lnTo>
                    <a:pt x="213" y="59"/>
                  </a:lnTo>
                  <a:lnTo>
                    <a:pt x="208" y="64"/>
                  </a:lnTo>
                  <a:lnTo>
                    <a:pt x="203" y="64"/>
                  </a:lnTo>
                  <a:lnTo>
                    <a:pt x="198" y="69"/>
                  </a:lnTo>
                  <a:lnTo>
                    <a:pt x="188" y="69"/>
                  </a:lnTo>
                  <a:lnTo>
                    <a:pt x="178" y="74"/>
                  </a:lnTo>
                  <a:lnTo>
                    <a:pt x="168" y="74"/>
                  </a:lnTo>
                  <a:lnTo>
                    <a:pt x="163" y="74"/>
                  </a:lnTo>
                  <a:lnTo>
                    <a:pt x="158" y="69"/>
                  </a:lnTo>
                  <a:lnTo>
                    <a:pt x="148" y="64"/>
                  </a:lnTo>
                  <a:lnTo>
                    <a:pt x="144" y="59"/>
                  </a:lnTo>
                  <a:lnTo>
                    <a:pt x="134" y="59"/>
                  </a:lnTo>
                  <a:lnTo>
                    <a:pt x="129" y="64"/>
                  </a:lnTo>
                  <a:lnTo>
                    <a:pt x="124" y="69"/>
                  </a:lnTo>
                  <a:lnTo>
                    <a:pt x="119" y="79"/>
                  </a:lnTo>
                  <a:lnTo>
                    <a:pt x="114" y="84"/>
                  </a:lnTo>
                  <a:lnTo>
                    <a:pt x="109" y="84"/>
                  </a:lnTo>
                  <a:lnTo>
                    <a:pt x="104" y="84"/>
                  </a:lnTo>
                  <a:lnTo>
                    <a:pt x="99" y="79"/>
                  </a:lnTo>
                  <a:lnTo>
                    <a:pt x="99" y="74"/>
                  </a:lnTo>
                  <a:lnTo>
                    <a:pt x="94" y="69"/>
                  </a:lnTo>
                  <a:lnTo>
                    <a:pt x="94" y="59"/>
                  </a:lnTo>
                  <a:lnTo>
                    <a:pt x="99" y="54"/>
                  </a:lnTo>
                  <a:lnTo>
                    <a:pt x="99" y="49"/>
                  </a:lnTo>
                  <a:lnTo>
                    <a:pt x="99" y="45"/>
                  </a:lnTo>
                  <a:lnTo>
                    <a:pt x="99" y="40"/>
                  </a:lnTo>
                  <a:lnTo>
                    <a:pt x="94" y="35"/>
                  </a:lnTo>
                  <a:lnTo>
                    <a:pt x="84" y="30"/>
                  </a:lnTo>
                  <a:lnTo>
                    <a:pt x="79" y="35"/>
                  </a:lnTo>
                  <a:lnTo>
                    <a:pt x="74" y="35"/>
                  </a:lnTo>
                  <a:lnTo>
                    <a:pt x="69" y="45"/>
                  </a:lnTo>
                  <a:lnTo>
                    <a:pt x="64" y="49"/>
                  </a:lnTo>
                  <a:lnTo>
                    <a:pt x="64" y="54"/>
                  </a:lnTo>
                  <a:lnTo>
                    <a:pt x="59" y="59"/>
                  </a:lnTo>
                  <a:lnTo>
                    <a:pt x="59" y="64"/>
                  </a:lnTo>
                  <a:lnTo>
                    <a:pt x="55" y="69"/>
                  </a:lnTo>
                  <a:lnTo>
                    <a:pt x="50" y="74"/>
                  </a:lnTo>
                  <a:lnTo>
                    <a:pt x="45" y="74"/>
                  </a:lnTo>
                  <a:lnTo>
                    <a:pt x="40" y="79"/>
                  </a:lnTo>
                  <a:lnTo>
                    <a:pt x="35" y="84"/>
                  </a:lnTo>
                  <a:lnTo>
                    <a:pt x="30" y="89"/>
                  </a:lnTo>
                  <a:lnTo>
                    <a:pt x="30" y="94"/>
                  </a:lnTo>
                  <a:lnTo>
                    <a:pt x="25" y="99"/>
                  </a:lnTo>
                  <a:lnTo>
                    <a:pt x="20" y="104"/>
                  </a:lnTo>
                  <a:lnTo>
                    <a:pt x="15" y="109"/>
                  </a:lnTo>
                  <a:lnTo>
                    <a:pt x="10" y="114"/>
                  </a:lnTo>
                  <a:lnTo>
                    <a:pt x="5" y="119"/>
                  </a:lnTo>
                  <a:lnTo>
                    <a:pt x="0" y="11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8" name=""/>
            <p:cNvSpPr/>
            <p:nvPr/>
          </p:nvSpPr>
          <p:spPr>
            <a:xfrm>
              <a:off x="4109760" y="2981160"/>
              <a:ext cx="31680" cy="53640"/>
            </a:xfrm>
            <a:custGeom>
              <a:avLst/>
              <a:gdLst/>
              <a:ahLst/>
              <a:rect l="l" t="t" r="r" b="b"/>
              <a:pathLst>
                <a:path w="20" h="34">
                  <a:moveTo>
                    <a:pt x="0" y="15"/>
                  </a:moveTo>
                  <a:lnTo>
                    <a:pt x="0" y="5"/>
                  </a:lnTo>
                  <a:lnTo>
                    <a:pt x="5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5" y="10"/>
                  </a:lnTo>
                  <a:lnTo>
                    <a:pt x="20" y="15"/>
                  </a:lnTo>
                  <a:lnTo>
                    <a:pt x="20" y="20"/>
                  </a:lnTo>
                  <a:lnTo>
                    <a:pt x="15" y="30"/>
                  </a:lnTo>
                  <a:lnTo>
                    <a:pt x="10" y="34"/>
                  </a:lnTo>
                  <a:lnTo>
                    <a:pt x="10" y="34"/>
                  </a:lnTo>
                  <a:lnTo>
                    <a:pt x="5" y="34"/>
                  </a:lnTo>
                  <a:lnTo>
                    <a:pt x="5" y="30"/>
                  </a:lnTo>
                  <a:lnTo>
                    <a:pt x="0" y="25"/>
                  </a:lnTo>
                  <a:lnTo>
                    <a:pt x="0" y="1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9" name=""/>
            <p:cNvSpPr/>
            <p:nvPr/>
          </p:nvSpPr>
          <p:spPr>
            <a:xfrm>
              <a:off x="4205160" y="2831760"/>
              <a:ext cx="1440" cy="144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0" name=""/>
            <p:cNvSpPr/>
            <p:nvPr/>
          </p:nvSpPr>
          <p:spPr>
            <a:xfrm>
              <a:off x="4533480" y="2831760"/>
              <a:ext cx="24120" cy="47520"/>
            </a:xfrm>
            <a:custGeom>
              <a:avLst/>
              <a:gdLst/>
              <a:ahLst/>
              <a:rect l="l" t="t" r="r" b="b"/>
              <a:pathLst>
                <a:path w="15" h="30">
                  <a:moveTo>
                    <a:pt x="15" y="0"/>
                  </a:moveTo>
                  <a:lnTo>
                    <a:pt x="10" y="0"/>
                  </a:lnTo>
                  <a:lnTo>
                    <a:pt x="5" y="0"/>
                  </a:lnTo>
                  <a:lnTo>
                    <a:pt x="0" y="5"/>
                  </a:lnTo>
                  <a:lnTo>
                    <a:pt x="0" y="10"/>
                  </a:lnTo>
                  <a:lnTo>
                    <a:pt x="0" y="20"/>
                  </a:lnTo>
                  <a:lnTo>
                    <a:pt x="5" y="25"/>
                  </a:lnTo>
                  <a:lnTo>
                    <a:pt x="5" y="25"/>
                  </a:lnTo>
                  <a:lnTo>
                    <a:pt x="5" y="30"/>
                  </a:lnTo>
                  <a:lnTo>
                    <a:pt x="10" y="30"/>
                  </a:lnTo>
                  <a:lnTo>
                    <a:pt x="10" y="25"/>
                  </a:lnTo>
                  <a:lnTo>
                    <a:pt x="10" y="20"/>
                  </a:lnTo>
                  <a:lnTo>
                    <a:pt x="10" y="15"/>
                  </a:lnTo>
                  <a:lnTo>
                    <a:pt x="15" y="10"/>
                  </a:lnTo>
                  <a:lnTo>
                    <a:pt x="15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1" name=""/>
            <p:cNvSpPr/>
            <p:nvPr/>
          </p:nvSpPr>
          <p:spPr>
            <a:xfrm>
              <a:off x="4079520" y="2760480"/>
              <a:ext cx="61920" cy="55080"/>
            </a:xfrm>
            <a:custGeom>
              <a:avLst/>
              <a:gdLst/>
              <a:ahLst/>
              <a:rect l="l" t="t" r="r" b="b"/>
              <a:pathLst>
                <a:path w="39" h="35">
                  <a:moveTo>
                    <a:pt x="39" y="20"/>
                  </a:moveTo>
                  <a:lnTo>
                    <a:pt x="39" y="10"/>
                  </a:lnTo>
                  <a:lnTo>
                    <a:pt x="39" y="5"/>
                  </a:lnTo>
                  <a:lnTo>
                    <a:pt x="34" y="0"/>
                  </a:lnTo>
                  <a:lnTo>
                    <a:pt x="29" y="0"/>
                  </a:lnTo>
                  <a:lnTo>
                    <a:pt x="24" y="0"/>
                  </a:lnTo>
                  <a:lnTo>
                    <a:pt x="14" y="0"/>
                  </a:lnTo>
                  <a:lnTo>
                    <a:pt x="9" y="0"/>
                  </a:lnTo>
                  <a:lnTo>
                    <a:pt x="4" y="5"/>
                  </a:lnTo>
                  <a:lnTo>
                    <a:pt x="0" y="10"/>
                  </a:lnTo>
                  <a:lnTo>
                    <a:pt x="0" y="15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4" y="35"/>
                  </a:lnTo>
                  <a:lnTo>
                    <a:pt x="14" y="35"/>
                  </a:lnTo>
                  <a:lnTo>
                    <a:pt x="24" y="30"/>
                  </a:lnTo>
                  <a:lnTo>
                    <a:pt x="29" y="25"/>
                  </a:lnTo>
                  <a:lnTo>
                    <a:pt x="34" y="20"/>
                  </a:lnTo>
                  <a:lnTo>
                    <a:pt x="39" y="2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2" name=""/>
            <p:cNvSpPr/>
            <p:nvPr/>
          </p:nvSpPr>
          <p:spPr>
            <a:xfrm>
              <a:off x="5421240" y="2784240"/>
              <a:ext cx="23760" cy="31320"/>
            </a:xfrm>
            <a:custGeom>
              <a:avLst/>
              <a:gdLst/>
              <a:ahLst/>
              <a:rect l="l" t="t" r="r" b="b"/>
              <a:pathLst>
                <a:path w="15" h="20">
                  <a:moveTo>
                    <a:pt x="15" y="5"/>
                  </a:moveTo>
                  <a:lnTo>
                    <a:pt x="10" y="0"/>
                  </a:lnTo>
                  <a:lnTo>
                    <a:pt x="10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0" y="10"/>
                  </a:lnTo>
                  <a:lnTo>
                    <a:pt x="0" y="15"/>
                  </a:lnTo>
                  <a:lnTo>
                    <a:pt x="5" y="15"/>
                  </a:lnTo>
                  <a:lnTo>
                    <a:pt x="5" y="20"/>
                  </a:lnTo>
                  <a:lnTo>
                    <a:pt x="10" y="20"/>
                  </a:lnTo>
                  <a:lnTo>
                    <a:pt x="10" y="15"/>
                  </a:lnTo>
                  <a:lnTo>
                    <a:pt x="10" y="15"/>
                  </a:lnTo>
                  <a:lnTo>
                    <a:pt x="15" y="10"/>
                  </a:lnTo>
                  <a:lnTo>
                    <a:pt x="15" y="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3" name=""/>
            <p:cNvSpPr/>
            <p:nvPr/>
          </p:nvSpPr>
          <p:spPr>
            <a:xfrm>
              <a:off x="5343120" y="2746080"/>
              <a:ext cx="7920" cy="756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5" y="0"/>
                  </a:move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4" name=""/>
            <p:cNvSpPr/>
            <p:nvPr/>
          </p:nvSpPr>
          <p:spPr>
            <a:xfrm>
              <a:off x="5671800" y="2682720"/>
              <a:ext cx="71640" cy="101160"/>
            </a:xfrm>
            <a:custGeom>
              <a:avLst/>
              <a:gdLst/>
              <a:ahLst/>
              <a:rect l="l" t="t" r="r" b="b"/>
              <a:pathLst>
                <a:path w="45" h="64">
                  <a:moveTo>
                    <a:pt x="0" y="40"/>
                  </a:moveTo>
                  <a:lnTo>
                    <a:pt x="5" y="40"/>
                  </a:lnTo>
                  <a:lnTo>
                    <a:pt x="10" y="35"/>
                  </a:lnTo>
                  <a:lnTo>
                    <a:pt x="15" y="30"/>
                  </a:lnTo>
                  <a:lnTo>
                    <a:pt x="20" y="25"/>
                  </a:lnTo>
                  <a:lnTo>
                    <a:pt x="20" y="20"/>
                  </a:lnTo>
                  <a:lnTo>
                    <a:pt x="25" y="15"/>
                  </a:lnTo>
                  <a:lnTo>
                    <a:pt x="30" y="5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40" y="5"/>
                  </a:lnTo>
                  <a:lnTo>
                    <a:pt x="45" y="15"/>
                  </a:lnTo>
                  <a:lnTo>
                    <a:pt x="45" y="20"/>
                  </a:lnTo>
                  <a:lnTo>
                    <a:pt x="45" y="25"/>
                  </a:lnTo>
                  <a:lnTo>
                    <a:pt x="40" y="30"/>
                  </a:lnTo>
                  <a:lnTo>
                    <a:pt x="35" y="35"/>
                  </a:lnTo>
                  <a:lnTo>
                    <a:pt x="30" y="40"/>
                  </a:lnTo>
                  <a:lnTo>
                    <a:pt x="25" y="40"/>
                  </a:lnTo>
                  <a:lnTo>
                    <a:pt x="20" y="49"/>
                  </a:lnTo>
                  <a:lnTo>
                    <a:pt x="15" y="54"/>
                  </a:lnTo>
                  <a:lnTo>
                    <a:pt x="10" y="59"/>
                  </a:lnTo>
                  <a:lnTo>
                    <a:pt x="10" y="64"/>
                  </a:lnTo>
                  <a:lnTo>
                    <a:pt x="5" y="64"/>
                  </a:lnTo>
                  <a:lnTo>
                    <a:pt x="5" y="64"/>
                  </a:lnTo>
                  <a:lnTo>
                    <a:pt x="5" y="59"/>
                  </a:lnTo>
                  <a:lnTo>
                    <a:pt x="0" y="49"/>
                  </a:lnTo>
                  <a:lnTo>
                    <a:pt x="0" y="4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5" name=""/>
            <p:cNvSpPr/>
            <p:nvPr/>
          </p:nvSpPr>
          <p:spPr>
            <a:xfrm>
              <a:off x="5263920" y="2698560"/>
              <a:ext cx="39600" cy="15480"/>
            </a:xfrm>
            <a:custGeom>
              <a:avLst/>
              <a:gdLst/>
              <a:ahLst/>
              <a:rect l="l" t="t" r="r" b="b"/>
              <a:pathLst>
                <a:path w="25" h="10">
                  <a:moveTo>
                    <a:pt x="25" y="5"/>
                  </a:moveTo>
                  <a:lnTo>
                    <a:pt x="25" y="5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10" y="0"/>
                  </a:lnTo>
                  <a:lnTo>
                    <a:pt x="5" y="5"/>
                  </a:lnTo>
                  <a:lnTo>
                    <a:pt x="5" y="5"/>
                  </a:lnTo>
                  <a:lnTo>
                    <a:pt x="0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10" y="10"/>
                  </a:lnTo>
                  <a:lnTo>
                    <a:pt x="15" y="10"/>
                  </a:lnTo>
                  <a:lnTo>
                    <a:pt x="20" y="10"/>
                  </a:lnTo>
                  <a:lnTo>
                    <a:pt x="25" y="5"/>
                  </a:lnTo>
                  <a:lnTo>
                    <a:pt x="25" y="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6" name=""/>
            <p:cNvSpPr/>
            <p:nvPr/>
          </p:nvSpPr>
          <p:spPr>
            <a:xfrm>
              <a:off x="3850920" y="2651040"/>
              <a:ext cx="31680" cy="3132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10"/>
                  </a:moveTo>
                  <a:lnTo>
                    <a:pt x="5" y="5"/>
                  </a:lnTo>
                  <a:lnTo>
                    <a:pt x="5" y="0"/>
                  </a:lnTo>
                  <a:lnTo>
                    <a:pt x="10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20" y="5"/>
                  </a:lnTo>
                  <a:lnTo>
                    <a:pt x="20" y="10"/>
                  </a:lnTo>
                  <a:lnTo>
                    <a:pt x="20" y="15"/>
                  </a:lnTo>
                  <a:lnTo>
                    <a:pt x="15" y="15"/>
                  </a:lnTo>
                  <a:lnTo>
                    <a:pt x="10" y="20"/>
                  </a:lnTo>
                  <a:lnTo>
                    <a:pt x="10" y="20"/>
                  </a:lnTo>
                  <a:lnTo>
                    <a:pt x="5" y="15"/>
                  </a:lnTo>
                  <a:lnTo>
                    <a:pt x="0" y="15"/>
                  </a:lnTo>
                  <a:lnTo>
                    <a:pt x="0" y="1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7" name=""/>
            <p:cNvSpPr/>
            <p:nvPr/>
          </p:nvSpPr>
          <p:spPr>
            <a:xfrm>
              <a:off x="5186160" y="2651040"/>
              <a:ext cx="47520" cy="23400"/>
            </a:xfrm>
            <a:custGeom>
              <a:avLst/>
              <a:gdLst/>
              <a:ahLst/>
              <a:rect l="l" t="t" r="r" b="b"/>
              <a:pathLst>
                <a:path w="30" h="15">
                  <a:moveTo>
                    <a:pt x="30" y="10"/>
                  </a:moveTo>
                  <a:lnTo>
                    <a:pt x="25" y="5"/>
                  </a:lnTo>
                  <a:lnTo>
                    <a:pt x="25" y="5"/>
                  </a:lnTo>
                  <a:lnTo>
                    <a:pt x="15" y="0"/>
                  </a:lnTo>
                  <a:lnTo>
                    <a:pt x="10" y="5"/>
                  </a:lnTo>
                  <a:lnTo>
                    <a:pt x="5" y="5"/>
                  </a:lnTo>
                  <a:lnTo>
                    <a:pt x="0" y="5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5" y="15"/>
                  </a:lnTo>
                  <a:lnTo>
                    <a:pt x="15" y="15"/>
                  </a:lnTo>
                  <a:lnTo>
                    <a:pt x="20" y="15"/>
                  </a:lnTo>
                  <a:lnTo>
                    <a:pt x="25" y="15"/>
                  </a:lnTo>
                  <a:lnTo>
                    <a:pt x="25" y="10"/>
                  </a:lnTo>
                  <a:lnTo>
                    <a:pt x="30" y="1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8" name=""/>
            <p:cNvSpPr/>
            <p:nvPr/>
          </p:nvSpPr>
          <p:spPr>
            <a:xfrm>
              <a:off x="4314600" y="2604960"/>
              <a:ext cx="31680" cy="53640"/>
            </a:xfrm>
            <a:custGeom>
              <a:avLst/>
              <a:gdLst/>
              <a:ahLst/>
              <a:rect l="l" t="t" r="r" b="b"/>
              <a:pathLst>
                <a:path w="20" h="34">
                  <a:moveTo>
                    <a:pt x="0" y="10"/>
                  </a:moveTo>
                  <a:lnTo>
                    <a:pt x="5" y="5"/>
                  </a:lnTo>
                  <a:lnTo>
                    <a:pt x="10" y="0"/>
                  </a:lnTo>
                  <a:lnTo>
                    <a:pt x="15" y="5"/>
                  </a:lnTo>
                  <a:lnTo>
                    <a:pt x="20" y="10"/>
                  </a:lnTo>
                  <a:lnTo>
                    <a:pt x="20" y="14"/>
                  </a:lnTo>
                  <a:lnTo>
                    <a:pt x="20" y="19"/>
                  </a:lnTo>
                  <a:lnTo>
                    <a:pt x="20" y="24"/>
                  </a:lnTo>
                  <a:lnTo>
                    <a:pt x="15" y="29"/>
                  </a:lnTo>
                  <a:lnTo>
                    <a:pt x="15" y="34"/>
                  </a:lnTo>
                  <a:lnTo>
                    <a:pt x="10" y="34"/>
                  </a:lnTo>
                  <a:lnTo>
                    <a:pt x="5" y="34"/>
                  </a:lnTo>
                  <a:lnTo>
                    <a:pt x="5" y="29"/>
                  </a:lnTo>
                  <a:lnTo>
                    <a:pt x="5" y="19"/>
                  </a:lnTo>
                  <a:lnTo>
                    <a:pt x="0" y="1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9" name=""/>
            <p:cNvSpPr/>
            <p:nvPr/>
          </p:nvSpPr>
          <p:spPr>
            <a:xfrm>
              <a:off x="5106600" y="2612880"/>
              <a:ext cx="32040" cy="21960"/>
            </a:xfrm>
            <a:custGeom>
              <a:avLst/>
              <a:gdLst/>
              <a:ahLst/>
              <a:rect l="l" t="t" r="r" b="b"/>
              <a:pathLst>
                <a:path w="20" h="14">
                  <a:moveTo>
                    <a:pt x="20" y="5"/>
                  </a:moveTo>
                  <a:lnTo>
                    <a:pt x="20" y="5"/>
                  </a:lnTo>
                  <a:lnTo>
                    <a:pt x="15" y="0"/>
                  </a:lnTo>
                  <a:lnTo>
                    <a:pt x="10" y="0"/>
                  </a:lnTo>
                  <a:lnTo>
                    <a:pt x="5" y="0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9"/>
                  </a:lnTo>
                  <a:lnTo>
                    <a:pt x="5" y="9"/>
                  </a:lnTo>
                  <a:lnTo>
                    <a:pt x="10" y="14"/>
                  </a:lnTo>
                  <a:lnTo>
                    <a:pt x="15" y="14"/>
                  </a:lnTo>
                  <a:lnTo>
                    <a:pt x="20" y="14"/>
                  </a:lnTo>
                  <a:lnTo>
                    <a:pt x="20" y="14"/>
                  </a:lnTo>
                  <a:lnTo>
                    <a:pt x="20" y="9"/>
                  </a:lnTo>
                  <a:lnTo>
                    <a:pt x="20" y="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0" name=""/>
            <p:cNvSpPr/>
            <p:nvPr/>
          </p:nvSpPr>
          <p:spPr>
            <a:xfrm>
              <a:off x="4431960" y="2557080"/>
              <a:ext cx="71640" cy="63360"/>
            </a:xfrm>
            <a:custGeom>
              <a:avLst/>
              <a:gdLst/>
              <a:ahLst/>
              <a:rect l="l" t="t" r="r" b="b"/>
              <a:pathLst>
                <a:path w="45" h="40">
                  <a:moveTo>
                    <a:pt x="0" y="15"/>
                  </a:moveTo>
                  <a:lnTo>
                    <a:pt x="5" y="5"/>
                  </a:lnTo>
                  <a:lnTo>
                    <a:pt x="10" y="0"/>
                  </a:lnTo>
                  <a:lnTo>
                    <a:pt x="15" y="0"/>
                  </a:lnTo>
                  <a:lnTo>
                    <a:pt x="20" y="0"/>
                  </a:lnTo>
                  <a:lnTo>
                    <a:pt x="25" y="0"/>
                  </a:lnTo>
                  <a:lnTo>
                    <a:pt x="30" y="5"/>
                  </a:lnTo>
                  <a:lnTo>
                    <a:pt x="35" y="5"/>
                  </a:lnTo>
                  <a:lnTo>
                    <a:pt x="40" y="10"/>
                  </a:lnTo>
                  <a:lnTo>
                    <a:pt x="45" y="15"/>
                  </a:lnTo>
                  <a:lnTo>
                    <a:pt x="40" y="20"/>
                  </a:lnTo>
                  <a:lnTo>
                    <a:pt x="35" y="25"/>
                  </a:lnTo>
                  <a:lnTo>
                    <a:pt x="30" y="30"/>
                  </a:lnTo>
                  <a:lnTo>
                    <a:pt x="25" y="35"/>
                  </a:lnTo>
                  <a:lnTo>
                    <a:pt x="20" y="35"/>
                  </a:lnTo>
                  <a:lnTo>
                    <a:pt x="15" y="40"/>
                  </a:lnTo>
                  <a:lnTo>
                    <a:pt x="15" y="35"/>
                  </a:lnTo>
                  <a:lnTo>
                    <a:pt x="10" y="35"/>
                  </a:lnTo>
                  <a:lnTo>
                    <a:pt x="5" y="30"/>
                  </a:lnTo>
                  <a:lnTo>
                    <a:pt x="5" y="20"/>
                  </a:lnTo>
                  <a:lnTo>
                    <a:pt x="0" y="1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1" name=""/>
            <p:cNvSpPr/>
            <p:nvPr/>
          </p:nvSpPr>
          <p:spPr>
            <a:xfrm>
              <a:off x="5028840" y="2573280"/>
              <a:ext cx="23760" cy="23400"/>
            </a:xfrm>
            <a:custGeom>
              <a:avLst/>
              <a:gdLst/>
              <a:ahLst/>
              <a:rect l="l" t="t" r="r" b="b"/>
              <a:pathLst>
                <a:path w="15" h="15">
                  <a:moveTo>
                    <a:pt x="15" y="5"/>
                  </a:moveTo>
                  <a:lnTo>
                    <a:pt x="15" y="0"/>
                  </a:lnTo>
                  <a:lnTo>
                    <a:pt x="10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5"/>
                  </a:lnTo>
                  <a:lnTo>
                    <a:pt x="0" y="5"/>
                  </a:lnTo>
                  <a:lnTo>
                    <a:pt x="5" y="10"/>
                  </a:lnTo>
                  <a:lnTo>
                    <a:pt x="5" y="10"/>
                  </a:lnTo>
                  <a:lnTo>
                    <a:pt x="10" y="10"/>
                  </a:lnTo>
                  <a:lnTo>
                    <a:pt x="15" y="15"/>
                  </a:lnTo>
                  <a:lnTo>
                    <a:pt x="15" y="10"/>
                  </a:lnTo>
                  <a:lnTo>
                    <a:pt x="15" y="10"/>
                  </a:lnTo>
                  <a:lnTo>
                    <a:pt x="15" y="10"/>
                  </a:lnTo>
                  <a:lnTo>
                    <a:pt x="15" y="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2" name=""/>
            <p:cNvSpPr/>
            <p:nvPr/>
          </p:nvSpPr>
          <p:spPr>
            <a:xfrm>
              <a:off x="4949640" y="2533320"/>
              <a:ext cx="23760" cy="15480"/>
            </a:xfrm>
            <a:custGeom>
              <a:avLst/>
              <a:gdLst/>
              <a:ahLst/>
              <a:rect l="l" t="t" r="r" b="b"/>
              <a:pathLst>
                <a:path w="15" h="10">
                  <a:moveTo>
                    <a:pt x="15" y="0"/>
                  </a:moveTo>
                  <a:lnTo>
                    <a:pt x="10" y="0"/>
                  </a:lnTo>
                  <a:lnTo>
                    <a:pt x="10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15" y="5"/>
                  </a:lnTo>
                  <a:lnTo>
                    <a:pt x="15" y="5"/>
                  </a:lnTo>
                  <a:lnTo>
                    <a:pt x="15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3" name=""/>
            <p:cNvSpPr/>
            <p:nvPr/>
          </p:nvSpPr>
          <p:spPr>
            <a:xfrm>
              <a:off x="2124000" y="1773360"/>
              <a:ext cx="79200" cy="77400"/>
            </a:xfrm>
            <a:custGeom>
              <a:avLst/>
              <a:gdLst/>
              <a:ahLst/>
              <a:rect l="l" t="t" r="r" b="b"/>
              <a:pathLst>
                <a:path w="50" h="49">
                  <a:moveTo>
                    <a:pt x="20" y="49"/>
                  </a:moveTo>
                  <a:lnTo>
                    <a:pt x="25" y="49"/>
                  </a:lnTo>
                  <a:lnTo>
                    <a:pt x="25" y="24"/>
                  </a:lnTo>
                  <a:lnTo>
                    <a:pt x="50" y="24"/>
                  </a:lnTo>
                  <a:lnTo>
                    <a:pt x="50" y="19"/>
                  </a:lnTo>
                  <a:lnTo>
                    <a:pt x="25" y="19"/>
                  </a:lnTo>
                  <a:lnTo>
                    <a:pt x="25" y="0"/>
                  </a:lnTo>
                  <a:lnTo>
                    <a:pt x="20" y="0"/>
                  </a:lnTo>
                  <a:lnTo>
                    <a:pt x="20" y="19"/>
                  </a:lnTo>
                  <a:lnTo>
                    <a:pt x="0" y="19"/>
                  </a:lnTo>
                  <a:lnTo>
                    <a:pt x="0" y="24"/>
                  </a:lnTo>
                  <a:lnTo>
                    <a:pt x="20" y="24"/>
                  </a:lnTo>
                  <a:lnTo>
                    <a:pt x="20" y="49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4" name=""/>
            <p:cNvSpPr/>
            <p:nvPr/>
          </p:nvSpPr>
          <p:spPr>
            <a:xfrm>
              <a:off x="6795720" y="1773360"/>
              <a:ext cx="77760" cy="77400"/>
            </a:xfrm>
            <a:custGeom>
              <a:avLst/>
              <a:gdLst/>
              <a:ahLst/>
              <a:rect l="l" t="t" r="r" b="b"/>
              <a:pathLst>
                <a:path w="49" h="49">
                  <a:moveTo>
                    <a:pt x="24" y="49"/>
                  </a:moveTo>
                  <a:lnTo>
                    <a:pt x="24" y="49"/>
                  </a:lnTo>
                  <a:lnTo>
                    <a:pt x="24" y="24"/>
                  </a:lnTo>
                  <a:lnTo>
                    <a:pt x="49" y="24"/>
                  </a:lnTo>
                  <a:lnTo>
                    <a:pt x="49" y="19"/>
                  </a:lnTo>
                  <a:lnTo>
                    <a:pt x="24" y="19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19"/>
                  </a:lnTo>
                  <a:lnTo>
                    <a:pt x="0" y="19"/>
                  </a:lnTo>
                  <a:lnTo>
                    <a:pt x="0" y="24"/>
                  </a:lnTo>
                  <a:lnTo>
                    <a:pt x="24" y="24"/>
                  </a:lnTo>
                  <a:lnTo>
                    <a:pt x="24" y="49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5" name=""/>
            <p:cNvSpPr/>
            <p:nvPr/>
          </p:nvSpPr>
          <p:spPr>
            <a:xfrm>
              <a:off x="6803640" y="5082840"/>
              <a:ext cx="77760" cy="79200"/>
            </a:xfrm>
            <a:custGeom>
              <a:avLst/>
              <a:gdLst/>
              <a:ahLst/>
              <a:rect l="l" t="t" r="r" b="b"/>
              <a:pathLst>
                <a:path w="49" h="50">
                  <a:moveTo>
                    <a:pt x="19" y="50"/>
                  </a:moveTo>
                  <a:lnTo>
                    <a:pt x="24" y="50"/>
                  </a:lnTo>
                  <a:lnTo>
                    <a:pt x="24" y="25"/>
                  </a:lnTo>
                  <a:lnTo>
                    <a:pt x="49" y="25"/>
                  </a:lnTo>
                  <a:lnTo>
                    <a:pt x="49" y="20"/>
                  </a:lnTo>
                  <a:lnTo>
                    <a:pt x="24" y="20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9" y="20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19" y="25"/>
                  </a:lnTo>
                  <a:lnTo>
                    <a:pt x="19" y="5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6" name=""/>
            <p:cNvSpPr/>
            <p:nvPr/>
          </p:nvSpPr>
          <p:spPr>
            <a:xfrm>
              <a:off x="2124000" y="5082840"/>
              <a:ext cx="79200" cy="79200"/>
            </a:xfrm>
            <a:custGeom>
              <a:avLst/>
              <a:gdLst/>
              <a:ahLst/>
              <a:rect l="l" t="t" r="r" b="b"/>
              <a:pathLst>
                <a:path w="50" h="50">
                  <a:moveTo>
                    <a:pt x="20" y="50"/>
                  </a:moveTo>
                  <a:lnTo>
                    <a:pt x="25" y="50"/>
                  </a:lnTo>
                  <a:lnTo>
                    <a:pt x="25" y="25"/>
                  </a:lnTo>
                  <a:lnTo>
                    <a:pt x="50" y="25"/>
                  </a:lnTo>
                  <a:lnTo>
                    <a:pt x="50" y="20"/>
                  </a:lnTo>
                  <a:lnTo>
                    <a:pt x="25" y="20"/>
                  </a:lnTo>
                  <a:lnTo>
                    <a:pt x="25" y="0"/>
                  </a:lnTo>
                  <a:lnTo>
                    <a:pt x="20" y="0"/>
                  </a:lnTo>
                  <a:lnTo>
                    <a:pt x="20" y="20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20" y="25"/>
                  </a:lnTo>
                  <a:lnTo>
                    <a:pt x="20" y="5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7" name=""/>
            <p:cNvSpPr/>
            <p:nvPr/>
          </p:nvSpPr>
          <p:spPr>
            <a:xfrm>
              <a:off x="2265120" y="2368440"/>
              <a:ext cx="4098960" cy="2628360"/>
            </a:xfrm>
            <a:custGeom>
              <a:avLst/>
              <a:gdLst/>
              <a:ahLst/>
              <a:rect l="l" t="t" r="r" b="b"/>
              <a:pathLst>
                <a:path w="2582" h="1656">
                  <a:moveTo>
                    <a:pt x="2235" y="1656"/>
                  </a:moveTo>
                  <a:lnTo>
                    <a:pt x="2260" y="1631"/>
                  </a:lnTo>
                  <a:lnTo>
                    <a:pt x="2285" y="1631"/>
                  </a:lnTo>
                  <a:lnTo>
                    <a:pt x="2315" y="1631"/>
                  </a:lnTo>
                  <a:lnTo>
                    <a:pt x="2339" y="1631"/>
                  </a:lnTo>
                  <a:lnTo>
                    <a:pt x="2369" y="1631"/>
                  </a:lnTo>
                  <a:lnTo>
                    <a:pt x="2394" y="1631"/>
                  </a:lnTo>
                  <a:lnTo>
                    <a:pt x="2418" y="1631"/>
                  </a:lnTo>
                  <a:lnTo>
                    <a:pt x="2448" y="1602"/>
                  </a:lnTo>
                  <a:lnTo>
                    <a:pt x="2448" y="1577"/>
                  </a:lnTo>
                  <a:lnTo>
                    <a:pt x="2448" y="1547"/>
                  </a:lnTo>
                  <a:lnTo>
                    <a:pt x="2448" y="1523"/>
                  </a:lnTo>
                  <a:lnTo>
                    <a:pt x="2473" y="1498"/>
                  </a:lnTo>
                  <a:lnTo>
                    <a:pt x="2473" y="1468"/>
                  </a:lnTo>
                  <a:lnTo>
                    <a:pt x="2473" y="1444"/>
                  </a:lnTo>
                  <a:lnTo>
                    <a:pt x="2473" y="1414"/>
                  </a:lnTo>
                  <a:lnTo>
                    <a:pt x="2503" y="1389"/>
                  </a:lnTo>
                  <a:lnTo>
                    <a:pt x="2503" y="1364"/>
                  </a:lnTo>
                  <a:lnTo>
                    <a:pt x="2503" y="1335"/>
                  </a:lnTo>
                  <a:lnTo>
                    <a:pt x="2503" y="1310"/>
                  </a:lnTo>
                  <a:lnTo>
                    <a:pt x="2527" y="1280"/>
                  </a:lnTo>
                  <a:lnTo>
                    <a:pt x="2527" y="1256"/>
                  </a:lnTo>
                  <a:lnTo>
                    <a:pt x="2527" y="1226"/>
                  </a:lnTo>
                  <a:lnTo>
                    <a:pt x="2527" y="1201"/>
                  </a:lnTo>
                  <a:lnTo>
                    <a:pt x="2552" y="1177"/>
                  </a:lnTo>
                  <a:lnTo>
                    <a:pt x="2552" y="1147"/>
                  </a:lnTo>
                  <a:lnTo>
                    <a:pt x="2552" y="1122"/>
                  </a:lnTo>
                  <a:lnTo>
                    <a:pt x="2552" y="1093"/>
                  </a:lnTo>
                  <a:lnTo>
                    <a:pt x="2582" y="1068"/>
                  </a:lnTo>
                  <a:lnTo>
                    <a:pt x="2582" y="1043"/>
                  </a:lnTo>
                  <a:lnTo>
                    <a:pt x="2582" y="1014"/>
                  </a:lnTo>
                  <a:lnTo>
                    <a:pt x="2582" y="989"/>
                  </a:lnTo>
                  <a:lnTo>
                    <a:pt x="2582" y="959"/>
                  </a:lnTo>
                  <a:lnTo>
                    <a:pt x="2582" y="934"/>
                  </a:lnTo>
                  <a:lnTo>
                    <a:pt x="2582" y="910"/>
                  </a:lnTo>
                  <a:lnTo>
                    <a:pt x="2582" y="880"/>
                  </a:lnTo>
                  <a:lnTo>
                    <a:pt x="2582" y="855"/>
                  </a:lnTo>
                  <a:lnTo>
                    <a:pt x="2582" y="826"/>
                  </a:lnTo>
                  <a:lnTo>
                    <a:pt x="2582" y="801"/>
                  </a:lnTo>
                  <a:lnTo>
                    <a:pt x="2582" y="776"/>
                  </a:lnTo>
                  <a:lnTo>
                    <a:pt x="2582" y="747"/>
                  </a:lnTo>
                  <a:lnTo>
                    <a:pt x="2582" y="722"/>
                  </a:lnTo>
                  <a:lnTo>
                    <a:pt x="2582" y="692"/>
                  </a:lnTo>
                  <a:lnTo>
                    <a:pt x="2582" y="668"/>
                  </a:lnTo>
                  <a:lnTo>
                    <a:pt x="2582" y="643"/>
                  </a:lnTo>
                  <a:lnTo>
                    <a:pt x="2582" y="613"/>
                  </a:lnTo>
                  <a:lnTo>
                    <a:pt x="2582" y="589"/>
                  </a:lnTo>
                  <a:lnTo>
                    <a:pt x="2582" y="559"/>
                  </a:lnTo>
                  <a:lnTo>
                    <a:pt x="2582" y="534"/>
                  </a:lnTo>
                  <a:lnTo>
                    <a:pt x="2582" y="504"/>
                  </a:lnTo>
                  <a:lnTo>
                    <a:pt x="2582" y="480"/>
                  </a:lnTo>
                  <a:lnTo>
                    <a:pt x="2582" y="455"/>
                  </a:lnTo>
                  <a:lnTo>
                    <a:pt x="2582" y="425"/>
                  </a:lnTo>
                  <a:lnTo>
                    <a:pt x="2582" y="401"/>
                  </a:lnTo>
                  <a:lnTo>
                    <a:pt x="2582" y="371"/>
                  </a:lnTo>
                  <a:lnTo>
                    <a:pt x="2582" y="346"/>
                  </a:lnTo>
                  <a:lnTo>
                    <a:pt x="2582" y="322"/>
                  </a:lnTo>
                  <a:lnTo>
                    <a:pt x="2582" y="292"/>
                  </a:lnTo>
                  <a:lnTo>
                    <a:pt x="2582" y="267"/>
                  </a:lnTo>
                  <a:lnTo>
                    <a:pt x="2582" y="238"/>
                  </a:lnTo>
                  <a:lnTo>
                    <a:pt x="2552" y="213"/>
                  </a:lnTo>
                  <a:lnTo>
                    <a:pt x="2552" y="188"/>
                  </a:lnTo>
                  <a:lnTo>
                    <a:pt x="2552" y="159"/>
                  </a:lnTo>
                  <a:lnTo>
                    <a:pt x="2552" y="134"/>
                  </a:lnTo>
                  <a:lnTo>
                    <a:pt x="2552" y="104"/>
                  </a:lnTo>
                  <a:lnTo>
                    <a:pt x="2527" y="79"/>
                  </a:lnTo>
                  <a:lnTo>
                    <a:pt x="2503" y="79"/>
                  </a:lnTo>
                  <a:lnTo>
                    <a:pt x="2473" y="79"/>
                  </a:lnTo>
                  <a:lnTo>
                    <a:pt x="2448" y="55"/>
                  </a:lnTo>
                  <a:lnTo>
                    <a:pt x="2418" y="55"/>
                  </a:lnTo>
                  <a:lnTo>
                    <a:pt x="2394" y="55"/>
                  </a:lnTo>
                  <a:lnTo>
                    <a:pt x="2369" y="25"/>
                  </a:lnTo>
                  <a:lnTo>
                    <a:pt x="2339" y="25"/>
                  </a:lnTo>
                  <a:lnTo>
                    <a:pt x="2315" y="25"/>
                  </a:lnTo>
                  <a:lnTo>
                    <a:pt x="2285" y="0"/>
                  </a:lnTo>
                  <a:lnTo>
                    <a:pt x="2260" y="0"/>
                  </a:lnTo>
                  <a:lnTo>
                    <a:pt x="2235" y="0"/>
                  </a:lnTo>
                  <a:lnTo>
                    <a:pt x="2206" y="0"/>
                  </a:lnTo>
                  <a:lnTo>
                    <a:pt x="2181" y="0"/>
                  </a:lnTo>
                  <a:lnTo>
                    <a:pt x="2156" y="0"/>
                  </a:lnTo>
                  <a:lnTo>
                    <a:pt x="2127" y="0"/>
                  </a:lnTo>
                  <a:lnTo>
                    <a:pt x="2102" y="0"/>
                  </a:lnTo>
                  <a:lnTo>
                    <a:pt x="2072" y="0"/>
                  </a:lnTo>
                  <a:lnTo>
                    <a:pt x="2048" y="0"/>
                  </a:lnTo>
                  <a:lnTo>
                    <a:pt x="2023" y="0"/>
                  </a:lnTo>
                  <a:lnTo>
                    <a:pt x="1993" y="0"/>
                  </a:lnTo>
                  <a:lnTo>
                    <a:pt x="1968" y="0"/>
                  </a:lnTo>
                  <a:lnTo>
                    <a:pt x="1944" y="0"/>
                  </a:lnTo>
                  <a:lnTo>
                    <a:pt x="1914" y="0"/>
                  </a:lnTo>
                  <a:lnTo>
                    <a:pt x="1889" y="0"/>
                  </a:lnTo>
                  <a:lnTo>
                    <a:pt x="1860" y="0"/>
                  </a:lnTo>
                  <a:lnTo>
                    <a:pt x="1835" y="0"/>
                  </a:lnTo>
                  <a:lnTo>
                    <a:pt x="1810" y="0"/>
                  </a:lnTo>
                  <a:lnTo>
                    <a:pt x="1780" y="0"/>
                  </a:lnTo>
                  <a:lnTo>
                    <a:pt x="1756" y="0"/>
                  </a:lnTo>
                  <a:lnTo>
                    <a:pt x="1726" y="0"/>
                  </a:lnTo>
                  <a:lnTo>
                    <a:pt x="1701" y="0"/>
                  </a:lnTo>
                  <a:lnTo>
                    <a:pt x="1677" y="0"/>
                  </a:lnTo>
                  <a:lnTo>
                    <a:pt x="1647" y="0"/>
                  </a:lnTo>
                  <a:lnTo>
                    <a:pt x="1622" y="0"/>
                  </a:lnTo>
                  <a:lnTo>
                    <a:pt x="1598" y="0"/>
                  </a:lnTo>
                  <a:lnTo>
                    <a:pt x="1568" y="0"/>
                  </a:lnTo>
                  <a:lnTo>
                    <a:pt x="1543" y="0"/>
                  </a:lnTo>
                  <a:lnTo>
                    <a:pt x="1513" y="0"/>
                  </a:lnTo>
                  <a:lnTo>
                    <a:pt x="1489" y="0"/>
                  </a:lnTo>
                  <a:lnTo>
                    <a:pt x="1464" y="0"/>
                  </a:lnTo>
                  <a:lnTo>
                    <a:pt x="1434" y="0"/>
                  </a:lnTo>
                  <a:lnTo>
                    <a:pt x="1410" y="0"/>
                  </a:lnTo>
                  <a:lnTo>
                    <a:pt x="1385" y="0"/>
                  </a:lnTo>
                  <a:lnTo>
                    <a:pt x="1355" y="0"/>
                  </a:lnTo>
                  <a:lnTo>
                    <a:pt x="1330" y="0"/>
                  </a:lnTo>
                  <a:lnTo>
                    <a:pt x="1301" y="0"/>
                  </a:lnTo>
                  <a:lnTo>
                    <a:pt x="1276" y="0"/>
                  </a:lnTo>
                  <a:lnTo>
                    <a:pt x="1251" y="0"/>
                  </a:lnTo>
                  <a:lnTo>
                    <a:pt x="1222" y="0"/>
                  </a:lnTo>
                  <a:lnTo>
                    <a:pt x="1197" y="0"/>
                  </a:lnTo>
                  <a:lnTo>
                    <a:pt x="1172" y="0"/>
                  </a:lnTo>
                  <a:lnTo>
                    <a:pt x="1143" y="0"/>
                  </a:lnTo>
                  <a:lnTo>
                    <a:pt x="1118" y="0"/>
                  </a:lnTo>
                  <a:lnTo>
                    <a:pt x="1088" y="0"/>
                  </a:lnTo>
                  <a:lnTo>
                    <a:pt x="1063" y="0"/>
                  </a:lnTo>
                  <a:lnTo>
                    <a:pt x="1039" y="0"/>
                  </a:lnTo>
                  <a:lnTo>
                    <a:pt x="1009" y="0"/>
                  </a:lnTo>
                  <a:lnTo>
                    <a:pt x="984" y="0"/>
                  </a:lnTo>
                  <a:lnTo>
                    <a:pt x="955" y="0"/>
                  </a:lnTo>
                  <a:lnTo>
                    <a:pt x="930" y="0"/>
                  </a:lnTo>
                  <a:lnTo>
                    <a:pt x="905" y="0"/>
                  </a:lnTo>
                  <a:lnTo>
                    <a:pt x="875" y="0"/>
                  </a:lnTo>
                  <a:lnTo>
                    <a:pt x="851" y="0"/>
                  </a:lnTo>
                  <a:lnTo>
                    <a:pt x="826" y="0"/>
                  </a:lnTo>
                  <a:lnTo>
                    <a:pt x="796" y="0"/>
                  </a:lnTo>
                  <a:lnTo>
                    <a:pt x="772" y="0"/>
                  </a:lnTo>
                  <a:lnTo>
                    <a:pt x="742" y="0"/>
                  </a:lnTo>
                  <a:lnTo>
                    <a:pt x="717" y="0"/>
                  </a:lnTo>
                  <a:lnTo>
                    <a:pt x="692" y="0"/>
                  </a:lnTo>
                  <a:lnTo>
                    <a:pt x="663" y="0"/>
                  </a:lnTo>
                  <a:lnTo>
                    <a:pt x="638" y="0"/>
                  </a:lnTo>
                  <a:lnTo>
                    <a:pt x="613" y="0"/>
                  </a:lnTo>
                  <a:lnTo>
                    <a:pt x="584" y="25"/>
                  </a:lnTo>
                  <a:lnTo>
                    <a:pt x="559" y="55"/>
                  </a:lnTo>
                  <a:lnTo>
                    <a:pt x="529" y="79"/>
                  </a:lnTo>
                  <a:lnTo>
                    <a:pt x="505" y="104"/>
                  </a:lnTo>
                  <a:lnTo>
                    <a:pt x="480" y="134"/>
                  </a:lnTo>
                  <a:lnTo>
                    <a:pt x="450" y="134"/>
                  </a:lnTo>
                  <a:lnTo>
                    <a:pt x="425" y="159"/>
                  </a:lnTo>
                  <a:lnTo>
                    <a:pt x="396" y="188"/>
                  </a:lnTo>
                  <a:lnTo>
                    <a:pt x="371" y="213"/>
                  </a:lnTo>
                  <a:lnTo>
                    <a:pt x="346" y="238"/>
                  </a:lnTo>
                  <a:lnTo>
                    <a:pt x="317" y="267"/>
                  </a:lnTo>
                  <a:lnTo>
                    <a:pt x="292" y="292"/>
                  </a:lnTo>
                  <a:lnTo>
                    <a:pt x="277" y="307"/>
                  </a:lnTo>
                  <a:lnTo>
                    <a:pt x="277" y="312"/>
                  </a:lnTo>
                  <a:lnTo>
                    <a:pt x="272" y="317"/>
                  </a:lnTo>
                  <a:lnTo>
                    <a:pt x="272" y="322"/>
                  </a:lnTo>
                  <a:lnTo>
                    <a:pt x="267" y="327"/>
                  </a:lnTo>
                  <a:lnTo>
                    <a:pt x="262" y="331"/>
                  </a:lnTo>
                  <a:lnTo>
                    <a:pt x="262" y="336"/>
                  </a:lnTo>
                  <a:lnTo>
                    <a:pt x="257" y="341"/>
                  </a:lnTo>
                  <a:lnTo>
                    <a:pt x="257" y="346"/>
                  </a:lnTo>
                  <a:lnTo>
                    <a:pt x="252" y="351"/>
                  </a:lnTo>
                  <a:lnTo>
                    <a:pt x="247" y="356"/>
                  </a:lnTo>
                  <a:lnTo>
                    <a:pt x="242" y="356"/>
                  </a:lnTo>
                  <a:lnTo>
                    <a:pt x="237" y="361"/>
                  </a:lnTo>
                  <a:lnTo>
                    <a:pt x="233" y="366"/>
                  </a:lnTo>
                  <a:lnTo>
                    <a:pt x="233" y="371"/>
                  </a:lnTo>
                  <a:lnTo>
                    <a:pt x="228" y="376"/>
                  </a:lnTo>
                  <a:lnTo>
                    <a:pt x="223" y="381"/>
                  </a:lnTo>
                  <a:lnTo>
                    <a:pt x="218" y="386"/>
                  </a:lnTo>
                  <a:lnTo>
                    <a:pt x="218" y="391"/>
                  </a:lnTo>
                  <a:lnTo>
                    <a:pt x="213" y="396"/>
                  </a:lnTo>
                  <a:lnTo>
                    <a:pt x="208" y="396"/>
                  </a:lnTo>
                  <a:lnTo>
                    <a:pt x="203" y="401"/>
                  </a:lnTo>
                  <a:lnTo>
                    <a:pt x="198" y="406"/>
                  </a:lnTo>
                  <a:lnTo>
                    <a:pt x="193" y="411"/>
                  </a:lnTo>
                  <a:lnTo>
                    <a:pt x="188" y="416"/>
                  </a:lnTo>
                  <a:lnTo>
                    <a:pt x="183" y="416"/>
                  </a:lnTo>
                  <a:lnTo>
                    <a:pt x="178" y="416"/>
                  </a:lnTo>
                  <a:lnTo>
                    <a:pt x="173" y="416"/>
                  </a:lnTo>
                  <a:lnTo>
                    <a:pt x="173" y="406"/>
                  </a:lnTo>
                  <a:lnTo>
                    <a:pt x="168" y="401"/>
                  </a:lnTo>
                  <a:lnTo>
                    <a:pt x="158" y="401"/>
                  </a:lnTo>
                  <a:lnTo>
                    <a:pt x="134" y="425"/>
                  </a:lnTo>
                  <a:lnTo>
                    <a:pt x="104" y="455"/>
                  </a:lnTo>
                  <a:lnTo>
                    <a:pt x="79" y="480"/>
                  </a:lnTo>
                  <a:lnTo>
                    <a:pt x="55" y="504"/>
                  </a:lnTo>
                  <a:lnTo>
                    <a:pt x="25" y="504"/>
                  </a:lnTo>
                  <a:lnTo>
                    <a:pt x="0" y="534"/>
                  </a:lnTo>
                  <a:lnTo>
                    <a:pt x="0" y="559"/>
                  </a:lnTo>
                  <a:lnTo>
                    <a:pt x="0" y="589"/>
                  </a:lnTo>
                  <a:lnTo>
                    <a:pt x="0" y="613"/>
                  </a:lnTo>
                  <a:lnTo>
                    <a:pt x="25" y="643"/>
                  </a:lnTo>
                  <a:lnTo>
                    <a:pt x="25" y="668"/>
                  </a:lnTo>
                  <a:lnTo>
                    <a:pt x="55" y="692"/>
                  </a:lnTo>
                  <a:lnTo>
                    <a:pt x="79" y="722"/>
                  </a:lnTo>
                  <a:lnTo>
                    <a:pt x="104" y="747"/>
                  </a:lnTo>
                  <a:lnTo>
                    <a:pt x="134" y="776"/>
                  </a:lnTo>
                  <a:lnTo>
                    <a:pt x="134" y="801"/>
                  </a:lnTo>
                  <a:lnTo>
                    <a:pt x="158" y="826"/>
                  </a:lnTo>
                  <a:lnTo>
                    <a:pt x="183" y="855"/>
                  </a:lnTo>
                  <a:lnTo>
                    <a:pt x="213" y="880"/>
                  </a:lnTo>
                  <a:lnTo>
                    <a:pt x="237" y="910"/>
                  </a:lnTo>
                  <a:lnTo>
                    <a:pt x="267" y="934"/>
                  </a:lnTo>
                  <a:lnTo>
                    <a:pt x="292" y="959"/>
                  </a:lnTo>
                  <a:lnTo>
                    <a:pt x="292" y="989"/>
                  </a:lnTo>
                  <a:lnTo>
                    <a:pt x="317" y="1014"/>
                  </a:lnTo>
                  <a:lnTo>
                    <a:pt x="346" y="1043"/>
                  </a:lnTo>
                  <a:lnTo>
                    <a:pt x="371" y="1068"/>
                  </a:lnTo>
                  <a:lnTo>
                    <a:pt x="396" y="1093"/>
                  </a:lnTo>
                  <a:lnTo>
                    <a:pt x="425" y="1122"/>
                  </a:lnTo>
                  <a:lnTo>
                    <a:pt x="450" y="1147"/>
                  </a:lnTo>
                  <a:lnTo>
                    <a:pt x="480" y="1177"/>
                  </a:lnTo>
                  <a:lnTo>
                    <a:pt x="505" y="1201"/>
                  </a:lnTo>
                  <a:lnTo>
                    <a:pt x="529" y="1226"/>
                  </a:lnTo>
                  <a:lnTo>
                    <a:pt x="559" y="1256"/>
                  </a:lnTo>
                  <a:lnTo>
                    <a:pt x="584" y="1280"/>
                  </a:lnTo>
                  <a:lnTo>
                    <a:pt x="613" y="1310"/>
                  </a:lnTo>
                  <a:lnTo>
                    <a:pt x="638" y="1335"/>
                  </a:lnTo>
                  <a:lnTo>
                    <a:pt x="663" y="1364"/>
                  </a:lnTo>
                  <a:lnTo>
                    <a:pt x="692" y="1389"/>
                  </a:lnTo>
                  <a:lnTo>
                    <a:pt x="717" y="1414"/>
                  </a:lnTo>
                  <a:lnTo>
                    <a:pt x="742" y="1444"/>
                  </a:lnTo>
                  <a:lnTo>
                    <a:pt x="772" y="1468"/>
                  </a:lnTo>
                  <a:lnTo>
                    <a:pt x="796" y="1468"/>
                  </a:lnTo>
                  <a:lnTo>
                    <a:pt x="826" y="1498"/>
                  </a:lnTo>
                  <a:lnTo>
                    <a:pt x="851" y="1523"/>
                  </a:lnTo>
                  <a:lnTo>
                    <a:pt x="875" y="1547"/>
                  </a:lnTo>
                  <a:lnTo>
                    <a:pt x="905" y="1577"/>
                  </a:lnTo>
                  <a:lnTo>
                    <a:pt x="930" y="1602"/>
                  </a:lnTo>
                  <a:lnTo>
                    <a:pt x="955" y="1631"/>
                  </a:lnTo>
                  <a:lnTo>
                    <a:pt x="984" y="1656"/>
                  </a:lnTo>
                  <a:lnTo>
                    <a:pt x="1009" y="1656"/>
                  </a:lnTo>
                  <a:lnTo>
                    <a:pt x="1039" y="1656"/>
                  </a:lnTo>
                  <a:lnTo>
                    <a:pt x="1063" y="1656"/>
                  </a:lnTo>
                  <a:lnTo>
                    <a:pt x="1088" y="1656"/>
                  </a:lnTo>
                  <a:lnTo>
                    <a:pt x="1118" y="1656"/>
                  </a:lnTo>
                  <a:lnTo>
                    <a:pt x="1143" y="1656"/>
                  </a:lnTo>
                  <a:lnTo>
                    <a:pt x="1172" y="1656"/>
                  </a:lnTo>
                  <a:lnTo>
                    <a:pt x="1197" y="1656"/>
                  </a:lnTo>
                  <a:lnTo>
                    <a:pt x="1222" y="1656"/>
                  </a:lnTo>
                  <a:lnTo>
                    <a:pt x="1251" y="1656"/>
                  </a:lnTo>
                  <a:lnTo>
                    <a:pt x="1276" y="1656"/>
                  </a:lnTo>
                  <a:lnTo>
                    <a:pt x="1301" y="1656"/>
                  </a:lnTo>
                  <a:lnTo>
                    <a:pt x="1330" y="1656"/>
                  </a:lnTo>
                  <a:lnTo>
                    <a:pt x="1355" y="1656"/>
                  </a:lnTo>
                  <a:lnTo>
                    <a:pt x="1385" y="1656"/>
                  </a:lnTo>
                  <a:lnTo>
                    <a:pt x="1410" y="1656"/>
                  </a:lnTo>
                  <a:lnTo>
                    <a:pt x="1434" y="1656"/>
                  </a:lnTo>
                  <a:lnTo>
                    <a:pt x="1464" y="1656"/>
                  </a:lnTo>
                  <a:lnTo>
                    <a:pt x="1489" y="1656"/>
                  </a:lnTo>
                  <a:lnTo>
                    <a:pt x="1513" y="1656"/>
                  </a:lnTo>
                  <a:lnTo>
                    <a:pt x="1543" y="1656"/>
                  </a:lnTo>
                  <a:lnTo>
                    <a:pt x="1568" y="1656"/>
                  </a:lnTo>
                  <a:lnTo>
                    <a:pt x="1598" y="1656"/>
                  </a:lnTo>
                  <a:lnTo>
                    <a:pt x="1622" y="1656"/>
                  </a:lnTo>
                  <a:lnTo>
                    <a:pt x="1647" y="1656"/>
                  </a:lnTo>
                  <a:lnTo>
                    <a:pt x="1677" y="1656"/>
                  </a:lnTo>
                  <a:lnTo>
                    <a:pt x="1701" y="1656"/>
                  </a:lnTo>
                  <a:lnTo>
                    <a:pt x="1726" y="1656"/>
                  </a:lnTo>
                  <a:lnTo>
                    <a:pt x="1756" y="1656"/>
                  </a:lnTo>
                  <a:lnTo>
                    <a:pt x="1780" y="1656"/>
                  </a:lnTo>
                  <a:lnTo>
                    <a:pt x="1810" y="1656"/>
                  </a:lnTo>
                  <a:lnTo>
                    <a:pt x="1835" y="1656"/>
                  </a:lnTo>
                  <a:lnTo>
                    <a:pt x="1860" y="1656"/>
                  </a:lnTo>
                  <a:lnTo>
                    <a:pt x="1889" y="1656"/>
                  </a:lnTo>
                  <a:lnTo>
                    <a:pt x="1914" y="1656"/>
                  </a:lnTo>
                  <a:lnTo>
                    <a:pt x="1944" y="1656"/>
                  </a:lnTo>
                  <a:lnTo>
                    <a:pt x="1968" y="1656"/>
                  </a:lnTo>
                  <a:lnTo>
                    <a:pt x="1993" y="1656"/>
                  </a:lnTo>
                  <a:lnTo>
                    <a:pt x="2023" y="1656"/>
                  </a:lnTo>
                  <a:lnTo>
                    <a:pt x="2048" y="1656"/>
                  </a:lnTo>
                  <a:lnTo>
                    <a:pt x="2072" y="1656"/>
                  </a:lnTo>
                  <a:lnTo>
                    <a:pt x="2102" y="1656"/>
                  </a:lnTo>
                  <a:lnTo>
                    <a:pt x="2127" y="1656"/>
                  </a:lnTo>
                  <a:lnTo>
                    <a:pt x="2156" y="1656"/>
                  </a:lnTo>
                  <a:lnTo>
                    <a:pt x="2181" y="1656"/>
                  </a:lnTo>
                  <a:lnTo>
                    <a:pt x="2206" y="1656"/>
                  </a:lnTo>
                  <a:lnTo>
                    <a:pt x="2235" y="1656"/>
                  </a:lnTo>
                  <a:close/>
                  <a:moveTo>
                    <a:pt x="416" y="989"/>
                  </a:moveTo>
                  <a:lnTo>
                    <a:pt x="416" y="984"/>
                  </a:lnTo>
                  <a:lnTo>
                    <a:pt x="416" y="979"/>
                  </a:lnTo>
                  <a:lnTo>
                    <a:pt x="420" y="974"/>
                  </a:lnTo>
                  <a:lnTo>
                    <a:pt x="425" y="969"/>
                  </a:lnTo>
                  <a:lnTo>
                    <a:pt x="425" y="969"/>
                  </a:lnTo>
                  <a:lnTo>
                    <a:pt x="430" y="974"/>
                  </a:lnTo>
                  <a:lnTo>
                    <a:pt x="435" y="974"/>
                  </a:lnTo>
                  <a:lnTo>
                    <a:pt x="445" y="979"/>
                  </a:lnTo>
                  <a:lnTo>
                    <a:pt x="450" y="979"/>
                  </a:lnTo>
                  <a:lnTo>
                    <a:pt x="455" y="984"/>
                  </a:lnTo>
                  <a:lnTo>
                    <a:pt x="455" y="989"/>
                  </a:lnTo>
                  <a:lnTo>
                    <a:pt x="450" y="989"/>
                  </a:lnTo>
                  <a:lnTo>
                    <a:pt x="445" y="994"/>
                  </a:lnTo>
                  <a:lnTo>
                    <a:pt x="440" y="999"/>
                  </a:lnTo>
                  <a:lnTo>
                    <a:pt x="435" y="999"/>
                  </a:lnTo>
                  <a:lnTo>
                    <a:pt x="430" y="999"/>
                  </a:lnTo>
                  <a:lnTo>
                    <a:pt x="425" y="999"/>
                  </a:lnTo>
                  <a:lnTo>
                    <a:pt x="420" y="999"/>
                  </a:lnTo>
                  <a:lnTo>
                    <a:pt x="416" y="994"/>
                  </a:lnTo>
                  <a:lnTo>
                    <a:pt x="416" y="989"/>
                  </a:lnTo>
                  <a:close/>
                  <a:moveTo>
                    <a:pt x="341" y="934"/>
                  </a:moveTo>
                  <a:lnTo>
                    <a:pt x="336" y="930"/>
                  </a:lnTo>
                  <a:lnTo>
                    <a:pt x="331" y="925"/>
                  </a:lnTo>
                  <a:lnTo>
                    <a:pt x="327" y="920"/>
                  </a:lnTo>
                  <a:lnTo>
                    <a:pt x="322" y="915"/>
                  </a:lnTo>
                  <a:lnTo>
                    <a:pt x="317" y="910"/>
                  </a:lnTo>
                  <a:lnTo>
                    <a:pt x="312" y="905"/>
                  </a:lnTo>
                  <a:lnTo>
                    <a:pt x="307" y="905"/>
                  </a:lnTo>
                  <a:lnTo>
                    <a:pt x="307" y="900"/>
                  </a:lnTo>
                  <a:lnTo>
                    <a:pt x="302" y="895"/>
                  </a:lnTo>
                  <a:lnTo>
                    <a:pt x="297" y="890"/>
                  </a:lnTo>
                  <a:lnTo>
                    <a:pt x="292" y="885"/>
                  </a:lnTo>
                  <a:lnTo>
                    <a:pt x="287" y="880"/>
                  </a:lnTo>
                  <a:lnTo>
                    <a:pt x="282" y="875"/>
                  </a:lnTo>
                  <a:lnTo>
                    <a:pt x="277" y="870"/>
                  </a:lnTo>
                  <a:lnTo>
                    <a:pt x="277" y="865"/>
                  </a:lnTo>
                  <a:lnTo>
                    <a:pt x="272" y="860"/>
                  </a:lnTo>
                  <a:lnTo>
                    <a:pt x="267" y="855"/>
                  </a:lnTo>
                  <a:lnTo>
                    <a:pt x="262" y="850"/>
                  </a:lnTo>
                  <a:lnTo>
                    <a:pt x="257" y="846"/>
                  </a:lnTo>
                  <a:lnTo>
                    <a:pt x="252" y="841"/>
                  </a:lnTo>
                  <a:lnTo>
                    <a:pt x="247" y="841"/>
                  </a:lnTo>
                  <a:lnTo>
                    <a:pt x="242" y="836"/>
                  </a:lnTo>
                  <a:lnTo>
                    <a:pt x="242" y="831"/>
                  </a:lnTo>
                  <a:lnTo>
                    <a:pt x="237" y="826"/>
                  </a:lnTo>
                  <a:lnTo>
                    <a:pt x="233" y="821"/>
                  </a:lnTo>
                  <a:lnTo>
                    <a:pt x="228" y="816"/>
                  </a:lnTo>
                  <a:lnTo>
                    <a:pt x="223" y="811"/>
                  </a:lnTo>
                  <a:lnTo>
                    <a:pt x="218" y="806"/>
                  </a:lnTo>
                  <a:lnTo>
                    <a:pt x="213" y="801"/>
                  </a:lnTo>
                  <a:lnTo>
                    <a:pt x="208" y="796"/>
                  </a:lnTo>
                  <a:lnTo>
                    <a:pt x="203" y="791"/>
                  </a:lnTo>
                  <a:lnTo>
                    <a:pt x="198" y="786"/>
                  </a:lnTo>
                  <a:lnTo>
                    <a:pt x="193" y="781"/>
                  </a:lnTo>
                  <a:lnTo>
                    <a:pt x="188" y="776"/>
                  </a:lnTo>
                  <a:lnTo>
                    <a:pt x="188" y="771"/>
                  </a:lnTo>
                  <a:lnTo>
                    <a:pt x="193" y="766"/>
                  </a:lnTo>
                  <a:lnTo>
                    <a:pt x="203" y="766"/>
                  </a:lnTo>
                  <a:lnTo>
                    <a:pt x="213" y="766"/>
                  </a:lnTo>
                  <a:lnTo>
                    <a:pt x="218" y="766"/>
                  </a:lnTo>
                  <a:lnTo>
                    <a:pt x="223" y="771"/>
                  </a:lnTo>
                  <a:lnTo>
                    <a:pt x="223" y="776"/>
                  </a:lnTo>
                  <a:lnTo>
                    <a:pt x="228" y="786"/>
                  </a:lnTo>
                  <a:lnTo>
                    <a:pt x="233" y="791"/>
                  </a:lnTo>
                  <a:lnTo>
                    <a:pt x="237" y="791"/>
                  </a:lnTo>
                  <a:lnTo>
                    <a:pt x="247" y="791"/>
                  </a:lnTo>
                  <a:lnTo>
                    <a:pt x="257" y="791"/>
                  </a:lnTo>
                  <a:lnTo>
                    <a:pt x="262" y="786"/>
                  </a:lnTo>
                  <a:lnTo>
                    <a:pt x="272" y="791"/>
                  </a:lnTo>
                  <a:lnTo>
                    <a:pt x="277" y="796"/>
                  </a:lnTo>
                  <a:lnTo>
                    <a:pt x="282" y="801"/>
                  </a:lnTo>
                  <a:lnTo>
                    <a:pt x="287" y="806"/>
                  </a:lnTo>
                  <a:lnTo>
                    <a:pt x="287" y="811"/>
                  </a:lnTo>
                  <a:lnTo>
                    <a:pt x="292" y="811"/>
                  </a:lnTo>
                  <a:lnTo>
                    <a:pt x="302" y="816"/>
                  </a:lnTo>
                  <a:lnTo>
                    <a:pt x="307" y="821"/>
                  </a:lnTo>
                  <a:lnTo>
                    <a:pt x="307" y="826"/>
                  </a:lnTo>
                  <a:lnTo>
                    <a:pt x="307" y="831"/>
                  </a:lnTo>
                  <a:lnTo>
                    <a:pt x="307" y="836"/>
                  </a:lnTo>
                  <a:lnTo>
                    <a:pt x="307" y="841"/>
                  </a:lnTo>
                  <a:lnTo>
                    <a:pt x="307" y="850"/>
                  </a:lnTo>
                  <a:lnTo>
                    <a:pt x="307" y="855"/>
                  </a:lnTo>
                  <a:lnTo>
                    <a:pt x="307" y="860"/>
                  </a:lnTo>
                  <a:lnTo>
                    <a:pt x="312" y="860"/>
                  </a:lnTo>
                  <a:lnTo>
                    <a:pt x="317" y="865"/>
                  </a:lnTo>
                  <a:lnTo>
                    <a:pt x="327" y="870"/>
                  </a:lnTo>
                  <a:lnTo>
                    <a:pt x="327" y="875"/>
                  </a:lnTo>
                  <a:lnTo>
                    <a:pt x="331" y="880"/>
                  </a:lnTo>
                  <a:lnTo>
                    <a:pt x="331" y="885"/>
                  </a:lnTo>
                  <a:lnTo>
                    <a:pt x="327" y="890"/>
                  </a:lnTo>
                  <a:lnTo>
                    <a:pt x="327" y="895"/>
                  </a:lnTo>
                  <a:lnTo>
                    <a:pt x="322" y="900"/>
                  </a:lnTo>
                  <a:lnTo>
                    <a:pt x="322" y="910"/>
                  </a:lnTo>
                  <a:lnTo>
                    <a:pt x="322" y="915"/>
                  </a:lnTo>
                  <a:lnTo>
                    <a:pt x="327" y="915"/>
                  </a:lnTo>
                  <a:lnTo>
                    <a:pt x="331" y="920"/>
                  </a:lnTo>
                  <a:lnTo>
                    <a:pt x="336" y="925"/>
                  </a:lnTo>
                  <a:lnTo>
                    <a:pt x="341" y="930"/>
                  </a:lnTo>
                  <a:lnTo>
                    <a:pt x="346" y="934"/>
                  </a:lnTo>
                  <a:lnTo>
                    <a:pt x="346" y="939"/>
                  </a:lnTo>
                  <a:lnTo>
                    <a:pt x="341" y="934"/>
                  </a:lnTo>
                  <a:close/>
                  <a:moveTo>
                    <a:pt x="1004" y="801"/>
                  </a:moveTo>
                  <a:lnTo>
                    <a:pt x="1004" y="796"/>
                  </a:lnTo>
                  <a:lnTo>
                    <a:pt x="999" y="791"/>
                  </a:lnTo>
                  <a:lnTo>
                    <a:pt x="999" y="786"/>
                  </a:lnTo>
                  <a:lnTo>
                    <a:pt x="994" y="781"/>
                  </a:lnTo>
                  <a:lnTo>
                    <a:pt x="994" y="776"/>
                  </a:lnTo>
                  <a:lnTo>
                    <a:pt x="994" y="771"/>
                  </a:lnTo>
                  <a:lnTo>
                    <a:pt x="994" y="762"/>
                  </a:lnTo>
                  <a:lnTo>
                    <a:pt x="994" y="757"/>
                  </a:lnTo>
                  <a:lnTo>
                    <a:pt x="989" y="752"/>
                  </a:lnTo>
                  <a:lnTo>
                    <a:pt x="989" y="747"/>
                  </a:lnTo>
                  <a:lnTo>
                    <a:pt x="989" y="742"/>
                  </a:lnTo>
                  <a:lnTo>
                    <a:pt x="984" y="737"/>
                  </a:lnTo>
                  <a:lnTo>
                    <a:pt x="984" y="732"/>
                  </a:lnTo>
                  <a:lnTo>
                    <a:pt x="979" y="727"/>
                  </a:lnTo>
                  <a:lnTo>
                    <a:pt x="974" y="722"/>
                  </a:lnTo>
                  <a:lnTo>
                    <a:pt x="974" y="717"/>
                  </a:lnTo>
                  <a:lnTo>
                    <a:pt x="974" y="712"/>
                  </a:lnTo>
                  <a:lnTo>
                    <a:pt x="969" y="707"/>
                  </a:lnTo>
                  <a:lnTo>
                    <a:pt x="969" y="697"/>
                  </a:lnTo>
                  <a:lnTo>
                    <a:pt x="969" y="692"/>
                  </a:lnTo>
                  <a:lnTo>
                    <a:pt x="969" y="687"/>
                  </a:lnTo>
                  <a:lnTo>
                    <a:pt x="969" y="682"/>
                  </a:lnTo>
                  <a:lnTo>
                    <a:pt x="969" y="677"/>
                  </a:lnTo>
                  <a:lnTo>
                    <a:pt x="969" y="673"/>
                  </a:lnTo>
                  <a:lnTo>
                    <a:pt x="969" y="668"/>
                  </a:lnTo>
                  <a:lnTo>
                    <a:pt x="974" y="663"/>
                  </a:lnTo>
                  <a:lnTo>
                    <a:pt x="974" y="653"/>
                  </a:lnTo>
                  <a:lnTo>
                    <a:pt x="969" y="648"/>
                  </a:lnTo>
                  <a:lnTo>
                    <a:pt x="969" y="643"/>
                  </a:lnTo>
                  <a:lnTo>
                    <a:pt x="964" y="638"/>
                  </a:lnTo>
                  <a:lnTo>
                    <a:pt x="955" y="638"/>
                  </a:lnTo>
                  <a:lnTo>
                    <a:pt x="950" y="633"/>
                  </a:lnTo>
                  <a:lnTo>
                    <a:pt x="950" y="628"/>
                  </a:lnTo>
                  <a:lnTo>
                    <a:pt x="945" y="623"/>
                  </a:lnTo>
                  <a:lnTo>
                    <a:pt x="945" y="618"/>
                  </a:lnTo>
                  <a:lnTo>
                    <a:pt x="945" y="608"/>
                  </a:lnTo>
                  <a:lnTo>
                    <a:pt x="945" y="603"/>
                  </a:lnTo>
                  <a:lnTo>
                    <a:pt x="945" y="598"/>
                  </a:lnTo>
                  <a:lnTo>
                    <a:pt x="945" y="593"/>
                  </a:lnTo>
                  <a:lnTo>
                    <a:pt x="945" y="589"/>
                  </a:lnTo>
                  <a:lnTo>
                    <a:pt x="945" y="584"/>
                  </a:lnTo>
                  <a:lnTo>
                    <a:pt x="945" y="579"/>
                  </a:lnTo>
                  <a:lnTo>
                    <a:pt x="945" y="574"/>
                  </a:lnTo>
                  <a:lnTo>
                    <a:pt x="945" y="564"/>
                  </a:lnTo>
                  <a:lnTo>
                    <a:pt x="945" y="559"/>
                  </a:lnTo>
                  <a:lnTo>
                    <a:pt x="940" y="554"/>
                  </a:lnTo>
                  <a:lnTo>
                    <a:pt x="935" y="549"/>
                  </a:lnTo>
                  <a:lnTo>
                    <a:pt x="930" y="549"/>
                  </a:lnTo>
                  <a:lnTo>
                    <a:pt x="930" y="544"/>
                  </a:lnTo>
                  <a:lnTo>
                    <a:pt x="925" y="539"/>
                  </a:lnTo>
                  <a:lnTo>
                    <a:pt x="925" y="529"/>
                  </a:lnTo>
                  <a:lnTo>
                    <a:pt x="925" y="524"/>
                  </a:lnTo>
                  <a:lnTo>
                    <a:pt x="925" y="519"/>
                  </a:lnTo>
                  <a:lnTo>
                    <a:pt x="925" y="514"/>
                  </a:lnTo>
                  <a:lnTo>
                    <a:pt x="925" y="509"/>
                  </a:lnTo>
                  <a:lnTo>
                    <a:pt x="920" y="504"/>
                  </a:lnTo>
                  <a:lnTo>
                    <a:pt x="920" y="500"/>
                  </a:lnTo>
                  <a:lnTo>
                    <a:pt x="915" y="495"/>
                  </a:lnTo>
                  <a:lnTo>
                    <a:pt x="905" y="490"/>
                  </a:lnTo>
                  <a:lnTo>
                    <a:pt x="900" y="485"/>
                  </a:lnTo>
                  <a:lnTo>
                    <a:pt x="895" y="480"/>
                  </a:lnTo>
                  <a:lnTo>
                    <a:pt x="900" y="475"/>
                  </a:lnTo>
                  <a:lnTo>
                    <a:pt x="905" y="470"/>
                  </a:lnTo>
                  <a:lnTo>
                    <a:pt x="910" y="475"/>
                  </a:lnTo>
                  <a:lnTo>
                    <a:pt x="915" y="485"/>
                  </a:lnTo>
                  <a:lnTo>
                    <a:pt x="920" y="490"/>
                  </a:lnTo>
                  <a:lnTo>
                    <a:pt x="925" y="495"/>
                  </a:lnTo>
                  <a:lnTo>
                    <a:pt x="930" y="495"/>
                  </a:lnTo>
                  <a:lnTo>
                    <a:pt x="935" y="500"/>
                  </a:lnTo>
                  <a:lnTo>
                    <a:pt x="940" y="504"/>
                  </a:lnTo>
                  <a:lnTo>
                    <a:pt x="940" y="509"/>
                  </a:lnTo>
                  <a:lnTo>
                    <a:pt x="945" y="514"/>
                  </a:lnTo>
                  <a:lnTo>
                    <a:pt x="945" y="519"/>
                  </a:lnTo>
                  <a:lnTo>
                    <a:pt x="945" y="524"/>
                  </a:lnTo>
                  <a:lnTo>
                    <a:pt x="945" y="534"/>
                  </a:lnTo>
                  <a:lnTo>
                    <a:pt x="950" y="539"/>
                  </a:lnTo>
                  <a:lnTo>
                    <a:pt x="955" y="539"/>
                  </a:lnTo>
                  <a:lnTo>
                    <a:pt x="960" y="544"/>
                  </a:lnTo>
                  <a:lnTo>
                    <a:pt x="960" y="549"/>
                  </a:lnTo>
                  <a:lnTo>
                    <a:pt x="964" y="554"/>
                  </a:lnTo>
                  <a:lnTo>
                    <a:pt x="964" y="564"/>
                  </a:lnTo>
                  <a:lnTo>
                    <a:pt x="969" y="569"/>
                  </a:lnTo>
                  <a:lnTo>
                    <a:pt x="969" y="574"/>
                  </a:lnTo>
                  <a:lnTo>
                    <a:pt x="974" y="579"/>
                  </a:lnTo>
                  <a:lnTo>
                    <a:pt x="974" y="584"/>
                  </a:lnTo>
                  <a:lnTo>
                    <a:pt x="974" y="589"/>
                  </a:lnTo>
                  <a:lnTo>
                    <a:pt x="974" y="593"/>
                  </a:lnTo>
                  <a:lnTo>
                    <a:pt x="974" y="598"/>
                  </a:lnTo>
                  <a:lnTo>
                    <a:pt x="979" y="603"/>
                  </a:lnTo>
                  <a:lnTo>
                    <a:pt x="979" y="608"/>
                  </a:lnTo>
                  <a:lnTo>
                    <a:pt x="979" y="618"/>
                  </a:lnTo>
                  <a:lnTo>
                    <a:pt x="984" y="623"/>
                  </a:lnTo>
                  <a:lnTo>
                    <a:pt x="984" y="623"/>
                  </a:lnTo>
                  <a:lnTo>
                    <a:pt x="984" y="618"/>
                  </a:lnTo>
                  <a:lnTo>
                    <a:pt x="984" y="613"/>
                  </a:lnTo>
                  <a:lnTo>
                    <a:pt x="984" y="603"/>
                  </a:lnTo>
                  <a:lnTo>
                    <a:pt x="984" y="598"/>
                  </a:lnTo>
                  <a:lnTo>
                    <a:pt x="989" y="593"/>
                  </a:lnTo>
                  <a:lnTo>
                    <a:pt x="989" y="589"/>
                  </a:lnTo>
                  <a:lnTo>
                    <a:pt x="989" y="584"/>
                  </a:lnTo>
                  <a:lnTo>
                    <a:pt x="989" y="579"/>
                  </a:lnTo>
                  <a:lnTo>
                    <a:pt x="989" y="574"/>
                  </a:lnTo>
                  <a:lnTo>
                    <a:pt x="989" y="569"/>
                  </a:lnTo>
                  <a:lnTo>
                    <a:pt x="989" y="564"/>
                  </a:lnTo>
                  <a:lnTo>
                    <a:pt x="989" y="559"/>
                  </a:lnTo>
                  <a:lnTo>
                    <a:pt x="989" y="554"/>
                  </a:lnTo>
                  <a:lnTo>
                    <a:pt x="989" y="544"/>
                  </a:lnTo>
                  <a:lnTo>
                    <a:pt x="989" y="539"/>
                  </a:lnTo>
                  <a:lnTo>
                    <a:pt x="989" y="534"/>
                  </a:lnTo>
                  <a:lnTo>
                    <a:pt x="989" y="529"/>
                  </a:lnTo>
                  <a:lnTo>
                    <a:pt x="989" y="524"/>
                  </a:lnTo>
                  <a:lnTo>
                    <a:pt x="989" y="519"/>
                  </a:lnTo>
                  <a:lnTo>
                    <a:pt x="984" y="514"/>
                  </a:lnTo>
                  <a:lnTo>
                    <a:pt x="984" y="509"/>
                  </a:lnTo>
                  <a:lnTo>
                    <a:pt x="984" y="504"/>
                  </a:lnTo>
                  <a:lnTo>
                    <a:pt x="984" y="500"/>
                  </a:lnTo>
                  <a:lnTo>
                    <a:pt x="979" y="490"/>
                  </a:lnTo>
                  <a:lnTo>
                    <a:pt x="979" y="485"/>
                  </a:lnTo>
                  <a:lnTo>
                    <a:pt x="974" y="480"/>
                  </a:lnTo>
                  <a:lnTo>
                    <a:pt x="974" y="475"/>
                  </a:lnTo>
                  <a:lnTo>
                    <a:pt x="969" y="470"/>
                  </a:lnTo>
                  <a:lnTo>
                    <a:pt x="969" y="465"/>
                  </a:lnTo>
                  <a:lnTo>
                    <a:pt x="964" y="460"/>
                  </a:lnTo>
                  <a:lnTo>
                    <a:pt x="960" y="455"/>
                  </a:lnTo>
                  <a:lnTo>
                    <a:pt x="960" y="450"/>
                  </a:lnTo>
                  <a:lnTo>
                    <a:pt x="955" y="445"/>
                  </a:lnTo>
                  <a:lnTo>
                    <a:pt x="950" y="440"/>
                  </a:lnTo>
                  <a:lnTo>
                    <a:pt x="950" y="435"/>
                  </a:lnTo>
                  <a:lnTo>
                    <a:pt x="945" y="430"/>
                  </a:lnTo>
                  <a:lnTo>
                    <a:pt x="945" y="425"/>
                  </a:lnTo>
                  <a:lnTo>
                    <a:pt x="940" y="420"/>
                  </a:lnTo>
                  <a:lnTo>
                    <a:pt x="935" y="416"/>
                  </a:lnTo>
                  <a:lnTo>
                    <a:pt x="935" y="411"/>
                  </a:lnTo>
                  <a:lnTo>
                    <a:pt x="930" y="406"/>
                  </a:lnTo>
                  <a:lnTo>
                    <a:pt x="925" y="401"/>
                  </a:lnTo>
                  <a:lnTo>
                    <a:pt x="925" y="396"/>
                  </a:lnTo>
                  <a:lnTo>
                    <a:pt x="920" y="391"/>
                  </a:lnTo>
                  <a:lnTo>
                    <a:pt x="920" y="386"/>
                  </a:lnTo>
                  <a:lnTo>
                    <a:pt x="915" y="381"/>
                  </a:lnTo>
                  <a:lnTo>
                    <a:pt x="910" y="376"/>
                  </a:lnTo>
                  <a:lnTo>
                    <a:pt x="910" y="371"/>
                  </a:lnTo>
                  <a:lnTo>
                    <a:pt x="905" y="366"/>
                  </a:lnTo>
                  <a:lnTo>
                    <a:pt x="900" y="356"/>
                  </a:lnTo>
                  <a:lnTo>
                    <a:pt x="895" y="351"/>
                  </a:lnTo>
                  <a:lnTo>
                    <a:pt x="895" y="346"/>
                  </a:lnTo>
                  <a:lnTo>
                    <a:pt x="900" y="346"/>
                  </a:lnTo>
                  <a:lnTo>
                    <a:pt x="905" y="341"/>
                  </a:lnTo>
                  <a:lnTo>
                    <a:pt x="910" y="336"/>
                  </a:lnTo>
                  <a:lnTo>
                    <a:pt x="910" y="331"/>
                  </a:lnTo>
                  <a:lnTo>
                    <a:pt x="915" y="327"/>
                  </a:lnTo>
                  <a:lnTo>
                    <a:pt x="915" y="317"/>
                  </a:lnTo>
                  <a:lnTo>
                    <a:pt x="915" y="312"/>
                  </a:lnTo>
                  <a:lnTo>
                    <a:pt x="915" y="307"/>
                  </a:lnTo>
                  <a:lnTo>
                    <a:pt x="920" y="302"/>
                  </a:lnTo>
                  <a:lnTo>
                    <a:pt x="925" y="297"/>
                  </a:lnTo>
                  <a:lnTo>
                    <a:pt x="935" y="297"/>
                  </a:lnTo>
                  <a:lnTo>
                    <a:pt x="945" y="292"/>
                  </a:lnTo>
                  <a:lnTo>
                    <a:pt x="950" y="292"/>
                  </a:lnTo>
                  <a:lnTo>
                    <a:pt x="940" y="292"/>
                  </a:lnTo>
                  <a:lnTo>
                    <a:pt x="930" y="287"/>
                  </a:lnTo>
                  <a:lnTo>
                    <a:pt x="920" y="287"/>
                  </a:lnTo>
                  <a:lnTo>
                    <a:pt x="915" y="282"/>
                  </a:lnTo>
                  <a:lnTo>
                    <a:pt x="905" y="282"/>
                  </a:lnTo>
                  <a:lnTo>
                    <a:pt x="900" y="282"/>
                  </a:lnTo>
                  <a:lnTo>
                    <a:pt x="895" y="287"/>
                  </a:lnTo>
                  <a:lnTo>
                    <a:pt x="885" y="292"/>
                  </a:lnTo>
                  <a:lnTo>
                    <a:pt x="880" y="297"/>
                  </a:lnTo>
                  <a:lnTo>
                    <a:pt x="875" y="302"/>
                  </a:lnTo>
                  <a:lnTo>
                    <a:pt x="871" y="302"/>
                  </a:lnTo>
                  <a:lnTo>
                    <a:pt x="861" y="307"/>
                  </a:lnTo>
                  <a:lnTo>
                    <a:pt x="856" y="307"/>
                  </a:lnTo>
                  <a:lnTo>
                    <a:pt x="846" y="307"/>
                  </a:lnTo>
                  <a:lnTo>
                    <a:pt x="841" y="302"/>
                  </a:lnTo>
                  <a:lnTo>
                    <a:pt x="841" y="297"/>
                  </a:lnTo>
                  <a:lnTo>
                    <a:pt x="841" y="292"/>
                  </a:lnTo>
                  <a:lnTo>
                    <a:pt x="846" y="287"/>
                  </a:lnTo>
                  <a:lnTo>
                    <a:pt x="851" y="282"/>
                  </a:lnTo>
                  <a:lnTo>
                    <a:pt x="856" y="277"/>
                  </a:lnTo>
                  <a:lnTo>
                    <a:pt x="861" y="272"/>
                  </a:lnTo>
                  <a:lnTo>
                    <a:pt x="861" y="267"/>
                  </a:lnTo>
                  <a:lnTo>
                    <a:pt x="861" y="262"/>
                  </a:lnTo>
                  <a:lnTo>
                    <a:pt x="866" y="257"/>
                  </a:lnTo>
                  <a:lnTo>
                    <a:pt x="871" y="252"/>
                  </a:lnTo>
                  <a:lnTo>
                    <a:pt x="880" y="247"/>
                  </a:lnTo>
                  <a:lnTo>
                    <a:pt x="890" y="247"/>
                  </a:lnTo>
                  <a:lnTo>
                    <a:pt x="900" y="247"/>
                  </a:lnTo>
                  <a:lnTo>
                    <a:pt x="905" y="247"/>
                  </a:lnTo>
                  <a:lnTo>
                    <a:pt x="905" y="243"/>
                  </a:lnTo>
                  <a:lnTo>
                    <a:pt x="905" y="233"/>
                  </a:lnTo>
                  <a:lnTo>
                    <a:pt x="910" y="228"/>
                  </a:lnTo>
                  <a:lnTo>
                    <a:pt x="915" y="223"/>
                  </a:lnTo>
                  <a:lnTo>
                    <a:pt x="920" y="223"/>
                  </a:lnTo>
                  <a:lnTo>
                    <a:pt x="925" y="218"/>
                  </a:lnTo>
                  <a:lnTo>
                    <a:pt x="930" y="213"/>
                  </a:lnTo>
                  <a:lnTo>
                    <a:pt x="935" y="208"/>
                  </a:lnTo>
                  <a:lnTo>
                    <a:pt x="940" y="203"/>
                  </a:lnTo>
                  <a:lnTo>
                    <a:pt x="945" y="198"/>
                  </a:lnTo>
                  <a:lnTo>
                    <a:pt x="950" y="193"/>
                  </a:lnTo>
                  <a:lnTo>
                    <a:pt x="955" y="188"/>
                  </a:lnTo>
                  <a:lnTo>
                    <a:pt x="955" y="183"/>
                  </a:lnTo>
                  <a:lnTo>
                    <a:pt x="960" y="178"/>
                  </a:lnTo>
                  <a:lnTo>
                    <a:pt x="964" y="173"/>
                  </a:lnTo>
                  <a:lnTo>
                    <a:pt x="969" y="168"/>
                  </a:lnTo>
                  <a:lnTo>
                    <a:pt x="974" y="163"/>
                  </a:lnTo>
                  <a:lnTo>
                    <a:pt x="984" y="163"/>
                  </a:lnTo>
                  <a:lnTo>
                    <a:pt x="989" y="159"/>
                  </a:lnTo>
                  <a:lnTo>
                    <a:pt x="999" y="159"/>
                  </a:lnTo>
                  <a:lnTo>
                    <a:pt x="1009" y="159"/>
                  </a:lnTo>
                  <a:lnTo>
                    <a:pt x="1014" y="154"/>
                  </a:lnTo>
                  <a:lnTo>
                    <a:pt x="1019" y="154"/>
                  </a:lnTo>
                  <a:lnTo>
                    <a:pt x="1029" y="149"/>
                  </a:lnTo>
                  <a:lnTo>
                    <a:pt x="1034" y="144"/>
                  </a:lnTo>
                  <a:lnTo>
                    <a:pt x="1039" y="144"/>
                  </a:lnTo>
                  <a:lnTo>
                    <a:pt x="1049" y="139"/>
                  </a:lnTo>
                  <a:lnTo>
                    <a:pt x="1058" y="139"/>
                  </a:lnTo>
                  <a:lnTo>
                    <a:pt x="1063" y="139"/>
                  </a:lnTo>
                  <a:lnTo>
                    <a:pt x="1073" y="139"/>
                  </a:lnTo>
                  <a:lnTo>
                    <a:pt x="1083" y="139"/>
                  </a:lnTo>
                  <a:lnTo>
                    <a:pt x="1088" y="139"/>
                  </a:lnTo>
                  <a:lnTo>
                    <a:pt x="1098" y="134"/>
                  </a:lnTo>
                  <a:lnTo>
                    <a:pt x="1103" y="134"/>
                  </a:lnTo>
                  <a:lnTo>
                    <a:pt x="1113" y="129"/>
                  </a:lnTo>
                  <a:lnTo>
                    <a:pt x="1118" y="129"/>
                  </a:lnTo>
                  <a:lnTo>
                    <a:pt x="1123" y="124"/>
                  </a:lnTo>
                  <a:lnTo>
                    <a:pt x="1133" y="119"/>
                  </a:lnTo>
                  <a:lnTo>
                    <a:pt x="1138" y="119"/>
                  </a:lnTo>
                  <a:lnTo>
                    <a:pt x="1147" y="114"/>
                  </a:lnTo>
                  <a:lnTo>
                    <a:pt x="1157" y="114"/>
                  </a:lnTo>
                  <a:lnTo>
                    <a:pt x="1162" y="114"/>
                  </a:lnTo>
                  <a:lnTo>
                    <a:pt x="1172" y="119"/>
                  </a:lnTo>
                  <a:lnTo>
                    <a:pt x="1182" y="124"/>
                  </a:lnTo>
                  <a:lnTo>
                    <a:pt x="1187" y="129"/>
                  </a:lnTo>
                  <a:lnTo>
                    <a:pt x="1187" y="134"/>
                  </a:lnTo>
                  <a:lnTo>
                    <a:pt x="1187" y="134"/>
                  </a:lnTo>
                  <a:lnTo>
                    <a:pt x="1177" y="139"/>
                  </a:lnTo>
                  <a:lnTo>
                    <a:pt x="1172" y="144"/>
                  </a:lnTo>
                  <a:lnTo>
                    <a:pt x="1162" y="144"/>
                  </a:lnTo>
                  <a:lnTo>
                    <a:pt x="1152" y="149"/>
                  </a:lnTo>
                  <a:lnTo>
                    <a:pt x="1147" y="149"/>
                  </a:lnTo>
                  <a:lnTo>
                    <a:pt x="1138" y="149"/>
                  </a:lnTo>
                  <a:lnTo>
                    <a:pt x="1128" y="144"/>
                  </a:lnTo>
                  <a:lnTo>
                    <a:pt x="1118" y="144"/>
                  </a:lnTo>
                  <a:lnTo>
                    <a:pt x="1113" y="144"/>
                  </a:lnTo>
                  <a:lnTo>
                    <a:pt x="1113" y="149"/>
                  </a:lnTo>
                  <a:lnTo>
                    <a:pt x="1108" y="154"/>
                  </a:lnTo>
                  <a:lnTo>
                    <a:pt x="1108" y="163"/>
                  </a:lnTo>
                  <a:lnTo>
                    <a:pt x="1103" y="163"/>
                  </a:lnTo>
                  <a:lnTo>
                    <a:pt x="1093" y="168"/>
                  </a:lnTo>
                  <a:lnTo>
                    <a:pt x="1088" y="173"/>
                  </a:lnTo>
                  <a:lnTo>
                    <a:pt x="1078" y="173"/>
                  </a:lnTo>
                  <a:lnTo>
                    <a:pt x="1073" y="178"/>
                  </a:lnTo>
                  <a:lnTo>
                    <a:pt x="1063" y="178"/>
                  </a:lnTo>
                  <a:lnTo>
                    <a:pt x="1053" y="178"/>
                  </a:lnTo>
                  <a:lnTo>
                    <a:pt x="1044" y="178"/>
                  </a:lnTo>
                  <a:lnTo>
                    <a:pt x="1039" y="178"/>
                  </a:lnTo>
                  <a:lnTo>
                    <a:pt x="1034" y="183"/>
                  </a:lnTo>
                  <a:lnTo>
                    <a:pt x="1034" y="188"/>
                  </a:lnTo>
                  <a:lnTo>
                    <a:pt x="1039" y="193"/>
                  </a:lnTo>
                  <a:lnTo>
                    <a:pt x="1044" y="198"/>
                  </a:lnTo>
                  <a:lnTo>
                    <a:pt x="1053" y="203"/>
                  </a:lnTo>
                  <a:lnTo>
                    <a:pt x="1058" y="208"/>
                  </a:lnTo>
                  <a:lnTo>
                    <a:pt x="1063" y="208"/>
                  </a:lnTo>
                  <a:lnTo>
                    <a:pt x="1068" y="213"/>
                  </a:lnTo>
                  <a:lnTo>
                    <a:pt x="1073" y="223"/>
                  </a:lnTo>
                  <a:lnTo>
                    <a:pt x="1078" y="228"/>
                  </a:lnTo>
                  <a:lnTo>
                    <a:pt x="1083" y="233"/>
                  </a:lnTo>
                  <a:lnTo>
                    <a:pt x="1088" y="233"/>
                  </a:lnTo>
                  <a:lnTo>
                    <a:pt x="1093" y="233"/>
                  </a:lnTo>
                  <a:lnTo>
                    <a:pt x="1093" y="233"/>
                  </a:lnTo>
                  <a:lnTo>
                    <a:pt x="1098" y="223"/>
                  </a:lnTo>
                  <a:lnTo>
                    <a:pt x="1098" y="218"/>
                  </a:lnTo>
                  <a:lnTo>
                    <a:pt x="1098" y="208"/>
                  </a:lnTo>
                  <a:lnTo>
                    <a:pt x="1103" y="203"/>
                  </a:lnTo>
                  <a:lnTo>
                    <a:pt x="1103" y="198"/>
                  </a:lnTo>
                  <a:lnTo>
                    <a:pt x="1108" y="193"/>
                  </a:lnTo>
                  <a:lnTo>
                    <a:pt x="1113" y="188"/>
                  </a:lnTo>
                  <a:lnTo>
                    <a:pt x="1123" y="188"/>
                  </a:lnTo>
                  <a:lnTo>
                    <a:pt x="1128" y="188"/>
                  </a:lnTo>
                  <a:lnTo>
                    <a:pt x="1138" y="188"/>
                  </a:lnTo>
                  <a:lnTo>
                    <a:pt x="1147" y="183"/>
                  </a:lnTo>
                  <a:lnTo>
                    <a:pt x="1152" y="183"/>
                  </a:lnTo>
                  <a:lnTo>
                    <a:pt x="1162" y="183"/>
                  </a:lnTo>
                  <a:lnTo>
                    <a:pt x="1172" y="178"/>
                  </a:lnTo>
                  <a:lnTo>
                    <a:pt x="1177" y="178"/>
                  </a:lnTo>
                  <a:lnTo>
                    <a:pt x="1182" y="173"/>
                  </a:lnTo>
                  <a:lnTo>
                    <a:pt x="1187" y="168"/>
                  </a:lnTo>
                  <a:lnTo>
                    <a:pt x="1192" y="163"/>
                  </a:lnTo>
                  <a:lnTo>
                    <a:pt x="1202" y="163"/>
                  </a:lnTo>
                  <a:lnTo>
                    <a:pt x="1207" y="159"/>
                  </a:lnTo>
                  <a:lnTo>
                    <a:pt x="1212" y="154"/>
                  </a:lnTo>
                  <a:lnTo>
                    <a:pt x="1217" y="149"/>
                  </a:lnTo>
                  <a:lnTo>
                    <a:pt x="1222" y="144"/>
                  </a:lnTo>
                  <a:lnTo>
                    <a:pt x="1227" y="144"/>
                  </a:lnTo>
                  <a:lnTo>
                    <a:pt x="1236" y="144"/>
                  </a:lnTo>
                  <a:lnTo>
                    <a:pt x="1246" y="144"/>
                  </a:lnTo>
                  <a:lnTo>
                    <a:pt x="1256" y="144"/>
                  </a:lnTo>
                  <a:lnTo>
                    <a:pt x="1261" y="139"/>
                  </a:lnTo>
                  <a:lnTo>
                    <a:pt x="1271" y="139"/>
                  </a:lnTo>
                  <a:lnTo>
                    <a:pt x="1281" y="134"/>
                  </a:lnTo>
                  <a:lnTo>
                    <a:pt x="1286" y="134"/>
                  </a:lnTo>
                  <a:lnTo>
                    <a:pt x="1291" y="129"/>
                  </a:lnTo>
                  <a:lnTo>
                    <a:pt x="1296" y="124"/>
                  </a:lnTo>
                  <a:lnTo>
                    <a:pt x="1301" y="119"/>
                  </a:lnTo>
                  <a:lnTo>
                    <a:pt x="1306" y="114"/>
                  </a:lnTo>
                  <a:lnTo>
                    <a:pt x="1311" y="114"/>
                  </a:lnTo>
                  <a:lnTo>
                    <a:pt x="1321" y="114"/>
                  </a:lnTo>
                  <a:lnTo>
                    <a:pt x="1330" y="114"/>
                  </a:lnTo>
                  <a:lnTo>
                    <a:pt x="1340" y="114"/>
                  </a:lnTo>
                  <a:lnTo>
                    <a:pt x="1345" y="114"/>
                  </a:lnTo>
                  <a:lnTo>
                    <a:pt x="1355" y="109"/>
                  </a:lnTo>
                  <a:lnTo>
                    <a:pt x="1365" y="109"/>
                  </a:lnTo>
                  <a:lnTo>
                    <a:pt x="1370" y="104"/>
                  </a:lnTo>
                  <a:lnTo>
                    <a:pt x="1375" y="104"/>
                  </a:lnTo>
                  <a:lnTo>
                    <a:pt x="1380" y="99"/>
                  </a:lnTo>
                  <a:lnTo>
                    <a:pt x="1385" y="94"/>
                  </a:lnTo>
                  <a:lnTo>
                    <a:pt x="1395" y="89"/>
                  </a:lnTo>
                  <a:lnTo>
                    <a:pt x="1400" y="84"/>
                  </a:lnTo>
                  <a:lnTo>
                    <a:pt x="1410" y="84"/>
                  </a:lnTo>
                  <a:lnTo>
                    <a:pt x="1415" y="84"/>
                  </a:lnTo>
                  <a:lnTo>
                    <a:pt x="1424" y="84"/>
                  </a:lnTo>
                  <a:lnTo>
                    <a:pt x="1434" y="84"/>
                  </a:lnTo>
                  <a:lnTo>
                    <a:pt x="1439" y="84"/>
                  </a:lnTo>
                  <a:lnTo>
                    <a:pt x="1449" y="79"/>
                  </a:lnTo>
                  <a:lnTo>
                    <a:pt x="1459" y="79"/>
                  </a:lnTo>
                  <a:lnTo>
                    <a:pt x="1469" y="79"/>
                  </a:lnTo>
                  <a:lnTo>
                    <a:pt x="1474" y="74"/>
                  </a:lnTo>
                  <a:lnTo>
                    <a:pt x="1479" y="70"/>
                  </a:lnTo>
                  <a:lnTo>
                    <a:pt x="1479" y="65"/>
                  </a:lnTo>
                  <a:lnTo>
                    <a:pt x="1484" y="60"/>
                  </a:lnTo>
                  <a:lnTo>
                    <a:pt x="1494" y="60"/>
                  </a:lnTo>
                  <a:lnTo>
                    <a:pt x="1499" y="55"/>
                  </a:lnTo>
                  <a:lnTo>
                    <a:pt x="1508" y="55"/>
                  </a:lnTo>
                  <a:lnTo>
                    <a:pt x="1518" y="55"/>
                  </a:lnTo>
                  <a:lnTo>
                    <a:pt x="1523" y="55"/>
                  </a:lnTo>
                  <a:lnTo>
                    <a:pt x="1533" y="55"/>
                  </a:lnTo>
                  <a:lnTo>
                    <a:pt x="1543" y="55"/>
                  </a:lnTo>
                  <a:lnTo>
                    <a:pt x="1548" y="50"/>
                  </a:lnTo>
                  <a:lnTo>
                    <a:pt x="1558" y="50"/>
                  </a:lnTo>
                  <a:lnTo>
                    <a:pt x="1558" y="45"/>
                  </a:lnTo>
                  <a:lnTo>
                    <a:pt x="1563" y="40"/>
                  </a:lnTo>
                  <a:lnTo>
                    <a:pt x="1568" y="35"/>
                  </a:lnTo>
                  <a:lnTo>
                    <a:pt x="1578" y="30"/>
                  </a:lnTo>
                  <a:lnTo>
                    <a:pt x="1588" y="30"/>
                  </a:lnTo>
                  <a:lnTo>
                    <a:pt x="1593" y="30"/>
                  </a:lnTo>
                  <a:lnTo>
                    <a:pt x="1602" y="30"/>
                  </a:lnTo>
                  <a:lnTo>
                    <a:pt x="1612" y="25"/>
                  </a:lnTo>
                  <a:lnTo>
                    <a:pt x="1617" y="25"/>
                  </a:lnTo>
                  <a:lnTo>
                    <a:pt x="1627" y="25"/>
                  </a:lnTo>
                  <a:lnTo>
                    <a:pt x="1637" y="25"/>
                  </a:lnTo>
                  <a:lnTo>
                    <a:pt x="1647" y="25"/>
                  </a:lnTo>
                  <a:lnTo>
                    <a:pt x="1652" y="25"/>
                  </a:lnTo>
                  <a:lnTo>
                    <a:pt x="1662" y="25"/>
                  </a:lnTo>
                  <a:lnTo>
                    <a:pt x="1672" y="25"/>
                  </a:lnTo>
                  <a:lnTo>
                    <a:pt x="1677" y="25"/>
                  </a:lnTo>
                  <a:lnTo>
                    <a:pt x="1687" y="30"/>
                  </a:lnTo>
                  <a:lnTo>
                    <a:pt x="1696" y="30"/>
                  </a:lnTo>
                  <a:lnTo>
                    <a:pt x="1701" y="30"/>
                  </a:lnTo>
                  <a:lnTo>
                    <a:pt x="1711" y="30"/>
                  </a:lnTo>
                  <a:lnTo>
                    <a:pt x="1721" y="30"/>
                  </a:lnTo>
                  <a:lnTo>
                    <a:pt x="1726" y="35"/>
                  </a:lnTo>
                  <a:lnTo>
                    <a:pt x="1731" y="40"/>
                  </a:lnTo>
                  <a:lnTo>
                    <a:pt x="1736" y="45"/>
                  </a:lnTo>
                  <a:lnTo>
                    <a:pt x="1741" y="50"/>
                  </a:lnTo>
                  <a:lnTo>
                    <a:pt x="1746" y="55"/>
                  </a:lnTo>
                  <a:lnTo>
                    <a:pt x="1756" y="55"/>
                  </a:lnTo>
                  <a:lnTo>
                    <a:pt x="1766" y="55"/>
                  </a:lnTo>
                  <a:lnTo>
                    <a:pt x="1776" y="55"/>
                  </a:lnTo>
                  <a:lnTo>
                    <a:pt x="1780" y="55"/>
                  </a:lnTo>
                  <a:lnTo>
                    <a:pt x="1790" y="55"/>
                  </a:lnTo>
                  <a:lnTo>
                    <a:pt x="1800" y="55"/>
                  </a:lnTo>
                  <a:lnTo>
                    <a:pt x="1805" y="60"/>
                  </a:lnTo>
                  <a:lnTo>
                    <a:pt x="1815" y="60"/>
                  </a:lnTo>
                  <a:lnTo>
                    <a:pt x="1820" y="65"/>
                  </a:lnTo>
                  <a:lnTo>
                    <a:pt x="1825" y="70"/>
                  </a:lnTo>
                  <a:lnTo>
                    <a:pt x="1830" y="74"/>
                  </a:lnTo>
                  <a:lnTo>
                    <a:pt x="1835" y="74"/>
                  </a:lnTo>
                  <a:lnTo>
                    <a:pt x="1845" y="79"/>
                  </a:lnTo>
                  <a:lnTo>
                    <a:pt x="1850" y="79"/>
                  </a:lnTo>
                  <a:lnTo>
                    <a:pt x="1860" y="79"/>
                  </a:lnTo>
                  <a:lnTo>
                    <a:pt x="1870" y="79"/>
                  </a:lnTo>
                  <a:lnTo>
                    <a:pt x="1879" y="79"/>
                  </a:lnTo>
                  <a:lnTo>
                    <a:pt x="1884" y="79"/>
                  </a:lnTo>
                  <a:lnTo>
                    <a:pt x="1894" y="79"/>
                  </a:lnTo>
                  <a:lnTo>
                    <a:pt x="1904" y="84"/>
                  </a:lnTo>
                  <a:lnTo>
                    <a:pt x="1909" y="84"/>
                  </a:lnTo>
                  <a:lnTo>
                    <a:pt x="1919" y="89"/>
                  </a:lnTo>
                  <a:lnTo>
                    <a:pt x="1924" y="94"/>
                  </a:lnTo>
                  <a:lnTo>
                    <a:pt x="1924" y="99"/>
                  </a:lnTo>
                  <a:lnTo>
                    <a:pt x="1929" y="104"/>
                  </a:lnTo>
                  <a:lnTo>
                    <a:pt x="1939" y="104"/>
                  </a:lnTo>
                  <a:lnTo>
                    <a:pt x="1944" y="109"/>
                  </a:lnTo>
                  <a:lnTo>
                    <a:pt x="1954" y="109"/>
                  </a:lnTo>
                  <a:lnTo>
                    <a:pt x="1963" y="109"/>
                  </a:lnTo>
                  <a:lnTo>
                    <a:pt x="1973" y="109"/>
                  </a:lnTo>
                  <a:lnTo>
                    <a:pt x="1978" y="109"/>
                  </a:lnTo>
                  <a:lnTo>
                    <a:pt x="1988" y="109"/>
                  </a:lnTo>
                  <a:lnTo>
                    <a:pt x="1998" y="109"/>
                  </a:lnTo>
                  <a:lnTo>
                    <a:pt x="2003" y="109"/>
                  </a:lnTo>
                  <a:lnTo>
                    <a:pt x="2013" y="114"/>
                  </a:lnTo>
                  <a:lnTo>
                    <a:pt x="2018" y="119"/>
                  </a:lnTo>
                  <a:lnTo>
                    <a:pt x="2023" y="119"/>
                  </a:lnTo>
                  <a:lnTo>
                    <a:pt x="2028" y="124"/>
                  </a:lnTo>
                  <a:lnTo>
                    <a:pt x="2033" y="129"/>
                  </a:lnTo>
                  <a:lnTo>
                    <a:pt x="2043" y="134"/>
                  </a:lnTo>
                  <a:lnTo>
                    <a:pt x="2048" y="134"/>
                  </a:lnTo>
                  <a:lnTo>
                    <a:pt x="2057" y="134"/>
                  </a:lnTo>
                  <a:lnTo>
                    <a:pt x="2067" y="134"/>
                  </a:lnTo>
                  <a:lnTo>
                    <a:pt x="2072" y="134"/>
                  </a:lnTo>
                  <a:lnTo>
                    <a:pt x="2082" y="134"/>
                  </a:lnTo>
                  <a:lnTo>
                    <a:pt x="2092" y="134"/>
                  </a:lnTo>
                  <a:lnTo>
                    <a:pt x="2102" y="134"/>
                  </a:lnTo>
                  <a:lnTo>
                    <a:pt x="2107" y="139"/>
                  </a:lnTo>
                  <a:lnTo>
                    <a:pt x="2112" y="144"/>
                  </a:lnTo>
                  <a:lnTo>
                    <a:pt x="2117" y="149"/>
                  </a:lnTo>
                  <a:lnTo>
                    <a:pt x="2122" y="154"/>
                  </a:lnTo>
                  <a:lnTo>
                    <a:pt x="2127" y="159"/>
                  </a:lnTo>
                  <a:lnTo>
                    <a:pt x="2127" y="163"/>
                  </a:lnTo>
                  <a:lnTo>
                    <a:pt x="2132" y="163"/>
                  </a:lnTo>
                  <a:lnTo>
                    <a:pt x="2142" y="168"/>
                  </a:lnTo>
                  <a:lnTo>
                    <a:pt x="2151" y="168"/>
                  </a:lnTo>
                  <a:lnTo>
                    <a:pt x="2161" y="168"/>
                  </a:lnTo>
                  <a:lnTo>
                    <a:pt x="2166" y="173"/>
                  </a:lnTo>
                  <a:lnTo>
                    <a:pt x="2176" y="178"/>
                  </a:lnTo>
                  <a:lnTo>
                    <a:pt x="2181" y="178"/>
                  </a:lnTo>
                  <a:lnTo>
                    <a:pt x="2191" y="178"/>
                  </a:lnTo>
                  <a:lnTo>
                    <a:pt x="2201" y="178"/>
                  </a:lnTo>
                  <a:lnTo>
                    <a:pt x="2206" y="178"/>
                  </a:lnTo>
                  <a:lnTo>
                    <a:pt x="2216" y="178"/>
                  </a:lnTo>
                  <a:lnTo>
                    <a:pt x="2221" y="183"/>
                  </a:lnTo>
                  <a:lnTo>
                    <a:pt x="2226" y="188"/>
                  </a:lnTo>
                  <a:lnTo>
                    <a:pt x="2235" y="188"/>
                  </a:lnTo>
                  <a:lnTo>
                    <a:pt x="2240" y="193"/>
                  </a:lnTo>
                  <a:lnTo>
                    <a:pt x="2250" y="198"/>
                  </a:lnTo>
                  <a:lnTo>
                    <a:pt x="2255" y="198"/>
                  </a:lnTo>
                  <a:lnTo>
                    <a:pt x="2260" y="203"/>
                  </a:lnTo>
                  <a:lnTo>
                    <a:pt x="2270" y="208"/>
                  </a:lnTo>
                  <a:lnTo>
                    <a:pt x="2275" y="208"/>
                  </a:lnTo>
                  <a:lnTo>
                    <a:pt x="2285" y="213"/>
                  </a:lnTo>
                  <a:lnTo>
                    <a:pt x="2290" y="218"/>
                  </a:lnTo>
                  <a:lnTo>
                    <a:pt x="2295" y="218"/>
                  </a:lnTo>
                  <a:lnTo>
                    <a:pt x="2305" y="223"/>
                  </a:lnTo>
                  <a:lnTo>
                    <a:pt x="2310" y="228"/>
                  </a:lnTo>
                  <a:lnTo>
                    <a:pt x="2315" y="228"/>
                  </a:lnTo>
                  <a:lnTo>
                    <a:pt x="2324" y="233"/>
                  </a:lnTo>
                  <a:lnTo>
                    <a:pt x="2329" y="238"/>
                  </a:lnTo>
                  <a:lnTo>
                    <a:pt x="2339" y="238"/>
                  </a:lnTo>
                  <a:lnTo>
                    <a:pt x="2344" y="243"/>
                  </a:lnTo>
                  <a:lnTo>
                    <a:pt x="2349" y="247"/>
                  </a:lnTo>
                  <a:lnTo>
                    <a:pt x="2359" y="247"/>
                  </a:lnTo>
                  <a:lnTo>
                    <a:pt x="2364" y="252"/>
                  </a:lnTo>
                  <a:lnTo>
                    <a:pt x="2374" y="257"/>
                  </a:lnTo>
                  <a:lnTo>
                    <a:pt x="2379" y="257"/>
                  </a:lnTo>
                  <a:lnTo>
                    <a:pt x="2384" y="262"/>
                  </a:lnTo>
                  <a:lnTo>
                    <a:pt x="2394" y="267"/>
                  </a:lnTo>
                  <a:lnTo>
                    <a:pt x="2399" y="267"/>
                  </a:lnTo>
                  <a:lnTo>
                    <a:pt x="2404" y="277"/>
                  </a:lnTo>
                  <a:lnTo>
                    <a:pt x="2404" y="282"/>
                  </a:lnTo>
                  <a:lnTo>
                    <a:pt x="2404" y="287"/>
                  </a:lnTo>
                  <a:lnTo>
                    <a:pt x="2399" y="292"/>
                  </a:lnTo>
                  <a:lnTo>
                    <a:pt x="2394" y="297"/>
                  </a:lnTo>
                  <a:lnTo>
                    <a:pt x="2384" y="297"/>
                  </a:lnTo>
                  <a:lnTo>
                    <a:pt x="2379" y="297"/>
                  </a:lnTo>
                  <a:lnTo>
                    <a:pt x="2369" y="302"/>
                  </a:lnTo>
                  <a:lnTo>
                    <a:pt x="2359" y="302"/>
                  </a:lnTo>
                  <a:lnTo>
                    <a:pt x="2354" y="307"/>
                  </a:lnTo>
                  <a:lnTo>
                    <a:pt x="2344" y="307"/>
                  </a:lnTo>
                  <a:lnTo>
                    <a:pt x="2339" y="307"/>
                  </a:lnTo>
                  <a:lnTo>
                    <a:pt x="2334" y="302"/>
                  </a:lnTo>
                  <a:lnTo>
                    <a:pt x="2329" y="297"/>
                  </a:lnTo>
                  <a:lnTo>
                    <a:pt x="2324" y="292"/>
                  </a:lnTo>
                  <a:lnTo>
                    <a:pt x="2320" y="287"/>
                  </a:lnTo>
                  <a:lnTo>
                    <a:pt x="2310" y="282"/>
                  </a:lnTo>
                  <a:lnTo>
                    <a:pt x="2305" y="282"/>
                  </a:lnTo>
                  <a:lnTo>
                    <a:pt x="2295" y="282"/>
                  </a:lnTo>
                  <a:lnTo>
                    <a:pt x="2285" y="287"/>
                  </a:lnTo>
                  <a:lnTo>
                    <a:pt x="2275" y="287"/>
                  </a:lnTo>
                  <a:lnTo>
                    <a:pt x="2265" y="287"/>
                  </a:lnTo>
                  <a:lnTo>
                    <a:pt x="2260" y="287"/>
                  </a:lnTo>
                  <a:lnTo>
                    <a:pt x="2255" y="282"/>
                  </a:lnTo>
                  <a:lnTo>
                    <a:pt x="2250" y="277"/>
                  </a:lnTo>
                  <a:lnTo>
                    <a:pt x="2245" y="272"/>
                  </a:lnTo>
                  <a:lnTo>
                    <a:pt x="2240" y="267"/>
                  </a:lnTo>
                  <a:lnTo>
                    <a:pt x="2235" y="262"/>
                  </a:lnTo>
                  <a:lnTo>
                    <a:pt x="2226" y="262"/>
                  </a:lnTo>
                  <a:lnTo>
                    <a:pt x="2221" y="262"/>
                  </a:lnTo>
                  <a:lnTo>
                    <a:pt x="2211" y="262"/>
                  </a:lnTo>
                  <a:lnTo>
                    <a:pt x="2201" y="262"/>
                  </a:lnTo>
                  <a:lnTo>
                    <a:pt x="2191" y="262"/>
                  </a:lnTo>
                  <a:lnTo>
                    <a:pt x="2181" y="262"/>
                  </a:lnTo>
                  <a:lnTo>
                    <a:pt x="2176" y="262"/>
                  </a:lnTo>
                  <a:lnTo>
                    <a:pt x="2171" y="267"/>
                  </a:lnTo>
                  <a:lnTo>
                    <a:pt x="2166" y="272"/>
                  </a:lnTo>
                  <a:lnTo>
                    <a:pt x="2161" y="277"/>
                  </a:lnTo>
                  <a:lnTo>
                    <a:pt x="2156" y="282"/>
                  </a:lnTo>
                  <a:lnTo>
                    <a:pt x="2151" y="287"/>
                  </a:lnTo>
                  <a:lnTo>
                    <a:pt x="2142" y="287"/>
                  </a:lnTo>
                  <a:lnTo>
                    <a:pt x="2137" y="287"/>
                  </a:lnTo>
                  <a:lnTo>
                    <a:pt x="2132" y="292"/>
                  </a:lnTo>
                  <a:lnTo>
                    <a:pt x="2127" y="297"/>
                  </a:lnTo>
                  <a:lnTo>
                    <a:pt x="2117" y="297"/>
                  </a:lnTo>
                  <a:lnTo>
                    <a:pt x="2107" y="292"/>
                  </a:lnTo>
                  <a:lnTo>
                    <a:pt x="2102" y="292"/>
                  </a:lnTo>
                  <a:lnTo>
                    <a:pt x="2097" y="297"/>
                  </a:lnTo>
                  <a:lnTo>
                    <a:pt x="2092" y="302"/>
                  </a:lnTo>
                  <a:lnTo>
                    <a:pt x="2092" y="307"/>
                  </a:lnTo>
                  <a:lnTo>
                    <a:pt x="2082" y="312"/>
                  </a:lnTo>
                  <a:lnTo>
                    <a:pt x="2077" y="317"/>
                  </a:lnTo>
                  <a:lnTo>
                    <a:pt x="2072" y="317"/>
                  </a:lnTo>
                  <a:lnTo>
                    <a:pt x="2062" y="317"/>
                  </a:lnTo>
                  <a:lnTo>
                    <a:pt x="2052" y="312"/>
                  </a:lnTo>
                  <a:lnTo>
                    <a:pt x="2048" y="312"/>
                  </a:lnTo>
                  <a:lnTo>
                    <a:pt x="2038" y="307"/>
                  </a:lnTo>
                  <a:lnTo>
                    <a:pt x="2028" y="307"/>
                  </a:lnTo>
                  <a:lnTo>
                    <a:pt x="2023" y="307"/>
                  </a:lnTo>
                  <a:lnTo>
                    <a:pt x="2013" y="307"/>
                  </a:lnTo>
                  <a:lnTo>
                    <a:pt x="2008" y="307"/>
                  </a:lnTo>
                  <a:lnTo>
                    <a:pt x="1998" y="312"/>
                  </a:lnTo>
                  <a:lnTo>
                    <a:pt x="1988" y="312"/>
                  </a:lnTo>
                  <a:lnTo>
                    <a:pt x="1983" y="312"/>
                  </a:lnTo>
                  <a:lnTo>
                    <a:pt x="1973" y="317"/>
                  </a:lnTo>
                  <a:lnTo>
                    <a:pt x="1963" y="317"/>
                  </a:lnTo>
                  <a:lnTo>
                    <a:pt x="1959" y="317"/>
                  </a:lnTo>
                  <a:lnTo>
                    <a:pt x="1949" y="317"/>
                  </a:lnTo>
                  <a:lnTo>
                    <a:pt x="1939" y="322"/>
                  </a:lnTo>
                  <a:lnTo>
                    <a:pt x="1934" y="322"/>
                  </a:lnTo>
                  <a:lnTo>
                    <a:pt x="1924" y="322"/>
                  </a:lnTo>
                  <a:lnTo>
                    <a:pt x="1914" y="327"/>
                  </a:lnTo>
                  <a:lnTo>
                    <a:pt x="1909" y="327"/>
                  </a:lnTo>
                  <a:lnTo>
                    <a:pt x="1899" y="327"/>
                  </a:lnTo>
                  <a:lnTo>
                    <a:pt x="1894" y="331"/>
                  </a:lnTo>
                  <a:lnTo>
                    <a:pt x="1884" y="331"/>
                  </a:lnTo>
                  <a:lnTo>
                    <a:pt x="1874" y="331"/>
                  </a:lnTo>
                  <a:lnTo>
                    <a:pt x="1870" y="336"/>
                  </a:lnTo>
                  <a:lnTo>
                    <a:pt x="1860" y="336"/>
                  </a:lnTo>
                  <a:lnTo>
                    <a:pt x="1850" y="336"/>
                  </a:lnTo>
                  <a:lnTo>
                    <a:pt x="1845" y="341"/>
                  </a:lnTo>
                  <a:lnTo>
                    <a:pt x="1835" y="341"/>
                  </a:lnTo>
                  <a:lnTo>
                    <a:pt x="1825" y="341"/>
                  </a:lnTo>
                  <a:lnTo>
                    <a:pt x="1820" y="346"/>
                  </a:lnTo>
                  <a:lnTo>
                    <a:pt x="1810" y="346"/>
                  </a:lnTo>
                  <a:lnTo>
                    <a:pt x="1805" y="346"/>
                  </a:lnTo>
                  <a:lnTo>
                    <a:pt x="1800" y="351"/>
                  </a:lnTo>
                  <a:lnTo>
                    <a:pt x="1800" y="356"/>
                  </a:lnTo>
                  <a:lnTo>
                    <a:pt x="1800" y="366"/>
                  </a:lnTo>
                  <a:lnTo>
                    <a:pt x="1800" y="371"/>
                  </a:lnTo>
                  <a:lnTo>
                    <a:pt x="1800" y="376"/>
                  </a:lnTo>
                  <a:lnTo>
                    <a:pt x="1795" y="386"/>
                  </a:lnTo>
                  <a:lnTo>
                    <a:pt x="1790" y="386"/>
                  </a:lnTo>
                  <a:lnTo>
                    <a:pt x="1780" y="391"/>
                  </a:lnTo>
                  <a:lnTo>
                    <a:pt x="1776" y="386"/>
                  </a:lnTo>
                  <a:lnTo>
                    <a:pt x="1771" y="381"/>
                  </a:lnTo>
                  <a:lnTo>
                    <a:pt x="1766" y="376"/>
                  </a:lnTo>
                  <a:lnTo>
                    <a:pt x="1761" y="371"/>
                  </a:lnTo>
                  <a:lnTo>
                    <a:pt x="1756" y="366"/>
                  </a:lnTo>
                  <a:lnTo>
                    <a:pt x="1751" y="366"/>
                  </a:lnTo>
                  <a:lnTo>
                    <a:pt x="1746" y="361"/>
                  </a:lnTo>
                  <a:lnTo>
                    <a:pt x="1741" y="356"/>
                  </a:lnTo>
                  <a:lnTo>
                    <a:pt x="1736" y="351"/>
                  </a:lnTo>
                  <a:lnTo>
                    <a:pt x="1731" y="346"/>
                  </a:lnTo>
                  <a:lnTo>
                    <a:pt x="1726" y="341"/>
                  </a:lnTo>
                  <a:lnTo>
                    <a:pt x="1716" y="341"/>
                  </a:lnTo>
                  <a:lnTo>
                    <a:pt x="1711" y="346"/>
                  </a:lnTo>
                  <a:lnTo>
                    <a:pt x="1701" y="351"/>
                  </a:lnTo>
                  <a:lnTo>
                    <a:pt x="1696" y="346"/>
                  </a:lnTo>
                  <a:lnTo>
                    <a:pt x="1691" y="341"/>
                  </a:lnTo>
                  <a:lnTo>
                    <a:pt x="1682" y="336"/>
                  </a:lnTo>
                  <a:lnTo>
                    <a:pt x="1677" y="336"/>
                  </a:lnTo>
                  <a:lnTo>
                    <a:pt x="1672" y="331"/>
                  </a:lnTo>
                  <a:lnTo>
                    <a:pt x="1667" y="327"/>
                  </a:lnTo>
                  <a:lnTo>
                    <a:pt x="1662" y="322"/>
                  </a:lnTo>
                  <a:lnTo>
                    <a:pt x="1657" y="317"/>
                  </a:lnTo>
                  <a:lnTo>
                    <a:pt x="1647" y="317"/>
                  </a:lnTo>
                  <a:lnTo>
                    <a:pt x="1642" y="312"/>
                  </a:lnTo>
                  <a:lnTo>
                    <a:pt x="1637" y="307"/>
                  </a:lnTo>
                  <a:lnTo>
                    <a:pt x="1627" y="307"/>
                  </a:lnTo>
                  <a:lnTo>
                    <a:pt x="1622" y="302"/>
                  </a:lnTo>
                  <a:lnTo>
                    <a:pt x="1617" y="297"/>
                  </a:lnTo>
                  <a:lnTo>
                    <a:pt x="1612" y="292"/>
                  </a:lnTo>
                  <a:lnTo>
                    <a:pt x="1602" y="292"/>
                  </a:lnTo>
                  <a:lnTo>
                    <a:pt x="1593" y="292"/>
                  </a:lnTo>
                  <a:lnTo>
                    <a:pt x="1588" y="292"/>
                  </a:lnTo>
                  <a:lnTo>
                    <a:pt x="1583" y="297"/>
                  </a:lnTo>
                  <a:lnTo>
                    <a:pt x="1578" y="302"/>
                  </a:lnTo>
                  <a:lnTo>
                    <a:pt x="1573" y="307"/>
                  </a:lnTo>
                  <a:lnTo>
                    <a:pt x="1563" y="312"/>
                  </a:lnTo>
                  <a:lnTo>
                    <a:pt x="1558" y="312"/>
                  </a:lnTo>
                  <a:lnTo>
                    <a:pt x="1548" y="312"/>
                  </a:lnTo>
                  <a:lnTo>
                    <a:pt x="1538" y="317"/>
                  </a:lnTo>
                  <a:lnTo>
                    <a:pt x="1533" y="317"/>
                  </a:lnTo>
                  <a:lnTo>
                    <a:pt x="1528" y="322"/>
                  </a:lnTo>
                  <a:lnTo>
                    <a:pt x="1523" y="327"/>
                  </a:lnTo>
                  <a:lnTo>
                    <a:pt x="1518" y="331"/>
                  </a:lnTo>
                  <a:lnTo>
                    <a:pt x="1508" y="331"/>
                  </a:lnTo>
                  <a:lnTo>
                    <a:pt x="1504" y="331"/>
                  </a:lnTo>
                  <a:lnTo>
                    <a:pt x="1494" y="336"/>
                  </a:lnTo>
                  <a:lnTo>
                    <a:pt x="1484" y="336"/>
                  </a:lnTo>
                  <a:lnTo>
                    <a:pt x="1479" y="341"/>
                  </a:lnTo>
                  <a:lnTo>
                    <a:pt x="1474" y="346"/>
                  </a:lnTo>
                  <a:lnTo>
                    <a:pt x="1469" y="346"/>
                  </a:lnTo>
                  <a:lnTo>
                    <a:pt x="1459" y="351"/>
                  </a:lnTo>
                  <a:lnTo>
                    <a:pt x="1454" y="356"/>
                  </a:lnTo>
                  <a:lnTo>
                    <a:pt x="1444" y="356"/>
                  </a:lnTo>
                  <a:lnTo>
                    <a:pt x="1434" y="351"/>
                  </a:lnTo>
                  <a:lnTo>
                    <a:pt x="1429" y="351"/>
                  </a:lnTo>
                  <a:lnTo>
                    <a:pt x="1424" y="346"/>
                  </a:lnTo>
                  <a:lnTo>
                    <a:pt x="1419" y="336"/>
                  </a:lnTo>
                  <a:lnTo>
                    <a:pt x="1419" y="331"/>
                  </a:lnTo>
                  <a:lnTo>
                    <a:pt x="1415" y="327"/>
                  </a:lnTo>
                  <a:lnTo>
                    <a:pt x="1410" y="327"/>
                  </a:lnTo>
                  <a:lnTo>
                    <a:pt x="1405" y="327"/>
                  </a:lnTo>
                  <a:lnTo>
                    <a:pt x="1400" y="331"/>
                  </a:lnTo>
                  <a:lnTo>
                    <a:pt x="1395" y="336"/>
                  </a:lnTo>
                  <a:lnTo>
                    <a:pt x="1390" y="341"/>
                  </a:lnTo>
                  <a:lnTo>
                    <a:pt x="1380" y="346"/>
                  </a:lnTo>
                  <a:lnTo>
                    <a:pt x="1370" y="346"/>
                  </a:lnTo>
                  <a:lnTo>
                    <a:pt x="1365" y="346"/>
                  </a:lnTo>
                  <a:lnTo>
                    <a:pt x="1355" y="346"/>
                  </a:lnTo>
                  <a:lnTo>
                    <a:pt x="1345" y="346"/>
                  </a:lnTo>
                  <a:lnTo>
                    <a:pt x="1340" y="351"/>
                  </a:lnTo>
                  <a:lnTo>
                    <a:pt x="1335" y="356"/>
                  </a:lnTo>
                  <a:lnTo>
                    <a:pt x="1335" y="361"/>
                  </a:lnTo>
                  <a:lnTo>
                    <a:pt x="1326" y="366"/>
                  </a:lnTo>
                  <a:lnTo>
                    <a:pt x="1321" y="366"/>
                  </a:lnTo>
                  <a:lnTo>
                    <a:pt x="1311" y="371"/>
                  </a:lnTo>
                  <a:lnTo>
                    <a:pt x="1306" y="371"/>
                  </a:lnTo>
                  <a:lnTo>
                    <a:pt x="1296" y="371"/>
                  </a:lnTo>
                  <a:lnTo>
                    <a:pt x="1291" y="376"/>
                  </a:lnTo>
                  <a:lnTo>
                    <a:pt x="1281" y="381"/>
                  </a:lnTo>
                  <a:lnTo>
                    <a:pt x="1281" y="386"/>
                  </a:lnTo>
                  <a:lnTo>
                    <a:pt x="1276" y="391"/>
                  </a:lnTo>
                  <a:lnTo>
                    <a:pt x="1271" y="396"/>
                  </a:lnTo>
                  <a:lnTo>
                    <a:pt x="1271" y="401"/>
                  </a:lnTo>
                  <a:lnTo>
                    <a:pt x="1266" y="406"/>
                  </a:lnTo>
                  <a:lnTo>
                    <a:pt x="1261" y="411"/>
                  </a:lnTo>
                  <a:lnTo>
                    <a:pt x="1256" y="416"/>
                  </a:lnTo>
                  <a:lnTo>
                    <a:pt x="1251" y="420"/>
                  </a:lnTo>
                  <a:lnTo>
                    <a:pt x="1246" y="425"/>
                  </a:lnTo>
                  <a:lnTo>
                    <a:pt x="1246" y="430"/>
                  </a:lnTo>
                  <a:lnTo>
                    <a:pt x="1241" y="435"/>
                  </a:lnTo>
                  <a:lnTo>
                    <a:pt x="1241" y="440"/>
                  </a:lnTo>
                  <a:lnTo>
                    <a:pt x="1241" y="445"/>
                  </a:lnTo>
                  <a:lnTo>
                    <a:pt x="1241" y="450"/>
                  </a:lnTo>
                  <a:lnTo>
                    <a:pt x="1236" y="455"/>
                  </a:lnTo>
                  <a:lnTo>
                    <a:pt x="1236" y="460"/>
                  </a:lnTo>
                  <a:lnTo>
                    <a:pt x="1232" y="465"/>
                  </a:lnTo>
                  <a:lnTo>
                    <a:pt x="1227" y="470"/>
                  </a:lnTo>
                  <a:lnTo>
                    <a:pt x="1217" y="475"/>
                  </a:lnTo>
                  <a:lnTo>
                    <a:pt x="1212" y="480"/>
                  </a:lnTo>
                  <a:lnTo>
                    <a:pt x="1207" y="480"/>
                  </a:lnTo>
                  <a:lnTo>
                    <a:pt x="1207" y="485"/>
                  </a:lnTo>
                  <a:lnTo>
                    <a:pt x="1207" y="490"/>
                  </a:lnTo>
                  <a:lnTo>
                    <a:pt x="1207" y="500"/>
                  </a:lnTo>
                  <a:lnTo>
                    <a:pt x="1207" y="504"/>
                  </a:lnTo>
                  <a:lnTo>
                    <a:pt x="1202" y="509"/>
                  </a:lnTo>
                  <a:lnTo>
                    <a:pt x="1197" y="514"/>
                  </a:lnTo>
                  <a:lnTo>
                    <a:pt x="1192" y="514"/>
                  </a:lnTo>
                  <a:lnTo>
                    <a:pt x="1187" y="504"/>
                  </a:lnTo>
                  <a:lnTo>
                    <a:pt x="1182" y="500"/>
                  </a:lnTo>
                  <a:lnTo>
                    <a:pt x="1177" y="490"/>
                  </a:lnTo>
                  <a:lnTo>
                    <a:pt x="1177" y="485"/>
                  </a:lnTo>
                  <a:lnTo>
                    <a:pt x="1172" y="480"/>
                  </a:lnTo>
                  <a:lnTo>
                    <a:pt x="1172" y="480"/>
                  </a:lnTo>
                  <a:lnTo>
                    <a:pt x="1167" y="485"/>
                  </a:lnTo>
                  <a:lnTo>
                    <a:pt x="1167" y="490"/>
                  </a:lnTo>
                  <a:lnTo>
                    <a:pt x="1167" y="495"/>
                  </a:lnTo>
                  <a:lnTo>
                    <a:pt x="1162" y="500"/>
                  </a:lnTo>
                  <a:lnTo>
                    <a:pt x="1162" y="509"/>
                  </a:lnTo>
                  <a:lnTo>
                    <a:pt x="1162" y="514"/>
                  </a:lnTo>
                  <a:lnTo>
                    <a:pt x="1162" y="519"/>
                  </a:lnTo>
                  <a:lnTo>
                    <a:pt x="1157" y="524"/>
                  </a:lnTo>
                  <a:lnTo>
                    <a:pt x="1157" y="529"/>
                  </a:lnTo>
                  <a:lnTo>
                    <a:pt x="1152" y="534"/>
                  </a:lnTo>
                  <a:lnTo>
                    <a:pt x="1147" y="539"/>
                  </a:lnTo>
                  <a:lnTo>
                    <a:pt x="1143" y="544"/>
                  </a:lnTo>
                  <a:lnTo>
                    <a:pt x="1143" y="549"/>
                  </a:lnTo>
                  <a:lnTo>
                    <a:pt x="1138" y="554"/>
                  </a:lnTo>
                  <a:lnTo>
                    <a:pt x="1138" y="559"/>
                  </a:lnTo>
                  <a:lnTo>
                    <a:pt x="1138" y="564"/>
                  </a:lnTo>
                  <a:lnTo>
                    <a:pt x="1133" y="569"/>
                  </a:lnTo>
                  <a:lnTo>
                    <a:pt x="1133" y="574"/>
                  </a:lnTo>
                  <a:lnTo>
                    <a:pt x="1133" y="584"/>
                  </a:lnTo>
                  <a:lnTo>
                    <a:pt x="1133" y="589"/>
                  </a:lnTo>
                  <a:lnTo>
                    <a:pt x="1133" y="593"/>
                  </a:lnTo>
                  <a:lnTo>
                    <a:pt x="1128" y="598"/>
                  </a:lnTo>
                  <a:lnTo>
                    <a:pt x="1128" y="603"/>
                  </a:lnTo>
                  <a:lnTo>
                    <a:pt x="1128" y="608"/>
                  </a:lnTo>
                  <a:lnTo>
                    <a:pt x="1128" y="613"/>
                  </a:lnTo>
                  <a:lnTo>
                    <a:pt x="1128" y="618"/>
                  </a:lnTo>
                  <a:lnTo>
                    <a:pt x="1128" y="623"/>
                  </a:lnTo>
                  <a:lnTo>
                    <a:pt x="1123" y="633"/>
                  </a:lnTo>
                  <a:lnTo>
                    <a:pt x="1123" y="638"/>
                  </a:lnTo>
                  <a:lnTo>
                    <a:pt x="1123" y="643"/>
                  </a:lnTo>
                  <a:lnTo>
                    <a:pt x="1123" y="648"/>
                  </a:lnTo>
                  <a:lnTo>
                    <a:pt x="1118" y="653"/>
                  </a:lnTo>
                  <a:lnTo>
                    <a:pt x="1118" y="658"/>
                  </a:lnTo>
                  <a:lnTo>
                    <a:pt x="1118" y="663"/>
                  </a:lnTo>
                  <a:lnTo>
                    <a:pt x="1118" y="668"/>
                  </a:lnTo>
                  <a:lnTo>
                    <a:pt x="1113" y="673"/>
                  </a:lnTo>
                  <a:lnTo>
                    <a:pt x="1113" y="677"/>
                  </a:lnTo>
                  <a:lnTo>
                    <a:pt x="1108" y="682"/>
                  </a:lnTo>
                  <a:lnTo>
                    <a:pt x="1108" y="692"/>
                  </a:lnTo>
                  <a:lnTo>
                    <a:pt x="1103" y="697"/>
                  </a:lnTo>
                  <a:lnTo>
                    <a:pt x="1103" y="702"/>
                  </a:lnTo>
                  <a:lnTo>
                    <a:pt x="1098" y="707"/>
                  </a:lnTo>
                  <a:lnTo>
                    <a:pt x="1098" y="712"/>
                  </a:lnTo>
                  <a:lnTo>
                    <a:pt x="1093" y="717"/>
                  </a:lnTo>
                  <a:lnTo>
                    <a:pt x="1093" y="722"/>
                  </a:lnTo>
                  <a:lnTo>
                    <a:pt x="1088" y="727"/>
                  </a:lnTo>
                  <a:lnTo>
                    <a:pt x="1088" y="732"/>
                  </a:lnTo>
                  <a:lnTo>
                    <a:pt x="1083" y="737"/>
                  </a:lnTo>
                  <a:lnTo>
                    <a:pt x="1083" y="742"/>
                  </a:lnTo>
                  <a:lnTo>
                    <a:pt x="1078" y="747"/>
                  </a:lnTo>
                  <a:lnTo>
                    <a:pt x="1078" y="752"/>
                  </a:lnTo>
                  <a:lnTo>
                    <a:pt x="1078" y="757"/>
                  </a:lnTo>
                  <a:lnTo>
                    <a:pt x="1073" y="766"/>
                  </a:lnTo>
                  <a:lnTo>
                    <a:pt x="1073" y="771"/>
                  </a:lnTo>
                  <a:lnTo>
                    <a:pt x="1068" y="776"/>
                  </a:lnTo>
                  <a:lnTo>
                    <a:pt x="1063" y="776"/>
                  </a:lnTo>
                  <a:lnTo>
                    <a:pt x="1058" y="781"/>
                  </a:lnTo>
                  <a:lnTo>
                    <a:pt x="1049" y="786"/>
                  </a:lnTo>
                  <a:lnTo>
                    <a:pt x="1044" y="791"/>
                  </a:lnTo>
                  <a:lnTo>
                    <a:pt x="1039" y="791"/>
                  </a:lnTo>
                  <a:lnTo>
                    <a:pt x="1034" y="796"/>
                  </a:lnTo>
                  <a:lnTo>
                    <a:pt x="1024" y="801"/>
                  </a:lnTo>
                  <a:lnTo>
                    <a:pt x="1019" y="806"/>
                  </a:lnTo>
                  <a:lnTo>
                    <a:pt x="1014" y="811"/>
                  </a:lnTo>
                  <a:lnTo>
                    <a:pt x="1009" y="806"/>
                  </a:lnTo>
                  <a:lnTo>
                    <a:pt x="1004" y="801"/>
                  </a:lnTo>
                  <a:close/>
                  <a:moveTo>
                    <a:pt x="1073" y="643"/>
                  </a:moveTo>
                  <a:lnTo>
                    <a:pt x="1068" y="633"/>
                  </a:lnTo>
                  <a:lnTo>
                    <a:pt x="1068" y="628"/>
                  </a:lnTo>
                  <a:lnTo>
                    <a:pt x="1068" y="618"/>
                  </a:lnTo>
                  <a:lnTo>
                    <a:pt x="1068" y="613"/>
                  </a:lnTo>
                  <a:lnTo>
                    <a:pt x="1068" y="603"/>
                  </a:lnTo>
                  <a:lnTo>
                    <a:pt x="1068" y="593"/>
                  </a:lnTo>
                  <a:lnTo>
                    <a:pt x="1068" y="589"/>
                  </a:lnTo>
                  <a:lnTo>
                    <a:pt x="1068" y="579"/>
                  </a:lnTo>
                  <a:lnTo>
                    <a:pt x="1063" y="574"/>
                  </a:lnTo>
                  <a:lnTo>
                    <a:pt x="1063" y="564"/>
                  </a:lnTo>
                  <a:lnTo>
                    <a:pt x="1068" y="559"/>
                  </a:lnTo>
                  <a:lnTo>
                    <a:pt x="1073" y="554"/>
                  </a:lnTo>
                  <a:lnTo>
                    <a:pt x="1078" y="544"/>
                  </a:lnTo>
                  <a:lnTo>
                    <a:pt x="1088" y="539"/>
                  </a:lnTo>
                  <a:lnTo>
                    <a:pt x="1093" y="534"/>
                  </a:lnTo>
                  <a:lnTo>
                    <a:pt x="1098" y="529"/>
                  </a:lnTo>
                  <a:lnTo>
                    <a:pt x="1098" y="519"/>
                  </a:lnTo>
                  <a:lnTo>
                    <a:pt x="1093" y="514"/>
                  </a:lnTo>
                  <a:lnTo>
                    <a:pt x="1093" y="504"/>
                  </a:lnTo>
                  <a:lnTo>
                    <a:pt x="1093" y="495"/>
                  </a:lnTo>
                  <a:lnTo>
                    <a:pt x="1093" y="485"/>
                  </a:lnTo>
                  <a:lnTo>
                    <a:pt x="1088" y="480"/>
                  </a:lnTo>
                  <a:lnTo>
                    <a:pt x="1088" y="485"/>
                  </a:lnTo>
                  <a:lnTo>
                    <a:pt x="1088" y="495"/>
                  </a:lnTo>
                  <a:lnTo>
                    <a:pt x="1083" y="504"/>
                  </a:lnTo>
                  <a:lnTo>
                    <a:pt x="1083" y="514"/>
                  </a:lnTo>
                  <a:lnTo>
                    <a:pt x="1073" y="519"/>
                  </a:lnTo>
                  <a:lnTo>
                    <a:pt x="1068" y="524"/>
                  </a:lnTo>
                  <a:lnTo>
                    <a:pt x="1063" y="529"/>
                  </a:lnTo>
                  <a:lnTo>
                    <a:pt x="1058" y="539"/>
                  </a:lnTo>
                  <a:lnTo>
                    <a:pt x="1058" y="544"/>
                  </a:lnTo>
                  <a:lnTo>
                    <a:pt x="1058" y="554"/>
                  </a:lnTo>
                  <a:lnTo>
                    <a:pt x="1058" y="559"/>
                  </a:lnTo>
                  <a:lnTo>
                    <a:pt x="1058" y="569"/>
                  </a:lnTo>
                  <a:lnTo>
                    <a:pt x="1058" y="574"/>
                  </a:lnTo>
                  <a:lnTo>
                    <a:pt x="1058" y="584"/>
                  </a:lnTo>
                  <a:lnTo>
                    <a:pt x="1058" y="589"/>
                  </a:lnTo>
                  <a:lnTo>
                    <a:pt x="1058" y="598"/>
                  </a:lnTo>
                  <a:lnTo>
                    <a:pt x="1058" y="608"/>
                  </a:lnTo>
                  <a:lnTo>
                    <a:pt x="1058" y="613"/>
                  </a:lnTo>
                  <a:lnTo>
                    <a:pt x="1058" y="618"/>
                  </a:lnTo>
                  <a:lnTo>
                    <a:pt x="1058" y="628"/>
                  </a:lnTo>
                  <a:lnTo>
                    <a:pt x="1058" y="633"/>
                  </a:lnTo>
                  <a:lnTo>
                    <a:pt x="1058" y="643"/>
                  </a:lnTo>
                  <a:lnTo>
                    <a:pt x="1058" y="653"/>
                  </a:lnTo>
                  <a:lnTo>
                    <a:pt x="1063" y="663"/>
                  </a:lnTo>
                  <a:lnTo>
                    <a:pt x="1063" y="663"/>
                  </a:lnTo>
                  <a:lnTo>
                    <a:pt x="1068" y="663"/>
                  </a:lnTo>
                  <a:lnTo>
                    <a:pt x="1068" y="653"/>
                  </a:lnTo>
                  <a:lnTo>
                    <a:pt x="1073" y="643"/>
                  </a:lnTo>
                  <a:close/>
                  <a:moveTo>
                    <a:pt x="1632" y="559"/>
                  </a:moveTo>
                  <a:lnTo>
                    <a:pt x="1637" y="559"/>
                  </a:lnTo>
                  <a:lnTo>
                    <a:pt x="1637" y="559"/>
                  </a:lnTo>
                  <a:lnTo>
                    <a:pt x="1642" y="554"/>
                  </a:lnTo>
                  <a:lnTo>
                    <a:pt x="1647" y="554"/>
                  </a:lnTo>
                  <a:lnTo>
                    <a:pt x="1647" y="554"/>
                  </a:lnTo>
                  <a:lnTo>
                    <a:pt x="1652" y="559"/>
                  </a:lnTo>
                  <a:lnTo>
                    <a:pt x="1652" y="559"/>
                  </a:lnTo>
                  <a:lnTo>
                    <a:pt x="1652" y="564"/>
                  </a:lnTo>
                  <a:lnTo>
                    <a:pt x="1647" y="564"/>
                  </a:lnTo>
                  <a:lnTo>
                    <a:pt x="1647" y="564"/>
                  </a:lnTo>
                  <a:lnTo>
                    <a:pt x="1642" y="564"/>
                  </a:lnTo>
                  <a:lnTo>
                    <a:pt x="1637" y="564"/>
                  </a:lnTo>
                  <a:lnTo>
                    <a:pt x="1637" y="564"/>
                  </a:lnTo>
                  <a:lnTo>
                    <a:pt x="1632" y="559"/>
                  </a:lnTo>
                  <a:close/>
                  <a:moveTo>
                    <a:pt x="1375" y="534"/>
                  </a:moveTo>
                  <a:lnTo>
                    <a:pt x="1375" y="529"/>
                  </a:lnTo>
                  <a:lnTo>
                    <a:pt x="1375" y="524"/>
                  </a:lnTo>
                  <a:lnTo>
                    <a:pt x="1375" y="519"/>
                  </a:lnTo>
                  <a:lnTo>
                    <a:pt x="1375" y="514"/>
                  </a:lnTo>
                  <a:lnTo>
                    <a:pt x="1375" y="509"/>
                  </a:lnTo>
                  <a:lnTo>
                    <a:pt x="1380" y="504"/>
                  </a:lnTo>
                  <a:lnTo>
                    <a:pt x="1385" y="500"/>
                  </a:lnTo>
                  <a:lnTo>
                    <a:pt x="1385" y="495"/>
                  </a:lnTo>
                  <a:lnTo>
                    <a:pt x="1390" y="490"/>
                  </a:lnTo>
                  <a:lnTo>
                    <a:pt x="1390" y="485"/>
                  </a:lnTo>
                  <a:lnTo>
                    <a:pt x="1390" y="480"/>
                  </a:lnTo>
                  <a:lnTo>
                    <a:pt x="1395" y="475"/>
                  </a:lnTo>
                  <a:lnTo>
                    <a:pt x="1400" y="470"/>
                  </a:lnTo>
                  <a:lnTo>
                    <a:pt x="1400" y="465"/>
                  </a:lnTo>
                  <a:lnTo>
                    <a:pt x="1405" y="465"/>
                  </a:lnTo>
                  <a:lnTo>
                    <a:pt x="1405" y="460"/>
                  </a:lnTo>
                  <a:lnTo>
                    <a:pt x="1410" y="455"/>
                  </a:lnTo>
                  <a:lnTo>
                    <a:pt x="1415" y="450"/>
                  </a:lnTo>
                  <a:lnTo>
                    <a:pt x="1419" y="445"/>
                  </a:lnTo>
                  <a:lnTo>
                    <a:pt x="1424" y="440"/>
                  </a:lnTo>
                  <a:lnTo>
                    <a:pt x="1429" y="440"/>
                  </a:lnTo>
                  <a:lnTo>
                    <a:pt x="1434" y="435"/>
                  </a:lnTo>
                  <a:lnTo>
                    <a:pt x="1444" y="435"/>
                  </a:lnTo>
                  <a:lnTo>
                    <a:pt x="1449" y="430"/>
                  </a:lnTo>
                  <a:lnTo>
                    <a:pt x="1459" y="430"/>
                  </a:lnTo>
                  <a:lnTo>
                    <a:pt x="1464" y="425"/>
                  </a:lnTo>
                  <a:lnTo>
                    <a:pt x="1469" y="420"/>
                  </a:lnTo>
                  <a:lnTo>
                    <a:pt x="1474" y="420"/>
                  </a:lnTo>
                  <a:lnTo>
                    <a:pt x="1479" y="416"/>
                  </a:lnTo>
                  <a:lnTo>
                    <a:pt x="1484" y="416"/>
                  </a:lnTo>
                  <a:lnTo>
                    <a:pt x="1494" y="411"/>
                  </a:lnTo>
                  <a:lnTo>
                    <a:pt x="1499" y="411"/>
                  </a:lnTo>
                  <a:lnTo>
                    <a:pt x="1504" y="406"/>
                  </a:lnTo>
                  <a:lnTo>
                    <a:pt x="1508" y="401"/>
                  </a:lnTo>
                  <a:lnTo>
                    <a:pt x="1518" y="401"/>
                  </a:lnTo>
                  <a:lnTo>
                    <a:pt x="1513" y="401"/>
                  </a:lnTo>
                  <a:lnTo>
                    <a:pt x="1508" y="406"/>
                  </a:lnTo>
                  <a:lnTo>
                    <a:pt x="1504" y="411"/>
                  </a:lnTo>
                  <a:lnTo>
                    <a:pt x="1504" y="416"/>
                  </a:lnTo>
                  <a:lnTo>
                    <a:pt x="1504" y="420"/>
                  </a:lnTo>
                  <a:lnTo>
                    <a:pt x="1499" y="425"/>
                  </a:lnTo>
                  <a:lnTo>
                    <a:pt x="1499" y="430"/>
                  </a:lnTo>
                  <a:lnTo>
                    <a:pt x="1494" y="435"/>
                  </a:lnTo>
                  <a:lnTo>
                    <a:pt x="1484" y="435"/>
                  </a:lnTo>
                  <a:lnTo>
                    <a:pt x="1479" y="435"/>
                  </a:lnTo>
                  <a:lnTo>
                    <a:pt x="1469" y="430"/>
                  </a:lnTo>
                  <a:lnTo>
                    <a:pt x="1464" y="430"/>
                  </a:lnTo>
                  <a:lnTo>
                    <a:pt x="1459" y="430"/>
                  </a:lnTo>
                  <a:lnTo>
                    <a:pt x="1459" y="435"/>
                  </a:lnTo>
                  <a:lnTo>
                    <a:pt x="1459" y="440"/>
                  </a:lnTo>
                  <a:lnTo>
                    <a:pt x="1459" y="445"/>
                  </a:lnTo>
                  <a:lnTo>
                    <a:pt x="1459" y="455"/>
                  </a:lnTo>
                  <a:lnTo>
                    <a:pt x="1454" y="460"/>
                  </a:lnTo>
                  <a:lnTo>
                    <a:pt x="1454" y="460"/>
                  </a:lnTo>
                  <a:lnTo>
                    <a:pt x="1444" y="465"/>
                  </a:lnTo>
                  <a:lnTo>
                    <a:pt x="1439" y="470"/>
                  </a:lnTo>
                  <a:lnTo>
                    <a:pt x="1434" y="470"/>
                  </a:lnTo>
                  <a:lnTo>
                    <a:pt x="1429" y="475"/>
                  </a:lnTo>
                  <a:lnTo>
                    <a:pt x="1424" y="480"/>
                  </a:lnTo>
                  <a:lnTo>
                    <a:pt x="1419" y="485"/>
                  </a:lnTo>
                  <a:lnTo>
                    <a:pt x="1419" y="490"/>
                  </a:lnTo>
                  <a:lnTo>
                    <a:pt x="1415" y="495"/>
                  </a:lnTo>
                  <a:lnTo>
                    <a:pt x="1410" y="500"/>
                  </a:lnTo>
                  <a:lnTo>
                    <a:pt x="1405" y="500"/>
                  </a:lnTo>
                  <a:lnTo>
                    <a:pt x="1400" y="504"/>
                  </a:lnTo>
                  <a:lnTo>
                    <a:pt x="1395" y="504"/>
                  </a:lnTo>
                  <a:lnTo>
                    <a:pt x="1390" y="509"/>
                  </a:lnTo>
                  <a:lnTo>
                    <a:pt x="1390" y="514"/>
                  </a:lnTo>
                  <a:lnTo>
                    <a:pt x="1390" y="519"/>
                  </a:lnTo>
                  <a:lnTo>
                    <a:pt x="1390" y="524"/>
                  </a:lnTo>
                  <a:lnTo>
                    <a:pt x="1385" y="529"/>
                  </a:lnTo>
                  <a:lnTo>
                    <a:pt x="1385" y="534"/>
                  </a:lnTo>
                  <a:lnTo>
                    <a:pt x="1380" y="539"/>
                  </a:lnTo>
                  <a:lnTo>
                    <a:pt x="1375" y="534"/>
                  </a:lnTo>
                  <a:close/>
                  <a:moveTo>
                    <a:pt x="1118" y="480"/>
                  </a:moveTo>
                  <a:lnTo>
                    <a:pt x="1118" y="475"/>
                  </a:lnTo>
                  <a:lnTo>
                    <a:pt x="1118" y="475"/>
                  </a:lnTo>
                  <a:lnTo>
                    <a:pt x="1118" y="470"/>
                  </a:lnTo>
                  <a:lnTo>
                    <a:pt x="1118" y="465"/>
                  </a:lnTo>
                  <a:lnTo>
                    <a:pt x="1118" y="460"/>
                  </a:lnTo>
                  <a:lnTo>
                    <a:pt x="1118" y="455"/>
                  </a:lnTo>
                  <a:lnTo>
                    <a:pt x="1118" y="450"/>
                  </a:lnTo>
                  <a:lnTo>
                    <a:pt x="1118" y="450"/>
                  </a:lnTo>
                  <a:lnTo>
                    <a:pt x="1113" y="455"/>
                  </a:lnTo>
                  <a:lnTo>
                    <a:pt x="1113" y="460"/>
                  </a:lnTo>
                  <a:lnTo>
                    <a:pt x="1108" y="465"/>
                  </a:lnTo>
                  <a:lnTo>
                    <a:pt x="1103" y="470"/>
                  </a:lnTo>
                  <a:lnTo>
                    <a:pt x="1098" y="475"/>
                  </a:lnTo>
                  <a:lnTo>
                    <a:pt x="1093" y="475"/>
                  </a:lnTo>
                  <a:lnTo>
                    <a:pt x="1093" y="480"/>
                  </a:lnTo>
                  <a:lnTo>
                    <a:pt x="1093" y="480"/>
                  </a:lnTo>
                  <a:lnTo>
                    <a:pt x="1098" y="485"/>
                  </a:lnTo>
                  <a:lnTo>
                    <a:pt x="1108" y="485"/>
                  </a:lnTo>
                  <a:lnTo>
                    <a:pt x="1113" y="485"/>
                  </a:lnTo>
                  <a:lnTo>
                    <a:pt x="1118" y="480"/>
                  </a:lnTo>
                  <a:close/>
                  <a:moveTo>
                    <a:pt x="1568" y="480"/>
                  </a:moveTo>
                  <a:lnTo>
                    <a:pt x="1563" y="475"/>
                  </a:lnTo>
                  <a:lnTo>
                    <a:pt x="1563" y="470"/>
                  </a:lnTo>
                  <a:lnTo>
                    <a:pt x="1558" y="465"/>
                  </a:lnTo>
                  <a:lnTo>
                    <a:pt x="1558" y="460"/>
                  </a:lnTo>
                  <a:lnTo>
                    <a:pt x="1563" y="455"/>
                  </a:lnTo>
                  <a:lnTo>
                    <a:pt x="1563" y="450"/>
                  </a:lnTo>
                  <a:lnTo>
                    <a:pt x="1568" y="445"/>
                  </a:lnTo>
                  <a:lnTo>
                    <a:pt x="1568" y="440"/>
                  </a:lnTo>
                  <a:lnTo>
                    <a:pt x="1573" y="435"/>
                  </a:lnTo>
                  <a:lnTo>
                    <a:pt x="1573" y="430"/>
                  </a:lnTo>
                  <a:lnTo>
                    <a:pt x="1578" y="430"/>
                  </a:lnTo>
                  <a:lnTo>
                    <a:pt x="1578" y="425"/>
                  </a:lnTo>
                  <a:lnTo>
                    <a:pt x="1583" y="420"/>
                  </a:lnTo>
                  <a:lnTo>
                    <a:pt x="1588" y="416"/>
                  </a:lnTo>
                  <a:lnTo>
                    <a:pt x="1588" y="411"/>
                  </a:lnTo>
                  <a:lnTo>
                    <a:pt x="1593" y="406"/>
                  </a:lnTo>
                  <a:lnTo>
                    <a:pt x="1598" y="401"/>
                  </a:lnTo>
                  <a:lnTo>
                    <a:pt x="1602" y="396"/>
                  </a:lnTo>
                  <a:lnTo>
                    <a:pt x="1602" y="391"/>
                  </a:lnTo>
                  <a:lnTo>
                    <a:pt x="1607" y="386"/>
                  </a:lnTo>
                  <a:lnTo>
                    <a:pt x="1612" y="381"/>
                  </a:lnTo>
                  <a:lnTo>
                    <a:pt x="1617" y="376"/>
                  </a:lnTo>
                  <a:lnTo>
                    <a:pt x="1622" y="376"/>
                  </a:lnTo>
                  <a:lnTo>
                    <a:pt x="1627" y="376"/>
                  </a:lnTo>
                  <a:lnTo>
                    <a:pt x="1632" y="381"/>
                  </a:lnTo>
                  <a:lnTo>
                    <a:pt x="1637" y="386"/>
                  </a:lnTo>
                  <a:lnTo>
                    <a:pt x="1642" y="391"/>
                  </a:lnTo>
                  <a:lnTo>
                    <a:pt x="1647" y="396"/>
                  </a:lnTo>
                  <a:lnTo>
                    <a:pt x="1652" y="401"/>
                  </a:lnTo>
                  <a:lnTo>
                    <a:pt x="1652" y="406"/>
                  </a:lnTo>
                  <a:lnTo>
                    <a:pt x="1652" y="411"/>
                  </a:lnTo>
                  <a:lnTo>
                    <a:pt x="1642" y="411"/>
                  </a:lnTo>
                  <a:lnTo>
                    <a:pt x="1637" y="416"/>
                  </a:lnTo>
                  <a:lnTo>
                    <a:pt x="1632" y="416"/>
                  </a:lnTo>
                  <a:lnTo>
                    <a:pt x="1627" y="420"/>
                  </a:lnTo>
                  <a:lnTo>
                    <a:pt x="1622" y="425"/>
                  </a:lnTo>
                  <a:lnTo>
                    <a:pt x="1617" y="430"/>
                  </a:lnTo>
                  <a:lnTo>
                    <a:pt x="1612" y="430"/>
                  </a:lnTo>
                  <a:lnTo>
                    <a:pt x="1612" y="435"/>
                  </a:lnTo>
                  <a:lnTo>
                    <a:pt x="1607" y="440"/>
                  </a:lnTo>
                  <a:lnTo>
                    <a:pt x="1607" y="445"/>
                  </a:lnTo>
                  <a:lnTo>
                    <a:pt x="1602" y="450"/>
                  </a:lnTo>
                  <a:lnTo>
                    <a:pt x="1598" y="455"/>
                  </a:lnTo>
                  <a:lnTo>
                    <a:pt x="1593" y="460"/>
                  </a:lnTo>
                  <a:lnTo>
                    <a:pt x="1588" y="460"/>
                  </a:lnTo>
                  <a:lnTo>
                    <a:pt x="1583" y="465"/>
                  </a:lnTo>
                  <a:lnTo>
                    <a:pt x="1578" y="470"/>
                  </a:lnTo>
                  <a:lnTo>
                    <a:pt x="1578" y="475"/>
                  </a:lnTo>
                  <a:lnTo>
                    <a:pt x="1573" y="480"/>
                  </a:lnTo>
                  <a:lnTo>
                    <a:pt x="1568" y="480"/>
                  </a:lnTo>
                  <a:close/>
                  <a:moveTo>
                    <a:pt x="1202" y="455"/>
                  </a:moveTo>
                  <a:lnTo>
                    <a:pt x="1202" y="445"/>
                  </a:lnTo>
                  <a:lnTo>
                    <a:pt x="1197" y="440"/>
                  </a:lnTo>
                  <a:lnTo>
                    <a:pt x="1197" y="440"/>
                  </a:lnTo>
                  <a:lnTo>
                    <a:pt x="1197" y="435"/>
                  </a:lnTo>
                  <a:lnTo>
                    <a:pt x="1197" y="440"/>
                  </a:lnTo>
                  <a:lnTo>
                    <a:pt x="1192" y="440"/>
                  </a:lnTo>
                  <a:lnTo>
                    <a:pt x="1192" y="445"/>
                  </a:lnTo>
                  <a:lnTo>
                    <a:pt x="1192" y="450"/>
                  </a:lnTo>
                  <a:lnTo>
                    <a:pt x="1192" y="455"/>
                  </a:lnTo>
                  <a:lnTo>
                    <a:pt x="1192" y="460"/>
                  </a:lnTo>
                  <a:lnTo>
                    <a:pt x="1197" y="465"/>
                  </a:lnTo>
                  <a:lnTo>
                    <a:pt x="1197" y="465"/>
                  </a:lnTo>
                  <a:lnTo>
                    <a:pt x="1197" y="460"/>
                  </a:lnTo>
                  <a:lnTo>
                    <a:pt x="1202" y="455"/>
                  </a:lnTo>
                  <a:close/>
                  <a:moveTo>
                    <a:pt x="1667" y="455"/>
                  </a:moveTo>
                  <a:lnTo>
                    <a:pt x="1672" y="455"/>
                  </a:lnTo>
                  <a:lnTo>
                    <a:pt x="1672" y="455"/>
                  </a:lnTo>
                  <a:lnTo>
                    <a:pt x="1672" y="455"/>
                  </a:lnTo>
                  <a:lnTo>
                    <a:pt x="1672" y="455"/>
                  </a:lnTo>
                  <a:lnTo>
                    <a:pt x="1677" y="455"/>
                  </a:lnTo>
                  <a:lnTo>
                    <a:pt x="1677" y="455"/>
                  </a:lnTo>
                  <a:lnTo>
                    <a:pt x="1677" y="455"/>
                  </a:lnTo>
                  <a:lnTo>
                    <a:pt x="1677" y="455"/>
                  </a:lnTo>
                  <a:lnTo>
                    <a:pt x="1677" y="455"/>
                  </a:lnTo>
                  <a:lnTo>
                    <a:pt x="1672" y="455"/>
                  </a:lnTo>
                  <a:lnTo>
                    <a:pt x="1672" y="455"/>
                  </a:lnTo>
                  <a:lnTo>
                    <a:pt x="1672" y="455"/>
                  </a:lnTo>
                  <a:lnTo>
                    <a:pt x="1672" y="455"/>
                  </a:lnTo>
                  <a:lnTo>
                    <a:pt x="1667" y="455"/>
                  </a:lnTo>
                  <a:close/>
                  <a:moveTo>
                    <a:pt x="1726" y="455"/>
                  </a:moveTo>
                  <a:lnTo>
                    <a:pt x="1726" y="455"/>
                  </a:lnTo>
                  <a:lnTo>
                    <a:pt x="1726" y="455"/>
                  </a:lnTo>
                  <a:lnTo>
                    <a:pt x="1726" y="455"/>
                  </a:lnTo>
                  <a:lnTo>
                    <a:pt x="1726" y="455"/>
                  </a:lnTo>
                  <a:lnTo>
                    <a:pt x="1726" y="455"/>
                  </a:lnTo>
                  <a:lnTo>
                    <a:pt x="1731" y="455"/>
                  </a:lnTo>
                  <a:lnTo>
                    <a:pt x="1731" y="455"/>
                  </a:lnTo>
                  <a:lnTo>
                    <a:pt x="1731" y="455"/>
                  </a:lnTo>
                  <a:lnTo>
                    <a:pt x="1726" y="455"/>
                  </a:lnTo>
                  <a:lnTo>
                    <a:pt x="1726" y="455"/>
                  </a:lnTo>
                  <a:lnTo>
                    <a:pt x="1726" y="455"/>
                  </a:lnTo>
                  <a:lnTo>
                    <a:pt x="1726" y="455"/>
                  </a:lnTo>
                  <a:lnTo>
                    <a:pt x="1726" y="455"/>
                  </a:lnTo>
                  <a:lnTo>
                    <a:pt x="1726" y="455"/>
                  </a:lnTo>
                  <a:close/>
                  <a:moveTo>
                    <a:pt x="193" y="371"/>
                  </a:moveTo>
                  <a:lnTo>
                    <a:pt x="183" y="371"/>
                  </a:lnTo>
                  <a:lnTo>
                    <a:pt x="183" y="381"/>
                  </a:lnTo>
                  <a:lnTo>
                    <a:pt x="193" y="371"/>
                  </a:lnTo>
                  <a:close/>
                  <a:moveTo>
                    <a:pt x="223" y="346"/>
                  </a:moveTo>
                  <a:lnTo>
                    <a:pt x="213" y="346"/>
                  </a:lnTo>
                  <a:lnTo>
                    <a:pt x="213" y="356"/>
                  </a:lnTo>
                  <a:lnTo>
                    <a:pt x="223" y="346"/>
                  </a:lnTo>
                  <a:close/>
                  <a:moveTo>
                    <a:pt x="257" y="322"/>
                  </a:moveTo>
                  <a:lnTo>
                    <a:pt x="237" y="322"/>
                  </a:lnTo>
                  <a:lnTo>
                    <a:pt x="237" y="331"/>
                  </a:lnTo>
                  <a:lnTo>
                    <a:pt x="257" y="322"/>
                  </a:lnTo>
                  <a:close/>
                  <a:moveTo>
                    <a:pt x="1474" y="322"/>
                  </a:moveTo>
                  <a:lnTo>
                    <a:pt x="1469" y="312"/>
                  </a:lnTo>
                  <a:lnTo>
                    <a:pt x="1464" y="307"/>
                  </a:lnTo>
                  <a:lnTo>
                    <a:pt x="1459" y="307"/>
                  </a:lnTo>
                  <a:lnTo>
                    <a:pt x="1454" y="307"/>
                  </a:lnTo>
                  <a:lnTo>
                    <a:pt x="1449" y="312"/>
                  </a:lnTo>
                  <a:lnTo>
                    <a:pt x="1439" y="317"/>
                  </a:lnTo>
                  <a:lnTo>
                    <a:pt x="1429" y="317"/>
                  </a:lnTo>
                  <a:lnTo>
                    <a:pt x="1419" y="317"/>
                  </a:lnTo>
                  <a:lnTo>
                    <a:pt x="1415" y="322"/>
                  </a:lnTo>
                  <a:lnTo>
                    <a:pt x="1415" y="322"/>
                  </a:lnTo>
                  <a:lnTo>
                    <a:pt x="1419" y="327"/>
                  </a:lnTo>
                  <a:lnTo>
                    <a:pt x="1429" y="331"/>
                  </a:lnTo>
                  <a:lnTo>
                    <a:pt x="1439" y="336"/>
                  </a:lnTo>
                  <a:lnTo>
                    <a:pt x="1449" y="341"/>
                  </a:lnTo>
                  <a:lnTo>
                    <a:pt x="1454" y="341"/>
                  </a:lnTo>
                  <a:lnTo>
                    <a:pt x="1464" y="341"/>
                  </a:lnTo>
                  <a:lnTo>
                    <a:pt x="1469" y="336"/>
                  </a:lnTo>
                  <a:lnTo>
                    <a:pt x="1469" y="331"/>
                  </a:lnTo>
                  <a:lnTo>
                    <a:pt x="1474" y="327"/>
                  </a:lnTo>
                  <a:lnTo>
                    <a:pt x="1474" y="322"/>
                  </a:lnTo>
                  <a:close/>
                  <a:moveTo>
                    <a:pt x="1701" y="322"/>
                  </a:moveTo>
                  <a:lnTo>
                    <a:pt x="1701" y="322"/>
                  </a:lnTo>
                  <a:lnTo>
                    <a:pt x="1696" y="322"/>
                  </a:lnTo>
                  <a:lnTo>
                    <a:pt x="1696" y="327"/>
                  </a:lnTo>
                  <a:lnTo>
                    <a:pt x="1696" y="327"/>
                  </a:lnTo>
                  <a:lnTo>
                    <a:pt x="1696" y="331"/>
                  </a:lnTo>
                  <a:lnTo>
                    <a:pt x="1701" y="331"/>
                  </a:lnTo>
                  <a:lnTo>
                    <a:pt x="1701" y="331"/>
                  </a:lnTo>
                  <a:lnTo>
                    <a:pt x="1701" y="331"/>
                  </a:lnTo>
                  <a:lnTo>
                    <a:pt x="1701" y="331"/>
                  </a:lnTo>
                  <a:lnTo>
                    <a:pt x="1701" y="331"/>
                  </a:lnTo>
                  <a:lnTo>
                    <a:pt x="1701" y="331"/>
                  </a:lnTo>
                  <a:lnTo>
                    <a:pt x="1701" y="327"/>
                  </a:lnTo>
                  <a:lnTo>
                    <a:pt x="1701" y="322"/>
                  </a:lnTo>
                  <a:lnTo>
                    <a:pt x="1701" y="322"/>
                  </a:lnTo>
                  <a:close/>
                  <a:moveTo>
                    <a:pt x="1523" y="292"/>
                  </a:moveTo>
                  <a:lnTo>
                    <a:pt x="1518" y="292"/>
                  </a:lnTo>
                  <a:lnTo>
                    <a:pt x="1513" y="287"/>
                  </a:lnTo>
                  <a:lnTo>
                    <a:pt x="1513" y="287"/>
                  </a:lnTo>
                  <a:lnTo>
                    <a:pt x="1504" y="287"/>
                  </a:lnTo>
                  <a:lnTo>
                    <a:pt x="1499" y="287"/>
                  </a:lnTo>
                  <a:lnTo>
                    <a:pt x="1494" y="292"/>
                  </a:lnTo>
                  <a:lnTo>
                    <a:pt x="1489" y="292"/>
                  </a:lnTo>
                  <a:lnTo>
                    <a:pt x="1479" y="292"/>
                  </a:lnTo>
                  <a:lnTo>
                    <a:pt x="1479" y="297"/>
                  </a:lnTo>
                  <a:lnTo>
                    <a:pt x="1479" y="297"/>
                  </a:lnTo>
                  <a:lnTo>
                    <a:pt x="1484" y="302"/>
                  </a:lnTo>
                  <a:lnTo>
                    <a:pt x="1494" y="302"/>
                  </a:lnTo>
                  <a:lnTo>
                    <a:pt x="1499" y="307"/>
                  </a:lnTo>
                  <a:lnTo>
                    <a:pt x="1504" y="307"/>
                  </a:lnTo>
                  <a:lnTo>
                    <a:pt x="1508" y="307"/>
                  </a:lnTo>
                  <a:lnTo>
                    <a:pt x="1513" y="307"/>
                  </a:lnTo>
                  <a:lnTo>
                    <a:pt x="1518" y="307"/>
                  </a:lnTo>
                  <a:lnTo>
                    <a:pt x="1523" y="302"/>
                  </a:lnTo>
                  <a:lnTo>
                    <a:pt x="1523" y="297"/>
                  </a:lnTo>
                  <a:lnTo>
                    <a:pt x="1523" y="292"/>
                  </a:lnTo>
                  <a:close/>
                  <a:moveTo>
                    <a:pt x="1009" y="267"/>
                  </a:moveTo>
                  <a:lnTo>
                    <a:pt x="999" y="262"/>
                  </a:lnTo>
                  <a:lnTo>
                    <a:pt x="994" y="257"/>
                  </a:lnTo>
                  <a:lnTo>
                    <a:pt x="989" y="257"/>
                  </a:lnTo>
                  <a:lnTo>
                    <a:pt x="984" y="252"/>
                  </a:lnTo>
                  <a:lnTo>
                    <a:pt x="979" y="257"/>
                  </a:lnTo>
                  <a:lnTo>
                    <a:pt x="969" y="257"/>
                  </a:lnTo>
                  <a:lnTo>
                    <a:pt x="964" y="262"/>
                  </a:lnTo>
                  <a:lnTo>
                    <a:pt x="960" y="262"/>
                  </a:lnTo>
                  <a:lnTo>
                    <a:pt x="950" y="267"/>
                  </a:lnTo>
                  <a:lnTo>
                    <a:pt x="950" y="272"/>
                  </a:lnTo>
                  <a:lnTo>
                    <a:pt x="950" y="277"/>
                  </a:lnTo>
                  <a:lnTo>
                    <a:pt x="955" y="282"/>
                  </a:lnTo>
                  <a:lnTo>
                    <a:pt x="960" y="287"/>
                  </a:lnTo>
                  <a:lnTo>
                    <a:pt x="969" y="282"/>
                  </a:lnTo>
                  <a:lnTo>
                    <a:pt x="974" y="282"/>
                  </a:lnTo>
                  <a:lnTo>
                    <a:pt x="984" y="277"/>
                  </a:lnTo>
                  <a:lnTo>
                    <a:pt x="989" y="272"/>
                  </a:lnTo>
                  <a:lnTo>
                    <a:pt x="994" y="272"/>
                  </a:lnTo>
                  <a:lnTo>
                    <a:pt x="999" y="267"/>
                  </a:lnTo>
                  <a:lnTo>
                    <a:pt x="1009" y="267"/>
                  </a:lnTo>
                  <a:close/>
                  <a:moveTo>
                    <a:pt x="1573" y="267"/>
                  </a:moveTo>
                  <a:lnTo>
                    <a:pt x="1573" y="267"/>
                  </a:lnTo>
                  <a:lnTo>
                    <a:pt x="1568" y="262"/>
                  </a:lnTo>
                  <a:lnTo>
                    <a:pt x="1563" y="262"/>
                  </a:lnTo>
                  <a:lnTo>
                    <a:pt x="1558" y="262"/>
                  </a:lnTo>
                  <a:lnTo>
                    <a:pt x="1558" y="262"/>
                  </a:lnTo>
                  <a:lnTo>
                    <a:pt x="1553" y="267"/>
                  </a:lnTo>
                  <a:lnTo>
                    <a:pt x="1548" y="267"/>
                  </a:lnTo>
                  <a:lnTo>
                    <a:pt x="1543" y="267"/>
                  </a:lnTo>
                  <a:lnTo>
                    <a:pt x="1543" y="267"/>
                  </a:lnTo>
                  <a:lnTo>
                    <a:pt x="1548" y="272"/>
                  </a:lnTo>
                  <a:lnTo>
                    <a:pt x="1548" y="272"/>
                  </a:lnTo>
                  <a:lnTo>
                    <a:pt x="1553" y="272"/>
                  </a:lnTo>
                  <a:lnTo>
                    <a:pt x="1558" y="277"/>
                  </a:lnTo>
                  <a:lnTo>
                    <a:pt x="1563" y="277"/>
                  </a:lnTo>
                  <a:lnTo>
                    <a:pt x="1563" y="277"/>
                  </a:lnTo>
                  <a:lnTo>
                    <a:pt x="1568" y="277"/>
                  </a:lnTo>
                  <a:lnTo>
                    <a:pt x="1568" y="272"/>
                  </a:lnTo>
                  <a:lnTo>
                    <a:pt x="1573" y="272"/>
                  </a:lnTo>
                  <a:lnTo>
                    <a:pt x="1573" y="267"/>
                  </a:lnTo>
                  <a:lnTo>
                    <a:pt x="1573" y="267"/>
                  </a:lnTo>
                  <a:close/>
                  <a:moveTo>
                    <a:pt x="1083" y="238"/>
                  </a:moveTo>
                  <a:lnTo>
                    <a:pt x="1078" y="233"/>
                  </a:lnTo>
                  <a:lnTo>
                    <a:pt x="1078" y="228"/>
                  </a:lnTo>
                  <a:lnTo>
                    <a:pt x="1073" y="223"/>
                  </a:lnTo>
                  <a:lnTo>
                    <a:pt x="1068" y="218"/>
                  </a:lnTo>
                  <a:lnTo>
                    <a:pt x="1063" y="218"/>
                  </a:lnTo>
                  <a:lnTo>
                    <a:pt x="1058" y="223"/>
                  </a:lnTo>
                  <a:lnTo>
                    <a:pt x="1053" y="228"/>
                  </a:lnTo>
                  <a:lnTo>
                    <a:pt x="1044" y="228"/>
                  </a:lnTo>
                  <a:lnTo>
                    <a:pt x="1039" y="233"/>
                  </a:lnTo>
                  <a:lnTo>
                    <a:pt x="1029" y="238"/>
                  </a:lnTo>
                  <a:lnTo>
                    <a:pt x="1024" y="238"/>
                  </a:lnTo>
                  <a:lnTo>
                    <a:pt x="1024" y="243"/>
                  </a:lnTo>
                  <a:lnTo>
                    <a:pt x="1029" y="247"/>
                  </a:lnTo>
                  <a:lnTo>
                    <a:pt x="1039" y="247"/>
                  </a:lnTo>
                  <a:lnTo>
                    <a:pt x="1049" y="247"/>
                  </a:lnTo>
                  <a:lnTo>
                    <a:pt x="1053" y="247"/>
                  </a:lnTo>
                  <a:lnTo>
                    <a:pt x="1063" y="247"/>
                  </a:lnTo>
                  <a:lnTo>
                    <a:pt x="1068" y="243"/>
                  </a:lnTo>
                  <a:lnTo>
                    <a:pt x="1078" y="243"/>
                  </a:lnTo>
                  <a:lnTo>
                    <a:pt x="1083" y="238"/>
                  </a:lnTo>
                  <a:close/>
                  <a:moveTo>
                    <a:pt x="2156" y="213"/>
                  </a:moveTo>
                  <a:lnTo>
                    <a:pt x="2156" y="213"/>
                  </a:lnTo>
                  <a:lnTo>
                    <a:pt x="2156" y="208"/>
                  </a:lnTo>
                  <a:lnTo>
                    <a:pt x="2156" y="208"/>
                  </a:lnTo>
                  <a:lnTo>
                    <a:pt x="2156" y="208"/>
                  </a:lnTo>
                  <a:lnTo>
                    <a:pt x="2156" y="208"/>
                  </a:lnTo>
                  <a:lnTo>
                    <a:pt x="2151" y="208"/>
                  </a:lnTo>
                  <a:lnTo>
                    <a:pt x="2151" y="208"/>
                  </a:lnTo>
                  <a:lnTo>
                    <a:pt x="2151" y="213"/>
                  </a:lnTo>
                  <a:lnTo>
                    <a:pt x="2151" y="213"/>
                  </a:lnTo>
                  <a:lnTo>
                    <a:pt x="2151" y="213"/>
                  </a:lnTo>
                  <a:lnTo>
                    <a:pt x="2151" y="213"/>
                  </a:lnTo>
                  <a:lnTo>
                    <a:pt x="2156" y="213"/>
                  </a:lnTo>
                  <a:lnTo>
                    <a:pt x="2156" y="213"/>
                  </a:lnTo>
                  <a:lnTo>
                    <a:pt x="2156" y="213"/>
                  </a:lnTo>
                  <a:close/>
                  <a:moveTo>
                    <a:pt x="1207" y="104"/>
                  </a:moveTo>
                  <a:lnTo>
                    <a:pt x="1212" y="104"/>
                  </a:lnTo>
                  <a:lnTo>
                    <a:pt x="1217" y="99"/>
                  </a:lnTo>
                  <a:lnTo>
                    <a:pt x="1227" y="99"/>
                  </a:lnTo>
                  <a:lnTo>
                    <a:pt x="1232" y="94"/>
                  </a:lnTo>
                  <a:lnTo>
                    <a:pt x="1236" y="94"/>
                  </a:lnTo>
                  <a:lnTo>
                    <a:pt x="1246" y="94"/>
                  </a:lnTo>
                  <a:lnTo>
                    <a:pt x="1251" y="94"/>
                  </a:lnTo>
                  <a:lnTo>
                    <a:pt x="1261" y="99"/>
                  </a:lnTo>
                  <a:lnTo>
                    <a:pt x="1266" y="99"/>
                  </a:lnTo>
                  <a:lnTo>
                    <a:pt x="1266" y="104"/>
                  </a:lnTo>
                  <a:lnTo>
                    <a:pt x="1266" y="109"/>
                  </a:lnTo>
                  <a:lnTo>
                    <a:pt x="1261" y="114"/>
                  </a:lnTo>
                  <a:lnTo>
                    <a:pt x="1256" y="114"/>
                  </a:lnTo>
                  <a:lnTo>
                    <a:pt x="1246" y="119"/>
                  </a:lnTo>
                  <a:lnTo>
                    <a:pt x="1236" y="119"/>
                  </a:lnTo>
                  <a:lnTo>
                    <a:pt x="1232" y="119"/>
                  </a:lnTo>
                  <a:lnTo>
                    <a:pt x="1227" y="114"/>
                  </a:lnTo>
                  <a:lnTo>
                    <a:pt x="1217" y="114"/>
                  </a:lnTo>
                  <a:lnTo>
                    <a:pt x="1212" y="109"/>
                  </a:lnTo>
                  <a:lnTo>
                    <a:pt x="1207" y="104"/>
                  </a:lnTo>
                  <a:close/>
                  <a:moveTo>
                    <a:pt x="1311" y="79"/>
                  </a:moveTo>
                  <a:lnTo>
                    <a:pt x="1316" y="74"/>
                  </a:lnTo>
                  <a:lnTo>
                    <a:pt x="1321" y="70"/>
                  </a:lnTo>
                  <a:lnTo>
                    <a:pt x="1326" y="70"/>
                  </a:lnTo>
                  <a:lnTo>
                    <a:pt x="1330" y="70"/>
                  </a:lnTo>
                  <a:lnTo>
                    <a:pt x="1340" y="70"/>
                  </a:lnTo>
                  <a:lnTo>
                    <a:pt x="1345" y="74"/>
                  </a:lnTo>
                  <a:lnTo>
                    <a:pt x="1345" y="79"/>
                  </a:lnTo>
                  <a:lnTo>
                    <a:pt x="1345" y="84"/>
                  </a:lnTo>
                  <a:lnTo>
                    <a:pt x="1340" y="84"/>
                  </a:lnTo>
                  <a:lnTo>
                    <a:pt x="1330" y="89"/>
                  </a:lnTo>
                  <a:lnTo>
                    <a:pt x="1326" y="89"/>
                  </a:lnTo>
                  <a:lnTo>
                    <a:pt x="1321" y="89"/>
                  </a:lnTo>
                  <a:lnTo>
                    <a:pt x="1316" y="84"/>
                  </a:lnTo>
                  <a:lnTo>
                    <a:pt x="1311" y="79"/>
                  </a:lnTo>
                  <a:close/>
                  <a:moveTo>
                    <a:pt x="2235" y="1656"/>
                  </a:moveTo>
                  <a:lnTo>
                    <a:pt x="2260" y="1631"/>
                  </a:lnTo>
                  <a:lnTo>
                    <a:pt x="2285" y="1631"/>
                  </a:lnTo>
                  <a:lnTo>
                    <a:pt x="2315" y="1631"/>
                  </a:lnTo>
                  <a:lnTo>
                    <a:pt x="2339" y="1631"/>
                  </a:lnTo>
                  <a:lnTo>
                    <a:pt x="2369" y="1631"/>
                  </a:lnTo>
                  <a:lnTo>
                    <a:pt x="2394" y="1631"/>
                  </a:lnTo>
                  <a:lnTo>
                    <a:pt x="2418" y="1631"/>
                  </a:lnTo>
                  <a:lnTo>
                    <a:pt x="2448" y="1602"/>
                  </a:lnTo>
                  <a:lnTo>
                    <a:pt x="2448" y="1577"/>
                  </a:lnTo>
                  <a:lnTo>
                    <a:pt x="2448" y="1547"/>
                  </a:lnTo>
                  <a:lnTo>
                    <a:pt x="2448" y="1523"/>
                  </a:lnTo>
                  <a:lnTo>
                    <a:pt x="2473" y="1498"/>
                  </a:lnTo>
                  <a:lnTo>
                    <a:pt x="2473" y="1468"/>
                  </a:lnTo>
                  <a:lnTo>
                    <a:pt x="2473" y="1444"/>
                  </a:lnTo>
                  <a:lnTo>
                    <a:pt x="2473" y="1414"/>
                  </a:lnTo>
                  <a:lnTo>
                    <a:pt x="2503" y="1389"/>
                  </a:lnTo>
                  <a:lnTo>
                    <a:pt x="2503" y="1364"/>
                  </a:lnTo>
                  <a:lnTo>
                    <a:pt x="2503" y="1335"/>
                  </a:lnTo>
                  <a:lnTo>
                    <a:pt x="2503" y="1310"/>
                  </a:lnTo>
                  <a:lnTo>
                    <a:pt x="2527" y="1280"/>
                  </a:lnTo>
                  <a:lnTo>
                    <a:pt x="2527" y="1256"/>
                  </a:lnTo>
                  <a:lnTo>
                    <a:pt x="2527" y="1226"/>
                  </a:lnTo>
                  <a:lnTo>
                    <a:pt x="2527" y="1201"/>
                  </a:lnTo>
                  <a:lnTo>
                    <a:pt x="2552" y="1177"/>
                  </a:lnTo>
                  <a:lnTo>
                    <a:pt x="2552" y="1147"/>
                  </a:lnTo>
                  <a:lnTo>
                    <a:pt x="2552" y="1122"/>
                  </a:lnTo>
                  <a:lnTo>
                    <a:pt x="2552" y="1093"/>
                  </a:lnTo>
                  <a:lnTo>
                    <a:pt x="2582" y="1068"/>
                  </a:lnTo>
                  <a:lnTo>
                    <a:pt x="2582" y="1043"/>
                  </a:lnTo>
                  <a:lnTo>
                    <a:pt x="2582" y="1014"/>
                  </a:lnTo>
                  <a:lnTo>
                    <a:pt x="2582" y="989"/>
                  </a:lnTo>
                  <a:lnTo>
                    <a:pt x="2582" y="959"/>
                  </a:lnTo>
                  <a:lnTo>
                    <a:pt x="2582" y="934"/>
                  </a:lnTo>
                  <a:lnTo>
                    <a:pt x="2582" y="910"/>
                  </a:lnTo>
                  <a:lnTo>
                    <a:pt x="2582" y="880"/>
                  </a:lnTo>
                  <a:lnTo>
                    <a:pt x="2582" y="855"/>
                  </a:lnTo>
                  <a:lnTo>
                    <a:pt x="2582" y="826"/>
                  </a:lnTo>
                  <a:lnTo>
                    <a:pt x="2582" y="801"/>
                  </a:lnTo>
                  <a:lnTo>
                    <a:pt x="2582" y="776"/>
                  </a:lnTo>
                  <a:lnTo>
                    <a:pt x="2582" y="747"/>
                  </a:lnTo>
                  <a:lnTo>
                    <a:pt x="2582" y="722"/>
                  </a:lnTo>
                  <a:lnTo>
                    <a:pt x="2582" y="692"/>
                  </a:lnTo>
                  <a:lnTo>
                    <a:pt x="2582" y="668"/>
                  </a:lnTo>
                  <a:lnTo>
                    <a:pt x="2582" y="643"/>
                  </a:lnTo>
                  <a:lnTo>
                    <a:pt x="2582" y="613"/>
                  </a:lnTo>
                  <a:lnTo>
                    <a:pt x="2582" y="589"/>
                  </a:lnTo>
                  <a:lnTo>
                    <a:pt x="2582" y="559"/>
                  </a:lnTo>
                  <a:lnTo>
                    <a:pt x="2582" y="534"/>
                  </a:lnTo>
                  <a:lnTo>
                    <a:pt x="2582" y="504"/>
                  </a:lnTo>
                  <a:lnTo>
                    <a:pt x="2582" y="480"/>
                  </a:lnTo>
                  <a:lnTo>
                    <a:pt x="2582" y="455"/>
                  </a:lnTo>
                  <a:lnTo>
                    <a:pt x="2582" y="425"/>
                  </a:lnTo>
                  <a:lnTo>
                    <a:pt x="2582" y="401"/>
                  </a:lnTo>
                  <a:lnTo>
                    <a:pt x="2582" y="371"/>
                  </a:lnTo>
                  <a:lnTo>
                    <a:pt x="2582" y="346"/>
                  </a:lnTo>
                  <a:lnTo>
                    <a:pt x="2582" y="322"/>
                  </a:lnTo>
                  <a:lnTo>
                    <a:pt x="2582" y="292"/>
                  </a:lnTo>
                  <a:lnTo>
                    <a:pt x="2582" y="267"/>
                  </a:lnTo>
                  <a:lnTo>
                    <a:pt x="2582" y="238"/>
                  </a:lnTo>
                  <a:lnTo>
                    <a:pt x="2552" y="213"/>
                  </a:lnTo>
                  <a:lnTo>
                    <a:pt x="2552" y="188"/>
                  </a:lnTo>
                  <a:lnTo>
                    <a:pt x="2552" y="159"/>
                  </a:lnTo>
                  <a:lnTo>
                    <a:pt x="2552" y="134"/>
                  </a:lnTo>
                  <a:lnTo>
                    <a:pt x="2552" y="104"/>
                  </a:lnTo>
                  <a:lnTo>
                    <a:pt x="2527" y="79"/>
                  </a:lnTo>
                  <a:lnTo>
                    <a:pt x="2503" y="79"/>
                  </a:lnTo>
                  <a:lnTo>
                    <a:pt x="2473" y="79"/>
                  </a:lnTo>
                  <a:lnTo>
                    <a:pt x="2448" y="55"/>
                  </a:lnTo>
                  <a:lnTo>
                    <a:pt x="2418" y="55"/>
                  </a:lnTo>
                  <a:lnTo>
                    <a:pt x="2394" y="55"/>
                  </a:lnTo>
                  <a:lnTo>
                    <a:pt x="2369" y="25"/>
                  </a:lnTo>
                  <a:lnTo>
                    <a:pt x="2339" y="25"/>
                  </a:lnTo>
                  <a:lnTo>
                    <a:pt x="2315" y="25"/>
                  </a:lnTo>
                  <a:lnTo>
                    <a:pt x="2285" y="0"/>
                  </a:lnTo>
                  <a:lnTo>
                    <a:pt x="2260" y="0"/>
                  </a:lnTo>
                  <a:lnTo>
                    <a:pt x="2235" y="0"/>
                  </a:lnTo>
                  <a:lnTo>
                    <a:pt x="2206" y="0"/>
                  </a:lnTo>
                  <a:lnTo>
                    <a:pt x="2181" y="0"/>
                  </a:lnTo>
                  <a:lnTo>
                    <a:pt x="2156" y="0"/>
                  </a:lnTo>
                  <a:lnTo>
                    <a:pt x="2127" y="0"/>
                  </a:lnTo>
                  <a:lnTo>
                    <a:pt x="2102" y="0"/>
                  </a:lnTo>
                  <a:lnTo>
                    <a:pt x="2072" y="0"/>
                  </a:lnTo>
                  <a:lnTo>
                    <a:pt x="2048" y="0"/>
                  </a:lnTo>
                  <a:lnTo>
                    <a:pt x="2023" y="0"/>
                  </a:lnTo>
                  <a:lnTo>
                    <a:pt x="1993" y="0"/>
                  </a:lnTo>
                  <a:lnTo>
                    <a:pt x="1968" y="0"/>
                  </a:lnTo>
                  <a:lnTo>
                    <a:pt x="1944" y="0"/>
                  </a:lnTo>
                  <a:lnTo>
                    <a:pt x="1914" y="0"/>
                  </a:lnTo>
                  <a:lnTo>
                    <a:pt x="1889" y="0"/>
                  </a:lnTo>
                  <a:lnTo>
                    <a:pt x="1860" y="0"/>
                  </a:lnTo>
                  <a:lnTo>
                    <a:pt x="1835" y="0"/>
                  </a:lnTo>
                  <a:lnTo>
                    <a:pt x="1810" y="0"/>
                  </a:lnTo>
                  <a:lnTo>
                    <a:pt x="1780" y="0"/>
                  </a:lnTo>
                  <a:lnTo>
                    <a:pt x="1756" y="0"/>
                  </a:lnTo>
                  <a:lnTo>
                    <a:pt x="1726" y="0"/>
                  </a:lnTo>
                  <a:lnTo>
                    <a:pt x="1701" y="0"/>
                  </a:lnTo>
                  <a:lnTo>
                    <a:pt x="1677" y="0"/>
                  </a:lnTo>
                  <a:lnTo>
                    <a:pt x="1647" y="0"/>
                  </a:lnTo>
                  <a:lnTo>
                    <a:pt x="1622" y="0"/>
                  </a:lnTo>
                  <a:lnTo>
                    <a:pt x="1598" y="0"/>
                  </a:lnTo>
                  <a:lnTo>
                    <a:pt x="1568" y="0"/>
                  </a:lnTo>
                  <a:lnTo>
                    <a:pt x="1543" y="0"/>
                  </a:lnTo>
                  <a:lnTo>
                    <a:pt x="1513" y="0"/>
                  </a:lnTo>
                  <a:lnTo>
                    <a:pt x="1489" y="0"/>
                  </a:lnTo>
                  <a:lnTo>
                    <a:pt x="1464" y="0"/>
                  </a:lnTo>
                  <a:lnTo>
                    <a:pt x="1434" y="0"/>
                  </a:lnTo>
                  <a:lnTo>
                    <a:pt x="1410" y="0"/>
                  </a:lnTo>
                  <a:lnTo>
                    <a:pt x="1385" y="0"/>
                  </a:lnTo>
                  <a:lnTo>
                    <a:pt x="1355" y="0"/>
                  </a:lnTo>
                  <a:lnTo>
                    <a:pt x="1330" y="0"/>
                  </a:lnTo>
                  <a:lnTo>
                    <a:pt x="1301" y="0"/>
                  </a:lnTo>
                  <a:lnTo>
                    <a:pt x="1276" y="0"/>
                  </a:lnTo>
                  <a:lnTo>
                    <a:pt x="1251" y="0"/>
                  </a:lnTo>
                  <a:lnTo>
                    <a:pt x="1222" y="0"/>
                  </a:lnTo>
                  <a:lnTo>
                    <a:pt x="1197" y="0"/>
                  </a:lnTo>
                  <a:lnTo>
                    <a:pt x="1172" y="0"/>
                  </a:lnTo>
                  <a:lnTo>
                    <a:pt x="1143" y="0"/>
                  </a:lnTo>
                  <a:lnTo>
                    <a:pt x="1118" y="0"/>
                  </a:lnTo>
                  <a:lnTo>
                    <a:pt x="1088" y="0"/>
                  </a:lnTo>
                  <a:lnTo>
                    <a:pt x="1063" y="0"/>
                  </a:lnTo>
                  <a:lnTo>
                    <a:pt x="1039" y="0"/>
                  </a:lnTo>
                  <a:lnTo>
                    <a:pt x="1009" y="0"/>
                  </a:lnTo>
                  <a:lnTo>
                    <a:pt x="984" y="0"/>
                  </a:lnTo>
                  <a:lnTo>
                    <a:pt x="955" y="0"/>
                  </a:lnTo>
                  <a:lnTo>
                    <a:pt x="930" y="0"/>
                  </a:lnTo>
                  <a:lnTo>
                    <a:pt x="905" y="0"/>
                  </a:lnTo>
                  <a:lnTo>
                    <a:pt x="875" y="0"/>
                  </a:lnTo>
                  <a:lnTo>
                    <a:pt x="851" y="0"/>
                  </a:lnTo>
                  <a:lnTo>
                    <a:pt x="826" y="0"/>
                  </a:lnTo>
                  <a:lnTo>
                    <a:pt x="796" y="0"/>
                  </a:lnTo>
                  <a:lnTo>
                    <a:pt x="772" y="0"/>
                  </a:lnTo>
                  <a:lnTo>
                    <a:pt x="742" y="0"/>
                  </a:lnTo>
                  <a:lnTo>
                    <a:pt x="717" y="0"/>
                  </a:lnTo>
                  <a:lnTo>
                    <a:pt x="692" y="0"/>
                  </a:lnTo>
                  <a:lnTo>
                    <a:pt x="663" y="0"/>
                  </a:lnTo>
                  <a:lnTo>
                    <a:pt x="638" y="0"/>
                  </a:lnTo>
                  <a:lnTo>
                    <a:pt x="613" y="0"/>
                  </a:lnTo>
                  <a:lnTo>
                    <a:pt x="584" y="25"/>
                  </a:lnTo>
                  <a:lnTo>
                    <a:pt x="559" y="55"/>
                  </a:lnTo>
                  <a:lnTo>
                    <a:pt x="529" y="79"/>
                  </a:lnTo>
                  <a:lnTo>
                    <a:pt x="505" y="104"/>
                  </a:lnTo>
                  <a:lnTo>
                    <a:pt x="480" y="134"/>
                  </a:lnTo>
                  <a:lnTo>
                    <a:pt x="450" y="134"/>
                  </a:lnTo>
                  <a:lnTo>
                    <a:pt x="425" y="159"/>
                  </a:lnTo>
                  <a:lnTo>
                    <a:pt x="396" y="188"/>
                  </a:lnTo>
                  <a:lnTo>
                    <a:pt x="371" y="213"/>
                  </a:lnTo>
                  <a:lnTo>
                    <a:pt x="346" y="238"/>
                  </a:lnTo>
                  <a:lnTo>
                    <a:pt x="317" y="267"/>
                  </a:lnTo>
                  <a:lnTo>
                    <a:pt x="292" y="292"/>
                  </a:lnTo>
                  <a:lnTo>
                    <a:pt x="267" y="322"/>
                  </a:lnTo>
                  <a:lnTo>
                    <a:pt x="237" y="322"/>
                  </a:lnTo>
                  <a:lnTo>
                    <a:pt x="237" y="341"/>
                  </a:lnTo>
                  <a:lnTo>
                    <a:pt x="242" y="341"/>
                  </a:lnTo>
                  <a:lnTo>
                    <a:pt x="247" y="346"/>
                  </a:lnTo>
                  <a:lnTo>
                    <a:pt x="242" y="351"/>
                  </a:lnTo>
                  <a:lnTo>
                    <a:pt x="237" y="356"/>
                  </a:lnTo>
                  <a:lnTo>
                    <a:pt x="233" y="356"/>
                  </a:lnTo>
                  <a:lnTo>
                    <a:pt x="233" y="361"/>
                  </a:lnTo>
                  <a:lnTo>
                    <a:pt x="228" y="366"/>
                  </a:lnTo>
                  <a:lnTo>
                    <a:pt x="228" y="371"/>
                  </a:lnTo>
                  <a:lnTo>
                    <a:pt x="223" y="371"/>
                  </a:lnTo>
                  <a:lnTo>
                    <a:pt x="223" y="376"/>
                  </a:lnTo>
                  <a:lnTo>
                    <a:pt x="218" y="381"/>
                  </a:lnTo>
                  <a:lnTo>
                    <a:pt x="213" y="386"/>
                  </a:lnTo>
                  <a:lnTo>
                    <a:pt x="213" y="386"/>
                  </a:lnTo>
                  <a:lnTo>
                    <a:pt x="208" y="391"/>
                  </a:lnTo>
                  <a:lnTo>
                    <a:pt x="203" y="391"/>
                  </a:lnTo>
                  <a:lnTo>
                    <a:pt x="198" y="396"/>
                  </a:lnTo>
                  <a:lnTo>
                    <a:pt x="198" y="401"/>
                  </a:lnTo>
                  <a:lnTo>
                    <a:pt x="193" y="406"/>
                  </a:lnTo>
                  <a:lnTo>
                    <a:pt x="188" y="411"/>
                  </a:lnTo>
                  <a:lnTo>
                    <a:pt x="183" y="411"/>
                  </a:lnTo>
                  <a:lnTo>
                    <a:pt x="183" y="411"/>
                  </a:lnTo>
                  <a:lnTo>
                    <a:pt x="178" y="406"/>
                  </a:lnTo>
                  <a:lnTo>
                    <a:pt x="173" y="401"/>
                  </a:lnTo>
                  <a:lnTo>
                    <a:pt x="158" y="401"/>
                  </a:lnTo>
                  <a:lnTo>
                    <a:pt x="134" y="425"/>
                  </a:lnTo>
                  <a:lnTo>
                    <a:pt x="104" y="455"/>
                  </a:lnTo>
                  <a:lnTo>
                    <a:pt x="79" y="480"/>
                  </a:lnTo>
                  <a:lnTo>
                    <a:pt x="55" y="504"/>
                  </a:lnTo>
                  <a:lnTo>
                    <a:pt x="25" y="504"/>
                  </a:lnTo>
                  <a:lnTo>
                    <a:pt x="0" y="534"/>
                  </a:lnTo>
                  <a:lnTo>
                    <a:pt x="0" y="559"/>
                  </a:lnTo>
                  <a:lnTo>
                    <a:pt x="0" y="589"/>
                  </a:lnTo>
                  <a:lnTo>
                    <a:pt x="0" y="613"/>
                  </a:lnTo>
                  <a:lnTo>
                    <a:pt x="25" y="643"/>
                  </a:lnTo>
                  <a:lnTo>
                    <a:pt x="25" y="668"/>
                  </a:lnTo>
                  <a:lnTo>
                    <a:pt x="55" y="692"/>
                  </a:lnTo>
                  <a:lnTo>
                    <a:pt x="79" y="722"/>
                  </a:lnTo>
                  <a:lnTo>
                    <a:pt x="104" y="747"/>
                  </a:lnTo>
                  <a:lnTo>
                    <a:pt x="134" y="776"/>
                  </a:lnTo>
                  <a:lnTo>
                    <a:pt x="134" y="801"/>
                  </a:lnTo>
                  <a:lnTo>
                    <a:pt x="158" y="826"/>
                  </a:lnTo>
                  <a:lnTo>
                    <a:pt x="183" y="855"/>
                  </a:lnTo>
                  <a:lnTo>
                    <a:pt x="213" y="880"/>
                  </a:lnTo>
                  <a:lnTo>
                    <a:pt x="237" y="910"/>
                  </a:lnTo>
                  <a:lnTo>
                    <a:pt x="267" y="934"/>
                  </a:lnTo>
                  <a:lnTo>
                    <a:pt x="292" y="959"/>
                  </a:lnTo>
                  <a:lnTo>
                    <a:pt x="292" y="989"/>
                  </a:lnTo>
                  <a:lnTo>
                    <a:pt x="317" y="1014"/>
                  </a:lnTo>
                  <a:lnTo>
                    <a:pt x="346" y="1043"/>
                  </a:lnTo>
                  <a:lnTo>
                    <a:pt x="371" y="1068"/>
                  </a:lnTo>
                  <a:lnTo>
                    <a:pt x="396" y="1093"/>
                  </a:lnTo>
                  <a:lnTo>
                    <a:pt x="425" y="1122"/>
                  </a:lnTo>
                  <a:lnTo>
                    <a:pt x="450" y="1147"/>
                  </a:lnTo>
                  <a:lnTo>
                    <a:pt x="480" y="1177"/>
                  </a:lnTo>
                  <a:lnTo>
                    <a:pt x="505" y="1201"/>
                  </a:lnTo>
                  <a:lnTo>
                    <a:pt x="529" y="1226"/>
                  </a:lnTo>
                  <a:lnTo>
                    <a:pt x="559" y="1256"/>
                  </a:lnTo>
                  <a:lnTo>
                    <a:pt x="584" y="1280"/>
                  </a:lnTo>
                  <a:lnTo>
                    <a:pt x="613" y="1310"/>
                  </a:lnTo>
                  <a:lnTo>
                    <a:pt x="638" y="1335"/>
                  </a:lnTo>
                  <a:lnTo>
                    <a:pt x="663" y="1364"/>
                  </a:lnTo>
                  <a:lnTo>
                    <a:pt x="692" y="1389"/>
                  </a:lnTo>
                  <a:lnTo>
                    <a:pt x="717" y="1414"/>
                  </a:lnTo>
                  <a:lnTo>
                    <a:pt x="742" y="1444"/>
                  </a:lnTo>
                  <a:lnTo>
                    <a:pt x="772" y="1468"/>
                  </a:lnTo>
                  <a:lnTo>
                    <a:pt x="796" y="1468"/>
                  </a:lnTo>
                  <a:lnTo>
                    <a:pt x="826" y="1498"/>
                  </a:lnTo>
                  <a:lnTo>
                    <a:pt x="851" y="1523"/>
                  </a:lnTo>
                  <a:lnTo>
                    <a:pt x="875" y="1547"/>
                  </a:lnTo>
                  <a:lnTo>
                    <a:pt x="905" y="1577"/>
                  </a:lnTo>
                  <a:lnTo>
                    <a:pt x="930" y="1602"/>
                  </a:lnTo>
                  <a:lnTo>
                    <a:pt x="955" y="1631"/>
                  </a:lnTo>
                  <a:lnTo>
                    <a:pt x="984" y="1656"/>
                  </a:lnTo>
                  <a:lnTo>
                    <a:pt x="1009" y="1656"/>
                  </a:lnTo>
                  <a:lnTo>
                    <a:pt x="1039" y="1656"/>
                  </a:lnTo>
                  <a:lnTo>
                    <a:pt x="1063" y="1656"/>
                  </a:lnTo>
                  <a:lnTo>
                    <a:pt x="1088" y="1656"/>
                  </a:lnTo>
                  <a:lnTo>
                    <a:pt x="1118" y="1656"/>
                  </a:lnTo>
                  <a:lnTo>
                    <a:pt x="1143" y="1656"/>
                  </a:lnTo>
                  <a:lnTo>
                    <a:pt x="1172" y="1656"/>
                  </a:lnTo>
                  <a:lnTo>
                    <a:pt x="1197" y="1656"/>
                  </a:lnTo>
                  <a:lnTo>
                    <a:pt x="1222" y="1656"/>
                  </a:lnTo>
                  <a:lnTo>
                    <a:pt x="1251" y="1656"/>
                  </a:lnTo>
                  <a:lnTo>
                    <a:pt x="1276" y="1656"/>
                  </a:lnTo>
                  <a:lnTo>
                    <a:pt x="1301" y="1656"/>
                  </a:lnTo>
                  <a:lnTo>
                    <a:pt x="1330" y="1656"/>
                  </a:lnTo>
                  <a:lnTo>
                    <a:pt x="1355" y="1656"/>
                  </a:lnTo>
                  <a:lnTo>
                    <a:pt x="1385" y="1656"/>
                  </a:lnTo>
                  <a:lnTo>
                    <a:pt x="1410" y="1656"/>
                  </a:lnTo>
                  <a:lnTo>
                    <a:pt x="1434" y="1656"/>
                  </a:lnTo>
                  <a:lnTo>
                    <a:pt x="1464" y="1656"/>
                  </a:lnTo>
                  <a:lnTo>
                    <a:pt x="1489" y="1656"/>
                  </a:lnTo>
                  <a:lnTo>
                    <a:pt x="1513" y="1656"/>
                  </a:lnTo>
                  <a:lnTo>
                    <a:pt x="1543" y="1656"/>
                  </a:lnTo>
                  <a:lnTo>
                    <a:pt x="1568" y="1656"/>
                  </a:lnTo>
                  <a:lnTo>
                    <a:pt x="1598" y="1656"/>
                  </a:lnTo>
                  <a:lnTo>
                    <a:pt x="1622" y="1656"/>
                  </a:lnTo>
                  <a:lnTo>
                    <a:pt x="1647" y="1656"/>
                  </a:lnTo>
                  <a:lnTo>
                    <a:pt x="1677" y="1656"/>
                  </a:lnTo>
                  <a:lnTo>
                    <a:pt x="1701" y="1656"/>
                  </a:lnTo>
                  <a:lnTo>
                    <a:pt x="1726" y="1656"/>
                  </a:lnTo>
                  <a:lnTo>
                    <a:pt x="1756" y="1656"/>
                  </a:lnTo>
                  <a:lnTo>
                    <a:pt x="1780" y="1656"/>
                  </a:lnTo>
                  <a:lnTo>
                    <a:pt x="1810" y="1656"/>
                  </a:lnTo>
                  <a:lnTo>
                    <a:pt x="1835" y="1656"/>
                  </a:lnTo>
                  <a:lnTo>
                    <a:pt x="1860" y="1656"/>
                  </a:lnTo>
                  <a:lnTo>
                    <a:pt x="1889" y="1656"/>
                  </a:lnTo>
                  <a:lnTo>
                    <a:pt x="1914" y="1656"/>
                  </a:lnTo>
                  <a:lnTo>
                    <a:pt x="1944" y="1656"/>
                  </a:lnTo>
                  <a:lnTo>
                    <a:pt x="1968" y="1656"/>
                  </a:lnTo>
                  <a:lnTo>
                    <a:pt x="1993" y="1656"/>
                  </a:lnTo>
                  <a:lnTo>
                    <a:pt x="2023" y="1656"/>
                  </a:lnTo>
                  <a:lnTo>
                    <a:pt x="2048" y="1656"/>
                  </a:lnTo>
                  <a:lnTo>
                    <a:pt x="2072" y="1656"/>
                  </a:lnTo>
                  <a:lnTo>
                    <a:pt x="2102" y="1656"/>
                  </a:lnTo>
                  <a:lnTo>
                    <a:pt x="2127" y="1656"/>
                  </a:lnTo>
                  <a:lnTo>
                    <a:pt x="2156" y="1656"/>
                  </a:lnTo>
                  <a:lnTo>
                    <a:pt x="2181" y="1656"/>
                  </a:lnTo>
                  <a:lnTo>
                    <a:pt x="2206" y="1656"/>
                  </a:lnTo>
                  <a:lnTo>
                    <a:pt x="2235" y="1656"/>
                  </a:lnTo>
                  <a:close/>
                  <a:moveTo>
                    <a:pt x="282" y="826"/>
                  </a:moveTo>
                  <a:lnTo>
                    <a:pt x="282" y="826"/>
                  </a:lnTo>
                  <a:lnTo>
                    <a:pt x="282" y="821"/>
                  </a:lnTo>
                  <a:lnTo>
                    <a:pt x="277" y="821"/>
                  </a:lnTo>
                  <a:lnTo>
                    <a:pt x="277" y="816"/>
                  </a:lnTo>
                  <a:lnTo>
                    <a:pt x="272" y="816"/>
                  </a:lnTo>
                  <a:lnTo>
                    <a:pt x="267" y="811"/>
                  </a:lnTo>
                  <a:lnTo>
                    <a:pt x="267" y="806"/>
                  </a:lnTo>
                  <a:lnTo>
                    <a:pt x="262" y="806"/>
                  </a:lnTo>
                  <a:lnTo>
                    <a:pt x="257" y="801"/>
                  </a:lnTo>
                  <a:lnTo>
                    <a:pt x="262" y="801"/>
                  </a:lnTo>
                  <a:lnTo>
                    <a:pt x="267" y="801"/>
                  </a:lnTo>
                  <a:lnTo>
                    <a:pt x="267" y="806"/>
                  </a:lnTo>
                  <a:lnTo>
                    <a:pt x="272" y="806"/>
                  </a:lnTo>
                  <a:lnTo>
                    <a:pt x="277" y="811"/>
                  </a:lnTo>
                  <a:lnTo>
                    <a:pt x="277" y="811"/>
                  </a:lnTo>
                  <a:lnTo>
                    <a:pt x="282" y="816"/>
                  </a:lnTo>
                  <a:lnTo>
                    <a:pt x="282" y="816"/>
                  </a:lnTo>
                  <a:lnTo>
                    <a:pt x="287" y="821"/>
                  </a:lnTo>
                  <a:lnTo>
                    <a:pt x="287" y="821"/>
                  </a:lnTo>
                  <a:lnTo>
                    <a:pt x="292" y="826"/>
                  </a:lnTo>
                  <a:lnTo>
                    <a:pt x="297" y="831"/>
                  </a:lnTo>
                  <a:lnTo>
                    <a:pt x="292" y="831"/>
                  </a:lnTo>
                  <a:lnTo>
                    <a:pt x="292" y="836"/>
                  </a:lnTo>
                  <a:lnTo>
                    <a:pt x="292" y="836"/>
                  </a:lnTo>
                  <a:lnTo>
                    <a:pt x="287" y="831"/>
                  </a:lnTo>
                  <a:lnTo>
                    <a:pt x="282" y="826"/>
                  </a:lnTo>
                  <a:close/>
                  <a:moveTo>
                    <a:pt x="1004" y="776"/>
                  </a:moveTo>
                  <a:lnTo>
                    <a:pt x="1004" y="766"/>
                  </a:lnTo>
                  <a:lnTo>
                    <a:pt x="1004" y="762"/>
                  </a:lnTo>
                  <a:lnTo>
                    <a:pt x="1004" y="757"/>
                  </a:lnTo>
                  <a:lnTo>
                    <a:pt x="1004" y="752"/>
                  </a:lnTo>
                  <a:lnTo>
                    <a:pt x="999" y="747"/>
                  </a:lnTo>
                  <a:lnTo>
                    <a:pt x="999" y="742"/>
                  </a:lnTo>
                  <a:lnTo>
                    <a:pt x="999" y="732"/>
                  </a:lnTo>
                  <a:lnTo>
                    <a:pt x="999" y="727"/>
                  </a:lnTo>
                  <a:lnTo>
                    <a:pt x="994" y="722"/>
                  </a:lnTo>
                  <a:lnTo>
                    <a:pt x="989" y="717"/>
                  </a:lnTo>
                  <a:lnTo>
                    <a:pt x="989" y="712"/>
                  </a:lnTo>
                  <a:lnTo>
                    <a:pt x="984" y="707"/>
                  </a:lnTo>
                  <a:lnTo>
                    <a:pt x="979" y="702"/>
                  </a:lnTo>
                  <a:lnTo>
                    <a:pt x="979" y="697"/>
                  </a:lnTo>
                  <a:lnTo>
                    <a:pt x="979" y="692"/>
                  </a:lnTo>
                  <a:lnTo>
                    <a:pt x="979" y="682"/>
                  </a:lnTo>
                  <a:lnTo>
                    <a:pt x="984" y="677"/>
                  </a:lnTo>
                  <a:lnTo>
                    <a:pt x="984" y="673"/>
                  </a:lnTo>
                  <a:lnTo>
                    <a:pt x="984" y="668"/>
                  </a:lnTo>
                  <a:lnTo>
                    <a:pt x="989" y="663"/>
                  </a:lnTo>
                  <a:lnTo>
                    <a:pt x="989" y="658"/>
                  </a:lnTo>
                  <a:lnTo>
                    <a:pt x="989" y="653"/>
                  </a:lnTo>
                  <a:lnTo>
                    <a:pt x="989" y="648"/>
                  </a:lnTo>
                  <a:lnTo>
                    <a:pt x="989" y="638"/>
                  </a:lnTo>
                  <a:lnTo>
                    <a:pt x="994" y="633"/>
                  </a:lnTo>
                  <a:lnTo>
                    <a:pt x="994" y="628"/>
                  </a:lnTo>
                  <a:lnTo>
                    <a:pt x="994" y="623"/>
                  </a:lnTo>
                  <a:lnTo>
                    <a:pt x="994" y="618"/>
                  </a:lnTo>
                  <a:lnTo>
                    <a:pt x="994" y="613"/>
                  </a:lnTo>
                  <a:lnTo>
                    <a:pt x="994" y="603"/>
                  </a:lnTo>
                  <a:lnTo>
                    <a:pt x="994" y="598"/>
                  </a:lnTo>
                  <a:lnTo>
                    <a:pt x="994" y="593"/>
                  </a:lnTo>
                  <a:lnTo>
                    <a:pt x="994" y="589"/>
                  </a:lnTo>
                  <a:lnTo>
                    <a:pt x="994" y="584"/>
                  </a:lnTo>
                  <a:lnTo>
                    <a:pt x="994" y="579"/>
                  </a:lnTo>
                  <a:lnTo>
                    <a:pt x="994" y="569"/>
                  </a:lnTo>
                  <a:lnTo>
                    <a:pt x="994" y="564"/>
                  </a:lnTo>
                  <a:lnTo>
                    <a:pt x="994" y="559"/>
                  </a:lnTo>
                  <a:lnTo>
                    <a:pt x="994" y="554"/>
                  </a:lnTo>
                  <a:lnTo>
                    <a:pt x="999" y="549"/>
                  </a:lnTo>
                  <a:lnTo>
                    <a:pt x="999" y="544"/>
                  </a:lnTo>
                  <a:lnTo>
                    <a:pt x="1004" y="539"/>
                  </a:lnTo>
                  <a:lnTo>
                    <a:pt x="1004" y="529"/>
                  </a:lnTo>
                  <a:lnTo>
                    <a:pt x="1004" y="524"/>
                  </a:lnTo>
                  <a:lnTo>
                    <a:pt x="1009" y="519"/>
                  </a:lnTo>
                  <a:lnTo>
                    <a:pt x="1009" y="514"/>
                  </a:lnTo>
                  <a:lnTo>
                    <a:pt x="1009" y="509"/>
                  </a:lnTo>
                  <a:lnTo>
                    <a:pt x="1009" y="504"/>
                  </a:lnTo>
                  <a:lnTo>
                    <a:pt x="1009" y="500"/>
                  </a:lnTo>
                  <a:lnTo>
                    <a:pt x="1009" y="490"/>
                  </a:lnTo>
                  <a:lnTo>
                    <a:pt x="1009" y="485"/>
                  </a:lnTo>
                  <a:lnTo>
                    <a:pt x="1004" y="480"/>
                  </a:lnTo>
                  <a:lnTo>
                    <a:pt x="1004" y="475"/>
                  </a:lnTo>
                  <a:lnTo>
                    <a:pt x="1004" y="470"/>
                  </a:lnTo>
                  <a:lnTo>
                    <a:pt x="1009" y="465"/>
                  </a:lnTo>
                  <a:lnTo>
                    <a:pt x="1014" y="455"/>
                  </a:lnTo>
                  <a:lnTo>
                    <a:pt x="1014" y="450"/>
                  </a:lnTo>
                  <a:lnTo>
                    <a:pt x="1004" y="450"/>
                  </a:lnTo>
                  <a:lnTo>
                    <a:pt x="999" y="445"/>
                  </a:lnTo>
                  <a:lnTo>
                    <a:pt x="994" y="440"/>
                  </a:lnTo>
                  <a:lnTo>
                    <a:pt x="994" y="435"/>
                  </a:lnTo>
                  <a:lnTo>
                    <a:pt x="989" y="425"/>
                  </a:lnTo>
                  <a:lnTo>
                    <a:pt x="984" y="420"/>
                  </a:lnTo>
                  <a:lnTo>
                    <a:pt x="984" y="416"/>
                  </a:lnTo>
                  <a:lnTo>
                    <a:pt x="979" y="411"/>
                  </a:lnTo>
                  <a:lnTo>
                    <a:pt x="974" y="406"/>
                  </a:lnTo>
                  <a:lnTo>
                    <a:pt x="974" y="401"/>
                  </a:lnTo>
                  <a:lnTo>
                    <a:pt x="969" y="396"/>
                  </a:lnTo>
                  <a:lnTo>
                    <a:pt x="969" y="391"/>
                  </a:lnTo>
                  <a:lnTo>
                    <a:pt x="964" y="386"/>
                  </a:lnTo>
                  <a:lnTo>
                    <a:pt x="960" y="381"/>
                  </a:lnTo>
                  <a:lnTo>
                    <a:pt x="960" y="376"/>
                  </a:lnTo>
                  <a:lnTo>
                    <a:pt x="955" y="371"/>
                  </a:lnTo>
                  <a:lnTo>
                    <a:pt x="950" y="361"/>
                  </a:lnTo>
                  <a:lnTo>
                    <a:pt x="950" y="356"/>
                  </a:lnTo>
                  <a:lnTo>
                    <a:pt x="945" y="351"/>
                  </a:lnTo>
                  <a:lnTo>
                    <a:pt x="940" y="346"/>
                  </a:lnTo>
                  <a:lnTo>
                    <a:pt x="940" y="341"/>
                  </a:lnTo>
                  <a:lnTo>
                    <a:pt x="935" y="336"/>
                  </a:lnTo>
                  <a:lnTo>
                    <a:pt x="930" y="331"/>
                  </a:lnTo>
                  <a:lnTo>
                    <a:pt x="930" y="327"/>
                  </a:lnTo>
                  <a:lnTo>
                    <a:pt x="930" y="322"/>
                  </a:lnTo>
                  <a:lnTo>
                    <a:pt x="935" y="317"/>
                  </a:lnTo>
                  <a:lnTo>
                    <a:pt x="940" y="312"/>
                  </a:lnTo>
                  <a:lnTo>
                    <a:pt x="950" y="312"/>
                  </a:lnTo>
                  <a:lnTo>
                    <a:pt x="960" y="307"/>
                  </a:lnTo>
                  <a:lnTo>
                    <a:pt x="964" y="302"/>
                  </a:lnTo>
                  <a:lnTo>
                    <a:pt x="969" y="302"/>
                  </a:lnTo>
                  <a:lnTo>
                    <a:pt x="974" y="297"/>
                  </a:lnTo>
                  <a:lnTo>
                    <a:pt x="979" y="292"/>
                  </a:lnTo>
                  <a:lnTo>
                    <a:pt x="989" y="287"/>
                  </a:lnTo>
                  <a:lnTo>
                    <a:pt x="994" y="282"/>
                  </a:lnTo>
                  <a:lnTo>
                    <a:pt x="999" y="277"/>
                  </a:lnTo>
                  <a:lnTo>
                    <a:pt x="1009" y="277"/>
                  </a:lnTo>
                  <a:lnTo>
                    <a:pt x="1014" y="272"/>
                  </a:lnTo>
                  <a:lnTo>
                    <a:pt x="1024" y="272"/>
                  </a:lnTo>
                  <a:lnTo>
                    <a:pt x="1034" y="272"/>
                  </a:lnTo>
                  <a:lnTo>
                    <a:pt x="1039" y="267"/>
                  </a:lnTo>
                  <a:lnTo>
                    <a:pt x="1044" y="262"/>
                  </a:lnTo>
                  <a:lnTo>
                    <a:pt x="1049" y="257"/>
                  </a:lnTo>
                  <a:lnTo>
                    <a:pt x="1058" y="252"/>
                  </a:lnTo>
                  <a:lnTo>
                    <a:pt x="1063" y="252"/>
                  </a:lnTo>
                  <a:lnTo>
                    <a:pt x="1073" y="247"/>
                  </a:lnTo>
                  <a:lnTo>
                    <a:pt x="1083" y="247"/>
                  </a:lnTo>
                  <a:lnTo>
                    <a:pt x="1088" y="243"/>
                  </a:lnTo>
                  <a:lnTo>
                    <a:pt x="1093" y="243"/>
                  </a:lnTo>
                  <a:lnTo>
                    <a:pt x="1098" y="238"/>
                  </a:lnTo>
                  <a:lnTo>
                    <a:pt x="1103" y="228"/>
                  </a:lnTo>
                  <a:lnTo>
                    <a:pt x="1103" y="223"/>
                  </a:lnTo>
                  <a:lnTo>
                    <a:pt x="1103" y="218"/>
                  </a:lnTo>
                  <a:lnTo>
                    <a:pt x="1103" y="213"/>
                  </a:lnTo>
                  <a:lnTo>
                    <a:pt x="1108" y="208"/>
                  </a:lnTo>
                  <a:lnTo>
                    <a:pt x="1113" y="203"/>
                  </a:lnTo>
                  <a:lnTo>
                    <a:pt x="1118" y="198"/>
                  </a:lnTo>
                  <a:lnTo>
                    <a:pt x="1123" y="193"/>
                  </a:lnTo>
                  <a:lnTo>
                    <a:pt x="1133" y="188"/>
                  </a:lnTo>
                  <a:lnTo>
                    <a:pt x="1143" y="188"/>
                  </a:lnTo>
                  <a:lnTo>
                    <a:pt x="1152" y="193"/>
                  </a:lnTo>
                  <a:lnTo>
                    <a:pt x="1162" y="193"/>
                  </a:lnTo>
                  <a:lnTo>
                    <a:pt x="1167" y="193"/>
                  </a:lnTo>
                  <a:lnTo>
                    <a:pt x="1172" y="193"/>
                  </a:lnTo>
                  <a:lnTo>
                    <a:pt x="1172" y="183"/>
                  </a:lnTo>
                  <a:lnTo>
                    <a:pt x="1172" y="178"/>
                  </a:lnTo>
                  <a:lnTo>
                    <a:pt x="1177" y="173"/>
                  </a:lnTo>
                  <a:lnTo>
                    <a:pt x="1182" y="168"/>
                  </a:lnTo>
                  <a:lnTo>
                    <a:pt x="1192" y="163"/>
                  </a:lnTo>
                  <a:lnTo>
                    <a:pt x="1202" y="163"/>
                  </a:lnTo>
                  <a:lnTo>
                    <a:pt x="1207" y="163"/>
                  </a:lnTo>
                  <a:lnTo>
                    <a:pt x="1217" y="159"/>
                  </a:lnTo>
                  <a:lnTo>
                    <a:pt x="1222" y="154"/>
                  </a:lnTo>
                  <a:lnTo>
                    <a:pt x="1227" y="149"/>
                  </a:lnTo>
                  <a:lnTo>
                    <a:pt x="1236" y="149"/>
                  </a:lnTo>
                  <a:lnTo>
                    <a:pt x="1246" y="149"/>
                  </a:lnTo>
                  <a:lnTo>
                    <a:pt x="1256" y="149"/>
                  </a:lnTo>
                  <a:lnTo>
                    <a:pt x="1261" y="144"/>
                  </a:lnTo>
                  <a:lnTo>
                    <a:pt x="1266" y="144"/>
                  </a:lnTo>
                  <a:lnTo>
                    <a:pt x="1276" y="139"/>
                  </a:lnTo>
                  <a:lnTo>
                    <a:pt x="1286" y="134"/>
                  </a:lnTo>
                  <a:lnTo>
                    <a:pt x="1291" y="134"/>
                  </a:lnTo>
                  <a:lnTo>
                    <a:pt x="1296" y="129"/>
                  </a:lnTo>
                  <a:lnTo>
                    <a:pt x="1301" y="124"/>
                  </a:lnTo>
                  <a:lnTo>
                    <a:pt x="1306" y="119"/>
                  </a:lnTo>
                  <a:lnTo>
                    <a:pt x="1316" y="119"/>
                  </a:lnTo>
                  <a:lnTo>
                    <a:pt x="1326" y="119"/>
                  </a:lnTo>
                  <a:lnTo>
                    <a:pt x="1335" y="119"/>
                  </a:lnTo>
                  <a:lnTo>
                    <a:pt x="1340" y="114"/>
                  </a:lnTo>
                  <a:lnTo>
                    <a:pt x="1350" y="114"/>
                  </a:lnTo>
                  <a:lnTo>
                    <a:pt x="1360" y="114"/>
                  </a:lnTo>
                  <a:lnTo>
                    <a:pt x="1365" y="109"/>
                  </a:lnTo>
                  <a:lnTo>
                    <a:pt x="1375" y="109"/>
                  </a:lnTo>
                  <a:lnTo>
                    <a:pt x="1385" y="104"/>
                  </a:lnTo>
                  <a:lnTo>
                    <a:pt x="1390" y="104"/>
                  </a:lnTo>
                  <a:lnTo>
                    <a:pt x="1395" y="99"/>
                  </a:lnTo>
                  <a:lnTo>
                    <a:pt x="1400" y="94"/>
                  </a:lnTo>
                  <a:lnTo>
                    <a:pt x="1405" y="89"/>
                  </a:lnTo>
                  <a:lnTo>
                    <a:pt x="1415" y="89"/>
                  </a:lnTo>
                  <a:lnTo>
                    <a:pt x="1424" y="84"/>
                  </a:lnTo>
                  <a:lnTo>
                    <a:pt x="1434" y="89"/>
                  </a:lnTo>
                  <a:lnTo>
                    <a:pt x="1439" y="84"/>
                  </a:lnTo>
                  <a:lnTo>
                    <a:pt x="1449" y="84"/>
                  </a:lnTo>
                  <a:lnTo>
                    <a:pt x="1459" y="79"/>
                  </a:lnTo>
                  <a:lnTo>
                    <a:pt x="1464" y="79"/>
                  </a:lnTo>
                  <a:lnTo>
                    <a:pt x="1474" y="79"/>
                  </a:lnTo>
                  <a:lnTo>
                    <a:pt x="1479" y="74"/>
                  </a:lnTo>
                  <a:lnTo>
                    <a:pt x="1484" y="70"/>
                  </a:lnTo>
                  <a:lnTo>
                    <a:pt x="1489" y="65"/>
                  </a:lnTo>
                  <a:lnTo>
                    <a:pt x="1494" y="60"/>
                  </a:lnTo>
                  <a:lnTo>
                    <a:pt x="1504" y="60"/>
                  </a:lnTo>
                  <a:lnTo>
                    <a:pt x="1513" y="60"/>
                  </a:lnTo>
                  <a:lnTo>
                    <a:pt x="1523" y="60"/>
                  </a:lnTo>
                  <a:lnTo>
                    <a:pt x="1528" y="55"/>
                  </a:lnTo>
                  <a:lnTo>
                    <a:pt x="1538" y="55"/>
                  </a:lnTo>
                  <a:lnTo>
                    <a:pt x="1548" y="55"/>
                  </a:lnTo>
                  <a:lnTo>
                    <a:pt x="1558" y="50"/>
                  </a:lnTo>
                  <a:lnTo>
                    <a:pt x="1563" y="50"/>
                  </a:lnTo>
                  <a:lnTo>
                    <a:pt x="1568" y="45"/>
                  </a:lnTo>
                  <a:lnTo>
                    <a:pt x="1573" y="40"/>
                  </a:lnTo>
                  <a:lnTo>
                    <a:pt x="1578" y="35"/>
                  </a:lnTo>
                  <a:lnTo>
                    <a:pt x="1588" y="30"/>
                  </a:lnTo>
                  <a:lnTo>
                    <a:pt x="1598" y="30"/>
                  </a:lnTo>
                  <a:lnTo>
                    <a:pt x="1602" y="30"/>
                  </a:lnTo>
                  <a:lnTo>
                    <a:pt x="1612" y="30"/>
                  </a:lnTo>
                  <a:lnTo>
                    <a:pt x="1622" y="25"/>
                  </a:lnTo>
                  <a:lnTo>
                    <a:pt x="1632" y="25"/>
                  </a:lnTo>
                  <a:lnTo>
                    <a:pt x="1637" y="25"/>
                  </a:lnTo>
                  <a:lnTo>
                    <a:pt x="1647" y="25"/>
                  </a:lnTo>
                  <a:lnTo>
                    <a:pt x="1657" y="25"/>
                  </a:lnTo>
                  <a:lnTo>
                    <a:pt x="1667" y="25"/>
                  </a:lnTo>
                  <a:lnTo>
                    <a:pt x="1677" y="25"/>
                  </a:lnTo>
                  <a:lnTo>
                    <a:pt x="1682" y="30"/>
                  </a:lnTo>
                  <a:lnTo>
                    <a:pt x="1691" y="30"/>
                  </a:lnTo>
                  <a:lnTo>
                    <a:pt x="1701" y="30"/>
                  </a:lnTo>
                  <a:lnTo>
                    <a:pt x="1711" y="35"/>
                  </a:lnTo>
                  <a:lnTo>
                    <a:pt x="1716" y="35"/>
                  </a:lnTo>
                  <a:lnTo>
                    <a:pt x="1726" y="40"/>
                  </a:lnTo>
                  <a:lnTo>
                    <a:pt x="1731" y="45"/>
                  </a:lnTo>
                  <a:lnTo>
                    <a:pt x="1736" y="50"/>
                  </a:lnTo>
                  <a:lnTo>
                    <a:pt x="1741" y="55"/>
                  </a:lnTo>
                  <a:lnTo>
                    <a:pt x="1751" y="55"/>
                  </a:lnTo>
                  <a:lnTo>
                    <a:pt x="1761" y="55"/>
                  </a:lnTo>
                  <a:lnTo>
                    <a:pt x="1766" y="55"/>
                  </a:lnTo>
                  <a:lnTo>
                    <a:pt x="1776" y="55"/>
                  </a:lnTo>
                  <a:lnTo>
                    <a:pt x="1785" y="55"/>
                  </a:lnTo>
                  <a:lnTo>
                    <a:pt x="1795" y="55"/>
                  </a:lnTo>
                  <a:lnTo>
                    <a:pt x="1800" y="60"/>
                  </a:lnTo>
                  <a:lnTo>
                    <a:pt x="1810" y="60"/>
                  </a:lnTo>
                  <a:lnTo>
                    <a:pt x="1815" y="65"/>
                  </a:lnTo>
                  <a:lnTo>
                    <a:pt x="1820" y="74"/>
                  </a:lnTo>
                  <a:lnTo>
                    <a:pt x="1825" y="74"/>
                  </a:lnTo>
                  <a:lnTo>
                    <a:pt x="1830" y="79"/>
                  </a:lnTo>
                  <a:lnTo>
                    <a:pt x="1840" y="79"/>
                  </a:lnTo>
                  <a:lnTo>
                    <a:pt x="1850" y="79"/>
                  </a:lnTo>
                  <a:lnTo>
                    <a:pt x="1860" y="79"/>
                  </a:lnTo>
                  <a:lnTo>
                    <a:pt x="1870" y="79"/>
                  </a:lnTo>
                  <a:lnTo>
                    <a:pt x="1874" y="79"/>
                  </a:lnTo>
                  <a:lnTo>
                    <a:pt x="1884" y="79"/>
                  </a:lnTo>
                  <a:lnTo>
                    <a:pt x="1894" y="84"/>
                  </a:lnTo>
                  <a:lnTo>
                    <a:pt x="1904" y="84"/>
                  </a:lnTo>
                  <a:lnTo>
                    <a:pt x="1909" y="89"/>
                  </a:lnTo>
                  <a:lnTo>
                    <a:pt x="1914" y="94"/>
                  </a:lnTo>
                  <a:lnTo>
                    <a:pt x="1919" y="99"/>
                  </a:lnTo>
                  <a:lnTo>
                    <a:pt x="1924" y="104"/>
                  </a:lnTo>
                  <a:lnTo>
                    <a:pt x="1934" y="104"/>
                  </a:lnTo>
                  <a:lnTo>
                    <a:pt x="1939" y="109"/>
                  </a:lnTo>
                  <a:lnTo>
                    <a:pt x="1949" y="109"/>
                  </a:lnTo>
                  <a:lnTo>
                    <a:pt x="1959" y="109"/>
                  </a:lnTo>
                  <a:lnTo>
                    <a:pt x="1968" y="109"/>
                  </a:lnTo>
                  <a:lnTo>
                    <a:pt x="1978" y="109"/>
                  </a:lnTo>
                  <a:lnTo>
                    <a:pt x="1983" y="109"/>
                  </a:lnTo>
                  <a:lnTo>
                    <a:pt x="1993" y="109"/>
                  </a:lnTo>
                  <a:lnTo>
                    <a:pt x="2003" y="109"/>
                  </a:lnTo>
                  <a:lnTo>
                    <a:pt x="2008" y="114"/>
                  </a:lnTo>
                  <a:lnTo>
                    <a:pt x="2013" y="119"/>
                  </a:lnTo>
                  <a:lnTo>
                    <a:pt x="2018" y="124"/>
                  </a:lnTo>
                  <a:lnTo>
                    <a:pt x="2023" y="129"/>
                  </a:lnTo>
                  <a:lnTo>
                    <a:pt x="2028" y="134"/>
                  </a:lnTo>
                  <a:lnTo>
                    <a:pt x="2038" y="134"/>
                  </a:lnTo>
                  <a:lnTo>
                    <a:pt x="2048" y="134"/>
                  </a:lnTo>
                  <a:lnTo>
                    <a:pt x="2057" y="134"/>
                  </a:lnTo>
                  <a:lnTo>
                    <a:pt x="2062" y="139"/>
                  </a:lnTo>
                  <a:lnTo>
                    <a:pt x="2072" y="139"/>
                  </a:lnTo>
                  <a:lnTo>
                    <a:pt x="2082" y="139"/>
                  </a:lnTo>
                  <a:lnTo>
                    <a:pt x="2092" y="139"/>
                  </a:lnTo>
                  <a:lnTo>
                    <a:pt x="2102" y="139"/>
                  </a:lnTo>
                  <a:lnTo>
                    <a:pt x="2107" y="139"/>
                  </a:lnTo>
                  <a:lnTo>
                    <a:pt x="2112" y="144"/>
                  </a:lnTo>
                  <a:lnTo>
                    <a:pt x="2117" y="149"/>
                  </a:lnTo>
                  <a:lnTo>
                    <a:pt x="2122" y="154"/>
                  </a:lnTo>
                  <a:lnTo>
                    <a:pt x="2127" y="163"/>
                  </a:lnTo>
                  <a:lnTo>
                    <a:pt x="2127" y="168"/>
                  </a:lnTo>
                  <a:lnTo>
                    <a:pt x="2132" y="173"/>
                  </a:lnTo>
                  <a:lnTo>
                    <a:pt x="2142" y="173"/>
                  </a:lnTo>
                  <a:lnTo>
                    <a:pt x="2146" y="178"/>
                  </a:lnTo>
                  <a:lnTo>
                    <a:pt x="2156" y="178"/>
                  </a:lnTo>
                  <a:lnTo>
                    <a:pt x="2161" y="183"/>
                  </a:lnTo>
                  <a:lnTo>
                    <a:pt x="2171" y="188"/>
                  </a:lnTo>
                  <a:lnTo>
                    <a:pt x="2181" y="188"/>
                  </a:lnTo>
                  <a:lnTo>
                    <a:pt x="2191" y="188"/>
                  </a:lnTo>
                  <a:lnTo>
                    <a:pt x="2196" y="188"/>
                  </a:lnTo>
                  <a:lnTo>
                    <a:pt x="2206" y="188"/>
                  </a:lnTo>
                  <a:lnTo>
                    <a:pt x="2216" y="193"/>
                  </a:lnTo>
                  <a:lnTo>
                    <a:pt x="2221" y="193"/>
                  </a:lnTo>
                  <a:lnTo>
                    <a:pt x="2231" y="198"/>
                  </a:lnTo>
                  <a:lnTo>
                    <a:pt x="2235" y="203"/>
                  </a:lnTo>
                  <a:lnTo>
                    <a:pt x="2240" y="208"/>
                  </a:lnTo>
                  <a:lnTo>
                    <a:pt x="2250" y="208"/>
                  </a:lnTo>
                  <a:lnTo>
                    <a:pt x="2255" y="213"/>
                  </a:lnTo>
                  <a:lnTo>
                    <a:pt x="2265" y="218"/>
                  </a:lnTo>
                  <a:lnTo>
                    <a:pt x="2270" y="218"/>
                  </a:lnTo>
                  <a:lnTo>
                    <a:pt x="2280" y="223"/>
                  </a:lnTo>
                  <a:lnTo>
                    <a:pt x="2285" y="228"/>
                  </a:lnTo>
                  <a:lnTo>
                    <a:pt x="2290" y="228"/>
                  </a:lnTo>
                  <a:lnTo>
                    <a:pt x="2300" y="233"/>
                  </a:lnTo>
                  <a:lnTo>
                    <a:pt x="2305" y="238"/>
                  </a:lnTo>
                  <a:lnTo>
                    <a:pt x="2315" y="238"/>
                  </a:lnTo>
                  <a:lnTo>
                    <a:pt x="2320" y="243"/>
                  </a:lnTo>
                  <a:lnTo>
                    <a:pt x="2329" y="247"/>
                  </a:lnTo>
                  <a:lnTo>
                    <a:pt x="2334" y="252"/>
                  </a:lnTo>
                  <a:lnTo>
                    <a:pt x="2339" y="252"/>
                  </a:lnTo>
                  <a:lnTo>
                    <a:pt x="2349" y="257"/>
                  </a:lnTo>
                  <a:lnTo>
                    <a:pt x="2354" y="262"/>
                  </a:lnTo>
                  <a:lnTo>
                    <a:pt x="2364" y="262"/>
                  </a:lnTo>
                  <a:lnTo>
                    <a:pt x="2369" y="267"/>
                  </a:lnTo>
                  <a:lnTo>
                    <a:pt x="2369" y="272"/>
                  </a:lnTo>
                  <a:lnTo>
                    <a:pt x="2364" y="277"/>
                  </a:lnTo>
                  <a:lnTo>
                    <a:pt x="2364" y="282"/>
                  </a:lnTo>
                  <a:lnTo>
                    <a:pt x="2359" y="287"/>
                  </a:lnTo>
                  <a:lnTo>
                    <a:pt x="2354" y="292"/>
                  </a:lnTo>
                  <a:lnTo>
                    <a:pt x="2344" y="297"/>
                  </a:lnTo>
                  <a:lnTo>
                    <a:pt x="2339" y="297"/>
                  </a:lnTo>
                  <a:lnTo>
                    <a:pt x="2334" y="287"/>
                  </a:lnTo>
                  <a:lnTo>
                    <a:pt x="2329" y="282"/>
                  </a:lnTo>
                  <a:lnTo>
                    <a:pt x="2320" y="282"/>
                  </a:lnTo>
                  <a:lnTo>
                    <a:pt x="2315" y="277"/>
                  </a:lnTo>
                  <a:lnTo>
                    <a:pt x="2305" y="277"/>
                  </a:lnTo>
                  <a:lnTo>
                    <a:pt x="2295" y="277"/>
                  </a:lnTo>
                  <a:lnTo>
                    <a:pt x="2290" y="277"/>
                  </a:lnTo>
                  <a:lnTo>
                    <a:pt x="2280" y="282"/>
                  </a:lnTo>
                  <a:lnTo>
                    <a:pt x="2270" y="282"/>
                  </a:lnTo>
                  <a:lnTo>
                    <a:pt x="2260" y="277"/>
                  </a:lnTo>
                  <a:lnTo>
                    <a:pt x="2255" y="277"/>
                  </a:lnTo>
                  <a:lnTo>
                    <a:pt x="2250" y="272"/>
                  </a:lnTo>
                  <a:lnTo>
                    <a:pt x="2245" y="267"/>
                  </a:lnTo>
                  <a:lnTo>
                    <a:pt x="2240" y="262"/>
                  </a:lnTo>
                  <a:lnTo>
                    <a:pt x="2235" y="257"/>
                  </a:lnTo>
                  <a:lnTo>
                    <a:pt x="2226" y="257"/>
                  </a:lnTo>
                  <a:lnTo>
                    <a:pt x="2216" y="257"/>
                  </a:lnTo>
                  <a:lnTo>
                    <a:pt x="2206" y="257"/>
                  </a:lnTo>
                  <a:lnTo>
                    <a:pt x="2196" y="257"/>
                  </a:lnTo>
                  <a:lnTo>
                    <a:pt x="2191" y="257"/>
                  </a:lnTo>
                  <a:lnTo>
                    <a:pt x="2181" y="257"/>
                  </a:lnTo>
                  <a:lnTo>
                    <a:pt x="2176" y="257"/>
                  </a:lnTo>
                  <a:lnTo>
                    <a:pt x="2171" y="262"/>
                  </a:lnTo>
                  <a:lnTo>
                    <a:pt x="2166" y="267"/>
                  </a:lnTo>
                  <a:lnTo>
                    <a:pt x="2161" y="272"/>
                  </a:lnTo>
                  <a:lnTo>
                    <a:pt x="2151" y="277"/>
                  </a:lnTo>
                  <a:lnTo>
                    <a:pt x="2146" y="277"/>
                  </a:lnTo>
                  <a:lnTo>
                    <a:pt x="2137" y="277"/>
                  </a:lnTo>
                  <a:lnTo>
                    <a:pt x="2127" y="277"/>
                  </a:lnTo>
                  <a:lnTo>
                    <a:pt x="2117" y="277"/>
                  </a:lnTo>
                  <a:lnTo>
                    <a:pt x="2107" y="277"/>
                  </a:lnTo>
                  <a:lnTo>
                    <a:pt x="2102" y="277"/>
                  </a:lnTo>
                  <a:lnTo>
                    <a:pt x="2097" y="282"/>
                  </a:lnTo>
                  <a:lnTo>
                    <a:pt x="2092" y="287"/>
                  </a:lnTo>
                  <a:lnTo>
                    <a:pt x="2092" y="297"/>
                  </a:lnTo>
                  <a:lnTo>
                    <a:pt x="2087" y="302"/>
                  </a:lnTo>
                  <a:lnTo>
                    <a:pt x="2082" y="307"/>
                  </a:lnTo>
                  <a:lnTo>
                    <a:pt x="2072" y="307"/>
                  </a:lnTo>
                  <a:lnTo>
                    <a:pt x="2067" y="307"/>
                  </a:lnTo>
                  <a:lnTo>
                    <a:pt x="2062" y="302"/>
                  </a:lnTo>
                  <a:lnTo>
                    <a:pt x="2057" y="297"/>
                  </a:lnTo>
                  <a:lnTo>
                    <a:pt x="2048" y="292"/>
                  </a:lnTo>
                  <a:lnTo>
                    <a:pt x="2043" y="292"/>
                  </a:lnTo>
                  <a:lnTo>
                    <a:pt x="2033" y="292"/>
                  </a:lnTo>
                  <a:lnTo>
                    <a:pt x="2023" y="292"/>
                  </a:lnTo>
                  <a:lnTo>
                    <a:pt x="2013" y="292"/>
                  </a:lnTo>
                  <a:lnTo>
                    <a:pt x="2003" y="292"/>
                  </a:lnTo>
                  <a:lnTo>
                    <a:pt x="1998" y="287"/>
                  </a:lnTo>
                  <a:lnTo>
                    <a:pt x="1988" y="282"/>
                  </a:lnTo>
                  <a:lnTo>
                    <a:pt x="1983" y="277"/>
                  </a:lnTo>
                  <a:lnTo>
                    <a:pt x="1978" y="272"/>
                  </a:lnTo>
                  <a:lnTo>
                    <a:pt x="1973" y="267"/>
                  </a:lnTo>
                  <a:lnTo>
                    <a:pt x="1968" y="267"/>
                  </a:lnTo>
                  <a:lnTo>
                    <a:pt x="1959" y="267"/>
                  </a:lnTo>
                  <a:lnTo>
                    <a:pt x="1949" y="272"/>
                  </a:lnTo>
                  <a:lnTo>
                    <a:pt x="1939" y="272"/>
                  </a:lnTo>
                  <a:lnTo>
                    <a:pt x="1934" y="272"/>
                  </a:lnTo>
                  <a:lnTo>
                    <a:pt x="1924" y="277"/>
                  </a:lnTo>
                  <a:lnTo>
                    <a:pt x="1914" y="277"/>
                  </a:lnTo>
                  <a:lnTo>
                    <a:pt x="1904" y="277"/>
                  </a:lnTo>
                  <a:lnTo>
                    <a:pt x="1899" y="277"/>
                  </a:lnTo>
                  <a:lnTo>
                    <a:pt x="1889" y="282"/>
                  </a:lnTo>
                  <a:lnTo>
                    <a:pt x="1879" y="282"/>
                  </a:lnTo>
                  <a:lnTo>
                    <a:pt x="1874" y="282"/>
                  </a:lnTo>
                  <a:lnTo>
                    <a:pt x="1865" y="287"/>
                  </a:lnTo>
                  <a:lnTo>
                    <a:pt x="1855" y="287"/>
                  </a:lnTo>
                  <a:lnTo>
                    <a:pt x="1845" y="292"/>
                  </a:lnTo>
                  <a:lnTo>
                    <a:pt x="1840" y="292"/>
                  </a:lnTo>
                  <a:lnTo>
                    <a:pt x="1830" y="292"/>
                  </a:lnTo>
                  <a:lnTo>
                    <a:pt x="1820" y="297"/>
                  </a:lnTo>
                  <a:lnTo>
                    <a:pt x="1815" y="297"/>
                  </a:lnTo>
                  <a:lnTo>
                    <a:pt x="1805" y="297"/>
                  </a:lnTo>
                  <a:lnTo>
                    <a:pt x="1795" y="302"/>
                  </a:lnTo>
                  <a:lnTo>
                    <a:pt x="1790" y="302"/>
                  </a:lnTo>
                  <a:lnTo>
                    <a:pt x="1780" y="302"/>
                  </a:lnTo>
                  <a:lnTo>
                    <a:pt x="1771" y="302"/>
                  </a:lnTo>
                  <a:lnTo>
                    <a:pt x="1761" y="307"/>
                  </a:lnTo>
                  <a:lnTo>
                    <a:pt x="1756" y="307"/>
                  </a:lnTo>
                  <a:lnTo>
                    <a:pt x="1751" y="312"/>
                  </a:lnTo>
                  <a:lnTo>
                    <a:pt x="1751" y="322"/>
                  </a:lnTo>
                  <a:lnTo>
                    <a:pt x="1756" y="327"/>
                  </a:lnTo>
                  <a:lnTo>
                    <a:pt x="1761" y="331"/>
                  </a:lnTo>
                  <a:lnTo>
                    <a:pt x="1766" y="336"/>
                  </a:lnTo>
                  <a:lnTo>
                    <a:pt x="1771" y="341"/>
                  </a:lnTo>
                  <a:lnTo>
                    <a:pt x="1771" y="346"/>
                  </a:lnTo>
                  <a:lnTo>
                    <a:pt x="1776" y="351"/>
                  </a:lnTo>
                  <a:lnTo>
                    <a:pt x="1776" y="356"/>
                  </a:lnTo>
                  <a:lnTo>
                    <a:pt x="1780" y="361"/>
                  </a:lnTo>
                  <a:lnTo>
                    <a:pt x="1785" y="366"/>
                  </a:lnTo>
                  <a:lnTo>
                    <a:pt x="1790" y="371"/>
                  </a:lnTo>
                  <a:lnTo>
                    <a:pt x="1785" y="376"/>
                  </a:lnTo>
                  <a:lnTo>
                    <a:pt x="1780" y="376"/>
                  </a:lnTo>
                  <a:lnTo>
                    <a:pt x="1776" y="371"/>
                  </a:lnTo>
                  <a:lnTo>
                    <a:pt x="1771" y="366"/>
                  </a:lnTo>
                  <a:lnTo>
                    <a:pt x="1761" y="366"/>
                  </a:lnTo>
                  <a:lnTo>
                    <a:pt x="1756" y="361"/>
                  </a:lnTo>
                  <a:lnTo>
                    <a:pt x="1751" y="356"/>
                  </a:lnTo>
                  <a:lnTo>
                    <a:pt x="1746" y="351"/>
                  </a:lnTo>
                  <a:lnTo>
                    <a:pt x="1741" y="346"/>
                  </a:lnTo>
                  <a:lnTo>
                    <a:pt x="1736" y="341"/>
                  </a:lnTo>
                  <a:lnTo>
                    <a:pt x="1731" y="336"/>
                  </a:lnTo>
                  <a:lnTo>
                    <a:pt x="1726" y="331"/>
                  </a:lnTo>
                  <a:lnTo>
                    <a:pt x="1721" y="327"/>
                  </a:lnTo>
                  <a:lnTo>
                    <a:pt x="1716" y="322"/>
                  </a:lnTo>
                  <a:lnTo>
                    <a:pt x="1711" y="317"/>
                  </a:lnTo>
                  <a:lnTo>
                    <a:pt x="1701" y="317"/>
                  </a:lnTo>
                  <a:lnTo>
                    <a:pt x="1691" y="317"/>
                  </a:lnTo>
                  <a:lnTo>
                    <a:pt x="1687" y="317"/>
                  </a:lnTo>
                  <a:lnTo>
                    <a:pt x="1677" y="322"/>
                  </a:lnTo>
                  <a:lnTo>
                    <a:pt x="1672" y="322"/>
                  </a:lnTo>
                  <a:lnTo>
                    <a:pt x="1667" y="317"/>
                  </a:lnTo>
                  <a:lnTo>
                    <a:pt x="1662" y="312"/>
                  </a:lnTo>
                  <a:lnTo>
                    <a:pt x="1652" y="307"/>
                  </a:lnTo>
                  <a:lnTo>
                    <a:pt x="1647" y="302"/>
                  </a:lnTo>
                  <a:lnTo>
                    <a:pt x="1642" y="302"/>
                  </a:lnTo>
                  <a:lnTo>
                    <a:pt x="1637" y="297"/>
                  </a:lnTo>
                  <a:lnTo>
                    <a:pt x="1632" y="292"/>
                  </a:lnTo>
                  <a:lnTo>
                    <a:pt x="1627" y="287"/>
                  </a:lnTo>
                  <a:lnTo>
                    <a:pt x="1617" y="282"/>
                  </a:lnTo>
                  <a:lnTo>
                    <a:pt x="1612" y="282"/>
                  </a:lnTo>
                  <a:lnTo>
                    <a:pt x="1602" y="282"/>
                  </a:lnTo>
                  <a:lnTo>
                    <a:pt x="1593" y="282"/>
                  </a:lnTo>
                  <a:lnTo>
                    <a:pt x="1583" y="287"/>
                  </a:lnTo>
                  <a:lnTo>
                    <a:pt x="1578" y="292"/>
                  </a:lnTo>
                  <a:lnTo>
                    <a:pt x="1573" y="297"/>
                  </a:lnTo>
                  <a:lnTo>
                    <a:pt x="1563" y="297"/>
                  </a:lnTo>
                  <a:lnTo>
                    <a:pt x="1558" y="302"/>
                  </a:lnTo>
                  <a:lnTo>
                    <a:pt x="1548" y="307"/>
                  </a:lnTo>
                  <a:lnTo>
                    <a:pt x="1543" y="302"/>
                  </a:lnTo>
                  <a:lnTo>
                    <a:pt x="1538" y="297"/>
                  </a:lnTo>
                  <a:lnTo>
                    <a:pt x="1533" y="292"/>
                  </a:lnTo>
                  <a:lnTo>
                    <a:pt x="1528" y="287"/>
                  </a:lnTo>
                  <a:lnTo>
                    <a:pt x="1523" y="282"/>
                  </a:lnTo>
                  <a:lnTo>
                    <a:pt x="1513" y="282"/>
                  </a:lnTo>
                  <a:lnTo>
                    <a:pt x="1508" y="282"/>
                  </a:lnTo>
                  <a:lnTo>
                    <a:pt x="1499" y="287"/>
                  </a:lnTo>
                  <a:lnTo>
                    <a:pt x="1489" y="287"/>
                  </a:lnTo>
                  <a:lnTo>
                    <a:pt x="1479" y="292"/>
                  </a:lnTo>
                  <a:lnTo>
                    <a:pt x="1469" y="292"/>
                  </a:lnTo>
                  <a:lnTo>
                    <a:pt x="1464" y="292"/>
                  </a:lnTo>
                  <a:lnTo>
                    <a:pt x="1459" y="297"/>
                  </a:lnTo>
                  <a:lnTo>
                    <a:pt x="1464" y="302"/>
                  </a:lnTo>
                  <a:lnTo>
                    <a:pt x="1469" y="307"/>
                  </a:lnTo>
                  <a:lnTo>
                    <a:pt x="1474" y="312"/>
                  </a:lnTo>
                  <a:lnTo>
                    <a:pt x="1489" y="317"/>
                  </a:lnTo>
                  <a:lnTo>
                    <a:pt x="1499" y="317"/>
                  </a:lnTo>
                  <a:lnTo>
                    <a:pt x="1504" y="322"/>
                  </a:lnTo>
                  <a:lnTo>
                    <a:pt x="1499" y="322"/>
                  </a:lnTo>
                  <a:lnTo>
                    <a:pt x="1489" y="322"/>
                  </a:lnTo>
                  <a:lnTo>
                    <a:pt x="1484" y="317"/>
                  </a:lnTo>
                  <a:lnTo>
                    <a:pt x="1479" y="312"/>
                  </a:lnTo>
                  <a:lnTo>
                    <a:pt x="1474" y="302"/>
                  </a:lnTo>
                  <a:lnTo>
                    <a:pt x="1469" y="297"/>
                  </a:lnTo>
                  <a:lnTo>
                    <a:pt x="1464" y="292"/>
                  </a:lnTo>
                  <a:lnTo>
                    <a:pt x="1464" y="292"/>
                  </a:lnTo>
                  <a:lnTo>
                    <a:pt x="1459" y="297"/>
                  </a:lnTo>
                  <a:lnTo>
                    <a:pt x="1454" y="302"/>
                  </a:lnTo>
                  <a:lnTo>
                    <a:pt x="1444" y="307"/>
                  </a:lnTo>
                  <a:lnTo>
                    <a:pt x="1439" y="312"/>
                  </a:lnTo>
                  <a:lnTo>
                    <a:pt x="1434" y="317"/>
                  </a:lnTo>
                  <a:lnTo>
                    <a:pt x="1424" y="317"/>
                  </a:lnTo>
                  <a:lnTo>
                    <a:pt x="1415" y="317"/>
                  </a:lnTo>
                  <a:lnTo>
                    <a:pt x="1405" y="317"/>
                  </a:lnTo>
                  <a:lnTo>
                    <a:pt x="1400" y="322"/>
                  </a:lnTo>
                  <a:lnTo>
                    <a:pt x="1395" y="327"/>
                  </a:lnTo>
                  <a:lnTo>
                    <a:pt x="1390" y="331"/>
                  </a:lnTo>
                  <a:lnTo>
                    <a:pt x="1385" y="336"/>
                  </a:lnTo>
                  <a:lnTo>
                    <a:pt x="1375" y="341"/>
                  </a:lnTo>
                  <a:lnTo>
                    <a:pt x="1370" y="341"/>
                  </a:lnTo>
                  <a:lnTo>
                    <a:pt x="1360" y="341"/>
                  </a:lnTo>
                  <a:lnTo>
                    <a:pt x="1350" y="341"/>
                  </a:lnTo>
                  <a:lnTo>
                    <a:pt x="1340" y="341"/>
                  </a:lnTo>
                  <a:lnTo>
                    <a:pt x="1330" y="346"/>
                  </a:lnTo>
                  <a:lnTo>
                    <a:pt x="1326" y="351"/>
                  </a:lnTo>
                  <a:lnTo>
                    <a:pt x="1321" y="356"/>
                  </a:lnTo>
                  <a:lnTo>
                    <a:pt x="1316" y="361"/>
                  </a:lnTo>
                  <a:lnTo>
                    <a:pt x="1311" y="361"/>
                  </a:lnTo>
                  <a:lnTo>
                    <a:pt x="1301" y="366"/>
                  </a:lnTo>
                  <a:lnTo>
                    <a:pt x="1291" y="366"/>
                  </a:lnTo>
                  <a:lnTo>
                    <a:pt x="1286" y="371"/>
                  </a:lnTo>
                  <a:lnTo>
                    <a:pt x="1276" y="371"/>
                  </a:lnTo>
                  <a:lnTo>
                    <a:pt x="1266" y="376"/>
                  </a:lnTo>
                  <a:lnTo>
                    <a:pt x="1261" y="376"/>
                  </a:lnTo>
                  <a:lnTo>
                    <a:pt x="1261" y="386"/>
                  </a:lnTo>
                  <a:lnTo>
                    <a:pt x="1256" y="391"/>
                  </a:lnTo>
                  <a:lnTo>
                    <a:pt x="1251" y="396"/>
                  </a:lnTo>
                  <a:lnTo>
                    <a:pt x="1251" y="401"/>
                  </a:lnTo>
                  <a:lnTo>
                    <a:pt x="1246" y="406"/>
                  </a:lnTo>
                  <a:lnTo>
                    <a:pt x="1241" y="411"/>
                  </a:lnTo>
                  <a:lnTo>
                    <a:pt x="1236" y="416"/>
                  </a:lnTo>
                  <a:lnTo>
                    <a:pt x="1236" y="420"/>
                  </a:lnTo>
                  <a:lnTo>
                    <a:pt x="1232" y="425"/>
                  </a:lnTo>
                  <a:lnTo>
                    <a:pt x="1232" y="435"/>
                  </a:lnTo>
                  <a:lnTo>
                    <a:pt x="1227" y="440"/>
                  </a:lnTo>
                  <a:lnTo>
                    <a:pt x="1227" y="445"/>
                  </a:lnTo>
                  <a:lnTo>
                    <a:pt x="1222" y="445"/>
                  </a:lnTo>
                  <a:lnTo>
                    <a:pt x="1217" y="445"/>
                  </a:lnTo>
                  <a:lnTo>
                    <a:pt x="1217" y="440"/>
                  </a:lnTo>
                  <a:lnTo>
                    <a:pt x="1212" y="430"/>
                  </a:lnTo>
                  <a:lnTo>
                    <a:pt x="1212" y="425"/>
                  </a:lnTo>
                  <a:lnTo>
                    <a:pt x="1212" y="416"/>
                  </a:lnTo>
                  <a:lnTo>
                    <a:pt x="1212" y="411"/>
                  </a:lnTo>
                  <a:lnTo>
                    <a:pt x="1217" y="406"/>
                  </a:lnTo>
                  <a:lnTo>
                    <a:pt x="1227" y="406"/>
                  </a:lnTo>
                  <a:lnTo>
                    <a:pt x="1236" y="401"/>
                  </a:lnTo>
                  <a:lnTo>
                    <a:pt x="1246" y="401"/>
                  </a:lnTo>
                  <a:lnTo>
                    <a:pt x="1251" y="401"/>
                  </a:lnTo>
                  <a:lnTo>
                    <a:pt x="1251" y="396"/>
                  </a:lnTo>
                  <a:lnTo>
                    <a:pt x="1246" y="391"/>
                  </a:lnTo>
                  <a:lnTo>
                    <a:pt x="1241" y="386"/>
                  </a:lnTo>
                  <a:lnTo>
                    <a:pt x="1236" y="381"/>
                  </a:lnTo>
                  <a:lnTo>
                    <a:pt x="1232" y="371"/>
                  </a:lnTo>
                  <a:lnTo>
                    <a:pt x="1227" y="366"/>
                  </a:lnTo>
                  <a:lnTo>
                    <a:pt x="1222" y="366"/>
                  </a:lnTo>
                  <a:lnTo>
                    <a:pt x="1217" y="376"/>
                  </a:lnTo>
                  <a:lnTo>
                    <a:pt x="1212" y="381"/>
                  </a:lnTo>
                  <a:lnTo>
                    <a:pt x="1207" y="386"/>
                  </a:lnTo>
                  <a:lnTo>
                    <a:pt x="1202" y="391"/>
                  </a:lnTo>
                  <a:lnTo>
                    <a:pt x="1197" y="396"/>
                  </a:lnTo>
                  <a:lnTo>
                    <a:pt x="1197" y="401"/>
                  </a:lnTo>
                  <a:lnTo>
                    <a:pt x="1192" y="406"/>
                  </a:lnTo>
                  <a:lnTo>
                    <a:pt x="1192" y="411"/>
                  </a:lnTo>
                  <a:lnTo>
                    <a:pt x="1192" y="416"/>
                  </a:lnTo>
                  <a:lnTo>
                    <a:pt x="1187" y="420"/>
                  </a:lnTo>
                  <a:lnTo>
                    <a:pt x="1187" y="425"/>
                  </a:lnTo>
                  <a:lnTo>
                    <a:pt x="1187" y="435"/>
                  </a:lnTo>
                  <a:lnTo>
                    <a:pt x="1182" y="440"/>
                  </a:lnTo>
                  <a:lnTo>
                    <a:pt x="1177" y="445"/>
                  </a:lnTo>
                  <a:lnTo>
                    <a:pt x="1172" y="450"/>
                  </a:lnTo>
                  <a:lnTo>
                    <a:pt x="1172" y="455"/>
                  </a:lnTo>
                  <a:lnTo>
                    <a:pt x="1167" y="460"/>
                  </a:lnTo>
                  <a:lnTo>
                    <a:pt x="1162" y="465"/>
                  </a:lnTo>
                  <a:lnTo>
                    <a:pt x="1162" y="470"/>
                  </a:lnTo>
                  <a:lnTo>
                    <a:pt x="1162" y="475"/>
                  </a:lnTo>
                  <a:lnTo>
                    <a:pt x="1162" y="480"/>
                  </a:lnTo>
                  <a:lnTo>
                    <a:pt x="1157" y="490"/>
                  </a:lnTo>
                  <a:lnTo>
                    <a:pt x="1157" y="495"/>
                  </a:lnTo>
                  <a:lnTo>
                    <a:pt x="1152" y="500"/>
                  </a:lnTo>
                  <a:lnTo>
                    <a:pt x="1152" y="504"/>
                  </a:lnTo>
                  <a:lnTo>
                    <a:pt x="1147" y="509"/>
                  </a:lnTo>
                  <a:lnTo>
                    <a:pt x="1143" y="514"/>
                  </a:lnTo>
                  <a:lnTo>
                    <a:pt x="1143" y="519"/>
                  </a:lnTo>
                  <a:lnTo>
                    <a:pt x="1143" y="524"/>
                  </a:lnTo>
                  <a:lnTo>
                    <a:pt x="1138" y="529"/>
                  </a:lnTo>
                  <a:lnTo>
                    <a:pt x="1138" y="539"/>
                  </a:lnTo>
                  <a:lnTo>
                    <a:pt x="1133" y="544"/>
                  </a:lnTo>
                  <a:lnTo>
                    <a:pt x="1133" y="549"/>
                  </a:lnTo>
                  <a:lnTo>
                    <a:pt x="1128" y="554"/>
                  </a:lnTo>
                  <a:lnTo>
                    <a:pt x="1123" y="559"/>
                  </a:lnTo>
                  <a:lnTo>
                    <a:pt x="1123" y="564"/>
                  </a:lnTo>
                  <a:lnTo>
                    <a:pt x="1123" y="569"/>
                  </a:lnTo>
                  <a:lnTo>
                    <a:pt x="1118" y="574"/>
                  </a:lnTo>
                  <a:lnTo>
                    <a:pt x="1118" y="584"/>
                  </a:lnTo>
                  <a:lnTo>
                    <a:pt x="1118" y="589"/>
                  </a:lnTo>
                  <a:lnTo>
                    <a:pt x="1118" y="593"/>
                  </a:lnTo>
                  <a:lnTo>
                    <a:pt x="1118" y="598"/>
                  </a:lnTo>
                  <a:lnTo>
                    <a:pt x="1118" y="603"/>
                  </a:lnTo>
                  <a:lnTo>
                    <a:pt x="1113" y="608"/>
                  </a:lnTo>
                  <a:lnTo>
                    <a:pt x="1113" y="613"/>
                  </a:lnTo>
                  <a:lnTo>
                    <a:pt x="1113" y="618"/>
                  </a:lnTo>
                  <a:lnTo>
                    <a:pt x="1108" y="623"/>
                  </a:lnTo>
                  <a:lnTo>
                    <a:pt x="1103" y="628"/>
                  </a:lnTo>
                  <a:lnTo>
                    <a:pt x="1103" y="638"/>
                  </a:lnTo>
                  <a:lnTo>
                    <a:pt x="1098" y="643"/>
                  </a:lnTo>
                  <a:lnTo>
                    <a:pt x="1093" y="653"/>
                  </a:lnTo>
                  <a:lnTo>
                    <a:pt x="1093" y="658"/>
                  </a:lnTo>
                  <a:lnTo>
                    <a:pt x="1088" y="658"/>
                  </a:lnTo>
                  <a:lnTo>
                    <a:pt x="1088" y="653"/>
                  </a:lnTo>
                  <a:lnTo>
                    <a:pt x="1088" y="648"/>
                  </a:lnTo>
                  <a:lnTo>
                    <a:pt x="1083" y="638"/>
                  </a:lnTo>
                  <a:lnTo>
                    <a:pt x="1083" y="633"/>
                  </a:lnTo>
                  <a:lnTo>
                    <a:pt x="1078" y="628"/>
                  </a:lnTo>
                  <a:lnTo>
                    <a:pt x="1078" y="623"/>
                  </a:lnTo>
                  <a:lnTo>
                    <a:pt x="1073" y="618"/>
                  </a:lnTo>
                  <a:lnTo>
                    <a:pt x="1073" y="613"/>
                  </a:lnTo>
                  <a:lnTo>
                    <a:pt x="1073" y="608"/>
                  </a:lnTo>
                  <a:lnTo>
                    <a:pt x="1073" y="598"/>
                  </a:lnTo>
                  <a:lnTo>
                    <a:pt x="1073" y="593"/>
                  </a:lnTo>
                  <a:lnTo>
                    <a:pt x="1073" y="589"/>
                  </a:lnTo>
                  <a:lnTo>
                    <a:pt x="1073" y="584"/>
                  </a:lnTo>
                  <a:lnTo>
                    <a:pt x="1073" y="579"/>
                  </a:lnTo>
                  <a:lnTo>
                    <a:pt x="1073" y="569"/>
                  </a:lnTo>
                  <a:lnTo>
                    <a:pt x="1073" y="564"/>
                  </a:lnTo>
                  <a:lnTo>
                    <a:pt x="1073" y="559"/>
                  </a:lnTo>
                  <a:lnTo>
                    <a:pt x="1078" y="554"/>
                  </a:lnTo>
                  <a:lnTo>
                    <a:pt x="1083" y="549"/>
                  </a:lnTo>
                  <a:lnTo>
                    <a:pt x="1088" y="544"/>
                  </a:lnTo>
                  <a:lnTo>
                    <a:pt x="1093" y="539"/>
                  </a:lnTo>
                  <a:lnTo>
                    <a:pt x="1098" y="534"/>
                  </a:lnTo>
                  <a:lnTo>
                    <a:pt x="1103" y="529"/>
                  </a:lnTo>
                  <a:lnTo>
                    <a:pt x="1103" y="524"/>
                  </a:lnTo>
                  <a:lnTo>
                    <a:pt x="1098" y="519"/>
                  </a:lnTo>
                  <a:lnTo>
                    <a:pt x="1098" y="514"/>
                  </a:lnTo>
                  <a:lnTo>
                    <a:pt x="1098" y="509"/>
                  </a:lnTo>
                  <a:lnTo>
                    <a:pt x="1098" y="504"/>
                  </a:lnTo>
                  <a:lnTo>
                    <a:pt x="1103" y="500"/>
                  </a:lnTo>
                  <a:lnTo>
                    <a:pt x="1108" y="495"/>
                  </a:lnTo>
                  <a:lnTo>
                    <a:pt x="1113" y="490"/>
                  </a:lnTo>
                  <a:lnTo>
                    <a:pt x="1123" y="485"/>
                  </a:lnTo>
                  <a:lnTo>
                    <a:pt x="1128" y="480"/>
                  </a:lnTo>
                  <a:lnTo>
                    <a:pt x="1128" y="475"/>
                  </a:lnTo>
                  <a:lnTo>
                    <a:pt x="1128" y="470"/>
                  </a:lnTo>
                  <a:lnTo>
                    <a:pt x="1123" y="465"/>
                  </a:lnTo>
                  <a:lnTo>
                    <a:pt x="1123" y="455"/>
                  </a:lnTo>
                  <a:lnTo>
                    <a:pt x="1123" y="450"/>
                  </a:lnTo>
                  <a:lnTo>
                    <a:pt x="1123" y="445"/>
                  </a:lnTo>
                  <a:lnTo>
                    <a:pt x="1128" y="440"/>
                  </a:lnTo>
                  <a:lnTo>
                    <a:pt x="1138" y="435"/>
                  </a:lnTo>
                  <a:lnTo>
                    <a:pt x="1143" y="430"/>
                  </a:lnTo>
                  <a:lnTo>
                    <a:pt x="1147" y="425"/>
                  </a:lnTo>
                  <a:lnTo>
                    <a:pt x="1152" y="425"/>
                  </a:lnTo>
                  <a:lnTo>
                    <a:pt x="1152" y="416"/>
                  </a:lnTo>
                  <a:lnTo>
                    <a:pt x="1152" y="411"/>
                  </a:lnTo>
                  <a:lnTo>
                    <a:pt x="1147" y="406"/>
                  </a:lnTo>
                  <a:lnTo>
                    <a:pt x="1147" y="401"/>
                  </a:lnTo>
                  <a:lnTo>
                    <a:pt x="1147" y="396"/>
                  </a:lnTo>
                  <a:lnTo>
                    <a:pt x="1152" y="391"/>
                  </a:lnTo>
                  <a:lnTo>
                    <a:pt x="1152" y="381"/>
                  </a:lnTo>
                  <a:lnTo>
                    <a:pt x="1157" y="376"/>
                  </a:lnTo>
                  <a:lnTo>
                    <a:pt x="1152" y="371"/>
                  </a:lnTo>
                  <a:lnTo>
                    <a:pt x="1147" y="366"/>
                  </a:lnTo>
                  <a:lnTo>
                    <a:pt x="1143" y="361"/>
                  </a:lnTo>
                  <a:lnTo>
                    <a:pt x="1138" y="366"/>
                  </a:lnTo>
                  <a:lnTo>
                    <a:pt x="1138" y="371"/>
                  </a:lnTo>
                  <a:lnTo>
                    <a:pt x="1138" y="381"/>
                  </a:lnTo>
                  <a:lnTo>
                    <a:pt x="1133" y="386"/>
                  </a:lnTo>
                  <a:lnTo>
                    <a:pt x="1133" y="391"/>
                  </a:lnTo>
                  <a:lnTo>
                    <a:pt x="1128" y="396"/>
                  </a:lnTo>
                  <a:lnTo>
                    <a:pt x="1128" y="401"/>
                  </a:lnTo>
                  <a:lnTo>
                    <a:pt x="1123" y="406"/>
                  </a:lnTo>
                  <a:lnTo>
                    <a:pt x="1118" y="411"/>
                  </a:lnTo>
                  <a:lnTo>
                    <a:pt x="1113" y="416"/>
                  </a:lnTo>
                  <a:lnTo>
                    <a:pt x="1108" y="420"/>
                  </a:lnTo>
                  <a:lnTo>
                    <a:pt x="1108" y="425"/>
                  </a:lnTo>
                  <a:lnTo>
                    <a:pt x="1108" y="430"/>
                  </a:lnTo>
                  <a:lnTo>
                    <a:pt x="1108" y="440"/>
                  </a:lnTo>
                  <a:lnTo>
                    <a:pt x="1108" y="445"/>
                  </a:lnTo>
                  <a:lnTo>
                    <a:pt x="1103" y="450"/>
                  </a:lnTo>
                  <a:lnTo>
                    <a:pt x="1103" y="455"/>
                  </a:lnTo>
                  <a:lnTo>
                    <a:pt x="1098" y="460"/>
                  </a:lnTo>
                  <a:lnTo>
                    <a:pt x="1093" y="465"/>
                  </a:lnTo>
                  <a:lnTo>
                    <a:pt x="1088" y="470"/>
                  </a:lnTo>
                  <a:lnTo>
                    <a:pt x="1083" y="475"/>
                  </a:lnTo>
                  <a:lnTo>
                    <a:pt x="1083" y="480"/>
                  </a:lnTo>
                  <a:lnTo>
                    <a:pt x="1078" y="485"/>
                  </a:lnTo>
                  <a:lnTo>
                    <a:pt x="1078" y="490"/>
                  </a:lnTo>
                  <a:lnTo>
                    <a:pt x="1078" y="500"/>
                  </a:lnTo>
                  <a:lnTo>
                    <a:pt x="1078" y="504"/>
                  </a:lnTo>
                  <a:lnTo>
                    <a:pt x="1073" y="509"/>
                  </a:lnTo>
                  <a:lnTo>
                    <a:pt x="1073" y="514"/>
                  </a:lnTo>
                  <a:lnTo>
                    <a:pt x="1068" y="519"/>
                  </a:lnTo>
                  <a:lnTo>
                    <a:pt x="1063" y="524"/>
                  </a:lnTo>
                  <a:lnTo>
                    <a:pt x="1058" y="529"/>
                  </a:lnTo>
                  <a:lnTo>
                    <a:pt x="1053" y="534"/>
                  </a:lnTo>
                  <a:lnTo>
                    <a:pt x="1053" y="539"/>
                  </a:lnTo>
                  <a:lnTo>
                    <a:pt x="1053" y="544"/>
                  </a:lnTo>
                  <a:lnTo>
                    <a:pt x="1053" y="549"/>
                  </a:lnTo>
                  <a:lnTo>
                    <a:pt x="1053" y="559"/>
                  </a:lnTo>
                  <a:lnTo>
                    <a:pt x="1053" y="564"/>
                  </a:lnTo>
                  <a:lnTo>
                    <a:pt x="1053" y="569"/>
                  </a:lnTo>
                  <a:lnTo>
                    <a:pt x="1053" y="574"/>
                  </a:lnTo>
                  <a:lnTo>
                    <a:pt x="1053" y="579"/>
                  </a:lnTo>
                  <a:lnTo>
                    <a:pt x="1053" y="584"/>
                  </a:lnTo>
                  <a:lnTo>
                    <a:pt x="1049" y="593"/>
                  </a:lnTo>
                  <a:lnTo>
                    <a:pt x="1049" y="598"/>
                  </a:lnTo>
                  <a:lnTo>
                    <a:pt x="1049" y="603"/>
                  </a:lnTo>
                  <a:lnTo>
                    <a:pt x="1049" y="608"/>
                  </a:lnTo>
                  <a:lnTo>
                    <a:pt x="1049" y="613"/>
                  </a:lnTo>
                  <a:lnTo>
                    <a:pt x="1049" y="618"/>
                  </a:lnTo>
                  <a:lnTo>
                    <a:pt x="1049" y="628"/>
                  </a:lnTo>
                  <a:lnTo>
                    <a:pt x="1049" y="633"/>
                  </a:lnTo>
                  <a:lnTo>
                    <a:pt x="1049" y="638"/>
                  </a:lnTo>
                  <a:lnTo>
                    <a:pt x="1049" y="643"/>
                  </a:lnTo>
                  <a:lnTo>
                    <a:pt x="1044" y="648"/>
                  </a:lnTo>
                  <a:lnTo>
                    <a:pt x="1044" y="653"/>
                  </a:lnTo>
                  <a:lnTo>
                    <a:pt x="1044" y="663"/>
                  </a:lnTo>
                  <a:lnTo>
                    <a:pt x="1044" y="668"/>
                  </a:lnTo>
                  <a:lnTo>
                    <a:pt x="1044" y="673"/>
                  </a:lnTo>
                  <a:lnTo>
                    <a:pt x="1049" y="677"/>
                  </a:lnTo>
                  <a:lnTo>
                    <a:pt x="1049" y="682"/>
                  </a:lnTo>
                  <a:lnTo>
                    <a:pt x="1053" y="687"/>
                  </a:lnTo>
                  <a:lnTo>
                    <a:pt x="1063" y="692"/>
                  </a:lnTo>
                  <a:lnTo>
                    <a:pt x="1068" y="697"/>
                  </a:lnTo>
                  <a:lnTo>
                    <a:pt x="1073" y="702"/>
                  </a:lnTo>
                  <a:lnTo>
                    <a:pt x="1073" y="707"/>
                  </a:lnTo>
                  <a:lnTo>
                    <a:pt x="1078" y="712"/>
                  </a:lnTo>
                  <a:lnTo>
                    <a:pt x="1078" y="717"/>
                  </a:lnTo>
                  <a:lnTo>
                    <a:pt x="1073" y="727"/>
                  </a:lnTo>
                  <a:lnTo>
                    <a:pt x="1073" y="732"/>
                  </a:lnTo>
                  <a:lnTo>
                    <a:pt x="1068" y="737"/>
                  </a:lnTo>
                  <a:lnTo>
                    <a:pt x="1063" y="737"/>
                  </a:lnTo>
                  <a:lnTo>
                    <a:pt x="1053" y="737"/>
                  </a:lnTo>
                  <a:lnTo>
                    <a:pt x="1049" y="732"/>
                  </a:lnTo>
                  <a:lnTo>
                    <a:pt x="1049" y="722"/>
                  </a:lnTo>
                  <a:lnTo>
                    <a:pt x="1049" y="717"/>
                  </a:lnTo>
                  <a:lnTo>
                    <a:pt x="1049" y="712"/>
                  </a:lnTo>
                  <a:lnTo>
                    <a:pt x="1053" y="707"/>
                  </a:lnTo>
                  <a:lnTo>
                    <a:pt x="1058" y="702"/>
                  </a:lnTo>
                  <a:lnTo>
                    <a:pt x="1063" y="697"/>
                  </a:lnTo>
                  <a:lnTo>
                    <a:pt x="1058" y="692"/>
                  </a:lnTo>
                  <a:lnTo>
                    <a:pt x="1053" y="682"/>
                  </a:lnTo>
                  <a:lnTo>
                    <a:pt x="1049" y="677"/>
                  </a:lnTo>
                  <a:lnTo>
                    <a:pt x="1039" y="677"/>
                  </a:lnTo>
                  <a:lnTo>
                    <a:pt x="1034" y="677"/>
                  </a:lnTo>
                  <a:lnTo>
                    <a:pt x="1029" y="682"/>
                  </a:lnTo>
                  <a:lnTo>
                    <a:pt x="1029" y="687"/>
                  </a:lnTo>
                  <a:lnTo>
                    <a:pt x="1029" y="697"/>
                  </a:lnTo>
                  <a:lnTo>
                    <a:pt x="1029" y="702"/>
                  </a:lnTo>
                  <a:lnTo>
                    <a:pt x="1029" y="707"/>
                  </a:lnTo>
                  <a:lnTo>
                    <a:pt x="1029" y="712"/>
                  </a:lnTo>
                  <a:lnTo>
                    <a:pt x="1029" y="717"/>
                  </a:lnTo>
                  <a:lnTo>
                    <a:pt x="1024" y="727"/>
                  </a:lnTo>
                  <a:lnTo>
                    <a:pt x="1024" y="732"/>
                  </a:lnTo>
                  <a:lnTo>
                    <a:pt x="1024" y="737"/>
                  </a:lnTo>
                  <a:lnTo>
                    <a:pt x="1024" y="742"/>
                  </a:lnTo>
                  <a:lnTo>
                    <a:pt x="1029" y="747"/>
                  </a:lnTo>
                  <a:lnTo>
                    <a:pt x="1029" y="752"/>
                  </a:lnTo>
                  <a:lnTo>
                    <a:pt x="1029" y="757"/>
                  </a:lnTo>
                  <a:lnTo>
                    <a:pt x="1029" y="766"/>
                  </a:lnTo>
                  <a:lnTo>
                    <a:pt x="1029" y="771"/>
                  </a:lnTo>
                  <a:lnTo>
                    <a:pt x="1024" y="776"/>
                  </a:lnTo>
                  <a:lnTo>
                    <a:pt x="1019" y="781"/>
                  </a:lnTo>
                  <a:lnTo>
                    <a:pt x="1014" y="786"/>
                  </a:lnTo>
                  <a:lnTo>
                    <a:pt x="1009" y="786"/>
                  </a:lnTo>
                  <a:lnTo>
                    <a:pt x="1004" y="781"/>
                  </a:lnTo>
                  <a:lnTo>
                    <a:pt x="1004" y="776"/>
                  </a:lnTo>
                  <a:close/>
                  <a:moveTo>
                    <a:pt x="955" y="589"/>
                  </a:moveTo>
                  <a:lnTo>
                    <a:pt x="955" y="579"/>
                  </a:lnTo>
                  <a:lnTo>
                    <a:pt x="955" y="579"/>
                  </a:lnTo>
                  <a:lnTo>
                    <a:pt x="960" y="579"/>
                  </a:lnTo>
                  <a:lnTo>
                    <a:pt x="960" y="589"/>
                  </a:lnTo>
                  <a:lnTo>
                    <a:pt x="960" y="593"/>
                  </a:lnTo>
                  <a:lnTo>
                    <a:pt x="960" y="598"/>
                  </a:lnTo>
                  <a:lnTo>
                    <a:pt x="960" y="603"/>
                  </a:lnTo>
                  <a:lnTo>
                    <a:pt x="960" y="608"/>
                  </a:lnTo>
                  <a:lnTo>
                    <a:pt x="955" y="608"/>
                  </a:lnTo>
                  <a:lnTo>
                    <a:pt x="955" y="608"/>
                  </a:lnTo>
                  <a:lnTo>
                    <a:pt x="955" y="608"/>
                  </a:lnTo>
                  <a:lnTo>
                    <a:pt x="955" y="603"/>
                  </a:lnTo>
                  <a:lnTo>
                    <a:pt x="955" y="593"/>
                  </a:lnTo>
                  <a:lnTo>
                    <a:pt x="955" y="589"/>
                  </a:lnTo>
                  <a:close/>
                  <a:moveTo>
                    <a:pt x="1405" y="480"/>
                  </a:moveTo>
                  <a:lnTo>
                    <a:pt x="1410" y="475"/>
                  </a:lnTo>
                  <a:lnTo>
                    <a:pt x="1410" y="475"/>
                  </a:lnTo>
                  <a:lnTo>
                    <a:pt x="1410" y="470"/>
                  </a:lnTo>
                  <a:lnTo>
                    <a:pt x="1415" y="465"/>
                  </a:lnTo>
                  <a:lnTo>
                    <a:pt x="1415" y="465"/>
                  </a:lnTo>
                  <a:lnTo>
                    <a:pt x="1419" y="460"/>
                  </a:lnTo>
                  <a:lnTo>
                    <a:pt x="1419" y="455"/>
                  </a:lnTo>
                  <a:lnTo>
                    <a:pt x="1424" y="450"/>
                  </a:lnTo>
                  <a:lnTo>
                    <a:pt x="1429" y="450"/>
                  </a:lnTo>
                  <a:lnTo>
                    <a:pt x="1429" y="445"/>
                  </a:lnTo>
                  <a:lnTo>
                    <a:pt x="1434" y="445"/>
                  </a:lnTo>
                  <a:lnTo>
                    <a:pt x="1439" y="445"/>
                  </a:lnTo>
                  <a:lnTo>
                    <a:pt x="1444" y="450"/>
                  </a:lnTo>
                  <a:lnTo>
                    <a:pt x="1449" y="455"/>
                  </a:lnTo>
                  <a:lnTo>
                    <a:pt x="1449" y="455"/>
                  </a:lnTo>
                  <a:lnTo>
                    <a:pt x="1444" y="460"/>
                  </a:lnTo>
                  <a:lnTo>
                    <a:pt x="1439" y="460"/>
                  </a:lnTo>
                  <a:lnTo>
                    <a:pt x="1434" y="465"/>
                  </a:lnTo>
                  <a:lnTo>
                    <a:pt x="1429" y="465"/>
                  </a:lnTo>
                  <a:lnTo>
                    <a:pt x="1424" y="470"/>
                  </a:lnTo>
                  <a:lnTo>
                    <a:pt x="1419" y="470"/>
                  </a:lnTo>
                  <a:lnTo>
                    <a:pt x="1415" y="475"/>
                  </a:lnTo>
                  <a:lnTo>
                    <a:pt x="1415" y="480"/>
                  </a:lnTo>
                  <a:lnTo>
                    <a:pt x="1410" y="485"/>
                  </a:lnTo>
                  <a:lnTo>
                    <a:pt x="1410" y="485"/>
                  </a:lnTo>
                  <a:lnTo>
                    <a:pt x="1405" y="480"/>
                  </a:lnTo>
                  <a:close/>
                  <a:moveTo>
                    <a:pt x="1593" y="425"/>
                  </a:moveTo>
                  <a:lnTo>
                    <a:pt x="1593" y="425"/>
                  </a:lnTo>
                  <a:lnTo>
                    <a:pt x="1598" y="420"/>
                  </a:lnTo>
                  <a:lnTo>
                    <a:pt x="1598" y="416"/>
                  </a:lnTo>
                  <a:lnTo>
                    <a:pt x="1602" y="416"/>
                  </a:lnTo>
                  <a:lnTo>
                    <a:pt x="1607" y="411"/>
                  </a:lnTo>
                  <a:lnTo>
                    <a:pt x="1607" y="411"/>
                  </a:lnTo>
                  <a:lnTo>
                    <a:pt x="1612" y="406"/>
                  </a:lnTo>
                  <a:lnTo>
                    <a:pt x="1612" y="401"/>
                  </a:lnTo>
                  <a:lnTo>
                    <a:pt x="1617" y="396"/>
                  </a:lnTo>
                  <a:lnTo>
                    <a:pt x="1617" y="396"/>
                  </a:lnTo>
                  <a:lnTo>
                    <a:pt x="1622" y="391"/>
                  </a:lnTo>
                  <a:lnTo>
                    <a:pt x="1627" y="396"/>
                  </a:lnTo>
                  <a:lnTo>
                    <a:pt x="1632" y="401"/>
                  </a:lnTo>
                  <a:lnTo>
                    <a:pt x="1627" y="401"/>
                  </a:lnTo>
                  <a:lnTo>
                    <a:pt x="1627" y="406"/>
                  </a:lnTo>
                  <a:lnTo>
                    <a:pt x="1622" y="406"/>
                  </a:lnTo>
                  <a:lnTo>
                    <a:pt x="1617" y="411"/>
                  </a:lnTo>
                  <a:lnTo>
                    <a:pt x="1612" y="411"/>
                  </a:lnTo>
                  <a:lnTo>
                    <a:pt x="1607" y="416"/>
                  </a:lnTo>
                  <a:lnTo>
                    <a:pt x="1607" y="416"/>
                  </a:lnTo>
                  <a:lnTo>
                    <a:pt x="1602" y="420"/>
                  </a:lnTo>
                  <a:lnTo>
                    <a:pt x="1602" y="425"/>
                  </a:lnTo>
                  <a:lnTo>
                    <a:pt x="1598" y="430"/>
                  </a:lnTo>
                  <a:lnTo>
                    <a:pt x="1598" y="430"/>
                  </a:lnTo>
                  <a:lnTo>
                    <a:pt x="1593" y="430"/>
                  </a:lnTo>
                  <a:lnTo>
                    <a:pt x="1593" y="425"/>
                  </a:lnTo>
                  <a:close/>
                  <a:moveTo>
                    <a:pt x="198" y="371"/>
                  </a:moveTo>
                  <a:lnTo>
                    <a:pt x="183" y="371"/>
                  </a:lnTo>
                  <a:lnTo>
                    <a:pt x="183" y="391"/>
                  </a:lnTo>
                  <a:lnTo>
                    <a:pt x="198" y="371"/>
                  </a:lnTo>
                  <a:close/>
                  <a:moveTo>
                    <a:pt x="233" y="346"/>
                  </a:moveTo>
                  <a:lnTo>
                    <a:pt x="213" y="346"/>
                  </a:lnTo>
                  <a:lnTo>
                    <a:pt x="213" y="361"/>
                  </a:lnTo>
                  <a:lnTo>
                    <a:pt x="233" y="346"/>
                  </a:lnTo>
                  <a:close/>
                  <a:moveTo>
                    <a:pt x="1177" y="346"/>
                  </a:moveTo>
                  <a:lnTo>
                    <a:pt x="1177" y="336"/>
                  </a:lnTo>
                  <a:lnTo>
                    <a:pt x="1177" y="327"/>
                  </a:lnTo>
                  <a:lnTo>
                    <a:pt x="1172" y="322"/>
                  </a:lnTo>
                  <a:lnTo>
                    <a:pt x="1167" y="322"/>
                  </a:lnTo>
                  <a:lnTo>
                    <a:pt x="1162" y="322"/>
                  </a:lnTo>
                  <a:lnTo>
                    <a:pt x="1157" y="331"/>
                  </a:lnTo>
                  <a:lnTo>
                    <a:pt x="1152" y="336"/>
                  </a:lnTo>
                  <a:lnTo>
                    <a:pt x="1152" y="346"/>
                  </a:lnTo>
                  <a:lnTo>
                    <a:pt x="1157" y="351"/>
                  </a:lnTo>
                  <a:lnTo>
                    <a:pt x="1162" y="361"/>
                  </a:lnTo>
                  <a:lnTo>
                    <a:pt x="1167" y="366"/>
                  </a:lnTo>
                  <a:lnTo>
                    <a:pt x="1172" y="361"/>
                  </a:lnTo>
                  <a:lnTo>
                    <a:pt x="1177" y="356"/>
                  </a:lnTo>
                  <a:lnTo>
                    <a:pt x="1177" y="346"/>
                  </a:lnTo>
                  <a:close/>
                  <a:moveTo>
                    <a:pt x="1677" y="292"/>
                  </a:moveTo>
                  <a:lnTo>
                    <a:pt x="1672" y="292"/>
                  </a:lnTo>
                  <a:lnTo>
                    <a:pt x="1667" y="292"/>
                  </a:lnTo>
                  <a:lnTo>
                    <a:pt x="1667" y="297"/>
                  </a:lnTo>
                  <a:lnTo>
                    <a:pt x="1662" y="297"/>
                  </a:lnTo>
                  <a:lnTo>
                    <a:pt x="1667" y="302"/>
                  </a:lnTo>
                  <a:lnTo>
                    <a:pt x="1667" y="307"/>
                  </a:lnTo>
                  <a:lnTo>
                    <a:pt x="1672" y="307"/>
                  </a:lnTo>
                  <a:lnTo>
                    <a:pt x="1677" y="312"/>
                  </a:lnTo>
                  <a:lnTo>
                    <a:pt x="1677" y="312"/>
                  </a:lnTo>
                  <a:lnTo>
                    <a:pt x="1677" y="312"/>
                  </a:lnTo>
                  <a:lnTo>
                    <a:pt x="1677" y="307"/>
                  </a:lnTo>
                  <a:lnTo>
                    <a:pt x="1677" y="302"/>
                  </a:lnTo>
                  <a:lnTo>
                    <a:pt x="1677" y="297"/>
                  </a:lnTo>
                  <a:lnTo>
                    <a:pt x="1677" y="292"/>
                  </a:lnTo>
                  <a:close/>
                  <a:moveTo>
                    <a:pt x="866" y="267"/>
                  </a:moveTo>
                  <a:lnTo>
                    <a:pt x="871" y="262"/>
                  </a:lnTo>
                  <a:lnTo>
                    <a:pt x="875" y="257"/>
                  </a:lnTo>
                  <a:lnTo>
                    <a:pt x="880" y="257"/>
                  </a:lnTo>
                  <a:lnTo>
                    <a:pt x="890" y="257"/>
                  </a:lnTo>
                  <a:lnTo>
                    <a:pt x="895" y="262"/>
                  </a:lnTo>
                  <a:lnTo>
                    <a:pt x="900" y="267"/>
                  </a:lnTo>
                  <a:lnTo>
                    <a:pt x="900" y="272"/>
                  </a:lnTo>
                  <a:lnTo>
                    <a:pt x="895" y="277"/>
                  </a:lnTo>
                  <a:lnTo>
                    <a:pt x="885" y="282"/>
                  </a:lnTo>
                  <a:lnTo>
                    <a:pt x="880" y="282"/>
                  </a:lnTo>
                  <a:lnTo>
                    <a:pt x="875" y="282"/>
                  </a:lnTo>
                  <a:lnTo>
                    <a:pt x="871" y="282"/>
                  </a:lnTo>
                  <a:lnTo>
                    <a:pt x="871" y="272"/>
                  </a:lnTo>
                  <a:lnTo>
                    <a:pt x="866" y="267"/>
                  </a:lnTo>
                  <a:close/>
                  <a:moveTo>
                    <a:pt x="1583" y="267"/>
                  </a:moveTo>
                  <a:lnTo>
                    <a:pt x="1578" y="262"/>
                  </a:lnTo>
                  <a:lnTo>
                    <a:pt x="1568" y="262"/>
                  </a:lnTo>
                  <a:lnTo>
                    <a:pt x="1563" y="262"/>
                  </a:lnTo>
                  <a:lnTo>
                    <a:pt x="1558" y="262"/>
                  </a:lnTo>
                  <a:lnTo>
                    <a:pt x="1548" y="262"/>
                  </a:lnTo>
                  <a:lnTo>
                    <a:pt x="1543" y="267"/>
                  </a:lnTo>
                  <a:lnTo>
                    <a:pt x="1533" y="267"/>
                  </a:lnTo>
                  <a:lnTo>
                    <a:pt x="1533" y="267"/>
                  </a:lnTo>
                  <a:lnTo>
                    <a:pt x="1533" y="272"/>
                  </a:lnTo>
                  <a:lnTo>
                    <a:pt x="1538" y="277"/>
                  </a:lnTo>
                  <a:lnTo>
                    <a:pt x="1548" y="282"/>
                  </a:lnTo>
                  <a:lnTo>
                    <a:pt x="1553" y="287"/>
                  </a:lnTo>
                  <a:lnTo>
                    <a:pt x="1558" y="287"/>
                  </a:lnTo>
                  <a:lnTo>
                    <a:pt x="1563" y="287"/>
                  </a:lnTo>
                  <a:lnTo>
                    <a:pt x="1568" y="287"/>
                  </a:lnTo>
                  <a:lnTo>
                    <a:pt x="1573" y="287"/>
                  </a:lnTo>
                  <a:lnTo>
                    <a:pt x="1578" y="282"/>
                  </a:lnTo>
                  <a:lnTo>
                    <a:pt x="1578" y="277"/>
                  </a:lnTo>
                  <a:lnTo>
                    <a:pt x="1583" y="272"/>
                  </a:lnTo>
                  <a:lnTo>
                    <a:pt x="1583" y="267"/>
                  </a:lnTo>
                  <a:close/>
                  <a:moveTo>
                    <a:pt x="1647" y="267"/>
                  </a:moveTo>
                  <a:lnTo>
                    <a:pt x="1647" y="267"/>
                  </a:lnTo>
                  <a:lnTo>
                    <a:pt x="1647" y="267"/>
                  </a:lnTo>
                  <a:lnTo>
                    <a:pt x="1647" y="267"/>
                  </a:lnTo>
                  <a:lnTo>
                    <a:pt x="1642" y="267"/>
                  </a:lnTo>
                  <a:lnTo>
                    <a:pt x="1647" y="267"/>
                  </a:lnTo>
                  <a:lnTo>
                    <a:pt x="1647" y="267"/>
                  </a:lnTo>
                  <a:lnTo>
                    <a:pt x="1647" y="272"/>
                  </a:lnTo>
                  <a:lnTo>
                    <a:pt x="1647" y="272"/>
                  </a:lnTo>
                  <a:lnTo>
                    <a:pt x="1647" y="272"/>
                  </a:lnTo>
                  <a:lnTo>
                    <a:pt x="1647" y="272"/>
                  </a:lnTo>
                  <a:lnTo>
                    <a:pt x="1647" y="272"/>
                  </a:lnTo>
                  <a:lnTo>
                    <a:pt x="1647" y="267"/>
                  </a:lnTo>
                  <a:lnTo>
                    <a:pt x="1647" y="267"/>
                  </a:lnTo>
                  <a:lnTo>
                    <a:pt x="1647" y="267"/>
                  </a:lnTo>
                  <a:close/>
                  <a:moveTo>
                    <a:pt x="905" y="238"/>
                  </a:moveTo>
                  <a:lnTo>
                    <a:pt x="910" y="238"/>
                  </a:lnTo>
                  <a:lnTo>
                    <a:pt x="915" y="233"/>
                  </a:lnTo>
                  <a:lnTo>
                    <a:pt x="920" y="228"/>
                  </a:lnTo>
                  <a:lnTo>
                    <a:pt x="925" y="223"/>
                  </a:lnTo>
                  <a:lnTo>
                    <a:pt x="930" y="218"/>
                  </a:lnTo>
                  <a:lnTo>
                    <a:pt x="935" y="213"/>
                  </a:lnTo>
                  <a:lnTo>
                    <a:pt x="935" y="208"/>
                  </a:lnTo>
                  <a:lnTo>
                    <a:pt x="940" y="203"/>
                  </a:lnTo>
                  <a:lnTo>
                    <a:pt x="945" y="198"/>
                  </a:lnTo>
                  <a:lnTo>
                    <a:pt x="950" y="193"/>
                  </a:lnTo>
                  <a:lnTo>
                    <a:pt x="955" y="193"/>
                  </a:lnTo>
                  <a:lnTo>
                    <a:pt x="960" y="188"/>
                  </a:lnTo>
                  <a:lnTo>
                    <a:pt x="964" y="188"/>
                  </a:lnTo>
                  <a:lnTo>
                    <a:pt x="969" y="183"/>
                  </a:lnTo>
                  <a:lnTo>
                    <a:pt x="974" y="178"/>
                  </a:lnTo>
                  <a:lnTo>
                    <a:pt x="979" y="173"/>
                  </a:lnTo>
                  <a:lnTo>
                    <a:pt x="984" y="168"/>
                  </a:lnTo>
                  <a:lnTo>
                    <a:pt x="989" y="168"/>
                  </a:lnTo>
                  <a:lnTo>
                    <a:pt x="994" y="163"/>
                  </a:lnTo>
                  <a:lnTo>
                    <a:pt x="1004" y="163"/>
                  </a:lnTo>
                  <a:lnTo>
                    <a:pt x="1014" y="163"/>
                  </a:lnTo>
                  <a:lnTo>
                    <a:pt x="1019" y="159"/>
                  </a:lnTo>
                  <a:lnTo>
                    <a:pt x="1029" y="159"/>
                  </a:lnTo>
                  <a:lnTo>
                    <a:pt x="1034" y="154"/>
                  </a:lnTo>
                  <a:lnTo>
                    <a:pt x="1039" y="154"/>
                  </a:lnTo>
                  <a:lnTo>
                    <a:pt x="1044" y="149"/>
                  </a:lnTo>
                  <a:lnTo>
                    <a:pt x="1053" y="149"/>
                  </a:lnTo>
                  <a:lnTo>
                    <a:pt x="1063" y="144"/>
                  </a:lnTo>
                  <a:lnTo>
                    <a:pt x="1068" y="149"/>
                  </a:lnTo>
                  <a:lnTo>
                    <a:pt x="1073" y="149"/>
                  </a:lnTo>
                  <a:lnTo>
                    <a:pt x="1078" y="154"/>
                  </a:lnTo>
                  <a:lnTo>
                    <a:pt x="1088" y="159"/>
                  </a:lnTo>
                  <a:lnTo>
                    <a:pt x="1088" y="159"/>
                  </a:lnTo>
                  <a:lnTo>
                    <a:pt x="1083" y="163"/>
                  </a:lnTo>
                  <a:lnTo>
                    <a:pt x="1078" y="168"/>
                  </a:lnTo>
                  <a:lnTo>
                    <a:pt x="1068" y="168"/>
                  </a:lnTo>
                  <a:lnTo>
                    <a:pt x="1063" y="168"/>
                  </a:lnTo>
                  <a:lnTo>
                    <a:pt x="1053" y="168"/>
                  </a:lnTo>
                  <a:lnTo>
                    <a:pt x="1044" y="168"/>
                  </a:lnTo>
                  <a:lnTo>
                    <a:pt x="1039" y="168"/>
                  </a:lnTo>
                  <a:lnTo>
                    <a:pt x="1034" y="168"/>
                  </a:lnTo>
                  <a:lnTo>
                    <a:pt x="1034" y="173"/>
                  </a:lnTo>
                  <a:lnTo>
                    <a:pt x="1034" y="178"/>
                  </a:lnTo>
                  <a:lnTo>
                    <a:pt x="1034" y="188"/>
                  </a:lnTo>
                  <a:lnTo>
                    <a:pt x="1034" y="193"/>
                  </a:lnTo>
                  <a:lnTo>
                    <a:pt x="1034" y="198"/>
                  </a:lnTo>
                  <a:lnTo>
                    <a:pt x="1034" y="203"/>
                  </a:lnTo>
                  <a:lnTo>
                    <a:pt x="1034" y="208"/>
                  </a:lnTo>
                  <a:lnTo>
                    <a:pt x="1044" y="208"/>
                  </a:lnTo>
                  <a:lnTo>
                    <a:pt x="1049" y="213"/>
                  </a:lnTo>
                  <a:lnTo>
                    <a:pt x="1044" y="218"/>
                  </a:lnTo>
                  <a:lnTo>
                    <a:pt x="1034" y="218"/>
                  </a:lnTo>
                  <a:lnTo>
                    <a:pt x="1029" y="223"/>
                  </a:lnTo>
                  <a:lnTo>
                    <a:pt x="1019" y="228"/>
                  </a:lnTo>
                  <a:lnTo>
                    <a:pt x="1014" y="228"/>
                  </a:lnTo>
                  <a:lnTo>
                    <a:pt x="1009" y="233"/>
                  </a:lnTo>
                  <a:lnTo>
                    <a:pt x="1004" y="233"/>
                  </a:lnTo>
                  <a:lnTo>
                    <a:pt x="994" y="238"/>
                  </a:lnTo>
                  <a:lnTo>
                    <a:pt x="989" y="238"/>
                  </a:lnTo>
                  <a:lnTo>
                    <a:pt x="984" y="243"/>
                  </a:lnTo>
                  <a:lnTo>
                    <a:pt x="974" y="243"/>
                  </a:lnTo>
                  <a:lnTo>
                    <a:pt x="969" y="247"/>
                  </a:lnTo>
                  <a:lnTo>
                    <a:pt x="960" y="247"/>
                  </a:lnTo>
                  <a:lnTo>
                    <a:pt x="955" y="252"/>
                  </a:lnTo>
                  <a:lnTo>
                    <a:pt x="950" y="257"/>
                  </a:lnTo>
                  <a:lnTo>
                    <a:pt x="945" y="257"/>
                  </a:lnTo>
                  <a:lnTo>
                    <a:pt x="935" y="262"/>
                  </a:lnTo>
                  <a:lnTo>
                    <a:pt x="930" y="267"/>
                  </a:lnTo>
                  <a:lnTo>
                    <a:pt x="925" y="267"/>
                  </a:lnTo>
                  <a:lnTo>
                    <a:pt x="920" y="262"/>
                  </a:lnTo>
                  <a:lnTo>
                    <a:pt x="915" y="262"/>
                  </a:lnTo>
                  <a:lnTo>
                    <a:pt x="915" y="252"/>
                  </a:lnTo>
                  <a:lnTo>
                    <a:pt x="910" y="247"/>
                  </a:lnTo>
                  <a:lnTo>
                    <a:pt x="905" y="238"/>
                  </a:lnTo>
                  <a:close/>
                  <a:moveTo>
                    <a:pt x="1607" y="238"/>
                  </a:moveTo>
                  <a:lnTo>
                    <a:pt x="1607" y="238"/>
                  </a:lnTo>
                  <a:lnTo>
                    <a:pt x="1602" y="238"/>
                  </a:lnTo>
                  <a:lnTo>
                    <a:pt x="1602" y="238"/>
                  </a:lnTo>
                  <a:lnTo>
                    <a:pt x="1598" y="238"/>
                  </a:lnTo>
                  <a:lnTo>
                    <a:pt x="1598" y="238"/>
                  </a:lnTo>
                  <a:lnTo>
                    <a:pt x="1598" y="238"/>
                  </a:lnTo>
                  <a:lnTo>
                    <a:pt x="1593" y="243"/>
                  </a:lnTo>
                  <a:lnTo>
                    <a:pt x="1598" y="243"/>
                  </a:lnTo>
                  <a:lnTo>
                    <a:pt x="1598" y="243"/>
                  </a:lnTo>
                  <a:lnTo>
                    <a:pt x="1598" y="243"/>
                  </a:lnTo>
                  <a:lnTo>
                    <a:pt x="1602" y="243"/>
                  </a:lnTo>
                  <a:lnTo>
                    <a:pt x="1602" y="243"/>
                  </a:lnTo>
                  <a:lnTo>
                    <a:pt x="1602" y="243"/>
                  </a:lnTo>
                  <a:lnTo>
                    <a:pt x="1607" y="238"/>
                  </a:lnTo>
                  <a:close/>
                  <a:moveTo>
                    <a:pt x="2127" y="238"/>
                  </a:moveTo>
                  <a:lnTo>
                    <a:pt x="2127" y="238"/>
                  </a:lnTo>
                  <a:lnTo>
                    <a:pt x="2127" y="238"/>
                  </a:lnTo>
                  <a:lnTo>
                    <a:pt x="2127" y="238"/>
                  </a:lnTo>
                  <a:lnTo>
                    <a:pt x="2127" y="238"/>
                  </a:lnTo>
                  <a:lnTo>
                    <a:pt x="2127" y="243"/>
                  </a:lnTo>
                  <a:lnTo>
                    <a:pt x="2127" y="243"/>
                  </a:lnTo>
                  <a:lnTo>
                    <a:pt x="2127" y="247"/>
                  </a:lnTo>
                  <a:lnTo>
                    <a:pt x="2127" y="247"/>
                  </a:lnTo>
                  <a:lnTo>
                    <a:pt x="2127" y="247"/>
                  </a:lnTo>
                  <a:lnTo>
                    <a:pt x="2127" y="247"/>
                  </a:lnTo>
                  <a:lnTo>
                    <a:pt x="2127" y="247"/>
                  </a:lnTo>
                  <a:lnTo>
                    <a:pt x="2127" y="243"/>
                  </a:lnTo>
                  <a:lnTo>
                    <a:pt x="2127" y="243"/>
                  </a:lnTo>
                  <a:lnTo>
                    <a:pt x="2127" y="238"/>
                  </a:lnTo>
                  <a:close/>
                  <a:moveTo>
                    <a:pt x="1889" y="213"/>
                  </a:moveTo>
                  <a:lnTo>
                    <a:pt x="1889" y="213"/>
                  </a:lnTo>
                  <a:lnTo>
                    <a:pt x="1884" y="213"/>
                  </a:lnTo>
                  <a:lnTo>
                    <a:pt x="1884" y="218"/>
                  </a:lnTo>
                  <a:lnTo>
                    <a:pt x="1884" y="218"/>
                  </a:lnTo>
                  <a:lnTo>
                    <a:pt x="1884" y="223"/>
                  </a:lnTo>
                  <a:lnTo>
                    <a:pt x="1884" y="223"/>
                  </a:lnTo>
                  <a:lnTo>
                    <a:pt x="1889" y="228"/>
                  </a:lnTo>
                  <a:lnTo>
                    <a:pt x="1889" y="228"/>
                  </a:lnTo>
                  <a:lnTo>
                    <a:pt x="1889" y="228"/>
                  </a:lnTo>
                  <a:lnTo>
                    <a:pt x="1889" y="223"/>
                  </a:lnTo>
                  <a:lnTo>
                    <a:pt x="1889" y="223"/>
                  </a:lnTo>
                  <a:lnTo>
                    <a:pt x="1889" y="218"/>
                  </a:lnTo>
                  <a:lnTo>
                    <a:pt x="1889" y="218"/>
                  </a:lnTo>
                  <a:lnTo>
                    <a:pt x="1889" y="213"/>
                  </a:lnTo>
                  <a:close/>
                  <a:moveTo>
                    <a:pt x="2156" y="213"/>
                  </a:moveTo>
                  <a:lnTo>
                    <a:pt x="2156" y="208"/>
                  </a:lnTo>
                  <a:lnTo>
                    <a:pt x="2156" y="203"/>
                  </a:lnTo>
                  <a:lnTo>
                    <a:pt x="2156" y="198"/>
                  </a:lnTo>
                  <a:lnTo>
                    <a:pt x="2156" y="198"/>
                  </a:lnTo>
                  <a:lnTo>
                    <a:pt x="2151" y="198"/>
                  </a:lnTo>
                  <a:lnTo>
                    <a:pt x="2151" y="198"/>
                  </a:lnTo>
                  <a:lnTo>
                    <a:pt x="2146" y="203"/>
                  </a:lnTo>
                  <a:lnTo>
                    <a:pt x="2142" y="208"/>
                  </a:lnTo>
                  <a:lnTo>
                    <a:pt x="2142" y="208"/>
                  </a:lnTo>
                  <a:lnTo>
                    <a:pt x="2146" y="213"/>
                  </a:lnTo>
                  <a:lnTo>
                    <a:pt x="2151" y="218"/>
                  </a:lnTo>
                  <a:lnTo>
                    <a:pt x="2151" y="218"/>
                  </a:lnTo>
                  <a:lnTo>
                    <a:pt x="2156" y="218"/>
                  </a:lnTo>
                  <a:lnTo>
                    <a:pt x="2156" y="213"/>
                  </a:lnTo>
                  <a:close/>
                  <a:moveTo>
                    <a:pt x="1840" y="188"/>
                  </a:moveTo>
                  <a:lnTo>
                    <a:pt x="1835" y="188"/>
                  </a:lnTo>
                  <a:lnTo>
                    <a:pt x="1835" y="188"/>
                  </a:lnTo>
                  <a:lnTo>
                    <a:pt x="1835" y="188"/>
                  </a:lnTo>
                  <a:lnTo>
                    <a:pt x="1835" y="188"/>
                  </a:lnTo>
                  <a:lnTo>
                    <a:pt x="1835" y="188"/>
                  </a:lnTo>
                  <a:lnTo>
                    <a:pt x="1835" y="188"/>
                  </a:lnTo>
                  <a:lnTo>
                    <a:pt x="1835" y="188"/>
                  </a:lnTo>
                  <a:lnTo>
                    <a:pt x="1835" y="188"/>
                  </a:lnTo>
                  <a:lnTo>
                    <a:pt x="1835" y="188"/>
                  </a:lnTo>
                  <a:lnTo>
                    <a:pt x="1835" y="188"/>
                  </a:lnTo>
                  <a:lnTo>
                    <a:pt x="1835" y="188"/>
                  </a:lnTo>
                  <a:lnTo>
                    <a:pt x="1835" y="188"/>
                  </a:lnTo>
                  <a:lnTo>
                    <a:pt x="1835" y="188"/>
                  </a:lnTo>
                  <a:lnTo>
                    <a:pt x="1840" y="188"/>
                  </a:lnTo>
                  <a:close/>
                  <a:moveTo>
                    <a:pt x="1780" y="159"/>
                  </a:moveTo>
                  <a:lnTo>
                    <a:pt x="1780" y="159"/>
                  </a:lnTo>
                  <a:lnTo>
                    <a:pt x="1780" y="159"/>
                  </a:lnTo>
                  <a:lnTo>
                    <a:pt x="1780" y="159"/>
                  </a:lnTo>
                  <a:lnTo>
                    <a:pt x="1780" y="159"/>
                  </a:lnTo>
                  <a:lnTo>
                    <a:pt x="1780" y="159"/>
                  </a:lnTo>
                  <a:lnTo>
                    <a:pt x="1780" y="159"/>
                  </a:lnTo>
                  <a:lnTo>
                    <a:pt x="1780" y="159"/>
                  </a:lnTo>
                  <a:lnTo>
                    <a:pt x="1780" y="159"/>
                  </a:lnTo>
                  <a:lnTo>
                    <a:pt x="1780" y="159"/>
                  </a:lnTo>
                  <a:lnTo>
                    <a:pt x="1780" y="159"/>
                  </a:lnTo>
                  <a:lnTo>
                    <a:pt x="1780" y="159"/>
                  </a:lnTo>
                  <a:lnTo>
                    <a:pt x="1780" y="159"/>
                  </a:lnTo>
                  <a:lnTo>
                    <a:pt x="1780" y="159"/>
                  </a:lnTo>
                  <a:lnTo>
                    <a:pt x="1780" y="159"/>
                  </a:lnTo>
                  <a:close/>
                  <a:moveTo>
                    <a:pt x="1128" y="134"/>
                  </a:moveTo>
                  <a:lnTo>
                    <a:pt x="1133" y="129"/>
                  </a:lnTo>
                  <a:lnTo>
                    <a:pt x="1138" y="129"/>
                  </a:lnTo>
                  <a:lnTo>
                    <a:pt x="1138" y="124"/>
                  </a:lnTo>
                  <a:lnTo>
                    <a:pt x="1143" y="124"/>
                  </a:lnTo>
                  <a:lnTo>
                    <a:pt x="1147" y="124"/>
                  </a:lnTo>
                  <a:lnTo>
                    <a:pt x="1152" y="124"/>
                  </a:lnTo>
                  <a:lnTo>
                    <a:pt x="1157" y="124"/>
                  </a:lnTo>
                  <a:lnTo>
                    <a:pt x="1162" y="129"/>
                  </a:lnTo>
                  <a:lnTo>
                    <a:pt x="1167" y="129"/>
                  </a:lnTo>
                  <a:lnTo>
                    <a:pt x="1172" y="134"/>
                  </a:lnTo>
                  <a:lnTo>
                    <a:pt x="1167" y="134"/>
                  </a:lnTo>
                  <a:lnTo>
                    <a:pt x="1162" y="139"/>
                  </a:lnTo>
                  <a:lnTo>
                    <a:pt x="1157" y="139"/>
                  </a:lnTo>
                  <a:lnTo>
                    <a:pt x="1152" y="139"/>
                  </a:lnTo>
                  <a:lnTo>
                    <a:pt x="1147" y="139"/>
                  </a:lnTo>
                  <a:lnTo>
                    <a:pt x="1143" y="139"/>
                  </a:lnTo>
                  <a:lnTo>
                    <a:pt x="1138" y="139"/>
                  </a:lnTo>
                  <a:lnTo>
                    <a:pt x="1138" y="139"/>
                  </a:lnTo>
                  <a:lnTo>
                    <a:pt x="1133" y="134"/>
                  </a:lnTo>
                  <a:lnTo>
                    <a:pt x="1128" y="134"/>
                  </a:lnTo>
                  <a:close/>
                  <a:moveTo>
                    <a:pt x="1246" y="104"/>
                  </a:moveTo>
                  <a:lnTo>
                    <a:pt x="1246" y="104"/>
                  </a:lnTo>
                  <a:lnTo>
                    <a:pt x="1246" y="104"/>
                  </a:lnTo>
                  <a:lnTo>
                    <a:pt x="1246" y="104"/>
                  </a:lnTo>
                  <a:lnTo>
                    <a:pt x="1246" y="104"/>
                  </a:lnTo>
                  <a:lnTo>
                    <a:pt x="1251" y="104"/>
                  </a:lnTo>
                  <a:lnTo>
                    <a:pt x="1251" y="104"/>
                  </a:lnTo>
                  <a:lnTo>
                    <a:pt x="1251" y="104"/>
                  </a:lnTo>
                  <a:lnTo>
                    <a:pt x="1251" y="104"/>
                  </a:lnTo>
                  <a:lnTo>
                    <a:pt x="1251" y="109"/>
                  </a:lnTo>
                  <a:lnTo>
                    <a:pt x="1246" y="109"/>
                  </a:lnTo>
                  <a:lnTo>
                    <a:pt x="1246" y="109"/>
                  </a:lnTo>
                  <a:lnTo>
                    <a:pt x="1246" y="109"/>
                  </a:lnTo>
                  <a:lnTo>
                    <a:pt x="1246" y="104"/>
                  </a:lnTo>
                  <a:lnTo>
                    <a:pt x="1246" y="104"/>
                  </a:lnTo>
                  <a:close/>
                </a:path>
              </a:pathLst>
            </a:custGeom>
            <a:solidFill>
              <a:srgbClr val="fff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8" name=""/>
            <p:cNvSpPr/>
            <p:nvPr/>
          </p:nvSpPr>
          <p:spPr>
            <a:xfrm>
              <a:off x="2265120" y="2368440"/>
              <a:ext cx="4098960" cy="2628360"/>
            </a:xfrm>
            <a:custGeom>
              <a:avLst/>
              <a:gdLst/>
              <a:ahLst/>
              <a:rect l="l" t="t" r="r" b="b"/>
              <a:pathLst>
                <a:path w="2582" h="1656">
                  <a:moveTo>
                    <a:pt x="2235" y="1656"/>
                  </a:moveTo>
                  <a:lnTo>
                    <a:pt x="2260" y="1631"/>
                  </a:lnTo>
                  <a:lnTo>
                    <a:pt x="2285" y="1631"/>
                  </a:lnTo>
                  <a:lnTo>
                    <a:pt x="2315" y="1631"/>
                  </a:lnTo>
                  <a:lnTo>
                    <a:pt x="2339" y="1631"/>
                  </a:lnTo>
                  <a:lnTo>
                    <a:pt x="2369" y="1631"/>
                  </a:lnTo>
                  <a:lnTo>
                    <a:pt x="2394" y="1631"/>
                  </a:lnTo>
                  <a:lnTo>
                    <a:pt x="2418" y="1631"/>
                  </a:lnTo>
                  <a:lnTo>
                    <a:pt x="2448" y="1602"/>
                  </a:lnTo>
                  <a:lnTo>
                    <a:pt x="2448" y="1577"/>
                  </a:lnTo>
                  <a:lnTo>
                    <a:pt x="2448" y="1547"/>
                  </a:lnTo>
                  <a:lnTo>
                    <a:pt x="2448" y="1523"/>
                  </a:lnTo>
                  <a:lnTo>
                    <a:pt x="2473" y="1498"/>
                  </a:lnTo>
                  <a:lnTo>
                    <a:pt x="2473" y="1468"/>
                  </a:lnTo>
                  <a:lnTo>
                    <a:pt x="2473" y="1444"/>
                  </a:lnTo>
                  <a:lnTo>
                    <a:pt x="2473" y="1414"/>
                  </a:lnTo>
                  <a:lnTo>
                    <a:pt x="2503" y="1389"/>
                  </a:lnTo>
                  <a:lnTo>
                    <a:pt x="2503" y="1364"/>
                  </a:lnTo>
                  <a:lnTo>
                    <a:pt x="2503" y="1335"/>
                  </a:lnTo>
                  <a:lnTo>
                    <a:pt x="2503" y="1310"/>
                  </a:lnTo>
                  <a:lnTo>
                    <a:pt x="2527" y="1280"/>
                  </a:lnTo>
                  <a:lnTo>
                    <a:pt x="2527" y="1256"/>
                  </a:lnTo>
                  <a:lnTo>
                    <a:pt x="2527" y="1226"/>
                  </a:lnTo>
                  <a:lnTo>
                    <a:pt x="2527" y="1201"/>
                  </a:lnTo>
                  <a:lnTo>
                    <a:pt x="2552" y="1177"/>
                  </a:lnTo>
                  <a:lnTo>
                    <a:pt x="2552" y="1147"/>
                  </a:lnTo>
                  <a:lnTo>
                    <a:pt x="2552" y="1122"/>
                  </a:lnTo>
                  <a:lnTo>
                    <a:pt x="2552" y="1093"/>
                  </a:lnTo>
                  <a:lnTo>
                    <a:pt x="2582" y="1068"/>
                  </a:lnTo>
                  <a:lnTo>
                    <a:pt x="2582" y="1043"/>
                  </a:lnTo>
                  <a:lnTo>
                    <a:pt x="2582" y="1014"/>
                  </a:lnTo>
                  <a:lnTo>
                    <a:pt x="2582" y="989"/>
                  </a:lnTo>
                  <a:lnTo>
                    <a:pt x="2582" y="959"/>
                  </a:lnTo>
                  <a:lnTo>
                    <a:pt x="2582" y="934"/>
                  </a:lnTo>
                  <a:lnTo>
                    <a:pt x="2582" y="910"/>
                  </a:lnTo>
                  <a:lnTo>
                    <a:pt x="2582" y="880"/>
                  </a:lnTo>
                  <a:lnTo>
                    <a:pt x="2582" y="855"/>
                  </a:lnTo>
                  <a:lnTo>
                    <a:pt x="2582" y="826"/>
                  </a:lnTo>
                  <a:lnTo>
                    <a:pt x="2582" y="801"/>
                  </a:lnTo>
                  <a:lnTo>
                    <a:pt x="2582" y="776"/>
                  </a:lnTo>
                  <a:lnTo>
                    <a:pt x="2582" y="747"/>
                  </a:lnTo>
                  <a:lnTo>
                    <a:pt x="2582" y="722"/>
                  </a:lnTo>
                  <a:lnTo>
                    <a:pt x="2582" y="692"/>
                  </a:lnTo>
                  <a:lnTo>
                    <a:pt x="2582" y="668"/>
                  </a:lnTo>
                  <a:lnTo>
                    <a:pt x="2582" y="643"/>
                  </a:lnTo>
                  <a:lnTo>
                    <a:pt x="2582" y="613"/>
                  </a:lnTo>
                  <a:lnTo>
                    <a:pt x="2582" y="589"/>
                  </a:lnTo>
                  <a:lnTo>
                    <a:pt x="2582" y="559"/>
                  </a:lnTo>
                  <a:lnTo>
                    <a:pt x="2582" y="534"/>
                  </a:lnTo>
                  <a:lnTo>
                    <a:pt x="2582" y="504"/>
                  </a:lnTo>
                  <a:lnTo>
                    <a:pt x="2582" y="480"/>
                  </a:lnTo>
                  <a:lnTo>
                    <a:pt x="2582" y="455"/>
                  </a:lnTo>
                  <a:lnTo>
                    <a:pt x="2582" y="425"/>
                  </a:lnTo>
                  <a:lnTo>
                    <a:pt x="2582" y="401"/>
                  </a:lnTo>
                  <a:lnTo>
                    <a:pt x="2582" y="371"/>
                  </a:lnTo>
                  <a:lnTo>
                    <a:pt x="2582" y="346"/>
                  </a:lnTo>
                  <a:lnTo>
                    <a:pt x="2582" y="322"/>
                  </a:lnTo>
                  <a:lnTo>
                    <a:pt x="2582" y="292"/>
                  </a:lnTo>
                  <a:lnTo>
                    <a:pt x="2582" y="267"/>
                  </a:lnTo>
                  <a:lnTo>
                    <a:pt x="2582" y="238"/>
                  </a:lnTo>
                  <a:lnTo>
                    <a:pt x="2552" y="213"/>
                  </a:lnTo>
                  <a:lnTo>
                    <a:pt x="2552" y="188"/>
                  </a:lnTo>
                  <a:lnTo>
                    <a:pt x="2552" y="159"/>
                  </a:lnTo>
                  <a:lnTo>
                    <a:pt x="2552" y="134"/>
                  </a:lnTo>
                  <a:lnTo>
                    <a:pt x="2552" y="104"/>
                  </a:lnTo>
                  <a:lnTo>
                    <a:pt x="2527" y="79"/>
                  </a:lnTo>
                  <a:lnTo>
                    <a:pt x="2503" y="79"/>
                  </a:lnTo>
                  <a:lnTo>
                    <a:pt x="2473" y="79"/>
                  </a:lnTo>
                  <a:lnTo>
                    <a:pt x="2448" y="55"/>
                  </a:lnTo>
                  <a:lnTo>
                    <a:pt x="2418" y="55"/>
                  </a:lnTo>
                  <a:lnTo>
                    <a:pt x="2394" y="55"/>
                  </a:lnTo>
                  <a:lnTo>
                    <a:pt x="2369" y="25"/>
                  </a:lnTo>
                  <a:lnTo>
                    <a:pt x="2339" y="25"/>
                  </a:lnTo>
                  <a:lnTo>
                    <a:pt x="2315" y="25"/>
                  </a:lnTo>
                  <a:lnTo>
                    <a:pt x="2285" y="0"/>
                  </a:lnTo>
                  <a:lnTo>
                    <a:pt x="2260" y="0"/>
                  </a:lnTo>
                  <a:lnTo>
                    <a:pt x="2235" y="0"/>
                  </a:lnTo>
                  <a:lnTo>
                    <a:pt x="2206" y="0"/>
                  </a:lnTo>
                  <a:lnTo>
                    <a:pt x="2181" y="0"/>
                  </a:lnTo>
                  <a:lnTo>
                    <a:pt x="2156" y="0"/>
                  </a:lnTo>
                  <a:lnTo>
                    <a:pt x="2127" y="0"/>
                  </a:lnTo>
                  <a:lnTo>
                    <a:pt x="2102" y="0"/>
                  </a:lnTo>
                  <a:lnTo>
                    <a:pt x="2072" y="0"/>
                  </a:lnTo>
                  <a:lnTo>
                    <a:pt x="2048" y="0"/>
                  </a:lnTo>
                  <a:lnTo>
                    <a:pt x="2023" y="0"/>
                  </a:lnTo>
                  <a:lnTo>
                    <a:pt x="1993" y="0"/>
                  </a:lnTo>
                  <a:lnTo>
                    <a:pt x="1968" y="0"/>
                  </a:lnTo>
                  <a:lnTo>
                    <a:pt x="1944" y="0"/>
                  </a:lnTo>
                  <a:lnTo>
                    <a:pt x="1914" y="0"/>
                  </a:lnTo>
                  <a:lnTo>
                    <a:pt x="1889" y="0"/>
                  </a:lnTo>
                  <a:lnTo>
                    <a:pt x="1860" y="0"/>
                  </a:lnTo>
                  <a:lnTo>
                    <a:pt x="1835" y="0"/>
                  </a:lnTo>
                  <a:lnTo>
                    <a:pt x="1810" y="0"/>
                  </a:lnTo>
                  <a:lnTo>
                    <a:pt x="1780" y="0"/>
                  </a:lnTo>
                  <a:lnTo>
                    <a:pt x="1756" y="0"/>
                  </a:lnTo>
                  <a:lnTo>
                    <a:pt x="1726" y="0"/>
                  </a:lnTo>
                  <a:lnTo>
                    <a:pt x="1701" y="0"/>
                  </a:lnTo>
                  <a:lnTo>
                    <a:pt x="1677" y="0"/>
                  </a:lnTo>
                  <a:lnTo>
                    <a:pt x="1647" y="0"/>
                  </a:lnTo>
                  <a:lnTo>
                    <a:pt x="1622" y="0"/>
                  </a:lnTo>
                  <a:lnTo>
                    <a:pt x="1598" y="0"/>
                  </a:lnTo>
                  <a:lnTo>
                    <a:pt x="1568" y="0"/>
                  </a:lnTo>
                  <a:lnTo>
                    <a:pt x="1543" y="0"/>
                  </a:lnTo>
                  <a:lnTo>
                    <a:pt x="1513" y="0"/>
                  </a:lnTo>
                  <a:lnTo>
                    <a:pt x="1489" y="0"/>
                  </a:lnTo>
                  <a:lnTo>
                    <a:pt x="1464" y="0"/>
                  </a:lnTo>
                  <a:lnTo>
                    <a:pt x="1434" y="0"/>
                  </a:lnTo>
                  <a:lnTo>
                    <a:pt x="1410" y="0"/>
                  </a:lnTo>
                  <a:lnTo>
                    <a:pt x="1385" y="0"/>
                  </a:lnTo>
                  <a:lnTo>
                    <a:pt x="1355" y="0"/>
                  </a:lnTo>
                  <a:lnTo>
                    <a:pt x="1330" y="0"/>
                  </a:lnTo>
                  <a:lnTo>
                    <a:pt x="1301" y="0"/>
                  </a:lnTo>
                  <a:lnTo>
                    <a:pt x="1276" y="0"/>
                  </a:lnTo>
                  <a:lnTo>
                    <a:pt x="1251" y="0"/>
                  </a:lnTo>
                  <a:lnTo>
                    <a:pt x="1222" y="0"/>
                  </a:lnTo>
                  <a:lnTo>
                    <a:pt x="1197" y="0"/>
                  </a:lnTo>
                  <a:lnTo>
                    <a:pt x="1172" y="0"/>
                  </a:lnTo>
                  <a:lnTo>
                    <a:pt x="1143" y="0"/>
                  </a:lnTo>
                  <a:lnTo>
                    <a:pt x="1118" y="0"/>
                  </a:lnTo>
                  <a:lnTo>
                    <a:pt x="1088" y="0"/>
                  </a:lnTo>
                  <a:lnTo>
                    <a:pt x="1063" y="0"/>
                  </a:lnTo>
                  <a:lnTo>
                    <a:pt x="1039" y="0"/>
                  </a:lnTo>
                  <a:lnTo>
                    <a:pt x="1009" y="0"/>
                  </a:lnTo>
                  <a:lnTo>
                    <a:pt x="984" y="0"/>
                  </a:lnTo>
                  <a:lnTo>
                    <a:pt x="955" y="0"/>
                  </a:lnTo>
                  <a:lnTo>
                    <a:pt x="930" y="0"/>
                  </a:lnTo>
                  <a:lnTo>
                    <a:pt x="905" y="0"/>
                  </a:lnTo>
                  <a:lnTo>
                    <a:pt x="875" y="0"/>
                  </a:lnTo>
                  <a:lnTo>
                    <a:pt x="851" y="0"/>
                  </a:lnTo>
                  <a:lnTo>
                    <a:pt x="826" y="0"/>
                  </a:lnTo>
                  <a:lnTo>
                    <a:pt x="796" y="0"/>
                  </a:lnTo>
                  <a:lnTo>
                    <a:pt x="772" y="0"/>
                  </a:lnTo>
                  <a:lnTo>
                    <a:pt x="742" y="0"/>
                  </a:lnTo>
                  <a:lnTo>
                    <a:pt x="717" y="0"/>
                  </a:lnTo>
                  <a:lnTo>
                    <a:pt x="692" y="0"/>
                  </a:lnTo>
                  <a:lnTo>
                    <a:pt x="663" y="0"/>
                  </a:lnTo>
                  <a:lnTo>
                    <a:pt x="638" y="0"/>
                  </a:lnTo>
                  <a:lnTo>
                    <a:pt x="613" y="0"/>
                  </a:lnTo>
                  <a:lnTo>
                    <a:pt x="584" y="25"/>
                  </a:lnTo>
                  <a:lnTo>
                    <a:pt x="559" y="55"/>
                  </a:lnTo>
                  <a:lnTo>
                    <a:pt x="529" y="79"/>
                  </a:lnTo>
                  <a:lnTo>
                    <a:pt x="505" y="104"/>
                  </a:lnTo>
                  <a:lnTo>
                    <a:pt x="480" y="134"/>
                  </a:lnTo>
                  <a:lnTo>
                    <a:pt x="450" y="134"/>
                  </a:lnTo>
                  <a:lnTo>
                    <a:pt x="425" y="159"/>
                  </a:lnTo>
                  <a:lnTo>
                    <a:pt x="396" y="188"/>
                  </a:lnTo>
                  <a:lnTo>
                    <a:pt x="371" y="213"/>
                  </a:lnTo>
                  <a:lnTo>
                    <a:pt x="346" y="238"/>
                  </a:lnTo>
                  <a:lnTo>
                    <a:pt x="317" y="267"/>
                  </a:lnTo>
                  <a:lnTo>
                    <a:pt x="292" y="292"/>
                  </a:lnTo>
                  <a:lnTo>
                    <a:pt x="267" y="322"/>
                  </a:lnTo>
                  <a:lnTo>
                    <a:pt x="237" y="322"/>
                  </a:lnTo>
                  <a:lnTo>
                    <a:pt x="237" y="341"/>
                  </a:lnTo>
                  <a:lnTo>
                    <a:pt x="242" y="341"/>
                  </a:lnTo>
                  <a:lnTo>
                    <a:pt x="247" y="346"/>
                  </a:lnTo>
                  <a:lnTo>
                    <a:pt x="242" y="351"/>
                  </a:lnTo>
                  <a:lnTo>
                    <a:pt x="237" y="356"/>
                  </a:lnTo>
                  <a:lnTo>
                    <a:pt x="233" y="356"/>
                  </a:lnTo>
                  <a:lnTo>
                    <a:pt x="233" y="361"/>
                  </a:lnTo>
                  <a:lnTo>
                    <a:pt x="228" y="366"/>
                  </a:lnTo>
                  <a:lnTo>
                    <a:pt x="228" y="371"/>
                  </a:lnTo>
                  <a:lnTo>
                    <a:pt x="223" y="371"/>
                  </a:lnTo>
                  <a:lnTo>
                    <a:pt x="223" y="376"/>
                  </a:lnTo>
                  <a:lnTo>
                    <a:pt x="218" y="381"/>
                  </a:lnTo>
                  <a:lnTo>
                    <a:pt x="213" y="386"/>
                  </a:lnTo>
                  <a:lnTo>
                    <a:pt x="213" y="386"/>
                  </a:lnTo>
                  <a:lnTo>
                    <a:pt x="208" y="391"/>
                  </a:lnTo>
                  <a:lnTo>
                    <a:pt x="203" y="391"/>
                  </a:lnTo>
                  <a:lnTo>
                    <a:pt x="198" y="396"/>
                  </a:lnTo>
                  <a:lnTo>
                    <a:pt x="198" y="401"/>
                  </a:lnTo>
                  <a:lnTo>
                    <a:pt x="193" y="406"/>
                  </a:lnTo>
                  <a:lnTo>
                    <a:pt x="188" y="411"/>
                  </a:lnTo>
                  <a:lnTo>
                    <a:pt x="183" y="411"/>
                  </a:lnTo>
                  <a:lnTo>
                    <a:pt x="183" y="411"/>
                  </a:lnTo>
                  <a:lnTo>
                    <a:pt x="178" y="406"/>
                  </a:lnTo>
                  <a:lnTo>
                    <a:pt x="173" y="401"/>
                  </a:lnTo>
                  <a:lnTo>
                    <a:pt x="158" y="401"/>
                  </a:lnTo>
                  <a:lnTo>
                    <a:pt x="134" y="425"/>
                  </a:lnTo>
                  <a:lnTo>
                    <a:pt x="104" y="455"/>
                  </a:lnTo>
                  <a:lnTo>
                    <a:pt x="79" y="480"/>
                  </a:lnTo>
                  <a:lnTo>
                    <a:pt x="55" y="504"/>
                  </a:lnTo>
                  <a:lnTo>
                    <a:pt x="25" y="504"/>
                  </a:lnTo>
                  <a:lnTo>
                    <a:pt x="0" y="534"/>
                  </a:lnTo>
                  <a:lnTo>
                    <a:pt x="0" y="559"/>
                  </a:lnTo>
                  <a:lnTo>
                    <a:pt x="0" y="589"/>
                  </a:lnTo>
                  <a:lnTo>
                    <a:pt x="0" y="613"/>
                  </a:lnTo>
                  <a:lnTo>
                    <a:pt x="25" y="643"/>
                  </a:lnTo>
                  <a:lnTo>
                    <a:pt x="25" y="668"/>
                  </a:lnTo>
                  <a:lnTo>
                    <a:pt x="55" y="692"/>
                  </a:lnTo>
                  <a:lnTo>
                    <a:pt x="79" y="722"/>
                  </a:lnTo>
                  <a:lnTo>
                    <a:pt x="104" y="747"/>
                  </a:lnTo>
                  <a:lnTo>
                    <a:pt x="134" y="776"/>
                  </a:lnTo>
                  <a:lnTo>
                    <a:pt x="134" y="801"/>
                  </a:lnTo>
                  <a:lnTo>
                    <a:pt x="158" y="826"/>
                  </a:lnTo>
                  <a:lnTo>
                    <a:pt x="183" y="855"/>
                  </a:lnTo>
                  <a:lnTo>
                    <a:pt x="213" y="880"/>
                  </a:lnTo>
                  <a:lnTo>
                    <a:pt x="237" y="910"/>
                  </a:lnTo>
                  <a:lnTo>
                    <a:pt x="267" y="934"/>
                  </a:lnTo>
                  <a:lnTo>
                    <a:pt x="292" y="959"/>
                  </a:lnTo>
                  <a:lnTo>
                    <a:pt x="292" y="989"/>
                  </a:lnTo>
                  <a:lnTo>
                    <a:pt x="317" y="1014"/>
                  </a:lnTo>
                  <a:lnTo>
                    <a:pt x="346" y="1043"/>
                  </a:lnTo>
                  <a:lnTo>
                    <a:pt x="371" y="1068"/>
                  </a:lnTo>
                  <a:lnTo>
                    <a:pt x="396" y="1093"/>
                  </a:lnTo>
                  <a:lnTo>
                    <a:pt x="425" y="1122"/>
                  </a:lnTo>
                  <a:lnTo>
                    <a:pt x="450" y="1147"/>
                  </a:lnTo>
                  <a:lnTo>
                    <a:pt x="480" y="1177"/>
                  </a:lnTo>
                  <a:lnTo>
                    <a:pt x="505" y="1201"/>
                  </a:lnTo>
                  <a:lnTo>
                    <a:pt x="529" y="1226"/>
                  </a:lnTo>
                  <a:lnTo>
                    <a:pt x="559" y="1256"/>
                  </a:lnTo>
                  <a:lnTo>
                    <a:pt x="584" y="1280"/>
                  </a:lnTo>
                  <a:lnTo>
                    <a:pt x="613" y="1310"/>
                  </a:lnTo>
                  <a:lnTo>
                    <a:pt x="638" y="1335"/>
                  </a:lnTo>
                  <a:lnTo>
                    <a:pt x="663" y="1364"/>
                  </a:lnTo>
                  <a:lnTo>
                    <a:pt x="692" y="1389"/>
                  </a:lnTo>
                  <a:lnTo>
                    <a:pt x="717" y="1414"/>
                  </a:lnTo>
                  <a:lnTo>
                    <a:pt x="742" y="1444"/>
                  </a:lnTo>
                  <a:lnTo>
                    <a:pt x="772" y="1468"/>
                  </a:lnTo>
                  <a:lnTo>
                    <a:pt x="796" y="1468"/>
                  </a:lnTo>
                  <a:lnTo>
                    <a:pt x="826" y="1498"/>
                  </a:lnTo>
                  <a:lnTo>
                    <a:pt x="851" y="1523"/>
                  </a:lnTo>
                  <a:lnTo>
                    <a:pt x="875" y="1547"/>
                  </a:lnTo>
                  <a:lnTo>
                    <a:pt x="905" y="1577"/>
                  </a:lnTo>
                  <a:lnTo>
                    <a:pt x="930" y="1602"/>
                  </a:lnTo>
                  <a:lnTo>
                    <a:pt x="955" y="1631"/>
                  </a:lnTo>
                  <a:lnTo>
                    <a:pt x="984" y="1656"/>
                  </a:lnTo>
                  <a:lnTo>
                    <a:pt x="1009" y="1656"/>
                  </a:lnTo>
                  <a:lnTo>
                    <a:pt x="1039" y="1656"/>
                  </a:lnTo>
                  <a:lnTo>
                    <a:pt x="1063" y="1656"/>
                  </a:lnTo>
                  <a:lnTo>
                    <a:pt x="1088" y="1656"/>
                  </a:lnTo>
                  <a:lnTo>
                    <a:pt x="1118" y="1656"/>
                  </a:lnTo>
                  <a:lnTo>
                    <a:pt x="1143" y="1656"/>
                  </a:lnTo>
                  <a:lnTo>
                    <a:pt x="1172" y="1656"/>
                  </a:lnTo>
                  <a:lnTo>
                    <a:pt x="1197" y="1656"/>
                  </a:lnTo>
                  <a:lnTo>
                    <a:pt x="1222" y="1656"/>
                  </a:lnTo>
                  <a:lnTo>
                    <a:pt x="1251" y="1656"/>
                  </a:lnTo>
                  <a:lnTo>
                    <a:pt x="1276" y="1656"/>
                  </a:lnTo>
                  <a:lnTo>
                    <a:pt x="1301" y="1656"/>
                  </a:lnTo>
                  <a:lnTo>
                    <a:pt x="1330" y="1656"/>
                  </a:lnTo>
                  <a:lnTo>
                    <a:pt x="1355" y="1656"/>
                  </a:lnTo>
                  <a:lnTo>
                    <a:pt x="1385" y="1656"/>
                  </a:lnTo>
                  <a:lnTo>
                    <a:pt x="1410" y="1656"/>
                  </a:lnTo>
                  <a:lnTo>
                    <a:pt x="1434" y="1656"/>
                  </a:lnTo>
                  <a:lnTo>
                    <a:pt x="1464" y="1656"/>
                  </a:lnTo>
                  <a:lnTo>
                    <a:pt x="1489" y="1656"/>
                  </a:lnTo>
                  <a:lnTo>
                    <a:pt x="1513" y="1656"/>
                  </a:lnTo>
                  <a:lnTo>
                    <a:pt x="1543" y="1656"/>
                  </a:lnTo>
                  <a:lnTo>
                    <a:pt x="1568" y="1656"/>
                  </a:lnTo>
                  <a:lnTo>
                    <a:pt x="1598" y="1656"/>
                  </a:lnTo>
                  <a:lnTo>
                    <a:pt x="1622" y="1656"/>
                  </a:lnTo>
                  <a:lnTo>
                    <a:pt x="1647" y="1656"/>
                  </a:lnTo>
                  <a:lnTo>
                    <a:pt x="1677" y="1656"/>
                  </a:lnTo>
                  <a:lnTo>
                    <a:pt x="1701" y="1656"/>
                  </a:lnTo>
                  <a:lnTo>
                    <a:pt x="1726" y="1656"/>
                  </a:lnTo>
                  <a:lnTo>
                    <a:pt x="1756" y="1656"/>
                  </a:lnTo>
                  <a:lnTo>
                    <a:pt x="1780" y="1656"/>
                  </a:lnTo>
                  <a:lnTo>
                    <a:pt x="1810" y="1656"/>
                  </a:lnTo>
                  <a:lnTo>
                    <a:pt x="1835" y="1656"/>
                  </a:lnTo>
                  <a:lnTo>
                    <a:pt x="1860" y="1656"/>
                  </a:lnTo>
                  <a:lnTo>
                    <a:pt x="1889" y="1656"/>
                  </a:lnTo>
                  <a:lnTo>
                    <a:pt x="1914" y="1656"/>
                  </a:lnTo>
                  <a:lnTo>
                    <a:pt x="1944" y="1656"/>
                  </a:lnTo>
                  <a:lnTo>
                    <a:pt x="1968" y="1656"/>
                  </a:lnTo>
                  <a:lnTo>
                    <a:pt x="1993" y="1656"/>
                  </a:lnTo>
                  <a:lnTo>
                    <a:pt x="2023" y="1656"/>
                  </a:lnTo>
                  <a:lnTo>
                    <a:pt x="2048" y="1656"/>
                  </a:lnTo>
                  <a:lnTo>
                    <a:pt x="2072" y="1656"/>
                  </a:lnTo>
                  <a:lnTo>
                    <a:pt x="2102" y="1656"/>
                  </a:lnTo>
                  <a:lnTo>
                    <a:pt x="2127" y="1656"/>
                  </a:lnTo>
                  <a:lnTo>
                    <a:pt x="2156" y="1656"/>
                  </a:lnTo>
                  <a:lnTo>
                    <a:pt x="2181" y="1656"/>
                  </a:lnTo>
                  <a:lnTo>
                    <a:pt x="2206" y="1656"/>
                  </a:lnTo>
                  <a:lnTo>
                    <a:pt x="2235" y="1656"/>
                  </a:lnTo>
                  <a:close/>
                  <a:moveTo>
                    <a:pt x="282" y="826"/>
                  </a:moveTo>
                  <a:lnTo>
                    <a:pt x="282" y="826"/>
                  </a:lnTo>
                  <a:lnTo>
                    <a:pt x="282" y="821"/>
                  </a:lnTo>
                  <a:lnTo>
                    <a:pt x="277" y="821"/>
                  </a:lnTo>
                  <a:lnTo>
                    <a:pt x="277" y="816"/>
                  </a:lnTo>
                  <a:lnTo>
                    <a:pt x="272" y="816"/>
                  </a:lnTo>
                  <a:lnTo>
                    <a:pt x="267" y="811"/>
                  </a:lnTo>
                  <a:lnTo>
                    <a:pt x="267" y="806"/>
                  </a:lnTo>
                  <a:lnTo>
                    <a:pt x="262" y="806"/>
                  </a:lnTo>
                  <a:lnTo>
                    <a:pt x="257" y="801"/>
                  </a:lnTo>
                  <a:lnTo>
                    <a:pt x="262" y="801"/>
                  </a:lnTo>
                  <a:lnTo>
                    <a:pt x="267" y="801"/>
                  </a:lnTo>
                  <a:lnTo>
                    <a:pt x="267" y="806"/>
                  </a:lnTo>
                  <a:lnTo>
                    <a:pt x="272" y="806"/>
                  </a:lnTo>
                  <a:lnTo>
                    <a:pt x="277" y="811"/>
                  </a:lnTo>
                  <a:lnTo>
                    <a:pt x="277" y="811"/>
                  </a:lnTo>
                  <a:lnTo>
                    <a:pt x="282" y="816"/>
                  </a:lnTo>
                  <a:lnTo>
                    <a:pt x="282" y="816"/>
                  </a:lnTo>
                  <a:lnTo>
                    <a:pt x="287" y="821"/>
                  </a:lnTo>
                  <a:lnTo>
                    <a:pt x="287" y="821"/>
                  </a:lnTo>
                  <a:lnTo>
                    <a:pt x="292" y="826"/>
                  </a:lnTo>
                  <a:lnTo>
                    <a:pt x="297" y="831"/>
                  </a:lnTo>
                  <a:lnTo>
                    <a:pt x="292" y="831"/>
                  </a:lnTo>
                  <a:lnTo>
                    <a:pt x="292" y="836"/>
                  </a:lnTo>
                  <a:lnTo>
                    <a:pt x="292" y="836"/>
                  </a:lnTo>
                  <a:lnTo>
                    <a:pt x="287" y="831"/>
                  </a:lnTo>
                  <a:lnTo>
                    <a:pt x="282" y="826"/>
                  </a:lnTo>
                  <a:close/>
                  <a:moveTo>
                    <a:pt x="1004" y="776"/>
                  </a:moveTo>
                  <a:lnTo>
                    <a:pt x="1004" y="766"/>
                  </a:lnTo>
                  <a:lnTo>
                    <a:pt x="1004" y="762"/>
                  </a:lnTo>
                  <a:lnTo>
                    <a:pt x="1004" y="757"/>
                  </a:lnTo>
                  <a:lnTo>
                    <a:pt x="1004" y="752"/>
                  </a:lnTo>
                  <a:lnTo>
                    <a:pt x="999" y="747"/>
                  </a:lnTo>
                  <a:lnTo>
                    <a:pt x="999" y="742"/>
                  </a:lnTo>
                  <a:lnTo>
                    <a:pt x="999" y="732"/>
                  </a:lnTo>
                  <a:lnTo>
                    <a:pt x="999" y="727"/>
                  </a:lnTo>
                  <a:lnTo>
                    <a:pt x="994" y="722"/>
                  </a:lnTo>
                  <a:lnTo>
                    <a:pt x="989" y="717"/>
                  </a:lnTo>
                  <a:lnTo>
                    <a:pt x="989" y="712"/>
                  </a:lnTo>
                  <a:lnTo>
                    <a:pt x="984" y="707"/>
                  </a:lnTo>
                  <a:lnTo>
                    <a:pt x="979" y="702"/>
                  </a:lnTo>
                  <a:lnTo>
                    <a:pt x="979" y="697"/>
                  </a:lnTo>
                  <a:lnTo>
                    <a:pt x="979" y="692"/>
                  </a:lnTo>
                  <a:lnTo>
                    <a:pt x="979" y="682"/>
                  </a:lnTo>
                  <a:lnTo>
                    <a:pt x="984" y="677"/>
                  </a:lnTo>
                  <a:lnTo>
                    <a:pt x="984" y="673"/>
                  </a:lnTo>
                  <a:lnTo>
                    <a:pt x="984" y="668"/>
                  </a:lnTo>
                  <a:lnTo>
                    <a:pt x="989" y="663"/>
                  </a:lnTo>
                  <a:lnTo>
                    <a:pt x="989" y="658"/>
                  </a:lnTo>
                  <a:lnTo>
                    <a:pt x="989" y="653"/>
                  </a:lnTo>
                  <a:lnTo>
                    <a:pt x="989" y="648"/>
                  </a:lnTo>
                  <a:lnTo>
                    <a:pt x="989" y="638"/>
                  </a:lnTo>
                  <a:lnTo>
                    <a:pt x="994" y="633"/>
                  </a:lnTo>
                  <a:lnTo>
                    <a:pt x="994" y="628"/>
                  </a:lnTo>
                  <a:lnTo>
                    <a:pt x="994" y="623"/>
                  </a:lnTo>
                  <a:lnTo>
                    <a:pt x="994" y="618"/>
                  </a:lnTo>
                  <a:lnTo>
                    <a:pt x="994" y="613"/>
                  </a:lnTo>
                  <a:lnTo>
                    <a:pt x="994" y="603"/>
                  </a:lnTo>
                  <a:lnTo>
                    <a:pt x="994" y="598"/>
                  </a:lnTo>
                  <a:lnTo>
                    <a:pt x="994" y="593"/>
                  </a:lnTo>
                  <a:lnTo>
                    <a:pt x="994" y="589"/>
                  </a:lnTo>
                  <a:lnTo>
                    <a:pt x="994" y="584"/>
                  </a:lnTo>
                  <a:lnTo>
                    <a:pt x="994" y="579"/>
                  </a:lnTo>
                  <a:lnTo>
                    <a:pt x="994" y="569"/>
                  </a:lnTo>
                  <a:lnTo>
                    <a:pt x="994" y="564"/>
                  </a:lnTo>
                  <a:lnTo>
                    <a:pt x="994" y="559"/>
                  </a:lnTo>
                  <a:lnTo>
                    <a:pt x="994" y="554"/>
                  </a:lnTo>
                  <a:lnTo>
                    <a:pt x="999" y="549"/>
                  </a:lnTo>
                  <a:lnTo>
                    <a:pt x="999" y="544"/>
                  </a:lnTo>
                  <a:lnTo>
                    <a:pt x="1004" y="539"/>
                  </a:lnTo>
                  <a:lnTo>
                    <a:pt x="1004" y="529"/>
                  </a:lnTo>
                  <a:lnTo>
                    <a:pt x="1004" y="524"/>
                  </a:lnTo>
                  <a:lnTo>
                    <a:pt x="1009" y="519"/>
                  </a:lnTo>
                  <a:lnTo>
                    <a:pt x="1009" y="514"/>
                  </a:lnTo>
                  <a:lnTo>
                    <a:pt x="1009" y="509"/>
                  </a:lnTo>
                  <a:lnTo>
                    <a:pt x="1009" y="504"/>
                  </a:lnTo>
                  <a:lnTo>
                    <a:pt x="1009" y="500"/>
                  </a:lnTo>
                  <a:lnTo>
                    <a:pt x="1009" y="490"/>
                  </a:lnTo>
                  <a:lnTo>
                    <a:pt x="1009" y="485"/>
                  </a:lnTo>
                  <a:lnTo>
                    <a:pt x="1004" y="480"/>
                  </a:lnTo>
                  <a:lnTo>
                    <a:pt x="1004" y="475"/>
                  </a:lnTo>
                  <a:lnTo>
                    <a:pt x="1004" y="470"/>
                  </a:lnTo>
                  <a:lnTo>
                    <a:pt x="1009" y="465"/>
                  </a:lnTo>
                  <a:lnTo>
                    <a:pt x="1014" y="455"/>
                  </a:lnTo>
                  <a:lnTo>
                    <a:pt x="1014" y="450"/>
                  </a:lnTo>
                  <a:lnTo>
                    <a:pt x="1004" y="450"/>
                  </a:lnTo>
                  <a:lnTo>
                    <a:pt x="999" y="445"/>
                  </a:lnTo>
                  <a:lnTo>
                    <a:pt x="994" y="440"/>
                  </a:lnTo>
                  <a:lnTo>
                    <a:pt x="994" y="435"/>
                  </a:lnTo>
                  <a:lnTo>
                    <a:pt x="989" y="425"/>
                  </a:lnTo>
                  <a:lnTo>
                    <a:pt x="984" y="420"/>
                  </a:lnTo>
                  <a:lnTo>
                    <a:pt x="984" y="416"/>
                  </a:lnTo>
                  <a:lnTo>
                    <a:pt x="979" y="411"/>
                  </a:lnTo>
                  <a:lnTo>
                    <a:pt x="974" y="406"/>
                  </a:lnTo>
                  <a:lnTo>
                    <a:pt x="974" y="401"/>
                  </a:lnTo>
                  <a:lnTo>
                    <a:pt x="969" y="396"/>
                  </a:lnTo>
                  <a:lnTo>
                    <a:pt x="969" y="391"/>
                  </a:lnTo>
                  <a:lnTo>
                    <a:pt x="964" y="386"/>
                  </a:lnTo>
                  <a:lnTo>
                    <a:pt x="960" y="381"/>
                  </a:lnTo>
                  <a:lnTo>
                    <a:pt x="960" y="376"/>
                  </a:lnTo>
                  <a:lnTo>
                    <a:pt x="955" y="371"/>
                  </a:lnTo>
                  <a:lnTo>
                    <a:pt x="950" y="361"/>
                  </a:lnTo>
                  <a:lnTo>
                    <a:pt x="950" y="356"/>
                  </a:lnTo>
                  <a:lnTo>
                    <a:pt x="945" y="351"/>
                  </a:lnTo>
                  <a:lnTo>
                    <a:pt x="940" y="346"/>
                  </a:lnTo>
                  <a:lnTo>
                    <a:pt x="940" y="341"/>
                  </a:lnTo>
                  <a:lnTo>
                    <a:pt x="935" y="336"/>
                  </a:lnTo>
                  <a:lnTo>
                    <a:pt x="930" y="331"/>
                  </a:lnTo>
                  <a:lnTo>
                    <a:pt x="930" y="327"/>
                  </a:lnTo>
                  <a:lnTo>
                    <a:pt x="930" y="322"/>
                  </a:lnTo>
                  <a:lnTo>
                    <a:pt x="935" y="317"/>
                  </a:lnTo>
                  <a:lnTo>
                    <a:pt x="940" y="312"/>
                  </a:lnTo>
                  <a:lnTo>
                    <a:pt x="950" y="312"/>
                  </a:lnTo>
                  <a:lnTo>
                    <a:pt x="960" y="307"/>
                  </a:lnTo>
                  <a:lnTo>
                    <a:pt x="964" y="302"/>
                  </a:lnTo>
                  <a:lnTo>
                    <a:pt x="969" y="302"/>
                  </a:lnTo>
                  <a:lnTo>
                    <a:pt x="974" y="297"/>
                  </a:lnTo>
                  <a:lnTo>
                    <a:pt x="979" y="292"/>
                  </a:lnTo>
                  <a:lnTo>
                    <a:pt x="989" y="287"/>
                  </a:lnTo>
                  <a:lnTo>
                    <a:pt x="994" y="282"/>
                  </a:lnTo>
                  <a:lnTo>
                    <a:pt x="999" y="277"/>
                  </a:lnTo>
                  <a:lnTo>
                    <a:pt x="1009" y="277"/>
                  </a:lnTo>
                  <a:lnTo>
                    <a:pt x="1014" y="272"/>
                  </a:lnTo>
                  <a:lnTo>
                    <a:pt x="1024" y="272"/>
                  </a:lnTo>
                  <a:lnTo>
                    <a:pt x="1034" y="272"/>
                  </a:lnTo>
                  <a:lnTo>
                    <a:pt x="1039" y="267"/>
                  </a:lnTo>
                  <a:lnTo>
                    <a:pt x="1044" y="262"/>
                  </a:lnTo>
                  <a:lnTo>
                    <a:pt x="1049" y="257"/>
                  </a:lnTo>
                  <a:lnTo>
                    <a:pt x="1058" y="252"/>
                  </a:lnTo>
                  <a:lnTo>
                    <a:pt x="1063" y="252"/>
                  </a:lnTo>
                  <a:lnTo>
                    <a:pt x="1073" y="247"/>
                  </a:lnTo>
                  <a:lnTo>
                    <a:pt x="1083" y="247"/>
                  </a:lnTo>
                  <a:lnTo>
                    <a:pt x="1088" y="243"/>
                  </a:lnTo>
                  <a:lnTo>
                    <a:pt x="1093" y="243"/>
                  </a:lnTo>
                  <a:lnTo>
                    <a:pt x="1098" y="238"/>
                  </a:lnTo>
                  <a:lnTo>
                    <a:pt x="1103" y="228"/>
                  </a:lnTo>
                  <a:lnTo>
                    <a:pt x="1103" y="223"/>
                  </a:lnTo>
                  <a:lnTo>
                    <a:pt x="1103" y="218"/>
                  </a:lnTo>
                  <a:lnTo>
                    <a:pt x="1103" y="213"/>
                  </a:lnTo>
                  <a:lnTo>
                    <a:pt x="1108" y="208"/>
                  </a:lnTo>
                  <a:lnTo>
                    <a:pt x="1113" y="203"/>
                  </a:lnTo>
                  <a:lnTo>
                    <a:pt x="1118" y="198"/>
                  </a:lnTo>
                  <a:lnTo>
                    <a:pt x="1123" y="193"/>
                  </a:lnTo>
                  <a:lnTo>
                    <a:pt x="1133" y="188"/>
                  </a:lnTo>
                  <a:lnTo>
                    <a:pt x="1143" y="188"/>
                  </a:lnTo>
                  <a:lnTo>
                    <a:pt x="1152" y="193"/>
                  </a:lnTo>
                  <a:lnTo>
                    <a:pt x="1162" y="193"/>
                  </a:lnTo>
                  <a:lnTo>
                    <a:pt x="1167" y="193"/>
                  </a:lnTo>
                  <a:lnTo>
                    <a:pt x="1172" y="193"/>
                  </a:lnTo>
                  <a:lnTo>
                    <a:pt x="1172" y="183"/>
                  </a:lnTo>
                  <a:lnTo>
                    <a:pt x="1172" y="178"/>
                  </a:lnTo>
                  <a:lnTo>
                    <a:pt x="1177" y="173"/>
                  </a:lnTo>
                  <a:lnTo>
                    <a:pt x="1182" y="168"/>
                  </a:lnTo>
                  <a:lnTo>
                    <a:pt x="1192" y="163"/>
                  </a:lnTo>
                  <a:lnTo>
                    <a:pt x="1202" y="163"/>
                  </a:lnTo>
                  <a:lnTo>
                    <a:pt x="1207" y="163"/>
                  </a:lnTo>
                  <a:lnTo>
                    <a:pt x="1217" y="159"/>
                  </a:lnTo>
                  <a:lnTo>
                    <a:pt x="1222" y="154"/>
                  </a:lnTo>
                  <a:lnTo>
                    <a:pt x="1227" y="149"/>
                  </a:lnTo>
                  <a:lnTo>
                    <a:pt x="1236" y="149"/>
                  </a:lnTo>
                  <a:lnTo>
                    <a:pt x="1246" y="149"/>
                  </a:lnTo>
                  <a:lnTo>
                    <a:pt x="1256" y="149"/>
                  </a:lnTo>
                  <a:lnTo>
                    <a:pt x="1261" y="144"/>
                  </a:lnTo>
                  <a:lnTo>
                    <a:pt x="1266" y="144"/>
                  </a:lnTo>
                  <a:lnTo>
                    <a:pt x="1276" y="139"/>
                  </a:lnTo>
                  <a:lnTo>
                    <a:pt x="1286" y="134"/>
                  </a:lnTo>
                  <a:lnTo>
                    <a:pt x="1291" y="134"/>
                  </a:lnTo>
                  <a:lnTo>
                    <a:pt x="1296" y="129"/>
                  </a:lnTo>
                  <a:lnTo>
                    <a:pt x="1301" y="124"/>
                  </a:lnTo>
                  <a:lnTo>
                    <a:pt x="1306" y="119"/>
                  </a:lnTo>
                  <a:lnTo>
                    <a:pt x="1316" y="119"/>
                  </a:lnTo>
                  <a:lnTo>
                    <a:pt x="1326" y="119"/>
                  </a:lnTo>
                  <a:lnTo>
                    <a:pt x="1335" y="119"/>
                  </a:lnTo>
                  <a:lnTo>
                    <a:pt x="1340" y="114"/>
                  </a:lnTo>
                  <a:lnTo>
                    <a:pt x="1350" y="114"/>
                  </a:lnTo>
                  <a:lnTo>
                    <a:pt x="1360" y="114"/>
                  </a:lnTo>
                  <a:lnTo>
                    <a:pt x="1365" y="109"/>
                  </a:lnTo>
                  <a:lnTo>
                    <a:pt x="1375" y="109"/>
                  </a:lnTo>
                  <a:lnTo>
                    <a:pt x="1385" y="104"/>
                  </a:lnTo>
                  <a:lnTo>
                    <a:pt x="1390" y="104"/>
                  </a:lnTo>
                  <a:lnTo>
                    <a:pt x="1395" y="99"/>
                  </a:lnTo>
                  <a:lnTo>
                    <a:pt x="1400" y="94"/>
                  </a:lnTo>
                  <a:lnTo>
                    <a:pt x="1405" y="89"/>
                  </a:lnTo>
                  <a:lnTo>
                    <a:pt x="1415" y="89"/>
                  </a:lnTo>
                  <a:lnTo>
                    <a:pt x="1424" y="84"/>
                  </a:lnTo>
                  <a:lnTo>
                    <a:pt x="1434" y="89"/>
                  </a:lnTo>
                  <a:lnTo>
                    <a:pt x="1439" y="84"/>
                  </a:lnTo>
                  <a:lnTo>
                    <a:pt x="1449" y="84"/>
                  </a:lnTo>
                  <a:lnTo>
                    <a:pt x="1459" y="79"/>
                  </a:lnTo>
                  <a:lnTo>
                    <a:pt x="1464" y="79"/>
                  </a:lnTo>
                  <a:lnTo>
                    <a:pt x="1474" y="79"/>
                  </a:lnTo>
                  <a:lnTo>
                    <a:pt x="1479" y="74"/>
                  </a:lnTo>
                  <a:lnTo>
                    <a:pt x="1484" y="70"/>
                  </a:lnTo>
                  <a:lnTo>
                    <a:pt x="1489" y="65"/>
                  </a:lnTo>
                  <a:lnTo>
                    <a:pt x="1494" y="60"/>
                  </a:lnTo>
                  <a:lnTo>
                    <a:pt x="1504" y="60"/>
                  </a:lnTo>
                  <a:lnTo>
                    <a:pt x="1513" y="60"/>
                  </a:lnTo>
                  <a:lnTo>
                    <a:pt x="1523" y="60"/>
                  </a:lnTo>
                  <a:lnTo>
                    <a:pt x="1528" y="55"/>
                  </a:lnTo>
                  <a:lnTo>
                    <a:pt x="1538" y="55"/>
                  </a:lnTo>
                  <a:lnTo>
                    <a:pt x="1548" y="55"/>
                  </a:lnTo>
                  <a:lnTo>
                    <a:pt x="1558" y="50"/>
                  </a:lnTo>
                  <a:lnTo>
                    <a:pt x="1563" y="50"/>
                  </a:lnTo>
                  <a:lnTo>
                    <a:pt x="1568" y="45"/>
                  </a:lnTo>
                  <a:lnTo>
                    <a:pt x="1573" y="40"/>
                  </a:lnTo>
                  <a:lnTo>
                    <a:pt x="1578" y="35"/>
                  </a:lnTo>
                  <a:lnTo>
                    <a:pt x="1588" y="30"/>
                  </a:lnTo>
                  <a:lnTo>
                    <a:pt x="1598" y="30"/>
                  </a:lnTo>
                  <a:lnTo>
                    <a:pt x="1602" y="30"/>
                  </a:lnTo>
                  <a:lnTo>
                    <a:pt x="1612" y="30"/>
                  </a:lnTo>
                  <a:lnTo>
                    <a:pt x="1622" y="25"/>
                  </a:lnTo>
                  <a:lnTo>
                    <a:pt x="1632" y="25"/>
                  </a:lnTo>
                  <a:lnTo>
                    <a:pt x="1637" y="25"/>
                  </a:lnTo>
                  <a:lnTo>
                    <a:pt x="1647" y="25"/>
                  </a:lnTo>
                  <a:lnTo>
                    <a:pt x="1657" y="25"/>
                  </a:lnTo>
                  <a:lnTo>
                    <a:pt x="1667" y="25"/>
                  </a:lnTo>
                  <a:lnTo>
                    <a:pt x="1677" y="25"/>
                  </a:lnTo>
                  <a:lnTo>
                    <a:pt x="1682" y="30"/>
                  </a:lnTo>
                  <a:lnTo>
                    <a:pt x="1691" y="30"/>
                  </a:lnTo>
                  <a:lnTo>
                    <a:pt x="1701" y="30"/>
                  </a:lnTo>
                  <a:lnTo>
                    <a:pt x="1711" y="35"/>
                  </a:lnTo>
                  <a:lnTo>
                    <a:pt x="1716" y="35"/>
                  </a:lnTo>
                  <a:lnTo>
                    <a:pt x="1726" y="40"/>
                  </a:lnTo>
                  <a:lnTo>
                    <a:pt x="1731" y="45"/>
                  </a:lnTo>
                  <a:lnTo>
                    <a:pt x="1736" y="50"/>
                  </a:lnTo>
                  <a:lnTo>
                    <a:pt x="1741" y="55"/>
                  </a:lnTo>
                  <a:lnTo>
                    <a:pt x="1751" y="55"/>
                  </a:lnTo>
                  <a:lnTo>
                    <a:pt x="1761" y="55"/>
                  </a:lnTo>
                  <a:lnTo>
                    <a:pt x="1766" y="55"/>
                  </a:lnTo>
                  <a:lnTo>
                    <a:pt x="1776" y="55"/>
                  </a:lnTo>
                  <a:lnTo>
                    <a:pt x="1785" y="55"/>
                  </a:lnTo>
                  <a:lnTo>
                    <a:pt x="1795" y="55"/>
                  </a:lnTo>
                  <a:lnTo>
                    <a:pt x="1800" y="60"/>
                  </a:lnTo>
                  <a:lnTo>
                    <a:pt x="1810" y="60"/>
                  </a:lnTo>
                  <a:lnTo>
                    <a:pt x="1815" y="65"/>
                  </a:lnTo>
                  <a:lnTo>
                    <a:pt x="1820" y="74"/>
                  </a:lnTo>
                  <a:lnTo>
                    <a:pt x="1825" y="74"/>
                  </a:lnTo>
                  <a:lnTo>
                    <a:pt x="1830" y="79"/>
                  </a:lnTo>
                  <a:lnTo>
                    <a:pt x="1840" y="79"/>
                  </a:lnTo>
                  <a:lnTo>
                    <a:pt x="1850" y="79"/>
                  </a:lnTo>
                  <a:lnTo>
                    <a:pt x="1860" y="79"/>
                  </a:lnTo>
                  <a:lnTo>
                    <a:pt x="1870" y="79"/>
                  </a:lnTo>
                  <a:lnTo>
                    <a:pt x="1874" y="79"/>
                  </a:lnTo>
                  <a:lnTo>
                    <a:pt x="1884" y="79"/>
                  </a:lnTo>
                  <a:lnTo>
                    <a:pt x="1894" y="84"/>
                  </a:lnTo>
                  <a:lnTo>
                    <a:pt x="1904" y="84"/>
                  </a:lnTo>
                  <a:lnTo>
                    <a:pt x="1909" y="89"/>
                  </a:lnTo>
                  <a:lnTo>
                    <a:pt x="1914" y="94"/>
                  </a:lnTo>
                  <a:lnTo>
                    <a:pt x="1919" y="99"/>
                  </a:lnTo>
                  <a:lnTo>
                    <a:pt x="1924" y="104"/>
                  </a:lnTo>
                  <a:lnTo>
                    <a:pt x="1934" y="104"/>
                  </a:lnTo>
                  <a:lnTo>
                    <a:pt x="1939" y="109"/>
                  </a:lnTo>
                  <a:lnTo>
                    <a:pt x="1949" y="109"/>
                  </a:lnTo>
                  <a:lnTo>
                    <a:pt x="1959" y="109"/>
                  </a:lnTo>
                  <a:lnTo>
                    <a:pt x="1968" y="109"/>
                  </a:lnTo>
                  <a:lnTo>
                    <a:pt x="1978" y="109"/>
                  </a:lnTo>
                  <a:lnTo>
                    <a:pt x="1983" y="109"/>
                  </a:lnTo>
                  <a:lnTo>
                    <a:pt x="1993" y="109"/>
                  </a:lnTo>
                  <a:lnTo>
                    <a:pt x="2003" y="109"/>
                  </a:lnTo>
                  <a:lnTo>
                    <a:pt x="2008" y="114"/>
                  </a:lnTo>
                  <a:lnTo>
                    <a:pt x="2013" y="119"/>
                  </a:lnTo>
                  <a:lnTo>
                    <a:pt x="2018" y="124"/>
                  </a:lnTo>
                  <a:lnTo>
                    <a:pt x="2023" y="129"/>
                  </a:lnTo>
                  <a:lnTo>
                    <a:pt x="2028" y="134"/>
                  </a:lnTo>
                  <a:lnTo>
                    <a:pt x="2038" y="134"/>
                  </a:lnTo>
                  <a:lnTo>
                    <a:pt x="2048" y="134"/>
                  </a:lnTo>
                  <a:lnTo>
                    <a:pt x="2057" y="134"/>
                  </a:lnTo>
                  <a:lnTo>
                    <a:pt x="2062" y="139"/>
                  </a:lnTo>
                  <a:lnTo>
                    <a:pt x="2072" y="139"/>
                  </a:lnTo>
                  <a:lnTo>
                    <a:pt x="2082" y="139"/>
                  </a:lnTo>
                  <a:lnTo>
                    <a:pt x="2092" y="139"/>
                  </a:lnTo>
                  <a:lnTo>
                    <a:pt x="2102" y="139"/>
                  </a:lnTo>
                  <a:lnTo>
                    <a:pt x="2107" y="139"/>
                  </a:lnTo>
                  <a:lnTo>
                    <a:pt x="2112" y="144"/>
                  </a:lnTo>
                  <a:lnTo>
                    <a:pt x="2117" y="149"/>
                  </a:lnTo>
                  <a:lnTo>
                    <a:pt x="2122" y="154"/>
                  </a:lnTo>
                  <a:lnTo>
                    <a:pt x="2127" y="163"/>
                  </a:lnTo>
                  <a:lnTo>
                    <a:pt x="2127" y="168"/>
                  </a:lnTo>
                  <a:lnTo>
                    <a:pt x="2132" y="173"/>
                  </a:lnTo>
                  <a:lnTo>
                    <a:pt x="2142" y="173"/>
                  </a:lnTo>
                  <a:lnTo>
                    <a:pt x="2146" y="178"/>
                  </a:lnTo>
                  <a:lnTo>
                    <a:pt x="2156" y="178"/>
                  </a:lnTo>
                  <a:lnTo>
                    <a:pt x="2161" y="183"/>
                  </a:lnTo>
                  <a:lnTo>
                    <a:pt x="2171" y="188"/>
                  </a:lnTo>
                  <a:lnTo>
                    <a:pt x="2181" y="188"/>
                  </a:lnTo>
                  <a:lnTo>
                    <a:pt x="2191" y="188"/>
                  </a:lnTo>
                  <a:lnTo>
                    <a:pt x="2196" y="188"/>
                  </a:lnTo>
                  <a:lnTo>
                    <a:pt x="2206" y="188"/>
                  </a:lnTo>
                  <a:lnTo>
                    <a:pt x="2216" y="193"/>
                  </a:lnTo>
                  <a:lnTo>
                    <a:pt x="2221" y="193"/>
                  </a:lnTo>
                  <a:lnTo>
                    <a:pt x="2231" y="198"/>
                  </a:lnTo>
                  <a:lnTo>
                    <a:pt x="2235" y="203"/>
                  </a:lnTo>
                  <a:lnTo>
                    <a:pt x="2240" y="208"/>
                  </a:lnTo>
                  <a:lnTo>
                    <a:pt x="2250" y="208"/>
                  </a:lnTo>
                  <a:lnTo>
                    <a:pt x="2255" y="213"/>
                  </a:lnTo>
                  <a:lnTo>
                    <a:pt x="2265" y="218"/>
                  </a:lnTo>
                  <a:lnTo>
                    <a:pt x="2270" y="218"/>
                  </a:lnTo>
                  <a:lnTo>
                    <a:pt x="2280" y="223"/>
                  </a:lnTo>
                  <a:lnTo>
                    <a:pt x="2285" y="228"/>
                  </a:lnTo>
                  <a:lnTo>
                    <a:pt x="2290" y="228"/>
                  </a:lnTo>
                  <a:lnTo>
                    <a:pt x="2300" y="233"/>
                  </a:lnTo>
                  <a:lnTo>
                    <a:pt x="2305" y="238"/>
                  </a:lnTo>
                  <a:lnTo>
                    <a:pt x="2315" y="238"/>
                  </a:lnTo>
                  <a:lnTo>
                    <a:pt x="2320" y="243"/>
                  </a:lnTo>
                  <a:lnTo>
                    <a:pt x="2329" y="247"/>
                  </a:lnTo>
                  <a:lnTo>
                    <a:pt x="2334" y="252"/>
                  </a:lnTo>
                  <a:lnTo>
                    <a:pt x="2339" y="252"/>
                  </a:lnTo>
                  <a:lnTo>
                    <a:pt x="2349" y="257"/>
                  </a:lnTo>
                  <a:lnTo>
                    <a:pt x="2354" y="262"/>
                  </a:lnTo>
                  <a:lnTo>
                    <a:pt x="2364" y="262"/>
                  </a:lnTo>
                  <a:lnTo>
                    <a:pt x="2369" y="267"/>
                  </a:lnTo>
                  <a:lnTo>
                    <a:pt x="2369" y="272"/>
                  </a:lnTo>
                  <a:lnTo>
                    <a:pt x="2364" y="277"/>
                  </a:lnTo>
                  <a:lnTo>
                    <a:pt x="2364" y="282"/>
                  </a:lnTo>
                  <a:lnTo>
                    <a:pt x="2359" y="287"/>
                  </a:lnTo>
                  <a:lnTo>
                    <a:pt x="2354" y="292"/>
                  </a:lnTo>
                  <a:lnTo>
                    <a:pt x="2344" y="297"/>
                  </a:lnTo>
                  <a:lnTo>
                    <a:pt x="2339" y="297"/>
                  </a:lnTo>
                  <a:lnTo>
                    <a:pt x="2334" y="287"/>
                  </a:lnTo>
                  <a:lnTo>
                    <a:pt x="2329" y="282"/>
                  </a:lnTo>
                  <a:lnTo>
                    <a:pt x="2320" y="282"/>
                  </a:lnTo>
                  <a:lnTo>
                    <a:pt x="2315" y="277"/>
                  </a:lnTo>
                  <a:lnTo>
                    <a:pt x="2305" y="277"/>
                  </a:lnTo>
                  <a:lnTo>
                    <a:pt x="2295" y="277"/>
                  </a:lnTo>
                  <a:lnTo>
                    <a:pt x="2290" y="277"/>
                  </a:lnTo>
                  <a:lnTo>
                    <a:pt x="2280" y="282"/>
                  </a:lnTo>
                  <a:lnTo>
                    <a:pt x="2270" y="282"/>
                  </a:lnTo>
                  <a:lnTo>
                    <a:pt x="2260" y="277"/>
                  </a:lnTo>
                  <a:lnTo>
                    <a:pt x="2255" y="277"/>
                  </a:lnTo>
                  <a:lnTo>
                    <a:pt x="2250" y="272"/>
                  </a:lnTo>
                  <a:lnTo>
                    <a:pt x="2245" y="267"/>
                  </a:lnTo>
                  <a:lnTo>
                    <a:pt x="2240" y="262"/>
                  </a:lnTo>
                  <a:lnTo>
                    <a:pt x="2235" y="257"/>
                  </a:lnTo>
                  <a:lnTo>
                    <a:pt x="2226" y="257"/>
                  </a:lnTo>
                  <a:lnTo>
                    <a:pt x="2216" y="257"/>
                  </a:lnTo>
                  <a:lnTo>
                    <a:pt x="2206" y="257"/>
                  </a:lnTo>
                  <a:lnTo>
                    <a:pt x="2196" y="257"/>
                  </a:lnTo>
                  <a:lnTo>
                    <a:pt x="2191" y="257"/>
                  </a:lnTo>
                  <a:lnTo>
                    <a:pt x="2181" y="257"/>
                  </a:lnTo>
                  <a:lnTo>
                    <a:pt x="2176" y="257"/>
                  </a:lnTo>
                  <a:lnTo>
                    <a:pt x="2171" y="262"/>
                  </a:lnTo>
                  <a:lnTo>
                    <a:pt x="2166" y="267"/>
                  </a:lnTo>
                  <a:lnTo>
                    <a:pt x="2161" y="272"/>
                  </a:lnTo>
                  <a:lnTo>
                    <a:pt x="2151" y="277"/>
                  </a:lnTo>
                  <a:lnTo>
                    <a:pt x="2146" y="277"/>
                  </a:lnTo>
                  <a:lnTo>
                    <a:pt x="2137" y="277"/>
                  </a:lnTo>
                  <a:lnTo>
                    <a:pt x="2127" y="277"/>
                  </a:lnTo>
                  <a:lnTo>
                    <a:pt x="2117" y="277"/>
                  </a:lnTo>
                  <a:lnTo>
                    <a:pt x="2107" y="277"/>
                  </a:lnTo>
                  <a:lnTo>
                    <a:pt x="2102" y="277"/>
                  </a:lnTo>
                  <a:lnTo>
                    <a:pt x="2097" y="282"/>
                  </a:lnTo>
                  <a:lnTo>
                    <a:pt x="2092" y="287"/>
                  </a:lnTo>
                  <a:lnTo>
                    <a:pt x="2092" y="297"/>
                  </a:lnTo>
                  <a:lnTo>
                    <a:pt x="2087" y="302"/>
                  </a:lnTo>
                  <a:lnTo>
                    <a:pt x="2082" y="307"/>
                  </a:lnTo>
                  <a:lnTo>
                    <a:pt x="2072" y="307"/>
                  </a:lnTo>
                  <a:lnTo>
                    <a:pt x="2067" y="307"/>
                  </a:lnTo>
                  <a:lnTo>
                    <a:pt x="2062" y="302"/>
                  </a:lnTo>
                  <a:lnTo>
                    <a:pt x="2057" y="297"/>
                  </a:lnTo>
                  <a:lnTo>
                    <a:pt x="2048" y="292"/>
                  </a:lnTo>
                  <a:lnTo>
                    <a:pt x="2043" y="292"/>
                  </a:lnTo>
                  <a:lnTo>
                    <a:pt x="2033" y="292"/>
                  </a:lnTo>
                  <a:lnTo>
                    <a:pt x="2023" y="292"/>
                  </a:lnTo>
                  <a:lnTo>
                    <a:pt x="2013" y="292"/>
                  </a:lnTo>
                  <a:lnTo>
                    <a:pt x="2003" y="292"/>
                  </a:lnTo>
                  <a:lnTo>
                    <a:pt x="1998" y="287"/>
                  </a:lnTo>
                  <a:lnTo>
                    <a:pt x="1988" y="282"/>
                  </a:lnTo>
                  <a:lnTo>
                    <a:pt x="1983" y="277"/>
                  </a:lnTo>
                  <a:lnTo>
                    <a:pt x="1978" y="272"/>
                  </a:lnTo>
                  <a:lnTo>
                    <a:pt x="1973" y="267"/>
                  </a:lnTo>
                  <a:lnTo>
                    <a:pt x="1968" y="267"/>
                  </a:lnTo>
                  <a:lnTo>
                    <a:pt x="1959" y="267"/>
                  </a:lnTo>
                  <a:lnTo>
                    <a:pt x="1949" y="272"/>
                  </a:lnTo>
                  <a:lnTo>
                    <a:pt x="1939" y="272"/>
                  </a:lnTo>
                  <a:lnTo>
                    <a:pt x="1934" y="272"/>
                  </a:lnTo>
                  <a:lnTo>
                    <a:pt x="1924" y="277"/>
                  </a:lnTo>
                  <a:lnTo>
                    <a:pt x="1914" y="277"/>
                  </a:lnTo>
                  <a:lnTo>
                    <a:pt x="1904" y="277"/>
                  </a:lnTo>
                  <a:lnTo>
                    <a:pt x="1899" y="277"/>
                  </a:lnTo>
                  <a:lnTo>
                    <a:pt x="1889" y="282"/>
                  </a:lnTo>
                  <a:lnTo>
                    <a:pt x="1879" y="282"/>
                  </a:lnTo>
                  <a:lnTo>
                    <a:pt x="1874" y="282"/>
                  </a:lnTo>
                  <a:lnTo>
                    <a:pt x="1865" y="287"/>
                  </a:lnTo>
                  <a:lnTo>
                    <a:pt x="1855" y="287"/>
                  </a:lnTo>
                  <a:lnTo>
                    <a:pt x="1845" y="292"/>
                  </a:lnTo>
                  <a:lnTo>
                    <a:pt x="1840" y="292"/>
                  </a:lnTo>
                  <a:lnTo>
                    <a:pt x="1830" y="292"/>
                  </a:lnTo>
                  <a:lnTo>
                    <a:pt x="1820" y="297"/>
                  </a:lnTo>
                  <a:lnTo>
                    <a:pt x="1815" y="297"/>
                  </a:lnTo>
                  <a:lnTo>
                    <a:pt x="1805" y="297"/>
                  </a:lnTo>
                  <a:lnTo>
                    <a:pt x="1795" y="302"/>
                  </a:lnTo>
                  <a:lnTo>
                    <a:pt x="1790" y="302"/>
                  </a:lnTo>
                  <a:lnTo>
                    <a:pt x="1780" y="302"/>
                  </a:lnTo>
                  <a:lnTo>
                    <a:pt x="1771" y="302"/>
                  </a:lnTo>
                  <a:lnTo>
                    <a:pt x="1761" y="307"/>
                  </a:lnTo>
                  <a:lnTo>
                    <a:pt x="1756" y="307"/>
                  </a:lnTo>
                  <a:lnTo>
                    <a:pt x="1751" y="312"/>
                  </a:lnTo>
                  <a:lnTo>
                    <a:pt x="1751" y="322"/>
                  </a:lnTo>
                  <a:lnTo>
                    <a:pt x="1756" y="327"/>
                  </a:lnTo>
                  <a:lnTo>
                    <a:pt x="1761" y="331"/>
                  </a:lnTo>
                  <a:lnTo>
                    <a:pt x="1766" y="336"/>
                  </a:lnTo>
                  <a:lnTo>
                    <a:pt x="1771" y="341"/>
                  </a:lnTo>
                  <a:lnTo>
                    <a:pt x="1771" y="346"/>
                  </a:lnTo>
                  <a:lnTo>
                    <a:pt x="1776" y="351"/>
                  </a:lnTo>
                  <a:lnTo>
                    <a:pt x="1776" y="356"/>
                  </a:lnTo>
                  <a:lnTo>
                    <a:pt x="1780" y="361"/>
                  </a:lnTo>
                  <a:lnTo>
                    <a:pt x="1785" y="366"/>
                  </a:lnTo>
                  <a:lnTo>
                    <a:pt x="1790" y="371"/>
                  </a:lnTo>
                  <a:lnTo>
                    <a:pt x="1785" y="376"/>
                  </a:lnTo>
                  <a:lnTo>
                    <a:pt x="1780" y="376"/>
                  </a:lnTo>
                  <a:lnTo>
                    <a:pt x="1776" y="371"/>
                  </a:lnTo>
                  <a:lnTo>
                    <a:pt x="1771" y="366"/>
                  </a:lnTo>
                  <a:lnTo>
                    <a:pt x="1761" y="366"/>
                  </a:lnTo>
                  <a:lnTo>
                    <a:pt x="1756" y="361"/>
                  </a:lnTo>
                  <a:lnTo>
                    <a:pt x="1751" y="356"/>
                  </a:lnTo>
                  <a:lnTo>
                    <a:pt x="1746" y="351"/>
                  </a:lnTo>
                  <a:lnTo>
                    <a:pt x="1741" y="346"/>
                  </a:lnTo>
                  <a:lnTo>
                    <a:pt x="1736" y="341"/>
                  </a:lnTo>
                  <a:lnTo>
                    <a:pt x="1731" y="336"/>
                  </a:lnTo>
                  <a:lnTo>
                    <a:pt x="1726" y="331"/>
                  </a:lnTo>
                  <a:lnTo>
                    <a:pt x="1721" y="327"/>
                  </a:lnTo>
                  <a:lnTo>
                    <a:pt x="1716" y="322"/>
                  </a:lnTo>
                  <a:lnTo>
                    <a:pt x="1711" y="317"/>
                  </a:lnTo>
                  <a:lnTo>
                    <a:pt x="1701" y="317"/>
                  </a:lnTo>
                  <a:lnTo>
                    <a:pt x="1691" y="317"/>
                  </a:lnTo>
                  <a:lnTo>
                    <a:pt x="1687" y="317"/>
                  </a:lnTo>
                  <a:lnTo>
                    <a:pt x="1677" y="322"/>
                  </a:lnTo>
                  <a:lnTo>
                    <a:pt x="1672" y="322"/>
                  </a:lnTo>
                  <a:lnTo>
                    <a:pt x="1667" y="317"/>
                  </a:lnTo>
                  <a:lnTo>
                    <a:pt x="1662" y="312"/>
                  </a:lnTo>
                  <a:lnTo>
                    <a:pt x="1652" y="307"/>
                  </a:lnTo>
                  <a:lnTo>
                    <a:pt x="1647" y="302"/>
                  </a:lnTo>
                  <a:lnTo>
                    <a:pt x="1642" y="302"/>
                  </a:lnTo>
                  <a:lnTo>
                    <a:pt x="1637" y="297"/>
                  </a:lnTo>
                  <a:lnTo>
                    <a:pt x="1632" y="292"/>
                  </a:lnTo>
                  <a:lnTo>
                    <a:pt x="1627" y="287"/>
                  </a:lnTo>
                  <a:lnTo>
                    <a:pt x="1617" y="282"/>
                  </a:lnTo>
                  <a:lnTo>
                    <a:pt x="1612" y="282"/>
                  </a:lnTo>
                  <a:lnTo>
                    <a:pt x="1602" y="282"/>
                  </a:lnTo>
                  <a:lnTo>
                    <a:pt x="1593" y="282"/>
                  </a:lnTo>
                  <a:lnTo>
                    <a:pt x="1583" y="287"/>
                  </a:lnTo>
                  <a:lnTo>
                    <a:pt x="1578" y="292"/>
                  </a:lnTo>
                  <a:lnTo>
                    <a:pt x="1573" y="297"/>
                  </a:lnTo>
                  <a:lnTo>
                    <a:pt x="1563" y="297"/>
                  </a:lnTo>
                  <a:lnTo>
                    <a:pt x="1558" y="302"/>
                  </a:lnTo>
                  <a:lnTo>
                    <a:pt x="1548" y="307"/>
                  </a:lnTo>
                  <a:lnTo>
                    <a:pt x="1543" y="302"/>
                  </a:lnTo>
                  <a:lnTo>
                    <a:pt x="1538" y="297"/>
                  </a:lnTo>
                  <a:lnTo>
                    <a:pt x="1533" y="292"/>
                  </a:lnTo>
                  <a:lnTo>
                    <a:pt x="1528" y="287"/>
                  </a:lnTo>
                  <a:lnTo>
                    <a:pt x="1523" y="282"/>
                  </a:lnTo>
                  <a:lnTo>
                    <a:pt x="1513" y="282"/>
                  </a:lnTo>
                  <a:lnTo>
                    <a:pt x="1508" y="282"/>
                  </a:lnTo>
                  <a:lnTo>
                    <a:pt x="1499" y="287"/>
                  </a:lnTo>
                  <a:lnTo>
                    <a:pt x="1489" y="287"/>
                  </a:lnTo>
                  <a:lnTo>
                    <a:pt x="1479" y="292"/>
                  </a:lnTo>
                  <a:lnTo>
                    <a:pt x="1469" y="292"/>
                  </a:lnTo>
                  <a:lnTo>
                    <a:pt x="1464" y="292"/>
                  </a:lnTo>
                  <a:lnTo>
                    <a:pt x="1459" y="297"/>
                  </a:lnTo>
                  <a:lnTo>
                    <a:pt x="1464" y="302"/>
                  </a:lnTo>
                  <a:lnTo>
                    <a:pt x="1469" y="307"/>
                  </a:lnTo>
                  <a:lnTo>
                    <a:pt x="1474" y="312"/>
                  </a:lnTo>
                  <a:lnTo>
                    <a:pt x="1489" y="317"/>
                  </a:lnTo>
                  <a:lnTo>
                    <a:pt x="1499" y="317"/>
                  </a:lnTo>
                  <a:lnTo>
                    <a:pt x="1504" y="322"/>
                  </a:lnTo>
                  <a:lnTo>
                    <a:pt x="1499" y="322"/>
                  </a:lnTo>
                  <a:lnTo>
                    <a:pt x="1489" y="322"/>
                  </a:lnTo>
                  <a:lnTo>
                    <a:pt x="1484" y="317"/>
                  </a:lnTo>
                  <a:lnTo>
                    <a:pt x="1479" y="312"/>
                  </a:lnTo>
                  <a:lnTo>
                    <a:pt x="1474" y="302"/>
                  </a:lnTo>
                  <a:lnTo>
                    <a:pt x="1469" y="297"/>
                  </a:lnTo>
                  <a:lnTo>
                    <a:pt x="1464" y="292"/>
                  </a:lnTo>
                  <a:lnTo>
                    <a:pt x="1464" y="292"/>
                  </a:lnTo>
                  <a:lnTo>
                    <a:pt x="1459" y="297"/>
                  </a:lnTo>
                  <a:lnTo>
                    <a:pt x="1454" y="302"/>
                  </a:lnTo>
                  <a:lnTo>
                    <a:pt x="1444" y="307"/>
                  </a:lnTo>
                  <a:lnTo>
                    <a:pt x="1439" y="312"/>
                  </a:lnTo>
                  <a:lnTo>
                    <a:pt x="1434" y="317"/>
                  </a:lnTo>
                  <a:lnTo>
                    <a:pt x="1424" y="317"/>
                  </a:lnTo>
                  <a:lnTo>
                    <a:pt x="1415" y="317"/>
                  </a:lnTo>
                  <a:lnTo>
                    <a:pt x="1405" y="317"/>
                  </a:lnTo>
                  <a:lnTo>
                    <a:pt x="1400" y="322"/>
                  </a:lnTo>
                  <a:lnTo>
                    <a:pt x="1395" y="327"/>
                  </a:lnTo>
                  <a:lnTo>
                    <a:pt x="1390" y="331"/>
                  </a:lnTo>
                  <a:lnTo>
                    <a:pt x="1385" y="336"/>
                  </a:lnTo>
                  <a:lnTo>
                    <a:pt x="1375" y="341"/>
                  </a:lnTo>
                  <a:lnTo>
                    <a:pt x="1370" y="341"/>
                  </a:lnTo>
                  <a:lnTo>
                    <a:pt x="1360" y="341"/>
                  </a:lnTo>
                  <a:lnTo>
                    <a:pt x="1350" y="341"/>
                  </a:lnTo>
                  <a:lnTo>
                    <a:pt x="1340" y="341"/>
                  </a:lnTo>
                  <a:lnTo>
                    <a:pt x="1330" y="346"/>
                  </a:lnTo>
                  <a:lnTo>
                    <a:pt x="1326" y="351"/>
                  </a:lnTo>
                  <a:lnTo>
                    <a:pt x="1321" y="356"/>
                  </a:lnTo>
                  <a:lnTo>
                    <a:pt x="1316" y="361"/>
                  </a:lnTo>
                  <a:lnTo>
                    <a:pt x="1311" y="361"/>
                  </a:lnTo>
                  <a:lnTo>
                    <a:pt x="1301" y="366"/>
                  </a:lnTo>
                  <a:lnTo>
                    <a:pt x="1291" y="366"/>
                  </a:lnTo>
                  <a:lnTo>
                    <a:pt x="1286" y="371"/>
                  </a:lnTo>
                  <a:lnTo>
                    <a:pt x="1276" y="371"/>
                  </a:lnTo>
                  <a:lnTo>
                    <a:pt x="1266" y="376"/>
                  </a:lnTo>
                  <a:lnTo>
                    <a:pt x="1261" y="376"/>
                  </a:lnTo>
                  <a:lnTo>
                    <a:pt x="1261" y="386"/>
                  </a:lnTo>
                  <a:lnTo>
                    <a:pt x="1256" y="391"/>
                  </a:lnTo>
                  <a:lnTo>
                    <a:pt x="1251" y="396"/>
                  </a:lnTo>
                  <a:lnTo>
                    <a:pt x="1251" y="401"/>
                  </a:lnTo>
                  <a:lnTo>
                    <a:pt x="1246" y="406"/>
                  </a:lnTo>
                  <a:lnTo>
                    <a:pt x="1241" y="411"/>
                  </a:lnTo>
                  <a:lnTo>
                    <a:pt x="1236" y="416"/>
                  </a:lnTo>
                  <a:lnTo>
                    <a:pt x="1236" y="420"/>
                  </a:lnTo>
                  <a:lnTo>
                    <a:pt x="1232" y="425"/>
                  </a:lnTo>
                  <a:lnTo>
                    <a:pt x="1232" y="435"/>
                  </a:lnTo>
                  <a:lnTo>
                    <a:pt x="1227" y="440"/>
                  </a:lnTo>
                  <a:lnTo>
                    <a:pt x="1227" y="445"/>
                  </a:lnTo>
                  <a:lnTo>
                    <a:pt x="1222" y="445"/>
                  </a:lnTo>
                  <a:lnTo>
                    <a:pt x="1217" y="445"/>
                  </a:lnTo>
                  <a:lnTo>
                    <a:pt x="1217" y="440"/>
                  </a:lnTo>
                  <a:lnTo>
                    <a:pt x="1212" y="430"/>
                  </a:lnTo>
                  <a:lnTo>
                    <a:pt x="1212" y="425"/>
                  </a:lnTo>
                  <a:lnTo>
                    <a:pt x="1212" y="416"/>
                  </a:lnTo>
                  <a:lnTo>
                    <a:pt x="1212" y="411"/>
                  </a:lnTo>
                  <a:lnTo>
                    <a:pt x="1217" y="406"/>
                  </a:lnTo>
                  <a:lnTo>
                    <a:pt x="1227" y="406"/>
                  </a:lnTo>
                  <a:lnTo>
                    <a:pt x="1236" y="401"/>
                  </a:lnTo>
                  <a:lnTo>
                    <a:pt x="1246" y="401"/>
                  </a:lnTo>
                  <a:lnTo>
                    <a:pt x="1251" y="401"/>
                  </a:lnTo>
                  <a:lnTo>
                    <a:pt x="1251" y="396"/>
                  </a:lnTo>
                  <a:lnTo>
                    <a:pt x="1246" y="391"/>
                  </a:lnTo>
                  <a:lnTo>
                    <a:pt x="1241" y="386"/>
                  </a:lnTo>
                  <a:lnTo>
                    <a:pt x="1236" y="381"/>
                  </a:lnTo>
                  <a:lnTo>
                    <a:pt x="1232" y="371"/>
                  </a:lnTo>
                  <a:lnTo>
                    <a:pt x="1227" y="366"/>
                  </a:lnTo>
                  <a:lnTo>
                    <a:pt x="1222" y="366"/>
                  </a:lnTo>
                  <a:lnTo>
                    <a:pt x="1217" y="376"/>
                  </a:lnTo>
                  <a:lnTo>
                    <a:pt x="1212" y="381"/>
                  </a:lnTo>
                  <a:lnTo>
                    <a:pt x="1207" y="386"/>
                  </a:lnTo>
                  <a:lnTo>
                    <a:pt x="1202" y="391"/>
                  </a:lnTo>
                  <a:lnTo>
                    <a:pt x="1197" y="396"/>
                  </a:lnTo>
                  <a:lnTo>
                    <a:pt x="1197" y="401"/>
                  </a:lnTo>
                  <a:lnTo>
                    <a:pt x="1192" y="406"/>
                  </a:lnTo>
                  <a:lnTo>
                    <a:pt x="1192" y="411"/>
                  </a:lnTo>
                  <a:lnTo>
                    <a:pt x="1192" y="416"/>
                  </a:lnTo>
                  <a:lnTo>
                    <a:pt x="1187" y="420"/>
                  </a:lnTo>
                  <a:lnTo>
                    <a:pt x="1187" y="425"/>
                  </a:lnTo>
                  <a:lnTo>
                    <a:pt x="1187" y="435"/>
                  </a:lnTo>
                  <a:lnTo>
                    <a:pt x="1182" y="440"/>
                  </a:lnTo>
                  <a:lnTo>
                    <a:pt x="1177" y="445"/>
                  </a:lnTo>
                  <a:lnTo>
                    <a:pt x="1172" y="450"/>
                  </a:lnTo>
                  <a:lnTo>
                    <a:pt x="1172" y="455"/>
                  </a:lnTo>
                  <a:lnTo>
                    <a:pt x="1167" y="460"/>
                  </a:lnTo>
                  <a:lnTo>
                    <a:pt x="1162" y="465"/>
                  </a:lnTo>
                  <a:lnTo>
                    <a:pt x="1162" y="470"/>
                  </a:lnTo>
                  <a:lnTo>
                    <a:pt x="1162" y="475"/>
                  </a:lnTo>
                  <a:lnTo>
                    <a:pt x="1162" y="480"/>
                  </a:lnTo>
                  <a:lnTo>
                    <a:pt x="1157" y="490"/>
                  </a:lnTo>
                  <a:lnTo>
                    <a:pt x="1157" y="495"/>
                  </a:lnTo>
                  <a:lnTo>
                    <a:pt x="1152" y="500"/>
                  </a:lnTo>
                  <a:lnTo>
                    <a:pt x="1152" y="504"/>
                  </a:lnTo>
                  <a:lnTo>
                    <a:pt x="1147" y="509"/>
                  </a:lnTo>
                  <a:lnTo>
                    <a:pt x="1143" y="514"/>
                  </a:lnTo>
                  <a:lnTo>
                    <a:pt x="1143" y="519"/>
                  </a:lnTo>
                  <a:lnTo>
                    <a:pt x="1143" y="524"/>
                  </a:lnTo>
                  <a:lnTo>
                    <a:pt x="1138" y="529"/>
                  </a:lnTo>
                  <a:lnTo>
                    <a:pt x="1138" y="539"/>
                  </a:lnTo>
                  <a:lnTo>
                    <a:pt x="1133" y="544"/>
                  </a:lnTo>
                  <a:lnTo>
                    <a:pt x="1133" y="549"/>
                  </a:lnTo>
                  <a:lnTo>
                    <a:pt x="1128" y="554"/>
                  </a:lnTo>
                  <a:lnTo>
                    <a:pt x="1123" y="559"/>
                  </a:lnTo>
                  <a:lnTo>
                    <a:pt x="1123" y="564"/>
                  </a:lnTo>
                  <a:lnTo>
                    <a:pt x="1123" y="569"/>
                  </a:lnTo>
                  <a:lnTo>
                    <a:pt x="1118" y="574"/>
                  </a:lnTo>
                  <a:lnTo>
                    <a:pt x="1118" y="584"/>
                  </a:lnTo>
                  <a:lnTo>
                    <a:pt x="1118" y="589"/>
                  </a:lnTo>
                  <a:lnTo>
                    <a:pt x="1118" y="593"/>
                  </a:lnTo>
                  <a:lnTo>
                    <a:pt x="1118" y="598"/>
                  </a:lnTo>
                  <a:lnTo>
                    <a:pt x="1118" y="603"/>
                  </a:lnTo>
                  <a:lnTo>
                    <a:pt x="1113" y="608"/>
                  </a:lnTo>
                  <a:lnTo>
                    <a:pt x="1113" y="613"/>
                  </a:lnTo>
                  <a:lnTo>
                    <a:pt x="1113" y="618"/>
                  </a:lnTo>
                  <a:lnTo>
                    <a:pt x="1108" y="623"/>
                  </a:lnTo>
                  <a:lnTo>
                    <a:pt x="1103" y="628"/>
                  </a:lnTo>
                  <a:lnTo>
                    <a:pt x="1103" y="638"/>
                  </a:lnTo>
                  <a:lnTo>
                    <a:pt x="1098" y="643"/>
                  </a:lnTo>
                  <a:lnTo>
                    <a:pt x="1093" y="653"/>
                  </a:lnTo>
                  <a:lnTo>
                    <a:pt x="1093" y="658"/>
                  </a:lnTo>
                  <a:lnTo>
                    <a:pt x="1088" y="658"/>
                  </a:lnTo>
                  <a:lnTo>
                    <a:pt x="1088" y="653"/>
                  </a:lnTo>
                  <a:lnTo>
                    <a:pt x="1088" y="648"/>
                  </a:lnTo>
                  <a:lnTo>
                    <a:pt x="1083" y="638"/>
                  </a:lnTo>
                  <a:lnTo>
                    <a:pt x="1083" y="633"/>
                  </a:lnTo>
                  <a:lnTo>
                    <a:pt x="1078" y="628"/>
                  </a:lnTo>
                  <a:lnTo>
                    <a:pt x="1078" y="623"/>
                  </a:lnTo>
                  <a:lnTo>
                    <a:pt x="1073" y="618"/>
                  </a:lnTo>
                  <a:lnTo>
                    <a:pt x="1073" y="613"/>
                  </a:lnTo>
                  <a:lnTo>
                    <a:pt x="1073" y="608"/>
                  </a:lnTo>
                  <a:lnTo>
                    <a:pt x="1073" y="598"/>
                  </a:lnTo>
                  <a:lnTo>
                    <a:pt x="1073" y="593"/>
                  </a:lnTo>
                  <a:lnTo>
                    <a:pt x="1073" y="589"/>
                  </a:lnTo>
                  <a:lnTo>
                    <a:pt x="1073" y="584"/>
                  </a:lnTo>
                  <a:lnTo>
                    <a:pt x="1073" y="579"/>
                  </a:lnTo>
                  <a:lnTo>
                    <a:pt x="1073" y="569"/>
                  </a:lnTo>
                  <a:lnTo>
                    <a:pt x="1073" y="564"/>
                  </a:lnTo>
                  <a:lnTo>
                    <a:pt x="1073" y="559"/>
                  </a:lnTo>
                  <a:lnTo>
                    <a:pt x="1078" y="554"/>
                  </a:lnTo>
                  <a:lnTo>
                    <a:pt x="1083" y="549"/>
                  </a:lnTo>
                  <a:lnTo>
                    <a:pt x="1088" y="544"/>
                  </a:lnTo>
                  <a:lnTo>
                    <a:pt x="1093" y="539"/>
                  </a:lnTo>
                  <a:lnTo>
                    <a:pt x="1098" y="534"/>
                  </a:lnTo>
                  <a:lnTo>
                    <a:pt x="1103" y="529"/>
                  </a:lnTo>
                  <a:lnTo>
                    <a:pt x="1103" y="524"/>
                  </a:lnTo>
                  <a:lnTo>
                    <a:pt x="1098" y="519"/>
                  </a:lnTo>
                  <a:lnTo>
                    <a:pt x="1098" y="514"/>
                  </a:lnTo>
                  <a:lnTo>
                    <a:pt x="1098" y="509"/>
                  </a:lnTo>
                  <a:lnTo>
                    <a:pt x="1098" y="504"/>
                  </a:lnTo>
                  <a:lnTo>
                    <a:pt x="1103" y="500"/>
                  </a:lnTo>
                  <a:lnTo>
                    <a:pt x="1108" y="495"/>
                  </a:lnTo>
                  <a:lnTo>
                    <a:pt x="1113" y="490"/>
                  </a:lnTo>
                  <a:lnTo>
                    <a:pt x="1123" y="485"/>
                  </a:lnTo>
                  <a:lnTo>
                    <a:pt x="1128" y="480"/>
                  </a:lnTo>
                  <a:lnTo>
                    <a:pt x="1128" y="475"/>
                  </a:lnTo>
                  <a:lnTo>
                    <a:pt x="1128" y="470"/>
                  </a:lnTo>
                  <a:lnTo>
                    <a:pt x="1123" y="465"/>
                  </a:lnTo>
                  <a:lnTo>
                    <a:pt x="1123" y="455"/>
                  </a:lnTo>
                  <a:lnTo>
                    <a:pt x="1123" y="450"/>
                  </a:lnTo>
                  <a:lnTo>
                    <a:pt x="1123" y="445"/>
                  </a:lnTo>
                  <a:lnTo>
                    <a:pt x="1128" y="440"/>
                  </a:lnTo>
                  <a:lnTo>
                    <a:pt x="1138" y="435"/>
                  </a:lnTo>
                  <a:lnTo>
                    <a:pt x="1143" y="430"/>
                  </a:lnTo>
                  <a:lnTo>
                    <a:pt x="1147" y="425"/>
                  </a:lnTo>
                  <a:lnTo>
                    <a:pt x="1152" y="425"/>
                  </a:lnTo>
                  <a:lnTo>
                    <a:pt x="1152" y="416"/>
                  </a:lnTo>
                  <a:lnTo>
                    <a:pt x="1152" y="411"/>
                  </a:lnTo>
                  <a:lnTo>
                    <a:pt x="1147" y="406"/>
                  </a:lnTo>
                  <a:lnTo>
                    <a:pt x="1147" y="401"/>
                  </a:lnTo>
                  <a:lnTo>
                    <a:pt x="1147" y="396"/>
                  </a:lnTo>
                  <a:lnTo>
                    <a:pt x="1152" y="391"/>
                  </a:lnTo>
                  <a:lnTo>
                    <a:pt x="1152" y="381"/>
                  </a:lnTo>
                  <a:lnTo>
                    <a:pt x="1157" y="376"/>
                  </a:lnTo>
                  <a:lnTo>
                    <a:pt x="1152" y="371"/>
                  </a:lnTo>
                  <a:lnTo>
                    <a:pt x="1147" y="366"/>
                  </a:lnTo>
                  <a:lnTo>
                    <a:pt x="1143" y="361"/>
                  </a:lnTo>
                  <a:lnTo>
                    <a:pt x="1138" y="366"/>
                  </a:lnTo>
                  <a:lnTo>
                    <a:pt x="1138" y="371"/>
                  </a:lnTo>
                  <a:lnTo>
                    <a:pt x="1138" y="381"/>
                  </a:lnTo>
                  <a:lnTo>
                    <a:pt x="1133" y="386"/>
                  </a:lnTo>
                  <a:lnTo>
                    <a:pt x="1133" y="391"/>
                  </a:lnTo>
                  <a:lnTo>
                    <a:pt x="1128" y="396"/>
                  </a:lnTo>
                  <a:lnTo>
                    <a:pt x="1128" y="401"/>
                  </a:lnTo>
                  <a:lnTo>
                    <a:pt x="1123" y="406"/>
                  </a:lnTo>
                  <a:lnTo>
                    <a:pt x="1118" y="411"/>
                  </a:lnTo>
                  <a:lnTo>
                    <a:pt x="1113" y="416"/>
                  </a:lnTo>
                  <a:lnTo>
                    <a:pt x="1108" y="420"/>
                  </a:lnTo>
                  <a:lnTo>
                    <a:pt x="1108" y="425"/>
                  </a:lnTo>
                  <a:lnTo>
                    <a:pt x="1108" y="430"/>
                  </a:lnTo>
                  <a:lnTo>
                    <a:pt x="1108" y="440"/>
                  </a:lnTo>
                  <a:lnTo>
                    <a:pt x="1108" y="445"/>
                  </a:lnTo>
                  <a:lnTo>
                    <a:pt x="1103" y="450"/>
                  </a:lnTo>
                  <a:lnTo>
                    <a:pt x="1103" y="455"/>
                  </a:lnTo>
                  <a:lnTo>
                    <a:pt x="1098" y="460"/>
                  </a:lnTo>
                  <a:lnTo>
                    <a:pt x="1093" y="465"/>
                  </a:lnTo>
                  <a:lnTo>
                    <a:pt x="1088" y="470"/>
                  </a:lnTo>
                  <a:lnTo>
                    <a:pt x="1083" y="475"/>
                  </a:lnTo>
                  <a:lnTo>
                    <a:pt x="1083" y="480"/>
                  </a:lnTo>
                  <a:lnTo>
                    <a:pt x="1078" y="485"/>
                  </a:lnTo>
                  <a:lnTo>
                    <a:pt x="1078" y="490"/>
                  </a:lnTo>
                  <a:lnTo>
                    <a:pt x="1078" y="500"/>
                  </a:lnTo>
                  <a:lnTo>
                    <a:pt x="1078" y="504"/>
                  </a:lnTo>
                  <a:lnTo>
                    <a:pt x="1073" y="509"/>
                  </a:lnTo>
                  <a:lnTo>
                    <a:pt x="1073" y="514"/>
                  </a:lnTo>
                  <a:lnTo>
                    <a:pt x="1068" y="519"/>
                  </a:lnTo>
                  <a:lnTo>
                    <a:pt x="1063" y="524"/>
                  </a:lnTo>
                  <a:lnTo>
                    <a:pt x="1058" y="529"/>
                  </a:lnTo>
                  <a:lnTo>
                    <a:pt x="1053" y="534"/>
                  </a:lnTo>
                  <a:lnTo>
                    <a:pt x="1053" y="539"/>
                  </a:lnTo>
                  <a:lnTo>
                    <a:pt x="1053" y="544"/>
                  </a:lnTo>
                  <a:lnTo>
                    <a:pt x="1053" y="549"/>
                  </a:lnTo>
                  <a:lnTo>
                    <a:pt x="1053" y="559"/>
                  </a:lnTo>
                  <a:lnTo>
                    <a:pt x="1053" y="564"/>
                  </a:lnTo>
                  <a:lnTo>
                    <a:pt x="1053" y="569"/>
                  </a:lnTo>
                  <a:lnTo>
                    <a:pt x="1053" y="574"/>
                  </a:lnTo>
                  <a:lnTo>
                    <a:pt x="1053" y="579"/>
                  </a:lnTo>
                  <a:lnTo>
                    <a:pt x="1053" y="584"/>
                  </a:lnTo>
                  <a:lnTo>
                    <a:pt x="1049" y="593"/>
                  </a:lnTo>
                  <a:lnTo>
                    <a:pt x="1049" y="598"/>
                  </a:lnTo>
                  <a:lnTo>
                    <a:pt x="1049" y="603"/>
                  </a:lnTo>
                  <a:lnTo>
                    <a:pt x="1049" y="608"/>
                  </a:lnTo>
                  <a:lnTo>
                    <a:pt x="1049" y="613"/>
                  </a:lnTo>
                  <a:lnTo>
                    <a:pt x="1049" y="618"/>
                  </a:lnTo>
                  <a:lnTo>
                    <a:pt x="1049" y="628"/>
                  </a:lnTo>
                  <a:lnTo>
                    <a:pt x="1049" y="633"/>
                  </a:lnTo>
                  <a:lnTo>
                    <a:pt x="1049" y="638"/>
                  </a:lnTo>
                  <a:lnTo>
                    <a:pt x="1049" y="643"/>
                  </a:lnTo>
                  <a:lnTo>
                    <a:pt x="1044" y="648"/>
                  </a:lnTo>
                  <a:lnTo>
                    <a:pt x="1044" y="653"/>
                  </a:lnTo>
                  <a:lnTo>
                    <a:pt x="1044" y="663"/>
                  </a:lnTo>
                  <a:lnTo>
                    <a:pt x="1044" y="668"/>
                  </a:lnTo>
                  <a:lnTo>
                    <a:pt x="1044" y="673"/>
                  </a:lnTo>
                  <a:lnTo>
                    <a:pt x="1049" y="677"/>
                  </a:lnTo>
                  <a:lnTo>
                    <a:pt x="1049" y="682"/>
                  </a:lnTo>
                  <a:lnTo>
                    <a:pt x="1053" y="687"/>
                  </a:lnTo>
                  <a:lnTo>
                    <a:pt x="1063" y="692"/>
                  </a:lnTo>
                  <a:lnTo>
                    <a:pt x="1068" y="697"/>
                  </a:lnTo>
                  <a:lnTo>
                    <a:pt x="1073" y="702"/>
                  </a:lnTo>
                  <a:lnTo>
                    <a:pt x="1073" y="707"/>
                  </a:lnTo>
                  <a:lnTo>
                    <a:pt x="1078" y="712"/>
                  </a:lnTo>
                  <a:lnTo>
                    <a:pt x="1078" y="717"/>
                  </a:lnTo>
                  <a:lnTo>
                    <a:pt x="1073" y="727"/>
                  </a:lnTo>
                  <a:lnTo>
                    <a:pt x="1073" y="732"/>
                  </a:lnTo>
                  <a:lnTo>
                    <a:pt x="1068" y="737"/>
                  </a:lnTo>
                  <a:lnTo>
                    <a:pt x="1063" y="737"/>
                  </a:lnTo>
                  <a:lnTo>
                    <a:pt x="1053" y="737"/>
                  </a:lnTo>
                  <a:lnTo>
                    <a:pt x="1049" y="732"/>
                  </a:lnTo>
                  <a:lnTo>
                    <a:pt x="1049" y="722"/>
                  </a:lnTo>
                  <a:lnTo>
                    <a:pt x="1049" y="717"/>
                  </a:lnTo>
                  <a:lnTo>
                    <a:pt x="1049" y="712"/>
                  </a:lnTo>
                  <a:lnTo>
                    <a:pt x="1053" y="707"/>
                  </a:lnTo>
                  <a:lnTo>
                    <a:pt x="1058" y="702"/>
                  </a:lnTo>
                  <a:lnTo>
                    <a:pt x="1063" y="697"/>
                  </a:lnTo>
                  <a:lnTo>
                    <a:pt x="1058" y="692"/>
                  </a:lnTo>
                  <a:lnTo>
                    <a:pt x="1053" y="682"/>
                  </a:lnTo>
                  <a:lnTo>
                    <a:pt x="1049" y="677"/>
                  </a:lnTo>
                  <a:lnTo>
                    <a:pt x="1039" y="677"/>
                  </a:lnTo>
                  <a:lnTo>
                    <a:pt x="1034" y="677"/>
                  </a:lnTo>
                  <a:lnTo>
                    <a:pt x="1029" y="682"/>
                  </a:lnTo>
                  <a:lnTo>
                    <a:pt x="1029" y="687"/>
                  </a:lnTo>
                  <a:lnTo>
                    <a:pt x="1029" y="697"/>
                  </a:lnTo>
                  <a:lnTo>
                    <a:pt x="1029" y="702"/>
                  </a:lnTo>
                  <a:lnTo>
                    <a:pt x="1029" y="707"/>
                  </a:lnTo>
                  <a:lnTo>
                    <a:pt x="1029" y="712"/>
                  </a:lnTo>
                  <a:lnTo>
                    <a:pt x="1029" y="717"/>
                  </a:lnTo>
                  <a:lnTo>
                    <a:pt x="1024" y="727"/>
                  </a:lnTo>
                  <a:lnTo>
                    <a:pt x="1024" y="732"/>
                  </a:lnTo>
                  <a:lnTo>
                    <a:pt x="1024" y="737"/>
                  </a:lnTo>
                  <a:lnTo>
                    <a:pt x="1024" y="742"/>
                  </a:lnTo>
                  <a:lnTo>
                    <a:pt x="1029" y="747"/>
                  </a:lnTo>
                  <a:lnTo>
                    <a:pt x="1029" y="752"/>
                  </a:lnTo>
                  <a:lnTo>
                    <a:pt x="1029" y="757"/>
                  </a:lnTo>
                  <a:lnTo>
                    <a:pt x="1029" y="766"/>
                  </a:lnTo>
                  <a:lnTo>
                    <a:pt x="1029" y="771"/>
                  </a:lnTo>
                  <a:lnTo>
                    <a:pt x="1024" y="776"/>
                  </a:lnTo>
                  <a:lnTo>
                    <a:pt x="1019" y="781"/>
                  </a:lnTo>
                  <a:lnTo>
                    <a:pt x="1014" y="786"/>
                  </a:lnTo>
                  <a:lnTo>
                    <a:pt x="1009" y="786"/>
                  </a:lnTo>
                  <a:lnTo>
                    <a:pt x="1004" y="781"/>
                  </a:lnTo>
                  <a:lnTo>
                    <a:pt x="1004" y="776"/>
                  </a:lnTo>
                  <a:close/>
                  <a:moveTo>
                    <a:pt x="955" y="589"/>
                  </a:moveTo>
                  <a:lnTo>
                    <a:pt x="955" y="579"/>
                  </a:lnTo>
                  <a:lnTo>
                    <a:pt x="955" y="579"/>
                  </a:lnTo>
                  <a:lnTo>
                    <a:pt x="960" y="579"/>
                  </a:lnTo>
                  <a:lnTo>
                    <a:pt x="960" y="589"/>
                  </a:lnTo>
                  <a:lnTo>
                    <a:pt x="960" y="593"/>
                  </a:lnTo>
                  <a:lnTo>
                    <a:pt x="960" y="598"/>
                  </a:lnTo>
                  <a:lnTo>
                    <a:pt x="960" y="603"/>
                  </a:lnTo>
                  <a:lnTo>
                    <a:pt x="960" y="608"/>
                  </a:lnTo>
                  <a:lnTo>
                    <a:pt x="955" y="608"/>
                  </a:lnTo>
                  <a:lnTo>
                    <a:pt x="955" y="608"/>
                  </a:lnTo>
                  <a:lnTo>
                    <a:pt x="955" y="608"/>
                  </a:lnTo>
                  <a:lnTo>
                    <a:pt x="955" y="603"/>
                  </a:lnTo>
                  <a:lnTo>
                    <a:pt x="955" y="593"/>
                  </a:lnTo>
                  <a:lnTo>
                    <a:pt x="955" y="589"/>
                  </a:lnTo>
                  <a:close/>
                  <a:moveTo>
                    <a:pt x="1405" y="480"/>
                  </a:moveTo>
                  <a:lnTo>
                    <a:pt x="1410" y="475"/>
                  </a:lnTo>
                  <a:lnTo>
                    <a:pt x="1410" y="475"/>
                  </a:lnTo>
                  <a:lnTo>
                    <a:pt x="1410" y="470"/>
                  </a:lnTo>
                  <a:lnTo>
                    <a:pt x="1415" y="465"/>
                  </a:lnTo>
                  <a:lnTo>
                    <a:pt x="1415" y="465"/>
                  </a:lnTo>
                  <a:lnTo>
                    <a:pt x="1419" y="460"/>
                  </a:lnTo>
                  <a:lnTo>
                    <a:pt x="1419" y="455"/>
                  </a:lnTo>
                  <a:lnTo>
                    <a:pt x="1424" y="450"/>
                  </a:lnTo>
                  <a:lnTo>
                    <a:pt x="1429" y="450"/>
                  </a:lnTo>
                  <a:lnTo>
                    <a:pt x="1429" y="445"/>
                  </a:lnTo>
                  <a:lnTo>
                    <a:pt x="1434" y="445"/>
                  </a:lnTo>
                  <a:lnTo>
                    <a:pt x="1439" y="445"/>
                  </a:lnTo>
                  <a:lnTo>
                    <a:pt x="1444" y="450"/>
                  </a:lnTo>
                  <a:lnTo>
                    <a:pt x="1449" y="455"/>
                  </a:lnTo>
                  <a:lnTo>
                    <a:pt x="1449" y="455"/>
                  </a:lnTo>
                  <a:lnTo>
                    <a:pt x="1444" y="460"/>
                  </a:lnTo>
                  <a:lnTo>
                    <a:pt x="1439" y="460"/>
                  </a:lnTo>
                  <a:lnTo>
                    <a:pt x="1434" y="465"/>
                  </a:lnTo>
                  <a:lnTo>
                    <a:pt x="1429" y="465"/>
                  </a:lnTo>
                  <a:lnTo>
                    <a:pt x="1424" y="470"/>
                  </a:lnTo>
                  <a:lnTo>
                    <a:pt x="1419" y="470"/>
                  </a:lnTo>
                  <a:lnTo>
                    <a:pt x="1415" y="475"/>
                  </a:lnTo>
                  <a:lnTo>
                    <a:pt x="1415" y="480"/>
                  </a:lnTo>
                  <a:lnTo>
                    <a:pt x="1410" y="485"/>
                  </a:lnTo>
                  <a:lnTo>
                    <a:pt x="1410" y="485"/>
                  </a:lnTo>
                  <a:lnTo>
                    <a:pt x="1405" y="480"/>
                  </a:lnTo>
                  <a:close/>
                  <a:moveTo>
                    <a:pt x="1593" y="425"/>
                  </a:moveTo>
                  <a:lnTo>
                    <a:pt x="1593" y="425"/>
                  </a:lnTo>
                  <a:lnTo>
                    <a:pt x="1598" y="420"/>
                  </a:lnTo>
                  <a:lnTo>
                    <a:pt x="1598" y="416"/>
                  </a:lnTo>
                  <a:lnTo>
                    <a:pt x="1602" y="416"/>
                  </a:lnTo>
                  <a:lnTo>
                    <a:pt x="1607" y="411"/>
                  </a:lnTo>
                  <a:lnTo>
                    <a:pt x="1607" y="411"/>
                  </a:lnTo>
                  <a:lnTo>
                    <a:pt x="1612" y="406"/>
                  </a:lnTo>
                  <a:lnTo>
                    <a:pt x="1612" y="401"/>
                  </a:lnTo>
                  <a:lnTo>
                    <a:pt x="1617" y="396"/>
                  </a:lnTo>
                  <a:lnTo>
                    <a:pt x="1617" y="396"/>
                  </a:lnTo>
                  <a:lnTo>
                    <a:pt x="1622" y="391"/>
                  </a:lnTo>
                  <a:lnTo>
                    <a:pt x="1627" y="396"/>
                  </a:lnTo>
                  <a:lnTo>
                    <a:pt x="1632" y="401"/>
                  </a:lnTo>
                  <a:lnTo>
                    <a:pt x="1627" y="401"/>
                  </a:lnTo>
                  <a:lnTo>
                    <a:pt x="1627" y="406"/>
                  </a:lnTo>
                  <a:lnTo>
                    <a:pt x="1622" y="406"/>
                  </a:lnTo>
                  <a:lnTo>
                    <a:pt x="1617" y="411"/>
                  </a:lnTo>
                  <a:lnTo>
                    <a:pt x="1612" y="411"/>
                  </a:lnTo>
                  <a:lnTo>
                    <a:pt x="1607" y="416"/>
                  </a:lnTo>
                  <a:lnTo>
                    <a:pt x="1607" y="416"/>
                  </a:lnTo>
                  <a:lnTo>
                    <a:pt x="1602" y="420"/>
                  </a:lnTo>
                  <a:lnTo>
                    <a:pt x="1602" y="425"/>
                  </a:lnTo>
                  <a:lnTo>
                    <a:pt x="1598" y="430"/>
                  </a:lnTo>
                  <a:lnTo>
                    <a:pt x="1598" y="430"/>
                  </a:lnTo>
                  <a:lnTo>
                    <a:pt x="1593" y="430"/>
                  </a:lnTo>
                  <a:lnTo>
                    <a:pt x="1593" y="425"/>
                  </a:lnTo>
                  <a:close/>
                  <a:moveTo>
                    <a:pt x="198" y="371"/>
                  </a:moveTo>
                  <a:lnTo>
                    <a:pt x="183" y="371"/>
                  </a:lnTo>
                  <a:lnTo>
                    <a:pt x="183" y="391"/>
                  </a:lnTo>
                  <a:lnTo>
                    <a:pt x="198" y="371"/>
                  </a:lnTo>
                  <a:close/>
                  <a:moveTo>
                    <a:pt x="233" y="346"/>
                  </a:moveTo>
                  <a:lnTo>
                    <a:pt x="213" y="346"/>
                  </a:lnTo>
                  <a:lnTo>
                    <a:pt x="213" y="361"/>
                  </a:lnTo>
                  <a:lnTo>
                    <a:pt x="233" y="346"/>
                  </a:lnTo>
                  <a:close/>
                  <a:moveTo>
                    <a:pt x="1177" y="346"/>
                  </a:moveTo>
                  <a:lnTo>
                    <a:pt x="1177" y="336"/>
                  </a:lnTo>
                  <a:lnTo>
                    <a:pt x="1177" y="327"/>
                  </a:lnTo>
                  <a:lnTo>
                    <a:pt x="1172" y="322"/>
                  </a:lnTo>
                  <a:lnTo>
                    <a:pt x="1167" y="322"/>
                  </a:lnTo>
                  <a:lnTo>
                    <a:pt x="1162" y="322"/>
                  </a:lnTo>
                  <a:lnTo>
                    <a:pt x="1157" y="331"/>
                  </a:lnTo>
                  <a:lnTo>
                    <a:pt x="1152" y="336"/>
                  </a:lnTo>
                  <a:lnTo>
                    <a:pt x="1152" y="346"/>
                  </a:lnTo>
                  <a:lnTo>
                    <a:pt x="1157" y="351"/>
                  </a:lnTo>
                  <a:lnTo>
                    <a:pt x="1162" y="361"/>
                  </a:lnTo>
                  <a:lnTo>
                    <a:pt x="1167" y="366"/>
                  </a:lnTo>
                  <a:lnTo>
                    <a:pt x="1172" y="361"/>
                  </a:lnTo>
                  <a:lnTo>
                    <a:pt x="1177" y="356"/>
                  </a:lnTo>
                  <a:lnTo>
                    <a:pt x="1177" y="346"/>
                  </a:lnTo>
                  <a:close/>
                  <a:moveTo>
                    <a:pt x="1677" y="292"/>
                  </a:moveTo>
                  <a:lnTo>
                    <a:pt x="1672" y="292"/>
                  </a:lnTo>
                  <a:lnTo>
                    <a:pt x="1667" y="292"/>
                  </a:lnTo>
                  <a:lnTo>
                    <a:pt x="1667" y="297"/>
                  </a:lnTo>
                  <a:lnTo>
                    <a:pt x="1662" y="297"/>
                  </a:lnTo>
                  <a:lnTo>
                    <a:pt x="1667" y="302"/>
                  </a:lnTo>
                  <a:lnTo>
                    <a:pt x="1667" y="307"/>
                  </a:lnTo>
                  <a:lnTo>
                    <a:pt x="1672" y="307"/>
                  </a:lnTo>
                  <a:lnTo>
                    <a:pt x="1677" y="312"/>
                  </a:lnTo>
                  <a:lnTo>
                    <a:pt x="1677" y="312"/>
                  </a:lnTo>
                  <a:lnTo>
                    <a:pt x="1677" y="312"/>
                  </a:lnTo>
                  <a:lnTo>
                    <a:pt x="1677" y="307"/>
                  </a:lnTo>
                  <a:lnTo>
                    <a:pt x="1677" y="302"/>
                  </a:lnTo>
                  <a:lnTo>
                    <a:pt x="1677" y="297"/>
                  </a:lnTo>
                  <a:lnTo>
                    <a:pt x="1677" y="292"/>
                  </a:lnTo>
                  <a:close/>
                  <a:moveTo>
                    <a:pt x="866" y="267"/>
                  </a:moveTo>
                  <a:lnTo>
                    <a:pt x="871" y="262"/>
                  </a:lnTo>
                  <a:lnTo>
                    <a:pt x="875" y="257"/>
                  </a:lnTo>
                  <a:lnTo>
                    <a:pt x="880" y="257"/>
                  </a:lnTo>
                  <a:lnTo>
                    <a:pt x="890" y="257"/>
                  </a:lnTo>
                  <a:lnTo>
                    <a:pt x="895" y="262"/>
                  </a:lnTo>
                  <a:lnTo>
                    <a:pt x="900" y="267"/>
                  </a:lnTo>
                  <a:lnTo>
                    <a:pt x="900" y="272"/>
                  </a:lnTo>
                  <a:lnTo>
                    <a:pt x="895" y="277"/>
                  </a:lnTo>
                  <a:lnTo>
                    <a:pt x="885" y="282"/>
                  </a:lnTo>
                  <a:lnTo>
                    <a:pt x="880" y="282"/>
                  </a:lnTo>
                  <a:lnTo>
                    <a:pt x="875" y="282"/>
                  </a:lnTo>
                  <a:lnTo>
                    <a:pt x="871" y="282"/>
                  </a:lnTo>
                  <a:lnTo>
                    <a:pt x="871" y="272"/>
                  </a:lnTo>
                  <a:lnTo>
                    <a:pt x="866" y="267"/>
                  </a:lnTo>
                  <a:close/>
                  <a:moveTo>
                    <a:pt x="1583" y="267"/>
                  </a:moveTo>
                  <a:lnTo>
                    <a:pt x="1578" y="262"/>
                  </a:lnTo>
                  <a:lnTo>
                    <a:pt x="1568" y="262"/>
                  </a:lnTo>
                  <a:lnTo>
                    <a:pt x="1563" y="262"/>
                  </a:lnTo>
                  <a:lnTo>
                    <a:pt x="1558" y="262"/>
                  </a:lnTo>
                  <a:lnTo>
                    <a:pt x="1548" y="262"/>
                  </a:lnTo>
                  <a:lnTo>
                    <a:pt x="1543" y="267"/>
                  </a:lnTo>
                  <a:lnTo>
                    <a:pt x="1533" y="267"/>
                  </a:lnTo>
                  <a:lnTo>
                    <a:pt x="1533" y="267"/>
                  </a:lnTo>
                  <a:lnTo>
                    <a:pt x="1533" y="272"/>
                  </a:lnTo>
                  <a:lnTo>
                    <a:pt x="1538" y="277"/>
                  </a:lnTo>
                  <a:lnTo>
                    <a:pt x="1548" y="282"/>
                  </a:lnTo>
                  <a:lnTo>
                    <a:pt x="1553" y="287"/>
                  </a:lnTo>
                  <a:lnTo>
                    <a:pt x="1558" y="287"/>
                  </a:lnTo>
                  <a:lnTo>
                    <a:pt x="1563" y="287"/>
                  </a:lnTo>
                  <a:lnTo>
                    <a:pt x="1568" y="287"/>
                  </a:lnTo>
                  <a:lnTo>
                    <a:pt x="1573" y="287"/>
                  </a:lnTo>
                  <a:lnTo>
                    <a:pt x="1578" y="282"/>
                  </a:lnTo>
                  <a:lnTo>
                    <a:pt x="1578" y="277"/>
                  </a:lnTo>
                  <a:lnTo>
                    <a:pt x="1583" y="272"/>
                  </a:lnTo>
                  <a:lnTo>
                    <a:pt x="1583" y="267"/>
                  </a:lnTo>
                  <a:close/>
                  <a:moveTo>
                    <a:pt x="1647" y="267"/>
                  </a:moveTo>
                  <a:lnTo>
                    <a:pt x="1647" y="267"/>
                  </a:lnTo>
                  <a:lnTo>
                    <a:pt x="1647" y="267"/>
                  </a:lnTo>
                  <a:lnTo>
                    <a:pt x="1647" y="267"/>
                  </a:lnTo>
                  <a:lnTo>
                    <a:pt x="1642" y="267"/>
                  </a:lnTo>
                  <a:lnTo>
                    <a:pt x="1647" y="267"/>
                  </a:lnTo>
                  <a:lnTo>
                    <a:pt x="1647" y="267"/>
                  </a:lnTo>
                  <a:lnTo>
                    <a:pt x="1647" y="272"/>
                  </a:lnTo>
                  <a:lnTo>
                    <a:pt x="1647" y="272"/>
                  </a:lnTo>
                  <a:lnTo>
                    <a:pt x="1647" y="272"/>
                  </a:lnTo>
                  <a:lnTo>
                    <a:pt x="1647" y="272"/>
                  </a:lnTo>
                  <a:lnTo>
                    <a:pt x="1647" y="272"/>
                  </a:lnTo>
                  <a:lnTo>
                    <a:pt x="1647" y="267"/>
                  </a:lnTo>
                  <a:lnTo>
                    <a:pt x="1647" y="267"/>
                  </a:lnTo>
                  <a:lnTo>
                    <a:pt x="1647" y="267"/>
                  </a:lnTo>
                  <a:close/>
                  <a:moveTo>
                    <a:pt x="905" y="238"/>
                  </a:moveTo>
                  <a:lnTo>
                    <a:pt x="910" y="238"/>
                  </a:lnTo>
                  <a:lnTo>
                    <a:pt x="915" y="233"/>
                  </a:lnTo>
                  <a:lnTo>
                    <a:pt x="920" y="228"/>
                  </a:lnTo>
                  <a:lnTo>
                    <a:pt x="925" y="223"/>
                  </a:lnTo>
                  <a:lnTo>
                    <a:pt x="930" y="218"/>
                  </a:lnTo>
                  <a:lnTo>
                    <a:pt x="935" y="213"/>
                  </a:lnTo>
                  <a:lnTo>
                    <a:pt x="935" y="208"/>
                  </a:lnTo>
                  <a:lnTo>
                    <a:pt x="940" y="203"/>
                  </a:lnTo>
                  <a:lnTo>
                    <a:pt x="945" y="198"/>
                  </a:lnTo>
                  <a:lnTo>
                    <a:pt x="950" y="193"/>
                  </a:lnTo>
                  <a:lnTo>
                    <a:pt x="955" y="193"/>
                  </a:lnTo>
                  <a:lnTo>
                    <a:pt x="960" y="188"/>
                  </a:lnTo>
                  <a:lnTo>
                    <a:pt x="964" y="188"/>
                  </a:lnTo>
                  <a:lnTo>
                    <a:pt x="969" y="183"/>
                  </a:lnTo>
                  <a:lnTo>
                    <a:pt x="974" y="178"/>
                  </a:lnTo>
                  <a:lnTo>
                    <a:pt x="979" y="173"/>
                  </a:lnTo>
                  <a:lnTo>
                    <a:pt x="984" y="168"/>
                  </a:lnTo>
                  <a:lnTo>
                    <a:pt x="989" y="168"/>
                  </a:lnTo>
                  <a:lnTo>
                    <a:pt x="994" y="163"/>
                  </a:lnTo>
                  <a:lnTo>
                    <a:pt x="1004" y="163"/>
                  </a:lnTo>
                  <a:lnTo>
                    <a:pt x="1014" y="163"/>
                  </a:lnTo>
                  <a:lnTo>
                    <a:pt x="1019" y="159"/>
                  </a:lnTo>
                  <a:lnTo>
                    <a:pt x="1029" y="159"/>
                  </a:lnTo>
                  <a:lnTo>
                    <a:pt x="1034" y="154"/>
                  </a:lnTo>
                  <a:lnTo>
                    <a:pt x="1039" y="154"/>
                  </a:lnTo>
                  <a:lnTo>
                    <a:pt x="1044" y="149"/>
                  </a:lnTo>
                  <a:lnTo>
                    <a:pt x="1053" y="149"/>
                  </a:lnTo>
                  <a:lnTo>
                    <a:pt x="1063" y="144"/>
                  </a:lnTo>
                  <a:lnTo>
                    <a:pt x="1068" y="149"/>
                  </a:lnTo>
                  <a:lnTo>
                    <a:pt x="1073" y="149"/>
                  </a:lnTo>
                  <a:lnTo>
                    <a:pt x="1078" y="154"/>
                  </a:lnTo>
                  <a:lnTo>
                    <a:pt x="1088" y="159"/>
                  </a:lnTo>
                  <a:lnTo>
                    <a:pt x="1088" y="159"/>
                  </a:lnTo>
                  <a:lnTo>
                    <a:pt x="1083" y="163"/>
                  </a:lnTo>
                  <a:lnTo>
                    <a:pt x="1078" y="168"/>
                  </a:lnTo>
                  <a:lnTo>
                    <a:pt x="1068" y="168"/>
                  </a:lnTo>
                  <a:lnTo>
                    <a:pt x="1063" y="168"/>
                  </a:lnTo>
                  <a:lnTo>
                    <a:pt x="1053" y="168"/>
                  </a:lnTo>
                  <a:lnTo>
                    <a:pt x="1044" y="168"/>
                  </a:lnTo>
                  <a:lnTo>
                    <a:pt x="1039" y="168"/>
                  </a:lnTo>
                  <a:lnTo>
                    <a:pt x="1034" y="168"/>
                  </a:lnTo>
                  <a:lnTo>
                    <a:pt x="1034" y="173"/>
                  </a:lnTo>
                  <a:lnTo>
                    <a:pt x="1034" y="178"/>
                  </a:lnTo>
                  <a:lnTo>
                    <a:pt x="1034" y="188"/>
                  </a:lnTo>
                  <a:lnTo>
                    <a:pt x="1034" y="193"/>
                  </a:lnTo>
                  <a:lnTo>
                    <a:pt x="1034" y="198"/>
                  </a:lnTo>
                  <a:lnTo>
                    <a:pt x="1034" y="203"/>
                  </a:lnTo>
                  <a:lnTo>
                    <a:pt x="1034" y="208"/>
                  </a:lnTo>
                  <a:lnTo>
                    <a:pt x="1044" y="208"/>
                  </a:lnTo>
                  <a:lnTo>
                    <a:pt x="1049" y="213"/>
                  </a:lnTo>
                  <a:lnTo>
                    <a:pt x="1044" y="218"/>
                  </a:lnTo>
                  <a:lnTo>
                    <a:pt x="1034" y="218"/>
                  </a:lnTo>
                  <a:lnTo>
                    <a:pt x="1029" y="223"/>
                  </a:lnTo>
                  <a:lnTo>
                    <a:pt x="1019" y="228"/>
                  </a:lnTo>
                  <a:lnTo>
                    <a:pt x="1014" y="228"/>
                  </a:lnTo>
                  <a:lnTo>
                    <a:pt x="1009" y="233"/>
                  </a:lnTo>
                  <a:lnTo>
                    <a:pt x="1004" y="233"/>
                  </a:lnTo>
                  <a:lnTo>
                    <a:pt x="994" y="238"/>
                  </a:lnTo>
                  <a:lnTo>
                    <a:pt x="989" y="238"/>
                  </a:lnTo>
                  <a:lnTo>
                    <a:pt x="984" y="243"/>
                  </a:lnTo>
                  <a:lnTo>
                    <a:pt x="974" y="243"/>
                  </a:lnTo>
                  <a:lnTo>
                    <a:pt x="969" y="247"/>
                  </a:lnTo>
                  <a:lnTo>
                    <a:pt x="960" y="247"/>
                  </a:lnTo>
                  <a:lnTo>
                    <a:pt x="955" y="252"/>
                  </a:lnTo>
                  <a:lnTo>
                    <a:pt x="950" y="257"/>
                  </a:lnTo>
                  <a:lnTo>
                    <a:pt x="945" y="257"/>
                  </a:lnTo>
                  <a:lnTo>
                    <a:pt x="935" y="262"/>
                  </a:lnTo>
                  <a:lnTo>
                    <a:pt x="930" y="267"/>
                  </a:lnTo>
                  <a:lnTo>
                    <a:pt x="925" y="267"/>
                  </a:lnTo>
                  <a:lnTo>
                    <a:pt x="920" y="262"/>
                  </a:lnTo>
                  <a:lnTo>
                    <a:pt x="915" y="262"/>
                  </a:lnTo>
                  <a:lnTo>
                    <a:pt x="915" y="252"/>
                  </a:lnTo>
                  <a:lnTo>
                    <a:pt x="910" y="247"/>
                  </a:lnTo>
                  <a:lnTo>
                    <a:pt x="905" y="238"/>
                  </a:lnTo>
                  <a:close/>
                  <a:moveTo>
                    <a:pt x="1607" y="238"/>
                  </a:moveTo>
                  <a:lnTo>
                    <a:pt x="1607" y="238"/>
                  </a:lnTo>
                  <a:lnTo>
                    <a:pt x="1602" y="238"/>
                  </a:lnTo>
                  <a:lnTo>
                    <a:pt x="1602" y="238"/>
                  </a:lnTo>
                  <a:lnTo>
                    <a:pt x="1598" y="238"/>
                  </a:lnTo>
                  <a:lnTo>
                    <a:pt x="1598" y="238"/>
                  </a:lnTo>
                  <a:lnTo>
                    <a:pt x="1598" y="238"/>
                  </a:lnTo>
                  <a:lnTo>
                    <a:pt x="1593" y="243"/>
                  </a:lnTo>
                  <a:lnTo>
                    <a:pt x="1598" y="243"/>
                  </a:lnTo>
                  <a:lnTo>
                    <a:pt x="1598" y="243"/>
                  </a:lnTo>
                  <a:lnTo>
                    <a:pt x="1598" y="243"/>
                  </a:lnTo>
                  <a:lnTo>
                    <a:pt x="1602" y="243"/>
                  </a:lnTo>
                  <a:lnTo>
                    <a:pt x="1602" y="243"/>
                  </a:lnTo>
                  <a:lnTo>
                    <a:pt x="1602" y="243"/>
                  </a:lnTo>
                  <a:lnTo>
                    <a:pt x="1607" y="238"/>
                  </a:lnTo>
                  <a:close/>
                  <a:moveTo>
                    <a:pt x="2127" y="238"/>
                  </a:moveTo>
                  <a:lnTo>
                    <a:pt x="2127" y="238"/>
                  </a:lnTo>
                  <a:lnTo>
                    <a:pt x="2127" y="238"/>
                  </a:lnTo>
                  <a:lnTo>
                    <a:pt x="2127" y="238"/>
                  </a:lnTo>
                  <a:lnTo>
                    <a:pt x="2127" y="238"/>
                  </a:lnTo>
                  <a:lnTo>
                    <a:pt x="2127" y="243"/>
                  </a:lnTo>
                  <a:lnTo>
                    <a:pt x="2127" y="243"/>
                  </a:lnTo>
                  <a:lnTo>
                    <a:pt x="2127" y="247"/>
                  </a:lnTo>
                  <a:lnTo>
                    <a:pt x="2127" y="247"/>
                  </a:lnTo>
                  <a:lnTo>
                    <a:pt x="2127" y="247"/>
                  </a:lnTo>
                  <a:lnTo>
                    <a:pt x="2127" y="247"/>
                  </a:lnTo>
                  <a:lnTo>
                    <a:pt x="2127" y="247"/>
                  </a:lnTo>
                  <a:lnTo>
                    <a:pt x="2127" y="243"/>
                  </a:lnTo>
                  <a:lnTo>
                    <a:pt x="2127" y="243"/>
                  </a:lnTo>
                  <a:lnTo>
                    <a:pt x="2127" y="238"/>
                  </a:lnTo>
                  <a:close/>
                  <a:moveTo>
                    <a:pt x="1889" y="213"/>
                  </a:moveTo>
                  <a:lnTo>
                    <a:pt x="1889" y="213"/>
                  </a:lnTo>
                  <a:lnTo>
                    <a:pt x="1884" y="213"/>
                  </a:lnTo>
                  <a:lnTo>
                    <a:pt x="1884" y="218"/>
                  </a:lnTo>
                  <a:lnTo>
                    <a:pt x="1884" y="218"/>
                  </a:lnTo>
                  <a:lnTo>
                    <a:pt x="1884" y="223"/>
                  </a:lnTo>
                  <a:lnTo>
                    <a:pt x="1884" y="223"/>
                  </a:lnTo>
                  <a:lnTo>
                    <a:pt x="1889" y="228"/>
                  </a:lnTo>
                  <a:lnTo>
                    <a:pt x="1889" y="228"/>
                  </a:lnTo>
                  <a:lnTo>
                    <a:pt x="1889" y="228"/>
                  </a:lnTo>
                  <a:lnTo>
                    <a:pt x="1889" y="223"/>
                  </a:lnTo>
                  <a:lnTo>
                    <a:pt x="1889" y="223"/>
                  </a:lnTo>
                  <a:lnTo>
                    <a:pt x="1889" y="218"/>
                  </a:lnTo>
                  <a:lnTo>
                    <a:pt x="1889" y="218"/>
                  </a:lnTo>
                  <a:lnTo>
                    <a:pt x="1889" y="213"/>
                  </a:lnTo>
                  <a:close/>
                  <a:moveTo>
                    <a:pt x="2156" y="213"/>
                  </a:moveTo>
                  <a:lnTo>
                    <a:pt x="2156" y="208"/>
                  </a:lnTo>
                  <a:lnTo>
                    <a:pt x="2156" y="203"/>
                  </a:lnTo>
                  <a:lnTo>
                    <a:pt x="2156" y="198"/>
                  </a:lnTo>
                  <a:lnTo>
                    <a:pt x="2156" y="198"/>
                  </a:lnTo>
                  <a:lnTo>
                    <a:pt x="2151" y="198"/>
                  </a:lnTo>
                  <a:lnTo>
                    <a:pt x="2151" y="198"/>
                  </a:lnTo>
                  <a:lnTo>
                    <a:pt x="2146" y="203"/>
                  </a:lnTo>
                  <a:lnTo>
                    <a:pt x="2142" y="208"/>
                  </a:lnTo>
                  <a:lnTo>
                    <a:pt x="2142" y="208"/>
                  </a:lnTo>
                  <a:lnTo>
                    <a:pt x="2146" y="213"/>
                  </a:lnTo>
                  <a:lnTo>
                    <a:pt x="2151" y="218"/>
                  </a:lnTo>
                  <a:lnTo>
                    <a:pt x="2151" y="218"/>
                  </a:lnTo>
                  <a:lnTo>
                    <a:pt x="2156" y="218"/>
                  </a:lnTo>
                  <a:lnTo>
                    <a:pt x="2156" y="213"/>
                  </a:lnTo>
                  <a:close/>
                  <a:moveTo>
                    <a:pt x="1840" y="188"/>
                  </a:moveTo>
                  <a:lnTo>
                    <a:pt x="1835" y="188"/>
                  </a:lnTo>
                  <a:lnTo>
                    <a:pt x="1835" y="188"/>
                  </a:lnTo>
                  <a:lnTo>
                    <a:pt x="1835" y="188"/>
                  </a:lnTo>
                  <a:lnTo>
                    <a:pt x="1835" y="188"/>
                  </a:lnTo>
                  <a:lnTo>
                    <a:pt x="1835" y="188"/>
                  </a:lnTo>
                  <a:lnTo>
                    <a:pt x="1835" y="188"/>
                  </a:lnTo>
                  <a:lnTo>
                    <a:pt x="1835" y="188"/>
                  </a:lnTo>
                  <a:lnTo>
                    <a:pt x="1835" y="188"/>
                  </a:lnTo>
                  <a:lnTo>
                    <a:pt x="1835" y="188"/>
                  </a:lnTo>
                  <a:lnTo>
                    <a:pt x="1835" y="188"/>
                  </a:lnTo>
                  <a:lnTo>
                    <a:pt x="1835" y="188"/>
                  </a:lnTo>
                  <a:lnTo>
                    <a:pt x="1835" y="188"/>
                  </a:lnTo>
                  <a:lnTo>
                    <a:pt x="1835" y="188"/>
                  </a:lnTo>
                  <a:lnTo>
                    <a:pt x="1840" y="188"/>
                  </a:lnTo>
                  <a:close/>
                  <a:moveTo>
                    <a:pt x="1780" y="159"/>
                  </a:moveTo>
                  <a:lnTo>
                    <a:pt x="1780" y="159"/>
                  </a:lnTo>
                  <a:lnTo>
                    <a:pt x="1780" y="159"/>
                  </a:lnTo>
                  <a:lnTo>
                    <a:pt x="1780" y="159"/>
                  </a:lnTo>
                  <a:lnTo>
                    <a:pt x="1780" y="159"/>
                  </a:lnTo>
                  <a:lnTo>
                    <a:pt x="1780" y="159"/>
                  </a:lnTo>
                  <a:lnTo>
                    <a:pt x="1780" y="159"/>
                  </a:lnTo>
                  <a:lnTo>
                    <a:pt x="1780" y="159"/>
                  </a:lnTo>
                  <a:lnTo>
                    <a:pt x="1780" y="159"/>
                  </a:lnTo>
                  <a:lnTo>
                    <a:pt x="1780" y="159"/>
                  </a:lnTo>
                  <a:lnTo>
                    <a:pt x="1780" y="159"/>
                  </a:lnTo>
                  <a:lnTo>
                    <a:pt x="1780" y="159"/>
                  </a:lnTo>
                  <a:lnTo>
                    <a:pt x="1780" y="159"/>
                  </a:lnTo>
                  <a:lnTo>
                    <a:pt x="1780" y="159"/>
                  </a:lnTo>
                  <a:lnTo>
                    <a:pt x="1780" y="159"/>
                  </a:lnTo>
                  <a:close/>
                  <a:moveTo>
                    <a:pt x="1128" y="134"/>
                  </a:moveTo>
                  <a:lnTo>
                    <a:pt x="1133" y="129"/>
                  </a:lnTo>
                  <a:lnTo>
                    <a:pt x="1138" y="129"/>
                  </a:lnTo>
                  <a:lnTo>
                    <a:pt x="1138" y="124"/>
                  </a:lnTo>
                  <a:lnTo>
                    <a:pt x="1143" y="124"/>
                  </a:lnTo>
                  <a:lnTo>
                    <a:pt x="1147" y="124"/>
                  </a:lnTo>
                  <a:lnTo>
                    <a:pt x="1152" y="124"/>
                  </a:lnTo>
                  <a:lnTo>
                    <a:pt x="1157" y="124"/>
                  </a:lnTo>
                  <a:lnTo>
                    <a:pt x="1162" y="129"/>
                  </a:lnTo>
                  <a:lnTo>
                    <a:pt x="1167" y="129"/>
                  </a:lnTo>
                  <a:lnTo>
                    <a:pt x="1172" y="134"/>
                  </a:lnTo>
                  <a:lnTo>
                    <a:pt x="1167" y="134"/>
                  </a:lnTo>
                  <a:lnTo>
                    <a:pt x="1162" y="139"/>
                  </a:lnTo>
                  <a:lnTo>
                    <a:pt x="1157" y="139"/>
                  </a:lnTo>
                  <a:lnTo>
                    <a:pt x="1152" y="139"/>
                  </a:lnTo>
                  <a:lnTo>
                    <a:pt x="1147" y="139"/>
                  </a:lnTo>
                  <a:lnTo>
                    <a:pt x="1143" y="139"/>
                  </a:lnTo>
                  <a:lnTo>
                    <a:pt x="1138" y="139"/>
                  </a:lnTo>
                  <a:lnTo>
                    <a:pt x="1138" y="139"/>
                  </a:lnTo>
                  <a:lnTo>
                    <a:pt x="1133" y="134"/>
                  </a:lnTo>
                  <a:lnTo>
                    <a:pt x="1128" y="134"/>
                  </a:lnTo>
                  <a:close/>
                  <a:moveTo>
                    <a:pt x="1246" y="104"/>
                  </a:moveTo>
                  <a:lnTo>
                    <a:pt x="1246" y="104"/>
                  </a:lnTo>
                  <a:lnTo>
                    <a:pt x="1246" y="104"/>
                  </a:lnTo>
                  <a:lnTo>
                    <a:pt x="1246" y="104"/>
                  </a:lnTo>
                  <a:lnTo>
                    <a:pt x="1246" y="104"/>
                  </a:lnTo>
                  <a:lnTo>
                    <a:pt x="1251" y="104"/>
                  </a:lnTo>
                  <a:lnTo>
                    <a:pt x="1251" y="104"/>
                  </a:lnTo>
                  <a:lnTo>
                    <a:pt x="1251" y="104"/>
                  </a:lnTo>
                  <a:lnTo>
                    <a:pt x="1251" y="104"/>
                  </a:lnTo>
                  <a:lnTo>
                    <a:pt x="1251" y="109"/>
                  </a:lnTo>
                  <a:lnTo>
                    <a:pt x="1246" y="109"/>
                  </a:lnTo>
                  <a:lnTo>
                    <a:pt x="1246" y="109"/>
                  </a:lnTo>
                  <a:lnTo>
                    <a:pt x="1246" y="109"/>
                  </a:lnTo>
                  <a:lnTo>
                    <a:pt x="1246" y="104"/>
                  </a:lnTo>
                  <a:lnTo>
                    <a:pt x="1246" y="104"/>
                  </a:lnTo>
                  <a:close/>
                  <a:moveTo>
                    <a:pt x="2235" y="1656"/>
                  </a:moveTo>
                  <a:lnTo>
                    <a:pt x="2260" y="1631"/>
                  </a:lnTo>
                  <a:lnTo>
                    <a:pt x="2285" y="1631"/>
                  </a:lnTo>
                  <a:lnTo>
                    <a:pt x="2315" y="1631"/>
                  </a:lnTo>
                  <a:lnTo>
                    <a:pt x="2339" y="1631"/>
                  </a:lnTo>
                  <a:lnTo>
                    <a:pt x="2369" y="1631"/>
                  </a:lnTo>
                  <a:lnTo>
                    <a:pt x="2394" y="1631"/>
                  </a:lnTo>
                  <a:lnTo>
                    <a:pt x="2418" y="1631"/>
                  </a:lnTo>
                  <a:lnTo>
                    <a:pt x="2448" y="1602"/>
                  </a:lnTo>
                  <a:lnTo>
                    <a:pt x="2448" y="1577"/>
                  </a:lnTo>
                  <a:lnTo>
                    <a:pt x="2448" y="1547"/>
                  </a:lnTo>
                  <a:lnTo>
                    <a:pt x="2448" y="1523"/>
                  </a:lnTo>
                  <a:lnTo>
                    <a:pt x="2473" y="1498"/>
                  </a:lnTo>
                  <a:lnTo>
                    <a:pt x="2473" y="1468"/>
                  </a:lnTo>
                  <a:lnTo>
                    <a:pt x="2473" y="1444"/>
                  </a:lnTo>
                  <a:lnTo>
                    <a:pt x="2473" y="1414"/>
                  </a:lnTo>
                  <a:lnTo>
                    <a:pt x="2503" y="1389"/>
                  </a:lnTo>
                  <a:lnTo>
                    <a:pt x="2503" y="1364"/>
                  </a:lnTo>
                  <a:lnTo>
                    <a:pt x="2503" y="1335"/>
                  </a:lnTo>
                  <a:lnTo>
                    <a:pt x="2503" y="1310"/>
                  </a:lnTo>
                  <a:lnTo>
                    <a:pt x="2527" y="1280"/>
                  </a:lnTo>
                  <a:lnTo>
                    <a:pt x="2527" y="1256"/>
                  </a:lnTo>
                  <a:lnTo>
                    <a:pt x="2527" y="1226"/>
                  </a:lnTo>
                  <a:lnTo>
                    <a:pt x="2527" y="1201"/>
                  </a:lnTo>
                  <a:lnTo>
                    <a:pt x="2552" y="1177"/>
                  </a:lnTo>
                  <a:lnTo>
                    <a:pt x="2552" y="1147"/>
                  </a:lnTo>
                  <a:lnTo>
                    <a:pt x="2552" y="1122"/>
                  </a:lnTo>
                  <a:lnTo>
                    <a:pt x="2552" y="1093"/>
                  </a:lnTo>
                  <a:lnTo>
                    <a:pt x="2582" y="1068"/>
                  </a:lnTo>
                  <a:lnTo>
                    <a:pt x="2582" y="1043"/>
                  </a:lnTo>
                  <a:lnTo>
                    <a:pt x="2582" y="1014"/>
                  </a:lnTo>
                  <a:lnTo>
                    <a:pt x="2582" y="989"/>
                  </a:lnTo>
                  <a:lnTo>
                    <a:pt x="2582" y="959"/>
                  </a:lnTo>
                  <a:lnTo>
                    <a:pt x="2582" y="934"/>
                  </a:lnTo>
                  <a:lnTo>
                    <a:pt x="2582" y="910"/>
                  </a:lnTo>
                  <a:lnTo>
                    <a:pt x="2582" y="880"/>
                  </a:lnTo>
                  <a:lnTo>
                    <a:pt x="2582" y="855"/>
                  </a:lnTo>
                  <a:lnTo>
                    <a:pt x="2582" y="826"/>
                  </a:lnTo>
                  <a:lnTo>
                    <a:pt x="2582" y="801"/>
                  </a:lnTo>
                  <a:lnTo>
                    <a:pt x="2582" y="776"/>
                  </a:lnTo>
                  <a:lnTo>
                    <a:pt x="2582" y="747"/>
                  </a:lnTo>
                  <a:lnTo>
                    <a:pt x="2582" y="722"/>
                  </a:lnTo>
                  <a:lnTo>
                    <a:pt x="2582" y="692"/>
                  </a:lnTo>
                  <a:lnTo>
                    <a:pt x="2582" y="668"/>
                  </a:lnTo>
                  <a:lnTo>
                    <a:pt x="2582" y="643"/>
                  </a:lnTo>
                  <a:lnTo>
                    <a:pt x="2582" y="613"/>
                  </a:lnTo>
                  <a:lnTo>
                    <a:pt x="2582" y="589"/>
                  </a:lnTo>
                  <a:lnTo>
                    <a:pt x="2582" y="559"/>
                  </a:lnTo>
                  <a:lnTo>
                    <a:pt x="2582" y="534"/>
                  </a:lnTo>
                  <a:lnTo>
                    <a:pt x="2582" y="504"/>
                  </a:lnTo>
                  <a:lnTo>
                    <a:pt x="2582" y="480"/>
                  </a:lnTo>
                  <a:lnTo>
                    <a:pt x="2582" y="455"/>
                  </a:lnTo>
                  <a:lnTo>
                    <a:pt x="2582" y="425"/>
                  </a:lnTo>
                  <a:lnTo>
                    <a:pt x="2582" y="401"/>
                  </a:lnTo>
                  <a:lnTo>
                    <a:pt x="2582" y="371"/>
                  </a:lnTo>
                  <a:lnTo>
                    <a:pt x="2582" y="346"/>
                  </a:lnTo>
                  <a:lnTo>
                    <a:pt x="2582" y="322"/>
                  </a:lnTo>
                  <a:lnTo>
                    <a:pt x="2582" y="292"/>
                  </a:lnTo>
                  <a:lnTo>
                    <a:pt x="2582" y="267"/>
                  </a:lnTo>
                  <a:lnTo>
                    <a:pt x="2582" y="238"/>
                  </a:lnTo>
                  <a:lnTo>
                    <a:pt x="2552" y="213"/>
                  </a:lnTo>
                  <a:lnTo>
                    <a:pt x="2552" y="188"/>
                  </a:lnTo>
                  <a:lnTo>
                    <a:pt x="2552" y="159"/>
                  </a:lnTo>
                  <a:lnTo>
                    <a:pt x="2552" y="134"/>
                  </a:lnTo>
                  <a:lnTo>
                    <a:pt x="2552" y="104"/>
                  </a:lnTo>
                  <a:lnTo>
                    <a:pt x="2527" y="79"/>
                  </a:lnTo>
                  <a:lnTo>
                    <a:pt x="2503" y="79"/>
                  </a:lnTo>
                  <a:lnTo>
                    <a:pt x="2473" y="79"/>
                  </a:lnTo>
                  <a:lnTo>
                    <a:pt x="2448" y="55"/>
                  </a:lnTo>
                  <a:lnTo>
                    <a:pt x="2418" y="55"/>
                  </a:lnTo>
                  <a:lnTo>
                    <a:pt x="2394" y="55"/>
                  </a:lnTo>
                  <a:lnTo>
                    <a:pt x="2369" y="25"/>
                  </a:lnTo>
                  <a:lnTo>
                    <a:pt x="2339" y="25"/>
                  </a:lnTo>
                  <a:lnTo>
                    <a:pt x="2315" y="25"/>
                  </a:lnTo>
                  <a:lnTo>
                    <a:pt x="2285" y="0"/>
                  </a:lnTo>
                  <a:lnTo>
                    <a:pt x="2260" y="0"/>
                  </a:lnTo>
                  <a:lnTo>
                    <a:pt x="2235" y="0"/>
                  </a:lnTo>
                  <a:lnTo>
                    <a:pt x="2206" y="0"/>
                  </a:lnTo>
                  <a:lnTo>
                    <a:pt x="2181" y="0"/>
                  </a:lnTo>
                  <a:lnTo>
                    <a:pt x="2156" y="0"/>
                  </a:lnTo>
                  <a:lnTo>
                    <a:pt x="2127" y="0"/>
                  </a:lnTo>
                  <a:lnTo>
                    <a:pt x="2102" y="0"/>
                  </a:lnTo>
                  <a:lnTo>
                    <a:pt x="2072" y="0"/>
                  </a:lnTo>
                  <a:lnTo>
                    <a:pt x="2048" y="0"/>
                  </a:lnTo>
                  <a:lnTo>
                    <a:pt x="2023" y="0"/>
                  </a:lnTo>
                  <a:lnTo>
                    <a:pt x="1993" y="0"/>
                  </a:lnTo>
                  <a:lnTo>
                    <a:pt x="1968" y="0"/>
                  </a:lnTo>
                  <a:lnTo>
                    <a:pt x="1944" y="0"/>
                  </a:lnTo>
                  <a:lnTo>
                    <a:pt x="1914" y="0"/>
                  </a:lnTo>
                  <a:lnTo>
                    <a:pt x="1889" y="0"/>
                  </a:lnTo>
                  <a:lnTo>
                    <a:pt x="1860" y="0"/>
                  </a:lnTo>
                  <a:lnTo>
                    <a:pt x="1835" y="0"/>
                  </a:lnTo>
                  <a:lnTo>
                    <a:pt x="1810" y="0"/>
                  </a:lnTo>
                  <a:lnTo>
                    <a:pt x="1780" y="0"/>
                  </a:lnTo>
                  <a:lnTo>
                    <a:pt x="1756" y="0"/>
                  </a:lnTo>
                  <a:lnTo>
                    <a:pt x="1726" y="0"/>
                  </a:lnTo>
                  <a:lnTo>
                    <a:pt x="1701" y="0"/>
                  </a:lnTo>
                  <a:lnTo>
                    <a:pt x="1677" y="0"/>
                  </a:lnTo>
                  <a:lnTo>
                    <a:pt x="1647" y="0"/>
                  </a:lnTo>
                  <a:lnTo>
                    <a:pt x="1622" y="0"/>
                  </a:lnTo>
                  <a:lnTo>
                    <a:pt x="1598" y="0"/>
                  </a:lnTo>
                  <a:lnTo>
                    <a:pt x="1568" y="0"/>
                  </a:lnTo>
                  <a:lnTo>
                    <a:pt x="1543" y="0"/>
                  </a:lnTo>
                  <a:lnTo>
                    <a:pt x="1513" y="0"/>
                  </a:lnTo>
                  <a:lnTo>
                    <a:pt x="1489" y="0"/>
                  </a:lnTo>
                  <a:lnTo>
                    <a:pt x="1464" y="0"/>
                  </a:lnTo>
                  <a:lnTo>
                    <a:pt x="1434" y="0"/>
                  </a:lnTo>
                  <a:lnTo>
                    <a:pt x="1410" y="0"/>
                  </a:lnTo>
                  <a:lnTo>
                    <a:pt x="1385" y="0"/>
                  </a:lnTo>
                  <a:lnTo>
                    <a:pt x="1355" y="0"/>
                  </a:lnTo>
                  <a:lnTo>
                    <a:pt x="1330" y="0"/>
                  </a:lnTo>
                  <a:lnTo>
                    <a:pt x="1301" y="0"/>
                  </a:lnTo>
                  <a:lnTo>
                    <a:pt x="1276" y="0"/>
                  </a:lnTo>
                  <a:lnTo>
                    <a:pt x="1251" y="0"/>
                  </a:lnTo>
                  <a:lnTo>
                    <a:pt x="1222" y="0"/>
                  </a:lnTo>
                  <a:lnTo>
                    <a:pt x="1197" y="0"/>
                  </a:lnTo>
                  <a:lnTo>
                    <a:pt x="1172" y="0"/>
                  </a:lnTo>
                  <a:lnTo>
                    <a:pt x="1143" y="0"/>
                  </a:lnTo>
                  <a:lnTo>
                    <a:pt x="1118" y="0"/>
                  </a:lnTo>
                  <a:lnTo>
                    <a:pt x="1088" y="0"/>
                  </a:lnTo>
                  <a:lnTo>
                    <a:pt x="1063" y="0"/>
                  </a:lnTo>
                  <a:lnTo>
                    <a:pt x="1039" y="0"/>
                  </a:lnTo>
                  <a:lnTo>
                    <a:pt x="1009" y="0"/>
                  </a:lnTo>
                  <a:lnTo>
                    <a:pt x="984" y="0"/>
                  </a:lnTo>
                  <a:lnTo>
                    <a:pt x="955" y="0"/>
                  </a:lnTo>
                  <a:lnTo>
                    <a:pt x="930" y="0"/>
                  </a:lnTo>
                  <a:lnTo>
                    <a:pt x="905" y="0"/>
                  </a:lnTo>
                  <a:lnTo>
                    <a:pt x="875" y="0"/>
                  </a:lnTo>
                  <a:lnTo>
                    <a:pt x="851" y="0"/>
                  </a:lnTo>
                  <a:lnTo>
                    <a:pt x="826" y="0"/>
                  </a:lnTo>
                  <a:lnTo>
                    <a:pt x="796" y="0"/>
                  </a:lnTo>
                  <a:lnTo>
                    <a:pt x="772" y="0"/>
                  </a:lnTo>
                  <a:lnTo>
                    <a:pt x="742" y="0"/>
                  </a:lnTo>
                  <a:lnTo>
                    <a:pt x="717" y="0"/>
                  </a:lnTo>
                  <a:lnTo>
                    <a:pt x="692" y="0"/>
                  </a:lnTo>
                  <a:lnTo>
                    <a:pt x="663" y="0"/>
                  </a:lnTo>
                  <a:lnTo>
                    <a:pt x="638" y="0"/>
                  </a:lnTo>
                  <a:lnTo>
                    <a:pt x="613" y="0"/>
                  </a:lnTo>
                  <a:lnTo>
                    <a:pt x="584" y="25"/>
                  </a:lnTo>
                  <a:lnTo>
                    <a:pt x="559" y="55"/>
                  </a:lnTo>
                  <a:lnTo>
                    <a:pt x="529" y="79"/>
                  </a:lnTo>
                  <a:lnTo>
                    <a:pt x="505" y="104"/>
                  </a:lnTo>
                  <a:lnTo>
                    <a:pt x="480" y="134"/>
                  </a:lnTo>
                  <a:lnTo>
                    <a:pt x="450" y="134"/>
                  </a:lnTo>
                  <a:lnTo>
                    <a:pt x="425" y="159"/>
                  </a:lnTo>
                  <a:lnTo>
                    <a:pt x="396" y="188"/>
                  </a:lnTo>
                  <a:lnTo>
                    <a:pt x="371" y="213"/>
                  </a:lnTo>
                  <a:lnTo>
                    <a:pt x="346" y="238"/>
                  </a:lnTo>
                  <a:lnTo>
                    <a:pt x="317" y="267"/>
                  </a:lnTo>
                  <a:lnTo>
                    <a:pt x="292" y="292"/>
                  </a:lnTo>
                  <a:lnTo>
                    <a:pt x="267" y="322"/>
                  </a:lnTo>
                  <a:lnTo>
                    <a:pt x="237" y="322"/>
                  </a:lnTo>
                  <a:lnTo>
                    <a:pt x="213" y="346"/>
                  </a:lnTo>
                  <a:lnTo>
                    <a:pt x="213" y="366"/>
                  </a:lnTo>
                  <a:lnTo>
                    <a:pt x="218" y="371"/>
                  </a:lnTo>
                  <a:lnTo>
                    <a:pt x="218" y="371"/>
                  </a:lnTo>
                  <a:lnTo>
                    <a:pt x="218" y="376"/>
                  </a:lnTo>
                  <a:lnTo>
                    <a:pt x="218" y="376"/>
                  </a:lnTo>
                  <a:lnTo>
                    <a:pt x="213" y="381"/>
                  </a:lnTo>
                  <a:lnTo>
                    <a:pt x="208" y="381"/>
                  </a:lnTo>
                  <a:lnTo>
                    <a:pt x="208" y="386"/>
                  </a:lnTo>
                  <a:lnTo>
                    <a:pt x="203" y="386"/>
                  </a:lnTo>
                  <a:lnTo>
                    <a:pt x="203" y="386"/>
                  </a:lnTo>
                  <a:lnTo>
                    <a:pt x="198" y="391"/>
                  </a:lnTo>
                  <a:lnTo>
                    <a:pt x="198" y="391"/>
                  </a:lnTo>
                  <a:lnTo>
                    <a:pt x="193" y="396"/>
                  </a:lnTo>
                  <a:lnTo>
                    <a:pt x="193" y="396"/>
                  </a:lnTo>
                  <a:lnTo>
                    <a:pt x="188" y="401"/>
                  </a:lnTo>
                  <a:lnTo>
                    <a:pt x="188" y="401"/>
                  </a:lnTo>
                  <a:lnTo>
                    <a:pt x="183" y="406"/>
                  </a:lnTo>
                  <a:lnTo>
                    <a:pt x="183" y="401"/>
                  </a:lnTo>
                  <a:lnTo>
                    <a:pt x="158" y="401"/>
                  </a:lnTo>
                  <a:lnTo>
                    <a:pt x="134" y="425"/>
                  </a:lnTo>
                  <a:lnTo>
                    <a:pt x="104" y="455"/>
                  </a:lnTo>
                  <a:lnTo>
                    <a:pt x="79" y="480"/>
                  </a:lnTo>
                  <a:lnTo>
                    <a:pt x="55" y="504"/>
                  </a:lnTo>
                  <a:lnTo>
                    <a:pt x="25" y="504"/>
                  </a:lnTo>
                  <a:lnTo>
                    <a:pt x="0" y="534"/>
                  </a:lnTo>
                  <a:lnTo>
                    <a:pt x="0" y="559"/>
                  </a:lnTo>
                  <a:lnTo>
                    <a:pt x="0" y="589"/>
                  </a:lnTo>
                  <a:lnTo>
                    <a:pt x="0" y="613"/>
                  </a:lnTo>
                  <a:lnTo>
                    <a:pt x="25" y="643"/>
                  </a:lnTo>
                  <a:lnTo>
                    <a:pt x="25" y="668"/>
                  </a:lnTo>
                  <a:lnTo>
                    <a:pt x="55" y="692"/>
                  </a:lnTo>
                  <a:lnTo>
                    <a:pt x="79" y="722"/>
                  </a:lnTo>
                  <a:lnTo>
                    <a:pt x="104" y="747"/>
                  </a:lnTo>
                  <a:lnTo>
                    <a:pt x="134" y="776"/>
                  </a:lnTo>
                  <a:lnTo>
                    <a:pt x="134" y="801"/>
                  </a:lnTo>
                  <a:lnTo>
                    <a:pt x="158" y="826"/>
                  </a:lnTo>
                  <a:lnTo>
                    <a:pt x="183" y="855"/>
                  </a:lnTo>
                  <a:lnTo>
                    <a:pt x="213" y="880"/>
                  </a:lnTo>
                  <a:lnTo>
                    <a:pt x="237" y="910"/>
                  </a:lnTo>
                  <a:lnTo>
                    <a:pt x="267" y="934"/>
                  </a:lnTo>
                  <a:lnTo>
                    <a:pt x="292" y="959"/>
                  </a:lnTo>
                  <a:lnTo>
                    <a:pt x="292" y="989"/>
                  </a:lnTo>
                  <a:lnTo>
                    <a:pt x="317" y="1014"/>
                  </a:lnTo>
                  <a:lnTo>
                    <a:pt x="346" y="1043"/>
                  </a:lnTo>
                  <a:lnTo>
                    <a:pt x="371" y="1068"/>
                  </a:lnTo>
                  <a:lnTo>
                    <a:pt x="396" y="1093"/>
                  </a:lnTo>
                  <a:lnTo>
                    <a:pt x="425" y="1122"/>
                  </a:lnTo>
                  <a:lnTo>
                    <a:pt x="450" y="1147"/>
                  </a:lnTo>
                  <a:lnTo>
                    <a:pt x="480" y="1177"/>
                  </a:lnTo>
                  <a:lnTo>
                    <a:pt x="505" y="1201"/>
                  </a:lnTo>
                  <a:lnTo>
                    <a:pt x="529" y="1226"/>
                  </a:lnTo>
                  <a:lnTo>
                    <a:pt x="559" y="1256"/>
                  </a:lnTo>
                  <a:lnTo>
                    <a:pt x="584" y="1280"/>
                  </a:lnTo>
                  <a:lnTo>
                    <a:pt x="613" y="1310"/>
                  </a:lnTo>
                  <a:lnTo>
                    <a:pt x="638" y="1335"/>
                  </a:lnTo>
                  <a:lnTo>
                    <a:pt x="663" y="1364"/>
                  </a:lnTo>
                  <a:lnTo>
                    <a:pt x="692" y="1389"/>
                  </a:lnTo>
                  <a:lnTo>
                    <a:pt x="717" y="1414"/>
                  </a:lnTo>
                  <a:lnTo>
                    <a:pt x="742" y="1444"/>
                  </a:lnTo>
                  <a:lnTo>
                    <a:pt x="772" y="1468"/>
                  </a:lnTo>
                  <a:lnTo>
                    <a:pt x="796" y="1468"/>
                  </a:lnTo>
                  <a:lnTo>
                    <a:pt x="826" y="1498"/>
                  </a:lnTo>
                  <a:lnTo>
                    <a:pt x="851" y="1523"/>
                  </a:lnTo>
                  <a:lnTo>
                    <a:pt x="875" y="1547"/>
                  </a:lnTo>
                  <a:lnTo>
                    <a:pt x="905" y="1577"/>
                  </a:lnTo>
                  <a:lnTo>
                    <a:pt x="930" y="1602"/>
                  </a:lnTo>
                  <a:lnTo>
                    <a:pt x="955" y="1631"/>
                  </a:lnTo>
                  <a:lnTo>
                    <a:pt x="984" y="1656"/>
                  </a:lnTo>
                  <a:lnTo>
                    <a:pt x="1009" y="1656"/>
                  </a:lnTo>
                  <a:lnTo>
                    <a:pt x="1039" y="1656"/>
                  </a:lnTo>
                  <a:lnTo>
                    <a:pt x="1063" y="1656"/>
                  </a:lnTo>
                  <a:lnTo>
                    <a:pt x="1088" y="1656"/>
                  </a:lnTo>
                  <a:lnTo>
                    <a:pt x="1118" y="1656"/>
                  </a:lnTo>
                  <a:lnTo>
                    <a:pt x="1143" y="1656"/>
                  </a:lnTo>
                  <a:lnTo>
                    <a:pt x="1172" y="1656"/>
                  </a:lnTo>
                  <a:lnTo>
                    <a:pt x="1197" y="1656"/>
                  </a:lnTo>
                  <a:lnTo>
                    <a:pt x="1222" y="1656"/>
                  </a:lnTo>
                  <a:lnTo>
                    <a:pt x="1251" y="1656"/>
                  </a:lnTo>
                  <a:lnTo>
                    <a:pt x="1276" y="1656"/>
                  </a:lnTo>
                  <a:lnTo>
                    <a:pt x="1301" y="1656"/>
                  </a:lnTo>
                  <a:lnTo>
                    <a:pt x="1330" y="1656"/>
                  </a:lnTo>
                  <a:lnTo>
                    <a:pt x="1355" y="1656"/>
                  </a:lnTo>
                  <a:lnTo>
                    <a:pt x="1385" y="1656"/>
                  </a:lnTo>
                  <a:lnTo>
                    <a:pt x="1410" y="1656"/>
                  </a:lnTo>
                  <a:lnTo>
                    <a:pt x="1434" y="1656"/>
                  </a:lnTo>
                  <a:lnTo>
                    <a:pt x="1464" y="1656"/>
                  </a:lnTo>
                  <a:lnTo>
                    <a:pt x="1489" y="1656"/>
                  </a:lnTo>
                  <a:lnTo>
                    <a:pt x="1513" y="1656"/>
                  </a:lnTo>
                  <a:lnTo>
                    <a:pt x="1543" y="1656"/>
                  </a:lnTo>
                  <a:lnTo>
                    <a:pt x="1568" y="1656"/>
                  </a:lnTo>
                  <a:lnTo>
                    <a:pt x="1598" y="1656"/>
                  </a:lnTo>
                  <a:lnTo>
                    <a:pt x="1622" y="1656"/>
                  </a:lnTo>
                  <a:lnTo>
                    <a:pt x="1647" y="1656"/>
                  </a:lnTo>
                  <a:lnTo>
                    <a:pt x="1677" y="1656"/>
                  </a:lnTo>
                  <a:lnTo>
                    <a:pt x="1701" y="1656"/>
                  </a:lnTo>
                  <a:lnTo>
                    <a:pt x="1726" y="1656"/>
                  </a:lnTo>
                  <a:lnTo>
                    <a:pt x="1756" y="1656"/>
                  </a:lnTo>
                  <a:lnTo>
                    <a:pt x="1780" y="1656"/>
                  </a:lnTo>
                  <a:lnTo>
                    <a:pt x="1810" y="1656"/>
                  </a:lnTo>
                  <a:lnTo>
                    <a:pt x="1835" y="1656"/>
                  </a:lnTo>
                  <a:lnTo>
                    <a:pt x="1860" y="1656"/>
                  </a:lnTo>
                  <a:lnTo>
                    <a:pt x="1889" y="1656"/>
                  </a:lnTo>
                  <a:lnTo>
                    <a:pt x="1914" y="1656"/>
                  </a:lnTo>
                  <a:lnTo>
                    <a:pt x="1944" y="1656"/>
                  </a:lnTo>
                  <a:lnTo>
                    <a:pt x="1968" y="1656"/>
                  </a:lnTo>
                  <a:lnTo>
                    <a:pt x="1993" y="1656"/>
                  </a:lnTo>
                  <a:lnTo>
                    <a:pt x="2023" y="1656"/>
                  </a:lnTo>
                  <a:lnTo>
                    <a:pt x="2048" y="1656"/>
                  </a:lnTo>
                  <a:lnTo>
                    <a:pt x="2072" y="1656"/>
                  </a:lnTo>
                  <a:lnTo>
                    <a:pt x="2102" y="1656"/>
                  </a:lnTo>
                  <a:lnTo>
                    <a:pt x="2127" y="1656"/>
                  </a:lnTo>
                  <a:lnTo>
                    <a:pt x="2156" y="1656"/>
                  </a:lnTo>
                  <a:lnTo>
                    <a:pt x="2181" y="1656"/>
                  </a:lnTo>
                  <a:lnTo>
                    <a:pt x="2206" y="1656"/>
                  </a:lnTo>
                  <a:lnTo>
                    <a:pt x="2235" y="1656"/>
                  </a:lnTo>
                  <a:close/>
                  <a:moveTo>
                    <a:pt x="1004" y="692"/>
                  </a:moveTo>
                  <a:lnTo>
                    <a:pt x="1004" y="687"/>
                  </a:lnTo>
                  <a:lnTo>
                    <a:pt x="1004" y="682"/>
                  </a:lnTo>
                  <a:lnTo>
                    <a:pt x="1004" y="677"/>
                  </a:lnTo>
                  <a:lnTo>
                    <a:pt x="1004" y="673"/>
                  </a:lnTo>
                  <a:lnTo>
                    <a:pt x="1004" y="668"/>
                  </a:lnTo>
                  <a:lnTo>
                    <a:pt x="1004" y="663"/>
                  </a:lnTo>
                  <a:lnTo>
                    <a:pt x="1004" y="653"/>
                  </a:lnTo>
                  <a:lnTo>
                    <a:pt x="1004" y="648"/>
                  </a:lnTo>
                  <a:lnTo>
                    <a:pt x="1004" y="643"/>
                  </a:lnTo>
                  <a:lnTo>
                    <a:pt x="1004" y="638"/>
                  </a:lnTo>
                  <a:lnTo>
                    <a:pt x="1004" y="633"/>
                  </a:lnTo>
                  <a:lnTo>
                    <a:pt x="999" y="628"/>
                  </a:lnTo>
                  <a:lnTo>
                    <a:pt x="999" y="623"/>
                  </a:lnTo>
                  <a:lnTo>
                    <a:pt x="999" y="613"/>
                  </a:lnTo>
                  <a:lnTo>
                    <a:pt x="999" y="608"/>
                  </a:lnTo>
                  <a:lnTo>
                    <a:pt x="999" y="603"/>
                  </a:lnTo>
                  <a:lnTo>
                    <a:pt x="999" y="598"/>
                  </a:lnTo>
                  <a:lnTo>
                    <a:pt x="999" y="593"/>
                  </a:lnTo>
                  <a:lnTo>
                    <a:pt x="999" y="589"/>
                  </a:lnTo>
                  <a:lnTo>
                    <a:pt x="999" y="584"/>
                  </a:lnTo>
                  <a:lnTo>
                    <a:pt x="999" y="574"/>
                  </a:lnTo>
                  <a:lnTo>
                    <a:pt x="999" y="569"/>
                  </a:lnTo>
                  <a:lnTo>
                    <a:pt x="999" y="564"/>
                  </a:lnTo>
                  <a:lnTo>
                    <a:pt x="999" y="559"/>
                  </a:lnTo>
                  <a:lnTo>
                    <a:pt x="1004" y="554"/>
                  </a:lnTo>
                  <a:lnTo>
                    <a:pt x="1004" y="549"/>
                  </a:lnTo>
                  <a:lnTo>
                    <a:pt x="1009" y="544"/>
                  </a:lnTo>
                  <a:lnTo>
                    <a:pt x="1009" y="539"/>
                  </a:lnTo>
                  <a:lnTo>
                    <a:pt x="1014" y="534"/>
                  </a:lnTo>
                  <a:lnTo>
                    <a:pt x="1019" y="529"/>
                  </a:lnTo>
                  <a:lnTo>
                    <a:pt x="1019" y="524"/>
                  </a:lnTo>
                  <a:lnTo>
                    <a:pt x="1024" y="514"/>
                  </a:lnTo>
                  <a:lnTo>
                    <a:pt x="1024" y="509"/>
                  </a:lnTo>
                  <a:lnTo>
                    <a:pt x="1024" y="504"/>
                  </a:lnTo>
                  <a:lnTo>
                    <a:pt x="1029" y="500"/>
                  </a:lnTo>
                  <a:lnTo>
                    <a:pt x="1029" y="495"/>
                  </a:lnTo>
                  <a:lnTo>
                    <a:pt x="1034" y="490"/>
                  </a:lnTo>
                  <a:lnTo>
                    <a:pt x="1039" y="485"/>
                  </a:lnTo>
                  <a:lnTo>
                    <a:pt x="1039" y="480"/>
                  </a:lnTo>
                  <a:lnTo>
                    <a:pt x="1044" y="475"/>
                  </a:lnTo>
                  <a:lnTo>
                    <a:pt x="1044" y="470"/>
                  </a:lnTo>
                  <a:lnTo>
                    <a:pt x="1044" y="465"/>
                  </a:lnTo>
                  <a:lnTo>
                    <a:pt x="1044" y="455"/>
                  </a:lnTo>
                  <a:lnTo>
                    <a:pt x="1044" y="450"/>
                  </a:lnTo>
                  <a:lnTo>
                    <a:pt x="1044" y="445"/>
                  </a:lnTo>
                  <a:lnTo>
                    <a:pt x="1044" y="440"/>
                  </a:lnTo>
                  <a:lnTo>
                    <a:pt x="1039" y="435"/>
                  </a:lnTo>
                  <a:lnTo>
                    <a:pt x="1034" y="430"/>
                  </a:lnTo>
                  <a:lnTo>
                    <a:pt x="1029" y="425"/>
                  </a:lnTo>
                  <a:lnTo>
                    <a:pt x="1029" y="420"/>
                  </a:lnTo>
                  <a:lnTo>
                    <a:pt x="1029" y="416"/>
                  </a:lnTo>
                  <a:lnTo>
                    <a:pt x="1029" y="411"/>
                  </a:lnTo>
                  <a:lnTo>
                    <a:pt x="1029" y="401"/>
                  </a:lnTo>
                  <a:lnTo>
                    <a:pt x="1024" y="396"/>
                  </a:lnTo>
                  <a:lnTo>
                    <a:pt x="1019" y="391"/>
                  </a:lnTo>
                  <a:lnTo>
                    <a:pt x="1014" y="391"/>
                  </a:lnTo>
                  <a:lnTo>
                    <a:pt x="1009" y="386"/>
                  </a:lnTo>
                  <a:lnTo>
                    <a:pt x="1004" y="381"/>
                  </a:lnTo>
                  <a:lnTo>
                    <a:pt x="1004" y="371"/>
                  </a:lnTo>
                  <a:lnTo>
                    <a:pt x="999" y="366"/>
                  </a:lnTo>
                  <a:lnTo>
                    <a:pt x="994" y="361"/>
                  </a:lnTo>
                  <a:lnTo>
                    <a:pt x="994" y="356"/>
                  </a:lnTo>
                  <a:lnTo>
                    <a:pt x="989" y="351"/>
                  </a:lnTo>
                  <a:lnTo>
                    <a:pt x="984" y="346"/>
                  </a:lnTo>
                  <a:lnTo>
                    <a:pt x="984" y="341"/>
                  </a:lnTo>
                  <a:lnTo>
                    <a:pt x="979" y="336"/>
                  </a:lnTo>
                  <a:lnTo>
                    <a:pt x="974" y="331"/>
                  </a:lnTo>
                  <a:lnTo>
                    <a:pt x="969" y="327"/>
                  </a:lnTo>
                  <a:lnTo>
                    <a:pt x="969" y="322"/>
                  </a:lnTo>
                  <a:lnTo>
                    <a:pt x="974" y="317"/>
                  </a:lnTo>
                  <a:lnTo>
                    <a:pt x="979" y="312"/>
                  </a:lnTo>
                  <a:lnTo>
                    <a:pt x="984" y="307"/>
                  </a:lnTo>
                  <a:lnTo>
                    <a:pt x="989" y="302"/>
                  </a:lnTo>
                  <a:lnTo>
                    <a:pt x="989" y="297"/>
                  </a:lnTo>
                  <a:lnTo>
                    <a:pt x="994" y="292"/>
                  </a:lnTo>
                  <a:lnTo>
                    <a:pt x="999" y="287"/>
                  </a:lnTo>
                  <a:lnTo>
                    <a:pt x="1004" y="282"/>
                  </a:lnTo>
                  <a:lnTo>
                    <a:pt x="1014" y="282"/>
                  </a:lnTo>
                  <a:lnTo>
                    <a:pt x="1024" y="282"/>
                  </a:lnTo>
                  <a:lnTo>
                    <a:pt x="1034" y="277"/>
                  </a:lnTo>
                  <a:lnTo>
                    <a:pt x="1039" y="277"/>
                  </a:lnTo>
                  <a:lnTo>
                    <a:pt x="1044" y="272"/>
                  </a:lnTo>
                  <a:lnTo>
                    <a:pt x="1049" y="267"/>
                  </a:lnTo>
                  <a:lnTo>
                    <a:pt x="1053" y="262"/>
                  </a:lnTo>
                  <a:lnTo>
                    <a:pt x="1058" y="257"/>
                  </a:lnTo>
                  <a:lnTo>
                    <a:pt x="1068" y="257"/>
                  </a:lnTo>
                  <a:lnTo>
                    <a:pt x="1073" y="252"/>
                  </a:lnTo>
                  <a:lnTo>
                    <a:pt x="1083" y="252"/>
                  </a:lnTo>
                  <a:lnTo>
                    <a:pt x="1088" y="247"/>
                  </a:lnTo>
                  <a:lnTo>
                    <a:pt x="1098" y="247"/>
                  </a:lnTo>
                  <a:lnTo>
                    <a:pt x="1103" y="243"/>
                  </a:lnTo>
                  <a:lnTo>
                    <a:pt x="1108" y="238"/>
                  </a:lnTo>
                  <a:lnTo>
                    <a:pt x="1108" y="233"/>
                  </a:lnTo>
                  <a:lnTo>
                    <a:pt x="1108" y="223"/>
                  </a:lnTo>
                  <a:lnTo>
                    <a:pt x="1108" y="218"/>
                  </a:lnTo>
                  <a:lnTo>
                    <a:pt x="1113" y="213"/>
                  </a:lnTo>
                  <a:lnTo>
                    <a:pt x="1113" y="208"/>
                  </a:lnTo>
                  <a:lnTo>
                    <a:pt x="1118" y="203"/>
                  </a:lnTo>
                  <a:lnTo>
                    <a:pt x="1128" y="198"/>
                  </a:lnTo>
                  <a:lnTo>
                    <a:pt x="1133" y="193"/>
                  </a:lnTo>
                  <a:lnTo>
                    <a:pt x="1143" y="193"/>
                  </a:lnTo>
                  <a:lnTo>
                    <a:pt x="1147" y="198"/>
                  </a:lnTo>
                  <a:lnTo>
                    <a:pt x="1157" y="203"/>
                  </a:lnTo>
                  <a:lnTo>
                    <a:pt x="1162" y="208"/>
                  </a:lnTo>
                  <a:lnTo>
                    <a:pt x="1167" y="213"/>
                  </a:lnTo>
                  <a:lnTo>
                    <a:pt x="1172" y="213"/>
                  </a:lnTo>
                  <a:lnTo>
                    <a:pt x="1172" y="208"/>
                  </a:lnTo>
                  <a:lnTo>
                    <a:pt x="1172" y="203"/>
                  </a:lnTo>
                  <a:lnTo>
                    <a:pt x="1172" y="193"/>
                  </a:lnTo>
                  <a:lnTo>
                    <a:pt x="1172" y="188"/>
                  </a:lnTo>
                  <a:lnTo>
                    <a:pt x="1177" y="183"/>
                  </a:lnTo>
                  <a:lnTo>
                    <a:pt x="1177" y="173"/>
                  </a:lnTo>
                  <a:lnTo>
                    <a:pt x="1187" y="173"/>
                  </a:lnTo>
                  <a:lnTo>
                    <a:pt x="1192" y="168"/>
                  </a:lnTo>
                  <a:lnTo>
                    <a:pt x="1202" y="163"/>
                  </a:lnTo>
                  <a:lnTo>
                    <a:pt x="1212" y="163"/>
                  </a:lnTo>
                  <a:lnTo>
                    <a:pt x="1217" y="163"/>
                  </a:lnTo>
                  <a:lnTo>
                    <a:pt x="1222" y="159"/>
                  </a:lnTo>
                  <a:lnTo>
                    <a:pt x="1232" y="159"/>
                  </a:lnTo>
                  <a:lnTo>
                    <a:pt x="1241" y="159"/>
                  </a:lnTo>
                  <a:lnTo>
                    <a:pt x="1251" y="159"/>
                  </a:lnTo>
                  <a:lnTo>
                    <a:pt x="1256" y="154"/>
                  </a:lnTo>
                  <a:lnTo>
                    <a:pt x="1261" y="149"/>
                  </a:lnTo>
                  <a:lnTo>
                    <a:pt x="1271" y="144"/>
                  </a:lnTo>
                  <a:lnTo>
                    <a:pt x="1276" y="144"/>
                  </a:lnTo>
                  <a:lnTo>
                    <a:pt x="1281" y="139"/>
                  </a:lnTo>
                  <a:lnTo>
                    <a:pt x="1291" y="134"/>
                  </a:lnTo>
                  <a:lnTo>
                    <a:pt x="1296" y="134"/>
                  </a:lnTo>
                  <a:lnTo>
                    <a:pt x="1301" y="129"/>
                  </a:lnTo>
                  <a:lnTo>
                    <a:pt x="1306" y="124"/>
                  </a:lnTo>
                  <a:lnTo>
                    <a:pt x="1316" y="124"/>
                  </a:lnTo>
                  <a:lnTo>
                    <a:pt x="1326" y="124"/>
                  </a:lnTo>
                  <a:lnTo>
                    <a:pt x="1335" y="124"/>
                  </a:lnTo>
                  <a:lnTo>
                    <a:pt x="1345" y="119"/>
                  </a:lnTo>
                  <a:lnTo>
                    <a:pt x="1350" y="119"/>
                  </a:lnTo>
                  <a:lnTo>
                    <a:pt x="1360" y="114"/>
                  </a:lnTo>
                  <a:lnTo>
                    <a:pt x="1365" y="114"/>
                  </a:lnTo>
                  <a:lnTo>
                    <a:pt x="1375" y="109"/>
                  </a:lnTo>
                  <a:lnTo>
                    <a:pt x="1380" y="109"/>
                  </a:lnTo>
                  <a:lnTo>
                    <a:pt x="1390" y="104"/>
                  </a:lnTo>
                  <a:lnTo>
                    <a:pt x="1395" y="104"/>
                  </a:lnTo>
                  <a:lnTo>
                    <a:pt x="1400" y="99"/>
                  </a:lnTo>
                  <a:lnTo>
                    <a:pt x="1405" y="94"/>
                  </a:lnTo>
                  <a:lnTo>
                    <a:pt x="1415" y="89"/>
                  </a:lnTo>
                  <a:lnTo>
                    <a:pt x="1424" y="89"/>
                  </a:lnTo>
                  <a:lnTo>
                    <a:pt x="1429" y="89"/>
                  </a:lnTo>
                  <a:lnTo>
                    <a:pt x="1439" y="89"/>
                  </a:lnTo>
                  <a:lnTo>
                    <a:pt x="1449" y="84"/>
                  </a:lnTo>
                  <a:lnTo>
                    <a:pt x="1454" y="84"/>
                  </a:lnTo>
                  <a:lnTo>
                    <a:pt x="1464" y="79"/>
                  </a:lnTo>
                  <a:lnTo>
                    <a:pt x="1469" y="79"/>
                  </a:lnTo>
                  <a:lnTo>
                    <a:pt x="1479" y="79"/>
                  </a:lnTo>
                  <a:lnTo>
                    <a:pt x="1484" y="74"/>
                  </a:lnTo>
                  <a:lnTo>
                    <a:pt x="1489" y="65"/>
                  </a:lnTo>
                  <a:lnTo>
                    <a:pt x="1494" y="65"/>
                  </a:lnTo>
                  <a:lnTo>
                    <a:pt x="1504" y="65"/>
                  </a:lnTo>
                  <a:lnTo>
                    <a:pt x="1508" y="60"/>
                  </a:lnTo>
                  <a:lnTo>
                    <a:pt x="1518" y="60"/>
                  </a:lnTo>
                  <a:lnTo>
                    <a:pt x="1528" y="60"/>
                  </a:lnTo>
                  <a:lnTo>
                    <a:pt x="1533" y="55"/>
                  </a:lnTo>
                  <a:lnTo>
                    <a:pt x="1543" y="55"/>
                  </a:lnTo>
                  <a:lnTo>
                    <a:pt x="1553" y="55"/>
                  </a:lnTo>
                  <a:lnTo>
                    <a:pt x="1563" y="55"/>
                  </a:lnTo>
                  <a:lnTo>
                    <a:pt x="1568" y="50"/>
                  </a:lnTo>
                  <a:lnTo>
                    <a:pt x="1573" y="45"/>
                  </a:lnTo>
                  <a:lnTo>
                    <a:pt x="1578" y="40"/>
                  </a:lnTo>
                  <a:lnTo>
                    <a:pt x="1583" y="35"/>
                  </a:lnTo>
                  <a:lnTo>
                    <a:pt x="1593" y="35"/>
                  </a:lnTo>
                  <a:lnTo>
                    <a:pt x="1602" y="30"/>
                  </a:lnTo>
                  <a:lnTo>
                    <a:pt x="1607" y="30"/>
                  </a:lnTo>
                  <a:lnTo>
                    <a:pt x="1617" y="30"/>
                  </a:lnTo>
                  <a:lnTo>
                    <a:pt x="1627" y="25"/>
                  </a:lnTo>
                  <a:lnTo>
                    <a:pt x="1632" y="25"/>
                  </a:lnTo>
                  <a:lnTo>
                    <a:pt x="1642" y="25"/>
                  </a:lnTo>
                  <a:lnTo>
                    <a:pt x="1652" y="25"/>
                  </a:lnTo>
                  <a:lnTo>
                    <a:pt x="1662" y="25"/>
                  </a:lnTo>
                  <a:lnTo>
                    <a:pt x="1667" y="30"/>
                  </a:lnTo>
                  <a:lnTo>
                    <a:pt x="1677" y="30"/>
                  </a:lnTo>
                  <a:lnTo>
                    <a:pt x="1687" y="30"/>
                  </a:lnTo>
                  <a:lnTo>
                    <a:pt x="1691" y="30"/>
                  </a:lnTo>
                  <a:lnTo>
                    <a:pt x="1701" y="35"/>
                  </a:lnTo>
                  <a:lnTo>
                    <a:pt x="1711" y="40"/>
                  </a:lnTo>
                  <a:lnTo>
                    <a:pt x="1716" y="40"/>
                  </a:lnTo>
                  <a:lnTo>
                    <a:pt x="1721" y="45"/>
                  </a:lnTo>
                  <a:lnTo>
                    <a:pt x="1731" y="50"/>
                  </a:lnTo>
                  <a:lnTo>
                    <a:pt x="1736" y="55"/>
                  </a:lnTo>
                  <a:lnTo>
                    <a:pt x="1741" y="55"/>
                  </a:lnTo>
                  <a:lnTo>
                    <a:pt x="1751" y="55"/>
                  </a:lnTo>
                  <a:lnTo>
                    <a:pt x="1761" y="55"/>
                  </a:lnTo>
                  <a:lnTo>
                    <a:pt x="1771" y="55"/>
                  </a:lnTo>
                  <a:lnTo>
                    <a:pt x="1776" y="55"/>
                  </a:lnTo>
                  <a:lnTo>
                    <a:pt x="1785" y="55"/>
                  </a:lnTo>
                  <a:lnTo>
                    <a:pt x="1795" y="60"/>
                  </a:lnTo>
                  <a:lnTo>
                    <a:pt x="1800" y="60"/>
                  </a:lnTo>
                  <a:lnTo>
                    <a:pt x="1810" y="65"/>
                  </a:lnTo>
                  <a:lnTo>
                    <a:pt x="1815" y="70"/>
                  </a:lnTo>
                  <a:lnTo>
                    <a:pt x="1820" y="74"/>
                  </a:lnTo>
                  <a:lnTo>
                    <a:pt x="1825" y="79"/>
                  </a:lnTo>
                  <a:lnTo>
                    <a:pt x="1835" y="79"/>
                  </a:lnTo>
                  <a:lnTo>
                    <a:pt x="1840" y="79"/>
                  </a:lnTo>
                  <a:lnTo>
                    <a:pt x="1850" y="79"/>
                  </a:lnTo>
                  <a:lnTo>
                    <a:pt x="1860" y="79"/>
                  </a:lnTo>
                  <a:lnTo>
                    <a:pt x="1870" y="79"/>
                  </a:lnTo>
                  <a:lnTo>
                    <a:pt x="1874" y="79"/>
                  </a:lnTo>
                  <a:lnTo>
                    <a:pt x="1884" y="79"/>
                  </a:lnTo>
                  <a:lnTo>
                    <a:pt x="1894" y="84"/>
                  </a:lnTo>
                  <a:lnTo>
                    <a:pt x="1899" y="84"/>
                  </a:lnTo>
                  <a:lnTo>
                    <a:pt x="1909" y="89"/>
                  </a:lnTo>
                  <a:lnTo>
                    <a:pt x="1914" y="94"/>
                  </a:lnTo>
                  <a:lnTo>
                    <a:pt x="1919" y="99"/>
                  </a:lnTo>
                  <a:lnTo>
                    <a:pt x="1924" y="104"/>
                  </a:lnTo>
                  <a:lnTo>
                    <a:pt x="1929" y="109"/>
                  </a:lnTo>
                  <a:lnTo>
                    <a:pt x="1939" y="109"/>
                  </a:lnTo>
                  <a:lnTo>
                    <a:pt x="1949" y="109"/>
                  </a:lnTo>
                  <a:lnTo>
                    <a:pt x="1954" y="109"/>
                  </a:lnTo>
                  <a:lnTo>
                    <a:pt x="1963" y="109"/>
                  </a:lnTo>
                  <a:lnTo>
                    <a:pt x="1973" y="109"/>
                  </a:lnTo>
                  <a:lnTo>
                    <a:pt x="1983" y="109"/>
                  </a:lnTo>
                  <a:lnTo>
                    <a:pt x="1988" y="109"/>
                  </a:lnTo>
                  <a:lnTo>
                    <a:pt x="1998" y="109"/>
                  </a:lnTo>
                  <a:lnTo>
                    <a:pt x="2003" y="114"/>
                  </a:lnTo>
                  <a:lnTo>
                    <a:pt x="2008" y="119"/>
                  </a:lnTo>
                  <a:lnTo>
                    <a:pt x="2013" y="124"/>
                  </a:lnTo>
                  <a:lnTo>
                    <a:pt x="2018" y="129"/>
                  </a:lnTo>
                  <a:lnTo>
                    <a:pt x="2023" y="134"/>
                  </a:lnTo>
                  <a:lnTo>
                    <a:pt x="2028" y="139"/>
                  </a:lnTo>
                  <a:lnTo>
                    <a:pt x="2038" y="139"/>
                  </a:lnTo>
                  <a:lnTo>
                    <a:pt x="2048" y="139"/>
                  </a:lnTo>
                  <a:lnTo>
                    <a:pt x="2057" y="139"/>
                  </a:lnTo>
                  <a:lnTo>
                    <a:pt x="2067" y="139"/>
                  </a:lnTo>
                  <a:lnTo>
                    <a:pt x="2072" y="139"/>
                  </a:lnTo>
                  <a:lnTo>
                    <a:pt x="2082" y="139"/>
                  </a:lnTo>
                  <a:lnTo>
                    <a:pt x="2092" y="139"/>
                  </a:lnTo>
                  <a:lnTo>
                    <a:pt x="2102" y="139"/>
                  </a:lnTo>
                  <a:lnTo>
                    <a:pt x="2107" y="144"/>
                  </a:lnTo>
                  <a:lnTo>
                    <a:pt x="2112" y="149"/>
                  </a:lnTo>
                  <a:lnTo>
                    <a:pt x="2117" y="154"/>
                  </a:lnTo>
                  <a:lnTo>
                    <a:pt x="2122" y="159"/>
                  </a:lnTo>
                  <a:lnTo>
                    <a:pt x="2122" y="163"/>
                  </a:lnTo>
                  <a:lnTo>
                    <a:pt x="2127" y="168"/>
                  </a:lnTo>
                  <a:lnTo>
                    <a:pt x="2132" y="173"/>
                  </a:lnTo>
                  <a:lnTo>
                    <a:pt x="2137" y="178"/>
                  </a:lnTo>
                  <a:lnTo>
                    <a:pt x="2146" y="183"/>
                  </a:lnTo>
                  <a:lnTo>
                    <a:pt x="2151" y="183"/>
                  </a:lnTo>
                  <a:lnTo>
                    <a:pt x="2151" y="188"/>
                  </a:lnTo>
                  <a:lnTo>
                    <a:pt x="2146" y="193"/>
                  </a:lnTo>
                  <a:lnTo>
                    <a:pt x="2142" y="198"/>
                  </a:lnTo>
                  <a:lnTo>
                    <a:pt x="2137" y="203"/>
                  </a:lnTo>
                  <a:lnTo>
                    <a:pt x="2137" y="213"/>
                  </a:lnTo>
                  <a:lnTo>
                    <a:pt x="2137" y="218"/>
                  </a:lnTo>
                  <a:lnTo>
                    <a:pt x="2142" y="223"/>
                  </a:lnTo>
                  <a:lnTo>
                    <a:pt x="2151" y="223"/>
                  </a:lnTo>
                  <a:lnTo>
                    <a:pt x="2156" y="223"/>
                  </a:lnTo>
                  <a:lnTo>
                    <a:pt x="2161" y="218"/>
                  </a:lnTo>
                  <a:lnTo>
                    <a:pt x="2161" y="208"/>
                  </a:lnTo>
                  <a:lnTo>
                    <a:pt x="2166" y="203"/>
                  </a:lnTo>
                  <a:lnTo>
                    <a:pt x="2171" y="198"/>
                  </a:lnTo>
                  <a:lnTo>
                    <a:pt x="2176" y="193"/>
                  </a:lnTo>
                  <a:lnTo>
                    <a:pt x="2181" y="193"/>
                  </a:lnTo>
                  <a:lnTo>
                    <a:pt x="2186" y="193"/>
                  </a:lnTo>
                  <a:lnTo>
                    <a:pt x="2196" y="193"/>
                  </a:lnTo>
                  <a:lnTo>
                    <a:pt x="2201" y="198"/>
                  </a:lnTo>
                  <a:lnTo>
                    <a:pt x="2211" y="203"/>
                  </a:lnTo>
                  <a:lnTo>
                    <a:pt x="2216" y="208"/>
                  </a:lnTo>
                  <a:lnTo>
                    <a:pt x="2226" y="208"/>
                  </a:lnTo>
                  <a:lnTo>
                    <a:pt x="2231" y="213"/>
                  </a:lnTo>
                  <a:lnTo>
                    <a:pt x="2240" y="218"/>
                  </a:lnTo>
                  <a:lnTo>
                    <a:pt x="2245" y="218"/>
                  </a:lnTo>
                  <a:lnTo>
                    <a:pt x="2250" y="223"/>
                  </a:lnTo>
                  <a:lnTo>
                    <a:pt x="2260" y="228"/>
                  </a:lnTo>
                  <a:lnTo>
                    <a:pt x="2265" y="228"/>
                  </a:lnTo>
                  <a:lnTo>
                    <a:pt x="2275" y="233"/>
                  </a:lnTo>
                  <a:lnTo>
                    <a:pt x="2280" y="238"/>
                  </a:lnTo>
                  <a:lnTo>
                    <a:pt x="2285" y="238"/>
                  </a:lnTo>
                  <a:lnTo>
                    <a:pt x="2295" y="243"/>
                  </a:lnTo>
                  <a:lnTo>
                    <a:pt x="2300" y="247"/>
                  </a:lnTo>
                  <a:lnTo>
                    <a:pt x="2305" y="252"/>
                  </a:lnTo>
                  <a:lnTo>
                    <a:pt x="2310" y="252"/>
                  </a:lnTo>
                  <a:lnTo>
                    <a:pt x="2320" y="257"/>
                  </a:lnTo>
                  <a:lnTo>
                    <a:pt x="2324" y="262"/>
                  </a:lnTo>
                  <a:lnTo>
                    <a:pt x="2334" y="262"/>
                  </a:lnTo>
                  <a:lnTo>
                    <a:pt x="2339" y="267"/>
                  </a:lnTo>
                  <a:lnTo>
                    <a:pt x="2334" y="272"/>
                  </a:lnTo>
                  <a:lnTo>
                    <a:pt x="2324" y="272"/>
                  </a:lnTo>
                  <a:lnTo>
                    <a:pt x="2315" y="272"/>
                  </a:lnTo>
                  <a:lnTo>
                    <a:pt x="2305" y="272"/>
                  </a:lnTo>
                  <a:lnTo>
                    <a:pt x="2300" y="272"/>
                  </a:lnTo>
                  <a:lnTo>
                    <a:pt x="2290" y="272"/>
                  </a:lnTo>
                  <a:lnTo>
                    <a:pt x="2280" y="272"/>
                  </a:lnTo>
                  <a:lnTo>
                    <a:pt x="2270" y="277"/>
                  </a:lnTo>
                  <a:lnTo>
                    <a:pt x="2265" y="272"/>
                  </a:lnTo>
                  <a:lnTo>
                    <a:pt x="2255" y="272"/>
                  </a:lnTo>
                  <a:lnTo>
                    <a:pt x="2250" y="267"/>
                  </a:lnTo>
                  <a:lnTo>
                    <a:pt x="2245" y="262"/>
                  </a:lnTo>
                  <a:lnTo>
                    <a:pt x="2240" y="257"/>
                  </a:lnTo>
                  <a:lnTo>
                    <a:pt x="2235" y="252"/>
                  </a:lnTo>
                  <a:lnTo>
                    <a:pt x="2231" y="252"/>
                  </a:lnTo>
                  <a:lnTo>
                    <a:pt x="2221" y="252"/>
                  </a:lnTo>
                  <a:lnTo>
                    <a:pt x="2211" y="252"/>
                  </a:lnTo>
                  <a:lnTo>
                    <a:pt x="2201" y="252"/>
                  </a:lnTo>
                  <a:lnTo>
                    <a:pt x="2191" y="252"/>
                  </a:lnTo>
                  <a:lnTo>
                    <a:pt x="2186" y="247"/>
                  </a:lnTo>
                  <a:lnTo>
                    <a:pt x="2176" y="247"/>
                  </a:lnTo>
                  <a:lnTo>
                    <a:pt x="2171" y="252"/>
                  </a:lnTo>
                  <a:lnTo>
                    <a:pt x="2166" y="257"/>
                  </a:lnTo>
                  <a:lnTo>
                    <a:pt x="2161" y="262"/>
                  </a:lnTo>
                  <a:lnTo>
                    <a:pt x="2156" y="267"/>
                  </a:lnTo>
                  <a:lnTo>
                    <a:pt x="2146" y="267"/>
                  </a:lnTo>
                  <a:lnTo>
                    <a:pt x="2142" y="267"/>
                  </a:lnTo>
                  <a:lnTo>
                    <a:pt x="2137" y="262"/>
                  </a:lnTo>
                  <a:lnTo>
                    <a:pt x="2137" y="257"/>
                  </a:lnTo>
                  <a:lnTo>
                    <a:pt x="2137" y="252"/>
                  </a:lnTo>
                  <a:lnTo>
                    <a:pt x="2137" y="243"/>
                  </a:lnTo>
                  <a:lnTo>
                    <a:pt x="2137" y="238"/>
                  </a:lnTo>
                  <a:lnTo>
                    <a:pt x="2132" y="228"/>
                  </a:lnTo>
                  <a:lnTo>
                    <a:pt x="2127" y="223"/>
                  </a:lnTo>
                  <a:lnTo>
                    <a:pt x="2127" y="223"/>
                  </a:lnTo>
                  <a:lnTo>
                    <a:pt x="2122" y="228"/>
                  </a:lnTo>
                  <a:lnTo>
                    <a:pt x="2117" y="238"/>
                  </a:lnTo>
                  <a:lnTo>
                    <a:pt x="2117" y="243"/>
                  </a:lnTo>
                  <a:lnTo>
                    <a:pt x="2112" y="247"/>
                  </a:lnTo>
                  <a:lnTo>
                    <a:pt x="2107" y="252"/>
                  </a:lnTo>
                  <a:lnTo>
                    <a:pt x="2107" y="257"/>
                  </a:lnTo>
                  <a:lnTo>
                    <a:pt x="2102" y="262"/>
                  </a:lnTo>
                  <a:lnTo>
                    <a:pt x="2097" y="267"/>
                  </a:lnTo>
                  <a:lnTo>
                    <a:pt x="2097" y="272"/>
                  </a:lnTo>
                  <a:lnTo>
                    <a:pt x="2092" y="277"/>
                  </a:lnTo>
                  <a:lnTo>
                    <a:pt x="2092" y="282"/>
                  </a:lnTo>
                  <a:lnTo>
                    <a:pt x="2087" y="287"/>
                  </a:lnTo>
                  <a:lnTo>
                    <a:pt x="2082" y="297"/>
                  </a:lnTo>
                  <a:lnTo>
                    <a:pt x="2077" y="302"/>
                  </a:lnTo>
                  <a:lnTo>
                    <a:pt x="2072" y="302"/>
                  </a:lnTo>
                  <a:lnTo>
                    <a:pt x="2067" y="297"/>
                  </a:lnTo>
                  <a:lnTo>
                    <a:pt x="2057" y="292"/>
                  </a:lnTo>
                  <a:lnTo>
                    <a:pt x="2052" y="287"/>
                  </a:lnTo>
                  <a:lnTo>
                    <a:pt x="2043" y="287"/>
                  </a:lnTo>
                  <a:lnTo>
                    <a:pt x="2033" y="287"/>
                  </a:lnTo>
                  <a:lnTo>
                    <a:pt x="2023" y="287"/>
                  </a:lnTo>
                  <a:lnTo>
                    <a:pt x="2018" y="287"/>
                  </a:lnTo>
                  <a:lnTo>
                    <a:pt x="2008" y="287"/>
                  </a:lnTo>
                  <a:lnTo>
                    <a:pt x="2003" y="282"/>
                  </a:lnTo>
                  <a:lnTo>
                    <a:pt x="1993" y="277"/>
                  </a:lnTo>
                  <a:lnTo>
                    <a:pt x="1988" y="272"/>
                  </a:lnTo>
                  <a:lnTo>
                    <a:pt x="1983" y="267"/>
                  </a:lnTo>
                  <a:lnTo>
                    <a:pt x="1978" y="267"/>
                  </a:lnTo>
                  <a:lnTo>
                    <a:pt x="1968" y="267"/>
                  </a:lnTo>
                  <a:lnTo>
                    <a:pt x="1963" y="262"/>
                  </a:lnTo>
                  <a:lnTo>
                    <a:pt x="1959" y="257"/>
                  </a:lnTo>
                  <a:lnTo>
                    <a:pt x="1954" y="252"/>
                  </a:lnTo>
                  <a:lnTo>
                    <a:pt x="1949" y="247"/>
                  </a:lnTo>
                  <a:lnTo>
                    <a:pt x="1944" y="243"/>
                  </a:lnTo>
                  <a:lnTo>
                    <a:pt x="1939" y="243"/>
                  </a:lnTo>
                  <a:lnTo>
                    <a:pt x="1934" y="247"/>
                  </a:lnTo>
                  <a:lnTo>
                    <a:pt x="1929" y="252"/>
                  </a:lnTo>
                  <a:lnTo>
                    <a:pt x="1924" y="257"/>
                  </a:lnTo>
                  <a:lnTo>
                    <a:pt x="1919" y="262"/>
                  </a:lnTo>
                  <a:lnTo>
                    <a:pt x="1914" y="262"/>
                  </a:lnTo>
                  <a:lnTo>
                    <a:pt x="1909" y="262"/>
                  </a:lnTo>
                  <a:lnTo>
                    <a:pt x="1904" y="262"/>
                  </a:lnTo>
                  <a:lnTo>
                    <a:pt x="1894" y="257"/>
                  </a:lnTo>
                  <a:lnTo>
                    <a:pt x="1889" y="247"/>
                  </a:lnTo>
                  <a:lnTo>
                    <a:pt x="1889" y="243"/>
                  </a:lnTo>
                  <a:lnTo>
                    <a:pt x="1889" y="238"/>
                  </a:lnTo>
                  <a:lnTo>
                    <a:pt x="1894" y="228"/>
                  </a:lnTo>
                  <a:lnTo>
                    <a:pt x="1894" y="223"/>
                  </a:lnTo>
                  <a:lnTo>
                    <a:pt x="1899" y="218"/>
                  </a:lnTo>
                  <a:lnTo>
                    <a:pt x="1894" y="213"/>
                  </a:lnTo>
                  <a:lnTo>
                    <a:pt x="1889" y="213"/>
                  </a:lnTo>
                  <a:lnTo>
                    <a:pt x="1884" y="218"/>
                  </a:lnTo>
                  <a:lnTo>
                    <a:pt x="1879" y="223"/>
                  </a:lnTo>
                  <a:lnTo>
                    <a:pt x="1874" y="228"/>
                  </a:lnTo>
                  <a:lnTo>
                    <a:pt x="1870" y="233"/>
                  </a:lnTo>
                  <a:lnTo>
                    <a:pt x="1865" y="238"/>
                  </a:lnTo>
                  <a:lnTo>
                    <a:pt x="1860" y="238"/>
                  </a:lnTo>
                  <a:lnTo>
                    <a:pt x="1850" y="238"/>
                  </a:lnTo>
                  <a:lnTo>
                    <a:pt x="1840" y="243"/>
                  </a:lnTo>
                  <a:lnTo>
                    <a:pt x="1835" y="243"/>
                  </a:lnTo>
                  <a:lnTo>
                    <a:pt x="1825" y="243"/>
                  </a:lnTo>
                  <a:lnTo>
                    <a:pt x="1815" y="247"/>
                  </a:lnTo>
                  <a:lnTo>
                    <a:pt x="1810" y="247"/>
                  </a:lnTo>
                  <a:lnTo>
                    <a:pt x="1800" y="247"/>
                  </a:lnTo>
                  <a:lnTo>
                    <a:pt x="1790" y="252"/>
                  </a:lnTo>
                  <a:lnTo>
                    <a:pt x="1785" y="252"/>
                  </a:lnTo>
                  <a:lnTo>
                    <a:pt x="1776" y="252"/>
                  </a:lnTo>
                  <a:lnTo>
                    <a:pt x="1771" y="257"/>
                  </a:lnTo>
                  <a:lnTo>
                    <a:pt x="1761" y="257"/>
                  </a:lnTo>
                  <a:lnTo>
                    <a:pt x="1751" y="257"/>
                  </a:lnTo>
                  <a:lnTo>
                    <a:pt x="1741" y="257"/>
                  </a:lnTo>
                  <a:lnTo>
                    <a:pt x="1731" y="262"/>
                  </a:lnTo>
                  <a:lnTo>
                    <a:pt x="1726" y="267"/>
                  </a:lnTo>
                  <a:lnTo>
                    <a:pt x="1726" y="272"/>
                  </a:lnTo>
                  <a:lnTo>
                    <a:pt x="1731" y="277"/>
                  </a:lnTo>
                  <a:lnTo>
                    <a:pt x="1731" y="282"/>
                  </a:lnTo>
                  <a:lnTo>
                    <a:pt x="1731" y="287"/>
                  </a:lnTo>
                  <a:lnTo>
                    <a:pt x="1731" y="292"/>
                  </a:lnTo>
                  <a:lnTo>
                    <a:pt x="1731" y="297"/>
                  </a:lnTo>
                  <a:lnTo>
                    <a:pt x="1736" y="307"/>
                  </a:lnTo>
                  <a:lnTo>
                    <a:pt x="1736" y="312"/>
                  </a:lnTo>
                  <a:lnTo>
                    <a:pt x="1736" y="317"/>
                  </a:lnTo>
                  <a:lnTo>
                    <a:pt x="1741" y="322"/>
                  </a:lnTo>
                  <a:lnTo>
                    <a:pt x="1741" y="327"/>
                  </a:lnTo>
                  <a:lnTo>
                    <a:pt x="1751" y="331"/>
                  </a:lnTo>
                  <a:lnTo>
                    <a:pt x="1756" y="336"/>
                  </a:lnTo>
                  <a:lnTo>
                    <a:pt x="1761" y="336"/>
                  </a:lnTo>
                  <a:lnTo>
                    <a:pt x="1766" y="341"/>
                  </a:lnTo>
                  <a:lnTo>
                    <a:pt x="1761" y="351"/>
                  </a:lnTo>
                  <a:lnTo>
                    <a:pt x="1756" y="351"/>
                  </a:lnTo>
                  <a:lnTo>
                    <a:pt x="1751" y="351"/>
                  </a:lnTo>
                  <a:lnTo>
                    <a:pt x="1746" y="346"/>
                  </a:lnTo>
                  <a:lnTo>
                    <a:pt x="1741" y="341"/>
                  </a:lnTo>
                  <a:lnTo>
                    <a:pt x="1736" y="336"/>
                  </a:lnTo>
                  <a:lnTo>
                    <a:pt x="1731" y="331"/>
                  </a:lnTo>
                  <a:lnTo>
                    <a:pt x="1726" y="327"/>
                  </a:lnTo>
                  <a:lnTo>
                    <a:pt x="1721" y="322"/>
                  </a:lnTo>
                  <a:lnTo>
                    <a:pt x="1716" y="317"/>
                  </a:lnTo>
                  <a:lnTo>
                    <a:pt x="1706" y="317"/>
                  </a:lnTo>
                  <a:lnTo>
                    <a:pt x="1701" y="312"/>
                  </a:lnTo>
                  <a:lnTo>
                    <a:pt x="1696" y="307"/>
                  </a:lnTo>
                  <a:lnTo>
                    <a:pt x="1691" y="302"/>
                  </a:lnTo>
                  <a:lnTo>
                    <a:pt x="1687" y="297"/>
                  </a:lnTo>
                  <a:lnTo>
                    <a:pt x="1682" y="292"/>
                  </a:lnTo>
                  <a:lnTo>
                    <a:pt x="1677" y="292"/>
                  </a:lnTo>
                  <a:lnTo>
                    <a:pt x="1667" y="287"/>
                  </a:lnTo>
                  <a:lnTo>
                    <a:pt x="1657" y="292"/>
                  </a:lnTo>
                  <a:lnTo>
                    <a:pt x="1652" y="297"/>
                  </a:lnTo>
                  <a:lnTo>
                    <a:pt x="1642" y="292"/>
                  </a:lnTo>
                  <a:lnTo>
                    <a:pt x="1637" y="287"/>
                  </a:lnTo>
                  <a:lnTo>
                    <a:pt x="1637" y="277"/>
                  </a:lnTo>
                  <a:lnTo>
                    <a:pt x="1632" y="272"/>
                  </a:lnTo>
                  <a:lnTo>
                    <a:pt x="1627" y="272"/>
                  </a:lnTo>
                  <a:lnTo>
                    <a:pt x="1617" y="272"/>
                  </a:lnTo>
                  <a:lnTo>
                    <a:pt x="1607" y="272"/>
                  </a:lnTo>
                  <a:lnTo>
                    <a:pt x="1598" y="272"/>
                  </a:lnTo>
                  <a:lnTo>
                    <a:pt x="1593" y="272"/>
                  </a:lnTo>
                  <a:lnTo>
                    <a:pt x="1588" y="267"/>
                  </a:lnTo>
                  <a:lnTo>
                    <a:pt x="1583" y="262"/>
                  </a:lnTo>
                  <a:lnTo>
                    <a:pt x="1573" y="257"/>
                  </a:lnTo>
                  <a:lnTo>
                    <a:pt x="1568" y="257"/>
                  </a:lnTo>
                  <a:lnTo>
                    <a:pt x="1558" y="257"/>
                  </a:lnTo>
                  <a:lnTo>
                    <a:pt x="1553" y="262"/>
                  </a:lnTo>
                  <a:lnTo>
                    <a:pt x="1543" y="262"/>
                  </a:lnTo>
                  <a:lnTo>
                    <a:pt x="1533" y="262"/>
                  </a:lnTo>
                  <a:lnTo>
                    <a:pt x="1528" y="267"/>
                  </a:lnTo>
                  <a:lnTo>
                    <a:pt x="1523" y="272"/>
                  </a:lnTo>
                  <a:lnTo>
                    <a:pt x="1523" y="277"/>
                  </a:lnTo>
                  <a:lnTo>
                    <a:pt x="1528" y="282"/>
                  </a:lnTo>
                  <a:lnTo>
                    <a:pt x="1533" y="287"/>
                  </a:lnTo>
                  <a:lnTo>
                    <a:pt x="1543" y="292"/>
                  </a:lnTo>
                  <a:lnTo>
                    <a:pt x="1538" y="292"/>
                  </a:lnTo>
                  <a:lnTo>
                    <a:pt x="1533" y="287"/>
                  </a:lnTo>
                  <a:lnTo>
                    <a:pt x="1528" y="282"/>
                  </a:lnTo>
                  <a:lnTo>
                    <a:pt x="1523" y="277"/>
                  </a:lnTo>
                  <a:lnTo>
                    <a:pt x="1513" y="277"/>
                  </a:lnTo>
                  <a:lnTo>
                    <a:pt x="1508" y="277"/>
                  </a:lnTo>
                  <a:lnTo>
                    <a:pt x="1504" y="282"/>
                  </a:lnTo>
                  <a:lnTo>
                    <a:pt x="1494" y="282"/>
                  </a:lnTo>
                  <a:lnTo>
                    <a:pt x="1484" y="287"/>
                  </a:lnTo>
                  <a:lnTo>
                    <a:pt x="1479" y="287"/>
                  </a:lnTo>
                  <a:lnTo>
                    <a:pt x="1469" y="292"/>
                  </a:lnTo>
                  <a:lnTo>
                    <a:pt x="1459" y="292"/>
                  </a:lnTo>
                  <a:lnTo>
                    <a:pt x="1454" y="297"/>
                  </a:lnTo>
                  <a:lnTo>
                    <a:pt x="1449" y="302"/>
                  </a:lnTo>
                  <a:lnTo>
                    <a:pt x="1444" y="302"/>
                  </a:lnTo>
                  <a:lnTo>
                    <a:pt x="1439" y="307"/>
                  </a:lnTo>
                  <a:lnTo>
                    <a:pt x="1434" y="312"/>
                  </a:lnTo>
                  <a:lnTo>
                    <a:pt x="1424" y="317"/>
                  </a:lnTo>
                  <a:lnTo>
                    <a:pt x="1415" y="317"/>
                  </a:lnTo>
                  <a:lnTo>
                    <a:pt x="1405" y="317"/>
                  </a:lnTo>
                  <a:lnTo>
                    <a:pt x="1400" y="317"/>
                  </a:lnTo>
                  <a:lnTo>
                    <a:pt x="1390" y="322"/>
                  </a:lnTo>
                  <a:lnTo>
                    <a:pt x="1385" y="327"/>
                  </a:lnTo>
                  <a:lnTo>
                    <a:pt x="1380" y="331"/>
                  </a:lnTo>
                  <a:lnTo>
                    <a:pt x="1375" y="336"/>
                  </a:lnTo>
                  <a:lnTo>
                    <a:pt x="1365" y="336"/>
                  </a:lnTo>
                  <a:lnTo>
                    <a:pt x="1355" y="336"/>
                  </a:lnTo>
                  <a:lnTo>
                    <a:pt x="1350" y="341"/>
                  </a:lnTo>
                  <a:lnTo>
                    <a:pt x="1340" y="341"/>
                  </a:lnTo>
                  <a:lnTo>
                    <a:pt x="1330" y="341"/>
                  </a:lnTo>
                  <a:lnTo>
                    <a:pt x="1326" y="346"/>
                  </a:lnTo>
                  <a:lnTo>
                    <a:pt x="1316" y="346"/>
                  </a:lnTo>
                  <a:lnTo>
                    <a:pt x="1311" y="351"/>
                  </a:lnTo>
                  <a:lnTo>
                    <a:pt x="1306" y="356"/>
                  </a:lnTo>
                  <a:lnTo>
                    <a:pt x="1301" y="361"/>
                  </a:lnTo>
                  <a:lnTo>
                    <a:pt x="1291" y="361"/>
                  </a:lnTo>
                  <a:lnTo>
                    <a:pt x="1281" y="366"/>
                  </a:lnTo>
                  <a:lnTo>
                    <a:pt x="1276" y="366"/>
                  </a:lnTo>
                  <a:lnTo>
                    <a:pt x="1266" y="366"/>
                  </a:lnTo>
                  <a:lnTo>
                    <a:pt x="1256" y="371"/>
                  </a:lnTo>
                  <a:lnTo>
                    <a:pt x="1251" y="376"/>
                  </a:lnTo>
                  <a:lnTo>
                    <a:pt x="1251" y="381"/>
                  </a:lnTo>
                  <a:lnTo>
                    <a:pt x="1246" y="376"/>
                  </a:lnTo>
                  <a:lnTo>
                    <a:pt x="1241" y="366"/>
                  </a:lnTo>
                  <a:lnTo>
                    <a:pt x="1236" y="361"/>
                  </a:lnTo>
                  <a:lnTo>
                    <a:pt x="1232" y="356"/>
                  </a:lnTo>
                  <a:lnTo>
                    <a:pt x="1227" y="351"/>
                  </a:lnTo>
                  <a:lnTo>
                    <a:pt x="1222" y="351"/>
                  </a:lnTo>
                  <a:lnTo>
                    <a:pt x="1217" y="356"/>
                  </a:lnTo>
                  <a:lnTo>
                    <a:pt x="1212" y="361"/>
                  </a:lnTo>
                  <a:lnTo>
                    <a:pt x="1207" y="366"/>
                  </a:lnTo>
                  <a:lnTo>
                    <a:pt x="1207" y="371"/>
                  </a:lnTo>
                  <a:lnTo>
                    <a:pt x="1202" y="376"/>
                  </a:lnTo>
                  <a:lnTo>
                    <a:pt x="1197" y="381"/>
                  </a:lnTo>
                  <a:lnTo>
                    <a:pt x="1192" y="386"/>
                  </a:lnTo>
                  <a:lnTo>
                    <a:pt x="1192" y="391"/>
                  </a:lnTo>
                  <a:lnTo>
                    <a:pt x="1187" y="401"/>
                  </a:lnTo>
                  <a:lnTo>
                    <a:pt x="1187" y="406"/>
                  </a:lnTo>
                  <a:lnTo>
                    <a:pt x="1187" y="411"/>
                  </a:lnTo>
                  <a:lnTo>
                    <a:pt x="1182" y="416"/>
                  </a:lnTo>
                  <a:lnTo>
                    <a:pt x="1182" y="420"/>
                  </a:lnTo>
                  <a:lnTo>
                    <a:pt x="1177" y="425"/>
                  </a:lnTo>
                  <a:lnTo>
                    <a:pt x="1177" y="430"/>
                  </a:lnTo>
                  <a:lnTo>
                    <a:pt x="1172" y="435"/>
                  </a:lnTo>
                  <a:lnTo>
                    <a:pt x="1167" y="440"/>
                  </a:lnTo>
                  <a:lnTo>
                    <a:pt x="1167" y="445"/>
                  </a:lnTo>
                  <a:lnTo>
                    <a:pt x="1162" y="450"/>
                  </a:lnTo>
                  <a:lnTo>
                    <a:pt x="1162" y="460"/>
                  </a:lnTo>
                  <a:lnTo>
                    <a:pt x="1157" y="465"/>
                  </a:lnTo>
                  <a:lnTo>
                    <a:pt x="1157" y="470"/>
                  </a:lnTo>
                  <a:lnTo>
                    <a:pt x="1157" y="475"/>
                  </a:lnTo>
                  <a:lnTo>
                    <a:pt x="1152" y="480"/>
                  </a:lnTo>
                  <a:lnTo>
                    <a:pt x="1152" y="485"/>
                  </a:lnTo>
                  <a:lnTo>
                    <a:pt x="1147" y="490"/>
                  </a:lnTo>
                  <a:lnTo>
                    <a:pt x="1143" y="495"/>
                  </a:lnTo>
                  <a:lnTo>
                    <a:pt x="1143" y="500"/>
                  </a:lnTo>
                  <a:lnTo>
                    <a:pt x="1138" y="504"/>
                  </a:lnTo>
                  <a:lnTo>
                    <a:pt x="1138" y="509"/>
                  </a:lnTo>
                  <a:lnTo>
                    <a:pt x="1133" y="519"/>
                  </a:lnTo>
                  <a:lnTo>
                    <a:pt x="1133" y="524"/>
                  </a:lnTo>
                  <a:lnTo>
                    <a:pt x="1133" y="529"/>
                  </a:lnTo>
                  <a:lnTo>
                    <a:pt x="1128" y="534"/>
                  </a:lnTo>
                  <a:lnTo>
                    <a:pt x="1128" y="539"/>
                  </a:lnTo>
                  <a:lnTo>
                    <a:pt x="1123" y="544"/>
                  </a:lnTo>
                  <a:lnTo>
                    <a:pt x="1123" y="549"/>
                  </a:lnTo>
                  <a:lnTo>
                    <a:pt x="1118" y="554"/>
                  </a:lnTo>
                  <a:lnTo>
                    <a:pt x="1113" y="559"/>
                  </a:lnTo>
                  <a:lnTo>
                    <a:pt x="1108" y="564"/>
                  </a:lnTo>
                  <a:lnTo>
                    <a:pt x="1108" y="569"/>
                  </a:lnTo>
                  <a:lnTo>
                    <a:pt x="1108" y="574"/>
                  </a:lnTo>
                  <a:lnTo>
                    <a:pt x="1108" y="584"/>
                  </a:lnTo>
                  <a:lnTo>
                    <a:pt x="1108" y="589"/>
                  </a:lnTo>
                  <a:lnTo>
                    <a:pt x="1108" y="593"/>
                  </a:lnTo>
                  <a:lnTo>
                    <a:pt x="1108" y="598"/>
                  </a:lnTo>
                  <a:lnTo>
                    <a:pt x="1108" y="603"/>
                  </a:lnTo>
                  <a:lnTo>
                    <a:pt x="1108" y="608"/>
                  </a:lnTo>
                  <a:lnTo>
                    <a:pt x="1103" y="613"/>
                  </a:lnTo>
                  <a:lnTo>
                    <a:pt x="1103" y="623"/>
                  </a:lnTo>
                  <a:lnTo>
                    <a:pt x="1098" y="628"/>
                  </a:lnTo>
                  <a:lnTo>
                    <a:pt x="1093" y="633"/>
                  </a:lnTo>
                  <a:lnTo>
                    <a:pt x="1088" y="633"/>
                  </a:lnTo>
                  <a:lnTo>
                    <a:pt x="1083" y="628"/>
                  </a:lnTo>
                  <a:lnTo>
                    <a:pt x="1083" y="623"/>
                  </a:lnTo>
                  <a:lnTo>
                    <a:pt x="1078" y="613"/>
                  </a:lnTo>
                  <a:lnTo>
                    <a:pt x="1078" y="608"/>
                  </a:lnTo>
                  <a:lnTo>
                    <a:pt x="1078" y="603"/>
                  </a:lnTo>
                  <a:lnTo>
                    <a:pt x="1078" y="598"/>
                  </a:lnTo>
                  <a:lnTo>
                    <a:pt x="1078" y="593"/>
                  </a:lnTo>
                  <a:lnTo>
                    <a:pt x="1078" y="589"/>
                  </a:lnTo>
                  <a:lnTo>
                    <a:pt x="1078" y="579"/>
                  </a:lnTo>
                  <a:lnTo>
                    <a:pt x="1078" y="574"/>
                  </a:lnTo>
                  <a:lnTo>
                    <a:pt x="1078" y="569"/>
                  </a:lnTo>
                  <a:lnTo>
                    <a:pt x="1078" y="564"/>
                  </a:lnTo>
                  <a:lnTo>
                    <a:pt x="1083" y="559"/>
                  </a:lnTo>
                  <a:lnTo>
                    <a:pt x="1083" y="554"/>
                  </a:lnTo>
                  <a:lnTo>
                    <a:pt x="1093" y="549"/>
                  </a:lnTo>
                  <a:lnTo>
                    <a:pt x="1098" y="544"/>
                  </a:lnTo>
                  <a:lnTo>
                    <a:pt x="1103" y="539"/>
                  </a:lnTo>
                  <a:lnTo>
                    <a:pt x="1108" y="534"/>
                  </a:lnTo>
                  <a:lnTo>
                    <a:pt x="1108" y="529"/>
                  </a:lnTo>
                  <a:lnTo>
                    <a:pt x="1108" y="524"/>
                  </a:lnTo>
                  <a:lnTo>
                    <a:pt x="1103" y="519"/>
                  </a:lnTo>
                  <a:lnTo>
                    <a:pt x="1103" y="514"/>
                  </a:lnTo>
                  <a:lnTo>
                    <a:pt x="1103" y="509"/>
                  </a:lnTo>
                  <a:lnTo>
                    <a:pt x="1103" y="504"/>
                  </a:lnTo>
                  <a:lnTo>
                    <a:pt x="1108" y="500"/>
                  </a:lnTo>
                  <a:lnTo>
                    <a:pt x="1113" y="495"/>
                  </a:lnTo>
                  <a:lnTo>
                    <a:pt x="1123" y="490"/>
                  </a:lnTo>
                  <a:lnTo>
                    <a:pt x="1128" y="485"/>
                  </a:lnTo>
                  <a:lnTo>
                    <a:pt x="1133" y="480"/>
                  </a:lnTo>
                  <a:lnTo>
                    <a:pt x="1138" y="475"/>
                  </a:lnTo>
                  <a:lnTo>
                    <a:pt x="1133" y="470"/>
                  </a:lnTo>
                  <a:lnTo>
                    <a:pt x="1133" y="465"/>
                  </a:lnTo>
                  <a:lnTo>
                    <a:pt x="1128" y="460"/>
                  </a:lnTo>
                  <a:lnTo>
                    <a:pt x="1128" y="455"/>
                  </a:lnTo>
                  <a:lnTo>
                    <a:pt x="1128" y="450"/>
                  </a:lnTo>
                  <a:lnTo>
                    <a:pt x="1133" y="445"/>
                  </a:lnTo>
                  <a:lnTo>
                    <a:pt x="1138" y="440"/>
                  </a:lnTo>
                  <a:lnTo>
                    <a:pt x="1147" y="435"/>
                  </a:lnTo>
                  <a:lnTo>
                    <a:pt x="1152" y="430"/>
                  </a:lnTo>
                  <a:lnTo>
                    <a:pt x="1162" y="425"/>
                  </a:lnTo>
                  <a:lnTo>
                    <a:pt x="1162" y="420"/>
                  </a:lnTo>
                  <a:lnTo>
                    <a:pt x="1162" y="416"/>
                  </a:lnTo>
                  <a:lnTo>
                    <a:pt x="1157" y="411"/>
                  </a:lnTo>
                  <a:lnTo>
                    <a:pt x="1157" y="406"/>
                  </a:lnTo>
                  <a:lnTo>
                    <a:pt x="1152" y="401"/>
                  </a:lnTo>
                  <a:lnTo>
                    <a:pt x="1152" y="396"/>
                  </a:lnTo>
                  <a:lnTo>
                    <a:pt x="1157" y="386"/>
                  </a:lnTo>
                  <a:lnTo>
                    <a:pt x="1162" y="381"/>
                  </a:lnTo>
                  <a:lnTo>
                    <a:pt x="1167" y="381"/>
                  </a:lnTo>
                  <a:lnTo>
                    <a:pt x="1177" y="376"/>
                  </a:lnTo>
                  <a:lnTo>
                    <a:pt x="1182" y="371"/>
                  </a:lnTo>
                  <a:lnTo>
                    <a:pt x="1187" y="371"/>
                  </a:lnTo>
                  <a:lnTo>
                    <a:pt x="1187" y="366"/>
                  </a:lnTo>
                  <a:lnTo>
                    <a:pt x="1182" y="356"/>
                  </a:lnTo>
                  <a:lnTo>
                    <a:pt x="1182" y="351"/>
                  </a:lnTo>
                  <a:lnTo>
                    <a:pt x="1182" y="346"/>
                  </a:lnTo>
                  <a:lnTo>
                    <a:pt x="1187" y="341"/>
                  </a:lnTo>
                  <a:lnTo>
                    <a:pt x="1187" y="331"/>
                  </a:lnTo>
                  <a:lnTo>
                    <a:pt x="1192" y="327"/>
                  </a:lnTo>
                  <a:lnTo>
                    <a:pt x="1197" y="322"/>
                  </a:lnTo>
                  <a:lnTo>
                    <a:pt x="1197" y="317"/>
                  </a:lnTo>
                  <a:lnTo>
                    <a:pt x="1192" y="312"/>
                  </a:lnTo>
                  <a:lnTo>
                    <a:pt x="1187" y="312"/>
                  </a:lnTo>
                  <a:lnTo>
                    <a:pt x="1182" y="307"/>
                  </a:lnTo>
                  <a:lnTo>
                    <a:pt x="1172" y="302"/>
                  </a:lnTo>
                  <a:lnTo>
                    <a:pt x="1167" y="297"/>
                  </a:lnTo>
                  <a:lnTo>
                    <a:pt x="1162" y="292"/>
                  </a:lnTo>
                  <a:lnTo>
                    <a:pt x="1157" y="287"/>
                  </a:lnTo>
                  <a:lnTo>
                    <a:pt x="1152" y="282"/>
                  </a:lnTo>
                  <a:lnTo>
                    <a:pt x="1147" y="277"/>
                  </a:lnTo>
                  <a:lnTo>
                    <a:pt x="1138" y="277"/>
                  </a:lnTo>
                  <a:lnTo>
                    <a:pt x="1133" y="282"/>
                  </a:lnTo>
                  <a:lnTo>
                    <a:pt x="1128" y="287"/>
                  </a:lnTo>
                  <a:lnTo>
                    <a:pt x="1123" y="292"/>
                  </a:lnTo>
                  <a:lnTo>
                    <a:pt x="1123" y="297"/>
                  </a:lnTo>
                  <a:lnTo>
                    <a:pt x="1123" y="307"/>
                  </a:lnTo>
                  <a:lnTo>
                    <a:pt x="1123" y="312"/>
                  </a:lnTo>
                  <a:lnTo>
                    <a:pt x="1123" y="317"/>
                  </a:lnTo>
                  <a:lnTo>
                    <a:pt x="1123" y="322"/>
                  </a:lnTo>
                  <a:lnTo>
                    <a:pt x="1113" y="322"/>
                  </a:lnTo>
                  <a:lnTo>
                    <a:pt x="1108" y="327"/>
                  </a:lnTo>
                  <a:lnTo>
                    <a:pt x="1103" y="331"/>
                  </a:lnTo>
                  <a:lnTo>
                    <a:pt x="1098" y="336"/>
                  </a:lnTo>
                  <a:lnTo>
                    <a:pt x="1093" y="341"/>
                  </a:lnTo>
                  <a:lnTo>
                    <a:pt x="1088" y="346"/>
                  </a:lnTo>
                  <a:lnTo>
                    <a:pt x="1093" y="351"/>
                  </a:lnTo>
                  <a:lnTo>
                    <a:pt x="1098" y="356"/>
                  </a:lnTo>
                  <a:lnTo>
                    <a:pt x="1103" y="361"/>
                  </a:lnTo>
                  <a:lnTo>
                    <a:pt x="1108" y="366"/>
                  </a:lnTo>
                  <a:lnTo>
                    <a:pt x="1113" y="371"/>
                  </a:lnTo>
                  <a:lnTo>
                    <a:pt x="1118" y="376"/>
                  </a:lnTo>
                  <a:lnTo>
                    <a:pt x="1113" y="381"/>
                  </a:lnTo>
                  <a:lnTo>
                    <a:pt x="1108" y="386"/>
                  </a:lnTo>
                  <a:lnTo>
                    <a:pt x="1108" y="391"/>
                  </a:lnTo>
                  <a:lnTo>
                    <a:pt x="1103" y="396"/>
                  </a:lnTo>
                  <a:lnTo>
                    <a:pt x="1103" y="401"/>
                  </a:lnTo>
                  <a:lnTo>
                    <a:pt x="1098" y="406"/>
                  </a:lnTo>
                  <a:lnTo>
                    <a:pt x="1098" y="411"/>
                  </a:lnTo>
                  <a:lnTo>
                    <a:pt x="1093" y="416"/>
                  </a:lnTo>
                  <a:lnTo>
                    <a:pt x="1093" y="420"/>
                  </a:lnTo>
                  <a:lnTo>
                    <a:pt x="1093" y="425"/>
                  </a:lnTo>
                  <a:lnTo>
                    <a:pt x="1093" y="435"/>
                  </a:lnTo>
                  <a:lnTo>
                    <a:pt x="1093" y="440"/>
                  </a:lnTo>
                  <a:lnTo>
                    <a:pt x="1093" y="445"/>
                  </a:lnTo>
                  <a:lnTo>
                    <a:pt x="1093" y="450"/>
                  </a:lnTo>
                  <a:lnTo>
                    <a:pt x="1088" y="455"/>
                  </a:lnTo>
                  <a:lnTo>
                    <a:pt x="1083" y="460"/>
                  </a:lnTo>
                  <a:lnTo>
                    <a:pt x="1078" y="465"/>
                  </a:lnTo>
                  <a:lnTo>
                    <a:pt x="1078" y="470"/>
                  </a:lnTo>
                  <a:lnTo>
                    <a:pt x="1073" y="475"/>
                  </a:lnTo>
                  <a:lnTo>
                    <a:pt x="1073" y="480"/>
                  </a:lnTo>
                  <a:lnTo>
                    <a:pt x="1073" y="485"/>
                  </a:lnTo>
                  <a:lnTo>
                    <a:pt x="1073" y="495"/>
                  </a:lnTo>
                  <a:lnTo>
                    <a:pt x="1073" y="500"/>
                  </a:lnTo>
                  <a:lnTo>
                    <a:pt x="1068" y="504"/>
                  </a:lnTo>
                  <a:lnTo>
                    <a:pt x="1068" y="509"/>
                  </a:lnTo>
                  <a:lnTo>
                    <a:pt x="1063" y="514"/>
                  </a:lnTo>
                  <a:lnTo>
                    <a:pt x="1058" y="519"/>
                  </a:lnTo>
                  <a:lnTo>
                    <a:pt x="1053" y="524"/>
                  </a:lnTo>
                  <a:lnTo>
                    <a:pt x="1053" y="529"/>
                  </a:lnTo>
                  <a:lnTo>
                    <a:pt x="1049" y="534"/>
                  </a:lnTo>
                  <a:lnTo>
                    <a:pt x="1049" y="539"/>
                  </a:lnTo>
                  <a:lnTo>
                    <a:pt x="1049" y="544"/>
                  </a:lnTo>
                  <a:lnTo>
                    <a:pt x="1049" y="549"/>
                  </a:lnTo>
                  <a:lnTo>
                    <a:pt x="1049" y="559"/>
                  </a:lnTo>
                  <a:lnTo>
                    <a:pt x="1049" y="564"/>
                  </a:lnTo>
                  <a:lnTo>
                    <a:pt x="1049" y="569"/>
                  </a:lnTo>
                  <a:lnTo>
                    <a:pt x="1044" y="574"/>
                  </a:lnTo>
                  <a:lnTo>
                    <a:pt x="1044" y="579"/>
                  </a:lnTo>
                  <a:lnTo>
                    <a:pt x="1044" y="584"/>
                  </a:lnTo>
                  <a:lnTo>
                    <a:pt x="1044" y="589"/>
                  </a:lnTo>
                  <a:lnTo>
                    <a:pt x="1044" y="598"/>
                  </a:lnTo>
                  <a:lnTo>
                    <a:pt x="1044" y="603"/>
                  </a:lnTo>
                  <a:lnTo>
                    <a:pt x="1044" y="608"/>
                  </a:lnTo>
                  <a:lnTo>
                    <a:pt x="1044" y="613"/>
                  </a:lnTo>
                  <a:lnTo>
                    <a:pt x="1044" y="618"/>
                  </a:lnTo>
                  <a:lnTo>
                    <a:pt x="1044" y="623"/>
                  </a:lnTo>
                  <a:lnTo>
                    <a:pt x="1039" y="628"/>
                  </a:lnTo>
                  <a:lnTo>
                    <a:pt x="1039" y="633"/>
                  </a:lnTo>
                  <a:lnTo>
                    <a:pt x="1039" y="643"/>
                  </a:lnTo>
                  <a:lnTo>
                    <a:pt x="1039" y="648"/>
                  </a:lnTo>
                  <a:lnTo>
                    <a:pt x="1034" y="653"/>
                  </a:lnTo>
                  <a:lnTo>
                    <a:pt x="1029" y="658"/>
                  </a:lnTo>
                  <a:lnTo>
                    <a:pt x="1024" y="663"/>
                  </a:lnTo>
                  <a:lnTo>
                    <a:pt x="1019" y="668"/>
                  </a:lnTo>
                  <a:lnTo>
                    <a:pt x="1019" y="673"/>
                  </a:lnTo>
                  <a:lnTo>
                    <a:pt x="1014" y="677"/>
                  </a:lnTo>
                  <a:lnTo>
                    <a:pt x="1014" y="682"/>
                  </a:lnTo>
                  <a:lnTo>
                    <a:pt x="1014" y="687"/>
                  </a:lnTo>
                  <a:lnTo>
                    <a:pt x="1014" y="692"/>
                  </a:lnTo>
                  <a:lnTo>
                    <a:pt x="1014" y="702"/>
                  </a:lnTo>
                  <a:lnTo>
                    <a:pt x="1009" y="707"/>
                  </a:lnTo>
                  <a:lnTo>
                    <a:pt x="1009" y="707"/>
                  </a:lnTo>
                  <a:lnTo>
                    <a:pt x="1009" y="702"/>
                  </a:lnTo>
                  <a:lnTo>
                    <a:pt x="1004" y="692"/>
                  </a:lnTo>
                  <a:close/>
                  <a:moveTo>
                    <a:pt x="1434" y="455"/>
                  </a:moveTo>
                  <a:lnTo>
                    <a:pt x="1434" y="455"/>
                  </a:lnTo>
                  <a:lnTo>
                    <a:pt x="1434" y="455"/>
                  </a:lnTo>
                  <a:lnTo>
                    <a:pt x="1434" y="455"/>
                  </a:lnTo>
                  <a:lnTo>
                    <a:pt x="1434" y="455"/>
                  </a:lnTo>
                  <a:lnTo>
                    <a:pt x="1434" y="455"/>
                  </a:lnTo>
                  <a:lnTo>
                    <a:pt x="1434" y="455"/>
                  </a:lnTo>
                  <a:lnTo>
                    <a:pt x="1434" y="455"/>
                  </a:lnTo>
                  <a:lnTo>
                    <a:pt x="1434" y="455"/>
                  </a:lnTo>
                  <a:lnTo>
                    <a:pt x="1434" y="455"/>
                  </a:lnTo>
                  <a:lnTo>
                    <a:pt x="1434" y="455"/>
                  </a:lnTo>
                  <a:lnTo>
                    <a:pt x="1434" y="455"/>
                  </a:lnTo>
                  <a:lnTo>
                    <a:pt x="1434" y="455"/>
                  </a:lnTo>
                  <a:lnTo>
                    <a:pt x="1434" y="455"/>
                  </a:lnTo>
                  <a:lnTo>
                    <a:pt x="1434" y="455"/>
                  </a:lnTo>
                  <a:close/>
                  <a:moveTo>
                    <a:pt x="1078" y="401"/>
                  </a:moveTo>
                  <a:lnTo>
                    <a:pt x="1073" y="396"/>
                  </a:lnTo>
                  <a:lnTo>
                    <a:pt x="1063" y="396"/>
                  </a:lnTo>
                  <a:lnTo>
                    <a:pt x="1058" y="396"/>
                  </a:lnTo>
                  <a:lnTo>
                    <a:pt x="1049" y="396"/>
                  </a:lnTo>
                  <a:lnTo>
                    <a:pt x="1044" y="401"/>
                  </a:lnTo>
                  <a:lnTo>
                    <a:pt x="1044" y="406"/>
                  </a:lnTo>
                  <a:lnTo>
                    <a:pt x="1049" y="411"/>
                  </a:lnTo>
                  <a:lnTo>
                    <a:pt x="1053" y="416"/>
                  </a:lnTo>
                  <a:lnTo>
                    <a:pt x="1058" y="420"/>
                  </a:lnTo>
                  <a:lnTo>
                    <a:pt x="1063" y="420"/>
                  </a:lnTo>
                  <a:lnTo>
                    <a:pt x="1068" y="416"/>
                  </a:lnTo>
                  <a:lnTo>
                    <a:pt x="1073" y="416"/>
                  </a:lnTo>
                  <a:lnTo>
                    <a:pt x="1073" y="406"/>
                  </a:lnTo>
                  <a:lnTo>
                    <a:pt x="1078" y="401"/>
                  </a:lnTo>
                  <a:close/>
                  <a:moveTo>
                    <a:pt x="208" y="371"/>
                  </a:moveTo>
                  <a:lnTo>
                    <a:pt x="183" y="371"/>
                  </a:lnTo>
                  <a:lnTo>
                    <a:pt x="183" y="396"/>
                  </a:lnTo>
                  <a:lnTo>
                    <a:pt x="208" y="371"/>
                  </a:lnTo>
                  <a:close/>
                  <a:moveTo>
                    <a:pt x="875" y="267"/>
                  </a:moveTo>
                  <a:lnTo>
                    <a:pt x="875" y="262"/>
                  </a:lnTo>
                  <a:lnTo>
                    <a:pt x="875" y="262"/>
                  </a:lnTo>
                  <a:lnTo>
                    <a:pt x="880" y="262"/>
                  </a:lnTo>
                  <a:lnTo>
                    <a:pt x="880" y="262"/>
                  </a:lnTo>
                  <a:lnTo>
                    <a:pt x="885" y="262"/>
                  </a:lnTo>
                  <a:lnTo>
                    <a:pt x="885" y="267"/>
                  </a:lnTo>
                  <a:lnTo>
                    <a:pt x="885" y="267"/>
                  </a:lnTo>
                  <a:lnTo>
                    <a:pt x="880" y="272"/>
                  </a:lnTo>
                  <a:lnTo>
                    <a:pt x="880" y="272"/>
                  </a:lnTo>
                  <a:lnTo>
                    <a:pt x="875" y="272"/>
                  </a:lnTo>
                  <a:lnTo>
                    <a:pt x="875" y="272"/>
                  </a:lnTo>
                  <a:lnTo>
                    <a:pt x="875" y="272"/>
                  </a:lnTo>
                  <a:lnTo>
                    <a:pt x="875" y="267"/>
                  </a:lnTo>
                  <a:lnTo>
                    <a:pt x="875" y="267"/>
                  </a:lnTo>
                  <a:close/>
                  <a:moveTo>
                    <a:pt x="1187" y="267"/>
                  </a:moveTo>
                  <a:lnTo>
                    <a:pt x="1177" y="262"/>
                  </a:lnTo>
                  <a:lnTo>
                    <a:pt x="1172" y="262"/>
                  </a:lnTo>
                  <a:lnTo>
                    <a:pt x="1167" y="262"/>
                  </a:lnTo>
                  <a:lnTo>
                    <a:pt x="1157" y="267"/>
                  </a:lnTo>
                  <a:lnTo>
                    <a:pt x="1157" y="267"/>
                  </a:lnTo>
                  <a:lnTo>
                    <a:pt x="1157" y="272"/>
                  </a:lnTo>
                  <a:lnTo>
                    <a:pt x="1157" y="277"/>
                  </a:lnTo>
                  <a:lnTo>
                    <a:pt x="1162" y="282"/>
                  </a:lnTo>
                  <a:lnTo>
                    <a:pt x="1167" y="287"/>
                  </a:lnTo>
                  <a:lnTo>
                    <a:pt x="1172" y="287"/>
                  </a:lnTo>
                  <a:lnTo>
                    <a:pt x="1177" y="282"/>
                  </a:lnTo>
                  <a:lnTo>
                    <a:pt x="1177" y="277"/>
                  </a:lnTo>
                  <a:lnTo>
                    <a:pt x="1182" y="272"/>
                  </a:lnTo>
                  <a:lnTo>
                    <a:pt x="1187" y="267"/>
                  </a:lnTo>
                  <a:close/>
                  <a:moveTo>
                    <a:pt x="1652" y="267"/>
                  </a:moveTo>
                  <a:lnTo>
                    <a:pt x="1647" y="262"/>
                  </a:lnTo>
                  <a:lnTo>
                    <a:pt x="1637" y="262"/>
                  </a:lnTo>
                  <a:lnTo>
                    <a:pt x="1632" y="267"/>
                  </a:lnTo>
                  <a:lnTo>
                    <a:pt x="1627" y="267"/>
                  </a:lnTo>
                  <a:lnTo>
                    <a:pt x="1627" y="272"/>
                  </a:lnTo>
                  <a:lnTo>
                    <a:pt x="1632" y="277"/>
                  </a:lnTo>
                  <a:lnTo>
                    <a:pt x="1637" y="282"/>
                  </a:lnTo>
                  <a:lnTo>
                    <a:pt x="1642" y="287"/>
                  </a:lnTo>
                  <a:lnTo>
                    <a:pt x="1647" y="287"/>
                  </a:lnTo>
                  <a:lnTo>
                    <a:pt x="1652" y="287"/>
                  </a:lnTo>
                  <a:lnTo>
                    <a:pt x="1652" y="287"/>
                  </a:lnTo>
                  <a:lnTo>
                    <a:pt x="1652" y="282"/>
                  </a:lnTo>
                  <a:lnTo>
                    <a:pt x="1652" y="272"/>
                  </a:lnTo>
                  <a:lnTo>
                    <a:pt x="1652" y="267"/>
                  </a:lnTo>
                  <a:close/>
                  <a:moveTo>
                    <a:pt x="910" y="238"/>
                  </a:moveTo>
                  <a:lnTo>
                    <a:pt x="915" y="233"/>
                  </a:lnTo>
                  <a:lnTo>
                    <a:pt x="920" y="228"/>
                  </a:lnTo>
                  <a:lnTo>
                    <a:pt x="925" y="223"/>
                  </a:lnTo>
                  <a:lnTo>
                    <a:pt x="930" y="218"/>
                  </a:lnTo>
                  <a:lnTo>
                    <a:pt x="935" y="213"/>
                  </a:lnTo>
                  <a:lnTo>
                    <a:pt x="940" y="208"/>
                  </a:lnTo>
                  <a:lnTo>
                    <a:pt x="945" y="203"/>
                  </a:lnTo>
                  <a:lnTo>
                    <a:pt x="950" y="198"/>
                  </a:lnTo>
                  <a:lnTo>
                    <a:pt x="955" y="193"/>
                  </a:lnTo>
                  <a:lnTo>
                    <a:pt x="960" y="193"/>
                  </a:lnTo>
                  <a:lnTo>
                    <a:pt x="969" y="188"/>
                  </a:lnTo>
                  <a:lnTo>
                    <a:pt x="979" y="188"/>
                  </a:lnTo>
                  <a:lnTo>
                    <a:pt x="984" y="183"/>
                  </a:lnTo>
                  <a:lnTo>
                    <a:pt x="989" y="173"/>
                  </a:lnTo>
                  <a:lnTo>
                    <a:pt x="994" y="168"/>
                  </a:lnTo>
                  <a:lnTo>
                    <a:pt x="999" y="163"/>
                  </a:lnTo>
                  <a:lnTo>
                    <a:pt x="1009" y="163"/>
                  </a:lnTo>
                  <a:lnTo>
                    <a:pt x="1014" y="163"/>
                  </a:lnTo>
                  <a:lnTo>
                    <a:pt x="1019" y="168"/>
                  </a:lnTo>
                  <a:lnTo>
                    <a:pt x="1029" y="173"/>
                  </a:lnTo>
                  <a:lnTo>
                    <a:pt x="1029" y="178"/>
                  </a:lnTo>
                  <a:lnTo>
                    <a:pt x="1034" y="188"/>
                  </a:lnTo>
                  <a:lnTo>
                    <a:pt x="1034" y="193"/>
                  </a:lnTo>
                  <a:lnTo>
                    <a:pt x="1029" y="198"/>
                  </a:lnTo>
                  <a:lnTo>
                    <a:pt x="1029" y="208"/>
                  </a:lnTo>
                  <a:lnTo>
                    <a:pt x="1024" y="208"/>
                  </a:lnTo>
                  <a:lnTo>
                    <a:pt x="1014" y="213"/>
                  </a:lnTo>
                  <a:lnTo>
                    <a:pt x="1004" y="218"/>
                  </a:lnTo>
                  <a:lnTo>
                    <a:pt x="999" y="218"/>
                  </a:lnTo>
                  <a:lnTo>
                    <a:pt x="989" y="223"/>
                  </a:lnTo>
                  <a:lnTo>
                    <a:pt x="979" y="223"/>
                  </a:lnTo>
                  <a:lnTo>
                    <a:pt x="974" y="228"/>
                  </a:lnTo>
                  <a:lnTo>
                    <a:pt x="964" y="233"/>
                  </a:lnTo>
                  <a:lnTo>
                    <a:pt x="960" y="238"/>
                  </a:lnTo>
                  <a:lnTo>
                    <a:pt x="955" y="243"/>
                  </a:lnTo>
                  <a:lnTo>
                    <a:pt x="950" y="247"/>
                  </a:lnTo>
                  <a:lnTo>
                    <a:pt x="945" y="252"/>
                  </a:lnTo>
                  <a:lnTo>
                    <a:pt x="940" y="257"/>
                  </a:lnTo>
                  <a:lnTo>
                    <a:pt x="935" y="262"/>
                  </a:lnTo>
                  <a:lnTo>
                    <a:pt x="930" y="262"/>
                  </a:lnTo>
                  <a:lnTo>
                    <a:pt x="925" y="262"/>
                  </a:lnTo>
                  <a:lnTo>
                    <a:pt x="920" y="257"/>
                  </a:lnTo>
                  <a:lnTo>
                    <a:pt x="915" y="247"/>
                  </a:lnTo>
                  <a:lnTo>
                    <a:pt x="910" y="238"/>
                  </a:lnTo>
                  <a:close/>
                  <a:moveTo>
                    <a:pt x="1622" y="238"/>
                  </a:moveTo>
                  <a:lnTo>
                    <a:pt x="1617" y="238"/>
                  </a:lnTo>
                  <a:lnTo>
                    <a:pt x="1612" y="238"/>
                  </a:lnTo>
                  <a:lnTo>
                    <a:pt x="1607" y="238"/>
                  </a:lnTo>
                  <a:lnTo>
                    <a:pt x="1602" y="238"/>
                  </a:lnTo>
                  <a:lnTo>
                    <a:pt x="1598" y="238"/>
                  </a:lnTo>
                  <a:lnTo>
                    <a:pt x="1593" y="238"/>
                  </a:lnTo>
                  <a:lnTo>
                    <a:pt x="1588" y="243"/>
                  </a:lnTo>
                  <a:lnTo>
                    <a:pt x="1588" y="247"/>
                  </a:lnTo>
                  <a:lnTo>
                    <a:pt x="1593" y="252"/>
                  </a:lnTo>
                  <a:lnTo>
                    <a:pt x="1593" y="252"/>
                  </a:lnTo>
                  <a:lnTo>
                    <a:pt x="1598" y="257"/>
                  </a:lnTo>
                  <a:lnTo>
                    <a:pt x="1607" y="257"/>
                  </a:lnTo>
                  <a:lnTo>
                    <a:pt x="1612" y="257"/>
                  </a:lnTo>
                  <a:lnTo>
                    <a:pt x="1617" y="257"/>
                  </a:lnTo>
                  <a:lnTo>
                    <a:pt x="1622" y="257"/>
                  </a:lnTo>
                  <a:lnTo>
                    <a:pt x="1622" y="257"/>
                  </a:lnTo>
                  <a:lnTo>
                    <a:pt x="1622" y="252"/>
                  </a:lnTo>
                  <a:lnTo>
                    <a:pt x="1622" y="247"/>
                  </a:lnTo>
                  <a:lnTo>
                    <a:pt x="1622" y="247"/>
                  </a:lnTo>
                  <a:lnTo>
                    <a:pt x="1622" y="238"/>
                  </a:lnTo>
                  <a:close/>
                  <a:moveTo>
                    <a:pt x="1330" y="213"/>
                  </a:moveTo>
                  <a:lnTo>
                    <a:pt x="1330" y="213"/>
                  </a:lnTo>
                  <a:lnTo>
                    <a:pt x="1330" y="213"/>
                  </a:lnTo>
                  <a:lnTo>
                    <a:pt x="1330" y="213"/>
                  </a:lnTo>
                  <a:lnTo>
                    <a:pt x="1330" y="213"/>
                  </a:lnTo>
                  <a:lnTo>
                    <a:pt x="1326" y="213"/>
                  </a:lnTo>
                  <a:lnTo>
                    <a:pt x="1326" y="213"/>
                  </a:lnTo>
                  <a:lnTo>
                    <a:pt x="1326" y="213"/>
                  </a:lnTo>
                  <a:lnTo>
                    <a:pt x="1326" y="213"/>
                  </a:lnTo>
                  <a:lnTo>
                    <a:pt x="1326" y="213"/>
                  </a:lnTo>
                  <a:lnTo>
                    <a:pt x="1330" y="218"/>
                  </a:lnTo>
                  <a:lnTo>
                    <a:pt x="1330" y="218"/>
                  </a:lnTo>
                  <a:lnTo>
                    <a:pt x="1330" y="213"/>
                  </a:lnTo>
                  <a:lnTo>
                    <a:pt x="1330" y="213"/>
                  </a:lnTo>
                  <a:lnTo>
                    <a:pt x="1330" y="213"/>
                  </a:lnTo>
                  <a:close/>
                  <a:moveTo>
                    <a:pt x="1840" y="188"/>
                  </a:moveTo>
                  <a:lnTo>
                    <a:pt x="1840" y="183"/>
                  </a:lnTo>
                  <a:lnTo>
                    <a:pt x="1840" y="183"/>
                  </a:lnTo>
                  <a:lnTo>
                    <a:pt x="1835" y="183"/>
                  </a:lnTo>
                  <a:lnTo>
                    <a:pt x="1835" y="183"/>
                  </a:lnTo>
                  <a:lnTo>
                    <a:pt x="1830" y="188"/>
                  </a:lnTo>
                  <a:lnTo>
                    <a:pt x="1830" y="188"/>
                  </a:lnTo>
                  <a:lnTo>
                    <a:pt x="1830" y="188"/>
                  </a:lnTo>
                  <a:lnTo>
                    <a:pt x="1835" y="188"/>
                  </a:lnTo>
                  <a:lnTo>
                    <a:pt x="1835" y="193"/>
                  </a:lnTo>
                  <a:lnTo>
                    <a:pt x="1835" y="193"/>
                  </a:lnTo>
                  <a:lnTo>
                    <a:pt x="1840" y="193"/>
                  </a:lnTo>
                  <a:lnTo>
                    <a:pt x="1840" y="188"/>
                  </a:lnTo>
                  <a:lnTo>
                    <a:pt x="1840" y="188"/>
                  </a:lnTo>
                  <a:lnTo>
                    <a:pt x="1840" y="188"/>
                  </a:lnTo>
                  <a:close/>
                  <a:moveTo>
                    <a:pt x="1049" y="159"/>
                  </a:moveTo>
                  <a:lnTo>
                    <a:pt x="1049" y="159"/>
                  </a:lnTo>
                  <a:lnTo>
                    <a:pt x="1053" y="154"/>
                  </a:lnTo>
                  <a:lnTo>
                    <a:pt x="1058" y="154"/>
                  </a:lnTo>
                  <a:lnTo>
                    <a:pt x="1063" y="154"/>
                  </a:lnTo>
                  <a:lnTo>
                    <a:pt x="1068" y="154"/>
                  </a:lnTo>
                  <a:lnTo>
                    <a:pt x="1073" y="159"/>
                  </a:lnTo>
                  <a:lnTo>
                    <a:pt x="1073" y="159"/>
                  </a:lnTo>
                  <a:lnTo>
                    <a:pt x="1073" y="163"/>
                  </a:lnTo>
                  <a:lnTo>
                    <a:pt x="1068" y="163"/>
                  </a:lnTo>
                  <a:lnTo>
                    <a:pt x="1063" y="163"/>
                  </a:lnTo>
                  <a:lnTo>
                    <a:pt x="1058" y="163"/>
                  </a:lnTo>
                  <a:lnTo>
                    <a:pt x="1053" y="163"/>
                  </a:lnTo>
                  <a:lnTo>
                    <a:pt x="1049" y="163"/>
                  </a:lnTo>
                  <a:lnTo>
                    <a:pt x="1049" y="159"/>
                  </a:lnTo>
                  <a:close/>
                  <a:moveTo>
                    <a:pt x="1464" y="159"/>
                  </a:moveTo>
                  <a:lnTo>
                    <a:pt x="1464" y="159"/>
                  </a:lnTo>
                  <a:lnTo>
                    <a:pt x="1464" y="159"/>
                  </a:lnTo>
                  <a:lnTo>
                    <a:pt x="1464" y="159"/>
                  </a:lnTo>
                  <a:lnTo>
                    <a:pt x="1464" y="159"/>
                  </a:lnTo>
                  <a:lnTo>
                    <a:pt x="1459" y="159"/>
                  </a:lnTo>
                  <a:lnTo>
                    <a:pt x="1459" y="159"/>
                  </a:lnTo>
                  <a:lnTo>
                    <a:pt x="1459" y="159"/>
                  </a:lnTo>
                  <a:lnTo>
                    <a:pt x="1459" y="159"/>
                  </a:lnTo>
                  <a:lnTo>
                    <a:pt x="1459" y="159"/>
                  </a:lnTo>
                  <a:lnTo>
                    <a:pt x="1459" y="159"/>
                  </a:lnTo>
                  <a:lnTo>
                    <a:pt x="1464" y="159"/>
                  </a:lnTo>
                  <a:lnTo>
                    <a:pt x="1464" y="159"/>
                  </a:lnTo>
                  <a:lnTo>
                    <a:pt x="1464" y="159"/>
                  </a:lnTo>
                  <a:lnTo>
                    <a:pt x="1464" y="159"/>
                  </a:lnTo>
                  <a:close/>
                  <a:moveTo>
                    <a:pt x="1785" y="159"/>
                  </a:moveTo>
                  <a:lnTo>
                    <a:pt x="1785" y="159"/>
                  </a:lnTo>
                  <a:lnTo>
                    <a:pt x="1785" y="159"/>
                  </a:lnTo>
                  <a:lnTo>
                    <a:pt x="1785" y="159"/>
                  </a:lnTo>
                  <a:lnTo>
                    <a:pt x="1780" y="159"/>
                  </a:lnTo>
                  <a:lnTo>
                    <a:pt x="1780" y="159"/>
                  </a:lnTo>
                  <a:lnTo>
                    <a:pt x="1780" y="159"/>
                  </a:lnTo>
                  <a:lnTo>
                    <a:pt x="1780" y="159"/>
                  </a:lnTo>
                  <a:lnTo>
                    <a:pt x="1780" y="159"/>
                  </a:lnTo>
                  <a:lnTo>
                    <a:pt x="1780" y="159"/>
                  </a:lnTo>
                  <a:lnTo>
                    <a:pt x="1780" y="159"/>
                  </a:lnTo>
                  <a:lnTo>
                    <a:pt x="1785" y="159"/>
                  </a:lnTo>
                  <a:lnTo>
                    <a:pt x="1785" y="159"/>
                  </a:lnTo>
                  <a:lnTo>
                    <a:pt x="1785" y="159"/>
                  </a:lnTo>
                  <a:lnTo>
                    <a:pt x="1785" y="159"/>
                  </a:lnTo>
                  <a:close/>
                  <a:moveTo>
                    <a:pt x="1518" y="134"/>
                  </a:moveTo>
                  <a:lnTo>
                    <a:pt x="1513" y="134"/>
                  </a:lnTo>
                  <a:lnTo>
                    <a:pt x="1513" y="134"/>
                  </a:lnTo>
                  <a:lnTo>
                    <a:pt x="1513" y="134"/>
                  </a:lnTo>
                  <a:lnTo>
                    <a:pt x="1513" y="134"/>
                  </a:lnTo>
                  <a:lnTo>
                    <a:pt x="1513" y="134"/>
                  </a:lnTo>
                  <a:lnTo>
                    <a:pt x="1513" y="134"/>
                  </a:lnTo>
                  <a:lnTo>
                    <a:pt x="1513" y="134"/>
                  </a:lnTo>
                  <a:lnTo>
                    <a:pt x="1513" y="134"/>
                  </a:lnTo>
                  <a:lnTo>
                    <a:pt x="1513" y="134"/>
                  </a:lnTo>
                  <a:lnTo>
                    <a:pt x="1513" y="134"/>
                  </a:lnTo>
                  <a:lnTo>
                    <a:pt x="1513" y="134"/>
                  </a:lnTo>
                  <a:lnTo>
                    <a:pt x="1513" y="134"/>
                  </a:lnTo>
                  <a:lnTo>
                    <a:pt x="1513" y="134"/>
                  </a:lnTo>
                  <a:lnTo>
                    <a:pt x="1518" y="134"/>
                  </a:lnTo>
                  <a:close/>
                  <a:moveTo>
                    <a:pt x="1731" y="134"/>
                  </a:moveTo>
                  <a:lnTo>
                    <a:pt x="1731" y="134"/>
                  </a:lnTo>
                  <a:lnTo>
                    <a:pt x="1731" y="134"/>
                  </a:lnTo>
                  <a:lnTo>
                    <a:pt x="1731" y="134"/>
                  </a:lnTo>
                  <a:lnTo>
                    <a:pt x="1726" y="134"/>
                  </a:lnTo>
                  <a:lnTo>
                    <a:pt x="1726" y="134"/>
                  </a:lnTo>
                  <a:lnTo>
                    <a:pt x="1726" y="134"/>
                  </a:lnTo>
                  <a:lnTo>
                    <a:pt x="1726" y="134"/>
                  </a:lnTo>
                  <a:lnTo>
                    <a:pt x="1726" y="134"/>
                  </a:lnTo>
                  <a:lnTo>
                    <a:pt x="1726" y="134"/>
                  </a:lnTo>
                  <a:lnTo>
                    <a:pt x="1731" y="134"/>
                  </a:lnTo>
                  <a:lnTo>
                    <a:pt x="1731" y="134"/>
                  </a:lnTo>
                  <a:lnTo>
                    <a:pt x="1731" y="134"/>
                  </a:lnTo>
                  <a:lnTo>
                    <a:pt x="1731" y="134"/>
                  </a:lnTo>
                  <a:lnTo>
                    <a:pt x="1731" y="134"/>
                  </a:lnTo>
                  <a:close/>
                  <a:moveTo>
                    <a:pt x="1598" y="104"/>
                  </a:moveTo>
                  <a:lnTo>
                    <a:pt x="1598" y="104"/>
                  </a:lnTo>
                  <a:lnTo>
                    <a:pt x="1598" y="104"/>
                  </a:lnTo>
                  <a:lnTo>
                    <a:pt x="1598" y="104"/>
                  </a:lnTo>
                  <a:lnTo>
                    <a:pt x="1593" y="104"/>
                  </a:lnTo>
                  <a:lnTo>
                    <a:pt x="1593" y="104"/>
                  </a:lnTo>
                  <a:lnTo>
                    <a:pt x="1593" y="104"/>
                  </a:lnTo>
                  <a:lnTo>
                    <a:pt x="1588" y="104"/>
                  </a:lnTo>
                  <a:lnTo>
                    <a:pt x="1588" y="104"/>
                  </a:lnTo>
                  <a:lnTo>
                    <a:pt x="1588" y="104"/>
                  </a:lnTo>
                  <a:lnTo>
                    <a:pt x="1593" y="109"/>
                  </a:lnTo>
                  <a:lnTo>
                    <a:pt x="1593" y="109"/>
                  </a:lnTo>
                  <a:lnTo>
                    <a:pt x="1598" y="104"/>
                  </a:lnTo>
                  <a:lnTo>
                    <a:pt x="1598" y="104"/>
                  </a:lnTo>
                  <a:lnTo>
                    <a:pt x="1598" y="104"/>
                  </a:lnTo>
                  <a:close/>
                  <a:moveTo>
                    <a:pt x="1677" y="104"/>
                  </a:moveTo>
                  <a:lnTo>
                    <a:pt x="1677" y="104"/>
                  </a:lnTo>
                  <a:lnTo>
                    <a:pt x="1677" y="104"/>
                  </a:lnTo>
                  <a:lnTo>
                    <a:pt x="1677" y="104"/>
                  </a:lnTo>
                  <a:lnTo>
                    <a:pt x="1677" y="104"/>
                  </a:lnTo>
                  <a:lnTo>
                    <a:pt x="1672" y="104"/>
                  </a:lnTo>
                  <a:lnTo>
                    <a:pt x="1672" y="104"/>
                  </a:lnTo>
                  <a:lnTo>
                    <a:pt x="1672" y="104"/>
                  </a:lnTo>
                  <a:lnTo>
                    <a:pt x="1672" y="104"/>
                  </a:lnTo>
                  <a:lnTo>
                    <a:pt x="1672" y="104"/>
                  </a:lnTo>
                  <a:lnTo>
                    <a:pt x="1677" y="104"/>
                  </a:lnTo>
                  <a:lnTo>
                    <a:pt x="1677" y="104"/>
                  </a:lnTo>
                  <a:lnTo>
                    <a:pt x="1677" y="104"/>
                  </a:lnTo>
                  <a:lnTo>
                    <a:pt x="1677" y="104"/>
                  </a:lnTo>
                  <a:lnTo>
                    <a:pt x="1677" y="104"/>
                  </a:lnTo>
                  <a:close/>
                </a:path>
              </a:pathLst>
            </a:custGeom>
            <a:solidFill>
              <a:srgbClr val="fff4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9" name=""/>
            <p:cNvSpPr/>
            <p:nvPr/>
          </p:nvSpPr>
          <p:spPr>
            <a:xfrm>
              <a:off x="2265120" y="2368440"/>
              <a:ext cx="4098960" cy="2628360"/>
            </a:xfrm>
            <a:custGeom>
              <a:avLst/>
              <a:gdLst/>
              <a:ahLst/>
              <a:rect l="l" t="t" r="r" b="b"/>
              <a:pathLst>
                <a:path w="2582" h="1656">
                  <a:moveTo>
                    <a:pt x="2235" y="1656"/>
                  </a:moveTo>
                  <a:lnTo>
                    <a:pt x="2260" y="1631"/>
                  </a:lnTo>
                  <a:lnTo>
                    <a:pt x="2285" y="1631"/>
                  </a:lnTo>
                  <a:lnTo>
                    <a:pt x="2315" y="1631"/>
                  </a:lnTo>
                  <a:lnTo>
                    <a:pt x="2339" y="1631"/>
                  </a:lnTo>
                  <a:lnTo>
                    <a:pt x="2369" y="1631"/>
                  </a:lnTo>
                  <a:lnTo>
                    <a:pt x="2394" y="1631"/>
                  </a:lnTo>
                  <a:lnTo>
                    <a:pt x="2418" y="1631"/>
                  </a:lnTo>
                  <a:lnTo>
                    <a:pt x="2448" y="1602"/>
                  </a:lnTo>
                  <a:lnTo>
                    <a:pt x="2448" y="1577"/>
                  </a:lnTo>
                  <a:lnTo>
                    <a:pt x="2448" y="1547"/>
                  </a:lnTo>
                  <a:lnTo>
                    <a:pt x="2448" y="1523"/>
                  </a:lnTo>
                  <a:lnTo>
                    <a:pt x="2473" y="1498"/>
                  </a:lnTo>
                  <a:lnTo>
                    <a:pt x="2473" y="1468"/>
                  </a:lnTo>
                  <a:lnTo>
                    <a:pt x="2473" y="1444"/>
                  </a:lnTo>
                  <a:lnTo>
                    <a:pt x="2473" y="1414"/>
                  </a:lnTo>
                  <a:lnTo>
                    <a:pt x="2503" y="1389"/>
                  </a:lnTo>
                  <a:lnTo>
                    <a:pt x="2503" y="1364"/>
                  </a:lnTo>
                  <a:lnTo>
                    <a:pt x="2503" y="1335"/>
                  </a:lnTo>
                  <a:lnTo>
                    <a:pt x="2503" y="1310"/>
                  </a:lnTo>
                  <a:lnTo>
                    <a:pt x="2527" y="1280"/>
                  </a:lnTo>
                  <a:lnTo>
                    <a:pt x="2527" y="1256"/>
                  </a:lnTo>
                  <a:lnTo>
                    <a:pt x="2527" y="1226"/>
                  </a:lnTo>
                  <a:lnTo>
                    <a:pt x="2527" y="1201"/>
                  </a:lnTo>
                  <a:lnTo>
                    <a:pt x="2552" y="1177"/>
                  </a:lnTo>
                  <a:lnTo>
                    <a:pt x="2552" y="1147"/>
                  </a:lnTo>
                  <a:lnTo>
                    <a:pt x="2552" y="1122"/>
                  </a:lnTo>
                  <a:lnTo>
                    <a:pt x="2552" y="1093"/>
                  </a:lnTo>
                  <a:lnTo>
                    <a:pt x="2582" y="1068"/>
                  </a:lnTo>
                  <a:lnTo>
                    <a:pt x="2582" y="1043"/>
                  </a:lnTo>
                  <a:lnTo>
                    <a:pt x="2582" y="1014"/>
                  </a:lnTo>
                  <a:lnTo>
                    <a:pt x="2582" y="989"/>
                  </a:lnTo>
                  <a:lnTo>
                    <a:pt x="2582" y="959"/>
                  </a:lnTo>
                  <a:lnTo>
                    <a:pt x="2582" y="934"/>
                  </a:lnTo>
                  <a:lnTo>
                    <a:pt x="2582" y="910"/>
                  </a:lnTo>
                  <a:lnTo>
                    <a:pt x="2582" y="880"/>
                  </a:lnTo>
                  <a:lnTo>
                    <a:pt x="2582" y="855"/>
                  </a:lnTo>
                  <a:lnTo>
                    <a:pt x="2582" y="826"/>
                  </a:lnTo>
                  <a:lnTo>
                    <a:pt x="2582" y="801"/>
                  </a:lnTo>
                  <a:lnTo>
                    <a:pt x="2582" y="776"/>
                  </a:lnTo>
                  <a:lnTo>
                    <a:pt x="2582" y="747"/>
                  </a:lnTo>
                  <a:lnTo>
                    <a:pt x="2582" y="722"/>
                  </a:lnTo>
                  <a:lnTo>
                    <a:pt x="2582" y="692"/>
                  </a:lnTo>
                  <a:lnTo>
                    <a:pt x="2582" y="668"/>
                  </a:lnTo>
                  <a:lnTo>
                    <a:pt x="2582" y="643"/>
                  </a:lnTo>
                  <a:lnTo>
                    <a:pt x="2582" y="613"/>
                  </a:lnTo>
                  <a:lnTo>
                    <a:pt x="2582" y="589"/>
                  </a:lnTo>
                  <a:lnTo>
                    <a:pt x="2582" y="559"/>
                  </a:lnTo>
                  <a:lnTo>
                    <a:pt x="2582" y="534"/>
                  </a:lnTo>
                  <a:lnTo>
                    <a:pt x="2582" y="504"/>
                  </a:lnTo>
                  <a:lnTo>
                    <a:pt x="2582" y="480"/>
                  </a:lnTo>
                  <a:lnTo>
                    <a:pt x="2582" y="455"/>
                  </a:lnTo>
                  <a:lnTo>
                    <a:pt x="2582" y="425"/>
                  </a:lnTo>
                  <a:lnTo>
                    <a:pt x="2582" y="401"/>
                  </a:lnTo>
                  <a:lnTo>
                    <a:pt x="2582" y="371"/>
                  </a:lnTo>
                  <a:lnTo>
                    <a:pt x="2582" y="346"/>
                  </a:lnTo>
                  <a:lnTo>
                    <a:pt x="2582" y="322"/>
                  </a:lnTo>
                  <a:lnTo>
                    <a:pt x="2582" y="292"/>
                  </a:lnTo>
                  <a:lnTo>
                    <a:pt x="2582" y="267"/>
                  </a:lnTo>
                  <a:lnTo>
                    <a:pt x="2582" y="238"/>
                  </a:lnTo>
                  <a:lnTo>
                    <a:pt x="2552" y="213"/>
                  </a:lnTo>
                  <a:lnTo>
                    <a:pt x="2552" y="188"/>
                  </a:lnTo>
                  <a:lnTo>
                    <a:pt x="2552" y="159"/>
                  </a:lnTo>
                  <a:lnTo>
                    <a:pt x="2552" y="134"/>
                  </a:lnTo>
                  <a:lnTo>
                    <a:pt x="2552" y="104"/>
                  </a:lnTo>
                  <a:lnTo>
                    <a:pt x="2527" y="79"/>
                  </a:lnTo>
                  <a:lnTo>
                    <a:pt x="2503" y="79"/>
                  </a:lnTo>
                  <a:lnTo>
                    <a:pt x="2473" y="79"/>
                  </a:lnTo>
                  <a:lnTo>
                    <a:pt x="2448" y="55"/>
                  </a:lnTo>
                  <a:lnTo>
                    <a:pt x="2418" y="55"/>
                  </a:lnTo>
                  <a:lnTo>
                    <a:pt x="2394" y="55"/>
                  </a:lnTo>
                  <a:lnTo>
                    <a:pt x="2369" y="25"/>
                  </a:lnTo>
                  <a:lnTo>
                    <a:pt x="2339" y="25"/>
                  </a:lnTo>
                  <a:lnTo>
                    <a:pt x="2315" y="25"/>
                  </a:lnTo>
                  <a:lnTo>
                    <a:pt x="2285" y="0"/>
                  </a:lnTo>
                  <a:lnTo>
                    <a:pt x="2260" y="0"/>
                  </a:lnTo>
                  <a:lnTo>
                    <a:pt x="2235" y="0"/>
                  </a:lnTo>
                  <a:lnTo>
                    <a:pt x="2206" y="0"/>
                  </a:lnTo>
                  <a:lnTo>
                    <a:pt x="2181" y="0"/>
                  </a:lnTo>
                  <a:lnTo>
                    <a:pt x="2156" y="0"/>
                  </a:lnTo>
                  <a:lnTo>
                    <a:pt x="2127" y="0"/>
                  </a:lnTo>
                  <a:lnTo>
                    <a:pt x="2102" y="0"/>
                  </a:lnTo>
                  <a:lnTo>
                    <a:pt x="2072" y="0"/>
                  </a:lnTo>
                  <a:lnTo>
                    <a:pt x="2048" y="0"/>
                  </a:lnTo>
                  <a:lnTo>
                    <a:pt x="2023" y="0"/>
                  </a:lnTo>
                  <a:lnTo>
                    <a:pt x="1993" y="0"/>
                  </a:lnTo>
                  <a:lnTo>
                    <a:pt x="1968" y="0"/>
                  </a:lnTo>
                  <a:lnTo>
                    <a:pt x="1944" y="0"/>
                  </a:lnTo>
                  <a:lnTo>
                    <a:pt x="1914" y="0"/>
                  </a:lnTo>
                  <a:lnTo>
                    <a:pt x="1889" y="0"/>
                  </a:lnTo>
                  <a:lnTo>
                    <a:pt x="1860" y="0"/>
                  </a:lnTo>
                  <a:lnTo>
                    <a:pt x="1835" y="0"/>
                  </a:lnTo>
                  <a:lnTo>
                    <a:pt x="1810" y="0"/>
                  </a:lnTo>
                  <a:lnTo>
                    <a:pt x="1780" y="0"/>
                  </a:lnTo>
                  <a:lnTo>
                    <a:pt x="1756" y="0"/>
                  </a:lnTo>
                  <a:lnTo>
                    <a:pt x="1726" y="0"/>
                  </a:lnTo>
                  <a:lnTo>
                    <a:pt x="1701" y="0"/>
                  </a:lnTo>
                  <a:lnTo>
                    <a:pt x="1677" y="0"/>
                  </a:lnTo>
                  <a:lnTo>
                    <a:pt x="1647" y="0"/>
                  </a:lnTo>
                  <a:lnTo>
                    <a:pt x="1622" y="0"/>
                  </a:lnTo>
                  <a:lnTo>
                    <a:pt x="1598" y="0"/>
                  </a:lnTo>
                  <a:lnTo>
                    <a:pt x="1568" y="0"/>
                  </a:lnTo>
                  <a:lnTo>
                    <a:pt x="1543" y="0"/>
                  </a:lnTo>
                  <a:lnTo>
                    <a:pt x="1513" y="0"/>
                  </a:lnTo>
                  <a:lnTo>
                    <a:pt x="1489" y="0"/>
                  </a:lnTo>
                  <a:lnTo>
                    <a:pt x="1464" y="0"/>
                  </a:lnTo>
                  <a:lnTo>
                    <a:pt x="1434" y="0"/>
                  </a:lnTo>
                  <a:lnTo>
                    <a:pt x="1410" y="0"/>
                  </a:lnTo>
                  <a:lnTo>
                    <a:pt x="1385" y="0"/>
                  </a:lnTo>
                  <a:lnTo>
                    <a:pt x="1355" y="0"/>
                  </a:lnTo>
                  <a:lnTo>
                    <a:pt x="1330" y="0"/>
                  </a:lnTo>
                  <a:lnTo>
                    <a:pt x="1301" y="0"/>
                  </a:lnTo>
                  <a:lnTo>
                    <a:pt x="1276" y="0"/>
                  </a:lnTo>
                  <a:lnTo>
                    <a:pt x="1251" y="0"/>
                  </a:lnTo>
                  <a:lnTo>
                    <a:pt x="1222" y="0"/>
                  </a:lnTo>
                  <a:lnTo>
                    <a:pt x="1197" y="0"/>
                  </a:lnTo>
                  <a:lnTo>
                    <a:pt x="1172" y="0"/>
                  </a:lnTo>
                  <a:lnTo>
                    <a:pt x="1143" y="0"/>
                  </a:lnTo>
                  <a:lnTo>
                    <a:pt x="1118" y="0"/>
                  </a:lnTo>
                  <a:lnTo>
                    <a:pt x="1088" y="0"/>
                  </a:lnTo>
                  <a:lnTo>
                    <a:pt x="1063" y="0"/>
                  </a:lnTo>
                  <a:lnTo>
                    <a:pt x="1039" y="0"/>
                  </a:lnTo>
                  <a:lnTo>
                    <a:pt x="1009" y="0"/>
                  </a:lnTo>
                  <a:lnTo>
                    <a:pt x="984" y="0"/>
                  </a:lnTo>
                  <a:lnTo>
                    <a:pt x="955" y="0"/>
                  </a:lnTo>
                  <a:lnTo>
                    <a:pt x="930" y="0"/>
                  </a:lnTo>
                  <a:lnTo>
                    <a:pt x="905" y="0"/>
                  </a:lnTo>
                  <a:lnTo>
                    <a:pt x="875" y="0"/>
                  </a:lnTo>
                  <a:lnTo>
                    <a:pt x="851" y="0"/>
                  </a:lnTo>
                  <a:lnTo>
                    <a:pt x="826" y="0"/>
                  </a:lnTo>
                  <a:lnTo>
                    <a:pt x="796" y="0"/>
                  </a:lnTo>
                  <a:lnTo>
                    <a:pt x="772" y="0"/>
                  </a:lnTo>
                  <a:lnTo>
                    <a:pt x="742" y="0"/>
                  </a:lnTo>
                  <a:lnTo>
                    <a:pt x="717" y="0"/>
                  </a:lnTo>
                  <a:lnTo>
                    <a:pt x="692" y="0"/>
                  </a:lnTo>
                  <a:lnTo>
                    <a:pt x="663" y="0"/>
                  </a:lnTo>
                  <a:lnTo>
                    <a:pt x="638" y="0"/>
                  </a:lnTo>
                  <a:lnTo>
                    <a:pt x="613" y="0"/>
                  </a:lnTo>
                  <a:lnTo>
                    <a:pt x="584" y="25"/>
                  </a:lnTo>
                  <a:lnTo>
                    <a:pt x="559" y="55"/>
                  </a:lnTo>
                  <a:lnTo>
                    <a:pt x="529" y="79"/>
                  </a:lnTo>
                  <a:lnTo>
                    <a:pt x="505" y="104"/>
                  </a:lnTo>
                  <a:lnTo>
                    <a:pt x="480" y="134"/>
                  </a:lnTo>
                  <a:lnTo>
                    <a:pt x="450" y="134"/>
                  </a:lnTo>
                  <a:lnTo>
                    <a:pt x="425" y="159"/>
                  </a:lnTo>
                  <a:lnTo>
                    <a:pt x="396" y="188"/>
                  </a:lnTo>
                  <a:lnTo>
                    <a:pt x="371" y="213"/>
                  </a:lnTo>
                  <a:lnTo>
                    <a:pt x="346" y="238"/>
                  </a:lnTo>
                  <a:lnTo>
                    <a:pt x="317" y="267"/>
                  </a:lnTo>
                  <a:lnTo>
                    <a:pt x="292" y="292"/>
                  </a:lnTo>
                  <a:lnTo>
                    <a:pt x="267" y="322"/>
                  </a:lnTo>
                  <a:lnTo>
                    <a:pt x="237" y="322"/>
                  </a:lnTo>
                  <a:lnTo>
                    <a:pt x="213" y="346"/>
                  </a:lnTo>
                  <a:lnTo>
                    <a:pt x="213" y="366"/>
                  </a:lnTo>
                  <a:lnTo>
                    <a:pt x="218" y="371"/>
                  </a:lnTo>
                  <a:lnTo>
                    <a:pt x="218" y="371"/>
                  </a:lnTo>
                  <a:lnTo>
                    <a:pt x="218" y="376"/>
                  </a:lnTo>
                  <a:lnTo>
                    <a:pt x="218" y="376"/>
                  </a:lnTo>
                  <a:lnTo>
                    <a:pt x="213" y="381"/>
                  </a:lnTo>
                  <a:lnTo>
                    <a:pt x="208" y="381"/>
                  </a:lnTo>
                  <a:lnTo>
                    <a:pt x="208" y="386"/>
                  </a:lnTo>
                  <a:lnTo>
                    <a:pt x="203" y="386"/>
                  </a:lnTo>
                  <a:lnTo>
                    <a:pt x="203" y="386"/>
                  </a:lnTo>
                  <a:lnTo>
                    <a:pt x="198" y="391"/>
                  </a:lnTo>
                  <a:lnTo>
                    <a:pt x="198" y="391"/>
                  </a:lnTo>
                  <a:lnTo>
                    <a:pt x="193" y="396"/>
                  </a:lnTo>
                  <a:lnTo>
                    <a:pt x="193" y="396"/>
                  </a:lnTo>
                  <a:lnTo>
                    <a:pt x="188" y="401"/>
                  </a:lnTo>
                  <a:lnTo>
                    <a:pt x="188" y="401"/>
                  </a:lnTo>
                  <a:lnTo>
                    <a:pt x="183" y="406"/>
                  </a:lnTo>
                  <a:lnTo>
                    <a:pt x="183" y="401"/>
                  </a:lnTo>
                  <a:lnTo>
                    <a:pt x="158" y="401"/>
                  </a:lnTo>
                  <a:lnTo>
                    <a:pt x="134" y="425"/>
                  </a:lnTo>
                  <a:lnTo>
                    <a:pt x="104" y="455"/>
                  </a:lnTo>
                  <a:lnTo>
                    <a:pt x="79" y="480"/>
                  </a:lnTo>
                  <a:lnTo>
                    <a:pt x="55" y="504"/>
                  </a:lnTo>
                  <a:lnTo>
                    <a:pt x="25" y="504"/>
                  </a:lnTo>
                  <a:lnTo>
                    <a:pt x="0" y="534"/>
                  </a:lnTo>
                  <a:lnTo>
                    <a:pt x="0" y="559"/>
                  </a:lnTo>
                  <a:lnTo>
                    <a:pt x="0" y="589"/>
                  </a:lnTo>
                  <a:lnTo>
                    <a:pt x="0" y="613"/>
                  </a:lnTo>
                  <a:lnTo>
                    <a:pt x="25" y="643"/>
                  </a:lnTo>
                  <a:lnTo>
                    <a:pt x="25" y="668"/>
                  </a:lnTo>
                  <a:lnTo>
                    <a:pt x="55" y="692"/>
                  </a:lnTo>
                  <a:lnTo>
                    <a:pt x="79" y="722"/>
                  </a:lnTo>
                  <a:lnTo>
                    <a:pt x="104" y="747"/>
                  </a:lnTo>
                  <a:lnTo>
                    <a:pt x="134" y="776"/>
                  </a:lnTo>
                  <a:lnTo>
                    <a:pt x="134" y="801"/>
                  </a:lnTo>
                  <a:lnTo>
                    <a:pt x="158" y="826"/>
                  </a:lnTo>
                  <a:lnTo>
                    <a:pt x="183" y="855"/>
                  </a:lnTo>
                  <a:lnTo>
                    <a:pt x="213" y="880"/>
                  </a:lnTo>
                  <a:lnTo>
                    <a:pt x="237" y="910"/>
                  </a:lnTo>
                  <a:lnTo>
                    <a:pt x="267" y="934"/>
                  </a:lnTo>
                  <a:lnTo>
                    <a:pt x="292" y="959"/>
                  </a:lnTo>
                  <a:lnTo>
                    <a:pt x="292" y="989"/>
                  </a:lnTo>
                  <a:lnTo>
                    <a:pt x="317" y="1014"/>
                  </a:lnTo>
                  <a:lnTo>
                    <a:pt x="346" y="1043"/>
                  </a:lnTo>
                  <a:lnTo>
                    <a:pt x="371" y="1068"/>
                  </a:lnTo>
                  <a:lnTo>
                    <a:pt x="396" y="1093"/>
                  </a:lnTo>
                  <a:lnTo>
                    <a:pt x="425" y="1122"/>
                  </a:lnTo>
                  <a:lnTo>
                    <a:pt x="450" y="1147"/>
                  </a:lnTo>
                  <a:lnTo>
                    <a:pt x="480" y="1177"/>
                  </a:lnTo>
                  <a:lnTo>
                    <a:pt x="505" y="1201"/>
                  </a:lnTo>
                  <a:lnTo>
                    <a:pt x="529" y="1226"/>
                  </a:lnTo>
                  <a:lnTo>
                    <a:pt x="559" y="1256"/>
                  </a:lnTo>
                  <a:lnTo>
                    <a:pt x="584" y="1280"/>
                  </a:lnTo>
                  <a:lnTo>
                    <a:pt x="613" y="1310"/>
                  </a:lnTo>
                  <a:lnTo>
                    <a:pt x="638" y="1335"/>
                  </a:lnTo>
                  <a:lnTo>
                    <a:pt x="663" y="1364"/>
                  </a:lnTo>
                  <a:lnTo>
                    <a:pt x="692" y="1389"/>
                  </a:lnTo>
                  <a:lnTo>
                    <a:pt x="717" y="1414"/>
                  </a:lnTo>
                  <a:lnTo>
                    <a:pt x="742" y="1444"/>
                  </a:lnTo>
                  <a:lnTo>
                    <a:pt x="772" y="1468"/>
                  </a:lnTo>
                  <a:lnTo>
                    <a:pt x="796" y="1468"/>
                  </a:lnTo>
                  <a:lnTo>
                    <a:pt x="826" y="1498"/>
                  </a:lnTo>
                  <a:lnTo>
                    <a:pt x="851" y="1523"/>
                  </a:lnTo>
                  <a:lnTo>
                    <a:pt x="875" y="1547"/>
                  </a:lnTo>
                  <a:lnTo>
                    <a:pt x="905" y="1577"/>
                  </a:lnTo>
                  <a:lnTo>
                    <a:pt x="930" y="1602"/>
                  </a:lnTo>
                  <a:lnTo>
                    <a:pt x="955" y="1631"/>
                  </a:lnTo>
                  <a:lnTo>
                    <a:pt x="984" y="1656"/>
                  </a:lnTo>
                  <a:lnTo>
                    <a:pt x="1009" y="1656"/>
                  </a:lnTo>
                  <a:lnTo>
                    <a:pt x="1039" y="1656"/>
                  </a:lnTo>
                  <a:lnTo>
                    <a:pt x="1063" y="1656"/>
                  </a:lnTo>
                  <a:lnTo>
                    <a:pt x="1088" y="1656"/>
                  </a:lnTo>
                  <a:lnTo>
                    <a:pt x="1118" y="1656"/>
                  </a:lnTo>
                  <a:lnTo>
                    <a:pt x="1143" y="1656"/>
                  </a:lnTo>
                  <a:lnTo>
                    <a:pt x="1172" y="1656"/>
                  </a:lnTo>
                  <a:lnTo>
                    <a:pt x="1197" y="1656"/>
                  </a:lnTo>
                  <a:lnTo>
                    <a:pt x="1222" y="1656"/>
                  </a:lnTo>
                  <a:lnTo>
                    <a:pt x="1251" y="1656"/>
                  </a:lnTo>
                  <a:lnTo>
                    <a:pt x="1276" y="1656"/>
                  </a:lnTo>
                  <a:lnTo>
                    <a:pt x="1301" y="1656"/>
                  </a:lnTo>
                  <a:lnTo>
                    <a:pt x="1330" y="1656"/>
                  </a:lnTo>
                  <a:lnTo>
                    <a:pt x="1355" y="1656"/>
                  </a:lnTo>
                  <a:lnTo>
                    <a:pt x="1385" y="1656"/>
                  </a:lnTo>
                  <a:lnTo>
                    <a:pt x="1410" y="1656"/>
                  </a:lnTo>
                  <a:lnTo>
                    <a:pt x="1434" y="1656"/>
                  </a:lnTo>
                  <a:lnTo>
                    <a:pt x="1464" y="1656"/>
                  </a:lnTo>
                  <a:lnTo>
                    <a:pt x="1489" y="1656"/>
                  </a:lnTo>
                  <a:lnTo>
                    <a:pt x="1513" y="1656"/>
                  </a:lnTo>
                  <a:lnTo>
                    <a:pt x="1543" y="1656"/>
                  </a:lnTo>
                  <a:lnTo>
                    <a:pt x="1568" y="1656"/>
                  </a:lnTo>
                  <a:lnTo>
                    <a:pt x="1598" y="1656"/>
                  </a:lnTo>
                  <a:lnTo>
                    <a:pt x="1622" y="1656"/>
                  </a:lnTo>
                  <a:lnTo>
                    <a:pt x="1647" y="1656"/>
                  </a:lnTo>
                  <a:lnTo>
                    <a:pt x="1677" y="1656"/>
                  </a:lnTo>
                  <a:lnTo>
                    <a:pt x="1701" y="1656"/>
                  </a:lnTo>
                  <a:lnTo>
                    <a:pt x="1726" y="1656"/>
                  </a:lnTo>
                  <a:lnTo>
                    <a:pt x="1756" y="1656"/>
                  </a:lnTo>
                  <a:lnTo>
                    <a:pt x="1780" y="1656"/>
                  </a:lnTo>
                  <a:lnTo>
                    <a:pt x="1810" y="1656"/>
                  </a:lnTo>
                  <a:lnTo>
                    <a:pt x="1835" y="1656"/>
                  </a:lnTo>
                  <a:lnTo>
                    <a:pt x="1860" y="1656"/>
                  </a:lnTo>
                  <a:lnTo>
                    <a:pt x="1889" y="1656"/>
                  </a:lnTo>
                  <a:lnTo>
                    <a:pt x="1914" y="1656"/>
                  </a:lnTo>
                  <a:lnTo>
                    <a:pt x="1944" y="1656"/>
                  </a:lnTo>
                  <a:lnTo>
                    <a:pt x="1968" y="1656"/>
                  </a:lnTo>
                  <a:lnTo>
                    <a:pt x="1993" y="1656"/>
                  </a:lnTo>
                  <a:lnTo>
                    <a:pt x="2023" y="1656"/>
                  </a:lnTo>
                  <a:lnTo>
                    <a:pt x="2048" y="1656"/>
                  </a:lnTo>
                  <a:lnTo>
                    <a:pt x="2072" y="1656"/>
                  </a:lnTo>
                  <a:lnTo>
                    <a:pt x="2102" y="1656"/>
                  </a:lnTo>
                  <a:lnTo>
                    <a:pt x="2127" y="1656"/>
                  </a:lnTo>
                  <a:lnTo>
                    <a:pt x="2156" y="1656"/>
                  </a:lnTo>
                  <a:lnTo>
                    <a:pt x="2181" y="1656"/>
                  </a:lnTo>
                  <a:lnTo>
                    <a:pt x="2206" y="1656"/>
                  </a:lnTo>
                  <a:lnTo>
                    <a:pt x="2235" y="1656"/>
                  </a:lnTo>
                  <a:close/>
                  <a:moveTo>
                    <a:pt x="1004" y="692"/>
                  </a:moveTo>
                  <a:lnTo>
                    <a:pt x="1004" y="687"/>
                  </a:lnTo>
                  <a:lnTo>
                    <a:pt x="1004" y="682"/>
                  </a:lnTo>
                  <a:lnTo>
                    <a:pt x="1004" y="677"/>
                  </a:lnTo>
                  <a:lnTo>
                    <a:pt x="1004" y="673"/>
                  </a:lnTo>
                  <a:lnTo>
                    <a:pt x="1004" y="668"/>
                  </a:lnTo>
                  <a:lnTo>
                    <a:pt x="1004" y="663"/>
                  </a:lnTo>
                  <a:lnTo>
                    <a:pt x="1004" y="653"/>
                  </a:lnTo>
                  <a:lnTo>
                    <a:pt x="1004" y="648"/>
                  </a:lnTo>
                  <a:lnTo>
                    <a:pt x="1004" y="643"/>
                  </a:lnTo>
                  <a:lnTo>
                    <a:pt x="1004" y="638"/>
                  </a:lnTo>
                  <a:lnTo>
                    <a:pt x="1004" y="633"/>
                  </a:lnTo>
                  <a:lnTo>
                    <a:pt x="999" y="628"/>
                  </a:lnTo>
                  <a:lnTo>
                    <a:pt x="999" y="623"/>
                  </a:lnTo>
                  <a:lnTo>
                    <a:pt x="999" y="613"/>
                  </a:lnTo>
                  <a:lnTo>
                    <a:pt x="999" y="608"/>
                  </a:lnTo>
                  <a:lnTo>
                    <a:pt x="999" y="603"/>
                  </a:lnTo>
                  <a:lnTo>
                    <a:pt x="999" y="598"/>
                  </a:lnTo>
                  <a:lnTo>
                    <a:pt x="999" y="593"/>
                  </a:lnTo>
                  <a:lnTo>
                    <a:pt x="999" y="589"/>
                  </a:lnTo>
                  <a:lnTo>
                    <a:pt x="999" y="584"/>
                  </a:lnTo>
                  <a:lnTo>
                    <a:pt x="999" y="574"/>
                  </a:lnTo>
                  <a:lnTo>
                    <a:pt x="999" y="569"/>
                  </a:lnTo>
                  <a:lnTo>
                    <a:pt x="999" y="564"/>
                  </a:lnTo>
                  <a:lnTo>
                    <a:pt x="999" y="559"/>
                  </a:lnTo>
                  <a:lnTo>
                    <a:pt x="1004" y="554"/>
                  </a:lnTo>
                  <a:lnTo>
                    <a:pt x="1004" y="549"/>
                  </a:lnTo>
                  <a:lnTo>
                    <a:pt x="1009" y="544"/>
                  </a:lnTo>
                  <a:lnTo>
                    <a:pt x="1009" y="539"/>
                  </a:lnTo>
                  <a:lnTo>
                    <a:pt x="1014" y="534"/>
                  </a:lnTo>
                  <a:lnTo>
                    <a:pt x="1019" y="529"/>
                  </a:lnTo>
                  <a:lnTo>
                    <a:pt x="1019" y="524"/>
                  </a:lnTo>
                  <a:lnTo>
                    <a:pt x="1024" y="514"/>
                  </a:lnTo>
                  <a:lnTo>
                    <a:pt x="1024" y="509"/>
                  </a:lnTo>
                  <a:lnTo>
                    <a:pt x="1024" y="504"/>
                  </a:lnTo>
                  <a:lnTo>
                    <a:pt x="1029" y="500"/>
                  </a:lnTo>
                  <a:lnTo>
                    <a:pt x="1029" y="495"/>
                  </a:lnTo>
                  <a:lnTo>
                    <a:pt x="1034" y="490"/>
                  </a:lnTo>
                  <a:lnTo>
                    <a:pt x="1039" y="485"/>
                  </a:lnTo>
                  <a:lnTo>
                    <a:pt x="1039" y="480"/>
                  </a:lnTo>
                  <a:lnTo>
                    <a:pt x="1044" y="475"/>
                  </a:lnTo>
                  <a:lnTo>
                    <a:pt x="1044" y="470"/>
                  </a:lnTo>
                  <a:lnTo>
                    <a:pt x="1044" y="465"/>
                  </a:lnTo>
                  <a:lnTo>
                    <a:pt x="1044" y="455"/>
                  </a:lnTo>
                  <a:lnTo>
                    <a:pt x="1044" y="450"/>
                  </a:lnTo>
                  <a:lnTo>
                    <a:pt x="1044" y="445"/>
                  </a:lnTo>
                  <a:lnTo>
                    <a:pt x="1044" y="440"/>
                  </a:lnTo>
                  <a:lnTo>
                    <a:pt x="1039" y="435"/>
                  </a:lnTo>
                  <a:lnTo>
                    <a:pt x="1034" y="430"/>
                  </a:lnTo>
                  <a:lnTo>
                    <a:pt x="1029" y="425"/>
                  </a:lnTo>
                  <a:lnTo>
                    <a:pt x="1029" y="420"/>
                  </a:lnTo>
                  <a:lnTo>
                    <a:pt x="1029" y="416"/>
                  </a:lnTo>
                  <a:lnTo>
                    <a:pt x="1029" y="411"/>
                  </a:lnTo>
                  <a:lnTo>
                    <a:pt x="1029" y="401"/>
                  </a:lnTo>
                  <a:lnTo>
                    <a:pt x="1024" y="396"/>
                  </a:lnTo>
                  <a:lnTo>
                    <a:pt x="1019" y="391"/>
                  </a:lnTo>
                  <a:lnTo>
                    <a:pt x="1014" y="391"/>
                  </a:lnTo>
                  <a:lnTo>
                    <a:pt x="1009" y="386"/>
                  </a:lnTo>
                  <a:lnTo>
                    <a:pt x="1004" y="381"/>
                  </a:lnTo>
                  <a:lnTo>
                    <a:pt x="1004" y="371"/>
                  </a:lnTo>
                  <a:lnTo>
                    <a:pt x="999" y="366"/>
                  </a:lnTo>
                  <a:lnTo>
                    <a:pt x="994" y="361"/>
                  </a:lnTo>
                  <a:lnTo>
                    <a:pt x="994" y="356"/>
                  </a:lnTo>
                  <a:lnTo>
                    <a:pt x="989" y="351"/>
                  </a:lnTo>
                  <a:lnTo>
                    <a:pt x="984" y="346"/>
                  </a:lnTo>
                  <a:lnTo>
                    <a:pt x="984" y="341"/>
                  </a:lnTo>
                  <a:lnTo>
                    <a:pt x="979" y="336"/>
                  </a:lnTo>
                  <a:lnTo>
                    <a:pt x="974" y="331"/>
                  </a:lnTo>
                  <a:lnTo>
                    <a:pt x="969" y="327"/>
                  </a:lnTo>
                  <a:lnTo>
                    <a:pt x="969" y="322"/>
                  </a:lnTo>
                  <a:lnTo>
                    <a:pt x="974" y="317"/>
                  </a:lnTo>
                  <a:lnTo>
                    <a:pt x="979" y="312"/>
                  </a:lnTo>
                  <a:lnTo>
                    <a:pt x="984" y="307"/>
                  </a:lnTo>
                  <a:lnTo>
                    <a:pt x="989" y="302"/>
                  </a:lnTo>
                  <a:lnTo>
                    <a:pt x="989" y="297"/>
                  </a:lnTo>
                  <a:lnTo>
                    <a:pt x="994" y="292"/>
                  </a:lnTo>
                  <a:lnTo>
                    <a:pt x="999" y="287"/>
                  </a:lnTo>
                  <a:lnTo>
                    <a:pt x="1004" y="282"/>
                  </a:lnTo>
                  <a:lnTo>
                    <a:pt x="1014" y="282"/>
                  </a:lnTo>
                  <a:lnTo>
                    <a:pt x="1024" y="282"/>
                  </a:lnTo>
                  <a:lnTo>
                    <a:pt x="1034" y="277"/>
                  </a:lnTo>
                  <a:lnTo>
                    <a:pt x="1039" y="277"/>
                  </a:lnTo>
                  <a:lnTo>
                    <a:pt x="1044" y="272"/>
                  </a:lnTo>
                  <a:lnTo>
                    <a:pt x="1049" y="267"/>
                  </a:lnTo>
                  <a:lnTo>
                    <a:pt x="1053" y="262"/>
                  </a:lnTo>
                  <a:lnTo>
                    <a:pt x="1058" y="257"/>
                  </a:lnTo>
                  <a:lnTo>
                    <a:pt x="1068" y="257"/>
                  </a:lnTo>
                  <a:lnTo>
                    <a:pt x="1073" y="252"/>
                  </a:lnTo>
                  <a:lnTo>
                    <a:pt x="1083" y="252"/>
                  </a:lnTo>
                  <a:lnTo>
                    <a:pt x="1088" y="247"/>
                  </a:lnTo>
                  <a:lnTo>
                    <a:pt x="1098" y="247"/>
                  </a:lnTo>
                  <a:lnTo>
                    <a:pt x="1103" y="243"/>
                  </a:lnTo>
                  <a:lnTo>
                    <a:pt x="1108" y="238"/>
                  </a:lnTo>
                  <a:lnTo>
                    <a:pt x="1108" y="233"/>
                  </a:lnTo>
                  <a:lnTo>
                    <a:pt x="1108" y="223"/>
                  </a:lnTo>
                  <a:lnTo>
                    <a:pt x="1108" y="218"/>
                  </a:lnTo>
                  <a:lnTo>
                    <a:pt x="1113" y="213"/>
                  </a:lnTo>
                  <a:lnTo>
                    <a:pt x="1113" y="208"/>
                  </a:lnTo>
                  <a:lnTo>
                    <a:pt x="1118" y="203"/>
                  </a:lnTo>
                  <a:lnTo>
                    <a:pt x="1128" y="198"/>
                  </a:lnTo>
                  <a:lnTo>
                    <a:pt x="1133" y="193"/>
                  </a:lnTo>
                  <a:lnTo>
                    <a:pt x="1143" y="193"/>
                  </a:lnTo>
                  <a:lnTo>
                    <a:pt x="1147" y="198"/>
                  </a:lnTo>
                  <a:lnTo>
                    <a:pt x="1157" y="203"/>
                  </a:lnTo>
                  <a:lnTo>
                    <a:pt x="1162" y="208"/>
                  </a:lnTo>
                  <a:lnTo>
                    <a:pt x="1167" y="213"/>
                  </a:lnTo>
                  <a:lnTo>
                    <a:pt x="1172" y="213"/>
                  </a:lnTo>
                  <a:lnTo>
                    <a:pt x="1172" y="208"/>
                  </a:lnTo>
                  <a:lnTo>
                    <a:pt x="1172" y="203"/>
                  </a:lnTo>
                  <a:lnTo>
                    <a:pt x="1172" y="193"/>
                  </a:lnTo>
                  <a:lnTo>
                    <a:pt x="1172" y="188"/>
                  </a:lnTo>
                  <a:lnTo>
                    <a:pt x="1177" y="183"/>
                  </a:lnTo>
                  <a:lnTo>
                    <a:pt x="1177" y="173"/>
                  </a:lnTo>
                  <a:lnTo>
                    <a:pt x="1187" y="173"/>
                  </a:lnTo>
                  <a:lnTo>
                    <a:pt x="1192" y="168"/>
                  </a:lnTo>
                  <a:lnTo>
                    <a:pt x="1202" y="163"/>
                  </a:lnTo>
                  <a:lnTo>
                    <a:pt x="1212" y="163"/>
                  </a:lnTo>
                  <a:lnTo>
                    <a:pt x="1217" y="163"/>
                  </a:lnTo>
                  <a:lnTo>
                    <a:pt x="1222" y="159"/>
                  </a:lnTo>
                  <a:lnTo>
                    <a:pt x="1232" y="159"/>
                  </a:lnTo>
                  <a:lnTo>
                    <a:pt x="1241" y="159"/>
                  </a:lnTo>
                  <a:lnTo>
                    <a:pt x="1251" y="159"/>
                  </a:lnTo>
                  <a:lnTo>
                    <a:pt x="1256" y="154"/>
                  </a:lnTo>
                  <a:lnTo>
                    <a:pt x="1261" y="149"/>
                  </a:lnTo>
                  <a:lnTo>
                    <a:pt x="1271" y="144"/>
                  </a:lnTo>
                  <a:lnTo>
                    <a:pt x="1276" y="144"/>
                  </a:lnTo>
                  <a:lnTo>
                    <a:pt x="1281" y="139"/>
                  </a:lnTo>
                  <a:lnTo>
                    <a:pt x="1291" y="134"/>
                  </a:lnTo>
                  <a:lnTo>
                    <a:pt x="1296" y="134"/>
                  </a:lnTo>
                  <a:lnTo>
                    <a:pt x="1301" y="129"/>
                  </a:lnTo>
                  <a:lnTo>
                    <a:pt x="1306" y="124"/>
                  </a:lnTo>
                  <a:lnTo>
                    <a:pt x="1316" y="124"/>
                  </a:lnTo>
                  <a:lnTo>
                    <a:pt x="1326" y="124"/>
                  </a:lnTo>
                  <a:lnTo>
                    <a:pt x="1335" y="124"/>
                  </a:lnTo>
                  <a:lnTo>
                    <a:pt x="1345" y="119"/>
                  </a:lnTo>
                  <a:lnTo>
                    <a:pt x="1350" y="119"/>
                  </a:lnTo>
                  <a:lnTo>
                    <a:pt x="1360" y="114"/>
                  </a:lnTo>
                  <a:lnTo>
                    <a:pt x="1365" y="114"/>
                  </a:lnTo>
                  <a:lnTo>
                    <a:pt x="1375" y="109"/>
                  </a:lnTo>
                  <a:lnTo>
                    <a:pt x="1380" y="109"/>
                  </a:lnTo>
                  <a:lnTo>
                    <a:pt x="1390" y="104"/>
                  </a:lnTo>
                  <a:lnTo>
                    <a:pt x="1395" y="104"/>
                  </a:lnTo>
                  <a:lnTo>
                    <a:pt x="1400" y="99"/>
                  </a:lnTo>
                  <a:lnTo>
                    <a:pt x="1405" y="94"/>
                  </a:lnTo>
                  <a:lnTo>
                    <a:pt x="1415" y="89"/>
                  </a:lnTo>
                  <a:lnTo>
                    <a:pt x="1424" y="89"/>
                  </a:lnTo>
                  <a:lnTo>
                    <a:pt x="1429" y="89"/>
                  </a:lnTo>
                  <a:lnTo>
                    <a:pt x="1439" y="89"/>
                  </a:lnTo>
                  <a:lnTo>
                    <a:pt x="1449" y="84"/>
                  </a:lnTo>
                  <a:lnTo>
                    <a:pt x="1454" y="84"/>
                  </a:lnTo>
                  <a:lnTo>
                    <a:pt x="1464" y="79"/>
                  </a:lnTo>
                  <a:lnTo>
                    <a:pt x="1469" y="79"/>
                  </a:lnTo>
                  <a:lnTo>
                    <a:pt x="1479" y="79"/>
                  </a:lnTo>
                  <a:lnTo>
                    <a:pt x="1484" y="74"/>
                  </a:lnTo>
                  <a:lnTo>
                    <a:pt x="1489" y="65"/>
                  </a:lnTo>
                  <a:lnTo>
                    <a:pt x="1494" y="65"/>
                  </a:lnTo>
                  <a:lnTo>
                    <a:pt x="1504" y="65"/>
                  </a:lnTo>
                  <a:lnTo>
                    <a:pt x="1508" y="60"/>
                  </a:lnTo>
                  <a:lnTo>
                    <a:pt x="1518" y="60"/>
                  </a:lnTo>
                  <a:lnTo>
                    <a:pt x="1528" y="60"/>
                  </a:lnTo>
                  <a:lnTo>
                    <a:pt x="1533" y="55"/>
                  </a:lnTo>
                  <a:lnTo>
                    <a:pt x="1543" y="55"/>
                  </a:lnTo>
                  <a:lnTo>
                    <a:pt x="1553" y="55"/>
                  </a:lnTo>
                  <a:lnTo>
                    <a:pt x="1563" y="55"/>
                  </a:lnTo>
                  <a:lnTo>
                    <a:pt x="1568" y="50"/>
                  </a:lnTo>
                  <a:lnTo>
                    <a:pt x="1573" y="45"/>
                  </a:lnTo>
                  <a:lnTo>
                    <a:pt x="1578" y="40"/>
                  </a:lnTo>
                  <a:lnTo>
                    <a:pt x="1583" y="35"/>
                  </a:lnTo>
                  <a:lnTo>
                    <a:pt x="1593" y="35"/>
                  </a:lnTo>
                  <a:lnTo>
                    <a:pt x="1602" y="30"/>
                  </a:lnTo>
                  <a:lnTo>
                    <a:pt x="1607" y="30"/>
                  </a:lnTo>
                  <a:lnTo>
                    <a:pt x="1617" y="30"/>
                  </a:lnTo>
                  <a:lnTo>
                    <a:pt x="1627" y="25"/>
                  </a:lnTo>
                  <a:lnTo>
                    <a:pt x="1632" y="25"/>
                  </a:lnTo>
                  <a:lnTo>
                    <a:pt x="1642" y="25"/>
                  </a:lnTo>
                  <a:lnTo>
                    <a:pt x="1652" y="25"/>
                  </a:lnTo>
                  <a:lnTo>
                    <a:pt x="1662" y="25"/>
                  </a:lnTo>
                  <a:lnTo>
                    <a:pt x="1667" y="30"/>
                  </a:lnTo>
                  <a:lnTo>
                    <a:pt x="1677" y="30"/>
                  </a:lnTo>
                  <a:lnTo>
                    <a:pt x="1687" y="30"/>
                  </a:lnTo>
                  <a:lnTo>
                    <a:pt x="1691" y="30"/>
                  </a:lnTo>
                  <a:lnTo>
                    <a:pt x="1701" y="35"/>
                  </a:lnTo>
                  <a:lnTo>
                    <a:pt x="1711" y="40"/>
                  </a:lnTo>
                  <a:lnTo>
                    <a:pt x="1716" y="40"/>
                  </a:lnTo>
                  <a:lnTo>
                    <a:pt x="1721" y="45"/>
                  </a:lnTo>
                  <a:lnTo>
                    <a:pt x="1731" y="50"/>
                  </a:lnTo>
                  <a:lnTo>
                    <a:pt x="1736" y="55"/>
                  </a:lnTo>
                  <a:lnTo>
                    <a:pt x="1741" y="55"/>
                  </a:lnTo>
                  <a:lnTo>
                    <a:pt x="1751" y="55"/>
                  </a:lnTo>
                  <a:lnTo>
                    <a:pt x="1761" y="55"/>
                  </a:lnTo>
                  <a:lnTo>
                    <a:pt x="1771" y="55"/>
                  </a:lnTo>
                  <a:lnTo>
                    <a:pt x="1776" y="55"/>
                  </a:lnTo>
                  <a:lnTo>
                    <a:pt x="1785" y="55"/>
                  </a:lnTo>
                  <a:lnTo>
                    <a:pt x="1795" y="60"/>
                  </a:lnTo>
                  <a:lnTo>
                    <a:pt x="1800" y="60"/>
                  </a:lnTo>
                  <a:lnTo>
                    <a:pt x="1810" y="65"/>
                  </a:lnTo>
                  <a:lnTo>
                    <a:pt x="1815" y="70"/>
                  </a:lnTo>
                  <a:lnTo>
                    <a:pt x="1820" y="74"/>
                  </a:lnTo>
                  <a:lnTo>
                    <a:pt x="1825" y="79"/>
                  </a:lnTo>
                  <a:lnTo>
                    <a:pt x="1835" y="79"/>
                  </a:lnTo>
                  <a:lnTo>
                    <a:pt x="1840" y="79"/>
                  </a:lnTo>
                  <a:lnTo>
                    <a:pt x="1850" y="79"/>
                  </a:lnTo>
                  <a:lnTo>
                    <a:pt x="1860" y="79"/>
                  </a:lnTo>
                  <a:lnTo>
                    <a:pt x="1870" y="79"/>
                  </a:lnTo>
                  <a:lnTo>
                    <a:pt x="1874" y="79"/>
                  </a:lnTo>
                  <a:lnTo>
                    <a:pt x="1884" y="79"/>
                  </a:lnTo>
                  <a:lnTo>
                    <a:pt x="1894" y="84"/>
                  </a:lnTo>
                  <a:lnTo>
                    <a:pt x="1899" y="84"/>
                  </a:lnTo>
                  <a:lnTo>
                    <a:pt x="1909" y="89"/>
                  </a:lnTo>
                  <a:lnTo>
                    <a:pt x="1914" y="94"/>
                  </a:lnTo>
                  <a:lnTo>
                    <a:pt x="1919" y="99"/>
                  </a:lnTo>
                  <a:lnTo>
                    <a:pt x="1924" y="104"/>
                  </a:lnTo>
                  <a:lnTo>
                    <a:pt x="1929" y="109"/>
                  </a:lnTo>
                  <a:lnTo>
                    <a:pt x="1939" y="109"/>
                  </a:lnTo>
                  <a:lnTo>
                    <a:pt x="1949" y="109"/>
                  </a:lnTo>
                  <a:lnTo>
                    <a:pt x="1954" y="109"/>
                  </a:lnTo>
                  <a:lnTo>
                    <a:pt x="1963" y="109"/>
                  </a:lnTo>
                  <a:lnTo>
                    <a:pt x="1973" y="109"/>
                  </a:lnTo>
                  <a:lnTo>
                    <a:pt x="1983" y="109"/>
                  </a:lnTo>
                  <a:lnTo>
                    <a:pt x="1988" y="109"/>
                  </a:lnTo>
                  <a:lnTo>
                    <a:pt x="1998" y="109"/>
                  </a:lnTo>
                  <a:lnTo>
                    <a:pt x="2003" y="114"/>
                  </a:lnTo>
                  <a:lnTo>
                    <a:pt x="2008" y="119"/>
                  </a:lnTo>
                  <a:lnTo>
                    <a:pt x="2013" y="124"/>
                  </a:lnTo>
                  <a:lnTo>
                    <a:pt x="2018" y="129"/>
                  </a:lnTo>
                  <a:lnTo>
                    <a:pt x="2023" y="134"/>
                  </a:lnTo>
                  <a:lnTo>
                    <a:pt x="2028" y="139"/>
                  </a:lnTo>
                  <a:lnTo>
                    <a:pt x="2038" y="139"/>
                  </a:lnTo>
                  <a:lnTo>
                    <a:pt x="2048" y="139"/>
                  </a:lnTo>
                  <a:lnTo>
                    <a:pt x="2057" y="139"/>
                  </a:lnTo>
                  <a:lnTo>
                    <a:pt x="2067" y="139"/>
                  </a:lnTo>
                  <a:lnTo>
                    <a:pt x="2072" y="139"/>
                  </a:lnTo>
                  <a:lnTo>
                    <a:pt x="2082" y="139"/>
                  </a:lnTo>
                  <a:lnTo>
                    <a:pt x="2092" y="139"/>
                  </a:lnTo>
                  <a:lnTo>
                    <a:pt x="2102" y="139"/>
                  </a:lnTo>
                  <a:lnTo>
                    <a:pt x="2107" y="144"/>
                  </a:lnTo>
                  <a:lnTo>
                    <a:pt x="2112" y="149"/>
                  </a:lnTo>
                  <a:lnTo>
                    <a:pt x="2117" y="154"/>
                  </a:lnTo>
                  <a:lnTo>
                    <a:pt x="2122" y="159"/>
                  </a:lnTo>
                  <a:lnTo>
                    <a:pt x="2122" y="163"/>
                  </a:lnTo>
                  <a:lnTo>
                    <a:pt x="2127" y="168"/>
                  </a:lnTo>
                  <a:lnTo>
                    <a:pt x="2132" y="173"/>
                  </a:lnTo>
                  <a:lnTo>
                    <a:pt x="2137" y="178"/>
                  </a:lnTo>
                  <a:lnTo>
                    <a:pt x="2146" y="183"/>
                  </a:lnTo>
                  <a:lnTo>
                    <a:pt x="2151" y="183"/>
                  </a:lnTo>
                  <a:lnTo>
                    <a:pt x="2151" y="188"/>
                  </a:lnTo>
                  <a:lnTo>
                    <a:pt x="2146" y="193"/>
                  </a:lnTo>
                  <a:lnTo>
                    <a:pt x="2142" y="198"/>
                  </a:lnTo>
                  <a:lnTo>
                    <a:pt x="2137" y="203"/>
                  </a:lnTo>
                  <a:lnTo>
                    <a:pt x="2137" y="213"/>
                  </a:lnTo>
                  <a:lnTo>
                    <a:pt x="2137" y="218"/>
                  </a:lnTo>
                  <a:lnTo>
                    <a:pt x="2142" y="223"/>
                  </a:lnTo>
                  <a:lnTo>
                    <a:pt x="2151" y="223"/>
                  </a:lnTo>
                  <a:lnTo>
                    <a:pt x="2156" y="223"/>
                  </a:lnTo>
                  <a:lnTo>
                    <a:pt x="2161" y="218"/>
                  </a:lnTo>
                  <a:lnTo>
                    <a:pt x="2161" y="208"/>
                  </a:lnTo>
                  <a:lnTo>
                    <a:pt x="2166" y="203"/>
                  </a:lnTo>
                  <a:lnTo>
                    <a:pt x="2171" y="198"/>
                  </a:lnTo>
                  <a:lnTo>
                    <a:pt x="2176" y="193"/>
                  </a:lnTo>
                  <a:lnTo>
                    <a:pt x="2181" y="193"/>
                  </a:lnTo>
                  <a:lnTo>
                    <a:pt x="2186" y="193"/>
                  </a:lnTo>
                  <a:lnTo>
                    <a:pt x="2196" y="193"/>
                  </a:lnTo>
                  <a:lnTo>
                    <a:pt x="2201" y="198"/>
                  </a:lnTo>
                  <a:lnTo>
                    <a:pt x="2211" y="203"/>
                  </a:lnTo>
                  <a:lnTo>
                    <a:pt x="2216" y="208"/>
                  </a:lnTo>
                  <a:lnTo>
                    <a:pt x="2226" y="208"/>
                  </a:lnTo>
                  <a:lnTo>
                    <a:pt x="2231" y="213"/>
                  </a:lnTo>
                  <a:lnTo>
                    <a:pt x="2240" y="218"/>
                  </a:lnTo>
                  <a:lnTo>
                    <a:pt x="2245" y="218"/>
                  </a:lnTo>
                  <a:lnTo>
                    <a:pt x="2250" y="223"/>
                  </a:lnTo>
                  <a:lnTo>
                    <a:pt x="2260" y="228"/>
                  </a:lnTo>
                  <a:lnTo>
                    <a:pt x="2265" y="228"/>
                  </a:lnTo>
                  <a:lnTo>
                    <a:pt x="2275" y="233"/>
                  </a:lnTo>
                  <a:lnTo>
                    <a:pt x="2280" y="238"/>
                  </a:lnTo>
                  <a:lnTo>
                    <a:pt x="2285" y="238"/>
                  </a:lnTo>
                  <a:lnTo>
                    <a:pt x="2295" y="243"/>
                  </a:lnTo>
                  <a:lnTo>
                    <a:pt x="2300" y="247"/>
                  </a:lnTo>
                  <a:lnTo>
                    <a:pt x="2305" y="252"/>
                  </a:lnTo>
                  <a:lnTo>
                    <a:pt x="2310" y="252"/>
                  </a:lnTo>
                  <a:lnTo>
                    <a:pt x="2320" y="257"/>
                  </a:lnTo>
                  <a:lnTo>
                    <a:pt x="2324" y="262"/>
                  </a:lnTo>
                  <a:lnTo>
                    <a:pt x="2334" y="262"/>
                  </a:lnTo>
                  <a:lnTo>
                    <a:pt x="2339" y="267"/>
                  </a:lnTo>
                  <a:lnTo>
                    <a:pt x="2334" y="272"/>
                  </a:lnTo>
                  <a:lnTo>
                    <a:pt x="2324" y="272"/>
                  </a:lnTo>
                  <a:lnTo>
                    <a:pt x="2315" y="272"/>
                  </a:lnTo>
                  <a:lnTo>
                    <a:pt x="2305" y="272"/>
                  </a:lnTo>
                  <a:lnTo>
                    <a:pt x="2300" y="272"/>
                  </a:lnTo>
                  <a:lnTo>
                    <a:pt x="2290" y="272"/>
                  </a:lnTo>
                  <a:lnTo>
                    <a:pt x="2280" y="272"/>
                  </a:lnTo>
                  <a:lnTo>
                    <a:pt x="2270" y="277"/>
                  </a:lnTo>
                  <a:lnTo>
                    <a:pt x="2265" y="272"/>
                  </a:lnTo>
                  <a:lnTo>
                    <a:pt x="2255" y="272"/>
                  </a:lnTo>
                  <a:lnTo>
                    <a:pt x="2250" y="267"/>
                  </a:lnTo>
                  <a:lnTo>
                    <a:pt x="2245" y="262"/>
                  </a:lnTo>
                  <a:lnTo>
                    <a:pt x="2240" y="257"/>
                  </a:lnTo>
                  <a:lnTo>
                    <a:pt x="2235" y="252"/>
                  </a:lnTo>
                  <a:lnTo>
                    <a:pt x="2231" y="252"/>
                  </a:lnTo>
                  <a:lnTo>
                    <a:pt x="2221" y="252"/>
                  </a:lnTo>
                  <a:lnTo>
                    <a:pt x="2211" y="252"/>
                  </a:lnTo>
                  <a:lnTo>
                    <a:pt x="2201" y="252"/>
                  </a:lnTo>
                  <a:lnTo>
                    <a:pt x="2191" y="252"/>
                  </a:lnTo>
                  <a:lnTo>
                    <a:pt x="2186" y="247"/>
                  </a:lnTo>
                  <a:lnTo>
                    <a:pt x="2176" y="247"/>
                  </a:lnTo>
                  <a:lnTo>
                    <a:pt x="2171" y="252"/>
                  </a:lnTo>
                  <a:lnTo>
                    <a:pt x="2166" y="257"/>
                  </a:lnTo>
                  <a:lnTo>
                    <a:pt x="2161" y="262"/>
                  </a:lnTo>
                  <a:lnTo>
                    <a:pt x="2156" y="267"/>
                  </a:lnTo>
                  <a:lnTo>
                    <a:pt x="2146" y="267"/>
                  </a:lnTo>
                  <a:lnTo>
                    <a:pt x="2142" y="267"/>
                  </a:lnTo>
                  <a:lnTo>
                    <a:pt x="2137" y="262"/>
                  </a:lnTo>
                  <a:lnTo>
                    <a:pt x="2137" y="257"/>
                  </a:lnTo>
                  <a:lnTo>
                    <a:pt x="2137" y="252"/>
                  </a:lnTo>
                  <a:lnTo>
                    <a:pt x="2137" y="243"/>
                  </a:lnTo>
                  <a:lnTo>
                    <a:pt x="2137" y="238"/>
                  </a:lnTo>
                  <a:lnTo>
                    <a:pt x="2132" y="228"/>
                  </a:lnTo>
                  <a:lnTo>
                    <a:pt x="2127" y="223"/>
                  </a:lnTo>
                  <a:lnTo>
                    <a:pt x="2127" y="223"/>
                  </a:lnTo>
                  <a:lnTo>
                    <a:pt x="2122" y="228"/>
                  </a:lnTo>
                  <a:lnTo>
                    <a:pt x="2117" y="238"/>
                  </a:lnTo>
                  <a:lnTo>
                    <a:pt x="2117" y="243"/>
                  </a:lnTo>
                  <a:lnTo>
                    <a:pt x="2112" y="247"/>
                  </a:lnTo>
                  <a:lnTo>
                    <a:pt x="2107" y="252"/>
                  </a:lnTo>
                  <a:lnTo>
                    <a:pt x="2107" y="257"/>
                  </a:lnTo>
                  <a:lnTo>
                    <a:pt x="2102" y="262"/>
                  </a:lnTo>
                  <a:lnTo>
                    <a:pt x="2097" y="267"/>
                  </a:lnTo>
                  <a:lnTo>
                    <a:pt x="2097" y="272"/>
                  </a:lnTo>
                  <a:lnTo>
                    <a:pt x="2092" y="277"/>
                  </a:lnTo>
                  <a:lnTo>
                    <a:pt x="2092" y="282"/>
                  </a:lnTo>
                  <a:lnTo>
                    <a:pt x="2087" y="287"/>
                  </a:lnTo>
                  <a:lnTo>
                    <a:pt x="2082" y="297"/>
                  </a:lnTo>
                  <a:lnTo>
                    <a:pt x="2077" y="302"/>
                  </a:lnTo>
                  <a:lnTo>
                    <a:pt x="2072" y="302"/>
                  </a:lnTo>
                  <a:lnTo>
                    <a:pt x="2067" y="297"/>
                  </a:lnTo>
                  <a:lnTo>
                    <a:pt x="2057" y="292"/>
                  </a:lnTo>
                  <a:lnTo>
                    <a:pt x="2052" y="287"/>
                  </a:lnTo>
                  <a:lnTo>
                    <a:pt x="2043" y="287"/>
                  </a:lnTo>
                  <a:lnTo>
                    <a:pt x="2033" y="287"/>
                  </a:lnTo>
                  <a:lnTo>
                    <a:pt x="2023" y="287"/>
                  </a:lnTo>
                  <a:lnTo>
                    <a:pt x="2018" y="287"/>
                  </a:lnTo>
                  <a:lnTo>
                    <a:pt x="2008" y="287"/>
                  </a:lnTo>
                  <a:lnTo>
                    <a:pt x="2003" y="282"/>
                  </a:lnTo>
                  <a:lnTo>
                    <a:pt x="1993" y="277"/>
                  </a:lnTo>
                  <a:lnTo>
                    <a:pt x="1988" y="272"/>
                  </a:lnTo>
                  <a:lnTo>
                    <a:pt x="1983" y="267"/>
                  </a:lnTo>
                  <a:lnTo>
                    <a:pt x="1978" y="267"/>
                  </a:lnTo>
                  <a:lnTo>
                    <a:pt x="1968" y="267"/>
                  </a:lnTo>
                  <a:lnTo>
                    <a:pt x="1963" y="262"/>
                  </a:lnTo>
                  <a:lnTo>
                    <a:pt x="1959" y="257"/>
                  </a:lnTo>
                  <a:lnTo>
                    <a:pt x="1954" y="252"/>
                  </a:lnTo>
                  <a:lnTo>
                    <a:pt x="1949" y="247"/>
                  </a:lnTo>
                  <a:lnTo>
                    <a:pt x="1944" y="243"/>
                  </a:lnTo>
                  <a:lnTo>
                    <a:pt x="1939" y="243"/>
                  </a:lnTo>
                  <a:lnTo>
                    <a:pt x="1934" y="247"/>
                  </a:lnTo>
                  <a:lnTo>
                    <a:pt x="1929" y="252"/>
                  </a:lnTo>
                  <a:lnTo>
                    <a:pt x="1924" y="257"/>
                  </a:lnTo>
                  <a:lnTo>
                    <a:pt x="1919" y="262"/>
                  </a:lnTo>
                  <a:lnTo>
                    <a:pt x="1914" y="262"/>
                  </a:lnTo>
                  <a:lnTo>
                    <a:pt x="1909" y="262"/>
                  </a:lnTo>
                  <a:lnTo>
                    <a:pt x="1904" y="262"/>
                  </a:lnTo>
                  <a:lnTo>
                    <a:pt x="1894" y="257"/>
                  </a:lnTo>
                  <a:lnTo>
                    <a:pt x="1889" y="247"/>
                  </a:lnTo>
                  <a:lnTo>
                    <a:pt x="1889" y="243"/>
                  </a:lnTo>
                  <a:lnTo>
                    <a:pt x="1889" y="238"/>
                  </a:lnTo>
                  <a:lnTo>
                    <a:pt x="1894" y="228"/>
                  </a:lnTo>
                  <a:lnTo>
                    <a:pt x="1894" y="223"/>
                  </a:lnTo>
                  <a:lnTo>
                    <a:pt x="1899" y="218"/>
                  </a:lnTo>
                  <a:lnTo>
                    <a:pt x="1894" y="213"/>
                  </a:lnTo>
                  <a:lnTo>
                    <a:pt x="1889" y="213"/>
                  </a:lnTo>
                  <a:lnTo>
                    <a:pt x="1884" y="218"/>
                  </a:lnTo>
                  <a:lnTo>
                    <a:pt x="1879" y="223"/>
                  </a:lnTo>
                  <a:lnTo>
                    <a:pt x="1874" y="228"/>
                  </a:lnTo>
                  <a:lnTo>
                    <a:pt x="1870" y="233"/>
                  </a:lnTo>
                  <a:lnTo>
                    <a:pt x="1865" y="238"/>
                  </a:lnTo>
                  <a:lnTo>
                    <a:pt x="1860" y="238"/>
                  </a:lnTo>
                  <a:lnTo>
                    <a:pt x="1850" y="238"/>
                  </a:lnTo>
                  <a:lnTo>
                    <a:pt x="1840" y="243"/>
                  </a:lnTo>
                  <a:lnTo>
                    <a:pt x="1835" y="243"/>
                  </a:lnTo>
                  <a:lnTo>
                    <a:pt x="1825" y="243"/>
                  </a:lnTo>
                  <a:lnTo>
                    <a:pt x="1815" y="247"/>
                  </a:lnTo>
                  <a:lnTo>
                    <a:pt x="1810" y="247"/>
                  </a:lnTo>
                  <a:lnTo>
                    <a:pt x="1800" y="247"/>
                  </a:lnTo>
                  <a:lnTo>
                    <a:pt x="1790" y="252"/>
                  </a:lnTo>
                  <a:lnTo>
                    <a:pt x="1785" y="252"/>
                  </a:lnTo>
                  <a:lnTo>
                    <a:pt x="1776" y="252"/>
                  </a:lnTo>
                  <a:lnTo>
                    <a:pt x="1771" y="257"/>
                  </a:lnTo>
                  <a:lnTo>
                    <a:pt x="1761" y="257"/>
                  </a:lnTo>
                  <a:lnTo>
                    <a:pt x="1751" y="257"/>
                  </a:lnTo>
                  <a:lnTo>
                    <a:pt x="1741" y="257"/>
                  </a:lnTo>
                  <a:lnTo>
                    <a:pt x="1731" y="262"/>
                  </a:lnTo>
                  <a:lnTo>
                    <a:pt x="1726" y="267"/>
                  </a:lnTo>
                  <a:lnTo>
                    <a:pt x="1726" y="272"/>
                  </a:lnTo>
                  <a:lnTo>
                    <a:pt x="1731" y="277"/>
                  </a:lnTo>
                  <a:lnTo>
                    <a:pt x="1731" y="282"/>
                  </a:lnTo>
                  <a:lnTo>
                    <a:pt x="1731" y="287"/>
                  </a:lnTo>
                  <a:lnTo>
                    <a:pt x="1731" y="292"/>
                  </a:lnTo>
                  <a:lnTo>
                    <a:pt x="1731" y="297"/>
                  </a:lnTo>
                  <a:lnTo>
                    <a:pt x="1736" y="307"/>
                  </a:lnTo>
                  <a:lnTo>
                    <a:pt x="1736" y="312"/>
                  </a:lnTo>
                  <a:lnTo>
                    <a:pt x="1736" y="317"/>
                  </a:lnTo>
                  <a:lnTo>
                    <a:pt x="1741" y="322"/>
                  </a:lnTo>
                  <a:lnTo>
                    <a:pt x="1741" y="327"/>
                  </a:lnTo>
                  <a:lnTo>
                    <a:pt x="1751" y="331"/>
                  </a:lnTo>
                  <a:lnTo>
                    <a:pt x="1756" y="336"/>
                  </a:lnTo>
                  <a:lnTo>
                    <a:pt x="1761" y="336"/>
                  </a:lnTo>
                  <a:lnTo>
                    <a:pt x="1766" y="341"/>
                  </a:lnTo>
                  <a:lnTo>
                    <a:pt x="1761" y="351"/>
                  </a:lnTo>
                  <a:lnTo>
                    <a:pt x="1756" y="351"/>
                  </a:lnTo>
                  <a:lnTo>
                    <a:pt x="1751" y="351"/>
                  </a:lnTo>
                  <a:lnTo>
                    <a:pt x="1746" y="346"/>
                  </a:lnTo>
                  <a:lnTo>
                    <a:pt x="1741" y="341"/>
                  </a:lnTo>
                  <a:lnTo>
                    <a:pt x="1736" y="336"/>
                  </a:lnTo>
                  <a:lnTo>
                    <a:pt x="1731" y="331"/>
                  </a:lnTo>
                  <a:lnTo>
                    <a:pt x="1726" y="327"/>
                  </a:lnTo>
                  <a:lnTo>
                    <a:pt x="1721" y="322"/>
                  </a:lnTo>
                  <a:lnTo>
                    <a:pt x="1716" y="317"/>
                  </a:lnTo>
                  <a:lnTo>
                    <a:pt x="1706" y="317"/>
                  </a:lnTo>
                  <a:lnTo>
                    <a:pt x="1701" y="312"/>
                  </a:lnTo>
                  <a:lnTo>
                    <a:pt x="1696" y="307"/>
                  </a:lnTo>
                  <a:lnTo>
                    <a:pt x="1691" y="302"/>
                  </a:lnTo>
                  <a:lnTo>
                    <a:pt x="1687" y="297"/>
                  </a:lnTo>
                  <a:lnTo>
                    <a:pt x="1682" y="292"/>
                  </a:lnTo>
                  <a:lnTo>
                    <a:pt x="1677" y="292"/>
                  </a:lnTo>
                  <a:lnTo>
                    <a:pt x="1667" y="287"/>
                  </a:lnTo>
                  <a:lnTo>
                    <a:pt x="1657" y="292"/>
                  </a:lnTo>
                  <a:lnTo>
                    <a:pt x="1652" y="297"/>
                  </a:lnTo>
                  <a:lnTo>
                    <a:pt x="1642" y="292"/>
                  </a:lnTo>
                  <a:lnTo>
                    <a:pt x="1637" y="287"/>
                  </a:lnTo>
                  <a:lnTo>
                    <a:pt x="1637" y="277"/>
                  </a:lnTo>
                  <a:lnTo>
                    <a:pt x="1632" y="272"/>
                  </a:lnTo>
                  <a:lnTo>
                    <a:pt x="1627" y="272"/>
                  </a:lnTo>
                  <a:lnTo>
                    <a:pt x="1617" y="272"/>
                  </a:lnTo>
                  <a:lnTo>
                    <a:pt x="1607" y="272"/>
                  </a:lnTo>
                  <a:lnTo>
                    <a:pt x="1598" y="272"/>
                  </a:lnTo>
                  <a:lnTo>
                    <a:pt x="1593" y="272"/>
                  </a:lnTo>
                  <a:lnTo>
                    <a:pt x="1588" y="267"/>
                  </a:lnTo>
                  <a:lnTo>
                    <a:pt x="1583" y="262"/>
                  </a:lnTo>
                  <a:lnTo>
                    <a:pt x="1573" y="257"/>
                  </a:lnTo>
                  <a:lnTo>
                    <a:pt x="1568" y="257"/>
                  </a:lnTo>
                  <a:lnTo>
                    <a:pt x="1558" y="257"/>
                  </a:lnTo>
                  <a:lnTo>
                    <a:pt x="1553" y="262"/>
                  </a:lnTo>
                  <a:lnTo>
                    <a:pt x="1543" y="262"/>
                  </a:lnTo>
                  <a:lnTo>
                    <a:pt x="1533" y="262"/>
                  </a:lnTo>
                  <a:lnTo>
                    <a:pt x="1528" y="267"/>
                  </a:lnTo>
                  <a:lnTo>
                    <a:pt x="1523" y="272"/>
                  </a:lnTo>
                  <a:lnTo>
                    <a:pt x="1523" y="277"/>
                  </a:lnTo>
                  <a:lnTo>
                    <a:pt x="1528" y="282"/>
                  </a:lnTo>
                  <a:lnTo>
                    <a:pt x="1533" y="287"/>
                  </a:lnTo>
                  <a:lnTo>
                    <a:pt x="1543" y="292"/>
                  </a:lnTo>
                  <a:lnTo>
                    <a:pt x="1538" y="292"/>
                  </a:lnTo>
                  <a:lnTo>
                    <a:pt x="1533" y="287"/>
                  </a:lnTo>
                  <a:lnTo>
                    <a:pt x="1528" y="282"/>
                  </a:lnTo>
                  <a:lnTo>
                    <a:pt x="1523" y="277"/>
                  </a:lnTo>
                  <a:lnTo>
                    <a:pt x="1513" y="277"/>
                  </a:lnTo>
                  <a:lnTo>
                    <a:pt x="1508" y="277"/>
                  </a:lnTo>
                  <a:lnTo>
                    <a:pt x="1504" y="282"/>
                  </a:lnTo>
                  <a:lnTo>
                    <a:pt x="1494" y="282"/>
                  </a:lnTo>
                  <a:lnTo>
                    <a:pt x="1484" y="287"/>
                  </a:lnTo>
                  <a:lnTo>
                    <a:pt x="1479" y="287"/>
                  </a:lnTo>
                  <a:lnTo>
                    <a:pt x="1469" y="292"/>
                  </a:lnTo>
                  <a:lnTo>
                    <a:pt x="1459" y="292"/>
                  </a:lnTo>
                  <a:lnTo>
                    <a:pt x="1454" y="297"/>
                  </a:lnTo>
                  <a:lnTo>
                    <a:pt x="1449" y="302"/>
                  </a:lnTo>
                  <a:lnTo>
                    <a:pt x="1444" y="302"/>
                  </a:lnTo>
                  <a:lnTo>
                    <a:pt x="1439" y="307"/>
                  </a:lnTo>
                  <a:lnTo>
                    <a:pt x="1434" y="312"/>
                  </a:lnTo>
                  <a:lnTo>
                    <a:pt x="1424" y="317"/>
                  </a:lnTo>
                  <a:lnTo>
                    <a:pt x="1415" y="317"/>
                  </a:lnTo>
                  <a:lnTo>
                    <a:pt x="1405" y="317"/>
                  </a:lnTo>
                  <a:lnTo>
                    <a:pt x="1400" y="317"/>
                  </a:lnTo>
                  <a:lnTo>
                    <a:pt x="1390" y="322"/>
                  </a:lnTo>
                  <a:lnTo>
                    <a:pt x="1385" y="327"/>
                  </a:lnTo>
                  <a:lnTo>
                    <a:pt x="1380" y="331"/>
                  </a:lnTo>
                  <a:lnTo>
                    <a:pt x="1375" y="336"/>
                  </a:lnTo>
                  <a:lnTo>
                    <a:pt x="1365" y="336"/>
                  </a:lnTo>
                  <a:lnTo>
                    <a:pt x="1355" y="336"/>
                  </a:lnTo>
                  <a:lnTo>
                    <a:pt x="1350" y="341"/>
                  </a:lnTo>
                  <a:lnTo>
                    <a:pt x="1340" y="341"/>
                  </a:lnTo>
                  <a:lnTo>
                    <a:pt x="1330" y="341"/>
                  </a:lnTo>
                  <a:lnTo>
                    <a:pt x="1326" y="346"/>
                  </a:lnTo>
                  <a:lnTo>
                    <a:pt x="1316" y="346"/>
                  </a:lnTo>
                  <a:lnTo>
                    <a:pt x="1311" y="351"/>
                  </a:lnTo>
                  <a:lnTo>
                    <a:pt x="1306" y="356"/>
                  </a:lnTo>
                  <a:lnTo>
                    <a:pt x="1301" y="361"/>
                  </a:lnTo>
                  <a:lnTo>
                    <a:pt x="1291" y="361"/>
                  </a:lnTo>
                  <a:lnTo>
                    <a:pt x="1281" y="366"/>
                  </a:lnTo>
                  <a:lnTo>
                    <a:pt x="1276" y="366"/>
                  </a:lnTo>
                  <a:lnTo>
                    <a:pt x="1266" y="366"/>
                  </a:lnTo>
                  <a:lnTo>
                    <a:pt x="1256" y="371"/>
                  </a:lnTo>
                  <a:lnTo>
                    <a:pt x="1251" y="376"/>
                  </a:lnTo>
                  <a:lnTo>
                    <a:pt x="1251" y="381"/>
                  </a:lnTo>
                  <a:lnTo>
                    <a:pt x="1246" y="376"/>
                  </a:lnTo>
                  <a:lnTo>
                    <a:pt x="1241" y="366"/>
                  </a:lnTo>
                  <a:lnTo>
                    <a:pt x="1236" y="361"/>
                  </a:lnTo>
                  <a:lnTo>
                    <a:pt x="1232" y="356"/>
                  </a:lnTo>
                  <a:lnTo>
                    <a:pt x="1227" y="351"/>
                  </a:lnTo>
                  <a:lnTo>
                    <a:pt x="1222" y="351"/>
                  </a:lnTo>
                  <a:lnTo>
                    <a:pt x="1217" y="356"/>
                  </a:lnTo>
                  <a:lnTo>
                    <a:pt x="1212" y="361"/>
                  </a:lnTo>
                  <a:lnTo>
                    <a:pt x="1207" y="366"/>
                  </a:lnTo>
                  <a:lnTo>
                    <a:pt x="1207" y="371"/>
                  </a:lnTo>
                  <a:lnTo>
                    <a:pt x="1202" y="376"/>
                  </a:lnTo>
                  <a:lnTo>
                    <a:pt x="1197" y="381"/>
                  </a:lnTo>
                  <a:lnTo>
                    <a:pt x="1192" y="386"/>
                  </a:lnTo>
                  <a:lnTo>
                    <a:pt x="1192" y="391"/>
                  </a:lnTo>
                  <a:lnTo>
                    <a:pt x="1187" y="401"/>
                  </a:lnTo>
                  <a:lnTo>
                    <a:pt x="1187" y="406"/>
                  </a:lnTo>
                  <a:lnTo>
                    <a:pt x="1187" y="411"/>
                  </a:lnTo>
                  <a:lnTo>
                    <a:pt x="1182" y="416"/>
                  </a:lnTo>
                  <a:lnTo>
                    <a:pt x="1182" y="420"/>
                  </a:lnTo>
                  <a:lnTo>
                    <a:pt x="1177" y="425"/>
                  </a:lnTo>
                  <a:lnTo>
                    <a:pt x="1177" y="430"/>
                  </a:lnTo>
                  <a:lnTo>
                    <a:pt x="1172" y="435"/>
                  </a:lnTo>
                  <a:lnTo>
                    <a:pt x="1167" y="440"/>
                  </a:lnTo>
                  <a:lnTo>
                    <a:pt x="1167" y="445"/>
                  </a:lnTo>
                  <a:lnTo>
                    <a:pt x="1162" y="450"/>
                  </a:lnTo>
                  <a:lnTo>
                    <a:pt x="1162" y="460"/>
                  </a:lnTo>
                  <a:lnTo>
                    <a:pt x="1157" y="465"/>
                  </a:lnTo>
                  <a:lnTo>
                    <a:pt x="1157" y="470"/>
                  </a:lnTo>
                  <a:lnTo>
                    <a:pt x="1157" y="475"/>
                  </a:lnTo>
                  <a:lnTo>
                    <a:pt x="1152" y="480"/>
                  </a:lnTo>
                  <a:lnTo>
                    <a:pt x="1152" y="485"/>
                  </a:lnTo>
                  <a:lnTo>
                    <a:pt x="1147" y="490"/>
                  </a:lnTo>
                  <a:lnTo>
                    <a:pt x="1143" y="495"/>
                  </a:lnTo>
                  <a:lnTo>
                    <a:pt x="1143" y="500"/>
                  </a:lnTo>
                  <a:lnTo>
                    <a:pt x="1138" y="504"/>
                  </a:lnTo>
                  <a:lnTo>
                    <a:pt x="1138" y="509"/>
                  </a:lnTo>
                  <a:lnTo>
                    <a:pt x="1133" y="519"/>
                  </a:lnTo>
                  <a:lnTo>
                    <a:pt x="1133" y="524"/>
                  </a:lnTo>
                  <a:lnTo>
                    <a:pt x="1133" y="529"/>
                  </a:lnTo>
                  <a:lnTo>
                    <a:pt x="1128" y="534"/>
                  </a:lnTo>
                  <a:lnTo>
                    <a:pt x="1128" y="539"/>
                  </a:lnTo>
                  <a:lnTo>
                    <a:pt x="1123" y="544"/>
                  </a:lnTo>
                  <a:lnTo>
                    <a:pt x="1123" y="549"/>
                  </a:lnTo>
                  <a:lnTo>
                    <a:pt x="1118" y="554"/>
                  </a:lnTo>
                  <a:lnTo>
                    <a:pt x="1113" y="559"/>
                  </a:lnTo>
                  <a:lnTo>
                    <a:pt x="1108" y="564"/>
                  </a:lnTo>
                  <a:lnTo>
                    <a:pt x="1108" y="569"/>
                  </a:lnTo>
                  <a:lnTo>
                    <a:pt x="1108" y="574"/>
                  </a:lnTo>
                  <a:lnTo>
                    <a:pt x="1108" y="584"/>
                  </a:lnTo>
                  <a:lnTo>
                    <a:pt x="1108" y="589"/>
                  </a:lnTo>
                  <a:lnTo>
                    <a:pt x="1108" y="593"/>
                  </a:lnTo>
                  <a:lnTo>
                    <a:pt x="1108" y="598"/>
                  </a:lnTo>
                  <a:lnTo>
                    <a:pt x="1108" y="603"/>
                  </a:lnTo>
                  <a:lnTo>
                    <a:pt x="1108" y="608"/>
                  </a:lnTo>
                  <a:lnTo>
                    <a:pt x="1103" y="613"/>
                  </a:lnTo>
                  <a:lnTo>
                    <a:pt x="1103" y="623"/>
                  </a:lnTo>
                  <a:lnTo>
                    <a:pt x="1098" y="628"/>
                  </a:lnTo>
                  <a:lnTo>
                    <a:pt x="1093" y="633"/>
                  </a:lnTo>
                  <a:lnTo>
                    <a:pt x="1088" y="633"/>
                  </a:lnTo>
                  <a:lnTo>
                    <a:pt x="1083" y="628"/>
                  </a:lnTo>
                  <a:lnTo>
                    <a:pt x="1083" y="623"/>
                  </a:lnTo>
                  <a:lnTo>
                    <a:pt x="1078" y="613"/>
                  </a:lnTo>
                  <a:lnTo>
                    <a:pt x="1078" y="608"/>
                  </a:lnTo>
                  <a:lnTo>
                    <a:pt x="1078" y="603"/>
                  </a:lnTo>
                  <a:lnTo>
                    <a:pt x="1078" y="598"/>
                  </a:lnTo>
                  <a:lnTo>
                    <a:pt x="1078" y="593"/>
                  </a:lnTo>
                  <a:lnTo>
                    <a:pt x="1078" y="589"/>
                  </a:lnTo>
                  <a:lnTo>
                    <a:pt x="1078" y="579"/>
                  </a:lnTo>
                  <a:lnTo>
                    <a:pt x="1078" y="574"/>
                  </a:lnTo>
                  <a:lnTo>
                    <a:pt x="1078" y="569"/>
                  </a:lnTo>
                  <a:lnTo>
                    <a:pt x="1078" y="564"/>
                  </a:lnTo>
                  <a:lnTo>
                    <a:pt x="1083" y="559"/>
                  </a:lnTo>
                  <a:lnTo>
                    <a:pt x="1083" y="554"/>
                  </a:lnTo>
                  <a:lnTo>
                    <a:pt x="1093" y="549"/>
                  </a:lnTo>
                  <a:lnTo>
                    <a:pt x="1098" y="544"/>
                  </a:lnTo>
                  <a:lnTo>
                    <a:pt x="1103" y="539"/>
                  </a:lnTo>
                  <a:lnTo>
                    <a:pt x="1108" y="534"/>
                  </a:lnTo>
                  <a:lnTo>
                    <a:pt x="1108" y="529"/>
                  </a:lnTo>
                  <a:lnTo>
                    <a:pt x="1108" y="524"/>
                  </a:lnTo>
                  <a:lnTo>
                    <a:pt x="1103" y="519"/>
                  </a:lnTo>
                  <a:lnTo>
                    <a:pt x="1103" y="514"/>
                  </a:lnTo>
                  <a:lnTo>
                    <a:pt x="1103" y="509"/>
                  </a:lnTo>
                  <a:lnTo>
                    <a:pt x="1103" y="504"/>
                  </a:lnTo>
                  <a:lnTo>
                    <a:pt x="1108" y="500"/>
                  </a:lnTo>
                  <a:lnTo>
                    <a:pt x="1113" y="495"/>
                  </a:lnTo>
                  <a:lnTo>
                    <a:pt x="1123" y="490"/>
                  </a:lnTo>
                  <a:lnTo>
                    <a:pt x="1128" y="485"/>
                  </a:lnTo>
                  <a:lnTo>
                    <a:pt x="1133" y="480"/>
                  </a:lnTo>
                  <a:lnTo>
                    <a:pt x="1138" y="475"/>
                  </a:lnTo>
                  <a:lnTo>
                    <a:pt x="1133" y="470"/>
                  </a:lnTo>
                  <a:lnTo>
                    <a:pt x="1133" y="465"/>
                  </a:lnTo>
                  <a:lnTo>
                    <a:pt x="1128" y="460"/>
                  </a:lnTo>
                  <a:lnTo>
                    <a:pt x="1128" y="455"/>
                  </a:lnTo>
                  <a:lnTo>
                    <a:pt x="1128" y="450"/>
                  </a:lnTo>
                  <a:lnTo>
                    <a:pt x="1133" y="445"/>
                  </a:lnTo>
                  <a:lnTo>
                    <a:pt x="1138" y="440"/>
                  </a:lnTo>
                  <a:lnTo>
                    <a:pt x="1147" y="435"/>
                  </a:lnTo>
                  <a:lnTo>
                    <a:pt x="1152" y="430"/>
                  </a:lnTo>
                  <a:lnTo>
                    <a:pt x="1162" y="425"/>
                  </a:lnTo>
                  <a:lnTo>
                    <a:pt x="1162" y="420"/>
                  </a:lnTo>
                  <a:lnTo>
                    <a:pt x="1162" y="416"/>
                  </a:lnTo>
                  <a:lnTo>
                    <a:pt x="1157" y="411"/>
                  </a:lnTo>
                  <a:lnTo>
                    <a:pt x="1157" y="406"/>
                  </a:lnTo>
                  <a:lnTo>
                    <a:pt x="1152" y="401"/>
                  </a:lnTo>
                  <a:lnTo>
                    <a:pt x="1152" y="396"/>
                  </a:lnTo>
                  <a:lnTo>
                    <a:pt x="1157" y="386"/>
                  </a:lnTo>
                  <a:lnTo>
                    <a:pt x="1162" y="381"/>
                  </a:lnTo>
                  <a:lnTo>
                    <a:pt x="1167" y="381"/>
                  </a:lnTo>
                  <a:lnTo>
                    <a:pt x="1177" y="376"/>
                  </a:lnTo>
                  <a:lnTo>
                    <a:pt x="1182" y="371"/>
                  </a:lnTo>
                  <a:lnTo>
                    <a:pt x="1187" y="371"/>
                  </a:lnTo>
                  <a:lnTo>
                    <a:pt x="1187" y="366"/>
                  </a:lnTo>
                  <a:lnTo>
                    <a:pt x="1182" y="356"/>
                  </a:lnTo>
                  <a:lnTo>
                    <a:pt x="1182" y="351"/>
                  </a:lnTo>
                  <a:lnTo>
                    <a:pt x="1182" y="346"/>
                  </a:lnTo>
                  <a:lnTo>
                    <a:pt x="1187" y="341"/>
                  </a:lnTo>
                  <a:lnTo>
                    <a:pt x="1187" y="331"/>
                  </a:lnTo>
                  <a:lnTo>
                    <a:pt x="1192" y="327"/>
                  </a:lnTo>
                  <a:lnTo>
                    <a:pt x="1197" y="322"/>
                  </a:lnTo>
                  <a:lnTo>
                    <a:pt x="1197" y="317"/>
                  </a:lnTo>
                  <a:lnTo>
                    <a:pt x="1192" y="312"/>
                  </a:lnTo>
                  <a:lnTo>
                    <a:pt x="1187" y="312"/>
                  </a:lnTo>
                  <a:lnTo>
                    <a:pt x="1182" y="307"/>
                  </a:lnTo>
                  <a:lnTo>
                    <a:pt x="1172" y="302"/>
                  </a:lnTo>
                  <a:lnTo>
                    <a:pt x="1167" y="297"/>
                  </a:lnTo>
                  <a:lnTo>
                    <a:pt x="1162" y="292"/>
                  </a:lnTo>
                  <a:lnTo>
                    <a:pt x="1157" y="287"/>
                  </a:lnTo>
                  <a:lnTo>
                    <a:pt x="1152" y="282"/>
                  </a:lnTo>
                  <a:lnTo>
                    <a:pt x="1147" y="277"/>
                  </a:lnTo>
                  <a:lnTo>
                    <a:pt x="1138" y="277"/>
                  </a:lnTo>
                  <a:lnTo>
                    <a:pt x="1133" y="282"/>
                  </a:lnTo>
                  <a:lnTo>
                    <a:pt x="1128" y="287"/>
                  </a:lnTo>
                  <a:lnTo>
                    <a:pt x="1123" y="292"/>
                  </a:lnTo>
                  <a:lnTo>
                    <a:pt x="1123" y="297"/>
                  </a:lnTo>
                  <a:lnTo>
                    <a:pt x="1123" y="307"/>
                  </a:lnTo>
                  <a:lnTo>
                    <a:pt x="1123" y="312"/>
                  </a:lnTo>
                  <a:lnTo>
                    <a:pt x="1123" y="317"/>
                  </a:lnTo>
                  <a:lnTo>
                    <a:pt x="1123" y="322"/>
                  </a:lnTo>
                  <a:lnTo>
                    <a:pt x="1113" y="322"/>
                  </a:lnTo>
                  <a:lnTo>
                    <a:pt x="1108" y="327"/>
                  </a:lnTo>
                  <a:lnTo>
                    <a:pt x="1103" y="331"/>
                  </a:lnTo>
                  <a:lnTo>
                    <a:pt x="1098" y="336"/>
                  </a:lnTo>
                  <a:lnTo>
                    <a:pt x="1093" y="341"/>
                  </a:lnTo>
                  <a:lnTo>
                    <a:pt x="1088" y="346"/>
                  </a:lnTo>
                  <a:lnTo>
                    <a:pt x="1093" y="351"/>
                  </a:lnTo>
                  <a:lnTo>
                    <a:pt x="1098" y="356"/>
                  </a:lnTo>
                  <a:lnTo>
                    <a:pt x="1103" y="361"/>
                  </a:lnTo>
                  <a:lnTo>
                    <a:pt x="1108" y="366"/>
                  </a:lnTo>
                  <a:lnTo>
                    <a:pt x="1113" y="371"/>
                  </a:lnTo>
                  <a:lnTo>
                    <a:pt x="1118" y="376"/>
                  </a:lnTo>
                  <a:lnTo>
                    <a:pt x="1113" y="381"/>
                  </a:lnTo>
                  <a:lnTo>
                    <a:pt x="1108" y="386"/>
                  </a:lnTo>
                  <a:lnTo>
                    <a:pt x="1108" y="391"/>
                  </a:lnTo>
                  <a:lnTo>
                    <a:pt x="1103" y="396"/>
                  </a:lnTo>
                  <a:lnTo>
                    <a:pt x="1103" y="401"/>
                  </a:lnTo>
                  <a:lnTo>
                    <a:pt x="1098" y="406"/>
                  </a:lnTo>
                  <a:lnTo>
                    <a:pt x="1098" y="411"/>
                  </a:lnTo>
                  <a:lnTo>
                    <a:pt x="1093" y="416"/>
                  </a:lnTo>
                  <a:lnTo>
                    <a:pt x="1093" y="420"/>
                  </a:lnTo>
                  <a:lnTo>
                    <a:pt x="1093" y="425"/>
                  </a:lnTo>
                  <a:lnTo>
                    <a:pt x="1093" y="435"/>
                  </a:lnTo>
                  <a:lnTo>
                    <a:pt x="1093" y="440"/>
                  </a:lnTo>
                  <a:lnTo>
                    <a:pt x="1093" y="445"/>
                  </a:lnTo>
                  <a:lnTo>
                    <a:pt x="1093" y="450"/>
                  </a:lnTo>
                  <a:lnTo>
                    <a:pt x="1088" y="455"/>
                  </a:lnTo>
                  <a:lnTo>
                    <a:pt x="1083" y="460"/>
                  </a:lnTo>
                  <a:lnTo>
                    <a:pt x="1078" y="465"/>
                  </a:lnTo>
                  <a:lnTo>
                    <a:pt x="1078" y="470"/>
                  </a:lnTo>
                  <a:lnTo>
                    <a:pt x="1073" y="475"/>
                  </a:lnTo>
                  <a:lnTo>
                    <a:pt x="1073" y="480"/>
                  </a:lnTo>
                  <a:lnTo>
                    <a:pt x="1073" y="485"/>
                  </a:lnTo>
                  <a:lnTo>
                    <a:pt x="1073" y="495"/>
                  </a:lnTo>
                  <a:lnTo>
                    <a:pt x="1073" y="500"/>
                  </a:lnTo>
                  <a:lnTo>
                    <a:pt x="1068" y="504"/>
                  </a:lnTo>
                  <a:lnTo>
                    <a:pt x="1068" y="509"/>
                  </a:lnTo>
                  <a:lnTo>
                    <a:pt x="1063" y="514"/>
                  </a:lnTo>
                  <a:lnTo>
                    <a:pt x="1058" y="519"/>
                  </a:lnTo>
                  <a:lnTo>
                    <a:pt x="1053" y="524"/>
                  </a:lnTo>
                  <a:lnTo>
                    <a:pt x="1053" y="529"/>
                  </a:lnTo>
                  <a:lnTo>
                    <a:pt x="1049" y="534"/>
                  </a:lnTo>
                  <a:lnTo>
                    <a:pt x="1049" y="539"/>
                  </a:lnTo>
                  <a:lnTo>
                    <a:pt x="1049" y="544"/>
                  </a:lnTo>
                  <a:lnTo>
                    <a:pt x="1049" y="549"/>
                  </a:lnTo>
                  <a:lnTo>
                    <a:pt x="1049" y="559"/>
                  </a:lnTo>
                  <a:lnTo>
                    <a:pt x="1049" y="564"/>
                  </a:lnTo>
                  <a:lnTo>
                    <a:pt x="1049" y="569"/>
                  </a:lnTo>
                  <a:lnTo>
                    <a:pt x="1044" y="574"/>
                  </a:lnTo>
                  <a:lnTo>
                    <a:pt x="1044" y="579"/>
                  </a:lnTo>
                  <a:lnTo>
                    <a:pt x="1044" y="584"/>
                  </a:lnTo>
                  <a:lnTo>
                    <a:pt x="1044" y="589"/>
                  </a:lnTo>
                  <a:lnTo>
                    <a:pt x="1044" y="598"/>
                  </a:lnTo>
                  <a:lnTo>
                    <a:pt x="1044" y="603"/>
                  </a:lnTo>
                  <a:lnTo>
                    <a:pt x="1044" y="608"/>
                  </a:lnTo>
                  <a:lnTo>
                    <a:pt x="1044" y="613"/>
                  </a:lnTo>
                  <a:lnTo>
                    <a:pt x="1044" y="618"/>
                  </a:lnTo>
                  <a:lnTo>
                    <a:pt x="1044" y="623"/>
                  </a:lnTo>
                  <a:lnTo>
                    <a:pt x="1039" y="628"/>
                  </a:lnTo>
                  <a:lnTo>
                    <a:pt x="1039" y="633"/>
                  </a:lnTo>
                  <a:lnTo>
                    <a:pt x="1039" y="643"/>
                  </a:lnTo>
                  <a:lnTo>
                    <a:pt x="1039" y="648"/>
                  </a:lnTo>
                  <a:lnTo>
                    <a:pt x="1034" y="653"/>
                  </a:lnTo>
                  <a:lnTo>
                    <a:pt x="1029" y="658"/>
                  </a:lnTo>
                  <a:lnTo>
                    <a:pt x="1024" y="663"/>
                  </a:lnTo>
                  <a:lnTo>
                    <a:pt x="1019" y="668"/>
                  </a:lnTo>
                  <a:lnTo>
                    <a:pt x="1019" y="673"/>
                  </a:lnTo>
                  <a:lnTo>
                    <a:pt x="1014" y="677"/>
                  </a:lnTo>
                  <a:lnTo>
                    <a:pt x="1014" y="682"/>
                  </a:lnTo>
                  <a:lnTo>
                    <a:pt x="1014" y="687"/>
                  </a:lnTo>
                  <a:lnTo>
                    <a:pt x="1014" y="692"/>
                  </a:lnTo>
                  <a:lnTo>
                    <a:pt x="1014" y="702"/>
                  </a:lnTo>
                  <a:lnTo>
                    <a:pt x="1009" y="707"/>
                  </a:lnTo>
                  <a:lnTo>
                    <a:pt x="1009" y="707"/>
                  </a:lnTo>
                  <a:lnTo>
                    <a:pt x="1009" y="702"/>
                  </a:lnTo>
                  <a:lnTo>
                    <a:pt x="1004" y="692"/>
                  </a:lnTo>
                  <a:close/>
                  <a:moveTo>
                    <a:pt x="1434" y="455"/>
                  </a:moveTo>
                  <a:lnTo>
                    <a:pt x="1434" y="455"/>
                  </a:lnTo>
                  <a:lnTo>
                    <a:pt x="1434" y="455"/>
                  </a:lnTo>
                  <a:lnTo>
                    <a:pt x="1434" y="455"/>
                  </a:lnTo>
                  <a:lnTo>
                    <a:pt x="1434" y="455"/>
                  </a:lnTo>
                  <a:lnTo>
                    <a:pt x="1434" y="455"/>
                  </a:lnTo>
                  <a:lnTo>
                    <a:pt x="1434" y="455"/>
                  </a:lnTo>
                  <a:lnTo>
                    <a:pt x="1434" y="455"/>
                  </a:lnTo>
                  <a:lnTo>
                    <a:pt x="1434" y="455"/>
                  </a:lnTo>
                  <a:lnTo>
                    <a:pt x="1434" y="455"/>
                  </a:lnTo>
                  <a:lnTo>
                    <a:pt x="1434" y="455"/>
                  </a:lnTo>
                  <a:lnTo>
                    <a:pt x="1434" y="455"/>
                  </a:lnTo>
                  <a:lnTo>
                    <a:pt x="1434" y="455"/>
                  </a:lnTo>
                  <a:lnTo>
                    <a:pt x="1434" y="455"/>
                  </a:lnTo>
                  <a:lnTo>
                    <a:pt x="1434" y="455"/>
                  </a:lnTo>
                  <a:close/>
                  <a:moveTo>
                    <a:pt x="1078" y="401"/>
                  </a:moveTo>
                  <a:lnTo>
                    <a:pt x="1073" y="396"/>
                  </a:lnTo>
                  <a:lnTo>
                    <a:pt x="1063" y="396"/>
                  </a:lnTo>
                  <a:lnTo>
                    <a:pt x="1058" y="396"/>
                  </a:lnTo>
                  <a:lnTo>
                    <a:pt x="1049" y="396"/>
                  </a:lnTo>
                  <a:lnTo>
                    <a:pt x="1044" y="401"/>
                  </a:lnTo>
                  <a:lnTo>
                    <a:pt x="1044" y="406"/>
                  </a:lnTo>
                  <a:lnTo>
                    <a:pt x="1049" y="411"/>
                  </a:lnTo>
                  <a:lnTo>
                    <a:pt x="1053" y="416"/>
                  </a:lnTo>
                  <a:lnTo>
                    <a:pt x="1058" y="420"/>
                  </a:lnTo>
                  <a:lnTo>
                    <a:pt x="1063" y="420"/>
                  </a:lnTo>
                  <a:lnTo>
                    <a:pt x="1068" y="416"/>
                  </a:lnTo>
                  <a:lnTo>
                    <a:pt x="1073" y="416"/>
                  </a:lnTo>
                  <a:lnTo>
                    <a:pt x="1073" y="406"/>
                  </a:lnTo>
                  <a:lnTo>
                    <a:pt x="1078" y="401"/>
                  </a:lnTo>
                  <a:close/>
                  <a:moveTo>
                    <a:pt x="208" y="371"/>
                  </a:moveTo>
                  <a:lnTo>
                    <a:pt x="183" y="371"/>
                  </a:lnTo>
                  <a:lnTo>
                    <a:pt x="183" y="396"/>
                  </a:lnTo>
                  <a:lnTo>
                    <a:pt x="208" y="371"/>
                  </a:lnTo>
                  <a:close/>
                  <a:moveTo>
                    <a:pt x="875" y="267"/>
                  </a:moveTo>
                  <a:lnTo>
                    <a:pt x="875" y="262"/>
                  </a:lnTo>
                  <a:lnTo>
                    <a:pt x="875" y="262"/>
                  </a:lnTo>
                  <a:lnTo>
                    <a:pt x="880" y="262"/>
                  </a:lnTo>
                  <a:lnTo>
                    <a:pt x="880" y="262"/>
                  </a:lnTo>
                  <a:lnTo>
                    <a:pt x="885" y="262"/>
                  </a:lnTo>
                  <a:lnTo>
                    <a:pt x="885" y="267"/>
                  </a:lnTo>
                  <a:lnTo>
                    <a:pt x="885" y="267"/>
                  </a:lnTo>
                  <a:lnTo>
                    <a:pt x="880" y="272"/>
                  </a:lnTo>
                  <a:lnTo>
                    <a:pt x="880" y="272"/>
                  </a:lnTo>
                  <a:lnTo>
                    <a:pt x="875" y="272"/>
                  </a:lnTo>
                  <a:lnTo>
                    <a:pt x="875" y="272"/>
                  </a:lnTo>
                  <a:lnTo>
                    <a:pt x="875" y="272"/>
                  </a:lnTo>
                  <a:lnTo>
                    <a:pt x="875" y="267"/>
                  </a:lnTo>
                  <a:lnTo>
                    <a:pt x="875" y="267"/>
                  </a:lnTo>
                  <a:close/>
                  <a:moveTo>
                    <a:pt x="1187" y="267"/>
                  </a:moveTo>
                  <a:lnTo>
                    <a:pt x="1177" y="262"/>
                  </a:lnTo>
                  <a:lnTo>
                    <a:pt x="1172" y="262"/>
                  </a:lnTo>
                  <a:lnTo>
                    <a:pt x="1167" y="262"/>
                  </a:lnTo>
                  <a:lnTo>
                    <a:pt x="1157" y="267"/>
                  </a:lnTo>
                  <a:lnTo>
                    <a:pt x="1157" y="267"/>
                  </a:lnTo>
                  <a:lnTo>
                    <a:pt x="1157" y="272"/>
                  </a:lnTo>
                  <a:lnTo>
                    <a:pt x="1157" y="277"/>
                  </a:lnTo>
                  <a:lnTo>
                    <a:pt x="1162" y="282"/>
                  </a:lnTo>
                  <a:lnTo>
                    <a:pt x="1167" y="287"/>
                  </a:lnTo>
                  <a:lnTo>
                    <a:pt x="1172" y="287"/>
                  </a:lnTo>
                  <a:lnTo>
                    <a:pt x="1177" y="282"/>
                  </a:lnTo>
                  <a:lnTo>
                    <a:pt x="1177" y="277"/>
                  </a:lnTo>
                  <a:lnTo>
                    <a:pt x="1182" y="272"/>
                  </a:lnTo>
                  <a:lnTo>
                    <a:pt x="1187" y="267"/>
                  </a:lnTo>
                  <a:close/>
                  <a:moveTo>
                    <a:pt x="1652" y="267"/>
                  </a:moveTo>
                  <a:lnTo>
                    <a:pt x="1647" y="262"/>
                  </a:lnTo>
                  <a:lnTo>
                    <a:pt x="1637" y="262"/>
                  </a:lnTo>
                  <a:lnTo>
                    <a:pt x="1632" y="267"/>
                  </a:lnTo>
                  <a:lnTo>
                    <a:pt x="1627" y="267"/>
                  </a:lnTo>
                  <a:lnTo>
                    <a:pt x="1627" y="272"/>
                  </a:lnTo>
                  <a:lnTo>
                    <a:pt x="1632" y="277"/>
                  </a:lnTo>
                  <a:lnTo>
                    <a:pt x="1637" y="282"/>
                  </a:lnTo>
                  <a:lnTo>
                    <a:pt x="1642" y="287"/>
                  </a:lnTo>
                  <a:lnTo>
                    <a:pt x="1647" y="287"/>
                  </a:lnTo>
                  <a:lnTo>
                    <a:pt x="1652" y="287"/>
                  </a:lnTo>
                  <a:lnTo>
                    <a:pt x="1652" y="287"/>
                  </a:lnTo>
                  <a:lnTo>
                    <a:pt x="1652" y="282"/>
                  </a:lnTo>
                  <a:lnTo>
                    <a:pt x="1652" y="272"/>
                  </a:lnTo>
                  <a:lnTo>
                    <a:pt x="1652" y="267"/>
                  </a:lnTo>
                  <a:close/>
                  <a:moveTo>
                    <a:pt x="910" y="238"/>
                  </a:moveTo>
                  <a:lnTo>
                    <a:pt x="915" y="233"/>
                  </a:lnTo>
                  <a:lnTo>
                    <a:pt x="920" y="228"/>
                  </a:lnTo>
                  <a:lnTo>
                    <a:pt x="925" y="223"/>
                  </a:lnTo>
                  <a:lnTo>
                    <a:pt x="930" y="218"/>
                  </a:lnTo>
                  <a:lnTo>
                    <a:pt x="935" y="213"/>
                  </a:lnTo>
                  <a:lnTo>
                    <a:pt x="940" y="208"/>
                  </a:lnTo>
                  <a:lnTo>
                    <a:pt x="945" y="203"/>
                  </a:lnTo>
                  <a:lnTo>
                    <a:pt x="950" y="198"/>
                  </a:lnTo>
                  <a:lnTo>
                    <a:pt x="955" y="193"/>
                  </a:lnTo>
                  <a:lnTo>
                    <a:pt x="960" y="193"/>
                  </a:lnTo>
                  <a:lnTo>
                    <a:pt x="969" y="188"/>
                  </a:lnTo>
                  <a:lnTo>
                    <a:pt x="979" y="188"/>
                  </a:lnTo>
                  <a:lnTo>
                    <a:pt x="984" y="183"/>
                  </a:lnTo>
                  <a:lnTo>
                    <a:pt x="989" y="173"/>
                  </a:lnTo>
                  <a:lnTo>
                    <a:pt x="994" y="168"/>
                  </a:lnTo>
                  <a:lnTo>
                    <a:pt x="999" y="163"/>
                  </a:lnTo>
                  <a:lnTo>
                    <a:pt x="1009" y="163"/>
                  </a:lnTo>
                  <a:lnTo>
                    <a:pt x="1014" y="163"/>
                  </a:lnTo>
                  <a:lnTo>
                    <a:pt x="1019" y="168"/>
                  </a:lnTo>
                  <a:lnTo>
                    <a:pt x="1029" y="173"/>
                  </a:lnTo>
                  <a:lnTo>
                    <a:pt x="1029" y="178"/>
                  </a:lnTo>
                  <a:lnTo>
                    <a:pt x="1034" y="188"/>
                  </a:lnTo>
                  <a:lnTo>
                    <a:pt x="1034" y="193"/>
                  </a:lnTo>
                  <a:lnTo>
                    <a:pt x="1029" y="198"/>
                  </a:lnTo>
                  <a:lnTo>
                    <a:pt x="1029" y="208"/>
                  </a:lnTo>
                  <a:lnTo>
                    <a:pt x="1024" y="208"/>
                  </a:lnTo>
                  <a:lnTo>
                    <a:pt x="1014" y="213"/>
                  </a:lnTo>
                  <a:lnTo>
                    <a:pt x="1004" y="218"/>
                  </a:lnTo>
                  <a:lnTo>
                    <a:pt x="999" y="218"/>
                  </a:lnTo>
                  <a:lnTo>
                    <a:pt x="989" y="223"/>
                  </a:lnTo>
                  <a:lnTo>
                    <a:pt x="979" y="223"/>
                  </a:lnTo>
                  <a:lnTo>
                    <a:pt x="974" y="228"/>
                  </a:lnTo>
                  <a:lnTo>
                    <a:pt x="964" y="233"/>
                  </a:lnTo>
                  <a:lnTo>
                    <a:pt x="960" y="238"/>
                  </a:lnTo>
                  <a:lnTo>
                    <a:pt x="955" y="243"/>
                  </a:lnTo>
                  <a:lnTo>
                    <a:pt x="950" y="247"/>
                  </a:lnTo>
                  <a:lnTo>
                    <a:pt x="945" y="252"/>
                  </a:lnTo>
                  <a:lnTo>
                    <a:pt x="940" y="257"/>
                  </a:lnTo>
                  <a:lnTo>
                    <a:pt x="935" y="262"/>
                  </a:lnTo>
                  <a:lnTo>
                    <a:pt x="930" y="262"/>
                  </a:lnTo>
                  <a:lnTo>
                    <a:pt x="925" y="262"/>
                  </a:lnTo>
                  <a:lnTo>
                    <a:pt x="920" y="257"/>
                  </a:lnTo>
                  <a:lnTo>
                    <a:pt x="915" y="247"/>
                  </a:lnTo>
                  <a:lnTo>
                    <a:pt x="910" y="238"/>
                  </a:lnTo>
                  <a:close/>
                  <a:moveTo>
                    <a:pt x="1622" y="238"/>
                  </a:moveTo>
                  <a:lnTo>
                    <a:pt x="1617" y="238"/>
                  </a:lnTo>
                  <a:lnTo>
                    <a:pt x="1612" y="238"/>
                  </a:lnTo>
                  <a:lnTo>
                    <a:pt x="1607" y="238"/>
                  </a:lnTo>
                  <a:lnTo>
                    <a:pt x="1602" y="238"/>
                  </a:lnTo>
                  <a:lnTo>
                    <a:pt x="1598" y="238"/>
                  </a:lnTo>
                  <a:lnTo>
                    <a:pt x="1593" y="238"/>
                  </a:lnTo>
                  <a:lnTo>
                    <a:pt x="1588" y="243"/>
                  </a:lnTo>
                  <a:lnTo>
                    <a:pt x="1588" y="247"/>
                  </a:lnTo>
                  <a:lnTo>
                    <a:pt x="1593" y="252"/>
                  </a:lnTo>
                  <a:lnTo>
                    <a:pt x="1593" y="252"/>
                  </a:lnTo>
                  <a:lnTo>
                    <a:pt x="1598" y="257"/>
                  </a:lnTo>
                  <a:lnTo>
                    <a:pt x="1607" y="257"/>
                  </a:lnTo>
                  <a:lnTo>
                    <a:pt x="1612" y="257"/>
                  </a:lnTo>
                  <a:lnTo>
                    <a:pt x="1617" y="257"/>
                  </a:lnTo>
                  <a:lnTo>
                    <a:pt x="1622" y="257"/>
                  </a:lnTo>
                  <a:lnTo>
                    <a:pt x="1622" y="257"/>
                  </a:lnTo>
                  <a:lnTo>
                    <a:pt x="1622" y="252"/>
                  </a:lnTo>
                  <a:lnTo>
                    <a:pt x="1622" y="247"/>
                  </a:lnTo>
                  <a:lnTo>
                    <a:pt x="1622" y="247"/>
                  </a:lnTo>
                  <a:lnTo>
                    <a:pt x="1622" y="238"/>
                  </a:lnTo>
                  <a:close/>
                  <a:moveTo>
                    <a:pt x="1330" y="213"/>
                  </a:moveTo>
                  <a:lnTo>
                    <a:pt x="1330" y="213"/>
                  </a:lnTo>
                  <a:lnTo>
                    <a:pt x="1330" y="213"/>
                  </a:lnTo>
                  <a:lnTo>
                    <a:pt x="1330" y="213"/>
                  </a:lnTo>
                  <a:lnTo>
                    <a:pt x="1330" y="213"/>
                  </a:lnTo>
                  <a:lnTo>
                    <a:pt x="1326" y="213"/>
                  </a:lnTo>
                  <a:lnTo>
                    <a:pt x="1326" y="213"/>
                  </a:lnTo>
                  <a:lnTo>
                    <a:pt x="1326" y="213"/>
                  </a:lnTo>
                  <a:lnTo>
                    <a:pt x="1326" y="213"/>
                  </a:lnTo>
                  <a:lnTo>
                    <a:pt x="1326" y="213"/>
                  </a:lnTo>
                  <a:lnTo>
                    <a:pt x="1330" y="218"/>
                  </a:lnTo>
                  <a:lnTo>
                    <a:pt x="1330" y="218"/>
                  </a:lnTo>
                  <a:lnTo>
                    <a:pt x="1330" y="213"/>
                  </a:lnTo>
                  <a:lnTo>
                    <a:pt x="1330" y="213"/>
                  </a:lnTo>
                  <a:lnTo>
                    <a:pt x="1330" y="213"/>
                  </a:lnTo>
                  <a:close/>
                  <a:moveTo>
                    <a:pt x="1840" y="188"/>
                  </a:moveTo>
                  <a:lnTo>
                    <a:pt x="1840" y="183"/>
                  </a:lnTo>
                  <a:lnTo>
                    <a:pt x="1840" y="183"/>
                  </a:lnTo>
                  <a:lnTo>
                    <a:pt x="1835" y="183"/>
                  </a:lnTo>
                  <a:lnTo>
                    <a:pt x="1835" y="183"/>
                  </a:lnTo>
                  <a:lnTo>
                    <a:pt x="1830" y="188"/>
                  </a:lnTo>
                  <a:lnTo>
                    <a:pt x="1830" y="188"/>
                  </a:lnTo>
                  <a:lnTo>
                    <a:pt x="1830" y="188"/>
                  </a:lnTo>
                  <a:lnTo>
                    <a:pt x="1835" y="188"/>
                  </a:lnTo>
                  <a:lnTo>
                    <a:pt x="1835" y="193"/>
                  </a:lnTo>
                  <a:lnTo>
                    <a:pt x="1835" y="193"/>
                  </a:lnTo>
                  <a:lnTo>
                    <a:pt x="1840" y="193"/>
                  </a:lnTo>
                  <a:lnTo>
                    <a:pt x="1840" y="188"/>
                  </a:lnTo>
                  <a:lnTo>
                    <a:pt x="1840" y="188"/>
                  </a:lnTo>
                  <a:lnTo>
                    <a:pt x="1840" y="188"/>
                  </a:lnTo>
                  <a:close/>
                  <a:moveTo>
                    <a:pt x="1049" y="159"/>
                  </a:moveTo>
                  <a:lnTo>
                    <a:pt x="1049" y="159"/>
                  </a:lnTo>
                  <a:lnTo>
                    <a:pt x="1053" y="154"/>
                  </a:lnTo>
                  <a:lnTo>
                    <a:pt x="1058" y="154"/>
                  </a:lnTo>
                  <a:lnTo>
                    <a:pt x="1063" y="154"/>
                  </a:lnTo>
                  <a:lnTo>
                    <a:pt x="1068" y="154"/>
                  </a:lnTo>
                  <a:lnTo>
                    <a:pt x="1073" y="159"/>
                  </a:lnTo>
                  <a:lnTo>
                    <a:pt x="1073" y="159"/>
                  </a:lnTo>
                  <a:lnTo>
                    <a:pt x="1073" y="163"/>
                  </a:lnTo>
                  <a:lnTo>
                    <a:pt x="1068" y="163"/>
                  </a:lnTo>
                  <a:lnTo>
                    <a:pt x="1063" y="163"/>
                  </a:lnTo>
                  <a:lnTo>
                    <a:pt x="1058" y="163"/>
                  </a:lnTo>
                  <a:lnTo>
                    <a:pt x="1053" y="163"/>
                  </a:lnTo>
                  <a:lnTo>
                    <a:pt x="1049" y="163"/>
                  </a:lnTo>
                  <a:lnTo>
                    <a:pt x="1049" y="159"/>
                  </a:lnTo>
                  <a:close/>
                  <a:moveTo>
                    <a:pt x="1464" y="159"/>
                  </a:moveTo>
                  <a:lnTo>
                    <a:pt x="1464" y="159"/>
                  </a:lnTo>
                  <a:lnTo>
                    <a:pt x="1464" y="159"/>
                  </a:lnTo>
                  <a:lnTo>
                    <a:pt x="1464" y="159"/>
                  </a:lnTo>
                  <a:lnTo>
                    <a:pt x="1464" y="159"/>
                  </a:lnTo>
                  <a:lnTo>
                    <a:pt x="1459" y="159"/>
                  </a:lnTo>
                  <a:lnTo>
                    <a:pt x="1459" y="159"/>
                  </a:lnTo>
                  <a:lnTo>
                    <a:pt x="1459" y="159"/>
                  </a:lnTo>
                  <a:lnTo>
                    <a:pt x="1459" y="159"/>
                  </a:lnTo>
                  <a:lnTo>
                    <a:pt x="1459" y="159"/>
                  </a:lnTo>
                  <a:lnTo>
                    <a:pt x="1459" y="159"/>
                  </a:lnTo>
                  <a:lnTo>
                    <a:pt x="1464" y="159"/>
                  </a:lnTo>
                  <a:lnTo>
                    <a:pt x="1464" y="159"/>
                  </a:lnTo>
                  <a:lnTo>
                    <a:pt x="1464" y="159"/>
                  </a:lnTo>
                  <a:lnTo>
                    <a:pt x="1464" y="159"/>
                  </a:lnTo>
                  <a:close/>
                  <a:moveTo>
                    <a:pt x="1785" y="159"/>
                  </a:moveTo>
                  <a:lnTo>
                    <a:pt x="1785" y="159"/>
                  </a:lnTo>
                  <a:lnTo>
                    <a:pt x="1785" y="159"/>
                  </a:lnTo>
                  <a:lnTo>
                    <a:pt x="1785" y="159"/>
                  </a:lnTo>
                  <a:lnTo>
                    <a:pt x="1780" y="159"/>
                  </a:lnTo>
                  <a:lnTo>
                    <a:pt x="1780" y="159"/>
                  </a:lnTo>
                  <a:lnTo>
                    <a:pt x="1780" y="159"/>
                  </a:lnTo>
                  <a:lnTo>
                    <a:pt x="1780" y="159"/>
                  </a:lnTo>
                  <a:lnTo>
                    <a:pt x="1780" y="159"/>
                  </a:lnTo>
                  <a:lnTo>
                    <a:pt x="1780" y="159"/>
                  </a:lnTo>
                  <a:lnTo>
                    <a:pt x="1780" y="159"/>
                  </a:lnTo>
                  <a:lnTo>
                    <a:pt x="1785" y="159"/>
                  </a:lnTo>
                  <a:lnTo>
                    <a:pt x="1785" y="159"/>
                  </a:lnTo>
                  <a:lnTo>
                    <a:pt x="1785" y="159"/>
                  </a:lnTo>
                  <a:lnTo>
                    <a:pt x="1785" y="159"/>
                  </a:lnTo>
                  <a:close/>
                  <a:moveTo>
                    <a:pt x="1518" y="134"/>
                  </a:moveTo>
                  <a:lnTo>
                    <a:pt x="1513" y="134"/>
                  </a:lnTo>
                  <a:lnTo>
                    <a:pt x="1513" y="134"/>
                  </a:lnTo>
                  <a:lnTo>
                    <a:pt x="1513" y="134"/>
                  </a:lnTo>
                  <a:lnTo>
                    <a:pt x="1513" y="134"/>
                  </a:lnTo>
                  <a:lnTo>
                    <a:pt x="1513" y="134"/>
                  </a:lnTo>
                  <a:lnTo>
                    <a:pt x="1513" y="134"/>
                  </a:lnTo>
                  <a:lnTo>
                    <a:pt x="1513" y="134"/>
                  </a:lnTo>
                  <a:lnTo>
                    <a:pt x="1513" y="134"/>
                  </a:lnTo>
                  <a:lnTo>
                    <a:pt x="1513" y="134"/>
                  </a:lnTo>
                  <a:lnTo>
                    <a:pt x="1513" y="134"/>
                  </a:lnTo>
                  <a:lnTo>
                    <a:pt x="1513" y="134"/>
                  </a:lnTo>
                  <a:lnTo>
                    <a:pt x="1513" y="134"/>
                  </a:lnTo>
                  <a:lnTo>
                    <a:pt x="1513" y="134"/>
                  </a:lnTo>
                  <a:lnTo>
                    <a:pt x="1518" y="134"/>
                  </a:lnTo>
                  <a:close/>
                  <a:moveTo>
                    <a:pt x="1731" y="134"/>
                  </a:moveTo>
                  <a:lnTo>
                    <a:pt x="1731" y="134"/>
                  </a:lnTo>
                  <a:lnTo>
                    <a:pt x="1731" y="134"/>
                  </a:lnTo>
                  <a:lnTo>
                    <a:pt x="1731" y="134"/>
                  </a:lnTo>
                  <a:lnTo>
                    <a:pt x="1726" y="134"/>
                  </a:lnTo>
                  <a:lnTo>
                    <a:pt x="1726" y="134"/>
                  </a:lnTo>
                  <a:lnTo>
                    <a:pt x="1726" y="134"/>
                  </a:lnTo>
                  <a:lnTo>
                    <a:pt x="1726" y="134"/>
                  </a:lnTo>
                  <a:lnTo>
                    <a:pt x="1726" y="134"/>
                  </a:lnTo>
                  <a:lnTo>
                    <a:pt x="1726" y="134"/>
                  </a:lnTo>
                  <a:lnTo>
                    <a:pt x="1731" y="134"/>
                  </a:lnTo>
                  <a:lnTo>
                    <a:pt x="1731" y="134"/>
                  </a:lnTo>
                  <a:lnTo>
                    <a:pt x="1731" y="134"/>
                  </a:lnTo>
                  <a:lnTo>
                    <a:pt x="1731" y="134"/>
                  </a:lnTo>
                  <a:lnTo>
                    <a:pt x="1731" y="134"/>
                  </a:lnTo>
                  <a:close/>
                  <a:moveTo>
                    <a:pt x="1598" y="104"/>
                  </a:moveTo>
                  <a:lnTo>
                    <a:pt x="1598" y="104"/>
                  </a:lnTo>
                  <a:lnTo>
                    <a:pt x="1598" y="104"/>
                  </a:lnTo>
                  <a:lnTo>
                    <a:pt x="1598" y="104"/>
                  </a:lnTo>
                  <a:lnTo>
                    <a:pt x="1593" y="104"/>
                  </a:lnTo>
                  <a:lnTo>
                    <a:pt x="1593" y="104"/>
                  </a:lnTo>
                  <a:lnTo>
                    <a:pt x="1593" y="104"/>
                  </a:lnTo>
                  <a:lnTo>
                    <a:pt x="1588" y="104"/>
                  </a:lnTo>
                  <a:lnTo>
                    <a:pt x="1588" y="104"/>
                  </a:lnTo>
                  <a:lnTo>
                    <a:pt x="1588" y="104"/>
                  </a:lnTo>
                  <a:lnTo>
                    <a:pt x="1593" y="109"/>
                  </a:lnTo>
                  <a:lnTo>
                    <a:pt x="1593" y="109"/>
                  </a:lnTo>
                  <a:lnTo>
                    <a:pt x="1598" y="104"/>
                  </a:lnTo>
                  <a:lnTo>
                    <a:pt x="1598" y="104"/>
                  </a:lnTo>
                  <a:lnTo>
                    <a:pt x="1598" y="104"/>
                  </a:lnTo>
                  <a:close/>
                  <a:moveTo>
                    <a:pt x="1677" y="104"/>
                  </a:moveTo>
                  <a:lnTo>
                    <a:pt x="1677" y="104"/>
                  </a:lnTo>
                  <a:lnTo>
                    <a:pt x="1677" y="104"/>
                  </a:lnTo>
                  <a:lnTo>
                    <a:pt x="1677" y="104"/>
                  </a:lnTo>
                  <a:lnTo>
                    <a:pt x="1677" y="104"/>
                  </a:lnTo>
                  <a:lnTo>
                    <a:pt x="1672" y="104"/>
                  </a:lnTo>
                  <a:lnTo>
                    <a:pt x="1672" y="104"/>
                  </a:lnTo>
                  <a:lnTo>
                    <a:pt x="1672" y="104"/>
                  </a:lnTo>
                  <a:lnTo>
                    <a:pt x="1672" y="104"/>
                  </a:lnTo>
                  <a:lnTo>
                    <a:pt x="1672" y="104"/>
                  </a:lnTo>
                  <a:lnTo>
                    <a:pt x="1677" y="104"/>
                  </a:lnTo>
                  <a:lnTo>
                    <a:pt x="1677" y="104"/>
                  </a:lnTo>
                  <a:lnTo>
                    <a:pt x="1677" y="104"/>
                  </a:lnTo>
                  <a:lnTo>
                    <a:pt x="1677" y="104"/>
                  </a:lnTo>
                  <a:lnTo>
                    <a:pt x="1677" y="104"/>
                  </a:lnTo>
                  <a:close/>
                  <a:moveTo>
                    <a:pt x="2235" y="1656"/>
                  </a:moveTo>
                  <a:lnTo>
                    <a:pt x="2260" y="1631"/>
                  </a:lnTo>
                  <a:lnTo>
                    <a:pt x="2285" y="1631"/>
                  </a:lnTo>
                  <a:lnTo>
                    <a:pt x="2315" y="1631"/>
                  </a:lnTo>
                  <a:lnTo>
                    <a:pt x="2339" y="1631"/>
                  </a:lnTo>
                  <a:lnTo>
                    <a:pt x="2369" y="1631"/>
                  </a:lnTo>
                  <a:lnTo>
                    <a:pt x="2394" y="1631"/>
                  </a:lnTo>
                  <a:lnTo>
                    <a:pt x="2418" y="1631"/>
                  </a:lnTo>
                  <a:lnTo>
                    <a:pt x="2448" y="1602"/>
                  </a:lnTo>
                  <a:lnTo>
                    <a:pt x="2448" y="1577"/>
                  </a:lnTo>
                  <a:lnTo>
                    <a:pt x="2448" y="1547"/>
                  </a:lnTo>
                  <a:lnTo>
                    <a:pt x="2448" y="1523"/>
                  </a:lnTo>
                  <a:lnTo>
                    <a:pt x="2473" y="1498"/>
                  </a:lnTo>
                  <a:lnTo>
                    <a:pt x="2473" y="1468"/>
                  </a:lnTo>
                  <a:lnTo>
                    <a:pt x="2473" y="1444"/>
                  </a:lnTo>
                  <a:lnTo>
                    <a:pt x="2473" y="1414"/>
                  </a:lnTo>
                  <a:lnTo>
                    <a:pt x="2503" y="1389"/>
                  </a:lnTo>
                  <a:lnTo>
                    <a:pt x="2503" y="1364"/>
                  </a:lnTo>
                  <a:lnTo>
                    <a:pt x="2503" y="1335"/>
                  </a:lnTo>
                  <a:lnTo>
                    <a:pt x="2503" y="1310"/>
                  </a:lnTo>
                  <a:lnTo>
                    <a:pt x="2527" y="1280"/>
                  </a:lnTo>
                  <a:lnTo>
                    <a:pt x="2527" y="1256"/>
                  </a:lnTo>
                  <a:lnTo>
                    <a:pt x="2527" y="1226"/>
                  </a:lnTo>
                  <a:lnTo>
                    <a:pt x="2527" y="1201"/>
                  </a:lnTo>
                  <a:lnTo>
                    <a:pt x="2552" y="1177"/>
                  </a:lnTo>
                  <a:lnTo>
                    <a:pt x="2552" y="1147"/>
                  </a:lnTo>
                  <a:lnTo>
                    <a:pt x="2552" y="1122"/>
                  </a:lnTo>
                  <a:lnTo>
                    <a:pt x="2552" y="1093"/>
                  </a:lnTo>
                  <a:lnTo>
                    <a:pt x="2582" y="1068"/>
                  </a:lnTo>
                  <a:lnTo>
                    <a:pt x="2582" y="1043"/>
                  </a:lnTo>
                  <a:lnTo>
                    <a:pt x="2582" y="1014"/>
                  </a:lnTo>
                  <a:lnTo>
                    <a:pt x="2582" y="989"/>
                  </a:lnTo>
                  <a:lnTo>
                    <a:pt x="2582" y="959"/>
                  </a:lnTo>
                  <a:lnTo>
                    <a:pt x="2582" y="934"/>
                  </a:lnTo>
                  <a:lnTo>
                    <a:pt x="2582" y="910"/>
                  </a:lnTo>
                  <a:lnTo>
                    <a:pt x="2582" y="880"/>
                  </a:lnTo>
                  <a:lnTo>
                    <a:pt x="2582" y="855"/>
                  </a:lnTo>
                  <a:lnTo>
                    <a:pt x="2582" y="826"/>
                  </a:lnTo>
                  <a:lnTo>
                    <a:pt x="2582" y="801"/>
                  </a:lnTo>
                  <a:lnTo>
                    <a:pt x="2582" y="776"/>
                  </a:lnTo>
                  <a:lnTo>
                    <a:pt x="2582" y="747"/>
                  </a:lnTo>
                  <a:lnTo>
                    <a:pt x="2582" y="722"/>
                  </a:lnTo>
                  <a:lnTo>
                    <a:pt x="2582" y="692"/>
                  </a:lnTo>
                  <a:lnTo>
                    <a:pt x="2582" y="668"/>
                  </a:lnTo>
                  <a:lnTo>
                    <a:pt x="2582" y="643"/>
                  </a:lnTo>
                  <a:lnTo>
                    <a:pt x="2582" y="613"/>
                  </a:lnTo>
                  <a:lnTo>
                    <a:pt x="2582" y="589"/>
                  </a:lnTo>
                  <a:lnTo>
                    <a:pt x="2582" y="559"/>
                  </a:lnTo>
                  <a:lnTo>
                    <a:pt x="2582" y="534"/>
                  </a:lnTo>
                  <a:lnTo>
                    <a:pt x="2582" y="504"/>
                  </a:lnTo>
                  <a:lnTo>
                    <a:pt x="2582" y="480"/>
                  </a:lnTo>
                  <a:lnTo>
                    <a:pt x="2582" y="455"/>
                  </a:lnTo>
                  <a:lnTo>
                    <a:pt x="2582" y="425"/>
                  </a:lnTo>
                  <a:lnTo>
                    <a:pt x="2582" y="401"/>
                  </a:lnTo>
                  <a:lnTo>
                    <a:pt x="2582" y="371"/>
                  </a:lnTo>
                  <a:lnTo>
                    <a:pt x="2582" y="346"/>
                  </a:lnTo>
                  <a:lnTo>
                    <a:pt x="2582" y="322"/>
                  </a:lnTo>
                  <a:lnTo>
                    <a:pt x="2582" y="292"/>
                  </a:lnTo>
                  <a:lnTo>
                    <a:pt x="2582" y="267"/>
                  </a:lnTo>
                  <a:lnTo>
                    <a:pt x="2582" y="238"/>
                  </a:lnTo>
                  <a:lnTo>
                    <a:pt x="2552" y="213"/>
                  </a:lnTo>
                  <a:lnTo>
                    <a:pt x="2552" y="188"/>
                  </a:lnTo>
                  <a:lnTo>
                    <a:pt x="2552" y="159"/>
                  </a:lnTo>
                  <a:lnTo>
                    <a:pt x="2552" y="134"/>
                  </a:lnTo>
                  <a:lnTo>
                    <a:pt x="2552" y="104"/>
                  </a:lnTo>
                  <a:lnTo>
                    <a:pt x="2527" y="79"/>
                  </a:lnTo>
                  <a:lnTo>
                    <a:pt x="2503" y="79"/>
                  </a:lnTo>
                  <a:lnTo>
                    <a:pt x="2473" y="79"/>
                  </a:lnTo>
                  <a:lnTo>
                    <a:pt x="2448" y="55"/>
                  </a:lnTo>
                  <a:lnTo>
                    <a:pt x="2418" y="55"/>
                  </a:lnTo>
                  <a:lnTo>
                    <a:pt x="2394" y="55"/>
                  </a:lnTo>
                  <a:lnTo>
                    <a:pt x="2369" y="25"/>
                  </a:lnTo>
                  <a:lnTo>
                    <a:pt x="2339" y="25"/>
                  </a:lnTo>
                  <a:lnTo>
                    <a:pt x="2315" y="25"/>
                  </a:lnTo>
                  <a:lnTo>
                    <a:pt x="2285" y="0"/>
                  </a:lnTo>
                  <a:lnTo>
                    <a:pt x="2260" y="0"/>
                  </a:lnTo>
                  <a:lnTo>
                    <a:pt x="2235" y="0"/>
                  </a:lnTo>
                  <a:lnTo>
                    <a:pt x="2206" y="0"/>
                  </a:lnTo>
                  <a:lnTo>
                    <a:pt x="2181" y="0"/>
                  </a:lnTo>
                  <a:lnTo>
                    <a:pt x="2156" y="0"/>
                  </a:lnTo>
                  <a:lnTo>
                    <a:pt x="2127" y="0"/>
                  </a:lnTo>
                  <a:lnTo>
                    <a:pt x="2102" y="0"/>
                  </a:lnTo>
                  <a:lnTo>
                    <a:pt x="2072" y="0"/>
                  </a:lnTo>
                  <a:lnTo>
                    <a:pt x="2048" y="0"/>
                  </a:lnTo>
                  <a:lnTo>
                    <a:pt x="2023" y="0"/>
                  </a:lnTo>
                  <a:lnTo>
                    <a:pt x="1993" y="0"/>
                  </a:lnTo>
                  <a:lnTo>
                    <a:pt x="1968" y="0"/>
                  </a:lnTo>
                  <a:lnTo>
                    <a:pt x="1944" y="0"/>
                  </a:lnTo>
                  <a:lnTo>
                    <a:pt x="1914" y="0"/>
                  </a:lnTo>
                  <a:lnTo>
                    <a:pt x="1889" y="0"/>
                  </a:lnTo>
                  <a:lnTo>
                    <a:pt x="1860" y="0"/>
                  </a:lnTo>
                  <a:lnTo>
                    <a:pt x="1835" y="0"/>
                  </a:lnTo>
                  <a:lnTo>
                    <a:pt x="1810" y="0"/>
                  </a:lnTo>
                  <a:lnTo>
                    <a:pt x="1780" y="0"/>
                  </a:lnTo>
                  <a:lnTo>
                    <a:pt x="1756" y="0"/>
                  </a:lnTo>
                  <a:lnTo>
                    <a:pt x="1726" y="0"/>
                  </a:lnTo>
                  <a:lnTo>
                    <a:pt x="1701" y="0"/>
                  </a:lnTo>
                  <a:lnTo>
                    <a:pt x="1677" y="0"/>
                  </a:lnTo>
                  <a:lnTo>
                    <a:pt x="1647" y="0"/>
                  </a:lnTo>
                  <a:lnTo>
                    <a:pt x="1622" y="0"/>
                  </a:lnTo>
                  <a:lnTo>
                    <a:pt x="1598" y="0"/>
                  </a:lnTo>
                  <a:lnTo>
                    <a:pt x="1568" y="0"/>
                  </a:lnTo>
                  <a:lnTo>
                    <a:pt x="1543" y="0"/>
                  </a:lnTo>
                  <a:lnTo>
                    <a:pt x="1513" y="0"/>
                  </a:lnTo>
                  <a:lnTo>
                    <a:pt x="1489" y="0"/>
                  </a:lnTo>
                  <a:lnTo>
                    <a:pt x="1464" y="0"/>
                  </a:lnTo>
                  <a:lnTo>
                    <a:pt x="1434" y="0"/>
                  </a:lnTo>
                  <a:lnTo>
                    <a:pt x="1410" y="0"/>
                  </a:lnTo>
                  <a:lnTo>
                    <a:pt x="1385" y="0"/>
                  </a:lnTo>
                  <a:lnTo>
                    <a:pt x="1355" y="0"/>
                  </a:lnTo>
                  <a:lnTo>
                    <a:pt x="1330" y="0"/>
                  </a:lnTo>
                  <a:lnTo>
                    <a:pt x="1301" y="0"/>
                  </a:lnTo>
                  <a:lnTo>
                    <a:pt x="1276" y="0"/>
                  </a:lnTo>
                  <a:lnTo>
                    <a:pt x="1251" y="0"/>
                  </a:lnTo>
                  <a:lnTo>
                    <a:pt x="1222" y="0"/>
                  </a:lnTo>
                  <a:lnTo>
                    <a:pt x="1197" y="0"/>
                  </a:lnTo>
                  <a:lnTo>
                    <a:pt x="1172" y="0"/>
                  </a:lnTo>
                  <a:lnTo>
                    <a:pt x="1143" y="0"/>
                  </a:lnTo>
                  <a:lnTo>
                    <a:pt x="1118" y="0"/>
                  </a:lnTo>
                  <a:lnTo>
                    <a:pt x="1088" y="0"/>
                  </a:lnTo>
                  <a:lnTo>
                    <a:pt x="1063" y="0"/>
                  </a:lnTo>
                  <a:lnTo>
                    <a:pt x="1039" y="0"/>
                  </a:lnTo>
                  <a:lnTo>
                    <a:pt x="1009" y="0"/>
                  </a:lnTo>
                  <a:lnTo>
                    <a:pt x="984" y="0"/>
                  </a:lnTo>
                  <a:lnTo>
                    <a:pt x="955" y="0"/>
                  </a:lnTo>
                  <a:lnTo>
                    <a:pt x="930" y="0"/>
                  </a:lnTo>
                  <a:lnTo>
                    <a:pt x="905" y="0"/>
                  </a:lnTo>
                  <a:lnTo>
                    <a:pt x="875" y="0"/>
                  </a:lnTo>
                  <a:lnTo>
                    <a:pt x="851" y="0"/>
                  </a:lnTo>
                  <a:lnTo>
                    <a:pt x="826" y="0"/>
                  </a:lnTo>
                  <a:lnTo>
                    <a:pt x="796" y="0"/>
                  </a:lnTo>
                  <a:lnTo>
                    <a:pt x="772" y="0"/>
                  </a:lnTo>
                  <a:lnTo>
                    <a:pt x="742" y="0"/>
                  </a:lnTo>
                  <a:lnTo>
                    <a:pt x="717" y="0"/>
                  </a:lnTo>
                  <a:lnTo>
                    <a:pt x="692" y="0"/>
                  </a:lnTo>
                  <a:lnTo>
                    <a:pt x="663" y="0"/>
                  </a:lnTo>
                  <a:lnTo>
                    <a:pt x="638" y="0"/>
                  </a:lnTo>
                  <a:lnTo>
                    <a:pt x="613" y="0"/>
                  </a:lnTo>
                  <a:lnTo>
                    <a:pt x="584" y="25"/>
                  </a:lnTo>
                  <a:lnTo>
                    <a:pt x="559" y="55"/>
                  </a:lnTo>
                  <a:lnTo>
                    <a:pt x="529" y="79"/>
                  </a:lnTo>
                  <a:lnTo>
                    <a:pt x="505" y="104"/>
                  </a:lnTo>
                  <a:lnTo>
                    <a:pt x="480" y="134"/>
                  </a:lnTo>
                  <a:lnTo>
                    <a:pt x="450" y="134"/>
                  </a:lnTo>
                  <a:lnTo>
                    <a:pt x="425" y="159"/>
                  </a:lnTo>
                  <a:lnTo>
                    <a:pt x="396" y="188"/>
                  </a:lnTo>
                  <a:lnTo>
                    <a:pt x="371" y="213"/>
                  </a:lnTo>
                  <a:lnTo>
                    <a:pt x="346" y="238"/>
                  </a:lnTo>
                  <a:lnTo>
                    <a:pt x="317" y="267"/>
                  </a:lnTo>
                  <a:lnTo>
                    <a:pt x="292" y="292"/>
                  </a:lnTo>
                  <a:lnTo>
                    <a:pt x="267" y="322"/>
                  </a:lnTo>
                  <a:lnTo>
                    <a:pt x="237" y="322"/>
                  </a:lnTo>
                  <a:lnTo>
                    <a:pt x="213" y="346"/>
                  </a:lnTo>
                  <a:lnTo>
                    <a:pt x="183" y="371"/>
                  </a:lnTo>
                  <a:lnTo>
                    <a:pt x="158" y="401"/>
                  </a:lnTo>
                  <a:lnTo>
                    <a:pt x="134" y="425"/>
                  </a:lnTo>
                  <a:lnTo>
                    <a:pt x="104" y="455"/>
                  </a:lnTo>
                  <a:lnTo>
                    <a:pt x="79" y="480"/>
                  </a:lnTo>
                  <a:lnTo>
                    <a:pt x="55" y="504"/>
                  </a:lnTo>
                  <a:lnTo>
                    <a:pt x="25" y="504"/>
                  </a:lnTo>
                  <a:lnTo>
                    <a:pt x="0" y="534"/>
                  </a:lnTo>
                  <a:lnTo>
                    <a:pt x="0" y="559"/>
                  </a:lnTo>
                  <a:lnTo>
                    <a:pt x="0" y="589"/>
                  </a:lnTo>
                  <a:lnTo>
                    <a:pt x="0" y="613"/>
                  </a:lnTo>
                  <a:lnTo>
                    <a:pt x="25" y="643"/>
                  </a:lnTo>
                  <a:lnTo>
                    <a:pt x="25" y="668"/>
                  </a:lnTo>
                  <a:lnTo>
                    <a:pt x="55" y="692"/>
                  </a:lnTo>
                  <a:lnTo>
                    <a:pt x="79" y="722"/>
                  </a:lnTo>
                  <a:lnTo>
                    <a:pt x="104" y="747"/>
                  </a:lnTo>
                  <a:lnTo>
                    <a:pt x="134" y="776"/>
                  </a:lnTo>
                  <a:lnTo>
                    <a:pt x="134" y="801"/>
                  </a:lnTo>
                  <a:lnTo>
                    <a:pt x="158" y="826"/>
                  </a:lnTo>
                  <a:lnTo>
                    <a:pt x="183" y="855"/>
                  </a:lnTo>
                  <a:lnTo>
                    <a:pt x="213" y="880"/>
                  </a:lnTo>
                  <a:lnTo>
                    <a:pt x="237" y="910"/>
                  </a:lnTo>
                  <a:lnTo>
                    <a:pt x="267" y="934"/>
                  </a:lnTo>
                  <a:lnTo>
                    <a:pt x="292" y="959"/>
                  </a:lnTo>
                  <a:lnTo>
                    <a:pt x="292" y="989"/>
                  </a:lnTo>
                  <a:lnTo>
                    <a:pt x="317" y="1014"/>
                  </a:lnTo>
                  <a:lnTo>
                    <a:pt x="346" y="1043"/>
                  </a:lnTo>
                  <a:lnTo>
                    <a:pt x="371" y="1068"/>
                  </a:lnTo>
                  <a:lnTo>
                    <a:pt x="396" y="1093"/>
                  </a:lnTo>
                  <a:lnTo>
                    <a:pt x="425" y="1122"/>
                  </a:lnTo>
                  <a:lnTo>
                    <a:pt x="450" y="1147"/>
                  </a:lnTo>
                  <a:lnTo>
                    <a:pt x="480" y="1177"/>
                  </a:lnTo>
                  <a:lnTo>
                    <a:pt x="505" y="1201"/>
                  </a:lnTo>
                  <a:lnTo>
                    <a:pt x="529" y="1226"/>
                  </a:lnTo>
                  <a:lnTo>
                    <a:pt x="559" y="1256"/>
                  </a:lnTo>
                  <a:lnTo>
                    <a:pt x="584" y="1280"/>
                  </a:lnTo>
                  <a:lnTo>
                    <a:pt x="613" y="1310"/>
                  </a:lnTo>
                  <a:lnTo>
                    <a:pt x="638" y="1335"/>
                  </a:lnTo>
                  <a:lnTo>
                    <a:pt x="663" y="1364"/>
                  </a:lnTo>
                  <a:lnTo>
                    <a:pt x="692" y="1389"/>
                  </a:lnTo>
                  <a:lnTo>
                    <a:pt x="717" y="1414"/>
                  </a:lnTo>
                  <a:lnTo>
                    <a:pt x="742" y="1444"/>
                  </a:lnTo>
                  <a:lnTo>
                    <a:pt x="772" y="1468"/>
                  </a:lnTo>
                  <a:lnTo>
                    <a:pt x="796" y="1468"/>
                  </a:lnTo>
                  <a:lnTo>
                    <a:pt x="826" y="1498"/>
                  </a:lnTo>
                  <a:lnTo>
                    <a:pt x="851" y="1523"/>
                  </a:lnTo>
                  <a:lnTo>
                    <a:pt x="875" y="1547"/>
                  </a:lnTo>
                  <a:lnTo>
                    <a:pt x="905" y="1577"/>
                  </a:lnTo>
                  <a:lnTo>
                    <a:pt x="930" y="1602"/>
                  </a:lnTo>
                  <a:lnTo>
                    <a:pt x="955" y="1631"/>
                  </a:lnTo>
                  <a:lnTo>
                    <a:pt x="984" y="1656"/>
                  </a:lnTo>
                  <a:lnTo>
                    <a:pt x="1009" y="1656"/>
                  </a:lnTo>
                  <a:lnTo>
                    <a:pt x="1039" y="1656"/>
                  </a:lnTo>
                  <a:lnTo>
                    <a:pt x="1063" y="1656"/>
                  </a:lnTo>
                  <a:lnTo>
                    <a:pt x="1088" y="1656"/>
                  </a:lnTo>
                  <a:lnTo>
                    <a:pt x="1118" y="1656"/>
                  </a:lnTo>
                  <a:lnTo>
                    <a:pt x="1143" y="1656"/>
                  </a:lnTo>
                  <a:lnTo>
                    <a:pt x="1172" y="1656"/>
                  </a:lnTo>
                  <a:lnTo>
                    <a:pt x="1197" y="1656"/>
                  </a:lnTo>
                  <a:lnTo>
                    <a:pt x="1222" y="1656"/>
                  </a:lnTo>
                  <a:lnTo>
                    <a:pt x="1251" y="1656"/>
                  </a:lnTo>
                  <a:lnTo>
                    <a:pt x="1276" y="1656"/>
                  </a:lnTo>
                  <a:lnTo>
                    <a:pt x="1301" y="1656"/>
                  </a:lnTo>
                  <a:lnTo>
                    <a:pt x="1330" y="1656"/>
                  </a:lnTo>
                  <a:lnTo>
                    <a:pt x="1355" y="1656"/>
                  </a:lnTo>
                  <a:lnTo>
                    <a:pt x="1385" y="1656"/>
                  </a:lnTo>
                  <a:lnTo>
                    <a:pt x="1410" y="1656"/>
                  </a:lnTo>
                  <a:lnTo>
                    <a:pt x="1434" y="1656"/>
                  </a:lnTo>
                  <a:lnTo>
                    <a:pt x="1464" y="1656"/>
                  </a:lnTo>
                  <a:lnTo>
                    <a:pt x="1489" y="1656"/>
                  </a:lnTo>
                  <a:lnTo>
                    <a:pt x="1513" y="1656"/>
                  </a:lnTo>
                  <a:lnTo>
                    <a:pt x="1543" y="1656"/>
                  </a:lnTo>
                  <a:lnTo>
                    <a:pt x="1568" y="1656"/>
                  </a:lnTo>
                  <a:lnTo>
                    <a:pt x="1598" y="1656"/>
                  </a:lnTo>
                  <a:lnTo>
                    <a:pt x="1622" y="1656"/>
                  </a:lnTo>
                  <a:lnTo>
                    <a:pt x="1647" y="1656"/>
                  </a:lnTo>
                  <a:lnTo>
                    <a:pt x="1677" y="1656"/>
                  </a:lnTo>
                  <a:lnTo>
                    <a:pt x="1701" y="1656"/>
                  </a:lnTo>
                  <a:lnTo>
                    <a:pt x="1726" y="1656"/>
                  </a:lnTo>
                  <a:lnTo>
                    <a:pt x="1756" y="1656"/>
                  </a:lnTo>
                  <a:lnTo>
                    <a:pt x="1780" y="1656"/>
                  </a:lnTo>
                  <a:lnTo>
                    <a:pt x="1810" y="1656"/>
                  </a:lnTo>
                  <a:lnTo>
                    <a:pt x="1835" y="1656"/>
                  </a:lnTo>
                  <a:lnTo>
                    <a:pt x="1860" y="1656"/>
                  </a:lnTo>
                  <a:lnTo>
                    <a:pt x="1889" y="1656"/>
                  </a:lnTo>
                  <a:lnTo>
                    <a:pt x="1914" y="1656"/>
                  </a:lnTo>
                  <a:lnTo>
                    <a:pt x="1944" y="1656"/>
                  </a:lnTo>
                  <a:lnTo>
                    <a:pt x="1968" y="1656"/>
                  </a:lnTo>
                  <a:lnTo>
                    <a:pt x="1993" y="1656"/>
                  </a:lnTo>
                  <a:lnTo>
                    <a:pt x="2023" y="1656"/>
                  </a:lnTo>
                  <a:lnTo>
                    <a:pt x="2048" y="1656"/>
                  </a:lnTo>
                  <a:lnTo>
                    <a:pt x="2072" y="1656"/>
                  </a:lnTo>
                  <a:lnTo>
                    <a:pt x="2102" y="1656"/>
                  </a:lnTo>
                  <a:lnTo>
                    <a:pt x="2127" y="1656"/>
                  </a:lnTo>
                  <a:lnTo>
                    <a:pt x="2156" y="1656"/>
                  </a:lnTo>
                  <a:lnTo>
                    <a:pt x="2181" y="1656"/>
                  </a:lnTo>
                  <a:lnTo>
                    <a:pt x="2206" y="1656"/>
                  </a:lnTo>
                  <a:lnTo>
                    <a:pt x="2235" y="1656"/>
                  </a:lnTo>
                  <a:close/>
                  <a:moveTo>
                    <a:pt x="1009" y="613"/>
                  </a:moveTo>
                  <a:lnTo>
                    <a:pt x="1009" y="608"/>
                  </a:lnTo>
                  <a:lnTo>
                    <a:pt x="1009" y="603"/>
                  </a:lnTo>
                  <a:lnTo>
                    <a:pt x="1009" y="593"/>
                  </a:lnTo>
                  <a:lnTo>
                    <a:pt x="1009" y="589"/>
                  </a:lnTo>
                  <a:lnTo>
                    <a:pt x="1009" y="584"/>
                  </a:lnTo>
                  <a:lnTo>
                    <a:pt x="1004" y="579"/>
                  </a:lnTo>
                  <a:lnTo>
                    <a:pt x="1004" y="574"/>
                  </a:lnTo>
                  <a:lnTo>
                    <a:pt x="1004" y="564"/>
                  </a:lnTo>
                  <a:lnTo>
                    <a:pt x="1004" y="559"/>
                  </a:lnTo>
                  <a:lnTo>
                    <a:pt x="1009" y="554"/>
                  </a:lnTo>
                  <a:lnTo>
                    <a:pt x="1014" y="549"/>
                  </a:lnTo>
                  <a:lnTo>
                    <a:pt x="1019" y="544"/>
                  </a:lnTo>
                  <a:lnTo>
                    <a:pt x="1024" y="539"/>
                  </a:lnTo>
                  <a:lnTo>
                    <a:pt x="1029" y="534"/>
                  </a:lnTo>
                  <a:lnTo>
                    <a:pt x="1029" y="524"/>
                  </a:lnTo>
                  <a:lnTo>
                    <a:pt x="1034" y="519"/>
                  </a:lnTo>
                  <a:lnTo>
                    <a:pt x="1034" y="514"/>
                  </a:lnTo>
                  <a:lnTo>
                    <a:pt x="1039" y="509"/>
                  </a:lnTo>
                  <a:lnTo>
                    <a:pt x="1039" y="514"/>
                  </a:lnTo>
                  <a:lnTo>
                    <a:pt x="1039" y="519"/>
                  </a:lnTo>
                  <a:lnTo>
                    <a:pt x="1044" y="529"/>
                  </a:lnTo>
                  <a:lnTo>
                    <a:pt x="1044" y="539"/>
                  </a:lnTo>
                  <a:lnTo>
                    <a:pt x="1044" y="544"/>
                  </a:lnTo>
                  <a:lnTo>
                    <a:pt x="1044" y="549"/>
                  </a:lnTo>
                  <a:lnTo>
                    <a:pt x="1039" y="554"/>
                  </a:lnTo>
                  <a:lnTo>
                    <a:pt x="1039" y="559"/>
                  </a:lnTo>
                  <a:lnTo>
                    <a:pt x="1039" y="564"/>
                  </a:lnTo>
                  <a:lnTo>
                    <a:pt x="1039" y="574"/>
                  </a:lnTo>
                  <a:lnTo>
                    <a:pt x="1039" y="579"/>
                  </a:lnTo>
                  <a:lnTo>
                    <a:pt x="1039" y="584"/>
                  </a:lnTo>
                  <a:lnTo>
                    <a:pt x="1039" y="589"/>
                  </a:lnTo>
                  <a:lnTo>
                    <a:pt x="1039" y="598"/>
                  </a:lnTo>
                  <a:lnTo>
                    <a:pt x="1034" y="603"/>
                  </a:lnTo>
                  <a:lnTo>
                    <a:pt x="1029" y="603"/>
                  </a:lnTo>
                  <a:lnTo>
                    <a:pt x="1019" y="608"/>
                  </a:lnTo>
                  <a:lnTo>
                    <a:pt x="1014" y="618"/>
                  </a:lnTo>
                  <a:lnTo>
                    <a:pt x="1009" y="618"/>
                  </a:lnTo>
                  <a:lnTo>
                    <a:pt x="1009" y="613"/>
                  </a:lnTo>
                  <a:close/>
                  <a:moveTo>
                    <a:pt x="1088" y="613"/>
                  </a:moveTo>
                  <a:lnTo>
                    <a:pt x="1083" y="608"/>
                  </a:lnTo>
                  <a:lnTo>
                    <a:pt x="1083" y="603"/>
                  </a:lnTo>
                  <a:lnTo>
                    <a:pt x="1083" y="593"/>
                  </a:lnTo>
                  <a:lnTo>
                    <a:pt x="1083" y="589"/>
                  </a:lnTo>
                  <a:lnTo>
                    <a:pt x="1083" y="584"/>
                  </a:lnTo>
                  <a:lnTo>
                    <a:pt x="1083" y="579"/>
                  </a:lnTo>
                  <a:lnTo>
                    <a:pt x="1083" y="569"/>
                  </a:lnTo>
                  <a:lnTo>
                    <a:pt x="1083" y="564"/>
                  </a:lnTo>
                  <a:lnTo>
                    <a:pt x="1088" y="559"/>
                  </a:lnTo>
                  <a:lnTo>
                    <a:pt x="1093" y="554"/>
                  </a:lnTo>
                  <a:lnTo>
                    <a:pt x="1098" y="549"/>
                  </a:lnTo>
                  <a:lnTo>
                    <a:pt x="1108" y="544"/>
                  </a:lnTo>
                  <a:lnTo>
                    <a:pt x="1113" y="539"/>
                  </a:lnTo>
                  <a:lnTo>
                    <a:pt x="1113" y="534"/>
                  </a:lnTo>
                  <a:lnTo>
                    <a:pt x="1113" y="524"/>
                  </a:lnTo>
                  <a:lnTo>
                    <a:pt x="1108" y="519"/>
                  </a:lnTo>
                  <a:lnTo>
                    <a:pt x="1108" y="514"/>
                  </a:lnTo>
                  <a:lnTo>
                    <a:pt x="1108" y="509"/>
                  </a:lnTo>
                  <a:lnTo>
                    <a:pt x="1108" y="504"/>
                  </a:lnTo>
                  <a:lnTo>
                    <a:pt x="1118" y="495"/>
                  </a:lnTo>
                  <a:lnTo>
                    <a:pt x="1123" y="495"/>
                  </a:lnTo>
                  <a:lnTo>
                    <a:pt x="1133" y="490"/>
                  </a:lnTo>
                  <a:lnTo>
                    <a:pt x="1138" y="485"/>
                  </a:lnTo>
                  <a:lnTo>
                    <a:pt x="1143" y="480"/>
                  </a:lnTo>
                  <a:lnTo>
                    <a:pt x="1143" y="475"/>
                  </a:lnTo>
                  <a:lnTo>
                    <a:pt x="1138" y="470"/>
                  </a:lnTo>
                  <a:lnTo>
                    <a:pt x="1133" y="460"/>
                  </a:lnTo>
                  <a:lnTo>
                    <a:pt x="1133" y="455"/>
                  </a:lnTo>
                  <a:lnTo>
                    <a:pt x="1138" y="450"/>
                  </a:lnTo>
                  <a:lnTo>
                    <a:pt x="1143" y="445"/>
                  </a:lnTo>
                  <a:lnTo>
                    <a:pt x="1147" y="445"/>
                  </a:lnTo>
                  <a:lnTo>
                    <a:pt x="1152" y="450"/>
                  </a:lnTo>
                  <a:lnTo>
                    <a:pt x="1157" y="455"/>
                  </a:lnTo>
                  <a:lnTo>
                    <a:pt x="1157" y="465"/>
                  </a:lnTo>
                  <a:lnTo>
                    <a:pt x="1152" y="470"/>
                  </a:lnTo>
                  <a:lnTo>
                    <a:pt x="1147" y="475"/>
                  </a:lnTo>
                  <a:lnTo>
                    <a:pt x="1143" y="480"/>
                  </a:lnTo>
                  <a:lnTo>
                    <a:pt x="1143" y="485"/>
                  </a:lnTo>
                  <a:lnTo>
                    <a:pt x="1138" y="495"/>
                  </a:lnTo>
                  <a:lnTo>
                    <a:pt x="1138" y="500"/>
                  </a:lnTo>
                  <a:lnTo>
                    <a:pt x="1133" y="504"/>
                  </a:lnTo>
                  <a:lnTo>
                    <a:pt x="1133" y="509"/>
                  </a:lnTo>
                  <a:lnTo>
                    <a:pt x="1128" y="514"/>
                  </a:lnTo>
                  <a:lnTo>
                    <a:pt x="1128" y="524"/>
                  </a:lnTo>
                  <a:lnTo>
                    <a:pt x="1123" y="529"/>
                  </a:lnTo>
                  <a:lnTo>
                    <a:pt x="1123" y="534"/>
                  </a:lnTo>
                  <a:lnTo>
                    <a:pt x="1118" y="539"/>
                  </a:lnTo>
                  <a:lnTo>
                    <a:pt x="1113" y="544"/>
                  </a:lnTo>
                  <a:lnTo>
                    <a:pt x="1108" y="549"/>
                  </a:lnTo>
                  <a:lnTo>
                    <a:pt x="1103" y="554"/>
                  </a:lnTo>
                  <a:lnTo>
                    <a:pt x="1098" y="564"/>
                  </a:lnTo>
                  <a:lnTo>
                    <a:pt x="1098" y="569"/>
                  </a:lnTo>
                  <a:lnTo>
                    <a:pt x="1098" y="574"/>
                  </a:lnTo>
                  <a:lnTo>
                    <a:pt x="1103" y="579"/>
                  </a:lnTo>
                  <a:lnTo>
                    <a:pt x="1103" y="589"/>
                  </a:lnTo>
                  <a:lnTo>
                    <a:pt x="1103" y="593"/>
                  </a:lnTo>
                  <a:lnTo>
                    <a:pt x="1103" y="598"/>
                  </a:lnTo>
                  <a:lnTo>
                    <a:pt x="1098" y="603"/>
                  </a:lnTo>
                  <a:lnTo>
                    <a:pt x="1098" y="608"/>
                  </a:lnTo>
                  <a:lnTo>
                    <a:pt x="1093" y="618"/>
                  </a:lnTo>
                  <a:lnTo>
                    <a:pt x="1088" y="623"/>
                  </a:lnTo>
                  <a:lnTo>
                    <a:pt x="1088" y="613"/>
                  </a:lnTo>
                  <a:close/>
                  <a:moveTo>
                    <a:pt x="1058" y="455"/>
                  </a:moveTo>
                  <a:lnTo>
                    <a:pt x="1058" y="445"/>
                  </a:lnTo>
                  <a:lnTo>
                    <a:pt x="1063" y="445"/>
                  </a:lnTo>
                  <a:lnTo>
                    <a:pt x="1068" y="445"/>
                  </a:lnTo>
                  <a:lnTo>
                    <a:pt x="1073" y="450"/>
                  </a:lnTo>
                  <a:lnTo>
                    <a:pt x="1073" y="460"/>
                  </a:lnTo>
                  <a:lnTo>
                    <a:pt x="1073" y="465"/>
                  </a:lnTo>
                  <a:lnTo>
                    <a:pt x="1068" y="470"/>
                  </a:lnTo>
                  <a:lnTo>
                    <a:pt x="1068" y="475"/>
                  </a:lnTo>
                  <a:lnTo>
                    <a:pt x="1063" y="480"/>
                  </a:lnTo>
                  <a:lnTo>
                    <a:pt x="1063" y="480"/>
                  </a:lnTo>
                  <a:lnTo>
                    <a:pt x="1058" y="475"/>
                  </a:lnTo>
                  <a:lnTo>
                    <a:pt x="1058" y="470"/>
                  </a:lnTo>
                  <a:lnTo>
                    <a:pt x="1058" y="465"/>
                  </a:lnTo>
                  <a:lnTo>
                    <a:pt x="1058" y="455"/>
                  </a:lnTo>
                  <a:close/>
                  <a:moveTo>
                    <a:pt x="1162" y="401"/>
                  </a:moveTo>
                  <a:lnTo>
                    <a:pt x="1162" y="391"/>
                  </a:lnTo>
                  <a:lnTo>
                    <a:pt x="1167" y="386"/>
                  </a:lnTo>
                  <a:lnTo>
                    <a:pt x="1172" y="386"/>
                  </a:lnTo>
                  <a:lnTo>
                    <a:pt x="1177" y="391"/>
                  </a:lnTo>
                  <a:lnTo>
                    <a:pt x="1182" y="401"/>
                  </a:lnTo>
                  <a:lnTo>
                    <a:pt x="1182" y="406"/>
                  </a:lnTo>
                  <a:lnTo>
                    <a:pt x="1177" y="416"/>
                  </a:lnTo>
                  <a:lnTo>
                    <a:pt x="1177" y="420"/>
                  </a:lnTo>
                  <a:lnTo>
                    <a:pt x="1172" y="425"/>
                  </a:lnTo>
                  <a:lnTo>
                    <a:pt x="1167" y="425"/>
                  </a:lnTo>
                  <a:lnTo>
                    <a:pt x="1167" y="425"/>
                  </a:lnTo>
                  <a:lnTo>
                    <a:pt x="1162" y="420"/>
                  </a:lnTo>
                  <a:lnTo>
                    <a:pt x="1162" y="411"/>
                  </a:lnTo>
                  <a:lnTo>
                    <a:pt x="1162" y="401"/>
                  </a:lnTo>
                  <a:close/>
                  <a:moveTo>
                    <a:pt x="1053" y="371"/>
                  </a:moveTo>
                  <a:lnTo>
                    <a:pt x="1049" y="371"/>
                  </a:lnTo>
                  <a:lnTo>
                    <a:pt x="1044" y="366"/>
                  </a:lnTo>
                  <a:lnTo>
                    <a:pt x="1039" y="361"/>
                  </a:lnTo>
                  <a:lnTo>
                    <a:pt x="1039" y="356"/>
                  </a:lnTo>
                  <a:lnTo>
                    <a:pt x="1034" y="351"/>
                  </a:lnTo>
                  <a:lnTo>
                    <a:pt x="1029" y="346"/>
                  </a:lnTo>
                  <a:lnTo>
                    <a:pt x="1029" y="341"/>
                  </a:lnTo>
                  <a:lnTo>
                    <a:pt x="1024" y="336"/>
                  </a:lnTo>
                  <a:lnTo>
                    <a:pt x="1024" y="331"/>
                  </a:lnTo>
                  <a:lnTo>
                    <a:pt x="1019" y="327"/>
                  </a:lnTo>
                  <a:lnTo>
                    <a:pt x="1014" y="322"/>
                  </a:lnTo>
                  <a:lnTo>
                    <a:pt x="1014" y="317"/>
                  </a:lnTo>
                  <a:lnTo>
                    <a:pt x="1009" y="312"/>
                  </a:lnTo>
                  <a:lnTo>
                    <a:pt x="1009" y="307"/>
                  </a:lnTo>
                  <a:lnTo>
                    <a:pt x="1004" y="302"/>
                  </a:lnTo>
                  <a:lnTo>
                    <a:pt x="1004" y="297"/>
                  </a:lnTo>
                  <a:lnTo>
                    <a:pt x="1009" y="292"/>
                  </a:lnTo>
                  <a:lnTo>
                    <a:pt x="1019" y="287"/>
                  </a:lnTo>
                  <a:lnTo>
                    <a:pt x="1029" y="287"/>
                  </a:lnTo>
                  <a:lnTo>
                    <a:pt x="1034" y="287"/>
                  </a:lnTo>
                  <a:lnTo>
                    <a:pt x="1039" y="282"/>
                  </a:lnTo>
                  <a:lnTo>
                    <a:pt x="1044" y="277"/>
                  </a:lnTo>
                  <a:lnTo>
                    <a:pt x="1049" y="272"/>
                  </a:lnTo>
                  <a:lnTo>
                    <a:pt x="1053" y="267"/>
                  </a:lnTo>
                  <a:lnTo>
                    <a:pt x="1058" y="267"/>
                  </a:lnTo>
                  <a:lnTo>
                    <a:pt x="1063" y="262"/>
                  </a:lnTo>
                  <a:lnTo>
                    <a:pt x="1068" y="257"/>
                  </a:lnTo>
                  <a:lnTo>
                    <a:pt x="1078" y="257"/>
                  </a:lnTo>
                  <a:lnTo>
                    <a:pt x="1083" y="257"/>
                  </a:lnTo>
                  <a:lnTo>
                    <a:pt x="1093" y="252"/>
                  </a:lnTo>
                  <a:lnTo>
                    <a:pt x="1098" y="252"/>
                  </a:lnTo>
                  <a:lnTo>
                    <a:pt x="1108" y="247"/>
                  </a:lnTo>
                  <a:lnTo>
                    <a:pt x="1113" y="243"/>
                  </a:lnTo>
                  <a:lnTo>
                    <a:pt x="1113" y="238"/>
                  </a:lnTo>
                  <a:lnTo>
                    <a:pt x="1118" y="233"/>
                  </a:lnTo>
                  <a:lnTo>
                    <a:pt x="1118" y="228"/>
                  </a:lnTo>
                  <a:lnTo>
                    <a:pt x="1118" y="223"/>
                  </a:lnTo>
                  <a:lnTo>
                    <a:pt x="1118" y="218"/>
                  </a:lnTo>
                  <a:lnTo>
                    <a:pt x="1118" y="213"/>
                  </a:lnTo>
                  <a:lnTo>
                    <a:pt x="1123" y="208"/>
                  </a:lnTo>
                  <a:lnTo>
                    <a:pt x="1128" y="203"/>
                  </a:lnTo>
                  <a:lnTo>
                    <a:pt x="1138" y="198"/>
                  </a:lnTo>
                  <a:lnTo>
                    <a:pt x="1143" y="198"/>
                  </a:lnTo>
                  <a:lnTo>
                    <a:pt x="1152" y="203"/>
                  </a:lnTo>
                  <a:lnTo>
                    <a:pt x="1157" y="203"/>
                  </a:lnTo>
                  <a:lnTo>
                    <a:pt x="1162" y="213"/>
                  </a:lnTo>
                  <a:lnTo>
                    <a:pt x="1167" y="218"/>
                  </a:lnTo>
                  <a:lnTo>
                    <a:pt x="1172" y="223"/>
                  </a:lnTo>
                  <a:lnTo>
                    <a:pt x="1177" y="218"/>
                  </a:lnTo>
                  <a:lnTo>
                    <a:pt x="1182" y="213"/>
                  </a:lnTo>
                  <a:lnTo>
                    <a:pt x="1182" y="208"/>
                  </a:lnTo>
                  <a:lnTo>
                    <a:pt x="1182" y="198"/>
                  </a:lnTo>
                  <a:lnTo>
                    <a:pt x="1177" y="193"/>
                  </a:lnTo>
                  <a:lnTo>
                    <a:pt x="1177" y="188"/>
                  </a:lnTo>
                  <a:lnTo>
                    <a:pt x="1177" y="183"/>
                  </a:lnTo>
                  <a:lnTo>
                    <a:pt x="1177" y="183"/>
                  </a:lnTo>
                  <a:lnTo>
                    <a:pt x="1182" y="178"/>
                  </a:lnTo>
                  <a:lnTo>
                    <a:pt x="1187" y="173"/>
                  </a:lnTo>
                  <a:lnTo>
                    <a:pt x="1197" y="168"/>
                  </a:lnTo>
                  <a:lnTo>
                    <a:pt x="1202" y="163"/>
                  </a:lnTo>
                  <a:lnTo>
                    <a:pt x="1212" y="163"/>
                  </a:lnTo>
                  <a:lnTo>
                    <a:pt x="1217" y="159"/>
                  </a:lnTo>
                  <a:lnTo>
                    <a:pt x="1227" y="163"/>
                  </a:lnTo>
                  <a:lnTo>
                    <a:pt x="1232" y="168"/>
                  </a:lnTo>
                  <a:lnTo>
                    <a:pt x="1241" y="173"/>
                  </a:lnTo>
                  <a:lnTo>
                    <a:pt x="1246" y="173"/>
                  </a:lnTo>
                  <a:lnTo>
                    <a:pt x="1251" y="173"/>
                  </a:lnTo>
                  <a:lnTo>
                    <a:pt x="1251" y="168"/>
                  </a:lnTo>
                  <a:lnTo>
                    <a:pt x="1251" y="163"/>
                  </a:lnTo>
                  <a:lnTo>
                    <a:pt x="1251" y="159"/>
                  </a:lnTo>
                  <a:lnTo>
                    <a:pt x="1256" y="154"/>
                  </a:lnTo>
                  <a:lnTo>
                    <a:pt x="1261" y="149"/>
                  </a:lnTo>
                  <a:lnTo>
                    <a:pt x="1271" y="149"/>
                  </a:lnTo>
                  <a:lnTo>
                    <a:pt x="1276" y="144"/>
                  </a:lnTo>
                  <a:lnTo>
                    <a:pt x="1286" y="144"/>
                  </a:lnTo>
                  <a:lnTo>
                    <a:pt x="1291" y="139"/>
                  </a:lnTo>
                  <a:lnTo>
                    <a:pt x="1296" y="134"/>
                  </a:lnTo>
                  <a:lnTo>
                    <a:pt x="1301" y="134"/>
                  </a:lnTo>
                  <a:lnTo>
                    <a:pt x="1311" y="129"/>
                  </a:lnTo>
                  <a:lnTo>
                    <a:pt x="1316" y="129"/>
                  </a:lnTo>
                  <a:lnTo>
                    <a:pt x="1326" y="129"/>
                  </a:lnTo>
                  <a:lnTo>
                    <a:pt x="1335" y="124"/>
                  </a:lnTo>
                  <a:lnTo>
                    <a:pt x="1340" y="124"/>
                  </a:lnTo>
                  <a:lnTo>
                    <a:pt x="1350" y="124"/>
                  </a:lnTo>
                  <a:lnTo>
                    <a:pt x="1355" y="119"/>
                  </a:lnTo>
                  <a:lnTo>
                    <a:pt x="1365" y="114"/>
                  </a:lnTo>
                  <a:lnTo>
                    <a:pt x="1370" y="114"/>
                  </a:lnTo>
                  <a:lnTo>
                    <a:pt x="1375" y="109"/>
                  </a:lnTo>
                  <a:lnTo>
                    <a:pt x="1385" y="109"/>
                  </a:lnTo>
                  <a:lnTo>
                    <a:pt x="1390" y="104"/>
                  </a:lnTo>
                  <a:lnTo>
                    <a:pt x="1400" y="104"/>
                  </a:lnTo>
                  <a:lnTo>
                    <a:pt x="1405" y="99"/>
                  </a:lnTo>
                  <a:lnTo>
                    <a:pt x="1410" y="94"/>
                  </a:lnTo>
                  <a:lnTo>
                    <a:pt x="1415" y="94"/>
                  </a:lnTo>
                  <a:lnTo>
                    <a:pt x="1424" y="94"/>
                  </a:lnTo>
                  <a:lnTo>
                    <a:pt x="1429" y="94"/>
                  </a:lnTo>
                  <a:lnTo>
                    <a:pt x="1439" y="94"/>
                  </a:lnTo>
                  <a:lnTo>
                    <a:pt x="1444" y="89"/>
                  </a:lnTo>
                  <a:lnTo>
                    <a:pt x="1454" y="84"/>
                  </a:lnTo>
                  <a:lnTo>
                    <a:pt x="1459" y="84"/>
                  </a:lnTo>
                  <a:lnTo>
                    <a:pt x="1469" y="79"/>
                  </a:lnTo>
                  <a:lnTo>
                    <a:pt x="1474" y="79"/>
                  </a:lnTo>
                  <a:lnTo>
                    <a:pt x="1479" y="79"/>
                  </a:lnTo>
                  <a:lnTo>
                    <a:pt x="1484" y="74"/>
                  </a:lnTo>
                  <a:lnTo>
                    <a:pt x="1489" y="70"/>
                  </a:lnTo>
                  <a:lnTo>
                    <a:pt x="1499" y="65"/>
                  </a:lnTo>
                  <a:lnTo>
                    <a:pt x="1504" y="65"/>
                  </a:lnTo>
                  <a:lnTo>
                    <a:pt x="1513" y="65"/>
                  </a:lnTo>
                  <a:lnTo>
                    <a:pt x="1523" y="60"/>
                  </a:lnTo>
                  <a:lnTo>
                    <a:pt x="1528" y="60"/>
                  </a:lnTo>
                  <a:lnTo>
                    <a:pt x="1533" y="55"/>
                  </a:lnTo>
                  <a:lnTo>
                    <a:pt x="1543" y="55"/>
                  </a:lnTo>
                  <a:lnTo>
                    <a:pt x="1553" y="55"/>
                  </a:lnTo>
                  <a:lnTo>
                    <a:pt x="1558" y="55"/>
                  </a:lnTo>
                  <a:lnTo>
                    <a:pt x="1568" y="55"/>
                  </a:lnTo>
                  <a:lnTo>
                    <a:pt x="1573" y="50"/>
                  </a:lnTo>
                  <a:lnTo>
                    <a:pt x="1578" y="45"/>
                  </a:lnTo>
                  <a:lnTo>
                    <a:pt x="1583" y="40"/>
                  </a:lnTo>
                  <a:lnTo>
                    <a:pt x="1588" y="40"/>
                  </a:lnTo>
                  <a:lnTo>
                    <a:pt x="1598" y="35"/>
                  </a:lnTo>
                  <a:lnTo>
                    <a:pt x="1602" y="30"/>
                  </a:lnTo>
                  <a:lnTo>
                    <a:pt x="1612" y="30"/>
                  </a:lnTo>
                  <a:lnTo>
                    <a:pt x="1617" y="30"/>
                  </a:lnTo>
                  <a:lnTo>
                    <a:pt x="1627" y="30"/>
                  </a:lnTo>
                  <a:lnTo>
                    <a:pt x="1637" y="25"/>
                  </a:lnTo>
                  <a:lnTo>
                    <a:pt x="1642" y="25"/>
                  </a:lnTo>
                  <a:lnTo>
                    <a:pt x="1652" y="25"/>
                  </a:lnTo>
                  <a:lnTo>
                    <a:pt x="1662" y="30"/>
                  </a:lnTo>
                  <a:lnTo>
                    <a:pt x="1667" y="30"/>
                  </a:lnTo>
                  <a:lnTo>
                    <a:pt x="1677" y="30"/>
                  </a:lnTo>
                  <a:lnTo>
                    <a:pt x="1682" y="30"/>
                  </a:lnTo>
                  <a:lnTo>
                    <a:pt x="1691" y="35"/>
                  </a:lnTo>
                  <a:lnTo>
                    <a:pt x="1696" y="35"/>
                  </a:lnTo>
                  <a:lnTo>
                    <a:pt x="1706" y="40"/>
                  </a:lnTo>
                  <a:lnTo>
                    <a:pt x="1711" y="45"/>
                  </a:lnTo>
                  <a:lnTo>
                    <a:pt x="1716" y="50"/>
                  </a:lnTo>
                  <a:lnTo>
                    <a:pt x="1721" y="50"/>
                  </a:lnTo>
                  <a:lnTo>
                    <a:pt x="1731" y="55"/>
                  </a:lnTo>
                  <a:lnTo>
                    <a:pt x="1736" y="55"/>
                  </a:lnTo>
                  <a:lnTo>
                    <a:pt x="1746" y="55"/>
                  </a:lnTo>
                  <a:lnTo>
                    <a:pt x="1751" y="55"/>
                  </a:lnTo>
                  <a:lnTo>
                    <a:pt x="1761" y="55"/>
                  </a:lnTo>
                  <a:lnTo>
                    <a:pt x="1771" y="55"/>
                  </a:lnTo>
                  <a:lnTo>
                    <a:pt x="1776" y="55"/>
                  </a:lnTo>
                  <a:lnTo>
                    <a:pt x="1785" y="55"/>
                  </a:lnTo>
                  <a:lnTo>
                    <a:pt x="1790" y="60"/>
                  </a:lnTo>
                  <a:lnTo>
                    <a:pt x="1800" y="60"/>
                  </a:lnTo>
                  <a:lnTo>
                    <a:pt x="1805" y="65"/>
                  </a:lnTo>
                  <a:lnTo>
                    <a:pt x="1810" y="70"/>
                  </a:lnTo>
                  <a:lnTo>
                    <a:pt x="1815" y="74"/>
                  </a:lnTo>
                  <a:lnTo>
                    <a:pt x="1820" y="79"/>
                  </a:lnTo>
                  <a:lnTo>
                    <a:pt x="1830" y="79"/>
                  </a:lnTo>
                  <a:lnTo>
                    <a:pt x="1835" y="79"/>
                  </a:lnTo>
                  <a:lnTo>
                    <a:pt x="1845" y="79"/>
                  </a:lnTo>
                  <a:lnTo>
                    <a:pt x="1855" y="79"/>
                  </a:lnTo>
                  <a:lnTo>
                    <a:pt x="1860" y="79"/>
                  </a:lnTo>
                  <a:lnTo>
                    <a:pt x="1870" y="79"/>
                  </a:lnTo>
                  <a:lnTo>
                    <a:pt x="1879" y="84"/>
                  </a:lnTo>
                  <a:lnTo>
                    <a:pt x="1884" y="84"/>
                  </a:lnTo>
                  <a:lnTo>
                    <a:pt x="1894" y="84"/>
                  </a:lnTo>
                  <a:lnTo>
                    <a:pt x="1899" y="89"/>
                  </a:lnTo>
                  <a:lnTo>
                    <a:pt x="1904" y="89"/>
                  </a:lnTo>
                  <a:lnTo>
                    <a:pt x="1909" y="94"/>
                  </a:lnTo>
                  <a:lnTo>
                    <a:pt x="1914" y="99"/>
                  </a:lnTo>
                  <a:lnTo>
                    <a:pt x="1919" y="104"/>
                  </a:lnTo>
                  <a:lnTo>
                    <a:pt x="1924" y="109"/>
                  </a:lnTo>
                  <a:lnTo>
                    <a:pt x="1934" y="109"/>
                  </a:lnTo>
                  <a:lnTo>
                    <a:pt x="1944" y="109"/>
                  </a:lnTo>
                  <a:lnTo>
                    <a:pt x="1949" y="109"/>
                  </a:lnTo>
                  <a:lnTo>
                    <a:pt x="1959" y="109"/>
                  </a:lnTo>
                  <a:lnTo>
                    <a:pt x="1968" y="109"/>
                  </a:lnTo>
                  <a:lnTo>
                    <a:pt x="1973" y="109"/>
                  </a:lnTo>
                  <a:lnTo>
                    <a:pt x="1983" y="109"/>
                  </a:lnTo>
                  <a:lnTo>
                    <a:pt x="1993" y="109"/>
                  </a:lnTo>
                  <a:lnTo>
                    <a:pt x="1998" y="114"/>
                  </a:lnTo>
                  <a:lnTo>
                    <a:pt x="2003" y="114"/>
                  </a:lnTo>
                  <a:lnTo>
                    <a:pt x="2008" y="119"/>
                  </a:lnTo>
                  <a:lnTo>
                    <a:pt x="2013" y="124"/>
                  </a:lnTo>
                  <a:lnTo>
                    <a:pt x="2018" y="129"/>
                  </a:lnTo>
                  <a:lnTo>
                    <a:pt x="2023" y="134"/>
                  </a:lnTo>
                  <a:lnTo>
                    <a:pt x="2028" y="139"/>
                  </a:lnTo>
                  <a:lnTo>
                    <a:pt x="2033" y="139"/>
                  </a:lnTo>
                  <a:lnTo>
                    <a:pt x="2043" y="139"/>
                  </a:lnTo>
                  <a:lnTo>
                    <a:pt x="2052" y="139"/>
                  </a:lnTo>
                  <a:lnTo>
                    <a:pt x="2062" y="139"/>
                  </a:lnTo>
                  <a:lnTo>
                    <a:pt x="2067" y="139"/>
                  </a:lnTo>
                  <a:lnTo>
                    <a:pt x="2077" y="139"/>
                  </a:lnTo>
                  <a:lnTo>
                    <a:pt x="2087" y="139"/>
                  </a:lnTo>
                  <a:lnTo>
                    <a:pt x="2092" y="144"/>
                  </a:lnTo>
                  <a:lnTo>
                    <a:pt x="2102" y="144"/>
                  </a:lnTo>
                  <a:lnTo>
                    <a:pt x="2107" y="144"/>
                  </a:lnTo>
                  <a:lnTo>
                    <a:pt x="2112" y="149"/>
                  </a:lnTo>
                  <a:lnTo>
                    <a:pt x="2117" y="154"/>
                  </a:lnTo>
                  <a:lnTo>
                    <a:pt x="2117" y="159"/>
                  </a:lnTo>
                  <a:lnTo>
                    <a:pt x="2122" y="163"/>
                  </a:lnTo>
                  <a:lnTo>
                    <a:pt x="2122" y="173"/>
                  </a:lnTo>
                  <a:lnTo>
                    <a:pt x="2127" y="173"/>
                  </a:lnTo>
                  <a:lnTo>
                    <a:pt x="2132" y="178"/>
                  </a:lnTo>
                  <a:lnTo>
                    <a:pt x="2137" y="183"/>
                  </a:lnTo>
                  <a:lnTo>
                    <a:pt x="2142" y="188"/>
                  </a:lnTo>
                  <a:lnTo>
                    <a:pt x="2146" y="188"/>
                  </a:lnTo>
                  <a:lnTo>
                    <a:pt x="2142" y="193"/>
                  </a:lnTo>
                  <a:lnTo>
                    <a:pt x="2137" y="198"/>
                  </a:lnTo>
                  <a:lnTo>
                    <a:pt x="2132" y="208"/>
                  </a:lnTo>
                  <a:lnTo>
                    <a:pt x="2127" y="213"/>
                  </a:lnTo>
                  <a:lnTo>
                    <a:pt x="2127" y="218"/>
                  </a:lnTo>
                  <a:lnTo>
                    <a:pt x="2122" y="223"/>
                  </a:lnTo>
                  <a:lnTo>
                    <a:pt x="2117" y="228"/>
                  </a:lnTo>
                  <a:lnTo>
                    <a:pt x="2117" y="228"/>
                  </a:lnTo>
                  <a:lnTo>
                    <a:pt x="2112" y="233"/>
                  </a:lnTo>
                  <a:lnTo>
                    <a:pt x="2112" y="238"/>
                  </a:lnTo>
                  <a:lnTo>
                    <a:pt x="2107" y="243"/>
                  </a:lnTo>
                  <a:lnTo>
                    <a:pt x="2102" y="247"/>
                  </a:lnTo>
                  <a:lnTo>
                    <a:pt x="2102" y="252"/>
                  </a:lnTo>
                  <a:lnTo>
                    <a:pt x="2097" y="257"/>
                  </a:lnTo>
                  <a:lnTo>
                    <a:pt x="2092" y="262"/>
                  </a:lnTo>
                  <a:lnTo>
                    <a:pt x="2092" y="267"/>
                  </a:lnTo>
                  <a:lnTo>
                    <a:pt x="2087" y="272"/>
                  </a:lnTo>
                  <a:lnTo>
                    <a:pt x="2087" y="277"/>
                  </a:lnTo>
                  <a:lnTo>
                    <a:pt x="2082" y="282"/>
                  </a:lnTo>
                  <a:lnTo>
                    <a:pt x="2077" y="287"/>
                  </a:lnTo>
                  <a:lnTo>
                    <a:pt x="2077" y="292"/>
                  </a:lnTo>
                  <a:lnTo>
                    <a:pt x="2067" y="292"/>
                  </a:lnTo>
                  <a:lnTo>
                    <a:pt x="2062" y="287"/>
                  </a:lnTo>
                  <a:lnTo>
                    <a:pt x="2052" y="287"/>
                  </a:lnTo>
                  <a:lnTo>
                    <a:pt x="2048" y="287"/>
                  </a:lnTo>
                  <a:lnTo>
                    <a:pt x="2038" y="287"/>
                  </a:lnTo>
                  <a:lnTo>
                    <a:pt x="2028" y="287"/>
                  </a:lnTo>
                  <a:lnTo>
                    <a:pt x="2023" y="287"/>
                  </a:lnTo>
                  <a:lnTo>
                    <a:pt x="2013" y="287"/>
                  </a:lnTo>
                  <a:lnTo>
                    <a:pt x="2008" y="282"/>
                  </a:lnTo>
                  <a:lnTo>
                    <a:pt x="2003" y="277"/>
                  </a:lnTo>
                  <a:lnTo>
                    <a:pt x="1998" y="272"/>
                  </a:lnTo>
                  <a:lnTo>
                    <a:pt x="1993" y="267"/>
                  </a:lnTo>
                  <a:lnTo>
                    <a:pt x="1988" y="267"/>
                  </a:lnTo>
                  <a:lnTo>
                    <a:pt x="1978" y="262"/>
                  </a:lnTo>
                  <a:lnTo>
                    <a:pt x="1968" y="262"/>
                  </a:lnTo>
                  <a:lnTo>
                    <a:pt x="1963" y="262"/>
                  </a:lnTo>
                  <a:lnTo>
                    <a:pt x="1959" y="257"/>
                  </a:lnTo>
                  <a:lnTo>
                    <a:pt x="1954" y="252"/>
                  </a:lnTo>
                  <a:lnTo>
                    <a:pt x="1949" y="247"/>
                  </a:lnTo>
                  <a:lnTo>
                    <a:pt x="1949" y="243"/>
                  </a:lnTo>
                  <a:lnTo>
                    <a:pt x="1944" y="238"/>
                  </a:lnTo>
                  <a:lnTo>
                    <a:pt x="1934" y="243"/>
                  </a:lnTo>
                  <a:lnTo>
                    <a:pt x="1929" y="247"/>
                  </a:lnTo>
                  <a:lnTo>
                    <a:pt x="1929" y="252"/>
                  </a:lnTo>
                  <a:lnTo>
                    <a:pt x="1924" y="257"/>
                  </a:lnTo>
                  <a:lnTo>
                    <a:pt x="1919" y="262"/>
                  </a:lnTo>
                  <a:lnTo>
                    <a:pt x="1914" y="262"/>
                  </a:lnTo>
                  <a:lnTo>
                    <a:pt x="1909" y="262"/>
                  </a:lnTo>
                  <a:lnTo>
                    <a:pt x="1899" y="257"/>
                  </a:lnTo>
                  <a:lnTo>
                    <a:pt x="1894" y="252"/>
                  </a:lnTo>
                  <a:lnTo>
                    <a:pt x="1894" y="247"/>
                  </a:lnTo>
                  <a:lnTo>
                    <a:pt x="1889" y="238"/>
                  </a:lnTo>
                  <a:lnTo>
                    <a:pt x="1894" y="233"/>
                  </a:lnTo>
                  <a:lnTo>
                    <a:pt x="1894" y="228"/>
                  </a:lnTo>
                  <a:lnTo>
                    <a:pt x="1899" y="223"/>
                  </a:lnTo>
                  <a:lnTo>
                    <a:pt x="1899" y="218"/>
                  </a:lnTo>
                  <a:lnTo>
                    <a:pt x="1894" y="213"/>
                  </a:lnTo>
                  <a:lnTo>
                    <a:pt x="1889" y="213"/>
                  </a:lnTo>
                  <a:lnTo>
                    <a:pt x="1884" y="213"/>
                  </a:lnTo>
                  <a:lnTo>
                    <a:pt x="1879" y="218"/>
                  </a:lnTo>
                  <a:lnTo>
                    <a:pt x="1874" y="228"/>
                  </a:lnTo>
                  <a:lnTo>
                    <a:pt x="1874" y="233"/>
                  </a:lnTo>
                  <a:lnTo>
                    <a:pt x="1870" y="233"/>
                  </a:lnTo>
                  <a:lnTo>
                    <a:pt x="1865" y="238"/>
                  </a:lnTo>
                  <a:lnTo>
                    <a:pt x="1855" y="238"/>
                  </a:lnTo>
                  <a:lnTo>
                    <a:pt x="1850" y="238"/>
                  </a:lnTo>
                  <a:lnTo>
                    <a:pt x="1840" y="238"/>
                  </a:lnTo>
                  <a:lnTo>
                    <a:pt x="1830" y="233"/>
                  </a:lnTo>
                  <a:lnTo>
                    <a:pt x="1825" y="233"/>
                  </a:lnTo>
                  <a:lnTo>
                    <a:pt x="1825" y="228"/>
                  </a:lnTo>
                  <a:lnTo>
                    <a:pt x="1820" y="223"/>
                  </a:lnTo>
                  <a:lnTo>
                    <a:pt x="1815" y="218"/>
                  </a:lnTo>
                  <a:lnTo>
                    <a:pt x="1810" y="213"/>
                  </a:lnTo>
                  <a:lnTo>
                    <a:pt x="1800" y="213"/>
                  </a:lnTo>
                  <a:lnTo>
                    <a:pt x="1795" y="213"/>
                  </a:lnTo>
                  <a:lnTo>
                    <a:pt x="1785" y="213"/>
                  </a:lnTo>
                  <a:lnTo>
                    <a:pt x="1776" y="213"/>
                  </a:lnTo>
                  <a:lnTo>
                    <a:pt x="1771" y="213"/>
                  </a:lnTo>
                  <a:lnTo>
                    <a:pt x="1761" y="213"/>
                  </a:lnTo>
                  <a:lnTo>
                    <a:pt x="1751" y="213"/>
                  </a:lnTo>
                  <a:lnTo>
                    <a:pt x="1746" y="213"/>
                  </a:lnTo>
                  <a:lnTo>
                    <a:pt x="1736" y="213"/>
                  </a:lnTo>
                  <a:lnTo>
                    <a:pt x="1726" y="213"/>
                  </a:lnTo>
                  <a:lnTo>
                    <a:pt x="1721" y="213"/>
                  </a:lnTo>
                  <a:lnTo>
                    <a:pt x="1711" y="218"/>
                  </a:lnTo>
                  <a:lnTo>
                    <a:pt x="1706" y="218"/>
                  </a:lnTo>
                  <a:lnTo>
                    <a:pt x="1701" y="223"/>
                  </a:lnTo>
                  <a:lnTo>
                    <a:pt x="1696" y="228"/>
                  </a:lnTo>
                  <a:lnTo>
                    <a:pt x="1696" y="233"/>
                  </a:lnTo>
                  <a:lnTo>
                    <a:pt x="1696" y="238"/>
                  </a:lnTo>
                  <a:lnTo>
                    <a:pt x="1701" y="243"/>
                  </a:lnTo>
                  <a:lnTo>
                    <a:pt x="1706" y="247"/>
                  </a:lnTo>
                  <a:lnTo>
                    <a:pt x="1711" y="252"/>
                  </a:lnTo>
                  <a:lnTo>
                    <a:pt x="1716" y="257"/>
                  </a:lnTo>
                  <a:lnTo>
                    <a:pt x="1721" y="262"/>
                  </a:lnTo>
                  <a:lnTo>
                    <a:pt x="1721" y="267"/>
                  </a:lnTo>
                  <a:lnTo>
                    <a:pt x="1726" y="272"/>
                  </a:lnTo>
                  <a:lnTo>
                    <a:pt x="1726" y="277"/>
                  </a:lnTo>
                  <a:lnTo>
                    <a:pt x="1726" y="282"/>
                  </a:lnTo>
                  <a:lnTo>
                    <a:pt x="1726" y="287"/>
                  </a:lnTo>
                  <a:lnTo>
                    <a:pt x="1726" y="292"/>
                  </a:lnTo>
                  <a:lnTo>
                    <a:pt x="1721" y="297"/>
                  </a:lnTo>
                  <a:lnTo>
                    <a:pt x="1716" y="302"/>
                  </a:lnTo>
                  <a:lnTo>
                    <a:pt x="1711" y="307"/>
                  </a:lnTo>
                  <a:lnTo>
                    <a:pt x="1701" y="312"/>
                  </a:lnTo>
                  <a:lnTo>
                    <a:pt x="1701" y="307"/>
                  </a:lnTo>
                  <a:lnTo>
                    <a:pt x="1696" y="302"/>
                  </a:lnTo>
                  <a:lnTo>
                    <a:pt x="1691" y="297"/>
                  </a:lnTo>
                  <a:lnTo>
                    <a:pt x="1687" y="292"/>
                  </a:lnTo>
                  <a:lnTo>
                    <a:pt x="1677" y="292"/>
                  </a:lnTo>
                  <a:lnTo>
                    <a:pt x="1672" y="287"/>
                  </a:lnTo>
                  <a:lnTo>
                    <a:pt x="1667" y="282"/>
                  </a:lnTo>
                  <a:lnTo>
                    <a:pt x="1662" y="277"/>
                  </a:lnTo>
                  <a:lnTo>
                    <a:pt x="1662" y="272"/>
                  </a:lnTo>
                  <a:lnTo>
                    <a:pt x="1657" y="267"/>
                  </a:lnTo>
                  <a:lnTo>
                    <a:pt x="1652" y="267"/>
                  </a:lnTo>
                  <a:lnTo>
                    <a:pt x="1647" y="262"/>
                  </a:lnTo>
                  <a:lnTo>
                    <a:pt x="1642" y="257"/>
                  </a:lnTo>
                  <a:lnTo>
                    <a:pt x="1637" y="252"/>
                  </a:lnTo>
                  <a:lnTo>
                    <a:pt x="1632" y="247"/>
                  </a:lnTo>
                  <a:lnTo>
                    <a:pt x="1627" y="243"/>
                  </a:lnTo>
                  <a:lnTo>
                    <a:pt x="1622" y="238"/>
                  </a:lnTo>
                  <a:lnTo>
                    <a:pt x="1617" y="238"/>
                  </a:lnTo>
                  <a:lnTo>
                    <a:pt x="1607" y="238"/>
                  </a:lnTo>
                  <a:lnTo>
                    <a:pt x="1598" y="238"/>
                  </a:lnTo>
                  <a:lnTo>
                    <a:pt x="1593" y="238"/>
                  </a:lnTo>
                  <a:lnTo>
                    <a:pt x="1583" y="243"/>
                  </a:lnTo>
                  <a:lnTo>
                    <a:pt x="1578" y="243"/>
                  </a:lnTo>
                  <a:lnTo>
                    <a:pt x="1573" y="247"/>
                  </a:lnTo>
                  <a:lnTo>
                    <a:pt x="1568" y="252"/>
                  </a:lnTo>
                  <a:lnTo>
                    <a:pt x="1563" y="257"/>
                  </a:lnTo>
                  <a:lnTo>
                    <a:pt x="1558" y="262"/>
                  </a:lnTo>
                  <a:lnTo>
                    <a:pt x="1548" y="262"/>
                  </a:lnTo>
                  <a:lnTo>
                    <a:pt x="1538" y="262"/>
                  </a:lnTo>
                  <a:lnTo>
                    <a:pt x="1533" y="262"/>
                  </a:lnTo>
                  <a:lnTo>
                    <a:pt x="1523" y="262"/>
                  </a:lnTo>
                  <a:lnTo>
                    <a:pt x="1518" y="267"/>
                  </a:lnTo>
                  <a:lnTo>
                    <a:pt x="1513" y="272"/>
                  </a:lnTo>
                  <a:lnTo>
                    <a:pt x="1508" y="277"/>
                  </a:lnTo>
                  <a:lnTo>
                    <a:pt x="1499" y="277"/>
                  </a:lnTo>
                  <a:lnTo>
                    <a:pt x="1494" y="282"/>
                  </a:lnTo>
                  <a:lnTo>
                    <a:pt x="1489" y="282"/>
                  </a:lnTo>
                  <a:lnTo>
                    <a:pt x="1479" y="287"/>
                  </a:lnTo>
                  <a:lnTo>
                    <a:pt x="1474" y="287"/>
                  </a:lnTo>
                  <a:lnTo>
                    <a:pt x="1464" y="292"/>
                  </a:lnTo>
                  <a:lnTo>
                    <a:pt x="1454" y="292"/>
                  </a:lnTo>
                  <a:lnTo>
                    <a:pt x="1449" y="297"/>
                  </a:lnTo>
                  <a:lnTo>
                    <a:pt x="1444" y="297"/>
                  </a:lnTo>
                  <a:lnTo>
                    <a:pt x="1439" y="302"/>
                  </a:lnTo>
                  <a:lnTo>
                    <a:pt x="1434" y="307"/>
                  </a:lnTo>
                  <a:lnTo>
                    <a:pt x="1429" y="312"/>
                  </a:lnTo>
                  <a:lnTo>
                    <a:pt x="1419" y="312"/>
                  </a:lnTo>
                  <a:lnTo>
                    <a:pt x="1415" y="317"/>
                  </a:lnTo>
                  <a:lnTo>
                    <a:pt x="1405" y="317"/>
                  </a:lnTo>
                  <a:lnTo>
                    <a:pt x="1395" y="317"/>
                  </a:lnTo>
                  <a:lnTo>
                    <a:pt x="1390" y="322"/>
                  </a:lnTo>
                  <a:lnTo>
                    <a:pt x="1385" y="322"/>
                  </a:lnTo>
                  <a:lnTo>
                    <a:pt x="1380" y="327"/>
                  </a:lnTo>
                  <a:lnTo>
                    <a:pt x="1370" y="331"/>
                  </a:lnTo>
                  <a:lnTo>
                    <a:pt x="1365" y="331"/>
                  </a:lnTo>
                  <a:lnTo>
                    <a:pt x="1355" y="336"/>
                  </a:lnTo>
                  <a:lnTo>
                    <a:pt x="1350" y="336"/>
                  </a:lnTo>
                  <a:lnTo>
                    <a:pt x="1340" y="336"/>
                  </a:lnTo>
                  <a:lnTo>
                    <a:pt x="1335" y="341"/>
                  </a:lnTo>
                  <a:lnTo>
                    <a:pt x="1326" y="341"/>
                  </a:lnTo>
                  <a:lnTo>
                    <a:pt x="1321" y="341"/>
                  </a:lnTo>
                  <a:lnTo>
                    <a:pt x="1311" y="346"/>
                  </a:lnTo>
                  <a:lnTo>
                    <a:pt x="1306" y="351"/>
                  </a:lnTo>
                  <a:lnTo>
                    <a:pt x="1301" y="351"/>
                  </a:lnTo>
                  <a:lnTo>
                    <a:pt x="1291" y="356"/>
                  </a:lnTo>
                  <a:lnTo>
                    <a:pt x="1286" y="356"/>
                  </a:lnTo>
                  <a:lnTo>
                    <a:pt x="1276" y="361"/>
                  </a:lnTo>
                  <a:lnTo>
                    <a:pt x="1271" y="361"/>
                  </a:lnTo>
                  <a:lnTo>
                    <a:pt x="1261" y="361"/>
                  </a:lnTo>
                  <a:lnTo>
                    <a:pt x="1251" y="361"/>
                  </a:lnTo>
                  <a:lnTo>
                    <a:pt x="1246" y="361"/>
                  </a:lnTo>
                  <a:lnTo>
                    <a:pt x="1241" y="356"/>
                  </a:lnTo>
                  <a:lnTo>
                    <a:pt x="1236" y="351"/>
                  </a:lnTo>
                  <a:lnTo>
                    <a:pt x="1232" y="346"/>
                  </a:lnTo>
                  <a:lnTo>
                    <a:pt x="1232" y="341"/>
                  </a:lnTo>
                  <a:lnTo>
                    <a:pt x="1227" y="336"/>
                  </a:lnTo>
                  <a:lnTo>
                    <a:pt x="1222" y="336"/>
                  </a:lnTo>
                  <a:lnTo>
                    <a:pt x="1217" y="341"/>
                  </a:lnTo>
                  <a:lnTo>
                    <a:pt x="1212" y="346"/>
                  </a:lnTo>
                  <a:lnTo>
                    <a:pt x="1207" y="356"/>
                  </a:lnTo>
                  <a:lnTo>
                    <a:pt x="1202" y="361"/>
                  </a:lnTo>
                  <a:lnTo>
                    <a:pt x="1202" y="366"/>
                  </a:lnTo>
                  <a:lnTo>
                    <a:pt x="1197" y="366"/>
                  </a:lnTo>
                  <a:lnTo>
                    <a:pt x="1192" y="361"/>
                  </a:lnTo>
                  <a:lnTo>
                    <a:pt x="1192" y="356"/>
                  </a:lnTo>
                  <a:lnTo>
                    <a:pt x="1187" y="351"/>
                  </a:lnTo>
                  <a:lnTo>
                    <a:pt x="1187" y="346"/>
                  </a:lnTo>
                  <a:lnTo>
                    <a:pt x="1192" y="341"/>
                  </a:lnTo>
                  <a:lnTo>
                    <a:pt x="1192" y="336"/>
                  </a:lnTo>
                  <a:lnTo>
                    <a:pt x="1197" y="331"/>
                  </a:lnTo>
                  <a:lnTo>
                    <a:pt x="1202" y="327"/>
                  </a:lnTo>
                  <a:lnTo>
                    <a:pt x="1207" y="322"/>
                  </a:lnTo>
                  <a:lnTo>
                    <a:pt x="1212" y="317"/>
                  </a:lnTo>
                  <a:lnTo>
                    <a:pt x="1217" y="312"/>
                  </a:lnTo>
                  <a:lnTo>
                    <a:pt x="1217" y="307"/>
                  </a:lnTo>
                  <a:lnTo>
                    <a:pt x="1227" y="307"/>
                  </a:lnTo>
                  <a:lnTo>
                    <a:pt x="1232" y="307"/>
                  </a:lnTo>
                  <a:lnTo>
                    <a:pt x="1241" y="307"/>
                  </a:lnTo>
                  <a:lnTo>
                    <a:pt x="1251" y="302"/>
                  </a:lnTo>
                  <a:lnTo>
                    <a:pt x="1256" y="302"/>
                  </a:lnTo>
                  <a:lnTo>
                    <a:pt x="1256" y="297"/>
                  </a:lnTo>
                  <a:lnTo>
                    <a:pt x="1251" y="292"/>
                  </a:lnTo>
                  <a:lnTo>
                    <a:pt x="1246" y="287"/>
                  </a:lnTo>
                  <a:lnTo>
                    <a:pt x="1236" y="287"/>
                  </a:lnTo>
                  <a:lnTo>
                    <a:pt x="1232" y="282"/>
                  </a:lnTo>
                  <a:lnTo>
                    <a:pt x="1222" y="282"/>
                  </a:lnTo>
                  <a:lnTo>
                    <a:pt x="1217" y="277"/>
                  </a:lnTo>
                  <a:lnTo>
                    <a:pt x="1212" y="272"/>
                  </a:lnTo>
                  <a:lnTo>
                    <a:pt x="1212" y="267"/>
                  </a:lnTo>
                  <a:lnTo>
                    <a:pt x="1207" y="262"/>
                  </a:lnTo>
                  <a:lnTo>
                    <a:pt x="1202" y="257"/>
                  </a:lnTo>
                  <a:lnTo>
                    <a:pt x="1192" y="257"/>
                  </a:lnTo>
                  <a:lnTo>
                    <a:pt x="1187" y="257"/>
                  </a:lnTo>
                  <a:lnTo>
                    <a:pt x="1177" y="257"/>
                  </a:lnTo>
                  <a:lnTo>
                    <a:pt x="1167" y="257"/>
                  </a:lnTo>
                  <a:lnTo>
                    <a:pt x="1162" y="257"/>
                  </a:lnTo>
                  <a:lnTo>
                    <a:pt x="1152" y="257"/>
                  </a:lnTo>
                  <a:lnTo>
                    <a:pt x="1147" y="262"/>
                  </a:lnTo>
                  <a:lnTo>
                    <a:pt x="1138" y="267"/>
                  </a:lnTo>
                  <a:lnTo>
                    <a:pt x="1133" y="272"/>
                  </a:lnTo>
                  <a:lnTo>
                    <a:pt x="1128" y="272"/>
                  </a:lnTo>
                  <a:lnTo>
                    <a:pt x="1123" y="277"/>
                  </a:lnTo>
                  <a:lnTo>
                    <a:pt x="1118" y="282"/>
                  </a:lnTo>
                  <a:lnTo>
                    <a:pt x="1113" y="287"/>
                  </a:lnTo>
                  <a:lnTo>
                    <a:pt x="1108" y="292"/>
                  </a:lnTo>
                  <a:lnTo>
                    <a:pt x="1108" y="297"/>
                  </a:lnTo>
                  <a:lnTo>
                    <a:pt x="1108" y="302"/>
                  </a:lnTo>
                  <a:lnTo>
                    <a:pt x="1108" y="307"/>
                  </a:lnTo>
                  <a:lnTo>
                    <a:pt x="1108" y="312"/>
                  </a:lnTo>
                  <a:lnTo>
                    <a:pt x="1103" y="317"/>
                  </a:lnTo>
                  <a:lnTo>
                    <a:pt x="1103" y="322"/>
                  </a:lnTo>
                  <a:lnTo>
                    <a:pt x="1098" y="327"/>
                  </a:lnTo>
                  <a:lnTo>
                    <a:pt x="1093" y="331"/>
                  </a:lnTo>
                  <a:lnTo>
                    <a:pt x="1088" y="336"/>
                  </a:lnTo>
                  <a:lnTo>
                    <a:pt x="1083" y="336"/>
                  </a:lnTo>
                  <a:lnTo>
                    <a:pt x="1073" y="341"/>
                  </a:lnTo>
                  <a:lnTo>
                    <a:pt x="1073" y="346"/>
                  </a:lnTo>
                  <a:lnTo>
                    <a:pt x="1073" y="351"/>
                  </a:lnTo>
                  <a:lnTo>
                    <a:pt x="1073" y="356"/>
                  </a:lnTo>
                  <a:lnTo>
                    <a:pt x="1078" y="361"/>
                  </a:lnTo>
                  <a:lnTo>
                    <a:pt x="1078" y="371"/>
                  </a:lnTo>
                  <a:lnTo>
                    <a:pt x="1073" y="371"/>
                  </a:lnTo>
                  <a:lnTo>
                    <a:pt x="1068" y="376"/>
                  </a:lnTo>
                  <a:lnTo>
                    <a:pt x="1058" y="376"/>
                  </a:lnTo>
                  <a:lnTo>
                    <a:pt x="1053" y="371"/>
                  </a:lnTo>
                  <a:close/>
                  <a:moveTo>
                    <a:pt x="1756" y="346"/>
                  </a:moveTo>
                  <a:lnTo>
                    <a:pt x="1756" y="346"/>
                  </a:lnTo>
                  <a:lnTo>
                    <a:pt x="1756" y="346"/>
                  </a:lnTo>
                  <a:lnTo>
                    <a:pt x="1756" y="346"/>
                  </a:lnTo>
                  <a:lnTo>
                    <a:pt x="1756" y="346"/>
                  </a:lnTo>
                  <a:lnTo>
                    <a:pt x="1756" y="346"/>
                  </a:lnTo>
                  <a:lnTo>
                    <a:pt x="1756" y="346"/>
                  </a:lnTo>
                  <a:lnTo>
                    <a:pt x="1756" y="346"/>
                  </a:lnTo>
                  <a:lnTo>
                    <a:pt x="1756" y="346"/>
                  </a:lnTo>
                  <a:lnTo>
                    <a:pt x="1756" y="346"/>
                  </a:lnTo>
                  <a:lnTo>
                    <a:pt x="1756" y="346"/>
                  </a:lnTo>
                  <a:lnTo>
                    <a:pt x="1756" y="346"/>
                  </a:lnTo>
                  <a:lnTo>
                    <a:pt x="1756" y="346"/>
                  </a:lnTo>
                  <a:lnTo>
                    <a:pt x="1756" y="346"/>
                  </a:lnTo>
                  <a:lnTo>
                    <a:pt x="1756" y="346"/>
                  </a:lnTo>
                  <a:close/>
                  <a:moveTo>
                    <a:pt x="2260" y="267"/>
                  </a:moveTo>
                  <a:lnTo>
                    <a:pt x="2255" y="262"/>
                  </a:lnTo>
                  <a:lnTo>
                    <a:pt x="2250" y="252"/>
                  </a:lnTo>
                  <a:lnTo>
                    <a:pt x="2245" y="252"/>
                  </a:lnTo>
                  <a:lnTo>
                    <a:pt x="2240" y="247"/>
                  </a:lnTo>
                  <a:lnTo>
                    <a:pt x="2235" y="247"/>
                  </a:lnTo>
                  <a:lnTo>
                    <a:pt x="2226" y="247"/>
                  </a:lnTo>
                  <a:lnTo>
                    <a:pt x="2221" y="247"/>
                  </a:lnTo>
                  <a:lnTo>
                    <a:pt x="2211" y="247"/>
                  </a:lnTo>
                  <a:lnTo>
                    <a:pt x="2201" y="247"/>
                  </a:lnTo>
                  <a:lnTo>
                    <a:pt x="2196" y="247"/>
                  </a:lnTo>
                  <a:lnTo>
                    <a:pt x="2186" y="243"/>
                  </a:lnTo>
                  <a:lnTo>
                    <a:pt x="2181" y="243"/>
                  </a:lnTo>
                  <a:lnTo>
                    <a:pt x="2176" y="247"/>
                  </a:lnTo>
                  <a:lnTo>
                    <a:pt x="2166" y="252"/>
                  </a:lnTo>
                  <a:lnTo>
                    <a:pt x="2161" y="257"/>
                  </a:lnTo>
                  <a:lnTo>
                    <a:pt x="2156" y="262"/>
                  </a:lnTo>
                  <a:lnTo>
                    <a:pt x="2151" y="262"/>
                  </a:lnTo>
                  <a:lnTo>
                    <a:pt x="2146" y="257"/>
                  </a:lnTo>
                  <a:lnTo>
                    <a:pt x="2142" y="252"/>
                  </a:lnTo>
                  <a:lnTo>
                    <a:pt x="2142" y="243"/>
                  </a:lnTo>
                  <a:lnTo>
                    <a:pt x="2142" y="238"/>
                  </a:lnTo>
                  <a:lnTo>
                    <a:pt x="2146" y="233"/>
                  </a:lnTo>
                  <a:lnTo>
                    <a:pt x="2151" y="233"/>
                  </a:lnTo>
                  <a:lnTo>
                    <a:pt x="2156" y="228"/>
                  </a:lnTo>
                  <a:lnTo>
                    <a:pt x="2161" y="223"/>
                  </a:lnTo>
                  <a:lnTo>
                    <a:pt x="2161" y="218"/>
                  </a:lnTo>
                  <a:lnTo>
                    <a:pt x="2166" y="213"/>
                  </a:lnTo>
                  <a:lnTo>
                    <a:pt x="2166" y="208"/>
                  </a:lnTo>
                  <a:lnTo>
                    <a:pt x="2171" y="198"/>
                  </a:lnTo>
                  <a:lnTo>
                    <a:pt x="2176" y="198"/>
                  </a:lnTo>
                  <a:lnTo>
                    <a:pt x="2181" y="193"/>
                  </a:lnTo>
                  <a:lnTo>
                    <a:pt x="2186" y="198"/>
                  </a:lnTo>
                  <a:lnTo>
                    <a:pt x="2191" y="198"/>
                  </a:lnTo>
                  <a:lnTo>
                    <a:pt x="2196" y="203"/>
                  </a:lnTo>
                  <a:lnTo>
                    <a:pt x="2206" y="208"/>
                  </a:lnTo>
                  <a:lnTo>
                    <a:pt x="2211" y="213"/>
                  </a:lnTo>
                  <a:lnTo>
                    <a:pt x="2216" y="218"/>
                  </a:lnTo>
                  <a:lnTo>
                    <a:pt x="2221" y="218"/>
                  </a:lnTo>
                  <a:lnTo>
                    <a:pt x="2231" y="223"/>
                  </a:lnTo>
                  <a:lnTo>
                    <a:pt x="2235" y="228"/>
                  </a:lnTo>
                  <a:lnTo>
                    <a:pt x="2240" y="228"/>
                  </a:lnTo>
                  <a:lnTo>
                    <a:pt x="2250" y="233"/>
                  </a:lnTo>
                  <a:lnTo>
                    <a:pt x="2255" y="233"/>
                  </a:lnTo>
                  <a:lnTo>
                    <a:pt x="2260" y="238"/>
                  </a:lnTo>
                  <a:lnTo>
                    <a:pt x="2270" y="243"/>
                  </a:lnTo>
                  <a:lnTo>
                    <a:pt x="2270" y="247"/>
                  </a:lnTo>
                  <a:lnTo>
                    <a:pt x="2275" y="252"/>
                  </a:lnTo>
                  <a:lnTo>
                    <a:pt x="2280" y="257"/>
                  </a:lnTo>
                  <a:lnTo>
                    <a:pt x="2285" y="257"/>
                  </a:lnTo>
                  <a:lnTo>
                    <a:pt x="2290" y="262"/>
                  </a:lnTo>
                  <a:lnTo>
                    <a:pt x="2300" y="267"/>
                  </a:lnTo>
                  <a:lnTo>
                    <a:pt x="2290" y="267"/>
                  </a:lnTo>
                  <a:lnTo>
                    <a:pt x="2280" y="267"/>
                  </a:lnTo>
                  <a:lnTo>
                    <a:pt x="2270" y="267"/>
                  </a:lnTo>
                  <a:lnTo>
                    <a:pt x="2265" y="267"/>
                  </a:lnTo>
                  <a:lnTo>
                    <a:pt x="2260" y="267"/>
                  </a:lnTo>
                  <a:close/>
                  <a:moveTo>
                    <a:pt x="915" y="238"/>
                  </a:moveTo>
                  <a:lnTo>
                    <a:pt x="915" y="233"/>
                  </a:lnTo>
                  <a:lnTo>
                    <a:pt x="920" y="228"/>
                  </a:lnTo>
                  <a:lnTo>
                    <a:pt x="930" y="223"/>
                  </a:lnTo>
                  <a:lnTo>
                    <a:pt x="935" y="218"/>
                  </a:lnTo>
                  <a:lnTo>
                    <a:pt x="940" y="213"/>
                  </a:lnTo>
                  <a:lnTo>
                    <a:pt x="945" y="208"/>
                  </a:lnTo>
                  <a:lnTo>
                    <a:pt x="950" y="203"/>
                  </a:lnTo>
                  <a:lnTo>
                    <a:pt x="955" y="198"/>
                  </a:lnTo>
                  <a:lnTo>
                    <a:pt x="960" y="198"/>
                  </a:lnTo>
                  <a:lnTo>
                    <a:pt x="964" y="198"/>
                  </a:lnTo>
                  <a:lnTo>
                    <a:pt x="974" y="203"/>
                  </a:lnTo>
                  <a:lnTo>
                    <a:pt x="979" y="208"/>
                  </a:lnTo>
                  <a:lnTo>
                    <a:pt x="979" y="213"/>
                  </a:lnTo>
                  <a:lnTo>
                    <a:pt x="979" y="218"/>
                  </a:lnTo>
                  <a:lnTo>
                    <a:pt x="974" y="223"/>
                  </a:lnTo>
                  <a:lnTo>
                    <a:pt x="964" y="228"/>
                  </a:lnTo>
                  <a:lnTo>
                    <a:pt x="960" y="233"/>
                  </a:lnTo>
                  <a:lnTo>
                    <a:pt x="955" y="238"/>
                  </a:lnTo>
                  <a:lnTo>
                    <a:pt x="950" y="243"/>
                  </a:lnTo>
                  <a:lnTo>
                    <a:pt x="945" y="252"/>
                  </a:lnTo>
                  <a:lnTo>
                    <a:pt x="940" y="257"/>
                  </a:lnTo>
                  <a:lnTo>
                    <a:pt x="930" y="257"/>
                  </a:lnTo>
                  <a:lnTo>
                    <a:pt x="925" y="257"/>
                  </a:lnTo>
                  <a:lnTo>
                    <a:pt x="920" y="257"/>
                  </a:lnTo>
                  <a:lnTo>
                    <a:pt x="915" y="247"/>
                  </a:lnTo>
                  <a:lnTo>
                    <a:pt x="915" y="238"/>
                  </a:lnTo>
                  <a:close/>
                  <a:moveTo>
                    <a:pt x="1385" y="238"/>
                  </a:moveTo>
                  <a:lnTo>
                    <a:pt x="1385" y="238"/>
                  </a:lnTo>
                  <a:lnTo>
                    <a:pt x="1385" y="238"/>
                  </a:lnTo>
                  <a:lnTo>
                    <a:pt x="1380" y="238"/>
                  </a:lnTo>
                  <a:lnTo>
                    <a:pt x="1380" y="238"/>
                  </a:lnTo>
                  <a:lnTo>
                    <a:pt x="1380" y="243"/>
                  </a:lnTo>
                  <a:lnTo>
                    <a:pt x="1380" y="243"/>
                  </a:lnTo>
                  <a:lnTo>
                    <a:pt x="1380" y="243"/>
                  </a:lnTo>
                  <a:lnTo>
                    <a:pt x="1380" y="243"/>
                  </a:lnTo>
                  <a:lnTo>
                    <a:pt x="1385" y="243"/>
                  </a:lnTo>
                  <a:lnTo>
                    <a:pt x="1385" y="243"/>
                  </a:lnTo>
                  <a:lnTo>
                    <a:pt x="1385" y="243"/>
                  </a:lnTo>
                  <a:lnTo>
                    <a:pt x="1385" y="243"/>
                  </a:lnTo>
                  <a:lnTo>
                    <a:pt x="1385" y="243"/>
                  </a:lnTo>
                  <a:lnTo>
                    <a:pt x="1385" y="238"/>
                  </a:lnTo>
                  <a:close/>
                  <a:moveTo>
                    <a:pt x="1335" y="213"/>
                  </a:moveTo>
                  <a:lnTo>
                    <a:pt x="1335" y="208"/>
                  </a:lnTo>
                  <a:lnTo>
                    <a:pt x="1330" y="208"/>
                  </a:lnTo>
                  <a:lnTo>
                    <a:pt x="1330" y="208"/>
                  </a:lnTo>
                  <a:lnTo>
                    <a:pt x="1326" y="208"/>
                  </a:lnTo>
                  <a:lnTo>
                    <a:pt x="1321" y="208"/>
                  </a:lnTo>
                  <a:lnTo>
                    <a:pt x="1321" y="208"/>
                  </a:lnTo>
                  <a:lnTo>
                    <a:pt x="1316" y="213"/>
                  </a:lnTo>
                  <a:lnTo>
                    <a:pt x="1321" y="218"/>
                  </a:lnTo>
                  <a:lnTo>
                    <a:pt x="1321" y="218"/>
                  </a:lnTo>
                  <a:lnTo>
                    <a:pt x="1326" y="218"/>
                  </a:lnTo>
                  <a:lnTo>
                    <a:pt x="1330" y="218"/>
                  </a:lnTo>
                  <a:lnTo>
                    <a:pt x="1330" y="218"/>
                  </a:lnTo>
                  <a:lnTo>
                    <a:pt x="1335" y="218"/>
                  </a:lnTo>
                  <a:lnTo>
                    <a:pt x="1335" y="213"/>
                  </a:lnTo>
                  <a:close/>
                  <a:moveTo>
                    <a:pt x="984" y="188"/>
                  </a:moveTo>
                  <a:lnTo>
                    <a:pt x="994" y="173"/>
                  </a:lnTo>
                  <a:lnTo>
                    <a:pt x="999" y="168"/>
                  </a:lnTo>
                  <a:lnTo>
                    <a:pt x="1009" y="163"/>
                  </a:lnTo>
                  <a:lnTo>
                    <a:pt x="1014" y="168"/>
                  </a:lnTo>
                  <a:lnTo>
                    <a:pt x="1024" y="173"/>
                  </a:lnTo>
                  <a:lnTo>
                    <a:pt x="1029" y="178"/>
                  </a:lnTo>
                  <a:lnTo>
                    <a:pt x="1029" y="188"/>
                  </a:lnTo>
                  <a:lnTo>
                    <a:pt x="1029" y="198"/>
                  </a:lnTo>
                  <a:lnTo>
                    <a:pt x="1019" y="208"/>
                  </a:lnTo>
                  <a:lnTo>
                    <a:pt x="1014" y="213"/>
                  </a:lnTo>
                  <a:lnTo>
                    <a:pt x="1004" y="213"/>
                  </a:lnTo>
                  <a:lnTo>
                    <a:pt x="999" y="208"/>
                  </a:lnTo>
                  <a:lnTo>
                    <a:pt x="989" y="198"/>
                  </a:lnTo>
                  <a:lnTo>
                    <a:pt x="984" y="188"/>
                  </a:lnTo>
                  <a:close/>
                  <a:moveTo>
                    <a:pt x="1845" y="188"/>
                  </a:moveTo>
                  <a:lnTo>
                    <a:pt x="1845" y="183"/>
                  </a:lnTo>
                  <a:lnTo>
                    <a:pt x="1840" y="183"/>
                  </a:lnTo>
                  <a:lnTo>
                    <a:pt x="1835" y="183"/>
                  </a:lnTo>
                  <a:lnTo>
                    <a:pt x="1835" y="183"/>
                  </a:lnTo>
                  <a:lnTo>
                    <a:pt x="1830" y="188"/>
                  </a:lnTo>
                  <a:lnTo>
                    <a:pt x="1830" y="188"/>
                  </a:lnTo>
                  <a:lnTo>
                    <a:pt x="1830" y="188"/>
                  </a:lnTo>
                  <a:lnTo>
                    <a:pt x="1835" y="193"/>
                  </a:lnTo>
                  <a:lnTo>
                    <a:pt x="1835" y="193"/>
                  </a:lnTo>
                  <a:lnTo>
                    <a:pt x="1835" y="193"/>
                  </a:lnTo>
                  <a:lnTo>
                    <a:pt x="1840" y="193"/>
                  </a:lnTo>
                  <a:lnTo>
                    <a:pt x="1840" y="193"/>
                  </a:lnTo>
                  <a:lnTo>
                    <a:pt x="1845" y="188"/>
                  </a:lnTo>
                  <a:lnTo>
                    <a:pt x="1845" y="188"/>
                  </a:lnTo>
                  <a:close/>
                  <a:moveTo>
                    <a:pt x="1469" y="159"/>
                  </a:moveTo>
                  <a:lnTo>
                    <a:pt x="1464" y="159"/>
                  </a:lnTo>
                  <a:lnTo>
                    <a:pt x="1464" y="154"/>
                  </a:lnTo>
                  <a:lnTo>
                    <a:pt x="1464" y="154"/>
                  </a:lnTo>
                  <a:lnTo>
                    <a:pt x="1464" y="154"/>
                  </a:lnTo>
                  <a:lnTo>
                    <a:pt x="1459" y="154"/>
                  </a:lnTo>
                  <a:lnTo>
                    <a:pt x="1459" y="159"/>
                  </a:lnTo>
                  <a:lnTo>
                    <a:pt x="1454" y="159"/>
                  </a:lnTo>
                  <a:lnTo>
                    <a:pt x="1454" y="159"/>
                  </a:lnTo>
                  <a:lnTo>
                    <a:pt x="1454" y="159"/>
                  </a:lnTo>
                  <a:lnTo>
                    <a:pt x="1459" y="163"/>
                  </a:lnTo>
                  <a:lnTo>
                    <a:pt x="1459" y="163"/>
                  </a:lnTo>
                  <a:lnTo>
                    <a:pt x="1464" y="163"/>
                  </a:lnTo>
                  <a:lnTo>
                    <a:pt x="1464" y="159"/>
                  </a:lnTo>
                  <a:lnTo>
                    <a:pt x="1469" y="159"/>
                  </a:lnTo>
                  <a:close/>
                  <a:moveTo>
                    <a:pt x="1790" y="159"/>
                  </a:moveTo>
                  <a:lnTo>
                    <a:pt x="1790" y="159"/>
                  </a:lnTo>
                  <a:lnTo>
                    <a:pt x="1785" y="159"/>
                  </a:lnTo>
                  <a:lnTo>
                    <a:pt x="1785" y="159"/>
                  </a:lnTo>
                  <a:lnTo>
                    <a:pt x="1780" y="159"/>
                  </a:lnTo>
                  <a:lnTo>
                    <a:pt x="1780" y="159"/>
                  </a:lnTo>
                  <a:lnTo>
                    <a:pt x="1776" y="159"/>
                  </a:lnTo>
                  <a:lnTo>
                    <a:pt x="1776" y="159"/>
                  </a:lnTo>
                  <a:lnTo>
                    <a:pt x="1776" y="159"/>
                  </a:lnTo>
                  <a:lnTo>
                    <a:pt x="1780" y="163"/>
                  </a:lnTo>
                  <a:lnTo>
                    <a:pt x="1785" y="163"/>
                  </a:lnTo>
                  <a:lnTo>
                    <a:pt x="1785" y="163"/>
                  </a:lnTo>
                  <a:lnTo>
                    <a:pt x="1790" y="163"/>
                  </a:lnTo>
                  <a:lnTo>
                    <a:pt x="1790" y="159"/>
                  </a:lnTo>
                  <a:lnTo>
                    <a:pt x="1790" y="159"/>
                  </a:lnTo>
                  <a:close/>
                  <a:moveTo>
                    <a:pt x="1533" y="134"/>
                  </a:moveTo>
                  <a:lnTo>
                    <a:pt x="1528" y="129"/>
                  </a:lnTo>
                  <a:lnTo>
                    <a:pt x="1528" y="129"/>
                  </a:lnTo>
                  <a:lnTo>
                    <a:pt x="1523" y="129"/>
                  </a:lnTo>
                  <a:lnTo>
                    <a:pt x="1518" y="129"/>
                  </a:lnTo>
                  <a:lnTo>
                    <a:pt x="1518" y="129"/>
                  </a:lnTo>
                  <a:lnTo>
                    <a:pt x="1513" y="129"/>
                  </a:lnTo>
                  <a:lnTo>
                    <a:pt x="1513" y="134"/>
                  </a:lnTo>
                  <a:lnTo>
                    <a:pt x="1513" y="134"/>
                  </a:lnTo>
                  <a:lnTo>
                    <a:pt x="1518" y="134"/>
                  </a:lnTo>
                  <a:lnTo>
                    <a:pt x="1518" y="134"/>
                  </a:lnTo>
                  <a:lnTo>
                    <a:pt x="1523" y="134"/>
                  </a:lnTo>
                  <a:lnTo>
                    <a:pt x="1528" y="134"/>
                  </a:lnTo>
                  <a:lnTo>
                    <a:pt x="1528" y="134"/>
                  </a:lnTo>
                  <a:lnTo>
                    <a:pt x="1533" y="134"/>
                  </a:lnTo>
                  <a:close/>
                  <a:moveTo>
                    <a:pt x="1736" y="134"/>
                  </a:moveTo>
                  <a:lnTo>
                    <a:pt x="1736" y="134"/>
                  </a:lnTo>
                  <a:lnTo>
                    <a:pt x="1736" y="134"/>
                  </a:lnTo>
                  <a:lnTo>
                    <a:pt x="1731" y="134"/>
                  </a:lnTo>
                  <a:lnTo>
                    <a:pt x="1731" y="134"/>
                  </a:lnTo>
                  <a:lnTo>
                    <a:pt x="1726" y="134"/>
                  </a:lnTo>
                  <a:lnTo>
                    <a:pt x="1721" y="134"/>
                  </a:lnTo>
                  <a:lnTo>
                    <a:pt x="1721" y="134"/>
                  </a:lnTo>
                  <a:lnTo>
                    <a:pt x="1721" y="134"/>
                  </a:lnTo>
                  <a:lnTo>
                    <a:pt x="1726" y="134"/>
                  </a:lnTo>
                  <a:lnTo>
                    <a:pt x="1731" y="134"/>
                  </a:lnTo>
                  <a:lnTo>
                    <a:pt x="1731" y="134"/>
                  </a:lnTo>
                  <a:lnTo>
                    <a:pt x="1736" y="134"/>
                  </a:lnTo>
                  <a:lnTo>
                    <a:pt x="1736" y="134"/>
                  </a:lnTo>
                  <a:lnTo>
                    <a:pt x="1736" y="134"/>
                  </a:lnTo>
                  <a:close/>
                  <a:moveTo>
                    <a:pt x="1602" y="104"/>
                  </a:moveTo>
                  <a:lnTo>
                    <a:pt x="1598" y="104"/>
                  </a:lnTo>
                  <a:lnTo>
                    <a:pt x="1598" y="104"/>
                  </a:lnTo>
                  <a:lnTo>
                    <a:pt x="1593" y="99"/>
                  </a:lnTo>
                  <a:lnTo>
                    <a:pt x="1593" y="99"/>
                  </a:lnTo>
                  <a:lnTo>
                    <a:pt x="1588" y="104"/>
                  </a:lnTo>
                  <a:lnTo>
                    <a:pt x="1583" y="104"/>
                  </a:lnTo>
                  <a:lnTo>
                    <a:pt x="1583" y="104"/>
                  </a:lnTo>
                  <a:lnTo>
                    <a:pt x="1583" y="104"/>
                  </a:lnTo>
                  <a:lnTo>
                    <a:pt x="1583" y="109"/>
                  </a:lnTo>
                  <a:lnTo>
                    <a:pt x="1588" y="109"/>
                  </a:lnTo>
                  <a:lnTo>
                    <a:pt x="1593" y="109"/>
                  </a:lnTo>
                  <a:lnTo>
                    <a:pt x="1593" y="109"/>
                  </a:lnTo>
                  <a:lnTo>
                    <a:pt x="1598" y="109"/>
                  </a:lnTo>
                  <a:lnTo>
                    <a:pt x="1602" y="104"/>
                  </a:lnTo>
                  <a:close/>
                  <a:moveTo>
                    <a:pt x="1682" y="104"/>
                  </a:moveTo>
                  <a:lnTo>
                    <a:pt x="1682" y="104"/>
                  </a:lnTo>
                  <a:lnTo>
                    <a:pt x="1677" y="104"/>
                  </a:lnTo>
                  <a:lnTo>
                    <a:pt x="1677" y="104"/>
                  </a:lnTo>
                  <a:lnTo>
                    <a:pt x="1672" y="104"/>
                  </a:lnTo>
                  <a:lnTo>
                    <a:pt x="1672" y="104"/>
                  </a:lnTo>
                  <a:lnTo>
                    <a:pt x="1667" y="104"/>
                  </a:lnTo>
                  <a:lnTo>
                    <a:pt x="1667" y="104"/>
                  </a:lnTo>
                  <a:lnTo>
                    <a:pt x="1667" y="104"/>
                  </a:lnTo>
                  <a:lnTo>
                    <a:pt x="1672" y="109"/>
                  </a:lnTo>
                  <a:lnTo>
                    <a:pt x="1672" y="109"/>
                  </a:lnTo>
                  <a:lnTo>
                    <a:pt x="1677" y="109"/>
                  </a:lnTo>
                  <a:lnTo>
                    <a:pt x="1677" y="109"/>
                  </a:lnTo>
                  <a:lnTo>
                    <a:pt x="1682" y="109"/>
                  </a:lnTo>
                  <a:lnTo>
                    <a:pt x="1682" y="104"/>
                  </a:lnTo>
                  <a:close/>
                </a:path>
              </a:pathLst>
            </a:custGeom>
            <a:solidFill>
              <a:srgbClr val="fff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0" name=""/>
            <p:cNvSpPr/>
            <p:nvPr/>
          </p:nvSpPr>
          <p:spPr>
            <a:xfrm>
              <a:off x="2265120" y="2368440"/>
              <a:ext cx="4098960" cy="2628360"/>
            </a:xfrm>
            <a:custGeom>
              <a:avLst/>
              <a:gdLst/>
              <a:ahLst/>
              <a:rect l="l" t="t" r="r" b="b"/>
              <a:pathLst>
                <a:path w="2582" h="1656">
                  <a:moveTo>
                    <a:pt x="2235" y="1656"/>
                  </a:moveTo>
                  <a:lnTo>
                    <a:pt x="2260" y="1631"/>
                  </a:lnTo>
                  <a:lnTo>
                    <a:pt x="2285" y="1631"/>
                  </a:lnTo>
                  <a:lnTo>
                    <a:pt x="2315" y="1631"/>
                  </a:lnTo>
                  <a:lnTo>
                    <a:pt x="2339" y="1631"/>
                  </a:lnTo>
                  <a:lnTo>
                    <a:pt x="2369" y="1631"/>
                  </a:lnTo>
                  <a:lnTo>
                    <a:pt x="2394" y="1631"/>
                  </a:lnTo>
                  <a:lnTo>
                    <a:pt x="2418" y="1631"/>
                  </a:lnTo>
                  <a:lnTo>
                    <a:pt x="2448" y="1602"/>
                  </a:lnTo>
                  <a:lnTo>
                    <a:pt x="2448" y="1577"/>
                  </a:lnTo>
                  <a:lnTo>
                    <a:pt x="2448" y="1547"/>
                  </a:lnTo>
                  <a:lnTo>
                    <a:pt x="2448" y="1523"/>
                  </a:lnTo>
                  <a:lnTo>
                    <a:pt x="2473" y="1498"/>
                  </a:lnTo>
                  <a:lnTo>
                    <a:pt x="2473" y="1468"/>
                  </a:lnTo>
                  <a:lnTo>
                    <a:pt x="2473" y="1444"/>
                  </a:lnTo>
                  <a:lnTo>
                    <a:pt x="2473" y="1414"/>
                  </a:lnTo>
                  <a:lnTo>
                    <a:pt x="2503" y="1389"/>
                  </a:lnTo>
                  <a:lnTo>
                    <a:pt x="2503" y="1364"/>
                  </a:lnTo>
                  <a:lnTo>
                    <a:pt x="2503" y="1335"/>
                  </a:lnTo>
                  <a:lnTo>
                    <a:pt x="2503" y="1310"/>
                  </a:lnTo>
                  <a:lnTo>
                    <a:pt x="2527" y="1280"/>
                  </a:lnTo>
                  <a:lnTo>
                    <a:pt x="2527" y="1256"/>
                  </a:lnTo>
                  <a:lnTo>
                    <a:pt x="2527" y="1226"/>
                  </a:lnTo>
                  <a:lnTo>
                    <a:pt x="2527" y="1201"/>
                  </a:lnTo>
                  <a:lnTo>
                    <a:pt x="2552" y="1177"/>
                  </a:lnTo>
                  <a:lnTo>
                    <a:pt x="2552" y="1147"/>
                  </a:lnTo>
                  <a:lnTo>
                    <a:pt x="2552" y="1122"/>
                  </a:lnTo>
                  <a:lnTo>
                    <a:pt x="2552" y="1093"/>
                  </a:lnTo>
                  <a:lnTo>
                    <a:pt x="2582" y="1068"/>
                  </a:lnTo>
                  <a:lnTo>
                    <a:pt x="2582" y="1043"/>
                  </a:lnTo>
                  <a:lnTo>
                    <a:pt x="2582" y="1014"/>
                  </a:lnTo>
                  <a:lnTo>
                    <a:pt x="2582" y="989"/>
                  </a:lnTo>
                  <a:lnTo>
                    <a:pt x="2582" y="959"/>
                  </a:lnTo>
                  <a:lnTo>
                    <a:pt x="2582" y="934"/>
                  </a:lnTo>
                  <a:lnTo>
                    <a:pt x="2582" y="910"/>
                  </a:lnTo>
                  <a:lnTo>
                    <a:pt x="2582" y="880"/>
                  </a:lnTo>
                  <a:lnTo>
                    <a:pt x="2582" y="855"/>
                  </a:lnTo>
                  <a:lnTo>
                    <a:pt x="2582" y="826"/>
                  </a:lnTo>
                  <a:lnTo>
                    <a:pt x="2582" y="801"/>
                  </a:lnTo>
                  <a:lnTo>
                    <a:pt x="2582" y="776"/>
                  </a:lnTo>
                  <a:lnTo>
                    <a:pt x="2582" y="747"/>
                  </a:lnTo>
                  <a:lnTo>
                    <a:pt x="2582" y="722"/>
                  </a:lnTo>
                  <a:lnTo>
                    <a:pt x="2582" y="692"/>
                  </a:lnTo>
                  <a:lnTo>
                    <a:pt x="2582" y="668"/>
                  </a:lnTo>
                  <a:lnTo>
                    <a:pt x="2582" y="643"/>
                  </a:lnTo>
                  <a:lnTo>
                    <a:pt x="2582" y="613"/>
                  </a:lnTo>
                  <a:lnTo>
                    <a:pt x="2582" y="589"/>
                  </a:lnTo>
                  <a:lnTo>
                    <a:pt x="2582" y="559"/>
                  </a:lnTo>
                  <a:lnTo>
                    <a:pt x="2582" y="534"/>
                  </a:lnTo>
                  <a:lnTo>
                    <a:pt x="2582" y="504"/>
                  </a:lnTo>
                  <a:lnTo>
                    <a:pt x="2582" y="480"/>
                  </a:lnTo>
                  <a:lnTo>
                    <a:pt x="2582" y="455"/>
                  </a:lnTo>
                  <a:lnTo>
                    <a:pt x="2582" y="425"/>
                  </a:lnTo>
                  <a:lnTo>
                    <a:pt x="2582" y="401"/>
                  </a:lnTo>
                  <a:lnTo>
                    <a:pt x="2582" y="371"/>
                  </a:lnTo>
                  <a:lnTo>
                    <a:pt x="2582" y="346"/>
                  </a:lnTo>
                  <a:lnTo>
                    <a:pt x="2582" y="322"/>
                  </a:lnTo>
                  <a:lnTo>
                    <a:pt x="2582" y="292"/>
                  </a:lnTo>
                  <a:lnTo>
                    <a:pt x="2582" y="267"/>
                  </a:lnTo>
                  <a:lnTo>
                    <a:pt x="2582" y="238"/>
                  </a:lnTo>
                  <a:lnTo>
                    <a:pt x="2552" y="213"/>
                  </a:lnTo>
                  <a:lnTo>
                    <a:pt x="2552" y="188"/>
                  </a:lnTo>
                  <a:lnTo>
                    <a:pt x="2552" y="159"/>
                  </a:lnTo>
                  <a:lnTo>
                    <a:pt x="2552" y="134"/>
                  </a:lnTo>
                  <a:lnTo>
                    <a:pt x="2552" y="104"/>
                  </a:lnTo>
                  <a:lnTo>
                    <a:pt x="2527" y="79"/>
                  </a:lnTo>
                  <a:lnTo>
                    <a:pt x="2503" y="79"/>
                  </a:lnTo>
                  <a:lnTo>
                    <a:pt x="2473" y="79"/>
                  </a:lnTo>
                  <a:lnTo>
                    <a:pt x="2448" y="55"/>
                  </a:lnTo>
                  <a:lnTo>
                    <a:pt x="2418" y="55"/>
                  </a:lnTo>
                  <a:lnTo>
                    <a:pt x="2394" y="55"/>
                  </a:lnTo>
                  <a:lnTo>
                    <a:pt x="2369" y="25"/>
                  </a:lnTo>
                  <a:lnTo>
                    <a:pt x="2339" y="25"/>
                  </a:lnTo>
                  <a:lnTo>
                    <a:pt x="2315" y="25"/>
                  </a:lnTo>
                  <a:lnTo>
                    <a:pt x="2285" y="0"/>
                  </a:lnTo>
                  <a:lnTo>
                    <a:pt x="2260" y="0"/>
                  </a:lnTo>
                  <a:lnTo>
                    <a:pt x="2235" y="0"/>
                  </a:lnTo>
                  <a:lnTo>
                    <a:pt x="2206" y="0"/>
                  </a:lnTo>
                  <a:lnTo>
                    <a:pt x="2181" y="0"/>
                  </a:lnTo>
                  <a:lnTo>
                    <a:pt x="2156" y="0"/>
                  </a:lnTo>
                  <a:lnTo>
                    <a:pt x="2127" y="0"/>
                  </a:lnTo>
                  <a:lnTo>
                    <a:pt x="2102" y="0"/>
                  </a:lnTo>
                  <a:lnTo>
                    <a:pt x="2072" y="0"/>
                  </a:lnTo>
                  <a:lnTo>
                    <a:pt x="2048" y="0"/>
                  </a:lnTo>
                  <a:lnTo>
                    <a:pt x="2023" y="0"/>
                  </a:lnTo>
                  <a:lnTo>
                    <a:pt x="1993" y="0"/>
                  </a:lnTo>
                  <a:lnTo>
                    <a:pt x="1968" y="0"/>
                  </a:lnTo>
                  <a:lnTo>
                    <a:pt x="1944" y="0"/>
                  </a:lnTo>
                  <a:lnTo>
                    <a:pt x="1914" y="0"/>
                  </a:lnTo>
                  <a:lnTo>
                    <a:pt x="1889" y="0"/>
                  </a:lnTo>
                  <a:lnTo>
                    <a:pt x="1860" y="0"/>
                  </a:lnTo>
                  <a:lnTo>
                    <a:pt x="1835" y="0"/>
                  </a:lnTo>
                  <a:lnTo>
                    <a:pt x="1810" y="0"/>
                  </a:lnTo>
                  <a:lnTo>
                    <a:pt x="1780" y="0"/>
                  </a:lnTo>
                  <a:lnTo>
                    <a:pt x="1756" y="0"/>
                  </a:lnTo>
                  <a:lnTo>
                    <a:pt x="1726" y="0"/>
                  </a:lnTo>
                  <a:lnTo>
                    <a:pt x="1701" y="0"/>
                  </a:lnTo>
                  <a:lnTo>
                    <a:pt x="1677" y="0"/>
                  </a:lnTo>
                  <a:lnTo>
                    <a:pt x="1647" y="0"/>
                  </a:lnTo>
                  <a:lnTo>
                    <a:pt x="1622" y="0"/>
                  </a:lnTo>
                  <a:lnTo>
                    <a:pt x="1598" y="0"/>
                  </a:lnTo>
                  <a:lnTo>
                    <a:pt x="1568" y="0"/>
                  </a:lnTo>
                  <a:lnTo>
                    <a:pt x="1543" y="0"/>
                  </a:lnTo>
                  <a:lnTo>
                    <a:pt x="1513" y="0"/>
                  </a:lnTo>
                  <a:lnTo>
                    <a:pt x="1489" y="0"/>
                  </a:lnTo>
                  <a:lnTo>
                    <a:pt x="1464" y="0"/>
                  </a:lnTo>
                  <a:lnTo>
                    <a:pt x="1434" y="0"/>
                  </a:lnTo>
                  <a:lnTo>
                    <a:pt x="1410" y="0"/>
                  </a:lnTo>
                  <a:lnTo>
                    <a:pt x="1385" y="0"/>
                  </a:lnTo>
                  <a:lnTo>
                    <a:pt x="1355" y="0"/>
                  </a:lnTo>
                  <a:lnTo>
                    <a:pt x="1330" y="0"/>
                  </a:lnTo>
                  <a:lnTo>
                    <a:pt x="1301" y="0"/>
                  </a:lnTo>
                  <a:lnTo>
                    <a:pt x="1276" y="0"/>
                  </a:lnTo>
                  <a:lnTo>
                    <a:pt x="1251" y="0"/>
                  </a:lnTo>
                  <a:lnTo>
                    <a:pt x="1222" y="0"/>
                  </a:lnTo>
                  <a:lnTo>
                    <a:pt x="1197" y="0"/>
                  </a:lnTo>
                  <a:lnTo>
                    <a:pt x="1172" y="0"/>
                  </a:lnTo>
                  <a:lnTo>
                    <a:pt x="1143" y="0"/>
                  </a:lnTo>
                  <a:lnTo>
                    <a:pt x="1118" y="0"/>
                  </a:lnTo>
                  <a:lnTo>
                    <a:pt x="1088" y="0"/>
                  </a:lnTo>
                  <a:lnTo>
                    <a:pt x="1063" y="0"/>
                  </a:lnTo>
                  <a:lnTo>
                    <a:pt x="1039" y="0"/>
                  </a:lnTo>
                  <a:lnTo>
                    <a:pt x="1009" y="0"/>
                  </a:lnTo>
                  <a:lnTo>
                    <a:pt x="984" y="0"/>
                  </a:lnTo>
                  <a:lnTo>
                    <a:pt x="955" y="0"/>
                  </a:lnTo>
                  <a:lnTo>
                    <a:pt x="930" y="0"/>
                  </a:lnTo>
                  <a:lnTo>
                    <a:pt x="905" y="0"/>
                  </a:lnTo>
                  <a:lnTo>
                    <a:pt x="875" y="0"/>
                  </a:lnTo>
                  <a:lnTo>
                    <a:pt x="851" y="0"/>
                  </a:lnTo>
                  <a:lnTo>
                    <a:pt x="826" y="0"/>
                  </a:lnTo>
                  <a:lnTo>
                    <a:pt x="796" y="0"/>
                  </a:lnTo>
                  <a:lnTo>
                    <a:pt x="772" y="0"/>
                  </a:lnTo>
                  <a:lnTo>
                    <a:pt x="742" y="0"/>
                  </a:lnTo>
                  <a:lnTo>
                    <a:pt x="717" y="0"/>
                  </a:lnTo>
                  <a:lnTo>
                    <a:pt x="692" y="0"/>
                  </a:lnTo>
                  <a:lnTo>
                    <a:pt x="663" y="0"/>
                  </a:lnTo>
                  <a:lnTo>
                    <a:pt x="638" y="0"/>
                  </a:lnTo>
                  <a:lnTo>
                    <a:pt x="613" y="0"/>
                  </a:lnTo>
                  <a:lnTo>
                    <a:pt x="584" y="25"/>
                  </a:lnTo>
                  <a:lnTo>
                    <a:pt x="559" y="55"/>
                  </a:lnTo>
                  <a:lnTo>
                    <a:pt x="529" y="79"/>
                  </a:lnTo>
                  <a:lnTo>
                    <a:pt x="505" y="104"/>
                  </a:lnTo>
                  <a:lnTo>
                    <a:pt x="480" y="134"/>
                  </a:lnTo>
                  <a:lnTo>
                    <a:pt x="450" y="134"/>
                  </a:lnTo>
                  <a:lnTo>
                    <a:pt x="425" y="159"/>
                  </a:lnTo>
                  <a:lnTo>
                    <a:pt x="396" y="188"/>
                  </a:lnTo>
                  <a:lnTo>
                    <a:pt x="371" y="213"/>
                  </a:lnTo>
                  <a:lnTo>
                    <a:pt x="346" y="238"/>
                  </a:lnTo>
                  <a:lnTo>
                    <a:pt x="317" y="267"/>
                  </a:lnTo>
                  <a:lnTo>
                    <a:pt x="292" y="292"/>
                  </a:lnTo>
                  <a:lnTo>
                    <a:pt x="267" y="322"/>
                  </a:lnTo>
                  <a:lnTo>
                    <a:pt x="237" y="322"/>
                  </a:lnTo>
                  <a:lnTo>
                    <a:pt x="213" y="346"/>
                  </a:lnTo>
                  <a:lnTo>
                    <a:pt x="183" y="371"/>
                  </a:lnTo>
                  <a:lnTo>
                    <a:pt x="158" y="401"/>
                  </a:lnTo>
                  <a:lnTo>
                    <a:pt x="134" y="425"/>
                  </a:lnTo>
                  <a:lnTo>
                    <a:pt x="104" y="455"/>
                  </a:lnTo>
                  <a:lnTo>
                    <a:pt x="79" y="480"/>
                  </a:lnTo>
                  <a:lnTo>
                    <a:pt x="55" y="504"/>
                  </a:lnTo>
                  <a:lnTo>
                    <a:pt x="25" y="504"/>
                  </a:lnTo>
                  <a:lnTo>
                    <a:pt x="0" y="534"/>
                  </a:lnTo>
                  <a:lnTo>
                    <a:pt x="0" y="559"/>
                  </a:lnTo>
                  <a:lnTo>
                    <a:pt x="0" y="589"/>
                  </a:lnTo>
                  <a:lnTo>
                    <a:pt x="0" y="613"/>
                  </a:lnTo>
                  <a:lnTo>
                    <a:pt x="25" y="643"/>
                  </a:lnTo>
                  <a:lnTo>
                    <a:pt x="25" y="668"/>
                  </a:lnTo>
                  <a:lnTo>
                    <a:pt x="55" y="692"/>
                  </a:lnTo>
                  <a:lnTo>
                    <a:pt x="79" y="722"/>
                  </a:lnTo>
                  <a:lnTo>
                    <a:pt x="104" y="747"/>
                  </a:lnTo>
                  <a:lnTo>
                    <a:pt x="134" y="776"/>
                  </a:lnTo>
                  <a:lnTo>
                    <a:pt x="134" y="801"/>
                  </a:lnTo>
                  <a:lnTo>
                    <a:pt x="158" y="826"/>
                  </a:lnTo>
                  <a:lnTo>
                    <a:pt x="183" y="855"/>
                  </a:lnTo>
                  <a:lnTo>
                    <a:pt x="213" y="880"/>
                  </a:lnTo>
                  <a:lnTo>
                    <a:pt x="237" y="910"/>
                  </a:lnTo>
                  <a:lnTo>
                    <a:pt x="267" y="934"/>
                  </a:lnTo>
                  <a:lnTo>
                    <a:pt x="292" y="959"/>
                  </a:lnTo>
                  <a:lnTo>
                    <a:pt x="292" y="989"/>
                  </a:lnTo>
                  <a:lnTo>
                    <a:pt x="317" y="1014"/>
                  </a:lnTo>
                  <a:lnTo>
                    <a:pt x="346" y="1043"/>
                  </a:lnTo>
                  <a:lnTo>
                    <a:pt x="371" y="1068"/>
                  </a:lnTo>
                  <a:lnTo>
                    <a:pt x="396" y="1093"/>
                  </a:lnTo>
                  <a:lnTo>
                    <a:pt x="425" y="1122"/>
                  </a:lnTo>
                  <a:lnTo>
                    <a:pt x="450" y="1147"/>
                  </a:lnTo>
                  <a:lnTo>
                    <a:pt x="480" y="1177"/>
                  </a:lnTo>
                  <a:lnTo>
                    <a:pt x="505" y="1201"/>
                  </a:lnTo>
                  <a:lnTo>
                    <a:pt x="529" y="1226"/>
                  </a:lnTo>
                  <a:lnTo>
                    <a:pt x="559" y="1256"/>
                  </a:lnTo>
                  <a:lnTo>
                    <a:pt x="584" y="1280"/>
                  </a:lnTo>
                  <a:lnTo>
                    <a:pt x="613" y="1310"/>
                  </a:lnTo>
                  <a:lnTo>
                    <a:pt x="638" y="1335"/>
                  </a:lnTo>
                  <a:lnTo>
                    <a:pt x="663" y="1364"/>
                  </a:lnTo>
                  <a:lnTo>
                    <a:pt x="692" y="1389"/>
                  </a:lnTo>
                  <a:lnTo>
                    <a:pt x="717" y="1414"/>
                  </a:lnTo>
                  <a:lnTo>
                    <a:pt x="742" y="1444"/>
                  </a:lnTo>
                  <a:lnTo>
                    <a:pt x="772" y="1468"/>
                  </a:lnTo>
                  <a:lnTo>
                    <a:pt x="796" y="1468"/>
                  </a:lnTo>
                  <a:lnTo>
                    <a:pt x="826" y="1498"/>
                  </a:lnTo>
                  <a:lnTo>
                    <a:pt x="851" y="1523"/>
                  </a:lnTo>
                  <a:lnTo>
                    <a:pt x="875" y="1547"/>
                  </a:lnTo>
                  <a:lnTo>
                    <a:pt x="905" y="1577"/>
                  </a:lnTo>
                  <a:lnTo>
                    <a:pt x="930" y="1602"/>
                  </a:lnTo>
                  <a:lnTo>
                    <a:pt x="955" y="1631"/>
                  </a:lnTo>
                  <a:lnTo>
                    <a:pt x="984" y="1656"/>
                  </a:lnTo>
                  <a:lnTo>
                    <a:pt x="1009" y="1656"/>
                  </a:lnTo>
                  <a:lnTo>
                    <a:pt x="1039" y="1656"/>
                  </a:lnTo>
                  <a:lnTo>
                    <a:pt x="1063" y="1656"/>
                  </a:lnTo>
                  <a:lnTo>
                    <a:pt x="1088" y="1656"/>
                  </a:lnTo>
                  <a:lnTo>
                    <a:pt x="1118" y="1656"/>
                  </a:lnTo>
                  <a:lnTo>
                    <a:pt x="1143" y="1656"/>
                  </a:lnTo>
                  <a:lnTo>
                    <a:pt x="1172" y="1656"/>
                  </a:lnTo>
                  <a:lnTo>
                    <a:pt x="1197" y="1656"/>
                  </a:lnTo>
                  <a:lnTo>
                    <a:pt x="1222" y="1656"/>
                  </a:lnTo>
                  <a:lnTo>
                    <a:pt x="1251" y="1656"/>
                  </a:lnTo>
                  <a:lnTo>
                    <a:pt x="1276" y="1656"/>
                  </a:lnTo>
                  <a:lnTo>
                    <a:pt x="1301" y="1656"/>
                  </a:lnTo>
                  <a:lnTo>
                    <a:pt x="1330" y="1656"/>
                  </a:lnTo>
                  <a:lnTo>
                    <a:pt x="1355" y="1656"/>
                  </a:lnTo>
                  <a:lnTo>
                    <a:pt x="1385" y="1656"/>
                  </a:lnTo>
                  <a:lnTo>
                    <a:pt x="1410" y="1656"/>
                  </a:lnTo>
                  <a:lnTo>
                    <a:pt x="1434" y="1656"/>
                  </a:lnTo>
                  <a:lnTo>
                    <a:pt x="1464" y="1656"/>
                  </a:lnTo>
                  <a:lnTo>
                    <a:pt x="1489" y="1656"/>
                  </a:lnTo>
                  <a:lnTo>
                    <a:pt x="1513" y="1656"/>
                  </a:lnTo>
                  <a:lnTo>
                    <a:pt x="1543" y="1656"/>
                  </a:lnTo>
                  <a:lnTo>
                    <a:pt x="1568" y="1656"/>
                  </a:lnTo>
                  <a:lnTo>
                    <a:pt x="1598" y="1656"/>
                  </a:lnTo>
                  <a:lnTo>
                    <a:pt x="1622" y="1656"/>
                  </a:lnTo>
                  <a:lnTo>
                    <a:pt x="1647" y="1656"/>
                  </a:lnTo>
                  <a:lnTo>
                    <a:pt x="1677" y="1656"/>
                  </a:lnTo>
                  <a:lnTo>
                    <a:pt x="1701" y="1656"/>
                  </a:lnTo>
                  <a:lnTo>
                    <a:pt x="1726" y="1656"/>
                  </a:lnTo>
                  <a:lnTo>
                    <a:pt x="1756" y="1656"/>
                  </a:lnTo>
                  <a:lnTo>
                    <a:pt x="1780" y="1656"/>
                  </a:lnTo>
                  <a:lnTo>
                    <a:pt x="1810" y="1656"/>
                  </a:lnTo>
                  <a:lnTo>
                    <a:pt x="1835" y="1656"/>
                  </a:lnTo>
                  <a:lnTo>
                    <a:pt x="1860" y="1656"/>
                  </a:lnTo>
                  <a:lnTo>
                    <a:pt x="1889" y="1656"/>
                  </a:lnTo>
                  <a:lnTo>
                    <a:pt x="1914" y="1656"/>
                  </a:lnTo>
                  <a:lnTo>
                    <a:pt x="1944" y="1656"/>
                  </a:lnTo>
                  <a:lnTo>
                    <a:pt x="1968" y="1656"/>
                  </a:lnTo>
                  <a:lnTo>
                    <a:pt x="1993" y="1656"/>
                  </a:lnTo>
                  <a:lnTo>
                    <a:pt x="2023" y="1656"/>
                  </a:lnTo>
                  <a:lnTo>
                    <a:pt x="2048" y="1656"/>
                  </a:lnTo>
                  <a:lnTo>
                    <a:pt x="2072" y="1656"/>
                  </a:lnTo>
                  <a:lnTo>
                    <a:pt x="2102" y="1656"/>
                  </a:lnTo>
                  <a:lnTo>
                    <a:pt x="2127" y="1656"/>
                  </a:lnTo>
                  <a:lnTo>
                    <a:pt x="2156" y="1656"/>
                  </a:lnTo>
                  <a:lnTo>
                    <a:pt x="2181" y="1656"/>
                  </a:lnTo>
                  <a:lnTo>
                    <a:pt x="2206" y="1656"/>
                  </a:lnTo>
                  <a:lnTo>
                    <a:pt x="2235" y="1656"/>
                  </a:lnTo>
                  <a:close/>
                  <a:moveTo>
                    <a:pt x="1009" y="613"/>
                  </a:moveTo>
                  <a:lnTo>
                    <a:pt x="1009" y="608"/>
                  </a:lnTo>
                  <a:lnTo>
                    <a:pt x="1009" y="603"/>
                  </a:lnTo>
                  <a:lnTo>
                    <a:pt x="1009" y="593"/>
                  </a:lnTo>
                  <a:lnTo>
                    <a:pt x="1009" y="589"/>
                  </a:lnTo>
                  <a:lnTo>
                    <a:pt x="1009" y="584"/>
                  </a:lnTo>
                  <a:lnTo>
                    <a:pt x="1004" y="579"/>
                  </a:lnTo>
                  <a:lnTo>
                    <a:pt x="1004" y="574"/>
                  </a:lnTo>
                  <a:lnTo>
                    <a:pt x="1004" y="564"/>
                  </a:lnTo>
                  <a:lnTo>
                    <a:pt x="1004" y="559"/>
                  </a:lnTo>
                  <a:lnTo>
                    <a:pt x="1009" y="554"/>
                  </a:lnTo>
                  <a:lnTo>
                    <a:pt x="1014" y="549"/>
                  </a:lnTo>
                  <a:lnTo>
                    <a:pt x="1019" y="544"/>
                  </a:lnTo>
                  <a:lnTo>
                    <a:pt x="1024" y="539"/>
                  </a:lnTo>
                  <a:lnTo>
                    <a:pt x="1029" y="534"/>
                  </a:lnTo>
                  <a:lnTo>
                    <a:pt x="1029" y="524"/>
                  </a:lnTo>
                  <a:lnTo>
                    <a:pt x="1034" y="519"/>
                  </a:lnTo>
                  <a:lnTo>
                    <a:pt x="1034" y="514"/>
                  </a:lnTo>
                  <a:lnTo>
                    <a:pt x="1039" y="509"/>
                  </a:lnTo>
                  <a:lnTo>
                    <a:pt x="1039" y="514"/>
                  </a:lnTo>
                  <a:lnTo>
                    <a:pt x="1039" y="519"/>
                  </a:lnTo>
                  <a:lnTo>
                    <a:pt x="1044" y="529"/>
                  </a:lnTo>
                  <a:lnTo>
                    <a:pt x="1044" y="539"/>
                  </a:lnTo>
                  <a:lnTo>
                    <a:pt x="1044" y="544"/>
                  </a:lnTo>
                  <a:lnTo>
                    <a:pt x="1044" y="549"/>
                  </a:lnTo>
                  <a:lnTo>
                    <a:pt x="1039" y="554"/>
                  </a:lnTo>
                  <a:lnTo>
                    <a:pt x="1039" y="559"/>
                  </a:lnTo>
                  <a:lnTo>
                    <a:pt x="1039" y="564"/>
                  </a:lnTo>
                  <a:lnTo>
                    <a:pt x="1039" y="574"/>
                  </a:lnTo>
                  <a:lnTo>
                    <a:pt x="1039" y="579"/>
                  </a:lnTo>
                  <a:lnTo>
                    <a:pt x="1039" y="584"/>
                  </a:lnTo>
                  <a:lnTo>
                    <a:pt x="1039" y="589"/>
                  </a:lnTo>
                  <a:lnTo>
                    <a:pt x="1039" y="598"/>
                  </a:lnTo>
                  <a:lnTo>
                    <a:pt x="1034" y="603"/>
                  </a:lnTo>
                  <a:lnTo>
                    <a:pt x="1029" y="603"/>
                  </a:lnTo>
                  <a:lnTo>
                    <a:pt x="1019" y="608"/>
                  </a:lnTo>
                  <a:lnTo>
                    <a:pt x="1014" y="618"/>
                  </a:lnTo>
                  <a:lnTo>
                    <a:pt x="1009" y="618"/>
                  </a:lnTo>
                  <a:lnTo>
                    <a:pt x="1009" y="613"/>
                  </a:lnTo>
                  <a:close/>
                  <a:moveTo>
                    <a:pt x="1088" y="613"/>
                  </a:moveTo>
                  <a:lnTo>
                    <a:pt x="1083" y="608"/>
                  </a:lnTo>
                  <a:lnTo>
                    <a:pt x="1083" y="603"/>
                  </a:lnTo>
                  <a:lnTo>
                    <a:pt x="1083" y="593"/>
                  </a:lnTo>
                  <a:lnTo>
                    <a:pt x="1083" y="589"/>
                  </a:lnTo>
                  <a:lnTo>
                    <a:pt x="1083" y="584"/>
                  </a:lnTo>
                  <a:lnTo>
                    <a:pt x="1083" y="579"/>
                  </a:lnTo>
                  <a:lnTo>
                    <a:pt x="1083" y="569"/>
                  </a:lnTo>
                  <a:lnTo>
                    <a:pt x="1083" y="564"/>
                  </a:lnTo>
                  <a:lnTo>
                    <a:pt x="1088" y="559"/>
                  </a:lnTo>
                  <a:lnTo>
                    <a:pt x="1093" y="554"/>
                  </a:lnTo>
                  <a:lnTo>
                    <a:pt x="1098" y="549"/>
                  </a:lnTo>
                  <a:lnTo>
                    <a:pt x="1108" y="544"/>
                  </a:lnTo>
                  <a:lnTo>
                    <a:pt x="1113" y="539"/>
                  </a:lnTo>
                  <a:lnTo>
                    <a:pt x="1113" y="534"/>
                  </a:lnTo>
                  <a:lnTo>
                    <a:pt x="1113" y="524"/>
                  </a:lnTo>
                  <a:lnTo>
                    <a:pt x="1108" y="519"/>
                  </a:lnTo>
                  <a:lnTo>
                    <a:pt x="1108" y="514"/>
                  </a:lnTo>
                  <a:lnTo>
                    <a:pt x="1108" y="509"/>
                  </a:lnTo>
                  <a:lnTo>
                    <a:pt x="1108" y="504"/>
                  </a:lnTo>
                  <a:lnTo>
                    <a:pt x="1118" y="495"/>
                  </a:lnTo>
                  <a:lnTo>
                    <a:pt x="1123" y="495"/>
                  </a:lnTo>
                  <a:lnTo>
                    <a:pt x="1133" y="490"/>
                  </a:lnTo>
                  <a:lnTo>
                    <a:pt x="1138" y="485"/>
                  </a:lnTo>
                  <a:lnTo>
                    <a:pt x="1143" y="480"/>
                  </a:lnTo>
                  <a:lnTo>
                    <a:pt x="1143" y="475"/>
                  </a:lnTo>
                  <a:lnTo>
                    <a:pt x="1138" y="470"/>
                  </a:lnTo>
                  <a:lnTo>
                    <a:pt x="1133" y="460"/>
                  </a:lnTo>
                  <a:lnTo>
                    <a:pt x="1133" y="455"/>
                  </a:lnTo>
                  <a:lnTo>
                    <a:pt x="1138" y="450"/>
                  </a:lnTo>
                  <a:lnTo>
                    <a:pt x="1143" y="445"/>
                  </a:lnTo>
                  <a:lnTo>
                    <a:pt x="1147" y="445"/>
                  </a:lnTo>
                  <a:lnTo>
                    <a:pt x="1152" y="450"/>
                  </a:lnTo>
                  <a:lnTo>
                    <a:pt x="1157" y="455"/>
                  </a:lnTo>
                  <a:lnTo>
                    <a:pt x="1157" y="465"/>
                  </a:lnTo>
                  <a:lnTo>
                    <a:pt x="1152" y="470"/>
                  </a:lnTo>
                  <a:lnTo>
                    <a:pt x="1147" y="475"/>
                  </a:lnTo>
                  <a:lnTo>
                    <a:pt x="1143" y="480"/>
                  </a:lnTo>
                  <a:lnTo>
                    <a:pt x="1143" y="485"/>
                  </a:lnTo>
                  <a:lnTo>
                    <a:pt x="1138" y="495"/>
                  </a:lnTo>
                  <a:lnTo>
                    <a:pt x="1138" y="500"/>
                  </a:lnTo>
                  <a:lnTo>
                    <a:pt x="1133" y="504"/>
                  </a:lnTo>
                  <a:lnTo>
                    <a:pt x="1133" y="509"/>
                  </a:lnTo>
                  <a:lnTo>
                    <a:pt x="1128" y="514"/>
                  </a:lnTo>
                  <a:lnTo>
                    <a:pt x="1128" y="524"/>
                  </a:lnTo>
                  <a:lnTo>
                    <a:pt x="1123" y="529"/>
                  </a:lnTo>
                  <a:lnTo>
                    <a:pt x="1123" y="534"/>
                  </a:lnTo>
                  <a:lnTo>
                    <a:pt x="1118" y="539"/>
                  </a:lnTo>
                  <a:lnTo>
                    <a:pt x="1113" y="544"/>
                  </a:lnTo>
                  <a:lnTo>
                    <a:pt x="1108" y="549"/>
                  </a:lnTo>
                  <a:lnTo>
                    <a:pt x="1103" y="554"/>
                  </a:lnTo>
                  <a:lnTo>
                    <a:pt x="1098" y="564"/>
                  </a:lnTo>
                  <a:lnTo>
                    <a:pt x="1098" y="569"/>
                  </a:lnTo>
                  <a:lnTo>
                    <a:pt x="1098" y="574"/>
                  </a:lnTo>
                  <a:lnTo>
                    <a:pt x="1103" y="579"/>
                  </a:lnTo>
                  <a:lnTo>
                    <a:pt x="1103" y="589"/>
                  </a:lnTo>
                  <a:lnTo>
                    <a:pt x="1103" y="593"/>
                  </a:lnTo>
                  <a:lnTo>
                    <a:pt x="1103" y="598"/>
                  </a:lnTo>
                  <a:lnTo>
                    <a:pt x="1098" y="603"/>
                  </a:lnTo>
                  <a:lnTo>
                    <a:pt x="1098" y="608"/>
                  </a:lnTo>
                  <a:lnTo>
                    <a:pt x="1093" y="618"/>
                  </a:lnTo>
                  <a:lnTo>
                    <a:pt x="1088" y="623"/>
                  </a:lnTo>
                  <a:lnTo>
                    <a:pt x="1088" y="613"/>
                  </a:lnTo>
                  <a:close/>
                  <a:moveTo>
                    <a:pt x="1058" y="455"/>
                  </a:moveTo>
                  <a:lnTo>
                    <a:pt x="1058" y="445"/>
                  </a:lnTo>
                  <a:lnTo>
                    <a:pt x="1063" y="445"/>
                  </a:lnTo>
                  <a:lnTo>
                    <a:pt x="1068" y="445"/>
                  </a:lnTo>
                  <a:lnTo>
                    <a:pt x="1073" y="450"/>
                  </a:lnTo>
                  <a:lnTo>
                    <a:pt x="1073" y="460"/>
                  </a:lnTo>
                  <a:lnTo>
                    <a:pt x="1073" y="465"/>
                  </a:lnTo>
                  <a:lnTo>
                    <a:pt x="1068" y="470"/>
                  </a:lnTo>
                  <a:lnTo>
                    <a:pt x="1068" y="475"/>
                  </a:lnTo>
                  <a:lnTo>
                    <a:pt x="1063" y="480"/>
                  </a:lnTo>
                  <a:lnTo>
                    <a:pt x="1063" y="480"/>
                  </a:lnTo>
                  <a:lnTo>
                    <a:pt x="1058" y="475"/>
                  </a:lnTo>
                  <a:lnTo>
                    <a:pt x="1058" y="470"/>
                  </a:lnTo>
                  <a:lnTo>
                    <a:pt x="1058" y="465"/>
                  </a:lnTo>
                  <a:lnTo>
                    <a:pt x="1058" y="455"/>
                  </a:lnTo>
                  <a:close/>
                  <a:moveTo>
                    <a:pt x="1162" y="401"/>
                  </a:moveTo>
                  <a:lnTo>
                    <a:pt x="1162" y="391"/>
                  </a:lnTo>
                  <a:lnTo>
                    <a:pt x="1167" y="386"/>
                  </a:lnTo>
                  <a:lnTo>
                    <a:pt x="1172" y="386"/>
                  </a:lnTo>
                  <a:lnTo>
                    <a:pt x="1177" y="391"/>
                  </a:lnTo>
                  <a:lnTo>
                    <a:pt x="1182" y="401"/>
                  </a:lnTo>
                  <a:lnTo>
                    <a:pt x="1182" y="406"/>
                  </a:lnTo>
                  <a:lnTo>
                    <a:pt x="1177" y="416"/>
                  </a:lnTo>
                  <a:lnTo>
                    <a:pt x="1177" y="420"/>
                  </a:lnTo>
                  <a:lnTo>
                    <a:pt x="1172" y="425"/>
                  </a:lnTo>
                  <a:lnTo>
                    <a:pt x="1167" y="425"/>
                  </a:lnTo>
                  <a:lnTo>
                    <a:pt x="1167" y="425"/>
                  </a:lnTo>
                  <a:lnTo>
                    <a:pt x="1162" y="420"/>
                  </a:lnTo>
                  <a:lnTo>
                    <a:pt x="1162" y="411"/>
                  </a:lnTo>
                  <a:lnTo>
                    <a:pt x="1162" y="401"/>
                  </a:lnTo>
                  <a:close/>
                  <a:moveTo>
                    <a:pt x="1053" y="371"/>
                  </a:moveTo>
                  <a:lnTo>
                    <a:pt x="1049" y="371"/>
                  </a:lnTo>
                  <a:lnTo>
                    <a:pt x="1044" y="366"/>
                  </a:lnTo>
                  <a:lnTo>
                    <a:pt x="1039" y="361"/>
                  </a:lnTo>
                  <a:lnTo>
                    <a:pt x="1039" y="356"/>
                  </a:lnTo>
                  <a:lnTo>
                    <a:pt x="1034" y="351"/>
                  </a:lnTo>
                  <a:lnTo>
                    <a:pt x="1029" y="346"/>
                  </a:lnTo>
                  <a:lnTo>
                    <a:pt x="1029" y="341"/>
                  </a:lnTo>
                  <a:lnTo>
                    <a:pt x="1024" y="336"/>
                  </a:lnTo>
                  <a:lnTo>
                    <a:pt x="1024" y="331"/>
                  </a:lnTo>
                  <a:lnTo>
                    <a:pt x="1019" y="327"/>
                  </a:lnTo>
                  <a:lnTo>
                    <a:pt x="1014" y="322"/>
                  </a:lnTo>
                  <a:lnTo>
                    <a:pt x="1014" y="317"/>
                  </a:lnTo>
                  <a:lnTo>
                    <a:pt x="1009" y="312"/>
                  </a:lnTo>
                  <a:lnTo>
                    <a:pt x="1009" y="307"/>
                  </a:lnTo>
                  <a:lnTo>
                    <a:pt x="1004" y="302"/>
                  </a:lnTo>
                  <a:lnTo>
                    <a:pt x="1004" y="297"/>
                  </a:lnTo>
                  <a:lnTo>
                    <a:pt x="1009" y="292"/>
                  </a:lnTo>
                  <a:lnTo>
                    <a:pt x="1019" y="287"/>
                  </a:lnTo>
                  <a:lnTo>
                    <a:pt x="1029" y="287"/>
                  </a:lnTo>
                  <a:lnTo>
                    <a:pt x="1034" y="287"/>
                  </a:lnTo>
                  <a:lnTo>
                    <a:pt x="1039" y="282"/>
                  </a:lnTo>
                  <a:lnTo>
                    <a:pt x="1044" y="277"/>
                  </a:lnTo>
                  <a:lnTo>
                    <a:pt x="1049" y="272"/>
                  </a:lnTo>
                  <a:lnTo>
                    <a:pt x="1053" y="267"/>
                  </a:lnTo>
                  <a:lnTo>
                    <a:pt x="1058" y="267"/>
                  </a:lnTo>
                  <a:lnTo>
                    <a:pt x="1063" y="262"/>
                  </a:lnTo>
                  <a:lnTo>
                    <a:pt x="1068" y="257"/>
                  </a:lnTo>
                  <a:lnTo>
                    <a:pt x="1078" y="257"/>
                  </a:lnTo>
                  <a:lnTo>
                    <a:pt x="1083" y="257"/>
                  </a:lnTo>
                  <a:lnTo>
                    <a:pt x="1093" y="252"/>
                  </a:lnTo>
                  <a:lnTo>
                    <a:pt x="1098" y="252"/>
                  </a:lnTo>
                  <a:lnTo>
                    <a:pt x="1108" y="247"/>
                  </a:lnTo>
                  <a:lnTo>
                    <a:pt x="1113" y="243"/>
                  </a:lnTo>
                  <a:lnTo>
                    <a:pt x="1113" y="238"/>
                  </a:lnTo>
                  <a:lnTo>
                    <a:pt x="1118" y="233"/>
                  </a:lnTo>
                  <a:lnTo>
                    <a:pt x="1118" y="228"/>
                  </a:lnTo>
                  <a:lnTo>
                    <a:pt x="1118" y="223"/>
                  </a:lnTo>
                  <a:lnTo>
                    <a:pt x="1118" y="218"/>
                  </a:lnTo>
                  <a:lnTo>
                    <a:pt x="1118" y="213"/>
                  </a:lnTo>
                  <a:lnTo>
                    <a:pt x="1123" y="208"/>
                  </a:lnTo>
                  <a:lnTo>
                    <a:pt x="1128" y="203"/>
                  </a:lnTo>
                  <a:lnTo>
                    <a:pt x="1138" y="198"/>
                  </a:lnTo>
                  <a:lnTo>
                    <a:pt x="1143" y="198"/>
                  </a:lnTo>
                  <a:lnTo>
                    <a:pt x="1152" y="203"/>
                  </a:lnTo>
                  <a:lnTo>
                    <a:pt x="1157" y="203"/>
                  </a:lnTo>
                  <a:lnTo>
                    <a:pt x="1162" y="213"/>
                  </a:lnTo>
                  <a:lnTo>
                    <a:pt x="1167" y="218"/>
                  </a:lnTo>
                  <a:lnTo>
                    <a:pt x="1172" y="223"/>
                  </a:lnTo>
                  <a:lnTo>
                    <a:pt x="1177" y="218"/>
                  </a:lnTo>
                  <a:lnTo>
                    <a:pt x="1182" y="213"/>
                  </a:lnTo>
                  <a:lnTo>
                    <a:pt x="1182" y="208"/>
                  </a:lnTo>
                  <a:lnTo>
                    <a:pt x="1182" y="198"/>
                  </a:lnTo>
                  <a:lnTo>
                    <a:pt x="1177" y="193"/>
                  </a:lnTo>
                  <a:lnTo>
                    <a:pt x="1177" y="188"/>
                  </a:lnTo>
                  <a:lnTo>
                    <a:pt x="1177" y="183"/>
                  </a:lnTo>
                  <a:lnTo>
                    <a:pt x="1177" y="183"/>
                  </a:lnTo>
                  <a:lnTo>
                    <a:pt x="1182" y="178"/>
                  </a:lnTo>
                  <a:lnTo>
                    <a:pt x="1187" y="173"/>
                  </a:lnTo>
                  <a:lnTo>
                    <a:pt x="1197" y="168"/>
                  </a:lnTo>
                  <a:lnTo>
                    <a:pt x="1202" y="163"/>
                  </a:lnTo>
                  <a:lnTo>
                    <a:pt x="1212" y="163"/>
                  </a:lnTo>
                  <a:lnTo>
                    <a:pt x="1217" y="159"/>
                  </a:lnTo>
                  <a:lnTo>
                    <a:pt x="1227" y="163"/>
                  </a:lnTo>
                  <a:lnTo>
                    <a:pt x="1232" y="168"/>
                  </a:lnTo>
                  <a:lnTo>
                    <a:pt x="1241" y="173"/>
                  </a:lnTo>
                  <a:lnTo>
                    <a:pt x="1246" y="173"/>
                  </a:lnTo>
                  <a:lnTo>
                    <a:pt x="1251" y="173"/>
                  </a:lnTo>
                  <a:lnTo>
                    <a:pt x="1251" y="168"/>
                  </a:lnTo>
                  <a:lnTo>
                    <a:pt x="1251" y="163"/>
                  </a:lnTo>
                  <a:lnTo>
                    <a:pt x="1251" y="159"/>
                  </a:lnTo>
                  <a:lnTo>
                    <a:pt x="1256" y="154"/>
                  </a:lnTo>
                  <a:lnTo>
                    <a:pt x="1261" y="149"/>
                  </a:lnTo>
                  <a:lnTo>
                    <a:pt x="1271" y="149"/>
                  </a:lnTo>
                  <a:lnTo>
                    <a:pt x="1276" y="144"/>
                  </a:lnTo>
                  <a:lnTo>
                    <a:pt x="1286" y="144"/>
                  </a:lnTo>
                  <a:lnTo>
                    <a:pt x="1291" y="139"/>
                  </a:lnTo>
                  <a:lnTo>
                    <a:pt x="1296" y="134"/>
                  </a:lnTo>
                  <a:lnTo>
                    <a:pt x="1301" y="134"/>
                  </a:lnTo>
                  <a:lnTo>
                    <a:pt x="1311" y="129"/>
                  </a:lnTo>
                  <a:lnTo>
                    <a:pt x="1316" y="129"/>
                  </a:lnTo>
                  <a:lnTo>
                    <a:pt x="1326" y="129"/>
                  </a:lnTo>
                  <a:lnTo>
                    <a:pt x="1335" y="124"/>
                  </a:lnTo>
                  <a:lnTo>
                    <a:pt x="1340" y="124"/>
                  </a:lnTo>
                  <a:lnTo>
                    <a:pt x="1350" y="124"/>
                  </a:lnTo>
                  <a:lnTo>
                    <a:pt x="1355" y="119"/>
                  </a:lnTo>
                  <a:lnTo>
                    <a:pt x="1365" y="114"/>
                  </a:lnTo>
                  <a:lnTo>
                    <a:pt x="1370" y="114"/>
                  </a:lnTo>
                  <a:lnTo>
                    <a:pt x="1375" y="109"/>
                  </a:lnTo>
                  <a:lnTo>
                    <a:pt x="1385" y="109"/>
                  </a:lnTo>
                  <a:lnTo>
                    <a:pt x="1390" y="104"/>
                  </a:lnTo>
                  <a:lnTo>
                    <a:pt x="1400" y="104"/>
                  </a:lnTo>
                  <a:lnTo>
                    <a:pt x="1405" y="99"/>
                  </a:lnTo>
                  <a:lnTo>
                    <a:pt x="1410" y="94"/>
                  </a:lnTo>
                  <a:lnTo>
                    <a:pt x="1415" y="94"/>
                  </a:lnTo>
                  <a:lnTo>
                    <a:pt x="1424" y="94"/>
                  </a:lnTo>
                  <a:lnTo>
                    <a:pt x="1429" y="94"/>
                  </a:lnTo>
                  <a:lnTo>
                    <a:pt x="1439" y="94"/>
                  </a:lnTo>
                  <a:lnTo>
                    <a:pt x="1444" y="89"/>
                  </a:lnTo>
                  <a:lnTo>
                    <a:pt x="1454" y="84"/>
                  </a:lnTo>
                  <a:lnTo>
                    <a:pt x="1459" y="84"/>
                  </a:lnTo>
                  <a:lnTo>
                    <a:pt x="1469" y="79"/>
                  </a:lnTo>
                  <a:lnTo>
                    <a:pt x="1474" y="79"/>
                  </a:lnTo>
                  <a:lnTo>
                    <a:pt x="1479" y="79"/>
                  </a:lnTo>
                  <a:lnTo>
                    <a:pt x="1484" y="74"/>
                  </a:lnTo>
                  <a:lnTo>
                    <a:pt x="1489" y="70"/>
                  </a:lnTo>
                  <a:lnTo>
                    <a:pt x="1499" y="65"/>
                  </a:lnTo>
                  <a:lnTo>
                    <a:pt x="1504" y="65"/>
                  </a:lnTo>
                  <a:lnTo>
                    <a:pt x="1513" y="65"/>
                  </a:lnTo>
                  <a:lnTo>
                    <a:pt x="1523" y="60"/>
                  </a:lnTo>
                  <a:lnTo>
                    <a:pt x="1528" y="60"/>
                  </a:lnTo>
                  <a:lnTo>
                    <a:pt x="1533" y="55"/>
                  </a:lnTo>
                  <a:lnTo>
                    <a:pt x="1543" y="55"/>
                  </a:lnTo>
                  <a:lnTo>
                    <a:pt x="1553" y="55"/>
                  </a:lnTo>
                  <a:lnTo>
                    <a:pt x="1558" y="55"/>
                  </a:lnTo>
                  <a:lnTo>
                    <a:pt x="1568" y="55"/>
                  </a:lnTo>
                  <a:lnTo>
                    <a:pt x="1573" y="50"/>
                  </a:lnTo>
                  <a:lnTo>
                    <a:pt x="1578" y="45"/>
                  </a:lnTo>
                  <a:lnTo>
                    <a:pt x="1583" y="40"/>
                  </a:lnTo>
                  <a:lnTo>
                    <a:pt x="1588" y="40"/>
                  </a:lnTo>
                  <a:lnTo>
                    <a:pt x="1598" y="35"/>
                  </a:lnTo>
                  <a:lnTo>
                    <a:pt x="1602" y="30"/>
                  </a:lnTo>
                  <a:lnTo>
                    <a:pt x="1612" y="30"/>
                  </a:lnTo>
                  <a:lnTo>
                    <a:pt x="1617" y="30"/>
                  </a:lnTo>
                  <a:lnTo>
                    <a:pt x="1627" y="30"/>
                  </a:lnTo>
                  <a:lnTo>
                    <a:pt x="1637" y="25"/>
                  </a:lnTo>
                  <a:lnTo>
                    <a:pt x="1642" y="25"/>
                  </a:lnTo>
                  <a:lnTo>
                    <a:pt x="1652" y="25"/>
                  </a:lnTo>
                  <a:lnTo>
                    <a:pt x="1662" y="30"/>
                  </a:lnTo>
                  <a:lnTo>
                    <a:pt x="1667" y="30"/>
                  </a:lnTo>
                  <a:lnTo>
                    <a:pt x="1677" y="30"/>
                  </a:lnTo>
                  <a:lnTo>
                    <a:pt x="1682" y="30"/>
                  </a:lnTo>
                  <a:lnTo>
                    <a:pt x="1691" y="35"/>
                  </a:lnTo>
                  <a:lnTo>
                    <a:pt x="1696" y="35"/>
                  </a:lnTo>
                  <a:lnTo>
                    <a:pt x="1706" y="40"/>
                  </a:lnTo>
                  <a:lnTo>
                    <a:pt x="1711" y="45"/>
                  </a:lnTo>
                  <a:lnTo>
                    <a:pt x="1716" y="50"/>
                  </a:lnTo>
                  <a:lnTo>
                    <a:pt x="1721" y="50"/>
                  </a:lnTo>
                  <a:lnTo>
                    <a:pt x="1731" y="55"/>
                  </a:lnTo>
                  <a:lnTo>
                    <a:pt x="1736" y="55"/>
                  </a:lnTo>
                  <a:lnTo>
                    <a:pt x="1746" y="55"/>
                  </a:lnTo>
                  <a:lnTo>
                    <a:pt x="1751" y="55"/>
                  </a:lnTo>
                  <a:lnTo>
                    <a:pt x="1761" y="55"/>
                  </a:lnTo>
                  <a:lnTo>
                    <a:pt x="1771" y="55"/>
                  </a:lnTo>
                  <a:lnTo>
                    <a:pt x="1776" y="55"/>
                  </a:lnTo>
                  <a:lnTo>
                    <a:pt x="1785" y="55"/>
                  </a:lnTo>
                  <a:lnTo>
                    <a:pt x="1790" y="60"/>
                  </a:lnTo>
                  <a:lnTo>
                    <a:pt x="1800" y="60"/>
                  </a:lnTo>
                  <a:lnTo>
                    <a:pt x="1805" y="65"/>
                  </a:lnTo>
                  <a:lnTo>
                    <a:pt x="1810" y="70"/>
                  </a:lnTo>
                  <a:lnTo>
                    <a:pt x="1815" y="74"/>
                  </a:lnTo>
                  <a:lnTo>
                    <a:pt x="1820" y="79"/>
                  </a:lnTo>
                  <a:lnTo>
                    <a:pt x="1830" y="79"/>
                  </a:lnTo>
                  <a:lnTo>
                    <a:pt x="1835" y="79"/>
                  </a:lnTo>
                  <a:lnTo>
                    <a:pt x="1845" y="79"/>
                  </a:lnTo>
                  <a:lnTo>
                    <a:pt x="1855" y="79"/>
                  </a:lnTo>
                  <a:lnTo>
                    <a:pt x="1860" y="79"/>
                  </a:lnTo>
                  <a:lnTo>
                    <a:pt x="1870" y="79"/>
                  </a:lnTo>
                  <a:lnTo>
                    <a:pt x="1879" y="84"/>
                  </a:lnTo>
                  <a:lnTo>
                    <a:pt x="1884" y="84"/>
                  </a:lnTo>
                  <a:lnTo>
                    <a:pt x="1894" y="84"/>
                  </a:lnTo>
                  <a:lnTo>
                    <a:pt x="1899" y="89"/>
                  </a:lnTo>
                  <a:lnTo>
                    <a:pt x="1904" y="89"/>
                  </a:lnTo>
                  <a:lnTo>
                    <a:pt x="1909" y="94"/>
                  </a:lnTo>
                  <a:lnTo>
                    <a:pt x="1914" y="99"/>
                  </a:lnTo>
                  <a:lnTo>
                    <a:pt x="1919" y="104"/>
                  </a:lnTo>
                  <a:lnTo>
                    <a:pt x="1924" y="109"/>
                  </a:lnTo>
                  <a:lnTo>
                    <a:pt x="1934" y="109"/>
                  </a:lnTo>
                  <a:lnTo>
                    <a:pt x="1944" y="109"/>
                  </a:lnTo>
                  <a:lnTo>
                    <a:pt x="1949" y="109"/>
                  </a:lnTo>
                  <a:lnTo>
                    <a:pt x="1959" y="109"/>
                  </a:lnTo>
                  <a:lnTo>
                    <a:pt x="1968" y="109"/>
                  </a:lnTo>
                  <a:lnTo>
                    <a:pt x="1973" y="109"/>
                  </a:lnTo>
                  <a:lnTo>
                    <a:pt x="1983" y="109"/>
                  </a:lnTo>
                  <a:lnTo>
                    <a:pt x="1993" y="109"/>
                  </a:lnTo>
                  <a:lnTo>
                    <a:pt x="1998" y="114"/>
                  </a:lnTo>
                  <a:lnTo>
                    <a:pt x="2003" y="114"/>
                  </a:lnTo>
                  <a:lnTo>
                    <a:pt x="2008" y="119"/>
                  </a:lnTo>
                  <a:lnTo>
                    <a:pt x="2013" y="124"/>
                  </a:lnTo>
                  <a:lnTo>
                    <a:pt x="2018" y="129"/>
                  </a:lnTo>
                  <a:lnTo>
                    <a:pt x="2023" y="134"/>
                  </a:lnTo>
                  <a:lnTo>
                    <a:pt x="2028" y="139"/>
                  </a:lnTo>
                  <a:lnTo>
                    <a:pt x="2033" y="139"/>
                  </a:lnTo>
                  <a:lnTo>
                    <a:pt x="2043" y="139"/>
                  </a:lnTo>
                  <a:lnTo>
                    <a:pt x="2052" y="139"/>
                  </a:lnTo>
                  <a:lnTo>
                    <a:pt x="2062" y="139"/>
                  </a:lnTo>
                  <a:lnTo>
                    <a:pt x="2067" y="139"/>
                  </a:lnTo>
                  <a:lnTo>
                    <a:pt x="2077" y="139"/>
                  </a:lnTo>
                  <a:lnTo>
                    <a:pt x="2087" y="139"/>
                  </a:lnTo>
                  <a:lnTo>
                    <a:pt x="2092" y="144"/>
                  </a:lnTo>
                  <a:lnTo>
                    <a:pt x="2102" y="144"/>
                  </a:lnTo>
                  <a:lnTo>
                    <a:pt x="2107" y="144"/>
                  </a:lnTo>
                  <a:lnTo>
                    <a:pt x="2112" y="149"/>
                  </a:lnTo>
                  <a:lnTo>
                    <a:pt x="2117" y="154"/>
                  </a:lnTo>
                  <a:lnTo>
                    <a:pt x="2117" y="159"/>
                  </a:lnTo>
                  <a:lnTo>
                    <a:pt x="2122" y="163"/>
                  </a:lnTo>
                  <a:lnTo>
                    <a:pt x="2122" y="173"/>
                  </a:lnTo>
                  <a:lnTo>
                    <a:pt x="2127" y="173"/>
                  </a:lnTo>
                  <a:lnTo>
                    <a:pt x="2132" y="178"/>
                  </a:lnTo>
                  <a:lnTo>
                    <a:pt x="2137" y="183"/>
                  </a:lnTo>
                  <a:lnTo>
                    <a:pt x="2142" y="188"/>
                  </a:lnTo>
                  <a:lnTo>
                    <a:pt x="2146" y="188"/>
                  </a:lnTo>
                  <a:lnTo>
                    <a:pt x="2142" y="193"/>
                  </a:lnTo>
                  <a:lnTo>
                    <a:pt x="2137" y="198"/>
                  </a:lnTo>
                  <a:lnTo>
                    <a:pt x="2132" y="208"/>
                  </a:lnTo>
                  <a:lnTo>
                    <a:pt x="2127" y="213"/>
                  </a:lnTo>
                  <a:lnTo>
                    <a:pt x="2127" y="218"/>
                  </a:lnTo>
                  <a:lnTo>
                    <a:pt x="2122" y="223"/>
                  </a:lnTo>
                  <a:lnTo>
                    <a:pt x="2117" y="228"/>
                  </a:lnTo>
                  <a:lnTo>
                    <a:pt x="2117" y="228"/>
                  </a:lnTo>
                  <a:lnTo>
                    <a:pt x="2112" y="233"/>
                  </a:lnTo>
                  <a:lnTo>
                    <a:pt x="2112" y="238"/>
                  </a:lnTo>
                  <a:lnTo>
                    <a:pt x="2107" y="243"/>
                  </a:lnTo>
                  <a:lnTo>
                    <a:pt x="2102" y="247"/>
                  </a:lnTo>
                  <a:lnTo>
                    <a:pt x="2102" y="252"/>
                  </a:lnTo>
                  <a:lnTo>
                    <a:pt x="2097" y="257"/>
                  </a:lnTo>
                  <a:lnTo>
                    <a:pt x="2092" y="262"/>
                  </a:lnTo>
                  <a:lnTo>
                    <a:pt x="2092" y="267"/>
                  </a:lnTo>
                  <a:lnTo>
                    <a:pt x="2087" y="272"/>
                  </a:lnTo>
                  <a:lnTo>
                    <a:pt x="2087" y="277"/>
                  </a:lnTo>
                  <a:lnTo>
                    <a:pt x="2082" y="282"/>
                  </a:lnTo>
                  <a:lnTo>
                    <a:pt x="2077" y="287"/>
                  </a:lnTo>
                  <a:lnTo>
                    <a:pt x="2077" y="292"/>
                  </a:lnTo>
                  <a:lnTo>
                    <a:pt x="2067" y="292"/>
                  </a:lnTo>
                  <a:lnTo>
                    <a:pt x="2062" y="287"/>
                  </a:lnTo>
                  <a:lnTo>
                    <a:pt x="2052" y="287"/>
                  </a:lnTo>
                  <a:lnTo>
                    <a:pt x="2048" y="287"/>
                  </a:lnTo>
                  <a:lnTo>
                    <a:pt x="2038" y="287"/>
                  </a:lnTo>
                  <a:lnTo>
                    <a:pt x="2028" y="287"/>
                  </a:lnTo>
                  <a:lnTo>
                    <a:pt x="2023" y="287"/>
                  </a:lnTo>
                  <a:lnTo>
                    <a:pt x="2013" y="287"/>
                  </a:lnTo>
                  <a:lnTo>
                    <a:pt x="2008" y="282"/>
                  </a:lnTo>
                  <a:lnTo>
                    <a:pt x="2003" y="277"/>
                  </a:lnTo>
                  <a:lnTo>
                    <a:pt x="1998" y="272"/>
                  </a:lnTo>
                  <a:lnTo>
                    <a:pt x="1993" y="267"/>
                  </a:lnTo>
                  <a:lnTo>
                    <a:pt x="1988" y="267"/>
                  </a:lnTo>
                  <a:lnTo>
                    <a:pt x="1978" y="262"/>
                  </a:lnTo>
                  <a:lnTo>
                    <a:pt x="1968" y="262"/>
                  </a:lnTo>
                  <a:lnTo>
                    <a:pt x="1963" y="262"/>
                  </a:lnTo>
                  <a:lnTo>
                    <a:pt x="1959" y="257"/>
                  </a:lnTo>
                  <a:lnTo>
                    <a:pt x="1954" y="252"/>
                  </a:lnTo>
                  <a:lnTo>
                    <a:pt x="1949" y="247"/>
                  </a:lnTo>
                  <a:lnTo>
                    <a:pt x="1949" y="243"/>
                  </a:lnTo>
                  <a:lnTo>
                    <a:pt x="1944" y="238"/>
                  </a:lnTo>
                  <a:lnTo>
                    <a:pt x="1934" y="243"/>
                  </a:lnTo>
                  <a:lnTo>
                    <a:pt x="1929" y="247"/>
                  </a:lnTo>
                  <a:lnTo>
                    <a:pt x="1929" y="252"/>
                  </a:lnTo>
                  <a:lnTo>
                    <a:pt x="1924" y="257"/>
                  </a:lnTo>
                  <a:lnTo>
                    <a:pt x="1919" y="262"/>
                  </a:lnTo>
                  <a:lnTo>
                    <a:pt x="1914" y="262"/>
                  </a:lnTo>
                  <a:lnTo>
                    <a:pt x="1909" y="262"/>
                  </a:lnTo>
                  <a:lnTo>
                    <a:pt x="1899" y="257"/>
                  </a:lnTo>
                  <a:lnTo>
                    <a:pt x="1894" y="252"/>
                  </a:lnTo>
                  <a:lnTo>
                    <a:pt x="1894" y="247"/>
                  </a:lnTo>
                  <a:lnTo>
                    <a:pt x="1889" y="238"/>
                  </a:lnTo>
                  <a:lnTo>
                    <a:pt x="1894" y="233"/>
                  </a:lnTo>
                  <a:lnTo>
                    <a:pt x="1894" y="228"/>
                  </a:lnTo>
                  <a:lnTo>
                    <a:pt x="1899" y="223"/>
                  </a:lnTo>
                  <a:lnTo>
                    <a:pt x="1899" y="218"/>
                  </a:lnTo>
                  <a:lnTo>
                    <a:pt x="1894" y="213"/>
                  </a:lnTo>
                  <a:lnTo>
                    <a:pt x="1889" y="213"/>
                  </a:lnTo>
                  <a:lnTo>
                    <a:pt x="1884" y="213"/>
                  </a:lnTo>
                  <a:lnTo>
                    <a:pt x="1879" y="218"/>
                  </a:lnTo>
                  <a:lnTo>
                    <a:pt x="1874" y="228"/>
                  </a:lnTo>
                  <a:lnTo>
                    <a:pt x="1874" y="233"/>
                  </a:lnTo>
                  <a:lnTo>
                    <a:pt x="1870" y="233"/>
                  </a:lnTo>
                  <a:lnTo>
                    <a:pt x="1865" y="238"/>
                  </a:lnTo>
                  <a:lnTo>
                    <a:pt x="1855" y="238"/>
                  </a:lnTo>
                  <a:lnTo>
                    <a:pt x="1850" y="238"/>
                  </a:lnTo>
                  <a:lnTo>
                    <a:pt x="1840" y="238"/>
                  </a:lnTo>
                  <a:lnTo>
                    <a:pt x="1830" y="233"/>
                  </a:lnTo>
                  <a:lnTo>
                    <a:pt x="1825" y="233"/>
                  </a:lnTo>
                  <a:lnTo>
                    <a:pt x="1825" y="228"/>
                  </a:lnTo>
                  <a:lnTo>
                    <a:pt x="1820" y="223"/>
                  </a:lnTo>
                  <a:lnTo>
                    <a:pt x="1815" y="218"/>
                  </a:lnTo>
                  <a:lnTo>
                    <a:pt x="1810" y="213"/>
                  </a:lnTo>
                  <a:lnTo>
                    <a:pt x="1800" y="213"/>
                  </a:lnTo>
                  <a:lnTo>
                    <a:pt x="1795" y="213"/>
                  </a:lnTo>
                  <a:lnTo>
                    <a:pt x="1785" y="213"/>
                  </a:lnTo>
                  <a:lnTo>
                    <a:pt x="1776" y="213"/>
                  </a:lnTo>
                  <a:lnTo>
                    <a:pt x="1771" y="213"/>
                  </a:lnTo>
                  <a:lnTo>
                    <a:pt x="1761" y="213"/>
                  </a:lnTo>
                  <a:lnTo>
                    <a:pt x="1751" y="213"/>
                  </a:lnTo>
                  <a:lnTo>
                    <a:pt x="1746" y="213"/>
                  </a:lnTo>
                  <a:lnTo>
                    <a:pt x="1736" y="213"/>
                  </a:lnTo>
                  <a:lnTo>
                    <a:pt x="1726" y="213"/>
                  </a:lnTo>
                  <a:lnTo>
                    <a:pt x="1721" y="213"/>
                  </a:lnTo>
                  <a:lnTo>
                    <a:pt x="1711" y="218"/>
                  </a:lnTo>
                  <a:lnTo>
                    <a:pt x="1706" y="218"/>
                  </a:lnTo>
                  <a:lnTo>
                    <a:pt x="1701" y="223"/>
                  </a:lnTo>
                  <a:lnTo>
                    <a:pt x="1696" y="228"/>
                  </a:lnTo>
                  <a:lnTo>
                    <a:pt x="1696" y="233"/>
                  </a:lnTo>
                  <a:lnTo>
                    <a:pt x="1696" y="238"/>
                  </a:lnTo>
                  <a:lnTo>
                    <a:pt x="1701" y="243"/>
                  </a:lnTo>
                  <a:lnTo>
                    <a:pt x="1706" y="247"/>
                  </a:lnTo>
                  <a:lnTo>
                    <a:pt x="1711" y="252"/>
                  </a:lnTo>
                  <a:lnTo>
                    <a:pt x="1716" y="257"/>
                  </a:lnTo>
                  <a:lnTo>
                    <a:pt x="1721" y="262"/>
                  </a:lnTo>
                  <a:lnTo>
                    <a:pt x="1721" y="267"/>
                  </a:lnTo>
                  <a:lnTo>
                    <a:pt x="1726" y="272"/>
                  </a:lnTo>
                  <a:lnTo>
                    <a:pt x="1726" y="277"/>
                  </a:lnTo>
                  <a:lnTo>
                    <a:pt x="1726" y="282"/>
                  </a:lnTo>
                  <a:lnTo>
                    <a:pt x="1726" y="287"/>
                  </a:lnTo>
                  <a:lnTo>
                    <a:pt x="1726" y="292"/>
                  </a:lnTo>
                  <a:lnTo>
                    <a:pt x="1721" y="297"/>
                  </a:lnTo>
                  <a:lnTo>
                    <a:pt x="1716" y="302"/>
                  </a:lnTo>
                  <a:lnTo>
                    <a:pt x="1711" y="307"/>
                  </a:lnTo>
                  <a:lnTo>
                    <a:pt x="1701" y="312"/>
                  </a:lnTo>
                  <a:lnTo>
                    <a:pt x="1701" y="307"/>
                  </a:lnTo>
                  <a:lnTo>
                    <a:pt x="1696" y="302"/>
                  </a:lnTo>
                  <a:lnTo>
                    <a:pt x="1691" y="297"/>
                  </a:lnTo>
                  <a:lnTo>
                    <a:pt x="1687" y="292"/>
                  </a:lnTo>
                  <a:lnTo>
                    <a:pt x="1677" y="292"/>
                  </a:lnTo>
                  <a:lnTo>
                    <a:pt x="1672" y="287"/>
                  </a:lnTo>
                  <a:lnTo>
                    <a:pt x="1667" y="282"/>
                  </a:lnTo>
                  <a:lnTo>
                    <a:pt x="1662" y="277"/>
                  </a:lnTo>
                  <a:lnTo>
                    <a:pt x="1662" y="272"/>
                  </a:lnTo>
                  <a:lnTo>
                    <a:pt x="1657" y="267"/>
                  </a:lnTo>
                  <a:lnTo>
                    <a:pt x="1652" y="267"/>
                  </a:lnTo>
                  <a:lnTo>
                    <a:pt x="1647" y="262"/>
                  </a:lnTo>
                  <a:lnTo>
                    <a:pt x="1642" y="257"/>
                  </a:lnTo>
                  <a:lnTo>
                    <a:pt x="1637" y="252"/>
                  </a:lnTo>
                  <a:lnTo>
                    <a:pt x="1632" y="247"/>
                  </a:lnTo>
                  <a:lnTo>
                    <a:pt x="1627" y="243"/>
                  </a:lnTo>
                  <a:lnTo>
                    <a:pt x="1622" y="238"/>
                  </a:lnTo>
                  <a:lnTo>
                    <a:pt x="1617" y="238"/>
                  </a:lnTo>
                  <a:lnTo>
                    <a:pt x="1607" y="238"/>
                  </a:lnTo>
                  <a:lnTo>
                    <a:pt x="1598" y="238"/>
                  </a:lnTo>
                  <a:lnTo>
                    <a:pt x="1593" y="238"/>
                  </a:lnTo>
                  <a:lnTo>
                    <a:pt x="1583" y="243"/>
                  </a:lnTo>
                  <a:lnTo>
                    <a:pt x="1578" y="243"/>
                  </a:lnTo>
                  <a:lnTo>
                    <a:pt x="1573" y="247"/>
                  </a:lnTo>
                  <a:lnTo>
                    <a:pt x="1568" y="252"/>
                  </a:lnTo>
                  <a:lnTo>
                    <a:pt x="1563" y="257"/>
                  </a:lnTo>
                  <a:lnTo>
                    <a:pt x="1558" y="262"/>
                  </a:lnTo>
                  <a:lnTo>
                    <a:pt x="1548" y="262"/>
                  </a:lnTo>
                  <a:lnTo>
                    <a:pt x="1538" y="262"/>
                  </a:lnTo>
                  <a:lnTo>
                    <a:pt x="1533" y="262"/>
                  </a:lnTo>
                  <a:lnTo>
                    <a:pt x="1523" y="262"/>
                  </a:lnTo>
                  <a:lnTo>
                    <a:pt x="1518" y="267"/>
                  </a:lnTo>
                  <a:lnTo>
                    <a:pt x="1513" y="272"/>
                  </a:lnTo>
                  <a:lnTo>
                    <a:pt x="1508" y="277"/>
                  </a:lnTo>
                  <a:lnTo>
                    <a:pt x="1499" y="277"/>
                  </a:lnTo>
                  <a:lnTo>
                    <a:pt x="1494" y="282"/>
                  </a:lnTo>
                  <a:lnTo>
                    <a:pt x="1489" y="282"/>
                  </a:lnTo>
                  <a:lnTo>
                    <a:pt x="1479" y="287"/>
                  </a:lnTo>
                  <a:lnTo>
                    <a:pt x="1474" y="287"/>
                  </a:lnTo>
                  <a:lnTo>
                    <a:pt x="1464" y="292"/>
                  </a:lnTo>
                  <a:lnTo>
                    <a:pt x="1454" y="292"/>
                  </a:lnTo>
                  <a:lnTo>
                    <a:pt x="1449" y="297"/>
                  </a:lnTo>
                  <a:lnTo>
                    <a:pt x="1444" y="297"/>
                  </a:lnTo>
                  <a:lnTo>
                    <a:pt x="1439" y="302"/>
                  </a:lnTo>
                  <a:lnTo>
                    <a:pt x="1434" y="307"/>
                  </a:lnTo>
                  <a:lnTo>
                    <a:pt x="1429" y="312"/>
                  </a:lnTo>
                  <a:lnTo>
                    <a:pt x="1419" y="312"/>
                  </a:lnTo>
                  <a:lnTo>
                    <a:pt x="1415" y="317"/>
                  </a:lnTo>
                  <a:lnTo>
                    <a:pt x="1405" y="317"/>
                  </a:lnTo>
                  <a:lnTo>
                    <a:pt x="1395" y="317"/>
                  </a:lnTo>
                  <a:lnTo>
                    <a:pt x="1390" y="322"/>
                  </a:lnTo>
                  <a:lnTo>
                    <a:pt x="1385" y="322"/>
                  </a:lnTo>
                  <a:lnTo>
                    <a:pt x="1380" y="327"/>
                  </a:lnTo>
                  <a:lnTo>
                    <a:pt x="1370" y="331"/>
                  </a:lnTo>
                  <a:lnTo>
                    <a:pt x="1365" y="331"/>
                  </a:lnTo>
                  <a:lnTo>
                    <a:pt x="1355" y="336"/>
                  </a:lnTo>
                  <a:lnTo>
                    <a:pt x="1350" y="336"/>
                  </a:lnTo>
                  <a:lnTo>
                    <a:pt x="1340" y="336"/>
                  </a:lnTo>
                  <a:lnTo>
                    <a:pt x="1335" y="341"/>
                  </a:lnTo>
                  <a:lnTo>
                    <a:pt x="1326" y="341"/>
                  </a:lnTo>
                  <a:lnTo>
                    <a:pt x="1321" y="341"/>
                  </a:lnTo>
                  <a:lnTo>
                    <a:pt x="1311" y="346"/>
                  </a:lnTo>
                  <a:lnTo>
                    <a:pt x="1306" y="351"/>
                  </a:lnTo>
                  <a:lnTo>
                    <a:pt x="1301" y="351"/>
                  </a:lnTo>
                  <a:lnTo>
                    <a:pt x="1291" y="356"/>
                  </a:lnTo>
                  <a:lnTo>
                    <a:pt x="1286" y="356"/>
                  </a:lnTo>
                  <a:lnTo>
                    <a:pt x="1276" y="361"/>
                  </a:lnTo>
                  <a:lnTo>
                    <a:pt x="1271" y="361"/>
                  </a:lnTo>
                  <a:lnTo>
                    <a:pt x="1261" y="361"/>
                  </a:lnTo>
                  <a:lnTo>
                    <a:pt x="1251" y="361"/>
                  </a:lnTo>
                  <a:lnTo>
                    <a:pt x="1246" y="361"/>
                  </a:lnTo>
                  <a:lnTo>
                    <a:pt x="1241" y="356"/>
                  </a:lnTo>
                  <a:lnTo>
                    <a:pt x="1236" y="351"/>
                  </a:lnTo>
                  <a:lnTo>
                    <a:pt x="1232" y="346"/>
                  </a:lnTo>
                  <a:lnTo>
                    <a:pt x="1232" y="341"/>
                  </a:lnTo>
                  <a:lnTo>
                    <a:pt x="1227" y="336"/>
                  </a:lnTo>
                  <a:lnTo>
                    <a:pt x="1222" y="336"/>
                  </a:lnTo>
                  <a:lnTo>
                    <a:pt x="1217" y="341"/>
                  </a:lnTo>
                  <a:lnTo>
                    <a:pt x="1212" y="346"/>
                  </a:lnTo>
                  <a:lnTo>
                    <a:pt x="1207" y="356"/>
                  </a:lnTo>
                  <a:lnTo>
                    <a:pt x="1202" y="361"/>
                  </a:lnTo>
                  <a:lnTo>
                    <a:pt x="1202" y="366"/>
                  </a:lnTo>
                  <a:lnTo>
                    <a:pt x="1197" y="366"/>
                  </a:lnTo>
                  <a:lnTo>
                    <a:pt x="1192" y="361"/>
                  </a:lnTo>
                  <a:lnTo>
                    <a:pt x="1192" y="356"/>
                  </a:lnTo>
                  <a:lnTo>
                    <a:pt x="1187" y="351"/>
                  </a:lnTo>
                  <a:lnTo>
                    <a:pt x="1187" y="346"/>
                  </a:lnTo>
                  <a:lnTo>
                    <a:pt x="1192" y="341"/>
                  </a:lnTo>
                  <a:lnTo>
                    <a:pt x="1192" y="336"/>
                  </a:lnTo>
                  <a:lnTo>
                    <a:pt x="1197" y="331"/>
                  </a:lnTo>
                  <a:lnTo>
                    <a:pt x="1202" y="327"/>
                  </a:lnTo>
                  <a:lnTo>
                    <a:pt x="1207" y="322"/>
                  </a:lnTo>
                  <a:lnTo>
                    <a:pt x="1212" y="317"/>
                  </a:lnTo>
                  <a:lnTo>
                    <a:pt x="1217" y="312"/>
                  </a:lnTo>
                  <a:lnTo>
                    <a:pt x="1217" y="307"/>
                  </a:lnTo>
                  <a:lnTo>
                    <a:pt x="1227" y="307"/>
                  </a:lnTo>
                  <a:lnTo>
                    <a:pt x="1232" y="307"/>
                  </a:lnTo>
                  <a:lnTo>
                    <a:pt x="1241" y="307"/>
                  </a:lnTo>
                  <a:lnTo>
                    <a:pt x="1251" y="302"/>
                  </a:lnTo>
                  <a:lnTo>
                    <a:pt x="1256" y="302"/>
                  </a:lnTo>
                  <a:lnTo>
                    <a:pt x="1256" y="297"/>
                  </a:lnTo>
                  <a:lnTo>
                    <a:pt x="1251" y="292"/>
                  </a:lnTo>
                  <a:lnTo>
                    <a:pt x="1246" y="287"/>
                  </a:lnTo>
                  <a:lnTo>
                    <a:pt x="1236" y="287"/>
                  </a:lnTo>
                  <a:lnTo>
                    <a:pt x="1232" y="282"/>
                  </a:lnTo>
                  <a:lnTo>
                    <a:pt x="1222" y="282"/>
                  </a:lnTo>
                  <a:lnTo>
                    <a:pt x="1217" y="277"/>
                  </a:lnTo>
                  <a:lnTo>
                    <a:pt x="1212" y="272"/>
                  </a:lnTo>
                  <a:lnTo>
                    <a:pt x="1212" y="267"/>
                  </a:lnTo>
                  <a:lnTo>
                    <a:pt x="1207" y="262"/>
                  </a:lnTo>
                  <a:lnTo>
                    <a:pt x="1202" y="257"/>
                  </a:lnTo>
                  <a:lnTo>
                    <a:pt x="1192" y="257"/>
                  </a:lnTo>
                  <a:lnTo>
                    <a:pt x="1187" y="257"/>
                  </a:lnTo>
                  <a:lnTo>
                    <a:pt x="1177" y="257"/>
                  </a:lnTo>
                  <a:lnTo>
                    <a:pt x="1167" y="257"/>
                  </a:lnTo>
                  <a:lnTo>
                    <a:pt x="1162" y="257"/>
                  </a:lnTo>
                  <a:lnTo>
                    <a:pt x="1152" y="257"/>
                  </a:lnTo>
                  <a:lnTo>
                    <a:pt x="1147" y="262"/>
                  </a:lnTo>
                  <a:lnTo>
                    <a:pt x="1138" y="267"/>
                  </a:lnTo>
                  <a:lnTo>
                    <a:pt x="1133" y="272"/>
                  </a:lnTo>
                  <a:lnTo>
                    <a:pt x="1128" y="272"/>
                  </a:lnTo>
                  <a:lnTo>
                    <a:pt x="1123" y="277"/>
                  </a:lnTo>
                  <a:lnTo>
                    <a:pt x="1118" y="282"/>
                  </a:lnTo>
                  <a:lnTo>
                    <a:pt x="1113" y="287"/>
                  </a:lnTo>
                  <a:lnTo>
                    <a:pt x="1108" y="292"/>
                  </a:lnTo>
                  <a:lnTo>
                    <a:pt x="1108" y="297"/>
                  </a:lnTo>
                  <a:lnTo>
                    <a:pt x="1108" y="302"/>
                  </a:lnTo>
                  <a:lnTo>
                    <a:pt x="1108" y="307"/>
                  </a:lnTo>
                  <a:lnTo>
                    <a:pt x="1108" y="312"/>
                  </a:lnTo>
                  <a:lnTo>
                    <a:pt x="1103" y="317"/>
                  </a:lnTo>
                  <a:lnTo>
                    <a:pt x="1103" y="322"/>
                  </a:lnTo>
                  <a:lnTo>
                    <a:pt x="1098" y="327"/>
                  </a:lnTo>
                  <a:lnTo>
                    <a:pt x="1093" y="331"/>
                  </a:lnTo>
                  <a:lnTo>
                    <a:pt x="1088" y="336"/>
                  </a:lnTo>
                  <a:lnTo>
                    <a:pt x="1083" y="336"/>
                  </a:lnTo>
                  <a:lnTo>
                    <a:pt x="1073" y="341"/>
                  </a:lnTo>
                  <a:lnTo>
                    <a:pt x="1073" y="346"/>
                  </a:lnTo>
                  <a:lnTo>
                    <a:pt x="1073" y="351"/>
                  </a:lnTo>
                  <a:lnTo>
                    <a:pt x="1073" y="356"/>
                  </a:lnTo>
                  <a:lnTo>
                    <a:pt x="1078" y="361"/>
                  </a:lnTo>
                  <a:lnTo>
                    <a:pt x="1078" y="371"/>
                  </a:lnTo>
                  <a:lnTo>
                    <a:pt x="1073" y="371"/>
                  </a:lnTo>
                  <a:lnTo>
                    <a:pt x="1068" y="376"/>
                  </a:lnTo>
                  <a:lnTo>
                    <a:pt x="1058" y="376"/>
                  </a:lnTo>
                  <a:lnTo>
                    <a:pt x="1053" y="371"/>
                  </a:lnTo>
                  <a:close/>
                  <a:moveTo>
                    <a:pt x="1756" y="346"/>
                  </a:moveTo>
                  <a:lnTo>
                    <a:pt x="1756" y="346"/>
                  </a:lnTo>
                  <a:lnTo>
                    <a:pt x="1756" y="346"/>
                  </a:lnTo>
                  <a:lnTo>
                    <a:pt x="1756" y="346"/>
                  </a:lnTo>
                  <a:lnTo>
                    <a:pt x="1756" y="346"/>
                  </a:lnTo>
                  <a:lnTo>
                    <a:pt x="1756" y="346"/>
                  </a:lnTo>
                  <a:lnTo>
                    <a:pt x="1756" y="346"/>
                  </a:lnTo>
                  <a:lnTo>
                    <a:pt x="1756" y="346"/>
                  </a:lnTo>
                  <a:lnTo>
                    <a:pt x="1756" y="346"/>
                  </a:lnTo>
                  <a:lnTo>
                    <a:pt x="1756" y="346"/>
                  </a:lnTo>
                  <a:lnTo>
                    <a:pt x="1756" y="346"/>
                  </a:lnTo>
                  <a:lnTo>
                    <a:pt x="1756" y="346"/>
                  </a:lnTo>
                  <a:lnTo>
                    <a:pt x="1756" y="346"/>
                  </a:lnTo>
                  <a:lnTo>
                    <a:pt x="1756" y="346"/>
                  </a:lnTo>
                  <a:lnTo>
                    <a:pt x="1756" y="346"/>
                  </a:lnTo>
                  <a:close/>
                  <a:moveTo>
                    <a:pt x="2260" y="267"/>
                  </a:moveTo>
                  <a:lnTo>
                    <a:pt x="2255" y="262"/>
                  </a:lnTo>
                  <a:lnTo>
                    <a:pt x="2250" y="252"/>
                  </a:lnTo>
                  <a:lnTo>
                    <a:pt x="2245" y="252"/>
                  </a:lnTo>
                  <a:lnTo>
                    <a:pt x="2240" y="247"/>
                  </a:lnTo>
                  <a:lnTo>
                    <a:pt x="2235" y="247"/>
                  </a:lnTo>
                  <a:lnTo>
                    <a:pt x="2226" y="247"/>
                  </a:lnTo>
                  <a:lnTo>
                    <a:pt x="2221" y="247"/>
                  </a:lnTo>
                  <a:lnTo>
                    <a:pt x="2211" y="247"/>
                  </a:lnTo>
                  <a:lnTo>
                    <a:pt x="2201" y="247"/>
                  </a:lnTo>
                  <a:lnTo>
                    <a:pt x="2196" y="247"/>
                  </a:lnTo>
                  <a:lnTo>
                    <a:pt x="2186" y="243"/>
                  </a:lnTo>
                  <a:lnTo>
                    <a:pt x="2181" y="243"/>
                  </a:lnTo>
                  <a:lnTo>
                    <a:pt x="2176" y="247"/>
                  </a:lnTo>
                  <a:lnTo>
                    <a:pt x="2166" y="252"/>
                  </a:lnTo>
                  <a:lnTo>
                    <a:pt x="2161" y="257"/>
                  </a:lnTo>
                  <a:lnTo>
                    <a:pt x="2156" y="262"/>
                  </a:lnTo>
                  <a:lnTo>
                    <a:pt x="2151" y="262"/>
                  </a:lnTo>
                  <a:lnTo>
                    <a:pt x="2146" y="257"/>
                  </a:lnTo>
                  <a:lnTo>
                    <a:pt x="2142" y="252"/>
                  </a:lnTo>
                  <a:lnTo>
                    <a:pt x="2142" y="243"/>
                  </a:lnTo>
                  <a:lnTo>
                    <a:pt x="2142" y="238"/>
                  </a:lnTo>
                  <a:lnTo>
                    <a:pt x="2146" y="233"/>
                  </a:lnTo>
                  <a:lnTo>
                    <a:pt x="2151" y="233"/>
                  </a:lnTo>
                  <a:lnTo>
                    <a:pt x="2156" y="228"/>
                  </a:lnTo>
                  <a:lnTo>
                    <a:pt x="2161" y="223"/>
                  </a:lnTo>
                  <a:lnTo>
                    <a:pt x="2161" y="218"/>
                  </a:lnTo>
                  <a:lnTo>
                    <a:pt x="2166" y="213"/>
                  </a:lnTo>
                  <a:lnTo>
                    <a:pt x="2166" y="208"/>
                  </a:lnTo>
                  <a:lnTo>
                    <a:pt x="2171" y="198"/>
                  </a:lnTo>
                  <a:lnTo>
                    <a:pt x="2176" y="198"/>
                  </a:lnTo>
                  <a:lnTo>
                    <a:pt x="2181" y="193"/>
                  </a:lnTo>
                  <a:lnTo>
                    <a:pt x="2186" y="198"/>
                  </a:lnTo>
                  <a:lnTo>
                    <a:pt x="2191" y="198"/>
                  </a:lnTo>
                  <a:lnTo>
                    <a:pt x="2196" y="203"/>
                  </a:lnTo>
                  <a:lnTo>
                    <a:pt x="2206" y="208"/>
                  </a:lnTo>
                  <a:lnTo>
                    <a:pt x="2211" y="213"/>
                  </a:lnTo>
                  <a:lnTo>
                    <a:pt x="2216" y="218"/>
                  </a:lnTo>
                  <a:lnTo>
                    <a:pt x="2221" y="218"/>
                  </a:lnTo>
                  <a:lnTo>
                    <a:pt x="2231" y="223"/>
                  </a:lnTo>
                  <a:lnTo>
                    <a:pt x="2235" y="228"/>
                  </a:lnTo>
                  <a:lnTo>
                    <a:pt x="2240" y="228"/>
                  </a:lnTo>
                  <a:lnTo>
                    <a:pt x="2250" y="233"/>
                  </a:lnTo>
                  <a:lnTo>
                    <a:pt x="2255" y="233"/>
                  </a:lnTo>
                  <a:lnTo>
                    <a:pt x="2260" y="238"/>
                  </a:lnTo>
                  <a:lnTo>
                    <a:pt x="2270" y="243"/>
                  </a:lnTo>
                  <a:lnTo>
                    <a:pt x="2270" y="247"/>
                  </a:lnTo>
                  <a:lnTo>
                    <a:pt x="2275" y="252"/>
                  </a:lnTo>
                  <a:lnTo>
                    <a:pt x="2280" y="257"/>
                  </a:lnTo>
                  <a:lnTo>
                    <a:pt x="2285" y="257"/>
                  </a:lnTo>
                  <a:lnTo>
                    <a:pt x="2290" y="262"/>
                  </a:lnTo>
                  <a:lnTo>
                    <a:pt x="2300" y="267"/>
                  </a:lnTo>
                  <a:lnTo>
                    <a:pt x="2290" y="267"/>
                  </a:lnTo>
                  <a:lnTo>
                    <a:pt x="2280" y="267"/>
                  </a:lnTo>
                  <a:lnTo>
                    <a:pt x="2270" y="267"/>
                  </a:lnTo>
                  <a:lnTo>
                    <a:pt x="2265" y="267"/>
                  </a:lnTo>
                  <a:lnTo>
                    <a:pt x="2260" y="267"/>
                  </a:lnTo>
                  <a:close/>
                  <a:moveTo>
                    <a:pt x="915" y="238"/>
                  </a:moveTo>
                  <a:lnTo>
                    <a:pt x="915" y="233"/>
                  </a:lnTo>
                  <a:lnTo>
                    <a:pt x="920" y="228"/>
                  </a:lnTo>
                  <a:lnTo>
                    <a:pt x="930" y="223"/>
                  </a:lnTo>
                  <a:lnTo>
                    <a:pt x="935" y="218"/>
                  </a:lnTo>
                  <a:lnTo>
                    <a:pt x="940" y="213"/>
                  </a:lnTo>
                  <a:lnTo>
                    <a:pt x="945" y="208"/>
                  </a:lnTo>
                  <a:lnTo>
                    <a:pt x="950" y="203"/>
                  </a:lnTo>
                  <a:lnTo>
                    <a:pt x="955" y="198"/>
                  </a:lnTo>
                  <a:lnTo>
                    <a:pt x="960" y="198"/>
                  </a:lnTo>
                  <a:lnTo>
                    <a:pt x="964" y="198"/>
                  </a:lnTo>
                  <a:lnTo>
                    <a:pt x="974" y="203"/>
                  </a:lnTo>
                  <a:lnTo>
                    <a:pt x="979" y="208"/>
                  </a:lnTo>
                  <a:lnTo>
                    <a:pt x="979" y="213"/>
                  </a:lnTo>
                  <a:lnTo>
                    <a:pt x="979" y="218"/>
                  </a:lnTo>
                  <a:lnTo>
                    <a:pt x="974" y="223"/>
                  </a:lnTo>
                  <a:lnTo>
                    <a:pt x="964" y="228"/>
                  </a:lnTo>
                  <a:lnTo>
                    <a:pt x="960" y="233"/>
                  </a:lnTo>
                  <a:lnTo>
                    <a:pt x="955" y="238"/>
                  </a:lnTo>
                  <a:lnTo>
                    <a:pt x="950" y="243"/>
                  </a:lnTo>
                  <a:lnTo>
                    <a:pt x="945" y="252"/>
                  </a:lnTo>
                  <a:lnTo>
                    <a:pt x="940" y="257"/>
                  </a:lnTo>
                  <a:lnTo>
                    <a:pt x="930" y="257"/>
                  </a:lnTo>
                  <a:lnTo>
                    <a:pt x="925" y="257"/>
                  </a:lnTo>
                  <a:lnTo>
                    <a:pt x="920" y="257"/>
                  </a:lnTo>
                  <a:lnTo>
                    <a:pt x="915" y="247"/>
                  </a:lnTo>
                  <a:lnTo>
                    <a:pt x="915" y="238"/>
                  </a:lnTo>
                  <a:close/>
                  <a:moveTo>
                    <a:pt x="1385" y="238"/>
                  </a:moveTo>
                  <a:lnTo>
                    <a:pt x="1385" y="238"/>
                  </a:lnTo>
                  <a:lnTo>
                    <a:pt x="1385" y="238"/>
                  </a:lnTo>
                  <a:lnTo>
                    <a:pt x="1380" y="238"/>
                  </a:lnTo>
                  <a:lnTo>
                    <a:pt x="1380" y="238"/>
                  </a:lnTo>
                  <a:lnTo>
                    <a:pt x="1380" y="243"/>
                  </a:lnTo>
                  <a:lnTo>
                    <a:pt x="1380" y="243"/>
                  </a:lnTo>
                  <a:lnTo>
                    <a:pt x="1380" y="243"/>
                  </a:lnTo>
                  <a:lnTo>
                    <a:pt x="1380" y="243"/>
                  </a:lnTo>
                  <a:lnTo>
                    <a:pt x="1385" y="243"/>
                  </a:lnTo>
                  <a:lnTo>
                    <a:pt x="1385" y="243"/>
                  </a:lnTo>
                  <a:lnTo>
                    <a:pt x="1385" y="243"/>
                  </a:lnTo>
                  <a:lnTo>
                    <a:pt x="1385" y="243"/>
                  </a:lnTo>
                  <a:lnTo>
                    <a:pt x="1385" y="243"/>
                  </a:lnTo>
                  <a:lnTo>
                    <a:pt x="1385" y="238"/>
                  </a:lnTo>
                  <a:close/>
                  <a:moveTo>
                    <a:pt x="1335" y="213"/>
                  </a:moveTo>
                  <a:lnTo>
                    <a:pt x="1335" y="208"/>
                  </a:lnTo>
                  <a:lnTo>
                    <a:pt x="1330" y="208"/>
                  </a:lnTo>
                  <a:lnTo>
                    <a:pt x="1330" y="208"/>
                  </a:lnTo>
                  <a:lnTo>
                    <a:pt x="1326" y="208"/>
                  </a:lnTo>
                  <a:lnTo>
                    <a:pt x="1321" y="208"/>
                  </a:lnTo>
                  <a:lnTo>
                    <a:pt x="1321" y="208"/>
                  </a:lnTo>
                  <a:lnTo>
                    <a:pt x="1316" y="213"/>
                  </a:lnTo>
                  <a:lnTo>
                    <a:pt x="1321" y="218"/>
                  </a:lnTo>
                  <a:lnTo>
                    <a:pt x="1321" y="218"/>
                  </a:lnTo>
                  <a:lnTo>
                    <a:pt x="1326" y="218"/>
                  </a:lnTo>
                  <a:lnTo>
                    <a:pt x="1330" y="218"/>
                  </a:lnTo>
                  <a:lnTo>
                    <a:pt x="1330" y="218"/>
                  </a:lnTo>
                  <a:lnTo>
                    <a:pt x="1335" y="218"/>
                  </a:lnTo>
                  <a:lnTo>
                    <a:pt x="1335" y="213"/>
                  </a:lnTo>
                  <a:close/>
                  <a:moveTo>
                    <a:pt x="984" y="188"/>
                  </a:moveTo>
                  <a:lnTo>
                    <a:pt x="994" y="173"/>
                  </a:lnTo>
                  <a:lnTo>
                    <a:pt x="999" y="168"/>
                  </a:lnTo>
                  <a:lnTo>
                    <a:pt x="1009" y="163"/>
                  </a:lnTo>
                  <a:lnTo>
                    <a:pt x="1014" y="168"/>
                  </a:lnTo>
                  <a:lnTo>
                    <a:pt x="1024" y="173"/>
                  </a:lnTo>
                  <a:lnTo>
                    <a:pt x="1029" y="178"/>
                  </a:lnTo>
                  <a:lnTo>
                    <a:pt x="1029" y="188"/>
                  </a:lnTo>
                  <a:lnTo>
                    <a:pt x="1029" y="198"/>
                  </a:lnTo>
                  <a:lnTo>
                    <a:pt x="1019" y="208"/>
                  </a:lnTo>
                  <a:lnTo>
                    <a:pt x="1014" y="213"/>
                  </a:lnTo>
                  <a:lnTo>
                    <a:pt x="1004" y="213"/>
                  </a:lnTo>
                  <a:lnTo>
                    <a:pt x="999" y="208"/>
                  </a:lnTo>
                  <a:lnTo>
                    <a:pt x="989" y="198"/>
                  </a:lnTo>
                  <a:lnTo>
                    <a:pt x="984" y="188"/>
                  </a:lnTo>
                  <a:close/>
                  <a:moveTo>
                    <a:pt x="1845" y="188"/>
                  </a:moveTo>
                  <a:lnTo>
                    <a:pt x="1845" y="183"/>
                  </a:lnTo>
                  <a:lnTo>
                    <a:pt x="1840" y="183"/>
                  </a:lnTo>
                  <a:lnTo>
                    <a:pt x="1835" y="183"/>
                  </a:lnTo>
                  <a:lnTo>
                    <a:pt x="1835" y="183"/>
                  </a:lnTo>
                  <a:lnTo>
                    <a:pt x="1830" y="188"/>
                  </a:lnTo>
                  <a:lnTo>
                    <a:pt x="1830" y="188"/>
                  </a:lnTo>
                  <a:lnTo>
                    <a:pt x="1830" y="188"/>
                  </a:lnTo>
                  <a:lnTo>
                    <a:pt x="1835" y="193"/>
                  </a:lnTo>
                  <a:lnTo>
                    <a:pt x="1835" y="193"/>
                  </a:lnTo>
                  <a:lnTo>
                    <a:pt x="1835" y="193"/>
                  </a:lnTo>
                  <a:lnTo>
                    <a:pt x="1840" y="193"/>
                  </a:lnTo>
                  <a:lnTo>
                    <a:pt x="1840" y="193"/>
                  </a:lnTo>
                  <a:lnTo>
                    <a:pt x="1845" y="188"/>
                  </a:lnTo>
                  <a:lnTo>
                    <a:pt x="1845" y="188"/>
                  </a:lnTo>
                  <a:close/>
                  <a:moveTo>
                    <a:pt x="1469" y="159"/>
                  </a:moveTo>
                  <a:lnTo>
                    <a:pt x="1464" y="159"/>
                  </a:lnTo>
                  <a:lnTo>
                    <a:pt x="1464" y="154"/>
                  </a:lnTo>
                  <a:lnTo>
                    <a:pt x="1464" y="154"/>
                  </a:lnTo>
                  <a:lnTo>
                    <a:pt x="1464" y="154"/>
                  </a:lnTo>
                  <a:lnTo>
                    <a:pt x="1459" y="154"/>
                  </a:lnTo>
                  <a:lnTo>
                    <a:pt x="1459" y="159"/>
                  </a:lnTo>
                  <a:lnTo>
                    <a:pt x="1454" y="159"/>
                  </a:lnTo>
                  <a:lnTo>
                    <a:pt x="1454" y="159"/>
                  </a:lnTo>
                  <a:lnTo>
                    <a:pt x="1454" y="159"/>
                  </a:lnTo>
                  <a:lnTo>
                    <a:pt x="1459" y="163"/>
                  </a:lnTo>
                  <a:lnTo>
                    <a:pt x="1459" y="163"/>
                  </a:lnTo>
                  <a:lnTo>
                    <a:pt x="1464" y="163"/>
                  </a:lnTo>
                  <a:lnTo>
                    <a:pt x="1464" y="159"/>
                  </a:lnTo>
                  <a:lnTo>
                    <a:pt x="1469" y="159"/>
                  </a:lnTo>
                  <a:close/>
                  <a:moveTo>
                    <a:pt x="1790" y="159"/>
                  </a:moveTo>
                  <a:lnTo>
                    <a:pt x="1790" y="159"/>
                  </a:lnTo>
                  <a:lnTo>
                    <a:pt x="1785" y="159"/>
                  </a:lnTo>
                  <a:lnTo>
                    <a:pt x="1785" y="159"/>
                  </a:lnTo>
                  <a:lnTo>
                    <a:pt x="1780" y="159"/>
                  </a:lnTo>
                  <a:lnTo>
                    <a:pt x="1780" y="159"/>
                  </a:lnTo>
                  <a:lnTo>
                    <a:pt x="1776" y="159"/>
                  </a:lnTo>
                  <a:lnTo>
                    <a:pt x="1776" y="159"/>
                  </a:lnTo>
                  <a:lnTo>
                    <a:pt x="1776" y="159"/>
                  </a:lnTo>
                  <a:lnTo>
                    <a:pt x="1780" y="163"/>
                  </a:lnTo>
                  <a:lnTo>
                    <a:pt x="1785" y="163"/>
                  </a:lnTo>
                  <a:lnTo>
                    <a:pt x="1785" y="163"/>
                  </a:lnTo>
                  <a:lnTo>
                    <a:pt x="1790" y="163"/>
                  </a:lnTo>
                  <a:lnTo>
                    <a:pt x="1790" y="159"/>
                  </a:lnTo>
                  <a:lnTo>
                    <a:pt x="1790" y="159"/>
                  </a:lnTo>
                  <a:close/>
                  <a:moveTo>
                    <a:pt x="1533" y="134"/>
                  </a:moveTo>
                  <a:lnTo>
                    <a:pt x="1528" y="129"/>
                  </a:lnTo>
                  <a:lnTo>
                    <a:pt x="1528" y="129"/>
                  </a:lnTo>
                  <a:lnTo>
                    <a:pt x="1523" y="129"/>
                  </a:lnTo>
                  <a:lnTo>
                    <a:pt x="1518" y="129"/>
                  </a:lnTo>
                  <a:lnTo>
                    <a:pt x="1518" y="129"/>
                  </a:lnTo>
                  <a:lnTo>
                    <a:pt x="1513" y="129"/>
                  </a:lnTo>
                  <a:lnTo>
                    <a:pt x="1513" y="134"/>
                  </a:lnTo>
                  <a:lnTo>
                    <a:pt x="1513" y="134"/>
                  </a:lnTo>
                  <a:lnTo>
                    <a:pt x="1518" y="134"/>
                  </a:lnTo>
                  <a:lnTo>
                    <a:pt x="1518" y="134"/>
                  </a:lnTo>
                  <a:lnTo>
                    <a:pt x="1523" y="134"/>
                  </a:lnTo>
                  <a:lnTo>
                    <a:pt x="1528" y="134"/>
                  </a:lnTo>
                  <a:lnTo>
                    <a:pt x="1528" y="134"/>
                  </a:lnTo>
                  <a:lnTo>
                    <a:pt x="1533" y="134"/>
                  </a:lnTo>
                  <a:close/>
                  <a:moveTo>
                    <a:pt x="1736" y="134"/>
                  </a:moveTo>
                  <a:lnTo>
                    <a:pt x="1736" y="134"/>
                  </a:lnTo>
                  <a:lnTo>
                    <a:pt x="1736" y="134"/>
                  </a:lnTo>
                  <a:lnTo>
                    <a:pt x="1731" y="134"/>
                  </a:lnTo>
                  <a:lnTo>
                    <a:pt x="1731" y="134"/>
                  </a:lnTo>
                  <a:lnTo>
                    <a:pt x="1726" y="134"/>
                  </a:lnTo>
                  <a:lnTo>
                    <a:pt x="1721" y="134"/>
                  </a:lnTo>
                  <a:lnTo>
                    <a:pt x="1721" y="134"/>
                  </a:lnTo>
                  <a:lnTo>
                    <a:pt x="1721" y="134"/>
                  </a:lnTo>
                  <a:lnTo>
                    <a:pt x="1726" y="134"/>
                  </a:lnTo>
                  <a:lnTo>
                    <a:pt x="1731" y="134"/>
                  </a:lnTo>
                  <a:lnTo>
                    <a:pt x="1731" y="134"/>
                  </a:lnTo>
                  <a:lnTo>
                    <a:pt x="1736" y="134"/>
                  </a:lnTo>
                  <a:lnTo>
                    <a:pt x="1736" y="134"/>
                  </a:lnTo>
                  <a:lnTo>
                    <a:pt x="1736" y="134"/>
                  </a:lnTo>
                  <a:close/>
                  <a:moveTo>
                    <a:pt x="1602" y="104"/>
                  </a:moveTo>
                  <a:lnTo>
                    <a:pt x="1598" y="104"/>
                  </a:lnTo>
                  <a:lnTo>
                    <a:pt x="1598" y="104"/>
                  </a:lnTo>
                  <a:lnTo>
                    <a:pt x="1593" y="99"/>
                  </a:lnTo>
                  <a:lnTo>
                    <a:pt x="1593" y="99"/>
                  </a:lnTo>
                  <a:lnTo>
                    <a:pt x="1588" y="104"/>
                  </a:lnTo>
                  <a:lnTo>
                    <a:pt x="1583" y="104"/>
                  </a:lnTo>
                  <a:lnTo>
                    <a:pt x="1583" y="104"/>
                  </a:lnTo>
                  <a:lnTo>
                    <a:pt x="1583" y="104"/>
                  </a:lnTo>
                  <a:lnTo>
                    <a:pt x="1583" y="109"/>
                  </a:lnTo>
                  <a:lnTo>
                    <a:pt x="1588" y="109"/>
                  </a:lnTo>
                  <a:lnTo>
                    <a:pt x="1593" y="109"/>
                  </a:lnTo>
                  <a:lnTo>
                    <a:pt x="1593" y="109"/>
                  </a:lnTo>
                  <a:lnTo>
                    <a:pt x="1598" y="109"/>
                  </a:lnTo>
                  <a:lnTo>
                    <a:pt x="1602" y="104"/>
                  </a:lnTo>
                  <a:close/>
                  <a:moveTo>
                    <a:pt x="1682" y="104"/>
                  </a:moveTo>
                  <a:lnTo>
                    <a:pt x="1682" y="104"/>
                  </a:lnTo>
                  <a:lnTo>
                    <a:pt x="1677" y="104"/>
                  </a:lnTo>
                  <a:lnTo>
                    <a:pt x="1677" y="104"/>
                  </a:lnTo>
                  <a:lnTo>
                    <a:pt x="1672" y="104"/>
                  </a:lnTo>
                  <a:lnTo>
                    <a:pt x="1672" y="104"/>
                  </a:lnTo>
                  <a:lnTo>
                    <a:pt x="1667" y="104"/>
                  </a:lnTo>
                  <a:lnTo>
                    <a:pt x="1667" y="104"/>
                  </a:lnTo>
                  <a:lnTo>
                    <a:pt x="1667" y="104"/>
                  </a:lnTo>
                  <a:lnTo>
                    <a:pt x="1672" y="109"/>
                  </a:lnTo>
                  <a:lnTo>
                    <a:pt x="1672" y="109"/>
                  </a:lnTo>
                  <a:lnTo>
                    <a:pt x="1677" y="109"/>
                  </a:lnTo>
                  <a:lnTo>
                    <a:pt x="1677" y="109"/>
                  </a:lnTo>
                  <a:lnTo>
                    <a:pt x="1682" y="109"/>
                  </a:lnTo>
                  <a:lnTo>
                    <a:pt x="1682" y="104"/>
                  </a:lnTo>
                  <a:close/>
                  <a:moveTo>
                    <a:pt x="2235" y="1656"/>
                  </a:moveTo>
                  <a:lnTo>
                    <a:pt x="2260" y="1631"/>
                  </a:lnTo>
                  <a:lnTo>
                    <a:pt x="2285" y="1631"/>
                  </a:lnTo>
                  <a:lnTo>
                    <a:pt x="2315" y="1631"/>
                  </a:lnTo>
                  <a:lnTo>
                    <a:pt x="2339" y="1631"/>
                  </a:lnTo>
                  <a:lnTo>
                    <a:pt x="2369" y="1631"/>
                  </a:lnTo>
                  <a:lnTo>
                    <a:pt x="2394" y="1631"/>
                  </a:lnTo>
                  <a:lnTo>
                    <a:pt x="2418" y="1631"/>
                  </a:lnTo>
                  <a:lnTo>
                    <a:pt x="2448" y="1602"/>
                  </a:lnTo>
                  <a:lnTo>
                    <a:pt x="2448" y="1577"/>
                  </a:lnTo>
                  <a:lnTo>
                    <a:pt x="2448" y="1547"/>
                  </a:lnTo>
                  <a:lnTo>
                    <a:pt x="2448" y="1523"/>
                  </a:lnTo>
                  <a:lnTo>
                    <a:pt x="2473" y="1498"/>
                  </a:lnTo>
                  <a:lnTo>
                    <a:pt x="2473" y="1468"/>
                  </a:lnTo>
                  <a:lnTo>
                    <a:pt x="2473" y="1444"/>
                  </a:lnTo>
                  <a:lnTo>
                    <a:pt x="2473" y="1414"/>
                  </a:lnTo>
                  <a:lnTo>
                    <a:pt x="2503" y="1389"/>
                  </a:lnTo>
                  <a:lnTo>
                    <a:pt x="2503" y="1364"/>
                  </a:lnTo>
                  <a:lnTo>
                    <a:pt x="2503" y="1335"/>
                  </a:lnTo>
                  <a:lnTo>
                    <a:pt x="2503" y="1310"/>
                  </a:lnTo>
                  <a:lnTo>
                    <a:pt x="2527" y="1280"/>
                  </a:lnTo>
                  <a:lnTo>
                    <a:pt x="2527" y="1256"/>
                  </a:lnTo>
                  <a:lnTo>
                    <a:pt x="2527" y="1226"/>
                  </a:lnTo>
                  <a:lnTo>
                    <a:pt x="2527" y="1201"/>
                  </a:lnTo>
                  <a:lnTo>
                    <a:pt x="2552" y="1177"/>
                  </a:lnTo>
                  <a:lnTo>
                    <a:pt x="2552" y="1147"/>
                  </a:lnTo>
                  <a:lnTo>
                    <a:pt x="2552" y="1122"/>
                  </a:lnTo>
                  <a:lnTo>
                    <a:pt x="2552" y="1093"/>
                  </a:lnTo>
                  <a:lnTo>
                    <a:pt x="2582" y="1068"/>
                  </a:lnTo>
                  <a:lnTo>
                    <a:pt x="2582" y="1043"/>
                  </a:lnTo>
                  <a:lnTo>
                    <a:pt x="2582" y="1014"/>
                  </a:lnTo>
                  <a:lnTo>
                    <a:pt x="2582" y="989"/>
                  </a:lnTo>
                  <a:lnTo>
                    <a:pt x="2582" y="959"/>
                  </a:lnTo>
                  <a:lnTo>
                    <a:pt x="2582" y="934"/>
                  </a:lnTo>
                  <a:lnTo>
                    <a:pt x="2582" y="910"/>
                  </a:lnTo>
                  <a:lnTo>
                    <a:pt x="2582" y="880"/>
                  </a:lnTo>
                  <a:lnTo>
                    <a:pt x="2582" y="855"/>
                  </a:lnTo>
                  <a:lnTo>
                    <a:pt x="2582" y="826"/>
                  </a:lnTo>
                  <a:lnTo>
                    <a:pt x="2582" y="801"/>
                  </a:lnTo>
                  <a:lnTo>
                    <a:pt x="2582" y="776"/>
                  </a:lnTo>
                  <a:lnTo>
                    <a:pt x="2582" y="747"/>
                  </a:lnTo>
                  <a:lnTo>
                    <a:pt x="2582" y="722"/>
                  </a:lnTo>
                  <a:lnTo>
                    <a:pt x="2582" y="692"/>
                  </a:lnTo>
                  <a:lnTo>
                    <a:pt x="2582" y="668"/>
                  </a:lnTo>
                  <a:lnTo>
                    <a:pt x="2582" y="643"/>
                  </a:lnTo>
                  <a:lnTo>
                    <a:pt x="2582" y="613"/>
                  </a:lnTo>
                  <a:lnTo>
                    <a:pt x="2582" y="589"/>
                  </a:lnTo>
                  <a:lnTo>
                    <a:pt x="2582" y="559"/>
                  </a:lnTo>
                  <a:lnTo>
                    <a:pt x="2582" y="534"/>
                  </a:lnTo>
                  <a:lnTo>
                    <a:pt x="2582" y="504"/>
                  </a:lnTo>
                  <a:lnTo>
                    <a:pt x="2582" y="480"/>
                  </a:lnTo>
                  <a:lnTo>
                    <a:pt x="2582" y="455"/>
                  </a:lnTo>
                  <a:lnTo>
                    <a:pt x="2582" y="425"/>
                  </a:lnTo>
                  <a:lnTo>
                    <a:pt x="2582" y="401"/>
                  </a:lnTo>
                  <a:lnTo>
                    <a:pt x="2582" y="371"/>
                  </a:lnTo>
                  <a:lnTo>
                    <a:pt x="2582" y="346"/>
                  </a:lnTo>
                  <a:lnTo>
                    <a:pt x="2582" y="322"/>
                  </a:lnTo>
                  <a:lnTo>
                    <a:pt x="2582" y="292"/>
                  </a:lnTo>
                  <a:lnTo>
                    <a:pt x="2582" y="267"/>
                  </a:lnTo>
                  <a:lnTo>
                    <a:pt x="2582" y="238"/>
                  </a:lnTo>
                  <a:lnTo>
                    <a:pt x="2552" y="213"/>
                  </a:lnTo>
                  <a:lnTo>
                    <a:pt x="2552" y="188"/>
                  </a:lnTo>
                  <a:lnTo>
                    <a:pt x="2552" y="159"/>
                  </a:lnTo>
                  <a:lnTo>
                    <a:pt x="2552" y="134"/>
                  </a:lnTo>
                  <a:lnTo>
                    <a:pt x="2552" y="104"/>
                  </a:lnTo>
                  <a:lnTo>
                    <a:pt x="2527" y="79"/>
                  </a:lnTo>
                  <a:lnTo>
                    <a:pt x="2503" y="79"/>
                  </a:lnTo>
                  <a:lnTo>
                    <a:pt x="2473" y="79"/>
                  </a:lnTo>
                  <a:lnTo>
                    <a:pt x="2448" y="55"/>
                  </a:lnTo>
                  <a:lnTo>
                    <a:pt x="2418" y="55"/>
                  </a:lnTo>
                  <a:lnTo>
                    <a:pt x="2394" y="55"/>
                  </a:lnTo>
                  <a:lnTo>
                    <a:pt x="2369" y="25"/>
                  </a:lnTo>
                  <a:lnTo>
                    <a:pt x="2339" y="25"/>
                  </a:lnTo>
                  <a:lnTo>
                    <a:pt x="2315" y="25"/>
                  </a:lnTo>
                  <a:lnTo>
                    <a:pt x="2285" y="0"/>
                  </a:lnTo>
                  <a:lnTo>
                    <a:pt x="2260" y="0"/>
                  </a:lnTo>
                  <a:lnTo>
                    <a:pt x="2235" y="0"/>
                  </a:lnTo>
                  <a:lnTo>
                    <a:pt x="2206" y="0"/>
                  </a:lnTo>
                  <a:lnTo>
                    <a:pt x="2181" y="0"/>
                  </a:lnTo>
                  <a:lnTo>
                    <a:pt x="2156" y="0"/>
                  </a:lnTo>
                  <a:lnTo>
                    <a:pt x="2127" y="0"/>
                  </a:lnTo>
                  <a:lnTo>
                    <a:pt x="2102" y="0"/>
                  </a:lnTo>
                  <a:lnTo>
                    <a:pt x="2072" y="0"/>
                  </a:lnTo>
                  <a:lnTo>
                    <a:pt x="2048" y="0"/>
                  </a:lnTo>
                  <a:lnTo>
                    <a:pt x="2023" y="0"/>
                  </a:lnTo>
                  <a:lnTo>
                    <a:pt x="1993" y="0"/>
                  </a:lnTo>
                  <a:lnTo>
                    <a:pt x="1968" y="0"/>
                  </a:lnTo>
                  <a:lnTo>
                    <a:pt x="1944" y="0"/>
                  </a:lnTo>
                  <a:lnTo>
                    <a:pt x="1914" y="0"/>
                  </a:lnTo>
                  <a:lnTo>
                    <a:pt x="1889" y="0"/>
                  </a:lnTo>
                  <a:lnTo>
                    <a:pt x="1860" y="0"/>
                  </a:lnTo>
                  <a:lnTo>
                    <a:pt x="1835" y="0"/>
                  </a:lnTo>
                  <a:lnTo>
                    <a:pt x="1810" y="0"/>
                  </a:lnTo>
                  <a:lnTo>
                    <a:pt x="1780" y="0"/>
                  </a:lnTo>
                  <a:lnTo>
                    <a:pt x="1756" y="0"/>
                  </a:lnTo>
                  <a:lnTo>
                    <a:pt x="1726" y="0"/>
                  </a:lnTo>
                  <a:lnTo>
                    <a:pt x="1701" y="0"/>
                  </a:lnTo>
                  <a:lnTo>
                    <a:pt x="1677" y="0"/>
                  </a:lnTo>
                  <a:lnTo>
                    <a:pt x="1647" y="0"/>
                  </a:lnTo>
                  <a:lnTo>
                    <a:pt x="1622" y="0"/>
                  </a:lnTo>
                  <a:lnTo>
                    <a:pt x="1598" y="0"/>
                  </a:lnTo>
                  <a:lnTo>
                    <a:pt x="1568" y="0"/>
                  </a:lnTo>
                  <a:lnTo>
                    <a:pt x="1543" y="0"/>
                  </a:lnTo>
                  <a:lnTo>
                    <a:pt x="1513" y="0"/>
                  </a:lnTo>
                  <a:lnTo>
                    <a:pt x="1489" y="0"/>
                  </a:lnTo>
                  <a:lnTo>
                    <a:pt x="1464" y="0"/>
                  </a:lnTo>
                  <a:lnTo>
                    <a:pt x="1434" y="0"/>
                  </a:lnTo>
                  <a:lnTo>
                    <a:pt x="1410" y="0"/>
                  </a:lnTo>
                  <a:lnTo>
                    <a:pt x="1385" y="0"/>
                  </a:lnTo>
                  <a:lnTo>
                    <a:pt x="1355" y="0"/>
                  </a:lnTo>
                  <a:lnTo>
                    <a:pt x="1330" y="0"/>
                  </a:lnTo>
                  <a:lnTo>
                    <a:pt x="1301" y="0"/>
                  </a:lnTo>
                  <a:lnTo>
                    <a:pt x="1276" y="0"/>
                  </a:lnTo>
                  <a:lnTo>
                    <a:pt x="1251" y="0"/>
                  </a:lnTo>
                  <a:lnTo>
                    <a:pt x="1222" y="0"/>
                  </a:lnTo>
                  <a:lnTo>
                    <a:pt x="1197" y="0"/>
                  </a:lnTo>
                  <a:lnTo>
                    <a:pt x="1172" y="0"/>
                  </a:lnTo>
                  <a:lnTo>
                    <a:pt x="1143" y="0"/>
                  </a:lnTo>
                  <a:lnTo>
                    <a:pt x="1118" y="0"/>
                  </a:lnTo>
                  <a:lnTo>
                    <a:pt x="1088" y="0"/>
                  </a:lnTo>
                  <a:lnTo>
                    <a:pt x="1063" y="0"/>
                  </a:lnTo>
                  <a:lnTo>
                    <a:pt x="1039" y="0"/>
                  </a:lnTo>
                  <a:lnTo>
                    <a:pt x="1009" y="0"/>
                  </a:lnTo>
                  <a:lnTo>
                    <a:pt x="984" y="0"/>
                  </a:lnTo>
                  <a:lnTo>
                    <a:pt x="955" y="0"/>
                  </a:lnTo>
                  <a:lnTo>
                    <a:pt x="930" y="0"/>
                  </a:lnTo>
                  <a:lnTo>
                    <a:pt x="905" y="0"/>
                  </a:lnTo>
                  <a:lnTo>
                    <a:pt x="875" y="0"/>
                  </a:lnTo>
                  <a:lnTo>
                    <a:pt x="851" y="0"/>
                  </a:lnTo>
                  <a:lnTo>
                    <a:pt x="826" y="0"/>
                  </a:lnTo>
                  <a:lnTo>
                    <a:pt x="796" y="0"/>
                  </a:lnTo>
                  <a:lnTo>
                    <a:pt x="772" y="0"/>
                  </a:lnTo>
                  <a:lnTo>
                    <a:pt x="742" y="0"/>
                  </a:lnTo>
                  <a:lnTo>
                    <a:pt x="717" y="0"/>
                  </a:lnTo>
                  <a:lnTo>
                    <a:pt x="692" y="0"/>
                  </a:lnTo>
                  <a:lnTo>
                    <a:pt x="663" y="0"/>
                  </a:lnTo>
                  <a:lnTo>
                    <a:pt x="638" y="0"/>
                  </a:lnTo>
                  <a:lnTo>
                    <a:pt x="613" y="0"/>
                  </a:lnTo>
                  <a:lnTo>
                    <a:pt x="584" y="25"/>
                  </a:lnTo>
                  <a:lnTo>
                    <a:pt x="559" y="55"/>
                  </a:lnTo>
                  <a:lnTo>
                    <a:pt x="529" y="79"/>
                  </a:lnTo>
                  <a:lnTo>
                    <a:pt x="505" y="104"/>
                  </a:lnTo>
                  <a:lnTo>
                    <a:pt x="480" y="134"/>
                  </a:lnTo>
                  <a:lnTo>
                    <a:pt x="450" y="134"/>
                  </a:lnTo>
                  <a:lnTo>
                    <a:pt x="425" y="159"/>
                  </a:lnTo>
                  <a:lnTo>
                    <a:pt x="396" y="188"/>
                  </a:lnTo>
                  <a:lnTo>
                    <a:pt x="371" y="213"/>
                  </a:lnTo>
                  <a:lnTo>
                    <a:pt x="346" y="238"/>
                  </a:lnTo>
                  <a:lnTo>
                    <a:pt x="317" y="267"/>
                  </a:lnTo>
                  <a:lnTo>
                    <a:pt x="292" y="292"/>
                  </a:lnTo>
                  <a:lnTo>
                    <a:pt x="267" y="322"/>
                  </a:lnTo>
                  <a:lnTo>
                    <a:pt x="237" y="322"/>
                  </a:lnTo>
                  <a:lnTo>
                    <a:pt x="213" y="346"/>
                  </a:lnTo>
                  <a:lnTo>
                    <a:pt x="183" y="371"/>
                  </a:lnTo>
                  <a:lnTo>
                    <a:pt x="158" y="401"/>
                  </a:lnTo>
                  <a:lnTo>
                    <a:pt x="134" y="425"/>
                  </a:lnTo>
                  <a:lnTo>
                    <a:pt x="104" y="455"/>
                  </a:lnTo>
                  <a:lnTo>
                    <a:pt x="79" y="480"/>
                  </a:lnTo>
                  <a:lnTo>
                    <a:pt x="55" y="504"/>
                  </a:lnTo>
                  <a:lnTo>
                    <a:pt x="25" y="504"/>
                  </a:lnTo>
                  <a:lnTo>
                    <a:pt x="0" y="534"/>
                  </a:lnTo>
                  <a:lnTo>
                    <a:pt x="0" y="559"/>
                  </a:lnTo>
                  <a:lnTo>
                    <a:pt x="0" y="589"/>
                  </a:lnTo>
                  <a:lnTo>
                    <a:pt x="0" y="613"/>
                  </a:lnTo>
                  <a:lnTo>
                    <a:pt x="25" y="643"/>
                  </a:lnTo>
                  <a:lnTo>
                    <a:pt x="25" y="668"/>
                  </a:lnTo>
                  <a:lnTo>
                    <a:pt x="55" y="692"/>
                  </a:lnTo>
                  <a:lnTo>
                    <a:pt x="79" y="722"/>
                  </a:lnTo>
                  <a:lnTo>
                    <a:pt x="104" y="747"/>
                  </a:lnTo>
                  <a:lnTo>
                    <a:pt x="134" y="776"/>
                  </a:lnTo>
                  <a:lnTo>
                    <a:pt x="134" y="801"/>
                  </a:lnTo>
                  <a:lnTo>
                    <a:pt x="158" y="826"/>
                  </a:lnTo>
                  <a:lnTo>
                    <a:pt x="183" y="855"/>
                  </a:lnTo>
                  <a:lnTo>
                    <a:pt x="213" y="880"/>
                  </a:lnTo>
                  <a:lnTo>
                    <a:pt x="237" y="910"/>
                  </a:lnTo>
                  <a:lnTo>
                    <a:pt x="267" y="934"/>
                  </a:lnTo>
                  <a:lnTo>
                    <a:pt x="292" y="959"/>
                  </a:lnTo>
                  <a:lnTo>
                    <a:pt x="292" y="989"/>
                  </a:lnTo>
                  <a:lnTo>
                    <a:pt x="317" y="1014"/>
                  </a:lnTo>
                  <a:lnTo>
                    <a:pt x="346" y="1043"/>
                  </a:lnTo>
                  <a:lnTo>
                    <a:pt x="371" y="1068"/>
                  </a:lnTo>
                  <a:lnTo>
                    <a:pt x="396" y="1093"/>
                  </a:lnTo>
                  <a:lnTo>
                    <a:pt x="425" y="1122"/>
                  </a:lnTo>
                  <a:lnTo>
                    <a:pt x="450" y="1147"/>
                  </a:lnTo>
                  <a:lnTo>
                    <a:pt x="480" y="1177"/>
                  </a:lnTo>
                  <a:lnTo>
                    <a:pt x="505" y="1201"/>
                  </a:lnTo>
                  <a:lnTo>
                    <a:pt x="529" y="1226"/>
                  </a:lnTo>
                  <a:lnTo>
                    <a:pt x="559" y="1256"/>
                  </a:lnTo>
                  <a:lnTo>
                    <a:pt x="584" y="1280"/>
                  </a:lnTo>
                  <a:lnTo>
                    <a:pt x="613" y="1310"/>
                  </a:lnTo>
                  <a:lnTo>
                    <a:pt x="638" y="1335"/>
                  </a:lnTo>
                  <a:lnTo>
                    <a:pt x="663" y="1364"/>
                  </a:lnTo>
                  <a:lnTo>
                    <a:pt x="692" y="1389"/>
                  </a:lnTo>
                  <a:lnTo>
                    <a:pt x="717" y="1414"/>
                  </a:lnTo>
                  <a:lnTo>
                    <a:pt x="742" y="1444"/>
                  </a:lnTo>
                  <a:lnTo>
                    <a:pt x="772" y="1468"/>
                  </a:lnTo>
                  <a:lnTo>
                    <a:pt x="796" y="1468"/>
                  </a:lnTo>
                  <a:lnTo>
                    <a:pt x="826" y="1498"/>
                  </a:lnTo>
                  <a:lnTo>
                    <a:pt x="851" y="1523"/>
                  </a:lnTo>
                  <a:lnTo>
                    <a:pt x="875" y="1547"/>
                  </a:lnTo>
                  <a:lnTo>
                    <a:pt x="905" y="1577"/>
                  </a:lnTo>
                  <a:lnTo>
                    <a:pt x="930" y="1602"/>
                  </a:lnTo>
                  <a:lnTo>
                    <a:pt x="955" y="1631"/>
                  </a:lnTo>
                  <a:lnTo>
                    <a:pt x="984" y="1656"/>
                  </a:lnTo>
                  <a:lnTo>
                    <a:pt x="1009" y="1656"/>
                  </a:lnTo>
                  <a:lnTo>
                    <a:pt x="1039" y="1656"/>
                  </a:lnTo>
                  <a:lnTo>
                    <a:pt x="1063" y="1656"/>
                  </a:lnTo>
                  <a:lnTo>
                    <a:pt x="1088" y="1656"/>
                  </a:lnTo>
                  <a:lnTo>
                    <a:pt x="1118" y="1656"/>
                  </a:lnTo>
                  <a:lnTo>
                    <a:pt x="1143" y="1656"/>
                  </a:lnTo>
                  <a:lnTo>
                    <a:pt x="1172" y="1656"/>
                  </a:lnTo>
                  <a:lnTo>
                    <a:pt x="1197" y="1656"/>
                  </a:lnTo>
                  <a:lnTo>
                    <a:pt x="1222" y="1656"/>
                  </a:lnTo>
                  <a:lnTo>
                    <a:pt x="1251" y="1656"/>
                  </a:lnTo>
                  <a:lnTo>
                    <a:pt x="1276" y="1656"/>
                  </a:lnTo>
                  <a:lnTo>
                    <a:pt x="1301" y="1656"/>
                  </a:lnTo>
                  <a:lnTo>
                    <a:pt x="1330" y="1656"/>
                  </a:lnTo>
                  <a:lnTo>
                    <a:pt x="1355" y="1656"/>
                  </a:lnTo>
                  <a:lnTo>
                    <a:pt x="1385" y="1656"/>
                  </a:lnTo>
                  <a:lnTo>
                    <a:pt x="1410" y="1656"/>
                  </a:lnTo>
                  <a:lnTo>
                    <a:pt x="1434" y="1656"/>
                  </a:lnTo>
                  <a:lnTo>
                    <a:pt x="1464" y="1656"/>
                  </a:lnTo>
                  <a:lnTo>
                    <a:pt x="1489" y="1656"/>
                  </a:lnTo>
                  <a:lnTo>
                    <a:pt x="1513" y="1656"/>
                  </a:lnTo>
                  <a:lnTo>
                    <a:pt x="1543" y="1656"/>
                  </a:lnTo>
                  <a:lnTo>
                    <a:pt x="1568" y="1656"/>
                  </a:lnTo>
                  <a:lnTo>
                    <a:pt x="1598" y="1656"/>
                  </a:lnTo>
                  <a:lnTo>
                    <a:pt x="1622" y="1656"/>
                  </a:lnTo>
                  <a:lnTo>
                    <a:pt x="1647" y="1656"/>
                  </a:lnTo>
                  <a:lnTo>
                    <a:pt x="1677" y="1656"/>
                  </a:lnTo>
                  <a:lnTo>
                    <a:pt x="1701" y="1656"/>
                  </a:lnTo>
                  <a:lnTo>
                    <a:pt x="1726" y="1656"/>
                  </a:lnTo>
                  <a:lnTo>
                    <a:pt x="1756" y="1656"/>
                  </a:lnTo>
                  <a:lnTo>
                    <a:pt x="1780" y="1656"/>
                  </a:lnTo>
                  <a:lnTo>
                    <a:pt x="1810" y="1656"/>
                  </a:lnTo>
                  <a:lnTo>
                    <a:pt x="1835" y="1656"/>
                  </a:lnTo>
                  <a:lnTo>
                    <a:pt x="1860" y="1656"/>
                  </a:lnTo>
                  <a:lnTo>
                    <a:pt x="1889" y="1656"/>
                  </a:lnTo>
                  <a:lnTo>
                    <a:pt x="1914" y="1656"/>
                  </a:lnTo>
                  <a:lnTo>
                    <a:pt x="1944" y="1656"/>
                  </a:lnTo>
                  <a:lnTo>
                    <a:pt x="1968" y="1656"/>
                  </a:lnTo>
                  <a:lnTo>
                    <a:pt x="1993" y="1656"/>
                  </a:lnTo>
                  <a:lnTo>
                    <a:pt x="2023" y="1656"/>
                  </a:lnTo>
                  <a:lnTo>
                    <a:pt x="2048" y="1656"/>
                  </a:lnTo>
                  <a:lnTo>
                    <a:pt x="2072" y="1656"/>
                  </a:lnTo>
                  <a:lnTo>
                    <a:pt x="2102" y="1656"/>
                  </a:lnTo>
                  <a:lnTo>
                    <a:pt x="2127" y="1656"/>
                  </a:lnTo>
                  <a:lnTo>
                    <a:pt x="2156" y="1656"/>
                  </a:lnTo>
                  <a:lnTo>
                    <a:pt x="2181" y="1656"/>
                  </a:lnTo>
                  <a:lnTo>
                    <a:pt x="2206" y="1656"/>
                  </a:lnTo>
                  <a:lnTo>
                    <a:pt x="2235" y="1656"/>
                  </a:lnTo>
                  <a:close/>
                  <a:moveTo>
                    <a:pt x="1088" y="589"/>
                  </a:moveTo>
                  <a:lnTo>
                    <a:pt x="1088" y="579"/>
                  </a:lnTo>
                  <a:lnTo>
                    <a:pt x="1088" y="574"/>
                  </a:lnTo>
                  <a:lnTo>
                    <a:pt x="1088" y="569"/>
                  </a:lnTo>
                  <a:lnTo>
                    <a:pt x="1088" y="569"/>
                  </a:lnTo>
                  <a:lnTo>
                    <a:pt x="1093" y="574"/>
                  </a:lnTo>
                  <a:lnTo>
                    <a:pt x="1093" y="579"/>
                  </a:lnTo>
                  <a:lnTo>
                    <a:pt x="1093" y="584"/>
                  </a:lnTo>
                  <a:lnTo>
                    <a:pt x="1093" y="593"/>
                  </a:lnTo>
                  <a:lnTo>
                    <a:pt x="1093" y="598"/>
                  </a:lnTo>
                  <a:lnTo>
                    <a:pt x="1093" y="603"/>
                  </a:lnTo>
                  <a:lnTo>
                    <a:pt x="1088" y="603"/>
                  </a:lnTo>
                  <a:lnTo>
                    <a:pt x="1088" y="603"/>
                  </a:lnTo>
                  <a:lnTo>
                    <a:pt x="1088" y="593"/>
                  </a:lnTo>
                  <a:lnTo>
                    <a:pt x="1088" y="589"/>
                  </a:lnTo>
                  <a:close/>
                  <a:moveTo>
                    <a:pt x="1113" y="504"/>
                  </a:moveTo>
                  <a:lnTo>
                    <a:pt x="1113" y="504"/>
                  </a:lnTo>
                  <a:lnTo>
                    <a:pt x="1118" y="500"/>
                  </a:lnTo>
                  <a:lnTo>
                    <a:pt x="1123" y="504"/>
                  </a:lnTo>
                  <a:lnTo>
                    <a:pt x="1123" y="509"/>
                  </a:lnTo>
                  <a:lnTo>
                    <a:pt x="1128" y="514"/>
                  </a:lnTo>
                  <a:lnTo>
                    <a:pt x="1123" y="519"/>
                  </a:lnTo>
                  <a:lnTo>
                    <a:pt x="1123" y="519"/>
                  </a:lnTo>
                  <a:lnTo>
                    <a:pt x="1118" y="524"/>
                  </a:lnTo>
                  <a:lnTo>
                    <a:pt x="1118" y="524"/>
                  </a:lnTo>
                  <a:lnTo>
                    <a:pt x="1113" y="524"/>
                  </a:lnTo>
                  <a:lnTo>
                    <a:pt x="1113" y="524"/>
                  </a:lnTo>
                  <a:lnTo>
                    <a:pt x="1113" y="519"/>
                  </a:lnTo>
                  <a:lnTo>
                    <a:pt x="1113" y="514"/>
                  </a:lnTo>
                  <a:lnTo>
                    <a:pt x="1113" y="504"/>
                  </a:lnTo>
                  <a:close/>
                  <a:moveTo>
                    <a:pt x="1138" y="455"/>
                  </a:moveTo>
                  <a:lnTo>
                    <a:pt x="1143" y="450"/>
                  </a:lnTo>
                  <a:lnTo>
                    <a:pt x="1143" y="450"/>
                  </a:lnTo>
                  <a:lnTo>
                    <a:pt x="1147" y="450"/>
                  </a:lnTo>
                  <a:lnTo>
                    <a:pt x="1147" y="455"/>
                  </a:lnTo>
                  <a:lnTo>
                    <a:pt x="1152" y="455"/>
                  </a:lnTo>
                  <a:lnTo>
                    <a:pt x="1147" y="460"/>
                  </a:lnTo>
                  <a:lnTo>
                    <a:pt x="1147" y="465"/>
                  </a:lnTo>
                  <a:lnTo>
                    <a:pt x="1147" y="465"/>
                  </a:lnTo>
                  <a:lnTo>
                    <a:pt x="1143" y="470"/>
                  </a:lnTo>
                  <a:lnTo>
                    <a:pt x="1143" y="470"/>
                  </a:lnTo>
                  <a:lnTo>
                    <a:pt x="1143" y="465"/>
                  </a:lnTo>
                  <a:lnTo>
                    <a:pt x="1138" y="465"/>
                  </a:lnTo>
                  <a:lnTo>
                    <a:pt x="1138" y="460"/>
                  </a:lnTo>
                  <a:lnTo>
                    <a:pt x="1138" y="455"/>
                  </a:lnTo>
                  <a:close/>
                  <a:moveTo>
                    <a:pt x="1167" y="401"/>
                  </a:moveTo>
                  <a:lnTo>
                    <a:pt x="1167" y="396"/>
                  </a:lnTo>
                  <a:lnTo>
                    <a:pt x="1167" y="396"/>
                  </a:lnTo>
                  <a:lnTo>
                    <a:pt x="1172" y="396"/>
                  </a:lnTo>
                  <a:lnTo>
                    <a:pt x="1172" y="396"/>
                  </a:lnTo>
                  <a:lnTo>
                    <a:pt x="1172" y="401"/>
                  </a:lnTo>
                  <a:lnTo>
                    <a:pt x="1172" y="401"/>
                  </a:lnTo>
                  <a:lnTo>
                    <a:pt x="1172" y="406"/>
                  </a:lnTo>
                  <a:lnTo>
                    <a:pt x="1172" y="406"/>
                  </a:lnTo>
                  <a:lnTo>
                    <a:pt x="1172" y="411"/>
                  </a:lnTo>
                  <a:lnTo>
                    <a:pt x="1167" y="411"/>
                  </a:lnTo>
                  <a:lnTo>
                    <a:pt x="1167" y="406"/>
                  </a:lnTo>
                  <a:lnTo>
                    <a:pt x="1167" y="406"/>
                  </a:lnTo>
                  <a:lnTo>
                    <a:pt x="1167" y="406"/>
                  </a:lnTo>
                  <a:lnTo>
                    <a:pt x="1167" y="401"/>
                  </a:lnTo>
                  <a:close/>
                  <a:moveTo>
                    <a:pt x="1197" y="346"/>
                  </a:moveTo>
                  <a:lnTo>
                    <a:pt x="1197" y="346"/>
                  </a:lnTo>
                  <a:lnTo>
                    <a:pt x="1197" y="346"/>
                  </a:lnTo>
                  <a:lnTo>
                    <a:pt x="1197" y="346"/>
                  </a:lnTo>
                  <a:lnTo>
                    <a:pt x="1197" y="346"/>
                  </a:lnTo>
                  <a:lnTo>
                    <a:pt x="1197" y="346"/>
                  </a:lnTo>
                  <a:lnTo>
                    <a:pt x="1197" y="346"/>
                  </a:lnTo>
                  <a:lnTo>
                    <a:pt x="1197" y="346"/>
                  </a:lnTo>
                  <a:lnTo>
                    <a:pt x="1197" y="346"/>
                  </a:lnTo>
                  <a:lnTo>
                    <a:pt x="1197" y="346"/>
                  </a:lnTo>
                  <a:lnTo>
                    <a:pt x="1197" y="346"/>
                  </a:lnTo>
                  <a:lnTo>
                    <a:pt x="1197" y="346"/>
                  </a:lnTo>
                  <a:lnTo>
                    <a:pt x="1197" y="346"/>
                  </a:lnTo>
                  <a:lnTo>
                    <a:pt x="1197" y="346"/>
                  </a:lnTo>
                  <a:lnTo>
                    <a:pt x="1197" y="346"/>
                  </a:lnTo>
                  <a:close/>
                  <a:moveTo>
                    <a:pt x="1251" y="346"/>
                  </a:moveTo>
                  <a:lnTo>
                    <a:pt x="1251" y="341"/>
                  </a:lnTo>
                  <a:lnTo>
                    <a:pt x="1251" y="336"/>
                  </a:lnTo>
                  <a:lnTo>
                    <a:pt x="1251" y="331"/>
                  </a:lnTo>
                  <a:lnTo>
                    <a:pt x="1251" y="327"/>
                  </a:lnTo>
                  <a:lnTo>
                    <a:pt x="1251" y="322"/>
                  </a:lnTo>
                  <a:lnTo>
                    <a:pt x="1256" y="317"/>
                  </a:lnTo>
                  <a:lnTo>
                    <a:pt x="1261" y="312"/>
                  </a:lnTo>
                  <a:lnTo>
                    <a:pt x="1266" y="307"/>
                  </a:lnTo>
                  <a:lnTo>
                    <a:pt x="1266" y="302"/>
                  </a:lnTo>
                  <a:lnTo>
                    <a:pt x="1271" y="297"/>
                  </a:lnTo>
                  <a:lnTo>
                    <a:pt x="1271" y="292"/>
                  </a:lnTo>
                  <a:lnTo>
                    <a:pt x="1266" y="287"/>
                  </a:lnTo>
                  <a:lnTo>
                    <a:pt x="1261" y="282"/>
                  </a:lnTo>
                  <a:lnTo>
                    <a:pt x="1256" y="277"/>
                  </a:lnTo>
                  <a:lnTo>
                    <a:pt x="1246" y="277"/>
                  </a:lnTo>
                  <a:lnTo>
                    <a:pt x="1236" y="272"/>
                  </a:lnTo>
                  <a:lnTo>
                    <a:pt x="1232" y="267"/>
                  </a:lnTo>
                  <a:lnTo>
                    <a:pt x="1227" y="267"/>
                  </a:lnTo>
                  <a:lnTo>
                    <a:pt x="1227" y="262"/>
                  </a:lnTo>
                  <a:lnTo>
                    <a:pt x="1232" y="257"/>
                  </a:lnTo>
                  <a:lnTo>
                    <a:pt x="1241" y="252"/>
                  </a:lnTo>
                  <a:lnTo>
                    <a:pt x="1251" y="252"/>
                  </a:lnTo>
                  <a:lnTo>
                    <a:pt x="1256" y="247"/>
                  </a:lnTo>
                  <a:lnTo>
                    <a:pt x="1261" y="243"/>
                  </a:lnTo>
                  <a:lnTo>
                    <a:pt x="1261" y="238"/>
                  </a:lnTo>
                  <a:lnTo>
                    <a:pt x="1256" y="238"/>
                  </a:lnTo>
                  <a:lnTo>
                    <a:pt x="1246" y="233"/>
                  </a:lnTo>
                  <a:lnTo>
                    <a:pt x="1236" y="233"/>
                  </a:lnTo>
                  <a:lnTo>
                    <a:pt x="1227" y="233"/>
                  </a:lnTo>
                  <a:lnTo>
                    <a:pt x="1222" y="238"/>
                  </a:lnTo>
                  <a:lnTo>
                    <a:pt x="1212" y="238"/>
                  </a:lnTo>
                  <a:lnTo>
                    <a:pt x="1207" y="243"/>
                  </a:lnTo>
                  <a:lnTo>
                    <a:pt x="1202" y="243"/>
                  </a:lnTo>
                  <a:lnTo>
                    <a:pt x="1192" y="247"/>
                  </a:lnTo>
                  <a:lnTo>
                    <a:pt x="1187" y="247"/>
                  </a:lnTo>
                  <a:lnTo>
                    <a:pt x="1177" y="247"/>
                  </a:lnTo>
                  <a:lnTo>
                    <a:pt x="1167" y="247"/>
                  </a:lnTo>
                  <a:lnTo>
                    <a:pt x="1162" y="252"/>
                  </a:lnTo>
                  <a:lnTo>
                    <a:pt x="1152" y="252"/>
                  </a:lnTo>
                  <a:lnTo>
                    <a:pt x="1147" y="257"/>
                  </a:lnTo>
                  <a:lnTo>
                    <a:pt x="1138" y="257"/>
                  </a:lnTo>
                  <a:lnTo>
                    <a:pt x="1133" y="262"/>
                  </a:lnTo>
                  <a:lnTo>
                    <a:pt x="1128" y="267"/>
                  </a:lnTo>
                  <a:lnTo>
                    <a:pt x="1123" y="272"/>
                  </a:lnTo>
                  <a:lnTo>
                    <a:pt x="1118" y="277"/>
                  </a:lnTo>
                  <a:lnTo>
                    <a:pt x="1113" y="277"/>
                  </a:lnTo>
                  <a:lnTo>
                    <a:pt x="1108" y="282"/>
                  </a:lnTo>
                  <a:lnTo>
                    <a:pt x="1103" y="287"/>
                  </a:lnTo>
                  <a:lnTo>
                    <a:pt x="1098" y="292"/>
                  </a:lnTo>
                  <a:lnTo>
                    <a:pt x="1098" y="297"/>
                  </a:lnTo>
                  <a:lnTo>
                    <a:pt x="1098" y="302"/>
                  </a:lnTo>
                  <a:lnTo>
                    <a:pt x="1098" y="307"/>
                  </a:lnTo>
                  <a:lnTo>
                    <a:pt x="1093" y="312"/>
                  </a:lnTo>
                  <a:lnTo>
                    <a:pt x="1093" y="317"/>
                  </a:lnTo>
                  <a:lnTo>
                    <a:pt x="1088" y="322"/>
                  </a:lnTo>
                  <a:lnTo>
                    <a:pt x="1078" y="327"/>
                  </a:lnTo>
                  <a:lnTo>
                    <a:pt x="1073" y="327"/>
                  </a:lnTo>
                  <a:lnTo>
                    <a:pt x="1063" y="322"/>
                  </a:lnTo>
                  <a:lnTo>
                    <a:pt x="1058" y="317"/>
                  </a:lnTo>
                  <a:lnTo>
                    <a:pt x="1053" y="312"/>
                  </a:lnTo>
                  <a:lnTo>
                    <a:pt x="1053" y="307"/>
                  </a:lnTo>
                  <a:lnTo>
                    <a:pt x="1049" y="302"/>
                  </a:lnTo>
                  <a:lnTo>
                    <a:pt x="1049" y="297"/>
                  </a:lnTo>
                  <a:lnTo>
                    <a:pt x="1044" y="292"/>
                  </a:lnTo>
                  <a:lnTo>
                    <a:pt x="1044" y="287"/>
                  </a:lnTo>
                  <a:lnTo>
                    <a:pt x="1049" y="282"/>
                  </a:lnTo>
                  <a:lnTo>
                    <a:pt x="1049" y="277"/>
                  </a:lnTo>
                  <a:lnTo>
                    <a:pt x="1053" y="272"/>
                  </a:lnTo>
                  <a:lnTo>
                    <a:pt x="1058" y="267"/>
                  </a:lnTo>
                  <a:lnTo>
                    <a:pt x="1068" y="267"/>
                  </a:lnTo>
                  <a:lnTo>
                    <a:pt x="1073" y="262"/>
                  </a:lnTo>
                  <a:lnTo>
                    <a:pt x="1083" y="262"/>
                  </a:lnTo>
                  <a:lnTo>
                    <a:pt x="1088" y="257"/>
                  </a:lnTo>
                  <a:lnTo>
                    <a:pt x="1098" y="257"/>
                  </a:lnTo>
                  <a:lnTo>
                    <a:pt x="1103" y="257"/>
                  </a:lnTo>
                  <a:lnTo>
                    <a:pt x="1113" y="252"/>
                  </a:lnTo>
                  <a:lnTo>
                    <a:pt x="1118" y="247"/>
                  </a:lnTo>
                  <a:lnTo>
                    <a:pt x="1123" y="243"/>
                  </a:lnTo>
                  <a:lnTo>
                    <a:pt x="1123" y="238"/>
                  </a:lnTo>
                  <a:lnTo>
                    <a:pt x="1123" y="233"/>
                  </a:lnTo>
                  <a:lnTo>
                    <a:pt x="1123" y="228"/>
                  </a:lnTo>
                  <a:lnTo>
                    <a:pt x="1123" y="223"/>
                  </a:lnTo>
                  <a:lnTo>
                    <a:pt x="1123" y="218"/>
                  </a:lnTo>
                  <a:lnTo>
                    <a:pt x="1128" y="213"/>
                  </a:lnTo>
                  <a:lnTo>
                    <a:pt x="1133" y="208"/>
                  </a:lnTo>
                  <a:lnTo>
                    <a:pt x="1138" y="203"/>
                  </a:lnTo>
                  <a:lnTo>
                    <a:pt x="1147" y="203"/>
                  </a:lnTo>
                  <a:lnTo>
                    <a:pt x="1152" y="208"/>
                  </a:lnTo>
                  <a:lnTo>
                    <a:pt x="1157" y="213"/>
                  </a:lnTo>
                  <a:lnTo>
                    <a:pt x="1162" y="218"/>
                  </a:lnTo>
                  <a:lnTo>
                    <a:pt x="1162" y="223"/>
                  </a:lnTo>
                  <a:lnTo>
                    <a:pt x="1167" y="228"/>
                  </a:lnTo>
                  <a:lnTo>
                    <a:pt x="1172" y="228"/>
                  </a:lnTo>
                  <a:lnTo>
                    <a:pt x="1182" y="223"/>
                  </a:lnTo>
                  <a:lnTo>
                    <a:pt x="1187" y="218"/>
                  </a:lnTo>
                  <a:lnTo>
                    <a:pt x="1187" y="213"/>
                  </a:lnTo>
                  <a:lnTo>
                    <a:pt x="1187" y="208"/>
                  </a:lnTo>
                  <a:lnTo>
                    <a:pt x="1187" y="203"/>
                  </a:lnTo>
                  <a:lnTo>
                    <a:pt x="1182" y="198"/>
                  </a:lnTo>
                  <a:lnTo>
                    <a:pt x="1182" y="193"/>
                  </a:lnTo>
                  <a:lnTo>
                    <a:pt x="1177" y="188"/>
                  </a:lnTo>
                  <a:lnTo>
                    <a:pt x="1182" y="183"/>
                  </a:lnTo>
                  <a:lnTo>
                    <a:pt x="1182" y="178"/>
                  </a:lnTo>
                  <a:lnTo>
                    <a:pt x="1192" y="173"/>
                  </a:lnTo>
                  <a:lnTo>
                    <a:pt x="1197" y="168"/>
                  </a:lnTo>
                  <a:lnTo>
                    <a:pt x="1207" y="168"/>
                  </a:lnTo>
                  <a:lnTo>
                    <a:pt x="1212" y="163"/>
                  </a:lnTo>
                  <a:lnTo>
                    <a:pt x="1222" y="163"/>
                  </a:lnTo>
                  <a:lnTo>
                    <a:pt x="1227" y="163"/>
                  </a:lnTo>
                  <a:lnTo>
                    <a:pt x="1232" y="163"/>
                  </a:lnTo>
                  <a:lnTo>
                    <a:pt x="1241" y="168"/>
                  </a:lnTo>
                  <a:lnTo>
                    <a:pt x="1246" y="173"/>
                  </a:lnTo>
                  <a:lnTo>
                    <a:pt x="1246" y="183"/>
                  </a:lnTo>
                  <a:lnTo>
                    <a:pt x="1246" y="188"/>
                  </a:lnTo>
                  <a:lnTo>
                    <a:pt x="1251" y="193"/>
                  </a:lnTo>
                  <a:lnTo>
                    <a:pt x="1256" y="188"/>
                  </a:lnTo>
                  <a:lnTo>
                    <a:pt x="1256" y="178"/>
                  </a:lnTo>
                  <a:lnTo>
                    <a:pt x="1256" y="173"/>
                  </a:lnTo>
                  <a:lnTo>
                    <a:pt x="1256" y="168"/>
                  </a:lnTo>
                  <a:lnTo>
                    <a:pt x="1256" y="163"/>
                  </a:lnTo>
                  <a:lnTo>
                    <a:pt x="1256" y="159"/>
                  </a:lnTo>
                  <a:lnTo>
                    <a:pt x="1261" y="159"/>
                  </a:lnTo>
                  <a:lnTo>
                    <a:pt x="1266" y="154"/>
                  </a:lnTo>
                  <a:lnTo>
                    <a:pt x="1271" y="149"/>
                  </a:lnTo>
                  <a:lnTo>
                    <a:pt x="1276" y="144"/>
                  </a:lnTo>
                  <a:lnTo>
                    <a:pt x="1286" y="144"/>
                  </a:lnTo>
                  <a:lnTo>
                    <a:pt x="1291" y="139"/>
                  </a:lnTo>
                  <a:lnTo>
                    <a:pt x="1296" y="134"/>
                  </a:lnTo>
                  <a:lnTo>
                    <a:pt x="1306" y="134"/>
                  </a:lnTo>
                  <a:lnTo>
                    <a:pt x="1311" y="134"/>
                  </a:lnTo>
                  <a:lnTo>
                    <a:pt x="1321" y="134"/>
                  </a:lnTo>
                  <a:lnTo>
                    <a:pt x="1330" y="129"/>
                  </a:lnTo>
                  <a:lnTo>
                    <a:pt x="1335" y="129"/>
                  </a:lnTo>
                  <a:lnTo>
                    <a:pt x="1345" y="129"/>
                  </a:lnTo>
                  <a:lnTo>
                    <a:pt x="1350" y="124"/>
                  </a:lnTo>
                  <a:lnTo>
                    <a:pt x="1360" y="124"/>
                  </a:lnTo>
                  <a:lnTo>
                    <a:pt x="1365" y="119"/>
                  </a:lnTo>
                  <a:lnTo>
                    <a:pt x="1370" y="114"/>
                  </a:lnTo>
                  <a:lnTo>
                    <a:pt x="1375" y="109"/>
                  </a:lnTo>
                  <a:lnTo>
                    <a:pt x="1385" y="109"/>
                  </a:lnTo>
                  <a:lnTo>
                    <a:pt x="1390" y="109"/>
                  </a:lnTo>
                  <a:lnTo>
                    <a:pt x="1400" y="104"/>
                  </a:lnTo>
                  <a:lnTo>
                    <a:pt x="1405" y="99"/>
                  </a:lnTo>
                  <a:lnTo>
                    <a:pt x="1410" y="99"/>
                  </a:lnTo>
                  <a:lnTo>
                    <a:pt x="1419" y="99"/>
                  </a:lnTo>
                  <a:lnTo>
                    <a:pt x="1424" y="99"/>
                  </a:lnTo>
                  <a:lnTo>
                    <a:pt x="1434" y="99"/>
                  </a:lnTo>
                  <a:lnTo>
                    <a:pt x="1439" y="94"/>
                  </a:lnTo>
                  <a:lnTo>
                    <a:pt x="1449" y="89"/>
                  </a:lnTo>
                  <a:lnTo>
                    <a:pt x="1454" y="84"/>
                  </a:lnTo>
                  <a:lnTo>
                    <a:pt x="1459" y="84"/>
                  </a:lnTo>
                  <a:lnTo>
                    <a:pt x="1469" y="79"/>
                  </a:lnTo>
                  <a:lnTo>
                    <a:pt x="1474" y="79"/>
                  </a:lnTo>
                  <a:lnTo>
                    <a:pt x="1484" y="79"/>
                  </a:lnTo>
                  <a:lnTo>
                    <a:pt x="1489" y="74"/>
                  </a:lnTo>
                  <a:lnTo>
                    <a:pt x="1494" y="70"/>
                  </a:lnTo>
                  <a:lnTo>
                    <a:pt x="1499" y="70"/>
                  </a:lnTo>
                  <a:lnTo>
                    <a:pt x="1508" y="70"/>
                  </a:lnTo>
                  <a:lnTo>
                    <a:pt x="1518" y="65"/>
                  </a:lnTo>
                  <a:lnTo>
                    <a:pt x="1523" y="65"/>
                  </a:lnTo>
                  <a:lnTo>
                    <a:pt x="1528" y="60"/>
                  </a:lnTo>
                  <a:lnTo>
                    <a:pt x="1538" y="60"/>
                  </a:lnTo>
                  <a:lnTo>
                    <a:pt x="1543" y="55"/>
                  </a:lnTo>
                  <a:lnTo>
                    <a:pt x="1553" y="55"/>
                  </a:lnTo>
                  <a:lnTo>
                    <a:pt x="1558" y="55"/>
                  </a:lnTo>
                  <a:lnTo>
                    <a:pt x="1568" y="55"/>
                  </a:lnTo>
                  <a:lnTo>
                    <a:pt x="1578" y="50"/>
                  </a:lnTo>
                  <a:lnTo>
                    <a:pt x="1583" y="50"/>
                  </a:lnTo>
                  <a:lnTo>
                    <a:pt x="1588" y="45"/>
                  </a:lnTo>
                  <a:lnTo>
                    <a:pt x="1593" y="40"/>
                  </a:lnTo>
                  <a:lnTo>
                    <a:pt x="1598" y="35"/>
                  </a:lnTo>
                  <a:lnTo>
                    <a:pt x="1607" y="35"/>
                  </a:lnTo>
                  <a:lnTo>
                    <a:pt x="1612" y="30"/>
                  </a:lnTo>
                  <a:lnTo>
                    <a:pt x="1622" y="30"/>
                  </a:lnTo>
                  <a:lnTo>
                    <a:pt x="1627" y="30"/>
                  </a:lnTo>
                  <a:lnTo>
                    <a:pt x="1637" y="30"/>
                  </a:lnTo>
                  <a:lnTo>
                    <a:pt x="1647" y="30"/>
                  </a:lnTo>
                  <a:lnTo>
                    <a:pt x="1652" y="30"/>
                  </a:lnTo>
                  <a:lnTo>
                    <a:pt x="1662" y="30"/>
                  </a:lnTo>
                  <a:lnTo>
                    <a:pt x="1672" y="30"/>
                  </a:lnTo>
                  <a:lnTo>
                    <a:pt x="1677" y="30"/>
                  </a:lnTo>
                  <a:lnTo>
                    <a:pt x="1687" y="35"/>
                  </a:lnTo>
                  <a:lnTo>
                    <a:pt x="1691" y="35"/>
                  </a:lnTo>
                  <a:lnTo>
                    <a:pt x="1701" y="40"/>
                  </a:lnTo>
                  <a:lnTo>
                    <a:pt x="1706" y="45"/>
                  </a:lnTo>
                  <a:lnTo>
                    <a:pt x="1711" y="45"/>
                  </a:lnTo>
                  <a:lnTo>
                    <a:pt x="1716" y="50"/>
                  </a:lnTo>
                  <a:lnTo>
                    <a:pt x="1726" y="55"/>
                  </a:lnTo>
                  <a:lnTo>
                    <a:pt x="1731" y="55"/>
                  </a:lnTo>
                  <a:lnTo>
                    <a:pt x="1741" y="55"/>
                  </a:lnTo>
                  <a:lnTo>
                    <a:pt x="1746" y="55"/>
                  </a:lnTo>
                  <a:lnTo>
                    <a:pt x="1756" y="55"/>
                  </a:lnTo>
                  <a:lnTo>
                    <a:pt x="1766" y="55"/>
                  </a:lnTo>
                  <a:lnTo>
                    <a:pt x="1771" y="55"/>
                  </a:lnTo>
                  <a:lnTo>
                    <a:pt x="1780" y="55"/>
                  </a:lnTo>
                  <a:lnTo>
                    <a:pt x="1790" y="60"/>
                  </a:lnTo>
                  <a:lnTo>
                    <a:pt x="1795" y="60"/>
                  </a:lnTo>
                  <a:lnTo>
                    <a:pt x="1800" y="65"/>
                  </a:lnTo>
                  <a:lnTo>
                    <a:pt x="1805" y="70"/>
                  </a:lnTo>
                  <a:lnTo>
                    <a:pt x="1810" y="74"/>
                  </a:lnTo>
                  <a:lnTo>
                    <a:pt x="1815" y="79"/>
                  </a:lnTo>
                  <a:lnTo>
                    <a:pt x="1825" y="79"/>
                  </a:lnTo>
                  <a:lnTo>
                    <a:pt x="1830" y="79"/>
                  </a:lnTo>
                  <a:lnTo>
                    <a:pt x="1840" y="79"/>
                  </a:lnTo>
                  <a:lnTo>
                    <a:pt x="1850" y="84"/>
                  </a:lnTo>
                  <a:lnTo>
                    <a:pt x="1855" y="84"/>
                  </a:lnTo>
                  <a:lnTo>
                    <a:pt x="1865" y="84"/>
                  </a:lnTo>
                  <a:lnTo>
                    <a:pt x="1874" y="84"/>
                  </a:lnTo>
                  <a:lnTo>
                    <a:pt x="1879" y="84"/>
                  </a:lnTo>
                  <a:lnTo>
                    <a:pt x="1889" y="84"/>
                  </a:lnTo>
                  <a:lnTo>
                    <a:pt x="1894" y="89"/>
                  </a:lnTo>
                  <a:lnTo>
                    <a:pt x="1899" y="89"/>
                  </a:lnTo>
                  <a:lnTo>
                    <a:pt x="1904" y="94"/>
                  </a:lnTo>
                  <a:lnTo>
                    <a:pt x="1909" y="99"/>
                  </a:lnTo>
                  <a:lnTo>
                    <a:pt x="1914" y="104"/>
                  </a:lnTo>
                  <a:lnTo>
                    <a:pt x="1919" y="109"/>
                  </a:lnTo>
                  <a:lnTo>
                    <a:pt x="1929" y="109"/>
                  </a:lnTo>
                  <a:lnTo>
                    <a:pt x="1939" y="109"/>
                  </a:lnTo>
                  <a:lnTo>
                    <a:pt x="1944" y="109"/>
                  </a:lnTo>
                  <a:lnTo>
                    <a:pt x="1954" y="109"/>
                  </a:lnTo>
                  <a:lnTo>
                    <a:pt x="1963" y="109"/>
                  </a:lnTo>
                  <a:lnTo>
                    <a:pt x="1968" y="109"/>
                  </a:lnTo>
                  <a:lnTo>
                    <a:pt x="1978" y="109"/>
                  </a:lnTo>
                  <a:lnTo>
                    <a:pt x="1988" y="109"/>
                  </a:lnTo>
                  <a:lnTo>
                    <a:pt x="1993" y="109"/>
                  </a:lnTo>
                  <a:lnTo>
                    <a:pt x="2003" y="114"/>
                  </a:lnTo>
                  <a:lnTo>
                    <a:pt x="2008" y="119"/>
                  </a:lnTo>
                  <a:lnTo>
                    <a:pt x="2013" y="124"/>
                  </a:lnTo>
                  <a:lnTo>
                    <a:pt x="2013" y="129"/>
                  </a:lnTo>
                  <a:lnTo>
                    <a:pt x="2018" y="134"/>
                  </a:lnTo>
                  <a:lnTo>
                    <a:pt x="2023" y="139"/>
                  </a:lnTo>
                  <a:lnTo>
                    <a:pt x="2028" y="139"/>
                  </a:lnTo>
                  <a:lnTo>
                    <a:pt x="2038" y="139"/>
                  </a:lnTo>
                  <a:lnTo>
                    <a:pt x="2048" y="139"/>
                  </a:lnTo>
                  <a:lnTo>
                    <a:pt x="2057" y="139"/>
                  </a:lnTo>
                  <a:lnTo>
                    <a:pt x="2062" y="144"/>
                  </a:lnTo>
                  <a:lnTo>
                    <a:pt x="2072" y="144"/>
                  </a:lnTo>
                  <a:lnTo>
                    <a:pt x="2082" y="144"/>
                  </a:lnTo>
                  <a:lnTo>
                    <a:pt x="2087" y="144"/>
                  </a:lnTo>
                  <a:lnTo>
                    <a:pt x="2097" y="144"/>
                  </a:lnTo>
                  <a:lnTo>
                    <a:pt x="2102" y="149"/>
                  </a:lnTo>
                  <a:lnTo>
                    <a:pt x="2112" y="149"/>
                  </a:lnTo>
                  <a:lnTo>
                    <a:pt x="2112" y="154"/>
                  </a:lnTo>
                  <a:lnTo>
                    <a:pt x="2117" y="159"/>
                  </a:lnTo>
                  <a:lnTo>
                    <a:pt x="2117" y="163"/>
                  </a:lnTo>
                  <a:lnTo>
                    <a:pt x="2122" y="173"/>
                  </a:lnTo>
                  <a:lnTo>
                    <a:pt x="2122" y="178"/>
                  </a:lnTo>
                  <a:lnTo>
                    <a:pt x="2127" y="178"/>
                  </a:lnTo>
                  <a:lnTo>
                    <a:pt x="2132" y="183"/>
                  </a:lnTo>
                  <a:lnTo>
                    <a:pt x="2137" y="188"/>
                  </a:lnTo>
                  <a:lnTo>
                    <a:pt x="2132" y="193"/>
                  </a:lnTo>
                  <a:lnTo>
                    <a:pt x="2127" y="198"/>
                  </a:lnTo>
                  <a:lnTo>
                    <a:pt x="2122" y="203"/>
                  </a:lnTo>
                  <a:lnTo>
                    <a:pt x="2122" y="208"/>
                  </a:lnTo>
                  <a:lnTo>
                    <a:pt x="2117" y="213"/>
                  </a:lnTo>
                  <a:lnTo>
                    <a:pt x="2117" y="218"/>
                  </a:lnTo>
                  <a:lnTo>
                    <a:pt x="2112" y="223"/>
                  </a:lnTo>
                  <a:lnTo>
                    <a:pt x="2112" y="228"/>
                  </a:lnTo>
                  <a:lnTo>
                    <a:pt x="2107" y="233"/>
                  </a:lnTo>
                  <a:lnTo>
                    <a:pt x="2102" y="238"/>
                  </a:lnTo>
                  <a:lnTo>
                    <a:pt x="2102" y="243"/>
                  </a:lnTo>
                  <a:lnTo>
                    <a:pt x="2097" y="247"/>
                  </a:lnTo>
                  <a:lnTo>
                    <a:pt x="2092" y="252"/>
                  </a:lnTo>
                  <a:lnTo>
                    <a:pt x="2092" y="257"/>
                  </a:lnTo>
                  <a:lnTo>
                    <a:pt x="2087" y="262"/>
                  </a:lnTo>
                  <a:lnTo>
                    <a:pt x="2082" y="267"/>
                  </a:lnTo>
                  <a:lnTo>
                    <a:pt x="2082" y="272"/>
                  </a:lnTo>
                  <a:lnTo>
                    <a:pt x="2077" y="277"/>
                  </a:lnTo>
                  <a:lnTo>
                    <a:pt x="2077" y="282"/>
                  </a:lnTo>
                  <a:lnTo>
                    <a:pt x="2067" y="282"/>
                  </a:lnTo>
                  <a:lnTo>
                    <a:pt x="2062" y="282"/>
                  </a:lnTo>
                  <a:lnTo>
                    <a:pt x="2052" y="282"/>
                  </a:lnTo>
                  <a:lnTo>
                    <a:pt x="2043" y="282"/>
                  </a:lnTo>
                  <a:lnTo>
                    <a:pt x="2033" y="282"/>
                  </a:lnTo>
                  <a:lnTo>
                    <a:pt x="2028" y="287"/>
                  </a:lnTo>
                  <a:lnTo>
                    <a:pt x="2018" y="282"/>
                  </a:lnTo>
                  <a:lnTo>
                    <a:pt x="2013" y="282"/>
                  </a:lnTo>
                  <a:lnTo>
                    <a:pt x="2008" y="277"/>
                  </a:lnTo>
                  <a:lnTo>
                    <a:pt x="2003" y="272"/>
                  </a:lnTo>
                  <a:lnTo>
                    <a:pt x="1998" y="267"/>
                  </a:lnTo>
                  <a:lnTo>
                    <a:pt x="1993" y="262"/>
                  </a:lnTo>
                  <a:lnTo>
                    <a:pt x="1983" y="262"/>
                  </a:lnTo>
                  <a:lnTo>
                    <a:pt x="1973" y="262"/>
                  </a:lnTo>
                  <a:lnTo>
                    <a:pt x="1968" y="262"/>
                  </a:lnTo>
                  <a:lnTo>
                    <a:pt x="1963" y="257"/>
                  </a:lnTo>
                  <a:lnTo>
                    <a:pt x="1959" y="252"/>
                  </a:lnTo>
                  <a:lnTo>
                    <a:pt x="1954" y="247"/>
                  </a:lnTo>
                  <a:lnTo>
                    <a:pt x="1949" y="243"/>
                  </a:lnTo>
                  <a:lnTo>
                    <a:pt x="1944" y="238"/>
                  </a:lnTo>
                  <a:lnTo>
                    <a:pt x="1939" y="238"/>
                  </a:lnTo>
                  <a:lnTo>
                    <a:pt x="1934" y="243"/>
                  </a:lnTo>
                  <a:lnTo>
                    <a:pt x="1929" y="247"/>
                  </a:lnTo>
                  <a:lnTo>
                    <a:pt x="1924" y="252"/>
                  </a:lnTo>
                  <a:lnTo>
                    <a:pt x="1919" y="257"/>
                  </a:lnTo>
                  <a:lnTo>
                    <a:pt x="1914" y="262"/>
                  </a:lnTo>
                  <a:lnTo>
                    <a:pt x="1909" y="257"/>
                  </a:lnTo>
                  <a:lnTo>
                    <a:pt x="1904" y="257"/>
                  </a:lnTo>
                  <a:lnTo>
                    <a:pt x="1899" y="252"/>
                  </a:lnTo>
                  <a:lnTo>
                    <a:pt x="1894" y="243"/>
                  </a:lnTo>
                  <a:lnTo>
                    <a:pt x="1894" y="238"/>
                  </a:lnTo>
                  <a:lnTo>
                    <a:pt x="1894" y="233"/>
                  </a:lnTo>
                  <a:lnTo>
                    <a:pt x="1899" y="228"/>
                  </a:lnTo>
                  <a:lnTo>
                    <a:pt x="1899" y="223"/>
                  </a:lnTo>
                  <a:lnTo>
                    <a:pt x="1899" y="218"/>
                  </a:lnTo>
                  <a:lnTo>
                    <a:pt x="1899" y="213"/>
                  </a:lnTo>
                  <a:lnTo>
                    <a:pt x="1889" y="208"/>
                  </a:lnTo>
                  <a:lnTo>
                    <a:pt x="1884" y="213"/>
                  </a:lnTo>
                  <a:lnTo>
                    <a:pt x="1879" y="218"/>
                  </a:lnTo>
                  <a:lnTo>
                    <a:pt x="1874" y="223"/>
                  </a:lnTo>
                  <a:lnTo>
                    <a:pt x="1874" y="228"/>
                  </a:lnTo>
                  <a:lnTo>
                    <a:pt x="1870" y="233"/>
                  </a:lnTo>
                  <a:lnTo>
                    <a:pt x="1865" y="238"/>
                  </a:lnTo>
                  <a:lnTo>
                    <a:pt x="1855" y="238"/>
                  </a:lnTo>
                  <a:lnTo>
                    <a:pt x="1850" y="238"/>
                  </a:lnTo>
                  <a:lnTo>
                    <a:pt x="1840" y="233"/>
                  </a:lnTo>
                  <a:lnTo>
                    <a:pt x="1830" y="233"/>
                  </a:lnTo>
                  <a:lnTo>
                    <a:pt x="1825" y="228"/>
                  </a:lnTo>
                  <a:lnTo>
                    <a:pt x="1825" y="223"/>
                  </a:lnTo>
                  <a:lnTo>
                    <a:pt x="1820" y="218"/>
                  </a:lnTo>
                  <a:lnTo>
                    <a:pt x="1815" y="213"/>
                  </a:lnTo>
                  <a:lnTo>
                    <a:pt x="1805" y="208"/>
                  </a:lnTo>
                  <a:lnTo>
                    <a:pt x="1800" y="208"/>
                  </a:lnTo>
                  <a:lnTo>
                    <a:pt x="1790" y="208"/>
                  </a:lnTo>
                  <a:lnTo>
                    <a:pt x="1785" y="213"/>
                  </a:lnTo>
                  <a:lnTo>
                    <a:pt x="1776" y="213"/>
                  </a:lnTo>
                  <a:lnTo>
                    <a:pt x="1766" y="213"/>
                  </a:lnTo>
                  <a:lnTo>
                    <a:pt x="1756" y="208"/>
                  </a:lnTo>
                  <a:lnTo>
                    <a:pt x="1751" y="208"/>
                  </a:lnTo>
                  <a:lnTo>
                    <a:pt x="1746" y="203"/>
                  </a:lnTo>
                  <a:lnTo>
                    <a:pt x="1746" y="198"/>
                  </a:lnTo>
                  <a:lnTo>
                    <a:pt x="1741" y="193"/>
                  </a:lnTo>
                  <a:lnTo>
                    <a:pt x="1736" y="188"/>
                  </a:lnTo>
                  <a:lnTo>
                    <a:pt x="1726" y="188"/>
                  </a:lnTo>
                  <a:lnTo>
                    <a:pt x="1721" y="183"/>
                  </a:lnTo>
                  <a:lnTo>
                    <a:pt x="1711" y="188"/>
                  </a:lnTo>
                  <a:lnTo>
                    <a:pt x="1701" y="188"/>
                  </a:lnTo>
                  <a:lnTo>
                    <a:pt x="1691" y="183"/>
                  </a:lnTo>
                  <a:lnTo>
                    <a:pt x="1687" y="183"/>
                  </a:lnTo>
                  <a:lnTo>
                    <a:pt x="1677" y="183"/>
                  </a:lnTo>
                  <a:lnTo>
                    <a:pt x="1672" y="188"/>
                  </a:lnTo>
                  <a:lnTo>
                    <a:pt x="1667" y="193"/>
                  </a:lnTo>
                  <a:lnTo>
                    <a:pt x="1667" y="198"/>
                  </a:lnTo>
                  <a:lnTo>
                    <a:pt x="1667" y="203"/>
                  </a:lnTo>
                  <a:lnTo>
                    <a:pt x="1667" y="208"/>
                  </a:lnTo>
                  <a:lnTo>
                    <a:pt x="1672" y="213"/>
                  </a:lnTo>
                  <a:lnTo>
                    <a:pt x="1677" y="218"/>
                  </a:lnTo>
                  <a:lnTo>
                    <a:pt x="1682" y="223"/>
                  </a:lnTo>
                  <a:lnTo>
                    <a:pt x="1687" y="228"/>
                  </a:lnTo>
                  <a:lnTo>
                    <a:pt x="1687" y="233"/>
                  </a:lnTo>
                  <a:lnTo>
                    <a:pt x="1691" y="238"/>
                  </a:lnTo>
                  <a:lnTo>
                    <a:pt x="1696" y="243"/>
                  </a:lnTo>
                  <a:lnTo>
                    <a:pt x="1701" y="247"/>
                  </a:lnTo>
                  <a:lnTo>
                    <a:pt x="1706" y="252"/>
                  </a:lnTo>
                  <a:lnTo>
                    <a:pt x="1711" y="252"/>
                  </a:lnTo>
                  <a:lnTo>
                    <a:pt x="1711" y="257"/>
                  </a:lnTo>
                  <a:lnTo>
                    <a:pt x="1716" y="262"/>
                  </a:lnTo>
                  <a:lnTo>
                    <a:pt x="1721" y="267"/>
                  </a:lnTo>
                  <a:lnTo>
                    <a:pt x="1721" y="272"/>
                  </a:lnTo>
                  <a:lnTo>
                    <a:pt x="1721" y="277"/>
                  </a:lnTo>
                  <a:lnTo>
                    <a:pt x="1721" y="282"/>
                  </a:lnTo>
                  <a:lnTo>
                    <a:pt x="1721" y="292"/>
                  </a:lnTo>
                  <a:lnTo>
                    <a:pt x="1716" y="297"/>
                  </a:lnTo>
                  <a:lnTo>
                    <a:pt x="1711" y="302"/>
                  </a:lnTo>
                  <a:lnTo>
                    <a:pt x="1706" y="307"/>
                  </a:lnTo>
                  <a:lnTo>
                    <a:pt x="1701" y="307"/>
                  </a:lnTo>
                  <a:lnTo>
                    <a:pt x="1696" y="302"/>
                  </a:lnTo>
                  <a:lnTo>
                    <a:pt x="1691" y="297"/>
                  </a:lnTo>
                  <a:lnTo>
                    <a:pt x="1687" y="292"/>
                  </a:lnTo>
                  <a:lnTo>
                    <a:pt x="1682" y="287"/>
                  </a:lnTo>
                  <a:lnTo>
                    <a:pt x="1672" y="287"/>
                  </a:lnTo>
                  <a:lnTo>
                    <a:pt x="1667" y="282"/>
                  </a:lnTo>
                  <a:lnTo>
                    <a:pt x="1662" y="277"/>
                  </a:lnTo>
                  <a:lnTo>
                    <a:pt x="1662" y="272"/>
                  </a:lnTo>
                  <a:lnTo>
                    <a:pt x="1657" y="267"/>
                  </a:lnTo>
                  <a:lnTo>
                    <a:pt x="1652" y="262"/>
                  </a:lnTo>
                  <a:lnTo>
                    <a:pt x="1647" y="262"/>
                  </a:lnTo>
                  <a:lnTo>
                    <a:pt x="1642" y="257"/>
                  </a:lnTo>
                  <a:lnTo>
                    <a:pt x="1637" y="252"/>
                  </a:lnTo>
                  <a:lnTo>
                    <a:pt x="1632" y="247"/>
                  </a:lnTo>
                  <a:lnTo>
                    <a:pt x="1627" y="243"/>
                  </a:lnTo>
                  <a:lnTo>
                    <a:pt x="1622" y="238"/>
                  </a:lnTo>
                  <a:lnTo>
                    <a:pt x="1617" y="233"/>
                  </a:lnTo>
                  <a:lnTo>
                    <a:pt x="1607" y="233"/>
                  </a:lnTo>
                  <a:lnTo>
                    <a:pt x="1598" y="238"/>
                  </a:lnTo>
                  <a:lnTo>
                    <a:pt x="1593" y="238"/>
                  </a:lnTo>
                  <a:lnTo>
                    <a:pt x="1583" y="238"/>
                  </a:lnTo>
                  <a:lnTo>
                    <a:pt x="1578" y="243"/>
                  </a:lnTo>
                  <a:lnTo>
                    <a:pt x="1573" y="247"/>
                  </a:lnTo>
                  <a:lnTo>
                    <a:pt x="1568" y="252"/>
                  </a:lnTo>
                  <a:lnTo>
                    <a:pt x="1563" y="257"/>
                  </a:lnTo>
                  <a:lnTo>
                    <a:pt x="1553" y="257"/>
                  </a:lnTo>
                  <a:lnTo>
                    <a:pt x="1548" y="262"/>
                  </a:lnTo>
                  <a:lnTo>
                    <a:pt x="1538" y="262"/>
                  </a:lnTo>
                  <a:lnTo>
                    <a:pt x="1533" y="262"/>
                  </a:lnTo>
                  <a:lnTo>
                    <a:pt x="1523" y="262"/>
                  </a:lnTo>
                  <a:lnTo>
                    <a:pt x="1513" y="267"/>
                  </a:lnTo>
                  <a:lnTo>
                    <a:pt x="1508" y="267"/>
                  </a:lnTo>
                  <a:lnTo>
                    <a:pt x="1504" y="272"/>
                  </a:lnTo>
                  <a:lnTo>
                    <a:pt x="1499" y="277"/>
                  </a:lnTo>
                  <a:lnTo>
                    <a:pt x="1494" y="282"/>
                  </a:lnTo>
                  <a:lnTo>
                    <a:pt x="1484" y="282"/>
                  </a:lnTo>
                  <a:lnTo>
                    <a:pt x="1479" y="287"/>
                  </a:lnTo>
                  <a:lnTo>
                    <a:pt x="1469" y="287"/>
                  </a:lnTo>
                  <a:lnTo>
                    <a:pt x="1464" y="287"/>
                  </a:lnTo>
                  <a:lnTo>
                    <a:pt x="1454" y="292"/>
                  </a:lnTo>
                  <a:lnTo>
                    <a:pt x="1449" y="292"/>
                  </a:lnTo>
                  <a:lnTo>
                    <a:pt x="1444" y="297"/>
                  </a:lnTo>
                  <a:lnTo>
                    <a:pt x="1439" y="302"/>
                  </a:lnTo>
                  <a:lnTo>
                    <a:pt x="1429" y="307"/>
                  </a:lnTo>
                  <a:lnTo>
                    <a:pt x="1424" y="307"/>
                  </a:lnTo>
                  <a:lnTo>
                    <a:pt x="1419" y="312"/>
                  </a:lnTo>
                  <a:lnTo>
                    <a:pt x="1410" y="312"/>
                  </a:lnTo>
                  <a:lnTo>
                    <a:pt x="1400" y="317"/>
                  </a:lnTo>
                  <a:lnTo>
                    <a:pt x="1395" y="317"/>
                  </a:lnTo>
                  <a:lnTo>
                    <a:pt x="1385" y="317"/>
                  </a:lnTo>
                  <a:lnTo>
                    <a:pt x="1380" y="322"/>
                  </a:lnTo>
                  <a:lnTo>
                    <a:pt x="1370" y="322"/>
                  </a:lnTo>
                  <a:lnTo>
                    <a:pt x="1365" y="327"/>
                  </a:lnTo>
                  <a:lnTo>
                    <a:pt x="1360" y="331"/>
                  </a:lnTo>
                  <a:lnTo>
                    <a:pt x="1350" y="331"/>
                  </a:lnTo>
                  <a:lnTo>
                    <a:pt x="1345" y="336"/>
                  </a:lnTo>
                  <a:lnTo>
                    <a:pt x="1335" y="336"/>
                  </a:lnTo>
                  <a:lnTo>
                    <a:pt x="1330" y="336"/>
                  </a:lnTo>
                  <a:lnTo>
                    <a:pt x="1321" y="341"/>
                  </a:lnTo>
                  <a:lnTo>
                    <a:pt x="1316" y="341"/>
                  </a:lnTo>
                  <a:lnTo>
                    <a:pt x="1306" y="346"/>
                  </a:lnTo>
                  <a:lnTo>
                    <a:pt x="1301" y="346"/>
                  </a:lnTo>
                  <a:lnTo>
                    <a:pt x="1291" y="351"/>
                  </a:lnTo>
                  <a:lnTo>
                    <a:pt x="1286" y="351"/>
                  </a:lnTo>
                  <a:lnTo>
                    <a:pt x="1276" y="356"/>
                  </a:lnTo>
                  <a:lnTo>
                    <a:pt x="1271" y="356"/>
                  </a:lnTo>
                  <a:lnTo>
                    <a:pt x="1261" y="351"/>
                  </a:lnTo>
                  <a:lnTo>
                    <a:pt x="1256" y="351"/>
                  </a:lnTo>
                  <a:lnTo>
                    <a:pt x="1251" y="346"/>
                  </a:lnTo>
                  <a:close/>
                  <a:moveTo>
                    <a:pt x="1311" y="267"/>
                  </a:moveTo>
                  <a:lnTo>
                    <a:pt x="1311" y="267"/>
                  </a:lnTo>
                  <a:lnTo>
                    <a:pt x="1306" y="262"/>
                  </a:lnTo>
                  <a:lnTo>
                    <a:pt x="1301" y="262"/>
                  </a:lnTo>
                  <a:lnTo>
                    <a:pt x="1296" y="267"/>
                  </a:lnTo>
                  <a:lnTo>
                    <a:pt x="1296" y="267"/>
                  </a:lnTo>
                  <a:lnTo>
                    <a:pt x="1296" y="267"/>
                  </a:lnTo>
                  <a:lnTo>
                    <a:pt x="1296" y="267"/>
                  </a:lnTo>
                  <a:lnTo>
                    <a:pt x="1296" y="272"/>
                  </a:lnTo>
                  <a:lnTo>
                    <a:pt x="1301" y="272"/>
                  </a:lnTo>
                  <a:lnTo>
                    <a:pt x="1306" y="272"/>
                  </a:lnTo>
                  <a:lnTo>
                    <a:pt x="1306" y="272"/>
                  </a:lnTo>
                  <a:lnTo>
                    <a:pt x="1306" y="272"/>
                  </a:lnTo>
                  <a:lnTo>
                    <a:pt x="1311" y="267"/>
                  </a:lnTo>
                  <a:lnTo>
                    <a:pt x="1311" y="267"/>
                  </a:lnTo>
                  <a:close/>
                  <a:moveTo>
                    <a:pt x="915" y="238"/>
                  </a:moveTo>
                  <a:lnTo>
                    <a:pt x="920" y="233"/>
                  </a:lnTo>
                  <a:lnTo>
                    <a:pt x="925" y="233"/>
                  </a:lnTo>
                  <a:lnTo>
                    <a:pt x="930" y="228"/>
                  </a:lnTo>
                  <a:lnTo>
                    <a:pt x="935" y="223"/>
                  </a:lnTo>
                  <a:lnTo>
                    <a:pt x="940" y="218"/>
                  </a:lnTo>
                  <a:lnTo>
                    <a:pt x="945" y="213"/>
                  </a:lnTo>
                  <a:lnTo>
                    <a:pt x="950" y="208"/>
                  </a:lnTo>
                  <a:lnTo>
                    <a:pt x="950" y="203"/>
                  </a:lnTo>
                  <a:lnTo>
                    <a:pt x="955" y="198"/>
                  </a:lnTo>
                  <a:lnTo>
                    <a:pt x="964" y="198"/>
                  </a:lnTo>
                  <a:lnTo>
                    <a:pt x="969" y="203"/>
                  </a:lnTo>
                  <a:lnTo>
                    <a:pt x="974" y="208"/>
                  </a:lnTo>
                  <a:lnTo>
                    <a:pt x="979" y="213"/>
                  </a:lnTo>
                  <a:lnTo>
                    <a:pt x="974" y="218"/>
                  </a:lnTo>
                  <a:lnTo>
                    <a:pt x="969" y="223"/>
                  </a:lnTo>
                  <a:lnTo>
                    <a:pt x="960" y="228"/>
                  </a:lnTo>
                  <a:lnTo>
                    <a:pt x="955" y="233"/>
                  </a:lnTo>
                  <a:lnTo>
                    <a:pt x="950" y="238"/>
                  </a:lnTo>
                  <a:lnTo>
                    <a:pt x="950" y="243"/>
                  </a:lnTo>
                  <a:lnTo>
                    <a:pt x="945" y="247"/>
                  </a:lnTo>
                  <a:lnTo>
                    <a:pt x="940" y="252"/>
                  </a:lnTo>
                  <a:lnTo>
                    <a:pt x="935" y="257"/>
                  </a:lnTo>
                  <a:lnTo>
                    <a:pt x="930" y="257"/>
                  </a:lnTo>
                  <a:lnTo>
                    <a:pt x="925" y="252"/>
                  </a:lnTo>
                  <a:lnTo>
                    <a:pt x="920" y="247"/>
                  </a:lnTo>
                  <a:lnTo>
                    <a:pt x="915" y="238"/>
                  </a:lnTo>
                  <a:close/>
                  <a:moveTo>
                    <a:pt x="1390" y="238"/>
                  </a:moveTo>
                  <a:lnTo>
                    <a:pt x="1385" y="238"/>
                  </a:lnTo>
                  <a:lnTo>
                    <a:pt x="1380" y="238"/>
                  </a:lnTo>
                  <a:lnTo>
                    <a:pt x="1380" y="238"/>
                  </a:lnTo>
                  <a:lnTo>
                    <a:pt x="1375" y="238"/>
                  </a:lnTo>
                  <a:lnTo>
                    <a:pt x="1375" y="243"/>
                  </a:lnTo>
                  <a:lnTo>
                    <a:pt x="1375" y="247"/>
                  </a:lnTo>
                  <a:lnTo>
                    <a:pt x="1380" y="247"/>
                  </a:lnTo>
                  <a:lnTo>
                    <a:pt x="1380" y="252"/>
                  </a:lnTo>
                  <a:lnTo>
                    <a:pt x="1385" y="252"/>
                  </a:lnTo>
                  <a:lnTo>
                    <a:pt x="1385" y="252"/>
                  </a:lnTo>
                  <a:lnTo>
                    <a:pt x="1385" y="252"/>
                  </a:lnTo>
                  <a:lnTo>
                    <a:pt x="1385" y="247"/>
                  </a:lnTo>
                  <a:lnTo>
                    <a:pt x="1390" y="243"/>
                  </a:lnTo>
                  <a:lnTo>
                    <a:pt x="1390" y="238"/>
                  </a:lnTo>
                  <a:close/>
                  <a:moveTo>
                    <a:pt x="2146" y="238"/>
                  </a:moveTo>
                  <a:lnTo>
                    <a:pt x="2151" y="238"/>
                  </a:lnTo>
                  <a:lnTo>
                    <a:pt x="2156" y="233"/>
                  </a:lnTo>
                  <a:lnTo>
                    <a:pt x="2156" y="228"/>
                  </a:lnTo>
                  <a:lnTo>
                    <a:pt x="2161" y="228"/>
                  </a:lnTo>
                  <a:lnTo>
                    <a:pt x="2161" y="223"/>
                  </a:lnTo>
                  <a:lnTo>
                    <a:pt x="2166" y="218"/>
                  </a:lnTo>
                  <a:lnTo>
                    <a:pt x="2166" y="213"/>
                  </a:lnTo>
                  <a:lnTo>
                    <a:pt x="2171" y="208"/>
                  </a:lnTo>
                  <a:lnTo>
                    <a:pt x="2171" y="203"/>
                  </a:lnTo>
                  <a:lnTo>
                    <a:pt x="2176" y="203"/>
                  </a:lnTo>
                  <a:lnTo>
                    <a:pt x="2181" y="198"/>
                  </a:lnTo>
                  <a:lnTo>
                    <a:pt x="2181" y="198"/>
                  </a:lnTo>
                  <a:lnTo>
                    <a:pt x="2186" y="198"/>
                  </a:lnTo>
                  <a:lnTo>
                    <a:pt x="2191" y="203"/>
                  </a:lnTo>
                  <a:lnTo>
                    <a:pt x="2196" y="208"/>
                  </a:lnTo>
                  <a:lnTo>
                    <a:pt x="2201" y="213"/>
                  </a:lnTo>
                  <a:lnTo>
                    <a:pt x="2206" y="213"/>
                  </a:lnTo>
                  <a:lnTo>
                    <a:pt x="2206" y="218"/>
                  </a:lnTo>
                  <a:lnTo>
                    <a:pt x="2206" y="223"/>
                  </a:lnTo>
                  <a:lnTo>
                    <a:pt x="2211" y="228"/>
                  </a:lnTo>
                  <a:lnTo>
                    <a:pt x="2216" y="228"/>
                  </a:lnTo>
                  <a:lnTo>
                    <a:pt x="2221" y="233"/>
                  </a:lnTo>
                  <a:lnTo>
                    <a:pt x="2226" y="233"/>
                  </a:lnTo>
                  <a:lnTo>
                    <a:pt x="2231" y="238"/>
                  </a:lnTo>
                  <a:lnTo>
                    <a:pt x="2240" y="238"/>
                  </a:lnTo>
                  <a:lnTo>
                    <a:pt x="2240" y="243"/>
                  </a:lnTo>
                  <a:lnTo>
                    <a:pt x="2231" y="243"/>
                  </a:lnTo>
                  <a:lnTo>
                    <a:pt x="2226" y="243"/>
                  </a:lnTo>
                  <a:lnTo>
                    <a:pt x="2221" y="243"/>
                  </a:lnTo>
                  <a:lnTo>
                    <a:pt x="2216" y="247"/>
                  </a:lnTo>
                  <a:lnTo>
                    <a:pt x="2206" y="247"/>
                  </a:lnTo>
                  <a:lnTo>
                    <a:pt x="2201" y="243"/>
                  </a:lnTo>
                  <a:lnTo>
                    <a:pt x="2196" y="243"/>
                  </a:lnTo>
                  <a:lnTo>
                    <a:pt x="2191" y="243"/>
                  </a:lnTo>
                  <a:lnTo>
                    <a:pt x="2186" y="238"/>
                  </a:lnTo>
                  <a:lnTo>
                    <a:pt x="2181" y="238"/>
                  </a:lnTo>
                  <a:lnTo>
                    <a:pt x="2171" y="243"/>
                  </a:lnTo>
                  <a:lnTo>
                    <a:pt x="2166" y="243"/>
                  </a:lnTo>
                  <a:lnTo>
                    <a:pt x="2161" y="247"/>
                  </a:lnTo>
                  <a:lnTo>
                    <a:pt x="2156" y="252"/>
                  </a:lnTo>
                  <a:lnTo>
                    <a:pt x="2156" y="252"/>
                  </a:lnTo>
                  <a:lnTo>
                    <a:pt x="2151" y="247"/>
                  </a:lnTo>
                  <a:lnTo>
                    <a:pt x="2146" y="247"/>
                  </a:lnTo>
                  <a:lnTo>
                    <a:pt x="2146" y="238"/>
                  </a:lnTo>
                  <a:close/>
                  <a:moveTo>
                    <a:pt x="1340" y="213"/>
                  </a:moveTo>
                  <a:lnTo>
                    <a:pt x="1335" y="208"/>
                  </a:lnTo>
                  <a:lnTo>
                    <a:pt x="1335" y="203"/>
                  </a:lnTo>
                  <a:lnTo>
                    <a:pt x="1330" y="203"/>
                  </a:lnTo>
                  <a:lnTo>
                    <a:pt x="1326" y="203"/>
                  </a:lnTo>
                  <a:lnTo>
                    <a:pt x="1316" y="203"/>
                  </a:lnTo>
                  <a:lnTo>
                    <a:pt x="1311" y="208"/>
                  </a:lnTo>
                  <a:lnTo>
                    <a:pt x="1311" y="213"/>
                  </a:lnTo>
                  <a:lnTo>
                    <a:pt x="1311" y="218"/>
                  </a:lnTo>
                  <a:lnTo>
                    <a:pt x="1316" y="223"/>
                  </a:lnTo>
                  <a:lnTo>
                    <a:pt x="1321" y="223"/>
                  </a:lnTo>
                  <a:lnTo>
                    <a:pt x="1330" y="223"/>
                  </a:lnTo>
                  <a:lnTo>
                    <a:pt x="1335" y="223"/>
                  </a:lnTo>
                  <a:lnTo>
                    <a:pt x="1335" y="218"/>
                  </a:lnTo>
                  <a:lnTo>
                    <a:pt x="1340" y="213"/>
                  </a:lnTo>
                  <a:close/>
                  <a:moveTo>
                    <a:pt x="984" y="188"/>
                  </a:moveTo>
                  <a:lnTo>
                    <a:pt x="994" y="178"/>
                  </a:lnTo>
                  <a:lnTo>
                    <a:pt x="999" y="168"/>
                  </a:lnTo>
                  <a:lnTo>
                    <a:pt x="1009" y="168"/>
                  </a:lnTo>
                  <a:lnTo>
                    <a:pt x="1014" y="168"/>
                  </a:lnTo>
                  <a:lnTo>
                    <a:pt x="1024" y="173"/>
                  </a:lnTo>
                  <a:lnTo>
                    <a:pt x="1029" y="183"/>
                  </a:lnTo>
                  <a:lnTo>
                    <a:pt x="1029" y="188"/>
                  </a:lnTo>
                  <a:lnTo>
                    <a:pt x="1024" y="198"/>
                  </a:lnTo>
                  <a:lnTo>
                    <a:pt x="1019" y="203"/>
                  </a:lnTo>
                  <a:lnTo>
                    <a:pt x="1014" y="208"/>
                  </a:lnTo>
                  <a:lnTo>
                    <a:pt x="1004" y="208"/>
                  </a:lnTo>
                  <a:lnTo>
                    <a:pt x="999" y="203"/>
                  </a:lnTo>
                  <a:lnTo>
                    <a:pt x="994" y="198"/>
                  </a:lnTo>
                  <a:lnTo>
                    <a:pt x="984" y="188"/>
                  </a:lnTo>
                  <a:close/>
                  <a:moveTo>
                    <a:pt x="1410" y="188"/>
                  </a:moveTo>
                  <a:lnTo>
                    <a:pt x="1410" y="183"/>
                  </a:lnTo>
                  <a:lnTo>
                    <a:pt x="1405" y="183"/>
                  </a:lnTo>
                  <a:lnTo>
                    <a:pt x="1405" y="183"/>
                  </a:lnTo>
                  <a:lnTo>
                    <a:pt x="1400" y="183"/>
                  </a:lnTo>
                  <a:lnTo>
                    <a:pt x="1395" y="183"/>
                  </a:lnTo>
                  <a:lnTo>
                    <a:pt x="1395" y="183"/>
                  </a:lnTo>
                  <a:lnTo>
                    <a:pt x="1390" y="183"/>
                  </a:lnTo>
                  <a:lnTo>
                    <a:pt x="1385" y="183"/>
                  </a:lnTo>
                  <a:lnTo>
                    <a:pt x="1380" y="183"/>
                  </a:lnTo>
                  <a:lnTo>
                    <a:pt x="1380" y="188"/>
                  </a:lnTo>
                  <a:lnTo>
                    <a:pt x="1380" y="188"/>
                  </a:lnTo>
                  <a:lnTo>
                    <a:pt x="1385" y="188"/>
                  </a:lnTo>
                  <a:lnTo>
                    <a:pt x="1390" y="188"/>
                  </a:lnTo>
                  <a:lnTo>
                    <a:pt x="1395" y="188"/>
                  </a:lnTo>
                  <a:lnTo>
                    <a:pt x="1395" y="188"/>
                  </a:lnTo>
                  <a:lnTo>
                    <a:pt x="1400" y="188"/>
                  </a:lnTo>
                  <a:lnTo>
                    <a:pt x="1405" y="188"/>
                  </a:lnTo>
                  <a:lnTo>
                    <a:pt x="1405" y="188"/>
                  </a:lnTo>
                  <a:lnTo>
                    <a:pt x="1410" y="188"/>
                  </a:lnTo>
                  <a:lnTo>
                    <a:pt x="1410" y="188"/>
                  </a:lnTo>
                  <a:close/>
                  <a:moveTo>
                    <a:pt x="1850" y="188"/>
                  </a:moveTo>
                  <a:lnTo>
                    <a:pt x="1845" y="183"/>
                  </a:lnTo>
                  <a:lnTo>
                    <a:pt x="1845" y="183"/>
                  </a:lnTo>
                  <a:lnTo>
                    <a:pt x="1840" y="183"/>
                  </a:lnTo>
                  <a:lnTo>
                    <a:pt x="1835" y="183"/>
                  </a:lnTo>
                  <a:lnTo>
                    <a:pt x="1830" y="188"/>
                  </a:lnTo>
                  <a:lnTo>
                    <a:pt x="1825" y="188"/>
                  </a:lnTo>
                  <a:lnTo>
                    <a:pt x="1830" y="193"/>
                  </a:lnTo>
                  <a:lnTo>
                    <a:pt x="1830" y="193"/>
                  </a:lnTo>
                  <a:lnTo>
                    <a:pt x="1835" y="198"/>
                  </a:lnTo>
                  <a:lnTo>
                    <a:pt x="1840" y="198"/>
                  </a:lnTo>
                  <a:lnTo>
                    <a:pt x="1840" y="198"/>
                  </a:lnTo>
                  <a:lnTo>
                    <a:pt x="1845" y="193"/>
                  </a:lnTo>
                  <a:lnTo>
                    <a:pt x="1850" y="193"/>
                  </a:lnTo>
                  <a:lnTo>
                    <a:pt x="1850" y="188"/>
                  </a:lnTo>
                  <a:close/>
                  <a:moveTo>
                    <a:pt x="1469" y="159"/>
                  </a:moveTo>
                  <a:lnTo>
                    <a:pt x="1469" y="154"/>
                  </a:lnTo>
                  <a:lnTo>
                    <a:pt x="1469" y="154"/>
                  </a:lnTo>
                  <a:lnTo>
                    <a:pt x="1464" y="154"/>
                  </a:lnTo>
                  <a:lnTo>
                    <a:pt x="1464" y="154"/>
                  </a:lnTo>
                  <a:lnTo>
                    <a:pt x="1459" y="154"/>
                  </a:lnTo>
                  <a:lnTo>
                    <a:pt x="1454" y="154"/>
                  </a:lnTo>
                  <a:lnTo>
                    <a:pt x="1449" y="159"/>
                  </a:lnTo>
                  <a:lnTo>
                    <a:pt x="1449" y="159"/>
                  </a:lnTo>
                  <a:lnTo>
                    <a:pt x="1449" y="159"/>
                  </a:lnTo>
                  <a:lnTo>
                    <a:pt x="1454" y="163"/>
                  </a:lnTo>
                  <a:lnTo>
                    <a:pt x="1459" y="163"/>
                  </a:lnTo>
                  <a:lnTo>
                    <a:pt x="1464" y="163"/>
                  </a:lnTo>
                  <a:lnTo>
                    <a:pt x="1469" y="163"/>
                  </a:lnTo>
                  <a:lnTo>
                    <a:pt x="1469" y="159"/>
                  </a:lnTo>
                  <a:close/>
                  <a:moveTo>
                    <a:pt x="1795" y="159"/>
                  </a:moveTo>
                  <a:lnTo>
                    <a:pt x="1795" y="159"/>
                  </a:lnTo>
                  <a:lnTo>
                    <a:pt x="1790" y="159"/>
                  </a:lnTo>
                  <a:lnTo>
                    <a:pt x="1785" y="159"/>
                  </a:lnTo>
                  <a:lnTo>
                    <a:pt x="1785" y="159"/>
                  </a:lnTo>
                  <a:lnTo>
                    <a:pt x="1780" y="159"/>
                  </a:lnTo>
                  <a:lnTo>
                    <a:pt x="1776" y="159"/>
                  </a:lnTo>
                  <a:lnTo>
                    <a:pt x="1771" y="159"/>
                  </a:lnTo>
                  <a:lnTo>
                    <a:pt x="1776" y="163"/>
                  </a:lnTo>
                  <a:lnTo>
                    <a:pt x="1780" y="163"/>
                  </a:lnTo>
                  <a:lnTo>
                    <a:pt x="1785" y="163"/>
                  </a:lnTo>
                  <a:lnTo>
                    <a:pt x="1785" y="163"/>
                  </a:lnTo>
                  <a:lnTo>
                    <a:pt x="1790" y="163"/>
                  </a:lnTo>
                  <a:lnTo>
                    <a:pt x="1795" y="163"/>
                  </a:lnTo>
                  <a:lnTo>
                    <a:pt x="1795" y="159"/>
                  </a:lnTo>
                  <a:close/>
                  <a:moveTo>
                    <a:pt x="1543" y="134"/>
                  </a:moveTo>
                  <a:lnTo>
                    <a:pt x="1543" y="129"/>
                  </a:lnTo>
                  <a:lnTo>
                    <a:pt x="1538" y="129"/>
                  </a:lnTo>
                  <a:lnTo>
                    <a:pt x="1538" y="129"/>
                  </a:lnTo>
                  <a:lnTo>
                    <a:pt x="1533" y="124"/>
                  </a:lnTo>
                  <a:lnTo>
                    <a:pt x="1528" y="124"/>
                  </a:lnTo>
                  <a:lnTo>
                    <a:pt x="1523" y="124"/>
                  </a:lnTo>
                  <a:lnTo>
                    <a:pt x="1518" y="124"/>
                  </a:lnTo>
                  <a:lnTo>
                    <a:pt x="1513" y="129"/>
                  </a:lnTo>
                  <a:lnTo>
                    <a:pt x="1508" y="129"/>
                  </a:lnTo>
                  <a:lnTo>
                    <a:pt x="1508" y="129"/>
                  </a:lnTo>
                  <a:lnTo>
                    <a:pt x="1508" y="134"/>
                  </a:lnTo>
                  <a:lnTo>
                    <a:pt x="1513" y="134"/>
                  </a:lnTo>
                  <a:lnTo>
                    <a:pt x="1518" y="134"/>
                  </a:lnTo>
                  <a:lnTo>
                    <a:pt x="1518" y="134"/>
                  </a:lnTo>
                  <a:lnTo>
                    <a:pt x="1523" y="134"/>
                  </a:lnTo>
                  <a:lnTo>
                    <a:pt x="1528" y="134"/>
                  </a:lnTo>
                  <a:lnTo>
                    <a:pt x="1533" y="134"/>
                  </a:lnTo>
                  <a:lnTo>
                    <a:pt x="1538" y="134"/>
                  </a:lnTo>
                  <a:lnTo>
                    <a:pt x="1538" y="134"/>
                  </a:lnTo>
                  <a:lnTo>
                    <a:pt x="1543" y="134"/>
                  </a:lnTo>
                  <a:close/>
                  <a:moveTo>
                    <a:pt x="1741" y="134"/>
                  </a:moveTo>
                  <a:lnTo>
                    <a:pt x="1741" y="134"/>
                  </a:lnTo>
                  <a:lnTo>
                    <a:pt x="1736" y="134"/>
                  </a:lnTo>
                  <a:lnTo>
                    <a:pt x="1731" y="129"/>
                  </a:lnTo>
                  <a:lnTo>
                    <a:pt x="1731" y="129"/>
                  </a:lnTo>
                  <a:lnTo>
                    <a:pt x="1726" y="134"/>
                  </a:lnTo>
                  <a:lnTo>
                    <a:pt x="1721" y="134"/>
                  </a:lnTo>
                  <a:lnTo>
                    <a:pt x="1716" y="134"/>
                  </a:lnTo>
                  <a:lnTo>
                    <a:pt x="1721" y="134"/>
                  </a:lnTo>
                  <a:lnTo>
                    <a:pt x="1726" y="134"/>
                  </a:lnTo>
                  <a:lnTo>
                    <a:pt x="1731" y="134"/>
                  </a:lnTo>
                  <a:lnTo>
                    <a:pt x="1731" y="134"/>
                  </a:lnTo>
                  <a:lnTo>
                    <a:pt x="1736" y="134"/>
                  </a:lnTo>
                  <a:lnTo>
                    <a:pt x="1741" y="134"/>
                  </a:lnTo>
                  <a:lnTo>
                    <a:pt x="1741" y="134"/>
                  </a:lnTo>
                  <a:close/>
                  <a:moveTo>
                    <a:pt x="1602" y="104"/>
                  </a:moveTo>
                  <a:lnTo>
                    <a:pt x="1602" y="104"/>
                  </a:lnTo>
                  <a:lnTo>
                    <a:pt x="1598" y="99"/>
                  </a:lnTo>
                  <a:lnTo>
                    <a:pt x="1593" y="99"/>
                  </a:lnTo>
                  <a:lnTo>
                    <a:pt x="1588" y="99"/>
                  </a:lnTo>
                  <a:lnTo>
                    <a:pt x="1583" y="99"/>
                  </a:lnTo>
                  <a:lnTo>
                    <a:pt x="1578" y="104"/>
                  </a:lnTo>
                  <a:lnTo>
                    <a:pt x="1573" y="104"/>
                  </a:lnTo>
                  <a:lnTo>
                    <a:pt x="1573" y="104"/>
                  </a:lnTo>
                  <a:lnTo>
                    <a:pt x="1578" y="109"/>
                  </a:lnTo>
                  <a:lnTo>
                    <a:pt x="1583" y="109"/>
                  </a:lnTo>
                  <a:lnTo>
                    <a:pt x="1588" y="109"/>
                  </a:lnTo>
                  <a:lnTo>
                    <a:pt x="1593" y="109"/>
                  </a:lnTo>
                  <a:lnTo>
                    <a:pt x="1598" y="109"/>
                  </a:lnTo>
                  <a:lnTo>
                    <a:pt x="1602" y="104"/>
                  </a:lnTo>
                  <a:close/>
                  <a:moveTo>
                    <a:pt x="1687" y="104"/>
                  </a:moveTo>
                  <a:lnTo>
                    <a:pt x="1687" y="104"/>
                  </a:lnTo>
                  <a:lnTo>
                    <a:pt x="1682" y="104"/>
                  </a:lnTo>
                  <a:lnTo>
                    <a:pt x="1677" y="104"/>
                  </a:lnTo>
                  <a:lnTo>
                    <a:pt x="1672" y="104"/>
                  </a:lnTo>
                  <a:lnTo>
                    <a:pt x="1667" y="104"/>
                  </a:lnTo>
                  <a:lnTo>
                    <a:pt x="1662" y="104"/>
                  </a:lnTo>
                  <a:lnTo>
                    <a:pt x="1662" y="104"/>
                  </a:lnTo>
                  <a:lnTo>
                    <a:pt x="1667" y="109"/>
                  </a:lnTo>
                  <a:lnTo>
                    <a:pt x="1667" y="109"/>
                  </a:lnTo>
                  <a:lnTo>
                    <a:pt x="1672" y="109"/>
                  </a:lnTo>
                  <a:lnTo>
                    <a:pt x="1677" y="109"/>
                  </a:lnTo>
                  <a:lnTo>
                    <a:pt x="1682" y="109"/>
                  </a:lnTo>
                  <a:lnTo>
                    <a:pt x="1687" y="109"/>
                  </a:lnTo>
                  <a:lnTo>
                    <a:pt x="1687" y="104"/>
                  </a:lnTo>
                  <a:close/>
                </a:path>
              </a:pathLst>
            </a:custGeom>
            <a:solidFill>
              <a:srgbClr val="ffe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1" name=""/>
            <p:cNvSpPr/>
            <p:nvPr/>
          </p:nvSpPr>
          <p:spPr>
            <a:xfrm>
              <a:off x="2265120" y="2368440"/>
              <a:ext cx="4098960" cy="2628360"/>
            </a:xfrm>
            <a:custGeom>
              <a:avLst/>
              <a:gdLst/>
              <a:ahLst/>
              <a:rect l="l" t="t" r="r" b="b"/>
              <a:pathLst>
                <a:path w="2582" h="1656">
                  <a:moveTo>
                    <a:pt x="2235" y="1656"/>
                  </a:moveTo>
                  <a:lnTo>
                    <a:pt x="2260" y="1631"/>
                  </a:lnTo>
                  <a:lnTo>
                    <a:pt x="2285" y="1631"/>
                  </a:lnTo>
                  <a:lnTo>
                    <a:pt x="2315" y="1631"/>
                  </a:lnTo>
                  <a:lnTo>
                    <a:pt x="2339" y="1631"/>
                  </a:lnTo>
                  <a:lnTo>
                    <a:pt x="2369" y="1631"/>
                  </a:lnTo>
                  <a:lnTo>
                    <a:pt x="2394" y="1631"/>
                  </a:lnTo>
                  <a:lnTo>
                    <a:pt x="2418" y="1631"/>
                  </a:lnTo>
                  <a:lnTo>
                    <a:pt x="2448" y="1602"/>
                  </a:lnTo>
                  <a:lnTo>
                    <a:pt x="2448" y="1577"/>
                  </a:lnTo>
                  <a:lnTo>
                    <a:pt x="2448" y="1547"/>
                  </a:lnTo>
                  <a:lnTo>
                    <a:pt x="2448" y="1523"/>
                  </a:lnTo>
                  <a:lnTo>
                    <a:pt x="2473" y="1498"/>
                  </a:lnTo>
                  <a:lnTo>
                    <a:pt x="2473" y="1468"/>
                  </a:lnTo>
                  <a:lnTo>
                    <a:pt x="2473" y="1444"/>
                  </a:lnTo>
                  <a:lnTo>
                    <a:pt x="2473" y="1414"/>
                  </a:lnTo>
                  <a:lnTo>
                    <a:pt x="2503" y="1389"/>
                  </a:lnTo>
                  <a:lnTo>
                    <a:pt x="2503" y="1364"/>
                  </a:lnTo>
                  <a:lnTo>
                    <a:pt x="2503" y="1335"/>
                  </a:lnTo>
                  <a:lnTo>
                    <a:pt x="2503" y="1310"/>
                  </a:lnTo>
                  <a:lnTo>
                    <a:pt x="2527" y="1280"/>
                  </a:lnTo>
                  <a:lnTo>
                    <a:pt x="2527" y="1256"/>
                  </a:lnTo>
                  <a:lnTo>
                    <a:pt x="2527" y="1226"/>
                  </a:lnTo>
                  <a:lnTo>
                    <a:pt x="2527" y="1201"/>
                  </a:lnTo>
                  <a:lnTo>
                    <a:pt x="2552" y="1177"/>
                  </a:lnTo>
                  <a:lnTo>
                    <a:pt x="2552" y="1147"/>
                  </a:lnTo>
                  <a:lnTo>
                    <a:pt x="2552" y="1122"/>
                  </a:lnTo>
                  <a:lnTo>
                    <a:pt x="2552" y="1093"/>
                  </a:lnTo>
                  <a:lnTo>
                    <a:pt x="2582" y="1068"/>
                  </a:lnTo>
                  <a:lnTo>
                    <a:pt x="2582" y="1043"/>
                  </a:lnTo>
                  <a:lnTo>
                    <a:pt x="2582" y="1014"/>
                  </a:lnTo>
                  <a:lnTo>
                    <a:pt x="2582" y="989"/>
                  </a:lnTo>
                  <a:lnTo>
                    <a:pt x="2582" y="959"/>
                  </a:lnTo>
                  <a:lnTo>
                    <a:pt x="2582" y="934"/>
                  </a:lnTo>
                  <a:lnTo>
                    <a:pt x="2582" y="910"/>
                  </a:lnTo>
                  <a:lnTo>
                    <a:pt x="2582" y="880"/>
                  </a:lnTo>
                  <a:lnTo>
                    <a:pt x="2582" y="855"/>
                  </a:lnTo>
                  <a:lnTo>
                    <a:pt x="2582" y="826"/>
                  </a:lnTo>
                  <a:lnTo>
                    <a:pt x="2582" y="801"/>
                  </a:lnTo>
                  <a:lnTo>
                    <a:pt x="2582" y="776"/>
                  </a:lnTo>
                  <a:lnTo>
                    <a:pt x="2582" y="747"/>
                  </a:lnTo>
                  <a:lnTo>
                    <a:pt x="2582" y="722"/>
                  </a:lnTo>
                  <a:lnTo>
                    <a:pt x="2582" y="692"/>
                  </a:lnTo>
                  <a:lnTo>
                    <a:pt x="2582" y="668"/>
                  </a:lnTo>
                  <a:lnTo>
                    <a:pt x="2582" y="643"/>
                  </a:lnTo>
                  <a:lnTo>
                    <a:pt x="2582" y="613"/>
                  </a:lnTo>
                  <a:lnTo>
                    <a:pt x="2582" y="589"/>
                  </a:lnTo>
                  <a:lnTo>
                    <a:pt x="2582" y="559"/>
                  </a:lnTo>
                  <a:lnTo>
                    <a:pt x="2582" y="534"/>
                  </a:lnTo>
                  <a:lnTo>
                    <a:pt x="2582" y="504"/>
                  </a:lnTo>
                  <a:lnTo>
                    <a:pt x="2582" y="480"/>
                  </a:lnTo>
                  <a:lnTo>
                    <a:pt x="2582" y="455"/>
                  </a:lnTo>
                  <a:lnTo>
                    <a:pt x="2582" y="425"/>
                  </a:lnTo>
                  <a:lnTo>
                    <a:pt x="2582" y="401"/>
                  </a:lnTo>
                  <a:lnTo>
                    <a:pt x="2582" y="371"/>
                  </a:lnTo>
                  <a:lnTo>
                    <a:pt x="2582" y="346"/>
                  </a:lnTo>
                  <a:lnTo>
                    <a:pt x="2582" y="322"/>
                  </a:lnTo>
                  <a:lnTo>
                    <a:pt x="2582" y="292"/>
                  </a:lnTo>
                  <a:lnTo>
                    <a:pt x="2582" y="267"/>
                  </a:lnTo>
                  <a:lnTo>
                    <a:pt x="2582" y="238"/>
                  </a:lnTo>
                  <a:lnTo>
                    <a:pt x="2552" y="213"/>
                  </a:lnTo>
                  <a:lnTo>
                    <a:pt x="2552" y="188"/>
                  </a:lnTo>
                  <a:lnTo>
                    <a:pt x="2552" y="159"/>
                  </a:lnTo>
                  <a:lnTo>
                    <a:pt x="2552" y="134"/>
                  </a:lnTo>
                  <a:lnTo>
                    <a:pt x="2552" y="104"/>
                  </a:lnTo>
                  <a:lnTo>
                    <a:pt x="2527" y="79"/>
                  </a:lnTo>
                  <a:lnTo>
                    <a:pt x="2503" y="79"/>
                  </a:lnTo>
                  <a:lnTo>
                    <a:pt x="2473" y="79"/>
                  </a:lnTo>
                  <a:lnTo>
                    <a:pt x="2448" y="55"/>
                  </a:lnTo>
                  <a:lnTo>
                    <a:pt x="2418" y="55"/>
                  </a:lnTo>
                  <a:lnTo>
                    <a:pt x="2394" y="55"/>
                  </a:lnTo>
                  <a:lnTo>
                    <a:pt x="2369" y="25"/>
                  </a:lnTo>
                  <a:lnTo>
                    <a:pt x="2339" y="25"/>
                  </a:lnTo>
                  <a:lnTo>
                    <a:pt x="2315" y="25"/>
                  </a:lnTo>
                  <a:lnTo>
                    <a:pt x="2285" y="0"/>
                  </a:lnTo>
                  <a:lnTo>
                    <a:pt x="2260" y="0"/>
                  </a:lnTo>
                  <a:lnTo>
                    <a:pt x="2235" y="0"/>
                  </a:lnTo>
                  <a:lnTo>
                    <a:pt x="2206" y="0"/>
                  </a:lnTo>
                  <a:lnTo>
                    <a:pt x="2181" y="0"/>
                  </a:lnTo>
                  <a:lnTo>
                    <a:pt x="2156" y="0"/>
                  </a:lnTo>
                  <a:lnTo>
                    <a:pt x="2127" y="0"/>
                  </a:lnTo>
                  <a:lnTo>
                    <a:pt x="2102" y="0"/>
                  </a:lnTo>
                  <a:lnTo>
                    <a:pt x="2072" y="0"/>
                  </a:lnTo>
                  <a:lnTo>
                    <a:pt x="2048" y="0"/>
                  </a:lnTo>
                  <a:lnTo>
                    <a:pt x="2023" y="0"/>
                  </a:lnTo>
                  <a:lnTo>
                    <a:pt x="1993" y="0"/>
                  </a:lnTo>
                  <a:lnTo>
                    <a:pt x="1968" y="0"/>
                  </a:lnTo>
                  <a:lnTo>
                    <a:pt x="1944" y="0"/>
                  </a:lnTo>
                  <a:lnTo>
                    <a:pt x="1914" y="0"/>
                  </a:lnTo>
                  <a:lnTo>
                    <a:pt x="1889" y="0"/>
                  </a:lnTo>
                  <a:lnTo>
                    <a:pt x="1860" y="0"/>
                  </a:lnTo>
                  <a:lnTo>
                    <a:pt x="1835" y="0"/>
                  </a:lnTo>
                  <a:lnTo>
                    <a:pt x="1810" y="0"/>
                  </a:lnTo>
                  <a:lnTo>
                    <a:pt x="1780" y="0"/>
                  </a:lnTo>
                  <a:lnTo>
                    <a:pt x="1756" y="0"/>
                  </a:lnTo>
                  <a:lnTo>
                    <a:pt x="1726" y="0"/>
                  </a:lnTo>
                  <a:lnTo>
                    <a:pt x="1701" y="0"/>
                  </a:lnTo>
                  <a:lnTo>
                    <a:pt x="1677" y="0"/>
                  </a:lnTo>
                  <a:lnTo>
                    <a:pt x="1647" y="0"/>
                  </a:lnTo>
                  <a:lnTo>
                    <a:pt x="1622" y="0"/>
                  </a:lnTo>
                  <a:lnTo>
                    <a:pt x="1598" y="0"/>
                  </a:lnTo>
                  <a:lnTo>
                    <a:pt x="1568" y="0"/>
                  </a:lnTo>
                  <a:lnTo>
                    <a:pt x="1543" y="0"/>
                  </a:lnTo>
                  <a:lnTo>
                    <a:pt x="1513" y="0"/>
                  </a:lnTo>
                  <a:lnTo>
                    <a:pt x="1489" y="0"/>
                  </a:lnTo>
                  <a:lnTo>
                    <a:pt x="1464" y="0"/>
                  </a:lnTo>
                  <a:lnTo>
                    <a:pt x="1434" y="0"/>
                  </a:lnTo>
                  <a:lnTo>
                    <a:pt x="1410" y="0"/>
                  </a:lnTo>
                  <a:lnTo>
                    <a:pt x="1385" y="0"/>
                  </a:lnTo>
                  <a:lnTo>
                    <a:pt x="1355" y="0"/>
                  </a:lnTo>
                  <a:lnTo>
                    <a:pt x="1330" y="0"/>
                  </a:lnTo>
                  <a:lnTo>
                    <a:pt x="1301" y="0"/>
                  </a:lnTo>
                  <a:lnTo>
                    <a:pt x="1276" y="0"/>
                  </a:lnTo>
                  <a:lnTo>
                    <a:pt x="1251" y="0"/>
                  </a:lnTo>
                  <a:lnTo>
                    <a:pt x="1222" y="0"/>
                  </a:lnTo>
                  <a:lnTo>
                    <a:pt x="1197" y="0"/>
                  </a:lnTo>
                  <a:lnTo>
                    <a:pt x="1172" y="0"/>
                  </a:lnTo>
                  <a:lnTo>
                    <a:pt x="1143" y="0"/>
                  </a:lnTo>
                  <a:lnTo>
                    <a:pt x="1118" y="0"/>
                  </a:lnTo>
                  <a:lnTo>
                    <a:pt x="1088" y="0"/>
                  </a:lnTo>
                  <a:lnTo>
                    <a:pt x="1063" y="0"/>
                  </a:lnTo>
                  <a:lnTo>
                    <a:pt x="1039" y="0"/>
                  </a:lnTo>
                  <a:lnTo>
                    <a:pt x="1009" y="0"/>
                  </a:lnTo>
                  <a:lnTo>
                    <a:pt x="984" y="0"/>
                  </a:lnTo>
                  <a:lnTo>
                    <a:pt x="955" y="0"/>
                  </a:lnTo>
                  <a:lnTo>
                    <a:pt x="930" y="0"/>
                  </a:lnTo>
                  <a:lnTo>
                    <a:pt x="905" y="0"/>
                  </a:lnTo>
                  <a:lnTo>
                    <a:pt x="875" y="0"/>
                  </a:lnTo>
                  <a:lnTo>
                    <a:pt x="851" y="0"/>
                  </a:lnTo>
                  <a:lnTo>
                    <a:pt x="826" y="0"/>
                  </a:lnTo>
                  <a:lnTo>
                    <a:pt x="796" y="0"/>
                  </a:lnTo>
                  <a:lnTo>
                    <a:pt x="772" y="0"/>
                  </a:lnTo>
                  <a:lnTo>
                    <a:pt x="742" y="0"/>
                  </a:lnTo>
                  <a:lnTo>
                    <a:pt x="717" y="0"/>
                  </a:lnTo>
                  <a:lnTo>
                    <a:pt x="692" y="0"/>
                  </a:lnTo>
                  <a:lnTo>
                    <a:pt x="663" y="0"/>
                  </a:lnTo>
                  <a:lnTo>
                    <a:pt x="638" y="0"/>
                  </a:lnTo>
                  <a:lnTo>
                    <a:pt x="613" y="0"/>
                  </a:lnTo>
                  <a:lnTo>
                    <a:pt x="584" y="25"/>
                  </a:lnTo>
                  <a:lnTo>
                    <a:pt x="559" y="55"/>
                  </a:lnTo>
                  <a:lnTo>
                    <a:pt x="529" y="79"/>
                  </a:lnTo>
                  <a:lnTo>
                    <a:pt x="505" y="104"/>
                  </a:lnTo>
                  <a:lnTo>
                    <a:pt x="480" y="134"/>
                  </a:lnTo>
                  <a:lnTo>
                    <a:pt x="450" y="134"/>
                  </a:lnTo>
                  <a:lnTo>
                    <a:pt x="425" y="159"/>
                  </a:lnTo>
                  <a:lnTo>
                    <a:pt x="396" y="188"/>
                  </a:lnTo>
                  <a:lnTo>
                    <a:pt x="371" y="213"/>
                  </a:lnTo>
                  <a:lnTo>
                    <a:pt x="346" y="238"/>
                  </a:lnTo>
                  <a:lnTo>
                    <a:pt x="317" y="267"/>
                  </a:lnTo>
                  <a:lnTo>
                    <a:pt x="292" y="292"/>
                  </a:lnTo>
                  <a:lnTo>
                    <a:pt x="267" y="322"/>
                  </a:lnTo>
                  <a:lnTo>
                    <a:pt x="237" y="322"/>
                  </a:lnTo>
                  <a:lnTo>
                    <a:pt x="213" y="346"/>
                  </a:lnTo>
                  <a:lnTo>
                    <a:pt x="183" y="371"/>
                  </a:lnTo>
                  <a:lnTo>
                    <a:pt x="158" y="401"/>
                  </a:lnTo>
                  <a:lnTo>
                    <a:pt x="134" y="425"/>
                  </a:lnTo>
                  <a:lnTo>
                    <a:pt x="104" y="455"/>
                  </a:lnTo>
                  <a:lnTo>
                    <a:pt x="79" y="480"/>
                  </a:lnTo>
                  <a:lnTo>
                    <a:pt x="55" y="504"/>
                  </a:lnTo>
                  <a:lnTo>
                    <a:pt x="25" y="504"/>
                  </a:lnTo>
                  <a:lnTo>
                    <a:pt x="0" y="534"/>
                  </a:lnTo>
                  <a:lnTo>
                    <a:pt x="0" y="559"/>
                  </a:lnTo>
                  <a:lnTo>
                    <a:pt x="0" y="589"/>
                  </a:lnTo>
                  <a:lnTo>
                    <a:pt x="0" y="613"/>
                  </a:lnTo>
                  <a:lnTo>
                    <a:pt x="25" y="643"/>
                  </a:lnTo>
                  <a:lnTo>
                    <a:pt x="25" y="668"/>
                  </a:lnTo>
                  <a:lnTo>
                    <a:pt x="55" y="692"/>
                  </a:lnTo>
                  <a:lnTo>
                    <a:pt x="79" y="722"/>
                  </a:lnTo>
                  <a:lnTo>
                    <a:pt x="104" y="747"/>
                  </a:lnTo>
                  <a:lnTo>
                    <a:pt x="134" y="776"/>
                  </a:lnTo>
                  <a:lnTo>
                    <a:pt x="134" y="801"/>
                  </a:lnTo>
                  <a:lnTo>
                    <a:pt x="158" y="826"/>
                  </a:lnTo>
                  <a:lnTo>
                    <a:pt x="183" y="855"/>
                  </a:lnTo>
                  <a:lnTo>
                    <a:pt x="213" y="880"/>
                  </a:lnTo>
                  <a:lnTo>
                    <a:pt x="237" y="910"/>
                  </a:lnTo>
                  <a:lnTo>
                    <a:pt x="267" y="934"/>
                  </a:lnTo>
                  <a:lnTo>
                    <a:pt x="292" y="959"/>
                  </a:lnTo>
                  <a:lnTo>
                    <a:pt x="292" y="989"/>
                  </a:lnTo>
                  <a:lnTo>
                    <a:pt x="317" y="1014"/>
                  </a:lnTo>
                  <a:lnTo>
                    <a:pt x="346" y="1043"/>
                  </a:lnTo>
                  <a:lnTo>
                    <a:pt x="371" y="1068"/>
                  </a:lnTo>
                  <a:lnTo>
                    <a:pt x="396" y="1093"/>
                  </a:lnTo>
                  <a:lnTo>
                    <a:pt x="425" y="1122"/>
                  </a:lnTo>
                  <a:lnTo>
                    <a:pt x="450" y="1147"/>
                  </a:lnTo>
                  <a:lnTo>
                    <a:pt x="480" y="1177"/>
                  </a:lnTo>
                  <a:lnTo>
                    <a:pt x="505" y="1201"/>
                  </a:lnTo>
                  <a:lnTo>
                    <a:pt x="529" y="1226"/>
                  </a:lnTo>
                  <a:lnTo>
                    <a:pt x="559" y="1256"/>
                  </a:lnTo>
                  <a:lnTo>
                    <a:pt x="584" y="1280"/>
                  </a:lnTo>
                  <a:lnTo>
                    <a:pt x="613" y="1310"/>
                  </a:lnTo>
                  <a:lnTo>
                    <a:pt x="638" y="1335"/>
                  </a:lnTo>
                  <a:lnTo>
                    <a:pt x="663" y="1364"/>
                  </a:lnTo>
                  <a:lnTo>
                    <a:pt x="692" y="1389"/>
                  </a:lnTo>
                  <a:lnTo>
                    <a:pt x="717" y="1414"/>
                  </a:lnTo>
                  <a:lnTo>
                    <a:pt x="742" y="1444"/>
                  </a:lnTo>
                  <a:lnTo>
                    <a:pt x="772" y="1468"/>
                  </a:lnTo>
                  <a:lnTo>
                    <a:pt x="796" y="1468"/>
                  </a:lnTo>
                  <a:lnTo>
                    <a:pt x="826" y="1498"/>
                  </a:lnTo>
                  <a:lnTo>
                    <a:pt x="851" y="1523"/>
                  </a:lnTo>
                  <a:lnTo>
                    <a:pt x="875" y="1547"/>
                  </a:lnTo>
                  <a:lnTo>
                    <a:pt x="905" y="1577"/>
                  </a:lnTo>
                  <a:lnTo>
                    <a:pt x="930" y="1602"/>
                  </a:lnTo>
                  <a:lnTo>
                    <a:pt x="955" y="1631"/>
                  </a:lnTo>
                  <a:lnTo>
                    <a:pt x="984" y="1656"/>
                  </a:lnTo>
                  <a:lnTo>
                    <a:pt x="1009" y="1656"/>
                  </a:lnTo>
                  <a:lnTo>
                    <a:pt x="1039" y="1656"/>
                  </a:lnTo>
                  <a:lnTo>
                    <a:pt x="1063" y="1656"/>
                  </a:lnTo>
                  <a:lnTo>
                    <a:pt x="1088" y="1656"/>
                  </a:lnTo>
                  <a:lnTo>
                    <a:pt x="1118" y="1656"/>
                  </a:lnTo>
                  <a:lnTo>
                    <a:pt x="1143" y="1656"/>
                  </a:lnTo>
                  <a:lnTo>
                    <a:pt x="1172" y="1656"/>
                  </a:lnTo>
                  <a:lnTo>
                    <a:pt x="1197" y="1656"/>
                  </a:lnTo>
                  <a:lnTo>
                    <a:pt x="1222" y="1656"/>
                  </a:lnTo>
                  <a:lnTo>
                    <a:pt x="1251" y="1656"/>
                  </a:lnTo>
                  <a:lnTo>
                    <a:pt x="1276" y="1656"/>
                  </a:lnTo>
                  <a:lnTo>
                    <a:pt x="1301" y="1656"/>
                  </a:lnTo>
                  <a:lnTo>
                    <a:pt x="1330" y="1656"/>
                  </a:lnTo>
                  <a:lnTo>
                    <a:pt x="1355" y="1656"/>
                  </a:lnTo>
                  <a:lnTo>
                    <a:pt x="1385" y="1656"/>
                  </a:lnTo>
                  <a:lnTo>
                    <a:pt x="1410" y="1656"/>
                  </a:lnTo>
                  <a:lnTo>
                    <a:pt x="1434" y="1656"/>
                  </a:lnTo>
                  <a:lnTo>
                    <a:pt x="1464" y="1656"/>
                  </a:lnTo>
                  <a:lnTo>
                    <a:pt x="1489" y="1656"/>
                  </a:lnTo>
                  <a:lnTo>
                    <a:pt x="1513" y="1656"/>
                  </a:lnTo>
                  <a:lnTo>
                    <a:pt x="1543" y="1656"/>
                  </a:lnTo>
                  <a:lnTo>
                    <a:pt x="1568" y="1656"/>
                  </a:lnTo>
                  <a:lnTo>
                    <a:pt x="1598" y="1656"/>
                  </a:lnTo>
                  <a:lnTo>
                    <a:pt x="1622" y="1656"/>
                  </a:lnTo>
                  <a:lnTo>
                    <a:pt x="1647" y="1656"/>
                  </a:lnTo>
                  <a:lnTo>
                    <a:pt x="1677" y="1656"/>
                  </a:lnTo>
                  <a:lnTo>
                    <a:pt x="1701" y="1656"/>
                  </a:lnTo>
                  <a:lnTo>
                    <a:pt x="1726" y="1656"/>
                  </a:lnTo>
                  <a:lnTo>
                    <a:pt x="1756" y="1656"/>
                  </a:lnTo>
                  <a:lnTo>
                    <a:pt x="1780" y="1656"/>
                  </a:lnTo>
                  <a:lnTo>
                    <a:pt x="1810" y="1656"/>
                  </a:lnTo>
                  <a:lnTo>
                    <a:pt x="1835" y="1656"/>
                  </a:lnTo>
                  <a:lnTo>
                    <a:pt x="1860" y="1656"/>
                  </a:lnTo>
                  <a:lnTo>
                    <a:pt x="1889" y="1656"/>
                  </a:lnTo>
                  <a:lnTo>
                    <a:pt x="1914" y="1656"/>
                  </a:lnTo>
                  <a:lnTo>
                    <a:pt x="1944" y="1656"/>
                  </a:lnTo>
                  <a:lnTo>
                    <a:pt x="1968" y="1656"/>
                  </a:lnTo>
                  <a:lnTo>
                    <a:pt x="1993" y="1656"/>
                  </a:lnTo>
                  <a:lnTo>
                    <a:pt x="2023" y="1656"/>
                  </a:lnTo>
                  <a:lnTo>
                    <a:pt x="2048" y="1656"/>
                  </a:lnTo>
                  <a:lnTo>
                    <a:pt x="2072" y="1656"/>
                  </a:lnTo>
                  <a:lnTo>
                    <a:pt x="2102" y="1656"/>
                  </a:lnTo>
                  <a:lnTo>
                    <a:pt x="2127" y="1656"/>
                  </a:lnTo>
                  <a:lnTo>
                    <a:pt x="2156" y="1656"/>
                  </a:lnTo>
                  <a:lnTo>
                    <a:pt x="2181" y="1656"/>
                  </a:lnTo>
                  <a:lnTo>
                    <a:pt x="2206" y="1656"/>
                  </a:lnTo>
                  <a:lnTo>
                    <a:pt x="2235" y="1656"/>
                  </a:lnTo>
                  <a:close/>
                  <a:moveTo>
                    <a:pt x="1088" y="589"/>
                  </a:moveTo>
                  <a:lnTo>
                    <a:pt x="1088" y="579"/>
                  </a:lnTo>
                  <a:lnTo>
                    <a:pt x="1088" y="574"/>
                  </a:lnTo>
                  <a:lnTo>
                    <a:pt x="1088" y="569"/>
                  </a:lnTo>
                  <a:lnTo>
                    <a:pt x="1088" y="569"/>
                  </a:lnTo>
                  <a:lnTo>
                    <a:pt x="1093" y="574"/>
                  </a:lnTo>
                  <a:lnTo>
                    <a:pt x="1093" y="579"/>
                  </a:lnTo>
                  <a:lnTo>
                    <a:pt x="1093" y="584"/>
                  </a:lnTo>
                  <a:lnTo>
                    <a:pt x="1093" y="593"/>
                  </a:lnTo>
                  <a:lnTo>
                    <a:pt x="1093" y="598"/>
                  </a:lnTo>
                  <a:lnTo>
                    <a:pt x="1093" y="603"/>
                  </a:lnTo>
                  <a:lnTo>
                    <a:pt x="1088" y="603"/>
                  </a:lnTo>
                  <a:lnTo>
                    <a:pt x="1088" y="603"/>
                  </a:lnTo>
                  <a:lnTo>
                    <a:pt x="1088" y="593"/>
                  </a:lnTo>
                  <a:lnTo>
                    <a:pt x="1088" y="589"/>
                  </a:lnTo>
                  <a:close/>
                  <a:moveTo>
                    <a:pt x="1113" y="504"/>
                  </a:moveTo>
                  <a:lnTo>
                    <a:pt x="1113" y="504"/>
                  </a:lnTo>
                  <a:lnTo>
                    <a:pt x="1118" y="500"/>
                  </a:lnTo>
                  <a:lnTo>
                    <a:pt x="1123" y="504"/>
                  </a:lnTo>
                  <a:lnTo>
                    <a:pt x="1123" y="509"/>
                  </a:lnTo>
                  <a:lnTo>
                    <a:pt x="1128" y="514"/>
                  </a:lnTo>
                  <a:lnTo>
                    <a:pt x="1123" y="519"/>
                  </a:lnTo>
                  <a:lnTo>
                    <a:pt x="1123" y="519"/>
                  </a:lnTo>
                  <a:lnTo>
                    <a:pt x="1118" y="524"/>
                  </a:lnTo>
                  <a:lnTo>
                    <a:pt x="1118" y="524"/>
                  </a:lnTo>
                  <a:lnTo>
                    <a:pt x="1113" y="524"/>
                  </a:lnTo>
                  <a:lnTo>
                    <a:pt x="1113" y="524"/>
                  </a:lnTo>
                  <a:lnTo>
                    <a:pt x="1113" y="519"/>
                  </a:lnTo>
                  <a:lnTo>
                    <a:pt x="1113" y="514"/>
                  </a:lnTo>
                  <a:lnTo>
                    <a:pt x="1113" y="504"/>
                  </a:lnTo>
                  <a:close/>
                  <a:moveTo>
                    <a:pt x="1138" y="455"/>
                  </a:moveTo>
                  <a:lnTo>
                    <a:pt x="1143" y="450"/>
                  </a:lnTo>
                  <a:lnTo>
                    <a:pt x="1143" y="450"/>
                  </a:lnTo>
                  <a:lnTo>
                    <a:pt x="1147" y="450"/>
                  </a:lnTo>
                  <a:lnTo>
                    <a:pt x="1147" y="455"/>
                  </a:lnTo>
                  <a:lnTo>
                    <a:pt x="1152" y="455"/>
                  </a:lnTo>
                  <a:lnTo>
                    <a:pt x="1147" y="460"/>
                  </a:lnTo>
                  <a:lnTo>
                    <a:pt x="1147" y="465"/>
                  </a:lnTo>
                  <a:lnTo>
                    <a:pt x="1147" y="465"/>
                  </a:lnTo>
                  <a:lnTo>
                    <a:pt x="1143" y="470"/>
                  </a:lnTo>
                  <a:lnTo>
                    <a:pt x="1143" y="470"/>
                  </a:lnTo>
                  <a:lnTo>
                    <a:pt x="1143" y="465"/>
                  </a:lnTo>
                  <a:lnTo>
                    <a:pt x="1138" y="465"/>
                  </a:lnTo>
                  <a:lnTo>
                    <a:pt x="1138" y="460"/>
                  </a:lnTo>
                  <a:lnTo>
                    <a:pt x="1138" y="455"/>
                  </a:lnTo>
                  <a:close/>
                  <a:moveTo>
                    <a:pt x="1167" y="401"/>
                  </a:moveTo>
                  <a:lnTo>
                    <a:pt x="1167" y="396"/>
                  </a:lnTo>
                  <a:lnTo>
                    <a:pt x="1167" y="396"/>
                  </a:lnTo>
                  <a:lnTo>
                    <a:pt x="1172" y="396"/>
                  </a:lnTo>
                  <a:lnTo>
                    <a:pt x="1172" y="396"/>
                  </a:lnTo>
                  <a:lnTo>
                    <a:pt x="1172" y="401"/>
                  </a:lnTo>
                  <a:lnTo>
                    <a:pt x="1172" y="401"/>
                  </a:lnTo>
                  <a:lnTo>
                    <a:pt x="1172" y="406"/>
                  </a:lnTo>
                  <a:lnTo>
                    <a:pt x="1172" y="406"/>
                  </a:lnTo>
                  <a:lnTo>
                    <a:pt x="1172" y="411"/>
                  </a:lnTo>
                  <a:lnTo>
                    <a:pt x="1167" y="411"/>
                  </a:lnTo>
                  <a:lnTo>
                    <a:pt x="1167" y="406"/>
                  </a:lnTo>
                  <a:lnTo>
                    <a:pt x="1167" y="406"/>
                  </a:lnTo>
                  <a:lnTo>
                    <a:pt x="1167" y="406"/>
                  </a:lnTo>
                  <a:lnTo>
                    <a:pt x="1167" y="401"/>
                  </a:lnTo>
                  <a:close/>
                  <a:moveTo>
                    <a:pt x="1197" y="346"/>
                  </a:moveTo>
                  <a:lnTo>
                    <a:pt x="1197" y="346"/>
                  </a:lnTo>
                  <a:lnTo>
                    <a:pt x="1197" y="346"/>
                  </a:lnTo>
                  <a:lnTo>
                    <a:pt x="1197" y="346"/>
                  </a:lnTo>
                  <a:lnTo>
                    <a:pt x="1197" y="346"/>
                  </a:lnTo>
                  <a:lnTo>
                    <a:pt x="1197" y="346"/>
                  </a:lnTo>
                  <a:lnTo>
                    <a:pt x="1197" y="346"/>
                  </a:lnTo>
                  <a:lnTo>
                    <a:pt x="1197" y="346"/>
                  </a:lnTo>
                  <a:lnTo>
                    <a:pt x="1197" y="346"/>
                  </a:lnTo>
                  <a:lnTo>
                    <a:pt x="1197" y="346"/>
                  </a:lnTo>
                  <a:lnTo>
                    <a:pt x="1197" y="346"/>
                  </a:lnTo>
                  <a:lnTo>
                    <a:pt x="1197" y="346"/>
                  </a:lnTo>
                  <a:lnTo>
                    <a:pt x="1197" y="346"/>
                  </a:lnTo>
                  <a:lnTo>
                    <a:pt x="1197" y="346"/>
                  </a:lnTo>
                  <a:lnTo>
                    <a:pt x="1197" y="346"/>
                  </a:lnTo>
                  <a:close/>
                  <a:moveTo>
                    <a:pt x="1251" y="346"/>
                  </a:moveTo>
                  <a:lnTo>
                    <a:pt x="1251" y="341"/>
                  </a:lnTo>
                  <a:lnTo>
                    <a:pt x="1251" y="336"/>
                  </a:lnTo>
                  <a:lnTo>
                    <a:pt x="1251" y="331"/>
                  </a:lnTo>
                  <a:lnTo>
                    <a:pt x="1251" y="327"/>
                  </a:lnTo>
                  <a:lnTo>
                    <a:pt x="1251" y="322"/>
                  </a:lnTo>
                  <a:lnTo>
                    <a:pt x="1256" y="317"/>
                  </a:lnTo>
                  <a:lnTo>
                    <a:pt x="1261" y="312"/>
                  </a:lnTo>
                  <a:lnTo>
                    <a:pt x="1266" y="307"/>
                  </a:lnTo>
                  <a:lnTo>
                    <a:pt x="1266" y="302"/>
                  </a:lnTo>
                  <a:lnTo>
                    <a:pt x="1271" y="297"/>
                  </a:lnTo>
                  <a:lnTo>
                    <a:pt x="1271" y="292"/>
                  </a:lnTo>
                  <a:lnTo>
                    <a:pt x="1266" y="287"/>
                  </a:lnTo>
                  <a:lnTo>
                    <a:pt x="1261" y="282"/>
                  </a:lnTo>
                  <a:lnTo>
                    <a:pt x="1256" y="277"/>
                  </a:lnTo>
                  <a:lnTo>
                    <a:pt x="1246" y="277"/>
                  </a:lnTo>
                  <a:lnTo>
                    <a:pt x="1236" y="272"/>
                  </a:lnTo>
                  <a:lnTo>
                    <a:pt x="1232" y="267"/>
                  </a:lnTo>
                  <a:lnTo>
                    <a:pt x="1227" y="267"/>
                  </a:lnTo>
                  <a:lnTo>
                    <a:pt x="1227" y="262"/>
                  </a:lnTo>
                  <a:lnTo>
                    <a:pt x="1232" y="257"/>
                  </a:lnTo>
                  <a:lnTo>
                    <a:pt x="1241" y="252"/>
                  </a:lnTo>
                  <a:lnTo>
                    <a:pt x="1251" y="252"/>
                  </a:lnTo>
                  <a:lnTo>
                    <a:pt x="1256" y="247"/>
                  </a:lnTo>
                  <a:lnTo>
                    <a:pt x="1261" y="243"/>
                  </a:lnTo>
                  <a:lnTo>
                    <a:pt x="1261" y="238"/>
                  </a:lnTo>
                  <a:lnTo>
                    <a:pt x="1256" y="238"/>
                  </a:lnTo>
                  <a:lnTo>
                    <a:pt x="1246" y="233"/>
                  </a:lnTo>
                  <a:lnTo>
                    <a:pt x="1236" y="233"/>
                  </a:lnTo>
                  <a:lnTo>
                    <a:pt x="1227" y="233"/>
                  </a:lnTo>
                  <a:lnTo>
                    <a:pt x="1222" y="238"/>
                  </a:lnTo>
                  <a:lnTo>
                    <a:pt x="1212" y="238"/>
                  </a:lnTo>
                  <a:lnTo>
                    <a:pt x="1207" y="243"/>
                  </a:lnTo>
                  <a:lnTo>
                    <a:pt x="1202" y="243"/>
                  </a:lnTo>
                  <a:lnTo>
                    <a:pt x="1192" y="247"/>
                  </a:lnTo>
                  <a:lnTo>
                    <a:pt x="1187" y="247"/>
                  </a:lnTo>
                  <a:lnTo>
                    <a:pt x="1177" y="247"/>
                  </a:lnTo>
                  <a:lnTo>
                    <a:pt x="1167" y="247"/>
                  </a:lnTo>
                  <a:lnTo>
                    <a:pt x="1162" y="252"/>
                  </a:lnTo>
                  <a:lnTo>
                    <a:pt x="1152" y="252"/>
                  </a:lnTo>
                  <a:lnTo>
                    <a:pt x="1147" y="257"/>
                  </a:lnTo>
                  <a:lnTo>
                    <a:pt x="1138" y="257"/>
                  </a:lnTo>
                  <a:lnTo>
                    <a:pt x="1133" y="262"/>
                  </a:lnTo>
                  <a:lnTo>
                    <a:pt x="1128" y="267"/>
                  </a:lnTo>
                  <a:lnTo>
                    <a:pt x="1123" y="272"/>
                  </a:lnTo>
                  <a:lnTo>
                    <a:pt x="1118" y="277"/>
                  </a:lnTo>
                  <a:lnTo>
                    <a:pt x="1113" y="277"/>
                  </a:lnTo>
                  <a:lnTo>
                    <a:pt x="1108" y="282"/>
                  </a:lnTo>
                  <a:lnTo>
                    <a:pt x="1103" y="287"/>
                  </a:lnTo>
                  <a:lnTo>
                    <a:pt x="1098" y="292"/>
                  </a:lnTo>
                  <a:lnTo>
                    <a:pt x="1098" y="297"/>
                  </a:lnTo>
                  <a:lnTo>
                    <a:pt x="1098" y="302"/>
                  </a:lnTo>
                  <a:lnTo>
                    <a:pt x="1098" y="307"/>
                  </a:lnTo>
                  <a:lnTo>
                    <a:pt x="1093" y="312"/>
                  </a:lnTo>
                  <a:lnTo>
                    <a:pt x="1093" y="317"/>
                  </a:lnTo>
                  <a:lnTo>
                    <a:pt x="1088" y="322"/>
                  </a:lnTo>
                  <a:lnTo>
                    <a:pt x="1078" y="327"/>
                  </a:lnTo>
                  <a:lnTo>
                    <a:pt x="1073" y="327"/>
                  </a:lnTo>
                  <a:lnTo>
                    <a:pt x="1063" y="322"/>
                  </a:lnTo>
                  <a:lnTo>
                    <a:pt x="1058" y="317"/>
                  </a:lnTo>
                  <a:lnTo>
                    <a:pt x="1053" y="312"/>
                  </a:lnTo>
                  <a:lnTo>
                    <a:pt x="1053" y="307"/>
                  </a:lnTo>
                  <a:lnTo>
                    <a:pt x="1049" y="302"/>
                  </a:lnTo>
                  <a:lnTo>
                    <a:pt x="1049" y="297"/>
                  </a:lnTo>
                  <a:lnTo>
                    <a:pt x="1044" y="292"/>
                  </a:lnTo>
                  <a:lnTo>
                    <a:pt x="1044" y="287"/>
                  </a:lnTo>
                  <a:lnTo>
                    <a:pt x="1049" y="282"/>
                  </a:lnTo>
                  <a:lnTo>
                    <a:pt x="1049" y="277"/>
                  </a:lnTo>
                  <a:lnTo>
                    <a:pt x="1053" y="272"/>
                  </a:lnTo>
                  <a:lnTo>
                    <a:pt x="1058" y="267"/>
                  </a:lnTo>
                  <a:lnTo>
                    <a:pt x="1068" y="267"/>
                  </a:lnTo>
                  <a:lnTo>
                    <a:pt x="1073" y="262"/>
                  </a:lnTo>
                  <a:lnTo>
                    <a:pt x="1083" y="262"/>
                  </a:lnTo>
                  <a:lnTo>
                    <a:pt x="1088" y="257"/>
                  </a:lnTo>
                  <a:lnTo>
                    <a:pt x="1098" y="257"/>
                  </a:lnTo>
                  <a:lnTo>
                    <a:pt x="1103" y="257"/>
                  </a:lnTo>
                  <a:lnTo>
                    <a:pt x="1113" y="252"/>
                  </a:lnTo>
                  <a:lnTo>
                    <a:pt x="1118" y="247"/>
                  </a:lnTo>
                  <a:lnTo>
                    <a:pt x="1123" y="243"/>
                  </a:lnTo>
                  <a:lnTo>
                    <a:pt x="1123" y="238"/>
                  </a:lnTo>
                  <a:lnTo>
                    <a:pt x="1123" y="233"/>
                  </a:lnTo>
                  <a:lnTo>
                    <a:pt x="1123" y="228"/>
                  </a:lnTo>
                  <a:lnTo>
                    <a:pt x="1123" y="223"/>
                  </a:lnTo>
                  <a:lnTo>
                    <a:pt x="1123" y="218"/>
                  </a:lnTo>
                  <a:lnTo>
                    <a:pt x="1128" y="213"/>
                  </a:lnTo>
                  <a:lnTo>
                    <a:pt x="1133" y="208"/>
                  </a:lnTo>
                  <a:lnTo>
                    <a:pt x="1138" y="203"/>
                  </a:lnTo>
                  <a:lnTo>
                    <a:pt x="1147" y="203"/>
                  </a:lnTo>
                  <a:lnTo>
                    <a:pt x="1152" y="208"/>
                  </a:lnTo>
                  <a:lnTo>
                    <a:pt x="1157" y="213"/>
                  </a:lnTo>
                  <a:lnTo>
                    <a:pt x="1162" y="218"/>
                  </a:lnTo>
                  <a:lnTo>
                    <a:pt x="1162" y="223"/>
                  </a:lnTo>
                  <a:lnTo>
                    <a:pt x="1167" y="228"/>
                  </a:lnTo>
                  <a:lnTo>
                    <a:pt x="1172" y="228"/>
                  </a:lnTo>
                  <a:lnTo>
                    <a:pt x="1182" y="223"/>
                  </a:lnTo>
                  <a:lnTo>
                    <a:pt x="1187" y="218"/>
                  </a:lnTo>
                  <a:lnTo>
                    <a:pt x="1187" y="213"/>
                  </a:lnTo>
                  <a:lnTo>
                    <a:pt x="1187" y="208"/>
                  </a:lnTo>
                  <a:lnTo>
                    <a:pt x="1187" y="203"/>
                  </a:lnTo>
                  <a:lnTo>
                    <a:pt x="1182" y="198"/>
                  </a:lnTo>
                  <a:lnTo>
                    <a:pt x="1182" y="193"/>
                  </a:lnTo>
                  <a:lnTo>
                    <a:pt x="1177" y="188"/>
                  </a:lnTo>
                  <a:lnTo>
                    <a:pt x="1182" y="183"/>
                  </a:lnTo>
                  <a:lnTo>
                    <a:pt x="1182" y="178"/>
                  </a:lnTo>
                  <a:lnTo>
                    <a:pt x="1192" y="173"/>
                  </a:lnTo>
                  <a:lnTo>
                    <a:pt x="1197" y="168"/>
                  </a:lnTo>
                  <a:lnTo>
                    <a:pt x="1207" y="168"/>
                  </a:lnTo>
                  <a:lnTo>
                    <a:pt x="1212" y="163"/>
                  </a:lnTo>
                  <a:lnTo>
                    <a:pt x="1222" y="163"/>
                  </a:lnTo>
                  <a:lnTo>
                    <a:pt x="1227" y="163"/>
                  </a:lnTo>
                  <a:lnTo>
                    <a:pt x="1232" y="163"/>
                  </a:lnTo>
                  <a:lnTo>
                    <a:pt x="1241" y="168"/>
                  </a:lnTo>
                  <a:lnTo>
                    <a:pt x="1246" y="173"/>
                  </a:lnTo>
                  <a:lnTo>
                    <a:pt x="1246" y="183"/>
                  </a:lnTo>
                  <a:lnTo>
                    <a:pt x="1246" y="188"/>
                  </a:lnTo>
                  <a:lnTo>
                    <a:pt x="1251" y="193"/>
                  </a:lnTo>
                  <a:lnTo>
                    <a:pt x="1256" y="188"/>
                  </a:lnTo>
                  <a:lnTo>
                    <a:pt x="1256" y="178"/>
                  </a:lnTo>
                  <a:lnTo>
                    <a:pt x="1256" y="173"/>
                  </a:lnTo>
                  <a:lnTo>
                    <a:pt x="1256" y="168"/>
                  </a:lnTo>
                  <a:lnTo>
                    <a:pt x="1256" y="163"/>
                  </a:lnTo>
                  <a:lnTo>
                    <a:pt x="1256" y="159"/>
                  </a:lnTo>
                  <a:lnTo>
                    <a:pt x="1261" y="159"/>
                  </a:lnTo>
                  <a:lnTo>
                    <a:pt x="1266" y="154"/>
                  </a:lnTo>
                  <a:lnTo>
                    <a:pt x="1271" y="149"/>
                  </a:lnTo>
                  <a:lnTo>
                    <a:pt x="1276" y="144"/>
                  </a:lnTo>
                  <a:lnTo>
                    <a:pt x="1286" y="144"/>
                  </a:lnTo>
                  <a:lnTo>
                    <a:pt x="1291" y="139"/>
                  </a:lnTo>
                  <a:lnTo>
                    <a:pt x="1296" y="134"/>
                  </a:lnTo>
                  <a:lnTo>
                    <a:pt x="1306" y="134"/>
                  </a:lnTo>
                  <a:lnTo>
                    <a:pt x="1311" y="134"/>
                  </a:lnTo>
                  <a:lnTo>
                    <a:pt x="1321" y="134"/>
                  </a:lnTo>
                  <a:lnTo>
                    <a:pt x="1330" y="129"/>
                  </a:lnTo>
                  <a:lnTo>
                    <a:pt x="1335" y="129"/>
                  </a:lnTo>
                  <a:lnTo>
                    <a:pt x="1345" y="129"/>
                  </a:lnTo>
                  <a:lnTo>
                    <a:pt x="1350" y="124"/>
                  </a:lnTo>
                  <a:lnTo>
                    <a:pt x="1360" y="124"/>
                  </a:lnTo>
                  <a:lnTo>
                    <a:pt x="1365" y="119"/>
                  </a:lnTo>
                  <a:lnTo>
                    <a:pt x="1370" y="114"/>
                  </a:lnTo>
                  <a:lnTo>
                    <a:pt x="1375" y="109"/>
                  </a:lnTo>
                  <a:lnTo>
                    <a:pt x="1385" y="109"/>
                  </a:lnTo>
                  <a:lnTo>
                    <a:pt x="1390" y="109"/>
                  </a:lnTo>
                  <a:lnTo>
                    <a:pt x="1400" y="104"/>
                  </a:lnTo>
                  <a:lnTo>
                    <a:pt x="1405" y="99"/>
                  </a:lnTo>
                  <a:lnTo>
                    <a:pt x="1410" y="99"/>
                  </a:lnTo>
                  <a:lnTo>
                    <a:pt x="1419" y="99"/>
                  </a:lnTo>
                  <a:lnTo>
                    <a:pt x="1424" y="99"/>
                  </a:lnTo>
                  <a:lnTo>
                    <a:pt x="1434" y="99"/>
                  </a:lnTo>
                  <a:lnTo>
                    <a:pt x="1439" y="94"/>
                  </a:lnTo>
                  <a:lnTo>
                    <a:pt x="1449" y="89"/>
                  </a:lnTo>
                  <a:lnTo>
                    <a:pt x="1454" y="84"/>
                  </a:lnTo>
                  <a:lnTo>
                    <a:pt x="1459" y="84"/>
                  </a:lnTo>
                  <a:lnTo>
                    <a:pt x="1469" y="79"/>
                  </a:lnTo>
                  <a:lnTo>
                    <a:pt x="1474" y="79"/>
                  </a:lnTo>
                  <a:lnTo>
                    <a:pt x="1484" y="79"/>
                  </a:lnTo>
                  <a:lnTo>
                    <a:pt x="1489" y="74"/>
                  </a:lnTo>
                  <a:lnTo>
                    <a:pt x="1494" y="70"/>
                  </a:lnTo>
                  <a:lnTo>
                    <a:pt x="1499" y="70"/>
                  </a:lnTo>
                  <a:lnTo>
                    <a:pt x="1508" y="70"/>
                  </a:lnTo>
                  <a:lnTo>
                    <a:pt x="1518" y="65"/>
                  </a:lnTo>
                  <a:lnTo>
                    <a:pt x="1523" y="65"/>
                  </a:lnTo>
                  <a:lnTo>
                    <a:pt x="1528" y="60"/>
                  </a:lnTo>
                  <a:lnTo>
                    <a:pt x="1538" y="60"/>
                  </a:lnTo>
                  <a:lnTo>
                    <a:pt x="1543" y="55"/>
                  </a:lnTo>
                  <a:lnTo>
                    <a:pt x="1553" y="55"/>
                  </a:lnTo>
                  <a:lnTo>
                    <a:pt x="1558" y="55"/>
                  </a:lnTo>
                  <a:lnTo>
                    <a:pt x="1568" y="55"/>
                  </a:lnTo>
                  <a:lnTo>
                    <a:pt x="1578" y="50"/>
                  </a:lnTo>
                  <a:lnTo>
                    <a:pt x="1583" y="50"/>
                  </a:lnTo>
                  <a:lnTo>
                    <a:pt x="1588" y="45"/>
                  </a:lnTo>
                  <a:lnTo>
                    <a:pt x="1593" y="40"/>
                  </a:lnTo>
                  <a:lnTo>
                    <a:pt x="1598" y="35"/>
                  </a:lnTo>
                  <a:lnTo>
                    <a:pt x="1607" y="35"/>
                  </a:lnTo>
                  <a:lnTo>
                    <a:pt x="1612" y="30"/>
                  </a:lnTo>
                  <a:lnTo>
                    <a:pt x="1622" y="30"/>
                  </a:lnTo>
                  <a:lnTo>
                    <a:pt x="1627" y="30"/>
                  </a:lnTo>
                  <a:lnTo>
                    <a:pt x="1637" y="30"/>
                  </a:lnTo>
                  <a:lnTo>
                    <a:pt x="1647" y="30"/>
                  </a:lnTo>
                  <a:lnTo>
                    <a:pt x="1652" y="30"/>
                  </a:lnTo>
                  <a:lnTo>
                    <a:pt x="1662" y="30"/>
                  </a:lnTo>
                  <a:lnTo>
                    <a:pt x="1672" y="30"/>
                  </a:lnTo>
                  <a:lnTo>
                    <a:pt x="1677" y="30"/>
                  </a:lnTo>
                  <a:lnTo>
                    <a:pt x="1687" y="35"/>
                  </a:lnTo>
                  <a:lnTo>
                    <a:pt x="1691" y="35"/>
                  </a:lnTo>
                  <a:lnTo>
                    <a:pt x="1701" y="40"/>
                  </a:lnTo>
                  <a:lnTo>
                    <a:pt x="1706" y="45"/>
                  </a:lnTo>
                  <a:lnTo>
                    <a:pt x="1711" y="45"/>
                  </a:lnTo>
                  <a:lnTo>
                    <a:pt x="1716" y="50"/>
                  </a:lnTo>
                  <a:lnTo>
                    <a:pt x="1726" y="55"/>
                  </a:lnTo>
                  <a:lnTo>
                    <a:pt x="1731" y="55"/>
                  </a:lnTo>
                  <a:lnTo>
                    <a:pt x="1741" y="55"/>
                  </a:lnTo>
                  <a:lnTo>
                    <a:pt x="1746" y="55"/>
                  </a:lnTo>
                  <a:lnTo>
                    <a:pt x="1756" y="55"/>
                  </a:lnTo>
                  <a:lnTo>
                    <a:pt x="1766" y="55"/>
                  </a:lnTo>
                  <a:lnTo>
                    <a:pt x="1771" y="55"/>
                  </a:lnTo>
                  <a:lnTo>
                    <a:pt x="1780" y="55"/>
                  </a:lnTo>
                  <a:lnTo>
                    <a:pt x="1790" y="60"/>
                  </a:lnTo>
                  <a:lnTo>
                    <a:pt x="1795" y="60"/>
                  </a:lnTo>
                  <a:lnTo>
                    <a:pt x="1800" y="65"/>
                  </a:lnTo>
                  <a:lnTo>
                    <a:pt x="1805" y="70"/>
                  </a:lnTo>
                  <a:lnTo>
                    <a:pt x="1810" y="74"/>
                  </a:lnTo>
                  <a:lnTo>
                    <a:pt x="1815" y="79"/>
                  </a:lnTo>
                  <a:lnTo>
                    <a:pt x="1825" y="79"/>
                  </a:lnTo>
                  <a:lnTo>
                    <a:pt x="1830" y="79"/>
                  </a:lnTo>
                  <a:lnTo>
                    <a:pt x="1840" y="79"/>
                  </a:lnTo>
                  <a:lnTo>
                    <a:pt x="1850" y="84"/>
                  </a:lnTo>
                  <a:lnTo>
                    <a:pt x="1855" y="84"/>
                  </a:lnTo>
                  <a:lnTo>
                    <a:pt x="1865" y="84"/>
                  </a:lnTo>
                  <a:lnTo>
                    <a:pt x="1874" y="84"/>
                  </a:lnTo>
                  <a:lnTo>
                    <a:pt x="1879" y="84"/>
                  </a:lnTo>
                  <a:lnTo>
                    <a:pt x="1889" y="84"/>
                  </a:lnTo>
                  <a:lnTo>
                    <a:pt x="1894" y="89"/>
                  </a:lnTo>
                  <a:lnTo>
                    <a:pt x="1899" y="89"/>
                  </a:lnTo>
                  <a:lnTo>
                    <a:pt x="1904" y="94"/>
                  </a:lnTo>
                  <a:lnTo>
                    <a:pt x="1909" y="99"/>
                  </a:lnTo>
                  <a:lnTo>
                    <a:pt x="1914" y="104"/>
                  </a:lnTo>
                  <a:lnTo>
                    <a:pt x="1919" y="109"/>
                  </a:lnTo>
                  <a:lnTo>
                    <a:pt x="1929" y="109"/>
                  </a:lnTo>
                  <a:lnTo>
                    <a:pt x="1939" y="109"/>
                  </a:lnTo>
                  <a:lnTo>
                    <a:pt x="1944" y="109"/>
                  </a:lnTo>
                  <a:lnTo>
                    <a:pt x="1954" y="109"/>
                  </a:lnTo>
                  <a:lnTo>
                    <a:pt x="1963" y="109"/>
                  </a:lnTo>
                  <a:lnTo>
                    <a:pt x="1968" y="109"/>
                  </a:lnTo>
                  <a:lnTo>
                    <a:pt x="1978" y="109"/>
                  </a:lnTo>
                  <a:lnTo>
                    <a:pt x="1988" y="109"/>
                  </a:lnTo>
                  <a:lnTo>
                    <a:pt x="1993" y="109"/>
                  </a:lnTo>
                  <a:lnTo>
                    <a:pt x="2003" y="114"/>
                  </a:lnTo>
                  <a:lnTo>
                    <a:pt x="2008" y="119"/>
                  </a:lnTo>
                  <a:lnTo>
                    <a:pt x="2013" y="124"/>
                  </a:lnTo>
                  <a:lnTo>
                    <a:pt x="2013" y="129"/>
                  </a:lnTo>
                  <a:lnTo>
                    <a:pt x="2018" y="134"/>
                  </a:lnTo>
                  <a:lnTo>
                    <a:pt x="2023" y="139"/>
                  </a:lnTo>
                  <a:lnTo>
                    <a:pt x="2028" y="139"/>
                  </a:lnTo>
                  <a:lnTo>
                    <a:pt x="2038" y="139"/>
                  </a:lnTo>
                  <a:lnTo>
                    <a:pt x="2048" y="139"/>
                  </a:lnTo>
                  <a:lnTo>
                    <a:pt x="2057" y="139"/>
                  </a:lnTo>
                  <a:lnTo>
                    <a:pt x="2062" y="144"/>
                  </a:lnTo>
                  <a:lnTo>
                    <a:pt x="2072" y="144"/>
                  </a:lnTo>
                  <a:lnTo>
                    <a:pt x="2082" y="144"/>
                  </a:lnTo>
                  <a:lnTo>
                    <a:pt x="2087" y="144"/>
                  </a:lnTo>
                  <a:lnTo>
                    <a:pt x="2097" y="144"/>
                  </a:lnTo>
                  <a:lnTo>
                    <a:pt x="2102" y="149"/>
                  </a:lnTo>
                  <a:lnTo>
                    <a:pt x="2112" y="149"/>
                  </a:lnTo>
                  <a:lnTo>
                    <a:pt x="2112" y="154"/>
                  </a:lnTo>
                  <a:lnTo>
                    <a:pt x="2117" y="159"/>
                  </a:lnTo>
                  <a:lnTo>
                    <a:pt x="2117" y="163"/>
                  </a:lnTo>
                  <a:lnTo>
                    <a:pt x="2122" y="173"/>
                  </a:lnTo>
                  <a:lnTo>
                    <a:pt x="2122" y="178"/>
                  </a:lnTo>
                  <a:lnTo>
                    <a:pt x="2127" y="178"/>
                  </a:lnTo>
                  <a:lnTo>
                    <a:pt x="2132" y="183"/>
                  </a:lnTo>
                  <a:lnTo>
                    <a:pt x="2137" y="188"/>
                  </a:lnTo>
                  <a:lnTo>
                    <a:pt x="2132" y="193"/>
                  </a:lnTo>
                  <a:lnTo>
                    <a:pt x="2127" y="198"/>
                  </a:lnTo>
                  <a:lnTo>
                    <a:pt x="2122" y="203"/>
                  </a:lnTo>
                  <a:lnTo>
                    <a:pt x="2122" y="208"/>
                  </a:lnTo>
                  <a:lnTo>
                    <a:pt x="2117" y="213"/>
                  </a:lnTo>
                  <a:lnTo>
                    <a:pt x="2117" y="218"/>
                  </a:lnTo>
                  <a:lnTo>
                    <a:pt x="2112" y="223"/>
                  </a:lnTo>
                  <a:lnTo>
                    <a:pt x="2112" y="228"/>
                  </a:lnTo>
                  <a:lnTo>
                    <a:pt x="2107" y="233"/>
                  </a:lnTo>
                  <a:lnTo>
                    <a:pt x="2102" y="238"/>
                  </a:lnTo>
                  <a:lnTo>
                    <a:pt x="2102" y="243"/>
                  </a:lnTo>
                  <a:lnTo>
                    <a:pt x="2097" y="247"/>
                  </a:lnTo>
                  <a:lnTo>
                    <a:pt x="2092" y="252"/>
                  </a:lnTo>
                  <a:lnTo>
                    <a:pt x="2092" y="257"/>
                  </a:lnTo>
                  <a:lnTo>
                    <a:pt x="2087" y="262"/>
                  </a:lnTo>
                  <a:lnTo>
                    <a:pt x="2082" y="267"/>
                  </a:lnTo>
                  <a:lnTo>
                    <a:pt x="2082" y="272"/>
                  </a:lnTo>
                  <a:lnTo>
                    <a:pt x="2077" y="277"/>
                  </a:lnTo>
                  <a:lnTo>
                    <a:pt x="2077" y="282"/>
                  </a:lnTo>
                  <a:lnTo>
                    <a:pt x="2067" y="282"/>
                  </a:lnTo>
                  <a:lnTo>
                    <a:pt x="2062" y="282"/>
                  </a:lnTo>
                  <a:lnTo>
                    <a:pt x="2052" y="282"/>
                  </a:lnTo>
                  <a:lnTo>
                    <a:pt x="2043" y="282"/>
                  </a:lnTo>
                  <a:lnTo>
                    <a:pt x="2033" y="282"/>
                  </a:lnTo>
                  <a:lnTo>
                    <a:pt x="2028" y="287"/>
                  </a:lnTo>
                  <a:lnTo>
                    <a:pt x="2018" y="282"/>
                  </a:lnTo>
                  <a:lnTo>
                    <a:pt x="2013" y="282"/>
                  </a:lnTo>
                  <a:lnTo>
                    <a:pt x="2008" y="277"/>
                  </a:lnTo>
                  <a:lnTo>
                    <a:pt x="2003" y="272"/>
                  </a:lnTo>
                  <a:lnTo>
                    <a:pt x="1998" y="267"/>
                  </a:lnTo>
                  <a:lnTo>
                    <a:pt x="1993" y="262"/>
                  </a:lnTo>
                  <a:lnTo>
                    <a:pt x="1983" y="262"/>
                  </a:lnTo>
                  <a:lnTo>
                    <a:pt x="1973" y="262"/>
                  </a:lnTo>
                  <a:lnTo>
                    <a:pt x="1968" y="262"/>
                  </a:lnTo>
                  <a:lnTo>
                    <a:pt x="1963" y="257"/>
                  </a:lnTo>
                  <a:lnTo>
                    <a:pt x="1959" y="252"/>
                  </a:lnTo>
                  <a:lnTo>
                    <a:pt x="1954" y="247"/>
                  </a:lnTo>
                  <a:lnTo>
                    <a:pt x="1949" y="243"/>
                  </a:lnTo>
                  <a:lnTo>
                    <a:pt x="1944" y="238"/>
                  </a:lnTo>
                  <a:lnTo>
                    <a:pt x="1939" y="238"/>
                  </a:lnTo>
                  <a:lnTo>
                    <a:pt x="1934" y="243"/>
                  </a:lnTo>
                  <a:lnTo>
                    <a:pt x="1929" y="247"/>
                  </a:lnTo>
                  <a:lnTo>
                    <a:pt x="1924" y="252"/>
                  </a:lnTo>
                  <a:lnTo>
                    <a:pt x="1919" y="257"/>
                  </a:lnTo>
                  <a:lnTo>
                    <a:pt x="1914" y="262"/>
                  </a:lnTo>
                  <a:lnTo>
                    <a:pt x="1909" y="257"/>
                  </a:lnTo>
                  <a:lnTo>
                    <a:pt x="1904" y="257"/>
                  </a:lnTo>
                  <a:lnTo>
                    <a:pt x="1899" y="252"/>
                  </a:lnTo>
                  <a:lnTo>
                    <a:pt x="1894" y="243"/>
                  </a:lnTo>
                  <a:lnTo>
                    <a:pt x="1894" y="238"/>
                  </a:lnTo>
                  <a:lnTo>
                    <a:pt x="1894" y="233"/>
                  </a:lnTo>
                  <a:lnTo>
                    <a:pt x="1899" y="228"/>
                  </a:lnTo>
                  <a:lnTo>
                    <a:pt x="1899" y="223"/>
                  </a:lnTo>
                  <a:lnTo>
                    <a:pt x="1899" y="218"/>
                  </a:lnTo>
                  <a:lnTo>
                    <a:pt x="1899" y="213"/>
                  </a:lnTo>
                  <a:lnTo>
                    <a:pt x="1889" y="208"/>
                  </a:lnTo>
                  <a:lnTo>
                    <a:pt x="1884" y="213"/>
                  </a:lnTo>
                  <a:lnTo>
                    <a:pt x="1879" y="218"/>
                  </a:lnTo>
                  <a:lnTo>
                    <a:pt x="1874" y="223"/>
                  </a:lnTo>
                  <a:lnTo>
                    <a:pt x="1874" y="228"/>
                  </a:lnTo>
                  <a:lnTo>
                    <a:pt x="1870" y="233"/>
                  </a:lnTo>
                  <a:lnTo>
                    <a:pt x="1865" y="238"/>
                  </a:lnTo>
                  <a:lnTo>
                    <a:pt x="1855" y="238"/>
                  </a:lnTo>
                  <a:lnTo>
                    <a:pt x="1850" y="238"/>
                  </a:lnTo>
                  <a:lnTo>
                    <a:pt x="1840" y="233"/>
                  </a:lnTo>
                  <a:lnTo>
                    <a:pt x="1830" y="233"/>
                  </a:lnTo>
                  <a:lnTo>
                    <a:pt x="1825" y="228"/>
                  </a:lnTo>
                  <a:lnTo>
                    <a:pt x="1825" y="223"/>
                  </a:lnTo>
                  <a:lnTo>
                    <a:pt x="1820" y="218"/>
                  </a:lnTo>
                  <a:lnTo>
                    <a:pt x="1815" y="213"/>
                  </a:lnTo>
                  <a:lnTo>
                    <a:pt x="1805" y="208"/>
                  </a:lnTo>
                  <a:lnTo>
                    <a:pt x="1800" y="208"/>
                  </a:lnTo>
                  <a:lnTo>
                    <a:pt x="1790" y="208"/>
                  </a:lnTo>
                  <a:lnTo>
                    <a:pt x="1785" y="213"/>
                  </a:lnTo>
                  <a:lnTo>
                    <a:pt x="1776" y="213"/>
                  </a:lnTo>
                  <a:lnTo>
                    <a:pt x="1766" y="213"/>
                  </a:lnTo>
                  <a:lnTo>
                    <a:pt x="1756" y="208"/>
                  </a:lnTo>
                  <a:lnTo>
                    <a:pt x="1751" y="208"/>
                  </a:lnTo>
                  <a:lnTo>
                    <a:pt x="1746" y="203"/>
                  </a:lnTo>
                  <a:lnTo>
                    <a:pt x="1746" y="198"/>
                  </a:lnTo>
                  <a:lnTo>
                    <a:pt x="1741" y="193"/>
                  </a:lnTo>
                  <a:lnTo>
                    <a:pt x="1736" y="188"/>
                  </a:lnTo>
                  <a:lnTo>
                    <a:pt x="1726" y="188"/>
                  </a:lnTo>
                  <a:lnTo>
                    <a:pt x="1721" y="183"/>
                  </a:lnTo>
                  <a:lnTo>
                    <a:pt x="1711" y="188"/>
                  </a:lnTo>
                  <a:lnTo>
                    <a:pt x="1701" y="188"/>
                  </a:lnTo>
                  <a:lnTo>
                    <a:pt x="1691" y="183"/>
                  </a:lnTo>
                  <a:lnTo>
                    <a:pt x="1687" y="183"/>
                  </a:lnTo>
                  <a:lnTo>
                    <a:pt x="1677" y="183"/>
                  </a:lnTo>
                  <a:lnTo>
                    <a:pt x="1672" y="188"/>
                  </a:lnTo>
                  <a:lnTo>
                    <a:pt x="1667" y="193"/>
                  </a:lnTo>
                  <a:lnTo>
                    <a:pt x="1667" y="198"/>
                  </a:lnTo>
                  <a:lnTo>
                    <a:pt x="1667" y="203"/>
                  </a:lnTo>
                  <a:lnTo>
                    <a:pt x="1667" y="208"/>
                  </a:lnTo>
                  <a:lnTo>
                    <a:pt x="1672" y="213"/>
                  </a:lnTo>
                  <a:lnTo>
                    <a:pt x="1677" y="218"/>
                  </a:lnTo>
                  <a:lnTo>
                    <a:pt x="1682" y="223"/>
                  </a:lnTo>
                  <a:lnTo>
                    <a:pt x="1687" y="228"/>
                  </a:lnTo>
                  <a:lnTo>
                    <a:pt x="1687" y="233"/>
                  </a:lnTo>
                  <a:lnTo>
                    <a:pt x="1691" y="238"/>
                  </a:lnTo>
                  <a:lnTo>
                    <a:pt x="1696" y="243"/>
                  </a:lnTo>
                  <a:lnTo>
                    <a:pt x="1701" y="247"/>
                  </a:lnTo>
                  <a:lnTo>
                    <a:pt x="1706" y="252"/>
                  </a:lnTo>
                  <a:lnTo>
                    <a:pt x="1711" y="252"/>
                  </a:lnTo>
                  <a:lnTo>
                    <a:pt x="1711" y="257"/>
                  </a:lnTo>
                  <a:lnTo>
                    <a:pt x="1716" y="262"/>
                  </a:lnTo>
                  <a:lnTo>
                    <a:pt x="1721" y="267"/>
                  </a:lnTo>
                  <a:lnTo>
                    <a:pt x="1721" y="272"/>
                  </a:lnTo>
                  <a:lnTo>
                    <a:pt x="1721" y="277"/>
                  </a:lnTo>
                  <a:lnTo>
                    <a:pt x="1721" y="282"/>
                  </a:lnTo>
                  <a:lnTo>
                    <a:pt x="1721" y="292"/>
                  </a:lnTo>
                  <a:lnTo>
                    <a:pt x="1716" y="297"/>
                  </a:lnTo>
                  <a:lnTo>
                    <a:pt x="1711" y="302"/>
                  </a:lnTo>
                  <a:lnTo>
                    <a:pt x="1706" y="307"/>
                  </a:lnTo>
                  <a:lnTo>
                    <a:pt x="1701" y="307"/>
                  </a:lnTo>
                  <a:lnTo>
                    <a:pt x="1696" y="302"/>
                  </a:lnTo>
                  <a:lnTo>
                    <a:pt x="1691" y="297"/>
                  </a:lnTo>
                  <a:lnTo>
                    <a:pt x="1687" y="292"/>
                  </a:lnTo>
                  <a:lnTo>
                    <a:pt x="1682" y="287"/>
                  </a:lnTo>
                  <a:lnTo>
                    <a:pt x="1672" y="287"/>
                  </a:lnTo>
                  <a:lnTo>
                    <a:pt x="1667" y="282"/>
                  </a:lnTo>
                  <a:lnTo>
                    <a:pt x="1662" y="277"/>
                  </a:lnTo>
                  <a:lnTo>
                    <a:pt x="1662" y="272"/>
                  </a:lnTo>
                  <a:lnTo>
                    <a:pt x="1657" y="267"/>
                  </a:lnTo>
                  <a:lnTo>
                    <a:pt x="1652" y="262"/>
                  </a:lnTo>
                  <a:lnTo>
                    <a:pt x="1647" y="262"/>
                  </a:lnTo>
                  <a:lnTo>
                    <a:pt x="1642" y="257"/>
                  </a:lnTo>
                  <a:lnTo>
                    <a:pt x="1637" y="252"/>
                  </a:lnTo>
                  <a:lnTo>
                    <a:pt x="1632" y="247"/>
                  </a:lnTo>
                  <a:lnTo>
                    <a:pt x="1627" y="243"/>
                  </a:lnTo>
                  <a:lnTo>
                    <a:pt x="1622" y="238"/>
                  </a:lnTo>
                  <a:lnTo>
                    <a:pt x="1617" y="233"/>
                  </a:lnTo>
                  <a:lnTo>
                    <a:pt x="1607" y="233"/>
                  </a:lnTo>
                  <a:lnTo>
                    <a:pt x="1598" y="238"/>
                  </a:lnTo>
                  <a:lnTo>
                    <a:pt x="1593" y="238"/>
                  </a:lnTo>
                  <a:lnTo>
                    <a:pt x="1583" y="238"/>
                  </a:lnTo>
                  <a:lnTo>
                    <a:pt x="1578" y="243"/>
                  </a:lnTo>
                  <a:lnTo>
                    <a:pt x="1573" y="247"/>
                  </a:lnTo>
                  <a:lnTo>
                    <a:pt x="1568" y="252"/>
                  </a:lnTo>
                  <a:lnTo>
                    <a:pt x="1563" y="257"/>
                  </a:lnTo>
                  <a:lnTo>
                    <a:pt x="1553" y="257"/>
                  </a:lnTo>
                  <a:lnTo>
                    <a:pt x="1548" y="262"/>
                  </a:lnTo>
                  <a:lnTo>
                    <a:pt x="1538" y="262"/>
                  </a:lnTo>
                  <a:lnTo>
                    <a:pt x="1533" y="262"/>
                  </a:lnTo>
                  <a:lnTo>
                    <a:pt x="1523" y="262"/>
                  </a:lnTo>
                  <a:lnTo>
                    <a:pt x="1513" y="267"/>
                  </a:lnTo>
                  <a:lnTo>
                    <a:pt x="1508" y="267"/>
                  </a:lnTo>
                  <a:lnTo>
                    <a:pt x="1504" y="272"/>
                  </a:lnTo>
                  <a:lnTo>
                    <a:pt x="1499" y="277"/>
                  </a:lnTo>
                  <a:lnTo>
                    <a:pt x="1494" y="282"/>
                  </a:lnTo>
                  <a:lnTo>
                    <a:pt x="1484" y="282"/>
                  </a:lnTo>
                  <a:lnTo>
                    <a:pt x="1479" y="287"/>
                  </a:lnTo>
                  <a:lnTo>
                    <a:pt x="1469" y="287"/>
                  </a:lnTo>
                  <a:lnTo>
                    <a:pt x="1464" y="287"/>
                  </a:lnTo>
                  <a:lnTo>
                    <a:pt x="1454" y="292"/>
                  </a:lnTo>
                  <a:lnTo>
                    <a:pt x="1449" y="292"/>
                  </a:lnTo>
                  <a:lnTo>
                    <a:pt x="1444" y="297"/>
                  </a:lnTo>
                  <a:lnTo>
                    <a:pt x="1439" y="302"/>
                  </a:lnTo>
                  <a:lnTo>
                    <a:pt x="1429" y="307"/>
                  </a:lnTo>
                  <a:lnTo>
                    <a:pt x="1424" y="307"/>
                  </a:lnTo>
                  <a:lnTo>
                    <a:pt x="1419" y="312"/>
                  </a:lnTo>
                  <a:lnTo>
                    <a:pt x="1410" y="312"/>
                  </a:lnTo>
                  <a:lnTo>
                    <a:pt x="1400" y="317"/>
                  </a:lnTo>
                  <a:lnTo>
                    <a:pt x="1395" y="317"/>
                  </a:lnTo>
                  <a:lnTo>
                    <a:pt x="1385" y="317"/>
                  </a:lnTo>
                  <a:lnTo>
                    <a:pt x="1380" y="322"/>
                  </a:lnTo>
                  <a:lnTo>
                    <a:pt x="1370" y="322"/>
                  </a:lnTo>
                  <a:lnTo>
                    <a:pt x="1365" y="327"/>
                  </a:lnTo>
                  <a:lnTo>
                    <a:pt x="1360" y="331"/>
                  </a:lnTo>
                  <a:lnTo>
                    <a:pt x="1350" y="331"/>
                  </a:lnTo>
                  <a:lnTo>
                    <a:pt x="1345" y="336"/>
                  </a:lnTo>
                  <a:lnTo>
                    <a:pt x="1335" y="336"/>
                  </a:lnTo>
                  <a:lnTo>
                    <a:pt x="1330" y="336"/>
                  </a:lnTo>
                  <a:lnTo>
                    <a:pt x="1321" y="341"/>
                  </a:lnTo>
                  <a:lnTo>
                    <a:pt x="1316" y="341"/>
                  </a:lnTo>
                  <a:lnTo>
                    <a:pt x="1306" y="346"/>
                  </a:lnTo>
                  <a:lnTo>
                    <a:pt x="1301" y="346"/>
                  </a:lnTo>
                  <a:lnTo>
                    <a:pt x="1291" y="351"/>
                  </a:lnTo>
                  <a:lnTo>
                    <a:pt x="1286" y="351"/>
                  </a:lnTo>
                  <a:lnTo>
                    <a:pt x="1276" y="356"/>
                  </a:lnTo>
                  <a:lnTo>
                    <a:pt x="1271" y="356"/>
                  </a:lnTo>
                  <a:lnTo>
                    <a:pt x="1261" y="351"/>
                  </a:lnTo>
                  <a:lnTo>
                    <a:pt x="1256" y="351"/>
                  </a:lnTo>
                  <a:lnTo>
                    <a:pt x="1251" y="346"/>
                  </a:lnTo>
                  <a:close/>
                  <a:moveTo>
                    <a:pt x="1311" y="267"/>
                  </a:moveTo>
                  <a:lnTo>
                    <a:pt x="1311" y="267"/>
                  </a:lnTo>
                  <a:lnTo>
                    <a:pt x="1306" y="262"/>
                  </a:lnTo>
                  <a:lnTo>
                    <a:pt x="1301" y="262"/>
                  </a:lnTo>
                  <a:lnTo>
                    <a:pt x="1296" y="267"/>
                  </a:lnTo>
                  <a:lnTo>
                    <a:pt x="1296" y="267"/>
                  </a:lnTo>
                  <a:lnTo>
                    <a:pt x="1296" y="267"/>
                  </a:lnTo>
                  <a:lnTo>
                    <a:pt x="1296" y="267"/>
                  </a:lnTo>
                  <a:lnTo>
                    <a:pt x="1296" y="272"/>
                  </a:lnTo>
                  <a:lnTo>
                    <a:pt x="1301" y="272"/>
                  </a:lnTo>
                  <a:lnTo>
                    <a:pt x="1306" y="272"/>
                  </a:lnTo>
                  <a:lnTo>
                    <a:pt x="1306" y="272"/>
                  </a:lnTo>
                  <a:lnTo>
                    <a:pt x="1306" y="272"/>
                  </a:lnTo>
                  <a:lnTo>
                    <a:pt x="1311" y="267"/>
                  </a:lnTo>
                  <a:lnTo>
                    <a:pt x="1311" y="267"/>
                  </a:lnTo>
                  <a:close/>
                  <a:moveTo>
                    <a:pt x="915" y="238"/>
                  </a:moveTo>
                  <a:lnTo>
                    <a:pt x="920" y="233"/>
                  </a:lnTo>
                  <a:lnTo>
                    <a:pt x="925" y="233"/>
                  </a:lnTo>
                  <a:lnTo>
                    <a:pt x="930" y="228"/>
                  </a:lnTo>
                  <a:lnTo>
                    <a:pt x="935" y="223"/>
                  </a:lnTo>
                  <a:lnTo>
                    <a:pt x="940" y="218"/>
                  </a:lnTo>
                  <a:lnTo>
                    <a:pt x="945" y="213"/>
                  </a:lnTo>
                  <a:lnTo>
                    <a:pt x="950" y="208"/>
                  </a:lnTo>
                  <a:lnTo>
                    <a:pt x="950" y="203"/>
                  </a:lnTo>
                  <a:lnTo>
                    <a:pt x="955" y="198"/>
                  </a:lnTo>
                  <a:lnTo>
                    <a:pt x="964" y="198"/>
                  </a:lnTo>
                  <a:lnTo>
                    <a:pt x="969" y="203"/>
                  </a:lnTo>
                  <a:lnTo>
                    <a:pt x="974" y="208"/>
                  </a:lnTo>
                  <a:lnTo>
                    <a:pt x="979" y="213"/>
                  </a:lnTo>
                  <a:lnTo>
                    <a:pt x="974" y="218"/>
                  </a:lnTo>
                  <a:lnTo>
                    <a:pt x="969" y="223"/>
                  </a:lnTo>
                  <a:lnTo>
                    <a:pt x="960" y="228"/>
                  </a:lnTo>
                  <a:lnTo>
                    <a:pt x="955" y="233"/>
                  </a:lnTo>
                  <a:lnTo>
                    <a:pt x="950" y="238"/>
                  </a:lnTo>
                  <a:lnTo>
                    <a:pt x="950" y="243"/>
                  </a:lnTo>
                  <a:lnTo>
                    <a:pt x="945" y="247"/>
                  </a:lnTo>
                  <a:lnTo>
                    <a:pt x="940" y="252"/>
                  </a:lnTo>
                  <a:lnTo>
                    <a:pt x="935" y="257"/>
                  </a:lnTo>
                  <a:lnTo>
                    <a:pt x="930" y="257"/>
                  </a:lnTo>
                  <a:lnTo>
                    <a:pt x="925" y="252"/>
                  </a:lnTo>
                  <a:lnTo>
                    <a:pt x="920" y="247"/>
                  </a:lnTo>
                  <a:lnTo>
                    <a:pt x="915" y="238"/>
                  </a:lnTo>
                  <a:close/>
                  <a:moveTo>
                    <a:pt x="1390" y="238"/>
                  </a:moveTo>
                  <a:lnTo>
                    <a:pt x="1385" y="238"/>
                  </a:lnTo>
                  <a:lnTo>
                    <a:pt x="1380" y="238"/>
                  </a:lnTo>
                  <a:lnTo>
                    <a:pt x="1380" y="238"/>
                  </a:lnTo>
                  <a:lnTo>
                    <a:pt x="1375" y="238"/>
                  </a:lnTo>
                  <a:lnTo>
                    <a:pt x="1375" y="243"/>
                  </a:lnTo>
                  <a:lnTo>
                    <a:pt x="1375" y="247"/>
                  </a:lnTo>
                  <a:lnTo>
                    <a:pt x="1380" y="247"/>
                  </a:lnTo>
                  <a:lnTo>
                    <a:pt x="1380" y="252"/>
                  </a:lnTo>
                  <a:lnTo>
                    <a:pt x="1385" y="252"/>
                  </a:lnTo>
                  <a:lnTo>
                    <a:pt x="1385" y="252"/>
                  </a:lnTo>
                  <a:lnTo>
                    <a:pt x="1385" y="252"/>
                  </a:lnTo>
                  <a:lnTo>
                    <a:pt x="1385" y="247"/>
                  </a:lnTo>
                  <a:lnTo>
                    <a:pt x="1390" y="243"/>
                  </a:lnTo>
                  <a:lnTo>
                    <a:pt x="1390" y="238"/>
                  </a:lnTo>
                  <a:close/>
                  <a:moveTo>
                    <a:pt x="2146" y="238"/>
                  </a:moveTo>
                  <a:lnTo>
                    <a:pt x="2151" y="238"/>
                  </a:lnTo>
                  <a:lnTo>
                    <a:pt x="2156" y="233"/>
                  </a:lnTo>
                  <a:lnTo>
                    <a:pt x="2156" y="228"/>
                  </a:lnTo>
                  <a:lnTo>
                    <a:pt x="2161" y="228"/>
                  </a:lnTo>
                  <a:lnTo>
                    <a:pt x="2161" y="223"/>
                  </a:lnTo>
                  <a:lnTo>
                    <a:pt x="2166" y="218"/>
                  </a:lnTo>
                  <a:lnTo>
                    <a:pt x="2166" y="213"/>
                  </a:lnTo>
                  <a:lnTo>
                    <a:pt x="2171" y="208"/>
                  </a:lnTo>
                  <a:lnTo>
                    <a:pt x="2171" y="203"/>
                  </a:lnTo>
                  <a:lnTo>
                    <a:pt x="2176" y="203"/>
                  </a:lnTo>
                  <a:lnTo>
                    <a:pt x="2181" y="198"/>
                  </a:lnTo>
                  <a:lnTo>
                    <a:pt x="2181" y="198"/>
                  </a:lnTo>
                  <a:lnTo>
                    <a:pt x="2186" y="198"/>
                  </a:lnTo>
                  <a:lnTo>
                    <a:pt x="2191" y="203"/>
                  </a:lnTo>
                  <a:lnTo>
                    <a:pt x="2196" y="208"/>
                  </a:lnTo>
                  <a:lnTo>
                    <a:pt x="2201" y="213"/>
                  </a:lnTo>
                  <a:lnTo>
                    <a:pt x="2206" y="213"/>
                  </a:lnTo>
                  <a:lnTo>
                    <a:pt x="2206" y="218"/>
                  </a:lnTo>
                  <a:lnTo>
                    <a:pt x="2206" y="223"/>
                  </a:lnTo>
                  <a:lnTo>
                    <a:pt x="2211" y="228"/>
                  </a:lnTo>
                  <a:lnTo>
                    <a:pt x="2216" y="228"/>
                  </a:lnTo>
                  <a:lnTo>
                    <a:pt x="2221" y="233"/>
                  </a:lnTo>
                  <a:lnTo>
                    <a:pt x="2226" y="233"/>
                  </a:lnTo>
                  <a:lnTo>
                    <a:pt x="2231" y="238"/>
                  </a:lnTo>
                  <a:lnTo>
                    <a:pt x="2240" y="238"/>
                  </a:lnTo>
                  <a:lnTo>
                    <a:pt x="2240" y="243"/>
                  </a:lnTo>
                  <a:lnTo>
                    <a:pt x="2231" y="243"/>
                  </a:lnTo>
                  <a:lnTo>
                    <a:pt x="2226" y="243"/>
                  </a:lnTo>
                  <a:lnTo>
                    <a:pt x="2221" y="243"/>
                  </a:lnTo>
                  <a:lnTo>
                    <a:pt x="2216" y="247"/>
                  </a:lnTo>
                  <a:lnTo>
                    <a:pt x="2206" y="247"/>
                  </a:lnTo>
                  <a:lnTo>
                    <a:pt x="2201" y="243"/>
                  </a:lnTo>
                  <a:lnTo>
                    <a:pt x="2196" y="243"/>
                  </a:lnTo>
                  <a:lnTo>
                    <a:pt x="2191" y="243"/>
                  </a:lnTo>
                  <a:lnTo>
                    <a:pt x="2186" y="238"/>
                  </a:lnTo>
                  <a:lnTo>
                    <a:pt x="2181" y="238"/>
                  </a:lnTo>
                  <a:lnTo>
                    <a:pt x="2171" y="243"/>
                  </a:lnTo>
                  <a:lnTo>
                    <a:pt x="2166" y="243"/>
                  </a:lnTo>
                  <a:lnTo>
                    <a:pt x="2161" y="247"/>
                  </a:lnTo>
                  <a:lnTo>
                    <a:pt x="2156" y="252"/>
                  </a:lnTo>
                  <a:lnTo>
                    <a:pt x="2156" y="252"/>
                  </a:lnTo>
                  <a:lnTo>
                    <a:pt x="2151" y="247"/>
                  </a:lnTo>
                  <a:lnTo>
                    <a:pt x="2146" y="247"/>
                  </a:lnTo>
                  <a:lnTo>
                    <a:pt x="2146" y="238"/>
                  </a:lnTo>
                  <a:close/>
                  <a:moveTo>
                    <a:pt x="1340" y="213"/>
                  </a:moveTo>
                  <a:lnTo>
                    <a:pt x="1335" y="208"/>
                  </a:lnTo>
                  <a:lnTo>
                    <a:pt x="1335" y="203"/>
                  </a:lnTo>
                  <a:lnTo>
                    <a:pt x="1330" y="203"/>
                  </a:lnTo>
                  <a:lnTo>
                    <a:pt x="1326" y="203"/>
                  </a:lnTo>
                  <a:lnTo>
                    <a:pt x="1316" y="203"/>
                  </a:lnTo>
                  <a:lnTo>
                    <a:pt x="1311" y="208"/>
                  </a:lnTo>
                  <a:lnTo>
                    <a:pt x="1311" y="213"/>
                  </a:lnTo>
                  <a:lnTo>
                    <a:pt x="1311" y="218"/>
                  </a:lnTo>
                  <a:lnTo>
                    <a:pt x="1316" y="223"/>
                  </a:lnTo>
                  <a:lnTo>
                    <a:pt x="1321" y="223"/>
                  </a:lnTo>
                  <a:lnTo>
                    <a:pt x="1330" y="223"/>
                  </a:lnTo>
                  <a:lnTo>
                    <a:pt x="1335" y="223"/>
                  </a:lnTo>
                  <a:lnTo>
                    <a:pt x="1335" y="218"/>
                  </a:lnTo>
                  <a:lnTo>
                    <a:pt x="1340" y="213"/>
                  </a:lnTo>
                  <a:close/>
                  <a:moveTo>
                    <a:pt x="984" y="188"/>
                  </a:moveTo>
                  <a:lnTo>
                    <a:pt x="994" y="178"/>
                  </a:lnTo>
                  <a:lnTo>
                    <a:pt x="999" y="168"/>
                  </a:lnTo>
                  <a:lnTo>
                    <a:pt x="1009" y="168"/>
                  </a:lnTo>
                  <a:lnTo>
                    <a:pt x="1014" y="168"/>
                  </a:lnTo>
                  <a:lnTo>
                    <a:pt x="1024" y="173"/>
                  </a:lnTo>
                  <a:lnTo>
                    <a:pt x="1029" y="183"/>
                  </a:lnTo>
                  <a:lnTo>
                    <a:pt x="1029" y="188"/>
                  </a:lnTo>
                  <a:lnTo>
                    <a:pt x="1024" y="198"/>
                  </a:lnTo>
                  <a:lnTo>
                    <a:pt x="1019" y="203"/>
                  </a:lnTo>
                  <a:lnTo>
                    <a:pt x="1014" y="208"/>
                  </a:lnTo>
                  <a:lnTo>
                    <a:pt x="1004" y="208"/>
                  </a:lnTo>
                  <a:lnTo>
                    <a:pt x="999" y="203"/>
                  </a:lnTo>
                  <a:lnTo>
                    <a:pt x="994" y="198"/>
                  </a:lnTo>
                  <a:lnTo>
                    <a:pt x="984" y="188"/>
                  </a:lnTo>
                  <a:close/>
                  <a:moveTo>
                    <a:pt x="1410" y="188"/>
                  </a:moveTo>
                  <a:lnTo>
                    <a:pt x="1410" y="183"/>
                  </a:lnTo>
                  <a:lnTo>
                    <a:pt x="1405" y="183"/>
                  </a:lnTo>
                  <a:lnTo>
                    <a:pt x="1405" y="183"/>
                  </a:lnTo>
                  <a:lnTo>
                    <a:pt x="1400" y="183"/>
                  </a:lnTo>
                  <a:lnTo>
                    <a:pt x="1395" y="183"/>
                  </a:lnTo>
                  <a:lnTo>
                    <a:pt x="1395" y="183"/>
                  </a:lnTo>
                  <a:lnTo>
                    <a:pt x="1390" y="183"/>
                  </a:lnTo>
                  <a:lnTo>
                    <a:pt x="1385" y="183"/>
                  </a:lnTo>
                  <a:lnTo>
                    <a:pt x="1380" y="183"/>
                  </a:lnTo>
                  <a:lnTo>
                    <a:pt x="1380" y="188"/>
                  </a:lnTo>
                  <a:lnTo>
                    <a:pt x="1380" y="188"/>
                  </a:lnTo>
                  <a:lnTo>
                    <a:pt x="1385" y="188"/>
                  </a:lnTo>
                  <a:lnTo>
                    <a:pt x="1390" y="188"/>
                  </a:lnTo>
                  <a:lnTo>
                    <a:pt x="1395" y="188"/>
                  </a:lnTo>
                  <a:lnTo>
                    <a:pt x="1395" y="188"/>
                  </a:lnTo>
                  <a:lnTo>
                    <a:pt x="1400" y="188"/>
                  </a:lnTo>
                  <a:lnTo>
                    <a:pt x="1405" y="188"/>
                  </a:lnTo>
                  <a:lnTo>
                    <a:pt x="1405" y="188"/>
                  </a:lnTo>
                  <a:lnTo>
                    <a:pt x="1410" y="188"/>
                  </a:lnTo>
                  <a:lnTo>
                    <a:pt x="1410" y="188"/>
                  </a:lnTo>
                  <a:close/>
                  <a:moveTo>
                    <a:pt x="1850" y="188"/>
                  </a:moveTo>
                  <a:lnTo>
                    <a:pt x="1845" y="183"/>
                  </a:lnTo>
                  <a:lnTo>
                    <a:pt x="1845" y="183"/>
                  </a:lnTo>
                  <a:lnTo>
                    <a:pt x="1840" y="183"/>
                  </a:lnTo>
                  <a:lnTo>
                    <a:pt x="1835" y="183"/>
                  </a:lnTo>
                  <a:lnTo>
                    <a:pt x="1830" y="188"/>
                  </a:lnTo>
                  <a:lnTo>
                    <a:pt x="1825" y="188"/>
                  </a:lnTo>
                  <a:lnTo>
                    <a:pt x="1830" y="193"/>
                  </a:lnTo>
                  <a:lnTo>
                    <a:pt x="1830" y="193"/>
                  </a:lnTo>
                  <a:lnTo>
                    <a:pt x="1835" y="198"/>
                  </a:lnTo>
                  <a:lnTo>
                    <a:pt x="1840" y="198"/>
                  </a:lnTo>
                  <a:lnTo>
                    <a:pt x="1840" y="198"/>
                  </a:lnTo>
                  <a:lnTo>
                    <a:pt x="1845" y="193"/>
                  </a:lnTo>
                  <a:lnTo>
                    <a:pt x="1850" y="193"/>
                  </a:lnTo>
                  <a:lnTo>
                    <a:pt x="1850" y="188"/>
                  </a:lnTo>
                  <a:close/>
                  <a:moveTo>
                    <a:pt x="1469" y="159"/>
                  </a:moveTo>
                  <a:lnTo>
                    <a:pt x="1469" y="154"/>
                  </a:lnTo>
                  <a:lnTo>
                    <a:pt x="1469" y="154"/>
                  </a:lnTo>
                  <a:lnTo>
                    <a:pt x="1464" y="154"/>
                  </a:lnTo>
                  <a:lnTo>
                    <a:pt x="1464" y="154"/>
                  </a:lnTo>
                  <a:lnTo>
                    <a:pt x="1459" y="154"/>
                  </a:lnTo>
                  <a:lnTo>
                    <a:pt x="1454" y="154"/>
                  </a:lnTo>
                  <a:lnTo>
                    <a:pt x="1449" y="159"/>
                  </a:lnTo>
                  <a:lnTo>
                    <a:pt x="1449" y="159"/>
                  </a:lnTo>
                  <a:lnTo>
                    <a:pt x="1449" y="159"/>
                  </a:lnTo>
                  <a:lnTo>
                    <a:pt x="1454" y="163"/>
                  </a:lnTo>
                  <a:lnTo>
                    <a:pt x="1459" y="163"/>
                  </a:lnTo>
                  <a:lnTo>
                    <a:pt x="1464" y="163"/>
                  </a:lnTo>
                  <a:lnTo>
                    <a:pt x="1469" y="163"/>
                  </a:lnTo>
                  <a:lnTo>
                    <a:pt x="1469" y="159"/>
                  </a:lnTo>
                  <a:close/>
                  <a:moveTo>
                    <a:pt x="1795" y="159"/>
                  </a:moveTo>
                  <a:lnTo>
                    <a:pt x="1795" y="159"/>
                  </a:lnTo>
                  <a:lnTo>
                    <a:pt x="1790" y="159"/>
                  </a:lnTo>
                  <a:lnTo>
                    <a:pt x="1785" y="159"/>
                  </a:lnTo>
                  <a:lnTo>
                    <a:pt x="1785" y="159"/>
                  </a:lnTo>
                  <a:lnTo>
                    <a:pt x="1780" y="159"/>
                  </a:lnTo>
                  <a:lnTo>
                    <a:pt x="1776" y="159"/>
                  </a:lnTo>
                  <a:lnTo>
                    <a:pt x="1771" y="159"/>
                  </a:lnTo>
                  <a:lnTo>
                    <a:pt x="1776" y="163"/>
                  </a:lnTo>
                  <a:lnTo>
                    <a:pt x="1780" y="163"/>
                  </a:lnTo>
                  <a:lnTo>
                    <a:pt x="1785" y="163"/>
                  </a:lnTo>
                  <a:lnTo>
                    <a:pt x="1785" y="163"/>
                  </a:lnTo>
                  <a:lnTo>
                    <a:pt x="1790" y="163"/>
                  </a:lnTo>
                  <a:lnTo>
                    <a:pt x="1795" y="163"/>
                  </a:lnTo>
                  <a:lnTo>
                    <a:pt x="1795" y="159"/>
                  </a:lnTo>
                  <a:close/>
                  <a:moveTo>
                    <a:pt x="1543" y="134"/>
                  </a:moveTo>
                  <a:lnTo>
                    <a:pt x="1543" y="129"/>
                  </a:lnTo>
                  <a:lnTo>
                    <a:pt x="1538" y="129"/>
                  </a:lnTo>
                  <a:lnTo>
                    <a:pt x="1538" y="129"/>
                  </a:lnTo>
                  <a:lnTo>
                    <a:pt x="1533" y="124"/>
                  </a:lnTo>
                  <a:lnTo>
                    <a:pt x="1528" y="124"/>
                  </a:lnTo>
                  <a:lnTo>
                    <a:pt x="1523" y="124"/>
                  </a:lnTo>
                  <a:lnTo>
                    <a:pt x="1518" y="124"/>
                  </a:lnTo>
                  <a:lnTo>
                    <a:pt x="1513" y="129"/>
                  </a:lnTo>
                  <a:lnTo>
                    <a:pt x="1508" y="129"/>
                  </a:lnTo>
                  <a:lnTo>
                    <a:pt x="1508" y="129"/>
                  </a:lnTo>
                  <a:lnTo>
                    <a:pt x="1508" y="134"/>
                  </a:lnTo>
                  <a:lnTo>
                    <a:pt x="1513" y="134"/>
                  </a:lnTo>
                  <a:lnTo>
                    <a:pt x="1518" y="134"/>
                  </a:lnTo>
                  <a:lnTo>
                    <a:pt x="1518" y="134"/>
                  </a:lnTo>
                  <a:lnTo>
                    <a:pt x="1523" y="134"/>
                  </a:lnTo>
                  <a:lnTo>
                    <a:pt x="1528" y="134"/>
                  </a:lnTo>
                  <a:lnTo>
                    <a:pt x="1533" y="134"/>
                  </a:lnTo>
                  <a:lnTo>
                    <a:pt x="1538" y="134"/>
                  </a:lnTo>
                  <a:lnTo>
                    <a:pt x="1538" y="134"/>
                  </a:lnTo>
                  <a:lnTo>
                    <a:pt x="1543" y="134"/>
                  </a:lnTo>
                  <a:close/>
                  <a:moveTo>
                    <a:pt x="1741" y="134"/>
                  </a:moveTo>
                  <a:lnTo>
                    <a:pt x="1741" y="134"/>
                  </a:lnTo>
                  <a:lnTo>
                    <a:pt x="1736" y="134"/>
                  </a:lnTo>
                  <a:lnTo>
                    <a:pt x="1731" y="129"/>
                  </a:lnTo>
                  <a:lnTo>
                    <a:pt x="1731" y="129"/>
                  </a:lnTo>
                  <a:lnTo>
                    <a:pt x="1726" y="134"/>
                  </a:lnTo>
                  <a:lnTo>
                    <a:pt x="1721" y="134"/>
                  </a:lnTo>
                  <a:lnTo>
                    <a:pt x="1716" y="134"/>
                  </a:lnTo>
                  <a:lnTo>
                    <a:pt x="1721" y="134"/>
                  </a:lnTo>
                  <a:lnTo>
                    <a:pt x="1726" y="134"/>
                  </a:lnTo>
                  <a:lnTo>
                    <a:pt x="1731" y="134"/>
                  </a:lnTo>
                  <a:lnTo>
                    <a:pt x="1731" y="134"/>
                  </a:lnTo>
                  <a:lnTo>
                    <a:pt x="1736" y="134"/>
                  </a:lnTo>
                  <a:lnTo>
                    <a:pt x="1741" y="134"/>
                  </a:lnTo>
                  <a:lnTo>
                    <a:pt x="1741" y="134"/>
                  </a:lnTo>
                  <a:close/>
                  <a:moveTo>
                    <a:pt x="1602" y="104"/>
                  </a:moveTo>
                  <a:lnTo>
                    <a:pt x="1602" y="104"/>
                  </a:lnTo>
                  <a:lnTo>
                    <a:pt x="1598" y="99"/>
                  </a:lnTo>
                  <a:lnTo>
                    <a:pt x="1593" y="99"/>
                  </a:lnTo>
                  <a:lnTo>
                    <a:pt x="1588" y="99"/>
                  </a:lnTo>
                  <a:lnTo>
                    <a:pt x="1583" y="99"/>
                  </a:lnTo>
                  <a:lnTo>
                    <a:pt x="1578" y="104"/>
                  </a:lnTo>
                  <a:lnTo>
                    <a:pt x="1573" y="104"/>
                  </a:lnTo>
                  <a:lnTo>
                    <a:pt x="1573" y="104"/>
                  </a:lnTo>
                  <a:lnTo>
                    <a:pt x="1578" y="109"/>
                  </a:lnTo>
                  <a:lnTo>
                    <a:pt x="1583" y="109"/>
                  </a:lnTo>
                  <a:lnTo>
                    <a:pt x="1588" y="109"/>
                  </a:lnTo>
                  <a:lnTo>
                    <a:pt x="1593" y="109"/>
                  </a:lnTo>
                  <a:lnTo>
                    <a:pt x="1598" y="109"/>
                  </a:lnTo>
                  <a:lnTo>
                    <a:pt x="1602" y="104"/>
                  </a:lnTo>
                  <a:close/>
                  <a:moveTo>
                    <a:pt x="1687" y="104"/>
                  </a:moveTo>
                  <a:lnTo>
                    <a:pt x="1687" y="104"/>
                  </a:lnTo>
                  <a:lnTo>
                    <a:pt x="1682" y="104"/>
                  </a:lnTo>
                  <a:lnTo>
                    <a:pt x="1677" y="104"/>
                  </a:lnTo>
                  <a:lnTo>
                    <a:pt x="1672" y="104"/>
                  </a:lnTo>
                  <a:lnTo>
                    <a:pt x="1667" y="104"/>
                  </a:lnTo>
                  <a:lnTo>
                    <a:pt x="1662" y="104"/>
                  </a:lnTo>
                  <a:lnTo>
                    <a:pt x="1662" y="104"/>
                  </a:lnTo>
                  <a:lnTo>
                    <a:pt x="1667" y="109"/>
                  </a:lnTo>
                  <a:lnTo>
                    <a:pt x="1667" y="109"/>
                  </a:lnTo>
                  <a:lnTo>
                    <a:pt x="1672" y="109"/>
                  </a:lnTo>
                  <a:lnTo>
                    <a:pt x="1677" y="109"/>
                  </a:lnTo>
                  <a:lnTo>
                    <a:pt x="1682" y="109"/>
                  </a:lnTo>
                  <a:lnTo>
                    <a:pt x="1687" y="109"/>
                  </a:lnTo>
                  <a:lnTo>
                    <a:pt x="1687" y="104"/>
                  </a:lnTo>
                  <a:close/>
                  <a:moveTo>
                    <a:pt x="2235" y="1656"/>
                  </a:moveTo>
                  <a:lnTo>
                    <a:pt x="2260" y="1631"/>
                  </a:lnTo>
                  <a:lnTo>
                    <a:pt x="2285" y="1631"/>
                  </a:lnTo>
                  <a:lnTo>
                    <a:pt x="2315" y="1631"/>
                  </a:lnTo>
                  <a:lnTo>
                    <a:pt x="2339" y="1631"/>
                  </a:lnTo>
                  <a:lnTo>
                    <a:pt x="2369" y="1631"/>
                  </a:lnTo>
                  <a:lnTo>
                    <a:pt x="2394" y="1631"/>
                  </a:lnTo>
                  <a:lnTo>
                    <a:pt x="2418" y="1631"/>
                  </a:lnTo>
                  <a:lnTo>
                    <a:pt x="2448" y="1602"/>
                  </a:lnTo>
                  <a:lnTo>
                    <a:pt x="2448" y="1577"/>
                  </a:lnTo>
                  <a:lnTo>
                    <a:pt x="2448" y="1547"/>
                  </a:lnTo>
                  <a:lnTo>
                    <a:pt x="2448" y="1523"/>
                  </a:lnTo>
                  <a:lnTo>
                    <a:pt x="2473" y="1498"/>
                  </a:lnTo>
                  <a:lnTo>
                    <a:pt x="2473" y="1468"/>
                  </a:lnTo>
                  <a:lnTo>
                    <a:pt x="2473" y="1444"/>
                  </a:lnTo>
                  <a:lnTo>
                    <a:pt x="2473" y="1414"/>
                  </a:lnTo>
                  <a:lnTo>
                    <a:pt x="2503" y="1389"/>
                  </a:lnTo>
                  <a:lnTo>
                    <a:pt x="2503" y="1364"/>
                  </a:lnTo>
                  <a:lnTo>
                    <a:pt x="2503" y="1335"/>
                  </a:lnTo>
                  <a:lnTo>
                    <a:pt x="2503" y="1310"/>
                  </a:lnTo>
                  <a:lnTo>
                    <a:pt x="2527" y="1280"/>
                  </a:lnTo>
                  <a:lnTo>
                    <a:pt x="2527" y="1256"/>
                  </a:lnTo>
                  <a:lnTo>
                    <a:pt x="2527" y="1226"/>
                  </a:lnTo>
                  <a:lnTo>
                    <a:pt x="2527" y="1201"/>
                  </a:lnTo>
                  <a:lnTo>
                    <a:pt x="2552" y="1177"/>
                  </a:lnTo>
                  <a:lnTo>
                    <a:pt x="2552" y="1147"/>
                  </a:lnTo>
                  <a:lnTo>
                    <a:pt x="2552" y="1122"/>
                  </a:lnTo>
                  <a:lnTo>
                    <a:pt x="2552" y="1093"/>
                  </a:lnTo>
                  <a:lnTo>
                    <a:pt x="2582" y="1068"/>
                  </a:lnTo>
                  <a:lnTo>
                    <a:pt x="2582" y="1043"/>
                  </a:lnTo>
                  <a:lnTo>
                    <a:pt x="2582" y="1014"/>
                  </a:lnTo>
                  <a:lnTo>
                    <a:pt x="2582" y="989"/>
                  </a:lnTo>
                  <a:lnTo>
                    <a:pt x="2582" y="959"/>
                  </a:lnTo>
                  <a:lnTo>
                    <a:pt x="2582" y="934"/>
                  </a:lnTo>
                  <a:lnTo>
                    <a:pt x="2582" y="910"/>
                  </a:lnTo>
                  <a:lnTo>
                    <a:pt x="2582" y="880"/>
                  </a:lnTo>
                  <a:lnTo>
                    <a:pt x="2582" y="855"/>
                  </a:lnTo>
                  <a:lnTo>
                    <a:pt x="2582" y="826"/>
                  </a:lnTo>
                  <a:lnTo>
                    <a:pt x="2582" y="801"/>
                  </a:lnTo>
                  <a:lnTo>
                    <a:pt x="2582" y="776"/>
                  </a:lnTo>
                  <a:lnTo>
                    <a:pt x="2582" y="747"/>
                  </a:lnTo>
                  <a:lnTo>
                    <a:pt x="2582" y="722"/>
                  </a:lnTo>
                  <a:lnTo>
                    <a:pt x="2582" y="692"/>
                  </a:lnTo>
                  <a:lnTo>
                    <a:pt x="2582" y="668"/>
                  </a:lnTo>
                  <a:lnTo>
                    <a:pt x="2582" y="643"/>
                  </a:lnTo>
                  <a:lnTo>
                    <a:pt x="2582" y="613"/>
                  </a:lnTo>
                  <a:lnTo>
                    <a:pt x="2582" y="589"/>
                  </a:lnTo>
                  <a:lnTo>
                    <a:pt x="2582" y="559"/>
                  </a:lnTo>
                  <a:lnTo>
                    <a:pt x="2582" y="534"/>
                  </a:lnTo>
                  <a:lnTo>
                    <a:pt x="2582" y="504"/>
                  </a:lnTo>
                  <a:lnTo>
                    <a:pt x="2582" y="480"/>
                  </a:lnTo>
                  <a:lnTo>
                    <a:pt x="2582" y="455"/>
                  </a:lnTo>
                  <a:lnTo>
                    <a:pt x="2582" y="425"/>
                  </a:lnTo>
                  <a:lnTo>
                    <a:pt x="2582" y="401"/>
                  </a:lnTo>
                  <a:lnTo>
                    <a:pt x="2582" y="371"/>
                  </a:lnTo>
                  <a:lnTo>
                    <a:pt x="2582" y="346"/>
                  </a:lnTo>
                  <a:lnTo>
                    <a:pt x="2582" y="322"/>
                  </a:lnTo>
                  <a:lnTo>
                    <a:pt x="2582" y="292"/>
                  </a:lnTo>
                  <a:lnTo>
                    <a:pt x="2582" y="267"/>
                  </a:lnTo>
                  <a:lnTo>
                    <a:pt x="2582" y="238"/>
                  </a:lnTo>
                  <a:lnTo>
                    <a:pt x="2552" y="213"/>
                  </a:lnTo>
                  <a:lnTo>
                    <a:pt x="2552" y="188"/>
                  </a:lnTo>
                  <a:lnTo>
                    <a:pt x="2552" y="159"/>
                  </a:lnTo>
                  <a:lnTo>
                    <a:pt x="2552" y="134"/>
                  </a:lnTo>
                  <a:lnTo>
                    <a:pt x="2552" y="104"/>
                  </a:lnTo>
                  <a:lnTo>
                    <a:pt x="2527" y="79"/>
                  </a:lnTo>
                  <a:lnTo>
                    <a:pt x="2503" y="79"/>
                  </a:lnTo>
                  <a:lnTo>
                    <a:pt x="2473" y="79"/>
                  </a:lnTo>
                  <a:lnTo>
                    <a:pt x="2448" y="55"/>
                  </a:lnTo>
                  <a:lnTo>
                    <a:pt x="2418" y="55"/>
                  </a:lnTo>
                  <a:lnTo>
                    <a:pt x="2394" y="55"/>
                  </a:lnTo>
                  <a:lnTo>
                    <a:pt x="2369" y="25"/>
                  </a:lnTo>
                  <a:lnTo>
                    <a:pt x="2339" y="25"/>
                  </a:lnTo>
                  <a:lnTo>
                    <a:pt x="2315" y="25"/>
                  </a:lnTo>
                  <a:lnTo>
                    <a:pt x="2285" y="0"/>
                  </a:lnTo>
                  <a:lnTo>
                    <a:pt x="2260" y="0"/>
                  </a:lnTo>
                  <a:lnTo>
                    <a:pt x="2235" y="0"/>
                  </a:lnTo>
                  <a:lnTo>
                    <a:pt x="2206" y="0"/>
                  </a:lnTo>
                  <a:lnTo>
                    <a:pt x="2181" y="0"/>
                  </a:lnTo>
                  <a:lnTo>
                    <a:pt x="2156" y="0"/>
                  </a:lnTo>
                  <a:lnTo>
                    <a:pt x="2127" y="0"/>
                  </a:lnTo>
                  <a:lnTo>
                    <a:pt x="2102" y="0"/>
                  </a:lnTo>
                  <a:lnTo>
                    <a:pt x="2072" y="0"/>
                  </a:lnTo>
                  <a:lnTo>
                    <a:pt x="2048" y="0"/>
                  </a:lnTo>
                  <a:lnTo>
                    <a:pt x="2023" y="0"/>
                  </a:lnTo>
                  <a:lnTo>
                    <a:pt x="1993" y="0"/>
                  </a:lnTo>
                  <a:lnTo>
                    <a:pt x="1968" y="0"/>
                  </a:lnTo>
                  <a:lnTo>
                    <a:pt x="1944" y="0"/>
                  </a:lnTo>
                  <a:lnTo>
                    <a:pt x="1914" y="0"/>
                  </a:lnTo>
                  <a:lnTo>
                    <a:pt x="1889" y="0"/>
                  </a:lnTo>
                  <a:lnTo>
                    <a:pt x="1860" y="0"/>
                  </a:lnTo>
                  <a:lnTo>
                    <a:pt x="1835" y="0"/>
                  </a:lnTo>
                  <a:lnTo>
                    <a:pt x="1810" y="0"/>
                  </a:lnTo>
                  <a:lnTo>
                    <a:pt x="1780" y="0"/>
                  </a:lnTo>
                  <a:lnTo>
                    <a:pt x="1756" y="0"/>
                  </a:lnTo>
                  <a:lnTo>
                    <a:pt x="1726" y="0"/>
                  </a:lnTo>
                  <a:lnTo>
                    <a:pt x="1701" y="0"/>
                  </a:lnTo>
                  <a:lnTo>
                    <a:pt x="1677" y="0"/>
                  </a:lnTo>
                  <a:lnTo>
                    <a:pt x="1647" y="0"/>
                  </a:lnTo>
                  <a:lnTo>
                    <a:pt x="1622" y="0"/>
                  </a:lnTo>
                  <a:lnTo>
                    <a:pt x="1598" y="0"/>
                  </a:lnTo>
                  <a:lnTo>
                    <a:pt x="1568" y="0"/>
                  </a:lnTo>
                  <a:lnTo>
                    <a:pt x="1543" y="0"/>
                  </a:lnTo>
                  <a:lnTo>
                    <a:pt x="1513" y="0"/>
                  </a:lnTo>
                  <a:lnTo>
                    <a:pt x="1489" y="0"/>
                  </a:lnTo>
                  <a:lnTo>
                    <a:pt x="1464" y="0"/>
                  </a:lnTo>
                  <a:lnTo>
                    <a:pt x="1434" y="0"/>
                  </a:lnTo>
                  <a:lnTo>
                    <a:pt x="1410" y="0"/>
                  </a:lnTo>
                  <a:lnTo>
                    <a:pt x="1385" y="0"/>
                  </a:lnTo>
                  <a:lnTo>
                    <a:pt x="1355" y="0"/>
                  </a:lnTo>
                  <a:lnTo>
                    <a:pt x="1330" y="0"/>
                  </a:lnTo>
                  <a:lnTo>
                    <a:pt x="1301" y="0"/>
                  </a:lnTo>
                  <a:lnTo>
                    <a:pt x="1276" y="0"/>
                  </a:lnTo>
                  <a:lnTo>
                    <a:pt x="1251" y="0"/>
                  </a:lnTo>
                  <a:lnTo>
                    <a:pt x="1222" y="0"/>
                  </a:lnTo>
                  <a:lnTo>
                    <a:pt x="1197" y="0"/>
                  </a:lnTo>
                  <a:lnTo>
                    <a:pt x="1172" y="0"/>
                  </a:lnTo>
                  <a:lnTo>
                    <a:pt x="1143" y="0"/>
                  </a:lnTo>
                  <a:lnTo>
                    <a:pt x="1118" y="0"/>
                  </a:lnTo>
                  <a:lnTo>
                    <a:pt x="1088" y="0"/>
                  </a:lnTo>
                  <a:lnTo>
                    <a:pt x="1063" y="0"/>
                  </a:lnTo>
                  <a:lnTo>
                    <a:pt x="1039" y="0"/>
                  </a:lnTo>
                  <a:lnTo>
                    <a:pt x="1009" y="0"/>
                  </a:lnTo>
                  <a:lnTo>
                    <a:pt x="984" y="0"/>
                  </a:lnTo>
                  <a:lnTo>
                    <a:pt x="955" y="0"/>
                  </a:lnTo>
                  <a:lnTo>
                    <a:pt x="930" y="0"/>
                  </a:lnTo>
                  <a:lnTo>
                    <a:pt x="905" y="0"/>
                  </a:lnTo>
                  <a:lnTo>
                    <a:pt x="875" y="0"/>
                  </a:lnTo>
                  <a:lnTo>
                    <a:pt x="851" y="0"/>
                  </a:lnTo>
                  <a:lnTo>
                    <a:pt x="826" y="0"/>
                  </a:lnTo>
                  <a:lnTo>
                    <a:pt x="796" y="0"/>
                  </a:lnTo>
                  <a:lnTo>
                    <a:pt x="772" y="0"/>
                  </a:lnTo>
                  <a:lnTo>
                    <a:pt x="742" y="0"/>
                  </a:lnTo>
                  <a:lnTo>
                    <a:pt x="717" y="0"/>
                  </a:lnTo>
                  <a:lnTo>
                    <a:pt x="692" y="0"/>
                  </a:lnTo>
                  <a:lnTo>
                    <a:pt x="663" y="0"/>
                  </a:lnTo>
                  <a:lnTo>
                    <a:pt x="638" y="0"/>
                  </a:lnTo>
                  <a:lnTo>
                    <a:pt x="613" y="0"/>
                  </a:lnTo>
                  <a:lnTo>
                    <a:pt x="584" y="25"/>
                  </a:lnTo>
                  <a:lnTo>
                    <a:pt x="559" y="55"/>
                  </a:lnTo>
                  <a:lnTo>
                    <a:pt x="529" y="79"/>
                  </a:lnTo>
                  <a:lnTo>
                    <a:pt x="505" y="104"/>
                  </a:lnTo>
                  <a:lnTo>
                    <a:pt x="480" y="134"/>
                  </a:lnTo>
                  <a:lnTo>
                    <a:pt x="450" y="134"/>
                  </a:lnTo>
                  <a:lnTo>
                    <a:pt x="425" y="159"/>
                  </a:lnTo>
                  <a:lnTo>
                    <a:pt x="396" y="188"/>
                  </a:lnTo>
                  <a:lnTo>
                    <a:pt x="371" y="213"/>
                  </a:lnTo>
                  <a:lnTo>
                    <a:pt x="346" y="238"/>
                  </a:lnTo>
                  <a:lnTo>
                    <a:pt x="317" y="267"/>
                  </a:lnTo>
                  <a:lnTo>
                    <a:pt x="292" y="292"/>
                  </a:lnTo>
                  <a:lnTo>
                    <a:pt x="267" y="322"/>
                  </a:lnTo>
                  <a:lnTo>
                    <a:pt x="237" y="322"/>
                  </a:lnTo>
                  <a:lnTo>
                    <a:pt x="213" y="346"/>
                  </a:lnTo>
                  <a:lnTo>
                    <a:pt x="183" y="371"/>
                  </a:lnTo>
                  <a:lnTo>
                    <a:pt x="158" y="401"/>
                  </a:lnTo>
                  <a:lnTo>
                    <a:pt x="134" y="425"/>
                  </a:lnTo>
                  <a:lnTo>
                    <a:pt x="104" y="455"/>
                  </a:lnTo>
                  <a:lnTo>
                    <a:pt x="79" y="480"/>
                  </a:lnTo>
                  <a:lnTo>
                    <a:pt x="55" y="504"/>
                  </a:lnTo>
                  <a:lnTo>
                    <a:pt x="25" y="504"/>
                  </a:lnTo>
                  <a:lnTo>
                    <a:pt x="0" y="534"/>
                  </a:lnTo>
                  <a:lnTo>
                    <a:pt x="0" y="559"/>
                  </a:lnTo>
                  <a:lnTo>
                    <a:pt x="0" y="589"/>
                  </a:lnTo>
                  <a:lnTo>
                    <a:pt x="0" y="613"/>
                  </a:lnTo>
                  <a:lnTo>
                    <a:pt x="25" y="643"/>
                  </a:lnTo>
                  <a:lnTo>
                    <a:pt x="25" y="668"/>
                  </a:lnTo>
                  <a:lnTo>
                    <a:pt x="55" y="692"/>
                  </a:lnTo>
                  <a:lnTo>
                    <a:pt x="79" y="722"/>
                  </a:lnTo>
                  <a:lnTo>
                    <a:pt x="104" y="747"/>
                  </a:lnTo>
                  <a:lnTo>
                    <a:pt x="134" y="776"/>
                  </a:lnTo>
                  <a:lnTo>
                    <a:pt x="134" y="801"/>
                  </a:lnTo>
                  <a:lnTo>
                    <a:pt x="158" y="826"/>
                  </a:lnTo>
                  <a:lnTo>
                    <a:pt x="183" y="855"/>
                  </a:lnTo>
                  <a:lnTo>
                    <a:pt x="213" y="880"/>
                  </a:lnTo>
                  <a:lnTo>
                    <a:pt x="237" y="910"/>
                  </a:lnTo>
                  <a:lnTo>
                    <a:pt x="267" y="934"/>
                  </a:lnTo>
                  <a:lnTo>
                    <a:pt x="292" y="959"/>
                  </a:lnTo>
                  <a:lnTo>
                    <a:pt x="292" y="989"/>
                  </a:lnTo>
                  <a:lnTo>
                    <a:pt x="317" y="1014"/>
                  </a:lnTo>
                  <a:lnTo>
                    <a:pt x="346" y="1043"/>
                  </a:lnTo>
                  <a:lnTo>
                    <a:pt x="371" y="1068"/>
                  </a:lnTo>
                  <a:lnTo>
                    <a:pt x="396" y="1093"/>
                  </a:lnTo>
                  <a:lnTo>
                    <a:pt x="425" y="1122"/>
                  </a:lnTo>
                  <a:lnTo>
                    <a:pt x="450" y="1147"/>
                  </a:lnTo>
                  <a:lnTo>
                    <a:pt x="480" y="1177"/>
                  </a:lnTo>
                  <a:lnTo>
                    <a:pt x="505" y="1201"/>
                  </a:lnTo>
                  <a:lnTo>
                    <a:pt x="529" y="1226"/>
                  </a:lnTo>
                  <a:lnTo>
                    <a:pt x="559" y="1256"/>
                  </a:lnTo>
                  <a:lnTo>
                    <a:pt x="584" y="1280"/>
                  </a:lnTo>
                  <a:lnTo>
                    <a:pt x="613" y="1310"/>
                  </a:lnTo>
                  <a:lnTo>
                    <a:pt x="638" y="1335"/>
                  </a:lnTo>
                  <a:lnTo>
                    <a:pt x="663" y="1364"/>
                  </a:lnTo>
                  <a:lnTo>
                    <a:pt x="692" y="1389"/>
                  </a:lnTo>
                  <a:lnTo>
                    <a:pt x="717" y="1414"/>
                  </a:lnTo>
                  <a:lnTo>
                    <a:pt x="742" y="1444"/>
                  </a:lnTo>
                  <a:lnTo>
                    <a:pt x="772" y="1468"/>
                  </a:lnTo>
                  <a:lnTo>
                    <a:pt x="796" y="1468"/>
                  </a:lnTo>
                  <a:lnTo>
                    <a:pt x="826" y="1498"/>
                  </a:lnTo>
                  <a:lnTo>
                    <a:pt x="851" y="1523"/>
                  </a:lnTo>
                  <a:lnTo>
                    <a:pt x="875" y="1547"/>
                  </a:lnTo>
                  <a:lnTo>
                    <a:pt x="905" y="1577"/>
                  </a:lnTo>
                  <a:lnTo>
                    <a:pt x="930" y="1602"/>
                  </a:lnTo>
                  <a:lnTo>
                    <a:pt x="955" y="1631"/>
                  </a:lnTo>
                  <a:lnTo>
                    <a:pt x="984" y="1656"/>
                  </a:lnTo>
                  <a:lnTo>
                    <a:pt x="1009" y="1656"/>
                  </a:lnTo>
                  <a:lnTo>
                    <a:pt x="1039" y="1656"/>
                  </a:lnTo>
                  <a:lnTo>
                    <a:pt x="1063" y="1656"/>
                  </a:lnTo>
                  <a:lnTo>
                    <a:pt x="1088" y="1656"/>
                  </a:lnTo>
                  <a:lnTo>
                    <a:pt x="1118" y="1656"/>
                  </a:lnTo>
                  <a:lnTo>
                    <a:pt x="1143" y="1656"/>
                  </a:lnTo>
                  <a:lnTo>
                    <a:pt x="1172" y="1656"/>
                  </a:lnTo>
                  <a:lnTo>
                    <a:pt x="1197" y="1656"/>
                  </a:lnTo>
                  <a:lnTo>
                    <a:pt x="1222" y="1656"/>
                  </a:lnTo>
                  <a:lnTo>
                    <a:pt x="1251" y="1656"/>
                  </a:lnTo>
                  <a:lnTo>
                    <a:pt x="1276" y="1656"/>
                  </a:lnTo>
                  <a:lnTo>
                    <a:pt x="1301" y="1656"/>
                  </a:lnTo>
                  <a:lnTo>
                    <a:pt x="1330" y="1656"/>
                  </a:lnTo>
                  <a:lnTo>
                    <a:pt x="1355" y="1656"/>
                  </a:lnTo>
                  <a:lnTo>
                    <a:pt x="1385" y="1656"/>
                  </a:lnTo>
                  <a:lnTo>
                    <a:pt x="1410" y="1656"/>
                  </a:lnTo>
                  <a:lnTo>
                    <a:pt x="1434" y="1656"/>
                  </a:lnTo>
                  <a:lnTo>
                    <a:pt x="1464" y="1656"/>
                  </a:lnTo>
                  <a:lnTo>
                    <a:pt x="1489" y="1656"/>
                  </a:lnTo>
                  <a:lnTo>
                    <a:pt x="1513" y="1656"/>
                  </a:lnTo>
                  <a:lnTo>
                    <a:pt x="1543" y="1656"/>
                  </a:lnTo>
                  <a:lnTo>
                    <a:pt x="1568" y="1656"/>
                  </a:lnTo>
                  <a:lnTo>
                    <a:pt x="1598" y="1656"/>
                  </a:lnTo>
                  <a:lnTo>
                    <a:pt x="1622" y="1656"/>
                  </a:lnTo>
                  <a:lnTo>
                    <a:pt x="1647" y="1656"/>
                  </a:lnTo>
                  <a:lnTo>
                    <a:pt x="1677" y="1656"/>
                  </a:lnTo>
                  <a:lnTo>
                    <a:pt x="1701" y="1656"/>
                  </a:lnTo>
                  <a:lnTo>
                    <a:pt x="1726" y="1656"/>
                  </a:lnTo>
                  <a:lnTo>
                    <a:pt x="1756" y="1656"/>
                  </a:lnTo>
                  <a:lnTo>
                    <a:pt x="1780" y="1656"/>
                  </a:lnTo>
                  <a:lnTo>
                    <a:pt x="1810" y="1656"/>
                  </a:lnTo>
                  <a:lnTo>
                    <a:pt x="1835" y="1656"/>
                  </a:lnTo>
                  <a:lnTo>
                    <a:pt x="1860" y="1656"/>
                  </a:lnTo>
                  <a:lnTo>
                    <a:pt x="1889" y="1656"/>
                  </a:lnTo>
                  <a:lnTo>
                    <a:pt x="1914" y="1656"/>
                  </a:lnTo>
                  <a:lnTo>
                    <a:pt x="1944" y="1656"/>
                  </a:lnTo>
                  <a:lnTo>
                    <a:pt x="1968" y="1656"/>
                  </a:lnTo>
                  <a:lnTo>
                    <a:pt x="1993" y="1656"/>
                  </a:lnTo>
                  <a:lnTo>
                    <a:pt x="2023" y="1656"/>
                  </a:lnTo>
                  <a:lnTo>
                    <a:pt x="2048" y="1656"/>
                  </a:lnTo>
                  <a:lnTo>
                    <a:pt x="2072" y="1656"/>
                  </a:lnTo>
                  <a:lnTo>
                    <a:pt x="2102" y="1656"/>
                  </a:lnTo>
                  <a:lnTo>
                    <a:pt x="2127" y="1656"/>
                  </a:lnTo>
                  <a:lnTo>
                    <a:pt x="2156" y="1656"/>
                  </a:lnTo>
                  <a:lnTo>
                    <a:pt x="2181" y="1656"/>
                  </a:lnTo>
                  <a:lnTo>
                    <a:pt x="2206" y="1656"/>
                  </a:lnTo>
                  <a:lnTo>
                    <a:pt x="2235" y="1656"/>
                  </a:lnTo>
                  <a:close/>
                  <a:moveTo>
                    <a:pt x="1118" y="504"/>
                  </a:moveTo>
                  <a:lnTo>
                    <a:pt x="1118" y="504"/>
                  </a:lnTo>
                  <a:lnTo>
                    <a:pt x="1118" y="504"/>
                  </a:lnTo>
                  <a:lnTo>
                    <a:pt x="1118" y="504"/>
                  </a:lnTo>
                  <a:lnTo>
                    <a:pt x="1118" y="509"/>
                  </a:lnTo>
                  <a:lnTo>
                    <a:pt x="1118" y="509"/>
                  </a:lnTo>
                  <a:lnTo>
                    <a:pt x="1118" y="509"/>
                  </a:lnTo>
                  <a:lnTo>
                    <a:pt x="1118" y="509"/>
                  </a:lnTo>
                  <a:lnTo>
                    <a:pt x="1118" y="509"/>
                  </a:lnTo>
                  <a:lnTo>
                    <a:pt x="1118" y="509"/>
                  </a:lnTo>
                  <a:lnTo>
                    <a:pt x="1118" y="509"/>
                  </a:lnTo>
                  <a:lnTo>
                    <a:pt x="1118" y="509"/>
                  </a:lnTo>
                  <a:lnTo>
                    <a:pt x="1118" y="509"/>
                  </a:lnTo>
                  <a:lnTo>
                    <a:pt x="1118" y="509"/>
                  </a:lnTo>
                  <a:lnTo>
                    <a:pt x="1118" y="504"/>
                  </a:lnTo>
                  <a:close/>
                  <a:moveTo>
                    <a:pt x="1266" y="346"/>
                  </a:moveTo>
                  <a:lnTo>
                    <a:pt x="1261" y="341"/>
                  </a:lnTo>
                  <a:lnTo>
                    <a:pt x="1261" y="336"/>
                  </a:lnTo>
                  <a:lnTo>
                    <a:pt x="1261" y="331"/>
                  </a:lnTo>
                  <a:lnTo>
                    <a:pt x="1261" y="327"/>
                  </a:lnTo>
                  <a:lnTo>
                    <a:pt x="1261" y="322"/>
                  </a:lnTo>
                  <a:lnTo>
                    <a:pt x="1261" y="317"/>
                  </a:lnTo>
                  <a:lnTo>
                    <a:pt x="1266" y="307"/>
                  </a:lnTo>
                  <a:lnTo>
                    <a:pt x="1271" y="302"/>
                  </a:lnTo>
                  <a:lnTo>
                    <a:pt x="1276" y="302"/>
                  </a:lnTo>
                  <a:lnTo>
                    <a:pt x="1281" y="297"/>
                  </a:lnTo>
                  <a:lnTo>
                    <a:pt x="1291" y="297"/>
                  </a:lnTo>
                  <a:lnTo>
                    <a:pt x="1296" y="292"/>
                  </a:lnTo>
                  <a:lnTo>
                    <a:pt x="1306" y="292"/>
                  </a:lnTo>
                  <a:lnTo>
                    <a:pt x="1311" y="292"/>
                  </a:lnTo>
                  <a:lnTo>
                    <a:pt x="1321" y="297"/>
                  </a:lnTo>
                  <a:lnTo>
                    <a:pt x="1326" y="297"/>
                  </a:lnTo>
                  <a:lnTo>
                    <a:pt x="1330" y="292"/>
                  </a:lnTo>
                  <a:lnTo>
                    <a:pt x="1335" y="287"/>
                  </a:lnTo>
                  <a:lnTo>
                    <a:pt x="1335" y="282"/>
                  </a:lnTo>
                  <a:lnTo>
                    <a:pt x="1335" y="277"/>
                  </a:lnTo>
                  <a:lnTo>
                    <a:pt x="1335" y="272"/>
                  </a:lnTo>
                  <a:lnTo>
                    <a:pt x="1330" y="267"/>
                  </a:lnTo>
                  <a:lnTo>
                    <a:pt x="1326" y="262"/>
                  </a:lnTo>
                  <a:lnTo>
                    <a:pt x="1316" y="262"/>
                  </a:lnTo>
                  <a:lnTo>
                    <a:pt x="1306" y="262"/>
                  </a:lnTo>
                  <a:lnTo>
                    <a:pt x="1301" y="257"/>
                  </a:lnTo>
                  <a:lnTo>
                    <a:pt x="1291" y="257"/>
                  </a:lnTo>
                  <a:lnTo>
                    <a:pt x="1286" y="252"/>
                  </a:lnTo>
                  <a:lnTo>
                    <a:pt x="1281" y="247"/>
                  </a:lnTo>
                  <a:lnTo>
                    <a:pt x="1281" y="243"/>
                  </a:lnTo>
                  <a:lnTo>
                    <a:pt x="1281" y="233"/>
                  </a:lnTo>
                  <a:lnTo>
                    <a:pt x="1281" y="228"/>
                  </a:lnTo>
                  <a:lnTo>
                    <a:pt x="1276" y="223"/>
                  </a:lnTo>
                  <a:lnTo>
                    <a:pt x="1276" y="223"/>
                  </a:lnTo>
                  <a:lnTo>
                    <a:pt x="1266" y="223"/>
                  </a:lnTo>
                  <a:lnTo>
                    <a:pt x="1261" y="223"/>
                  </a:lnTo>
                  <a:lnTo>
                    <a:pt x="1251" y="223"/>
                  </a:lnTo>
                  <a:lnTo>
                    <a:pt x="1241" y="228"/>
                  </a:lnTo>
                  <a:lnTo>
                    <a:pt x="1232" y="228"/>
                  </a:lnTo>
                  <a:lnTo>
                    <a:pt x="1227" y="228"/>
                  </a:lnTo>
                  <a:lnTo>
                    <a:pt x="1217" y="228"/>
                  </a:lnTo>
                  <a:lnTo>
                    <a:pt x="1212" y="223"/>
                  </a:lnTo>
                  <a:lnTo>
                    <a:pt x="1207" y="218"/>
                  </a:lnTo>
                  <a:lnTo>
                    <a:pt x="1202" y="213"/>
                  </a:lnTo>
                  <a:lnTo>
                    <a:pt x="1197" y="213"/>
                  </a:lnTo>
                  <a:lnTo>
                    <a:pt x="1187" y="208"/>
                  </a:lnTo>
                  <a:lnTo>
                    <a:pt x="1182" y="203"/>
                  </a:lnTo>
                  <a:lnTo>
                    <a:pt x="1182" y="198"/>
                  </a:lnTo>
                  <a:lnTo>
                    <a:pt x="1182" y="193"/>
                  </a:lnTo>
                  <a:lnTo>
                    <a:pt x="1182" y="188"/>
                  </a:lnTo>
                  <a:lnTo>
                    <a:pt x="1182" y="183"/>
                  </a:lnTo>
                  <a:lnTo>
                    <a:pt x="1187" y="178"/>
                  </a:lnTo>
                  <a:lnTo>
                    <a:pt x="1197" y="173"/>
                  </a:lnTo>
                  <a:lnTo>
                    <a:pt x="1202" y="168"/>
                  </a:lnTo>
                  <a:lnTo>
                    <a:pt x="1212" y="168"/>
                  </a:lnTo>
                  <a:lnTo>
                    <a:pt x="1217" y="163"/>
                  </a:lnTo>
                  <a:lnTo>
                    <a:pt x="1227" y="163"/>
                  </a:lnTo>
                  <a:lnTo>
                    <a:pt x="1232" y="168"/>
                  </a:lnTo>
                  <a:lnTo>
                    <a:pt x="1236" y="173"/>
                  </a:lnTo>
                  <a:lnTo>
                    <a:pt x="1241" y="178"/>
                  </a:lnTo>
                  <a:lnTo>
                    <a:pt x="1246" y="183"/>
                  </a:lnTo>
                  <a:lnTo>
                    <a:pt x="1246" y="188"/>
                  </a:lnTo>
                  <a:lnTo>
                    <a:pt x="1246" y="198"/>
                  </a:lnTo>
                  <a:lnTo>
                    <a:pt x="1246" y="203"/>
                  </a:lnTo>
                  <a:lnTo>
                    <a:pt x="1251" y="203"/>
                  </a:lnTo>
                  <a:lnTo>
                    <a:pt x="1256" y="198"/>
                  </a:lnTo>
                  <a:lnTo>
                    <a:pt x="1261" y="193"/>
                  </a:lnTo>
                  <a:lnTo>
                    <a:pt x="1266" y="183"/>
                  </a:lnTo>
                  <a:lnTo>
                    <a:pt x="1266" y="178"/>
                  </a:lnTo>
                  <a:lnTo>
                    <a:pt x="1261" y="173"/>
                  </a:lnTo>
                  <a:lnTo>
                    <a:pt x="1261" y="168"/>
                  </a:lnTo>
                  <a:lnTo>
                    <a:pt x="1261" y="163"/>
                  </a:lnTo>
                  <a:lnTo>
                    <a:pt x="1261" y="159"/>
                  </a:lnTo>
                  <a:lnTo>
                    <a:pt x="1266" y="154"/>
                  </a:lnTo>
                  <a:lnTo>
                    <a:pt x="1271" y="154"/>
                  </a:lnTo>
                  <a:lnTo>
                    <a:pt x="1281" y="149"/>
                  </a:lnTo>
                  <a:lnTo>
                    <a:pt x="1286" y="144"/>
                  </a:lnTo>
                  <a:lnTo>
                    <a:pt x="1291" y="139"/>
                  </a:lnTo>
                  <a:lnTo>
                    <a:pt x="1301" y="134"/>
                  </a:lnTo>
                  <a:lnTo>
                    <a:pt x="1306" y="134"/>
                  </a:lnTo>
                  <a:lnTo>
                    <a:pt x="1311" y="139"/>
                  </a:lnTo>
                  <a:lnTo>
                    <a:pt x="1321" y="144"/>
                  </a:lnTo>
                  <a:lnTo>
                    <a:pt x="1326" y="149"/>
                  </a:lnTo>
                  <a:lnTo>
                    <a:pt x="1330" y="154"/>
                  </a:lnTo>
                  <a:lnTo>
                    <a:pt x="1330" y="149"/>
                  </a:lnTo>
                  <a:lnTo>
                    <a:pt x="1330" y="144"/>
                  </a:lnTo>
                  <a:lnTo>
                    <a:pt x="1330" y="139"/>
                  </a:lnTo>
                  <a:lnTo>
                    <a:pt x="1335" y="134"/>
                  </a:lnTo>
                  <a:lnTo>
                    <a:pt x="1340" y="129"/>
                  </a:lnTo>
                  <a:lnTo>
                    <a:pt x="1350" y="129"/>
                  </a:lnTo>
                  <a:lnTo>
                    <a:pt x="1360" y="124"/>
                  </a:lnTo>
                  <a:lnTo>
                    <a:pt x="1365" y="124"/>
                  </a:lnTo>
                  <a:lnTo>
                    <a:pt x="1370" y="119"/>
                  </a:lnTo>
                  <a:lnTo>
                    <a:pt x="1375" y="114"/>
                  </a:lnTo>
                  <a:lnTo>
                    <a:pt x="1380" y="109"/>
                  </a:lnTo>
                  <a:lnTo>
                    <a:pt x="1390" y="109"/>
                  </a:lnTo>
                  <a:lnTo>
                    <a:pt x="1395" y="109"/>
                  </a:lnTo>
                  <a:lnTo>
                    <a:pt x="1405" y="104"/>
                  </a:lnTo>
                  <a:lnTo>
                    <a:pt x="1410" y="99"/>
                  </a:lnTo>
                  <a:lnTo>
                    <a:pt x="1415" y="99"/>
                  </a:lnTo>
                  <a:lnTo>
                    <a:pt x="1424" y="99"/>
                  </a:lnTo>
                  <a:lnTo>
                    <a:pt x="1434" y="99"/>
                  </a:lnTo>
                  <a:lnTo>
                    <a:pt x="1439" y="99"/>
                  </a:lnTo>
                  <a:lnTo>
                    <a:pt x="1444" y="94"/>
                  </a:lnTo>
                  <a:lnTo>
                    <a:pt x="1454" y="89"/>
                  </a:lnTo>
                  <a:lnTo>
                    <a:pt x="1459" y="84"/>
                  </a:lnTo>
                  <a:lnTo>
                    <a:pt x="1464" y="84"/>
                  </a:lnTo>
                  <a:lnTo>
                    <a:pt x="1474" y="79"/>
                  </a:lnTo>
                  <a:lnTo>
                    <a:pt x="1484" y="79"/>
                  </a:lnTo>
                  <a:lnTo>
                    <a:pt x="1489" y="79"/>
                  </a:lnTo>
                  <a:lnTo>
                    <a:pt x="1494" y="74"/>
                  </a:lnTo>
                  <a:lnTo>
                    <a:pt x="1499" y="74"/>
                  </a:lnTo>
                  <a:lnTo>
                    <a:pt x="1508" y="70"/>
                  </a:lnTo>
                  <a:lnTo>
                    <a:pt x="1518" y="70"/>
                  </a:lnTo>
                  <a:lnTo>
                    <a:pt x="1523" y="65"/>
                  </a:lnTo>
                  <a:lnTo>
                    <a:pt x="1528" y="60"/>
                  </a:lnTo>
                  <a:lnTo>
                    <a:pt x="1538" y="60"/>
                  </a:lnTo>
                  <a:lnTo>
                    <a:pt x="1543" y="55"/>
                  </a:lnTo>
                  <a:lnTo>
                    <a:pt x="1553" y="55"/>
                  </a:lnTo>
                  <a:lnTo>
                    <a:pt x="1558" y="55"/>
                  </a:lnTo>
                  <a:lnTo>
                    <a:pt x="1568" y="55"/>
                  </a:lnTo>
                  <a:lnTo>
                    <a:pt x="1578" y="55"/>
                  </a:lnTo>
                  <a:lnTo>
                    <a:pt x="1583" y="50"/>
                  </a:lnTo>
                  <a:lnTo>
                    <a:pt x="1588" y="45"/>
                  </a:lnTo>
                  <a:lnTo>
                    <a:pt x="1593" y="40"/>
                  </a:lnTo>
                  <a:lnTo>
                    <a:pt x="1598" y="35"/>
                  </a:lnTo>
                  <a:lnTo>
                    <a:pt x="1607" y="35"/>
                  </a:lnTo>
                  <a:lnTo>
                    <a:pt x="1612" y="30"/>
                  </a:lnTo>
                  <a:lnTo>
                    <a:pt x="1622" y="30"/>
                  </a:lnTo>
                  <a:lnTo>
                    <a:pt x="1632" y="30"/>
                  </a:lnTo>
                  <a:lnTo>
                    <a:pt x="1637" y="30"/>
                  </a:lnTo>
                  <a:lnTo>
                    <a:pt x="1647" y="30"/>
                  </a:lnTo>
                  <a:lnTo>
                    <a:pt x="1657" y="30"/>
                  </a:lnTo>
                  <a:lnTo>
                    <a:pt x="1662" y="30"/>
                  </a:lnTo>
                  <a:lnTo>
                    <a:pt x="1672" y="30"/>
                  </a:lnTo>
                  <a:lnTo>
                    <a:pt x="1677" y="30"/>
                  </a:lnTo>
                  <a:lnTo>
                    <a:pt x="1687" y="35"/>
                  </a:lnTo>
                  <a:lnTo>
                    <a:pt x="1691" y="35"/>
                  </a:lnTo>
                  <a:lnTo>
                    <a:pt x="1701" y="40"/>
                  </a:lnTo>
                  <a:lnTo>
                    <a:pt x="1706" y="45"/>
                  </a:lnTo>
                  <a:lnTo>
                    <a:pt x="1711" y="50"/>
                  </a:lnTo>
                  <a:lnTo>
                    <a:pt x="1716" y="55"/>
                  </a:lnTo>
                  <a:lnTo>
                    <a:pt x="1726" y="55"/>
                  </a:lnTo>
                  <a:lnTo>
                    <a:pt x="1736" y="55"/>
                  </a:lnTo>
                  <a:lnTo>
                    <a:pt x="1741" y="55"/>
                  </a:lnTo>
                  <a:lnTo>
                    <a:pt x="1751" y="55"/>
                  </a:lnTo>
                  <a:lnTo>
                    <a:pt x="1761" y="55"/>
                  </a:lnTo>
                  <a:lnTo>
                    <a:pt x="1766" y="55"/>
                  </a:lnTo>
                  <a:lnTo>
                    <a:pt x="1776" y="55"/>
                  </a:lnTo>
                  <a:lnTo>
                    <a:pt x="1780" y="60"/>
                  </a:lnTo>
                  <a:lnTo>
                    <a:pt x="1790" y="60"/>
                  </a:lnTo>
                  <a:lnTo>
                    <a:pt x="1795" y="65"/>
                  </a:lnTo>
                  <a:lnTo>
                    <a:pt x="1800" y="70"/>
                  </a:lnTo>
                  <a:lnTo>
                    <a:pt x="1805" y="74"/>
                  </a:lnTo>
                  <a:lnTo>
                    <a:pt x="1810" y="79"/>
                  </a:lnTo>
                  <a:lnTo>
                    <a:pt x="1820" y="79"/>
                  </a:lnTo>
                  <a:lnTo>
                    <a:pt x="1825" y="79"/>
                  </a:lnTo>
                  <a:lnTo>
                    <a:pt x="1835" y="84"/>
                  </a:lnTo>
                  <a:lnTo>
                    <a:pt x="1845" y="84"/>
                  </a:lnTo>
                  <a:lnTo>
                    <a:pt x="1850" y="84"/>
                  </a:lnTo>
                  <a:lnTo>
                    <a:pt x="1860" y="84"/>
                  </a:lnTo>
                  <a:lnTo>
                    <a:pt x="1870" y="84"/>
                  </a:lnTo>
                  <a:lnTo>
                    <a:pt x="1874" y="84"/>
                  </a:lnTo>
                  <a:lnTo>
                    <a:pt x="1884" y="84"/>
                  </a:lnTo>
                  <a:lnTo>
                    <a:pt x="1894" y="84"/>
                  </a:lnTo>
                  <a:lnTo>
                    <a:pt x="1899" y="89"/>
                  </a:lnTo>
                  <a:lnTo>
                    <a:pt x="1904" y="94"/>
                  </a:lnTo>
                  <a:lnTo>
                    <a:pt x="1909" y="99"/>
                  </a:lnTo>
                  <a:lnTo>
                    <a:pt x="1909" y="104"/>
                  </a:lnTo>
                  <a:lnTo>
                    <a:pt x="1919" y="109"/>
                  </a:lnTo>
                  <a:lnTo>
                    <a:pt x="1924" y="109"/>
                  </a:lnTo>
                  <a:lnTo>
                    <a:pt x="1934" y="109"/>
                  </a:lnTo>
                  <a:lnTo>
                    <a:pt x="1944" y="109"/>
                  </a:lnTo>
                  <a:lnTo>
                    <a:pt x="1949" y="109"/>
                  </a:lnTo>
                  <a:lnTo>
                    <a:pt x="1959" y="109"/>
                  </a:lnTo>
                  <a:lnTo>
                    <a:pt x="1968" y="114"/>
                  </a:lnTo>
                  <a:lnTo>
                    <a:pt x="1973" y="109"/>
                  </a:lnTo>
                  <a:lnTo>
                    <a:pt x="1983" y="109"/>
                  </a:lnTo>
                  <a:lnTo>
                    <a:pt x="1993" y="114"/>
                  </a:lnTo>
                  <a:lnTo>
                    <a:pt x="1998" y="114"/>
                  </a:lnTo>
                  <a:lnTo>
                    <a:pt x="2003" y="119"/>
                  </a:lnTo>
                  <a:lnTo>
                    <a:pt x="2008" y="124"/>
                  </a:lnTo>
                  <a:lnTo>
                    <a:pt x="2013" y="129"/>
                  </a:lnTo>
                  <a:lnTo>
                    <a:pt x="2018" y="134"/>
                  </a:lnTo>
                  <a:lnTo>
                    <a:pt x="2023" y="139"/>
                  </a:lnTo>
                  <a:lnTo>
                    <a:pt x="2028" y="139"/>
                  </a:lnTo>
                  <a:lnTo>
                    <a:pt x="2038" y="144"/>
                  </a:lnTo>
                  <a:lnTo>
                    <a:pt x="2043" y="144"/>
                  </a:lnTo>
                  <a:lnTo>
                    <a:pt x="2052" y="144"/>
                  </a:lnTo>
                  <a:lnTo>
                    <a:pt x="2062" y="144"/>
                  </a:lnTo>
                  <a:lnTo>
                    <a:pt x="2067" y="144"/>
                  </a:lnTo>
                  <a:lnTo>
                    <a:pt x="2077" y="144"/>
                  </a:lnTo>
                  <a:lnTo>
                    <a:pt x="2087" y="144"/>
                  </a:lnTo>
                  <a:lnTo>
                    <a:pt x="2097" y="144"/>
                  </a:lnTo>
                  <a:lnTo>
                    <a:pt x="2102" y="149"/>
                  </a:lnTo>
                  <a:lnTo>
                    <a:pt x="2107" y="154"/>
                  </a:lnTo>
                  <a:lnTo>
                    <a:pt x="2112" y="159"/>
                  </a:lnTo>
                  <a:lnTo>
                    <a:pt x="2117" y="163"/>
                  </a:lnTo>
                  <a:lnTo>
                    <a:pt x="2122" y="168"/>
                  </a:lnTo>
                  <a:lnTo>
                    <a:pt x="2122" y="173"/>
                  </a:lnTo>
                  <a:lnTo>
                    <a:pt x="2127" y="178"/>
                  </a:lnTo>
                  <a:lnTo>
                    <a:pt x="2127" y="183"/>
                  </a:lnTo>
                  <a:lnTo>
                    <a:pt x="2127" y="188"/>
                  </a:lnTo>
                  <a:lnTo>
                    <a:pt x="2127" y="193"/>
                  </a:lnTo>
                  <a:lnTo>
                    <a:pt x="2122" y="198"/>
                  </a:lnTo>
                  <a:lnTo>
                    <a:pt x="2117" y="203"/>
                  </a:lnTo>
                  <a:lnTo>
                    <a:pt x="2117" y="208"/>
                  </a:lnTo>
                  <a:lnTo>
                    <a:pt x="2112" y="213"/>
                  </a:lnTo>
                  <a:lnTo>
                    <a:pt x="2107" y="218"/>
                  </a:lnTo>
                  <a:lnTo>
                    <a:pt x="2107" y="223"/>
                  </a:lnTo>
                  <a:lnTo>
                    <a:pt x="2102" y="228"/>
                  </a:lnTo>
                  <a:lnTo>
                    <a:pt x="2097" y="233"/>
                  </a:lnTo>
                  <a:lnTo>
                    <a:pt x="2097" y="238"/>
                  </a:lnTo>
                  <a:lnTo>
                    <a:pt x="2092" y="243"/>
                  </a:lnTo>
                  <a:lnTo>
                    <a:pt x="2087" y="247"/>
                  </a:lnTo>
                  <a:lnTo>
                    <a:pt x="2087" y="252"/>
                  </a:lnTo>
                  <a:lnTo>
                    <a:pt x="2082" y="257"/>
                  </a:lnTo>
                  <a:lnTo>
                    <a:pt x="2077" y="262"/>
                  </a:lnTo>
                  <a:lnTo>
                    <a:pt x="2077" y="267"/>
                  </a:lnTo>
                  <a:lnTo>
                    <a:pt x="2072" y="272"/>
                  </a:lnTo>
                  <a:lnTo>
                    <a:pt x="2067" y="272"/>
                  </a:lnTo>
                  <a:lnTo>
                    <a:pt x="2057" y="277"/>
                  </a:lnTo>
                  <a:lnTo>
                    <a:pt x="2048" y="277"/>
                  </a:lnTo>
                  <a:lnTo>
                    <a:pt x="2043" y="282"/>
                  </a:lnTo>
                  <a:lnTo>
                    <a:pt x="2033" y="282"/>
                  </a:lnTo>
                  <a:lnTo>
                    <a:pt x="2023" y="282"/>
                  </a:lnTo>
                  <a:lnTo>
                    <a:pt x="2018" y="282"/>
                  </a:lnTo>
                  <a:lnTo>
                    <a:pt x="2013" y="277"/>
                  </a:lnTo>
                  <a:lnTo>
                    <a:pt x="2008" y="272"/>
                  </a:lnTo>
                  <a:lnTo>
                    <a:pt x="2003" y="267"/>
                  </a:lnTo>
                  <a:lnTo>
                    <a:pt x="1998" y="262"/>
                  </a:lnTo>
                  <a:lnTo>
                    <a:pt x="1988" y="262"/>
                  </a:lnTo>
                  <a:lnTo>
                    <a:pt x="1978" y="262"/>
                  </a:lnTo>
                  <a:lnTo>
                    <a:pt x="1973" y="262"/>
                  </a:lnTo>
                  <a:lnTo>
                    <a:pt x="1963" y="257"/>
                  </a:lnTo>
                  <a:lnTo>
                    <a:pt x="1959" y="257"/>
                  </a:lnTo>
                  <a:lnTo>
                    <a:pt x="1954" y="252"/>
                  </a:lnTo>
                  <a:lnTo>
                    <a:pt x="1954" y="247"/>
                  </a:lnTo>
                  <a:lnTo>
                    <a:pt x="1949" y="238"/>
                  </a:lnTo>
                  <a:lnTo>
                    <a:pt x="1944" y="238"/>
                  </a:lnTo>
                  <a:lnTo>
                    <a:pt x="1934" y="238"/>
                  </a:lnTo>
                  <a:lnTo>
                    <a:pt x="1929" y="243"/>
                  </a:lnTo>
                  <a:lnTo>
                    <a:pt x="1924" y="252"/>
                  </a:lnTo>
                  <a:lnTo>
                    <a:pt x="1919" y="257"/>
                  </a:lnTo>
                  <a:lnTo>
                    <a:pt x="1914" y="257"/>
                  </a:lnTo>
                  <a:lnTo>
                    <a:pt x="1909" y="257"/>
                  </a:lnTo>
                  <a:lnTo>
                    <a:pt x="1904" y="252"/>
                  </a:lnTo>
                  <a:lnTo>
                    <a:pt x="1899" y="247"/>
                  </a:lnTo>
                  <a:lnTo>
                    <a:pt x="1894" y="243"/>
                  </a:lnTo>
                  <a:lnTo>
                    <a:pt x="1894" y="238"/>
                  </a:lnTo>
                  <a:lnTo>
                    <a:pt x="1899" y="233"/>
                  </a:lnTo>
                  <a:lnTo>
                    <a:pt x="1899" y="223"/>
                  </a:lnTo>
                  <a:lnTo>
                    <a:pt x="1904" y="218"/>
                  </a:lnTo>
                  <a:lnTo>
                    <a:pt x="1904" y="218"/>
                  </a:lnTo>
                  <a:lnTo>
                    <a:pt x="1899" y="213"/>
                  </a:lnTo>
                  <a:lnTo>
                    <a:pt x="1889" y="208"/>
                  </a:lnTo>
                  <a:lnTo>
                    <a:pt x="1884" y="213"/>
                  </a:lnTo>
                  <a:lnTo>
                    <a:pt x="1879" y="218"/>
                  </a:lnTo>
                  <a:lnTo>
                    <a:pt x="1874" y="223"/>
                  </a:lnTo>
                  <a:lnTo>
                    <a:pt x="1870" y="228"/>
                  </a:lnTo>
                  <a:lnTo>
                    <a:pt x="1870" y="233"/>
                  </a:lnTo>
                  <a:lnTo>
                    <a:pt x="1860" y="238"/>
                  </a:lnTo>
                  <a:lnTo>
                    <a:pt x="1855" y="238"/>
                  </a:lnTo>
                  <a:lnTo>
                    <a:pt x="1845" y="233"/>
                  </a:lnTo>
                  <a:lnTo>
                    <a:pt x="1840" y="233"/>
                  </a:lnTo>
                  <a:lnTo>
                    <a:pt x="1830" y="228"/>
                  </a:lnTo>
                  <a:lnTo>
                    <a:pt x="1830" y="223"/>
                  </a:lnTo>
                  <a:lnTo>
                    <a:pt x="1825" y="218"/>
                  </a:lnTo>
                  <a:lnTo>
                    <a:pt x="1820" y="213"/>
                  </a:lnTo>
                  <a:lnTo>
                    <a:pt x="1810" y="208"/>
                  </a:lnTo>
                  <a:lnTo>
                    <a:pt x="1805" y="208"/>
                  </a:lnTo>
                  <a:lnTo>
                    <a:pt x="1795" y="208"/>
                  </a:lnTo>
                  <a:lnTo>
                    <a:pt x="1790" y="208"/>
                  </a:lnTo>
                  <a:lnTo>
                    <a:pt x="1780" y="213"/>
                  </a:lnTo>
                  <a:lnTo>
                    <a:pt x="1771" y="208"/>
                  </a:lnTo>
                  <a:lnTo>
                    <a:pt x="1766" y="208"/>
                  </a:lnTo>
                  <a:lnTo>
                    <a:pt x="1756" y="203"/>
                  </a:lnTo>
                  <a:lnTo>
                    <a:pt x="1751" y="198"/>
                  </a:lnTo>
                  <a:lnTo>
                    <a:pt x="1746" y="193"/>
                  </a:lnTo>
                  <a:lnTo>
                    <a:pt x="1741" y="188"/>
                  </a:lnTo>
                  <a:lnTo>
                    <a:pt x="1736" y="188"/>
                  </a:lnTo>
                  <a:lnTo>
                    <a:pt x="1731" y="183"/>
                  </a:lnTo>
                  <a:lnTo>
                    <a:pt x="1721" y="183"/>
                  </a:lnTo>
                  <a:lnTo>
                    <a:pt x="1711" y="183"/>
                  </a:lnTo>
                  <a:lnTo>
                    <a:pt x="1706" y="183"/>
                  </a:lnTo>
                  <a:lnTo>
                    <a:pt x="1696" y="183"/>
                  </a:lnTo>
                  <a:lnTo>
                    <a:pt x="1687" y="183"/>
                  </a:lnTo>
                  <a:lnTo>
                    <a:pt x="1682" y="178"/>
                  </a:lnTo>
                  <a:lnTo>
                    <a:pt x="1672" y="183"/>
                  </a:lnTo>
                  <a:lnTo>
                    <a:pt x="1667" y="183"/>
                  </a:lnTo>
                  <a:lnTo>
                    <a:pt x="1662" y="188"/>
                  </a:lnTo>
                  <a:lnTo>
                    <a:pt x="1657" y="193"/>
                  </a:lnTo>
                  <a:lnTo>
                    <a:pt x="1657" y="203"/>
                  </a:lnTo>
                  <a:lnTo>
                    <a:pt x="1657" y="208"/>
                  </a:lnTo>
                  <a:lnTo>
                    <a:pt x="1657" y="213"/>
                  </a:lnTo>
                  <a:lnTo>
                    <a:pt x="1662" y="218"/>
                  </a:lnTo>
                  <a:lnTo>
                    <a:pt x="1667" y="218"/>
                  </a:lnTo>
                  <a:lnTo>
                    <a:pt x="1672" y="223"/>
                  </a:lnTo>
                  <a:lnTo>
                    <a:pt x="1677" y="228"/>
                  </a:lnTo>
                  <a:lnTo>
                    <a:pt x="1682" y="233"/>
                  </a:lnTo>
                  <a:lnTo>
                    <a:pt x="1687" y="238"/>
                  </a:lnTo>
                  <a:lnTo>
                    <a:pt x="1691" y="243"/>
                  </a:lnTo>
                  <a:lnTo>
                    <a:pt x="1696" y="247"/>
                  </a:lnTo>
                  <a:lnTo>
                    <a:pt x="1701" y="252"/>
                  </a:lnTo>
                  <a:lnTo>
                    <a:pt x="1706" y="257"/>
                  </a:lnTo>
                  <a:lnTo>
                    <a:pt x="1706" y="262"/>
                  </a:lnTo>
                  <a:lnTo>
                    <a:pt x="1711" y="267"/>
                  </a:lnTo>
                  <a:lnTo>
                    <a:pt x="1716" y="272"/>
                  </a:lnTo>
                  <a:lnTo>
                    <a:pt x="1716" y="277"/>
                  </a:lnTo>
                  <a:lnTo>
                    <a:pt x="1721" y="282"/>
                  </a:lnTo>
                  <a:lnTo>
                    <a:pt x="1716" y="287"/>
                  </a:lnTo>
                  <a:lnTo>
                    <a:pt x="1716" y="292"/>
                  </a:lnTo>
                  <a:lnTo>
                    <a:pt x="1711" y="297"/>
                  </a:lnTo>
                  <a:lnTo>
                    <a:pt x="1706" y="302"/>
                  </a:lnTo>
                  <a:lnTo>
                    <a:pt x="1701" y="302"/>
                  </a:lnTo>
                  <a:lnTo>
                    <a:pt x="1696" y="297"/>
                  </a:lnTo>
                  <a:lnTo>
                    <a:pt x="1691" y="292"/>
                  </a:lnTo>
                  <a:lnTo>
                    <a:pt x="1682" y="287"/>
                  </a:lnTo>
                  <a:lnTo>
                    <a:pt x="1677" y="287"/>
                  </a:lnTo>
                  <a:lnTo>
                    <a:pt x="1672" y="282"/>
                  </a:lnTo>
                  <a:lnTo>
                    <a:pt x="1667" y="277"/>
                  </a:lnTo>
                  <a:lnTo>
                    <a:pt x="1662" y="272"/>
                  </a:lnTo>
                  <a:lnTo>
                    <a:pt x="1657" y="267"/>
                  </a:lnTo>
                  <a:lnTo>
                    <a:pt x="1652" y="262"/>
                  </a:lnTo>
                  <a:lnTo>
                    <a:pt x="1647" y="262"/>
                  </a:lnTo>
                  <a:lnTo>
                    <a:pt x="1642" y="257"/>
                  </a:lnTo>
                  <a:lnTo>
                    <a:pt x="1637" y="252"/>
                  </a:lnTo>
                  <a:lnTo>
                    <a:pt x="1632" y="247"/>
                  </a:lnTo>
                  <a:lnTo>
                    <a:pt x="1627" y="243"/>
                  </a:lnTo>
                  <a:lnTo>
                    <a:pt x="1622" y="238"/>
                  </a:lnTo>
                  <a:lnTo>
                    <a:pt x="1617" y="233"/>
                  </a:lnTo>
                  <a:lnTo>
                    <a:pt x="1612" y="233"/>
                  </a:lnTo>
                  <a:lnTo>
                    <a:pt x="1602" y="233"/>
                  </a:lnTo>
                  <a:lnTo>
                    <a:pt x="1593" y="238"/>
                  </a:lnTo>
                  <a:lnTo>
                    <a:pt x="1583" y="238"/>
                  </a:lnTo>
                  <a:lnTo>
                    <a:pt x="1578" y="243"/>
                  </a:lnTo>
                  <a:lnTo>
                    <a:pt x="1573" y="243"/>
                  </a:lnTo>
                  <a:lnTo>
                    <a:pt x="1568" y="247"/>
                  </a:lnTo>
                  <a:lnTo>
                    <a:pt x="1563" y="252"/>
                  </a:lnTo>
                  <a:lnTo>
                    <a:pt x="1553" y="257"/>
                  </a:lnTo>
                  <a:lnTo>
                    <a:pt x="1548" y="257"/>
                  </a:lnTo>
                  <a:lnTo>
                    <a:pt x="1538" y="262"/>
                  </a:lnTo>
                  <a:lnTo>
                    <a:pt x="1533" y="262"/>
                  </a:lnTo>
                  <a:lnTo>
                    <a:pt x="1523" y="262"/>
                  </a:lnTo>
                  <a:lnTo>
                    <a:pt x="1513" y="262"/>
                  </a:lnTo>
                  <a:lnTo>
                    <a:pt x="1508" y="267"/>
                  </a:lnTo>
                  <a:lnTo>
                    <a:pt x="1504" y="272"/>
                  </a:lnTo>
                  <a:lnTo>
                    <a:pt x="1494" y="272"/>
                  </a:lnTo>
                  <a:lnTo>
                    <a:pt x="1489" y="277"/>
                  </a:lnTo>
                  <a:lnTo>
                    <a:pt x="1484" y="282"/>
                  </a:lnTo>
                  <a:lnTo>
                    <a:pt x="1479" y="282"/>
                  </a:lnTo>
                  <a:lnTo>
                    <a:pt x="1469" y="287"/>
                  </a:lnTo>
                  <a:lnTo>
                    <a:pt x="1459" y="287"/>
                  </a:lnTo>
                  <a:lnTo>
                    <a:pt x="1454" y="292"/>
                  </a:lnTo>
                  <a:lnTo>
                    <a:pt x="1444" y="292"/>
                  </a:lnTo>
                  <a:lnTo>
                    <a:pt x="1439" y="297"/>
                  </a:lnTo>
                  <a:lnTo>
                    <a:pt x="1434" y="302"/>
                  </a:lnTo>
                  <a:lnTo>
                    <a:pt x="1429" y="302"/>
                  </a:lnTo>
                  <a:lnTo>
                    <a:pt x="1424" y="307"/>
                  </a:lnTo>
                  <a:lnTo>
                    <a:pt x="1415" y="312"/>
                  </a:lnTo>
                  <a:lnTo>
                    <a:pt x="1410" y="312"/>
                  </a:lnTo>
                  <a:lnTo>
                    <a:pt x="1400" y="312"/>
                  </a:lnTo>
                  <a:lnTo>
                    <a:pt x="1390" y="317"/>
                  </a:lnTo>
                  <a:lnTo>
                    <a:pt x="1385" y="317"/>
                  </a:lnTo>
                  <a:lnTo>
                    <a:pt x="1375" y="317"/>
                  </a:lnTo>
                  <a:lnTo>
                    <a:pt x="1370" y="322"/>
                  </a:lnTo>
                  <a:lnTo>
                    <a:pt x="1360" y="327"/>
                  </a:lnTo>
                  <a:lnTo>
                    <a:pt x="1355" y="327"/>
                  </a:lnTo>
                  <a:lnTo>
                    <a:pt x="1350" y="331"/>
                  </a:lnTo>
                  <a:lnTo>
                    <a:pt x="1340" y="331"/>
                  </a:lnTo>
                  <a:lnTo>
                    <a:pt x="1335" y="336"/>
                  </a:lnTo>
                  <a:lnTo>
                    <a:pt x="1326" y="336"/>
                  </a:lnTo>
                  <a:lnTo>
                    <a:pt x="1316" y="336"/>
                  </a:lnTo>
                  <a:lnTo>
                    <a:pt x="1311" y="336"/>
                  </a:lnTo>
                  <a:lnTo>
                    <a:pt x="1301" y="341"/>
                  </a:lnTo>
                  <a:lnTo>
                    <a:pt x="1296" y="341"/>
                  </a:lnTo>
                  <a:lnTo>
                    <a:pt x="1286" y="346"/>
                  </a:lnTo>
                  <a:lnTo>
                    <a:pt x="1281" y="351"/>
                  </a:lnTo>
                  <a:lnTo>
                    <a:pt x="1271" y="351"/>
                  </a:lnTo>
                  <a:lnTo>
                    <a:pt x="1266" y="346"/>
                  </a:lnTo>
                  <a:close/>
                  <a:moveTo>
                    <a:pt x="1083" y="267"/>
                  </a:moveTo>
                  <a:lnTo>
                    <a:pt x="1088" y="262"/>
                  </a:lnTo>
                  <a:lnTo>
                    <a:pt x="1098" y="262"/>
                  </a:lnTo>
                  <a:lnTo>
                    <a:pt x="1108" y="267"/>
                  </a:lnTo>
                  <a:lnTo>
                    <a:pt x="1113" y="267"/>
                  </a:lnTo>
                  <a:lnTo>
                    <a:pt x="1118" y="262"/>
                  </a:lnTo>
                  <a:lnTo>
                    <a:pt x="1123" y="262"/>
                  </a:lnTo>
                  <a:lnTo>
                    <a:pt x="1128" y="257"/>
                  </a:lnTo>
                  <a:lnTo>
                    <a:pt x="1133" y="252"/>
                  </a:lnTo>
                  <a:lnTo>
                    <a:pt x="1133" y="243"/>
                  </a:lnTo>
                  <a:lnTo>
                    <a:pt x="1133" y="238"/>
                  </a:lnTo>
                  <a:lnTo>
                    <a:pt x="1133" y="233"/>
                  </a:lnTo>
                  <a:lnTo>
                    <a:pt x="1128" y="228"/>
                  </a:lnTo>
                  <a:lnTo>
                    <a:pt x="1128" y="223"/>
                  </a:lnTo>
                  <a:lnTo>
                    <a:pt x="1133" y="218"/>
                  </a:lnTo>
                  <a:lnTo>
                    <a:pt x="1133" y="213"/>
                  </a:lnTo>
                  <a:lnTo>
                    <a:pt x="1138" y="208"/>
                  </a:lnTo>
                  <a:lnTo>
                    <a:pt x="1147" y="208"/>
                  </a:lnTo>
                  <a:lnTo>
                    <a:pt x="1152" y="213"/>
                  </a:lnTo>
                  <a:lnTo>
                    <a:pt x="1152" y="218"/>
                  </a:lnTo>
                  <a:lnTo>
                    <a:pt x="1157" y="223"/>
                  </a:lnTo>
                  <a:lnTo>
                    <a:pt x="1157" y="228"/>
                  </a:lnTo>
                  <a:lnTo>
                    <a:pt x="1162" y="233"/>
                  </a:lnTo>
                  <a:lnTo>
                    <a:pt x="1167" y="238"/>
                  </a:lnTo>
                  <a:lnTo>
                    <a:pt x="1177" y="238"/>
                  </a:lnTo>
                  <a:lnTo>
                    <a:pt x="1182" y="243"/>
                  </a:lnTo>
                  <a:lnTo>
                    <a:pt x="1172" y="243"/>
                  </a:lnTo>
                  <a:lnTo>
                    <a:pt x="1162" y="243"/>
                  </a:lnTo>
                  <a:lnTo>
                    <a:pt x="1157" y="247"/>
                  </a:lnTo>
                  <a:lnTo>
                    <a:pt x="1147" y="247"/>
                  </a:lnTo>
                  <a:lnTo>
                    <a:pt x="1143" y="247"/>
                  </a:lnTo>
                  <a:lnTo>
                    <a:pt x="1138" y="252"/>
                  </a:lnTo>
                  <a:lnTo>
                    <a:pt x="1133" y="257"/>
                  </a:lnTo>
                  <a:lnTo>
                    <a:pt x="1128" y="257"/>
                  </a:lnTo>
                  <a:lnTo>
                    <a:pt x="1123" y="262"/>
                  </a:lnTo>
                  <a:lnTo>
                    <a:pt x="1118" y="267"/>
                  </a:lnTo>
                  <a:lnTo>
                    <a:pt x="1113" y="272"/>
                  </a:lnTo>
                  <a:lnTo>
                    <a:pt x="1108" y="277"/>
                  </a:lnTo>
                  <a:lnTo>
                    <a:pt x="1098" y="282"/>
                  </a:lnTo>
                  <a:lnTo>
                    <a:pt x="1093" y="287"/>
                  </a:lnTo>
                  <a:lnTo>
                    <a:pt x="1088" y="287"/>
                  </a:lnTo>
                  <a:lnTo>
                    <a:pt x="1088" y="287"/>
                  </a:lnTo>
                  <a:lnTo>
                    <a:pt x="1083" y="282"/>
                  </a:lnTo>
                  <a:lnTo>
                    <a:pt x="1083" y="272"/>
                  </a:lnTo>
                  <a:lnTo>
                    <a:pt x="1083" y="267"/>
                  </a:lnTo>
                  <a:close/>
                  <a:moveTo>
                    <a:pt x="920" y="238"/>
                  </a:moveTo>
                  <a:lnTo>
                    <a:pt x="920" y="238"/>
                  </a:lnTo>
                  <a:lnTo>
                    <a:pt x="925" y="233"/>
                  </a:lnTo>
                  <a:lnTo>
                    <a:pt x="930" y="228"/>
                  </a:lnTo>
                  <a:lnTo>
                    <a:pt x="935" y="223"/>
                  </a:lnTo>
                  <a:lnTo>
                    <a:pt x="940" y="223"/>
                  </a:lnTo>
                  <a:lnTo>
                    <a:pt x="945" y="218"/>
                  </a:lnTo>
                  <a:lnTo>
                    <a:pt x="945" y="213"/>
                  </a:lnTo>
                  <a:lnTo>
                    <a:pt x="950" y="208"/>
                  </a:lnTo>
                  <a:lnTo>
                    <a:pt x="955" y="203"/>
                  </a:lnTo>
                  <a:lnTo>
                    <a:pt x="960" y="203"/>
                  </a:lnTo>
                  <a:lnTo>
                    <a:pt x="964" y="203"/>
                  </a:lnTo>
                  <a:lnTo>
                    <a:pt x="969" y="208"/>
                  </a:lnTo>
                  <a:lnTo>
                    <a:pt x="974" y="213"/>
                  </a:lnTo>
                  <a:lnTo>
                    <a:pt x="969" y="218"/>
                  </a:lnTo>
                  <a:lnTo>
                    <a:pt x="964" y="223"/>
                  </a:lnTo>
                  <a:lnTo>
                    <a:pt x="960" y="228"/>
                  </a:lnTo>
                  <a:lnTo>
                    <a:pt x="955" y="228"/>
                  </a:lnTo>
                  <a:lnTo>
                    <a:pt x="950" y="233"/>
                  </a:lnTo>
                  <a:lnTo>
                    <a:pt x="945" y="238"/>
                  </a:lnTo>
                  <a:lnTo>
                    <a:pt x="945" y="243"/>
                  </a:lnTo>
                  <a:lnTo>
                    <a:pt x="940" y="247"/>
                  </a:lnTo>
                  <a:lnTo>
                    <a:pt x="935" y="252"/>
                  </a:lnTo>
                  <a:lnTo>
                    <a:pt x="930" y="252"/>
                  </a:lnTo>
                  <a:lnTo>
                    <a:pt x="925" y="252"/>
                  </a:lnTo>
                  <a:lnTo>
                    <a:pt x="920" y="247"/>
                  </a:lnTo>
                  <a:lnTo>
                    <a:pt x="920" y="238"/>
                  </a:lnTo>
                  <a:close/>
                  <a:moveTo>
                    <a:pt x="1395" y="238"/>
                  </a:moveTo>
                  <a:lnTo>
                    <a:pt x="1390" y="238"/>
                  </a:lnTo>
                  <a:lnTo>
                    <a:pt x="1380" y="238"/>
                  </a:lnTo>
                  <a:lnTo>
                    <a:pt x="1375" y="238"/>
                  </a:lnTo>
                  <a:lnTo>
                    <a:pt x="1370" y="243"/>
                  </a:lnTo>
                  <a:lnTo>
                    <a:pt x="1370" y="243"/>
                  </a:lnTo>
                  <a:lnTo>
                    <a:pt x="1370" y="247"/>
                  </a:lnTo>
                  <a:lnTo>
                    <a:pt x="1375" y="252"/>
                  </a:lnTo>
                  <a:lnTo>
                    <a:pt x="1380" y="257"/>
                  </a:lnTo>
                  <a:lnTo>
                    <a:pt x="1385" y="262"/>
                  </a:lnTo>
                  <a:lnTo>
                    <a:pt x="1385" y="262"/>
                  </a:lnTo>
                  <a:lnTo>
                    <a:pt x="1390" y="257"/>
                  </a:lnTo>
                  <a:lnTo>
                    <a:pt x="1390" y="252"/>
                  </a:lnTo>
                  <a:lnTo>
                    <a:pt x="1395" y="247"/>
                  </a:lnTo>
                  <a:lnTo>
                    <a:pt x="1395" y="238"/>
                  </a:lnTo>
                  <a:close/>
                  <a:moveTo>
                    <a:pt x="2151" y="238"/>
                  </a:moveTo>
                  <a:lnTo>
                    <a:pt x="2156" y="238"/>
                  </a:lnTo>
                  <a:lnTo>
                    <a:pt x="2161" y="233"/>
                  </a:lnTo>
                  <a:lnTo>
                    <a:pt x="2161" y="233"/>
                  </a:lnTo>
                  <a:lnTo>
                    <a:pt x="2161" y="228"/>
                  </a:lnTo>
                  <a:lnTo>
                    <a:pt x="2166" y="223"/>
                  </a:lnTo>
                  <a:lnTo>
                    <a:pt x="2166" y="223"/>
                  </a:lnTo>
                  <a:lnTo>
                    <a:pt x="2166" y="218"/>
                  </a:lnTo>
                  <a:lnTo>
                    <a:pt x="2171" y="213"/>
                  </a:lnTo>
                  <a:lnTo>
                    <a:pt x="2171" y="208"/>
                  </a:lnTo>
                  <a:lnTo>
                    <a:pt x="2176" y="203"/>
                  </a:lnTo>
                  <a:lnTo>
                    <a:pt x="2176" y="203"/>
                  </a:lnTo>
                  <a:lnTo>
                    <a:pt x="2181" y="203"/>
                  </a:lnTo>
                  <a:lnTo>
                    <a:pt x="2186" y="203"/>
                  </a:lnTo>
                  <a:lnTo>
                    <a:pt x="2191" y="203"/>
                  </a:lnTo>
                  <a:lnTo>
                    <a:pt x="2196" y="208"/>
                  </a:lnTo>
                  <a:lnTo>
                    <a:pt x="2196" y="213"/>
                  </a:lnTo>
                  <a:lnTo>
                    <a:pt x="2201" y="218"/>
                  </a:lnTo>
                  <a:lnTo>
                    <a:pt x="2201" y="218"/>
                  </a:lnTo>
                  <a:lnTo>
                    <a:pt x="2201" y="223"/>
                  </a:lnTo>
                  <a:lnTo>
                    <a:pt x="2201" y="228"/>
                  </a:lnTo>
                  <a:lnTo>
                    <a:pt x="2201" y="233"/>
                  </a:lnTo>
                  <a:lnTo>
                    <a:pt x="2206" y="233"/>
                  </a:lnTo>
                  <a:lnTo>
                    <a:pt x="2211" y="238"/>
                  </a:lnTo>
                  <a:lnTo>
                    <a:pt x="2216" y="238"/>
                  </a:lnTo>
                  <a:lnTo>
                    <a:pt x="2216" y="243"/>
                  </a:lnTo>
                  <a:lnTo>
                    <a:pt x="2211" y="243"/>
                  </a:lnTo>
                  <a:lnTo>
                    <a:pt x="2206" y="243"/>
                  </a:lnTo>
                  <a:lnTo>
                    <a:pt x="2201" y="238"/>
                  </a:lnTo>
                  <a:lnTo>
                    <a:pt x="2196" y="238"/>
                  </a:lnTo>
                  <a:lnTo>
                    <a:pt x="2191" y="233"/>
                  </a:lnTo>
                  <a:lnTo>
                    <a:pt x="2186" y="233"/>
                  </a:lnTo>
                  <a:lnTo>
                    <a:pt x="2181" y="233"/>
                  </a:lnTo>
                  <a:lnTo>
                    <a:pt x="2176" y="233"/>
                  </a:lnTo>
                  <a:lnTo>
                    <a:pt x="2171" y="233"/>
                  </a:lnTo>
                  <a:lnTo>
                    <a:pt x="2166" y="238"/>
                  </a:lnTo>
                  <a:lnTo>
                    <a:pt x="2161" y="238"/>
                  </a:lnTo>
                  <a:lnTo>
                    <a:pt x="2156" y="243"/>
                  </a:lnTo>
                  <a:lnTo>
                    <a:pt x="2151" y="238"/>
                  </a:lnTo>
                  <a:close/>
                  <a:moveTo>
                    <a:pt x="1345" y="213"/>
                  </a:moveTo>
                  <a:lnTo>
                    <a:pt x="1340" y="208"/>
                  </a:lnTo>
                  <a:lnTo>
                    <a:pt x="1335" y="198"/>
                  </a:lnTo>
                  <a:lnTo>
                    <a:pt x="1330" y="198"/>
                  </a:lnTo>
                  <a:lnTo>
                    <a:pt x="1330" y="198"/>
                  </a:lnTo>
                  <a:lnTo>
                    <a:pt x="1326" y="198"/>
                  </a:lnTo>
                  <a:lnTo>
                    <a:pt x="1321" y="203"/>
                  </a:lnTo>
                  <a:lnTo>
                    <a:pt x="1311" y="208"/>
                  </a:lnTo>
                  <a:lnTo>
                    <a:pt x="1306" y="213"/>
                  </a:lnTo>
                  <a:lnTo>
                    <a:pt x="1296" y="213"/>
                  </a:lnTo>
                  <a:lnTo>
                    <a:pt x="1286" y="213"/>
                  </a:lnTo>
                  <a:lnTo>
                    <a:pt x="1296" y="213"/>
                  </a:lnTo>
                  <a:lnTo>
                    <a:pt x="1306" y="213"/>
                  </a:lnTo>
                  <a:lnTo>
                    <a:pt x="1311" y="218"/>
                  </a:lnTo>
                  <a:lnTo>
                    <a:pt x="1321" y="223"/>
                  </a:lnTo>
                  <a:lnTo>
                    <a:pt x="1326" y="228"/>
                  </a:lnTo>
                  <a:lnTo>
                    <a:pt x="1330" y="228"/>
                  </a:lnTo>
                  <a:lnTo>
                    <a:pt x="1330" y="228"/>
                  </a:lnTo>
                  <a:lnTo>
                    <a:pt x="1335" y="228"/>
                  </a:lnTo>
                  <a:lnTo>
                    <a:pt x="1340" y="223"/>
                  </a:lnTo>
                  <a:lnTo>
                    <a:pt x="1345" y="213"/>
                  </a:lnTo>
                  <a:close/>
                  <a:moveTo>
                    <a:pt x="989" y="188"/>
                  </a:moveTo>
                  <a:lnTo>
                    <a:pt x="994" y="178"/>
                  </a:lnTo>
                  <a:lnTo>
                    <a:pt x="999" y="173"/>
                  </a:lnTo>
                  <a:lnTo>
                    <a:pt x="1009" y="168"/>
                  </a:lnTo>
                  <a:lnTo>
                    <a:pt x="1014" y="168"/>
                  </a:lnTo>
                  <a:lnTo>
                    <a:pt x="1019" y="173"/>
                  </a:lnTo>
                  <a:lnTo>
                    <a:pt x="1024" y="183"/>
                  </a:lnTo>
                  <a:lnTo>
                    <a:pt x="1029" y="188"/>
                  </a:lnTo>
                  <a:lnTo>
                    <a:pt x="1024" y="198"/>
                  </a:lnTo>
                  <a:lnTo>
                    <a:pt x="1019" y="203"/>
                  </a:lnTo>
                  <a:lnTo>
                    <a:pt x="1009" y="208"/>
                  </a:lnTo>
                  <a:lnTo>
                    <a:pt x="1004" y="208"/>
                  </a:lnTo>
                  <a:lnTo>
                    <a:pt x="999" y="203"/>
                  </a:lnTo>
                  <a:lnTo>
                    <a:pt x="994" y="198"/>
                  </a:lnTo>
                  <a:lnTo>
                    <a:pt x="989" y="188"/>
                  </a:lnTo>
                  <a:close/>
                  <a:moveTo>
                    <a:pt x="1415" y="188"/>
                  </a:moveTo>
                  <a:lnTo>
                    <a:pt x="1410" y="183"/>
                  </a:lnTo>
                  <a:lnTo>
                    <a:pt x="1410" y="178"/>
                  </a:lnTo>
                  <a:lnTo>
                    <a:pt x="1405" y="178"/>
                  </a:lnTo>
                  <a:lnTo>
                    <a:pt x="1400" y="178"/>
                  </a:lnTo>
                  <a:lnTo>
                    <a:pt x="1395" y="178"/>
                  </a:lnTo>
                  <a:lnTo>
                    <a:pt x="1390" y="178"/>
                  </a:lnTo>
                  <a:lnTo>
                    <a:pt x="1385" y="178"/>
                  </a:lnTo>
                  <a:lnTo>
                    <a:pt x="1375" y="183"/>
                  </a:lnTo>
                  <a:lnTo>
                    <a:pt x="1370" y="183"/>
                  </a:lnTo>
                  <a:lnTo>
                    <a:pt x="1365" y="183"/>
                  </a:lnTo>
                  <a:lnTo>
                    <a:pt x="1370" y="188"/>
                  </a:lnTo>
                  <a:lnTo>
                    <a:pt x="1375" y="188"/>
                  </a:lnTo>
                  <a:lnTo>
                    <a:pt x="1380" y="188"/>
                  </a:lnTo>
                  <a:lnTo>
                    <a:pt x="1385" y="188"/>
                  </a:lnTo>
                  <a:lnTo>
                    <a:pt x="1395" y="188"/>
                  </a:lnTo>
                  <a:lnTo>
                    <a:pt x="1400" y="193"/>
                  </a:lnTo>
                  <a:lnTo>
                    <a:pt x="1405" y="193"/>
                  </a:lnTo>
                  <a:lnTo>
                    <a:pt x="1410" y="193"/>
                  </a:lnTo>
                  <a:lnTo>
                    <a:pt x="1410" y="188"/>
                  </a:lnTo>
                  <a:lnTo>
                    <a:pt x="1415" y="188"/>
                  </a:lnTo>
                  <a:close/>
                  <a:moveTo>
                    <a:pt x="1855" y="188"/>
                  </a:moveTo>
                  <a:lnTo>
                    <a:pt x="1850" y="183"/>
                  </a:lnTo>
                  <a:lnTo>
                    <a:pt x="1845" y="183"/>
                  </a:lnTo>
                  <a:lnTo>
                    <a:pt x="1840" y="183"/>
                  </a:lnTo>
                  <a:lnTo>
                    <a:pt x="1830" y="183"/>
                  </a:lnTo>
                  <a:lnTo>
                    <a:pt x="1825" y="188"/>
                  </a:lnTo>
                  <a:lnTo>
                    <a:pt x="1825" y="188"/>
                  </a:lnTo>
                  <a:lnTo>
                    <a:pt x="1825" y="193"/>
                  </a:lnTo>
                  <a:lnTo>
                    <a:pt x="1830" y="198"/>
                  </a:lnTo>
                  <a:lnTo>
                    <a:pt x="1835" y="203"/>
                  </a:lnTo>
                  <a:lnTo>
                    <a:pt x="1840" y="203"/>
                  </a:lnTo>
                  <a:lnTo>
                    <a:pt x="1845" y="198"/>
                  </a:lnTo>
                  <a:lnTo>
                    <a:pt x="1850" y="198"/>
                  </a:lnTo>
                  <a:lnTo>
                    <a:pt x="1850" y="193"/>
                  </a:lnTo>
                  <a:lnTo>
                    <a:pt x="1855" y="188"/>
                  </a:lnTo>
                  <a:close/>
                  <a:moveTo>
                    <a:pt x="1474" y="159"/>
                  </a:moveTo>
                  <a:lnTo>
                    <a:pt x="1469" y="154"/>
                  </a:lnTo>
                  <a:lnTo>
                    <a:pt x="1469" y="149"/>
                  </a:lnTo>
                  <a:lnTo>
                    <a:pt x="1464" y="149"/>
                  </a:lnTo>
                  <a:lnTo>
                    <a:pt x="1464" y="149"/>
                  </a:lnTo>
                  <a:lnTo>
                    <a:pt x="1454" y="149"/>
                  </a:lnTo>
                  <a:lnTo>
                    <a:pt x="1449" y="154"/>
                  </a:lnTo>
                  <a:lnTo>
                    <a:pt x="1444" y="154"/>
                  </a:lnTo>
                  <a:lnTo>
                    <a:pt x="1444" y="159"/>
                  </a:lnTo>
                  <a:lnTo>
                    <a:pt x="1444" y="163"/>
                  </a:lnTo>
                  <a:lnTo>
                    <a:pt x="1449" y="163"/>
                  </a:lnTo>
                  <a:lnTo>
                    <a:pt x="1459" y="163"/>
                  </a:lnTo>
                  <a:lnTo>
                    <a:pt x="1464" y="163"/>
                  </a:lnTo>
                  <a:lnTo>
                    <a:pt x="1469" y="163"/>
                  </a:lnTo>
                  <a:lnTo>
                    <a:pt x="1474" y="159"/>
                  </a:lnTo>
                  <a:close/>
                  <a:moveTo>
                    <a:pt x="1598" y="159"/>
                  </a:moveTo>
                  <a:lnTo>
                    <a:pt x="1598" y="159"/>
                  </a:lnTo>
                  <a:lnTo>
                    <a:pt x="1593" y="159"/>
                  </a:lnTo>
                  <a:lnTo>
                    <a:pt x="1593" y="159"/>
                  </a:lnTo>
                  <a:lnTo>
                    <a:pt x="1593" y="159"/>
                  </a:lnTo>
                  <a:lnTo>
                    <a:pt x="1593" y="163"/>
                  </a:lnTo>
                  <a:lnTo>
                    <a:pt x="1593" y="163"/>
                  </a:lnTo>
                  <a:lnTo>
                    <a:pt x="1593" y="163"/>
                  </a:lnTo>
                  <a:lnTo>
                    <a:pt x="1598" y="163"/>
                  </a:lnTo>
                  <a:lnTo>
                    <a:pt x="1598" y="163"/>
                  </a:lnTo>
                  <a:lnTo>
                    <a:pt x="1598" y="163"/>
                  </a:lnTo>
                  <a:lnTo>
                    <a:pt x="1598" y="163"/>
                  </a:lnTo>
                  <a:lnTo>
                    <a:pt x="1598" y="163"/>
                  </a:lnTo>
                  <a:lnTo>
                    <a:pt x="1598" y="163"/>
                  </a:lnTo>
                  <a:lnTo>
                    <a:pt x="1598" y="159"/>
                  </a:lnTo>
                  <a:close/>
                  <a:moveTo>
                    <a:pt x="1652" y="159"/>
                  </a:moveTo>
                  <a:lnTo>
                    <a:pt x="1652" y="159"/>
                  </a:lnTo>
                  <a:lnTo>
                    <a:pt x="1647" y="159"/>
                  </a:lnTo>
                  <a:lnTo>
                    <a:pt x="1647" y="159"/>
                  </a:lnTo>
                  <a:lnTo>
                    <a:pt x="1647" y="159"/>
                  </a:lnTo>
                  <a:lnTo>
                    <a:pt x="1647" y="163"/>
                  </a:lnTo>
                  <a:lnTo>
                    <a:pt x="1647" y="163"/>
                  </a:lnTo>
                  <a:lnTo>
                    <a:pt x="1647" y="163"/>
                  </a:lnTo>
                  <a:lnTo>
                    <a:pt x="1647" y="163"/>
                  </a:lnTo>
                  <a:lnTo>
                    <a:pt x="1647" y="163"/>
                  </a:lnTo>
                  <a:lnTo>
                    <a:pt x="1652" y="163"/>
                  </a:lnTo>
                  <a:lnTo>
                    <a:pt x="1652" y="163"/>
                  </a:lnTo>
                  <a:lnTo>
                    <a:pt x="1652" y="163"/>
                  </a:lnTo>
                  <a:lnTo>
                    <a:pt x="1652" y="163"/>
                  </a:lnTo>
                  <a:lnTo>
                    <a:pt x="1652" y="159"/>
                  </a:lnTo>
                  <a:close/>
                  <a:moveTo>
                    <a:pt x="1800" y="159"/>
                  </a:moveTo>
                  <a:lnTo>
                    <a:pt x="1795" y="159"/>
                  </a:lnTo>
                  <a:lnTo>
                    <a:pt x="1795" y="159"/>
                  </a:lnTo>
                  <a:lnTo>
                    <a:pt x="1790" y="159"/>
                  </a:lnTo>
                  <a:lnTo>
                    <a:pt x="1785" y="159"/>
                  </a:lnTo>
                  <a:lnTo>
                    <a:pt x="1776" y="159"/>
                  </a:lnTo>
                  <a:lnTo>
                    <a:pt x="1771" y="159"/>
                  </a:lnTo>
                  <a:lnTo>
                    <a:pt x="1771" y="159"/>
                  </a:lnTo>
                  <a:lnTo>
                    <a:pt x="1771" y="163"/>
                  </a:lnTo>
                  <a:lnTo>
                    <a:pt x="1780" y="163"/>
                  </a:lnTo>
                  <a:lnTo>
                    <a:pt x="1785" y="163"/>
                  </a:lnTo>
                  <a:lnTo>
                    <a:pt x="1790" y="163"/>
                  </a:lnTo>
                  <a:lnTo>
                    <a:pt x="1795" y="163"/>
                  </a:lnTo>
                  <a:lnTo>
                    <a:pt x="1795" y="163"/>
                  </a:lnTo>
                  <a:lnTo>
                    <a:pt x="1800" y="159"/>
                  </a:lnTo>
                  <a:close/>
                  <a:moveTo>
                    <a:pt x="1548" y="134"/>
                  </a:moveTo>
                  <a:lnTo>
                    <a:pt x="1543" y="129"/>
                  </a:lnTo>
                  <a:lnTo>
                    <a:pt x="1543" y="129"/>
                  </a:lnTo>
                  <a:lnTo>
                    <a:pt x="1538" y="124"/>
                  </a:lnTo>
                  <a:lnTo>
                    <a:pt x="1533" y="124"/>
                  </a:lnTo>
                  <a:lnTo>
                    <a:pt x="1528" y="124"/>
                  </a:lnTo>
                  <a:lnTo>
                    <a:pt x="1523" y="124"/>
                  </a:lnTo>
                  <a:lnTo>
                    <a:pt x="1518" y="124"/>
                  </a:lnTo>
                  <a:lnTo>
                    <a:pt x="1513" y="124"/>
                  </a:lnTo>
                  <a:lnTo>
                    <a:pt x="1508" y="129"/>
                  </a:lnTo>
                  <a:lnTo>
                    <a:pt x="1504" y="129"/>
                  </a:lnTo>
                  <a:lnTo>
                    <a:pt x="1504" y="134"/>
                  </a:lnTo>
                  <a:lnTo>
                    <a:pt x="1508" y="134"/>
                  </a:lnTo>
                  <a:lnTo>
                    <a:pt x="1513" y="134"/>
                  </a:lnTo>
                  <a:lnTo>
                    <a:pt x="1518" y="134"/>
                  </a:lnTo>
                  <a:lnTo>
                    <a:pt x="1523" y="139"/>
                  </a:lnTo>
                  <a:lnTo>
                    <a:pt x="1528" y="139"/>
                  </a:lnTo>
                  <a:lnTo>
                    <a:pt x="1533" y="139"/>
                  </a:lnTo>
                  <a:lnTo>
                    <a:pt x="1538" y="134"/>
                  </a:lnTo>
                  <a:lnTo>
                    <a:pt x="1543" y="134"/>
                  </a:lnTo>
                  <a:lnTo>
                    <a:pt x="1548" y="134"/>
                  </a:lnTo>
                  <a:close/>
                  <a:moveTo>
                    <a:pt x="1746" y="134"/>
                  </a:moveTo>
                  <a:lnTo>
                    <a:pt x="1741" y="134"/>
                  </a:lnTo>
                  <a:lnTo>
                    <a:pt x="1741" y="129"/>
                  </a:lnTo>
                  <a:lnTo>
                    <a:pt x="1736" y="129"/>
                  </a:lnTo>
                  <a:lnTo>
                    <a:pt x="1731" y="129"/>
                  </a:lnTo>
                  <a:lnTo>
                    <a:pt x="1721" y="129"/>
                  </a:lnTo>
                  <a:lnTo>
                    <a:pt x="1716" y="134"/>
                  </a:lnTo>
                  <a:lnTo>
                    <a:pt x="1716" y="134"/>
                  </a:lnTo>
                  <a:lnTo>
                    <a:pt x="1716" y="134"/>
                  </a:lnTo>
                  <a:lnTo>
                    <a:pt x="1721" y="134"/>
                  </a:lnTo>
                  <a:lnTo>
                    <a:pt x="1731" y="134"/>
                  </a:lnTo>
                  <a:lnTo>
                    <a:pt x="1736" y="134"/>
                  </a:lnTo>
                  <a:lnTo>
                    <a:pt x="1741" y="134"/>
                  </a:lnTo>
                  <a:lnTo>
                    <a:pt x="1741" y="134"/>
                  </a:lnTo>
                  <a:lnTo>
                    <a:pt x="1746" y="134"/>
                  </a:lnTo>
                  <a:close/>
                  <a:moveTo>
                    <a:pt x="1607" y="104"/>
                  </a:moveTo>
                  <a:lnTo>
                    <a:pt x="1602" y="104"/>
                  </a:lnTo>
                  <a:lnTo>
                    <a:pt x="1602" y="99"/>
                  </a:lnTo>
                  <a:lnTo>
                    <a:pt x="1598" y="99"/>
                  </a:lnTo>
                  <a:lnTo>
                    <a:pt x="1598" y="94"/>
                  </a:lnTo>
                  <a:lnTo>
                    <a:pt x="1593" y="94"/>
                  </a:lnTo>
                  <a:lnTo>
                    <a:pt x="1588" y="99"/>
                  </a:lnTo>
                  <a:lnTo>
                    <a:pt x="1588" y="99"/>
                  </a:lnTo>
                  <a:lnTo>
                    <a:pt x="1583" y="104"/>
                  </a:lnTo>
                  <a:lnTo>
                    <a:pt x="1578" y="104"/>
                  </a:lnTo>
                  <a:lnTo>
                    <a:pt x="1573" y="104"/>
                  </a:lnTo>
                  <a:lnTo>
                    <a:pt x="1568" y="104"/>
                  </a:lnTo>
                  <a:lnTo>
                    <a:pt x="1573" y="109"/>
                  </a:lnTo>
                  <a:lnTo>
                    <a:pt x="1578" y="109"/>
                  </a:lnTo>
                  <a:lnTo>
                    <a:pt x="1583" y="109"/>
                  </a:lnTo>
                  <a:lnTo>
                    <a:pt x="1588" y="109"/>
                  </a:lnTo>
                  <a:lnTo>
                    <a:pt x="1588" y="109"/>
                  </a:lnTo>
                  <a:lnTo>
                    <a:pt x="1593" y="109"/>
                  </a:lnTo>
                  <a:lnTo>
                    <a:pt x="1598" y="109"/>
                  </a:lnTo>
                  <a:lnTo>
                    <a:pt x="1602" y="109"/>
                  </a:lnTo>
                  <a:lnTo>
                    <a:pt x="1607" y="104"/>
                  </a:lnTo>
                  <a:close/>
                  <a:moveTo>
                    <a:pt x="1691" y="104"/>
                  </a:moveTo>
                  <a:lnTo>
                    <a:pt x="1687" y="104"/>
                  </a:lnTo>
                  <a:lnTo>
                    <a:pt x="1682" y="104"/>
                  </a:lnTo>
                  <a:lnTo>
                    <a:pt x="1677" y="104"/>
                  </a:lnTo>
                  <a:lnTo>
                    <a:pt x="1672" y="104"/>
                  </a:lnTo>
                  <a:lnTo>
                    <a:pt x="1667" y="104"/>
                  </a:lnTo>
                  <a:lnTo>
                    <a:pt x="1662" y="104"/>
                  </a:lnTo>
                  <a:lnTo>
                    <a:pt x="1657" y="104"/>
                  </a:lnTo>
                  <a:lnTo>
                    <a:pt x="1662" y="109"/>
                  </a:lnTo>
                  <a:lnTo>
                    <a:pt x="1667" y="109"/>
                  </a:lnTo>
                  <a:lnTo>
                    <a:pt x="1672" y="109"/>
                  </a:lnTo>
                  <a:lnTo>
                    <a:pt x="1677" y="109"/>
                  </a:lnTo>
                  <a:lnTo>
                    <a:pt x="1682" y="109"/>
                  </a:lnTo>
                  <a:lnTo>
                    <a:pt x="1687" y="109"/>
                  </a:lnTo>
                  <a:lnTo>
                    <a:pt x="1691" y="104"/>
                  </a:lnTo>
                  <a:close/>
                </a:path>
              </a:pathLst>
            </a:custGeom>
            <a:solidFill>
              <a:srgbClr val="ffe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2" name=""/>
            <p:cNvSpPr/>
            <p:nvPr/>
          </p:nvSpPr>
          <p:spPr>
            <a:xfrm>
              <a:off x="2265120" y="2368440"/>
              <a:ext cx="4098960" cy="2628360"/>
            </a:xfrm>
            <a:custGeom>
              <a:avLst/>
              <a:gdLst/>
              <a:ahLst/>
              <a:rect l="l" t="t" r="r" b="b"/>
              <a:pathLst>
                <a:path w="2582" h="1656">
                  <a:moveTo>
                    <a:pt x="2235" y="1656"/>
                  </a:moveTo>
                  <a:lnTo>
                    <a:pt x="2260" y="1631"/>
                  </a:lnTo>
                  <a:lnTo>
                    <a:pt x="2285" y="1631"/>
                  </a:lnTo>
                  <a:lnTo>
                    <a:pt x="2315" y="1631"/>
                  </a:lnTo>
                  <a:lnTo>
                    <a:pt x="2339" y="1631"/>
                  </a:lnTo>
                  <a:lnTo>
                    <a:pt x="2369" y="1631"/>
                  </a:lnTo>
                  <a:lnTo>
                    <a:pt x="2394" y="1631"/>
                  </a:lnTo>
                  <a:lnTo>
                    <a:pt x="2418" y="1631"/>
                  </a:lnTo>
                  <a:lnTo>
                    <a:pt x="2448" y="1602"/>
                  </a:lnTo>
                  <a:lnTo>
                    <a:pt x="2448" y="1577"/>
                  </a:lnTo>
                  <a:lnTo>
                    <a:pt x="2448" y="1547"/>
                  </a:lnTo>
                  <a:lnTo>
                    <a:pt x="2448" y="1523"/>
                  </a:lnTo>
                  <a:lnTo>
                    <a:pt x="2473" y="1498"/>
                  </a:lnTo>
                  <a:lnTo>
                    <a:pt x="2473" y="1468"/>
                  </a:lnTo>
                  <a:lnTo>
                    <a:pt x="2473" y="1444"/>
                  </a:lnTo>
                  <a:lnTo>
                    <a:pt x="2473" y="1414"/>
                  </a:lnTo>
                  <a:lnTo>
                    <a:pt x="2503" y="1389"/>
                  </a:lnTo>
                  <a:lnTo>
                    <a:pt x="2503" y="1364"/>
                  </a:lnTo>
                  <a:lnTo>
                    <a:pt x="2503" y="1335"/>
                  </a:lnTo>
                  <a:lnTo>
                    <a:pt x="2503" y="1310"/>
                  </a:lnTo>
                  <a:lnTo>
                    <a:pt x="2527" y="1280"/>
                  </a:lnTo>
                  <a:lnTo>
                    <a:pt x="2527" y="1256"/>
                  </a:lnTo>
                  <a:lnTo>
                    <a:pt x="2527" y="1226"/>
                  </a:lnTo>
                  <a:lnTo>
                    <a:pt x="2527" y="1201"/>
                  </a:lnTo>
                  <a:lnTo>
                    <a:pt x="2552" y="1177"/>
                  </a:lnTo>
                  <a:lnTo>
                    <a:pt x="2552" y="1147"/>
                  </a:lnTo>
                  <a:lnTo>
                    <a:pt x="2552" y="1122"/>
                  </a:lnTo>
                  <a:lnTo>
                    <a:pt x="2552" y="1093"/>
                  </a:lnTo>
                  <a:lnTo>
                    <a:pt x="2582" y="1068"/>
                  </a:lnTo>
                  <a:lnTo>
                    <a:pt x="2582" y="1043"/>
                  </a:lnTo>
                  <a:lnTo>
                    <a:pt x="2582" y="1014"/>
                  </a:lnTo>
                  <a:lnTo>
                    <a:pt x="2582" y="989"/>
                  </a:lnTo>
                  <a:lnTo>
                    <a:pt x="2582" y="959"/>
                  </a:lnTo>
                  <a:lnTo>
                    <a:pt x="2582" y="934"/>
                  </a:lnTo>
                  <a:lnTo>
                    <a:pt x="2582" y="910"/>
                  </a:lnTo>
                  <a:lnTo>
                    <a:pt x="2582" y="880"/>
                  </a:lnTo>
                  <a:lnTo>
                    <a:pt x="2582" y="855"/>
                  </a:lnTo>
                  <a:lnTo>
                    <a:pt x="2582" y="826"/>
                  </a:lnTo>
                  <a:lnTo>
                    <a:pt x="2582" y="801"/>
                  </a:lnTo>
                  <a:lnTo>
                    <a:pt x="2582" y="776"/>
                  </a:lnTo>
                  <a:lnTo>
                    <a:pt x="2582" y="747"/>
                  </a:lnTo>
                  <a:lnTo>
                    <a:pt x="2582" y="722"/>
                  </a:lnTo>
                  <a:lnTo>
                    <a:pt x="2582" y="692"/>
                  </a:lnTo>
                  <a:lnTo>
                    <a:pt x="2582" y="668"/>
                  </a:lnTo>
                  <a:lnTo>
                    <a:pt x="2582" y="643"/>
                  </a:lnTo>
                  <a:lnTo>
                    <a:pt x="2582" y="613"/>
                  </a:lnTo>
                  <a:lnTo>
                    <a:pt x="2582" y="589"/>
                  </a:lnTo>
                  <a:lnTo>
                    <a:pt x="2582" y="559"/>
                  </a:lnTo>
                  <a:lnTo>
                    <a:pt x="2582" y="534"/>
                  </a:lnTo>
                  <a:lnTo>
                    <a:pt x="2582" y="504"/>
                  </a:lnTo>
                  <a:lnTo>
                    <a:pt x="2582" y="480"/>
                  </a:lnTo>
                  <a:lnTo>
                    <a:pt x="2582" y="455"/>
                  </a:lnTo>
                  <a:lnTo>
                    <a:pt x="2582" y="425"/>
                  </a:lnTo>
                  <a:lnTo>
                    <a:pt x="2582" y="401"/>
                  </a:lnTo>
                  <a:lnTo>
                    <a:pt x="2582" y="371"/>
                  </a:lnTo>
                  <a:lnTo>
                    <a:pt x="2582" y="346"/>
                  </a:lnTo>
                  <a:lnTo>
                    <a:pt x="2582" y="322"/>
                  </a:lnTo>
                  <a:lnTo>
                    <a:pt x="2582" y="292"/>
                  </a:lnTo>
                  <a:lnTo>
                    <a:pt x="2582" y="267"/>
                  </a:lnTo>
                  <a:lnTo>
                    <a:pt x="2582" y="238"/>
                  </a:lnTo>
                  <a:lnTo>
                    <a:pt x="2552" y="213"/>
                  </a:lnTo>
                  <a:lnTo>
                    <a:pt x="2552" y="188"/>
                  </a:lnTo>
                  <a:lnTo>
                    <a:pt x="2552" y="159"/>
                  </a:lnTo>
                  <a:lnTo>
                    <a:pt x="2552" y="134"/>
                  </a:lnTo>
                  <a:lnTo>
                    <a:pt x="2552" y="104"/>
                  </a:lnTo>
                  <a:lnTo>
                    <a:pt x="2527" y="79"/>
                  </a:lnTo>
                  <a:lnTo>
                    <a:pt x="2503" y="79"/>
                  </a:lnTo>
                  <a:lnTo>
                    <a:pt x="2473" y="79"/>
                  </a:lnTo>
                  <a:lnTo>
                    <a:pt x="2448" y="55"/>
                  </a:lnTo>
                  <a:lnTo>
                    <a:pt x="2418" y="55"/>
                  </a:lnTo>
                  <a:lnTo>
                    <a:pt x="2394" y="55"/>
                  </a:lnTo>
                  <a:lnTo>
                    <a:pt x="2369" y="25"/>
                  </a:lnTo>
                  <a:lnTo>
                    <a:pt x="2339" y="25"/>
                  </a:lnTo>
                  <a:lnTo>
                    <a:pt x="2315" y="25"/>
                  </a:lnTo>
                  <a:lnTo>
                    <a:pt x="2285" y="0"/>
                  </a:lnTo>
                  <a:lnTo>
                    <a:pt x="2260" y="0"/>
                  </a:lnTo>
                  <a:lnTo>
                    <a:pt x="2235" y="0"/>
                  </a:lnTo>
                  <a:lnTo>
                    <a:pt x="2206" y="0"/>
                  </a:lnTo>
                  <a:lnTo>
                    <a:pt x="2181" y="0"/>
                  </a:lnTo>
                  <a:lnTo>
                    <a:pt x="2156" y="0"/>
                  </a:lnTo>
                  <a:lnTo>
                    <a:pt x="2127" y="0"/>
                  </a:lnTo>
                  <a:lnTo>
                    <a:pt x="2102" y="0"/>
                  </a:lnTo>
                  <a:lnTo>
                    <a:pt x="2072" y="0"/>
                  </a:lnTo>
                  <a:lnTo>
                    <a:pt x="2048" y="0"/>
                  </a:lnTo>
                  <a:lnTo>
                    <a:pt x="2023" y="0"/>
                  </a:lnTo>
                  <a:lnTo>
                    <a:pt x="1993" y="0"/>
                  </a:lnTo>
                  <a:lnTo>
                    <a:pt x="1968" y="0"/>
                  </a:lnTo>
                  <a:lnTo>
                    <a:pt x="1944" y="0"/>
                  </a:lnTo>
                  <a:lnTo>
                    <a:pt x="1914" y="0"/>
                  </a:lnTo>
                  <a:lnTo>
                    <a:pt x="1889" y="0"/>
                  </a:lnTo>
                  <a:lnTo>
                    <a:pt x="1860" y="0"/>
                  </a:lnTo>
                  <a:lnTo>
                    <a:pt x="1835" y="0"/>
                  </a:lnTo>
                  <a:lnTo>
                    <a:pt x="1810" y="0"/>
                  </a:lnTo>
                  <a:lnTo>
                    <a:pt x="1780" y="0"/>
                  </a:lnTo>
                  <a:lnTo>
                    <a:pt x="1756" y="0"/>
                  </a:lnTo>
                  <a:lnTo>
                    <a:pt x="1726" y="0"/>
                  </a:lnTo>
                  <a:lnTo>
                    <a:pt x="1701" y="0"/>
                  </a:lnTo>
                  <a:lnTo>
                    <a:pt x="1677" y="0"/>
                  </a:lnTo>
                  <a:lnTo>
                    <a:pt x="1647" y="0"/>
                  </a:lnTo>
                  <a:lnTo>
                    <a:pt x="1622" y="0"/>
                  </a:lnTo>
                  <a:lnTo>
                    <a:pt x="1598" y="0"/>
                  </a:lnTo>
                  <a:lnTo>
                    <a:pt x="1568" y="0"/>
                  </a:lnTo>
                  <a:lnTo>
                    <a:pt x="1543" y="0"/>
                  </a:lnTo>
                  <a:lnTo>
                    <a:pt x="1513" y="0"/>
                  </a:lnTo>
                  <a:lnTo>
                    <a:pt x="1489" y="0"/>
                  </a:lnTo>
                  <a:lnTo>
                    <a:pt x="1464" y="0"/>
                  </a:lnTo>
                  <a:lnTo>
                    <a:pt x="1434" y="0"/>
                  </a:lnTo>
                  <a:lnTo>
                    <a:pt x="1410" y="0"/>
                  </a:lnTo>
                  <a:lnTo>
                    <a:pt x="1385" y="0"/>
                  </a:lnTo>
                  <a:lnTo>
                    <a:pt x="1355" y="0"/>
                  </a:lnTo>
                  <a:lnTo>
                    <a:pt x="1330" y="0"/>
                  </a:lnTo>
                  <a:lnTo>
                    <a:pt x="1301" y="0"/>
                  </a:lnTo>
                  <a:lnTo>
                    <a:pt x="1276" y="0"/>
                  </a:lnTo>
                  <a:lnTo>
                    <a:pt x="1251" y="0"/>
                  </a:lnTo>
                  <a:lnTo>
                    <a:pt x="1222" y="0"/>
                  </a:lnTo>
                  <a:lnTo>
                    <a:pt x="1197" y="0"/>
                  </a:lnTo>
                  <a:lnTo>
                    <a:pt x="1172" y="0"/>
                  </a:lnTo>
                  <a:lnTo>
                    <a:pt x="1143" y="0"/>
                  </a:lnTo>
                  <a:lnTo>
                    <a:pt x="1118" y="0"/>
                  </a:lnTo>
                  <a:lnTo>
                    <a:pt x="1088" y="0"/>
                  </a:lnTo>
                  <a:lnTo>
                    <a:pt x="1063" y="0"/>
                  </a:lnTo>
                  <a:lnTo>
                    <a:pt x="1039" y="0"/>
                  </a:lnTo>
                  <a:lnTo>
                    <a:pt x="1009" y="0"/>
                  </a:lnTo>
                  <a:lnTo>
                    <a:pt x="984" y="0"/>
                  </a:lnTo>
                  <a:lnTo>
                    <a:pt x="955" y="0"/>
                  </a:lnTo>
                  <a:lnTo>
                    <a:pt x="930" y="0"/>
                  </a:lnTo>
                  <a:lnTo>
                    <a:pt x="905" y="0"/>
                  </a:lnTo>
                  <a:lnTo>
                    <a:pt x="875" y="0"/>
                  </a:lnTo>
                  <a:lnTo>
                    <a:pt x="851" y="0"/>
                  </a:lnTo>
                  <a:lnTo>
                    <a:pt x="826" y="0"/>
                  </a:lnTo>
                  <a:lnTo>
                    <a:pt x="796" y="0"/>
                  </a:lnTo>
                  <a:lnTo>
                    <a:pt x="772" y="0"/>
                  </a:lnTo>
                  <a:lnTo>
                    <a:pt x="742" y="0"/>
                  </a:lnTo>
                  <a:lnTo>
                    <a:pt x="717" y="0"/>
                  </a:lnTo>
                  <a:lnTo>
                    <a:pt x="692" y="0"/>
                  </a:lnTo>
                  <a:lnTo>
                    <a:pt x="663" y="0"/>
                  </a:lnTo>
                  <a:lnTo>
                    <a:pt x="638" y="0"/>
                  </a:lnTo>
                  <a:lnTo>
                    <a:pt x="613" y="0"/>
                  </a:lnTo>
                  <a:lnTo>
                    <a:pt x="584" y="25"/>
                  </a:lnTo>
                  <a:lnTo>
                    <a:pt x="559" y="55"/>
                  </a:lnTo>
                  <a:lnTo>
                    <a:pt x="529" y="79"/>
                  </a:lnTo>
                  <a:lnTo>
                    <a:pt x="505" y="104"/>
                  </a:lnTo>
                  <a:lnTo>
                    <a:pt x="480" y="134"/>
                  </a:lnTo>
                  <a:lnTo>
                    <a:pt x="450" y="134"/>
                  </a:lnTo>
                  <a:lnTo>
                    <a:pt x="425" y="159"/>
                  </a:lnTo>
                  <a:lnTo>
                    <a:pt x="396" y="188"/>
                  </a:lnTo>
                  <a:lnTo>
                    <a:pt x="371" y="213"/>
                  </a:lnTo>
                  <a:lnTo>
                    <a:pt x="346" y="238"/>
                  </a:lnTo>
                  <a:lnTo>
                    <a:pt x="317" y="267"/>
                  </a:lnTo>
                  <a:lnTo>
                    <a:pt x="292" y="292"/>
                  </a:lnTo>
                  <a:lnTo>
                    <a:pt x="267" y="322"/>
                  </a:lnTo>
                  <a:lnTo>
                    <a:pt x="237" y="322"/>
                  </a:lnTo>
                  <a:lnTo>
                    <a:pt x="213" y="346"/>
                  </a:lnTo>
                  <a:lnTo>
                    <a:pt x="183" y="371"/>
                  </a:lnTo>
                  <a:lnTo>
                    <a:pt x="158" y="401"/>
                  </a:lnTo>
                  <a:lnTo>
                    <a:pt x="134" y="425"/>
                  </a:lnTo>
                  <a:lnTo>
                    <a:pt x="104" y="455"/>
                  </a:lnTo>
                  <a:lnTo>
                    <a:pt x="79" y="480"/>
                  </a:lnTo>
                  <a:lnTo>
                    <a:pt x="55" y="504"/>
                  </a:lnTo>
                  <a:lnTo>
                    <a:pt x="25" y="504"/>
                  </a:lnTo>
                  <a:lnTo>
                    <a:pt x="0" y="534"/>
                  </a:lnTo>
                  <a:lnTo>
                    <a:pt x="0" y="559"/>
                  </a:lnTo>
                  <a:lnTo>
                    <a:pt x="0" y="589"/>
                  </a:lnTo>
                  <a:lnTo>
                    <a:pt x="0" y="613"/>
                  </a:lnTo>
                  <a:lnTo>
                    <a:pt x="25" y="643"/>
                  </a:lnTo>
                  <a:lnTo>
                    <a:pt x="25" y="668"/>
                  </a:lnTo>
                  <a:lnTo>
                    <a:pt x="55" y="692"/>
                  </a:lnTo>
                  <a:lnTo>
                    <a:pt x="79" y="722"/>
                  </a:lnTo>
                  <a:lnTo>
                    <a:pt x="104" y="747"/>
                  </a:lnTo>
                  <a:lnTo>
                    <a:pt x="134" y="776"/>
                  </a:lnTo>
                  <a:lnTo>
                    <a:pt x="134" y="801"/>
                  </a:lnTo>
                  <a:lnTo>
                    <a:pt x="158" y="826"/>
                  </a:lnTo>
                  <a:lnTo>
                    <a:pt x="183" y="855"/>
                  </a:lnTo>
                  <a:lnTo>
                    <a:pt x="213" y="880"/>
                  </a:lnTo>
                  <a:lnTo>
                    <a:pt x="237" y="910"/>
                  </a:lnTo>
                  <a:lnTo>
                    <a:pt x="267" y="934"/>
                  </a:lnTo>
                  <a:lnTo>
                    <a:pt x="292" y="959"/>
                  </a:lnTo>
                  <a:lnTo>
                    <a:pt x="292" y="989"/>
                  </a:lnTo>
                  <a:lnTo>
                    <a:pt x="317" y="1014"/>
                  </a:lnTo>
                  <a:lnTo>
                    <a:pt x="346" y="1043"/>
                  </a:lnTo>
                  <a:lnTo>
                    <a:pt x="371" y="1068"/>
                  </a:lnTo>
                  <a:lnTo>
                    <a:pt x="396" y="1093"/>
                  </a:lnTo>
                  <a:lnTo>
                    <a:pt x="425" y="1122"/>
                  </a:lnTo>
                  <a:lnTo>
                    <a:pt x="450" y="1147"/>
                  </a:lnTo>
                  <a:lnTo>
                    <a:pt x="480" y="1177"/>
                  </a:lnTo>
                  <a:lnTo>
                    <a:pt x="505" y="1201"/>
                  </a:lnTo>
                  <a:lnTo>
                    <a:pt x="529" y="1226"/>
                  </a:lnTo>
                  <a:lnTo>
                    <a:pt x="559" y="1256"/>
                  </a:lnTo>
                  <a:lnTo>
                    <a:pt x="584" y="1280"/>
                  </a:lnTo>
                  <a:lnTo>
                    <a:pt x="613" y="1310"/>
                  </a:lnTo>
                  <a:lnTo>
                    <a:pt x="638" y="1335"/>
                  </a:lnTo>
                  <a:lnTo>
                    <a:pt x="663" y="1364"/>
                  </a:lnTo>
                  <a:lnTo>
                    <a:pt x="692" y="1389"/>
                  </a:lnTo>
                  <a:lnTo>
                    <a:pt x="717" y="1414"/>
                  </a:lnTo>
                  <a:lnTo>
                    <a:pt x="742" y="1444"/>
                  </a:lnTo>
                  <a:lnTo>
                    <a:pt x="772" y="1468"/>
                  </a:lnTo>
                  <a:lnTo>
                    <a:pt x="796" y="1468"/>
                  </a:lnTo>
                  <a:lnTo>
                    <a:pt x="826" y="1498"/>
                  </a:lnTo>
                  <a:lnTo>
                    <a:pt x="851" y="1523"/>
                  </a:lnTo>
                  <a:lnTo>
                    <a:pt x="875" y="1547"/>
                  </a:lnTo>
                  <a:lnTo>
                    <a:pt x="905" y="1577"/>
                  </a:lnTo>
                  <a:lnTo>
                    <a:pt x="930" y="1602"/>
                  </a:lnTo>
                  <a:lnTo>
                    <a:pt x="955" y="1631"/>
                  </a:lnTo>
                  <a:lnTo>
                    <a:pt x="984" y="1656"/>
                  </a:lnTo>
                  <a:lnTo>
                    <a:pt x="1009" y="1656"/>
                  </a:lnTo>
                  <a:lnTo>
                    <a:pt x="1039" y="1656"/>
                  </a:lnTo>
                  <a:lnTo>
                    <a:pt x="1063" y="1656"/>
                  </a:lnTo>
                  <a:lnTo>
                    <a:pt x="1088" y="1656"/>
                  </a:lnTo>
                  <a:lnTo>
                    <a:pt x="1118" y="1656"/>
                  </a:lnTo>
                  <a:lnTo>
                    <a:pt x="1143" y="1656"/>
                  </a:lnTo>
                  <a:lnTo>
                    <a:pt x="1172" y="1656"/>
                  </a:lnTo>
                  <a:lnTo>
                    <a:pt x="1197" y="1656"/>
                  </a:lnTo>
                  <a:lnTo>
                    <a:pt x="1222" y="1656"/>
                  </a:lnTo>
                  <a:lnTo>
                    <a:pt x="1251" y="1656"/>
                  </a:lnTo>
                  <a:lnTo>
                    <a:pt x="1276" y="1656"/>
                  </a:lnTo>
                  <a:lnTo>
                    <a:pt x="1301" y="1656"/>
                  </a:lnTo>
                  <a:lnTo>
                    <a:pt x="1330" y="1656"/>
                  </a:lnTo>
                  <a:lnTo>
                    <a:pt x="1355" y="1656"/>
                  </a:lnTo>
                  <a:lnTo>
                    <a:pt x="1385" y="1656"/>
                  </a:lnTo>
                  <a:lnTo>
                    <a:pt x="1410" y="1656"/>
                  </a:lnTo>
                  <a:lnTo>
                    <a:pt x="1434" y="1656"/>
                  </a:lnTo>
                  <a:lnTo>
                    <a:pt x="1464" y="1656"/>
                  </a:lnTo>
                  <a:lnTo>
                    <a:pt x="1489" y="1656"/>
                  </a:lnTo>
                  <a:lnTo>
                    <a:pt x="1513" y="1656"/>
                  </a:lnTo>
                  <a:lnTo>
                    <a:pt x="1543" y="1656"/>
                  </a:lnTo>
                  <a:lnTo>
                    <a:pt x="1568" y="1656"/>
                  </a:lnTo>
                  <a:lnTo>
                    <a:pt x="1598" y="1656"/>
                  </a:lnTo>
                  <a:lnTo>
                    <a:pt x="1622" y="1656"/>
                  </a:lnTo>
                  <a:lnTo>
                    <a:pt x="1647" y="1656"/>
                  </a:lnTo>
                  <a:lnTo>
                    <a:pt x="1677" y="1656"/>
                  </a:lnTo>
                  <a:lnTo>
                    <a:pt x="1701" y="1656"/>
                  </a:lnTo>
                  <a:lnTo>
                    <a:pt x="1726" y="1656"/>
                  </a:lnTo>
                  <a:lnTo>
                    <a:pt x="1756" y="1656"/>
                  </a:lnTo>
                  <a:lnTo>
                    <a:pt x="1780" y="1656"/>
                  </a:lnTo>
                  <a:lnTo>
                    <a:pt x="1810" y="1656"/>
                  </a:lnTo>
                  <a:lnTo>
                    <a:pt x="1835" y="1656"/>
                  </a:lnTo>
                  <a:lnTo>
                    <a:pt x="1860" y="1656"/>
                  </a:lnTo>
                  <a:lnTo>
                    <a:pt x="1889" y="1656"/>
                  </a:lnTo>
                  <a:lnTo>
                    <a:pt x="1914" y="1656"/>
                  </a:lnTo>
                  <a:lnTo>
                    <a:pt x="1944" y="1656"/>
                  </a:lnTo>
                  <a:lnTo>
                    <a:pt x="1968" y="1656"/>
                  </a:lnTo>
                  <a:lnTo>
                    <a:pt x="1993" y="1656"/>
                  </a:lnTo>
                  <a:lnTo>
                    <a:pt x="2023" y="1656"/>
                  </a:lnTo>
                  <a:lnTo>
                    <a:pt x="2048" y="1656"/>
                  </a:lnTo>
                  <a:lnTo>
                    <a:pt x="2072" y="1656"/>
                  </a:lnTo>
                  <a:lnTo>
                    <a:pt x="2102" y="1656"/>
                  </a:lnTo>
                  <a:lnTo>
                    <a:pt x="2127" y="1656"/>
                  </a:lnTo>
                  <a:lnTo>
                    <a:pt x="2156" y="1656"/>
                  </a:lnTo>
                  <a:lnTo>
                    <a:pt x="2181" y="1656"/>
                  </a:lnTo>
                  <a:lnTo>
                    <a:pt x="2206" y="1656"/>
                  </a:lnTo>
                  <a:lnTo>
                    <a:pt x="2235" y="1656"/>
                  </a:lnTo>
                  <a:close/>
                  <a:moveTo>
                    <a:pt x="1118" y="504"/>
                  </a:moveTo>
                  <a:lnTo>
                    <a:pt x="1118" y="504"/>
                  </a:lnTo>
                  <a:lnTo>
                    <a:pt x="1118" y="504"/>
                  </a:lnTo>
                  <a:lnTo>
                    <a:pt x="1118" y="504"/>
                  </a:lnTo>
                  <a:lnTo>
                    <a:pt x="1118" y="509"/>
                  </a:lnTo>
                  <a:lnTo>
                    <a:pt x="1118" y="509"/>
                  </a:lnTo>
                  <a:lnTo>
                    <a:pt x="1118" y="509"/>
                  </a:lnTo>
                  <a:lnTo>
                    <a:pt x="1118" y="509"/>
                  </a:lnTo>
                  <a:lnTo>
                    <a:pt x="1118" y="509"/>
                  </a:lnTo>
                  <a:lnTo>
                    <a:pt x="1118" y="509"/>
                  </a:lnTo>
                  <a:lnTo>
                    <a:pt x="1118" y="509"/>
                  </a:lnTo>
                  <a:lnTo>
                    <a:pt x="1118" y="509"/>
                  </a:lnTo>
                  <a:lnTo>
                    <a:pt x="1118" y="509"/>
                  </a:lnTo>
                  <a:lnTo>
                    <a:pt x="1118" y="509"/>
                  </a:lnTo>
                  <a:lnTo>
                    <a:pt x="1118" y="504"/>
                  </a:lnTo>
                  <a:close/>
                  <a:moveTo>
                    <a:pt x="1266" y="346"/>
                  </a:moveTo>
                  <a:lnTo>
                    <a:pt x="1261" y="341"/>
                  </a:lnTo>
                  <a:lnTo>
                    <a:pt x="1261" y="336"/>
                  </a:lnTo>
                  <a:lnTo>
                    <a:pt x="1261" y="331"/>
                  </a:lnTo>
                  <a:lnTo>
                    <a:pt x="1261" y="327"/>
                  </a:lnTo>
                  <a:lnTo>
                    <a:pt x="1261" y="322"/>
                  </a:lnTo>
                  <a:lnTo>
                    <a:pt x="1261" y="317"/>
                  </a:lnTo>
                  <a:lnTo>
                    <a:pt x="1266" y="307"/>
                  </a:lnTo>
                  <a:lnTo>
                    <a:pt x="1271" y="302"/>
                  </a:lnTo>
                  <a:lnTo>
                    <a:pt x="1276" y="302"/>
                  </a:lnTo>
                  <a:lnTo>
                    <a:pt x="1281" y="297"/>
                  </a:lnTo>
                  <a:lnTo>
                    <a:pt x="1291" y="297"/>
                  </a:lnTo>
                  <a:lnTo>
                    <a:pt x="1296" y="292"/>
                  </a:lnTo>
                  <a:lnTo>
                    <a:pt x="1306" y="292"/>
                  </a:lnTo>
                  <a:lnTo>
                    <a:pt x="1311" y="292"/>
                  </a:lnTo>
                  <a:lnTo>
                    <a:pt x="1321" y="297"/>
                  </a:lnTo>
                  <a:lnTo>
                    <a:pt x="1326" y="297"/>
                  </a:lnTo>
                  <a:lnTo>
                    <a:pt x="1330" y="292"/>
                  </a:lnTo>
                  <a:lnTo>
                    <a:pt x="1335" y="287"/>
                  </a:lnTo>
                  <a:lnTo>
                    <a:pt x="1335" y="282"/>
                  </a:lnTo>
                  <a:lnTo>
                    <a:pt x="1335" y="277"/>
                  </a:lnTo>
                  <a:lnTo>
                    <a:pt x="1335" y="272"/>
                  </a:lnTo>
                  <a:lnTo>
                    <a:pt x="1330" y="267"/>
                  </a:lnTo>
                  <a:lnTo>
                    <a:pt x="1326" y="262"/>
                  </a:lnTo>
                  <a:lnTo>
                    <a:pt x="1316" y="262"/>
                  </a:lnTo>
                  <a:lnTo>
                    <a:pt x="1306" y="262"/>
                  </a:lnTo>
                  <a:lnTo>
                    <a:pt x="1301" y="257"/>
                  </a:lnTo>
                  <a:lnTo>
                    <a:pt x="1291" y="257"/>
                  </a:lnTo>
                  <a:lnTo>
                    <a:pt x="1286" y="252"/>
                  </a:lnTo>
                  <a:lnTo>
                    <a:pt x="1281" y="247"/>
                  </a:lnTo>
                  <a:lnTo>
                    <a:pt x="1281" y="243"/>
                  </a:lnTo>
                  <a:lnTo>
                    <a:pt x="1281" y="233"/>
                  </a:lnTo>
                  <a:lnTo>
                    <a:pt x="1281" y="228"/>
                  </a:lnTo>
                  <a:lnTo>
                    <a:pt x="1276" y="223"/>
                  </a:lnTo>
                  <a:lnTo>
                    <a:pt x="1276" y="223"/>
                  </a:lnTo>
                  <a:lnTo>
                    <a:pt x="1266" y="223"/>
                  </a:lnTo>
                  <a:lnTo>
                    <a:pt x="1261" y="223"/>
                  </a:lnTo>
                  <a:lnTo>
                    <a:pt x="1251" y="223"/>
                  </a:lnTo>
                  <a:lnTo>
                    <a:pt x="1241" y="228"/>
                  </a:lnTo>
                  <a:lnTo>
                    <a:pt x="1232" y="228"/>
                  </a:lnTo>
                  <a:lnTo>
                    <a:pt x="1227" y="228"/>
                  </a:lnTo>
                  <a:lnTo>
                    <a:pt x="1217" y="228"/>
                  </a:lnTo>
                  <a:lnTo>
                    <a:pt x="1212" y="223"/>
                  </a:lnTo>
                  <a:lnTo>
                    <a:pt x="1207" y="218"/>
                  </a:lnTo>
                  <a:lnTo>
                    <a:pt x="1202" y="213"/>
                  </a:lnTo>
                  <a:lnTo>
                    <a:pt x="1197" y="213"/>
                  </a:lnTo>
                  <a:lnTo>
                    <a:pt x="1187" y="208"/>
                  </a:lnTo>
                  <a:lnTo>
                    <a:pt x="1182" y="203"/>
                  </a:lnTo>
                  <a:lnTo>
                    <a:pt x="1182" y="198"/>
                  </a:lnTo>
                  <a:lnTo>
                    <a:pt x="1182" y="193"/>
                  </a:lnTo>
                  <a:lnTo>
                    <a:pt x="1182" y="188"/>
                  </a:lnTo>
                  <a:lnTo>
                    <a:pt x="1182" y="183"/>
                  </a:lnTo>
                  <a:lnTo>
                    <a:pt x="1187" y="178"/>
                  </a:lnTo>
                  <a:lnTo>
                    <a:pt x="1197" y="173"/>
                  </a:lnTo>
                  <a:lnTo>
                    <a:pt x="1202" y="168"/>
                  </a:lnTo>
                  <a:lnTo>
                    <a:pt x="1212" y="168"/>
                  </a:lnTo>
                  <a:lnTo>
                    <a:pt x="1217" y="163"/>
                  </a:lnTo>
                  <a:lnTo>
                    <a:pt x="1227" y="163"/>
                  </a:lnTo>
                  <a:lnTo>
                    <a:pt x="1232" y="168"/>
                  </a:lnTo>
                  <a:lnTo>
                    <a:pt x="1236" y="173"/>
                  </a:lnTo>
                  <a:lnTo>
                    <a:pt x="1241" y="178"/>
                  </a:lnTo>
                  <a:lnTo>
                    <a:pt x="1246" y="183"/>
                  </a:lnTo>
                  <a:lnTo>
                    <a:pt x="1246" y="188"/>
                  </a:lnTo>
                  <a:lnTo>
                    <a:pt x="1246" y="198"/>
                  </a:lnTo>
                  <a:lnTo>
                    <a:pt x="1246" y="203"/>
                  </a:lnTo>
                  <a:lnTo>
                    <a:pt x="1251" y="203"/>
                  </a:lnTo>
                  <a:lnTo>
                    <a:pt x="1256" y="198"/>
                  </a:lnTo>
                  <a:lnTo>
                    <a:pt x="1261" y="193"/>
                  </a:lnTo>
                  <a:lnTo>
                    <a:pt x="1266" y="183"/>
                  </a:lnTo>
                  <a:lnTo>
                    <a:pt x="1266" y="178"/>
                  </a:lnTo>
                  <a:lnTo>
                    <a:pt x="1261" y="173"/>
                  </a:lnTo>
                  <a:lnTo>
                    <a:pt x="1261" y="168"/>
                  </a:lnTo>
                  <a:lnTo>
                    <a:pt x="1261" y="163"/>
                  </a:lnTo>
                  <a:lnTo>
                    <a:pt x="1261" y="159"/>
                  </a:lnTo>
                  <a:lnTo>
                    <a:pt x="1266" y="154"/>
                  </a:lnTo>
                  <a:lnTo>
                    <a:pt x="1271" y="154"/>
                  </a:lnTo>
                  <a:lnTo>
                    <a:pt x="1281" y="149"/>
                  </a:lnTo>
                  <a:lnTo>
                    <a:pt x="1286" y="144"/>
                  </a:lnTo>
                  <a:lnTo>
                    <a:pt x="1291" y="139"/>
                  </a:lnTo>
                  <a:lnTo>
                    <a:pt x="1301" y="134"/>
                  </a:lnTo>
                  <a:lnTo>
                    <a:pt x="1306" y="134"/>
                  </a:lnTo>
                  <a:lnTo>
                    <a:pt x="1311" y="139"/>
                  </a:lnTo>
                  <a:lnTo>
                    <a:pt x="1321" y="144"/>
                  </a:lnTo>
                  <a:lnTo>
                    <a:pt x="1326" y="149"/>
                  </a:lnTo>
                  <a:lnTo>
                    <a:pt x="1330" y="154"/>
                  </a:lnTo>
                  <a:lnTo>
                    <a:pt x="1330" y="149"/>
                  </a:lnTo>
                  <a:lnTo>
                    <a:pt x="1330" y="144"/>
                  </a:lnTo>
                  <a:lnTo>
                    <a:pt x="1330" y="139"/>
                  </a:lnTo>
                  <a:lnTo>
                    <a:pt x="1335" y="134"/>
                  </a:lnTo>
                  <a:lnTo>
                    <a:pt x="1340" y="129"/>
                  </a:lnTo>
                  <a:lnTo>
                    <a:pt x="1350" y="129"/>
                  </a:lnTo>
                  <a:lnTo>
                    <a:pt x="1360" y="124"/>
                  </a:lnTo>
                  <a:lnTo>
                    <a:pt x="1365" y="124"/>
                  </a:lnTo>
                  <a:lnTo>
                    <a:pt x="1370" y="119"/>
                  </a:lnTo>
                  <a:lnTo>
                    <a:pt x="1375" y="114"/>
                  </a:lnTo>
                  <a:lnTo>
                    <a:pt x="1380" y="109"/>
                  </a:lnTo>
                  <a:lnTo>
                    <a:pt x="1390" y="109"/>
                  </a:lnTo>
                  <a:lnTo>
                    <a:pt x="1395" y="109"/>
                  </a:lnTo>
                  <a:lnTo>
                    <a:pt x="1405" y="104"/>
                  </a:lnTo>
                  <a:lnTo>
                    <a:pt x="1410" y="99"/>
                  </a:lnTo>
                  <a:lnTo>
                    <a:pt x="1415" y="99"/>
                  </a:lnTo>
                  <a:lnTo>
                    <a:pt x="1424" y="99"/>
                  </a:lnTo>
                  <a:lnTo>
                    <a:pt x="1434" y="99"/>
                  </a:lnTo>
                  <a:lnTo>
                    <a:pt x="1439" y="99"/>
                  </a:lnTo>
                  <a:lnTo>
                    <a:pt x="1444" y="94"/>
                  </a:lnTo>
                  <a:lnTo>
                    <a:pt x="1454" y="89"/>
                  </a:lnTo>
                  <a:lnTo>
                    <a:pt x="1459" y="84"/>
                  </a:lnTo>
                  <a:lnTo>
                    <a:pt x="1464" y="84"/>
                  </a:lnTo>
                  <a:lnTo>
                    <a:pt x="1474" y="79"/>
                  </a:lnTo>
                  <a:lnTo>
                    <a:pt x="1484" y="79"/>
                  </a:lnTo>
                  <a:lnTo>
                    <a:pt x="1489" y="79"/>
                  </a:lnTo>
                  <a:lnTo>
                    <a:pt x="1494" y="74"/>
                  </a:lnTo>
                  <a:lnTo>
                    <a:pt x="1499" y="74"/>
                  </a:lnTo>
                  <a:lnTo>
                    <a:pt x="1508" y="70"/>
                  </a:lnTo>
                  <a:lnTo>
                    <a:pt x="1518" y="70"/>
                  </a:lnTo>
                  <a:lnTo>
                    <a:pt x="1523" y="65"/>
                  </a:lnTo>
                  <a:lnTo>
                    <a:pt x="1528" y="60"/>
                  </a:lnTo>
                  <a:lnTo>
                    <a:pt x="1538" y="60"/>
                  </a:lnTo>
                  <a:lnTo>
                    <a:pt x="1543" y="55"/>
                  </a:lnTo>
                  <a:lnTo>
                    <a:pt x="1553" y="55"/>
                  </a:lnTo>
                  <a:lnTo>
                    <a:pt x="1558" y="55"/>
                  </a:lnTo>
                  <a:lnTo>
                    <a:pt x="1568" y="55"/>
                  </a:lnTo>
                  <a:lnTo>
                    <a:pt x="1578" y="55"/>
                  </a:lnTo>
                  <a:lnTo>
                    <a:pt x="1583" y="50"/>
                  </a:lnTo>
                  <a:lnTo>
                    <a:pt x="1588" y="45"/>
                  </a:lnTo>
                  <a:lnTo>
                    <a:pt x="1593" y="40"/>
                  </a:lnTo>
                  <a:lnTo>
                    <a:pt x="1598" y="35"/>
                  </a:lnTo>
                  <a:lnTo>
                    <a:pt x="1607" y="35"/>
                  </a:lnTo>
                  <a:lnTo>
                    <a:pt x="1612" y="30"/>
                  </a:lnTo>
                  <a:lnTo>
                    <a:pt x="1622" y="30"/>
                  </a:lnTo>
                  <a:lnTo>
                    <a:pt x="1632" y="30"/>
                  </a:lnTo>
                  <a:lnTo>
                    <a:pt x="1637" y="30"/>
                  </a:lnTo>
                  <a:lnTo>
                    <a:pt x="1647" y="30"/>
                  </a:lnTo>
                  <a:lnTo>
                    <a:pt x="1657" y="30"/>
                  </a:lnTo>
                  <a:lnTo>
                    <a:pt x="1662" y="30"/>
                  </a:lnTo>
                  <a:lnTo>
                    <a:pt x="1672" y="30"/>
                  </a:lnTo>
                  <a:lnTo>
                    <a:pt x="1677" y="30"/>
                  </a:lnTo>
                  <a:lnTo>
                    <a:pt x="1687" y="35"/>
                  </a:lnTo>
                  <a:lnTo>
                    <a:pt x="1691" y="35"/>
                  </a:lnTo>
                  <a:lnTo>
                    <a:pt x="1701" y="40"/>
                  </a:lnTo>
                  <a:lnTo>
                    <a:pt x="1706" y="45"/>
                  </a:lnTo>
                  <a:lnTo>
                    <a:pt x="1711" y="50"/>
                  </a:lnTo>
                  <a:lnTo>
                    <a:pt x="1716" y="55"/>
                  </a:lnTo>
                  <a:lnTo>
                    <a:pt x="1726" y="55"/>
                  </a:lnTo>
                  <a:lnTo>
                    <a:pt x="1736" y="55"/>
                  </a:lnTo>
                  <a:lnTo>
                    <a:pt x="1741" y="55"/>
                  </a:lnTo>
                  <a:lnTo>
                    <a:pt x="1751" y="55"/>
                  </a:lnTo>
                  <a:lnTo>
                    <a:pt x="1761" y="55"/>
                  </a:lnTo>
                  <a:lnTo>
                    <a:pt x="1766" y="55"/>
                  </a:lnTo>
                  <a:lnTo>
                    <a:pt x="1776" y="55"/>
                  </a:lnTo>
                  <a:lnTo>
                    <a:pt x="1780" y="60"/>
                  </a:lnTo>
                  <a:lnTo>
                    <a:pt x="1790" y="60"/>
                  </a:lnTo>
                  <a:lnTo>
                    <a:pt x="1795" y="65"/>
                  </a:lnTo>
                  <a:lnTo>
                    <a:pt x="1800" y="70"/>
                  </a:lnTo>
                  <a:lnTo>
                    <a:pt x="1805" y="74"/>
                  </a:lnTo>
                  <a:lnTo>
                    <a:pt x="1810" y="79"/>
                  </a:lnTo>
                  <a:lnTo>
                    <a:pt x="1820" y="79"/>
                  </a:lnTo>
                  <a:lnTo>
                    <a:pt x="1825" y="79"/>
                  </a:lnTo>
                  <a:lnTo>
                    <a:pt x="1835" y="84"/>
                  </a:lnTo>
                  <a:lnTo>
                    <a:pt x="1845" y="84"/>
                  </a:lnTo>
                  <a:lnTo>
                    <a:pt x="1850" y="84"/>
                  </a:lnTo>
                  <a:lnTo>
                    <a:pt x="1860" y="84"/>
                  </a:lnTo>
                  <a:lnTo>
                    <a:pt x="1870" y="84"/>
                  </a:lnTo>
                  <a:lnTo>
                    <a:pt x="1874" y="84"/>
                  </a:lnTo>
                  <a:lnTo>
                    <a:pt x="1884" y="84"/>
                  </a:lnTo>
                  <a:lnTo>
                    <a:pt x="1894" y="84"/>
                  </a:lnTo>
                  <a:lnTo>
                    <a:pt x="1899" y="89"/>
                  </a:lnTo>
                  <a:lnTo>
                    <a:pt x="1904" y="94"/>
                  </a:lnTo>
                  <a:lnTo>
                    <a:pt x="1909" y="99"/>
                  </a:lnTo>
                  <a:lnTo>
                    <a:pt x="1909" y="104"/>
                  </a:lnTo>
                  <a:lnTo>
                    <a:pt x="1919" y="109"/>
                  </a:lnTo>
                  <a:lnTo>
                    <a:pt x="1924" y="109"/>
                  </a:lnTo>
                  <a:lnTo>
                    <a:pt x="1934" y="109"/>
                  </a:lnTo>
                  <a:lnTo>
                    <a:pt x="1944" y="109"/>
                  </a:lnTo>
                  <a:lnTo>
                    <a:pt x="1949" y="109"/>
                  </a:lnTo>
                  <a:lnTo>
                    <a:pt x="1959" y="109"/>
                  </a:lnTo>
                  <a:lnTo>
                    <a:pt x="1968" y="114"/>
                  </a:lnTo>
                  <a:lnTo>
                    <a:pt x="1973" y="109"/>
                  </a:lnTo>
                  <a:lnTo>
                    <a:pt x="1983" y="109"/>
                  </a:lnTo>
                  <a:lnTo>
                    <a:pt x="1993" y="114"/>
                  </a:lnTo>
                  <a:lnTo>
                    <a:pt x="1998" y="114"/>
                  </a:lnTo>
                  <a:lnTo>
                    <a:pt x="2003" y="119"/>
                  </a:lnTo>
                  <a:lnTo>
                    <a:pt x="2008" y="124"/>
                  </a:lnTo>
                  <a:lnTo>
                    <a:pt x="2013" y="129"/>
                  </a:lnTo>
                  <a:lnTo>
                    <a:pt x="2018" y="134"/>
                  </a:lnTo>
                  <a:lnTo>
                    <a:pt x="2023" y="139"/>
                  </a:lnTo>
                  <a:lnTo>
                    <a:pt x="2028" y="139"/>
                  </a:lnTo>
                  <a:lnTo>
                    <a:pt x="2038" y="144"/>
                  </a:lnTo>
                  <a:lnTo>
                    <a:pt x="2043" y="144"/>
                  </a:lnTo>
                  <a:lnTo>
                    <a:pt x="2052" y="144"/>
                  </a:lnTo>
                  <a:lnTo>
                    <a:pt x="2062" y="144"/>
                  </a:lnTo>
                  <a:lnTo>
                    <a:pt x="2067" y="144"/>
                  </a:lnTo>
                  <a:lnTo>
                    <a:pt x="2077" y="144"/>
                  </a:lnTo>
                  <a:lnTo>
                    <a:pt x="2087" y="144"/>
                  </a:lnTo>
                  <a:lnTo>
                    <a:pt x="2097" y="144"/>
                  </a:lnTo>
                  <a:lnTo>
                    <a:pt x="2102" y="149"/>
                  </a:lnTo>
                  <a:lnTo>
                    <a:pt x="2107" y="154"/>
                  </a:lnTo>
                  <a:lnTo>
                    <a:pt x="2112" y="159"/>
                  </a:lnTo>
                  <a:lnTo>
                    <a:pt x="2117" y="163"/>
                  </a:lnTo>
                  <a:lnTo>
                    <a:pt x="2122" y="168"/>
                  </a:lnTo>
                  <a:lnTo>
                    <a:pt x="2122" y="173"/>
                  </a:lnTo>
                  <a:lnTo>
                    <a:pt x="2127" y="178"/>
                  </a:lnTo>
                  <a:lnTo>
                    <a:pt x="2127" y="183"/>
                  </a:lnTo>
                  <a:lnTo>
                    <a:pt x="2127" y="188"/>
                  </a:lnTo>
                  <a:lnTo>
                    <a:pt x="2127" y="193"/>
                  </a:lnTo>
                  <a:lnTo>
                    <a:pt x="2122" y="198"/>
                  </a:lnTo>
                  <a:lnTo>
                    <a:pt x="2117" y="203"/>
                  </a:lnTo>
                  <a:lnTo>
                    <a:pt x="2117" y="208"/>
                  </a:lnTo>
                  <a:lnTo>
                    <a:pt x="2112" y="213"/>
                  </a:lnTo>
                  <a:lnTo>
                    <a:pt x="2107" y="218"/>
                  </a:lnTo>
                  <a:lnTo>
                    <a:pt x="2107" y="223"/>
                  </a:lnTo>
                  <a:lnTo>
                    <a:pt x="2102" y="228"/>
                  </a:lnTo>
                  <a:lnTo>
                    <a:pt x="2097" y="233"/>
                  </a:lnTo>
                  <a:lnTo>
                    <a:pt x="2097" y="238"/>
                  </a:lnTo>
                  <a:lnTo>
                    <a:pt x="2092" y="243"/>
                  </a:lnTo>
                  <a:lnTo>
                    <a:pt x="2087" y="247"/>
                  </a:lnTo>
                  <a:lnTo>
                    <a:pt x="2087" y="252"/>
                  </a:lnTo>
                  <a:lnTo>
                    <a:pt x="2082" y="257"/>
                  </a:lnTo>
                  <a:lnTo>
                    <a:pt x="2077" y="262"/>
                  </a:lnTo>
                  <a:lnTo>
                    <a:pt x="2077" y="267"/>
                  </a:lnTo>
                  <a:lnTo>
                    <a:pt x="2072" y="272"/>
                  </a:lnTo>
                  <a:lnTo>
                    <a:pt x="2067" y="272"/>
                  </a:lnTo>
                  <a:lnTo>
                    <a:pt x="2057" y="277"/>
                  </a:lnTo>
                  <a:lnTo>
                    <a:pt x="2048" y="277"/>
                  </a:lnTo>
                  <a:lnTo>
                    <a:pt x="2043" y="282"/>
                  </a:lnTo>
                  <a:lnTo>
                    <a:pt x="2033" y="282"/>
                  </a:lnTo>
                  <a:lnTo>
                    <a:pt x="2023" y="282"/>
                  </a:lnTo>
                  <a:lnTo>
                    <a:pt x="2018" y="282"/>
                  </a:lnTo>
                  <a:lnTo>
                    <a:pt x="2013" y="277"/>
                  </a:lnTo>
                  <a:lnTo>
                    <a:pt x="2008" y="272"/>
                  </a:lnTo>
                  <a:lnTo>
                    <a:pt x="2003" y="267"/>
                  </a:lnTo>
                  <a:lnTo>
                    <a:pt x="1998" y="262"/>
                  </a:lnTo>
                  <a:lnTo>
                    <a:pt x="1988" y="262"/>
                  </a:lnTo>
                  <a:lnTo>
                    <a:pt x="1978" y="262"/>
                  </a:lnTo>
                  <a:lnTo>
                    <a:pt x="1973" y="262"/>
                  </a:lnTo>
                  <a:lnTo>
                    <a:pt x="1963" y="257"/>
                  </a:lnTo>
                  <a:lnTo>
                    <a:pt x="1959" y="257"/>
                  </a:lnTo>
                  <a:lnTo>
                    <a:pt x="1954" y="252"/>
                  </a:lnTo>
                  <a:lnTo>
                    <a:pt x="1954" y="247"/>
                  </a:lnTo>
                  <a:lnTo>
                    <a:pt x="1949" y="238"/>
                  </a:lnTo>
                  <a:lnTo>
                    <a:pt x="1944" y="238"/>
                  </a:lnTo>
                  <a:lnTo>
                    <a:pt x="1934" y="238"/>
                  </a:lnTo>
                  <a:lnTo>
                    <a:pt x="1929" y="243"/>
                  </a:lnTo>
                  <a:lnTo>
                    <a:pt x="1924" y="252"/>
                  </a:lnTo>
                  <a:lnTo>
                    <a:pt x="1919" y="257"/>
                  </a:lnTo>
                  <a:lnTo>
                    <a:pt x="1914" y="257"/>
                  </a:lnTo>
                  <a:lnTo>
                    <a:pt x="1909" y="257"/>
                  </a:lnTo>
                  <a:lnTo>
                    <a:pt x="1904" y="252"/>
                  </a:lnTo>
                  <a:lnTo>
                    <a:pt x="1899" y="247"/>
                  </a:lnTo>
                  <a:lnTo>
                    <a:pt x="1894" y="243"/>
                  </a:lnTo>
                  <a:lnTo>
                    <a:pt x="1894" y="238"/>
                  </a:lnTo>
                  <a:lnTo>
                    <a:pt x="1899" y="233"/>
                  </a:lnTo>
                  <a:lnTo>
                    <a:pt x="1899" y="223"/>
                  </a:lnTo>
                  <a:lnTo>
                    <a:pt x="1904" y="218"/>
                  </a:lnTo>
                  <a:lnTo>
                    <a:pt x="1904" y="218"/>
                  </a:lnTo>
                  <a:lnTo>
                    <a:pt x="1899" y="213"/>
                  </a:lnTo>
                  <a:lnTo>
                    <a:pt x="1889" y="208"/>
                  </a:lnTo>
                  <a:lnTo>
                    <a:pt x="1884" y="213"/>
                  </a:lnTo>
                  <a:lnTo>
                    <a:pt x="1879" y="218"/>
                  </a:lnTo>
                  <a:lnTo>
                    <a:pt x="1874" y="223"/>
                  </a:lnTo>
                  <a:lnTo>
                    <a:pt x="1870" y="228"/>
                  </a:lnTo>
                  <a:lnTo>
                    <a:pt x="1870" y="233"/>
                  </a:lnTo>
                  <a:lnTo>
                    <a:pt x="1860" y="238"/>
                  </a:lnTo>
                  <a:lnTo>
                    <a:pt x="1855" y="238"/>
                  </a:lnTo>
                  <a:lnTo>
                    <a:pt x="1845" y="233"/>
                  </a:lnTo>
                  <a:lnTo>
                    <a:pt x="1840" y="233"/>
                  </a:lnTo>
                  <a:lnTo>
                    <a:pt x="1830" y="228"/>
                  </a:lnTo>
                  <a:lnTo>
                    <a:pt x="1830" y="223"/>
                  </a:lnTo>
                  <a:lnTo>
                    <a:pt x="1825" y="218"/>
                  </a:lnTo>
                  <a:lnTo>
                    <a:pt x="1820" y="213"/>
                  </a:lnTo>
                  <a:lnTo>
                    <a:pt x="1810" y="208"/>
                  </a:lnTo>
                  <a:lnTo>
                    <a:pt x="1805" y="208"/>
                  </a:lnTo>
                  <a:lnTo>
                    <a:pt x="1795" y="208"/>
                  </a:lnTo>
                  <a:lnTo>
                    <a:pt x="1790" y="208"/>
                  </a:lnTo>
                  <a:lnTo>
                    <a:pt x="1780" y="213"/>
                  </a:lnTo>
                  <a:lnTo>
                    <a:pt x="1771" y="208"/>
                  </a:lnTo>
                  <a:lnTo>
                    <a:pt x="1766" y="208"/>
                  </a:lnTo>
                  <a:lnTo>
                    <a:pt x="1756" y="203"/>
                  </a:lnTo>
                  <a:lnTo>
                    <a:pt x="1751" y="198"/>
                  </a:lnTo>
                  <a:lnTo>
                    <a:pt x="1746" y="193"/>
                  </a:lnTo>
                  <a:lnTo>
                    <a:pt x="1741" y="188"/>
                  </a:lnTo>
                  <a:lnTo>
                    <a:pt x="1736" y="188"/>
                  </a:lnTo>
                  <a:lnTo>
                    <a:pt x="1731" y="183"/>
                  </a:lnTo>
                  <a:lnTo>
                    <a:pt x="1721" y="183"/>
                  </a:lnTo>
                  <a:lnTo>
                    <a:pt x="1711" y="183"/>
                  </a:lnTo>
                  <a:lnTo>
                    <a:pt x="1706" y="183"/>
                  </a:lnTo>
                  <a:lnTo>
                    <a:pt x="1696" y="183"/>
                  </a:lnTo>
                  <a:lnTo>
                    <a:pt x="1687" y="183"/>
                  </a:lnTo>
                  <a:lnTo>
                    <a:pt x="1682" y="178"/>
                  </a:lnTo>
                  <a:lnTo>
                    <a:pt x="1672" y="183"/>
                  </a:lnTo>
                  <a:lnTo>
                    <a:pt x="1667" y="183"/>
                  </a:lnTo>
                  <a:lnTo>
                    <a:pt x="1662" y="188"/>
                  </a:lnTo>
                  <a:lnTo>
                    <a:pt x="1657" y="193"/>
                  </a:lnTo>
                  <a:lnTo>
                    <a:pt x="1657" y="203"/>
                  </a:lnTo>
                  <a:lnTo>
                    <a:pt x="1657" y="208"/>
                  </a:lnTo>
                  <a:lnTo>
                    <a:pt x="1657" y="213"/>
                  </a:lnTo>
                  <a:lnTo>
                    <a:pt x="1662" y="218"/>
                  </a:lnTo>
                  <a:lnTo>
                    <a:pt x="1667" y="218"/>
                  </a:lnTo>
                  <a:lnTo>
                    <a:pt x="1672" y="223"/>
                  </a:lnTo>
                  <a:lnTo>
                    <a:pt x="1677" y="228"/>
                  </a:lnTo>
                  <a:lnTo>
                    <a:pt x="1682" y="233"/>
                  </a:lnTo>
                  <a:lnTo>
                    <a:pt x="1687" y="238"/>
                  </a:lnTo>
                  <a:lnTo>
                    <a:pt x="1691" y="243"/>
                  </a:lnTo>
                  <a:lnTo>
                    <a:pt x="1696" y="247"/>
                  </a:lnTo>
                  <a:lnTo>
                    <a:pt x="1701" y="252"/>
                  </a:lnTo>
                  <a:lnTo>
                    <a:pt x="1706" y="257"/>
                  </a:lnTo>
                  <a:lnTo>
                    <a:pt x="1706" y="262"/>
                  </a:lnTo>
                  <a:lnTo>
                    <a:pt x="1711" y="267"/>
                  </a:lnTo>
                  <a:lnTo>
                    <a:pt x="1716" y="272"/>
                  </a:lnTo>
                  <a:lnTo>
                    <a:pt x="1716" y="277"/>
                  </a:lnTo>
                  <a:lnTo>
                    <a:pt x="1721" y="282"/>
                  </a:lnTo>
                  <a:lnTo>
                    <a:pt x="1716" y="287"/>
                  </a:lnTo>
                  <a:lnTo>
                    <a:pt x="1716" y="292"/>
                  </a:lnTo>
                  <a:lnTo>
                    <a:pt x="1711" y="297"/>
                  </a:lnTo>
                  <a:lnTo>
                    <a:pt x="1706" y="302"/>
                  </a:lnTo>
                  <a:lnTo>
                    <a:pt x="1701" y="302"/>
                  </a:lnTo>
                  <a:lnTo>
                    <a:pt x="1696" y="297"/>
                  </a:lnTo>
                  <a:lnTo>
                    <a:pt x="1691" y="292"/>
                  </a:lnTo>
                  <a:lnTo>
                    <a:pt x="1682" y="287"/>
                  </a:lnTo>
                  <a:lnTo>
                    <a:pt x="1677" y="287"/>
                  </a:lnTo>
                  <a:lnTo>
                    <a:pt x="1672" y="282"/>
                  </a:lnTo>
                  <a:lnTo>
                    <a:pt x="1667" y="277"/>
                  </a:lnTo>
                  <a:lnTo>
                    <a:pt x="1662" y="272"/>
                  </a:lnTo>
                  <a:lnTo>
                    <a:pt x="1657" y="267"/>
                  </a:lnTo>
                  <a:lnTo>
                    <a:pt x="1652" y="262"/>
                  </a:lnTo>
                  <a:lnTo>
                    <a:pt x="1647" y="262"/>
                  </a:lnTo>
                  <a:lnTo>
                    <a:pt x="1642" y="257"/>
                  </a:lnTo>
                  <a:lnTo>
                    <a:pt x="1637" y="252"/>
                  </a:lnTo>
                  <a:lnTo>
                    <a:pt x="1632" y="247"/>
                  </a:lnTo>
                  <a:lnTo>
                    <a:pt x="1627" y="243"/>
                  </a:lnTo>
                  <a:lnTo>
                    <a:pt x="1622" y="238"/>
                  </a:lnTo>
                  <a:lnTo>
                    <a:pt x="1617" y="233"/>
                  </a:lnTo>
                  <a:lnTo>
                    <a:pt x="1612" y="233"/>
                  </a:lnTo>
                  <a:lnTo>
                    <a:pt x="1602" y="233"/>
                  </a:lnTo>
                  <a:lnTo>
                    <a:pt x="1593" y="238"/>
                  </a:lnTo>
                  <a:lnTo>
                    <a:pt x="1583" y="238"/>
                  </a:lnTo>
                  <a:lnTo>
                    <a:pt x="1578" y="243"/>
                  </a:lnTo>
                  <a:lnTo>
                    <a:pt x="1573" y="243"/>
                  </a:lnTo>
                  <a:lnTo>
                    <a:pt x="1568" y="247"/>
                  </a:lnTo>
                  <a:lnTo>
                    <a:pt x="1563" y="252"/>
                  </a:lnTo>
                  <a:lnTo>
                    <a:pt x="1553" y="257"/>
                  </a:lnTo>
                  <a:lnTo>
                    <a:pt x="1548" y="257"/>
                  </a:lnTo>
                  <a:lnTo>
                    <a:pt x="1538" y="262"/>
                  </a:lnTo>
                  <a:lnTo>
                    <a:pt x="1533" y="262"/>
                  </a:lnTo>
                  <a:lnTo>
                    <a:pt x="1523" y="262"/>
                  </a:lnTo>
                  <a:lnTo>
                    <a:pt x="1513" y="262"/>
                  </a:lnTo>
                  <a:lnTo>
                    <a:pt x="1508" y="267"/>
                  </a:lnTo>
                  <a:lnTo>
                    <a:pt x="1504" y="272"/>
                  </a:lnTo>
                  <a:lnTo>
                    <a:pt x="1494" y="272"/>
                  </a:lnTo>
                  <a:lnTo>
                    <a:pt x="1489" y="277"/>
                  </a:lnTo>
                  <a:lnTo>
                    <a:pt x="1484" y="282"/>
                  </a:lnTo>
                  <a:lnTo>
                    <a:pt x="1479" y="282"/>
                  </a:lnTo>
                  <a:lnTo>
                    <a:pt x="1469" y="287"/>
                  </a:lnTo>
                  <a:lnTo>
                    <a:pt x="1459" y="287"/>
                  </a:lnTo>
                  <a:lnTo>
                    <a:pt x="1454" y="292"/>
                  </a:lnTo>
                  <a:lnTo>
                    <a:pt x="1444" y="292"/>
                  </a:lnTo>
                  <a:lnTo>
                    <a:pt x="1439" y="297"/>
                  </a:lnTo>
                  <a:lnTo>
                    <a:pt x="1434" y="302"/>
                  </a:lnTo>
                  <a:lnTo>
                    <a:pt x="1429" y="302"/>
                  </a:lnTo>
                  <a:lnTo>
                    <a:pt x="1424" y="307"/>
                  </a:lnTo>
                  <a:lnTo>
                    <a:pt x="1415" y="312"/>
                  </a:lnTo>
                  <a:lnTo>
                    <a:pt x="1410" y="312"/>
                  </a:lnTo>
                  <a:lnTo>
                    <a:pt x="1400" y="312"/>
                  </a:lnTo>
                  <a:lnTo>
                    <a:pt x="1390" y="317"/>
                  </a:lnTo>
                  <a:lnTo>
                    <a:pt x="1385" y="317"/>
                  </a:lnTo>
                  <a:lnTo>
                    <a:pt x="1375" y="317"/>
                  </a:lnTo>
                  <a:lnTo>
                    <a:pt x="1370" y="322"/>
                  </a:lnTo>
                  <a:lnTo>
                    <a:pt x="1360" y="327"/>
                  </a:lnTo>
                  <a:lnTo>
                    <a:pt x="1355" y="327"/>
                  </a:lnTo>
                  <a:lnTo>
                    <a:pt x="1350" y="331"/>
                  </a:lnTo>
                  <a:lnTo>
                    <a:pt x="1340" y="331"/>
                  </a:lnTo>
                  <a:lnTo>
                    <a:pt x="1335" y="336"/>
                  </a:lnTo>
                  <a:lnTo>
                    <a:pt x="1326" y="336"/>
                  </a:lnTo>
                  <a:lnTo>
                    <a:pt x="1316" y="336"/>
                  </a:lnTo>
                  <a:lnTo>
                    <a:pt x="1311" y="336"/>
                  </a:lnTo>
                  <a:lnTo>
                    <a:pt x="1301" y="341"/>
                  </a:lnTo>
                  <a:lnTo>
                    <a:pt x="1296" y="341"/>
                  </a:lnTo>
                  <a:lnTo>
                    <a:pt x="1286" y="346"/>
                  </a:lnTo>
                  <a:lnTo>
                    <a:pt x="1281" y="351"/>
                  </a:lnTo>
                  <a:lnTo>
                    <a:pt x="1271" y="351"/>
                  </a:lnTo>
                  <a:lnTo>
                    <a:pt x="1266" y="346"/>
                  </a:lnTo>
                  <a:close/>
                  <a:moveTo>
                    <a:pt x="1083" y="267"/>
                  </a:moveTo>
                  <a:lnTo>
                    <a:pt x="1088" y="262"/>
                  </a:lnTo>
                  <a:lnTo>
                    <a:pt x="1098" y="262"/>
                  </a:lnTo>
                  <a:lnTo>
                    <a:pt x="1108" y="267"/>
                  </a:lnTo>
                  <a:lnTo>
                    <a:pt x="1113" y="267"/>
                  </a:lnTo>
                  <a:lnTo>
                    <a:pt x="1118" y="262"/>
                  </a:lnTo>
                  <a:lnTo>
                    <a:pt x="1123" y="262"/>
                  </a:lnTo>
                  <a:lnTo>
                    <a:pt x="1128" y="257"/>
                  </a:lnTo>
                  <a:lnTo>
                    <a:pt x="1133" y="252"/>
                  </a:lnTo>
                  <a:lnTo>
                    <a:pt x="1133" y="243"/>
                  </a:lnTo>
                  <a:lnTo>
                    <a:pt x="1133" y="238"/>
                  </a:lnTo>
                  <a:lnTo>
                    <a:pt x="1133" y="233"/>
                  </a:lnTo>
                  <a:lnTo>
                    <a:pt x="1128" y="228"/>
                  </a:lnTo>
                  <a:lnTo>
                    <a:pt x="1128" y="223"/>
                  </a:lnTo>
                  <a:lnTo>
                    <a:pt x="1133" y="218"/>
                  </a:lnTo>
                  <a:lnTo>
                    <a:pt x="1133" y="213"/>
                  </a:lnTo>
                  <a:lnTo>
                    <a:pt x="1138" y="208"/>
                  </a:lnTo>
                  <a:lnTo>
                    <a:pt x="1147" y="208"/>
                  </a:lnTo>
                  <a:lnTo>
                    <a:pt x="1152" y="213"/>
                  </a:lnTo>
                  <a:lnTo>
                    <a:pt x="1152" y="218"/>
                  </a:lnTo>
                  <a:lnTo>
                    <a:pt x="1157" y="223"/>
                  </a:lnTo>
                  <a:lnTo>
                    <a:pt x="1157" y="228"/>
                  </a:lnTo>
                  <a:lnTo>
                    <a:pt x="1162" y="233"/>
                  </a:lnTo>
                  <a:lnTo>
                    <a:pt x="1167" y="238"/>
                  </a:lnTo>
                  <a:lnTo>
                    <a:pt x="1177" y="238"/>
                  </a:lnTo>
                  <a:lnTo>
                    <a:pt x="1182" y="243"/>
                  </a:lnTo>
                  <a:lnTo>
                    <a:pt x="1172" y="243"/>
                  </a:lnTo>
                  <a:lnTo>
                    <a:pt x="1162" y="243"/>
                  </a:lnTo>
                  <a:lnTo>
                    <a:pt x="1157" y="247"/>
                  </a:lnTo>
                  <a:lnTo>
                    <a:pt x="1147" y="247"/>
                  </a:lnTo>
                  <a:lnTo>
                    <a:pt x="1143" y="247"/>
                  </a:lnTo>
                  <a:lnTo>
                    <a:pt x="1138" y="252"/>
                  </a:lnTo>
                  <a:lnTo>
                    <a:pt x="1133" y="257"/>
                  </a:lnTo>
                  <a:lnTo>
                    <a:pt x="1128" y="257"/>
                  </a:lnTo>
                  <a:lnTo>
                    <a:pt x="1123" y="262"/>
                  </a:lnTo>
                  <a:lnTo>
                    <a:pt x="1118" y="267"/>
                  </a:lnTo>
                  <a:lnTo>
                    <a:pt x="1113" y="272"/>
                  </a:lnTo>
                  <a:lnTo>
                    <a:pt x="1108" y="277"/>
                  </a:lnTo>
                  <a:lnTo>
                    <a:pt x="1098" y="282"/>
                  </a:lnTo>
                  <a:lnTo>
                    <a:pt x="1093" y="287"/>
                  </a:lnTo>
                  <a:lnTo>
                    <a:pt x="1088" y="287"/>
                  </a:lnTo>
                  <a:lnTo>
                    <a:pt x="1088" y="287"/>
                  </a:lnTo>
                  <a:lnTo>
                    <a:pt x="1083" y="282"/>
                  </a:lnTo>
                  <a:lnTo>
                    <a:pt x="1083" y="272"/>
                  </a:lnTo>
                  <a:lnTo>
                    <a:pt x="1083" y="267"/>
                  </a:lnTo>
                  <a:close/>
                  <a:moveTo>
                    <a:pt x="920" y="238"/>
                  </a:moveTo>
                  <a:lnTo>
                    <a:pt x="920" y="238"/>
                  </a:lnTo>
                  <a:lnTo>
                    <a:pt x="925" y="233"/>
                  </a:lnTo>
                  <a:lnTo>
                    <a:pt x="930" y="228"/>
                  </a:lnTo>
                  <a:lnTo>
                    <a:pt x="935" y="223"/>
                  </a:lnTo>
                  <a:lnTo>
                    <a:pt x="940" y="223"/>
                  </a:lnTo>
                  <a:lnTo>
                    <a:pt x="945" y="218"/>
                  </a:lnTo>
                  <a:lnTo>
                    <a:pt x="945" y="213"/>
                  </a:lnTo>
                  <a:lnTo>
                    <a:pt x="950" y="208"/>
                  </a:lnTo>
                  <a:lnTo>
                    <a:pt x="955" y="203"/>
                  </a:lnTo>
                  <a:lnTo>
                    <a:pt x="960" y="203"/>
                  </a:lnTo>
                  <a:lnTo>
                    <a:pt x="964" y="203"/>
                  </a:lnTo>
                  <a:lnTo>
                    <a:pt x="969" y="208"/>
                  </a:lnTo>
                  <a:lnTo>
                    <a:pt x="974" y="213"/>
                  </a:lnTo>
                  <a:lnTo>
                    <a:pt x="969" y="218"/>
                  </a:lnTo>
                  <a:lnTo>
                    <a:pt x="964" y="223"/>
                  </a:lnTo>
                  <a:lnTo>
                    <a:pt x="960" y="228"/>
                  </a:lnTo>
                  <a:lnTo>
                    <a:pt x="955" y="228"/>
                  </a:lnTo>
                  <a:lnTo>
                    <a:pt x="950" y="233"/>
                  </a:lnTo>
                  <a:lnTo>
                    <a:pt x="945" y="238"/>
                  </a:lnTo>
                  <a:lnTo>
                    <a:pt x="945" y="243"/>
                  </a:lnTo>
                  <a:lnTo>
                    <a:pt x="940" y="247"/>
                  </a:lnTo>
                  <a:lnTo>
                    <a:pt x="935" y="252"/>
                  </a:lnTo>
                  <a:lnTo>
                    <a:pt x="930" y="252"/>
                  </a:lnTo>
                  <a:lnTo>
                    <a:pt x="925" y="252"/>
                  </a:lnTo>
                  <a:lnTo>
                    <a:pt x="920" y="247"/>
                  </a:lnTo>
                  <a:lnTo>
                    <a:pt x="920" y="238"/>
                  </a:lnTo>
                  <a:close/>
                  <a:moveTo>
                    <a:pt x="1395" y="238"/>
                  </a:moveTo>
                  <a:lnTo>
                    <a:pt x="1390" y="238"/>
                  </a:lnTo>
                  <a:lnTo>
                    <a:pt x="1380" y="238"/>
                  </a:lnTo>
                  <a:lnTo>
                    <a:pt x="1375" y="238"/>
                  </a:lnTo>
                  <a:lnTo>
                    <a:pt x="1370" y="243"/>
                  </a:lnTo>
                  <a:lnTo>
                    <a:pt x="1370" y="243"/>
                  </a:lnTo>
                  <a:lnTo>
                    <a:pt x="1370" y="247"/>
                  </a:lnTo>
                  <a:lnTo>
                    <a:pt x="1375" y="252"/>
                  </a:lnTo>
                  <a:lnTo>
                    <a:pt x="1380" y="257"/>
                  </a:lnTo>
                  <a:lnTo>
                    <a:pt x="1385" y="262"/>
                  </a:lnTo>
                  <a:lnTo>
                    <a:pt x="1385" y="262"/>
                  </a:lnTo>
                  <a:lnTo>
                    <a:pt x="1390" y="257"/>
                  </a:lnTo>
                  <a:lnTo>
                    <a:pt x="1390" y="252"/>
                  </a:lnTo>
                  <a:lnTo>
                    <a:pt x="1395" y="247"/>
                  </a:lnTo>
                  <a:lnTo>
                    <a:pt x="1395" y="238"/>
                  </a:lnTo>
                  <a:close/>
                  <a:moveTo>
                    <a:pt x="2151" y="238"/>
                  </a:moveTo>
                  <a:lnTo>
                    <a:pt x="2156" y="238"/>
                  </a:lnTo>
                  <a:lnTo>
                    <a:pt x="2161" y="233"/>
                  </a:lnTo>
                  <a:lnTo>
                    <a:pt x="2161" y="233"/>
                  </a:lnTo>
                  <a:lnTo>
                    <a:pt x="2161" y="228"/>
                  </a:lnTo>
                  <a:lnTo>
                    <a:pt x="2166" y="223"/>
                  </a:lnTo>
                  <a:lnTo>
                    <a:pt x="2166" y="223"/>
                  </a:lnTo>
                  <a:lnTo>
                    <a:pt x="2166" y="218"/>
                  </a:lnTo>
                  <a:lnTo>
                    <a:pt x="2171" y="213"/>
                  </a:lnTo>
                  <a:lnTo>
                    <a:pt x="2171" y="208"/>
                  </a:lnTo>
                  <a:lnTo>
                    <a:pt x="2176" y="203"/>
                  </a:lnTo>
                  <a:lnTo>
                    <a:pt x="2176" y="203"/>
                  </a:lnTo>
                  <a:lnTo>
                    <a:pt x="2181" y="203"/>
                  </a:lnTo>
                  <a:lnTo>
                    <a:pt x="2186" y="203"/>
                  </a:lnTo>
                  <a:lnTo>
                    <a:pt x="2191" y="203"/>
                  </a:lnTo>
                  <a:lnTo>
                    <a:pt x="2196" y="208"/>
                  </a:lnTo>
                  <a:lnTo>
                    <a:pt x="2196" y="213"/>
                  </a:lnTo>
                  <a:lnTo>
                    <a:pt x="2201" y="218"/>
                  </a:lnTo>
                  <a:lnTo>
                    <a:pt x="2201" y="218"/>
                  </a:lnTo>
                  <a:lnTo>
                    <a:pt x="2201" y="223"/>
                  </a:lnTo>
                  <a:lnTo>
                    <a:pt x="2201" y="228"/>
                  </a:lnTo>
                  <a:lnTo>
                    <a:pt x="2201" y="233"/>
                  </a:lnTo>
                  <a:lnTo>
                    <a:pt x="2206" y="233"/>
                  </a:lnTo>
                  <a:lnTo>
                    <a:pt x="2211" y="238"/>
                  </a:lnTo>
                  <a:lnTo>
                    <a:pt x="2216" y="238"/>
                  </a:lnTo>
                  <a:lnTo>
                    <a:pt x="2216" y="243"/>
                  </a:lnTo>
                  <a:lnTo>
                    <a:pt x="2211" y="243"/>
                  </a:lnTo>
                  <a:lnTo>
                    <a:pt x="2206" y="243"/>
                  </a:lnTo>
                  <a:lnTo>
                    <a:pt x="2201" y="238"/>
                  </a:lnTo>
                  <a:lnTo>
                    <a:pt x="2196" y="238"/>
                  </a:lnTo>
                  <a:lnTo>
                    <a:pt x="2191" y="233"/>
                  </a:lnTo>
                  <a:lnTo>
                    <a:pt x="2186" y="233"/>
                  </a:lnTo>
                  <a:lnTo>
                    <a:pt x="2181" y="233"/>
                  </a:lnTo>
                  <a:lnTo>
                    <a:pt x="2176" y="233"/>
                  </a:lnTo>
                  <a:lnTo>
                    <a:pt x="2171" y="233"/>
                  </a:lnTo>
                  <a:lnTo>
                    <a:pt x="2166" y="238"/>
                  </a:lnTo>
                  <a:lnTo>
                    <a:pt x="2161" y="238"/>
                  </a:lnTo>
                  <a:lnTo>
                    <a:pt x="2156" y="243"/>
                  </a:lnTo>
                  <a:lnTo>
                    <a:pt x="2151" y="238"/>
                  </a:lnTo>
                  <a:close/>
                  <a:moveTo>
                    <a:pt x="1345" y="213"/>
                  </a:moveTo>
                  <a:lnTo>
                    <a:pt x="1340" y="208"/>
                  </a:lnTo>
                  <a:lnTo>
                    <a:pt x="1335" y="198"/>
                  </a:lnTo>
                  <a:lnTo>
                    <a:pt x="1330" y="198"/>
                  </a:lnTo>
                  <a:lnTo>
                    <a:pt x="1330" y="198"/>
                  </a:lnTo>
                  <a:lnTo>
                    <a:pt x="1326" y="198"/>
                  </a:lnTo>
                  <a:lnTo>
                    <a:pt x="1321" y="203"/>
                  </a:lnTo>
                  <a:lnTo>
                    <a:pt x="1311" y="208"/>
                  </a:lnTo>
                  <a:lnTo>
                    <a:pt x="1306" y="213"/>
                  </a:lnTo>
                  <a:lnTo>
                    <a:pt x="1296" y="213"/>
                  </a:lnTo>
                  <a:lnTo>
                    <a:pt x="1286" y="213"/>
                  </a:lnTo>
                  <a:lnTo>
                    <a:pt x="1296" y="213"/>
                  </a:lnTo>
                  <a:lnTo>
                    <a:pt x="1306" y="213"/>
                  </a:lnTo>
                  <a:lnTo>
                    <a:pt x="1311" y="218"/>
                  </a:lnTo>
                  <a:lnTo>
                    <a:pt x="1321" y="223"/>
                  </a:lnTo>
                  <a:lnTo>
                    <a:pt x="1326" y="228"/>
                  </a:lnTo>
                  <a:lnTo>
                    <a:pt x="1330" y="228"/>
                  </a:lnTo>
                  <a:lnTo>
                    <a:pt x="1330" y="228"/>
                  </a:lnTo>
                  <a:lnTo>
                    <a:pt x="1335" y="228"/>
                  </a:lnTo>
                  <a:lnTo>
                    <a:pt x="1340" y="223"/>
                  </a:lnTo>
                  <a:lnTo>
                    <a:pt x="1345" y="213"/>
                  </a:lnTo>
                  <a:close/>
                  <a:moveTo>
                    <a:pt x="989" y="188"/>
                  </a:moveTo>
                  <a:lnTo>
                    <a:pt x="994" y="178"/>
                  </a:lnTo>
                  <a:lnTo>
                    <a:pt x="999" y="173"/>
                  </a:lnTo>
                  <a:lnTo>
                    <a:pt x="1009" y="168"/>
                  </a:lnTo>
                  <a:lnTo>
                    <a:pt x="1014" y="168"/>
                  </a:lnTo>
                  <a:lnTo>
                    <a:pt x="1019" y="173"/>
                  </a:lnTo>
                  <a:lnTo>
                    <a:pt x="1024" y="183"/>
                  </a:lnTo>
                  <a:lnTo>
                    <a:pt x="1029" y="188"/>
                  </a:lnTo>
                  <a:lnTo>
                    <a:pt x="1024" y="198"/>
                  </a:lnTo>
                  <a:lnTo>
                    <a:pt x="1019" y="203"/>
                  </a:lnTo>
                  <a:lnTo>
                    <a:pt x="1009" y="208"/>
                  </a:lnTo>
                  <a:lnTo>
                    <a:pt x="1004" y="208"/>
                  </a:lnTo>
                  <a:lnTo>
                    <a:pt x="999" y="203"/>
                  </a:lnTo>
                  <a:lnTo>
                    <a:pt x="994" y="198"/>
                  </a:lnTo>
                  <a:lnTo>
                    <a:pt x="989" y="188"/>
                  </a:lnTo>
                  <a:close/>
                  <a:moveTo>
                    <a:pt x="1415" y="188"/>
                  </a:moveTo>
                  <a:lnTo>
                    <a:pt x="1410" y="183"/>
                  </a:lnTo>
                  <a:lnTo>
                    <a:pt x="1410" y="178"/>
                  </a:lnTo>
                  <a:lnTo>
                    <a:pt x="1405" y="178"/>
                  </a:lnTo>
                  <a:lnTo>
                    <a:pt x="1400" y="178"/>
                  </a:lnTo>
                  <a:lnTo>
                    <a:pt x="1395" y="178"/>
                  </a:lnTo>
                  <a:lnTo>
                    <a:pt x="1390" y="178"/>
                  </a:lnTo>
                  <a:lnTo>
                    <a:pt x="1385" y="178"/>
                  </a:lnTo>
                  <a:lnTo>
                    <a:pt x="1375" y="183"/>
                  </a:lnTo>
                  <a:lnTo>
                    <a:pt x="1370" y="183"/>
                  </a:lnTo>
                  <a:lnTo>
                    <a:pt x="1365" y="183"/>
                  </a:lnTo>
                  <a:lnTo>
                    <a:pt x="1370" y="188"/>
                  </a:lnTo>
                  <a:lnTo>
                    <a:pt x="1375" y="188"/>
                  </a:lnTo>
                  <a:lnTo>
                    <a:pt x="1380" y="188"/>
                  </a:lnTo>
                  <a:lnTo>
                    <a:pt x="1385" y="188"/>
                  </a:lnTo>
                  <a:lnTo>
                    <a:pt x="1395" y="188"/>
                  </a:lnTo>
                  <a:lnTo>
                    <a:pt x="1400" y="193"/>
                  </a:lnTo>
                  <a:lnTo>
                    <a:pt x="1405" y="193"/>
                  </a:lnTo>
                  <a:lnTo>
                    <a:pt x="1410" y="193"/>
                  </a:lnTo>
                  <a:lnTo>
                    <a:pt x="1410" y="188"/>
                  </a:lnTo>
                  <a:lnTo>
                    <a:pt x="1415" y="188"/>
                  </a:lnTo>
                  <a:close/>
                  <a:moveTo>
                    <a:pt x="1855" y="188"/>
                  </a:moveTo>
                  <a:lnTo>
                    <a:pt x="1850" y="183"/>
                  </a:lnTo>
                  <a:lnTo>
                    <a:pt x="1845" y="183"/>
                  </a:lnTo>
                  <a:lnTo>
                    <a:pt x="1840" y="183"/>
                  </a:lnTo>
                  <a:lnTo>
                    <a:pt x="1830" y="183"/>
                  </a:lnTo>
                  <a:lnTo>
                    <a:pt x="1825" y="188"/>
                  </a:lnTo>
                  <a:lnTo>
                    <a:pt x="1825" y="188"/>
                  </a:lnTo>
                  <a:lnTo>
                    <a:pt x="1825" y="193"/>
                  </a:lnTo>
                  <a:lnTo>
                    <a:pt x="1830" y="198"/>
                  </a:lnTo>
                  <a:lnTo>
                    <a:pt x="1835" y="203"/>
                  </a:lnTo>
                  <a:lnTo>
                    <a:pt x="1840" y="203"/>
                  </a:lnTo>
                  <a:lnTo>
                    <a:pt x="1845" y="198"/>
                  </a:lnTo>
                  <a:lnTo>
                    <a:pt x="1850" y="198"/>
                  </a:lnTo>
                  <a:lnTo>
                    <a:pt x="1850" y="193"/>
                  </a:lnTo>
                  <a:lnTo>
                    <a:pt x="1855" y="188"/>
                  </a:lnTo>
                  <a:close/>
                  <a:moveTo>
                    <a:pt x="1474" y="159"/>
                  </a:moveTo>
                  <a:lnTo>
                    <a:pt x="1469" y="154"/>
                  </a:lnTo>
                  <a:lnTo>
                    <a:pt x="1469" y="149"/>
                  </a:lnTo>
                  <a:lnTo>
                    <a:pt x="1464" y="149"/>
                  </a:lnTo>
                  <a:lnTo>
                    <a:pt x="1464" y="149"/>
                  </a:lnTo>
                  <a:lnTo>
                    <a:pt x="1454" y="149"/>
                  </a:lnTo>
                  <a:lnTo>
                    <a:pt x="1449" y="154"/>
                  </a:lnTo>
                  <a:lnTo>
                    <a:pt x="1444" y="154"/>
                  </a:lnTo>
                  <a:lnTo>
                    <a:pt x="1444" y="159"/>
                  </a:lnTo>
                  <a:lnTo>
                    <a:pt x="1444" y="163"/>
                  </a:lnTo>
                  <a:lnTo>
                    <a:pt x="1449" y="163"/>
                  </a:lnTo>
                  <a:lnTo>
                    <a:pt x="1459" y="163"/>
                  </a:lnTo>
                  <a:lnTo>
                    <a:pt x="1464" y="163"/>
                  </a:lnTo>
                  <a:lnTo>
                    <a:pt x="1469" y="163"/>
                  </a:lnTo>
                  <a:lnTo>
                    <a:pt x="1474" y="159"/>
                  </a:lnTo>
                  <a:close/>
                  <a:moveTo>
                    <a:pt x="1598" y="159"/>
                  </a:moveTo>
                  <a:lnTo>
                    <a:pt x="1598" y="159"/>
                  </a:lnTo>
                  <a:lnTo>
                    <a:pt x="1593" y="159"/>
                  </a:lnTo>
                  <a:lnTo>
                    <a:pt x="1593" y="159"/>
                  </a:lnTo>
                  <a:lnTo>
                    <a:pt x="1593" y="159"/>
                  </a:lnTo>
                  <a:lnTo>
                    <a:pt x="1593" y="163"/>
                  </a:lnTo>
                  <a:lnTo>
                    <a:pt x="1593" y="163"/>
                  </a:lnTo>
                  <a:lnTo>
                    <a:pt x="1593" y="163"/>
                  </a:lnTo>
                  <a:lnTo>
                    <a:pt x="1598" y="163"/>
                  </a:lnTo>
                  <a:lnTo>
                    <a:pt x="1598" y="163"/>
                  </a:lnTo>
                  <a:lnTo>
                    <a:pt x="1598" y="163"/>
                  </a:lnTo>
                  <a:lnTo>
                    <a:pt x="1598" y="163"/>
                  </a:lnTo>
                  <a:lnTo>
                    <a:pt x="1598" y="163"/>
                  </a:lnTo>
                  <a:lnTo>
                    <a:pt x="1598" y="163"/>
                  </a:lnTo>
                  <a:lnTo>
                    <a:pt x="1598" y="159"/>
                  </a:lnTo>
                  <a:close/>
                  <a:moveTo>
                    <a:pt x="1652" y="159"/>
                  </a:moveTo>
                  <a:lnTo>
                    <a:pt x="1652" y="159"/>
                  </a:lnTo>
                  <a:lnTo>
                    <a:pt x="1647" y="159"/>
                  </a:lnTo>
                  <a:lnTo>
                    <a:pt x="1647" y="159"/>
                  </a:lnTo>
                  <a:lnTo>
                    <a:pt x="1647" y="159"/>
                  </a:lnTo>
                  <a:lnTo>
                    <a:pt x="1647" y="163"/>
                  </a:lnTo>
                  <a:lnTo>
                    <a:pt x="1647" y="163"/>
                  </a:lnTo>
                  <a:lnTo>
                    <a:pt x="1647" y="163"/>
                  </a:lnTo>
                  <a:lnTo>
                    <a:pt x="1647" y="163"/>
                  </a:lnTo>
                  <a:lnTo>
                    <a:pt x="1647" y="163"/>
                  </a:lnTo>
                  <a:lnTo>
                    <a:pt x="1652" y="163"/>
                  </a:lnTo>
                  <a:lnTo>
                    <a:pt x="1652" y="163"/>
                  </a:lnTo>
                  <a:lnTo>
                    <a:pt x="1652" y="163"/>
                  </a:lnTo>
                  <a:lnTo>
                    <a:pt x="1652" y="163"/>
                  </a:lnTo>
                  <a:lnTo>
                    <a:pt x="1652" y="159"/>
                  </a:lnTo>
                  <a:close/>
                  <a:moveTo>
                    <a:pt x="1800" y="159"/>
                  </a:moveTo>
                  <a:lnTo>
                    <a:pt x="1795" y="159"/>
                  </a:lnTo>
                  <a:lnTo>
                    <a:pt x="1795" y="159"/>
                  </a:lnTo>
                  <a:lnTo>
                    <a:pt x="1790" y="159"/>
                  </a:lnTo>
                  <a:lnTo>
                    <a:pt x="1785" y="159"/>
                  </a:lnTo>
                  <a:lnTo>
                    <a:pt x="1776" y="159"/>
                  </a:lnTo>
                  <a:lnTo>
                    <a:pt x="1771" y="159"/>
                  </a:lnTo>
                  <a:lnTo>
                    <a:pt x="1771" y="159"/>
                  </a:lnTo>
                  <a:lnTo>
                    <a:pt x="1771" y="163"/>
                  </a:lnTo>
                  <a:lnTo>
                    <a:pt x="1780" y="163"/>
                  </a:lnTo>
                  <a:lnTo>
                    <a:pt x="1785" y="163"/>
                  </a:lnTo>
                  <a:lnTo>
                    <a:pt x="1790" y="163"/>
                  </a:lnTo>
                  <a:lnTo>
                    <a:pt x="1795" y="163"/>
                  </a:lnTo>
                  <a:lnTo>
                    <a:pt x="1795" y="163"/>
                  </a:lnTo>
                  <a:lnTo>
                    <a:pt x="1800" y="159"/>
                  </a:lnTo>
                  <a:close/>
                  <a:moveTo>
                    <a:pt x="1548" y="134"/>
                  </a:moveTo>
                  <a:lnTo>
                    <a:pt x="1543" y="129"/>
                  </a:lnTo>
                  <a:lnTo>
                    <a:pt x="1543" y="129"/>
                  </a:lnTo>
                  <a:lnTo>
                    <a:pt x="1538" y="124"/>
                  </a:lnTo>
                  <a:lnTo>
                    <a:pt x="1533" y="124"/>
                  </a:lnTo>
                  <a:lnTo>
                    <a:pt x="1528" y="124"/>
                  </a:lnTo>
                  <a:lnTo>
                    <a:pt x="1523" y="124"/>
                  </a:lnTo>
                  <a:lnTo>
                    <a:pt x="1518" y="124"/>
                  </a:lnTo>
                  <a:lnTo>
                    <a:pt x="1513" y="124"/>
                  </a:lnTo>
                  <a:lnTo>
                    <a:pt x="1508" y="129"/>
                  </a:lnTo>
                  <a:lnTo>
                    <a:pt x="1504" y="129"/>
                  </a:lnTo>
                  <a:lnTo>
                    <a:pt x="1504" y="134"/>
                  </a:lnTo>
                  <a:lnTo>
                    <a:pt x="1508" y="134"/>
                  </a:lnTo>
                  <a:lnTo>
                    <a:pt x="1513" y="134"/>
                  </a:lnTo>
                  <a:lnTo>
                    <a:pt x="1518" y="134"/>
                  </a:lnTo>
                  <a:lnTo>
                    <a:pt x="1523" y="139"/>
                  </a:lnTo>
                  <a:lnTo>
                    <a:pt x="1528" y="139"/>
                  </a:lnTo>
                  <a:lnTo>
                    <a:pt x="1533" y="139"/>
                  </a:lnTo>
                  <a:lnTo>
                    <a:pt x="1538" y="134"/>
                  </a:lnTo>
                  <a:lnTo>
                    <a:pt x="1543" y="134"/>
                  </a:lnTo>
                  <a:lnTo>
                    <a:pt x="1548" y="134"/>
                  </a:lnTo>
                  <a:close/>
                  <a:moveTo>
                    <a:pt x="1746" y="134"/>
                  </a:moveTo>
                  <a:lnTo>
                    <a:pt x="1741" y="134"/>
                  </a:lnTo>
                  <a:lnTo>
                    <a:pt x="1741" y="129"/>
                  </a:lnTo>
                  <a:lnTo>
                    <a:pt x="1736" y="129"/>
                  </a:lnTo>
                  <a:lnTo>
                    <a:pt x="1731" y="129"/>
                  </a:lnTo>
                  <a:lnTo>
                    <a:pt x="1721" y="129"/>
                  </a:lnTo>
                  <a:lnTo>
                    <a:pt x="1716" y="134"/>
                  </a:lnTo>
                  <a:lnTo>
                    <a:pt x="1716" y="134"/>
                  </a:lnTo>
                  <a:lnTo>
                    <a:pt x="1716" y="134"/>
                  </a:lnTo>
                  <a:lnTo>
                    <a:pt x="1721" y="134"/>
                  </a:lnTo>
                  <a:lnTo>
                    <a:pt x="1731" y="134"/>
                  </a:lnTo>
                  <a:lnTo>
                    <a:pt x="1736" y="134"/>
                  </a:lnTo>
                  <a:lnTo>
                    <a:pt x="1741" y="134"/>
                  </a:lnTo>
                  <a:lnTo>
                    <a:pt x="1741" y="134"/>
                  </a:lnTo>
                  <a:lnTo>
                    <a:pt x="1746" y="134"/>
                  </a:lnTo>
                  <a:close/>
                  <a:moveTo>
                    <a:pt x="1607" y="104"/>
                  </a:moveTo>
                  <a:lnTo>
                    <a:pt x="1602" y="104"/>
                  </a:lnTo>
                  <a:lnTo>
                    <a:pt x="1602" y="99"/>
                  </a:lnTo>
                  <a:lnTo>
                    <a:pt x="1598" y="99"/>
                  </a:lnTo>
                  <a:lnTo>
                    <a:pt x="1598" y="94"/>
                  </a:lnTo>
                  <a:lnTo>
                    <a:pt x="1593" y="94"/>
                  </a:lnTo>
                  <a:lnTo>
                    <a:pt x="1588" y="99"/>
                  </a:lnTo>
                  <a:lnTo>
                    <a:pt x="1588" y="99"/>
                  </a:lnTo>
                  <a:lnTo>
                    <a:pt x="1583" y="104"/>
                  </a:lnTo>
                  <a:lnTo>
                    <a:pt x="1578" y="104"/>
                  </a:lnTo>
                  <a:lnTo>
                    <a:pt x="1573" y="104"/>
                  </a:lnTo>
                  <a:lnTo>
                    <a:pt x="1568" y="104"/>
                  </a:lnTo>
                  <a:lnTo>
                    <a:pt x="1573" y="109"/>
                  </a:lnTo>
                  <a:lnTo>
                    <a:pt x="1578" y="109"/>
                  </a:lnTo>
                  <a:lnTo>
                    <a:pt x="1583" y="109"/>
                  </a:lnTo>
                  <a:lnTo>
                    <a:pt x="1588" y="109"/>
                  </a:lnTo>
                  <a:lnTo>
                    <a:pt x="1588" y="109"/>
                  </a:lnTo>
                  <a:lnTo>
                    <a:pt x="1593" y="109"/>
                  </a:lnTo>
                  <a:lnTo>
                    <a:pt x="1598" y="109"/>
                  </a:lnTo>
                  <a:lnTo>
                    <a:pt x="1602" y="109"/>
                  </a:lnTo>
                  <a:lnTo>
                    <a:pt x="1607" y="104"/>
                  </a:lnTo>
                  <a:close/>
                  <a:moveTo>
                    <a:pt x="1691" y="104"/>
                  </a:moveTo>
                  <a:lnTo>
                    <a:pt x="1687" y="104"/>
                  </a:lnTo>
                  <a:lnTo>
                    <a:pt x="1682" y="104"/>
                  </a:lnTo>
                  <a:lnTo>
                    <a:pt x="1677" y="104"/>
                  </a:lnTo>
                  <a:lnTo>
                    <a:pt x="1672" y="104"/>
                  </a:lnTo>
                  <a:lnTo>
                    <a:pt x="1667" y="104"/>
                  </a:lnTo>
                  <a:lnTo>
                    <a:pt x="1662" y="104"/>
                  </a:lnTo>
                  <a:lnTo>
                    <a:pt x="1657" y="104"/>
                  </a:lnTo>
                  <a:lnTo>
                    <a:pt x="1662" y="109"/>
                  </a:lnTo>
                  <a:lnTo>
                    <a:pt x="1667" y="109"/>
                  </a:lnTo>
                  <a:lnTo>
                    <a:pt x="1672" y="109"/>
                  </a:lnTo>
                  <a:lnTo>
                    <a:pt x="1677" y="109"/>
                  </a:lnTo>
                  <a:lnTo>
                    <a:pt x="1682" y="109"/>
                  </a:lnTo>
                  <a:lnTo>
                    <a:pt x="1687" y="109"/>
                  </a:lnTo>
                  <a:lnTo>
                    <a:pt x="1691" y="104"/>
                  </a:lnTo>
                  <a:close/>
                  <a:moveTo>
                    <a:pt x="2235" y="1656"/>
                  </a:moveTo>
                  <a:lnTo>
                    <a:pt x="2260" y="1631"/>
                  </a:lnTo>
                  <a:lnTo>
                    <a:pt x="2285" y="1631"/>
                  </a:lnTo>
                  <a:lnTo>
                    <a:pt x="2315" y="1631"/>
                  </a:lnTo>
                  <a:lnTo>
                    <a:pt x="2339" y="1631"/>
                  </a:lnTo>
                  <a:lnTo>
                    <a:pt x="2369" y="1631"/>
                  </a:lnTo>
                  <a:lnTo>
                    <a:pt x="2394" y="1631"/>
                  </a:lnTo>
                  <a:lnTo>
                    <a:pt x="2418" y="1631"/>
                  </a:lnTo>
                  <a:lnTo>
                    <a:pt x="2448" y="1602"/>
                  </a:lnTo>
                  <a:lnTo>
                    <a:pt x="2448" y="1577"/>
                  </a:lnTo>
                  <a:lnTo>
                    <a:pt x="2448" y="1547"/>
                  </a:lnTo>
                  <a:lnTo>
                    <a:pt x="2448" y="1523"/>
                  </a:lnTo>
                  <a:lnTo>
                    <a:pt x="2473" y="1498"/>
                  </a:lnTo>
                  <a:lnTo>
                    <a:pt x="2473" y="1468"/>
                  </a:lnTo>
                  <a:lnTo>
                    <a:pt x="2473" y="1444"/>
                  </a:lnTo>
                  <a:lnTo>
                    <a:pt x="2473" y="1414"/>
                  </a:lnTo>
                  <a:lnTo>
                    <a:pt x="2503" y="1389"/>
                  </a:lnTo>
                  <a:lnTo>
                    <a:pt x="2503" y="1364"/>
                  </a:lnTo>
                  <a:lnTo>
                    <a:pt x="2503" y="1335"/>
                  </a:lnTo>
                  <a:lnTo>
                    <a:pt x="2503" y="1310"/>
                  </a:lnTo>
                  <a:lnTo>
                    <a:pt x="2527" y="1280"/>
                  </a:lnTo>
                  <a:lnTo>
                    <a:pt x="2527" y="1256"/>
                  </a:lnTo>
                  <a:lnTo>
                    <a:pt x="2527" y="1226"/>
                  </a:lnTo>
                  <a:lnTo>
                    <a:pt x="2527" y="1201"/>
                  </a:lnTo>
                  <a:lnTo>
                    <a:pt x="2552" y="1177"/>
                  </a:lnTo>
                  <a:lnTo>
                    <a:pt x="2552" y="1147"/>
                  </a:lnTo>
                  <a:lnTo>
                    <a:pt x="2552" y="1122"/>
                  </a:lnTo>
                  <a:lnTo>
                    <a:pt x="2552" y="1093"/>
                  </a:lnTo>
                  <a:lnTo>
                    <a:pt x="2582" y="1068"/>
                  </a:lnTo>
                  <a:lnTo>
                    <a:pt x="2582" y="1043"/>
                  </a:lnTo>
                  <a:lnTo>
                    <a:pt x="2582" y="1014"/>
                  </a:lnTo>
                  <a:lnTo>
                    <a:pt x="2582" y="989"/>
                  </a:lnTo>
                  <a:lnTo>
                    <a:pt x="2582" y="959"/>
                  </a:lnTo>
                  <a:lnTo>
                    <a:pt x="2582" y="934"/>
                  </a:lnTo>
                  <a:lnTo>
                    <a:pt x="2582" y="910"/>
                  </a:lnTo>
                  <a:lnTo>
                    <a:pt x="2582" y="880"/>
                  </a:lnTo>
                  <a:lnTo>
                    <a:pt x="2582" y="855"/>
                  </a:lnTo>
                  <a:lnTo>
                    <a:pt x="2582" y="826"/>
                  </a:lnTo>
                  <a:lnTo>
                    <a:pt x="2582" y="801"/>
                  </a:lnTo>
                  <a:lnTo>
                    <a:pt x="2582" y="776"/>
                  </a:lnTo>
                  <a:lnTo>
                    <a:pt x="2582" y="747"/>
                  </a:lnTo>
                  <a:lnTo>
                    <a:pt x="2582" y="722"/>
                  </a:lnTo>
                  <a:lnTo>
                    <a:pt x="2582" y="692"/>
                  </a:lnTo>
                  <a:lnTo>
                    <a:pt x="2582" y="668"/>
                  </a:lnTo>
                  <a:lnTo>
                    <a:pt x="2582" y="643"/>
                  </a:lnTo>
                  <a:lnTo>
                    <a:pt x="2582" y="613"/>
                  </a:lnTo>
                  <a:lnTo>
                    <a:pt x="2582" y="589"/>
                  </a:lnTo>
                  <a:lnTo>
                    <a:pt x="2582" y="559"/>
                  </a:lnTo>
                  <a:lnTo>
                    <a:pt x="2582" y="534"/>
                  </a:lnTo>
                  <a:lnTo>
                    <a:pt x="2582" y="504"/>
                  </a:lnTo>
                  <a:lnTo>
                    <a:pt x="2582" y="480"/>
                  </a:lnTo>
                  <a:lnTo>
                    <a:pt x="2582" y="455"/>
                  </a:lnTo>
                  <a:lnTo>
                    <a:pt x="2582" y="425"/>
                  </a:lnTo>
                  <a:lnTo>
                    <a:pt x="2582" y="401"/>
                  </a:lnTo>
                  <a:lnTo>
                    <a:pt x="2582" y="371"/>
                  </a:lnTo>
                  <a:lnTo>
                    <a:pt x="2582" y="346"/>
                  </a:lnTo>
                  <a:lnTo>
                    <a:pt x="2582" y="322"/>
                  </a:lnTo>
                  <a:lnTo>
                    <a:pt x="2582" y="292"/>
                  </a:lnTo>
                  <a:lnTo>
                    <a:pt x="2582" y="267"/>
                  </a:lnTo>
                  <a:lnTo>
                    <a:pt x="2582" y="238"/>
                  </a:lnTo>
                  <a:lnTo>
                    <a:pt x="2552" y="213"/>
                  </a:lnTo>
                  <a:lnTo>
                    <a:pt x="2552" y="188"/>
                  </a:lnTo>
                  <a:lnTo>
                    <a:pt x="2552" y="159"/>
                  </a:lnTo>
                  <a:lnTo>
                    <a:pt x="2552" y="134"/>
                  </a:lnTo>
                  <a:lnTo>
                    <a:pt x="2552" y="104"/>
                  </a:lnTo>
                  <a:lnTo>
                    <a:pt x="2527" y="79"/>
                  </a:lnTo>
                  <a:lnTo>
                    <a:pt x="2503" y="79"/>
                  </a:lnTo>
                  <a:lnTo>
                    <a:pt x="2473" y="79"/>
                  </a:lnTo>
                  <a:lnTo>
                    <a:pt x="2448" y="55"/>
                  </a:lnTo>
                  <a:lnTo>
                    <a:pt x="2418" y="55"/>
                  </a:lnTo>
                  <a:lnTo>
                    <a:pt x="2394" y="55"/>
                  </a:lnTo>
                  <a:lnTo>
                    <a:pt x="2369" y="25"/>
                  </a:lnTo>
                  <a:lnTo>
                    <a:pt x="2339" y="25"/>
                  </a:lnTo>
                  <a:lnTo>
                    <a:pt x="2315" y="25"/>
                  </a:lnTo>
                  <a:lnTo>
                    <a:pt x="2285" y="0"/>
                  </a:lnTo>
                  <a:lnTo>
                    <a:pt x="2260" y="0"/>
                  </a:lnTo>
                  <a:lnTo>
                    <a:pt x="2235" y="0"/>
                  </a:lnTo>
                  <a:lnTo>
                    <a:pt x="2206" y="0"/>
                  </a:lnTo>
                  <a:lnTo>
                    <a:pt x="2181" y="0"/>
                  </a:lnTo>
                  <a:lnTo>
                    <a:pt x="2156" y="0"/>
                  </a:lnTo>
                  <a:lnTo>
                    <a:pt x="2127" y="0"/>
                  </a:lnTo>
                  <a:lnTo>
                    <a:pt x="2102" y="0"/>
                  </a:lnTo>
                  <a:lnTo>
                    <a:pt x="2072" y="0"/>
                  </a:lnTo>
                  <a:lnTo>
                    <a:pt x="2048" y="0"/>
                  </a:lnTo>
                  <a:lnTo>
                    <a:pt x="2023" y="0"/>
                  </a:lnTo>
                  <a:lnTo>
                    <a:pt x="1993" y="0"/>
                  </a:lnTo>
                  <a:lnTo>
                    <a:pt x="1968" y="0"/>
                  </a:lnTo>
                  <a:lnTo>
                    <a:pt x="1944" y="0"/>
                  </a:lnTo>
                  <a:lnTo>
                    <a:pt x="1914" y="0"/>
                  </a:lnTo>
                  <a:lnTo>
                    <a:pt x="1889" y="0"/>
                  </a:lnTo>
                  <a:lnTo>
                    <a:pt x="1860" y="0"/>
                  </a:lnTo>
                  <a:lnTo>
                    <a:pt x="1835" y="0"/>
                  </a:lnTo>
                  <a:lnTo>
                    <a:pt x="1810" y="0"/>
                  </a:lnTo>
                  <a:lnTo>
                    <a:pt x="1780" y="0"/>
                  </a:lnTo>
                  <a:lnTo>
                    <a:pt x="1756" y="0"/>
                  </a:lnTo>
                  <a:lnTo>
                    <a:pt x="1726" y="0"/>
                  </a:lnTo>
                  <a:lnTo>
                    <a:pt x="1701" y="0"/>
                  </a:lnTo>
                  <a:lnTo>
                    <a:pt x="1677" y="0"/>
                  </a:lnTo>
                  <a:lnTo>
                    <a:pt x="1647" y="0"/>
                  </a:lnTo>
                  <a:lnTo>
                    <a:pt x="1622" y="0"/>
                  </a:lnTo>
                  <a:lnTo>
                    <a:pt x="1598" y="0"/>
                  </a:lnTo>
                  <a:lnTo>
                    <a:pt x="1568" y="0"/>
                  </a:lnTo>
                  <a:lnTo>
                    <a:pt x="1543" y="0"/>
                  </a:lnTo>
                  <a:lnTo>
                    <a:pt x="1513" y="0"/>
                  </a:lnTo>
                  <a:lnTo>
                    <a:pt x="1489" y="0"/>
                  </a:lnTo>
                  <a:lnTo>
                    <a:pt x="1464" y="0"/>
                  </a:lnTo>
                  <a:lnTo>
                    <a:pt x="1434" y="0"/>
                  </a:lnTo>
                  <a:lnTo>
                    <a:pt x="1410" y="0"/>
                  </a:lnTo>
                  <a:lnTo>
                    <a:pt x="1385" y="0"/>
                  </a:lnTo>
                  <a:lnTo>
                    <a:pt x="1355" y="0"/>
                  </a:lnTo>
                  <a:lnTo>
                    <a:pt x="1330" y="0"/>
                  </a:lnTo>
                  <a:lnTo>
                    <a:pt x="1301" y="0"/>
                  </a:lnTo>
                  <a:lnTo>
                    <a:pt x="1276" y="0"/>
                  </a:lnTo>
                  <a:lnTo>
                    <a:pt x="1251" y="0"/>
                  </a:lnTo>
                  <a:lnTo>
                    <a:pt x="1222" y="0"/>
                  </a:lnTo>
                  <a:lnTo>
                    <a:pt x="1197" y="0"/>
                  </a:lnTo>
                  <a:lnTo>
                    <a:pt x="1172" y="0"/>
                  </a:lnTo>
                  <a:lnTo>
                    <a:pt x="1143" y="0"/>
                  </a:lnTo>
                  <a:lnTo>
                    <a:pt x="1118" y="0"/>
                  </a:lnTo>
                  <a:lnTo>
                    <a:pt x="1088" y="0"/>
                  </a:lnTo>
                  <a:lnTo>
                    <a:pt x="1063" y="0"/>
                  </a:lnTo>
                  <a:lnTo>
                    <a:pt x="1039" y="0"/>
                  </a:lnTo>
                  <a:lnTo>
                    <a:pt x="1009" y="0"/>
                  </a:lnTo>
                  <a:lnTo>
                    <a:pt x="984" y="0"/>
                  </a:lnTo>
                  <a:lnTo>
                    <a:pt x="955" y="0"/>
                  </a:lnTo>
                  <a:lnTo>
                    <a:pt x="930" y="0"/>
                  </a:lnTo>
                  <a:lnTo>
                    <a:pt x="905" y="0"/>
                  </a:lnTo>
                  <a:lnTo>
                    <a:pt x="875" y="0"/>
                  </a:lnTo>
                  <a:lnTo>
                    <a:pt x="851" y="0"/>
                  </a:lnTo>
                  <a:lnTo>
                    <a:pt x="826" y="0"/>
                  </a:lnTo>
                  <a:lnTo>
                    <a:pt x="796" y="0"/>
                  </a:lnTo>
                  <a:lnTo>
                    <a:pt x="772" y="0"/>
                  </a:lnTo>
                  <a:lnTo>
                    <a:pt x="742" y="0"/>
                  </a:lnTo>
                  <a:lnTo>
                    <a:pt x="717" y="0"/>
                  </a:lnTo>
                  <a:lnTo>
                    <a:pt x="692" y="0"/>
                  </a:lnTo>
                  <a:lnTo>
                    <a:pt x="663" y="0"/>
                  </a:lnTo>
                  <a:lnTo>
                    <a:pt x="638" y="0"/>
                  </a:lnTo>
                  <a:lnTo>
                    <a:pt x="613" y="0"/>
                  </a:lnTo>
                  <a:lnTo>
                    <a:pt x="584" y="25"/>
                  </a:lnTo>
                  <a:lnTo>
                    <a:pt x="559" y="55"/>
                  </a:lnTo>
                  <a:lnTo>
                    <a:pt x="529" y="79"/>
                  </a:lnTo>
                  <a:lnTo>
                    <a:pt x="505" y="104"/>
                  </a:lnTo>
                  <a:lnTo>
                    <a:pt x="480" y="134"/>
                  </a:lnTo>
                  <a:lnTo>
                    <a:pt x="450" y="134"/>
                  </a:lnTo>
                  <a:lnTo>
                    <a:pt x="425" y="159"/>
                  </a:lnTo>
                  <a:lnTo>
                    <a:pt x="396" y="188"/>
                  </a:lnTo>
                  <a:lnTo>
                    <a:pt x="371" y="213"/>
                  </a:lnTo>
                  <a:lnTo>
                    <a:pt x="346" y="238"/>
                  </a:lnTo>
                  <a:lnTo>
                    <a:pt x="317" y="267"/>
                  </a:lnTo>
                  <a:lnTo>
                    <a:pt x="292" y="292"/>
                  </a:lnTo>
                  <a:lnTo>
                    <a:pt x="267" y="322"/>
                  </a:lnTo>
                  <a:lnTo>
                    <a:pt x="237" y="322"/>
                  </a:lnTo>
                  <a:lnTo>
                    <a:pt x="213" y="346"/>
                  </a:lnTo>
                  <a:lnTo>
                    <a:pt x="183" y="371"/>
                  </a:lnTo>
                  <a:lnTo>
                    <a:pt x="158" y="401"/>
                  </a:lnTo>
                  <a:lnTo>
                    <a:pt x="134" y="425"/>
                  </a:lnTo>
                  <a:lnTo>
                    <a:pt x="104" y="455"/>
                  </a:lnTo>
                  <a:lnTo>
                    <a:pt x="79" y="480"/>
                  </a:lnTo>
                  <a:lnTo>
                    <a:pt x="55" y="504"/>
                  </a:lnTo>
                  <a:lnTo>
                    <a:pt x="25" y="504"/>
                  </a:lnTo>
                  <a:lnTo>
                    <a:pt x="0" y="534"/>
                  </a:lnTo>
                  <a:lnTo>
                    <a:pt x="0" y="559"/>
                  </a:lnTo>
                  <a:lnTo>
                    <a:pt x="0" y="589"/>
                  </a:lnTo>
                  <a:lnTo>
                    <a:pt x="0" y="613"/>
                  </a:lnTo>
                  <a:lnTo>
                    <a:pt x="25" y="643"/>
                  </a:lnTo>
                  <a:lnTo>
                    <a:pt x="25" y="668"/>
                  </a:lnTo>
                  <a:lnTo>
                    <a:pt x="55" y="692"/>
                  </a:lnTo>
                  <a:lnTo>
                    <a:pt x="79" y="722"/>
                  </a:lnTo>
                  <a:lnTo>
                    <a:pt x="104" y="747"/>
                  </a:lnTo>
                  <a:lnTo>
                    <a:pt x="134" y="776"/>
                  </a:lnTo>
                  <a:lnTo>
                    <a:pt x="134" y="801"/>
                  </a:lnTo>
                  <a:lnTo>
                    <a:pt x="158" y="826"/>
                  </a:lnTo>
                  <a:lnTo>
                    <a:pt x="183" y="855"/>
                  </a:lnTo>
                  <a:lnTo>
                    <a:pt x="213" y="880"/>
                  </a:lnTo>
                  <a:lnTo>
                    <a:pt x="237" y="910"/>
                  </a:lnTo>
                  <a:lnTo>
                    <a:pt x="267" y="934"/>
                  </a:lnTo>
                  <a:lnTo>
                    <a:pt x="292" y="959"/>
                  </a:lnTo>
                  <a:lnTo>
                    <a:pt x="292" y="989"/>
                  </a:lnTo>
                  <a:lnTo>
                    <a:pt x="317" y="1014"/>
                  </a:lnTo>
                  <a:lnTo>
                    <a:pt x="346" y="1043"/>
                  </a:lnTo>
                  <a:lnTo>
                    <a:pt x="371" y="1068"/>
                  </a:lnTo>
                  <a:lnTo>
                    <a:pt x="396" y="1093"/>
                  </a:lnTo>
                  <a:lnTo>
                    <a:pt x="425" y="1122"/>
                  </a:lnTo>
                  <a:lnTo>
                    <a:pt x="450" y="1147"/>
                  </a:lnTo>
                  <a:lnTo>
                    <a:pt x="480" y="1177"/>
                  </a:lnTo>
                  <a:lnTo>
                    <a:pt x="505" y="1201"/>
                  </a:lnTo>
                  <a:lnTo>
                    <a:pt x="529" y="1226"/>
                  </a:lnTo>
                  <a:lnTo>
                    <a:pt x="559" y="1256"/>
                  </a:lnTo>
                  <a:lnTo>
                    <a:pt x="584" y="1280"/>
                  </a:lnTo>
                  <a:lnTo>
                    <a:pt x="613" y="1310"/>
                  </a:lnTo>
                  <a:lnTo>
                    <a:pt x="638" y="1335"/>
                  </a:lnTo>
                  <a:lnTo>
                    <a:pt x="663" y="1364"/>
                  </a:lnTo>
                  <a:lnTo>
                    <a:pt x="692" y="1389"/>
                  </a:lnTo>
                  <a:lnTo>
                    <a:pt x="717" y="1414"/>
                  </a:lnTo>
                  <a:lnTo>
                    <a:pt x="742" y="1444"/>
                  </a:lnTo>
                  <a:lnTo>
                    <a:pt x="772" y="1468"/>
                  </a:lnTo>
                  <a:lnTo>
                    <a:pt x="796" y="1468"/>
                  </a:lnTo>
                  <a:lnTo>
                    <a:pt x="826" y="1498"/>
                  </a:lnTo>
                  <a:lnTo>
                    <a:pt x="851" y="1523"/>
                  </a:lnTo>
                  <a:lnTo>
                    <a:pt x="875" y="1547"/>
                  </a:lnTo>
                  <a:lnTo>
                    <a:pt x="905" y="1577"/>
                  </a:lnTo>
                  <a:lnTo>
                    <a:pt x="930" y="1602"/>
                  </a:lnTo>
                  <a:lnTo>
                    <a:pt x="955" y="1631"/>
                  </a:lnTo>
                  <a:lnTo>
                    <a:pt x="984" y="1656"/>
                  </a:lnTo>
                  <a:lnTo>
                    <a:pt x="1009" y="1656"/>
                  </a:lnTo>
                  <a:lnTo>
                    <a:pt x="1039" y="1656"/>
                  </a:lnTo>
                  <a:lnTo>
                    <a:pt x="1063" y="1656"/>
                  </a:lnTo>
                  <a:lnTo>
                    <a:pt x="1088" y="1656"/>
                  </a:lnTo>
                  <a:lnTo>
                    <a:pt x="1118" y="1656"/>
                  </a:lnTo>
                  <a:lnTo>
                    <a:pt x="1143" y="1656"/>
                  </a:lnTo>
                  <a:lnTo>
                    <a:pt x="1172" y="1656"/>
                  </a:lnTo>
                  <a:lnTo>
                    <a:pt x="1197" y="1656"/>
                  </a:lnTo>
                  <a:lnTo>
                    <a:pt x="1222" y="1656"/>
                  </a:lnTo>
                  <a:lnTo>
                    <a:pt x="1251" y="1656"/>
                  </a:lnTo>
                  <a:lnTo>
                    <a:pt x="1276" y="1656"/>
                  </a:lnTo>
                  <a:lnTo>
                    <a:pt x="1301" y="1656"/>
                  </a:lnTo>
                  <a:lnTo>
                    <a:pt x="1330" y="1656"/>
                  </a:lnTo>
                  <a:lnTo>
                    <a:pt x="1355" y="1656"/>
                  </a:lnTo>
                  <a:lnTo>
                    <a:pt x="1385" y="1656"/>
                  </a:lnTo>
                  <a:lnTo>
                    <a:pt x="1410" y="1656"/>
                  </a:lnTo>
                  <a:lnTo>
                    <a:pt x="1434" y="1656"/>
                  </a:lnTo>
                  <a:lnTo>
                    <a:pt x="1464" y="1656"/>
                  </a:lnTo>
                  <a:lnTo>
                    <a:pt x="1489" y="1656"/>
                  </a:lnTo>
                  <a:lnTo>
                    <a:pt x="1513" y="1656"/>
                  </a:lnTo>
                  <a:lnTo>
                    <a:pt x="1543" y="1656"/>
                  </a:lnTo>
                  <a:lnTo>
                    <a:pt x="1568" y="1656"/>
                  </a:lnTo>
                  <a:lnTo>
                    <a:pt x="1598" y="1656"/>
                  </a:lnTo>
                  <a:lnTo>
                    <a:pt x="1622" y="1656"/>
                  </a:lnTo>
                  <a:lnTo>
                    <a:pt x="1647" y="1656"/>
                  </a:lnTo>
                  <a:lnTo>
                    <a:pt x="1677" y="1656"/>
                  </a:lnTo>
                  <a:lnTo>
                    <a:pt x="1701" y="1656"/>
                  </a:lnTo>
                  <a:lnTo>
                    <a:pt x="1726" y="1656"/>
                  </a:lnTo>
                  <a:lnTo>
                    <a:pt x="1756" y="1656"/>
                  </a:lnTo>
                  <a:lnTo>
                    <a:pt x="1780" y="1656"/>
                  </a:lnTo>
                  <a:lnTo>
                    <a:pt x="1810" y="1656"/>
                  </a:lnTo>
                  <a:lnTo>
                    <a:pt x="1835" y="1656"/>
                  </a:lnTo>
                  <a:lnTo>
                    <a:pt x="1860" y="1656"/>
                  </a:lnTo>
                  <a:lnTo>
                    <a:pt x="1889" y="1656"/>
                  </a:lnTo>
                  <a:lnTo>
                    <a:pt x="1914" y="1656"/>
                  </a:lnTo>
                  <a:lnTo>
                    <a:pt x="1944" y="1656"/>
                  </a:lnTo>
                  <a:lnTo>
                    <a:pt x="1968" y="1656"/>
                  </a:lnTo>
                  <a:lnTo>
                    <a:pt x="1993" y="1656"/>
                  </a:lnTo>
                  <a:lnTo>
                    <a:pt x="2023" y="1656"/>
                  </a:lnTo>
                  <a:lnTo>
                    <a:pt x="2048" y="1656"/>
                  </a:lnTo>
                  <a:lnTo>
                    <a:pt x="2072" y="1656"/>
                  </a:lnTo>
                  <a:lnTo>
                    <a:pt x="2102" y="1656"/>
                  </a:lnTo>
                  <a:lnTo>
                    <a:pt x="2127" y="1656"/>
                  </a:lnTo>
                  <a:lnTo>
                    <a:pt x="2156" y="1656"/>
                  </a:lnTo>
                  <a:lnTo>
                    <a:pt x="2181" y="1656"/>
                  </a:lnTo>
                  <a:lnTo>
                    <a:pt x="2206" y="1656"/>
                  </a:lnTo>
                  <a:lnTo>
                    <a:pt x="2235" y="1656"/>
                  </a:lnTo>
                  <a:close/>
                  <a:moveTo>
                    <a:pt x="1271" y="322"/>
                  </a:moveTo>
                  <a:lnTo>
                    <a:pt x="1271" y="317"/>
                  </a:lnTo>
                  <a:lnTo>
                    <a:pt x="1276" y="312"/>
                  </a:lnTo>
                  <a:lnTo>
                    <a:pt x="1281" y="307"/>
                  </a:lnTo>
                  <a:lnTo>
                    <a:pt x="1291" y="302"/>
                  </a:lnTo>
                  <a:lnTo>
                    <a:pt x="1296" y="302"/>
                  </a:lnTo>
                  <a:lnTo>
                    <a:pt x="1306" y="302"/>
                  </a:lnTo>
                  <a:lnTo>
                    <a:pt x="1316" y="302"/>
                  </a:lnTo>
                  <a:lnTo>
                    <a:pt x="1326" y="302"/>
                  </a:lnTo>
                  <a:lnTo>
                    <a:pt x="1330" y="297"/>
                  </a:lnTo>
                  <a:lnTo>
                    <a:pt x="1335" y="292"/>
                  </a:lnTo>
                  <a:lnTo>
                    <a:pt x="1335" y="287"/>
                  </a:lnTo>
                  <a:lnTo>
                    <a:pt x="1340" y="282"/>
                  </a:lnTo>
                  <a:lnTo>
                    <a:pt x="1345" y="277"/>
                  </a:lnTo>
                  <a:lnTo>
                    <a:pt x="1345" y="272"/>
                  </a:lnTo>
                  <a:lnTo>
                    <a:pt x="1345" y="267"/>
                  </a:lnTo>
                  <a:lnTo>
                    <a:pt x="1340" y="262"/>
                  </a:lnTo>
                  <a:lnTo>
                    <a:pt x="1335" y="257"/>
                  </a:lnTo>
                  <a:lnTo>
                    <a:pt x="1326" y="252"/>
                  </a:lnTo>
                  <a:lnTo>
                    <a:pt x="1321" y="252"/>
                  </a:lnTo>
                  <a:lnTo>
                    <a:pt x="1311" y="257"/>
                  </a:lnTo>
                  <a:lnTo>
                    <a:pt x="1301" y="257"/>
                  </a:lnTo>
                  <a:lnTo>
                    <a:pt x="1296" y="252"/>
                  </a:lnTo>
                  <a:lnTo>
                    <a:pt x="1291" y="247"/>
                  </a:lnTo>
                  <a:lnTo>
                    <a:pt x="1286" y="243"/>
                  </a:lnTo>
                  <a:lnTo>
                    <a:pt x="1286" y="238"/>
                  </a:lnTo>
                  <a:lnTo>
                    <a:pt x="1286" y="228"/>
                  </a:lnTo>
                  <a:lnTo>
                    <a:pt x="1291" y="223"/>
                  </a:lnTo>
                  <a:lnTo>
                    <a:pt x="1301" y="223"/>
                  </a:lnTo>
                  <a:lnTo>
                    <a:pt x="1306" y="223"/>
                  </a:lnTo>
                  <a:lnTo>
                    <a:pt x="1311" y="223"/>
                  </a:lnTo>
                  <a:lnTo>
                    <a:pt x="1321" y="228"/>
                  </a:lnTo>
                  <a:lnTo>
                    <a:pt x="1326" y="233"/>
                  </a:lnTo>
                  <a:lnTo>
                    <a:pt x="1330" y="233"/>
                  </a:lnTo>
                  <a:lnTo>
                    <a:pt x="1340" y="233"/>
                  </a:lnTo>
                  <a:lnTo>
                    <a:pt x="1345" y="228"/>
                  </a:lnTo>
                  <a:lnTo>
                    <a:pt x="1345" y="218"/>
                  </a:lnTo>
                  <a:lnTo>
                    <a:pt x="1345" y="213"/>
                  </a:lnTo>
                  <a:lnTo>
                    <a:pt x="1345" y="203"/>
                  </a:lnTo>
                  <a:lnTo>
                    <a:pt x="1340" y="198"/>
                  </a:lnTo>
                  <a:lnTo>
                    <a:pt x="1335" y="193"/>
                  </a:lnTo>
                  <a:lnTo>
                    <a:pt x="1330" y="193"/>
                  </a:lnTo>
                  <a:lnTo>
                    <a:pt x="1326" y="193"/>
                  </a:lnTo>
                  <a:lnTo>
                    <a:pt x="1316" y="198"/>
                  </a:lnTo>
                  <a:lnTo>
                    <a:pt x="1311" y="203"/>
                  </a:lnTo>
                  <a:lnTo>
                    <a:pt x="1306" y="203"/>
                  </a:lnTo>
                  <a:lnTo>
                    <a:pt x="1296" y="203"/>
                  </a:lnTo>
                  <a:lnTo>
                    <a:pt x="1286" y="198"/>
                  </a:lnTo>
                  <a:lnTo>
                    <a:pt x="1281" y="193"/>
                  </a:lnTo>
                  <a:lnTo>
                    <a:pt x="1276" y="193"/>
                  </a:lnTo>
                  <a:lnTo>
                    <a:pt x="1271" y="193"/>
                  </a:lnTo>
                  <a:lnTo>
                    <a:pt x="1266" y="198"/>
                  </a:lnTo>
                  <a:lnTo>
                    <a:pt x="1266" y="203"/>
                  </a:lnTo>
                  <a:lnTo>
                    <a:pt x="1261" y="213"/>
                  </a:lnTo>
                  <a:lnTo>
                    <a:pt x="1251" y="213"/>
                  </a:lnTo>
                  <a:lnTo>
                    <a:pt x="1246" y="218"/>
                  </a:lnTo>
                  <a:lnTo>
                    <a:pt x="1236" y="223"/>
                  </a:lnTo>
                  <a:lnTo>
                    <a:pt x="1227" y="223"/>
                  </a:lnTo>
                  <a:lnTo>
                    <a:pt x="1222" y="223"/>
                  </a:lnTo>
                  <a:lnTo>
                    <a:pt x="1217" y="218"/>
                  </a:lnTo>
                  <a:lnTo>
                    <a:pt x="1207" y="213"/>
                  </a:lnTo>
                  <a:lnTo>
                    <a:pt x="1202" y="208"/>
                  </a:lnTo>
                  <a:lnTo>
                    <a:pt x="1192" y="208"/>
                  </a:lnTo>
                  <a:lnTo>
                    <a:pt x="1187" y="203"/>
                  </a:lnTo>
                  <a:lnTo>
                    <a:pt x="1182" y="198"/>
                  </a:lnTo>
                  <a:lnTo>
                    <a:pt x="1182" y="193"/>
                  </a:lnTo>
                  <a:lnTo>
                    <a:pt x="1182" y="183"/>
                  </a:lnTo>
                  <a:lnTo>
                    <a:pt x="1187" y="183"/>
                  </a:lnTo>
                  <a:lnTo>
                    <a:pt x="1192" y="178"/>
                  </a:lnTo>
                  <a:lnTo>
                    <a:pt x="1202" y="173"/>
                  </a:lnTo>
                  <a:lnTo>
                    <a:pt x="1207" y="168"/>
                  </a:lnTo>
                  <a:lnTo>
                    <a:pt x="1217" y="168"/>
                  </a:lnTo>
                  <a:lnTo>
                    <a:pt x="1227" y="168"/>
                  </a:lnTo>
                  <a:lnTo>
                    <a:pt x="1232" y="168"/>
                  </a:lnTo>
                  <a:lnTo>
                    <a:pt x="1236" y="173"/>
                  </a:lnTo>
                  <a:lnTo>
                    <a:pt x="1241" y="178"/>
                  </a:lnTo>
                  <a:lnTo>
                    <a:pt x="1246" y="183"/>
                  </a:lnTo>
                  <a:lnTo>
                    <a:pt x="1246" y="193"/>
                  </a:lnTo>
                  <a:lnTo>
                    <a:pt x="1246" y="198"/>
                  </a:lnTo>
                  <a:lnTo>
                    <a:pt x="1246" y="203"/>
                  </a:lnTo>
                  <a:lnTo>
                    <a:pt x="1246" y="208"/>
                  </a:lnTo>
                  <a:lnTo>
                    <a:pt x="1251" y="213"/>
                  </a:lnTo>
                  <a:lnTo>
                    <a:pt x="1256" y="208"/>
                  </a:lnTo>
                  <a:lnTo>
                    <a:pt x="1261" y="203"/>
                  </a:lnTo>
                  <a:lnTo>
                    <a:pt x="1271" y="198"/>
                  </a:lnTo>
                  <a:lnTo>
                    <a:pt x="1271" y="193"/>
                  </a:lnTo>
                  <a:lnTo>
                    <a:pt x="1276" y="183"/>
                  </a:lnTo>
                  <a:lnTo>
                    <a:pt x="1271" y="178"/>
                  </a:lnTo>
                  <a:lnTo>
                    <a:pt x="1271" y="173"/>
                  </a:lnTo>
                  <a:lnTo>
                    <a:pt x="1266" y="168"/>
                  </a:lnTo>
                  <a:lnTo>
                    <a:pt x="1261" y="163"/>
                  </a:lnTo>
                  <a:lnTo>
                    <a:pt x="1266" y="159"/>
                  </a:lnTo>
                  <a:lnTo>
                    <a:pt x="1271" y="154"/>
                  </a:lnTo>
                  <a:lnTo>
                    <a:pt x="1276" y="149"/>
                  </a:lnTo>
                  <a:lnTo>
                    <a:pt x="1286" y="144"/>
                  </a:lnTo>
                  <a:lnTo>
                    <a:pt x="1291" y="144"/>
                  </a:lnTo>
                  <a:lnTo>
                    <a:pt x="1296" y="139"/>
                  </a:lnTo>
                  <a:lnTo>
                    <a:pt x="1301" y="134"/>
                  </a:lnTo>
                  <a:lnTo>
                    <a:pt x="1311" y="139"/>
                  </a:lnTo>
                  <a:lnTo>
                    <a:pt x="1316" y="139"/>
                  </a:lnTo>
                  <a:lnTo>
                    <a:pt x="1321" y="144"/>
                  </a:lnTo>
                  <a:lnTo>
                    <a:pt x="1326" y="149"/>
                  </a:lnTo>
                  <a:lnTo>
                    <a:pt x="1330" y="159"/>
                  </a:lnTo>
                  <a:lnTo>
                    <a:pt x="1330" y="163"/>
                  </a:lnTo>
                  <a:lnTo>
                    <a:pt x="1330" y="168"/>
                  </a:lnTo>
                  <a:lnTo>
                    <a:pt x="1330" y="168"/>
                  </a:lnTo>
                  <a:lnTo>
                    <a:pt x="1335" y="163"/>
                  </a:lnTo>
                  <a:lnTo>
                    <a:pt x="1340" y="159"/>
                  </a:lnTo>
                  <a:lnTo>
                    <a:pt x="1340" y="149"/>
                  </a:lnTo>
                  <a:lnTo>
                    <a:pt x="1340" y="144"/>
                  </a:lnTo>
                  <a:lnTo>
                    <a:pt x="1340" y="139"/>
                  </a:lnTo>
                  <a:lnTo>
                    <a:pt x="1345" y="134"/>
                  </a:lnTo>
                  <a:lnTo>
                    <a:pt x="1350" y="134"/>
                  </a:lnTo>
                  <a:lnTo>
                    <a:pt x="1360" y="129"/>
                  </a:lnTo>
                  <a:lnTo>
                    <a:pt x="1365" y="124"/>
                  </a:lnTo>
                  <a:lnTo>
                    <a:pt x="1370" y="119"/>
                  </a:lnTo>
                  <a:lnTo>
                    <a:pt x="1375" y="114"/>
                  </a:lnTo>
                  <a:lnTo>
                    <a:pt x="1380" y="109"/>
                  </a:lnTo>
                  <a:lnTo>
                    <a:pt x="1390" y="109"/>
                  </a:lnTo>
                  <a:lnTo>
                    <a:pt x="1395" y="109"/>
                  </a:lnTo>
                  <a:lnTo>
                    <a:pt x="1405" y="109"/>
                  </a:lnTo>
                  <a:lnTo>
                    <a:pt x="1410" y="104"/>
                  </a:lnTo>
                  <a:lnTo>
                    <a:pt x="1419" y="104"/>
                  </a:lnTo>
                  <a:lnTo>
                    <a:pt x="1429" y="104"/>
                  </a:lnTo>
                  <a:lnTo>
                    <a:pt x="1439" y="104"/>
                  </a:lnTo>
                  <a:lnTo>
                    <a:pt x="1444" y="99"/>
                  </a:lnTo>
                  <a:lnTo>
                    <a:pt x="1449" y="94"/>
                  </a:lnTo>
                  <a:lnTo>
                    <a:pt x="1454" y="89"/>
                  </a:lnTo>
                  <a:lnTo>
                    <a:pt x="1459" y="84"/>
                  </a:lnTo>
                  <a:lnTo>
                    <a:pt x="1464" y="84"/>
                  </a:lnTo>
                  <a:lnTo>
                    <a:pt x="1474" y="79"/>
                  </a:lnTo>
                  <a:lnTo>
                    <a:pt x="1484" y="79"/>
                  </a:lnTo>
                  <a:lnTo>
                    <a:pt x="1494" y="79"/>
                  </a:lnTo>
                  <a:lnTo>
                    <a:pt x="1499" y="79"/>
                  </a:lnTo>
                  <a:lnTo>
                    <a:pt x="1508" y="74"/>
                  </a:lnTo>
                  <a:lnTo>
                    <a:pt x="1513" y="74"/>
                  </a:lnTo>
                  <a:lnTo>
                    <a:pt x="1523" y="70"/>
                  </a:lnTo>
                  <a:lnTo>
                    <a:pt x="1528" y="65"/>
                  </a:lnTo>
                  <a:lnTo>
                    <a:pt x="1533" y="60"/>
                  </a:lnTo>
                  <a:lnTo>
                    <a:pt x="1538" y="60"/>
                  </a:lnTo>
                  <a:lnTo>
                    <a:pt x="1548" y="55"/>
                  </a:lnTo>
                  <a:lnTo>
                    <a:pt x="1558" y="55"/>
                  </a:lnTo>
                  <a:lnTo>
                    <a:pt x="1568" y="55"/>
                  </a:lnTo>
                  <a:lnTo>
                    <a:pt x="1573" y="55"/>
                  </a:lnTo>
                  <a:lnTo>
                    <a:pt x="1583" y="50"/>
                  </a:lnTo>
                  <a:lnTo>
                    <a:pt x="1588" y="50"/>
                  </a:lnTo>
                  <a:lnTo>
                    <a:pt x="1593" y="45"/>
                  </a:lnTo>
                  <a:lnTo>
                    <a:pt x="1598" y="40"/>
                  </a:lnTo>
                  <a:lnTo>
                    <a:pt x="1607" y="35"/>
                  </a:lnTo>
                  <a:lnTo>
                    <a:pt x="1612" y="30"/>
                  </a:lnTo>
                  <a:lnTo>
                    <a:pt x="1622" y="30"/>
                  </a:lnTo>
                  <a:lnTo>
                    <a:pt x="1632" y="30"/>
                  </a:lnTo>
                  <a:lnTo>
                    <a:pt x="1637" y="30"/>
                  </a:lnTo>
                  <a:lnTo>
                    <a:pt x="1647" y="30"/>
                  </a:lnTo>
                  <a:lnTo>
                    <a:pt x="1657" y="30"/>
                  </a:lnTo>
                  <a:lnTo>
                    <a:pt x="1667" y="30"/>
                  </a:lnTo>
                  <a:lnTo>
                    <a:pt x="1672" y="30"/>
                  </a:lnTo>
                  <a:lnTo>
                    <a:pt x="1682" y="35"/>
                  </a:lnTo>
                  <a:lnTo>
                    <a:pt x="1687" y="35"/>
                  </a:lnTo>
                  <a:lnTo>
                    <a:pt x="1696" y="40"/>
                  </a:lnTo>
                  <a:lnTo>
                    <a:pt x="1701" y="45"/>
                  </a:lnTo>
                  <a:lnTo>
                    <a:pt x="1706" y="50"/>
                  </a:lnTo>
                  <a:lnTo>
                    <a:pt x="1711" y="50"/>
                  </a:lnTo>
                  <a:lnTo>
                    <a:pt x="1721" y="55"/>
                  </a:lnTo>
                  <a:lnTo>
                    <a:pt x="1731" y="55"/>
                  </a:lnTo>
                  <a:lnTo>
                    <a:pt x="1736" y="55"/>
                  </a:lnTo>
                  <a:lnTo>
                    <a:pt x="1746" y="55"/>
                  </a:lnTo>
                  <a:lnTo>
                    <a:pt x="1756" y="55"/>
                  </a:lnTo>
                  <a:lnTo>
                    <a:pt x="1766" y="55"/>
                  </a:lnTo>
                  <a:lnTo>
                    <a:pt x="1771" y="55"/>
                  </a:lnTo>
                  <a:lnTo>
                    <a:pt x="1780" y="60"/>
                  </a:lnTo>
                  <a:lnTo>
                    <a:pt x="1785" y="60"/>
                  </a:lnTo>
                  <a:lnTo>
                    <a:pt x="1795" y="65"/>
                  </a:lnTo>
                  <a:lnTo>
                    <a:pt x="1800" y="70"/>
                  </a:lnTo>
                  <a:lnTo>
                    <a:pt x="1805" y="74"/>
                  </a:lnTo>
                  <a:lnTo>
                    <a:pt x="1810" y="79"/>
                  </a:lnTo>
                  <a:lnTo>
                    <a:pt x="1815" y="79"/>
                  </a:lnTo>
                  <a:lnTo>
                    <a:pt x="1825" y="84"/>
                  </a:lnTo>
                  <a:lnTo>
                    <a:pt x="1835" y="84"/>
                  </a:lnTo>
                  <a:lnTo>
                    <a:pt x="1845" y="84"/>
                  </a:lnTo>
                  <a:lnTo>
                    <a:pt x="1850" y="84"/>
                  </a:lnTo>
                  <a:lnTo>
                    <a:pt x="1860" y="84"/>
                  </a:lnTo>
                  <a:lnTo>
                    <a:pt x="1870" y="84"/>
                  </a:lnTo>
                  <a:lnTo>
                    <a:pt x="1879" y="84"/>
                  </a:lnTo>
                  <a:lnTo>
                    <a:pt x="1884" y="84"/>
                  </a:lnTo>
                  <a:lnTo>
                    <a:pt x="1894" y="89"/>
                  </a:lnTo>
                  <a:lnTo>
                    <a:pt x="1899" y="94"/>
                  </a:lnTo>
                  <a:lnTo>
                    <a:pt x="1904" y="99"/>
                  </a:lnTo>
                  <a:lnTo>
                    <a:pt x="1909" y="104"/>
                  </a:lnTo>
                  <a:lnTo>
                    <a:pt x="1914" y="104"/>
                  </a:lnTo>
                  <a:lnTo>
                    <a:pt x="1919" y="109"/>
                  </a:lnTo>
                  <a:lnTo>
                    <a:pt x="1929" y="109"/>
                  </a:lnTo>
                  <a:lnTo>
                    <a:pt x="1939" y="109"/>
                  </a:lnTo>
                  <a:lnTo>
                    <a:pt x="1944" y="114"/>
                  </a:lnTo>
                  <a:lnTo>
                    <a:pt x="1954" y="114"/>
                  </a:lnTo>
                  <a:lnTo>
                    <a:pt x="1963" y="114"/>
                  </a:lnTo>
                  <a:lnTo>
                    <a:pt x="1973" y="114"/>
                  </a:lnTo>
                  <a:lnTo>
                    <a:pt x="1978" y="114"/>
                  </a:lnTo>
                  <a:lnTo>
                    <a:pt x="1988" y="114"/>
                  </a:lnTo>
                  <a:lnTo>
                    <a:pt x="1998" y="114"/>
                  </a:lnTo>
                  <a:lnTo>
                    <a:pt x="2003" y="119"/>
                  </a:lnTo>
                  <a:lnTo>
                    <a:pt x="2008" y="124"/>
                  </a:lnTo>
                  <a:lnTo>
                    <a:pt x="2013" y="129"/>
                  </a:lnTo>
                  <a:lnTo>
                    <a:pt x="2018" y="134"/>
                  </a:lnTo>
                  <a:lnTo>
                    <a:pt x="2018" y="139"/>
                  </a:lnTo>
                  <a:lnTo>
                    <a:pt x="2028" y="144"/>
                  </a:lnTo>
                  <a:lnTo>
                    <a:pt x="2033" y="144"/>
                  </a:lnTo>
                  <a:lnTo>
                    <a:pt x="2043" y="144"/>
                  </a:lnTo>
                  <a:lnTo>
                    <a:pt x="2052" y="144"/>
                  </a:lnTo>
                  <a:lnTo>
                    <a:pt x="2062" y="144"/>
                  </a:lnTo>
                  <a:lnTo>
                    <a:pt x="2067" y="144"/>
                  </a:lnTo>
                  <a:lnTo>
                    <a:pt x="2077" y="144"/>
                  </a:lnTo>
                  <a:lnTo>
                    <a:pt x="2087" y="149"/>
                  </a:lnTo>
                  <a:lnTo>
                    <a:pt x="2097" y="149"/>
                  </a:lnTo>
                  <a:lnTo>
                    <a:pt x="2102" y="149"/>
                  </a:lnTo>
                  <a:lnTo>
                    <a:pt x="2107" y="154"/>
                  </a:lnTo>
                  <a:lnTo>
                    <a:pt x="2112" y="159"/>
                  </a:lnTo>
                  <a:lnTo>
                    <a:pt x="2117" y="163"/>
                  </a:lnTo>
                  <a:lnTo>
                    <a:pt x="2117" y="173"/>
                  </a:lnTo>
                  <a:lnTo>
                    <a:pt x="2122" y="178"/>
                  </a:lnTo>
                  <a:lnTo>
                    <a:pt x="2122" y="183"/>
                  </a:lnTo>
                  <a:lnTo>
                    <a:pt x="2117" y="188"/>
                  </a:lnTo>
                  <a:lnTo>
                    <a:pt x="2117" y="193"/>
                  </a:lnTo>
                  <a:lnTo>
                    <a:pt x="2112" y="198"/>
                  </a:lnTo>
                  <a:lnTo>
                    <a:pt x="2112" y="203"/>
                  </a:lnTo>
                  <a:lnTo>
                    <a:pt x="2107" y="208"/>
                  </a:lnTo>
                  <a:lnTo>
                    <a:pt x="2102" y="213"/>
                  </a:lnTo>
                  <a:lnTo>
                    <a:pt x="2097" y="218"/>
                  </a:lnTo>
                  <a:lnTo>
                    <a:pt x="2097" y="223"/>
                  </a:lnTo>
                  <a:lnTo>
                    <a:pt x="2092" y="228"/>
                  </a:lnTo>
                  <a:lnTo>
                    <a:pt x="2087" y="233"/>
                  </a:lnTo>
                  <a:lnTo>
                    <a:pt x="2087" y="238"/>
                  </a:lnTo>
                  <a:lnTo>
                    <a:pt x="2082" y="243"/>
                  </a:lnTo>
                  <a:lnTo>
                    <a:pt x="2077" y="247"/>
                  </a:lnTo>
                  <a:lnTo>
                    <a:pt x="2077" y="252"/>
                  </a:lnTo>
                  <a:lnTo>
                    <a:pt x="2072" y="257"/>
                  </a:lnTo>
                  <a:lnTo>
                    <a:pt x="2067" y="262"/>
                  </a:lnTo>
                  <a:lnTo>
                    <a:pt x="2062" y="267"/>
                  </a:lnTo>
                  <a:lnTo>
                    <a:pt x="2057" y="272"/>
                  </a:lnTo>
                  <a:lnTo>
                    <a:pt x="2048" y="272"/>
                  </a:lnTo>
                  <a:lnTo>
                    <a:pt x="2043" y="277"/>
                  </a:lnTo>
                  <a:lnTo>
                    <a:pt x="2033" y="277"/>
                  </a:lnTo>
                  <a:lnTo>
                    <a:pt x="2023" y="282"/>
                  </a:lnTo>
                  <a:lnTo>
                    <a:pt x="2018" y="277"/>
                  </a:lnTo>
                  <a:lnTo>
                    <a:pt x="2013" y="272"/>
                  </a:lnTo>
                  <a:lnTo>
                    <a:pt x="2008" y="267"/>
                  </a:lnTo>
                  <a:lnTo>
                    <a:pt x="2003" y="262"/>
                  </a:lnTo>
                  <a:lnTo>
                    <a:pt x="1993" y="262"/>
                  </a:lnTo>
                  <a:lnTo>
                    <a:pt x="1983" y="257"/>
                  </a:lnTo>
                  <a:lnTo>
                    <a:pt x="1978" y="257"/>
                  </a:lnTo>
                  <a:lnTo>
                    <a:pt x="1968" y="257"/>
                  </a:lnTo>
                  <a:lnTo>
                    <a:pt x="1963" y="257"/>
                  </a:lnTo>
                  <a:lnTo>
                    <a:pt x="1959" y="252"/>
                  </a:lnTo>
                  <a:lnTo>
                    <a:pt x="1954" y="247"/>
                  </a:lnTo>
                  <a:lnTo>
                    <a:pt x="1949" y="238"/>
                  </a:lnTo>
                  <a:lnTo>
                    <a:pt x="1944" y="238"/>
                  </a:lnTo>
                  <a:lnTo>
                    <a:pt x="1939" y="238"/>
                  </a:lnTo>
                  <a:lnTo>
                    <a:pt x="1929" y="243"/>
                  </a:lnTo>
                  <a:lnTo>
                    <a:pt x="1924" y="247"/>
                  </a:lnTo>
                  <a:lnTo>
                    <a:pt x="1919" y="252"/>
                  </a:lnTo>
                  <a:lnTo>
                    <a:pt x="1914" y="257"/>
                  </a:lnTo>
                  <a:lnTo>
                    <a:pt x="1909" y="257"/>
                  </a:lnTo>
                  <a:lnTo>
                    <a:pt x="1904" y="252"/>
                  </a:lnTo>
                  <a:lnTo>
                    <a:pt x="1899" y="247"/>
                  </a:lnTo>
                  <a:lnTo>
                    <a:pt x="1899" y="238"/>
                  </a:lnTo>
                  <a:lnTo>
                    <a:pt x="1899" y="233"/>
                  </a:lnTo>
                  <a:lnTo>
                    <a:pt x="1904" y="228"/>
                  </a:lnTo>
                  <a:lnTo>
                    <a:pt x="1904" y="223"/>
                  </a:lnTo>
                  <a:lnTo>
                    <a:pt x="1904" y="218"/>
                  </a:lnTo>
                  <a:lnTo>
                    <a:pt x="1899" y="213"/>
                  </a:lnTo>
                  <a:lnTo>
                    <a:pt x="1894" y="208"/>
                  </a:lnTo>
                  <a:lnTo>
                    <a:pt x="1884" y="208"/>
                  </a:lnTo>
                  <a:lnTo>
                    <a:pt x="1879" y="213"/>
                  </a:lnTo>
                  <a:lnTo>
                    <a:pt x="1874" y="218"/>
                  </a:lnTo>
                  <a:lnTo>
                    <a:pt x="1870" y="228"/>
                  </a:lnTo>
                  <a:lnTo>
                    <a:pt x="1870" y="233"/>
                  </a:lnTo>
                  <a:lnTo>
                    <a:pt x="1865" y="233"/>
                  </a:lnTo>
                  <a:lnTo>
                    <a:pt x="1855" y="233"/>
                  </a:lnTo>
                  <a:lnTo>
                    <a:pt x="1850" y="233"/>
                  </a:lnTo>
                  <a:lnTo>
                    <a:pt x="1840" y="228"/>
                  </a:lnTo>
                  <a:lnTo>
                    <a:pt x="1835" y="223"/>
                  </a:lnTo>
                  <a:lnTo>
                    <a:pt x="1830" y="218"/>
                  </a:lnTo>
                  <a:lnTo>
                    <a:pt x="1825" y="213"/>
                  </a:lnTo>
                  <a:lnTo>
                    <a:pt x="1820" y="208"/>
                  </a:lnTo>
                  <a:lnTo>
                    <a:pt x="1810" y="208"/>
                  </a:lnTo>
                  <a:lnTo>
                    <a:pt x="1805" y="208"/>
                  </a:lnTo>
                  <a:lnTo>
                    <a:pt x="1795" y="208"/>
                  </a:lnTo>
                  <a:lnTo>
                    <a:pt x="1785" y="208"/>
                  </a:lnTo>
                  <a:lnTo>
                    <a:pt x="1780" y="208"/>
                  </a:lnTo>
                  <a:lnTo>
                    <a:pt x="1771" y="208"/>
                  </a:lnTo>
                  <a:lnTo>
                    <a:pt x="1761" y="203"/>
                  </a:lnTo>
                  <a:lnTo>
                    <a:pt x="1756" y="198"/>
                  </a:lnTo>
                  <a:lnTo>
                    <a:pt x="1751" y="193"/>
                  </a:lnTo>
                  <a:lnTo>
                    <a:pt x="1746" y="188"/>
                  </a:lnTo>
                  <a:lnTo>
                    <a:pt x="1741" y="188"/>
                  </a:lnTo>
                  <a:lnTo>
                    <a:pt x="1731" y="183"/>
                  </a:lnTo>
                  <a:lnTo>
                    <a:pt x="1726" y="183"/>
                  </a:lnTo>
                  <a:lnTo>
                    <a:pt x="1716" y="183"/>
                  </a:lnTo>
                  <a:lnTo>
                    <a:pt x="1706" y="183"/>
                  </a:lnTo>
                  <a:lnTo>
                    <a:pt x="1701" y="183"/>
                  </a:lnTo>
                  <a:lnTo>
                    <a:pt x="1691" y="178"/>
                  </a:lnTo>
                  <a:lnTo>
                    <a:pt x="1682" y="178"/>
                  </a:lnTo>
                  <a:lnTo>
                    <a:pt x="1677" y="173"/>
                  </a:lnTo>
                  <a:lnTo>
                    <a:pt x="1667" y="178"/>
                  </a:lnTo>
                  <a:lnTo>
                    <a:pt x="1662" y="183"/>
                  </a:lnTo>
                  <a:lnTo>
                    <a:pt x="1657" y="188"/>
                  </a:lnTo>
                  <a:lnTo>
                    <a:pt x="1652" y="193"/>
                  </a:lnTo>
                  <a:lnTo>
                    <a:pt x="1652" y="198"/>
                  </a:lnTo>
                  <a:lnTo>
                    <a:pt x="1647" y="203"/>
                  </a:lnTo>
                  <a:lnTo>
                    <a:pt x="1647" y="208"/>
                  </a:lnTo>
                  <a:lnTo>
                    <a:pt x="1652" y="213"/>
                  </a:lnTo>
                  <a:lnTo>
                    <a:pt x="1657" y="218"/>
                  </a:lnTo>
                  <a:lnTo>
                    <a:pt x="1662" y="223"/>
                  </a:lnTo>
                  <a:lnTo>
                    <a:pt x="1667" y="228"/>
                  </a:lnTo>
                  <a:lnTo>
                    <a:pt x="1677" y="233"/>
                  </a:lnTo>
                  <a:lnTo>
                    <a:pt x="1677" y="238"/>
                  </a:lnTo>
                  <a:lnTo>
                    <a:pt x="1682" y="243"/>
                  </a:lnTo>
                  <a:lnTo>
                    <a:pt x="1687" y="243"/>
                  </a:lnTo>
                  <a:lnTo>
                    <a:pt x="1691" y="247"/>
                  </a:lnTo>
                  <a:lnTo>
                    <a:pt x="1696" y="252"/>
                  </a:lnTo>
                  <a:lnTo>
                    <a:pt x="1701" y="257"/>
                  </a:lnTo>
                  <a:lnTo>
                    <a:pt x="1706" y="262"/>
                  </a:lnTo>
                  <a:lnTo>
                    <a:pt x="1711" y="267"/>
                  </a:lnTo>
                  <a:lnTo>
                    <a:pt x="1711" y="272"/>
                  </a:lnTo>
                  <a:lnTo>
                    <a:pt x="1716" y="277"/>
                  </a:lnTo>
                  <a:lnTo>
                    <a:pt x="1716" y="287"/>
                  </a:lnTo>
                  <a:lnTo>
                    <a:pt x="1711" y="292"/>
                  </a:lnTo>
                  <a:lnTo>
                    <a:pt x="1706" y="297"/>
                  </a:lnTo>
                  <a:lnTo>
                    <a:pt x="1701" y="297"/>
                  </a:lnTo>
                  <a:lnTo>
                    <a:pt x="1696" y="292"/>
                  </a:lnTo>
                  <a:lnTo>
                    <a:pt x="1691" y="287"/>
                  </a:lnTo>
                  <a:lnTo>
                    <a:pt x="1682" y="287"/>
                  </a:lnTo>
                  <a:lnTo>
                    <a:pt x="1677" y="282"/>
                  </a:lnTo>
                  <a:lnTo>
                    <a:pt x="1667" y="282"/>
                  </a:lnTo>
                  <a:lnTo>
                    <a:pt x="1667" y="277"/>
                  </a:lnTo>
                  <a:lnTo>
                    <a:pt x="1662" y="272"/>
                  </a:lnTo>
                  <a:lnTo>
                    <a:pt x="1657" y="267"/>
                  </a:lnTo>
                  <a:lnTo>
                    <a:pt x="1652" y="262"/>
                  </a:lnTo>
                  <a:lnTo>
                    <a:pt x="1642" y="257"/>
                  </a:lnTo>
                  <a:lnTo>
                    <a:pt x="1637" y="252"/>
                  </a:lnTo>
                  <a:lnTo>
                    <a:pt x="1632" y="247"/>
                  </a:lnTo>
                  <a:lnTo>
                    <a:pt x="1632" y="243"/>
                  </a:lnTo>
                  <a:lnTo>
                    <a:pt x="1627" y="238"/>
                  </a:lnTo>
                  <a:lnTo>
                    <a:pt x="1622" y="233"/>
                  </a:lnTo>
                  <a:lnTo>
                    <a:pt x="1612" y="233"/>
                  </a:lnTo>
                  <a:lnTo>
                    <a:pt x="1602" y="233"/>
                  </a:lnTo>
                  <a:lnTo>
                    <a:pt x="1593" y="233"/>
                  </a:lnTo>
                  <a:lnTo>
                    <a:pt x="1588" y="238"/>
                  </a:lnTo>
                  <a:lnTo>
                    <a:pt x="1578" y="238"/>
                  </a:lnTo>
                  <a:lnTo>
                    <a:pt x="1573" y="243"/>
                  </a:lnTo>
                  <a:lnTo>
                    <a:pt x="1568" y="247"/>
                  </a:lnTo>
                  <a:lnTo>
                    <a:pt x="1563" y="252"/>
                  </a:lnTo>
                  <a:lnTo>
                    <a:pt x="1553" y="252"/>
                  </a:lnTo>
                  <a:lnTo>
                    <a:pt x="1548" y="257"/>
                  </a:lnTo>
                  <a:lnTo>
                    <a:pt x="1538" y="257"/>
                  </a:lnTo>
                  <a:lnTo>
                    <a:pt x="1528" y="262"/>
                  </a:lnTo>
                  <a:lnTo>
                    <a:pt x="1523" y="262"/>
                  </a:lnTo>
                  <a:lnTo>
                    <a:pt x="1513" y="262"/>
                  </a:lnTo>
                  <a:lnTo>
                    <a:pt x="1508" y="267"/>
                  </a:lnTo>
                  <a:lnTo>
                    <a:pt x="1499" y="267"/>
                  </a:lnTo>
                  <a:lnTo>
                    <a:pt x="1494" y="272"/>
                  </a:lnTo>
                  <a:lnTo>
                    <a:pt x="1489" y="277"/>
                  </a:lnTo>
                  <a:lnTo>
                    <a:pt x="1479" y="282"/>
                  </a:lnTo>
                  <a:lnTo>
                    <a:pt x="1474" y="282"/>
                  </a:lnTo>
                  <a:lnTo>
                    <a:pt x="1464" y="287"/>
                  </a:lnTo>
                  <a:lnTo>
                    <a:pt x="1454" y="287"/>
                  </a:lnTo>
                  <a:lnTo>
                    <a:pt x="1449" y="292"/>
                  </a:lnTo>
                  <a:lnTo>
                    <a:pt x="1439" y="292"/>
                  </a:lnTo>
                  <a:lnTo>
                    <a:pt x="1434" y="297"/>
                  </a:lnTo>
                  <a:lnTo>
                    <a:pt x="1429" y="302"/>
                  </a:lnTo>
                  <a:lnTo>
                    <a:pt x="1424" y="307"/>
                  </a:lnTo>
                  <a:lnTo>
                    <a:pt x="1415" y="307"/>
                  </a:lnTo>
                  <a:lnTo>
                    <a:pt x="1410" y="312"/>
                  </a:lnTo>
                  <a:lnTo>
                    <a:pt x="1400" y="312"/>
                  </a:lnTo>
                  <a:lnTo>
                    <a:pt x="1390" y="312"/>
                  </a:lnTo>
                  <a:lnTo>
                    <a:pt x="1385" y="312"/>
                  </a:lnTo>
                  <a:lnTo>
                    <a:pt x="1375" y="317"/>
                  </a:lnTo>
                  <a:lnTo>
                    <a:pt x="1370" y="317"/>
                  </a:lnTo>
                  <a:lnTo>
                    <a:pt x="1360" y="322"/>
                  </a:lnTo>
                  <a:lnTo>
                    <a:pt x="1355" y="327"/>
                  </a:lnTo>
                  <a:lnTo>
                    <a:pt x="1345" y="327"/>
                  </a:lnTo>
                  <a:lnTo>
                    <a:pt x="1340" y="331"/>
                  </a:lnTo>
                  <a:lnTo>
                    <a:pt x="1330" y="331"/>
                  </a:lnTo>
                  <a:lnTo>
                    <a:pt x="1321" y="331"/>
                  </a:lnTo>
                  <a:lnTo>
                    <a:pt x="1316" y="331"/>
                  </a:lnTo>
                  <a:lnTo>
                    <a:pt x="1306" y="331"/>
                  </a:lnTo>
                  <a:lnTo>
                    <a:pt x="1296" y="336"/>
                  </a:lnTo>
                  <a:lnTo>
                    <a:pt x="1286" y="336"/>
                  </a:lnTo>
                  <a:lnTo>
                    <a:pt x="1281" y="341"/>
                  </a:lnTo>
                  <a:lnTo>
                    <a:pt x="1276" y="336"/>
                  </a:lnTo>
                  <a:lnTo>
                    <a:pt x="1271" y="336"/>
                  </a:lnTo>
                  <a:lnTo>
                    <a:pt x="1271" y="327"/>
                  </a:lnTo>
                  <a:lnTo>
                    <a:pt x="1271" y="322"/>
                  </a:lnTo>
                  <a:close/>
                  <a:moveTo>
                    <a:pt x="1410" y="267"/>
                  </a:moveTo>
                  <a:lnTo>
                    <a:pt x="1410" y="262"/>
                  </a:lnTo>
                  <a:lnTo>
                    <a:pt x="1410" y="257"/>
                  </a:lnTo>
                  <a:lnTo>
                    <a:pt x="1410" y="252"/>
                  </a:lnTo>
                  <a:lnTo>
                    <a:pt x="1410" y="247"/>
                  </a:lnTo>
                  <a:lnTo>
                    <a:pt x="1405" y="247"/>
                  </a:lnTo>
                  <a:lnTo>
                    <a:pt x="1405" y="243"/>
                  </a:lnTo>
                  <a:lnTo>
                    <a:pt x="1400" y="238"/>
                  </a:lnTo>
                  <a:lnTo>
                    <a:pt x="1395" y="238"/>
                  </a:lnTo>
                  <a:lnTo>
                    <a:pt x="1390" y="238"/>
                  </a:lnTo>
                  <a:lnTo>
                    <a:pt x="1380" y="238"/>
                  </a:lnTo>
                  <a:lnTo>
                    <a:pt x="1375" y="238"/>
                  </a:lnTo>
                  <a:lnTo>
                    <a:pt x="1370" y="238"/>
                  </a:lnTo>
                  <a:lnTo>
                    <a:pt x="1365" y="238"/>
                  </a:lnTo>
                  <a:lnTo>
                    <a:pt x="1360" y="243"/>
                  </a:lnTo>
                  <a:lnTo>
                    <a:pt x="1360" y="247"/>
                  </a:lnTo>
                  <a:lnTo>
                    <a:pt x="1360" y="252"/>
                  </a:lnTo>
                  <a:lnTo>
                    <a:pt x="1360" y="257"/>
                  </a:lnTo>
                  <a:lnTo>
                    <a:pt x="1365" y="262"/>
                  </a:lnTo>
                  <a:lnTo>
                    <a:pt x="1370" y="267"/>
                  </a:lnTo>
                  <a:lnTo>
                    <a:pt x="1375" y="267"/>
                  </a:lnTo>
                  <a:lnTo>
                    <a:pt x="1380" y="267"/>
                  </a:lnTo>
                  <a:lnTo>
                    <a:pt x="1390" y="267"/>
                  </a:lnTo>
                  <a:lnTo>
                    <a:pt x="1395" y="272"/>
                  </a:lnTo>
                  <a:lnTo>
                    <a:pt x="1400" y="272"/>
                  </a:lnTo>
                  <a:lnTo>
                    <a:pt x="1410" y="267"/>
                  </a:lnTo>
                  <a:lnTo>
                    <a:pt x="1410" y="267"/>
                  </a:lnTo>
                  <a:close/>
                  <a:moveTo>
                    <a:pt x="920" y="238"/>
                  </a:moveTo>
                  <a:lnTo>
                    <a:pt x="925" y="238"/>
                  </a:lnTo>
                  <a:lnTo>
                    <a:pt x="930" y="233"/>
                  </a:lnTo>
                  <a:lnTo>
                    <a:pt x="930" y="228"/>
                  </a:lnTo>
                  <a:lnTo>
                    <a:pt x="935" y="228"/>
                  </a:lnTo>
                  <a:lnTo>
                    <a:pt x="940" y="223"/>
                  </a:lnTo>
                  <a:lnTo>
                    <a:pt x="945" y="218"/>
                  </a:lnTo>
                  <a:lnTo>
                    <a:pt x="945" y="218"/>
                  </a:lnTo>
                  <a:lnTo>
                    <a:pt x="950" y="213"/>
                  </a:lnTo>
                  <a:lnTo>
                    <a:pt x="955" y="208"/>
                  </a:lnTo>
                  <a:lnTo>
                    <a:pt x="955" y="208"/>
                  </a:lnTo>
                  <a:lnTo>
                    <a:pt x="964" y="208"/>
                  </a:lnTo>
                  <a:lnTo>
                    <a:pt x="964" y="213"/>
                  </a:lnTo>
                  <a:lnTo>
                    <a:pt x="969" y="213"/>
                  </a:lnTo>
                  <a:lnTo>
                    <a:pt x="964" y="218"/>
                  </a:lnTo>
                  <a:lnTo>
                    <a:pt x="960" y="223"/>
                  </a:lnTo>
                  <a:lnTo>
                    <a:pt x="955" y="223"/>
                  </a:lnTo>
                  <a:lnTo>
                    <a:pt x="950" y="228"/>
                  </a:lnTo>
                  <a:lnTo>
                    <a:pt x="950" y="233"/>
                  </a:lnTo>
                  <a:lnTo>
                    <a:pt x="945" y="238"/>
                  </a:lnTo>
                  <a:lnTo>
                    <a:pt x="945" y="238"/>
                  </a:lnTo>
                  <a:lnTo>
                    <a:pt x="940" y="243"/>
                  </a:lnTo>
                  <a:lnTo>
                    <a:pt x="935" y="247"/>
                  </a:lnTo>
                  <a:lnTo>
                    <a:pt x="930" y="247"/>
                  </a:lnTo>
                  <a:lnTo>
                    <a:pt x="925" y="247"/>
                  </a:lnTo>
                  <a:lnTo>
                    <a:pt x="925" y="247"/>
                  </a:lnTo>
                  <a:lnTo>
                    <a:pt x="920" y="238"/>
                  </a:lnTo>
                  <a:close/>
                  <a:moveTo>
                    <a:pt x="1143" y="238"/>
                  </a:moveTo>
                  <a:lnTo>
                    <a:pt x="1143" y="238"/>
                  </a:lnTo>
                  <a:lnTo>
                    <a:pt x="1138" y="233"/>
                  </a:lnTo>
                  <a:lnTo>
                    <a:pt x="1138" y="228"/>
                  </a:lnTo>
                  <a:lnTo>
                    <a:pt x="1138" y="228"/>
                  </a:lnTo>
                  <a:lnTo>
                    <a:pt x="1138" y="223"/>
                  </a:lnTo>
                  <a:lnTo>
                    <a:pt x="1138" y="223"/>
                  </a:lnTo>
                  <a:lnTo>
                    <a:pt x="1138" y="218"/>
                  </a:lnTo>
                  <a:lnTo>
                    <a:pt x="1143" y="213"/>
                  </a:lnTo>
                  <a:lnTo>
                    <a:pt x="1143" y="213"/>
                  </a:lnTo>
                  <a:lnTo>
                    <a:pt x="1147" y="218"/>
                  </a:lnTo>
                  <a:lnTo>
                    <a:pt x="1152" y="218"/>
                  </a:lnTo>
                  <a:lnTo>
                    <a:pt x="1152" y="223"/>
                  </a:lnTo>
                  <a:lnTo>
                    <a:pt x="1157" y="228"/>
                  </a:lnTo>
                  <a:lnTo>
                    <a:pt x="1157" y="228"/>
                  </a:lnTo>
                  <a:lnTo>
                    <a:pt x="1157" y="233"/>
                  </a:lnTo>
                  <a:lnTo>
                    <a:pt x="1157" y="238"/>
                  </a:lnTo>
                  <a:lnTo>
                    <a:pt x="1152" y="238"/>
                  </a:lnTo>
                  <a:lnTo>
                    <a:pt x="1147" y="243"/>
                  </a:lnTo>
                  <a:lnTo>
                    <a:pt x="1143" y="243"/>
                  </a:lnTo>
                  <a:lnTo>
                    <a:pt x="1143" y="238"/>
                  </a:lnTo>
                  <a:close/>
                  <a:moveTo>
                    <a:pt x="1464" y="213"/>
                  </a:moveTo>
                  <a:lnTo>
                    <a:pt x="1464" y="213"/>
                  </a:lnTo>
                  <a:lnTo>
                    <a:pt x="1459" y="213"/>
                  </a:lnTo>
                  <a:lnTo>
                    <a:pt x="1454" y="213"/>
                  </a:lnTo>
                  <a:lnTo>
                    <a:pt x="1454" y="218"/>
                  </a:lnTo>
                  <a:lnTo>
                    <a:pt x="1459" y="223"/>
                  </a:lnTo>
                  <a:lnTo>
                    <a:pt x="1459" y="223"/>
                  </a:lnTo>
                  <a:lnTo>
                    <a:pt x="1459" y="228"/>
                  </a:lnTo>
                  <a:lnTo>
                    <a:pt x="1464" y="228"/>
                  </a:lnTo>
                  <a:lnTo>
                    <a:pt x="1464" y="228"/>
                  </a:lnTo>
                  <a:lnTo>
                    <a:pt x="1464" y="228"/>
                  </a:lnTo>
                  <a:lnTo>
                    <a:pt x="1464" y="223"/>
                  </a:lnTo>
                  <a:lnTo>
                    <a:pt x="1464" y="223"/>
                  </a:lnTo>
                  <a:lnTo>
                    <a:pt x="1464" y="218"/>
                  </a:lnTo>
                  <a:lnTo>
                    <a:pt x="1464" y="213"/>
                  </a:lnTo>
                  <a:close/>
                  <a:moveTo>
                    <a:pt x="2171" y="213"/>
                  </a:moveTo>
                  <a:lnTo>
                    <a:pt x="2176" y="208"/>
                  </a:lnTo>
                  <a:lnTo>
                    <a:pt x="2176" y="203"/>
                  </a:lnTo>
                  <a:lnTo>
                    <a:pt x="2181" y="203"/>
                  </a:lnTo>
                  <a:lnTo>
                    <a:pt x="2186" y="208"/>
                  </a:lnTo>
                  <a:lnTo>
                    <a:pt x="2191" y="208"/>
                  </a:lnTo>
                  <a:lnTo>
                    <a:pt x="2191" y="213"/>
                  </a:lnTo>
                  <a:lnTo>
                    <a:pt x="2191" y="218"/>
                  </a:lnTo>
                  <a:lnTo>
                    <a:pt x="2191" y="223"/>
                  </a:lnTo>
                  <a:lnTo>
                    <a:pt x="2186" y="228"/>
                  </a:lnTo>
                  <a:lnTo>
                    <a:pt x="2181" y="228"/>
                  </a:lnTo>
                  <a:lnTo>
                    <a:pt x="2176" y="228"/>
                  </a:lnTo>
                  <a:lnTo>
                    <a:pt x="2176" y="223"/>
                  </a:lnTo>
                  <a:lnTo>
                    <a:pt x="2176" y="218"/>
                  </a:lnTo>
                  <a:lnTo>
                    <a:pt x="2171" y="213"/>
                  </a:lnTo>
                  <a:close/>
                  <a:moveTo>
                    <a:pt x="989" y="188"/>
                  </a:moveTo>
                  <a:lnTo>
                    <a:pt x="999" y="178"/>
                  </a:lnTo>
                  <a:lnTo>
                    <a:pt x="1004" y="173"/>
                  </a:lnTo>
                  <a:lnTo>
                    <a:pt x="1009" y="168"/>
                  </a:lnTo>
                  <a:lnTo>
                    <a:pt x="1014" y="173"/>
                  </a:lnTo>
                  <a:lnTo>
                    <a:pt x="1019" y="178"/>
                  </a:lnTo>
                  <a:lnTo>
                    <a:pt x="1024" y="183"/>
                  </a:lnTo>
                  <a:lnTo>
                    <a:pt x="1024" y="188"/>
                  </a:lnTo>
                  <a:lnTo>
                    <a:pt x="1024" y="198"/>
                  </a:lnTo>
                  <a:lnTo>
                    <a:pt x="1019" y="203"/>
                  </a:lnTo>
                  <a:lnTo>
                    <a:pt x="1009" y="203"/>
                  </a:lnTo>
                  <a:lnTo>
                    <a:pt x="1004" y="203"/>
                  </a:lnTo>
                  <a:lnTo>
                    <a:pt x="999" y="203"/>
                  </a:lnTo>
                  <a:lnTo>
                    <a:pt x="994" y="193"/>
                  </a:lnTo>
                  <a:lnTo>
                    <a:pt x="989" y="188"/>
                  </a:lnTo>
                  <a:close/>
                  <a:moveTo>
                    <a:pt x="1415" y="188"/>
                  </a:moveTo>
                  <a:lnTo>
                    <a:pt x="1415" y="178"/>
                  </a:lnTo>
                  <a:lnTo>
                    <a:pt x="1415" y="173"/>
                  </a:lnTo>
                  <a:lnTo>
                    <a:pt x="1410" y="173"/>
                  </a:lnTo>
                  <a:lnTo>
                    <a:pt x="1405" y="173"/>
                  </a:lnTo>
                  <a:lnTo>
                    <a:pt x="1395" y="173"/>
                  </a:lnTo>
                  <a:lnTo>
                    <a:pt x="1385" y="173"/>
                  </a:lnTo>
                  <a:lnTo>
                    <a:pt x="1380" y="173"/>
                  </a:lnTo>
                  <a:lnTo>
                    <a:pt x="1370" y="178"/>
                  </a:lnTo>
                  <a:lnTo>
                    <a:pt x="1360" y="183"/>
                  </a:lnTo>
                  <a:lnTo>
                    <a:pt x="1355" y="183"/>
                  </a:lnTo>
                  <a:lnTo>
                    <a:pt x="1355" y="188"/>
                  </a:lnTo>
                  <a:lnTo>
                    <a:pt x="1365" y="188"/>
                  </a:lnTo>
                  <a:lnTo>
                    <a:pt x="1370" y="188"/>
                  </a:lnTo>
                  <a:lnTo>
                    <a:pt x="1380" y="188"/>
                  </a:lnTo>
                  <a:lnTo>
                    <a:pt x="1390" y="193"/>
                  </a:lnTo>
                  <a:lnTo>
                    <a:pt x="1400" y="193"/>
                  </a:lnTo>
                  <a:lnTo>
                    <a:pt x="1405" y="198"/>
                  </a:lnTo>
                  <a:lnTo>
                    <a:pt x="1410" y="193"/>
                  </a:lnTo>
                  <a:lnTo>
                    <a:pt x="1415" y="193"/>
                  </a:lnTo>
                  <a:lnTo>
                    <a:pt x="1415" y="188"/>
                  </a:lnTo>
                  <a:close/>
                  <a:moveTo>
                    <a:pt x="1860" y="188"/>
                  </a:moveTo>
                  <a:lnTo>
                    <a:pt x="1860" y="183"/>
                  </a:lnTo>
                  <a:lnTo>
                    <a:pt x="1855" y="183"/>
                  </a:lnTo>
                  <a:lnTo>
                    <a:pt x="1850" y="183"/>
                  </a:lnTo>
                  <a:lnTo>
                    <a:pt x="1840" y="183"/>
                  </a:lnTo>
                  <a:lnTo>
                    <a:pt x="1835" y="183"/>
                  </a:lnTo>
                  <a:lnTo>
                    <a:pt x="1830" y="183"/>
                  </a:lnTo>
                  <a:lnTo>
                    <a:pt x="1825" y="183"/>
                  </a:lnTo>
                  <a:lnTo>
                    <a:pt x="1825" y="188"/>
                  </a:lnTo>
                  <a:lnTo>
                    <a:pt x="1825" y="193"/>
                  </a:lnTo>
                  <a:lnTo>
                    <a:pt x="1825" y="198"/>
                  </a:lnTo>
                  <a:lnTo>
                    <a:pt x="1830" y="198"/>
                  </a:lnTo>
                  <a:lnTo>
                    <a:pt x="1830" y="203"/>
                  </a:lnTo>
                  <a:lnTo>
                    <a:pt x="1835" y="203"/>
                  </a:lnTo>
                  <a:lnTo>
                    <a:pt x="1840" y="203"/>
                  </a:lnTo>
                  <a:lnTo>
                    <a:pt x="1845" y="203"/>
                  </a:lnTo>
                  <a:lnTo>
                    <a:pt x="1850" y="198"/>
                  </a:lnTo>
                  <a:lnTo>
                    <a:pt x="1855" y="198"/>
                  </a:lnTo>
                  <a:lnTo>
                    <a:pt x="1855" y="193"/>
                  </a:lnTo>
                  <a:lnTo>
                    <a:pt x="1860" y="188"/>
                  </a:lnTo>
                  <a:lnTo>
                    <a:pt x="1860" y="188"/>
                  </a:lnTo>
                  <a:close/>
                  <a:moveTo>
                    <a:pt x="1474" y="159"/>
                  </a:moveTo>
                  <a:lnTo>
                    <a:pt x="1474" y="154"/>
                  </a:lnTo>
                  <a:lnTo>
                    <a:pt x="1469" y="149"/>
                  </a:lnTo>
                  <a:lnTo>
                    <a:pt x="1469" y="144"/>
                  </a:lnTo>
                  <a:lnTo>
                    <a:pt x="1459" y="144"/>
                  </a:lnTo>
                  <a:lnTo>
                    <a:pt x="1454" y="149"/>
                  </a:lnTo>
                  <a:lnTo>
                    <a:pt x="1449" y="149"/>
                  </a:lnTo>
                  <a:lnTo>
                    <a:pt x="1444" y="154"/>
                  </a:lnTo>
                  <a:lnTo>
                    <a:pt x="1439" y="159"/>
                  </a:lnTo>
                  <a:lnTo>
                    <a:pt x="1444" y="163"/>
                  </a:lnTo>
                  <a:lnTo>
                    <a:pt x="1449" y="163"/>
                  </a:lnTo>
                  <a:lnTo>
                    <a:pt x="1454" y="163"/>
                  </a:lnTo>
                  <a:lnTo>
                    <a:pt x="1464" y="163"/>
                  </a:lnTo>
                  <a:lnTo>
                    <a:pt x="1469" y="163"/>
                  </a:lnTo>
                  <a:lnTo>
                    <a:pt x="1474" y="159"/>
                  </a:lnTo>
                  <a:close/>
                  <a:moveTo>
                    <a:pt x="1602" y="159"/>
                  </a:moveTo>
                  <a:lnTo>
                    <a:pt x="1598" y="159"/>
                  </a:lnTo>
                  <a:lnTo>
                    <a:pt x="1593" y="159"/>
                  </a:lnTo>
                  <a:lnTo>
                    <a:pt x="1588" y="159"/>
                  </a:lnTo>
                  <a:lnTo>
                    <a:pt x="1588" y="163"/>
                  </a:lnTo>
                  <a:lnTo>
                    <a:pt x="1588" y="163"/>
                  </a:lnTo>
                  <a:lnTo>
                    <a:pt x="1593" y="168"/>
                  </a:lnTo>
                  <a:lnTo>
                    <a:pt x="1593" y="173"/>
                  </a:lnTo>
                  <a:lnTo>
                    <a:pt x="1593" y="173"/>
                  </a:lnTo>
                  <a:lnTo>
                    <a:pt x="1598" y="173"/>
                  </a:lnTo>
                  <a:lnTo>
                    <a:pt x="1598" y="173"/>
                  </a:lnTo>
                  <a:lnTo>
                    <a:pt x="1598" y="173"/>
                  </a:lnTo>
                  <a:lnTo>
                    <a:pt x="1598" y="168"/>
                  </a:lnTo>
                  <a:lnTo>
                    <a:pt x="1602" y="163"/>
                  </a:lnTo>
                  <a:lnTo>
                    <a:pt x="1602" y="159"/>
                  </a:lnTo>
                  <a:close/>
                  <a:moveTo>
                    <a:pt x="1657" y="159"/>
                  </a:moveTo>
                  <a:lnTo>
                    <a:pt x="1652" y="159"/>
                  </a:lnTo>
                  <a:lnTo>
                    <a:pt x="1647" y="159"/>
                  </a:lnTo>
                  <a:lnTo>
                    <a:pt x="1642" y="159"/>
                  </a:lnTo>
                  <a:lnTo>
                    <a:pt x="1642" y="163"/>
                  </a:lnTo>
                  <a:lnTo>
                    <a:pt x="1642" y="163"/>
                  </a:lnTo>
                  <a:lnTo>
                    <a:pt x="1642" y="168"/>
                  </a:lnTo>
                  <a:lnTo>
                    <a:pt x="1642" y="173"/>
                  </a:lnTo>
                  <a:lnTo>
                    <a:pt x="1647" y="173"/>
                  </a:lnTo>
                  <a:lnTo>
                    <a:pt x="1652" y="178"/>
                  </a:lnTo>
                  <a:lnTo>
                    <a:pt x="1652" y="173"/>
                  </a:lnTo>
                  <a:lnTo>
                    <a:pt x="1652" y="173"/>
                  </a:lnTo>
                  <a:lnTo>
                    <a:pt x="1657" y="168"/>
                  </a:lnTo>
                  <a:lnTo>
                    <a:pt x="1657" y="163"/>
                  </a:lnTo>
                  <a:lnTo>
                    <a:pt x="1657" y="159"/>
                  </a:lnTo>
                  <a:close/>
                  <a:moveTo>
                    <a:pt x="1805" y="159"/>
                  </a:moveTo>
                  <a:lnTo>
                    <a:pt x="1800" y="159"/>
                  </a:lnTo>
                  <a:lnTo>
                    <a:pt x="1795" y="159"/>
                  </a:lnTo>
                  <a:lnTo>
                    <a:pt x="1790" y="159"/>
                  </a:lnTo>
                  <a:lnTo>
                    <a:pt x="1785" y="159"/>
                  </a:lnTo>
                  <a:lnTo>
                    <a:pt x="1776" y="159"/>
                  </a:lnTo>
                  <a:lnTo>
                    <a:pt x="1771" y="159"/>
                  </a:lnTo>
                  <a:lnTo>
                    <a:pt x="1766" y="159"/>
                  </a:lnTo>
                  <a:lnTo>
                    <a:pt x="1771" y="163"/>
                  </a:lnTo>
                  <a:lnTo>
                    <a:pt x="1776" y="163"/>
                  </a:lnTo>
                  <a:lnTo>
                    <a:pt x="1785" y="163"/>
                  </a:lnTo>
                  <a:lnTo>
                    <a:pt x="1790" y="163"/>
                  </a:lnTo>
                  <a:lnTo>
                    <a:pt x="1795" y="163"/>
                  </a:lnTo>
                  <a:lnTo>
                    <a:pt x="1800" y="163"/>
                  </a:lnTo>
                  <a:lnTo>
                    <a:pt x="1805" y="159"/>
                  </a:lnTo>
                  <a:close/>
                  <a:moveTo>
                    <a:pt x="1548" y="134"/>
                  </a:moveTo>
                  <a:lnTo>
                    <a:pt x="1548" y="129"/>
                  </a:lnTo>
                  <a:lnTo>
                    <a:pt x="1543" y="124"/>
                  </a:lnTo>
                  <a:lnTo>
                    <a:pt x="1543" y="124"/>
                  </a:lnTo>
                  <a:lnTo>
                    <a:pt x="1538" y="119"/>
                  </a:lnTo>
                  <a:lnTo>
                    <a:pt x="1528" y="119"/>
                  </a:lnTo>
                  <a:lnTo>
                    <a:pt x="1523" y="119"/>
                  </a:lnTo>
                  <a:lnTo>
                    <a:pt x="1518" y="119"/>
                  </a:lnTo>
                  <a:lnTo>
                    <a:pt x="1513" y="124"/>
                  </a:lnTo>
                  <a:lnTo>
                    <a:pt x="1504" y="124"/>
                  </a:lnTo>
                  <a:lnTo>
                    <a:pt x="1504" y="129"/>
                  </a:lnTo>
                  <a:lnTo>
                    <a:pt x="1499" y="134"/>
                  </a:lnTo>
                  <a:lnTo>
                    <a:pt x="1504" y="134"/>
                  </a:lnTo>
                  <a:lnTo>
                    <a:pt x="1508" y="134"/>
                  </a:lnTo>
                  <a:lnTo>
                    <a:pt x="1513" y="139"/>
                  </a:lnTo>
                  <a:lnTo>
                    <a:pt x="1518" y="139"/>
                  </a:lnTo>
                  <a:lnTo>
                    <a:pt x="1528" y="139"/>
                  </a:lnTo>
                  <a:lnTo>
                    <a:pt x="1533" y="139"/>
                  </a:lnTo>
                  <a:lnTo>
                    <a:pt x="1538" y="139"/>
                  </a:lnTo>
                  <a:lnTo>
                    <a:pt x="1543" y="134"/>
                  </a:lnTo>
                  <a:lnTo>
                    <a:pt x="1548" y="134"/>
                  </a:lnTo>
                  <a:close/>
                  <a:moveTo>
                    <a:pt x="1751" y="134"/>
                  </a:moveTo>
                  <a:lnTo>
                    <a:pt x="1746" y="134"/>
                  </a:lnTo>
                  <a:lnTo>
                    <a:pt x="1741" y="129"/>
                  </a:lnTo>
                  <a:lnTo>
                    <a:pt x="1736" y="129"/>
                  </a:lnTo>
                  <a:lnTo>
                    <a:pt x="1731" y="129"/>
                  </a:lnTo>
                  <a:lnTo>
                    <a:pt x="1721" y="129"/>
                  </a:lnTo>
                  <a:lnTo>
                    <a:pt x="1716" y="134"/>
                  </a:lnTo>
                  <a:lnTo>
                    <a:pt x="1711" y="134"/>
                  </a:lnTo>
                  <a:lnTo>
                    <a:pt x="1716" y="134"/>
                  </a:lnTo>
                  <a:lnTo>
                    <a:pt x="1721" y="134"/>
                  </a:lnTo>
                  <a:lnTo>
                    <a:pt x="1731" y="139"/>
                  </a:lnTo>
                  <a:lnTo>
                    <a:pt x="1736" y="139"/>
                  </a:lnTo>
                  <a:lnTo>
                    <a:pt x="1741" y="134"/>
                  </a:lnTo>
                  <a:lnTo>
                    <a:pt x="1746" y="134"/>
                  </a:lnTo>
                  <a:lnTo>
                    <a:pt x="1751" y="134"/>
                  </a:lnTo>
                  <a:close/>
                  <a:moveTo>
                    <a:pt x="1612" y="104"/>
                  </a:moveTo>
                  <a:lnTo>
                    <a:pt x="1607" y="99"/>
                  </a:lnTo>
                  <a:lnTo>
                    <a:pt x="1602" y="99"/>
                  </a:lnTo>
                  <a:lnTo>
                    <a:pt x="1598" y="94"/>
                  </a:lnTo>
                  <a:lnTo>
                    <a:pt x="1598" y="94"/>
                  </a:lnTo>
                  <a:lnTo>
                    <a:pt x="1593" y="94"/>
                  </a:lnTo>
                  <a:lnTo>
                    <a:pt x="1588" y="94"/>
                  </a:lnTo>
                  <a:lnTo>
                    <a:pt x="1588" y="99"/>
                  </a:lnTo>
                  <a:lnTo>
                    <a:pt x="1583" y="99"/>
                  </a:lnTo>
                  <a:lnTo>
                    <a:pt x="1573" y="104"/>
                  </a:lnTo>
                  <a:lnTo>
                    <a:pt x="1568" y="104"/>
                  </a:lnTo>
                  <a:lnTo>
                    <a:pt x="1563" y="104"/>
                  </a:lnTo>
                  <a:lnTo>
                    <a:pt x="1563" y="109"/>
                  </a:lnTo>
                  <a:lnTo>
                    <a:pt x="1573" y="109"/>
                  </a:lnTo>
                  <a:lnTo>
                    <a:pt x="1578" y="109"/>
                  </a:lnTo>
                  <a:lnTo>
                    <a:pt x="1583" y="109"/>
                  </a:lnTo>
                  <a:lnTo>
                    <a:pt x="1588" y="109"/>
                  </a:lnTo>
                  <a:lnTo>
                    <a:pt x="1593" y="109"/>
                  </a:lnTo>
                  <a:lnTo>
                    <a:pt x="1598" y="109"/>
                  </a:lnTo>
                  <a:lnTo>
                    <a:pt x="1602" y="109"/>
                  </a:lnTo>
                  <a:lnTo>
                    <a:pt x="1612" y="104"/>
                  </a:lnTo>
                  <a:close/>
                  <a:moveTo>
                    <a:pt x="1696" y="104"/>
                  </a:moveTo>
                  <a:lnTo>
                    <a:pt x="1691" y="104"/>
                  </a:lnTo>
                  <a:lnTo>
                    <a:pt x="1687" y="104"/>
                  </a:lnTo>
                  <a:lnTo>
                    <a:pt x="1677" y="104"/>
                  </a:lnTo>
                  <a:lnTo>
                    <a:pt x="1672" y="104"/>
                  </a:lnTo>
                  <a:lnTo>
                    <a:pt x="1662" y="104"/>
                  </a:lnTo>
                  <a:lnTo>
                    <a:pt x="1657" y="104"/>
                  </a:lnTo>
                  <a:lnTo>
                    <a:pt x="1652" y="104"/>
                  </a:lnTo>
                  <a:lnTo>
                    <a:pt x="1657" y="109"/>
                  </a:lnTo>
                  <a:lnTo>
                    <a:pt x="1662" y="109"/>
                  </a:lnTo>
                  <a:lnTo>
                    <a:pt x="1672" y="109"/>
                  </a:lnTo>
                  <a:lnTo>
                    <a:pt x="1682" y="109"/>
                  </a:lnTo>
                  <a:lnTo>
                    <a:pt x="1687" y="109"/>
                  </a:lnTo>
                  <a:lnTo>
                    <a:pt x="1691" y="109"/>
                  </a:lnTo>
                  <a:lnTo>
                    <a:pt x="1696" y="104"/>
                  </a:lnTo>
                  <a:close/>
                </a:path>
              </a:pathLst>
            </a:custGeom>
            <a:solidFill>
              <a:srgbClr val="ffe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3" name=""/>
            <p:cNvSpPr/>
            <p:nvPr/>
          </p:nvSpPr>
          <p:spPr>
            <a:xfrm>
              <a:off x="2265120" y="2368440"/>
              <a:ext cx="4098960" cy="2628360"/>
            </a:xfrm>
            <a:custGeom>
              <a:avLst/>
              <a:gdLst/>
              <a:ahLst/>
              <a:rect l="l" t="t" r="r" b="b"/>
              <a:pathLst>
                <a:path w="2582" h="1656">
                  <a:moveTo>
                    <a:pt x="2235" y="1656"/>
                  </a:moveTo>
                  <a:lnTo>
                    <a:pt x="2260" y="1631"/>
                  </a:lnTo>
                  <a:lnTo>
                    <a:pt x="2285" y="1631"/>
                  </a:lnTo>
                  <a:lnTo>
                    <a:pt x="2315" y="1631"/>
                  </a:lnTo>
                  <a:lnTo>
                    <a:pt x="2339" y="1631"/>
                  </a:lnTo>
                  <a:lnTo>
                    <a:pt x="2369" y="1631"/>
                  </a:lnTo>
                  <a:lnTo>
                    <a:pt x="2394" y="1631"/>
                  </a:lnTo>
                  <a:lnTo>
                    <a:pt x="2418" y="1631"/>
                  </a:lnTo>
                  <a:lnTo>
                    <a:pt x="2448" y="1602"/>
                  </a:lnTo>
                  <a:lnTo>
                    <a:pt x="2448" y="1577"/>
                  </a:lnTo>
                  <a:lnTo>
                    <a:pt x="2448" y="1547"/>
                  </a:lnTo>
                  <a:lnTo>
                    <a:pt x="2448" y="1523"/>
                  </a:lnTo>
                  <a:lnTo>
                    <a:pt x="2473" y="1498"/>
                  </a:lnTo>
                  <a:lnTo>
                    <a:pt x="2473" y="1468"/>
                  </a:lnTo>
                  <a:lnTo>
                    <a:pt x="2473" y="1444"/>
                  </a:lnTo>
                  <a:lnTo>
                    <a:pt x="2473" y="1414"/>
                  </a:lnTo>
                  <a:lnTo>
                    <a:pt x="2503" y="1389"/>
                  </a:lnTo>
                  <a:lnTo>
                    <a:pt x="2503" y="1364"/>
                  </a:lnTo>
                  <a:lnTo>
                    <a:pt x="2503" y="1335"/>
                  </a:lnTo>
                  <a:lnTo>
                    <a:pt x="2503" y="1310"/>
                  </a:lnTo>
                  <a:lnTo>
                    <a:pt x="2527" y="1280"/>
                  </a:lnTo>
                  <a:lnTo>
                    <a:pt x="2527" y="1256"/>
                  </a:lnTo>
                  <a:lnTo>
                    <a:pt x="2527" y="1226"/>
                  </a:lnTo>
                  <a:lnTo>
                    <a:pt x="2527" y="1201"/>
                  </a:lnTo>
                  <a:lnTo>
                    <a:pt x="2552" y="1177"/>
                  </a:lnTo>
                  <a:lnTo>
                    <a:pt x="2552" y="1147"/>
                  </a:lnTo>
                  <a:lnTo>
                    <a:pt x="2552" y="1122"/>
                  </a:lnTo>
                  <a:lnTo>
                    <a:pt x="2552" y="1093"/>
                  </a:lnTo>
                  <a:lnTo>
                    <a:pt x="2582" y="1068"/>
                  </a:lnTo>
                  <a:lnTo>
                    <a:pt x="2582" y="1043"/>
                  </a:lnTo>
                  <a:lnTo>
                    <a:pt x="2582" y="1014"/>
                  </a:lnTo>
                  <a:lnTo>
                    <a:pt x="2582" y="989"/>
                  </a:lnTo>
                  <a:lnTo>
                    <a:pt x="2582" y="959"/>
                  </a:lnTo>
                  <a:lnTo>
                    <a:pt x="2582" y="934"/>
                  </a:lnTo>
                  <a:lnTo>
                    <a:pt x="2582" y="910"/>
                  </a:lnTo>
                  <a:lnTo>
                    <a:pt x="2582" y="880"/>
                  </a:lnTo>
                  <a:lnTo>
                    <a:pt x="2582" y="855"/>
                  </a:lnTo>
                  <a:lnTo>
                    <a:pt x="2582" y="826"/>
                  </a:lnTo>
                  <a:lnTo>
                    <a:pt x="2582" y="801"/>
                  </a:lnTo>
                  <a:lnTo>
                    <a:pt x="2582" y="776"/>
                  </a:lnTo>
                  <a:lnTo>
                    <a:pt x="2582" y="747"/>
                  </a:lnTo>
                  <a:lnTo>
                    <a:pt x="2582" y="722"/>
                  </a:lnTo>
                  <a:lnTo>
                    <a:pt x="2582" y="692"/>
                  </a:lnTo>
                  <a:lnTo>
                    <a:pt x="2582" y="668"/>
                  </a:lnTo>
                  <a:lnTo>
                    <a:pt x="2582" y="643"/>
                  </a:lnTo>
                  <a:lnTo>
                    <a:pt x="2582" y="613"/>
                  </a:lnTo>
                  <a:lnTo>
                    <a:pt x="2582" y="589"/>
                  </a:lnTo>
                  <a:lnTo>
                    <a:pt x="2582" y="559"/>
                  </a:lnTo>
                  <a:lnTo>
                    <a:pt x="2582" y="534"/>
                  </a:lnTo>
                  <a:lnTo>
                    <a:pt x="2582" y="504"/>
                  </a:lnTo>
                  <a:lnTo>
                    <a:pt x="2582" y="480"/>
                  </a:lnTo>
                  <a:lnTo>
                    <a:pt x="2582" y="455"/>
                  </a:lnTo>
                  <a:lnTo>
                    <a:pt x="2582" y="425"/>
                  </a:lnTo>
                  <a:lnTo>
                    <a:pt x="2582" y="401"/>
                  </a:lnTo>
                  <a:lnTo>
                    <a:pt x="2582" y="371"/>
                  </a:lnTo>
                  <a:lnTo>
                    <a:pt x="2582" y="346"/>
                  </a:lnTo>
                  <a:lnTo>
                    <a:pt x="2582" y="322"/>
                  </a:lnTo>
                  <a:lnTo>
                    <a:pt x="2582" y="292"/>
                  </a:lnTo>
                  <a:lnTo>
                    <a:pt x="2582" y="267"/>
                  </a:lnTo>
                  <a:lnTo>
                    <a:pt x="2582" y="238"/>
                  </a:lnTo>
                  <a:lnTo>
                    <a:pt x="2552" y="213"/>
                  </a:lnTo>
                  <a:lnTo>
                    <a:pt x="2552" y="188"/>
                  </a:lnTo>
                  <a:lnTo>
                    <a:pt x="2552" y="159"/>
                  </a:lnTo>
                  <a:lnTo>
                    <a:pt x="2552" y="134"/>
                  </a:lnTo>
                  <a:lnTo>
                    <a:pt x="2552" y="104"/>
                  </a:lnTo>
                  <a:lnTo>
                    <a:pt x="2527" y="79"/>
                  </a:lnTo>
                  <a:lnTo>
                    <a:pt x="2503" y="79"/>
                  </a:lnTo>
                  <a:lnTo>
                    <a:pt x="2473" y="79"/>
                  </a:lnTo>
                  <a:lnTo>
                    <a:pt x="2448" y="55"/>
                  </a:lnTo>
                  <a:lnTo>
                    <a:pt x="2418" y="55"/>
                  </a:lnTo>
                  <a:lnTo>
                    <a:pt x="2394" y="55"/>
                  </a:lnTo>
                  <a:lnTo>
                    <a:pt x="2369" y="25"/>
                  </a:lnTo>
                  <a:lnTo>
                    <a:pt x="2339" y="25"/>
                  </a:lnTo>
                  <a:lnTo>
                    <a:pt x="2315" y="25"/>
                  </a:lnTo>
                  <a:lnTo>
                    <a:pt x="2285" y="0"/>
                  </a:lnTo>
                  <a:lnTo>
                    <a:pt x="2260" y="0"/>
                  </a:lnTo>
                  <a:lnTo>
                    <a:pt x="2235" y="0"/>
                  </a:lnTo>
                  <a:lnTo>
                    <a:pt x="2206" y="0"/>
                  </a:lnTo>
                  <a:lnTo>
                    <a:pt x="2181" y="0"/>
                  </a:lnTo>
                  <a:lnTo>
                    <a:pt x="2156" y="0"/>
                  </a:lnTo>
                  <a:lnTo>
                    <a:pt x="2127" y="0"/>
                  </a:lnTo>
                  <a:lnTo>
                    <a:pt x="2102" y="0"/>
                  </a:lnTo>
                  <a:lnTo>
                    <a:pt x="2072" y="0"/>
                  </a:lnTo>
                  <a:lnTo>
                    <a:pt x="2048" y="0"/>
                  </a:lnTo>
                  <a:lnTo>
                    <a:pt x="2023" y="0"/>
                  </a:lnTo>
                  <a:lnTo>
                    <a:pt x="1993" y="0"/>
                  </a:lnTo>
                  <a:lnTo>
                    <a:pt x="1968" y="0"/>
                  </a:lnTo>
                  <a:lnTo>
                    <a:pt x="1944" y="0"/>
                  </a:lnTo>
                  <a:lnTo>
                    <a:pt x="1914" y="0"/>
                  </a:lnTo>
                  <a:lnTo>
                    <a:pt x="1889" y="0"/>
                  </a:lnTo>
                  <a:lnTo>
                    <a:pt x="1860" y="0"/>
                  </a:lnTo>
                  <a:lnTo>
                    <a:pt x="1835" y="0"/>
                  </a:lnTo>
                  <a:lnTo>
                    <a:pt x="1810" y="0"/>
                  </a:lnTo>
                  <a:lnTo>
                    <a:pt x="1780" y="0"/>
                  </a:lnTo>
                  <a:lnTo>
                    <a:pt x="1756" y="0"/>
                  </a:lnTo>
                  <a:lnTo>
                    <a:pt x="1726" y="0"/>
                  </a:lnTo>
                  <a:lnTo>
                    <a:pt x="1701" y="0"/>
                  </a:lnTo>
                  <a:lnTo>
                    <a:pt x="1677" y="0"/>
                  </a:lnTo>
                  <a:lnTo>
                    <a:pt x="1647" y="0"/>
                  </a:lnTo>
                  <a:lnTo>
                    <a:pt x="1622" y="0"/>
                  </a:lnTo>
                  <a:lnTo>
                    <a:pt x="1598" y="0"/>
                  </a:lnTo>
                  <a:lnTo>
                    <a:pt x="1568" y="0"/>
                  </a:lnTo>
                  <a:lnTo>
                    <a:pt x="1543" y="0"/>
                  </a:lnTo>
                  <a:lnTo>
                    <a:pt x="1513" y="0"/>
                  </a:lnTo>
                  <a:lnTo>
                    <a:pt x="1489" y="0"/>
                  </a:lnTo>
                  <a:lnTo>
                    <a:pt x="1464" y="0"/>
                  </a:lnTo>
                  <a:lnTo>
                    <a:pt x="1434" y="0"/>
                  </a:lnTo>
                  <a:lnTo>
                    <a:pt x="1410" y="0"/>
                  </a:lnTo>
                  <a:lnTo>
                    <a:pt x="1385" y="0"/>
                  </a:lnTo>
                  <a:lnTo>
                    <a:pt x="1355" y="0"/>
                  </a:lnTo>
                  <a:lnTo>
                    <a:pt x="1330" y="0"/>
                  </a:lnTo>
                  <a:lnTo>
                    <a:pt x="1301" y="0"/>
                  </a:lnTo>
                  <a:lnTo>
                    <a:pt x="1276" y="0"/>
                  </a:lnTo>
                  <a:lnTo>
                    <a:pt x="1251" y="0"/>
                  </a:lnTo>
                  <a:lnTo>
                    <a:pt x="1222" y="0"/>
                  </a:lnTo>
                  <a:lnTo>
                    <a:pt x="1197" y="0"/>
                  </a:lnTo>
                  <a:lnTo>
                    <a:pt x="1172" y="0"/>
                  </a:lnTo>
                  <a:lnTo>
                    <a:pt x="1143" y="0"/>
                  </a:lnTo>
                  <a:lnTo>
                    <a:pt x="1118" y="0"/>
                  </a:lnTo>
                  <a:lnTo>
                    <a:pt x="1088" y="0"/>
                  </a:lnTo>
                  <a:lnTo>
                    <a:pt x="1063" y="0"/>
                  </a:lnTo>
                  <a:lnTo>
                    <a:pt x="1039" y="0"/>
                  </a:lnTo>
                  <a:lnTo>
                    <a:pt x="1009" y="0"/>
                  </a:lnTo>
                  <a:lnTo>
                    <a:pt x="984" y="0"/>
                  </a:lnTo>
                  <a:lnTo>
                    <a:pt x="955" y="0"/>
                  </a:lnTo>
                  <a:lnTo>
                    <a:pt x="930" y="0"/>
                  </a:lnTo>
                  <a:lnTo>
                    <a:pt x="905" y="0"/>
                  </a:lnTo>
                  <a:lnTo>
                    <a:pt x="875" y="0"/>
                  </a:lnTo>
                  <a:lnTo>
                    <a:pt x="851" y="0"/>
                  </a:lnTo>
                  <a:lnTo>
                    <a:pt x="826" y="0"/>
                  </a:lnTo>
                  <a:lnTo>
                    <a:pt x="796" y="0"/>
                  </a:lnTo>
                  <a:lnTo>
                    <a:pt x="772" y="0"/>
                  </a:lnTo>
                  <a:lnTo>
                    <a:pt x="742" y="0"/>
                  </a:lnTo>
                  <a:lnTo>
                    <a:pt x="717" y="0"/>
                  </a:lnTo>
                  <a:lnTo>
                    <a:pt x="692" y="0"/>
                  </a:lnTo>
                  <a:lnTo>
                    <a:pt x="663" y="0"/>
                  </a:lnTo>
                  <a:lnTo>
                    <a:pt x="638" y="0"/>
                  </a:lnTo>
                  <a:lnTo>
                    <a:pt x="613" y="0"/>
                  </a:lnTo>
                  <a:lnTo>
                    <a:pt x="584" y="25"/>
                  </a:lnTo>
                  <a:lnTo>
                    <a:pt x="559" y="55"/>
                  </a:lnTo>
                  <a:lnTo>
                    <a:pt x="529" y="79"/>
                  </a:lnTo>
                  <a:lnTo>
                    <a:pt x="505" y="104"/>
                  </a:lnTo>
                  <a:lnTo>
                    <a:pt x="480" y="134"/>
                  </a:lnTo>
                  <a:lnTo>
                    <a:pt x="450" y="134"/>
                  </a:lnTo>
                  <a:lnTo>
                    <a:pt x="425" y="159"/>
                  </a:lnTo>
                  <a:lnTo>
                    <a:pt x="396" y="188"/>
                  </a:lnTo>
                  <a:lnTo>
                    <a:pt x="371" y="213"/>
                  </a:lnTo>
                  <a:lnTo>
                    <a:pt x="346" y="238"/>
                  </a:lnTo>
                  <a:lnTo>
                    <a:pt x="317" y="267"/>
                  </a:lnTo>
                  <a:lnTo>
                    <a:pt x="292" y="292"/>
                  </a:lnTo>
                  <a:lnTo>
                    <a:pt x="267" y="322"/>
                  </a:lnTo>
                  <a:lnTo>
                    <a:pt x="237" y="322"/>
                  </a:lnTo>
                  <a:lnTo>
                    <a:pt x="213" y="346"/>
                  </a:lnTo>
                  <a:lnTo>
                    <a:pt x="183" y="371"/>
                  </a:lnTo>
                  <a:lnTo>
                    <a:pt x="158" y="401"/>
                  </a:lnTo>
                  <a:lnTo>
                    <a:pt x="134" y="425"/>
                  </a:lnTo>
                  <a:lnTo>
                    <a:pt x="104" y="455"/>
                  </a:lnTo>
                  <a:lnTo>
                    <a:pt x="79" y="480"/>
                  </a:lnTo>
                  <a:lnTo>
                    <a:pt x="55" y="504"/>
                  </a:lnTo>
                  <a:lnTo>
                    <a:pt x="25" y="504"/>
                  </a:lnTo>
                  <a:lnTo>
                    <a:pt x="0" y="534"/>
                  </a:lnTo>
                  <a:lnTo>
                    <a:pt x="0" y="559"/>
                  </a:lnTo>
                  <a:lnTo>
                    <a:pt x="0" y="589"/>
                  </a:lnTo>
                  <a:lnTo>
                    <a:pt x="0" y="613"/>
                  </a:lnTo>
                  <a:lnTo>
                    <a:pt x="25" y="643"/>
                  </a:lnTo>
                  <a:lnTo>
                    <a:pt x="25" y="668"/>
                  </a:lnTo>
                  <a:lnTo>
                    <a:pt x="55" y="692"/>
                  </a:lnTo>
                  <a:lnTo>
                    <a:pt x="79" y="722"/>
                  </a:lnTo>
                  <a:lnTo>
                    <a:pt x="104" y="747"/>
                  </a:lnTo>
                  <a:lnTo>
                    <a:pt x="134" y="776"/>
                  </a:lnTo>
                  <a:lnTo>
                    <a:pt x="134" y="801"/>
                  </a:lnTo>
                  <a:lnTo>
                    <a:pt x="158" y="826"/>
                  </a:lnTo>
                  <a:lnTo>
                    <a:pt x="183" y="855"/>
                  </a:lnTo>
                  <a:lnTo>
                    <a:pt x="213" y="880"/>
                  </a:lnTo>
                  <a:lnTo>
                    <a:pt x="237" y="910"/>
                  </a:lnTo>
                  <a:lnTo>
                    <a:pt x="267" y="934"/>
                  </a:lnTo>
                  <a:lnTo>
                    <a:pt x="292" y="959"/>
                  </a:lnTo>
                  <a:lnTo>
                    <a:pt x="292" y="989"/>
                  </a:lnTo>
                  <a:lnTo>
                    <a:pt x="317" y="1014"/>
                  </a:lnTo>
                  <a:lnTo>
                    <a:pt x="346" y="1043"/>
                  </a:lnTo>
                  <a:lnTo>
                    <a:pt x="371" y="1068"/>
                  </a:lnTo>
                  <a:lnTo>
                    <a:pt x="396" y="1093"/>
                  </a:lnTo>
                  <a:lnTo>
                    <a:pt x="425" y="1122"/>
                  </a:lnTo>
                  <a:lnTo>
                    <a:pt x="450" y="1147"/>
                  </a:lnTo>
                  <a:lnTo>
                    <a:pt x="480" y="1177"/>
                  </a:lnTo>
                  <a:lnTo>
                    <a:pt x="505" y="1201"/>
                  </a:lnTo>
                  <a:lnTo>
                    <a:pt x="529" y="1226"/>
                  </a:lnTo>
                  <a:lnTo>
                    <a:pt x="559" y="1256"/>
                  </a:lnTo>
                  <a:lnTo>
                    <a:pt x="584" y="1280"/>
                  </a:lnTo>
                  <a:lnTo>
                    <a:pt x="613" y="1310"/>
                  </a:lnTo>
                  <a:lnTo>
                    <a:pt x="638" y="1335"/>
                  </a:lnTo>
                  <a:lnTo>
                    <a:pt x="663" y="1364"/>
                  </a:lnTo>
                  <a:lnTo>
                    <a:pt x="692" y="1389"/>
                  </a:lnTo>
                  <a:lnTo>
                    <a:pt x="717" y="1414"/>
                  </a:lnTo>
                  <a:lnTo>
                    <a:pt x="742" y="1444"/>
                  </a:lnTo>
                  <a:lnTo>
                    <a:pt x="772" y="1468"/>
                  </a:lnTo>
                  <a:lnTo>
                    <a:pt x="796" y="1468"/>
                  </a:lnTo>
                  <a:lnTo>
                    <a:pt x="826" y="1498"/>
                  </a:lnTo>
                  <a:lnTo>
                    <a:pt x="851" y="1523"/>
                  </a:lnTo>
                  <a:lnTo>
                    <a:pt x="875" y="1547"/>
                  </a:lnTo>
                  <a:lnTo>
                    <a:pt x="905" y="1577"/>
                  </a:lnTo>
                  <a:lnTo>
                    <a:pt x="930" y="1602"/>
                  </a:lnTo>
                  <a:lnTo>
                    <a:pt x="955" y="1631"/>
                  </a:lnTo>
                  <a:lnTo>
                    <a:pt x="984" y="1656"/>
                  </a:lnTo>
                  <a:lnTo>
                    <a:pt x="1009" y="1656"/>
                  </a:lnTo>
                  <a:lnTo>
                    <a:pt x="1039" y="1656"/>
                  </a:lnTo>
                  <a:lnTo>
                    <a:pt x="1063" y="1656"/>
                  </a:lnTo>
                  <a:lnTo>
                    <a:pt x="1088" y="1656"/>
                  </a:lnTo>
                  <a:lnTo>
                    <a:pt x="1118" y="1656"/>
                  </a:lnTo>
                  <a:lnTo>
                    <a:pt x="1143" y="1656"/>
                  </a:lnTo>
                  <a:lnTo>
                    <a:pt x="1172" y="1656"/>
                  </a:lnTo>
                  <a:lnTo>
                    <a:pt x="1197" y="1656"/>
                  </a:lnTo>
                  <a:lnTo>
                    <a:pt x="1222" y="1656"/>
                  </a:lnTo>
                  <a:lnTo>
                    <a:pt x="1251" y="1656"/>
                  </a:lnTo>
                  <a:lnTo>
                    <a:pt x="1276" y="1656"/>
                  </a:lnTo>
                  <a:lnTo>
                    <a:pt x="1301" y="1656"/>
                  </a:lnTo>
                  <a:lnTo>
                    <a:pt x="1330" y="1656"/>
                  </a:lnTo>
                  <a:lnTo>
                    <a:pt x="1355" y="1656"/>
                  </a:lnTo>
                  <a:lnTo>
                    <a:pt x="1385" y="1656"/>
                  </a:lnTo>
                  <a:lnTo>
                    <a:pt x="1410" y="1656"/>
                  </a:lnTo>
                  <a:lnTo>
                    <a:pt x="1434" y="1656"/>
                  </a:lnTo>
                  <a:lnTo>
                    <a:pt x="1464" y="1656"/>
                  </a:lnTo>
                  <a:lnTo>
                    <a:pt x="1489" y="1656"/>
                  </a:lnTo>
                  <a:lnTo>
                    <a:pt x="1513" y="1656"/>
                  </a:lnTo>
                  <a:lnTo>
                    <a:pt x="1543" y="1656"/>
                  </a:lnTo>
                  <a:lnTo>
                    <a:pt x="1568" y="1656"/>
                  </a:lnTo>
                  <a:lnTo>
                    <a:pt x="1598" y="1656"/>
                  </a:lnTo>
                  <a:lnTo>
                    <a:pt x="1622" y="1656"/>
                  </a:lnTo>
                  <a:lnTo>
                    <a:pt x="1647" y="1656"/>
                  </a:lnTo>
                  <a:lnTo>
                    <a:pt x="1677" y="1656"/>
                  </a:lnTo>
                  <a:lnTo>
                    <a:pt x="1701" y="1656"/>
                  </a:lnTo>
                  <a:lnTo>
                    <a:pt x="1726" y="1656"/>
                  </a:lnTo>
                  <a:lnTo>
                    <a:pt x="1756" y="1656"/>
                  </a:lnTo>
                  <a:lnTo>
                    <a:pt x="1780" y="1656"/>
                  </a:lnTo>
                  <a:lnTo>
                    <a:pt x="1810" y="1656"/>
                  </a:lnTo>
                  <a:lnTo>
                    <a:pt x="1835" y="1656"/>
                  </a:lnTo>
                  <a:lnTo>
                    <a:pt x="1860" y="1656"/>
                  </a:lnTo>
                  <a:lnTo>
                    <a:pt x="1889" y="1656"/>
                  </a:lnTo>
                  <a:lnTo>
                    <a:pt x="1914" y="1656"/>
                  </a:lnTo>
                  <a:lnTo>
                    <a:pt x="1944" y="1656"/>
                  </a:lnTo>
                  <a:lnTo>
                    <a:pt x="1968" y="1656"/>
                  </a:lnTo>
                  <a:lnTo>
                    <a:pt x="1993" y="1656"/>
                  </a:lnTo>
                  <a:lnTo>
                    <a:pt x="2023" y="1656"/>
                  </a:lnTo>
                  <a:lnTo>
                    <a:pt x="2048" y="1656"/>
                  </a:lnTo>
                  <a:lnTo>
                    <a:pt x="2072" y="1656"/>
                  </a:lnTo>
                  <a:lnTo>
                    <a:pt x="2102" y="1656"/>
                  </a:lnTo>
                  <a:lnTo>
                    <a:pt x="2127" y="1656"/>
                  </a:lnTo>
                  <a:lnTo>
                    <a:pt x="2156" y="1656"/>
                  </a:lnTo>
                  <a:lnTo>
                    <a:pt x="2181" y="1656"/>
                  </a:lnTo>
                  <a:lnTo>
                    <a:pt x="2206" y="1656"/>
                  </a:lnTo>
                  <a:lnTo>
                    <a:pt x="2235" y="1656"/>
                  </a:lnTo>
                  <a:close/>
                  <a:moveTo>
                    <a:pt x="1271" y="322"/>
                  </a:moveTo>
                  <a:lnTo>
                    <a:pt x="1271" y="317"/>
                  </a:lnTo>
                  <a:lnTo>
                    <a:pt x="1276" y="312"/>
                  </a:lnTo>
                  <a:lnTo>
                    <a:pt x="1281" y="307"/>
                  </a:lnTo>
                  <a:lnTo>
                    <a:pt x="1291" y="302"/>
                  </a:lnTo>
                  <a:lnTo>
                    <a:pt x="1296" y="302"/>
                  </a:lnTo>
                  <a:lnTo>
                    <a:pt x="1306" y="302"/>
                  </a:lnTo>
                  <a:lnTo>
                    <a:pt x="1316" y="302"/>
                  </a:lnTo>
                  <a:lnTo>
                    <a:pt x="1326" y="302"/>
                  </a:lnTo>
                  <a:lnTo>
                    <a:pt x="1330" y="297"/>
                  </a:lnTo>
                  <a:lnTo>
                    <a:pt x="1335" y="292"/>
                  </a:lnTo>
                  <a:lnTo>
                    <a:pt x="1335" y="287"/>
                  </a:lnTo>
                  <a:lnTo>
                    <a:pt x="1340" y="282"/>
                  </a:lnTo>
                  <a:lnTo>
                    <a:pt x="1345" y="277"/>
                  </a:lnTo>
                  <a:lnTo>
                    <a:pt x="1345" y="272"/>
                  </a:lnTo>
                  <a:lnTo>
                    <a:pt x="1345" y="267"/>
                  </a:lnTo>
                  <a:lnTo>
                    <a:pt x="1340" y="262"/>
                  </a:lnTo>
                  <a:lnTo>
                    <a:pt x="1335" y="257"/>
                  </a:lnTo>
                  <a:lnTo>
                    <a:pt x="1326" y="252"/>
                  </a:lnTo>
                  <a:lnTo>
                    <a:pt x="1321" y="252"/>
                  </a:lnTo>
                  <a:lnTo>
                    <a:pt x="1311" y="257"/>
                  </a:lnTo>
                  <a:lnTo>
                    <a:pt x="1301" y="257"/>
                  </a:lnTo>
                  <a:lnTo>
                    <a:pt x="1296" y="252"/>
                  </a:lnTo>
                  <a:lnTo>
                    <a:pt x="1291" y="247"/>
                  </a:lnTo>
                  <a:lnTo>
                    <a:pt x="1286" y="243"/>
                  </a:lnTo>
                  <a:lnTo>
                    <a:pt x="1286" y="238"/>
                  </a:lnTo>
                  <a:lnTo>
                    <a:pt x="1286" y="228"/>
                  </a:lnTo>
                  <a:lnTo>
                    <a:pt x="1291" y="223"/>
                  </a:lnTo>
                  <a:lnTo>
                    <a:pt x="1301" y="223"/>
                  </a:lnTo>
                  <a:lnTo>
                    <a:pt x="1306" y="223"/>
                  </a:lnTo>
                  <a:lnTo>
                    <a:pt x="1311" y="223"/>
                  </a:lnTo>
                  <a:lnTo>
                    <a:pt x="1321" y="228"/>
                  </a:lnTo>
                  <a:lnTo>
                    <a:pt x="1326" y="233"/>
                  </a:lnTo>
                  <a:lnTo>
                    <a:pt x="1330" y="233"/>
                  </a:lnTo>
                  <a:lnTo>
                    <a:pt x="1340" y="233"/>
                  </a:lnTo>
                  <a:lnTo>
                    <a:pt x="1345" y="228"/>
                  </a:lnTo>
                  <a:lnTo>
                    <a:pt x="1345" y="218"/>
                  </a:lnTo>
                  <a:lnTo>
                    <a:pt x="1345" y="213"/>
                  </a:lnTo>
                  <a:lnTo>
                    <a:pt x="1345" y="203"/>
                  </a:lnTo>
                  <a:lnTo>
                    <a:pt x="1340" y="198"/>
                  </a:lnTo>
                  <a:lnTo>
                    <a:pt x="1335" y="193"/>
                  </a:lnTo>
                  <a:lnTo>
                    <a:pt x="1330" y="193"/>
                  </a:lnTo>
                  <a:lnTo>
                    <a:pt x="1326" y="193"/>
                  </a:lnTo>
                  <a:lnTo>
                    <a:pt x="1316" y="198"/>
                  </a:lnTo>
                  <a:lnTo>
                    <a:pt x="1311" y="203"/>
                  </a:lnTo>
                  <a:lnTo>
                    <a:pt x="1306" y="203"/>
                  </a:lnTo>
                  <a:lnTo>
                    <a:pt x="1296" y="203"/>
                  </a:lnTo>
                  <a:lnTo>
                    <a:pt x="1286" y="198"/>
                  </a:lnTo>
                  <a:lnTo>
                    <a:pt x="1281" y="193"/>
                  </a:lnTo>
                  <a:lnTo>
                    <a:pt x="1276" y="193"/>
                  </a:lnTo>
                  <a:lnTo>
                    <a:pt x="1271" y="193"/>
                  </a:lnTo>
                  <a:lnTo>
                    <a:pt x="1266" y="198"/>
                  </a:lnTo>
                  <a:lnTo>
                    <a:pt x="1266" y="203"/>
                  </a:lnTo>
                  <a:lnTo>
                    <a:pt x="1261" y="213"/>
                  </a:lnTo>
                  <a:lnTo>
                    <a:pt x="1251" y="213"/>
                  </a:lnTo>
                  <a:lnTo>
                    <a:pt x="1246" y="218"/>
                  </a:lnTo>
                  <a:lnTo>
                    <a:pt x="1236" y="223"/>
                  </a:lnTo>
                  <a:lnTo>
                    <a:pt x="1227" y="223"/>
                  </a:lnTo>
                  <a:lnTo>
                    <a:pt x="1222" y="223"/>
                  </a:lnTo>
                  <a:lnTo>
                    <a:pt x="1217" y="218"/>
                  </a:lnTo>
                  <a:lnTo>
                    <a:pt x="1207" y="213"/>
                  </a:lnTo>
                  <a:lnTo>
                    <a:pt x="1202" y="208"/>
                  </a:lnTo>
                  <a:lnTo>
                    <a:pt x="1192" y="208"/>
                  </a:lnTo>
                  <a:lnTo>
                    <a:pt x="1187" y="203"/>
                  </a:lnTo>
                  <a:lnTo>
                    <a:pt x="1182" y="198"/>
                  </a:lnTo>
                  <a:lnTo>
                    <a:pt x="1182" y="193"/>
                  </a:lnTo>
                  <a:lnTo>
                    <a:pt x="1182" y="183"/>
                  </a:lnTo>
                  <a:lnTo>
                    <a:pt x="1187" y="183"/>
                  </a:lnTo>
                  <a:lnTo>
                    <a:pt x="1192" y="178"/>
                  </a:lnTo>
                  <a:lnTo>
                    <a:pt x="1202" y="173"/>
                  </a:lnTo>
                  <a:lnTo>
                    <a:pt x="1207" y="168"/>
                  </a:lnTo>
                  <a:lnTo>
                    <a:pt x="1217" y="168"/>
                  </a:lnTo>
                  <a:lnTo>
                    <a:pt x="1227" y="168"/>
                  </a:lnTo>
                  <a:lnTo>
                    <a:pt x="1232" y="168"/>
                  </a:lnTo>
                  <a:lnTo>
                    <a:pt x="1236" y="173"/>
                  </a:lnTo>
                  <a:lnTo>
                    <a:pt x="1241" y="178"/>
                  </a:lnTo>
                  <a:lnTo>
                    <a:pt x="1246" y="183"/>
                  </a:lnTo>
                  <a:lnTo>
                    <a:pt x="1246" y="193"/>
                  </a:lnTo>
                  <a:lnTo>
                    <a:pt x="1246" y="198"/>
                  </a:lnTo>
                  <a:lnTo>
                    <a:pt x="1246" y="203"/>
                  </a:lnTo>
                  <a:lnTo>
                    <a:pt x="1246" y="208"/>
                  </a:lnTo>
                  <a:lnTo>
                    <a:pt x="1251" y="213"/>
                  </a:lnTo>
                  <a:lnTo>
                    <a:pt x="1256" y="208"/>
                  </a:lnTo>
                  <a:lnTo>
                    <a:pt x="1261" y="203"/>
                  </a:lnTo>
                  <a:lnTo>
                    <a:pt x="1271" y="198"/>
                  </a:lnTo>
                  <a:lnTo>
                    <a:pt x="1271" y="193"/>
                  </a:lnTo>
                  <a:lnTo>
                    <a:pt x="1276" y="183"/>
                  </a:lnTo>
                  <a:lnTo>
                    <a:pt x="1271" y="178"/>
                  </a:lnTo>
                  <a:lnTo>
                    <a:pt x="1271" y="173"/>
                  </a:lnTo>
                  <a:lnTo>
                    <a:pt x="1266" y="168"/>
                  </a:lnTo>
                  <a:lnTo>
                    <a:pt x="1261" y="163"/>
                  </a:lnTo>
                  <a:lnTo>
                    <a:pt x="1266" y="159"/>
                  </a:lnTo>
                  <a:lnTo>
                    <a:pt x="1271" y="154"/>
                  </a:lnTo>
                  <a:lnTo>
                    <a:pt x="1276" y="149"/>
                  </a:lnTo>
                  <a:lnTo>
                    <a:pt x="1286" y="144"/>
                  </a:lnTo>
                  <a:lnTo>
                    <a:pt x="1291" y="144"/>
                  </a:lnTo>
                  <a:lnTo>
                    <a:pt x="1296" y="139"/>
                  </a:lnTo>
                  <a:lnTo>
                    <a:pt x="1301" y="134"/>
                  </a:lnTo>
                  <a:lnTo>
                    <a:pt x="1311" y="139"/>
                  </a:lnTo>
                  <a:lnTo>
                    <a:pt x="1316" y="139"/>
                  </a:lnTo>
                  <a:lnTo>
                    <a:pt x="1321" y="144"/>
                  </a:lnTo>
                  <a:lnTo>
                    <a:pt x="1326" y="149"/>
                  </a:lnTo>
                  <a:lnTo>
                    <a:pt x="1330" y="159"/>
                  </a:lnTo>
                  <a:lnTo>
                    <a:pt x="1330" y="163"/>
                  </a:lnTo>
                  <a:lnTo>
                    <a:pt x="1330" y="168"/>
                  </a:lnTo>
                  <a:lnTo>
                    <a:pt x="1330" y="168"/>
                  </a:lnTo>
                  <a:lnTo>
                    <a:pt x="1335" y="163"/>
                  </a:lnTo>
                  <a:lnTo>
                    <a:pt x="1340" y="159"/>
                  </a:lnTo>
                  <a:lnTo>
                    <a:pt x="1340" y="149"/>
                  </a:lnTo>
                  <a:lnTo>
                    <a:pt x="1340" y="144"/>
                  </a:lnTo>
                  <a:lnTo>
                    <a:pt x="1340" y="139"/>
                  </a:lnTo>
                  <a:lnTo>
                    <a:pt x="1345" y="134"/>
                  </a:lnTo>
                  <a:lnTo>
                    <a:pt x="1350" y="134"/>
                  </a:lnTo>
                  <a:lnTo>
                    <a:pt x="1360" y="129"/>
                  </a:lnTo>
                  <a:lnTo>
                    <a:pt x="1365" y="124"/>
                  </a:lnTo>
                  <a:lnTo>
                    <a:pt x="1370" y="119"/>
                  </a:lnTo>
                  <a:lnTo>
                    <a:pt x="1375" y="114"/>
                  </a:lnTo>
                  <a:lnTo>
                    <a:pt x="1380" y="109"/>
                  </a:lnTo>
                  <a:lnTo>
                    <a:pt x="1390" y="109"/>
                  </a:lnTo>
                  <a:lnTo>
                    <a:pt x="1395" y="109"/>
                  </a:lnTo>
                  <a:lnTo>
                    <a:pt x="1405" y="109"/>
                  </a:lnTo>
                  <a:lnTo>
                    <a:pt x="1410" y="104"/>
                  </a:lnTo>
                  <a:lnTo>
                    <a:pt x="1419" y="104"/>
                  </a:lnTo>
                  <a:lnTo>
                    <a:pt x="1429" y="104"/>
                  </a:lnTo>
                  <a:lnTo>
                    <a:pt x="1439" y="104"/>
                  </a:lnTo>
                  <a:lnTo>
                    <a:pt x="1444" y="99"/>
                  </a:lnTo>
                  <a:lnTo>
                    <a:pt x="1449" y="94"/>
                  </a:lnTo>
                  <a:lnTo>
                    <a:pt x="1454" y="89"/>
                  </a:lnTo>
                  <a:lnTo>
                    <a:pt x="1459" y="84"/>
                  </a:lnTo>
                  <a:lnTo>
                    <a:pt x="1464" y="84"/>
                  </a:lnTo>
                  <a:lnTo>
                    <a:pt x="1474" y="79"/>
                  </a:lnTo>
                  <a:lnTo>
                    <a:pt x="1484" y="79"/>
                  </a:lnTo>
                  <a:lnTo>
                    <a:pt x="1494" y="79"/>
                  </a:lnTo>
                  <a:lnTo>
                    <a:pt x="1499" y="79"/>
                  </a:lnTo>
                  <a:lnTo>
                    <a:pt x="1508" y="74"/>
                  </a:lnTo>
                  <a:lnTo>
                    <a:pt x="1513" y="74"/>
                  </a:lnTo>
                  <a:lnTo>
                    <a:pt x="1523" y="70"/>
                  </a:lnTo>
                  <a:lnTo>
                    <a:pt x="1528" y="65"/>
                  </a:lnTo>
                  <a:lnTo>
                    <a:pt x="1533" y="60"/>
                  </a:lnTo>
                  <a:lnTo>
                    <a:pt x="1538" y="60"/>
                  </a:lnTo>
                  <a:lnTo>
                    <a:pt x="1548" y="55"/>
                  </a:lnTo>
                  <a:lnTo>
                    <a:pt x="1558" y="55"/>
                  </a:lnTo>
                  <a:lnTo>
                    <a:pt x="1568" y="55"/>
                  </a:lnTo>
                  <a:lnTo>
                    <a:pt x="1573" y="55"/>
                  </a:lnTo>
                  <a:lnTo>
                    <a:pt x="1583" y="50"/>
                  </a:lnTo>
                  <a:lnTo>
                    <a:pt x="1588" y="50"/>
                  </a:lnTo>
                  <a:lnTo>
                    <a:pt x="1593" y="45"/>
                  </a:lnTo>
                  <a:lnTo>
                    <a:pt x="1598" y="40"/>
                  </a:lnTo>
                  <a:lnTo>
                    <a:pt x="1607" y="35"/>
                  </a:lnTo>
                  <a:lnTo>
                    <a:pt x="1612" y="30"/>
                  </a:lnTo>
                  <a:lnTo>
                    <a:pt x="1622" y="30"/>
                  </a:lnTo>
                  <a:lnTo>
                    <a:pt x="1632" y="30"/>
                  </a:lnTo>
                  <a:lnTo>
                    <a:pt x="1637" y="30"/>
                  </a:lnTo>
                  <a:lnTo>
                    <a:pt x="1647" y="30"/>
                  </a:lnTo>
                  <a:lnTo>
                    <a:pt x="1657" y="30"/>
                  </a:lnTo>
                  <a:lnTo>
                    <a:pt x="1667" y="30"/>
                  </a:lnTo>
                  <a:lnTo>
                    <a:pt x="1672" y="30"/>
                  </a:lnTo>
                  <a:lnTo>
                    <a:pt x="1682" y="35"/>
                  </a:lnTo>
                  <a:lnTo>
                    <a:pt x="1687" y="35"/>
                  </a:lnTo>
                  <a:lnTo>
                    <a:pt x="1696" y="40"/>
                  </a:lnTo>
                  <a:lnTo>
                    <a:pt x="1701" y="45"/>
                  </a:lnTo>
                  <a:lnTo>
                    <a:pt x="1706" y="50"/>
                  </a:lnTo>
                  <a:lnTo>
                    <a:pt x="1711" y="50"/>
                  </a:lnTo>
                  <a:lnTo>
                    <a:pt x="1721" y="55"/>
                  </a:lnTo>
                  <a:lnTo>
                    <a:pt x="1731" y="55"/>
                  </a:lnTo>
                  <a:lnTo>
                    <a:pt x="1736" y="55"/>
                  </a:lnTo>
                  <a:lnTo>
                    <a:pt x="1746" y="55"/>
                  </a:lnTo>
                  <a:lnTo>
                    <a:pt x="1756" y="55"/>
                  </a:lnTo>
                  <a:lnTo>
                    <a:pt x="1766" y="55"/>
                  </a:lnTo>
                  <a:lnTo>
                    <a:pt x="1771" y="55"/>
                  </a:lnTo>
                  <a:lnTo>
                    <a:pt x="1780" y="60"/>
                  </a:lnTo>
                  <a:lnTo>
                    <a:pt x="1785" y="60"/>
                  </a:lnTo>
                  <a:lnTo>
                    <a:pt x="1795" y="65"/>
                  </a:lnTo>
                  <a:lnTo>
                    <a:pt x="1800" y="70"/>
                  </a:lnTo>
                  <a:lnTo>
                    <a:pt x="1805" y="74"/>
                  </a:lnTo>
                  <a:lnTo>
                    <a:pt x="1810" y="79"/>
                  </a:lnTo>
                  <a:lnTo>
                    <a:pt x="1815" y="79"/>
                  </a:lnTo>
                  <a:lnTo>
                    <a:pt x="1825" y="84"/>
                  </a:lnTo>
                  <a:lnTo>
                    <a:pt x="1835" y="84"/>
                  </a:lnTo>
                  <a:lnTo>
                    <a:pt x="1845" y="84"/>
                  </a:lnTo>
                  <a:lnTo>
                    <a:pt x="1850" y="84"/>
                  </a:lnTo>
                  <a:lnTo>
                    <a:pt x="1860" y="84"/>
                  </a:lnTo>
                  <a:lnTo>
                    <a:pt x="1870" y="84"/>
                  </a:lnTo>
                  <a:lnTo>
                    <a:pt x="1879" y="84"/>
                  </a:lnTo>
                  <a:lnTo>
                    <a:pt x="1884" y="84"/>
                  </a:lnTo>
                  <a:lnTo>
                    <a:pt x="1894" y="89"/>
                  </a:lnTo>
                  <a:lnTo>
                    <a:pt x="1899" y="94"/>
                  </a:lnTo>
                  <a:lnTo>
                    <a:pt x="1904" y="99"/>
                  </a:lnTo>
                  <a:lnTo>
                    <a:pt x="1909" y="104"/>
                  </a:lnTo>
                  <a:lnTo>
                    <a:pt x="1914" y="104"/>
                  </a:lnTo>
                  <a:lnTo>
                    <a:pt x="1919" y="109"/>
                  </a:lnTo>
                  <a:lnTo>
                    <a:pt x="1929" y="109"/>
                  </a:lnTo>
                  <a:lnTo>
                    <a:pt x="1939" y="109"/>
                  </a:lnTo>
                  <a:lnTo>
                    <a:pt x="1944" y="114"/>
                  </a:lnTo>
                  <a:lnTo>
                    <a:pt x="1954" y="114"/>
                  </a:lnTo>
                  <a:lnTo>
                    <a:pt x="1963" y="114"/>
                  </a:lnTo>
                  <a:lnTo>
                    <a:pt x="1973" y="114"/>
                  </a:lnTo>
                  <a:lnTo>
                    <a:pt x="1978" y="114"/>
                  </a:lnTo>
                  <a:lnTo>
                    <a:pt x="1988" y="114"/>
                  </a:lnTo>
                  <a:lnTo>
                    <a:pt x="1998" y="114"/>
                  </a:lnTo>
                  <a:lnTo>
                    <a:pt x="2003" y="119"/>
                  </a:lnTo>
                  <a:lnTo>
                    <a:pt x="2008" y="124"/>
                  </a:lnTo>
                  <a:lnTo>
                    <a:pt x="2013" y="129"/>
                  </a:lnTo>
                  <a:lnTo>
                    <a:pt x="2018" y="134"/>
                  </a:lnTo>
                  <a:lnTo>
                    <a:pt x="2018" y="139"/>
                  </a:lnTo>
                  <a:lnTo>
                    <a:pt x="2028" y="144"/>
                  </a:lnTo>
                  <a:lnTo>
                    <a:pt x="2033" y="144"/>
                  </a:lnTo>
                  <a:lnTo>
                    <a:pt x="2043" y="144"/>
                  </a:lnTo>
                  <a:lnTo>
                    <a:pt x="2052" y="144"/>
                  </a:lnTo>
                  <a:lnTo>
                    <a:pt x="2062" y="144"/>
                  </a:lnTo>
                  <a:lnTo>
                    <a:pt x="2067" y="144"/>
                  </a:lnTo>
                  <a:lnTo>
                    <a:pt x="2077" y="144"/>
                  </a:lnTo>
                  <a:lnTo>
                    <a:pt x="2087" y="149"/>
                  </a:lnTo>
                  <a:lnTo>
                    <a:pt x="2097" y="149"/>
                  </a:lnTo>
                  <a:lnTo>
                    <a:pt x="2102" y="149"/>
                  </a:lnTo>
                  <a:lnTo>
                    <a:pt x="2107" y="154"/>
                  </a:lnTo>
                  <a:lnTo>
                    <a:pt x="2112" y="159"/>
                  </a:lnTo>
                  <a:lnTo>
                    <a:pt x="2117" y="163"/>
                  </a:lnTo>
                  <a:lnTo>
                    <a:pt x="2117" y="173"/>
                  </a:lnTo>
                  <a:lnTo>
                    <a:pt x="2122" y="178"/>
                  </a:lnTo>
                  <a:lnTo>
                    <a:pt x="2122" y="183"/>
                  </a:lnTo>
                  <a:lnTo>
                    <a:pt x="2117" y="188"/>
                  </a:lnTo>
                  <a:lnTo>
                    <a:pt x="2117" y="193"/>
                  </a:lnTo>
                  <a:lnTo>
                    <a:pt x="2112" y="198"/>
                  </a:lnTo>
                  <a:lnTo>
                    <a:pt x="2112" y="203"/>
                  </a:lnTo>
                  <a:lnTo>
                    <a:pt x="2107" y="208"/>
                  </a:lnTo>
                  <a:lnTo>
                    <a:pt x="2102" y="213"/>
                  </a:lnTo>
                  <a:lnTo>
                    <a:pt x="2097" y="218"/>
                  </a:lnTo>
                  <a:lnTo>
                    <a:pt x="2097" y="223"/>
                  </a:lnTo>
                  <a:lnTo>
                    <a:pt x="2092" y="228"/>
                  </a:lnTo>
                  <a:lnTo>
                    <a:pt x="2087" y="233"/>
                  </a:lnTo>
                  <a:lnTo>
                    <a:pt x="2087" y="238"/>
                  </a:lnTo>
                  <a:lnTo>
                    <a:pt x="2082" y="243"/>
                  </a:lnTo>
                  <a:lnTo>
                    <a:pt x="2077" y="247"/>
                  </a:lnTo>
                  <a:lnTo>
                    <a:pt x="2077" y="252"/>
                  </a:lnTo>
                  <a:lnTo>
                    <a:pt x="2072" y="257"/>
                  </a:lnTo>
                  <a:lnTo>
                    <a:pt x="2067" y="262"/>
                  </a:lnTo>
                  <a:lnTo>
                    <a:pt x="2062" y="267"/>
                  </a:lnTo>
                  <a:lnTo>
                    <a:pt x="2057" y="272"/>
                  </a:lnTo>
                  <a:lnTo>
                    <a:pt x="2048" y="272"/>
                  </a:lnTo>
                  <a:lnTo>
                    <a:pt x="2043" y="277"/>
                  </a:lnTo>
                  <a:lnTo>
                    <a:pt x="2033" y="277"/>
                  </a:lnTo>
                  <a:lnTo>
                    <a:pt x="2023" y="282"/>
                  </a:lnTo>
                  <a:lnTo>
                    <a:pt x="2018" y="277"/>
                  </a:lnTo>
                  <a:lnTo>
                    <a:pt x="2013" y="272"/>
                  </a:lnTo>
                  <a:lnTo>
                    <a:pt x="2008" y="267"/>
                  </a:lnTo>
                  <a:lnTo>
                    <a:pt x="2003" y="262"/>
                  </a:lnTo>
                  <a:lnTo>
                    <a:pt x="1993" y="262"/>
                  </a:lnTo>
                  <a:lnTo>
                    <a:pt x="1983" y="257"/>
                  </a:lnTo>
                  <a:lnTo>
                    <a:pt x="1978" y="257"/>
                  </a:lnTo>
                  <a:lnTo>
                    <a:pt x="1968" y="257"/>
                  </a:lnTo>
                  <a:lnTo>
                    <a:pt x="1963" y="257"/>
                  </a:lnTo>
                  <a:lnTo>
                    <a:pt x="1959" y="252"/>
                  </a:lnTo>
                  <a:lnTo>
                    <a:pt x="1954" y="247"/>
                  </a:lnTo>
                  <a:lnTo>
                    <a:pt x="1949" y="238"/>
                  </a:lnTo>
                  <a:lnTo>
                    <a:pt x="1944" y="238"/>
                  </a:lnTo>
                  <a:lnTo>
                    <a:pt x="1939" y="238"/>
                  </a:lnTo>
                  <a:lnTo>
                    <a:pt x="1929" y="243"/>
                  </a:lnTo>
                  <a:lnTo>
                    <a:pt x="1924" y="247"/>
                  </a:lnTo>
                  <a:lnTo>
                    <a:pt x="1919" y="252"/>
                  </a:lnTo>
                  <a:lnTo>
                    <a:pt x="1914" y="257"/>
                  </a:lnTo>
                  <a:lnTo>
                    <a:pt x="1909" y="257"/>
                  </a:lnTo>
                  <a:lnTo>
                    <a:pt x="1904" y="252"/>
                  </a:lnTo>
                  <a:lnTo>
                    <a:pt x="1899" y="247"/>
                  </a:lnTo>
                  <a:lnTo>
                    <a:pt x="1899" y="238"/>
                  </a:lnTo>
                  <a:lnTo>
                    <a:pt x="1899" y="233"/>
                  </a:lnTo>
                  <a:lnTo>
                    <a:pt x="1904" y="228"/>
                  </a:lnTo>
                  <a:lnTo>
                    <a:pt x="1904" y="223"/>
                  </a:lnTo>
                  <a:lnTo>
                    <a:pt x="1904" y="218"/>
                  </a:lnTo>
                  <a:lnTo>
                    <a:pt x="1899" y="213"/>
                  </a:lnTo>
                  <a:lnTo>
                    <a:pt x="1894" y="208"/>
                  </a:lnTo>
                  <a:lnTo>
                    <a:pt x="1884" y="208"/>
                  </a:lnTo>
                  <a:lnTo>
                    <a:pt x="1879" y="213"/>
                  </a:lnTo>
                  <a:lnTo>
                    <a:pt x="1874" y="218"/>
                  </a:lnTo>
                  <a:lnTo>
                    <a:pt x="1870" y="228"/>
                  </a:lnTo>
                  <a:lnTo>
                    <a:pt x="1870" y="233"/>
                  </a:lnTo>
                  <a:lnTo>
                    <a:pt x="1865" y="233"/>
                  </a:lnTo>
                  <a:lnTo>
                    <a:pt x="1855" y="233"/>
                  </a:lnTo>
                  <a:lnTo>
                    <a:pt x="1850" y="233"/>
                  </a:lnTo>
                  <a:lnTo>
                    <a:pt x="1840" y="228"/>
                  </a:lnTo>
                  <a:lnTo>
                    <a:pt x="1835" y="223"/>
                  </a:lnTo>
                  <a:lnTo>
                    <a:pt x="1830" y="218"/>
                  </a:lnTo>
                  <a:lnTo>
                    <a:pt x="1825" y="213"/>
                  </a:lnTo>
                  <a:lnTo>
                    <a:pt x="1820" y="208"/>
                  </a:lnTo>
                  <a:lnTo>
                    <a:pt x="1810" y="208"/>
                  </a:lnTo>
                  <a:lnTo>
                    <a:pt x="1805" y="208"/>
                  </a:lnTo>
                  <a:lnTo>
                    <a:pt x="1795" y="208"/>
                  </a:lnTo>
                  <a:lnTo>
                    <a:pt x="1785" y="208"/>
                  </a:lnTo>
                  <a:lnTo>
                    <a:pt x="1780" y="208"/>
                  </a:lnTo>
                  <a:lnTo>
                    <a:pt x="1771" y="208"/>
                  </a:lnTo>
                  <a:lnTo>
                    <a:pt x="1761" y="203"/>
                  </a:lnTo>
                  <a:lnTo>
                    <a:pt x="1756" y="198"/>
                  </a:lnTo>
                  <a:lnTo>
                    <a:pt x="1751" y="193"/>
                  </a:lnTo>
                  <a:lnTo>
                    <a:pt x="1746" y="188"/>
                  </a:lnTo>
                  <a:lnTo>
                    <a:pt x="1741" y="188"/>
                  </a:lnTo>
                  <a:lnTo>
                    <a:pt x="1731" y="183"/>
                  </a:lnTo>
                  <a:lnTo>
                    <a:pt x="1726" y="183"/>
                  </a:lnTo>
                  <a:lnTo>
                    <a:pt x="1716" y="183"/>
                  </a:lnTo>
                  <a:lnTo>
                    <a:pt x="1706" y="183"/>
                  </a:lnTo>
                  <a:lnTo>
                    <a:pt x="1701" y="183"/>
                  </a:lnTo>
                  <a:lnTo>
                    <a:pt x="1691" y="178"/>
                  </a:lnTo>
                  <a:lnTo>
                    <a:pt x="1682" y="178"/>
                  </a:lnTo>
                  <a:lnTo>
                    <a:pt x="1677" y="173"/>
                  </a:lnTo>
                  <a:lnTo>
                    <a:pt x="1667" y="178"/>
                  </a:lnTo>
                  <a:lnTo>
                    <a:pt x="1662" y="183"/>
                  </a:lnTo>
                  <a:lnTo>
                    <a:pt x="1657" y="188"/>
                  </a:lnTo>
                  <a:lnTo>
                    <a:pt x="1652" y="193"/>
                  </a:lnTo>
                  <a:lnTo>
                    <a:pt x="1652" y="198"/>
                  </a:lnTo>
                  <a:lnTo>
                    <a:pt x="1647" y="203"/>
                  </a:lnTo>
                  <a:lnTo>
                    <a:pt x="1647" y="208"/>
                  </a:lnTo>
                  <a:lnTo>
                    <a:pt x="1652" y="213"/>
                  </a:lnTo>
                  <a:lnTo>
                    <a:pt x="1657" y="218"/>
                  </a:lnTo>
                  <a:lnTo>
                    <a:pt x="1662" y="223"/>
                  </a:lnTo>
                  <a:lnTo>
                    <a:pt x="1667" y="228"/>
                  </a:lnTo>
                  <a:lnTo>
                    <a:pt x="1677" y="233"/>
                  </a:lnTo>
                  <a:lnTo>
                    <a:pt x="1677" y="238"/>
                  </a:lnTo>
                  <a:lnTo>
                    <a:pt x="1682" y="243"/>
                  </a:lnTo>
                  <a:lnTo>
                    <a:pt x="1687" y="243"/>
                  </a:lnTo>
                  <a:lnTo>
                    <a:pt x="1691" y="247"/>
                  </a:lnTo>
                  <a:lnTo>
                    <a:pt x="1696" y="252"/>
                  </a:lnTo>
                  <a:lnTo>
                    <a:pt x="1701" y="257"/>
                  </a:lnTo>
                  <a:lnTo>
                    <a:pt x="1706" y="262"/>
                  </a:lnTo>
                  <a:lnTo>
                    <a:pt x="1711" y="267"/>
                  </a:lnTo>
                  <a:lnTo>
                    <a:pt x="1711" y="272"/>
                  </a:lnTo>
                  <a:lnTo>
                    <a:pt x="1716" y="277"/>
                  </a:lnTo>
                  <a:lnTo>
                    <a:pt x="1716" y="287"/>
                  </a:lnTo>
                  <a:lnTo>
                    <a:pt x="1711" y="292"/>
                  </a:lnTo>
                  <a:lnTo>
                    <a:pt x="1706" y="297"/>
                  </a:lnTo>
                  <a:lnTo>
                    <a:pt x="1701" y="297"/>
                  </a:lnTo>
                  <a:lnTo>
                    <a:pt x="1696" y="292"/>
                  </a:lnTo>
                  <a:lnTo>
                    <a:pt x="1691" y="287"/>
                  </a:lnTo>
                  <a:lnTo>
                    <a:pt x="1682" y="287"/>
                  </a:lnTo>
                  <a:lnTo>
                    <a:pt x="1677" y="282"/>
                  </a:lnTo>
                  <a:lnTo>
                    <a:pt x="1667" y="282"/>
                  </a:lnTo>
                  <a:lnTo>
                    <a:pt x="1667" y="277"/>
                  </a:lnTo>
                  <a:lnTo>
                    <a:pt x="1662" y="272"/>
                  </a:lnTo>
                  <a:lnTo>
                    <a:pt x="1657" y="267"/>
                  </a:lnTo>
                  <a:lnTo>
                    <a:pt x="1652" y="262"/>
                  </a:lnTo>
                  <a:lnTo>
                    <a:pt x="1642" y="257"/>
                  </a:lnTo>
                  <a:lnTo>
                    <a:pt x="1637" y="252"/>
                  </a:lnTo>
                  <a:lnTo>
                    <a:pt x="1632" y="247"/>
                  </a:lnTo>
                  <a:lnTo>
                    <a:pt x="1632" y="243"/>
                  </a:lnTo>
                  <a:lnTo>
                    <a:pt x="1627" y="238"/>
                  </a:lnTo>
                  <a:lnTo>
                    <a:pt x="1622" y="233"/>
                  </a:lnTo>
                  <a:lnTo>
                    <a:pt x="1612" y="233"/>
                  </a:lnTo>
                  <a:lnTo>
                    <a:pt x="1602" y="233"/>
                  </a:lnTo>
                  <a:lnTo>
                    <a:pt x="1593" y="233"/>
                  </a:lnTo>
                  <a:lnTo>
                    <a:pt x="1588" y="238"/>
                  </a:lnTo>
                  <a:lnTo>
                    <a:pt x="1578" y="238"/>
                  </a:lnTo>
                  <a:lnTo>
                    <a:pt x="1573" y="243"/>
                  </a:lnTo>
                  <a:lnTo>
                    <a:pt x="1568" y="247"/>
                  </a:lnTo>
                  <a:lnTo>
                    <a:pt x="1563" y="252"/>
                  </a:lnTo>
                  <a:lnTo>
                    <a:pt x="1553" y="252"/>
                  </a:lnTo>
                  <a:lnTo>
                    <a:pt x="1548" y="257"/>
                  </a:lnTo>
                  <a:lnTo>
                    <a:pt x="1538" y="257"/>
                  </a:lnTo>
                  <a:lnTo>
                    <a:pt x="1528" y="262"/>
                  </a:lnTo>
                  <a:lnTo>
                    <a:pt x="1523" y="262"/>
                  </a:lnTo>
                  <a:lnTo>
                    <a:pt x="1513" y="262"/>
                  </a:lnTo>
                  <a:lnTo>
                    <a:pt x="1508" y="267"/>
                  </a:lnTo>
                  <a:lnTo>
                    <a:pt x="1499" y="267"/>
                  </a:lnTo>
                  <a:lnTo>
                    <a:pt x="1494" y="272"/>
                  </a:lnTo>
                  <a:lnTo>
                    <a:pt x="1489" y="277"/>
                  </a:lnTo>
                  <a:lnTo>
                    <a:pt x="1479" y="282"/>
                  </a:lnTo>
                  <a:lnTo>
                    <a:pt x="1474" y="282"/>
                  </a:lnTo>
                  <a:lnTo>
                    <a:pt x="1464" y="287"/>
                  </a:lnTo>
                  <a:lnTo>
                    <a:pt x="1454" y="287"/>
                  </a:lnTo>
                  <a:lnTo>
                    <a:pt x="1449" y="292"/>
                  </a:lnTo>
                  <a:lnTo>
                    <a:pt x="1439" y="292"/>
                  </a:lnTo>
                  <a:lnTo>
                    <a:pt x="1434" y="297"/>
                  </a:lnTo>
                  <a:lnTo>
                    <a:pt x="1429" y="302"/>
                  </a:lnTo>
                  <a:lnTo>
                    <a:pt x="1424" y="307"/>
                  </a:lnTo>
                  <a:lnTo>
                    <a:pt x="1415" y="307"/>
                  </a:lnTo>
                  <a:lnTo>
                    <a:pt x="1410" y="312"/>
                  </a:lnTo>
                  <a:lnTo>
                    <a:pt x="1400" y="312"/>
                  </a:lnTo>
                  <a:lnTo>
                    <a:pt x="1390" y="312"/>
                  </a:lnTo>
                  <a:lnTo>
                    <a:pt x="1385" y="312"/>
                  </a:lnTo>
                  <a:lnTo>
                    <a:pt x="1375" y="317"/>
                  </a:lnTo>
                  <a:lnTo>
                    <a:pt x="1370" y="317"/>
                  </a:lnTo>
                  <a:lnTo>
                    <a:pt x="1360" y="322"/>
                  </a:lnTo>
                  <a:lnTo>
                    <a:pt x="1355" y="327"/>
                  </a:lnTo>
                  <a:lnTo>
                    <a:pt x="1345" y="327"/>
                  </a:lnTo>
                  <a:lnTo>
                    <a:pt x="1340" y="331"/>
                  </a:lnTo>
                  <a:lnTo>
                    <a:pt x="1330" y="331"/>
                  </a:lnTo>
                  <a:lnTo>
                    <a:pt x="1321" y="331"/>
                  </a:lnTo>
                  <a:lnTo>
                    <a:pt x="1316" y="331"/>
                  </a:lnTo>
                  <a:lnTo>
                    <a:pt x="1306" y="331"/>
                  </a:lnTo>
                  <a:lnTo>
                    <a:pt x="1296" y="336"/>
                  </a:lnTo>
                  <a:lnTo>
                    <a:pt x="1286" y="336"/>
                  </a:lnTo>
                  <a:lnTo>
                    <a:pt x="1281" y="341"/>
                  </a:lnTo>
                  <a:lnTo>
                    <a:pt x="1276" y="336"/>
                  </a:lnTo>
                  <a:lnTo>
                    <a:pt x="1271" y="336"/>
                  </a:lnTo>
                  <a:lnTo>
                    <a:pt x="1271" y="327"/>
                  </a:lnTo>
                  <a:lnTo>
                    <a:pt x="1271" y="322"/>
                  </a:lnTo>
                  <a:close/>
                  <a:moveTo>
                    <a:pt x="1410" y="267"/>
                  </a:moveTo>
                  <a:lnTo>
                    <a:pt x="1410" y="262"/>
                  </a:lnTo>
                  <a:lnTo>
                    <a:pt x="1410" y="257"/>
                  </a:lnTo>
                  <a:lnTo>
                    <a:pt x="1410" y="252"/>
                  </a:lnTo>
                  <a:lnTo>
                    <a:pt x="1410" y="247"/>
                  </a:lnTo>
                  <a:lnTo>
                    <a:pt x="1405" y="247"/>
                  </a:lnTo>
                  <a:lnTo>
                    <a:pt x="1405" y="243"/>
                  </a:lnTo>
                  <a:lnTo>
                    <a:pt x="1400" y="238"/>
                  </a:lnTo>
                  <a:lnTo>
                    <a:pt x="1395" y="238"/>
                  </a:lnTo>
                  <a:lnTo>
                    <a:pt x="1390" y="238"/>
                  </a:lnTo>
                  <a:lnTo>
                    <a:pt x="1380" y="238"/>
                  </a:lnTo>
                  <a:lnTo>
                    <a:pt x="1375" y="238"/>
                  </a:lnTo>
                  <a:lnTo>
                    <a:pt x="1370" y="238"/>
                  </a:lnTo>
                  <a:lnTo>
                    <a:pt x="1365" y="238"/>
                  </a:lnTo>
                  <a:lnTo>
                    <a:pt x="1360" y="243"/>
                  </a:lnTo>
                  <a:lnTo>
                    <a:pt x="1360" y="247"/>
                  </a:lnTo>
                  <a:lnTo>
                    <a:pt x="1360" y="252"/>
                  </a:lnTo>
                  <a:lnTo>
                    <a:pt x="1360" y="257"/>
                  </a:lnTo>
                  <a:lnTo>
                    <a:pt x="1365" y="262"/>
                  </a:lnTo>
                  <a:lnTo>
                    <a:pt x="1370" y="267"/>
                  </a:lnTo>
                  <a:lnTo>
                    <a:pt x="1375" y="267"/>
                  </a:lnTo>
                  <a:lnTo>
                    <a:pt x="1380" y="267"/>
                  </a:lnTo>
                  <a:lnTo>
                    <a:pt x="1390" y="267"/>
                  </a:lnTo>
                  <a:lnTo>
                    <a:pt x="1395" y="272"/>
                  </a:lnTo>
                  <a:lnTo>
                    <a:pt x="1400" y="272"/>
                  </a:lnTo>
                  <a:lnTo>
                    <a:pt x="1410" y="267"/>
                  </a:lnTo>
                  <a:lnTo>
                    <a:pt x="1410" y="267"/>
                  </a:lnTo>
                  <a:close/>
                  <a:moveTo>
                    <a:pt x="920" y="238"/>
                  </a:moveTo>
                  <a:lnTo>
                    <a:pt x="925" y="238"/>
                  </a:lnTo>
                  <a:lnTo>
                    <a:pt x="930" y="233"/>
                  </a:lnTo>
                  <a:lnTo>
                    <a:pt x="930" y="228"/>
                  </a:lnTo>
                  <a:lnTo>
                    <a:pt x="935" y="228"/>
                  </a:lnTo>
                  <a:lnTo>
                    <a:pt x="940" y="223"/>
                  </a:lnTo>
                  <a:lnTo>
                    <a:pt x="945" y="218"/>
                  </a:lnTo>
                  <a:lnTo>
                    <a:pt x="945" y="218"/>
                  </a:lnTo>
                  <a:lnTo>
                    <a:pt x="950" y="213"/>
                  </a:lnTo>
                  <a:lnTo>
                    <a:pt x="955" y="208"/>
                  </a:lnTo>
                  <a:lnTo>
                    <a:pt x="955" y="208"/>
                  </a:lnTo>
                  <a:lnTo>
                    <a:pt x="964" y="208"/>
                  </a:lnTo>
                  <a:lnTo>
                    <a:pt x="964" y="213"/>
                  </a:lnTo>
                  <a:lnTo>
                    <a:pt x="969" y="213"/>
                  </a:lnTo>
                  <a:lnTo>
                    <a:pt x="964" y="218"/>
                  </a:lnTo>
                  <a:lnTo>
                    <a:pt x="960" y="223"/>
                  </a:lnTo>
                  <a:lnTo>
                    <a:pt x="955" y="223"/>
                  </a:lnTo>
                  <a:lnTo>
                    <a:pt x="950" y="228"/>
                  </a:lnTo>
                  <a:lnTo>
                    <a:pt x="950" y="233"/>
                  </a:lnTo>
                  <a:lnTo>
                    <a:pt x="945" y="238"/>
                  </a:lnTo>
                  <a:lnTo>
                    <a:pt x="945" y="238"/>
                  </a:lnTo>
                  <a:lnTo>
                    <a:pt x="940" y="243"/>
                  </a:lnTo>
                  <a:lnTo>
                    <a:pt x="935" y="247"/>
                  </a:lnTo>
                  <a:lnTo>
                    <a:pt x="930" y="247"/>
                  </a:lnTo>
                  <a:lnTo>
                    <a:pt x="925" y="247"/>
                  </a:lnTo>
                  <a:lnTo>
                    <a:pt x="925" y="247"/>
                  </a:lnTo>
                  <a:lnTo>
                    <a:pt x="920" y="238"/>
                  </a:lnTo>
                  <a:close/>
                  <a:moveTo>
                    <a:pt x="1143" y="238"/>
                  </a:moveTo>
                  <a:lnTo>
                    <a:pt x="1143" y="238"/>
                  </a:lnTo>
                  <a:lnTo>
                    <a:pt x="1138" y="233"/>
                  </a:lnTo>
                  <a:lnTo>
                    <a:pt x="1138" y="228"/>
                  </a:lnTo>
                  <a:lnTo>
                    <a:pt x="1138" y="228"/>
                  </a:lnTo>
                  <a:lnTo>
                    <a:pt x="1138" y="223"/>
                  </a:lnTo>
                  <a:lnTo>
                    <a:pt x="1138" y="223"/>
                  </a:lnTo>
                  <a:lnTo>
                    <a:pt x="1138" y="218"/>
                  </a:lnTo>
                  <a:lnTo>
                    <a:pt x="1143" y="213"/>
                  </a:lnTo>
                  <a:lnTo>
                    <a:pt x="1143" y="213"/>
                  </a:lnTo>
                  <a:lnTo>
                    <a:pt x="1147" y="218"/>
                  </a:lnTo>
                  <a:lnTo>
                    <a:pt x="1152" y="218"/>
                  </a:lnTo>
                  <a:lnTo>
                    <a:pt x="1152" y="223"/>
                  </a:lnTo>
                  <a:lnTo>
                    <a:pt x="1157" y="228"/>
                  </a:lnTo>
                  <a:lnTo>
                    <a:pt x="1157" y="228"/>
                  </a:lnTo>
                  <a:lnTo>
                    <a:pt x="1157" y="233"/>
                  </a:lnTo>
                  <a:lnTo>
                    <a:pt x="1157" y="238"/>
                  </a:lnTo>
                  <a:lnTo>
                    <a:pt x="1152" y="238"/>
                  </a:lnTo>
                  <a:lnTo>
                    <a:pt x="1147" y="243"/>
                  </a:lnTo>
                  <a:lnTo>
                    <a:pt x="1143" y="243"/>
                  </a:lnTo>
                  <a:lnTo>
                    <a:pt x="1143" y="238"/>
                  </a:lnTo>
                  <a:close/>
                  <a:moveTo>
                    <a:pt x="1464" y="213"/>
                  </a:moveTo>
                  <a:lnTo>
                    <a:pt x="1464" y="213"/>
                  </a:lnTo>
                  <a:lnTo>
                    <a:pt x="1459" y="213"/>
                  </a:lnTo>
                  <a:lnTo>
                    <a:pt x="1454" y="213"/>
                  </a:lnTo>
                  <a:lnTo>
                    <a:pt x="1454" y="218"/>
                  </a:lnTo>
                  <a:lnTo>
                    <a:pt x="1459" y="223"/>
                  </a:lnTo>
                  <a:lnTo>
                    <a:pt x="1459" y="223"/>
                  </a:lnTo>
                  <a:lnTo>
                    <a:pt x="1459" y="228"/>
                  </a:lnTo>
                  <a:lnTo>
                    <a:pt x="1464" y="228"/>
                  </a:lnTo>
                  <a:lnTo>
                    <a:pt x="1464" y="228"/>
                  </a:lnTo>
                  <a:lnTo>
                    <a:pt x="1464" y="228"/>
                  </a:lnTo>
                  <a:lnTo>
                    <a:pt x="1464" y="223"/>
                  </a:lnTo>
                  <a:lnTo>
                    <a:pt x="1464" y="223"/>
                  </a:lnTo>
                  <a:lnTo>
                    <a:pt x="1464" y="218"/>
                  </a:lnTo>
                  <a:lnTo>
                    <a:pt x="1464" y="213"/>
                  </a:lnTo>
                  <a:close/>
                  <a:moveTo>
                    <a:pt x="2171" y="213"/>
                  </a:moveTo>
                  <a:lnTo>
                    <a:pt x="2176" y="208"/>
                  </a:lnTo>
                  <a:lnTo>
                    <a:pt x="2176" y="203"/>
                  </a:lnTo>
                  <a:lnTo>
                    <a:pt x="2181" y="203"/>
                  </a:lnTo>
                  <a:lnTo>
                    <a:pt x="2186" y="208"/>
                  </a:lnTo>
                  <a:lnTo>
                    <a:pt x="2191" y="208"/>
                  </a:lnTo>
                  <a:lnTo>
                    <a:pt x="2191" y="213"/>
                  </a:lnTo>
                  <a:lnTo>
                    <a:pt x="2191" y="218"/>
                  </a:lnTo>
                  <a:lnTo>
                    <a:pt x="2191" y="223"/>
                  </a:lnTo>
                  <a:lnTo>
                    <a:pt x="2186" y="228"/>
                  </a:lnTo>
                  <a:lnTo>
                    <a:pt x="2181" y="228"/>
                  </a:lnTo>
                  <a:lnTo>
                    <a:pt x="2176" y="228"/>
                  </a:lnTo>
                  <a:lnTo>
                    <a:pt x="2176" y="223"/>
                  </a:lnTo>
                  <a:lnTo>
                    <a:pt x="2176" y="218"/>
                  </a:lnTo>
                  <a:lnTo>
                    <a:pt x="2171" y="213"/>
                  </a:lnTo>
                  <a:close/>
                  <a:moveTo>
                    <a:pt x="989" y="188"/>
                  </a:moveTo>
                  <a:lnTo>
                    <a:pt x="999" y="178"/>
                  </a:lnTo>
                  <a:lnTo>
                    <a:pt x="1004" y="173"/>
                  </a:lnTo>
                  <a:lnTo>
                    <a:pt x="1009" y="168"/>
                  </a:lnTo>
                  <a:lnTo>
                    <a:pt x="1014" y="173"/>
                  </a:lnTo>
                  <a:lnTo>
                    <a:pt x="1019" y="178"/>
                  </a:lnTo>
                  <a:lnTo>
                    <a:pt x="1024" y="183"/>
                  </a:lnTo>
                  <a:lnTo>
                    <a:pt x="1024" y="188"/>
                  </a:lnTo>
                  <a:lnTo>
                    <a:pt x="1024" y="198"/>
                  </a:lnTo>
                  <a:lnTo>
                    <a:pt x="1019" y="203"/>
                  </a:lnTo>
                  <a:lnTo>
                    <a:pt x="1009" y="203"/>
                  </a:lnTo>
                  <a:lnTo>
                    <a:pt x="1004" y="203"/>
                  </a:lnTo>
                  <a:lnTo>
                    <a:pt x="999" y="203"/>
                  </a:lnTo>
                  <a:lnTo>
                    <a:pt x="994" y="193"/>
                  </a:lnTo>
                  <a:lnTo>
                    <a:pt x="989" y="188"/>
                  </a:lnTo>
                  <a:close/>
                  <a:moveTo>
                    <a:pt x="1415" y="188"/>
                  </a:moveTo>
                  <a:lnTo>
                    <a:pt x="1415" y="178"/>
                  </a:lnTo>
                  <a:lnTo>
                    <a:pt x="1415" y="173"/>
                  </a:lnTo>
                  <a:lnTo>
                    <a:pt x="1410" y="173"/>
                  </a:lnTo>
                  <a:lnTo>
                    <a:pt x="1405" y="173"/>
                  </a:lnTo>
                  <a:lnTo>
                    <a:pt x="1395" y="173"/>
                  </a:lnTo>
                  <a:lnTo>
                    <a:pt x="1385" y="173"/>
                  </a:lnTo>
                  <a:lnTo>
                    <a:pt x="1380" y="173"/>
                  </a:lnTo>
                  <a:lnTo>
                    <a:pt x="1370" y="178"/>
                  </a:lnTo>
                  <a:lnTo>
                    <a:pt x="1360" y="183"/>
                  </a:lnTo>
                  <a:lnTo>
                    <a:pt x="1355" y="183"/>
                  </a:lnTo>
                  <a:lnTo>
                    <a:pt x="1355" y="188"/>
                  </a:lnTo>
                  <a:lnTo>
                    <a:pt x="1365" y="188"/>
                  </a:lnTo>
                  <a:lnTo>
                    <a:pt x="1370" y="188"/>
                  </a:lnTo>
                  <a:lnTo>
                    <a:pt x="1380" y="188"/>
                  </a:lnTo>
                  <a:lnTo>
                    <a:pt x="1390" y="193"/>
                  </a:lnTo>
                  <a:lnTo>
                    <a:pt x="1400" y="193"/>
                  </a:lnTo>
                  <a:lnTo>
                    <a:pt x="1405" y="198"/>
                  </a:lnTo>
                  <a:lnTo>
                    <a:pt x="1410" y="193"/>
                  </a:lnTo>
                  <a:lnTo>
                    <a:pt x="1415" y="193"/>
                  </a:lnTo>
                  <a:lnTo>
                    <a:pt x="1415" y="188"/>
                  </a:lnTo>
                  <a:close/>
                  <a:moveTo>
                    <a:pt x="1860" y="188"/>
                  </a:moveTo>
                  <a:lnTo>
                    <a:pt x="1860" y="183"/>
                  </a:lnTo>
                  <a:lnTo>
                    <a:pt x="1855" y="183"/>
                  </a:lnTo>
                  <a:lnTo>
                    <a:pt x="1850" y="183"/>
                  </a:lnTo>
                  <a:lnTo>
                    <a:pt x="1840" y="183"/>
                  </a:lnTo>
                  <a:lnTo>
                    <a:pt x="1835" y="183"/>
                  </a:lnTo>
                  <a:lnTo>
                    <a:pt x="1830" y="183"/>
                  </a:lnTo>
                  <a:lnTo>
                    <a:pt x="1825" y="183"/>
                  </a:lnTo>
                  <a:lnTo>
                    <a:pt x="1825" y="188"/>
                  </a:lnTo>
                  <a:lnTo>
                    <a:pt x="1825" y="193"/>
                  </a:lnTo>
                  <a:lnTo>
                    <a:pt x="1825" y="198"/>
                  </a:lnTo>
                  <a:lnTo>
                    <a:pt x="1830" y="198"/>
                  </a:lnTo>
                  <a:lnTo>
                    <a:pt x="1830" y="203"/>
                  </a:lnTo>
                  <a:lnTo>
                    <a:pt x="1835" y="203"/>
                  </a:lnTo>
                  <a:lnTo>
                    <a:pt x="1840" y="203"/>
                  </a:lnTo>
                  <a:lnTo>
                    <a:pt x="1845" y="203"/>
                  </a:lnTo>
                  <a:lnTo>
                    <a:pt x="1850" y="198"/>
                  </a:lnTo>
                  <a:lnTo>
                    <a:pt x="1855" y="198"/>
                  </a:lnTo>
                  <a:lnTo>
                    <a:pt x="1855" y="193"/>
                  </a:lnTo>
                  <a:lnTo>
                    <a:pt x="1860" y="188"/>
                  </a:lnTo>
                  <a:lnTo>
                    <a:pt x="1860" y="188"/>
                  </a:lnTo>
                  <a:close/>
                  <a:moveTo>
                    <a:pt x="1474" y="159"/>
                  </a:moveTo>
                  <a:lnTo>
                    <a:pt x="1474" y="154"/>
                  </a:lnTo>
                  <a:lnTo>
                    <a:pt x="1469" y="149"/>
                  </a:lnTo>
                  <a:lnTo>
                    <a:pt x="1469" y="144"/>
                  </a:lnTo>
                  <a:lnTo>
                    <a:pt x="1459" y="144"/>
                  </a:lnTo>
                  <a:lnTo>
                    <a:pt x="1454" y="149"/>
                  </a:lnTo>
                  <a:lnTo>
                    <a:pt x="1449" y="149"/>
                  </a:lnTo>
                  <a:lnTo>
                    <a:pt x="1444" y="154"/>
                  </a:lnTo>
                  <a:lnTo>
                    <a:pt x="1439" y="159"/>
                  </a:lnTo>
                  <a:lnTo>
                    <a:pt x="1444" y="163"/>
                  </a:lnTo>
                  <a:lnTo>
                    <a:pt x="1449" y="163"/>
                  </a:lnTo>
                  <a:lnTo>
                    <a:pt x="1454" y="163"/>
                  </a:lnTo>
                  <a:lnTo>
                    <a:pt x="1464" y="163"/>
                  </a:lnTo>
                  <a:lnTo>
                    <a:pt x="1469" y="163"/>
                  </a:lnTo>
                  <a:lnTo>
                    <a:pt x="1474" y="159"/>
                  </a:lnTo>
                  <a:close/>
                  <a:moveTo>
                    <a:pt x="1602" y="159"/>
                  </a:moveTo>
                  <a:lnTo>
                    <a:pt x="1598" y="159"/>
                  </a:lnTo>
                  <a:lnTo>
                    <a:pt x="1593" y="159"/>
                  </a:lnTo>
                  <a:lnTo>
                    <a:pt x="1588" y="159"/>
                  </a:lnTo>
                  <a:lnTo>
                    <a:pt x="1588" y="163"/>
                  </a:lnTo>
                  <a:lnTo>
                    <a:pt x="1588" y="163"/>
                  </a:lnTo>
                  <a:lnTo>
                    <a:pt x="1593" y="168"/>
                  </a:lnTo>
                  <a:lnTo>
                    <a:pt x="1593" y="173"/>
                  </a:lnTo>
                  <a:lnTo>
                    <a:pt x="1593" y="173"/>
                  </a:lnTo>
                  <a:lnTo>
                    <a:pt x="1598" y="173"/>
                  </a:lnTo>
                  <a:lnTo>
                    <a:pt x="1598" y="173"/>
                  </a:lnTo>
                  <a:lnTo>
                    <a:pt x="1598" y="173"/>
                  </a:lnTo>
                  <a:lnTo>
                    <a:pt x="1598" y="168"/>
                  </a:lnTo>
                  <a:lnTo>
                    <a:pt x="1602" y="163"/>
                  </a:lnTo>
                  <a:lnTo>
                    <a:pt x="1602" y="159"/>
                  </a:lnTo>
                  <a:close/>
                  <a:moveTo>
                    <a:pt x="1657" y="159"/>
                  </a:moveTo>
                  <a:lnTo>
                    <a:pt x="1652" y="159"/>
                  </a:lnTo>
                  <a:lnTo>
                    <a:pt x="1647" y="159"/>
                  </a:lnTo>
                  <a:lnTo>
                    <a:pt x="1642" y="159"/>
                  </a:lnTo>
                  <a:lnTo>
                    <a:pt x="1642" y="163"/>
                  </a:lnTo>
                  <a:lnTo>
                    <a:pt x="1642" y="163"/>
                  </a:lnTo>
                  <a:lnTo>
                    <a:pt x="1642" y="168"/>
                  </a:lnTo>
                  <a:lnTo>
                    <a:pt x="1642" y="173"/>
                  </a:lnTo>
                  <a:lnTo>
                    <a:pt x="1647" y="173"/>
                  </a:lnTo>
                  <a:lnTo>
                    <a:pt x="1652" y="178"/>
                  </a:lnTo>
                  <a:lnTo>
                    <a:pt x="1652" y="173"/>
                  </a:lnTo>
                  <a:lnTo>
                    <a:pt x="1652" y="173"/>
                  </a:lnTo>
                  <a:lnTo>
                    <a:pt x="1657" y="168"/>
                  </a:lnTo>
                  <a:lnTo>
                    <a:pt x="1657" y="163"/>
                  </a:lnTo>
                  <a:lnTo>
                    <a:pt x="1657" y="159"/>
                  </a:lnTo>
                  <a:close/>
                  <a:moveTo>
                    <a:pt x="1805" y="159"/>
                  </a:moveTo>
                  <a:lnTo>
                    <a:pt x="1800" y="159"/>
                  </a:lnTo>
                  <a:lnTo>
                    <a:pt x="1795" y="159"/>
                  </a:lnTo>
                  <a:lnTo>
                    <a:pt x="1790" y="159"/>
                  </a:lnTo>
                  <a:lnTo>
                    <a:pt x="1785" y="159"/>
                  </a:lnTo>
                  <a:lnTo>
                    <a:pt x="1776" y="159"/>
                  </a:lnTo>
                  <a:lnTo>
                    <a:pt x="1771" y="159"/>
                  </a:lnTo>
                  <a:lnTo>
                    <a:pt x="1766" y="159"/>
                  </a:lnTo>
                  <a:lnTo>
                    <a:pt x="1771" y="163"/>
                  </a:lnTo>
                  <a:lnTo>
                    <a:pt x="1776" y="163"/>
                  </a:lnTo>
                  <a:lnTo>
                    <a:pt x="1785" y="163"/>
                  </a:lnTo>
                  <a:lnTo>
                    <a:pt x="1790" y="163"/>
                  </a:lnTo>
                  <a:lnTo>
                    <a:pt x="1795" y="163"/>
                  </a:lnTo>
                  <a:lnTo>
                    <a:pt x="1800" y="163"/>
                  </a:lnTo>
                  <a:lnTo>
                    <a:pt x="1805" y="159"/>
                  </a:lnTo>
                  <a:close/>
                  <a:moveTo>
                    <a:pt x="1548" y="134"/>
                  </a:moveTo>
                  <a:lnTo>
                    <a:pt x="1548" y="129"/>
                  </a:lnTo>
                  <a:lnTo>
                    <a:pt x="1543" y="124"/>
                  </a:lnTo>
                  <a:lnTo>
                    <a:pt x="1543" y="124"/>
                  </a:lnTo>
                  <a:lnTo>
                    <a:pt x="1538" y="119"/>
                  </a:lnTo>
                  <a:lnTo>
                    <a:pt x="1528" y="119"/>
                  </a:lnTo>
                  <a:lnTo>
                    <a:pt x="1523" y="119"/>
                  </a:lnTo>
                  <a:lnTo>
                    <a:pt x="1518" y="119"/>
                  </a:lnTo>
                  <a:lnTo>
                    <a:pt x="1513" y="124"/>
                  </a:lnTo>
                  <a:lnTo>
                    <a:pt x="1504" y="124"/>
                  </a:lnTo>
                  <a:lnTo>
                    <a:pt x="1504" y="129"/>
                  </a:lnTo>
                  <a:lnTo>
                    <a:pt x="1499" y="134"/>
                  </a:lnTo>
                  <a:lnTo>
                    <a:pt x="1504" y="134"/>
                  </a:lnTo>
                  <a:lnTo>
                    <a:pt x="1508" y="134"/>
                  </a:lnTo>
                  <a:lnTo>
                    <a:pt x="1513" y="139"/>
                  </a:lnTo>
                  <a:lnTo>
                    <a:pt x="1518" y="139"/>
                  </a:lnTo>
                  <a:lnTo>
                    <a:pt x="1528" y="139"/>
                  </a:lnTo>
                  <a:lnTo>
                    <a:pt x="1533" y="139"/>
                  </a:lnTo>
                  <a:lnTo>
                    <a:pt x="1538" y="139"/>
                  </a:lnTo>
                  <a:lnTo>
                    <a:pt x="1543" y="134"/>
                  </a:lnTo>
                  <a:lnTo>
                    <a:pt x="1548" y="134"/>
                  </a:lnTo>
                  <a:close/>
                  <a:moveTo>
                    <a:pt x="1751" y="134"/>
                  </a:moveTo>
                  <a:lnTo>
                    <a:pt x="1746" y="134"/>
                  </a:lnTo>
                  <a:lnTo>
                    <a:pt x="1741" y="129"/>
                  </a:lnTo>
                  <a:lnTo>
                    <a:pt x="1736" y="129"/>
                  </a:lnTo>
                  <a:lnTo>
                    <a:pt x="1731" y="129"/>
                  </a:lnTo>
                  <a:lnTo>
                    <a:pt x="1721" y="129"/>
                  </a:lnTo>
                  <a:lnTo>
                    <a:pt x="1716" y="134"/>
                  </a:lnTo>
                  <a:lnTo>
                    <a:pt x="1711" y="134"/>
                  </a:lnTo>
                  <a:lnTo>
                    <a:pt x="1716" y="134"/>
                  </a:lnTo>
                  <a:lnTo>
                    <a:pt x="1721" y="134"/>
                  </a:lnTo>
                  <a:lnTo>
                    <a:pt x="1731" y="139"/>
                  </a:lnTo>
                  <a:lnTo>
                    <a:pt x="1736" y="139"/>
                  </a:lnTo>
                  <a:lnTo>
                    <a:pt x="1741" y="134"/>
                  </a:lnTo>
                  <a:lnTo>
                    <a:pt x="1746" y="134"/>
                  </a:lnTo>
                  <a:lnTo>
                    <a:pt x="1751" y="134"/>
                  </a:lnTo>
                  <a:close/>
                  <a:moveTo>
                    <a:pt x="1612" y="104"/>
                  </a:moveTo>
                  <a:lnTo>
                    <a:pt x="1607" y="99"/>
                  </a:lnTo>
                  <a:lnTo>
                    <a:pt x="1602" y="99"/>
                  </a:lnTo>
                  <a:lnTo>
                    <a:pt x="1598" y="94"/>
                  </a:lnTo>
                  <a:lnTo>
                    <a:pt x="1598" y="94"/>
                  </a:lnTo>
                  <a:lnTo>
                    <a:pt x="1593" y="94"/>
                  </a:lnTo>
                  <a:lnTo>
                    <a:pt x="1588" y="94"/>
                  </a:lnTo>
                  <a:lnTo>
                    <a:pt x="1588" y="99"/>
                  </a:lnTo>
                  <a:lnTo>
                    <a:pt x="1583" y="99"/>
                  </a:lnTo>
                  <a:lnTo>
                    <a:pt x="1573" y="104"/>
                  </a:lnTo>
                  <a:lnTo>
                    <a:pt x="1568" y="104"/>
                  </a:lnTo>
                  <a:lnTo>
                    <a:pt x="1563" y="104"/>
                  </a:lnTo>
                  <a:lnTo>
                    <a:pt x="1563" y="109"/>
                  </a:lnTo>
                  <a:lnTo>
                    <a:pt x="1573" y="109"/>
                  </a:lnTo>
                  <a:lnTo>
                    <a:pt x="1578" y="109"/>
                  </a:lnTo>
                  <a:lnTo>
                    <a:pt x="1583" y="109"/>
                  </a:lnTo>
                  <a:lnTo>
                    <a:pt x="1588" y="109"/>
                  </a:lnTo>
                  <a:lnTo>
                    <a:pt x="1593" y="109"/>
                  </a:lnTo>
                  <a:lnTo>
                    <a:pt x="1598" y="109"/>
                  </a:lnTo>
                  <a:lnTo>
                    <a:pt x="1602" y="109"/>
                  </a:lnTo>
                  <a:lnTo>
                    <a:pt x="1612" y="104"/>
                  </a:lnTo>
                  <a:close/>
                  <a:moveTo>
                    <a:pt x="1696" y="104"/>
                  </a:moveTo>
                  <a:lnTo>
                    <a:pt x="1691" y="104"/>
                  </a:lnTo>
                  <a:lnTo>
                    <a:pt x="1687" y="104"/>
                  </a:lnTo>
                  <a:lnTo>
                    <a:pt x="1677" y="104"/>
                  </a:lnTo>
                  <a:lnTo>
                    <a:pt x="1672" y="104"/>
                  </a:lnTo>
                  <a:lnTo>
                    <a:pt x="1662" y="104"/>
                  </a:lnTo>
                  <a:lnTo>
                    <a:pt x="1657" y="104"/>
                  </a:lnTo>
                  <a:lnTo>
                    <a:pt x="1652" y="104"/>
                  </a:lnTo>
                  <a:lnTo>
                    <a:pt x="1657" y="109"/>
                  </a:lnTo>
                  <a:lnTo>
                    <a:pt x="1662" y="109"/>
                  </a:lnTo>
                  <a:lnTo>
                    <a:pt x="1672" y="109"/>
                  </a:lnTo>
                  <a:lnTo>
                    <a:pt x="1682" y="109"/>
                  </a:lnTo>
                  <a:lnTo>
                    <a:pt x="1687" y="109"/>
                  </a:lnTo>
                  <a:lnTo>
                    <a:pt x="1691" y="109"/>
                  </a:lnTo>
                  <a:lnTo>
                    <a:pt x="1696" y="104"/>
                  </a:lnTo>
                  <a:close/>
                  <a:moveTo>
                    <a:pt x="2235" y="1656"/>
                  </a:moveTo>
                  <a:lnTo>
                    <a:pt x="2260" y="1631"/>
                  </a:lnTo>
                  <a:lnTo>
                    <a:pt x="2285" y="1631"/>
                  </a:lnTo>
                  <a:lnTo>
                    <a:pt x="2315" y="1631"/>
                  </a:lnTo>
                  <a:lnTo>
                    <a:pt x="2339" y="1631"/>
                  </a:lnTo>
                  <a:lnTo>
                    <a:pt x="2369" y="1631"/>
                  </a:lnTo>
                  <a:lnTo>
                    <a:pt x="2394" y="1631"/>
                  </a:lnTo>
                  <a:lnTo>
                    <a:pt x="2418" y="1631"/>
                  </a:lnTo>
                  <a:lnTo>
                    <a:pt x="2448" y="1602"/>
                  </a:lnTo>
                  <a:lnTo>
                    <a:pt x="2448" y="1577"/>
                  </a:lnTo>
                  <a:lnTo>
                    <a:pt x="2448" y="1547"/>
                  </a:lnTo>
                  <a:lnTo>
                    <a:pt x="2448" y="1523"/>
                  </a:lnTo>
                  <a:lnTo>
                    <a:pt x="2473" y="1498"/>
                  </a:lnTo>
                  <a:lnTo>
                    <a:pt x="2473" y="1468"/>
                  </a:lnTo>
                  <a:lnTo>
                    <a:pt x="2473" y="1444"/>
                  </a:lnTo>
                  <a:lnTo>
                    <a:pt x="2473" y="1414"/>
                  </a:lnTo>
                  <a:lnTo>
                    <a:pt x="2503" y="1389"/>
                  </a:lnTo>
                  <a:lnTo>
                    <a:pt x="2503" y="1364"/>
                  </a:lnTo>
                  <a:lnTo>
                    <a:pt x="2503" y="1335"/>
                  </a:lnTo>
                  <a:lnTo>
                    <a:pt x="2503" y="1310"/>
                  </a:lnTo>
                  <a:lnTo>
                    <a:pt x="2527" y="1280"/>
                  </a:lnTo>
                  <a:lnTo>
                    <a:pt x="2527" y="1256"/>
                  </a:lnTo>
                  <a:lnTo>
                    <a:pt x="2527" y="1226"/>
                  </a:lnTo>
                  <a:lnTo>
                    <a:pt x="2527" y="1201"/>
                  </a:lnTo>
                  <a:lnTo>
                    <a:pt x="2552" y="1177"/>
                  </a:lnTo>
                  <a:lnTo>
                    <a:pt x="2552" y="1147"/>
                  </a:lnTo>
                  <a:lnTo>
                    <a:pt x="2552" y="1122"/>
                  </a:lnTo>
                  <a:lnTo>
                    <a:pt x="2552" y="1093"/>
                  </a:lnTo>
                  <a:lnTo>
                    <a:pt x="2582" y="1068"/>
                  </a:lnTo>
                  <a:lnTo>
                    <a:pt x="2582" y="1043"/>
                  </a:lnTo>
                  <a:lnTo>
                    <a:pt x="2582" y="1014"/>
                  </a:lnTo>
                  <a:lnTo>
                    <a:pt x="2582" y="989"/>
                  </a:lnTo>
                  <a:lnTo>
                    <a:pt x="2582" y="959"/>
                  </a:lnTo>
                  <a:lnTo>
                    <a:pt x="2582" y="934"/>
                  </a:lnTo>
                  <a:lnTo>
                    <a:pt x="2582" y="910"/>
                  </a:lnTo>
                  <a:lnTo>
                    <a:pt x="2582" y="880"/>
                  </a:lnTo>
                  <a:lnTo>
                    <a:pt x="2582" y="855"/>
                  </a:lnTo>
                  <a:lnTo>
                    <a:pt x="2582" y="826"/>
                  </a:lnTo>
                  <a:lnTo>
                    <a:pt x="2582" y="801"/>
                  </a:lnTo>
                  <a:lnTo>
                    <a:pt x="2582" y="776"/>
                  </a:lnTo>
                  <a:lnTo>
                    <a:pt x="2582" y="747"/>
                  </a:lnTo>
                  <a:lnTo>
                    <a:pt x="2582" y="722"/>
                  </a:lnTo>
                  <a:lnTo>
                    <a:pt x="2582" y="692"/>
                  </a:lnTo>
                  <a:lnTo>
                    <a:pt x="2582" y="668"/>
                  </a:lnTo>
                  <a:lnTo>
                    <a:pt x="2582" y="643"/>
                  </a:lnTo>
                  <a:lnTo>
                    <a:pt x="2582" y="613"/>
                  </a:lnTo>
                  <a:lnTo>
                    <a:pt x="2582" y="589"/>
                  </a:lnTo>
                  <a:lnTo>
                    <a:pt x="2582" y="559"/>
                  </a:lnTo>
                  <a:lnTo>
                    <a:pt x="2582" y="534"/>
                  </a:lnTo>
                  <a:lnTo>
                    <a:pt x="2582" y="504"/>
                  </a:lnTo>
                  <a:lnTo>
                    <a:pt x="2582" y="480"/>
                  </a:lnTo>
                  <a:lnTo>
                    <a:pt x="2582" y="455"/>
                  </a:lnTo>
                  <a:lnTo>
                    <a:pt x="2582" y="425"/>
                  </a:lnTo>
                  <a:lnTo>
                    <a:pt x="2582" y="401"/>
                  </a:lnTo>
                  <a:lnTo>
                    <a:pt x="2582" y="371"/>
                  </a:lnTo>
                  <a:lnTo>
                    <a:pt x="2582" y="346"/>
                  </a:lnTo>
                  <a:lnTo>
                    <a:pt x="2582" y="322"/>
                  </a:lnTo>
                  <a:lnTo>
                    <a:pt x="2582" y="292"/>
                  </a:lnTo>
                  <a:lnTo>
                    <a:pt x="2582" y="267"/>
                  </a:lnTo>
                  <a:lnTo>
                    <a:pt x="2582" y="238"/>
                  </a:lnTo>
                  <a:lnTo>
                    <a:pt x="2552" y="213"/>
                  </a:lnTo>
                  <a:lnTo>
                    <a:pt x="2552" y="188"/>
                  </a:lnTo>
                  <a:lnTo>
                    <a:pt x="2552" y="159"/>
                  </a:lnTo>
                  <a:lnTo>
                    <a:pt x="2552" y="134"/>
                  </a:lnTo>
                  <a:lnTo>
                    <a:pt x="2552" y="104"/>
                  </a:lnTo>
                  <a:lnTo>
                    <a:pt x="2527" y="79"/>
                  </a:lnTo>
                  <a:lnTo>
                    <a:pt x="2503" y="79"/>
                  </a:lnTo>
                  <a:lnTo>
                    <a:pt x="2473" y="79"/>
                  </a:lnTo>
                  <a:lnTo>
                    <a:pt x="2448" y="55"/>
                  </a:lnTo>
                  <a:lnTo>
                    <a:pt x="2418" y="55"/>
                  </a:lnTo>
                  <a:lnTo>
                    <a:pt x="2394" y="55"/>
                  </a:lnTo>
                  <a:lnTo>
                    <a:pt x="2369" y="25"/>
                  </a:lnTo>
                  <a:lnTo>
                    <a:pt x="2339" y="25"/>
                  </a:lnTo>
                  <a:lnTo>
                    <a:pt x="2315" y="25"/>
                  </a:lnTo>
                  <a:lnTo>
                    <a:pt x="2285" y="0"/>
                  </a:lnTo>
                  <a:lnTo>
                    <a:pt x="2260" y="0"/>
                  </a:lnTo>
                  <a:lnTo>
                    <a:pt x="2235" y="0"/>
                  </a:lnTo>
                  <a:lnTo>
                    <a:pt x="2206" y="0"/>
                  </a:lnTo>
                  <a:lnTo>
                    <a:pt x="2181" y="0"/>
                  </a:lnTo>
                  <a:lnTo>
                    <a:pt x="2156" y="0"/>
                  </a:lnTo>
                  <a:lnTo>
                    <a:pt x="2127" y="0"/>
                  </a:lnTo>
                  <a:lnTo>
                    <a:pt x="2102" y="0"/>
                  </a:lnTo>
                  <a:lnTo>
                    <a:pt x="2072" y="0"/>
                  </a:lnTo>
                  <a:lnTo>
                    <a:pt x="2048" y="0"/>
                  </a:lnTo>
                  <a:lnTo>
                    <a:pt x="2023" y="0"/>
                  </a:lnTo>
                  <a:lnTo>
                    <a:pt x="1993" y="0"/>
                  </a:lnTo>
                  <a:lnTo>
                    <a:pt x="1968" y="0"/>
                  </a:lnTo>
                  <a:lnTo>
                    <a:pt x="1944" y="0"/>
                  </a:lnTo>
                  <a:lnTo>
                    <a:pt x="1914" y="0"/>
                  </a:lnTo>
                  <a:lnTo>
                    <a:pt x="1889" y="0"/>
                  </a:lnTo>
                  <a:lnTo>
                    <a:pt x="1860" y="0"/>
                  </a:lnTo>
                  <a:lnTo>
                    <a:pt x="1835" y="0"/>
                  </a:lnTo>
                  <a:lnTo>
                    <a:pt x="1810" y="0"/>
                  </a:lnTo>
                  <a:lnTo>
                    <a:pt x="1780" y="0"/>
                  </a:lnTo>
                  <a:lnTo>
                    <a:pt x="1756" y="0"/>
                  </a:lnTo>
                  <a:lnTo>
                    <a:pt x="1726" y="0"/>
                  </a:lnTo>
                  <a:lnTo>
                    <a:pt x="1701" y="0"/>
                  </a:lnTo>
                  <a:lnTo>
                    <a:pt x="1677" y="0"/>
                  </a:lnTo>
                  <a:lnTo>
                    <a:pt x="1647" y="0"/>
                  </a:lnTo>
                  <a:lnTo>
                    <a:pt x="1622" y="0"/>
                  </a:lnTo>
                  <a:lnTo>
                    <a:pt x="1598" y="0"/>
                  </a:lnTo>
                  <a:lnTo>
                    <a:pt x="1568" y="0"/>
                  </a:lnTo>
                  <a:lnTo>
                    <a:pt x="1543" y="0"/>
                  </a:lnTo>
                  <a:lnTo>
                    <a:pt x="1513" y="0"/>
                  </a:lnTo>
                  <a:lnTo>
                    <a:pt x="1489" y="0"/>
                  </a:lnTo>
                  <a:lnTo>
                    <a:pt x="1464" y="0"/>
                  </a:lnTo>
                  <a:lnTo>
                    <a:pt x="1434" y="0"/>
                  </a:lnTo>
                  <a:lnTo>
                    <a:pt x="1410" y="0"/>
                  </a:lnTo>
                  <a:lnTo>
                    <a:pt x="1385" y="0"/>
                  </a:lnTo>
                  <a:lnTo>
                    <a:pt x="1355" y="0"/>
                  </a:lnTo>
                  <a:lnTo>
                    <a:pt x="1330" y="0"/>
                  </a:lnTo>
                  <a:lnTo>
                    <a:pt x="1301" y="0"/>
                  </a:lnTo>
                  <a:lnTo>
                    <a:pt x="1276" y="0"/>
                  </a:lnTo>
                  <a:lnTo>
                    <a:pt x="1251" y="0"/>
                  </a:lnTo>
                  <a:lnTo>
                    <a:pt x="1222" y="0"/>
                  </a:lnTo>
                  <a:lnTo>
                    <a:pt x="1197" y="0"/>
                  </a:lnTo>
                  <a:lnTo>
                    <a:pt x="1172" y="0"/>
                  </a:lnTo>
                  <a:lnTo>
                    <a:pt x="1143" y="0"/>
                  </a:lnTo>
                  <a:lnTo>
                    <a:pt x="1118" y="0"/>
                  </a:lnTo>
                  <a:lnTo>
                    <a:pt x="1088" y="0"/>
                  </a:lnTo>
                  <a:lnTo>
                    <a:pt x="1063" y="0"/>
                  </a:lnTo>
                  <a:lnTo>
                    <a:pt x="1039" y="0"/>
                  </a:lnTo>
                  <a:lnTo>
                    <a:pt x="1009" y="0"/>
                  </a:lnTo>
                  <a:lnTo>
                    <a:pt x="984" y="0"/>
                  </a:lnTo>
                  <a:lnTo>
                    <a:pt x="955" y="0"/>
                  </a:lnTo>
                  <a:lnTo>
                    <a:pt x="930" y="0"/>
                  </a:lnTo>
                  <a:lnTo>
                    <a:pt x="905" y="0"/>
                  </a:lnTo>
                  <a:lnTo>
                    <a:pt x="875" y="0"/>
                  </a:lnTo>
                  <a:lnTo>
                    <a:pt x="851" y="0"/>
                  </a:lnTo>
                  <a:lnTo>
                    <a:pt x="826" y="0"/>
                  </a:lnTo>
                  <a:lnTo>
                    <a:pt x="796" y="0"/>
                  </a:lnTo>
                  <a:lnTo>
                    <a:pt x="772" y="0"/>
                  </a:lnTo>
                  <a:lnTo>
                    <a:pt x="742" y="0"/>
                  </a:lnTo>
                  <a:lnTo>
                    <a:pt x="717" y="0"/>
                  </a:lnTo>
                  <a:lnTo>
                    <a:pt x="692" y="0"/>
                  </a:lnTo>
                  <a:lnTo>
                    <a:pt x="663" y="0"/>
                  </a:lnTo>
                  <a:lnTo>
                    <a:pt x="638" y="0"/>
                  </a:lnTo>
                  <a:lnTo>
                    <a:pt x="613" y="0"/>
                  </a:lnTo>
                  <a:lnTo>
                    <a:pt x="584" y="25"/>
                  </a:lnTo>
                  <a:lnTo>
                    <a:pt x="559" y="55"/>
                  </a:lnTo>
                  <a:lnTo>
                    <a:pt x="529" y="79"/>
                  </a:lnTo>
                  <a:lnTo>
                    <a:pt x="505" y="104"/>
                  </a:lnTo>
                  <a:lnTo>
                    <a:pt x="480" y="134"/>
                  </a:lnTo>
                  <a:lnTo>
                    <a:pt x="450" y="134"/>
                  </a:lnTo>
                  <a:lnTo>
                    <a:pt x="425" y="159"/>
                  </a:lnTo>
                  <a:lnTo>
                    <a:pt x="396" y="188"/>
                  </a:lnTo>
                  <a:lnTo>
                    <a:pt x="371" y="213"/>
                  </a:lnTo>
                  <a:lnTo>
                    <a:pt x="346" y="238"/>
                  </a:lnTo>
                  <a:lnTo>
                    <a:pt x="317" y="267"/>
                  </a:lnTo>
                  <a:lnTo>
                    <a:pt x="292" y="292"/>
                  </a:lnTo>
                  <a:lnTo>
                    <a:pt x="267" y="322"/>
                  </a:lnTo>
                  <a:lnTo>
                    <a:pt x="237" y="322"/>
                  </a:lnTo>
                  <a:lnTo>
                    <a:pt x="213" y="346"/>
                  </a:lnTo>
                  <a:lnTo>
                    <a:pt x="183" y="371"/>
                  </a:lnTo>
                  <a:lnTo>
                    <a:pt x="158" y="401"/>
                  </a:lnTo>
                  <a:lnTo>
                    <a:pt x="134" y="425"/>
                  </a:lnTo>
                  <a:lnTo>
                    <a:pt x="104" y="455"/>
                  </a:lnTo>
                  <a:lnTo>
                    <a:pt x="79" y="480"/>
                  </a:lnTo>
                  <a:lnTo>
                    <a:pt x="55" y="504"/>
                  </a:lnTo>
                  <a:lnTo>
                    <a:pt x="25" y="504"/>
                  </a:lnTo>
                  <a:lnTo>
                    <a:pt x="0" y="534"/>
                  </a:lnTo>
                  <a:lnTo>
                    <a:pt x="0" y="559"/>
                  </a:lnTo>
                  <a:lnTo>
                    <a:pt x="0" y="589"/>
                  </a:lnTo>
                  <a:lnTo>
                    <a:pt x="0" y="613"/>
                  </a:lnTo>
                  <a:lnTo>
                    <a:pt x="25" y="643"/>
                  </a:lnTo>
                  <a:lnTo>
                    <a:pt x="25" y="668"/>
                  </a:lnTo>
                  <a:lnTo>
                    <a:pt x="55" y="692"/>
                  </a:lnTo>
                  <a:lnTo>
                    <a:pt x="79" y="722"/>
                  </a:lnTo>
                  <a:lnTo>
                    <a:pt x="104" y="747"/>
                  </a:lnTo>
                  <a:lnTo>
                    <a:pt x="134" y="776"/>
                  </a:lnTo>
                  <a:lnTo>
                    <a:pt x="134" y="801"/>
                  </a:lnTo>
                  <a:lnTo>
                    <a:pt x="158" y="826"/>
                  </a:lnTo>
                  <a:lnTo>
                    <a:pt x="183" y="855"/>
                  </a:lnTo>
                  <a:lnTo>
                    <a:pt x="213" y="880"/>
                  </a:lnTo>
                  <a:lnTo>
                    <a:pt x="237" y="910"/>
                  </a:lnTo>
                  <a:lnTo>
                    <a:pt x="267" y="934"/>
                  </a:lnTo>
                  <a:lnTo>
                    <a:pt x="292" y="959"/>
                  </a:lnTo>
                  <a:lnTo>
                    <a:pt x="292" y="989"/>
                  </a:lnTo>
                  <a:lnTo>
                    <a:pt x="317" y="1014"/>
                  </a:lnTo>
                  <a:lnTo>
                    <a:pt x="346" y="1043"/>
                  </a:lnTo>
                  <a:lnTo>
                    <a:pt x="371" y="1068"/>
                  </a:lnTo>
                  <a:lnTo>
                    <a:pt x="396" y="1093"/>
                  </a:lnTo>
                  <a:lnTo>
                    <a:pt x="425" y="1122"/>
                  </a:lnTo>
                  <a:lnTo>
                    <a:pt x="450" y="1147"/>
                  </a:lnTo>
                  <a:lnTo>
                    <a:pt x="480" y="1177"/>
                  </a:lnTo>
                  <a:lnTo>
                    <a:pt x="505" y="1201"/>
                  </a:lnTo>
                  <a:lnTo>
                    <a:pt x="529" y="1226"/>
                  </a:lnTo>
                  <a:lnTo>
                    <a:pt x="559" y="1256"/>
                  </a:lnTo>
                  <a:lnTo>
                    <a:pt x="584" y="1280"/>
                  </a:lnTo>
                  <a:lnTo>
                    <a:pt x="613" y="1310"/>
                  </a:lnTo>
                  <a:lnTo>
                    <a:pt x="638" y="1335"/>
                  </a:lnTo>
                  <a:lnTo>
                    <a:pt x="663" y="1364"/>
                  </a:lnTo>
                  <a:lnTo>
                    <a:pt x="692" y="1389"/>
                  </a:lnTo>
                  <a:lnTo>
                    <a:pt x="717" y="1414"/>
                  </a:lnTo>
                  <a:lnTo>
                    <a:pt x="742" y="1444"/>
                  </a:lnTo>
                  <a:lnTo>
                    <a:pt x="772" y="1468"/>
                  </a:lnTo>
                  <a:lnTo>
                    <a:pt x="796" y="1468"/>
                  </a:lnTo>
                  <a:lnTo>
                    <a:pt x="826" y="1498"/>
                  </a:lnTo>
                  <a:lnTo>
                    <a:pt x="851" y="1523"/>
                  </a:lnTo>
                  <a:lnTo>
                    <a:pt x="875" y="1547"/>
                  </a:lnTo>
                  <a:lnTo>
                    <a:pt x="905" y="1577"/>
                  </a:lnTo>
                  <a:lnTo>
                    <a:pt x="930" y="1602"/>
                  </a:lnTo>
                  <a:lnTo>
                    <a:pt x="955" y="1631"/>
                  </a:lnTo>
                  <a:lnTo>
                    <a:pt x="984" y="1656"/>
                  </a:lnTo>
                  <a:lnTo>
                    <a:pt x="1009" y="1656"/>
                  </a:lnTo>
                  <a:lnTo>
                    <a:pt x="1039" y="1656"/>
                  </a:lnTo>
                  <a:lnTo>
                    <a:pt x="1063" y="1656"/>
                  </a:lnTo>
                  <a:lnTo>
                    <a:pt x="1088" y="1656"/>
                  </a:lnTo>
                  <a:lnTo>
                    <a:pt x="1118" y="1656"/>
                  </a:lnTo>
                  <a:lnTo>
                    <a:pt x="1143" y="1656"/>
                  </a:lnTo>
                  <a:lnTo>
                    <a:pt x="1172" y="1656"/>
                  </a:lnTo>
                  <a:lnTo>
                    <a:pt x="1197" y="1656"/>
                  </a:lnTo>
                  <a:lnTo>
                    <a:pt x="1222" y="1656"/>
                  </a:lnTo>
                  <a:lnTo>
                    <a:pt x="1251" y="1656"/>
                  </a:lnTo>
                  <a:lnTo>
                    <a:pt x="1276" y="1656"/>
                  </a:lnTo>
                  <a:lnTo>
                    <a:pt x="1301" y="1656"/>
                  </a:lnTo>
                  <a:lnTo>
                    <a:pt x="1330" y="1656"/>
                  </a:lnTo>
                  <a:lnTo>
                    <a:pt x="1355" y="1656"/>
                  </a:lnTo>
                  <a:lnTo>
                    <a:pt x="1385" y="1656"/>
                  </a:lnTo>
                  <a:lnTo>
                    <a:pt x="1410" y="1656"/>
                  </a:lnTo>
                  <a:lnTo>
                    <a:pt x="1434" y="1656"/>
                  </a:lnTo>
                  <a:lnTo>
                    <a:pt x="1464" y="1656"/>
                  </a:lnTo>
                  <a:lnTo>
                    <a:pt x="1489" y="1656"/>
                  </a:lnTo>
                  <a:lnTo>
                    <a:pt x="1513" y="1656"/>
                  </a:lnTo>
                  <a:lnTo>
                    <a:pt x="1543" y="1656"/>
                  </a:lnTo>
                  <a:lnTo>
                    <a:pt x="1568" y="1656"/>
                  </a:lnTo>
                  <a:lnTo>
                    <a:pt x="1598" y="1656"/>
                  </a:lnTo>
                  <a:lnTo>
                    <a:pt x="1622" y="1656"/>
                  </a:lnTo>
                  <a:lnTo>
                    <a:pt x="1647" y="1656"/>
                  </a:lnTo>
                  <a:lnTo>
                    <a:pt x="1677" y="1656"/>
                  </a:lnTo>
                  <a:lnTo>
                    <a:pt x="1701" y="1656"/>
                  </a:lnTo>
                  <a:lnTo>
                    <a:pt x="1726" y="1656"/>
                  </a:lnTo>
                  <a:lnTo>
                    <a:pt x="1756" y="1656"/>
                  </a:lnTo>
                  <a:lnTo>
                    <a:pt x="1780" y="1656"/>
                  </a:lnTo>
                  <a:lnTo>
                    <a:pt x="1810" y="1656"/>
                  </a:lnTo>
                  <a:lnTo>
                    <a:pt x="1835" y="1656"/>
                  </a:lnTo>
                  <a:lnTo>
                    <a:pt x="1860" y="1656"/>
                  </a:lnTo>
                  <a:lnTo>
                    <a:pt x="1889" y="1656"/>
                  </a:lnTo>
                  <a:lnTo>
                    <a:pt x="1914" y="1656"/>
                  </a:lnTo>
                  <a:lnTo>
                    <a:pt x="1944" y="1656"/>
                  </a:lnTo>
                  <a:lnTo>
                    <a:pt x="1968" y="1656"/>
                  </a:lnTo>
                  <a:lnTo>
                    <a:pt x="1993" y="1656"/>
                  </a:lnTo>
                  <a:lnTo>
                    <a:pt x="2023" y="1656"/>
                  </a:lnTo>
                  <a:lnTo>
                    <a:pt x="2048" y="1656"/>
                  </a:lnTo>
                  <a:lnTo>
                    <a:pt x="2072" y="1656"/>
                  </a:lnTo>
                  <a:lnTo>
                    <a:pt x="2102" y="1656"/>
                  </a:lnTo>
                  <a:lnTo>
                    <a:pt x="2127" y="1656"/>
                  </a:lnTo>
                  <a:lnTo>
                    <a:pt x="2156" y="1656"/>
                  </a:lnTo>
                  <a:lnTo>
                    <a:pt x="2181" y="1656"/>
                  </a:lnTo>
                  <a:lnTo>
                    <a:pt x="2206" y="1656"/>
                  </a:lnTo>
                  <a:lnTo>
                    <a:pt x="2235" y="1656"/>
                  </a:lnTo>
                  <a:close/>
                  <a:moveTo>
                    <a:pt x="1281" y="322"/>
                  </a:moveTo>
                  <a:lnTo>
                    <a:pt x="1286" y="317"/>
                  </a:lnTo>
                  <a:lnTo>
                    <a:pt x="1291" y="312"/>
                  </a:lnTo>
                  <a:lnTo>
                    <a:pt x="1296" y="307"/>
                  </a:lnTo>
                  <a:lnTo>
                    <a:pt x="1306" y="307"/>
                  </a:lnTo>
                  <a:lnTo>
                    <a:pt x="1316" y="307"/>
                  </a:lnTo>
                  <a:lnTo>
                    <a:pt x="1326" y="307"/>
                  </a:lnTo>
                  <a:lnTo>
                    <a:pt x="1330" y="307"/>
                  </a:lnTo>
                  <a:lnTo>
                    <a:pt x="1335" y="302"/>
                  </a:lnTo>
                  <a:lnTo>
                    <a:pt x="1335" y="297"/>
                  </a:lnTo>
                  <a:lnTo>
                    <a:pt x="1340" y="287"/>
                  </a:lnTo>
                  <a:lnTo>
                    <a:pt x="1340" y="282"/>
                  </a:lnTo>
                  <a:lnTo>
                    <a:pt x="1345" y="277"/>
                  </a:lnTo>
                  <a:lnTo>
                    <a:pt x="1345" y="272"/>
                  </a:lnTo>
                  <a:lnTo>
                    <a:pt x="1350" y="267"/>
                  </a:lnTo>
                  <a:lnTo>
                    <a:pt x="1360" y="267"/>
                  </a:lnTo>
                  <a:lnTo>
                    <a:pt x="1365" y="267"/>
                  </a:lnTo>
                  <a:lnTo>
                    <a:pt x="1375" y="267"/>
                  </a:lnTo>
                  <a:lnTo>
                    <a:pt x="1385" y="272"/>
                  </a:lnTo>
                  <a:lnTo>
                    <a:pt x="1395" y="272"/>
                  </a:lnTo>
                  <a:lnTo>
                    <a:pt x="1400" y="272"/>
                  </a:lnTo>
                  <a:lnTo>
                    <a:pt x="1410" y="272"/>
                  </a:lnTo>
                  <a:lnTo>
                    <a:pt x="1415" y="267"/>
                  </a:lnTo>
                  <a:lnTo>
                    <a:pt x="1415" y="262"/>
                  </a:lnTo>
                  <a:lnTo>
                    <a:pt x="1415" y="257"/>
                  </a:lnTo>
                  <a:lnTo>
                    <a:pt x="1410" y="252"/>
                  </a:lnTo>
                  <a:lnTo>
                    <a:pt x="1410" y="243"/>
                  </a:lnTo>
                  <a:lnTo>
                    <a:pt x="1410" y="238"/>
                  </a:lnTo>
                  <a:lnTo>
                    <a:pt x="1400" y="238"/>
                  </a:lnTo>
                  <a:lnTo>
                    <a:pt x="1395" y="238"/>
                  </a:lnTo>
                  <a:lnTo>
                    <a:pt x="1385" y="233"/>
                  </a:lnTo>
                  <a:lnTo>
                    <a:pt x="1375" y="233"/>
                  </a:lnTo>
                  <a:lnTo>
                    <a:pt x="1365" y="238"/>
                  </a:lnTo>
                  <a:lnTo>
                    <a:pt x="1360" y="238"/>
                  </a:lnTo>
                  <a:lnTo>
                    <a:pt x="1355" y="243"/>
                  </a:lnTo>
                  <a:lnTo>
                    <a:pt x="1355" y="252"/>
                  </a:lnTo>
                  <a:lnTo>
                    <a:pt x="1355" y="257"/>
                  </a:lnTo>
                  <a:lnTo>
                    <a:pt x="1355" y="257"/>
                  </a:lnTo>
                  <a:lnTo>
                    <a:pt x="1350" y="252"/>
                  </a:lnTo>
                  <a:lnTo>
                    <a:pt x="1340" y="247"/>
                  </a:lnTo>
                  <a:lnTo>
                    <a:pt x="1330" y="243"/>
                  </a:lnTo>
                  <a:lnTo>
                    <a:pt x="1326" y="243"/>
                  </a:lnTo>
                  <a:lnTo>
                    <a:pt x="1316" y="247"/>
                  </a:lnTo>
                  <a:lnTo>
                    <a:pt x="1311" y="247"/>
                  </a:lnTo>
                  <a:lnTo>
                    <a:pt x="1301" y="252"/>
                  </a:lnTo>
                  <a:lnTo>
                    <a:pt x="1296" y="247"/>
                  </a:lnTo>
                  <a:lnTo>
                    <a:pt x="1291" y="243"/>
                  </a:lnTo>
                  <a:lnTo>
                    <a:pt x="1291" y="238"/>
                  </a:lnTo>
                  <a:lnTo>
                    <a:pt x="1291" y="233"/>
                  </a:lnTo>
                  <a:lnTo>
                    <a:pt x="1301" y="228"/>
                  </a:lnTo>
                  <a:lnTo>
                    <a:pt x="1306" y="228"/>
                  </a:lnTo>
                  <a:lnTo>
                    <a:pt x="1311" y="228"/>
                  </a:lnTo>
                  <a:lnTo>
                    <a:pt x="1321" y="233"/>
                  </a:lnTo>
                  <a:lnTo>
                    <a:pt x="1326" y="238"/>
                  </a:lnTo>
                  <a:lnTo>
                    <a:pt x="1330" y="238"/>
                  </a:lnTo>
                  <a:lnTo>
                    <a:pt x="1340" y="238"/>
                  </a:lnTo>
                  <a:lnTo>
                    <a:pt x="1345" y="233"/>
                  </a:lnTo>
                  <a:lnTo>
                    <a:pt x="1345" y="228"/>
                  </a:lnTo>
                  <a:lnTo>
                    <a:pt x="1350" y="223"/>
                  </a:lnTo>
                  <a:lnTo>
                    <a:pt x="1350" y="213"/>
                  </a:lnTo>
                  <a:lnTo>
                    <a:pt x="1350" y="203"/>
                  </a:lnTo>
                  <a:lnTo>
                    <a:pt x="1350" y="198"/>
                  </a:lnTo>
                  <a:lnTo>
                    <a:pt x="1345" y="193"/>
                  </a:lnTo>
                  <a:lnTo>
                    <a:pt x="1340" y="188"/>
                  </a:lnTo>
                  <a:lnTo>
                    <a:pt x="1335" y="188"/>
                  </a:lnTo>
                  <a:lnTo>
                    <a:pt x="1326" y="188"/>
                  </a:lnTo>
                  <a:lnTo>
                    <a:pt x="1321" y="193"/>
                  </a:lnTo>
                  <a:lnTo>
                    <a:pt x="1311" y="193"/>
                  </a:lnTo>
                  <a:lnTo>
                    <a:pt x="1306" y="193"/>
                  </a:lnTo>
                  <a:lnTo>
                    <a:pt x="1296" y="193"/>
                  </a:lnTo>
                  <a:lnTo>
                    <a:pt x="1291" y="188"/>
                  </a:lnTo>
                  <a:lnTo>
                    <a:pt x="1286" y="183"/>
                  </a:lnTo>
                  <a:lnTo>
                    <a:pt x="1281" y="178"/>
                  </a:lnTo>
                  <a:lnTo>
                    <a:pt x="1271" y="178"/>
                  </a:lnTo>
                  <a:lnTo>
                    <a:pt x="1271" y="168"/>
                  </a:lnTo>
                  <a:lnTo>
                    <a:pt x="1266" y="163"/>
                  </a:lnTo>
                  <a:lnTo>
                    <a:pt x="1266" y="159"/>
                  </a:lnTo>
                  <a:lnTo>
                    <a:pt x="1271" y="159"/>
                  </a:lnTo>
                  <a:lnTo>
                    <a:pt x="1281" y="154"/>
                  </a:lnTo>
                  <a:lnTo>
                    <a:pt x="1286" y="149"/>
                  </a:lnTo>
                  <a:lnTo>
                    <a:pt x="1291" y="144"/>
                  </a:lnTo>
                  <a:lnTo>
                    <a:pt x="1296" y="139"/>
                  </a:lnTo>
                  <a:lnTo>
                    <a:pt x="1301" y="139"/>
                  </a:lnTo>
                  <a:lnTo>
                    <a:pt x="1306" y="139"/>
                  </a:lnTo>
                  <a:lnTo>
                    <a:pt x="1316" y="139"/>
                  </a:lnTo>
                  <a:lnTo>
                    <a:pt x="1321" y="144"/>
                  </a:lnTo>
                  <a:lnTo>
                    <a:pt x="1326" y="149"/>
                  </a:lnTo>
                  <a:lnTo>
                    <a:pt x="1326" y="159"/>
                  </a:lnTo>
                  <a:lnTo>
                    <a:pt x="1330" y="163"/>
                  </a:lnTo>
                  <a:lnTo>
                    <a:pt x="1330" y="173"/>
                  </a:lnTo>
                  <a:lnTo>
                    <a:pt x="1330" y="178"/>
                  </a:lnTo>
                  <a:lnTo>
                    <a:pt x="1330" y="183"/>
                  </a:lnTo>
                  <a:lnTo>
                    <a:pt x="1330" y="183"/>
                  </a:lnTo>
                  <a:lnTo>
                    <a:pt x="1330" y="183"/>
                  </a:lnTo>
                  <a:lnTo>
                    <a:pt x="1335" y="178"/>
                  </a:lnTo>
                  <a:lnTo>
                    <a:pt x="1340" y="173"/>
                  </a:lnTo>
                  <a:lnTo>
                    <a:pt x="1345" y="168"/>
                  </a:lnTo>
                  <a:lnTo>
                    <a:pt x="1350" y="163"/>
                  </a:lnTo>
                  <a:lnTo>
                    <a:pt x="1350" y="154"/>
                  </a:lnTo>
                  <a:lnTo>
                    <a:pt x="1355" y="149"/>
                  </a:lnTo>
                  <a:lnTo>
                    <a:pt x="1355" y="144"/>
                  </a:lnTo>
                  <a:lnTo>
                    <a:pt x="1355" y="139"/>
                  </a:lnTo>
                  <a:lnTo>
                    <a:pt x="1355" y="134"/>
                  </a:lnTo>
                  <a:lnTo>
                    <a:pt x="1355" y="129"/>
                  </a:lnTo>
                  <a:lnTo>
                    <a:pt x="1360" y="124"/>
                  </a:lnTo>
                  <a:lnTo>
                    <a:pt x="1365" y="119"/>
                  </a:lnTo>
                  <a:lnTo>
                    <a:pt x="1370" y="114"/>
                  </a:lnTo>
                  <a:lnTo>
                    <a:pt x="1380" y="114"/>
                  </a:lnTo>
                  <a:lnTo>
                    <a:pt x="1385" y="109"/>
                  </a:lnTo>
                  <a:lnTo>
                    <a:pt x="1395" y="109"/>
                  </a:lnTo>
                  <a:lnTo>
                    <a:pt x="1400" y="109"/>
                  </a:lnTo>
                  <a:lnTo>
                    <a:pt x="1410" y="109"/>
                  </a:lnTo>
                  <a:lnTo>
                    <a:pt x="1419" y="109"/>
                  </a:lnTo>
                  <a:lnTo>
                    <a:pt x="1429" y="109"/>
                  </a:lnTo>
                  <a:lnTo>
                    <a:pt x="1434" y="109"/>
                  </a:lnTo>
                  <a:lnTo>
                    <a:pt x="1434" y="104"/>
                  </a:lnTo>
                  <a:lnTo>
                    <a:pt x="1439" y="99"/>
                  </a:lnTo>
                  <a:lnTo>
                    <a:pt x="1444" y="94"/>
                  </a:lnTo>
                  <a:lnTo>
                    <a:pt x="1449" y="89"/>
                  </a:lnTo>
                  <a:lnTo>
                    <a:pt x="1459" y="84"/>
                  </a:lnTo>
                  <a:lnTo>
                    <a:pt x="1464" y="84"/>
                  </a:lnTo>
                  <a:lnTo>
                    <a:pt x="1474" y="84"/>
                  </a:lnTo>
                  <a:lnTo>
                    <a:pt x="1479" y="79"/>
                  </a:lnTo>
                  <a:lnTo>
                    <a:pt x="1489" y="79"/>
                  </a:lnTo>
                  <a:lnTo>
                    <a:pt x="1499" y="79"/>
                  </a:lnTo>
                  <a:lnTo>
                    <a:pt x="1504" y="79"/>
                  </a:lnTo>
                  <a:lnTo>
                    <a:pt x="1513" y="74"/>
                  </a:lnTo>
                  <a:lnTo>
                    <a:pt x="1518" y="74"/>
                  </a:lnTo>
                  <a:lnTo>
                    <a:pt x="1523" y="70"/>
                  </a:lnTo>
                  <a:lnTo>
                    <a:pt x="1528" y="65"/>
                  </a:lnTo>
                  <a:lnTo>
                    <a:pt x="1538" y="60"/>
                  </a:lnTo>
                  <a:lnTo>
                    <a:pt x="1543" y="60"/>
                  </a:lnTo>
                  <a:lnTo>
                    <a:pt x="1548" y="55"/>
                  </a:lnTo>
                  <a:lnTo>
                    <a:pt x="1558" y="55"/>
                  </a:lnTo>
                  <a:lnTo>
                    <a:pt x="1568" y="55"/>
                  </a:lnTo>
                  <a:lnTo>
                    <a:pt x="1578" y="55"/>
                  </a:lnTo>
                  <a:lnTo>
                    <a:pt x="1583" y="50"/>
                  </a:lnTo>
                  <a:lnTo>
                    <a:pt x="1588" y="50"/>
                  </a:lnTo>
                  <a:lnTo>
                    <a:pt x="1598" y="45"/>
                  </a:lnTo>
                  <a:lnTo>
                    <a:pt x="1602" y="40"/>
                  </a:lnTo>
                  <a:lnTo>
                    <a:pt x="1607" y="35"/>
                  </a:lnTo>
                  <a:lnTo>
                    <a:pt x="1612" y="35"/>
                  </a:lnTo>
                  <a:lnTo>
                    <a:pt x="1622" y="30"/>
                  </a:lnTo>
                  <a:lnTo>
                    <a:pt x="1627" y="30"/>
                  </a:lnTo>
                  <a:lnTo>
                    <a:pt x="1637" y="30"/>
                  </a:lnTo>
                  <a:lnTo>
                    <a:pt x="1647" y="30"/>
                  </a:lnTo>
                  <a:lnTo>
                    <a:pt x="1657" y="30"/>
                  </a:lnTo>
                  <a:lnTo>
                    <a:pt x="1662" y="30"/>
                  </a:lnTo>
                  <a:lnTo>
                    <a:pt x="1672" y="30"/>
                  </a:lnTo>
                  <a:lnTo>
                    <a:pt x="1677" y="35"/>
                  </a:lnTo>
                  <a:lnTo>
                    <a:pt x="1687" y="35"/>
                  </a:lnTo>
                  <a:lnTo>
                    <a:pt x="1691" y="40"/>
                  </a:lnTo>
                  <a:lnTo>
                    <a:pt x="1696" y="45"/>
                  </a:lnTo>
                  <a:lnTo>
                    <a:pt x="1701" y="50"/>
                  </a:lnTo>
                  <a:lnTo>
                    <a:pt x="1706" y="55"/>
                  </a:lnTo>
                  <a:lnTo>
                    <a:pt x="1716" y="55"/>
                  </a:lnTo>
                  <a:lnTo>
                    <a:pt x="1726" y="55"/>
                  </a:lnTo>
                  <a:lnTo>
                    <a:pt x="1731" y="55"/>
                  </a:lnTo>
                  <a:lnTo>
                    <a:pt x="1741" y="55"/>
                  </a:lnTo>
                  <a:lnTo>
                    <a:pt x="1751" y="55"/>
                  </a:lnTo>
                  <a:lnTo>
                    <a:pt x="1756" y="55"/>
                  </a:lnTo>
                  <a:lnTo>
                    <a:pt x="1766" y="55"/>
                  </a:lnTo>
                  <a:lnTo>
                    <a:pt x="1776" y="60"/>
                  </a:lnTo>
                  <a:lnTo>
                    <a:pt x="1780" y="60"/>
                  </a:lnTo>
                  <a:lnTo>
                    <a:pt x="1790" y="65"/>
                  </a:lnTo>
                  <a:lnTo>
                    <a:pt x="1795" y="70"/>
                  </a:lnTo>
                  <a:lnTo>
                    <a:pt x="1800" y="74"/>
                  </a:lnTo>
                  <a:lnTo>
                    <a:pt x="1805" y="74"/>
                  </a:lnTo>
                  <a:lnTo>
                    <a:pt x="1810" y="79"/>
                  </a:lnTo>
                  <a:lnTo>
                    <a:pt x="1815" y="84"/>
                  </a:lnTo>
                  <a:lnTo>
                    <a:pt x="1825" y="84"/>
                  </a:lnTo>
                  <a:lnTo>
                    <a:pt x="1835" y="84"/>
                  </a:lnTo>
                  <a:lnTo>
                    <a:pt x="1845" y="84"/>
                  </a:lnTo>
                  <a:lnTo>
                    <a:pt x="1850" y="84"/>
                  </a:lnTo>
                  <a:lnTo>
                    <a:pt x="1860" y="84"/>
                  </a:lnTo>
                  <a:lnTo>
                    <a:pt x="1870" y="84"/>
                  </a:lnTo>
                  <a:lnTo>
                    <a:pt x="1874" y="84"/>
                  </a:lnTo>
                  <a:lnTo>
                    <a:pt x="1884" y="84"/>
                  </a:lnTo>
                  <a:lnTo>
                    <a:pt x="1889" y="89"/>
                  </a:lnTo>
                  <a:lnTo>
                    <a:pt x="1899" y="94"/>
                  </a:lnTo>
                  <a:lnTo>
                    <a:pt x="1904" y="94"/>
                  </a:lnTo>
                  <a:lnTo>
                    <a:pt x="1909" y="99"/>
                  </a:lnTo>
                  <a:lnTo>
                    <a:pt x="1909" y="104"/>
                  </a:lnTo>
                  <a:lnTo>
                    <a:pt x="1919" y="109"/>
                  </a:lnTo>
                  <a:lnTo>
                    <a:pt x="1924" y="114"/>
                  </a:lnTo>
                  <a:lnTo>
                    <a:pt x="1934" y="114"/>
                  </a:lnTo>
                  <a:lnTo>
                    <a:pt x="1944" y="114"/>
                  </a:lnTo>
                  <a:lnTo>
                    <a:pt x="1949" y="114"/>
                  </a:lnTo>
                  <a:lnTo>
                    <a:pt x="1959" y="114"/>
                  </a:lnTo>
                  <a:lnTo>
                    <a:pt x="1968" y="114"/>
                  </a:lnTo>
                  <a:lnTo>
                    <a:pt x="1973" y="114"/>
                  </a:lnTo>
                  <a:lnTo>
                    <a:pt x="1983" y="114"/>
                  </a:lnTo>
                  <a:lnTo>
                    <a:pt x="1993" y="114"/>
                  </a:lnTo>
                  <a:lnTo>
                    <a:pt x="1998" y="114"/>
                  </a:lnTo>
                  <a:lnTo>
                    <a:pt x="2003" y="119"/>
                  </a:lnTo>
                  <a:lnTo>
                    <a:pt x="2008" y="124"/>
                  </a:lnTo>
                  <a:lnTo>
                    <a:pt x="2013" y="129"/>
                  </a:lnTo>
                  <a:lnTo>
                    <a:pt x="2018" y="134"/>
                  </a:lnTo>
                  <a:lnTo>
                    <a:pt x="2023" y="139"/>
                  </a:lnTo>
                  <a:lnTo>
                    <a:pt x="2028" y="144"/>
                  </a:lnTo>
                  <a:lnTo>
                    <a:pt x="2033" y="144"/>
                  </a:lnTo>
                  <a:lnTo>
                    <a:pt x="2043" y="144"/>
                  </a:lnTo>
                  <a:lnTo>
                    <a:pt x="2052" y="144"/>
                  </a:lnTo>
                  <a:lnTo>
                    <a:pt x="2062" y="144"/>
                  </a:lnTo>
                  <a:lnTo>
                    <a:pt x="2067" y="149"/>
                  </a:lnTo>
                  <a:lnTo>
                    <a:pt x="2077" y="149"/>
                  </a:lnTo>
                  <a:lnTo>
                    <a:pt x="2087" y="149"/>
                  </a:lnTo>
                  <a:lnTo>
                    <a:pt x="2092" y="149"/>
                  </a:lnTo>
                  <a:lnTo>
                    <a:pt x="2102" y="154"/>
                  </a:lnTo>
                  <a:lnTo>
                    <a:pt x="2107" y="159"/>
                  </a:lnTo>
                  <a:lnTo>
                    <a:pt x="2112" y="163"/>
                  </a:lnTo>
                  <a:lnTo>
                    <a:pt x="2112" y="168"/>
                  </a:lnTo>
                  <a:lnTo>
                    <a:pt x="2112" y="173"/>
                  </a:lnTo>
                  <a:lnTo>
                    <a:pt x="2112" y="178"/>
                  </a:lnTo>
                  <a:lnTo>
                    <a:pt x="2112" y="183"/>
                  </a:lnTo>
                  <a:lnTo>
                    <a:pt x="2112" y="188"/>
                  </a:lnTo>
                  <a:lnTo>
                    <a:pt x="2107" y="193"/>
                  </a:lnTo>
                  <a:lnTo>
                    <a:pt x="2102" y="198"/>
                  </a:lnTo>
                  <a:lnTo>
                    <a:pt x="2102" y="203"/>
                  </a:lnTo>
                  <a:lnTo>
                    <a:pt x="2097" y="208"/>
                  </a:lnTo>
                  <a:lnTo>
                    <a:pt x="2092" y="213"/>
                  </a:lnTo>
                  <a:lnTo>
                    <a:pt x="2092" y="218"/>
                  </a:lnTo>
                  <a:lnTo>
                    <a:pt x="2087" y="223"/>
                  </a:lnTo>
                  <a:lnTo>
                    <a:pt x="2082" y="228"/>
                  </a:lnTo>
                  <a:lnTo>
                    <a:pt x="2082" y="233"/>
                  </a:lnTo>
                  <a:lnTo>
                    <a:pt x="2077" y="238"/>
                  </a:lnTo>
                  <a:lnTo>
                    <a:pt x="2072" y="243"/>
                  </a:lnTo>
                  <a:lnTo>
                    <a:pt x="2072" y="247"/>
                  </a:lnTo>
                  <a:lnTo>
                    <a:pt x="2067" y="252"/>
                  </a:lnTo>
                  <a:lnTo>
                    <a:pt x="2067" y="257"/>
                  </a:lnTo>
                  <a:lnTo>
                    <a:pt x="2062" y="262"/>
                  </a:lnTo>
                  <a:lnTo>
                    <a:pt x="2057" y="267"/>
                  </a:lnTo>
                  <a:lnTo>
                    <a:pt x="2052" y="272"/>
                  </a:lnTo>
                  <a:lnTo>
                    <a:pt x="2043" y="272"/>
                  </a:lnTo>
                  <a:lnTo>
                    <a:pt x="2033" y="277"/>
                  </a:lnTo>
                  <a:lnTo>
                    <a:pt x="2028" y="277"/>
                  </a:lnTo>
                  <a:lnTo>
                    <a:pt x="2018" y="277"/>
                  </a:lnTo>
                  <a:lnTo>
                    <a:pt x="2013" y="272"/>
                  </a:lnTo>
                  <a:lnTo>
                    <a:pt x="2008" y="267"/>
                  </a:lnTo>
                  <a:lnTo>
                    <a:pt x="2003" y="262"/>
                  </a:lnTo>
                  <a:lnTo>
                    <a:pt x="1998" y="262"/>
                  </a:lnTo>
                  <a:lnTo>
                    <a:pt x="1988" y="257"/>
                  </a:lnTo>
                  <a:lnTo>
                    <a:pt x="1983" y="257"/>
                  </a:lnTo>
                  <a:lnTo>
                    <a:pt x="1973" y="257"/>
                  </a:lnTo>
                  <a:lnTo>
                    <a:pt x="1963" y="257"/>
                  </a:lnTo>
                  <a:lnTo>
                    <a:pt x="1959" y="252"/>
                  </a:lnTo>
                  <a:lnTo>
                    <a:pt x="1959" y="247"/>
                  </a:lnTo>
                  <a:lnTo>
                    <a:pt x="1954" y="243"/>
                  </a:lnTo>
                  <a:lnTo>
                    <a:pt x="1949" y="238"/>
                  </a:lnTo>
                  <a:lnTo>
                    <a:pt x="1939" y="233"/>
                  </a:lnTo>
                  <a:lnTo>
                    <a:pt x="1934" y="238"/>
                  </a:lnTo>
                  <a:lnTo>
                    <a:pt x="1929" y="243"/>
                  </a:lnTo>
                  <a:lnTo>
                    <a:pt x="1924" y="247"/>
                  </a:lnTo>
                  <a:lnTo>
                    <a:pt x="1919" y="252"/>
                  </a:lnTo>
                  <a:lnTo>
                    <a:pt x="1914" y="252"/>
                  </a:lnTo>
                  <a:lnTo>
                    <a:pt x="1909" y="252"/>
                  </a:lnTo>
                  <a:lnTo>
                    <a:pt x="1904" y="247"/>
                  </a:lnTo>
                  <a:lnTo>
                    <a:pt x="1899" y="243"/>
                  </a:lnTo>
                  <a:lnTo>
                    <a:pt x="1899" y="233"/>
                  </a:lnTo>
                  <a:lnTo>
                    <a:pt x="1904" y="228"/>
                  </a:lnTo>
                  <a:lnTo>
                    <a:pt x="1904" y="223"/>
                  </a:lnTo>
                  <a:lnTo>
                    <a:pt x="1909" y="218"/>
                  </a:lnTo>
                  <a:lnTo>
                    <a:pt x="1904" y="213"/>
                  </a:lnTo>
                  <a:lnTo>
                    <a:pt x="1899" y="208"/>
                  </a:lnTo>
                  <a:lnTo>
                    <a:pt x="1894" y="208"/>
                  </a:lnTo>
                  <a:lnTo>
                    <a:pt x="1884" y="208"/>
                  </a:lnTo>
                  <a:lnTo>
                    <a:pt x="1879" y="213"/>
                  </a:lnTo>
                  <a:lnTo>
                    <a:pt x="1874" y="218"/>
                  </a:lnTo>
                  <a:lnTo>
                    <a:pt x="1870" y="228"/>
                  </a:lnTo>
                  <a:lnTo>
                    <a:pt x="1870" y="228"/>
                  </a:lnTo>
                  <a:lnTo>
                    <a:pt x="1865" y="233"/>
                  </a:lnTo>
                  <a:lnTo>
                    <a:pt x="1855" y="233"/>
                  </a:lnTo>
                  <a:lnTo>
                    <a:pt x="1850" y="228"/>
                  </a:lnTo>
                  <a:lnTo>
                    <a:pt x="1840" y="228"/>
                  </a:lnTo>
                  <a:lnTo>
                    <a:pt x="1835" y="223"/>
                  </a:lnTo>
                  <a:lnTo>
                    <a:pt x="1830" y="218"/>
                  </a:lnTo>
                  <a:lnTo>
                    <a:pt x="1825" y="213"/>
                  </a:lnTo>
                  <a:lnTo>
                    <a:pt x="1820" y="208"/>
                  </a:lnTo>
                  <a:lnTo>
                    <a:pt x="1815" y="203"/>
                  </a:lnTo>
                  <a:lnTo>
                    <a:pt x="1805" y="203"/>
                  </a:lnTo>
                  <a:lnTo>
                    <a:pt x="1795" y="203"/>
                  </a:lnTo>
                  <a:lnTo>
                    <a:pt x="1790" y="208"/>
                  </a:lnTo>
                  <a:lnTo>
                    <a:pt x="1780" y="208"/>
                  </a:lnTo>
                  <a:lnTo>
                    <a:pt x="1776" y="208"/>
                  </a:lnTo>
                  <a:lnTo>
                    <a:pt x="1766" y="203"/>
                  </a:lnTo>
                  <a:lnTo>
                    <a:pt x="1761" y="198"/>
                  </a:lnTo>
                  <a:lnTo>
                    <a:pt x="1756" y="193"/>
                  </a:lnTo>
                  <a:lnTo>
                    <a:pt x="1751" y="188"/>
                  </a:lnTo>
                  <a:lnTo>
                    <a:pt x="1746" y="188"/>
                  </a:lnTo>
                  <a:lnTo>
                    <a:pt x="1736" y="183"/>
                  </a:lnTo>
                  <a:lnTo>
                    <a:pt x="1731" y="183"/>
                  </a:lnTo>
                  <a:lnTo>
                    <a:pt x="1721" y="183"/>
                  </a:lnTo>
                  <a:lnTo>
                    <a:pt x="1711" y="183"/>
                  </a:lnTo>
                  <a:lnTo>
                    <a:pt x="1706" y="183"/>
                  </a:lnTo>
                  <a:lnTo>
                    <a:pt x="1696" y="178"/>
                  </a:lnTo>
                  <a:lnTo>
                    <a:pt x="1691" y="173"/>
                  </a:lnTo>
                  <a:lnTo>
                    <a:pt x="1682" y="173"/>
                  </a:lnTo>
                  <a:lnTo>
                    <a:pt x="1677" y="168"/>
                  </a:lnTo>
                  <a:lnTo>
                    <a:pt x="1667" y="168"/>
                  </a:lnTo>
                  <a:lnTo>
                    <a:pt x="1662" y="173"/>
                  </a:lnTo>
                  <a:lnTo>
                    <a:pt x="1657" y="178"/>
                  </a:lnTo>
                  <a:lnTo>
                    <a:pt x="1652" y="183"/>
                  </a:lnTo>
                  <a:lnTo>
                    <a:pt x="1647" y="188"/>
                  </a:lnTo>
                  <a:lnTo>
                    <a:pt x="1647" y="193"/>
                  </a:lnTo>
                  <a:lnTo>
                    <a:pt x="1647" y="198"/>
                  </a:lnTo>
                  <a:lnTo>
                    <a:pt x="1647" y="208"/>
                  </a:lnTo>
                  <a:lnTo>
                    <a:pt x="1647" y="213"/>
                  </a:lnTo>
                  <a:lnTo>
                    <a:pt x="1652" y="218"/>
                  </a:lnTo>
                  <a:lnTo>
                    <a:pt x="1657" y="218"/>
                  </a:lnTo>
                  <a:lnTo>
                    <a:pt x="1662" y="223"/>
                  </a:lnTo>
                  <a:lnTo>
                    <a:pt x="1667" y="228"/>
                  </a:lnTo>
                  <a:lnTo>
                    <a:pt x="1672" y="233"/>
                  </a:lnTo>
                  <a:lnTo>
                    <a:pt x="1677" y="238"/>
                  </a:lnTo>
                  <a:lnTo>
                    <a:pt x="1677" y="243"/>
                  </a:lnTo>
                  <a:lnTo>
                    <a:pt x="1682" y="247"/>
                  </a:lnTo>
                  <a:lnTo>
                    <a:pt x="1687" y="252"/>
                  </a:lnTo>
                  <a:lnTo>
                    <a:pt x="1691" y="257"/>
                  </a:lnTo>
                  <a:lnTo>
                    <a:pt x="1696" y="262"/>
                  </a:lnTo>
                  <a:lnTo>
                    <a:pt x="1701" y="262"/>
                  </a:lnTo>
                  <a:lnTo>
                    <a:pt x="1706" y="267"/>
                  </a:lnTo>
                  <a:lnTo>
                    <a:pt x="1711" y="272"/>
                  </a:lnTo>
                  <a:lnTo>
                    <a:pt x="1711" y="277"/>
                  </a:lnTo>
                  <a:lnTo>
                    <a:pt x="1711" y="287"/>
                  </a:lnTo>
                  <a:lnTo>
                    <a:pt x="1706" y="292"/>
                  </a:lnTo>
                  <a:lnTo>
                    <a:pt x="1701" y="297"/>
                  </a:lnTo>
                  <a:lnTo>
                    <a:pt x="1696" y="292"/>
                  </a:lnTo>
                  <a:lnTo>
                    <a:pt x="1691" y="287"/>
                  </a:lnTo>
                  <a:lnTo>
                    <a:pt x="1682" y="287"/>
                  </a:lnTo>
                  <a:lnTo>
                    <a:pt x="1677" y="282"/>
                  </a:lnTo>
                  <a:lnTo>
                    <a:pt x="1672" y="277"/>
                  </a:lnTo>
                  <a:lnTo>
                    <a:pt x="1667" y="272"/>
                  </a:lnTo>
                  <a:lnTo>
                    <a:pt x="1662" y="267"/>
                  </a:lnTo>
                  <a:lnTo>
                    <a:pt x="1657" y="267"/>
                  </a:lnTo>
                  <a:lnTo>
                    <a:pt x="1652" y="262"/>
                  </a:lnTo>
                  <a:lnTo>
                    <a:pt x="1647" y="257"/>
                  </a:lnTo>
                  <a:lnTo>
                    <a:pt x="1642" y="252"/>
                  </a:lnTo>
                  <a:lnTo>
                    <a:pt x="1637" y="247"/>
                  </a:lnTo>
                  <a:lnTo>
                    <a:pt x="1632" y="243"/>
                  </a:lnTo>
                  <a:lnTo>
                    <a:pt x="1627" y="238"/>
                  </a:lnTo>
                  <a:lnTo>
                    <a:pt x="1622" y="233"/>
                  </a:lnTo>
                  <a:lnTo>
                    <a:pt x="1617" y="233"/>
                  </a:lnTo>
                  <a:lnTo>
                    <a:pt x="1607" y="233"/>
                  </a:lnTo>
                  <a:lnTo>
                    <a:pt x="1598" y="233"/>
                  </a:lnTo>
                  <a:lnTo>
                    <a:pt x="1588" y="233"/>
                  </a:lnTo>
                  <a:lnTo>
                    <a:pt x="1583" y="238"/>
                  </a:lnTo>
                  <a:lnTo>
                    <a:pt x="1573" y="238"/>
                  </a:lnTo>
                  <a:lnTo>
                    <a:pt x="1568" y="243"/>
                  </a:lnTo>
                  <a:lnTo>
                    <a:pt x="1563" y="247"/>
                  </a:lnTo>
                  <a:lnTo>
                    <a:pt x="1558" y="252"/>
                  </a:lnTo>
                  <a:lnTo>
                    <a:pt x="1553" y="252"/>
                  </a:lnTo>
                  <a:lnTo>
                    <a:pt x="1543" y="257"/>
                  </a:lnTo>
                  <a:lnTo>
                    <a:pt x="1538" y="257"/>
                  </a:lnTo>
                  <a:lnTo>
                    <a:pt x="1528" y="262"/>
                  </a:lnTo>
                  <a:lnTo>
                    <a:pt x="1518" y="262"/>
                  </a:lnTo>
                  <a:lnTo>
                    <a:pt x="1513" y="262"/>
                  </a:lnTo>
                  <a:lnTo>
                    <a:pt x="1504" y="267"/>
                  </a:lnTo>
                  <a:lnTo>
                    <a:pt x="1499" y="267"/>
                  </a:lnTo>
                  <a:lnTo>
                    <a:pt x="1494" y="272"/>
                  </a:lnTo>
                  <a:lnTo>
                    <a:pt x="1484" y="277"/>
                  </a:lnTo>
                  <a:lnTo>
                    <a:pt x="1479" y="277"/>
                  </a:lnTo>
                  <a:lnTo>
                    <a:pt x="1474" y="282"/>
                  </a:lnTo>
                  <a:lnTo>
                    <a:pt x="1464" y="282"/>
                  </a:lnTo>
                  <a:lnTo>
                    <a:pt x="1454" y="287"/>
                  </a:lnTo>
                  <a:lnTo>
                    <a:pt x="1449" y="287"/>
                  </a:lnTo>
                  <a:lnTo>
                    <a:pt x="1439" y="292"/>
                  </a:lnTo>
                  <a:lnTo>
                    <a:pt x="1434" y="292"/>
                  </a:lnTo>
                  <a:lnTo>
                    <a:pt x="1429" y="297"/>
                  </a:lnTo>
                  <a:lnTo>
                    <a:pt x="1424" y="302"/>
                  </a:lnTo>
                  <a:lnTo>
                    <a:pt x="1419" y="307"/>
                  </a:lnTo>
                  <a:lnTo>
                    <a:pt x="1410" y="307"/>
                  </a:lnTo>
                  <a:lnTo>
                    <a:pt x="1405" y="312"/>
                  </a:lnTo>
                  <a:lnTo>
                    <a:pt x="1395" y="312"/>
                  </a:lnTo>
                  <a:lnTo>
                    <a:pt x="1385" y="312"/>
                  </a:lnTo>
                  <a:lnTo>
                    <a:pt x="1380" y="312"/>
                  </a:lnTo>
                  <a:lnTo>
                    <a:pt x="1370" y="317"/>
                  </a:lnTo>
                  <a:lnTo>
                    <a:pt x="1365" y="317"/>
                  </a:lnTo>
                  <a:lnTo>
                    <a:pt x="1355" y="322"/>
                  </a:lnTo>
                  <a:lnTo>
                    <a:pt x="1350" y="322"/>
                  </a:lnTo>
                  <a:lnTo>
                    <a:pt x="1340" y="327"/>
                  </a:lnTo>
                  <a:lnTo>
                    <a:pt x="1335" y="327"/>
                  </a:lnTo>
                  <a:lnTo>
                    <a:pt x="1326" y="331"/>
                  </a:lnTo>
                  <a:lnTo>
                    <a:pt x="1316" y="331"/>
                  </a:lnTo>
                  <a:lnTo>
                    <a:pt x="1311" y="331"/>
                  </a:lnTo>
                  <a:lnTo>
                    <a:pt x="1301" y="327"/>
                  </a:lnTo>
                  <a:lnTo>
                    <a:pt x="1291" y="327"/>
                  </a:lnTo>
                  <a:lnTo>
                    <a:pt x="1286" y="322"/>
                  </a:lnTo>
                  <a:lnTo>
                    <a:pt x="1281" y="322"/>
                  </a:lnTo>
                  <a:close/>
                  <a:moveTo>
                    <a:pt x="925" y="238"/>
                  </a:moveTo>
                  <a:lnTo>
                    <a:pt x="925" y="238"/>
                  </a:lnTo>
                  <a:lnTo>
                    <a:pt x="930" y="233"/>
                  </a:lnTo>
                  <a:lnTo>
                    <a:pt x="935" y="233"/>
                  </a:lnTo>
                  <a:lnTo>
                    <a:pt x="935" y="228"/>
                  </a:lnTo>
                  <a:lnTo>
                    <a:pt x="940" y="228"/>
                  </a:lnTo>
                  <a:lnTo>
                    <a:pt x="945" y="223"/>
                  </a:lnTo>
                  <a:lnTo>
                    <a:pt x="945" y="223"/>
                  </a:lnTo>
                  <a:lnTo>
                    <a:pt x="950" y="218"/>
                  </a:lnTo>
                  <a:lnTo>
                    <a:pt x="955" y="213"/>
                  </a:lnTo>
                  <a:lnTo>
                    <a:pt x="955" y="208"/>
                  </a:lnTo>
                  <a:lnTo>
                    <a:pt x="960" y="208"/>
                  </a:lnTo>
                  <a:lnTo>
                    <a:pt x="964" y="213"/>
                  </a:lnTo>
                  <a:lnTo>
                    <a:pt x="964" y="213"/>
                  </a:lnTo>
                  <a:lnTo>
                    <a:pt x="960" y="218"/>
                  </a:lnTo>
                  <a:lnTo>
                    <a:pt x="955" y="223"/>
                  </a:lnTo>
                  <a:lnTo>
                    <a:pt x="950" y="223"/>
                  </a:lnTo>
                  <a:lnTo>
                    <a:pt x="950" y="228"/>
                  </a:lnTo>
                  <a:lnTo>
                    <a:pt x="945" y="228"/>
                  </a:lnTo>
                  <a:lnTo>
                    <a:pt x="945" y="233"/>
                  </a:lnTo>
                  <a:lnTo>
                    <a:pt x="940" y="238"/>
                  </a:lnTo>
                  <a:lnTo>
                    <a:pt x="940" y="238"/>
                  </a:lnTo>
                  <a:lnTo>
                    <a:pt x="935" y="243"/>
                  </a:lnTo>
                  <a:lnTo>
                    <a:pt x="935" y="247"/>
                  </a:lnTo>
                  <a:lnTo>
                    <a:pt x="930" y="247"/>
                  </a:lnTo>
                  <a:lnTo>
                    <a:pt x="925" y="243"/>
                  </a:lnTo>
                  <a:lnTo>
                    <a:pt x="925" y="238"/>
                  </a:lnTo>
                  <a:close/>
                  <a:moveTo>
                    <a:pt x="1464" y="238"/>
                  </a:moveTo>
                  <a:lnTo>
                    <a:pt x="1469" y="233"/>
                  </a:lnTo>
                  <a:lnTo>
                    <a:pt x="1474" y="228"/>
                  </a:lnTo>
                  <a:lnTo>
                    <a:pt x="1474" y="223"/>
                  </a:lnTo>
                  <a:lnTo>
                    <a:pt x="1474" y="223"/>
                  </a:lnTo>
                  <a:lnTo>
                    <a:pt x="1474" y="218"/>
                  </a:lnTo>
                  <a:lnTo>
                    <a:pt x="1474" y="213"/>
                  </a:lnTo>
                  <a:lnTo>
                    <a:pt x="1469" y="213"/>
                  </a:lnTo>
                  <a:lnTo>
                    <a:pt x="1464" y="213"/>
                  </a:lnTo>
                  <a:lnTo>
                    <a:pt x="1459" y="213"/>
                  </a:lnTo>
                  <a:lnTo>
                    <a:pt x="1454" y="213"/>
                  </a:lnTo>
                  <a:lnTo>
                    <a:pt x="1449" y="213"/>
                  </a:lnTo>
                  <a:lnTo>
                    <a:pt x="1444" y="218"/>
                  </a:lnTo>
                  <a:lnTo>
                    <a:pt x="1444" y="223"/>
                  </a:lnTo>
                  <a:lnTo>
                    <a:pt x="1444" y="228"/>
                  </a:lnTo>
                  <a:lnTo>
                    <a:pt x="1444" y="233"/>
                  </a:lnTo>
                  <a:lnTo>
                    <a:pt x="1444" y="233"/>
                  </a:lnTo>
                  <a:lnTo>
                    <a:pt x="1449" y="238"/>
                  </a:lnTo>
                  <a:lnTo>
                    <a:pt x="1454" y="243"/>
                  </a:lnTo>
                  <a:lnTo>
                    <a:pt x="1459" y="243"/>
                  </a:lnTo>
                  <a:lnTo>
                    <a:pt x="1464" y="238"/>
                  </a:lnTo>
                  <a:close/>
                  <a:moveTo>
                    <a:pt x="1222" y="213"/>
                  </a:moveTo>
                  <a:lnTo>
                    <a:pt x="1212" y="213"/>
                  </a:lnTo>
                  <a:lnTo>
                    <a:pt x="1207" y="208"/>
                  </a:lnTo>
                  <a:lnTo>
                    <a:pt x="1202" y="208"/>
                  </a:lnTo>
                  <a:lnTo>
                    <a:pt x="1197" y="203"/>
                  </a:lnTo>
                  <a:lnTo>
                    <a:pt x="1192" y="198"/>
                  </a:lnTo>
                  <a:lnTo>
                    <a:pt x="1187" y="193"/>
                  </a:lnTo>
                  <a:lnTo>
                    <a:pt x="1187" y="188"/>
                  </a:lnTo>
                  <a:lnTo>
                    <a:pt x="1187" y="183"/>
                  </a:lnTo>
                  <a:lnTo>
                    <a:pt x="1192" y="183"/>
                  </a:lnTo>
                  <a:lnTo>
                    <a:pt x="1197" y="178"/>
                  </a:lnTo>
                  <a:lnTo>
                    <a:pt x="1202" y="173"/>
                  </a:lnTo>
                  <a:lnTo>
                    <a:pt x="1212" y="168"/>
                  </a:lnTo>
                  <a:lnTo>
                    <a:pt x="1217" y="168"/>
                  </a:lnTo>
                  <a:lnTo>
                    <a:pt x="1222" y="168"/>
                  </a:lnTo>
                  <a:lnTo>
                    <a:pt x="1227" y="168"/>
                  </a:lnTo>
                  <a:lnTo>
                    <a:pt x="1232" y="173"/>
                  </a:lnTo>
                  <a:lnTo>
                    <a:pt x="1236" y="178"/>
                  </a:lnTo>
                  <a:lnTo>
                    <a:pt x="1241" y="183"/>
                  </a:lnTo>
                  <a:lnTo>
                    <a:pt x="1241" y="188"/>
                  </a:lnTo>
                  <a:lnTo>
                    <a:pt x="1246" y="193"/>
                  </a:lnTo>
                  <a:lnTo>
                    <a:pt x="1241" y="198"/>
                  </a:lnTo>
                  <a:lnTo>
                    <a:pt x="1241" y="203"/>
                  </a:lnTo>
                  <a:lnTo>
                    <a:pt x="1236" y="208"/>
                  </a:lnTo>
                  <a:lnTo>
                    <a:pt x="1232" y="213"/>
                  </a:lnTo>
                  <a:lnTo>
                    <a:pt x="1227" y="213"/>
                  </a:lnTo>
                  <a:lnTo>
                    <a:pt x="1222" y="213"/>
                  </a:lnTo>
                  <a:close/>
                  <a:moveTo>
                    <a:pt x="2176" y="213"/>
                  </a:moveTo>
                  <a:lnTo>
                    <a:pt x="2176" y="208"/>
                  </a:lnTo>
                  <a:lnTo>
                    <a:pt x="2181" y="208"/>
                  </a:lnTo>
                  <a:lnTo>
                    <a:pt x="2181" y="208"/>
                  </a:lnTo>
                  <a:lnTo>
                    <a:pt x="2186" y="208"/>
                  </a:lnTo>
                  <a:lnTo>
                    <a:pt x="2186" y="213"/>
                  </a:lnTo>
                  <a:lnTo>
                    <a:pt x="2186" y="213"/>
                  </a:lnTo>
                  <a:lnTo>
                    <a:pt x="2186" y="218"/>
                  </a:lnTo>
                  <a:lnTo>
                    <a:pt x="2186" y="218"/>
                  </a:lnTo>
                  <a:lnTo>
                    <a:pt x="2181" y="223"/>
                  </a:lnTo>
                  <a:lnTo>
                    <a:pt x="2181" y="223"/>
                  </a:lnTo>
                  <a:lnTo>
                    <a:pt x="2181" y="223"/>
                  </a:lnTo>
                  <a:lnTo>
                    <a:pt x="2176" y="218"/>
                  </a:lnTo>
                  <a:lnTo>
                    <a:pt x="2176" y="218"/>
                  </a:lnTo>
                  <a:lnTo>
                    <a:pt x="2176" y="213"/>
                  </a:lnTo>
                  <a:close/>
                  <a:moveTo>
                    <a:pt x="994" y="188"/>
                  </a:moveTo>
                  <a:lnTo>
                    <a:pt x="999" y="178"/>
                  </a:lnTo>
                  <a:lnTo>
                    <a:pt x="1004" y="173"/>
                  </a:lnTo>
                  <a:lnTo>
                    <a:pt x="1009" y="173"/>
                  </a:lnTo>
                  <a:lnTo>
                    <a:pt x="1014" y="173"/>
                  </a:lnTo>
                  <a:lnTo>
                    <a:pt x="1019" y="178"/>
                  </a:lnTo>
                  <a:lnTo>
                    <a:pt x="1024" y="183"/>
                  </a:lnTo>
                  <a:lnTo>
                    <a:pt x="1024" y="188"/>
                  </a:lnTo>
                  <a:lnTo>
                    <a:pt x="1019" y="193"/>
                  </a:lnTo>
                  <a:lnTo>
                    <a:pt x="1014" y="198"/>
                  </a:lnTo>
                  <a:lnTo>
                    <a:pt x="1009" y="203"/>
                  </a:lnTo>
                  <a:lnTo>
                    <a:pt x="1004" y="203"/>
                  </a:lnTo>
                  <a:lnTo>
                    <a:pt x="1004" y="198"/>
                  </a:lnTo>
                  <a:lnTo>
                    <a:pt x="999" y="193"/>
                  </a:lnTo>
                  <a:lnTo>
                    <a:pt x="994" y="188"/>
                  </a:lnTo>
                  <a:close/>
                  <a:moveTo>
                    <a:pt x="1419" y="188"/>
                  </a:moveTo>
                  <a:lnTo>
                    <a:pt x="1419" y="178"/>
                  </a:lnTo>
                  <a:lnTo>
                    <a:pt x="1415" y="173"/>
                  </a:lnTo>
                  <a:lnTo>
                    <a:pt x="1415" y="168"/>
                  </a:lnTo>
                  <a:lnTo>
                    <a:pt x="1405" y="163"/>
                  </a:lnTo>
                  <a:lnTo>
                    <a:pt x="1400" y="168"/>
                  </a:lnTo>
                  <a:lnTo>
                    <a:pt x="1390" y="168"/>
                  </a:lnTo>
                  <a:lnTo>
                    <a:pt x="1380" y="168"/>
                  </a:lnTo>
                  <a:lnTo>
                    <a:pt x="1370" y="168"/>
                  </a:lnTo>
                  <a:lnTo>
                    <a:pt x="1360" y="168"/>
                  </a:lnTo>
                  <a:lnTo>
                    <a:pt x="1350" y="168"/>
                  </a:lnTo>
                  <a:lnTo>
                    <a:pt x="1340" y="173"/>
                  </a:lnTo>
                  <a:lnTo>
                    <a:pt x="1335" y="178"/>
                  </a:lnTo>
                  <a:lnTo>
                    <a:pt x="1330" y="183"/>
                  </a:lnTo>
                  <a:lnTo>
                    <a:pt x="1335" y="188"/>
                  </a:lnTo>
                  <a:lnTo>
                    <a:pt x="1340" y="193"/>
                  </a:lnTo>
                  <a:lnTo>
                    <a:pt x="1350" y="198"/>
                  </a:lnTo>
                  <a:lnTo>
                    <a:pt x="1355" y="198"/>
                  </a:lnTo>
                  <a:lnTo>
                    <a:pt x="1365" y="198"/>
                  </a:lnTo>
                  <a:lnTo>
                    <a:pt x="1375" y="193"/>
                  </a:lnTo>
                  <a:lnTo>
                    <a:pt x="1380" y="188"/>
                  </a:lnTo>
                  <a:lnTo>
                    <a:pt x="1390" y="193"/>
                  </a:lnTo>
                  <a:lnTo>
                    <a:pt x="1400" y="198"/>
                  </a:lnTo>
                  <a:lnTo>
                    <a:pt x="1405" y="198"/>
                  </a:lnTo>
                  <a:lnTo>
                    <a:pt x="1415" y="198"/>
                  </a:lnTo>
                  <a:lnTo>
                    <a:pt x="1415" y="193"/>
                  </a:lnTo>
                  <a:lnTo>
                    <a:pt x="1419" y="188"/>
                  </a:lnTo>
                  <a:close/>
                  <a:moveTo>
                    <a:pt x="1523" y="188"/>
                  </a:moveTo>
                  <a:lnTo>
                    <a:pt x="1518" y="183"/>
                  </a:lnTo>
                  <a:lnTo>
                    <a:pt x="1513" y="188"/>
                  </a:lnTo>
                  <a:lnTo>
                    <a:pt x="1513" y="188"/>
                  </a:lnTo>
                  <a:lnTo>
                    <a:pt x="1508" y="188"/>
                  </a:lnTo>
                  <a:lnTo>
                    <a:pt x="1508" y="193"/>
                  </a:lnTo>
                  <a:lnTo>
                    <a:pt x="1513" y="198"/>
                  </a:lnTo>
                  <a:lnTo>
                    <a:pt x="1513" y="198"/>
                  </a:lnTo>
                  <a:lnTo>
                    <a:pt x="1513" y="203"/>
                  </a:lnTo>
                  <a:lnTo>
                    <a:pt x="1518" y="203"/>
                  </a:lnTo>
                  <a:lnTo>
                    <a:pt x="1518" y="203"/>
                  </a:lnTo>
                  <a:lnTo>
                    <a:pt x="1518" y="198"/>
                  </a:lnTo>
                  <a:lnTo>
                    <a:pt x="1518" y="193"/>
                  </a:lnTo>
                  <a:lnTo>
                    <a:pt x="1523" y="193"/>
                  </a:lnTo>
                  <a:lnTo>
                    <a:pt x="1523" y="188"/>
                  </a:lnTo>
                  <a:close/>
                  <a:moveTo>
                    <a:pt x="1865" y="188"/>
                  </a:moveTo>
                  <a:lnTo>
                    <a:pt x="1860" y="183"/>
                  </a:lnTo>
                  <a:lnTo>
                    <a:pt x="1855" y="183"/>
                  </a:lnTo>
                  <a:lnTo>
                    <a:pt x="1845" y="183"/>
                  </a:lnTo>
                  <a:lnTo>
                    <a:pt x="1840" y="183"/>
                  </a:lnTo>
                  <a:lnTo>
                    <a:pt x="1835" y="183"/>
                  </a:lnTo>
                  <a:lnTo>
                    <a:pt x="1830" y="183"/>
                  </a:lnTo>
                  <a:lnTo>
                    <a:pt x="1825" y="188"/>
                  </a:lnTo>
                  <a:lnTo>
                    <a:pt x="1820" y="188"/>
                  </a:lnTo>
                  <a:lnTo>
                    <a:pt x="1820" y="193"/>
                  </a:lnTo>
                  <a:lnTo>
                    <a:pt x="1825" y="198"/>
                  </a:lnTo>
                  <a:lnTo>
                    <a:pt x="1825" y="203"/>
                  </a:lnTo>
                  <a:lnTo>
                    <a:pt x="1830" y="208"/>
                  </a:lnTo>
                  <a:lnTo>
                    <a:pt x="1835" y="208"/>
                  </a:lnTo>
                  <a:lnTo>
                    <a:pt x="1840" y="208"/>
                  </a:lnTo>
                  <a:lnTo>
                    <a:pt x="1845" y="203"/>
                  </a:lnTo>
                  <a:lnTo>
                    <a:pt x="1850" y="203"/>
                  </a:lnTo>
                  <a:lnTo>
                    <a:pt x="1855" y="198"/>
                  </a:lnTo>
                  <a:lnTo>
                    <a:pt x="1860" y="193"/>
                  </a:lnTo>
                  <a:lnTo>
                    <a:pt x="1860" y="188"/>
                  </a:lnTo>
                  <a:lnTo>
                    <a:pt x="1865" y="188"/>
                  </a:lnTo>
                  <a:close/>
                  <a:moveTo>
                    <a:pt x="1479" y="159"/>
                  </a:moveTo>
                  <a:lnTo>
                    <a:pt x="1474" y="154"/>
                  </a:lnTo>
                  <a:lnTo>
                    <a:pt x="1474" y="149"/>
                  </a:lnTo>
                  <a:lnTo>
                    <a:pt x="1469" y="144"/>
                  </a:lnTo>
                  <a:lnTo>
                    <a:pt x="1469" y="144"/>
                  </a:lnTo>
                  <a:lnTo>
                    <a:pt x="1464" y="144"/>
                  </a:lnTo>
                  <a:lnTo>
                    <a:pt x="1459" y="144"/>
                  </a:lnTo>
                  <a:lnTo>
                    <a:pt x="1459" y="144"/>
                  </a:lnTo>
                  <a:lnTo>
                    <a:pt x="1454" y="149"/>
                  </a:lnTo>
                  <a:lnTo>
                    <a:pt x="1449" y="149"/>
                  </a:lnTo>
                  <a:lnTo>
                    <a:pt x="1444" y="154"/>
                  </a:lnTo>
                  <a:lnTo>
                    <a:pt x="1439" y="159"/>
                  </a:lnTo>
                  <a:lnTo>
                    <a:pt x="1434" y="159"/>
                  </a:lnTo>
                  <a:lnTo>
                    <a:pt x="1439" y="159"/>
                  </a:lnTo>
                  <a:lnTo>
                    <a:pt x="1449" y="163"/>
                  </a:lnTo>
                  <a:lnTo>
                    <a:pt x="1454" y="163"/>
                  </a:lnTo>
                  <a:lnTo>
                    <a:pt x="1459" y="163"/>
                  </a:lnTo>
                  <a:lnTo>
                    <a:pt x="1464" y="163"/>
                  </a:lnTo>
                  <a:lnTo>
                    <a:pt x="1469" y="163"/>
                  </a:lnTo>
                  <a:lnTo>
                    <a:pt x="1474" y="163"/>
                  </a:lnTo>
                  <a:lnTo>
                    <a:pt x="1479" y="159"/>
                  </a:lnTo>
                  <a:close/>
                  <a:moveTo>
                    <a:pt x="1607" y="159"/>
                  </a:moveTo>
                  <a:lnTo>
                    <a:pt x="1598" y="159"/>
                  </a:lnTo>
                  <a:lnTo>
                    <a:pt x="1593" y="159"/>
                  </a:lnTo>
                  <a:lnTo>
                    <a:pt x="1588" y="159"/>
                  </a:lnTo>
                  <a:lnTo>
                    <a:pt x="1583" y="163"/>
                  </a:lnTo>
                  <a:lnTo>
                    <a:pt x="1583" y="168"/>
                  </a:lnTo>
                  <a:lnTo>
                    <a:pt x="1588" y="173"/>
                  </a:lnTo>
                  <a:lnTo>
                    <a:pt x="1593" y="178"/>
                  </a:lnTo>
                  <a:lnTo>
                    <a:pt x="1593" y="183"/>
                  </a:lnTo>
                  <a:lnTo>
                    <a:pt x="1598" y="183"/>
                  </a:lnTo>
                  <a:lnTo>
                    <a:pt x="1598" y="183"/>
                  </a:lnTo>
                  <a:lnTo>
                    <a:pt x="1602" y="178"/>
                  </a:lnTo>
                  <a:lnTo>
                    <a:pt x="1602" y="173"/>
                  </a:lnTo>
                  <a:lnTo>
                    <a:pt x="1602" y="168"/>
                  </a:lnTo>
                  <a:lnTo>
                    <a:pt x="1607" y="159"/>
                  </a:lnTo>
                  <a:close/>
                  <a:moveTo>
                    <a:pt x="1662" y="159"/>
                  </a:moveTo>
                  <a:lnTo>
                    <a:pt x="1657" y="159"/>
                  </a:lnTo>
                  <a:lnTo>
                    <a:pt x="1647" y="159"/>
                  </a:lnTo>
                  <a:lnTo>
                    <a:pt x="1642" y="159"/>
                  </a:lnTo>
                  <a:lnTo>
                    <a:pt x="1637" y="163"/>
                  </a:lnTo>
                  <a:lnTo>
                    <a:pt x="1637" y="168"/>
                  </a:lnTo>
                  <a:lnTo>
                    <a:pt x="1637" y="173"/>
                  </a:lnTo>
                  <a:lnTo>
                    <a:pt x="1642" y="178"/>
                  </a:lnTo>
                  <a:lnTo>
                    <a:pt x="1647" y="183"/>
                  </a:lnTo>
                  <a:lnTo>
                    <a:pt x="1652" y="188"/>
                  </a:lnTo>
                  <a:lnTo>
                    <a:pt x="1652" y="183"/>
                  </a:lnTo>
                  <a:lnTo>
                    <a:pt x="1657" y="183"/>
                  </a:lnTo>
                  <a:lnTo>
                    <a:pt x="1657" y="178"/>
                  </a:lnTo>
                  <a:lnTo>
                    <a:pt x="1662" y="168"/>
                  </a:lnTo>
                  <a:lnTo>
                    <a:pt x="1662" y="159"/>
                  </a:lnTo>
                  <a:close/>
                  <a:moveTo>
                    <a:pt x="1810" y="159"/>
                  </a:moveTo>
                  <a:lnTo>
                    <a:pt x="1805" y="159"/>
                  </a:lnTo>
                  <a:lnTo>
                    <a:pt x="1800" y="159"/>
                  </a:lnTo>
                  <a:lnTo>
                    <a:pt x="1795" y="154"/>
                  </a:lnTo>
                  <a:lnTo>
                    <a:pt x="1790" y="154"/>
                  </a:lnTo>
                  <a:lnTo>
                    <a:pt x="1785" y="154"/>
                  </a:lnTo>
                  <a:lnTo>
                    <a:pt x="1780" y="159"/>
                  </a:lnTo>
                  <a:lnTo>
                    <a:pt x="1776" y="159"/>
                  </a:lnTo>
                  <a:lnTo>
                    <a:pt x="1771" y="159"/>
                  </a:lnTo>
                  <a:lnTo>
                    <a:pt x="1766" y="159"/>
                  </a:lnTo>
                  <a:lnTo>
                    <a:pt x="1766" y="159"/>
                  </a:lnTo>
                  <a:lnTo>
                    <a:pt x="1766" y="163"/>
                  </a:lnTo>
                  <a:lnTo>
                    <a:pt x="1771" y="163"/>
                  </a:lnTo>
                  <a:lnTo>
                    <a:pt x="1776" y="163"/>
                  </a:lnTo>
                  <a:lnTo>
                    <a:pt x="1785" y="168"/>
                  </a:lnTo>
                  <a:lnTo>
                    <a:pt x="1790" y="168"/>
                  </a:lnTo>
                  <a:lnTo>
                    <a:pt x="1795" y="168"/>
                  </a:lnTo>
                  <a:lnTo>
                    <a:pt x="1800" y="168"/>
                  </a:lnTo>
                  <a:lnTo>
                    <a:pt x="1805" y="163"/>
                  </a:lnTo>
                  <a:lnTo>
                    <a:pt x="1810" y="163"/>
                  </a:lnTo>
                  <a:lnTo>
                    <a:pt x="1810" y="159"/>
                  </a:lnTo>
                  <a:close/>
                  <a:moveTo>
                    <a:pt x="1548" y="134"/>
                  </a:moveTo>
                  <a:lnTo>
                    <a:pt x="1548" y="129"/>
                  </a:lnTo>
                  <a:lnTo>
                    <a:pt x="1548" y="124"/>
                  </a:lnTo>
                  <a:lnTo>
                    <a:pt x="1543" y="119"/>
                  </a:lnTo>
                  <a:lnTo>
                    <a:pt x="1538" y="119"/>
                  </a:lnTo>
                  <a:lnTo>
                    <a:pt x="1533" y="114"/>
                  </a:lnTo>
                  <a:lnTo>
                    <a:pt x="1523" y="114"/>
                  </a:lnTo>
                  <a:lnTo>
                    <a:pt x="1518" y="114"/>
                  </a:lnTo>
                  <a:lnTo>
                    <a:pt x="1508" y="119"/>
                  </a:lnTo>
                  <a:lnTo>
                    <a:pt x="1504" y="124"/>
                  </a:lnTo>
                  <a:lnTo>
                    <a:pt x="1499" y="129"/>
                  </a:lnTo>
                  <a:lnTo>
                    <a:pt x="1499" y="129"/>
                  </a:lnTo>
                  <a:lnTo>
                    <a:pt x="1499" y="134"/>
                  </a:lnTo>
                  <a:lnTo>
                    <a:pt x="1504" y="134"/>
                  </a:lnTo>
                  <a:lnTo>
                    <a:pt x="1508" y="139"/>
                  </a:lnTo>
                  <a:lnTo>
                    <a:pt x="1518" y="139"/>
                  </a:lnTo>
                  <a:lnTo>
                    <a:pt x="1528" y="139"/>
                  </a:lnTo>
                  <a:lnTo>
                    <a:pt x="1533" y="139"/>
                  </a:lnTo>
                  <a:lnTo>
                    <a:pt x="1538" y="139"/>
                  </a:lnTo>
                  <a:lnTo>
                    <a:pt x="1543" y="134"/>
                  </a:lnTo>
                  <a:lnTo>
                    <a:pt x="1548" y="134"/>
                  </a:lnTo>
                  <a:close/>
                  <a:moveTo>
                    <a:pt x="1756" y="134"/>
                  </a:moveTo>
                  <a:lnTo>
                    <a:pt x="1751" y="129"/>
                  </a:lnTo>
                  <a:lnTo>
                    <a:pt x="1746" y="129"/>
                  </a:lnTo>
                  <a:lnTo>
                    <a:pt x="1741" y="129"/>
                  </a:lnTo>
                  <a:lnTo>
                    <a:pt x="1736" y="129"/>
                  </a:lnTo>
                  <a:lnTo>
                    <a:pt x="1731" y="129"/>
                  </a:lnTo>
                  <a:lnTo>
                    <a:pt x="1726" y="129"/>
                  </a:lnTo>
                  <a:lnTo>
                    <a:pt x="1716" y="129"/>
                  </a:lnTo>
                  <a:lnTo>
                    <a:pt x="1711" y="134"/>
                  </a:lnTo>
                  <a:lnTo>
                    <a:pt x="1706" y="134"/>
                  </a:lnTo>
                  <a:lnTo>
                    <a:pt x="1706" y="134"/>
                  </a:lnTo>
                  <a:lnTo>
                    <a:pt x="1711" y="134"/>
                  </a:lnTo>
                  <a:lnTo>
                    <a:pt x="1716" y="134"/>
                  </a:lnTo>
                  <a:lnTo>
                    <a:pt x="1721" y="134"/>
                  </a:lnTo>
                  <a:lnTo>
                    <a:pt x="1731" y="139"/>
                  </a:lnTo>
                  <a:lnTo>
                    <a:pt x="1736" y="139"/>
                  </a:lnTo>
                  <a:lnTo>
                    <a:pt x="1746" y="139"/>
                  </a:lnTo>
                  <a:lnTo>
                    <a:pt x="1751" y="139"/>
                  </a:lnTo>
                  <a:lnTo>
                    <a:pt x="1751" y="139"/>
                  </a:lnTo>
                  <a:lnTo>
                    <a:pt x="1756" y="134"/>
                  </a:lnTo>
                  <a:lnTo>
                    <a:pt x="1756" y="134"/>
                  </a:lnTo>
                  <a:close/>
                  <a:moveTo>
                    <a:pt x="1612" y="104"/>
                  </a:moveTo>
                  <a:lnTo>
                    <a:pt x="1607" y="99"/>
                  </a:lnTo>
                  <a:lnTo>
                    <a:pt x="1607" y="94"/>
                  </a:lnTo>
                  <a:lnTo>
                    <a:pt x="1602" y="94"/>
                  </a:lnTo>
                  <a:lnTo>
                    <a:pt x="1598" y="89"/>
                  </a:lnTo>
                  <a:lnTo>
                    <a:pt x="1593" y="94"/>
                  </a:lnTo>
                  <a:lnTo>
                    <a:pt x="1588" y="94"/>
                  </a:lnTo>
                  <a:lnTo>
                    <a:pt x="1583" y="99"/>
                  </a:lnTo>
                  <a:lnTo>
                    <a:pt x="1578" y="99"/>
                  </a:lnTo>
                  <a:lnTo>
                    <a:pt x="1573" y="104"/>
                  </a:lnTo>
                  <a:lnTo>
                    <a:pt x="1563" y="104"/>
                  </a:lnTo>
                  <a:lnTo>
                    <a:pt x="1558" y="104"/>
                  </a:lnTo>
                  <a:lnTo>
                    <a:pt x="1558" y="109"/>
                  </a:lnTo>
                  <a:lnTo>
                    <a:pt x="1568" y="114"/>
                  </a:lnTo>
                  <a:lnTo>
                    <a:pt x="1573" y="114"/>
                  </a:lnTo>
                  <a:lnTo>
                    <a:pt x="1583" y="114"/>
                  </a:lnTo>
                  <a:lnTo>
                    <a:pt x="1588" y="109"/>
                  </a:lnTo>
                  <a:lnTo>
                    <a:pt x="1593" y="109"/>
                  </a:lnTo>
                  <a:lnTo>
                    <a:pt x="1602" y="109"/>
                  </a:lnTo>
                  <a:lnTo>
                    <a:pt x="1607" y="109"/>
                  </a:lnTo>
                  <a:lnTo>
                    <a:pt x="1612" y="104"/>
                  </a:lnTo>
                  <a:close/>
                  <a:moveTo>
                    <a:pt x="1701" y="104"/>
                  </a:moveTo>
                  <a:lnTo>
                    <a:pt x="1696" y="104"/>
                  </a:lnTo>
                  <a:lnTo>
                    <a:pt x="1691" y="104"/>
                  </a:lnTo>
                  <a:lnTo>
                    <a:pt x="1687" y="104"/>
                  </a:lnTo>
                  <a:lnTo>
                    <a:pt x="1682" y="104"/>
                  </a:lnTo>
                  <a:lnTo>
                    <a:pt x="1677" y="104"/>
                  </a:lnTo>
                  <a:lnTo>
                    <a:pt x="1672" y="99"/>
                  </a:lnTo>
                  <a:lnTo>
                    <a:pt x="1667" y="94"/>
                  </a:lnTo>
                  <a:lnTo>
                    <a:pt x="1662" y="94"/>
                  </a:lnTo>
                  <a:lnTo>
                    <a:pt x="1657" y="89"/>
                  </a:lnTo>
                  <a:lnTo>
                    <a:pt x="1652" y="89"/>
                  </a:lnTo>
                  <a:lnTo>
                    <a:pt x="1647" y="89"/>
                  </a:lnTo>
                  <a:lnTo>
                    <a:pt x="1647" y="94"/>
                  </a:lnTo>
                  <a:lnTo>
                    <a:pt x="1642" y="99"/>
                  </a:lnTo>
                  <a:lnTo>
                    <a:pt x="1642" y="104"/>
                  </a:lnTo>
                  <a:lnTo>
                    <a:pt x="1647" y="104"/>
                  </a:lnTo>
                  <a:lnTo>
                    <a:pt x="1652" y="104"/>
                  </a:lnTo>
                  <a:lnTo>
                    <a:pt x="1657" y="109"/>
                  </a:lnTo>
                  <a:lnTo>
                    <a:pt x="1662" y="109"/>
                  </a:lnTo>
                  <a:lnTo>
                    <a:pt x="1667" y="109"/>
                  </a:lnTo>
                  <a:lnTo>
                    <a:pt x="1672" y="109"/>
                  </a:lnTo>
                  <a:lnTo>
                    <a:pt x="1677" y="109"/>
                  </a:lnTo>
                  <a:lnTo>
                    <a:pt x="1687" y="114"/>
                  </a:lnTo>
                  <a:lnTo>
                    <a:pt x="1691" y="114"/>
                  </a:lnTo>
                  <a:lnTo>
                    <a:pt x="1696" y="109"/>
                  </a:lnTo>
                  <a:lnTo>
                    <a:pt x="1701" y="109"/>
                  </a:lnTo>
                  <a:lnTo>
                    <a:pt x="1701" y="104"/>
                  </a:lnTo>
                  <a:close/>
                </a:path>
              </a:pathLst>
            </a:custGeom>
            <a:solidFill>
              <a:srgbClr val="ff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4" name=""/>
            <p:cNvSpPr/>
            <p:nvPr/>
          </p:nvSpPr>
          <p:spPr>
            <a:xfrm>
              <a:off x="2265120" y="2368440"/>
              <a:ext cx="4098960" cy="2628360"/>
            </a:xfrm>
            <a:custGeom>
              <a:avLst/>
              <a:gdLst/>
              <a:ahLst/>
              <a:rect l="l" t="t" r="r" b="b"/>
              <a:pathLst>
                <a:path w="2582" h="1656">
                  <a:moveTo>
                    <a:pt x="2235" y="1656"/>
                  </a:moveTo>
                  <a:lnTo>
                    <a:pt x="2260" y="1631"/>
                  </a:lnTo>
                  <a:lnTo>
                    <a:pt x="2285" y="1631"/>
                  </a:lnTo>
                  <a:lnTo>
                    <a:pt x="2315" y="1631"/>
                  </a:lnTo>
                  <a:lnTo>
                    <a:pt x="2339" y="1631"/>
                  </a:lnTo>
                  <a:lnTo>
                    <a:pt x="2369" y="1631"/>
                  </a:lnTo>
                  <a:lnTo>
                    <a:pt x="2394" y="1631"/>
                  </a:lnTo>
                  <a:lnTo>
                    <a:pt x="2418" y="1631"/>
                  </a:lnTo>
                  <a:lnTo>
                    <a:pt x="2448" y="1602"/>
                  </a:lnTo>
                  <a:lnTo>
                    <a:pt x="2448" y="1577"/>
                  </a:lnTo>
                  <a:lnTo>
                    <a:pt x="2448" y="1547"/>
                  </a:lnTo>
                  <a:lnTo>
                    <a:pt x="2448" y="1523"/>
                  </a:lnTo>
                  <a:lnTo>
                    <a:pt x="2473" y="1498"/>
                  </a:lnTo>
                  <a:lnTo>
                    <a:pt x="2473" y="1468"/>
                  </a:lnTo>
                  <a:lnTo>
                    <a:pt x="2473" y="1444"/>
                  </a:lnTo>
                  <a:lnTo>
                    <a:pt x="2473" y="1414"/>
                  </a:lnTo>
                  <a:lnTo>
                    <a:pt x="2503" y="1389"/>
                  </a:lnTo>
                  <a:lnTo>
                    <a:pt x="2503" y="1364"/>
                  </a:lnTo>
                  <a:lnTo>
                    <a:pt x="2503" y="1335"/>
                  </a:lnTo>
                  <a:lnTo>
                    <a:pt x="2503" y="1310"/>
                  </a:lnTo>
                  <a:lnTo>
                    <a:pt x="2527" y="1280"/>
                  </a:lnTo>
                  <a:lnTo>
                    <a:pt x="2527" y="1256"/>
                  </a:lnTo>
                  <a:lnTo>
                    <a:pt x="2527" y="1226"/>
                  </a:lnTo>
                  <a:lnTo>
                    <a:pt x="2527" y="1201"/>
                  </a:lnTo>
                  <a:lnTo>
                    <a:pt x="2552" y="1177"/>
                  </a:lnTo>
                  <a:lnTo>
                    <a:pt x="2552" y="1147"/>
                  </a:lnTo>
                  <a:lnTo>
                    <a:pt x="2552" y="1122"/>
                  </a:lnTo>
                  <a:lnTo>
                    <a:pt x="2552" y="1093"/>
                  </a:lnTo>
                  <a:lnTo>
                    <a:pt x="2582" y="1068"/>
                  </a:lnTo>
                  <a:lnTo>
                    <a:pt x="2582" y="1043"/>
                  </a:lnTo>
                  <a:lnTo>
                    <a:pt x="2582" y="1014"/>
                  </a:lnTo>
                  <a:lnTo>
                    <a:pt x="2582" y="989"/>
                  </a:lnTo>
                  <a:lnTo>
                    <a:pt x="2582" y="959"/>
                  </a:lnTo>
                  <a:lnTo>
                    <a:pt x="2582" y="934"/>
                  </a:lnTo>
                  <a:lnTo>
                    <a:pt x="2582" y="910"/>
                  </a:lnTo>
                  <a:lnTo>
                    <a:pt x="2582" y="880"/>
                  </a:lnTo>
                  <a:lnTo>
                    <a:pt x="2582" y="855"/>
                  </a:lnTo>
                  <a:lnTo>
                    <a:pt x="2582" y="826"/>
                  </a:lnTo>
                  <a:lnTo>
                    <a:pt x="2582" y="801"/>
                  </a:lnTo>
                  <a:lnTo>
                    <a:pt x="2582" y="776"/>
                  </a:lnTo>
                  <a:lnTo>
                    <a:pt x="2582" y="747"/>
                  </a:lnTo>
                  <a:lnTo>
                    <a:pt x="2582" y="722"/>
                  </a:lnTo>
                  <a:lnTo>
                    <a:pt x="2582" y="692"/>
                  </a:lnTo>
                  <a:lnTo>
                    <a:pt x="2582" y="668"/>
                  </a:lnTo>
                  <a:lnTo>
                    <a:pt x="2582" y="643"/>
                  </a:lnTo>
                  <a:lnTo>
                    <a:pt x="2582" y="613"/>
                  </a:lnTo>
                  <a:lnTo>
                    <a:pt x="2582" y="589"/>
                  </a:lnTo>
                  <a:lnTo>
                    <a:pt x="2582" y="559"/>
                  </a:lnTo>
                  <a:lnTo>
                    <a:pt x="2582" y="534"/>
                  </a:lnTo>
                  <a:lnTo>
                    <a:pt x="2582" y="504"/>
                  </a:lnTo>
                  <a:lnTo>
                    <a:pt x="2582" y="480"/>
                  </a:lnTo>
                  <a:lnTo>
                    <a:pt x="2582" y="455"/>
                  </a:lnTo>
                  <a:lnTo>
                    <a:pt x="2582" y="425"/>
                  </a:lnTo>
                  <a:lnTo>
                    <a:pt x="2582" y="401"/>
                  </a:lnTo>
                  <a:lnTo>
                    <a:pt x="2582" y="371"/>
                  </a:lnTo>
                  <a:lnTo>
                    <a:pt x="2582" y="346"/>
                  </a:lnTo>
                  <a:lnTo>
                    <a:pt x="2582" y="322"/>
                  </a:lnTo>
                  <a:lnTo>
                    <a:pt x="2582" y="292"/>
                  </a:lnTo>
                  <a:lnTo>
                    <a:pt x="2582" y="267"/>
                  </a:lnTo>
                  <a:lnTo>
                    <a:pt x="2582" y="238"/>
                  </a:lnTo>
                  <a:lnTo>
                    <a:pt x="2552" y="213"/>
                  </a:lnTo>
                  <a:lnTo>
                    <a:pt x="2552" y="188"/>
                  </a:lnTo>
                  <a:lnTo>
                    <a:pt x="2552" y="159"/>
                  </a:lnTo>
                  <a:lnTo>
                    <a:pt x="2552" y="134"/>
                  </a:lnTo>
                  <a:lnTo>
                    <a:pt x="2552" y="104"/>
                  </a:lnTo>
                  <a:lnTo>
                    <a:pt x="2527" y="79"/>
                  </a:lnTo>
                  <a:lnTo>
                    <a:pt x="2503" y="79"/>
                  </a:lnTo>
                  <a:lnTo>
                    <a:pt x="2473" y="79"/>
                  </a:lnTo>
                  <a:lnTo>
                    <a:pt x="2448" y="55"/>
                  </a:lnTo>
                  <a:lnTo>
                    <a:pt x="2418" y="55"/>
                  </a:lnTo>
                  <a:lnTo>
                    <a:pt x="2394" y="55"/>
                  </a:lnTo>
                  <a:lnTo>
                    <a:pt x="2369" y="25"/>
                  </a:lnTo>
                  <a:lnTo>
                    <a:pt x="2339" y="25"/>
                  </a:lnTo>
                  <a:lnTo>
                    <a:pt x="2315" y="25"/>
                  </a:lnTo>
                  <a:lnTo>
                    <a:pt x="2285" y="0"/>
                  </a:lnTo>
                  <a:lnTo>
                    <a:pt x="2260" y="0"/>
                  </a:lnTo>
                  <a:lnTo>
                    <a:pt x="2235" y="0"/>
                  </a:lnTo>
                  <a:lnTo>
                    <a:pt x="2206" y="0"/>
                  </a:lnTo>
                  <a:lnTo>
                    <a:pt x="2181" y="0"/>
                  </a:lnTo>
                  <a:lnTo>
                    <a:pt x="2156" y="0"/>
                  </a:lnTo>
                  <a:lnTo>
                    <a:pt x="2127" y="0"/>
                  </a:lnTo>
                  <a:lnTo>
                    <a:pt x="2102" y="0"/>
                  </a:lnTo>
                  <a:lnTo>
                    <a:pt x="2072" y="0"/>
                  </a:lnTo>
                  <a:lnTo>
                    <a:pt x="2048" y="0"/>
                  </a:lnTo>
                  <a:lnTo>
                    <a:pt x="2023" y="0"/>
                  </a:lnTo>
                  <a:lnTo>
                    <a:pt x="1993" y="0"/>
                  </a:lnTo>
                  <a:lnTo>
                    <a:pt x="1968" y="0"/>
                  </a:lnTo>
                  <a:lnTo>
                    <a:pt x="1944" y="0"/>
                  </a:lnTo>
                  <a:lnTo>
                    <a:pt x="1914" y="0"/>
                  </a:lnTo>
                  <a:lnTo>
                    <a:pt x="1889" y="0"/>
                  </a:lnTo>
                  <a:lnTo>
                    <a:pt x="1860" y="0"/>
                  </a:lnTo>
                  <a:lnTo>
                    <a:pt x="1835" y="0"/>
                  </a:lnTo>
                  <a:lnTo>
                    <a:pt x="1810" y="0"/>
                  </a:lnTo>
                  <a:lnTo>
                    <a:pt x="1780" y="0"/>
                  </a:lnTo>
                  <a:lnTo>
                    <a:pt x="1756" y="0"/>
                  </a:lnTo>
                  <a:lnTo>
                    <a:pt x="1726" y="0"/>
                  </a:lnTo>
                  <a:lnTo>
                    <a:pt x="1701" y="0"/>
                  </a:lnTo>
                  <a:lnTo>
                    <a:pt x="1677" y="0"/>
                  </a:lnTo>
                  <a:lnTo>
                    <a:pt x="1647" y="0"/>
                  </a:lnTo>
                  <a:lnTo>
                    <a:pt x="1622" y="0"/>
                  </a:lnTo>
                  <a:lnTo>
                    <a:pt x="1598" y="0"/>
                  </a:lnTo>
                  <a:lnTo>
                    <a:pt x="1568" y="0"/>
                  </a:lnTo>
                  <a:lnTo>
                    <a:pt x="1543" y="0"/>
                  </a:lnTo>
                  <a:lnTo>
                    <a:pt x="1513" y="0"/>
                  </a:lnTo>
                  <a:lnTo>
                    <a:pt x="1489" y="0"/>
                  </a:lnTo>
                  <a:lnTo>
                    <a:pt x="1464" y="0"/>
                  </a:lnTo>
                  <a:lnTo>
                    <a:pt x="1434" y="0"/>
                  </a:lnTo>
                  <a:lnTo>
                    <a:pt x="1410" y="0"/>
                  </a:lnTo>
                  <a:lnTo>
                    <a:pt x="1385" y="0"/>
                  </a:lnTo>
                  <a:lnTo>
                    <a:pt x="1355" y="0"/>
                  </a:lnTo>
                  <a:lnTo>
                    <a:pt x="1330" y="0"/>
                  </a:lnTo>
                  <a:lnTo>
                    <a:pt x="1301" y="0"/>
                  </a:lnTo>
                  <a:lnTo>
                    <a:pt x="1276" y="0"/>
                  </a:lnTo>
                  <a:lnTo>
                    <a:pt x="1251" y="0"/>
                  </a:lnTo>
                  <a:lnTo>
                    <a:pt x="1222" y="0"/>
                  </a:lnTo>
                  <a:lnTo>
                    <a:pt x="1197" y="0"/>
                  </a:lnTo>
                  <a:lnTo>
                    <a:pt x="1172" y="0"/>
                  </a:lnTo>
                  <a:lnTo>
                    <a:pt x="1143" y="0"/>
                  </a:lnTo>
                  <a:lnTo>
                    <a:pt x="1118" y="0"/>
                  </a:lnTo>
                  <a:lnTo>
                    <a:pt x="1088" y="0"/>
                  </a:lnTo>
                  <a:lnTo>
                    <a:pt x="1063" y="0"/>
                  </a:lnTo>
                  <a:lnTo>
                    <a:pt x="1039" y="0"/>
                  </a:lnTo>
                  <a:lnTo>
                    <a:pt x="1009" y="0"/>
                  </a:lnTo>
                  <a:lnTo>
                    <a:pt x="984" y="0"/>
                  </a:lnTo>
                  <a:lnTo>
                    <a:pt x="955" y="0"/>
                  </a:lnTo>
                  <a:lnTo>
                    <a:pt x="930" y="0"/>
                  </a:lnTo>
                  <a:lnTo>
                    <a:pt x="905" y="0"/>
                  </a:lnTo>
                  <a:lnTo>
                    <a:pt x="875" y="0"/>
                  </a:lnTo>
                  <a:lnTo>
                    <a:pt x="851" y="0"/>
                  </a:lnTo>
                  <a:lnTo>
                    <a:pt x="826" y="0"/>
                  </a:lnTo>
                  <a:lnTo>
                    <a:pt x="796" y="0"/>
                  </a:lnTo>
                  <a:lnTo>
                    <a:pt x="772" y="0"/>
                  </a:lnTo>
                  <a:lnTo>
                    <a:pt x="742" y="0"/>
                  </a:lnTo>
                  <a:lnTo>
                    <a:pt x="717" y="0"/>
                  </a:lnTo>
                  <a:lnTo>
                    <a:pt x="692" y="0"/>
                  </a:lnTo>
                  <a:lnTo>
                    <a:pt x="663" y="0"/>
                  </a:lnTo>
                  <a:lnTo>
                    <a:pt x="638" y="0"/>
                  </a:lnTo>
                  <a:lnTo>
                    <a:pt x="613" y="0"/>
                  </a:lnTo>
                  <a:lnTo>
                    <a:pt x="584" y="25"/>
                  </a:lnTo>
                  <a:lnTo>
                    <a:pt x="559" y="55"/>
                  </a:lnTo>
                  <a:lnTo>
                    <a:pt x="529" y="79"/>
                  </a:lnTo>
                  <a:lnTo>
                    <a:pt x="505" y="104"/>
                  </a:lnTo>
                  <a:lnTo>
                    <a:pt x="480" y="134"/>
                  </a:lnTo>
                  <a:lnTo>
                    <a:pt x="450" y="134"/>
                  </a:lnTo>
                  <a:lnTo>
                    <a:pt x="425" y="159"/>
                  </a:lnTo>
                  <a:lnTo>
                    <a:pt x="396" y="188"/>
                  </a:lnTo>
                  <a:lnTo>
                    <a:pt x="371" y="213"/>
                  </a:lnTo>
                  <a:lnTo>
                    <a:pt x="346" y="238"/>
                  </a:lnTo>
                  <a:lnTo>
                    <a:pt x="317" y="267"/>
                  </a:lnTo>
                  <a:lnTo>
                    <a:pt x="292" y="292"/>
                  </a:lnTo>
                  <a:lnTo>
                    <a:pt x="267" y="322"/>
                  </a:lnTo>
                  <a:lnTo>
                    <a:pt x="237" y="322"/>
                  </a:lnTo>
                  <a:lnTo>
                    <a:pt x="213" y="346"/>
                  </a:lnTo>
                  <a:lnTo>
                    <a:pt x="183" y="371"/>
                  </a:lnTo>
                  <a:lnTo>
                    <a:pt x="158" y="401"/>
                  </a:lnTo>
                  <a:lnTo>
                    <a:pt x="134" y="425"/>
                  </a:lnTo>
                  <a:lnTo>
                    <a:pt x="104" y="455"/>
                  </a:lnTo>
                  <a:lnTo>
                    <a:pt x="79" y="480"/>
                  </a:lnTo>
                  <a:lnTo>
                    <a:pt x="55" y="504"/>
                  </a:lnTo>
                  <a:lnTo>
                    <a:pt x="25" y="504"/>
                  </a:lnTo>
                  <a:lnTo>
                    <a:pt x="0" y="534"/>
                  </a:lnTo>
                  <a:lnTo>
                    <a:pt x="0" y="559"/>
                  </a:lnTo>
                  <a:lnTo>
                    <a:pt x="0" y="589"/>
                  </a:lnTo>
                  <a:lnTo>
                    <a:pt x="0" y="613"/>
                  </a:lnTo>
                  <a:lnTo>
                    <a:pt x="25" y="643"/>
                  </a:lnTo>
                  <a:lnTo>
                    <a:pt x="25" y="668"/>
                  </a:lnTo>
                  <a:lnTo>
                    <a:pt x="55" y="692"/>
                  </a:lnTo>
                  <a:lnTo>
                    <a:pt x="79" y="722"/>
                  </a:lnTo>
                  <a:lnTo>
                    <a:pt x="104" y="747"/>
                  </a:lnTo>
                  <a:lnTo>
                    <a:pt x="134" y="776"/>
                  </a:lnTo>
                  <a:lnTo>
                    <a:pt x="134" y="801"/>
                  </a:lnTo>
                  <a:lnTo>
                    <a:pt x="158" y="826"/>
                  </a:lnTo>
                  <a:lnTo>
                    <a:pt x="183" y="855"/>
                  </a:lnTo>
                  <a:lnTo>
                    <a:pt x="213" y="880"/>
                  </a:lnTo>
                  <a:lnTo>
                    <a:pt x="237" y="910"/>
                  </a:lnTo>
                  <a:lnTo>
                    <a:pt x="267" y="934"/>
                  </a:lnTo>
                  <a:lnTo>
                    <a:pt x="292" y="959"/>
                  </a:lnTo>
                  <a:lnTo>
                    <a:pt x="292" y="989"/>
                  </a:lnTo>
                  <a:lnTo>
                    <a:pt x="317" y="1014"/>
                  </a:lnTo>
                  <a:lnTo>
                    <a:pt x="346" y="1043"/>
                  </a:lnTo>
                  <a:lnTo>
                    <a:pt x="371" y="1068"/>
                  </a:lnTo>
                  <a:lnTo>
                    <a:pt x="396" y="1093"/>
                  </a:lnTo>
                  <a:lnTo>
                    <a:pt x="425" y="1122"/>
                  </a:lnTo>
                  <a:lnTo>
                    <a:pt x="450" y="1147"/>
                  </a:lnTo>
                  <a:lnTo>
                    <a:pt x="480" y="1177"/>
                  </a:lnTo>
                  <a:lnTo>
                    <a:pt x="505" y="1201"/>
                  </a:lnTo>
                  <a:lnTo>
                    <a:pt x="529" y="1226"/>
                  </a:lnTo>
                  <a:lnTo>
                    <a:pt x="559" y="1256"/>
                  </a:lnTo>
                  <a:lnTo>
                    <a:pt x="584" y="1280"/>
                  </a:lnTo>
                  <a:lnTo>
                    <a:pt x="613" y="1310"/>
                  </a:lnTo>
                  <a:lnTo>
                    <a:pt x="638" y="1335"/>
                  </a:lnTo>
                  <a:lnTo>
                    <a:pt x="663" y="1364"/>
                  </a:lnTo>
                  <a:lnTo>
                    <a:pt x="692" y="1389"/>
                  </a:lnTo>
                  <a:lnTo>
                    <a:pt x="717" y="1414"/>
                  </a:lnTo>
                  <a:lnTo>
                    <a:pt x="742" y="1444"/>
                  </a:lnTo>
                  <a:lnTo>
                    <a:pt x="772" y="1468"/>
                  </a:lnTo>
                  <a:lnTo>
                    <a:pt x="796" y="1468"/>
                  </a:lnTo>
                  <a:lnTo>
                    <a:pt x="826" y="1498"/>
                  </a:lnTo>
                  <a:lnTo>
                    <a:pt x="851" y="1523"/>
                  </a:lnTo>
                  <a:lnTo>
                    <a:pt x="875" y="1547"/>
                  </a:lnTo>
                  <a:lnTo>
                    <a:pt x="905" y="1577"/>
                  </a:lnTo>
                  <a:lnTo>
                    <a:pt x="930" y="1602"/>
                  </a:lnTo>
                  <a:lnTo>
                    <a:pt x="955" y="1631"/>
                  </a:lnTo>
                  <a:lnTo>
                    <a:pt x="984" y="1656"/>
                  </a:lnTo>
                  <a:lnTo>
                    <a:pt x="1009" y="1656"/>
                  </a:lnTo>
                  <a:lnTo>
                    <a:pt x="1039" y="1656"/>
                  </a:lnTo>
                  <a:lnTo>
                    <a:pt x="1063" y="1656"/>
                  </a:lnTo>
                  <a:lnTo>
                    <a:pt x="1088" y="1656"/>
                  </a:lnTo>
                  <a:lnTo>
                    <a:pt x="1118" y="1656"/>
                  </a:lnTo>
                  <a:lnTo>
                    <a:pt x="1143" y="1656"/>
                  </a:lnTo>
                  <a:lnTo>
                    <a:pt x="1172" y="1656"/>
                  </a:lnTo>
                  <a:lnTo>
                    <a:pt x="1197" y="1656"/>
                  </a:lnTo>
                  <a:lnTo>
                    <a:pt x="1222" y="1656"/>
                  </a:lnTo>
                  <a:lnTo>
                    <a:pt x="1251" y="1656"/>
                  </a:lnTo>
                  <a:lnTo>
                    <a:pt x="1276" y="1656"/>
                  </a:lnTo>
                  <a:lnTo>
                    <a:pt x="1301" y="1656"/>
                  </a:lnTo>
                  <a:lnTo>
                    <a:pt x="1330" y="1656"/>
                  </a:lnTo>
                  <a:lnTo>
                    <a:pt x="1355" y="1656"/>
                  </a:lnTo>
                  <a:lnTo>
                    <a:pt x="1385" y="1656"/>
                  </a:lnTo>
                  <a:lnTo>
                    <a:pt x="1410" y="1656"/>
                  </a:lnTo>
                  <a:lnTo>
                    <a:pt x="1434" y="1656"/>
                  </a:lnTo>
                  <a:lnTo>
                    <a:pt x="1464" y="1656"/>
                  </a:lnTo>
                  <a:lnTo>
                    <a:pt x="1489" y="1656"/>
                  </a:lnTo>
                  <a:lnTo>
                    <a:pt x="1513" y="1656"/>
                  </a:lnTo>
                  <a:lnTo>
                    <a:pt x="1543" y="1656"/>
                  </a:lnTo>
                  <a:lnTo>
                    <a:pt x="1568" y="1656"/>
                  </a:lnTo>
                  <a:lnTo>
                    <a:pt x="1598" y="1656"/>
                  </a:lnTo>
                  <a:lnTo>
                    <a:pt x="1622" y="1656"/>
                  </a:lnTo>
                  <a:lnTo>
                    <a:pt x="1647" y="1656"/>
                  </a:lnTo>
                  <a:lnTo>
                    <a:pt x="1677" y="1656"/>
                  </a:lnTo>
                  <a:lnTo>
                    <a:pt x="1701" y="1656"/>
                  </a:lnTo>
                  <a:lnTo>
                    <a:pt x="1726" y="1656"/>
                  </a:lnTo>
                  <a:lnTo>
                    <a:pt x="1756" y="1656"/>
                  </a:lnTo>
                  <a:lnTo>
                    <a:pt x="1780" y="1656"/>
                  </a:lnTo>
                  <a:lnTo>
                    <a:pt x="1810" y="1656"/>
                  </a:lnTo>
                  <a:lnTo>
                    <a:pt x="1835" y="1656"/>
                  </a:lnTo>
                  <a:lnTo>
                    <a:pt x="1860" y="1656"/>
                  </a:lnTo>
                  <a:lnTo>
                    <a:pt x="1889" y="1656"/>
                  </a:lnTo>
                  <a:lnTo>
                    <a:pt x="1914" y="1656"/>
                  </a:lnTo>
                  <a:lnTo>
                    <a:pt x="1944" y="1656"/>
                  </a:lnTo>
                  <a:lnTo>
                    <a:pt x="1968" y="1656"/>
                  </a:lnTo>
                  <a:lnTo>
                    <a:pt x="1993" y="1656"/>
                  </a:lnTo>
                  <a:lnTo>
                    <a:pt x="2023" y="1656"/>
                  </a:lnTo>
                  <a:lnTo>
                    <a:pt x="2048" y="1656"/>
                  </a:lnTo>
                  <a:lnTo>
                    <a:pt x="2072" y="1656"/>
                  </a:lnTo>
                  <a:lnTo>
                    <a:pt x="2102" y="1656"/>
                  </a:lnTo>
                  <a:lnTo>
                    <a:pt x="2127" y="1656"/>
                  </a:lnTo>
                  <a:lnTo>
                    <a:pt x="2156" y="1656"/>
                  </a:lnTo>
                  <a:lnTo>
                    <a:pt x="2181" y="1656"/>
                  </a:lnTo>
                  <a:lnTo>
                    <a:pt x="2206" y="1656"/>
                  </a:lnTo>
                  <a:lnTo>
                    <a:pt x="2235" y="1656"/>
                  </a:lnTo>
                  <a:close/>
                  <a:moveTo>
                    <a:pt x="1281" y="322"/>
                  </a:moveTo>
                  <a:lnTo>
                    <a:pt x="1286" y="317"/>
                  </a:lnTo>
                  <a:lnTo>
                    <a:pt x="1291" y="312"/>
                  </a:lnTo>
                  <a:lnTo>
                    <a:pt x="1296" y="307"/>
                  </a:lnTo>
                  <a:lnTo>
                    <a:pt x="1306" y="307"/>
                  </a:lnTo>
                  <a:lnTo>
                    <a:pt x="1316" y="307"/>
                  </a:lnTo>
                  <a:lnTo>
                    <a:pt x="1326" y="307"/>
                  </a:lnTo>
                  <a:lnTo>
                    <a:pt x="1330" y="307"/>
                  </a:lnTo>
                  <a:lnTo>
                    <a:pt x="1335" y="302"/>
                  </a:lnTo>
                  <a:lnTo>
                    <a:pt x="1335" y="297"/>
                  </a:lnTo>
                  <a:lnTo>
                    <a:pt x="1340" y="287"/>
                  </a:lnTo>
                  <a:lnTo>
                    <a:pt x="1340" y="282"/>
                  </a:lnTo>
                  <a:lnTo>
                    <a:pt x="1345" y="277"/>
                  </a:lnTo>
                  <a:lnTo>
                    <a:pt x="1345" y="272"/>
                  </a:lnTo>
                  <a:lnTo>
                    <a:pt x="1350" y="267"/>
                  </a:lnTo>
                  <a:lnTo>
                    <a:pt x="1360" y="267"/>
                  </a:lnTo>
                  <a:lnTo>
                    <a:pt x="1365" y="267"/>
                  </a:lnTo>
                  <a:lnTo>
                    <a:pt x="1375" y="267"/>
                  </a:lnTo>
                  <a:lnTo>
                    <a:pt x="1385" y="272"/>
                  </a:lnTo>
                  <a:lnTo>
                    <a:pt x="1395" y="272"/>
                  </a:lnTo>
                  <a:lnTo>
                    <a:pt x="1400" y="272"/>
                  </a:lnTo>
                  <a:lnTo>
                    <a:pt x="1410" y="272"/>
                  </a:lnTo>
                  <a:lnTo>
                    <a:pt x="1415" y="267"/>
                  </a:lnTo>
                  <a:lnTo>
                    <a:pt x="1415" y="262"/>
                  </a:lnTo>
                  <a:lnTo>
                    <a:pt x="1415" y="257"/>
                  </a:lnTo>
                  <a:lnTo>
                    <a:pt x="1410" y="252"/>
                  </a:lnTo>
                  <a:lnTo>
                    <a:pt x="1410" y="243"/>
                  </a:lnTo>
                  <a:lnTo>
                    <a:pt x="1410" y="238"/>
                  </a:lnTo>
                  <a:lnTo>
                    <a:pt x="1400" y="238"/>
                  </a:lnTo>
                  <a:lnTo>
                    <a:pt x="1395" y="238"/>
                  </a:lnTo>
                  <a:lnTo>
                    <a:pt x="1385" y="233"/>
                  </a:lnTo>
                  <a:lnTo>
                    <a:pt x="1375" y="233"/>
                  </a:lnTo>
                  <a:lnTo>
                    <a:pt x="1365" y="238"/>
                  </a:lnTo>
                  <a:lnTo>
                    <a:pt x="1360" y="238"/>
                  </a:lnTo>
                  <a:lnTo>
                    <a:pt x="1355" y="243"/>
                  </a:lnTo>
                  <a:lnTo>
                    <a:pt x="1355" y="252"/>
                  </a:lnTo>
                  <a:lnTo>
                    <a:pt x="1355" y="257"/>
                  </a:lnTo>
                  <a:lnTo>
                    <a:pt x="1355" y="257"/>
                  </a:lnTo>
                  <a:lnTo>
                    <a:pt x="1350" y="252"/>
                  </a:lnTo>
                  <a:lnTo>
                    <a:pt x="1340" y="247"/>
                  </a:lnTo>
                  <a:lnTo>
                    <a:pt x="1330" y="243"/>
                  </a:lnTo>
                  <a:lnTo>
                    <a:pt x="1326" y="243"/>
                  </a:lnTo>
                  <a:lnTo>
                    <a:pt x="1316" y="247"/>
                  </a:lnTo>
                  <a:lnTo>
                    <a:pt x="1311" y="247"/>
                  </a:lnTo>
                  <a:lnTo>
                    <a:pt x="1301" y="252"/>
                  </a:lnTo>
                  <a:lnTo>
                    <a:pt x="1296" y="247"/>
                  </a:lnTo>
                  <a:lnTo>
                    <a:pt x="1291" y="243"/>
                  </a:lnTo>
                  <a:lnTo>
                    <a:pt x="1291" y="238"/>
                  </a:lnTo>
                  <a:lnTo>
                    <a:pt x="1291" y="233"/>
                  </a:lnTo>
                  <a:lnTo>
                    <a:pt x="1301" y="228"/>
                  </a:lnTo>
                  <a:lnTo>
                    <a:pt x="1306" y="228"/>
                  </a:lnTo>
                  <a:lnTo>
                    <a:pt x="1311" y="228"/>
                  </a:lnTo>
                  <a:lnTo>
                    <a:pt x="1321" y="233"/>
                  </a:lnTo>
                  <a:lnTo>
                    <a:pt x="1326" y="238"/>
                  </a:lnTo>
                  <a:lnTo>
                    <a:pt x="1330" y="238"/>
                  </a:lnTo>
                  <a:lnTo>
                    <a:pt x="1340" y="238"/>
                  </a:lnTo>
                  <a:lnTo>
                    <a:pt x="1345" y="233"/>
                  </a:lnTo>
                  <a:lnTo>
                    <a:pt x="1345" y="228"/>
                  </a:lnTo>
                  <a:lnTo>
                    <a:pt x="1350" y="223"/>
                  </a:lnTo>
                  <a:lnTo>
                    <a:pt x="1350" y="213"/>
                  </a:lnTo>
                  <a:lnTo>
                    <a:pt x="1350" y="203"/>
                  </a:lnTo>
                  <a:lnTo>
                    <a:pt x="1350" y="198"/>
                  </a:lnTo>
                  <a:lnTo>
                    <a:pt x="1345" y="193"/>
                  </a:lnTo>
                  <a:lnTo>
                    <a:pt x="1340" y="188"/>
                  </a:lnTo>
                  <a:lnTo>
                    <a:pt x="1335" y="188"/>
                  </a:lnTo>
                  <a:lnTo>
                    <a:pt x="1326" y="188"/>
                  </a:lnTo>
                  <a:lnTo>
                    <a:pt x="1321" y="193"/>
                  </a:lnTo>
                  <a:lnTo>
                    <a:pt x="1311" y="193"/>
                  </a:lnTo>
                  <a:lnTo>
                    <a:pt x="1306" y="193"/>
                  </a:lnTo>
                  <a:lnTo>
                    <a:pt x="1296" y="193"/>
                  </a:lnTo>
                  <a:lnTo>
                    <a:pt x="1291" y="188"/>
                  </a:lnTo>
                  <a:lnTo>
                    <a:pt x="1286" y="183"/>
                  </a:lnTo>
                  <a:lnTo>
                    <a:pt x="1281" y="178"/>
                  </a:lnTo>
                  <a:lnTo>
                    <a:pt x="1271" y="178"/>
                  </a:lnTo>
                  <a:lnTo>
                    <a:pt x="1271" y="168"/>
                  </a:lnTo>
                  <a:lnTo>
                    <a:pt x="1266" y="163"/>
                  </a:lnTo>
                  <a:lnTo>
                    <a:pt x="1266" y="159"/>
                  </a:lnTo>
                  <a:lnTo>
                    <a:pt x="1271" y="159"/>
                  </a:lnTo>
                  <a:lnTo>
                    <a:pt x="1281" y="154"/>
                  </a:lnTo>
                  <a:lnTo>
                    <a:pt x="1286" y="149"/>
                  </a:lnTo>
                  <a:lnTo>
                    <a:pt x="1291" y="144"/>
                  </a:lnTo>
                  <a:lnTo>
                    <a:pt x="1296" y="139"/>
                  </a:lnTo>
                  <a:lnTo>
                    <a:pt x="1301" y="139"/>
                  </a:lnTo>
                  <a:lnTo>
                    <a:pt x="1306" y="139"/>
                  </a:lnTo>
                  <a:lnTo>
                    <a:pt x="1316" y="139"/>
                  </a:lnTo>
                  <a:lnTo>
                    <a:pt x="1321" y="144"/>
                  </a:lnTo>
                  <a:lnTo>
                    <a:pt x="1326" y="149"/>
                  </a:lnTo>
                  <a:lnTo>
                    <a:pt x="1326" y="159"/>
                  </a:lnTo>
                  <a:lnTo>
                    <a:pt x="1330" y="163"/>
                  </a:lnTo>
                  <a:lnTo>
                    <a:pt x="1330" y="173"/>
                  </a:lnTo>
                  <a:lnTo>
                    <a:pt x="1330" y="178"/>
                  </a:lnTo>
                  <a:lnTo>
                    <a:pt x="1330" y="183"/>
                  </a:lnTo>
                  <a:lnTo>
                    <a:pt x="1330" y="183"/>
                  </a:lnTo>
                  <a:lnTo>
                    <a:pt x="1330" y="183"/>
                  </a:lnTo>
                  <a:lnTo>
                    <a:pt x="1335" y="178"/>
                  </a:lnTo>
                  <a:lnTo>
                    <a:pt x="1340" y="173"/>
                  </a:lnTo>
                  <a:lnTo>
                    <a:pt x="1345" y="168"/>
                  </a:lnTo>
                  <a:lnTo>
                    <a:pt x="1350" y="163"/>
                  </a:lnTo>
                  <a:lnTo>
                    <a:pt x="1350" y="154"/>
                  </a:lnTo>
                  <a:lnTo>
                    <a:pt x="1355" y="149"/>
                  </a:lnTo>
                  <a:lnTo>
                    <a:pt x="1355" y="144"/>
                  </a:lnTo>
                  <a:lnTo>
                    <a:pt x="1355" y="139"/>
                  </a:lnTo>
                  <a:lnTo>
                    <a:pt x="1355" y="134"/>
                  </a:lnTo>
                  <a:lnTo>
                    <a:pt x="1355" y="129"/>
                  </a:lnTo>
                  <a:lnTo>
                    <a:pt x="1360" y="124"/>
                  </a:lnTo>
                  <a:lnTo>
                    <a:pt x="1365" y="119"/>
                  </a:lnTo>
                  <a:lnTo>
                    <a:pt x="1370" y="114"/>
                  </a:lnTo>
                  <a:lnTo>
                    <a:pt x="1380" y="114"/>
                  </a:lnTo>
                  <a:lnTo>
                    <a:pt x="1385" y="109"/>
                  </a:lnTo>
                  <a:lnTo>
                    <a:pt x="1395" y="109"/>
                  </a:lnTo>
                  <a:lnTo>
                    <a:pt x="1400" y="109"/>
                  </a:lnTo>
                  <a:lnTo>
                    <a:pt x="1410" y="109"/>
                  </a:lnTo>
                  <a:lnTo>
                    <a:pt x="1419" y="109"/>
                  </a:lnTo>
                  <a:lnTo>
                    <a:pt x="1429" y="109"/>
                  </a:lnTo>
                  <a:lnTo>
                    <a:pt x="1434" y="109"/>
                  </a:lnTo>
                  <a:lnTo>
                    <a:pt x="1434" y="104"/>
                  </a:lnTo>
                  <a:lnTo>
                    <a:pt x="1439" y="99"/>
                  </a:lnTo>
                  <a:lnTo>
                    <a:pt x="1444" y="94"/>
                  </a:lnTo>
                  <a:lnTo>
                    <a:pt x="1449" y="89"/>
                  </a:lnTo>
                  <a:lnTo>
                    <a:pt x="1459" y="84"/>
                  </a:lnTo>
                  <a:lnTo>
                    <a:pt x="1464" y="84"/>
                  </a:lnTo>
                  <a:lnTo>
                    <a:pt x="1474" y="84"/>
                  </a:lnTo>
                  <a:lnTo>
                    <a:pt x="1479" y="79"/>
                  </a:lnTo>
                  <a:lnTo>
                    <a:pt x="1489" y="79"/>
                  </a:lnTo>
                  <a:lnTo>
                    <a:pt x="1499" y="79"/>
                  </a:lnTo>
                  <a:lnTo>
                    <a:pt x="1504" y="79"/>
                  </a:lnTo>
                  <a:lnTo>
                    <a:pt x="1513" y="74"/>
                  </a:lnTo>
                  <a:lnTo>
                    <a:pt x="1518" y="74"/>
                  </a:lnTo>
                  <a:lnTo>
                    <a:pt x="1523" y="70"/>
                  </a:lnTo>
                  <a:lnTo>
                    <a:pt x="1528" y="65"/>
                  </a:lnTo>
                  <a:lnTo>
                    <a:pt x="1538" y="60"/>
                  </a:lnTo>
                  <a:lnTo>
                    <a:pt x="1543" y="60"/>
                  </a:lnTo>
                  <a:lnTo>
                    <a:pt x="1548" y="55"/>
                  </a:lnTo>
                  <a:lnTo>
                    <a:pt x="1558" y="55"/>
                  </a:lnTo>
                  <a:lnTo>
                    <a:pt x="1568" y="55"/>
                  </a:lnTo>
                  <a:lnTo>
                    <a:pt x="1578" y="55"/>
                  </a:lnTo>
                  <a:lnTo>
                    <a:pt x="1583" y="50"/>
                  </a:lnTo>
                  <a:lnTo>
                    <a:pt x="1588" y="50"/>
                  </a:lnTo>
                  <a:lnTo>
                    <a:pt x="1598" y="45"/>
                  </a:lnTo>
                  <a:lnTo>
                    <a:pt x="1602" y="40"/>
                  </a:lnTo>
                  <a:lnTo>
                    <a:pt x="1607" y="35"/>
                  </a:lnTo>
                  <a:lnTo>
                    <a:pt x="1612" y="35"/>
                  </a:lnTo>
                  <a:lnTo>
                    <a:pt x="1622" y="30"/>
                  </a:lnTo>
                  <a:lnTo>
                    <a:pt x="1627" y="30"/>
                  </a:lnTo>
                  <a:lnTo>
                    <a:pt x="1637" y="30"/>
                  </a:lnTo>
                  <a:lnTo>
                    <a:pt x="1647" y="30"/>
                  </a:lnTo>
                  <a:lnTo>
                    <a:pt x="1657" y="30"/>
                  </a:lnTo>
                  <a:lnTo>
                    <a:pt x="1662" y="30"/>
                  </a:lnTo>
                  <a:lnTo>
                    <a:pt x="1672" y="30"/>
                  </a:lnTo>
                  <a:lnTo>
                    <a:pt x="1677" y="35"/>
                  </a:lnTo>
                  <a:lnTo>
                    <a:pt x="1687" y="35"/>
                  </a:lnTo>
                  <a:lnTo>
                    <a:pt x="1691" y="40"/>
                  </a:lnTo>
                  <a:lnTo>
                    <a:pt x="1696" y="45"/>
                  </a:lnTo>
                  <a:lnTo>
                    <a:pt x="1701" y="50"/>
                  </a:lnTo>
                  <a:lnTo>
                    <a:pt x="1706" y="55"/>
                  </a:lnTo>
                  <a:lnTo>
                    <a:pt x="1716" y="55"/>
                  </a:lnTo>
                  <a:lnTo>
                    <a:pt x="1726" y="55"/>
                  </a:lnTo>
                  <a:lnTo>
                    <a:pt x="1731" y="55"/>
                  </a:lnTo>
                  <a:lnTo>
                    <a:pt x="1741" y="55"/>
                  </a:lnTo>
                  <a:lnTo>
                    <a:pt x="1751" y="55"/>
                  </a:lnTo>
                  <a:lnTo>
                    <a:pt x="1756" y="55"/>
                  </a:lnTo>
                  <a:lnTo>
                    <a:pt x="1766" y="55"/>
                  </a:lnTo>
                  <a:lnTo>
                    <a:pt x="1776" y="60"/>
                  </a:lnTo>
                  <a:lnTo>
                    <a:pt x="1780" y="60"/>
                  </a:lnTo>
                  <a:lnTo>
                    <a:pt x="1790" y="65"/>
                  </a:lnTo>
                  <a:lnTo>
                    <a:pt x="1795" y="70"/>
                  </a:lnTo>
                  <a:lnTo>
                    <a:pt x="1800" y="74"/>
                  </a:lnTo>
                  <a:lnTo>
                    <a:pt x="1805" y="74"/>
                  </a:lnTo>
                  <a:lnTo>
                    <a:pt x="1810" y="79"/>
                  </a:lnTo>
                  <a:lnTo>
                    <a:pt x="1815" y="84"/>
                  </a:lnTo>
                  <a:lnTo>
                    <a:pt x="1825" y="84"/>
                  </a:lnTo>
                  <a:lnTo>
                    <a:pt x="1835" y="84"/>
                  </a:lnTo>
                  <a:lnTo>
                    <a:pt x="1845" y="84"/>
                  </a:lnTo>
                  <a:lnTo>
                    <a:pt x="1850" y="84"/>
                  </a:lnTo>
                  <a:lnTo>
                    <a:pt x="1860" y="84"/>
                  </a:lnTo>
                  <a:lnTo>
                    <a:pt x="1870" y="84"/>
                  </a:lnTo>
                  <a:lnTo>
                    <a:pt x="1874" y="84"/>
                  </a:lnTo>
                  <a:lnTo>
                    <a:pt x="1884" y="84"/>
                  </a:lnTo>
                  <a:lnTo>
                    <a:pt x="1889" y="89"/>
                  </a:lnTo>
                  <a:lnTo>
                    <a:pt x="1899" y="94"/>
                  </a:lnTo>
                  <a:lnTo>
                    <a:pt x="1904" y="94"/>
                  </a:lnTo>
                  <a:lnTo>
                    <a:pt x="1909" y="99"/>
                  </a:lnTo>
                  <a:lnTo>
                    <a:pt x="1909" y="104"/>
                  </a:lnTo>
                  <a:lnTo>
                    <a:pt x="1919" y="109"/>
                  </a:lnTo>
                  <a:lnTo>
                    <a:pt x="1924" y="114"/>
                  </a:lnTo>
                  <a:lnTo>
                    <a:pt x="1934" y="114"/>
                  </a:lnTo>
                  <a:lnTo>
                    <a:pt x="1944" y="114"/>
                  </a:lnTo>
                  <a:lnTo>
                    <a:pt x="1949" y="114"/>
                  </a:lnTo>
                  <a:lnTo>
                    <a:pt x="1959" y="114"/>
                  </a:lnTo>
                  <a:lnTo>
                    <a:pt x="1968" y="114"/>
                  </a:lnTo>
                  <a:lnTo>
                    <a:pt x="1973" y="114"/>
                  </a:lnTo>
                  <a:lnTo>
                    <a:pt x="1983" y="114"/>
                  </a:lnTo>
                  <a:lnTo>
                    <a:pt x="1993" y="114"/>
                  </a:lnTo>
                  <a:lnTo>
                    <a:pt x="1998" y="114"/>
                  </a:lnTo>
                  <a:lnTo>
                    <a:pt x="2003" y="119"/>
                  </a:lnTo>
                  <a:lnTo>
                    <a:pt x="2008" y="124"/>
                  </a:lnTo>
                  <a:lnTo>
                    <a:pt x="2013" y="129"/>
                  </a:lnTo>
                  <a:lnTo>
                    <a:pt x="2018" y="134"/>
                  </a:lnTo>
                  <a:lnTo>
                    <a:pt x="2023" y="139"/>
                  </a:lnTo>
                  <a:lnTo>
                    <a:pt x="2028" y="144"/>
                  </a:lnTo>
                  <a:lnTo>
                    <a:pt x="2033" y="144"/>
                  </a:lnTo>
                  <a:lnTo>
                    <a:pt x="2043" y="144"/>
                  </a:lnTo>
                  <a:lnTo>
                    <a:pt x="2052" y="144"/>
                  </a:lnTo>
                  <a:lnTo>
                    <a:pt x="2062" y="144"/>
                  </a:lnTo>
                  <a:lnTo>
                    <a:pt x="2067" y="149"/>
                  </a:lnTo>
                  <a:lnTo>
                    <a:pt x="2077" y="149"/>
                  </a:lnTo>
                  <a:lnTo>
                    <a:pt x="2087" y="149"/>
                  </a:lnTo>
                  <a:lnTo>
                    <a:pt x="2092" y="149"/>
                  </a:lnTo>
                  <a:lnTo>
                    <a:pt x="2102" y="154"/>
                  </a:lnTo>
                  <a:lnTo>
                    <a:pt x="2107" y="159"/>
                  </a:lnTo>
                  <a:lnTo>
                    <a:pt x="2112" y="163"/>
                  </a:lnTo>
                  <a:lnTo>
                    <a:pt x="2112" y="168"/>
                  </a:lnTo>
                  <a:lnTo>
                    <a:pt x="2112" y="173"/>
                  </a:lnTo>
                  <a:lnTo>
                    <a:pt x="2112" y="178"/>
                  </a:lnTo>
                  <a:lnTo>
                    <a:pt x="2112" y="183"/>
                  </a:lnTo>
                  <a:lnTo>
                    <a:pt x="2112" y="188"/>
                  </a:lnTo>
                  <a:lnTo>
                    <a:pt x="2107" y="193"/>
                  </a:lnTo>
                  <a:lnTo>
                    <a:pt x="2102" y="198"/>
                  </a:lnTo>
                  <a:lnTo>
                    <a:pt x="2102" y="203"/>
                  </a:lnTo>
                  <a:lnTo>
                    <a:pt x="2097" y="208"/>
                  </a:lnTo>
                  <a:lnTo>
                    <a:pt x="2092" y="213"/>
                  </a:lnTo>
                  <a:lnTo>
                    <a:pt x="2092" y="218"/>
                  </a:lnTo>
                  <a:lnTo>
                    <a:pt x="2087" y="223"/>
                  </a:lnTo>
                  <a:lnTo>
                    <a:pt x="2082" y="228"/>
                  </a:lnTo>
                  <a:lnTo>
                    <a:pt x="2082" y="233"/>
                  </a:lnTo>
                  <a:lnTo>
                    <a:pt x="2077" y="238"/>
                  </a:lnTo>
                  <a:lnTo>
                    <a:pt x="2072" y="243"/>
                  </a:lnTo>
                  <a:lnTo>
                    <a:pt x="2072" y="247"/>
                  </a:lnTo>
                  <a:lnTo>
                    <a:pt x="2067" y="252"/>
                  </a:lnTo>
                  <a:lnTo>
                    <a:pt x="2067" y="257"/>
                  </a:lnTo>
                  <a:lnTo>
                    <a:pt x="2062" y="262"/>
                  </a:lnTo>
                  <a:lnTo>
                    <a:pt x="2057" y="267"/>
                  </a:lnTo>
                  <a:lnTo>
                    <a:pt x="2052" y="272"/>
                  </a:lnTo>
                  <a:lnTo>
                    <a:pt x="2043" y="272"/>
                  </a:lnTo>
                  <a:lnTo>
                    <a:pt x="2033" y="277"/>
                  </a:lnTo>
                  <a:lnTo>
                    <a:pt x="2028" y="277"/>
                  </a:lnTo>
                  <a:lnTo>
                    <a:pt x="2018" y="277"/>
                  </a:lnTo>
                  <a:lnTo>
                    <a:pt x="2013" y="272"/>
                  </a:lnTo>
                  <a:lnTo>
                    <a:pt x="2008" y="267"/>
                  </a:lnTo>
                  <a:lnTo>
                    <a:pt x="2003" y="262"/>
                  </a:lnTo>
                  <a:lnTo>
                    <a:pt x="1998" y="262"/>
                  </a:lnTo>
                  <a:lnTo>
                    <a:pt x="1988" y="257"/>
                  </a:lnTo>
                  <a:lnTo>
                    <a:pt x="1983" y="257"/>
                  </a:lnTo>
                  <a:lnTo>
                    <a:pt x="1973" y="257"/>
                  </a:lnTo>
                  <a:lnTo>
                    <a:pt x="1963" y="257"/>
                  </a:lnTo>
                  <a:lnTo>
                    <a:pt x="1959" y="252"/>
                  </a:lnTo>
                  <a:lnTo>
                    <a:pt x="1959" y="247"/>
                  </a:lnTo>
                  <a:lnTo>
                    <a:pt x="1954" y="243"/>
                  </a:lnTo>
                  <a:lnTo>
                    <a:pt x="1949" y="238"/>
                  </a:lnTo>
                  <a:lnTo>
                    <a:pt x="1939" y="233"/>
                  </a:lnTo>
                  <a:lnTo>
                    <a:pt x="1934" y="238"/>
                  </a:lnTo>
                  <a:lnTo>
                    <a:pt x="1929" y="243"/>
                  </a:lnTo>
                  <a:lnTo>
                    <a:pt x="1924" y="247"/>
                  </a:lnTo>
                  <a:lnTo>
                    <a:pt x="1919" y="252"/>
                  </a:lnTo>
                  <a:lnTo>
                    <a:pt x="1914" y="252"/>
                  </a:lnTo>
                  <a:lnTo>
                    <a:pt x="1909" y="252"/>
                  </a:lnTo>
                  <a:lnTo>
                    <a:pt x="1904" y="247"/>
                  </a:lnTo>
                  <a:lnTo>
                    <a:pt x="1899" y="243"/>
                  </a:lnTo>
                  <a:lnTo>
                    <a:pt x="1899" y="233"/>
                  </a:lnTo>
                  <a:lnTo>
                    <a:pt x="1904" y="228"/>
                  </a:lnTo>
                  <a:lnTo>
                    <a:pt x="1904" y="223"/>
                  </a:lnTo>
                  <a:lnTo>
                    <a:pt x="1909" y="218"/>
                  </a:lnTo>
                  <a:lnTo>
                    <a:pt x="1904" y="213"/>
                  </a:lnTo>
                  <a:lnTo>
                    <a:pt x="1899" y="208"/>
                  </a:lnTo>
                  <a:lnTo>
                    <a:pt x="1894" y="208"/>
                  </a:lnTo>
                  <a:lnTo>
                    <a:pt x="1884" y="208"/>
                  </a:lnTo>
                  <a:lnTo>
                    <a:pt x="1879" y="213"/>
                  </a:lnTo>
                  <a:lnTo>
                    <a:pt x="1874" y="218"/>
                  </a:lnTo>
                  <a:lnTo>
                    <a:pt x="1870" y="228"/>
                  </a:lnTo>
                  <a:lnTo>
                    <a:pt x="1870" y="228"/>
                  </a:lnTo>
                  <a:lnTo>
                    <a:pt x="1865" y="233"/>
                  </a:lnTo>
                  <a:lnTo>
                    <a:pt x="1855" y="233"/>
                  </a:lnTo>
                  <a:lnTo>
                    <a:pt x="1850" y="228"/>
                  </a:lnTo>
                  <a:lnTo>
                    <a:pt x="1840" y="228"/>
                  </a:lnTo>
                  <a:lnTo>
                    <a:pt x="1835" y="223"/>
                  </a:lnTo>
                  <a:lnTo>
                    <a:pt x="1830" y="218"/>
                  </a:lnTo>
                  <a:lnTo>
                    <a:pt x="1825" y="213"/>
                  </a:lnTo>
                  <a:lnTo>
                    <a:pt x="1820" y="208"/>
                  </a:lnTo>
                  <a:lnTo>
                    <a:pt x="1815" y="203"/>
                  </a:lnTo>
                  <a:lnTo>
                    <a:pt x="1805" y="203"/>
                  </a:lnTo>
                  <a:lnTo>
                    <a:pt x="1795" y="203"/>
                  </a:lnTo>
                  <a:lnTo>
                    <a:pt x="1790" y="208"/>
                  </a:lnTo>
                  <a:lnTo>
                    <a:pt x="1780" y="208"/>
                  </a:lnTo>
                  <a:lnTo>
                    <a:pt x="1776" y="208"/>
                  </a:lnTo>
                  <a:lnTo>
                    <a:pt x="1766" y="203"/>
                  </a:lnTo>
                  <a:lnTo>
                    <a:pt x="1761" y="198"/>
                  </a:lnTo>
                  <a:lnTo>
                    <a:pt x="1756" y="193"/>
                  </a:lnTo>
                  <a:lnTo>
                    <a:pt x="1751" y="188"/>
                  </a:lnTo>
                  <a:lnTo>
                    <a:pt x="1746" y="188"/>
                  </a:lnTo>
                  <a:lnTo>
                    <a:pt x="1736" y="183"/>
                  </a:lnTo>
                  <a:lnTo>
                    <a:pt x="1731" y="183"/>
                  </a:lnTo>
                  <a:lnTo>
                    <a:pt x="1721" y="183"/>
                  </a:lnTo>
                  <a:lnTo>
                    <a:pt x="1711" y="183"/>
                  </a:lnTo>
                  <a:lnTo>
                    <a:pt x="1706" y="183"/>
                  </a:lnTo>
                  <a:lnTo>
                    <a:pt x="1696" y="178"/>
                  </a:lnTo>
                  <a:lnTo>
                    <a:pt x="1691" y="173"/>
                  </a:lnTo>
                  <a:lnTo>
                    <a:pt x="1682" y="173"/>
                  </a:lnTo>
                  <a:lnTo>
                    <a:pt x="1677" y="168"/>
                  </a:lnTo>
                  <a:lnTo>
                    <a:pt x="1667" y="168"/>
                  </a:lnTo>
                  <a:lnTo>
                    <a:pt x="1662" y="173"/>
                  </a:lnTo>
                  <a:lnTo>
                    <a:pt x="1657" y="178"/>
                  </a:lnTo>
                  <a:lnTo>
                    <a:pt x="1652" y="183"/>
                  </a:lnTo>
                  <a:lnTo>
                    <a:pt x="1647" y="188"/>
                  </a:lnTo>
                  <a:lnTo>
                    <a:pt x="1647" y="193"/>
                  </a:lnTo>
                  <a:lnTo>
                    <a:pt x="1647" y="198"/>
                  </a:lnTo>
                  <a:lnTo>
                    <a:pt x="1647" y="208"/>
                  </a:lnTo>
                  <a:lnTo>
                    <a:pt x="1647" y="213"/>
                  </a:lnTo>
                  <a:lnTo>
                    <a:pt x="1652" y="218"/>
                  </a:lnTo>
                  <a:lnTo>
                    <a:pt x="1657" y="218"/>
                  </a:lnTo>
                  <a:lnTo>
                    <a:pt x="1662" y="223"/>
                  </a:lnTo>
                  <a:lnTo>
                    <a:pt x="1667" y="228"/>
                  </a:lnTo>
                  <a:lnTo>
                    <a:pt x="1672" y="233"/>
                  </a:lnTo>
                  <a:lnTo>
                    <a:pt x="1677" y="238"/>
                  </a:lnTo>
                  <a:lnTo>
                    <a:pt x="1677" y="243"/>
                  </a:lnTo>
                  <a:lnTo>
                    <a:pt x="1682" y="247"/>
                  </a:lnTo>
                  <a:lnTo>
                    <a:pt x="1687" y="252"/>
                  </a:lnTo>
                  <a:lnTo>
                    <a:pt x="1691" y="257"/>
                  </a:lnTo>
                  <a:lnTo>
                    <a:pt x="1696" y="262"/>
                  </a:lnTo>
                  <a:lnTo>
                    <a:pt x="1701" y="262"/>
                  </a:lnTo>
                  <a:lnTo>
                    <a:pt x="1706" y="267"/>
                  </a:lnTo>
                  <a:lnTo>
                    <a:pt x="1711" y="272"/>
                  </a:lnTo>
                  <a:lnTo>
                    <a:pt x="1711" y="277"/>
                  </a:lnTo>
                  <a:lnTo>
                    <a:pt x="1711" y="287"/>
                  </a:lnTo>
                  <a:lnTo>
                    <a:pt x="1706" y="292"/>
                  </a:lnTo>
                  <a:lnTo>
                    <a:pt x="1701" y="297"/>
                  </a:lnTo>
                  <a:lnTo>
                    <a:pt x="1696" y="292"/>
                  </a:lnTo>
                  <a:lnTo>
                    <a:pt x="1691" y="287"/>
                  </a:lnTo>
                  <a:lnTo>
                    <a:pt x="1682" y="287"/>
                  </a:lnTo>
                  <a:lnTo>
                    <a:pt x="1677" y="282"/>
                  </a:lnTo>
                  <a:lnTo>
                    <a:pt x="1672" y="277"/>
                  </a:lnTo>
                  <a:lnTo>
                    <a:pt x="1667" y="272"/>
                  </a:lnTo>
                  <a:lnTo>
                    <a:pt x="1662" y="267"/>
                  </a:lnTo>
                  <a:lnTo>
                    <a:pt x="1657" y="267"/>
                  </a:lnTo>
                  <a:lnTo>
                    <a:pt x="1652" y="262"/>
                  </a:lnTo>
                  <a:lnTo>
                    <a:pt x="1647" y="257"/>
                  </a:lnTo>
                  <a:lnTo>
                    <a:pt x="1642" y="252"/>
                  </a:lnTo>
                  <a:lnTo>
                    <a:pt x="1637" y="247"/>
                  </a:lnTo>
                  <a:lnTo>
                    <a:pt x="1632" y="243"/>
                  </a:lnTo>
                  <a:lnTo>
                    <a:pt x="1627" y="238"/>
                  </a:lnTo>
                  <a:lnTo>
                    <a:pt x="1622" y="233"/>
                  </a:lnTo>
                  <a:lnTo>
                    <a:pt x="1617" y="233"/>
                  </a:lnTo>
                  <a:lnTo>
                    <a:pt x="1607" y="233"/>
                  </a:lnTo>
                  <a:lnTo>
                    <a:pt x="1598" y="233"/>
                  </a:lnTo>
                  <a:lnTo>
                    <a:pt x="1588" y="233"/>
                  </a:lnTo>
                  <a:lnTo>
                    <a:pt x="1583" y="238"/>
                  </a:lnTo>
                  <a:lnTo>
                    <a:pt x="1573" y="238"/>
                  </a:lnTo>
                  <a:lnTo>
                    <a:pt x="1568" y="243"/>
                  </a:lnTo>
                  <a:lnTo>
                    <a:pt x="1563" y="247"/>
                  </a:lnTo>
                  <a:lnTo>
                    <a:pt x="1558" y="252"/>
                  </a:lnTo>
                  <a:lnTo>
                    <a:pt x="1553" y="252"/>
                  </a:lnTo>
                  <a:lnTo>
                    <a:pt x="1543" y="257"/>
                  </a:lnTo>
                  <a:lnTo>
                    <a:pt x="1538" y="257"/>
                  </a:lnTo>
                  <a:lnTo>
                    <a:pt x="1528" y="262"/>
                  </a:lnTo>
                  <a:lnTo>
                    <a:pt x="1518" y="262"/>
                  </a:lnTo>
                  <a:lnTo>
                    <a:pt x="1513" y="262"/>
                  </a:lnTo>
                  <a:lnTo>
                    <a:pt x="1504" y="267"/>
                  </a:lnTo>
                  <a:lnTo>
                    <a:pt x="1499" y="267"/>
                  </a:lnTo>
                  <a:lnTo>
                    <a:pt x="1494" y="272"/>
                  </a:lnTo>
                  <a:lnTo>
                    <a:pt x="1484" y="277"/>
                  </a:lnTo>
                  <a:lnTo>
                    <a:pt x="1479" y="277"/>
                  </a:lnTo>
                  <a:lnTo>
                    <a:pt x="1474" y="282"/>
                  </a:lnTo>
                  <a:lnTo>
                    <a:pt x="1464" y="282"/>
                  </a:lnTo>
                  <a:lnTo>
                    <a:pt x="1454" y="287"/>
                  </a:lnTo>
                  <a:lnTo>
                    <a:pt x="1449" y="287"/>
                  </a:lnTo>
                  <a:lnTo>
                    <a:pt x="1439" y="292"/>
                  </a:lnTo>
                  <a:lnTo>
                    <a:pt x="1434" y="292"/>
                  </a:lnTo>
                  <a:lnTo>
                    <a:pt x="1429" y="297"/>
                  </a:lnTo>
                  <a:lnTo>
                    <a:pt x="1424" y="302"/>
                  </a:lnTo>
                  <a:lnTo>
                    <a:pt x="1419" y="307"/>
                  </a:lnTo>
                  <a:lnTo>
                    <a:pt x="1410" y="307"/>
                  </a:lnTo>
                  <a:lnTo>
                    <a:pt x="1405" y="312"/>
                  </a:lnTo>
                  <a:lnTo>
                    <a:pt x="1395" y="312"/>
                  </a:lnTo>
                  <a:lnTo>
                    <a:pt x="1385" y="312"/>
                  </a:lnTo>
                  <a:lnTo>
                    <a:pt x="1380" y="312"/>
                  </a:lnTo>
                  <a:lnTo>
                    <a:pt x="1370" y="317"/>
                  </a:lnTo>
                  <a:lnTo>
                    <a:pt x="1365" y="317"/>
                  </a:lnTo>
                  <a:lnTo>
                    <a:pt x="1355" y="322"/>
                  </a:lnTo>
                  <a:lnTo>
                    <a:pt x="1350" y="322"/>
                  </a:lnTo>
                  <a:lnTo>
                    <a:pt x="1340" y="327"/>
                  </a:lnTo>
                  <a:lnTo>
                    <a:pt x="1335" y="327"/>
                  </a:lnTo>
                  <a:lnTo>
                    <a:pt x="1326" y="331"/>
                  </a:lnTo>
                  <a:lnTo>
                    <a:pt x="1316" y="331"/>
                  </a:lnTo>
                  <a:lnTo>
                    <a:pt x="1311" y="331"/>
                  </a:lnTo>
                  <a:lnTo>
                    <a:pt x="1301" y="327"/>
                  </a:lnTo>
                  <a:lnTo>
                    <a:pt x="1291" y="327"/>
                  </a:lnTo>
                  <a:lnTo>
                    <a:pt x="1286" y="322"/>
                  </a:lnTo>
                  <a:lnTo>
                    <a:pt x="1281" y="322"/>
                  </a:lnTo>
                  <a:close/>
                  <a:moveTo>
                    <a:pt x="925" y="238"/>
                  </a:moveTo>
                  <a:lnTo>
                    <a:pt x="925" y="238"/>
                  </a:lnTo>
                  <a:lnTo>
                    <a:pt x="930" y="233"/>
                  </a:lnTo>
                  <a:lnTo>
                    <a:pt x="935" y="233"/>
                  </a:lnTo>
                  <a:lnTo>
                    <a:pt x="935" y="228"/>
                  </a:lnTo>
                  <a:lnTo>
                    <a:pt x="940" y="228"/>
                  </a:lnTo>
                  <a:lnTo>
                    <a:pt x="945" y="223"/>
                  </a:lnTo>
                  <a:lnTo>
                    <a:pt x="945" y="223"/>
                  </a:lnTo>
                  <a:lnTo>
                    <a:pt x="950" y="218"/>
                  </a:lnTo>
                  <a:lnTo>
                    <a:pt x="955" y="213"/>
                  </a:lnTo>
                  <a:lnTo>
                    <a:pt x="955" y="208"/>
                  </a:lnTo>
                  <a:lnTo>
                    <a:pt x="960" y="208"/>
                  </a:lnTo>
                  <a:lnTo>
                    <a:pt x="964" y="213"/>
                  </a:lnTo>
                  <a:lnTo>
                    <a:pt x="964" y="213"/>
                  </a:lnTo>
                  <a:lnTo>
                    <a:pt x="960" y="218"/>
                  </a:lnTo>
                  <a:lnTo>
                    <a:pt x="955" y="223"/>
                  </a:lnTo>
                  <a:lnTo>
                    <a:pt x="950" y="223"/>
                  </a:lnTo>
                  <a:lnTo>
                    <a:pt x="950" y="228"/>
                  </a:lnTo>
                  <a:lnTo>
                    <a:pt x="945" y="228"/>
                  </a:lnTo>
                  <a:lnTo>
                    <a:pt x="945" y="233"/>
                  </a:lnTo>
                  <a:lnTo>
                    <a:pt x="940" y="238"/>
                  </a:lnTo>
                  <a:lnTo>
                    <a:pt x="940" y="238"/>
                  </a:lnTo>
                  <a:lnTo>
                    <a:pt x="935" y="243"/>
                  </a:lnTo>
                  <a:lnTo>
                    <a:pt x="935" y="247"/>
                  </a:lnTo>
                  <a:lnTo>
                    <a:pt x="930" y="247"/>
                  </a:lnTo>
                  <a:lnTo>
                    <a:pt x="925" y="243"/>
                  </a:lnTo>
                  <a:lnTo>
                    <a:pt x="925" y="238"/>
                  </a:lnTo>
                  <a:close/>
                  <a:moveTo>
                    <a:pt x="1464" y="238"/>
                  </a:moveTo>
                  <a:lnTo>
                    <a:pt x="1469" y="233"/>
                  </a:lnTo>
                  <a:lnTo>
                    <a:pt x="1474" y="228"/>
                  </a:lnTo>
                  <a:lnTo>
                    <a:pt x="1474" y="223"/>
                  </a:lnTo>
                  <a:lnTo>
                    <a:pt x="1474" y="223"/>
                  </a:lnTo>
                  <a:lnTo>
                    <a:pt x="1474" y="218"/>
                  </a:lnTo>
                  <a:lnTo>
                    <a:pt x="1474" y="213"/>
                  </a:lnTo>
                  <a:lnTo>
                    <a:pt x="1469" y="213"/>
                  </a:lnTo>
                  <a:lnTo>
                    <a:pt x="1464" y="213"/>
                  </a:lnTo>
                  <a:lnTo>
                    <a:pt x="1459" y="213"/>
                  </a:lnTo>
                  <a:lnTo>
                    <a:pt x="1454" y="213"/>
                  </a:lnTo>
                  <a:lnTo>
                    <a:pt x="1449" y="213"/>
                  </a:lnTo>
                  <a:lnTo>
                    <a:pt x="1444" y="218"/>
                  </a:lnTo>
                  <a:lnTo>
                    <a:pt x="1444" y="223"/>
                  </a:lnTo>
                  <a:lnTo>
                    <a:pt x="1444" y="228"/>
                  </a:lnTo>
                  <a:lnTo>
                    <a:pt x="1444" y="233"/>
                  </a:lnTo>
                  <a:lnTo>
                    <a:pt x="1444" y="233"/>
                  </a:lnTo>
                  <a:lnTo>
                    <a:pt x="1449" y="238"/>
                  </a:lnTo>
                  <a:lnTo>
                    <a:pt x="1454" y="243"/>
                  </a:lnTo>
                  <a:lnTo>
                    <a:pt x="1459" y="243"/>
                  </a:lnTo>
                  <a:lnTo>
                    <a:pt x="1464" y="238"/>
                  </a:lnTo>
                  <a:close/>
                  <a:moveTo>
                    <a:pt x="1222" y="213"/>
                  </a:moveTo>
                  <a:lnTo>
                    <a:pt x="1212" y="213"/>
                  </a:lnTo>
                  <a:lnTo>
                    <a:pt x="1207" y="208"/>
                  </a:lnTo>
                  <a:lnTo>
                    <a:pt x="1202" y="208"/>
                  </a:lnTo>
                  <a:lnTo>
                    <a:pt x="1197" y="203"/>
                  </a:lnTo>
                  <a:lnTo>
                    <a:pt x="1192" y="198"/>
                  </a:lnTo>
                  <a:lnTo>
                    <a:pt x="1187" y="193"/>
                  </a:lnTo>
                  <a:lnTo>
                    <a:pt x="1187" y="188"/>
                  </a:lnTo>
                  <a:lnTo>
                    <a:pt x="1187" y="183"/>
                  </a:lnTo>
                  <a:lnTo>
                    <a:pt x="1192" y="183"/>
                  </a:lnTo>
                  <a:lnTo>
                    <a:pt x="1197" y="178"/>
                  </a:lnTo>
                  <a:lnTo>
                    <a:pt x="1202" y="173"/>
                  </a:lnTo>
                  <a:lnTo>
                    <a:pt x="1212" y="168"/>
                  </a:lnTo>
                  <a:lnTo>
                    <a:pt x="1217" y="168"/>
                  </a:lnTo>
                  <a:lnTo>
                    <a:pt x="1222" y="168"/>
                  </a:lnTo>
                  <a:lnTo>
                    <a:pt x="1227" y="168"/>
                  </a:lnTo>
                  <a:lnTo>
                    <a:pt x="1232" y="173"/>
                  </a:lnTo>
                  <a:lnTo>
                    <a:pt x="1236" y="178"/>
                  </a:lnTo>
                  <a:lnTo>
                    <a:pt x="1241" y="183"/>
                  </a:lnTo>
                  <a:lnTo>
                    <a:pt x="1241" y="188"/>
                  </a:lnTo>
                  <a:lnTo>
                    <a:pt x="1246" y="193"/>
                  </a:lnTo>
                  <a:lnTo>
                    <a:pt x="1241" y="198"/>
                  </a:lnTo>
                  <a:lnTo>
                    <a:pt x="1241" y="203"/>
                  </a:lnTo>
                  <a:lnTo>
                    <a:pt x="1236" y="208"/>
                  </a:lnTo>
                  <a:lnTo>
                    <a:pt x="1232" y="213"/>
                  </a:lnTo>
                  <a:lnTo>
                    <a:pt x="1227" y="213"/>
                  </a:lnTo>
                  <a:lnTo>
                    <a:pt x="1222" y="213"/>
                  </a:lnTo>
                  <a:close/>
                  <a:moveTo>
                    <a:pt x="2176" y="213"/>
                  </a:moveTo>
                  <a:lnTo>
                    <a:pt x="2176" y="208"/>
                  </a:lnTo>
                  <a:lnTo>
                    <a:pt x="2181" y="208"/>
                  </a:lnTo>
                  <a:lnTo>
                    <a:pt x="2181" y="208"/>
                  </a:lnTo>
                  <a:lnTo>
                    <a:pt x="2186" y="208"/>
                  </a:lnTo>
                  <a:lnTo>
                    <a:pt x="2186" y="213"/>
                  </a:lnTo>
                  <a:lnTo>
                    <a:pt x="2186" y="213"/>
                  </a:lnTo>
                  <a:lnTo>
                    <a:pt x="2186" y="218"/>
                  </a:lnTo>
                  <a:lnTo>
                    <a:pt x="2186" y="218"/>
                  </a:lnTo>
                  <a:lnTo>
                    <a:pt x="2181" y="223"/>
                  </a:lnTo>
                  <a:lnTo>
                    <a:pt x="2181" y="223"/>
                  </a:lnTo>
                  <a:lnTo>
                    <a:pt x="2181" y="223"/>
                  </a:lnTo>
                  <a:lnTo>
                    <a:pt x="2176" y="218"/>
                  </a:lnTo>
                  <a:lnTo>
                    <a:pt x="2176" y="218"/>
                  </a:lnTo>
                  <a:lnTo>
                    <a:pt x="2176" y="213"/>
                  </a:lnTo>
                  <a:close/>
                  <a:moveTo>
                    <a:pt x="994" y="188"/>
                  </a:moveTo>
                  <a:lnTo>
                    <a:pt x="999" y="178"/>
                  </a:lnTo>
                  <a:lnTo>
                    <a:pt x="1004" y="173"/>
                  </a:lnTo>
                  <a:lnTo>
                    <a:pt x="1009" y="173"/>
                  </a:lnTo>
                  <a:lnTo>
                    <a:pt x="1014" y="173"/>
                  </a:lnTo>
                  <a:lnTo>
                    <a:pt x="1019" y="178"/>
                  </a:lnTo>
                  <a:lnTo>
                    <a:pt x="1024" y="183"/>
                  </a:lnTo>
                  <a:lnTo>
                    <a:pt x="1024" y="188"/>
                  </a:lnTo>
                  <a:lnTo>
                    <a:pt x="1019" y="193"/>
                  </a:lnTo>
                  <a:lnTo>
                    <a:pt x="1014" y="198"/>
                  </a:lnTo>
                  <a:lnTo>
                    <a:pt x="1009" y="203"/>
                  </a:lnTo>
                  <a:lnTo>
                    <a:pt x="1004" y="203"/>
                  </a:lnTo>
                  <a:lnTo>
                    <a:pt x="1004" y="198"/>
                  </a:lnTo>
                  <a:lnTo>
                    <a:pt x="999" y="193"/>
                  </a:lnTo>
                  <a:lnTo>
                    <a:pt x="994" y="188"/>
                  </a:lnTo>
                  <a:close/>
                  <a:moveTo>
                    <a:pt x="1419" y="188"/>
                  </a:moveTo>
                  <a:lnTo>
                    <a:pt x="1419" y="178"/>
                  </a:lnTo>
                  <a:lnTo>
                    <a:pt x="1415" y="173"/>
                  </a:lnTo>
                  <a:lnTo>
                    <a:pt x="1415" y="168"/>
                  </a:lnTo>
                  <a:lnTo>
                    <a:pt x="1405" y="163"/>
                  </a:lnTo>
                  <a:lnTo>
                    <a:pt x="1400" y="168"/>
                  </a:lnTo>
                  <a:lnTo>
                    <a:pt x="1390" y="168"/>
                  </a:lnTo>
                  <a:lnTo>
                    <a:pt x="1380" y="168"/>
                  </a:lnTo>
                  <a:lnTo>
                    <a:pt x="1370" y="168"/>
                  </a:lnTo>
                  <a:lnTo>
                    <a:pt x="1360" y="168"/>
                  </a:lnTo>
                  <a:lnTo>
                    <a:pt x="1350" y="168"/>
                  </a:lnTo>
                  <a:lnTo>
                    <a:pt x="1340" y="173"/>
                  </a:lnTo>
                  <a:lnTo>
                    <a:pt x="1335" y="178"/>
                  </a:lnTo>
                  <a:lnTo>
                    <a:pt x="1330" y="183"/>
                  </a:lnTo>
                  <a:lnTo>
                    <a:pt x="1335" y="188"/>
                  </a:lnTo>
                  <a:lnTo>
                    <a:pt x="1340" y="193"/>
                  </a:lnTo>
                  <a:lnTo>
                    <a:pt x="1350" y="198"/>
                  </a:lnTo>
                  <a:lnTo>
                    <a:pt x="1355" y="198"/>
                  </a:lnTo>
                  <a:lnTo>
                    <a:pt x="1365" y="198"/>
                  </a:lnTo>
                  <a:lnTo>
                    <a:pt x="1375" y="193"/>
                  </a:lnTo>
                  <a:lnTo>
                    <a:pt x="1380" y="188"/>
                  </a:lnTo>
                  <a:lnTo>
                    <a:pt x="1390" y="193"/>
                  </a:lnTo>
                  <a:lnTo>
                    <a:pt x="1400" y="198"/>
                  </a:lnTo>
                  <a:lnTo>
                    <a:pt x="1405" y="198"/>
                  </a:lnTo>
                  <a:lnTo>
                    <a:pt x="1415" y="198"/>
                  </a:lnTo>
                  <a:lnTo>
                    <a:pt x="1415" y="193"/>
                  </a:lnTo>
                  <a:lnTo>
                    <a:pt x="1419" y="188"/>
                  </a:lnTo>
                  <a:close/>
                  <a:moveTo>
                    <a:pt x="1523" y="188"/>
                  </a:moveTo>
                  <a:lnTo>
                    <a:pt x="1518" y="183"/>
                  </a:lnTo>
                  <a:lnTo>
                    <a:pt x="1513" y="188"/>
                  </a:lnTo>
                  <a:lnTo>
                    <a:pt x="1513" y="188"/>
                  </a:lnTo>
                  <a:lnTo>
                    <a:pt x="1508" y="188"/>
                  </a:lnTo>
                  <a:lnTo>
                    <a:pt x="1508" y="193"/>
                  </a:lnTo>
                  <a:lnTo>
                    <a:pt x="1513" y="198"/>
                  </a:lnTo>
                  <a:lnTo>
                    <a:pt x="1513" y="198"/>
                  </a:lnTo>
                  <a:lnTo>
                    <a:pt x="1513" y="203"/>
                  </a:lnTo>
                  <a:lnTo>
                    <a:pt x="1518" y="203"/>
                  </a:lnTo>
                  <a:lnTo>
                    <a:pt x="1518" y="203"/>
                  </a:lnTo>
                  <a:lnTo>
                    <a:pt x="1518" y="198"/>
                  </a:lnTo>
                  <a:lnTo>
                    <a:pt x="1518" y="193"/>
                  </a:lnTo>
                  <a:lnTo>
                    <a:pt x="1523" y="193"/>
                  </a:lnTo>
                  <a:lnTo>
                    <a:pt x="1523" y="188"/>
                  </a:lnTo>
                  <a:close/>
                  <a:moveTo>
                    <a:pt x="1865" y="188"/>
                  </a:moveTo>
                  <a:lnTo>
                    <a:pt x="1860" y="183"/>
                  </a:lnTo>
                  <a:lnTo>
                    <a:pt x="1855" y="183"/>
                  </a:lnTo>
                  <a:lnTo>
                    <a:pt x="1845" y="183"/>
                  </a:lnTo>
                  <a:lnTo>
                    <a:pt x="1840" y="183"/>
                  </a:lnTo>
                  <a:lnTo>
                    <a:pt x="1835" y="183"/>
                  </a:lnTo>
                  <a:lnTo>
                    <a:pt x="1830" y="183"/>
                  </a:lnTo>
                  <a:lnTo>
                    <a:pt x="1825" y="188"/>
                  </a:lnTo>
                  <a:lnTo>
                    <a:pt x="1820" y="188"/>
                  </a:lnTo>
                  <a:lnTo>
                    <a:pt x="1820" y="193"/>
                  </a:lnTo>
                  <a:lnTo>
                    <a:pt x="1825" y="198"/>
                  </a:lnTo>
                  <a:lnTo>
                    <a:pt x="1825" y="203"/>
                  </a:lnTo>
                  <a:lnTo>
                    <a:pt x="1830" y="208"/>
                  </a:lnTo>
                  <a:lnTo>
                    <a:pt x="1835" y="208"/>
                  </a:lnTo>
                  <a:lnTo>
                    <a:pt x="1840" y="208"/>
                  </a:lnTo>
                  <a:lnTo>
                    <a:pt x="1845" y="203"/>
                  </a:lnTo>
                  <a:lnTo>
                    <a:pt x="1850" y="203"/>
                  </a:lnTo>
                  <a:lnTo>
                    <a:pt x="1855" y="198"/>
                  </a:lnTo>
                  <a:lnTo>
                    <a:pt x="1860" y="193"/>
                  </a:lnTo>
                  <a:lnTo>
                    <a:pt x="1860" y="188"/>
                  </a:lnTo>
                  <a:lnTo>
                    <a:pt x="1865" y="188"/>
                  </a:lnTo>
                  <a:close/>
                  <a:moveTo>
                    <a:pt x="1479" y="159"/>
                  </a:moveTo>
                  <a:lnTo>
                    <a:pt x="1474" y="154"/>
                  </a:lnTo>
                  <a:lnTo>
                    <a:pt x="1474" y="149"/>
                  </a:lnTo>
                  <a:lnTo>
                    <a:pt x="1469" y="144"/>
                  </a:lnTo>
                  <a:lnTo>
                    <a:pt x="1469" y="144"/>
                  </a:lnTo>
                  <a:lnTo>
                    <a:pt x="1464" y="144"/>
                  </a:lnTo>
                  <a:lnTo>
                    <a:pt x="1459" y="144"/>
                  </a:lnTo>
                  <a:lnTo>
                    <a:pt x="1459" y="144"/>
                  </a:lnTo>
                  <a:lnTo>
                    <a:pt x="1454" y="149"/>
                  </a:lnTo>
                  <a:lnTo>
                    <a:pt x="1449" y="149"/>
                  </a:lnTo>
                  <a:lnTo>
                    <a:pt x="1444" y="154"/>
                  </a:lnTo>
                  <a:lnTo>
                    <a:pt x="1439" y="159"/>
                  </a:lnTo>
                  <a:lnTo>
                    <a:pt x="1434" y="159"/>
                  </a:lnTo>
                  <a:lnTo>
                    <a:pt x="1439" y="159"/>
                  </a:lnTo>
                  <a:lnTo>
                    <a:pt x="1449" y="163"/>
                  </a:lnTo>
                  <a:lnTo>
                    <a:pt x="1454" y="163"/>
                  </a:lnTo>
                  <a:lnTo>
                    <a:pt x="1459" y="163"/>
                  </a:lnTo>
                  <a:lnTo>
                    <a:pt x="1464" y="163"/>
                  </a:lnTo>
                  <a:lnTo>
                    <a:pt x="1469" y="163"/>
                  </a:lnTo>
                  <a:lnTo>
                    <a:pt x="1474" y="163"/>
                  </a:lnTo>
                  <a:lnTo>
                    <a:pt x="1479" y="159"/>
                  </a:lnTo>
                  <a:close/>
                  <a:moveTo>
                    <a:pt x="1607" y="159"/>
                  </a:moveTo>
                  <a:lnTo>
                    <a:pt x="1598" y="159"/>
                  </a:lnTo>
                  <a:lnTo>
                    <a:pt x="1593" y="159"/>
                  </a:lnTo>
                  <a:lnTo>
                    <a:pt x="1588" y="159"/>
                  </a:lnTo>
                  <a:lnTo>
                    <a:pt x="1583" y="163"/>
                  </a:lnTo>
                  <a:lnTo>
                    <a:pt x="1583" y="168"/>
                  </a:lnTo>
                  <a:lnTo>
                    <a:pt x="1588" y="173"/>
                  </a:lnTo>
                  <a:lnTo>
                    <a:pt x="1593" y="178"/>
                  </a:lnTo>
                  <a:lnTo>
                    <a:pt x="1593" y="183"/>
                  </a:lnTo>
                  <a:lnTo>
                    <a:pt x="1598" y="183"/>
                  </a:lnTo>
                  <a:lnTo>
                    <a:pt x="1598" y="183"/>
                  </a:lnTo>
                  <a:lnTo>
                    <a:pt x="1602" y="178"/>
                  </a:lnTo>
                  <a:lnTo>
                    <a:pt x="1602" y="173"/>
                  </a:lnTo>
                  <a:lnTo>
                    <a:pt x="1602" y="168"/>
                  </a:lnTo>
                  <a:lnTo>
                    <a:pt x="1607" y="159"/>
                  </a:lnTo>
                  <a:close/>
                  <a:moveTo>
                    <a:pt x="1662" y="159"/>
                  </a:moveTo>
                  <a:lnTo>
                    <a:pt x="1657" y="159"/>
                  </a:lnTo>
                  <a:lnTo>
                    <a:pt x="1647" y="159"/>
                  </a:lnTo>
                  <a:lnTo>
                    <a:pt x="1642" y="159"/>
                  </a:lnTo>
                  <a:lnTo>
                    <a:pt x="1637" y="163"/>
                  </a:lnTo>
                  <a:lnTo>
                    <a:pt x="1637" y="168"/>
                  </a:lnTo>
                  <a:lnTo>
                    <a:pt x="1637" y="173"/>
                  </a:lnTo>
                  <a:lnTo>
                    <a:pt x="1642" y="178"/>
                  </a:lnTo>
                  <a:lnTo>
                    <a:pt x="1647" y="183"/>
                  </a:lnTo>
                  <a:lnTo>
                    <a:pt x="1652" y="188"/>
                  </a:lnTo>
                  <a:lnTo>
                    <a:pt x="1652" y="183"/>
                  </a:lnTo>
                  <a:lnTo>
                    <a:pt x="1657" y="183"/>
                  </a:lnTo>
                  <a:lnTo>
                    <a:pt x="1657" y="178"/>
                  </a:lnTo>
                  <a:lnTo>
                    <a:pt x="1662" y="168"/>
                  </a:lnTo>
                  <a:lnTo>
                    <a:pt x="1662" y="159"/>
                  </a:lnTo>
                  <a:close/>
                  <a:moveTo>
                    <a:pt x="1810" y="159"/>
                  </a:moveTo>
                  <a:lnTo>
                    <a:pt x="1805" y="159"/>
                  </a:lnTo>
                  <a:lnTo>
                    <a:pt x="1800" y="159"/>
                  </a:lnTo>
                  <a:lnTo>
                    <a:pt x="1795" y="154"/>
                  </a:lnTo>
                  <a:lnTo>
                    <a:pt x="1790" y="154"/>
                  </a:lnTo>
                  <a:lnTo>
                    <a:pt x="1785" y="154"/>
                  </a:lnTo>
                  <a:lnTo>
                    <a:pt x="1780" y="159"/>
                  </a:lnTo>
                  <a:lnTo>
                    <a:pt x="1776" y="159"/>
                  </a:lnTo>
                  <a:lnTo>
                    <a:pt x="1771" y="159"/>
                  </a:lnTo>
                  <a:lnTo>
                    <a:pt x="1766" y="159"/>
                  </a:lnTo>
                  <a:lnTo>
                    <a:pt x="1766" y="159"/>
                  </a:lnTo>
                  <a:lnTo>
                    <a:pt x="1766" y="163"/>
                  </a:lnTo>
                  <a:lnTo>
                    <a:pt x="1771" y="163"/>
                  </a:lnTo>
                  <a:lnTo>
                    <a:pt x="1776" y="163"/>
                  </a:lnTo>
                  <a:lnTo>
                    <a:pt x="1785" y="168"/>
                  </a:lnTo>
                  <a:lnTo>
                    <a:pt x="1790" y="168"/>
                  </a:lnTo>
                  <a:lnTo>
                    <a:pt x="1795" y="168"/>
                  </a:lnTo>
                  <a:lnTo>
                    <a:pt x="1800" y="168"/>
                  </a:lnTo>
                  <a:lnTo>
                    <a:pt x="1805" y="163"/>
                  </a:lnTo>
                  <a:lnTo>
                    <a:pt x="1810" y="163"/>
                  </a:lnTo>
                  <a:lnTo>
                    <a:pt x="1810" y="159"/>
                  </a:lnTo>
                  <a:close/>
                  <a:moveTo>
                    <a:pt x="1548" y="134"/>
                  </a:moveTo>
                  <a:lnTo>
                    <a:pt x="1548" y="129"/>
                  </a:lnTo>
                  <a:lnTo>
                    <a:pt x="1548" y="124"/>
                  </a:lnTo>
                  <a:lnTo>
                    <a:pt x="1543" y="119"/>
                  </a:lnTo>
                  <a:lnTo>
                    <a:pt x="1538" y="119"/>
                  </a:lnTo>
                  <a:lnTo>
                    <a:pt x="1533" y="114"/>
                  </a:lnTo>
                  <a:lnTo>
                    <a:pt x="1523" y="114"/>
                  </a:lnTo>
                  <a:lnTo>
                    <a:pt x="1518" y="114"/>
                  </a:lnTo>
                  <a:lnTo>
                    <a:pt x="1508" y="119"/>
                  </a:lnTo>
                  <a:lnTo>
                    <a:pt x="1504" y="124"/>
                  </a:lnTo>
                  <a:lnTo>
                    <a:pt x="1499" y="129"/>
                  </a:lnTo>
                  <a:lnTo>
                    <a:pt x="1499" y="129"/>
                  </a:lnTo>
                  <a:lnTo>
                    <a:pt x="1499" y="134"/>
                  </a:lnTo>
                  <a:lnTo>
                    <a:pt x="1504" y="134"/>
                  </a:lnTo>
                  <a:lnTo>
                    <a:pt x="1508" y="139"/>
                  </a:lnTo>
                  <a:lnTo>
                    <a:pt x="1518" y="139"/>
                  </a:lnTo>
                  <a:lnTo>
                    <a:pt x="1528" y="139"/>
                  </a:lnTo>
                  <a:lnTo>
                    <a:pt x="1533" y="139"/>
                  </a:lnTo>
                  <a:lnTo>
                    <a:pt x="1538" y="139"/>
                  </a:lnTo>
                  <a:lnTo>
                    <a:pt x="1543" y="134"/>
                  </a:lnTo>
                  <a:lnTo>
                    <a:pt x="1548" y="134"/>
                  </a:lnTo>
                  <a:close/>
                  <a:moveTo>
                    <a:pt x="1756" y="134"/>
                  </a:moveTo>
                  <a:lnTo>
                    <a:pt x="1751" y="129"/>
                  </a:lnTo>
                  <a:lnTo>
                    <a:pt x="1746" y="129"/>
                  </a:lnTo>
                  <a:lnTo>
                    <a:pt x="1741" y="129"/>
                  </a:lnTo>
                  <a:lnTo>
                    <a:pt x="1736" y="129"/>
                  </a:lnTo>
                  <a:lnTo>
                    <a:pt x="1731" y="129"/>
                  </a:lnTo>
                  <a:lnTo>
                    <a:pt x="1726" y="129"/>
                  </a:lnTo>
                  <a:lnTo>
                    <a:pt x="1716" y="129"/>
                  </a:lnTo>
                  <a:lnTo>
                    <a:pt x="1711" y="134"/>
                  </a:lnTo>
                  <a:lnTo>
                    <a:pt x="1706" y="134"/>
                  </a:lnTo>
                  <a:lnTo>
                    <a:pt x="1706" y="134"/>
                  </a:lnTo>
                  <a:lnTo>
                    <a:pt x="1711" y="134"/>
                  </a:lnTo>
                  <a:lnTo>
                    <a:pt x="1716" y="134"/>
                  </a:lnTo>
                  <a:lnTo>
                    <a:pt x="1721" y="134"/>
                  </a:lnTo>
                  <a:lnTo>
                    <a:pt x="1731" y="139"/>
                  </a:lnTo>
                  <a:lnTo>
                    <a:pt x="1736" y="139"/>
                  </a:lnTo>
                  <a:lnTo>
                    <a:pt x="1746" y="139"/>
                  </a:lnTo>
                  <a:lnTo>
                    <a:pt x="1751" y="139"/>
                  </a:lnTo>
                  <a:lnTo>
                    <a:pt x="1751" y="139"/>
                  </a:lnTo>
                  <a:lnTo>
                    <a:pt x="1756" y="134"/>
                  </a:lnTo>
                  <a:lnTo>
                    <a:pt x="1756" y="134"/>
                  </a:lnTo>
                  <a:close/>
                  <a:moveTo>
                    <a:pt x="1612" y="104"/>
                  </a:moveTo>
                  <a:lnTo>
                    <a:pt x="1607" y="99"/>
                  </a:lnTo>
                  <a:lnTo>
                    <a:pt x="1607" y="94"/>
                  </a:lnTo>
                  <a:lnTo>
                    <a:pt x="1602" y="94"/>
                  </a:lnTo>
                  <a:lnTo>
                    <a:pt x="1598" y="89"/>
                  </a:lnTo>
                  <a:lnTo>
                    <a:pt x="1593" y="94"/>
                  </a:lnTo>
                  <a:lnTo>
                    <a:pt x="1588" y="94"/>
                  </a:lnTo>
                  <a:lnTo>
                    <a:pt x="1583" y="99"/>
                  </a:lnTo>
                  <a:lnTo>
                    <a:pt x="1578" y="99"/>
                  </a:lnTo>
                  <a:lnTo>
                    <a:pt x="1573" y="104"/>
                  </a:lnTo>
                  <a:lnTo>
                    <a:pt x="1563" y="104"/>
                  </a:lnTo>
                  <a:lnTo>
                    <a:pt x="1558" y="104"/>
                  </a:lnTo>
                  <a:lnTo>
                    <a:pt x="1558" y="109"/>
                  </a:lnTo>
                  <a:lnTo>
                    <a:pt x="1568" y="114"/>
                  </a:lnTo>
                  <a:lnTo>
                    <a:pt x="1573" y="114"/>
                  </a:lnTo>
                  <a:lnTo>
                    <a:pt x="1583" y="114"/>
                  </a:lnTo>
                  <a:lnTo>
                    <a:pt x="1588" y="109"/>
                  </a:lnTo>
                  <a:lnTo>
                    <a:pt x="1593" y="109"/>
                  </a:lnTo>
                  <a:lnTo>
                    <a:pt x="1602" y="109"/>
                  </a:lnTo>
                  <a:lnTo>
                    <a:pt x="1607" y="109"/>
                  </a:lnTo>
                  <a:lnTo>
                    <a:pt x="1612" y="104"/>
                  </a:lnTo>
                  <a:close/>
                  <a:moveTo>
                    <a:pt x="1701" y="104"/>
                  </a:moveTo>
                  <a:lnTo>
                    <a:pt x="1696" y="104"/>
                  </a:lnTo>
                  <a:lnTo>
                    <a:pt x="1691" y="104"/>
                  </a:lnTo>
                  <a:lnTo>
                    <a:pt x="1687" y="104"/>
                  </a:lnTo>
                  <a:lnTo>
                    <a:pt x="1682" y="104"/>
                  </a:lnTo>
                  <a:lnTo>
                    <a:pt x="1677" y="104"/>
                  </a:lnTo>
                  <a:lnTo>
                    <a:pt x="1672" y="99"/>
                  </a:lnTo>
                  <a:lnTo>
                    <a:pt x="1667" y="94"/>
                  </a:lnTo>
                  <a:lnTo>
                    <a:pt x="1662" y="94"/>
                  </a:lnTo>
                  <a:lnTo>
                    <a:pt x="1657" y="89"/>
                  </a:lnTo>
                  <a:lnTo>
                    <a:pt x="1652" y="89"/>
                  </a:lnTo>
                  <a:lnTo>
                    <a:pt x="1647" y="89"/>
                  </a:lnTo>
                  <a:lnTo>
                    <a:pt x="1647" y="94"/>
                  </a:lnTo>
                  <a:lnTo>
                    <a:pt x="1642" y="99"/>
                  </a:lnTo>
                  <a:lnTo>
                    <a:pt x="1642" y="104"/>
                  </a:lnTo>
                  <a:lnTo>
                    <a:pt x="1647" y="104"/>
                  </a:lnTo>
                  <a:lnTo>
                    <a:pt x="1652" y="104"/>
                  </a:lnTo>
                  <a:lnTo>
                    <a:pt x="1657" y="109"/>
                  </a:lnTo>
                  <a:lnTo>
                    <a:pt x="1662" y="109"/>
                  </a:lnTo>
                  <a:lnTo>
                    <a:pt x="1667" y="109"/>
                  </a:lnTo>
                  <a:lnTo>
                    <a:pt x="1672" y="109"/>
                  </a:lnTo>
                  <a:lnTo>
                    <a:pt x="1677" y="109"/>
                  </a:lnTo>
                  <a:lnTo>
                    <a:pt x="1687" y="114"/>
                  </a:lnTo>
                  <a:lnTo>
                    <a:pt x="1691" y="114"/>
                  </a:lnTo>
                  <a:lnTo>
                    <a:pt x="1696" y="109"/>
                  </a:lnTo>
                  <a:lnTo>
                    <a:pt x="1701" y="109"/>
                  </a:lnTo>
                  <a:lnTo>
                    <a:pt x="1701" y="104"/>
                  </a:lnTo>
                  <a:close/>
                  <a:moveTo>
                    <a:pt x="2235" y="1656"/>
                  </a:moveTo>
                  <a:lnTo>
                    <a:pt x="2260" y="1631"/>
                  </a:lnTo>
                  <a:lnTo>
                    <a:pt x="2285" y="1631"/>
                  </a:lnTo>
                  <a:lnTo>
                    <a:pt x="2315" y="1631"/>
                  </a:lnTo>
                  <a:lnTo>
                    <a:pt x="2339" y="1631"/>
                  </a:lnTo>
                  <a:lnTo>
                    <a:pt x="2369" y="1631"/>
                  </a:lnTo>
                  <a:lnTo>
                    <a:pt x="2394" y="1631"/>
                  </a:lnTo>
                  <a:lnTo>
                    <a:pt x="2418" y="1631"/>
                  </a:lnTo>
                  <a:lnTo>
                    <a:pt x="2448" y="1602"/>
                  </a:lnTo>
                  <a:lnTo>
                    <a:pt x="2448" y="1577"/>
                  </a:lnTo>
                  <a:lnTo>
                    <a:pt x="2448" y="1547"/>
                  </a:lnTo>
                  <a:lnTo>
                    <a:pt x="2448" y="1523"/>
                  </a:lnTo>
                  <a:lnTo>
                    <a:pt x="2473" y="1498"/>
                  </a:lnTo>
                  <a:lnTo>
                    <a:pt x="2473" y="1468"/>
                  </a:lnTo>
                  <a:lnTo>
                    <a:pt x="2473" y="1444"/>
                  </a:lnTo>
                  <a:lnTo>
                    <a:pt x="2473" y="1414"/>
                  </a:lnTo>
                  <a:lnTo>
                    <a:pt x="2503" y="1389"/>
                  </a:lnTo>
                  <a:lnTo>
                    <a:pt x="2503" y="1364"/>
                  </a:lnTo>
                  <a:lnTo>
                    <a:pt x="2503" y="1335"/>
                  </a:lnTo>
                  <a:lnTo>
                    <a:pt x="2503" y="1310"/>
                  </a:lnTo>
                  <a:lnTo>
                    <a:pt x="2527" y="1280"/>
                  </a:lnTo>
                  <a:lnTo>
                    <a:pt x="2527" y="1256"/>
                  </a:lnTo>
                  <a:lnTo>
                    <a:pt x="2527" y="1226"/>
                  </a:lnTo>
                  <a:lnTo>
                    <a:pt x="2527" y="1201"/>
                  </a:lnTo>
                  <a:lnTo>
                    <a:pt x="2552" y="1177"/>
                  </a:lnTo>
                  <a:lnTo>
                    <a:pt x="2552" y="1147"/>
                  </a:lnTo>
                  <a:lnTo>
                    <a:pt x="2552" y="1122"/>
                  </a:lnTo>
                  <a:lnTo>
                    <a:pt x="2552" y="1093"/>
                  </a:lnTo>
                  <a:lnTo>
                    <a:pt x="2582" y="1068"/>
                  </a:lnTo>
                  <a:lnTo>
                    <a:pt x="2582" y="1043"/>
                  </a:lnTo>
                  <a:lnTo>
                    <a:pt x="2582" y="1014"/>
                  </a:lnTo>
                  <a:lnTo>
                    <a:pt x="2582" y="989"/>
                  </a:lnTo>
                  <a:lnTo>
                    <a:pt x="2582" y="959"/>
                  </a:lnTo>
                  <a:lnTo>
                    <a:pt x="2582" y="934"/>
                  </a:lnTo>
                  <a:lnTo>
                    <a:pt x="2582" y="910"/>
                  </a:lnTo>
                  <a:lnTo>
                    <a:pt x="2582" y="880"/>
                  </a:lnTo>
                  <a:lnTo>
                    <a:pt x="2582" y="855"/>
                  </a:lnTo>
                  <a:lnTo>
                    <a:pt x="2582" y="826"/>
                  </a:lnTo>
                  <a:lnTo>
                    <a:pt x="2582" y="801"/>
                  </a:lnTo>
                  <a:lnTo>
                    <a:pt x="2582" y="776"/>
                  </a:lnTo>
                  <a:lnTo>
                    <a:pt x="2582" y="747"/>
                  </a:lnTo>
                  <a:lnTo>
                    <a:pt x="2582" y="722"/>
                  </a:lnTo>
                  <a:lnTo>
                    <a:pt x="2582" y="692"/>
                  </a:lnTo>
                  <a:lnTo>
                    <a:pt x="2582" y="668"/>
                  </a:lnTo>
                  <a:lnTo>
                    <a:pt x="2582" y="643"/>
                  </a:lnTo>
                  <a:lnTo>
                    <a:pt x="2582" y="613"/>
                  </a:lnTo>
                  <a:lnTo>
                    <a:pt x="2582" y="589"/>
                  </a:lnTo>
                  <a:lnTo>
                    <a:pt x="2582" y="559"/>
                  </a:lnTo>
                  <a:lnTo>
                    <a:pt x="2582" y="534"/>
                  </a:lnTo>
                  <a:lnTo>
                    <a:pt x="2582" y="504"/>
                  </a:lnTo>
                  <a:lnTo>
                    <a:pt x="2582" y="480"/>
                  </a:lnTo>
                  <a:lnTo>
                    <a:pt x="2582" y="455"/>
                  </a:lnTo>
                  <a:lnTo>
                    <a:pt x="2582" y="425"/>
                  </a:lnTo>
                  <a:lnTo>
                    <a:pt x="2582" y="401"/>
                  </a:lnTo>
                  <a:lnTo>
                    <a:pt x="2582" y="371"/>
                  </a:lnTo>
                  <a:lnTo>
                    <a:pt x="2582" y="346"/>
                  </a:lnTo>
                  <a:lnTo>
                    <a:pt x="2582" y="322"/>
                  </a:lnTo>
                  <a:lnTo>
                    <a:pt x="2582" y="292"/>
                  </a:lnTo>
                  <a:lnTo>
                    <a:pt x="2582" y="267"/>
                  </a:lnTo>
                  <a:lnTo>
                    <a:pt x="2582" y="238"/>
                  </a:lnTo>
                  <a:lnTo>
                    <a:pt x="2552" y="213"/>
                  </a:lnTo>
                  <a:lnTo>
                    <a:pt x="2552" y="188"/>
                  </a:lnTo>
                  <a:lnTo>
                    <a:pt x="2552" y="159"/>
                  </a:lnTo>
                  <a:lnTo>
                    <a:pt x="2552" y="134"/>
                  </a:lnTo>
                  <a:lnTo>
                    <a:pt x="2552" y="104"/>
                  </a:lnTo>
                  <a:lnTo>
                    <a:pt x="2527" y="79"/>
                  </a:lnTo>
                  <a:lnTo>
                    <a:pt x="2503" y="79"/>
                  </a:lnTo>
                  <a:lnTo>
                    <a:pt x="2473" y="79"/>
                  </a:lnTo>
                  <a:lnTo>
                    <a:pt x="2448" y="55"/>
                  </a:lnTo>
                  <a:lnTo>
                    <a:pt x="2418" y="55"/>
                  </a:lnTo>
                  <a:lnTo>
                    <a:pt x="2394" y="55"/>
                  </a:lnTo>
                  <a:lnTo>
                    <a:pt x="2369" y="25"/>
                  </a:lnTo>
                  <a:lnTo>
                    <a:pt x="2339" y="25"/>
                  </a:lnTo>
                  <a:lnTo>
                    <a:pt x="2315" y="25"/>
                  </a:lnTo>
                  <a:lnTo>
                    <a:pt x="2285" y="0"/>
                  </a:lnTo>
                  <a:lnTo>
                    <a:pt x="2260" y="0"/>
                  </a:lnTo>
                  <a:lnTo>
                    <a:pt x="2235" y="0"/>
                  </a:lnTo>
                  <a:lnTo>
                    <a:pt x="2206" y="0"/>
                  </a:lnTo>
                  <a:lnTo>
                    <a:pt x="2181" y="0"/>
                  </a:lnTo>
                  <a:lnTo>
                    <a:pt x="2156" y="0"/>
                  </a:lnTo>
                  <a:lnTo>
                    <a:pt x="2127" y="0"/>
                  </a:lnTo>
                  <a:lnTo>
                    <a:pt x="2102" y="0"/>
                  </a:lnTo>
                  <a:lnTo>
                    <a:pt x="2072" y="0"/>
                  </a:lnTo>
                  <a:lnTo>
                    <a:pt x="2048" y="0"/>
                  </a:lnTo>
                  <a:lnTo>
                    <a:pt x="2023" y="0"/>
                  </a:lnTo>
                  <a:lnTo>
                    <a:pt x="1993" y="0"/>
                  </a:lnTo>
                  <a:lnTo>
                    <a:pt x="1968" y="0"/>
                  </a:lnTo>
                  <a:lnTo>
                    <a:pt x="1944" y="0"/>
                  </a:lnTo>
                  <a:lnTo>
                    <a:pt x="1914" y="0"/>
                  </a:lnTo>
                  <a:lnTo>
                    <a:pt x="1889" y="0"/>
                  </a:lnTo>
                  <a:lnTo>
                    <a:pt x="1860" y="0"/>
                  </a:lnTo>
                  <a:lnTo>
                    <a:pt x="1835" y="0"/>
                  </a:lnTo>
                  <a:lnTo>
                    <a:pt x="1810" y="0"/>
                  </a:lnTo>
                  <a:lnTo>
                    <a:pt x="1780" y="0"/>
                  </a:lnTo>
                  <a:lnTo>
                    <a:pt x="1756" y="0"/>
                  </a:lnTo>
                  <a:lnTo>
                    <a:pt x="1726" y="0"/>
                  </a:lnTo>
                  <a:lnTo>
                    <a:pt x="1701" y="0"/>
                  </a:lnTo>
                  <a:lnTo>
                    <a:pt x="1677" y="0"/>
                  </a:lnTo>
                  <a:lnTo>
                    <a:pt x="1647" y="0"/>
                  </a:lnTo>
                  <a:lnTo>
                    <a:pt x="1622" y="0"/>
                  </a:lnTo>
                  <a:lnTo>
                    <a:pt x="1598" y="0"/>
                  </a:lnTo>
                  <a:lnTo>
                    <a:pt x="1568" y="0"/>
                  </a:lnTo>
                  <a:lnTo>
                    <a:pt x="1543" y="0"/>
                  </a:lnTo>
                  <a:lnTo>
                    <a:pt x="1513" y="0"/>
                  </a:lnTo>
                  <a:lnTo>
                    <a:pt x="1489" y="0"/>
                  </a:lnTo>
                  <a:lnTo>
                    <a:pt x="1464" y="0"/>
                  </a:lnTo>
                  <a:lnTo>
                    <a:pt x="1434" y="0"/>
                  </a:lnTo>
                  <a:lnTo>
                    <a:pt x="1410" y="0"/>
                  </a:lnTo>
                  <a:lnTo>
                    <a:pt x="1385" y="0"/>
                  </a:lnTo>
                  <a:lnTo>
                    <a:pt x="1355" y="0"/>
                  </a:lnTo>
                  <a:lnTo>
                    <a:pt x="1330" y="0"/>
                  </a:lnTo>
                  <a:lnTo>
                    <a:pt x="1301" y="0"/>
                  </a:lnTo>
                  <a:lnTo>
                    <a:pt x="1276" y="0"/>
                  </a:lnTo>
                  <a:lnTo>
                    <a:pt x="1251" y="0"/>
                  </a:lnTo>
                  <a:lnTo>
                    <a:pt x="1222" y="0"/>
                  </a:lnTo>
                  <a:lnTo>
                    <a:pt x="1197" y="0"/>
                  </a:lnTo>
                  <a:lnTo>
                    <a:pt x="1172" y="0"/>
                  </a:lnTo>
                  <a:lnTo>
                    <a:pt x="1143" y="0"/>
                  </a:lnTo>
                  <a:lnTo>
                    <a:pt x="1118" y="0"/>
                  </a:lnTo>
                  <a:lnTo>
                    <a:pt x="1088" y="0"/>
                  </a:lnTo>
                  <a:lnTo>
                    <a:pt x="1063" y="0"/>
                  </a:lnTo>
                  <a:lnTo>
                    <a:pt x="1039" y="0"/>
                  </a:lnTo>
                  <a:lnTo>
                    <a:pt x="1009" y="0"/>
                  </a:lnTo>
                  <a:lnTo>
                    <a:pt x="984" y="0"/>
                  </a:lnTo>
                  <a:lnTo>
                    <a:pt x="955" y="0"/>
                  </a:lnTo>
                  <a:lnTo>
                    <a:pt x="930" y="0"/>
                  </a:lnTo>
                  <a:lnTo>
                    <a:pt x="905" y="0"/>
                  </a:lnTo>
                  <a:lnTo>
                    <a:pt x="875" y="0"/>
                  </a:lnTo>
                  <a:lnTo>
                    <a:pt x="851" y="0"/>
                  </a:lnTo>
                  <a:lnTo>
                    <a:pt x="826" y="0"/>
                  </a:lnTo>
                  <a:lnTo>
                    <a:pt x="796" y="0"/>
                  </a:lnTo>
                  <a:lnTo>
                    <a:pt x="772" y="0"/>
                  </a:lnTo>
                  <a:lnTo>
                    <a:pt x="742" y="0"/>
                  </a:lnTo>
                  <a:lnTo>
                    <a:pt x="717" y="0"/>
                  </a:lnTo>
                  <a:lnTo>
                    <a:pt x="692" y="0"/>
                  </a:lnTo>
                  <a:lnTo>
                    <a:pt x="663" y="0"/>
                  </a:lnTo>
                  <a:lnTo>
                    <a:pt x="638" y="0"/>
                  </a:lnTo>
                  <a:lnTo>
                    <a:pt x="613" y="0"/>
                  </a:lnTo>
                  <a:lnTo>
                    <a:pt x="584" y="25"/>
                  </a:lnTo>
                  <a:lnTo>
                    <a:pt x="559" y="55"/>
                  </a:lnTo>
                  <a:lnTo>
                    <a:pt x="529" y="79"/>
                  </a:lnTo>
                  <a:lnTo>
                    <a:pt x="505" y="104"/>
                  </a:lnTo>
                  <a:lnTo>
                    <a:pt x="480" y="134"/>
                  </a:lnTo>
                  <a:lnTo>
                    <a:pt x="450" y="134"/>
                  </a:lnTo>
                  <a:lnTo>
                    <a:pt x="425" y="159"/>
                  </a:lnTo>
                  <a:lnTo>
                    <a:pt x="396" y="188"/>
                  </a:lnTo>
                  <a:lnTo>
                    <a:pt x="371" y="213"/>
                  </a:lnTo>
                  <a:lnTo>
                    <a:pt x="346" y="238"/>
                  </a:lnTo>
                  <a:lnTo>
                    <a:pt x="317" y="267"/>
                  </a:lnTo>
                  <a:lnTo>
                    <a:pt x="292" y="292"/>
                  </a:lnTo>
                  <a:lnTo>
                    <a:pt x="267" y="322"/>
                  </a:lnTo>
                  <a:lnTo>
                    <a:pt x="237" y="322"/>
                  </a:lnTo>
                  <a:lnTo>
                    <a:pt x="213" y="346"/>
                  </a:lnTo>
                  <a:lnTo>
                    <a:pt x="183" y="371"/>
                  </a:lnTo>
                  <a:lnTo>
                    <a:pt x="158" y="401"/>
                  </a:lnTo>
                  <a:lnTo>
                    <a:pt x="134" y="425"/>
                  </a:lnTo>
                  <a:lnTo>
                    <a:pt x="104" y="455"/>
                  </a:lnTo>
                  <a:lnTo>
                    <a:pt x="79" y="480"/>
                  </a:lnTo>
                  <a:lnTo>
                    <a:pt x="55" y="504"/>
                  </a:lnTo>
                  <a:lnTo>
                    <a:pt x="25" y="504"/>
                  </a:lnTo>
                  <a:lnTo>
                    <a:pt x="0" y="534"/>
                  </a:lnTo>
                  <a:lnTo>
                    <a:pt x="0" y="559"/>
                  </a:lnTo>
                  <a:lnTo>
                    <a:pt x="0" y="589"/>
                  </a:lnTo>
                  <a:lnTo>
                    <a:pt x="0" y="613"/>
                  </a:lnTo>
                  <a:lnTo>
                    <a:pt x="25" y="643"/>
                  </a:lnTo>
                  <a:lnTo>
                    <a:pt x="25" y="668"/>
                  </a:lnTo>
                  <a:lnTo>
                    <a:pt x="55" y="692"/>
                  </a:lnTo>
                  <a:lnTo>
                    <a:pt x="79" y="722"/>
                  </a:lnTo>
                  <a:lnTo>
                    <a:pt x="104" y="747"/>
                  </a:lnTo>
                  <a:lnTo>
                    <a:pt x="134" y="776"/>
                  </a:lnTo>
                  <a:lnTo>
                    <a:pt x="134" y="801"/>
                  </a:lnTo>
                  <a:lnTo>
                    <a:pt x="158" y="826"/>
                  </a:lnTo>
                  <a:lnTo>
                    <a:pt x="183" y="855"/>
                  </a:lnTo>
                  <a:lnTo>
                    <a:pt x="213" y="880"/>
                  </a:lnTo>
                  <a:lnTo>
                    <a:pt x="237" y="910"/>
                  </a:lnTo>
                  <a:lnTo>
                    <a:pt x="267" y="934"/>
                  </a:lnTo>
                  <a:lnTo>
                    <a:pt x="292" y="959"/>
                  </a:lnTo>
                  <a:lnTo>
                    <a:pt x="292" y="989"/>
                  </a:lnTo>
                  <a:lnTo>
                    <a:pt x="317" y="1014"/>
                  </a:lnTo>
                  <a:lnTo>
                    <a:pt x="346" y="1043"/>
                  </a:lnTo>
                  <a:lnTo>
                    <a:pt x="371" y="1068"/>
                  </a:lnTo>
                  <a:lnTo>
                    <a:pt x="396" y="1093"/>
                  </a:lnTo>
                  <a:lnTo>
                    <a:pt x="425" y="1122"/>
                  </a:lnTo>
                  <a:lnTo>
                    <a:pt x="450" y="1147"/>
                  </a:lnTo>
                  <a:lnTo>
                    <a:pt x="480" y="1177"/>
                  </a:lnTo>
                  <a:lnTo>
                    <a:pt x="505" y="1201"/>
                  </a:lnTo>
                  <a:lnTo>
                    <a:pt x="529" y="1226"/>
                  </a:lnTo>
                  <a:lnTo>
                    <a:pt x="559" y="1256"/>
                  </a:lnTo>
                  <a:lnTo>
                    <a:pt x="584" y="1280"/>
                  </a:lnTo>
                  <a:lnTo>
                    <a:pt x="613" y="1310"/>
                  </a:lnTo>
                  <a:lnTo>
                    <a:pt x="638" y="1335"/>
                  </a:lnTo>
                  <a:lnTo>
                    <a:pt x="663" y="1364"/>
                  </a:lnTo>
                  <a:lnTo>
                    <a:pt x="692" y="1389"/>
                  </a:lnTo>
                  <a:lnTo>
                    <a:pt x="717" y="1414"/>
                  </a:lnTo>
                  <a:lnTo>
                    <a:pt x="742" y="1444"/>
                  </a:lnTo>
                  <a:lnTo>
                    <a:pt x="772" y="1468"/>
                  </a:lnTo>
                  <a:lnTo>
                    <a:pt x="796" y="1468"/>
                  </a:lnTo>
                  <a:lnTo>
                    <a:pt x="826" y="1498"/>
                  </a:lnTo>
                  <a:lnTo>
                    <a:pt x="851" y="1523"/>
                  </a:lnTo>
                  <a:lnTo>
                    <a:pt x="875" y="1547"/>
                  </a:lnTo>
                  <a:lnTo>
                    <a:pt x="905" y="1577"/>
                  </a:lnTo>
                  <a:lnTo>
                    <a:pt x="930" y="1602"/>
                  </a:lnTo>
                  <a:lnTo>
                    <a:pt x="955" y="1631"/>
                  </a:lnTo>
                  <a:lnTo>
                    <a:pt x="984" y="1656"/>
                  </a:lnTo>
                  <a:lnTo>
                    <a:pt x="1009" y="1656"/>
                  </a:lnTo>
                  <a:lnTo>
                    <a:pt x="1039" y="1656"/>
                  </a:lnTo>
                  <a:lnTo>
                    <a:pt x="1063" y="1656"/>
                  </a:lnTo>
                  <a:lnTo>
                    <a:pt x="1088" y="1656"/>
                  </a:lnTo>
                  <a:lnTo>
                    <a:pt x="1118" y="1656"/>
                  </a:lnTo>
                  <a:lnTo>
                    <a:pt x="1143" y="1656"/>
                  </a:lnTo>
                  <a:lnTo>
                    <a:pt x="1172" y="1656"/>
                  </a:lnTo>
                  <a:lnTo>
                    <a:pt x="1197" y="1656"/>
                  </a:lnTo>
                  <a:lnTo>
                    <a:pt x="1222" y="1656"/>
                  </a:lnTo>
                  <a:lnTo>
                    <a:pt x="1251" y="1656"/>
                  </a:lnTo>
                  <a:lnTo>
                    <a:pt x="1276" y="1656"/>
                  </a:lnTo>
                  <a:lnTo>
                    <a:pt x="1301" y="1656"/>
                  </a:lnTo>
                  <a:lnTo>
                    <a:pt x="1330" y="1656"/>
                  </a:lnTo>
                  <a:lnTo>
                    <a:pt x="1355" y="1656"/>
                  </a:lnTo>
                  <a:lnTo>
                    <a:pt x="1385" y="1656"/>
                  </a:lnTo>
                  <a:lnTo>
                    <a:pt x="1410" y="1656"/>
                  </a:lnTo>
                  <a:lnTo>
                    <a:pt x="1434" y="1656"/>
                  </a:lnTo>
                  <a:lnTo>
                    <a:pt x="1464" y="1656"/>
                  </a:lnTo>
                  <a:lnTo>
                    <a:pt x="1489" y="1656"/>
                  </a:lnTo>
                  <a:lnTo>
                    <a:pt x="1513" y="1656"/>
                  </a:lnTo>
                  <a:lnTo>
                    <a:pt x="1543" y="1656"/>
                  </a:lnTo>
                  <a:lnTo>
                    <a:pt x="1568" y="1656"/>
                  </a:lnTo>
                  <a:lnTo>
                    <a:pt x="1598" y="1656"/>
                  </a:lnTo>
                  <a:lnTo>
                    <a:pt x="1622" y="1656"/>
                  </a:lnTo>
                  <a:lnTo>
                    <a:pt x="1647" y="1656"/>
                  </a:lnTo>
                  <a:lnTo>
                    <a:pt x="1677" y="1656"/>
                  </a:lnTo>
                  <a:lnTo>
                    <a:pt x="1701" y="1656"/>
                  </a:lnTo>
                  <a:lnTo>
                    <a:pt x="1726" y="1656"/>
                  </a:lnTo>
                  <a:lnTo>
                    <a:pt x="1756" y="1656"/>
                  </a:lnTo>
                  <a:lnTo>
                    <a:pt x="1780" y="1656"/>
                  </a:lnTo>
                  <a:lnTo>
                    <a:pt x="1810" y="1656"/>
                  </a:lnTo>
                  <a:lnTo>
                    <a:pt x="1835" y="1656"/>
                  </a:lnTo>
                  <a:lnTo>
                    <a:pt x="1860" y="1656"/>
                  </a:lnTo>
                  <a:lnTo>
                    <a:pt x="1889" y="1656"/>
                  </a:lnTo>
                  <a:lnTo>
                    <a:pt x="1914" y="1656"/>
                  </a:lnTo>
                  <a:lnTo>
                    <a:pt x="1944" y="1656"/>
                  </a:lnTo>
                  <a:lnTo>
                    <a:pt x="1968" y="1656"/>
                  </a:lnTo>
                  <a:lnTo>
                    <a:pt x="1993" y="1656"/>
                  </a:lnTo>
                  <a:lnTo>
                    <a:pt x="2023" y="1656"/>
                  </a:lnTo>
                  <a:lnTo>
                    <a:pt x="2048" y="1656"/>
                  </a:lnTo>
                  <a:lnTo>
                    <a:pt x="2072" y="1656"/>
                  </a:lnTo>
                  <a:lnTo>
                    <a:pt x="2102" y="1656"/>
                  </a:lnTo>
                  <a:lnTo>
                    <a:pt x="2127" y="1656"/>
                  </a:lnTo>
                  <a:lnTo>
                    <a:pt x="2156" y="1656"/>
                  </a:lnTo>
                  <a:lnTo>
                    <a:pt x="2181" y="1656"/>
                  </a:lnTo>
                  <a:lnTo>
                    <a:pt x="2206" y="1656"/>
                  </a:lnTo>
                  <a:lnTo>
                    <a:pt x="2235" y="1656"/>
                  </a:lnTo>
                  <a:close/>
                  <a:moveTo>
                    <a:pt x="1296" y="322"/>
                  </a:moveTo>
                  <a:lnTo>
                    <a:pt x="1301" y="317"/>
                  </a:lnTo>
                  <a:lnTo>
                    <a:pt x="1311" y="317"/>
                  </a:lnTo>
                  <a:lnTo>
                    <a:pt x="1316" y="312"/>
                  </a:lnTo>
                  <a:lnTo>
                    <a:pt x="1326" y="312"/>
                  </a:lnTo>
                  <a:lnTo>
                    <a:pt x="1330" y="307"/>
                  </a:lnTo>
                  <a:lnTo>
                    <a:pt x="1335" y="307"/>
                  </a:lnTo>
                  <a:lnTo>
                    <a:pt x="1340" y="297"/>
                  </a:lnTo>
                  <a:lnTo>
                    <a:pt x="1340" y="292"/>
                  </a:lnTo>
                  <a:lnTo>
                    <a:pt x="1345" y="287"/>
                  </a:lnTo>
                  <a:lnTo>
                    <a:pt x="1345" y="282"/>
                  </a:lnTo>
                  <a:lnTo>
                    <a:pt x="1350" y="277"/>
                  </a:lnTo>
                  <a:lnTo>
                    <a:pt x="1355" y="272"/>
                  </a:lnTo>
                  <a:lnTo>
                    <a:pt x="1360" y="272"/>
                  </a:lnTo>
                  <a:lnTo>
                    <a:pt x="1370" y="272"/>
                  </a:lnTo>
                  <a:lnTo>
                    <a:pt x="1375" y="272"/>
                  </a:lnTo>
                  <a:lnTo>
                    <a:pt x="1385" y="272"/>
                  </a:lnTo>
                  <a:lnTo>
                    <a:pt x="1395" y="277"/>
                  </a:lnTo>
                  <a:lnTo>
                    <a:pt x="1405" y="277"/>
                  </a:lnTo>
                  <a:lnTo>
                    <a:pt x="1410" y="272"/>
                  </a:lnTo>
                  <a:lnTo>
                    <a:pt x="1415" y="267"/>
                  </a:lnTo>
                  <a:lnTo>
                    <a:pt x="1419" y="262"/>
                  </a:lnTo>
                  <a:lnTo>
                    <a:pt x="1424" y="257"/>
                  </a:lnTo>
                  <a:lnTo>
                    <a:pt x="1429" y="252"/>
                  </a:lnTo>
                  <a:lnTo>
                    <a:pt x="1434" y="247"/>
                  </a:lnTo>
                  <a:lnTo>
                    <a:pt x="1434" y="243"/>
                  </a:lnTo>
                  <a:lnTo>
                    <a:pt x="1434" y="238"/>
                  </a:lnTo>
                  <a:lnTo>
                    <a:pt x="1429" y="238"/>
                  </a:lnTo>
                  <a:lnTo>
                    <a:pt x="1419" y="233"/>
                  </a:lnTo>
                  <a:lnTo>
                    <a:pt x="1410" y="233"/>
                  </a:lnTo>
                  <a:lnTo>
                    <a:pt x="1400" y="233"/>
                  </a:lnTo>
                  <a:lnTo>
                    <a:pt x="1395" y="233"/>
                  </a:lnTo>
                  <a:lnTo>
                    <a:pt x="1385" y="233"/>
                  </a:lnTo>
                  <a:lnTo>
                    <a:pt x="1375" y="233"/>
                  </a:lnTo>
                  <a:lnTo>
                    <a:pt x="1370" y="228"/>
                  </a:lnTo>
                  <a:lnTo>
                    <a:pt x="1365" y="228"/>
                  </a:lnTo>
                  <a:lnTo>
                    <a:pt x="1360" y="223"/>
                  </a:lnTo>
                  <a:lnTo>
                    <a:pt x="1355" y="218"/>
                  </a:lnTo>
                  <a:lnTo>
                    <a:pt x="1355" y="208"/>
                  </a:lnTo>
                  <a:lnTo>
                    <a:pt x="1360" y="203"/>
                  </a:lnTo>
                  <a:lnTo>
                    <a:pt x="1365" y="198"/>
                  </a:lnTo>
                  <a:lnTo>
                    <a:pt x="1370" y="193"/>
                  </a:lnTo>
                  <a:lnTo>
                    <a:pt x="1380" y="193"/>
                  </a:lnTo>
                  <a:lnTo>
                    <a:pt x="1385" y="193"/>
                  </a:lnTo>
                  <a:lnTo>
                    <a:pt x="1390" y="193"/>
                  </a:lnTo>
                  <a:lnTo>
                    <a:pt x="1400" y="198"/>
                  </a:lnTo>
                  <a:lnTo>
                    <a:pt x="1405" y="203"/>
                  </a:lnTo>
                  <a:lnTo>
                    <a:pt x="1410" y="203"/>
                  </a:lnTo>
                  <a:lnTo>
                    <a:pt x="1415" y="203"/>
                  </a:lnTo>
                  <a:lnTo>
                    <a:pt x="1419" y="198"/>
                  </a:lnTo>
                  <a:lnTo>
                    <a:pt x="1419" y="188"/>
                  </a:lnTo>
                  <a:lnTo>
                    <a:pt x="1424" y="183"/>
                  </a:lnTo>
                  <a:lnTo>
                    <a:pt x="1424" y="178"/>
                  </a:lnTo>
                  <a:lnTo>
                    <a:pt x="1429" y="168"/>
                  </a:lnTo>
                  <a:lnTo>
                    <a:pt x="1429" y="168"/>
                  </a:lnTo>
                  <a:lnTo>
                    <a:pt x="1439" y="163"/>
                  </a:lnTo>
                  <a:lnTo>
                    <a:pt x="1444" y="163"/>
                  </a:lnTo>
                  <a:lnTo>
                    <a:pt x="1454" y="168"/>
                  </a:lnTo>
                  <a:lnTo>
                    <a:pt x="1464" y="168"/>
                  </a:lnTo>
                  <a:lnTo>
                    <a:pt x="1469" y="163"/>
                  </a:lnTo>
                  <a:lnTo>
                    <a:pt x="1479" y="163"/>
                  </a:lnTo>
                  <a:lnTo>
                    <a:pt x="1484" y="159"/>
                  </a:lnTo>
                  <a:lnTo>
                    <a:pt x="1484" y="154"/>
                  </a:lnTo>
                  <a:lnTo>
                    <a:pt x="1479" y="149"/>
                  </a:lnTo>
                  <a:lnTo>
                    <a:pt x="1474" y="144"/>
                  </a:lnTo>
                  <a:lnTo>
                    <a:pt x="1464" y="139"/>
                  </a:lnTo>
                  <a:lnTo>
                    <a:pt x="1454" y="139"/>
                  </a:lnTo>
                  <a:lnTo>
                    <a:pt x="1449" y="139"/>
                  </a:lnTo>
                  <a:lnTo>
                    <a:pt x="1439" y="144"/>
                  </a:lnTo>
                  <a:lnTo>
                    <a:pt x="1434" y="144"/>
                  </a:lnTo>
                  <a:lnTo>
                    <a:pt x="1429" y="149"/>
                  </a:lnTo>
                  <a:lnTo>
                    <a:pt x="1419" y="154"/>
                  </a:lnTo>
                  <a:lnTo>
                    <a:pt x="1415" y="159"/>
                  </a:lnTo>
                  <a:lnTo>
                    <a:pt x="1410" y="159"/>
                  </a:lnTo>
                  <a:lnTo>
                    <a:pt x="1400" y="159"/>
                  </a:lnTo>
                  <a:lnTo>
                    <a:pt x="1390" y="163"/>
                  </a:lnTo>
                  <a:lnTo>
                    <a:pt x="1385" y="163"/>
                  </a:lnTo>
                  <a:lnTo>
                    <a:pt x="1375" y="163"/>
                  </a:lnTo>
                  <a:lnTo>
                    <a:pt x="1370" y="163"/>
                  </a:lnTo>
                  <a:lnTo>
                    <a:pt x="1360" y="159"/>
                  </a:lnTo>
                  <a:lnTo>
                    <a:pt x="1360" y="154"/>
                  </a:lnTo>
                  <a:lnTo>
                    <a:pt x="1355" y="149"/>
                  </a:lnTo>
                  <a:lnTo>
                    <a:pt x="1355" y="144"/>
                  </a:lnTo>
                  <a:lnTo>
                    <a:pt x="1355" y="134"/>
                  </a:lnTo>
                  <a:lnTo>
                    <a:pt x="1360" y="129"/>
                  </a:lnTo>
                  <a:lnTo>
                    <a:pt x="1360" y="124"/>
                  </a:lnTo>
                  <a:lnTo>
                    <a:pt x="1365" y="119"/>
                  </a:lnTo>
                  <a:lnTo>
                    <a:pt x="1370" y="119"/>
                  </a:lnTo>
                  <a:lnTo>
                    <a:pt x="1380" y="114"/>
                  </a:lnTo>
                  <a:lnTo>
                    <a:pt x="1385" y="109"/>
                  </a:lnTo>
                  <a:lnTo>
                    <a:pt x="1395" y="109"/>
                  </a:lnTo>
                  <a:lnTo>
                    <a:pt x="1400" y="109"/>
                  </a:lnTo>
                  <a:lnTo>
                    <a:pt x="1410" y="109"/>
                  </a:lnTo>
                  <a:lnTo>
                    <a:pt x="1419" y="114"/>
                  </a:lnTo>
                  <a:lnTo>
                    <a:pt x="1424" y="119"/>
                  </a:lnTo>
                  <a:lnTo>
                    <a:pt x="1434" y="119"/>
                  </a:lnTo>
                  <a:lnTo>
                    <a:pt x="1434" y="124"/>
                  </a:lnTo>
                  <a:lnTo>
                    <a:pt x="1439" y="119"/>
                  </a:lnTo>
                  <a:lnTo>
                    <a:pt x="1434" y="109"/>
                  </a:lnTo>
                  <a:lnTo>
                    <a:pt x="1439" y="104"/>
                  </a:lnTo>
                  <a:lnTo>
                    <a:pt x="1439" y="99"/>
                  </a:lnTo>
                  <a:lnTo>
                    <a:pt x="1444" y="94"/>
                  </a:lnTo>
                  <a:lnTo>
                    <a:pt x="1449" y="89"/>
                  </a:lnTo>
                  <a:lnTo>
                    <a:pt x="1454" y="84"/>
                  </a:lnTo>
                  <a:lnTo>
                    <a:pt x="1464" y="84"/>
                  </a:lnTo>
                  <a:lnTo>
                    <a:pt x="1474" y="84"/>
                  </a:lnTo>
                  <a:lnTo>
                    <a:pt x="1479" y="84"/>
                  </a:lnTo>
                  <a:lnTo>
                    <a:pt x="1489" y="79"/>
                  </a:lnTo>
                  <a:lnTo>
                    <a:pt x="1499" y="79"/>
                  </a:lnTo>
                  <a:lnTo>
                    <a:pt x="1504" y="79"/>
                  </a:lnTo>
                  <a:lnTo>
                    <a:pt x="1513" y="79"/>
                  </a:lnTo>
                  <a:lnTo>
                    <a:pt x="1518" y="74"/>
                  </a:lnTo>
                  <a:lnTo>
                    <a:pt x="1523" y="70"/>
                  </a:lnTo>
                  <a:lnTo>
                    <a:pt x="1528" y="65"/>
                  </a:lnTo>
                  <a:lnTo>
                    <a:pt x="1533" y="65"/>
                  </a:lnTo>
                  <a:lnTo>
                    <a:pt x="1538" y="60"/>
                  </a:lnTo>
                  <a:lnTo>
                    <a:pt x="1548" y="55"/>
                  </a:lnTo>
                  <a:lnTo>
                    <a:pt x="1558" y="55"/>
                  </a:lnTo>
                  <a:lnTo>
                    <a:pt x="1563" y="55"/>
                  </a:lnTo>
                  <a:lnTo>
                    <a:pt x="1573" y="55"/>
                  </a:lnTo>
                  <a:lnTo>
                    <a:pt x="1583" y="55"/>
                  </a:lnTo>
                  <a:lnTo>
                    <a:pt x="1588" y="50"/>
                  </a:lnTo>
                  <a:lnTo>
                    <a:pt x="1593" y="50"/>
                  </a:lnTo>
                  <a:lnTo>
                    <a:pt x="1598" y="45"/>
                  </a:lnTo>
                  <a:lnTo>
                    <a:pt x="1607" y="40"/>
                  </a:lnTo>
                  <a:lnTo>
                    <a:pt x="1612" y="35"/>
                  </a:lnTo>
                  <a:lnTo>
                    <a:pt x="1617" y="35"/>
                  </a:lnTo>
                  <a:lnTo>
                    <a:pt x="1627" y="30"/>
                  </a:lnTo>
                  <a:lnTo>
                    <a:pt x="1632" y="30"/>
                  </a:lnTo>
                  <a:lnTo>
                    <a:pt x="1642" y="30"/>
                  </a:lnTo>
                  <a:lnTo>
                    <a:pt x="1652" y="30"/>
                  </a:lnTo>
                  <a:lnTo>
                    <a:pt x="1662" y="30"/>
                  </a:lnTo>
                  <a:lnTo>
                    <a:pt x="1667" y="30"/>
                  </a:lnTo>
                  <a:lnTo>
                    <a:pt x="1677" y="35"/>
                  </a:lnTo>
                  <a:lnTo>
                    <a:pt x="1682" y="35"/>
                  </a:lnTo>
                  <a:lnTo>
                    <a:pt x="1687" y="40"/>
                  </a:lnTo>
                  <a:lnTo>
                    <a:pt x="1691" y="45"/>
                  </a:lnTo>
                  <a:lnTo>
                    <a:pt x="1696" y="50"/>
                  </a:lnTo>
                  <a:lnTo>
                    <a:pt x="1706" y="50"/>
                  </a:lnTo>
                  <a:lnTo>
                    <a:pt x="1711" y="55"/>
                  </a:lnTo>
                  <a:lnTo>
                    <a:pt x="1721" y="55"/>
                  </a:lnTo>
                  <a:lnTo>
                    <a:pt x="1731" y="55"/>
                  </a:lnTo>
                  <a:lnTo>
                    <a:pt x="1736" y="55"/>
                  </a:lnTo>
                  <a:lnTo>
                    <a:pt x="1746" y="55"/>
                  </a:lnTo>
                  <a:lnTo>
                    <a:pt x="1756" y="55"/>
                  </a:lnTo>
                  <a:lnTo>
                    <a:pt x="1761" y="55"/>
                  </a:lnTo>
                  <a:lnTo>
                    <a:pt x="1771" y="60"/>
                  </a:lnTo>
                  <a:lnTo>
                    <a:pt x="1780" y="60"/>
                  </a:lnTo>
                  <a:lnTo>
                    <a:pt x="1785" y="60"/>
                  </a:lnTo>
                  <a:lnTo>
                    <a:pt x="1790" y="65"/>
                  </a:lnTo>
                  <a:lnTo>
                    <a:pt x="1795" y="70"/>
                  </a:lnTo>
                  <a:lnTo>
                    <a:pt x="1800" y="74"/>
                  </a:lnTo>
                  <a:lnTo>
                    <a:pt x="1805" y="79"/>
                  </a:lnTo>
                  <a:lnTo>
                    <a:pt x="1815" y="84"/>
                  </a:lnTo>
                  <a:lnTo>
                    <a:pt x="1820" y="84"/>
                  </a:lnTo>
                  <a:lnTo>
                    <a:pt x="1830" y="84"/>
                  </a:lnTo>
                  <a:lnTo>
                    <a:pt x="1840" y="84"/>
                  </a:lnTo>
                  <a:lnTo>
                    <a:pt x="1845" y="84"/>
                  </a:lnTo>
                  <a:lnTo>
                    <a:pt x="1855" y="84"/>
                  </a:lnTo>
                  <a:lnTo>
                    <a:pt x="1865" y="84"/>
                  </a:lnTo>
                  <a:lnTo>
                    <a:pt x="1870" y="84"/>
                  </a:lnTo>
                  <a:lnTo>
                    <a:pt x="1879" y="84"/>
                  </a:lnTo>
                  <a:lnTo>
                    <a:pt x="1889" y="89"/>
                  </a:lnTo>
                  <a:lnTo>
                    <a:pt x="1894" y="89"/>
                  </a:lnTo>
                  <a:lnTo>
                    <a:pt x="1899" y="94"/>
                  </a:lnTo>
                  <a:lnTo>
                    <a:pt x="1904" y="99"/>
                  </a:lnTo>
                  <a:lnTo>
                    <a:pt x="1909" y="104"/>
                  </a:lnTo>
                  <a:lnTo>
                    <a:pt x="1914" y="109"/>
                  </a:lnTo>
                  <a:lnTo>
                    <a:pt x="1919" y="109"/>
                  </a:lnTo>
                  <a:lnTo>
                    <a:pt x="1929" y="114"/>
                  </a:lnTo>
                  <a:lnTo>
                    <a:pt x="1939" y="114"/>
                  </a:lnTo>
                  <a:lnTo>
                    <a:pt x="1944" y="114"/>
                  </a:lnTo>
                  <a:lnTo>
                    <a:pt x="1954" y="114"/>
                  </a:lnTo>
                  <a:lnTo>
                    <a:pt x="1963" y="114"/>
                  </a:lnTo>
                  <a:lnTo>
                    <a:pt x="1968" y="114"/>
                  </a:lnTo>
                  <a:lnTo>
                    <a:pt x="1978" y="114"/>
                  </a:lnTo>
                  <a:lnTo>
                    <a:pt x="1988" y="114"/>
                  </a:lnTo>
                  <a:lnTo>
                    <a:pt x="1993" y="114"/>
                  </a:lnTo>
                  <a:lnTo>
                    <a:pt x="2003" y="119"/>
                  </a:lnTo>
                  <a:lnTo>
                    <a:pt x="2008" y="124"/>
                  </a:lnTo>
                  <a:lnTo>
                    <a:pt x="2013" y="129"/>
                  </a:lnTo>
                  <a:lnTo>
                    <a:pt x="2013" y="134"/>
                  </a:lnTo>
                  <a:lnTo>
                    <a:pt x="2018" y="139"/>
                  </a:lnTo>
                  <a:lnTo>
                    <a:pt x="2023" y="144"/>
                  </a:lnTo>
                  <a:lnTo>
                    <a:pt x="2028" y="144"/>
                  </a:lnTo>
                  <a:lnTo>
                    <a:pt x="2038" y="144"/>
                  </a:lnTo>
                  <a:lnTo>
                    <a:pt x="2048" y="144"/>
                  </a:lnTo>
                  <a:lnTo>
                    <a:pt x="2052" y="149"/>
                  </a:lnTo>
                  <a:lnTo>
                    <a:pt x="2062" y="149"/>
                  </a:lnTo>
                  <a:lnTo>
                    <a:pt x="2072" y="149"/>
                  </a:lnTo>
                  <a:lnTo>
                    <a:pt x="2077" y="149"/>
                  </a:lnTo>
                  <a:lnTo>
                    <a:pt x="2087" y="149"/>
                  </a:lnTo>
                  <a:lnTo>
                    <a:pt x="2097" y="154"/>
                  </a:lnTo>
                  <a:lnTo>
                    <a:pt x="2102" y="154"/>
                  </a:lnTo>
                  <a:lnTo>
                    <a:pt x="2107" y="159"/>
                  </a:lnTo>
                  <a:lnTo>
                    <a:pt x="2107" y="163"/>
                  </a:lnTo>
                  <a:lnTo>
                    <a:pt x="2107" y="168"/>
                  </a:lnTo>
                  <a:lnTo>
                    <a:pt x="2107" y="173"/>
                  </a:lnTo>
                  <a:lnTo>
                    <a:pt x="2107" y="183"/>
                  </a:lnTo>
                  <a:lnTo>
                    <a:pt x="2102" y="188"/>
                  </a:lnTo>
                  <a:lnTo>
                    <a:pt x="2102" y="193"/>
                  </a:lnTo>
                  <a:lnTo>
                    <a:pt x="2097" y="198"/>
                  </a:lnTo>
                  <a:lnTo>
                    <a:pt x="2092" y="203"/>
                  </a:lnTo>
                  <a:lnTo>
                    <a:pt x="2092" y="208"/>
                  </a:lnTo>
                  <a:lnTo>
                    <a:pt x="2087" y="213"/>
                  </a:lnTo>
                  <a:lnTo>
                    <a:pt x="2082" y="218"/>
                  </a:lnTo>
                  <a:lnTo>
                    <a:pt x="2082" y="223"/>
                  </a:lnTo>
                  <a:lnTo>
                    <a:pt x="2077" y="228"/>
                  </a:lnTo>
                  <a:lnTo>
                    <a:pt x="2072" y="233"/>
                  </a:lnTo>
                  <a:lnTo>
                    <a:pt x="2072" y="238"/>
                  </a:lnTo>
                  <a:lnTo>
                    <a:pt x="2067" y="243"/>
                  </a:lnTo>
                  <a:lnTo>
                    <a:pt x="2067" y="247"/>
                  </a:lnTo>
                  <a:lnTo>
                    <a:pt x="2062" y="252"/>
                  </a:lnTo>
                  <a:lnTo>
                    <a:pt x="2062" y="257"/>
                  </a:lnTo>
                  <a:lnTo>
                    <a:pt x="2057" y="262"/>
                  </a:lnTo>
                  <a:lnTo>
                    <a:pt x="2052" y="267"/>
                  </a:lnTo>
                  <a:lnTo>
                    <a:pt x="2048" y="267"/>
                  </a:lnTo>
                  <a:lnTo>
                    <a:pt x="2038" y="272"/>
                  </a:lnTo>
                  <a:lnTo>
                    <a:pt x="2028" y="277"/>
                  </a:lnTo>
                  <a:lnTo>
                    <a:pt x="2023" y="277"/>
                  </a:lnTo>
                  <a:lnTo>
                    <a:pt x="2018" y="272"/>
                  </a:lnTo>
                  <a:lnTo>
                    <a:pt x="2013" y="267"/>
                  </a:lnTo>
                  <a:lnTo>
                    <a:pt x="2008" y="262"/>
                  </a:lnTo>
                  <a:lnTo>
                    <a:pt x="1998" y="257"/>
                  </a:lnTo>
                  <a:lnTo>
                    <a:pt x="1993" y="257"/>
                  </a:lnTo>
                  <a:lnTo>
                    <a:pt x="1983" y="257"/>
                  </a:lnTo>
                  <a:lnTo>
                    <a:pt x="1973" y="257"/>
                  </a:lnTo>
                  <a:lnTo>
                    <a:pt x="1968" y="252"/>
                  </a:lnTo>
                  <a:lnTo>
                    <a:pt x="1963" y="252"/>
                  </a:lnTo>
                  <a:lnTo>
                    <a:pt x="1959" y="247"/>
                  </a:lnTo>
                  <a:lnTo>
                    <a:pt x="1954" y="243"/>
                  </a:lnTo>
                  <a:lnTo>
                    <a:pt x="1949" y="238"/>
                  </a:lnTo>
                  <a:lnTo>
                    <a:pt x="1944" y="233"/>
                  </a:lnTo>
                  <a:lnTo>
                    <a:pt x="1934" y="233"/>
                  </a:lnTo>
                  <a:lnTo>
                    <a:pt x="1929" y="238"/>
                  </a:lnTo>
                  <a:lnTo>
                    <a:pt x="1924" y="243"/>
                  </a:lnTo>
                  <a:lnTo>
                    <a:pt x="1919" y="247"/>
                  </a:lnTo>
                  <a:lnTo>
                    <a:pt x="1914" y="252"/>
                  </a:lnTo>
                  <a:lnTo>
                    <a:pt x="1909" y="252"/>
                  </a:lnTo>
                  <a:lnTo>
                    <a:pt x="1904" y="247"/>
                  </a:lnTo>
                  <a:lnTo>
                    <a:pt x="1904" y="238"/>
                  </a:lnTo>
                  <a:lnTo>
                    <a:pt x="1904" y="233"/>
                  </a:lnTo>
                  <a:lnTo>
                    <a:pt x="1904" y="228"/>
                  </a:lnTo>
                  <a:lnTo>
                    <a:pt x="1909" y="223"/>
                  </a:lnTo>
                  <a:lnTo>
                    <a:pt x="1909" y="218"/>
                  </a:lnTo>
                  <a:lnTo>
                    <a:pt x="1909" y="213"/>
                  </a:lnTo>
                  <a:lnTo>
                    <a:pt x="1899" y="208"/>
                  </a:lnTo>
                  <a:lnTo>
                    <a:pt x="1894" y="208"/>
                  </a:lnTo>
                  <a:lnTo>
                    <a:pt x="1884" y="208"/>
                  </a:lnTo>
                  <a:lnTo>
                    <a:pt x="1879" y="213"/>
                  </a:lnTo>
                  <a:lnTo>
                    <a:pt x="1874" y="218"/>
                  </a:lnTo>
                  <a:lnTo>
                    <a:pt x="1870" y="223"/>
                  </a:lnTo>
                  <a:lnTo>
                    <a:pt x="1865" y="228"/>
                  </a:lnTo>
                  <a:lnTo>
                    <a:pt x="1865" y="233"/>
                  </a:lnTo>
                  <a:lnTo>
                    <a:pt x="1855" y="233"/>
                  </a:lnTo>
                  <a:lnTo>
                    <a:pt x="1850" y="228"/>
                  </a:lnTo>
                  <a:lnTo>
                    <a:pt x="1845" y="223"/>
                  </a:lnTo>
                  <a:lnTo>
                    <a:pt x="1835" y="218"/>
                  </a:lnTo>
                  <a:lnTo>
                    <a:pt x="1830" y="213"/>
                  </a:lnTo>
                  <a:lnTo>
                    <a:pt x="1825" y="208"/>
                  </a:lnTo>
                  <a:lnTo>
                    <a:pt x="1820" y="203"/>
                  </a:lnTo>
                  <a:lnTo>
                    <a:pt x="1815" y="203"/>
                  </a:lnTo>
                  <a:lnTo>
                    <a:pt x="1805" y="203"/>
                  </a:lnTo>
                  <a:lnTo>
                    <a:pt x="1800" y="203"/>
                  </a:lnTo>
                  <a:lnTo>
                    <a:pt x="1790" y="208"/>
                  </a:lnTo>
                  <a:lnTo>
                    <a:pt x="1785" y="208"/>
                  </a:lnTo>
                  <a:lnTo>
                    <a:pt x="1776" y="208"/>
                  </a:lnTo>
                  <a:lnTo>
                    <a:pt x="1771" y="203"/>
                  </a:lnTo>
                  <a:lnTo>
                    <a:pt x="1766" y="198"/>
                  </a:lnTo>
                  <a:lnTo>
                    <a:pt x="1761" y="193"/>
                  </a:lnTo>
                  <a:lnTo>
                    <a:pt x="1756" y="188"/>
                  </a:lnTo>
                  <a:lnTo>
                    <a:pt x="1746" y="183"/>
                  </a:lnTo>
                  <a:lnTo>
                    <a:pt x="1741" y="183"/>
                  </a:lnTo>
                  <a:lnTo>
                    <a:pt x="1731" y="183"/>
                  </a:lnTo>
                  <a:lnTo>
                    <a:pt x="1721" y="183"/>
                  </a:lnTo>
                  <a:lnTo>
                    <a:pt x="1716" y="183"/>
                  </a:lnTo>
                  <a:lnTo>
                    <a:pt x="1706" y="183"/>
                  </a:lnTo>
                  <a:lnTo>
                    <a:pt x="1701" y="178"/>
                  </a:lnTo>
                  <a:lnTo>
                    <a:pt x="1691" y="178"/>
                  </a:lnTo>
                  <a:lnTo>
                    <a:pt x="1687" y="173"/>
                  </a:lnTo>
                  <a:lnTo>
                    <a:pt x="1682" y="168"/>
                  </a:lnTo>
                  <a:lnTo>
                    <a:pt x="1677" y="163"/>
                  </a:lnTo>
                  <a:lnTo>
                    <a:pt x="1672" y="159"/>
                  </a:lnTo>
                  <a:lnTo>
                    <a:pt x="1662" y="159"/>
                  </a:lnTo>
                  <a:lnTo>
                    <a:pt x="1652" y="159"/>
                  </a:lnTo>
                  <a:lnTo>
                    <a:pt x="1647" y="159"/>
                  </a:lnTo>
                  <a:lnTo>
                    <a:pt x="1637" y="159"/>
                  </a:lnTo>
                  <a:lnTo>
                    <a:pt x="1632" y="163"/>
                  </a:lnTo>
                  <a:lnTo>
                    <a:pt x="1627" y="168"/>
                  </a:lnTo>
                  <a:lnTo>
                    <a:pt x="1622" y="173"/>
                  </a:lnTo>
                  <a:lnTo>
                    <a:pt x="1622" y="183"/>
                  </a:lnTo>
                  <a:lnTo>
                    <a:pt x="1622" y="183"/>
                  </a:lnTo>
                  <a:lnTo>
                    <a:pt x="1622" y="183"/>
                  </a:lnTo>
                  <a:lnTo>
                    <a:pt x="1622" y="178"/>
                  </a:lnTo>
                  <a:lnTo>
                    <a:pt x="1617" y="173"/>
                  </a:lnTo>
                  <a:lnTo>
                    <a:pt x="1617" y="163"/>
                  </a:lnTo>
                  <a:lnTo>
                    <a:pt x="1612" y="159"/>
                  </a:lnTo>
                  <a:lnTo>
                    <a:pt x="1602" y="159"/>
                  </a:lnTo>
                  <a:lnTo>
                    <a:pt x="1593" y="159"/>
                  </a:lnTo>
                  <a:lnTo>
                    <a:pt x="1588" y="159"/>
                  </a:lnTo>
                  <a:lnTo>
                    <a:pt x="1583" y="163"/>
                  </a:lnTo>
                  <a:lnTo>
                    <a:pt x="1578" y="168"/>
                  </a:lnTo>
                  <a:lnTo>
                    <a:pt x="1578" y="173"/>
                  </a:lnTo>
                  <a:lnTo>
                    <a:pt x="1583" y="183"/>
                  </a:lnTo>
                  <a:lnTo>
                    <a:pt x="1588" y="183"/>
                  </a:lnTo>
                  <a:lnTo>
                    <a:pt x="1598" y="188"/>
                  </a:lnTo>
                  <a:lnTo>
                    <a:pt x="1602" y="188"/>
                  </a:lnTo>
                  <a:lnTo>
                    <a:pt x="1612" y="188"/>
                  </a:lnTo>
                  <a:lnTo>
                    <a:pt x="1622" y="188"/>
                  </a:lnTo>
                  <a:lnTo>
                    <a:pt x="1627" y="188"/>
                  </a:lnTo>
                  <a:lnTo>
                    <a:pt x="1632" y="193"/>
                  </a:lnTo>
                  <a:lnTo>
                    <a:pt x="1637" y="198"/>
                  </a:lnTo>
                  <a:lnTo>
                    <a:pt x="1637" y="203"/>
                  </a:lnTo>
                  <a:lnTo>
                    <a:pt x="1642" y="208"/>
                  </a:lnTo>
                  <a:lnTo>
                    <a:pt x="1647" y="213"/>
                  </a:lnTo>
                  <a:lnTo>
                    <a:pt x="1652" y="218"/>
                  </a:lnTo>
                  <a:lnTo>
                    <a:pt x="1657" y="223"/>
                  </a:lnTo>
                  <a:lnTo>
                    <a:pt x="1662" y="228"/>
                  </a:lnTo>
                  <a:lnTo>
                    <a:pt x="1667" y="233"/>
                  </a:lnTo>
                  <a:lnTo>
                    <a:pt x="1672" y="238"/>
                  </a:lnTo>
                  <a:lnTo>
                    <a:pt x="1677" y="243"/>
                  </a:lnTo>
                  <a:lnTo>
                    <a:pt x="1677" y="247"/>
                  </a:lnTo>
                  <a:lnTo>
                    <a:pt x="1687" y="247"/>
                  </a:lnTo>
                  <a:lnTo>
                    <a:pt x="1691" y="252"/>
                  </a:lnTo>
                  <a:lnTo>
                    <a:pt x="1696" y="257"/>
                  </a:lnTo>
                  <a:lnTo>
                    <a:pt x="1701" y="262"/>
                  </a:lnTo>
                  <a:lnTo>
                    <a:pt x="1701" y="267"/>
                  </a:lnTo>
                  <a:lnTo>
                    <a:pt x="1696" y="272"/>
                  </a:lnTo>
                  <a:lnTo>
                    <a:pt x="1691" y="277"/>
                  </a:lnTo>
                  <a:lnTo>
                    <a:pt x="1682" y="282"/>
                  </a:lnTo>
                  <a:lnTo>
                    <a:pt x="1677" y="282"/>
                  </a:lnTo>
                  <a:lnTo>
                    <a:pt x="1672" y="277"/>
                  </a:lnTo>
                  <a:lnTo>
                    <a:pt x="1667" y="272"/>
                  </a:lnTo>
                  <a:lnTo>
                    <a:pt x="1662" y="267"/>
                  </a:lnTo>
                  <a:lnTo>
                    <a:pt x="1657" y="262"/>
                  </a:lnTo>
                  <a:lnTo>
                    <a:pt x="1652" y="257"/>
                  </a:lnTo>
                  <a:lnTo>
                    <a:pt x="1647" y="257"/>
                  </a:lnTo>
                  <a:lnTo>
                    <a:pt x="1642" y="252"/>
                  </a:lnTo>
                  <a:lnTo>
                    <a:pt x="1637" y="247"/>
                  </a:lnTo>
                  <a:lnTo>
                    <a:pt x="1632" y="243"/>
                  </a:lnTo>
                  <a:lnTo>
                    <a:pt x="1627" y="238"/>
                  </a:lnTo>
                  <a:lnTo>
                    <a:pt x="1622" y="233"/>
                  </a:lnTo>
                  <a:lnTo>
                    <a:pt x="1617" y="233"/>
                  </a:lnTo>
                  <a:lnTo>
                    <a:pt x="1607" y="233"/>
                  </a:lnTo>
                  <a:lnTo>
                    <a:pt x="1598" y="233"/>
                  </a:lnTo>
                  <a:lnTo>
                    <a:pt x="1588" y="233"/>
                  </a:lnTo>
                  <a:lnTo>
                    <a:pt x="1578" y="233"/>
                  </a:lnTo>
                  <a:lnTo>
                    <a:pt x="1573" y="238"/>
                  </a:lnTo>
                  <a:lnTo>
                    <a:pt x="1568" y="238"/>
                  </a:lnTo>
                  <a:lnTo>
                    <a:pt x="1563" y="243"/>
                  </a:lnTo>
                  <a:lnTo>
                    <a:pt x="1558" y="247"/>
                  </a:lnTo>
                  <a:lnTo>
                    <a:pt x="1553" y="252"/>
                  </a:lnTo>
                  <a:lnTo>
                    <a:pt x="1543" y="257"/>
                  </a:lnTo>
                  <a:lnTo>
                    <a:pt x="1538" y="257"/>
                  </a:lnTo>
                  <a:lnTo>
                    <a:pt x="1528" y="257"/>
                  </a:lnTo>
                  <a:lnTo>
                    <a:pt x="1518" y="262"/>
                  </a:lnTo>
                  <a:lnTo>
                    <a:pt x="1513" y="262"/>
                  </a:lnTo>
                  <a:lnTo>
                    <a:pt x="1504" y="262"/>
                  </a:lnTo>
                  <a:lnTo>
                    <a:pt x="1499" y="267"/>
                  </a:lnTo>
                  <a:lnTo>
                    <a:pt x="1489" y="267"/>
                  </a:lnTo>
                  <a:lnTo>
                    <a:pt x="1484" y="272"/>
                  </a:lnTo>
                  <a:lnTo>
                    <a:pt x="1479" y="277"/>
                  </a:lnTo>
                  <a:lnTo>
                    <a:pt x="1474" y="282"/>
                  </a:lnTo>
                  <a:lnTo>
                    <a:pt x="1464" y="282"/>
                  </a:lnTo>
                  <a:lnTo>
                    <a:pt x="1459" y="287"/>
                  </a:lnTo>
                  <a:lnTo>
                    <a:pt x="1449" y="287"/>
                  </a:lnTo>
                  <a:lnTo>
                    <a:pt x="1439" y="287"/>
                  </a:lnTo>
                  <a:lnTo>
                    <a:pt x="1434" y="292"/>
                  </a:lnTo>
                  <a:lnTo>
                    <a:pt x="1429" y="297"/>
                  </a:lnTo>
                  <a:lnTo>
                    <a:pt x="1424" y="302"/>
                  </a:lnTo>
                  <a:lnTo>
                    <a:pt x="1419" y="302"/>
                  </a:lnTo>
                  <a:lnTo>
                    <a:pt x="1410" y="307"/>
                  </a:lnTo>
                  <a:lnTo>
                    <a:pt x="1405" y="307"/>
                  </a:lnTo>
                  <a:lnTo>
                    <a:pt x="1395" y="307"/>
                  </a:lnTo>
                  <a:lnTo>
                    <a:pt x="1385" y="307"/>
                  </a:lnTo>
                  <a:lnTo>
                    <a:pt x="1380" y="312"/>
                  </a:lnTo>
                  <a:lnTo>
                    <a:pt x="1370" y="312"/>
                  </a:lnTo>
                  <a:lnTo>
                    <a:pt x="1365" y="312"/>
                  </a:lnTo>
                  <a:lnTo>
                    <a:pt x="1355" y="317"/>
                  </a:lnTo>
                  <a:lnTo>
                    <a:pt x="1350" y="322"/>
                  </a:lnTo>
                  <a:lnTo>
                    <a:pt x="1340" y="322"/>
                  </a:lnTo>
                  <a:lnTo>
                    <a:pt x="1335" y="327"/>
                  </a:lnTo>
                  <a:lnTo>
                    <a:pt x="1326" y="327"/>
                  </a:lnTo>
                  <a:lnTo>
                    <a:pt x="1321" y="327"/>
                  </a:lnTo>
                  <a:lnTo>
                    <a:pt x="1311" y="327"/>
                  </a:lnTo>
                  <a:lnTo>
                    <a:pt x="1301" y="322"/>
                  </a:lnTo>
                  <a:lnTo>
                    <a:pt x="1296" y="322"/>
                  </a:lnTo>
                  <a:close/>
                  <a:moveTo>
                    <a:pt x="925" y="238"/>
                  </a:moveTo>
                  <a:lnTo>
                    <a:pt x="930" y="238"/>
                  </a:lnTo>
                  <a:lnTo>
                    <a:pt x="930" y="233"/>
                  </a:lnTo>
                  <a:lnTo>
                    <a:pt x="935" y="233"/>
                  </a:lnTo>
                  <a:lnTo>
                    <a:pt x="935" y="233"/>
                  </a:lnTo>
                  <a:lnTo>
                    <a:pt x="940" y="228"/>
                  </a:lnTo>
                  <a:lnTo>
                    <a:pt x="945" y="228"/>
                  </a:lnTo>
                  <a:lnTo>
                    <a:pt x="945" y="223"/>
                  </a:lnTo>
                  <a:lnTo>
                    <a:pt x="950" y="223"/>
                  </a:lnTo>
                  <a:lnTo>
                    <a:pt x="950" y="218"/>
                  </a:lnTo>
                  <a:lnTo>
                    <a:pt x="955" y="218"/>
                  </a:lnTo>
                  <a:lnTo>
                    <a:pt x="955" y="213"/>
                  </a:lnTo>
                  <a:lnTo>
                    <a:pt x="960" y="213"/>
                  </a:lnTo>
                  <a:lnTo>
                    <a:pt x="955" y="213"/>
                  </a:lnTo>
                  <a:lnTo>
                    <a:pt x="950" y="218"/>
                  </a:lnTo>
                  <a:lnTo>
                    <a:pt x="950" y="218"/>
                  </a:lnTo>
                  <a:lnTo>
                    <a:pt x="945" y="223"/>
                  </a:lnTo>
                  <a:lnTo>
                    <a:pt x="945" y="223"/>
                  </a:lnTo>
                  <a:lnTo>
                    <a:pt x="945" y="228"/>
                  </a:lnTo>
                  <a:lnTo>
                    <a:pt x="940" y="228"/>
                  </a:lnTo>
                  <a:lnTo>
                    <a:pt x="940" y="233"/>
                  </a:lnTo>
                  <a:lnTo>
                    <a:pt x="940" y="233"/>
                  </a:lnTo>
                  <a:lnTo>
                    <a:pt x="935" y="238"/>
                  </a:lnTo>
                  <a:lnTo>
                    <a:pt x="935" y="243"/>
                  </a:lnTo>
                  <a:lnTo>
                    <a:pt x="930" y="243"/>
                  </a:lnTo>
                  <a:lnTo>
                    <a:pt x="930" y="243"/>
                  </a:lnTo>
                  <a:lnTo>
                    <a:pt x="925" y="238"/>
                  </a:lnTo>
                  <a:close/>
                  <a:moveTo>
                    <a:pt x="1296" y="238"/>
                  </a:moveTo>
                  <a:lnTo>
                    <a:pt x="1296" y="238"/>
                  </a:lnTo>
                  <a:lnTo>
                    <a:pt x="1301" y="233"/>
                  </a:lnTo>
                  <a:lnTo>
                    <a:pt x="1301" y="233"/>
                  </a:lnTo>
                  <a:lnTo>
                    <a:pt x="1306" y="233"/>
                  </a:lnTo>
                  <a:lnTo>
                    <a:pt x="1316" y="233"/>
                  </a:lnTo>
                  <a:lnTo>
                    <a:pt x="1321" y="238"/>
                  </a:lnTo>
                  <a:lnTo>
                    <a:pt x="1321" y="238"/>
                  </a:lnTo>
                  <a:lnTo>
                    <a:pt x="1321" y="243"/>
                  </a:lnTo>
                  <a:lnTo>
                    <a:pt x="1316" y="243"/>
                  </a:lnTo>
                  <a:lnTo>
                    <a:pt x="1311" y="247"/>
                  </a:lnTo>
                  <a:lnTo>
                    <a:pt x="1306" y="247"/>
                  </a:lnTo>
                  <a:lnTo>
                    <a:pt x="1301" y="247"/>
                  </a:lnTo>
                  <a:lnTo>
                    <a:pt x="1296" y="243"/>
                  </a:lnTo>
                  <a:lnTo>
                    <a:pt x="1296" y="238"/>
                  </a:lnTo>
                  <a:close/>
                  <a:moveTo>
                    <a:pt x="1474" y="238"/>
                  </a:moveTo>
                  <a:lnTo>
                    <a:pt x="1474" y="233"/>
                  </a:lnTo>
                  <a:lnTo>
                    <a:pt x="1479" y="228"/>
                  </a:lnTo>
                  <a:lnTo>
                    <a:pt x="1484" y="223"/>
                  </a:lnTo>
                  <a:lnTo>
                    <a:pt x="1484" y="218"/>
                  </a:lnTo>
                  <a:lnTo>
                    <a:pt x="1479" y="213"/>
                  </a:lnTo>
                  <a:lnTo>
                    <a:pt x="1474" y="213"/>
                  </a:lnTo>
                  <a:lnTo>
                    <a:pt x="1464" y="208"/>
                  </a:lnTo>
                  <a:lnTo>
                    <a:pt x="1454" y="208"/>
                  </a:lnTo>
                  <a:lnTo>
                    <a:pt x="1449" y="213"/>
                  </a:lnTo>
                  <a:lnTo>
                    <a:pt x="1439" y="213"/>
                  </a:lnTo>
                  <a:lnTo>
                    <a:pt x="1434" y="218"/>
                  </a:lnTo>
                  <a:lnTo>
                    <a:pt x="1434" y="223"/>
                  </a:lnTo>
                  <a:lnTo>
                    <a:pt x="1429" y="228"/>
                  </a:lnTo>
                  <a:lnTo>
                    <a:pt x="1429" y="233"/>
                  </a:lnTo>
                  <a:lnTo>
                    <a:pt x="1434" y="238"/>
                  </a:lnTo>
                  <a:lnTo>
                    <a:pt x="1439" y="243"/>
                  </a:lnTo>
                  <a:lnTo>
                    <a:pt x="1449" y="243"/>
                  </a:lnTo>
                  <a:lnTo>
                    <a:pt x="1459" y="243"/>
                  </a:lnTo>
                  <a:lnTo>
                    <a:pt x="1464" y="243"/>
                  </a:lnTo>
                  <a:lnTo>
                    <a:pt x="1474" y="238"/>
                  </a:lnTo>
                  <a:close/>
                  <a:moveTo>
                    <a:pt x="1543" y="213"/>
                  </a:moveTo>
                  <a:lnTo>
                    <a:pt x="1543" y="208"/>
                  </a:lnTo>
                  <a:lnTo>
                    <a:pt x="1543" y="208"/>
                  </a:lnTo>
                  <a:lnTo>
                    <a:pt x="1543" y="203"/>
                  </a:lnTo>
                  <a:lnTo>
                    <a:pt x="1543" y="198"/>
                  </a:lnTo>
                  <a:lnTo>
                    <a:pt x="1543" y="193"/>
                  </a:lnTo>
                  <a:lnTo>
                    <a:pt x="1543" y="188"/>
                  </a:lnTo>
                  <a:lnTo>
                    <a:pt x="1538" y="188"/>
                  </a:lnTo>
                  <a:lnTo>
                    <a:pt x="1533" y="183"/>
                  </a:lnTo>
                  <a:lnTo>
                    <a:pt x="1528" y="183"/>
                  </a:lnTo>
                  <a:lnTo>
                    <a:pt x="1523" y="183"/>
                  </a:lnTo>
                  <a:lnTo>
                    <a:pt x="1518" y="183"/>
                  </a:lnTo>
                  <a:lnTo>
                    <a:pt x="1508" y="183"/>
                  </a:lnTo>
                  <a:lnTo>
                    <a:pt x="1508" y="188"/>
                  </a:lnTo>
                  <a:lnTo>
                    <a:pt x="1504" y="193"/>
                  </a:lnTo>
                  <a:lnTo>
                    <a:pt x="1499" y="193"/>
                  </a:lnTo>
                  <a:lnTo>
                    <a:pt x="1499" y="198"/>
                  </a:lnTo>
                  <a:lnTo>
                    <a:pt x="1499" y="203"/>
                  </a:lnTo>
                  <a:lnTo>
                    <a:pt x="1504" y="208"/>
                  </a:lnTo>
                  <a:lnTo>
                    <a:pt x="1508" y="213"/>
                  </a:lnTo>
                  <a:lnTo>
                    <a:pt x="1508" y="213"/>
                  </a:lnTo>
                  <a:lnTo>
                    <a:pt x="1518" y="213"/>
                  </a:lnTo>
                  <a:lnTo>
                    <a:pt x="1523" y="213"/>
                  </a:lnTo>
                  <a:lnTo>
                    <a:pt x="1528" y="218"/>
                  </a:lnTo>
                  <a:lnTo>
                    <a:pt x="1533" y="218"/>
                  </a:lnTo>
                  <a:lnTo>
                    <a:pt x="1538" y="218"/>
                  </a:lnTo>
                  <a:lnTo>
                    <a:pt x="1543" y="213"/>
                  </a:lnTo>
                  <a:close/>
                  <a:moveTo>
                    <a:pt x="2181" y="213"/>
                  </a:moveTo>
                  <a:lnTo>
                    <a:pt x="2181" y="213"/>
                  </a:lnTo>
                  <a:lnTo>
                    <a:pt x="2181" y="213"/>
                  </a:lnTo>
                  <a:lnTo>
                    <a:pt x="2181" y="213"/>
                  </a:lnTo>
                  <a:lnTo>
                    <a:pt x="2181" y="213"/>
                  </a:lnTo>
                  <a:lnTo>
                    <a:pt x="2181" y="213"/>
                  </a:lnTo>
                  <a:lnTo>
                    <a:pt x="2181" y="213"/>
                  </a:lnTo>
                  <a:lnTo>
                    <a:pt x="2181" y="213"/>
                  </a:lnTo>
                  <a:lnTo>
                    <a:pt x="2181" y="213"/>
                  </a:lnTo>
                  <a:lnTo>
                    <a:pt x="2181" y="218"/>
                  </a:lnTo>
                  <a:lnTo>
                    <a:pt x="2181" y="218"/>
                  </a:lnTo>
                  <a:lnTo>
                    <a:pt x="2181" y="218"/>
                  </a:lnTo>
                  <a:lnTo>
                    <a:pt x="2181" y="213"/>
                  </a:lnTo>
                  <a:lnTo>
                    <a:pt x="2181" y="213"/>
                  </a:lnTo>
                  <a:lnTo>
                    <a:pt x="2181" y="213"/>
                  </a:lnTo>
                  <a:close/>
                  <a:moveTo>
                    <a:pt x="994" y="188"/>
                  </a:moveTo>
                  <a:lnTo>
                    <a:pt x="999" y="178"/>
                  </a:lnTo>
                  <a:lnTo>
                    <a:pt x="1004" y="178"/>
                  </a:lnTo>
                  <a:lnTo>
                    <a:pt x="1009" y="173"/>
                  </a:lnTo>
                  <a:lnTo>
                    <a:pt x="1014" y="173"/>
                  </a:lnTo>
                  <a:lnTo>
                    <a:pt x="1019" y="178"/>
                  </a:lnTo>
                  <a:lnTo>
                    <a:pt x="1019" y="183"/>
                  </a:lnTo>
                  <a:lnTo>
                    <a:pt x="1024" y="188"/>
                  </a:lnTo>
                  <a:lnTo>
                    <a:pt x="1019" y="193"/>
                  </a:lnTo>
                  <a:lnTo>
                    <a:pt x="1014" y="198"/>
                  </a:lnTo>
                  <a:lnTo>
                    <a:pt x="1009" y="198"/>
                  </a:lnTo>
                  <a:lnTo>
                    <a:pt x="1009" y="198"/>
                  </a:lnTo>
                  <a:lnTo>
                    <a:pt x="1004" y="198"/>
                  </a:lnTo>
                  <a:lnTo>
                    <a:pt x="999" y="193"/>
                  </a:lnTo>
                  <a:lnTo>
                    <a:pt x="994" y="188"/>
                  </a:lnTo>
                  <a:close/>
                  <a:moveTo>
                    <a:pt x="1187" y="188"/>
                  </a:moveTo>
                  <a:lnTo>
                    <a:pt x="1192" y="183"/>
                  </a:lnTo>
                  <a:lnTo>
                    <a:pt x="1197" y="178"/>
                  </a:lnTo>
                  <a:lnTo>
                    <a:pt x="1207" y="173"/>
                  </a:lnTo>
                  <a:lnTo>
                    <a:pt x="1212" y="173"/>
                  </a:lnTo>
                  <a:lnTo>
                    <a:pt x="1222" y="168"/>
                  </a:lnTo>
                  <a:lnTo>
                    <a:pt x="1232" y="173"/>
                  </a:lnTo>
                  <a:lnTo>
                    <a:pt x="1236" y="178"/>
                  </a:lnTo>
                  <a:lnTo>
                    <a:pt x="1241" y="183"/>
                  </a:lnTo>
                  <a:lnTo>
                    <a:pt x="1241" y="188"/>
                  </a:lnTo>
                  <a:lnTo>
                    <a:pt x="1241" y="193"/>
                  </a:lnTo>
                  <a:lnTo>
                    <a:pt x="1236" y="203"/>
                  </a:lnTo>
                  <a:lnTo>
                    <a:pt x="1232" y="208"/>
                  </a:lnTo>
                  <a:lnTo>
                    <a:pt x="1227" y="208"/>
                  </a:lnTo>
                  <a:lnTo>
                    <a:pt x="1222" y="213"/>
                  </a:lnTo>
                  <a:lnTo>
                    <a:pt x="1212" y="208"/>
                  </a:lnTo>
                  <a:lnTo>
                    <a:pt x="1207" y="208"/>
                  </a:lnTo>
                  <a:lnTo>
                    <a:pt x="1197" y="203"/>
                  </a:lnTo>
                  <a:lnTo>
                    <a:pt x="1192" y="198"/>
                  </a:lnTo>
                  <a:lnTo>
                    <a:pt x="1192" y="193"/>
                  </a:lnTo>
                  <a:lnTo>
                    <a:pt x="1187" y="188"/>
                  </a:lnTo>
                  <a:close/>
                  <a:moveTo>
                    <a:pt x="1301" y="188"/>
                  </a:moveTo>
                  <a:lnTo>
                    <a:pt x="1296" y="183"/>
                  </a:lnTo>
                  <a:lnTo>
                    <a:pt x="1291" y="178"/>
                  </a:lnTo>
                  <a:lnTo>
                    <a:pt x="1286" y="178"/>
                  </a:lnTo>
                  <a:lnTo>
                    <a:pt x="1281" y="173"/>
                  </a:lnTo>
                  <a:lnTo>
                    <a:pt x="1276" y="168"/>
                  </a:lnTo>
                  <a:lnTo>
                    <a:pt x="1271" y="163"/>
                  </a:lnTo>
                  <a:lnTo>
                    <a:pt x="1271" y="159"/>
                  </a:lnTo>
                  <a:lnTo>
                    <a:pt x="1276" y="159"/>
                  </a:lnTo>
                  <a:lnTo>
                    <a:pt x="1281" y="154"/>
                  </a:lnTo>
                  <a:lnTo>
                    <a:pt x="1286" y="149"/>
                  </a:lnTo>
                  <a:lnTo>
                    <a:pt x="1291" y="144"/>
                  </a:lnTo>
                  <a:lnTo>
                    <a:pt x="1296" y="139"/>
                  </a:lnTo>
                  <a:lnTo>
                    <a:pt x="1301" y="139"/>
                  </a:lnTo>
                  <a:lnTo>
                    <a:pt x="1306" y="139"/>
                  </a:lnTo>
                  <a:lnTo>
                    <a:pt x="1311" y="139"/>
                  </a:lnTo>
                  <a:lnTo>
                    <a:pt x="1316" y="144"/>
                  </a:lnTo>
                  <a:lnTo>
                    <a:pt x="1321" y="149"/>
                  </a:lnTo>
                  <a:lnTo>
                    <a:pt x="1326" y="154"/>
                  </a:lnTo>
                  <a:lnTo>
                    <a:pt x="1326" y="159"/>
                  </a:lnTo>
                  <a:lnTo>
                    <a:pt x="1326" y="163"/>
                  </a:lnTo>
                  <a:lnTo>
                    <a:pt x="1326" y="168"/>
                  </a:lnTo>
                  <a:lnTo>
                    <a:pt x="1321" y="173"/>
                  </a:lnTo>
                  <a:lnTo>
                    <a:pt x="1321" y="178"/>
                  </a:lnTo>
                  <a:lnTo>
                    <a:pt x="1316" y="183"/>
                  </a:lnTo>
                  <a:lnTo>
                    <a:pt x="1306" y="183"/>
                  </a:lnTo>
                  <a:lnTo>
                    <a:pt x="1301" y="188"/>
                  </a:lnTo>
                  <a:close/>
                  <a:moveTo>
                    <a:pt x="1865" y="188"/>
                  </a:moveTo>
                  <a:lnTo>
                    <a:pt x="1860" y="183"/>
                  </a:lnTo>
                  <a:lnTo>
                    <a:pt x="1855" y="183"/>
                  </a:lnTo>
                  <a:lnTo>
                    <a:pt x="1845" y="183"/>
                  </a:lnTo>
                  <a:lnTo>
                    <a:pt x="1840" y="183"/>
                  </a:lnTo>
                  <a:lnTo>
                    <a:pt x="1830" y="183"/>
                  </a:lnTo>
                  <a:lnTo>
                    <a:pt x="1825" y="183"/>
                  </a:lnTo>
                  <a:lnTo>
                    <a:pt x="1820" y="188"/>
                  </a:lnTo>
                  <a:lnTo>
                    <a:pt x="1820" y="188"/>
                  </a:lnTo>
                  <a:lnTo>
                    <a:pt x="1820" y="193"/>
                  </a:lnTo>
                  <a:lnTo>
                    <a:pt x="1820" y="203"/>
                  </a:lnTo>
                  <a:lnTo>
                    <a:pt x="1825" y="203"/>
                  </a:lnTo>
                  <a:lnTo>
                    <a:pt x="1830" y="208"/>
                  </a:lnTo>
                  <a:lnTo>
                    <a:pt x="1835" y="213"/>
                  </a:lnTo>
                  <a:lnTo>
                    <a:pt x="1840" y="208"/>
                  </a:lnTo>
                  <a:lnTo>
                    <a:pt x="1845" y="208"/>
                  </a:lnTo>
                  <a:lnTo>
                    <a:pt x="1850" y="203"/>
                  </a:lnTo>
                  <a:lnTo>
                    <a:pt x="1855" y="198"/>
                  </a:lnTo>
                  <a:lnTo>
                    <a:pt x="1860" y="193"/>
                  </a:lnTo>
                  <a:lnTo>
                    <a:pt x="1860" y="188"/>
                  </a:lnTo>
                  <a:lnTo>
                    <a:pt x="1865" y="188"/>
                  </a:lnTo>
                  <a:close/>
                  <a:moveTo>
                    <a:pt x="1810" y="159"/>
                  </a:moveTo>
                  <a:lnTo>
                    <a:pt x="1805" y="159"/>
                  </a:lnTo>
                  <a:lnTo>
                    <a:pt x="1800" y="154"/>
                  </a:lnTo>
                  <a:lnTo>
                    <a:pt x="1795" y="154"/>
                  </a:lnTo>
                  <a:lnTo>
                    <a:pt x="1790" y="154"/>
                  </a:lnTo>
                  <a:lnTo>
                    <a:pt x="1785" y="154"/>
                  </a:lnTo>
                  <a:lnTo>
                    <a:pt x="1776" y="159"/>
                  </a:lnTo>
                  <a:lnTo>
                    <a:pt x="1771" y="159"/>
                  </a:lnTo>
                  <a:lnTo>
                    <a:pt x="1766" y="159"/>
                  </a:lnTo>
                  <a:lnTo>
                    <a:pt x="1761" y="159"/>
                  </a:lnTo>
                  <a:lnTo>
                    <a:pt x="1761" y="159"/>
                  </a:lnTo>
                  <a:lnTo>
                    <a:pt x="1766" y="163"/>
                  </a:lnTo>
                  <a:lnTo>
                    <a:pt x="1771" y="163"/>
                  </a:lnTo>
                  <a:lnTo>
                    <a:pt x="1780" y="168"/>
                  </a:lnTo>
                  <a:lnTo>
                    <a:pt x="1785" y="168"/>
                  </a:lnTo>
                  <a:lnTo>
                    <a:pt x="1790" y="168"/>
                  </a:lnTo>
                  <a:lnTo>
                    <a:pt x="1800" y="168"/>
                  </a:lnTo>
                  <a:lnTo>
                    <a:pt x="1805" y="168"/>
                  </a:lnTo>
                  <a:lnTo>
                    <a:pt x="1805" y="168"/>
                  </a:lnTo>
                  <a:lnTo>
                    <a:pt x="1810" y="163"/>
                  </a:lnTo>
                  <a:lnTo>
                    <a:pt x="1810" y="159"/>
                  </a:lnTo>
                  <a:close/>
                  <a:moveTo>
                    <a:pt x="1553" y="134"/>
                  </a:moveTo>
                  <a:lnTo>
                    <a:pt x="1553" y="129"/>
                  </a:lnTo>
                  <a:lnTo>
                    <a:pt x="1548" y="124"/>
                  </a:lnTo>
                  <a:lnTo>
                    <a:pt x="1543" y="119"/>
                  </a:lnTo>
                  <a:lnTo>
                    <a:pt x="1538" y="114"/>
                  </a:lnTo>
                  <a:lnTo>
                    <a:pt x="1533" y="114"/>
                  </a:lnTo>
                  <a:lnTo>
                    <a:pt x="1523" y="114"/>
                  </a:lnTo>
                  <a:lnTo>
                    <a:pt x="1518" y="114"/>
                  </a:lnTo>
                  <a:lnTo>
                    <a:pt x="1508" y="114"/>
                  </a:lnTo>
                  <a:lnTo>
                    <a:pt x="1499" y="119"/>
                  </a:lnTo>
                  <a:lnTo>
                    <a:pt x="1494" y="124"/>
                  </a:lnTo>
                  <a:lnTo>
                    <a:pt x="1494" y="129"/>
                  </a:lnTo>
                  <a:lnTo>
                    <a:pt x="1494" y="134"/>
                  </a:lnTo>
                  <a:lnTo>
                    <a:pt x="1499" y="134"/>
                  </a:lnTo>
                  <a:lnTo>
                    <a:pt x="1508" y="139"/>
                  </a:lnTo>
                  <a:lnTo>
                    <a:pt x="1518" y="139"/>
                  </a:lnTo>
                  <a:lnTo>
                    <a:pt x="1523" y="139"/>
                  </a:lnTo>
                  <a:lnTo>
                    <a:pt x="1533" y="139"/>
                  </a:lnTo>
                  <a:lnTo>
                    <a:pt x="1538" y="139"/>
                  </a:lnTo>
                  <a:lnTo>
                    <a:pt x="1548" y="139"/>
                  </a:lnTo>
                  <a:lnTo>
                    <a:pt x="1553" y="134"/>
                  </a:lnTo>
                  <a:close/>
                  <a:moveTo>
                    <a:pt x="1756" y="134"/>
                  </a:moveTo>
                  <a:lnTo>
                    <a:pt x="1751" y="129"/>
                  </a:lnTo>
                  <a:lnTo>
                    <a:pt x="1746" y="129"/>
                  </a:lnTo>
                  <a:lnTo>
                    <a:pt x="1741" y="129"/>
                  </a:lnTo>
                  <a:lnTo>
                    <a:pt x="1736" y="129"/>
                  </a:lnTo>
                  <a:lnTo>
                    <a:pt x="1726" y="129"/>
                  </a:lnTo>
                  <a:lnTo>
                    <a:pt x="1716" y="129"/>
                  </a:lnTo>
                  <a:lnTo>
                    <a:pt x="1711" y="129"/>
                  </a:lnTo>
                  <a:lnTo>
                    <a:pt x="1706" y="134"/>
                  </a:lnTo>
                  <a:lnTo>
                    <a:pt x="1706" y="134"/>
                  </a:lnTo>
                  <a:lnTo>
                    <a:pt x="1706" y="134"/>
                  </a:lnTo>
                  <a:lnTo>
                    <a:pt x="1711" y="134"/>
                  </a:lnTo>
                  <a:lnTo>
                    <a:pt x="1721" y="134"/>
                  </a:lnTo>
                  <a:lnTo>
                    <a:pt x="1731" y="139"/>
                  </a:lnTo>
                  <a:lnTo>
                    <a:pt x="1736" y="139"/>
                  </a:lnTo>
                  <a:lnTo>
                    <a:pt x="1746" y="144"/>
                  </a:lnTo>
                  <a:lnTo>
                    <a:pt x="1751" y="144"/>
                  </a:lnTo>
                  <a:lnTo>
                    <a:pt x="1756" y="144"/>
                  </a:lnTo>
                  <a:lnTo>
                    <a:pt x="1756" y="144"/>
                  </a:lnTo>
                  <a:lnTo>
                    <a:pt x="1756" y="139"/>
                  </a:lnTo>
                  <a:lnTo>
                    <a:pt x="1756" y="134"/>
                  </a:lnTo>
                  <a:close/>
                  <a:moveTo>
                    <a:pt x="1617" y="104"/>
                  </a:moveTo>
                  <a:lnTo>
                    <a:pt x="1612" y="99"/>
                  </a:lnTo>
                  <a:lnTo>
                    <a:pt x="1607" y="94"/>
                  </a:lnTo>
                  <a:lnTo>
                    <a:pt x="1602" y="89"/>
                  </a:lnTo>
                  <a:lnTo>
                    <a:pt x="1598" y="89"/>
                  </a:lnTo>
                  <a:lnTo>
                    <a:pt x="1593" y="89"/>
                  </a:lnTo>
                  <a:lnTo>
                    <a:pt x="1588" y="94"/>
                  </a:lnTo>
                  <a:lnTo>
                    <a:pt x="1583" y="99"/>
                  </a:lnTo>
                  <a:lnTo>
                    <a:pt x="1578" y="99"/>
                  </a:lnTo>
                  <a:lnTo>
                    <a:pt x="1568" y="104"/>
                  </a:lnTo>
                  <a:lnTo>
                    <a:pt x="1558" y="104"/>
                  </a:lnTo>
                  <a:lnTo>
                    <a:pt x="1553" y="104"/>
                  </a:lnTo>
                  <a:lnTo>
                    <a:pt x="1558" y="109"/>
                  </a:lnTo>
                  <a:lnTo>
                    <a:pt x="1563" y="114"/>
                  </a:lnTo>
                  <a:lnTo>
                    <a:pt x="1573" y="114"/>
                  </a:lnTo>
                  <a:lnTo>
                    <a:pt x="1578" y="114"/>
                  </a:lnTo>
                  <a:lnTo>
                    <a:pt x="1588" y="114"/>
                  </a:lnTo>
                  <a:lnTo>
                    <a:pt x="1593" y="109"/>
                  </a:lnTo>
                  <a:lnTo>
                    <a:pt x="1602" y="109"/>
                  </a:lnTo>
                  <a:lnTo>
                    <a:pt x="1607" y="109"/>
                  </a:lnTo>
                  <a:lnTo>
                    <a:pt x="1617" y="104"/>
                  </a:lnTo>
                  <a:close/>
                  <a:moveTo>
                    <a:pt x="1701" y="104"/>
                  </a:moveTo>
                  <a:lnTo>
                    <a:pt x="1696" y="104"/>
                  </a:lnTo>
                  <a:lnTo>
                    <a:pt x="1691" y="104"/>
                  </a:lnTo>
                  <a:lnTo>
                    <a:pt x="1687" y="104"/>
                  </a:lnTo>
                  <a:lnTo>
                    <a:pt x="1677" y="104"/>
                  </a:lnTo>
                  <a:lnTo>
                    <a:pt x="1672" y="99"/>
                  </a:lnTo>
                  <a:lnTo>
                    <a:pt x="1667" y="99"/>
                  </a:lnTo>
                  <a:lnTo>
                    <a:pt x="1662" y="94"/>
                  </a:lnTo>
                  <a:lnTo>
                    <a:pt x="1662" y="89"/>
                  </a:lnTo>
                  <a:lnTo>
                    <a:pt x="1657" y="89"/>
                  </a:lnTo>
                  <a:lnTo>
                    <a:pt x="1652" y="84"/>
                  </a:lnTo>
                  <a:lnTo>
                    <a:pt x="1652" y="79"/>
                  </a:lnTo>
                  <a:lnTo>
                    <a:pt x="1647" y="79"/>
                  </a:lnTo>
                  <a:lnTo>
                    <a:pt x="1642" y="79"/>
                  </a:lnTo>
                  <a:lnTo>
                    <a:pt x="1632" y="79"/>
                  </a:lnTo>
                  <a:lnTo>
                    <a:pt x="1627" y="79"/>
                  </a:lnTo>
                  <a:lnTo>
                    <a:pt x="1622" y="79"/>
                  </a:lnTo>
                  <a:lnTo>
                    <a:pt x="1627" y="84"/>
                  </a:lnTo>
                  <a:lnTo>
                    <a:pt x="1627" y="89"/>
                  </a:lnTo>
                  <a:lnTo>
                    <a:pt x="1632" y="94"/>
                  </a:lnTo>
                  <a:lnTo>
                    <a:pt x="1632" y="99"/>
                  </a:lnTo>
                  <a:lnTo>
                    <a:pt x="1632" y="104"/>
                  </a:lnTo>
                  <a:lnTo>
                    <a:pt x="1637" y="104"/>
                  </a:lnTo>
                  <a:lnTo>
                    <a:pt x="1642" y="104"/>
                  </a:lnTo>
                  <a:lnTo>
                    <a:pt x="1647" y="109"/>
                  </a:lnTo>
                  <a:lnTo>
                    <a:pt x="1652" y="109"/>
                  </a:lnTo>
                  <a:lnTo>
                    <a:pt x="1662" y="109"/>
                  </a:lnTo>
                  <a:lnTo>
                    <a:pt x="1667" y="109"/>
                  </a:lnTo>
                  <a:lnTo>
                    <a:pt x="1672" y="109"/>
                  </a:lnTo>
                  <a:lnTo>
                    <a:pt x="1677" y="114"/>
                  </a:lnTo>
                  <a:lnTo>
                    <a:pt x="1687" y="114"/>
                  </a:lnTo>
                  <a:lnTo>
                    <a:pt x="1691" y="119"/>
                  </a:lnTo>
                  <a:lnTo>
                    <a:pt x="1696" y="124"/>
                  </a:lnTo>
                  <a:lnTo>
                    <a:pt x="1701" y="124"/>
                  </a:lnTo>
                  <a:lnTo>
                    <a:pt x="1701" y="124"/>
                  </a:lnTo>
                  <a:lnTo>
                    <a:pt x="1701" y="124"/>
                  </a:lnTo>
                  <a:lnTo>
                    <a:pt x="1701" y="119"/>
                  </a:lnTo>
                  <a:lnTo>
                    <a:pt x="1701" y="114"/>
                  </a:lnTo>
                  <a:lnTo>
                    <a:pt x="1701" y="104"/>
                  </a:lnTo>
                  <a:close/>
                </a:path>
              </a:pathLst>
            </a:custGeom>
            <a:solidFill>
              <a:srgbClr val="ffd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5" name=""/>
            <p:cNvSpPr/>
            <p:nvPr/>
          </p:nvSpPr>
          <p:spPr>
            <a:xfrm>
              <a:off x="2265120" y="2368440"/>
              <a:ext cx="4098960" cy="2628360"/>
            </a:xfrm>
            <a:custGeom>
              <a:avLst/>
              <a:gdLst/>
              <a:ahLst/>
              <a:rect l="l" t="t" r="r" b="b"/>
              <a:pathLst>
                <a:path w="2582" h="1656">
                  <a:moveTo>
                    <a:pt x="2235" y="1656"/>
                  </a:moveTo>
                  <a:lnTo>
                    <a:pt x="2260" y="1631"/>
                  </a:lnTo>
                  <a:lnTo>
                    <a:pt x="2285" y="1631"/>
                  </a:lnTo>
                  <a:lnTo>
                    <a:pt x="2315" y="1631"/>
                  </a:lnTo>
                  <a:lnTo>
                    <a:pt x="2339" y="1631"/>
                  </a:lnTo>
                  <a:lnTo>
                    <a:pt x="2369" y="1631"/>
                  </a:lnTo>
                  <a:lnTo>
                    <a:pt x="2394" y="1631"/>
                  </a:lnTo>
                  <a:lnTo>
                    <a:pt x="2418" y="1631"/>
                  </a:lnTo>
                  <a:lnTo>
                    <a:pt x="2448" y="1602"/>
                  </a:lnTo>
                  <a:lnTo>
                    <a:pt x="2448" y="1577"/>
                  </a:lnTo>
                  <a:lnTo>
                    <a:pt x="2448" y="1547"/>
                  </a:lnTo>
                  <a:lnTo>
                    <a:pt x="2448" y="1523"/>
                  </a:lnTo>
                  <a:lnTo>
                    <a:pt x="2473" y="1498"/>
                  </a:lnTo>
                  <a:lnTo>
                    <a:pt x="2473" y="1468"/>
                  </a:lnTo>
                  <a:lnTo>
                    <a:pt x="2473" y="1444"/>
                  </a:lnTo>
                  <a:lnTo>
                    <a:pt x="2473" y="1414"/>
                  </a:lnTo>
                  <a:lnTo>
                    <a:pt x="2503" y="1389"/>
                  </a:lnTo>
                  <a:lnTo>
                    <a:pt x="2503" y="1364"/>
                  </a:lnTo>
                  <a:lnTo>
                    <a:pt x="2503" y="1335"/>
                  </a:lnTo>
                  <a:lnTo>
                    <a:pt x="2503" y="1310"/>
                  </a:lnTo>
                  <a:lnTo>
                    <a:pt x="2527" y="1280"/>
                  </a:lnTo>
                  <a:lnTo>
                    <a:pt x="2527" y="1256"/>
                  </a:lnTo>
                  <a:lnTo>
                    <a:pt x="2527" y="1226"/>
                  </a:lnTo>
                  <a:lnTo>
                    <a:pt x="2527" y="1201"/>
                  </a:lnTo>
                  <a:lnTo>
                    <a:pt x="2552" y="1177"/>
                  </a:lnTo>
                  <a:lnTo>
                    <a:pt x="2552" y="1147"/>
                  </a:lnTo>
                  <a:lnTo>
                    <a:pt x="2552" y="1122"/>
                  </a:lnTo>
                  <a:lnTo>
                    <a:pt x="2552" y="1093"/>
                  </a:lnTo>
                  <a:lnTo>
                    <a:pt x="2582" y="1068"/>
                  </a:lnTo>
                  <a:lnTo>
                    <a:pt x="2582" y="1043"/>
                  </a:lnTo>
                  <a:lnTo>
                    <a:pt x="2582" y="1014"/>
                  </a:lnTo>
                  <a:lnTo>
                    <a:pt x="2582" y="989"/>
                  </a:lnTo>
                  <a:lnTo>
                    <a:pt x="2582" y="959"/>
                  </a:lnTo>
                  <a:lnTo>
                    <a:pt x="2582" y="934"/>
                  </a:lnTo>
                  <a:lnTo>
                    <a:pt x="2582" y="910"/>
                  </a:lnTo>
                  <a:lnTo>
                    <a:pt x="2582" y="880"/>
                  </a:lnTo>
                  <a:lnTo>
                    <a:pt x="2582" y="855"/>
                  </a:lnTo>
                  <a:lnTo>
                    <a:pt x="2582" y="826"/>
                  </a:lnTo>
                  <a:lnTo>
                    <a:pt x="2582" y="801"/>
                  </a:lnTo>
                  <a:lnTo>
                    <a:pt x="2582" y="776"/>
                  </a:lnTo>
                  <a:lnTo>
                    <a:pt x="2582" y="747"/>
                  </a:lnTo>
                  <a:lnTo>
                    <a:pt x="2582" y="722"/>
                  </a:lnTo>
                  <a:lnTo>
                    <a:pt x="2582" y="692"/>
                  </a:lnTo>
                  <a:lnTo>
                    <a:pt x="2582" y="668"/>
                  </a:lnTo>
                  <a:lnTo>
                    <a:pt x="2582" y="643"/>
                  </a:lnTo>
                  <a:lnTo>
                    <a:pt x="2582" y="613"/>
                  </a:lnTo>
                  <a:lnTo>
                    <a:pt x="2582" y="589"/>
                  </a:lnTo>
                  <a:lnTo>
                    <a:pt x="2582" y="559"/>
                  </a:lnTo>
                  <a:lnTo>
                    <a:pt x="2582" y="534"/>
                  </a:lnTo>
                  <a:lnTo>
                    <a:pt x="2582" y="504"/>
                  </a:lnTo>
                  <a:lnTo>
                    <a:pt x="2582" y="480"/>
                  </a:lnTo>
                  <a:lnTo>
                    <a:pt x="2582" y="455"/>
                  </a:lnTo>
                  <a:lnTo>
                    <a:pt x="2582" y="425"/>
                  </a:lnTo>
                  <a:lnTo>
                    <a:pt x="2582" y="401"/>
                  </a:lnTo>
                  <a:lnTo>
                    <a:pt x="2582" y="371"/>
                  </a:lnTo>
                  <a:lnTo>
                    <a:pt x="2582" y="346"/>
                  </a:lnTo>
                  <a:lnTo>
                    <a:pt x="2582" y="322"/>
                  </a:lnTo>
                  <a:lnTo>
                    <a:pt x="2582" y="292"/>
                  </a:lnTo>
                  <a:lnTo>
                    <a:pt x="2582" y="267"/>
                  </a:lnTo>
                  <a:lnTo>
                    <a:pt x="2582" y="238"/>
                  </a:lnTo>
                  <a:lnTo>
                    <a:pt x="2552" y="213"/>
                  </a:lnTo>
                  <a:lnTo>
                    <a:pt x="2552" y="188"/>
                  </a:lnTo>
                  <a:lnTo>
                    <a:pt x="2552" y="159"/>
                  </a:lnTo>
                  <a:lnTo>
                    <a:pt x="2552" y="134"/>
                  </a:lnTo>
                  <a:lnTo>
                    <a:pt x="2552" y="104"/>
                  </a:lnTo>
                  <a:lnTo>
                    <a:pt x="2527" y="79"/>
                  </a:lnTo>
                  <a:lnTo>
                    <a:pt x="2503" y="79"/>
                  </a:lnTo>
                  <a:lnTo>
                    <a:pt x="2473" y="79"/>
                  </a:lnTo>
                  <a:lnTo>
                    <a:pt x="2448" y="55"/>
                  </a:lnTo>
                  <a:lnTo>
                    <a:pt x="2418" y="55"/>
                  </a:lnTo>
                  <a:lnTo>
                    <a:pt x="2394" y="55"/>
                  </a:lnTo>
                  <a:lnTo>
                    <a:pt x="2369" y="25"/>
                  </a:lnTo>
                  <a:lnTo>
                    <a:pt x="2339" y="25"/>
                  </a:lnTo>
                  <a:lnTo>
                    <a:pt x="2315" y="25"/>
                  </a:lnTo>
                  <a:lnTo>
                    <a:pt x="2285" y="0"/>
                  </a:lnTo>
                  <a:lnTo>
                    <a:pt x="2260" y="0"/>
                  </a:lnTo>
                  <a:lnTo>
                    <a:pt x="2235" y="0"/>
                  </a:lnTo>
                  <a:lnTo>
                    <a:pt x="2206" y="0"/>
                  </a:lnTo>
                  <a:lnTo>
                    <a:pt x="2181" y="0"/>
                  </a:lnTo>
                  <a:lnTo>
                    <a:pt x="2156" y="0"/>
                  </a:lnTo>
                  <a:lnTo>
                    <a:pt x="2127" y="0"/>
                  </a:lnTo>
                  <a:lnTo>
                    <a:pt x="2102" y="0"/>
                  </a:lnTo>
                  <a:lnTo>
                    <a:pt x="2072" y="0"/>
                  </a:lnTo>
                  <a:lnTo>
                    <a:pt x="2048" y="0"/>
                  </a:lnTo>
                  <a:lnTo>
                    <a:pt x="2023" y="0"/>
                  </a:lnTo>
                  <a:lnTo>
                    <a:pt x="1993" y="0"/>
                  </a:lnTo>
                  <a:lnTo>
                    <a:pt x="1968" y="0"/>
                  </a:lnTo>
                  <a:lnTo>
                    <a:pt x="1944" y="0"/>
                  </a:lnTo>
                  <a:lnTo>
                    <a:pt x="1914" y="0"/>
                  </a:lnTo>
                  <a:lnTo>
                    <a:pt x="1889" y="0"/>
                  </a:lnTo>
                  <a:lnTo>
                    <a:pt x="1860" y="0"/>
                  </a:lnTo>
                  <a:lnTo>
                    <a:pt x="1835" y="0"/>
                  </a:lnTo>
                  <a:lnTo>
                    <a:pt x="1810" y="0"/>
                  </a:lnTo>
                  <a:lnTo>
                    <a:pt x="1780" y="0"/>
                  </a:lnTo>
                  <a:lnTo>
                    <a:pt x="1756" y="0"/>
                  </a:lnTo>
                  <a:lnTo>
                    <a:pt x="1726" y="0"/>
                  </a:lnTo>
                  <a:lnTo>
                    <a:pt x="1701" y="0"/>
                  </a:lnTo>
                  <a:lnTo>
                    <a:pt x="1677" y="0"/>
                  </a:lnTo>
                  <a:lnTo>
                    <a:pt x="1647" y="0"/>
                  </a:lnTo>
                  <a:lnTo>
                    <a:pt x="1622" y="0"/>
                  </a:lnTo>
                  <a:lnTo>
                    <a:pt x="1598" y="0"/>
                  </a:lnTo>
                  <a:lnTo>
                    <a:pt x="1568" y="0"/>
                  </a:lnTo>
                  <a:lnTo>
                    <a:pt x="1543" y="0"/>
                  </a:lnTo>
                  <a:lnTo>
                    <a:pt x="1513" y="0"/>
                  </a:lnTo>
                  <a:lnTo>
                    <a:pt x="1489" y="0"/>
                  </a:lnTo>
                  <a:lnTo>
                    <a:pt x="1464" y="0"/>
                  </a:lnTo>
                  <a:lnTo>
                    <a:pt x="1434" y="0"/>
                  </a:lnTo>
                  <a:lnTo>
                    <a:pt x="1410" y="0"/>
                  </a:lnTo>
                  <a:lnTo>
                    <a:pt x="1385" y="0"/>
                  </a:lnTo>
                  <a:lnTo>
                    <a:pt x="1355" y="0"/>
                  </a:lnTo>
                  <a:lnTo>
                    <a:pt x="1330" y="0"/>
                  </a:lnTo>
                  <a:lnTo>
                    <a:pt x="1301" y="0"/>
                  </a:lnTo>
                  <a:lnTo>
                    <a:pt x="1276" y="0"/>
                  </a:lnTo>
                  <a:lnTo>
                    <a:pt x="1251" y="0"/>
                  </a:lnTo>
                  <a:lnTo>
                    <a:pt x="1222" y="0"/>
                  </a:lnTo>
                  <a:lnTo>
                    <a:pt x="1197" y="0"/>
                  </a:lnTo>
                  <a:lnTo>
                    <a:pt x="1172" y="0"/>
                  </a:lnTo>
                  <a:lnTo>
                    <a:pt x="1143" y="0"/>
                  </a:lnTo>
                  <a:lnTo>
                    <a:pt x="1118" y="0"/>
                  </a:lnTo>
                  <a:lnTo>
                    <a:pt x="1088" y="0"/>
                  </a:lnTo>
                  <a:lnTo>
                    <a:pt x="1063" y="0"/>
                  </a:lnTo>
                  <a:lnTo>
                    <a:pt x="1039" y="0"/>
                  </a:lnTo>
                  <a:lnTo>
                    <a:pt x="1009" y="0"/>
                  </a:lnTo>
                  <a:lnTo>
                    <a:pt x="984" y="0"/>
                  </a:lnTo>
                  <a:lnTo>
                    <a:pt x="955" y="0"/>
                  </a:lnTo>
                  <a:lnTo>
                    <a:pt x="930" y="0"/>
                  </a:lnTo>
                  <a:lnTo>
                    <a:pt x="905" y="0"/>
                  </a:lnTo>
                  <a:lnTo>
                    <a:pt x="875" y="0"/>
                  </a:lnTo>
                  <a:lnTo>
                    <a:pt x="851" y="0"/>
                  </a:lnTo>
                  <a:lnTo>
                    <a:pt x="826" y="0"/>
                  </a:lnTo>
                  <a:lnTo>
                    <a:pt x="796" y="0"/>
                  </a:lnTo>
                  <a:lnTo>
                    <a:pt x="772" y="0"/>
                  </a:lnTo>
                  <a:lnTo>
                    <a:pt x="742" y="0"/>
                  </a:lnTo>
                  <a:lnTo>
                    <a:pt x="717" y="0"/>
                  </a:lnTo>
                  <a:lnTo>
                    <a:pt x="692" y="0"/>
                  </a:lnTo>
                  <a:lnTo>
                    <a:pt x="663" y="0"/>
                  </a:lnTo>
                  <a:lnTo>
                    <a:pt x="638" y="0"/>
                  </a:lnTo>
                  <a:lnTo>
                    <a:pt x="613" y="0"/>
                  </a:lnTo>
                  <a:lnTo>
                    <a:pt x="584" y="25"/>
                  </a:lnTo>
                  <a:lnTo>
                    <a:pt x="559" y="55"/>
                  </a:lnTo>
                  <a:lnTo>
                    <a:pt x="529" y="79"/>
                  </a:lnTo>
                  <a:lnTo>
                    <a:pt x="505" y="104"/>
                  </a:lnTo>
                  <a:lnTo>
                    <a:pt x="480" y="134"/>
                  </a:lnTo>
                  <a:lnTo>
                    <a:pt x="450" y="134"/>
                  </a:lnTo>
                  <a:lnTo>
                    <a:pt x="425" y="159"/>
                  </a:lnTo>
                  <a:lnTo>
                    <a:pt x="396" y="188"/>
                  </a:lnTo>
                  <a:lnTo>
                    <a:pt x="371" y="213"/>
                  </a:lnTo>
                  <a:lnTo>
                    <a:pt x="346" y="238"/>
                  </a:lnTo>
                  <a:lnTo>
                    <a:pt x="317" y="267"/>
                  </a:lnTo>
                  <a:lnTo>
                    <a:pt x="292" y="292"/>
                  </a:lnTo>
                  <a:lnTo>
                    <a:pt x="267" y="322"/>
                  </a:lnTo>
                  <a:lnTo>
                    <a:pt x="237" y="322"/>
                  </a:lnTo>
                  <a:lnTo>
                    <a:pt x="213" y="346"/>
                  </a:lnTo>
                  <a:lnTo>
                    <a:pt x="183" y="371"/>
                  </a:lnTo>
                  <a:lnTo>
                    <a:pt x="158" y="401"/>
                  </a:lnTo>
                  <a:lnTo>
                    <a:pt x="134" y="425"/>
                  </a:lnTo>
                  <a:lnTo>
                    <a:pt x="104" y="455"/>
                  </a:lnTo>
                  <a:lnTo>
                    <a:pt x="79" y="480"/>
                  </a:lnTo>
                  <a:lnTo>
                    <a:pt x="55" y="504"/>
                  </a:lnTo>
                  <a:lnTo>
                    <a:pt x="25" y="504"/>
                  </a:lnTo>
                  <a:lnTo>
                    <a:pt x="0" y="534"/>
                  </a:lnTo>
                  <a:lnTo>
                    <a:pt x="0" y="559"/>
                  </a:lnTo>
                  <a:lnTo>
                    <a:pt x="0" y="589"/>
                  </a:lnTo>
                  <a:lnTo>
                    <a:pt x="0" y="613"/>
                  </a:lnTo>
                  <a:lnTo>
                    <a:pt x="25" y="643"/>
                  </a:lnTo>
                  <a:lnTo>
                    <a:pt x="25" y="668"/>
                  </a:lnTo>
                  <a:lnTo>
                    <a:pt x="55" y="692"/>
                  </a:lnTo>
                  <a:lnTo>
                    <a:pt x="79" y="722"/>
                  </a:lnTo>
                  <a:lnTo>
                    <a:pt x="104" y="747"/>
                  </a:lnTo>
                  <a:lnTo>
                    <a:pt x="134" y="776"/>
                  </a:lnTo>
                  <a:lnTo>
                    <a:pt x="134" y="801"/>
                  </a:lnTo>
                  <a:lnTo>
                    <a:pt x="158" y="826"/>
                  </a:lnTo>
                  <a:lnTo>
                    <a:pt x="183" y="855"/>
                  </a:lnTo>
                  <a:lnTo>
                    <a:pt x="213" y="880"/>
                  </a:lnTo>
                  <a:lnTo>
                    <a:pt x="237" y="910"/>
                  </a:lnTo>
                  <a:lnTo>
                    <a:pt x="267" y="934"/>
                  </a:lnTo>
                  <a:lnTo>
                    <a:pt x="292" y="959"/>
                  </a:lnTo>
                  <a:lnTo>
                    <a:pt x="292" y="989"/>
                  </a:lnTo>
                  <a:lnTo>
                    <a:pt x="317" y="1014"/>
                  </a:lnTo>
                  <a:lnTo>
                    <a:pt x="346" y="1043"/>
                  </a:lnTo>
                  <a:lnTo>
                    <a:pt x="371" y="1068"/>
                  </a:lnTo>
                  <a:lnTo>
                    <a:pt x="396" y="1093"/>
                  </a:lnTo>
                  <a:lnTo>
                    <a:pt x="425" y="1122"/>
                  </a:lnTo>
                  <a:lnTo>
                    <a:pt x="450" y="1147"/>
                  </a:lnTo>
                  <a:lnTo>
                    <a:pt x="480" y="1177"/>
                  </a:lnTo>
                  <a:lnTo>
                    <a:pt x="505" y="1201"/>
                  </a:lnTo>
                  <a:lnTo>
                    <a:pt x="529" y="1226"/>
                  </a:lnTo>
                  <a:lnTo>
                    <a:pt x="559" y="1256"/>
                  </a:lnTo>
                  <a:lnTo>
                    <a:pt x="584" y="1280"/>
                  </a:lnTo>
                  <a:lnTo>
                    <a:pt x="613" y="1310"/>
                  </a:lnTo>
                  <a:lnTo>
                    <a:pt x="638" y="1335"/>
                  </a:lnTo>
                  <a:lnTo>
                    <a:pt x="663" y="1364"/>
                  </a:lnTo>
                  <a:lnTo>
                    <a:pt x="692" y="1389"/>
                  </a:lnTo>
                  <a:lnTo>
                    <a:pt x="717" y="1414"/>
                  </a:lnTo>
                  <a:lnTo>
                    <a:pt x="742" y="1444"/>
                  </a:lnTo>
                  <a:lnTo>
                    <a:pt x="772" y="1468"/>
                  </a:lnTo>
                  <a:lnTo>
                    <a:pt x="796" y="1468"/>
                  </a:lnTo>
                  <a:lnTo>
                    <a:pt x="826" y="1498"/>
                  </a:lnTo>
                  <a:lnTo>
                    <a:pt x="851" y="1523"/>
                  </a:lnTo>
                  <a:lnTo>
                    <a:pt x="875" y="1547"/>
                  </a:lnTo>
                  <a:lnTo>
                    <a:pt x="905" y="1577"/>
                  </a:lnTo>
                  <a:lnTo>
                    <a:pt x="930" y="1602"/>
                  </a:lnTo>
                  <a:lnTo>
                    <a:pt x="955" y="1631"/>
                  </a:lnTo>
                  <a:lnTo>
                    <a:pt x="984" y="1656"/>
                  </a:lnTo>
                  <a:lnTo>
                    <a:pt x="1009" y="1656"/>
                  </a:lnTo>
                  <a:lnTo>
                    <a:pt x="1039" y="1656"/>
                  </a:lnTo>
                  <a:lnTo>
                    <a:pt x="1063" y="1656"/>
                  </a:lnTo>
                  <a:lnTo>
                    <a:pt x="1088" y="1656"/>
                  </a:lnTo>
                  <a:lnTo>
                    <a:pt x="1118" y="1656"/>
                  </a:lnTo>
                  <a:lnTo>
                    <a:pt x="1143" y="1656"/>
                  </a:lnTo>
                  <a:lnTo>
                    <a:pt x="1172" y="1656"/>
                  </a:lnTo>
                  <a:lnTo>
                    <a:pt x="1197" y="1656"/>
                  </a:lnTo>
                  <a:lnTo>
                    <a:pt x="1222" y="1656"/>
                  </a:lnTo>
                  <a:lnTo>
                    <a:pt x="1251" y="1656"/>
                  </a:lnTo>
                  <a:lnTo>
                    <a:pt x="1276" y="1656"/>
                  </a:lnTo>
                  <a:lnTo>
                    <a:pt x="1301" y="1656"/>
                  </a:lnTo>
                  <a:lnTo>
                    <a:pt x="1330" y="1656"/>
                  </a:lnTo>
                  <a:lnTo>
                    <a:pt x="1355" y="1656"/>
                  </a:lnTo>
                  <a:lnTo>
                    <a:pt x="1385" y="1656"/>
                  </a:lnTo>
                  <a:lnTo>
                    <a:pt x="1410" y="1656"/>
                  </a:lnTo>
                  <a:lnTo>
                    <a:pt x="1434" y="1656"/>
                  </a:lnTo>
                  <a:lnTo>
                    <a:pt x="1464" y="1656"/>
                  </a:lnTo>
                  <a:lnTo>
                    <a:pt x="1489" y="1656"/>
                  </a:lnTo>
                  <a:lnTo>
                    <a:pt x="1513" y="1656"/>
                  </a:lnTo>
                  <a:lnTo>
                    <a:pt x="1543" y="1656"/>
                  </a:lnTo>
                  <a:lnTo>
                    <a:pt x="1568" y="1656"/>
                  </a:lnTo>
                  <a:lnTo>
                    <a:pt x="1598" y="1656"/>
                  </a:lnTo>
                  <a:lnTo>
                    <a:pt x="1622" y="1656"/>
                  </a:lnTo>
                  <a:lnTo>
                    <a:pt x="1647" y="1656"/>
                  </a:lnTo>
                  <a:lnTo>
                    <a:pt x="1677" y="1656"/>
                  </a:lnTo>
                  <a:lnTo>
                    <a:pt x="1701" y="1656"/>
                  </a:lnTo>
                  <a:lnTo>
                    <a:pt x="1726" y="1656"/>
                  </a:lnTo>
                  <a:lnTo>
                    <a:pt x="1756" y="1656"/>
                  </a:lnTo>
                  <a:lnTo>
                    <a:pt x="1780" y="1656"/>
                  </a:lnTo>
                  <a:lnTo>
                    <a:pt x="1810" y="1656"/>
                  </a:lnTo>
                  <a:lnTo>
                    <a:pt x="1835" y="1656"/>
                  </a:lnTo>
                  <a:lnTo>
                    <a:pt x="1860" y="1656"/>
                  </a:lnTo>
                  <a:lnTo>
                    <a:pt x="1889" y="1656"/>
                  </a:lnTo>
                  <a:lnTo>
                    <a:pt x="1914" y="1656"/>
                  </a:lnTo>
                  <a:lnTo>
                    <a:pt x="1944" y="1656"/>
                  </a:lnTo>
                  <a:lnTo>
                    <a:pt x="1968" y="1656"/>
                  </a:lnTo>
                  <a:lnTo>
                    <a:pt x="1993" y="1656"/>
                  </a:lnTo>
                  <a:lnTo>
                    <a:pt x="2023" y="1656"/>
                  </a:lnTo>
                  <a:lnTo>
                    <a:pt x="2048" y="1656"/>
                  </a:lnTo>
                  <a:lnTo>
                    <a:pt x="2072" y="1656"/>
                  </a:lnTo>
                  <a:lnTo>
                    <a:pt x="2102" y="1656"/>
                  </a:lnTo>
                  <a:lnTo>
                    <a:pt x="2127" y="1656"/>
                  </a:lnTo>
                  <a:lnTo>
                    <a:pt x="2156" y="1656"/>
                  </a:lnTo>
                  <a:lnTo>
                    <a:pt x="2181" y="1656"/>
                  </a:lnTo>
                  <a:lnTo>
                    <a:pt x="2206" y="1656"/>
                  </a:lnTo>
                  <a:lnTo>
                    <a:pt x="2235" y="1656"/>
                  </a:lnTo>
                  <a:close/>
                  <a:moveTo>
                    <a:pt x="1296" y="322"/>
                  </a:moveTo>
                  <a:lnTo>
                    <a:pt x="1301" y="317"/>
                  </a:lnTo>
                  <a:lnTo>
                    <a:pt x="1311" y="317"/>
                  </a:lnTo>
                  <a:lnTo>
                    <a:pt x="1316" y="312"/>
                  </a:lnTo>
                  <a:lnTo>
                    <a:pt x="1326" y="312"/>
                  </a:lnTo>
                  <a:lnTo>
                    <a:pt x="1330" y="307"/>
                  </a:lnTo>
                  <a:lnTo>
                    <a:pt x="1335" y="307"/>
                  </a:lnTo>
                  <a:lnTo>
                    <a:pt x="1340" y="297"/>
                  </a:lnTo>
                  <a:lnTo>
                    <a:pt x="1340" y="292"/>
                  </a:lnTo>
                  <a:lnTo>
                    <a:pt x="1345" y="287"/>
                  </a:lnTo>
                  <a:lnTo>
                    <a:pt x="1345" y="282"/>
                  </a:lnTo>
                  <a:lnTo>
                    <a:pt x="1350" y="277"/>
                  </a:lnTo>
                  <a:lnTo>
                    <a:pt x="1355" y="272"/>
                  </a:lnTo>
                  <a:lnTo>
                    <a:pt x="1360" y="272"/>
                  </a:lnTo>
                  <a:lnTo>
                    <a:pt x="1370" y="272"/>
                  </a:lnTo>
                  <a:lnTo>
                    <a:pt x="1375" y="272"/>
                  </a:lnTo>
                  <a:lnTo>
                    <a:pt x="1385" y="272"/>
                  </a:lnTo>
                  <a:lnTo>
                    <a:pt x="1395" y="277"/>
                  </a:lnTo>
                  <a:lnTo>
                    <a:pt x="1405" y="277"/>
                  </a:lnTo>
                  <a:lnTo>
                    <a:pt x="1410" y="272"/>
                  </a:lnTo>
                  <a:lnTo>
                    <a:pt x="1415" y="267"/>
                  </a:lnTo>
                  <a:lnTo>
                    <a:pt x="1419" y="262"/>
                  </a:lnTo>
                  <a:lnTo>
                    <a:pt x="1424" y="257"/>
                  </a:lnTo>
                  <a:lnTo>
                    <a:pt x="1429" y="252"/>
                  </a:lnTo>
                  <a:lnTo>
                    <a:pt x="1434" y="247"/>
                  </a:lnTo>
                  <a:lnTo>
                    <a:pt x="1434" y="243"/>
                  </a:lnTo>
                  <a:lnTo>
                    <a:pt x="1434" y="238"/>
                  </a:lnTo>
                  <a:lnTo>
                    <a:pt x="1429" y="238"/>
                  </a:lnTo>
                  <a:lnTo>
                    <a:pt x="1419" y="233"/>
                  </a:lnTo>
                  <a:lnTo>
                    <a:pt x="1410" y="233"/>
                  </a:lnTo>
                  <a:lnTo>
                    <a:pt x="1400" y="233"/>
                  </a:lnTo>
                  <a:lnTo>
                    <a:pt x="1395" y="233"/>
                  </a:lnTo>
                  <a:lnTo>
                    <a:pt x="1385" y="233"/>
                  </a:lnTo>
                  <a:lnTo>
                    <a:pt x="1375" y="233"/>
                  </a:lnTo>
                  <a:lnTo>
                    <a:pt x="1370" y="228"/>
                  </a:lnTo>
                  <a:lnTo>
                    <a:pt x="1365" y="228"/>
                  </a:lnTo>
                  <a:lnTo>
                    <a:pt x="1360" y="223"/>
                  </a:lnTo>
                  <a:lnTo>
                    <a:pt x="1355" y="218"/>
                  </a:lnTo>
                  <a:lnTo>
                    <a:pt x="1355" y="208"/>
                  </a:lnTo>
                  <a:lnTo>
                    <a:pt x="1360" y="203"/>
                  </a:lnTo>
                  <a:lnTo>
                    <a:pt x="1365" y="198"/>
                  </a:lnTo>
                  <a:lnTo>
                    <a:pt x="1370" y="193"/>
                  </a:lnTo>
                  <a:lnTo>
                    <a:pt x="1380" y="193"/>
                  </a:lnTo>
                  <a:lnTo>
                    <a:pt x="1385" y="193"/>
                  </a:lnTo>
                  <a:lnTo>
                    <a:pt x="1390" y="193"/>
                  </a:lnTo>
                  <a:lnTo>
                    <a:pt x="1400" y="198"/>
                  </a:lnTo>
                  <a:lnTo>
                    <a:pt x="1405" y="203"/>
                  </a:lnTo>
                  <a:lnTo>
                    <a:pt x="1410" y="203"/>
                  </a:lnTo>
                  <a:lnTo>
                    <a:pt x="1415" y="203"/>
                  </a:lnTo>
                  <a:lnTo>
                    <a:pt x="1419" y="198"/>
                  </a:lnTo>
                  <a:lnTo>
                    <a:pt x="1419" y="188"/>
                  </a:lnTo>
                  <a:lnTo>
                    <a:pt x="1424" y="183"/>
                  </a:lnTo>
                  <a:lnTo>
                    <a:pt x="1424" y="178"/>
                  </a:lnTo>
                  <a:lnTo>
                    <a:pt x="1429" y="168"/>
                  </a:lnTo>
                  <a:lnTo>
                    <a:pt x="1429" y="168"/>
                  </a:lnTo>
                  <a:lnTo>
                    <a:pt x="1439" y="163"/>
                  </a:lnTo>
                  <a:lnTo>
                    <a:pt x="1444" y="163"/>
                  </a:lnTo>
                  <a:lnTo>
                    <a:pt x="1454" y="168"/>
                  </a:lnTo>
                  <a:lnTo>
                    <a:pt x="1464" y="168"/>
                  </a:lnTo>
                  <a:lnTo>
                    <a:pt x="1469" y="163"/>
                  </a:lnTo>
                  <a:lnTo>
                    <a:pt x="1479" y="163"/>
                  </a:lnTo>
                  <a:lnTo>
                    <a:pt x="1484" y="159"/>
                  </a:lnTo>
                  <a:lnTo>
                    <a:pt x="1484" y="154"/>
                  </a:lnTo>
                  <a:lnTo>
                    <a:pt x="1479" y="149"/>
                  </a:lnTo>
                  <a:lnTo>
                    <a:pt x="1474" y="144"/>
                  </a:lnTo>
                  <a:lnTo>
                    <a:pt x="1464" y="139"/>
                  </a:lnTo>
                  <a:lnTo>
                    <a:pt x="1454" y="139"/>
                  </a:lnTo>
                  <a:lnTo>
                    <a:pt x="1449" y="139"/>
                  </a:lnTo>
                  <a:lnTo>
                    <a:pt x="1439" y="144"/>
                  </a:lnTo>
                  <a:lnTo>
                    <a:pt x="1434" y="144"/>
                  </a:lnTo>
                  <a:lnTo>
                    <a:pt x="1429" y="149"/>
                  </a:lnTo>
                  <a:lnTo>
                    <a:pt x="1419" y="154"/>
                  </a:lnTo>
                  <a:lnTo>
                    <a:pt x="1415" y="159"/>
                  </a:lnTo>
                  <a:lnTo>
                    <a:pt x="1410" y="159"/>
                  </a:lnTo>
                  <a:lnTo>
                    <a:pt x="1400" y="159"/>
                  </a:lnTo>
                  <a:lnTo>
                    <a:pt x="1390" y="163"/>
                  </a:lnTo>
                  <a:lnTo>
                    <a:pt x="1385" y="163"/>
                  </a:lnTo>
                  <a:lnTo>
                    <a:pt x="1375" y="163"/>
                  </a:lnTo>
                  <a:lnTo>
                    <a:pt x="1370" y="163"/>
                  </a:lnTo>
                  <a:lnTo>
                    <a:pt x="1360" y="159"/>
                  </a:lnTo>
                  <a:lnTo>
                    <a:pt x="1360" y="154"/>
                  </a:lnTo>
                  <a:lnTo>
                    <a:pt x="1355" y="149"/>
                  </a:lnTo>
                  <a:lnTo>
                    <a:pt x="1355" y="144"/>
                  </a:lnTo>
                  <a:lnTo>
                    <a:pt x="1355" y="134"/>
                  </a:lnTo>
                  <a:lnTo>
                    <a:pt x="1360" y="129"/>
                  </a:lnTo>
                  <a:lnTo>
                    <a:pt x="1360" y="124"/>
                  </a:lnTo>
                  <a:lnTo>
                    <a:pt x="1365" y="119"/>
                  </a:lnTo>
                  <a:lnTo>
                    <a:pt x="1370" y="119"/>
                  </a:lnTo>
                  <a:lnTo>
                    <a:pt x="1380" y="114"/>
                  </a:lnTo>
                  <a:lnTo>
                    <a:pt x="1385" y="109"/>
                  </a:lnTo>
                  <a:lnTo>
                    <a:pt x="1395" y="109"/>
                  </a:lnTo>
                  <a:lnTo>
                    <a:pt x="1400" y="109"/>
                  </a:lnTo>
                  <a:lnTo>
                    <a:pt x="1410" y="109"/>
                  </a:lnTo>
                  <a:lnTo>
                    <a:pt x="1419" y="114"/>
                  </a:lnTo>
                  <a:lnTo>
                    <a:pt x="1424" y="119"/>
                  </a:lnTo>
                  <a:lnTo>
                    <a:pt x="1434" y="119"/>
                  </a:lnTo>
                  <a:lnTo>
                    <a:pt x="1434" y="124"/>
                  </a:lnTo>
                  <a:lnTo>
                    <a:pt x="1439" y="119"/>
                  </a:lnTo>
                  <a:lnTo>
                    <a:pt x="1434" y="109"/>
                  </a:lnTo>
                  <a:lnTo>
                    <a:pt x="1439" y="104"/>
                  </a:lnTo>
                  <a:lnTo>
                    <a:pt x="1439" y="99"/>
                  </a:lnTo>
                  <a:lnTo>
                    <a:pt x="1444" y="94"/>
                  </a:lnTo>
                  <a:lnTo>
                    <a:pt x="1449" y="89"/>
                  </a:lnTo>
                  <a:lnTo>
                    <a:pt x="1454" y="84"/>
                  </a:lnTo>
                  <a:lnTo>
                    <a:pt x="1464" y="84"/>
                  </a:lnTo>
                  <a:lnTo>
                    <a:pt x="1474" y="84"/>
                  </a:lnTo>
                  <a:lnTo>
                    <a:pt x="1479" y="84"/>
                  </a:lnTo>
                  <a:lnTo>
                    <a:pt x="1489" y="79"/>
                  </a:lnTo>
                  <a:lnTo>
                    <a:pt x="1499" y="79"/>
                  </a:lnTo>
                  <a:lnTo>
                    <a:pt x="1504" y="79"/>
                  </a:lnTo>
                  <a:lnTo>
                    <a:pt x="1513" y="79"/>
                  </a:lnTo>
                  <a:lnTo>
                    <a:pt x="1518" y="74"/>
                  </a:lnTo>
                  <a:lnTo>
                    <a:pt x="1523" y="70"/>
                  </a:lnTo>
                  <a:lnTo>
                    <a:pt x="1528" y="65"/>
                  </a:lnTo>
                  <a:lnTo>
                    <a:pt x="1533" y="65"/>
                  </a:lnTo>
                  <a:lnTo>
                    <a:pt x="1538" y="60"/>
                  </a:lnTo>
                  <a:lnTo>
                    <a:pt x="1548" y="55"/>
                  </a:lnTo>
                  <a:lnTo>
                    <a:pt x="1558" y="55"/>
                  </a:lnTo>
                  <a:lnTo>
                    <a:pt x="1563" y="55"/>
                  </a:lnTo>
                  <a:lnTo>
                    <a:pt x="1573" y="55"/>
                  </a:lnTo>
                  <a:lnTo>
                    <a:pt x="1583" y="55"/>
                  </a:lnTo>
                  <a:lnTo>
                    <a:pt x="1588" y="50"/>
                  </a:lnTo>
                  <a:lnTo>
                    <a:pt x="1593" y="50"/>
                  </a:lnTo>
                  <a:lnTo>
                    <a:pt x="1598" y="45"/>
                  </a:lnTo>
                  <a:lnTo>
                    <a:pt x="1607" y="40"/>
                  </a:lnTo>
                  <a:lnTo>
                    <a:pt x="1612" y="35"/>
                  </a:lnTo>
                  <a:lnTo>
                    <a:pt x="1617" y="35"/>
                  </a:lnTo>
                  <a:lnTo>
                    <a:pt x="1627" y="30"/>
                  </a:lnTo>
                  <a:lnTo>
                    <a:pt x="1632" y="30"/>
                  </a:lnTo>
                  <a:lnTo>
                    <a:pt x="1642" y="30"/>
                  </a:lnTo>
                  <a:lnTo>
                    <a:pt x="1652" y="30"/>
                  </a:lnTo>
                  <a:lnTo>
                    <a:pt x="1662" y="30"/>
                  </a:lnTo>
                  <a:lnTo>
                    <a:pt x="1667" y="30"/>
                  </a:lnTo>
                  <a:lnTo>
                    <a:pt x="1677" y="35"/>
                  </a:lnTo>
                  <a:lnTo>
                    <a:pt x="1682" y="35"/>
                  </a:lnTo>
                  <a:lnTo>
                    <a:pt x="1687" y="40"/>
                  </a:lnTo>
                  <a:lnTo>
                    <a:pt x="1691" y="45"/>
                  </a:lnTo>
                  <a:lnTo>
                    <a:pt x="1696" y="50"/>
                  </a:lnTo>
                  <a:lnTo>
                    <a:pt x="1706" y="50"/>
                  </a:lnTo>
                  <a:lnTo>
                    <a:pt x="1711" y="55"/>
                  </a:lnTo>
                  <a:lnTo>
                    <a:pt x="1721" y="55"/>
                  </a:lnTo>
                  <a:lnTo>
                    <a:pt x="1731" y="55"/>
                  </a:lnTo>
                  <a:lnTo>
                    <a:pt x="1736" y="55"/>
                  </a:lnTo>
                  <a:lnTo>
                    <a:pt x="1746" y="55"/>
                  </a:lnTo>
                  <a:lnTo>
                    <a:pt x="1756" y="55"/>
                  </a:lnTo>
                  <a:lnTo>
                    <a:pt x="1761" y="55"/>
                  </a:lnTo>
                  <a:lnTo>
                    <a:pt x="1771" y="60"/>
                  </a:lnTo>
                  <a:lnTo>
                    <a:pt x="1780" y="60"/>
                  </a:lnTo>
                  <a:lnTo>
                    <a:pt x="1785" y="60"/>
                  </a:lnTo>
                  <a:lnTo>
                    <a:pt x="1790" y="65"/>
                  </a:lnTo>
                  <a:lnTo>
                    <a:pt x="1795" y="70"/>
                  </a:lnTo>
                  <a:lnTo>
                    <a:pt x="1800" y="74"/>
                  </a:lnTo>
                  <a:lnTo>
                    <a:pt x="1805" y="79"/>
                  </a:lnTo>
                  <a:lnTo>
                    <a:pt x="1815" y="84"/>
                  </a:lnTo>
                  <a:lnTo>
                    <a:pt x="1820" y="84"/>
                  </a:lnTo>
                  <a:lnTo>
                    <a:pt x="1830" y="84"/>
                  </a:lnTo>
                  <a:lnTo>
                    <a:pt x="1840" y="84"/>
                  </a:lnTo>
                  <a:lnTo>
                    <a:pt x="1845" y="84"/>
                  </a:lnTo>
                  <a:lnTo>
                    <a:pt x="1855" y="84"/>
                  </a:lnTo>
                  <a:lnTo>
                    <a:pt x="1865" y="84"/>
                  </a:lnTo>
                  <a:lnTo>
                    <a:pt x="1870" y="84"/>
                  </a:lnTo>
                  <a:lnTo>
                    <a:pt x="1879" y="84"/>
                  </a:lnTo>
                  <a:lnTo>
                    <a:pt x="1889" y="89"/>
                  </a:lnTo>
                  <a:lnTo>
                    <a:pt x="1894" y="89"/>
                  </a:lnTo>
                  <a:lnTo>
                    <a:pt x="1899" y="94"/>
                  </a:lnTo>
                  <a:lnTo>
                    <a:pt x="1904" y="99"/>
                  </a:lnTo>
                  <a:lnTo>
                    <a:pt x="1909" y="104"/>
                  </a:lnTo>
                  <a:lnTo>
                    <a:pt x="1914" y="109"/>
                  </a:lnTo>
                  <a:lnTo>
                    <a:pt x="1919" y="109"/>
                  </a:lnTo>
                  <a:lnTo>
                    <a:pt x="1929" y="114"/>
                  </a:lnTo>
                  <a:lnTo>
                    <a:pt x="1939" y="114"/>
                  </a:lnTo>
                  <a:lnTo>
                    <a:pt x="1944" y="114"/>
                  </a:lnTo>
                  <a:lnTo>
                    <a:pt x="1954" y="114"/>
                  </a:lnTo>
                  <a:lnTo>
                    <a:pt x="1963" y="114"/>
                  </a:lnTo>
                  <a:lnTo>
                    <a:pt x="1968" y="114"/>
                  </a:lnTo>
                  <a:lnTo>
                    <a:pt x="1978" y="114"/>
                  </a:lnTo>
                  <a:lnTo>
                    <a:pt x="1988" y="114"/>
                  </a:lnTo>
                  <a:lnTo>
                    <a:pt x="1993" y="114"/>
                  </a:lnTo>
                  <a:lnTo>
                    <a:pt x="2003" y="119"/>
                  </a:lnTo>
                  <a:lnTo>
                    <a:pt x="2008" y="124"/>
                  </a:lnTo>
                  <a:lnTo>
                    <a:pt x="2013" y="129"/>
                  </a:lnTo>
                  <a:lnTo>
                    <a:pt x="2013" y="134"/>
                  </a:lnTo>
                  <a:lnTo>
                    <a:pt x="2018" y="139"/>
                  </a:lnTo>
                  <a:lnTo>
                    <a:pt x="2023" y="144"/>
                  </a:lnTo>
                  <a:lnTo>
                    <a:pt x="2028" y="144"/>
                  </a:lnTo>
                  <a:lnTo>
                    <a:pt x="2038" y="144"/>
                  </a:lnTo>
                  <a:lnTo>
                    <a:pt x="2048" y="144"/>
                  </a:lnTo>
                  <a:lnTo>
                    <a:pt x="2052" y="149"/>
                  </a:lnTo>
                  <a:lnTo>
                    <a:pt x="2062" y="149"/>
                  </a:lnTo>
                  <a:lnTo>
                    <a:pt x="2072" y="149"/>
                  </a:lnTo>
                  <a:lnTo>
                    <a:pt x="2077" y="149"/>
                  </a:lnTo>
                  <a:lnTo>
                    <a:pt x="2087" y="149"/>
                  </a:lnTo>
                  <a:lnTo>
                    <a:pt x="2097" y="154"/>
                  </a:lnTo>
                  <a:lnTo>
                    <a:pt x="2102" y="154"/>
                  </a:lnTo>
                  <a:lnTo>
                    <a:pt x="2107" y="159"/>
                  </a:lnTo>
                  <a:lnTo>
                    <a:pt x="2107" y="163"/>
                  </a:lnTo>
                  <a:lnTo>
                    <a:pt x="2107" y="168"/>
                  </a:lnTo>
                  <a:lnTo>
                    <a:pt x="2107" y="173"/>
                  </a:lnTo>
                  <a:lnTo>
                    <a:pt x="2107" y="183"/>
                  </a:lnTo>
                  <a:lnTo>
                    <a:pt x="2102" y="188"/>
                  </a:lnTo>
                  <a:lnTo>
                    <a:pt x="2102" y="193"/>
                  </a:lnTo>
                  <a:lnTo>
                    <a:pt x="2097" y="198"/>
                  </a:lnTo>
                  <a:lnTo>
                    <a:pt x="2092" y="203"/>
                  </a:lnTo>
                  <a:lnTo>
                    <a:pt x="2092" y="208"/>
                  </a:lnTo>
                  <a:lnTo>
                    <a:pt x="2087" y="213"/>
                  </a:lnTo>
                  <a:lnTo>
                    <a:pt x="2082" y="218"/>
                  </a:lnTo>
                  <a:lnTo>
                    <a:pt x="2082" y="223"/>
                  </a:lnTo>
                  <a:lnTo>
                    <a:pt x="2077" y="228"/>
                  </a:lnTo>
                  <a:lnTo>
                    <a:pt x="2072" y="233"/>
                  </a:lnTo>
                  <a:lnTo>
                    <a:pt x="2072" y="238"/>
                  </a:lnTo>
                  <a:lnTo>
                    <a:pt x="2067" y="243"/>
                  </a:lnTo>
                  <a:lnTo>
                    <a:pt x="2067" y="247"/>
                  </a:lnTo>
                  <a:lnTo>
                    <a:pt x="2062" y="252"/>
                  </a:lnTo>
                  <a:lnTo>
                    <a:pt x="2062" y="257"/>
                  </a:lnTo>
                  <a:lnTo>
                    <a:pt x="2057" y="262"/>
                  </a:lnTo>
                  <a:lnTo>
                    <a:pt x="2052" y="267"/>
                  </a:lnTo>
                  <a:lnTo>
                    <a:pt x="2048" y="267"/>
                  </a:lnTo>
                  <a:lnTo>
                    <a:pt x="2038" y="272"/>
                  </a:lnTo>
                  <a:lnTo>
                    <a:pt x="2028" y="277"/>
                  </a:lnTo>
                  <a:lnTo>
                    <a:pt x="2023" y="277"/>
                  </a:lnTo>
                  <a:lnTo>
                    <a:pt x="2018" y="272"/>
                  </a:lnTo>
                  <a:lnTo>
                    <a:pt x="2013" y="267"/>
                  </a:lnTo>
                  <a:lnTo>
                    <a:pt x="2008" y="262"/>
                  </a:lnTo>
                  <a:lnTo>
                    <a:pt x="1998" y="257"/>
                  </a:lnTo>
                  <a:lnTo>
                    <a:pt x="1993" y="257"/>
                  </a:lnTo>
                  <a:lnTo>
                    <a:pt x="1983" y="257"/>
                  </a:lnTo>
                  <a:lnTo>
                    <a:pt x="1973" y="257"/>
                  </a:lnTo>
                  <a:lnTo>
                    <a:pt x="1968" y="252"/>
                  </a:lnTo>
                  <a:lnTo>
                    <a:pt x="1963" y="252"/>
                  </a:lnTo>
                  <a:lnTo>
                    <a:pt x="1959" y="247"/>
                  </a:lnTo>
                  <a:lnTo>
                    <a:pt x="1954" y="243"/>
                  </a:lnTo>
                  <a:lnTo>
                    <a:pt x="1949" y="238"/>
                  </a:lnTo>
                  <a:lnTo>
                    <a:pt x="1944" y="233"/>
                  </a:lnTo>
                  <a:lnTo>
                    <a:pt x="1934" y="233"/>
                  </a:lnTo>
                  <a:lnTo>
                    <a:pt x="1929" y="238"/>
                  </a:lnTo>
                  <a:lnTo>
                    <a:pt x="1924" y="243"/>
                  </a:lnTo>
                  <a:lnTo>
                    <a:pt x="1919" y="247"/>
                  </a:lnTo>
                  <a:lnTo>
                    <a:pt x="1914" y="252"/>
                  </a:lnTo>
                  <a:lnTo>
                    <a:pt x="1909" y="252"/>
                  </a:lnTo>
                  <a:lnTo>
                    <a:pt x="1904" y="247"/>
                  </a:lnTo>
                  <a:lnTo>
                    <a:pt x="1904" y="238"/>
                  </a:lnTo>
                  <a:lnTo>
                    <a:pt x="1904" y="233"/>
                  </a:lnTo>
                  <a:lnTo>
                    <a:pt x="1904" y="228"/>
                  </a:lnTo>
                  <a:lnTo>
                    <a:pt x="1909" y="223"/>
                  </a:lnTo>
                  <a:lnTo>
                    <a:pt x="1909" y="218"/>
                  </a:lnTo>
                  <a:lnTo>
                    <a:pt x="1909" y="213"/>
                  </a:lnTo>
                  <a:lnTo>
                    <a:pt x="1899" y="208"/>
                  </a:lnTo>
                  <a:lnTo>
                    <a:pt x="1894" y="208"/>
                  </a:lnTo>
                  <a:lnTo>
                    <a:pt x="1884" y="208"/>
                  </a:lnTo>
                  <a:lnTo>
                    <a:pt x="1879" y="213"/>
                  </a:lnTo>
                  <a:lnTo>
                    <a:pt x="1874" y="218"/>
                  </a:lnTo>
                  <a:lnTo>
                    <a:pt x="1870" y="223"/>
                  </a:lnTo>
                  <a:lnTo>
                    <a:pt x="1865" y="228"/>
                  </a:lnTo>
                  <a:lnTo>
                    <a:pt x="1865" y="233"/>
                  </a:lnTo>
                  <a:lnTo>
                    <a:pt x="1855" y="233"/>
                  </a:lnTo>
                  <a:lnTo>
                    <a:pt x="1850" y="228"/>
                  </a:lnTo>
                  <a:lnTo>
                    <a:pt x="1845" y="223"/>
                  </a:lnTo>
                  <a:lnTo>
                    <a:pt x="1835" y="218"/>
                  </a:lnTo>
                  <a:lnTo>
                    <a:pt x="1830" y="213"/>
                  </a:lnTo>
                  <a:lnTo>
                    <a:pt x="1825" y="208"/>
                  </a:lnTo>
                  <a:lnTo>
                    <a:pt x="1820" y="203"/>
                  </a:lnTo>
                  <a:lnTo>
                    <a:pt x="1815" y="203"/>
                  </a:lnTo>
                  <a:lnTo>
                    <a:pt x="1805" y="203"/>
                  </a:lnTo>
                  <a:lnTo>
                    <a:pt x="1800" y="203"/>
                  </a:lnTo>
                  <a:lnTo>
                    <a:pt x="1790" y="208"/>
                  </a:lnTo>
                  <a:lnTo>
                    <a:pt x="1785" y="208"/>
                  </a:lnTo>
                  <a:lnTo>
                    <a:pt x="1776" y="208"/>
                  </a:lnTo>
                  <a:lnTo>
                    <a:pt x="1771" y="203"/>
                  </a:lnTo>
                  <a:lnTo>
                    <a:pt x="1766" y="198"/>
                  </a:lnTo>
                  <a:lnTo>
                    <a:pt x="1761" y="193"/>
                  </a:lnTo>
                  <a:lnTo>
                    <a:pt x="1756" y="188"/>
                  </a:lnTo>
                  <a:lnTo>
                    <a:pt x="1746" y="183"/>
                  </a:lnTo>
                  <a:lnTo>
                    <a:pt x="1741" y="183"/>
                  </a:lnTo>
                  <a:lnTo>
                    <a:pt x="1731" y="183"/>
                  </a:lnTo>
                  <a:lnTo>
                    <a:pt x="1721" y="183"/>
                  </a:lnTo>
                  <a:lnTo>
                    <a:pt x="1716" y="183"/>
                  </a:lnTo>
                  <a:lnTo>
                    <a:pt x="1706" y="183"/>
                  </a:lnTo>
                  <a:lnTo>
                    <a:pt x="1701" y="178"/>
                  </a:lnTo>
                  <a:lnTo>
                    <a:pt x="1691" y="178"/>
                  </a:lnTo>
                  <a:lnTo>
                    <a:pt x="1687" y="173"/>
                  </a:lnTo>
                  <a:lnTo>
                    <a:pt x="1682" y="168"/>
                  </a:lnTo>
                  <a:lnTo>
                    <a:pt x="1677" y="163"/>
                  </a:lnTo>
                  <a:lnTo>
                    <a:pt x="1672" y="159"/>
                  </a:lnTo>
                  <a:lnTo>
                    <a:pt x="1662" y="159"/>
                  </a:lnTo>
                  <a:lnTo>
                    <a:pt x="1652" y="159"/>
                  </a:lnTo>
                  <a:lnTo>
                    <a:pt x="1647" y="159"/>
                  </a:lnTo>
                  <a:lnTo>
                    <a:pt x="1637" y="159"/>
                  </a:lnTo>
                  <a:lnTo>
                    <a:pt x="1632" y="163"/>
                  </a:lnTo>
                  <a:lnTo>
                    <a:pt x="1627" y="168"/>
                  </a:lnTo>
                  <a:lnTo>
                    <a:pt x="1622" y="173"/>
                  </a:lnTo>
                  <a:lnTo>
                    <a:pt x="1622" y="183"/>
                  </a:lnTo>
                  <a:lnTo>
                    <a:pt x="1622" y="183"/>
                  </a:lnTo>
                  <a:lnTo>
                    <a:pt x="1622" y="183"/>
                  </a:lnTo>
                  <a:lnTo>
                    <a:pt x="1622" y="178"/>
                  </a:lnTo>
                  <a:lnTo>
                    <a:pt x="1617" y="173"/>
                  </a:lnTo>
                  <a:lnTo>
                    <a:pt x="1617" y="163"/>
                  </a:lnTo>
                  <a:lnTo>
                    <a:pt x="1612" y="159"/>
                  </a:lnTo>
                  <a:lnTo>
                    <a:pt x="1602" y="159"/>
                  </a:lnTo>
                  <a:lnTo>
                    <a:pt x="1593" y="159"/>
                  </a:lnTo>
                  <a:lnTo>
                    <a:pt x="1588" y="159"/>
                  </a:lnTo>
                  <a:lnTo>
                    <a:pt x="1583" y="163"/>
                  </a:lnTo>
                  <a:lnTo>
                    <a:pt x="1578" y="168"/>
                  </a:lnTo>
                  <a:lnTo>
                    <a:pt x="1578" y="173"/>
                  </a:lnTo>
                  <a:lnTo>
                    <a:pt x="1583" y="183"/>
                  </a:lnTo>
                  <a:lnTo>
                    <a:pt x="1588" y="183"/>
                  </a:lnTo>
                  <a:lnTo>
                    <a:pt x="1598" y="188"/>
                  </a:lnTo>
                  <a:lnTo>
                    <a:pt x="1602" y="188"/>
                  </a:lnTo>
                  <a:lnTo>
                    <a:pt x="1612" y="188"/>
                  </a:lnTo>
                  <a:lnTo>
                    <a:pt x="1622" y="188"/>
                  </a:lnTo>
                  <a:lnTo>
                    <a:pt x="1627" y="188"/>
                  </a:lnTo>
                  <a:lnTo>
                    <a:pt x="1632" y="193"/>
                  </a:lnTo>
                  <a:lnTo>
                    <a:pt x="1637" y="198"/>
                  </a:lnTo>
                  <a:lnTo>
                    <a:pt x="1637" y="203"/>
                  </a:lnTo>
                  <a:lnTo>
                    <a:pt x="1642" y="208"/>
                  </a:lnTo>
                  <a:lnTo>
                    <a:pt x="1647" y="213"/>
                  </a:lnTo>
                  <a:lnTo>
                    <a:pt x="1652" y="218"/>
                  </a:lnTo>
                  <a:lnTo>
                    <a:pt x="1657" y="223"/>
                  </a:lnTo>
                  <a:lnTo>
                    <a:pt x="1662" y="228"/>
                  </a:lnTo>
                  <a:lnTo>
                    <a:pt x="1667" y="233"/>
                  </a:lnTo>
                  <a:lnTo>
                    <a:pt x="1672" y="238"/>
                  </a:lnTo>
                  <a:lnTo>
                    <a:pt x="1677" y="243"/>
                  </a:lnTo>
                  <a:lnTo>
                    <a:pt x="1677" y="247"/>
                  </a:lnTo>
                  <a:lnTo>
                    <a:pt x="1687" y="247"/>
                  </a:lnTo>
                  <a:lnTo>
                    <a:pt x="1691" y="252"/>
                  </a:lnTo>
                  <a:lnTo>
                    <a:pt x="1696" y="257"/>
                  </a:lnTo>
                  <a:lnTo>
                    <a:pt x="1701" y="262"/>
                  </a:lnTo>
                  <a:lnTo>
                    <a:pt x="1701" y="267"/>
                  </a:lnTo>
                  <a:lnTo>
                    <a:pt x="1696" y="272"/>
                  </a:lnTo>
                  <a:lnTo>
                    <a:pt x="1691" y="277"/>
                  </a:lnTo>
                  <a:lnTo>
                    <a:pt x="1682" y="282"/>
                  </a:lnTo>
                  <a:lnTo>
                    <a:pt x="1677" y="282"/>
                  </a:lnTo>
                  <a:lnTo>
                    <a:pt x="1672" y="277"/>
                  </a:lnTo>
                  <a:lnTo>
                    <a:pt x="1667" y="272"/>
                  </a:lnTo>
                  <a:lnTo>
                    <a:pt x="1662" y="267"/>
                  </a:lnTo>
                  <a:lnTo>
                    <a:pt x="1657" y="262"/>
                  </a:lnTo>
                  <a:lnTo>
                    <a:pt x="1652" y="257"/>
                  </a:lnTo>
                  <a:lnTo>
                    <a:pt x="1647" y="257"/>
                  </a:lnTo>
                  <a:lnTo>
                    <a:pt x="1642" y="252"/>
                  </a:lnTo>
                  <a:lnTo>
                    <a:pt x="1637" y="247"/>
                  </a:lnTo>
                  <a:lnTo>
                    <a:pt x="1632" y="243"/>
                  </a:lnTo>
                  <a:lnTo>
                    <a:pt x="1627" y="238"/>
                  </a:lnTo>
                  <a:lnTo>
                    <a:pt x="1622" y="233"/>
                  </a:lnTo>
                  <a:lnTo>
                    <a:pt x="1617" y="233"/>
                  </a:lnTo>
                  <a:lnTo>
                    <a:pt x="1607" y="233"/>
                  </a:lnTo>
                  <a:lnTo>
                    <a:pt x="1598" y="233"/>
                  </a:lnTo>
                  <a:lnTo>
                    <a:pt x="1588" y="233"/>
                  </a:lnTo>
                  <a:lnTo>
                    <a:pt x="1578" y="233"/>
                  </a:lnTo>
                  <a:lnTo>
                    <a:pt x="1573" y="238"/>
                  </a:lnTo>
                  <a:lnTo>
                    <a:pt x="1568" y="238"/>
                  </a:lnTo>
                  <a:lnTo>
                    <a:pt x="1563" y="243"/>
                  </a:lnTo>
                  <a:lnTo>
                    <a:pt x="1558" y="247"/>
                  </a:lnTo>
                  <a:lnTo>
                    <a:pt x="1553" y="252"/>
                  </a:lnTo>
                  <a:lnTo>
                    <a:pt x="1543" y="257"/>
                  </a:lnTo>
                  <a:lnTo>
                    <a:pt x="1538" y="257"/>
                  </a:lnTo>
                  <a:lnTo>
                    <a:pt x="1528" y="257"/>
                  </a:lnTo>
                  <a:lnTo>
                    <a:pt x="1518" y="262"/>
                  </a:lnTo>
                  <a:lnTo>
                    <a:pt x="1513" y="262"/>
                  </a:lnTo>
                  <a:lnTo>
                    <a:pt x="1504" y="262"/>
                  </a:lnTo>
                  <a:lnTo>
                    <a:pt x="1499" y="267"/>
                  </a:lnTo>
                  <a:lnTo>
                    <a:pt x="1489" y="267"/>
                  </a:lnTo>
                  <a:lnTo>
                    <a:pt x="1484" y="272"/>
                  </a:lnTo>
                  <a:lnTo>
                    <a:pt x="1479" y="277"/>
                  </a:lnTo>
                  <a:lnTo>
                    <a:pt x="1474" y="282"/>
                  </a:lnTo>
                  <a:lnTo>
                    <a:pt x="1464" y="282"/>
                  </a:lnTo>
                  <a:lnTo>
                    <a:pt x="1459" y="287"/>
                  </a:lnTo>
                  <a:lnTo>
                    <a:pt x="1449" y="287"/>
                  </a:lnTo>
                  <a:lnTo>
                    <a:pt x="1439" y="287"/>
                  </a:lnTo>
                  <a:lnTo>
                    <a:pt x="1434" y="292"/>
                  </a:lnTo>
                  <a:lnTo>
                    <a:pt x="1429" y="297"/>
                  </a:lnTo>
                  <a:lnTo>
                    <a:pt x="1424" y="302"/>
                  </a:lnTo>
                  <a:lnTo>
                    <a:pt x="1419" y="302"/>
                  </a:lnTo>
                  <a:lnTo>
                    <a:pt x="1410" y="307"/>
                  </a:lnTo>
                  <a:lnTo>
                    <a:pt x="1405" y="307"/>
                  </a:lnTo>
                  <a:lnTo>
                    <a:pt x="1395" y="307"/>
                  </a:lnTo>
                  <a:lnTo>
                    <a:pt x="1385" y="307"/>
                  </a:lnTo>
                  <a:lnTo>
                    <a:pt x="1380" y="312"/>
                  </a:lnTo>
                  <a:lnTo>
                    <a:pt x="1370" y="312"/>
                  </a:lnTo>
                  <a:lnTo>
                    <a:pt x="1365" y="312"/>
                  </a:lnTo>
                  <a:lnTo>
                    <a:pt x="1355" y="317"/>
                  </a:lnTo>
                  <a:lnTo>
                    <a:pt x="1350" y="322"/>
                  </a:lnTo>
                  <a:lnTo>
                    <a:pt x="1340" y="322"/>
                  </a:lnTo>
                  <a:lnTo>
                    <a:pt x="1335" y="327"/>
                  </a:lnTo>
                  <a:lnTo>
                    <a:pt x="1326" y="327"/>
                  </a:lnTo>
                  <a:lnTo>
                    <a:pt x="1321" y="327"/>
                  </a:lnTo>
                  <a:lnTo>
                    <a:pt x="1311" y="327"/>
                  </a:lnTo>
                  <a:lnTo>
                    <a:pt x="1301" y="322"/>
                  </a:lnTo>
                  <a:lnTo>
                    <a:pt x="1296" y="322"/>
                  </a:lnTo>
                  <a:close/>
                  <a:moveTo>
                    <a:pt x="925" y="238"/>
                  </a:moveTo>
                  <a:lnTo>
                    <a:pt x="930" y="238"/>
                  </a:lnTo>
                  <a:lnTo>
                    <a:pt x="930" y="233"/>
                  </a:lnTo>
                  <a:lnTo>
                    <a:pt x="935" y="233"/>
                  </a:lnTo>
                  <a:lnTo>
                    <a:pt x="935" y="233"/>
                  </a:lnTo>
                  <a:lnTo>
                    <a:pt x="940" y="228"/>
                  </a:lnTo>
                  <a:lnTo>
                    <a:pt x="945" y="228"/>
                  </a:lnTo>
                  <a:lnTo>
                    <a:pt x="945" y="223"/>
                  </a:lnTo>
                  <a:lnTo>
                    <a:pt x="950" y="223"/>
                  </a:lnTo>
                  <a:lnTo>
                    <a:pt x="950" y="218"/>
                  </a:lnTo>
                  <a:lnTo>
                    <a:pt x="955" y="218"/>
                  </a:lnTo>
                  <a:lnTo>
                    <a:pt x="955" y="213"/>
                  </a:lnTo>
                  <a:lnTo>
                    <a:pt x="960" y="213"/>
                  </a:lnTo>
                  <a:lnTo>
                    <a:pt x="955" y="213"/>
                  </a:lnTo>
                  <a:lnTo>
                    <a:pt x="950" y="218"/>
                  </a:lnTo>
                  <a:lnTo>
                    <a:pt x="950" y="218"/>
                  </a:lnTo>
                  <a:lnTo>
                    <a:pt x="945" y="223"/>
                  </a:lnTo>
                  <a:lnTo>
                    <a:pt x="945" y="223"/>
                  </a:lnTo>
                  <a:lnTo>
                    <a:pt x="945" y="228"/>
                  </a:lnTo>
                  <a:lnTo>
                    <a:pt x="940" y="228"/>
                  </a:lnTo>
                  <a:lnTo>
                    <a:pt x="940" y="233"/>
                  </a:lnTo>
                  <a:lnTo>
                    <a:pt x="940" y="233"/>
                  </a:lnTo>
                  <a:lnTo>
                    <a:pt x="935" y="238"/>
                  </a:lnTo>
                  <a:lnTo>
                    <a:pt x="935" y="243"/>
                  </a:lnTo>
                  <a:lnTo>
                    <a:pt x="930" y="243"/>
                  </a:lnTo>
                  <a:lnTo>
                    <a:pt x="930" y="243"/>
                  </a:lnTo>
                  <a:lnTo>
                    <a:pt x="925" y="238"/>
                  </a:lnTo>
                  <a:close/>
                  <a:moveTo>
                    <a:pt x="1296" y="238"/>
                  </a:moveTo>
                  <a:lnTo>
                    <a:pt x="1296" y="238"/>
                  </a:lnTo>
                  <a:lnTo>
                    <a:pt x="1301" y="233"/>
                  </a:lnTo>
                  <a:lnTo>
                    <a:pt x="1301" y="233"/>
                  </a:lnTo>
                  <a:lnTo>
                    <a:pt x="1306" y="233"/>
                  </a:lnTo>
                  <a:lnTo>
                    <a:pt x="1316" y="233"/>
                  </a:lnTo>
                  <a:lnTo>
                    <a:pt x="1321" y="238"/>
                  </a:lnTo>
                  <a:lnTo>
                    <a:pt x="1321" y="238"/>
                  </a:lnTo>
                  <a:lnTo>
                    <a:pt x="1321" y="243"/>
                  </a:lnTo>
                  <a:lnTo>
                    <a:pt x="1316" y="243"/>
                  </a:lnTo>
                  <a:lnTo>
                    <a:pt x="1311" y="247"/>
                  </a:lnTo>
                  <a:lnTo>
                    <a:pt x="1306" y="247"/>
                  </a:lnTo>
                  <a:lnTo>
                    <a:pt x="1301" y="247"/>
                  </a:lnTo>
                  <a:lnTo>
                    <a:pt x="1296" y="243"/>
                  </a:lnTo>
                  <a:lnTo>
                    <a:pt x="1296" y="238"/>
                  </a:lnTo>
                  <a:close/>
                  <a:moveTo>
                    <a:pt x="1474" y="238"/>
                  </a:moveTo>
                  <a:lnTo>
                    <a:pt x="1474" y="233"/>
                  </a:lnTo>
                  <a:lnTo>
                    <a:pt x="1479" y="228"/>
                  </a:lnTo>
                  <a:lnTo>
                    <a:pt x="1484" y="223"/>
                  </a:lnTo>
                  <a:lnTo>
                    <a:pt x="1484" y="218"/>
                  </a:lnTo>
                  <a:lnTo>
                    <a:pt x="1479" y="213"/>
                  </a:lnTo>
                  <a:lnTo>
                    <a:pt x="1474" y="213"/>
                  </a:lnTo>
                  <a:lnTo>
                    <a:pt x="1464" y="208"/>
                  </a:lnTo>
                  <a:lnTo>
                    <a:pt x="1454" y="208"/>
                  </a:lnTo>
                  <a:lnTo>
                    <a:pt x="1449" y="213"/>
                  </a:lnTo>
                  <a:lnTo>
                    <a:pt x="1439" y="213"/>
                  </a:lnTo>
                  <a:lnTo>
                    <a:pt x="1434" y="218"/>
                  </a:lnTo>
                  <a:lnTo>
                    <a:pt x="1434" y="223"/>
                  </a:lnTo>
                  <a:lnTo>
                    <a:pt x="1429" y="228"/>
                  </a:lnTo>
                  <a:lnTo>
                    <a:pt x="1429" y="233"/>
                  </a:lnTo>
                  <a:lnTo>
                    <a:pt x="1434" y="238"/>
                  </a:lnTo>
                  <a:lnTo>
                    <a:pt x="1439" y="243"/>
                  </a:lnTo>
                  <a:lnTo>
                    <a:pt x="1449" y="243"/>
                  </a:lnTo>
                  <a:lnTo>
                    <a:pt x="1459" y="243"/>
                  </a:lnTo>
                  <a:lnTo>
                    <a:pt x="1464" y="243"/>
                  </a:lnTo>
                  <a:lnTo>
                    <a:pt x="1474" y="238"/>
                  </a:lnTo>
                  <a:close/>
                  <a:moveTo>
                    <a:pt x="1543" y="213"/>
                  </a:moveTo>
                  <a:lnTo>
                    <a:pt x="1543" y="208"/>
                  </a:lnTo>
                  <a:lnTo>
                    <a:pt x="1543" y="208"/>
                  </a:lnTo>
                  <a:lnTo>
                    <a:pt x="1543" y="203"/>
                  </a:lnTo>
                  <a:lnTo>
                    <a:pt x="1543" y="198"/>
                  </a:lnTo>
                  <a:lnTo>
                    <a:pt x="1543" y="193"/>
                  </a:lnTo>
                  <a:lnTo>
                    <a:pt x="1543" y="188"/>
                  </a:lnTo>
                  <a:lnTo>
                    <a:pt x="1538" y="188"/>
                  </a:lnTo>
                  <a:lnTo>
                    <a:pt x="1533" y="183"/>
                  </a:lnTo>
                  <a:lnTo>
                    <a:pt x="1528" y="183"/>
                  </a:lnTo>
                  <a:lnTo>
                    <a:pt x="1523" y="183"/>
                  </a:lnTo>
                  <a:lnTo>
                    <a:pt x="1518" y="183"/>
                  </a:lnTo>
                  <a:lnTo>
                    <a:pt x="1508" y="183"/>
                  </a:lnTo>
                  <a:lnTo>
                    <a:pt x="1508" y="188"/>
                  </a:lnTo>
                  <a:lnTo>
                    <a:pt x="1504" y="193"/>
                  </a:lnTo>
                  <a:lnTo>
                    <a:pt x="1499" y="193"/>
                  </a:lnTo>
                  <a:lnTo>
                    <a:pt x="1499" y="198"/>
                  </a:lnTo>
                  <a:lnTo>
                    <a:pt x="1499" y="203"/>
                  </a:lnTo>
                  <a:lnTo>
                    <a:pt x="1504" y="208"/>
                  </a:lnTo>
                  <a:lnTo>
                    <a:pt x="1508" y="213"/>
                  </a:lnTo>
                  <a:lnTo>
                    <a:pt x="1508" y="213"/>
                  </a:lnTo>
                  <a:lnTo>
                    <a:pt x="1518" y="213"/>
                  </a:lnTo>
                  <a:lnTo>
                    <a:pt x="1523" y="213"/>
                  </a:lnTo>
                  <a:lnTo>
                    <a:pt x="1528" y="218"/>
                  </a:lnTo>
                  <a:lnTo>
                    <a:pt x="1533" y="218"/>
                  </a:lnTo>
                  <a:lnTo>
                    <a:pt x="1538" y="218"/>
                  </a:lnTo>
                  <a:lnTo>
                    <a:pt x="1543" y="213"/>
                  </a:lnTo>
                  <a:close/>
                  <a:moveTo>
                    <a:pt x="2181" y="213"/>
                  </a:moveTo>
                  <a:lnTo>
                    <a:pt x="2181" y="213"/>
                  </a:lnTo>
                  <a:lnTo>
                    <a:pt x="2181" y="213"/>
                  </a:lnTo>
                  <a:lnTo>
                    <a:pt x="2181" y="213"/>
                  </a:lnTo>
                  <a:lnTo>
                    <a:pt x="2181" y="213"/>
                  </a:lnTo>
                  <a:lnTo>
                    <a:pt x="2181" y="213"/>
                  </a:lnTo>
                  <a:lnTo>
                    <a:pt x="2181" y="213"/>
                  </a:lnTo>
                  <a:lnTo>
                    <a:pt x="2181" y="213"/>
                  </a:lnTo>
                  <a:lnTo>
                    <a:pt x="2181" y="213"/>
                  </a:lnTo>
                  <a:lnTo>
                    <a:pt x="2181" y="218"/>
                  </a:lnTo>
                  <a:lnTo>
                    <a:pt x="2181" y="218"/>
                  </a:lnTo>
                  <a:lnTo>
                    <a:pt x="2181" y="218"/>
                  </a:lnTo>
                  <a:lnTo>
                    <a:pt x="2181" y="213"/>
                  </a:lnTo>
                  <a:lnTo>
                    <a:pt x="2181" y="213"/>
                  </a:lnTo>
                  <a:lnTo>
                    <a:pt x="2181" y="213"/>
                  </a:lnTo>
                  <a:close/>
                  <a:moveTo>
                    <a:pt x="994" y="188"/>
                  </a:moveTo>
                  <a:lnTo>
                    <a:pt x="999" y="178"/>
                  </a:lnTo>
                  <a:lnTo>
                    <a:pt x="1004" y="178"/>
                  </a:lnTo>
                  <a:lnTo>
                    <a:pt x="1009" y="173"/>
                  </a:lnTo>
                  <a:lnTo>
                    <a:pt x="1014" y="173"/>
                  </a:lnTo>
                  <a:lnTo>
                    <a:pt x="1019" y="178"/>
                  </a:lnTo>
                  <a:lnTo>
                    <a:pt x="1019" y="183"/>
                  </a:lnTo>
                  <a:lnTo>
                    <a:pt x="1024" y="188"/>
                  </a:lnTo>
                  <a:lnTo>
                    <a:pt x="1019" y="193"/>
                  </a:lnTo>
                  <a:lnTo>
                    <a:pt x="1014" y="198"/>
                  </a:lnTo>
                  <a:lnTo>
                    <a:pt x="1009" y="198"/>
                  </a:lnTo>
                  <a:lnTo>
                    <a:pt x="1009" y="198"/>
                  </a:lnTo>
                  <a:lnTo>
                    <a:pt x="1004" y="198"/>
                  </a:lnTo>
                  <a:lnTo>
                    <a:pt x="999" y="193"/>
                  </a:lnTo>
                  <a:lnTo>
                    <a:pt x="994" y="188"/>
                  </a:lnTo>
                  <a:close/>
                  <a:moveTo>
                    <a:pt x="1187" y="188"/>
                  </a:moveTo>
                  <a:lnTo>
                    <a:pt x="1192" y="183"/>
                  </a:lnTo>
                  <a:lnTo>
                    <a:pt x="1197" y="178"/>
                  </a:lnTo>
                  <a:lnTo>
                    <a:pt x="1207" y="173"/>
                  </a:lnTo>
                  <a:lnTo>
                    <a:pt x="1212" y="173"/>
                  </a:lnTo>
                  <a:lnTo>
                    <a:pt x="1222" y="168"/>
                  </a:lnTo>
                  <a:lnTo>
                    <a:pt x="1232" y="173"/>
                  </a:lnTo>
                  <a:lnTo>
                    <a:pt x="1236" y="178"/>
                  </a:lnTo>
                  <a:lnTo>
                    <a:pt x="1241" y="183"/>
                  </a:lnTo>
                  <a:lnTo>
                    <a:pt x="1241" y="188"/>
                  </a:lnTo>
                  <a:lnTo>
                    <a:pt x="1241" y="193"/>
                  </a:lnTo>
                  <a:lnTo>
                    <a:pt x="1236" y="203"/>
                  </a:lnTo>
                  <a:lnTo>
                    <a:pt x="1232" y="208"/>
                  </a:lnTo>
                  <a:lnTo>
                    <a:pt x="1227" y="208"/>
                  </a:lnTo>
                  <a:lnTo>
                    <a:pt x="1222" y="213"/>
                  </a:lnTo>
                  <a:lnTo>
                    <a:pt x="1212" y="208"/>
                  </a:lnTo>
                  <a:lnTo>
                    <a:pt x="1207" y="208"/>
                  </a:lnTo>
                  <a:lnTo>
                    <a:pt x="1197" y="203"/>
                  </a:lnTo>
                  <a:lnTo>
                    <a:pt x="1192" y="198"/>
                  </a:lnTo>
                  <a:lnTo>
                    <a:pt x="1192" y="193"/>
                  </a:lnTo>
                  <a:lnTo>
                    <a:pt x="1187" y="188"/>
                  </a:lnTo>
                  <a:close/>
                  <a:moveTo>
                    <a:pt x="1301" y="188"/>
                  </a:moveTo>
                  <a:lnTo>
                    <a:pt x="1296" y="183"/>
                  </a:lnTo>
                  <a:lnTo>
                    <a:pt x="1291" y="178"/>
                  </a:lnTo>
                  <a:lnTo>
                    <a:pt x="1286" y="178"/>
                  </a:lnTo>
                  <a:lnTo>
                    <a:pt x="1281" y="173"/>
                  </a:lnTo>
                  <a:lnTo>
                    <a:pt x="1276" y="168"/>
                  </a:lnTo>
                  <a:lnTo>
                    <a:pt x="1271" y="163"/>
                  </a:lnTo>
                  <a:lnTo>
                    <a:pt x="1271" y="159"/>
                  </a:lnTo>
                  <a:lnTo>
                    <a:pt x="1276" y="159"/>
                  </a:lnTo>
                  <a:lnTo>
                    <a:pt x="1281" y="154"/>
                  </a:lnTo>
                  <a:lnTo>
                    <a:pt x="1286" y="149"/>
                  </a:lnTo>
                  <a:lnTo>
                    <a:pt x="1291" y="144"/>
                  </a:lnTo>
                  <a:lnTo>
                    <a:pt x="1296" y="139"/>
                  </a:lnTo>
                  <a:lnTo>
                    <a:pt x="1301" y="139"/>
                  </a:lnTo>
                  <a:lnTo>
                    <a:pt x="1306" y="139"/>
                  </a:lnTo>
                  <a:lnTo>
                    <a:pt x="1311" y="139"/>
                  </a:lnTo>
                  <a:lnTo>
                    <a:pt x="1316" y="144"/>
                  </a:lnTo>
                  <a:lnTo>
                    <a:pt x="1321" y="149"/>
                  </a:lnTo>
                  <a:lnTo>
                    <a:pt x="1326" y="154"/>
                  </a:lnTo>
                  <a:lnTo>
                    <a:pt x="1326" y="159"/>
                  </a:lnTo>
                  <a:lnTo>
                    <a:pt x="1326" y="163"/>
                  </a:lnTo>
                  <a:lnTo>
                    <a:pt x="1326" y="168"/>
                  </a:lnTo>
                  <a:lnTo>
                    <a:pt x="1321" y="173"/>
                  </a:lnTo>
                  <a:lnTo>
                    <a:pt x="1321" y="178"/>
                  </a:lnTo>
                  <a:lnTo>
                    <a:pt x="1316" y="183"/>
                  </a:lnTo>
                  <a:lnTo>
                    <a:pt x="1306" y="183"/>
                  </a:lnTo>
                  <a:lnTo>
                    <a:pt x="1301" y="188"/>
                  </a:lnTo>
                  <a:close/>
                  <a:moveTo>
                    <a:pt x="1865" y="188"/>
                  </a:moveTo>
                  <a:lnTo>
                    <a:pt x="1860" y="183"/>
                  </a:lnTo>
                  <a:lnTo>
                    <a:pt x="1855" y="183"/>
                  </a:lnTo>
                  <a:lnTo>
                    <a:pt x="1845" y="183"/>
                  </a:lnTo>
                  <a:lnTo>
                    <a:pt x="1840" y="183"/>
                  </a:lnTo>
                  <a:lnTo>
                    <a:pt x="1830" y="183"/>
                  </a:lnTo>
                  <a:lnTo>
                    <a:pt x="1825" y="183"/>
                  </a:lnTo>
                  <a:lnTo>
                    <a:pt x="1820" y="188"/>
                  </a:lnTo>
                  <a:lnTo>
                    <a:pt x="1820" y="188"/>
                  </a:lnTo>
                  <a:lnTo>
                    <a:pt x="1820" y="193"/>
                  </a:lnTo>
                  <a:lnTo>
                    <a:pt x="1820" y="203"/>
                  </a:lnTo>
                  <a:lnTo>
                    <a:pt x="1825" y="203"/>
                  </a:lnTo>
                  <a:lnTo>
                    <a:pt x="1830" y="208"/>
                  </a:lnTo>
                  <a:lnTo>
                    <a:pt x="1835" y="213"/>
                  </a:lnTo>
                  <a:lnTo>
                    <a:pt x="1840" y="208"/>
                  </a:lnTo>
                  <a:lnTo>
                    <a:pt x="1845" y="208"/>
                  </a:lnTo>
                  <a:lnTo>
                    <a:pt x="1850" y="203"/>
                  </a:lnTo>
                  <a:lnTo>
                    <a:pt x="1855" y="198"/>
                  </a:lnTo>
                  <a:lnTo>
                    <a:pt x="1860" y="193"/>
                  </a:lnTo>
                  <a:lnTo>
                    <a:pt x="1860" y="188"/>
                  </a:lnTo>
                  <a:lnTo>
                    <a:pt x="1865" y="188"/>
                  </a:lnTo>
                  <a:close/>
                  <a:moveTo>
                    <a:pt x="1810" y="159"/>
                  </a:moveTo>
                  <a:lnTo>
                    <a:pt x="1805" y="159"/>
                  </a:lnTo>
                  <a:lnTo>
                    <a:pt x="1800" y="154"/>
                  </a:lnTo>
                  <a:lnTo>
                    <a:pt x="1795" y="154"/>
                  </a:lnTo>
                  <a:lnTo>
                    <a:pt x="1790" y="154"/>
                  </a:lnTo>
                  <a:lnTo>
                    <a:pt x="1785" y="154"/>
                  </a:lnTo>
                  <a:lnTo>
                    <a:pt x="1776" y="159"/>
                  </a:lnTo>
                  <a:lnTo>
                    <a:pt x="1771" y="159"/>
                  </a:lnTo>
                  <a:lnTo>
                    <a:pt x="1766" y="159"/>
                  </a:lnTo>
                  <a:lnTo>
                    <a:pt x="1761" y="159"/>
                  </a:lnTo>
                  <a:lnTo>
                    <a:pt x="1761" y="159"/>
                  </a:lnTo>
                  <a:lnTo>
                    <a:pt x="1766" y="163"/>
                  </a:lnTo>
                  <a:lnTo>
                    <a:pt x="1771" y="163"/>
                  </a:lnTo>
                  <a:lnTo>
                    <a:pt x="1780" y="168"/>
                  </a:lnTo>
                  <a:lnTo>
                    <a:pt x="1785" y="168"/>
                  </a:lnTo>
                  <a:lnTo>
                    <a:pt x="1790" y="168"/>
                  </a:lnTo>
                  <a:lnTo>
                    <a:pt x="1800" y="168"/>
                  </a:lnTo>
                  <a:lnTo>
                    <a:pt x="1805" y="168"/>
                  </a:lnTo>
                  <a:lnTo>
                    <a:pt x="1805" y="168"/>
                  </a:lnTo>
                  <a:lnTo>
                    <a:pt x="1810" y="163"/>
                  </a:lnTo>
                  <a:lnTo>
                    <a:pt x="1810" y="159"/>
                  </a:lnTo>
                  <a:close/>
                  <a:moveTo>
                    <a:pt x="1553" y="134"/>
                  </a:moveTo>
                  <a:lnTo>
                    <a:pt x="1553" y="129"/>
                  </a:lnTo>
                  <a:lnTo>
                    <a:pt x="1548" y="124"/>
                  </a:lnTo>
                  <a:lnTo>
                    <a:pt x="1543" y="119"/>
                  </a:lnTo>
                  <a:lnTo>
                    <a:pt x="1538" y="114"/>
                  </a:lnTo>
                  <a:lnTo>
                    <a:pt x="1533" y="114"/>
                  </a:lnTo>
                  <a:lnTo>
                    <a:pt x="1523" y="114"/>
                  </a:lnTo>
                  <a:lnTo>
                    <a:pt x="1518" y="114"/>
                  </a:lnTo>
                  <a:lnTo>
                    <a:pt x="1508" y="114"/>
                  </a:lnTo>
                  <a:lnTo>
                    <a:pt x="1499" y="119"/>
                  </a:lnTo>
                  <a:lnTo>
                    <a:pt x="1494" y="124"/>
                  </a:lnTo>
                  <a:lnTo>
                    <a:pt x="1494" y="129"/>
                  </a:lnTo>
                  <a:lnTo>
                    <a:pt x="1494" y="134"/>
                  </a:lnTo>
                  <a:lnTo>
                    <a:pt x="1499" y="134"/>
                  </a:lnTo>
                  <a:lnTo>
                    <a:pt x="1508" y="139"/>
                  </a:lnTo>
                  <a:lnTo>
                    <a:pt x="1518" y="139"/>
                  </a:lnTo>
                  <a:lnTo>
                    <a:pt x="1523" y="139"/>
                  </a:lnTo>
                  <a:lnTo>
                    <a:pt x="1533" y="139"/>
                  </a:lnTo>
                  <a:lnTo>
                    <a:pt x="1538" y="139"/>
                  </a:lnTo>
                  <a:lnTo>
                    <a:pt x="1548" y="139"/>
                  </a:lnTo>
                  <a:lnTo>
                    <a:pt x="1553" y="134"/>
                  </a:lnTo>
                  <a:close/>
                  <a:moveTo>
                    <a:pt x="1756" y="134"/>
                  </a:moveTo>
                  <a:lnTo>
                    <a:pt x="1751" y="129"/>
                  </a:lnTo>
                  <a:lnTo>
                    <a:pt x="1746" y="129"/>
                  </a:lnTo>
                  <a:lnTo>
                    <a:pt x="1741" y="129"/>
                  </a:lnTo>
                  <a:lnTo>
                    <a:pt x="1736" y="129"/>
                  </a:lnTo>
                  <a:lnTo>
                    <a:pt x="1726" y="129"/>
                  </a:lnTo>
                  <a:lnTo>
                    <a:pt x="1716" y="129"/>
                  </a:lnTo>
                  <a:lnTo>
                    <a:pt x="1711" y="129"/>
                  </a:lnTo>
                  <a:lnTo>
                    <a:pt x="1706" y="134"/>
                  </a:lnTo>
                  <a:lnTo>
                    <a:pt x="1706" y="134"/>
                  </a:lnTo>
                  <a:lnTo>
                    <a:pt x="1706" y="134"/>
                  </a:lnTo>
                  <a:lnTo>
                    <a:pt x="1711" y="134"/>
                  </a:lnTo>
                  <a:lnTo>
                    <a:pt x="1721" y="134"/>
                  </a:lnTo>
                  <a:lnTo>
                    <a:pt x="1731" y="139"/>
                  </a:lnTo>
                  <a:lnTo>
                    <a:pt x="1736" y="139"/>
                  </a:lnTo>
                  <a:lnTo>
                    <a:pt x="1746" y="144"/>
                  </a:lnTo>
                  <a:lnTo>
                    <a:pt x="1751" y="144"/>
                  </a:lnTo>
                  <a:lnTo>
                    <a:pt x="1756" y="144"/>
                  </a:lnTo>
                  <a:lnTo>
                    <a:pt x="1756" y="144"/>
                  </a:lnTo>
                  <a:lnTo>
                    <a:pt x="1756" y="139"/>
                  </a:lnTo>
                  <a:lnTo>
                    <a:pt x="1756" y="134"/>
                  </a:lnTo>
                  <a:close/>
                  <a:moveTo>
                    <a:pt x="1617" y="104"/>
                  </a:moveTo>
                  <a:lnTo>
                    <a:pt x="1612" y="99"/>
                  </a:lnTo>
                  <a:lnTo>
                    <a:pt x="1607" y="94"/>
                  </a:lnTo>
                  <a:lnTo>
                    <a:pt x="1602" y="89"/>
                  </a:lnTo>
                  <a:lnTo>
                    <a:pt x="1598" y="89"/>
                  </a:lnTo>
                  <a:lnTo>
                    <a:pt x="1593" y="89"/>
                  </a:lnTo>
                  <a:lnTo>
                    <a:pt x="1588" y="94"/>
                  </a:lnTo>
                  <a:lnTo>
                    <a:pt x="1583" y="99"/>
                  </a:lnTo>
                  <a:lnTo>
                    <a:pt x="1578" y="99"/>
                  </a:lnTo>
                  <a:lnTo>
                    <a:pt x="1568" y="104"/>
                  </a:lnTo>
                  <a:lnTo>
                    <a:pt x="1558" y="104"/>
                  </a:lnTo>
                  <a:lnTo>
                    <a:pt x="1553" y="104"/>
                  </a:lnTo>
                  <a:lnTo>
                    <a:pt x="1558" y="109"/>
                  </a:lnTo>
                  <a:lnTo>
                    <a:pt x="1563" y="114"/>
                  </a:lnTo>
                  <a:lnTo>
                    <a:pt x="1573" y="114"/>
                  </a:lnTo>
                  <a:lnTo>
                    <a:pt x="1578" y="114"/>
                  </a:lnTo>
                  <a:lnTo>
                    <a:pt x="1588" y="114"/>
                  </a:lnTo>
                  <a:lnTo>
                    <a:pt x="1593" y="109"/>
                  </a:lnTo>
                  <a:lnTo>
                    <a:pt x="1602" y="109"/>
                  </a:lnTo>
                  <a:lnTo>
                    <a:pt x="1607" y="109"/>
                  </a:lnTo>
                  <a:lnTo>
                    <a:pt x="1617" y="104"/>
                  </a:lnTo>
                  <a:close/>
                  <a:moveTo>
                    <a:pt x="1701" y="104"/>
                  </a:moveTo>
                  <a:lnTo>
                    <a:pt x="1696" y="104"/>
                  </a:lnTo>
                  <a:lnTo>
                    <a:pt x="1691" y="104"/>
                  </a:lnTo>
                  <a:lnTo>
                    <a:pt x="1687" y="104"/>
                  </a:lnTo>
                  <a:lnTo>
                    <a:pt x="1677" y="104"/>
                  </a:lnTo>
                  <a:lnTo>
                    <a:pt x="1672" y="99"/>
                  </a:lnTo>
                  <a:lnTo>
                    <a:pt x="1667" y="99"/>
                  </a:lnTo>
                  <a:lnTo>
                    <a:pt x="1662" y="94"/>
                  </a:lnTo>
                  <a:lnTo>
                    <a:pt x="1662" y="89"/>
                  </a:lnTo>
                  <a:lnTo>
                    <a:pt x="1657" y="89"/>
                  </a:lnTo>
                  <a:lnTo>
                    <a:pt x="1652" y="84"/>
                  </a:lnTo>
                  <a:lnTo>
                    <a:pt x="1652" y="79"/>
                  </a:lnTo>
                  <a:lnTo>
                    <a:pt x="1647" y="79"/>
                  </a:lnTo>
                  <a:lnTo>
                    <a:pt x="1642" y="79"/>
                  </a:lnTo>
                  <a:lnTo>
                    <a:pt x="1632" y="79"/>
                  </a:lnTo>
                  <a:lnTo>
                    <a:pt x="1627" y="79"/>
                  </a:lnTo>
                  <a:lnTo>
                    <a:pt x="1622" y="79"/>
                  </a:lnTo>
                  <a:lnTo>
                    <a:pt x="1627" y="84"/>
                  </a:lnTo>
                  <a:lnTo>
                    <a:pt x="1627" y="89"/>
                  </a:lnTo>
                  <a:lnTo>
                    <a:pt x="1632" y="94"/>
                  </a:lnTo>
                  <a:lnTo>
                    <a:pt x="1632" y="99"/>
                  </a:lnTo>
                  <a:lnTo>
                    <a:pt x="1632" y="104"/>
                  </a:lnTo>
                  <a:lnTo>
                    <a:pt x="1637" y="104"/>
                  </a:lnTo>
                  <a:lnTo>
                    <a:pt x="1642" y="104"/>
                  </a:lnTo>
                  <a:lnTo>
                    <a:pt x="1647" y="109"/>
                  </a:lnTo>
                  <a:lnTo>
                    <a:pt x="1652" y="109"/>
                  </a:lnTo>
                  <a:lnTo>
                    <a:pt x="1662" y="109"/>
                  </a:lnTo>
                  <a:lnTo>
                    <a:pt x="1667" y="109"/>
                  </a:lnTo>
                  <a:lnTo>
                    <a:pt x="1672" y="109"/>
                  </a:lnTo>
                  <a:lnTo>
                    <a:pt x="1677" y="114"/>
                  </a:lnTo>
                  <a:lnTo>
                    <a:pt x="1687" y="114"/>
                  </a:lnTo>
                  <a:lnTo>
                    <a:pt x="1691" y="119"/>
                  </a:lnTo>
                  <a:lnTo>
                    <a:pt x="1696" y="124"/>
                  </a:lnTo>
                  <a:lnTo>
                    <a:pt x="1701" y="124"/>
                  </a:lnTo>
                  <a:lnTo>
                    <a:pt x="1701" y="124"/>
                  </a:lnTo>
                  <a:lnTo>
                    <a:pt x="1701" y="124"/>
                  </a:lnTo>
                  <a:lnTo>
                    <a:pt x="1701" y="119"/>
                  </a:lnTo>
                  <a:lnTo>
                    <a:pt x="1701" y="114"/>
                  </a:lnTo>
                  <a:lnTo>
                    <a:pt x="1701" y="104"/>
                  </a:lnTo>
                  <a:close/>
                  <a:moveTo>
                    <a:pt x="2235" y="1656"/>
                  </a:moveTo>
                  <a:lnTo>
                    <a:pt x="2260" y="1631"/>
                  </a:lnTo>
                  <a:lnTo>
                    <a:pt x="2285" y="1631"/>
                  </a:lnTo>
                  <a:lnTo>
                    <a:pt x="2315" y="1631"/>
                  </a:lnTo>
                  <a:lnTo>
                    <a:pt x="2339" y="1631"/>
                  </a:lnTo>
                  <a:lnTo>
                    <a:pt x="2369" y="1631"/>
                  </a:lnTo>
                  <a:lnTo>
                    <a:pt x="2394" y="1631"/>
                  </a:lnTo>
                  <a:lnTo>
                    <a:pt x="2418" y="1631"/>
                  </a:lnTo>
                  <a:lnTo>
                    <a:pt x="2448" y="1602"/>
                  </a:lnTo>
                  <a:lnTo>
                    <a:pt x="2448" y="1577"/>
                  </a:lnTo>
                  <a:lnTo>
                    <a:pt x="2448" y="1547"/>
                  </a:lnTo>
                  <a:lnTo>
                    <a:pt x="2448" y="1523"/>
                  </a:lnTo>
                  <a:lnTo>
                    <a:pt x="2473" y="1498"/>
                  </a:lnTo>
                  <a:lnTo>
                    <a:pt x="2473" y="1468"/>
                  </a:lnTo>
                  <a:lnTo>
                    <a:pt x="2473" y="1444"/>
                  </a:lnTo>
                  <a:lnTo>
                    <a:pt x="2473" y="1414"/>
                  </a:lnTo>
                  <a:lnTo>
                    <a:pt x="2503" y="1389"/>
                  </a:lnTo>
                  <a:lnTo>
                    <a:pt x="2503" y="1364"/>
                  </a:lnTo>
                  <a:lnTo>
                    <a:pt x="2503" y="1335"/>
                  </a:lnTo>
                  <a:lnTo>
                    <a:pt x="2503" y="1310"/>
                  </a:lnTo>
                  <a:lnTo>
                    <a:pt x="2527" y="1280"/>
                  </a:lnTo>
                  <a:lnTo>
                    <a:pt x="2527" y="1256"/>
                  </a:lnTo>
                  <a:lnTo>
                    <a:pt x="2527" y="1226"/>
                  </a:lnTo>
                  <a:lnTo>
                    <a:pt x="2527" y="1201"/>
                  </a:lnTo>
                  <a:lnTo>
                    <a:pt x="2552" y="1177"/>
                  </a:lnTo>
                  <a:lnTo>
                    <a:pt x="2552" y="1147"/>
                  </a:lnTo>
                  <a:lnTo>
                    <a:pt x="2552" y="1122"/>
                  </a:lnTo>
                  <a:lnTo>
                    <a:pt x="2552" y="1093"/>
                  </a:lnTo>
                  <a:lnTo>
                    <a:pt x="2582" y="1068"/>
                  </a:lnTo>
                  <a:lnTo>
                    <a:pt x="2582" y="1043"/>
                  </a:lnTo>
                  <a:lnTo>
                    <a:pt x="2582" y="1014"/>
                  </a:lnTo>
                  <a:lnTo>
                    <a:pt x="2582" y="989"/>
                  </a:lnTo>
                  <a:lnTo>
                    <a:pt x="2582" y="959"/>
                  </a:lnTo>
                  <a:lnTo>
                    <a:pt x="2582" y="934"/>
                  </a:lnTo>
                  <a:lnTo>
                    <a:pt x="2582" y="910"/>
                  </a:lnTo>
                  <a:lnTo>
                    <a:pt x="2582" y="880"/>
                  </a:lnTo>
                  <a:lnTo>
                    <a:pt x="2582" y="855"/>
                  </a:lnTo>
                  <a:lnTo>
                    <a:pt x="2582" y="826"/>
                  </a:lnTo>
                  <a:lnTo>
                    <a:pt x="2582" y="801"/>
                  </a:lnTo>
                  <a:lnTo>
                    <a:pt x="2582" y="776"/>
                  </a:lnTo>
                  <a:lnTo>
                    <a:pt x="2582" y="747"/>
                  </a:lnTo>
                  <a:lnTo>
                    <a:pt x="2582" y="722"/>
                  </a:lnTo>
                  <a:lnTo>
                    <a:pt x="2582" y="692"/>
                  </a:lnTo>
                  <a:lnTo>
                    <a:pt x="2582" y="668"/>
                  </a:lnTo>
                  <a:lnTo>
                    <a:pt x="2582" y="643"/>
                  </a:lnTo>
                  <a:lnTo>
                    <a:pt x="2582" y="613"/>
                  </a:lnTo>
                  <a:lnTo>
                    <a:pt x="2582" y="589"/>
                  </a:lnTo>
                  <a:lnTo>
                    <a:pt x="2582" y="559"/>
                  </a:lnTo>
                  <a:lnTo>
                    <a:pt x="2582" y="534"/>
                  </a:lnTo>
                  <a:lnTo>
                    <a:pt x="2582" y="504"/>
                  </a:lnTo>
                  <a:lnTo>
                    <a:pt x="2582" y="480"/>
                  </a:lnTo>
                  <a:lnTo>
                    <a:pt x="2582" y="455"/>
                  </a:lnTo>
                  <a:lnTo>
                    <a:pt x="2582" y="425"/>
                  </a:lnTo>
                  <a:lnTo>
                    <a:pt x="2582" y="401"/>
                  </a:lnTo>
                  <a:lnTo>
                    <a:pt x="2582" y="371"/>
                  </a:lnTo>
                  <a:lnTo>
                    <a:pt x="2582" y="346"/>
                  </a:lnTo>
                  <a:lnTo>
                    <a:pt x="2582" y="322"/>
                  </a:lnTo>
                  <a:lnTo>
                    <a:pt x="2582" y="292"/>
                  </a:lnTo>
                  <a:lnTo>
                    <a:pt x="2582" y="267"/>
                  </a:lnTo>
                  <a:lnTo>
                    <a:pt x="2582" y="238"/>
                  </a:lnTo>
                  <a:lnTo>
                    <a:pt x="2552" y="213"/>
                  </a:lnTo>
                  <a:lnTo>
                    <a:pt x="2552" y="188"/>
                  </a:lnTo>
                  <a:lnTo>
                    <a:pt x="2552" y="159"/>
                  </a:lnTo>
                  <a:lnTo>
                    <a:pt x="2552" y="134"/>
                  </a:lnTo>
                  <a:lnTo>
                    <a:pt x="2552" y="104"/>
                  </a:lnTo>
                  <a:lnTo>
                    <a:pt x="2527" y="79"/>
                  </a:lnTo>
                  <a:lnTo>
                    <a:pt x="2503" y="79"/>
                  </a:lnTo>
                  <a:lnTo>
                    <a:pt x="2473" y="79"/>
                  </a:lnTo>
                  <a:lnTo>
                    <a:pt x="2448" y="55"/>
                  </a:lnTo>
                  <a:lnTo>
                    <a:pt x="2418" y="55"/>
                  </a:lnTo>
                  <a:lnTo>
                    <a:pt x="2394" y="55"/>
                  </a:lnTo>
                  <a:lnTo>
                    <a:pt x="2369" y="25"/>
                  </a:lnTo>
                  <a:lnTo>
                    <a:pt x="2339" y="25"/>
                  </a:lnTo>
                  <a:lnTo>
                    <a:pt x="2315" y="25"/>
                  </a:lnTo>
                  <a:lnTo>
                    <a:pt x="2285" y="0"/>
                  </a:lnTo>
                  <a:lnTo>
                    <a:pt x="2260" y="0"/>
                  </a:lnTo>
                  <a:lnTo>
                    <a:pt x="2235" y="0"/>
                  </a:lnTo>
                  <a:lnTo>
                    <a:pt x="2206" y="0"/>
                  </a:lnTo>
                  <a:lnTo>
                    <a:pt x="2181" y="0"/>
                  </a:lnTo>
                  <a:lnTo>
                    <a:pt x="2156" y="0"/>
                  </a:lnTo>
                  <a:lnTo>
                    <a:pt x="2127" y="0"/>
                  </a:lnTo>
                  <a:lnTo>
                    <a:pt x="2102" y="0"/>
                  </a:lnTo>
                  <a:lnTo>
                    <a:pt x="2072" y="0"/>
                  </a:lnTo>
                  <a:lnTo>
                    <a:pt x="2048" y="0"/>
                  </a:lnTo>
                  <a:lnTo>
                    <a:pt x="2023" y="0"/>
                  </a:lnTo>
                  <a:lnTo>
                    <a:pt x="1993" y="0"/>
                  </a:lnTo>
                  <a:lnTo>
                    <a:pt x="1968" y="0"/>
                  </a:lnTo>
                  <a:lnTo>
                    <a:pt x="1944" y="0"/>
                  </a:lnTo>
                  <a:lnTo>
                    <a:pt x="1914" y="0"/>
                  </a:lnTo>
                  <a:lnTo>
                    <a:pt x="1889" y="0"/>
                  </a:lnTo>
                  <a:lnTo>
                    <a:pt x="1860" y="0"/>
                  </a:lnTo>
                  <a:lnTo>
                    <a:pt x="1835" y="0"/>
                  </a:lnTo>
                  <a:lnTo>
                    <a:pt x="1810" y="0"/>
                  </a:lnTo>
                  <a:lnTo>
                    <a:pt x="1780" y="0"/>
                  </a:lnTo>
                  <a:lnTo>
                    <a:pt x="1756" y="0"/>
                  </a:lnTo>
                  <a:lnTo>
                    <a:pt x="1726" y="0"/>
                  </a:lnTo>
                  <a:lnTo>
                    <a:pt x="1701" y="0"/>
                  </a:lnTo>
                  <a:lnTo>
                    <a:pt x="1677" y="0"/>
                  </a:lnTo>
                  <a:lnTo>
                    <a:pt x="1647" y="0"/>
                  </a:lnTo>
                  <a:lnTo>
                    <a:pt x="1622" y="0"/>
                  </a:lnTo>
                  <a:lnTo>
                    <a:pt x="1598" y="0"/>
                  </a:lnTo>
                  <a:lnTo>
                    <a:pt x="1568" y="0"/>
                  </a:lnTo>
                  <a:lnTo>
                    <a:pt x="1543" y="0"/>
                  </a:lnTo>
                  <a:lnTo>
                    <a:pt x="1513" y="0"/>
                  </a:lnTo>
                  <a:lnTo>
                    <a:pt x="1489" y="0"/>
                  </a:lnTo>
                  <a:lnTo>
                    <a:pt x="1464" y="0"/>
                  </a:lnTo>
                  <a:lnTo>
                    <a:pt x="1434" y="0"/>
                  </a:lnTo>
                  <a:lnTo>
                    <a:pt x="1410" y="0"/>
                  </a:lnTo>
                  <a:lnTo>
                    <a:pt x="1385" y="0"/>
                  </a:lnTo>
                  <a:lnTo>
                    <a:pt x="1355" y="0"/>
                  </a:lnTo>
                  <a:lnTo>
                    <a:pt x="1330" y="0"/>
                  </a:lnTo>
                  <a:lnTo>
                    <a:pt x="1301" y="0"/>
                  </a:lnTo>
                  <a:lnTo>
                    <a:pt x="1276" y="0"/>
                  </a:lnTo>
                  <a:lnTo>
                    <a:pt x="1251" y="0"/>
                  </a:lnTo>
                  <a:lnTo>
                    <a:pt x="1222" y="0"/>
                  </a:lnTo>
                  <a:lnTo>
                    <a:pt x="1197" y="0"/>
                  </a:lnTo>
                  <a:lnTo>
                    <a:pt x="1172" y="0"/>
                  </a:lnTo>
                  <a:lnTo>
                    <a:pt x="1143" y="0"/>
                  </a:lnTo>
                  <a:lnTo>
                    <a:pt x="1118" y="0"/>
                  </a:lnTo>
                  <a:lnTo>
                    <a:pt x="1088" y="0"/>
                  </a:lnTo>
                  <a:lnTo>
                    <a:pt x="1063" y="0"/>
                  </a:lnTo>
                  <a:lnTo>
                    <a:pt x="1039" y="0"/>
                  </a:lnTo>
                  <a:lnTo>
                    <a:pt x="1009" y="0"/>
                  </a:lnTo>
                  <a:lnTo>
                    <a:pt x="984" y="0"/>
                  </a:lnTo>
                  <a:lnTo>
                    <a:pt x="955" y="0"/>
                  </a:lnTo>
                  <a:lnTo>
                    <a:pt x="930" y="0"/>
                  </a:lnTo>
                  <a:lnTo>
                    <a:pt x="905" y="0"/>
                  </a:lnTo>
                  <a:lnTo>
                    <a:pt x="875" y="0"/>
                  </a:lnTo>
                  <a:lnTo>
                    <a:pt x="851" y="0"/>
                  </a:lnTo>
                  <a:lnTo>
                    <a:pt x="826" y="0"/>
                  </a:lnTo>
                  <a:lnTo>
                    <a:pt x="796" y="0"/>
                  </a:lnTo>
                  <a:lnTo>
                    <a:pt x="772" y="0"/>
                  </a:lnTo>
                  <a:lnTo>
                    <a:pt x="742" y="0"/>
                  </a:lnTo>
                  <a:lnTo>
                    <a:pt x="717" y="0"/>
                  </a:lnTo>
                  <a:lnTo>
                    <a:pt x="692" y="0"/>
                  </a:lnTo>
                  <a:lnTo>
                    <a:pt x="663" y="0"/>
                  </a:lnTo>
                  <a:lnTo>
                    <a:pt x="638" y="0"/>
                  </a:lnTo>
                  <a:lnTo>
                    <a:pt x="613" y="0"/>
                  </a:lnTo>
                  <a:lnTo>
                    <a:pt x="584" y="25"/>
                  </a:lnTo>
                  <a:lnTo>
                    <a:pt x="559" y="55"/>
                  </a:lnTo>
                  <a:lnTo>
                    <a:pt x="529" y="79"/>
                  </a:lnTo>
                  <a:lnTo>
                    <a:pt x="505" y="104"/>
                  </a:lnTo>
                  <a:lnTo>
                    <a:pt x="480" y="134"/>
                  </a:lnTo>
                  <a:lnTo>
                    <a:pt x="450" y="134"/>
                  </a:lnTo>
                  <a:lnTo>
                    <a:pt x="425" y="159"/>
                  </a:lnTo>
                  <a:lnTo>
                    <a:pt x="396" y="188"/>
                  </a:lnTo>
                  <a:lnTo>
                    <a:pt x="371" y="213"/>
                  </a:lnTo>
                  <a:lnTo>
                    <a:pt x="346" y="238"/>
                  </a:lnTo>
                  <a:lnTo>
                    <a:pt x="317" y="267"/>
                  </a:lnTo>
                  <a:lnTo>
                    <a:pt x="292" y="292"/>
                  </a:lnTo>
                  <a:lnTo>
                    <a:pt x="267" y="322"/>
                  </a:lnTo>
                  <a:lnTo>
                    <a:pt x="237" y="322"/>
                  </a:lnTo>
                  <a:lnTo>
                    <a:pt x="213" y="346"/>
                  </a:lnTo>
                  <a:lnTo>
                    <a:pt x="183" y="371"/>
                  </a:lnTo>
                  <a:lnTo>
                    <a:pt x="158" y="401"/>
                  </a:lnTo>
                  <a:lnTo>
                    <a:pt x="134" y="425"/>
                  </a:lnTo>
                  <a:lnTo>
                    <a:pt x="104" y="455"/>
                  </a:lnTo>
                  <a:lnTo>
                    <a:pt x="79" y="480"/>
                  </a:lnTo>
                  <a:lnTo>
                    <a:pt x="55" y="504"/>
                  </a:lnTo>
                  <a:lnTo>
                    <a:pt x="25" y="504"/>
                  </a:lnTo>
                  <a:lnTo>
                    <a:pt x="0" y="534"/>
                  </a:lnTo>
                  <a:lnTo>
                    <a:pt x="0" y="559"/>
                  </a:lnTo>
                  <a:lnTo>
                    <a:pt x="0" y="589"/>
                  </a:lnTo>
                  <a:lnTo>
                    <a:pt x="0" y="613"/>
                  </a:lnTo>
                  <a:lnTo>
                    <a:pt x="25" y="643"/>
                  </a:lnTo>
                  <a:lnTo>
                    <a:pt x="25" y="668"/>
                  </a:lnTo>
                  <a:lnTo>
                    <a:pt x="55" y="692"/>
                  </a:lnTo>
                  <a:lnTo>
                    <a:pt x="79" y="722"/>
                  </a:lnTo>
                  <a:lnTo>
                    <a:pt x="104" y="747"/>
                  </a:lnTo>
                  <a:lnTo>
                    <a:pt x="134" y="776"/>
                  </a:lnTo>
                  <a:lnTo>
                    <a:pt x="134" y="801"/>
                  </a:lnTo>
                  <a:lnTo>
                    <a:pt x="158" y="826"/>
                  </a:lnTo>
                  <a:lnTo>
                    <a:pt x="183" y="855"/>
                  </a:lnTo>
                  <a:lnTo>
                    <a:pt x="213" y="880"/>
                  </a:lnTo>
                  <a:lnTo>
                    <a:pt x="237" y="910"/>
                  </a:lnTo>
                  <a:lnTo>
                    <a:pt x="267" y="934"/>
                  </a:lnTo>
                  <a:lnTo>
                    <a:pt x="292" y="959"/>
                  </a:lnTo>
                  <a:lnTo>
                    <a:pt x="292" y="989"/>
                  </a:lnTo>
                  <a:lnTo>
                    <a:pt x="317" y="1014"/>
                  </a:lnTo>
                  <a:lnTo>
                    <a:pt x="346" y="1043"/>
                  </a:lnTo>
                  <a:lnTo>
                    <a:pt x="371" y="1068"/>
                  </a:lnTo>
                  <a:lnTo>
                    <a:pt x="396" y="1093"/>
                  </a:lnTo>
                  <a:lnTo>
                    <a:pt x="425" y="1122"/>
                  </a:lnTo>
                  <a:lnTo>
                    <a:pt x="450" y="1147"/>
                  </a:lnTo>
                  <a:lnTo>
                    <a:pt x="480" y="1177"/>
                  </a:lnTo>
                  <a:lnTo>
                    <a:pt x="505" y="1201"/>
                  </a:lnTo>
                  <a:lnTo>
                    <a:pt x="529" y="1226"/>
                  </a:lnTo>
                  <a:lnTo>
                    <a:pt x="559" y="1256"/>
                  </a:lnTo>
                  <a:lnTo>
                    <a:pt x="584" y="1280"/>
                  </a:lnTo>
                  <a:lnTo>
                    <a:pt x="613" y="1310"/>
                  </a:lnTo>
                  <a:lnTo>
                    <a:pt x="638" y="1335"/>
                  </a:lnTo>
                  <a:lnTo>
                    <a:pt x="663" y="1364"/>
                  </a:lnTo>
                  <a:lnTo>
                    <a:pt x="692" y="1389"/>
                  </a:lnTo>
                  <a:lnTo>
                    <a:pt x="717" y="1414"/>
                  </a:lnTo>
                  <a:lnTo>
                    <a:pt x="742" y="1444"/>
                  </a:lnTo>
                  <a:lnTo>
                    <a:pt x="772" y="1468"/>
                  </a:lnTo>
                  <a:lnTo>
                    <a:pt x="796" y="1468"/>
                  </a:lnTo>
                  <a:lnTo>
                    <a:pt x="826" y="1498"/>
                  </a:lnTo>
                  <a:lnTo>
                    <a:pt x="851" y="1523"/>
                  </a:lnTo>
                  <a:lnTo>
                    <a:pt x="875" y="1547"/>
                  </a:lnTo>
                  <a:lnTo>
                    <a:pt x="905" y="1577"/>
                  </a:lnTo>
                  <a:lnTo>
                    <a:pt x="930" y="1602"/>
                  </a:lnTo>
                  <a:lnTo>
                    <a:pt x="955" y="1631"/>
                  </a:lnTo>
                  <a:lnTo>
                    <a:pt x="984" y="1656"/>
                  </a:lnTo>
                  <a:lnTo>
                    <a:pt x="1009" y="1656"/>
                  </a:lnTo>
                  <a:lnTo>
                    <a:pt x="1039" y="1656"/>
                  </a:lnTo>
                  <a:lnTo>
                    <a:pt x="1063" y="1656"/>
                  </a:lnTo>
                  <a:lnTo>
                    <a:pt x="1088" y="1656"/>
                  </a:lnTo>
                  <a:lnTo>
                    <a:pt x="1118" y="1656"/>
                  </a:lnTo>
                  <a:lnTo>
                    <a:pt x="1143" y="1656"/>
                  </a:lnTo>
                  <a:lnTo>
                    <a:pt x="1172" y="1656"/>
                  </a:lnTo>
                  <a:lnTo>
                    <a:pt x="1197" y="1656"/>
                  </a:lnTo>
                  <a:lnTo>
                    <a:pt x="1222" y="1656"/>
                  </a:lnTo>
                  <a:lnTo>
                    <a:pt x="1251" y="1656"/>
                  </a:lnTo>
                  <a:lnTo>
                    <a:pt x="1276" y="1656"/>
                  </a:lnTo>
                  <a:lnTo>
                    <a:pt x="1301" y="1656"/>
                  </a:lnTo>
                  <a:lnTo>
                    <a:pt x="1330" y="1656"/>
                  </a:lnTo>
                  <a:lnTo>
                    <a:pt x="1355" y="1656"/>
                  </a:lnTo>
                  <a:lnTo>
                    <a:pt x="1385" y="1656"/>
                  </a:lnTo>
                  <a:lnTo>
                    <a:pt x="1410" y="1656"/>
                  </a:lnTo>
                  <a:lnTo>
                    <a:pt x="1434" y="1656"/>
                  </a:lnTo>
                  <a:lnTo>
                    <a:pt x="1464" y="1656"/>
                  </a:lnTo>
                  <a:lnTo>
                    <a:pt x="1489" y="1656"/>
                  </a:lnTo>
                  <a:lnTo>
                    <a:pt x="1513" y="1656"/>
                  </a:lnTo>
                  <a:lnTo>
                    <a:pt x="1543" y="1656"/>
                  </a:lnTo>
                  <a:lnTo>
                    <a:pt x="1568" y="1656"/>
                  </a:lnTo>
                  <a:lnTo>
                    <a:pt x="1598" y="1656"/>
                  </a:lnTo>
                  <a:lnTo>
                    <a:pt x="1622" y="1656"/>
                  </a:lnTo>
                  <a:lnTo>
                    <a:pt x="1647" y="1656"/>
                  </a:lnTo>
                  <a:lnTo>
                    <a:pt x="1677" y="1656"/>
                  </a:lnTo>
                  <a:lnTo>
                    <a:pt x="1701" y="1656"/>
                  </a:lnTo>
                  <a:lnTo>
                    <a:pt x="1726" y="1656"/>
                  </a:lnTo>
                  <a:lnTo>
                    <a:pt x="1756" y="1656"/>
                  </a:lnTo>
                  <a:lnTo>
                    <a:pt x="1780" y="1656"/>
                  </a:lnTo>
                  <a:lnTo>
                    <a:pt x="1810" y="1656"/>
                  </a:lnTo>
                  <a:lnTo>
                    <a:pt x="1835" y="1656"/>
                  </a:lnTo>
                  <a:lnTo>
                    <a:pt x="1860" y="1656"/>
                  </a:lnTo>
                  <a:lnTo>
                    <a:pt x="1889" y="1656"/>
                  </a:lnTo>
                  <a:lnTo>
                    <a:pt x="1914" y="1656"/>
                  </a:lnTo>
                  <a:lnTo>
                    <a:pt x="1944" y="1656"/>
                  </a:lnTo>
                  <a:lnTo>
                    <a:pt x="1968" y="1656"/>
                  </a:lnTo>
                  <a:lnTo>
                    <a:pt x="1993" y="1656"/>
                  </a:lnTo>
                  <a:lnTo>
                    <a:pt x="2023" y="1656"/>
                  </a:lnTo>
                  <a:lnTo>
                    <a:pt x="2048" y="1656"/>
                  </a:lnTo>
                  <a:lnTo>
                    <a:pt x="2072" y="1656"/>
                  </a:lnTo>
                  <a:lnTo>
                    <a:pt x="2102" y="1656"/>
                  </a:lnTo>
                  <a:lnTo>
                    <a:pt x="2127" y="1656"/>
                  </a:lnTo>
                  <a:lnTo>
                    <a:pt x="2156" y="1656"/>
                  </a:lnTo>
                  <a:lnTo>
                    <a:pt x="2181" y="1656"/>
                  </a:lnTo>
                  <a:lnTo>
                    <a:pt x="2206" y="1656"/>
                  </a:lnTo>
                  <a:lnTo>
                    <a:pt x="2235" y="1656"/>
                  </a:lnTo>
                  <a:close/>
                  <a:moveTo>
                    <a:pt x="1311" y="322"/>
                  </a:moveTo>
                  <a:lnTo>
                    <a:pt x="1321" y="317"/>
                  </a:lnTo>
                  <a:lnTo>
                    <a:pt x="1326" y="317"/>
                  </a:lnTo>
                  <a:lnTo>
                    <a:pt x="1330" y="312"/>
                  </a:lnTo>
                  <a:lnTo>
                    <a:pt x="1335" y="307"/>
                  </a:lnTo>
                  <a:lnTo>
                    <a:pt x="1340" y="302"/>
                  </a:lnTo>
                  <a:lnTo>
                    <a:pt x="1340" y="297"/>
                  </a:lnTo>
                  <a:lnTo>
                    <a:pt x="1345" y="292"/>
                  </a:lnTo>
                  <a:lnTo>
                    <a:pt x="1345" y="287"/>
                  </a:lnTo>
                  <a:lnTo>
                    <a:pt x="1350" y="282"/>
                  </a:lnTo>
                  <a:lnTo>
                    <a:pt x="1355" y="277"/>
                  </a:lnTo>
                  <a:lnTo>
                    <a:pt x="1360" y="277"/>
                  </a:lnTo>
                  <a:lnTo>
                    <a:pt x="1370" y="277"/>
                  </a:lnTo>
                  <a:lnTo>
                    <a:pt x="1380" y="277"/>
                  </a:lnTo>
                  <a:lnTo>
                    <a:pt x="1390" y="277"/>
                  </a:lnTo>
                  <a:lnTo>
                    <a:pt x="1400" y="277"/>
                  </a:lnTo>
                  <a:lnTo>
                    <a:pt x="1405" y="277"/>
                  </a:lnTo>
                  <a:lnTo>
                    <a:pt x="1410" y="272"/>
                  </a:lnTo>
                  <a:lnTo>
                    <a:pt x="1415" y="267"/>
                  </a:lnTo>
                  <a:lnTo>
                    <a:pt x="1419" y="262"/>
                  </a:lnTo>
                  <a:lnTo>
                    <a:pt x="1419" y="257"/>
                  </a:lnTo>
                  <a:lnTo>
                    <a:pt x="1424" y="252"/>
                  </a:lnTo>
                  <a:lnTo>
                    <a:pt x="1429" y="247"/>
                  </a:lnTo>
                  <a:lnTo>
                    <a:pt x="1434" y="243"/>
                  </a:lnTo>
                  <a:lnTo>
                    <a:pt x="1439" y="243"/>
                  </a:lnTo>
                  <a:lnTo>
                    <a:pt x="1449" y="243"/>
                  </a:lnTo>
                  <a:lnTo>
                    <a:pt x="1454" y="243"/>
                  </a:lnTo>
                  <a:lnTo>
                    <a:pt x="1464" y="243"/>
                  </a:lnTo>
                  <a:lnTo>
                    <a:pt x="1474" y="243"/>
                  </a:lnTo>
                  <a:lnTo>
                    <a:pt x="1479" y="238"/>
                  </a:lnTo>
                  <a:lnTo>
                    <a:pt x="1484" y="233"/>
                  </a:lnTo>
                  <a:lnTo>
                    <a:pt x="1489" y="228"/>
                  </a:lnTo>
                  <a:lnTo>
                    <a:pt x="1489" y="223"/>
                  </a:lnTo>
                  <a:lnTo>
                    <a:pt x="1489" y="218"/>
                  </a:lnTo>
                  <a:lnTo>
                    <a:pt x="1484" y="213"/>
                  </a:lnTo>
                  <a:lnTo>
                    <a:pt x="1479" y="213"/>
                  </a:lnTo>
                  <a:lnTo>
                    <a:pt x="1469" y="208"/>
                  </a:lnTo>
                  <a:lnTo>
                    <a:pt x="1459" y="208"/>
                  </a:lnTo>
                  <a:lnTo>
                    <a:pt x="1449" y="208"/>
                  </a:lnTo>
                  <a:lnTo>
                    <a:pt x="1444" y="208"/>
                  </a:lnTo>
                  <a:lnTo>
                    <a:pt x="1434" y="208"/>
                  </a:lnTo>
                  <a:lnTo>
                    <a:pt x="1429" y="213"/>
                  </a:lnTo>
                  <a:lnTo>
                    <a:pt x="1419" y="218"/>
                  </a:lnTo>
                  <a:lnTo>
                    <a:pt x="1415" y="218"/>
                  </a:lnTo>
                  <a:lnTo>
                    <a:pt x="1410" y="223"/>
                  </a:lnTo>
                  <a:lnTo>
                    <a:pt x="1400" y="228"/>
                  </a:lnTo>
                  <a:lnTo>
                    <a:pt x="1395" y="228"/>
                  </a:lnTo>
                  <a:lnTo>
                    <a:pt x="1385" y="233"/>
                  </a:lnTo>
                  <a:lnTo>
                    <a:pt x="1380" y="233"/>
                  </a:lnTo>
                  <a:lnTo>
                    <a:pt x="1370" y="233"/>
                  </a:lnTo>
                  <a:lnTo>
                    <a:pt x="1365" y="228"/>
                  </a:lnTo>
                  <a:lnTo>
                    <a:pt x="1360" y="223"/>
                  </a:lnTo>
                  <a:lnTo>
                    <a:pt x="1355" y="218"/>
                  </a:lnTo>
                  <a:lnTo>
                    <a:pt x="1360" y="208"/>
                  </a:lnTo>
                  <a:lnTo>
                    <a:pt x="1360" y="203"/>
                  </a:lnTo>
                  <a:lnTo>
                    <a:pt x="1365" y="198"/>
                  </a:lnTo>
                  <a:lnTo>
                    <a:pt x="1375" y="193"/>
                  </a:lnTo>
                  <a:lnTo>
                    <a:pt x="1380" y="193"/>
                  </a:lnTo>
                  <a:lnTo>
                    <a:pt x="1390" y="193"/>
                  </a:lnTo>
                  <a:lnTo>
                    <a:pt x="1395" y="198"/>
                  </a:lnTo>
                  <a:lnTo>
                    <a:pt x="1400" y="203"/>
                  </a:lnTo>
                  <a:lnTo>
                    <a:pt x="1405" y="208"/>
                  </a:lnTo>
                  <a:lnTo>
                    <a:pt x="1410" y="208"/>
                  </a:lnTo>
                  <a:lnTo>
                    <a:pt x="1415" y="208"/>
                  </a:lnTo>
                  <a:lnTo>
                    <a:pt x="1419" y="203"/>
                  </a:lnTo>
                  <a:lnTo>
                    <a:pt x="1419" y="198"/>
                  </a:lnTo>
                  <a:lnTo>
                    <a:pt x="1424" y="188"/>
                  </a:lnTo>
                  <a:lnTo>
                    <a:pt x="1424" y="183"/>
                  </a:lnTo>
                  <a:lnTo>
                    <a:pt x="1429" y="178"/>
                  </a:lnTo>
                  <a:lnTo>
                    <a:pt x="1434" y="173"/>
                  </a:lnTo>
                  <a:lnTo>
                    <a:pt x="1439" y="168"/>
                  </a:lnTo>
                  <a:lnTo>
                    <a:pt x="1444" y="168"/>
                  </a:lnTo>
                  <a:lnTo>
                    <a:pt x="1454" y="168"/>
                  </a:lnTo>
                  <a:lnTo>
                    <a:pt x="1464" y="168"/>
                  </a:lnTo>
                  <a:lnTo>
                    <a:pt x="1474" y="163"/>
                  </a:lnTo>
                  <a:lnTo>
                    <a:pt x="1479" y="163"/>
                  </a:lnTo>
                  <a:lnTo>
                    <a:pt x="1484" y="159"/>
                  </a:lnTo>
                  <a:lnTo>
                    <a:pt x="1484" y="154"/>
                  </a:lnTo>
                  <a:lnTo>
                    <a:pt x="1484" y="149"/>
                  </a:lnTo>
                  <a:lnTo>
                    <a:pt x="1479" y="144"/>
                  </a:lnTo>
                  <a:lnTo>
                    <a:pt x="1469" y="139"/>
                  </a:lnTo>
                  <a:lnTo>
                    <a:pt x="1464" y="134"/>
                  </a:lnTo>
                  <a:lnTo>
                    <a:pt x="1454" y="134"/>
                  </a:lnTo>
                  <a:lnTo>
                    <a:pt x="1444" y="134"/>
                  </a:lnTo>
                  <a:lnTo>
                    <a:pt x="1439" y="134"/>
                  </a:lnTo>
                  <a:lnTo>
                    <a:pt x="1434" y="129"/>
                  </a:lnTo>
                  <a:lnTo>
                    <a:pt x="1434" y="124"/>
                  </a:lnTo>
                  <a:lnTo>
                    <a:pt x="1434" y="119"/>
                  </a:lnTo>
                  <a:lnTo>
                    <a:pt x="1434" y="109"/>
                  </a:lnTo>
                  <a:lnTo>
                    <a:pt x="1439" y="104"/>
                  </a:lnTo>
                  <a:lnTo>
                    <a:pt x="1444" y="99"/>
                  </a:lnTo>
                  <a:lnTo>
                    <a:pt x="1449" y="94"/>
                  </a:lnTo>
                  <a:lnTo>
                    <a:pt x="1454" y="89"/>
                  </a:lnTo>
                  <a:lnTo>
                    <a:pt x="1459" y="84"/>
                  </a:lnTo>
                  <a:lnTo>
                    <a:pt x="1464" y="84"/>
                  </a:lnTo>
                  <a:lnTo>
                    <a:pt x="1474" y="84"/>
                  </a:lnTo>
                  <a:lnTo>
                    <a:pt x="1479" y="79"/>
                  </a:lnTo>
                  <a:lnTo>
                    <a:pt x="1489" y="84"/>
                  </a:lnTo>
                  <a:lnTo>
                    <a:pt x="1499" y="84"/>
                  </a:lnTo>
                  <a:lnTo>
                    <a:pt x="1508" y="84"/>
                  </a:lnTo>
                  <a:lnTo>
                    <a:pt x="1513" y="84"/>
                  </a:lnTo>
                  <a:lnTo>
                    <a:pt x="1513" y="79"/>
                  </a:lnTo>
                  <a:lnTo>
                    <a:pt x="1518" y="74"/>
                  </a:lnTo>
                  <a:lnTo>
                    <a:pt x="1523" y="70"/>
                  </a:lnTo>
                  <a:lnTo>
                    <a:pt x="1528" y="65"/>
                  </a:lnTo>
                  <a:lnTo>
                    <a:pt x="1533" y="60"/>
                  </a:lnTo>
                  <a:lnTo>
                    <a:pt x="1543" y="60"/>
                  </a:lnTo>
                  <a:lnTo>
                    <a:pt x="1553" y="55"/>
                  </a:lnTo>
                  <a:lnTo>
                    <a:pt x="1558" y="55"/>
                  </a:lnTo>
                  <a:lnTo>
                    <a:pt x="1568" y="55"/>
                  </a:lnTo>
                  <a:lnTo>
                    <a:pt x="1578" y="55"/>
                  </a:lnTo>
                  <a:lnTo>
                    <a:pt x="1583" y="55"/>
                  </a:lnTo>
                  <a:lnTo>
                    <a:pt x="1593" y="50"/>
                  </a:lnTo>
                  <a:lnTo>
                    <a:pt x="1598" y="50"/>
                  </a:lnTo>
                  <a:lnTo>
                    <a:pt x="1602" y="45"/>
                  </a:lnTo>
                  <a:lnTo>
                    <a:pt x="1607" y="40"/>
                  </a:lnTo>
                  <a:lnTo>
                    <a:pt x="1612" y="35"/>
                  </a:lnTo>
                  <a:lnTo>
                    <a:pt x="1622" y="30"/>
                  </a:lnTo>
                  <a:lnTo>
                    <a:pt x="1627" y="30"/>
                  </a:lnTo>
                  <a:lnTo>
                    <a:pt x="1637" y="30"/>
                  </a:lnTo>
                  <a:lnTo>
                    <a:pt x="1647" y="30"/>
                  </a:lnTo>
                  <a:lnTo>
                    <a:pt x="1657" y="30"/>
                  </a:lnTo>
                  <a:lnTo>
                    <a:pt x="1662" y="30"/>
                  </a:lnTo>
                  <a:lnTo>
                    <a:pt x="1672" y="35"/>
                  </a:lnTo>
                  <a:lnTo>
                    <a:pt x="1677" y="35"/>
                  </a:lnTo>
                  <a:lnTo>
                    <a:pt x="1682" y="40"/>
                  </a:lnTo>
                  <a:lnTo>
                    <a:pt x="1687" y="45"/>
                  </a:lnTo>
                  <a:lnTo>
                    <a:pt x="1691" y="50"/>
                  </a:lnTo>
                  <a:lnTo>
                    <a:pt x="1701" y="50"/>
                  </a:lnTo>
                  <a:lnTo>
                    <a:pt x="1706" y="55"/>
                  </a:lnTo>
                  <a:lnTo>
                    <a:pt x="1716" y="55"/>
                  </a:lnTo>
                  <a:lnTo>
                    <a:pt x="1726" y="55"/>
                  </a:lnTo>
                  <a:lnTo>
                    <a:pt x="1731" y="55"/>
                  </a:lnTo>
                  <a:lnTo>
                    <a:pt x="1741" y="55"/>
                  </a:lnTo>
                  <a:lnTo>
                    <a:pt x="1751" y="55"/>
                  </a:lnTo>
                  <a:lnTo>
                    <a:pt x="1756" y="60"/>
                  </a:lnTo>
                  <a:lnTo>
                    <a:pt x="1766" y="60"/>
                  </a:lnTo>
                  <a:lnTo>
                    <a:pt x="1776" y="60"/>
                  </a:lnTo>
                  <a:lnTo>
                    <a:pt x="1780" y="60"/>
                  </a:lnTo>
                  <a:lnTo>
                    <a:pt x="1785" y="65"/>
                  </a:lnTo>
                  <a:lnTo>
                    <a:pt x="1795" y="70"/>
                  </a:lnTo>
                  <a:lnTo>
                    <a:pt x="1800" y="74"/>
                  </a:lnTo>
                  <a:lnTo>
                    <a:pt x="1805" y="79"/>
                  </a:lnTo>
                  <a:lnTo>
                    <a:pt x="1810" y="79"/>
                  </a:lnTo>
                  <a:lnTo>
                    <a:pt x="1815" y="84"/>
                  </a:lnTo>
                  <a:lnTo>
                    <a:pt x="1825" y="84"/>
                  </a:lnTo>
                  <a:lnTo>
                    <a:pt x="1835" y="84"/>
                  </a:lnTo>
                  <a:lnTo>
                    <a:pt x="1845" y="84"/>
                  </a:lnTo>
                  <a:lnTo>
                    <a:pt x="1850" y="84"/>
                  </a:lnTo>
                  <a:lnTo>
                    <a:pt x="1860" y="84"/>
                  </a:lnTo>
                  <a:lnTo>
                    <a:pt x="1870" y="84"/>
                  </a:lnTo>
                  <a:lnTo>
                    <a:pt x="1874" y="84"/>
                  </a:lnTo>
                  <a:lnTo>
                    <a:pt x="1884" y="89"/>
                  </a:lnTo>
                  <a:lnTo>
                    <a:pt x="1889" y="89"/>
                  </a:lnTo>
                  <a:lnTo>
                    <a:pt x="1899" y="94"/>
                  </a:lnTo>
                  <a:lnTo>
                    <a:pt x="1904" y="99"/>
                  </a:lnTo>
                  <a:lnTo>
                    <a:pt x="1909" y="104"/>
                  </a:lnTo>
                  <a:lnTo>
                    <a:pt x="1909" y="109"/>
                  </a:lnTo>
                  <a:lnTo>
                    <a:pt x="1919" y="109"/>
                  </a:lnTo>
                  <a:lnTo>
                    <a:pt x="1924" y="114"/>
                  </a:lnTo>
                  <a:lnTo>
                    <a:pt x="1934" y="114"/>
                  </a:lnTo>
                  <a:lnTo>
                    <a:pt x="1944" y="114"/>
                  </a:lnTo>
                  <a:lnTo>
                    <a:pt x="1949" y="114"/>
                  </a:lnTo>
                  <a:lnTo>
                    <a:pt x="1959" y="114"/>
                  </a:lnTo>
                  <a:lnTo>
                    <a:pt x="1968" y="114"/>
                  </a:lnTo>
                  <a:lnTo>
                    <a:pt x="1978" y="114"/>
                  </a:lnTo>
                  <a:lnTo>
                    <a:pt x="1983" y="114"/>
                  </a:lnTo>
                  <a:lnTo>
                    <a:pt x="1993" y="114"/>
                  </a:lnTo>
                  <a:lnTo>
                    <a:pt x="1998" y="119"/>
                  </a:lnTo>
                  <a:lnTo>
                    <a:pt x="2003" y="124"/>
                  </a:lnTo>
                  <a:lnTo>
                    <a:pt x="2008" y="129"/>
                  </a:lnTo>
                  <a:lnTo>
                    <a:pt x="2013" y="134"/>
                  </a:lnTo>
                  <a:lnTo>
                    <a:pt x="2018" y="139"/>
                  </a:lnTo>
                  <a:lnTo>
                    <a:pt x="2018" y="144"/>
                  </a:lnTo>
                  <a:lnTo>
                    <a:pt x="2028" y="144"/>
                  </a:lnTo>
                  <a:lnTo>
                    <a:pt x="2033" y="149"/>
                  </a:lnTo>
                  <a:lnTo>
                    <a:pt x="2043" y="149"/>
                  </a:lnTo>
                  <a:lnTo>
                    <a:pt x="2052" y="149"/>
                  </a:lnTo>
                  <a:lnTo>
                    <a:pt x="2062" y="149"/>
                  </a:lnTo>
                  <a:lnTo>
                    <a:pt x="2067" y="149"/>
                  </a:lnTo>
                  <a:lnTo>
                    <a:pt x="2077" y="154"/>
                  </a:lnTo>
                  <a:lnTo>
                    <a:pt x="2087" y="154"/>
                  </a:lnTo>
                  <a:lnTo>
                    <a:pt x="2092" y="154"/>
                  </a:lnTo>
                  <a:lnTo>
                    <a:pt x="2102" y="159"/>
                  </a:lnTo>
                  <a:lnTo>
                    <a:pt x="2107" y="163"/>
                  </a:lnTo>
                  <a:lnTo>
                    <a:pt x="2107" y="168"/>
                  </a:lnTo>
                  <a:lnTo>
                    <a:pt x="2102" y="173"/>
                  </a:lnTo>
                  <a:lnTo>
                    <a:pt x="2102" y="178"/>
                  </a:lnTo>
                  <a:lnTo>
                    <a:pt x="2097" y="183"/>
                  </a:lnTo>
                  <a:lnTo>
                    <a:pt x="2092" y="188"/>
                  </a:lnTo>
                  <a:lnTo>
                    <a:pt x="2092" y="193"/>
                  </a:lnTo>
                  <a:lnTo>
                    <a:pt x="2087" y="198"/>
                  </a:lnTo>
                  <a:lnTo>
                    <a:pt x="2082" y="203"/>
                  </a:lnTo>
                  <a:lnTo>
                    <a:pt x="2082" y="208"/>
                  </a:lnTo>
                  <a:lnTo>
                    <a:pt x="2077" y="213"/>
                  </a:lnTo>
                  <a:lnTo>
                    <a:pt x="2072" y="218"/>
                  </a:lnTo>
                  <a:lnTo>
                    <a:pt x="2072" y="223"/>
                  </a:lnTo>
                  <a:lnTo>
                    <a:pt x="2067" y="228"/>
                  </a:lnTo>
                  <a:lnTo>
                    <a:pt x="2067" y="233"/>
                  </a:lnTo>
                  <a:lnTo>
                    <a:pt x="2062" y="238"/>
                  </a:lnTo>
                  <a:lnTo>
                    <a:pt x="2057" y="243"/>
                  </a:lnTo>
                  <a:lnTo>
                    <a:pt x="2057" y="247"/>
                  </a:lnTo>
                  <a:lnTo>
                    <a:pt x="2052" y="252"/>
                  </a:lnTo>
                  <a:lnTo>
                    <a:pt x="2048" y="257"/>
                  </a:lnTo>
                  <a:lnTo>
                    <a:pt x="2048" y="262"/>
                  </a:lnTo>
                  <a:lnTo>
                    <a:pt x="2043" y="267"/>
                  </a:lnTo>
                  <a:lnTo>
                    <a:pt x="2033" y="272"/>
                  </a:lnTo>
                  <a:lnTo>
                    <a:pt x="2028" y="272"/>
                  </a:lnTo>
                  <a:lnTo>
                    <a:pt x="2018" y="272"/>
                  </a:lnTo>
                  <a:lnTo>
                    <a:pt x="2013" y="267"/>
                  </a:lnTo>
                  <a:lnTo>
                    <a:pt x="2008" y="262"/>
                  </a:lnTo>
                  <a:lnTo>
                    <a:pt x="2003" y="257"/>
                  </a:lnTo>
                  <a:lnTo>
                    <a:pt x="1998" y="257"/>
                  </a:lnTo>
                  <a:lnTo>
                    <a:pt x="1988" y="252"/>
                  </a:lnTo>
                  <a:lnTo>
                    <a:pt x="1978" y="252"/>
                  </a:lnTo>
                  <a:lnTo>
                    <a:pt x="1973" y="252"/>
                  </a:lnTo>
                  <a:lnTo>
                    <a:pt x="1963" y="252"/>
                  </a:lnTo>
                  <a:lnTo>
                    <a:pt x="1959" y="247"/>
                  </a:lnTo>
                  <a:lnTo>
                    <a:pt x="1954" y="243"/>
                  </a:lnTo>
                  <a:lnTo>
                    <a:pt x="1949" y="238"/>
                  </a:lnTo>
                  <a:lnTo>
                    <a:pt x="1944" y="233"/>
                  </a:lnTo>
                  <a:lnTo>
                    <a:pt x="1939" y="233"/>
                  </a:lnTo>
                  <a:lnTo>
                    <a:pt x="1934" y="233"/>
                  </a:lnTo>
                  <a:lnTo>
                    <a:pt x="1924" y="238"/>
                  </a:lnTo>
                  <a:lnTo>
                    <a:pt x="1919" y="247"/>
                  </a:lnTo>
                  <a:lnTo>
                    <a:pt x="1914" y="247"/>
                  </a:lnTo>
                  <a:lnTo>
                    <a:pt x="1909" y="247"/>
                  </a:lnTo>
                  <a:lnTo>
                    <a:pt x="1904" y="243"/>
                  </a:lnTo>
                  <a:lnTo>
                    <a:pt x="1904" y="238"/>
                  </a:lnTo>
                  <a:lnTo>
                    <a:pt x="1904" y="233"/>
                  </a:lnTo>
                  <a:lnTo>
                    <a:pt x="1909" y="223"/>
                  </a:lnTo>
                  <a:lnTo>
                    <a:pt x="1909" y="218"/>
                  </a:lnTo>
                  <a:lnTo>
                    <a:pt x="1914" y="213"/>
                  </a:lnTo>
                  <a:lnTo>
                    <a:pt x="1909" y="213"/>
                  </a:lnTo>
                  <a:lnTo>
                    <a:pt x="1899" y="208"/>
                  </a:lnTo>
                  <a:lnTo>
                    <a:pt x="1894" y="208"/>
                  </a:lnTo>
                  <a:lnTo>
                    <a:pt x="1884" y="208"/>
                  </a:lnTo>
                  <a:lnTo>
                    <a:pt x="1879" y="213"/>
                  </a:lnTo>
                  <a:lnTo>
                    <a:pt x="1874" y="218"/>
                  </a:lnTo>
                  <a:lnTo>
                    <a:pt x="1870" y="223"/>
                  </a:lnTo>
                  <a:lnTo>
                    <a:pt x="1865" y="228"/>
                  </a:lnTo>
                  <a:lnTo>
                    <a:pt x="1860" y="228"/>
                  </a:lnTo>
                  <a:lnTo>
                    <a:pt x="1855" y="228"/>
                  </a:lnTo>
                  <a:lnTo>
                    <a:pt x="1845" y="228"/>
                  </a:lnTo>
                  <a:lnTo>
                    <a:pt x="1840" y="223"/>
                  </a:lnTo>
                  <a:lnTo>
                    <a:pt x="1835" y="213"/>
                  </a:lnTo>
                  <a:lnTo>
                    <a:pt x="1835" y="208"/>
                  </a:lnTo>
                  <a:lnTo>
                    <a:pt x="1840" y="208"/>
                  </a:lnTo>
                  <a:lnTo>
                    <a:pt x="1845" y="203"/>
                  </a:lnTo>
                  <a:lnTo>
                    <a:pt x="1850" y="198"/>
                  </a:lnTo>
                  <a:lnTo>
                    <a:pt x="1860" y="193"/>
                  </a:lnTo>
                  <a:lnTo>
                    <a:pt x="1865" y="188"/>
                  </a:lnTo>
                  <a:lnTo>
                    <a:pt x="1860" y="183"/>
                  </a:lnTo>
                  <a:lnTo>
                    <a:pt x="1855" y="183"/>
                  </a:lnTo>
                  <a:lnTo>
                    <a:pt x="1845" y="178"/>
                  </a:lnTo>
                  <a:lnTo>
                    <a:pt x="1835" y="178"/>
                  </a:lnTo>
                  <a:lnTo>
                    <a:pt x="1830" y="183"/>
                  </a:lnTo>
                  <a:lnTo>
                    <a:pt x="1820" y="183"/>
                  </a:lnTo>
                  <a:lnTo>
                    <a:pt x="1815" y="188"/>
                  </a:lnTo>
                  <a:lnTo>
                    <a:pt x="1810" y="193"/>
                  </a:lnTo>
                  <a:lnTo>
                    <a:pt x="1810" y="198"/>
                  </a:lnTo>
                  <a:lnTo>
                    <a:pt x="1800" y="203"/>
                  </a:lnTo>
                  <a:lnTo>
                    <a:pt x="1795" y="203"/>
                  </a:lnTo>
                  <a:lnTo>
                    <a:pt x="1785" y="208"/>
                  </a:lnTo>
                  <a:lnTo>
                    <a:pt x="1776" y="208"/>
                  </a:lnTo>
                  <a:lnTo>
                    <a:pt x="1771" y="203"/>
                  </a:lnTo>
                  <a:lnTo>
                    <a:pt x="1766" y="198"/>
                  </a:lnTo>
                  <a:lnTo>
                    <a:pt x="1761" y="193"/>
                  </a:lnTo>
                  <a:lnTo>
                    <a:pt x="1756" y="188"/>
                  </a:lnTo>
                  <a:lnTo>
                    <a:pt x="1756" y="183"/>
                  </a:lnTo>
                  <a:lnTo>
                    <a:pt x="1746" y="183"/>
                  </a:lnTo>
                  <a:lnTo>
                    <a:pt x="1736" y="183"/>
                  </a:lnTo>
                  <a:lnTo>
                    <a:pt x="1726" y="183"/>
                  </a:lnTo>
                  <a:lnTo>
                    <a:pt x="1716" y="183"/>
                  </a:lnTo>
                  <a:lnTo>
                    <a:pt x="1711" y="183"/>
                  </a:lnTo>
                  <a:lnTo>
                    <a:pt x="1701" y="178"/>
                  </a:lnTo>
                  <a:lnTo>
                    <a:pt x="1696" y="173"/>
                  </a:lnTo>
                  <a:lnTo>
                    <a:pt x="1691" y="173"/>
                  </a:lnTo>
                  <a:lnTo>
                    <a:pt x="1687" y="168"/>
                  </a:lnTo>
                  <a:lnTo>
                    <a:pt x="1682" y="163"/>
                  </a:lnTo>
                  <a:lnTo>
                    <a:pt x="1677" y="159"/>
                  </a:lnTo>
                  <a:lnTo>
                    <a:pt x="1667" y="159"/>
                  </a:lnTo>
                  <a:lnTo>
                    <a:pt x="1657" y="154"/>
                  </a:lnTo>
                  <a:lnTo>
                    <a:pt x="1652" y="159"/>
                  </a:lnTo>
                  <a:lnTo>
                    <a:pt x="1642" y="159"/>
                  </a:lnTo>
                  <a:lnTo>
                    <a:pt x="1632" y="159"/>
                  </a:lnTo>
                  <a:lnTo>
                    <a:pt x="1627" y="163"/>
                  </a:lnTo>
                  <a:lnTo>
                    <a:pt x="1622" y="168"/>
                  </a:lnTo>
                  <a:lnTo>
                    <a:pt x="1622" y="173"/>
                  </a:lnTo>
                  <a:lnTo>
                    <a:pt x="1622" y="178"/>
                  </a:lnTo>
                  <a:lnTo>
                    <a:pt x="1622" y="173"/>
                  </a:lnTo>
                  <a:lnTo>
                    <a:pt x="1617" y="163"/>
                  </a:lnTo>
                  <a:lnTo>
                    <a:pt x="1612" y="159"/>
                  </a:lnTo>
                  <a:lnTo>
                    <a:pt x="1607" y="159"/>
                  </a:lnTo>
                  <a:lnTo>
                    <a:pt x="1598" y="159"/>
                  </a:lnTo>
                  <a:lnTo>
                    <a:pt x="1588" y="159"/>
                  </a:lnTo>
                  <a:lnTo>
                    <a:pt x="1583" y="159"/>
                  </a:lnTo>
                  <a:lnTo>
                    <a:pt x="1578" y="163"/>
                  </a:lnTo>
                  <a:lnTo>
                    <a:pt x="1573" y="173"/>
                  </a:lnTo>
                  <a:lnTo>
                    <a:pt x="1573" y="178"/>
                  </a:lnTo>
                  <a:lnTo>
                    <a:pt x="1578" y="183"/>
                  </a:lnTo>
                  <a:lnTo>
                    <a:pt x="1583" y="188"/>
                  </a:lnTo>
                  <a:lnTo>
                    <a:pt x="1593" y="188"/>
                  </a:lnTo>
                  <a:lnTo>
                    <a:pt x="1602" y="188"/>
                  </a:lnTo>
                  <a:lnTo>
                    <a:pt x="1612" y="188"/>
                  </a:lnTo>
                  <a:lnTo>
                    <a:pt x="1617" y="188"/>
                  </a:lnTo>
                  <a:lnTo>
                    <a:pt x="1627" y="188"/>
                  </a:lnTo>
                  <a:lnTo>
                    <a:pt x="1632" y="193"/>
                  </a:lnTo>
                  <a:lnTo>
                    <a:pt x="1632" y="198"/>
                  </a:lnTo>
                  <a:lnTo>
                    <a:pt x="1637" y="203"/>
                  </a:lnTo>
                  <a:lnTo>
                    <a:pt x="1642" y="208"/>
                  </a:lnTo>
                  <a:lnTo>
                    <a:pt x="1647" y="213"/>
                  </a:lnTo>
                  <a:lnTo>
                    <a:pt x="1652" y="218"/>
                  </a:lnTo>
                  <a:lnTo>
                    <a:pt x="1657" y="223"/>
                  </a:lnTo>
                  <a:lnTo>
                    <a:pt x="1662" y="228"/>
                  </a:lnTo>
                  <a:lnTo>
                    <a:pt x="1667" y="233"/>
                  </a:lnTo>
                  <a:lnTo>
                    <a:pt x="1672" y="238"/>
                  </a:lnTo>
                  <a:lnTo>
                    <a:pt x="1672" y="243"/>
                  </a:lnTo>
                  <a:lnTo>
                    <a:pt x="1677" y="247"/>
                  </a:lnTo>
                  <a:lnTo>
                    <a:pt x="1682" y="252"/>
                  </a:lnTo>
                  <a:lnTo>
                    <a:pt x="1687" y="252"/>
                  </a:lnTo>
                  <a:lnTo>
                    <a:pt x="1696" y="257"/>
                  </a:lnTo>
                  <a:lnTo>
                    <a:pt x="1696" y="262"/>
                  </a:lnTo>
                  <a:lnTo>
                    <a:pt x="1696" y="267"/>
                  </a:lnTo>
                  <a:lnTo>
                    <a:pt x="1691" y="272"/>
                  </a:lnTo>
                  <a:lnTo>
                    <a:pt x="1687" y="277"/>
                  </a:lnTo>
                  <a:lnTo>
                    <a:pt x="1677" y="282"/>
                  </a:lnTo>
                  <a:lnTo>
                    <a:pt x="1672" y="277"/>
                  </a:lnTo>
                  <a:lnTo>
                    <a:pt x="1667" y="272"/>
                  </a:lnTo>
                  <a:lnTo>
                    <a:pt x="1662" y="267"/>
                  </a:lnTo>
                  <a:lnTo>
                    <a:pt x="1657" y="262"/>
                  </a:lnTo>
                  <a:lnTo>
                    <a:pt x="1652" y="262"/>
                  </a:lnTo>
                  <a:lnTo>
                    <a:pt x="1647" y="257"/>
                  </a:lnTo>
                  <a:lnTo>
                    <a:pt x="1642" y="252"/>
                  </a:lnTo>
                  <a:lnTo>
                    <a:pt x="1637" y="247"/>
                  </a:lnTo>
                  <a:lnTo>
                    <a:pt x="1632" y="243"/>
                  </a:lnTo>
                  <a:lnTo>
                    <a:pt x="1627" y="238"/>
                  </a:lnTo>
                  <a:lnTo>
                    <a:pt x="1622" y="233"/>
                  </a:lnTo>
                  <a:lnTo>
                    <a:pt x="1617" y="233"/>
                  </a:lnTo>
                  <a:lnTo>
                    <a:pt x="1612" y="233"/>
                  </a:lnTo>
                  <a:lnTo>
                    <a:pt x="1602" y="233"/>
                  </a:lnTo>
                  <a:lnTo>
                    <a:pt x="1593" y="233"/>
                  </a:lnTo>
                  <a:lnTo>
                    <a:pt x="1583" y="233"/>
                  </a:lnTo>
                  <a:lnTo>
                    <a:pt x="1573" y="233"/>
                  </a:lnTo>
                  <a:lnTo>
                    <a:pt x="1568" y="238"/>
                  </a:lnTo>
                  <a:lnTo>
                    <a:pt x="1563" y="243"/>
                  </a:lnTo>
                  <a:lnTo>
                    <a:pt x="1558" y="247"/>
                  </a:lnTo>
                  <a:lnTo>
                    <a:pt x="1553" y="247"/>
                  </a:lnTo>
                  <a:lnTo>
                    <a:pt x="1548" y="252"/>
                  </a:lnTo>
                  <a:lnTo>
                    <a:pt x="1538" y="257"/>
                  </a:lnTo>
                  <a:lnTo>
                    <a:pt x="1533" y="257"/>
                  </a:lnTo>
                  <a:lnTo>
                    <a:pt x="1523" y="257"/>
                  </a:lnTo>
                  <a:lnTo>
                    <a:pt x="1513" y="262"/>
                  </a:lnTo>
                  <a:lnTo>
                    <a:pt x="1508" y="262"/>
                  </a:lnTo>
                  <a:lnTo>
                    <a:pt x="1499" y="262"/>
                  </a:lnTo>
                  <a:lnTo>
                    <a:pt x="1494" y="267"/>
                  </a:lnTo>
                  <a:lnTo>
                    <a:pt x="1484" y="272"/>
                  </a:lnTo>
                  <a:lnTo>
                    <a:pt x="1479" y="272"/>
                  </a:lnTo>
                  <a:lnTo>
                    <a:pt x="1474" y="277"/>
                  </a:lnTo>
                  <a:lnTo>
                    <a:pt x="1469" y="282"/>
                  </a:lnTo>
                  <a:lnTo>
                    <a:pt x="1459" y="282"/>
                  </a:lnTo>
                  <a:lnTo>
                    <a:pt x="1449" y="282"/>
                  </a:lnTo>
                  <a:lnTo>
                    <a:pt x="1444" y="287"/>
                  </a:lnTo>
                  <a:lnTo>
                    <a:pt x="1434" y="287"/>
                  </a:lnTo>
                  <a:lnTo>
                    <a:pt x="1429" y="292"/>
                  </a:lnTo>
                  <a:lnTo>
                    <a:pt x="1424" y="297"/>
                  </a:lnTo>
                  <a:lnTo>
                    <a:pt x="1419" y="302"/>
                  </a:lnTo>
                  <a:lnTo>
                    <a:pt x="1415" y="302"/>
                  </a:lnTo>
                  <a:lnTo>
                    <a:pt x="1405" y="307"/>
                  </a:lnTo>
                  <a:lnTo>
                    <a:pt x="1395" y="307"/>
                  </a:lnTo>
                  <a:lnTo>
                    <a:pt x="1390" y="307"/>
                  </a:lnTo>
                  <a:lnTo>
                    <a:pt x="1380" y="307"/>
                  </a:lnTo>
                  <a:lnTo>
                    <a:pt x="1370" y="307"/>
                  </a:lnTo>
                  <a:lnTo>
                    <a:pt x="1365" y="312"/>
                  </a:lnTo>
                  <a:lnTo>
                    <a:pt x="1355" y="312"/>
                  </a:lnTo>
                  <a:lnTo>
                    <a:pt x="1350" y="317"/>
                  </a:lnTo>
                  <a:lnTo>
                    <a:pt x="1340" y="317"/>
                  </a:lnTo>
                  <a:lnTo>
                    <a:pt x="1335" y="322"/>
                  </a:lnTo>
                  <a:lnTo>
                    <a:pt x="1326" y="322"/>
                  </a:lnTo>
                  <a:lnTo>
                    <a:pt x="1321" y="322"/>
                  </a:lnTo>
                  <a:lnTo>
                    <a:pt x="1311" y="322"/>
                  </a:lnTo>
                  <a:close/>
                  <a:moveTo>
                    <a:pt x="930" y="238"/>
                  </a:moveTo>
                  <a:lnTo>
                    <a:pt x="930" y="238"/>
                  </a:lnTo>
                  <a:lnTo>
                    <a:pt x="930" y="238"/>
                  </a:lnTo>
                  <a:lnTo>
                    <a:pt x="930" y="238"/>
                  </a:lnTo>
                  <a:lnTo>
                    <a:pt x="930" y="238"/>
                  </a:lnTo>
                  <a:lnTo>
                    <a:pt x="930" y="238"/>
                  </a:lnTo>
                  <a:lnTo>
                    <a:pt x="930" y="238"/>
                  </a:lnTo>
                  <a:lnTo>
                    <a:pt x="930" y="238"/>
                  </a:lnTo>
                  <a:lnTo>
                    <a:pt x="930" y="243"/>
                  </a:lnTo>
                  <a:lnTo>
                    <a:pt x="930" y="243"/>
                  </a:lnTo>
                  <a:lnTo>
                    <a:pt x="930" y="243"/>
                  </a:lnTo>
                  <a:lnTo>
                    <a:pt x="930" y="243"/>
                  </a:lnTo>
                  <a:lnTo>
                    <a:pt x="930" y="243"/>
                  </a:lnTo>
                  <a:lnTo>
                    <a:pt x="930" y="243"/>
                  </a:lnTo>
                  <a:lnTo>
                    <a:pt x="930" y="238"/>
                  </a:lnTo>
                  <a:close/>
                  <a:moveTo>
                    <a:pt x="1301" y="238"/>
                  </a:moveTo>
                  <a:lnTo>
                    <a:pt x="1301" y="238"/>
                  </a:lnTo>
                  <a:lnTo>
                    <a:pt x="1301" y="238"/>
                  </a:lnTo>
                  <a:lnTo>
                    <a:pt x="1301" y="238"/>
                  </a:lnTo>
                  <a:lnTo>
                    <a:pt x="1306" y="238"/>
                  </a:lnTo>
                  <a:lnTo>
                    <a:pt x="1306" y="238"/>
                  </a:lnTo>
                  <a:lnTo>
                    <a:pt x="1306" y="238"/>
                  </a:lnTo>
                  <a:lnTo>
                    <a:pt x="1311" y="238"/>
                  </a:lnTo>
                  <a:lnTo>
                    <a:pt x="1311" y="243"/>
                  </a:lnTo>
                  <a:lnTo>
                    <a:pt x="1306" y="243"/>
                  </a:lnTo>
                  <a:lnTo>
                    <a:pt x="1306" y="243"/>
                  </a:lnTo>
                  <a:lnTo>
                    <a:pt x="1306" y="243"/>
                  </a:lnTo>
                  <a:lnTo>
                    <a:pt x="1301" y="243"/>
                  </a:lnTo>
                  <a:lnTo>
                    <a:pt x="1301" y="243"/>
                  </a:lnTo>
                  <a:lnTo>
                    <a:pt x="1301" y="238"/>
                  </a:lnTo>
                  <a:close/>
                  <a:moveTo>
                    <a:pt x="1548" y="213"/>
                  </a:moveTo>
                  <a:lnTo>
                    <a:pt x="1548" y="208"/>
                  </a:lnTo>
                  <a:lnTo>
                    <a:pt x="1553" y="198"/>
                  </a:lnTo>
                  <a:lnTo>
                    <a:pt x="1553" y="193"/>
                  </a:lnTo>
                  <a:lnTo>
                    <a:pt x="1553" y="193"/>
                  </a:lnTo>
                  <a:lnTo>
                    <a:pt x="1553" y="188"/>
                  </a:lnTo>
                  <a:lnTo>
                    <a:pt x="1548" y="188"/>
                  </a:lnTo>
                  <a:lnTo>
                    <a:pt x="1543" y="183"/>
                  </a:lnTo>
                  <a:lnTo>
                    <a:pt x="1533" y="183"/>
                  </a:lnTo>
                  <a:lnTo>
                    <a:pt x="1528" y="183"/>
                  </a:lnTo>
                  <a:lnTo>
                    <a:pt x="1518" y="183"/>
                  </a:lnTo>
                  <a:lnTo>
                    <a:pt x="1513" y="183"/>
                  </a:lnTo>
                  <a:lnTo>
                    <a:pt x="1508" y="183"/>
                  </a:lnTo>
                  <a:lnTo>
                    <a:pt x="1504" y="188"/>
                  </a:lnTo>
                  <a:lnTo>
                    <a:pt x="1499" y="193"/>
                  </a:lnTo>
                  <a:lnTo>
                    <a:pt x="1494" y="198"/>
                  </a:lnTo>
                  <a:lnTo>
                    <a:pt x="1494" y="203"/>
                  </a:lnTo>
                  <a:lnTo>
                    <a:pt x="1494" y="208"/>
                  </a:lnTo>
                  <a:lnTo>
                    <a:pt x="1494" y="213"/>
                  </a:lnTo>
                  <a:lnTo>
                    <a:pt x="1499" y="213"/>
                  </a:lnTo>
                  <a:lnTo>
                    <a:pt x="1508" y="213"/>
                  </a:lnTo>
                  <a:lnTo>
                    <a:pt x="1513" y="218"/>
                  </a:lnTo>
                  <a:lnTo>
                    <a:pt x="1523" y="218"/>
                  </a:lnTo>
                  <a:lnTo>
                    <a:pt x="1528" y="218"/>
                  </a:lnTo>
                  <a:lnTo>
                    <a:pt x="1538" y="218"/>
                  </a:lnTo>
                  <a:lnTo>
                    <a:pt x="1543" y="218"/>
                  </a:lnTo>
                  <a:lnTo>
                    <a:pt x="1548" y="213"/>
                  </a:lnTo>
                  <a:close/>
                  <a:moveTo>
                    <a:pt x="999" y="188"/>
                  </a:moveTo>
                  <a:lnTo>
                    <a:pt x="999" y="183"/>
                  </a:lnTo>
                  <a:lnTo>
                    <a:pt x="1004" y="178"/>
                  </a:lnTo>
                  <a:lnTo>
                    <a:pt x="1009" y="178"/>
                  </a:lnTo>
                  <a:lnTo>
                    <a:pt x="1014" y="178"/>
                  </a:lnTo>
                  <a:lnTo>
                    <a:pt x="1014" y="178"/>
                  </a:lnTo>
                  <a:lnTo>
                    <a:pt x="1019" y="183"/>
                  </a:lnTo>
                  <a:lnTo>
                    <a:pt x="1019" y="188"/>
                  </a:lnTo>
                  <a:lnTo>
                    <a:pt x="1019" y="193"/>
                  </a:lnTo>
                  <a:lnTo>
                    <a:pt x="1014" y="198"/>
                  </a:lnTo>
                  <a:lnTo>
                    <a:pt x="1009" y="198"/>
                  </a:lnTo>
                  <a:lnTo>
                    <a:pt x="1009" y="198"/>
                  </a:lnTo>
                  <a:lnTo>
                    <a:pt x="1004" y="198"/>
                  </a:lnTo>
                  <a:lnTo>
                    <a:pt x="999" y="193"/>
                  </a:lnTo>
                  <a:lnTo>
                    <a:pt x="999" y="188"/>
                  </a:lnTo>
                  <a:close/>
                  <a:moveTo>
                    <a:pt x="1192" y="188"/>
                  </a:moveTo>
                  <a:lnTo>
                    <a:pt x="1197" y="183"/>
                  </a:lnTo>
                  <a:lnTo>
                    <a:pt x="1202" y="178"/>
                  </a:lnTo>
                  <a:lnTo>
                    <a:pt x="1207" y="173"/>
                  </a:lnTo>
                  <a:lnTo>
                    <a:pt x="1217" y="173"/>
                  </a:lnTo>
                  <a:lnTo>
                    <a:pt x="1222" y="173"/>
                  </a:lnTo>
                  <a:lnTo>
                    <a:pt x="1227" y="173"/>
                  </a:lnTo>
                  <a:lnTo>
                    <a:pt x="1232" y="178"/>
                  </a:lnTo>
                  <a:lnTo>
                    <a:pt x="1236" y="183"/>
                  </a:lnTo>
                  <a:lnTo>
                    <a:pt x="1241" y="188"/>
                  </a:lnTo>
                  <a:lnTo>
                    <a:pt x="1236" y="193"/>
                  </a:lnTo>
                  <a:lnTo>
                    <a:pt x="1236" y="198"/>
                  </a:lnTo>
                  <a:lnTo>
                    <a:pt x="1232" y="203"/>
                  </a:lnTo>
                  <a:lnTo>
                    <a:pt x="1227" y="208"/>
                  </a:lnTo>
                  <a:lnTo>
                    <a:pt x="1222" y="208"/>
                  </a:lnTo>
                  <a:lnTo>
                    <a:pt x="1212" y="208"/>
                  </a:lnTo>
                  <a:lnTo>
                    <a:pt x="1207" y="203"/>
                  </a:lnTo>
                  <a:lnTo>
                    <a:pt x="1202" y="198"/>
                  </a:lnTo>
                  <a:lnTo>
                    <a:pt x="1197" y="198"/>
                  </a:lnTo>
                  <a:lnTo>
                    <a:pt x="1192" y="193"/>
                  </a:lnTo>
                  <a:lnTo>
                    <a:pt x="1192" y="188"/>
                  </a:lnTo>
                  <a:close/>
                  <a:moveTo>
                    <a:pt x="1276" y="159"/>
                  </a:moveTo>
                  <a:lnTo>
                    <a:pt x="1281" y="154"/>
                  </a:lnTo>
                  <a:lnTo>
                    <a:pt x="1286" y="149"/>
                  </a:lnTo>
                  <a:lnTo>
                    <a:pt x="1291" y="144"/>
                  </a:lnTo>
                  <a:lnTo>
                    <a:pt x="1296" y="139"/>
                  </a:lnTo>
                  <a:lnTo>
                    <a:pt x="1306" y="139"/>
                  </a:lnTo>
                  <a:lnTo>
                    <a:pt x="1311" y="139"/>
                  </a:lnTo>
                  <a:lnTo>
                    <a:pt x="1316" y="144"/>
                  </a:lnTo>
                  <a:lnTo>
                    <a:pt x="1321" y="149"/>
                  </a:lnTo>
                  <a:lnTo>
                    <a:pt x="1326" y="159"/>
                  </a:lnTo>
                  <a:lnTo>
                    <a:pt x="1326" y="163"/>
                  </a:lnTo>
                  <a:lnTo>
                    <a:pt x="1321" y="173"/>
                  </a:lnTo>
                  <a:lnTo>
                    <a:pt x="1321" y="178"/>
                  </a:lnTo>
                  <a:lnTo>
                    <a:pt x="1311" y="183"/>
                  </a:lnTo>
                  <a:lnTo>
                    <a:pt x="1306" y="183"/>
                  </a:lnTo>
                  <a:lnTo>
                    <a:pt x="1301" y="183"/>
                  </a:lnTo>
                  <a:lnTo>
                    <a:pt x="1296" y="183"/>
                  </a:lnTo>
                  <a:lnTo>
                    <a:pt x="1286" y="178"/>
                  </a:lnTo>
                  <a:lnTo>
                    <a:pt x="1281" y="173"/>
                  </a:lnTo>
                  <a:lnTo>
                    <a:pt x="1281" y="163"/>
                  </a:lnTo>
                  <a:lnTo>
                    <a:pt x="1276" y="159"/>
                  </a:lnTo>
                  <a:close/>
                  <a:moveTo>
                    <a:pt x="1810" y="159"/>
                  </a:moveTo>
                  <a:lnTo>
                    <a:pt x="1805" y="159"/>
                  </a:lnTo>
                  <a:lnTo>
                    <a:pt x="1800" y="154"/>
                  </a:lnTo>
                  <a:lnTo>
                    <a:pt x="1795" y="154"/>
                  </a:lnTo>
                  <a:lnTo>
                    <a:pt x="1790" y="154"/>
                  </a:lnTo>
                  <a:lnTo>
                    <a:pt x="1780" y="154"/>
                  </a:lnTo>
                  <a:lnTo>
                    <a:pt x="1776" y="154"/>
                  </a:lnTo>
                  <a:lnTo>
                    <a:pt x="1766" y="159"/>
                  </a:lnTo>
                  <a:lnTo>
                    <a:pt x="1761" y="159"/>
                  </a:lnTo>
                  <a:lnTo>
                    <a:pt x="1761" y="159"/>
                  </a:lnTo>
                  <a:lnTo>
                    <a:pt x="1761" y="163"/>
                  </a:lnTo>
                  <a:lnTo>
                    <a:pt x="1766" y="163"/>
                  </a:lnTo>
                  <a:lnTo>
                    <a:pt x="1771" y="163"/>
                  </a:lnTo>
                  <a:lnTo>
                    <a:pt x="1780" y="168"/>
                  </a:lnTo>
                  <a:lnTo>
                    <a:pt x="1785" y="168"/>
                  </a:lnTo>
                  <a:lnTo>
                    <a:pt x="1795" y="168"/>
                  </a:lnTo>
                  <a:lnTo>
                    <a:pt x="1800" y="168"/>
                  </a:lnTo>
                  <a:lnTo>
                    <a:pt x="1805" y="168"/>
                  </a:lnTo>
                  <a:lnTo>
                    <a:pt x="1810" y="168"/>
                  </a:lnTo>
                  <a:lnTo>
                    <a:pt x="1810" y="163"/>
                  </a:lnTo>
                  <a:lnTo>
                    <a:pt x="1810" y="159"/>
                  </a:lnTo>
                  <a:close/>
                  <a:moveTo>
                    <a:pt x="1360" y="134"/>
                  </a:moveTo>
                  <a:lnTo>
                    <a:pt x="1365" y="124"/>
                  </a:lnTo>
                  <a:lnTo>
                    <a:pt x="1370" y="119"/>
                  </a:lnTo>
                  <a:lnTo>
                    <a:pt x="1380" y="114"/>
                  </a:lnTo>
                  <a:lnTo>
                    <a:pt x="1390" y="109"/>
                  </a:lnTo>
                  <a:lnTo>
                    <a:pt x="1400" y="109"/>
                  </a:lnTo>
                  <a:lnTo>
                    <a:pt x="1410" y="109"/>
                  </a:lnTo>
                  <a:lnTo>
                    <a:pt x="1419" y="114"/>
                  </a:lnTo>
                  <a:lnTo>
                    <a:pt x="1429" y="124"/>
                  </a:lnTo>
                  <a:lnTo>
                    <a:pt x="1434" y="129"/>
                  </a:lnTo>
                  <a:lnTo>
                    <a:pt x="1434" y="139"/>
                  </a:lnTo>
                  <a:lnTo>
                    <a:pt x="1429" y="144"/>
                  </a:lnTo>
                  <a:lnTo>
                    <a:pt x="1424" y="149"/>
                  </a:lnTo>
                  <a:lnTo>
                    <a:pt x="1415" y="154"/>
                  </a:lnTo>
                  <a:lnTo>
                    <a:pt x="1405" y="159"/>
                  </a:lnTo>
                  <a:lnTo>
                    <a:pt x="1390" y="159"/>
                  </a:lnTo>
                  <a:lnTo>
                    <a:pt x="1380" y="159"/>
                  </a:lnTo>
                  <a:lnTo>
                    <a:pt x="1370" y="159"/>
                  </a:lnTo>
                  <a:lnTo>
                    <a:pt x="1365" y="149"/>
                  </a:lnTo>
                  <a:lnTo>
                    <a:pt x="1360" y="144"/>
                  </a:lnTo>
                  <a:lnTo>
                    <a:pt x="1360" y="134"/>
                  </a:lnTo>
                  <a:close/>
                  <a:moveTo>
                    <a:pt x="1553" y="134"/>
                  </a:moveTo>
                  <a:lnTo>
                    <a:pt x="1553" y="124"/>
                  </a:lnTo>
                  <a:lnTo>
                    <a:pt x="1553" y="119"/>
                  </a:lnTo>
                  <a:lnTo>
                    <a:pt x="1548" y="114"/>
                  </a:lnTo>
                  <a:lnTo>
                    <a:pt x="1543" y="114"/>
                  </a:lnTo>
                  <a:lnTo>
                    <a:pt x="1533" y="109"/>
                  </a:lnTo>
                  <a:lnTo>
                    <a:pt x="1523" y="109"/>
                  </a:lnTo>
                  <a:lnTo>
                    <a:pt x="1513" y="109"/>
                  </a:lnTo>
                  <a:lnTo>
                    <a:pt x="1508" y="114"/>
                  </a:lnTo>
                  <a:lnTo>
                    <a:pt x="1499" y="119"/>
                  </a:lnTo>
                  <a:lnTo>
                    <a:pt x="1494" y="124"/>
                  </a:lnTo>
                  <a:lnTo>
                    <a:pt x="1489" y="129"/>
                  </a:lnTo>
                  <a:lnTo>
                    <a:pt x="1489" y="134"/>
                  </a:lnTo>
                  <a:lnTo>
                    <a:pt x="1494" y="134"/>
                  </a:lnTo>
                  <a:lnTo>
                    <a:pt x="1504" y="139"/>
                  </a:lnTo>
                  <a:lnTo>
                    <a:pt x="1513" y="139"/>
                  </a:lnTo>
                  <a:lnTo>
                    <a:pt x="1523" y="139"/>
                  </a:lnTo>
                  <a:lnTo>
                    <a:pt x="1533" y="139"/>
                  </a:lnTo>
                  <a:lnTo>
                    <a:pt x="1543" y="139"/>
                  </a:lnTo>
                  <a:lnTo>
                    <a:pt x="1548" y="139"/>
                  </a:lnTo>
                  <a:lnTo>
                    <a:pt x="1553" y="134"/>
                  </a:lnTo>
                  <a:close/>
                  <a:moveTo>
                    <a:pt x="1756" y="134"/>
                  </a:moveTo>
                  <a:lnTo>
                    <a:pt x="1751" y="129"/>
                  </a:lnTo>
                  <a:lnTo>
                    <a:pt x="1746" y="129"/>
                  </a:lnTo>
                  <a:lnTo>
                    <a:pt x="1736" y="129"/>
                  </a:lnTo>
                  <a:lnTo>
                    <a:pt x="1731" y="129"/>
                  </a:lnTo>
                  <a:lnTo>
                    <a:pt x="1721" y="129"/>
                  </a:lnTo>
                  <a:lnTo>
                    <a:pt x="1721" y="124"/>
                  </a:lnTo>
                  <a:lnTo>
                    <a:pt x="1716" y="119"/>
                  </a:lnTo>
                  <a:lnTo>
                    <a:pt x="1711" y="114"/>
                  </a:lnTo>
                  <a:lnTo>
                    <a:pt x="1706" y="109"/>
                  </a:lnTo>
                  <a:lnTo>
                    <a:pt x="1706" y="104"/>
                  </a:lnTo>
                  <a:lnTo>
                    <a:pt x="1696" y="104"/>
                  </a:lnTo>
                  <a:lnTo>
                    <a:pt x="1691" y="104"/>
                  </a:lnTo>
                  <a:lnTo>
                    <a:pt x="1687" y="104"/>
                  </a:lnTo>
                  <a:lnTo>
                    <a:pt x="1677" y="99"/>
                  </a:lnTo>
                  <a:lnTo>
                    <a:pt x="1672" y="99"/>
                  </a:lnTo>
                  <a:lnTo>
                    <a:pt x="1667" y="94"/>
                  </a:lnTo>
                  <a:lnTo>
                    <a:pt x="1662" y="94"/>
                  </a:lnTo>
                  <a:lnTo>
                    <a:pt x="1657" y="89"/>
                  </a:lnTo>
                  <a:lnTo>
                    <a:pt x="1657" y="84"/>
                  </a:lnTo>
                  <a:lnTo>
                    <a:pt x="1652" y="79"/>
                  </a:lnTo>
                  <a:lnTo>
                    <a:pt x="1647" y="79"/>
                  </a:lnTo>
                  <a:lnTo>
                    <a:pt x="1637" y="74"/>
                  </a:lnTo>
                  <a:lnTo>
                    <a:pt x="1632" y="79"/>
                  </a:lnTo>
                  <a:lnTo>
                    <a:pt x="1622" y="79"/>
                  </a:lnTo>
                  <a:lnTo>
                    <a:pt x="1617" y="79"/>
                  </a:lnTo>
                  <a:lnTo>
                    <a:pt x="1612" y="79"/>
                  </a:lnTo>
                  <a:lnTo>
                    <a:pt x="1617" y="84"/>
                  </a:lnTo>
                  <a:lnTo>
                    <a:pt x="1622" y="89"/>
                  </a:lnTo>
                  <a:lnTo>
                    <a:pt x="1622" y="94"/>
                  </a:lnTo>
                  <a:lnTo>
                    <a:pt x="1627" y="99"/>
                  </a:lnTo>
                  <a:lnTo>
                    <a:pt x="1627" y="104"/>
                  </a:lnTo>
                  <a:lnTo>
                    <a:pt x="1632" y="109"/>
                  </a:lnTo>
                  <a:lnTo>
                    <a:pt x="1642" y="109"/>
                  </a:lnTo>
                  <a:lnTo>
                    <a:pt x="1647" y="109"/>
                  </a:lnTo>
                  <a:lnTo>
                    <a:pt x="1657" y="109"/>
                  </a:lnTo>
                  <a:lnTo>
                    <a:pt x="1662" y="109"/>
                  </a:lnTo>
                  <a:lnTo>
                    <a:pt x="1672" y="109"/>
                  </a:lnTo>
                  <a:lnTo>
                    <a:pt x="1677" y="114"/>
                  </a:lnTo>
                  <a:lnTo>
                    <a:pt x="1682" y="114"/>
                  </a:lnTo>
                  <a:lnTo>
                    <a:pt x="1687" y="119"/>
                  </a:lnTo>
                  <a:lnTo>
                    <a:pt x="1691" y="124"/>
                  </a:lnTo>
                  <a:lnTo>
                    <a:pt x="1696" y="124"/>
                  </a:lnTo>
                  <a:lnTo>
                    <a:pt x="1701" y="129"/>
                  </a:lnTo>
                  <a:lnTo>
                    <a:pt x="1701" y="134"/>
                  </a:lnTo>
                  <a:lnTo>
                    <a:pt x="1706" y="139"/>
                  </a:lnTo>
                  <a:lnTo>
                    <a:pt x="1716" y="139"/>
                  </a:lnTo>
                  <a:lnTo>
                    <a:pt x="1721" y="139"/>
                  </a:lnTo>
                  <a:lnTo>
                    <a:pt x="1731" y="139"/>
                  </a:lnTo>
                  <a:lnTo>
                    <a:pt x="1741" y="144"/>
                  </a:lnTo>
                  <a:lnTo>
                    <a:pt x="1746" y="144"/>
                  </a:lnTo>
                  <a:lnTo>
                    <a:pt x="1751" y="149"/>
                  </a:lnTo>
                  <a:lnTo>
                    <a:pt x="1756" y="149"/>
                  </a:lnTo>
                  <a:lnTo>
                    <a:pt x="1756" y="149"/>
                  </a:lnTo>
                  <a:lnTo>
                    <a:pt x="1756" y="144"/>
                  </a:lnTo>
                  <a:lnTo>
                    <a:pt x="1756" y="139"/>
                  </a:lnTo>
                  <a:lnTo>
                    <a:pt x="1756" y="134"/>
                  </a:lnTo>
                  <a:close/>
                  <a:moveTo>
                    <a:pt x="1617" y="104"/>
                  </a:moveTo>
                  <a:lnTo>
                    <a:pt x="1612" y="99"/>
                  </a:lnTo>
                  <a:lnTo>
                    <a:pt x="1607" y="89"/>
                  </a:lnTo>
                  <a:lnTo>
                    <a:pt x="1602" y="89"/>
                  </a:lnTo>
                  <a:lnTo>
                    <a:pt x="1598" y="84"/>
                  </a:lnTo>
                  <a:lnTo>
                    <a:pt x="1593" y="89"/>
                  </a:lnTo>
                  <a:lnTo>
                    <a:pt x="1588" y="89"/>
                  </a:lnTo>
                  <a:lnTo>
                    <a:pt x="1583" y="94"/>
                  </a:lnTo>
                  <a:lnTo>
                    <a:pt x="1578" y="99"/>
                  </a:lnTo>
                  <a:lnTo>
                    <a:pt x="1568" y="104"/>
                  </a:lnTo>
                  <a:lnTo>
                    <a:pt x="1558" y="104"/>
                  </a:lnTo>
                  <a:lnTo>
                    <a:pt x="1548" y="104"/>
                  </a:lnTo>
                  <a:lnTo>
                    <a:pt x="1553" y="109"/>
                  </a:lnTo>
                  <a:lnTo>
                    <a:pt x="1558" y="114"/>
                  </a:lnTo>
                  <a:lnTo>
                    <a:pt x="1568" y="119"/>
                  </a:lnTo>
                  <a:lnTo>
                    <a:pt x="1578" y="119"/>
                  </a:lnTo>
                  <a:lnTo>
                    <a:pt x="1588" y="114"/>
                  </a:lnTo>
                  <a:lnTo>
                    <a:pt x="1593" y="109"/>
                  </a:lnTo>
                  <a:lnTo>
                    <a:pt x="1602" y="109"/>
                  </a:lnTo>
                  <a:lnTo>
                    <a:pt x="1612" y="109"/>
                  </a:lnTo>
                  <a:lnTo>
                    <a:pt x="1617" y="104"/>
                  </a:lnTo>
                  <a:close/>
                </a:path>
              </a:pathLst>
            </a:custGeom>
            <a:solidFill>
              <a:srgbClr val="ffd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6" name=""/>
            <p:cNvSpPr/>
            <p:nvPr/>
          </p:nvSpPr>
          <p:spPr>
            <a:xfrm>
              <a:off x="2265120" y="2368440"/>
              <a:ext cx="4098960" cy="2628360"/>
            </a:xfrm>
            <a:custGeom>
              <a:avLst/>
              <a:gdLst/>
              <a:ahLst/>
              <a:rect l="l" t="t" r="r" b="b"/>
              <a:pathLst>
                <a:path w="2582" h="1656">
                  <a:moveTo>
                    <a:pt x="2235" y="1656"/>
                  </a:moveTo>
                  <a:lnTo>
                    <a:pt x="2260" y="1631"/>
                  </a:lnTo>
                  <a:lnTo>
                    <a:pt x="2285" y="1631"/>
                  </a:lnTo>
                  <a:lnTo>
                    <a:pt x="2315" y="1631"/>
                  </a:lnTo>
                  <a:lnTo>
                    <a:pt x="2339" y="1631"/>
                  </a:lnTo>
                  <a:lnTo>
                    <a:pt x="2369" y="1631"/>
                  </a:lnTo>
                  <a:lnTo>
                    <a:pt x="2394" y="1631"/>
                  </a:lnTo>
                  <a:lnTo>
                    <a:pt x="2418" y="1631"/>
                  </a:lnTo>
                  <a:lnTo>
                    <a:pt x="2448" y="1602"/>
                  </a:lnTo>
                  <a:lnTo>
                    <a:pt x="2448" y="1577"/>
                  </a:lnTo>
                  <a:lnTo>
                    <a:pt x="2448" y="1547"/>
                  </a:lnTo>
                  <a:lnTo>
                    <a:pt x="2448" y="1523"/>
                  </a:lnTo>
                  <a:lnTo>
                    <a:pt x="2473" y="1498"/>
                  </a:lnTo>
                  <a:lnTo>
                    <a:pt x="2473" y="1468"/>
                  </a:lnTo>
                  <a:lnTo>
                    <a:pt x="2473" y="1444"/>
                  </a:lnTo>
                  <a:lnTo>
                    <a:pt x="2473" y="1414"/>
                  </a:lnTo>
                  <a:lnTo>
                    <a:pt x="2503" y="1389"/>
                  </a:lnTo>
                  <a:lnTo>
                    <a:pt x="2503" y="1364"/>
                  </a:lnTo>
                  <a:lnTo>
                    <a:pt x="2503" y="1335"/>
                  </a:lnTo>
                  <a:lnTo>
                    <a:pt x="2503" y="1310"/>
                  </a:lnTo>
                  <a:lnTo>
                    <a:pt x="2527" y="1280"/>
                  </a:lnTo>
                  <a:lnTo>
                    <a:pt x="2527" y="1256"/>
                  </a:lnTo>
                  <a:lnTo>
                    <a:pt x="2527" y="1226"/>
                  </a:lnTo>
                  <a:lnTo>
                    <a:pt x="2527" y="1201"/>
                  </a:lnTo>
                  <a:lnTo>
                    <a:pt x="2552" y="1177"/>
                  </a:lnTo>
                  <a:lnTo>
                    <a:pt x="2552" y="1147"/>
                  </a:lnTo>
                  <a:lnTo>
                    <a:pt x="2552" y="1122"/>
                  </a:lnTo>
                  <a:lnTo>
                    <a:pt x="2552" y="1093"/>
                  </a:lnTo>
                  <a:lnTo>
                    <a:pt x="2582" y="1068"/>
                  </a:lnTo>
                  <a:lnTo>
                    <a:pt x="2582" y="1043"/>
                  </a:lnTo>
                  <a:lnTo>
                    <a:pt x="2582" y="1014"/>
                  </a:lnTo>
                  <a:lnTo>
                    <a:pt x="2582" y="989"/>
                  </a:lnTo>
                  <a:lnTo>
                    <a:pt x="2582" y="959"/>
                  </a:lnTo>
                  <a:lnTo>
                    <a:pt x="2582" y="934"/>
                  </a:lnTo>
                  <a:lnTo>
                    <a:pt x="2582" y="910"/>
                  </a:lnTo>
                  <a:lnTo>
                    <a:pt x="2582" y="880"/>
                  </a:lnTo>
                  <a:lnTo>
                    <a:pt x="2582" y="855"/>
                  </a:lnTo>
                  <a:lnTo>
                    <a:pt x="2582" y="826"/>
                  </a:lnTo>
                  <a:lnTo>
                    <a:pt x="2582" y="801"/>
                  </a:lnTo>
                  <a:lnTo>
                    <a:pt x="2582" y="776"/>
                  </a:lnTo>
                  <a:lnTo>
                    <a:pt x="2582" y="747"/>
                  </a:lnTo>
                  <a:lnTo>
                    <a:pt x="2582" y="722"/>
                  </a:lnTo>
                  <a:lnTo>
                    <a:pt x="2582" y="692"/>
                  </a:lnTo>
                  <a:lnTo>
                    <a:pt x="2582" y="668"/>
                  </a:lnTo>
                  <a:lnTo>
                    <a:pt x="2582" y="643"/>
                  </a:lnTo>
                  <a:lnTo>
                    <a:pt x="2582" y="613"/>
                  </a:lnTo>
                  <a:lnTo>
                    <a:pt x="2582" y="589"/>
                  </a:lnTo>
                  <a:lnTo>
                    <a:pt x="2582" y="559"/>
                  </a:lnTo>
                  <a:lnTo>
                    <a:pt x="2582" y="534"/>
                  </a:lnTo>
                  <a:lnTo>
                    <a:pt x="2582" y="504"/>
                  </a:lnTo>
                  <a:lnTo>
                    <a:pt x="2582" y="480"/>
                  </a:lnTo>
                  <a:lnTo>
                    <a:pt x="2582" y="455"/>
                  </a:lnTo>
                  <a:lnTo>
                    <a:pt x="2582" y="425"/>
                  </a:lnTo>
                  <a:lnTo>
                    <a:pt x="2582" y="401"/>
                  </a:lnTo>
                  <a:lnTo>
                    <a:pt x="2582" y="371"/>
                  </a:lnTo>
                  <a:lnTo>
                    <a:pt x="2582" y="346"/>
                  </a:lnTo>
                  <a:lnTo>
                    <a:pt x="2582" y="322"/>
                  </a:lnTo>
                  <a:lnTo>
                    <a:pt x="2582" y="292"/>
                  </a:lnTo>
                  <a:lnTo>
                    <a:pt x="2582" y="267"/>
                  </a:lnTo>
                  <a:lnTo>
                    <a:pt x="2582" y="238"/>
                  </a:lnTo>
                  <a:lnTo>
                    <a:pt x="2552" y="213"/>
                  </a:lnTo>
                  <a:lnTo>
                    <a:pt x="2552" y="188"/>
                  </a:lnTo>
                  <a:lnTo>
                    <a:pt x="2552" y="159"/>
                  </a:lnTo>
                  <a:lnTo>
                    <a:pt x="2552" y="134"/>
                  </a:lnTo>
                  <a:lnTo>
                    <a:pt x="2552" y="104"/>
                  </a:lnTo>
                  <a:lnTo>
                    <a:pt x="2527" y="79"/>
                  </a:lnTo>
                  <a:lnTo>
                    <a:pt x="2503" y="79"/>
                  </a:lnTo>
                  <a:lnTo>
                    <a:pt x="2473" y="79"/>
                  </a:lnTo>
                  <a:lnTo>
                    <a:pt x="2448" y="55"/>
                  </a:lnTo>
                  <a:lnTo>
                    <a:pt x="2418" y="55"/>
                  </a:lnTo>
                  <a:lnTo>
                    <a:pt x="2394" y="55"/>
                  </a:lnTo>
                  <a:lnTo>
                    <a:pt x="2369" y="25"/>
                  </a:lnTo>
                  <a:lnTo>
                    <a:pt x="2339" y="25"/>
                  </a:lnTo>
                  <a:lnTo>
                    <a:pt x="2315" y="25"/>
                  </a:lnTo>
                  <a:lnTo>
                    <a:pt x="2285" y="0"/>
                  </a:lnTo>
                  <a:lnTo>
                    <a:pt x="2260" y="0"/>
                  </a:lnTo>
                  <a:lnTo>
                    <a:pt x="2235" y="0"/>
                  </a:lnTo>
                  <a:lnTo>
                    <a:pt x="2206" y="0"/>
                  </a:lnTo>
                  <a:lnTo>
                    <a:pt x="2181" y="0"/>
                  </a:lnTo>
                  <a:lnTo>
                    <a:pt x="2156" y="0"/>
                  </a:lnTo>
                  <a:lnTo>
                    <a:pt x="2127" y="0"/>
                  </a:lnTo>
                  <a:lnTo>
                    <a:pt x="2102" y="0"/>
                  </a:lnTo>
                  <a:lnTo>
                    <a:pt x="2072" y="0"/>
                  </a:lnTo>
                  <a:lnTo>
                    <a:pt x="2048" y="0"/>
                  </a:lnTo>
                  <a:lnTo>
                    <a:pt x="2023" y="0"/>
                  </a:lnTo>
                  <a:lnTo>
                    <a:pt x="1993" y="0"/>
                  </a:lnTo>
                  <a:lnTo>
                    <a:pt x="1968" y="0"/>
                  </a:lnTo>
                  <a:lnTo>
                    <a:pt x="1944" y="0"/>
                  </a:lnTo>
                  <a:lnTo>
                    <a:pt x="1914" y="0"/>
                  </a:lnTo>
                  <a:lnTo>
                    <a:pt x="1889" y="0"/>
                  </a:lnTo>
                  <a:lnTo>
                    <a:pt x="1860" y="0"/>
                  </a:lnTo>
                  <a:lnTo>
                    <a:pt x="1835" y="0"/>
                  </a:lnTo>
                  <a:lnTo>
                    <a:pt x="1810" y="0"/>
                  </a:lnTo>
                  <a:lnTo>
                    <a:pt x="1780" y="0"/>
                  </a:lnTo>
                  <a:lnTo>
                    <a:pt x="1756" y="0"/>
                  </a:lnTo>
                  <a:lnTo>
                    <a:pt x="1726" y="0"/>
                  </a:lnTo>
                  <a:lnTo>
                    <a:pt x="1701" y="0"/>
                  </a:lnTo>
                  <a:lnTo>
                    <a:pt x="1677" y="0"/>
                  </a:lnTo>
                  <a:lnTo>
                    <a:pt x="1647" y="0"/>
                  </a:lnTo>
                  <a:lnTo>
                    <a:pt x="1622" y="0"/>
                  </a:lnTo>
                  <a:lnTo>
                    <a:pt x="1598" y="0"/>
                  </a:lnTo>
                  <a:lnTo>
                    <a:pt x="1568" y="0"/>
                  </a:lnTo>
                  <a:lnTo>
                    <a:pt x="1543" y="0"/>
                  </a:lnTo>
                  <a:lnTo>
                    <a:pt x="1513" y="0"/>
                  </a:lnTo>
                  <a:lnTo>
                    <a:pt x="1489" y="0"/>
                  </a:lnTo>
                  <a:lnTo>
                    <a:pt x="1464" y="0"/>
                  </a:lnTo>
                  <a:lnTo>
                    <a:pt x="1434" y="0"/>
                  </a:lnTo>
                  <a:lnTo>
                    <a:pt x="1410" y="0"/>
                  </a:lnTo>
                  <a:lnTo>
                    <a:pt x="1385" y="0"/>
                  </a:lnTo>
                  <a:lnTo>
                    <a:pt x="1355" y="0"/>
                  </a:lnTo>
                  <a:lnTo>
                    <a:pt x="1330" y="0"/>
                  </a:lnTo>
                  <a:lnTo>
                    <a:pt x="1301" y="0"/>
                  </a:lnTo>
                  <a:lnTo>
                    <a:pt x="1276" y="0"/>
                  </a:lnTo>
                  <a:lnTo>
                    <a:pt x="1251" y="0"/>
                  </a:lnTo>
                  <a:lnTo>
                    <a:pt x="1222" y="0"/>
                  </a:lnTo>
                  <a:lnTo>
                    <a:pt x="1197" y="0"/>
                  </a:lnTo>
                  <a:lnTo>
                    <a:pt x="1172" y="0"/>
                  </a:lnTo>
                  <a:lnTo>
                    <a:pt x="1143" y="0"/>
                  </a:lnTo>
                  <a:lnTo>
                    <a:pt x="1118" y="0"/>
                  </a:lnTo>
                  <a:lnTo>
                    <a:pt x="1088" y="0"/>
                  </a:lnTo>
                  <a:lnTo>
                    <a:pt x="1063" y="0"/>
                  </a:lnTo>
                  <a:lnTo>
                    <a:pt x="1039" y="0"/>
                  </a:lnTo>
                  <a:lnTo>
                    <a:pt x="1009" y="0"/>
                  </a:lnTo>
                  <a:lnTo>
                    <a:pt x="984" y="0"/>
                  </a:lnTo>
                  <a:lnTo>
                    <a:pt x="955" y="0"/>
                  </a:lnTo>
                  <a:lnTo>
                    <a:pt x="930" y="0"/>
                  </a:lnTo>
                  <a:lnTo>
                    <a:pt x="905" y="0"/>
                  </a:lnTo>
                  <a:lnTo>
                    <a:pt x="875" y="0"/>
                  </a:lnTo>
                  <a:lnTo>
                    <a:pt x="851" y="0"/>
                  </a:lnTo>
                  <a:lnTo>
                    <a:pt x="826" y="0"/>
                  </a:lnTo>
                  <a:lnTo>
                    <a:pt x="796" y="0"/>
                  </a:lnTo>
                  <a:lnTo>
                    <a:pt x="772" y="0"/>
                  </a:lnTo>
                  <a:lnTo>
                    <a:pt x="742" y="0"/>
                  </a:lnTo>
                  <a:lnTo>
                    <a:pt x="717" y="0"/>
                  </a:lnTo>
                  <a:lnTo>
                    <a:pt x="692" y="0"/>
                  </a:lnTo>
                  <a:lnTo>
                    <a:pt x="663" y="0"/>
                  </a:lnTo>
                  <a:lnTo>
                    <a:pt x="638" y="0"/>
                  </a:lnTo>
                  <a:lnTo>
                    <a:pt x="613" y="0"/>
                  </a:lnTo>
                  <a:lnTo>
                    <a:pt x="584" y="25"/>
                  </a:lnTo>
                  <a:lnTo>
                    <a:pt x="559" y="55"/>
                  </a:lnTo>
                  <a:lnTo>
                    <a:pt x="529" y="79"/>
                  </a:lnTo>
                  <a:lnTo>
                    <a:pt x="505" y="104"/>
                  </a:lnTo>
                  <a:lnTo>
                    <a:pt x="480" y="134"/>
                  </a:lnTo>
                  <a:lnTo>
                    <a:pt x="450" y="134"/>
                  </a:lnTo>
                  <a:lnTo>
                    <a:pt x="425" y="159"/>
                  </a:lnTo>
                  <a:lnTo>
                    <a:pt x="396" y="188"/>
                  </a:lnTo>
                  <a:lnTo>
                    <a:pt x="371" y="213"/>
                  </a:lnTo>
                  <a:lnTo>
                    <a:pt x="346" y="238"/>
                  </a:lnTo>
                  <a:lnTo>
                    <a:pt x="317" y="267"/>
                  </a:lnTo>
                  <a:lnTo>
                    <a:pt x="292" y="292"/>
                  </a:lnTo>
                  <a:lnTo>
                    <a:pt x="267" y="322"/>
                  </a:lnTo>
                  <a:lnTo>
                    <a:pt x="237" y="322"/>
                  </a:lnTo>
                  <a:lnTo>
                    <a:pt x="213" y="346"/>
                  </a:lnTo>
                  <a:lnTo>
                    <a:pt x="183" y="371"/>
                  </a:lnTo>
                  <a:lnTo>
                    <a:pt x="158" y="401"/>
                  </a:lnTo>
                  <a:lnTo>
                    <a:pt x="134" y="425"/>
                  </a:lnTo>
                  <a:lnTo>
                    <a:pt x="104" y="455"/>
                  </a:lnTo>
                  <a:lnTo>
                    <a:pt x="79" y="480"/>
                  </a:lnTo>
                  <a:lnTo>
                    <a:pt x="55" y="504"/>
                  </a:lnTo>
                  <a:lnTo>
                    <a:pt x="25" y="504"/>
                  </a:lnTo>
                  <a:lnTo>
                    <a:pt x="0" y="534"/>
                  </a:lnTo>
                  <a:lnTo>
                    <a:pt x="0" y="559"/>
                  </a:lnTo>
                  <a:lnTo>
                    <a:pt x="0" y="589"/>
                  </a:lnTo>
                  <a:lnTo>
                    <a:pt x="0" y="613"/>
                  </a:lnTo>
                  <a:lnTo>
                    <a:pt x="25" y="643"/>
                  </a:lnTo>
                  <a:lnTo>
                    <a:pt x="25" y="668"/>
                  </a:lnTo>
                  <a:lnTo>
                    <a:pt x="55" y="692"/>
                  </a:lnTo>
                  <a:lnTo>
                    <a:pt x="79" y="722"/>
                  </a:lnTo>
                  <a:lnTo>
                    <a:pt x="104" y="747"/>
                  </a:lnTo>
                  <a:lnTo>
                    <a:pt x="134" y="776"/>
                  </a:lnTo>
                  <a:lnTo>
                    <a:pt x="134" y="801"/>
                  </a:lnTo>
                  <a:lnTo>
                    <a:pt x="158" y="826"/>
                  </a:lnTo>
                  <a:lnTo>
                    <a:pt x="183" y="855"/>
                  </a:lnTo>
                  <a:lnTo>
                    <a:pt x="213" y="880"/>
                  </a:lnTo>
                  <a:lnTo>
                    <a:pt x="237" y="910"/>
                  </a:lnTo>
                  <a:lnTo>
                    <a:pt x="267" y="934"/>
                  </a:lnTo>
                  <a:lnTo>
                    <a:pt x="292" y="959"/>
                  </a:lnTo>
                  <a:lnTo>
                    <a:pt x="292" y="989"/>
                  </a:lnTo>
                  <a:lnTo>
                    <a:pt x="317" y="1014"/>
                  </a:lnTo>
                  <a:lnTo>
                    <a:pt x="346" y="1043"/>
                  </a:lnTo>
                  <a:lnTo>
                    <a:pt x="371" y="1068"/>
                  </a:lnTo>
                  <a:lnTo>
                    <a:pt x="396" y="1093"/>
                  </a:lnTo>
                  <a:lnTo>
                    <a:pt x="425" y="1122"/>
                  </a:lnTo>
                  <a:lnTo>
                    <a:pt x="450" y="1147"/>
                  </a:lnTo>
                  <a:lnTo>
                    <a:pt x="480" y="1177"/>
                  </a:lnTo>
                  <a:lnTo>
                    <a:pt x="505" y="1201"/>
                  </a:lnTo>
                  <a:lnTo>
                    <a:pt x="529" y="1226"/>
                  </a:lnTo>
                  <a:lnTo>
                    <a:pt x="559" y="1256"/>
                  </a:lnTo>
                  <a:lnTo>
                    <a:pt x="584" y="1280"/>
                  </a:lnTo>
                  <a:lnTo>
                    <a:pt x="613" y="1310"/>
                  </a:lnTo>
                  <a:lnTo>
                    <a:pt x="638" y="1335"/>
                  </a:lnTo>
                  <a:lnTo>
                    <a:pt x="663" y="1364"/>
                  </a:lnTo>
                  <a:lnTo>
                    <a:pt x="692" y="1389"/>
                  </a:lnTo>
                  <a:lnTo>
                    <a:pt x="717" y="1414"/>
                  </a:lnTo>
                  <a:lnTo>
                    <a:pt x="742" y="1444"/>
                  </a:lnTo>
                  <a:lnTo>
                    <a:pt x="772" y="1468"/>
                  </a:lnTo>
                  <a:lnTo>
                    <a:pt x="796" y="1468"/>
                  </a:lnTo>
                  <a:lnTo>
                    <a:pt x="826" y="1498"/>
                  </a:lnTo>
                  <a:lnTo>
                    <a:pt x="851" y="1523"/>
                  </a:lnTo>
                  <a:lnTo>
                    <a:pt x="875" y="1547"/>
                  </a:lnTo>
                  <a:lnTo>
                    <a:pt x="905" y="1577"/>
                  </a:lnTo>
                  <a:lnTo>
                    <a:pt x="930" y="1602"/>
                  </a:lnTo>
                  <a:lnTo>
                    <a:pt x="955" y="1631"/>
                  </a:lnTo>
                  <a:lnTo>
                    <a:pt x="984" y="1656"/>
                  </a:lnTo>
                  <a:lnTo>
                    <a:pt x="1009" y="1656"/>
                  </a:lnTo>
                  <a:lnTo>
                    <a:pt x="1039" y="1656"/>
                  </a:lnTo>
                  <a:lnTo>
                    <a:pt x="1063" y="1656"/>
                  </a:lnTo>
                  <a:lnTo>
                    <a:pt x="1088" y="1656"/>
                  </a:lnTo>
                  <a:lnTo>
                    <a:pt x="1118" y="1656"/>
                  </a:lnTo>
                  <a:lnTo>
                    <a:pt x="1143" y="1656"/>
                  </a:lnTo>
                  <a:lnTo>
                    <a:pt x="1172" y="1656"/>
                  </a:lnTo>
                  <a:lnTo>
                    <a:pt x="1197" y="1656"/>
                  </a:lnTo>
                  <a:lnTo>
                    <a:pt x="1222" y="1656"/>
                  </a:lnTo>
                  <a:lnTo>
                    <a:pt x="1251" y="1656"/>
                  </a:lnTo>
                  <a:lnTo>
                    <a:pt x="1276" y="1656"/>
                  </a:lnTo>
                  <a:lnTo>
                    <a:pt x="1301" y="1656"/>
                  </a:lnTo>
                  <a:lnTo>
                    <a:pt x="1330" y="1656"/>
                  </a:lnTo>
                  <a:lnTo>
                    <a:pt x="1355" y="1656"/>
                  </a:lnTo>
                  <a:lnTo>
                    <a:pt x="1385" y="1656"/>
                  </a:lnTo>
                  <a:lnTo>
                    <a:pt x="1410" y="1656"/>
                  </a:lnTo>
                  <a:lnTo>
                    <a:pt x="1434" y="1656"/>
                  </a:lnTo>
                  <a:lnTo>
                    <a:pt x="1464" y="1656"/>
                  </a:lnTo>
                  <a:lnTo>
                    <a:pt x="1489" y="1656"/>
                  </a:lnTo>
                  <a:lnTo>
                    <a:pt x="1513" y="1656"/>
                  </a:lnTo>
                  <a:lnTo>
                    <a:pt x="1543" y="1656"/>
                  </a:lnTo>
                  <a:lnTo>
                    <a:pt x="1568" y="1656"/>
                  </a:lnTo>
                  <a:lnTo>
                    <a:pt x="1598" y="1656"/>
                  </a:lnTo>
                  <a:lnTo>
                    <a:pt x="1622" y="1656"/>
                  </a:lnTo>
                  <a:lnTo>
                    <a:pt x="1647" y="1656"/>
                  </a:lnTo>
                  <a:lnTo>
                    <a:pt x="1677" y="1656"/>
                  </a:lnTo>
                  <a:lnTo>
                    <a:pt x="1701" y="1656"/>
                  </a:lnTo>
                  <a:lnTo>
                    <a:pt x="1726" y="1656"/>
                  </a:lnTo>
                  <a:lnTo>
                    <a:pt x="1756" y="1656"/>
                  </a:lnTo>
                  <a:lnTo>
                    <a:pt x="1780" y="1656"/>
                  </a:lnTo>
                  <a:lnTo>
                    <a:pt x="1810" y="1656"/>
                  </a:lnTo>
                  <a:lnTo>
                    <a:pt x="1835" y="1656"/>
                  </a:lnTo>
                  <a:lnTo>
                    <a:pt x="1860" y="1656"/>
                  </a:lnTo>
                  <a:lnTo>
                    <a:pt x="1889" y="1656"/>
                  </a:lnTo>
                  <a:lnTo>
                    <a:pt x="1914" y="1656"/>
                  </a:lnTo>
                  <a:lnTo>
                    <a:pt x="1944" y="1656"/>
                  </a:lnTo>
                  <a:lnTo>
                    <a:pt x="1968" y="1656"/>
                  </a:lnTo>
                  <a:lnTo>
                    <a:pt x="1993" y="1656"/>
                  </a:lnTo>
                  <a:lnTo>
                    <a:pt x="2023" y="1656"/>
                  </a:lnTo>
                  <a:lnTo>
                    <a:pt x="2048" y="1656"/>
                  </a:lnTo>
                  <a:lnTo>
                    <a:pt x="2072" y="1656"/>
                  </a:lnTo>
                  <a:lnTo>
                    <a:pt x="2102" y="1656"/>
                  </a:lnTo>
                  <a:lnTo>
                    <a:pt x="2127" y="1656"/>
                  </a:lnTo>
                  <a:lnTo>
                    <a:pt x="2156" y="1656"/>
                  </a:lnTo>
                  <a:lnTo>
                    <a:pt x="2181" y="1656"/>
                  </a:lnTo>
                  <a:lnTo>
                    <a:pt x="2206" y="1656"/>
                  </a:lnTo>
                  <a:lnTo>
                    <a:pt x="2235" y="1656"/>
                  </a:lnTo>
                  <a:close/>
                  <a:moveTo>
                    <a:pt x="1311" y="322"/>
                  </a:moveTo>
                  <a:lnTo>
                    <a:pt x="1321" y="317"/>
                  </a:lnTo>
                  <a:lnTo>
                    <a:pt x="1326" y="317"/>
                  </a:lnTo>
                  <a:lnTo>
                    <a:pt x="1330" y="312"/>
                  </a:lnTo>
                  <a:lnTo>
                    <a:pt x="1335" y="307"/>
                  </a:lnTo>
                  <a:lnTo>
                    <a:pt x="1340" y="302"/>
                  </a:lnTo>
                  <a:lnTo>
                    <a:pt x="1340" y="297"/>
                  </a:lnTo>
                  <a:lnTo>
                    <a:pt x="1345" y="292"/>
                  </a:lnTo>
                  <a:lnTo>
                    <a:pt x="1345" y="287"/>
                  </a:lnTo>
                  <a:lnTo>
                    <a:pt x="1350" y="282"/>
                  </a:lnTo>
                  <a:lnTo>
                    <a:pt x="1355" y="277"/>
                  </a:lnTo>
                  <a:lnTo>
                    <a:pt x="1360" y="277"/>
                  </a:lnTo>
                  <a:lnTo>
                    <a:pt x="1370" y="277"/>
                  </a:lnTo>
                  <a:lnTo>
                    <a:pt x="1380" y="277"/>
                  </a:lnTo>
                  <a:lnTo>
                    <a:pt x="1390" y="277"/>
                  </a:lnTo>
                  <a:lnTo>
                    <a:pt x="1400" y="277"/>
                  </a:lnTo>
                  <a:lnTo>
                    <a:pt x="1405" y="277"/>
                  </a:lnTo>
                  <a:lnTo>
                    <a:pt x="1410" y="272"/>
                  </a:lnTo>
                  <a:lnTo>
                    <a:pt x="1415" y="267"/>
                  </a:lnTo>
                  <a:lnTo>
                    <a:pt x="1419" y="262"/>
                  </a:lnTo>
                  <a:lnTo>
                    <a:pt x="1419" y="257"/>
                  </a:lnTo>
                  <a:lnTo>
                    <a:pt x="1424" y="252"/>
                  </a:lnTo>
                  <a:lnTo>
                    <a:pt x="1429" y="247"/>
                  </a:lnTo>
                  <a:lnTo>
                    <a:pt x="1434" y="243"/>
                  </a:lnTo>
                  <a:lnTo>
                    <a:pt x="1439" y="243"/>
                  </a:lnTo>
                  <a:lnTo>
                    <a:pt x="1449" y="243"/>
                  </a:lnTo>
                  <a:lnTo>
                    <a:pt x="1454" y="243"/>
                  </a:lnTo>
                  <a:lnTo>
                    <a:pt x="1464" y="243"/>
                  </a:lnTo>
                  <a:lnTo>
                    <a:pt x="1474" y="243"/>
                  </a:lnTo>
                  <a:lnTo>
                    <a:pt x="1479" y="238"/>
                  </a:lnTo>
                  <a:lnTo>
                    <a:pt x="1484" y="233"/>
                  </a:lnTo>
                  <a:lnTo>
                    <a:pt x="1489" y="228"/>
                  </a:lnTo>
                  <a:lnTo>
                    <a:pt x="1489" y="223"/>
                  </a:lnTo>
                  <a:lnTo>
                    <a:pt x="1489" y="218"/>
                  </a:lnTo>
                  <a:lnTo>
                    <a:pt x="1484" y="213"/>
                  </a:lnTo>
                  <a:lnTo>
                    <a:pt x="1479" y="213"/>
                  </a:lnTo>
                  <a:lnTo>
                    <a:pt x="1469" y="208"/>
                  </a:lnTo>
                  <a:lnTo>
                    <a:pt x="1459" y="208"/>
                  </a:lnTo>
                  <a:lnTo>
                    <a:pt x="1449" y="208"/>
                  </a:lnTo>
                  <a:lnTo>
                    <a:pt x="1444" y="208"/>
                  </a:lnTo>
                  <a:lnTo>
                    <a:pt x="1434" y="208"/>
                  </a:lnTo>
                  <a:lnTo>
                    <a:pt x="1429" y="213"/>
                  </a:lnTo>
                  <a:lnTo>
                    <a:pt x="1419" y="218"/>
                  </a:lnTo>
                  <a:lnTo>
                    <a:pt x="1415" y="218"/>
                  </a:lnTo>
                  <a:lnTo>
                    <a:pt x="1410" y="223"/>
                  </a:lnTo>
                  <a:lnTo>
                    <a:pt x="1400" y="228"/>
                  </a:lnTo>
                  <a:lnTo>
                    <a:pt x="1395" y="228"/>
                  </a:lnTo>
                  <a:lnTo>
                    <a:pt x="1385" y="233"/>
                  </a:lnTo>
                  <a:lnTo>
                    <a:pt x="1380" y="233"/>
                  </a:lnTo>
                  <a:lnTo>
                    <a:pt x="1370" y="233"/>
                  </a:lnTo>
                  <a:lnTo>
                    <a:pt x="1365" y="228"/>
                  </a:lnTo>
                  <a:lnTo>
                    <a:pt x="1360" y="223"/>
                  </a:lnTo>
                  <a:lnTo>
                    <a:pt x="1355" y="218"/>
                  </a:lnTo>
                  <a:lnTo>
                    <a:pt x="1360" y="208"/>
                  </a:lnTo>
                  <a:lnTo>
                    <a:pt x="1360" y="203"/>
                  </a:lnTo>
                  <a:lnTo>
                    <a:pt x="1365" y="198"/>
                  </a:lnTo>
                  <a:lnTo>
                    <a:pt x="1375" y="193"/>
                  </a:lnTo>
                  <a:lnTo>
                    <a:pt x="1380" y="193"/>
                  </a:lnTo>
                  <a:lnTo>
                    <a:pt x="1390" y="193"/>
                  </a:lnTo>
                  <a:lnTo>
                    <a:pt x="1395" y="198"/>
                  </a:lnTo>
                  <a:lnTo>
                    <a:pt x="1400" y="203"/>
                  </a:lnTo>
                  <a:lnTo>
                    <a:pt x="1405" y="208"/>
                  </a:lnTo>
                  <a:lnTo>
                    <a:pt x="1410" y="208"/>
                  </a:lnTo>
                  <a:lnTo>
                    <a:pt x="1415" y="208"/>
                  </a:lnTo>
                  <a:lnTo>
                    <a:pt x="1419" y="203"/>
                  </a:lnTo>
                  <a:lnTo>
                    <a:pt x="1419" y="198"/>
                  </a:lnTo>
                  <a:lnTo>
                    <a:pt x="1424" y="188"/>
                  </a:lnTo>
                  <a:lnTo>
                    <a:pt x="1424" y="183"/>
                  </a:lnTo>
                  <a:lnTo>
                    <a:pt x="1429" y="178"/>
                  </a:lnTo>
                  <a:lnTo>
                    <a:pt x="1434" y="173"/>
                  </a:lnTo>
                  <a:lnTo>
                    <a:pt x="1439" y="168"/>
                  </a:lnTo>
                  <a:lnTo>
                    <a:pt x="1444" y="168"/>
                  </a:lnTo>
                  <a:lnTo>
                    <a:pt x="1454" y="168"/>
                  </a:lnTo>
                  <a:lnTo>
                    <a:pt x="1464" y="168"/>
                  </a:lnTo>
                  <a:lnTo>
                    <a:pt x="1474" y="163"/>
                  </a:lnTo>
                  <a:lnTo>
                    <a:pt x="1479" y="163"/>
                  </a:lnTo>
                  <a:lnTo>
                    <a:pt x="1484" y="159"/>
                  </a:lnTo>
                  <a:lnTo>
                    <a:pt x="1484" y="154"/>
                  </a:lnTo>
                  <a:lnTo>
                    <a:pt x="1484" y="149"/>
                  </a:lnTo>
                  <a:lnTo>
                    <a:pt x="1479" y="144"/>
                  </a:lnTo>
                  <a:lnTo>
                    <a:pt x="1469" y="139"/>
                  </a:lnTo>
                  <a:lnTo>
                    <a:pt x="1464" y="134"/>
                  </a:lnTo>
                  <a:lnTo>
                    <a:pt x="1454" y="134"/>
                  </a:lnTo>
                  <a:lnTo>
                    <a:pt x="1444" y="134"/>
                  </a:lnTo>
                  <a:lnTo>
                    <a:pt x="1439" y="134"/>
                  </a:lnTo>
                  <a:lnTo>
                    <a:pt x="1434" y="129"/>
                  </a:lnTo>
                  <a:lnTo>
                    <a:pt x="1434" y="124"/>
                  </a:lnTo>
                  <a:lnTo>
                    <a:pt x="1434" y="119"/>
                  </a:lnTo>
                  <a:lnTo>
                    <a:pt x="1434" y="109"/>
                  </a:lnTo>
                  <a:lnTo>
                    <a:pt x="1439" y="104"/>
                  </a:lnTo>
                  <a:lnTo>
                    <a:pt x="1444" y="99"/>
                  </a:lnTo>
                  <a:lnTo>
                    <a:pt x="1449" y="94"/>
                  </a:lnTo>
                  <a:lnTo>
                    <a:pt x="1454" y="89"/>
                  </a:lnTo>
                  <a:lnTo>
                    <a:pt x="1459" y="84"/>
                  </a:lnTo>
                  <a:lnTo>
                    <a:pt x="1464" y="84"/>
                  </a:lnTo>
                  <a:lnTo>
                    <a:pt x="1474" y="84"/>
                  </a:lnTo>
                  <a:lnTo>
                    <a:pt x="1479" y="79"/>
                  </a:lnTo>
                  <a:lnTo>
                    <a:pt x="1489" y="84"/>
                  </a:lnTo>
                  <a:lnTo>
                    <a:pt x="1499" y="84"/>
                  </a:lnTo>
                  <a:lnTo>
                    <a:pt x="1508" y="84"/>
                  </a:lnTo>
                  <a:lnTo>
                    <a:pt x="1513" y="84"/>
                  </a:lnTo>
                  <a:lnTo>
                    <a:pt x="1513" y="79"/>
                  </a:lnTo>
                  <a:lnTo>
                    <a:pt x="1518" y="74"/>
                  </a:lnTo>
                  <a:lnTo>
                    <a:pt x="1523" y="70"/>
                  </a:lnTo>
                  <a:lnTo>
                    <a:pt x="1528" y="65"/>
                  </a:lnTo>
                  <a:lnTo>
                    <a:pt x="1533" y="60"/>
                  </a:lnTo>
                  <a:lnTo>
                    <a:pt x="1543" y="60"/>
                  </a:lnTo>
                  <a:lnTo>
                    <a:pt x="1553" y="55"/>
                  </a:lnTo>
                  <a:lnTo>
                    <a:pt x="1558" y="55"/>
                  </a:lnTo>
                  <a:lnTo>
                    <a:pt x="1568" y="55"/>
                  </a:lnTo>
                  <a:lnTo>
                    <a:pt x="1578" y="55"/>
                  </a:lnTo>
                  <a:lnTo>
                    <a:pt x="1583" y="55"/>
                  </a:lnTo>
                  <a:lnTo>
                    <a:pt x="1593" y="50"/>
                  </a:lnTo>
                  <a:lnTo>
                    <a:pt x="1598" y="50"/>
                  </a:lnTo>
                  <a:lnTo>
                    <a:pt x="1602" y="45"/>
                  </a:lnTo>
                  <a:lnTo>
                    <a:pt x="1607" y="40"/>
                  </a:lnTo>
                  <a:lnTo>
                    <a:pt x="1612" y="35"/>
                  </a:lnTo>
                  <a:lnTo>
                    <a:pt x="1622" y="30"/>
                  </a:lnTo>
                  <a:lnTo>
                    <a:pt x="1627" y="30"/>
                  </a:lnTo>
                  <a:lnTo>
                    <a:pt x="1637" y="30"/>
                  </a:lnTo>
                  <a:lnTo>
                    <a:pt x="1647" y="30"/>
                  </a:lnTo>
                  <a:lnTo>
                    <a:pt x="1657" y="30"/>
                  </a:lnTo>
                  <a:lnTo>
                    <a:pt x="1662" y="30"/>
                  </a:lnTo>
                  <a:lnTo>
                    <a:pt x="1672" y="35"/>
                  </a:lnTo>
                  <a:lnTo>
                    <a:pt x="1677" y="35"/>
                  </a:lnTo>
                  <a:lnTo>
                    <a:pt x="1682" y="40"/>
                  </a:lnTo>
                  <a:lnTo>
                    <a:pt x="1687" y="45"/>
                  </a:lnTo>
                  <a:lnTo>
                    <a:pt x="1691" y="50"/>
                  </a:lnTo>
                  <a:lnTo>
                    <a:pt x="1701" y="50"/>
                  </a:lnTo>
                  <a:lnTo>
                    <a:pt x="1706" y="55"/>
                  </a:lnTo>
                  <a:lnTo>
                    <a:pt x="1716" y="55"/>
                  </a:lnTo>
                  <a:lnTo>
                    <a:pt x="1726" y="55"/>
                  </a:lnTo>
                  <a:lnTo>
                    <a:pt x="1731" y="55"/>
                  </a:lnTo>
                  <a:lnTo>
                    <a:pt x="1741" y="55"/>
                  </a:lnTo>
                  <a:lnTo>
                    <a:pt x="1751" y="55"/>
                  </a:lnTo>
                  <a:lnTo>
                    <a:pt x="1756" y="60"/>
                  </a:lnTo>
                  <a:lnTo>
                    <a:pt x="1766" y="60"/>
                  </a:lnTo>
                  <a:lnTo>
                    <a:pt x="1776" y="60"/>
                  </a:lnTo>
                  <a:lnTo>
                    <a:pt x="1780" y="60"/>
                  </a:lnTo>
                  <a:lnTo>
                    <a:pt x="1785" y="65"/>
                  </a:lnTo>
                  <a:lnTo>
                    <a:pt x="1795" y="70"/>
                  </a:lnTo>
                  <a:lnTo>
                    <a:pt x="1800" y="74"/>
                  </a:lnTo>
                  <a:lnTo>
                    <a:pt x="1805" y="79"/>
                  </a:lnTo>
                  <a:lnTo>
                    <a:pt x="1810" y="79"/>
                  </a:lnTo>
                  <a:lnTo>
                    <a:pt x="1815" y="84"/>
                  </a:lnTo>
                  <a:lnTo>
                    <a:pt x="1825" y="84"/>
                  </a:lnTo>
                  <a:lnTo>
                    <a:pt x="1835" y="84"/>
                  </a:lnTo>
                  <a:lnTo>
                    <a:pt x="1845" y="84"/>
                  </a:lnTo>
                  <a:lnTo>
                    <a:pt x="1850" y="84"/>
                  </a:lnTo>
                  <a:lnTo>
                    <a:pt x="1860" y="84"/>
                  </a:lnTo>
                  <a:lnTo>
                    <a:pt x="1870" y="84"/>
                  </a:lnTo>
                  <a:lnTo>
                    <a:pt x="1874" y="84"/>
                  </a:lnTo>
                  <a:lnTo>
                    <a:pt x="1884" y="89"/>
                  </a:lnTo>
                  <a:lnTo>
                    <a:pt x="1889" y="89"/>
                  </a:lnTo>
                  <a:lnTo>
                    <a:pt x="1899" y="94"/>
                  </a:lnTo>
                  <a:lnTo>
                    <a:pt x="1904" y="99"/>
                  </a:lnTo>
                  <a:lnTo>
                    <a:pt x="1909" y="104"/>
                  </a:lnTo>
                  <a:lnTo>
                    <a:pt x="1909" y="109"/>
                  </a:lnTo>
                  <a:lnTo>
                    <a:pt x="1919" y="109"/>
                  </a:lnTo>
                  <a:lnTo>
                    <a:pt x="1924" y="114"/>
                  </a:lnTo>
                  <a:lnTo>
                    <a:pt x="1934" y="114"/>
                  </a:lnTo>
                  <a:lnTo>
                    <a:pt x="1944" y="114"/>
                  </a:lnTo>
                  <a:lnTo>
                    <a:pt x="1949" y="114"/>
                  </a:lnTo>
                  <a:lnTo>
                    <a:pt x="1959" y="114"/>
                  </a:lnTo>
                  <a:lnTo>
                    <a:pt x="1968" y="114"/>
                  </a:lnTo>
                  <a:lnTo>
                    <a:pt x="1978" y="114"/>
                  </a:lnTo>
                  <a:lnTo>
                    <a:pt x="1983" y="114"/>
                  </a:lnTo>
                  <a:lnTo>
                    <a:pt x="1993" y="114"/>
                  </a:lnTo>
                  <a:lnTo>
                    <a:pt x="1998" y="119"/>
                  </a:lnTo>
                  <a:lnTo>
                    <a:pt x="2003" y="124"/>
                  </a:lnTo>
                  <a:lnTo>
                    <a:pt x="2008" y="129"/>
                  </a:lnTo>
                  <a:lnTo>
                    <a:pt x="2013" y="134"/>
                  </a:lnTo>
                  <a:lnTo>
                    <a:pt x="2018" y="139"/>
                  </a:lnTo>
                  <a:lnTo>
                    <a:pt x="2018" y="144"/>
                  </a:lnTo>
                  <a:lnTo>
                    <a:pt x="2028" y="144"/>
                  </a:lnTo>
                  <a:lnTo>
                    <a:pt x="2033" y="149"/>
                  </a:lnTo>
                  <a:lnTo>
                    <a:pt x="2043" y="149"/>
                  </a:lnTo>
                  <a:lnTo>
                    <a:pt x="2052" y="149"/>
                  </a:lnTo>
                  <a:lnTo>
                    <a:pt x="2062" y="149"/>
                  </a:lnTo>
                  <a:lnTo>
                    <a:pt x="2067" y="149"/>
                  </a:lnTo>
                  <a:lnTo>
                    <a:pt x="2077" y="154"/>
                  </a:lnTo>
                  <a:lnTo>
                    <a:pt x="2087" y="154"/>
                  </a:lnTo>
                  <a:lnTo>
                    <a:pt x="2092" y="154"/>
                  </a:lnTo>
                  <a:lnTo>
                    <a:pt x="2102" y="159"/>
                  </a:lnTo>
                  <a:lnTo>
                    <a:pt x="2107" y="163"/>
                  </a:lnTo>
                  <a:lnTo>
                    <a:pt x="2107" y="168"/>
                  </a:lnTo>
                  <a:lnTo>
                    <a:pt x="2102" y="173"/>
                  </a:lnTo>
                  <a:lnTo>
                    <a:pt x="2102" y="178"/>
                  </a:lnTo>
                  <a:lnTo>
                    <a:pt x="2097" y="183"/>
                  </a:lnTo>
                  <a:lnTo>
                    <a:pt x="2092" y="188"/>
                  </a:lnTo>
                  <a:lnTo>
                    <a:pt x="2092" y="193"/>
                  </a:lnTo>
                  <a:lnTo>
                    <a:pt x="2087" y="198"/>
                  </a:lnTo>
                  <a:lnTo>
                    <a:pt x="2082" y="203"/>
                  </a:lnTo>
                  <a:lnTo>
                    <a:pt x="2082" y="208"/>
                  </a:lnTo>
                  <a:lnTo>
                    <a:pt x="2077" y="213"/>
                  </a:lnTo>
                  <a:lnTo>
                    <a:pt x="2072" y="218"/>
                  </a:lnTo>
                  <a:lnTo>
                    <a:pt x="2072" y="223"/>
                  </a:lnTo>
                  <a:lnTo>
                    <a:pt x="2067" y="228"/>
                  </a:lnTo>
                  <a:lnTo>
                    <a:pt x="2067" y="233"/>
                  </a:lnTo>
                  <a:lnTo>
                    <a:pt x="2062" y="238"/>
                  </a:lnTo>
                  <a:lnTo>
                    <a:pt x="2057" y="243"/>
                  </a:lnTo>
                  <a:lnTo>
                    <a:pt x="2057" y="247"/>
                  </a:lnTo>
                  <a:lnTo>
                    <a:pt x="2052" y="252"/>
                  </a:lnTo>
                  <a:lnTo>
                    <a:pt x="2048" y="257"/>
                  </a:lnTo>
                  <a:lnTo>
                    <a:pt x="2048" y="262"/>
                  </a:lnTo>
                  <a:lnTo>
                    <a:pt x="2043" y="267"/>
                  </a:lnTo>
                  <a:lnTo>
                    <a:pt x="2033" y="272"/>
                  </a:lnTo>
                  <a:lnTo>
                    <a:pt x="2028" y="272"/>
                  </a:lnTo>
                  <a:lnTo>
                    <a:pt x="2018" y="272"/>
                  </a:lnTo>
                  <a:lnTo>
                    <a:pt x="2013" y="267"/>
                  </a:lnTo>
                  <a:lnTo>
                    <a:pt x="2008" y="262"/>
                  </a:lnTo>
                  <a:lnTo>
                    <a:pt x="2003" y="257"/>
                  </a:lnTo>
                  <a:lnTo>
                    <a:pt x="1998" y="257"/>
                  </a:lnTo>
                  <a:lnTo>
                    <a:pt x="1988" y="252"/>
                  </a:lnTo>
                  <a:lnTo>
                    <a:pt x="1978" y="252"/>
                  </a:lnTo>
                  <a:lnTo>
                    <a:pt x="1973" y="252"/>
                  </a:lnTo>
                  <a:lnTo>
                    <a:pt x="1963" y="252"/>
                  </a:lnTo>
                  <a:lnTo>
                    <a:pt x="1959" y="247"/>
                  </a:lnTo>
                  <a:lnTo>
                    <a:pt x="1954" y="243"/>
                  </a:lnTo>
                  <a:lnTo>
                    <a:pt x="1949" y="238"/>
                  </a:lnTo>
                  <a:lnTo>
                    <a:pt x="1944" y="233"/>
                  </a:lnTo>
                  <a:lnTo>
                    <a:pt x="1939" y="233"/>
                  </a:lnTo>
                  <a:lnTo>
                    <a:pt x="1934" y="233"/>
                  </a:lnTo>
                  <a:lnTo>
                    <a:pt x="1924" y="238"/>
                  </a:lnTo>
                  <a:lnTo>
                    <a:pt x="1919" y="247"/>
                  </a:lnTo>
                  <a:lnTo>
                    <a:pt x="1914" y="247"/>
                  </a:lnTo>
                  <a:lnTo>
                    <a:pt x="1909" y="247"/>
                  </a:lnTo>
                  <a:lnTo>
                    <a:pt x="1904" y="243"/>
                  </a:lnTo>
                  <a:lnTo>
                    <a:pt x="1904" y="238"/>
                  </a:lnTo>
                  <a:lnTo>
                    <a:pt x="1904" y="233"/>
                  </a:lnTo>
                  <a:lnTo>
                    <a:pt x="1909" y="223"/>
                  </a:lnTo>
                  <a:lnTo>
                    <a:pt x="1909" y="218"/>
                  </a:lnTo>
                  <a:lnTo>
                    <a:pt x="1914" y="213"/>
                  </a:lnTo>
                  <a:lnTo>
                    <a:pt x="1909" y="213"/>
                  </a:lnTo>
                  <a:lnTo>
                    <a:pt x="1899" y="208"/>
                  </a:lnTo>
                  <a:lnTo>
                    <a:pt x="1894" y="208"/>
                  </a:lnTo>
                  <a:lnTo>
                    <a:pt x="1884" y="208"/>
                  </a:lnTo>
                  <a:lnTo>
                    <a:pt x="1879" y="213"/>
                  </a:lnTo>
                  <a:lnTo>
                    <a:pt x="1874" y="218"/>
                  </a:lnTo>
                  <a:lnTo>
                    <a:pt x="1870" y="223"/>
                  </a:lnTo>
                  <a:lnTo>
                    <a:pt x="1865" y="228"/>
                  </a:lnTo>
                  <a:lnTo>
                    <a:pt x="1860" y="228"/>
                  </a:lnTo>
                  <a:lnTo>
                    <a:pt x="1855" y="228"/>
                  </a:lnTo>
                  <a:lnTo>
                    <a:pt x="1845" y="228"/>
                  </a:lnTo>
                  <a:lnTo>
                    <a:pt x="1840" y="223"/>
                  </a:lnTo>
                  <a:lnTo>
                    <a:pt x="1835" y="213"/>
                  </a:lnTo>
                  <a:lnTo>
                    <a:pt x="1835" y="208"/>
                  </a:lnTo>
                  <a:lnTo>
                    <a:pt x="1840" y="208"/>
                  </a:lnTo>
                  <a:lnTo>
                    <a:pt x="1845" y="203"/>
                  </a:lnTo>
                  <a:lnTo>
                    <a:pt x="1850" y="198"/>
                  </a:lnTo>
                  <a:lnTo>
                    <a:pt x="1860" y="193"/>
                  </a:lnTo>
                  <a:lnTo>
                    <a:pt x="1865" y="188"/>
                  </a:lnTo>
                  <a:lnTo>
                    <a:pt x="1860" y="183"/>
                  </a:lnTo>
                  <a:lnTo>
                    <a:pt x="1855" y="183"/>
                  </a:lnTo>
                  <a:lnTo>
                    <a:pt x="1845" y="178"/>
                  </a:lnTo>
                  <a:lnTo>
                    <a:pt x="1835" y="178"/>
                  </a:lnTo>
                  <a:lnTo>
                    <a:pt x="1830" y="183"/>
                  </a:lnTo>
                  <a:lnTo>
                    <a:pt x="1820" y="183"/>
                  </a:lnTo>
                  <a:lnTo>
                    <a:pt x="1815" y="188"/>
                  </a:lnTo>
                  <a:lnTo>
                    <a:pt x="1810" y="193"/>
                  </a:lnTo>
                  <a:lnTo>
                    <a:pt x="1810" y="198"/>
                  </a:lnTo>
                  <a:lnTo>
                    <a:pt x="1800" y="203"/>
                  </a:lnTo>
                  <a:lnTo>
                    <a:pt x="1795" y="203"/>
                  </a:lnTo>
                  <a:lnTo>
                    <a:pt x="1785" y="208"/>
                  </a:lnTo>
                  <a:lnTo>
                    <a:pt x="1776" y="208"/>
                  </a:lnTo>
                  <a:lnTo>
                    <a:pt x="1771" y="203"/>
                  </a:lnTo>
                  <a:lnTo>
                    <a:pt x="1766" y="198"/>
                  </a:lnTo>
                  <a:lnTo>
                    <a:pt x="1761" y="193"/>
                  </a:lnTo>
                  <a:lnTo>
                    <a:pt x="1756" y="188"/>
                  </a:lnTo>
                  <a:lnTo>
                    <a:pt x="1756" y="183"/>
                  </a:lnTo>
                  <a:lnTo>
                    <a:pt x="1746" y="183"/>
                  </a:lnTo>
                  <a:lnTo>
                    <a:pt x="1736" y="183"/>
                  </a:lnTo>
                  <a:lnTo>
                    <a:pt x="1726" y="183"/>
                  </a:lnTo>
                  <a:lnTo>
                    <a:pt x="1716" y="183"/>
                  </a:lnTo>
                  <a:lnTo>
                    <a:pt x="1711" y="183"/>
                  </a:lnTo>
                  <a:lnTo>
                    <a:pt x="1701" y="178"/>
                  </a:lnTo>
                  <a:lnTo>
                    <a:pt x="1696" y="173"/>
                  </a:lnTo>
                  <a:lnTo>
                    <a:pt x="1691" y="173"/>
                  </a:lnTo>
                  <a:lnTo>
                    <a:pt x="1687" y="168"/>
                  </a:lnTo>
                  <a:lnTo>
                    <a:pt x="1682" y="163"/>
                  </a:lnTo>
                  <a:lnTo>
                    <a:pt x="1677" y="159"/>
                  </a:lnTo>
                  <a:lnTo>
                    <a:pt x="1667" y="159"/>
                  </a:lnTo>
                  <a:lnTo>
                    <a:pt x="1657" y="154"/>
                  </a:lnTo>
                  <a:lnTo>
                    <a:pt x="1652" y="159"/>
                  </a:lnTo>
                  <a:lnTo>
                    <a:pt x="1642" y="159"/>
                  </a:lnTo>
                  <a:lnTo>
                    <a:pt x="1632" y="159"/>
                  </a:lnTo>
                  <a:lnTo>
                    <a:pt x="1627" y="163"/>
                  </a:lnTo>
                  <a:lnTo>
                    <a:pt x="1622" y="168"/>
                  </a:lnTo>
                  <a:lnTo>
                    <a:pt x="1622" y="173"/>
                  </a:lnTo>
                  <a:lnTo>
                    <a:pt x="1622" y="178"/>
                  </a:lnTo>
                  <a:lnTo>
                    <a:pt x="1622" y="173"/>
                  </a:lnTo>
                  <a:lnTo>
                    <a:pt x="1617" y="163"/>
                  </a:lnTo>
                  <a:lnTo>
                    <a:pt x="1612" y="159"/>
                  </a:lnTo>
                  <a:lnTo>
                    <a:pt x="1607" y="159"/>
                  </a:lnTo>
                  <a:lnTo>
                    <a:pt x="1598" y="159"/>
                  </a:lnTo>
                  <a:lnTo>
                    <a:pt x="1588" y="159"/>
                  </a:lnTo>
                  <a:lnTo>
                    <a:pt x="1583" y="159"/>
                  </a:lnTo>
                  <a:lnTo>
                    <a:pt x="1578" y="163"/>
                  </a:lnTo>
                  <a:lnTo>
                    <a:pt x="1573" y="173"/>
                  </a:lnTo>
                  <a:lnTo>
                    <a:pt x="1573" y="178"/>
                  </a:lnTo>
                  <a:lnTo>
                    <a:pt x="1578" y="183"/>
                  </a:lnTo>
                  <a:lnTo>
                    <a:pt x="1583" y="188"/>
                  </a:lnTo>
                  <a:lnTo>
                    <a:pt x="1593" y="188"/>
                  </a:lnTo>
                  <a:lnTo>
                    <a:pt x="1602" y="188"/>
                  </a:lnTo>
                  <a:lnTo>
                    <a:pt x="1612" y="188"/>
                  </a:lnTo>
                  <a:lnTo>
                    <a:pt x="1617" y="188"/>
                  </a:lnTo>
                  <a:lnTo>
                    <a:pt x="1627" y="188"/>
                  </a:lnTo>
                  <a:lnTo>
                    <a:pt x="1632" y="193"/>
                  </a:lnTo>
                  <a:lnTo>
                    <a:pt x="1632" y="198"/>
                  </a:lnTo>
                  <a:lnTo>
                    <a:pt x="1637" y="203"/>
                  </a:lnTo>
                  <a:lnTo>
                    <a:pt x="1642" y="208"/>
                  </a:lnTo>
                  <a:lnTo>
                    <a:pt x="1647" y="213"/>
                  </a:lnTo>
                  <a:lnTo>
                    <a:pt x="1652" y="218"/>
                  </a:lnTo>
                  <a:lnTo>
                    <a:pt x="1657" y="223"/>
                  </a:lnTo>
                  <a:lnTo>
                    <a:pt x="1662" y="228"/>
                  </a:lnTo>
                  <a:lnTo>
                    <a:pt x="1667" y="233"/>
                  </a:lnTo>
                  <a:lnTo>
                    <a:pt x="1672" y="238"/>
                  </a:lnTo>
                  <a:lnTo>
                    <a:pt x="1672" y="243"/>
                  </a:lnTo>
                  <a:lnTo>
                    <a:pt x="1677" y="247"/>
                  </a:lnTo>
                  <a:lnTo>
                    <a:pt x="1682" y="252"/>
                  </a:lnTo>
                  <a:lnTo>
                    <a:pt x="1687" y="252"/>
                  </a:lnTo>
                  <a:lnTo>
                    <a:pt x="1696" y="257"/>
                  </a:lnTo>
                  <a:lnTo>
                    <a:pt x="1696" y="262"/>
                  </a:lnTo>
                  <a:lnTo>
                    <a:pt x="1696" y="267"/>
                  </a:lnTo>
                  <a:lnTo>
                    <a:pt x="1691" y="272"/>
                  </a:lnTo>
                  <a:lnTo>
                    <a:pt x="1687" y="277"/>
                  </a:lnTo>
                  <a:lnTo>
                    <a:pt x="1677" y="282"/>
                  </a:lnTo>
                  <a:lnTo>
                    <a:pt x="1672" y="277"/>
                  </a:lnTo>
                  <a:lnTo>
                    <a:pt x="1667" y="272"/>
                  </a:lnTo>
                  <a:lnTo>
                    <a:pt x="1662" y="267"/>
                  </a:lnTo>
                  <a:lnTo>
                    <a:pt x="1657" y="262"/>
                  </a:lnTo>
                  <a:lnTo>
                    <a:pt x="1652" y="262"/>
                  </a:lnTo>
                  <a:lnTo>
                    <a:pt x="1647" y="257"/>
                  </a:lnTo>
                  <a:lnTo>
                    <a:pt x="1642" y="252"/>
                  </a:lnTo>
                  <a:lnTo>
                    <a:pt x="1637" y="247"/>
                  </a:lnTo>
                  <a:lnTo>
                    <a:pt x="1632" y="243"/>
                  </a:lnTo>
                  <a:lnTo>
                    <a:pt x="1627" y="238"/>
                  </a:lnTo>
                  <a:lnTo>
                    <a:pt x="1622" y="233"/>
                  </a:lnTo>
                  <a:lnTo>
                    <a:pt x="1617" y="233"/>
                  </a:lnTo>
                  <a:lnTo>
                    <a:pt x="1612" y="233"/>
                  </a:lnTo>
                  <a:lnTo>
                    <a:pt x="1602" y="233"/>
                  </a:lnTo>
                  <a:lnTo>
                    <a:pt x="1593" y="233"/>
                  </a:lnTo>
                  <a:lnTo>
                    <a:pt x="1583" y="233"/>
                  </a:lnTo>
                  <a:lnTo>
                    <a:pt x="1573" y="233"/>
                  </a:lnTo>
                  <a:lnTo>
                    <a:pt x="1568" y="238"/>
                  </a:lnTo>
                  <a:lnTo>
                    <a:pt x="1563" y="243"/>
                  </a:lnTo>
                  <a:lnTo>
                    <a:pt x="1558" y="247"/>
                  </a:lnTo>
                  <a:lnTo>
                    <a:pt x="1553" y="247"/>
                  </a:lnTo>
                  <a:lnTo>
                    <a:pt x="1548" y="252"/>
                  </a:lnTo>
                  <a:lnTo>
                    <a:pt x="1538" y="257"/>
                  </a:lnTo>
                  <a:lnTo>
                    <a:pt x="1533" y="257"/>
                  </a:lnTo>
                  <a:lnTo>
                    <a:pt x="1523" y="257"/>
                  </a:lnTo>
                  <a:lnTo>
                    <a:pt x="1513" y="262"/>
                  </a:lnTo>
                  <a:lnTo>
                    <a:pt x="1508" y="262"/>
                  </a:lnTo>
                  <a:lnTo>
                    <a:pt x="1499" y="262"/>
                  </a:lnTo>
                  <a:lnTo>
                    <a:pt x="1494" y="267"/>
                  </a:lnTo>
                  <a:lnTo>
                    <a:pt x="1484" y="272"/>
                  </a:lnTo>
                  <a:lnTo>
                    <a:pt x="1479" y="272"/>
                  </a:lnTo>
                  <a:lnTo>
                    <a:pt x="1474" y="277"/>
                  </a:lnTo>
                  <a:lnTo>
                    <a:pt x="1469" y="282"/>
                  </a:lnTo>
                  <a:lnTo>
                    <a:pt x="1459" y="282"/>
                  </a:lnTo>
                  <a:lnTo>
                    <a:pt x="1449" y="282"/>
                  </a:lnTo>
                  <a:lnTo>
                    <a:pt x="1444" y="287"/>
                  </a:lnTo>
                  <a:lnTo>
                    <a:pt x="1434" y="287"/>
                  </a:lnTo>
                  <a:lnTo>
                    <a:pt x="1429" y="292"/>
                  </a:lnTo>
                  <a:lnTo>
                    <a:pt x="1424" y="297"/>
                  </a:lnTo>
                  <a:lnTo>
                    <a:pt x="1419" y="302"/>
                  </a:lnTo>
                  <a:lnTo>
                    <a:pt x="1415" y="302"/>
                  </a:lnTo>
                  <a:lnTo>
                    <a:pt x="1405" y="307"/>
                  </a:lnTo>
                  <a:lnTo>
                    <a:pt x="1395" y="307"/>
                  </a:lnTo>
                  <a:lnTo>
                    <a:pt x="1390" y="307"/>
                  </a:lnTo>
                  <a:lnTo>
                    <a:pt x="1380" y="307"/>
                  </a:lnTo>
                  <a:lnTo>
                    <a:pt x="1370" y="307"/>
                  </a:lnTo>
                  <a:lnTo>
                    <a:pt x="1365" y="312"/>
                  </a:lnTo>
                  <a:lnTo>
                    <a:pt x="1355" y="312"/>
                  </a:lnTo>
                  <a:lnTo>
                    <a:pt x="1350" y="317"/>
                  </a:lnTo>
                  <a:lnTo>
                    <a:pt x="1340" y="317"/>
                  </a:lnTo>
                  <a:lnTo>
                    <a:pt x="1335" y="322"/>
                  </a:lnTo>
                  <a:lnTo>
                    <a:pt x="1326" y="322"/>
                  </a:lnTo>
                  <a:lnTo>
                    <a:pt x="1321" y="322"/>
                  </a:lnTo>
                  <a:lnTo>
                    <a:pt x="1311" y="322"/>
                  </a:lnTo>
                  <a:close/>
                  <a:moveTo>
                    <a:pt x="930" y="238"/>
                  </a:moveTo>
                  <a:lnTo>
                    <a:pt x="930" y="238"/>
                  </a:lnTo>
                  <a:lnTo>
                    <a:pt x="930" y="238"/>
                  </a:lnTo>
                  <a:lnTo>
                    <a:pt x="930" y="238"/>
                  </a:lnTo>
                  <a:lnTo>
                    <a:pt x="930" y="238"/>
                  </a:lnTo>
                  <a:lnTo>
                    <a:pt x="930" y="238"/>
                  </a:lnTo>
                  <a:lnTo>
                    <a:pt x="930" y="238"/>
                  </a:lnTo>
                  <a:lnTo>
                    <a:pt x="930" y="238"/>
                  </a:lnTo>
                  <a:lnTo>
                    <a:pt x="930" y="243"/>
                  </a:lnTo>
                  <a:lnTo>
                    <a:pt x="930" y="243"/>
                  </a:lnTo>
                  <a:lnTo>
                    <a:pt x="930" y="243"/>
                  </a:lnTo>
                  <a:lnTo>
                    <a:pt x="930" y="243"/>
                  </a:lnTo>
                  <a:lnTo>
                    <a:pt x="930" y="243"/>
                  </a:lnTo>
                  <a:lnTo>
                    <a:pt x="930" y="243"/>
                  </a:lnTo>
                  <a:lnTo>
                    <a:pt x="930" y="238"/>
                  </a:lnTo>
                  <a:close/>
                  <a:moveTo>
                    <a:pt x="1301" y="238"/>
                  </a:moveTo>
                  <a:lnTo>
                    <a:pt x="1301" y="238"/>
                  </a:lnTo>
                  <a:lnTo>
                    <a:pt x="1301" y="238"/>
                  </a:lnTo>
                  <a:lnTo>
                    <a:pt x="1301" y="238"/>
                  </a:lnTo>
                  <a:lnTo>
                    <a:pt x="1306" y="238"/>
                  </a:lnTo>
                  <a:lnTo>
                    <a:pt x="1306" y="238"/>
                  </a:lnTo>
                  <a:lnTo>
                    <a:pt x="1306" y="238"/>
                  </a:lnTo>
                  <a:lnTo>
                    <a:pt x="1311" y="238"/>
                  </a:lnTo>
                  <a:lnTo>
                    <a:pt x="1311" y="243"/>
                  </a:lnTo>
                  <a:lnTo>
                    <a:pt x="1306" y="243"/>
                  </a:lnTo>
                  <a:lnTo>
                    <a:pt x="1306" y="243"/>
                  </a:lnTo>
                  <a:lnTo>
                    <a:pt x="1306" y="243"/>
                  </a:lnTo>
                  <a:lnTo>
                    <a:pt x="1301" y="243"/>
                  </a:lnTo>
                  <a:lnTo>
                    <a:pt x="1301" y="243"/>
                  </a:lnTo>
                  <a:lnTo>
                    <a:pt x="1301" y="238"/>
                  </a:lnTo>
                  <a:close/>
                  <a:moveTo>
                    <a:pt x="1548" y="213"/>
                  </a:moveTo>
                  <a:lnTo>
                    <a:pt x="1548" y="208"/>
                  </a:lnTo>
                  <a:lnTo>
                    <a:pt x="1553" y="198"/>
                  </a:lnTo>
                  <a:lnTo>
                    <a:pt x="1553" y="193"/>
                  </a:lnTo>
                  <a:lnTo>
                    <a:pt x="1553" y="193"/>
                  </a:lnTo>
                  <a:lnTo>
                    <a:pt x="1553" y="188"/>
                  </a:lnTo>
                  <a:lnTo>
                    <a:pt x="1548" y="188"/>
                  </a:lnTo>
                  <a:lnTo>
                    <a:pt x="1543" y="183"/>
                  </a:lnTo>
                  <a:lnTo>
                    <a:pt x="1533" y="183"/>
                  </a:lnTo>
                  <a:lnTo>
                    <a:pt x="1528" y="183"/>
                  </a:lnTo>
                  <a:lnTo>
                    <a:pt x="1518" y="183"/>
                  </a:lnTo>
                  <a:lnTo>
                    <a:pt x="1513" y="183"/>
                  </a:lnTo>
                  <a:lnTo>
                    <a:pt x="1508" y="183"/>
                  </a:lnTo>
                  <a:lnTo>
                    <a:pt x="1504" y="188"/>
                  </a:lnTo>
                  <a:lnTo>
                    <a:pt x="1499" y="193"/>
                  </a:lnTo>
                  <a:lnTo>
                    <a:pt x="1494" y="198"/>
                  </a:lnTo>
                  <a:lnTo>
                    <a:pt x="1494" y="203"/>
                  </a:lnTo>
                  <a:lnTo>
                    <a:pt x="1494" y="208"/>
                  </a:lnTo>
                  <a:lnTo>
                    <a:pt x="1494" y="213"/>
                  </a:lnTo>
                  <a:lnTo>
                    <a:pt x="1499" y="213"/>
                  </a:lnTo>
                  <a:lnTo>
                    <a:pt x="1508" y="213"/>
                  </a:lnTo>
                  <a:lnTo>
                    <a:pt x="1513" y="218"/>
                  </a:lnTo>
                  <a:lnTo>
                    <a:pt x="1523" y="218"/>
                  </a:lnTo>
                  <a:lnTo>
                    <a:pt x="1528" y="218"/>
                  </a:lnTo>
                  <a:lnTo>
                    <a:pt x="1538" y="218"/>
                  </a:lnTo>
                  <a:lnTo>
                    <a:pt x="1543" y="218"/>
                  </a:lnTo>
                  <a:lnTo>
                    <a:pt x="1548" y="213"/>
                  </a:lnTo>
                  <a:close/>
                  <a:moveTo>
                    <a:pt x="999" y="188"/>
                  </a:moveTo>
                  <a:lnTo>
                    <a:pt x="999" y="183"/>
                  </a:lnTo>
                  <a:lnTo>
                    <a:pt x="1004" y="178"/>
                  </a:lnTo>
                  <a:lnTo>
                    <a:pt x="1009" y="178"/>
                  </a:lnTo>
                  <a:lnTo>
                    <a:pt x="1014" y="178"/>
                  </a:lnTo>
                  <a:lnTo>
                    <a:pt x="1014" y="178"/>
                  </a:lnTo>
                  <a:lnTo>
                    <a:pt x="1019" y="183"/>
                  </a:lnTo>
                  <a:lnTo>
                    <a:pt x="1019" y="188"/>
                  </a:lnTo>
                  <a:lnTo>
                    <a:pt x="1019" y="193"/>
                  </a:lnTo>
                  <a:lnTo>
                    <a:pt x="1014" y="198"/>
                  </a:lnTo>
                  <a:lnTo>
                    <a:pt x="1009" y="198"/>
                  </a:lnTo>
                  <a:lnTo>
                    <a:pt x="1009" y="198"/>
                  </a:lnTo>
                  <a:lnTo>
                    <a:pt x="1004" y="198"/>
                  </a:lnTo>
                  <a:lnTo>
                    <a:pt x="999" y="193"/>
                  </a:lnTo>
                  <a:lnTo>
                    <a:pt x="999" y="188"/>
                  </a:lnTo>
                  <a:close/>
                  <a:moveTo>
                    <a:pt x="1192" y="188"/>
                  </a:moveTo>
                  <a:lnTo>
                    <a:pt x="1197" y="183"/>
                  </a:lnTo>
                  <a:lnTo>
                    <a:pt x="1202" y="178"/>
                  </a:lnTo>
                  <a:lnTo>
                    <a:pt x="1207" y="173"/>
                  </a:lnTo>
                  <a:lnTo>
                    <a:pt x="1217" y="173"/>
                  </a:lnTo>
                  <a:lnTo>
                    <a:pt x="1222" y="173"/>
                  </a:lnTo>
                  <a:lnTo>
                    <a:pt x="1227" y="173"/>
                  </a:lnTo>
                  <a:lnTo>
                    <a:pt x="1232" y="178"/>
                  </a:lnTo>
                  <a:lnTo>
                    <a:pt x="1236" y="183"/>
                  </a:lnTo>
                  <a:lnTo>
                    <a:pt x="1241" y="188"/>
                  </a:lnTo>
                  <a:lnTo>
                    <a:pt x="1236" y="193"/>
                  </a:lnTo>
                  <a:lnTo>
                    <a:pt x="1236" y="198"/>
                  </a:lnTo>
                  <a:lnTo>
                    <a:pt x="1232" y="203"/>
                  </a:lnTo>
                  <a:lnTo>
                    <a:pt x="1227" y="208"/>
                  </a:lnTo>
                  <a:lnTo>
                    <a:pt x="1222" y="208"/>
                  </a:lnTo>
                  <a:lnTo>
                    <a:pt x="1212" y="208"/>
                  </a:lnTo>
                  <a:lnTo>
                    <a:pt x="1207" y="203"/>
                  </a:lnTo>
                  <a:lnTo>
                    <a:pt x="1202" y="198"/>
                  </a:lnTo>
                  <a:lnTo>
                    <a:pt x="1197" y="198"/>
                  </a:lnTo>
                  <a:lnTo>
                    <a:pt x="1192" y="193"/>
                  </a:lnTo>
                  <a:lnTo>
                    <a:pt x="1192" y="188"/>
                  </a:lnTo>
                  <a:close/>
                  <a:moveTo>
                    <a:pt x="1276" y="159"/>
                  </a:moveTo>
                  <a:lnTo>
                    <a:pt x="1281" y="154"/>
                  </a:lnTo>
                  <a:lnTo>
                    <a:pt x="1286" y="149"/>
                  </a:lnTo>
                  <a:lnTo>
                    <a:pt x="1291" y="144"/>
                  </a:lnTo>
                  <a:lnTo>
                    <a:pt x="1296" y="139"/>
                  </a:lnTo>
                  <a:lnTo>
                    <a:pt x="1306" y="139"/>
                  </a:lnTo>
                  <a:lnTo>
                    <a:pt x="1311" y="139"/>
                  </a:lnTo>
                  <a:lnTo>
                    <a:pt x="1316" y="144"/>
                  </a:lnTo>
                  <a:lnTo>
                    <a:pt x="1321" y="149"/>
                  </a:lnTo>
                  <a:lnTo>
                    <a:pt x="1326" y="159"/>
                  </a:lnTo>
                  <a:lnTo>
                    <a:pt x="1326" y="163"/>
                  </a:lnTo>
                  <a:lnTo>
                    <a:pt x="1321" y="173"/>
                  </a:lnTo>
                  <a:lnTo>
                    <a:pt x="1321" y="178"/>
                  </a:lnTo>
                  <a:lnTo>
                    <a:pt x="1311" y="183"/>
                  </a:lnTo>
                  <a:lnTo>
                    <a:pt x="1306" y="183"/>
                  </a:lnTo>
                  <a:lnTo>
                    <a:pt x="1301" y="183"/>
                  </a:lnTo>
                  <a:lnTo>
                    <a:pt x="1296" y="183"/>
                  </a:lnTo>
                  <a:lnTo>
                    <a:pt x="1286" y="178"/>
                  </a:lnTo>
                  <a:lnTo>
                    <a:pt x="1281" y="173"/>
                  </a:lnTo>
                  <a:lnTo>
                    <a:pt x="1281" y="163"/>
                  </a:lnTo>
                  <a:lnTo>
                    <a:pt x="1276" y="159"/>
                  </a:lnTo>
                  <a:close/>
                  <a:moveTo>
                    <a:pt x="1810" y="159"/>
                  </a:moveTo>
                  <a:lnTo>
                    <a:pt x="1805" y="159"/>
                  </a:lnTo>
                  <a:lnTo>
                    <a:pt x="1800" y="154"/>
                  </a:lnTo>
                  <a:lnTo>
                    <a:pt x="1795" y="154"/>
                  </a:lnTo>
                  <a:lnTo>
                    <a:pt x="1790" y="154"/>
                  </a:lnTo>
                  <a:lnTo>
                    <a:pt x="1780" y="154"/>
                  </a:lnTo>
                  <a:lnTo>
                    <a:pt x="1776" y="154"/>
                  </a:lnTo>
                  <a:lnTo>
                    <a:pt x="1766" y="159"/>
                  </a:lnTo>
                  <a:lnTo>
                    <a:pt x="1761" y="159"/>
                  </a:lnTo>
                  <a:lnTo>
                    <a:pt x="1761" y="159"/>
                  </a:lnTo>
                  <a:lnTo>
                    <a:pt x="1761" y="163"/>
                  </a:lnTo>
                  <a:lnTo>
                    <a:pt x="1766" y="163"/>
                  </a:lnTo>
                  <a:lnTo>
                    <a:pt x="1771" y="163"/>
                  </a:lnTo>
                  <a:lnTo>
                    <a:pt x="1780" y="168"/>
                  </a:lnTo>
                  <a:lnTo>
                    <a:pt x="1785" y="168"/>
                  </a:lnTo>
                  <a:lnTo>
                    <a:pt x="1795" y="168"/>
                  </a:lnTo>
                  <a:lnTo>
                    <a:pt x="1800" y="168"/>
                  </a:lnTo>
                  <a:lnTo>
                    <a:pt x="1805" y="168"/>
                  </a:lnTo>
                  <a:lnTo>
                    <a:pt x="1810" y="168"/>
                  </a:lnTo>
                  <a:lnTo>
                    <a:pt x="1810" y="163"/>
                  </a:lnTo>
                  <a:lnTo>
                    <a:pt x="1810" y="159"/>
                  </a:lnTo>
                  <a:close/>
                  <a:moveTo>
                    <a:pt x="1360" y="134"/>
                  </a:moveTo>
                  <a:lnTo>
                    <a:pt x="1365" y="124"/>
                  </a:lnTo>
                  <a:lnTo>
                    <a:pt x="1370" y="119"/>
                  </a:lnTo>
                  <a:lnTo>
                    <a:pt x="1380" y="114"/>
                  </a:lnTo>
                  <a:lnTo>
                    <a:pt x="1390" y="109"/>
                  </a:lnTo>
                  <a:lnTo>
                    <a:pt x="1400" y="109"/>
                  </a:lnTo>
                  <a:lnTo>
                    <a:pt x="1410" y="109"/>
                  </a:lnTo>
                  <a:lnTo>
                    <a:pt x="1419" y="114"/>
                  </a:lnTo>
                  <a:lnTo>
                    <a:pt x="1429" y="124"/>
                  </a:lnTo>
                  <a:lnTo>
                    <a:pt x="1434" y="129"/>
                  </a:lnTo>
                  <a:lnTo>
                    <a:pt x="1434" y="139"/>
                  </a:lnTo>
                  <a:lnTo>
                    <a:pt x="1429" y="144"/>
                  </a:lnTo>
                  <a:lnTo>
                    <a:pt x="1424" y="149"/>
                  </a:lnTo>
                  <a:lnTo>
                    <a:pt x="1415" y="154"/>
                  </a:lnTo>
                  <a:lnTo>
                    <a:pt x="1405" y="159"/>
                  </a:lnTo>
                  <a:lnTo>
                    <a:pt x="1390" y="159"/>
                  </a:lnTo>
                  <a:lnTo>
                    <a:pt x="1380" y="159"/>
                  </a:lnTo>
                  <a:lnTo>
                    <a:pt x="1370" y="159"/>
                  </a:lnTo>
                  <a:lnTo>
                    <a:pt x="1365" y="149"/>
                  </a:lnTo>
                  <a:lnTo>
                    <a:pt x="1360" y="144"/>
                  </a:lnTo>
                  <a:lnTo>
                    <a:pt x="1360" y="134"/>
                  </a:lnTo>
                  <a:close/>
                  <a:moveTo>
                    <a:pt x="1553" y="134"/>
                  </a:moveTo>
                  <a:lnTo>
                    <a:pt x="1553" y="124"/>
                  </a:lnTo>
                  <a:lnTo>
                    <a:pt x="1553" y="119"/>
                  </a:lnTo>
                  <a:lnTo>
                    <a:pt x="1548" y="114"/>
                  </a:lnTo>
                  <a:lnTo>
                    <a:pt x="1543" y="114"/>
                  </a:lnTo>
                  <a:lnTo>
                    <a:pt x="1533" y="109"/>
                  </a:lnTo>
                  <a:lnTo>
                    <a:pt x="1523" y="109"/>
                  </a:lnTo>
                  <a:lnTo>
                    <a:pt x="1513" y="109"/>
                  </a:lnTo>
                  <a:lnTo>
                    <a:pt x="1508" y="114"/>
                  </a:lnTo>
                  <a:lnTo>
                    <a:pt x="1499" y="119"/>
                  </a:lnTo>
                  <a:lnTo>
                    <a:pt x="1494" y="124"/>
                  </a:lnTo>
                  <a:lnTo>
                    <a:pt x="1489" y="129"/>
                  </a:lnTo>
                  <a:lnTo>
                    <a:pt x="1489" y="134"/>
                  </a:lnTo>
                  <a:lnTo>
                    <a:pt x="1494" y="134"/>
                  </a:lnTo>
                  <a:lnTo>
                    <a:pt x="1504" y="139"/>
                  </a:lnTo>
                  <a:lnTo>
                    <a:pt x="1513" y="139"/>
                  </a:lnTo>
                  <a:lnTo>
                    <a:pt x="1523" y="139"/>
                  </a:lnTo>
                  <a:lnTo>
                    <a:pt x="1533" y="139"/>
                  </a:lnTo>
                  <a:lnTo>
                    <a:pt x="1543" y="139"/>
                  </a:lnTo>
                  <a:lnTo>
                    <a:pt x="1548" y="139"/>
                  </a:lnTo>
                  <a:lnTo>
                    <a:pt x="1553" y="134"/>
                  </a:lnTo>
                  <a:close/>
                  <a:moveTo>
                    <a:pt x="1756" y="134"/>
                  </a:moveTo>
                  <a:lnTo>
                    <a:pt x="1751" y="129"/>
                  </a:lnTo>
                  <a:lnTo>
                    <a:pt x="1746" y="129"/>
                  </a:lnTo>
                  <a:lnTo>
                    <a:pt x="1736" y="129"/>
                  </a:lnTo>
                  <a:lnTo>
                    <a:pt x="1731" y="129"/>
                  </a:lnTo>
                  <a:lnTo>
                    <a:pt x="1721" y="129"/>
                  </a:lnTo>
                  <a:lnTo>
                    <a:pt x="1721" y="124"/>
                  </a:lnTo>
                  <a:lnTo>
                    <a:pt x="1716" y="119"/>
                  </a:lnTo>
                  <a:lnTo>
                    <a:pt x="1711" y="114"/>
                  </a:lnTo>
                  <a:lnTo>
                    <a:pt x="1706" y="109"/>
                  </a:lnTo>
                  <a:lnTo>
                    <a:pt x="1706" y="104"/>
                  </a:lnTo>
                  <a:lnTo>
                    <a:pt x="1696" y="104"/>
                  </a:lnTo>
                  <a:lnTo>
                    <a:pt x="1691" y="104"/>
                  </a:lnTo>
                  <a:lnTo>
                    <a:pt x="1687" y="104"/>
                  </a:lnTo>
                  <a:lnTo>
                    <a:pt x="1677" y="99"/>
                  </a:lnTo>
                  <a:lnTo>
                    <a:pt x="1672" y="99"/>
                  </a:lnTo>
                  <a:lnTo>
                    <a:pt x="1667" y="94"/>
                  </a:lnTo>
                  <a:lnTo>
                    <a:pt x="1662" y="94"/>
                  </a:lnTo>
                  <a:lnTo>
                    <a:pt x="1657" y="89"/>
                  </a:lnTo>
                  <a:lnTo>
                    <a:pt x="1657" y="84"/>
                  </a:lnTo>
                  <a:lnTo>
                    <a:pt x="1652" y="79"/>
                  </a:lnTo>
                  <a:lnTo>
                    <a:pt x="1647" y="79"/>
                  </a:lnTo>
                  <a:lnTo>
                    <a:pt x="1637" y="74"/>
                  </a:lnTo>
                  <a:lnTo>
                    <a:pt x="1632" y="79"/>
                  </a:lnTo>
                  <a:lnTo>
                    <a:pt x="1622" y="79"/>
                  </a:lnTo>
                  <a:lnTo>
                    <a:pt x="1617" y="79"/>
                  </a:lnTo>
                  <a:lnTo>
                    <a:pt x="1612" y="79"/>
                  </a:lnTo>
                  <a:lnTo>
                    <a:pt x="1617" y="84"/>
                  </a:lnTo>
                  <a:lnTo>
                    <a:pt x="1622" y="89"/>
                  </a:lnTo>
                  <a:lnTo>
                    <a:pt x="1622" y="94"/>
                  </a:lnTo>
                  <a:lnTo>
                    <a:pt x="1627" y="99"/>
                  </a:lnTo>
                  <a:lnTo>
                    <a:pt x="1627" y="104"/>
                  </a:lnTo>
                  <a:lnTo>
                    <a:pt x="1632" y="109"/>
                  </a:lnTo>
                  <a:lnTo>
                    <a:pt x="1642" y="109"/>
                  </a:lnTo>
                  <a:lnTo>
                    <a:pt x="1647" y="109"/>
                  </a:lnTo>
                  <a:lnTo>
                    <a:pt x="1657" y="109"/>
                  </a:lnTo>
                  <a:lnTo>
                    <a:pt x="1662" y="109"/>
                  </a:lnTo>
                  <a:lnTo>
                    <a:pt x="1672" y="109"/>
                  </a:lnTo>
                  <a:lnTo>
                    <a:pt x="1677" y="114"/>
                  </a:lnTo>
                  <a:lnTo>
                    <a:pt x="1682" y="114"/>
                  </a:lnTo>
                  <a:lnTo>
                    <a:pt x="1687" y="119"/>
                  </a:lnTo>
                  <a:lnTo>
                    <a:pt x="1691" y="124"/>
                  </a:lnTo>
                  <a:lnTo>
                    <a:pt x="1696" y="124"/>
                  </a:lnTo>
                  <a:lnTo>
                    <a:pt x="1701" y="129"/>
                  </a:lnTo>
                  <a:lnTo>
                    <a:pt x="1701" y="134"/>
                  </a:lnTo>
                  <a:lnTo>
                    <a:pt x="1706" y="139"/>
                  </a:lnTo>
                  <a:lnTo>
                    <a:pt x="1716" y="139"/>
                  </a:lnTo>
                  <a:lnTo>
                    <a:pt x="1721" y="139"/>
                  </a:lnTo>
                  <a:lnTo>
                    <a:pt x="1731" y="139"/>
                  </a:lnTo>
                  <a:lnTo>
                    <a:pt x="1741" y="144"/>
                  </a:lnTo>
                  <a:lnTo>
                    <a:pt x="1746" y="144"/>
                  </a:lnTo>
                  <a:lnTo>
                    <a:pt x="1751" y="149"/>
                  </a:lnTo>
                  <a:lnTo>
                    <a:pt x="1756" y="149"/>
                  </a:lnTo>
                  <a:lnTo>
                    <a:pt x="1756" y="149"/>
                  </a:lnTo>
                  <a:lnTo>
                    <a:pt x="1756" y="144"/>
                  </a:lnTo>
                  <a:lnTo>
                    <a:pt x="1756" y="139"/>
                  </a:lnTo>
                  <a:lnTo>
                    <a:pt x="1756" y="134"/>
                  </a:lnTo>
                  <a:close/>
                  <a:moveTo>
                    <a:pt x="1617" y="104"/>
                  </a:moveTo>
                  <a:lnTo>
                    <a:pt x="1612" y="99"/>
                  </a:lnTo>
                  <a:lnTo>
                    <a:pt x="1607" y="89"/>
                  </a:lnTo>
                  <a:lnTo>
                    <a:pt x="1602" y="89"/>
                  </a:lnTo>
                  <a:lnTo>
                    <a:pt x="1598" y="84"/>
                  </a:lnTo>
                  <a:lnTo>
                    <a:pt x="1593" y="89"/>
                  </a:lnTo>
                  <a:lnTo>
                    <a:pt x="1588" y="89"/>
                  </a:lnTo>
                  <a:lnTo>
                    <a:pt x="1583" y="94"/>
                  </a:lnTo>
                  <a:lnTo>
                    <a:pt x="1578" y="99"/>
                  </a:lnTo>
                  <a:lnTo>
                    <a:pt x="1568" y="104"/>
                  </a:lnTo>
                  <a:lnTo>
                    <a:pt x="1558" y="104"/>
                  </a:lnTo>
                  <a:lnTo>
                    <a:pt x="1548" y="104"/>
                  </a:lnTo>
                  <a:lnTo>
                    <a:pt x="1553" y="109"/>
                  </a:lnTo>
                  <a:lnTo>
                    <a:pt x="1558" y="114"/>
                  </a:lnTo>
                  <a:lnTo>
                    <a:pt x="1568" y="119"/>
                  </a:lnTo>
                  <a:lnTo>
                    <a:pt x="1578" y="119"/>
                  </a:lnTo>
                  <a:lnTo>
                    <a:pt x="1588" y="114"/>
                  </a:lnTo>
                  <a:lnTo>
                    <a:pt x="1593" y="109"/>
                  </a:lnTo>
                  <a:lnTo>
                    <a:pt x="1602" y="109"/>
                  </a:lnTo>
                  <a:lnTo>
                    <a:pt x="1612" y="109"/>
                  </a:lnTo>
                  <a:lnTo>
                    <a:pt x="1617" y="104"/>
                  </a:lnTo>
                  <a:close/>
                  <a:moveTo>
                    <a:pt x="2235" y="1656"/>
                  </a:moveTo>
                  <a:lnTo>
                    <a:pt x="2260" y="1631"/>
                  </a:lnTo>
                  <a:lnTo>
                    <a:pt x="2285" y="1631"/>
                  </a:lnTo>
                  <a:lnTo>
                    <a:pt x="2315" y="1631"/>
                  </a:lnTo>
                  <a:lnTo>
                    <a:pt x="2339" y="1631"/>
                  </a:lnTo>
                  <a:lnTo>
                    <a:pt x="2369" y="1631"/>
                  </a:lnTo>
                  <a:lnTo>
                    <a:pt x="2394" y="1631"/>
                  </a:lnTo>
                  <a:lnTo>
                    <a:pt x="2418" y="1631"/>
                  </a:lnTo>
                  <a:lnTo>
                    <a:pt x="2448" y="1602"/>
                  </a:lnTo>
                  <a:lnTo>
                    <a:pt x="2448" y="1577"/>
                  </a:lnTo>
                  <a:lnTo>
                    <a:pt x="2448" y="1547"/>
                  </a:lnTo>
                  <a:lnTo>
                    <a:pt x="2448" y="1523"/>
                  </a:lnTo>
                  <a:lnTo>
                    <a:pt x="2473" y="1498"/>
                  </a:lnTo>
                  <a:lnTo>
                    <a:pt x="2473" y="1468"/>
                  </a:lnTo>
                  <a:lnTo>
                    <a:pt x="2473" y="1444"/>
                  </a:lnTo>
                  <a:lnTo>
                    <a:pt x="2473" y="1414"/>
                  </a:lnTo>
                  <a:lnTo>
                    <a:pt x="2503" y="1389"/>
                  </a:lnTo>
                  <a:lnTo>
                    <a:pt x="2503" y="1364"/>
                  </a:lnTo>
                  <a:lnTo>
                    <a:pt x="2503" y="1335"/>
                  </a:lnTo>
                  <a:lnTo>
                    <a:pt x="2503" y="1310"/>
                  </a:lnTo>
                  <a:lnTo>
                    <a:pt x="2527" y="1280"/>
                  </a:lnTo>
                  <a:lnTo>
                    <a:pt x="2527" y="1256"/>
                  </a:lnTo>
                  <a:lnTo>
                    <a:pt x="2527" y="1226"/>
                  </a:lnTo>
                  <a:lnTo>
                    <a:pt x="2527" y="1201"/>
                  </a:lnTo>
                  <a:lnTo>
                    <a:pt x="2552" y="1177"/>
                  </a:lnTo>
                  <a:lnTo>
                    <a:pt x="2552" y="1147"/>
                  </a:lnTo>
                  <a:lnTo>
                    <a:pt x="2552" y="1122"/>
                  </a:lnTo>
                  <a:lnTo>
                    <a:pt x="2552" y="1093"/>
                  </a:lnTo>
                  <a:lnTo>
                    <a:pt x="2582" y="1068"/>
                  </a:lnTo>
                  <a:lnTo>
                    <a:pt x="2582" y="1043"/>
                  </a:lnTo>
                  <a:lnTo>
                    <a:pt x="2582" y="1014"/>
                  </a:lnTo>
                  <a:lnTo>
                    <a:pt x="2582" y="989"/>
                  </a:lnTo>
                  <a:lnTo>
                    <a:pt x="2582" y="959"/>
                  </a:lnTo>
                  <a:lnTo>
                    <a:pt x="2582" y="934"/>
                  </a:lnTo>
                  <a:lnTo>
                    <a:pt x="2582" y="910"/>
                  </a:lnTo>
                  <a:lnTo>
                    <a:pt x="2582" y="880"/>
                  </a:lnTo>
                  <a:lnTo>
                    <a:pt x="2582" y="855"/>
                  </a:lnTo>
                  <a:lnTo>
                    <a:pt x="2582" y="826"/>
                  </a:lnTo>
                  <a:lnTo>
                    <a:pt x="2582" y="801"/>
                  </a:lnTo>
                  <a:lnTo>
                    <a:pt x="2582" y="776"/>
                  </a:lnTo>
                  <a:lnTo>
                    <a:pt x="2582" y="747"/>
                  </a:lnTo>
                  <a:lnTo>
                    <a:pt x="2582" y="722"/>
                  </a:lnTo>
                  <a:lnTo>
                    <a:pt x="2582" y="692"/>
                  </a:lnTo>
                  <a:lnTo>
                    <a:pt x="2582" y="668"/>
                  </a:lnTo>
                  <a:lnTo>
                    <a:pt x="2582" y="643"/>
                  </a:lnTo>
                  <a:lnTo>
                    <a:pt x="2582" y="613"/>
                  </a:lnTo>
                  <a:lnTo>
                    <a:pt x="2582" y="589"/>
                  </a:lnTo>
                  <a:lnTo>
                    <a:pt x="2582" y="559"/>
                  </a:lnTo>
                  <a:lnTo>
                    <a:pt x="2582" y="534"/>
                  </a:lnTo>
                  <a:lnTo>
                    <a:pt x="2582" y="504"/>
                  </a:lnTo>
                  <a:lnTo>
                    <a:pt x="2582" y="480"/>
                  </a:lnTo>
                  <a:lnTo>
                    <a:pt x="2582" y="455"/>
                  </a:lnTo>
                  <a:lnTo>
                    <a:pt x="2582" y="425"/>
                  </a:lnTo>
                  <a:lnTo>
                    <a:pt x="2582" y="401"/>
                  </a:lnTo>
                  <a:lnTo>
                    <a:pt x="2582" y="371"/>
                  </a:lnTo>
                  <a:lnTo>
                    <a:pt x="2582" y="346"/>
                  </a:lnTo>
                  <a:lnTo>
                    <a:pt x="2582" y="322"/>
                  </a:lnTo>
                  <a:lnTo>
                    <a:pt x="2582" y="292"/>
                  </a:lnTo>
                  <a:lnTo>
                    <a:pt x="2582" y="267"/>
                  </a:lnTo>
                  <a:lnTo>
                    <a:pt x="2582" y="238"/>
                  </a:lnTo>
                  <a:lnTo>
                    <a:pt x="2552" y="213"/>
                  </a:lnTo>
                  <a:lnTo>
                    <a:pt x="2552" y="188"/>
                  </a:lnTo>
                  <a:lnTo>
                    <a:pt x="2552" y="159"/>
                  </a:lnTo>
                  <a:lnTo>
                    <a:pt x="2552" y="134"/>
                  </a:lnTo>
                  <a:lnTo>
                    <a:pt x="2552" y="104"/>
                  </a:lnTo>
                  <a:lnTo>
                    <a:pt x="2527" y="79"/>
                  </a:lnTo>
                  <a:lnTo>
                    <a:pt x="2503" y="79"/>
                  </a:lnTo>
                  <a:lnTo>
                    <a:pt x="2473" y="79"/>
                  </a:lnTo>
                  <a:lnTo>
                    <a:pt x="2448" y="55"/>
                  </a:lnTo>
                  <a:lnTo>
                    <a:pt x="2418" y="55"/>
                  </a:lnTo>
                  <a:lnTo>
                    <a:pt x="2394" y="55"/>
                  </a:lnTo>
                  <a:lnTo>
                    <a:pt x="2369" y="25"/>
                  </a:lnTo>
                  <a:lnTo>
                    <a:pt x="2339" y="25"/>
                  </a:lnTo>
                  <a:lnTo>
                    <a:pt x="2315" y="25"/>
                  </a:lnTo>
                  <a:lnTo>
                    <a:pt x="2285" y="0"/>
                  </a:lnTo>
                  <a:lnTo>
                    <a:pt x="2260" y="0"/>
                  </a:lnTo>
                  <a:lnTo>
                    <a:pt x="2235" y="0"/>
                  </a:lnTo>
                  <a:lnTo>
                    <a:pt x="2206" y="0"/>
                  </a:lnTo>
                  <a:lnTo>
                    <a:pt x="2181" y="0"/>
                  </a:lnTo>
                  <a:lnTo>
                    <a:pt x="2156" y="0"/>
                  </a:lnTo>
                  <a:lnTo>
                    <a:pt x="2127" y="0"/>
                  </a:lnTo>
                  <a:lnTo>
                    <a:pt x="2102" y="0"/>
                  </a:lnTo>
                  <a:lnTo>
                    <a:pt x="2072" y="0"/>
                  </a:lnTo>
                  <a:lnTo>
                    <a:pt x="2048" y="0"/>
                  </a:lnTo>
                  <a:lnTo>
                    <a:pt x="2023" y="0"/>
                  </a:lnTo>
                  <a:lnTo>
                    <a:pt x="1993" y="0"/>
                  </a:lnTo>
                  <a:lnTo>
                    <a:pt x="1968" y="0"/>
                  </a:lnTo>
                  <a:lnTo>
                    <a:pt x="1944" y="0"/>
                  </a:lnTo>
                  <a:lnTo>
                    <a:pt x="1914" y="0"/>
                  </a:lnTo>
                  <a:lnTo>
                    <a:pt x="1889" y="0"/>
                  </a:lnTo>
                  <a:lnTo>
                    <a:pt x="1860" y="0"/>
                  </a:lnTo>
                  <a:lnTo>
                    <a:pt x="1835" y="0"/>
                  </a:lnTo>
                  <a:lnTo>
                    <a:pt x="1810" y="0"/>
                  </a:lnTo>
                  <a:lnTo>
                    <a:pt x="1780" y="0"/>
                  </a:lnTo>
                  <a:lnTo>
                    <a:pt x="1756" y="0"/>
                  </a:lnTo>
                  <a:lnTo>
                    <a:pt x="1726" y="0"/>
                  </a:lnTo>
                  <a:lnTo>
                    <a:pt x="1701" y="0"/>
                  </a:lnTo>
                  <a:lnTo>
                    <a:pt x="1677" y="0"/>
                  </a:lnTo>
                  <a:lnTo>
                    <a:pt x="1647" y="0"/>
                  </a:lnTo>
                  <a:lnTo>
                    <a:pt x="1622" y="0"/>
                  </a:lnTo>
                  <a:lnTo>
                    <a:pt x="1598" y="0"/>
                  </a:lnTo>
                  <a:lnTo>
                    <a:pt x="1568" y="0"/>
                  </a:lnTo>
                  <a:lnTo>
                    <a:pt x="1543" y="0"/>
                  </a:lnTo>
                  <a:lnTo>
                    <a:pt x="1513" y="0"/>
                  </a:lnTo>
                  <a:lnTo>
                    <a:pt x="1489" y="0"/>
                  </a:lnTo>
                  <a:lnTo>
                    <a:pt x="1464" y="0"/>
                  </a:lnTo>
                  <a:lnTo>
                    <a:pt x="1434" y="0"/>
                  </a:lnTo>
                  <a:lnTo>
                    <a:pt x="1410" y="0"/>
                  </a:lnTo>
                  <a:lnTo>
                    <a:pt x="1385" y="0"/>
                  </a:lnTo>
                  <a:lnTo>
                    <a:pt x="1355" y="0"/>
                  </a:lnTo>
                  <a:lnTo>
                    <a:pt x="1330" y="0"/>
                  </a:lnTo>
                  <a:lnTo>
                    <a:pt x="1301" y="0"/>
                  </a:lnTo>
                  <a:lnTo>
                    <a:pt x="1276" y="0"/>
                  </a:lnTo>
                  <a:lnTo>
                    <a:pt x="1251" y="0"/>
                  </a:lnTo>
                  <a:lnTo>
                    <a:pt x="1222" y="0"/>
                  </a:lnTo>
                  <a:lnTo>
                    <a:pt x="1197" y="0"/>
                  </a:lnTo>
                  <a:lnTo>
                    <a:pt x="1172" y="0"/>
                  </a:lnTo>
                  <a:lnTo>
                    <a:pt x="1143" y="0"/>
                  </a:lnTo>
                  <a:lnTo>
                    <a:pt x="1118" y="0"/>
                  </a:lnTo>
                  <a:lnTo>
                    <a:pt x="1088" y="0"/>
                  </a:lnTo>
                  <a:lnTo>
                    <a:pt x="1063" y="0"/>
                  </a:lnTo>
                  <a:lnTo>
                    <a:pt x="1039" y="0"/>
                  </a:lnTo>
                  <a:lnTo>
                    <a:pt x="1009" y="0"/>
                  </a:lnTo>
                  <a:lnTo>
                    <a:pt x="984" y="0"/>
                  </a:lnTo>
                  <a:lnTo>
                    <a:pt x="955" y="0"/>
                  </a:lnTo>
                  <a:lnTo>
                    <a:pt x="930" y="0"/>
                  </a:lnTo>
                  <a:lnTo>
                    <a:pt x="905" y="0"/>
                  </a:lnTo>
                  <a:lnTo>
                    <a:pt x="875" y="0"/>
                  </a:lnTo>
                  <a:lnTo>
                    <a:pt x="851" y="0"/>
                  </a:lnTo>
                  <a:lnTo>
                    <a:pt x="826" y="0"/>
                  </a:lnTo>
                  <a:lnTo>
                    <a:pt x="796" y="0"/>
                  </a:lnTo>
                  <a:lnTo>
                    <a:pt x="772" y="0"/>
                  </a:lnTo>
                  <a:lnTo>
                    <a:pt x="742" y="0"/>
                  </a:lnTo>
                  <a:lnTo>
                    <a:pt x="717" y="0"/>
                  </a:lnTo>
                  <a:lnTo>
                    <a:pt x="692" y="0"/>
                  </a:lnTo>
                  <a:lnTo>
                    <a:pt x="663" y="0"/>
                  </a:lnTo>
                  <a:lnTo>
                    <a:pt x="638" y="0"/>
                  </a:lnTo>
                  <a:lnTo>
                    <a:pt x="613" y="0"/>
                  </a:lnTo>
                  <a:lnTo>
                    <a:pt x="584" y="25"/>
                  </a:lnTo>
                  <a:lnTo>
                    <a:pt x="559" y="55"/>
                  </a:lnTo>
                  <a:lnTo>
                    <a:pt x="529" y="79"/>
                  </a:lnTo>
                  <a:lnTo>
                    <a:pt x="505" y="104"/>
                  </a:lnTo>
                  <a:lnTo>
                    <a:pt x="480" y="134"/>
                  </a:lnTo>
                  <a:lnTo>
                    <a:pt x="450" y="134"/>
                  </a:lnTo>
                  <a:lnTo>
                    <a:pt x="425" y="159"/>
                  </a:lnTo>
                  <a:lnTo>
                    <a:pt x="396" y="188"/>
                  </a:lnTo>
                  <a:lnTo>
                    <a:pt x="371" y="213"/>
                  </a:lnTo>
                  <a:lnTo>
                    <a:pt x="346" y="238"/>
                  </a:lnTo>
                  <a:lnTo>
                    <a:pt x="317" y="267"/>
                  </a:lnTo>
                  <a:lnTo>
                    <a:pt x="292" y="292"/>
                  </a:lnTo>
                  <a:lnTo>
                    <a:pt x="267" y="322"/>
                  </a:lnTo>
                  <a:lnTo>
                    <a:pt x="237" y="322"/>
                  </a:lnTo>
                  <a:lnTo>
                    <a:pt x="213" y="346"/>
                  </a:lnTo>
                  <a:lnTo>
                    <a:pt x="183" y="371"/>
                  </a:lnTo>
                  <a:lnTo>
                    <a:pt x="158" y="401"/>
                  </a:lnTo>
                  <a:lnTo>
                    <a:pt x="134" y="425"/>
                  </a:lnTo>
                  <a:lnTo>
                    <a:pt x="104" y="455"/>
                  </a:lnTo>
                  <a:lnTo>
                    <a:pt x="79" y="480"/>
                  </a:lnTo>
                  <a:lnTo>
                    <a:pt x="55" y="504"/>
                  </a:lnTo>
                  <a:lnTo>
                    <a:pt x="25" y="504"/>
                  </a:lnTo>
                  <a:lnTo>
                    <a:pt x="0" y="534"/>
                  </a:lnTo>
                  <a:lnTo>
                    <a:pt x="0" y="559"/>
                  </a:lnTo>
                  <a:lnTo>
                    <a:pt x="0" y="589"/>
                  </a:lnTo>
                  <a:lnTo>
                    <a:pt x="0" y="613"/>
                  </a:lnTo>
                  <a:lnTo>
                    <a:pt x="25" y="643"/>
                  </a:lnTo>
                  <a:lnTo>
                    <a:pt x="25" y="668"/>
                  </a:lnTo>
                  <a:lnTo>
                    <a:pt x="55" y="692"/>
                  </a:lnTo>
                  <a:lnTo>
                    <a:pt x="79" y="722"/>
                  </a:lnTo>
                  <a:lnTo>
                    <a:pt x="104" y="747"/>
                  </a:lnTo>
                  <a:lnTo>
                    <a:pt x="134" y="776"/>
                  </a:lnTo>
                  <a:lnTo>
                    <a:pt x="134" y="801"/>
                  </a:lnTo>
                  <a:lnTo>
                    <a:pt x="158" y="826"/>
                  </a:lnTo>
                  <a:lnTo>
                    <a:pt x="183" y="855"/>
                  </a:lnTo>
                  <a:lnTo>
                    <a:pt x="213" y="880"/>
                  </a:lnTo>
                  <a:lnTo>
                    <a:pt x="237" y="910"/>
                  </a:lnTo>
                  <a:lnTo>
                    <a:pt x="267" y="934"/>
                  </a:lnTo>
                  <a:lnTo>
                    <a:pt x="292" y="959"/>
                  </a:lnTo>
                  <a:lnTo>
                    <a:pt x="292" y="989"/>
                  </a:lnTo>
                  <a:lnTo>
                    <a:pt x="317" y="1014"/>
                  </a:lnTo>
                  <a:lnTo>
                    <a:pt x="346" y="1043"/>
                  </a:lnTo>
                  <a:lnTo>
                    <a:pt x="371" y="1068"/>
                  </a:lnTo>
                  <a:lnTo>
                    <a:pt x="396" y="1093"/>
                  </a:lnTo>
                  <a:lnTo>
                    <a:pt x="425" y="1122"/>
                  </a:lnTo>
                  <a:lnTo>
                    <a:pt x="450" y="1147"/>
                  </a:lnTo>
                  <a:lnTo>
                    <a:pt x="480" y="1177"/>
                  </a:lnTo>
                  <a:lnTo>
                    <a:pt x="505" y="1201"/>
                  </a:lnTo>
                  <a:lnTo>
                    <a:pt x="529" y="1226"/>
                  </a:lnTo>
                  <a:lnTo>
                    <a:pt x="559" y="1256"/>
                  </a:lnTo>
                  <a:lnTo>
                    <a:pt x="584" y="1280"/>
                  </a:lnTo>
                  <a:lnTo>
                    <a:pt x="613" y="1310"/>
                  </a:lnTo>
                  <a:lnTo>
                    <a:pt x="638" y="1335"/>
                  </a:lnTo>
                  <a:lnTo>
                    <a:pt x="663" y="1364"/>
                  </a:lnTo>
                  <a:lnTo>
                    <a:pt x="692" y="1389"/>
                  </a:lnTo>
                  <a:lnTo>
                    <a:pt x="717" y="1414"/>
                  </a:lnTo>
                  <a:lnTo>
                    <a:pt x="742" y="1444"/>
                  </a:lnTo>
                  <a:lnTo>
                    <a:pt x="772" y="1468"/>
                  </a:lnTo>
                  <a:lnTo>
                    <a:pt x="796" y="1468"/>
                  </a:lnTo>
                  <a:lnTo>
                    <a:pt x="826" y="1498"/>
                  </a:lnTo>
                  <a:lnTo>
                    <a:pt x="851" y="1523"/>
                  </a:lnTo>
                  <a:lnTo>
                    <a:pt x="875" y="1547"/>
                  </a:lnTo>
                  <a:lnTo>
                    <a:pt x="905" y="1577"/>
                  </a:lnTo>
                  <a:lnTo>
                    <a:pt x="930" y="1602"/>
                  </a:lnTo>
                  <a:lnTo>
                    <a:pt x="955" y="1631"/>
                  </a:lnTo>
                  <a:lnTo>
                    <a:pt x="984" y="1656"/>
                  </a:lnTo>
                  <a:lnTo>
                    <a:pt x="1009" y="1656"/>
                  </a:lnTo>
                  <a:lnTo>
                    <a:pt x="1039" y="1656"/>
                  </a:lnTo>
                  <a:lnTo>
                    <a:pt x="1063" y="1656"/>
                  </a:lnTo>
                  <a:lnTo>
                    <a:pt x="1088" y="1656"/>
                  </a:lnTo>
                  <a:lnTo>
                    <a:pt x="1118" y="1656"/>
                  </a:lnTo>
                  <a:lnTo>
                    <a:pt x="1143" y="1656"/>
                  </a:lnTo>
                  <a:lnTo>
                    <a:pt x="1172" y="1656"/>
                  </a:lnTo>
                  <a:lnTo>
                    <a:pt x="1197" y="1656"/>
                  </a:lnTo>
                  <a:lnTo>
                    <a:pt x="1222" y="1656"/>
                  </a:lnTo>
                  <a:lnTo>
                    <a:pt x="1251" y="1656"/>
                  </a:lnTo>
                  <a:lnTo>
                    <a:pt x="1276" y="1656"/>
                  </a:lnTo>
                  <a:lnTo>
                    <a:pt x="1301" y="1656"/>
                  </a:lnTo>
                  <a:lnTo>
                    <a:pt x="1330" y="1656"/>
                  </a:lnTo>
                  <a:lnTo>
                    <a:pt x="1355" y="1656"/>
                  </a:lnTo>
                  <a:lnTo>
                    <a:pt x="1385" y="1656"/>
                  </a:lnTo>
                  <a:lnTo>
                    <a:pt x="1410" y="1656"/>
                  </a:lnTo>
                  <a:lnTo>
                    <a:pt x="1434" y="1656"/>
                  </a:lnTo>
                  <a:lnTo>
                    <a:pt x="1464" y="1656"/>
                  </a:lnTo>
                  <a:lnTo>
                    <a:pt x="1489" y="1656"/>
                  </a:lnTo>
                  <a:lnTo>
                    <a:pt x="1513" y="1656"/>
                  </a:lnTo>
                  <a:lnTo>
                    <a:pt x="1543" y="1656"/>
                  </a:lnTo>
                  <a:lnTo>
                    <a:pt x="1568" y="1656"/>
                  </a:lnTo>
                  <a:lnTo>
                    <a:pt x="1598" y="1656"/>
                  </a:lnTo>
                  <a:lnTo>
                    <a:pt x="1622" y="1656"/>
                  </a:lnTo>
                  <a:lnTo>
                    <a:pt x="1647" y="1656"/>
                  </a:lnTo>
                  <a:lnTo>
                    <a:pt x="1677" y="1656"/>
                  </a:lnTo>
                  <a:lnTo>
                    <a:pt x="1701" y="1656"/>
                  </a:lnTo>
                  <a:lnTo>
                    <a:pt x="1726" y="1656"/>
                  </a:lnTo>
                  <a:lnTo>
                    <a:pt x="1756" y="1656"/>
                  </a:lnTo>
                  <a:lnTo>
                    <a:pt x="1780" y="1656"/>
                  </a:lnTo>
                  <a:lnTo>
                    <a:pt x="1810" y="1656"/>
                  </a:lnTo>
                  <a:lnTo>
                    <a:pt x="1835" y="1656"/>
                  </a:lnTo>
                  <a:lnTo>
                    <a:pt x="1860" y="1656"/>
                  </a:lnTo>
                  <a:lnTo>
                    <a:pt x="1889" y="1656"/>
                  </a:lnTo>
                  <a:lnTo>
                    <a:pt x="1914" y="1656"/>
                  </a:lnTo>
                  <a:lnTo>
                    <a:pt x="1944" y="1656"/>
                  </a:lnTo>
                  <a:lnTo>
                    <a:pt x="1968" y="1656"/>
                  </a:lnTo>
                  <a:lnTo>
                    <a:pt x="1993" y="1656"/>
                  </a:lnTo>
                  <a:lnTo>
                    <a:pt x="2023" y="1656"/>
                  </a:lnTo>
                  <a:lnTo>
                    <a:pt x="2048" y="1656"/>
                  </a:lnTo>
                  <a:lnTo>
                    <a:pt x="2072" y="1656"/>
                  </a:lnTo>
                  <a:lnTo>
                    <a:pt x="2102" y="1656"/>
                  </a:lnTo>
                  <a:lnTo>
                    <a:pt x="2127" y="1656"/>
                  </a:lnTo>
                  <a:lnTo>
                    <a:pt x="2156" y="1656"/>
                  </a:lnTo>
                  <a:lnTo>
                    <a:pt x="2181" y="1656"/>
                  </a:lnTo>
                  <a:lnTo>
                    <a:pt x="2206" y="1656"/>
                  </a:lnTo>
                  <a:lnTo>
                    <a:pt x="2235" y="1656"/>
                  </a:lnTo>
                  <a:close/>
                  <a:moveTo>
                    <a:pt x="1326" y="322"/>
                  </a:moveTo>
                  <a:lnTo>
                    <a:pt x="1335" y="317"/>
                  </a:lnTo>
                  <a:lnTo>
                    <a:pt x="1340" y="312"/>
                  </a:lnTo>
                  <a:lnTo>
                    <a:pt x="1340" y="307"/>
                  </a:lnTo>
                  <a:lnTo>
                    <a:pt x="1345" y="302"/>
                  </a:lnTo>
                  <a:lnTo>
                    <a:pt x="1345" y="297"/>
                  </a:lnTo>
                  <a:lnTo>
                    <a:pt x="1350" y="292"/>
                  </a:lnTo>
                  <a:lnTo>
                    <a:pt x="1350" y="287"/>
                  </a:lnTo>
                  <a:lnTo>
                    <a:pt x="1355" y="282"/>
                  </a:lnTo>
                  <a:lnTo>
                    <a:pt x="1360" y="277"/>
                  </a:lnTo>
                  <a:lnTo>
                    <a:pt x="1370" y="277"/>
                  </a:lnTo>
                  <a:lnTo>
                    <a:pt x="1380" y="277"/>
                  </a:lnTo>
                  <a:lnTo>
                    <a:pt x="1390" y="282"/>
                  </a:lnTo>
                  <a:lnTo>
                    <a:pt x="1400" y="282"/>
                  </a:lnTo>
                  <a:lnTo>
                    <a:pt x="1405" y="277"/>
                  </a:lnTo>
                  <a:lnTo>
                    <a:pt x="1410" y="277"/>
                  </a:lnTo>
                  <a:lnTo>
                    <a:pt x="1415" y="272"/>
                  </a:lnTo>
                  <a:lnTo>
                    <a:pt x="1419" y="267"/>
                  </a:lnTo>
                  <a:lnTo>
                    <a:pt x="1419" y="257"/>
                  </a:lnTo>
                  <a:lnTo>
                    <a:pt x="1424" y="252"/>
                  </a:lnTo>
                  <a:lnTo>
                    <a:pt x="1429" y="247"/>
                  </a:lnTo>
                  <a:lnTo>
                    <a:pt x="1434" y="247"/>
                  </a:lnTo>
                  <a:lnTo>
                    <a:pt x="1439" y="243"/>
                  </a:lnTo>
                  <a:lnTo>
                    <a:pt x="1449" y="243"/>
                  </a:lnTo>
                  <a:lnTo>
                    <a:pt x="1454" y="247"/>
                  </a:lnTo>
                  <a:lnTo>
                    <a:pt x="1464" y="247"/>
                  </a:lnTo>
                  <a:lnTo>
                    <a:pt x="1474" y="247"/>
                  </a:lnTo>
                  <a:lnTo>
                    <a:pt x="1484" y="243"/>
                  </a:lnTo>
                  <a:lnTo>
                    <a:pt x="1489" y="238"/>
                  </a:lnTo>
                  <a:lnTo>
                    <a:pt x="1489" y="233"/>
                  </a:lnTo>
                  <a:lnTo>
                    <a:pt x="1489" y="228"/>
                  </a:lnTo>
                  <a:lnTo>
                    <a:pt x="1489" y="223"/>
                  </a:lnTo>
                  <a:lnTo>
                    <a:pt x="1494" y="218"/>
                  </a:lnTo>
                  <a:lnTo>
                    <a:pt x="1504" y="218"/>
                  </a:lnTo>
                  <a:lnTo>
                    <a:pt x="1513" y="218"/>
                  </a:lnTo>
                  <a:lnTo>
                    <a:pt x="1523" y="218"/>
                  </a:lnTo>
                  <a:lnTo>
                    <a:pt x="1533" y="218"/>
                  </a:lnTo>
                  <a:lnTo>
                    <a:pt x="1538" y="218"/>
                  </a:lnTo>
                  <a:lnTo>
                    <a:pt x="1543" y="218"/>
                  </a:lnTo>
                  <a:lnTo>
                    <a:pt x="1548" y="213"/>
                  </a:lnTo>
                  <a:lnTo>
                    <a:pt x="1553" y="208"/>
                  </a:lnTo>
                  <a:lnTo>
                    <a:pt x="1558" y="198"/>
                  </a:lnTo>
                  <a:lnTo>
                    <a:pt x="1563" y="193"/>
                  </a:lnTo>
                  <a:lnTo>
                    <a:pt x="1563" y="188"/>
                  </a:lnTo>
                  <a:lnTo>
                    <a:pt x="1558" y="188"/>
                  </a:lnTo>
                  <a:lnTo>
                    <a:pt x="1553" y="183"/>
                  </a:lnTo>
                  <a:lnTo>
                    <a:pt x="1543" y="183"/>
                  </a:lnTo>
                  <a:lnTo>
                    <a:pt x="1533" y="183"/>
                  </a:lnTo>
                  <a:lnTo>
                    <a:pt x="1523" y="183"/>
                  </a:lnTo>
                  <a:lnTo>
                    <a:pt x="1518" y="183"/>
                  </a:lnTo>
                  <a:lnTo>
                    <a:pt x="1508" y="183"/>
                  </a:lnTo>
                  <a:lnTo>
                    <a:pt x="1499" y="183"/>
                  </a:lnTo>
                  <a:lnTo>
                    <a:pt x="1499" y="188"/>
                  </a:lnTo>
                  <a:lnTo>
                    <a:pt x="1494" y="198"/>
                  </a:lnTo>
                  <a:lnTo>
                    <a:pt x="1494" y="203"/>
                  </a:lnTo>
                  <a:lnTo>
                    <a:pt x="1494" y="208"/>
                  </a:lnTo>
                  <a:lnTo>
                    <a:pt x="1489" y="213"/>
                  </a:lnTo>
                  <a:lnTo>
                    <a:pt x="1479" y="213"/>
                  </a:lnTo>
                  <a:lnTo>
                    <a:pt x="1474" y="208"/>
                  </a:lnTo>
                  <a:lnTo>
                    <a:pt x="1464" y="208"/>
                  </a:lnTo>
                  <a:lnTo>
                    <a:pt x="1454" y="208"/>
                  </a:lnTo>
                  <a:lnTo>
                    <a:pt x="1444" y="208"/>
                  </a:lnTo>
                  <a:lnTo>
                    <a:pt x="1439" y="203"/>
                  </a:lnTo>
                  <a:lnTo>
                    <a:pt x="1434" y="198"/>
                  </a:lnTo>
                  <a:lnTo>
                    <a:pt x="1429" y="193"/>
                  </a:lnTo>
                  <a:lnTo>
                    <a:pt x="1429" y="188"/>
                  </a:lnTo>
                  <a:lnTo>
                    <a:pt x="1429" y="183"/>
                  </a:lnTo>
                  <a:lnTo>
                    <a:pt x="1429" y="178"/>
                  </a:lnTo>
                  <a:lnTo>
                    <a:pt x="1434" y="173"/>
                  </a:lnTo>
                  <a:lnTo>
                    <a:pt x="1444" y="173"/>
                  </a:lnTo>
                  <a:lnTo>
                    <a:pt x="1449" y="168"/>
                  </a:lnTo>
                  <a:lnTo>
                    <a:pt x="1459" y="168"/>
                  </a:lnTo>
                  <a:lnTo>
                    <a:pt x="1469" y="168"/>
                  </a:lnTo>
                  <a:lnTo>
                    <a:pt x="1479" y="163"/>
                  </a:lnTo>
                  <a:lnTo>
                    <a:pt x="1484" y="163"/>
                  </a:lnTo>
                  <a:lnTo>
                    <a:pt x="1489" y="159"/>
                  </a:lnTo>
                  <a:lnTo>
                    <a:pt x="1489" y="154"/>
                  </a:lnTo>
                  <a:lnTo>
                    <a:pt x="1489" y="149"/>
                  </a:lnTo>
                  <a:lnTo>
                    <a:pt x="1499" y="144"/>
                  </a:lnTo>
                  <a:lnTo>
                    <a:pt x="1504" y="144"/>
                  </a:lnTo>
                  <a:lnTo>
                    <a:pt x="1513" y="139"/>
                  </a:lnTo>
                  <a:lnTo>
                    <a:pt x="1523" y="139"/>
                  </a:lnTo>
                  <a:lnTo>
                    <a:pt x="1533" y="139"/>
                  </a:lnTo>
                  <a:lnTo>
                    <a:pt x="1538" y="139"/>
                  </a:lnTo>
                  <a:lnTo>
                    <a:pt x="1548" y="139"/>
                  </a:lnTo>
                  <a:lnTo>
                    <a:pt x="1553" y="134"/>
                  </a:lnTo>
                  <a:lnTo>
                    <a:pt x="1558" y="129"/>
                  </a:lnTo>
                  <a:lnTo>
                    <a:pt x="1558" y="124"/>
                  </a:lnTo>
                  <a:lnTo>
                    <a:pt x="1558" y="119"/>
                  </a:lnTo>
                  <a:lnTo>
                    <a:pt x="1553" y="114"/>
                  </a:lnTo>
                  <a:lnTo>
                    <a:pt x="1543" y="109"/>
                  </a:lnTo>
                  <a:lnTo>
                    <a:pt x="1538" y="104"/>
                  </a:lnTo>
                  <a:lnTo>
                    <a:pt x="1528" y="104"/>
                  </a:lnTo>
                  <a:lnTo>
                    <a:pt x="1518" y="104"/>
                  </a:lnTo>
                  <a:lnTo>
                    <a:pt x="1513" y="109"/>
                  </a:lnTo>
                  <a:lnTo>
                    <a:pt x="1508" y="114"/>
                  </a:lnTo>
                  <a:lnTo>
                    <a:pt x="1504" y="119"/>
                  </a:lnTo>
                  <a:lnTo>
                    <a:pt x="1499" y="124"/>
                  </a:lnTo>
                  <a:lnTo>
                    <a:pt x="1494" y="129"/>
                  </a:lnTo>
                  <a:lnTo>
                    <a:pt x="1489" y="134"/>
                  </a:lnTo>
                  <a:lnTo>
                    <a:pt x="1484" y="134"/>
                  </a:lnTo>
                  <a:lnTo>
                    <a:pt x="1474" y="134"/>
                  </a:lnTo>
                  <a:lnTo>
                    <a:pt x="1464" y="134"/>
                  </a:lnTo>
                  <a:lnTo>
                    <a:pt x="1459" y="129"/>
                  </a:lnTo>
                  <a:lnTo>
                    <a:pt x="1449" y="129"/>
                  </a:lnTo>
                  <a:lnTo>
                    <a:pt x="1444" y="124"/>
                  </a:lnTo>
                  <a:lnTo>
                    <a:pt x="1439" y="119"/>
                  </a:lnTo>
                  <a:lnTo>
                    <a:pt x="1439" y="114"/>
                  </a:lnTo>
                  <a:lnTo>
                    <a:pt x="1439" y="104"/>
                  </a:lnTo>
                  <a:lnTo>
                    <a:pt x="1439" y="99"/>
                  </a:lnTo>
                  <a:lnTo>
                    <a:pt x="1444" y="94"/>
                  </a:lnTo>
                  <a:lnTo>
                    <a:pt x="1449" y="94"/>
                  </a:lnTo>
                  <a:lnTo>
                    <a:pt x="1454" y="89"/>
                  </a:lnTo>
                  <a:lnTo>
                    <a:pt x="1464" y="84"/>
                  </a:lnTo>
                  <a:lnTo>
                    <a:pt x="1474" y="84"/>
                  </a:lnTo>
                  <a:lnTo>
                    <a:pt x="1479" y="79"/>
                  </a:lnTo>
                  <a:lnTo>
                    <a:pt x="1489" y="84"/>
                  </a:lnTo>
                  <a:lnTo>
                    <a:pt x="1499" y="84"/>
                  </a:lnTo>
                  <a:lnTo>
                    <a:pt x="1504" y="94"/>
                  </a:lnTo>
                  <a:lnTo>
                    <a:pt x="1508" y="99"/>
                  </a:lnTo>
                  <a:lnTo>
                    <a:pt x="1513" y="99"/>
                  </a:lnTo>
                  <a:lnTo>
                    <a:pt x="1518" y="104"/>
                  </a:lnTo>
                  <a:lnTo>
                    <a:pt x="1518" y="99"/>
                  </a:lnTo>
                  <a:lnTo>
                    <a:pt x="1518" y="94"/>
                  </a:lnTo>
                  <a:lnTo>
                    <a:pt x="1513" y="89"/>
                  </a:lnTo>
                  <a:lnTo>
                    <a:pt x="1518" y="79"/>
                  </a:lnTo>
                  <a:lnTo>
                    <a:pt x="1518" y="74"/>
                  </a:lnTo>
                  <a:lnTo>
                    <a:pt x="1523" y="70"/>
                  </a:lnTo>
                  <a:lnTo>
                    <a:pt x="1528" y="65"/>
                  </a:lnTo>
                  <a:lnTo>
                    <a:pt x="1538" y="60"/>
                  </a:lnTo>
                  <a:lnTo>
                    <a:pt x="1543" y="60"/>
                  </a:lnTo>
                  <a:lnTo>
                    <a:pt x="1553" y="60"/>
                  </a:lnTo>
                  <a:lnTo>
                    <a:pt x="1558" y="55"/>
                  </a:lnTo>
                  <a:lnTo>
                    <a:pt x="1568" y="55"/>
                  </a:lnTo>
                  <a:lnTo>
                    <a:pt x="1578" y="55"/>
                  </a:lnTo>
                  <a:lnTo>
                    <a:pt x="1588" y="55"/>
                  </a:lnTo>
                  <a:lnTo>
                    <a:pt x="1593" y="55"/>
                  </a:lnTo>
                  <a:lnTo>
                    <a:pt x="1598" y="50"/>
                  </a:lnTo>
                  <a:lnTo>
                    <a:pt x="1602" y="45"/>
                  </a:lnTo>
                  <a:lnTo>
                    <a:pt x="1607" y="40"/>
                  </a:lnTo>
                  <a:lnTo>
                    <a:pt x="1617" y="35"/>
                  </a:lnTo>
                  <a:lnTo>
                    <a:pt x="1622" y="35"/>
                  </a:lnTo>
                  <a:lnTo>
                    <a:pt x="1627" y="30"/>
                  </a:lnTo>
                  <a:lnTo>
                    <a:pt x="1637" y="30"/>
                  </a:lnTo>
                  <a:lnTo>
                    <a:pt x="1647" y="30"/>
                  </a:lnTo>
                  <a:lnTo>
                    <a:pt x="1657" y="30"/>
                  </a:lnTo>
                  <a:lnTo>
                    <a:pt x="1662" y="30"/>
                  </a:lnTo>
                  <a:lnTo>
                    <a:pt x="1672" y="35"/>
                  </a:lnTo>
                  <a:lnTo>
                    <a:pt x="1677" y="35"/>
                  </a:lnTo>
                  <a:lnTo>
                    <a:pt x="1682" y="40"/>
                  </a:lnTo>
                  <a:lnTo>
                    <a:pt x="1687" y="45"/>
                  </a:lnTo>
                  <a:lnTo>
                    <a:pt x="1696" y="50"/>
                  </a:lnTo>
                  <a:lnTo>
                    <a:pt x="1701" y="55"/>
                  </a:lnTo>
                  <a:lnTo>
                    <a:pt x="1706" y="55"/>
                  </a:lnTo>
                  <a:lnTo>
                    <a:pt x="1716" y="55"/>
                  </a:lnTo>
                  <a:lnTo>
                    <a:pt x="1726" y="55"/>
                  </a:lnTo>
                  <a:lnTo>
                    <a:pt x="1731" y="55"/>
                  </a:lnTo>
                  <a:lnTo>
                    <a:pt x="1741" y="55"/>
                  </a:lnTo>
                  <a:lnTo>
                    <a:pt x="1751" y="55"/>
                  </a:lnTo>
                  <a:lnTo>
                    <a:pt x="1756" y="60"/>
                  </a:lnTo>
                  <a:lnTo>
                    <a:pt x="1766" y="60"/>
                  </a:lnTo>
                  <a:lnTo>
                    <a:pt x="1776" y="60"/>
                  </a:lnTo>
                  <a:lnTo>
                    <a:pt x="1780" y="65"/>
                  </a:lnTo>
                  <a:lnTo>
                    <a:pt x="1790" y="65"/>
                  </a:lnTo>
                  <a:lnTo>
                    <a:pt x="1795" y="70"/>
                  </a:lnTo>
                  <a:lnTo>
                    <a:pt x="1800" y="74"/>
                  </a:lnTo>
                  <a:lnTo>
                    <a:pt x="1805" y="79"/>
                  </a:lnTo>
                  <a:lnTo>
                    <a:pt x="1810" y="84"/>
                  </a:lnTo>
                  <a:lnTo>
                    <a:pt x="1820" y="84"/>
                  </a:lnTo>
                  <a:lnTo>
                    <a:pt x="1825" y="84"/>
                  </a:lnTo>
                  <a:lnTo>
                    <a:pt x="1835" y="84"/>
                  </a:lnTo>
                  <a:lnTo>
                    <a:pt x="1845" y="84"/>
                  </a:lnTo>
                  <a:lnTo>
                    <a:pt x="1850" y="84"/>
                  </a:lnTo>
                  <a:lnTo>
                    <a:pt x="1860" y="84"/>
                  </a:lnTo>
                  <a:lnTo>
                    <a:pt x="1870" y="84"/>
                  </a:lnTo>
                  <a:lnTo>
                    <a:pt x="1879" y="89"/>
                  </a:lnTo>
                  <a:lnTo>
                    <a:pt x="1884" y="89"/>
                  </a:lnTo>
                  <a:lnTo>
                    <a:pt x="1894" y="89"/>
                  </a:lnTo>
                  <a:lnTo>
                    <a:pt x="1899" y="94"/>
                  </a:lnTo>
                  <a:lnTo>
                    <a:pt x="1904" y="99"/>
                  </a:lnTo>
                  <a:lnTo>
                    <a:pt x="1909" y="104"/>
                  </a:lnTo>
                  <a:lnTo>
                    <a:pt x="1914" y="109"/>
                  </a:lnTo>
                  <a:lnTo>
                    <a:pt x="1919" y="114"/>
                  </a:lnTo>
                  <a:lnTo>
                    <a:pt x="1924" y="114"/>
                  </a:lnTo>
                  <a:lnTo>
                    <a:pt x="1934" y="114"/>
                  </a:lnTo>
                  <a:lnTo>
                    <a:pt x="1944" y="114"/>
                  </a:lnTo>
                  <a:lnTo>
                    <a:pt x="1954" y="114"/>
                  </a:lnTo>
                  <a:lnTo>
                    <a:pt x="1959" y="114"/>
                  </a:lnTo>
                  <a:lnTo>
                    <a:pt x="1968" y="114"/>
                  </a:lnTo>
                  <a:lnTo>
                    <a:pt x="1978" y="114"/>
                  </a:lnTo>
                  <a:lnTo>
                    <a:pt x="1988" y="114"/>
                  </a:lnTo>
                  <a:lnTo>
                    <a:pt x="1993" y="119"/>
                  </a:lnTo>
                  <a:lnTo>
                    <a:pt x="1998" y="119"/>
                  </a:lnTo>
                  <a:lnTo>
                    <a:pt x="2008" y="124"/>
                  </a:lnTo>
                  <a:lnTo>
                    <a:pt x="2008" y="129"/>
                  </a:lnTo>
                  <a:lnTo>
                    <a:pt x="2013" y="134"/>
                  </a:lnTo>
                  <a:lnTo>
                    <a:pt x="2018" y="139"/>
                  </a:lnTo>
                  <a:lnTo>
                    <a:pt x="2023" y="144"/>
                  </a:lnTo>
                  <a:lnTo>
                    <a:pt x="2028" y="149"/>
                  </a:lnTo>
                  <a:lnTo>
                    <a:pt x="2038" y="149"/>
                  </a:lnTo>
                  <a:lnTo>
                    <a:pt x="2043" y="149"/>
                  </a:lnTo>
                  <a:lnTo>
                    <a:pt x="2052" y="149"/>
                  </a:lnTo>
                  <a:lnTo>
                    <a:pt x="2062" y="154"/>
                  </a:lnTo>
                  <a:lnTo>
                    <a:pt x="2067" y="154"/>
                  </a:lnTo>
                  <a:lnTo>
                    <a:pt x="2077" y="154"/>
                  </a:lnTo>
                  <a:lnTo>
                    <a:pt x="2087" y="154"/>
                  </a:lnTo>
                  <a:lnTo>
                    <a:pt x="2097" y="154"/>
                  </a:lnTo>
                  <a:lnTo>
                    <a:pt x="2102" y="159"/>
                  </a:lnTo>
                  <a:lnTo>
                    <a:pt x="2102" y="163"/>
                  </a:lnTo>
                  <a:lnTo>
                    <a:pt x="2097" y="168"/>
                  </a:lnTo>
                  <a:lnTo>
                    <a:pt x="2092" y="173"/>
                  </a:lnTo>
                  <a:lnTo>
                    <a:pt x="2092" y="178"/>
                  </a:lnTo>
                  <a:lnTo>
                    <a:pt x="2087" y="183"/>
                  </a:lnTo>
                  <a:lnTo>
                    <a:pt x="2082" y="188"/>
                  </a:lnTo>
                  <a:lnTo>
                    <a:pt x="2082" y="193"/>
                  </a:lnTo>
                  <a:lnTo>
                    <a:pt x="2077" y="198"/>
                  </a:lnTo>
                  <a:lnTo>
                    <a:pt x="2077" y="203"/>
                  </a:lnTo>
                  <a:lnTo>
                    <a:pt x="2072" y="208"/>
                  </a:lnTo>
                  <a:lnTo>
                    <a:pt x="2067" y="213"/>
                  </a:lnTo>
                  <a:lnTo>
                    <a:pt x="2067" y="218"/>
                  </a:lnTo>
                  <a:lnTo>
                    <a:pt x="2062" y="223"/>
                  </a:lnTo>
                  <a:lnTo>
                    <a:pt x="2057" y="228"/>
                  </a:lnTo>
                  <a:lnTo>
                    <a:pt x="2057" y="233"/>
                  </a:lnTo>
                  <a:lnTo>
                    <a:pt x="2052" y="238"/>
                  </a:lnTo>
                  <a:lnTo>
                    <a:pt x="2048" y="243"/>
                  </a:lnTo>
                  <a:lnTo>
                    <a:pt x="2048" y="247"/>
                  </a:lnTo>
                  <a:lnTo>
                    <a:pt x="2043" y="252"/>
                  </a:lnTo>
                  <a:lnTo>
                    <a:pt x="2043" y="262"/>
                  </a:lnTo>
                  <a:lnTo>
                    <a:pt x="2038" y="262"/>
                  </a:lnTo>
                  <a:lnTo>
                    <a:pt x="2033" y="267"/>
                  </a:lnTo>
                  <a:lnTo>
                    <a:pt x="2023" y="272"/>
                  </a:lnTo>
                  <a:lnTo>
                    <a:pt x="2018" y="267"/>
                  </a:lnTo>
                  <a:lnTo>
                    <a:pt x="2013" y="262"/>
                  </a:lnTo>
                  <a:lnTo>
                    <a:pt x="2008" y="257"/>
                  </a:lnTo>
                  <a:lnTo>
                    <a:pt x="1998" y="252"/>
                  </a:lnTo>
                  <a:lnTo>
                    <a:pt x="1993" y="252"/>
                  </a:lnTo>
                  <a:lnTo>
                    <a:pt x="1983" y="252"/>
                  </a:lnTo>
                  <a:lnTo>
                    <a:pt x="1973" y="252"/>
                  </a:lnTo>
                  <a:lnTo>
                    <a:pt x="1968" y="252"/>
                  </a:lnTo>
                  <a:lnTo>
                    <a:pt x="1963" y="247"/>
                  </a:lnTo>
                  <a:lnTo>
                    <a:pt x="1959" y="243"/>
                  </a:lnTo>
                  <a:lnTo>
                    <a:pt x="1954" y="238"/>
                  </a:lnTo>
                  <a:lnTo>
                    <a:pt x="1949" y="233"/>
                  </a:lnTo>
                  <a:lnTo>
                    <a:pt x="1939" y="233"/>
                  </a:lnTo>
                  <a:lnTo>
                    <a:pt x="1934" y="233"/>
                  </a:lnTo>
                  <a:lnTo>
                    <a:pt x="1929" y="238"/>
                  </a:lnTo>
                  <a:lnTo>
                    <a:pt x="1919" y="243"/>
                  </a:lnTo>
                  <a:lnTo>
                    <a:pt x="1919" y="247"/>
                  </a:lnTo>
                  <a:lnTo>
                    <a:pt x="1914" y="247"/>
                  </a:lnTo>
                  <a:lnTo>
                    <a:pt x="1909" y="243"/>
                  </a:lnTo>
                  <a:lnTo>
                    <a:pt x="1904" y="233"/>
                  </a:lnTo>
                  <a:lnTo>
                    <a:pt x="1909" y="228"/>
                  </a:lnTo>
                  <a:lnTo>
                    <a:pt x="1909" y="223"/>
                  </a:lnTo>
                  <a:lnTo>
                    <a:pt x="1914" y="218"/>
                  </a:lnTo>
                  <a:lnTo>
                    <a:pt x="1914" y="213"/>
                  </a:lnTo>
                  <a:lnTo>
                    <a:pt x="1909" y="208"/>
                  </a:lnTo>
                  <a:lnTo>
                    <a:pt x="1899" y="208"/>
                  </a:lnTo>
                  <a:lnTo>
                    <a:pt x="1894" y="203"/>
                  </a:lnTo>
                  <a:lnTo>
                    <a:pt x="1884" y="208"/>
                  </a:lnTo>
                  <a:lnTo>
                    <a:pt x="1879" y="208"/>
                  </a:lnTo>
                  <a:lnTo>
                    <a:pt x="1874" y="218"/>
                  </a:lnTo>
                  <a:lnTo>
                    <a:pt x="1870" y="223"/>
                  </a:lnTo>
                  <a:lnTo>
                    <a:pt x="1865" y="228"/>
                  </a:lnTo>
                  <a:lnTo>
                    <a:pt x="1860" y="228"/>
                  </a:lnTo>
                  <a:lnTo>
                    <a:pt x="1855" y="228"/>
                  </a:lnTo>
                  <a:lnTo>
                    <a:pt x="1845" y="223"/>
                  </a:lnTo>
                  <a:lnTo>
                    <a:pt x="1840" y="218"/>
                  </a:lnTo>
                  <a:lnTo>
                    <a:pt x="1840" y="213"/>
                  </a:lnTo>
                  <a:lnTo>
                    <a:pt x="1840" y="208"/>
                  </a:lnTo>
                  <a:lnTo>
                    <a:pt x="1845" y="203"/>
                  </a:lnTo>
                  <a:lnTo>
                    <a:pt x="1850" y="198"/>
                  </a:lnTo>
                  <a:lnTo>
                    <a:pt x="1860" y="198"/>
                  </a:lnTo>
                  <a:lnTo>
                    <a:pt x="1865" y="193"/>
                  </a:lnTo>
                  <a:lnTo>
                    <a:pt x="1865" y="188"/>
                  </a:lnTo>
                  <a:lnTo>
                    <a:pt x="1860" y="183"/>
                  </a:lnTo>
                  <a:lnTo>
                    <a:pt x="1850" y="178"/>
                  </a:lnTo>
                  <a:lnTo>
                    <a:pt x="1845" y="178"/>
                  </a:lnTo>
                  <a:lnTo>
                    <a:pt x="1835" y="178"/>
                  </a:lnTo>
                  <a:lnTo>
                    <a:pt x="1825" y="183"/>
                  </a:lnTo>
                  <a:lnTo>
                    <a:pt x="1820" y="183"/>
                  </a:lnTo>
                  <a:lnTo>
                    <a:pt x="1815" y="188"/>
                  </a:lnTo>
                  <a:lnTo>
                    <a:pt x="1810" y="193"/>
                  </a:lnTo>
                  <a:lnTo>
                    <a:pt x="1805" y="198"/>
                  </a:lnTo>
                  <a:lnTo>
                    <a:pt x="1800" y="203"/>
                  </a:lnTo>
                  <a:lnTo>
                    <a:pt x="1790" y="203"/>
                  </a:lnTo>
                  <a:lnTo>
                    <a:pt x="1780" y="203"/>
                  </a:lnTo>
                  <a:lnTo>
                    <a:pt x="1776" y="203"/>
                  </a:lnTo>
                  <a:lnTo>
                    <a:pt x="1766" y="203"/>
                  </a:lnTo>
                  <a:lnTo>
                    <a:pt x="1761" y="198"/>
                  </a:lnTo>
                  <a:lnTo>
                    <a:pt x="1756" y="193"/>
                  </a:lnTo>
                  <a:lnTo>
                    <a:pt x="1756" y="183"/>
                  </a:lnTo>
                  <a:lnTo>
                    <a:pt x="1756" y="178"/>
                  </a:lnTo>
                  <a:lnTo>
                    <a:pt x="1756" y="168"/>
                  </a:lnTo>
                  <a:lnTo>
                    <a:pt x="1756" y="168"/>
                  </a:lnTo>
                  <a:lnTo>
                    <a:pt x="1751" y="168"/>
                  </a:lnTo>
                  <a:lnTo>
                    <a:pt x="1751" y="168"/>
                  </a:lnTo>
                  <a:lnTo>
                    <a:pt x="1741" y="173"/>
                  </a:lnTo>
                  <a:lnTo>
                    <a:pt x="1736" y="178"/>
                  </a:lnTo>
                  <a:lnTo>
                    <a:pt x="1726" y="183"/>
                  </a:lnTo>
                  <a:lnTo>
                    <a:pt x="1716" y="183"/>
                  </a:lnTo>
                  <a:lnTo>
                    <a:pt x="1711" y="178"/>
                  </a:lnTo>
                  <a:lnTo>
                    <a:pt x="1701" y="178"/>
                  </a:lnTo>
                  <a:lnTo>
                    <a:pt x="1696" y="173"/>
                  </a:lnTo>
                  <a:lnTo>
                    <a:pt x="1691" y="168"/>
                  </a:lnTo>
                  <a:lnTo>
                    <a:pt x="1687" y="163"/>
                  </a:lnTo>
                  <a:lnTo>
                    <a:pt x="1682" y="159"/>
                  </a:lnTo>
                  <a:lnTo>
                    <a:pt x="1672" y="159"/>
                  </a:lnTo>
                  <a:lnTo>
                    <a:pt x="1667" y="154"/>
                  </a:lnTo>
                  <a:lnTo>
                    <a:pt x="1657" y="154"/>
                  </a:lnTo>
                  <a:lnTo>
                    <a:pt x="1647" y="154"/>
                  </a:lnTo>
                  <a:lnTo>
                    <a:pt x="1637" y="154"/>
                  </a:lnTo>
                  <a:lnTo>
                    <a:pt x="1632" y="159"/>
                  </a:lnTo>
                  <a:lnTo>
                    <a:pt x="1627" y="163"/>
                  </a:lnTo>
                  <a:lnTo>
                    <a:pt x="1622" y="168"/>
                  </a:lnTo>
                  <a:lnTo>
                    <a:pt x="1622" y="168"/>
                  </a:lnTo>
                  <a:lnTo>
                    <a:pt x="1617" y="159"/>
                  </a:lnTo>
                  <a:lnTo>
                    <a:pt x="1612" y="159"/>
                  </a:lnTo>
                  <a:lnTo>
                    <a:pt x="1602" y="154"/>
                  </a:lnTo>
                  <a:lnTo>
                    <a:pt x="1593" y="159"/>
                  </a:lnTo>
                  <a:lnTo>
                    <a:pt x="1583" y="159"/>
                  </a:lnTo>
                  <a:lnTo>
                    <a:pt x="1578" y="159"/>
                  </a:lnTo>
                  <a:lnTo>
                    <a:pt x="1573" y="163"/>
                  </a:lnTo>
                  <a:lnTo>
                    <a:pt x="1568" y="173"/>
                  </a:lnTo>
                  <a:lnTo>
                    <a:pt x="1568" y="178"/>
                  </a:lnTo>
                  <a:lnTo>
                    <a:pt x="1573" y="183"/>
                  </a:lnTo>
                  <a:lnTo>
                    <a:pt x="1578" y="188"/>
                  </a:lnTo>
                  <a:lnTo>
                    <a:pt x="1583" y="188"/>
                  </a:lnTo>
                  <a:lnTo>
                    <a:pt x="1593" y="188"/>
                  </a:lnTo>
                  <a:lnTo>
                    <a:pt x="1602" y="188"/>
                  </a:lnTo>
                  <a:lnTo>
                    <a:pt x="1612" y="188"/>
                  </a:lnTo>
                  <a:lnTo>
                    <a:pt x="1617" y="188"/>
                  </a:lnTo>
                  <a:lnTo>
                    <a:pt x="1627" y="193"/>
                  </a:lnTo>
                  <a:lnTo>
                    <a:pt x="1632" y="193"/>
                  </a:lnTo>
                  <a:lnTo>
                    <a:pt x="1637" y="198"/>
                  </a:lnTo>
                  <a:lnTo>
                    <a:pt x="1637" y="208"/>
                  </a:lnTo>
                  <a:lnTo>
                    <a:pt x="1642" y="213"/>
                  </a:lnTo>
                  <a:lnTo>
                    <a:pt x="1647" y="218"/>
                  </a:lnTo>
                  <a:lnTo>
                    <a:pt x="1652" y="218"/>
                  </a:lnTo>
                  <a:lnTo>
                    <a:pt x="1657" y="223"/>
                  </a:lnTo>
                  <a:lnTo>
                    <a:pt x="1662" y="228"/>
                  </a:lnTo>
                  <a:lnTo>
                    <a:pt x="1667" y="233"/>
                  </a:lnTo>
                  <a:lnTo>
                    <a:pt x="1672" y="238"/>
                  </a:lnTo>
                  <a:lnTo>
                    <a:pt x="1672" y="243"/>
                  </a:lnTo>
                  <a:lnTo>
                    <a:pt x="1677" y="247"/>
                  </a:lnTo>
                  <a:lnTo>
                    <a:pt x="1682" y="252"/>
                  </a:lnTo>
                  <a:lnTo>
                    <a:pt x="1691" y="257"/>
                  </a:lnTo>
                  <a:lnTo>
                    <a:pt x="1696" y="262"/>
                  </a:lnTo>
                  <a:lnTo>
                    <a:pt x="1696" y="267"/>
                  </a:lnTo>
                  <a:lnTo>
                    <a:pt x="1691" y="272"/>
                  </a:lnTo>
                  <a:lnTo>
                    <a:pt x="1687" y="277"/>
                  </a:lnTo>
                  <a:lnTo>
                    <a:pt x="1677" y="277"/>
                  </a:lnTo>
                  <a:lnTo>
                    <a:pt x="1672" y="277"/>
                  </a:lnTo>
                  <a:lnTo>
                    <a:pt x="1667" y="272"/>
                  </a:lnTo>
                  <a:lnTo>
                    <a:pt x="1662" y="267"/>
                  </a:lnTo>
                  <a:lnTo>
                    <a:pt x="1657" y="262"/>
                  </a:lnTo>
                  <a:lnTo>
                    <a:pt x="1652" y="257"/>
                  </a:lnTo>
                  <a:lnTo>
                    <a:pt x="1647" y="257"/>
                  </a:lnTo>
                  <a:lnTo>
                    <a:pt x="1642" y="252"/>
                  </a:lnTo>
                  <a:lnTo>
                    <a:pt x="1637" y="247"/>
                  </a:lnTo>
                  <a:lnTo>
                    <a:pt x="1632" y="243"/>
                  </a:lnTo>
                  <a:lnTo>
                    <a:pt x="1627" y="238"/>
                  </a:lnTo>
                  <a:lnTo>
                    <a:pt x="1622" y="233"/>
                  </a:lnTo>
                  <a:lnTo>
                    <a:pt x="1617" y="228"/>
                  </a:lnTo>
                  <a:lnTo>
                    <a:pt x="1607" y="228"/>
                  </a:lnTo>
                  <a:lnTo>
                    <a:pt x="1602" y="233"/>
                  </a:lnTo>
                  <a:lnTo>
                    <a:pt x="1593" y="233"/>
                  </a:lnTo>
                  <a:lnTo>
                    <a:pt x="1583" y="233"/>
                  </a:lnTo>
                  <a:lnTo>
                    <a:pt x="1573" y="233"/>
                  </a:lnTo>
                  <a:lnTo>
                    <a:pt x="1568" y="233"/>
                  </a:lnTo>
                  <a:lnTo>
                    <a:pt x="1563" y="238"/>
                  </a:lnTo>
                  <a:lnTo>
                    <a:pt x="1558" y="243"/>
                  </a:lnTo>
                  <a:lnTo>
                    <a:pt x="1553" y="247"/>
                  </a:lnTo>
                  <a:lnTo>
                    <a:pt x="1548" y="252"/>
                  </a:lnTo>
                  <a:lnTo>
                    <a:pt x="1538" y="252"/>
                  </a:lnTo>
                  <a:lnTo>
                    <a:pt x="1533" y="257"/>
                  </a:lnTo>
                  <a:lnTo>
                    <a:pt x="1523" y="257"/>
                  </a:lnTo>
                  <a:lnTo>
                    <a:pt x="1513" y="257"/>
                  </a:lnTo>
                  <a:lnTo>
                    <a:pt x="1504" y="257"/>
                  </a:lnTo>
                  <a:lnTo>
                    <a:pt x="1494" y="252"/>
                  </a:lnTo>
                  <a:lnTo>
                    <a:pt x="1489" y="252"/>
                  </a:lnTo>
                  <a:lnTo>
                    <a:pt x="1489" y="257"/>
                  </a:lnTo>
                  <a:lnTo>
                    <a:pt x="1489" y="262"/>
                  </a:lnTo>
                  <a:lnTo>
                    <a:pt x="1489" y="267"/>
                  </a:lnTo>
                  <a:lnTo>
                    <a:pt x="1484" y="272"/>
                  </a:lnTo>
                  <a:lnTo>
                    <a:pt x="1474" y="277"/>
                  </a:lnTo>
                  <a:lnTo>
                    <a:pt x="1469" y="282"/>
                  </a:lnTo>
                  <a:lnTo>
                    <a:pt x="1459" y="282"/>
                  </a:lnTo>
                  <a:lnTo>
                    <a:pt x="1449" y="282"/>
                  </a:lnTo>
                  <a:lnTo>
                    <a:pt x="1439" y="282"/>
                  </a:lnTo>
                  <a:lnTo>
                    <a:pt x="1434" y="287"/>
                  </a:lnTo>
                  <a:lnTo>
                    <a:pt x="1429" y="292"/>
                  </a:lnTo>
                  <a:lnTo>
                    <a:pt x="1424" y="297"/>
                  </a:lnTo>
                  <a:lnTo>
                    <a:pt x="1419" y="302"/>
                  </a:lnTo>
                  <a:lnTo>
                    <a:pt x="1410" y="302"/>
                  </a:lnTo>
                  <a:lnTo>
                    <a:pt x="1405" y="307"/>
                  </a:lnTo>
                  <a:lnTo>
                    <a:pt x="1395" y="307"/>
                  </a:lnTo>
                  <a:lnTo>
                    <a:pt x="1390" y="307"/>
                  </a:lnTo>
                  <a:lnTo>
                    <a:pt x="1380" y="307"/>
                  </a:lnTo>
                  <a:lnTo>
                    <a:pt x="1370" y="307"/>
                  </a:lnTo>
                  <a:lnTo>
                    <a:pt x="1360" y="307"/>
                  </a:lnTo>
                  <a:lnTo>
                    <a:pt x="1355" y="307"/>
                  </a:lnTo>
                  <a:lnTo>
                    <a:pt x="1345" y="312"/>
                  </a:lnTo>
                  <a:lnTo>
                    <a:pt x="1340" y="317"/>
                  </a:lnTo>
                  <a:lnTo>
                    <a:pt x="1335" y="317"/>
                  </a:lnTo>
                  <a:lnTo>
                    <a:pt x="1326" y="322"/>
                  </a:lnTo>
                  <a:close/>
                  <a:moveTo>
                    <a:pt x="1360" y="213"/>
                  </a:moveTo>
                  <a:lnTo>
                    <a:pt x="1365" y="203"/>
                  </a:lnTo>
                  <a:lnTo>
                    <a:pt x="1370" y="198"/>
                  </a:lnTo>
                  <a:lnTo>
                    <a:pt x="1380" y="193"/>
                  </a:lnTo>
                  <a:lnTo>
                    <a:pt x="1390" y="193"/>
                  </a:lnTo>
                  <a:lnTo>
                    <a:pt x="1400" y="198"/>
                  </a:lnTo>
                  <a:lnTo>
                    <a:pt x="1405" y="203"/>
                  </a:lnTo>
                  <a:lnTo>
                    <a:pt x="1410" y="213"/>
                  </a:lnTo>
                  <a:lnTo>
                    <a:pt x="1405" y="218"/>
                  </a:lnTo>
                  <a:lnTo>
                    <a:pt x="1400" y="228"/>
                  </a:lnTo>
                  <a:lnTo>
                    <a:pt x="1390" y="233"/>
                  </a:lnTo>
                  <a:lnTo>
                    <a:pt x="1380" y="233"/>
                  </a:lnTo>
                  <a:lnTo>
                    <a:pt x="1370" y="228"/>
                  </a:lnTo>
                  <a:lnTo>
                    <a:pt x="1365" y="223"/>
                  </a:lnTo>
                  <a:lnTo>
                    <a:pt x="1360" y="213"/>
                  </a:lnTo>
                  <a:close/>
                  <a:moveTo>
                    <a:pt x="999" y="188"/>
                  </a:moveTo>
                  <a:lnTo>
                    <a:pt x="1004" y="183"/>
                  </a:lnTo>
                  <a:lnTo>
                    <a:pt x="1004" y="178"/>
                  </a:lnTo>
                  <a:lnTo>
                    <a:pt x="1009" y="178"/>
                  </a:lnTo>
                  <a:lnTo>
                    <a:pt x="1014" y="178"/>
                  </a:lnTo>
                  <a:lnTo>
                    <a:pt x="1014" y="183"/>
                  </a:lnTo>
                  <a:lnTo>
                    <a:pt x="1019" y="183"/>
                  </a:lnTo>
                  <a:lnTo>
                    <a:pt x="1019" y="188"/>
                  </a:lnTo>
                  <a:lnTo>
                    <a:pt x="1019" y="193"/>
                  </a:lnTo>
                  <a:lnTo>
                    <a:pt x="1014" y="193"/>
                  </a:lnTo>
                  <a:lnTo>
                    <a:pt x="1009" y="198"/>
                  </a:lnTo>
                  <a:lnTo>
                    <a:pt x="1009" y="198"/>
                  </a:lnTo>
                  <a:lnTo>
                    <a:pt x="1004" y="193"/>
                  </a:lnTo>
                  <a:lnTo>
                    <a:pt x="1004" y="193"/>
                  </a:lnTo>
                  <a:lnTo>
                    <a:pt x="999" y="188"/>
                  </a:lnTo>
                  <a:close/>
                  <a:moveTo>
                    <a:pt x="1192" y="188"/>
                  </a:moveTo>
                  <a:lnTo>
                    <a:pt x="1197" y="183"/>
                  </a:lnTo>
                  <a:lnTo>
                    <a:pt x="1202" y="178"/>
                  </a:lnTo>
                  <a:lnTo>
                    <a:pt x="1207" y="178"/>
                  </a:lnTo>
                  <a:lnTo>
                    <a:pt x="1217" y="173"/>
                  </a:lnTo>
                  <a:lnTo>
                    <a:pt x="1222" y="173"/>
                  </a:lnTo>
                  <a:lnTo>
                    <a:pt x="1227" y="173"/>
                  </a:lnTo>
                  <a:lnTo>
                    <a:pt x="1232" y="178"/>
                  </a:lnTo>
                  <a:lnTo>
                    <a:pt x="1236" y="183"/>
                  </a:lnTo>
                  <a:lnTo>
                    <a:pt x="1236" y="188"/>
                  </a:lnTo>
                  <a:lnTo>
                    <a:pt x="1236" y="193"/>
                  </a:lnTo>
                  <a:lnTo>
                    <a:pt x="1236" y="198"/>
                  </a:lnTo>
                  <a:lnTo>
                    <a:pt x="1232" y="203"/>
                  </a:lnTo>
                  <a:lnTo>
                    <a:pt x="1227" y="203"/>
                  </a:lnTo>
                  <a:lnTo>
                    <a:pt x="1222" y="208"/>
                  </a:lnTo>
                  <a:lnTo>
                    <a:pt x="1217" y="203"/>
                  </a:lnTo>
                  <a:lnTo>
                    <a:pt x="1207" y="203"/>
                  </a:lnTo>
                  <a:lnTo>
                    <a:pt x="1202" y="198"/>
                  </a:lnTo>
                  <a:lnTo>
                    <a:pt x="1197" y="193"/>
                  </a:lnTo>
                  <a:lnTo>
                    <a:pt x="1197" y="188"/>
                  </a:lnTo>
                  <a:lnTo>
                    <a:pt x="1192" y="188"/>
                  </a:lnTo>
                  <a:close/>
                  <a:moveTo>
                    <a:pt x="1276" y="159"/>
                  </a:moveTo>
                  <a:lnTo>
                    <a:pt x="1286" y="149"/>
                  </a:lnTo>
                  <a:lnTo>
                    <a:pt x="1291" y="144"/>
                  </a:lnTo>
                  <a:lnTo>
                    <a:pt x="1301" y="139"/>
                  </a:lnTo>
                  <a:lnTo>
                    <a:pt x="1311" y="144"/>
                  </a:lnTo>
                  <a:lnTo>
                    <a:pt x="1316" y="149"/>
                  </a:lnTo>
                  <a:lnTo>
                    <a:pt x="1321" y="154"/>
                  </a:lnTo>
                  <a:lnTo>
                    <a:pt x="1326" y="163"/>
                  </a:lnTo>
                  <a:lnTo>
                    <a:pt x="1321" y="173"/>
                  </a:lnTo>
                  <a:lnTo>
                    <a:pt x="1311" y="178"/>
                  </a:lnTo>
                  <a:lnTo>
                    <a:pt x="1306" y="183"/>
                  </a:lnTo>
                  <a:lnTo>
                    <a:pt x="1296" y="183"/>
                  </a:lnTo>
                  <a:lnTo>
                    <a:pt x="1291" y="178"/>
                  </a:lnTo>
                  <a:lnTo>
                    <a:pt x="1286" y="173"/>
                  </a:lnTo>
                  <a:lnTo>
                    <a:pt x="1276" y="159"/>
                  </a:lnTo>
                  <a:close/>
                  <a:moveTo>
                    <a:pt x="1810" y="159"/>
                  </a:moveTo>
                  <a:lnTo>
                    <a:pt x="1805" y="159"/>
                  </a:lnTo>
                  <a:lnTo>
                    <a:pt x="1800" y="154"/>
                  </a:lnTo>
                  <a:lnTo>
                    <a:pt x="1795" y="154"/>
                  </a:lnTo>
                  <a:lnTo>
                    <a:pt x="1785" y="154"/>
                  </a:lnTo>
                  <a:lnTo>
                    <a:pt x="1780" y="154"/>
                  </a:lnTo>
                  <a:lnTo>
                    <a:pt x="1771" y="154"/>
                  </a:lnTo>
                  <a:lnTo>
                    <a:pt x="1761" y="159"/>
                  </a:lnTo>
                  <a:lnTo>
                    <a:pt x="1756" y="159"/>
                  </a:lnTo>
                  <a:lnTo>
                    <a:pt x="1756" y="159"/>
                  </a:lnTo>
                  <a:lnTo>
                    <a:pt x="1761" y="163"/>
                  </a:lnTo>
                  <a:lnTo>
                    <a:pt x="1766" y="163"/>
                  </a:lnTo>
                  <a:lnTo>
                    <a:pt x="1771" y="168"/>
                  </a:lnTo>
                  <a:lnTo>
                    <a:pt x="1780" y="168"/>
                  </a:lnTo>
                  <a:lnTo>
                    <a:pt x="1790" y="168"/>
                  </a:lnTo>
                  <a:lnTo>
                    <a:pt x="1795" y="173"/>
                  </a:lnTo>
                  <a:lnTo>
                    <a:pt x="1805" y="173"/>
                  </a:lnTo>
                  <a:lnTo>
                    <a:pt x="1810" y="173"/>
                  </a:lnTo>
                  <a:lnTo>
                    <a:pt x="1810" y="168"/>
                  </a:lnTo>
                  <a:lnTo>
                    <a:pt x="1810" y="163"/>
                  </a:lnTo>
                  <a:lnTo>
                    <a:pt x="1810" y="159"/>
                  </a:lnTo>
                  <a:close/>
                  <a:moveTo>
                    <a:pt x="1360" y="134"/>
                  </a:moveTo>
                  <a:lnTo>
                    <a:pt x="1365" y="124"/>
                  </a:lnTo>
                  <a:lnTo>
                    <a:pt x="1370" y="119"/>
                  </a:lnTo>
                  <a:lnTo>
                    <a:pt x="1375" y="114"/>
                  </a:lnTo>
                  <a:lnTo>
                    <a:pt x="1385" y="114"/>
                  </a:lnTo>
                  <a:lnTo>
                    <a:pt x="1400" y="109"/>
                  </a:lnTo>
                  <a:lnTo>
                    <a:pt x="1410" y="114"/>
                  </a:lnTo>
                  <a:lnTo>
                    <a:pt x="1419" y="119"/>
                  </a:lnTo>
                  <a:lnTo>
                    <a:pt x="1429" y="124"/>
                  </a:lnTo>
                  <a:lnTo>
                    <a:pt x="1434" y="129"/>
                  </a:lnTo>
                  <a:lnTo>
                    <a:pt x="1434" y="134"/>
                  </a:lnTo>
                  <a:lnTo>
                    <a:pt x="1429" y="144"/>
                  </a:lnTo>
                  <a:lnTo>
                    <a:pt x="1424" y="149"/>
                  </a:lnTo>
                  <a:lnTo>
                    <a:pt x="1415" y="154"/>
                  </a:lnTo>
                  <a:lnTo>
                    <a:pt x="1400" y="159"/>
                  </a:lnTo>
                  <a:lnTo>
                    <a:pt x="1390" y="159"/>
                  </a:lnTo>
                  <a:lnTo>
                    <a:pt x="1380" y="159"/>
                  </a:lnTo>
                  <a:lnTo>
                    <a:pt x="1375" y="154"/>
                  </a:lnTo>
                  <a:lnTo>
                    <a:pt x="1365" y="149"/>
                  </a:lnTo>
                  <a:lnTo>
                    <a:pt x="1360" y="144"/>
                  </a:lnTo>
                  <a:lnTo>
                    <a:pt x="1360" y="134"/>
                  </a:lnTo>
                  <a:close/>
                  <a:moveTo>
                    <a:pt x="1756" y="134"/>
                  </a:moveTo>
                  <a:lnTo>
                    <a:pt x="1751" y="129"/>
                  </a:lnTo>
                  <a:lnTo>
                    <a:pt x="1746" y="129"/>
                  </a:lnTo>
                  <a:lnTo>
                    <a:pt x="1736" y="129"/>
                  </a:lnTo>
                  <a:lnTo>
                    <a:pt x="1726" y="129"/>
                  </a:lnTo>
                  <a:lnTo>
                    <a:pt x="1721" y="124"/>
                  </a:lnTo>
                  <a:lnTo>
                    <a:pt x="1716" y="124"/>
                  </a:lnTo>
                  <a:lnTo>
                    <a:pt x="1711" y="119"/>
                  </a:lnTo>
                  <a:lnTo>
                    <a:pt x="1711" y="114"/>
                  </a:lnTo>
                  <a:lnTo>
                    <a:pt x="1706" y="109"/>
                  </a:lnTo>
                  <a:lnTo>
                    <a:pt x="1701" y="104"/>
                  </a:lnTo>
                  <a:lnTo>
                    <a:pt x="1691" y="104"/>
                  </a:lnTo>
                  <a:lnTo>
                    <a:pt x="1687" y="99"/>
                  </a:lnTo>
                  <a:lnTo>
                    <a:pt x="1677" y="99"/>
                  </a:lnTo>
                  <a:lnTo>
                    <a:pt x="1672" y="99"/>
                  </a:lnTo>
                  <a:lnTo>
                    <a:pt x="1667" y="94"/>
                  </a:lnTo>
                  <a:lnTo>
                    <a:pt x="1662" y="89"/>
                  </a:lnTo>
                  <a:lnTo>
                    <a:pt x="1657" y="84"/>
                  </a:lnTo>
                  <a:lnTo>
                    <a:pt x="1652" y="79"/>
                  </a:lnTo>
                  <a:lnTo>
                    <a:pt x="1647" y="79"/>
                  </a:lnTo>
                  <a:lnTo>
                    <a:pt x="1642" y="74"/>
                  </a:lnTo>
                  <a:lnTo>
                    <a:pt x="1632" y="74"/>
                  </a:lnTo>
                  <a:lnTo>
                    <a:pt x="1627" y="79"/>
                  </a:lnTo>
                  <a:lnTo>
                    <a:pt x="1617" y="79"/>
                  </a:lnTo>
                  <a:lnTo>
                    <a:pt x="1607" y="79"/>
                  </a:lnTo>
                  <a:lnTo>
                    <a:pt x="1607" y="79"/>
                  </a:lnTo>
                  <a:lnTo>
                    <a:pt x="1607" y="84"/>
                  </a:lnTo>
                  <a:lnTo>
                    <a:pt x="1607" y="89"/>
                  </a:lnTo>
                  <a:lnTo>
                    <a:pt x="1612" y="94"/>
                  </a:lnTo>
                  <a:lnTo>
                    <a:pt x="1617" y="99"/>
                  </a:lnTo>
                  <a:lnTo>
                    <a:pt x="1622" y="104"/>
                  </a:lnTo>
                  <a:lnTo>
                    <a:pt x="1627" y="109"/>
                  </a:lnTo>
                  <a:lnTo>
                    <a:pt x="1637" y="109"/>
                  </a:lnTo>
                  <a:lnTo>
                    <a:pt x="1647" y="109"/>
                  </a:lnTo>
                  <a:lnTo>
                    <a:pt x="1652" y="109"/>
                  </a:lnTo>
                  <a:lnTo>
                    <a:pt x="1662" y="109"/>
                  </a:lnTo>
                  <a:lnTo>
                    <a:pt x="1667" y="109"/>
                  </a:lnTo>
                  <a:lnTo>
                    <a:pt x="1677" y="114"/>
                  </a:lnTo>
                  <a:lnTo>
                    <a:pt x="1682" y="114"/>
                  </a:lnTo>
                  <a:lnTo>
                    <a:pt x="1687" y="119"/>
                  </a:lnTo>
                  <a:lnTo>
                    <a:pt x="1691" y="124"/>
                  </a:lnTo>
                  <a:lnTo>
                    <a:pt x="1696" y="129"/>
                  </a:lnTo>
                  <a:lnTo>
                    <a:pt x="1701" y="134"/>
                  </a:lnTo>
                  <a:lnTo>
                    <a:pt x="1701" y="139"/>
                  </a:lnTo>
                  <a:lnTo>
                    <a:pt x="1711" y="139"/>
                  </a:lnTo>
                  <a:lnTo>
                    <a:pt x="1716" y="139"/>
                  </a:lnTo>
                  <a:lnTo>
                    <a:pt x="1726" y="139"/>
                  </a:lnTo>
                  <a:lnTo>
                    <a:pt x="1736" y="144"/>
                  </a:lnTo>
                  <a:lnTo>
                    <a:pt x="1741" y="144"/>
                  </a:lnTo>
                  <a:lnTo>
                    <a:pt x="1746" y="149"/>
                  </a:lnTo>
                  <a:lnTo>
                    <a:pt x="1751" y="154"/>
                  </a:lnTo>
                  <a:lnTo>
                    <a:pt x="1756" y="159"/>
                  </a:lnTo>
                  <a:lnTo>
                    <a:pt x="1756" y="159"/>
                  </a:lnTo>
                  <a:lnTo>
                    <a:pt x="1756" y="154"/>
                  </a:lnTo>
                  <a:lnTo>
                    <a:pt x="1756" y="149"/>
                  </a:lnTo>
                  <a:lnTo>
                    <a:pt x="1756" y="144"/>
                  </a:lnTo>
                  <a:lnTo>
                    <a:pt x="1756" y="134"/>
                  </a:lnTo>
                  <a:close/>
                  <a:moveTo>
                    <a:pt x="1622" y="104"/>
                  </a:moveTo>
                  <a:lnTo>
                    <a:pt x="1617" y="99"/>
                  </a:lnTo>
                  <a:lnTo>
                    <a:pt x="1607" y="89"/>
                  </a:lnTo>
                  <a:lnTo>
                    <a:pt x="1602" y="84"/>
                  </a:lnTo>
                  <a:lnTo>
                    <a:pt x="1598" y="84"/>
                  </a:lnTo>
                  <a:lnTo>
                    <a:pt x="1593" y="84"/>
                  </a:lnTo>
                  <a:lnTo>
                    <a:pt x="1588" y="89"/>
                  </a:lnTo>
                  <a:lnTo>
                    <a:pt x="1583" y="94"/>
                  </a:lnTo>
                  <a:lnTo>
                    <a:pt x="1573" y="99"/>
                  </a:lnTo>
                  <a:lnTo>
                    <a:pt x="1563" y="104"/>
                  </a:lnTo>
                  <a:lnTo>
                    <a:pt x="1553" y="104"/>
                  </a:lnTo>
                  <a:lnTo>
                    <a:pt x="1543" y="104"/>
                  </a:lnTo>
                  <a:lnTo>
                    <a:pt x="1548" y="109"/>
                  </a:lnTo>
                  <a:lnTo>
                    <a:pt x="1558" y="114"/>
                  </a:lnTo>
                  <a:lnTo>
                    <a:pt x="1568" y="119"/>
                  </a:lnTo>
                  <a:lnTo>
                    <a:pt x="1578" y="119"/>
                  </a:lnTo>
                  <a:lnTo>
                    <a:pt x="1588" y="114"/>
                  </a:lnTo>
                  <a:lnTo>
                    <a:pt x="1593" y="114"/>
                  </a:lnTo>
                  <a:lnTo>
                    <a:pt x="1602" y="109"/>
                  </a:lnTo>
                  <a:lnTo>
                    <a:pt x="1612" y="109"/>
                  </a:lnTo>
                  <a:lnTo>
                    <a:pt x="1622" y="104"/>
                  </a:lnTo>
                  <a:close/>
                </a:path>
              </a:pathLst>
            </a:custGeom>
            <a:solidFill>
              <a:srgbClr val="ffd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7" name=""/>
            <p:cNvSpPr/>
            <p:nvPr/>
          </p:nvSpPr>
          <p:spPr>
            <a:xfrm>
              <a:off x="2265120" y="2368440"/>
              <a:ext cx="4098960" cy="2628360"/>
            </a:xfrm>
            <a:custGeom>
              <a:avLst/>
              <a:gdLst/>
              <a:ahLst/>
              <a:rect l="l" t="t" r="r" b="b"/>
              <a:pathLst>
                <a:path w="2582" h="1656">
                  <a:moveTo>
                    <a:pt x="2235" y="1656"/>
                  </a:moveTo>
                  <a:lnTo>
                    <a:pt x="2260" y="1631"/>
                  </a:lnTo>
                  <a:lnTo>
                    <a:pt x="2285" y="1631"/>
                  </a:lnTo>
                  <a:lnTo>
                    <a:pt x="2315" y="1631"/>
                  </a:lnTo>
                  <a:lnTo>
                    <a:pt x="2339" y="1631"/>
                  </a:lnTo>
                  <a:lnTo>
                    <a:pt x="2369" y="1631"/>
                  </a:lnTo>
                  <a:lnTo>
                    <a:pt x="2394" y="1631"/>
                  </a:lnTo>
                  <a:lnTo>
                    <a:pt x="2418" y="1631"/>
                  </a:lnTo>
                  <a:lnTo>
                    <a:pt x="2448" y="1602"/>
                  </a:lnTo>
                  <a:lnTo>
                    <a:pt x="2448" y="1577"/>
                  </a:lnTo>
                  <a:lnTo>
                    <a:pt x="2448" y="1547"/>
                  </a:lnTo>
                  <a:lnTo>
                    <a:pt x="2448" y="1523"/>
                  </a:lnTo>
                  <a:lnTo>
                    <a:pt x="2473" y="1498"/>
                  </a:lnTo>
                  <a:lnTo>
                    <a:pt x="2473" y="1468"/>
                  </a:lnTo>
                  <a:lnTo>
                    <a:pt x="2473" y="1444"/>
                  </a:lnTo>
                  <a:lnTo>
                    <a:pt x="2473" y="1414"/>
                  </a:lnTo>
                  <a:lnTo>
                    <a:pt x="2503" y="1389"/>
                  </a:lnTo>
                  <a:lnTo>
                    <a:pt x="2503" y="1364"/>
                  </a:lnTo>
                  <a:lnTo>
                    <a:pt x="2503" y="1335"/>
                  </a:lnTo>
                  <a:lnTo>
                    <a:pt x="2503" y="1310"/>
                  </a:lnTo>
                  <a:lnTo>
                    <a:pt x="2527" y="1280"/>
                  </a:lnTo>
                  <a:lnTo>
                    <a:pt x="2527" y="1256"/>
                  </a:lnTo>
                  <a:lnTo>
                    <a:pt x="2527" y="1226"/>
                  </a:lnTo>
                  <a:lnTo>
                    <a:pt x="2527" y="1201"/>
                  </a:lnTo>
                  <a:lnTo>
                    <a:pt x="2552" y="1177"/>
                  </a:lnTo>
                  <a:lnTo>
                    <a:pt x="2552" y="1147"/>
                  </a:lnTo>
                  <a:lnTo>
                    <a:pt x="2552" y="1122"/>
                  </a:lnTo>
                  <a:lnTo>
                    <a:pt x="2552" y="1093"/>
                  </a:lnTo>
                  <a:lnTo>
                    <a:pt x="2582" y="1068"/>
                  </a:lnTo>
                  <a:lnTo>
                    <a:pt x="2582" y="1043"/>
                  </a:lnTo>
                  <a:lnTo>
                    <a:pt x="2582" y="1014"/>
                  </a:lnTo>
                  <a:lnTo>
                    <a:pt x="2582" y="989"/>
                  </a:lnTo>
                  <a:lnTo>
                    <a:pt x="2582" y="959"/>
                  </a:lnTo>
                  <a:lnTo>
                    <a:pt x="2582" y="934"/>
                  </a:lnTo>
                  <a:lnTo>
                    <a:pt x="2582" y="910"/>
                  </a:lnTo>
                  <a:lnTo>
                    <a:pt x="2582" y="880"/>
                  </a:lnTo>
                  <a:lnTo>
                    <a:pt x="2582" y="855"/>
                  </a:lnTo>
                  <a:lnTo>
                    <a:pt x="2582" y="826"/>
                  </a:lnTo>
                  <a:lnTo>
                    <a:pt x="2582" y="801"/>
                  </a:lnTo>
                  <a:lnTo>
                    <a:pt x="2582" y="776"/>
                  </a:lnTo>
                  <a:lnTo>
                    <a:pt x="2582" y="747"/>
                  </a:lnTo>
                  <a:lnTo>
                    <a:pt x="2582" y="722"/>
                  </a:lnTo>
                  <a:lnTo>
                    <a:pt x="2582" y="692"/>
                  </a:lnTo>
                  <a:lnTo>
                    <a:pt x="2582" y="668"/>
                  </a:lnTo>
                  <a:lnTo>
                    <a:pt x="2582" y="643"/>
                  </a:lnTo>
                  <a:lnTo>
                    <a:pt x="2582" y="613"/>
                  </a:lnTo>
                  <a:lnTo>
                    <a:pt x="2582" y="589"/>
                  </a:lnTo>
                  <a:lnTo>
                    <a:pt x="2582" y="559"/>
                  </a:lnTo>
                  <a:lnTo>
                    <a:pt x="2582" y="534"/>
                  </a:lnTo>
                  <a:lnTo>
                    <a:pt x="2582" y="504"/>
                  </a:lnTo>
                  <a:lnTo>
                    <a:pt x="2582" y="480"/>
                  </a:lnTo>
                  <a:lnTo>
                    <a:pt x="2582" y="455"/>
                  </a:lnTo>
                  <a:lnTo>
                    <a:pt x="2582" y="425"/>
                  </a:lnTo>
                  <a:lnTo>
                    <a:pt x="2582" y="401"/>
                  </a:lnTo>
                  <a:lnTo>
                    <a:pt x="2582" y="371"/>
                  </a:lnTo>
                  <a:lnTo>
                    <a:pt x="2582" y="346"/>
                  </a:lnTo>
                  <a:lnTo>
                    <a:pt x="2582" y="322"/>
                  </a:lnTo>
                  <a:lnTo>
                    <a:pt x="2582" y="292"/>
                  </a:lnTo>
                  <a:lnTo>
                    <a:pt x="2582" y="267"/>
                  </a:lnTo>
                  <a:lnTo>
                    <a:pt x="2582" y="238"/>
                  </a:lnTo>
                  <a:lnTo>
                    <a:pt x="2552" y="213"/>
                  </a:lnTo>
                  <a:lnTo>
                    <a:pt x="2552" y="188"/>
                  </a:lnTo>
                  <a:lnTo>
                    <a:pt x="2552" y="159"/>
                  </a:lnTo>
                  <a:lnTo>
                    <a:pt x="2552" y="134"/>
                  </a:lnTo>
                  <a:lnTo>
                    <a:pt x="2552" y="104"/>
                  </a:lnTo>
                  <a:lnTo>
                    <a:pt x="2527" y="79"/>
                  </a:lnTo>
                  <a:lnTo>
                    <a:pt x="2503" y="79"/>
                  </a:lnTo>
                  <a:lnTo>
                    <a:pt x="2473" y="79"/>
                  </a:lnTo>
                  <a:lnTo>
                    <a:pt x="2448" y="55"/>
                  </a:lnTo>
                  <a:lnTo>
                    <a:pt x="2418" y="55"/>
                  </a:lnTo>
                  <a:lnTo>
                    <a:pt x="2394" y="55"/>
                  </a:lnTo>
                  <a:lnTo>
                    <a:pt x="2369" y="25"/>
                  </a:lnTo>
                  <a:lnTo>
                    <a:pt x="2339" y="25"/>
                  </a:lnTo>
                  <a:lnTo>
                    <a:pt x="2315" y="25"/>
                  </a:lnTo>
                  <a:lnTo>
                    <a:pt x="2285" y="0"/>
                  </a:lnTo>
                  <a:lnTo>
                    <a:pt x="2260" y="0"/>
                  </a:lnTo>
                  <a:lnTo>
                    <a:pt x="2235" y="0"/>
                  </a:lnTo>
                  <a:lnTo>
                    <a:pt x="2206" y="0"/>
                  </a:lnTo>
                  <a:lnTo>
                    <a:pt x="2181" y="0"/>
                  </a:lnTo>
                  <a:lnTo>
                    <a:pt x="2156" y="0"/>
                  </a:lnTo>
                  <a:lnTo>
                    <a:pt x="2127" y="0"/>
                  </a:lnTo>
                  <a:lnTo>
                    <a:pt x="2102" y="0"/>
                  </a:lnTo>
                  <a:lnTo>
                    <a:pt x="2072" y="0"/>
                  </a:lnTo>
                  <a:lnTo>
                    <a:pt x="2048" y="0"/>
                  </a:lnTo>
                  <a:lnTo>
                    <a:pt x="2023" y="0"/>
                  </a:lnTo>
                  <a:lnTo>
                    <a:pt x="1993" y="0"/>
                  </a:lnTo>
                  <a:lnTo>
                    <a:pt x="1968" y="0"/>
                  </a:lnTo>
                  <a:lnTo>
                    <a:pt x="1944" y="0"/>
                  </a:lnTo>
                  <a:lnTo>
                    <a:pt x="1914" y="0"/>
                  </a:lnTo>
                  <a:lnTo>
                    <a:pt x="1889" y="0"/>
                  </a:lnTo>
                  <a:lnTo>
                    <a:pt x="1860" y="0"/>
                  </a:lnTo>
                  <a:lnTo>
                    <a:pt x="1835" y="0"/>
                  </a:lnTo>
                  <a:lnTo>
                    <a:pt x="1810" y="0"/>
                  </a:lnTo>
                  <a:lnTo>
                    <a:pt x="1780" y="0"/>
                  </a:lnTo>
                  <a:lnTo>
                    <a:pt x="1756" y="0"/>
                  </a:lnTo>
                  <a:lnTo>
                    <a:pt x="1726" y="0"/>
                  </a:lnTo>
                  <a:lnTo>
                    <a:pt x="1701" y="0"/>
                  </a:lnTo>
                  <a:lnTo>
                    <a:pt x="1677" y="0"/>
                  </a:lnTo>
                  <a:lnTo>
                    <a:pt x="1647" y="0"/>
                  </a:lnTo>
                  <a:lnTo>
                    <a:pt x="1622" y="0"/>
                  </a:lnTo>
                  <a:lnTo>
                    <a:pt x="1598" y="0"/>
                  </a:lnTo>
                  <a:lnTo>
                    <a:pt x="1568" y="0"/>
                  </a:lnTo>
                  <a:lnTo>
                    <a:pt x="1543" y="0"/>
                  </a:lnTo>
                  <a:lnTo>
                    <a:pt x="1513" y="0"/>
                  </a:lnTo>
                  <a:lnTo>
                    <a:pt x="1489" y="0"/>
                  </a:lnTo>
                  <a:lnTo>
                    <a:pt x="1464" y="0"/>
                  </a:lnTo>
                  <a:lnTo>
                    <a:pt x="1434" y="0"/>
                  </a:lnTo>
                  <a:lnTo>
                    <a:pt x="1410" y="0"/>
                  </a:lnTo>
                  <a:lnTo>
                    <a:pt x="1385" y="0"/>
                  </a:lnTo>
                  <a:lnTo>
                    <a:pt x="1355" y="0"/>
                  </a:lnTo>
                  <a:lnTo>
                    <a:pt x="1330" y="0"/>
                  </a:lnTo>
                  <a:lnTo>
                    <a:pt x="1301" y="0"/>
                  </a:lnTo>
                  <a:lnTo>
                    <a:pt x="1276" y="0"/>
                  </a:lnTo>
                  <a:lnTo>
                    <a:pt x="1251" y="0"/>
                  </a:lnTo>
                  <a:lnTo>
                    <a:pt x="1222" y="0"/>
                  </a:lnTo>
                  <a:lnTo>
                    <a:pt x="1197" y="0"/>
                  </a:lnTo>
                  <a:lnTo>
                    <a:pt x="1172" y="0"/>
                  </a:lnTo>
                  <a:lnTo>
                    <a:pt x="1143" y="0"/>
                  </a:lnTo>
                  <a:lnTo>
                    <a:pt x="1118" y="0"/>
                  </a:lnTo>
                  <a:lnTo>
                    <a:pt x="1088" y="0"/>
                  </a:lnTo>
                  <a:lnTo>
                    <a:pt x="1063" y="0"/>
                  </a:lnTo>
                  <a:lnTo>
                    <a:pt x="1039" y="0"/>
                  </a:lnTo>
                  <a:lnTo>
                    <a:pt x="1009" y="0"/>
                  </a:lnTo>
                  <a:lnTo>
                    <a:pt x="984" y="0"/>
                  </a:lnTo>
                  <a:lnTo>
                    <a:pt x="955" y="0"/>
                  </a:lnTo>
                  <a:lnTo>
                    <a:pt x="930" y="0"/>
                  </a:lnTo>
                  <a:lnTo>
                    <a:pt x="905" y="0"/>
                  </a:lnTo>
                  <a:lnTo>
                    <a:pt x="875" y="0"/>
                  </a:lnTo>
                  <a:lnTo>
                    <a:pt x="851" y="0"/>
                  </a:lnTo>
                  <a:lnTo>
                    <a:pt x="826" y="0"/>
                  </a:lnTo>
                  <a:lnTo>
                    <a:pt x="796" y="0"/>
                  </a:lnTo>
                  <a:lnTo>
                    <a:pt x="772" y="0"/>
                  </a:lnTo>
                  <a:lnTo>
                    <a:pt x="742" y="0"/>
                  </a:lnTo>
                  <a:lnTo>
                    <a:pt x="717" y="0"/>
                  </a:lnTo>
                  <a:lnTo>
                    <a:pt x="692" y="0"/>
                  </a:lnTo>
                  <a:lnTo>
                    <a:pt x="663" y="0"/>
                  </a:lnTo>
                  <a:lnTo>
                    <a:pt x="638" y="0"/>
                  </a:lnTo>
                  <a:lnTo>
                    <a:pt x="613" y="0"/>
                  </a:lnTo>
                  <a:lnTo>
                    <a:pt x="584" y="25"/>
                  </a:lnTo>
                  <a:lnTo>
                    <a:pt x="559" y="55"/>
                  </a:lnTo>
                  <a:lnTo>
                    <a:pt x="529" y="79"/>
                  </a:lnTo>
                  <a:lnTo>
                    <a:pt x="505" y="104"/>
                  </a:lnTo>
                  <a:lnTo>
                    <a:pt x="480" y="134"/>
                  </a:lnTo>
                  <a:lnTo>
                    <a:pt x="450" y="134"/>
                  </a:lnTo>
                  <a:lnTo>
                    <a:pt x="425" y="159"/>
                  </a:lnTo>
                  <a:lnTo>
                    <a:pt x="396" y="188"/>
                  </a:lnTo>
                  <a:lnTo>
                    <a:pt x="371" y="213"/>
                  </a:lnTo>
                  <a:lnTo>
                    <a:pt x="346" y="238"/>
                  </a:lnTo>
                  <a:lnTo>
                    <a:pt x="317" y="267"/>
                  </a:lnTo>
                  <a:lnTo>
                    <a:pt x="292" y="292"/>
                  </a:lnTo>
                  <a:lnTo>
                    <a:pt x="267" y="322"/>
                  </a:lnTo>
                  <a:lnTo>
                    <a:pt x="237" y="322"/>
                  </a:lnTo>
                  <a:lnTo>
                    <a:pt x="213" y="346"/>
                  </a:lnTo>
                  <a:lnTo>
                    <a:pt x="183" y="371"/>
                  </a:lnTo>
                  <a:lnTo>
                    <a:pt x="158" y="401"/>
                  </a:lnTo>
                  <a:lnTo>
                    <a:pt x="134" y="425"/>
                  </a:lnTo>
                  <a:lnTo>
                    <a:pt x="104" y="455"/>
                  </a:lnTo>
                  <a:lnTo>
                    <a:pt x="79" y="480"/>
                  </a:lnTo>
                  <a:lnTo>
                    <a:pt x="55" y="504"/>
                  </a:lnTo>
                  <a:lnTo>
                    <a:pt x="25" y="504"/>
                  </a:lnTo>
                  <a:lnTo>
                    <a:pt x="0" y="534"/>
                  </a:lnTo>
                  <a:lnTo>
                    <a:pt x="0" y="559"/>
                  </a:lnTo>
                  <a:lnTo>
                    <a:pt x="0" y="589"/>
                  </a:lnTo>
                  <a:lnTo>
                    <a:pt x="0" y="613"/>
                  </a:lnTo>
                  <a:lnTo>
                    <a:pt x="25" y="643"/>
                  </a:lnTo>
                  <a:lnTo>
                    <a:pt x="25" y="668"/>
                  </a:lnTo>
                  <a:lnTo>
                    <a:pt x="55" y="692"/>
                  </a:lnTo>
                  <a:lnTo>
                    <a:pt x="79" y="722"/>
                  </a:lnTo>
                  <a:lnTo>
                    <a:pt x="104" y="747"/>
                  </a:lnTo>
                  <a:lnTo>
                    <a:pt x="134" y="776"/>
                  </a:lnTo>
                  <a:lnTo>
                    <a:pt x="134" y="801"/>
                  </a:lnTo>
                  <a:lnTo>
                    <a:pt x="158" y="826"/>
                  </a:lnTo>
                  <a:lnTo>
                    <a:pt x="183" y="855"/>
                  </a:lnTo>
                  <a:lnTo>
                    <a:pt x="213" y="880"/>
                  </a:lnTo>
                  <a:lnTo>
                    <a:pt x="237" y="910"/>
                  </a:lnTo>
                  <a:lnTo>
                    <a:pt x="267" y="934"/>
                  </a:lnTo>
                  <a:lnTo>
                    <a:pt x="292" y="959"/>
                  </a:lnTo>
                  <a:lnTo>
                    <a:pt x="292" y="989"/>
                  </a:lnTo>
                  <a:lnTo>
                    <a:pt x="317" y="1014"/>
                  </a:lnTo>
                  <a:lnTo>
                    <a:pt x="346" y="1043"/>
                  </a:lnTo>
                  <a:lnTo>
                    <a:pt x="371" y="1068"/>
                  </a:lnTo>
                  <a:lnTo>
                    <a:pt x="396" y="1093"/>
                  </a:lnTo>
                  <a:lnTo>
                    <a:pt x="425" y="1122"/>
                  </a:lnTo>
                  <a:lnTo>
                    <a:pt x="450" y="1147"/>
                  </a:lnTo>
                  <a:lnTo>
                    <a:pt x="480" y="1177"/>
                  </a:lnTo>
                  <a:lnTo>
                    <a:pt x="505" y="1201"/>
                  </a:lnTo>
                  <a:lnTo>
                    <a:pt x="529" y="1226"/>
                  </a:lnTo>
                  <a:lnTo>
                    <a:pt x="559" y="1256"/>
                  </a:lnTo>
                  <a:lnTo>
                    <a:pt x="584" y="1280"/>
                  </a:lnTo>
                  <a:lnTo>
                    <a:pt x="613" y="1310"/>
                  </a:lnTo>
                  <a:lnTo>
                    <a:pt x="638" y="1335"/>
                  </a:lnTo>
                  <a:lnTo>
                    <a:pt x="663" y="1364"/>
                  </a:lnTo>
                  <a:lnTo>
                    <a:pt x="692" y="1389"/>
                  </a:lnTo>
                  <a:lnTo>
                    <a:pt x="717" y="1414"/>
                  </a:lnTo>
                  <a:lnTo>
                    <a:pt x="742" y="1444"/>
                  </a:lnTo>
                  <a:lnTo>
                    <a:pt x="772" y="1468"/>
                  </a:lnTo>
                  <a:lnTo>
                    <a:pt x="796" y="1468"/>
                  </a:lnTo>
                  <a:lnTo>
                    <a:pt x="826" y="1498"/>
                  </a:lnTo>
                  <a:lnTo>
                    <a:pt x="851" y="1523"/>
                  </a:lnTo>
                  <a:lnTo>
                    <a:pt x="875" y="1547"/>
                  </a:lnTo>
                  <a:lnTo>
                    <a:pt x="905" y="1577"/>
                  </a:lnTo>
                  <a:lnTo>
                    <a:pt x="930" y="1602"/>
                  </a:lnTo>
                  <a:lnTo>
                    <a:pt x="955" y="1631"/>
                  </a:lnTo>
                  <a:lnTo>
                    <a:pt x="984" y="1656"/>
                  </a:lnTo>
                  <a:lnTo>
                    <a:pt x="1009" y="1656"/>
                  </a:lnTo>
                  <a:lnTo>
                    <a:pt x="1039" y="1656"/>
                  </a:lnTo>
                  <a:lnTo>
                    <a:pt x="1063" y="1656"/>
                  </a:lnTo>
                  <a:lnTo>
                    <a:pt x="1088" y="1656"/>
                  </a:lnTo>
                  <a:lnTo>
                    <a:pt x="1118" y="1656"/>
                  </a:lnTo>
                  <a:lnTo>
                    <a:pt x="1143" y="1656"/>
                  </a:lnTo>
                  <a:lnTo>
                    <a:pt x="1172" y="1656"/>
                  </a:lnTo>
                  <a:lnTo>
                    <a:pt x="1197" y="1656"/>
                  </a:lnTo>
                  <a:lnTo>
                    <a:pt x="1222" y="1656"/>
                  </a:lnTo>
                  <a:lnTo>
                    <a:pt x="1251" y="1656"/>
                  </a:lnTo>
                  <a:lnTo>
                    <a:pt x="1276" y="1656"/>
                  </a:lnTo>
                  <a:lnTo>
                    <a:pt x="1301" y="1656"/>
                  </a:lnTo>
                  <a:lnTo>
                    <a:pt x="1330" y="1656"/>
                  </a:lnTo>
                  <a:lnTo>
                    <a:pt x="1355" y="1656"/>
                  </a:lnTo>
                  <a:lnTo>
                    <a:pt x="1385" y="1656"/>
                  </a:lnTo>
                  <a:lnTo>
                    <a:pt x="1410" y="1656"/>
                  </a:lnTo>
                  <a:lnTo>
                    <a:pt x="1434" y="1656"/>
                  </a:lnTo>
                  <a:lnTo>
                    <a:pt x="1464" y="1656"/>
                  </a:lnTo>
                  <a:lnTo>
                    <a:pt x="1489" y="1656"/>
                  </a:lnTo>
                  <a:lnTo>
                    <a:pt x="1513" y="1656"/>
                  </a:lnTo>
                  <a:lnTo>
                    <a:pt x="1543" y="1656"/>
                  </a:lnTo>
                  <a:lnTo>
                    <a:pt x="1568" y="1656"/>
                  </a:lnTo>
                  <a:lnTo>
                    <a:pt x="1598" y="1656"/>
                  </a:lnTo>
                  <a:lnTo>
                    <a:pt x="1622" y="1656"/>
                  </a:lnTo>
                  <a:lnTo>
                    <a:pt x="1647" y="1656"/>
                  </a:lnTo>
                  <a:lnTo>
                    <a:pt x="1677" y="1656"/>
                  </a:lnTo>
                  <a:lnTo>
                    <a:pt x="1701" y="1656"/>
                  </a:lnTo>
                  <a:lnTo>
                    <a:pt x="1726" y="1656"/>
                  </a:lnTo>
                  <a:lnTo>
                    <a:pt x="1756" y="1656"/>
                  </a:lnTo>
                  <a:lnTo>
                    <a:pt x="1780" y="1656"/>
                  </a:lnTo>
                  <a:lnTo>
                    <a:pt x="1810" y="1656"/>
                  </a:lnTo>
                  <a:lnTo>
                    <a:pt x="1835" y="1656"/>
                  </a:lnTo>
                  <a:lnTo>
                    <a:pt x="1860" y="1656"/>
                  </a:lnTo>
                  <a:lnTo>
                    <a:pt x="1889" y="1656"/>
                  </a:lnTo>
                  <a:lnTo>
                    <a:pt x="1914" y="1656"/>
                  </a:lnTo>
                  <a:lnTo>
                    <a:pt x="1944" y="1656"/>
                  </a:lnTo>
                  <a:lnTo>
                    <a:pt x="1968" y="1656"/>
                  </a:lnTo>
                  <a:lnTo>
                    <a:pt x="1993" y="1656"/>
                  </a:lnTo>
                  <a:lnTo>
                    <a:pt x="2023" y="1656"/>
                  </a:lnTo>
                  <a:lnTo>
                    <a:pt x="2048" y="1656"/>
                  </a:lnTo>
                  <a:lnTo>
                    <a:pt x="2072" y="1656"/>
                  </a:lnTo>
                  <a:lnTo>
                    <a:pt x="2102" y="1656"/>
                  </a:lnTo>
                  <a:lnTo>
                    <a:pt x="2127" y="1656"/>
                  </a:lnTo>
                  <a:lnTo>
                    <a:pt x="2156" y="1656"/>
                  </a:lnTo>
                  <a:lnTo>
                    <a:pt x="2181" y="1656"/>
                  </a:lnTo>
                  <a:lnTo>
                    <a:pt x="2206" y="1656"/>
                  </a:lnTo>
                  <a:lnTo>
                    <a:pt x="2235" y="1656"/>
                  </a:lnTo>
                  <a:close/>
                  <a:moveTo>
                    <a:pt x="1326" y="322"/>
                  </a:moveTo>
                  <a:lnTo>
                    <a:pt x="1335" y="317"/>
                  </a:lnTo>
                  <a:lnTo>
                    <a:pt x="1340" y="312"/>
                  </a:lnTo>
                  <a:lnTo>
                    <a:pt x="1340" y="307"/>
                  </a:lnTo>
                  <a:lnTo>
                    <a:pt x="1345" y="302"/>
                  </a:lnTo>
                  <a:lnTo>
                    <a:pt x="1345" y="297"/>
                  </a:lnTo>
                  <a:lnTo>
                    <a:pt x="1350" y="292"/>
                  </a:lnTo>
                  <a:lnTo>
                    <a:pt x="1350" y="287"/>
                  </a:lnTo>
                  <a:lnTo>
                    <a:pt x="1355" y="282"/>
                  </a:lnTo>
                  <a:lnTo>
                    <a:pt x="1360" y="277"/>
                  </a:lnTo>
                  <a:lnTo>
                    <a:pt x="1370" y="277"/>
                  </a:lnTo>
                  <a:lnTo>
                    <a:pt x="1380" y="277"/>
                  </a:lnTo>
                  <a:lnTo>
                    <a:pt x="1390" y="282"/>
                  </a:lnTo>
                  <a:lnTo>
                    <a:pt x="1400" y="282"/>
                  </a:lnTo>
                  <a:lnTo>
                    <a:pt x="1405" y="277"/>
                  </a:lnTo>
                  <a:lnTo>
                    <a:pt x="1410" y="277"/>
                  </a:lnTo>
                  <a:lnTo>
                    <a:pt x="1415" y="272"/>
                  </a:lnTo>
                  <a:lnTo>
                    <a:pt x="1419" y="267"/>
                  </a:lnTo>
                  <a:lnTo>
                    <a:pt x="1419" y="257"/>
                  </a:lnTo>
                  <a:lnTo>
                    <a:pt x="1424" y="252"/>
                  </a:lnTo>
                  <a:lnTo>
                    <a:pt x="1429" y="247"/>
                  </a:lnTo>
                  <a:lnTo>
                    <a:pt x="1434" y="247"/>
                  </a:lnTo>
                  <a:lnTo>
                    <a:pt x="1439" y="243"/>
                  </a:lnTo>
                  <a:lnTo>
                    <a:pt x="1449" y="243"/>
                  </a:lnTo>
                  <a:lnTo>
                    <a:pt x="1454" y="247"/>
                  </a:lnTo>
                  <a:lnTo>
                    <a:pt x="1464" y="247"/>
                  </a:lnTo>
                  <a:lnTo>
                    <a:pt x="1474" y="247"/>
                  </a:lnTo>
                  <a:lnTo>
                    <a:pt x="1484" y="243"/>
                  </a:lnTo>
                  <a:lnTo>
                    <a:pt x="1489" y="238"/>
                  </a:lnTo>
                  <a:lnTo>
                    <a:pt x="1489" y="233"/>
                  </a:lnTo>
                  <a:lnTo>
                    <a:pt x="1489" y="228"/>
                  </a:lnTo>
                  <a:lnTo>
                    <a:pt x="1489" y="223"/>
                  </a:lnTo>
                  <a:lnTo>
                    <a:pt x="1494" y="218"/>
                  </a:lnTo>
                  <a:lnTo>
                    <a:pt x="1504" y="218"/>
                  </a:lnTo>
                  <a:lnTo>
                    <a:pt x="1513" y="218"/>
                  </a:lnTo>
                  <a:lnTo>
                    <a:pt x="1523" y="218"/>
                  </a:lnTo>
                  <a:lnTo>
                    <a:pt x="1533" y="218"/>
                  </a:lnTo>
                  <a:lnTo>
                    <a:pt x="1538" y="218"/>
                  </a:lnTo>
                  <a:lnTo>
                    <a:pt x="1543" y="218"/>
                  </a:lnTo>
                  <a:lnTo>
                    <a:pt x="1548" y="213"/>
                  </a:lnTo>
                  <a:lnTo>
                    <a:pt x="1553" y="208"/>
                  </a:lnTo>
                  <a:lnTo>
                    <a:pt x="1558" y="198"/>
                  </a:lnTo>
                  <a:lnTo>
                    <a:pt x="1563" y="193"/>
                  </a:lnTo>
                  <a:lnTo>
                    <a:pt x="1563" y="188"/>
                  </a:lnTo>
                  <a:lnTo>
                    <a:pt x="1558" y="188"/>
                  </a:lnTo>
                  <a:lnTo>
                    <a:pt x="1553" y="183"/>
                  </a:lnTo>
                  <a:lnTo>
                    <a:pt x="1543" y="183"/>
                  </a:lnTo>
                  <a:lnTo>
                    <a:pt x="1533" y="183"/>
                  </a:lnTo>
                  <a:lnTo>
                    <a:pt x="1523" y="183"/>
                  </a:lnTo>
                  <a:lnTo>
                    <a:pt x="1518" y="183"/>
                  </a:lnTo>
                  <a:lnTo>
                    <a:pt x="1508" y="183"/>
                  </a:lnTo>
                  <a:lnTo>
                    <a:pt x="1499" y="183"/>
                  </a:lnTo>
                  <a:lnTo>
                    <a:pt x="1499" y="188"/>
                  </a:lnTo>
                  <a:lnTo>
                    <a:pt x="1494" y="198"/>
                  </a:lnTo>
                  <a:lnTo>
                    <a:pt x="1494" y="203"/>
                  </a:lnTo>
                  <a:lnTo>
                    <a:pt x="1494" y="208"/>
                  </a:lnTo>
                  <a:lnTo>
                    <a:pt x="1489" y="213"/>
                  </a:lnTo>
                  <a:lnTo>
                    <a:pt x="1479" y="213"/>
                  </a:lnTo>
                  <a:lnTo>
                    <a:pt x="1474" y="208"/>
                  </a:lnTo>
                  <a:lnTo>
                    <a:pt x="1464" y="208"/>
                  </a:lnTo>
                  <a:lnTo>
                    <a:pt x="1454" y="208"/>
                  </a:lnTo>
                  <a:lnTo>
                    <a:pt x="1444" y="208"/>
                  </a:lnTo>
                  <a:lnTo>
                    <a:pt x="1439" y="203"/>
                  </a:lnTo>
                  <a:lnTo>
                    <a:pt x="1434" y="198"/>
                  </a:lnTo>
                  <a:lnTo>
                    <a:pt x="1429" y="193"/>
                  </a:lnTo>
                  <a:lnTo>
                    <a:pt x="1429" y="188"/>
                  </a:lnTo>
                  <a:lnTo>
                    <a:pt x="1429" y="183"/>
                  </a:lnTo>
                  <a:lnTo>
                    <a:pt x="1429" y="178"/>
                  </a:lnTo>
                  <a:lnTo>
                    <a:pt x="1434" y="173"/>
                  </a:lnTo>
                  <a:lnTo>
                    <a:pt x="1444" y="173"/>
                  </a:lnTo>
                  <a:lnTo>
                    <a:pt x="1449" y="168"/>
                  </a:lnTo>
                  <a:lnTo>
                    <a:pt x="1459" y="168"/>
                  </a:lnTo>
                  <a:lnTo>
                    <a:pt x="1469" y="168"/>
                  </a:lnTo>
                  <a:lnTo>
                    <a:pt x="1479" y="163"/>
                  </a:lnTo>
                  <a:lnTo>
                    <a:pt x="1484" y="163"/>
                  </a:lnTo>
                  <a:lnTo>
                    <a:pt x="1489" y="159"/>
                  </a:lnTo>
                  <a:lnTo>
                    <a:pt x="1489" y="154"/>
                  </a:lnTo>
                  <a:lnTo>
                    <a:pt x="1489" y="149"/>
                  </a:lnTo>
                  <a:lnTo>
                    <a:pt x="1499" y="144"/>
                  </a:lnTo>
                  <a:lnTo>
                    <a:pt x="1504" y="144"/>
                  </a:lnTo>
                  <a:lnTo>
                    <a:pt x="1513" y="139"/>
                  </a:lnTo>
                  <a:lnTo>
                    <a:pt x="1523" y="139"/>
                  </a:lnTo>
                  <a:lnTo>
                    <a:pt x="1533" y="139"/>
                  </a:lnTo>
                  <a:lnTo>
                    <a:pt x="1538" y="139"/>
                  </a:lnTo>
                  <a:lnTo>
                    <a:pt x="1548" y="139"/>
                  </a:lnTo>
                  <a:lnTo>
                    <a:pt x="1553" y="134"/>
                  </a:lnTo>
                  <a:lnTo>
                    <a:pt x="1558" y="129"/>
                  </a:lnTo>
                  <a:lnTo>
                    <a:pt x="1558" y="124"/>
                  </a:lnTo>
                  <a:lnTo>
                    <a:pt x="1558" y="119"/>
                  </a:lnTo>
                  <a:lnTo>
                    <a:pt x="1553" y="114"/>
                  </a:lnTo>
                  <a:lnTo>
                    <a:pt x="1543" y="109"/>
                  </a:lnTo>
                  <a:lnTo>
                    <a:pt x="1538" y="104"/>
                  </a:lnTo>
                  <a:lnTo>
                    <a:pt x="1528" y="104"/>
                  </a:lnTo>
                  <a:lnTo>
                    <a:pt x="1518" y="104"/>
                  </a:lnTo>
                  <a:lnTo>
                    <a:pt x="1513" y="109"/>
                  </a:lnTo>
                  <a:lnTo>
                    <a:pt x="1508" y="114"/>
                  </a:lnTo>
                  <a:lnTo>
                    <a:pt x="1504" y="119"/>
                  </a:lnTo>
                  <a:lnTo>
                    <a:pt x="1499" y="124"/>
                  </a:lnTo>
                  <a:lnTo>
                    <a:pt x="1494" y="129"/>
                  </a:lnTo>
                  <a:lnTo>
                    <a:pt x="1489" y="134"/>
                  </a:lnTo>
                  <a:lnTo>
                    <a:pt x="1484" y="134"/>
                  </a:lnTo>
                  <a:lnTo>
                    <a:pt x="1474" y="134"/>
                  </a:lnTo>
                  <a:lnTo>
                    <a:pt x="1464" y="134"/>
                  </a:lnTo>
                  <a:lnTo>
                    <a:pt x="1459" y="129"/>
                  </a:lnTo>
                  <a:lnTo>
                    <a:pt x="1449" y="129"/>
                  </a:lnTo>
                  <a:lnTo>
                    <a:pt x="1444" y="124"/>
                  </a:lnTo>
                  <a:lnTo>
                    <a:pt x="1439" y="119"/>
                  </a:lnTo>
                  <a:lnTo>
                    <a:pt x="1439" y="114"/>
                  </a:lnTo>
                  <a:lnTo>
                    <a:pt x="1439" y="104"/>
                  </a:lnTo>
                  <a:lnTo>
                    <a:pt x="1439" y="99"/>
                  </a:lnTo>
                  <a:lnTo>
                    <a:pt x="1444" y="94"/>
                  </a:lnTo>
                  <a:lnTo>
                    <a:pt x="1449" y="94"/>
                  </a:lnTo>
                  <a:lnTo>
                    <a:pt x="1454" y="89"/>
                  </a:lnTo>
                  <a:lnTo>
                    <a:pt x="1464" y="84"/>
                  </a:lnTo>
                  <a:lnTo>
                    <a:pt x="1474" y="84"/>
                  </a:lnTo>
                  <a:lnTo>
                    <a:pt x="1479" y="79"/>
                  </a:lnTo>
                  <a:lnTo>
                    <a:pt x="1489" y="84"/>
                  </a:lnTo>
                  <a:lnTo>
                    <a:pt x="1499" y="84"/>
                  </a:lnTo>
                  <a:lnTo>
                    <a:pt x="1504" y="94"/>
                  </a:lnTo>
                  <a:lnTo>
                    <a:pt x="1508" y="99"/>
                  </a:lnTo>
                  <a:lnTo>
                    <a:pt x="1513" y="99"/>
                  </a:lnTo>
                  <a:lnTo>
                    <a:pt x="1518" y="104"/>
                  </a:lnTo>
                  <a:lnTo>
                    <a:pt x="1518" y="99"/>
                  </a:lnTo>
                  <a:lnTo>
                    <a:pt x="1518" y="94"/>
                  </a:lnTo>
                  <a:lnTo>
                    <a:pt x="1513" y="89"/>
                  </a:lnTo>
                  <a:lnTo>
                    <a:pt x="1518" y="79"/>
                  </a:lnTo>
                  <a:lnTo>
                    <a:pt x="1518" y="74"/>
                  </a:lnTo>
                  <a:lnTo>
                    <a:pt x="1523" y="70"/>
                  </a:lnTo>
                  <a:lnTo>
                    <a:pt x="1528" y="65"/>
                  </a:lnTo>
                  <a:lnTo>
                    <a:pt x="1538" y="60"/>
                  </a:lnTo>
                  <a:lnTo>
                    <a:pt x="1543" y="60"/>
                  </a:lnTo>
                  <a:lnTo>
                    <a:pt x="1553" y="60"/>
                  </a:lnTo>
                  <a:lnTo>
                    <a:pt x="1558" y="55"/>
                  </a:lnTo>
                  <a:lnTo>
                    <a:pt x="1568" y="55"/>
                  </a:lnTo>
                  <a:lnTo>
                    <a:pt x="1578" y="55"/>
                  </a:lnTo>
                  <a:lnTo>
                    <a:pt x="1588" y="55"/>
                  </a:lnTo>
                  <a:lnTo>
                    <a:pt x="1593" y="55"/>
                  </a:lnTo>
                  <a:lnTo>
                    <a:pt x="1598" y="50"/>
                  </a:lnTo>
                  <a:lnTo>
                    <a:pt x="1602" y="45"/>
                  </a:lnTo>
                  <a:lnTo>
                    <a:pt x="1607" y="40"/>
                  </a:lnTo>
                  <a:lnTo>
                    <a:pt x="1617" y="35"/>
                  </a:lnTo>
                  <a:lnTo>
                    <a:pt x="1622" y="35"/>
                  </a:lnTo>
                  <a:lnTo>
                    <a:pt x="1627" y="30"/>
                  </a:lnTo>
                  <a:lnTo>
                    <a:pt x="1637" y="30"/>
                  </a:lnTo>
                  <a:lnTo>
                    <a:pt x="1647" y="30"/>
                  </a:lnTo>
                  <a:lnTo>
                    <a:pt x="1657" y="30"/>
                  </a:lnTo>
                  <a:lnTo>
                    <a:pt x="1662" y="30"/>
                  </a:lnTo>
                  <a:lnTo>
                    <a:pt x="1672" y="35"/>
                  </a:lnTo>
                  <a:lnTo>
                    <a:pt x="1677" y="35"/>
                  </a:lnTo>
                  <a:lnTo>
                    <a:pt x="1682" y="40"/>
                  </a:lnTo>
                  <a:lnTo>
                    <a:pt x="1687" y="45"/>
                  </a:lnTo>
                  <a:lnTo>
                    <a:pt x="1696" y="50"/>
                  </a:lnTo>
                  <a:lnTo>
                    <a:pt x="1701" y="55"/>
                  </a:lnTo>
                  <a:lnTo>
                    <a:pt x="1706" y="55"/>
                  </a:lnTo>
                  <a:lnTo>
                    <a:pt x="1716" y="55"/>
                  </a:lnTo>
                  <a:lnTo>
                    <a:pt x="1726" y="55"/>
                  </a:lnTo>
                  <a:lnTo>
                    <a:pt x="1731" y="55"/>
                  </a:lnTo>
                  <a:lnTo>
                    <a:pt x="1741" y="55"/>
                  </a:lnTo>
                  <a:lnTo>
                    <a:pt x="1751" y="55"/>
                  </a:lnTo>
                  <a:lnTo>
                    <a:pt x="1756" y="60"/>
                  </a:lnTo>
                  <a:lnTo>
                    <a:pt x="1766" y="60"/>
                  </a:lnTo>
                  <a:lnTo>
                    <a:pt x="1776" y="60"/>
                  </a:lnTo>
                  <a:lnTo>
                    <a:pt x="1780" y="65"/>
                  </a:lnTo>
                  <a:lnTo>
                    <a:pt x="1790" y="65"/>
                  </a:lnTo>
                  <a:lnTo>
                    <a:pt x="1795" y="70"/>
                  </a:lnTo>
                  <a:lnTo>
                    <a:pt x="1800" y="74"/>
                  </a:lnTo>
                  <a:lnTo>
                    <a:pt x="1805" y="79"/>
                  </a:lnTo>
                  <a:lnTo>
                    <a:pt x="1810" y="84"/>
                  </a:lnTo>
                  <a:lnTo>
                    <a:pt x="1820" y="84"/>
                  </a:lnTo>
                  <a:lnTo>
                    <a:pt x="1825" y="84"/>
                  </a:lnTo>
                  <a:lnTo>
                    <a:pt x="1835" y="84"/>
                  </a:lnTo>
                  <a:lnTo>
                    <a:pt x="1845" y="84"/>
                  </a:lnTo>
                  <a:lnTo>
                    <a:pt x="1850" y="84"/>
                  </a:lnTo>
                  <a:lnTo>
                    <a:pt x="1860" y="84"/>
                  </a:lnTo>
                  <a:lnTo>
                    <a:pt x="1870" y="84"/>
                  </a:lnTo>
                  <a:lnTo>
                    <a:pt x="1879" y="89"/>
                  </a:lnTo>
                  <a:lnTo>
                    <a:pt x="1884" y="89"/>
                  </a:lnTo>
                  <a:lnTo>
                    <a:pt x="1894" y="89"/>
                  </a:lnTo>
                  <a:lnTo>
                    <a:pt x="1899" y="94"/>
                  </a:lnTo>
                  <a:lnTo>
                    <a:pt x="1904" y="99"/>
                  </a:lnTo>
                  <a:lnTo>
                    <a:pt x="1909" y="104"/>
                  </a:lnTo>
                  <a:lnTo>
                    <a:pt x="1914" y="109"/>
                  </a:lnTo>
                  <a:lnTo>
                    <a:pt x="1919" y="114"/>
                  </a:lnTo>
                  <a:lnTo>
                    <a:pt x="1924" y="114"/>
                  </a:lnTo>
                  <a:lnTo>
                    <a:pt x="1934" y="114"/>
                  </a:lnTo>
                  <a:lnTo>
                    <a:pt x="1944" y="114"/>
                  </a:lnTo>
                  <a:lnTo>
                    <a:pt x="1954" y="114"/>
                  </a:lnTo>
                  <a:lnTo>
                    <a:pt x="1959" y="114"/>
                  </a:lnTo>
                  <a:lnTo>
                    <a:pt x="1968" y="114"/>
                  </a:lnTo>
                  <a:lnTo>
                    <a:pt x="1978" y="114"/>
                  </a:lnTo>
                  <a:lnTo>
                    <a:pt x="1988" y="114"/>
                  </a:lnTo>
                  <a:lnTo>
                    <a:pt x="1993" y="119"/>
                  </a:lnTo>
                  <a:lnTo>
                    <a:pt x="1998" y="119"/>
                  </a:lnTo>
                  <a:lnTo>
                    <a:pt x="2008" y="124"/>
                  </a:lnTo>
                  <a:lnTo>
                    <a:pt x="2008" y="129"/>
                  </a:lnTo>
                  <a:lnTo>
                    <a:pt x="2013" y="134"/>
                  </a:lnTo>
                  <a:lnTo>
                    <a:pt x="2018" y="139"/>
                  </a:lnTo>
                  <a:lnTo>
                    <a:pt x="2023" y="144"/>
                  </a:lnTo>
                  <a:lnTo>
                    <a:pt x="2028" y="149"/>
                  </a:lnTo>
                  <a:lnTo>
                    <a:pt x="2038" y="149"/>
                  </a:lnTo>
                  <a:lnTo>
                    <a:pt x="2043" y="149"/>
                  </a:lnTo>
                  <a:lnTo>
                    <a:pt x="2052" y="149"/>
                  </a:lnTo>
                  <a:lnTo>
                    <a:pt x="2062" y="154"/>
                  </a:lnTo>
                  <a:lnTo>
                    <a:pt x="2067" y="154"/>
                  </a:lnTo>
                  <a:lnTo>
                    <a:pt x="2077" y="154"/>
                  </a:lnTo>
                  <a:lnTo>
                    <a:pt x="2087" y="154"/>
                  </a:lnTo>
                  <a:lnTo>
                    <a:pt x="2097" y="154"/>
                  </a:lnTo>
                  <a:lnTo>
                    <a:pt x="2102" y="159"/>
                  </a:lnTo>
                  <a:lnTo>
                    <a:pt x="2102" y="163"/>
                  </a:lnTo>
                  <a:lnTo>
                    <a:pt x="2097" y="168"/>
                  </a:lnTo>
                  <a:lnTo>
                    <a:pt x="2092" y="173"/>
                  </a:lnTo>
                  <a:lnTo>
                    <a:pt x="2092" y="178"/>
                  </a:lnTo>
                  <a:lnTo>
                    <a:pt x="2087" y="183"/>
                  </a:lnTo>
                  <a:lnTo>
                    <a:pt x="2082" y="188"/>
                  </a:lnTo>
                  <a:lnTo>
                    <a:pt x="2082" y="193"/>
                  </a:lnTo>
                  <a:lnTo>
                    <a:pt x="2077" y="198"/>
                  </a:lnTo>
                  <a:lnTo>
                    <a:pt x="2077" y="203"/>
                  </a:lnTo>
                  <a:lnTo>
                    <a:pt x="2072" y="208"/>
                  </a:lnTo>
                  <a:lnTo>
                    <a:pt x="2067" y="213"/>
                  </a:lnTo>
                  <a:lnTo>
                    <a:pt x="2067" y="218"/>
                  </a:lnTo>
                  <a:lnTo>
                    <a:pt x="2062" y="223"/>
                  </a:lnTo>
                  <a:lnTo>
                    <a:pt x="2057" y="228"/>
                  </a:lnTo>
                  <a:lnTo>
                    <a:pt x="2057" y="233"/>
                  </a:lnTo>
                  <a:lnTo>
                    <a:pt x="2052" y="238"/>
                  </a:lnTo>
                  <a:lnTo>
                    <a:pt x="2048" y="243"/>
                  </a:lnTo>
                  <a:lnTo>
                    <a:pt x="2048" y="247"/>
                  </a:lnTo>
                  <a:lnTo>
                    <a:pt x="2043" y="252"/>
                  </a:lnTo>
                  <a:lnTo>
                    <a:pt x="2043" y="262"/>
                  </a:lnTo>
                  <a:lnTo>
                    <a:pt x="2038" y="262"/>
                  </a:lnTo>
                  <a:lnTo>
                    <a:pt x="2033" y="267"/>
                  </a:lnTo>
                  <a:lnTo>
                    <a:pt x="2023" y="272"/>
                  </a:lnTo>
                  <a:lnTo>
                    <a:pt x="2018" y="267"/>
                  </a:lnTo>
                  <a:lnTo>
                    <a:pt x="2013" y="262"/>
                  </a:lnTo>
                  <a:lnTo>
                    <a:pt x="2008" y="257"/>
                  </a:lnTo>
                  <a:lnTo>
                    <a:pt x="1998" y="252"/>
                  </a:lnTo>
                  <a:lnTo>
                    <a:pt x="1993" y="252"/>
                  </a:lnTo>
                  <a:lnTo>
                    <a:pt x="1983" y="252"/>
                  </a:lnTo>
                  <a:lnTo>
                    <a:pt x="1973" y="252"/>
                  </a:lnTo>
                  <a:lnTo>
                    <a:pt x="1968" y="252"/>
                  </a:lnTo>
                  <a:lnTo>
                    <a:pt x="1963" y="247"/>
                  </a:lnTo>
                  <a:lnTo>
                    <a:pt x="1959" y="243"/>
                  </a:lnTo>
                  <a:lnTo>
                    <a:pt x="1954" y="238"/>
                  </a:lnTo>
                  <a:lnTo>
                    <a:pt x="1949" y="233"/>
                  </a:lnTo>
                  <a:lnTo>
                    <a:pt x="1939" y="233"/>
                  </a:lnTo>
                  <a:lnTo>
                    <a:pt x="1934" y="233"/>
                  </a:lnTo>
                  <a:lnTo>
                    <a:pt x="1929" y="238"/>
                  </a:lnTo>
                  <a:lnTo>
                    <a:pt x="1919" y="243"/>
                  </a:lnTo>
                  <a:lnTo>
                    <a:pt x="1919" y="247"/>
                  </a:lnTo>
                  <a:lnTo>
                    <a:pt x="1914" y="247"/>
                  </a:lnTo>
                  <a:lnTo>
                    <a:pt x="1909" y="243"/>
                  </a:lnTo>
                  <a:lnTo>
                    <a:pt x="1904" y="233"/>
                  </a:lnTo>
                  <a:lnTo>
                    <a:pt x="1909" y="228"/>
                  </a:lnTo>
                  <a:lnTo>
                    <a:pt x="1909" y="223"/>
                  </a:lnTo>
                  <a:lnTo>
                    <a:pt x="1914" y="218"/>
                  </a:lnTo>
                  <a:lnTo>
                    <a:pt x="1914" y="213"/>
                  </a:lnTo>
                  <a:lnTo>
                    <a:pt x="1909" y="208"/>
                  </a:lnTo>
                  <a:lnTo>
                    <a:pt x="1899" y="208"/>
                  </a:lnTo>
                  <a:lnTo>
                    <a:pt x="1894" y="203"/>
                  </a:lnTo>
                  <a:lnTo>
                    <a:pt x="1884" y="208"/>
                  </a:lnTo>
                  <a:lnTo>
                    <a:pt x="1879" y="208"/>
                  </a:lnTo>
                  <a:lnTo>
                    <a:pt x="1874" y="218"/>
                  </a:lnTo>
                  <a:lnTo>
                    <a:pt x="1870" y="223"/>
                  </a:lnTo>
                  <a:lnTo>
                    <a:pt x="1865" y="228"/>
                  </a:lnTo>
                  <a:lnTo>
                    <a:pt x="1860" y="228"/>
                  </a:lnTo>
                  <a:lnTo>
                    <a:pt x="1855" y="228"/>
                  </a:lnTo>
                  <a:lnTo>
                    <a:pt x="1845" y="223"/>
                  </a:lnTo>
                  <a:lnTo>
                    <a:pt x="1840" y="218"/>
                  </a:lnTo>
                  <a:lnTo>
                    <a:pt x="1840" y="213"/>
                  </a:lnTo>
                  <a:lnTo>
                    <a:pt x="1840" y="208"/>
                  </a:lnTo>
                  <a:lnTo>
                    <a:pt x="1845" y="203"/>
                  </a:lnTo>
                  <a:lnTo>
                    <a:pt x="1850" y="198"/>
                  </a:lnTo>
                  <a:lnTo>
                    <a:pt x="1860" y="198"/>
                  </a:lnTo>
                  <a:lnTo>
                    <a:pt x="1865" y="193"/>
                  </a:lnTo>
                  <a:lnTo>
                    <a:pt x="1865" y="188"/>
                  </a:lnTo>
                  <a:lnTo>
                    <a:pt x="1860" y="183"/>
                  </a:lnTo>
                  <a:lnTo>
                    <a:pt x="1850" y="178"/>
                  </a:lnTo>
                  <a:lnTo>
                    <a:pt x="1845" y="178"/>
                  </a:lnTo>
                  <a:lnTo>
                    <a:pt x="1835" y="178"/>
                  </a:lnTo>
                  <a:lnTo>
                    <a:pt x="1825" y="183"/>
                  </a:lnTo>
                  <a:lnTo>
                    <a:pt x="1820" y="183"/>
                  </a:lnTo>
                  <a:lnTo>
                    <a:pt x="1815" y="188"/>
                  </a:lnTo>
                  <a:lnTo>
                    <a:pt x="1810" y="193"/>
                  </a:lnTo>
                  <a:lnTo>
                    <a:pt x="1805" y="198"/>
                  </a:lnTo>
                  <a:lnTo>
                    <a:pt x="1800" y="203"/>
                  </a:lnTo>
                  <a:lnTo>
                    <a:pt x="1790" y="203"/>
                  </a:lnTo>
                  <a:lnTo>
                    <a:pt x="1780" y="203"/>
                  </a:lnTo>
                  <a:lnTo>
                    <a:pt x="1776" y="203"/>
                  </a:lnTo>
                  <a:lnTo>
                    <a:pt x="1766" y="203"/>
                  </a:lnTo>
                  <a:lnTo>
                    <a:pt x="1761" y="198"/>
                  </a:lnTo>
                  <a:lnTo>
                    <a:pt x="1756" y="193"/>
                  </a:lnTo>
                  <a:lnTo>
                    <a:pt x="1756" y="183"/>
                  </a:lnTo>
                  <a:lnTo>
                    <a:pt x="1756" y="178"/>
                  </a:lnTo>
                  <a:lnTo>
                    <a:pt x="1756" y="168"/>
                  </a:lnTo>
                  <a:lnTo>
                    <a:pt x="1756" y="168"/>
                  </a:lnTo>
                  <a:lnTo>
                    <a:pt x="1751" y="168"/>
                  </a:lnTo>
                  <a:lnTo>
                    <a:pt x="1751" y="168"/>
                  </a:lnTo>
                  <a:lnTo>
                    <a:pt x="1741" y="173"/>
                  </a:lnTo>
                  <a:lnTo>
                    <a:pt x="1736" y="178"/>
                  </a:lnTo>
                  <a:lnTo>
                    <a:pt x="1726" y="183"/>
                  </a:lnTo>
                  <a:lnTo>
                    <a:pt x="1716" y="183"/>
                  </a:lnTo>
                  <a:lnTo>
                    <a:pt x="1711" y="178"/>
                  </a:lnTo>
                  <a:lnTo>
                    <a:pt x="1701" y="178"/>
                  </a:lnTo>
                  <a:lnTo>
                    <a:pt x="1696" y="173"/>
                  </a:lnTo>
                  <a:lnTo>
                    <a:pt x="1691" y="168"/>
                  </a:lnTo>
                  <a:lnTo>
                    <a:pt x="1687" y="163"/>
                  </a:lnTo>
                  <a:lnTo>
                    <a:pt x="1682" y="159"/>
                  </a:lnTo>
                  <a:lnTo>
                    <a:pt x="1672" y="159"/>
                  </a:lnTo>
                  <a:lnTo>
                    <a:pt x="1667" y="154"/>
                  </a:lnTo>
                  <a:lnTo>
                    <a:pt x="1657" y="154"/>
                  </a:lnTo>
                  <a:lnTo>
                    <a:pt x="1647" y="154"/>
                  </a:lnTo>
                  <a:lnTo>
                    <a:pt x="1637" y="154"/>
                  </a:lnTo>
                  <a:lnTo>
                    <a:pt x="1632" y="159"/>
                  </a:lnTo>
                  <a:lnTo>
                    <a:pt x="1627" y="163"/>
                  </a:lnTo>
                  <a:lnTo>
                    <a:pt x="1622" y="168"/>
                  </a:lnTo>
                  <a:lnTo>
                    <a:pt x="1622" y="168"/>
                  </a:lnTo>
                  <a:lnTo>
                    <a:pt x="1617" y="159"/>
                  </a:lnTo>
                  <a:lnTo>
                    <a:pt x="1612" y="159"/>
                  </a:lnTo>
                  <a:lnTo>
                    <a:pt x="1602" y="154"/>
                  </a:lnTo>
                  <a:lnTo>
                    <a:pt x="1593" y="159"/>
                  </a:lnTo>
                  <a:lnTo>
                    <a:pt x="1583" y="159"/>
                  </a:lnTo>
                  <a:lnTo>
                    <a:pt x="1578" y="159"/>
                  </a:lnTo>
                  <a:lnTo>
                    <a:pt x="1573" y="163"/>
                  </a:lnTo>
                  <a:lnTo>
                    <a:pt x="1568" y="173"/>
                  </a:lnTo>
                  <a:lnTo>
                    <a:pt x="1568" y="178"/>
                  </a:lnTo>
                  <a:lnTo>
                    <a:pt x="1573" y="183"/>
                  </a:lnTo>
                  <a:lnTo>
                    <a:pt x="1578" y="188"/>
                  </a:lnTo>
                  <a:lnTo>
                    <a:pt x="1583" y="188"/>
                  </a:lnTo>
                  <a:lnTo>
                    <a:pt x="1593" y="188"/>
                  </a:lnTo>
                  <a:lnTo>
                    <a:pt x="1602" y="188"/>
                  </a:lnTo>
                  <a:lnTo>
                    <a:pt x="1612" y="188"/>
                  </a:lnTo>
                  <a:lnTo>
                    <a:pt x="1617" y="188"/>
                  </a:lnTo>
                  <a:lnTo>
                    <a:pt x="1627" y="193"/>
                  </a:lnTo>
                  <a:lnTo>
                    <a:pt x="1632" y="193"/>
                  </a:lnTo>
                  <a:lnTo>
                    <a:pt x="1637" y="198"/>
                  </a:lnTo>
                  <a:lnTo>
                    <a:pt x="1637" y="208"/>
                  </a:lnTo>
                  <a:lnTo>
                    <a:pt x="1642" y="213"/>
                  </a:lnTo>
                  <a:lnTo>
                    <a:pt x="1647" y="218"/>
                  </a:lnTo>
                  <a:lnTo>
                    <a:pt x="1652" y="218"/>
                  </a:lnTo>
                  <a:lnTo>
                    <a:pt x="1657" y="223"/>
                  </a:lnTo>
                  <a:lnTo>
                    <a:pt x="1662" y="228"/>
                  </a:lnTo>
                  <a:lnTo>
                    <a:pt x="1667" y="233"/>
                  </a:lnTo>
                  <a:lnTo>
                    <a:pt x="1672" y="238"/>
                  </a:lnTo>
                  <a:lnTo>
                    <a:pt x="1672" y="243"/>
                  </a:lnTo>
                  <a:lnTo>
                    <a:pt x="1677" y="247"/>
                  </a:lnTo>
                  <a:lnTo>
                    <a:pt x="1682" y="252"/>
                  </a:lnTo>
                  <a:lnTo>
                    <a:pt x="1691" y="257"/>
                  </a:lnTo>
                  <a:lnTo>
                    <a:pt x="1696" y="262"/>
                  </a:lnTo>
                  <a:lnTo>
                    <a:pt x="1696" y="267"/>
                  </a:lnTo>
                  <a:lnTo>
                    <a:pt x="1691" y="272"/>
                  </a:lnTo>
                  <a:lnTo>
                    <a:pt x="1687" y="277"/>
                  </a:lnTo>
                  <a:lnTo>
                    <a:pt x="1677" y="277"/>
                  </a:lnTo>
                  <a:lnTo>
                    <a:pt x="1672" y="277"/>
                  </a:lnTo>
                  <a:lnTo>
                    <a:pt x="1667" y="272"/>
                  </a:lnTo>
                  <a:lnTo>
                    <a:pt x="1662" y="267"/>
                  </a:lnTo>
                  <a:lnTo>
                    <a:pt x="1657" y="262"/>
                  </a:lnTo>
                  <a:lnTo>
                    <a:pt x="1652" y="257"/>
                  </a:lnTo>
                  <a:lnTo>
                    <a:pt x="1647" y="257"/>
                  </a:lnTo>
                  <a:lnTo>
                    <a:pt x="1642" y="252"/>
                  </a:lnTo>
                  <a:lnTo>
                    <a:pt x="1637" y="247"/>
                  </a:lnTo>
                  <a:lnTo>
                    <a:pt x="1632" y="243"/>
                  </a:lnTo>
                  <a:lnTo>
                    <a:pt x="1627" y="238"/>
                  </a:lnTo>
                  <a:lnTo>
                    <a:pt x="1622" y="233"/>
                  </a:lnTo>
                  <a:lnTo>
                    <a:pt x="1617" y="228"/>
                  </a:lnTo>
                  <a:lnTo>
                    <a:pt x="1607" y="228"/>
                  </a:lnTo>
                  <a:lnTo>
                    <a:pt x="1602" y="233"/>
                  </a:lnTo>
                  <a:lnTo>
                    <a:pt x="1593" y="233"/>
                  </a:lnTo>
                  <a:lnTo>
                    <a:pt x="1583" y="233"/>
                  </a:lnTo>
                  <a:lnTo>
                    <a:pt x="1573" y="233"/>
                  </a:lnTo>
                  <a:lnTo>
                    <a:pt x="1568" y="233"/>
                  </a:lnTo>
                  <a:lnTo>
                    <a:pt x="1563" y="238"/>
                  </a:lnTo>
                  <a:lnTo>
                    <a:pt x="1558" y="243"/>
                  </a:lnTo>
                  <a:lnTo>
                    <a:pt x="1553" y="247"/>
                  </a:lnTo>
                  <a:lnTo>
                    <a:pt x="1548" y="252"/>
                  </a:lnTo>
                  <a:lnTo>
                    <a:pt x="1538" y="252"/>
                  </a:lnTo>
                  <a:lnTo>
                    <a:pt x="1533" y="257"/>
                  </a:lnTo>
                  <a:lnTo>
                    <a:pt x="1523" y="257"/>
                  </a:lnTo>
                  <a:lnTo>
                    <a:pt x="1513" y="257"/>
                  </a:lnTo>
                  <a:lnTo>
                    <a:pt x="1504" y="257"/>
                  </a:lnTo>
                  <a:lnTo>
                    <a:pt x="1494" y="252"/>
                  </a:lnTo>
                  <a:lnTo>
                    <a:pt x="1489" y="252"/>
                  </a:lnTo>
                  <a:lnTo>
                    <a:pt x="1489" y="257"/>
                  </a:lnTo>
                  <a:lnTo>
                    <a:pt x="1489" y="262"/>
                  </a:lnTo>
                  <a:lnTo>
                    <a:pt x="1489" y="267"/>
                  </a:lnTo>
                  <a:lnTo>
                    <a:pt x="1484" y="272"/>
                  </a:lnTo>
                  <a:lnTo>
                    <a:pt x="1474" y="277"/>
                  </a:lnTo>
                  <a:lnTo>
                    <a:pt x="1469" y="282"/>
                  </a:lnTo>
                  <a:lnTo>
                    <a:pt x="1459" y="282"/>
                  </a:lnTo>
                  <a:lnTo>
                    <a:pt x="1449" y="282"/>
                  </a:lnTo>
                  <a:lnTo>
                    <a:pt x="1439" y="282"/>
                  </a:lnTo>
                  <a:lnTo>
                    <a:pt x="1434" y="287"/>
                  </a:lnTo>
                  <a:lnTo>
                    <a:pt x="1429" y="292"/>
                  </a:lnTo>
                  <a:lnTo>
                    <a:pt x="1424" y="297"/>
                  </a:lnTo>
                  <a:lnTo>
                    <a:pt x="1419" y="302"/>
                  </a:lnTo>
                  <a:lnTo>
                    <a:pt x="1410" y="302"/>
                  </a:lnTo>
                  <a:lnTo>
                    <a:pt x="1405" y="307"/>
                  </a:lnTo>
                  <a:lnTo>
                    <a:pt x="1395" y="307"/>
                  </a:lnTo>
                  <a:lnTo>
                    <a:pt x="1390" y="307"/>
                  </a:lnTo>
                  <a:lnTo>
                    <a:pt x="1380" y="307"/>
                  </a:lnTo>
                  <a:lnTo>
                    <a:pt x="1370" y="307"/>
                  </a:lnTo>
                  <a:lnTo>
                    <a:pt x="1360" y="307"/>
                  </a:lnTo>
                  <a:lnTo>
                    <a:pt x="1355" y="307"/>
                  </a:lnTo>
                  <a:lnTo>
                    <a:pt x="1345" y="312"/>
                  </a:lnTo>
                  <a:lnTo>
                    <a:pt x="1340" y="317"/>
                  </a:lnTo>
                  <a:lnTo>
                    <a:pt x="1335" y="317"/>
                  </a:lnTo>
                  <a:lnTo>
                    <a:pt x="1326" y="322"/>
                  </a:lnTo>
                  <a:close/>
                  <a:moveTo>
                    <a:pt x="1360" y="213"/>
                  </a:moveTo>
                  <a:lnTo>
                    <a:pt x="1365" y="203"/>
                  </a:lnTo>
                  <a:lnTo>
                    <a:pt x="1370" y="198"/>
                  </a:lnTo>
                  <a:lnTo>
                    <a:pt x="1380" y="193"/>
                  </a:lnTo>
                  <a:lnTo>
                    <a:pt x="1390" y="193"/>
                  </a:lnTo>
                  <a:lnTo>
                    <a:pt x="1400" y="198"/>
                  </a:lnTo>
                  <a:lnTo>
                    <a:pt x="1405" y="203"/>
                  </a:lnTo>
                  <a:lnTo>
                    <a:pt x="1410" y="213"/>
                  </a:lnTo>
                  <a:lnTo>
                    <a:pt x="1405" y="218"/>
                  </a:lnTo>
                  <a:lnTo>
                    <a:pt x="1400" y="228"/>
                  </a:lnTo>
                  <a:lnTo>
                    <a:pt x="1390" y="233"/>
                  </a:lnTo>
                  <a:lnTo>
                    <a:pt x="1380" y="233"/>
                  </a:lnTo>
                  <a:lnTo>
                    <a:pt x="1370" y="228"/>
                  </a:lnTo>
                  <a:lnTo>
                    <a:pt x="1365" y="223"/>
                  </a:lnTo>
                  <a:lnTo>
                    <a:pt x="1360" y="213"/>
                  </a:lnTo>
                  <a:close/>
                  <a:moveTo>
                    <a:pt x="999" y="188"/>
                  </a:moveTo>
                  <a:lnTo>
                    <a:pt x="1004" y="183"/>
                  </a:lnTo>
                  <a:lnTo>
                    <a:pt x="1004" y="178"/>
                  </a:lnTo>
                  <a:lnTo>
                    <a:pt x="1009" y="178"/>
                  </a:lnTo>
                  <a:lnTo>
                    <a:pt x="1014" y="178"/>
                  </a:lnTo>
                  <a:lnTo>
                    <a:pt x="1014" y="183"/>
                  </a:lnTo>
                  <a:lnTo>
                    <a:pt x="1019" y="183"/>
                  </a:lnTo>
                  <a:lnTo>
                    <a:pt x="1019" y="188"/>
                  </a:lnTo>
                  <a:lnTo>
                    <a:pt x="1019" y="193"/>
                  </a:lnTo>
                  <a:lnTo>
                    <a:pt x="1014" y="193"/>
                  </a:lnTo>
                  <a:lnTo>
                    <a:pt x="1009" y="198"/>
                  </a:lnTo>
                  <a:lnTo>
                    <a:pt x="1009" y="198"/>
                  </a:lnTo>
                  <a:lnTo>
                    <a:pt x="1004" y="193"/>
                  </a:lnTo>
                  <a:lnTo>
                    <a:pt x="1004" y="193"/>
                  </a:lnTo>
                  <a:lnTo>
                    <a:pt x="999" y="188"/>
                  </a:lnTo>
                  <a:close/>
                  <a:moveTo>
                    <a:pt x="1192" y="188"/>
                  </a:moveTo>
                  <a:lnTo>
                    <a:pt x="1197" y="183"/>
                  </a:lnTo>
                  <a:lnTo>
                    <a:pt x="1202" y="178"/>
                  </a:lnTo>
                  <a:lnTo>
                    <a:pt x="1207" y="178"/>
                  </a:lnTo>
                  <a:lnTo>
                    <a:pt x="1217" y="173"/>
                  </a:lnTo>
                  <a:lnTo>
                    <a:pt x="1222" y="173"/>
                  </a:lnTo>
                  <a:lnTo>
                    <a:pt x="1227" y="173"/>
                  </a:lnTo>
                  <a:lnTo>
                    <a:pt x="1232" y="178"/>
                  </a:lnTo>
                  <a:lnTo>
                    <a:pt x="1236" y="183"/>
                  </a:lnTo>
                  <a:lnTo>
                    <a:pt x="1236" y="188"/>
                  </a:lnTo>
                  <a:lnTo>
                    <a:pt x="1236" y="193"/>
                  </a:lnTo>
                  <a:lnTo>
                    <a:pt x="1236" y="198"/>
                  </a:lnTo>
                  <a:lnTo>
                    <a:pt x="1232" y="203"/>
                  </a:lnTo>
                  <a:lnTo>
                    <a:pt x="1227" y="203"/>
                  </a:lnTo>
                  <a:lnTo>
                    <a:pt x="1222" y="208"/>
                  </a:lnTo>
                  <a:lnTo>
                    <a:pt x="1217" y="203"/>
                  </a:lnTo>
                  <a:lnTo>
                    <a:pt x="1207" y="203"/>
                  </a:lnTo>
                  <a:lnTo>
                    <a:pt x="1202" y="198"/>
                  </a:lnTo>
                  <a:lnTo>
                    <a:pt x="1197" y="193"/>
                  </a:lnTo>
                  <a:lnTo>
                    <a:pt x="1197" y="188"/>
                  </a:lnTo>
                  <a:lnTo>
                    <a:pt x="1192" y="188"/>
                  </a:lnTo>
                  <a:close/>
                  <a:moveTo>
                    <a:pt x="1276" y="159"/>
                  </a:moveTo>
                  <a:lnTo>
                    <a:pt x="1286" y="149"/>
                  </a:lnTo>
                  <a:lnTo>
                    <a:pt x="1291" y="144"/>
                  </a:lnTo>
                  <a:lnTo>
                    <a:pt x="1301" y="139"/>
                  </a:lnTo>
                  <a:lnTo>
                    <a:pt x="1311" y="144"/>
                  </a:lnTo>
                  <a:lnTo>
                    <a:pt x="1316" y="149"/>
                  </a:lnTo>
                  <a:lnTo>
                    <a:pt x="1321" y="154"/>
                  </a:lnTo>
                  <a:lnTo>
                    <a:pt x="1326" y="163"/>
                  </a:lnTo>
                  <a:lnTo>
                    <a:pt x="1321" y="173"/>
                  </a:lnTo>
                  <a:lnTo>
                    <a:pt x="1311" y="178"/>
                  </a:lnTo>
                  <a:lnTo>
                    <a:pt x="1306" y="183"/>
                  </a:lnTo>
                  <a:lnTo>
                    <a:pt x="1296" y="183"/>
                  </a:lnTo>
                  <a:lnTo>
                    <a:pt x="1291" y="178"/>
                  </a:lnTo>
                  <a:lnTo>
                    <a:pt x="1286" y="173"/>
                  </a:lnTo>
                  <a:lnTo>
                    <a:pt x="1276" y="159"/>
                  </a:lnTo>
                  <a:close/>
                  <a:moveTo>
                    <a:pt x="1810" y="159"/>
                  </a:moveTo>
                  <a:lnTo>
                    <a:pt x="1805" y="159"/>
                  </a:lnTo>
                  <a:lnTo>
                    <a:pt x="1800" y="154"/>
                  </a:lnTo>
                  <a:lnTo>
                    <a:pt x="1795" y="154"/>
                  </a:lnTo>
                  <a:lnTo>
                    <a:pt x="1785" y="154"/>
                  </a:lnTo>
                  <a:lnTo>
                    <a:pt x="1780" y="154"/>
                  </a:lnTo>
                  <a:lnTo>
                    <a:pt x="1771" y="154"/>
                  </a:lnTo>
                  <a:lnTo>
                    <a:pt x="1761" y="159"/>
                  </a:lnTo>
                  <a:lnTo>
                    <a:pt x="1756" y="159"/>
                  </a:lnTo>
                  <a:lnTo>
                    <a:pt x="1756" y="159"/>
                  </a:lnTo>
                  <a:lnTo>
                    <a:pt x="1761" y="163"/>
                  </a:lnTo>
                  <a:lnTo>
                    <a:pt x="1766" y="163"/>
                  </a:lnTo>
                  <a:lnTo>
                    <a:pt x="1771" y="168"/>
                  </a:lnTo>
                  <a:lnTo>
                    <a:pt x="1780" y="168"/>
                  </a:lnTo>
                  <a:lnTo>
                    <a:pt x="1790" y="168"/>
                  </a:lnTo>
                  <a:lnTo>
                    <a:pt x="1795" y="173"/>
                  </a:lnTo>
                  <a:lnTo>
                    <a:pt x="1805" y="173"/>
                  </a:lnTo>
                  <a:lnTo>
                    <a:pt x="1810" y="173"/>
                  </a:lnTo>
                  <a:lnTo>
                    <a:pt x="1810" y="168"/>
                  </a:lnTo>
                  <a:lnTo>
                    <a:pt x="1810" y="163"/>
                  </a:lnTo>
                  <a:lnTo>
                    <a:pt x="1810" y="159"/>
                  </a:lnTo>
                  <a:close/>
                  <a:moveTo>
                    <a:pt x="1360" y="134"/>
                  </a:moveTo>
                  <a:lnTo>
                    <a:pt x="1365" y="124"/>
                  </a:lnTo>
                  <a:lnTo>
                    <a:pt x="1370" y="119"/>
                  </a:lnTo>
                  <a:lnTo>
                    <a:pt x="1375" y="114"/>
                  </a:lnTo>
                  <a:lnTo>
                    <a:pt x="1385" y="114"/>
                  </a:lnTo>
                  <a:lnTo>
                    <a:pt x="1400" y="109"/>
                  </a:lnTo>
                  <a:lnTo>
                    <a:pt x="1410" y="114"/>
                  </a:lnTo>
                  <a:lnTo>
                    <a:pt x="1419" y="119"/>
                  </a:lnTo>
                  <a:lnTo>
                    <a:pt x="1429" y="124"/>
                  </a:lnTo>
                  <a:lnTo>
                    <a:pt x="1434" y="129"/>
                  </a:lnTo>
                  <a:lnTo>
                    <a:pt x="1434" y="134"/>
                  </a:lnTo>
                  <a:lnTo>
                    <a:pt x="1429" y="144"/>
                  </a:lnTo>
                  <a:lnTo>
                    <a:pt x="1424" y="149"/>
                  </a:lnTo>
                  <a:lnTo>
                    <a:pt x="1415" y="154"/>
                  </a:lnTo>
                  <a:lnTo>
                    <a:pt x="1400" y="159"/>
                  </a:lnTo>
                  <a:lnTo>
                    <a:pt x="1390" y="159"/>
                  </a:lnTo>
                  <a:lnTo>
                    <a:pt x="1380" y="159"/>
                  </a:lnTo>
                  <a:lnTo>
                    <a:pt x="1375" y="154"/>
                  </a:lnTo>
                  <a:lnTo>
                    <a:pt x="1365" y="149"/>
                  </a:lnTo>
                  <a:lnTo>
                    <a:pt x="1360" y="144"/>
                  </a:lnTo>
                  <a:lnTo>
                    <a:pt x="1360" y="134"/>
                  </a:lnTo>
                  <a:close/>
                  <a:moveTo>
                    <a:pt x="1756" y="134"/>
                  </a:moveTo>
                  <a:lnTo>
                    <a:pt x="1751" y="129"/>
                  </a:lnTo>
                  <a:lnTo>
                    <a:pt x="1746" y="129"/>
                  </a:lnTo>
                  <a:lnTo>
                    <a:pt x="1736" y="129"/>
                  </a:lnTo>
                  <a:lnTo>
                    <a:pt x="1726" y="129"/>
                  </a:lnTo>
                  <a:lnTo>
                    <a:pt x="1721" y="124"/>
                  </a:lnTo>
                  <a:lnTo>
                    <a:pt x="1716" y="124"/>
                  </a:lnTo>
                  <a:lnTo>
                    <a:pt x="1711" y="119"/>
                  </a:lnTo>
                  <a:lnTo>
                    <a:pt x="1711" y="114"/>
                  </a:lnTo>
                  <a:lnTo>
                    <a:pt x="1706" y="109"/>
                  </a:lnTo>
                  <a:lnTo>
                    <a:pt x="1701" y="104"/>
                  </a:lnTo>
                  <a:lnTo>
                    <a:pt x="1691" y="104"/>
                  </a:lnTo>
                  <a:lnTo>
                    <a:pt x="1687" y="99"/>
                  </a:lnTo>
                  <a:lnTo>
                    <a:pt x="1677" y="99"/>
                  </a:lnTo>
                  <a:lnTo>
                    <a:pt x="1672" y="99"/>
                  </a:lnTo>
                  <a:lnTo>
                    <a:pt x="1667" y="94"/>
                  </a:lnTo>
                  <a:lnTo>
                    <a:pt x="1662" y="89"/>
                  </a:lnTo>
                  <a:lnTo>
                    <a:pt x="1657" y="84"/>
                  </a:lnTo>
                  <a:lnTo>
                    <a:pt x="1652" y="79"/>
                  </a:lnTo>
                  <a:lnTo>
                    <a:pt x="1647" y="79"/>
                  </a:lnTo>
                  <a:lnTo>
                    <a:pt x="1642" y="74"/>
                  </a:lnTo>
                  <a:lnTo>
                    <a:pt x="1632" y="74"/>
                  </a:lnTo>
                  <a:lnTo>
                    <a:pt x="1627" y="79"/>
                  </a:lnTo>
                  <a:lnTo>
                    <a:pt x="1617" y="79"/>
                  </a:lnTo>
                  <a:lnTo>
                    <a:pt x="1607" y="79"/>
                  </a:lnTo>
                  <a:lnTo>
                    <a:pt x="1607" y="79"/>
                  </a:lnTo>
                  <a:lnTo>
                    <a:pt x="1607" y="84"/>
                  </a:lnTo>
                  <a:lnTo>
                    <a:pt x="1607" y="89"/>
                  </a:lnTo>
                  <a:lnTo>
                    <a:pt x="1612" y="94"/>
                  </a:lnTo>
                  <a:lnTo>
                    <a:pt x="1617" y="99"/>
                  </a:lnTo>
                  <a:lnTo>
                    <a:pt x="1622" y="104"/>
                  </a:lnTo>
                  <a:lnTo>
                    <a:pt x="1627" y="109"/>
                  </a:lnTo>
                  <a:lnTo>
                    <a:pt x="1637" y="109"/>
                  </a:lnTo>
                  <a:lnTo>
                    <a:pt x="1647" y="109"/>
                  </a:lnTo>
                  <a:lnTo>
                    <a:pt x="1652" y="109"/>
                  </a:lnTo>
                  <a:lnTo>
                    <a:pt x="1662" y="109"/>
                  </a:lnTo>
                  <a:lnTo>
                    <a:pt x="1667" y="109"/>
                  </a:lnTo>
                  <a:lnTo>
                    <a:pt x="1677" y="114"/>
                  </a:lnTo>
                  <a:lnTo>
                    <a:pt x="1682" y="114"/>
                  </a:lnTo>
                  <a:lnTo>
                    <a:pt x="1687" y="119"/>
                  </a:lnTo>
                  <a:lnTo>
                    <a:pt x="1691" y="124"/>
                  </a:lnTo>
                  <a:lnTo>
                    <a:pt x="1696" y="129"/>
                  </a:lnTo>
                  <a:lnTo>
                    <a:pt x="1701" y="134"/>
                  </a:lnTo>
                  <a:lnTo>
                    <a:pt x="1701" y="139"/>
                  </a:lnTo>
                  <a:lnTo>
                    <a:pt x="1711" y="139"/>
                  </a:lnTo>
                  <a:lnTo>
                    <a:pt x="1716" y="139"/>
                  </a:lnTo>
                  <a:lnTo>
                    <a:pt x="1726" y="139"/>
                  </a:lnTo>
                  <a:lnTo>
                    <a:pt x="1736" y="144"/>
                  </a:lnTo>
                  <a:lnTo>
                    <a:pt x="1741" y="144"/>
                  </a:lnTo>
                  <a:lnTo>
                    <a:pt x="1746" y="149"/>
                  </a:lnTo>
                  <a:lnTo>
                    <a:pt x="1751" y="154"/>
                  </a:lnTo>
                  <a:lnTo>
                    <a:pt x="1756" y="159"/>
                  </a:lnTo>
                  <a:lnTo>
                    <a:pt x="1756" y="159"/>
                  </a:lnTo>
                  <a:lnTo>
                    <a:pt x="1756" y="154"/>
                  </a:lnTo>
                  <a:lnTo>
                    <a:pt x="1756" y="149"/>
                  </a:lnTo>
                  <a:lnTo>
                    <a:pt x="1756" y="144"/>
                  </a:lnTo>
                  <a:lnTo>
                    <a:pt x="1756" y="134"/>
                  </a:lnTo>
                  <a:close/>
                  <a:moveTo>
                    <a:pt x="1622" y="104"/>
                  </a:moveTo>
                  <a:lnTo>
                    <a:pt x="1617" y="99"/>
                  </a:lnTo>
                  <a:lnTo>
                    <a:pt x="1607" y="89"/>
                  </a:lnTo>
                  <a:lnTo>
                    <a:pt x="1602" y="84"/>
                  </a:lnTo>
                  <a:lnTo>
                    <a:pt x="1598" y="84"/>
                  </a:lnTo>
                  <a:lnTo>
                    <a:pt x="1593" y="84"/>
                  </a:lnTo>
                  <a:lnTo>
                    <a:pt x="1588" y="89"/>
                  </a:lnTo>
                  <a:lnTo>
                    <a:pt x="1583" y="94"/>
                  </a:lnTo>
                  <a:lnTo>
                    <a:pt x="1573" y="99"/>
                  </a:lnTo>
                  <a:lnTo>
                    <a:pt x="1563" y="104"/>
                  </a:lnTo>
                  <a:lnTo>
                    <a:pt x="1553" y="104"/>
                  </a:lnTo>
                  <a:lnTo>
                    <a:pt x="1543" y="104"/>
                  </a:lnTo>
                  <a:lnTo>
                    <a:pt x="1548" y="109"/>
                  </a:lnTo>
                  <a:lnTo>
                    <a:pt x="1558" y="114"/>
                  </a:lnTo>
                  <a:lnTo>
                    <a:pt x="1568" y="119"/>
                  </a:lnTo>
                  <a:lnTo>
                    <a:pt x="1578" y="119"/>
                  </a:lnTo>
                  <a:lnTo>
                    <a:pt x="1588" y="114"/>
                  </a:lnTo>
                  <a:lnTo>
                    <a:pt x="1593" y="114"/>
                  </a:lnTo>
                  <a:lnTo>
                    <a:pt x="1602" y="109"/>
                  </a:lnTo>
                  <a:lnTo>
                    <a:pt x="1612" y="109"/>
                  </a:lnTo>
                  <a:lnTo>
                    <a:pt x="1622" y="104"/>
                  </a:lnTo>
                  <a:close/>
                  <a:moveTo>
                    <a:pt x="2235" y="1656"/>
                  </a:moveTo>
                  <a:lnTo>
                    <a:pt x="2260" y="1631"/>
                  </a:lnTo>
                  <a:lnTo>
                    <a:pt x="2285" y="1631"/>
                  </a:lnTo>
                  <a:lnTo>
                    <a:pt x="2315" y="1631"/>
                  </a:lnTo>
                  <a:lnTo>
                    <a:pt x="2339" y="1631"/>
                  </a:lnTo>
                  <a:lnTo>
                    <a:pt x="2369" y="1631"/>
                  </a:lnTo>
                  <a:lnTo>
                    <a:pt x="2394" y="1631"/>
                  </a:lnTo>
                  <a:lnTo>
                    <a:pt x="2418" y="1631"/>
                  </a:lnTo>
                  <a:lnTo>
                    <a:pt x="2448" y="1602"/>
                  </a:lnTo>
                  <a:lnTo>
                    <a:pt x="2448" y="1577"/>
                  </a:lnTo>
                  <a:lnTo>
                    <a:pt x="2448" y="1547"/>
                  </a:lnTo>
                  <a:lnTo>
                    <a:pt x="2448" y="1523"/>
                  </a:lnTo>
                  <a:lnTo>
                    <a:pt x="2473" y="1498"/>
                  </a:lnTo>
                  <a:lnTo>
                    <a:pt x="2473" y="1468"/>
                  </a:lnTo>
                  <a:lnTo>
                    <a:pt x="2473" y="1444"/>
                  </a:lnTo>
                  <a:lnTo>
                    <a:pt x="2473" y="1414"/>
                  </a:lnTo>
                  <a:lnTo>
                    <a:pt x="2503" y="1389"/>
                  </a:lnTo>
                  <a:lnTo>
                    <a:pt x="2503" y="1364"/>
                  </a:lnTo>
                  <a:lnTo>
                    <a:pt x="2503" y="1335"/>
                  </a:lnTo>
                  <a:lnTo>
                    <a:pt x="2503" y="1310"/>
                  </a:lnTo>
                  <a:lnTo>
                    <a:pt x="2527" y="1280"/>
                  </a:lnTo>
                  <a:lnTo>
                    <a:pt x="2527" y="1256"/>
                  </a:lnTo>
                  <a:lnTo>
                    <a:pt x="2527" y="1226"/>
                  </a:lnTo>
                  <a:lnTo>
                    <a:pt x="2527" y="1201"/>
                  </a:lnTo>
                  <a:lnTo>
                    <a:pt x="2552" y="1177"/>
                  </a:lnTo>
                  <a:lnTo>
                    <a:pt x="2552" y="1147"/>
                  </a:lnTo>
                  <a:lnTo>
                    <a:pt x="2552" y="1122"/>
                  </a:lnTo>
                  <a:lnTo>
                    <a:pt x="2552" y="1093"/>
                  </a:lnTo>
                  <a:lnTo>
                    <a:pt x="2582" y="1068"/>
                  </a:lnTo>
                  <a:lnTo>
                    <a:pt x="2582" y="1043"/>
                  </a:lnTo>
                  <a:lnTo>
                    <a:pt x="2582" y="1014"/>
                  </a:lnTo>
                  <a:lnTo>
                    <a:pt x="2582" y="989"/>
                  </a:lnTo>
                  <a:lnTo>
                    <a:pt x="2582" y="959"/>
                  </a:lnTo>
                  <a:lnTo>
                    <a:pt x="2582" y="934"/>
                  </a:lnTo>
                  <a:lnTo>
                    <a:pt x="2582" y="910"/>
                  </a:lnTo>
                  <a:lnTo>
                    <a:pt x="2582" y="880"/>
                  </a:lnTo>
                  <a:lnTo>
                    <a:pt x="2582" y="855"/>
                  </a:lnTo>
                  <a:lnTo>
                    <a:pt x="2582" y="826"/>
                  </a:lnTo>
                  <a:lnTo>
                    <a:pt x="2582" y="801"/>
                  </a:lnTo>
                  <a:lnTo>
                    <a:pt x="2582" y="776"/>
                  </a:lnTo>
                  <a:lnTo>
                    <a:pt x="2582" y="747"/>
                  </a:lnTo>
                  <a:lnTo>
                    <a:pt x="2582" y="722"/>
                  </a:lnTo>
                  <a:lnTo>
                    <a:pt x="2582" y="692"/>
                  </a:lnTo>
                  <a:lnTo>
                    <a:pt x="2582" y="668"/>
                  </a:lnTo>
                  <a:lnTo>
                    <a:pt x="2582" y="643"/>
                  </a:lnTo>
                  <a:lnTo>
                    <a:pt x="2582" y="613"/>
                  </a:lnTo>
                  <a:lnTo>
                    <a:pt x="2582" y="589"/>
                  </a:lnTo>
                  <a:lnTo>
                    <a:pt x="2582" y="559"/>
                  </a:lnTo>
                  <a:lnTo>
                    <a:pt x="2582" y="534"/>
                  </a:lnTo>
                  <a:lnTo>
                    <a:pt x="2582" y="504"/>
                  </a:lnTo>
                  <a:lnTo>
                    <a:pt x="2582" y="480"/>
                  </a:lnTo>
                  <a:lnTo>
                    <a:pt x="2582" y="455"/>
                  </a:lnTo>
                  <a:lnTo>
                    <a:pt x="2582" y="425"/>
                  </a:lnTo>
                  <a:lnTo>
                    <a:pt x="2582" y="401"/>
                  </a:lnTo>
                  <a:lnTo>
                    <a:pt x="2582" y="371"/>
                  </a:lnTo>
                  <a:lnTo>
                    <a:pt x="2582" y="346"/>
                  </a:lnTo>
                  <a:lnTo>
                    <a:pt x="2582" y="322"/>
                  </a:lnTo>
                  <a:lnTo>
                    <a:pt x="2582" y="292"/>
                  </a:lnTo>
                  <a:lnTo>
                    <a:pt x="2582" y="267"/>
                  </a:lnTo>
                  <a:lnTo>
                    <a:pt x="2582" y="238"/>
                  </a:lnTo>
                  <a:lnTo>
                    <a:pt x="2552" y="213"/>
                  </a:lnTo>
                  <a:lnTo>
                    <a:pt x="2552" y="188"/>
                  </a:lnTo>
                  <a:lnTo>
                    <a:pt x="2552" y="159"/>
                  </a:lnTo>
                  <a:lnTo>
                    <a:pt x="2552" y="134"/>
                  </a:lnTo>
                  <a:lnTo>
                    <a:pt x="2552" y="104"/>
                  </a:lnTo>
                  <a:lnTo>
                    <a:pt x="2527" y="79"/>
                  </a:lnTo>
                  <a:lnTo>
                    <a:pt x="2503" y="79"/>
                  </a:lnTo>
                  <a:lnTo>
                    <a:pt x="2473" y="79"/>
                  </a:lnTo>
                  <a:lnTo>
                    <a:pt x="2448" y="55"/>
                  </a:lnTo>
                  <a:lnTo>
                    <a:pt x="2418" y="55"/>
                  </a:lnTo>
                  <a:lnTo>
                    <a:pt x="2394" y="55"/>
                  </a:lnTo>
                  <a:lnTo>
                    <a:pt x="2369" y="25"/>
                  </a:lnTo>
                  <a:lnTo>
                    <a:pt x="2339" y="25"/>
                  </a:lnTo>
                  <a:lnTo>
                    <a:pt x="2315" y="25"/>
                  </a:lnTo>
                  <a:lnTo>
                    <a:pt x="2285" y="0"/>
                  </a:lnTo>
                  <a:lnTo>
                    <a:pt x="2260" y="0"/>
                  </a:lnTo>
                  <a:lnTo>
                    <a:pt x="2235" y="0"/>
                  </a:lnTo>
                  <a:lnTo>
                    <a:pt x="2206" y="0"/>
                  </a:lnTo>
                  <a:lnTo>
                    <a:pt x="2181" y="0"/>
                  </a:lnTo>
                  <a:lnTo>
                    <a:pt x="2156" y="0"/>
                  </a:lnTo>
                  <a:lnTo>
                    <a:pt x="2127" y="0"/>
                  </a:lnTo>
                  <a:lnTo>
                    <a:pt x="2102" y="0"/>
                  </a:lnTo>
                  <a:lnTo>
                    <a:pt x="2072" y="0"/>
                  </a:lnTo>
                  <a:lnTo>
                    <a:pt x="2048" y="0"/>
                  </a:lnTo>
                  <a:lnTo>
                    <a:pt x="2023" y="0"/>
                  </a:lnTo>
                  <a:lnTo>
                    <a:pt x="1993" y="0"/>
                  </a:lnTo>
                  <a:lnTo>
                    <a:pt x="1968" y="0"/>
                  </a:lnTo>
                  <a:lnTo>
                    <a:pt x="1944" y="0"/>
                  </a:lnTo>
                  <a:lnTo>
                    <a:pt x="1914" y="0"/>
                  </a:lnTo>
                  <a:lnTo>
                    <a:pt x="1889" y="0"/>
                  </a:lnTo>
                  <a:lnTo>
                    <a:pt x="1860" y="0"/>
                  </a:lnTo>
                  <a:lnTo>
                    <a:pt x="1835" y="0"/>
                  </a:lnTo>
                  <a:lnTo>
                    <a:pt x="1810" y="0"/>
                  </a:lnTo>
                  <a:lnTo>
                    <a:pt x="1780" y="0"/>
                  </a:lnTo>
                  <a:lnTo>
                    <a:pt x="1756" y="0"/>
                  </a:lnTo>
                  <a:lnTo>
                    <a:pt x="1726" y="0"/>
                  </a:lnTo>
                  <a:lnTo>
                    <a:pt x="1701" y="0"/>
                  </a:lnTo>
                  <a:lnTo>
                    <a:pt x="1677" y="0"/>
                  </a:lnTo>
                  <a:lnTo>
                    <a:pt x="1647" y="0"/>
                  </a:lnTo>
                  <a:lnTo>
                    <a:pt x="1622" y="0"/>
                  </a:lnTo>
                  <a:lnTo>
                    <a:pt x="1598" y="0"/>
                  </a:lnTo>
                  <a:lnTo>
                    <a:pt x="1568" y="0"/>
                  </a:lnTo>
                  <a:lnTo>
                    <a:pt x="1543" y="0"/>
                  </a:lnTo>
                  <a:lnTo>
                    <a:pt x="1513" y="0"/>
                  </a:lnTo>
                  <a:lnTo>
                    <a:pt x="1489" y="0"/>
                  </a:lnTo>
                  <a:lnTo>
                    <a:pt x="1464" y="0"/>
                  </a:lnTo>
                  <a:lnTo>
                    <a:pt x="1434" y="0"/>
                  </a:lnTo>
                  <a:lnTo>
                    <a:pt x="1410" y="0"/>
                  </a:lnTo>
                  <a:lnTo>
                    <a:pt x="1385" y="0"/>
                  </a:lnTo>
                  <a:lnTo>
                    <a:pt x="1355" y="0"/>
                  </a:lnTo>
                  <a:lnTo>
                    <a:pt x="1330" y="0"/>
                  </a:lnTo>
                  <a:lnTo>
                    <a:pt x="1301" y="0"/>
                  </a:lnTo>
                  <a:lnTo>
                    <a:pt x="1276" y="0"/>
                  </a:lnTo>
                  <a:lnTo>
                    <a:pt x="1251" y="0"/>
                  </a:lnTo>
                  <a:lnTo>
                    <a:pt x="1222" y="0"/>
                  </a:lnTo>
                  <a:lnTo>
                    <a:pt x="1197" y="0"/>
                  </a:lnTo>
                  <a:lnTo>
                    <a:pt x="1172" y="0"/>
                  </a:lnTo>
                  <a:lnTo>
                    <a:pt x="1143" y="0"/>
                  </a:lnTo>
                  <a:lnTo>
                    <a:pt x="1118" y="0"/>
                  </a:lnTo>
                  <a:lnTo>
                    <a:pt x="1088" y="0"/>
                  </a:lnTo>
                  <a:lnTo>
                    <a:pt x="1063" y="0"/>
                  </a:lnTo>
                  <a:lnTo>
                    <a:pt x="1039" y="0"/>
                  </a:lnTo>
                  <a:lnTo>
                    <a:pt x="1009" y="0"/>
                  </a:lnTo>
                  <a:lnTo>
                    <a:pt x="984" y="0"/>
                  </a:lnTo>
                  <a:lnTo>
                    <a:pt x="955" y="0"/>
                  </a:lnTo>
                  <a:lnTo>
                    <a:pt x="930" y="0"/>
                  </a:lnTo>
                  <a:lnTo>
                    <a:pt x="905" y="0"/>
                  </a:lnTo>
                  <a:lnTo>
                    <a:pt x="875" y="0"/>
                  </a:lnTo>
                  <a:lnTo>
                    <a:pt x="851" y="0"/>
                  </a:lnTo>
                  <a:lnTo>
                    <a:pt x="826" y="0"/>
                  </a:lnTo>
                  <a:lnTo>
                    <a:pt x="796" y="0"/>
                  </a:lnTo>
                  <a:lnTo>
                    <a:pt x="772" y="0"/>
                  </a:lnTo>
                  <a:lnTo>
                    <a:pt x="742" y="0"/>
                  </a:lnTo>
                  <a:lnTo>
                    <a:pt x="717" y="0"/>
                  </a:lnTo>
                  <a:lnTo>
                    <a:pt x="692" y="0"/>
                  </a:lnTo>
                  <a:lnTo>
                    <a:pt x="663" y="0"/>
                  </a:lnTo>
                  <a:lnTo>
                    <a:pt x="638" y="0"/>
                  </a:lnTo>
                  <a:lnTo>
                    <a:pt x="613" y="0"/>
                  </a:lnTo>
                  <a:lnTo>
                    <a:pt x="584" y="25"/>
                  </a:lnTo>
                  <a:lnTo>
                    <a:pt x="559" y="55"/>
                  </a:lnTo>
                  <a:lnTo>
                    <a:pt x="529" y="79"/>
                  </a:lnTo>
                  <a:lnTo>
                    <a:pt x="505" y="104"/>
                  </a:lnTo>
                  <a:lnTo>
                    <a:pt x="480" y="134"/>
                  </a:lnTo>
                  <a:lnTo>
                    <a:pt x="450" y="134"/>
                  </a:lnTo>
                  <a:lnTo>
                    <a:pt x="425" y="159"/>
                  </a:lnTo>
                  <a:lnTo>
                    <a:pt x="396" y="188"/>
                  </a:lnTo>
                  <a:lnTo>
                    <a:pt x="371" y="213"/>
                  </a:lnTo>
                  <a:lnTo>
                    <a:pt x="346" y="238"/>
                  </a:lnTo>
                  <a:lnTo>
                    <a:pt x="317" y="267"/>
                  </a:lnTo>
                  <a:lnTo>
                    <a:pt x="292" y="292"/>
                  </a:lnTo>
                  <a:lnTo>
                    <a:pt x="267" y="322"/>
                  </a:lnTo>
                  <a:lnTo>
                    <a:pt x="237" y="322"/>
                  </a:lnTo>
                  <a:lnTo>
                    <a:pt x="213" y="346"/>
                  </a:lnTo>
                  <a:lnTo>
                    <a:pt x="183" y="371"/>
                  </a:lnTo>
                  <a:lnTo>
                    <a:pt x="158" y="401"/>
                  </a:lnTo>
                  <a:lnTo>
                    <a:pt x="134" y="425"/>
                  </a:lnTo>
                  <a:lnTo>
                    <a:pt x="104" y="455"/>
                  </a:lnTo>
                  <a:lnTo>
                    <a:pt x="79" y="480"/>
                  </a:lnTo>
                  <a:lnTo>
                    <a:pt x="55" y="504"/>
                  </a:lnTo>
                  <a:lnTo>
                    <a:pt x="25" y="504"/>
                  </a:lnTo>
                  <a:lnTo>
                    <a:pt x="0" y="534"/>
                  </a:lnTo>
                  <a:lnTo>
                    <a:pt x="0" y="559"/>
                  </a:lnTo>
                  <a:lnTo>
                    <a:pt x="0" y="589"/>
                  </a:lnTo>
                  <a:lnTo>
                    <a:pt x="0" y="613"/>
                  </a:lnTo>
                  <a:lnTo>
                    <a:pt x="25" y="643"/>
                  </a:lnTo>
                  <a:lnTo>
                    <a:pt x="25" y="668"/>
                  </a:lnTo>
                  <a:lnTo>
                    <a:pt x="55" y="692"/>
                  </a:lnTo>
                  <a:lnTo>
                    <a:pt x="79" y="722"/>
                  </a:lnTo>
                  <a:lnTo>
                    <a:pt x="104" y="747"/>
                  </a:lnTo>
                  <a:lnTo>
                    <a:pt x="134" y="776"/>
                  </a:lnTo>
                  <a:lnTo>
                    <a:pt x="134" y="801"/>
                  </a:lnTo>
                  <a:lnTo>
                    <a:pt x="158" y="826"/>
                  </a:lnTo>
                  <a:lnTo>
                    <a:pt x="183" y="855"/>
                  </a:lnTo>
                  <a:lnTo>
                    <a:pt x="213" y="880"/>
                  </a:lnTo>
                  <a:lnTo>
                    <a:pt x="237" y="910"/>
                  </a:lnTo>
                  <a:lnTo>
                    <a:pt x="267" y="934"/>
                  </a:lnTo>
                  <a:lnTo>
                    <a:pt x="292" y="959"/>
                  </a:lnTo>
                  <a:lnTo>
                    <a:pt x="292" y="989"/>
                  </a:lnTo>
                  <a:lnTo>
                    <a:pt x="317" y="1014"/>
                  </a:lnTo>
                  <a:lnTo>
                    <a:pt x="346" y="1043"/>
                  </a:lnTo>
                  <a:lnTo>
                    <a:pt x="371" y="1068"/>
                  </a:lnTo>
                  <a:lnTo>
                    <a:pt x="396" y="1093"/>
                  </a:lnTo>
                  <a:lnTo>
                    <a:pt x="425" y="1122"/>
                  </a:lnTo>
                  <a:lnTo>
                    <a:pt x="450" y="1147"/>
                  </a:lnTo>
                  <a:lnTo>
                    <a:pt x="480" y="1177"/>
                  </a:lnTo>
                  <a:lnTo>
                    <a:pt x="505" y="1201"/>
                  </a:lnTo>
                  <a:lnTo>
                    <a:pt x="529" y="1226"/>
                  </a:lnTo>
                  <a:lnTo>
                    <a:pt x="559" y="1256"/>
                  </a:lnTo>
                  <a:lnTo>
                    <a:pt x="584" y="1280"/>
                  </a:lnTo>
                  <a:lnTo>
                    <a:pt x="613" y="1310"/>
                  </a:lnTo>
                  <a:lnTo>
                    <a:pt x="638" y="1335"/>
                  </a:lnTo>
                  <a:lnTo>
                    <a:pt x="663" y="1364"/>
                  </a:lnTo>
                  <a:lnTo>
                    <a:pt x="692" y="1389"/>
                  </a:lnTo>
                  <a:lnTo>
                    <a:pt x="717" y="1414"/>
                  </a:lnTo>
                  <a:lnTo>
                    <a:pt x="742" y="1444"/>
                  </a:lnTo>
                  <a:lnTo>
                    <a:pt x="772" y="1468"/>
                  </a:lnTo>
                  <a:lnTo>
                    <a:pt x="796" y="1468"/>
                  </a:lnTo>
                  <a:lnTo>
                    <a:pt x="826" y="1498"/>
                  </a:lnTo>
                  <a:lnTo>
                    <a:pt x="851" y="1523"/>
                  </a:lnTo>
                  <a:lnTo>
                    <a:pt x="875" y="1547"/>
                  </a:lnTo>
                  <a:lnTo>
                    <a:pt x="905" y="1577"/>
                  </a:lnTo>
                  <a:lnTo>
                    <a:pt x="930" y="1602"/>
                  </a:lnTo>
                  <a:lnTo>
                    <a:pt x="955" y="1631"/>
                  </a:lnTo>
                  <a:lnTo>
                    <a:pt x="984" y="1656"/>
                  </a:lnTo>
                  <a:lnTo>
                    <a:pt x="1009" y="1656"/>
                  </a:lnTo>
                  <a:lnTo>
                    <a:pt x="1039" y="1656"/>
                  </a:lnTo>
                  <a:lnTo>
                    <a:pt x="1063" y="1656"/>
                  </a:lnTo>
                  <a:lnTo>
                    <a:pt x="1088" y="1656"/>
                  </a:lnTo>
                  <a:lnTo>
                    <a:pt x="1118" y="1656"/>
                  </a:lnTo>
                  <a:lnTo>
                    <a:pt x="1143" y="1656"/>
                  </a:lnTo>
                  <a:lnTo>
                    <a:pt x="1172" y="1656"/>
                  </a:lnTo>
                  <a:lnTo>
                    <a:pt x="1197" y="1656"/>
                  </a:lnTo>
                  <a:lnTo>
                    <a:pt x="1222" y="1656"/>
                  </a:lnTo>
                  <a:lnTo>
                    <a:pt x="1251" y="1656"/>
                  </a:lnTo>
                  <a:lnTo>
                    <a:pt x="1276" y="1656"/>
                  </a:lnTo>
                  <a:lnTo>
                    <a:pt x="1301" y="1656"/>
                  </a:lnTo>
                  <a:lnTo>
                    <a:pt x="1330" y="1656"/>
                  </a:lnTo>
                  <a:lnTo>
                    <a:pt x="1355" y="1656"/>
                  </a:lnTo>
                  <a:lnTo>
                    <a:pt x="1385" y="1656"/>
                  </a:lnTo>
                  <a:lnTo>
                    <a:pt x="1410" y="1656"/>
                  </a:lnTo>
                  <a:lnTo>
                    <a:pt x="1434" y="1656"/>
                  </a:lnTo>
                  <a:lnTo>
                    <a:pt x="1464" y="1656"/>
                  </a:lnTo>
                  <a:lnTo>
                    <a:pt x="1489" y="1656"/>
                  </a:lnTo>
                  <a:lnTo>
                    <a:pt x="1513" y="1656"/>
                  </a:lnTo>
                  <a:lnTo>
                    <a:pt x="1543" y="1656"/>
                  </a:lnTo>
                  <a:lnTo>
                    <a:pt x="1568" y="1656"/>
                  </a:lnTo>
                  <a:lnTo>
                    <a:pt x="1598" y="1656"/>
                  </a:lnTo>
                  <a:lnTo>
                    <a:pt x="1622" y="1656"/>
                  </a:lnTo>
                  <a:lnTo>
                    <a:pt x="1647" y="1656"/>
                  </a:lnTo>
                  <a:lnTo>
                    <a:pt x="1677" y="1656"/>
                  </a:lnTo>
                  <a:lnTo>
                    <a:pt x="1701" y="1656"/>
                  </a:lnTo>
                  <a:lnTo>
                    <a:pt x="1726" y="1656"/>
                  </a:lnTo>
                  <a:lnTo>
                    <a:pt x="1756" y="1656"/>
                  </a:lnTo>
                  <a:lnTo>
                    <a:pt x="1780" y="1656"/>
                  </a:lnTo>
                  <a:lnTo>
                    <a:pt x="1810" y="1656"/>
                  </a:lnTo>
                  <a:lnTo>
                    <a:pt x="1835" y="1656"/>
                  </a:lnTo>
                  <a:lnTo>
                    <a:pt x="1860" y="1656"/>
                  </a:lnTo>
                  <a:lnTo>
                    <a:pt x="1889" y="1656"/>
                  </a:lnTo>
                  <a:lnTo>
                    <a:pt x="1914" y="1656"/>
                  </a:lnTo>
                  <a:lnTo>
                    <a:pt x="1944" y="1656"/>
                  </a:lnTo>
                  <a:lnTo>
                    <a:pt x="1968" y="1656"/>
                  </a:lnTo>
                  <a:lnTo>
                    <a:pt x="1993" y="1656"/>
                  </a:lnTo>
                  <a:lnTo>
                    <a:pt x="2023" y="1656"/>
                  </a:lnTo>
                  <a:lnTo>
                    <a:pt x="2048" y="1656"/>
                  </a:lnTo>
                  <a:lnTo>
                    <a:pt x="2072" y="1656"/>
                  </a:lnTo>
                  <a:lnTo>
                    <a:pt x="2102" y="1656"/>
                  </a:lnTo>
                  <a:lnTo>
                    <a:pt x="2127" y="1656"/>
                  </a:lnTo>
                  <a:lnTo>
                    <a:pt x="2156" y="1656"/>
                  </a:lnTo>
                  <a:lnTo>
                    <a:pt x="2181" y="1656"/>
                  </a:lnTo>
                  <a:lnTo>
                    <a:pt x="2206" y="1656"/>
                  </a:lnTo>
                  <a:lnTo>
                    <a:pt x="2235" y="1656"/>
                  </a:lnTo>
                  <a:close/>
                  <a:moveTo>
                    <a:pt x="1350" y="292"/>
                  </a:moveTo>
                  <a:lnTo>
                    <a:pt x="1350" y="287"/>
                  </a:lnTo>
                  <a:lnTo>
                    <a:pt x="1355" y="282"/>
                  </a:lnTo>
                  <a:lnTo>
                    <a:pt x="1365" y="282"/>
                  </a:lnTo>
                  <a:lnTo>
                    <a:pt x="1375" y="282"/>
                  </a:lnTo>
                  <a:lnTo>
                    <a:pt x="1380" y="282"/>
                  </a:lnTo>
                  <a:lnTo>
                    <a:pt x="1390" y="282"/>
                  </a:lnTo>
                  <a:lnTo>
                    <a:pt x="1400" y="282"/>
                  </a:lnTo>
                  <a:lnTo>
                    <a:pt x="1405" y="282"/>
                  </a:lnTo>
                  <a:lnTo>
                    <a:pt x="1415" y="277"/>
                  </a:lnTo>
                  <a:lnTo>
                    <a:pt x="1415" y="272"/>
                  </a:lnTo>
                  <a:lnTo>
                    <a:pt x="1419" y="267"/>
                  </a:lnTo>
                  <a:lnTo>
                    <a:pt x="1419" y="262"/>
                  </a:lnTo>
                  <a:lnTo>
                    <a:pt x="1424" y="257"/>
                  </a:lnTo>
                  <a:lnTo>
                    <a:pt x="1429" y="252"/>
                  </a:lnTo>
                  <a:lnTo>
                    <a:pt x="1434" y="247"/>
                  </a:lnTo>
                  <a:lnTo>
                    <a:pt x="1439" y="247"/>
                  </a:lnTo>
                  <a:lnTo>
                    <a:pt x="1444" y="247"/>
                  </a:lnTo>
                  <a:lnTo>
                    <a:pt x="1454" y="247"/>
                  </a:lnTo>
                  <a:lnTo>
                    <a:pt x="1464" y="247"/>
                  </a:lnTo>
                  <a:lnTo>
                    <a:pt x="1469" y="252"/>
                  </a:lnTo>
                  <a:lnTo>
                    <a:pt x="1479" y="257"/>
                  </a:lnTo>
                  <a:lnTo>
                    <a:pt x="1484" y="257"/>
                  </a:lnTo>
                  <a:lnTo>
                    <a:pt x="1484" y="262"/>
                  </a:lnTo>
                  <a:lnTo>
                    <a:pt x="1484" y="267"/>
                  </a:lnTo>
                  <a:lnTo>
                    <a:pt x="1479" y="272"/>
                  </a:lnTo>
                  <a:lnTo>
                    <a:pt x="1474" y="277"/>
                  </a:lnTo>
                  <a:lnTo>
                    <a:pt x="1464" y="277"/>
                  </a:lnTo>
                  <a:lnTo>
                    <a:pt x="1459" y="282"/>
                  </a:lnTo>
                  <a:lnTo>
                    <a:pt x="1449" y="282"/>
                  </a:lnTo>
                  <a:lnTo>
                    <a:pt x="1439" y="282"/>
                  </a:lnTo>
                  <a:lnTo>
                    <a:pt x="1434" y="287"/>
                  </a:lnTo>
                  <a:lnTo>
                    <a:pt x="1429" y="287"/>
                  </a:lnTo>
                  <a:lnTo>
                    <a:pt x="1424" y="292"/>
                  </a:lnTo>
                  <a:lnTo>
                    <a:pt x="1419" y="297"/>
                  </a:lnTo>
                  <a:lnTo>
                    <a:pt x="1415" y="302"/>
                  </a:lnTo>
                  <a:lnTo>
                    <a:pt x="1405" y="302"/>
                  </a:lnTo>
                  <a:lnTo>
                    <a:pt x="1400" y="302"/>
                  </a:lnTo>
                  <a:lnTo>
                    <a:pt x="1390" y="302"/>
                  </a:lnTo>
                  <a:lnTo>
                    <a:pt x="1380" y="302"/>
                  </a:lnTo>
                  <a:lnTo>
                    <a:pt x="1370" y="302"/>
                  </a:lnTo>
                  <a:lnTo>
                    <a:pt x="1365" y="302"/>
                  </a:lnTo>
                  <a:lnTo>
                    <a:pt x="1355" y="302"/>
                  </a:lnTo>
                  <a:lnTo>
                    <a:pt x="1350" y="297"/>
                  </a:lnTo>
                  <a:lnTo>
                    <a:pt x="1350" y="292"/>
                  </a:lnTo>
                  <a:close/>
                  <a:moveTo>
                    <a:pt x="1667" y="267"/>
                  </a:moveTo>
                  <a:lnTo>
                    <a:pt x="1657" y="262"/>
                  </a:lnTo>
                  <a:lnTo>
                    <a:pt x="1652" y="257"/>
                  </a:lnTo>
                  <a:lnTo>
                    <a:pt x="1647" y="252"/>
                  </a:lnTo>
                  <a:lnTo>
                    <a:pt x="1642" y="247"/>
                  </a:lnTo>
                  <a:lnTo>
                    <a:pt x="1637" y="243"/>
                  </a:lnTo>
                  <a:lnTo>
                    <a:pt x="1632" y="238"/>
                  </a:lnTo>
                  <a:lnTo>
                    <a:pt x="1627" y="233"/>
                  </a:lnTo>
                  <a:lnTo>
                    <a:pt x="1622" y="228"/>
                  </a:lnTo>
                  <a:lnTo>
                    <a:pt x="1617" y="228"/>
                  </a:lnTo>
                  <a:lnTo>
                    <a:pt x="1607" y="228"/>
                  </a:lnTo>
                  <a:lnTo>
                    <a:pt x="1598" y="228"/>
                  </a:lnTo>
                  <a:lnTo>
                    <a:pt x="1588" y="228"/>
                  </a:lnTo>
                  <a:lnTo>
                    <a:pt x="1578" y="228"/>
                  </a:lnTo>
                  <a:lnTo>
                    <a:pt x="1573" y="228"/>
                  </a:lnTo>
                  <a:lnTo>
                    <a:pt x="1568" y="233"/>
                  </a:lnTo>
                  <a:lnTo>
                    <a:pt x="1563" y="238"/>
                  </a:lnTo>
                  <a:lnTo>
                    <a:pt x="1558" y="243"/>
                  </a:lnTo>
                  <a:lnTo>
                    <a:pt x="1548" y="247"/>
                  </a:lnTo>
                  <a:lnTo>
                    <a:pt x="1543" y="252"/>
                  </a:lnTo>
                  <a:lnTo>
                    <a:pt x="1533" y="252"/>
                  </a:lnTo>
                  <a:lnTo>
                    <a:pt x="1528" y="257"/>
                  </a:lnTo>
                  <a:lnTo>
                    <a:pt x="1518" y="257"/>
                  </a:lnTo>
                  <a:lnTo>
                    <a:pt x="1508" y="257"/>
                  </a:lnTo>
                  <a:lnTo>
                    <a:pt x="1504" y="252"/>
                  </a:lnTo>
                  <a:lnTo>
                    <a:pt x="1494" y="247"/>
                  </a:lnTo>
                  <a:lnTo>
                    <a:pt x="1489" y="243"/>
                  </a:lnTo>
                  <a:lnTo>
                    <a:pt x="1489" y="238"/>
                  </a:lnTo>
                  <a:lnTo>
                    <a:pt x="1494" y="233"/>
                  </a:lnTo>
                  <a:lnTo>
                    <a:pt x="1499" y="223"/>
                  </a:lnTo>
                  <a:lnTo>
                    <a:pt x="1504" y="223"/>
                  </a:lnTo>
                  <a:lnTo>
                    <a:pt x="1513" y="218"/>
                  </a:lnTo>
                  <a:lnTo>
                    <a:pt x="1523" y="218"/>
                  </a:lnTo>
                  <a:lnTo>
                    <a:pt x="1533" y="223"/>
                  </a:lnTo>
                  <a:lnTo>
                    <a:pt x="1538" y="223"/>
                  </a:lnTo>
                  <a:lnTo>
                    <a:pt x="1548" y="218"/>
                  </a:lnTo>
                  <a:lnTo>
                    <a:pt x="1553" y="213"/>
                  </a:lnTo>
                  <a:lnTo>
                    <a:pt x="1553" y="208"/>
                  </a:lnTo>
                  <a:lnTo>
                    <a:pt x="1558" y="203"/>
                  </a:lnTo>
                  <a:lnTo>
                    <a:pt x="1558" y="193"/>
                  </a:lnTo>
                  <a:lnTo>
                    <a:pt x="1563" y="188"/>
                  </a:lnTo>
                  <a:lnTo>
                    <a:pt x="1568" y="188"/>
                  </a:lnTo>
                  <a:lnTo>
                    <a:pt x="1573" y="188"/>
                  </a:lnTo>
                  <a:lnTo>
                    <a:pt x="1583" y="188"/>
                  </a:lnTo>
                  <a:lnTo>
                    <a:pt x="1593" y="188"/>
                  </a:lnTo>
                  <a:lnTo>
                    <a:pt x="1602" y="193"/>
                  </a:lnTo>
                  <a:lnTo>
                    <a:pt x="1612" y="188"/>
                  </a:lnTo>
                  <a:lnTo>
                    <a:pt x="1617" y="188"/>
                  </a:lnTo>
                  <a:lnTo>
                    <a:pt x="1627" y="193"/>
                  </a:lnTo>
                  <a:lnTo>
                    <a:pt x="1632" y="198"/>
                  </a:lnTo>
                  <a:lnTo>
                    <a:pt x="1637" y="203"/>
                  </a:lnTo>
                  <a:lnTo>
                    <a:pt x="1637" y="208"/>
                  </a:lnTo>
                  <a:lnTo>
                    <a:pt x="1642" y="213"/>
                  </a:lnTo>
                  <a:lnTo>
                    <a:pt x="1647" y="218"/>
                  </a:lnTo>
                  <a:lnTo>
                    <a:pt x="1652" y="223"/>
                  </a:lnTo>
                  <a:lnTo>
                    <a:pt x="1657" y="228"/>
                  </a:lnTo>
                  <a:lnTo>
                    <a:pt x="1662" y="233"/>
                  </a:lnTo>
                  <a:lnTo>
                    <a:pt x="1667" y="238"/>
                  </a:lnTo>
                  <a:lnTo>
                    <a:pt x="1672" y="243"/>
                  </a:lnTo>
                  <a:lnTo>
                    <a:pt x="1672" y="247"/>
                  </a:lnTo>
                  <a:lnTo>
                    <a:pt x="1682" y="252"/>
                  </a:lnTo>
                  <a:lnTo>
                    <a:pt x="1687" y="257"/>
                  </a:lnTo>
                  <a:lnTo>
                    <a:pt x="1691" y="262"/>
                  </a:lnTo>
                  <a:lnTo>
                    <a:pt x="1691" y="267"/>
                  </a:lnTo>
                  <a:lnTo>
                    <a:pt x="1687" y="272"/>
                  </a:lnTo>
                  <a:lnTo>
                    <a:pt x="1682" y="277"/>
                  </a:lnTo>
                  <a:lnTo>
                    <a:pt x="1672" y="277"/>
                  </a:lnTo>
                  <a:lnTo>
                    <a:pt x="1667" y="272"/>
                  </a:lnTo>
                  <a:lnTo>
                    <a:pt x="1667" y="267"/>
                  </a:lnTo>
                  <a:close/>
                  <a:moveTo>
                    <a:pt x="2018" y="267"/>
                  </a:moveTo>
                  <a:lnTo>
                    <a:pt x="2013" y="262"/>
                  </a:lnTo>
                  <a:lnTo>
                    <a:pt x="2008" y="257"/>
                  </a:lnTo>
                  <a:lnTo>
                    <a:pt x="2003" y="252"/>
                  </a:lnTo>
                  <a:lnTo>
                    <a:pt x="1998" y="252"/>
                  </a:lnTo>
                  <a:lnTo>
                    <a:pt x="1988" y="252"/>
                  </a:lnTo>
                  <a:lnTo>
                    <a:pt x="1978" y="252"/>
                  </a:lnTo>
                  <a:lnTo>
                    <a:pt x="1973" y="252"/>
                  </a:lnTo>
                  <a:lnTo>
                    <a:pt x="1963" y="247"/>
                  </a:lnTo>
                  <a:lnTo>
                    <a:pt x="1963" y="243"/>
                  </a:lnTo>
                  <a:lnTo>
                    <a:pt x="1959" y="238"/>
                  </a:lnTo>
                  <a:lnTo>
                    <a:pt x="1954" y="233"/>
                  </a:lnTo>
                  <a:lnTo>
                    <a:pt x="1944" y="233"/>
                  </a:lnTo>
                  <a:lnTo>
                    <a:pt x="1939" y="228"/>
                  </a:lnTo>
                  <a:lnTo>
                    <a:pt x="1934" y="233"/>
                  </a:lnTo>
                  <a:lnTo>
                    <a:pt x="1924" y="233"/>
                  </a:lnTo>
                  <a:lnTo>
                    <a:pt x="1919" y="238"/>
                  </a:lnTo>
                  <a:lnTo>
                    <a:pt x="1914" y="247"/>
                  </a:lnTo>
                  <a:lnTo>
                    <a:pt x="1909" y="243"/>
                  </a:lnTo>
                  <a:lnTo>
                    <a:pt x="1909" y="238"/>
                  </a:lnTo>
                  <a:lnTo>
                    <a:pt x="1909" y="233"/>
                  </a:lnTo>
                  <a:lnTo>
                    <a:pt x="1909" y="228"/>
                  </a:lnTo>
                  <a:lnTo>
                    <a:pt x="1909" y="223"/>
                  </a:lnTo>
                  <a:lnTo>
                    <a:pt x="1914" y="218"/>
                  </a:lnTo>
                  <a:lnTo>
                    <a:pt x="1914" y="213"/>
                  </a:lnTo>
                  <a:lnTo>
                    <a:pt x="1909" y="208"/>
                  </a:lnTo>
                  <a:lnTo>
                    <a:pt x="1899" y="208"/>
                  </a:lnTo>
                  <a:lnTo>
                    <a:pt x="1894" y="203"/>
                  </a:lnTo>
                  <a:lnTo>
                    <a:pt x="1884" y="203"/>
                  </a:lnTo>
                  <a:lnTo>
                    <a:pt x="1879" y="208"/>
                  </a:lnTo>
                  <a:lnTo>
                    <a:pt x="1874" y="213"/>
                  </a:lnTo>
                  <a:lnTo>
                    <a:pt x="1870" y="218"/>
                  </a:lnTo>
                  <a:lnTo>
                    <a:pt x="1870" y="223"/>
                  </a:lnTo>
                  <a:lnTo>
                    <a:pt x="1865" y="228"/>
                  </a:lnTo>
                  <a:lnTo>
                    <a:pt x="1855" y="228"/>
                  </a:lnTo>
                  <a:lnTo>
                    <a:pt x="1850" y="223"/>
                  </a:lnTo>
                  <a:lnTo>
                    <a:pt x="1845" y="218"/>
                  </a:lnTo>
                  <a:lnTo>
                    <a:pt x="1840" y="213"/>
                  </a:lnTo>
                  <a:lnTo>
                    <a:pt x="1840" y="208"/>
                  </a:lnTo>
                  <a:lnTo>
                    <a:pt x="1845" y="203"/>
                  </a:lnTo>
                  <a:lnTo>
                    <a:pt x="1850" y="203"/>
                  </a:lnTo>
                  <a:lnTo>
                    <a:pt x="1860" y="198"/>
                  </a:lnTo>
                  <a:lnTo>
                    <a:pt x="1865" y="193"/>
                  </a:lnTo>
                  <a:lnTo>
                    <a:pt x="1865" y="188"/>
                  </a:lnTo>
                  <a:lnTo>
                    <a:pt x="1865" y="183"/>
                  </a:lnTo>
                  <a:lnTo>
                    <a:pt x="1855" y="178"/>
                  </a:lnTo>
                  <a:lnTo>
                    <a:pt x="1850" y="178"/>
                  </a:lnTo>
                  <a:lnTo>
                    <a:pt x="1840" y="178"/>
                  </a:lnTo>
                  <a:lnTo>
                    <a:pt x="1830" y="178"/>
                  </a:lnTo>
                  <a:lnTo>
                    <a:pt x="1825" y="183"/>
                  </a:lnTo>
                  <a:lnTo>
                    <a:pt x="1815" y="183"/>
                  </a:lnTo>
                  <a:lnTo>
                    <a:pt x="1810" y="188"/>
                  </a:lnTo>
                  <a:lnTo>
                    <a:pt x="1810" y="193"/>
                  </a:lnTo>
                  <a:lnTo>
                    <a:pt x="1805" y="198"/>
                  </a:lnTo>
                  <a:lnTo>
                    <a:pt x="1795" y="203"/>
                  </a:lnTo>
                  <a:lnTo>
                    <a:pt x="1790" y="203"/>
                  </a:lnTo>
                  <a:lnTo>
                    <a:pt x="1780" y="203"/>
                  </a:lnTo>
                  <a:lnTo>
                    <a:pt x="1776" y="203"/>
                  </a:lnTo>
                  <a:lnTo>
                    <a:pt x="1766" y="198"/>
                  </a:lnTo>
                  <a:lnTo>
                    <a:pt x="1761" y="193"/>
                  </a:lnTo>
                  <a:lnTo>
                    <a:pt x="1761" y="188"/>
                  </a:lnTo>
                  <a:lnTo>
                    <a:pt x="1761" y="183"/>
                  </a:lnTo>
                  <a:lnTo>
                    <a:pt x="1761" y="178"/>
                  </a:lnTo>
                  <a:lnTo>
                    <a:pt x="1766" y="173"/>
                  </a:lnTo>
                  <a:lnTo>
                    <a:pt x="1776" y="168"/>
                  </a:lnTo>
                  <a:lnTo>
                    <a:pt x="1785" y="168"/>
                  </a:lnTo>
                  <a:lnTo>
                    <a:pt x="1790" y="173"/>
                  </a:lnTo>
                  <a:lnTo>
                    <a:pt x="1800" y="173"/>
                  </a:lnTo>
                  <a:lnTo>
                    <a:pt x="1805" y="173"/>
                  </a:lnTo>
                  <a:lnTo>
                    <a:pt x="1810" y="173"/>
                  </a:lnTo>
                  <a:lnTo>
                    <a:pt x="1815" y="168"/>
                  </a:lnTo>
                  <a:lnTo>
                    <a:pt x="1815" y="163"/>
                  </a:lnTo>
                  <a:lnTo>
                    <a:pt x="1810" y="159"/>
                  </a:lnTo>
                  <a:lnTo>
                    <a:pt x="1800" y="154"/>
                  </a:lnTo>
                  <a:lnTo>
                    <a:pt x="1795" y="154"/>
                  </a:lnTo>
                  <a:lnTo>
                    <a:pt x="1785" y="154"/>
                  </a:lnTo>
                  <a:lnTo>
                    <a:pt x="1776" y="154"/>
                  </a:lnTo>
                  <a:lnTo>
                    <a:pt x="1771" y="149"/>
                  </a:lnTo>
                  <a:lnTo>
                    <a:pt x="1766" y="144"/>
                  </a:lnTo>
                  <a:lnTo>
                    <a:pt x="1766" y="139"/>
                  </a:lnTo>
                  <a:lnTo>
                    <a:pt x="1761" y="134"/>
                  </a:lnTo>
                  <a:lnTo>
                    <a:pt x="1756" y="129"/>
                  </a:lnTo>
                  <a:lnTo>
                    <a:pt x="1751" y="129"/>
                  </a:lnTo>
                  <a:lnTo>
                    <a:pt x="1741" y="129"/>
                  </a:lnTo>
                  <a:lnTo>
                    <a:pt x="1731" y="129"/>
                  </a:lnTo>
                  <a:lnTo>
                    <a:pt x="1726" y="124"/>
                  </a:lnTo>
                  <a:lnTo>
                    <a:pt x="1721" y="124"/>
                  </a:lnTo>
                  <a:lnTo>
                    <a:pt x="1716" y="119"/>
                  </a:lnTo>
                  <a:lnTo>
                    <a:pt x="1711" y="114"/>
                  </a:lnTo>
                  <a:lnTo>
                    <a:pt x="1706" y="109"/>
                  </a:lnTo>
                  <a:lnTo>
                    <a:pt x="1701" y="104"/>
                  </a:lnTo>
                  <a:lnTo>
                    <a:pt x="1696" y="104"/>
                  </a:lnTo>
                  <a:lnTo>
                    <a:pt x="1687" y="99"/>
                  </a:lnTo>
                  <a:lnTo>
                    <a:pt x="1677" y="99"/>
                  </a:lnTo>
                  <a:lnTo>
                    <a:pt x="1672" y="99"/>
                  </a:lnTo>
                  <a:lnTo>
                    <a:pt x="1667" y="94"/>
                  </a:lnTo>
                  <a:lnTo>
                    <a:pt x="1662" y="89"/>
                  </a:lnTo>
                  <a:lnTo>
                    <a:pt x="1657" y="84"/>
                  </a:lnTo>
                  <a:lnTo>
                    <a:pt x="1652" y="79"/>
                  </a:lnTo>
                  <a:lnTo>
                    <a:pt x="1647" y="74"/>
                  </a:lnTo>
                  <a:lnTo>
                    <a:pt x="1642" y="74"/>
                  </a:lnTo>
                  <a:lnTo>
                    <a:pt x="1632" y="74"/>
                  </a:lnTo>
                  <a:lnTo>
                    <a:pt x="1622" y="74"/>
                  </a:lnTo>
                  <a:lnTo>
                    <a:pt x="1612" y="79"/>
                  </a:lnTo>
                  <a:lnTo>
                    <a:pt x="1607" y="79"/>
                  </a:lnTo>
                  <a:lnTo>
                    <a:pt x="1598" y="79"/>
                  </a:lnTo>
                  <a:lnTo>
                    <a:pt x="1593" y="84"/>
                  </a:lnTo>
                  <a:lnTo>
                    <a:pt x="1588" y="84"/>
                  </a:lnTo>
                  <a:lnTo>
                    <a:pt x="1583" y="89"/>
                  </a:lnTo>
                  <a:lnTo>
                    <a:pt x="1578" y="94"/>
                  </a:lnTo>
                  <a:lnTo>
                    <a:pt x="1573" y="99"/>
                  </a:lnTo>
                  <a:lnTo>
                    <a:pt x="1568" y="104"/>
                  </a:lnTo>
                  <a:lnTo>
                    <a:pt x="1558" y="104"/>
                  </a:lnTo>
                  <a:lnTo>
                    <a:pt x="1553" y="104"/>
                  </a:lnTo>
                  <a:lnTo>
                    <a:pt x="1543" y="104"/>
                  </a:lnTo>
                  <a:lnTo>
                    <a:pt x="1538" y="104"/>
                  </a:lnTo>
                  <a:lnTo>
                    <a:pt x="1528" y="99"/>
                  </a:lnTo>
                  <a:lnTo>
                    <a:pt x="1523" y="94"/>
                  </a:lnTo>
                  <a:lnTo>
                    <a:pt x="1518" y="89"/>
                  </a:lnTo>
                  <a:lnTo>
                    <a:pt x="1518" y="84"/>
                  </a:lnTo>
                  <a:lnTo>
                    <a:pt x="1518" y="79"/>
                  </a:lnTo>
                  <a:lnTo>
                    <a:pt x="1518" y="74"/>
                  </a:lnTo>
                  <a:lnTo>
                    <a:pt x="1523" y="70"/>
                  </a:lnTo>
                  <a:lnTo>
                    <a:pt x="1528" y="65"/>
                  </a:lnTo>
                  <a:lnTo>
                    <a:pt x="1533" y="65"/>
                  </a:lnTo>
                  <a:lnTo>
                    <a:pt x="1543" y="60"/>
                  </a:lnTo>
                  <a:lnTo>
                    <a:pt x="1548" y="60"/>
                  </a:lnTo>
                  <a:lnTo>
                    <a:pt x="1558" y="55"/>
                  </a:lnTo>
                  <a:lnTo>
                    <a:pt x="1563" y="55"/>
                  </a:lnTo>
                  <a:lnTo>
                    <a:pt x="1573" y="60"/>
                  </a:lnTo>
                  <a:lnTo>
                    <a:pt x="1583" y="60"/>
                  </a:lnTo>
                  <a:lnTo>
                    <a:pt x="1593" y="65"/>
                  </a:lnTo>
                  <a:lnTo>
                    <a:pt x="1598" y="60"/>
                  </a:lnTo>
                  <a:lnTo>
                    <a:pt x="1598" y="55"/>
                  </a:lnTo>
                  <a:lnTo>
                    <a:pt x="1598" y="50"/>
                  </a:lnTo>
                  <a:lnTo>
                    <a:pt x="1598" y="45"/>
                  </a:lnTo>
                  <a:lnTo>
                    <a:pt x="1602" y="40"/>
                  </a:lnTo>
                  <a:lnTo>
                    <a:pt x="1612" y="35"/>
                  </a:lnTo>
                  <a:lnTo>
                    <a:pt x="1617" y="35"/>
                  </a:lnTo>
                  <a:lnTo>
                    <a:pt x="1627" y="30"/>
                  </a:lnTo>
                  <a:lnTo>
                    <a:pt x="1632" y="30"/>
                  </a:lnTo>
                  <a:lnTo>
                    <a:pt x="1642" y="30"/>
                  </a:lnTo>
                  <a:lnTo>
                    <a:pt x="1652" y="30"/>
                  </a:lnTo>
                  <a:lnTo>
                    <a:pt x="1657" y="30"/>
                  </a:lnTo>
                  <a:lnTo>
                    <a:pt x="1667" y="35"/>
                  </a:lnTo>
                  <a:lnTo>
                    <a:pt x="1672" y="35"/>
                  </a:lnTo>
                  <a:lnTo>
                    <a:pt x="1682" y="40"/>
                  </a:lnTo>
                  <a:lnTo>
                    <a:pt x="1687" y="40"/>
                  </a:lnTo>
                  <a:lnTo>
                    <a:pt x="1691" y="45"/>
                  </a:lnTo>
                  <a:lnTo>
                    <a:pt x="1696" y="50"/>
                  </a:lnTo>
                  <a:lnTo>
                    <a:pt x="1701" y="55"/>
                  </a:lnTo>
                  <a:lnTo>
                    <a:pt x="1706" y="55"/>
                  </a:lnTo>
                  <a:lnTo>
                    <a:pt x="1716" y="55"/>
                  </a:lnTo>
                  <a:lnTo>
                    <a:pt x="1726" y="55"/>
                  </a:lnTo>
                  <a:lnTo>
                    <a:pt x="1731" y="55"/>
                  </a:lnTo>
                  <a:lnTo>
                    <a:pt x="1741" y="55"/>
                  </a:lnTo>
                  <a:lnTo>
                    <a:pt x="1751" y="60"/>
                  </a:lnTo>
                  <a:lnTo>
                    <a:pt x="1756" y="60"/>
                  </a:lnTo>
                  <a:lnTo>
                    <a:pt x="1766" y="60"/>
                  </a:lnTo>
                  <a:lnTo>
                    <a:pt x="1771" y="60"/>
                  </a:lnTo>
                  <a:lnTo>
                    <a:pt x="1780" y="65"/>
                  </a:lnTo>
                  <a:lnTo>
                    <a:pt x="1785" y="65"/>
                  </a:lnTo>
                  <a:lnTo>
                    <a:pt x="1790" y="70"/>
                  </a:lnTo>
                  <a:lnTo>
                    <a:pt x="1795" y="74"/>
                  </a:lnTo>
                  <a:lnTo>
                    <a:pt x="1800" y="79"/>
                  </a:lnTo>
                  <a:lnTo>
                    <a:pt x="1805" y="79"/>
                  </a:lnTo>
                  <a:lnTo>
                    <a:pt x="1815" y="84"/>
                  </a:lnTo>
                  <a:lnTo>
                    <a:pt x="1820" y="84"/>
                  </a:lnTo>
                  <a:lnTo>
                    <a:pt x="1830" y="84"/>
                  </a:lnTo>
                  <a:lnTo>
                    <a:pt x="1840" y="84"/>
                  </a:lnTo>
                  <a:lnTo>
                    <a:pt x="1845" y="84"/>
                  </a:lnTo>
                  <a:lnTo>
                    <a:pt x="1855" y="84"/>
                  </a:lnTo>
                  <a:lnTo>
                    <a:pt x="1865" y="84"/>
                  </a:lnTo>
                  <a:lnTo>
                    <a:pt x="1870" y="89"/>
                  </a:lnTo>
                  <a:lnTo>
                    <a:pt x="1879" y="89"/>
                  </a:lnTo>
                  <a:lnTo>
                    <a:pt x="1884" y="89"/>
                  </a:lnTo>
                  <a:lnTo>
                    <a:pt x="1894" y="94"/>
                  </a:lnTo>
                  <a:lnTo>
                    <a:pt x="1899" y="94"/>
                  </a:lnTo>
                  <a:lnTo>
                    <a:pt x="1904" y="99"/>
                  </a:lnTo>
                  <a:lnTo>
                    <a:pt x="1904" y="104"/>
                  </a:lnTo>
                  <a:lnTo>
                    <a:pt x="1909" y="109"/>
                  </a:lnTo>
                  <a:lnTo>
                    <a:pt x="1919" y="114"/>
                  </a:lnTo>
                  <a:lnTo>
                    <a:pt x="1924" y="114"/>
                  </a:lnTo>
                  <a:lnTo>
                    <a:pt x="1934" y="114"/>
                  </a:lnTo>
                  <a:lnTo>
                    <a:pt x="1944" y="114"/>
                  </a:lnTo>
                  <a:lnTo>
                    <a:pt x="1949" y="114"/>
                  </a:lnTo>
                  <a:lnTo>
                    <a:pt x="1959" y="119"/>
                  </a:lnTo>
                  <a:lnTo>
                    <a:pt x="1963" y="119"/>
                  </a:lnTo>
                  <a:lnTo>
                    <a:pt x="1973" y="119"/>
                  </a:lnTo>
                  <a:lnTo>
                    <a:pt x="1983" y="119"/>
                  </a:lnTo>
                  <a:lnTo>
                    <a:pt x="1988" y="119"/>
                  </a:lnTo>
                  <a:lnTo>
                    <a:pt x="1998" y="119"/>
                  </a:lnTo>
                  <a:lnTo>
                    <a:pt x="2003" y="124"/>
                  </a:lnTo>
                  <a:lnTo>
                    <a:pt x="2008" y="129"/>
                  </a:lnTo>
                  <a:lnTo>
                    <a:pt x="2013" y="134"/>
                  </a:lnTo>
                  <a:lnTo>
                    <a:pt x="2013" y="139"/>
                  </a:lnTo>
                  <a:lnTo>
                    <a:pt x="2018" y="144"/>
                  </a:lnTo>
                  <a:lnTo>
                    <a:pt x="2023" y="149"/>
                  </a:lnTo>
                  <a:lnTo>
                    <a:pt x="2028" y="149"/>
                  </a:lnTo>
                  <a:lnTo>
                    <a:pt x="2038" y="149"/>
                  </a:lnTo>
                  <a:lnTo>
                    <a:pt x="2043" y="149"/>
                  </a:lnTo>
                  <a:lnTo>
                    <a:pt x="2052" y="154"/>
                  </a:lnTo>
                  <a:lnTo>
                    <a:pt x="2062" y="154"/>
                  </a:lnTo>
                  <a:lnTo>
                    <a:pt x="2067" y="154"/>
                  </a:lnTo>
                  <a:lnTo>
                    <a:pt x="2077" y="154"/>
                  </a:lnTo>
                  <a:lnTo>
                    <a:pt x="2087" y="159"/>
                  </a:lnTo>
                  <a:lnTo>
                    <a:pt x="2092" y="159"/>
                  </a:lnTo>
                  <a:lnTo>
                    <a:pt x="2097" y="159"/>
                  </a:lnTo>
                  <a:lnTo>
                    <a:pt x="2097" y="163"/>
                  </a:lnTo>
                  <a:lnTo>
                    <a:pt x="2092" y="168"/>
                  </a:lnTo>
                  <a:lnTo>
                    <a:pt x="2087" y="173"/>
                  </a:lnTo>
                  <a:lnTo>
                    <a:pt x="2082" y="178"/>
                  </a:lnTo>
                  <a:lnTo>
                    <a:pt x="2077" y="183"/>
                  </a:lnTo>
                  <a:lnTo>
                    <a:pt x="2077" y="188"/>
                  </a:lnTo>
                  <a:lnTo>
                    <a:pt x="2072" y="193"/>
                  </a:lnTo>
                  <a:lnTo>
                    <a:pt x="2067" y="198"/>
                  </a:lnTo>
                  <a:lnTo>
                    <a:pt x="2067" y="203"/>
                  </a:lnTo>
                  <a:lnTo>
                    <a:pt x="2062" y="208"/>
                  </a:lnTo>
                  <a:lnTo>
                    <a:pt x="2062" y="213"/>
                  </a:lnTo>
                  <a:lnTo>
                    <a:pt x="2057" y="218"/>
                  </a:lnTo>
                  <a:lnTo>
                    <a:pt x="2052" y="223"/>
                  </a:lnTo>
                  <a:lnTo>
                    <a:pt x="2052" y="228"/>
                  </a:lnTo>
                  <a:lnTo>
                    <a:pt x="2048" y="233"/>
                  </a:lnTo>
                  <a:lnTo>
                    <a:pt x="2043" y="238"/>
                  </a:lnTo>
                  <a:lnTo>
                    <a:pt x="2043" y="243"/>
                  </a:lnTo>
                  <a:lnTo>
                    <a:pt x="2043" y="247"/>
                  </a:lnTo>
                  <a:lnTo>
                    <a:pt x="2038" y="252"/>
                  </a:lnTo>
                  <a:lnTo>
                    <a:pt x="2038" y="257"/>
                  </a:lnTo>
                  <a:lnTo>
                    <a:pt x="2033" y="262"/>
                  </a:lnTo>
                  <a:lnTo>
                    <a:pt x="2028" y="267"/>
                  </a:lnTo>
                  <a:lnTo>
                    <a:pt x="2018" y="267"/>
                  </a:lnTo>
                  <a:close/>
                  <a:moveTo>
                    <a:pt x="1360" y="213"/>
                  </a:moveTo>
                  <a:lnTo>
                    <a:pt x="1365" y="203"/>
                  </a:lnTo>
                  <a:lnTo>
                    <a:pt x="1370" y="198"/>
                  </a:lnTo>
                  <a:lnTo>
                    <a:pt x="1380" y="193"/>
                  </a:lnTo>
                  <a:lnTo>
                    <a:pt x="1390" y="193"/>
                  </a:lnTo>
                  <a:lnTo>
                    <a:pt x="1395" y="198"/>
                  </a:lnTo>
                  <a:lnTo>
                    <a:pt x="1405" y="208"/>
                  </a:lnTo>
                  <a:lnTo>
                    <a:pt x="1410" y="213"/>
                  </a:lnTo>
                  <a:lnTo>
                    <a:pt x="1405" y="218"/>
                  </a:lnTo>
                  <a:lnTo>
                    <a:pt x="1400" y="228"/>
                  </a:lnTo>
                  <a:lnTo>
                    <a:pt x="1390" y="228"/>
                  </a:lnTo>
                  <a:lnTo>
                    <a:pt x="1380" y="233"/>
                  </a:lnTo>
                  <a:lnTo>
                    <a:pt x="1370" y="228"/>
                  </a:lnTo>
                  <a:lnTo>
                    <a:pt x="1365" y="223"/>
                  </a:lnTo>
                  <a:lnTo>
                    <a:pt x="1360" y="213"/>
                  </a:lnTo>
                  <a:close/>
                  <a:moveTo>
                    <a:pt x="1004" y="188"/>
                  </a:moveTo>
                  <a:lnTo>
                    <a:pt x="1004" y="183"/>
                  </a:lnTo>
                  <a:lnTo>
                    <a:pt x="1009" y="183"/>
                  </a:lnTo>
                  <a:lnTo>
                    <a:pt x="1009" y="178"/>
                  </a:lnTo>
                  <a:lnTo>
                    <a:pt x="1014" y="178"/>
                  </a:lnTo>
                  <a:lnTo>
                    <a:pt x="1014" y="183"/>
                  </a:lnTo>
                  <a:lnTo>
                    <a:pt x="1014" y="183"/>
                  </a:lnTo>
                  <a:lnTo>
                    <a:pt x="1014" y="188"/>
                  </a:lnTo>
                  <a:lnTo>
                    <a:pt x="1014" y="188"/>
                  </a:lnTo>
                  <a:lnTo>
                    <a:pt x="1014" y="193"/>
                  </a:lnTo>
                  <a:lnTo>
                    <a:pt x="1009" y="193"/>
                  </a:lnTo>
                  <a:lnTo>
                    <a:pt x="1009" y="193"/>
                  </a:lnTo>
                  <a:lnTo>
                    <a:pt x="1004" y="193"/>
                  </a:lnTo>
                  <a:lnTo>
                    <a:pt x="1004" y="188"/>
                  </a:lnTo>
                  <a:lnTo>
                    <a:pt x="1004" y="188"/>
                  </a:lnTo>
                  <a:close/>
                  <a:moveTo>
                    <a:pt x="1197" y="188"/>
                  </a:moveTo>
                  <a:lnTo>
                    <a:pt x="1197" y="183"/>
                  </a:lnTo>
                  <a:lnTo>
                    <a:pt x="1202" y="178"/>
                  </a:lnTo>
                  <a:lnTo>
                    <a:pt x="1212" y="178"/>
                  </a:lnTo>
                  <a:lnTo>
                    <a:pt x="1217" y="173"/>
                  </a:lnTo>
                  <a:lnTo>
                    <a:pt x="1222" y="173"/>
                  </a:lnTo>
                  <a:lnTo>
                    <a:pt x="1227" y="178"/>
                  </a:lnTo>
                  <a:lnTo>
                    <a:pt x="1232" y="178"/>
                  </a:lnTo>
                  <a:lnTo>
                    <a:pt x="1232" y="183"/>
                  </a:lnTo>
                  <a:lnTo>
                    <a:pt x="1236" y="188"/>
                  </a:lnTo>
                  <a:lnTo>
                    <a:pt x="1236" y="193"/>
                  </a:lnTo>
                  <a:lnTo>
                    <a:pt x="1232" y="198"/>
                  </a:lnTo>
                  <a:lnTo>
                    <a:pt x="1232" y="198"/>
                  </a:lnTo>
                  <a:lnTo>
                    <a:pt x="1227" y="203"/>
                  </a:lnTo>
                  <a:lnTo>
                    <a:pt x="1222" y="203"/>
                  </a:lnTo>
                  <a:lnTo>
                    <a:pt x="1217" y="203"/>
                  </a:lnTo>
                  <a:lnTo>
                    <a:pt x="1212" y="198"/>
                  </a:lnTo>
                  <a:lnTo>
                    <a:pt x="1207" y="198"/>
                  </a:lnTo>
                  <a:lnTo>
                    <a:pt x="1202" y="193"/>
                  </a:lnTo>
                  <a:lnTo>
                    <a:pt x="1197" y="188"/>
                  </a:lnTo>
                  <a:lnTo>
                    <a:pt x="1197" y="188"/>
                  </a:lnTo>
                  <a:close/>
                  <a:moveTo>
                    <a:pt x="1429" y="188"/>
                  </a:moveTo>
                  <a:lnTo>
                    <a:pt x="1434" y="183"/>
                  </a:lnTo>
                  <a:lnTo>
                    <a:pt x="1439" y="178"/>
                  </a:lnTo>
                  <a:lnTo>
                    <a:pt x="1444" y="173"/>
                  </a:lnTo>
                  <a:lnTo>
                    <a:pt x="1449" y="173"/>
                  </a:lnTo>
                  <a:lnTo>
                    <a:pt x="1459" y="168"/>
                  </a:lnTo>
                  <a:lnTo>
                    <a:pt x="1469" y="168"/>
                  </a:lnTo>
                  <a:lnTo>
                    <a:pt x="1479" y="168"/>
                  </a:lnTo>
                  <a:lnTo>
                    <a:pt x="1489" y="168"/>
                  </a:lnTo>
                  <a:lnTo>
                    <a:pt x="1489" y="163"/>
                  </a:lnTo>
                  <a:lnTo>
                    <a:pt x="1489" y="159"/>
                  </a:lnTo>
                  <a:lnTo>
                    <a:pt x="1494" y="154"/>
                  </a:lnTo>
                  <a:lnTo>
                    <a:pt x="1499" y="149"/>
                  </a:lnTo>
                  <a:lnTo>
                    <a:pt x="1504" y="144"/>
                  </a:lnTo>
                  <a:lnTo>
                    <a:pt x="1508" y="144"/>
                  </a:lnTo>
                  <a:lnTo>
                    <a:pt x="1518" y="139"/>
                  </a:lnTo>
                  <a:lnTo>
                    <a:pt x="1528" y="144"/>
                  </a:lnTo>
                  <a:lnTo>
                    <a:pt x="1533" y="144"/>
                  </a:lnTo>
                  <a:lnTo>
                    <a:pt x="1543" y="139"/>
                  </a:lnTo>
                  <a:lnTo>
                    <a:pt x="1548" y="139"/>
                  </a:lnTo>
                  <a:lnTo>
                    <a:pt x="1558" y="134"/>
                  </a:lnTo>
                  <a:lnTo>
                    <a:pt x="1563" y="129"/>
                  </a:lnTo>
                  <a:lnTo>
                    <a:pt x="1563" y="129"/>
                  </a:lnTo>
                  <a:lnTo>
                    <a:pt x="1568" y="124"/>
                  </a:lnTo>
                  <a:lnTo>
                    <a:pt x="1573" y="119"/>
                  </a:lnTo>
                  <a:lnTo>
                    <a:pt x="1583" y="114"/>
                  </a:lnTo>
                  <a:lnTo>
                    <a:pt x="1588" y="114"/>
                  </a:lnTo>
                  <a:lnTo>
                    <a:pt x="1598" y="109"/>
                  </a:lnTo>
                  <a:lnTo>
                    <a:pt x="1602" y="109"/>
                  </a:lnTo>
                  <a:lnTo>
                    <a:pt x="1612" y="109"/>
                  </a:lnTo>
                  <a:lnTo>
                    <a:pt x="1617" y="109"/>
                  </a:lnTo>
                  <a:lnTo>
                    <a:pt x="1627" y="109"/>
                  </a:lnTo>
                  <a:lnTo>
                    <a:pt x="1637" y="109"/>
                  </a:lnTo>
                  <a:lnTo>
                    <a:pt x="1642" y="109"/>
                  </a:lnTo>
                  <a:lnTo>
                    <a:pt x="1652" y="109"/>
                  </a:lnTo>
                  <a:lnTo>
                    <a:pt x="1662" y="109"/>
                  </a:lnTo>
                  <a:lnTo>
                    <a:pt x="1667" y="114"/>
                  </a:lnTo>
                  <a:lnTo>
                    <a:pt x="1677" y="114"/>
                  </a:lnTo>
                  <a:lnTo>
                    <a:pt x="1682" y="119"/>
                  </a:lnTo>
                  <a:lnTo>
                    <a:pt x="1687" y="119"/>
                  </a:lnTo>
                  <a:lnTo>
                    <a:pt x="1691" y="124"/>
                  </a:lnTo>
                  <a:lnTo>
                    <a:pt x="1696" y="129"/>
                  </a:lnTo>
                  <a:lnTo>
                    <a:pt x="1701" y="134"/>
                  </a:lnTo>
                  <a:lnTo>
                    <a:pt x="1701" y="139"/>
                  </a:lnTo>
                  <a:lnTo>
                    <a:pt x="1711" y="139"/>
                  </a:lnTo>
                  <a:lnTo>
                    <a:pt x="1716" y="139"/>
                  </a:lnTo>
                  <a:lnTo>
                    <a:pt x="1726" y="139"/>
                  </a:lnTo>
                  <a:lnTo>
                    <a:pt x="1736" y="139"/>
                  </a:lnTo>
                  <a:lnTo>
                    <a:pt x="1746" y="144"/>
                  </a:lnTo>
                  <a:lnTo>
                    <a:pt x="1751" y="149"/>
                  </a:lnTo>
                  <a:lnTo>
                    <a:pt x="1751" y="154"/>
                  </a:lnTo>
                  <a:lnTo>
                    <a:pt x="1756" y="159"/>
                  </a:lnTo>
                  <a:lnTo>
                    <a:pt x="1756" y="163"/>
                  </a:lnTo>
                  <a:lnTo>
                    <a:pt x="1751" y="168"/>
                  </a:lnTo>
                  <a:lnTo>
                    <a:pt x="1746" y="173"/>
                  </a:lnTo>
                  <a:lnTo>
                    <a:pt x="1736" y="178"/>
                  </a:lnTo>
                  <a:lnTo>
                    <a:pt x="1731" y="178"/>
                  </a:lnTo>
                  <a:lnTo>
                    <a:pt x="1721" y="183"/>
                  </a:lnTo>
                  <a:lnTo>
                    <a:pt x="1716" y="178"/>
                  </a:lnTo>
                  <a:lnTo>
                    <a:pt x="1706" y="178"/>
                  </a:lnTo>
                  <a:lnTo>
                    <a:pt x="1701" y="173"/>
                  </a:lnTo>
                  <a:lnTo>
                    <a:pt x="1696" y="173"/>
                  </a:lnTo>
                  <a:lnTo>
                    <a:pt x="1691" y="168"/>
                  </a:lnTo>
                  <a:lnTo>
                    <a:pt x="1687" y="163"/>
                  </a:lnTo>
                  <a:lnTo>
                    <a:pt x="1677" y="159"/>
                  </a:lnTo>
                  <a:lnTo>
                    <a:pt x="1672" y="159"/>
                  </a:lnTo>
                  <a:lnTo>
                    <a:pt x="1667" y="154"/>
                  </a:lnTo>
                  <a:lnTo>
                    <a:pt x="1657" y="154"/>
                  </a:lnTo>
                  <a:lnTo>
                    <a:pt x="1647" y="154"/>
                  </a:lnTo>
                  <a:lnTo>
                    <a:pt x="1637" y="154"/>
                  </a:lnTo>
                  <a:lnTo>
                    <a:pt x="1627" y="154"/>
                  </a:lnTo>
                  <a:lnTo>
                    <a:pt x="1622" y="159"/>
                  </a:lnTo>
                  <a:lnTo>
                    <a:pt x="1622" y="159"/>
                  </a:lnTo>
                  <a:lnTo>
                    <a:pt x="1612" y="154"/>
                  </a:lnTo>
                  <a:lnTo>
                    <a:pt x="1602" y="154"/>
                  </a:lnTo>
                  <a:lnTo>
                    <a:pt x="1593" y="154"/>
                  </a:lnTo>
                  <a:lnTo>
                    <a:pt x="1588" y="159"/>
                  </a:lnTo>
                  <a:lnTo>
                    <a:pt x="1578" y="159"/>
                  </a:lnTo>
                  <a:lnTo>
                    <a:pt x="1573" y="163"/>
                  </a:lnTo>
                  <a:lnTo>
                    <a:pt x="1573" y="168"/>
                  </a:lnTo>
                  <a:lnTo>
                    <a:pt x="1573" y="173"/>
                  </a:lnTo>
                  <a:lnTo>
                    <a:pt x="1573" y="178"/>
                  </a:lnTo>
                  <a:lnTo>
                    <a:pt x="1573" y="183"/>
                  </a:lnTo>
                  <a:lnTo>
                    <a:pt x="1568" y="188"/>
                  </a:lnTo>
                  <a:lnTo>
                    <a:pt x="1558" y="183"/>
                  </a:lnTo>
                  <a:lnTo>
                    <a:pt x="1548" y="183"/>
                  </a:lnTo>
                  <a:lnTo>
                    <a:pt x="1543" y="183"/>
                  </a:lnTo>
                  <a:lnTo>
                    <a:pt x="1533" y="183"/>
                  </a:lnTo>
                  <a:lnTo>
                    <a:pt x="1523" y="183"/>
                  </a:lnTo>
                  <a:lnTo>
                    <a:pt x="1518" y="183"/>
                  </a:lnTo>
                  <a:lnTo>
                    <a:pt x="1508" y="183"/>
                  </a:lnTo>
                  <a:lnTo>
                    <a:pt x="1499" y="183"/>
                  </a:lnTo>
                  <a:lnTo>
                    <a:pt x="1494" y="188"/>
                  </a:lnTo>
                  <a:lnTo>
                    <a:pt x="1494" y="193"/>
                  </a:lnTo>
                  <a:lnTo>
                    <a:pt x="1489" y="198"/>
                  </a:lnTo>
                  <a:lnTo>
                    <a:pt x="1489" y="203"/>
                  </a:lnTo>
                  <a:lnTo>
                    <a:pt x="1484" y="203"/>
                  </a:lnTo>
                  <a:lnTo>
                    <a:pt x="1474" y="208"/>
                  </a:lnTo>
                  <a:lnTo>
                    <a:pt x="1464" y="208"/>
                  </a:lnTo>
                  <a:lnTo>
                    <a:pt x="1454" y="203"/>
                  </a:lnTo>
                  <a:lnTo>
                    <a:pt x="1449" y="203"/>
                  </a:lnTo>
                  <a:lnTo>
                    <a:pt x="1439" y="198"/>
                  </a:lnTo>
                  <a:lnTo>
                    <a:pt x="1434" y="198"/>
                  </a:lnTo>
                  <a:lnTo>
                    <a:pt x="1434" y="193"/>
                  </a:lnTo>
                  <a:lnTo>
                    <a:pt x="1429" y="188"/>
                  </a:lnTo>
                  <a:close/>
                  <a:moveTo>
                    <a:pt x="1281" y="159"/>
                  </a:moveTo>
                  <a:lnTo>
                    <a:pt x="1286" y="149"/>
                  </a:lnTo>
                  <a:lnTo>
                    <a:pt x="1291" y="144"/>
                  </a:lnTo>
                  <a:lnTo>
                    <a:pt x="1301" y="139"/>
                  </a:lnTo>
                  <a:lnTo>
                    <a:pt x="1306" y="144"/>
                  </a:lnTo>
                  <a:lnTo>
                    <a:pt x="1316" y="149"/>
                  </a:lnTo>
                  <a:lnTo>
                    <a:pt x="1321" y="154"/>
                  </a:lnTo>
                  <a:lnTo>
                    <a:pt x="1321" y="163"/>
                  </a:lnTo>
                  <a:lnTo>
                    <a:pt x="1321" y="173"/>
                  </a:lnTo>
                  <a:lnTo>
                    <a:pt x="1311" y="178"/>
                  </a:lnTo>
                  <a:lnTo>
                    <a:pt x="1306" y="183"/>
                  </a:lnTo>
                  <a:lnTo>
                    <a:pt x="1296" y="183"/>
                  </a:lnTo>
                  <a:lnTo>
                    <a:pt x="1291" y="178"/>
                  </a:lnTo>
                  <a:lnTo>
                    <a:pt x="1286" y="168"/>
                  </a:lnTo>
                  <a:lnTo>
                    <a:pt x="1281" y="159"/>
                  </a:lnTo>
                  <a:close/>
                  <a:moveTo>
                    <a:pt x="1360" y="134"/>
                  </a:moveTo>
                  <a:lnTo>
                    <a:pt x="1365" y="124"/>
                  </a:lnTo>
                  <a:lnTo>
                    <a:pt x="1370" y="119"/>
                  </a:lnTo>
                  <a:lnTo>
                    <a:pt x="1375" y="114"/>
                  </a:lnTo>
                  <a:lnTo>
                    <a:pt x="1385" y="114"/>
                  </a:lnTo>
                  <a:lnTo>
                    <a:pt x="1395" y="114"/>
                  </a:lnTo>
                  <a:lnTo>
                    <a:pt x="1410" y="114"/>
                  </a:lnTo>
                  <a:lnTo>
                    <a:pt x="1419" y="119"/>
                  </a:lnTo>
                  <a:lnTo>
                    <a:pt x="1424" y="124"/>
                  </a:lnTo>
                  <a:lnTo>
                    <a:pt x="1429" y="129"/>
                  </a:lnTo>
                  <a:lnTo>
                    <a:pt x="1429" y="134"/>
                  </a:lnTo>
                  <a:lnTo>
                    <a:pt x="1424" y="144"/>
                  </a:lnTo>
                  <a:lnTo>
                    <a:pt x="1419" y="149"/>
                  </a:lnTo>
                  <a:lnTo>
                    <a:pt x="1410" y="154"/>
                  </a:lnTo>
                  <a:lnTo>
                    <a:pt x="1400" y="154"/>
                  </a:lnTo>
                  <a:lnTo>
                    <a:pt x="1390" y="159"/>
                  </a:lnTo>
                  <a:lnTo>
                    <a:pt x="1380" y="159"/>
                  </a:lnTo>
                  <a:lnTo>
                    <a:pt x="1375" y="154"/>
                  </a:lnTo>
                  <a:lnTo>
                    <a:pt x="1365" y="149"/>
                  </a:lnTo>
                  <a:lnTo>
                    <a:pt x="1360" y="144"/>
                  </a:lnTo>
                  <a:lnTo>
                    <a:pt x="1360" y="134"/>
                  </a:lnTo>
                  <a:close/>
                  <a:moveTo>
                    <a:pt x="1439" y="104"/>
                  </a:moveTo>
                  <a:lnTo>
                    <a:pt x="1444" y="99"/>
                  </a:lnTo>
                  <a:lnTo>
                    <a:pt x="1449" y="94"/>
                  </a:lnTo>
                  <a:lnTo>
                    <a:pt x="1459" y="89"/>
                  </a:lnTo>
                  <a:lnTo>
                    <a:pt x="1469" y="84"/>
                  </a:lnTo>
                  <a:lnTo>
                    <a:pt x="1479" y="84"/>
                  </a:lnTo>
                  <a:lnTo>
                    <a:pt x="1494" y="84"/>
                  </a:lnTo>
                  <a:lnTo>
                    <a:pt x="1504" y="89"/>
                  </a:lnTo>
                  <a:lnTo>
                    <a:pt x="1508" y="94"/>
                  </a:lnTo>
                  <a:lnTo>
                    <a:pt x="1513" y="104"/>
                  </a:lnTo>
                  <a:lnTo>
                    <a:pt x="1513" y="109"/>
                  </a:lnTo>
                  <a:lnTo>
                    <a:pt x="1513" y="119"/>
                  </a:lnTo>
                  <a:lnTo>
                    <a:pt x="1504" y="124"/>
                  </a:lnTo>
                  <a:lnTo>
                    <a:pt x="1494" y="129"/>
                  </a:lnTo>
                  <a:lnTo>
                    <a:pt x="1484" y="134"/>
                  </a:lnTo>
                  <a:lnTo>
                    <a:pt x="1474" y="134"/>
                  </a:lnTo>
                  <a:lnTo>
                    <a:pt x="1464" y="134"/>
                  </a:lnTo>
                  <a:lnTo>
                    <a:pt x="1454" y="129"/>
                  </a:lnTo>
                  <a:lnTo>
                    <a:pt x="1444" y="124"/>
                  </a:lnTo>
                  <a:lnTo>
                    <a:pt x="1444" y="114"/>
                  </a:lnTo>
                  <a:lnTo>
                    <a:pt x="1439" y="104"/>
                  </a:lnTo>
                  <a:close/>
                </a:path>
              </a:pathLst>
            </a:custGeom>
            <a:solidFill>
              <a:srgbClr val="ffd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8" name=""/>
            <p:cNvSpPr/>
            <p:nvPr/>
          </p:nvSpPr>
          <p:spPr>
            <a:xfrm>
              <a:off x="2265120" y="2368440"/>
              <a:ext cx="4098960" cy="2628360"/>
            </a:xfrm>
            <a:custGeom>
              <a:avLst/>
              <a:gdLst/>
              <a:ahLst/>
              <a:rect l="l" t="t" r="r" b="b"/>
              <a:pathLst>
                <a:path w="2582" h="1656">
                  <a:moveTo>
                    <a:pt x="2235" y="1656"/>
                  </a:moveTo>
                  <a:lnTo>
                    <a:pt x="2260" y="1631"/>
                  </a:lnTo>
                  <a:lnTo>
                    <a:pt x="2285" y="1631"/>
                  </a:lnTo>
                  <a:lnTo>
                    <a:pt x="2315" y="1631"/>
                  </a:lnTo>
                  <a:lnTo>
                    <a:pt x="2339" y="1631"/>
                  </a:lnTo>
                  <a:lnTo>
                    <a:pt x="2369" y="1631"/>
                  </a:lnTo>
                  <a:lnTo>
                    <a:pt x="2394" y="1631"/>
                  </a:lnTo>
                  <a:lnTo>
                    <a:pt x="2418" y="1631"/>
                  </a:lnTo>
                  <a:lnTo>
                    <a:pt x="2448" y="1602"/>
                  </a:lnTo>
                  <a:lnTo>
                    <a:pt x="2448" y="1577"/>
                  </a:lnTo>
                  <a:lnTo>
                    <a:pt x="2448" y="1547"/>
                  </a:lnTo>
                  <a:lnTo>
                    <a:pt x="2448" y="1523"/>
                  </a:lnTo>
                  <a:lnTo>
                    <a:pt x="2473" y="1498"/>
                  </a:lnTo>
                  <a:lnTo>
                    <a:pt x="2473" y="1468"/>
                  </a:lnTo>
                  <a:lnTo>
                    <a:pt x="2473" y="1444"/>
                  </a:lnTo>
                  <a:lnTo>
                    <a:pt x="2473" y="1414"/>
                  </a:lnTo>
                  <a:lnTo>
                    <a:pt x="2503" y="1389"/>
                  </a:lnTo>
                  <a:lnTo>
                    <a:pt x="2503" y="1364"/>
                  </a:lnTo>
                  <a:lnTo>
                    <a:pt x="2503" y="1335"/>
                  </a:lnTo>
                  <a:lnTo>
                    <a:pt x="2503" y="1310"/>
                  </a:lnTo>
                  <a:lnTo>
                    <a:pt x="2527" y="1280"/>
                  </a:lnTo>
                  <a:lnTo>
                    <a:pt x="2527" y="1256"/>
                  </a:lnTo>
                  <a:lnTo>
                    <a:pt x="2527" y="1226"/>
                  </a:lnTo>
                  <a:lnTo>
                    <a:pt x="2527" y="1201"/>
                  </a:lnTo>
                  <a:lnTo>
                    <a:pt x="2552" y="1177"/>
                  </a:lnTo>
                  <a:lnTo>
                    <a:pt x="2552" y="1147"/>
                  </a:lnTo>
                  <a:lnTo>
                    <a:pt x="2552" y="1122"/>
                  </a:lnTo>
                  <a:lnTo>
                    <a:pt x="2552" y="1093"/>
                  </a:lnTo>
                  <a:lnTo>
                    <a:pt x="2582" y="1068"/>
                  </a:lnTo>
                  <a:lnTo>
                    <a:pt x="2582" y="1043"/>
                  </a:lnTo>
                  <a:lnTo>
                    <a:pt x="2582" y="1014"/>
                  </a:lnTo>
                  <a:lnTo>
                    <a:pt x="2582" y="989"/>
                  </a:lnTo>
                  <a:lnTo>
                    <a:pt x="2582" y="959"/>
                  </a:lnTo>
                  <a:lnTo>
                    <a:pt x="2582" y="934"/>
                  </a:lnTo>
                  <a:lnTo>
                    <a:pt x="2582" y="910"/>
                  </a:lnTo>
                  <a:lnTo>
                    <a:pt x="2582" y="880"/>
                  </a:lnTo>
                  <a:lnTo>
                    <a:pt x="2582" y="855"/>
                  </a:lnTo>
                  <a:lnTo>
                    <a:pt x="2582" y="826"/>
                  </a:lnTo>
                  <a:lnTo>
                    <a:pt x="2582" y="801"/>
                  </a:lnTo>
                  <a:lnTo>
                    <a:pt x="2582" y="776"/>
                  </a:lnTo>
                  <a:lnTo>
                    <a:pt x="2582" y="747"/>
                  </a:lnTo>
                  <a:lnTo>
                    <a:pt x="2582" y="722"/>
                  </a:lnTo>
                  <a:lnTo>
                    <a:pt x="2582" y="692"/>
                  </a:lnTo>
                  <a:lnTo>
                    <a:pt x="2582" y="668"/>
                  </a:lnTo>
                  <a:lnTo>
                    <a:pt x="2582" y="643"/>
                  </a:lnTo>
                  <a:lnTo>
                    <a:pt x="2582" y="613"/>
                  </a:lnTo>
                  <a:lnTo>
                    <a:pt x="2582" y="589"/>
                  </a:lnTo>
                  <a:lnTo>
                    <a:pt x="2582" y="559"/>
                  </a:lnTo>
                  <a:lnTo>
                    <a:pt x="2582" y="534"/>
                  </a:lnTo>
                  <a:lnTo>
                    <a:pt x="2582" y="504"/>
                  </a:lnTo>
                  <a:lnTo>
                    <a:pt x="2582" y="480"/>
                  </a:lnTo>
                  <a:lnTo>
                    <a:pt x="2582" y="455"/>
                  </a:lnTo>
                  <a:lnTo>
                    <a:pt x="2582" y="425"/>
                  </a:lnTo>
                  <a:lnTo>
                    <a:pt x="2582" y="401"/>
                  </a:lnTo>
                  <a:lnTo>
                    <a:pt x="2582" y="371"/>
                  </a:lnTo>
                  <a:lnTo>
                    <a:pt x="2582" y="346"/>
                  </a:lnTo>
                  <a:lnTo>
                    <a:pt x="2582" y="322"/>
                  </a:lnTo>
                  <a:lnTo>
                    <a:pt x="2582" y="292"/>
                  </a:lnTo>
                  <a:lnTo>
                    <a:pt x="2582" y="267"/>
                  </a:lnTo>
                  <a:lnTo>
                    <a:pt x="2582" y="238"/>
                  </a:lnTo>
                  <a:lnTo>
                    <a:pt x="2552" y="213"/>
                  </a:lnTo>
                  <a:lnTo>
                    <a:pt x="2552" y="188"/>
                  </a:lnTo>
                  <a:lnTo>
                    <a:pt x="2552" y="159"/>
                  </a:lnTo>
                  <a:lnTo>
                    <a:pt x="2552" y="134"/>
                  </a:lnTo>
                  <a:lnTo>
                    <a:pt x="2552" y="104"/>
                  </a:lnTo>
                  <a:lnTo>
                    <a:pt x="2527" y="79"/>
                  </a:lnTo>
                  <a:lnTo>
                    <a:pt x="2503" y="79"/>
                  </a:lnTo>
                  <a:lnTo>
                    <a:pt x="2473" y="79"/>
                  </a:lnTo>
                  <a:lnTo>
                    <a:pt x="2448" y="55"/>
                  </a:lnTo>
                  <a:lnTo>
                    <a:pt x="2418" y="55"/>
                  </a:lnTo>
                  <a:lnTo>
                    <a:pt x="2394" y="55"/>
                  </a:lnTo>
                  <a:lnTo>
                    <a:pt x="2369" y="25"/>
                  </a:lnTo>
                  <a:lnTo>
                    <a:pt x="2339" y="25"/>
                  </a:lnTo>
                  <a:lnTo>
                    <a:pt x="2315" y="25"/>
                  </a:lnTo>
                  <a:lnTo>
                    <a:pt x="2285" y="0"/>
                  </a:lnTo>
                  <a:lnTo>
                    <a:pt x="2260" y="0"/>
                  </a:lnTo>
                  <a:lnTo>
                    <a:pt x="2235" y="0"/>
                  </a:lnTo>
                  <a:lnTo>
                    <a:pt x="2206" y="0"/>
                  </a:lnTo>
                  <a:lnTo>
                    <a:pt x="2181" y="0"/>
                  </a:lnTo>
                  <a:lnTo>
                    <a:pt x="2156" y="0"/>
                  </a:lnTo>
                  <a:lnTo>
                    <a:pt x="2127" y="0"/>
                  </a:lnTo>
                  <a:lnTo>
                    <a:pt x="2102" y="0"/>
                  </a:lnTo>
                  <a:lnTo>
                    <a:pt x="2072" y="0"/>
                  </a:lnTo>
                  <a:lnTo>
                    <a:pt x="2048" y="0"/>
                  </a:lnTo>
                  <a:lnTo>
                    <a:pt x="2023" y="0"/>
                  </a:lnTo>
                  <a:lnTo>
                    <a:pt x="1993" y="0"/>
                  </a:lnTo>
                  <a:lnTo>
                    <a:pt x="1968" y="0"/>
                  </a:lnTo>
                  <a:lnTo>
                    <a:pt x="1944" y="0"/>
                  </a:lnTo>
                  <a:lnTo>
                    <a:pt x="1914" y="0"/>
                  </a:lnTo>
                  <a:lnTo>
                    <a:pt x="1889" y="0"/>
                  </a:lnTo>
                  <a:lnTo>
                    <a:pt x="1860" y="0"/>
                  </a:lnTo>
                  <a:lnTo>
                    <a:pt x="1835" y="0"/>
                  </a:lnTo>
                  <a:lnTo>
                    <a:pt x="1810" y="0"/>
                  </a:lnTo>
                  <a:lnTo>
                    <a:pt x="1780" y="0"/>
                  </a:lnTo>
                  <a:lnTo>
                    <a:pt x="1756" y="0"/>
                  </a:lnTo>
                  <a:lnTo>
                    <a:pt x="1726" y="0"/>
                  </a:lnTo>
                  <a:lnTo>
                    <a:pt x="1701" y="0"/>
                  </a:lnTo>
                  <a:lnTo>
                    <a:pt x="1677" y="0"/>
                  </a:lnTo>
                  <a:lnTo>
                    <a:pt x="1647" y="0"/>
                  </a:lnTo>
                  <a:lnTo>
                    <a:pt x="1622" y="0"/>
                  </a:lnTo>
                  <a:lnTo>
                    <a:pt x="1598" y="0"/>
                  </a:lnTo>
                  <a:lnTo>
                    <a:pt x="1568" y="0"/>
                  </a:lnTo>
                  <a:lnTo>
                    <a:pt x="1543" y="0"/>
                  </a:lnTo>
                  <a:lnTo>
                    <a:pt x="1513" y="0"/>
                  </a:lnTo>
                  <a:lnTo>
                    <a:pt x="1489" y="0"/>
                  </a:lnTo>
                  <a:lnTo>
                    <a:pt x="1464" y="0"/>
                  </a:lnTo>
                  <a:lnTo>
                    <a:pt x="1434" y="0"/>
                  </a:lnTo>
                  <a:lnTo>
                    <a:pt x="1410" y="0"/>
                  </a:lnTo>
                  <a:lnTo>
                    <a:pt x="1385" y="0"/>
                  </a:lnTo>
                  <a:lnTo>
                    <a:pt x="1355" y="0"/>
                  </a:lnTo>
                  <a:lnTo>
                    <a:pt x="1330" y="0"/>
                  </a:lnTo>
                  <a:lnTo>
                    <a:pt x="1301" y="0"/>
                  </a:lnTo>
                  <a:lnTo>
                    <a:pt x="1276" y="0"/>
                  </a:lnTo>
                  <a:lnTo>
                    <a:pt x="1251" y="0"/>
                  </a:lnTo>
                  <a:lnTo>
                    <a:pt x="1222" y="0"/>
                  </a:lnTo>
                  <a:lnTo>
                    <a:pt x="1197" y="0"/>
                  </a:lnTo>
                  <a:lnTo>
                    <a:pt x="1172" y="0"/>
                  </a:lnTo>
                  <a:lnTo>
                    <a:pt x="1143" y="0"/>
                  </a:lnTo>
                  <a:lnTo>
                    <a:pt x="1118" y="0"/>
                  </a:lnTo>
                  <a:lnTo>
                    <a:pt x="1088" y="0"/>
                  </a:lnTo>
                  <a:lnTo>
                    <a:pt x="1063" y="0"/>
                  </a:lnTo>
                  <a:lnTo>
                    <a:pt x="1039" y="0"/>
                  </a:lnTo>
                  <a:lnTo>
                    <a:pt x="1009" y="0"/>
                  </a:lnTo>
                  <a:lnTo>
                    <a:pt x="984" y="0"/>
                  </a:lnTo>
                  <a:lnTo>
                    <a:pt x="955" y="0"/>
                  </a:lnTo>
                  <a:lnTo>
                    <a:pt x="930" y="0"/>
                  </a:lnTo>
                  <a:lnTo>
                    <a:pt x="905" y="0"/>
                  </a:lnTo>
                  <a:lnTo>
                    <a:pt x="875" y="0"/>
                  </a:lnTo>
                  <a:lnTo>
                    <a:pt x="851" y="0"/>
                  </a:lnTo>
                  <a:lnTo>
                    <a:pt x="826" y="0"/>
                  </a:lnTo>
                  <a:lnTo>
                    <a:pt x="796" y="0"/>
                  </a:lnTo>
                  <a:lnTo>
                    <a:pt x="772" y="0"/>
                  </a:lnTo>
                  <a:lnTo>
                    <a:pt x="742" y="0"/>
                  </a:lnTo>
                  <a:lnTo>
                    <a:pt x="717" y="0"/>
                  </a:lnTo>
                  <a:lnTo>
                    <a:pt x="692" y="0"/>
                  </a:lnTo>
                  <a:lnTo>
                    <a:pt x="663" y="0"/>
                  </a:lnTo>
                  <a:lnTo>
                    <a:pt x="638" y="0"/>
                  </a:lnTo>
                  <a:lnTo>
                    <a:pt x="613" y="0"/>
                  </a:lnTo>
                  <a:lnTo>
                    <a:pt x="584" y="25"/>
                  </a:lnTo>
                  <a:lnTo>
                    <a:pt x="559" y="55"/>
                  </a:lnTo>
                  <a:lnTo>
                    <a:pt x="529" y="79"/>
                  </a:lnTo>
                  <a:lnTo>
                    <a:pt x="505" y="104"/>
                  </a:lnTo>
                  <a:lnTo>
                    <a:pt x="480" y="134"/>
                  </a:lnTo>
                  <a:lnTo>
                    <a:pt x="450" y="134"/>
                  </a:lnTo>
                  <a:lnTo>
                    <a:pt x="425" y="159"/>
                  </a:lnTo>
                  <a:lnTo>
                    <a:pt x="396" y="188"/>
                  </a:lnTo>
                  <a:lnTo>
                    <a:pt x="371" y="213"/>
                  </a:lnTo>
                  <a:lnTo>
                    <a:pt x="346" y="238"/>
                  </a:lnTo>
                  <a:lnTo>
                    <a:pt x="317" y="267"/>
                  </a:lnTo>
                  <a:lnTo>
                    <a:pt x="292" y="292"/>
                  </a:lnTo>
                  <a:lnTo>
                    <a:pt x="267" y="322"/>
                  </a:lnTo>
                  <a:lnTo>
                    <a:pt x="237" y="322"/>
                  </a:lnTo>
                  <a:lnTo>
                    <a:pt x="213" y="346"/>
                  </a:lnTo>
                  <a:lnTo>
                    <a:pt x="183" y="371"/>
                  </a:lnTo>
                  <a:lnTo>
                    <a:pt x="158" y="401"/>
                  </a:lnTo>
                  <a:lnTo>
                    <a:pt x="134" y="425"/>
                  </a:lnTo>
                  <a:lnTo>
                    <a:pt x="104" y="455"/>
                  </a:lnTo>
                  <a:lnTo>
                    <a:pt x="79" y="480"/>
                  </a:lnTo>
                  <a:lnTo>
                    <a:pt x="55" y="504"/>
                  </a:lnTo>
                  <a:lnTo>
                    <a:pt x="25" y="504"/>
                  </a:lnTo>
                  <a:lnTo>
                    <a:pt x="0" y="534"/>
                  </a:lnTo>
                  <a:lnTo>
                    <a:pt x="0" y="559"/>
                  </a:lnTo>
                  <a:lnTo>
                    <a:pt x="0" y="589"/>
                  </a:lnTo>
                  <a:lnTo>
                    <a:pt x="0" y="613"/>
                  </a:lnTo>
                  <a:lnTo>
                    <a:pt x="25" y="643"/>
                  </a:lnTo>
                  <a:lnTo>
                    <a:pt x="25" y="668"/>
                  </a:lnTo>
                  <a:lnTo>
                    <a:pt x="55" y="692"/>
                  </a:lnTo>
                  <a:lnTo>
                    <a:pt x="79" y="722"/>
                  </a:lnTo>
                  <a:lnTo>
                    <a:pt x="104" y="747"/>
                  </a:lnTo>
                  <a:lnTo>
                    <a:pt x="134" y="776"/>
                  </a:lnTo>
                  <a:lnTo>
                    <a:pt x="134" y="801"/>
                  </a:lnTo>
                  <a:lnTo>
                    <a:pt x="158" y="826"/>
                  </a:lnTo>
                  <a:lnTo>
                    <a:pt x="183" y="855"/>
                  </a:lnTo>
                  <a:lnTo>
                    <a:pt x="213" y="880"/>
                  </a:lnTo>
                  <a:lnTo>
                    <a:pt x="237" y="910"/>
                  </a:lnTo>
                  <a:lnTo>
                    <a:pt x="267" y="934"/>
                  </a:lnTo>
                  <a:lnTo>
                    <a:pt x="292" y="959"/>
                  </a:lnTo>
                  <a:lnTo>
                    <a:pt x="292" y="989"/>
                  </a:lnTo>
                  <a:lnTo>
                    <a:pt x="317" y="1014"/>
                  </a:lnTo>
                  <a:lnTo>
                    <a:pt x="346" y="1043"/>
                  </a:lnTo>
                  <a:lnTo>
                    <a:pt x="371" y="1068"/>
                  </a:lnTo>
                  <a:lnTo>
                    <a:pt x="396" y="1093"/>
                  </a:lnTo>
                  <a:lnTo>
                    <a:pt x="425" y="1122"/>
                  </a:lnTo>
                  <a:lnTo>
                    <a:pt x="450" y="1147"/>
                  </a:lnTo>
                  <a:lnTo>
                    <a:pt x="480" y="1177"/>
                  </a:lnTo>
                  <a:lnTo>
                    <a:pt x="505" y="1201"/>
                  </a:lnTo>
                  <a:lnTo>
                    <a:pt x="529" y="1226"/>
                  </a:lnTo>
                  <a:lnTo>
                    <a:pt x="559" y="1256"/>
                  </a:lnTo>
                  <a:lnTo>
                    <a:pt x="584" y="1280"/>
                  </a:lnTo>
                  <a:lnTo>
                    <a:pt x="613" y="1310"/>
                  </a:lnTo>
                  <a:lnTo>
                    <a:pt x="638" y="1335"/>
                  </a:lnTo>
                  <a:lnTo>
                    <a:pt x="663" y="1364"/>
                  </a:lnTo>
                  <a:lnTo>
                    <a:pt x="692" y="1389"/>
                  </a:lnTo>
                  <a:lnTo>
                    <a:pt x="717" y="1414"/>
                  </a:lnTo>
                  <a:lnTo>
                    <a:pt x="742" y="1444"/>
                  </a:lnTo>
                  <a:lnTo>
                    <a:pt x="772" y="1468"/>
                  </a:lnTo>
                  <a:lnTo>
                    <a:pt x="796" y="1468"/>
                  </a:lnTo>
                  <a:lnTo>
                    <a:pt x="826" y="1498"/>
                  </a:lnTo>
                  <a:lnTo>
                    <a:pt x="851" y="1523"/>
                  </a:lnTo>
                  <a:lnTo>
                    <a:pt x="875" y="1547"/>
                  </a:lnTo>
                  <a:lnTo>
                    <a:pt x="905" y="1577"/>
                  </a:lnTo>
                  <a:lnTo>
                    <a:pt x="930" y="1602"/>
                  </a:lnTo>
                  <a:lnTo>
                    <a:pt x="955" y="1631"/>
                  </a:lnTo>
                  <a:lnTo>
                    <a:pt x="984" y="1656"/>
                  </a:lnTo>
                  <a:lnTo>
                    <a:pt x="1009" y="1656"/>
                  </a:lnTo>
                  <a:lnTo>
                    <a:pt x="1039" y="1656"/>
                  </a:lnTo>
                  <a:lnTo>
                    <a:pt x="1063" y="1656"/>
                  </a:lnTo>
                  <a:lnTo>
                    <a:pt x="1088" y="1656"/>
                  </a:lnTo>
                  <a:lnTo>
                    <a:pt x="1118" y="1656"/>
                  </a:lnTo>
                  <a:lnTo>
                    <a:pt x="1143" y="1656"/>
                  </a:lnTo>
                  <a:lnTo>
                    <a:pt x="1172" y="1656"/>
                  </a:lnTo>
                  <a:lnTo>
                    <a:pt x="1197" y="1656"/>
                  </a:lnTo>
                  <a:lnTo>
                    <a:pt x="1222" y="1656"/>
                  </a:lnTo>
                  <a:lnTo>
                    <a:pt x="1251" y="1656"/>
                  </a:lnTo>
                  <a:lnTo>
                    <a:pt x="1276" y="1656"/>
                  </a:lnTo>
                  <a:lnTo>
                    <a:pt x="1301" y="1656"/>
                  </a:lnTo>
                  <a:lnTo>
                    <a:pt x="1330" y="1656"/>
                  </a:lnTo>
                  <a:lnTo>
                    <a:pt x="1355" y="1656"/>
                  </a:lnTo>
                  <a:lnTo>
                    <a:pt x="1385" y="1656"/>
                  </a:lnTo>
                  <a:lnTo>
                    <a:pt x="1410" y="1656"/>
                  </a:lnTo>
                  <a:lnTo>
                    <a:pt x="1434" y="1656"/>
                  </a:lnTo>
                  <a:lnTo>
                    <a:pt x="1464" y="1656"/>
                  </a:lnTo>
                  <a:lnTo>
                    <a:pt x="1489" y="1656"/>
                  </a:lnTo>
                  <a:lnTo>
                    <a:pt x="1513" y="1656"/>
                  </a:lnTo>
                  <a:lnTo>
                    <a:pt x="1543" y="1656"/>
                  </a:lnTo>
                  <a:lnTo>
                    <a:pt x="1568" y="1656"/>
                  </a:lnTo>
                  <a:lnTo>
                    <a:pt x="1598" y="1656"/>
                  </a:lnTo>
                  <a:lnTo>
                    <a:pt x="1622" y="1656"/>
                  </a:lnTo>
                  <a:lnTo>
                    <a:pt x="1647" y="1656"/>
                  </a:lnTo>
                  <a:lnTo>
                    <a:pt x="1677" y="1656"/>
                  </a:lnTo>
                  <a:lnTo>
                    <a:pt x="1701" y="1656"/>
                  </a:lnTo>
                  <a:lnTo>
                    <a:pt x="1726" y="1656"/>
                  </a:lnTo>
                  <a:lnTo>
                    <a:pt x="1756" y="1656"/>
                  </a:lnTo>
                  <a:lnTo>
                    <a:pt x="1780" y="1656"/>
                  </a:lnTo>
                  <a:lnTo>
                    <a:pt x="1810" y="1656"/>
                  </a:lnTo>
                  <a:lnTo>
                    <a:pt x="1835" y="1656"/>
                  </a:lnTo>
                  <a:lnTo>
                    <a:pt x="1860" y="1656"/>
                  </a:lnTo>
                  <a:lnTo>
                    <a:pt x="1889" y="1656"/>
                  </a:lnTo>
                  <a:lnTo>
                    <a:pt x="1914" y="1656"/>
                  </a:lnTo>
                  <a:lnTo>
                    <a:pt x="1944" y="1656"/>
                  </a:lnTo>
                  <a:lnTo>
                    <a:pt x="1968" y="1656"/>
                  </a:lnTo>
                  <a:lnTo>
                    <a:pt x="1993" y="1656"/>
                  </a:lnTo>
                  <a:lnTo>
                    <a:pt x="2023" y="1656"/>
                  </a:lnTo>
                  <a:lnTo>
                    <a:pt x="2048" y="1656"/>
                  </a:lnTo>
                  <a:lnTo>
                    <a:pt x="2072" y="1656"/>
                  </a:lnTo>
                  <a:lnTo>
                    <a:pt x="2102" y="1656"/>
                  </a:lnTo>
                  <a:lnTo>
                    <a:pt x="2127" y="1656"/>
                  </a:lnTo>
                  <a:lnTo>
                    <a:pt x="2156" y="1656"/>
                  </a:lnTo>
                  <a:lnTo>
                    <a:pt x="2181" y="1656"/>
                  </a:lnTo>
                  <a:lnTo>
                    <a:pt x="2206" y="1656"/>
                  </a:lnTo>
                  <a:lnTo>
                    <a:pt x="2235" y="1656"/>
                  </a:lnTo>
                  <a:close/>
                  <a:moveTo>
                    <a:pt x="1350" y="292"/>
                  </a:moveTo>
                  <a:lnTo>
                    <a:pt x="1350" y="287"/>
                  </a:lnTo>
                  <a:lnTo>
                    <a:pt x="1355" y="282"/>
                  </a:lnTo>
                  <a:lnTo>
                    <a:pt x="1365" y="282"/>
                  </a:lnTo>
                  <a:lnTo>
                    <a:pt x="1375" y="282"/>
                  </a:lnTo>
                  <a:lnTo>
                    <a:pt x="1380" y="282"/>
                  </a:lnTo>
                  <a:lnTo>
                    <a:pt x="1390" y="282"/>
                  </a:lnTo>
                  <a:lnTo>
                    <a:pt x="1400" y="282"/>
                  </a:lnTo>
                  <a:lnTo>
                    <a:pt x="1405" y="282"/>
                  </a:lnTo>
                  <a:lnTo>
                    <a:pt x="1415" y="277"/>
                  </a:lnTo>
                  <a:lnTo>
                    <a:pt x="1415" y="272"/>
                  </a:lnTo>
                  <a:lnTo>
                    <a:pt x="1419" y="267"/>
                  </a:lnTo>
                  <a:lnTo>
                    <a:pt x="1419" y="262"/>
                  </a:lnTo>
                  <a:lnTo>
                    <a:pt x="1424" y="257"/>
                  </a:lnTo>
                  <a:lnTo>
                    <a:pt x="1429" y="252"/>
                  </a:lnTo>
                  <a:lnTo>
                    <a:pt x="1434" y="247"/>
                  </a:lnTo>
                  <a:lnTo>
                    <a:pt x="1439" y="247"/>
                  </a:lnTo>
                  <a:lnTo>
                    <a:pt x="1444" y="247"/>
                  </a:lnTo>
                  <a:lnTo>
                    <a:pt x="1454" y="247"/>
                  </a:lnTo>
                  <a:lnTo>
                    <a:pt x="1464" y="247"/>
                  </a:lnTo>
                  <a:lnTo>
                    <a:pt x="1469" y="252"/>
                  </a:lnTo>
                  <a:lnTo>
                    <a:pt x="1479" y="257"/>
                  </a:lnTo>
                  <a:lnTo>
                    <a:pt x="1484" y="257"/>
                  </a:lnTo>
                  <a:lnTo>
                    <a:pt x="1484" y="262"/>
                  </a:lnTo>
                  <a:lnTo>
                    <a:pt x="1484" y="267"/>
                  </a:lnTo>
                  <a:lnTo>
                    <a:pt x="1479" y="272"/>
                  </a:lnTo>
                  <a:lnTo>
                    <a:pt x="1474" y="277"/>
                  </a:lnTo>
                  <a:lnTo>
                    <a:pt x="1464" y="277"/>
                  </a:lnTo>
                  <a:lnTo>
                    <a:pt x="1459" y="282"/>
                  </a:lnTo>
                  <a:lnTo>
                    <a:pt x="1449" y="282"/>
                  </a:lnTo>
                  <a:lnTo>
                    <a:pt x="1439" y="282"/>
                  </a:lnTo>
                  <a:lnTo>
                    <a:pt x="1434" y="287"/>
                  </a:lnTo>
                  <a:lnTo>
                    <a:pt x="1429" y="287"/>
                  </a:lnTo>
                  <a:lnTo>
                    <a:pt x="1424" y="292"/>
                  </a:lnTo>
                  <a:lnTo>
                    <a:pt x="1419" y="297"/>
                  </a:lnTo>
                  <a:lnTo>
                    <a:pt x="1415" y="302"/>
                  </a:lnTo>
                  <a:lnTo>
                    <a:pt x="1405" y="302"/>
                  </a:lnTo>
                  <a:lnTo>
                    <a:pt x="1400" y="302"/>
                  </a:lnTo>
                  <a:lnTo>
                    <a:pt x="1390" y="302"/>
                  </a:lnTo>
                  <a:lnTo>
                    <a:pt x="1380" y="302"/>
                  </a:lnTo>
                  <a:lnTo>
                    <a:pt x="1370" y="302"/>
                  </a:lnTo>
                  <a:lnTo>
                    <a:pt x="1365" y="302"/>
                  </a:lnTo>
                  <a:lnTo>
                    <a:pt x="1355" y="302"/>
                  </a:lnTo>
                  <a:lnTo>
                    <a:pt x="1350" y="297"/>
                  </a:lnTo>
                  <a:lnTo>
                    <a:pt x="1350" y="292"/>
                  </a:lnTo>
                  <a:close/>
                  <a:moveTo>
                    <a:pt x="1667" y="267"/>
                  </a:moveTo>
                  <a:lnTo>
                    <a:pt x="1657" y="262"/>
                  </a:lnTo>
                  <a:lnTo>
                    <a:pt x="1652" y="257"/>
                  </a:lnTo>
                  <a:lnTo>
                    <a:pt x="1647" y="252"/>
                  </a:lnTo>
                  <a:lnTo>
                    <a:pt x="1642" y="247"/>
                  </a:lnTo>
                  <a:lnTo>
                    <a:pt x="1637" y="243"/>
                  </a:lnTo>
                  <a:lnTo>
                    <a:pt x="1632" y="238"/>
                  </a:lnTo>
                  <a:lnTo>
                    <a:pt x="1627" y="233"/>
                  </a:lnTo>
                  <a:lnTo>
                    <a:pt x="1622" y="228"/>
                  </a:lnTo>
                  <a:lnTo>
                    <a:pt x="1617" y="228"/>
                  </a:lnTo>
                  <a:lnTo>
                    <a:pt x="1607" y="228"/>
                  </a:lnTo>
                  <a:lnTo>
                    <a:pt x="1598" y="228"/>
                  </a:lnTo>
                  <a:lnTo>
                    <a:pt x="1588" y="228"/>
                  </a:lnTo>
                  <a:lnTo>
                    <a:pt x="1578" y="228"/>
                  </a:lnTo>
                  <a:lnTo>
                    <a:pt x="1573" y="228"/>
                  </a:lnTo>
                  <a:lnTo>
                    <a:pt x="1568" y="233"/>
                  </a:lnTo>
                  <a:lnTo>
                    <a:pt x="1563" y="238"/>
                  </a:lnTo>
                  <a:lnTo>
                    <a:pt x="1558" y="243"/>
                  </a:lnTo>
                  <a:lnTo>
                    <a:pt x="1548" y="247"/>
                  </a:lnTo>
                  <a:lnTo>
                    <a:pt x="1543" y="252"/>
                  </a:lnTo>
                  <a:lnTo>
                    <a:pt x="1533" y="252"/>
                  </a:lnTo>
                  <a:lnTo>
                    <a:pt x="1528" y="257"/>
                  </a:lnTo>
                  <a:lnTo>
                    <a:pt x="1518" y="257"/>
                  </a:lnTo>
                  <a:lnTo>
                    <a:pt x="1508" y="257"/>
                  </a:lnTo>
                  <a:lnTo>
                    <a:pt x="1504" y="252"/>
                  </a:lnTo>
                  <a:lnTo>
                    <a:pt x="1494" y="247"/>
                  </a:lnTo>
                  <a:lnTo>
                    <a:pt x="1489" y="243"/>
                  </a:lnTo>
                  <a:lnTo>
                    <a:pt x="1489" y="238"/>
                  </a:lnTo>
                  <a:lnTo>
                    <a:pt x="1494" y="233"/>
                  </a:lnTo>
                  <a:lnTo>
                    <a:pt x="1499" y="223"/>
                  </a:lnTo>
                  <a:lnTo>
                    <a:pt x="1504" y="223"/>
                  </a:lnTo>
                  <a:lnTo>
                    <a:pt x="1513" y="218"/>
                  </a:lnTo>
                  <a:lnTo>
                    <a:pt x="1523" y="218"/>
                  </a:lnTo>
                  <a:lnTo>
                    <a:pt x="1533" y="223"/>
                  </a:lnTo>
                  <a:lnTo>
                    <a:pt x="1538" y="223"/>
                  </a:lnTo>
                  <a:lnTo>
                    <a:pt x="1548" y="218"/>
                  </a:lnTo>
                  <a:lnTo>
                    <a:pt x="1553" y="213"/>
                  </a:lnTo>
                  <a:lnTo>
                    <a:pt x="1553" y="208"/>
                  </a:lnTo>
                  <a:lnTo>
                    <a:pt x="1558" y="203"/>
                  </a:lnTo>
                  <a:lnTo>
                    <a:pt x="1558" y="193"/>
                  </a:lnTo>
                  <a:lnTo>
                    <a:pt x="1563" y="188"/>
                  </a:lnTo>
                  <a:lnTo>
                    <a:pt x="1568" y="188"/>
                  </a:lnTo>
                  <a:lnTo>
                    <a:pt x="1573" y="188"/>
                  </a:lnTo>
                  <a:lnTo>
                    <a:pt x="1583" y="188"/>
                  </a:lnTo>
                  <a:lnTo>
                    <a:pt x="1593" y="188"/>
                  </a:lnTo>
                  <a:lnTo>
                    <a:pt x="1602" y="193"/>
                  </a:lnTo>
                  <a:lnTo>
                    <a:pt x="1612" y="188"/>
                  </a:lnTo>
                  <a:lnTo>
                    <a:pt x="1617" y="188"/>
                  </a:lnTo>
                  <a:lnTo>
                    <a:pt x="1627" y="193"/>
                  </a:lnTo>
                  <a:lnTo>
                    <a:pt x="1632" y="198"/>
                  </a:lnTo>
                  <a:lnTo>
                    <a:pt x="1637" y="203"/>
                  </a:lnTo>
                  <a:lnTo>
                    <a:pt x="1637" y="208"/>
                  </a:lnTo>
                  <a:lnTo>
                    <a:pt x="1642" y="213"/>
                  </a:lnTo>
                  <a:lnTo>
                    <a:pt x="1647" y="218"/>
                  </a:lnTo>
                  <a:lnTo>
                    <a:pt x="1652" y="223"/>
                  </a:lnTo>
                  <a:lnTo>
                    <a:pt x="1657" y="228"/>
                  </a:lnTo>
                  <a:lnTo>
                    <a:pt x="1662" y="233"/>
                  </a:lnTo>
                  <a:lnTo>
                    <a:pt x="1667" y="238"/>
                  </a:lnTo>
                  <a:lnTo>
                    <a:pt x="1672" y="243"/>
                  </a:lnTo>
                  <a:lnTo>
                    <a:pt x="1672" y="247"/>
                  </a:lnTo>
                  <a:lnTo>
                    <a:pt x="1682" y="252"/>
                  </a:lnTo>
                  <a:lnTo>
                    <a:pt x="1687" y="257"/>
                  </a:lnTo>
                  <a:lnTo>
                    <a:pt x="1691" y="262"/>
                  </a:lnTo>
                  <a:lnTo>
                    <a:pt x="1691" y="267"/>
                  </a:lnTo>
                  <a:lnTo>
                    <a:pt x="1687" y="272"/>
                  </a:lnTo>
                  <a:lnTo>
                    <a:pt x="1682" y="277"/>
                  </a:lnTo>
                  <a:lnTo>
                    <a:pt x="1672" y="277"/>
                  </a:lnTo>
                  <a:lnTo>
                    <a:pt x="1667" y="272"/>
                  </a:lnTo>
                  <a:lnTo>
                    <a:pt x="1667" y="267"/>
                  </a:lnTo>
                  <a:close/>
                  <a:moveTo>
                    <a:pt x="2018" y="267"/>
                  </a:moveTo>
                  <a:lnTo>
                    <a:pt x="2013" y="262"/>
                  </a:lnTo>
                  <a:lnTo>
                    <a:pt x="2008" y="257"/>
                  </a:lnTo>
                  <a:lnTo>
                    <a:pt x="2003" y="252"/>
                  </a:lnTo>
                  <a:lnTo>
                    <a:pt x="1998" y="252"/>
                  </a:lnTo>
                  <a:lnTo>
                    <a:pt x="1988" y="252"/>
                  </a:lnTo>
                  <a:lnTo>
                    <a:pt x="1978" y="252"/>
                  </a:lnTo>
                  <a:lnTo>
                    <a:pt x="1973" y="252"/>
                  </a:lnTo>
                  <a:lnTo>
                    <a:pt x="1963" y="247"/>
                  </a:lnTo>
                  <a:lnTo>
                    <a:pt x="1963" y="243"/>
                  </a:lnTo>
                  <a:lnTo>
                    <a:pt x="1959" y="238"/>
                  </a:lnTo>
                  <a:lnTo>
                    <a:pt x="1954" y="233"/>
                  </a:lnTo>
                  <a:lnTo>
                    <a:pt x="1944" y="233"/>
                  </a:lnTo>
                  <a:lnTo>
                    <a:pt x="1939" y="228"/>
                  </a:lnTo>
                  <a:lnTo>
                    <a:pt x="1934" y="233"/>
                  </a:lnTo>
                  <a:lnTo>
                    <a:pt x="1924" y="233"/>
                  </a:lnTo>
                  <a:lnTo>
                    <a:pt x="1919" y="238"/>
                  </a:lnTo>
                  <a:lnTo>
                    <a:pt x="1914" y="247"/>
                  </a:lnTo>
                  <a:lnTo>
                    <a:pt x="1909" y="243"/>
                  </a:lnTo>
                  <a:lnTo>
                    <a:pt x="1909" y="238"/>
                  </a:lnTo>
                  <a:lnTo>
                    <a:pt x="1909" y="233"/>
                  </a:lnTo>
                  <a:lnTo>
                    <a:pt x="1909" y="228"/>
                  </a:lnTo>
                  <a:lnTo>
                    <a:pt x="1909" y="223"/>
                  </a:lnTo>
                  <a:lnTo>
                    <a:pt x="1914" y="218"/>
                  </a:lnTo>
                  <a:lnTo>
                    <a:pt x="1914" y="213"/>
                  </a:lnTo>
                  <a:lnTo>
                    <a:pt x="1909" y="208"/>
                  </a:lnTo>
                  <a:lnTo>
                    <a:pt x="1899" y="208"/>
                  </a:lnTo>
                  <a:lnTo>
                    <a:pt x="1894" y="203"/>
                  </a:lnTo>
                  <a:lnTo>
                    <a:pt x="1884" y="203"/>
                  </a:lnTo>
                  <a:lnTo>
                    <a:pt x="1879" y="208"/>
                  </a:lnTo>
                  <a:lnTo>
                    <a:pt x="1874" y="213"/>
                  </a:lnTo>
                  <a:lnTo>
                    <a:pt x="1870" y="218"/>
                  </a:lnTo>
                  <a:lnTo>
                    <a:pt x="1870" y="223"/>
                  </a:lnTo>
                  <a:lnTo>
                    <a:pt x="1865" y="228"/>
                  </a:lnTo>
                  <a:lnTo>
                    <a:pt x="1855" y="228"/>
                  </a:lnTo>
                  <a:lnTo>
                    <a:pt x="1850" y="223"/>
                  </a:lnTo>
                  <a:lnTo>
                    <a:pt x="1845" y="218"/>
                  </a:lnTo>
                  <a:lnTo>
                    <a:pt x="1840" y="213"/>
                  </a:lnTo>
                  <a:lnTo>
                    <a:pt x="1840" y="208"/>
                  </a:lnTo>
                  <a:lnTo>
                    <a:pt x="1845" y="203"/>
                  </a:lnTo>
                  <a:lnTo>
                    <a:pt x="1850" y="203"/>
                  </a:lnTo>
                  <a:lnTo>
                    <a:pt x="1860" y="198"/>
                  </a:lnTo>
                  <a:lnTo>
                    <a:pt x="1865" y="193"/>
                  </a:lnTo>
                  <a:lnTo>
                    <a:pt x="1865" y="188"/>
                  </a:lnTo>
                  <a:lnTo>
                    <a:pt x="1865" y="183"/>
                  </a:lnTo>
                  <a:lnTo>
                    <a:pt x="1855" y="178"/>
                  </a:lnTo>
                  <a:lnTo>
                    <a:pt x="1850" y="178"/>
                  </a:lnTo>
                  <a:lnTo>
                    <a:pt x="1840" y="178"/>
                  </a:lnTo>
                  <a:lnTo>
                    <a:pt x="1830" y="178"/>
                  </a:lnTo>
                  <a:lnTo>
                    <a:pt x="1825" y="183"/>
                  </a:lnTo>
                  <a:lnTo>
                    <a:pt x="1815" y="183"/>
                  </a:lnTo>
                  <a:lnTo>
                    <a:pt x="1810" y="188"/>
                  </a:lnTo>
                  <a:lnTo>
                    <a:pt x="1810" y="193"/>
                  </a:lnTo>
                  <a:lnTo>
                    <a:pt x="1805" y="198"/>
                  </a:lnTo>
                  <a:lnTo>
                    <a:pt x="1795" y="203"/>
                  </a:lnTo>
                  <a:lnTo>
                    <a:pt x="1790" y="203"/>
                  </a:lnTo>
                  <a:lnTo>
                    <a:pt x="1780" y="203"/>
                  </a:lnTo>
                  <a:lnTo>
                    <a:pt x="1776" y="203"/>
                  </a:lnTo>
                  <a:lnTo>
                    <a:pt x="1766" y="198"/>
                  </a:lnTo>
                  <a:lnTo>
                    <a:pt x="1761" y="193"/>
                  </a:lnTo>
                  <a:lnTo>
                    <a:pt x="1761" y="188"/>
                  </a:lnTo>
                  <a:lnTo>
                    <a:pt x="1761" y="183"/>
                  </a:lnTo>
                  <a:lnTo>
                    <a:pt x="1761" y="178"/>
                  </a:lnTo>
                  <a:lnTo>
                    <a:pt x="1766" y="173"/>
                  </a:lnTo>
                  <a:lnTo>
                    <a:pt x="1776" y="168"/>
                  </a:lnTo>
                  <a:lnTo>
                    <a:pt x="1785" y="168"/>
                  </a:lnTo>
                  <a:lnTo>
                    <a:pt x="1790" y="173"/>
                  </a:lnTo>
                  <a:lnTo>
                    <a:pt x="1800" y="173"/>
                  </a:lnTo>
                  <a:lnTo>
                    <a:pt x="1805" y="173"/>
                  </a:lnTo>
                  <a:lnTo>
                    <a:pt x="1810" y="173"/>
                  </a:lnTo>
                  <a:lnTo>
                    <a:pt x="1815" y="168"/>
                  </a:lnTo>
                  <a:lnTo>
                    <a:pt x="1815" y="163"/>
                  </a:lnTo>
                  <a:lnTo>
                    <a:pt x="1810" y="159"/>
                  </a:lnTo>
                  <a:lnTo>
                    <a:pt x="1800" y="154"/>
                  </a:lnTo>
                  <a:lnTo>
                    <a:pt x="1795" y="154"/>
                  </a:lnTo>
                  <a:lnTo>
                    <a:pt x="1785" y="154"/>
                  </a:lnTo>
                  <a:lnTo>
                    <a:pt x="1776" y="154"/>
                  </a:lnTo>
                  <a:lnTo>
                    <a:pt x="1771" y="149"/>
                  </a:lnTo>
                  <a:lnTo>
                    <a:pt x="1766" y="144"/>
                  </a:lnTo>
                  <a:lnTo>
                    <a:pt x="1766" y="139"/>
                  </a:lnTo>
                  <a:lnTo>
                    <a:pt x="1761" y="134"/>
                  </a:lnTo>
                  <a:lnTo>
                    <a:pt x="1756" y="129"/>
                  </a:lnTo>
                  <a:lnTo>
                    <a:pt x="1751" y="129"/>
                  </a:lnTo>
                  <a:lnTo>
                    <a:pt x="1741" y="129"/>
                  </a:lnTo>
                  <a:lnTo>
                    <a:pt x="1731" y="129"/>
                  </a:lnTo>
                  <a:lnTo>
                    <a:pt x="1726" y="124"/>
                  </a:lnTo>
                  <a:lnTo>
                    <a:pt x="1721" y="124"/>
                  </a:lnTo>
                  <a:lnTo>
                    <a:pt x="1716" y="119"/>
                  </a:lnTo>
                  <a:lnTo>
                    <a:pt x="1711" y="114"/>
                  </a:lnTo>
                  <a:lnTo>
                    <a:pt x="1706" y="109"/>
                  </a:lnTo>
                  <a:lnTo>
                    <a:pt x="1701" y="104"/>
                  </a:lnTo>
                  <a:lnTo>
                    <a:pt x="1696" y="104"/>
                  </a:lnTo>
                  <a:lnTo>
                    <a:pt x="1687" y="99"/>
                  </a:lnTo>
                  <a:lnTo>
                    <a:pt x="1677" y="99"/>
                  </a:lnTo>
                  <a:lnTo>
                    <a:pt x="1672" y="99"/>
                  </a:lnTo>
                  <a:lnTo>
                    <a:pt x="1667" y="94"/>
                  </a:lnTo>
                  <a:lnTo>
                    <a:pt x="1662" y="89"/>
                  </a:lnTo>
                  <a:lnTo>
                    <a:pt x="1657" y="84"/>
                  </a:lnTo>
                  <a:lnTo>
                    <a:pt x="1652" y="79"/>
                  </a:lnTo>
                  <a:lnTo>
                    <a:pt x="1647" y="74"/>
                  </a:lnTo>
                  <a:lnTo>
                    <a:pt x="1642" y="74"/>
                  </a:lnTo>
                  <a:lnTo>
                    <a:pt x="1632" y="74"/>
                  </a:lnTo>
                  <a:lnTo>
                    <a:pt x="1622" y="74"/>
                  </a:lnTo>
                  <a:lnTo>
                    <a:pt x="1612" y="79"/>
                  </a:lnTo>
                  <a:lnTo>
                    <a:pt x="1607" y="79"/>
                  </a:lnTo>
                  <a:lnTo>
                    <a:pt x="1598" y="79"/>
                  </a:lnTo>
                  <a:lnTo>
                    <a:pt x="1593" y="84"/>
                  </a:lnTo>
                  <a:lnTo>
                    <a:pt x="1588" y="84"/>
                  </a:lnTo>
                  <a:lnTo>
                    <a:pt x="1583" y="89"/>
                  </a:lnTo>
                  <a:lnTo>
                    <a:pt x="1578" y="94"/>
                  </a:lnTo>
                  <a:lnTo>
                    <a:pt x="1573" y="99"/>
                  </a:lnTo>
                  <a:lnTo>
                    <a:pt x="1568" y="104"/>
                  </a:lnTo>
                  <a:lnTo>
                    <a:pt x="1558" y="104"/>
                  </a:lnTo>
                  <a:lnTo>
                    <a:pt x="1553" y="104"/>
                  </a:lnTo>
                  <a:lnTo>
                    <a:pt x="1543" y="104"/>
                  </a:lnTo>
                  <a:lnTo>
                    <a:pt x="1538" y="104"/>
                  </a:lnTo>
                  <a:lnTo>
                    <a:pt x="1528" y="99"/>
                  </a:lnTo>
                  <a:lnTo>
                    <a:pt x="1523" y="94"/>
                  </a:lnTo>
                  <a:lnTo>
                    <a:pt x="1518" y="89"/>
                  </a:lnTo>
                  <a:lnTo>
                    <a:pt x="1518" y="84"/>
                  </a:lnTo>
                  <a:lnTo>
                    <a:pt x="1518" y="79"/>
                  </a:lnTo>
                  <a:lnTo>
                    <a:pt x="1518" y="74"/>
                  </a:lnTo>
                  <a:lnTo>
                    <a:pt x="1523" y="70"/>
                  </a:lnTo>
                  <a:lnTo>
                    <a:pt x="1528" y="65"/>
                  </a:lnTo>
                  <a:lnTo>
                    <a:pt x="1533" y="65"/>
                  </a:lnTo>
                  <a:lnTo>
                    <a:pt x="1543" y="60"/>
                  </a:lnTo>
                  <a:lnTo>
                    <a:pt x="1548" y="60"/>
                  </a:lnTo>
                  <a:lnTo>
                    <a:pt x="1558" y="55"/>
                  </a:lnTo>
                  <a:lnTo>
                    <a:pt x="1563" y="55"/>
                  </a:lnTo>
                  <a:lnTo>
                    <a:pt x="1573" y="60"/>
                  </a:lnTo>
                  <a:lnTo>
                    <a:pt x="1583" y="60"/>
                  </a:lnTo>
                  <a:lnTo>
                    <a:pt x="1593" y="65"/>
                  </a:lnTo>
                  <a:lnTo>
                    <a:pt x="1598" y="60"/>
                  </a:lnTo>
                  <a:lnTo>
                    <a:pt x="1598" y="55"/>
                  </a:lnTo>
                  <a:lnTo>
                    <a:pt x="1598" y="50"/>
                  </a:lnTo>
                  <a:lnTo>
                    <a:pt x="1598" y="45"/>
                  </a:lnTo>
                  <a:lnTo>
                    <a:pt x="1602" y="40"/>
                  </a:lnTo>
                  <a:lnTo>
                    <a:pt x="1612" y="35"/>
                  </a:lnTo>
                  <a:lnTo>
                    <a:pt x="1617" y="35"/>
                  </a:lnTo>
                  <a:lnTo>
                    <a:pt x="1627" y="30"/>
                  </a:lnTo>
                  <a:lnTo>
                    <a:pt x="1632" y="30"/>
                  </a:lnTo>
                  <a:lnTo>
                    <a:pt x="1642" y="30"/>
                  </a:lnTo>
                  <a:lnTo>
                    <a:pt x="1652" y="30"/>
                  </a:lnTo>
                  <a:lnTo>
                    <a:pt x="1657" y="30"/>
                  </a:lnTo>
                  <a:lnTo>
                    <a:pt x="1667" y="35"/>
                  </a:lnTo>
                  <a:lnTo>
                    <a:pt x="1672" y="35"/>
                  </a:lnTo>
                  <a:lnTo>
                    <a:pt x="1682" y="40"/>
                  </a:lnTo>
                  <a:lnTo>
                    <a:pt x="1687" y="40"/>
                  </a:lnTo>
                  <a:lnTo>
                    <a:pt x="1691" y="45"/>
                  </a:lnTo>
                  <a:lnTo>
                    <a:pt x="1696" y="50"/>
                  </a:lnTo>
                  <a:lnTo>
                    <a:pt x="1701" y="55"/>
                  </a:lnTo>
                  <a:lnTo>
                    <a:pt x="1706" y="55"/>
                  </a:lnTo>
                  <a:lnTo>
                    <a:pt x="1716" y="55"/>
                  </a:lnTo>
                  <a:lnTo>
                    <a:pt x="1726" y="55"/>
                  </a:lnTo>
                  <a:lnTo>
                    <a:pt x="1731" y="55"/>
                  </a:lnTo>
                  <a:lnTo>
                    <a:pt x="1741" y="55"/>
                  </a:lnTo>
                  <a:lnTo>
                    <a:pt x="1751" y="60"/>
                  </a:lnTo>
                  <a:lnTo>
                    <a:pt x="1756" y="60"/>
                  </a:lnTo>
                  <a:lnTo>
                    <a:pt x="1766" y="60"/>
                  </a:lnTo>
                  <a:lnTo>
                    <a:pt x="1771" y="60"/>
                  </a:lnTo>
                  <a:lnTo>
                    <a:pt x="1780" y="65"/>
                  </a:lnTo>
                  <a:lnTo>
                    <a:pt x="1785" y="65"/>
                  </a:lnTo>
                  <a:lnTo>
                    <a:pt x="1790" y="70"/>
                  </a:lnTo>
                  <a:lnTo>
                    <a:pt x="1795" y="74"/>
                  </a:lnTo>
                  <a:lnTo>
                    <a:pt x="1800" y="79"/>
                  </a:lnTo>
                  <a:lnTo>
                    <a:pt x="1805" y="79"/>
                  </a:lnTo>
                  <a:lnTo>
                    <a:pt x="1815" y="84"/>
                  </a:lnTo>
                  <a:lnTo>
                    <a:pt x="1820" y="84"/>
                  </a:lnTo>
                  <a:lnTo>
                    <a:pt x="1830" y="84"/>
                  </a:lnTo>
                  <a:lnTo>
                    <a:pt x="1840" y="84"/>
                  </a:lnTo>
                  <a:lnTo>
                    <a:pt x="1845" y="84"/>
                  </a:lnTo>
                  <a:lnTo>
                    <a:pt x="1855" y="84"/>
                  </a:lnTo>
                  <a:lnTo>
                    <a:pt x="1865" y="84"/>
                  </a:lnTo>
                  <a:lnTo>
                    <a:pt x="1870" y="89"/>
                  </a:lnTo>
                  <a:lnTo>
                    <a:pt x="1879" y="89"/>
                  </a:lnTo>
                  <a:lnTo>
                    <a:pt x="1884" y="89"/>
                  </a:lnTo>
                  <a:lnTo>
                    <a:pt x="1894" y="94"/>
                  </a:lnTo>
                  <a:lnTo>
                    <a:pt x="1899" y="94"/>
                  </a:lnTo>
                  <a:lnTo>
                    <a:pt x="1904" y="99"/>
                  </a:lnTo>
                  <a:lnTo>
                    <a:pt x="1904" y="104"/>
                  </a:lnTo>
                  <a:lnTo>
                    <a:pt x="1909" y="109"/>
                  </a:lnTo>
                  <a:lnTo>
                    <a:pt x="1919" y="114"/>
                  </a:lnTo>
                  <a:lnTo>
                    <a:pt x="1924" y="114"/>
                  </a:lnTo>
                  <a:lnTo>
                    <a:pt x="1934" y="114"/>
                  </a:lnTo>
                  <a:lnTo>
                    <a:pt x="1944" y="114"/>
                  </a:lnTo>
                  <a:lnTo>
                    <a:pt x="1949" y="114"/>
                  </a:lnTo>
                  <a:lnTo>
                    <a:pt x="1959" y="119"/>
                  </a:lnTo>
                  <a:lnTo>
                    <a:pt x="1963" y="119"/>
                  </a:lnTo>
                  <a:lnTo>
                    <a:pt x="1973" y="119"/>
                  </a:lnTo>
                  <a:lnTo>
                    <a:pt x="1983" y="119"/>
                  </a:lnTo>
                  <a:lnTo>
                    <a:pt x="1988" y="119"/>
                  </a:lnTo>
                  <a:lnTo>
                    <a:pt x="1998" y="119"/>
                  </a:lnTo>
                  <a:lnTo>
                    <a:pt x="2003" y="124"/>
                  </a:lnTo>
                  <a:lnTo>
                    <a:pt x="2008" y="129"/>
                  </a:lnTo>
                  <a:lnTo>
                    <a:pt x="2013" y="134"/>
                  </a:lnTo>
                  <a:lnTo>
                    <a:pt x="2013" y="139"/>
                  </a:lnTo>
                  <a:lnTo>
                    <a:pt x="2018" y="144"/>
                  </a:lnTo>
                  <a:lnTo>
                    <a:pt x="2023" y="149"/>
                  </a:lnTo>
                  <a:lnTo>
                    <a:pt x="2028" y="149"/>
                  </a:lnTo>
                  <a:lnTo>
                    <a:pt x="2038" y="149"/>
                  </a:lnTo>
                  <a:lnTo>
                    <a:pt x="2043" y="149"/>
                  </a:lnTo>
                  <a:lnTo>
                    <a:pt x="2052" y="154"/>
                  </a:lnTo>
                  <a:lnTo>
                    <a:pt x="2062" y="154"/>
                  </a:lnTo>
                  <a:lnTo>
                    <a:pt x="2067" y="154"/>
                  </a:lnTo>
                  <a:lnTo>
                    <a:pt x="2077" y="154"/>
                  </a:lnTo>
                  <a:lnTo>
                    <a:pt x="2087" y="159"/>
                  </a:lnTo>
                  <a:lnTo>
                    <a:pt x="2092" y="159"/>
                  </a:lnTo>
                  <a:lnTo>
                    <a:pt x="2097" y="159"/>
                  </a:lnTo>
                  <a:lnTo>
                    <a:pt x="2097" y="163"/>
                  </a:lnTo>
                  <a:lnTo>
                    <a:pt x="2092" y="168"/>
                  </a:lnTo>
                  <a:lnTo>
                    <a:pt x="2087" y="173"/>
                  </a:lnTo>
                  <a:lnTo>
                    <a:pt x="2082" y="178"/>
                  </a:lnTo>
                  <a:lnTo>
                    <a:pt x="2077" y="183"/>
                  </a:lnTo>
                  <a:lnTo>
                    <a:pt x="2077" y="188"/>
                  </a:lnTo>
                  <a:lnTo>
                    <a:pt x="2072" y="193"/>
                  </a:lnTo>
                  <a:lnTo>
                    <a:pt x="2067" y="198"/>
                  </a:lnTo>
                  <a:lnTo>
                    <a:pt x="2067" y="203"/>
                  </a:lnTo>
                  <a:lnTo>
                    <a:pt x="2062" y="208"/>
                  </a:lnTo>
                  <a:lnTo>
                    <a:pt x="2062" y="213"/>
                  </a:lnTo>
                  <a:lnTo>
                    <a:pt x="2057" y="218"/>
                  </a:lnTo>
                  <a:lnTo>
                    <a:pt x="2052" y="223"/>
                  </a:lnTo>
                  <a:lnTo>
                    <a:pt x="2052" y="228"/>
                  </a:lnTo>
                  <a:lnTo>
                    <a:pt x="2048" y="233"/>
                  </a:lnTo>
                  <a:lnTo>
                    <a:pt x="2043" y="238"/>
                  </a:lnTo>
                  <a:lnTo>
                    <a:pt x="2043" y="243"/>
                  </a:lnTo>
                  <a:lnTo>
                    <a:pt x="2043" y="247"/>
                  </a:lnTo>
                  <a:lnTo>
                    <a:pt x="2038" y="252"/>
                  </a:lnTo>
                  <a:lnTo>
                    <a:pt x="2038" y="257"/>
                  </a:lnTo>
                  <a:lnTo>
                    <a:pt x="2033" y="262"/>
                  </a:lnTo>
                  <a:lnTo>
                    <a:pt x="2028" y="267"/>
                  </a:lnTo>
                  <a:lnTo>
                    <a:pt x="2018" y="267"/>
                  </a:lnTo>
                  <a:close/>
                  <a:moveTo>
                    <a:pt x="1360" y="213"/>
                  </a:moveTo>
                  <a:lnTo>
                    <a:pt x="1365" y="203"/>
                  </a:lnTo>
                  <a:lnTo>
                    <a:pt x="1370" y="198"/>
                  </a:lnTo>
                  <a:lnTo>
                    <a:pt x="1380" y="193"/>
                  </a:lnTo>
                  <a:lnTo>
                    <a:pt x="1390" y="193"/>
                  </a:lnTo>
                  <a:lnTo>
                    <a:pt x="1395" y="198"/>
                  </a:lnTo>
                  <a:lnTo>
                    <a:pt x="1405" y="208"/>
                  </a:lnTo>
                  <a:lnTo>
                    <a:pt x="1410" y="213"/>
                  </a:lnTo>
                  <a:lnTo>
                    <a:pt x="1405" y="218"/>
                  </a:lnTo>
                  <a:lnTo>
                    <a:pt x="1400" y="228"/>
                  </a:lnTo>
                  <a:lnTo>
                    <a:pt x="1390" y="228"/>
                  </a:lnTo>
                  <a:lnTo>
                    <a:pt x="1380" y="233"/>
                  </a:lnTo>
                  <a:lnTo>
                    <a:pt x="1370" y="228"/>
                  </a:lnTo>
                  <a:lnTo>
                    <a:pt x="1365" y="223"/>
                  </a:lnTo>
                  <a:lnTo>
                    <a:pt x="1360" y="213"/>
                  </a:lnTo>
                  <a:close/>
                  <a:moveTo>
                    <a:pt x="1004" y="188"/>
                  </a:moveTo>
                  <a:lnTo>
                    <a:pt x="1004" y="183"/>
                  </a:lnTo>
                  <a:lnTo>
                    <a:pt x="1009" y="183"/>
                  </a:lnTo>
                  <a:lnTo>
                    <a:pt x="1009" y="178"/>
                  </a:lnTo>
                  <a:lnTo>
                    <a:pt x="1014" y="178"/>
                  </a:lnTo>
                  <a:lnTo>
                    <a:pt x="1014" y="183"/>
                  </a:lnTo>
                  <a:lnTo>
                    <a:pt x="1014" y="183"/>
                  </a:lnTo>
                  <a:lnTo>
                    <a:pt x="1014" y="188"/>
                  </a:lnTo>
                  <a:lnTo>
                    <a:pt x="1014" y="188"/>
                  </a:lnTo>
                  <a:lnTo>
                    <a:pt x="1014" y="193"/>
                  </a:lnTo>
                  <a:lnTo>
                    <a:pt x="1009" y="193"/>
                  </a:lnTo>
                  <a:lnTo>
                    <a:pt x="1009" y="193"/>
                  </a:lnTo>
                  <a:lnTo>
                    <a:pt x="1004" y="193"/>
                  </a:lnTo>
                  <a:lnTo>
                    <a:pt x="1004" y="188"/>
                  </a:lnTo>
                  <a:lnTo>
                    <a:pt x="1004" y="188"/>
                  </a:lnTo>
                  <a:close/>
                  <a:moveTo>
                    <a:pt x="1197" y="188"/>
                  </a:moveTo>
                  <a:lnTo>
                    <a:pt x="1197" y="183"/>
                  </a:lnTo>
                  <a:lnTo>
                    <a:pt x="1202" y="178"/>
                  </a:lnTo>
                  <a:lnTo>
                    <a:pt x="1212" y="178"/>
                  </a:lnTo>
                  <a:lnTo>
                    <a:pt x="1217" y="173"/>
                  </a:lnTo>
                  <a:lnTo>
                    <a:pt x="1222" y="173"/>
                  </a:lnTo>
                  <a:lnTo>
                    <a:pt x="1227" y="178"/>
                  </a:lnTo>
                  <a:lnTo>
                    <a:pt x="1232" y="178"/>
                  </a:lnTo>
                  <a:lnTo>
                    <a:pt x="1232" y="183"/>
                  </a:lnTo>
                  <a:lnTo>
                    <a:pt x="1236" y="188"/>
                  </a:lnTo>
                  <a:lnTo>
                    <a:pt x="1236" y="193"/>
                  </a:lnTo>
                  <a:lnTo>
                    <a:pt x="1232" y="198"/>
                  </a:lnTo>
                  <a:lnTo>
                    <a:pt x="1232" y="198"/>
                  </a:lnTo>
                  <a:lnTo>
                    <a:pt x="1227" y="203"/>
                  </a:lnTo>
                  <a:lnTo>
                    <a:pt x="1222" y="203"/>
                  </a:lnTo>
                  <a:lnTo>
                    <a:pt x="1217" y="203"/>
                  </a:lnTo>
                  <a:lnTo>
                    <a:pt x="1212" y="198"/>
                  </a:lnTo>
                  <a:lnTo>
                    <a:pt x="1207" y="198"/>
                  </a:lnTo>
                  <a:lnTo>
                    <a:pt x="1202" y="193"/>
                  </a:lnTo>
                  <a:lnTo>
                    <a:pt x="1197" y="188"/>
                  </a:lnTo>
                  <a:lnTo>
                    <a:pt x="1197" y="188"/>
                  </a:lnTo>
                  <a:close/>
                  <a:moveTo>
                    <a:pt x="1429" y="188"/>
                  </a:moveTo>
                  <a:lnTo>
                    <a:pt x="1434" y="183"/>
                  </a:lnTo>
                  <a:lnTo>
                    <a:pt x="1439" y="178"/>
                  </a:lnTo>
                  <a:lnTo>
                    <a:pt x="1444" y="173"/>
                  </a:lnTo>
                  <a:lnTo>
                    <a:pt x="1449" y="173"/>
                  </a:lnTo>
                  <a:lnTo>
                    <a:pt x="1459" y="168"/>
                  </a:lnTo>
                  <a:lnTo>
                    <a:pt x="1469" y="168"/>
                  </a:lnTo>
                  <a:lnTo>
                    <a:pt x="1479" y="168"/>
                  </a:lnTo>
                  <a:lnTo>
                    <a:pt x="1489" y="168"/>
                  </a:lnTo>
                  <a:lnTo>
                    <a:pt x="1489" y="163"/>
                  </a:lnTo>
                  <a:lnTo>
                    <a:pt x="1489" y="159"/>
                  </a:lnTo>
                  <a:lnTo>
                    <a:pt x="1494" y="154"/>
                  </a:lnTo>
                  <a:lnTo>
                    <a:pt x="1499" y="149"/>
                  </a:lnTo>
                  <a:lnTo>
                    <a:pt x="1504" y="144"/>
                  </a:lnTo>
                  <a:lnTo>
                    <a:pt x="1508" y="144"/>
                  </a:lnTo>
                  <a:lnTo>
                    <a:pt x="1518" y="139"/>
                  </a:lnTo>
                  <a:lnTo>
                    <a:pt x="1528" y="144"/>
                  </a:lnTo>
                  <a:lnTo>
                    <a:pt x="1533" y="144"/>
                  </a:lnTo>
                  <a:lnTo>
                    <a:pt x="1543" y="139"/>
                  </a:lnTo>
                  <a:lnTo>
                    <a:pt x="1548" y="139"/>
                  </a:lnTo>
                  <a:lnTo>
                    <a:pt x="1558" y="134"/>
                  </a:lnTo>
                  <a:lnTo>
                    <a:pt x="1563" y="129"/>
                  </a:lnTo>
                  <a:lnTo>
                    <a:pt x="1563" y="129"/>
                  </a:lnTo>
                  <a:lnTo>
                    <a:pt x="1568" y="124"/>
                  </a:lnTo>
                  <a:lnTo>
                    <a:pt x="1573" y="119"/>
                  </a:lnTo>
                  <a:lnTo>
                    <a:pt x="1583" y="114"/>
                  </a:lnTo>
                  <a:lnTo>
                    <a:pt x="1588" y="114"/>
                  </a:lnTo>
                  <a:lnTo>
                    <a:pt x="1598" y="109"/>
                  </a:lnTo>
                  <a:lnTo>
                    <a:pt x="1602" y="109"/>
                  </a:lnTo>
                  <a:lnTo>
                    <a:pt x="1612" y="109"/>
                  </a:lnTo>
                  <a:lnTo>
                    <a:pt x="1617" y="109"/>
                  </a:lnTo>
                  <a:lnTo>
                    <a:pt x="1627" y="109"/>
                  </a:lnTo>
                  <a:lnTo>
                    <a:pt x="1637" y="109"/>
                  </a:lnTo>
                  <a:lnTo>
                    <a:pt x="1642" y="109"/>
                  </a:lnTo>
                  <a:lnTo>
                    <a:pt x="1652" y="109"/>
                  </a:lnTo>
                  <a:lnTo>
                    <a:pt x="1662" y="109"/>
                  </a:lnTo>
                  <a:lnTo>
                    <a:pt x="1667" y="114"/>
                  </a:lnTo>
                  <a:lnTo>
                    <a:pt x="1677" y="114"/>
                  </a:lnTo>
                  <a:lnTo>
                    <a:pt x="1682" y="119"/>
                  </a:lnTo>
                  <a:lnTo>
                    <a:pt x="1687" y="119"/>
                  </a:lnTo>
                  <a:lnTo>
                    <a:pt x="1691" y="124"/>
                  </a:lnTo>
                  <a:lnTo>
                    <a:pt x="1696" y="129"/>
                  </a:lnTo>
                  <a:lnTo>
                    <a:pt x="1701" y="134"/>
                  </a:lnTo>
                  <a:lnTo>
                    <a:pt x="1701" y="139"/>
                  </a:lnTo>
                  <a:lnTo>
                    <a:pt x="1711" y="139"/>
                  </a:lnTo>
                  <a:lnTo>
                    <a:pt x="1716" y="139"/>
                  </a:lnTo>
                  <a:lnTo>
                    <a:pt x="1726" y="139"/>
                  </a:lnTo>
                  <a:lnTo>
                    <a:pt x="1736" y="139"/>
                  </a:lnTo>
                  <a:lnTo>
                    <a:pt x="1746" y="144"/>
                  </a:lnTo>
                  <a:lnTo>
                    <a:pt x="1751" y="149"/>
                  </a:lnTo>
                  <a:lnTo>
                    <a:pt x="1751" y="154"/>
                  </a:lnTo>
                  <a:lnTo>
                    <a:pt x="1756" y="159"/>
                  </a:lnTo>
                  <a:lnTo>
                    <a:pt x="1756" y="163"/>
                  </a:lnTo>
                  <a:lnTo>
                    <a:pt x="1751" y="168"/>
                  </a:lnTo>
                  <a:lnTo>
                    <a:pt x="1746" y="173"/>
                  </a:lnTo>
                  <a:lnTo>
                    <a:pt x="1736" y="178"/>
                  </a:lnTo>
                  <a:lnTo>
                    <a:pt x="1731" y="178"/>
                  </a:lnTo>
                  <a:lnTo>
                    <a:pt x="1721" y="183"/>
                  </a:lnTo>
                  <a:lnTo>
                    <a:pt x="1716" y="178"/>
                  </a:lnTo>
                  <a:lnTo>
                    <a:pt x="1706" y="178"/>
                  </a:lnTo>
                  <a:lnTo>
                    <a:pt x="1701" y="173"/>
                  </a:lnTo>
                  <a:lnTo>
                    <a:pt x="1696" y="173"/>
                  </a:lnTo>
                  <a:lnTo>
                    <a:pt x="1691" y="168"/>
                  </a:lnTo>
                  <a:lnTo>
                    <a:pt x="1687" y="163"/>
                  </a:lnTo>
                  <a:lnTo>
                    <a:pt x="1677" y="159"/>
                  </a:lnTo>
                  <a:lnTo>
                    <a:pt x="1672" y="159"/>
                  </a:lnTo>
                  <a:lnTo>
                    <a:pt x="1667" y="154"/>
                  </a:lnTo>
                  <a:lnTo>
                    <a:pt x="1657" y="154"/>
                  </a:lnTo>
                  <a:lnTo>
                    <a:pt x="1647" y="154"/>
                  </a:lnTo>
                  <a:lnTo>
                    <a:pt x="1637" y="154"/>
                  </a:lnTo>
                  <a:lnTo>
                    <a:pt x="1627" y="154"/>
                  </a:lnTo>
                  <a:lnTo>
                    <a:pt x="1622" y="159"/>
                  </a:lnTo>
                  <a:lnTo>
                    <a:pt x="1622" y="159"/>
                  </a:lnTo>
                  <a:lnTo>
                    <a:pt x="1612" y="154"/>
                  </a:lnTo>
                  <a:lnTo>
                    <a:pt x="1602" y="154"/>
                  </a:lnTo>
                  <a:lnTo>
                    <a:pt x="1593" y="154"/>
                  </a:lnTo>
                  <a:lnTo>
                    <a:pt x="1588" y="159"/>
                  </a:lnTo>
                  <a:lnTo>
                    <a:pt x="1578" y="159"/>
                  </a:lnTo>
                  <a:lnTo>
                    <a:pt x="1573" y="163"/>
                  </a:lnTo>
                  <a:lnTo>
                    <a:pt x="1573" y="168"/>
                  </a:lnTo>
                  <a:lnTo>
                    <a:pt x="1573" y="173"/>
                  </a:lnTo>
                  <a:lnTo>
                    <a:pt x="1573" y="178"/>
                  </a:lnTo>
                  <a:lnTo>
                    <a:pt x="1573" y="183"/>
                  </a:lnTo>
                  <a:lnTo>
                    <a:pt x="1568" y="188"/>
                  </a:lnTo>
                  <a:lnTo>
                    <a:pt x="1558" y="183"/>
                  </a:lnTo>
                  <a:lnTo>
                    <a:pt x="1548" y="183"/>
                  </a:lnTo>
                  <a:lnTo>
                    <a:pt x="1543" y="183"/>
                  </a:lnTo>
                  <a:lnTo>
                    <a:pt x="1533" y="183"/>
                  </a:lnTo>
                  <a:lnTo>
                    <a:pt x="1523" y="183"/>
                  </a:lnTo>
                  <a:lnTo>
                    <a:pt x="1518" y="183"/>
                  </a:lnTo>
                  <a:lnTo>
                    <a:pt x="1508" y="183"/>
                  </a:lnTo>
                  <a:lnTo>
                    <a:pt x="1499" y="183"/>
                  </a:lnTo>
                  <a:lnTo>
                    <a:pt x="1494" y="188"/>
                  </a:lnTo>
                  <a:lnTo>
                    <a:pt x="1494" y="193"/>
                  </a:lnTo>
                  <a:lnTo>
                    <a:pt x="1489" y="198"/>
                  </a:lnTo>
                  <a:lnTo>
                    <a:pt x="1489" y="203"/>
                  </a:lnTo>
                  <a:lnTo>
                    <a:pt x="1484" y="203"/>
                  </a:lnTo>
                  <a:lnTo>
                    <a:pt x="1474" y="208"/>
                  </a:lnTo>
                  <a:lnTo>
                    <a:pt x="1464" y="208"/>
                  </a:lnTo>
                  <a:lnTo>
                    <a:pt x="1454" y="203"/>
                  </a:lnTo>
                  <a:lnTo>
                    <a:pt x="1449" y="203"/>
                  </a:lnTo>
                  <a:lnTo>
                    <a:pt x="1439" y="198"/>
                  </a:lnTo>
                  <a:lnTo>
                    <a:pt x="1434" y="198"/>
                  </a:lnTo>
                  <a:lnTo>
                    <a:pt x="1434" y="193"/>
                  </a:lnTo>
                  <a:lnTo>
                    <a:pt x="1429" y="188"/>
                  </a:lnTo>
                  <a:close/>
                  <a:moveTo>
                    <a:pt x="1281" y="159"/>
                  </a:moveTo>
                  <a:lnTo>
                    <a:pt x="1286" y="149"/>
                  </a:lnTo>
                  <a:lnTo>
                    <a:pt x="1291" y="144"/>
                  </a:lnTo>
                  <a:lnTo>
                    <a:pt x="1301" y="139"/>
                  </a:lnTo>
                  <a:lnTo>
                    <a:pt x="1306" y="144"/>
                  </a:lnTo>
                  <a:lnTo>
                    <a:pt x="1316" y="149"/>
                  </a:lnTo>
                  <a:lnTo>
                    <a:pt x="1321" y="154"/>
                  </a:lnTo>
                  <a:lnTo>
                    <a:pt x="1321" y="163"/>
                  </a:lnTo>
                  <a:lnTo>
                    <a:pt x="1321" y="173"/>
                  </a:lnTo>
                  <a:lnTo>
                    <a:pt x="1311" y="178"/>
                  </a:lnTo>
                  <a:lnTo>
                    <a:pt x="1306" y="183"/>
                  </a:lnTo>
                  <a:lnTo>
                    <a:pt x="1296" y="183"/>
                  </a:lnTo>
                  <a:lnTo>
                    <a:pt x="1291" y="178"/>
                  </a:lnTo>
                  <a:lnTo>
                    <a:pt x="1286" y="168"/>
                  </a:lnTo>
                  <a:lnTo>
                    <a:pt x="1281" y="159"/>
                  </a:lnTo>
                  <a:close/>
                  <a:moveTo>
                    <a:pt x="1360" y="134"/>
                  </a:moveTo>
                  <a:lnTo>
                    <a:pt x="1365" y="124"/>
                  </a:lnTo>
                  <a:lnTo>
                    <a:pt x="1370" y="119"/>
                  </a:lnTo>
                  <a:lnTo>
                    <a:pt x="1375" y="114"/>
                  </a:lnTo>
                  <a:lnTo>
                    <a:pt x="1385" y="114"/>
                  </a:lnTo>
                  <a:lnTo>
                    <a:pt x="1395" y="114"/>
                  </a:lnTo>
                  <a:lnTo>
                    <a:pt x="1410" y="114"/>
                  </a:lnTo>
                  <a:lnTo>
                    <a:pt x="1419" y="119"/>
                  </a:lnTo>
                  <a:lnTo>
                    <a:pt x="1424" y="124"/>
                  </a:lnTo>
                  <a:lnTo>
                    <a:pt x="1429" y="129"/>
                  </a:lnTo>
                  <a:lnTo>
                    <a:pt x="1429" y="134"/>
                  </a:lnTo>
                  <a:lnTo>
                    <a:pt x="1424" y="144"/>
                  </a:lnTo>
                  <a:lnTo>
                    <a:pt x="1419" y="149"/>
                  </a:lnTo>
                  <a:lnTo>
                    <a:pt x="1410" y="154"/>
                  </a:lnTo>
                  <a:lnTo>
                    <a:pt x="1400" y="154"/>
                  </a:lnTo>
                  <a:lnTo>
                    <a:pt x="1390" y="159"/>
                  </a:lnTo>
                  <a:lnTo>
                    <a:pt x="1380" y="159"/>
                  </a:lnTo>
                  <a:lnTo>
                    <a:pt x="1375" y="154"/>
                  </a:lnTo>
                  <a:lnTo>
                    <a:pt x="1365" y="149"/>
                  </a:lnTo>
                  <a:lnTo>
                    <a:pt x="1360" y="144"/>
                  </a:lnTo>
                  <a:lnTo>
                    <a:pt x="1360" y="134"/>
                  </a:lnTo>
                  <a:close/>
                  <a:moveTo>
                    <a:pt x="1439" y="104"/>
                  </a:moveTo>
                  <a:lnTo>
                    <a:pt x="1444" y="99"/>
                  </a:lnTo>
                  <a:lnTo>
                    <a:pt x="1449" y="94"/>
                  </a:lnTo>
                  <a:lnTo>
                    <a:pt x="1459" y="89"/>
                  </a:lnTo>
                  <a:lnTo>
                    <a:pt x="1469" y="84"/>
                  </a:lnTo>
                  <a:lnTo>
                    <a:pt x="1479" y="84"/>
                  </a:lnTo>
                  <a:lnTo>
                    <a:pt x="1494" y="84"/>
                  </a:lnTo>
                  <a:lnTo>
                    <a:pt x="1504" y="89"/>
                  </a:lnTo>
                  <a:lnTo>
                    <a:pt x="1508" y="94"/>
                  </a:lnTo>
                  <a:lnTo>
                    <a:pt x="1513" y="104"/>
                  </a:lnTo>
                  <a:lnTo>
                    <a:pt x="1513" y="109"/>
                  </a:lnTo>
                  <a:lnTo>
                    <a:pt x="1513" y="119"/>
                  </a:lnTo>
                  <a:lnTo>
                    <a:pt x="1504" y="124"/>
                  </a:lnTo>
                  <a:lnTo>
                    <a:pt x="1494" y="129"/>
                  </a:lnTo>
                  <a:lnTo>
                    <a:pt x="1484" y="134"/>
                  </a:lnTo>
                  <a:lnTo>
                    <a:pt x="1474" y="134"/>
                  </a:lnTo>
                  <a:lnTo>
                    <a:pt x="1464" y="134"/>
                  </a:lnTo>
                  <a:lnTo>
                    <a:pt x="1454" y="129"/>
                  </a:lnTo>
                  <a:lnTo>
                    <a:pt x="1444" y="124"/>
                  </a:lnTo>
                  <a:lnTo>
                    <a:pt x="1444" y="114"/>
                  </a:lnTo>
                  <a:lnTo>
                    <a:pt x="1439" y="104"/>
                  </a:lnTo>
                  <a:close/>
                  <a:moveTo>
                    <a:pt x="2235" y="1656"/>
                  </a:moveTo>
                  <a:lnTo>
                    <a:pt x="2260" y="1631"/>
                  </a:lnTo>
                  <a:lnTo>
                    <a:pt x="2285" y="1631"/>
                  </a:lnTo>
                  <a:lnTo>
                    <a:pt x="2315" y="1631"/>
                  </a:lnTo>
                  <a:lnTo>
                    <a:pt x="2339" y="1631"/>
                  </a:lnTo>
                  <a:lnTo>
                    <a:pt x="2369" y="1631"/>
                  </a:lnTo>
                  <a:lnTo>
                    <a:pt x="2394" y="1631"/>
                  </a:lnTo>
                  <a:lnTo>
                    <a:pt x="2418" y="1631"/>
                  </a:lnTo>
                  <a:lnTo>
                    <a:pt x="2448" y="1602"/>
                  </a:lnTo>
                  <a:lnTo>
                    <a:pt x="2448" y="1577"/>
                  </a:lnTo>
                  <a:lnTo>
                    <a:pt x="2448" y="1547"/>
                  </a:lnTo>
                  <a:lnTo>
                    <a:pt x="2448" y="1523"/>
                  </a:lnTo>
                  <a:lnTo>
                    <a:pt x="2473" y="1498"/>
                  </a:lnTo>
                  <a:lnTo>
                    <a:pt x="2473" y="1468"/>
                  </a:lnTo>
                  <a:lnTo>
                    <a:pt x="2473" y="1444"/>
                  </a:lnTo>
                  <a:lnTo>
                    <a:pt x="2473" y="1414"/>
                  </a:lnTo>
                  <a:lnTo>
                    <a:pt x="2503" y="1389"/>
                  </a:lnTo>
                  <a:lnTo>
                    <a:pt x="2503" y="1364"/>
                  </a:lnTo>
                  <a:lnTo>
                    <a:pt x="2503" y="1335"/>
                  </a:lnTo>
                  <a:lnTo>
                    <a:pt x="2503" y="1310"/>
                  </a:lnTo>
                  <a:lnTo>
                    <a:pt x="2527" y="1280"/>
                  </a:lnTo>
                  <a:lnTo>
                    <a:pt x="2527" y="1256"/>
                  </a:lnTo>
                  <a:lnTo>
                    <a:pt x="2527" y="1226"/>
                  </a:lnTo>
                  <a:lnTo>
                    <a:pt x="2527" y="1201"/>
                  </a:lnTo>
                  <a:lnTo>
                    <a:pt x="2552" y="1177"/>
                  </a:lnTo>
                  <a:lnTo>
                    <a:pt x="2552" y="1147"/>
                  </a:lnTo>
                  <a:lnTo>
                    <a:pt x="2552" y="1122"/>
                  </a:lnTo>
                  <a:lnTo>
                    <a:pt x="2552" y="1093"/>
                  </a:lnTo>
                  <a:lnTo>
                    <a:pt x="2582" y="1068"/>
                  </a:lnTo>
                  <a:lnTo>
                    <a:pt x="2582" y="1043"/>
                  </a:lnTo>
                  <a:lnTo>
                    <a:pt x="2582" y="1014"/>
                  </a:lnTo>
                  <a:lnTo>
                    <a:pt x="2582" y="989"/>
                  </a:lnTo>
                  <a:lnTo>
                    <a:pt x="2582" y="959"/>
                  </a:lnTo>
                  <a:lnTo>
                    <a:pt x="2582" y="934"/>
                  </a:lnTo>
                  <a:lnTo>
                    <a:pt x="2582" y="910"/>
                  </a:lnTo>
                  <a:lnTo>
                    <a:pt x="2582" y="880"/>
                  </a:lnTo>
                  <a:lnTo>
                    <a:pt x="2582" y="855"/>
                  </a:lnTo>
                  <a:lnTo>
                    <a:pt x="2582" y="826"/>
                  </a:lnTo>
                  <a:lnTo>
                    <a:pt x="2582" y="801"/>
                  </a:lnTo>
                  <a:lnTo>
                    <a:pt x="2582" y="776"/>
                  </a:lnTo>
                  <a:lnTo>
                    <a:pt x="2582" y="747"/>
                  </a:lnTo>
                  <a:lnTo>
                    <a:pt x="2582" y="722"/>
                  </a:lnTo>
                  <a:lnTo>
                    <a:pt x="2582" y="692"/>
                  </a:lnTo>
                  <a:lnTo>
                    <a:pt x="2582" y="668"/>
                  </a:lnTo>
                  <a:lnTo>
                    <a:pt x="2582" y="643"/>
                  </a:lnTo>
                  <a:lnTo>
                    <a:pt x="2582" y="613"/>
                  </a:lnTo>
                  <a:lnTo>
                    <a:pt x="2582" y="589"/>
                  </a:lnTo>
                  <a:lnTo>
                    <a:pt x="2582" y="559"/>
                  </a:lnTo>
                  <a:lnTo>
                    <a:pt x="2582" y="534"/>
                  </a:lnTo>
                  <a:lnTo>
                    <a:pt x="2582" y="504"/>
                  </a:lnTo>
                  <a:lnTo>
                    <a:pt x="2582" y="480"/>
                  </a:lnTo>
                  <a:lnTo>
                    <a:pt x="2582" y="455"/>
                  </a:lnTo>
                  <a:lnTo>
                    <a:pt x="2582" y="425"/>
                  </a:lnTo>
                  <a:lnTo>
                    <a:pt x="2582" y="401"/>
                  </a:lnTo>
                  <a:lnTo>
                    <a:pt x="2582" y="371"/>
                  </a:lnTo>
                  <a:lnTo>
                    <a:pt x="2582" y="346"/>
                  </a:lnTo>
                  <a:lnTo>
                    <a:pt x="2582" y="322"/>
                  </a:lnTo>
                  <a:lnTo>
                    <a:pt x="2582" y="292"/>
                  </a:lnTo>
                  <a:lnTo>
                    <a:pt x="2582" y="267"/>
                  </a:lnTo>
                  <a:lnTo>
                    <a:pt x="2582" y="238"/>
                  </a:lnTo>
                  <a:lnTo>
                    <a:pt x="2552" y="213"/>
                  </a:lnTo>
                  <a:lnTo>
                    <a:pt x="2552" y="188"/>
                  </a:lnTo>
                  <a:lnTo>
                    <a:pt x="2552" y="159"/>
                  </a:lnTo>
                  <a:lnTo>
                    <a:pt x="2552" y="134"/>
                  </a:lnTo>
                  <a:lnTo>
                    <a:pt x="2552" y="104"/>
                  </a:lnTo>
                  <a:lnTo>
                    <a:pt x="2527" y="79"/>
                  </a:lnTo>
                  <a:lnTo>
                    <a:pt x="2503" y="79"/>
                  </a:lnTo>
                  <a:lnTo>
                    <a:pt x="2473" y="79"/>
                  </a:lnTo>
                  <a:lnTo>
                    <a:pt x="2448" y="55"/>
                  </a:lnTo>
                  <a:lnTo>
                    <a:pt x="2418" y="55"/>
                  </a:lnTo>
                  <a:lnTo>
                    <a:pt x="2394" y="55"/>
                  </a:lnTo>
                  <a:lnTo>
                    <a:pt x="2369" y="25"/>
                  </a:lnTo>
                  <a:lnTo>
                    <a:pt x="2339" y="25"/>
                  </a:lnTo>
                  <a:lnTo>
                    <a:pt x="2315" y="25"/>
                  </a:lnTo>
                  <a:lnTo>
                    <a:pt x="2285" y="0"/>
                  </a:lnTo>
                  <a:lnTo>
                    <a:pt x="2260" y="0"/>
                  </a:lnTo>
                  <a:lnTo>
                    <a:pt x="2235" y="0"/>
                  </a:lnTo>
                  <a:lnTo>
                    <a:pt x="2206" y="0"/>
                  </a:lnTo>
                  <a:lnTo>
                    <a:pt x="2181" y="0"/>
                  </a:lnTo>
                  <a:lnTo>
                    <a:pt x="2156" y="0"/>
                  </a:lnTo>
                  <a:lnTo>
                    <a:pt x="2127" y="0"/>
                  </a:lnTo>
                  <a:lnTo>
                    <a:pt x="2102" y="0"/>
                  </a:lnTo>
                  <a:lnTo>
                    <a:pt x="2072" y="0"/>
                  </a:lnTo>
                  <a:lnTo>
                    <a:pt x="2048" y="0"/>
                  </a:lnTo>
                  <a:lnTo>
                    <a:pt x="2023" y="0"/>
                  </a:lnTo>
                  <a:lnTo>
                    <a:pt x="1993" y="0"/>
                  </a:lnTo>
                  <a:lnTo>
                    <a:pt x="1968" y="0"/>
                  </a:lnTo>
                  <a:lnTo>
                    <a:pt x="1944" y="0"/>
                  </a:lnTo>
                  <a:lnTo>
                    <a:pt x="1914" y="0"/>
                  </a:lnTo>
                  <a:lnTo>
                    <a:pt x="1889" y="0"/>
                  </a:lnTo>
                  <a:lnTo>
                    <a:pt x="1860" y="0"/>
                  </a:lnTo>
                  <a:lnTo>
                    <a:pt x="1835" y="0"/>
                  </a:lnTo>
                  <a:lnTo>
                    <a:pt x="1810" y="0"/>
                  </a:lnTo>
                  <a:lnTo>
                    <a:pt x="1780" y="0"/>
                  </a:lnTo>
                  <a:lnTo>
                    <a:pt x="1756" y="0"/>
                  </a:lnTo>
                  <a:lnTo>
                    <a:pt x="1726" y="0"/>
                  </a:lnTo>
                  <a:lnTo>
                    <a:pt x="1701" y="0"/>
                  </a:lnTo>
                  <a:lnTo>
                    <a:pt x="1677" y="0"/>
                  </a:lnTo>
                  <a:lnTo>
                    <a:pt x="1647" y="0"/>
                  </a:lnTo>
                  <a:lnTo>
                    <a:pt x="1622" y="0"/>
                  </a:lnTo>
                  <a:lnTo>
                    <a:pt x="1598" y="0"/>
                  </a:lnTo>
                  <a:lnTo>
                    <a:pt x="1568" y="0"/>
                  </a:lnTo>
                  <a:lnTo>
                    <a:pt x="1543" y="0"/>
                  </a:lnTo>
                  <a:lnTo>
                    <a:pt x="1513" y="0"/>
                  </a:lnTo>
                  <a:lnTo>
                    <a:pt x="1489" y="0"/>
                  </a:lnTo>
                  <a:lnTo>
                    <a:pt x="1464" y="0"/>
                  </a:lnTo>
                  <a:lnTo>
                    <a:pt x="1434" y="0"/>
                  </a:lnTo>
                  <a:lnTo>
                    <a:pt x="1410" y="0"/>
                  </a:lnTo>
                  <a:lnTo>
                    <a:pt x="1385" y="0"/>
                  </a:lnTo>
                  <a:lnTo>
                    <a:pt x="1355" y="0"/>
                  </a:lnTo>
                  <a:lnTo>
                    <a:pt x="1330" y="0"/>
                  </a:lnTo>
                  <a:lnTo>
                    <a:pt x="1301" y="0"/>
                  </a:lnTo>
                  <a:lnTo>
                    <a:pt x="1276" y="0"/>
                  </a:lnTo>
                  <a:lnTo>
                    <a:pt x="1251" y="0"/>
                  </a:lnTo>
                  <a:lnTo>
                    <a:pt x="1222" y="0"/>
                  </a:lnTo>
                  <a:lnTo>
                    <a:pt x="1197" y="0"/>
                  </a:lnTo>
                  <a:lnTo>
                    <a:pt x="1172" y="0"/>
                  </a:lnTo>
                  <a:lnTo>
                    <a:pt x="1143" y="0"/>
                  </a:lnTo>
                  <a:lnTo>
                    <a:pt x="1118" y="0"/>
                  </a:lnTo>
                  <a:lnTo>
                    <a:pt x="1088" y="0"/>
                  </a:lnTo>
                  <a:lnTo>
                    <a:pt x="1063" y="0"/>
                  </a:lnTo>
                  <a:lnTo>
                    <a:pt x="1039" y="0"/>
                  </a:lnTo>
                  <a:lnTo>
                    <a:pt x="1009" y="0"/>
                  </a:lnTo>
                  <a:lnTo>
                    <a:pt x="984" y="0"/>
                  </a:lnTo>
                  <a:lnTo>
                    <a:pt x="955" y="0"/>
                  </a:lnTo>
                  <a:lnTo>
                    <a:pt x="930" y="0"/>
                  </a:lnTo>
                  <a:lnTo>
                    <a:pt x="905" y="0"/>
                  </a:lnTo>
                  <a:lnTo>
                    <a:pt x="875" y="0"/>
                  </a:lnTo>
                  <a:lnTo>
                    <a:pt x="851" y="0"/>
                  </a:lnTo>
                  <a:lnTo>
                    <a:pt x="826" y="0"/>
                  </a:lnTo>
                  <a:lnTo>
                    <a:pt x="796" y="0"/>
                  </a:lnTo>
                  <a:lnTo>
                    <a:pt x="772" y="0"/>
                  </a:lnTo>
                  <a:lnTo>
                    <a:pt x="742" y="0"/>
                  </a:lnTo>
                  <a:lnTo>
                    <a:pt x="717" y="0"/>
                  </a:lnTo>
                  <a:lnTo>
                    <a:pt x="692" y="0"/>
                  </a:lnTo>
                  <a:lnTo>
                    <a:pt x="663" y="0"/>
                  </a:lnTo>
                  <a:lnTo>
                    <a:pt x="638" y="0"/>
                  </a:lnTo>
                  <a:lnTo>
                    <a:pt x="613" y="0"/>
                  </a:lnTo>
                  <a:lnTo>
                    <a:pt x="584" y="25"/>
                  </a:lnTo>
                  <a:lnTo>
                    <a:pt x="559" y="55"/>
                  </a:lnTo>
                  <a:lnTo>
                    <a:pt x="529" y="79"/>
                  </a:lnTo>
                  <a:lnTo>
                    <a:pt x="505" y="104"/>
                  </a:lnTo>
                  <a:lnTo>
                    <a:pt x="480" y="134"/>
                  </a:lnTo>
                  <a:lnTo>
                    <a:pt x="450" y="134"/>
                  </a:lnTo>
                  <a:lnTo>
                    <a:pt x="425" y="159"/>
                  </a:lnTo>
                  <a:lnTo>
                    <a:pt x="396" y="188"/>
                  </a:lnTo>
                  <a:lnTo>
                    <a:pt x="371" y="213"/>
                  </a:lnTo>
                  <a:lnTo>
                    <a:pt x="346" y="238"/>
                  </a:lnTo>
                  <a:lnTo>
                    <a:pt x="317" y="267"/>
                  </a:lnTo>
                  <a:lnTo>
                    <a:pt x="292" y="292"/>
                  </a:lnTo>
                  <a:lnTo>
                    <a:pt x="267" y="322"/>
                  </a:lnTo>
                  <a:lnTo>
                    <a:pt x="237" y="322"/>
                  </a:lnTo>
                  <a:lnTo>
                    <a:pt x="213" y="346"/>
                  </a:lnTo>
                  <a:lnTo>
                    <a:pt x="183" y="371"/>
                  </a:lnTo>
                  <a:lnTo>
                    <a:pt x="158" y="401"/>
                  </a:lnTo>
                  <a:lnTo>
                    <a:pt x="134" y="425"/>
                  </a:lnTo>
                  <a:lnTo>
                    <a:pt x="104" y="455"/>
                  </a:lnTo>
                  <a:lnTo>
                    <a:pt x="79" y="480"/>
                  </a:lnTo>
                  <a:lnTo>
                    <a:pt x="55" y="504"/>
                  </a:lnTo>
                  <a:lnTo>
                    <a:pt x="25" y="504"/>
                  </a:lnTo>
                  <a:lnTo>
                    <a:pt x="0" y="534"/>
                  </a:lnTo>
                  <a:lnTo>
                    <a:pt x="0" y="559"/>
                  </a:lnTo>
                  <a:lnTo>
                    <a:pt x="0" y="589"/>
                  </a:lnTo>
                  <a:lnTo>
                    <a:pt x="0" y="613"/>
                  </a:lnTo>
                  <a:lnTo>
                    <a:pt x="25" y="643"/>
                  </a:lnTo>
                  <a:lnTo>
                    <a:pt x="25" y="668"/>
                  </a:lnTo>
                  <a:lnTo>
                    <a:pt x="55" y="692"/>
                  </a:lnTo>
                  <a:lnTo>
                    <a:pt x="79" y="722"/>
                  </a:lnTo>
                  <a:lnTo>
                    <a:pt x="104" y="747"/>
                  </a:lnTo>
                  <a:lnTo>
                    <a:pt x="134" y="776"/>
                  </a:lnTo>
                  <a:lnTo>
                    <a:pt x="134" y="801"/>
                  </a:lnTo>
                  <a:lnTo>
                    <a:pt x="158" y="826"/>
                  </a:lnTo>
                  <a:lnTo>
                    <a:pt x="183" y="855"/>
                  </a:lnTo>
                  <a:lnTo>
                    <a:pt x="213" y="880"/>
                  </a:lnTo>
                  <a:lnTo>
                    <a:pt x="237" y="910"/>
                  </a:lnTo>
                  <a:lnTo>
                    <a:pt x="267" y="934"/>
                  </a:lnTo>
                  <a:lnTo>
                    <a:pt x="292" y="959"/>
                  </a:lnTo>
                  <a:lnTo>
                    <a:pt x="292" y="989"/>
                  </a:lnTo>
                  <a:lnTo>
                    <a:pt x="317" y="1014"/>
                  </a:lnTo>
                  <a:lnTo>
                    <a:pt x="346" y="1043"/>
                  </a:lnTo>
                  <a:lnTo>
                    <a:pt x="371" y="1068"/>
                  </a:lnTo>
                  <a:lnTo>
                    <a:pt x="396" y="1093"/>
                  </a:lnTo>
                  <a:lnTo>
                    <a:pt x="425" y="1122"/>
                  </a:lnTo>
                  <a:lnTo>
                    <a:pt x="450" y="1147"/>
                  </a:lnTo>
                  <a:lnTo>
                    <a:pt x="480" y="1177"/>
                  </a:lnTo>
                  <a:lnTo>
                    <a:pt x="505" y="1201"/>
                  </a:lnTo>
                  <a:lnTo>
                    <a:pt x="529" y="1226"/>
                  </a:lnTo>
                  <a:lnTo>
                    <a:pt x="559" y="1256"/>
                  </a:lnTo>
                  <a:lnTo>
                    <a:pt x="584" y="1280"/>
                  </a:lnTo>
                  <a:lnTo>
                    <a:pt x="613" y="1310"/>
                  </a:lnTo>
                  <a:lnTo>
                    <a:pt x="638" y="1335"/>
                  </a:lnTo>
                  <a:lnTo>
                    <a:pt x="663" y="1364"/>
                  </a:lnTo>
                  <a:lnTo>
                    <a:pt x="692" y="1389"/>
                  </a:lnTo>
                  <a:lnTo>
                    <a:pt x="717" y="1414"/>
                  </a:lnTo>
                  <a:lnTo>
                    <a:pt x="742" y="1444"/>
                  </a:lnTo>
                  <a:lnTo>
                    <a:pt x="772" y="1468"/>
                  </a:lnTo>
                  <a:lnTo>
                    <a:pt x="796" y="1468"/>
                  </a:lnTo>
                  <a:lnTo>
                    <a:pt x="826" y="1498"/>
                  </a:lnTo>
                  <a:lnTo>
                    <a:pt x="851" y="1523"/>
                  </a:lnTo>
                  <a:lnTo>
                    <a:pt x="875" y="1547"/>
                  </a:lnTo>
                  <a:lnTo>
                    <a:pt x="905" y="1577"/>
                  </a:lnTo>
                  <a:lnTo>
                    <a:pt x="930" y="1602"/>
                  </a:lnTo>
                  <a:lnTo>
                    <a:pt x="955" y="1631"/>
                  </a:lnTo>
                  <a:lnTo>
                    <a:pt x="984" y="1656"/>
                  </a:lnTo>
                  <a:lnTo>
                    <a:pt x="1009" y="1656"/>
                  </a:lnTo>
                  <a:lnTo>
                    <a:pt x="1039" y="1656"/>
                  </a:lnTo>
                  <a:lnTo>
                    <a:pt x="1063" y="1656"/>
                  </a:lnTo>
                  <a:lnTo>
                    <a:pt x="1088" y="1656"/>
                  </a:lnTo>
                  <a:lnTo>
                    <a:pt x="1118" y="1656"/>
                  </a:lnTo>
                  <a:lnTo>
                    <a:pt x="1143" y="1656"/>
                  </a:lnTo>
                  <a:lnTo>
                    <a:pt x="1172" y="1656"/>
                  </a:lnTo>
                  <a:lnTo>
                    <a:pt x="1197" y="1656"/>
                  </a:lnTo>
                  <a:lnTo>
                    <a:pt x="1222" y="1656"/>
                  </a:lnTo>
                  <a:lnTo>
                    <a:pt x="1251" y="1656"/>
                  </a:lnTo>
                  <a:lnTo>
                    <a:pt x="1276" y="1656"/>
                  </a:lnTo>
                  <a:lnTo>
                    <a:pt x="1301" y="1656"/>
                  </a:lnTo>
                  <a:lnTo>
                    <a:pt x="1330" y="1656"/>
                  </a:lnTo>
                  <a:lnTo>
                    <a:pt x="1355" y="1656"/>
                  </a:lnTo>
                  <a:lnTo>
                    <a:pt x="1385" y="1656"/>
                  </a:lnTo>
                  <a:lnTo>
                    <a:pt x="1410" y="1656"/>
                  </a:lnTo>
                  <a:lnTo>
                    <a:pt x="1434" y="1656"/>
                  </a:lnTo>
                  <a:lnTo>
                    <a:pt x="1464" y="1656"/>
                  </a:lnTo>
                  <a:lnTo>
                    <a:pt x="1489" y="1656"/>
                  </a:lnTo>
                  <a:lnTo>
                    <a:pt x="1513" y="1656"/>
                  </a:lnTo>
                  <a:lnTo>
                    <a:pt x="1543" y="1656"/>
                  </a:lnTo>
                  <a:lnTo>
                    <a:pt x="1568" y="1656"/>
                  </a:lnTo>
                  <a:lnTo>
                    <a:pt x="1598" y="1656"/>
                  </a:lnTo>
                  <a:lnTo>
                    <a:pt x="1622" y="1656"/>
                  </a:lnTo>
                  <a:lnTo>
                    <a:pt x="1647" y="1656"/>
                  </a:lnTo>
                  <a:lnTo>
                    <a:pt x="1677" y="1656"/>
                  </a:lnTo>
                  <a:lnTo>
                    <a:pt x="1701" y="1656"/>
                  </a:lnTo>
                  <a:lnTo>
                    <a:pt x="1726" y="1656"/>
                  </a:lnTo>
                  <a:lnTo>
                    <a:pt x="1756" y="1656"/>
                  </a:lnTo>
                  <a:lnTo>
                    <a:pt x="1780" y="1656"/>
                  </a:lnTo>
                  <a:lnTo>
                    <a:pt x="1810" y="1656"/>
                  </a:lnTo>
                  <a:lnTo>
                    <a:pt x="1835" y="1656"/>
                  </a:lnTo>
                  <a:lnTo>
                    <a:pt x="1860" y="1656"/>
                  </a:lnTo>
                  <a:lnTo>
                    <a:pt x="1889" y="1656"/>
                  </a:lnTo>
                  <a:lnTo>
                    <a:pt x="1914" y="1656"/>
                  </a:lnTo>
                  <a:lnTo>
                    <a:pt x="1944" y="1656"/>
                  </a:lnTo>
                  <a:lnTo>
                    <a:pt x="1968" y="1656"/>
                  </a:lnTo>
                  <a:lnTo>
                    <a:pt x="1993" y="1656"/>
                  </a:lnTo>
                  <a:lnTo>
                    <a:pt x="2023" y="1656"/>
                  </a:lnTo>
                  <a:lnTo>
                    <a:pt x="2048" y="1656"/>
                  </a:lnTo>
                  <a:lnTo>
                    <a:pt x="2072" y="1656"/>
                  </a:lnTo>
                  <a:lnTo>
                    <a:pt x="2102" y="1656"/>
                  </a:lnTo>
                  <a:lnTo>
                    <a:pt x="2127" y="1656"/>
                  </a:lnTo>
                  <a:lnTo>
                    <a:pt x="2156" y="1656"/>
                  </a:lnTo>
                  <a:lnTo>
                    <a:pt x="2181" y="1656"/>
                  </a:lnTo>
                  <a:lnTo>
                    <a:pt x="2206" y="1656"/>
                  </a:lnTo>
                  <a:lnTo>
                    <a:pt x="2235" y="1656"/>
                  </a:lnTo>
                  <a:close/>
                  <a:moveTo>
                    <a:pt x="1355" y="292"/>
                  </a:moveTo>
                  <a:lnTo>
                    <a:pt x="1355" y="287"/>
                  </a:lnTo>
                  <a:lnTo>
                    <a:pt x="1360" y="287"/>
                  </a:lnTo>
                  <a:lnTo>
                    <a:pt x="1370" y="287"/>
                  </a:lnTo>
                  <a:lnTo>
                    <a:pt x="1380" y="287"/>
                  </a:lnTo>
                  <a:lnTo>
                    <a:pt x="1385" y="287"/>
                  </a:lnTo>
                  <a:lnTo>
                    <a:pt x="1395" y="287"/>
                  </a:lnTo>
                  <a:lnTo>
                    <a:pt x="1405" y="287"/>
                  </a:lnTo>
                  <a:lnTo>
                    <a:pt x="1410" y="282"/>
                  </a:lnTo>
                  <a:lnTo>
                    <a:pt x="1415" y="282"/>
                  </a:lnTo>
                  <a:lnTo>
                    <a:pt x="1419" y="277"/>
                  </a:lnTo>
                  <a:lnTo>
                    <a:pt x="1419" y="272"/>
                  </a:lnTo>
                  <a:lnTo>
                    <a:pt x="1424" y="267"/>
                  </a:lnTo>
                  <a:lnTo>
                    <a:pt x="1424" y="262"/>
                  </a:lnTo>
                  <a:lnTo>
                    <a:pt x="1429" y="257"/>
                  </a:lnTo>
                  <a:lnTo>
                    <a:pt x="1434" y="252"/>
                  </a:lnTo>
                  <a:lnTo>
                    <a:pt x="1439" y="247"/>
                  </a:lnTo>
                  <a:lnTo>
                    <a:pt x="1444" y="247"/>
                  </a:lnTo>
                  <a:lnTo>
                    <a:pt x="1454" y="247"/>
                  </a:lnTo>
                  <a:lnTo>
                    <a:pt x="1459" y="247"/>
                  </a:lnTo>
                  <a:lnTo>
                    <a:pt x="1469" y="252"/>
                  </a:lnTo>
                  <a:lnTo>
                    <a:pt x="1474" y="257"/>
                  </a:lnTo>
                  <a:lnTo>
                    <a:pt x="1479" y="257"/>
                  </a:lnTo>
                  <a:lnTo>
                    <a:pt x="1484" y="262"/>
                  </a:lnTo>
                  <a:lnTo>
                    <a:pt x="1484" y="267"/>
                  </a:lnTo>
                  <a:lnTo>
                    <a:pt x="1479" y="272"/>
                  </a:lnTo>
                  <a:lnTo>
                    <a:pt x="1474" y="277"/>
                  </a:lnTo>
                  <a:lnTo>
                    <a:pt x="1464" y="277"/>
                  </a:lnTo>
                  <a:lnTo>
                    <a:pt x="1454" y="277"/>
                  </a:lnTo>
                  <a:lnTo>
                    <a:pt x="1449" y="282"/>
                  </a:lnTo>
                  <a:lnTo>
                    <a:pt x="1439" y="282"/>
                  </a:lnTo>
                  <a:lnTo>
                    <a:pt x="1434" y="282"/>
                  </a:lnTo>
                  <a:lnTo>
                    <a:pt x="1429" y="287"/>
                  </a:lnTo>
                  <a:lnTo>
                    <a:pt x="1424" y="292"/>
                  </a:lnTo>
                  <a:lnTo>
                    <a:pt x="1419" y="292"/>
                  </a:lnTo>
                  <a:lnTo>
                    <a:pt x="1415" y="297"/>
                  </a:lnTo>
                  <a:lnTo>
                    <a:pt x="1410" y="302"/>
                  </a:lnTo>
                  <a:lnTo>
                    <a:pt x="1405" y="302"/>
                  </a:lnTo>
                  <a:lnTo>
                    <a:pt x="1395" y="302"/>
                  </a:lnTo>
                  <a:lnTo>
                    <a:pt x="1385" y="302"/>
                  </a:lnTo>
                  <a:lnTo>
                    <a:pt x="1380" y="302"/>
                  </a:lnTo>
                  <a:lnTo>
                    <a:pt x="1370" y="302"/>
                  </a:lnTo>
                  <a:lnTo>
                    <a:pt x="1360" y="302"/>
                  </a:lnTo>
                  <a:lnTo>
                    <a:pt x="1355" y="297"/>
                  </a:lnTo>
                  <a:lnTo>
                    <a:pt x="1355" y="292"/>
                  </a:lnTo>
                  <a:close/>
                  <a:moveTo>
                    <a:pt x="1667" y="267"/>
                  </a:moveTo>
                  <a:lnTo>
                    <a:pt x="1662" y="262"/>
                  </a:lnTo>
                  <a:lnTo>
                    <a:pt x="1652" y="257"/>
                  </a:lnTo>
                  <a:lnTo>
                    <a:pt x="1647" y="252"/>
                  </a:lnTo>
                  <a:lnTo>
                    <a:pt x="1642" y="252"/>
                  </a:lnTo>
                  <a:lnTo>
                    <a:pt x="1637" y="247"/>
                  </a:lnTo>
                  <a:lnTo>
                    <a:pt x="1632" y="243"/>
                  </a:lnTo>
                  <a:lnTo>
                    <a:pt x="1632" y="233"/>
                  </a:lnTo>
                  <a:lnTo>
                    <a:pt x="1627" y="228"/>
                  </a:lnTo>
                  <a:lnTo>
                    <a:pt x="1622" y="228"/>
                  </a:lnTo>
                  <a:lnTo>
                    <a:pt x="1612" y="228"/>
                  </a:lnTo>
                  <a:lnTo>
                    <a:pt x="1602" y="228"/>
                  </a:lnTo>
                  <a:lnTo>
                    <a:pt x="1593" y="228"/>
                  </a:lnTo>
                  <a:lnTo>
                    <a:pt x="1583" y="228"/>
                  </a:lnTo>
                  <a:lnTo>
                    <a:pt x="1573" y="228"/>
                  </a:lnTo>
                  <a:lnTo>
                    <a:pt x="1568" y="228"/>
                  </a:lnTo>
                  <a:lnTo>
                    <a:pt x="1563" y="233"/>
                  </a:lnTo>
                  <a:lnTo>
                    <a:pt x="1558" y="238"/>
                  </a:lnTo>
                  <a:lnTo>
                    <a:pt x="1558" y="243"/>
                  </a:lnTo>
                  <a:lnTo>
                    <a:pt x="1548" y="247"/>
                  </a:lnTo>
                  <a:lnTo>
                    <a:pt x="1543" y="252"/>
                  </a:lnTo>
                  <a:lnTo>
                    <a:pt x="1533" y="252"/>
                  </a:lnTo>
                  <a:lnTo>
                    <a:pt x="1528" y="257"/>
                  </a:lnTo>
                  <a:lnTo>
                    <a:pt x="1518" y="257"/>
                  </a:lnTo>
                  <a:lnTo>
                    <a:pt x="1508" y="257"/>
                  </a:lnTo>
                  <a:lnTo>
                    <a:pt x="1504" y="252"/>
                  </a:lnTo>
                  <a:lnTo>
                    <a:pt x="1499" y="247"/>
                  </a:lnTo>
                  <a:lnTo>
                    <a:pt x="1494" y="243"/>
                  </a:lnTo>
                  <a:lnTo>
                    <a:pt x="1494" y="238"/>
                  </a:lnTo>
                  <a:lnTo>
                    <a:pt x="1494" y="228"/>
                  </a:lnTo>
                  <a:lnTo>
                    <a:pt x="1499" y="223"/>
                  </a:lnTo>
                  <a:lnTo>
                    <a:pt x="1508" y="223"/>
                  </a:lnTo>
                  <a:lnTo>
                    <a:pt x="1518" y="218"/>
                  </a:lnTo>
                  <a:lnTo>
                    <a:pt x="1523" y="223"/>
                  </a:lnTo>
                  <a:lnTo>
                    <a:pt x="1533" y="223"/>
                  </a:lnTo>
                  <a:lnTo>
                    <a:pt x="1543" y="223"/>
                  </a:lnTo>
                  <a:lnTo>
                    <a:pt x="1548" y="223"/>
                  </a:lnTo>
                  <a:lnTo>
                    <a:pt x="1553" y="218"/>
                  </a:lnTo>
                  <a:lnTo>
                    <a:pt x="1558" y="208"/>
                  </a:lnTo>
                  <a:lnTo>
                    <a:pt x="1558" y="203"/>
                  </a:lnTo>
                  <a:lnTo>
                    <a:pt x="1563" y="198"/>
                  </a:lnTo>
                  <a:lnTo>
                    <a:pt x="1563" y="193"/>
                  </a:lnTo>
                  <a:lnTo>
                    <a:pt x="1573" y="188"/>
                  </a:lnTo>
                  <a:lnTo>
                    <a:pt x="1578" y="188"/>
                  </a:lnTo>
                  <a:lnTo>
                    <a:pt x="1588" y="193"/>
                  </a:lnTo>
                  <a:lnTo>
                    <a:pt x="1598" y="193"/>
                  </a:lnTo>
                  <a:lnTo>
                    <a:pt x="1607" y="193"/>
                  </a:lnTo>
                  <a:lnTo>
                    <a:pt x="1612" y="193"/>
                  </a:lnTo>
                  <a:lnTo>
                    <a:pt x="1622" y="193"/>
                  </a:lnTo>
                  <a:lnTo>
                    <a:pt x="1627" y="193"/>
                  </a:lnTo>
                  <a:lnTo>
                    <a:pt x="1632" y="198"/>
                  </a:lnTo>
                  <a:lnTo>
                    <a:pt x="1637" y="208"/>
                  </a:lnTo>
                  <a:lnTo>
                    <a:pt x="1642" y="213"/>
                  </a:lnTo>
                  <a:lnTo>
                    <a:pt x="1642" y="218"/>
                  </a:lnTo>
                  <a:lnTo>
                    <a:pt x="1647" y="223"/>
                  </a:lnTo>
                  <a:lnTo>
                    <a:pt x="1657" y="223"/>
                  </a:lnTo>
                  <a:lnTo>
                    <a:pt x="1662" y="228"/>
                  </a:lnTo>
                  <a:lnTo>
                    <a:pt x="1667" y="233"/>
                  </a:lnTo>
                  <a:lnTo>
                    <a:pt x="1667" y="238"/>
                  </a:lnTo>
                  <a:lnTo>
                    <a:pt x="1672" y="243"/>
                  </a:lnTo>
                  <a:lnTo>
                    <a:pt x="1672" y="247"/>
                  </a:lnTo>
                  <a:lnTo>
                    <a:pt x="1677" y="252"/>
                  </a:lnTo>
                  <a:lnTo>
                    <a:pt x="1687" y="257"/>
                  </a:lnTo>
                  <a:lnTo>
                    <a:pt x="1691" y="262"/>
                  </a:lnTo>
                  <a:lnTo>
                    <a:pt x="1691" y="267"/>
                  </a:lnTo>
                  <a:lnTo>
                    <a:pt x="1682" y="272"/>
                  </a:lnTo>
                  <a:lnTo>
                    <a:pt x="1677" y="277"/>
                  </a:lnTo>
                  <a:lnTo>
                    <a:pt x="1672" y="272"/>
                  </a:lnTo>
                  <a:lnTo>
                    <a:pt x="1667" y="267"/>
                  </a:lnTo>
                  <a:close/>
                  <a:moveTo>
                    <a:pt x="1909" y="238"/>
                  </a:moveTo>
                  <a:lnTo>
                    <a:pt x="1914" y="233"/>
                  </a:lnTo>
                  <a:lnTo>
                    <a:pt x="1914" y="228"/>
                  </a:lnTo>
                  <a:lnTo>
                    <a:pt x="1914" y="223"/>
                  </a:lnTo>
                  <a:lnTo>
                    <a:pt x="1919" y="218"/>
                  </a:lnTo>
                  <a:lnTo>
                    <a:pt x="1919" y="213"/>
                  </a:lnTo>
                  <a:lnTo>
                    <a:pt x="1914" y="208"/>
                  </a:lnTo>
                  <a:lnTo>
                    <a:pt x="1904" y="208"/>
                  </a:lnTo>
                  <a:lnTo>
                    <a:pt x="1899" y="203"/>
                  </a:lnTo>
                  <a:lnTo>
                    <a:pt x="1889" y="203"/>
                  </a:lnTo>
                  <a:lnTo>
                    <a:pt x="1884" y="203"/>
                  </a:lnTo>
                  <a:lnTo>
                    <a:pt x="1879" y="208"/>
                  </a:lnTo>
                  <a:lnTo>
                    <a:pt x="1874" y="213"/>
                  </a:lnTo>
                  <a:lnTo>
                    <a:pt x="1870" y="218"/>
                  </a:lnTo>
                  <a:lnTo>
                    <a:pt x="1865" y="223"/>
                  </a:lnTo>
                  <a:lnTo>
                    <a:pt x="1860" y="228"/>
                  </a:lnTo>
                  <a:lnTo>
                    <a:pt x="1855" y="223"/>
                  </a:lnTo>
                  <a:lnTo>
                    <a:pt x="1845" y="218"/>
                  </a:lnTo>
                  <a:lnTo>
                    <a:pt x="1840" y="213"/>
                  </a:lnTo>
                  <a:lnTo>
                    <a:pt x="1845" y="208"/>
                  </a:lnTo>
                  <a:lnTo>
                    <a:pt x="1845" y="208"/>
                  </a:lnTo>
                  <a:lnTo>
                    <a:pt x="1855" y="203"/>
                  </a:lnTo>
                  <a:lnTo>
                    <a:pt x="1860" y="198"/>
                  </a:lnTo>
                  <a:lnTo>
                    <a:pt x="1865" y="193"/>
                  </a:lnTo>
                  <a:lnTo>
                    <a:pt x="1870" y="188"/>
                  </a:lnTo>
                  <a:lnTo>
                    <a:pt x="1865" y="183"/>
                  </a:lnTo>
                  <a:lnTo>
                    <a:pt x="1860" y="178"/>
                  </a:lnTo>
                  <a:lnTo>
                    <a:pt x="1850" y="178"/>
                  </a:lnTo>
                  <a:lnTo>
                    <a:pt x="1845" y="178"/>
                  </a:lnTo>
                  <a:lnTo>
                    <a:pt x="1835" y="178"/>
                  </a:lnTo>
                  <a:lnTo>
                    <a:pt x="1825" y="178"/>
                  </a:lnTo>
                  <a:lnTo>
                    <a:pt x="1820" y="183"/>
                  </a:lnTo>
                  <a:lnTo>
                    <a:pt x="1815" y="188"/>
                  </a:lnTo>
                  <a:lnTo>
                    <a:pt x="1810" y="193"/>
                  </a:lnTo>
                  <a:lnTo>
                    <a:pt x="1805" y="198"/>
                  </a:lnTo>
                  <a:lnTo>
                    <a:pt x="1800" y="198"/>
                  </a:lnTo>
                  <a:lnTo>
                    <a:pt x="1790" y="203"/>
                  </a:lnTo>
                  <a:lnTo>
                    <a:pt x="1780" y="203"/>
                  </a:lnTo>
                  <a:lnTo>
                    <a:pt x="1776" y="203"/>
                  </a:lnTo>
                  <a:lnTo>
                    <a:pt x="1766" y="198"/>
                  </a:lnTo>
                  <a:lnTo>
                    <a:pt x="1761" y="193"/>
                  </a:lnTo>
                  <a:lnTo>
                    <a:pt x="1761" y="188"/>
                  </a:lnTo>
                  <a:lnTo>
                    <a:pt x="1761" y="183"/>
                  </a:lnTo>
                  <a:lnTo>
                    <a:pt x="1766" y="178"/>
                  </a:lnTo>
                  <a:lnTo>
                    <a:pt x="1771" y="173"/>
                  </a:lnTo>
                  <a:lnTo>
                    <a:pt x="1780" y="168"/>
                  </a:lnTo>
                  <a:lnTo>
                    <a:pt x="1785" y="173"/>
                  </a:lnTo>
                  <a:lnTo>
                    <a:pt x="1795" y="173"/>
                  </a:lnTo>
                  <a:lnTo>
                    <a:pt x="1800" y="178"/>
                  </a:lnTo>
                  <a:lnTo>
                    <a:pt x="1810" y="178"/>
                  </a:lnTo>
                  <a:lnTo>
                    <a:pt x="1810" y="173"/>
                  </a:lnTo>
                  <a:lnTo>
                    <a:pt x="1815" y="168"/>
                  </a:lnTo>
                  <a:lnTo>
                    <a:pt x="1815" y="163"/>
                  </a:lnTo>
                  <a:lnTo>
                    <a:pt x="1810" y="159"/>
                  </a:lnTo>
                  <a:lnTo>
                    <a:pt x="1805" y="154"/>
                  </a:lnTo>
                  <a:lnTo>
                    <a:pt x="1795" y="154"/>
                  </a:lnTo>
                  <a:lnTo>
                    <a:pt x="1790" y="154"/>
                  </a:lnTo>
                  <a:lnTo>
                    <a:pt x="1780" y="154"/>
                  </a:lnTo>
                  <a:lnTo>
                    <a:pt x="1776" y="149"/>
                  </a:lnTo>
                  <a:lnTo>
                    <a:pt x="1771" y="149"/>
                  </a:lnTo>
                  <a:lnTo>
                    <a:pt x="1766" y="144"/>
                  </a:lnTo>
                  <a:lnTo>
                    <a:pt x="1761" y="139"/>
                  </a:lnTo>
                  <a:lnTo>
                    <a:pt x="1756" y="134"/>
                  </a:lnTo>
                  <a:lnTo>
                    <a:pt x="1751" y="129"/>
                  </a:lnTo>
                  <a:lnTo>
                    <a:pt x="1746" y="129"/>
                  </a:lnTo>
                  <a:lnTo>
                    <a:pt x="1736" y="129"/>
                  </a:lnTo>
                  <a:lnTo>
                    <a:pt x="1726" y="129"/>
                  </a:lnTo>
                  <a:lnTo>
                    <a:pt x="1721" y="124"/>
                  </a:lnTo>
                  <a:lnTo>
                    <a:pt x="1716" y="119"/>
                  </a:lnTo>
                  <a:lnTo>
                    <a:pt x="1711" y="114"/>
                  </a:lnTo>
                  <a:lnTo>
                    <a:pt x="1711" y="109"/>
                  </a:lnTo>
                  <a:lnTo>
                    <a:pt x="1706" y="104"/>
                  </a:lnTo>
                  <a:lnTo>
                    <a:pt x="1696" y="104"/>
                  </a:lnTo>
                  <a:lnTo>
                    <a:pt x="1691" y="99"/>
                  </a:lnTo>
                  <a:lnTo>
                    <a:pt x="1682" y="99"/>
                  </a:lnTo>
                  <a:lnTo>
                    <a:pt x="1677" y="99"/>
                  </a:lnTo>
                  <a:lnTo>
                    <a:pt x="1667" y="94"/>
                  </a:lnTo>
                  <a:lnTo>
                    <a:pt x="1662" y="89"/>
                  </a:lnTo>
                  <a:lnTo>
                    <a:pt x="1662" y="84"/>
                  </a:lnTo>
                  <a:lnTo>
                    <a:pt x="1657" y="79"/>
                  </a:lnTo>
                  <a:lnTo>
                    <a:pt x="1652" y="79"/>
                  </a:lnTo>
                  <a:lnTo>
                    <a:pt x="1642" y="74"/>
                  </a:lnTo>
                  <a:lnTo>
                    <a:pt x="1637" y="74"/>
                  </a:lnTo>
                  <a:lnTo>
                    <a:pt x="1627" y="74"/>
                  </a:lnTo>
                  <a:lnTo>
                    <a:pt x="1617" y="74"/>
                  </a:lnTo>
                  <a:lnTo>
                    <a:pt x="1612" y="74"/>
                  </a:lnTo>
                  <a:lnTo>
                    <a:pt x="1602" y="70"/>
                  </a:lnTo>
                  <a:lnTo>
                    <a:pt x="1598" y="65"/>
                  </a:lnTo>
                  <a:lnTo>
                    <a:pt x="1598" y="60"/>
                  </a:lnTo>
                  <a:lnTo>
                    <a:pt x="1598" y="55"/>
                  </a:lnTo>
                  <a:lnTo>
                    <a:pt x="1598" y="50"/>
                  </a:lnTo>
                  <a:lnTo>
                    <a:pt x="1602" y="45"/>
                  </a:lnTo>
                  <a:lnTo>
                    <a:pt x="1607" y="40"/>
                  </a:lnTo>
                  <a:lnTo>
                    <a:pt x="1617" y="35"/>
                  </a:lnTo>
                  <a:lnTo>
                    <a:pt x="1622" y="35"/>
                  </a:lnTo>
                  <a:lnTo>
                    <a:pt x="1632" y="30"/>
                  </a:lnTo>
                  <a:lnTo>
                    <a:pt x="1637" y="30"/>
                  </a:lnTo>
                  <a:lnTo>
                    <a:pt x="1647" y="30"/>
                  </a:lnTo>
                  <a:lnTo>
                    <a:pt x="1657" y="30"/>
                  </a:lnTo>
                  <a:lnTo>
                    <a:pt x="1662" y="35"/>
                  </a:lnTo>
                  <a:lnTo>
                    <a:pt x="1672" y="35"/>
                  </a:lnTo>
                  <a:lnTo>
                    <a:pt x="1677" y="40"/>
                  </a:lnTo>
                  <a:lnTo>
                    <a:pt x="1682" y="40"/>
                  </a:lnTo>
                  <a:lnTo>
                    <a:pt x="1687" y="45"/>
                  </a:lnTo>
                  <a:lnTo>
                    <a:pt x="1691" y="50"/>
                  </a:lnTo>
                  <a:lnTo>
                    <a:pt x="1701" y="55"/>
                  </a:lnTo>
                  <a:lnTo>
                    <a:pt x="1706" y="55"/>
                  </a:lnTo>
                  <a:lnTo>
                    <a:pt x="1716" y="55"/>
                  </a:lnTo>
                  <a:lnTo>
                    <a:pt x="1721" y="55"/>
                  </a:lnTo>
                  <a:lnTo>
                    <a:pt x="1731" y="55"/>
                  </a:lnTo>
                  <a:lnTo>
                    <a:pt x="1736" y="60"/>
                  </a:lnTo>
                  <a:lnTo>
                    <a:pt x="1746" y="60"/>
                  </a:lnTo>
                  <a:lnTo>
                    <a:pt x="1756" y="60"/>
                  </a:lnTo>
                  <a:lnTo>
                    <a:pt x="1761" y="60"/>
                  </a:lnTo>
                  <a:lnTo>
                    <a:pt x="1771" y="60"/>
                  </a:lnTo>
                  <a:lnTo>
                    <a:pt x="1776" y="65"/>
                  </a:lnTo>
                  <a:lnTo>
                    <a:pt x="1785" y="65"/>
                  </a:lnTo>
                  <a:lnTo>
                    <a:pt x="1790" y="70"/>
                  </a:lnTo>
                  <a:lnTo>
                    <a:pt x="1795" y="74"/>
                  </a:lnTo>
                  <a:lnTo>
                    <a:pt x="1800" y="79"/>
                  </a:lnTo>
                  <a:lnTo>
                    <a:pt x="1805" y="79"/>
                  </a:lnTo>
                  <a:lnTo>
                    <a:pt x="1810" y="84"/>
                  </a:lnTo>
                  <a:lnTo>
                    <a:pt x="1820" y="84"/>
                  </a:lnTo>
                  <a:lnTo>
                    <a:pt x="1830" y="84"/>
                  </a:lnTo>
                  <a:lnTo>
                    <a:pt x="1835" y="84"/>
                  </a:lnTo>
                  <a:lnTo>
                    <a:pt x="1845" y="84"/>
                  </a:lnTo>
                  <a:lnTo>
                    <a:pt x="1850" y="84"/>
                  </a:lnTo>
                  <a:lnTo>
                    <a:pt x="1860" y="89"/>
                  </a:lnTo>
                  <a:lnTo>
                    <a:pt x="1870" y="89"/>
                  </a:lnTo>
                  <a:lnTo>
                    <a:pt x="1874" y="89"/>
                  </a:lnTo>
                  <a:lnTo>
                    <a:pt x="1884" y="89"/>
                  </a:lnTo>
                  <a:lnTo>
                    <a:pt x="1889" y="94"/>
                  </a:lnTo>
                  <a:lnTo>
                    <a:pt x="1894" y="94"/>
                  </a:lnTo>
                  <a:lnTo>
                    <a:pt x="1899" y="99"/>
                  </a:lnTo>
                  <a:lnTo>
                    <a:pt x="1904" y="104"/>
                  </a:lnTo>
                  <a:lnTo>
                    <a:pt x="1909" y="109"/>
                  </a:lnTo>
                  <a:lnTo>
                    <a:pt x="1914" y="114"/>
                  </a:lnTo>
                  <a:lnTo>
                    <a:pt x="1924" y="114"/>
                  </a:lnTo>
                  <a:lnTo>
                    <a:pt x="1929" y="114"/>
                  </a:lnTo>
                  <a:lnTo>
                    <a:pt x="1939" y="114"/>
                  </a:lnTo>
                  <a:lnTo>
                    <a:pt x="1949" y="119"/>
                  </a:lnTo>
                  <a:lnTo>
                    <a:pt x="1954" y="119"/>
                  </a:lnTo>
                  <a:lnTo>
                    <a:pt x="1963" y="119"/>
                  </a:lnTo>
                  <a:lnTo>
                    <a:pt x="1973" y="119"/>
                  </a:lnTo>
                  <a:lnTo>
                    <a:pt x="1978" y="119"/>
                  </a:lnTo>
                  <a:lnTo>
                    <a:pt x="1988" y="119"/>
                  </a:lnTo>
                  <a:lnTo>
                    <a:pt x="1993" y="119"/>
                  </a:lnTo>
                  <a:lnTo>
                    <a:pt x="2003" y="124"/>
                  </a:lnTo>
                  <a:lnTo>
                    <a:pt x="2008" y="129"/>
                  </a:lnTo>
                  <a:lnTo>
                    <a:pt x="2008" y="134"/>
                  </a:lnTo>
                  <a:lnTo>
                    <a:pt x="2013" y="139"/>
                  </a:lnTo>
                  <a:lnTo>
                    <a:pt x="2013" y="144"/>
                  </a:lnTo>
                  <a:lnTo>
                    <a:pt x="2018" y="149"/>
                  </a:lnTo>
                  <a:lnTo>
                    <a:pt x="2028" y="149"/>
                  </a:lnTo>
                  <a:lnTo>
                    <a:pt x="2033" y="149"/>
                  </a:lnTo>
                  <a:lnTo>
                    <a:pt x="2043" y="154"/>
                  </a:lnTo>
                  <a:lnTo>
                    <a:pt x="2048" y="154"/>
                  </a:lnTo>
                  <a:lnTo>
                    <a:pt x="2057" y="154"/>
                  </a:lnTo>
                  <a:lnTo>
                    <a:pt x="2067" y="154"/>
                  </a:lnTo>
                  <a:lnTo>
                    <a:pt x="2072" y="159"/>
                  </a:lnTo>
                  <a:lnTo>
                    <a:pt x="2082" y="159"/>
                  </a:lnTo>
                  <a:lnTo>
                    <a:pt x="2087" y="159"/>
                  </a:lnTo>
                  <a:lnTo>
                    <a:pt x="2087" y="163"/>
                  </a:lnTo>
                  <a:lnTo>
                    <a:pt x="2087" y="168"/>
                  </a:lnTo>
                  <a:lnTo>
                    <a:pt x="2077" y="173"/>
                  </a:lnTo>
                  <a:lnTo>
                    <a:pt x="2072" y="178"/>
                  </a:lnTo>
                  <a:lnTo>
                    <a:pt x="2072" y="183"/>
                  </a:lnTo>
                  <a:lnTo>
                    <a:pt x="2067" y="188"/>
                  </a:lnTo>
                  <a:lnTo>
                    <a:pt x="2067" y="193"/>
                  </a:lnTo>
                  <a:lnTo>
                    <a:pt x="2062" y="198"/>
                  </a:lnTo>
                  <a:lnTo>
                    <a:pt x="2057" y="203"/>
                  </a:lnTo>
                  <a:lnTo>
                    <a:pt x="2057" y="208"/>
                  </a:lnTo>
                  <a:lnTo>
                    <a:pt x="2052" y="213"/>
                  </a:lnTo>
                  <a:lnTo>
                    <a:pt x="2048" y="218"/>
                  </a:lnTo>
                  <a:lnTo>
                    <a:pt x="2048" y="223"/>
                  </a:lnTo>
                  <a:lnTo>
                    <a:pt x="2043" y="228"/>
                  </a:lnTo>
                  <a:lnTo>
                    <a:pt x="2038" y="233"/>
                  </a:lnTo>
                  <a:lnTo>
                    <a:pt x="2038" y="238"/>
                  </a:lnTo>
                  <a:lnTo>
                    <a:pt x="2033" y="243"/>
                  </a:lnTo>
                  <a:lnTo>
                    <a:pt x="2033" y="247"/>
                  </a:lnTo>
                  <a:lnTo>
                    <a:pt x="2028" y="257"/>
                  </a:lnTo>
                  <a:lnTo>
                    <a:pt x="2028" y="262"/>
                  </a:lnTo>
                  <a:lnTo>
                    <a:pt x="2023" y="262"/>
                  </a:lnTo>
                  <a:lnTo>
                    <a:pt x="2018" y="262"/>
                  </a:lnTo>
                  <a:lnTo>
                    <a:pt x="2013" y="257"/>
                  </a:lnTo>
                  <a:lnTo>
                    <a:pt x="2003" y="252"/>
                  </a:lnTo>
                  <a:lnTo>
                    <a:pt x="1998" y="252"/>
                  </a:lnTo>
                  <a:lnTo>
                    <a:pt x="1988" y="247"/>
                  </a:lnTo>
                  <a:lnTo>
                    <a:pt x="1978" y="247"/>
                  </a:lnTo>
                  <a:lnTo>
                    <a:pt x="1973" y="247"/>
                  </a:lnTo>
                  <a:lnTo>
                    <a:pt x="1968" y="247"/>
                  </a:lnTo>
                  <a:lnTo>
                    <a:pt x="1963" y="243"/>
                  </a:lnTo>
                  <a:lnTo>
                    <a:pt x="1959" y="238"/>
                  </a:lnTo>
                  <a:lnTo>
                    <a:pt x="1954" y="233"/>
                  </a:lnTo>
                  <a:lnTo>
                    <a:pt x="1949" y="228"/>
                  </a:lnTo>
                  <a:lnTo>
                    <a:pt x="1939" y="228"/>
                  </a:lnTo>
                  <a:lnTo>
                    <a:pt x="1934" y="228"/>
                  </a:lnTo>
                  <a:lnTo>
                    <a:pt x="1924" y="233"/>
                  </a:lnTo>
                  <a:lnTo>
                    <a:pt x="1919" y="238"/>
                  </a:lnTo>
                  <a:lnTo>
                    <a:pt x="1914" y="243"/>
                  </a:lnTo>
                  <a:lnTo>
                    <a:pt x="1909" y="238"/>
                  </a:lnTo>
                  <a:close/>
                  <a:moveTo>
                    <a:pt x="1360" y="213"/>
                  </a:moveTo>
                  <a:lnTo>
                    <a:pt x="1365" y="203"/>
                  </a:lnTo>
                  <a:lnTo>
                    <a:pt x="1375" y="198"/>
                  </a:lnTo>
                  <a:lnTo>
                    <a:pt x="1380" y="198"/>
                  </a:lnTo>
                  <a:lnTo>
                    <a:pt x="1385" y="198"/>
                  </a:lnTo>
                  <a:lnTo>
                    <a:pt x="1395" y="198"/>
                  </a:lnTo>
                  <a:lnTo>
                    <a:pt x="1405" y="208"/>
                  </a:lnTo>
                  <a:lnTo>
                    <a:pt x="1405" y="213"/>
                  </a:lnTo>
                  <a:lnTo>
                    <a:pt x="1405" y="218"/>
                  </a:lnTo>
                  <a:lnTo>
                    <a:pt x="1395" y="223"/>
                  </a:lnTo>
                  <a:lnTo>
                    <a:pt x="1390" y="228"/>
                  </a:lnTo>
                  <a:lnTo>
                    <a:pt x="1380" y="228"/>
                  </a:lnTo>
                  <a:lnTo>
                    <a:pt x="1375" y="228"/>
                  </a:lnTo>
                  <a:lnTo>
                    <a:pt x="1365" y="223"/>
                  </a:lnTo>
                  <a:lnTo>
                    <a:pt x="1360" y="213"/>
                  </a:lnTo>
                  <a:close/>
                  <a:moveTo>
                    <a:pt x="1004" y="188"/>
                  </a:moveTo>
                  <a:lnTo>
                    <a:pt x="1004" y="183"/>
                  </a:lnTo>
                  <a:lnTo>
                    <a:pt x="1009" y="183"/>
                  </a:lnTo>
                  <a:lnTo>
                    <a:pt x="1009" y="183"/>
                  </a:lnTo>
                  <a:lnTo>
                    <a:pt x="1009" y="183"/>
                  </a:lnTo>
                  <a:lnTo>
                    <a:pt x="1014" y="183"/>
                  </a:lnTo>
                  <a:lnTo>
                    <a:pt x="1014" y="183"/>
                  </a:lnTo>
                  <a:lnTo>
                    <a:pt x="1014" y="188"/>
                  </a:lnTo>
                  <a:lnTo>
                    <a:pt x="1014" y="188"/>
                  </a:lnTo>
                  <a:lnTo>
                    <a:pt x="1014" y="188"/>
                  </a:lnTo>
                  <a:lnTo>
                    <a:pt x="1009" y="193"/>
                  </a:lnTo>
                  <a:lnTo>
                    <a:pt x="1009" y="193"/>
                  </a:lnTo>
                  <a:lnTo>
                    <a:pt x="1009" y="188"/>
                  </a:lnTo>
                  <a:lnTo>
                    <a:pt x="1004" y="188"/>
                  </a:lnTo>
                  <a:lnTo>
                    <a:pt x="1004" y="188"/>
                  </a:lnTo>
                  <a:close/>
                  <a:moveTo>
                    <a:pt x="1197" y="188"/>
                  </a:moveTo>
                  <a:lnTo>
                    <a:pt x="1207" y="183"/>
                  </a:lnTo>
                  <a:lnTo>
                    <a:pt x="1212" y="178"/>
                  </a:lnTo>
                  <a:lnTo>
                    <a:pt x="1217" y="178"/>
                  </a:lnTo>
                  <a:lnTo>
                    <a:pt x="1222" y="178"/>
                  </a:lnTo>
                  <a:lnTo>
                    <a:pt x="1232" y="178"/>
                  </a:lnTo>
                  <a:lnTo>
                    <a:pt x="1232" y="183"/>
                  </a:lnTo>
                  <a:lnTo>
                    <a:pt x="1232" y="188"/>
                  </a:lnTo>
                  <a:lnTo>
                    <a:pt x="1232" y="193"/>
                  </a:lnTo>
                  <a:lnTo>
                    <a:pt x="1227" y="198"/>
                  </a:lnTo>
                  <a:lnTo>
                    <a:pt x="1222" y="203"/>
                  </a:lnTo>
                  <a:lnTo>
                    <a:pt x="1217" y="198"/>
                  </a:lnTo>
                  <a:lnTo>
                    <a:pt x="1212" y="198"/>
                  </a:lnTo>
                  <a:lnTo>
                    <a:pt x="1207" y="193"/>
                  </a:lnTo>
                  <a:lnTo>
                    <a:pt x="1197" y="188"/>
                  </a:lnTo>
                  <a:close/>
                  <a:moveTo>
                    <a:pt x="1434" y="188"/>
                  </a:moveTo>
                  <a:lnTo>
                    <a:pt x="1439" y="183"/>
                  </a:lnTo>
                  <a:lnTo>
                    <a:pt x="1444" y="178"/>
                  </a:lnTo>
                  <a:lnTo>
                    <a:pt x="1449" y="173"/>
                  </a:lnTo>
                  <a:lnTo>
                    <a:pt x="1459" y="168"/>
                  </a:lnTo>
                  <a:lnTo>
                    <a:pt x="1469" y="173"/>
                  </a:lnTo>
                  <a:lnTo>
                    <a:pt x="1474" y="173"/>
                  </a:lnTo>
                  <a:lnTo>
                    <a:pt x="1484" y="178"/>
                  </a:lnTo>
                  <a:lnTo>
                    <a:pt x="1489" y="183"/>
                  </a:lnTo>
                  <a:lnTo>
                    <a:pt x="1489" y="178"/>
                  </a:lnTo>
                  <a:lnTo>
                    <a:pt x="1489" y="173"/>
                  </a:lnTo>
                  <a:lnTo>
                    <a:pt x="1489" y="168"/>
                  </a:lnTo>
                  <a:lnTo>
                    <a:pt x="1489" y="159"/>
                  </a:lnTo>
                  <a:lnTo>
                    <a:pt x="1494" y="154"/>
                  </a:lnTo>
                  <a:lnTo>
                    <a:pt x="1499" y="149"/>
                  </a:lnTo>
                  <a:lnTo>
                    <a:pt x="1504" y="144"/>
                  </a:lnTo>
                  <a:lnTo>
                    <a:pt x="1513" y="144"/>
                  </a:lnTo>
                  <a:lnTo>
                    <a:pt x="1518" y="144"/>
                  </a:lnTo>
                  <a:lnTo>
                    <a:pt x="1528" y="144"/>
                  </a:lnTo>
                  <a:lnTo>
                    <a:pt x="1538" y="144"/>
                  </a:lnTo>
                  <a:lnTo>
                    <a:pt x="1548" y="144"/>
                  </a:lnTo>
                  <a:lnTo>
                    <a:pt x="1553" y="139"/>
                  </a:lnTo>
                  <a:lnTo>
                    <a:pt x="1558" y="134"/>
                  </a:lnTo>
                  <a:lnTo>
                    <a:pt x="1563" y="129"/>
                  </a:lnTo>
                  <a:lnTo>
                    <a:pt x="1568" y="124"/>
                  </a:lnTo>
                  <a:lnTo>
                    <a:pt x="1573" y="119"/>
                  </a:lnTo>
                  <a:lnTo>
                    <a:pt x="1578" y="119"/>
                  </a:lnTo>
                  <a:lnTo>
                    <a:pt x="1588" y="114"/>
                  </a:lnTo>
                  <a:lnTo>
                    <a:pt x="1598" y="114"/>
                  </a:lnTo>
                  <a:lnTo>
                    <a:pt x="1602" y="109"/>
                  </a:lnTo>
                  <a:lnTo>
                    <a:pt x="1612" y="109"/>
                  </a:lnTo>
                  <a:lnTo>
                    <a:pt x="1622" y="109"/>
                  </a:lnTo>
                  <a:lnTo>
                    <a:pt x="1627" y="109"/>
                  </a:lnTo>
                  <a:lnTo>
                    <a:pt x="1637" y="109"/>
                  </a:lnTo>
                  <a:lnTo>
                    <a:pt x="1647" y="109"/>
                  </a:lnTo>
                  <a:lnTo>
                    <a:pt x="1652" y="109"/>
                  </a:lnTo>
                  <a:lnTo>
                    <a:pt x="1662" y="114"/>
                  </a:lnTo>
                  <a:lnTo>
                    <a:pt x="1672" y="114"/>
                  </a:lnTo>
                  <a:lnTo>
                    <a:pt x="1677" y="114"/>
                  </a:lnTo>
                  <a:lnTo>
                    <a:pt x="1687" y="119"/>
                  </a:lnTo>
                  <a:lnTo>
                    <a:pt x="1691" y="124"/>
                  </a:lnTo>
                  <a:lnTo>
                    <a:pt x="1696" y="129"/>
                  </a:lnTo>
                  <a:lnTo>
                    <a:pt x="1696" y="134"/>
                  </a:lnTo>
                  <a:lnTo>
                    <a:pt x="1701" y="139"/>
                  </a:lnTo>
                  <a:lnTo>
                    <a:pt x="1706" y="144"/>
                  </a:lnTo>
                  <a:lnTo>
                    <a:pt x="1716" y="139"/>
                  </a:lnTo>
                  <a:lnTo>
                    <a:pt x="1726" y="139"/>
                  </a:lnTo>
                  <a:lnTo>
                    <a:pt x="1736" y="139"/>
                  </a:lnTo>
                  <a:lnTo>
                    <a:pt x="1741" y="144"/>
                  </a:lnTo>
                  <a:lnTo>
                    <a:pt x="1751" y="149"/>
                  </a:lnTo>
                  <a:lnTo>
                    <a:pt x="1751" y="154"/>
                  </a:lnTo>
                  <a:lnTo>
                    <a:pt x="1756" y="159"/>
                  </a:lnTo>
                  <a:lnTo>
                    <a:pt x="1751" y="168"/>
                  </a:lnTo>
                  <a:lnTo>
                    <a:pt x="1746" y="173"/>
                  </a:lnTo>
                  <a:lnTo>
                    <a:pt x="1741" y="178"/>
                  </a:lnTo>
                  <a:lnTo>
                    <a:pt x="1736" y="178"/>
                  </a:lnTo>
                  <a:lnTo>
                    <a:pt x="1726" y="178"/>
                  </a:lnTo>
                  <a:lnTo>
                    <a:pt x="1716" y="178"/>
                  </a:lnTo>
                  <a:lnTo>
                    <a:pt x="1711" y="178"/>
                  </a:lnTo>
                  <a:lnTo>
                    <a:pt x="1701" y="173"/>
                  </a:lnTo>
                  <a:lnTo>
                    <a:pt x="1696" y="168"/>
                  </a:lnTo>
                  <a:lnTo>
                    <a:pt x="1691" y="163"/>
                  </a:lnTo>
                  <a:lnTo>
                    <a:pt x="1687" y="163"/>
                  </a:lnTo>
                  <a:lnTo>
                    <a:pt x="1677" y="159"/>
                  </a:lnTo>
                  <a:lnTo>
                    <a:pt x="1672" y="154"/>
                  </a:lnTo>
                  <a:lnTo>
                    <a:pt x="1662" y="154"/>
                  </a:lnTo>
                  <a:lnTo>
                    <a:pt x="1657" y="154"/>
                  </a:lnTo>
                  <a:lnTo>
                    <a:pt x="1647" y="154"/>
                  </a:lnTo>
                  <a:lnTo>
                    <a:pt x="1637" y="159"/>
                  </a:lnTo>
                  <a:lnTo>
                    <a:pt x="1627" y="159"/>
                  </a:lnTo>
                  <a:lnTo>
                    <a:pt x="1622" y="159"/>
                  </a:lnTo>
                  <a:lnTo>
                    <a:pt x="1612" y="159"/>
                  </a:lnTo>
                  <a:lnTo>
                    <a:pt x="1607" y="154"/>
                  </a:lnTo>
                  <a:lnTo>
                    <a:pt x="1598" y="154"/>
                  </a:lnTo>
                  <a:lnTo>
                    <a:pt x="1588" y="154"/>
                  </a:lnTo>
                  <a:lnTo>
                    <a:pt x="1578" y="159"/>
                  </a:lnTo>
                  <a:lnTo>
                    <a:pt x="1573" y="159"/>
                  </a:lnTo>
                  <a:lnTo>
                    <a:pt x="1573" y="163"/>
                  </a:lnTo>
                  <a:lnTo>
                    <a:pt x="1573" y="173"/>
                  </a:lnTo>
                  <a:lnTo>
                    <a:pt x="1568" y="178"/>
                  </a:lnTo>
                  <a:lnTo>
                    <a:pt x="1563" y="178"/>
                  </a:lnTo>
                  <a:lnTo>
                    <a:pt x="1553" y="183"/>
                  </a:lnTo>
                  <a:lnTo>
                    <a:pt x="1543" y="183"/>
                  </a:lnTo>
                  <a:lnTo>
                    <a:pt x="1533" y="183"/>
                  </a:lnTo>
                  <a:lnTo>
                    <a:pt x="1523" y="178"/>
                  </a:lnTo>
                  <a:lnTo>
                    <a:pt x="1518" y="178"/>
                  </a:lnTo>
                  <a:lnTo>
                    <a:pt x="1508" y="178"/>
                  </a:lnTo>
                  <a:lnTo>
                    <a:pt x="1499" y="183"/>
                  </a:lnTo>
                  <a:lnTo>
                    <a:pt x="1494" y="183"/>
                  </a:lnTo>
                  <a:lnTo>
                    <a:pt x="1489" y="188"/>
                  </a:lnTo>
                  <a:lnTo>
                    <a:pt x="1484" y="193"/>
                  </a:lnTo>
                  <a:lnTo>
                    <a:pt x="1479" y="198"/>
                  </a:lnTo>
                  <a:lnTo>
                    <a:pt x="1474" y="203"/>
                  </a:lnTo>
                  <a:lnTo>
                    <a:pt x="1464" y="203"/>
                  </a:lnTo>
                  <a:lnTo>
                    <a:pt x="1454" y="203"/>
                  </a:lnTo>
                  <a:lnTo>
                    <a:pt x="1449" y="203"/>
                  </a:lnTo>
                  <a:lnTo>
                    <a:pt x="1444" y="198"/>
                  </a:lnTo>
                  <a:lnTo>
                    <a:pt x="1439" y="193"/>
                  </a:lnTo>
                  <a:lnTo>
                    <a:pt x="1434" y="188"/>
                  </a:lnTo>
                  <a:close/>
                  <a:moveTo>
                    <a:pt x="1281" y="159"/>
                  </a:moveTo>
                  <a:lnTo>
                    <a:pt x="1286" y="149"/>
                  </a:lnTo>
                  <a:lnTo>
                    <a:pt x="1296" y="144"/>
                  </a:lnTo>
                  <a:lnTo>
                    <a:pt x="1301" y="144"/>
                  </a:lnTo>
                  <a:lnTo>
                    <a:pt x="1306" y="144"/>
                  </a:lnTo>
                  <a:lnTo>
                    <a:pt x="1316" y="149"/>
                  </a:lnTo>
                  <a:lnTo>
                    <a:pt x="1321" y="154"/>
                  </a:lnTo>
                  <a:lnTo>
                    <a:pt x="1321" y="163"/>
                  </a:lnTo>
                  <a:lnTo>
                    <a:pt x="1316" y="173"/>
                  </a:lnTo>
                  <a:lnTo>
                    <a:pt x="1311" y="178"/>
                  </a:lnTo>
                  <a:lnTo>
                    <a:pt x="1306" y="183"/>
                  </a:lnTo>
                  <a:lnTo>
                    <a:pt x="1296" y="183"/>
                  </a:lnTo>
                  <a:lnTo>
                    <a:pt x="1291" y="178"/>
                  </a:lnTo>
                  <a:lnTo>
                    <a:pt x="1286" y="168"/>
                  </a:lnTo>
                  <a:lnTo>
                    <a:pt x="1281" y="159"/>
                  </a:lnTo>
                  <a:close/>
                  <a:moveTo>
                    <a:pt x="1360" y="134"/>
                  </a:moveTo>
                  <a:lnTo>
                    <a:pt x="1365" y="124"/>
                  </a:lnTo>
                  <a:lnTo>
                    <a:pt x="1370" y="119"/>
                  </a:lnTo>
                  <a:lnTo>
                    <a:pt x="1375" y="114"/>
                  </a:lnTo>
                  <a:lnTo>
                    <a:pt x="1385" y="114"/>
                  </a:lnTo>
                  <a:lnTo>
                    <a:pt x="1395" y="114"/>
                  </a:lnTo>
                  <a:lnTo>
                    <a:pt x="1405" y="114"/>
                  </a:lnTo>
                  <a:lnTo>
                    <a:pt x="1415" y="119"/>
                  </a:lnTo>
                  <a:lnTo>
                    <a:pt x="1424" y="124"/>
                  </a:lnTo>
                  <a:lnTo>
                    <a:pt x="1429" y="129"/>
                  </a:lnTo>
                  <a:lnTo>
                    <a:pt x="1429" y="134"/>
                  </a:lnTo>
                  <a:lnTo>
                    <a:pt x="1424" y="144"/>
                  </a:lnTo>
                  <a:lnTo>
                    <a:pt x="1419" y="149"/>
                  </a:lnTo>
                  <a:lnTo>
                    <a:pt x="1410" y="154"/>
                  </a:lnTo>
                  <a:lnTo>
                    <a:pt x="1400" y="154"/>
                  </a:lnTo>
                  <a:lnTo>
                    <a:pt x="1390" y="159"/>
                  </a:lnTo>
                  <a:lnTo>
                    <a:pt x="1380" y="159"/>
                  </a:lnTo>
                  <a:lnTo>
                    <a:pt x="1375" y="154"/>
                  </a:lnTo>
                  <a:lnTo>
                    <a:pt x="1370" y="149"/>
                  </a:lnTo>
                  <a:lnTo>
                    <a:pt x="1365" y="144"/>
                  </a:lnTo>
                  <a:lnTo>
                    <a:pt x="1360" y="134"/>
                  </a:lnTo>
                  <a:close/>
                  <a:moveTo>
                    <a:pt x="1439" y="104"/>
                  </a:moveTo>
                  <a:lnTo>
                    <a:pt x="1444" y="99"/>
                  </a:lnTo>
                  <a:lnTo>
                    <a:pt x="1449" y="94"/>
                  </a:lnTo>
                  <a:lnTo>
                    <a:pt x="1459" y="89"/>
                  </a:lnTo>
                  <a:lnTo>
                    <a:pt x="1469" y="84"/>
                  </a:lnTo>
                  <a:lnTo>
                    <a:pt x="1479" y="84"/>
                  </a:lnTo>
                  <a:lnTo>
                    <a:pt x="1489" y="84"/>
                  </a:lnTo>
                  <a:lnTo>
                    <a:pt x="1499" y="89"/>
                  </a:lnTo>
                  <a:lnTo>
                    <a:pt x="1508" y="94"/>
                  </a:lnTo>
                  <a:lnTo>
                    <a:pt x="1513" y="104"/>
                  </a:lnTo>
                  <a:lnTo>
                    <a:pt x="1513" y="109"/>
                  </a:lnTo>
                  <a:lnTo>
                    <a:pt x="1508" y="119"/>
                  </a:lnTo>
                  <a:lnTo>
                    <a:pt x="1504" y="124"/>
                  </a:lnTo>
                  <a:lnTo>
                    <a:pt x="1494" y="129"/>
                  </a:lnTo>
                  <a:lnTo>
                    <a:pt x="1484" y="129"/>
                  </a:lnTo>
                  <a:lnTo>
                    <a:pt x="1474" y="134"/>
                  </a:lnTo>
                  <a:lnTo>
                    <a:pt x="1464" y="129"/>
                  </a:lnTo>
                  <a:lnTo>
                    <a:pt x="1454" y="129"/>
                  </a:lnTo>
                  <a:lnTo>
                    <a:pt x="1449" y="124"/>
                  </a:lnTo>
                  <a:lnTo>
                    <a:pt x="1444" y="114"/>
                  </a:lnTo>
                  <a:lnTo>
                    <a:pt x="1439" y="104"/>
                  </a:lnTo>
                  <a:close/>
                  <a:moveTo>
                    <a:pt x="1518" y="79"/>
                  </a:moveTo>
                  <a:lnTo>
                    <a:pt x="1523" y="70"/>
                  </a:lnTo>
                  <a:lnTo>
                    <a:pt x="1528" y="65"/>
                  </a:lnTo>
                  <a:lnTo>
                    <a:pt x="1538" y="60"/>
                  </a:lnTo>
                  <a:lnTo>
                    <a:pt x="1548" y="60"/>
                  </a:lnTo>
                  <a:lnTo>
                    <a:pt x="1558" y="55"/>
                  </a:lnTo>
                  <a:lnTo>
                    <a:pt x="1573" y="60"/>
                  </a:lnTo>
                  <a:lnTo>
                    <a:pt x="1583" y="60"/>
                  </a:lnTo>
                  <a:lnTo>
                    <a:pt x="1588" y="70"/>
                  </a:lnTo>
                  <a:lnTo>
                    <a:pt x="1593" y="74"/>
                  </a:lnTo>
                  <a:lnTo>
                    <a:pt x="1593" y="84"/>
                  </a:lnTo>
                  <a:lnTo>
                    <a:pt x="1593" y="89"/>
                  </a:lnTo>
                  <a:lnTo>
                    <a:pt x="1583" y="94"/>
                  </a:lnTo>
                  <a:lnTo>
                    <a:pt x="1573" y="99"/>
                  </a:lnTo>
                  <a:lnTo>
                    <a:pt x="1563" y="104"/>
                  </a:lnTo>
                  <a:lnTo>
                    <a:pt x="1553" y="104"/>
                  </a:lnTo>
                  <a:lnTo>
                    <a:pt x="1543" y="104"/>
                  </a:lnTo>
                  <a:lnTo>
                    <a:pt x="1533" y="104"/>
                  </a:lnTo>
                  <a:lnTo>
                    <a:pt x="1528" y="99"/>
                  </a:lnTo>
                  <a:lnTo>
                    <a:pt x="1523" y="89"/>
                  </a:lnTo>
                  <a:lnTo>
                    <a:pt x="1518" y="79"/>
                  </a:lnTo>
                  <a:close/>
                </a:path>
              </a:pathLst>
            </a:custGeom>
            <a:solidFill>
              <a:srgbClr val="ffc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9" name=""/>
            <p:cNvSpPr/>
            <p:nvPr/>
          </p:nvSpPr>
          <p:spPr>
            <a:xfrm>
              <a:off x="2265120" y="2368440"/>
              <a:ext cx="4098960" cy="2628360"/>
            </a:xfrm>
            <a:custGeom>
              <a:avLst/>
              <a:gdLst/>
              <a:ahLst/>
              <a:rect l="l" t="t" r="r" b="b"/>
              <a:pathLst>
                <a:path w="2582" h="1656">
                  <a:moveTo>
                    <a:pt x="2235" y="1656"/>
                  </a:moveTo>
                  <a:lnTo>
                    <a:pt x="2260" y="1631"/>
                  </a:lnTo>
                  <a:lnTo>
                    <a:pt x="2285" y="1631"/>
                  </a:lnTo>
                  <a:lnTo>
                    <a:pt x="2315" y="1631"/>
                  </a:lnTo>
                  <a:lnTo>
                    <a:pt x="2339" y="1631"/>
                  </a:lnTo>
                  <a:lnTo>
                    <a:pt x="2369" y="1631"/>
                  </a:lnTo>
                  <a:lnTo>
                    <a:pt x="2394" y="1631"/>
                  </a:lnTo>
                  <a:lnTo>
                    <a:pt x="2418" y="1631"/>
                  </a:lnTo>
                  <a:lnTo>
                    <a:pt x="2448" y="1602"/>
                  </a:lnTo>
                  <a:lnTo>
                    <a:pt x="2448" y="1577"/>
                  </a:lnTo>
                  <a:lnTo>
                    <a:pt x="2448" y="1547"/>
                  </a:lnTo>
                  <a:lnTo>
                    <a:pt x="2448" y="1523"/>
                  </a:lnTo>
                  <a:lnTo>
                    <a:pt x="2473" y="1498"/>
                  </a:lnTo>
                  <a:lnTo>
                    <a:pt x="2473" y="1468"/>
                  </a:lnTo>
                  <a:lnTo>
                    <a:pt x="2473" y="1444"/>
                  </a:lnTo>
                  <a:lnTo>
                    <a:pt x="2473" y="1414"/>
                  </a:lnTo>
                  <a:lnTo>
                    <a:pt x="2503" y="1389"/>
                  </a:lnTo>
                  <a:lnTo>
                    <a:pt x="2503" y="1364"/>
                  </a:lnTo>
                  <a:lnTo>
                    <a:pt x="2503" y="1335"/>
                  </a:lnTo>
                  <a:lnTo>
                    <a:pt x="2503" y="1310"/>
                  </a:lnTo>
                  <a:lnTo>
                    <a:pt x="2527" y="1280"/>
                  </a:lnTo>
                  <a:lnTo>
                    <a:pt x="2527" y="1256"/>
                  </a:lnTo>
                  <a:lnTo>
                    <a:pt x="2527" y="1226"/>
                  </a:lnTo>
                  <a:lnTo>
                    <a:pt x="2527" y="1201"/>
                  </a:lnTo>
                  <a:lnTo>
                    <a:pt x="2552" y="1177"/>
                  </a:lnTo>
                  <a:lnTo>
                    <a:pt x="2552" y="1147"/>
                  </a:lnTo>
                  <a:lnTo>
                    <a:pt x="2552" y="1122"/>
                  </a:lnTo>
                  <a:lnTo>
                    <a:pt x="2552" y="1093"/>
                  </a:lnTo>
                  <a:lnTo>
                    <a:pt x="2582" y="1068"/>
                  </a:lnTo>
                  <a:lnTo>
                    <a:pt x="2582" y="1043"/>
                  </a:lnTo>
                  <a:lnTo>
                    <a:pt x="2582" y="1014"/>
                  </a:lnTo>
                  <a:lnTo>
                    <a:pt x="2582" y="989"/>
                  </a:lnTo>
                  <a:lnTo>
                    <a:pt x="2582" y="959"/>
                  </a:lnTo>
                  <a:lnTo>
                    <a:pt x="2582" y="934"/>
                  </a:lnTo>
                  <a:lnTo>
                    <a:pt x="2582" y="910"/>
                  </a:lnTo>
                  <a:lnTo>
                    <a:pt x="2582" y="880"/>
                  </a:lnTo>
                  <a:lnTo>
                    <a:pt x="2582" y="855"/>
                  </a:lnTo>
                  <a:lnTo>
                    <a:pt x="2582" y="826"/>
                  </a:lnTo>
                  <a:lnTo>
                    <a:pt x="2582" y="801"/>
                  </a:lnTo>
                  <a:lnTo>
                    <a:pt x="2582" y="776"/>
                  </a:lnTo>
                  <a:lnTo>
                    <a:pt x="2582" y="747"/>
                  </a:lnTo>
                  <a:lnTo>
                    <a:pt x="2582" y="722"/>
                  </a:lnTo>
                  <a:lnTo>
                    <a:pt x="2582" y="692"/>
                  </a:lnTo>
                  <a:lnTo>
                    <a:pt x="2582" y="668"/>
                  </a:lnTo>
                  <a:lnTo>
                    <a:pt x="2582" y="643"/>
                  </a:lnTo>
                  <a:lnTo>
                    <a:pt x="2582" y="613"/>
                  </a:lnTo>
                  <a:lnTo>
                    <a:pt x="2582" y="589"/>
                  </a:lnTo>
                  <a:lnTo>
                    <a:pt x="2582" y="559"/>
                  </a:lnTo>
                  <a:lnTo>
                    <a:pt x="2582" y="534"/>
                  </a:lnTo>
                  <a:lnTo>
                    <a:pt x="2582" y="504"/>
                  </a:lnTo>
                  <a:lnTo>
                    <a:pt x="2582" y="480"/>
                  </a:lnTo>
                  <a:lnTo>
                    <a:pt x="2582" y="455"/>
                  </a:lnTo>
                  <a:lnTo>
                    <a:pt x="2582" y="425"/>
                  </a:lnTo>
                  <a:lnTo>
                    <a:pt x="2582" y="401"/>
                  </a:lnTo>
                  <a:lnTo>
                    <a:pt x="2582" y="371"/>
                  </a:lnTo>
                  <a:lnTo>
                    <a:pt x="2582" y="346"/>
                  </a:lnTo>
                  <a:lnTo>
                    <a:pt x="2582" y="322"/>
                  </a:lnTo>
                  <a:lnTo>
                    <a:pt x="2582" y="292"/>
                  </a:lnTo>
                  <a:lnTo>
                    <a:pt x="2582" y="267"/>
                  </a:lnTo>
                  <a:lnTo>
                    <a:pt x="2582" y="238"/>
                  </a:lnTo>
                  <a:lnTo>
                    <a:pt x="2552" y="213"/>
                  </a:lnTo>
                  <a:lnTo>
                    <a:pt x="2552" y="188"/>
                  </a:lnTo>
                  <a:lnTo>
                    <a:pt x="2552" y="159"/>
                  </a:lnTo>
                  <a:lnTo>
                    <a:pt x="2552" y="134"/>
                  </a:lnTo>
                  <a:lnTo>
                    <a:pt x="2552" y="104"/>
                  </a:lnTo>
                  <a:lnTo>
                    <a:pt x="2527" y="79"/>
                  </a:lnTo>
                  <a:lnTo>
                    <a:pt x="2503" y="79"/>
                  </a:lnTo>
                  <a:lnTo>
                    <a:pt x="2473" y="79"/>
                  </a:lnTo>
                  <a:lnTo>
                    <a:pt x="2448" y="55"/>
                  </a:lnTo>
                  <a:lnTo>
                    <a:pt x="2418" y="55"/>
                  </a:lnTo>
                  <a:lnTo>
                    <a:pt x="2394" y="55"/>
                  </a:lnTo>
                  <a:lnTo>
                    <a:pt x="2369" y="25"/>
                  </a:lnTo>
                  <a:lnTo>
                    <a:pt x="2339" y="25"/>
                  </a:lnTo>
                  <a:lnTo>
                    <a:pt x="2315" y="25"/>
                  </a:lnTo>
                  <a:lnTo>
                    <a:pt x="2285" y="0"/>
                  </a:lnTo>
                  <a:lnTo>
                    <a:pt x="2260" y="0"/>
                  </a:lnTo>
                  <a:lnTo>
                    <a:pt x="2235" y="0"/>
                  </a:lnTo>
                  <a:lnTo>
                    <a:pt x="2206" y="0"/>
                  </a:lnTo>
                  <a:lnTo>
                    <a:pt x="2181" y="0"/>
                  </a:lnTo>
                  <a:lnTo>
                    <a:pt x="2156" y="0"/>
                  </a:lnTo>
                  <a:lnTo>
                    <a:pt x="2127" y="0"/>
                  </a:lnTo>
                  <a:lnTo>
                    <a:pt x="2102" y="0"/>
                  </a:lnTo>
                  <a:lnTo>
                    <a:pt x="2072" y="0"/>
                  </a:lnTo>
                  <a:lnTo>
                    <a:pt x="2048" y="0"/>
                  </a:lnTo>
                  <a:lnTo>
                    <a:pt x="2023" y="0"/>
                  </a:lnTo>
                  <a:lnTo>
                    <a:pt x="1993" y="0"/>
                  </a:lnTo>
                  <a:lnTo>
                    <a:pt x="1968" y="0"/>
                  </a:lnTo>
                  <a:lnTo>
                    <a:pt x="1944" y="0"/>
                  </a:lnTo>
                  <a:lnTo>
                    <a:pt x="1914" y="0"/>
                  </a:lnTo>
                  <a:lnTo>
                    <a:pt x="1889" y="0"/>
                  </a:lnTo>
                  <a:lnTo>
                    <a:pt x="1860" y="0"/>
                  </a:lnTo>
                  <a:lnTo>
                    <a:pt x="1835" y="0"/>
                  </a:lnTo>
                  <a:lnTo>
                    <a:pt x="1810" y="0"/>
                  </a:lnTo>
                  <a:lnTo>
                    <a:pt x="1780" y="0"/>
                  </a:lnTo>
                  <a:lnTo>
                    <a:pt x="1756" y="0"/>
                  </a:lnTo>
                  <a:lnTo>
                    <a:pt x="1726" y="0"/>
                  </a:lnTo>
                  <a:lnTo>
                    <a:pt x="1701" y="0"/>
                  </a:lnTo>
                  <a:lnTo>
                    <a:pt x="1677" y="0"/>
                  </a:lnTo>
                  <a:lnTo>
                    <a:pt x="1647" y="0"/>
                  </a:lnTo>
                  <a:lnTo>
                    <a:pt x="1622" y="0"/>
                  </a:lnTo>
                  <a:lnTo>
                    <a:pt x="1598" y="0"/>
                  </a:lnTo>
                  <a:lnTo>
                    <a:pt x="1568" y="0"/>
                  </a:lnTo>
                  <a:lnTo>
                    <a:pt x="1543" y="0"/>
                  </a:lnTo>
                  <a:lnTo>
                    <a:pt x="1513" y="0"/>
                  </a:lnTo>
                  <a:lnTo>
                    <a:pt x="1489" y="0"/>
                  </a:lnTo>
                  <a:lnTo>
                    <a:pt x="1464" y="0"/>
                  </a:lnTo>
                  <a:lnTo>
                    <a:pt x="1434" y="0"/>
                  </a:lnTo>
                  <a:lnTo>
                    <a:pt x="1410" y="0"/>
                  </a:lnTo>
                  <a:lnTo>
                    <a:pt x="1385" y="0"/>
                  </a:lnTo>
                  <a:lnTo>
                    <a:pt x="1355" y="0"/>
                  </a:lnTo>
                  <a:lnTo>
                    <a:pt x="1330" y="0"/>
                  </a:lnTo>
                  <a:lnTo>
                    <a:pt x="1301" y="0"/>
                  </a:lnTo>
                  <a:lnTo>
                    <a:pt x="1276" y="0"/>
                  </a:lnTo>
                  <a:lnTo>
                    <a:pt x="1251" y="0"/>
                  </a:lnTo>
                  <a:lnTo>
                    <a:pt x="1222" y="0"/>
                  </a:lnTo>
                  <a:lnTo>
                    <a:pt x="1197" y="0"/>
                  </a:lnTo>
                  <a:lnTo>
                    <a:pt x="1172" y="0"/>
                  </a:lnTo>
                  <a:lnTo>
                    <a:pt x="1143" y="0"/>
                  </a:lnTo>
                  <a:lnTo>
                    <a:pt x="1118" y="0"/>
                  </a:lnTo>
                  <a:lnTo>
                    <a:pt x="1088" y="0"/>
                  </a:lnTo>
                  <a:lnTo>
                    <a:pt x="1063" y="0"/>
                  </a:lnTo>
                  <a:lnTo>
                    <a:pt x="1039" y="0"/>
                  </a:lnTo>
                  <a:lnTo>
                    <a:pt x="1009" y="0"/>
                  </a:lnTo>
                  <a:lnTo>
                    <a:pt x="984" y="0"/>
                  </a:lnTo>
                  <a:lnTo>
                    <a:pt x="955" y="0"/>
                  </a:lnTo>
                  <a:lnTo>
                    <a:pt x="930" y="0"/>
                  </a:lnTo>
                  <a:lnTo>
                    <a:pt x="905" y="0"/>
                  </a:lnTo>
                  <a:lnTo>
                    <a:pt x="875" y="0"/>
                  </a:lnTo>
                  <a:lnTo>
                    <a:pt x="851" y="0"/>
                  </a:lnTo>
                  <a:lnTo>
                    <a:pt x="826" y="0"/>
                  </a:lnTo>
                  <a:lnTo>
                    <a:pt x="796" y="0"/>
                  </a:lnTo>
                  <a:lnTo>
                    <a:pt x="772" y="0"/>
                  </a:lnTo>
                  <a:lnTo>
                    <a:pt x="742" y="0"/>
                  </a:lnTo>
                  <a:lnTo>
                    <a:pt x="717" y="0"/>
                  </a:lnTo>
                  <a:lnTo>
                    <a:pt x="692" y="0"/>
                  </a:lnTo>
                  <a:lnTo>
                    <a:pt x="663" y="0"/>
                  </a:lnTo>
                  <a:lnTo>
                    <a:pt x="638" y="0"/>
                  </a:lnTo>
                  <a:lnTo>
                    <a:pt x="613" y="0"/>
                  </a:lnTo>
                  <a:lnTo>
                    <a:pt x="584" y="25"/>
                  </a:lnTo>
                  <a:lnTo>
                    <a:pt x="559" y="55"/>
                  </a:lnTo>
                  <a:lnTo>
                    <a:pt x="529" y="79"/>
                  </a:lnTo>
                  <a:lnTo>
                    <a:pt x="505" y="104"/>
                  </a:lnTo>
                  <a:lnTo>
                    <a:pt x="480" y="134"/>
                  </a:lnTo>
                  <a:lnTo>
                    <a:pt x="450" y="134"/>
                  </a:lnTo>
                  <a:lnTo>
                    <a:pt x="425" y="159"/>
                  </a:lnTo>
                  <a:lnTo>
                    <a:pt x="396" y="188"/>
                  </a:lnTo>
                  <a:lnTo>
                    <a:pt x="371" y="213"/>
                  </a:lnTo>
                  <a:lnTo>
                    <a:pt x="346" y="238"/>
                  </a:lnTo>
                  <a:lnTo>
                    <a:pt x="317" y="267"/>
                  </a:lnTo>
                  <a:lnTo>
                    <a:pt x="292" y="292"/>
                  </a:lnTo>
                  <a:lnTo>
                    <a:pt x="267" y="322"/>
                  </a:lnTo>
                  <a:lnTo>
                    <a:pt x="237" y="322"/>
                  </a:lnTo>
                  <a:lnTo>
                    <a:pt x="213" y="346"/>
                  </a:lnTo>
                  <a:lnTo>
                    <a:pt x="183" y="371"/>
                  </a:lnTo>
                  <a:lnTo>
                    <a:pt x="158" y="401"/>
                  </a:lnTo>
                  <a:lnTo>
                    <a:pt x="134" y="425"/>
                  </a:lnTo>
                  <a:lnTo>
                    <a:pt x="104" y="455"/>
                  </a:lnTo>
                  <a:lnTo>
                    <a:pt x="79" y="480"/>
                  </a:lnTo>
                  <a:lnTo>
                    <a:pt x="55" y="504"/>
                  </a:lnTo>
                  <a:lnTo>
                    <a:pt x="25" y="504"/>
                  </a:lnTo>
                  <a:lnTo>
                    <a:pt x="0" y="534"/>
                  </a:lnTo>
                  <a:lnTo>
                    <a:pt x="0" y="559"/>
                  </a:lnTo>
                  <a:lnTo>
                    <a:pt x="0" y="589"/>
                  </a:lnTo>
                  <a:lnTo>
                    <a:pt x="0" y="613"/>
                  </a:lnTo>
                  <a:lnTo>
                    <a:pt x="25" y="643"/>
                  </a:lnTo>
                  <a:lnTo>
                    <a:pt x="25" y="668"/>
                  </a:lnTo>
                  <a:lnTo>
                    <a:pt x="55" y="692"/>
                  </a:lnTo>
                  <a:lnTo>
                    <a:pt x="79" y="722"/>
                  </a:lnTo>
                  <a:lnTo>
                    <a:pt x="104" y="747"/>
                  </a:lnTo>
                  <a:lnTo>
                    <a:pt x="134" y="776"/>
                  </a:lnTo>
                  <a:lnTo>
                    <a:pt x="134" y="801"/>
                  </a:lnTo>
                  <a:lnTo>
                    <a:pt x="158" y="826"/>
                  </a:lnTo>
                  <a:lnTo>
                    <a:pt x="183" y="855"/>
                  </a:lnTo>
                  <a:lnTo>
                    <a:pt x="213" y="880"/>
                  </a:lnTo>
                  <a:lnTo>
                    <a:pt x="237" y="910"/>
                  </a:lnTo>
                  <a:lnTo>
                    <a:pt x="267" y="934"/>
                  </a:lnTo>
                  <a:lnTo>
                    <a:pt x="292" y="959"/>
                  </a:lnTo>
                  <a:lnTo>
                    <a:pt x="292" y="989"/>
                  </a:lnTo>
                  <a:lnTo>
                    <a:pt x="317" y="1014"/>
                  </a:lnTo>
                  <a:lnTo>
                    <a:pt x="346" y="1043"/>
                  </a:lnTo>
                  <a:lnTo>
                    <a:pt x="371" y="1068"/>
                  </a:lnTo>
                  <a:lnTo>
                    <a:pt x="396" y="1093"/>
                  </a:lnTo>
                  <a:lnTo>
                    <a:pt x="425" y="1122"/>
                  </a:lnTo>
                  <a:lnTo>
                    <a:pt x="450" y="1147"/>
                  </a:lnTo>
                  <a:lnTo>
                    <a:pt x="480" y="1177"/>
                  </a:lnTo>
                  <a:lnTo>
                    <a:pt x="505" y="1201"/>
                  </a:lnTo>
                  <a:lnTo>
                    <a:pt x="529" y="1226"/>
                  </a:lnTo>
                  <a:lnTo>
                    <a:pt x="559" y="1256"/>
                  </a:lnTo>
                  <a:lnTo>
                    <a:pt x="584" y="1280"/>
                  </a:lnTo>
                  <a:lnTo>
                    <a:pt x="613" y="1310"/>
                  </a:lnTo>
                  <a:lnTo>
                    <a:pt x="638" y="1335"/>
                  </a:lnTo>
                  <a:lnTo>
                    <a:pt x="663" y="1364"/>
                  </a:lnTo>
                  <a:lnTo>
                    <a:pt x="692" y="1389"/>
                  </a:lnTo>
                  <a:lnTo>
                    <a:pt x="717" y="1414"/>
                  </a:lnTo>
                  <a:lnTo>
                    <a:pt x="742" y="1444"/>
                  </a:lnTo>
                  <a:lnTo>
                    <a:pt x="772" y="1468"/>
                  </a:lnTo>
                  <a:lnTo>
                    <a:pt x="796" y="1468"/>
                  </a:lnTo>
                  <a:lnTo>
                    <a:pt x="826" y="1498"/>
                  </a:lnTo>
                  <a:lnTo>
                    <a:pt x="851" y="1523"/>
                  </a:lnTo>
                  <a:lnTo>
                    <a:pt x="875" y="1547"/>
                  </a:lnTo>
                  <a:lnTo>
                    <a:pt x="905" y="1577"/>
                  </a:lnTo>
                  <a:lnTo>
                    <a:pt x="930" y="1602"/>
                  </a:lnTo>
                  <a:lnTo>
                    <a:pt x="955" y="1631"/>
                  </a:lnTo>
                  <a:lnTo>
                    <a:pt x="984" y="1656"/>
                  </a:lnTo>
                  <a:lnTo>
                    <a:pt x="1009" y="1656"/>
                  </a:lnTo>
                  <a:lnTo>
                    <a:pt x="1039" y="1656"/>
                  </a:lnTo>
                  <a:lnTo>
                    <a:pt x="1063" y="1656"/>
                  </a:lnTo>
                  <a:lnTo>
                    <a:pt x="1088" y="1656"/>
                  </a:lnTo>
                  <a:lnTo>
                    <a:pt x="1118" y="1656"/>
                  </a:lnTo>
                  <a:lnTo>
                    <a:pt x="1143" y="1656"/>
                  </a:lnTo>
                  <a:lnTo>
                    <a:pt x="1172" y="1656"/>
                  </a:lnTo>
                  <a:lnTo>
                    <a:pt x="1197" y="1656"/>
                  </a:lnTo>
                  <a:lnTo>
                    <a:pt x="1222" y="1656"/>
                  </a:lnTo>
                  <a:lnTo>
                    <a:pt x="1251" y="1656"/>
                  </a:lnTo>
                  <a:lnTo>
                    <a:pt x="1276" y="1656"/>
                  </a:lnTo>
                  <a:lnTo>
                    <a:pt x="1301" y="1656"/>
                  </a:lnTo>
                  <a:lnTo>
                    <a:pt x="1330" y="1656"/>
                  </a:lnTo>
                  <a:lnTo>
                    <a:pt x="1355" y="1656"/>
                  </a:lnTo>
                  <a:lnTo>
                    <a:pt x="1385" y="1656"/>
                  </a:lnTo>
                  <a:lnTo>
                    <a:pt x="1410" y="1656"/>
                  </a:lnTo>
                  <a:lnTo>
                    <a:pt x="1434" y="1656"/>
                  </a:lnTo>
                  <a:lnTo>
                    <a:pt x="1464" y="1656"/>
                  </a:lnTo>
                  <a:lnTo>
                    <a:pt x="1489" y="1656"/>
                  </a:lnTo>
                  <a:lnTo>
                    <a:pt x="1513" y="1656"/>
                  </a:lnTo>
                  <a:lnTo>
                    <a:pt x="1543" y="1656"/>
                  </a:lnTo>
                  <a:lnTo>
                    <a:pt x="1568" y="1656"/>
                  </a:lnTo>
                  <a:lnTo>
                    <a:pt x="1598" y="1656"/>
                  </a:lnTo>
                  <a:lnTo>
                    <a:pt x="1622" y="1656"/>
                  </a:lnTo>
                  <a:lnTo>
                    <a:pt x="1647" y="1656"/>
                  </a:lnTo>
                  <a:lnTo>
                    <a:pt x="1677" y="1656"/>
                  </a:lnTo>
                  <a:lnTo>
                    <a:pt x="1701" y="1656"/>
                  </a:lnTo>
                  <a:lnTo>
                    <a:pt x="1726" y="1656"/>
                  </a:lnTo>
                  <a:lnTo>
                    <a:pt x="1756" y="1656"/>
                  </a:lnTo>
                  <a:lnTo>
                    <a:pt x="1780" y="1656"/>
                  </a:lnTo>
                  <a:lnTo>
                    <a:pt x="1810" y="1656"/>
                  </a:lnTo>
                  <a:lnTo>
                    <a:pt x="1835" y="1656"/>
                  </a:lnTo>
                  <a:lnTo>
                    <a:pt x="1860" y="1656"/>
                  </a:lnTo>
                  <a:lnTo>
                    <a:pt x="1889" y="1656"/>
                  </a:lnTo>
                  <a:lnTo>
                    <a:pt x="1914" y="1656"/>
                  </a:lnTo>
                  <a:lnTo>
                    <a:pt x="1944" y="1656"/>
                  </a:lnTo>
                  <a:lnTo>
                    <a:pt x="1968" y="1656"/>
                  </a:lnTo>
                  <a:lnTo>
                    <a:pt x="1993" y="1656"/>
                  </a:lnTo>
                  <a:lnTo>
                    <a:pt x="2023" y="1656"/>
                  </a:lnTo>
                  <a:lnTo>
                    <a:pt x="2048" y="1656"/>
                  </a:lnTo>
                  <a:lnTo>
                    <a:pt x="2072" y="1656"/>
                  </a:lnTo>
                  <a:lnTo>
                    <a:pt x="2102" y="1656"/>
                  </a:lnTo>
                  <a:lnTo>
                    <a:pt x="2127" y="1656"/>
                  </a:lnTo>
                  <a:lnTo>
                    <a:pt x="2156" y="1656"/>
                  </a:lnTo>
                  <a:lnTo>
                    <a:pt x="2181" y="1656"/>
                  </a:lnTo>
                  <a:lnTo>
                    <a:pt x="2206" y="1656"/>
                  </a:lnTo>
                  <a:lnTo>
                    <a:pt x="2235" y="1656"/>
                  </a:lnTo>
                  <a:close/>
                  <a:moveTo>
                    <a:pt x="1355" y="292"/>
                  </a:moveTo>
                  <a:lnTo>
                    <a:pt x="1355" y="287"/>
                  </a:lnTo>
                  <a:lnTo>
                    <a:pt x="1360" y="287"/>
                  </a:lnTo>
                  <a:lnTo>
                    <a:pt x="1370" y="287"/>
                  </a:lnTo>
                  <a:lnTo>
                    <a:pt x="1380" y="287"/>
                  </a:lnTo>
                  <a:lnTo>
                    <a:pt x="1385" y="287"/>
                  </a:lnTo>
                  <a:lnTo>
                    <a:pt x="1395" y="287"/>
                  </a:lnTo>
                  <a:lnTo>
                    <a:pt x="1405" y="287"/>
                  </a:lnTo>
                  <a:lnTo>
                    <a:pt x="1410" y="282"/>
                  </a:lnTo>
                  <a:lnTo>
                    <a:pt x="1415" y="282"/>
                  </a:lnTo>
                  <a:lnTo>
                    <a:pt x="1419" y="277"/>
                  </a:lnTo>
                  <a:lnTo>
                    <a:pt x="1419" y="272"/>
                  </a:lnTo>
                  <a:lnTo>
                    <a:pt x="1424" y="267"/>
                  </a:lnTo>
                  <a:lnTo>
                    <a:pt x="1424" y="262"/>
                  </a:lnTo>
                  <a:lnTo>
                    <a:pt x="1429" y="257"/>
                  </a:lnTo>
                  <a:lnTo>
                    <a:pt x="1434" y="252"/>
                  </a:lnTo>
                  <a:lnTo>
                    <a:pt x="1439" y="247"/>
                  </a:lnTo>
                  <a:lnTo>
                    <a:pt x="1444" y="247"/>
                  </a:lnTo>
                  <a:lnTo>
                    <a:pt x="1454" y="247"/>
                  </a:lnTo>
                  <a:lnTo>
                    <a:pt x="1459" y="247"/>
                  </a:lnTo>
                  <a:lnTo>
                    <a:pt x="1469" y="252"/>
                  </a:lnTo>
                  <a:lnTo>
                    <a:pt x="1474" y="257"/>
                  </a:lnTo>
                  <a:lnTo>
                    <a:pt x="1479" y="257"/>
                  </a:lnTo>
                  <a:lnTo>
                    <a:pt x="1484" y="262"/>
                  </a:lnTo>
                  <a:lnTo>
                    <a:pt x="1484" y="267"/>
                  </a:lnTo>
                  <a:lnTo>
                    <a:pt x="1479" y="272"/>
                  </a:lnTo>
                  <a:lnTo>
                    <a:pt x="1474" y="277"/>
                  </a:lnTo>
                  <a:lnTo>
                    <a:pt x="1464" y="277"/>
                  </a:lnTo>
                  <a:lnTo>
                    <a:pt x="1454" y="277"/>
                  </a:lnTo>
                  <a:lnTo>
                    <a:pt x="1449" y="282"/>
                  </a:lnTo>
                  <a:lnTo>
                    <a:pt x="1439" y="282"/>
                  </a:lnTo>
                  <a:lnTo>
                    <a:pt x="1434" y="282"/>
                  </a:lnTo>
                  <a:lnTo>
                    <a:pt x="1429" y="287"/>
                  </a:lnTo>
                  <a:lnTo>
                    <a:pt x="1424" y="292"/>
                  </a:lnTo>
                  <a:lnTo>
                    <a:pt x="1419" y="292"/>
                  </a:lnTo>
                  <a:lnTo>
                    <a:pt x="1415" y="297"/>
                  </a:lnTo>
                  <a:lnTo>
                    <a:pt x="1410" y="302"/>
                  </a:lnTo>
                  <a:lnTo>
                    <a:pt x="1405" y="302"/>
                  </a:lnTo>
                  <a:lnTo>
                    <a:pt x="1395" y="302"/>
                  </a:lnTo>
                  <a:lnTo>
                    <a:pt x="1385" y="302"/>
                  </a:lnTo>
                  <a:lnTo>
                    <a:pt x="1380" y="302"/>
                  </a:lnTo>
                  <a:lnTo>
                    <a:pt x="1370" y="302"/>
                  </a:lnTo>
                  <a:lnTo>
                    <a:pt x="1360" y="302"/>
                  </a:lnTo>
                  <a:lnTo>
                    <a:pt x="1355" y="297"/>
                  </a:lnTo>
                  <a:lnTo>
                    <a:pt x="1355" y="292"/>
                  </a:lnTo>
                  <a:close/>
                  <a:moveTo>
                    <a:pt x="1667" y="267"/>
                  </a:moveTo>
                  <a:lnTo>
                    <a:pt x="1662" y="262"/>
                  </a:lnTo>
                  <a:lnTo>
                    <a:pt x="1652" y="257"/>
                  </a:lnTo>
                  <a:lnTo>
                    <a:pt x="1647" y="252"/>
                  </a:lnTo>
                  <a:lnTo>
                    <a:pt x="1642" y="252"/>
                  </a:lnTo>
                  <a:lnTo>
                    <a:pt x="1637" y="247"/>
                  </a:lnTo>
                  <a:lnTo>
                    <a:pt x="1632" y="243"/>
                  </a:lnTo>
                  <a:lnTo>
                    <a:pt x="1632" y="233"/>
                  </a:lnTo>
                  <a:lnTo>
                    <a:pt x="1627" y="228"/>
                  </a:lnTo>
                  <a:lnTo>
                    <a:pt x="1622" y="228"/>
                  </a:lnTo>
                  <a:lnTo>
                    <a:pt x="1612" y="228"/>
                  </a:lnTo>
                  <a:lnTo>
                    <a:pt x="1602" y="228"/>
                  </a:lnTo>
                  <a:lnTo>
                    <a:pt x="1593" y="228"/>
                  </a:lnTo>
                  <a:lnTo>
                    <a:pt x="1583" y="228"/>
                  </a:lnTo>
                  <a:lnTo>
                    <a:pt x="1573" y="228"/>
                  </a:lnTo>
                  <a:lnTo>
                    <a:pt x="1568" y="228"/>
                  </a:lnTo>
                  <a:lnTo>
                    <a:pt x="1563" y="233"/>
                  </a:lnTo>
                  <a:lnTo>
                    <a:pt x="1558" y="238"/>
                  </a:lnTo>
                  <a:lnTo>
                    <a:pt x="1558" y="243"/>
                  </a:lnTo>
                  <a:lnTo>
                    <a:pt x="1548" y="247"/>
                  </a:lnTo>
                  <a:lnTo>
                    <a:pt x="1543" y="252"/>
                  </a:lnTo>
                  <a:lnTo>
                    <a:pt x="1533" y="252"/>
                  </a:lnTo>
                  <a:lnTo>
                    <a:pt x="1528" y="257"/>
                  </a:lnTo>
                  <a:lnTo>
                    <a:pt x="1518" y="257"/>
                  </a:lnTo>
                  <a:lnTo>
                    <a:pt x="1508" y="257"/>
                  </a:lnTo>
                  <a:lnTo>
                    <a:pt x="1504" y="252"/>
                  </a:lnTo>
                  <a:lnTo>
                    <a:pt x="1499" y="247"/>
                  </a:lnTo>
                  <a:lnTo>
                    <a:pt x="1494" y="243"/>
                  </a:lnTo>
                  <a:lnTo>
                    <a:pt x="1494" y="238"/>
                  </a:lnTo>
                  <a:lnTo>
                    <a:pt x="1494" y="228"/>
                  </a:lnTo>
                  <a:lnTo>
                    <a:pt x="1499" y="223"/>
                  </a:lnTo>
                  <a:lnTo>
                    <a:pt x="1508" y="223"/>
                  </a:lnTo>
                  <a:lnTo>
                    <a:pt x="1518" y="218"/>
                  </a:lnTo>
                  <a:lnTo>
                    <a:pt x="1523" y="223"/>
                  </a:lnTo>
                  <a:lnTo>
                    <a:pt x="1533" y="223"/>
                  </a:lnTo>
                  <a:lnTo>
                    <a:pt x="1543" y="223"/>
                  </a:lnTo>
                  <a:lnTo>
                    <a:pt x="1548" y="223"/>
                  </a:lnTo>
                  <a:lnTo>
                    <a:pt x="1553" y="218"/>
                  </a:lnTo>
                  <a:lnTo>
                    <a:pt x="1558" y="208"/>
                  </a:lnTo>
                  <a:lnTo>
                    <a:pt x="1558" y="203"/>
                  </a:lnTo>
                  <a:lnTo>
                    <a:pt x="1563" y="198"/>
                  </a:lnTo>
                  <a:lnTo>
                    <a:pt x="1563" y="193"/>
                  </a:lnTo>
                  <a:lnTo>
                    <a:pt x="1573" y="188"/>
                  </a:lnTo>
                  <a:lnTo>
                    <a:pt x="1578" y="188"/>
                  </a:lnTo>
                  <a:lnTo>
                    <a:pt x="1588" y="193"/>
                  </a:lnTo>
                  <a:lnTo>
                    <a:pt x="1598" y="193"/>
                  </a:lnTo>
                  <a:lnTo>
                    <a:pt x="1607" y="193"/>
                  </a:lnTo>
                  <a:lnTo>
                    <a:pt x="1612" y="193"/>
                  </a:lnTo>
                  <a:lnTo>
                    <a:pt x="1622" y="193"/>
                  </a:lnTo>
                  <a:lnTo>
                    <a:pt x="1627" y="193"/>
                  </a:lnTo>
                  <a:lnTo>
                    <a:pt x="1632" y="198"/>
                  </a:lnTo>
                  <a:lnTo>
                    <a:pt x="1637" y="208"/>
                  </a:lnTo>
                  <a:lnTo>
                    <a:pt x="1642" y="213"/>
                  </a:lnTo>
                  <a:lnTo>
                    <a:pt x="1642" y="218"/>
                  </a:lnTo>
                  <a:lnTo>
                    <a:pt x="1647" y="223"/>
                  </a:lnTo>
                  <a:lnTo>
                    <a:pt x="1657" y="223"/>
                  </a:lnTo>
                  <a:lnTo>
                    <a:pt x="1662" y="228"/>
                  </a:lnTo>
                  <a:lnTo>
                    <a:pt x="1667" y="233"/>
                  </a:lnTo>
                  <a:lnTo>
                    <a:pt x="1667" y="238"/>
                  </a:lnTo>
                  <a:lnTo>
                    <a:pt x="1672" y="243"/>
                  </a:lnTo>
                  <a:lnTo>
                    <a:pt x="1672" y="247"/>
                  </a:lnTo>
                  <a:lnTo>
                    <a:pt x="1677" y="252"/>
                  </a:lnTo>
                  <a:lnTo>
                    <a:pt x="1687" y="257"/>
                  </a:lnTo>
                  <a:lnTo>
                    <a:pt x="1691" y="262"/>
                  </a:lnTo>
                  <a:lnTo>
                    <a:pt x="1691" y="267"/>
                  </a:lnTo>
                  <a:lnTo>
                    <a:pt x="1682" y="272"/>
                  </a:lnTo>
                  <a:lnTo>
                    <a:pt x="1677" y="277"/>
                  </a:lnTo>
                  <a:lnTo>
                    <a:pt x="1672" y="272"/>
                  </a:lnTo>
                  <a:lnTo>
                    <a:pt x="1667" y="267"/>
                  </a:lnTo>
                  <a:close/>
                  <a:moveTo>
                    <a:pt x="1909" y="238"/>
                  </a:moveTo>
                  <a:lnTo>
                    <a:pt x="1914" y="233"/>
                  </a:lnTo>
                  <a:lnTo>
                    <a:pt x="1914" y="228"/>
                  </a:lnTo>
                  <a:lnTo>
                    <a:pt x="1914" y="223"/>
                  </a:lnTo>
                  <a:lnTo>
                    <a:pt x="1919" y="218"/>
                  </a:lnTo>
                  <a:lnTo>
                    <a:pt x="1919" y="213"/>
                  </a:lnTo>
                  <a:lnTo>
                    <a:pt x="1914" y="208"/>
                  </a:lnTo>
                  <a:lnTo>
                    <a:pt x="1904" y="208"/>
                  </a:lnTo>
                  <a:lnTo>
                    <a:pt x="1899" y="203"/>
                  </a:lnTo>
                  <a:lnTo>
                    <a:pt x="1889" y="203"/>
                  </a:lnTo>
                  <a:lnTo>
                    <a:pt x="1884" y="203"/>
                  </a:lnTo>
                  <a:lnTo>
                    <a:pt x="1879" y="208"/>
                  </a:lnTo>
                  <a:lnTo>
                    <a:pt x="1874" y="213"/>
                  </a:lnTo>
                  <a:lnTo>
                    <a:pt x="1870" y="218"/>
                  </a:lnTo>
                  <a:lnTo>
                    <a:pt x="1865" y="223"/>
                  </a:lnTo>
                  <a:lnTo>
                    <a:pt x="1860" y="228"/>
                  </a:lnTo>
                  <a:lnTo>
                    <a:pt x="1855" y="223"/>
                  </a:lnTo>
                  <a:lnTo>
                    <a:pt x="1845" y="218"/>
                  </a:lnTo>
                  <a:lnTo>
                    <a:pt x="1840" y="213"/>
                  </a:lnTo>
                  <a:lnTo>
                    <a:pt x="1845" y="208"/>
                  </a:lnTo>
                  <a:lnTo>
                    <a:pt x="1845" y="208"/>
                  </a:lnTo>
                  <a:lnTo>
                    <a:pt x="1855" y="203"/>
                  </a:lnTo>
                  <a:lnTo>
                    <a:pt x="1860" y="198"/>
                  </a:lnTo>
                  <a:lnTo>
                    <a:pt x="1865" y="193"/>
                  </a:lnTo>
                  <a:lnTo>
                    <a:pt x="1870" y="188"/>
                  </a:lnTo>
                  <a:lnTo>
                    <a:pt x="1865" y="183"/>
                  </a:lnTo>
                  <a:lnTo>
                    <a:pt x="1860" y="178"/>
                  </a:lnTo>
                  <a:lnTo>
                    <a:pt x="1850" y="178"/>
                  </a:lnTo>
                  <a:lnTo>
                    <a:pt x="1845" y="178"/>
                  </a:lnTo>
                  <a:lnTo>
                    <a:pt x="1835" y="178"/>
                  </a:lnTo>
                  <a:lnTo>
                    <a:pt x="1825" y="178"/>
                  </a:lnTo>
                  <a:lnTo>
                    <a:pt x="1820" y="183"/>
                  </a:lnTo>
                  <a:lnTo>
                    <a:pt x="1815" y="188"/>
                  </a:lnTo>
                  <a:lnTo>
                    <a:pt x="1810" y="193"/>
                  </a:lnTo>
                  <a:lnTo>
                    <a:pt x="1805" y="198"/>
                  </a:lnTo>
                  <a:lnTo>
                    <a:pt x="1800" y="198"/>
                  </a:lnTo>
                  <a:lnTo>
                    <a:pt x="1790" y="203"/>
                  </a:lnTo>
                  <a:lnTo>
                    <a:pt x="1780" y="203"/>
                  </a:lnTo>
                  <a:lnTo>
                    <a:pt x="1776" y="203"/>
                  </a:lnTo>
                  <a:lnTo>
                    <a:pt x="1766" y="198"/>
                  </a:lnTo>
                  <a:lnTo>
                    <a:pt x="1761" y="193"/>
                  </a:lnTo>
                  <a:lnTo>
                    <a:pt x="1761" y="188"/>
                  </a:lnTo>
                  <a:lnTo>
                    <a:pt x="1761" y="183"/>
                  </a:lnTo>
                  <a:lnTo>
                    <a:pt x="1766" y="178"/>
                  </a:lnTo>
                  <a:lnTo>
                    <a:pt x="1771" y="173"/>
                  </a:lnTo>
                  <a:lnTo>
                    <a:pt x="1780" y="168"/>
                  </a:lnTo>
                  <a:lnTo>
                    <a:pt x="1785" y="173"/>
                  </a:lnTo>
                  <a:lnTo>
                    <a:pt x="1795" y="173"/>
                  </a:lnTo>
                  <a:lnTo>
                    <a:pt x="1800" y="178"/>
                  </a:lnTo>
                  <a:lnTo>
                    <a:pt x="1810" y="178"/>
                  </a:lnTo>
                  <a:lnTo>
                    <a:pt x="1810" y="173"/>
                  </a:lnTo>
                  <a:lnTo>
                    <a:pt x="1815" y="168"/>
                  </a:lnTo>
                  <a:lnTo>
                    <a:pt x="1815" y="163"/>
                  </a:lnTo>
                  <a:lnTo>
                    <a:pt x="1810" y="159"/>
                  </a:lnTo>
                  <a:lnTo>
                    <a:pt x="1805" y="154"/>
                  </a:lnTo>
                  <a:lnTo>
                    <a:pt x="1795" y="154"/>
                  </a:lnTo>
                  <a:lnTo>
                    <a:pt x="1790" y="154"/>
                  </a:lnTo>
                  <a:lnTo>
                    <a:pt x="1780" y="154"/>
                  </a:lnTo>
                  <a:lnTo>
                    <a:pt x="1776" y="149"/>
                  </a:lnTo>
                  <a:lnTo>
                    <a:pt x="1771" y="149"/>
                  </a:lnTo>
                  <a:lnTo>
                    <a:pt x="1766" y="144"/>
                  </a:lnTo>
                  <a:lnTo>
                    <a:pt x="1761" y="139"/>
                  </a:lnTo>
                  <a:lnTo>
                    <a:pt x="1756" y="134"/>
                  </a:lnTo>
                  <a:lnTo>
                    <a:pt x="1751" y="129"/>
                  </a:lnTo>
                  <a:lnTo>
                    <a:pt x="1746" y="129"/>
                  </a:lnTo>
                  <a:lnTo>
                    <a:pt x="1736" y="129"/>
                  </a:lnTo>
                  <a:lnTo>
                    <a:pt x="1726" y="129"/>
                  </a:lnTo>
                  <a:lnTo>
                    <a:pt x="1721" y="124"/>
                  </a:lnTo>
                  <a:lnTo>
                    <a:pt x="1716" y="119"/>
                  </a:lnTo>
                  <a:lnTo>
                    <a:pt x="1711" y="114"/>
                  </a:lnTo>
                  <a:lnTo>
                    <a:pt x="1711" y="109"/>
                  </a:lnTo>
                  <a:lnTo>
                    <a:pt x="1706" y="104"/>
                  </a:lnTo>
                  <a:lnTo>
                    <a:pt x="1696" y="104"/>
                  </a:lnTo>
                  <a:lnTo>
                    <a:pt x="1691" y="99"/>
                  </a:lnTo>
                  <a:lnTo>
                    <a:pt x="1682" y="99"/>
                  </a:lnTo>
                  <a:lnTo>
                    <a:pt x="1677" y="99"/>
                  </a:lnTo>
                  <a:lnTo>
                    <a:pt x="1667" y="94"/>
                  </a:lnTo>
                  <a:lnTo>
                    <a:pt x="1662" y="89"/>
                  </a:lnTo>
                  <a:lnTo>
                    <a:pt x="1662" y="84"/>
                  </a:lnTo>
                  <a:lnTo>
                    <a:pt x="1657" y="79"/>
                  </a:lnTo>
                  <a:lnTo>
                    <a:pt x="1652" y="79"/>
                  </a:lnTo>
                  <a:lnTo>
                    <a:pt x="1642" y="74"/>
                  </a:lnTo>
                  <a:lnTo>
                    <a:pt x="1637" y="74"/>
                  </a:lnTo>
                  <a:lnTo>
                    <a:pt x="1627" y="74"/>
                  </a:lnTo>
                  <a:lnTo>
                    <a:pt x="1617" y="74"/>
                  </a:lnTo>
                  <a:lnTo>
                    <a:pt x="1612" y="74"/>
                  </a:lnTo>
                  <a:lnTo>
                    <a:pt x="1602" y="70"/>
                  </a:lnTo>
                  <a:lnTo>
                    <a:pt x="1598" y="65"/>
                  </a:lnTo>
                  <a:lnTo>
                    <a:pt x="1598" y="60"/>
                  </a:lnTo>
                  <a:lnTo>
                    <a:pt x="1598" y="55"/>
                  </a:lnTo>
                  <a:lnTo>
                    <a:pt x="1598" y="50"/>
                  </a:lnTo>
                  <a:lnTo>
                    <a:pt x="1602" y="45"/>
                  </a:lnTo>
                  <a:lnTo>
                    <a:pt x="1607" y="40"/>
                  </a:lnTo>
                  <a:lnTo>
                    <a:pt x="1617" y="35"/>
                  </a:lnTo>
                  <a:lnTo>
                    <a:pt x="1622" y="35"/>
                  </a:lnTo>
                  <a:lnTo>
                    <a:pt x="1632" y="30"/>
                  </a:lnTo>
                  <a:lnTo>
                    <a:pt x="1637" y="30"/>
                  </a:lnTo>
                  <a:lnTo>
                    <a:pt x="1647" y="30"/>
                  </a:lnTo>
                  <a:lnTo>
                    <a:pt x="1657" y="30"/>
                  </a:lnTo>
                  <a:lnTo>
                    <a:pt x="1662" y="35"/>
                  </a:lnTo>
                  <a:lnTo>
                    <a:pt x="1672" y="35"/>
                  </a:lnTo>
                  <a:lnTo>
                    <a:pt x="1677" y="40"/>
                  </a:lnTo>
                  <a:lnTo>
                    <a:pt x="1682" y="40"/>
                  </a:lnTo>
                  <a:lnTo>
                    <a:pt x="1687" y="45"/>
                  </a:lnTo>
                  <a:lnTo>
                    <a:pt x="1691" y="50"/>
                  </a:lnTo>
                  <a:lnTo>
                    <a:pt x="1701" y="55"/>
                  </a:lnTo>
                  <a:lnTo>
                    <a:pt x="1706" y="55"/>
                  </a:lnTo>
                  <a:lnTo>
                    <a:pt x="1716" y="55"/>
                  </a:lnTo>
                  <a:lnTo>
                    <a:pt x="1721" y="55"/>
                  </a:lnTo>
                  <a:lnTo>
                    <a:pt x="1731" y="55"/>
                  </a:lnTo>
                  <a:lnTo>
                    <a:pt x="1736" y="60"/>
                  </a:lnTo>
                  <a:lnTo>
                    <a:pt x="1746" y="60"/>
                  </a:lnTo>
                  <a:lnTo>
                    <a:pt x="1756" y="60"/>
                  </a:lnTo>
                  <a:lnTo>
                    <a:pt x="1761" y="60"/>
                  </a:lnTo>
                  <a:lnTo>
                    <a:pt x="1771" y="60"/>
                  </a:lnTo>
                  <a:lnTo>
                    <a:pt x="1776" y="65"/>
                  </a:lnTo>
                  <a:lnTo>
                    <a:pt x="1785" y="65"/>
                  </a:lnTo>
                  <a:lnTo>
                    <a:pt x="1790" y="70"/>
                  </a:lnTo>
                  <a:lnTo>
                    <a:pt x="1795" y="74"/>
                  </a:lnTo>
                  <a:lnTo>
                    <a:pt x="1800" y="79"/>
                  </a:lnTo>
                  <a:lnTo>
                    <a:pt x="1805" y="79"/>
                  </a:lnTo>
                  <a:lnTo>
                    <a:pt x="1810" y="84"/>
                  </a:lnTo>
                  <a:lnTo>
                    <a:pt x="1820" y="84"/>
                  </a:lnTo>
                  <a:lnTo>
                    <a:pt x="1830" y="84"/>
                  </a:lnTo>
                  <a:lnTo>
                    <a:pt x="1835" y="84"/>
                  </a:lnTo>
                  <a:lnTo>
                    <a:pt x="1845" y="84"/>
                  </a:lnTo>
                  <a:lnTo>
                    <a:pt x="1850" y="84"/>
                  </a:lnTo>
                  <a:lnTo>
                    <a:pt x="1860" y="89"/>
                  </a:lnTo>
                  <a:lnTo>
                    <a:pt x="1870" y="89"/>
                  </a:lnTo>
                  <a:lnTo>
                    <a:pt x="1874" y="89"/>
                  </a:lnTo>
                  <a:lnTo>
                    <a:pt x="1884" y="89"/>
                  </a:lnTo>
                  <a:lnTo>
                    <a:pt x="1889" y="94"/>
                  </a:lnTo>
                  <a:lnTo>
                    <a:pt x="1894" y="94"/>
                  </a:lnTo>
                  <a:lnTo>
                    <a:pt x="1899" y="99"/>
                  </a:lnTo>
                  <a:lnTo>
                    <a:pt x="1904" y="104"/>
                  </a:lnTo>
                  <a:lnTo>
                    <a:pt x="1909" y="109"/>
                  </a:lnTo>
                  <a:lnTo>
                    <a:pt x="1914" y="114"/>
                  </a:lnTo>
                  <a:lnTo>
                    <a:pt x="1924" y="114"/>
                  </a:lnTo>
                  <a:lnTo>
                    <a:pt x="1929" y="114"/>
                  </a:lnTo>
                  <a:lnTo>
                    <a:pt x="1939" y="114"/>
                  </a:lnTo>
                  <a:lnTo>
                    <a:pt x="1949" y="119"/>
                  </a:lnTo>
                  <a:lnTo>
                    <a:pt x="1954" y="119"/>
                  </a:lnTo>
                  <a:lnTo>
                    <a:pt x="1963" y="119"/>
                  </a:lnTo>
                  <a:lnTo>
                    <a:pt x="1973" y="119"/>
                  </a:lnTo>
                  <a:lnTo>
                    <a:pt x="1978" y="119"/>
                  </a:lnTo>
                  <a:lnTo>
                    <a:pt x="1988" y="119"/>
                  </a:lnTo>
                  <a:lnTo>
                    <a:pt x="1993" y="119"/>
                  </a:lnTo>
                  <a:lnTo>
                    <a:pt x="2003" y="124"/>
                  </a:lnTo>
                  <a:lnTo>
                    <a:pt x="2008" y="129"/>
                  </a:lnTo>
                  <a:lnTo>
                    <a:pt x="2008" y="134"/>
                  </a:lnTo>
                  <a:lnTo>
                    <a:pt x="2013" y="139"/>
                  </a:lnTo>
                  <a:lnTo>
                    <a:pt x="2013" y="144"/>
                  </a:lnTo>
                  <a:lnTo>
                    <a:pt x="2018" y="149"/>
                  </a:lnTo>
                  <a:lnTo>
                    <a:pt x="2028" y="149"/>
                  </a:lnTo>
                  <a:lnTo>
                    <a:pt x="2033" y="149"/>
                  </a:lnTo>
                  <a:lnTo>
                    <a:pt x="2043" y="154"/>
                  </a:lnTo>
                  <a:lnTo>
                    <a:pt x="2048" y="154"/>
                  </a:lnTo>
                  <a:lnTo>
                    <a:pt x="2057" y="154"/>
                  </a:lnTo>
                  <a:lnTo>
                    <a:pt x="2067" y="154"/>
                  </a:lnTo>
                  <a:lnTo>
                    <a:pt x="2072" y="159"/>
                  </a:lnTo>
                  <a:lnTo>
                    <a:pt x="2082" y="159"/>
                  </a:lnTo>
                  <a:lnTo>
                    <a:pt x="2087" y="159"/>
                  </a:lnTo>
                  <a:lnTo>
                    <a:pt x="2087" y="163"/>
                  </a:lnTo>
                  <a:lnTo>
                    <a:pt x="2087" y="168"/>
                  </a:lnTo>
                  <a:lnTo>
                    <a:pt x="2077" y="173"/>
                  </a:lnTo>
                  <a:lnTo>
                    <a:pt x="2072" y="178"/>
                  </a:lnTo>
                  <a:lnTo>
                    <a:pt x="2072" y="183"/>
                  </a:lnTo>
                  <a:lnTo>
                    <a:pt x="2067" y="188"/>
                  </a:lnTo>
                  <a:lnTo>
                    <a:pt x="2067" y="193"/>
                  </a:lnTo>
                  <a:lnTo>
                    <a:pt x="2062" y="198"/>
                  </a:lnTo>
                  <a:lnTo>
                    <a:pt x="2057" y="203"/>
                  </a:lnTo>
                  <a:lnTo>
                    <a:pt x="2057" y="208"/>
                  </a:lnTo>
                  <a:lnTo>
                    <a:pt x="2052" y="213"/>
                  </a:lnTo>
                  <a:lnTo>
                    <a:pt x="2048" y="218"/>
                  </a:lnTo>
                  <a:lnTo>
                    <a:pt x="2048" y="223"/>
                  </a:lnTo>
                  <a:lnTo>
                    <a:pt x="2043" y="228"/>
                  </a:lnTo>
                  <a:lnTo>
                    <a:pt x="2038" y="233"/>
                  </a:lnTo>
                  <a:lnTo>
                    <a:pt x="2038" y="238"/>
                  </a:lnTo>
                  <a:lnTo>
                    <a:pt x="2033" y="243"/>
                  </a:lnTo>
                  <a:lnTo>
                    <a:pt x="2033" y="247"/>
                  </a:lnTo>
                  <a:lnTo>
                    <a:pt x="2028" y="257"/>
                  </a:lnTo>
                  <a:lnTo>
                    <a:pt x="2028" y="262"/>
                  </a:lnTo>
                  <a:lnTo>
                    <a:pt x="2023" y="262"/>
                  </a:lnTo>
                  <a:lnTo>
                    <a:pt x="2018" y="262"/>
                  </a:lnTo>
                  <a:lnTo>
                    <a:pt x="2013" y="257"/>
                  </a:lnTo>
                  <a:lnTo>
                    <a:pt x="2003" y="252"/>
                  </a:lnTo>
                  <a:lnTo>
                    <a:pt x="1998" y="252"/>
                  </a:lnTo>
                  <a:lnTo>
                    <a:pt x="1988" y="247"/>
                  </a:lnTo>
                  <a:lnTo>
                    <a:pt x="1978" y="247"/>
                  </a:lnTo>
                  <a:lnTo>
                    <a:pt x="1973" y="247"/>
                  </a:lnTo>
                  <a:lnTo>
                    <a:pt x="1968" y="247"/>
                  </a:lnTo>
                  <a:lnTo>
                    <a:pt x="1963" y="243"/>
                  </a:lnTo>
                  <a:lnTo>
                    <a:pt x="1959" y="238"/>
                  </a:lnTo>
                  <a:lnTo>
                    <a:pt x="1954" y="233"/>
                  </a:lnTo>
                  <a:lnTo>
                    <a:pt x="1949" y="228"/>
                  </a:lnTo>
                  <a:lnTo>
                    <a:pt x="1939" y="228"/>
                  </a:lnTo>
                  <a:lnTo>
                    <a:pt x="1934" y="228"/>
                  </a:lnTo>
                  <a:lnTo>
                    <a:pt x="1924" y="233"/>
                  </a:lnTo>
                  <a:lnTo>
                    <a:pt x="1919" y="238"/>
                  </a:lnTo>
                  <a:lnTo>
                    <a:pt x="1914" y="243"/>
                  </a:lnTo>
                  <a:lnTo>
                    <a:pt x="1909" y="238"/>
                  </a:lnTo>
                  <a:close/>
                  <a:moveTo>
                    <a:pt x="1360" y="213"/>
                  </a:moveTo>
                  <a:lnTo>
                    <a:pt x="1365" y="203"/>
                  </a:lnTo>
                  <a:lnTo>
                    <a:pt x="1375" y="198"/>
                  </a:lnTo>
                  <a:lnTo>
                    <a:pt x="1380" y="198"/>
                  </a:lnTo>
                  <a:lnTo>
                    <a:pt x="1385" y="198"/>
                  </a:lnTo>
                  <a:lnTo>
                    <a:pt x="1395" y="198"/>
                  </a:lnTo>
                  <a:lnTo>
                    <a:pt x="1405" y="208"/>
                  </a:lnTo>
                  <a:lnTo>
                    <a:pt x="1405" y="213"/>
                  </a:lnTo>
                  <a:lnTo>
                    <a:pt x="1405" y="218"/>
                  </a:lnTo>
                  <a:lnTo>
                    <a:pt x="1395" y="223"/>
                  </a:lnTo>
                  <a:lnTo>
                    <a:pt x="1390" y="228"/>
                  </a:lnTo>
                  <a:lnTo>
                    <a:pt x="1380" y="228"/>
                  </a:lnTo>
                  <a:lnTo>
                    <a:pt x="1375" y="228"/>
                  </a:lnTo>
                  <a:lnTo>
                    <a:pt x="1365" y="223"/>
                  </a:lnTo>
                  <a:lnTo>
                    <a:pt x="1360" y="213"/>
                  </a:lnTo>
                  <a:close/>
                  <a:moveTo>
                    <a:pt x="1004" y="188"/>
                  </a:moveTo>
                  <a:lnTo>
                    <a:pt x="1004" y="183"/>
                  </a:lnTo>
                  <a:lnTo>
                    <a:pt x="1009" y="183"/>
                  </a:lnTo>
                  <a:lnTo>
                    <a:pt x="1009" y="183"/>
                  </a:lnTo>
                  <a:lnTo>
                    <a:pt x="1009" y="183"/>
                  </a:lnTo>
                  <a:lnTo>
                    <a:pt x="1014" y="183"/>
                  </a:lnTo>
                  <a:lnTo>
                    <a:pt x="1014" y="183"/>
                  </a:lnTo>
                  <a:lnTo>
                    <a:pt x="1014" y="188"/>
                  </a:lnTo>
                  <a:lnTo>
                    <a:pt x="1014" y="188"/>
                  </a:lnTo>
                  <a:lnTo>
                    <a:pt x="1014" y="188"/>
                  </a:lnTo>
                  <a:lnTo>
                    <a:pt x="1009" y="193"/>
                  </a:lnTo>
                  <a:lnTo>
                    <a:pt x="1009" y="193"/>
                  </a:lnTo>
                  <a:lnTo>
                    <a:pt x="1009" y="188"/>
                  </a:lnTo>
                  <a:lnTo>
                    <a:pt x="1004" y="188"/>
                  </a:lnTo>
                  <a:lnTo>
                    <a:pt x="1004" y="188"/>
                  </a:lnTo>
                  <a:close/>
                  <a:moveTo>
                    <a:pt x="1197" y="188"/>
                  </a:moveTo>
                  <a:lnTo>
                    <a:pt x="1207" y="183"/>
                  </a:lnTo>
                  <a:lnTo>
                    <a:pt x="1212" y="178"/>
                  </a:lnTo>
                  <a:lnTo>
                    <a:pt x="1217" y="178"/>
                  </a:lnTo>
                  <a:lnTo>
                    <a:pt x="1222" y="178"/>
                  </a:lnTo>
                  <a:lnTo>
                    <a:pt x="1232" y="178"/>
                  </a:lnTo>
                  <a:lnTo>
                    <a:pt x="1232" y="183"/>
                  </a:lnTo>
                  <a:lnTo>
                    <a:pt x="1232" y="188"/>
                  </a:lnTo>
                  <a:lnTo>
                    <a:pt x="1232" y="193"/>
                  </a:lnTo>
                  <a:lnTo>
                    <a:pt x="1227" y="198"/>
                  </a:lnTo>
                  <a:lnTo>
                    <a:pt x="1222" y="203"/>
                  </a:lnTo>
                  <a:lnTo>
                    <a:pt x="1217" y="198"/>
                  </a:lnTo>
                  <a:lnTo>
                    <a:pt x="1212" y="198"/>
                  </a:lnTo>
                  <a:lnTo>
                    <a:pt x="1207" y="193"/>
                  </a:lnTo>
                  <a:lnTo>
                    <a:pt x="1197" y="188"/>
                  </a:lnTo>
                  <a:close/>
                  <a:moveTo>
                    <a:pt x="1434" y="188"/>
                  </a:moveTo>
                  <a:lnTo>
                    <a:pt x="1439" y="183"/>
                  </a:lnTo>
                  <a:lnTo>
                    <a:pt x="1444" y="178"/>
                  </a:lnTo>
                  <a:lnTo>
                    <a:pt x="1449" y="173"/>
                  </a:lnTo>
                  <a:lnTo>
                    <a:pt x="1459" y="168"/>
                  </a:lnTo>
                  <a:lnTo>
                    <a:pt x="1469" y="173"/>
                  </a:lnTo>
                  <a:lnTo>
                    <a:pt x="1474" y="173"/>
                  </a:lnTo>
                  <a:lnTo>
                    <a:pt x="1484" y="178"/>
                  </a:lnTo>
                  <a:lnTo>
                    <a:pt x="1489" y="183"/>
                  </a:lnTo>
                  <a:lnTo>
                    <a:pt x="1489" y="178"/>
                  </a:lnTo>
                  <a:lnTo>
                    <a:pt x="1489" y="173"/>
                  </a:lnTo>
                  <a:lnTo>
                    <a:pt x="1489" y="168"/>
                  </a:lnTo>
                  <a:lnTo>
                    <a:pt x="1489" y="159"/>
                  </a:lnTo>
                  <a:lnTo>
                    <a:pt x="1494" y="154"/>
                  </a:lnTo>
                  <a:lnTo>
                    <a:pt x="1499" y="149"/>
                  </a:lnTo>
                  <a:lnTo>
                    <a:pt x="1504" y="144"/>
                  </a:lnTo>
                  <a:lnTo>
                    <a:pt x="1513" y="144"/>
                  </a:lnTo>
                  <a:lnTo>
                    <a:pt x="1518" y="144"/>
                  </a:lnTo>
                  <a:lnTo>
                    <a:pt x="1528" y="144"/>
                  </a:lnTo>
                  <a:lnTo>
                    <a:pt x="1538" y="144"/>
                  </a:lnTo>
                  <a:lnTo>
                    <a:pt x="1548" y="144"/>
                  </a:lnTo>
                  <a:lnTo>
                    <a:pt x="1553" y="139"/>
                  </a:lnTo>
                  <a:lnTo>
                    <a:pt x="1558" y="134"/>
                  </a:lnTo>
                  <a:lnTo>
                    <a:pt x="1563" y="129"/>
                  </a:lnTo>
                  <a:lnTo>
                    <a:pt x="1568" y="124"/>
                  </a:lnTo>
                  <a:lnTo>
                    <a:pt x="1573" y="119"/>
                  </a:lnTo>
                  <a:lnTo>
                    <a:pt x="1578" y="119"/>
                  </a:lnTo>
                  <a:lnTo>
                    <a:pt x="1588" y="114"/>
                  </a:lnTo>
                  <a:lnTo>
                    <a:pt x="1598" y="114"/>
                  </a:lnTo>
                  <a:lnTo>
                    <a:pt x="1602" y="109"/>
                  </a:lnTo>
                  <a:lnTo>
                    <a:pt x="1612" y="109"/>
                  </a:lnTo>
                  <a:lnTo>
                    <a:pt x="1622" y="109"/>
                  </a:lnTo>
                  <a:lnTo>
                    <a:pt x="1627" y="109"/>
                  </a:lnTo>
                  <a:lnTo>
                    <a:pt x="1637" y="109"/>
                  </a:lnTo>
                  <a:lnTo>
                    <a:pt x="1647" y="109"/>
                  </a:lnTo>
                  <a:lnTo>
                    <a:pt x="1652" y="109"/>
                  </a:lnTo>
                  <a:lnTo>
                    <a:pt x="1662" y="114"/>
                  </a:lnTo>
                  <a:lnTo>
                    <a:pt x="1672" y="114"/>
                  </a:lnTo>
                  <a:lnTo>
                    <a:pt x="1677" y="114"/>
                  </a:lnTo>
                  <a:lnTo>
                    <a:pt x="1687" y="119"/>
                  </a:lnTo>
                  <a:lnTo>
                    <a:pt x="1691" y="124"/>
                  </a:lnTo>
                  <a:lnTo>
                    <a:pt x="1696" y="129"/>
                  </a:lnTo>
                  <a:lnTo>
                    <a:pt x="1696" y="134"/>
                  </a:lnTo>
                  <a:lnTo>
                    <a:pt x="1701" y="139"/>
                  </a:lnTo>
                  <a:lnTo>
                    <a:pt x="1706" y="144"/>
                  </a:lnTo>
                  <a:lnTo>
                    <a:pt x="1716" y="139"/>
                  </a:lnTo>
                  <a:lnTo>
                    <a:pt x="1726" y="139"/>
                  </a:lnTo>
                  <a:lnTo>
                    <a:pt x="1736" y="139"/>
                  </a:lnTo>
                  <a:lnTo>
                    <a:pt x="1741" y="144"/>
                  </a:lnTo>
                  <a:lnTo>
                    <a:pt x="1751" y="149"/>
                  </a:lnTo>
                  <a:lnTo>
                    <a:pt x="1751" y="154"/>
                  </a:lnTo>
                  <a:lnTo>
                    <a:pt x="1756" y="159"/>
                  </a:lnTo>
                  <a:lnTo>
                    <a:pt x="1751" y="168"/>
                  </a:lnTo>
                  <a:lnTo>
                    <a:pt x="1746" y="173"/>
                  </a:lnTo>
                  <a:lnTo>
                    <a:pt x="1741" y="178"/>
                  </a:lnTo>
                  <a:lnTo>
                    <a:pt x="1736" y="178"/>
                  </a:lnTo>
                  <a:lnTo>
                    <a:pt x="1726" y="178"/>
                  </a:lnTo>
                  <a:lnTo>
                    <a:pt x="1716" y="178"/>
                  </a:lnTo>
                  <a:lnTo>
                    <a:pt x="1711" y="178"/>
                  </a:lnTo>
                  <a:lnTo>
                    <a:pt x="1701" y="173"/>
                  </a:lnTo>
                  <a:lnTo>
                    <a:pt x="1696" y="168"/>
                  </a:lnTo>
                  <a:lnTo>
                    <a:pt x="1691" y="163"/>
                  </a:lnTo>
                  <a:lnTo>
                    <a:pt x="1687" y="163"/>
                  </a:lnTo>
                  <a:lnTo>
                    <a:pt x="1677" y="159"/>
                  </a:lnTo>
                  <a:lnTo>
                    <a:pt x="1672" y="154"/>
                  </a:lnTo>
                  <a:lnTo>
                    <a:pt x="1662" y="154"/>
                  </a:lnTo>
                  <a:lnTo>
                    <a:pt x="1657" y="154"/>
                  </a:lnTo>
                  <a:lnTo>
                    <a:pt x="1647" y="154"/>
                  </a:lnTo>
                  <a:lnTo>
                    <a:pt x="1637" y="159"/>
                  </a:lnTo>
                  <a:lnTo>
                    <a:pt x="1627" y="159"/>
                  </a:lnTo>
                  <a:lnTo>
                    <a:pt x="1622" y="159"/>
                  </a:lnTo>
                  <a:lnTo>
                    <a:pt x="1612" y="159"/>
                  </a:lnTo>
                  <a:lnTo>
                    <a:pt x="1607" y="154"/>
                  </a:lnTo>
                  <a:lnTo>
                    <a:pt x="1598" y="154"/>
                  </a:lnTo>
                  <a:lnTo>
                    <a:pt x="1588" y="154"/>
                  </a:lnTo>
                  <a:lnTo>
                    <a:pt x="1578" y="159"/>
                  </a:lnTo>
                  <a:lnTo>
                    <a:pt x="1573" y="159"/>
                  </a:lnTo>
                  <a:lnTo>
                    <a:pt x="1573" y="163"/>
                  </a:lnTo>
                  <a:lnTo>
                    <a:pt x="1573" y="173"/>
                  </a:lnTo>
                  <a:lnTo>
                    <a:pt x="1568" y="178"/>
                  </a:lnTo>
                  <a:lnTo>
                    <a:pt x="1563" y="178"/>
                  </a:lnTo>
                  <a:lnTo>
                    <a:pt x="1553" y="183"/>
                  </a:lnTo>
                  <a:lnTo>
                    <a:pt x="1543" y="183"/>
                  </a:lnTo>
                  <a:lnTo>
                    <a:pt x="1533" y="183"/>
                  </a:lnTo>
                  <a:lnTo>
                    <a:pt x="1523" y="178"/>
                  </a:lnTo>
                  <a:lnTo>
                    <a:pt x="1518" y="178"/>
                  </a:lnTo>
                  <a:lnTo>
                    <a:pt x="1508" y="178"/>
                  </a:lnTo>
                  <a:lnTo>
                    <a:pt x="1499" y="183"/>
                  </a:lnTo>
                  <a:lnTo>
                    <a:pt x="1494" y="183"/>
                  </a:lnTo>
                  <a:lnTo>
                    <a:pt x="1489" y="188"/>
                  </a:lnTo>
                  <a:lnTo>
                    <a:pt x="1484" y="193"/>
                  </a:lnTo>
                  <a:lnTo>
                    <a:pt x="1479" y="198"/>
                  </a:lnTo>
                  <a:lnTo>
                    <a:pt x="1474" y="203"/>
                  </a:lnTo>
                  <a:lnTo>
                    <a:pt x="1464" y="203"/>
                  </a:lnTo>
                  <a:lnTo>
                    <a:pt x="1454" y="203"/>
                  </a:lnTo>
                  <a:lnTo>
                    <a:pt x="1449" y="203"/>
                  </a:lnTo>
                  <a:lnTo>
                    <a:pt x="1444" y="198"/>
                  </a:lnTo>
                  <a:lnTo>
                    <a:pt x="1439" y="193"/>
                  </a:lnTo>
                  <a:lnTo>
                    <a:pt x="1434" y="188"/>
                  </a:lnTo>
                  <a:close/>
                  <a:moveTo>
                    <a:pt x="1281" y="159"/>
                  </a:moveTo>
                  <a:lnTo>
                    <a:pt x="1286" y="149"/>
                  </a:lnTo>
                  <a:lnTo>
                    <a:pt x="1296" y="144"/>
                  </a:lnTo>
                  <a:lnTo>
                    <a:pt x="1301" y="144"/>
                  </a:lnTo>
                  <a:lnTo>
                    <a:pt x="1306" y="144"/>
                  </a:lnTo>
                  <a:lnTo>
                    <a:pt x="1316" y="149"/>
                  </a:lnTo>
                  <a:lnTo>
                    <a:pt x="1321" y="154"/>
                  </a:lnTo>
                  <a:lnTo>
                    <a:pt x="1321" y="163"/>
                  </a:lnTo>
                  <a:lnTo>
                    <a:pt x="1316" y="173"/>
                  </a:lnTo>
                  <a:lnTo>
                    <a:pt x="1311" y="178"/>
                  </a:lnTo>
                  <a:lnTo>
                    <a:pt x="1306" y="183"/>
                  </a:lnTo>
                  <a:lnTo>
                    <a:pt x="1296" y="183"/>
                  </a:lnTo>
                  <a:lnTo>
                    <a:pt x="1291" y="178"/>
                  </a:lnTo>
                  <a:lnTo>
                    <a:pt x="1286" y="168"/>
                  </a:lnTo>
                  <a:lnTo>
                    <a:pt x="1281" y="159"/>
                  </a:lnTo>
                  <a:close/>
                  <a:moveTo>
                    <a:pt x="1360" y="134"/>
                  </a:moveTo>
                  <a:lnTo>
                    <a:pt x="1365" y="124"/>
                  </a:lnTo>
                  <a:lnTo>
                    <a:pt x="1370" y="119"/>
                  </a:lnTo>
                  <a:lnTo>
                    <a:pt x="1375" y="114"/>
                  </a:lnTo>
                  <a:lnTo>
                    <a:pt x="1385" y="114"/>
                  </a:lnTo>
                  <a:lnTo>
                    <a:pt x="1395" y="114"/>
                  </a:lnTo>
                  <a:lnTo>
                    <a:pt x="1405" y="114"/>
                  </a:lnTo>
                  <a:lnTo>
                    <a:pt x="1415" y="119"/>
                  </a:lnTo>
                  <a:lnTo>
                    <a:pt x="1424" y="124"/>
                  </a:lnTo>
                  <a:lnTo>
                    <a:pt x="1429" y="129"/>
                  </a:lnTo>
                  <a:lnTo>
                    <a:pt x="1429" y="134"/>
                  </a:lnTo>
                  <a:lnTo>
                    <a:pt x="1424" y="144"/>
                  </a:lnTo>
                  <a:lnTo>
                    <a:pt x="1419" y="149"/>
                  </a:lnTo>
                  <a:lnTo>
                    <a:pt x="1410" y="154"/>
                  </a:lnTo>
                  <a:lnTo>
                    <a:pt x="1400" y="154"/>
                  </a:lnTo>
                  <a:lnTo>
                    <a:pt x="1390" y="159"/>
                  </a:lnTo>
                  <a:lnTo>
                    <a:pt x="1380" y="159"/>
                  </a:lnTo>
                  <a:lnTo>
                    <a:pt x="1375" y="154"/>
                  </a:lnTo>
                  <a:lnTo>
                    <a:pt x="1370" y="149"/>
                  </a:lnTo>
                  <a:lnTo>
                    <a:pt x="1365" y="144"/>
                  </a:lnTo>
                  <a:lnTo>
                    <a:pt x="1360" y="134"/>
                  </a:lnTo>
                  <a:close/>
                  <a:moveTo>
                    <a:pt x="1439" y="104"/>
                  </a:moveTo>
                  <a:lnTo>
                    <a:pt x="1444" y="99"/>
                  </a:lnTo>
                  <a:lnTo>
                    <a:pt x="1449" y="94"/>
                  </a:lnTo>
                  <a:lnTo>
                    <a:pt x="1459" y="89"/>
                  </a:lnTo>
                  <a:lnTo>
                    <a:pt x="1469" y="84"/>
                  </a:lnTo>
                  <a:lnTo>
                    <a:pt x="1479" y="84"/>
                  </a:lnTo>
                  <a:lnTo>
                    <a:pt x="1489" y="84"/>
                  </a:lnTo>
                  <a:lnTo>
                    <a:pt x="1499" y="89"/>
                  </a:lnTo>
                  <a:lnTo>
                    <a:pt x="1508" y="94"/>
                  </a:lnTo>
                  <a:lnTo>
                    <a:pt x="1513" y="104"/>
                  </a:lnTo>
                  <a:lnTo>
                    <a:pt x="1513" y="109"/>
                  </a:lnTo>
                  <a:lnTo>
                    <a:pt x="1508" y="119"/>
                  </a:lnTo>
                  <a:lnTo>
                    <a:pt x="1504" y="124"/>
                  </a:lnTo>
                  <a:lnTo>
                    <a:pt x="1494" y="129"/>
                  </a:lnTo>
                  <a:lnTo>
                    <a:pt x="1484" y="129"/>
                  </a:lnTo>
                  <a:lnTo>
                    <a:pt x="1474" y="134"/>
                  </a:lnTo>
                  <a:lnTo>
                    <a:pt x="1464" y="129"/>
                  </a:lnTo>
                  <a:lnTo>
                    <a:pt x="1454" y="129"/>
                  </a:lnTo>
                  <a:lnTo>
                    <a:pt x="1449" y="124"/>
                  </a:lnTo>
                  <a:lnTo>
                    <a:pt x="1444" y="114"/>
                  </a:lnTo>
                  <a:lnTo>
                    <a:pt x="1439" y="104"/>
                  </a:lnTo>
                  <a:close/>
                  <a:moveTo>
                    <a:pt x="1518" y="79"/>
                  </a:moveTo>
                  <a:lnTo>
                    <a:pt x="1523" y="70"/>
                  </a:lnTo>
                  <a:lnTo>
                    <a:pt x="1528" y="65"/>
                  </a:lnTo>
                  <a:lnTo>
                    <a:pt x="1538" y="60"/>
                  </a:lnTo>
                  <a:lnTo>
                    <a:pt x="1548" y="60"/>
                  </a:lnTo>
                  <a:lnTo>
                    <a:pt x="1558" y="55"/>
                  </a:lnTo>
                  <a:lnTo>
                    <a:pt x="1573" y="60"/>
                  </a:lnTo>
                  <a:lnTo>
                    <a:pt x="1583" y="60"/>
                  </a:lnTo>
                  <a:lnTo>
                    <a:pt x="1588" y="70"/>
                  </a:lnTo>
                  <a:lnTo>
                    <a:pt x="1593" y="74"/>
                  </a:lnTo>
                  <a:lnTo>
                    <a:pt x="1593" y="84"/>
                  </a:lnTo>
                  <a:lnTo>
                    <a:pt x="1593" y="89"/>
                  </a:lnTo>
                  <a:lnTo>
                    <a:pt x="1583" y="94"/>
                  </a:lnTo>
                  <a:lnTo>
                    <a:pt x="1573" y="99"/>
                  </a:lnTo>
                  <a:lnTo>
                    <a:pt x="1563" y="104"/>
                  </a:lnTo>
                  <a:lnTo>
                    <a:pt x="1553" y="104"/>
                  </a:lnTo>
                  <a:lnTo>
                    <a:pt x="1543" y="104"/>
                  </a:lnTo>
                  <a:lnTo>
                    <a:pt x="1533" y="104"/>
                  </a:lnTo>
                  <a:lnTo>
                    <a:pt x="1528" y="99"/>
                  </a:lnTo>
                  <a:lnTo>
                    <a:pt x="1523" y="89"/>
                  </a:lnTo>
                  <a:lnTo>
                    <a:pt x="1518" y="79"/>
                  </a:lnTo>
                  <a:close/>
                  <a:moveTo>
                    <a:pt x="2235" y="1656"/>
                  </a:moveTo>
                  <a:lnTo>
                    <a:pt x="2260" y="1631"/>
                  </a:lnTo>
                  <a:lnTo>
                    <a:pt x="2285" y="1631"/>
                  </a:lnTo>
                  <a:lnTo>
                    <a:pt x="2315" y="1631"/>
                  </a:lnTo>
                  <a:lnTo>
                    <a:pt x="2339" y="1631"/>
                  </a:lnTo>
                  <a:lnTo>
                    <a:pt x="2369" y="1631"/>
                  </a:lnTo>
                  <a:lnTo>
                    <a:pt x="2394" y="1631"/>
                  </a:lnTo>
                  <a:lnTo>
                    <a:pt x="2418" y="1631"/>
                  </a:lnTo>
                  <a:lnTo>
                    <a:pt x="2448" y="1602"/>
                  </a:lnTo>
                  <a:lnTo>
                    <a:pt x="2448" y="1577"/>
                  </a:lnTo>
                  <a:lnTo>
                    <a:pt x="2448" y="1547"/>
                  </a:lnTo>
                  <a:lnTo>
                    <a:pt x="2448" y="1523"/>
                  </a:lnTo>
                  <a:lnTo>
                    <a:pt x="2473" y="1498"/>
                  </a:lnTo>
                  <a:lnTo>
                    <a:pt x="2473" y="1468"/>
                  </a:lnTo>
                  <a:lnTo>
                    <a:pt x="2473" y="1444"/>
                  </a:lnTo>
                  <a:lnTo>
                    <a:pt x="2473" y="1414"/>
                  </a:lnTo>
                  <a:lnTo>
                    <a:pt x="2503" y="1389"/>
                  </a:lnTo>
                  <a:lnTo>
                    <a:pt x="2503" y="1364"/>
                  </a:lnTo>
                  <a:lnTo>
                    <a:pt x="2503" y="1335"/>
                  </a:lnTo>
                  <a:lnTo>
                    <a:pt x="2503" y="1310"/>
                  </a:lnTo>
                  <a:lnTo>
                    <a:pt x="2527" y="1280"/>
                  </a:lnTo>
                  <a:lnTo>
                    <a:pt x="2527" y="1256"/>
                  </a:lnTo>
                  <a:lnTo>
                    <a:pt x="2527" y="1226"/>
                  </a:lnTo>
                  <a:lnTo>
                    <a:pt x="2527" y="1201"/>
                  </a:lnTo>
                  <a:lnTo>
                    <a:pt x="2552" y="1177"/>
                  </a:lnTo>
                  <a:lnTo>
                    <a:pt x="2552" y="1147"/>
                  </a:lnTo>
                  <a:lnTo>
                    <a:pt x="2552" y="1122"/>
                  </a:lnTo>
                  <a:lnTo>
                    <a:pt x="2552" y="1093"/>
                  </a:lnTo>
                  <a:lnTo>
                    <a:pt x="2582" y="1068"/>
                  </a:lnTo>
                  <a:lnTo>
                    <a:pt x="2582" y="1043"/>
                  </a:lnTo>
                  <a:lnTo>
                    <a:pt x="2582" y="1014"/>
                  </a:lnTo>
                  <a:lnTo>
                    <a:pt x="2582" y="989"/>
                  </a:lnTo>
                  <a:lnTo>
                    <a:pt x="2582" y="959"/>
                  </a:lnTo>
                  <a:lnTo>
                    <a:pt x="2582" y="934"/>
                  </a:lnTo>
                  <a:lnTo>
                    <a:pt x="2582" y="910"/>
                  </a:lnTo>
                  <a:lnTo>
                    <a:pt x="2582" y="880"/>
                  </a:lnTo>
                  <a:lnTo>
                    <a:pt x="2582" y="855"/>
                  </a:lnTo>
                  <a:lnTo>
                    <a:pt x="2582" y="826"/>
                  </a:lnTo>
                  <a:lnTo>
                    <a:pt x="2582" y="801"/>
                  </a:lnTo>
                  <a:lnTo>
                    <a:pt x="2582" y="776"/>
                  </a:lnTo>
                  <a:lnTo>
                    <a:pt x="2582" y="747"/>
                  </a:lnTo>
                  <a:lnTo>
                    <a:pt x="2582" y="722"/>
                  </a:lnTo>
                  <a:lnTo>
                    <a:pt x="2582" y="692"/>
                  </a:lnTo>
                  <a:lnTo>
                    <a:pt x="2582" y="668"/>
                  </a:lnTo>
                  <a:lnTo>
                    <a:pt x="2582" y="643"/>
                  </a:lnTo>
                  <a:lnTo>
                    <a:pt x="2582" y="613"/>
                  </a:lnTo>
                  <a:lnTo>
                    <a:pt x="2582" y="589"/>
                  </a:lnTo>
                  <a:lnTo>
                    <a:pt x="2582" y="559"/>
                  </a:lnTo>
                  <a:lnTo>
                    <a:pt x="2582" y="534"/>
                  </a:lnTo>
                  <a:lnTo>
                    <a:pt x="2582" y="504"/>
                  </a:lnTo>
                  <a:lnTo>
                    <a:pt x="2582" y="480"/>
                  </a:lnTo>
                  <a:lnTo>
                    <a:pt x="2582" y="455"/>
                  </a:lnTo>
                  <a:lnTo>
                    <a:pt x="2582" y="425"/>
                  </a:lnTo>
                  <a:lnTo>
                    <a:pt x="2582" y="401"/>
                  </a:lnTo>
                  <a:lnTo>
                    <a:pt x="2582" y="371"/>
                  </a:lnTo>
                  <a:lnTo>
                    <a:pt x="2582" y="346"/>
                  </a:lnTo>
                  <a:lnTo>
                    <a:pt x="2582" y="322"/>
                  </a:lnTo>
                  <a:lnTo>
                    <a:pt x="2582" y="292"/>
                  </a:lnTo>
                  <a:lnTo>
                    <a:pt x="2582" y="267"/>
                  </a:lnTo>
                  <a:lnTo>
                    <a:pt x="2582" y="238"/>
                  </a:lnTo>
                  <a:lnTo>
                    <a:pt x="2552" y="213"/>
                  </a:lnTo>
                  <a:lnTo>
                    <a:pt x="2552" y="188"/>
                  </a:lnTo>
                  <a:lnTo>
                    <a:pt x="2552" y="159"/>
                  </a:lnTo>
                  <a:lnTo>
                    <a:pt x="2552" y="134"/>
                  </a:lnTo>
                  <a:lnTo>
                    <a:pt x="2552" y="104"/>
                  </a:lnTo>
                  <a:lnTo>
                    <a:pt x="2527" y="79"/>
                  </a:lnTo>
                  <a:lnTo>
                    <a:pt x="2503" y="79"/>
                  </a:lnTo>
                  <a:lnTo>
                    <a:pt x="2473" y="79"/>
                  </a:lnTo>
                  <a:lnTo>
                    <a:pt x="2448" y="55"/>
                  </a:lnTo>
                  <a:lnTo>
                    <a:pt x="2418" y="55"/>
                  </a:lnTo>
                  <a:lnTo>
                    <a:pt x="2394" y="55"/>
                  </a:lnTo>
                  <a:lnTo>
                    <a:pt x="2369" y="25"/>
                  </a:lnTo>
                  <a:lnTo>
                    <a:pt x="2339" y="25"/>
                  </a:lnTo>
                  <a:lnTo>
                    <a:pt x="2315" y="25"/>
                  </a:lnTo>
                  <a:lnTo>
                    <a:pt x="2285" y="0"/>
                  </a:lnTo>
                  <a:lnTo>
                    <a:pt x="2260" y="0"/>
                  </a:lnTo>
                  <a:lnTo>
                    <a:pt x="2235" y="0"/>
                  </a:lnTo>
                  <a:lnTo>
                    <a:pt x="2206" y="0"/>
                  </a:lnTo>
                  <a:lnTo>
                    <a:pt x="2181" y="0"/>
                  </a:lnTo>
                  <a:lnTo>
                    <a:pt x="2156" y="0"/>
                  </a:lnTo>
                  <a:lnTo>
                    <a:pt x="2127" y="0"/>
                  </a:lnTo>
                  <a:lnTo>
                    <a:pt x="2102" y="0"/>
                  </a:lnTo>
                  <a:lnTo>
                    <a:pt x="2072" y="0"/>
                  </a:lnTo>
                  <a:lnTo>
                    <a:pt x="2048" y="0"/>
                  </a:lnTo>
                  <a:lnTo>
                    <a:pt x="2023" y="0"/>
                  </a:lnTo>
                  <a:lnTo>
                    <a:pt x="1993" y="0"/>
                  </a:lnTo>
                  <a:lnTo>
                    <a:pt x="1968" y="0"/>
                  </a:lnTo>
                  <a:lnTo>
                    <a:pt x="1944" y="0"/>
                  </a:lnTo>
                  <a:lnTo>
                    <a:pt x="1914" y="0"/>
                  </a:lnTo>
                  <a:lnTo>
                    <a:pt x="1889" y="0"/>
                  </a:lnTo>
                  <a:lnTo>
                    <a:pt x="1860" y="0"/>
                  </a:lnTo>
                  <a:lnTo>
                    <a:pt x="1835" y="0"/>
                  </a:lnTo>
                  <a:lnTo>
                    <a:pt x="1810" y="0"/>
                  </a:lnTo>
                  <a:lnTo>
                    <a:pt x="1780" y="0"/>
                  </a:lnTo>
                  <a:lnTo>
                    <a:pt x="1756" y="0"/>
                  </a:lnTo>
                  <a:lnTo>
                    <a:pt x="1726" y="0"/>
                  </a:lnTo>
                  <a:lnTo>
                    <a:pt x="1701" y="0"/>
                  </a:lnTo>
                  <a:lnTo>
                    <a:pt x="1677" y="0"/>
                  </a:lnTo>
                  <a:lnTo>
                    <a:pt x="1647" y="0"/>
                  </a:lnTo>
                  <a:lnTo>
                    <a:pt x="1622" y="0"/>
                  </a:lnTo>
                  <a:lnTo>
                    <a:pt x="1598" y="0"/>
                  </a:lnTo>
                  <a:lnTo>
                    <a:pt x="1568" y="0"/>
                  </a:lnTo>
                  <a:lnTo>
                    <a:pt x="1543" y="0"/>
                  </a:lnTo>
                  <a:lnTo>
                    <a:pt x="1513" y="0"/>
                  </a:lnTo>
                  <a:lnTo>
                    <a:pt x="1489" y="0"/>
                  </a:lnTo>
                  <a:lnTo>
                    <a:pt x="1464" y="0"/>
                  </a:lnTo>
                  <a:lnTo>
                    <a:pt x="1434" y="0"/>
                  </a:lnTo>
                  <a:lnTo>
                    <a:pt x="1410" y="0"/>
                  </a:lnTo>
                  <a:lnTo>
                    <a:pt x="1385" y="0"/>
                  </a:lnTo>
                  <a:lnTo>
                    <a:pt x="1355" y="0"/>
                  </a:lnTo>
                  <a:lnTo>
                    <a:pt x="1330" y="0"/>
                  </a:lnTo>
                  <a:lnTo>
                    <a:pt x="1301" y="0"/>
                  </a:lnTo>
                  <a:lnTo>
                    <a:pt x="1276" y="0"/>
                  </a:lnTo>
                  <a:lnTo>
                    <a:pt x="1251" y="0"/>
                  </a:lnTo>
                  <a:lnTo>
                    <a:pt x="1222" y="0"/>
                  </a:lnTo>
                  <a:lnTo>
                    <a:pt x="1197" y="0"/>
                  </a:lnTo>
                  <a:lnTo>
                    <a:pt x="1172" y="0"/>
                  </a:lnTo>
                  <a:lnTo>
                    <a:pt x="1143" y="0"/>
                  </a:lnTo>
                  <a:lnTo>
                    <a:pt x="1118" y="0"/>
                  </a:lnTo>
                  <a:lnTo>
                    <a:pt x="1088" y="0"/>
                  </a:lnTo>
                  <a:lnTo>
                    <a:pt x="1063" y="0"/>
                  </a:lnTo>
                  <a:lnTo>
                    <a:pt x="1039" y="0"/>
                  </a:lnTo>
                  <a:lnTo>
                    <a:pt x="1009" y="0"/>
                  </a:lnTo>
                  <a:lnTo>
                    <a:pt x="984" y="0"/>
                  </a:lnTo>
                  <a:lnTo>
                    <a:pt x="955" y="0"/>
                  </a:lnTo>
                  <a:lnTo>
                    <a:pt x="930" y="0"/>
                  </a:lnTo>
                  <a:lnTo>
                    <a:pt x="905" y="0"/>
                  </a:lnTo>
                  <a:lnTo>
                    <a:pt x="875" y="0"/>
                  </a:lnTo>
                  <a:lnTo>
                    <a:pt x="851" y="0"/>
                  </a:lnTo>
                  <a:lnTo>
                    <a:pt x="826" y="0"/>
                  </a:lnTo>
                  <a:lnTo>
                    <a:pt x="796" y="0"/>
                  </a:lnTo>
                  <a:lnTo>
                    <a:pt x="772" y="0"/>
                  </a:lnTo>
                  <a:lnTo>
                    <a:pt x="742" y="0"/>
                  </a:lnTo>
                  <a:lnTo>
                    <a:pt x="717" y="0"/>
                  </a:lnTo>
                  <a:lnTo>
                    <a:pt x="692" y="0"/>
                  </a:lnTo>
                  <a:lnTo>
                    <a:pt x="663" y="0"/>
                  </a:lnTo>
                  <a:lnTo>
                    <a:pt x="638" y="0"/>
                  </a:lnTo>
                  <a:lnTo>
                    <a:pt x="613" y="0"/>
                  </a:lnTo>
                  <a:lnTo>
                    <a:pt x="584" y="25"/>
                  </a:lnTo>
                  <a:lnTo>
                    <a:pt x="559" y="55"/>
                  </a:lnTo>
                  <a:lnTo>
                    <a:pt x="529" y="79"/>
                  </a:lnTo>
                  <a:lnTo>
                    <a:pt x="505" y="104"/>
                  </a:lnTo>
                  <a:lnTo>
                    <a:pt x="480" y="134"/>
                  </a:lnTo>
                  <a:lnTo>
                    <a:pt x="450" y="134"/>
                  </a:lnTo>
                  <a:lnTo>
                    <a:pt x="425" y="159"/>
                  </a:lnTo>
                  <a:lnTo>
                    <a:pt x="396" y="188"/>
                  </a:lnTo>
                  <a:lnTo>
                    <a:pt x="371" y="213"/>
                  </a:lnTo>
                  <a:lnTo>
                    <a:pt x="346" y="238"/>
                  </a:lnTo>
                  <a:lnTo>
                    <a:pt x="317" y="267"/>
                  </a:lnTo>
                  <a:lnTo>
                    <a:pt x="292" y="292"/>
                  </a:lnTo>
                  <a:lnTo>
                    <a:pt x="267" y="322"/>
                  </a:lnTo>
                  <a:lnTo>
                    <a:pt x="237" y="322"/>
                  </a:lnTo>
                  <a:lnTo>
                    <a:pt x="213" y="346"/>
                  </a:lnTo>
                  <a:lnTo>
                    <a:pt x="183" y="371"/>
                  </a:lnTo>
                  <a:lnTo>
                    <a:pt x="158" y="401"/>
                  </a:lnTo>
                  <a:lnTo>
                    <a:pt x="134" y="425"/>
                  </a:lnTo>
                  <a:lnTo>
                    <a:pt x="104" y="455"/>
                  </a:lnTo>
                  <a:lnTo>
                    <a:pt x="79" y="480"/>
                  </a:lnTo>
                  <a:lnTo>
                    <a:pt x="55" y="504"/>
                  </a:lnTo>
                  <a:lnTo>
                    <a:pt x="25" y="504"/>
                  </a:lnTo>
                  <a:lnTo>
                    <a:pt x="0" y="534"/>
                  </a:lnTo>
                  <a:lnTo>
                    <a:pt x="0" y="559"/>
                  </a:lnTo>
                  <a:lnTo>
                    <a:pt x="0" y="589"/>
                  </a:lnTo>
                  <a:lnTo>
                    <a:pt x="0" y="613"/>
                  </a:lnTo>
                  <a:lnTo>
                    <a:pt x="25" y="643"/>
                  </a:lnTo>
                  <a:lnTo>
                    <a:pt x="25" y="668"/>
                  </a:lnTo>
                  <a:lnTo>
                    <a:pt x="55" y="692"/>
                  </a:lnTo>
                  <a:lnTo>
                    <a:pt x="79" y="722"/>
                  </a:lnTo>
                  <a:lnTo>
                    <a:pt x="104" y="747"/>
                  </a:lnTo>
                  <a:lnTo>
                    <a:pt x="134" y="776"/>
                  </a:lnTo>
                  <a:lnTo>
                    <a:pt x="134" y="801"/>
                  </a:lnTo>
                  <a:lnTo>
                    <a:pt x="158" y="826"/>
                  </a:lnTo>
                  <a:lnTo>
                    <a:pt x="183" y="855"/>
                  </a:lnTo>
                  <a:lnTo>
                    <a:pt x="213" y="880"/>
                  </a:lnTo>
                  <a:lnTo>
                    <a:pt x="237" y="910"/>
                  </a:lnTo>
                  <a:lnTo>
                    <a:pt x="267" y="934"/>
                  </a:lnTo>
                  <a:lnTo>
                    <a:pt x="292" y="959"/>
                  </a:lnTo>
                  <a:lnTo>
                    <a:pt x="292" y="989"/>
                  </a:lnTo>
                  <a:lnTo>
                    <a:pt x="317" y="1014"/>
                  </a:lnTo>
                  <a:lnTo>
                    <a:pt x="346" y="1043"/>
                  </a:lnTo>
                  <a:lnTo>
                    <a:pt x="371" y="1068"/>
                  </a:lnTo>
                  <a:lnTo>
                    <a:pt x="396" y="1093"/>
                  </a:lnTo>
                  <a:lnTo>
                    <a:pt x="425" y="1122"/>
                  </a:lnTo>
                  <a:lnTo>
                    <a:pt x="450" y="1147"/>
                  </a:lnTo>
                  <a:lnTo>
                    <a:pt x="480" y="1177"/>
                  </a:lnTo>
                  <a:lnTo>
                    <a:pt x="505" y="1201"/>
                  </a:lnTo>
                  <a:lnTo>
                    <a:pt x="529" y="1226"/>
                  </a:lnTo>
                  <a:lnTo>
                    <a:pt x="559" y="1256"/>
                  </a:lnTo>
                  <a:lnTo>
                    <a:pt x="584" y="1280"/>
                  </a:lnTo>
                  <a:lnTo>
                    <a:pt x="613" y="1310"/>
                  </a:lnTo>
                  <a:lnTo>
                    <a:pt x="638" y="1335"/>
                  </a:lnTo>
                  <a:lnTo>
                    <a:pt x="663" y="1364"/>
                  </a:lnTo>
                  <a:lnTo>
                    <a:pt x="692" y="1389"/>
                  </a:lnTo>
                  <a:lnTo>
                    <a:pt x="717" y="1414"/>
                  </a:lnTo>
                  <a:lnTo>
                    <a:pt x="742" y="1444"/>
                  </a:lnTo>
                  <a:lnTo>
                    <a:pt x="772" y="1468"/>
                  </a:lnTo>
                  <a:lnTo>
                    <a:pt x="796" y="1468"/>
                  </a:lnTo>
                  <a:lnTo>
                    <a:pt x="826" y="1498"/>
                  </a:lnTo>
                  <a:lnTo>
                    <a:pt x="851" y="1523"/>
                  </a:lnTo>
                  <a:lnTo>
                    <a:pt x="875" y="1547"/>
                  </a:lnTo>
                  <a:lnTo>
                    <a:pt x="905" y="1577"/>
                  </a:lnTo>
                  <a:lnTo>
                    <a:pt x="930" y="1602"/>
                  </a:lnTo>
                  <a:lnTo>
                    <a:pt x="955" y="1631"/>
                  </a:lnTo>
                  <a:lnTo>
                    <a:pt x="984" y="1656"/>
                  </a:lnTo>
                  <a:lnTo>
                    <a:pt x="1009" y="1656"/>
                  </a:lnTo>
                  <a:lnTo>
                    <a:pt x="1039" y="1656"/>
                  </a:lnTo>
                  <a:lnTo>
                    <a:pt x="1063" y="1656"/>
                  </a:lnTo>
                  <a:lnTo>
                    <a:pt x="1088" y="1656"/>
                  </a:lnTo>
                  <a:lnTo>
                    <a:pt x="1118" y="1656"/>
                  </a:lnTo>
                  <a:lnTo>
                    <a:pt x="1143" y="1656"/>
                  </a:lnTo>
                  <a:lnTo>
                    <a:pt x="1172" y="1656"/>
                  </a:lnTo>
                  <a:lnTo>
                    <a:pt x="1197" y="1656"/>
                  </a:lnTo>
                  <a:lnTo>
                    <a:pt x="1222" y="1656"/>
                  </a:lnTo>
                  <a:lnTo>
                    <a:pt x="1251" y="1656"/>
                  </a:lnTo>
                  <a:lnTo>
                    <a:pt x="1276" y="1656"/>
                  </a:lnTo>
                  <a:lnTo>
                    <a:pt x="1301" y="1656"/>
                  </a:lnTo>
                  <a:lnTo>
                    <a:pt x="1330" y="1656"/>
                  </a:lnTo>
                  <a:lnTo>
                    <a:pt x="1355" y="1656"/>
                  </a:lnTo>
                  <a:lnTo>
                    <a:pt x="1385" y="1656"/>
                  </a:lnTo>
                  <a:lnTo>
                    <a:pt x="1410" y="1656"/>
                  </a:lnTo>
                  <a:lnTo>
                    <a:pt x="1434" y="1656"/>
                  </a:lnTo>
                  <a:lnTo>
                    <a:pt x="1464" y="1656"/>
                  </a:lnTo>
                  <a:lnTo>
                    <a:pt x="1489" y="1656"/>
                  </a:lnTo>
                  <a:lnTo>
                    <a:pt x="1513" y="1656"/>
                  </a:lnTo>
                  <a:lnTo>
                    <a:pt x="1543" y="1656"/>
                  </a:lnTo>
                  <a:lnTo>
                    <a:pt x="1568" y="1656"/>
                  </a:lnTo>
                  <a:lnTo>
                    <a:pt x="1598" y="1656"/>
                  </a:lnTo>
                  <a:lnTo>
                    <a:pt x="1622" y="1656"/>
                  </a:lnTo>
                  <a:lnTo>
                    <a:pt x="1647" y="1656"/>
                  </a:lnTo>
                  <a:lnTo>
                    <a:pt x="1677" y="1656"/>
                  </a:lnTo>
                  <a:lnTo>
                    <a:pt x="1701" y="1656"/>
                  </a:lnTo>
                  <a:lnTo>
                    <a:pt x="1726" y="1656"/>
                  </a:lnTo>
                  <a:lnTo>
                    <a:pt x="1756" y="1656"/>
                  </a:lnTo>
                  <a:lnTo>
                    <a:pt x="1780" y="1656"/>
                  </a:lnTo>
                  <a:lnTo>
                    <a:pt x="1810" y="1656"/>
                  </a:lnTo>
                  <a:lnTo>
                    <a:pt x="1835" y="1656"/>
                  </a:lnTo>
                  <a:lnTo>
                    <a:pt x="1860" y="1656"/>
                  </a:lnTo>
                  <a:lnTo>
                    <a:pt x="1889" y="1656"/>
                  </a:lnTo>
                  <a:lnTo>
                    <a:pt x="1914" y="1656"/>
                  </a:lnTo>
                  <a:lnTo>
                    <a:pt x="1944" y="1656"/>
                  </a:lnTo>
                  <a:lnTo>
                    <a:pt x="1968" y="1656"/>
                  </a:lnTo>
                  <a:lnTo>
                    <a:pt x="1993" y="1656"/>
                  </a:lnTo>
                  <a:lnTo>
                    <a:pt x="2023" y="1656"/>
                  </a:lnTo>
                  <a:lnTo>
                    <a:pt x="2048" y="1656"/>
                  </a:lnTo>
                  <a:lnTo>
                    <a:pt x="2072" y="1656"/>
                  </a:lnTo>
                  <a:lnTo>
                    <a:pt x="2102" y="1656"/>
                  </a:lnTo>
                  <a:lnTo>
                    <a:pt x="2127" y="1656"/>
                  </a:lnTo>
                  <a:lnTo>
                    <a:pt x="2156" y="1656"/>
                  </a:lnTo>
                  <a:lnTo>
                    <a:pt x="2181" y="1656"/>
                  </a:lnTo>
                  <a:lnTo>
                    <a:pt x="2206" y="1656"/>
                  </a:lnTo>
                  <a:lnTo>
                    <a:pt x="2235" y="1656"/>
                  </a:lnTo>
                  <a:close/>
                  <a:moveTo>
                    <a:pt x="1355" y="292"/>
                  </a:moveTo>
                  <a:lnTo>
                    <a:pt x="1365" y="292"/>
                  </a:lnTo>
                  <a:lnTo>
                    <a:pt x="1375" y="292"/>
                  </a:lnTo>
                  <a:lnTo>
                    <a:pt x="1380" y="287"/>
                  </a:lnTo>
                  <a:lnTo>
                    <a:pt x="1390" y="287"/>
                  </a:lnTo>
                  <a:lnTo>
                    <a:pt x="1400" y="287"/>
                  </a:lnTo>
                  <a:lnTo>
                    <a:pt x="1405" y="287"/>
                  </a:lnTo>
                  <a:lnTo>
                    <a:pt x="1410" y="282"/>
                  </a:lnTo>
                  <a:lnTo>
                    <a:pt x="1415" y="282"/>
                  </a:lnTo>
                  <a:lnTo>
                    <a:pt x="1419" y="277"/>
                  </a:lnTo>
                  <a:lnTo>
                    <a:pt x="1424" y="267"/>
                  </a:lnTo>
                  <a:lnTo>
                    <a:pt x="1424" y="262"/>
                  </a:lnTo>
                  <a:lnTo>
                    <a:pt x="1429" y="257"/>
                  </a:lnTo>
                  <a:lnTo>
                    <a:pt x="1434" y="252"/>
                  </a:lnTo>
                  <a:lnTo>
                    <a:pt x="1439" y="252"/>
                  </a:lnTo>
                  <a:lnTo>
                    <a:pt x="1444" y="247"/>
                  </a:lnTo>
                  <a:lnTo>
                    <a:pt x="1454" y="252"/>
                  </a:lnTo>
                  <a:lnTo>
                    <a:pt x="1464" y="252"/>
                  </a:lnTo>
                  <a:lnTo>
                    <a:pt x="1474" y="257"/>
                  </a:lnTo>
                  <a:lnTo>
                    <a:pt x="1479" y="262"/>
                  </a:lnTo>
                  <a:lnTo>
                    <a:pt x="1479" y="262"/>
                  </a:lnTo>
                  <a:lnTo>
                    <a:pt x="1479" y="267"/>
                  </a:lnTo>
                  <a:lnTo>
                    <a:pt x="1474" y="272"/>
                  </a:lnTo>
                  <a:lnTo>
                    <a:pt x="1464" y="277"/>
                  </a:lnTo>
                  <a:lnTo>
                    <a:pt x="1459" y="277"/>
                  </a:lnTo>
                  <a:lnTo>
                    <a:pt x="1449" y="277"/>
                  </a:lnTo>
                  <a:lnTo>
                    <a:pt x="1439" y="277"/>
                  </a:lnTo>
                  <a:lnTo>
                    <a:pt x="1434" y="282"/>
                  </a:lnTo>
                  <a:lnTo>
                    <a:pt x="1429" y="282"/>
                  </a:lnTo>
                  <a:lnTo>
                    <a:pt x="1424" y="287"/>
                  </a:lnTo>
                  <a:lnTo>
                    <a:pt x="1419" y="292"/>
                  </a:lnTo>
                  <a:lnTo>
                    <a:pt x="1415" y="297"/>
                  </a:lnTo>
                  <a:lnTo>
                    <a:pt x="1405" y="297"/>
                  </a:lnTo>
                  <a:lnTo>
                    <a:pt x="1400" y="302"/>
                  </a:lnTo>
                  <a:lnTo>
                    <a:pt x="1390" y="297"/>
                  </a:lnTo>
                  <a:lnTo>
                    <a:pt x="1380" y="297"/>
                  </a:lnTo>
                  <a:lnTo>
                    <a:pt x="1375" y="297"/>
                  </a:lnTo>
                  <a:lnTo>
                    <a:pt x="1365" y="297"/>
                  </a:lnTo>
                  <a:lnTo>
                    <a:pt x="1355" y="292"/>
                  </a:lnTo>
                  <a:close/>
                  <a:moveTo>
                    <a:pt x="1667" y="267"/>
                  </a:moveTo>
                  <a:lnTo>
                    <a:pt x="1662" y="262"/>
                  </a:lnTo>
                  <a:lnTo>
                    <a:pt x="1657" y="257"/>
                  </a:lnTo>
                  <a:lnTo>
                    <a:pt x="1652" y="252"/>
                  </a:lnTo>
                  <a:lnTo>
                    <a:pt x="1647" y="252"/>
                  </a:lnTo>
                  <a:lnTo>
                    <a:pt x="1642" y="247"/>
                  </a:lnTo>
                  <a:lnTo>
                    <a:pt x="1637" y="243"/>
                  </a:lnTo>
                  <a:lnTo>
                    <a:pt x="1632" y="238"/>
                  </a:lnTo>
                  <a:lnTo>
                    <a:pt x="1627" y="233"/>
                  </a:lnTo>
                  <a:lnTo>
                    <a:pt x="1622" y="228"/>
                  </a:lnTo>
                  <a:lnTo>
                    <a:pt x="1617" y="228"/>
                  </a:lnTo>
                  <a:lnTo>
                    <a:pt x="1607" y="228"/>
                  </a:lnTo>
                  <a:lnTo>
                    <a:pt x="1598" y="228"/>
                  </a:lnTo>
                  <a:lnTo>
                    <a:pt x="1588" y="228"/>
                  </a:lnTo>
                  <a:lnTo>
                    <a:pt x="1583" y="228"/>
                  </a:lnTo>
                  <a:lnTo>
                    <a:pt x="1573" y="223"/>
                  </a:lnTo>
                  <a:lnTo>
                    <a:pt x="1568" y="228"/>
                  </a:lnTo>
                  <a:lnTo>
                    <a:pt x="1563" y="233"/>
                  </a:lnTo>
                  <a:lnTo>
                    <a:pt x="1558" y="238"/>
                  </a:lnTo>
                  <a:lnTo>
                    <a:pt x="1553" y="243"/>
                  </a:lnTo>
                  <a:lnTo>
                    <a:pt x="1548" y="247"/>
                  </a:lnTo>
                  <a:lnTo>
                    <a:pt x="1543" y="247"/>
                  </a:lnTo>
                  <a:lnTo>
                    <a:pt x="1533" y="252"/>
                  </a:lnTo>
                  <a:lnTo>
                    <a:pt x="1528" y="252"/>
                  </a:lnTo>
                  <a:lnTo>
                    <a:pt x="1518" y="252"/>
                  </a:lnTo>
                  <a:lnTo>
                    <a:pt x="1508" y="252"/>
                  </a:lnTo>
                  <a:lnTo>
                    <a:pt x="1504" y="252"/>
                  </a:lnTo>
                  <a:lnTo>
                    <a:pt x="1499" y="247"/>
                  </a:lnTo>
                  <a:lnTo>
                    <a:pt x="1494" y="243"/>
                  </a:lnTo>
                  <a:lnTo>
                    <a:pt x="1494" y="233"/>
                  </a:lnTo>
                  <a:lnTo>
                    <a:pt x="1499" y="228"/>
                  </a:lnTo>
                  <a:lnTo>
                    <a:pt x="1504" y="223"/>
                  </a:lnTo>
                  <a:lnTo>
                    <a:pt x="1513" y="223"/>
                  </a:lnTo>
                  <a:lnTo>
                    <a:pt x="1518" y="223"/>
                  </a:lnTo>
                  <a:lnTo>
                    <a:pt x="1528" y="223"/>
                  </a:lnTo>
                  <a:lnTo>
                    <a:pt x="1538" y="228"/>
                  </a:lnTo>
                  <a:lnTo>
                    <a:pt x="1543" y="223"/>
                  </a:lnTo>
                  <a:lnTo>
                    <a:pt x="1548" y="223"/>
                  </a:lnTo>
                  <a:lnTo>
                    <a:pt x="1553" y="218"/>
                  </a:lnTo>
                  <a:lnTo>
                    <a:pt x="1558" y="213"/>
                  </a:lnTo>
                  <a:lnTo>
                    <a:pt x="1563" y="203"/>
                  </a:lnTo>
                  <a:lnTo>
                    <a:pt x="1563" y="198"/>
                  </a:lnTo>
                  <a:lnTo>
                    <a:pt x="1568" y="193"/>
                  </a:lnTo>
                  <a:lnTo>
                    <a:pt x="1573" y="193"/>
                  </a:lnTo>
                  <a:lnTo>
                    <a:pt x="1583" y="193"/>
                  </a:lnTo>
                  <a:lnTo>
                    <a:pt x="1593" y="193"/>
                  </a:lnTo>
                  <a:lnTo>
                    <a:pt x="1602" y="193"/>
                  </a:lnTo>
                  <a:lnTo>
                    <a:pt x="1607" y="193"/>
                  </a:lnTo>
                  <a:lnTo>
                    <a:pt x="1617" y="193"/>
                  </a:lnTo>
                  <a:lnTo>
                    <a:pt x="1622" y="193"/>
                  </a:lnTo>
                  <a:lnTo>
                    <a:pt x="1627" y="198"/>
                  </a:lnTo>
                  <a:lnTo>
                    <a:pt x="1632" y="203"/>
                  </a:lnTo>
                  <a:lnTo>
                    <a:pt x="1637" y="208"/>
                  </a:lnTo>
                  <a:lnTo>
                    <a:pt x="1642" y="213"/>
                  </a:lnTo>
                  <a:lnTo>
                    <a:pt x="1647" y="218"/>
                  </a:lnTo>
                  <a:lnTo>
                    <a:pt x="1652" y="223"/>
                  </a:lnTo>
                  <a:lnTo>
                    <a:pt x="1657" y="228"/>
                  </a:lnTo>
                  <a:lnTo>
                    <a:pt x="1662" y="233"/>
                  </a:lnTo>
                  <a:lnTo>
                    <a:pt x="1667" y="238"/>
                  </a:lnTo>
                  <a:lnTo>
                    <a:pt x="1667" y="243"/>
                  </a:lnTo>
                  <a:lnTo>
                    <a:pt x="1672" y="247"/>
                  </a:lnTo>
                  <a:lnTo>
                    <a:pt x="1672" y="252"/>
                  </a:lnTo>
                  <a:lnTo>
                    <a:pt x="1677" y="257"/>
                  </a:lnTo>
                  <a:lnTo>
                    <a:pt x="1687" y="262"/>
                  </a:lnTo>
                  <a:lnTo>
                    <a:pt x="1687" y="267"/>
                  </a:lnTo>
                  <a:lnTo>
                    <a:pt x="1687" y="272"/>
                  </a:lnTo>
                  <a:lnTo>
                    <a:pt x="1677" y="272"/>
                  </a:lnTo>
                  <a:lnTo>
                    <a:pt x="1672" y="272"/>
                  </a:lnTo>
                  <a:lnTo>
                    <a:pt x="1667" y="267"/>
                  </a:lnTo>
                  <a:close/>
                  <a:moveTo>
                    <a:pt x="1914" y="238"/>
                  </a:moveTo>
                  <a:lnTo>
                    <a:pt x="1914" y="233"/>
                  </a:lnTo>
                  <a:lnTo>
                    <a:pt x="1919" y="228"/>
                  </a:lnTo>
                  <a:lnTo>
                    <a:pt x="1919" y="223"/>
                  </a:lnTo>
                  <a:lnTo>
                    <a:pt x="1919" y="218"/>
                  </a:lnTo>
                  <a:lnTo>
                    <a:pt x="1919" y="213"/>
                  </a:lnTo>
                  <a:lnTo>
                    <a:pt x="1914" y="213"/>
                  </a:lnTo>
                  <a:lnTo>
                    <a:pt x="1909" y="208"/>
                  </a:lnTo>
                  <a:lnTo>
                    <a:pt x="1904" y="203"/>
                  </a:lnTo>
                  <a:lnTo>
                    <a:pt x="1894" y="203"/>
                  </a:lnTo>
                  <a:lnTo>
                    <a:pt x="1884" y="203"/>
                  </a:lnTo>
                  <a:lnTo>
                    <a:pt x="1879" y="208"/>
                  </a:lnTo>
                  <a:lnTo>
                    <a:pt x="1874" y="208"/>
                  </a:lnTo>
                  <a:lnTo>
                    <a:pt x="1870" y="213"/>
                  </a:lnTo>
                  <a:lnTo>
                    <a:pt x="1870" y="223"/>
                  </a:lnTo>
                  <a:lnTo>
                    <a:pt x="1865" y="223"/>
                  </a:lnTo>
                  <a:lnTo>
                    <a:pt x="1860" y="223"/>
                  </a:lnTo>
                  <a:lnTo>
                    <a:pt x="1850" y="223"/>
                  </a:lnTo>
                  <a:lnTo>
                    <a:pt x="1845" y="218"/>
                  </a:lnTo>
                  <a:lnTo>
                    <a:pt x="1845" y="213"/>
                  </a:lnTo>
                  <a:lnTo>
                    <a:pt x="1845" y="208"/>
                  </a:lnTo>
                  <a:lnTo>
                    <a:pt x="1855" y="203"/>
                  </a:lnTo>
                  <a:lnTo>
                    <a:pt x="1860" y="198"/>
                  </a:lnTo>
                  <a:lnTo>
                    <a:pt x="1865" y="193"/>
                  </a:lnTo>
                  <a:lnTo>
                    <a:pt x="1870" y="188"/>
                  </a:lnTo>
                  <a:lnTo>
                    <a:pt x="1870" y="183"/>
                  </a:lnTo>
                  <a:lnTo>
                    <a:pt x="1865" y="183"/>
                  </a:lnTo>
                  <a:lnTo>
                    <a:pt x="1855" y="178"/>
                  </a:lnTo>
                  <a:lnTo>
                    <a:pt x="1850" y="178"/>
                  </a:lnTo>
                  <a:lnTo>
                    <a:pt x="1840" y="178"/>
                  </a:lnTo>
                  <a:lnTo>
                    <a:pt x="1830" y="178"/>
                  </a:lnTo>
                  <a:lnTo>
                    <a:pt x="1825" y="178"/>
                  </a:lnTo>
                  <a:lnTo>
                    <a:pt x="1815" y="183"/>
                  </a:lnTo>
                  <a:lnTo>
                    <a:pt x="1810" y="188"/>
                  </a:lnTo>
                  <a:lnTo>
                    <a:pt x="1805" y="193"/>
                  </a:lnTo>
                  <a:lnTo>
                    <a:pt x="1800" y="193"/>
                  </a:lnTo>
                  <a:lnTo>
                    <a:pt x="1795" y="198"/>
                  </a:lnTo>
                  <a:lnTo>
                    <a:pt x="1790" y="203"/>
                  </a:lnTo>
                  <a:lnTo>
                    <a:pt x="1780" y="203"/>
                  </a:lnTo>
                  <a:lnTo>
                    <a:pt x="1776" y="198"/>
                  </a:lnTo>
                  <a:lnTo>
                    <a:pt x="1766" y="198"/>
                  </a:lnTo>
                  <a:lnTo>
                    <a:pt x="1761" y="193"/>
                  </a:lnTo>
                  <a:lnTo>
                    <a:pt x="1761" y="188"/>
                  </a:lnTo>
                  <a:lnTo>
                    <a:pt x="1761" y="183"/>
                  </a:lnTo>
                  <a:lnTo>
                    <a:pt x="1766" y="178"/>
                  </a:lnTo>
                  <a:lnTo>
                    <a:pt x="1776" y="173"/>
                  </a:lnTo>
                  <a:lnTo>
                    <a:pt x="1780" y="173"/>
                  </a:lnTo>
                  <a:lnTo>
                    <a:pt x="1790" y="173"/>
                  </a:lnTo>
                  <a:lnTo>
                    <a:pt x="1795" y="178"/>
                  </a:lnTo>
                  <a:lnTo>
                    <a:pt x="1805" y="183"/>
                  </a:lnTo>
                  <a:lnTo>
                    <a:pt x="1810" y="183"/>
                  </a:lnTo>
                  <a:lnTo>
                    <a:pt x="1815" y="178"/>
                  </a:lnTo>
                  <a:lnTo>
                    <a:pt x="1815" y="173"/>
                  </a:lnTo>
                  <a:lnTo>
                    <a:pt x="1815" y="168"/>
                  </a:lnTo>
                  <a:lnTo>
                    <a:pt x="1815" y="159"/>
                  </a:lnTo>
                  <a:lnTo>
                    <a:pt x="1810" y="159"/>
                  </a:lnTo>
                  <a:lnTo>
                    <a:pt x="1805" y="154"/>
                  </a:lnTo>
                  <a:lnTo>
                    <a:pt x="1795" y="154"/>
                  </a:lnTo>
                  <a:lnTo>
                    <a:pt x="1785" y="154"/>
                  </a:lnTo>
                  <a:lnTo>
                    <a:pt x="1780" y="154"/>
                  </a:lnTo>
                  <a:lnTo>
                    <a:pt x="1776" y="149"/>
                  </a:lnTo>
                  <a:lnTo>
                    <a:pt x="1771" y="144"/>
                  </a:lnTo>
                  <a:lnTo>
                    <a:pt x="1766" y="139"/>
                  </a:lnTo>
                  <a:lnTo>
                    <a:pt x="1761" y="134"/>
                  </a:lnTo>
                  <a:lnTo>
                    <a:pt x="1756" y="134"/>
                  </a:lnTo>
                  <a:lnTo>
                    <a:pt x="1751" y="129"/>
                  </a:lnTo>
                  <a:lnTo>
                    <a:pt x="1746" y="129"/>
                  </a:lnTo>
                  <a:lnTo>
                    <a:pt x="1736" y="129"/>
                  </a:lnTo>
                  <a:lnTo>
                    <a:pt x="1726" y="124"/>
                  </a:lnTo>
                  <a:lnTo>
                    <a:pt x="1721" y="124"/>
                  </a:lnTo>
                  <a:lnTo>
                    <a:pt x="1716" y="119"/>
                  </a:lnTo>
                  <a:lnTo>
                    <a:pt x="1711" y="114"/>
                  </a:lnTo>
                  <a:lnTo>
                    <a:pt x="1711" y="109"/>
                  </a:lnTo>
                  <a:lnTo>
                    <a:pt x="1706" y="104"/>
                  </a:lnTo>
                  <a:lnTo>
                    <a:pt x="1701" y="104"/>
                  </a:lnTo>
                  <a:lnTo>
                    <a:pt x="1691" y="99"/>
                  </a:lnTo>
                  <a:lnTo>
                    <a:pt x="1682" y="99"/>
                  </a:lnTo>
                  <a:lnTo>
                    <a:pt x="1677" y="99"/>
                  </a:lnTo>
                  <a:lnTo>
                    <a:pt x="1672" y="94"/>
                  </a:lnTo>
                  <a:lnTo>
                    <a:pt x="1667" y="94"/>
                  </a:lnTo>
                  <a:lnTo>
                    <a:pt x="1662" y="89"/>
                  </a:lnTo>
                  <a:lnTo>
                    <a:pt x="1657" y="84"/>
                  </a:lnTo>
                  <a:lnTo>
                    <a:pt x="1652" y="79"/>
                  </a:lnTo>
                  <a:lnTo>
                    <a:pt x="1647" y="74"/>
                  </a:lnTo>
                  <a:lnTo>
                    <a:pt x="1637" y="74"/>
                  </a:lnTo>
                  <a:lnTo>
                    <a:pt x="1632" y="74"/>
                  </a:lnTo>
                  <a:lnTo>
                    <a:pt x="1622" y="74"/>
                  </a:lnTo>
                  <a:lnTo>
                    <a:pt x="1617" y="74"/>
                  </a:lnTo>
                  <a:lnTo>
                    <a:pt x="1607" y="70"/>
                  </a:lnTo>
                  <a:lnTo>
                    <a:pt x="1602" y="65"/>
                  </a:lnTo>
                  <a:lnTo>
                    <a:pt x="1598" y="60"/>
                  </a:lnTo>
                  <a:lnTo>
                    <a:pt x="1598" y="55"/>
                  </a:lnTo>
                  <a:lnTo>
                    <a:pt x="1598" y="50"/>
                  </a:lnTo>
                  <a:lnTo>
                    <a:pt x="1602" y="45"/>
                  </a:lnTo>
                  <a:lnTo>
                    <a:pt x="1607" y="40"/>
                  </a:lnTo>
                  <a:lnTo>
                    <a:pt x="1612" y="40"/>
                  </a:lnTo>
                  <a:lnTo>
                    <a:pt x="1622" y="35"/>
                  </a:lnTo>
                  <a:lnTo>
                    <a:pt x="1627" y="35"/>
                  </a:lnTo>
                  <a:lnTo>
                    <a:pt x="1637" y="30"/>
                  </a:lnTo>
                  <a:lnTo>
                    <a:pt x="1642" y="30"/>
                  </a:lnTo>
                  <a:lnTo>
                    <a:pt x="1652" y="30"/>
                  </a:lnTo>
                  <a:lnTo>
                    <a:pt x="1657" y="35"/>
                  </a:lnTo>
                  <a:lnTo>
                    <a:pt x="1667" y="35"/>
                  </a:lnTo>
                  <a:lnTo>
                    <a:pt x="1672" y="35"/>
                  </a:lnTo>
                  <a:lnTo>
                    <a:pt x="1682" y="40"/>
                  </a:lnTo>
                  <a:lnTo>
                    <a:pt x="1687" y="45"/>
                  </a:lnTo>
                  <a:lnTo>
                    <a:pt x="1691" y="50"/>
                  </a:lnTo>
                  <a:lnTo>
                    <a:pt x="1696" y="50"/>
                  </a:lnTo>
                  <a:lnTo>
                    <a:pt x="1701" y="55"/>
                  </a:lnTo>
                  <a:lnTo>
                    <a:pt x="1706" y="55"/>
                  </a:lnTo>
                  <a:lnTo>
                    <a:pt x="1716" y="55"/>
                  </a:lnTo>
                  <a:lnTo>
                    <a:pt x="1721" y="60"/>
                  </a:lnTo>
                  <a:lnTo>
                    <a:pt x="1731" y="60"/>
                  </a:lnTo>
                  <a:lnTo>
                    <a:pt x="1741" y="60"/>
                  </a:lnTo>
                  <a:lnTo>
                    <a:pt x="1746" y="60"/>
                  </a:lnTo>
                  <a:lnTo>
                    <a:pt x="1756" y="60"/>
                  </a:lnTo>
                  <a:lnTo>
                    <a:pt x="1761" y="60"/>
                  </a:lnTo>
                  <a:lnTo>
                    <a:pt x="1771" y="60"/>
                  </a:lnTo>
                  <a:lnTo>
                    <a:pt x="1776" y="65"/>
                  </a:lnTo>
                  <a:lnTo>
                    <a:pt x="1785" y="65"/>
                  </a:lnTo>
                  <a:lnTo>
                    <a:pt x="1790" y="70"/>
                  </a:lnTo>
                  <a:lnTo>
                    <a:pt x="1795" y="74"/>
                  </a:lnTo>
                  <a:lnTo>
                    <a:pt x="1800" y="79"/>
                  </a:lnTo>
                  <a:lnTo>
                    <a:pt x="1805" y="79"/>
                  </a:lnTo>
                  <a:lnTo>
                    <a:pt x="1810" y="84"/>
                  </a:lnTo>
                  <a:lnTo>
                    <a:pt x="1820" y="84"/>
                  </a:lnTo>
                  <a:lnTo>
                    <a:pt x="1825" y="84"/>
                  </a:lnTo>
                  <a:lnTo>
                    <a:pt x="1835" y="84"/>
                  </a:lnTo>
                  <a:lnTo>
                    <a:pt x="1840" y="89"/>
                  </a:lnTo>
                  <a:lnTo>
                    <a:pt x="1850" y="89"/>
                  </a:lnTo>
                  <a:lnTo>
                    <a:pt x="1860" y="89"/>
                  </a:lnTo>
                  <a:lnTo>
                    <a:pt x="1865" y="89"/>
                  </a:lnTo>
                  <a:lnTo>
                    <a:pt x="1874" y="89"/>
                  </a:lnTo>
                  <a:lnTo>
                    <a:pt x="1879" y="89"/>
                  </a:lnTo>
                  <a:lnTo>
                    <a:pt x="1889" y="94"/>
                  </a:lnTo>
                  <a:lnTo>
                    <a:pt x="1894" y="94"/>
                  </a:lnTo>
                  <a:lnTo>
                    <a:pt x="1899" y="99"/>
                  </a:lnTo>
                  <a:lnTo>
                    <a:pt x="1904" y="104"/>
                  </a:lnTo>
                  <a:lnTo>
                    <a:pt x="1909" y="109"/>
                  </a:lnTo>
                  <a:lnTo>
                    <a:pt x="1914" y="114"/>
                  </a:lnTo>
                  <a:lnTo>
                    <a:pt x="1919" y="114"/>
                  </a:lnTo>
                  <a:lnTo>
                    <a:pt x="1924" y="114"/>
                  </a:lnTo>
                  <a:lnTo>
                    <a:pt x="1934" y="119"/>
                  </a:lnTo>
                  <a:lnTo>
                    <a:pt x="1944" y="119"/>
                  </a:lnTo>
                  <a:lnTo>
                    <a:pt x="1949" y="119"/>
                  </a:lnTo>
                  <a:lnTo>
                    <a:pt x="1959" y="119"/>
                  </a:lnTo>
                  <a:lnTo>
                    <a:pt x="1963" y="119"/>
                  </a:lnTo>
                  <a:lnTo>
                    <a:pt x="1973" y="119"/>
                  </a:lnTo>
                  <a:lnTo>
                    <a:pt x="1983" y="119"/>
                  </a:lnTo>
                  <a:lnTo>
                    <a:pt x="1988" y="119"/>
                  </a:lnTo>
                  <a:lnTo>
                    <a:pt x="1998" y="119"/>
                  </a:lnTo>
                  <a:lnTo>
                    <a:pt x="2003" y="124"/>
                  </a:lnTo>
                  <a:lnTo>
                    <a:pt x="2008" y="129"/>
                  </a:lnTo>
                  <a:lnTo>
                    <a:pt x="2008" y="134"/>
                  </a:lnTo>
                  <a:lnTo>
                    <a:pt x="2013" y="139"/>
                  </a:lnTo>
                  <a:lnTo>
                    <a:pt x="2013" y="144"/>
                  </a:lnTo>
                  <a:lnTo>
                    <a:pt x="2018" y="149"/>
                  </a:lnTo>
                  <a:lnTo>
                    <a:pt x="2023" y="149"/>
                  </a:lnTo>
                  <a:lnTo>
                    <a:pt x="2033" y="154"/>
                  </a:lnTo>
                  <a:lnTo>
                    <a:pt x="2043" y="154"/>
                  </a:lnTo>
                  <a:lnTo>
                    <a:pt x="2048" y="154"/>
                  </a:lnTo>
                  <a:lnTo>
                    <a:pt x="2057" y="154"/>
                  </a:lnTo>
                  <a:lnTo>
                    <a:pt x="2062" y="159"/>
                  </a:lnTo>
                  <a:lnTo>
                    <a:pt x="2072" y="159"/>
                  </a:lnTo>
                  <a:lnTo>
                    <a:pt x="2077" y="159"/>
                  </a:lnTo>
                  <a:lnTo>
                    <a:pt x="2077" y="163"/>
                  </a:lnTo>
                  <a:lnTo>
                    <a:pt x="2072" y="168"/>
                  </a:lnTo>
                  <a:lnTo>
                    <a:pt x="2067" y="173"/>
                  </a:lnTo>
                  <a:lnTo>
                    <a:pt x="2067" y="178"/>
                  </a:lnTo>
                  <a:lnTo>
                    <a:pt x="2062" y="183"/>
                  </a:lnTo>
                  <a:lnTo>
                    <a:pt x="2062" y="188"/>
                  </a:lnTo>
                  <a:lnTo>
                    <a:pt x="2057" y="193"/>
                  </a:lnTo>
                  <a:lnTo>
                    <a:pt x="2057" y="198"/>
                  </a:lnTo>
                  <a:lnTo>
                    <a:pt x="2052" y="203"/>
                  </a:lnTo>
                  <a:lnTo>
                    <a:pt x="2048" y="208"/>
                  </a:lnTo>
                  <a:lnTo>
                    <a:pt x="2048" y="213"/>
                  </a:lnTo>
                  <a:lnTo>
                    <a:pt x="2043" y="218"/>
                  </a:lnTo>
                  <a:lnTo>
                    <a:pt x="2038" y="218"/>
                  </a:lnTo>
                  <a:lnTo>
                    <a:pt x="2038" y="223"/>
                  </a:lnTo>
                  <a:lnTo>
                    <a:pt x="2033" y="228"/>
                  </a:lnTo>
                  <a:lnTo>
                    <a:pt x="2033" y="233"/>
                  </a:lnTo>
                  <a:lnTo>
                    <a:pt x="2028" y="238"/>
                  </a:lnTo>
                  <a:lnTo>
                    <a:pt x="2028" y="243"/>
                  </a:lnTo>
                  <a:lnTo>
                    <a:pt x="2023" y="247"/>
                  </a:lnTo>
                  <a:lnTo>
                    <a:pt x="2018" y="252"/>
                  </a:lnTo>
                  <a:lnTo>
                    <a:pt x="2008" y="247"/>
                  </a:lnTo>
                  <a:lnTo>
                    <a:pt x="2003" y="247"/>
                  </a:lnTo>
                  <a:lnTo>
                    <a:pt x="1993" y="247"/>
                  </a:lnTo>
                  <a:lnTo>
                    <a:pt x="1983" y="247"/>
                  </a:lnTo>
                  <a:lnTo>
                    <a:pt x="1973" y="247"/>
                  </a:lnTo>
                  <a:lnTo>
                    <a:pt x="1968" y="247"/>
                  </a:lnTo>
                  <a:lnTo>
                    <a:pt x="1963" y="243"/>
                  </a:lnTo>
                  <a:lnTo>
                    <a:pt x="1959" y="238"/>
                  </a:lnTo>
                  <a:lnTo>
                    <a:pt x="1954" y="233"/>
                  </a:lnTo>
                  <a:lnTo>
                    <a:pt x="1949" y="228"/>
                  </a:lnTo>
                  <a:lnTo>
                    <a:pt x="1944" y="228"/>
                  </a:lnTo>
                  <a:lnTo>
                    <a:pt x="1939" y="228"/>
                  </a:lnTo>
                  <a:lnTo>
                    <a:pt x="1929" y="228"/>
                  </a:lnTo>
                  <a:lnTo>
                    <a:pt x="1924" y="233"/>
                  </a:lnTo>
                  <a:lnTo>
                    <a:pt x="1919" y="238"/>
                  </a:lnTo>
                  <a:lnTo>
                    <a:pt x="1914" y="238"/>
                  </a:lnTo>
                  <a:close/>
                  <a:moveTo>
                    <a:pt x="1365" y="213"/>
                  </a:moveTo>
                  <a:lnTo>
                    <a:pt x="1370" y="203"/>
                  </a:lnTo>
                  <a:lnTo>
                    <a:pt x="1375" y="198"/>
                  </a:lnTo>
                  <a:lnTo>
                    <a:pt x="1380" y="198"/>
                  </a:lnTo>
                  <a:lnTo>
                    <a:pt x="1385" y="198"/>
                  </a:lnTo>
                  <a:lnTo>
                    <a:pt x="1395" y="203"/>
                  </a:lnTo>
                  <a:lnTo>
                    <a:pt x="1400" y="208"/>
                  </a:lnTo>
                  <a:lnTo>
                    <a:pt x="1405" y="213"/>
                  </a:lnTo>
                  <a:lnTo>
                    <a:pt x="1400" y="218"/>
                  </a:lnTo>
                  <a:lnTo>
                    <a:pt x="1395" y="223"/>
                  </a:lnTo>
                  <a:lnTo>
                    <a:pt x="1390" y="228"/>
                  </a:lnTo>
                  <a:lnTo>
                    <a:pt x="1380" y="228"/>
                  </a:lnTo>
                  <a:lnTo>
                    <a:pt x="1375" y="228"/>
                  </a:lnTo>
                  <a:lnTo>
                    <a:pt x="1370" y="223"/>
                  </a:lnTo>
                  <a:lnTo>
                    <a:pt x="1365" y="213"/>
                  </a:lnTo>
                  <a:close/>
                  <a:moveTo>
                    <a:pt x="1009" y="188"/>
                  </a:moveTo>
                  <a:lnTo>
                    <a:pt x="1009" y="183"/>
                  </a:lnTo>
                  <a:lnTo>
                    <a:pt x="1009" y="183"/>
                  </a:lnTo>
                  <a:lnTo>
                    <a:pt x="1009" y="183"/>
                  </a:lnTo>
                  <a:lnTo>
                    <a:pt x="1009" y="183"/>
                  </a:lnTo>
                  <a:lnTo>
                    <a:pt x="1014" y="183"/>
                  </a:lnTo>
                  <a:lnTo>
                    <a:pt x="1014" y="183"/>
                  </a:lnTo>
                  <a:lnTo>
                    <a:pt x="1014" y="188"/>
                  </a:lnTo>
                  <a:lnTo>
                    <a:pt x="1014" y="188"/>
                  </a:lnTo>
                  <a:lnTo>
                    <a:pt x="1009" y="188"/>
                  </a:lnTo>
                  <a:lnTo>
                    <a:pt x="1009" y="188"/>
                  </a:lnTo>
                  <a:lnTo>
                    <a:pt x="1009" y="188"/>
                  </a:lnTo>
                  <a:lnTo>
                    <a:pt x="1009" y="188"/>
                  </a:lnTo>
                  <a:lnTo>
                    <a:pt x="1009" y="188"/>
                  </a:lnTo>
                  <a:lnTo>
                    <a:pt x="1009" y="188"/>
                  </a:lnTo>
                  <a:close/>
                  <a:moveTo>
                    <a:pt x="1202" y="188"/>
                  </a:moveTo>
                  <a:lnTo>
                    <a:pt x="1212" y="183"/>
                  </a:lnTo>
                  <a:lnTo>
                    <a:pt x="1217" y="178"/>
                  </a:lnTo>
                  <a:lnTo>
                    <a:pt x="1222" y="178"/>
                  </a:lnTo>
                  <a:lnTo>
                    <a:pt x="1222" y="178"/>
                  </a:lnTo>
                  <a:lnTo>
                    <a:pt x="1227" y="183"/>
                  </a:lnTo>
                  <a:lnTo>
                    <a:pt x="1232" y="183"/>
                  </a:lnTo>
                  <a:lnTo>
                    <a:pt x="1232" y="188"/>
                  </a:lnTo>
                  <a:lnTo>
                    <a:pt x="1227" y="193"/>
                  </a:lnTo>
                  <a:lnTo>
                    <a:pt x="1227" y="198"/>
                  </a:lnTo>
                  <a:lnTo>
                    <a:pt x="1222" y="198"/>
                  </a:lnTo>
                  <a:lnTo>
                    <a:pt x="1217" y="198"/>
                  </a:lnTo>
                  <a:lnTo>
                    <a:pt x="1212" y="193"/>
                  </a:lnTo>
                  <a:lnTo>
                    <a:pt x="1207" y="193"/>
                  </a:lnTo>
                  <a:lnTo>
                    <a:pt x="1202" y="188"/>
                  </a:lnTo>
                  <a:close/>
                  <a:moveTo>
                    <a:pt x="1439" y="188"/>
                  </a:moveTo>
                  <a:lnTo>
                    <a:pt x="1444" y="178"/>
                  </a:lnTo>
                  <a:lnTo>
                    <a:pt x="1449" y="173"/>
                  </a:lnTo>
                  <a:lnTo>
                    <a:pt x="1459" y="173"/>
                  </a:lnTo>
                  <a:lnTo>
                    <a:pt x="1469" y="173"/>
                  </a:lnTo>
                  <a:lnTo>
                    <a:pt x="1479" y="178"/>
                  </a:lnTo>
                  <a:lnTo>
                    <a:pt x="1484" y="183"/>
                  </a:lnTo>
                  <a:lnTo>
                    <a:pt x="1489" y="188"/>
                  </a:lnTo>
                  <a:lnTo>
                    <a:pt x="1484" y="193"/>
                  </a:lnTo>
                  <a:lnTo>
                    <a:pt x="1474" y="198"/>
                  </a:lnTo>
                  <a:lnTo>
                    <a:pt x="1464" y="203"/>
                  </a:lnTo>
                  <a:lnTo>
                    <a:pt x="1459" y="203"/>
                  </a:lnTo>
                  <a:lnTo>
                    <a:pt x="1449" y="203"/>
                  </a:lnTo>
                  <a:lnTo>
                    <a:pt x="1444" y="193"/>
                  </a:lnTo>
                  <a:lnTo>
                    <a:pt x="1439" y="188"/>
                  </a:lnTo>
                  <a:close/>
                  <a:moveTo>
                    <a:pt x="1281" y="159"/>
                  </a:moveTo>
                  <a:lnTo>
                    <a:pt x="1286" y="149"/>
                  </a:lnTo>
                  <a:lnTo>
                    <a:pt x="1296" y="144"/>
                  </a:lnTo>
                  <a:lnTo>
                    <a:pt x="1301" y="144"/>
                  </a:lnTo>
                  <a:lnTo>
                    <a:pt x="1306" y="144"/>
                  </a:lnTo>
                  <a:lnTo>
                    <a:pt x="1316" y="149"/>
                  </a:lnTo>
                  <a:lnTo>
                    <a:pt x="1321" y="154"/>
                  </a:lnTo>
                  <a:lnTo>
                    <a:pt x="1321" y="163"/>
                  </a:lnTo>
                  <a:lnTo>
                    <a:pt x="1316" y="168"/>
                  </a:lnTo>
                  <a:lnTo>
                    <a:pt x="1311" y="178"/>
                  </a:lnTo>
                  <a:lnTo>
                    <a:pt x="1306" y="178"/>
                  </a:lnTo>
                  <a:lnTo>
                    <a:pt x="1296" y="178"/>
                  </a:lnTo>
                  <a:lnTo>
                    <a:pt x="1291" y="178"/>
                  </a:lnTo>
                  <a:lnTo>
                    <a:pt x="1286" y="168"/>
                  </a:lnTo>
                  <a:lnTo>
                    <a:pt x="1281" y="159"/>
                  </a:lnTo>
                  <a:close/>
                  <a:moveTo>
                    <a:pt x="1494" y="159"/>
                  </a:moveTo>
                  <a:lnTo>
                    <a:pt x="1499" y="154"/>
                  </a:lnTo>
                  <a:lnTo>
                    <a:pt x="1504" y="149"/>
                  </a:lnTo>
                  <a:lnTo>
                    <a:pt x="1508" y="144"/>
                  </a:lnTo>
                  <a:lnTo>
                    <a:pt x="1518" y="144"/>
                  </a:lnTo>
                  <a:lnTo>
                    <a:pt x="1523" y="144"/>
                  </a:lnTo>
                  <a:lnTo>
                    <a:pt x="1533" y="144"/>
                  </a:lnTo>
                  <a:lnTo>
                    <a:pt x="1543" y="144"/>
                  </a:lnTo>
                  <a:lnTo>
                    <a:pt x="1553" y="144"/>
                  </a:lnTo>
                  <a:lnTo>
                    <a:pt x="1558" y="139"/>
                  </a:lnTo>
                  <a:lnTo>
                    <a:pt x="1563" y="134"/>
                  </a:lnTo>
                  <a:lnTo>
                    <a:pt x="1568" y="129"/>
                  </a:lnTo>
                  <a:lnTo>
                    <a:pt x="1573" y="124"/>
                  </a:lnTo>
                  <a:lnTo>
                    <a:pt x="1578" y="119"/>
                  </a:lnTo>
                  <a:lnTo>
                    <a:pt x="1588" y="114"/>
                  </a:lnTo>
                  <a:lnTo>
                    <a:pt x="1593" y="114"/>
                  </a:lnTo>
                  <a:lnTo>
                    <a:pt x="1602" y="114"/>
                  </a:lnTo>
                  <a:lnTo>
                    <a:pt x="1612" y="109"/>
                  </a:lnTo>
                  <a:lnTo>
                    <a:pt x="1622" y="109"/>
                  </a:lnTo>
                  <a:lnTo>
                    <a:pt x="1627" y="109"/>
                  </a:lnTo>
                  <a:lnTo>
                    <a:pt x="1637" y="109"/>
                  </a:lnTo>
                  <a:lnTo>
                    <a:pt x="1647" y="109"/>
                  </a:lnTo>
                  <a:lnTo>
                    <a:pt x="1657" y="109"/>
                  </a:lnTo>
                  <a:lnTo>
                    <a:pt x="1662" y="114"/>
                  </a:lnTo>
                  <a:lnTo>
                    <a:pt x="1672" y="114"/>
                  </a:lnTo>
                  <a:lnTo>
                    <a:pt x="1682" y="119"/>
                  </a:lnTo>
                  <a:lnTo>
                    <a:pt x="1687" y="119"/>
                  </a:lnTo>
                  <a:lnTo>
                    <a:pt x="1691" y="124"/>
                  </a:lnTo>
                  <a:lnTo>
                    <a:pt x="1696" y="129"/>
                  </a:lnTo>
                  <a:lnTo>
                    <a:pt x="1696" y="139"/>
                  </a:lnTo>
                  <a:lnTo>
                    <a:pt x="1701" y="144"/>
                  </a:lnTo>
                  <a:lnTo>
                    <a:pt x="1706" y="144"/>
                  </a:lnTo>
                  <a:lnTo>
                    <a:pt x="1716" y="144"/>
                  </a:lnTo>
                  <a:lnTo>
                    <a:pt x="1726" y="139"/>
                  </a:lnTo>
                  <a:lnTo>
                    <a:pt x="1736" y="144"/>
                  </a:lnTo>
                  <a:lnTo>
                    <a:pt x="1746" y="144"/>
                  </a:lnTo>
                  <a:lnTo>
                    <a:pt x="1751" y="149"/>
                  </a:lnTo>
                  <a:lnTo>
                    <a:pt x="1751" y="159"/>
                  </a:lnTo>
                  <a:lnTo>
                    <a:pt x="1751" y="163"/>
                  </a:lnTo>
                  <a:lnTo>
                    <a:pt x="1751" y="168"/>
                  </a:lnTo>
                  <a:lnTo>
                    <a:pt x="1741" y="173"/>
                  </a:lnTo>
                  <a:lnTo>
                    <a:pt x="1736" y="178"/>
                  </a:lnTo>
                  <a:lnTo>
                    <a:pt x="1726" y="178"/>
                  </a:lnTo>
                  <a:lnTo>
                    <a:pt x="1716" y="178"/>
                  </a:lnTo>
                  <a:lnTo>
                    <a:pt x="1711" y="178"/>
                  </a:lnTo>
                  <a:lnTo>
                    <a:pt x="1701" y="173"/>
                  </a:lnTo>
                  <a:lnTo>
                    <a:pt x="1696" y="168"/>
                  </a:lnTo>
                  <a:lnTo>
                    <a:pt x="1691" y="163"/>
                  </a:lnTo>
                  <a:lnTo>
                    <a:pt x="1687" y="159"/>
                  </a:lnTo>
                  <a:lnTo>
                    <a:pt x="1677" y="159"/>
                  </a:lnTo>
                  <a:lnTo>
                    <a:pt x="1672" y="154"/>
                  </a:lnTo>
                  <a:lnTo>
                    <a:pt x="1662" y="154"/>
                  </a:lnTo>
                  <a:lnTo>
                    <a:pt x="1652" y="154"/>
                  </a:lnTo>
                  <a:lnTo>
                    <a:pt x="1642" y="154"/>
                  </a:lnTo>
                  <a:lnTo>
                    <a:pt x="1637" y="154"/>
                  </a:lnTo>
                  <a:lnTo>
                    <a:pt x="1627" y="159"/>
                  </a:lnTo>
                  <a:lnTo>
                    <a:pt x="1617" y="159"/>
                  </a:lnTo>
                  <a:lnTo>
                    <a:pt x="1612" y="154"/>
                  </a:lnTo>
                  <a:lnTo>
                    <a:pt x="1602" y="154"/>
                  </a:lnTo>
                  <a:lnTo>
                    <a:pt x="1593" y="154"/>
                  </a:lnTo>
                  <a:lnTo>
                    <a:pt x="1583" y="154"/>
                  </a:lnTo>
                  <a:lnTo>
                    <a:pt x="1573" y="159"/>
                  </a:lnTo>
                  <a:lnTo>
                    <a:pt x="1568" y="163"/>
                  </a:lnTo>
                  <a:lnTo>
                    <a:pt x="1568" y="168"/>
                  </a:lnTo>
                  <a:lnTo>
                    <a:pt x="1563" y="173"/>
                  </a:lnTo>
                  <a:lnTo>
                    <a:pt x="1558" y="178"/>
                  </a:lnTo>
                  <a:lnTo>
                    <a:pt x="1548" y="178"/>
                  </a:lnTo>
                  <a:lnTo>
                    <a:pt x="1538" y="178"/>
                  </a:lnTo>
                  <a:lnTo>
                    <a:pt x="1528" y="183"/>
                  </a:lnTo>
                  <a:lnTo>
                    <a:pt x="1523" y="178"/>
                  </a:lnTo>
                  <a:lnTo>
                    <a:pt x="1513" y="178"/>
                  </a:lnTo>
                  <a:lnTo>
                    <a:pt x="1508" y="173"/>
                  </a:lnTo>
                  <a:lnTo>
                    <a:pt x="1499" y="173"/>
                  </a:lnTo>
                  <a:lnTo>
                    <a:pt x="1499" y="168"/>
                  </a:lnTo>
                  <a:lnTo>
                    <a:pt x="1494" y="159"/>
                  </a:lnTo>
                  <a:close/>
                  <a:moveTo>
                    <a:pt x="1360" y="134"/>
                  </a:moveTo>
                  <a:lnTo>
                    <a:pt x="1365" y="124"/>
                  </a:lnTo>
                  <a:lnTo>
                    <a:pt x="1370" y="119"/>
                  </a:lnTo>
                  <a:lnTo>
                    <a:pt x="1375" y="114"/>
                  </a:lnTo>
                  <a:lnTo>
                    <a:pt x="1385" y="114"/>
                  </a:lnTo>
                  <a:lnTo>
                    <a:pt x="1395" y="114"/>
                  </a:lnTo>
                  <a:lnTo>
                    <a:pt x="1405" y="119"/>
                  </a:lnTo>
                  <a:lnTo>
                    <a:pt x="1415" y="119"/>
                  </a:lnTo>
                  <a:lnTo>
                    <a:pt x="1419" y="124"/>
                  </a:lnTo>
                  <a:lnTo>
                    <a:pt x="1424" y="129"/>
                  </a:lnTo>
                  <a:lnTo>
                    <a:pt x="1424" y="134"/>
                  </a:lnTo>
                  <a:lnTo>
                    <a:pt x="1419" y="139"/>
                  </a:lnTo>
                  <a:lnTo>
                    <a:pt x="1415" y="144"/>
                  </a:lnTo>
                  <a:lnTo>
                    <a:pt x="1405" y="149"/>
                  </a:lnTo>
                  <a:lnTo>
                    <a:pt x="1395" y="154"/>
                  </a:lnTo>
                  <a:lnTo>
                    <a:pt x="1390" y="154"/>
                  </a:lnTo>
                  <a:lnTo>
                    <a:pt x="1380" y="154"/>
                  </a:lnTo>
                  <a:lnTo>
                    <a:pt x="1375" y="154"/>
                  </a:lnTo>
                  <a:lnTo>
                    <a:pt x="1370" y="149"/>
                  </a:lnTo>
                  <a:lnTo>
                    <a:pt x="1365" y="144"/>
                  </a:lnTo>
                  <a:lnTo>
                    <a:pt x="1360" y="134"/>
                  </a:lnTo>
                  <a:close/>
                  <a:moveTo>
                    <a:pt x="1439" y="104"/>
                  </a:moveTo>
                  <a:lnTo>
                    <a:pt x="1444" y="99"/>
                  </a:lnTo>
                  <a:lnTo>
                    <a:pt x="1449" y="94"/>
                  </a:lnTo>
                  <a:lnTo>
                    <a:pt x="1459" y="89"/>
                  </a:lnTo>
                  <a:lnTo>
                    <a:pt x="1469" y="84"/>
                  </a:lnTo>
                  <a:lnTo>
                    <a:pt x="1479" y="84"/>
                  </a:lnTo>
                  <a:lnTo>
                    <a:pt x="1489" y="84"/>
                  </a:lnTo>
                  <a:lnTo>
                    <a:pt x="1499" y="89"/>
                  </a:lnTo>
                  <a:lnTo>
                    <a:pt x="1508" y="94"/>
                  </a:lnTo>
                  <a:lnTo>
                    <a:pt x="1513" y="104"/>
                  </a:lnTo>
                  <a:lnTo>
                    <a:pt x="1513" y="109"/>
                  </a:lnTo>
                  <a:lnTo>
                    <a:pt x="1508" y="114"/>
                  </a:lnTo>
                  <a:lnTo>
                    <a:pt x="1504" y="124"/>
                  </a:lnTo>
                  <a:lnTo>
                    <a:pt x="1494" y="129"/>
                  </a:lnTo>
                  <a:lnTo>
                    <a:pt x="1484" y="129"/>
                  </a:lnTo>
                  <a:lnTo>
                    <a:pt x="1474" y="134"/>
                  </a:lnTo>
                  <a:lnTo>
                    <a:pt x="1464" y="129"/>
                  </a:lnTo>
                  <a:lnTo>
                    <a:pt x="1454" y="129"/>
                  </a:lnTo>
                  <a:lnTo>
                    <a:pt x="1449" y="124"/>
                  </a:lnTo>
                  <a:lnTo>
                    <a:pt x="1444" y="114"/>
                  </a:lnTo>
                  <a:lnTo>
                    <a:pt x="1439" y="104"/>
                  </a:lnTo>
                  <a:close/>
                  <a:moveTo>
                    <a:pt x="1518" y="79"/>
                  </a:moveTo>
                  <a:lnTo>
                    <a:pt x="1523" y="74"/>
                  </a:lnTo>
                  <a:lnTo>
                    <a:pt x="1533" y="65"/>
                  </a:lnTo>
                  <a:lnTo>
                    <a:pt x="1538" y="60"/>
                  </a:lnTo>
                  <a:lnTo>
                    <a:pt x="1548" y="60"/>
                  </a:lnTo>
                  <a:lnTo>
                    <a:pt x="1558" y="60"/>
                  </a:lnTo>
                  <a:lnTo>
                    <a:pt x="1573" y="60"/>
                  </a:lnTo>
                  <a:lnTo>
                    <a:pt x="1583" y="65"/>
                  </a:lnTo>
                  <a:lnTo>
                    <a:pt x="1588" y="70"/>
                  </a:lnTo>
                  <a:lnTo>
                    <a:pt x="1593" y="74"/>
                  </a:lnTo>
                  <a:lnTo>
                    <a:pt x="1593" y="84"/>
                  </a:lnTo>
                  <a:lnTo>
                    <a:pt x="1593" y="89"/>
                  </a:lnTo>
                  <a:lnTo>
                    <a:pt x="1583" y="94"/>
                  </a:lnTo>
                  <a:lnTo>
                    <a:pt x="1573" y="99"/>
                  </a:lnTo>
                  <a:lnTo>
                    <a:pt x="1563" y="104"/>
                  </a:lnTo>
                  <a:lnTo>
                    <a:pt x="1553" y="104"/>
                  </a:lnTo>
                  <a:lnTo>
                    <a:pt x="1543" y="104"/>
                  </a:lnTo>
                  <a:lnTo>
                    <a:pt x="1533" y="99"/>
                  </a:lnTo>
                  <a:lnTo>
                    <a:pt x="1528" y="94"/>
                  </a:lnTo>
                  <a:lnTo>
                    <a:pt x="1523" y="89"/>
                  </a:lnTo>
                  <a:lnTo>
                    <a:pt x="1518" y="79"/>
                  </a:lnTo>
                  <a:close/>
                </a:path>
              </a:pathLst>
            </a:custGeom>
            <a:solidFill>
              <a:srgbClr val="ffc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0" name=""/>
            <p:cNvSpPr/>
            <p:nvPr/>
          </p:nvSpPr>
          <p:spPr>
            <a:xfrm>
              <a:off x="2265120" y="2368440"/>
              <a:ext cx="4098960" cy="2628360"/>
            </a:xfrm>
            <a:custGeom>
              <a:avLst/>
              <a:gdLst/>
              <a:ahLst/>
              <a:rect l="l" t="t" r="r" b="b"/>
              <a:pathLst>
                <a:path w="2582" h="1656">
                  <a:moveTo>
                    <a:pt x="2235" y="1656"/>
                  </a:moveTo>
                  <a:lnTo>
                    <a:pt x="2260" y="1631"/>
                  </a:lnTo>
                  <a:lnTo>
                    <a:pt x="2285" y="1631"/>
                  </a:lnTo>
                  <a:lnTo>
                    <a:pt x="2315" y="1631"/>
                  </a:lnTo>
                  <a:lnTo>
                    <a:pt x="2339" y="1631"/>
                  </a:lnTo>
                  <a:lnTo>
                    <a:pt x="2369" y="1631"/>
                  </a:lnTo>
                  <a:lnTo>
                    <a:pt x="2394" y="1631"/>
                  </a:lnTo>
                  <a:lnTo>
                    <a:pt x="2418" y="1631"/>
                  </a:lnTo>
                  <a:lnTo>
                    <a:pt x="2448" y="1602"/>
                  </a:lnTo>
                  <a:lnTo>
                    <a:pt x="2448" y="1577"/>
                  </a:lnTo>
                  <a:lnTo>
                    <a:pt x="2448" y="1547"/>
                  </a:lnTo>
                  <a:lnTo>
                    <a:pt x="2448" y="1523"/>
                  </a:lnTo>
                  <a:lnTo>
                    <a:pt x="2473" y="1498"/>
                  </a:lnTo>
                  <a:lnTo>
                    <a:pt x="2473" y="1468"/>
                  </a:lnTo>
                  <a:lnTo>
                    <a:pt x="2473" y="1444"/>
                  </a:lnTo>
                  <a:lnTo>
                    <a:pt x="2473" y="1414"/>
                  </a:lnTo>
                  <a:lnTo>
                    <a:pt x="2503" y="1389"/>
                  </a:lnTo>
                  <a:lnTo>
                    <a:pt x="2503" y="1364"/>
                  </a:lnTo>
                  <a:lnTo>
                    <a:pt x="2503" y="1335"/>
                  </a:lnTo>
                  <a:lnTo>
                    <a:pt x="2503" y="1310"/>
                  </a:lnTo>
                  <a:lnTo>
                    <a:pt x="2527" y="1280"/>
                  </a:lnTo>
                  <a:lnTo>
                    <a:pt x="2527" y="1256"/>
                  </a:lnTo>
                  <a:lnTo>
                    <a:pt x="2527" y="1226"/>
                  </a:lnTo>
                  <a:lnTo>
                    <a:pt x="2527" y="1201"/>
                  </a:lnTo>
                  <a:lnTo>
                    <a:pt x="2552" y="1177"/>
                  </a:lnTo>
                  <a:lnTo>
                    <a:pt x="2552" y="1147"/>
                  </a:lnTo>
                  <a:lnTo>
                    <a:pt x="2552" y="1122"/>
                  </a:lnTo>
                  <a:lnTo>
                    <a:pt x="2552" y="1093"/>
                  </a:lnTo>
                  <a:lnTo>
                    <a:pt x="2582" y="1068"/>
                  </a:lnTo>
                  <a:lnTo>
                    <a:pt x="2582" y="1043"/>
                  </a:lnTo>
                  <a:lnTo>
                    <a:pt x="2582" y="1014"/>
                  </a:lnTo>
                  <a:lnTo>
                    <a:pt x="2582" y="989"/>
                  </a:lnTo>
                  <a:lnTo>
                    <a:pt x="2582" y="959"/>
                  </a:lnTo>
                  <a:lnTo>
                    <a:pt x="2582" y="934"/>
                  </a:lnTo>
                  <a:lnTo>
                    <a:pt x="2582" y="910"/>
                  </a:lnTo>
                  <a:lnTo>
                    <a:pt x="2582" y="880"/>
                  </a:lnTo>
                  <a:lnTo>
                    <a:pt x="2582" y="855"/>
                  </a:lnTo>
                  <a:lnTo>
                    <a:pt x="2582" y="826"/>
                  </a:lnTo>
                  <a:lnTo>
                    <a:pt x="2582" y="801"/>
                  </a:lnTo>
                  <a:lnTo>
                    <a:pt x="2582" y="776"/>
                  </a:lnTo>
                  <a:lnTo>
                    <a:pt x="2582" y="747"/>
                  </a:lnTo>
                  <a:lnTo>
                    <a:pt x="2582" y="722"/>
                  </a:lnTo>
                  <a:lnTo>
                    <a:pt x="2582" y="692"/>
                  </a:lnTo>
                  <a:lnTo>
                    <a:pt x="2582" y="668"/>
                  </a:lnTo>
                  <a:lnTo>
                    <a:pt x="2582" y="643"/>
                  </a:lnTo>
                  <a:lnTo>
                    <a:pt x="2582" y="613"/>
                  </a:lnTo>
                  <a:lnTo>
                    <a:pt x="2582" y="589"/>
                  </a:lnTo>
                  <a:lnTo>
                    <a:pt x="2582" y="559"/>
                  </a:lnTo>
                  <a:lnTo>
                    <a:pt x="2582" y="534"/>
                  </a:lnTo>
                  <a:lnTo>
                    <a:pt x="2582" y="504"/>
                  </a:lnTo>
                  <a:lnTo>
                    <a:pt x="2582" y="480"/>
                  </a:lnTo>
                  <a:lnTo>
                    <a:pt x="2582" y="455"/>
                  </a:lnTo>
                  <a:lnTo>
                    <a:pt x="2582" y="425"/>
                  </a:lnTo>
                  <a:lnTo>
                    <a:pt x="2582" y="401"/>
                  </a:lnTo>
                  <a:lnTo>
                    <a:pt x="2582" y="371"/>
                  </a:lnTo>
                  <a:lnTo>
                    <a:pt x="2582" y="346"/>
                  </a:lnTo>
                  <a:lnTo>
                    <a:pt x="2582" y="322"/>
                  </a:lnTo>
                  <a:lnTo>
                    <a:pt x="2582" y="292"/>
                  </a:lnTo>
                  <a:lnTo>
                    <a:pt x="2582" y="267"/>
                  </a:lnTo>
                  <a:lnTo>
                    <a:pt x="2582" y="238"/>
                  </a:lnTo>
                  <a:lnTo>
                    <a:pt x="2552" y="213"/>
                  </a:lnTo>
                  <a:lnTo>
                    <a:pt x="2552" y="188"/>
                  </a:lnTo>
                  <a:lnTo>
                    <a:pt x="2552" y="159"/>
                  </a:lnTo>
                  <a:lnTo>
                    <a:pt x="2552" y="134"/>
                  </a:lnTo>
                  <a:lnTo>
                    <a:pt x="2552" y="104"/>
                  </a:lnTo>
                  <a:lnTo>
                    <a:pt x="2527" y="79"/>
                  </a:lnTo>
                  <a:lnTo>
                    <a:pt x="2503" y="79"/>
                  </a:lnTo>
                  <a:lnTo>
                    <a:pt x="2473" y="79"/>
                  </a:lnTo>
                  <a:lnTo>
                    <a:pt x="2448" y="55"/>
                  </a:lnTo>
                  <a:lnTo>
                    <a:pt x="2418" y="55"/>
                  </a:lnTo>
                  <a:lnTo>
                    <a:pt x="2394" y="55"/>
                  </a:lnTo>
                  <a:lnTo>
                    <a:pt x="2369" y="25"/>
                  </a:lnTo>
                  <a:lnTo>
                    <a:pt x="2339" y="25"/>
                  </a:lnTo>
                  <a:lnTo>
                    <a:pt x="2315" y="25"/>
                  </a:lnTo>
                  <a:lnTo>
                    <a:pt x="2285" y="0"/>
                  </a:lnTo>
                  <a:lnTo>
                    <a:pt x="2260" y="0"/>
                  </a:lnTo>
                  <a:lnTo>
                    <a:pt x="2235" y="0"/>
                  </a:lnTo>
                  <a:lnTo>
                    <a:pt x="2206" y="0"/>
                  </a:lnTo>
                  <a:lnTo>
                    <a:pt x="2181" y="0"/>
                  </a:lnTo>
                  <a:lnTo>
                    <a:pt x="2156" y="0"/>
                  </a:lnTo>
                  <a:lnTo>
                    <a:pt x="2127" y="0"/>
                  </a:lnTo>
                  <a:lnTo>
                    <a:pt x="2102" y="0"/>
                  </a:lnTo>
                  <a:lnTo>
                    <a:pt x="2072" y="0"/>
                  </a:lnTo>
                  <a:lnTo>
                    <a:pt x="2048" y="0"/>
                  </a:lnTo>
                  <a:lnTo>
                    <a:pt x="2023" y="0"/>
                  </a:lnTo>
                  <a:lnTo>
                    <a:pt x="1993" y="0"/>
                  </a:lnTo>
                  <a:lnTo>
                    <a:pt x="1968" y="0"/>
                  </a:lnTo>
                  <a:lnTo>
                    <a:pt x="1944" y="0"/>
                  </a:lnTo>
                  <a:lnTo>
                    <a:pt x="1914" y="0"/>
                  </a:lnTo>
                  <a:lnTo>
                    <a:pt x="1889" y="0"/>
                  </a:lnTo>
                  <a:lnTo>
                    <a:pt x="1860" y="0"/>
                  </a:lnTo>
                  <a:lnTo>
                    <a:pt x="1835" y="0"/>
                  </a:lnTo>
                  <a:lnTo>
                    <a:pt x="1810" y="0"/>
                  </a:lnTo>
                  <a:lnTo>
                    <a:pt x="1780" y="0"/>
                  </a:lnTo>
                  <a:lnTo>
                    <a:pt x="1756" y="0"/>
                  </a:lnTo>
                  <a:lnTo>
                    <a:pt x="1726" y="0"/>
                  </a:lnTo>
                  <a:lnTo>
                    <a:pt x="1701" y="0"/>
                  </a:lnTo>
                  <a:lnTo>
                    <a:pt x="1677" y="0"/>
                  </a:lnTo>
                  <a:lnTo>
                    <a:pt x="1647" y="0"/>
                  </a:lnTo>
                  <a:lnTo>
                    <a:pt x="1622" y="0"/>
                  </a:lnTo>
                  <a:lnTo>
                    <a:pt x="1598" y="0"/>
                  </a:lnTo>
                  <a:lnTo>
                    <a:pt x="1568" y="0"/>
                  </a:lnTo>
                  <a:lnTo>
                    <a:pt x="1543" y="0"/>
                  </a:lnTo>
                  <a:lnTo>
                    <a:pt x="1513" y="0"/>
                  </a:lnTo>
                  <a:lnTo>
                    <a:pt x="1489" y="0"/>
                  </a:lnTo>
                  <a:lnTo>
                    <a:pt x="1464" y="0"/>
                  </a:lnTo>
                  <a:lnTo>
                    <a:pt x="1434" y="0"/>
                  </a:lnTo>
                  <a:lnTo>
                    <a:pt x="1410" y="0"/>
                  </a:lnTo>
                  <a:lnTo>
                    <a:pt x="1385" y="0"/>
                  </a:lnTo>
                  <a:lnTo>
                    <a:pt x="1355" y="0"/>
                  </a:lnTo>
                  <a:lnTo>
                    <a:pt x="1330" y="0"/>
                  </a:lnTo>
                  <a:lnTo>
                    <a:pt x="1301" y="0"/>
                  </a:lnTo>
                  <a:lnTo>
                    <a:pt x="1276" y="0"/>
                  </a:lnTo>
                  <a:lnTo>
                    <a:pt x="1251" y="0"/>
                  </a:lnTo>
                  <a:lnTo>
                    <a:pt x="1222" y="0"/>
                  </a:lnTo>
                  <a:lnTo>
                    <a:pt x="1197" y="0"/>
                  </a:lnTo>
                  <a:lnTo>
                    <a:pt x="1172" y="0"/>
                  </a:lnTo>
                  <a:lnTo>
                    <a:pt x="1143" y="0"/>
                  </a:lnTo>
                  <a:lnTo>
                    <a:pt x="1118" y="0"/>
                  </a:lnTo>
                  <a:lnTo>
                    <a:pt x="1088" y="0"/>
                  </a:lnTo>
                  <a:lnTo>
                    <a:pt x="1063" y="0"/>
                  </a:lnTo>
                  <a:lnTo>
                    <a:pt x="1039" y="0"/>
                  </a:lnTo>
                  <a:lnTo>
                    <a:pt x="1009" y="0"/>
                  </a:lnTo>
                  <a:lnTo>
                    <a:pt x="984" y="0"/>
                  </a:lnTo>
                  <a:lnTo>
                    <a:pt x="955" y="0"/>
                  </a:lnTo>
                  <a:lnTo>
                    <a:pt x="930" y="0"/>
                  </a:lnTo>
                  <a:lnTo>
                    <a:pt x="905" y="0"/>
                  </a:lnTo>
                  <a:lnTo>
                    <a:pt x="875" y="0"/>
                  </a:lnTo>
                  <a:lnTo>
                    <a:pt x="851" y="0"/>
                  </a:lnTo>
                  <a:lnTo>
                    <a:pt x="826" y="0"/>
                  </a:lnTo>
                  <a:lnTo>
                    <a:pt x="796" y="0"/>
                  </a:lnTo>
                  <a:lnTo>
                    <a:pt x="772" y="0"/>
                  </a:lnTo>
                  <a:lnTo>
                    <a:pt x="742" y="0"/>
                  </a:lnTo>
                  <a:lnTo>
                    <a:pt x="717" y="0"/>
                  </a:lnTo>
                  <a:lnTo>
                    <a:pt x="692" y="0"/>
                  </a:lnTo>
                  <a:lnTo>
                    <a:pt x="663" y="0"/>
                  </a:lnTo>
                  <a:lnTo>
                    <a:pt x="638" y="0"/>
                  </a:lnTo>
                  <a:lnTo>
                    <a:pt x="613" y="0"/>
                  </a:lnTo>
                  <a:lnTo>
                    <a:pt x="584" y="25"/>
                  </a:lnTo>
                  <a:lnTo>
                    <a:pt x="559" y="55"/>
                  </a:lnTo>
                  <a:lnTo>
                    <a:pt x="529" y="79"/>
                  </a:lnTo>
                  <a:lnTo>
                    <a:pt x="505" y="104"/>
                  </a:lnTo>
                  <a:lnTo>
                    <a:pt x="480" y="134"/>
                  </a:lnTo>
                  <a:lnTo>
                    <a:pt x="450" y="134"/>
                  </a:lnTo>
                  <a:lnTo>
                    <a:pt x="425" y="159"/>
                  </a:lnTo>
                  <a:lnTo>
                    <a:pt x="396" y="188"/>
                  </a:lnTo>
                  <a:lnTo>
                    <a:pt x="371" y="213"/>
                  </a:lnTo>
                  <a:lnTo>
                    <a:pt x="346" y="238"/>
                  </a:lnTo>
                  <a:lnTo>
                    <a:pt x="317" y="267"/>
                  </a:lnTo>
                  <a:lnTo>
                    <a:pt x="292" y="292"/>
                  </a:lnTo>
                  <a:lnTo>
                    <a:pt x="267" y="322"/>
                  </a:lnTo>
                  <a:lnTo>
                    <a:pt x="237" y="322"/>
                  </a:lnTo>
                  <a:lnTo>
                    <a:pt x="213" y="346"/>
                  </a:lnTo>
                  <a:lnTo>
                    <a:pt x="183" y="371"/>
                  </a:lnTo>
                  <a:lnTo>
                    <a:pt x="158" y="401"/>
                  </a:lnTo>
                  <a:lnTo>
                    <a:pt x="134" y="425"/>
                  </a:lnTo>
                  <a:lnTo>
                    <a:pt x="104" y="455"/>
                  </a:lnTo>
                  <a:lnTo>
                    <a:pt x="79" y="480"/>
                  </a:lnTo>
                  <a:lnTo>
                    <a:pt x="55" y="504"/>
                  </a:lnTo>
                  <a:lnTo>
                    <a:pt x="25" y="504"/>
                  </a:lnTo>
                  <a:lnTo>
                    <a:pt x="0" y="534"/>
                  </a:lnTo>
                  <a:lnTo>
                    <a:pt x="0" y="559"/>
                  </a:lnTo>
                  <a:lnTo>
                    <a:pt x="0" y="589"/>
                  </a:lnTo>
                  <a:lnTo>
                    <a:pt x="0" y="613"/>
                  </a:lnTo>
                  <a:lnTo>
                    <a:pt x="25" y="643"/>
                  </a:lnTo>
                  <a:lnTo>
                    <a:pt x="25" y="668"/>
                  </a:lnTo>
                  <a:lnTo>
                    <a:pt x="55" y="692"/>
                  </a:lnTo>
                  <a:lnTo>
                    <a:pt x="79" y="722"/>
                  </a:lnTo>
                  <a:lnTo>
                    <a:pt x="104" y="747"/>
                  </a:lnTo>
                  <a:lnTo>
                    <a:pt x="134" y="776"/>
                  </a:lnTo>
                  <a:lnTo>
                    <a:pt x="134" y="801"/>
                  </a:lnTo>
                  <a:lnTo>
                    <a:pt x="158" y="826"/>
                  </a:lnTo>
                  <a:lnTo>
                    <a:pt x="183" y="855"/>
                  </a:lnTo>
                  <a:lnTo>
                    <a:pt x="213" y="880"/>
                  </a:lnTo>
                  <a:lnTo>
                    <a:pt x="237" y="910"/>
                  </a:lnTo>
                  <a:lnTo>
                    <a:pt x="267" y="934"/>
                  </a:lnTo>
                  <a:lnTo>
                    <a:pt x="292" y="959"/>
                  </a:lnTo>
                  <a:lnTo>
                    <a:pt x="292" y="989"/>
                  </a:lnTo>
                  <a:lnTo>
                    <a:pt x="317" y="1014"/>
                  </a:lnTo>
                  <a:lnTo>
                    <a:pt x="346" y="1043"/>
                  </a:lnTo>
                  <a:lnTo>
                    <a:pt x="371" y="1068"/>
                  </a:lnTo>
                  <a:lnTo>
                    <a:pt x="396" y="1093"/>
                  </a:lnTo>
                  <a:lnTo>
                    <a:pt x="425" y="1122"/>
                  </a:lnTo>
                  <a:lnTo>
                    <a:pt x="450" y="1147"/>
                  </a:lnTo>
                  <a:lnTo>
                    <a:pt x="480" y="1177"/>
                  </a:lnTo>
                  <a:lnTo>
                    <a:pt x="505" y="1201"/>
                  </a:lnTo>
                  <a:lnTo>
                    <a:pt x="529" y="1226"/>
                  </a:lnTo>
                  <a:lnTo>
                    <a:pt x="559" y="1256"/>
                  </a:lnTo>
                  <a:lnTo>
                    <a:pt x="584" y="1280"/>
                  </a:lnTo>
                  <a:lnTo>
                    <a:pt x="613" y="1310"/>
                  </a:lnTo>
                  <a:lnTo>
                    <a:pt x="638" y="1335"/>
                  </a:lnTo>
                  <a:lnTo>
                    <a:pt x="663" y="1364"/>
                  </a:lnTo>
                  <a:lnTo>
                    <a:pt x="692" y="1389"/>
                  </a:lnTo>
                  <a:lnTo>
                    <a:pt x="717" y="1414"/>
                  </a:lnTo>
                  <a:lnTo>
                    <a:pt x="742" y="1444"/>
                  </a:lnTo>
                  <a:lnTo>
                    <a:pt x="772" y="1468"/>
                  </a:lnTo>
                  <a:lnTo>
                    <a:pt x="796" y="1468"/>
                  </a:lnTo>
                  <a:lnTo>
                    <a:pt x="826" y="1498"/>
                  </a:lnTo>
                  <a:lnTo>
                    <a:pt x="851" y="1523"/>
                  </a:lnTo>
                  <a:lnTo>
                    <a:pt x="875" y="1547"/>
                  </a:lnTo>
                  <a:lnTo>
                    <a:pt x="905" y="1577"/>
                  </a:lnTo>
                  <a:lnTo>
                    <a:pt x="930" y="1602"/>
                  </a:lnTo>
                  <a:lnTo>
                    <a:pt x="955" y="1631"/>
                  </a:lnTo>
                  <a:lnTo>
                    <a:pt x="984" y="1656"/>
                  </a:lnTo>
                  <a:lnTo>
                    <a:pt x="1009" y="1656"/>
                  </a:lnTo>
                  <a:lnTo>
                    <a:pt x="1039" y="1656"/>
                  </a:lnTo>
                  <a:lnTo>
                    <a:pt x="1063" y="1656"/>
                  </a:lnTo>
                  <a:lnTo>
                    <a:pt x="1088" y="1656"/>
                  </a:lnTo>
                  <a:lnTo>
                    <a:pt x="1118" y="1656"/>
                  </a:lnTo>
                  <a:lnTo>
                    <a:pt x="1143" y="1656"/>
                  </a:lnTo>
                  <a:lnTo>
                    <a:pt x="1172" y="1656"/>
                  </a:lnTo>
                  <a:lnTo>
                    <a:pt x="1197" y="1656"/>
                  </a:lnTo>
                  <a:lnTo>
                    <a:pt x="1222" y="1656"/>
                  </a:lnTo>
                  <a:lnTo>
                    <a:pt x="1251" y="1656"/>
                  </a:lnTo>
                  <a:lnTo>
                    <a:pt x="1276" y="1656"/>
                  </a:lnTo>
                  <a:lnTo>
                    <a:pt x="1301" y="1656"/>
                  </a:lnTo>
                  <a:lnTo>
                    <a:pt x="1330" y="1656"/>
                  </a:lnTo>
                  <a:lnTo>
                    <a:pt x="1355" y="1656"/>
                  </a:lnTo>
                  <a:lnTo>
                    <a:pt x="1385" y="1656"/>
                  </a:lnTo>
                  <a:lnTo>
                    <a:pt x="1410" y="1656"/>
                  </a:lnTo>
                  <a:lnTo>
                    <a:pt x="1434" y="1656"/>
                  </a:lnTo>
                  <a:lnTo>
                    <a:pt x="1464" y="1656"/>
                  </a:lnTo>
                  <a:lnTo>
                    <a:pt x="1489" y="1656"/>
                  </a:lnTo>
                  <a:lnTo>
                    <a:pt x="1513" y="1656"/>
                  </a:lnTo>
                  <a:lnTo>
                    <a:pt x="1543" y="1656"/>
                  </a:lnTo>
                  <a:lnTo>
                    <a:pt x="1568" y="1656"/>
                  </a:lnTo>
                  <a:lnTo>
                    <a:pt x="1598" y="1656"/>
                  </a:lnTo>
                  <a:lnTo>
                    <a:pt x="1622" y="1656"/>
                  </a:lnTo>
                  <a:lnTo>
                    <a:pt x="1647" y="1656"/>
                  </a:lnTo>
                  <a:lnTo>
                    <a:pt x="1677" y="1656"/>
                  </a:lnTo>
                  <a:lnTo>
                    <a:pt x="1701" y="1656"/>
                  </a:lnTo>
                  <a:lnTo>
                    <a:pt x="1726" y="1656"/>
                  </a:lnTo>
                  <a:lnTo>
                    <a:pt x="1756" y="1656"/>
                  </a:lnTo>
                  <a:lnTo>
                    <a:pt x="1780" y="1656"/>
                  </a:lnTo>
                  <a:lnTo>
                    <a:pt x="1810" y="1656"/>
                  </a:lnTo>
                  <a:lnTo>
                    <a:pt x="1835" y="1656"/>
                  </a:lnTo>
                  <a:lnTo>
                    <a:pt x="1860" y="1656"/>
                  </a:lnTo>
                  <a:lnTo>
                    <a:pt x="1889" y="1656"/>
                  </a:lnTo>
                  <a:lnTo>
                    <a:pt x="1914" y="1656"/>
                  </a:lnTo>
                  <a:lnTo>
                    <a:pt x="1944" y="1656"/>
                  </a:lnTo>
                  <a:lnTo>
                    <a:pt x="1968" y="1656"/>
                  </a:lnTo>
                  <a:lnTo>
                    <a:pt x="1993" y="1656"/>
                  </a:lnTo>
                  <a:lnTo>
                    <a:pt x="2023" y="1656"/>
                  </a:lnTo>
                  <a:lnTo>
                    <a:pt x="2048" y="1656"/>
                  </a:lnTo>
                  <a:lnTo>
                    <a:pt x="2072" y="1656"/>
                  </a:lnTo>
                  <a:lnTo>
                    <a:pt x="2102" y="1656"/>
                  </a:lnTo>
                  <a:lnTo>
                    <a:pt x="2127" y="1656"/>
                  </a:lnTo>
                  <a:lnTo>
                    <a:pt x="2156" y="1656"/>
                  </a:lnTo>
                  <a:lnTo>
                    <a:pt x="2181" y="1656"/>
                  </a:lnTo>
                  <a:lnTo>
                    <a:pt x="2206" y="1656"/>
                  </a:lnTo>
                  <a:lnTo>
                    <a:pt x="2235" y="1656"/>
                  </a:lnTo>
                  <a:close/>
                  <a:moveTo>
                    <a:pt x="1355" y="292"/>
                  </a:moveTo>
                  <a:lnTo>
                    <a:pt x="1365" y="292"/>
                  </a:lnTo>
                  <a:lnTo>
                    <a:pt x="1375" y="292"/>
                  </a:lnTo>
                  <a:lnTo>
                    <a:pt x="1380" y="287"/>
                  </a:lnTo>
                  <a:lnTo>
                    <a:pt x="1390" y="287"/>
                  </a:lnTo>
                  <a:lnTo>
                    <a:pt x="1400" y="287"/>
                  </a:lnTo>
                  <a:lnTo>
                    <a:pt x="1405" y="287"/>
                  </a:lnTo>
                  <a:lnTo>
                    <a:pt x="1410" y="282"/>
                  </a:lnTo>
                  <a:lnTo>
                    <a:pt x="1415" y="282"/>
                  </a:lnTo>
                  <a:lnTo>
                    <a:pt x="1419" y="277"/>
                  </a:lnTo>
                  <a:lnTo>
                    <a:pt x="1424" y="267"/>
                  </a:lnTo>
                  <a:lnTo>
                    <a:pt x="1424" y="262"/>
                  </a:lnTo>
                  <a:lnTo>
                    <a:pt x="1429" y="257"/>
                  </a:lnTo>
                  <a:lnTo>
                    <a:pt x="1434" y="252"/>
                  </a:lnTo>
                  <a:lnTo>
                    <a:pt x="1439" y="252"/>
                  </a:lnTo>
                  <a:lnTo>
                    <a:pt x="1444" y="247"/>
                  </a:lnTo>
                  <a:lnTo>
                    <a:pt x="1454" y="252"/>
                  </a:lnTo>
                  <a:lnTo>
                    <a:pt x="1464" y="252"/>
                  </a:lnTo>
                  <a:lnTo>
                    <a:pt x="1474" y="257"/>
                  </a:lnTo>
                  <a:lnTo>
                    <a:pt x="1479" y="262"/>
                  </a:lnTo>
                  <a:lnTo>
                    <a:pt x="1479" y="262"/>
                  </a:lnTo>
                  <a:lnTo>
                    <a:pt x="1479" y="267"/>
                  </a:lnTo>
                  <a:lnTo>
                    <a:pt x="1474" y="272"/>
                  </a:lnTo>
                  <a:lnTo>
                    <a:pt x="1464" y="277"/>
                  </a:lnTo>
                  <a:lnTo>
                    <a:pt x="1459" y="277"/>
                  </a:lnTo>
                  <a:lnTo>
                    <a:pt x="1449" y="277"/>
                  </a:lnTo>
                  <a:lnTo>
                    <a:pt x="1439" y="277"/>
                  </a:lnTo>
                  <a:lnTo>
                    <a:pt x="1434" y="282"/>
                  </a:lnTo>
                  <a:lnTo>
                    <a:pt x="1429" y="282"/>
                  </a:lnTo>
                  <a:lnTo>
                    <a:pt x="1424" y="287"/>
                  </a:lnTo>
                  <a:lnTo>
                    <a:pt x="1419" y="292"/>
                  </a:lnTo>
                  <a:lnTo>
                    <a:pt x="1415" y="297"/>
                  </a:lnTo>
                  <a:lnTo>
                    <a:pt x="1405" y="297"/>
                  </a:lnTo>
                  <a:lnTo>
                    <a:pt x="1400" y="302"/>
                  </a:lnTo>
                  <a:lnTo>
                    <a:pt x="1390" y="297"/>
                  </a:lnTo>
                  <a:lnTo>
                    <a:pt x="1380" y="297"/>
                  </a:lnTo>
                  <a:lnTo>
                    <a:pt x="1375" y="297"/>
                  </a:lnTo>
                  <a:lnTo>
                    <a:pt x="1365" y="297"/>
                  </a:lnTo>
                  <a:lnTo>
                    <a:pt x="1355" y="292"/>
                  </a:lnTo>
                  <a:close/>
                  <a:moveTo>
                    <a:pt x="1667" y="267"/>
                  </a:moveTo>
                  <a:lnTo>
                    <a:pt x="1662" y="262"/>
                  </a:lnTo>
                  <a:lnTo>
                    <a:pt x="1657" y="257"/>
                  </a:lnTo>
                  <a:lnTo>
                    <a:pt x="1652" y="252"/>
                  </a:lnTo>
                  <a:lnTo>
                    <a:pt x="1647" y="252"/>
                  </a:lnTo>
                  <a:lnTo>
                    <a:pt x="1642" y="247"/>
                  </a:lnTo>
                  <a:lnTo>
                    <a:pt x="1637" y="243"/>
                  </a:lnTo>
                  <a:lnTo>
                    <a:pt x="1632" y="238"/>
                  </a:lnTo>
                  <a:lnTo>
                    <a:pt x="1627" y="233"/>
                  </a:lnTo>
                  <a:lnTo>
                    <a:pt x="1622" y="228"/>
                  </a:lnTo>
                  <a:lnTo>
                    <a:pt x="1617" y="228"/>
                  </a:lnTo>
                  <a:lnTo>
                    <a:pt x="1607" y="228"/>
                  </a:lnTo>
                  <a:lnTo>
                    <a:pt x="1598" y="228"/>
                  </a:lnTo>
                  <a:lnTo>
                    <a:pt x="1588" y="228"/>
                  </a:lnTo>
                  <a:lnTo>
                    <a:pt x="1583" y="228"/>
                  </a:lnTo>
                  <a:lnTo>
                    <a:pt x="1573" y="223"/>
                  </a:lnTo>
                  <a:lnTo>
                    <a:pt x="1568" y="228"/>
                  </a:lnTo>
                  <a:lnTo>
                    <a:pt x="1563" y="233"/>
                  </a:lnTo>
                  <a:lnTo>
                    <a:pt x="1558" y="238"/>
                  </a:lnTo>
                  <a:lnTo>
                    <a:pt x="1553" y="243"/>
                  </a:lnTo>
                  <a:lnTo>
                    <a:pt x="1548" y="247"/>
                  </a:lnTo>
                  <a:lnTo>
                    <a:pt x="1543" y="247"/>
                  </a:lnTo>
                  <a:lnTo>
                    <a:pt x="1533" y="252"/>
                  </a:lnTo>
                  <a:lnTo>
                    <a:pt x="1528" y="252"/>
                  </a:lnTo>
                  <a:lnTo>
                    <a:pt x="1518" y="252"/>
                  </a:lnTo>
                  <a:lnTo>
                    <a:pt x="1508" y="252"/>
                  </a:lnTo>
                  <a:lnTo>
                    <a:pt x="1504" y="252"/>
                  </a:lnTo>
                  <a:lnTo>
                    <a:pt x="1499" y="247"/>
                  </a:lnTo>
                  <a:lnTo>
                    <a:pt x="1494" y="243"/>
                  </a:lnTo>
                  <a:lnTo>
                    <a:pt x="1494" y="233"/>
                  </a:lnTo>
                  <a:lnTo>
                    <a:pt x="1499" y="228"/>
                  </a:lnTo>
                  <a:lnTo>
                    <a:pt x="1504" y="223"/>
                  </a:lnTo>
                  <a:lnTo>
                    <a:pt x="1513" y="223"/>
                  </a:lnTo>
                  <a:lnTo>
                    <a:pt x="1518" y="223"/>
                  </a:lnTo>
                  <a:lnTo>
                    <a:pt x="1528" y="223"/>
                  </a:lnTo>
                  <a:lnTo>
                    <a:pt x="1538" y="228"/>
                  </a:lnTo>
                  <a:lnTo>
                    <a:pt x="1543" y="223"/>
                  </a:lnTo>
                  <a:lnTo>
                    <a:pt x="1548" y="223"/>
                  </a:lnTo>
                  <a:lnTo>
                    <a:pt x="1553" y="218"/>
                  </a:lnTo>
                  <a:lnTo>
                    <a:pt x="1558" y="213"/>
                  </a:lnTo>
                  <a:lnTo>
                    <a:pt x="1563" y="203"/>
                  </a:lnTo>
                  <a:lnTo>
                    <a:pt x="1563" y="198"/>
                  </a:lnTo>
                  <a:lnTo>
                    <a:pt x="1568" y="193"/>
                  </a:lnTo>
                  <a:lnTo>
                    <a:pt x="1573" y="193"/>
                  </a:lnTo>
                  <a:lnTo>
                    <a:pt x="1583" y="193"/>
                  </a:lnTo>
                  <a:lnTo>
                    <a:pt x="1593" y="193"/>
                  </a:lnTo>
                  <a:lnTo>
                    <a:pt x="1602" y="193"/>
                  </a:lnTo>
                  <a:lnTo>
                    <a:pt x="1607" y="193"/>
                  </a:lnTo>
                  <a:lnTo>
                    <a:pt x="1617" y="193"/>
                  </a:lnTo>
                  <a:lnTo>
                    <a:pt x="1622" y="193"/>
                  </a:lnTo>
                  <a:lnTo>
                    <a:pt x="1627" y="198"/>
                  </a:lnTo>
                  <a:lnTo>
                    <a:pt x="1632" y="203"/>
                  </a:lnTo>
                  <a:lnTo>
                    <a:pt x="1637" y="208"/>
                  </a:lnTo>
                  <a:lnTo>
                    <a:pt x="1642" y="213"/>
                  </a:lnTo>
                  <a:lnTo>
                    <a:pt x="1647" y="218"/>
                  </a:lnTo>
                  <a:lnTo>
                    <a:pt x="1652" y="223"/>
                  </a:lnTo>
                  <a:lnTo>
                    <a:pt x="1657" y="228"/>
                  </a:lnTo>
                  <a:lnTo>
                    <a:pt x="1662" y="233"/>
                  </a:lnTo>
                  <a:lnTo>
                    <a:pt x="1667" y="238"/>
                  </a:lnTo>
                  <a:lnTo>
                    <a:pt x="1667" y="243"/>
                  </a:lnTo>
                  <a:lnTo>
                    <a:pt x="1672" y="247"/>
                  </a:lnTo>
                  <a:lnTo>
                    <a:pt x="1672" y="252"/>
                  </a:lnTo>
                  <a:lnTo>
                    <a:pt x="1677" y="257"/>
                  </a:lnTo>
                  <a:lnTo>
                    <a:pt x="1687" y="262"/>
                  </a:lnTo>
                  <a:lnTo>
                    <a:pt x="1687" y="267"/>
                  </a:lnTo>
                  <a:lnTo>
                    <a:pt x="1687" y="272"/>
                  </a:lnTo>
                  <a:lnTo>
                    <a:pt x="1677" y="272"/>
                  </a:lnTo>
                  <a:lnTo>
                    <a:pt x="1672" y="272"/>
                  </a:lnTo>
                  <a:lnTo>
                    <a:pt x="1667" y="267"/>
                  </a:lnTo>
                  <a:close/>
                  <a:moveTo>
                    <a:pt x="1914" y="238"/>
                  </a:moveTo>
                  <a:lnTo>
                    <a:pt x="1914" y="233"/>
                  </a:lnTo>
                  <a:lnTo>
                    <a:pt x="1919" y="228"/>
                  </a:lnTo>
                  <a:lnTo>
                    <a:pt x="1919" y="223"/>
                  </a:lnTo>
                  <a:lnTo>
                    <a:pt x="1919" y="218"/>
                  </a:lnTo>
                  <a:lnTo>
                    <a:pt x="1919" y="213"/>
                  </a:lnTo>
                  <a:lnTo>
                    <a:pt x="1914" y="213"/>
                  </a:lnTo>
                  <a:lnTo>
                    <a:pt x="1909" y="208"/>
                  </a:lnTo>
                  <a:lnTo>
                    <a:pt x="1904" y="203"/>
                  </a:lnTo>
                  <a:lnTo>
                    <a:pt x="1894" y="203"/>
                  </a:lnTo>
                  <a:lnTo>
                    <a:pt x="1884" y="203"/>
                  </a:lnTo>
                  <a:lnTo>
                    <a:pt x="1879" y="208"/>
                  </a:lnTo>
                  <a:lnTo>
                    <a:pt x="1874" y="208"/>
                  </a:lnTo>
                  <a:lnTo>
                    <a:pt x="1870" y="213"/>
                  </a:lnTo>
                  <a:lnTo>
                    <a:pt x="1870" y="223"/>
                  </a:lnTo>
                  <a:lnTo>
                    <a:pt x="1865" y="223"/>
                  </a:lnTo>
                  <a:lnTo>
                    <a:pt x="1860" y="223"/>
                  </a:lnTo>
                  <a:lnTo>
                    <a:pt x="1850" y="223"/>
                  </a:lnTo>
                  <a:lnTo>
                    <a:pt x="1845" y="218"/>
                  </a:lnTo>
                  <a:lnTo>
                    <a:pt x="1845" y="213"/>
                  </a:lnTo>
                  <a:lnTo>
                    <a:pt x="1845" y="208"/>
                  </a:lnTo>
                  <a:lnTo>
                    <a:pt x="1855" y="203"/>
                  </a:lnTo>
                  <a:lnTo>
                    <a:pt x="1860" y="198"/>
                  </a:lnTo>
                  <a:lnTo>
                    <a:pt x="1865" y="193"/>
                  </a:lnTo>
                  <a:lnTo>
                    <a:pt x="1870" y="188"/>
                  </a:lnTo>
                  <a:lnTo>
                    <a:pt x="1870" y="183"/>
                  </a:lnTo>
                  <a:lnTo>
                    <a:pt x="1865" y="183"/>
                  </a:lnTo>
                  <a:lnTo>
                    <a:pt x="1855" y="178"/>
                  </a:lnTo>
                  <a:lnTo>
                    <a:pt x="1850" y="178"/>
                  </a:lnTo>
                  <a:lnTo>
                    <a:pt x="1840" y="178"/>
                  </a:lnTo>
                  <a:lnTo>
                    <a:pt x="1830" y="178"/>
                  </a:lnTo>
                  <a:lnTo>
                    <a:pt x="1825" y="178"/>
                  </a:lnTo>
                  <a:lnTo>
                    <a:pt x="1815" y="183"/>
                  </a:lnTo>
                  <a:lnTo>
                    <a:pt x="1810" y="188"/>
                  </a:lnTo>
                  <a:lnTo>
                    <a:pt x="1805" y="193"/>
                  </a:lnTo>
                  <a:lnTo>
                    <a:pt x="1800" y="193"/>
                  </a:lnTo>
                  <a:lnTo>
                    <a:pt x="1795" y="198"/>
                  </a:lnTo>
                  <a:lnTo>
                    <a:pt x="1790" y="203"/>
                  </a:lnTo>
                  <a:lnTo>
                    <a:pt x="1780" y="203"/>
                  </a:lnTo>
                  <a:lnTo>
                    <a:pt x="1776" y="198"/>
                  </a:lnTo>
                  <a:lnTo>
                    <a:pt x="1766" y="198"/>
                  </a:lnTo>
                  <a:lnTo>
                    <a:pt x="1761" y="193"/>
                  </a:lnTo>
                  <a:lnTo>
                    <a:pt x="1761" y="188"/>
                  </a:lnTo>
                  <a:lnTo>
                    <a:pt x="1761" y="183"/>
                  </a:lnTo>
                  <a:lnTo>
                    <a:pt x="1766" y="178"/>
                  </a:lnTo>
                  <a:lnTo>
                    <a:pt x="1776" y="173"/>
                  </a:lnTo>
                  <a:lnTo>
                    <a:pt x="1780" y="173"/>
                  </a:lnTo>
                  <a:lnTo>
                    <a:pt x="1790" y="173"/>
                  </a:lnTo>
                  <a:lnTo>
                    <a:pt x="1795" y="178"/>
                  </a:lnTo>
                  <a:lnTo>
                    <a:pt x="1805" y="183"/>
                  </a:lnTo>
                  <a:lnTo>
                    <a:pt x="1810" y="183"/>
                  </a:lnTo>
                  <a:lnTo>
                    <a:pt x="1815" y="178"/>
                  </a:lnTo>
                  <a:lnTo>
                    <a:pt x="1815" y="173"/>
                  </a:lnTo>
                  <a:lnTo>
                    <a:pt x="1815" y="168"/>
                  </a:lnTo>
                  <a:lnTo>
                    <a:pt x="1815" y="159"/>
                  </a:lnTo>
                  <a:lnTo>
                    <a:pt x="1810" y="159"/>
                  </a:lnTo>
                  <a:lnTo>
                    <a:pt x="1805" y="154"/>
                  </a:lnTo>
                  <a:lnTo>
                    <a:pt x="1795" y="154"/>
                  </a:lnTo>
                  <a:lnTo>
                    <a:pt x="1785" y="154"/>
                  </a:lnTo>
                  <a:lnTo>
                    <a:pt x="1780" y="154"/>
                  </a:lnTo>
                  <a:lnTo>
                    <a:pt x="1776" y="149"/>
                  </a:lnTo>
                  <a:lnTo>
                    <a:pt x="1771" y="144"/>
                  </a:lnTo>
                  <a:lnTo>
                    <a:pt x="1766" y="139"/>
                  </a:lnTo>
                  <a:lnTo>
                    <a:pt x="1761" y="134"/>
                  </a:lnTo>
                  <a:lnTo>
                    <a:pt x="1756" y="134"/>
                  </a:lnTo>
                  <a:lnTo>
                    <a:pt x="1751" y="129"/>
                  </a:lnTo>
                  <a:lnTo>
                    <a:pt x="1746" y="129"/>
                  </a:lnTo>
                  <a:lnTo>
                    <a:pt x="1736" y="129"/>
                  </a:lnTo>
                  <a:lnTo>
                    <a:pt x="1726" y="124"/>
                  </a:lnTo>
                  <a:lnTo>
                    <a:pt x="1721" y="124"/>
                  </a:lnTo>
                  <a:lnTo>
                    <a:pt x="1716" y="119"/>
                  </a:lnTo>
                  <a:lnTo>
                    <a:pt x="1711" y="114"/>
                  </a:lnTo>
                  <a:lnTo>
                    <a:pt x="1711" y="109"/>
                  </a:lnTo>
                  <a:lnTo>
                    <a:pt x="1706" y="104"/>
                  </a:lnTo>
                  <a:lnTo>
                    <a:pt x="1701" y="104"/>
                  </a:lnTo>
                  <a:lnTo>
                    <a:pt x="1691" y="99"/>
                  </a:lnTo>
                  <a:lnTo>
                    <a:pt x="1682" y="99"/>
                  </a:lnTo>
                  <a:lnTo>
                    <a:pt x="1677" y="99"/>
                  </a:lnTo>
                  <a:lnTo>
                    <a:pt x="1672" y="94"/>
                  </a:lnTo>
                  <a:lnTo>
                    <a:pt x="1667" y="94"/>
                  </a:lnTo>
                  <a:lnTo>
                    <a:pt x="1662" y="89"/>
                  </a:lnTo>
                  <a:lnTo>
                    <a:pt x="1657" y="84"/>
                  </a:lnTo>
                  <a:lnTo>
                    <a:pt x="1652" y="79"/>
                  </a:lnTo>
                  <a:lnTo>
                    <a:pt x="1647" y="74"/>
                  </a:lnTo>
                  <a:lnTo>
                    <a:pt x="1637" y="74"/>
                  </a:lnTo>
                  <a:lnTo>
                    <a:pt x="1632" y="74"/>
                  </a:lnTo>
                  <a:lnTo>
                    <a:pt x="1622" y="74"/>
                  </a:lnTo>
                  <a:lnTo>
                    <a:pt x="1617" y="74"/>
                  </a:lnTo>
                  <a:lnTo>
                    <a:pt x="1607" y="70"/>
                  </a:lnTo>
                  <a:lnTo>
                    <a:pt x="1602" y="65"/>
                  </a:lnTo>
                  <a:lnTo>
                    <a:pt x="1598" y="60"/>
                  </a:lnTo>
                  <a:lnTo>
                    <a:pt x="1598" y="55"/>
                  </a:lnTo>
                  <a:lnTo>
                    <a:pt x="1598" y="50"/>
                  </a:lnTo>
                  <a:lnTo>
                    <a:pt x="1602" y="45"/>
                  </a:lnTo>
                  <a:lnTo>
                    <a:pt x="1607" y="40"/>
                  </a:lnTo>
                  <a:lnTo>
                    <a:pt x="1612" y="40"/>
                  </a:lnTo>
                  <a:lnTo>
                    <a:pt x="1622" y="35"/>
                  </a:lnTo>
                  <a:lnTo>
                    <a:pt x="1627" y="35"/>
                  </a:lnTo>
                  <a:lnTo>
                    <a:pt x="1637" y="30"/>
                  </a:lnTo>
                  <a:lnTo>
                    <a:pt x="1642" y="30"/>
                  </a:lnTo>
                  <a:lnTo>
                    <a:pt x="1652" y="30"/>
                  </a:lnTo>
                  <a:lnTo>
                    <a:pt x="1657" y="35"/>
                  </a:lnTo>
                  <a:lnTo>
                    <a:pt x="1667" y="35"/>
                  </a:lnTo>
                  <a:lnTo>
                    <a:pt x="1672" y="35"/>
                  </a:lnTo>
                  <a:lnTo>
                    <a:pt x="1682" y="40"/>
                  </a:lnTo>
                  <a:lnTo>
                    <a:pt x="1687" y="45"/>
                  </a:lnTo>
                  <a:lnTo>
                    <a:pt x="1691" y="50"/>
                  </a:lnTo>
                  <a:lnTo>
                    <a:pt x="1696" y="50"/>
                  </a:lnTo>
                  <a:lnTo>
                    <a:pt x="1701" y="55"/>
                  </a:lnTo>
                  <a:lnTo>
                    <a:pt x="1706" y="55"/>
                  </a:lnTo>
                  <a:lnTo>
                    <a:pt x="1716" y="55"/>
                  </a:lnTo>
                  <a:lnTo>
                    <a:pt x="1721" y="60"/>
                  </a:lnTo>
                  <a:lnTo>
                    <a:pt x="1731" y="60"/>
                  </a:lnTo>
                  <a:lnTo>
                    <a:pt x="1741" y="60"/>
                  </a:lnTo>
                  <a:lnTo>
                    <a:pt x="1746" y="60"/>
                  </a:lnTo>
                  <a:lnTo>
                    <a:pt x="1756" y="60"/>
                  </a:lnTo>
                  <a:lnTo>
                    <a:pt x="1761" y="60"/>
                  </a:lnTo>
                  <a:lnTo>
                    <a:pt x="1771" y="60"/>
                  </a:lnTo>
                  <a:lnTo>
                    <a:pt x="1776" y="65"/>
                  </a:lnTo>
                  <a:lnTo>
                    <a:pt x="1785" y="65"/>
                  </a:lnTo>
                  <a:lnTo>
                    <a:pt x="1790" y="70"/>
                  </a:lnTo>
                  <a:lnTo>
                    <a:pt x="1795" y="74"/>
                  </a:lnTo>
                  <a:lnTo>
                    <a:pt x="1800" y="79"/>
                  </a:lnTo>
                  <a:lnTo>
                    <a:pt x="1805" y="79"/>
                  </a:lnTo>
                  <a:lnTo>
                    <a:pt x="1810" y="84"/>
                  </a:lnTo>
                  <a:lnTo>
                    <a:pt x="1820" y="84"/>
                  </a:lnTo>
                  <a:lnTo>
                    <a:pt x="1825" y="84"/>
                  </a:lnTo>
                  <a:lnTo>
                    <a:pt x="1835" y="84"/>
                  </a:lnTo>
                  <a:lnTo>
                    <a:pt x="1840" y="89"/>
                  </a:lnTo>
                  <a:lnTo>
                    <a:pt x="1850" y="89"/>
                  </a:lnTo>
                  <a:lnTo>
                    <a:pt x="1860" y="89"/>
                  </a:lnTo>
                  <a:lnTo>
                    <a:pt x="1865" y="89"/>
                  </a:lnTo>
                  <a:lnTo>
                    <a:pt x="1874" y="89"/>
                  </a:lnTo>
                  <a:lnTo>
                    <a:pt x="1879" y="89"/>
                  </a:lnTo>
                  <a:lnTo>
                    <a:pt x="1889" y="94"/>
                  </a:lnTo>
                  <a:lnTo>
                    <a:pt x="1894" y="94"/>
                  </a:lnTo>
                  <a:lnTo>
                    <a:pt x="1899" y="99"/>
                  </a:lnTo>
                  <a:lnTo>
                    <a:pt x="1904" y="104"/>
                  </a:lnTo>
                  <a:lnTo>
                    <a:pt x="1909" y="109"/>
                  </a:lnTo>
                  <a:lnTo>
                    <a:pt x="1914" y="114"/>
                  </a:lnTo>
                  <a:lnTo>
                    <a:pt x="1919" y="114"/>
                  </a:lnTo>
                  <a:lnTo>
                    <a:pt x="1924" y="114"/>
                  </a:lnTo>
                  <a:lnTo>
                    <a:pt x="1934" y="119"/>
                  </a:lnTo>
                  <a:lnTo>
                    <a:pt x="1944" y="119"/>
                  </a:lnTo>
                  <a:lnTo>
                    <a:pt x="1949" y="119"/>
                  </a:lnTo>
                  <a:lnTo>
                    <a:pt x="1959" y="119"/>
                  </a:lnTo>
                  <a:lnTo>
                    <a:pt x="1963" y="119"/>
                  </a:lnTo>
                  <a:lnTo>
                    <a:pt x="1973" y="119"/>
                  </a:lnTo>
                  <a:lnTo>
                    <a:pt x="1983" y="119"/>
                  </a:lnTo>
                  <a:lnTo>
                    <a:pt x="1988" y="119"/>
                  </a:lnTo>
                  <a:lnTo>
                    <a:pt x="1998" y="119"/>
                  </a:lnTo>
                  <a:lnTo>
                    <a:pt x="2003" y="124"/>
                  </a:lnTo>
                  <a:lnTo>
                    <a:pt x="2008" y="129"/>
                  </a:lnTo>
                  <a:lnTo>
                    <a:pt x="2008" y="134"/>
                  </a:lnTo>
                  <a:lnTo>
                    <a:pt x="2013" y="139"/>
                  </a:lnTo>
                  <a:lnTo>
                    <a:pt x="2013" y="144"/>
                  </a:lnTo>
                  <a:lnTo>
                    <a:pt x="2018" y="149"/>
                  </a:lnTo>
                  <a:lnTo>
                    <a:pt x="2023" y="149"/>
                  </a:lnTo>
                  <a:lnTo>
                    <a:pt x="2033" y="154"/>
                  </a:lnTo>
                  <a:lnTo>
                    <a:pt x="2043" y="154"/>
                  </a:lnTo>
                  <a:lnTo>
                    <a:pt x="2048" y="154"/>
                  </a:lnTo>
                  <a:lnTo>
                    <a:pt x="2057" y="154"/>
                  </a:lnTo>
                  <a:lnTo>
                    <a:pt x="2062" y="159"/>
                  </a:lnTo>
                  <a:lnTo>
                    <a:pt x="2072" y="159"/>
                  </a:lnTo>
                  <a:lnTo>
                    <a:pt x="2077" y="159"/>
                  </a:lnTo>
                  <a:lnTo>
                    <a:pt x="2077" y="163"/>
                  </a:lnTo>
                  <a:lnTo>
                    <a:pt x="2072" y="168"/>
                  </a:lnTo>
                  <a:lnTo>
                    <a:pt x="2067" y="173"/>
                  </a:lnTo>
                  <a:lnTo>
                    <a:pt x="2067" y="178"/>
                  </a:lnTo>
                  <a:lnTo>
                    <a:pt x="2062" y="183"/>
                  </a:lnTo>
                  <a:lnTo>
                    <a:pt x="2062" y="188"/>
                  </a:lnTo>
                  <a:lnTo>
                    <a:pt x="2057" y="193"/>
                  </a:lnTo>
                  <a:lnTo>
                    <a:pt x="2057" y="198"/>
                  </a:lnTo>
                  <a:lnTo>
                    <a:pt x="2052" y="203"/>
                  </a:lnTo>
                  <a:lnTo>
                    <a:pt x="2048" y="208"/>
                  </a:lnTo>
                  <a:lnTo>
                    <a:pt x="2048" y="213"/>
                  </a:lnTo>
                  <a:lnTo>
                    <a:pt x="2043" y="218"/>
                  </a:lnTo>
                  <a:lnTo>
                    <a:pt x="2038" y="218"/>
                  </a:lnTo>
                  <a:lnTo>
                    <a:pt x="2038" y="223"/>
                  </a:lnTo>
                  <a:lnTo>
                    <a:pt x="2033" y="228"/>
                  </a:lnTo>
                  <a:lnTo>
                    <a:pt x="2033" y="233"/>
                  </a:lnTo>
                  <a:lnTo>
                    <a:pt x="2028" y="238"/>
                  </a:lnTo>
                  <a:lnTo>
                    <a:pt x="2028" y="243"/>
                  </a:lnTo>
                  <a:lnTo>
                    <a:pt x="2023" y="247"/>
                  </a:lnTo>
                  <a:lnTo>
                    <a:pt x="2018" y="252"/>
                  </a:lnTo>
                  <a:lnTo>
                    <a:pt x="2008" y="247"/>
                  </a:lnTo>
                  <a:lnTo>
                    <a:pt x="2003" y="247"/>
                  </a:lnTo>
                  <a:lnTo>
                    <a:pt x="1993" y="247"/>
                  </a:lnTo>
                  <a:lnTo>
                    <a:pt x="1983" y="247"/>
                  </a:lnTo>
                  <a:lnTo>
                    <a:pt x="1973" y="247"/>
                  </a:lnTo>
                  <a:lnTo>
                    <a:pt x="1968" y="247"/>
                  </a:lnTo>
                  <a:lnTo>
                    <a:pt x="1963" y="243"/>
                  </a:lnTo>
                  <a:lnTo>
                    <a:pt x="1959" y="238"/>
                  </a:lnTo>
                  <a:lnTo>
                    <a:pt x="1954" y="233"/>
                  </a:lnTo>
                  <a:lnTo>
                    <a:pt x="1949" y="228"/>
                  </a:lnTo>
                  <a:lnTo>
                    <a:pt x="1944" y="228"/>
                  </a:lnTo>
                  <a:lnTo>
                    <a:pt x="1939" y="228"/>
                  </a:lnTo>
                  <a:lnTo>
                    <a:pt x="1929" y="228"/>
                  </a:lnTo>
                  <a:lnTo>
                    <a:pt x="1924" y="233"/>
                  </a:lnTo>
                  <a:lnTo>
                    <a:pt x="1919" y="238"/>
                  </a:lnTo>
                  <a:lnTo>
                    <a:pt x="1914" y="238"/>
                  </a:lnTo>
                  <a:close/>
                  <a:moveTo>
                    <a:pt x="1365" y="213"/>
                  </a:moveTo>
                  <a:lnTo>
                    <a:pt x="1370" y="203"/>
                  </a:lnTo>
                  <a:lnTo>
                    <a:pt x="1375" y="198"/>
                  </a:lnTo>
                  <a:lnTo>
                    <a:pt x="1380" y="198"/>
                  </a:lnTo>
                  <a:lnTo>
                    <a:pt x="1385" y="198"/>
                  </a:lnTo>
                  <a:lnTo>
                    <a:pt x="1395" y="203"/>
                  </a:lnTo>
                  <a:lnTo>
                    <a:pt x="1400" y="208"/>
                  </a:lnTo>
                  <a:lnTo>
                    <a:pt x="1405" y="213"/>
                  </a:lnTo>
                  <a:lnTo>
                    <a:pt x="1400" y="218"/>
                  </a:lnTo>
                  <a:lnTo>
                    <a:pt x="1395" y="223"/>
                  </a:lnTo>
                  <a:lnTo>
                    <a:pt x="1390" y="228"/>
                  </a:lnTo>
                  <a:lnTo>
                    <a:pt x="1380" y="228"/>
                  </a:lnTo>
                  <a:lnTo>
                    <a:pt x="1375" y="228"/>
                  </a:lnTo>
                  <a:lnTo>
                    <a:pt x="1370" y="223"/>
                  </a:lnTo>
                  <a:lnTo>
                    <a:pt x="1365" y="213"/>
                  </a:lnTo>
                  <a:close/>
                  <a:moveTo>
                    <a:pt x="1009" y="188"/>
                  </a:moveTo>
                  <a:lnTo>
                    <a:pt x="1009" y="183"/>
                  </a:lnTo>
                  <a:lnTo>
                    <a:pt x="1009" y="183"/>
                  </a:lnTo>
                  <a:lnTo>
                    <a:pt x="1009" y="183"/>
                  </a:lnTo>
                  <a:lnTo>
                    <a:pt x="1009" y="183"/>
                  </a:lnTo>
                  <a:lnTo>
                    <a:pt x="1014" y="183"/>
                  </a:lnTo>
                  <a:lnTo>
                    <a:pt x="1014" y="183"/>
                  </a:lnTo>
                  <a:lnTo>
                    <a:pt x="1014" y="188"/>
                  </a:lnTo>
                  <a:lnTo>
                    <a:pt x="1014" y="188"/>
                  </a:lnTo>
                  <a:lnTo>
                    <a:pt x="1009" y="188"/>
                  </a:lnTo>
                  <a:lnTo>
                    <a:pt x="1009" y="188"/>
                  </a:lnTo>
                  <a:lnTo>
                    <a:pt x="1009" y="188"/>
                  </a:lnTo>
                  <a:lnTo>
                    <a:pt x="1009" y="188"/>
                  </a:lnTo>
                  <a:lnTo>
                    <a:pt x="1009" y="188"/>
                  </a:lnTo>
                  <a:lnTo>
                    <a:pt x="1009" y="188"/>
                  </a:lnTo>
                  <a:close/>
                  <a:moveTo>
                    <a:pt x="1202" y="188"/>
                  </a:moveTo>
                  <a:lnTo>
                    <a:pt x="1212" y="183"/>
                  </a:lnTo>
                  <a:lnTo>
                    <a:pt x="1217" y="178"/>
                  </a:lnTo>
                  <a:lnTo>
                    <a:pt x="1222" y="178"/>
                  </a:lnTo>
                  <a:lnTo>
                    <a:pt x="1222" y="178"/>
                  </a:lnTo>
                  <a:lnTo>
                    <a:pt x="1227" y="183"/>
                  </a:lnTo>
                  <a:lnTo>
                    <a:pt x="1232" y="183"/>
                  </a:lnTo>
                  <a:lnTo>
                    <a:pt x="1232" y="188"/>
                  </a:lnTo>
                  <a:lnTo>
                    <a:pt x="1227" y="193"/>
                  </a:lnTo>
                  <a:lnTo>
                    <a:pt x="1227" y="198"/>
                  </a:lnTo>
                  <a:lnTo>
                    <a:pt x="1222" y="198"/>
                  </a:lnTo>
                  <a:lnTo>
                    <a:pt x="1217" y="198"/>
                  </a:lnTo>
                  <a:lnTo>
                    <a:pt x="1212" y="193"/>
                  </a:lnTo>
                  <a:lnTo>
                    <a:pt x="1207" y="193"/>
                  </a:lnTo>
                  <a:lnTo>
                    <a:pt x="1202" y="188"/>
                  </a:lnTo>
                  <a:close/>
                  <a:moveTo>
                    <a:pt x="1439" y="188"/>
                  </a:moveTo>
                  <a:lnTo>
                    <a:pt x="1444" y="178"/>
                  </a:lnTo>
                  <a:lnTo>
                    <a:pt x="1449" y="173"/>
                  </a:lnTo>
                  <a:lnTo>
                    <a:pt x="1459" y="173"/>
                  </a:lnTo>
                  <a:lnTo>
                    <a:pt x="1469" y="173"/>
                  </a:lnTo>
                  <a:lnTo>
                    <a:pt x="1479" y="178"/>
                  </a:lnTo>
                  <a:lnTo>
                    <a:pt x="1484" y="183"/>
                  </a:lnTo>
                  <a:lnTo>
                    <a:pt x="1489" y="188"/>
                  </a:lnTo>
                  <a:lnTo>
                    <a:pt x="1484" y="193"/>
                  </a:lnTo>
                  <a:lnTo>
                    <a:pt x="1474" y="198"/>
                  </a:lnTo>
                  <a:lnTo>
                    <a:pt x="1464" y="203"/>
                  </a:lnTo>
                  <a:lnTo>
                    <a:pt x="1459" y="203"/>
                  </a:lnTo>
                  <a:lnTo>
                    <a:pt x="1449" y="203"/>
                  </a:lnTo>
                  <a:lnTo>
                    <a:pt x="1444" y="193"/>
                  </a:lnTo>
                  <a:lnTo>
                    <a:pt x="1439" y="188"/>
                  </a:lnTo>
                  <a:close/>
                  <a:moveTo>
                    <a:pt x="1281" y="159"/>
                  </a:moveTo>
                  <a:lnTo>
                    <a:pt x="1286" y="149"/>
                  </a:lnTo>
                  <a:lnTo>
                    <a:pt x="1296" y="144"/>
                  </a:lnTo>
                  <a:lnTo>
                    <a:pt x="1301" y="144"/>
                  </a:lnTo>
                  <a:lnTo>
                    <a:pt x="1306" y="144"/>
                  </a:lnTo>
                  <a:lnTo>
                    <a:pt x="1316" y="149"/>
                  </a:lnTo>
                  <a:lnTo>
                    <a:pt x="1321" y="154"/>
                  </a:lnTo>
                  <a:lnTo>
                    <a:pt x="1321" y="163"/>
                  </a:lnTo>
                  <a:lnTo>
                    <a:pt x="1316" y="168"/>
                  </a:lnTo>
                  <a:lnTo>
                    <a:pt x="1311" y="178"/>
                  </a:lnTo>
                  <a:lnTo>
                    <a:pt x="1306" y="178"/>
                  </a:lnTo>
                  <a:lnTo>
                    <a:pt x="1296" y="178"/>
                  </a:lnTo>
                  <a:lnTo>
                    <a:pt x="1291" y="178"/>
                  </a:lnTo>
                  <a:lnTo>
                    <a:pt x="1286" y="168"/>
                  </a:lnTo>
                  <a:lnTo>
                    <a:pt x="1281" y="159"/>
                  </a:lnTo>
                  <a:close/>
                  <a:moveTo>
                    <a:pt x="1494" y="159"/>
                  </a:moveTo>
                  <a:lnTo>
                    <a:pt x="1499" y="154"/>
                  </a:lnTo>
                  <a:lnTo>
                    <a:pt x="1504" y="149"/>
                  </a:lnTo>
                  <a:lnTo>
                    <a:pt x="1508" y="144"/>
                  </a:lnTo>
                  <a:lnTo>
                    <a:pt x="1518" y="144"/>
                  </a:lnTo>
                  <a:lnTo>
                    <a:pt x="1523" y="144"/>
                  </a:lnTo>
                  <a:lnTo>
                    <a:pt x="1533" y="144"/>
                  </a:lnTo>
                  <a:lnTo>
                    <a:pt x="1543" y="144"/>
                  </a:lnTo>
                  <a:lnTo>
                    <a:pt x="1553" y="144"/>
                  </a:lnTo>
                  <a:lnTo>
                    <a:pt x="1558" y="139"/>
                  </a:lnTo>
                  <a:lnTo>
                    <a:pt x="1563" y="134"/>
                  </a:lnTo>
                  <a:lnTo>
                    <a:pt x="1568" y="129"/>
                  </a:lnTo>
                  <a:lnTo>
                    <a:pt x="1573" y="124"/>
                  </a:lnTo>
                  <a:lnTo>
                    <a:pt x="1578" y="119"/>
                  </a:lnTo>
                  <a:lnTo>
                    <a:pt x="1588" y="114"/>
                  </a:lnTo>
                  <a:lnTo>
                    <a:pt x="1593" y="114"/>
                  </a:lnTo>
                  <a:lnTo>
                    <a:pt x="1602" y="114"/>
                  </a:lnTo>
                  <a:lnTo>
                    <a:pt x="1612" y="109"/>
                  </a:lnTo>
                  <a:lnTo>
                    <a:pt x="1622" y="109"/>
                  </a:lnTo>
                  <a:lnTo>
                    <a:pt x="1627" y="109"/>
                  </a:lnTo>
                  <a:lnTo>
                    <a:pt x="1637" y="109"/>
                  </a:lnTo>
                  <a:lnTo>
                    <a:pt x="1647" y="109"/>
                  </a:lnTo>
                  <a:lnTo>
                    <a:pt x="1657" y="109"/>
                  </a:lnTo>
                  <a:lnTo>
                    <a:pt x="1662" y="114"/>
                  </a:lnTo>
                  <a:lnTo>
                    <a:pt x="1672" y="114"/>
                  </a:lnTo>
                  <a:lnTo>
                    <a:pt x="1682" y="119"/>
                  </a:lnTo>
                  <a:lnTo>
                    <a:pt x="1687" y="119"/>
                  </a:lnTo>
                  <a:lnTo>
                    <a:pt x="1691" y="124"/>
                  </a:lnTo>
                  <a:lnTo>
                    <a:pt x="1696" y="129"/>
                  </a:lnTo>
                  <a:lnTo>
                    <a:pt x="1696" y="139"/>
                  </a:lnTo>
                  <a:lnTo>
                    <a:pt x="1701" y="144"/>
                  </a:lnTo>
                  <a:lnTo>
                    <a:pt x="1706" y="144"/>
                  </a:lnTo>
                  <a:lnTo>
                    <a:pt x="1716" y="144"/>
                  </a:lnTo>
                  <a:lnTo>
                    <a:pt x="1726" y="139"/>
                  </a:lnTo>
                  <a:lnTo>
                    <a:pt x="1736" y="144"/>
                  </a:lnTo>
                  <a:lnTo>
                    <a:pt x="1746" y="144"/>
                  </a:lnTo>
                  <a:lnTo>
                    <a:pt x="1751" y="149"/>
                  </a:lnTo>
                  <a:lnTo>
                    <a:pt x="1751" y="159"/>
                  </a:lnTo>
                  <a:lnTo>
                    <a:pt x="1751" y="163"/>
                  </a:lnTo>
                  <a:lnTo>
                    <a:pt x="1751" y="168"/>
                  </a:lnTo>
                  <a:lnTo>
                    <a:pt x="1741" y="173"/>
                  </a:lnTo>
                  <a:lnTo>
                    <a:pt x="1736" y="178"/>
                  </a:lnTo>
                  <a:lnTo>
                    <a:pt x="1726" y="178"/>
                  </a:lnTo>
                  <a:lnTo>
                    <a:pt x="1716" y="178"/>
                  </a:lnTo>
                  <a:lnTo>
                    <a:pt x="1711" y="178"/>
                  </a:lnTo>
                  <a:lnTo>
                    <a:pt x="1701" y="173"/>
                  </a:lnTo>
                  <a:lnTo>
                    <a:pt x="1696" y="168"/>
                  </a:lnTo>
                  <a:lnTo>
                    <a:pt x="1691" y="163"/>
                  </a:lnTo>
                  <a:lnTo>
                    <a:pt x="1687" y="159"/>
                  </a:lnTo>
                  <a:lnTo>
                    <a:pt x="1677" y="159"/>
                  </a:lnTo>
                  <a:lnTo>
                    <a:pt x="1672" y="154"/>
                  </a:lnTo>
                  <a:lnTo>
                    <a:pt x="1662" y="154"/>
                  </a:lnTo>
                  <a:lnTo>
                    <a:pt x="1652" y="154"/>
                  </a:lnTo>
                  <a:lnTo>
                    <a:pt x="1642" y="154"/>
                  </a:lnTo>
                  <a:lnTo>
                    <a:pt x="1637" y="154"/>
                  </a:lnTo>
                  <a:lnTo>
                    <a:pt x="1627" y="159"/>
                  </a:lnTo>
                  <a:lnTo>
                    <a:pt x="1617" y="159"/>
                  </a:lnTo>
                  <a:lnTo>
                    <a:pt x="1612" y="154"/>
                  </a:lnTo>
                  <a:lnTo>
                    <a:pt x="1602" y="154"/>
                  </a:lnTo>
                  <a:lnTo>
                    <a:pt x="1593" y="154"/>
                  </a:lnTo>
                  <a:lnTo>
                    <a:pt x="1583" y="154"/>
                  </a:lnTo>
                  <a:lnTo>
                    <a:pt x="1573" y="159"/>
                  </a:lnTo>
                  <a:lnTo>
                    <a:pt x="1568" y="163"/>
                  </a:lnTo>
                  <a:lnTo>
                    <a:pt x="1568" y="168"/>
                  </a:lnTo>
                  <a:lnTo>
                    <a:pt x="1563" y="173"/>
                  </a:lnTo>
                  <a:lnTo>
                    <a:pt x="1558" y="178"/>
                  </a:lnTo>
                  <a:lnTo>
                    <a:pt x="1548" y="178"/>
                  </a:lnTo>
                  <a:lnTo>
                    <a:pt x="1538" y="178"/>
                  </a:lnTo>
                  <a:lnTo>
                    <a:pt x="1528" y="183"/>
                  </a:lnTo>
                  <a:lnTo>
                    <a:pt x="1523" y="178"/>
                  </a:lnTo>
                  <a:lnTo>
                    <a:pt x="1513" y="178"/>
                  </a:lnTo>
                  <a:lnTo>
                    <a:pt x="1508" y="173"/>
                  </a:lnTo>
                  <a:lnTo>
                    <a:pt x="1499" y="173"/>
                  </a:lnTo>
                  <a:lnTo>
                    <a:pt x="1499" y="168"/>
                  </a:lnTo>
                  <a:lnTo>
                    <a:pt x="1494" y="159"/>
                  </a:lnTo>
                  <a:close/>
                  <a:moveTo>
                    <a:pt x="1360" y="134"/>
                  </a:moveTo>
                  <a:lnTo>
                    <a:pt x="1365" y="124"/>
                  </a:lnTo>
                  <a:lnTo>
                    <a:pt x="1370" y="119"/>
                  </a:lnTo>
                  <a:lnTo>
                    <a:pt x="1375" y="114"/>
                  </a:lnTo>
                  <a:lnTo>
                    <a:pt x="1385" y="114"/>
                  </a:lnTo>
                  <a:lnTo>
                    <a:pt x="1395" y="114"/>
                  </a:lnTo>
                  <a:lnTo>
                    <a:pt x="1405" y="119"/>
                  </a:lnTo>
                  <a:lnTo>
                    <a:pt x="1415" y="119"/>
                  </a:lnTo>
                  <a:lnTo>
                    <a:pt x="1419" y="124"/>
                  </a:lnTo>
                  <a:lnTo>
                    <a:pt x="1424" y="129"/>
                  </a:lnTo>
                  <a:lnTo>
                    <a:pt x="1424" y="134"/>
                  </a:lnTo>
                  <a:lnTo>
                    <a:pt x="1419" y="139"/>
                  </a:lnTo>
                  <a:lnTo>
                    <a:pt x="1415" y="144"/>
                  </a:lnTo>
                  <a:lnTo>
                    <a:pt x="1405" y="149"/>
                  </a:lnTo>
                  <a:lnTo>
                    <a:pt x="1395" y="154"/>
                  </a:lnTo>
                  <a:lnTo>
                    <a:pt x="1390" y="154"/>
                  </a:lnTo>
                  <a:lnTo>
                    <a:pt x="1380" y="154"/>
                  </a:lnTo>
                  <a:lnTo>
                    <a:pt x="1375" y="154"/>
                  </a:lnTo>
                  <a:lnTo>
                    <a:pt x="1370" y="149"/>
                  </a:lnTo>
                  <a:lnTo>
                    <a:pt x="1365" y="144"/>
                  </a:lnTo>
                  <a:lnTo>
                    <a:pt x="1360" y="134"/>
                  </a:lnTo>
                  <a:close/>
                  <a:moveTo>
                    <a:pt x="1439" y="104"/>
                  </a:moveTo>
                  <a:lnTo>
                    <a:pt x="1444" y="99"/>
                  </a:lnTo>
                  <a:lnTo>
                    <a:pt x="1449" y="94"/>
                  </a:lnTo>
                  <a:lnTo>
                    <a:pt x="1459" y="89"/>
                  </a:lnTo>
                  <a:lnTo>
                    <a:pt x="1469" y="84"/>
                  </a:lnTo>
                  <a:lnTo>
                    <a:pt x="1479" y="84"/>
                  </a:lnTo>
                  <a:lnTo>
                    <a:pt x="1489" y="84"/>
                  </a:lnTo>
                  <a:lnTo>
                    <a:pt x="1499" y="89"/>
                  </a:lnTo>
                  <a:lnTo>
                    <a:pt x="1508" y="94"/>
                  </a:lnTo>
                  <a:lnTo>
                    <a:pt x="1513" y="104"/>
                  </a:lnTo>
                  <a:lnTo>
                    <a:pt x="1513" y="109"/>
                  </a:lnTo>
                  <a:lnTo>
                    <a:pt x="1508" y="114"/>
                  </a:lnTo>
                  <a:lnTo>
                    <a:pt x="1504" y="124"/>
                  </a:lnTo>
                  <a:lnTo>
                    <a:pt x="1494" y="129"/>
                  </a:lnTo>
                  <a:lnTo>
                    <a:pt x="1484" y="129"/>
                  </a:lnTo>
                  <a:lnTo>
                    <a:pt x="1474" y="134"/>
                  </a:lnTo>
                  <a:lnTo>
                    <a:pt x="1464" y="129"/>
                  </a:lnTo>
                  <a:lnTo>
                    <a:pt x="1454" y="129"/>
                  </a:lnTo>
                  <a:lnTo>
                    <a:pt x="1449" y="124"/>
                  </a:lnTo>
                  <a:lnTo>
                    <a:pt x="1444" y="114"/>
                  </a:lnTo>
                  <a:lnTo>
                    <a:pt x="1439" y="104"/>
                  </a:lnTo>
                  <a:close/>
                  <a:moveTo>
                    <a:pt x="1518" y="79"/>
                  </a:moveTo>
                  <a:lnTo>
                    <a:pt x="1523" y="74"/>
                  </a:lnTo>
                  <a:lnTo>
                    <a:pt x="1533" y="65"/>
                  </a:lnTo>
                  <a:lnTo>
                    <a:pt x="1538" y="60"/>
                  </a:lnTo>
                  <a:lnTo>
                    <a:pt x="1548" y="60"/>
                  </a:lnTo>
                  <a:lnTo>
                    <a:pt x="1558" y="60"/>
                  </a:lnTo>
                  <a:lnTo>
                    <a:pt x="1573" y="60"/>
                  </a:lnTo>
                  <a:lnTo>
                    <a:pt x="1583" y="65"/>
                  </a:lnTo>
                  <a:lnTo>
                    <a:pt x="1588" y="70"/>
                  </a:lnTo>
                  <a:lnTo>
                    <a:pt x="1593" y="74"/>
                  </a:lnTo>
                  <a:lnTo>
                    <a:pt x="1593" y="84"/>
                  </a:lnTo>
                  <a:lnTo>
                    <a:pt x="1593" y="89"/>
                  </a:lnTo>
                  <a:lnTo>
                    <a:pt x="1583" y="94"/>
                  </a:lnTo>
                  <a:lnTo>
                    <a:pt x="1573" y="99"/>
                  </a:lnTo>
                  <a:lnTo>
                    <a:pt x="1563" y="104"/>
                  </a:lnTo>
                  <a:lnTo>
                    <a:pt x="1553" y="104"/>
                  </a:lnTo>
                  <a:lnTo>
                    <a:pt x="1543" y="104"/>
                  </a:lnTo>
                  <a:lnTo>
                    <a:pt x="1533" y="99"/>
                  </a:lnTo>
                  <a:lnTo>
                    <a:pt x="1528" y="94"/>
                  </a:lnTo>
                  <a:lnTo>
                    <a:pt x="1523" y="89"/>
                  </a:lnTo>
                  <a:lnTo>
                    <a:pt x="1518" y="79"/>
                  </a:lnTo>
                  <a:close/>
                  <a:moveTo>
                    <a:pt x="2235" y="1656"/>
                  </a:moveTo>
                  <a:lnTo>
                    <a:pt x="2260" y="1631"/>
                  </a:lnTo>
                  <a:lnTo>
                    <a:pt x="2285" y="1631"/>
                  </a:lnTo>
                  <a:lnTo>
                    <a:pt x="2315" y="1631"/>
                  </a:lnTo>
                  <a:lnTo>
                    <a:pt x="2339" y="1631"/>
                  </a:lnTo>
                  <a:lnTo>
                    <a:pt x="2369" y="1631"/>
                  </a:lnTo>
                  <a:lnTo>
                    <a:pt x="2394" y="1631"/>
                  </a:lnTo>
                  <a:lnTo>
                    <a:pt x="2418" y="1631"/>
                  </a:lnTo>
                  <a:lnTo>
                    <a:pt x="2448" y="1602"/>
                  </a:lnTo>
                  <a:lnTo>
                    <a:pt x="2448" y="1577"/>
                  </a:lnTo>
                  <a:lnTo>
                    <a:pt x="2448" y="1547"/>
                  </a:lnTo>
                  <a:lnTo>
                    <a:pt x="2448" y="1523"/>
                  </a:lnTo>
                  <a:lnTo>
                    <a:pt x="2473" y="1498"/>
                  </a:lnTo>
                  <a:lnTo>
                    <a:pt x="2473" y="1468"/>
                  </a:lnTo>
                  <a:lnTo>
                    <a:pt x="2473" y="1444"/>
                  </a:lnTo>
                  <a:lnTo>
                    <a:pt x="2473" y="1414"/>
                  </a:lnTo>
                  <a:lnTo>
                    <a:pt x="2503" y="1389"/>
                  </a:lnTo>
                  <a:lnTo>
                    <a:pt x="2503" y="1364"/>
                  </a:lnTo>
                  <a:lnTo>
                    <a:pt x="2503" y="1335"/>
                  </a:lnTo>
                  <a:lnTo>
                    <a:pt x="2503" y="1310"/>
                  </a:lnTo>
                  <a:lnTo>
                    <a:pt x="2527" y="1280"/>
                  </a:lnTo>
                  <a:lnTo>
                    <a:pt x="2527" y="1256"/>
                  </a:lnTo>
                  <a:lnTo>
                    <a:pt x="2527" y="1226"/>
                  </a:lnTo>
                  <a:lnTo>
                    <a:pt x="2527" y="1201"/>
                  </a:lnTo>
                  <a:lnTo>
                    <a:pt x="2552" y="1177"/>
                  </a:lnTo>
                  <a:lnTo>
                    <a:pt x="2552" y="1147"/>
                  </a:lnTo>
                  <a:lnTo>
                    <a:pt x="2552" y="1122"/>
                  </a:lnTo>
                  <a:lnTo>
                    <a:pt x="2552" y="1093"/>
                  </a:lnTo>
                  <a:lnTo>
                    <a:pt x="2582" y="1068"/>
                  </a:lnTo>
                  <a:lnTo>
                    <a:pt x="2582" y="1043"/>
                  </a:lnTo>
                  <a:lnTo>
                    <a:pt x="2582" y="1014"/>
                  </a:lnTo>
                  <a:lnTo>
                    <a:pt x="2582" y="989"/>
                  </a:lnTo>
                  <a:lnTo>
                    <a:pt x="2582" y="959"/>
                  </a:lnTo>
                  <a:lnTo>
                    <a:pt x="2582" y="934"/>
                  </a:lnTo>
                  <a:lnTo>
                    <a:pt x="2582" y="910"/>
                  </a:lnTo>
                  <a:lnTo>
                    <a:pt x="2582" y="880"/>
                  </a:lnTo>
                  <a:lnTo>
                    <a:pt x="2582" y="855"/>
                  </a:lnTo>
                  <a:lnTo>
                    <a:pt x="2582" y="826"/>
                  </a:lnTo>
                  <a:lnTo>
                    <a:pt x="2582" y="801"/>
                  </a:lnTo>
                  <a:lnTo>
                    <a:pt x="2582" y="776"/>
                  </a:lnTo>
                  <a:lnTo>
                    <a:pt x="2582" y="747"/>
                  </a:lnTo>
                  <a:lnTo>
                    <a:pt x="2582" y="722"/>
                  </a:lnTo>
                  <a:lnTo>
                    <a:pt x="2582" y="692"/>
                  </a:lnTo>
                  <a:lnTo>
                    <a:pt x="2582" y="668"/>
                  </a:lnTo>
                  <a:lnTo>
                    <a:pt x="2582" y="643"/>
                  </a:lnTo>
                  <a:lnTo>
                    <a:pt x="2582" y="613"/>
                  </a:lnTo>
                  <a:lnTo>
                    <a:pt x="2582" y="589"/>
                  </a:lnTo>
                  <a:lnTo>
                    <a:pt x="2582" y="559"/>
                  </a:lnTo>
                  <a:lnTo>
                    <a:pt x="2582" y="534"/>
                  </a:lnTo>
                  <a:lnTo>
                    <a:pt x="2582" y="504"/>
                  </a:lnTo>
                  <a:lnTo>
                    <a:pt x="2582" y="480"/>
                  </a:lnTo>
                  <a:lnTo>
                    <a:pt x="2582" y="455"/>
                  </a:lnTo>
                  <a:lnTo>
                    <a:pt x="2582" y="425"/>
                  </a:lnTo>
                  <a:lnTo>
                    <a:pt x="2582" y="401"/>
                  </a:lnTo>
                  <a:lnTo>
                    <a:pt x="2582" y="371"/>
                  </a:lnTo>
                  <a:lnTo>
                    <a:pt x="2582" y="346"/>
                  </a:lnTo>
                  <a:lnTo>
                    <a:pt x="2582" y="322"/>
                  </a:lnTo>
                  <a:lnTo>
                    <a:pt x="2582" y="292"/>
                  </a:lnTo>
                  <a:lnTo>
                    <a:pt x="2582" y="267"/>
                  </a:lnTo>
                  <a:lnTo>
                    <a:pt x="2582" y="238"/>
                  </a:lnTo>
                  <a:lnTo>
                    <a:pt x="2552" y="213"/>
                  </a:lnTo>
                  <a:lnTo>
                    <a:pt x="2552" y="188"/>
                  </a:lnTo>
                  <a:lnTo>
                    <a:pt x="2552" y="159"/>
                  </a:lnTo>
                  <a:lnTo>
                    <a:pt x="2552" y="134"/>
                  </a:lnTo>
                  <a:lnTo>
                    <a:pt x="2552" y="104"/>
                  </a:lnTo>
                  <a:lnTo>
                    <a:pt x="2527" y="79"/>
                  </a:lnTo>
                  <a:lnTo>
                    <a:pt x="2503" y="79"/>
                  </a:lnTo>
                  <a:lnTo>
                    <a:pt x="2473" y="79"/>
                  </a:lnTo>
                  <a:lnTo>
                    <a:pt x="2448" y="55"/>
                  </a:lnTo>
                  <a:lnTo>
                    <a:pt x="2418" y="55"/>
                  </a:lnTo>
                  <a:lnTo>
                    <a:pt x="2394" y="55"/>
                  </a:lnTo>
                  <a:lnTo>
                    <a:pt x="2369" y="25"/>
                  </a:lnTo>
                  <a:lnTo>
                    <a:pt x="2339" y="25"/>
                  </a:lnTo>
                  <a:lnTo>
                    <a:pt x="2315" y="25"/>
                  </a:lnTo>
                  <a:lnTo>
                    <a:pt x="2285" y="0"/>
                  </a:lnTo>
                  <a:lnTo>
                    <a:pt x="2260" y="0"/>
                  </a:lnTo>
                  <a:lnTo>
                    <a:pt x="2235" y="0"/>
                  </a:lnTo>
                  <a:lnTo>
                    <a:pt x="2206" y="0"/>
                  </a:lnTo>
                  <a:lnTo>
                    <a:pt x="2181" y="0"/>
                  </a:lnTo>
                  <a:lnTo>
                    <a:pt x="2156" y="0"/>
                  </a:lnTo>
                  <a:lnTo>
                    <a:pt x="2127" y="0"/>
                  </a:lnTo>
                  <a:lnTo>
                    <a:pt x="2102" y="0"/>
                  </a:lnTo>
                  <a:lnTo>
                    <a:pt x="2072" y="0"/>
                  </a:lnTo>
                  <a:lnTo>
                    <a:pt x="2048" y="0"/>
                  </a:lnTo>
                  <a:lnTo>
                    <a:pt x="2023" y="0"/>
                  </a:lnTo>
                  <a:lnTo>
                    <a:pt x="1993" y="0"/>
                  </a:lnTo>
                  <a:lnTo>
                    <a:pt x="1968" y="0"/>
                  </a:lnTo>
                  <a:lnTo>
                    <a:pt x="1944" y="0"/>
                  </a:lnTo>
                  <a:lnTo>
                    <a:pt x="1914" y="0"/>
                  </a:lnTo>
                  <a:lnTo>
                    <a:pt x="1889" y="0"/>
                  </a:lnTo>
                  <a:lnTo>
                    <a:pt x="1860" y="0"/>
                  </a:lnTo>
                  <a:lnTo>
                    <a:pt x="1835" y="0"/>
                  </a:lnTo>
                  <a:lnTo>
                    <a:pt x="1810" y="0"/>
                  </a:lnTo>
                  <a:lnTo>
                    <a:pt x="1780" y="0"/>
                  </a:lnTo>
                  <a:lnTo>
                    <a:pt x="1756" y="0"/>
                  </a:lnTo>
                  <a:lnTo>
                    <a:pt x="1726" y="0"/>
                  </a:lnTo>
                  <a:lnTo>
                    <a:pt x="1701" y="0"/>
                  </a:lnTo>
                  <a:lnTo>
                    <a:pt x="1677" y="0"/>
                  </a:lnTo>
                  <a:lnTo>
                    <a:pt x="1647" y="0"/>
                  </a:lnTo>
                  <a:lnTo>
                    <a:pt x="1622" y="0"/>
                  </a:lnTo>
                  <a:lnTo>
                    <a:pt x="1598" y="0"/>
                  </a:lnTo>
                  <a:lnTo>
                    <a:pt x="1568" y="0"/>
                  </a:lnTo>
                  <a:lnTo>
                    <a:pt x="1543" y="0"/>
                  </a:lnTo>
                  <a:lnTo>
                    <a:pt x="1513" y="0"/>
                  </a:lnTo>
                  <a:lnTo>
                    <a:pt x="1489" y="0"/>
                  </a:lnTo>
                  <a:lnTo>
                    <a:pt x="1464" y="0"/>
                  </a:lnTo>
                  <a:lnTo>
                    <a:pt x="1434" y="0"/>
                  </a:lnTo>
                  <a:lnTo>
                    <a:pt x="1410" y="0"/>
                  </a:lnTo>
                  <a:lnTo>
                    <a:pt x="1385" y="0"/>
                  </a:lnTo>
                  <a:lnTo>
                    <a:pt x="1355" y="0"/>
                  </a:lnTo>
                  <a:lnTo>
                    <a:pt x="1330" y="0"/>
                  </a:lnTo>
                  <a:lnTo>
                    <a:pt x="1301" y="0"/>
                  </a:lnTo>
                  <a:lnTo>
                    <a:pt x="1276" y="0"/>
                  </a:lnTo>
                  <a:lnTo>
                    <a:pt x="1251" y="0"/>
                  </a:lnTo>
                  <a:lnTo>
                    <a:pt x="1222" y="0"/>
                  </a:lnTo>
                  <a:lnTo>
                    <a:pt x="1197" y="0"/>
                  </a:lnTo>
                  <a:lnTo>
                    <a:pt x="1172" y="0"/>
                  </a:lnTo>
                  <a:lnTo>
                    <a:pt x="1143" y="0"/>
                  </a:lnTo>
                  <a:lnTo>
                    <a:pt x="1118" y="0"/>
                  </a:lnTo>
                  <a:lnTo>
                    <a:pt x="1088" y="0"/>
                  </a:lnTo>
                  <a:lnTo>
                    <a:pt x="1063" y="0"/>
                  </a:lnTo>
                  <a:lnTo>
                    <a:pt x="1039" y="0"/>
                  </a:lnTo>
                  <a:lnTo>
                    <a:pt x="1009" y="0"/>
                  </a:lnTo>
                  <a:lnTo>
                    <a:pt x="984" y="0"/>
                  </a:lnTo>
                  <a:lnTo>
                    <a:pt x="955" y="0"/>
                  </a:lnTo>
                  <a:lnTo>
                    <a:pt x="930" y="0"/>
                  </a:lnTo>
                  <a:lnTo>
                    <a:pt x="905" y="0"/>
                  </a:lnTo>
                  <a:lnTo>
                    <a:pt x="875" y="0"/>
                  </a:lnTo>
                  <a:lnTo>
                    <a:pt x="851" y="0"/>
                  </a:lnTo>
                  <a:lnTo>
                    <a:pt x="826" y="0"/>
                  </a:lnTo>
                  <a:lnTo>
                    <a:pt x="796" y="0"/>
                  </a:lnTo>
                  <a:lnTo>
                    <a:pt x="772" y="0"/>
                  </a:lnTo>
                  <a:lnTo>
                    <a:pt x="742" y="0"/>
                  </a:lnTo>
                  <a:lnTo>
                    <a:pt x="717" y="0"/>
                  </a:lnTo>
                  <a:lnTo>
                    <a:pt x="692" y="0"/>
                  </a:lnTo>
                  <a:lnTo>
                    <a:pt x="663" y="0"/>
                  </a:lnTo>
                  <a:lnTo>
                    <a:pt x="638" y="0"/>
                  </a:lnTo>
                  <a:lnTo>
                    <a:pt x="613" y="0"/>
                  </a:lnTo>
                  <a:lnTo>
                    <a:pt x="584" y="25"/>
                  </a:lnTo>
                  <a:lnTo>
                    <a:pt x="559" y="55"/>
                  </a:lnTo>
                  <a:lnTo>
                    <a:pt x="529" y="79"/>
                  </a:lnTo>
                  <a:lnTo>
                    <a:pt x="505" y="104"/>
                  </a:lnTo>
                  <a:lnTo>
                    <a:pt x="480" y="134"/>
                  </a:lnTo>
                  <a:lnTo>
                    <a:pt x="450" y="134"/>
                  </a:lnTo>
                  <a:lnTo>
                    <a:pt x="425" y="159"/>
                  </a:lnTo>
                  <a:lnTo>
                    <a:pt x="396" y="188"/>
                  </a:lnTo>
                  <a:lnTo>
                    <a:pt x="371" y="213"/>
                  </a:lnTo>
                  <a:lnTo>
                    <a:pt x="346" y="238"/>
                  </a:lnTo>
                  <a:lnTo>
                    <a:pt x="317" y="267"/>
                  </a:lnTo>
                  <a:lnTo>
                    <a:pt x="292" y="292"/>
                  </a:lnTo>
                  <a:lnTo>
                    <a:pt x="267" y="322"/>
                  </a:lnTo>
                  <a:lnTo>
                    <a:pt x="237" y="322"/>
                  </a:lnTo>
                  <a:lnTo>
                    <a:pt x="213" y="346"/>
                  </a:lnTo>
                  <a:lnTo>
                    <a:pt x="183" y="371"/>
                  </a:lnTo>
                  <a:lnTo>
                    <a:pt x="158" y="401"/>
                  </a:lnTo>
                  <a:lnTo>
                    <a:pt x="134" y="425"/>
                  </a:lnTo>
                  <a:lnTo>
                    <a:pt x="104" y="455"/>
                  </a:lnTo>
                  <a:lnTo>
                    <a:pt x="79" y="480"/>
                  </a:lnTo>
                  <a:lnTo>
                    <a:pt x="55" y="504"/>
                  </a:lnTo>
                  <a:lnTo>
                    <a:pt x="25" y="504"/>
                  </a:lnTo>
                  <a:lnTo>
                    <a:pt x="0" y="534"/>
                  </a:lnTo>
                  <a:lnTo>
                    <a:pt x="0" y="559"/>
                  </a:lnTo>
                  <a:lnTo>
                    <a:pt x="0" y="589"/>
                  </a:lnTo>
                  <a:lnTo>
                    <a:pt x="0" y="613"/>
                  </a:lnTo>
                  <a:lnTo>
                    <a:pt x="25" y="643"/>
                  </a:lnTo>
                  <a:lnTo>
                    <a:pt x="25" y="668"/>
                  </a:lnTo>
                  <a:lnTo>
                    <a:pt x="55" y="692"/>
                  </a:lnTo>
                  <a:lnTo>
                    <a:pt x="79" y="722"/>
                  </a:lnTo>
                  <a:lnTo>
                    <a:pt x="104" y="747"/>
                  </a:lnTo>
                  <a:lnTo>
                    <a:pt x="134" y="776"/>
                  </a:lnTo>
                  <a:lnTo>
                    <a:pt x="134" y="801"/>
                  </a:lnTo>
                  <a:lnTo>
                    <a:pt x="158" y="826"/>
                  </a:lnTo>
                  <a:lnTo>
                    <a:pt x="183" y="855"/>
                  </a:lnTo>
                  <a:lnTo>
                    <a:pt x="213" y="880"/>
                  </a:lnTo>
                  <a:lnTo>
                    <a:pt x="237" y="910"/>
                  </a:lnTo>
                  <a:lnTo>
                    <a:pt x="267" y="934"/>
                  </a:lnTo>
                  <a:lnTo>
                    <a:pt x="292" y="959"/>
                  </a:lnTo>
                  <a:lnTo>
                    <a:pt x="292" y="989"/>
                  </a:lnTo>
                  <a:lnTo>
                    <a:pt x="317" y="1014"/>
                  </a:lnTo>
                  <a:lnTo>
                    <a:pt x="346" y="1043"/>
                  </a:lnTo>
                  <a:lnTo>
                    <a:pt x="371" y="1068"/>
                  </a:lnTo>
                  <a:lnTo>
                    <a:pt x="396" y="1093"/>
                  </a:lnTo>
                  <a:lnTo>
                    <a:pt x="425" y="1122"/>
                  </a:lnTo>
                  <a:lnTo>
                    <a:pt x="450" y="1147"/>
                  </a:lnTo>
                  <a:lnTo>
                    <a:pt x="480" y="1177"/>
                  </a:lnTo>
                  <a:lnTo>
                    <a:pt x="505" y="1201"/>
                  </a:lnTo>
                  <a:lnTo>
                    <a:pt x="529" y="1226"/>
                  </a:lnTo>
                  <a:lnTo>
                    <a:pt x="559" y="1256"/>
                  </a:lnTo>
                  <a:lnTo>
                    <a:pt x="584" y="1280"/>
                  </a:lnTo>
                  <a:lnTo>
                    <a:pt x="613" y="1310"/>
                  </a:lnTo>
                  <a:lnTo>
                    <a:pt x="638" y="1335"/>
                  </a:lnTo>
                  <a:lnTo>
                    <a:pt x="663" y="1364"/>
                  </a:lnTo>
                  <a:lnTo>
                    <a:pt x="692" y="1389"/>
                  </a:lnTo>
                  <a:lnTo>
                    <a:pt x="717" y="1414"/>
                  </a:lnTo>
                  <a:lnTo>
                    <a:pt x="742" y="1444"/>
                  </a:lnTo>
                  <a:lnTo>
                    <a:pt x="772" y="1468"/>
                  </a:lnTo>
                  <a:lnTo>
                    <a:pt x="796" y="1468"/>
                  </a:lnTo>
                  <a:lnTo>
                    <a:pt x="826" y="1498"/>
                  </a:lnTo>
                  <a:lnTo>
                    <a:pt x="851" y="1523"/>
                  </a:lnTo>
                  <a:lnTo>
                    <a:pt x="875" y="1547"/>
                  </a:lnTo>
                  <a:lnTo>
                    <a:pt x="905" y="1577"/>
                  </a:lnTo>
                  <a:lnTo>
                    <a:pt x="930" y="1602"/>
                  </a:lnTo>
                  <a:lnTo>
                    <a:pt x="955" y="1631"/>
                  </a:lnTo>
                  <a:lnTo>
                    <a:pt x="984" y="1656"/>
                  </a:lnTo>
                  <a:lnTo>
                    <a:pt x="1009" y="1656"/>
                  </a:lnTo>
                  <a:lnTo>
                    <a:pt x="1039" y="1656"/>
                  </a:lnTo>
                  <a:lnTo>
                    <a:pt x="1063" y="1656"/>
                  </a:lnTo>
                  <a:lnTo>
                    <a:pt x="1088" y="1656"/>
                  </a:lnTo>
                  <a:lnTo>
                    <a:pt x="1118" y="1656"/>
                  </a:lnTo>
                  <a:lnTo>
                    <a:pt x="1143" y="1656"/>
                  </a:lnTo>
                  <a:lnTo>
                    <a:pt x="1172" y="1656"/>
                  </a:lnTo>
                  <a:lnTo>
                    <a:pt x="1197" y="1656"/>
                  </a:lnTo>
                  <a:lnTo>
                    <a:pt x="1222" y="1656"/>
                  </a:lnTo>
                  <a:lnTo>
                    <a:pt x="1251" y="1656"/>
                  </a:lnTo>
                  <a:lnTo>
                    <a:pt x="1276" y="1656"/>
                  </a:lnTo>
                  <a:lnTo>
                    <a:pt x="1301" y="1656"/>
                  </a:lnTo>
                  <a:lnTo>
                    <a:pt x="1330" y="1656"/>
                  </a:lnTo>
                  <a:lnTo>
                    <a:pt x="1355" y="1656"/>
                  </a:lnTo>
                  <a:lnTo>
                    <a:pt x="1385" y="1656"/>
                  </a:lnTo>
                  <a:lnTo>
                    <a:pt x="1410" y="1656"/>
                  </a:lnTo>
                  <a:lnTo>
                    <a:pt x="1434" y="1656"/>
                  </a:lnTo>
                  <a:lnTo>
                    <a:pt x="1464" y="1656"/>
                  </a:lnTo>
                  <a:lnTo>
                    <a:pt x="1489" y="1656"/>
                  </a:lnTo>
                  <a:lnTo>
                    <a:pt x="1513" y="1656"/>
                  </a:lnTo>
                  <a:lnTo>
                    <a:pt x="1543" y="1656"/>
                  </a:lnTo>
                  <a:lnTo>
                    <a:pt x="1568" y="1656"/>
                  </a:lnTo>
                  <a:lnTo>
                    <a:pt x="1598" y="1656"/>
                  </a:lnTo>
                  <a:lnTo>
                    <a:pt x="1622" y="1656"/>
                  </a:lnTo>
                  <a:lnTo>
                    <a:pt x="1647" y="1656"/>
                  </a:lnTo>
                  <a:lnTo>
                    <a:pt x="1677" y="1656"/>
                  </a:lnTo>
                  <a:lnTo>
                    <a:pt x="1701" y="1656"/>
                  </a:lnTo>
                  <a:lnTo>
                    <a:pt x="1726" y="1656"/>
                  </a:lnTo>
                  <a:lnTo>
                    <a:pt x="1756" y="1656"/>
                  </a:lnTo>
                  <a:lnTo>
                    <a:pt x="1780" y="1656"/>
                  </a:lnTo>
                  <a:lnTo>
                    <a:pt x="1810" y="1656"/>
                  </a:lnTo>
                  <a:lnTo>
                    <a:pt x="1835" y="1656"/>
                  </a:lnTo>
                  <a:lnTo>
                    <a:pt x="1860" y="1656"/>
                  </a:lnTo>
                  <a:lnTo>
                    <a:pt x="1889" y="1656"/>
                  </a:lnTo>
                  <a:lnTo>
                    <a:pt x="1914" y="1656"/>
                  </a:lnTo>
                  <a:lnTo>
                    <a:pt x="1944" y="1656"/>
                  </a:lnTo>
                  <a:lnTo>
                    <a:pt x="1968" y="1656"/>
                  </a:lnTo>
                  <a:lnTo>
                    <a:pt x="1993" y="1656"/>
                  </a:lnTo>
                  <a:lnTo>
                    <a:pt x="2023" y="1656"/>
                  </a:lnTo>
                  <a:lnTo>
                    <a:pt x="2048" y="1656"/>
                  </a:lnTo>
                  <a:lnTo>
                    <a:pt x="2072" y="1656"/>
                  </a:lnTo>
                  <a:lnTo>
                    <a:pt x="2102" y="1656"/>
                  </a:lnTo>
                  <a:lnTo>
                    <a:pt x="2127" y="1656"/>
                  </a:lnTo>
                  <a:lnTo>
                    <a:pt x="2156" y="1656"/>
                  </a:lnTo>
                  <a:lnTo>
                    <a:pt x="2181" y="1656"/>
                  </a:lnTo>
                  <a:lnTo>
                    <a:pt x="2206" y="1656"/>
                  </a:lnTo>
                  <a:lnTo>
                    <a:pt x="2235" y="1656"/>
                  </a:lnTo>
                  <a:close/>
                  <a:moveTo>
                    <a:pt x="1375" y="292"/>
                  </a:moveTo>
                  <a:lnTo>
                    <a:pt x="1380" y="292"/>
                  </a:lnTo>
                  <a:lnTo>
                    <a:pt x="1390" y="292"/>
                  </a:lnTo>
                  <a:lnTo>
                    <a:pt x="1395" y="292"/>
                  </a:lnTo>
                  <a:lnTo>
                    <a:pt x="1400" y="292"/>
                  </a:lnTo>
                  <a:lnTo>
                    <a:pt x="1410" y="287"/>
                  </a:lnTo>
                  <a:lnTo>
                    <a:pt x="1415" y="287"/>
                  </a:lnTo>
                  <a:lnTo>
                    <a:pt x="1419" y="282"/>
                  </a:lnTo>
                  <a:lnTo>
                    <a:pt x="1419" y="277"/>
                  </a:lnTo>
                  <a:lnTo>
                    <a:pt x="1424" y="272"/>
                  </a:lnTo>
                  <a:lnTo>
                    <a:pt x="1424" y="267"/>
                  </a:lnTo>
                  <a:lnTo>
                    <a:pt x="1429" y="262"/>
                  </a:lnTo>
                  <a:lnTo>
                    <a:pt x="1429" y="257"/>
                  </a:lnTo>
                  <a:lnTo>
                    <a:pt x="1434" y="257"/>
                  </a:lnTo>
                  <a:lnTo>
                    <a:pt x="1439" y="252"/>
                  </a:lnTo>
                  <a:lnTo>
                    <a:pt x="1444" y="252"/>
                  </a:lnTo>
                  <a:lnTo>
                    <a:pt x="1454" y="252"/>
                  </a:lnTo>
                  <a:lnTo>
                    <a:pt x="1464" y="252"/>
                  </a:lnTo>
                  <a:lnTo>
                    <a:pt x="1469" y="257"/>
                  </a:lnTo>
                  <a:lnTo>
                    <a:pt x="1474" y="262"/>
                  </a:lnTo>
                  <a:lnTo>
                    <a:pt x="1479" y="262"/>
                  </a:lnTo>
                  <a:lnTo>
                    <a:pt x="1479" y="267"/>
                  </a:lnTo>
                  <a:lnTo>
                    <a:pt x="1474" y="272"/>
                  </a:lnTo>
                  <a:lnTo>
                    <a:pt x="1464" y="272"/>
                  </a:lnTo>
                  <a:lnTo>
                    <a:pt x="1459" y="277"/>
                  </a:lnTo>
                  <a:lnTo>
                    <a:pt x="1449" y="277"/>
                  </a:lnTo>
                  <a:lnTo>
                    <a:pt x="1444" y="277"/>
                  </a:lnTo>
                  <a:lnTo>
                    <a:pt x="1439" y="277"/>
                  </a:lnTo>
                  <a:lnTo>
                    <a:pt x="1434" y="277"/>
                  </a:lnTo>
                  <a:lnTo>
                    <a:pt x="1429" y="282"/>
                  </a:lnTo>
                  <a:lnTo>
                    <a:pt x="1424" y="287"/>
                  </a:lnTo>
                  <a:lnTo>
                    <a:pt x="1419" y="292"/>
                  </a:lnTo>
                  <a:lnTo>
                    <a:pt x="1415" y="292"/>
                  </a:lnTo>
                  <a:lnTo>
                    <a:pt x="1410" y="297"/>
                  </a:lnTo>
                  <a:lnTo>
                    <a:pt x="1405" y="297"/>
                  </a:lnTo>
                  <a:lnTo>
                    <a:pt x="1395" y="297"/>
                  </a:lnTo>
                  <a:lnTo>
                    <a:pt x="1390" y="297"/>
                  </a:lnTo>
                  <a:lnTo>
                    <a:pt x="1380" y="292"/>
                  </a:lnTo>
                  <a:lnTo>
                    <a:pt x="1375" y="292"/>
                  </a:lnTo>
                  <a:close/>
                  <a:moveTo>
                    <a:pt x="1667" y="267"/>
                  </a:moveTo>
                  <a:lnTo>
                    <a:pt x="1662" y="262"/>
                  </a:lnTo>
                  <a:lnTo>
                    <a:pt x="1657" y="257"/>
                  </a:lnTo>
                  <a:lnTo>
                    <a:pt x="1652" y="257"/>
                  </a:lnTo>
                  <a:lnTo>
                    <a:pt x="1647" y="252"/>
                  </a:lnTo>
                  <a:lnTo>
                    <a:pt x="1642" y="247"/>
                  </a:lnTo>
                  <a:lnTo>
                    <a:pt x="1637" y="243"/>
                  </a:lnTo>
                  <a:lnTo>
                    <a:pt x="1632" y="238"/>
                  </a:lnTo>
                  <a:lnTo>
                    <a:pt x="1632" y="233"/>
                  </a:lnTo>
                  <a:lnTo>
                    <a:pt x="1627" y="228"/>
                  </a:lnTo>
                  <a:lnTo>
                    <a:pt x="1617" y="228"/>
                  </a:lnTo>
                  <a:lnTo>
                    <a:pt x="1612" y="228"/>
                  </a:lnTo>
                  <a:lnTo>
                    <a:pt x="1602" y="228"/>
                  </a:lnTo>
                  <a:lnTo>
                    <a:pt x="1593" y="228"/>
                  </a:lnTo>
                  <a:lnTo>
                    <a:pt x="1588" y="228"/>
                  </a:lnTo>
                  <a:lnTo>
                    <a:pt x="1578" y="223"/>
                  </a:lnTo>
                  <a:lnTo>
                    <a:pt x="1573" y="223"/>
                  </a:lnTo>
                  <a:lnTo>
                    <a:pt x="1563" y="223"/>
                  </a:lnTo>
                  <a:lnTo>
                    <a:pt x="1563" y="228"/>
                  </a:lnTo>
                  <a:lnTo>
                    <a:pt x="1558" y="233"/>
                  </a:lnTo>
                  <a:lnTo>
                    <a:pt x="1553" y="243"/>
                  </a:lnTo>
                  <a:lnTo>
                    <a:pt x="1548" y="243"/>
                  </a:lnTo>
                  <a:lnTo>
                    <a:pt x="1543" y="247"/>
                  </a:lnTo>
                  <a:lnTo>
                    <a:pt x="1533" y="252"/>
                  </a:lnTo>
                  <a:lnTo>
                    <a:pt x="1528" y="252"/>
                  </a:lnTo>
                  <a:lnTo>
                    <a:pt x="1518" y="252"/>
                  </a:lnTo>
                  <a:lnTo>
                    <a:pt x="1513" y="252"/>
                  </a:lnTo>
                  <a:lnTo>
                    <a:pt x="1504" y="247"/>
                  </a:lnTo>
                  <a:lnTo>
                    <a:pt x="1499" y="247"/>
                  </a:lnTo>
                  <a:lnTo>
                    <a:pt x="1494" y="238"/>
                  </a:lnTo>
                  <a:lnTo>
                    <a:pt x="1499" y="233"/>
                  </a:lnTo>
                  <a:lnTo>
                    <a:pt x="1504" y="228"/>
                  </a:lnTo>
                  <a:lnTo>
                    <a:pt x="1508" y="223"/>
                  </a:lnTo>
                  <a:lnTo>
                    <a:pt x="1513" y="223"/>
                  </a:lnTo>
                  <a:lnTo>
                    <a:pt x="1523" y="223"/>
                  </a:lnTo>
                  <a:lnTo>
                    <a:pt x="1533" y="228"/>
                  </a:lnTo>
                  <a:lnTo>
                    <a:pt x="1538" y="228"/>
                  </a:lnTo>
                  <a:lnTo>
                    <a:pt x="1548" y="228"/>
                  </a:lnTo>
                  <a:lnTo>
                    <a:pt x="1553" y="223"/>
                  </a:lnTo>
                  <a:lnTo>
                    <a:pt x="1558" y="218"/>
                  </a:lnTo>
                  <a:lnTo>
                    <a:pt x="1558" y="213"/>
                  </a:lnTo>
                  <a:lnTo>
                    <a:pt x="1563" y="208"/>
                  </a:lnTo>
                  <a:lnTo>
                    <a:pt x="1568" y="203"/>
                  </a:lnTo>
                  <a:lnTo>
                    <a:pt x="1568" y="198"/>
                  </a:lnTo>
                  <a:lnTo>
                    <a:pt x="1578" y="198"/>
                  </a:lnTo>
                  <a:lnTo>
                    <a:pt x="1583" y="193"/>
                  </a:lnTo>
                  <a:lnTo>
                    <a:pt x="1593" y="193"/>
                  </a:lnTo>
                  <a:lnTo>
                    <a:pt x="1602" y="193"/>
                  </a:lnTo>
                  <a:lnTo>
                    <a:pt x="1612" y="193"/>
                  </a:lnTo>
                  <a:lnTo>
                    <a:pt x="1617" y="193"/>
                  </a:lnTo>
                  <a:lnTo>
                    <a:pt x="1627" y="198"/>
                  </a:lnTo>
                  <a:lnTo>
                    <a:pt x="1632" y="203"/>
                  </a:lnTo>
                  <a:lnTo>
                    <a:pt x="1632" y="208"/>
                  </a:lnTo>
                  <a:lnTo>
                    <a:pt x="1637" y="213"/>
                  </a:lnTo>
                  <a:lnTo>
                    <a:pt x="1642" y="218"/>
                  </a:lnTo>
                  <a:lnTo>
                    <a:pt x="1647" y="223"/>
                  </a:lnTo>
                  <a:lnTo>
                    <a:pt x="1652" y="223"/>
                  </a:lnTo>
                  <a:lnTo>
                    <a:pt x="1657" y="228"/>
                  </a:lnTo>
                  <a:lnTo>
                    <a:pt x="1662" y="233"/>
                  </a:lnTo>
                  <a:lnTo>
                    <a:pt x="1667" y="238"/>
                  </a:lnTo>
                  <a:lnTo>
                    <a:pt x="1667" y="243"/>
                  </a:lnTo>
                  <a:lnTo>
                    <a:pt x="1672" y="247"/>
                  </a:lnTo>
                  <a:lnTo>
                    <a:pt x="1672" y="252"/>
                  </a:lnTo>
                  <a:lnTo>
                    <a:pt x="1677" y="257"/>
                  </a:lnTo>
                  <a:lnTo>
                    <a:pt x="1682" y="262"/>
                  </a:lnTo>
                  <a:lnTo>
                    <a:pt x="1687" y="267"/>
                  </a:lnTo>
                  <a:lnTo>
                    <a:pt x="1682" y="272"/>
                  </a:lnTo>
                  <a:lnTo>
                    <a:pt x="1672" y="272"/>
                  </a:lnTo>
                  <a:lnTo>
                    <a:pt x="1667" y="267"/>
                  </a:lnTo>
                  <a:close/>
                  <a:moveTo>
                    <a:pt x="1963" y="238"/>
                  </a:moveTo>
                  <a:lnTo>
                    <a:pt x="1959" y="238"/>
                  </a:lnTo>
                  <a:lnTo>
                    <a:pt x="1954" y="233"/>
                  </a:lnTo>
                  <a:lnTo>
                    <a:pt x="1944" y="228"/>
                  </a:lnTo>
                  <a:lnTo>
                    <a:pt x="1939" y="223"/>
                  </a:lnTo>
                  <a:lnTo>
                    <a:pt x="1934" y="223"/>
                  </a:lnTo>
                  <a:lnTo>
                    <a:pt x="1929" y="218"/>
                  </a:lnTo>
                  <a:lnTo>
                    <a:pt x="1924" y="213"/>
                  </a:lnTo>
                  <a:lnTo>
                    <a:pt x="1919" y="208"/>
                  </a:lnTo>
                  <a:lnTo>
                    <a:pt x="1909" y="208"/>
                  </a:lnTo>
                  <a:lnTo>
                    <a:pt x="1904" y="203"/>
                  </a:lnTo>
                  <a:lnTo>
                    <a:pt x="1894" y="203"/>
                  </a:lnTo>
                  <a:lnTo>
                    <a:pt x="1884" y="203"/>
                  </a:lnTo>
                  <a:lnTo>
                    <a:pt x="1879" y="203"/>
                  </a:lnTo>
                  <a:lnTo>
                    <a:pt x="1874" y="208"/>
                  </a:lnTo>
                  <a:lnTo>
                    <a:pt x="1870" y="213"/>
                  </a:lnTo>
                  <a:lnTo>
                    <a:pt x="1865" y="223"/>
                  </a:lnTo>
                  <a:lnTo>
                    <a:pt x="1860" y="223"/>
                  </a:lnTo>
                  <a:lnTo>
                    <a:pt x="1855" y="223"/>
                  </a:lnTo>
                  <a:lnTo>
                    <a:pt x="1850" y="218"/>
                  </a:lnTo>
                  <a:lnTo>
                    <a:pt x="1845" y="213"/>
                  </a:lnTo>
                  <a:lnTo>
                    <a:pt x="1850" y="208"/>
                  </a:lnTo>
                  <a:lnTo>
                    <a:pt x="1855" y="203"/>
                  </a:lnTo>
                  <a:lnTo>
                    <a:pt x="1865" y="198"/>
                  </a:lnTo>
                  <a:lnTo>
                    <a:pt x="1870" y="193"/>
                  </a:lnTo>
                  <a:lnTo>
                    <a:pt x="1870" y="188"/>
                  </a:lnTo>
                  <a:lnTo>
                    <a:pt x="1870" y="183"/>
                  </a:lnTo>
                  <a:lnTo>
                    <a:pt x="1865" y="178"/>
                  </a:lnTo>
                  <a:lnTo>
                    <a:pt x="1855" y="178"/>
                  </a:lnTo>
                  <a:lnTo>
                    <a:pt x="1845" y="178"/>
                  </a:lnTo>
                  <a:lnTo>
                    <a:pt x="1840" y="178"/>
                  </a:lnTo>
                  <a:lnTo>
                    <a:pt x="1830" y="178"/>
                  </a:lnTo>
                  <a:lnTo>
                    <a:pt x="1820" y="178"/>
                  </a:lnTo>
                  <a:lnTo>
                    <a:pt x="1815" y="183"/>
                  </a:lnTo>
                  <a:lnTo>
                    <a:pt x="1810" y="188"/>
                  </a:lnTo>
                  <a:lnTo>
                    <a:pt x="1805" y="193"/>
                  </a:lnTo>
                  <a:lnTo>
                    <a:pt x="1800" y="198"/>
                  </a:lnTo>
                  <a:lnTo>
                    <a:pt x="1790" y="198"/>
                  </a:lnTo>
                  <a:lnTo>
                    <a:pt x="1785" y="203"/>
                  </a:lnTo>
                  <a:lnTo>
                    <a:pt x="1776" y="198"/>
                  </a:lnTo>
                  <a:lnTo>
                    <a:pt x="1771" y="198"/>
                  </a:lnTo>
                  <a:lnTo>
                    <a:pt x="1766" y="193"/>
                  </a:lnTo>
                  <a:lnTo>
                    <a:pt x="1761" y="188"/>
                  </a:lnTo>
                  <a:lnTo>
                    <a:pt x="1766" y="178"/>
                  </a:lnTo>
                  <a:lnTo>
                    <a:pt x="1771" y="173"/>
                  </a:lnTo>
                  <a:lnTo>
                    <a:pt x="1780" y="173"/>
                  </a:lnTo>
                  <a:lnTo>
                    <a:pt x="1785" y="173"/>
                  </a:lnTo>
                  <a:lnTo>
                    <a:pt x="1795" y="178"/>
                  </a:lnTo>
                  <a:lnTo>
                    <a:pt x="1800" y="183"/>
                  </a:lnTo>
                  <a:lnTo>
                    <a:pt x="1805" y="183"/>
                  </a:lnTo>
                  <a:lnTo>
                    <a:pt x="1810" y="183"/>
                  </a:lnTo>
                  <a:lnTo>
                    <a:pt x="1815" y="178"/>
                  </a:lnTo>
                  <a:lnTo>
                    <a:pt x="1815" y="173"/>
                  </a:lnTo>
                  <a:lnTo>
                    <a:pt x="1815" y="168"/>
                  </a:lnTo>
                  <a:lnTo>
                    <a:pt x="1815" y="159"/>
                  </a:lnTo>
                  <a:lnTo>
                    <a:pt x="1810" y="154"/>
                  </a:lnTo>
                  <a:lnTo>
                    <a:pt x="1805" y="154"/>
                  </a:lnTo>
                  <a:lnTo>
                    <a:pt x="1795" y="154"/>
                  </a:lnTo>
                  <a:lnTo>
                    <a:pt x="1785" y="154"/>
                  </a:lnTo>
                  <a:lnTo>
                    <a:pt x="1780" y="154"/>
                  </a:lnTo>
                  <a:lnTo>
                    <a:pt x="1776" y="149"/>
                  </a:lnTo>
                  <a:lnTo>
                    <a:pt x="1771" y="144"/>
                  </a:lnTo>
                  <a:lnTo>
                    <a:pt x="1766" y="139"/>
                  </a:lnTo>
                  <a:lnTo>
                    <a:pt x="1761" y="134"/>
                  </a:lnTo>
                  <a:lnTo>
                    <a:pt x="1756" y="129"/>
                  </a:lnTo>
                  <a:lnTo>
                    <a:pt x="1751" y="129"/>
                  </a:lnTo>
                  <a:lnTo>
                    <a:pt x="1741" y="129"/>
                  </a:lnTo>
                  <a:lnTo>
                    <a:pt x="1731" y="124"/>
                  </a:lnTo>
                  <a:lnTo>
                    <a:pt x="1726" y="124"/>
                  </a:lnTo>
                  <a:lnTo>
                    <a:pt x="1721" y="119"/>
                  </a:lnTo>
                  <a:lnTo>
                    <a:pt x="1716" y="114"/>
                  </a:lnTo>
                  <a:lnTo>
                    <a:pt x="1711" y="109"/>
                  </a:lnTo>
                  <a:lnTo>
                    <a:pt x="1706" y="104"/>
                  </a:lnTo>
                  <a:lnTo>
                    <a:pt x="1701" y="104"/>
                  </a:lnTo>
                  <a:lnTo>
                    <a:pt x="1691" y="99"/>
                  </a:lnTo>
                  <a:lnTo>
                    <a:pt x="1687" y="99"/>
                  </a:lnTo>
                  <a:lnTo>
                    <a:pt x="1677" y="99"/>
                  </a:lnTo>
                  <a:lnTo>
                    <a:pt x="1672" y="94"/>
                  </a:lnTo>
                  <a:lnTo>
                    <a:pt x="1667" y="89"/>
                  </a:lnTo>
                  <a:lnTo>
                    <a:pt x="1662" y="89"/>
                  </a:lnTo>
                  <a:lnTo>
                    <a:pt x="1657" y="84"/>
                  </a:lnTo>
                  <a:lnTo>
                    <a:pt x="1652" y="79"/>
                  </a:lnTo>
                  <a:lnTo>
                    <a:pt x="1647" y="74"/>
                  </a:lnTo>
                  <a:lnTo>
                    <a:pt x="1637" y="74"/>
                  </a:lnTo>
                  <a:lnTo>
                    <a:pt x="1627" y="74"/>
                  </a:lnTo>
                  <a:lnTo>
                    <a:pt x="1622" y="74"/>
                  </a:lnTo>
                  <a:lnTo>
                    <a:pt x="1612" y="70"/>
                  </a:lnTo>
                  <a:lnTo>
                    <a:pt x="1607" y="70"/>
                  </a:lnTo>
                  <a:lnTo>
                    <a:pt x="1602" y="65"/>
                  </a:lnTo>
                  <a:lnTo>
                    <a:pt x="1598" y="55"/>
                  </a:lnTo>
                  <a:lnTo>
                    <a:pt x="1598" y="50"/>
                  </a:lnTo>
                  <a:lnTo>
                    <a:pt x="1602" y="45"/>
                  </a:lnTo>
                  <a:lnTo>
                    <a:pt x="1607" y="40"/>
                  </a:lnTo>
                  <a:lnTo>
                    <a:pt x="1612" y="40"/>
                  </a:lnTo>
                  <a:lnTo>
                    <a:pt x="1622" y="35"/>
                  </a:lnTo>
                  <a:lnTo>
                    <a:pt x="1627" y="35"/>
                  </a:lnTo>
                  <a:lnTo>
                    <a:pt x="1637" y="30"/>
                  </a:lnTo>
                  <a:lnTo>
                    <a:pt x="1647" y="30"/>
                  </a:lnTo>
                  <a:lnTo>
                    <a:pt x="1652" y="30"/>
                  </a:lnTo>
                  <a:lnTo>
                    <a:pt x="1662" y="35"/>
                  </a:lnTo>
                  <a:lnTo>
                    <a:pt x="1667" y="35"/>
                  </a:lnTo>
                  <a:lnTo>
                    <a:pt x="1677" y="40"/>
                  </a:lnTo>
                  <a:lnTo>
                    <a:pt x="1682" y="40"/>
                  </a:lnTo>
                  <a:lnTo>
                    <a:pt x="1687" y="45"/>
                  </a:lnTo>
                  <a:lnTo>
                    <a:pt x="1691" y="50"/>
                  </a:lnTo>
                  <a:lnTo>
                    <a:pt x="1696" y="55"/>
                  </a:lnTo>
                  <a:lnTo>
                    <a:pt x="1706" y="55"/>
                  </a:lnTo>
                  <a:lnTo>
                    <a:pt x="1711" y="60"/>
                  </a:lnTo>
                  <a:lnTo>
                    <a:pt x="1721" y="60"/>
                  </a:lnTo>
                  <a:lnTo>
                    <a:pt x="1731" y="60"/>
                  </a:lnTo>
                  <a:lnTo>
                    <a:pt x="1736" y="60"/>
                  </a:lnTo>
                  <a:lnTo>
                    <a:pt x="1746" y="60"/>
                  </a:lnTo>
                  <a:lnTo>
                    <a:pt x="1756" y="60"/>
                  </a:lnTo>
                  <a:lnTo>
                    <a:pt x="1761" y="60"/>
                  </a:lnTo>
                  <a:lnTo>
                    <a:pt x="1771" y="60"/>
                  </a:lnTo>
                  <a:lnTo>
                    <a:pt x="1776" y="65"/>
                  </a:lnTo>
                  <a:lnTo>
                    <a:pt x="1785" y="70"/>
                  </a:lnTo>
                  <a:lnTo>
                    <a:pt x="1790" y="70"/>
                  </a:lnTo>
                  <a:lnTo>
                    <a:pt x="1795" y="74"/>
                  </a:lnTo>
                  <a:lnTo>
                    <a:pt x="1800" y="79"/>
                  </a:lnTo>
                  <a:lnTo>
                    <a:pt x="1805" y="84"/>
                  </a:lnTo>
                  <a:lnTo>
                    <a:pt x="1815" y="84"/>
                  </a:lnTo>
                  <a:lnTo>
                    <a:pt x="1820" y="84"/>
                  </a:lnTo>
                  <a:lnTo>
                    <a:pt x="1830" y="89"/>
                  </a:lnTo>
                  <a:lnTo>
                    <a:pt x="1840" y="89"/>
                  </a:lnTo>
                  <a:lnTo>
                    <a:pt x="1845" y="89"/>
                  </a:lnTo>
                  <a:lnTo>
                    <a:pt x="1855" y="89"/>
                  </a:lnTo>
                  <a:lnTo>
                    <a:pt x="1865" y="89"/>
                  </a:lnTo>
                  <a:lnTo>
                    <a:pt x="1870" y="89"/>
                  </a:lnTo>
                  <a:lnTo>
                    <a:pt x="1879" y="89"/>
                  </a:lnTo>
                  <a:lnTo>
                    <a:pt x="1884" y="94"/>
                  </a:lnTo>
                  <a:lnTo>
                    <a:pt x="1894" y="94"/>
                  </a:lnTo>
                  <a:lnTo>
                    <a:pt x="1899" y="99"/>
                  </a:lnTo>
                  <a:lnTo>
                    <a:pt x="1904" y="104"/>
                  </a:lnTo>
                  <a:lnTo>
                    <a:pt x="1909" y="109"/>
                  </a:lnTo>
                  <a:lnTo>
                    <a:pt x="1914" y="114"/>
                  </a:lnTo>
                  <a:lnTo>
                    <a:pt x="1919" y="114"/>
                  </a:lnTo>
                  <a:lnTo>
                    <a:pt x="1924" y="119"/>
                  </a:lnTo>
                  <a:lnTo>
                    <a:pt x="1934" y="119"/>
                  </a:lnTo>
                  <a:lnTo>
                    <a:pt x="1944" y="119"/>
                  </a:lnTo>
                  <a:lnTo>
                    <a:pt x="1954" y="119"/>
                  </a:lnTo>
                  <a:lnTo>
                    <a:pt x="1959" y="119"/>
                  </a:lnTo>
                  <a:lnTo>
                    <a:pt x="1968" y="119"/>
                  </a:lnTo>
                  <a:lnTo>
                    <a:pt x="1978" y="119"/>
                  </a:lnTo>
                  <a:lnTo>
                    <a:pt x="1983" y="119"/>
                  </a:lnTo>
                  <a:lnTo>
                    <a:pt x="1993" y="119"/>
                  </a:lnTo>
                  <a:lnTo>
                    <a:pt x="1998" y="124"/>
                  </a:lnTo>
                  <a:lnTo>
                    <a:pt x="2003" y="129"/>
                  </a:lnTo>
                  <a:lnTo>
                    <a:pt x="2008" y="134"/>
                  </a:lnTo>
                  <a:lnTo>
                    <a:pt x="2013" y="139"/>
                  </a:lnTo>
                  <a:lnTo>
                    <a:pt x="2013" y="144"/>
                  </a:lnTo>
                  <a:lnTo>
                    <a:pt x="2018" y="149"/>
                  </a:lnTo>
                  <a:lnTo>
                    <a:pt x="2023" y="154"/>
                  </a:lnTo>
                  <a:lnTo>
                    <a:pt x="2028" y="154"/>
                  </a:lnTo>
                  <a:lnTo>
                    <a:pt x="2038" y="154"/>
                  </a:lnTo>
                  <a:lnTo>
                    <a:pt x="2048" y="154"/>
                  </a:lnTo>
                  <a:lnTo>
                    <a:pt x="2057" y="154"/>
                  </a:lnTo>
                  <a:lnTo>
                    <a:pt x="2062" y="159"/>
                  </a:lnTo>
                  <a:lnTo>
                    <a:pt x="2072" y="159"/>
                  </a:lnTo>
                  <a:lnTo>
                    <a:pt x="2072" y="163"/>
                  </a:lnTo>
                  <a:lnTo>
                    <a:pt x="2072" y="168"/>
                  </a:lnTo>
                  <a:lnTo>
                    <a:pt x="2067" y="173"/>
                  </a:lnTo>
                  <a:lnTo>
                    <a:pt x="2062" y="178"/>
                  </a:lnTo>
                  <a:lnTo>
                    <a:pt x="2057" y="183"/>
                  </a:lnTo>
                  <a:lnTo>
                    <a:pt x="2052" y="188"/>
                  </a:lnTo>
                  <a:lnTo>
                    <a:pt x="2048" y="193"/>
                  </a:lnTo>
                  <a:lnTo>
                    <a:pt x="2048" y="198"/>
                  </a:lnTo>
                  <a:lnTo>
                    <a:pt x="2043" y="203"/>
                  </a:lnTo>
                  <a:lnTo>
                    <a:pt x="2038" y="208"/>
                  </a:lnTo>
                  <a:lnTo>
                    <a:pt x="2038" y="213"/>
                  </a:lnTo>
                  <a:lnTo>
                    <a:pt x="2033" y="218"/>
                  </a:lnTo>
                  <a:lnTo>
                    <a:pt x="2028" y="223"/>
                  </a:lnTo>
                  <a:lnTo>
                    <a:pt x="2028" y="228"/>
                  </a:lnTo>
                  <a:lnTo>
                    <a:pt x="2023" y="233"/>
                  </a:lnTo>
                  <a:lnTo>
                    <a:pt x="2023" y="238"/>
                  </a:lnTo>
                  <a:lnTo>
                    <a:pt x="2018" y="243"/>
                  </a:lnTo>
                  <a:lnTo>
                    <a:pt x="2008" y="243"/>
                  </a:lnTo>
                  <a:lnTo>
                    <a:pt x="1998" y="247"/>
                  </a:lnTo>
                  <a:lnTo>
                    <a:pt x="1993" y="247"/>
                  </a:lnTo>
                  <a:lnTo>
                    <a:pt x="1983" y="247"/>
                  </a:lnTo>
                  <a:lnTo>
                    <a:pt x="1973" y="247"/>
                  </a:lnTo>
                  <a:lnTo>
                    <a:pt x="1968" y="243"/>
                  </a:lnTo>
                  <a:lnTo>
                    <a:pt x="1963" y="238"/>
                  </a:lnTo>
                  <a:close/>
                  <a:moveTo>
                    <a:pt x="1365" y="213"/>
                  </a:moveTo>
                  <a:lnTo>
                    <a:pt x="1370" y="208"/>
                  </a:lnTo>
                  <a:lnTo>
                    <a:pt x="1375" y="203"/>
                  </a:lnTo>
                  <a:lnTo>
                    <a:pt x="1380" y="198"/>
                  </a:lnTo>
                  <a:lnTo>
                    <a:pt x="1385" y="198"/>
                  </a:lnTo>
                  <a:lnTo>
                    <a:pt x="1395" y="203"/>
                  </a:lnTo>
                  <a:lnTo>
                    <a:pt x="1400" y="208"/>
                  </a:lnTo>
                  <a:lnTo>
                    <a:pt x="1405" y="213"/>
                  </a:lnTo>
                  <a:lnTo>
                    <a:pt x="1400" y="218"/>
                  </a:lnTo>
                  <a:lnTo>
                    <a:pt x="1395" y="223"/>
                  </a:lnTo>
                  <a:lnTo>
                    <a:pt x="1385" y="228"/>
                  </a:lnTo>
                  <a:lnTo>
                    <a:pt x="1380" y="228"/>
                  </a:lnTo>
                  <a:lnTo>
                    <a:pt x="1375" y="223"/>
                  </a:lnTo>
                  <a:lnTo>
                    <a:pt x="1370" y="223"/>
                  </a:lnTo>
                  <a:lnTo>
                    <a:pt x="1365" y="213"/>
                  </a:lnTo>
                  <a:close/>
                  <a:moveTo>
                    <a:pt x="1009" y="188"/>
                  </a:moveTo>
                  <a:lnTo>
                    <a:pt x="1009" y="188"/>
                  </a:lnTo>
                  <a:lnTo>
                    <a:pt x="1009" y="188"/>
                  </a:lnTo>
                  <a:lnTo>
                    <a:pt x="1009" y="183"/>
                  </a:lnTo>
                  <a:lnTo>
                    <a:pt x="1009" y="188"/>
                  </a:lnTo>
                  <a:lnTo>
                    <a:pt x="1009" y="188"/>
                  </a:lnTo>
                  <a:lnTo>
                    <a:pt x="1009" y="188"/>
                  </a:lnTo>
                  <a:lnTo>
                    <a:pt x="1009" y="188"/>
                  </a:lnTo>
                  <a:lnTo>
                    <a:pt x="1009" y="188"/>
                  </a:lnTo>
                  <a:lnTo>
                    <a:pt x="1009" y="188"/>
                  </a:lnTo>
                  <a:lnTo>
                    <a:pt x="1009" y="188"/>
                  </a:lnTo>
                  <a:lnTo>
                    <a:pt x="1009" y="188"/>
                  </a:lnTo>
                  <a:lnTo>
                    <a:pt x="1009" y="188"/>
                  </a:lnTo>
                  <a:lnTo>
                    <a:pt x="1009" y="188"/>
                  </a:lnTo>
                  <a:lnTo>
                    <a:pt x="1009" y="188"/>
                  </a:lnTo>
                  <a:close/>
                  <a:moveTo>
                    <a:pt x="1207" y="188"/>
                  </a:moveTo>
                  <a:lnTo>
                    <a:pt x="1212" y="183"/>
                  </a:lnTo>
                  <a:lnTo>
                    <a:pt x="1217" y="183"/>
                  </a:lnTo>
                  <a:lnTo>
                    <a:pt x="1222" y="178"/>
                  </a:lnTo>
                  <a:lnTo>
                    <a:pt x="1222" y="183"/>
                  </a:lnTo>
                  <a:lnTo>
                    <a:pt x="1227" y="183"/>
                  </a:lnTo>
                  <a:lnTo>
                    <a:pt x="1227" y="183"/>
                  </a:lnTo>
                  <a:lnTo>
                    <a:pt x="1227" y="188"/>
                  </a:lnTo>
                  <a:lnTo>
                    <a:pt x="1227" y="193"/>
                  </a:lnTo>
                  <a:lnTo>
                    <a:pt x="1227" y="193"/>
                  </a:lnTo>
                  <a:lnTo>
                    <a:pt x="1222" y="193"/>
                  </a:lnTo>
                  <a:lnTo>
                    <a:pt x="1217" y="193"/>
                  </a:lnTo>
                  <a:lnTo>
                    <a:pt x="1217" y="193"/>
                  </a:lnTo>
                  <a:lnTo>
                    <a:pt x="1212" y="188"/>
                  </a:lnTo>
                  <a:lnTo>
                    <a:pt x="1207" y="188"/>
                  </a:lnTo>
                  <a:close/>
                  <a:moveTo>
                    <a:pt x="1439" y="188"/>
                  </a:moveTo>
                  <a:lnTo>
                    <a:pt x="1444" y="178"/>
                  </a:lnTo>
                  <a:lnTo>
                    <a:pt x="1454" y="173"/>
                  </a:lnTo>
                  <a:lnTo>
                    <a:pt x="1459" y="173"/>
                  </a:lnTo>
                  <a:lnTo>
                    <a:pt x="1469" y="173"/>
                  </a:lnTo>
                  <a:lnTo>
                    <a:pt x="1479" y="178"/>
                  </a:lnTo>
                  <a:lnTo>
                    <a:pt x="1484" y="183"/>
                  </a:lnTo>
                  <a:lnTo>
                    <a:pt x="1484" y="188"/>
                  </a:lnTo>
                  <a:lnTo>
                    <a:pt x="1484" y="193"/>
                  </a:lnTo>
                  <a:lnTo>
                    <a:pt x="1474" y="198"/>
                  </a:lnTo>
                  <a:lnTo>
                    <a:pt x="1464" y="203"/>
                  </a:lnTo>
                  <a:lnTo>
                    <a:pt x="1459" y="203"/>
                  </a:lnTo>
                  <a:lnTo>
                    <a:pt x="1449" y="198"/>
                  </a:lnTo>
                  <a:lnTo>
                    <a:pt x="1444" y="193"/>
                  </a:lnTo>
                  <a:lnTo>
                    <a:pt x="1439" y="188"/>
                  </a:lnTo>
                  <a:close/>
                  <a:moveTo>
                    <a:pt x="1281" y="159"/>
                  </a:moveTo>
                  <a:lnTo>
                    <a:pt x="1291" y="154"/>
                  </a:lnTo>
                  <a:lnTo>
                    <a:pt x="1296" y="149"/>
                  </a:lnTo>
                  <a:lnTo>
                    <a:pt x="1301" y="144"/>
                  </a:lnTo>
                  <a:lnTo>
                    <a:pt x="1306" y="144"/>
                  </a:lnTo>
                  <a:lnTo>
                    <a:pt x="1316" y="149"/>
                  </a:lnTo>
                  <a:lnTo>
                    <a:pt x="1321" y="159"/>
                  </a:lnTo>
                  <a:lnTo>
                    <a:pt x="1321" y="163"/>
                  </a:lnTo>
                  <a:lnTo>
                    <a:pt x="1316" y="168"/>
                  </a:lnTo>
                  <a:lnTo>
                    <a:pt x="1311" y="173"/>
                  </a:lnTo>
                  <a:lnTo>
                    <a:pt x="1306" y="178"/>
                  </a:lnTo>
                  <a:lnTo>
                    <a:pt x="1296" y="178"/>
                  </a:lnTo>
                  <a:lnTo>
                    <a:pt x="1291" y="173"/>
                  </a:lnTo>
                  <a:lnTo>
                    <a:pt x="1286" y="168"/>
                  </a:lnTo>
                  <a:lnTo>
                    <a:pt x="1281" y="159"/>
                  </a:lnTo>
                  <a:close/>
                  <a:moveTo>
                    <a:pt x="1494" y="159"/>
                  </a:moveTo>
                  <a:lnTo>
                    <a:pt x="1499" y="154"/>
                  </a:lnTo>
                  <a:lnTo>
                    <a:pt x="1504" y="149"/>
                  </a:lnTo>
                  <a:lnTo>
                    <a:pt x="1508" y="144"/>
                  </a:lnTo>
                  <a:lnTo>
                    <a:pt x="1518" y="144"/>
                  </a:lnTo>
                  <a:lnTo>
                    <a:pt x="1528" y="144"/>
                  </a:lnTo>
                  <a:lnTo>
                    <a:pt x="1538" y="144"/>
                  </a:lnTo>
                  <a:lnTo>
                    <a:pt x="1543" y="144"/>
                  </a:lnTo>
                  <a:lnTo>
                    <a:pt x="1553" y="144"/>
                  </a:lnTo>
                  <a:lnTo>
                    <a:pt x="1558" y="139"/>
                  </a:lnTo>
                  <a:lnTo>
                    <a:pt x="1563" y="134"/>
                  </a:lnTo>
                  <a:lnTo>
                    <a:pt x="1568" y="129"/>
                  </a:lnTo>
                  <a:lnTo>
                    <a:pt x="1573" y="124"/>
                  </a:lnTo>
                  <a:lnTo>
                    <a:pt x="1583" y="119"/>
                  </a:lnTo>
                  <a:lnTo>
                    <a:pt x="1588" y="114"/>
                  </a:lnTo>
                  <a:lnTo>
                    <a:pt x="1598" y="114"/>
                  </a:lnTo>
                  <a:lnTo>
                    <a:pt x="1602" y="114"/>
                  </a:lnTo>
                  <a:lnTo>
                    <a:pt x="1612" y="114"/>
                  </a:lnTo>
                  <a:lnTo>
                    <a:pt x="1622" y="114"/>
                  </a:lnTo>
                  <a:lnTo>
                    <a:pt x="1632" y="114"/>
                  </a:lnTo>
                  <a:lnTo>
                    <a:pt x="1642" y="109"/>
                  </a:lnTo>
                  <a:lnTo>
                    <a:pt x="1647" y="114"/>
                  </a:lnTo>
                  <a:lnTo>
                    <a:pt x="1657" y="114"/>
                  </a:lnTo>
                  <a:lnTo>
                    <a:pt x="1667" y="114"/>
                  </a:lnTo>
                  <a:lnTo>
                    <a:pt x="1672" y="114"/>
                  </a:lnTo>
                  <a:lnTo>
                    <a:pt x="1682" y="119"/>
                  </a:lnTo>
                  <a:lnTo>
                    <a:pt x="1687" y="124"/>
                  </a:lnTo>
                  <a:lnTo>
                    <a:pt x="1691" y="129"/>
                  </a:lnTo>
                  <a:lnTo>
                    <a:pt x="1696" y="134"/>
                  </a:lnTo>
                  <a:lnTo>
                    <a:pt x="1696" y="139"/>
                  </a:lnTo>
                  <a:lnTo>
                    <a:pt x="1701" y="144"/>
                  </a:lnTo>
                  <a:lnTo>
                    <a:pt x="1711" y="144"/>
                  </a:lnTo>
                  <a:lnTo>
                    <a:pt x="1716" y="144"/>
                  </a:lnTo>
                  <a:lnTo>
                    <a:pt x="1726" y="144"/>
                  </a:lnTo>
                  <a:lnTo>
                    <a:pt x="1736" y="144"/>
                  </a:lnTo>
                  <a:lnTo>
                    <a:pt x="1746" y="149"/>
                  </a:lnTo>
                  <a:lnTo>
                    <a:pt x="1751" y="154"/>
                  </a:lnTo>
                  <a:lnTo>
                    <a:pt x="1751" y="159"/>
                  </a:lnTo>
                  <a:lnTo>
                    <a:pt x="1751" y="163"/>
                  </a:lnTo>
                  <a:lnTo>
                    <a:pt x="1746" y="173"/>
                  </a:lnTo>
                  <a:lnTo>
                    <a:pt x="1741" y="173"/>
                  </a:lnTo>
                  <a:lnTo>
                    <a:pt x="1731" y="178"/>
                  </a:lnTo>
                  <a:lnTo>
                    <a:pt x="1721" y="178"/>
                  </a:lnTo>
                  <a:lnTo>
                    <a:pt x="1716" y="178"/>
                  </a:lnTo>
                  <a:lnTo>
                    <a:pt x="1706" y="173"/>
                  </a:lnTo>
                  <a:lnTo>
                    <a:pt x="1701" y="168"/>
                  </a:lnTo>
                  <a:lnTo>
                    <a:pt x="1696" y="163"/>
                  </a:lnTo>
                  <a:lnTo>
                    <a:pt x="1687" y="163"/>
                  </a:lnTo>
                  <a:lnTo>
                    <a:pt x="1682" y="159"/>
                  </a:lnTo>
                  <a:lnTo>
                    <a:pt x="1677" y="154"/>
                  </a:lnTo>
                  <a:lnTo>
                    <a:pt x="1667" y="154"/>
                  </a:lnTo>
                  <a:lnTo>
                    <a:pt x="1657" y="154"/>
                  </a:lnTo>
                  <a:lnTo>
                    <a:pt x="1647" y="154"/>
                  </a:lnTo>
                  <a:lnTo>
                    <a:pt x="1642" y="154"/>
                  </a:lnTo>
                  <a:lnTo>
                    <a:pt x="1632" y="154"/>
                  </a:lnTo>
                  <a:lnTo>
                    <a:pt x="1622" y="154"/>
                  </a:lnTo>
                  <a:lnTo>
                    <a:pt x="1612" y="154"/>
                  </a:lnTo>
                  <a:lnTo>
                    <a:pt x="1607" y="154"/>
                  </a:lnTo>
                  <a:lnTo>
                    <a:pt x="1598" y="154"/>
                  </a:lnTo>
                  <a:lnTo>
                    <a:pt x="1588" y="154"/>
                  </a:lnTo>
                  <a:lnTo>
                    <a:pt x="1578" y="149"/>
                  </a:lnTo>
                  <a:lnTo>
                    <a:pt x="1568" y="154"/>
                  </a:lnTo>
                  <a:lnTo>
                    <a:pt x="1568" y="159"/>
                  </a:lnTo>
                  <a:lnTo>
                    <a:pt x="1568" y="163"/>
                  </a:lnTo>
                  <a:lnTo>
                    <a:pt x="1563" y="168"/>
                  </a:lnTo>
                  <a:lnTo>
                    <a:pt x="1558" y="173"/>
                  </a:lnTo>
                  <a:lnTo>
                    <a:pt x="1548" y="178"/>
                  </a:lnTo>
                  <a:lnTo>
                    <a:pt x="1543" y="178"/>
                  </a:lnTo>
                  <a:lnTo>
                    <a:pt x="1533" y="178"/>
                  </a:lnTo>
                  <a:lnTo>
                    <a:pt x="1523" y="178"/>
                  </a:lnTo>
                  <a:lnTo>
                    <a:pt x="1513" y="178"/>
                  </a:lnTo>
                  <a:lnTo>
                    <a:pt x="1508" y="173"/>
                  </a:lnTo>
                  <a:lnTo>
                    <a:pt x="1504" y="173"/>
                  </a:lnTo>
                  <a:lnTo>
                    <a:pt x="1499" y="168"/>
                  </a:lnTo>
                  <a:lnTo>
                    <a:pt x="1494" y="159"/>
                  </a:lnTo>
                  <a:close/>
                  <a:moveTo>
                    <a:pt x="1360" y="134"/>
                  </a:moveTo>
                  <a:lnTo>
                    <a:pt x="1365" y="124"/>
                  </a:lnTo>
                  <a:lnTo>
                    <a:pt x="1370" y="119"/>
                  </a:lnTo>
                  <a:lnTo>
                    <a:pt x="1375" y="119"/>
                  </a:lnTo>
                  <a:lnTo>
                    <a:pt x="1385" y="114"/>
                  </a:lnTo>
                  <a:lnTo>
                    <a:pt x="1395" y="114"/>
                  </a:lnTo>
                  <a:lnTo>
                    <a:pt x="1400" y="119"/>
                  </a:lnTo>
                  <a:lnTo>
                    <a:pt x="1410" y="119"/>
                  </a:lnTo>
                  <a:lnTo>
                    <a:pt x="1419" y="124"/>
                  </a:lnTo>
                  <a:lnTo>
                    <a:pt x="1424" y="129"/>
                  </a:lnTo>
                  <a:lnTo>
                    <a:pt x="1424" y="134"/>
                  </a:lnTo>
                  <a:lnTo>
                    <a:pt x="1419" y="139"/>
                  </a:lnTo>
                  <a:lnTo>
                    <a:pt x="1410" y="144"/>
                  </a:lnTo>
                  <a:lnTo>
                    <a:pt x="1405" y="149"/>
                  </a:lnTo>
                  <a:lnTo>
                    <a:pt x="1395" y="154"/>
                  </a:lnTo>
                  <a:lnTo>
                    <a:pt x="1385" y="154"/>
                  </a:lnTo>
                  <a:lnTo>
                    <a:pt x="1380" y="154"/>
                  </a:lnTo>
                  <a:lnTo>
                    <a:pt x="1375" y="154"/>
                  </a:lnTo>
                  <a:lnTo>
                    <a:pt x="1370" y="149"/>
                  </a:lnTo>
                  <a:lnTo>
                    <a:pt x="1365" y="144"/>
                  </a:lnTo>
                  <a:lnTo>
                    <a:pt x="1360" y="134"/>
                  </a:lnTo>
                  <a:close/>
                  <a:moveTo>
                    <a:pt x="1439" y="104"/>
                  </a:moveTo>
                  <a:lnTo>
                    <a:pt x="1444" y="99"/>
                  </a:lnTo>
                  <a:lnTo>
                    <a:pt x="1449" y="94"/>
                  </a:lnTo>
                  <a:lnTo>
                    <a:pt x="1459" y="89"/>
                  </a:lnTo>
                  <a:lnTo>
                    <a:pt x="1469" y="84"/>
                  </a:lnTo>
                  <a:lnTo>
                    <a:pt x="1479" y="84"/>
                  </a:lnTo>
                  <a:lnTo>
                    <a:pt x="1489" y="89"/>
                  </a:lnTo>
                  <a:lnTo>
                    <a:pt x="1499" y="89"/>
                  </a:lnTo>
                  <a:lnTo>
                    <a:pt x="1508" y="94"/>
                  </a:lnTo>
                  <a:lnTo>
                    <a:pt x="1508" y="104"/>
                  </a:lnTo>
                  <a:lnTo>
                    <a:pt x="1513" y="109"/>
                  </a:lnTo>
                  <a:lnTo>
                    <a:pt x="1508" y="114"/>
                  </a:lnTo>
                  <a:lnTo>
                    <a:pt x="1504" y="124"/>
                  </a:lnTo>
                  <a:lnTo>
                    <a:pt x="1494" y="129"/>
                  </a:lnTo>
                  <a:lnTo>
                    <a:pt x="1484" y="129"/>
                  </a:lnTo>
                  <a:lnTo>
                    <a:pt x="1474" y="129"/>
                  </a:lnTo>
                  <a:lnTo>
                    <a:pt x="1464" y="129"/>
                  </a:lnTo>
                  <a:lnTo>
                    <a:pt x="1454" y="129"/>
                  </a:lnTo>
                  <a:lnTo>
                    <a:pt x="1449" y="124"/>
                  </a:lnTo>
                  <a:lnTo>
                    <a:pt x="1444" y="114"/>
                  </a:lnTo>
                  <a:lnTo>
                    <a:pt x="1439" y="104"/>
                  </a:lnTo>
                  <a:close/>
                  <a:moveTo>
                    <a:pt x="1518" y="79"/>
                  </a:moveTo>
                  <a:lnTo>
                    <a:pt x="1523" y="74"/>
                  </a:lnTo>
                  <a:lnTo>
                    <a:pt x="1533" y="65"/>
                  </a:lnTo>
                  <a:lnTo>
                    <a:pt x="1538" y="65"/>
                  </a:lnTo>
                  <a:lnTo>
                    <a:pt x="1548" y="60"/>
                  </a:lnTo>
                  <a:lnTo>
                    <a:pt x="1558" y="60"/>
                  </a:lnTo>
                  <a:lnTo>
                    <a:pt x="1573" y="60"/>
                  </a:lnTo>
                  <a:lnTo>
                    <a:pt x="1583" y="65"/>
                  </a:lnTo>
                  <a:lnTo>
                    <a:pt x="1588" y="70"/>
                  </a:lnTo>
                  <a:lnTo>
                    <a:pt x="1593" y="74"/>
                  </a:lnTo>
                  <a:lnTo>
                    <a:pt x="1593" y="84"/>
                  </a:lnTo>
                  <a:lnTo>
                    <a:pt x="1588" y="89"/>
                  </a:lnTo>
                  <a:lnTo>
                    <a:pt x="1583" y="94"/>
                  </a:lnTo>
                  <a:lnTo>
                    <a:pt x="1573" y="99"/>
                  </a:lnTo>
                  <a:lnTo>
                    <a:pt x="1563" y="104"/>
                  </a:lnTo>
                  <a:lnTo>
                    <a:pt x="1553" y="104"/>
                  </a:lnTo>
                  <a:lnTo>
                    <a:pt x="1543" y="104"/>
                  </a:lnTo>
                  <a:lnTo>
                    <a:pt x="1533" y="99"/>
                  </a:lnTo>
                  <a:lnTo>
                    <a:pt x="1528" y="94"/>
                  </a:lnTo>
                  <a:lnTo>
                    <a:pt x="1523" y="89"/>
                  </a:lnTo>
                  <a:lnTo>
                    <a:pt x="1518" y="79"/>
                  </a:lnTo>
                  <a:close/>
                </a:path>
              </a:pathLst>
            </a:custGeom>
            <a:solidFill>
              <a:srgbClr val="ffc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1" name=""/>
            <p:cNvSpPr/>
            <p:nvPr/>
          </p:nvSpPr>
          <p:spPr>
            <a:xfrm>
              <a:off x="2265120" y="2368440"/>
              <a:ext cx="4098960" cy="2628360"/>
            </a:xfrm>
            <a:custGeom>
              <a:avLst/>
              <a:gdLst/>
              <a:ahLst/>
              <a:rect l="l" t="t" r="r" b="b"/>
              <a:pathLst>
                <a:path w="2582" h="1656">
                  <a:moveTo>
                    <a:pt x="2235" y="1656"/>
                  </a:moveTo>
                  <a:lnTo>
                    <a:pt x="2260" y="1631"/>
                  </a:lnTo>
                  <a:lnTo>
                    <a:pt x="2285" y="1631"/>
                  </a:lnTo>
                  <a:lnTo>
                    <a:pt x="2315" y="1631"/>
                  </a:lnTo>
                  <a:lnTo>
                    <a:pt x="2339" y="1631"/>
                  </a:lnTo>
                  <a:lnTo>
                    <a:pt x="2369" y="1631"/>
                  </a:lnTo>
                  <a:lnTo>
                    <a:pt x="2394" y="1631"/>
                  </a:lnTo>
                  <a:lnTo>
                    <a:pt x="2418" y="1631"/>
                  </a:lnTo>
                  <a:lnTo>
                    <a:pt x="2448" y="1602"/>
                  </a:lnTo>
                  <a:lnTo>
                    <a:pt x="2448" y="1577"/>
                  </a:lnTo>
                  <a:lnTo>
                    <a:pt x="2448" y="1547"/>
                  </a:lnTo>
                  <a:lnTo>
                    <a:pt x="2448" y="1523"/>
                  </a:lnTo>
                  <a:lnTo>
                    <a:pt x="2473" y="1498"/>
                  </a:lnTo>
                  <a:lnTo>
                    <a:pt x="2473" y="1468"/>
                  </a:lnTo>
                  <a:lnTo>
                    <a:pt x="2473" y="1444"/>
                  </a:lnTo>
                  <a:lnTo>
                    <a:pt x="2473" y="1414"/>
                  </a:lnTo>
                  <a:lnTo>
                    <a:pt x="2503" y="1389"/>
                  </a:lnTo>
                  <a:lnTo>
                    <a:pt x="2503" y="1364"/>
                  </a:lnTo>
                  <a:lnTo>
                    <a:pt x="2503" y="1335"/>
                  </a:lnTo>
                  <a:lnTo>
                    <a:pt x="2503" y="1310"/>
                  </a:lnTo>
                  <a:lnTo>
                    <a:pt x="2527" y="1280"/>
                  </a:lnTo>
                  <a:lnTo>
                    <a:pt x="2527" y="1256"/>
                  </a:lnTo>
                  <a:lnTo>
                    <a:pt x="2527" y="1226"/>
                  </a:lnTo>
                  <a:lnTo>
                    <a:pt x="2527" y="1201"/>
                  </a:lnTo>
                  <a:lnTo>
                    <a:pt x="2552" y="1177"/>
                  </a:lnTo>
                  <a:lnTo>
                    <a:pt x="2552" y="1147"/>
                  </a:lnTo>
                  <a:lnTo>
                    <a:pt x="2552" y="1122"/>
                  </a:lnTo>
                  <a:lnTo>
                    <a:pt x="2552" y="1093"/>
                  </a:lnTo>
                  <a:lnTo>
                    <a:pt x="2582" y="1068"/>
                  </a:lnTo>
                  <a:lnTo>
                    <a:pt x="2582" y="1043"/>
                  </a:lnTo>
                  <a:lnTo>
                    <a:pt x="2582" y="1014"/>
                  </a:lnTo>
                  <a:lnTo>
                    <a:pt x="2582" y="989"/>
                  </a:lnTo>
                  <a:lnTo>
                    <a:pt x="2582" y="959"/>
                  </a:lnTo>
                  <a:lnTo>
                    <a:pt x="2582" y="934"/>
                  </a:lnTo>
                  <a:lnTo>
                    <a:pt x="2582" y="910"/>
                  </a:lnTo>
                  <a:lnTo>
                    <a:pt x="2582" y="880"/>
                  </a:lnTo>
                  <a:lnTo>
                    <a:pt x="2582" y="855"/>
                  </a:lnTo>
                  <a:lnTo>
                    <a:pt x="2582" y="826"/>
                  </a:lnTo>
                  <a:lnTo>
                    <a:pt x="2582" y="801"/>
                  </a:lnTo>
                  <a:lnTo>
                    <a:pt x="2582" y="776"/>
                  </a:lnTo>
                  <a:lnTo>
                    <a:pt x="2582" y="747"/>
                  </a:lnTo>
                  <a:lnTo>
                    <a:pt x="2582" y="722"/>
                  </a:lnTo>
                  <a:lnTo>
                    <a:pt x="2582" y="692"/>
                  </a:lnTo>
                  <a:lnTo>
                    <a:pt x="2582" y="668"/>
                  </a:lnTo>
                  <a:lnTo>
                    <a:pt x="2582" y="643"/>
                  </a:lnTo>
                  <a:lnTo>
                    <a:pt x="2582" y="613"/>
                  </a:lnTo>
                  <a:lnTo>
                    <a:pt x="2582" y="589"/>
                  </a:lnTo>
                  <a:lnTo>
                    <a:pt x="2582" y="559"/>
                  </a:lnTo>
                  <a:lnTo>
                    <a:pt x="2582" y="534"/>
                  </a:lnTo>
                  <a:lnTo>
                    <a:pt x="2582" y="504"/>
                  </a:lnTo>
                  <a:lnTo>
                    <a:pt x="2582" y="480"/>
                  </a:lnTo>
                  <a:lnTo>
                    <a:pt x="2582" y="455"/>
                  </a:lnTo>
                  <a:lnTo>
                    <a:pt x="2582" y="425"/>
                  </a:lnTo>
                  <a:lnTo>
                    <a:pt x="2582" y="401"/>
                  </a:lnTo>
                  <a:lnTo>
                    <a:pt x="2582" y="371"/>
                  </a:lnTo>
                  <a:lnTo>
                    <a:pt x="2582" y="346"/>
                  </a:lnTo>
                  <a:lnTo>
                    <a:pt x="2582" y="322"/>
                  </a:lnTo>
                  <a:lnTo>
                    <a:pt x="2582" y="292"/>
                  </a:lnTo>
                  <a:lnTo>
                    <a:pt x="2582" y="267"/>
                  </a:lnTo>
                  <a:lnTo>
                    <a:pt x="2582" y="238"/>
                  </a:lnTo>
                  <a:lnTo>
                    <a:pt x="2552" y="213"/>
                  </a:lnTo>
                  <a:lnTo>
                    <a:pt x="2552" y="188"/>
                  </a:lnTo>
                  <a:lnTo>
                    <a:pt x="2552" y="159"/>
                  </a:lnTo>
                  <a:lnTo>
                    <a:pt x="2552" y="134"/>
                  </a:lnTo>
                  <a:lnTo>
                    <a:pt x="2552" y="104"/>
                  </a:lnTo>
                  <a:lnTo>
                    <a:pt x="2527" y="79"/>
                  </a:lnTo>
                  <a:lnTo>
                    <a:pt x="2503" y="79"/>
                  </a:lnTo>
                  <a:lnTo>
                    <a:pt x="2473" y="79"/>
                  </a:lnTo>
                  <a:lnTo>
                    <a:pt x="2448" y="55"/>
                  </a:lnTo>
                  <a:lnTo>
                    <a:pt x="2418" y="55"/>
                  </a:lnTo>
                  <a:lnTo>
                    <a:pt x="2394" y="55"/>
                  </a:lnTo>
                  <a:lnTo>
                    <a:pt x="2369" y="25"/>
                  </a:lnTo>
                  <a:lnTo>
                    <a:pt x="2339" y="25"/>
                  </a:lnTo>
                  <a:lnTo>
                    <a:pt x="2315" y="25"/>
                  </a:lnTo>
                  <a:lnTo>
                    <a:pt x="2285" y="0"/>
                  </a:lnTo>
                  <a:lnTo>
                    <a:pt x="2260" y="0"/>
                  </a:lnTo>
                  <a:lnTo>
                    <a:pt x="2235" y="0"/>
                  </a:lnTo>
                  <a:lnTo>
                    <a:pt x="2206" y="0"/>
                  </a:lnTo>
                  <a:lnTo>
                    <a:pt x="2181" y="0"/>
                  </a:lnTo>
                  <a:lnTo>
                    <a:pt x="2156" y="0"/>
                  </a:lnTo>
                  <a:lnTo>
                    <a:pt x="2127" y="0"/>
                  </a:lnTo>
                  <a:lnTo>
                    <a:pt x="2102" y="0"/>
                  </a:lnTo>
                  <a:lnTo>
                    <a:pt x="2072" y="0"/>
                  </a:lnTo>
                  <a:lnTo>
                    <a:pt x="2048" y="0"/>
                  </a:lnTo>
                  <a:lnTo>
                    <a:pt x="2023" y="0"/>
                  </a:lnTo>
                  <a:lnTo>
                    <a:pt x="1993" y="0"/>
                  </a:lnTo>
                  <a:lnTo>
                    <a:pt x="1968" y="0"/>
                  </a:lnTo>
                  <a:lnTo>
                    <a:pt x="1944" y="0"/>
                  </a:lnTo>
                  <a:lnTo>
                    <a:pt x="1914" y="0"/>
                  </a:lnTo>
                  <a:lnTo>
                    <a:pt x="1889" y="0"/>
                  </a:lnTo>
                  <a:lnTo>
                    <a:pt x="1860" y="0"/>
                  </a:lnTo>
                  <a:lnTo>
                    <a:pt x="1835" y="0"/>
                  </a:lnTo>
                  <a:lnTo>
                    <a:pt x="1810" y="0"/>
                  </a:lnTo>
                  <a:lnTo>
                    <a:pt x="1780" y="0"/>
                  </a:lnTo>
                  <a:lnTo>
                    <a:pt x="1756" y="0"/>
                  </a:lnTo>
                  <a:lnTo>
                    <a:pt x="1726" y="0"/>
                  </a:lnTo>
                  <a:lnTo>
                    <a:pt x="1701" y="0"/>
                  </a:lnTo>
                  <a:lnTo>
                    <a:pt x="1677" y="0"/>
                  </a:lnTo>
                  <a:lnTo>
                    <a:pt x="1647" y="0"/>
                  </a:lnTo>
                  <a:lnTo>
                    <a:pt x="1622" y="0"/>
                  </a:lnTo>
                  <a:lnTo>
                    <a:pt x="1598" y="0"/>
                  </a:lnTo>
                  <a:lnTo>
                    <a:pt x="1568" y="0"/>
                  </a:lnTo>
                  <a:lnTo>
                    <a:pt x="1543" y="0"/>
                  </a:lnTo>
                  <a:lnTo>
                    <a:pt x="1513" y="0"/>
                  </a:lnTo>
                  <a:lnTo>
                    <a:pt x="1489" y="0"/>
                  </a:lnTo>
                  <a:lnTo>
                    <a:pt x="1464" y="0"/>
                  </a:lnTo>
                  <a:lnTo>
                    <a:pt x="1434" y="0"/>
                  </a:lnTo>
                  <a:lnTo>
                    <a:pt x="1410" y="0"/>
                  </a:lnTo>
                  <a:lnTo>
                    <a:pt x="1385" y="0"/>
                  </a:lnTo>
                  <a:lnTo>
                    <a:pt x="1355" y="0"/>
                  </a:lnTo>
                  <a:lnTo>
                    <a:pt x="1330" y="0"/>
                  </a:lnTo>
                  <a:lnTo>
                    <a:pt x="1301" y="0"/>
                  </a:lnTo>
                  <a:lnTo>
                    <a:pt x="1276" y="0"/>
                  </a:lnTo>
                  <a:lnTo>
                    <a:pt x="1251" y="0"/>
                  </a:lnTo>
                  <a:lnTo>
                    <a:pt x="1222" y="0"/>
                  </a:lnTo>
                  <a:lnTo>
                    <a:pt x="1197" y="0"/>
                  </a:lnTo>
                  <a:lnTo>
                    <a:pt x="1172" y="0"/>
                  </a:lnTo>
                  <a:lnTo>
                    <a:pt x="1143" y="0"/>
                  </a:lnTo>
                  <a:lnTo>
                    <a:pt x="1118" y="0"/>
                  </a:lnTo>
                  <a:lnTo>
                    <a:pt x="1088" y="0"/>
                  </a:lnTo>
                  <a:lnTo>
                    <a:pt x="1063" y="0"/>
                  </a:lnTo>
                  <a:lnTo>
                    <a:pt x="1039" y="0"/>
                  </a:lnTo>
                  <a:lnTo>
                    <a:pt x="1009" y="0"/>
                  </a:lnTo>
                  <a:lnTo>
                    <a:pt x="984" y="0"/>
                  </a:lnTo>
                  <a:lnTo>
                    <a:pt x="955" y="0"/>
                  </a:lnTo>
                  <a:lnTo>
                    <a:pt x="930" y="0"/>
                  </a:lnTo>
                  <a:lnTo>
                    <a:pt x="905" y="0"/>
                  </a:lnTo>
                  <a:lnTo>
                    <a:pt x="875" y="0"/>
                  </a:lnTo>
                  <a:lnTo>
                    <a:pt x="851" y="0"/>
                  </a:lnTo>
                  <a:lnTo>
                    <a:pt x="826" y="0"/>
                  </a:lnTo>
                  <a:lnTo>
                    <a:pt x="796" y="0"/>
                  </a:lnTo>
                  <a:lnTo>
                    <a:pt x="772" y="0"/>
                  </a:lnTo>
                  <a:lnTo>
                    <a:pt x="742" y="0"/>
                  </a:lnTo>
                  <a:lnTo>
                    <a:pt x="717" y="0"/>
                  </a:lnTo>
                  <a:lnTo>
                    <a:pt x="692" y="0"/>
                  </a:lnTo>
                  <a:lnTo>
                    <a:pt x="663" y="0"/>
                  </a:lnTo>
                  <a:lnTo>
                    <a:pt x="638" y="0"/>
                  </a:lnTo>
                  <a:lnTo>
                    <a:pt x="613" y="0"/>
                  </a:lnTo>
                  <a:lnTo>
                    <a:pt x="584" y="25"/>
                  </a:lnTo>
                  <a:lnTo>
                    <a:pt x="559" y="55"/>
                  </a:lnTo>
                  <a:lnTo>
                    <a:pt x="529" y="79"/>
                  </a:lnTo>
                  <a:lnTo>
                    <a:pt x="505" y="104"/>
                  </a:lnTo>
                  <a:lnTo>
                    <a:pt x="480" y="134"/>
                  </a:lnTo>
                  <a:lnTo>
                    <a:pt x="450" y="134"/>
                  </a:lnTo>
                  <a:lnTo>
                    <a:pt x="425" y="159"/>
                  </a:lnTo>
                  <a:lnTo>
                    <a:pt x="396" y="188"/>
                  </a:lnTo>
                  <a:lnTo>
                    <a:pt x="371" y="213"/>
                  </a:lnTo>
                  <a:lnTo>
                    <a:pt x="346" y="238"/>
                  </a:lnTo>
                  <a:lnTo>
                    <a:pt x="317" y="267"/>
                  </a:lnTo>
                  <a:lnTo>
                    <a:pt x="292" y="292"/>
                  </a:lnTo>
                  <a:lnTo>
                    <a:pt x="267" y="322"/>
                  </a:lnTo>
                  <a:lnTo>
                    <a:pt x="237" y="322"/>
                  </a:lnTo>
                  <a:lnTo>
                    <a:pt x="213" y="346"/>
                  </a:lnTo>
                  <a:lnTo>
                    <a:pt x="183" y="371"/>
                  </a:lnTo>
                  <a:lnTo>
                    <a:pt x="158" y="401"/>
                  </a:lnTo>
                  <a:lnTo>
                    <a:pt x="134" y="425"/>
                  </a:lnTo>
                  <a:lnTo>
                    <a:pt x="104" y="455"/>
                  </a:lnTo>
                  <a:lnTo>
                    <a:pt x="79" y="480"/>
                  </a:lnTo>
                  <a:lnTo>
                    <a:pt x="55" y="504"/>
                  </a:lnTo>
                  <a:lnTo>
                    <a:pt x="25" y="504"/>
                  </a:lnTo>
                  <a:lnTo>
                    <a:pt x="0" y="534"/>
                  </a:lnTo>
                  <a:lnTo>
                    <a:pt x="0" y="559"/>
                  </a:lnTo>
                  <a:lnTo>
                    <a:pt x="0" y="589"/>
                  </a:lnTo>
                  <a:lnTo>
                    <a:pt x="0" y="613"/>
                  </a:lnTo>
                  <a:lnTo>
                    <a:pt x="25" y="643"/>
                  </a:lnTo>
                  <a:lnTo>
                    <a:pt x="25" y="668"/>
                  </a:lnTo>
                  <a:lnTo>
                    <a:pt x="55" y="692"/>
                  </a:lnTo>
                  <a:lnTo>
                    <a:pt x="79" y="722"/>
                  </a:lnTo>
                  <a:lnTo>
                    <a:pt x="104" y="747"/>
                  </a:lnTo>
                  <a:lnTo>
                    <a:pt x="134" y="776"/>
                  </a:lnTo>
                  <a:lnTo>
                    <a:pt x="134" y="801"/>
                  </a:lnTo>
                  <a:lnTo>
                    <a:pt x="158" y="826"/>
                  </a:lnTo>
                  <a:lnTo>
                    <a:pt x="183" y="855"/>
                  </a:lnTo>
                  <a:lnTo>
                    <a:pt x="213" y="880"/>
                  </a:lnTo>
                  <a:lnTo>
                    <a:pt x="237" y="910"/>
                  </a:lnTo>
                  <a:lnTo>
                    <a:pt x="267" y="934"/>
                  </a:lnTo>
                  <a:lnTo>
                    <a:pt x="292" y="959"/>
                  </a:lnTo>
                  <a:lnTo>
                    <a:pt x="292" y="989"/>
                  </a:lnTo>
                  <a:lnTo>
                    <a:pt x="317" y="1014"/>
                  </a:lnTo>
                  <a:lnTo>
                    <a:pt x="346" y="1043"/>
                  </a:lnTo>
                  <a:lnTo>
                    <a:pt x="371" y="1068"/>
                  </a:lnTo>
                  <a:lnTo>
                    <a:pt x="396" y="1093"/>
                  </a:lnTo>
                  <a:lnTo>
                    <a:pt x="425" y="1122"/>
                  </a:lnTo>
                  <a:lnTo>
                    <a:pt x="450" y="1147"/>
                  </a:lnTo>
                  <a:lnTo>
                    <a:pt x="480" y="1177"/>
                  </a:lnTo>
                  <a:lnTo>
                    <a:pt x="505" y="1201"/>
                  </a:lnTo>
                  <a:lnTo>
                    <a:pt x="529" y="1226"/>
                  </a:lnTo>
                  <a:lnTo>
                    <a:pt x="559" y="1256"/>
                  </a:lnTo>
                  <a:lnTo>
                    <a:pt x="584" y="1280"/>
                  </a:lnTo>
                  <a:lnTo>
                    <a:pt x="613" y="1310"/>
                  </a:lnTo>
                  <a:lnTo>
                    <a:pt x="638" y="1335"/>
                  </a:lnTo>
                  <a:lnTo>
                    <a:pt x="663" y="1364"/>
                  </a:lnTo>
                  <a:lnTo>
                    <a:pt x="692" y="1389"/>
                  </a:lnTo>
                  <a:lnTo>
                    <a:pt x="717" y="1414"/>
                  </a:lnTo>
                  <a:lnTo>
                    <a:pt x="742" y="1444"/>
                  </a:lnTo>
                  <a:lnTo>
                    <a:pt x="772" y="1468"/>
                  </a:lnTo>
                  <a:lnTo>
                    <a:pt x="796" y="1468"/>
                  </a:lnTo>
                  <a:lnTo>
                    <a:pt x="826" y="1498"/>
                  </a:lnTo>
                  <a:lnTo>
                    <a:pt x="851" y="1523"/>
                  </a:lnTo>
                  <a:lnTo>
                    <a:pt x="875" y="1547"/>
                  </a:lnTo>
                  <a:lnTo>
                    <a:pt x="905" y="1577"/>
                  </a:lnTo>
                  <a:lnTo>
                    <a:pt x="930" y="1602"/>
                  </a:lnTo>
                  <a:lnTo>
                    <a:pt x="955" y="1631"/>
                  </a:lnTo>
                  <a:lnTo>
                    <a:pt x="984" y="1656"/>
                  </a:lnTo>
                  <a:lnTo>
                    <a:pt x="1009" y="1656"/>
                  </a:lnTo>
                  <a:lnTo>
                    <a:pt x="1039" y="1656"/>
                  </a:lnTo>
                  <a:lnTo>
                    <a:pt x="1063" y="1656"/>
                  </a:lnTo>
                  <a:lnTo>
                    <a:pt x="1088" y="1656"/>
                  </a:lnTo>
                  <a:lnTo>
                    <a:pt x="1118" y="1656"/>
                  </a:lnTo>
                  <a:lnTo>
                    <a:pt x="1143" y="1656"/>
                  </a:lnTo>
                  <a:lnTo>
                    <a:pt x="1172" y="1656"/>
                  </a:lnTo>
                  <a:lnTo>
                    <a:pt x="1197" y="1656"/>
                  </a:lnTo>
                  <a:lnTo>
                    <a:pt x="1222" y="1656"/>
                  </a:lnTo>
                  <a:lnTo>
                    <a:pt x="1251" y="1656"/>
                  </a:lnTo>
                  <a:lnTo>
                    <a:pt x="1276" y="1656"/>
                  </a:lnTo>
                  <a:lnTo>
                    <a:pt x="1301" y="1656"/>
                  </a:lnTo>
                  <a:lnTo>
                    <a:pt x="1330" y="1656"/>
                  </a:lnTo>
                  <a:lnTo>
                    <a:pt x="1355" y="1656"/>
                  </a:lnTo>
                  <a:lnTo>
                    <a:pt x="1385" y="1656"/>
                  </a:lnTo>
                  <a:lnTo>
                    <a:pt x="1410" y="1656"/>
                  </a:lnTo>
                  <a:lnTo>
                    <a:pt x="1434" y="1656"/>
                  </a:lnTo>
                  <a:lnTo>
                    <a:pt x="1464" y="1656"/>
                  </a:lnTo>
                  <a:lnTo>
                    <a:pt x="1489" y="1656"/>
                  </a:lnTo>
                  <a:lnTo>
                    <a:pt x="1513" y="1656"/>
                  </a:lnTo>
                  <a:lnTo>
                    <a:pt x="1543" y="1656"/>
                  </a:lnTo>
                  <a:lnTo>
                    <a:pt x="1568" y="1656"/>
                  </a:lnTo>
                  <a:lnTo>
                    <a:pt x="1598" y="1656"/>
                  </a:lnTo>
                  <a:lnTo>
                    <a:pt x="1622" y="1656"/>
                  </a:lnTo>
                  <a:lnTo>
                    <a:pt x="1647" y="1656"/>
                  </a:lnTo>
                  <a:lnTo>
                    <a:pt x="1677" y="1656"/>
                  </a:lnTo>
                  <a:lnTo>
                    <a:pt x="1701" y="1656"/>
                  </a:lnTo>
                  <a:lnTo>
                    <a:pt x="1726" y="1656"/>
                  </a:lnTo>
                  <a:lnTo>
                    <a:pt x="1756" y="1656"/>
                  </a:lnTo>
                  <a:lnTo>
                    <a:pt x="1780" y="1656"/>
                  </a:lnTo>
                  <a:lnTo>
                    <a:pt x="1810" y="1656"/>
                  </a:lnTo>
                  <a:lnTo>
                    <a:pt x="1835" y="1656"/>
                  </a:lnTo>
                  <a:lnTo>
                    <a:pt x="1860" y="1656"/>
                  </a:lnTo>
                  <a:lnTo>
                    <a:pt x="1889" y="1656"/>
                  </a:lnTo>
                  <a:lnTo>
                    <a:pt x="1914" y="1656"/>
                  </a:lnTo>
                  <a:lnTo>
                    <a:pt x="1944" y="1656"/>
                  </a:lnTo>
                  <a:lnTo>
                    <a:pt x="1968" y="1656"/>
                  </a:lnTo>
                  <a:lnTo>
                    <a:pt x="1993" y="1656"/>
                  </a:lnTo>
                  <a:lnTo>
                    <a:pt x="2023" y="1656"/>
                  </a:lnTo>
                  <a:lnTo>
                    <a:pt x="2048" y="1656"/>
                  </a:lnTo>
                  <a:lnTo>
                    <a:pt x="2072" y="1656"/>
                  </a:lnTo>
                  <a:lnTo>
                    <a:pt x="2102" y="1656"/>
                  </a:lnTo>
                  <a:lnTo>
                    <a:pt x="2127" y="1656"/>
                  </a:lnTo>
                  <a:lnTo>
                    <a:pt x="2156" y="1656"/>
                  </a:lnTo>
                  <a:lnTo>
                    <a:pt x="2181" y="1656"/>
                  </a:lnTo>
                  <a:lnTo>
                    <a:pt x="2206" y="1656"/>
                  </a:lnTo>
                  <a:lnTo>
                    <a:pt x="2235" y="1656"/>
                  </a:lnTo>
                  <a:close/>
                  <a:moveTo>
                    <a:pt x="1375" y="292"/>
                  </a:moveTo>
                  <a:lnTo>
                    <a:pt x="1380" y="292"/>
                  </a:lnTo>
                  <a:lnTo>
                    <a:pt x="1390" y="292"/>
                  </a:lnTo>
                  <a:lnTo>
                    <a:pt x="1395" y="292"/>
                  </a:lnTo>
                  <a:lnTo>
                    <a:pt x="1400" y="292"/>
                  </a:lnTo>
                  <a:lnTo>
                    <a:pt x="1410" y="287"/>
                  </a:lnTo>
                  <a:lnTo>
                    <a:pt x="1415" y="287"/>
                  </a:lnTo>
                  <a:lnTo>
                    <a:pt x="1419" y="282"/>
                  </a:lnTo>
                  <a:lnTo>
                    <a:pt x="1419" y="277"/>
                  </a:lnTo>
                  <a:lnTo>
                    <a:pt x="1424" y="272"/>
                  </a:lnTo>
                  <a:lnTo>
                    <a:pt x="1424" y="267"/>
                  </a:lnTo>
                  <a:lnTo>
                    <a:pt x="1429" y="262"/>
                  </a:lnTo>
                  <a:lnTo>
                    <a:pt x="1429" y="257"/>
                  </a:lnTo>
                  <a:lnTo>
                    <a:pt x="1434" y="257"/>
                  </a:lnTo>
                  <a:lnTo>
                    <a:pt x="1439" y="252"/>
                  </a:lnTo>
                  <a:lnTo>
                    <a:pt x="1444" y="252"/>
                  </a:lnTo>
                  <a:lnTo>
                    <a:pt x="1454" y="252"/>
                  </a:lnTo>
                  <a:lnTo>
                    <a:pt x="1464" y="252"/>
                  </a:lnTo>
                  <a:lnTo>
                    <a:pt x="1469" y="257"/>
                  </a:lnTo>
                  <a:lnTo>
                    <a:pt x="1474" y="262"/>
                  </a:lnTo>
                  <a:lnTo>
                    <a:pt x="1479" y="262"/>
                  </a:lnTo>
                  <a:lnTo>
                    <a:pt x="1479" y="267"/>
                  </a:lnTo>
                  <a:lnTo>
                    <a:pt x="1474" y="272"/>
                  </a:lnTo>
                  <a:lnTo>
                    <a:pt x="1464" y="272"/>
                  </a:lnTo>
                  <a:lnTo>
                    <a:pt x="1459" y="277"/>
                  </a:lnTo>
                  <a:lnTo>
                    <a:pt x="1449" y="277"/>
                  </a:lnTo>
                  <a:lnTo>
                    <a:pt x="1444" y="277"/>
                  </a:lnTo>
                  <a:lnTo>
                    <a:pt x="1439" y="277"/>
                  </a:lnTo>
                  <a:lnTo>
                    <a:pt x="1434" y="277"/>
                  </a:lnTo>
                  <a:lnTo>
                    <a:pt x="1429" y="282"/>
                  </a:lnTo>
                  <a:lnTo>
                    <a:pt x="1424" y="287"/>
                  </a:lnTo>
                  <a:lnTo>
                    <a:pt x="1419" y="292"/>
                  </a:lnTo>
                  <a:lnTo>
                    <a:pt x="1415" y="292"/>
                  </a:lnTo>
                  <a:lnTo>
                    <a:pt x="1410" y="297"/>
                  </a:lnTo>
                  <a:lnTo>
                    <a:pt x="1405" y="297"/>
                  </a:lnTo>
                  <a:lnTo>
                    <a:pt x="1395" y="297"/>
                  </a:lnTo>
                  <a:lnTo>
                    <a:pt x="1390" y="297"/>
                  </a:lnTo>
                  <a:lnTo>
                    <a:pt x="1380" y="292"/>
                  </a:lnTo>
                  <a:lnTo>
                    <a:pt x="1375" y="292"/>
                  </a:lnTo>
                  <a:close/>
                  <a:moveTo>
                    <a:pt x="1667" y="267"/>
                  </a:moveTo>
                  <a:lnTo>
                    <a:pt x="1662" y="262"/>
                  </a:lnTo>
                  <a:lnTo>
                    <a:pt x="1657" y="257"/>
                  </a:lnTo>
                  <a:lnTo>
                    <a:pt x="1652" y="257"/>
                  </a:lnTo>
                  <a:lnTo>
                    <a:pt x="1647" y="252"/>
                  </a:lnTo>
                  <a:lnTo>
                    <a:pt x="1642" y="247"/>
                  </a:lnTo>
                  <a:lnTo>
                    <a:pt x="1637" y="243"/>
                  </a:lnTo>
                  <a:lnTo>
                    <a:pt x="1632" y="238"/>
                  </a:lnTo>
                  <a:lnTo>
                    <a:pt x="1632" y="233"/>
                  </a:lnTo>
                  <a:lnTo>
                    <a:pt x="1627" y="228"/>
                  </a:lnTo>
                  <a:lnTo>
                    <a:pt x="1617" y="228"/>
                  </a:lnTo>
                  <a:lnTo>
                    <a:pt x="1612" y="228"/>
                  </a:lnTo>
                  <a:lnTo>
                    <a:pt x="1602" y="228"/>
                  </a:lnTo>
                  <a:lnTo>
                    <a:pt x="1593" y="228"/>
                  </a:lnTo>
                  <a:lnTo>
                    <a:pt x="1588" y="228"/>
                  </a:lnTo>
                  <a:lnTo>
                    <a:pt x="1578" y="223"/>
                  </a:lnTo>
                  <a:lnTo>
                    <a:pt x="1573" y="223"/>
                  </a:lnTo>
                  <a:lnTo>
                    <a:pt x="1563" y="223"/>
                  </a:lnTo>
                  <a:lnTo>
                    <a:pt x="1563" y="228"/>
                  </a:lnTo>
                  <a:lnTo>
                    <a:pt x="1558" y="233"/>
                  </a:lnTo>
                  <a:lnTo>
                    <a:pt x="1553" y="243"/>
                  </a:lnTo>
                  <a:lnTo>
                    <a:pt x="1548" y="243"/>
                  </a:lnTo>
                  <a:lnTo>
                    <a:pt x="1543" y="247"/>
                  </a:lnTo>
                  <a:lnTo>
                    <a:pt x="1533" y="252"/>
                  </a:lnTo>
                  <a:lnTo>
                    <a:pt x="1528" y="252"/>
                  </a:lnTo>
                  <a:lnTo>
                    <a:pt x="1518" y="252"/>
                  </a:lnTo>
                  <a:lnTo>
                    <a:pt x="1513" y="252"/>
                  </a:lnTo>
                  <a:lnTo>
                    <a:pt x="1504" y="247"/>
                  </a:lnTo>
                  <a:lnTo>
                    <a:pt x="1499" y="247"/>
                  </a:lnTo>
                  <a:lnTo>
                    <a:pt x="1494" y="238"/>
                  </a:lnTo>
                  <a:lnTo>
                    <a:pt x="1499" y="233"/>
                  </a:lnTo>
                  <a:lnTo>
                    <a:pt x="1504" y="228"/>
                  </a:lnTo>
                  <a:lnTo>
                    <a:pt x="1508" y="223"/>
                  </a:lnTo>
                  <a:lnTo>
                    <a:pt x="1513" y="223"/>
                  </a:lnTo>
                  <a:lnTo>
                    <a:pt x="1523" y="223"/>
                  </a:lnTo>
                  <a:lnTo>
                    <a:pt x="1533" y="228"/>
                  </a:lnTo>
                  <a:lnTo>
                    <a:pt x="1538" y="228"/>
                  </a:lnTo>
                  <a:lnTo>
                    <a:pt x="1548" y="228"/>
                  </a:lnTo>
                  <a:lnTo>
                    <a:pt x="1553" y="223"/>
                  </a:lnTo>
                  <a:lnTo>
                    <a:pt x="1558" y="218"/>
                  </a:lnTo>
                  <a:lnTo>
                    <a:pt x="1558" y="213"/>
                  </a:lnTo>
                  <a:lnTo>
                    <a:pt x="1563" y="208"/>
                  </a:lnTo>
                  <a:lnTo>
                    <a:pt x="1568" y="203"/>
                  </a:lnTo>
                  <a:lnTo>
                    <a:pt x="1568" y="198"/>
                  </a:lnTo>
                  <a:lnTo>
                    <a:pt x="1578" y="198"/>
                  </a:lnTo>
                  <a:lnTo>
                    <a:pt x="1583" y="193"/>
                  </a:lnTo>
                  <a:lnTo>
                    <a:pt x="1593" y="193"/>
                  </a:lnTo>
                  <a:lnTo>
                    <a:pt x="1602" y="193"/>
                  </a:lnTo>
                  <a:lnTo>
                    <a:pt x="1612" y="193"/>
                  </a:lnTo>
                  <a:lnTo>
                    <a:pt x="1617" y="193"/>
                  </a:lnTo>
                  <a:lnTo>
                    <a:pt x="1627" y="198"/>
                  </a:lnTo>
                  <a:lnTo>
                    <a:pt x="1632" y="203"/>
                  </a:lnTo>
                  <a:lnTo>
                    <a:pt x="1632" y="208"/>
                  </a:lnTo>
                  <a:lnTo>
                    <a:pt x="1637" y="213"/>
                  </a:lnTo>
                  <a:lnTo>
                    <a:pt x="1642" y="218"/>
                  </a:lnTo>
                  <a:lnTo>
                    <a:pt x="1647" y="223"/>
                  </a:lnTo>
                  <a:lnTo>
                    <a:pt x="1652" y="223"/>
                  </a:lnTo>
                  <a:lnTo>
                    <a:pt x="1657" y="228"/>
                  </a:lnTo>
                  <a:lnTo>
                    <a:pt x="1662" y="233"/>
                  </a:lnTo>
                  <a:lnTo>
                    <a:pt x="1667" y="238"/>
                  </a:lnTo>
                  <a:lnTo>
                    <a:pt x="1667" y="243"/>
                  </a:lnTo>
                  <a:lnTo>
                    <a:pt x="1672" y="247"/>
                  </a:lnTo>
                  <a:lnTo>
                    <a:pt x="1672" y="252"/>
                  </a:lnTo>
                  <a:lnTo>
                    <a:pt x="1677" y="257"/>
                  </a:lnTo>
                  <a:lnTo>
                    <a:pt x="1682" y="262"/>
                  </a:lnTo>
                  <a:lnTo>
                    <a:pt x="1687" y="267"/>
                  </a:lnTo>
                  <a:lnTo>
                    <a:pt x="1682" y="272"/>
                  </a:lnTo>
                  <a:lnTo>
                    <a:pt x="1672" y="272"/>
                  </a:lnTo>
                  <a:lnTo>
                    <a:pt x="1667" y="267"/>
                  </a:lnTo>
                  <a:close/>
                  <a:moveTo>
                    <a:pt x="1963" y="238"/>
                  </a:moveTo>
                  <a:lnTo>
                    <a:pt x="1959" y="238"/>
                  </a:lnTo>
                  <a:lnTo>
                    <a:pt x="1954" y="233"/>
                  </a:lnTo>
                  <a:lnTo>
                    <a:pt x="1944" y="228"/>
                  </a:lnTo>
                  <a:lnTo>
                    <a:pt x="1939" y="223"/>
                  </a:lnTo>
                  <a:lnTo>
                    <a:pt x="1934" y="223"/>
                  </a:lnTo>
                  <a:lnTo>
                    <a:pt x="1929" y="218"/>
                  </a:lnTo>
                  <a:lnTo>
                    <a:pt x="1924" y="213"/>
                  </a:lnTo>
                  <a:lnTo>
                    <a:pt x="1919" y="208"/>
                  </a:lnTo>
                  <a:lnTo>
                    <a:pt x="1909" y="208"/>
                  </a:lnTo>
                  <a:lnTo>
                    <a:pt x="1904" y="203"/>
                  </a:lnTo>
                  <a:lnTo>
                    <a:pt x="1894" y="203"/>
                  </a:lnTo>
                  <a:lnTo>
                    <a:pt x="1884" y="203"/>
                  </a:lnTo>
                  <a:lnTo>
                    <a:pt x="1879" y="203"/>
                  </a:lnTo>
                  <a:lnTo>
                    <a:pt x="1874" y="208"/>
                  </a:lnTo>
                  <a:lnTo>
                    <a:pt x="1870" y="213"/>
                  </a:lnTo>
                  <a:lnTo>
                    <a:pt x="1865" y="223"/>
                  </a:lnTo>
                  <a:lnTo>
                    <a:pt x="1860" y="223"/>
                  </a:lnTo>
                  <a:lnTo>
                    <a:pt x="1855" y="223"/>
                  </a:lnTo>
                  <a:lnTo>
                    <a:pt x="1850" y="218"/>
                  </a:lnTo>
                  <a:lnTo>
                    <a:pt x="1845" y="213"/>
                  </a:lnTo>
                  <a:lnTo>
                    <a:pt x="1850" y="208"/>
                  </a:lnTo>
                  <a:lnTo>
                    <a:pt x="1855" y="203"/>
                  </a:lnTo>
                  <a:lnTo>
                    <a:pt x="1865" y="198"/>
                  </a:lnTo>
                  <a:lnTo>
                    <a:pt x="1870" y="193"/>
                  </a:lnTo>
                  <a:lnTo>
                    <a:pt x="1870" y="188"/>
                  </a:lnTo>
                  <a:lnTo>
                    <a:pt x="1870" y="183"/>
                  </a:lnTo>
                  <a:lnTo>
                    <a:pt x="1865" y="178"/>
                  </a:lnTo>
                  <a:lnTo>
                    <a:pt x="1855" y="178"/>
                  </a:lnTo>
                  <a:lnTo>
                    <a:pt x="1845" y="178"/>
                  </a:lnTo>
                  <a:lnTo>
                    <a:pt x="1840" y="178"/>
                  </a:lnTo>
                  <a:lnTo>
                    <a:pt x="1830" y="178"/>
                  </a:lnTo>
                  <a:lnTo>
                    <a:pt x="1820" y="178"/>
                  </a:lnTo>
                  <a:lnTo>
                    <a:pt x="1815" y="183"/>
                  </a:lnTo>
                  <a:lnTo>
                    <a:pt x="1810" y="188"/>
                  </a:lnTo>
                  <a:lnTo>
                    <a:pt x="1805" y="193"/>
                  </a:lnTo>
                  <a:lnTo>
                    <a:pt x="1800" y="198"/>
                  </a:lnTo>
                  <a:lnTo>
                    <a:pt x="1790" y="198"/>
                  </a:lnTo>
                  <a:lnTo>
                    <a:pt x="1785" y="203"/>
                  </a:lnTo>
                  <a:lnTo>
                    <a:pt x="1776" y="198"/>
                  </a:lnTo>
                  <a:lnTo>
                    <a:pt x="1771" y="198"/>
                  </a:lnTo>
                  <a:lnTo>
                    <a:pt x="1766" y="193"/>
                  </a:lnTo>
                  <a:lnTo>
                    <a:pt x="1761" y="188"/>
                  </a:lnTo>
                  <a:lnTo>
                    <a:pt x="1766" y="178"/>
                  </a:lnTo>
                  <a:lnTo>
                    <a:pt x="1771" y="173"/>
                  </a:lnTo>
                  <a:lnTo>
                    <a:pt x="1780" y="173"/>
                  </a:lnTo>
                  <a:lnTo>
                    <a:pt x="1785" y="173"/>
                  </a:lnTo>
                  <a:lnTo>
                    <a:pt x="1795" y="178"/>
                  </a:lnTo>
                  <a:lnTo>
                    <a:pt x="1800" y="183"/>
                  </a:lnTo>
                  <a:lnTo>
                    <a:pt x="1805" y="183"/>
                  </a:lnTo>
                  <a:lnTo>
                    <a:pt x="1810" y="183"/>
                  </a:lnTo>
                  <a:lnTo>
                    <a:pt x="1815" y="178"/>
                  </a:lnTo>
                  <a:lnTo>
                    <a:pt x="1815" y="173"/>
                  </a:lnTo>
                  <a:lnTo>
                    <a:pt x="1815" y="168"/>
                  </a:lnTo>
                  <a:lnTo>
                    <a:pt x="1815" y="159"/>
                  </a:lnTo>
                  <a:lnTo>
                    <a:pt x="1810" y="154"/>
                  </a:lnTo>
                  <a:lnTo>
                    <a:pt x="1805" y="154"/>
                  </a:lnTo>
                  <a:lnTo>
                    <a:pt x="1795" y="154"/>
                  </a:lnTo>
                  <a:lnTo>
                    <a:pt x="1785" y="154"/>
                  </a:lnTo>
                  <a:lnTo>
                    <a:pt x="1780" y="154"/>
                  </a:lnTo>
                  <a:lnTo>
                    <a:pt x="1776" y="149"/>
                  </a:lnTo>
                  <a:lnTo>
                    <a:pt x="1771" y="144"/>
                  </a:lnTo>
                  <a:lnTo>
                    <a:pt x="1766" y="139"/>
                  </a:lnTo>
                  <a:lnTo>
                    <a:pt x="1761" y="134"/>
                  </a:lnTo>
                  <a:lnTo>
                    <a:pt x="1756" y="129"/>
                  </a:lnTo>
                  <a:lnTo>
                    <a:pt x="1751" y="129"/>
                  </a:lnTo>
                  <a:lnTo>
                    <a:pt x="1741" y="129"/>
                  </a:lnTo>
                  <a:lnTo>
                    <a:pt x="1731" y="124"/>
                  </a:lnTo>
                  <a:lnTo>
                    <a:pt x="1726" y="124"/>
                  </a:lnTo>
                  <a:lnTo>
                    <a:pt x="1721" y="119"/>
                  </a:lnTo>
                  <a:lnTo>
                    <a:pt x="1716" y="114"/>
                  </a:lnTo>
                  <a:lnTo>
                    <a:pt x="1711" y="109"/>
                  </a:lnTo>
                  <a:lnTo>
                    <a:pt x="1706" y="104"/>
                  </a:lnTo>
                  <a:lnTo>
                    <a:pt x="1701" y="104"/>
                  </a:lnTo>
                  <a:lnTo>
                    <a:pt x="1691" y="99"/>
                  </a:lnTo>
                  <a:lnTo>
                    <a:pt x="1687" y="99"/>
                  </a:lnTo>
                  <a:lnTo>
                    <a:pt x="1677" y="99"/>
                  </a:lnTo>
                  <a:lnTo>
                    <a:pt x="1672" y="94"/>
                  </a:lnTo>
                  <a:lnTo>
                    <a:pt x="1667" y="89"/>
                  </a:lnTo>
                  <a:lnTo>
                    <a:pt x="1662" y="89"/>
                  </a:lnTo>
                  <a:lnTo>
                    <a:pt x="1657" y="84"/>
                  </a:lnTo>
                  <a:lnTo>
                    <a:pt x="1652" y="79"/>
                  </a:lnTo>
                  <a:lnTo>
                    <a:pt x="1647" y="74"/>
                  </a:lnTo>
                  <a:lnTo>
                    <a:pt x="1637" y="74"/>
                  </a:lnTo>
                  <a:lnTo>
                    <a:pt x="1627" y="74"/>
                  </a:lnTo>
                  <a:lnTo>
                    <a:pt x="1622" y="74"/>
                  </a:lnTo>
                  <a:lnTo>
                    <a:pt x="1612" y="70"/>
                  </a:lnTo>
                  <a:lnTo>
                    <a:pt x="1607" y="70"/>
                  </a:lnTo>
                  <a:lnTo>
                    <a:pt x="1602" y="65"/>
                  </a:lnTo>
                  <a:lnTo>
                    <a:pt x="1598" y="55"/>
                  </a:lnTo>
                  <a:lnTo>
                    <a:pt x="1598" y="50"/>
                  </a:lnTo>
                  <a:lnTo>
                    <a:pt x="1602" y="45"/>
                  </a:lnTo>
                  <a:lnTo>
                    <a:pt x="1607" y="40"/>
                  </a:lnTo>
                  <a:lnTo>
                    <a:pt x="1612" y="40"/>
                  </a:lnTo>
                  <a:lnTo>
                    <a:pt x="1622" y="35"/>
                  </a:lnTo>
                  <a:lnTo>
                    <a:pt x="1627" y="35"/>
                  </a:lnTo>
                  <a:lnTo>
                    <a:pt x="1637" y="30"/>
                  </a:lnTo>
                  <a:lnTo>
                    <a:pt x="1647" y="30"/>
                  </a:lnTo>
                  <a:lnTo>
                    <a:pt x="1652" y="30"/>
                  </a:lnTo>
                  <a:lnTo>
                    <a:pt x="1662" y="35"/>
                  </a:lnTo>
                  <a:lnTo>
                    <a:pt x="1667" y="35"/>
                  </a:lnTo>
                  <a:lnTo>
                    <a:pt x="1677" y="40"/>
                  </a:lnTo>
                  <a:lnTo>
                    <a:pt x="1682" y="40"/>
                  </a:lnTo>
                  <a:lnTo>
                    <a:pt x="1687" y="45"/>
                  </a:lnTo>
                  <a:lnTo>
                    <a:pt x="1691" y="50"/>
                  </a:lnTo>
                  <a:lnTo>
                    <a:pt x="1696" y="55"/>
                  </a:lnTo>
                  <a:lnTo>
                    <a:pt x="1706" y="55"/>
                  </a:lnTo>
                  <a:lnTo>
                    <a:pt x="1711" y="60"/>
                  </a:lnTo>
                  <a:lnTo>
                    <a:pt x="1721" y="60"/>
                  </a:lnTo>
                  <a:lnTo>
                    <a:pt x="1731" y="60"/>
                  </a:lnTo>
                  <a:lnTo>
                    <a:pt x="1736" y="60"/>
                  </a:lnTo>
                  <a:lnTo>
                    <a:pt x="1746" y="60"/>
                  </a:lnTo>
                  <a:lnTo>
                    <a:pt x="1756" y="60"/>
                  </a:lnTo>
                  <a:lnTo>
                    <a:pt x="1761" y="60"/>
                  </a:lnTo>
                  <a:lnTo>
                    <a:pt x="1771" y="60"/>
                  </a:lnTo>
                  <a:lnTo>
                    <a:pt x="1776" y="65"/>
                  </a:lnTo>
                  <a:lnTo>
                    <a:pt x="1785" y="70"/>
                  </a:lnTo>
                  <a:lnTo>
                    <a:pt x="1790" y="70"/>
                  </a:lnTo>
                  <a:lnTo>
                    <a:pt x="1795" y="74"/>
                  </a:lnTo>
                  <a:lnTo>
                    <a:pt x="1800" y="79"/>
                  </a:lnTo>
                  <a:lnTo>
                    <a:pt x="1805" y="84"/>
                  </a:lnTo>
                  <a:lnTo>
                    <a:pt x="1815" y="84"/>
                  </a:lnTo>
                  <a:lnTo>
                    <a:pt x="1820" y="84"/>
                  </a:lnTo>
                  <a:lnTo>
                    <a:pt x="1830" y="89"/>
                  </a:lnTo>
                  <a:lnTo>
                    <a:pt x="1840" y="89"/>
                  </a:lnTo>
                  <a:lnTo>
                    <a:pt x="1845" y="89"/>
                  </a:lnTo>
                  <a:lnTo>
                    <a:pt x="1855" y="89"/>
                  </a:lnTo>
                  <a:lnTo>
                    <a:pt x="1865" y="89"/>
                  </a:lnTo>
                  <a:lnTo>
                    <a:pt x="1870" y="89"/>
                  </a:lnTo>
                  <a:lnTo>
                    <a:pt x="1879" y="89"/>
                  </a:lnTo>
                  <a:lnTo>
                    <a:pt x="1884" y="94"/>
                  </a:lnTo>
                  <a:lnTo>
                    <a:pt x="1894" y="94"/>
                  </a:lnTo>
                  <a:lnTo>
                    <a:pt x="1899" y="99"/>
                  </a:lnTo>
                  <a:lnTo>
                    <a:pt x="1904" y="104"/>
                  </a:lnTo>
                  <a:lnTo>
                    <a:pt x="1909" y="109"/>
                  </a:lnTo>
                  <a:lnTo>
                    <a:pt x="1914" y="114"/>
                  </a:lnTo>
                  <a:lnTo>
                    <a:pt x="1919" y="114"/>
                  </a:lnTo>
                  <a:lnTo>
                    <a:pt x="1924" y="119"/>
                  </a:lnTo>
                  <a:lnTo>
                    <a:pt x="1934" y="119"/>
                  </a:lnTo>
                  <a:lnTo>
                    <a:pt x="1944" y="119"/>
                  </a:lnTo>
                  <a:lnTo>
                    <a:pt x="1954" y="119"/>
                  </a:lnTo>
                  <a:lnTo>
                    <a:pt x="1959" y="119"/>
                  </a:lnTo>
                  <a:lnTo>
                    <a:pt x="1968" y="119"/>
                  </a:lnTo>
                  <a:lnTo>
                    <a:pt x="1978" y="119"/>
                  </a:lnTo>
                  <a:lnTo>
                    <a:pt x="1983" y="119"/>
                  </a:lnTo>
                  <a:lnTo>
                    <a:pt x="1993" y="119"/>
                  </a:lnTo>
                  <a:lnTo>
                    <a:pt x="1998" y="124"/>
                  </a:lnTo>
                  <a:lnTo>
                    <a:pt x="2003" y="129"/>
                  </a:lnTo>
                  <a:lnTo>
                    <a:pt x="2008" y="134"/>
                  </a:lnTo>
                  <a:lnTo>
                    <a:pt x="2013" y="139"/>
                  </a:lnTo>
                  <a:lnTo>
                    <a:pt x="2013" y="144"/>
                  </a:lnTo>
                  <a:lnTo>
                    <a:pt x="2018" y="149"/>
                  </a:lnTo>
                  <a:lnTo>
                    <a:pt x="2023" y="154"/>
                  </a:lnTo>
                  <a:lnTo>
                    <a:pt x="2028" y="154"/>
                  </a:lnTo>
                  <a:lnTo>
                    <a:pt x="2038" y="154"/>
                  </a:lnTo>
                  <a:lnTo>
                    <a:pt x="2048" y="154"/>
                  </a:lnTo>
                  <a:lnTo>
                    <a:pt x="2057" y="154"/>
                  </a:lnTo>
                  <a:lnTo>
                    <a:pt x="2062" y="159"/>
                  </a:lnTo>
                  <a:lnTo>
                    <a:pt x="2072" y="159"/>
                  </a:lnTo>
                  <a:lnTo>
                    <a:pt x="2072" y="163"/>
                  </a:lnTo>
                  <a:lnTo>
                    <a:pt x="2072" y="168"/>
                  </a:lnTo>
                  <a:lnTo>
                    <a:pt x="2067" y="173"/>
                  </a:lnTo>
                  <a:lnTo>
                    <a:pt x="2062" y="178"/>
                  </a:lnTo>
                  <a:lnTo>
                    <a:pt x="2057" y="183"/>
                  </a:lnTo>
                  <a:lnTo>
                    <a:pt x="2052" y="188"/>
                  </a:lnTo>
                  <a:lnTo>
                    <a:pt x="2048" y="193"/>
                  </a:lnTo>
                  <a:lnTo>
                    <a:pt x="2048" y="198"/>
                  </a:lnTo>
                  <a:lnTo>
                    <a:pt x="2043" y="203"/>
                  </a:lnTo>
                  <a:lnTo>
                    <a:pt x="2038" y="208"/>
                  </a:lnTo>
                  <a:lnTo>
                    <a:pt x="2038" y="213"/>
                  </a:lnTo>
                  <a:lnTo>
                    <a:pt x="2033" y="218"/>
                  </a:lnTo>
                  <a:lnTo>
                    <a:pt x="2028" y="223"/>
                  </a:lnTo>
                  <a:lnTo>
                    <a:pt x="2028" y="228"/>
                  </a:lnTo>
                  <a:lnTo>
                    <a:pt x="2023" y="233"/>
                  </a:lnTo>
                  <a:lnTo>
                    <a:pt x="2023" y="238"/>
                  </a:lnTo>
                  <a:lnTo>
                    <a:pt x="2018" y="243"/>
                  </a:lnTo>
                  <a:lnTo>
                    <a:pt x="2008" y="243"/>
                  </a:lnTo>
                  <a:lnTo>
                    <a:pt x="1998" y="247"/>
                  </a:lnTo>
                  <a:lnTo>
                    <a:pt x="1993" y="247"/>
                  </a:lnTo>
                  <a:lnTo>
                    <a:pt x="1983" y="247"/>
                  </a:lnTo>
                  <a:lnTo>
                    <a:pt x="1973" y="247"/>
                  </a:lnTo>
                  <a:lnTo>
                    <a:pt x="1968" y="243"/>
                  </a:lnTo>
                  <a:lnTo>
                    <a:pt x="1963" y="238"/>
                  </a:lnTo>
                  <a:close/>
                  <a:moveTo>
                    <a:pt x="1365" y="213"/>
                  </a:moveTo>
                  <a:lnTo>
                    <a:pt x="1370" y="208"/>
                  </a:lnTo>
                  <a:lnTo>
                    <a:pt x="1375" y="203"/>
                  </a:lnTo>
                  <a:lnTo>
                    <a:pt x="1380" y="198"/>
                  </a:lnTo>
                  <a:lnTo>
                    <a:pt x="1385" y="198"/>
                  </a:lnTo>
                  <a:lnTo>
                    <a:pt x="1395" y="203"/>
                  </a:lnTo>
                  <a:lnTo>
                    <a:pt x="1400" y="208"/>
                  </a:lnTo>
                  <a:lnTo>
                    <a:pt x="1405" y="213"/>
                  </a:lnTo>
                  <a:lnTo>
                    <a:pt x="1400" y="218"/>
                  </a:lnTo>
                  <a:lnTo>
                    <a:pt x="1395" y="223"/>
                  </a:lnTo>
                  <a:lnTo>
                    <a:pt x="1385" y="228"/>
                  </a:lnTo>
                  <a:lnTo>
                    <a:pt x="1380" y="228"/>
                  </a:lnTo>
                  <a:lnTo>
                    <a:pt x="1375" y="223"/>
                  </a:lnTo>
                  <a:lnTo>
                    <a:pt x="1370" y="223"/>
                  </a:lnTo>
                  <a:lnTo>
                    <a:pt x="1365" y="213"/>
                  </a:lnTo>
                  <a:close/>
                  <a:moveTo>
                    <a:pt x="1009" y="188"/>
                  </a:moveTo>
                  <a:lnTo>
                    <a:pt x="1009" y="188"/>
                  </a:lnTo>
                  <a:lnTo>
                    <a:pt x="1009" y="188"/>
                  </a:lnTo>
                  <a:lnTo>
                    <a:pt x="1009" y="183"/>
                  </a:lnTo>
                  <a:lnTo>
                    <a:pt x="1009" y="188"/>
                  </a:lnTo>
                  <a:lnTo>
                    <a:pt x="1009" y="188"/>
                  </a:lnTo>
                  <a:lnTo>
                    <a:pt x="1009" y="188"/>
                  </a:lnTo>
                  <a:lnTo>
                    <a:pt x="1009" y="188"/>
                  </a:lnTo>
                  <a:lnTo>
                    <a:pt x="1009" y="188"/>
                  </a:lnTo>
                  <a:lnTo>
                    <a:pt x="1009" y="188"/>
                  </a:lnTo>
                  <a:lnTo>
                    <a:pt x="1009" y="188"/>
                  </a:lnTo>
                  <a:lnTo>
                    <a:pt x="1009" y="188"/>
                  </a:lnTo>
                  <a:lnTo>
                    <a:pt x="1009" y="188"/>
                  </a:lnTo>
                  <a:lnTo>
                    <a:pt x="1009" y="188"/>
                  </a:lnTo>
                  <a:lnTo>
                    <a:pt x="1009" y="188"/>
                  </a:lnTo>
                  <a:close/>
                  <a:moveTo>
                    <a:pt x="1207" y="188"/>
                  </a:moveTo>
                  <a:lnTo>
                    <a:pt x="1212" y="183"/>
                  </a:lnTo>
                  <a:lnTo>
                    <a:pt x="1217" y="183"/>
                  </a:lnTo>
                  <a:lnTo>
                    <a:pt x="1222" y="178"/>
                  </a:lnTo>
                  <a:lnTo>
                    <a:pt x="1222" y="183"/>
                  </a:lnTo>
                  <a:lnTo>
                    <a:pt x="1227" y="183"/>
                  </a:lnTo>
                  <a:lnTo>
                    <a:pt x="1227" y="183"/>
                  </a:lnTo>
                  <a:lnTo>
                    <a:pt x="1227" y="188"/>
                  </a:lnTo>
                  <a:lnTo>
                    <a:pt x="1227" y="193"/>
                  </a:lnTo>
                  <a:lnTo>
                    <a:pt x="1227" y="193"/>
                  </a:lnTo>
                  <a:lnTo>
                    <a:pt x="1222" y="193"/>
                  </a:lnTo>
                  <a:lnTo>
                    <a:pt x="1217" y="193"/>
                  </a:lnTo>
                  <a:lnTo>
                    <a:pt x="1217" y="193"/>
                  </a:lnTo>
                  <a:lnTo>
                    <a:pt x="1212" y="188"/>
                  </a:lnTo>
                  <a:lnTo>
                    <a:pt x="1207" y="188"/>
                  </a:lnTo>
                  <a:close/>
                  <a:moveTo>
                    <a:pt x="1439" y="188"/>
                  </a:moveTo>
                  <a:lnTo>
                    <a:pt x="1444" y="178"/>
                  </a:lnTo>
                  <a:lnTo>
                    <a:pt x="1454" y="173"/>
                  </a:lnTo>
                  <a:lnTo>
                    <a:pt x="1459" y="173"/>
                  </a:lnTo>
                  <a:lnTo>
                    <a:pt x="1469" y="173"/>
                  </a:lnTo>
                  <a:lnTo>
                    <a:pt x="1479" y="178"/>
                  </a:lnTo>
                  <a:lnTo>
                    <a:pt x="1484" y="183"/>
                  </a:lnTo>
                  <a:lnTo>
                    <a:pt x="1484" y="188"/>
                  </a:lnTo>
                  <a:lnTo>
                    <a:pt x="1484" y="193"/>
                  </a:lnTo>
                  <a:lnTo>
                    <a:pt x="1474" y="198"/>
                  </a:lnTo>
                  <a:lnTo>
                    <a:pt x="1464" y="203"/>
                  </a:lnTo>
                  <a:lnTo>
                    <a:pt x="1459" y="203"/>
                  </a:lnTo>
                  <a:lnTo>
                    <a:pt x="1449" y="198"/>
                  </a:lnTo>
                  <a:lnTo>
                    <a:pt x="1444" y="193"/>
                  </a:lnTo>
                  <a:lnTo>
                    <a:pt x="1439" y="188"/>
                  </a:lnTo>
                  <a:close/>
                  <a:moveTo>
                    <a:pt x="1281" y="159"/>
                  </a:moveTo>
                  <a:lnTo>
                    <a:pt x="1291" y="154"/>
                  </a:lnTo>
                  <a:lnTo>
                    <a:pt x="1296" y="149"/>
                  </a:lnTo>
                  <a:lnTo>
                    <a:pt x="1301" y="144"/>
                  </a:lnTo>
                  <a:lnTo>
                    <a:pt x="1306" y="144"/>
                  </a:lnTo>
                  <a:lnTo>
                    <a:pt x="1316" y="149"/>
                  </a:lnTo>
                  <a:lnTo>
                    <a:pt x="1321" y="159"/>
                  </a:lnTo>
                  <a:lnTo>
                    <a:pt x="1321" y="163"/>
                  </a:lnTo>
                  <a:lnTo>
                    <a:pt x="1316" y="168"/>
                  </a:lnTo>
                  <a:lnTo>
                    <a:pt x="1311" y="173"/>
                  </a:lnTo>
                  <a:lnTo>
                    <a:pt x="1306" y="178"/>
                  </a:lnTo>
                  <a:lnTo>
                    <a:pt x="1296" y="178"/>
                  </a:lnTo>
                  <a:lnTo>
                    <a:pt x="1291" y="173"/>
                  </a:lnTo>
                  <a:lnTo>
                    <a:pt x="1286" y="168"/>
                  </a:lnTo>
                  <a:lnTo>
                    <a:pt x="1281" y="159"/>
                  </a:lnTo>
                  <a:close/>
                  <a:moveTo>
                    <a:pt x="1494" y="159"/>
                  </a:moveTo>
                  <a:lnTo>
                    <a:pt x="1499" y="154"/>
                  </a:lnTo>
                  <a:lnTo>
                    <a:pt x="1504" y="149"/>
                  </a:lnTo>
                  <a:lnTo>
                    <a:pt x="1508" y="144"/>
                  </a:lnTo>
                  <a:lnTo>
                    <a:pt x="1518" y="144"/>
                  </a:lnTo>
                  <a:lnTo>
                    <a:pt x="1528" y="144"/>
                  </a:lnTo>
                  <a:lnTo>
                    <a:pt x="1538" y="144"/>
                  </a:lnTo>
                  <a:lnTo>
                    <a:pt x="1543" y="144"/>
                  </a:lnTo>
                  <a:lnTo>
                    <a:pt x="1553" y="144"/>
                  </a:lnTo>
                  <a:lnTo>
                    <a:pt x="1558" y="139"/>
                  </a:lnTo>
                  <a:lnTo>
                    <a:pt x="1563" y="134"/>
                  </a:lnTo>
                  <a:lnTo>
                    <a:pt x="1568" y="129"/>
                  </a:lnTo>
                  <a:lnTo>
                    <a:pt x="1573" y="124"/>
                  </a:lnTo>
                  <a:lnTo>
                    <a:pt x="1583" y="119"/>
                  </a:lnTo>
                  <a:lnTo>
                    <a:pt x="1588" y="114"/>
                  </a:lnTo>
                  <a:lnTo>
                    <a:pt x="1598" y="114"/>
                  </a:lnTo>
                  <a:lnTo>
                    <a:pt x="1602" y="114"/>
                  </a:lnTo>
                  <a:lnTo>
                    <a:pt x="1612" y="114"/>
                  </a:lnTo>
                  <a:lnTo>
                    <a:pt x="1622" y="114"/>
                  </a:lnTo>
                  <a:lnTo>
                    <a:pt x="1632" y="114"/>
                  </a:lnTo>
                  <a:lnTo>
                    <a:pt x="1642" y="109"/>
                  </a:lnTo>
                  <a:lnTo>
                    <a:pt x="1647" y="114"/>
                  </a:lnTo>
                  <a:lnTo>
                    <a:pt x="1657" y="114"/>
                  </a:lnTo>
                  <a:lnTo>
                    <a:pt x="1667" y="114"/>
                  </a:lnTo>
                  <a:lnTo>
                    <a:pt x="1672" y="114"/>
                  </a:lnTo>
                  <a:lnTo>
                    <a:pt x="1682" y="119"/>
                  </a:lnTo>
                  <a:lnTo>
                    <a:pt x="1687" y="124"/>
                  </a:lnTo>
                  <a:lnTo>
                    <a:pt x="1691" y="129"/>
                  </a:lnTo>
                  <a:lnTo>
                    <a:pt x="1696" y="134"/>
                  </a:lnTo>
                  <a:lnTo>
                    <a:pt x="1696" y="139"/>
                  </a:lnTo>
                  <a:lnTo>
                    <a:pt x="1701" y="144"/>
                  </a:lnTo>
                  <a:lnTo>
                    <a:pt x="1711" y="144"/>
                  </a:lnTo>
                  <a:lnTo>
                    <a:pt x="1716" y="144"/>
                  </a:lnTo>
                  <a:lnTo>
                    <a:pt x="1726" y="144"/>
                  </a:lnTo>
                  <a:lnTo>
                    <a:pt x="1736" y="144"/>
                  </a:lnTo>
                  <a:lnTo>
                    <a:pt x="1746" y="149"/>
                  </a:lnTo>
                  <a:lnTo>
                    <a:pt x="1751" y="154"/>
                  </a:lnTo>
                  <a:lnTo>
                    <a:pt x="1751" y="159"/>
                  </a:lnTo>
                  <a:lnTo>
                    <a:pt x="1751" y="163"/>
                  </a:lnTo>
                  <a:lnTo>
                    <a:pt x="1746" y="173"/>
                  </a:lnTo>
                  <a:lnTo>
                    <a:pt x="1741" y="173"/>
                  </a:lnTo>
                  <a:lnTo>
                    <a:pt x="1731" y="178"/>
                  </a:lnTo>
                  <a:lnTo>
                    <a:pt x="1721" y="178"/>
                  </a:lnTo>
                  <a:lnTo>
                    <a:pt x="1716" y="178"/>
                  </a:lnTo>
                  <a:lnTo>
                    <a:pt x="1706" y="173"/>
                  </a:lnTo>
                  <a:lnTo>
                    <a:pt x="1701" y="168"/>
                  </a:lnTo>
                  <a:lnTo>
                    <a:pt x="1696" y="163"/>
                  </a:lnTo>
                  <a:lnTo>
                    <a:pt x="1687" y="163"/>
                  </a:lnTo>
                  <a:lnTo>
                    <a:pt x="1682" y="159"/>
                  </a:lnTo>
                  <a:lnTo>
                    <a:pt x="1677" y="154"/>
                  </a:lnTo>
                  <a:lnTo>
                    <a:pt x="1667" y="154"/>
                  </a:lnTo>
                  <a:lnTo>
                    <a:pt x="1657" y="154"/>
                  </a:lnTo>
                  <a:lnTo>
                    <a:pt x="1647" y="154"/>
                  </a:lnTo>
                  <a:lnTo>
                    <a:pt x="1642" y="154"/>
                  </a:lnTo>
                  <a:lnTo>
                    <a:pt x="1632" y="154"/>
                  </a:lnTo>
                  <a:lnTo>
                    <a:pt x="1622" y="154"/>
                  </a:lnTo>
                  <a:lnTo>
                    <a:pt x="1612" y="154"/>
                  </a:lnTo>
                  <a:lnTo>
                    <a:pt x="1607" y="154"/>
                  </a:lnTo>
                  <a:lnTo>
                    <a:pt x="1598" y="154"/>
                  </a:lnTo>
                  <a:lnTo>
                    <a:pt x="1588" y="154"/>
                  </a:lnTo>
                  <a:lnTo>
                    <a:pt x="1578" y="149"/>
                  </a:lnTo>
                  <a:lnTo>
                    <a:pt x="1568" y="154"/>
                  </a:lnTo>
                  <a:lnTo>
                    <a:pt x="1568" y="159"/>
                  </a:lnTo>
                  <a:lnTo>
                    <a:pt x="1568" y="163"/>
                  </a:lnTo>
                  <a:lnTo>
                    <a:pt x="1563" y="168"/>
                  </a:lnTo>
                  <a:lnTo>
                    <a:pt x="1558" y="173"/>
                  </a:lnTo>
                  <a:lnTo>
                    <a:pt x="1548" y="178"/>
                  </a:lnTo>
                  <a:lnTo>
                    <a:pt x="1543" y="178"/>
                  </a:lnTo>
                  <a:lnTo>
                    <a:pt x="1533" y="178"/>
                  </a:lnTo>
                  <a:lnTo>
                    <a:pt x="1523" y="178"/>
                  </a:lnTo>
                  <a:lnTo>
                    <a:pt x="1513" y="178"/>
                  </a:lnTo>
                  <a:lnTo>
                    <a:pt x="1508" y="173"/>
                  </a:lnTo>
                  <a:lnTo>
                    <a:pt x="1504" y="173"/>
                  </a:lnTo>
                  <a:lnTo>
                    <a:pt x="1499" y="168"/>
                  </a:lnTo>
                  <a:lnTo>
                    <a:pt x="1494" y="159"/>
                  </a:lnTo>
                  <a:close/>
                  <a:moveTo>
                    <a:pt x="1360" y="134"/>
                  </a:moveTo>
                  <a:lnTo>
                    <a:pt x="1365" y="124"/>
                  </a:lnTo>
                  <a:lnTo>
                    <a:pt x="1370" y="119"/>
                  </a:lnTo>
                  <a:lnTo>
                    <a:pt x="1375" y="119"/>
                  </a:lnTo>
                  <a:lnTo>
                    <a:pt x="1385" y="114"/>
                  </a:lnTo>
                  <a:lnTo>
                    <a:pt x="1395" y="114"/>
                  </a:lnTo>
                  <a:lnTo>
                    <a:pt x="1400" y="119"/>
                  </a:lnTo>
                  <a:lnTo>
                    <a:pt x="1410" y="119"/>
                  </a:lnTo>
                  <a:lnTo>
                    <a:pt x="1419" y="124"/>
                  </a:lnTo>
                  <a:lnTo>
                    <a:pt x="1424" y="129"/>
                  </a:lnTo>
                  <a:lnTo>
                    <a:pt x="1424" y="134"/>
                  </a:lnTo>
                  <a:lnTo>
                    <a:pt x="1419" y="139"/>
                  </a:lnTo>
                  <a:lnTo>
                    <a:pt x="1410" y="144"/>
                  </a:lnTo>
                  <a:lnTo>
                    <a:pt x="1405" y="149"/>
                  </a:lnTo>
                  <a:lnTo>
                    <a:pt x="1395" y="154"/>
                  </a:lnTo>
                  <a:lnTo>
                    <a:pt x="1385" y="154"/>
                  </a:lnTo>
                  <a:lnTo>
                    <a:pt x="1380" y="154"/>
                  </a:lnTo>
                  <a:lnTo>
                    <a:pt x="1375" y="154"/>
                  </a:lnTo>
                  <a:lnTo>
                    <a:pt x="1370" y="149"/>
                  </a:lnTo>
                  <a:lnTo>
                    <a:pt x="1365" y="144"/>
                  </a:lnTo>
                  <a:lnTo>
                    <a:pt x="1360" y="134"/>
                  </a:lnTo>
                  <a:close/>
                  <a:moveTo>
                    <a:pt x="1439" y="104"/>
                  </a:moveTo>
                  <a:lnTo>
                    <a:pt x="1444" y="99"/>
                  </a:lnTo>
                  <a:lnTo>
                    <a:pt x="1449" y="94"/>
                  </a:lnTo>
                  <a:lnTo>
                    <a:pt x="1459" y="89"/>
                  </a:lnTo>
                  <a:lnTo>
                    <a:pt x="1469" y="84"/>
                  </a:lnTo>
                  <a:lnTo>
                    <a:pt x="1479" y="84"/>
                  </a:lnTo>
                  <a:lnTo>
                    <a:pt x="1489" y="89"/>
                  </a:lnTo>
                  <a:lnTo>
                    <a:pt x="1499" y="89"/>
                  </a:lnTo>
                  <a:lnTo>
                    <a:pt x="1508" y="94"/>
                  </a:lnTo>
                  <a:lnTo>
                    <a:pt x="1508" y="104"/>
                  </a:lnTo>
                  <a:lnTo>
                    <a:pt x="1513" y="109"/>
                  </a:lnTo>
                  <a:lnTo>
                    <a:pt x="1508" y="114"/>
                  </a:lnTo>
                  <a:lnTo>
                    <a:pt x="1504" y="124"/>
                  </a:lnTo>
                  <a:lnTo>
                    <a:pt x="1494" y="129"/>
                  </a:lnTo>
                  <a:lnTo>
                    <a:pt x="1484" y="129"/>
                  </a:lnTo>
                  <a:lnTo>
                    <a:pt x="1474" y="129"/>
                  </a:lnTo>
                  <a:lnTo>
                    <a:pt x="1464" y="129"/>
                  </a:lnTo>
                  <a:lnTo>
                    <a:pt x="1454" y="129"/>
                  </a:lnTo>
                  <a:lnTo>
                    <a:pt x="1449" y="124"/>
                  </a:lnTo>
                  <a:lnTo>
                    <a:pt x="1444" y="114"/>
                  </a:lnTo>
                  <a:lnTo>
                    <a:pt x="1439" y="104"/>
                  </a:lnTo>
                  <a:close/>
                  <a:moveTo>
                    <a:pt x="1518" y="79"/>
                  </a:moveTo>
                  <a:lnTo>
                    <a:pt x="1523" y="74"/>
                  </a:lnTo>
                  <a:lnTo>
                    <a:pt x="1533" y="65"/>
                  </a:lnTo>
                  <a:lnTo>
                    <a:pt x="1538" y="65"/>
                  </a:lnTo>
                  <a:lnTo>
                    <a:pt x="1548" y="60"/>
                  </a:lnTo>
                  <a:lnTo>
                    <a:pt x="1558" y="60"/>
                  </a:lnTo>
                  <a:lnTo>
                    <a:pt x="1573" y="60"/>
                  </a:lnTo>
                  <a:lnTo>
                    <a:pt x="1583" y="65"/>
                  </a:lnTo>
                  <a:lnTo>
                    <a:pt x="1588" y="70"/>
                  </a:lnTo>
                  <a:lnTo>
                    <a:pt x="1593" y="74"/>
                  </a:lnTo>
                  <a:lnTo>
                    <a:pt x="1593" y="84"/>
                  </a:lnTo>
                  <a:lnTo>
                    <a:pt x="1588" y="89"/>
                  </a:lnTo>
                  <a:lnTo>
                    <a:pt x="1583" y="94"/>
                  </a:lnTo>
                  <a:lnTo>
                    <a:pt x="1573" y="99"/>
                  </a:lnTo>
                  <a:lnTo>
                    <a:pt x="1563" y="104"/>
                  </a:lnTo>
                  <a:lnTo>
                    <a:pt x="1553" y="104"/>
                  </a:lnTo>
                  <a:lnTo>
                    <a:pt x="1543" y="104"/>
                  </a:lnTo>
                  <a:lnTo>
                    <a:pt x="1533" y="99"/>
                  </a:lnTo>
                  <a:lnTo>
                    <a:pt x="1528" y="94"/>
                  </a:lnTo>
                  <a:lnTo>
                    <a:pt x="1523" y="89"/>
                  </a:lnTo>
                  <a:lnTo>
                    <a:pt x="1518" y="79"/>
                  </a:lnTo>
                  <a:close/>
                  <a:moveTo>
                    <a:pt x="2235" y="1656"/>
                  </a:moveTo>
                  <a:lnTo>
                    <a:pt x="2260" y="1631"/>
                  </a:lnTo>
                  <a:lnTo>
                    <a:pt x="2285" y="1631"/>
                  </a:lnTo>
                  <a:lnTo>
                    <a:pt x="2315" y="1631"/>
                  </a:lnTo>
                  <a:lnTo>
                    <a:pt x="2339" y="1631"/>
                  </a:lnTo>
                  <a:lnTo>
                    <a:pt x="2369" y="1631"/>
                  </a:lnTo>
                  <a:lnTo>
                    <a:pt x="2394" y="1631"/>
                  </a:lnTo>
                  <a:lnTo>
                    <a:pt x="2418" y="1631"/>
                  </a:lnTo>
                  <a:lnTo>
                    <a:pt x="2448" y="1602"/>
                  </a:lnTo>
                  <a:lnTo>
                    <a:pt x="2448" y="1577"/>
                  </a:lnTo>
                  <a:lnTo>
                    <a:pt x="2448" y="1547"/>
                  </a:lnTo>
                  <a:lnTo>
                    <a:pt x="2448" y="1523"/>
                  </a:lnTo>
                  <a:lnTo>
                    <a:pt x="2473" y="1498"/>
                  </a:lnTo>
                  <a:lnTo>
                    <a:pt x="2473" y="1468"/>
                  </a:lnTo>
                  <a:lnTo>
                    <a:pt x="2473" y="1444"/>
                  </a:lnTo>
                  <a:lnTo>
                    <a:pt x="2473" y="1414"/>
                  </a:lnTo>
                  <a:lnTo>
                    <a:pt x="2503" y="1389"/>
                  </a:lnTo>
                  <a:lnTo>
                    <a:pt x="2503" y="1364"/>
                  </a:lnTo>
                  <a:lnTo>
                    <a:pt x="2503" y="1335"/>
                  </a:lnTo>
                  <a:lnTo>
                    <a:pt x="2503" y="1310"/>
                  </a:lnTo>
                  <a:lnTo>
                    <a:pt x="2527" y="1280"/>
                  </a:lnTo>
                  <a:lnTo>
                    <a:pt x="2527" y="1256"/>
                  </a:lnTo>
                  <a:lnTo>
                    <a:pt x="2527" y="1226"/>
                  </a:lnTo>
                  <a:lnTo>
                    <a:pt x="2527" y="1201"/>
                  </a:lnTo>
                  <a:lnTo>
                    <a:pt x="2552" y="1177"/>
                  </a:lnTo>
                  <a:lnTo>
                    <a:pt x="2552" y="1147"/>
                  </a:lnTo>
                  <a:lnTo>
                    <a:pt x="2552" y="1122"/>
                  </a:lnTo>
                  <a:lnTo>
                    <a:pt x="2552" y="1093"/>
                  </a:lnTo>
                  <a:lnTo>
                    <a:pt x="2582" y="1068"/>
                  </a:lnTo>
                  <a:lnTo>
                    <a:pt x="2582" y="1043"/>
                  </a:lnTo>
                  <a:lnTo>
                    <a:pt x="2582" y="1014"/>
                  </a:lnTo>
                  <a:lnTo>
                    <a:pt x="2582" y="989"/>
                  </a:lnTo>
                  <a:lnTo>
                    <a:pt x="2582" y="959"/>
                  </a:lnTo>
                  <a:lnTo>
                    <a:pt x="2582" y="934"/>
                  </a:lnTo>
                  <a:lnTo>
                    <a:pt x="2582" y="910"/>
                  </a:lnTo>
                  <a:lnTo>
                    <a:pt x="2582" y="880"/>
                  </a:lnTo>
                  <a:lnTo>
                    <a:pt x="2582" y="855"/>
                  </a:lnTo>
                  <a:lnTo>
                    <a:pt x="2582" y="826"/>
                  </a:lnTo>
                  <a:lnTo>
                    <a:pt x="2582" y="801"/>
                  </a:lnTo>
                  <a:lnTo>
                    <a:pt x="2582" y="776"/>
                  </a:lnTo>
                  <a:lnTo>
                    <a:pt x="2582" y="747"/>
                  </a:lnTo>
                  <a:lnTo>
                    <a:pt x="2582" y="722"/>
                  </a:lnTo>
                  <a:lnTo>
                    <a:pt x="2582" y="692"/>
                  </a:lnTo>
                  <a:lnTo>
                    <a:pt x="2582" y="668"/>
                  </a:lnTo>
                  <a:lnTo>
                    <a:pt x="2582" y="643"/>
                  </a:lnTo>
                  <a:lnTo>
                    <a:pt x="2582" y="613"/>
                  </a:lnTo>
                  <a:lnTo>
                    <a:pt x="2582" y="589"/>
                  </a:lnTo>
                  <a:lnTo>
                    <a:pt x="2582" y="559"/>
                  </a:lnTo>
                  <a:lnTo>
                    <a:pt x="2582" y="534"/>
                  </a:lnTo>
                  <a:lnTo>
                    <a:pt x="2582" y="504"/>
                  </a:lnTo>
                  <a:lnTo>
                    <a:pt x="2582" y="480"/>
                  </a:lnTo>
                  <a:lnTo>
                    <a:pt x="2582" y="455"/>
                  </a:lnTo>
                  <a:lnTo>
                    <a:pt x="2582" y="425"/>
                  </a:lnTo>
                  <a:lnTo>
                    <a:pt x="2582" y="401"/>
                  </a:lnTo>
                  <a:lnTo>
                    <a:pt x="2582" y="371"/>
                  </a:lnTo>
                  <a:lnTo>
                    <a:pt x="2582" y="346"/>
                  </a:lnTo>
                  <a:lnTo>
                    <a:pt x="2582" y="322"/>
                  </a:lnTo>
                  <a:lnTo>
                    <a:pt x="2582" y="292"/>
                  </a:lnTo>
                  <a:lnTo>
                    <a:pt x="2582" y="267"/>
                  </a:lnTo>
                  <a:lnTo>
                    <a:pt x="2582" y="238"/>
                  </a:lnTo>
                  <a:lnTo>
                    <a:pt x="2552" y="213"/>
                  </a:lnTo>
                  <a:lnTo>
                    <a:pt x="2552" y="188"/>
                  </a:lnTo>
                  <a:lnTo>
                    <a:pt x="2552" y="159"/>
                  </a:lnTo>
                  <a:lnTo>
                    <a:pt x="2552" y="134"/>
                  </a:lnTo>
                  <a:lnTo>
                    <a:pt x="2552" y="104"/>
                  </a:lnTo>
                  <a:lnTo>
                    <a:pt x="2527" y="79"/>
                  </a:lnTo>
                  <a:lnTo>
                    <a:pt x="2503" y="79"/>
                  </a:lnTo>
                  <a:lnTo>
                    <a:pt x="2473" y="79"/>
                  </a:lnTo>
                  <a:lnTo>
                    <a:pt x="2448" y="55"/>
                  </a:lnTo>
                  <a:lnTo>
                    <a:pt x="2418" y="55"/>
                  </a:lnTo>
                  <a:lnTo>
                    <a:pt x="2394" y="55"/>
                  </a:lnTo>
                  <a:lnTo>
                    <a:pt x="2369" y="25"/>
                  </a:lnTo>
                  <a:lnTo>
                    <a:pt x="2339" y="25"/>
                  </a:lnTo>
                  <a:lnTo>
                    <a:pt x="2315" y="25"/>
                  </a:lnTo>
                  <a:lnTo>
                    <a:pt x="2285" y="0"/>
                  </a:lnTo>
                  <a:lnTo>
                    <a:pt x="2260" y="0"/>
                  </a:lnTo>
                  <a:lnTo>
                    <a:pt x="2235" y="0"/>
                  </a:lnTo>
                  <a:lnTo>
                    <a:pt x="2206" y="0"/>
                  </a:lnTo>
                  <a:lnTo>
                    <a:pt x="2181" y="0"/>
                  </a:lnTo>
                  <a:lnTo>
                    <a:pt x="2156" y="0"/>
                  </a:lnTo>
                  <a:lnTo>
                    <a:pt x="2127" y="0"/>
                  </a:lnTo>
                  <a:lnTo>
                    <a:pt x="2102" y="0"/>
                  </a:lnTo>
                  <a:lnTo>
                    <a:pt x="2072" y="0"/>
                  </a:lnTo>
                  <a:lnTo>
                    <a:pt x="2048" y="0"/>
                  </a:lnTo>
                  <a:lnTo>
                    <a:pt x="2023" y="0"/>
                  </a:lnTo>
                  <a:lnTo>
                    <a:pt x="1993" y="0"/>
                  </a:lnTo>
                  <a:lnTo>
                    <a:pt x="1968" y="0"/>
                  </a:lnTo>
                  <a:lnTo>
                    <a:pt x="1944" y="0"/>
                  </a:lnTo>
                  <a:lnTo>
                    <a:pt x="1914" y="0"/>
                  </a:lnTo>
                  <a:lnTo>
                    <a:pt x="1889" y="0"/>
                  </a:lnTo>
                  <a:lnTo>
                    <a:pt x="1860" y="0"/>
                  </a:lnTo>
                  <a:lnTo>
                    <a:pt x="1835" y="0"/>
                  </a:lnTo>
                  <a:lnTo>
                    <a:pt x="1810" y="0"/>
                  </a:lnTo>
                  <a:lnTo>
                    <a:pt x="1780" y="0"/>
                  </a:lnTo>
                  <a:lnTo>
                    <a:pt x="1756" y="0"/>
                  </a:lnTo>
                  <a:lnTo>
                    <a:pt x="1726" y="0"/>
                  </a:lnTo>
                  <a:lnTo>
                    <a:pt x="1701" y="0"/>
                  </a:lnTo>
                  <a:lnTo>
                    <a:pt x="1677" y="0"/>
                  </a:lnTo>
                  <a:lnTo>
                    <a:pt x="1647" y="0"/>
                  </a:lnTo>
                  <a:lnTo>
                    <a:pt x="1622" y="0"/>
                  </a:lnTo>
                  <a:lnTo>
                    <a:pt x="1598" y="0"/>
                  </a:lnTo>
                  <a:lnTo>
                    <a:pt x="1568" y="0"/>
                  </a:lnTo>
                  <a:lnTo>
                    <a:pt x="1543" y="0"/>
                  </a:lnTo>
                  <a:lnTo>
                    <a:pt x="1513" y="0"/>
                  </a:lnTo>
                  <a:lnTo>
                    <a:pt x="1489" y="0"/>
                  </a:lnTo>
                  <a:lnTo>
                    <a:pt x="1464" y="0"/>
                  </a:lnTo>
                  <a:lnTo>
                    <a:pt x="1434" y="0"/>
                  </a:lnTo>
                  <a:lnTo>
                    <a:pt x="1410" y="0"/>
                  </a:lnTo>
                  <a:lnTo>
                    <a:pt x="1385" y="0"/>
                  </a:lnTo>
                  <a:lnTo>
                    <a:pt x="1355" y="0"/>
                  </a:lnTo>
                  <a:lnTo>
                    <a:pt x="1330" y="0"/>
                  </a:lnTo>
                  <a:lnTo>
                    <a:pt x="1301" y="0"/>
                  </a:lnTo>
                  <a:lnTo>
                    <a:pt x="1276" y="0"/>
                  </a:lnTo>
                  <a:lnTo>
                    <a:pt x="1251" y="0"/>
                  </a:lnTo>
                  <a:lnTo>
                    <a:pt x="1222" y="0"/>
                  </a:lnTo>
                  <a:lnTo>
                    <a:pt x="1197" y="0"/>
                  </a:lnTo>
                  <a:lnTo>
                    <a:pt x="1172" y="0"/>
                  </a:lnTo>
                  <a:lnTo>
                    <a:pt x="1143" y="0"/>
                  </a:lnTo>
                  <a:lnTo>
                    <a:pt x="1118" y="0"/>
                  </a:lnTo>
                  <a:lnTo>
                    <a:pt x="1088" y="0"/>
                  </a:lnTo>
                  <a:lnTo>
                    <a:pt x="1063" y="0"/>
                  </a:lnTo>
                  <a:lnTo>
                    <a:pt x="1039" y="0"/>
                  </a:lnTo>
                  <a:lnTo>
                    <a:pt x="1009" y="0"/>
                  </a:lnTo>
                  <a:lnTo>
                    <a:pt x="984" y="0"/>
                  </a:lnTo>
                  <a:lnTo>
                    <a:pt x="955" y="0"/>
                  </a:lnTo>
                  <a:lnTo>
                    <a:pt x="930" y="0"/>
                  </a:lnTo>
                  <a:lnTo>
                    <a:pt x="905" y="0"/>
                  </a:lnTo>
                  <a:lnTo>
                    <a:pt x="875" y="0"/>
                  </a:lnTo>
                  <a:lnTo>
                    <a:pt x="851" y="0"/>
                  </a:lnTo>
                  <a:lnTo>
                    <a:pt x="826" y="0"/>
                  </a:lnTo>
                  <a:lnTo>
                    <a:pt x="796" y="0"/>
                  </a:lnTo>
                  <a:lnTo>
                    <a:pt x="772" y="0"/>
                  </a:lnTo>
                  <a:lnTo>
                    <a:pt x="742" y="0"/>
                  </a:lnTo>
                  <a:lnTo>
                    <a:pt x="717" y="0"/>
                  </a:lnTo>
                  <a:lnTo>
                    <a:pt x="692" y="0"/>
                  </a:lnTo>
                  <a:lnTo>
                    <a:pt x="663" y="0"/>
                  </a:lnTo>
                  <a:lnTo>
                    <a:pt x="638" y="0"/>
                  </a:lnTo>
                  <a:lnTo>
                    <a:pt x="613" y="0"/>
                  </a:lnTo>
                  <a:lnTo>
                    <a:pt x="584" y="25"/>
                  </a:lnTo>
                  <a:lnTo>
                    <a:pt x="559" y="55"/>
                  </a:lnTo>
                  <a:lnTo>
                    <a:pt x="529" y="79"/>
                  </a:lnTo>
                  <a:lnTo>
                    <a:pt x="505" y="104"/>
                  </a:lnTo>
                  <a:lnTo>
                    <a:pt x="480" y="134"/>
                  </a:lnTo>
                  <a:lnTo>
                    <a:pt x="450" y="134"/>
                  </a:lnTo>
                  <a:lnTo>
                    <a:pt x="425" y="159"/>
                  </a:lnTo>
                  <a:lnTo>
                    <a:pt x="396" y="188"/>
                  </a:lnTo>
                  <a:lnTo>
                    <a:pt x="371" y="213"/>
                  </a:lnTo>
                  <a:lnTo>
                    <a:pt x="346" y="238"/>
                  </a:lnTo>
                  <a:lnTo>
                    <a:pt x="317" y="267"/>
                  </a:lnTo>
                  <a:lnTo>
                    <a:pt x="292" y="292"/>
                  </a:lnTo>
                  <a:lnTo>
                    <a:pt x="267" y="322"/>
                  </a:lnTo>
                  <a:lnTo>
                    <a:pt x="237" y="322"/>
                  </a:lnTo>
                  <a:lnTo>
                    <a:pt x="213" y="346"/>
                  </a:lnTo>
                  <a:lnTo>
                    <a:pt x="183" y="371"/>
                  </a:lnTo>
                  <a:lnTo>
                    <a:pt x="158" y="401"/>
                  </a:lnTo>
                  <a:lnTo>
                    <a:pt x="134" y="425"/>
                  </a:lnTo>
                  <a:lnTo>
                    <a:pt x="104" y="455"/>
                  </a:lnTo>
                  <a:lnTo>
                    <a:pt x="79" y="480"/>
                  </a:lnTo>
                  <a:lnTo>
                    <a:pt x="55" y="504"/>
                  </a:lnTo>
                  <a:lnTo>
                    <a:pt x="25" y="504"/>
                  </a:lnTo>
                  <a:lnTo>
                    <a:pt x="0" y="534"/>
                  </a:lnTo>
                  <a:lnTo>
                    <a:pt x="0" y="559"/>
                  </a:lnTo>
                  <a:lnTo>
                    <a:pt x="0" y="589"/>
                  </a:lnTo>
                  <a:lnTo>
                    <a:pt x="0" y="613"/>
                  </a:lnTo>
                  <a:lnTo>
                    <a:pt x="25" y="643"/>
                  </a:lnTo>
                  <a:lnTo>
                    <a:pt x="25" y="668"/>
                  </a:lnTo>
                  <a:lnTo>
                    <a:pt x="55" y="692"/>
                  </a:lnTo>
                  <a:lnTo>
                    <a:pt x="79" y="722"/>
                  </a:lnTo>
                  <a:lnTo>
                    <a:pt x="104" y="747"/>
                  </a:lnTo>
                  <a:lnTo>
                    <a:pt x="134" y="776"/>
                  </a:lnTo>
                  <a:lnTo>
                    <a:pt x="134" y="801"/>
                  </a:lnTo>
                  <a:lnTo>
                    <a:pt x="158" y="826"/>
                  </a:lnTo>
                  <a:lnTo>
                    <a:pt x="183" y="855"/>
                  </a:lnTo>
                  <a:lnTo>
                    <a:pt x="213" y="880"/>
                  </a:lnTo>
                  <a:lnTo>
                    <a:pt x="237" y="910"/>
                  </a:lnTo>
                  <a:lnTo>
                    <a:pt x="267" y="934"/>
                  </a:lnTo>
                  <a:lnTo>
                    <a:pt x="292" y="959"/>
                  </a:lnTo>
                  <a:lnTo>
                    <a:pt x="292" y="989"/>
                  </a:lnTo>
                  <a:lnTo>
                    <a:pt x="317" y="1014"/>
                  </a:lnTo>
                  <a:lnTo>
                    <a:pt x="346" y="1043"/>
                  </a:lnTo>
                  <a:lnTo>
                    <a:pt x="371" y="1068"/>
                  </a:lnTo>
                  <a:lnTo>
                    <a:pt x="396" y="1093"/>
                  </a:lnTo>
                  <a:lnTo>
                    <a:pt x="425" y="1122"/>
                  </a:lnTo>
                  <a:lnTo>
                    <a:pt x="450" y="1147"/>
                  </a:lnTo>
                  <a:lnTo>
                    <a:pt x="480" y="1177"/>
                  </a:lnTo>
                  <a:lnTo>
                    <a:pt x="505" y="1201"/>
                  </a:lnTo>
                  <a:lnTo>
                    <a:pt x="529" y="1226"/>
                  </a:lnTo>
                  <a:lnTo>
                    <a:pt x="559" y="1256"/>
                  </a:lnTo>
                  <a:lnTo>
                    <a:pt x="584" y="1280"/>
                  </a:lnTo>
                  <a:lnTo>
                    <a:pt x="613" y="1310"/>
                  </a:lnTo>
                  <a:lnTo>
                    <a:pt x="638" y="1335"/>
                  </a:lnTo>
                  <a:lnTo>
                    <a:pt x="663" y="1364"/>
                  </a:lnTo>
                  <a:lnTo>
                    <a:pt x="692" y="1389"/>
                  </a:lnTo>
                  <a:lnTo>
                    <a:pt x="717" y="1414"/>
                  </a:lnTo>
                  <a:lnTo>
                    <a:pt x="742" y="1444"/>
                  </a:lnTo>
                  <a:lnTo>
                    <a:pt x="772" y="1468"/>
                  </a:lnTo>
                  <a:lnTo>
                    <a:pt x="796" y="1468"/>
                  </a:lnTo>
                  <a:lnTo>
                    <a:pt x="826" y="1498"/>
                  </a:lnTo>
                  <a:lnTo>
                    <a:pt x="851" y="1523"/>
                  </a:lnTo>
                  <a:lnTo>
                    <a:pt x="875" y="1547"/>
                  </a:lnTo>
                  <a:lnTo>
                    <a:pt x="905" y="1577"/>
                  </a:lnTo>
                  <a:lnTo>
                    <a:pt x="930" y="1602"/>
                  </a:lnTo>
                  <a:lnTo>
                    <a:pt x="955" y="1631"/>
                  </a:lnTo>
                  <a:lnTo>
                    <a:pt x="984" y="1656"/>
                  </a:lnTo>
                  <a:lnTo>
                    <a:pt x="1009" y="1656"/>
                  </a:lnTo>
                  <a:lnTo>
                    <a:pt x="1039" y="1656"/>
                  </a:lnTo>
                  <a:lnTo>
                    <a:pt x="1063" y="1656"/>
                  </a:lnTo>
                  <a:lnTo>
                    <a:pt x="1088" y="1656"/>
                  </a:lnTo>
                  <a:lnTo>
                    <a:pt x="1118" y="1656"/>
                  </a:lnTo>
                  <a:lnTo>
                    <a:pt x="1143" y="1656"/>
                  </a:lnTo>
                  <a:lnTo>
                    <a:pt x="1172" y="1656"/>
                  </a:lnTo>
                  <a:lnTo>
                    <a:pt x="1197" y="1656"/>
                  </a:lnTo>
                  <a:lnTo>
                    <a:pt x="1222" y="1656"/>
                  </a:lnTo>
                  <a:lnTo>
                    <a:pt x="1251" y="1656"/>
                  </a:lnTo>
                  <a:lnTo>
                    <a:pt x="1276" y="1656"/>
                  </a:lnTo>
                  <a:lnTo>
                    <a:pt x="1301" y="1656"/>
                  </a:lnTo>
                  <a:lnTo>
                    <a:pt x="1330" y="1656"/>
                  </a:lnTo>
                  <a:lnTo>
                    <a:pt x="1355" y="1656"/>
                  </a:lnTo>
                  <a:lnTo>
                    <a:pt x="1385" y="1656"/>
                  </a:lnTo>
                  <a:lnTo>
                    <a:pt x="1410" y="1656"/>
                  </a:lnTo>
                  <a:lnTo>
                    <a:pt x="1434" y="1656"/>
                  </a:lnTo>
                  <a:lnTo>
                    <a:pt x="1464" y="1656"/>
                  </a:lnTo>
                  <a:lnTo>
                    <a:pt x="1489" y="1656"/>
                  </a:lnTo>
                  <a:lnTo>
                    <a:pt x="1513" y="1656"/>
                  </a:lnTo>
                  <a:lnTo>
                    <a:pt x="1543" y="1656"/>
                  </a:lnTo>
                  <a:lnTo>
                    <a:pt x="1568" y="1656"/>
                  </a:lnTo>
                  <a:lnTo>
                    <a:pt x="1598" y="1656"/>
                  </a:lnTo>
                  <a:lnTo>
                    <a:pt x="1622" y="1656"/>
                  </a:lnTo>
                  <a:lnTo>
                    <a:pt x="1647" y="1656"/>
                  </a:lnTo>
                  <a:lnTo>
                    <a:pt x="1677" y="1656"/>
                  </a:lnTo>
                  <a:lnTo>
                    <a:pt x="1701" y="1656"/>
                  </a:lnTo>
                  <a:lnTo>
                    <a:pt x="1726" y="1656"/>
                  </a:lnTo>
                  <a:lnTo>
                    <a:pt x="1756" y="1656"/>
                  </a:lnTo>
                  <a:lnTo>
                    <a:pt x="1780" y="1656"/>
                  </a:lnTo>
                  <a:lnTo>
                    <a:pt x="1810" y="1656"/>
                  </a:lnTo>
                  <a:lnTo>
                    <a:pt x="1835" y="1656"/>
                  </a:lnTo>
                  <a:lnTo>
                    <a:pt x="1860" y="1656"/>
                  </a:lnTo>
                  <a:lnTo>
                    <a:pt x="1889" y="1656"/>
                  </a:lnTo>
                  <a:lnTo>
                    <a:pt x="1914" y="1656"/>
                  </a:lnTo>
                  <a:lnTo>
                    <a:pt x="1944" y="1656"/>
                  </a:lnTo>
                  <a:lnTo>
                    <a:pt x="1968" y="1656"/>
                  </a:lnTo>
                  <a:lnTo>
                    <a:pt x="1993" y="1656"/>
                  </a:lnTo>
                  <a:lnTo>
                    <a:pt x="2023" y="1656"/>
                  </a:lnTo>
                  <a:lnTo>
                    <a:pt x="2048" y="1656"/>
                  </a:lnTo>
                  <a:lnTo>
                    <a:pt x="2072" y="1656"/>
                  </a:lnTo>
                  <a:lnTo>
                    <a:pt x="2102" y="1656"/>
                  </a:lnTo>
                  <a:lnTo>
                    <a:pt x="2127" y="1656"/>
                  </a:lnTo>
                  <a:lnTo>
                    <a:pt x="2156" y="1656"/>
                  </a:lnTo>
                  <a:lnTo>
                    <a:pt x="2181" y="1656"/>
                  </a:lnTo>
                  <a:lnTo>
                    <a:pt x="2206" y="1656"/>
                  </a:lnTo>
                  <a:lnTo>
                    <a:pt x="2235" y="1656"/>
                  </a:lnTo>
                  <a:close/>
                  <a:moveTo>
                    <a:pt x="1390" y="292"/>
                  </a:moveTo>
                  <a:lnTo>
                    <a:pt x="1400" y="292"/>
                  </a:lnTo>
                  <a:lnTo>
                    <a:pt x="1405" y="292"/>
                  </a:lnTo>
                  <a:lnTo>
                    <a:pt x="1410" y="292"/>
                  </a:lnTo>
                  <a:lnTo>
                    <a:pt x="1415" y="287"/>
                  </a:lnTo>
                  <a:lnTo>
                    <a:pt x="1419" y="282"/>
                  </a:lnTo>
                  <a:lnTo>
                    <a:pt x="1424" y="277"/>
                  </a:lnTo>
                  <a:lnTo>
                    <a:pt x="1424" y="272"/>
                  </a:lnTo>
                  <a:lnTo>
                    <a:pt x="1429" y="267"/>
                  </a:lnTo>
                  <a:lnTo>
                    <a:pt x="1429" y="262"/>
                  </a:lnTo>
                  <a:lnTo>
                    <a:pt x="1434" y="257"/>
                  </a:lnTo>
                  <a:lnTo>
                    <a:pt x="1434" y="257"/>
                  </a:lnTo>
                  <a:lnTo>
                    <a:pt x="1444" y="252"/>
                  </a:lnTo>
                  <a:lnTo>
                    <a:pt x="1449" y="252"/>
                  </a:lnTo>
                  <a:lnTo>
                    <a:pt x="1459" y="257"/>
                  </a:lnTo>
                  <a:lnTo>
                    <a:pt x="1464" y="257"/>
                  </a:lnTo>
                  <a:lnTo>
                    <a:pt x="1474" y="262"/>
                  </a:lnTo>
                  <a:lnTo>
                    <a:pt x="1474" y="262"/>
                  </a:lnTo>
                  <a:lnTo>
                    <a:pt x="1474" y="267"/>
                  </a:lnTo>
                  <a:lnTo>
                    <a:pt x="1469" y="272"/>
                  </a:lnTo>
                  <a:lnTo>
                    <a:pt x="1464" y="272"/>
                  </a:lnTo>
                  <a:lnTo>
                    <a:pt x="1454" y="277"/>
                  </a:lnTo>
                  <a:lnTo>
                    <a:pt x="1449" y="277"/>
                  </a:lnTo>
                  <a:lnTo>
                    <a:pt x="1439" y="277"/>
                  </a:lnTo>
                  <a:lnTo>
                    <a:pt x="1434" y="277"/>
                  </a:lnTo>
                  <a:lnTo>
                    <a:pt x="1429" y="277"/>
                  </a:lnTo>
                  <a:lnTo>
                    <a:pt x="1424" y="282"/>
                  </a:lnTo>
                  <a:lnTo>
                    <a:pt x="1419" y="287"/>
                  </a:lnTo>
                  <a:lnTo>
                    <a:pt x="1415" y="292"/>
                  </a:lnTo>
                  <a:lnTo>
                    <a:pt x="1410" y="297"/>
                  </a:lnTo>
                  <a:lnTo>
                    <a:pt x="1405" y="297"/>
                  </a:lnTo>
                  <a:lnTo>
                    <a:pt x="1400" y="297"/>
                  </a:lnTo>
                  <a:lnTo>
                    <a:pt x="1390" y="292"/>
                  </a:lnTo>
                  <a:close/>
                  <a:moveTo>
                    <a:pt x="1672" y="267"/>
                  </a:moveTo>
                  <a:lnTo>
                    <a:pt x="1667" y="262"/>
                  </a:lnTo>
                  <a:lnTo>
                    <a:pt x="1657" y="257"/>
                  </a:lnTo>
                  <a:lnTo>
                    <a:pt x="1652" y="257"/>
                  </a:lnTo>
                  <a:lnTo>
                    <a:pt x="1647" y="252"/>
                  </a:lnTo>
                  <a:lnTo>
                    <a:pt x="1642" y="247"/>
                  </a:lnTo>
                  <a:lnTo>
                    <a:pt x="1637" y="243"/>
                  </a:lnTo>
                  <a:lnTo>
                    <a:pt x="1637" y="238"/>
                  </a:lnTo>
                  <a:lnTo>
                    <a:pt x="1632" y="233"/>
                  </a:lnTo>
                  <a:lnTo>
                    <a:pt x="1627" y="228"/>
                  </a:lnTo>
                  <a:lnTo>
                    <a:pt x="1622" y="223"/>
                  </a:lnTo>
                  <a:lnTo>
                    <a:pt x="1617" y="223"/>
                  </a:lnTo>
                  <a:lnTo>
                    <a:pt x="1607" y="228"/>
                  </a:lnTo>
                  <a:lnTo>
                    <a:pt x="1598" y="228"/>
                  </a:lnTo>
                  <a:lnTo>
                    <a:pt x="1593" y="228"/>
                  </a:lnTo>
                  <a:lnTo>
                    <a:pt x="1583" y="223"/>
                  </a:lnTo>
                  <a:lnTo>
                    <a:pt x="1573" y="223"/>
                  </a:lnTo>
                  <a:lnTo>
                    <a:pt x="1568" y="218"/>
                  </a:lnTo>
                  <a:lnTo>
                    <a:pt x="1563" y="223"/>
                  </a:lnTo>
                  <a:lnTo>
                    <a:pt x="1563" y="228"/>
                  </a:lnTo>
                  <a:lnTo>
                    <a:pt x="1558" y="233"/>
                  </a:lnTo>
                  <a:lnTo>
                    <a:pt x="1553" y="238"/>
                  </a:lnTo>
                  <a:lnTo>
                    <a:pt x="1548" y="243"/>
                  </a:lnTo>
                  <a:lnTo>
                    <a:pt x="1543" y="247"/>
                  </a:lnTo>
                  <a:lnTo>
                    <a:pt x="1533" y="247"/>
                  </a:lnTo>
                  <a:lnTo>
                    <a:pt x="1528" y="252"/>
                  </a:lnTo>
                  <a:lnTo>
                    <a:pt x="1518" y="252"/>
                  </a:lnTo>
                  <a:lnTo>
                    <a:pt x="1513" y="252"/>
                  </a:lnTo>
                  <a:lnTo>
                    <a:pt x="1504" y="247"/>
                  </a:lnTo>
                  <a:lnTo>
                    <a:pt x="1499" y="243"/>
                  </a:lnTo>
                  <a:lnTo>
                    <a:pt x="1499" y="238"/>
                  </a:lnTo>
                  <a:lnTo>
                    <a:pt x="1499" y="233"/>
                  </a:lnTo>
                  <a:lnTo>
                    <a:pt x="1504" y="228"/>
                  </a:lnTo>
                  <a:lnTo>
                    <a:pt x="1513" y="223"/>
                  </a:lnTo>
                  <a:lnTo>
                    <a:pt x="1518" y="223"/>
                  </a:lnTo>
                  <a:lnTo>
                    <a:pt x="1528" y="228"/>
                  </a:lnTo>
                  <a:lnTo>
                    <a:pt x="1533" y="228"/>
                  </a:lnTo>
                  <a:lnTo>
                    <a:pt x="1543" y="228"/>
                  </a:lnTo>
                  <a:lnTo>
                    <a:pt x="1548" y="228"/>
                  </a:lnTo>
                  <a:lnTo>
                    <a:pt x="1553" y="223"/>
                  </a:lnTo>
                  <a:lnTo>
                    <a:pt x="1558" y="218"/>
                  </a:lnTo>
                  <a:lnTo>
                    <a:pt x="1563" y="213"/>
                  </a:lnTo>
                  <a:lnTo>
                    <a:pt x="1563" y="208"/>
                  </a:lnTo>
                  <a:lnTo>
                    <a:pt x="1568" y="203"/>
                  </a:lnTo>
                  <a:lnTo>
                    <a:pt x="1573" y="198"/>
                  </a:lnTo>
                  <a:lnTo>
                    <a:pt x="1578" y="198"/>
                  </a:lnTo>
                  <a:lnTo>
                    <a:pt x="1588" y="198"/>
                  </a:lnTo>
                  <a:lnTo>
                    <a:pt x="1598" y="193"/>
                  </a:lnTo>
                  <a:lnTo>
                    <a:pt x="1607" y="193"/>
                  </a:lnTo>
                  <a:lnTo>
                    <a:pt x="1612" y="193"/>
                  </a:lnTo>
                  <a:lnTo>
                    <a:pt x="1622" y="198"/>
                  </a:lnTo>
                  <a:lnTo>
                    <a:pt x="1627" y="198"/>
                  </a:lnTo>
                  <a:lnTo>
                    <a:pt x="1632" y="203"/>
                  </a:lnTo>
                  <a:lnTo>
                    <a:pt x="1632" y="208"/>
                  </a:lnTo>
                  <a:lnTo>
                    <a:pt x="1637" y="213"/>
                  </a:lnTo>
                  <a:lnTo>
                    <a:pt x="1642" y="218"/>
                  </a:lnTo>
                  <a:lnTo>
                    <a:pt x="1647" y="223"/>
                  </a:lnTo>
                  <a:lnTo>
                    <a:pt x="1652" y="228"/>
                  </a:lnTo>
                  <a:lnTo>
                    <a:pt x="1657" y="233"/>
                  </a:lnTo>
                  <a:lnTo>
                    <a:pt x="1662" y="238"/>
                  </a:lnTo>
                  <a:lnTo>
                    <a:pt x="1667" y="238"/>
                  </a:lnTo>
                  <a:lnTo>
                    <a:pt x="1667" y="243"/>
                  </a:lnTo>
                  <a:lnTo>
                    <a:pt x="1667" y="247"/>
                  </a:lnTo>
                  <a:lnTo>
                    <a:pt x="1672" y="252"/>
                  </a:lnTo>
                  <a:lnTo>
                    <a:pt x="1677" y="257"/>
                  </a:lnTo>
                  <a:lnTo>
                    <a:pt x="1682" y="262"/>
                  </a:lnTo>
                  <a:lnTo>
                    <a:pt x="1682" y="267"/>
                  </a:lnTo>
                  <a:lnTo>
                    <a:pt x="1677" y="272"/>
                  </a:lnTo>
                  <a:lnTo>
                    <a:pt x="1672" y="267"/>
                  </a:lnTo>
                  <a:close/>
                  <a:moveTo>
                    <a:pt x="1963" y="238"/>
                  </a:moveTo>
                  <a:lnTo>
                    <a:pt x="1959" y="238"/>
                  </a:lnTo>
                  <a:lnTo>
                    <a:pt x="1954" y="233"/>
                  </a:lnTo>
                  <a:lnTo>
                    <a:pt x="1949" y="228"/>
                  </a:lnTo>
                  <a:lnTo>
                    <a:pt x="1944" y="223"/>
                  </a:lnTo>
                  <a:lnTo>
                    <a:pt x="1934" y="223"/>
                  </a:lnTo>
                  <a:lnTo>
                    <a:pt x="1929" y="218"/>
                  </a:lnTo>
                  <a:lnTo>
                    <a:pt x="1924" y="213"/>
                  </a:lnTo>
                  <a:lnTo>
                    <a:pt x="1919" y="213"/>
                  </a:lnTo>
                  <a:lnTo>
                    <a:pt x="1914" y="208"/>
                  </a:lnTo>
                  <a:lnTo>
                    <a:pt x="1909" y="203"/>
                  </a:lnTo>
                  <a:lnTo>
                    <a:pt x="1899" y="203"/>
                  </a:lnTo>
                  <a:lnTo>
                    <a:pt x="1889" y="203"/>
                  </a:lnTo>
                  <a:lnTo>
                    <a:pt x="1884" y="203"/>
                  </a:lnTo>
                  <a:lnTo>
                    <a:pt x="1879" y="203"/>
                  </a:lnTo>
                  <a:lnTo>
                    <a:pt x="1874" y="208"/>
                  </a:lnTo>
                  <a:lnTo>
                    <a:pt x="1870" y="213"/>
                  </a:lnTo>
                  <a:lnTo>
                    <a:pt x="1865" y="223"/>
                  </a:lnTo>
                  <a:lnTo>
                    <a:pt x="1860" y="223"/>
                  </a:lnTo>
                  <a:lnTo>
                    <a:pt x="1855" y="218"/>
                  </a:lnTo>
                  <a:lnTo>
                    <a:pt x="1850" y="213"/>
                  </a:lnTo>
                  <a:lnTo>
                    <a:pt x="1850" y="208"/>
                  </a:lnTo>
                  <a:lnTo>
                    <a:pt x="1855" y="203"/>
                  </a:lnTo>
                  <a:lnTo>
                    <a:pt x="1865" y="203"/>
                  </a:lnTo>
                  <a:lnTo>
                    <a:pt x="1870" y="198"/>
                  </a:lnTo>
                  <a:lnTo>
                    <a:pt x="1870" y="193"/>
                  </a:lnTo>
                  <a:lnTo>
                    <a:pt x="1870" y="188"/>
                  </a:lnTo>
                  <a:lnTo>
                    <a:pt x="1865" y="183"/>
                  </a:lnTo>
                  <a:lnTo>
                    <a:pt x="1860" y="178"/>
                  </a:lnTo>
                  <a:lnTo>
                    <a:pt x="1855" y="178"/>
                  </a:lnTo>
                  <a:lnTo>
                    <a:pt x="1845" y="178"/>
                  </a:lnTo>
                  <a:lnTo>
                    <a:pt x="1835" y="178"/>
                  </a:lnTo>
                  <a:lnTo>
                    <a:pt x="1830" y="173"/>
                  </a:lnTo>
                  <a:lnTo>
                    <a:pt x="1825" y="173"/>
                  </a:lnTo>
                  <a:lnTo>
                    <a:pt x="1820" y="168"/>
                  </a:lnTo>
                  <a:lnTo>
                    <a:pt x="1815" y="163"/>
                  </a:lnTo>
                  <a:lnTo>
                    <a:pt x="1810" y="159"/>
                  </a:lnTo>
                  <a:lnTo>
                    <a:pt x="1805" y="154"/>
                  </a:lnTo>
                  <a:lnTo>
                    <a:pt x="1800" y="154"/>
                  </a:lnTo>
                  <a:lnTo>
                    <a:pt x="1790" y="154"/>
                  </a:lnTo>
                  <a:lnTo>
                    <a:pt x="1780" y="154"/>
                  </a:lnTo>
                  <a:lnTo>
                    <a:pt x="1776" y="149"/>
                  </a:lnTo>
                  <a:lnTo>
                    <a:pt x="1771" y="149"/>
                  </a:lnTo>
                  <a:lnTo>
                    <a:pt x="1766" y="144"/>
                  </a:lnTo>
                  <a:lnTo>
                    <a:pt x="1761" y="139"/>
                  </a:lnTo>
                  <a:lnTo>
                    <a:pt x="1761" y="134"/>
                  </a:lnTo>
                  <a:lnTo>
                    <a:pt x="1756" y="129"/>
                  </a:lnTo>
                  <a:lnTo>
                    <a:pt x="1746" y="124"/>
                  </a:lnTo>
                  <a:lnTo>
                    <a:pt x="1736" y="124"/>
                  </a:lnTo>
                  <a:lnTo>
                    <a:pt x="1731" y="124"/>
                  </a:lnTo>
                  <a:lnTo>
                    <a:pt x="1721" y="124"/>
                  </a:lnTo>
                  <a:lnTo>
                    <a:pt x="1716" y="119"/>
                  </a:lnTo>
                  <a:lnTo>
                    <a:pt x="1716" y="114"/>
                  </a:lnTo>
                  <a:lnTo>
                    <a:pt x="1711" y="109"/>
                  </a:lnTo>
                  <a:lnTo>
                    <a:pt x="1706" y="104"/>
                  </a:lnTo>
                  <a:lnTo>
                    <a:pt x="1701" y="99"/>
                  </a:lnTo>
                  <a:lnTo>
                    <a:pt x="1691" y="99"/>
                  </a:lnTo>
                  <a:lnTo>
                    <a:pt x="1687" y="99"/>
                  </a:lnTo>
                  <a:lnTo>
                    <a:pt x="1677" y="99"/>
                  </a:lnTo>
                  <a:lnTo>
                    <a:pt x="1672" y="94"/>
                  </a:lnTo>
                  <a:lnTo>
                    <a:pt x="1667" y="89"/>
                  </a:lnTo>
                  <a:lnTo>
                    <a:pt x="1662" y="84"/>
                  </a:lnTo>
                  <a:lnTo>
                    <a:pt x="1657" y="79"/>
                  </a:lnTo>
                  <a:lnTo>
                    <a:pt x="1652" y="79"/>
                  </a:lnTo>
                  <a:lnTo>
                    <a:pt x="1647" y="74"/>
                  </a:lnTo>
                  <a:lnTo>
                    <a:pt x="1637" y="74"/>
                  </a:lnTo>
                  <a:lnTo>
                    <a:pt x="1632" y="74"/>
                  </a:lnTo>
                  <a:lnTo>
                    <a:pt x="1622" y="74"/>
                  </a:lnTo>
                  <a:lnTo>
                    <a:pt x="1612" y="70"/>
                  </a:lnTo>
                  <a:lnTo>
                    <a:pt x="1607" y="70"/>
                  </a:lnTo>
                  <a:lnTo>
                    <a:pt x="1602" y="65"/>
                  </a:lnTo>
                  <a:lnTo>
                    <a:pt x="1598" y="60"/>
                  </a:lnTo>
                  <a:lnTo>
                    <a:pt x="1598" y="55"/>
                  </a:lnTo>
                  <a:lnTo>
                    <a:pt x="1602" y="50"/>
                  </a:lnTo>
                  <a:lnTo>
                    <a:pt x="1607" y="45"/>
                  </a:lnTo>
                  <a:lnTo>
                    <a:pt x="1612" y="40"/>
                  </a:lnTo>
                  <a:lnTo>
                    <a:pt x="1622" y="35"/>
                  </a:lnTo>
                  <a:lnTo>
                    <a:pt x="1627" y="35"/>
                  </a:lnTo>
                  <a:lnTo>
                    <a:pt x="1637" y="35"/>
                  </a:lnTo>
                  <a:lnTo>
                    <a:pt x="1642" y="35"/>
                  </a:lnTo>
                  <a:lnTo>
                    <a:pt x="1652" y="35"/>
                  </a:lnTo>
                  <a:lnTo>
                    <a:pt x="1657" y="35"/>
                  </a:lnTo>
                  <a:lnTo>
                    <a:pt x="1667" y="35"/>
                  </a:lnTo>
                  <a:lnTo>
                    <a:pt x="1672" y="40"/>
                  </a:lnTo>
                  <a:lnTo>
                    <a:pt x="1682" y="40"/>
                  </a:lnTo>
                  <a:lnTo>
                    <a:pt x="1687" y="45"/>
                  </a:lnTo>
                  <a:lnTo>
                    <a:pt x="1691" y="50"/>
                  </a:lnTo>
                  <a:lnTo>
                    <a:pt x="1696" y="55"/>
                  </a:lnTo>
                  <a:lnTo>
                    <a:pt x="1701" y="55"/>
                  </a:lnTo>
                  <a:lnTo>
                    <a:pt x="1711" y="60"/>
                  </a:lnTo>
                  <a:lnTo>
                    <a:pt x="1716" y="60"/>
                  </a:lnTo>
                  <a:lnTo>
                    <a:pt x="1726" y="60"/>
                  </a:lnTo>
                  <a:lnTo>
                    <a:pt x="1736" y="60"/>
                  </a:lnTo>
                  <a:lnTo>
                    <a:pt x="1741" y="60"/>
                  </a:lnTo>
                  <a:lnTo>
                    <a:pt x="1751" y="60"/>
                  </a:lnTo>
                  <a:lnTo>
                    <a:pt x="1756" y="60"/>
                  </a:lnTo>
                  <a:lnTo>
                    <a:pt x="1766" y="60"/>
                  </a:lnTo>
                  <a:lnTo>
                    <a:pt x="1776" y="65"/>
                  </a:lnTo>
                  <a:lnTo>
                    <a:pt x="1780" y="65"/>
                  </a:lnTo>
                  <a:lnTo>
                    <a:pt x="1785" y="70"/>
                  </a:lnTo>
                  <a:lnTo>
                    <a:pt x="1790" y="74"/>
                  </a:lnTo>
                  <a:lnTo>
                    <a:pt x="1795" y="79"/>
                  </a:lnTo>
                  <a:lnTo>
                    <a:pt x="1800" y="79"/>
                  </a:lnTo>
                  <a:lnTo>
                    <a:pt x="1805" y="84"/>
                  </a:lnTo>
                  <a:lnTo>
                    <a:pt x="1815" y="84"/>
                  </a:lnTo>
                  <a:lnTo>
                    <a:pt x="1825" y="89"/>
                  </a:lnTo>
                  <a:lnTo>
                    <a:pt x="1830" y="89"/>
                  </a:lnTo>
                  <a:lnTo>
                    <a:pt x="1840" y="89"/>
                  </a:lnTo>
                  <a:lnTo>
                    <a:pt x="1845" y="89"/>
                  </a:lnTo>
                  <a:lnTo>
                    <a:pt x="1855" y="89"/>
                  </a:lnTo>
                  <a:lnTo>
                    <a:pt x="1865" y="89"/>
                  </a:lnTo>
                  <a:lnTo>
                    <a:pt x="1870" y="89"/>
                  </a:lnTo>
                  <a:lnTo>
                    <a:pt x="1879" y="89"/>
                  </a:lnTo>
                  <a:lnTo>
                    <a:pt x="1884" y="94"/>
                  </a:lnTo>
                  <a:lnTo>
                    <a:pt x="1894" y="94"/>
                  </a:lnTo>
                  <a:lnTo>
                    <a:pt x="1899" y="99"/>
                  </a:lnTo>
                  <a:lnTo>
                    <a:pt x="1899" y="104"/>
                  </a:lnTo>
                  <a:lnTo>
                    <a:pt x="1904" y="109"/>
                  </a:lnTo>
                  <a:lnTo>
                    <a:pt x="1909" y="114"/>
                  </a:lnTo>
                  <a:lnTo>
                    <a:pt x="1919" y="114"/>
                  </a:lnTo>
                  <a:lnTo>
                    <a:pt x="1924" y="119"/>
                  </a:lnTo>
                  <a:lnTo>
                    <a:pt x="1934" y="119"/>
                  </a:lnTo>
                  <a:lnTo>
                    <a:pt x="1939" y="119"/>
                  </a:lnTo>
                  <a:lnTo>
                    <a:pt x="1949" y="119"/>
                  </a:lnTo>
                  <a:lnTo>
                    <a:pt x="1959" y="119"/>
                  </a:lnTo>
                  <a:lnTo>
                    <a:pt x="1963" y="119"/>
                  </a:lnTo>
                  <a:lnTo>
                    <a:pt x="1973" y="119"/>
                  </a:lnTo>
                  <a:lnTo>
                    <a:pt x="1983" y="119"/>
                  </a:lnTo>
                  <a:lnTo>
                    <a:pt x="1988" y="119"/>
                  </a:lnTo>
                  <a:lnTo>
                    <a:pt x="1998" y="124"/>
                  </a:lnTo>
                  <a:lnTo>
                    <a:pt x="2003" y="129"/>
                  </a:lnTo>
                  <a:lnTo>
                    <a:pt x="2003" y="134"/>
                  </a:lnTo>
                  <a:lnTo>
                    <a:pt x="2008" y="139"/>
                  </a:lnTo>
                  <a:lnTo>
                    <a:pt x="2013" y="144"/>
                  </a:lnTo>
                  <a:lnTo>
                    <a:pt x="2013" y="149"/>
                  </a:lnTo>
                  <a:lnTo>
                    <a:pt x="2018" y="149"/>
                  </a:lnTo>
                  <a:lnTo>
                    <a:pt x="2023" y="154"/>
                  </a:lnTo>
                  <a:lnTo>
                    <a:pt x="2033" y="154"/>
                  </a:lnTo>
                  <a:lnTo>
                    <a:pt x="2038" y="159"/>
                  </a:lnTo>
                  <a:lnTo>
                    <a:pt x="2048" y="159"/>
                  </a:lnTo>
                  <a:lnTo>
                    <a:pt x="2057" y="159"/>
                  </a:lnTo>
                  <a:lnTo>
                    <a:pt x="2062" y="159"/>
                  </a:lnTo>
                  <a:lnTo>
                    <a:pt x="2062" y="163"/>
                  </a:lnTo>
                  <a:lnTo>
                    <a:pt x="2062" y="168"/>
                  </a:lnTo>
                  <a:lnTo>
                    <a:pt x="2057" y="173"/>
                  </a:lnTo>
                  <a:lnTo>
                    <a:pt x="2052" y="178"/>
                  </a:lnTo>
                  <a:lnTo>
                    <a:pt x="2048" y="183"/>
                  </a:lnTo>
                  <a:lnTo>
                    <a:pt x="2043" y="188"/>
                  </a:lnTo>
                  <a:lnTo>
                    <a:pt x="2043" y="193"/>
                  </a:lnTo>
                  <a:lnTo>
                    <a:pt x="2038" y="198"/>
                  </a:lnTo>
                  <a:lnTo>
                    <a:pt x="2033" y="203"/>
                  </a:lnTo>
                  <a:lnTo>
                    <a:pt x="2033" y="208"/>
                  </a:lnTo>
                  <a:lnTo>
                    <a:pt x="2028" y="213"/>
                  </a:lnTo>
                  <a:lnTo>
                    <a:pt x="2023" y="218"/>
                  </a:lnTo>
                  <a:lnTo>
                    <a:pt x="2023" y="223"/>
                  </a:lnTo>
                  <a:lnTo>
                    <a:pt x="2018" y="228"/>
                  </a:lnTo>
                  <a:lnTo>
                    <a:pt x="2018" y="233"/>
                  </a:lnTo>
                  <a:lnTo>
                    <a:pt x="2013" y="238"/>
                  </a:lnTo>
                  <a:lnTo>
                    <a:pt x="2008" y="243"/>
                  </a:lnTo>
                  <a:lnTo>
                    <a:pt x="2003" y="243"/>
                  </a:lnTo>
                  <a:lnTo>
                    <a:pt x="1993" y="243"/>
                  </a:lnTo>
                  <a:lnTo>
                    <a:pt x="1983" y="243"/>
                  </a:lnTo>
                  <a:lnTo>
                    <a:pt x="1978" y="247"/>
                  </a:lnTo>
                  <a:lnTo>
                    <a:pt x="1968" y="243"/>
                  </a:lnTo>
                  <a:lnTo>
                    <a:pt x="1963" y="238"/>
                  </a:lnTo>
                  <a:close/>
                  <a:moveTo>
                    <a:pt x="1365" y="213"/>
                  </a:moveTo>
                  <a:lnTo>
                    <a:pt x="1370" y="208"/>
                  </a:lnTo>
                  <a:lnTo>
                    <a:pt x="1375" y="203"/>
                  </a:lnTo>
                  <a:lnTo>
                    <a:pt x="1380" y="198"/>
                  </a:lnTo>
                  <a:lnTo>
                    <a:pt x="1385" y="198"/>
                  </a:lnTo>
                  <a:lnTo>
                    <a:pt x="1395" y="203"/>
                  </a:lnTo>
                  <a:lnTo>
                    <a:pt x="1400" y="208"/>
                  </a:lnTo>
                  <a:lnTo>
                    <a:pt x="1400" y="213"/>
                  </a:lnTo>
                  <a:lnTo>
                    <a:pt x="1400" y="218"/>
                  </a:lnTo>
                  <a:lnTo>
                    <a:pt x="1395" y="223"/>
                  </a:lnTo>
                  <a:lnTo>
                    <a:pt x="1385" y="228"/>
                  </a:lnTo>
                  <a:lnTo>
                    <a:pt x="1380" y="228"/>
                  </a:lnTo>
                  <a:lnTo>
                    <a:pt x="1375" y="223"/>
                  </a:lnTo>
                  <a:lnTo>
                    <a:pt x="1370" y="218"/>
                  </a:lnTo>
                  <a:lnTo>
                    <a:pt x="1365" y="213"/>
                  </a:lnTo>
                  <a:close/>
                  <a:moveTo>
                    <a:pt x="1212" y="188"/>
                  </a:moveTo>
                  <a:lnTo>
                    <a:pt x="1217" y="183"/>
                  </a:lnTo>
                  <a:lnTo>
                    <a:pt x="1217" y="183"/>
                  </a:lnTo>
                  <a:lnTo>
                    <a:pt x="1222" y="183"/>
                  </a:lnTo>
                  <a:lnTo>
                    <a:pt x="1222" y="183"/>
                  </a:lnTo>
                  <a:lnTo>
                    <a:pt x="1227" y="183"/>
                  </a:lnTo>
                  <a:lnTo>
                    <a:pt x="1227" y="188"/>
                  </a:lnTo>
                  <a:lnTo>
                    <a:pt x="1227" y="188"/>
                  </a:lnTo>
                  <a:lnTo>
                    <a:pt x="1227" y="188"/>
                  </a:lnTo>
                  <a:lnTo>
                    <a:pt x="1227" y="193"/>
                  </a:lnTo>
                  <a:lnTo>
                    <a:pt x="1222" y="193"/>
                  </a:lnTo>
                  <a:lnTo>
                    <a:pt x="1222" y="193"/>
                  </a:lnTo>
                  <a:lnTo>
                    <a:pt x="1217" y="193"/>
                  </a:lnTo>
                  <a:lnTo>
                    <a:pt x="1217" y="188"/>
                  </a:lnTo>
                  <a:lnTo>
                    <a:pt x="1212" y="188"/>
                  </a:lnTo>
                  <a:close/>
                  <a:moveTo>
                    <a:pt x="1439" y="188"/>
                  </a:moveTo>
                  <a:lnTo>
                    <a:pt x="1449" y="178"/>
                  </a:lnTo>
                  <a:lnTo>
                    <a:pt x="1454" y="173"/>
                  </a:lnTo>
                  <a:lnTo>
                    <a:pt x="1459" y="173"/>
                  </a:lnTo>
                  <a:lnTo>
                    <a:pt x="1469" y="173"/>
                  </a:lnTo>
                  <a:lnTo>
                    <a:pt x="1474" y="178"/>
                  </a:lnTo>
                  <a:lnTo>
                    <a:pt x="1484" y="183"/>
                  </a:lnTo>
                  <a:lnTo>
                    <a:pt x="1484" y="188"/>
                  </a:lnTo>
                  <a:lnTo>
                    <a:pt x="1479" y="193"/>
                  </a:lnTo>
                  <a:lnTo>
                    <a:pt x="1474" y="198"/>
                  </a:lnTo>
                  <a:lnTo>
                    <a:pt x="1464" y="203"/>
                  </a:lnTo>
                  <a:lnTo>
                    <a:pt x="1459" y="203"/>
                  </a:lnTo>
                  <a:lnTo>
                    <a:pt x="1454" y="198"/>
                  </a:lnTo>
                  <a:lnTo>
                    <a:pt x="1444" y="193"/>
                  </a:lnTo>
                  <a:lnTo>
                    <a:pt x="1439" y="188"/>
                  </a:lnTo>
                  <a:close/>
                  <a:moveTo>
                    <a:pt x="1766" y="188"/>
                  </a:moveTo>
                  <a:lnTo>
                    <a:pt x="1771" y="178"/>
                  </a:lnTo>
                  <a:lnTo>
                    <a:pt x="1776" y="173"/>
                  </a:lnTo>
                  <a:lnTo>
                    <a:pt x="1780" y="173"/>
                  </a:lnTo>
                  <a:lnTo>
                    <a:pt x="1790" y="173"/>
                  </a:lnTo>
                  <a:lnTo>
                    <a:pt x="1800" y="178"/>
                  </a:lnTo>
                  <a:lnTo>
                    <a:pt x="1805" y="183"/>
                  </a:lnTo>
                  <a:lnTo>
                    <a:pt x="1805" y="188"/>
                  </a:lnTo>
                  <a:lnTo>
                    <a:pt x="1805" y="193"/>
                  </a:lnTo>
                  <a:lnTo>
                    <a:pt x="1795" y="198"/>
                  </a:lnTo>
                  <a:lnTo>
                    <a:pt x="1790" y="198"/>
                  </a:lnTo>
                  <a:lnTo>
                    <a:pt x="1780" y="198"/>
                  </a:lnTo>
                  <a:lnTo>
                    <a:pt x="1776" y="198"/>
                  </a:lnTo>
                  <a:lnTo>
                    <a:pt x="1771" y="193"/>
                  </a:lnTo>
                  <a:lnTo>
                    <a:pt x="1766" y="188"/>
                  </a:lnTo>
                  <a:close/>
                  <a:moveTo>
                    <a:pt x="1286" y="159"/>
                  </a:moveTo>
                  <a:lnTo>
                    <a:pt x="1291" y="154"/>
                  </a:lnTo>
                  <a:lnTo>
                    <a:pt x="1296" y="149"/>
                  </a:lnTo>
                  <a:lnTo>
                    <a:pt x="1301" y="144"/>
                  </a:lnTo>
                  <a:lnTo>
                    <a:pt x="1306" y="149"/>
                  </a:lnTo>
                  <a:lnTo>
                    <a:pt x="1311" y="149"/>
                  </a:lnTo>
                  <a:lnTo>
                    <a:pt x="1316" y="159"/>
                  </a:lnTo>
                  <a:lnTo>
                    <a:pt x="1316" y="163"/>
                  </a:lnTo>
                  <a:lnTo>
                    <a:pt x="1316" y="168"/>
                  </a:lnTo>
                  <a:lnTo>
                    <a:pt x="1311" y="173"/>
                  </a:lnTo>
                  <a:lnTo>
                    <a:pt x="1306" y="178"/>
                  </a:lnTo>
                  <a:lnTo>
                    <a:pt x="1301" y="178"/>
                  </a:lnTo>
                  <a:lnTo>
                    <a:pt x="1296" y="173"/>
                  </a:lnTo>
                  <a:lnTo>
                    <a:pt x="1291" y="168"/>
                  </a:lnTo>
                  <a:lnTo>
                    <a:pt x="1286" y="159"/>
                  </a:lnTo>
                  <a:close/>
                  <a:moveTo>
                    <a:pt x="1494" y="159"/>
                  </a:moveTo>
                  <a:lnTo>
                    <a:pt x="1499" y="154"/>
                  </a:lnTo>
                  <a:lnTo>
                    <a:pt x="1504" y="149"/>
                  </a:lnTo>
                  <a:lnTo>
                    <a:pt x="1513" y="144"/>
                  </a:lnTo>
                  <a:lnTo>
                    <a:pt x="1523" y="144"/>
                  </a:lnTo>
                  <a:lnTo>
                    <a:pt x="1528" y="144"/>
                  </a:lnTo>
                  <a:lnTo>
                    <a:pt x="1538" y="144"/>
                  </a:lnTo>
                  <a:lnTo>
                    <a:pt x="1548" y="144"/>
                  </a:lnTo>
                  <a:lnTo>
                    <a:pt x="1558" y="144"/>
                  </a:lnTo>
                  <a:lnTo>
                    <a:pt x="1563" y="139"/>
                  </a:lnTo>
                  <a:lnTo>
                    <a:pt x="1568" y="134"/>
                  </a:lnTo>
                  <a:lnTo>
                    <a:pt x="1573" y="129"/>
                  </a:lnTo>
                  <a:lnTo>
                    <a:pt x="1578" y="124"/>
                  </a:lnTo>
                  <a:lnTo>
                    <a:pt x="1588" y="119"/>
                  </a:lnTo>
                  <a:lnTo>
                    <a:pt x="1593" y="114"/>
                  </a:lnTo>
                  <a:lnTo>
                    <a:pt x="1602" y="114"/>
                  </a:lnTo>
                  <a:lnTo>
                    <a:pt x="1612" y="114"/>
                  </a:lnTo>
                  <a:lnTo>
                    <a:pt x="1622" y="114"/>
                  </a:lnTo>
                  <a:lnTo>
                    <a:pt x="1627" y="114"/>
                  </a:lnTo>
                  <a:lnTo>
                    <a:pt x="1637" y="114"/>
                  </a:lnTo>
                  <a:lnTo>
                    <a:pt x="1647" y="114"/>
                  </a:lnTo>
                  <a:lnTo>
                    <a:pt x="1657" y="114"/>
                  </a:lnTo>
                  <a:lnTo>
                    <a:pt x="1667" y="114"/>
                  </a:lnTo>
                  <a:lnTo>
                    <a:pt x="1672" y="119"/>
                  </a:lnTo>
                  <a:lnTo>
                    <a:pt x="1682" y="119"/>
                  </a:lnTo>
                  <a:lnTo>
                    <a:pt x="1687" y="124"/>
                  </a:lnTo>
                  <a:lnTo>
                    <a:pt x="1691" y="129"/>
                  </a:lnTo>
                  <a:lnTo>
                    <a:pt x="1696" y="134"/>
                  </a:lnTo>
                  <a:lnTo>
                    <a:pt x="1696" y="144"/>
                  </a:lnTo>
                  <a:lnTo>
                    <a:pt x="1701" y="149"/>
                  </a:lnTo>
                  <a:lnTo>
                    <a:pt x="1711" y="144"/>
                  </a:lnTo>
                  <a:lnTo>
                    <a:pt x="1721" y="144"/>
                  </a:lnTo>
                  <a:lnTo>
                    <a:pt x="1731" y="144"/>
                  </a:lnTo>
                  <a:lnTo>
                    <a:pt x="1736" y="144"/>
                  </a:lnTo>
                  <a:lnTo>
                    <a:pt x="1746" y="149"/>
                  </a:lnTo>
                  <a:lnTo>
                    <a:pt x="1751" y="154"/>
                  </a:lnTo>
                  <a:lnTo>
                    <a:pt x="1751" y="163"/>
                  </a:lnTo>
                  <a:lnTo>
                    <a:pt x="1746" y="168"/>
                  </a:lnTo>
                  <a:lnTo>
                    <a:pt x="1741" y="173"/>
                  </a:lnTo>
                  <a:lnTo>
                    <a:pt x="1736" y="178"/>
                  </a:lnTo>
                  <a:lnTo>
                    <a:pt x="1726" y="178"/>
                  </a:lnTo>
                  <a:lnTo>
                    <a:pt x="1716" y="178"/>
                  </a:lnTo>
                  <a:lnTo>
                    <a:pt x="1711" y="173"/>
                  </a:lnTo>
                  <a:lnTo>
                    <a:pt x="1701" y="168"/>
                  </a:lnTo>
                  <a:lnTo>
                    <a:pt x="1696" y="163"/>
                  </a:lnTo>
                  <a:lnTo>
                    <a:pt x="1691" y="159"/>
                  </a:lnTo>
                  <a:lnTo>
                    <a:pt x="1682" y="159"/>
                  </a:lnTo>
                  <a:lnTo>
                    <a:pt x="1677" y="154"/>
                  </a:lnTo>
                  <a:lnTo>
                    <a:pt x="1667" y="154"/>
                  </a:lnTo>
                  <a:lnTo>
                    <a:pt x="1657" y="154"/>
                  </a:lnTo>
                  <a:lnTo>
                    <a:pt x="1647" y="154"/>
                  </a:lnTo>
                  <a:lnTo>
                    <a:pt x="1637" y="154"/>
                  </a:lnTo>
                  <a:lnTo>
                    <a:pt x="1632" y="154"/>
                  </a:lnTo>
                  <a:lnTo>
                    <a:pt x="1622" y="154"/>
                  </a:lnTo>
                  <a:lnTo>
                    <a:pt x="1612" y="154"/>
                  </a:lnTo>
                  <a:lnTo>
                    <a:pt x="1602" y="154"/>
                  </a:lnTo>
                  <a:lnTo>
                    <a:pt x="1593" y="154"/>
                  </a:lnTo>
                  <a:lnTo>
                    <a:pt x="1588" y="149"/>
                  </a:lnTo>
                  <a:lnTo>
                    <a:pt x="1578" y="144"/>
                  </a:lnTo>
                  <a:lnTo>
                    <a:pt x="1573" y="139"/>
                  </a:lnTo>
                  <a:lnTo>
                    <a:pt x="1568" y="139"/>
                  </a:lnTo>
                  <a:lnTo>
                    <a:pt x="1568" y="144"/>
                  </a:lnTo>
                  <a:lnTo>
                    <a:pt x="1568" y="149"/>
                  </a:lnTo>
                  <a:lnTo>
                    <a:pt x="1568" y="159"/>
                  </a:lnTo>
                  <a:lnTo>
                    <a:pt x="1563" y="163"/>
                  </a:lnTo>
                  <a:lnTo>
                    <a:pt x="1558" y="168"/>
                  </a:lnTo>
                  <a:lnTo>
                    <a:pt x="1553" y="173"/>
                  </a:lnTo>
                  <a:lnTo>
                    <a:pt x="1543" y="178"/>
                  </a:lnTo>
                  <a:lnTo>
                    <a:pt x="1538" y="178"/>
                  </a:lnTo>
                  <a:lnTo>
                    <a:pt x="1528" y="178"/>
                  </a:lnTo>
                  <a:lnTo>
                    <a:pt x="1518" y="178"/>
                  </a:lnTo>
                  <a:lnTo>
                    <a:pt x="1508" y="173"/>
                  </a:lnTo>
                  <a:lnTo>
                    <a:pt x="1504" y="173"/>
                  </a:lnTo>
                  <a:lnTo>
                    <a:pt x="1499" y="168"/>
                  </a:lnTo>
                  <a:lnTo>
                    <a:pt x="1494" y="159"/>
                  </a:lnTo>
                  <a:close/>
                  <a:moveTo>
                    <a:pt x="1365" y="134"/>
                  </a:moveTo>
                  <a:lnTo>
                    <a:pt x="1365" y="124"/>
                  </a:lnTo>
                  <a:lnTo>
                    <a:pt x="1370" y="119"/>
                  </a:lnTo>
                  <a:lnTo>
                    <a:pt x="1375" y="119"/>
                  </a:lnTo>
                  <a:lnTo>
                    <a:pt x="1385" y="114"/>
                  </a:lnTo>
                  <a:lnTo>
                    <a:pt x="1390" y="114"/>
                  </a:lnTo>
                  <a:lnTo>
                    <a:pt x="1400" y="119"/>
                  </a:lnTo>
                  <a:lnTo>
                    <a:pt x="1410" y="124"/>
                  </a:lnTo>
                  <a:lnTo>
                    <a:pt x="1415" y="124"/>
                  </a:lnTo>
                  <a:lnTo>
                    <a:pt x="1419" y="129"/>
                  </a:lnTo>
                  <a:lnTo>
                    <a:pt x="1419" y="134"/>
                  </a:lnTo>
                  <a:lnTo>
                    <a:pt x="1415" y="139"/>
                  </a:lnTo>
                  <a:lnTo>
                    <a:pt x="1410" y="144"/>
                  </a:lnTo>
                  <a:lnTo>
                    <a:pt x="1400" y="149"/>
                  </a:lnTo>
                  <a:lnTo>
                    <a:pt x="1395" y="154"/>
                  </a:lnTo>
                  <a:lnTo>
                    <a:pt x="1385" y="154"/>
                  </a:lnTo>
                  <a:lnTo>
                    <a:pt x="1380" y="154"/>
                  </a:lnTo>
                  <a:lnTo>
                    <a:pt x="1375" y="154"/>
                  </a:lnTo>
                  <a:lnTo>
                    <a:pt x="1370" y="149"/>
                  </a:lnTo>
                  <a:lnTo>
                    <a:pt x="1365" y="139"/>
                  </a:lnTo>
                  <a:lnTo>
                    <a:pt x="1365" y="134"/>
                  </a:lnTo>
                  <a:close/>
                  <a:moveTo>
                    <a:pt x="1439" y="104"/>
                  </a:moveTo>
                  <a:lnTo>
                    <a:pt x="1444" y="99"/>
                  </a:lnTo>
                  <a:lnTo>
                    <a:pt x="1454" y="94"/>
                  </a:lnTo>
                  <a:lnTo>
                    <a:pt x="1459" y="89"/>
                  </a:lnTo>
                  <a:lnTo>
                    <a:pt x="1469" y="89"/>
                  </a:lnTo>
                  <a:lnTo>
                    <a:pt x="1479" y="84"/>
                  </a:lnTo>
                  <a:lnTo>
                    <a:pt x="1489" y="89"/>
                  </a:lnTo>
                  <a:lnTo>
                    <a:pt x="1499" y="89"/>
                  </a:lnTo>
                  <a:lnTo>
                    <a:pt x="1504" y="94"/>
                  </a:lnTo>
                  <a:lnTo>
                    <a:pt x="1508" y="104"/>
                  </a:lnTo>
                  <a:lnTo>
                    <a:pt x="1508" y="109"/>
                  </a:lnTo>
                  <a:lnTo>
                    <a:pt x="1508" y="114"/>
                  </a:lnTo>
                  <a:lnTo>
                    <a:pt x="1499" y="119"/>
                  </a:lnTo>
                  <a:lnTo>
                    <a:pt x="1494" y="124"/>
                  </a:lnTo>
                  <a:lnTo>
                    <a:pt x="1484" y="129"/>
                  </a:lnTo>
                  <a:lnTo>
                    <a:pt x="1474" y="129"/>
                  </a:lnTo>
                  <a:lnTo>
                    <a:pt x="1464" y="129"/>
                  </a:lnTo>
                  <a:lnTo>
                    <a:pt x="1454" y="124"/>
                  </a:lnTo>
                  <a:lnTo>
                    <a:pt x="1449" y="124"/>
                  </a:lnTo>
                  <a:lnTo>
                    <a:pt x="1444" y="114"/>
                  </a:lnTo>
                  <a:lnTo>
                    <a:pt x="1439" y="104"/>
                  </a:lnTo>
                  <a:close/>
                  <a:moveTo>
                    <a:pt x="1518" y="79"/>
                  </a:moveTo>
                  <a:lnTo>
                    <a:pt x="1523" y="74"/>
                  </a:lnTo>
                  <a:lnTo>
                    <a:pt x="1533" y="70"/>
                  </a:lnTo>
                  <a:lnTo>
                    <a:pt x="1538" y="65"/>
                  </a:lnTo>
                  <a:lnTo>
                    <a:pt x="1548" y="60"/>
                  </a:lnTo>
                  <a:lnTo>
                    <a:pt x="1558" y="60"/>
                  </a:lnTo>
                  <a:lnTo>
                    <a:pt x="1573" y="60"/>
                  </a:lnTo>
                  <a:lnTo>
                    <a:pt x="1578" y="65"/>
                  </a:lnTo>
                  <a:lnTo>
                    <a:pt x="1588" y="70"/>
                  </a:lnTo>
                  <a:lnTo>
                    <a:pt x="1593" y="74"/>
                  </a:lnTo>
                  <a:lnTo>
                    <a:pt x="1593" y="84"/>
                  </a:lnTo>
                  <a:lnTo>
                    <a:pt x="1588" y="89"/>
                  </a:lnTo>
                  <a:lnTo>
                    <a:pt x="1583" y="94"/>
                  </a:lnTo>
                  <a:lnTo>
                    <a:pt x="1573" y="99"/>
                  </a:lnTo>
                  <a:lnTo>
                    <a:pt x="1563" y="99"/>
                  </a:lnTo>
                  <a:lnTo>
                    <a:pt x="1553" y="104"/>
                  </a:lnTo>
                  <a:lnTo>
                    <a:pt x="1543" y="104"/>
                  </a:lnTo>
                  <a:lnTo>
                    <a:pt x="1533" y="99"/>
                  </a:lnTo>
                  <a:lnTo>
                    <a:pt x="1528" y="94"/>
                  </a:lnTo>
                  <a:lnTo>
                    <a:pt x="1523" y="89"/>
                  </a:lnTo>
                  <a:lnTo>
                    <a:pt x="1518" y="79"/>
                  </a:lnTo>
                  <a:close/>
                </a:path>
              </a:pathLst>
            </a:custGeom>
            <a:solidFill>
              <a:srgbClr val="ffc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2" name=""/>
            <p:cNvSpPr/>
            <p:nvPr/>
          </p:nvSpPr>
          <p:spPr>
            <a:xfrm>
              <a:off x="2265120" y="2368440"/>
              <a:ext cx="4098960" cy="2628360"/>
            </a:xfrm>
            <a:custGeom>
              <a:avLst/>
              <a:gdLst/>
              <a:ahLst/>
              <a:rect l="l" t="t" r="r" b="b"/>
              <a:pathLst>
                <a:path w="2582" h="1656">
                  <a:moveTo>
                    <a:pt x="2235" y="1656"/>
                  </a:moveTo>
                  <a:lnTo>
                    <a:pt x="2260" y="1631"/>
                  </a:lnTo>
                  <a:lnTo>
                    <a:pt x="2285" y="1631"/>
                  </a:lnTo>
                  <a:lnTo>
                    <a:pt x="2315" y="1631"/>
                  </a:lnTo>
                  <a:lnTo>
                    <a:pt x="2339" y="1631"/>
                  </a:lnTo>
                  <a:lnTo>
                    <a:pt x="2369" y="1631"/>
                  </a:lnTo>
                  <a:lnTo>
                    <a:pt x="2394" y="1631"/>
                  </a:lnTo>
                  <a:lnTo>
                    <a:pt x="2418" y="1631"/>
                  </a:lnTo>
                  <a:lnTo>
                    <a:pt x="2448" y="1602"/>
                  </a:lnTo>
                  <a:lnTo>
                    <a:pt x="2448" y="1577"/>
                  </a:lnTo>
                  <a:lnTo>
                    <a:pt x="2448" y="1547"/>
                  </a:lnTo>
                  <a:lnTo>
                    <a:pt x="2448" y="1523"/>
                  </a:lnTo>
                  <a:lnTo>
                    <a:pt x="2473" y="1498"/>
                  </a:lnTo>
                  <a:lnTo>
                    <a:pt x="2473" y="1468"/>
                  </a:lnTo>
                  <a:lnTo>
                    <a:pt x="2473" y="1444"/>
                  </a:lnTo>
                  <a:lnTo>
                    <a:pt x="2473" y="1414"/>
                  </a:lnTo>
                  <a:lnTo>
                    <a:pt x="2503" y="1389"/>
                  </a:lnTo>
                  <a:lnTo>
                    <a:pt x="2503" y="1364"/>
                  </a:lnTo>
                  <a:lnTo>
                    <a:pt x="2503" y="1335"/>
                  </a:lnTo>
                  <a:lnTo>
                    <a:pt x="2503" y="1310"/>
                  </a:lnTo>
                  <a:lnTo>
                    <a:pt x="2527" y="1280"/>
                  </a:lnTo>
                  <a:lnTo>
                    <a:pt x="2527" y="1256"/>
                  </a:lnTo>
                  <a:lnTo>
                    <a:pt x="2527" y="1226"/>
                  </a:lnTo>
                  <a:lnTo>
                    <a:pt x="2527" y="1201"/>
                  </a:lnTo>
                  <a:lnTo>
                    <a:pt x="2552" y="1177"/>
                  </a:lnTo>
                  <a:lnTo>
                    <a:pt x="2552" y="1147"/>
                  </a:lnTo>
                  <a:lnTo>
                    <a:pt x="2552" y="1122"/>
                  </a:lnTo>
                  <a:lnTo>
                    <a:pt x="2552" y="1093"/>
                  </a:lnTo>
                  <a:lnTo>
                    <a:pt x="2582" y="1068"/>
                  </a:lnTo>
                  <a:lnTo>
                    <a:pt x="2582" y="1043"/>
                  </a:lnTo>
                  <a:lnTo>
                    <a:pt x="2582" y="1014"/>
                  </a:lnTo>
                  <a:lnTo>
                    <a:pt x="2582" y="989"/>
                  </a:lnTo>
                  <a:lnTo>
                    <a:pt x="2582" y="959"/>
                  </a:lnTo>
                  <a:lnTo>
                    <a:pt x="2582" y="934"/>
                  </a:lnTo>
                  <a:lnTo>
                    <a:pt x="2582" y="910"/>
                  </a:lnTo>
                  <a:lnTo>
                    <a:pt x="2582" y="880"/>
                  </a:lnTo>
                  <a:lnTo>
                    <a:pt x="2582" y="855"/>
                  </a:lnTo>
                  <a:lnTo>
                    <a:pt x="2582" y="826"/>
                  </a:lnTo>
                  <a:lnTo>
                    <a:pt x="2582" y="801"/>
                  </a:lnTo>
                  <a:lnTo>
                    <a:pt x="2582" y="776"/>
                  </a:lnTo>
                  <a:lnTo>
                    <a:pt x="2582" y="747"/>
                  </a:lnTo>
                  <a:lnTo>
                    <a:pt x="2582" y="722"/>
                  </a:lnTo>
                  <a:lnTo>
                    <a:pt x="2582" y="692"/>
                  </a:lnTo>
                  <a:lnTo>
                    <a:pt x="2582" y="668"/>
                  </a:lnTo>
                  <a:lnTo>
                    <a:pt x="2582" y="643"/>
                  </a:lnTo>
                  <a:lnTo>
                    <a:pt x="2582" y="613"/>
                  </a:lnTo>
                  <a:lnTo>
                    <a:pt x="2582" y="589"/>
                  </a:lnTo>
                  <a:lnTo>
                    <a:pt x="2582" y="559"/>
                  </a:lnTo>
                  <a:lnTo>
                    <a:pt x="2582" y="534"/>
                  </a:lnTo>
                  <a:lnTo>
                    <a:pt x="2582" y="504"/>
                  </a:lnTo>
                  <a:lnTo>
                    <a:pt x="2582" y="480"/>
                  </a:lnTo>
                  <a:lnTo>
                    <a:pt x="2582" y="455"/>
                  </a:lnTo>
                  <a:lnTo>
                    <a:pt x="2582" y="425"/>
                  </a:lnTo>
                  <a:lnTo>
                    <a:pt x="2582" y="401"/>
                  </a:lnTo>
                  <a:lnTo>
                    <a:pt x="2582" y="371"/>
                  </a:lnTo>
                  <a:lnTo>
                    <a:pt x="2582" y="346"/>
                  </a:lnTo>
                  <a:lnTo>
                    <a:pt x="2582" y="322"/>
                  </a:lnTo>
                  <a:lnTo>
                    <a:pt x="2582" y="292"/>
                  </a:lnTo>
                  <a:lnTo>
                    <a:pt x="2582" y="267"/>
                  </a:lnTo>
                  <a:lnTo>
                    <a:pt x="2582" y="238"/>
                  </a:lnTo>
                  <a:lnTo>
                    <a:pt x="2552" y="213"/>
                  </a:lnTo>
                  <a:lnTo>
                    <a:pt x="2552" y="188"/>
                  </a:lnTo>
                  <a:lnTo>
                    <a:pt x="2552" y="159"/>
                  </a:lnTo>
                  <a:lnTo>
                    <a:pt x="2552" y="134"/>
                  </a:lnTo>
                  <a:lnTo>
                    <a:pt x="2552" y="104"/>
                  </a:lnTo>
                  <a:lnTo>
                    <a:pt x="2527" y="79"/>
                  </a:lnTo>
                  <a:lnTo>
                    <a:pt x="2503" y="79"/>
                  </a:lnTo>
                  <a:lnTo>
                    <a:pt x="2473" y="79"/>
                  </a:lnTo>
                  <a:lnTo>
                    <a:pt x="2448" y="55"/>
                  </a:lnTo>
                  <a:lnTo>
                    <a:pt x="2418" y="55"/>
                  </a:lnTo>
                  <a:lnTo>
                    <a:pt x="2394" y="55"/>
                  </a:lnTo>
                  <a:lnTo>
                    <a:pt x="2369" y="25"/>
                  </a:lnTo>
                  <a:lnTo>
                    <a:pt x="2339" y="25"/>
                  </a:lnTo>
                  <a:lnTo>
                    <a:pt x="2315" y="25"/>
                  </a:lnTo>
                  <a:lnTo>
                    <a:pt x="2285" y="0"/>
                  </a:lnTo>
                  <a:lnTo>
                    <a:pt x="2260" y="0"/>
                  </a:lnTo>
                  <a:lnTo>
                    <a:pt x="2235" y="0"/>
                  </a:lnTo>
                  <a:lnTo>
                    <a:pt x="2206" y="0"/>
                  </a:lnTo>
                  <a:lnTo>
                    <a:pt x="2181" y="0"/>
                  </a:lnTo>
                  <a:lnTo>
                    <a:pt x="2156" y="0"/>
                  </a:lnTo>
                  <a:lnTo>
                    <a:pt x="2127" y="0"/>
                  </a:lnTo>
                  <a:lnTo>
                    <a:pt x="2102" y="0"/>
                  </a:lnTo>
                  <a:lnTo>
                    <a:pt x="2072" y="0"/>
                  </a:lnTo>
                  <a:lnTo>
                    <a:pt x="2048" y="0"/>
                  </a:lnTo>
                  <a:lnTo>
                    <a:pt x="2023" y="0"/>
                  </a:lnTo>
                  <a:lnTo>
                    <a:pt x="1993" y="0"/>
                  </a:lnTo>
                  <a:lnTo>
                    <a:pt x="1968" y="0"/>
                  </a:lnTo>
                  <a:lnTo>
                    <a:pt x="1944" y="0"/>
                  </a:lnTo>
                  <a:lnTo>
                    <a:pt x="1914" y="0"/>
                  </a:lnTo>
                  <a:lnTo>
                    <a:pt x="1889" y="0"/>
                  </a:lnTo>
                  <a:lnTo>
                    <a:pt x="1860" y="0"/>
                  </a:lnTo>
                  <a:lnTo>
                    <a:pt x="1835" y="0"/>
                  </a:lnTo>
                  <a:lnTo>
                    <a:pt x="1810" y="0"/>
                  </a:lnTo>
                  <a:lnTo>
                    <a:pt x="1780" y="0"/>
                  </a:lnTo>
                  <a:lnTo>
                    <a:pt x="1756" y="0"/>
                  </a:lnTo>
                  <a:lnTo>
                    <a:pt x="1726" y="0"/>
                  </a:lnTo>
                  <a:lnTo>
                    <a:pt x="1701" y="0"/>
                  </a:lnTo>
                  <a:lnTo>
                    <a:pt x="1677" y="0"/>
                  </a:lnTo>
                  <a:lnTo>
                    <a:pt x="1647" y="0"/>
                  </a:lnTo>
                  <a:lnTo>
                    <a:pt x="1622" y="0"/>
                  </a:lnTo>
                  <a:lnTo>
                    <a:pt x="1598" y="0"/>
                  </a:lnTo>
                  <a:lnTo>
                    <a:pt x="1568" y="0"/>
                  </a:lnTo>
                  <a:lnTo>
                    <a:pt x="1543" y="0"/>
                  </a:lnTo>
                  <a:lnTo>
                    <a:pt x="1513" y="0"/>
                  </a:lnTo>
                  <a:lnTo>
                    <a:pt x="1489" y="0"/>
                  </a:lnTo>
                  <a:lnTo>
                    <a:pt x="1464" y="0"/>
                  </a:lnTo>
                  <a:lnTo>
                    <a:pt x="1434" y="0"/>
                  </a:lnTo>
                  <a:lnTo>
                    <a:pt x="1410" y="0"/>
                  </a:lnTo>
                  <a:lnTo>
                    <a:pt x="1385" y="0"/>
                  </a:lnTo>
                  <a:lnTo>
                    <a:pt x="1355" y="0"/>
                  </a:lnTo>
                  <a:lnTo>
                    <a:pt x="1330" y="0"/>
                  </a:lnTo>
                  <a:lnTo>
                    <a:pt x="1301" y="0"/>
                  </a:lnTo>
                  <a:lnTo>
                    <a:pt x="1276" y="0"/>
                  </a:lnTo>
                  <a:lnTo>
                    <a:pt x="1251" y="0"/>
                  </a:lnTo>
                  <a:lnTo>
                    <a:pt x="1222" y="0"/>
                  </a:lnTo>
                  <a:lnTo>
                    <a:pt x="1197" y="0"/>
                  </a:lnTo>
                  <a:lnTo>
                    <a:pt x="1172" y="0"/>
                  </a:lnTo>
                  <a:lnTo>
                    <a:pt x="1143" y="0"/>
                  </a:lnTo>
                  <a:lnTo>
                    <a:pt x="1118" y="0"/>
                  </a:lnTo>
                  <a:lnTo>
                    <a:pt x="1088" y="0"/>
                  </a:lnTo>
                  <a:lnTo>
                    <a:pt x="1063" y="0"/>
                  </a:lnTo>
                  <a:lnTo>
                    <a:pt x="1039" y="0"/>
                  </a:lnTo>
                  <a:lnTo>
                    <a:pt x="1009" y="0"/>
                  </a:lnTo>
                  <a:lnTo>
                    <a:pt x="984" y="0"/>
                  </a:lnTo>
                  <a:lnTo>
                    <a:pt x="955" y="0"/>
                  </a:lnTo>
                  <a:lnTo>
                    <a:pt x="930" y="0"/>
                  </a:lnTo>
                  <a:lnTo>
                    <a:pt x="905" y="0"/>
                  </a:lnTo>
                  <a:lnTo>
                    <a:pt x="875" y="0"/>
                  </a:lnTo>
                  <a:lnTo>
                    <a:pt x="851" y="0"/>
                  </a:lnTo>
                  <a:lnTo>
                    <a:pt x="826" y="0"/>
                  </a:lnTo>
                  <a:lnTo>
                    <a:pt x="796" y="0"/>
                  </a:lnTo>
                  <a:lnTo>
                    <a:pt x="772" y="0"/>
                  </a:lnTo>
                  <a:lnTo>
                    <a:pt x="742" y="0"/>
                  </a:lnTo>
                  <a:lnTo>
                    <a:pt x="717" y="0"/>
                  </a:lnTo>
                  <a:lnTo>
                    <a:pt x="692" y="0"/>
                  </a:lnTo>
                  <a:lnTo>
                    <a:pt x="663" y="0"/>
                  </a:lnTo>
                  <a:lnTo>
                    <a:pt x="638" y="0"/>
                  </a:lnTo>
                  <a:lnTo>
                    <a:pt x="613" y="0"/>
                  </a:lnTo>
                  <a:lnTo>
                    <a:pt x="584" y="25"/>
                  </a:lnTo>
                  <a:lnTo>
                    <a:pt x="559" y="55"/>
                  </a:lnTo>
                  <a:lnTo>
                    <a:pt x="529" y="79"/>
                  </a:lnTo>
                  <a:lnTo>
                    <a:pt x="505" y="104"/>
                  </a:lnTo>
                  <a:lnTo>
                    <a:pt x="480" y="134"/>
                  </a:lnTo>
                  <a:lnTo>
                    <a:pt x="450" y="134"/>
                  </a:lnTo>
                  <a:lnTo>
                    <a:pt x="425" y="159"/>
                  </a:lnTo>
                  <a:lnTo>
                    <a:pt x="396" y="188"/>
                  </a:lnTo>
                  <a:lnTo>
                    <a:pt x="371" y="213"/>
                  </a:lnTo>
                  <a:lnTo>
                    <a:pt x="346" y="238"/>
                  </a:lnTo>
                  <a:lnTo>
                    <a:pt x="317" y="267"/>
                  </a:lnTo>
                  <a:lnTo>
                    <a:pt x="292" y="292"/>
                  </a:lnTo>
                  <a:lnTo>
                    <a:pt x="267" y="322"/>
                  </a:lnTo>
                  <a:lnTo>
                    <a:pt x="237" y="322"/>
                  </a:lnTo>
                  <a:lnTo>
                    <a:pt x="213" y="346"/>
                  </a:lnTo>
                  <a:lnTo>
                    <a:pt x="183" y="371"/>
                  </a:lnTo>
                  <a:lnTo>
                    <a:pt x="158" y="401"/>
                  </a:lnTo>
                  <a:lnTo>
                    <a:pt x="134" y="425"/>
                  </a:lnTo>
                  <a:lnTo>
                    <a:pt x="104" y="455"/>
                  </a:lnTo>
                  <a:lnTo>
                    <a:pt x="79" y="480"/>
                  </a:lnTo>
                  <a:lnTo>
                    <a:pt x="55" y="504"/>
                  </a:lnTo>
                  <a:lnTo>
                    <a:pt x="25" y="504"/>
                  </a:lnTo>
                  <a:lnTo>
                    <a:pt x="0" y="534"/>
                  </a:lnTo>
                  <a:lnTo>
                    <a:pt x="0" y="559"/>
                  </a:lnTo>
                  <a:lnTo>
                    <a:pt x="0" y="589"/>
                  </a:lnTo>
                  <a:lnTo>
                    <a:pt x="0" y="613"/>
                  </a:lnTo>
                  <a:lnTo>
                    <a:pt x="25" y="643"/>
                  </a:lnTo>
                  <a:lnTo>
                    <a:pt x="25" y="668"/>
                  </a:lnTo>
                  <a:lnTo>
                    <a:pt x="55" y="692"/>
                  </a:lnTo>
                  <a:lnTo>
                    <a:pt x="79" y="722"/>
                  </a:lnTo>
                  <a:lnTo>
                    <a:pt x="104" y="747"/>
                  </a:lnTo>
                  <a:lnTo>
                    <a:pt x="134" y="776"/>
                  </a:lnTo>
                  <a:lnTo>
                    <a:pt x="134" y="801"/>
                  </a:lnTo>
                  <a:lnTo>
                    <a:pt x="158" y="826"/>
                  </a:lnTo>
                  <a:lnTo>
                    <a:pt x="183" y="855"/>
                  </a:lnTo>
                  <a:lnTo>
                    <a:pt x="213" y="880"/>
                  </a:lnTo>
                  <a:lnTo>
                    <a:pt x="237" y="910"/>
                  </a:lnTo>
                  <a:lnTo>
                    <a:pt x="267" y="934"/>
                  </a:lnTo>
                  <a:lnTo>
                    <a:pt x="292" y="959"/>
                  </a:lnTo>
                  <a:lnTo>
                    <a:pt x="292" y="989"/>
                  </a:lnTo>
                  <a:lnTo>
                    <a:pt x="317" y="1014"/>
                  </a:lnTo>
                  <a:lnTo>
                    <a:pt x="346" y="1043"/>
                  </a:lnTo>
                  <a:lnTo>
                    <a:pt x="371" y="1068"/>
                  </a:lnTo>
                  <a:lnTo>
                    <a:pt x="396" y="1093"/>
                  </a:lnTo>
                  <a:lnTo>
                    <a:pt x="425" y="1122"/>
                  </a:lnTo>
                  <a:lnTo>
                    <a:pt x="450" y="1147"/>
                  </a:lnTo>
                  <a:lnTo>
                    <a:pt x="480" y="1177"/>
                  </a:lnTo>
                  <a:lnTo>
                    <a:pt x="505" y="1201"/>
                  </a:lnTo>
                  <a:lnTo>
                    <a:pt x="529" y="1226"/>
                  </a:lnTo>
                  <a:lnTo>
                    <a:pt x="559" y="1256"/>
                  </a:lnTo>
                  <a:lnTo>
                    <a:pt x="584" y="1280"/>
                  </a:lnTo>
                  <a:lnTo>
                    <a:pt x="613" y="1310"/>
                  </a:lnTo>
                  <a:lnTo>
                    <a:pt x="638" y="1335"/>
                  </a:lnTo>
                  <a:lnTo>
                    <a:pt x="663" y="1364"/>
                  </a:lnTo>
                  <a:lnTo>
                    <a:pt x="692" y="1389"/>
                  </a:lnTo>
                  <a:lnTo>
                    <a:pt x="717" y="1414"/>
                  </a:lnTo>
                  <a:lnTo>
                    <a:pt x="742" y="1444"/>
                  </a:lnTo>
                  <a:lnTo>
                    <a:pt x="772" y="1468"/>
                  </a:lnTo>
                  <a:lnTo>
                    <a:pt x="796" y="1468"/>
                  </a:lnTo>
                  <a:lnTo>
                    <a:pt x="826" y="1498"/>
                  </a:lnTo>
                  <a:lnTo>
                    <a:pt x="851" y="1523"/>
                  </a:lnTo>
                  <a:lnTo>
                    <a:pt x="875" y="1547"/>
                  </a:lnTo>
                  <a:lnTo>
                    <a:pt x="905" y="1577"/>
                  </a:lnTo>
                  <a:lnTo>
                    <a:pt x="930" y="1602"/>
                  </a:lnTo>
                  <a:lnTo>
                    <a:pt x="955" y="1631"/>
                  </a:lnTo>
                  <a:lnTo>
                    <a:pt x="984" y="1656"/>
                  </a:lnTo>
                  <a:lnTo>
                    <a:pt x="1009" y="1656"/>
                  </a:lnTo>
                  <a:lnTo>
                    <a:pt x="1039" y="1656"/>
                  </a:lnTo>
                  <a:lnTo>
                    <a:pt x="1063" y="1656"/>
                  </a:lnTo>
                  <a:lnTo>
                    <a:pt x="1088" y="1656"/>
                  </a:lnTo>
                  <a:lnTo>
                    <a:pt x="1118" y="1656"/>
                  </a:lnTo>
                  <a:lnTo>
                    <a:pt x="1143" y="1656"/>
                  </a:lnTo>
                  <a:lnTo>
                    <a:pt x="1172" y="1656"/>
                  </a:lnTo>
                  <a:lnTo>
                    <a:pt x="1197" y="1656"/>
                  </a:lnTo>
                  <a:lnTo>
                    <a:pt x="1222" y="1656"/>
                  </a:lnTo>
                  <a:lnTo>
                    <a:pt x="1251" y="1656"/>
                  </a:lnTo>
                  <a:lnTo>
                    <a:pt x="1276" y="1656"/>
                  </a:lnTo>
                  <a:lnTo>
                    <a:pt x="1301" y="1656"/>
                  </a:lnTo>
                  <a:lnTo>
                    <a:pt x="1330" y="1656"/>
                  </a:lnTo>
                  <a:lnTo>
                    <a:pt x="1355" y="1656"/>
                  </a:lnTo>
                  <a:lnTo>
                    <a:pt x="1385" y="1656"/>
                  </a:lnTo>
                  <a:lnTo>
                    <a:pt x="1410" y="1656"/>
                  </a:lnTo>
                  <a:lnTo>
                    <a:pt x="1434" y="1656"/>
                  </a:lnTo>
                  <a:lnTo>
                    <a:pt x="1464" y="1656"/>
                  </a:lnTo>
                  <a:lnTo>
                    <a:pt x="1489" y="1656"/>
                  </a:lnTo>
                  <a:lnTo>
                    <a:pt x="1513" y="1656"/>
                  </a:lnTo>
                  <a:lnTo>
                    <a:pt x="1543" y="1656"/>
                  </a:lnTo>
                  <a:lnTo>
                    <a:pt x="1568" y="1656"/>
                  </a:lnTo>
                  <a:lnTo>
                    <a:pt x="1598" y="1656"/>
                  </a:lnTo>
                  <a:lnTo>
                    <a:pt x="1622" y="1656"/>
                  </a:lnTo>
                  <a:lnTo>
                    <a:pt x="1647" y="1656"/>
                  </a:lnTo>
                  <a:lnTo>
                    <a:pt x="1677" y="1656"/>
                  </a:lnTo>
                  <a:lnTo>
                    <a:pt x="1701" y="1656"/>
                  </a:lnTo>
                  <a:lnTo>
                    <a:pt x="1726" y="1656"/>
                  </a:lnTo>
                  <a:lnTo>
                    <a:pt x="1756" y="1656"/>
                  </a:lnTo>
                  <a:lnTo>
                    <a:pt x="1780" y="1656"/>
                  </a:lnTo>
                  <a:lnTo>
                    <a:pt x="1810" y="1656"/>
                  </a:lnTo>
                  <a:lnTo>
                    <a:pt x="1835" y="1656"/>
                  </a:lnTo>
                  <a:lnTo>
                    <a:pt x="1860" y="1656"/>
                  </a:lnTo>
                  <a:lnTo>
                    <a:pt x="1889" y="1656"/>
                  </a:lnTo>
                  <a:lnTo>
                    <a:pt x="1914" y="1656"/>
                  </a:lnTo>
                  <a:lnTo>
                    <a:pt x="1944" y="1656"/>
                  </a:lnTo>
                  <a:lnTo>
                    <a:pt x="1968" y="1656"/>
                  </a:lnTo>
                  <a:lnTo>
                    <a:pt x="1993" y="1656"/>
                  </a:lnTo>
                  <a:lnTo>
                    <a:pt x="2023" y="1656"/>
                  </a:lnTo>
                  <a:lnTo>
                    <a:pt x="2048" y="1656"/>
                  </a:lnTo>
                  <a:lnTo>
                    <a:pt x="2072" y="1656"/>
                  </a:lnTo>
                  <a:lnTo>
                    <a:pt x="2102" y="1656"/>
                  </a:lnTo>
                  <a:lnTo>
                    <a:pt x="2127" y="1656"/>
                  </a:lnTo>
                  <a:lnTo>
                    <a:pt x="2156" y="1656"/>
                  </a:lnTo>
                  <a:lnTo>
                    <a:pt x="2181" y="1656"/>
                  </a:lnTo>
                  <a:lnTo>
                    <a:pt x="2206" y="1656"/>
                  </a:lnTo>
                  <a:lnTo>
                    <a:pt x="2235" y="1656"/>
                  </a:lnTo>
                  <a:close/>
                  <a:moveTo>
                    <a:pt x="1390" y="292"/>
                  </a:moveTo>
                  <a:lnTo>
                    <a:pt x="1400" y="292"/>
                  </a:lnTo>
                  <a:lnTo>
                    <a:pt x="1405" y="292"/>
                  </a:lnTo>
                  <a:lnTo>
                    <a:pt x="1410" y="292"/>
                  </a:lnTo>
                  <a:lnTo>
                    <a:pt x="1415" y="287"/>
                  </a:lnTo>
                  <a:lnTo>
                    <a:pt x="1419" y="282"/>
                  </a:lnTo>
                  <a:lnTo>
                    <a:pt x="1424" y="277"/>
                  </a:lnTo>
                  <a:lnTo>
                    <a:pt x="1424" y="272"/>
                  </a:lnTo>
                  <a:lnTo>
                    <a:pt x="1429" y="267"/>
                  </a:lnTo>
                  <a:lnTo>
                    <a:pt x="1429" y="262"/>
                  </a:lnTo>
                  <a:lnTo>
                    <a:pt x="1434" y="257"/>
                  </a:lnTo>
                  <a:lnTo>
                    <a:pt x="1434" y="257"/>
                  </a:lnTo>
                  <a:lnTo>
                    <a:pt x="1444" y="252"/>
                  </a:lnTo>
                  <a:lnTo>
                    <a:pt x="1449" y="252"/>
                  </a:lnTo>
                  <a:lnTo>
                    <a:pt x="1459" y="257"/>
                  </a:lnTo>
                  <a:lnTo>
                    <a:pt x="1464" y="257"/>
                  </a:lnTo>
                  <a:lnTo>
                    <a:pt x="1474" y="262"/>
                  </a:lnTo>
                  <a:lnTo>
                    <a:pt x="1474" y="262"/>
                  </a:lnTo>
                  <a:lnTo>
                    <a:pt x="1474" y="267"/>
                  </a:lnTo>
                  <a:lnTo>
                    <a:pt x="1469" y="272"/>
                  </a:lnTo>
                  <a:lnTo>
                    <a:pt x="1464" y="272"/>
                  </a:lnTo>
                  <a:lnTo>
                    <a:pt x="1454" y="277"/>
                  </a:lnTo>
                  <a:lnTo>
                    <a:pt x="1449" y="277"/>
                  </a:lnTo>
                  <a:lnTo>
                    <a:pt x="1439" y="277"/>
                  </a:lnTo>
                  <a:lnTo>
                    <a:pt x="1434" y="277"/>
                  </a:lnTo>
                  <a:lnTo>
                    <a:pt x="1429" y="277"/>
                  </a:lnTo>
                  <a:lnTo>
                    <a:pt x="1424" y="282"/>
                  </a:lnTo>
                  <a:lnTo>
                    <a:pt x="1419" y="287"/>
                  </a:lnTo>
                  <a:lnTo>
                    <a:pt x="1415" y="292"/>
                  </a:lnTo>
                  <a:lnTo>
                    <a:pt x="1410" y="297"/>
                  </a:lnTo>
                  <a:lnTo>
                    <a:pt x="1405" y="297"/>
                  </a:lnTo>
                  <a:lnTo>
                    <a:pt x="1400" y="297"/>
                  </a:lnTo>
                  <a:lnTo>
                    <a:pt x="1390" y="292"/>
                  </a:lnTo>
                  <a:close/>
                  <a:moveTo>
                    <a:pt x="1672" y="267"/>
                  </a:moveTo>
                  <a:lnTo>
                    <a:pt x="1667" y="262"/>
                  </a:lnTo>
                  <a:lnTo>
                    <a:pt x="1657" y="257"/>
                  </a:lnTo>
                  <a:lnTo>
                    <a:pt x="1652" y="257"/>
                  </a:lnTo>
                  <a:lnTo>
                    <a:pt x="1647" y="252"/>
                  </a:lnTo>
                  <a:lnTo>
                    <a:pt x="1642" y="247"/>
                  </a:lnTo>
                  <a:lnTo>
                    <a:pt x="1637" y="243"/>
                  </a:lnTo>
                  <a:lnTo>
                    <a:pt x="1637" y="238"/>
                  </a:lnTo>
                  <a:lnTo>
                    <a:pt x="1632" y="233"/>
                  </a:lnTo>
                  <a:lnTo>
                    <a:pt x="1627" y="228"/>
                  </a:lnTo>
                  <a:lnTo>
                    <a:pt x="1622" y="223"/>
                  </a:lnTo>
                  <a:lnTo>
                    <a:pt x="1617" y="223"/>
                  </a:lnTo>
                  <a:lnTo>
                    <a:pt x="1607" y="228"/>
                  </a:lnTo>
                  <a:lnTo>
                    <a:pt x="1598" y="228"/>
                  </a:lnTo>
                  <a:lnTo>
                    <a:pt x="1593" y="228"/>
                  </a:lnTo>
                  <a:lnTo>
                    <a:pt x="1583" y="223"/>
                  </a:lnTo>
                  <a:lnTo>
                    <a:pt x="1573" y="223"/>
                  </a:lnTo>
                  <a:lnTo>
                    <a:pt x="1568" y="218"/>
                  </a:lnTo>
                  <a:lnTo>
                    <a:pt x="1563" y="223"/>
                  </a:lnTo>
                  <a:lnTo>
                    <a:pt x="1563" y="228"/>
                  </a:lnTo>
                  <a:lnTo>
                    <a:pt x="1558" y="233"/>
                  </a:lnTo>
                  <a:lnTo>
                    <a:pt x="1553" y="238"/>
                  </a:lnTo>
                  <a:lnTo>
                    <a:pt x="1548" y="243"/>
                  </a:lnTo>
                  <a:lnTo>
                    <a:pt x="1543" y="247"/>
                  </a:lnTo>
                  <a:lnTo>
                    <a:pt x="1533" y="247"/>
                  </a:lnTo>
                  <a:lnTo>
                    <a:pt x="1528" y="252"/>
                  </a:lnTo>
                  <a:lnTo>
                    <a:pt x="1518" y="252"/>
                  </a:lnTo>
                  <a:lnTo>
                    <a:pt x="1513" y="252"/>
                  </a:lnTo>
                  <a:lnTo>
                    <a:pt x="1504" y="247"/>
                  </a:lnTo>
                  <a:lnTo>
                    <a:pt x="1499" y="243"/>
                  </a:lnTo>
                  <a:lnTo>
                    <a:pt x="1499" y="238"/>
                  </a:lnTo>
                  <a:lnTo>
                    <a:pt x="1499" y="233"/>
                  </a:lnTo>
                  <a:lnTo>
                    <a:pt x="1504" y="228"/>
                  </a:lnTo>
                  <a:lnTo>
                    <a:pt x="1513" y="223"/>
                  </a:lnTo>
                  <a:lnTo>
                    <a:pt x="1518" y="223"/>
                  </a:lnTo>
                  <a:lnTo>
                    <a:pt x="1528" y="228"/>
                  </a:lnTo>
                  <a:lnTo>
                    <a:pt x="1533" y="228"/>
                  </a:lnTo>
                  <a:lnTo>
                    <a:pt x="1543" y="228"/>
                  </a:lnTo>
                  <a:lnTo>
                    <a:pt x="1548" y="228"/>
                  </a:lnTo>
                  <a:lnTo>
                    <a:pt x="1553" y="223"/>
                  </a:lnTo>
                  <a:lnTo>
                    <a:pt x="1558" y="218"/>
                  </a:lnTo>
                  <a:lnTo>
                    <a:pt x="1563" y="213"/>
                  </a:lnTo>
                  <a:lnTo>
                    <a:pt x="1563" y="208"/>
                  </a:lnTo>
                  <a:lnTo>
                    <a:pt x="1568" y="203"/>
                  </a:lnTo>
                  <a:lnTo>
                    <a:pt x="1573" y="198"/>
                  </a:lnTo>
                  <a:lnTo>
                    <a:pt x="1578" y="198"/>
                  </a:lnTo>
                  <a:lnTo>
                    <a:pt x="1588" y="198"/>
                  </a:lnTo>
                  <a:lnTo>
                    <a:pt x="1598" y="193"/>
                  </a:lnTo>
                  <a:lnTo>
                    <a:pt x="1607" y="193"/>
                  </a:lnTo>
                  <a:lnTo>
                    <a:pt x="1612" y="193"/>
                  </a:lnTo>
                  <a:lnTo>
                    <a:pt x="1622" y="198"/>
                  </a:lnTo>
                  <a:lnTo>
                    <a:pt x="1627" y="198"/>
                  </a:lnTo>
                  <a:lnTo>
                    <a:pt x="1632" y="203"/>
                  </a:lnTo>
                  <a:lnTo>
                    <a:pt x="1632" y="208"/>
                  </a:lnTo>
                  <a:lnTo>
                    <a:pt x="1637" y="213"/>
                  </a:lnTo>
                  <a:lnTo>
                    <a:pt x="1642" y="218"/>
                  </a:lnTo>
                  <a:lnTo>
                    <a:pt x="1647" y="223"/>
                  </a:lnTo>
                  <a:lnTo>
                    <a:pt x="1652" y="228"/>
                  </a:lnTo>
                  <a:lnTo>
                    <a:pt x="1657" y="233"/>
                  </a:lnTo>
                  <a:lnTo>
                    <a:pt x="1662" y="238"/>
                  </a:lnTo>
                  <a:lnTo>
                    <a:pt x="1667" y="238"/>
                  </a:lnTo>
                  <a:lnTo>
                    <a:pt x="1667" y="243"/>
                  </a:lnTo>
                  <a:lnTo>
                    <a:pt x="1667" y="247"/>
                  </a:lnTo>
                  <a:lnTo>
                    <a:pt x="1672" y="252"/>
                  </a:lnTo>
                  <a:lnTo>
                    <a:pt x="1677" y="257"/>
                  </a:lnTo>
                  <a:lnTo>
                    <a:pt x="1682" y="262"/>
                  </a:lnTo>
                  <a:lnTo>
                    <a:pt x="1682" y="267"/>
                  </a:lnTo>
                  <a:lnTo>
                    <a:pt x="1677" y="272"/>
                  </a:lnTo>
                  <a:lnTo>
                    <a:pt x="1672" y="267"/>
                  </a:lnTo>
                  <a:close/>
                  <a:moveTo>
                    <a:pt x="1963" y="238"/>
                  </a:moveTo>
                  <a:lnTo>
                    <a:pt x="1959" y="238"/>
                  </a:lnTo>
                  <a:lnTo>
                    <a:pt x="1954" y="233"/>
                  </a:lnTo>
                  <a:lnTo>
                    <a:pt x="1949" y="228"/>
                  </a:lnTo>
                  <a:lnTo>
                    <a:pt x="1944" y="223"/>
                  </a:lnTo>
                  <a:lnTo>
                    <a:pt x="1934" y="223"/>
                  </a:lnTo>
                  <a:lnTo>
                    <a:pt x="1929" y="218"/>
                  </a:lnTo>
                  <a:lnTo>
                    <a:pt x="1924" y="213"/>
                  </a:lnTo>
                  <a:lnTo>
                    <a:pt x="1919" y="213"/>
                  </a:lnTo>
                  <a:lnTo>
                    <a:pt x="1914" y="208"/>
                  </a:lnTo>
                  <a:lnTo>
                    <a:pt x="1909" y="203"/>
                  </a:lnTo>
                  <a:lnTo>
                    <a:pt x="1899" y="203"/>
                  </a:lnTo>
                  <a:lnTo>
                    <a:pt x="1889" y="203"/>
                  </a:lnTo>
                  <a:lnTo>
                    <a:pt x="1884" y="203"/>
                  </a:lnTo>
                  <a:lnTo>
                    <a:pt x="1879" y="203"/>
                  </a:lnTo>
                  <a:lnTo>
                    <a:pt x="1874" y="208"/>
                  </a:lnTo>
                  <a:lnTo>
                    <a:pt x="1870" y="213"/>
                  </a:lnTo>
                  <a:lnTo>
                    <a:pt x="1865" y="223"/>
                  </a:lnTo>
                  <a:lnTo>
                    <a:pt x="1860" y="223"/>
                  </a:lnTo>
                  <a:lnTo>
                    <a:pt x="1855" y="218"/>
                  </a:lnTo>
                  <a:lnTo>
                    <a:pt x="1850" y="213"/>
                  </a:lnTo>
                  <a:lnTo>
                    <a:pt x="1850" y="208"/>
                  </a:lnTo>
                  <a:lnTo>
                    <a:pt x="1855" y="203"/>
                  </a:lnTo>
                  <a:lnTo>
                    <a:pt x="1865" y="203"/>
                  </a:lnTo>
                  <a:lnTo>
                    <a:pt x="1870" y="198"/>
                  </a:lnTo>
                  <a:lnTo>
                    <a:pt x="1870" y="193"/>
                  </a:lnTo>
                  <a:lnTo>
                    <a:pt x="1870" y="188"/>
                  </a:lnTo>
                  <a:lnTo>
                    <a:pt x="1865" y="183"/>
                  </a:lnTo>
                  <a:lnTo>
                    <a:pt x="1860" y="178"/>
                  </a:lnTo>
                  <a:lnTo>
                    <a:pt x="1855" y="178"/>
                  </a:lnTo>
                  <a:lnTo>
                    <a:pt x="1845" y="178"/>
                  </a:lnTo>
                  <a:lnTo>
                    <a:pt x="1835" y="178"/>
                  </a:lnTo>
                  <a:lnTo>
                    <a:pt x="1830" y="173"/>
                  </a:lnTo>
                  <a:lnTo>
                    <a:pt x="1825" y="173"/>
                  </a:lnTo>
                  <a:lnTo>
                    <a:pt x="1820" y="168"/>
                  </a:lnTo>
                  <a:lnTo>
                    <a:pt x="1815" y="163"/>
                  </a:lnTo>
                  <a:lnTo>
                    <a:pt x="1810" y="159"/>
                  </a:lnTo>
                  <a:lnTo>
                    <a:pt x="1805" y="154"/>
                  </a:lnTo>
                  <a:lnTo>
                    <a:pt x="1800" y="154"/>
                  </a:lnTo>
                  <a:lnTo>
                    <a:pt x="1790" y="154"/>
                  </a:lnTo>
                  <a:lnTo>
                    <a:pt x="1780" y="154"/>
                  </a:lnTo>
                  <a:lnTo>
                    <a:pt x="1776" y="149"/>
                  </a:lnTo>
                  <a:lnTo>
                    <a:pt x="1771" y="149"/>
                  </a:lnTo>
                  <a:lnTo>
                    <a:pt x="1766" y="144"/>
                  </a:lnTo>
                  <a:lnTo>
                    <a:pt x="1761" y="139"/>
                  </a:lnTo>
                  <a:lnTo>
                    <a:pt x="1761" y="134"/>
                  </a:lnTo>
                  <a:lnTo>
                    <a:pt x="1756" y="129"/>
                  </a:lnTo>
                  <a:lnTo>
                    <a:pt x="1746" y="124"/>
                  </a:lnTo>
                  <a:lnTo>
                    <a:pt x="1736" y="124"/>
                  </a:lnTo>
                  <a:lnTo>
                    <a:pt x="1731" y="124"/>
                  </a:lnTo>
                  <a:lnTo>
                    <a:pt x="1721" y="124"/>
                  </a:lnTo>
                  <a:lnTo>
                    <a:pt x="1716" y="119"/>
                  </a:lnTo>
                  <a:lnTo>
                    <a:pt x="1716" y="114"/>
                  </a:lnTo>
                  <a:lnTo>
                    <a:pt x="1711" y="109"/>
                  </a:lnTo>
                  <a:lnTo>
                    <a:pt x="1706" y="104"/>
                  </a:lnTo>
                  <a:lnTo>
                    <a:pt x="1701" y="99"/>
                  </a:lnTo>
                  <a:lnTo>
                    <a:pt x="1691" y="99"/>
                  </a:lnTo>
                  <a:lnTo>
                    <a:pt x="1687" y="99"/>
                  </a:lnTo>
                  <a:lnTo>
                    <a:pt x="1677" y="99"/>
                  </a:lnTo>
                  <a:lnTo>
                    <a:pt x="1672" y="94"/>
                  </a:lnTo>
                  <a:lnTo>
                    <a:pt x="1667" y="89"/>
                  </a:lnTo>
                  <a:lnTo>
                    <a:pt x="1662" y="84"/>
                  </a:lnTo>
                  <a:lnTo>
                    <a:pt x="1657" y="79"/>
                  </a:lnTo>
                  <a:lnTo>
                    <a:pt x="1652" y="79"/>
                  </a:lnTo>
                  <a:lnTo>
                    <a:pt x="1647" y="74"/>
                  </a:lnTo>
                  <a:lnTo>
                    <a:pt x="1637" y="74"/>
                  </a:lnTo>
                  <a:lnTo>
                    <a:pt x="1632" y="74"/>
                  </a:lnTo>
                  <a:lnTo>
                    <a:pt x="1622" y="74"/>
                  </a:lnTo>
                  <a:lnTo>
                    <a:pt x="1612" y="70"/>
                  </a:lnTo>
                  <a:lnTo>
                    <a:pt x="1607" y="70"/>
                  </a:lnTo>
                  <a:lnTo>
                    <a:pt x="1602" y="65"/>
                  </a:lnTo>
                  <a:lnTo>
                    <a:pt x="1598" y="60"/>
                  </a:lnTo>
                  <a:lnTo>
                    <a:pt x="1598" y="55"/>
                  </a:lnTo>
                  <a:lnTo>
                    <a:pt x="1602" y="50"/>
                  </a:lnTo>
                  <a:lnTo>
                    <a:pt x="1607" y="45"/>
                  </a:lnTo>
                  <a:lnTo>
                    <a:pt x="1612" y="40"/>
                  </a:lnTo>
                  <a:lnTo>
                    <a:pt x="1622" y="35"/>
                  </a:lnTo>
                  <a:lnTo>
                    <a:pt x="1627" y="35"/>
                  </a:lnTo>
                  <a:lnTo>
                    <a:pt x="1637" y="35"/>
                  </a:lnTo>
                  <a:lnTo>
                    <a:pt x="1642" y="35"/>
                  </a:lnTo>
                  <a:lnTo>
                    <a:pt x="1652" y="35"/>
                  </a:lnTo>
                  <a:lnTo>
                    <a:pt x="1657" y="35"/>
                  </a:lnTo>
                  <a:lnTo>
                    <a:pt x="1667" y="35"/>
                  </a:lnTo>
                  <a:lnTo>
                    <a:pt x="1672" y="40"/>
                  </a:lnTo>
                  <a:lnTo>
                    <a:pt x="1682" y="40"/>
                  </a:lnTo>
                  <a:lnTo>
                    <a:pt x="1687" y="45"/>
                  </a:lnTo>
                  <a:lnTo>
                    <a:pt x="1691" y="50"/>
                  </a:lnTo>
                  <a:lnTo>
                    <a:pt x="1696" y="55"/>
                  </a:lnTo>
                  <a:lnTo>
                    <a:pt x="1701" y="55"/>
                  </a:lnTo>
                  <a:lnTo>
                    <a:pt x="1711" y="60"/>
                  </a:lnTo>
                  <a:lnTo>
                    <a:pt x="1716" y="60"/>
                  </a:lnTo>
                  <a:lnTo>
                    <a:pt x="1726" y="60"/>
                  </a:lnTo>
                  <a:lnTo>
                    <a:pt x="1736" y="60"/>
                  </a:lnTo>
                  <a:lnTo>
                    <a:pt x="1741" y="60"/>
                  </a:lnTo>
                  <a:lnTo>
                    <a:pt x="1751" y="60"/>
                  </a:lnTo>
                  <a:lnTo>
                    <a:pt x="1756" y="60"/>
                  </a:lnTo>
                  <a:lnTo>
                    <a:pt x="1766" y="60"/>
                  </a:lnTo>
                  <a:lnTo>
                    <a:pt x="1776" y="65"/>
                  </a:lnTo>
                  <a:lnTo>
                    <a:pt x="1780" y="65"/>
                  </a:lnTo>
                  <a:lnTo>
                    <a:pt x="1785" y="70"/>
                  </a:lnTo>
                  <a:lnTo>
                    <a:pt x="1790" y="74"/>
                  </a:lnTo>
                  <a:lnTo>
                    <a:pt x="1795" y="79"/>
                  </a:lnTo>
                  <a:lnTo>
                    <a:pt x="1800" y="79"/>
                  </a:lnTo>
                  <a:lnTo>
                    <a:pt x="1805" y="84"/>
                  </a:lnTo>
                  <a:lnTo>
                    <a:pt x="1815" y="84"/>
                  </a:lnTo>
                  <a:lnTo>
                    <a:pt x="1825" y="89"/>
                  </a:lnTo>
                  <a:lnTo>
                    <a:pt x="1830" y="89"/>
                  </a:lnTo>
                  <a:lnTo>
                    <a:pt x="1840" y="89"/>
                  </a:lnTo>
                  <a:lnTo>
                    <a:pt x="1845" y="89"/>
                  </a:lnTo>
                  <a:lnTo>
                    <a:pt x="1855" y="89"/>
                  </a:lnTo>
                  <a:lnTo>
                    <a:pt x="1865" y="89"/>
                  </a:lnTo>
                  <a:lnTo>
                    <a:pt x="1870" y="89"/>
                  </a:lnTo>
                  <a:lnTo>
                    <a:pt x="1879" y="89"/>
                  </a:lnTo>
                  <a:lnTo>
                    <a:pt x="1884" y="94"/>
                  </a:lnTo>
                  <a:lnTo>
                    <a:pt x="1894" y="94"/>
                  </a:lnTo>
                  <a:lnTo>
                    <a:pt x="1899" y="99"/>
                  </a:lnTo>
                  <a:lnTo>
                    <a:pt x="1899" y="104"/>
                  </a:lnTo>
                  <a:lnTo>
                    <a:pt x="1904" y="109"/>
                  </a:lnTo>
                  <a:lnTo>
                    <a:pt x="1909" y="114"/>
                  </a:lnTo>
                  <a:lnTo>
                    <a:pt x="1919" y="114"/>
                  </a:lnTo>
                  <a:lnTo>
                    <a:pt x="1924" y="119"/>
                  </a:lnTo>
                  <a:lnTo>
                    <a:pt x="1934" y="119"/>
                  </a:lnTo>
                  <a:lnTo>
                    <a:pt x="1939" y="119"/>
                  </a:lnTo>
                  <a:lnTo>
                    <a:pt x="1949" y="119"/>
                  </a:lnTo>
                  <a:lnTo>
                    <a:pt x="1959" y="119"/>
                  </a:lnTo>
                  <a:lnTo>
                    <a:pt x="1963" y="119"/>
                  </a:lnTo>
                  <a:lnTo>
                    <a:pt x="1973" y="119"/>
                  </a:lnTo>
                  <a:lnTo>
                    <a:pt x="1983" y="119"/>
                  </a:lnTo>
                  <a:lnTo>
                    <a:pt x="1988" y="119"/>
                  </a:lnTo>
                  <a:lnTo>
                    <a:pt x="1998" y="124"/>
                  </a:lnTo>
                  <a:lnTo>
                    <a:pt x="2003" y="129"/>
                  </a:lnTo>
                  <a:lnTo>
                    <a:pt x="2003" y="134"/>
                  </a:lnTo>
                  <a:lnTo>
                    <a:pt x="2008" y="139"/>
                  </a:lnTo>
                  <a:lnTo>
                    <a:pt x="2013" y="144"/>
                  </a:lnTo>
                  <a:lnTo>
                    <a:pt x="2013" y="149"/>
                  </a:lnTo>
                  <a:lnTo>
                    <a:pt x="2018" y="149"/>
                  </a:lnTo>
                  <a:lnTo>
                    <a:pt x="2023" y="154"/>
                  </a:lnTo>
                  <a:lnTo>
                    <a:pt x="2033" y="154"/>
                  </a:lnTo>
                  <a:lnTo>
                    <a:pt x="2038" y="159"/>
                  </a:lnTo>
                  <a:lnTo>
                    <a:pt x="2048" y="159"/>
                  </a:lnTo>
                  <a:lnTo>
                    <a:pt x="2057" y="159"/>
                  </a:lnTo>
                  <a:lnTo>
                    <a:pt x="2062" y="159"/>
                  </a:lnTo>
                  <a:lnTo>
                    <a:pt x="2062" y="163"/>
                  </a:lnTo>
                  <a:lnTo>
                    <a:pt x="2062" y="168"/>
                  </a:lnTo>
                  <a:lnTo>
                    <a:pt x="2057" y="173"/>
                  </a:lnTo>
                  <a:lnTo>
                    <a:pt x="2052" y="178"/>
                  </a:lnTo>
                  <a:lnTo>
                    <a:pt x="2048" y="183"/>
                  </a:lnTo>
                  <a:lnTo>
                    <a:pt x="2043" y="188"/>
                  </a:lnTo>
                  <a:lnTo>
                    <a:pt x="2043" y="193"/>
                  </a:lnTo>
                  <a:lnTo>
                    <a:pt x="2038" y="198"/>
                  </a:lnTo>
                  <a:lnTo>
                    <a:pt x="2033" y="203"/>
                  </a:lnTo>
                  <a:lnTo>
                    <a:pt x="2033" y="208"/>
                  </a:lnTo>
                  <a:lnTo>
                    <a:pt x="2028" y="213"/>
                  </a:lnTo>
                  <a:lnTo>
                    <a:pt x="2023" y="218"/>
                  </a:lnTo>
                  <a:lnTo>
                    <a:pt x="2023" y="223"/>
                  </a:lnTo>
                  <a:lnTo>
                    <a:pt x="2018" y="228"/>
                  </a:lnTo>
                  <a:lnTo>
                    <a:pt x="2018" y="233"/>
                  </a:lnTo>
                  <a:lnTo>
                    <a:pt x="2013" y="238"/>
                  </a:lnTo>
                  <a:lnTo>
                    <a:pt x="2008" y="243"/>
                  </a:lnTo>
                  <a:lnTo>
                    <a:pt x="2003" y="243"/>
                  </a:lnTo>
                  <a:lnTo>
                    <a:pt x="1993" y="243"/>
                  </a:lnTo>
                  <a:lnTo>
                    <a:pt x="1983" y="243"/>
                  </a:lnTo>
                  <a:lnTo>
                    <a:pt x="1978" y="247"/>
                  </a:lnTo>
                  <a:lnTo>
                    <a:pt x="1968" y="243"/>
                  </a:lnTo>
                  <a:lnTo>
                    <a:pt x="1963" y="238"/>
                  </a:lnTo>
                  <a:close/>
                  <a:moveTo>
                    <a:pt x="1365" y="213"/>
                  </a:moveTo>
                  <a:lnTo>
                    <a:pt x="1370" y="208"/>
                  </a:lnTo>
                  <a:lnTo>
                    <a:pt x="1375" y="203"/>
                  </a:lnTo>
                  <a:lnTo>
                    <a:pt x="1380" y="198"/>
                  </a:lnTo>
                  <a:lnTo>
                    <a:pt x="1385" y="198"/>
                  </a:lnTo>
                  <a:lnTo>
                    <a:pt x="1395" y="203"/>
                  </a:lnTo>
                  <a:lnTo>
                    <a:pt x="1400" y="208"/>
                  </a:lnTo>
                  <a:lnTo>
                    <a:pt x="1400" y="213"/>
                  </a:lnTo>
                  <a:lnTo>
                    <a:pt x="1400" y="218"/>
                  </a:lnTo>
                  <a:lnTo>
                    <a:pt x="1395" y="223"/>
                  </a:lnTo>
                  <a:lnTo>
                    <a:pt x="1385" y="228"/>
                  </a:lnTo>
                  <a:lnTo>
                    <a:pt x="1380" y="228"/>
                  </a:lnTo>
                  <a:lnTo>
                    <a:pt x="1375" y="223"/>
                  </a:lnTo>
                  <a:lnTo>
                    <a:pt x="1370" y="218"/>
                  </a:lnTo>
                  <a:lnTo>
                    <a:pt x="1365" y="213"/>
                  </a:lnTo>
                  <a:close/>
                  <a:moveTo>
                    <a:pt x="1212" y="188"/>
                  </a:moveTo>
                  <a:lnTo>
                    <a:pt x="1217" y="183"/>
                  </a:lnTo>
                  <a:lnTo>
                    <a:pt x="1217" y="183"/>
                  </a:lnTo>
                  <a:lnTo>
                    <a:pt x="1222" y="183"/>
                  </a:lnTo>
                  <a:lnTo>
                    <a:pt x="1222" y="183"/>
                  </a:lnTo>
                  <a:lnTo>
                    <a:pt x="1227" y="183"/>
                  </a:lnTo>
                  <a:lnTo>
                    <a:pt x="1227" y="188"/>
                  </a:lnTo>
                  <a:lnTo>
                    <a:pt x="1227" y="188"/>
                  </a:lnTo>
                  <a:lnTo>
                    <a:pt x="1227" y="188"/>
                  </a:lnTo>
                  <a:lnTo>
                    <a:pt x="1227" y="193"/>
                  </a:lnTo>
                  <a:lnTo>
                    <a:pt x="1222" y="193"/>
                  </a:lnTo>
                  <a:lnTo>
                    <a:pt x="1222" y="193"/>
                  </a:lnTo>
                  <a:lnTo>
                    <a:pt x="1217" y="193"/>
                  </a:lnTo>
                  <a:lnTo>
                    <a:pt x="1217" y="188"/>
                  </a:lnTo>
                  <a:lnTo>
                    <a:pt x="1212" y="188"/>
                  </a:lnTo>
                  <a:close/>
                  <a:moveTo>
                    <a:pt x="1439" y="188"/>
                  </a:moveTo>
                  <a:lnTo>
                    <a:pt x="1449" y="178"/>
                  </a:lnTo>
                  <a:lnTo>
                    <a:pt x="1454" y="173"/>
                  </a:lnTo>
                  <a:lnTo>
                    <a:pt x="1459" y="173"/>
                  </a:lnTo>
                  <a:lnTo>
                    <a:pt x="1469" y="173"/>
                  </a:lnTo>
                  <a:lnTo>
                    <a:pt x="1474" y="178"/>
                  </a:lnTo>
                  <a:lnTo>
                    <a:pt x="1484" y="183"/>
                  </a:lnTo>
                  <a:lnTo>
                    <a:pt x="1484" y="188"/>
                  </a:lnTo>
                  <a:lnTo>
                    <a:pt x="1479" y="193"/>
                  </a:lnTo>
                  <a:lnTo>
                    <a:pt x="1474" y="198"/>
                  </a:lnTo>
                  <a:lnTo>
                    <a:pt x="1464" y="203"/>
                  </a:lnTo>
                  <a:lnTo>
                    <a:pt x="1459" y="203"/>
                  </a:lnTo>
                  <a:lnTo>
                    <a:pt x="1454" y="198"/>
                  </a:lnTo>
                  <a:lnTo>
                    <a:pt x="1444" y="193"/>
                  </a:lnTo>
                  <a:lnTo>
                    <a:pt x="1439" y="188"/>
                  </a:lnTo>
                  <a:close/>
                  <a:moveTo>
                    <a:pt x="1766" y="188"/>
                  </a:moveTo>
                  <a:lnTo>
                    <a:pt x="1771" y="178"/>
                  </a:lnTo>
                  <a:lnTo>
                    <a:pt x="1776" y="173"/>
                  </a:lnTo>
                  <a:lnTo>
                    <a:pt x="1780" y="173"/>
                  </a:lnTo>
                  <a:lnTo>
                    <a:pt x="1790" y="173"/>
                  </a:lnTo>
                  <a:lnTo>
                    <a:pt x="1800" y="178"/>
                  </a:lnTo>
                  <a:lnTo>
                    <a:pt x="1805" y="183"/>
                  </a:lnTo>
                  <a:lnTo>
                    <a:pt x="1805" y="188"/>
                  </a:lnTo>
                  <a:lnTo>
                    <a:pt x="1805" y="193"/>
                  </a:lnTo>
                  <a:lnTo>
                    <a:pt x="1795" y="198"/>
                  </a:lnTo>
                  <a:lnTo>
                    <a:pt x="1790" y="198"/>
                  </a:lnTo>
                  <a:lnTo>
                    <a:pt x="1780" y="198"/>
                  </a:lnTo>
                  <a:lnTo>
                    <a:pt x="1776" y="198"/>
                  </a:lnTo>
                  <a:lnTo>
                    <a:pt x="1771" y="193"/>
                  </a:lnTo>
                  <a:lnTo>
                    <a:pt x="1766" y="188"/>
                  </a:lnTo>
                  <a:close/>
                  <a:moveTo>
                    <a:pt x="1286" y="159"/>
                  </a:moveTo>
                  <a:lnTo>
                    <a:pt x="1291" y="154"/>
                  </a:lnTo>
                  <a:lnTo>
                    <a:pt x="1296" y="149"/>
                  </a:lnTo>
                  <a:lnTo>
                    <a:pt x="1301" y="144"/>
                  </a:lnTo>
                  <a:lnTo>
                    <a:pt x="1306" y="149"/>
                  </a:lnTo>
                  <a:lnTo>
                    <a:pt x="1311" y="149"/>
                  </a:lnTo>
                  <a:lnTo>
                    <a:pt x="1316" y="159"/>
                  </a:lnTo>
                  <a:lnTo>
                    <a:pt x="1316" y="163"/>
                  </a:lnTo>
                  <a:lnTo>
                    <a:pt x="1316" y="168"/>
                  </a:lnTo>
                  <a:lnTo>
                    <a:pt x="1311" y="173"/>
                  </a:lnTo>
                  <a:lnTo>
                    <a:pt x="1306" y="178"/>
                  </a:lnTo>
                  <a:lnTo>
                    <a:pt x="1301" y="178"/>
                  </a:lnTo>
                  <a:lnTo>
                    <a:pt x="1296" y="173"/>
                  </a:lnTo>
                  <a:lnTo>
                    <a:pt x="1291" y="168"/>
                  </a:lnTo>
                  <a:lnTo>
                    <a:pt x="1286" y="159"/>
                  </a:lnTo>
                  <a:close/>
                  <a:moveTo>
                    <a:pt x="1494" y="159"/>
                  </a:moveTo>
                  <a:lnTo>
                    <a:pt x="1499" y="154"/>
                  </a:lnTo>
                  <a:lnTo>
                    <a:pt x="1504" y="149"/>
                  </a:lnTo>
                  <a:lnTo>
                    <a:pt x="1513" y="144"/>
                  </a:lnTo>
                  <a:lnTo>
                    <a:pt x="1523" y="144"/>
                  </a:lnTo>
                  <a:lnTo>
                    <a:pt x="1528" y="144"/>
                  </a:lnTo>
                  <a:lnTo>
                    <a:pt x="1538" y="144"/>
                  </a:lnTo>
                  <a:lnTo>
                    <a:pt x="1548" y="144"/>
                  </a:lnTo>
                  <a:lnTo>
                    <a:pt x="1558" y="144"/>
                  </a:lnTo>
                  <a:lnTo>
                    <a:pt x="1563" y="139"/>
                  </a:lnTo>
                  <a:lnTo>
                    <a:pt x="1568" y="134"/>
                  </a:lnTo>
                  <a:lnTo>
                    <a:pt x="1573" y="129"/>
                  </a:lnTo>
                  <a:lnTo>
                    <a:pt x="1578" y="124"/>
                  </a:lnTo>
                  <a:lnTo>
                    <a:pt x="1588" y="119"/>
                  </a:lnTo>
                  <a:lnTo>
                    <a:pt x="1593" y="114"/>
                  </a:lnTo>
                  <a:lnTo>
                    <a:pt x="1602" y="114"/>
                  </a:lnTo>
                  <a:lnTo>
                    <a:pt x="1612" y="114"/>
                  </a:lnTo>
                  <a:lnTo>
                    <a:pt x="1622" y="114"/>
                  </a:lnTo>
                  <a:lnTo>
                    <a:pt x="1627" y="114"/>
                  </a:lnTo>
                  <a:lnTo>
                    <a:pt x="1637" y="114"/>
                  </a:lnTo>
                  <a:lnTo>
                    <a:pt x="1647" y="114"/>
                  </a:lnTo>
                  <a:lnTo>
                    <a:pt x="1657" y="114"/>
                  </a:lnTo>
                  <a:lnTo>
                    <a:pt x="1667" y="114"/>
                  </a:lnTo>
                  <a:lnTo>
                    <a:pt x="1672" y="119"/>
                  </a:lnTo>
                  <a:lnTo>
                    <a:pt x="1682" y="119"/>
                  </a:lnTo>
                  <a:lnTo>
                    <a:pt x="1687" y="124"/>
                  </a:lnTo>
                  <a:lnTo>
                    <a:pt x="1691" y="129"/>
                  </a:lnTo>
                  <a:lnTo>
                    <a:pt x="1696" y="134"/>
                  </a:lnTo>
                  <a:lnTo>
                    <a:pt x="1696" y="144"/>
                  </a:lnTo>
                  <a:lnTo>
                    <a:pt x="1701" y="149"/>
                  </a:lnTo>
                  <a:lnTo>
                    <a:pt x="1711" y="144"/>
                  </a:lnTo>
                  <a:lnTo>
                    <a:pt x="1721" y="144"/>
                  </a:lnTo>
                  <a:lnTo>
                    <a:pt x="1731" y="144"/>
                  </a:lnTo>
                  <a:lnTo>
                    <a:pt x="1736" y="144"/>
                  </a:lnTo>
                  <a:lnTo>
                    <a:pt x="1746" y="149"/>
                  </a:lnTo>
                  <a:lnTo>
                    <a:pt x="1751" y="154"/>
                  </a:lnTo>
                  <a:lnTo>
                    <a:pt x="1751" y="163"/>
                  </a:lnTo>
                  <a:lnTo>
                    <a:pt x="1746" y="168"/>
                  </a:lnTo>
                  <a:lnTo>
                    <a:pt x="1741" y="173"/>
                  </a:lnTo>
                  <a:lnTo>
                    <a:pt x="1736" y="178"/>
                  </a:lnTo>
                  <a:lnTo>
                    <a:pt x="1726" y="178"/>
                  </a:lnTo>
                  <a:lnTo>
                    <a:pt x="1716" y="178"/>
                  </a:lnTo>
                  <a:lnTo>
                    <a:pt x="1711" y="173"/>
                  </a:lnTo>
                  <a:lnTo>
                    <a:pt x="1701" y="168"/>
                  </a:lnTo>
                  <a:lnTo>
                    <a:pt x="1696" y="163"/>
                  </a:lnTo>
                  <a:lnTo>
                    <a:pt x="1691" y="159"/>
                  </a:lnTo>
                  <a:lnTo>
                    <a:pt x="1682" y="159"/>
                  </a:lnTo>
                  <a:lnTo>
                    <a:pt x="1677" y="154"/>
                  </a:lnTo>
                  <a:lnTo>
                    <a:pt x="1667" y="154"/>
                  </a:lnTo>
                  <a:lnTo>
                    <a:pt x="1657" y="154"/>
                  </a:lnTo>
                  <a:lnTo>
                    <a:pt x="1647" y="154"/>
                  </a:lnTo>
                  <a:lnTo>
                    <a:pt x="1637" y="154"/>
                  </a:lnTo>
                  <a:lnTo>
                    <a:pt x="1632" y="154"/>
                  </a:lnTo>
                  <a:lnTo>
                    <a:pt x="1622" y="154"/>
                  </a:lnTo>
                  <a:lnTo>
                    <a:pt x="1612" y="154"/>
                  </a:lnTo>
                  <a:lnTo>
                    <a:pt x="1602" y="154"/>
                  </a:lnTo>
                  <a:lnTo>
                    <a:pt x="1593" y="154"/>
                  </a:lnTo>
                  <a:lnTo>
                    <a:pt x="1588" y="149"/>
                  </a:lnTo>
                  <a:lnTo>
                    <a:pt x="1578" y="144"/>
                  </a:lnTo>
                  <a:lnTo>
                    <a:pt x="1573" y="139"/>
                  </a:lnTo>
                  <a:lnTo>
                    <a:pt x="1568" y="139"/>
                  </a:lnTo>
                  <a:lnTo>
                    <a:pt x="1568" y="144"/>
                  </a:lnTo>
                  <a:lnTo>
                    <a:pt x="1568" y="149"/>
                  </a:lnTo>
                  <a:lnTo>
                    <a:pt x="1568" y="159"/>
                  </a:lnTo>
                  <a:lnTo>
                    <a:pt x="1563" y="163"/>
                  </a:lnTo>
                  <a:lnTo>
                    <a:pt x="1558" y="168"/>
                  </a:lnTo>
                  <a:lnTo>
                    <a:pt x="1553" y="173"/>
                  </a:lnTo>
                  <a:lnTo>
                    <a:pt x="1543" y="178"/>
                  </a:lnTo>
                  <a:lnTo>
                    <a:pt x="1538" y="178"/>
                  </a:lnTo>
                  <a:lnTo>
                    <a:pt x="1528" y="178"/>
                  </a:lnTo>
                  <a:lnTo>
                    <a:pt x="1518" y="178"/>
                  </a:lnTo>
                  <a:lnTo>
                    <a:pt x="1508" y="173"/>
                  </a:lnTo>
                  <a:lnTo>
                    <a:pt x="1504" y="173"/>
                  </a:lnTo>
                  <a:lnTo>
                    <a:pt x="1499" y="168"/>
                  </a:lnTo>
                  <a:lnTo>
                    <a:pt x="1494" y="159"/>
                  </a:lnTo>
                  <a:close/>
                  <a:moveTo>
                    <a:pt x="1365" y="134"/>
                  </a:moveTo>
                  <a:lnTo>
                    <a:pt x="1365" y="124"/>
                  </a:lnTo>
                  <a:lnTo>
                    <a:pt x="1370" y="119"/>
                  </a:lnTo>
                  <a:lnTo>
                    <a:pt x="1375" y="119"/>
                  </a:lnTo>
                  <a:lnTo>
                    <a:pt x="1385" y="114"/>
                  </a:lnTo>
                  <a:lnTo>
                    <a:pt x="1390" y="114"/>
                  </a:lnTo>
                  <a:lnTo>
                    <a:pt x="1400" y="119"/>
                  </a:lnTo>
                  <a:lnTo>
                    <a:pt x="1410" y="124"/>
                  </a:lnTo>
                  <a:lnTo>
                    <a:pt x="1415" y="124"/>
                  </a:lnTo>
                  <a:lnTo>
                    <a:pt x="1419" y="129"/>
                  </a:lnTo>
                  <a:lnTo>
                    <a:pt x="1419" y="134"/>
                  </a:lnTo>
                  <a:lnTo>
                    <a:pt x="1415" y="139"/>
                  </a:lnTo>
                  <a:lnTo>
                    <a:pt x="1410" y="144"/>
                  </a:lnTo>
                  <a:lnTo>
                    <a:pt x="1400" y="149"/>
                  </a:lnTo>
                  <a:lnTo>
                    <a:pt x="1395" y="154"/>
                  </a:lnTo>
                  <a:lnTo>
                    <a:pt x="1385" y="154"/>
                  </a:lnTo>
                  <a:lnTo>
                    <a:pt x="1380" y="154"/>
                  </a:lnTo>
                  <a:lnTo>
                    <a:pt x="1375" y="154"/>
                  </a:lnTo>
                  <a:lnTo>
                    <a:pt x="1370" y="149"/>
                  </a:lnTo>
                  <a:lnTo>
                    <a:pt x="1365" y="139"/>
                  </a:lnTo>
                  <a:lnTo>
                    <a:pt x="1365" y="134"/>
                  </a:lnTo>
                  <a:close/>
                  <a:moveTo>
                    <a:pt x="1439" y="104"/>
                  </a:moveTo>
                  <a:lnTo>
                    <a:pt x="1444" y="99"/>
                  </a:lnTo>
                  <a:lnTo>
                    <a:pt x="1454" y="94"/>
                  </a:lnTo>
                  <a:lnTo>
                    <a:pt x="1459" y="89"/>
                  </a:lnTo>
                  <a:lnTo>
                    <a:pt x="1469" y="89"/>
                  </a:lnTo>
                  <a:lnTo>
                    <a:pt x="1479" y="84"/>
                  </a:lnTo>
                  <a:lnTo>
                    <a:pt x="1489" y="89"/>
                  </a:lnTo>
                  <a:lnTo>
                    <a:pt x="1499" y="89"/>
                  </a:lnTo>
                  <a:lnTo>
                    <a:pt x="1504" y="94"/>
                  </a:lnTo>
                  <a:lnTo>
                    <a:pt x="1508" y="104"/>
                  </a:lnTo>
                  <a:lnTo>
                    <a:pt x="1508" y="109"/>
                  </a:lnTo>
                  <a:lnTo>
                    <a:pt x="1508" y="114"/>
                  </a:lnTo>
                  <a:lnTo>
                    <a:pt x="1499" y="119"/>
                  </a:lnTo>
                  <a:lnTo>
                    <a:pt x="1494" y="124"/>
                  </a:lnTo>
                  <a:lnTo>
                    <a:pt x="1484" y="129"/>
                  </a:lnTo>
                  <a:lnTo>
                    <a:pt x="1474" y="129"/>
                  </a:lnTo>
                  <a:lnTo>
                    <a:pt x="1464" y="129"/>
                  </a:lnTo>
                  <a:lnTo>
                    <a:pt x="1454" y="124"/>
                  </a:lnTo>
                  <a:lnTo>
                    <a:pt x="1449" y="124"/>
                  </a:lnTo>
                  <a:lnTo>
                    <a:pt x="1444" y="114"/>
                  </a:lnTo>
                  <a:lnTo>
                    <a:pt x="1439" y="104"/>
                  </a:lnTo>
                  <a:close/>
                  <a:moveTo>
                    <a:pt x="1518" y="79"/>
                  </a:moveTo>
                  <a:lnTo>
                    <a:pt x="1523" y="74"/>
                  </a:lnTo>
                  <a:lnTo>
                    <a:pt x="1533" y="70"/>
                  </a:lnTo>
                  <a:lnTo>
                    <a:pt x="1538" y="65"/>
                  </a:lnTo>
                  <a:lnTo>
                    <a:pt x="1548" y="60"/>
                  </a:lnTo>
                  <a:lnTo>
                    <a:pt x="1558" y="60"/>
                  </a:lnTo>
                  <a:lnTo>
                    <a:pt x="1573" y="60"/>
                  </a:lnTo>
                  <a:lnTo>
                    <a:pt x="1578" y="65"/>
                  </a:lnTo>
                  <a:lnTo>
                    <a:pt x="1588" y="70"/>
                  </a:lnTo>
                  <a:lnTo>
                    <a:pt x="1593" y="74"/>
                  </a:lnTo>
                  <a:lnTo>
                    <a:pt x="1593" y="84"/>
                  </a:lnTo>
                  <a:lnTo>
                    <a:pt x="1588" y="89"/>
                  </a:lnTo>
                  <a:lnTo>
                    <a:pt x="1583" y="94"/>
                  </a:lnTo>
                  <a:lnTo>
                    <a:pt x="1573" y="99"/>
                  </a:lnTo>
                  <a:lnTo>
                    <a:pt x="1563" y="99"/>
                  </a:lnTo>
                  <a:lnTo>
                    <a:pt x="1553" y="104"/>
                  </a:lnTo>
                  <a:lnTo>
                    <a:pt x="1543" y="104"/>
                  </a:lnTo>
                  <a:lnTo>
                    <a:pt x="1533" y="99"/>
                  </a:lnTo>
                  <a:lnTo>
                    <a:pt x="1528" y="94"/>
                  </a:lnTo>
                  <a:lnTo>
                    <a:pt x="1523" y="89"/>
                  </a:lnTo>
                  <a:lnTo>
                    <a:pt x="1518" y="79"/>
                  </a:lnTo>
                  <a:close/>
                  <a:moveTo>
                    <a:pt x="2235" y="1656"/>
                  </a:moveTo>
                  <a:lnTo>
                    <a:pt x="2260" y="1631"/>
                  </a:lnTo>
                  <a:lnTo>
                    <a:pt x="2285" y="1631"/>
                  </a:lnTo>
                  <a:lnTo>
                    <a:pt x="2315" y="1631"/>
                  </a:lnTo>
                  <a:lnTo>
                    <a:pt x="2339" y="1631"/>
                  </a:lnTo>
                  <a:lnTo>
                    <a:pt x="2369" y="1631"/>
                  </a:lnTo>
                  <a:lnTo>
                    <a:pt x="2394" y="1631"/>
                  </a:lnTo>
                  <a:lnTo>
                    <a:pt x="2418" y="1631"/>
                  </a:lnTo>
                  <a:lnTo>
                    <a:pt x="2448" y="1602"/>
                  </a:lnTo>
                  <a:lnTo>
                    <a:pt x="2448" y="1577"/>
                  </a:lnTo>
                  <a:lnTo>
                    <a:pt x="2448" y="1547"/>
                  </a:lnTo>
                  <a:lnTo>
                    <a:pt x="2448" y="1523"/>
                  </a:lnTo>
                  <a:lnTo>
                    <a:pt x="2473" y="1498"/>
                  </a:lnTo>
                  <a:lnTo>
                    <a:pt x="2473" y="1468"/>
                  </a:lnTo>
                  <a:lnTo>
                    <a:pt x="2473" y="1444"/>
                  </a:lnTo>
                  <a:lnTo>
                    <a:pt x="2473" y="1414"/>
                  </a:lnTo>
                  <a:lnTo>
                    <a:pt x="2503" y="1389"/>
                  </a:lnTo>
                  <a:lnTo>
                    <a:pt x="2503" y="1364"/>
                  </a:lnTo>
                  <a:lnTo>
                    <a:pt x="2503" y="1335"/>
                  </a:lnTo>
                  <a:lnTo>
                    <a:pt x="2503" y="1310"/>
                  </a:lnTo>
                  <a:lnTo>
                    <a:pt x="2527" y="1280"/>
                  </a:lnTo>
                  <a:lnTo>
                    <a:pt x="2527" y="1256"/>
                  </a:lnTo>
                  <a:lnTo>
                    <a:pt x="2527" y="1226"/>
                  </a:lnTo>
                  <a:lnTo>
                    <a:pt x="2527" y="1201"/>
                  </a:lnTo>
                  <a:lnTo>
                    <a:pt x="2552" y="1177"/>
                  </a:lnTo>
                  <a:lnTo>
                    <a:pt x="2552" y="1147"/>
                  </a:lnTo>
                  <a:lnTo>
                    <a:pt x="2552" y="1122"/>
                  </a:lnTo>
                  <a:lnTo>
                    <a:pt x="2552" y="1093"/>
                  </a:lnTo>
                  <a:lnTo>
                    <a:pt x="2582" y="1068"/>
                  </a:lnTo>
                  <a:lnTo>
                    <a:pt x="2582" y="1043"/>
                  </a:lnTo>
                  <a:lnTo>
                    <a:pt x="2582" y="1014"/>
                  </a:lnTo>
                  <a:lnTo>
                    <a:pt x="2582" y="989"/>
                  </a:lnTo>
                  <a:lnTo>
                    <a:pt x="2582" y="959"/>
                  </a:lnTo>
                  <a:lnTo>
                    <a:pt x="2582" y="934"/>
                  </a:lnTo>
                  <a:lnTo>
                    <a:pt x="2582" y="910"/>
                  </a:lnTo>
                  <a:lnTo>
                    <a:pt x="2582" y="880"/>
                  </a:lnTo>
                  <a:lnTo>
                    <a:pt x="2582" y="855"/>
                  </a:lnTo>
                  <a:lnTo>
                    <a:pt x="2582" y="826"/>
                  </a:lnTo>
                  <a:lnTo>
                    <a:pt x="2582" y="801"/>
                  </a:lnTo>
                  <a:lnTo>
                    <a:pt x="2582" y="776"/>
                  </a:lnTo>
                  <a:lnTo>
                    <a:pt x="2582" y="747"/>
                  </a:lnTo>
                  <a:lnTo>
                    <a:pt x="2582" y="722"/>
                  </a:lnTo>
                  <a:lnTo>
                    <a:pt x="2582" y="692"/>
                  </a:lnTo>
                  <a:lnTo>
                    <a:pt x="2582" y="668"/>
                  </a:lnTo>
                  <a:lnTo>
                    <a:pt x="2582" y="643"/>
                  </a:lnTo>
                  <a:lnTo>
                    <a:pt x="2582" y="613"/>
                  </a:lnTo>
                  <a:lnTo>
                    <a:pt x="2582" y="589"/>
                  </a:lnTo>
                  <a:lnTo>
                    <a:pt x="2582" y="559"/>
                  </a:lnTo>
                  <a:lnTo>
                    <a:pt x="2582" y="534"/>
                  </a:lnTo>
                  <a:lnTo>
                    <a:pt x="2582" y="504"/>
                  </a:lnTo>
                  <a:lnTo>
                    <a:pt x="2582" y="480"/>
                  </a:lnTo>
                  <a:lnTo>
                    <a:pt x="2582" y="455"/>
                  </a:lnTo>
                  <a:lnTo>
                    <a:pt x="2582" y="425"/>
                  </a:lnTo>
                  <a:lnTo>
                    <a:pt x="2582" y="401"/>
                  </a:lnTo>
                  <a:lnTo>
                    <a:pt x="2582" y="371"/>
                  </a:lnTo>
                  <a:lnTo>
                    <a:pt x="2582" y="346"/>
                  </a:lnTo>
                  <a:lnTo>
                    <a:pt x="2582" y="322"/>
                  </a:lnTo>
                  <a:lnTo>
                    <a:pt x="2582" y="292"/>
                  </a:lnTo>
                  <a:lnTo>
                    <a:pt x="2582" y="267"/>
                  </a:lnTo>
                  <a:lnTo>
                    <a:pt x="2582" y="238"/>
                  </a:lnTo>
                  <a:lnTo>
                    <a:pt x="2552" y="213"/>
                  </a:lnTo>
                  <a:lnTo>
                    <a:pt x="2552" y="188"/>
                  </a:lnTo>
                  <a:lnTo>
                    <a:pt x="2552" y="159"/>
                  </a:lnTo>
                  <a:lnTo>
                    <a:pt x="2552" y="134"/>
                  </a:lnTo>
                  <a:lnTo>
                    <a:pt x="2552" y="104"/>
                  </a:lnTo>
                  <a:lnTo>
                    <a:pt x="2527" y="79"/>
                  </a:lnTo>
                  <a:lnTo>
                    <a:pt x="2503" y="79"/>
                  </a:lnTo>
                  <a:lnTo>
                    <a:pt x="2473" y="79"/>
                  </a:lnTo>
                  <a:lnTo>
                    <a:pt x="2448" y="55"/>
                  </a:lnTo>
                  <a:lnTo>
                    <a:pt x="2418" y="55"/>
                  </a:lnTo>
                  <a:lnTo>
                    <a:pt x="2394" y="55"/>
                  </a:lnTo>
                  <a:lnTo>
                    <a:pt x="2369" y="25"/>
                  </a:lnTo>
                  <a:lnTo>
                    <a:pt x="2339" y="25"/>
                  </a:lnTo>
                  <a:lnTo>
                    <a:pt x="2315" y="25"/>
                  </a:lnTo>
                  <a:lnTo>
                    <a:pt x="2285" y="0"/>
                  </a:lnTo>
                  <a:lnTo>
                    <a:pt x="2260" y="0"/>
                  </a:lnTo>
                  <a:lnTo>
                    <a:pt x="2235" y="0"/>
                  </a:lnTo>
                  <a:lnTo>
                    <a:pt x="2206" y="0"/>
                  </a:lnTo>
                  <a:lnTo>
                    <a:pt x="2181" y="0"/>
                  </a:lnTo>
                  <a:lnTo>
                    <a:pt x="2156" y="0"/>
                  </a:lnTo>
                  <a:lnTo>
                    <a:pt x="2127" y="0"/>
                  </a:lnTo>
                  <a:lnTo>
                    <a:pt x="2102" y="0"/>
                  </a:lnTo>
                  <a:lnTo>
                    <a:pt x="2072" y="0"/>
                  </a:lnTo>
                  <a:lnTo>
                    <a:pt x="2048" y="0"/>
                  </a:lnTo>
                  <a:lnTo>
                    <a:pt x="2023" y="0"/>
                  </a:lnTo>
                  <a:lnTo>
                    <a:pt x="1993" y="0"/>
                  </a:lnTo>
                  <a:lnTo>
                    <a:pt x="1968" y="0"/>
                  </a:lnTo>
                  <a:lnTo>
                    <a:pt x="1944" y="0"/>
                  </a:lnTo>
                  <a:lnTo>
                    <a:pt x="1914" y="0"/>
                  </a:lnTo>
                  <a:lnTo>
                    <a:pt x="1889" y="0"/>
                  </a:lnTo>
                  <a:lnTo>
                    <a:pt x="1860" y="0"/>
                  </a:lnTo>
                  <a:lnTo>
                    <a:pt x="1835" y="0"/>
                  </a:lnTo>
                  <a:lnTo>
                    <a:pt x="1810" y="0"/>
                  </a:lnTo>
                  <a:lnTo>
                    <a:pt x="1780" y="0"/>
                  </a:lnTo>
                  <a:lnTo>
                    <a:pt x="1756" y="0"/>
                  </a:lnTo>
                  <a:lnTo>
                    <a:pt x="1726" y="0"/>
                  </a:lnTo>
                  <a:lnTo>
                    <a:pt x="1701" y="0"/>
                  </a:lnTo>
                  <a:lnTo>
                    <a:pt x="1677" y="0"/>
                  </a:lnTo>
                  <a:lnTo>
                    <a:pt x="1647" y="0"/>
                  </a:lnTo>
                  <a:lnTo>
                    <a:pt x="1622" y="0"/>
                  </a:lnTo>
                  <a:lnTo>
                    <a:pt x="1598" y="0"/>
                  </a:lnTo>
                  <a:lnTo>
                    <a:pt x="1568" y="0"/>
                  </a:lnTo>
                  <a:lnTo>
                    <a:pt x="1543" y="0"/>
                  </a:lnTo>
                  <a:lnTo>
                    <a:pt x="1513" y="0"/>
                  </a:lnTo>
                  <a:lnTo>
                    <a:pt x="1489" y="0"/>
                  </a:lnTo>
                  <a:lnTo>
                    <a:pt x="1464" y="0"/>
                  </a:lnTo>
                  <a:lnTo>
                    <a:pt x="1434" y="0"/>
                  </a:lnTo>
                  <a:lnTo>
                    <a:pt x="1410" y="0"/>
                  </a:lnTo>
                  <a:lnTo>
                    <a:pt x="1385" y="0"/>
                  </a:lnTo>
                  <a:lnTo>
                    <a:pt x="1355" y="0"/>
                  </a:lnTo>
                  <a:lnTo>
                    <a:pt x="1330" y="0"/>
                  </a:lnTo>
                  <a:lnTo>
                    <a:pt x="1301" y="0"/>
                  </a:lnTo>
                  <a:lnTo>
                    <a:pt x="1276" y="0"/>
                  </a:lnTo>
                  <a:lnTo>
                    <a:pt x="1251" y="0"/>
                  </a:lnTo>
                  <a:lnTo>
                    <a:pt x="1222" y="0"/>
                  </a:lnTo>
                  <a:lnTo>
                    <a:pt x="1197" y="0"/>
                  </a:lnTo>
                  <a:lnTo>
                    <a:pt x="1172" y="0"/>
                  </a:lnTo>
                  <a:lnTo>
                    <a:pt x="1143" y="0"/>
                  </a:lnTo>
                  <a:lnTo>
                    <a:pt x="1118" y="0"/>
                  </a:lnTo>
                  <a:lnTo>
                    <a:pt x="1088" y="0"/>
                  </a:lnTo>
                  <a:lnTo>
                    <a:pt x="1063" y="0"/>
                  </a:lnTo>
                  <a:lnTo>
                    <a:pt x="1039" y="0"/>
                  </a:lnTo>
                  <a:lnTo>
                    <a:pt x="1009" y="0"/>
                  </a:lnTo>
                  <a:lnTo>
                    <a:pt x="984" y="0"/>
                  </a:lnTo>
                  <a:lnTo>
                    <a:pt x="955" y="0"/>
                  </a:lnTo>
                  <a:lnTo>
                    <a:pt x="930" y="0"/>
                  </a:lnTo>
                  <a:lnTo>
                    <a:pt x="905" y="0"/>
                  </a:lnTo>
                  <a:lnTo>
                    <a:pt x="875" y="0"/>
                  </a:lnTo>
                  <a:lnTo>
                    <a:pt x="851" y="0"/>
                  </a:lnTo>
                  <a:lnTo>
                    <a:pt x="826" y="0"/>
                  </a:lnTo>
                  <a:lnTo>
                    <a:pt x="796" y="0"/>
                  </a:lnTo>
                  <a:lnTo>
                    <a:pt x="772" y="0"/>
                  </a:lnTo>
                  <a:lnTo>
                    <a:pt x="742" y="0"/>
                  </a:lnTo>
                  <a:lnTo>
                    <a:pt x="717" y="0"/>
                  </a:lnTo>
                  <a:lnTo>
                    <a:pt x="692" y="0"/>
                  </a:lnTo>
                  <a:lnTo>
                    <a:pt x="663" y="0"/>
                  </a:lnTo>
                  <a:lnTo>
                    <a:pt x="638" y="0"/>
                  </a:lnTo>
                  <a:lnTo>
                    <a:pt x="613" y="0"/>
                  </a:lnTo>
                  <a:lnTo>
                    <a:pt x="584" y="25"/>
                  </a:lnTo>
                  <a:lnTo>
                    <a:pt x="559" y="55"/>
                  </a:lnTo>
                  <a:lnTo>
                    <a:pt x="529" y="79"/>
                  </a:lnTo>
                  <a:lnTo>
                    <a:pt x="505" y="104"/>
                  </a:lnTo>
                  <a:lnTo>
                    <a:pt x="480" y="134"/>
                  </a:lnTo>
                  <a:lnTo>
                    <a:pt x="450" y="134"/>
                  </a:lnTo>
                  <a:lnTo>
                    <a:pt x="425" y="159"/>
                  </a:lnTo>
                  <a:lnTo>
                    <a:pt x="396" y="188"/>
                  </a:lnTo>
                  <a:lnTo>
                    <a:pt x="371" y="213"/>
                  </a:lnTo>
                  <a:lnTo>
                    <a:pt x="346" y="238"/>
                  </a:lnTo>
                  <a:lnTo>
                    <a:pt x="317" y="267"/>
                  </a:lnTo>
                  <a:lnTo>
                    <a:pt x="292" y="292"/>
                  </a:lnTo>
                  <a:lnTo>
                    <a:pt x="267" y="322"/>
                  </a:lnTo>
                  <a:lnTo>
                    <a:pt x="237" y="322"/>
                  </a:lnTo>
                  <a:lnTo>
                    <a:pt x="213" y="346"/>
                  </a:lnTo>
                  <a:lnTo>
                    <a:pt x="183" y="371"/>
                  </a:lnTo>
                  <a:lnTo>
                    <a:pt x="158" y="401"/>
                  </a:lnTo>
                  <a:lnTo>
                    <a:pt x="134" y="425"/>
                  </a:lnTo>
                  <a:lnTo>
                    <a:pt x="104" y="455"/>
                  </a:lnTo>
                  <a:lnTo>
                    <a:pt x="79" y="480"/>
                  </a:lnTo>
                  <a:lnTo>
                    <a:pt x="55" y="504"/>
                  </a:lnTo>
                  <a:lnTo>
                    <a:pt x="25" y="504"/>
                  </a:lnTo>
                  <a:lnTo>
                    <a:pt x="0" y="534"/>
                  </a:lnTo>
                  <a:lnTo>
                    <a:pt x="0" y="559"/>
                  </a:lnTo>
                  <a:lnTo>
                    <a:pt x="0" y="589"/>
                  </a:lnTo>
                  <a:lnTo>
                    <a:pt x="0" y="613"/>
                  </a:lnTo>
                  <a:lnTo>
                    <a:pt x="25" y="643"/>
                  </a:lnTo>
                  <a:lnTo>
                    <a:pt x="25" y="668"/>
                  </a:lnTo>
                  <a:lnTo>
                    <a:pt x="55" y="692"/>
                  </a:lnTo>
                  <a:lnTo>
                    <a:pt x="79" y="722"/>
                  </a:lnTo>
                  <a:lnTo>
                    <a:pt x="104" y="747"/>
                  </a:lnTo>
                  <a:lnTo>
                    <a:pt x="134" y="776"/>
                  </a:lnTo>
                  <a:lnTo>
                    <a:pt x="134" y="801"/>
                  </a:lnTo>
                  <a:lnTo>
                    <a:pt x="158" y="826"/>
                  </a:lnTo>
                  <a:lnTo>
                    <a:pt x="183" y="855"/>
                  </a:lnTo>
                  <a:lnTo>
                    <a:pt x="213" y="880"/>
                  </a:lnTo>
                  <a:lnTo>
                    <a:pt x="237" y="910"/>
                  </a:lnTo>
                  <a:lnTo>
                    <a:pt x="267" y="934"/>
                  </a:lnTo>
                  <a:lnTo>
                    <a:pt x="292" y="959"/>
                  </a:lnTo>
                  <a:lnTo>
                    <a:pt x="292" y="989"/>
                  </a:lnTo>
                  <a:lnTo>
                    <a:pt x="317" y="1014"/>
                  </a:lnTo>
                  <a:lnTo>
                    <a:pt x="346" y="1043"/>
                  </a:lnTo>
                  <a:lnTo>
                    <a:pt x="371" y="1068"/>
                  </a:lnTo>
                  <a:lnTo>
                    <a:pt x="396" y="1093"/>
                  </a:lnTo>
                  <a:lnTo>
                    <a:pt x="425" y="1122"/>
                  </a:lnTo>
                  <a:lnTo>
                    <a:pt x="450" y="1147"/>
                  </a:lnTo>
                  <a:lnTo>
                    <a:pt x="480" y="1177"/>
                  </a:lnTo>
                  <a:lnTo>
                    <a:pt x="505" y="1201"/>
                  </a:lnTo>
                  <a:lnTo>
                    <a:pt x="529" y="1226"/>
                  </a:lnTo>
                  <a:lnTo>
                    <a:pt x="559" y="1256"/>
                  </a:lnTo>
                  <a:lnTo>
                    <a:pt x="584" y="1280"/>
                  </a:lnTo>
                  <a:lnTo>
                    <a:pt x="613" y="1310"/>
                  </a:lnTo>
                  <a:lnTo>
                    <a:pt x="638" y="1335"/>
                  </a:lnTo>
                  <a:lnTo>
                    <a:pt x="663" y="1364"/>
                  </a:lnTo>
                  <a:lnTo>
                    <a:pt x="692" y="1389"/>
                  </a:lnTo>
                  <a:lnTo>
                    <a:pt x="717" y="1414"/>
                  </a:lnTo>
                  <a:lnTo>
                    <a:pt x="742" y="1444"/>
                  </a:lnTo>
                  <a:lnTo>
                    <a:pt x="772" y="1468"/>
                  </a:lnTo>
                  <a:lnTo>
                    <a:pt x="796" y="1468"/>
                  </a:lnTo>
                  <a:lnTo>
                    <a:pt x="826" y="1498"/>
                  </a:lnTo>
                  <a:lnTo>
                    <a:pt x="851" y="1523"/>
                  </a:lnTo>
                  <a:lnTo>
                    <a:pt x="875" y="1547"/>
                  </a:lnTo>
                  <a:lnTo>
                    <a:pt x="905" y="1577"/>
                  </a:lnTo>
                  <a:lnTo>
                    <a:pt x="930" y="1602"/>
                  </a:lnTo>
                  <a:lnTo>
                    <a:pt x="955" y="1631"/>
                  </a:lnTo>
                  <a:lnTo>
                    <a:pt x="984" y="1656"/>
                  </a:lnTo>
                  <a:lnTo>
                    <a:pt x="1009" y="1656"/>
                  </a:lnTo>
                  <a:lnTo>
                    <a:pt x="1039" y="1656"/>
                  </a:lnTo>
                  <a:lnTo>
                    <a:pt x="1063" y="1656"/>
                  </a:lnTo>
                  <a:lnTo>
                    <a:pt x="1088" y="1656"/>
                  </a:lnTo>
                  <a:lnTo>
                    <a:pt x="1118" y="1656"/>
                  </a:lnTo>
                  <a:lnTo>
                    <a:pt x="1143" y="1656"/>
                  </a:lnTo>
                  <a:lnTo>
                    <a:pt x="1172" y="1656"/>
                  </a:lnTo>
                  <a:lnTo>
                    <a:pt x="1197" y="1656"/>
                  </a:lnTo>
                  <a:lnTo>
                    <a:pt x="1222" y="1656"/>
                  </a:lnTo>
                  <a:lnTo>
                    <a:pt x="1251" y="1656"/>
                  </a:lnTo>
                  <a:lnTo>
                    <a:pt x="1276" y="1656"/>
                  </a:lnTo>
                  <a:lnTo>
                    <a:pt x="1301" y="1656"/>
                  </a:lnTo>
                  <a:lnTo>
                    <a:pt x="1330" y="1656"/>
                  </a:lnTo>
                  <a:lnTo>
                    <a:pt x="1355" y="1656"/>
                  </a:lnTo>
                  <a:lnTo>
                    <a:pt x="1385" y="1656"/>
                  </a:lnTo>
                  <a:lnTo>
                    <a:pt x="1410" y="1656"/>
                  </a:lnTo>
                  <a:lnTo>
                    <a:pt x="1434" y="1656"/>
                  </a:lnTo>
                  <a:lnTo>
                    <a:pt x="1464" y="1656"/>
                  </a:lnTo>
                  <a:lnTo>
                    <a:pt x="1489" y="1656"/>
                  </a:lnTo>
                  <a:lnTo>
                    <a:pt x="1513" y="1656"/>
                  </a:lnTo>
                  <a:lnTo>
                    <a:pt x="1543" y="1656"/>
                  </a:lnTo>
                  <a:lnTo>
                    <a:pt x="1568" y="1656"/>
                  </a:lnTo>
                  <a:lnTo>
                    <a:pt x="1598" y="1656"/>
                  </a:lnTo>
                  <a:lnTo>
                    <a:pt x="1622" y="1656"/>
                  </a:lnTo>
                  <a:lnTo>
                    <a:pt x="1647" y="1656"/>
                  </a:lnTo>
                  <a:lnTo>
                    <a:pt x="1677" y="1656"/>
                  </a:lnTo>
                  <a:lnTo>
                    <a:pt x="1701" y="1656"/>
                  </a:lnTo>
                  <a:lnTo>
                    <a:pt x="1726" y="1656"/>
                  </a:lnTo>
                  <a:lnTo>
                    <a:pt x="1756" y="1656"/>
                  </a:lnTo>
                  <a:lnTo>
                    <a:pt x="1780" y="1656"/>
                  </a:lnTo>
                  <a:lnTo>
                    <a:pt x="1810" y="1656"/>
                  </a:lnTo>
                  <a:lnTo>
                    <a:pt x="1835" y="1656"/>
                  </a:lnTo>
                  <a:lnTo>
                    <a:pt x="1860" y="1656"/>
                  </a:lnTo>
                  <a:lnTo>
                    <a:pt x="1889" y="1656"/>
                  </a:lnTo>
                  <a:lnTo>
                    <a:pt x="1914" y="1656"/>
                  </a:lnTo>
                  <a:lnTo>
                    <a:pt x="1944" y="1656"/>
                  </a:lnTo>
                  <a:lnTo>
                    <a:pt x="1968" y="1656"/>
                  </a:lnTo>
                  <a:lnTo>
                    <a:pt x="1993" y="1656"/>
                  </a:lnTo>
                  <a:lnTo>
                    <a:pt x="2023" y="1656"/>
                  </a:lnTo>
                  <a:lnTo>
                    <a:pt x="2048" y="1656"/>
                  </a:lnTo>
                  <a:lnTo>
                    <a:pt x="2072" y="1656"/>
                  </a:lnTo>
                  <a:lnTo>
                    <a:pt x="2102" y="1656"/>
                  </a:lnTo>
                  <a:lnTo>
                    <a:pt x="2127" y="1656"/>
                  </a:lnTo>
                  <a:lnTo>
                    <a:pt x="2156" y="1656"/>
                  </a:lnTo>
                  <a:lnTo>
                    <a:pt x="2181" y="1656"/>
                  </a:lnTo>
                  <a:lnTo>
                    <a:pt x="2206" y="1656"/>
                  </a:lnTo>
                  <a:lnTo>
                    <a:pt x="2235" y="1656"/>
                  </a:lnTo>
                  <a:close/>
                  <a:moveTo>
                    <a:pt x="1405" y="292"/>
                  </a:moveTo>
                  <a:lnTo>
                    <a:pt x="1410" y="292"/>
                  </a:lnTo>
                  <a:lnTo>
                    <a:pt x="1415" y="292"/>
                  </a:lnTo>
                  <a:lnTo>
                    <a:pt x="1419" y="287"/>
                  </a:lnTo>
                  <a:lnTo>
                    <a:pt x="1424" y="282"/>
                  </a:lnTo>
                  <a:lnTo>
                    <a:pt x="1424" y="282"/>
                  </a:lnTo>
                  <a:lnTo>
                    <a:pt x="1424" y="277"/>
                  </a:lnTo>
                  <a:lnTo>
                    <a:pt x="1429" y="272"/>
                  </a:lnTo>
                  <a:lnTo>
                    <a:pt x="1429" y="267"/>
                  </a:lnTo>
                  <a:lnTo>
                    <a:pt x="1434" y="262"/>
                  </a:lnTo>
                  <a:lnTo>
                    <a:pt x="1434" y="262"/>
                  </a:lnTo>
                  <a:lnTo>
                    <a:pt x="1439" y="257"/>
                  </a:lnTo>
                  <a:lnTo>
                    <a:pt x="1444" y="257"/>
                  </a:lnTo>
                  <a:lnTo>
                    <a:pt x="1449" y="257"/>
                  </a:lnTo>
                  <a:lnTo>
                    <a:pt x="1459" y="257"/>
                  </a:lnTo>
                  <a:lnTo>
                    <a:pt x="1464" y="257"/>
                  </a:lnTo>
                  <a:lnTo>
                    <a:pt x="1469" y="262"/>
                  </a:lnTo>
                  <a:lnTo>
                    <a:pt x="1474" y="262"/>
                  </a:lnTo>
                  <a:lnTo>
                    <a:pt x="1474" y="267"/>
                  </a:lnTo>
                  <a:lnTo>
                    <a:pt x="1469" y="272"/>
                  </a:lnTo>
                  <a:lnTo>
                    <a:pt x="1464" y="272"/>
                  </a:lnTo>
                  <a:lnTo>
                    <a:pt x="1459" y="272"/>
                  </a:lnTo>
                  <a:lnTo>
                    <a:pt x="1449" y="272"/>
                  </a:lnTo>
                  <a:lnTo>
                    <a:pt x="1444" y="272"/>
                  </a:lnTo>
                  <a:lnTo>
                    <a:pt x="1439" y="272"/>
                  </a:lnTo>
                  <a:lnTo>
                    <a:pt x="1434" y="272"/>
                  </a:lnTo>
                  <a:lnTo>
                    <a:pt x="1429" y="277"/>
                  </a:lnTo>
                  <a:lnTo>
                    <a:pt x="1424" y="277"/>
                  </a:lnTo>
                  <a:lnTo>
                    <a:pt x="1424" y="282"/>
                  </a:lnTo>
                  <a:lnTo>
                    <a:pt x="1419" y="287"/>
                  </a:lnTo>
                  <a:lnTo>
                    <a:pt x="1415" y="287"/>
                  </a:lnTo>
                  <a:lnTo>
                    <a:pt x="1410" y="292"/>
                  </a:lnTo>
                  <a:lnTo>
                    <a:pt x="1405" y="292"/>
                  </a:lnTo>
                  <a:close/>
                  <a:moveTo>
                    <a:pt x="1672" y="267"/>
                  </a:moveTo>
                  <a:lnTo>
                    <a:pt x="1667" y="262"/>
                  </a:lnTo>
                  <a:lnTo>
                    <a:pt x="1662" y="257"/>
                  </a:lnTo>
                  <a:lnTo>
                    <a:pt x="1657" y="257"/>
                  </a:lnTo>
                  <a:lnTo>
                    <a:pt x="1652" y="252"/>
                  </a:lnTo>
                  <a:lnTo>
                    <a:pt x="1647" y="247"/>
                  </a:lnTo>
                  <a:lnTo>
                    <a:pt x="1642" y="243"/>
                  </a:lnTo>
                  <a:lnTo>
                    <a:pt x="1637" y="238"/>
                  </a:lnTo>
                  <a:lnTo>
                    <a:pt x="1632" y="233"/>
                  </a:lnTo>
                  <a:lnTo>
                    <a:pt x="1632" y="228"/>
                  </a:lnTo>
                  <a:lnTo>
                    <a:pt x="1627" y="223"/>
                  </a:lnTo>
                  <a:lnTo>
                    <a:pt x="1617" y="223"/>
                  </a:lnTo>
                  <a:lnTo>
                    <a:pt x="1612" y="223"/>
                  </a:lnTo>
                  <a:lnTo>
                    <a:pt x="1602" y="228"/>
                  </a:lnTo>
                  <a:lnTo>
                    <a:pt x="1598" y="228"/>
                  </a:lnTo>
                  <a:lnTo>
                    <a:pt x="1588" y="223"/>
                  </a:lnTo>
                  <a:lnTo>
                    <a:pt x="1578" y="223"/>
                  </a:lnTo>
                  <a:lnTo>
                    <a:pt x="1573" y="218"/>
                  </a:lnTo>
                  <a:lnTo>
                    <a:pt x="1568" y="218"/>
                  </a:lnTo>
                  <a:lnTo>
                    <a:pt x="1563" y="218"/>
                  </a:lnTo>
                  <a:lnTo>
                    <a:pt x="1558" y="223"/>
                  </a:lnTo>
                  <a:lnTo>
                    <a:pt x="1558" y="233"/>
                  </a:lnTo>
                  <a:lnTo>
                    <a:pt x="1553" y="238"/>
                  </a:lnTo>
                  <a:lnTo>
                    <a:pt x="1548" y="243"/>
                  </a:lnTo>
                  <a:lnTo>
                    <a:pt x="1543" y="243"/>
                  </a:lnTo>
                  <a:lnTo>
                    <a:pt x="1538" y="247"/>
                  </a:lnTo>
                  <a:lnTo>
                    <a:pt x="1528" y="247"/>
                  </a:lnTo>
                  <a:lnTo>
                    <a:pt x="1523" y="252"/>
                  </a:lnTo>
                  <a:lnTo>
                    <a:pt x="1513" y="252"/>
                  </a:lnTo>
                  <a:lnTo>
                    <a:pt x="1508" y="247"/>
                  </a:lnTo>
                  <a:lnTo>
                    <a:pt x="1499" y="243"/>
                  </a:lnTo>
                  <a:lnTo>
                    <a:pt x="1499" y="238"/>
                  </a:lnTo>
                  <a:lnTo>
                    <a:pt x="1504" y="233"/>
                  </a:lnTo>
                  <a:lnTo>
                    <a:pt x="1508" y="228"/>
                  </a:lnTo>
                  <a:lnTo>
                    <a:pt x="1513" y="228"/>
                  </a:lnTo>
                  <a:lnTo>
                    <a:pt x="1523" y="228"/>
                  </a:lnTo>
                  <a:lnTo>
                    <a:pt x="1528" y="228"/>
                  </a:lnTo>
                  <a:lnTo>
                    <a:pt x="1538" y="233"/>
                  </a:lnTo>
                  <a:lnTo>
                    <a:pt x="1543" y="233"/>
                  </a:lnTo>
                  <a:lnTo>
                    <a:pt x="1548" y="228"/>
                  </a:lnTo>
                  <a:lnTo>
                    <a:pt x="1553" y="228"/>
                  </a:lnTo>
                  <a:lnTo>
                    <a:pt x="1558" y="223"/>
                  </a:lnTo>
                  <a:lnTo>
                    <a:pt x="1563" y="213"/>
                  </a:lnTo>
                  <a:lnTo>
                    <a:pt x="1568" y="208"/>
                  </a:lnTo>
                  <a:lnTo>
                    <a:pt x="1568" y="208"/>
                  </a:lnTo>
                  <a:lnTo>
                    <a:pt x="1573" y="203"/>
                  </a:lnTo>
                  <a:lnTo>
                    <a:pt x="1583" y="198"/>
                  </a:lnTo>
                  <a:lnTo>
                    <a:pt x="1588" y="198"/>
                  </a:lnTo>
                  <a:lnTo>
                    <a:pt x="1598" y="198"/>
                  </a:lnTo>
                  <a:lnTo>
                    <a:pt x="1607" y="198"/>
                  </a:lnTo>
                  <a:lnTo>
                    <a:pt x="1617" y="198"/>
                  </a:lnTo>
                  <a:lnTo>
                    <a:pt x="1622" y="198"/>
                  </a:lnTo>
                  <a:lnTo>
                    <a:pt x="1627" y="203"/>
                  </a:lnTo>
                  <a:lnTo>
                    <a:pt x="1632" y="208"/>
                  </a:lnTo>
                  <a:lnTo>
                    <a:pt x="1632" y="213"/>
                  </a:lnTo>
                  <a:lnTo>
                    <a:pt x="1637" y="218"/>
                  </a:lnTo>
                  <a:lnTo>
                    <a:pt x="1642" y="223"/>
                  </a:lnTo>
                  <a:lnTo>
                    <a:pt x="1647" y="223"/>
                  </a:lnTo>
                  <a:lnTo>
                    <a:pt x="1652" y="228"/>
                  </a:lnTo>
                  <a:lnTo>
                    <a:pt x="1657" y="233"/>
                  </a:lnTo>
                  <a:lnTo>
                    <a:pt x="1662" y="238"/>
                  </a:lnTo>
                  <a:lnTo>
                    <a:pt x="1662" y="243"/>
                  </a:lnTo>
                  <a:lnTo>
                    <a:pt x="1667" y="247"/>
                  </a:lnTo>
                  <a:lnTo>
                    <a:pt x="1667" y="252"/>
                  </a:lnTo>
                  <a:lnTo>
                    <a:pt x="1672" y="257"/>
                  </a:lnTo>
                  <a:lnTo>
                    <a:pt x="1677" y="262"/>
                  </a:lnTo>
                  <a:lnTo>
                    <a:pt x="1682" y="262"/>
                  </a:lnTo>
                  <a:lnTo>
                    <a:pt x="1677" y="267"/>
                  </a:lnTo>
                  <a:lnTo>
                    <a:pt x="1672" y="267"/>
                  </a:lnTo>
                  <a:close/>
                  <a:moveTo>
                    <a:pt x="1968" y="238"/>
                  </a:moveTo>
                  <a:lnTo>
                    <a:pt x="1959" y="238"/>
                  </a:lnTo>
                  <a:lnTo>
                    <a:pt x="1954" y="233"/>
                  </a:lnTo>
                  <a:lnTo>
                    <a:pt x="1949" y="228"/>
                  </a:lnTo>
                  <a:lnTo>
                    <a:pt x="1944" y="228"/>
                  </a:lnTo>
                  <a:lnTo>
                    <a:pt x="1939" y="223"/>
                  </a:lnTo>
                  <a:lnTo>
                    <a:pt x="1934" y="218"/>
                  </a:lnTo>
                  <a:lnTo>
                    <a:pt x="1929" y="213"/>
                  </a:lnTo>
                  <a:lnTo>
                    <a:pt x="1924" y="213"/>
                  </a:lnTo>
                  <a:lnTo>
                    <a:pt x="1919" y="208"/>
                  </a:lnTo>
                  <a:lnTo>
                    <a:pt x="1909" y="203"/>
                  </a:lnTo>
                  <a:lnTo>
                    <a:pt x="1904" y="203"/>
                  </a:lnTo>
                  <a:lnTo>
                    <a:pt x="1894" y="198"/>
                  </a:lnTo>
                  <a:lnTo>
                    <a:pt x="1889" y="203"/>
                  </a:lnTo>
                  <a:lnTo>
                    <a:pt x="1879" y="203"/>
                  </a:lnTo>
                  <a:lnTo>
                    <a:pt x="1874" y="208"/>
                  </a:lnTo>
                  <a:lnTo>
                    <a:pt x="1870" y="213"/>
                  </a:lnTo>
                  <a:lnTo>
                    <a:pt x="1865" y="218"/>
                  </a:lnTo>
                  <a:lnTo>
                    <a:pt x="1865" y="223"/>
                  </a:lnTo>
                  <a:lnTo>
                    <a:pt x="1855" y="218"/>
                  </a:lnTo>
                  <a:lnTo>
                    <a:pt x="1850" y="213"/>
                  </a:lnTo>
                  <a:lnTo>
                    <a:pt x="1850" y="208"/>
                  </a:lnTo>
                  <a:lnTo>
                    <a:pt x="1855" y="208"/>
                  </a:lnTo>
                  <a:lnTo>
                    <a:pt x="1865" y="203"/>
                  </a:lnTo>
                  <a:lnTo>
                    <a:pt x="1870" y="198"/>
                  </a:lnTo>
                  <a:lnTo>
                    <a:pt x="1870" y="193"/>
                  </a:lnTo>
                  <a:lnTo>
                    <a:pt x="1870" y="188"/>
                  </a:lnTo>
                  <a:lnTo>
                    <a:pt x="1870" y="183"/>
                  </a:lnTo>
                  <a:lnTo>
                    <a:pt x="1865" y="178"/>
                  </a:lnTo>
                  <a:lnTo>
                    <a:pt x="1855" y="178"/>
                  </a:lnTo>
                  <a:lnTo>
                    <a:pt x="1850" y="178"/>
                  </a:lnTo>
                  <a:lnTo>
                    <a:pt x="1840" y="178"/>
                  </a:lnTo>
                  <a:lnTo>
                    <a:pt x="1835" y="178"/>
                  </a:lnTo>
                  <a:lnTo>
                    <a:pt x="1825" y="173"/>
                  </a:lnTo>
                  <a:lnTo>
                    <a:pt x="1825" y="168"/>
                  </a:lnTo>
                  <a:lnTo>
                    <a:pt x="1820" y="163"/>
                  </a:lnTo>
                  <a:lnTo>
                    <a:pt x="1815" y="159"/>
                  </a:lnTo>
                  <a:lnTo>
                    <a:pt x="1810" y="154"/>
                  </a:lnTo>
                  <a:lnTo>
                    <a:pt x="1805" y="154"/>
                  </a:lnTo>
                  <a:lnTo>
                    <a:pt x="1795" y="154"/>
                  </a:lnTo>
                  <a:lnTo>
                    <a:pt x="1790" y="154"/>
                  </a:lnTo>
                  <a:lnTo>
                    <a:pt x="1780" y="154"/>
                  </a:lnTo>
                  <a:lnTo>
                    <a:pt x="1776" y="149"/>
                  </a:lnTo>
                  <a:lnTo>
                    <a:pt x="1771" y="144"/>
                  </a:lnTo>
                  <a:lnTo>
                    <a:pt x="1766" y="139"/>
                  </a:lnTo>
                  <a:lnTo>
                    <a:pt x="1761" y="134"/>
                  </a:lnTo>
                  <a:lnTo>
                    <a:pt x="1756" y="129"/>
                  </a:lnTo>
                  <a:lnTo>
                    <a:pt x="1751" y="129"/>
                  </a:lnTo>
                  <a:lnTo>
                    <a:pt x="1746" y="124"/>
                  </a:lnTo>
                  <a:lnTo>
                    <a:pt x="1736" y="124"/>
                  </a:lnTo>
                  <a:lnTo>
                    <a:pt x="1731" y="124"/>
                  </a:lnTo>
                  <a:lnTo>
                    <a:pt x="1721" y="124"/>
                  </a:lnTo>
                  <a:lnTo>
                    <a:pt x="1716" y="119"/>
                  </a:lnTo>
                  <a:lnTo>
                    <a:pt x="1716" y="114"/>
                  </a:lnTo>
                  <a:lnTo>
                    <a:pt x="1711" y="109"/>
                  </a:lnTo>
                  <a:lnTo>
                    <a:pt x="1706" y="104"/>
                  </a:lnTo>
                  <a:lnTo>
                    <a:pt x="1701" y="99"/>
                  </a:lnTo>
                  <a:lnTo>
                    <a:pt x="1691" y="99"/>
                  </a:lnTo>
                  <a:lnTo>
                    <a:pt x="1687" y="99"/>
                  </a:lnTo>
                  <a:lnTo>
                    <a:pt x="1677" y="99"/>
                  </a:lnTo>
                  <a:lnTo>
                    <a:pt x="1672" y="94"/>
                  </a:lnTo>
                  <a:lnTo>
                    <a:pt x="1667" y="89"/>
                  </a:lnTo>
                  <a:lnTo>
                    <a:pt x="1662" y="84"/>
                  </a:lnTo>
                  <a:lnTo>
                    <a:pt x="1657" y="79"/>
                  </a:lnTo>
                  <a:lnTo>
                    <a:pt x="1652" y="79"/>
                  </a:lnTo>
                  <a:lnTo>
                    <a:pt x="1647" y="74"/>
                  </a:lnTo>
                  <a:lnTo>
                    <a:pt x="1637" y="74"/>
                  </a:lnTo>
                  <a:lnTo>
                    <a:pt x="1632" y="74"/>
                  </a:lnTo>
                  <a:lnTo>
                    <a:pt x="1622" y="74"/>
                  </a:lnTo>
                  <a:lnTo>
                    <a:pt x="1617" y="70"/>
                  </a:lnTo>
                  <a:lnTo>
                    <a:pt x="1607" y="70"/>
                  </a:lnTo>
                  <a:lnTo>
                    <a:pt x="1602" y="65"/>
                  </a:lnTo>
                  <a:lnTo>
                    <a:pt x="1602" y="60"/>
                  </a:lnTo>
                  <a:lnTo>
                    <a:pt x="1602" y="55"/>
                  </a:lnTo>
                  <a:lnTo>
                    <a:pt x="1602" y="50"/>
                  </a:lnTo>
                  <a:lnTo>
                    <a:pt x="1607" y="45"/>
                  </a:lnTo>
                  <a:lnTo>
                    <a:pt x="1612" y="40"/>
                  </a:lnTo>
                  <a:lnTo>
                    <a:pt x="1622" y="35"/>
                  </a:lnTo>
                  <a:lnTo>
                    <a:pt x="1627" y="35"/>
                  </a:lnTo>
                  <a:lnTo>
                    <a:pt x="1637" y="35"/>
                  </a:lnTo>
                  <a:lnTo>
                    <a:pt x="1642" y="35"/>
                  </a:lnTo>
                  <a:lnTo>
                    <a:pt x="1652" y="35"/>
                  </a:lnTo>
                  <a:lnTo>
                    <a:pt x="1657" y="35"/>
                  </a:lnTo>
                  <a:lnTo>
                    <a:pt x="1667" y="35"/>
                  </a:lnTo>
                  <a:lnTo>
                    <a:pt x="1672" y="40"/>
                  </a:lnTo>
                  <a:lnTo>
                    <a:pt x="1677" y="40"/>
                  </a:lnTo>
                  <a:lnTo>
                    <a:pt x="1682" y="45"/>
                  </a:lnTo>
                  <a:lnTo>
                    <a:pt x="1691" y="50"/>
                  </a:lnTo>
                  <a:lnTo>
                    <a:pt x="1696" y="55"/>
                  </a:lnTo>
                  <a:lnTo>
                    <a:pt x="1701" y="55"/>
                  </a:lnTo>
                  <a:lnTo>
                    <a:pt x="1706" y="60"/>
                  </a:lnTo>
                  <a:lnTo>
                    <a:pt x="1716" y="60"/>
                  </a:lnTo>
                  <a:lnTo>
                    <a:pt x="1726" y="60"/>
                  </a:lnTo>
                  <a:lnTo>
                    <a:pt x="1731" y="60"/>
                  </a:lnTo>
                  <a:lnTo>
                    <a:pt x="1741" y="60"/>
                  </a:lnTo>
                  <a:lnTo>
                    <a:pt x="1746" y="60"/>
                  </a:lnTo>
                  <a:lnTo>
                    <a:pt x="1756" y="60"/>
                  </a:lnTo>
                  <a:lnTo>
                    <a:pt x="1766" y="60"/>
                  </a:lnTo>
                  <a:lnTo>
                    <a:pt x="1771" y="65"/>
                  </a:lnTo>
                  <a:lnTo>
                    <a:pt x="1776" y="65"/>
                  </a:lnTo>
                  <a:lnTo>
                    <a:pt x="1785" y="70"/>
                  </a:lnTo>
                  <a:lnTo>
                    <a:pt x="1790" y="74"/>
                  </a:lnTo>
                  <a:lnTo>
                    <a:pt x="1795" y="74"/>
                  </a:lnTo>
                  <a:lnTo>
                    <a:pt x="1800" y="79"/>
                  </a:lnTo>
                  <a:lnTo>
                    <a:pt x="1805" y="84"/>
                  </a:lnTo>
                  <a:lnTo>
                    <a:pt x="1810" y="84"/>
                  </a:lnTo>
                  <a:lnTo>
                    <a:pt x="1820" y="89"/>
                  </a:lnTo>
                  <a:lnTo>
                    <a:pt x="1825" y="89"/>
                  </a:lnTo>
                  <a:lnTo>
                    <a:pt x="1835" y="89"/>
                  </a:lnTo>
                  <a:lnTo>
                    <a:pt x="1845" y="89"/>
                  </a:lnTo>
                  <a:lnTo>
                    <a:pt x="1850" y="89"/>
                  </a:lnTo>
                  <a:lnTo>
                    <a:pt x="1860" y="89"/>
                  </a:lnTo>
                  <a:lnTo>
                    <a:pt x="1865" y="89"/>
                  </a:lnTo>
                  <a:lnTo>
                    <a:pt x="1874" y="89"/>
                  </a:lnTo>
                  <a:lnTo>
                    <a:pt x="1879" y="94"/>
                  </a:lnTo>
                  <a:lnTo>
                    <a:pt x="1889" y="94"/>
                  </a:lnTo>
                  <a:lnTo>
                    <a:pt x="1894" y="99"/>
                  </a:lnTo>
                  <a:lnTo>
                    <a:pt x="1899" y="104"/>
                  </a:lnTo>
                  <a:lnTo>
                    <a:pt x="1904" y="109"/>
                  </a:lnTo>
                  <a:lnTo>
                    <a:pt x="1909" y="114"/>
                  </a:lnTo>
                  <a:lnTo>
                    <a:pt x="1914" y="114"/>
                  </a:lnTo>
                  <a:lnTo>
                    <a:pt x="1919" y="119"/>
                  </a:lnTo>
                  <a:lnTo>
                    <a:pt x="1924" y="119"/>
                  </a:lnTo>
                  <a:lnTo>
                    <a:pt x="1934" y="119"/>
                  </a:lnTo>
                  <a:lnTo>
                    <a:pt x="1944" y="119"/>
                  </a:lnTo>
                  <a:lnTo>
                    <a:pt x="1949" y="119"/>
                  </a:lnTo>
                  <a:lnTo>
                    <a:pt x="1959" y="119"/>
                  </a:lnTo>
                  <a:lnTo>
                    <a:pt x="1963" y="124"/>
                  </a:lnTo>
                  <a:lnTo>
                    <a:pt x="1973" y="124"/>
                  </a:lnTo>
                  <a:lnTo>
                    <a:pt x="1983" y="124"/>
                  </a:lnTo>
                  <a:lnTo>
                    <a:pt x="1988" y="124"/>
                  </a:lnTo>
                  <a:lnTo>
                    <a:pt x="1998" y="124"/>
                  </a:lnTo>
                  <a:lnTo>
                    <a:pt x="2003" y="129"/>
                  </a:lnTo>
                  <a:lnTo>
                    <a:pt x="2003" y="134"/>
                  </a:lnTo>
                  <a:lnTo>
                    <a:pt x="2008" y="139"/>
                  </a:lnTo>
                  <a:lnTo>
                    <a:pt x="2013" y="144"/>
                  </a:lnTo>
                  <a:lnTo>
                    <a:pt x="2013" y="149"/>
                  </a:lnTo>
                  <a:lnTo>
                    <a:pt x="2018" y="154"/>
                  </a:lnTo>
                  <a:lnTo>
                    <a:pt x="2023" y="154"/>
                  </a:lnTo>
                  <a:lnTo>
                    <a:pt x="2028" y="159"/>
                  </a:lnTo>
                  <a:lnTo>
                    <a:pt x="2038" y="159"/>
                  </a:lnTo>
                  <a:lnTo>
                    <a:pt x="2048" y="159"/>
                  </a:lnTo>
                  <a:lnTo>
                    <a:pt x="2052" y="159"/>
                  </a:lnTo>
                  <a:lnTo>
                    <a:pt x="2052" y="163"/>
                  </a:lnTo>
                  <a:lnTo>
                    <a:pt x="2048" y="168"/>
                  </a:lnTo>
                  <a:lnTo>
                    <a:pt x="2043" y="173"/>
                  </a:lnTo>
                  <a:lnTo>
                    <a:pt x="2043" y="178"/>
                  </a:lnTo>
                  <a:lnTo>
                    <a:pt x="2038" y="183"/>
                  </a:lnTo>
                  <a:lnTo>
                    <a:pt x="2038" y="188"/>
                  </a:lnTo>
                  <a:lnTo>
                    <a:pt x="2033" y="193"/>
                  </a:lnTo>
                  <a:lnTo>
                    <a:pt x="2033" y="198"/>
                  </a:lnTo>
                  <a:lnTo>
                    <a:pt x="2028" y="203"/>
                  </a:lnTo>
                  <a:lnTo>
                    <a:pt x="2023" y="208"/>
                  </a:lnTo>
                  <a:lnTo>
                    <a:pt x="2023" y="213"/>
                  </a:lnTo>
                  <a:lnTo>
                    <a:pt x="2018" y="218"/>
                  </a:lnTo>
                  <a:lnTo>
                    <a:pt x="2018" y="223"/>
                  </a:lnTo>
                  <a:lnTo>
                    <a:pt x="2013" y="228"/>
                  </a:lnTo>
                  <a:lnTo>
                    <a:pt x="2013" y="233"/>
                  </a:lnTo>
                  <a:lnTo>
                    <a:pt x="2008" y="238"/>
                  </a:lnTo>
                  <a:lnTo>
                    <a:pt x="2003" y="238"/>
                  </a:lnTo>
                  <a:lnTo>
                    <a:pt x="1998" y="243"/>
                  </a:lnTo>
                  <a:lnTo>
                    <a:pt x="1988" y="243"/>
                  </a:lnTo>
                  <a:lnTo>
                    <a:pt x="1978" y="243"/>
                  </a:lnTo>
                  <a:lnTo>
                    <a:pt x="1973" y="243"/>
                  </a:lnTo>
                  <a:lnTo>
                    <a:pt x="1968" y="238"/>
                  </a:lnTo>
                  <a:close/>
                  <a:moveTo>
                    <a:pt x="1365" y="213"/>
                  </a:moveTo>
                  <a:lnTo>
                    <a:pt x="1370" y="208"/>
                  </a:lnTo>
                  <a:lnTo>
                    <a:pt x="1375" y="203"/>
                  </a:lnTo>
                  <a:lnTo>
                    <a:pt x="1380" y="203"/>
                  </a:lnTo>
                  <a:lnTo>
                    <a:pt x="1385" y="203"/>
                  </a:lnTo>
                  <a:lnTo>
                    <a:pt x="1390" y="203"/>
                  </a:lnTo>
                  <a:lnTo>
                    <a:pt x="1400" y="208"/>
                  </a:lnTo>
                  <a:lnTo>
                    <a:pt x="1400" y="213"/>
                  </a:lnTo>
                  <a:lnTo>
                    <a:pt x="1400" y="218"/>
                  </a:lnTo>
                  <a:lnTo>
                    <a:pt x="1395" y="223"/>
                  </a:lnTo>
                  <a:lnTo>
                    <a:pt x="1385" y="223"/>
                  </a:lnTo>
                  <a:lnTo>
                    <a:pt x="1380" y="223"/>
                  </a:lnTo>
                  <a:lnTo>
                    <a:pt x="1375" y="223"/>
                  </a:lnTo>
                  <a:lnTo>
                    <a:pt x="1370" y="218"/>
                  </a:lnTo>
                  <a:lnTo>
                    <a:pt x="1365" y="213"/>
                  </a:lnTo>
                  <a:close/>
                  <a:moveTo>
                    <a:pt x="1217" y="188"/>
                  </a:moveTo>
                  <a:lnTo>
                    <a:pt x="1222" y="183"/>
                  </a:lnTo>
                  <a:lnTo>
                    <a:pt x="1222" y="183"/>
                  </a:lnTo>
                  <a:lnTo>
                    <a:pt x="1222" y="183"/>
                  </a:lnTo>
                  <a:lnTo>
                    <a:pt x="1222" y="183"/>
                  </a:lnTo>
                  <a:lnTo>
                    <a:pt x="1227" y="183"/>
                  </a:lnTo>
                  <a:lnTo>
                    <a:pt x="1227" y="188"/>
                  </a:lnTo>
                  <a:lnTo>
                    <a:pt x="1227" y="188"/>
                  </a:lnTo>
                  <a:lnTo>
                    <a:pt x="1227" y="188"/>
                  </a:lnTo>
                  <a:lnTo>
                    <a:pt x="1222" y="188"/>
                  </a:lnTo>
                  <a:lnTo>
                    <a:pt x="1222" y="188"/>
                  </a:lnTo>
                  <a:lnTo>
                    <a:pt x="1222" y="188"/>
                  </a:lnTo>
                  <a:lnTo>
                    <a:pt x="1222" y="188"/>
                  </a:lnTo>
                  <a:lnTo>
                    <a:pt x="1217" y="188"/>
                  </a:lnTo>
                  <a:lnTo>
                    <a:pt x="1217" y="188"/>
                  </a:lnTo>
                  <a:close/>
                  <a:moveTo>
                    <a:pt x="1444" y="188"/>
                  </a:moveTo>
                  <a:lnTo>
                    <a:pt x="1449" y="178"/>
                  </a:lnTo>
                  <a:lnTo>
                    <a:pt x="1454" y="178"/>
                  </a:lnTo>
                  <a:lnTo>
                    <a:pt x="1459" y="173"/>
                  </a:lnTo>
                  <a:lnTo>
                    <a:pt x="1469" y="173"/>
                  </a:lnTo>
                  <a:lnTo>
                    <a:pt x="1474" y="178"/>
                  </a:lnTo>
                  <a:lnTo>
                    <a:pt x="1479" y="183"/>
                  </a:lnTo>
                  <a:lnTo>
                    <a:pt x="1484" y="188"/>
                  </a:lnTo>
                  <a:lnTo>
                    <a:pt x="1479" y="193"/>
                  </a:lnTo>
                  <a:lnTo>
                    <a:pt x="1474" y="198"/>
                  </a:lnTo>
                  <a:lnTo>
                    <a:pt x="1464" y="198"/>
                  </a:lnTo>
                  <a:lnTo>
                    <a:pt x="1459" y="198"/>
                  </a:lnTo>
                  <a:lnTo>
                    <a:pt x="1454" y="198"/>
                  </a:lnTo>
                  <a:lnTo>
                    <a:pt x="1449" y="193"/>
                  </a:lnTo>
                  <a:lnTo>
                    <a:pt x="1444" y="188"/>
                  </a:lnTo>
                  <a:close/>
                  <a:moveTo>
                    <a:pt x="1766" y="188"/>
                  </a:moveTo>
                  <a:lnTo>
                    <a:pt x="1771" y="178"/>
                  </a:lnTo>
                  <a:lnTo>
                    <a:pt x="1776" y="178"/>
                  </a:lnTo>
                  <a:lnTo>
                    <a:pt x="1780" y="173"/>
                  </a:lnTo>
                  <a:lnTo>
                    <a:pt x="1790" y="173"/>
                  </a:lnTo>
                  <a:lnTo>
                    <a:pt x="1795" y="178"/>
                  </a:lnTo>
                  <a:lnTo>
                    <a:pt x="1805" y="183"/>
                  </a:lnTo>
                  <a:lnTo>
                    <a:pt x="1805" y="188"/>
                  </a:lnTo>
                  <a:lnTo>
                    <a:pt x="1800" y="193"/>
                  </a:lnTo>
                  <a:lnTo>
                    <a:pt x="1795" y="193"/>
                  </a:lnTo>
                  <a:lnTo>
                    <a:pt x="1785" y="198"/>
                  </a:lnTo>
                  <a:lnTo>
                    <a:pt x="1780" y="198"/>
                  </a:lnTo>
                  <a:lnTo>
                    <a:pt x="1776" y="198"/>
                  </a:lnTo>
                  <a:lnTo>
                    <a:pt x="1771" y="193"/>
                  </a:lnTo>
                  <a:lnTo>
                    <a:pt x="1766" y="188"/>
                  </a:lnTo>
                  <a:close/>
                  <a:moveTo>
                    <a:pt x="1286" y="159"/>
                  </a:moveTo>
                  <a:lnTo>
                    <a:pt x="1291" y="154"/>
                  </a:lnTo>
                  <a:lnTo>
                    <a:pt x="1296" y="149"/>
                  </a:lnTo>
                  <a:lnTo>
                    <a:pt x="1301" y="149"/>
                  </a:lnTo>
                  <a:lnTo>
                    <a:pt x="1306" y="149"/>
                  </a:lnTo>
                  <a:lnTo>
                    <a:pt x="1311" y="154"/>
                  </a:lnTo>
                  <a:lnTo>
                    <a:pt x="1316" y="159"/>
                  </a:lnTo>
                  <a:lnTo>
                    <a:pt x="1316" y="163"/>
                  </a:lnTo>
                  <a:lnTo>
                    <a:pt x="1316" y="168"/>
                  </a:lnTo>
                  <a:lnTo>
                    <a:pt x="1311" y="173"/>
                  </a:lnTo>
                  <a:lnTo>
                    <a:pt x="1306" y="173"/>
                  </a:lnTo>
                  <a:lnTo>
                    <a:pt x="1301" y="173"/>
                  </a:lnTo>
                  <a:lnTo>
                    <a:pt x="1296" y="173"/>
                  </a:lnTo>
                  <a:lnTo>
                    <a:pt x="1291" y="168"/>
                  </a:lnTo>
                  <a:lnTo>
                    <a:pt x="1286" y="159"/>
                  </a:lnTo>
                  <a:close/>
                  <a:moveTo>
                    <a:pt x="1499" y="159"/>
                  </a:moveTo>
                  <a:lnTo>
                    <a:pt x="1504" y="154"/>
                  </a:lnTo>
                  <a:lnTo>
                    <a:pt x="1508" y="149"/>
                  </a:lnTo>
                  <a:lnTo>
                    <a:pt x="1513" y="149"/>
                  </a:lnTo>
                  <a:lnTo>
                    <a:pt x="1523" y="144"/>
                  </a:lnTo>
                  <a:lnTo>
                    <a:pt x="1528" y="144"/>
                  </a:lnTo>
                  <a:lnTo>
                    <a:pt x="1538" y="149"/>
                  </a:lnTo>
                  <a:lnTo>
                    <a:pt x="1548" y="149"/>
                  </a:lnTo>
                  <a:lnTo>
                    <a:pt x="1558" y="154"/>
                  </a:lnTo>
                  <a:lnTo>
                    <a:pt x="1563" y="159"/>
                  </a:lnTo>
                  <a:lnTo>
                    <a:pt x="1563" y="163"/>
                  </a:lnTo>
                  <a:lnTo>
                    <a:pt x="1563" y="168"/>
                  </a:lnTo>
                  <a:lnTo>
                    <a:pt x="1553" y="173"/>
                  </a:lnTo>
                  <a:lnTo>
                    <a:pt x="1548" y="173"/>
                  </a:lnTo>
                  <a:lnTo>
                    <a:pt x="1538" y="178"/>
                  </a:lnTo>
                  <a:lnTo>
                    <a:pt x="1528" y="178"/>
                  </a:lnTo>
                  <a:lnTo>
                    <a:pt x="1518" y="178"/>
                  </a:lnTo>
                  <a:lnTo>
                    <a:pt x="1513" y="173"/>
                  </a:lnTo>
                  <a:lnTo>
                    <a:pt x="1504" y="168"/>
                  </a:lnTo>
                  <a:lnTo>
                    <a:pt x="1499" y="163"/>
                  </a:lnTo>
                  <a:lnTo>
                    <a:pt x="1499" y="159"/>
                  </a:lnTo>
                  <a:close/>
                  <a:moveTo>
                    <a:pt x="1691" y="159"/>
                  </a:moveTo>
                  <a:lnTo>
                    <a:pt x="1682" y="154"/>
                  </a:lnTo>
                  <a:lnTo>
                    <a:pt x="1677" y="154"/>
                  </a:lnTo>
                  <a:lnTo>
                    <a:pt x="1667" y="149"/>
                  </a:lnTo>
                  <a:lnTo>
                    <a:pt x="1657" y="149"/>
                  </a:lnTo>
                  <a:lnTo>
                    <a:pt x="1647" y="154"/>
                  </a:lnTo>
                  <a:lnTo>
                    <a:pt x="1642" y="154"/>
                  </a:lnTo>
                  <a:lnTo>
                    <a:pt x="1632" y="154"/>
                  </a:lnTo>
                  <a:lnTo>
                    <a:pt x="1622" y="154"/>
                  </a:lnTo>
                  <a:lnTo>
                    <a:pt x="1612" y="154"/>
                  </a:lnTo>
                  <a:lnTo>
                    <a:pt x="1602" y="154"/>
                  </a:lnTo>
                  <a:lnTo>
                    <a:pt x="1593" y="154"/>
                  </a:lnTo>
                  <a:lnTo>
                    <a:pt x="1588" y="149"/>
                  </a:lnTo>
                  <a:lnTo>
                    <a:pt x="1578" y="144"/>
                  </a:lnTo>
                  <a:lnTo>
                    <a:pt x="1573" y="139"/>
                  </a:lnTo>
                  <a:lnTo>
                    <a:pt x="1568" y="134"/>
                  </a:lnTo>
                  <a:lnTo>
                    <a:pt x="1573" y="129"/>
                  </a:lnTo>
                  <a:lnTo>
                    <a:pt x="1578" y="124"/>
                  </a:lnTo>
                  <a:lnTo>
                    <a:pt x="1583" y="119"/>
                  </a:lnTo>
                  <a:lnTo>
                    <a:pt x="1593" y="114"/>
                  </a:lnTo>
                  <a:lnTo>
                    <a:pt x="1602" y="114"/>
                  </a:lnTo>
                  <a:lnTo>
                    <a:pt x="1607" y="114"/>
                  </a:lnTo>
                  <a:lnTo>
                    <a:pt x="1617" y="114"/>
                  </a:lnTo>
                  <a:lnTo>
                    <a:pt x="1627" y="114"/>
                  </a:lnTo>
                  <a:lnTo>
                    <a:pt x="1637" y="114"/>
                  </a:lnTo>
                  <a:lnTo>
                    <a:pt x="1647" y="114"/>
                  </a:lnTo>
                  <a:lnTo>
                    <a:pt x="1657" y="114"/>
                  </a:lnTo>
                  <a:lnTo>
                    <a:pt x="1662" y="114"/>
                  </a:lnTo>
                  <a:lnTo>
                    <a:pt x="1672" y="119"/>
                  </a:lnTo>
                  <a:lnTo>
                    <a:pt x="1682" y="119"/>
                  </a:lnTo>
                  <a:lnTo>
                    <a:pt x="1687" y="124"/>
                  </a:lnTo>
                  <a:lnTo>
                    <a:pt x="1691" y="129"/>
                  </a:lnTo>
                  <a:lnTo>
                    <a:pt x="1696" y="134"/>
                  </a:lnTo>
                  <a:lnTo>
                    <a:pt x="1696" y="144"/>
                  </a:lnTo>
                  <a:lnTo>
                    <a:pt x="1701" y="149"/>
                  </a:lnTo>
                  <a:lnTo>
                    <a:pt x="1706" y="149"/>
                  </a:lnTo>
                  <a:lnTo>
                    <a:pt x="1716" y="144"/>
                  </a:lnTo>
                  <a:lnTo>
                    <a:pt x="1726" y="144"/>
                  </a:lnTo>
                  <a:lnTo>
                    <a:pt x="1736" y="144"/>
                  </a:lnTo>
                  <a:lnTo>
                    <a:pt x="1741" y="149"/>
                  </a:lnTo>
                  <a:lnTo>
                    <a:pt x="1746" y="154"/>
                  </a:lnTo>
                  <a:lnTo>
                    <a:pt x="1751" y="159"/>
                  </a:lnTo>
                  <a:lnTo>
                    <a:pt x="1746" y="168"/>
                  </a:lnTo>
                  <a:lnTo>
                    <a:pt x="1741" y="173"/>
                  </a:lnTo>
                  <a:lnTo>
                    <a:pt x="1736" y="178"/>
                  </a:lnTo>
                  <a:lnTo>
                    <a:pt x="1726" y="178"/>
                  </a:lnTo>
                  <a:lnTo>
                    <a:pt x="1716" y="173"/>
                  </a:lnTo>
                  <a:lnTo>
                    <a:pt x="1711" y="173"/>
                  </a:lnTo>
                  <a:lnTo>
                    <a:pt x="1701" y="168"/>
                  </a:lnTo>
                  <a:lnTo>
                    <a:pt x="1696" y="163"/>
                  </a:lnTo>
                  <a:lnTo>
                    <a:pt x="1691" y="159"/>
                  </a:lnTo>
                  <a:close/>
                  <a:moveTo>
                    <a:pt x="1365" y="134"/>
                  </a:moveTo>
                  <a:lnTo>
                    <a:pt x="1365" y="124"/>
                  </a:lnTo>
                  <a:lnTo>
                    <a:pt x="1370" y="119"/>
                  </a:lnTo>
                  <a:lnTo>
                    <a:pt x="1380" y="119"/>
                  </a:lnTo>
                  <a:lnTo>
                    <a:pt x="1385" y="119"/>
                  </a:lnTo>
                  <a:lnTo>
                    <a:pt x="1390" y="119"/>
                  </a:lnTo>
                  <a:lnTo>
                    <a:pt x="1400" y="119"/>
                  </a:lnTo>
                  <a:lnTo>
                    <a:pt x="1405" y="124"/>
                  </a:lnTo>
                  <a:lnTo>
                    <a:pt x="1415" y="129"/>
                  </a:lnTo>
                  <a:lnTo>
                    <a:pt x="1419" y="129"/>
                  </a:lnTo>
                  <a:lnTo>
                    <a:pt x="1419" y="134"/>
                  </a:lnTo>
                  <a:lnTo>
                    <a:pt x="1415" y="139"/>
                  </a:lnTo>
                  <a:lnTo>
                    <a:pt x="1405" y="144"/>
                  </a:lnTo>
                  <a:lnTo>
                    <a:pt x="1400" y="149"/>
                  </a:lnTo>
                  <a:lnTo>
                    <a:pt x="1390" y="154"/>
                  </a:lnTo>
                  <a:lnTo>
                    <a:pt x="1385" y="154"/>
                  </a:lnTo>
                  <a:lnTo>
                    <a:pt x="1380" y="154"/>
                  </a:lnTo>
                  <a:lnTo>
                    <a:pt x="1375" y="149"/>
                  </a:lnTo>
                  <a:lnTo>
                    <a:pt x="1370" y="149"/>
                  </a:lnTo>
                  <a:lnTo>
                    <a:pt x="1365" y="139"/>
                  </a:lnTo>
                  <a:lnTo>
                    <a:pt x="1365" y="134"/>
                  </a:lnTo>
                  <a:close/>
                  <a:moveTo>
                    <a:pt x="1444" y="104"/>
                  </a:moveTo>
                  <a:lnTo>
                    <a:pt x="1444" y="99"/>
                  </a:lnTo>
                  <a:lnTo>
                    <a:pt x="1454" y="94"/>
                  </a:lnTo>
                  <a:lnTo>
                    <a:pt x="1459" y="89"/>
                  </a:lnTo>
                  <a:lnTo>
                    <a:pt x="1469" y="89"/>
                  </a:lnTo>
                  <a:lnTo>
                    <a:pt x="1479" y="89"/>
                  </a:lnTo>
                  <a:lnTo>
                    <a:pt x="1489" y="89"/>
                  </a:lnTo>
                  <a:lnTo>
                    <a:pt x="1499" y="89"/>
                  </a:lnTo>
                  <a:lnTo>
                    <a:pt x="1504" y="99"/>
                  </a:lnTo>
                  <a:lnTo>
                    <a:pt x="1508" y="104"/>
                  </a:lnTo>
                  <a:lnTo>
                    <a:pt x="1508" y="109"/>
                  </a:lnTo>
                  <a:lnTo>
                    <a:pt x="1508" y="114"/>
                  </a:lnTo>
                  <a:lnTo>
                    <a:pt x="1499" y="119"/>
                  </a:lnTo>
                  <a:lnTo>
                    <a:pt x="1494" y="124"/>
                  </a:lnTo>
                  <a:lnTo>
                    <a:pt x="1484" y="129"/>
                  </a:lnTo>
                  <a:lnTo>
                    <a:pt x="1474" y="129"/>
                  </a:lnTo>
                  <a:lnTo>
                    <a:pt x="1464" y="129"/>
                  </a:lnTo>
                  <a:lnTo>
                    <a:pt x="1454" y="124"/>
                  </a:lnTo>
                  <a:lnTo>
                    <a:pt x="1449" y="119"/>
                  </a:lnTo>
                  <a:lnTo>
                    <a:pt x="1444" y="114"/>
                  </a:lnTo>
                  <a:lnTo>
                    <a:pt x="1444" y="104"/>
                  </a:lnTo>
                  <a:close/>
                  <a:moveTo>
                    <a:pt x="1523" y="79"/>
                  </a:moveTo>
                  <a:lnTo>
                    <a:pt x="1528" y="74"/>
                  </a:lnTo>
                  <a:lnTo>
                    <a:pt x="1533" y="70"/>
                  </a:lnTo>
                  <a:lnTo>
                    <a:pt x="1538" y="65"/>
                  </a:lnTo>
                  <a:lnTo>
                    <a:pt x="1548" y="60"/>
                  </a:lnTo>
                  <a:lnTo>
                    <a:pt x="1558" y="60"/>
                  </a:lnTo>
                  <a:lnTo>
                    <a:pt x="1568" y="60"/>
                  </a:lnTo>
                  <a:lnTo>
                    <a:pt x="1578" y="65"/>
                  </a:lnTo>
                  <a:lnTo>
                    <a:pt x="1588" y="70"/>
                  </a:lnTo>
                  <a:lnTo>
                    <a:pt x="1593" y="74"/>
                  </a:lnTo>
                  <a:lnTo>
                    <a:pt x="1593" y="79"/>
                  </a:lnTo>
                  <a:lnTo>
                    <a:pt x="1588" y="89"/>
                  </a:lnTo>
                  <a:lnTo>
                    <a:pt x="1583" y="94"/>
                  </a:lnTo>
                  <a:lnTo>
                    <a:pt x="1573" y="99"/>
                  </a:lnTo>
                  <a:lnTo>
                    <a:pt x="1563" y="99"/>
                  </a:lnTo>
                  <a:lnTo>
                    <a:pt x="1553" y="104"/>
                  </a:lnTo>
                  <a:lnTo>
                    <a:pt x="1543" y="104"/>
                  </a:lnTo>
                  <a:lnTo>
                    <a:pt x="1533" y="99"/>
                  </a:lnTo>
                  <a:lnTo>
                    <a:pt x="1528" y="94"/>
                  </a:lnTo>
                  <a:lnTo>
                    <a:pt x="1523" y="89"/>
                  </a:lnTo>
                  <a:lnTo>
                    <a:pt x="1523" y="79"/>
                  </a:lnTo>
                  <a:close/>
                </a:path>
              </a:pathLst>
            </a:custGeom>
            <a:solidFill>
              <a:srgbClr val="ffc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3" name=""/>
            <p:cNvSpPr/>
            <p:nvPr/>
          </p:nvSpPr>
          <p:spPr>
            <a:xfrm>
              <a:off x="2265120" y="2368440"/>
              <a:ext cx="4098960" cy="2628360"/>
            </a:xfrm>
            <a:custGeom>
              <a:avLst/>
              <a:gdLst/>
              <a:ahLst/>
              <a:rect l="l" t="t" r="r" b="b"/>
              <a:pathLst>
                <a:path w="2582" h="1656">
                  <a:moveTo>
                    <a:pt x="2235" y="1656"/>
                  </a:moveTo>
                  <a:lnTo>
                    <a:pt x="2260" y="1631"/>
                  </a:lnTo>
                  <a:lnTo>
                    <a:pt x="2285" y="1631"/>
                  </a:lnTo>
                  <a:lnTo>
                    <a:pt x="2315" y="1631"/>
                  </a:lnTo>
                  <a:lnTo>
                    <a:pt x="2339" y="1631"/>
                  </a:lnTo>
                  <a:lnTo>
                    <a:pt x="2369" y="1631"/>
                  </a:lnTo>
                  <a:lnTo>
                    <a:pt x="2394" y="1631"/>
                  </a:lnTo>
                  <a:lnTo>
                    <a:pt x="2418" y="1631"/>
                  </a:lnTo>
                  <a:lnTo>
                    <a:pt x="2448" y="1602"/>
                  </a:lnTo>
                  <a:lnTo>
                    <a:pt x="2448" y="1577"/>
                  </a:lnTo>
                  <a:lnTo>
                    <a:pt x="2448" y="1547"/>
                  </a:lnTo>
                  <a:lnTo>
                    <a:pt x="2448" y="1523"/>
                  </a:lnTo>
                  <a:lnTo>
                    <a:pt x="2473" y="1498"/>
                  </a:lnTo>
                  <a:lnTo>
                    <a:pt x="2473" y="1468"/>
                  </a:lnTo>
                  <a:lnTo>
                    <a:pt x="2473" y="1444"/>
                  </a:lnTo>
                  <a:lnTo>
                    <a:pt x="2473" y="1414"/>
                  </a:lnTo>
                  <a:lnTo>
                    <a:pt x="2503" y="1389"/>
                  </a:lnTo>
                  <a:lnTo>
                    <a:pt x="2503" y="1364"/>
                  </a:lnTo>
                  <a:lnTo>
                    <a:pt x="2503" y="1335"/>
                  </a:lnTo>
                  <a:lnTo>
                    <a:pt x="2503" y="1310"/>
                  </a:lnTo>
                  <a:lnTo>
                    <a:pt x="2527" y="1280"/>
                  </a:lnTo>
                  <a:lnTo>
                    <a:pt x="2527" y="1256"/>
                  </a:lnTo>
                  <a:lnTo>
                    <a:pt x="2527" y="1226"/>
                  </a:lnTo>
                  <a:lnTo>
                    <a:pt x="2527" y="1201"/>
                  </a:lnTo>
                  <a:lnTo>
                    <a:pt x="2552" y="1177"/>
                  </a:lnTo>
                  <a:lnTo>
                    <a:pt x="2552" y="1147"/>
                  </a:lnTo>
                  <a:lnTo>
                    <a:pt x="2552" y="1122"/>
                  </a:lnTo>
                  <a:lnTo>
                    <a:pt x="2552" y="1093"/>
                  </a:lnTo>
                  <a:lnTo>
                    <a:pt x="2582" y="1068"/>
                  </a:lnTo>
                  <a:lnTo>
                    <a:pt x="2582" y="1043"/>
                  </a:lnTo>
                  <a:lnTo>
                    <a:pt x="2582" y="1014"/>
                  </a:lnTo>
                  <a:lnTo>
                    <a:pt x="2582" y="989"/>
                  </a:lnTo>
                  <a:lnTo>
                    <a:pt x="2582" y="959"/>
                  </a:lnTo>
                  <a:lnTo>
                    <a:pt x="2582" y="934"/>
                  </a:lnTo>
                  <a:lnTo>
                    <a:pt x="2582" y="910"/>
                  </a:lnTo>
                  <a:lnTo>
                    <a:pt x="2582" y="880"/>
                  </a:lnTo>
                  <a:lnTo>
                    <a:pt x="2582" y="855"/>
                  </a:lnTo>
                  <a:lnTo>
                    <a:pt x="2582" y="826"/>
                  </a:lnTo>
                  <a:lnTo>
                    <a:pt x="2582" y="801"/>
                  </a:lnTo>
                  <a:lnTo>
                    <a:pt x="2582" y="776"/>
                  </a:lnTo>
                  <a:lnTo>
                    <a:pt x="2582" y="747"/>
                  </a:lnTo>
                  <a:lnTo>
                    <a:pt x="2582" y="722"/>
                  </a:lnTo>
                  <a:lnTo>
                    <a:pt x="2582" y="692"/>
                  </a:lnTo>
                  <a:lnTo>
                    <a:pt x="2582" y="668"/>
                  </a:lnTo>
                  <a:lnTo>
                    <a:pt x="2582" y="643"/>
                  </a:lnTo>
                  <a:lnTo>
                    <a:pt x="2582" y="613"/>
                  </a:lnTo>
                  <a:lnTo>
                    <a:pt x="2582" y="589"/>
                  </a:lnTo>
                  <a:lnTo>
                    <a:pt x="2582" y="559"/>
                  </a:lnTo>
                  <a:lnTo>
                    <a:pt x="2582" y="534"/>
                  </a:lnTo>
                  <a:lnTo>
                    <a:pt x="2582" y="504"/>
                  </a:lnTo>
                  <a:lnTo>
                    <a:pt x="2582" y="480"/>
                  </a:lnTo>
                  <a:lnTo>
                    <a:pt x="2582" y="455"/>
                  </a:lnTo>
                  <a:lnTo>
                    <a:pt x="2582" y="425"/>
                  </a:lnTo>
                  <a:lnTo>
                    <a:pt x="2582" y="401"/>
                  </a:lnTo>
                  <a:lnTo>
                    <a:pt x="2582" y="371"/>
                  </a:lnTo>
                  <a:lnTo>
                    <a:pt x="2582" y="346"/>
                  </a:lnTo>
                  <a:lnTo>
                    <a:pt x="2582" y="322"/>
                  </a:lnTo>
                  <a:lnTo>
                    <a:pt x="2582" y="292"/>
                  </a:lnTo>
                  <a:lnTo>
                    <a:pt x="2582" y="267"/>
                  </a:lnTo>
                  <a:lnTo>
                    <a:pt x="2582" y="238"/>
                  </a:lnTo>
                  <a:lnTo>
                    <a:pt x="2552" y="213"/>
                  </a:lnTo>
                  <a:lnTo>
                    <a:pt x="2552" y="188"/>
                  </a:lnTo>
                  <a:lnTo>
                    <a:pt x="2552" y="159"/>
                  </a:lnTo>
                  <a:lnTo>
                    <a:pt x="2552" y="134"/>
                  </a:lnTo>
                  <a:lnTo>
                    <a:pt x="2552" y="104"/>
                  </a:lnTo>
                  <a:lnTo>
                    <a:pt x="2527" y="79"/>
                  </a:lnTo>
                  <a:lnTo>
                    <a:pt x="2503" y="79"/>
                  </a:lnTo>
                  <a:lnTo>
                    <a:pt x="2473" y="79"/>
                  </a:lnTo>
                  <a:lnTo>
                    <a:pt x="2448" y="55"/>
                  </a:lnTo>
                  <a:lnTo>
                    <a:pt x="2418" y="55"/>
                  </a:lnTo>
                  <a:lnTo>
                    <a:pt x="2394" y="55"/>
                  </a:lnTo>
                  <a:lnTo>
                    <a:pt x="2369" y="25"/>
                  </a:lnTo>
                  <a:lnTo>
                    <a:pt x="2339" y="25"/>
                  </a:lnTo>
                  <a:lnTo>
                    <a:pt x="2315" y="25"/>
                  </a:lnTo>
                  <a:lnTo>
                    <a:pt x="2285" y="0"/>
                  </a:lnTo>
                  <a:lnTo>
                    <a:pt x="2260" y="0"/>
                  </a:lnTo>
                  <a:lnTo>
                    <a:pt x="2235" y="0"/>
                  </a:lnTo>
                  <a:lnTo>
                    <a:pt x="2206" y="0"/>
                  </a:lnTo>
                  <a:lnTo>
                    <a:pt x="2181" y="0"/>
                  </a:lnTo>
                  <a:lnTo>
                    <a:pt x="2156" y="0"/>
                  </a:lnTo>
                  <a:lnTo>
                    <a:pt x="2127" y="0"/>
                  </a:lnTo>
                  <a:lnTo>
                    <a:pt x="2102" y="0"/>
                  </a:lnTo>
                  <a:lnTo>
                    <a:pt x="2072" y="0"/>
                  </a:lnTo>
                  <a:lnTo>
                    <a:pt x="2048" y="0"/>
                  </a:lnTo>
                  <a:lnTo>
                    <a:pt x="2023" y="0"/>
                  </a:lnTo>
                  <a:lnTo>
                    <a:pt x="1993" y="0"/>
                  </a:lnTo>
                  <a:lnTo>
                    <a:pt x="1968" y="0"/>
                  </a:lnTo>
                  <a:lnTo>
                    <a:pt x="1944" y="0"/>
                  </a:lnTo>
                  <a:lnTo>
                    <a:pt x="1914" y="0"/>
                  </a:lnTo>
                  <a:lnTo>
                    <a:pt x="1889" y="0"/>
                  </a:lnTo>
                  <a:lnTo>
                    <a:pt x="1860" y="0"/>
                  </a:lnTo>
                  <a:lnTo>
                    <a:pt x="1835" y="0"/>
                  </a:lnTo>
                  <a:lnTo>
                    <a:pt x="1810" y="0"/>
                  </a:lnTo>
                  <a:lnTo>
                    <a:pt x="1780" y="0"/>
                  </a:lnTo>
                  <a:lnTo>
                    <a:pt x="1756" y="0"/>
                  </a:lnTo>
                  <a:lnTo>
                    <a:pt x="1726" y="0"/>
                  </a:lnTo>
                  <a:lnTo>
                    <a:pt x="1701" y="0"/>
                  </a:lnTo>
                  <a:lnTo>
                    <a:pt x="1677" y="0"/>
                  </a:lnTo>
                  <a:lnTo>
                    <a:pt x="1647" y="0"/>
                  </a:lnTo>
                  <a:lnTo>
                    <a:pt x="1622" y="0"/>
                  </a:lnTo>
                  <a:lnTo>
                    <a:pt x="1598" y="0"/>
                  </a:lnTo>
                  <a:lnTo>
                    <a:pt x="1568" y="0"/>
                  </a:lnTo>
                  <a:lnTo>
                    <a:pt x="1543" y="0"/>
                  </a:lnTo>
                  <a:lnTo>
                    <a:pt x="1513" y="0"/>
                  </a:lnTo>
                  <a:lnTo>
                    <a:pt x="1489" y="0"/>
                  </a:lnTo>
                  <a:lnTo>
                    <a:pt x="1464" y="0"/>
                  </a:lnTo>
                  <a:lnTo>
                    <a:pt x="1434" y="0"/>
                  </a:lnTo>
                  <a:lnTo>
                    <a:pt x="1410" y="0"/>
                  </a:lnTo>
                  <a:lnTo>
                    <a:pt x="1385" y="0"/>
                  </a:lnTo>
                  <a:lnTo>
                    <a:pt x="1355" y="0"/>
                  </a:lnTo>
                  <a:lnTo>
                    <a:pt x="1330" y="0"/>
                  </a:lnTo>
                  <a:lnTo>
                    <a:pt x="1301" y="0"/>
                  </a:lnTo>
                  <a:lnTo>
                    <a:pt x="1276" y="0"/>
                  </a:lnTo>
                  <a:lnTo>
                    <a:pt x="1251" y="0"/>
                  </a:lnTo>
                  <a:lnTo>
                    <a:pt x="1222" y="0"/>
                  </a:lnTo>
                  <a:lnTo>
                    <a:pt x="1197" y="0"/>
                  </a:lnTo>
                  <a:lnTo>
                    <a:pt x="1172" y="0"/>
                  </a:lnTo>
                  <a:lnTo>
                    <a:pt x="1143" y="0"/>
                  </a:lnTo>
                  <a:lnTo>
                    <a:pt x="1118" y="0"/>
                  </a:lnTo>
                  <a:lnTo>
                    <a:pt x="1088" y="0"/>
                  </a:lnTo>
                  <a:lnTo>
                    <a:pt x="1063" y="0"/>
                  </a:lnTo>
                  <a:lnTo>
                    <a:pt x="1039" y="0"/>
                  </a:lnTo>
                  <a:lnTo>
                    <a:pt x="1009" y="0"/>
                  </a:lnTo>
                  <a:lnTo>
                    <a:pt x="984" y="0"/>
                  </a:lnTo>
                  <a:lnTo>
                    <a:pt x="955" y="0"/>
                  </a:lnTo>
                  <a:lnTo>
                    <a:pt x="930" y="0"/>
                  </a:lnTo>
                  <a:lnTo>
                    <a:pt x="905" y="0"/>
                  </a:lnTo>
                  <a:lnTo>
                    <a:pt x="875" y="0"/>
                  </a:lnTo>
                  <a:lnTo>
                    <a:pt x="851" y="0"/>
                  </a:lnTo>
                  <a:lnTo>
                    <a:pt x="826" y="0"/>
                  </a:lnTo>
                  <a:lnTo>
                    <a:pt x="796" y="0"/>
                  </a:lnTo>
                  <a:lnTo>
                    <a:pt x="772" y="0"/>
                  </a:lnTo>
                  <a:lnTo>
                    <a:pt x="742" y="0"/>
                  </a:lnTo>
                  <a:lnTo>
                    <a:pt x="717" y="0"/>
                  </a:lnTo>
                  <a:lnTo>
                    <a:pt x="692" y="0"/>
                  </a:lnTo>
                  <a:lnTo>
                    <a:pt x="663" y="0"/>
                  </a:lnTo>
                  <a:lnTo>
                    <a:pt x="638" y="0"/>
                  </a:lnTo>
                  <a:lnTo>
                    <a:pt x="613" y="0"/>
                  </a:lnTo>
                  <a:lnTo>
                    <a:pt x="584" y="25"/>
                  </a:lnTo>
                  <a:lnTo>
                    <a:pt x="559" y="55"/>
                  </a:lnTo>
                  <a:lnTo>
                    <a:pt x="529" y="79"/>
                  </a:lnTo>
                  <a:lnTo>
                    <a:pt x="505" y="104"/>
                  </a:lnTo>
                  <a:lnTo>
                    <a:pt x="480" y="134"/>
                  </a:lnTo>
                  <a:lnTo>
                    <a:pt x="450" y="134"/>
                  </a:lnTo>
                  <a:lnTo>
                    <a:pt x="425" y="159"/>
                  </a:lnTo>
                  <a:lnTo>
                    <a:pt x="396" y="188"/>
                  </a:lnTo>
                  <a:lnTo>
                    <a:pt x="371" y="213"/>
                  </a:lnTo>
                  <a:lnTo>
                    <a:pt x="346" y="238"/>
                  </a:lnTo>
                  <a:lnTo>
                    <a:pt x="317" y="267"/>
                  </a:lnTo>
                  <a:lnTo>
                    <a:pt x="292" y="292"/>
                  </a:lnTo>
                  <a:lnTo>
                    <a:pt x="267" y="322"/>
                  </a:lnTo>
                  <a:lnTo>
                    <a:pt x="237" y="322"/>
                  </a:lnTo>
                  <a:lnTo>
                    <a:pt x="213" y="346"/>
                  </a:lnTo>
                  <a:lnTo>
                    <a:pt x="183" y="371"/>
                  </a:lnTo>
                  <a:lnTo>
                    <a:pt x="158" y="401"/>
                  </a:lnTo>
                  <a:lnTo>
                    <a:pt x="134" y="425"/>
                  </a:lnTo>
                  <a:lnTo>
                    <a:pt x="104" y="455"/>
                  </a:lnTo>
                  <a:lnTo>
                    <a:pt x="79" y="480"/>
                  </a:lnTo>
                  <a:lnTo>
                    <a:pt x="55" y="504"/>
                  </a:lnTo>
                  <a:lnTo>
                    <a:pt x="25" y="504"/>
                  </a:lnTo>
                  <a:lnTo>
                    <a:pt x="0" y="534"/>
                  </a:lnTo>
                  <a:lnTo>
                    <a:pt x="0" y="559"/>
                  </a:lnTo>
                  <a:lnTo>
                    <a:pt x="0" y="589"/>
                  </a:lnTo>
                  <a:lnTo>
                    <a:pt x="0" y="613"/>
                  </a:lnTo>
                  <a:lnTo>
                    <a:pt x="25" y="643"/>
                  </a:lnTo>
                  <a:lnTo>
                    <a:pt x="25" y="668"/>
                  </a:lnTo>
                  <a:lnTo>
                    <a:pt x="55" y="692"/>
                  </a:lnTo>
                  <a:lnTo>
                    <a:pt x="79" y="722"/>
                  </a:lnTo>
                  <a:lnTo>
                    <a:pt x="104" y="747"/>
                  </a:lnTo>
                  <a:lnTo>
                    <a:pt x="134" y="776"/>
                  </a:lnTo>
                  <a:lnTo>
                    <a:pt x="134" y="801"/>
                  </a:lnTo>
                  <a:lnTo>
                    <a:pt x="158" y="826"/>
                  </a:lnTo>
                  <a:lnTo>
                    <a:pt x="183" y="855"/>
                  </a:lnTo>
                  <a:lnTo>
                    <a:pt x="213" y="880"/>
                  </a:lnTo>
                  <a:lnTo>
                    <a:pt x="237" y="910"/>
                  </a:lnTo>
                  <a:lnTo>
                    <a:pt x="267" y="934"/>
                  </a:lnTo>
                  <a:lnTo>
                    <a:pt x="292" y="959"/>
                  </a:lnTo>
                  <a:lnTo>
                    <a:pt x="292" y="989"/>
                  </a:lnTo>
                  <a:lnTo>
                    <a:pt x="317" y="1014"/>
                  </a:lnTo>
                  <a:lnTo>
                    <a:pt x="346" y="1043"/>
                  </a:lnTo>
                  <a:lnTo>
                    <a:pt x="371" y="1068"/>
                  </a:lnTo>
                  <a:lnTo>
                    <a:pt x="396" y="1093"/>
                  </a:lnTo>
                  <a:lnTo>
                    <a:pt x="425" y="1122"/>
                  </a:lnTo>
                  <a:lnTo>
                    <a:pt x="450" y="1147"/>
                  </a:lnTo>
                  <a:lnTo>
                    <a:pt x="480" y="1177"/>
                  </a:lnTo>
                  <a:lnTo>
                    <a:pt x="505" y="1201"/>
                  </a:lnTo>
                  <a:lnTo>
                    <a:pt x="529" y="1226"/>
                  </a:lnTo>
                  <a:lnTo>
                    <a:pt x="559" y="1256"/>
                  </a:lnTo>
                  <a:lnTo>
                    <a:pt x="584" y="1280"/>
                  </a:lnTo>
                  <a:lnTo>
                    <a:pt x="613" y="1310"/>
                  </a:lnTo>
                  <a:lnTo>
                    <a:pt x="638" y="1335"/>
                  </a:lnTo>
                  <a:lnTo>
                    <a:pt x="663" y="1364"/>
                  </a:lnTo>
                  <a:lnTo>
                    <a:pt x="692" y="1389"/>
                  </a:lnTo>
                  <a:lnTo>
                    <a:pt x="717" y="1414"/>
                  </a:lnTo>
                  <a:lnTo>
                    <a:pt x="742" y="1444"/>
                  </a:lnTo>
                  <a:lnTo>
                    <a:pt x="772" y="1468"/>
                  </a:lnTo>
                  <a:lnTo>
                    <a:pt x="796" y="1468"/>
                  </a:lnTo>
                  <a:lnTo>
                    <a:pt x="826" y="1498"/>
                  </a:lnTo>
                  <a:lnTo>
                    <a:pt x="851" y="1523"/>
                  </a:lnTo>
                  <a:lnTo>
                    <a:pt x="875" y="1547"/>
                  </a:lnTo>
                  <a:lnTo>
                    <a:pt x="905" y="1577"/>
                  </a:lnTo>
                  <a:lnTo>
                    <a:pt x="930" y="1602"/>
                  </a:lnTo>
                  <a:lnTo>
                    <a:pt x="955" y="1631"/>
                  </a:lnTo>
                  <a:lnTo>
                    <a:pt x="984" y="1656"/>
                  </a:lnTo>
                  <a:lnTo>
                    <a:pt x="1009" y="1656"/>
                  </a:lnTo>
                  <a:lnTo>
                    <a:pt x="1039" y="1656"/>
                  </a:lnTo>
                  <a:lnTo>
                    <a:pt x="1063" y="1656"/>
                  </a:lnTo>
                  <a:lnTo>
                    <a:pt x="1088" y="1656"/>
                  </a:lnTo>
                  <a:lnTo>
                    <a:pt x="1118" y="1656"/>
                  </a:lnTo>
                  <a:lnTo>
                    <a:pt x="1143" y="1656"/>
                  </a:lnTo>
                  <a:lnTo>
                    <a:pt x="1172" y="1656"/>
                  </a:lnTo>
                  <a:lnTo>
                    <a:pt x="1197" y="1656"/>
                  </a:lnTo>
                  <a:lnTo>
                    <a:pt x="1222" y="1656"/>
                  </a:lnTo>
                  <a:lnTo>
                    <a:pt x="1251" y="1656"/>
                  </a:lnTo>
                  <a:lnTo>
                    <a:pt x="1276" y="1656"/>
                  </a:lnTo>
                  <a:lnTo>
                    <a:pt x="1301" y="1656"/>
                  </a:lnTo>
                  <a:lnTo>
                    <a:pt x="1330" y="1656"/>
                  </a:lnTo>
                  <a:lnTo>
                    <a:pt x="1355" y="1656"/>
                  </a:lnTo>
                  <a:lnTo>
                    <a:pt x="1385" y="1656"/>
                  </a:lnTo>
                  <a:lnTo>
                    <a:pt x="1410" y="1656"/>
                  </a:lnTo>
                  <a:lnTo>
                    <a:pt x="1434" y="1656"/>
                  </a:lnTo>
                  <a:lnTo>
                    <a:pt x="1464" y="1656"/>
                  </a:lnTo>
                  <a:lnTo>
                    <a:pt x="1489" y="1656"/>
                  </a:lnTo>
                  <a:lnTo>
                    <a:pt x="1513" y="1656"/>
                  </a:lnTo>
                  <a:lnTo>
                    <a:pt x="1543" y="1656"/>
                  </a:lnTo>
                  <a:lnTo>
                    <a:pt x="1568" y="1656"/>
                  </a:lnTo>
                  <a:lnTo>
                    <a:pt x="1598" y="1656"/>
                  </a:lnTo>
                  <a:lnTo>
                    <a:pt x="1622" y="1656"/>
                  </a:lnTo>
                  <a:lnTo>
                    <a:pt x="1647" y="1656"/>
                  </a:lnTo>
                  <a:lnTo>
                    <a:pt x="1677" y="1656"/>
                  </a:lnTo>
                  <a:lnTo>
                    <a:pt x="1701" y="1656"/>
                  </a:lnTo>
                  <a:lnTo>
                    <a:pt x="1726" y="1656"/>
                  </a:lnTo>
                  <a:lnTo>
                    <a:pt x="1756" y="1656"/>
                  </a:lnTo>
                  <a:lnTo>
                    <a:pt x="1780" y="1656"/>
                  </a:lnTo>
                  <a:lnTo>
                    <a:pt x="1810" y="1656"/>
                  </a:lnTo>
                  <a:lnTo>
                    <a:pt x="1835" y="1656"/>
                  </a:lnTo>
                  <a:lnTo>
                    <a:pt x="1860" y="1656"/>
                  </a:lnTo>
                  <a:lnTo>
                    <a:pt x="1889" y="1656"/>
                  </a:lnTo>
                  <a:lnTo>
                    <a:pt x="1914" y="1656"/>
                  </a:lnTo>
                  <a:lnTo>
                    <a:pt x="1944" y="1656"/>
                  </a:lnTo>
                  <a:lnTo>
                    <a:pt x="1968" y="1656"/>
                  </a:lnTo>
                  <a:lnTo>
                    <a:pt x="1993" y="1656"/>
                  </a:lnTo>
                  <a:lnTo>
                    <a:pt x="2023" y="1656"/>
                  </a:lnTo>
                  <a:lnTo>
                    <a:pt x="2048" y="1656"/>
                  </a:lnTo>
                  <a:lnTo>
                    <a:pt x="2072" y="1656"/>
                  </a:lnTo>
                  <a:lnTo>
                    <a:pt x="2102" y="1656"/>
                  </a:lnTo>
                  <a:lnTo>
                    <a:pt x="2127" y="1656"/>
                  </a:lnTo>
                  <a:lnTo>
                    <a:pt x="2156" y="1656"/>
                  </a:lnTo>
                  <a:lnTo>
                    <a:pt x="2181" y="1656"/>
                  </a:lnTo>
                  <a:lnTo>
                    <a:pt x="2206" y="1656"/>
                  </a:lnTo>
                  <a:lnTo>
                    <a:pt x="2235" y="1656"/>
                  </a:lnTo>
                  <a:close/>
                  <a:moveTo>
                    <a:pt x="1405" y="292"/>
                  </a:moveTo>
                  <a:lnTo>
                    <a:pt x="1410" y="292"/>
                  </a:lnTo>
                  <a:lnTo>
                    <a:pt x="1415" y="292"/>
                  </a:lnTo>
                  <a:lnTo>
                    <a:pt x="1419" y="287"/>
                  </a:lnTo>
                  <a:lnTo>
                    <a:pt x="1424" y="282"/>
                  </a:lnTo>
                  <a:lnTo>
                    <a:pt x="1424" y="282"/>
                  </a:lnTo>
                  <a:lnTo>
                    <a:pt x="1424" y="277"/>
                  </a:lnTo>
                  <a:lnTo>
                    <a:pt x="1429" y="272"/>
                  </a:lnTo>
                  <a:lnTo>
                    <a:pt x="1429" y="267"/>
                  </a:lnTo>
                  <a:lnTo>
                    <a:pt x="1434" y="262"/>
                  </a:lnTo>
                  <a:lnTo>
                    <a:pt x="1434" y="262"/>
                  </a:lnTo>
                  <a:lnTo>
                    <a:pt x="1439" y="257"/>
                  </a:lnTo>
                  <a:lnTo>
                    <a:pt x="1444" y="257"/>
                  </a:lnTo>
                  <a:lnTo>
                    <a:pt x="1449" y="257"/>
                  </a:lnTo>
                  <a:lnTo>
                    <a:pt x="1459" y="257"/>
                  </a:lnTo>
                  <a:lnTo>
                    <a:pt x="1464" y="257"/>
                  </a:lnTo>
                  <a:lnTo>
                    <a:pt x="1469" y="262"/>
                  </a:lnTo>
                  <a:lnTo>
                    <a:pt x="1474" y="262"/>
                  </a:lnTo>
                  <a:lnTo>
                    <a:pt x="1474" y="267"/>
                  </a:lnTo>
                  <a:lnTo>
                    <a:pt x="1469" y="272"/>
                  </a:lnTo>
                  <a:lnTo>
                    <a:pt x="1464" y="272"/>
                  </a:lnTo>
                  <a:lnTo>
                    <a:pt x="1459" y="272"/>
                  </a:lnTo>
                  <a:lnTo>
                    <a:pt x="1449" y="272"/>
                  </a:lnTo>
                  <a:lnTo>
                    <a:pt x="1444" y="272"/>
                  </a:lnTo>
                  <a:lnTo>
                    <a:pt x="1439" y="272"/>
                  </a:lnTo>
                  <a:lnTo>
                    <a:pt x="1434" y="272"/>
                  </a:lnTo>
                  <a:lnTo>
                    <a:pt x="1429" y="277"/>
                  </a:lnTo>
                  <a:lnTo>
                    <a:pt x="1424" y="277"/>
                  </a:lnTo>
                  <a:lnTo>
                    <a:pt x="1424" y="282"/>
                  </a:lnTo>
                  <a:lnTo>
                    <a:pt x="1419" y="287"/>
                  </a:lnTo>
                  <a:lnTo>
                    <a:pt x="1415" y="287"/>
                  </a:lnTo>
                  <a:lnTo>
                    <a:pt x="1410" y="292"/>
                  </a:lnTo>
                  <a:lnTo>
                    <a:pt x="1405" y="292"/>
                  </a:lnTo>
                  <a:close/>
                  <a:moveTo>
                    <a:pt x="1672" y="267"/>
                  </a:moveTo>
                  <a:lnTo>
                    <a:pt x="1667" y="262"/>
                  </a:lnTo>
                  <a:lnTo>
                    <a:pt x="1662" y="257"/>
                  </a:lnTo>
                  <a:lnTo>
                    <a:pt x="1657" y="257"/>
                  </a:lnTo>
                  <a:lnTo>
                    <a:pt x="1652" y="252"/>
                  </a:lnTo>
                  <a:lnTo>
                    <a:pt x="1647" y="247"/>
                  </a:lnTo>
                  <a:lnTo>
                    <a:pt x="1642" y="243"/>
                  </a:lnTo>
                  <a:lnTo>
                    <a:pt x="1637" y="238"/>
                  </a:lnTo>
                  <a:lnTo>
                    <a:pt x="1632" y="233"/>
                  </a:lnTo>
                  <a:lnTo>
                    <a:pt x="1632" y="228"/>
                  </a:lnTo>
                  <a:lnTo>
                    <a:pt x="1627" y="223"/>
                  </a:lnTo>
                  <a:lnTo>
                    <a:pt x="1617" y="223"/>
                  </a:lnTo>
                  <a:lnTo>
                    <a:pt x="1612" y="223"/>
                  </a:lnTo>
                  <a:lnTo>
                    <a:pt x="1602" y="228"/>
                  </a:lnTo>
                  <a:lnTo>
                    <a:pt x="1598" y="228"/>
                  </a:lnTo>
                  <a:lnTo>
                    <a:pt x="1588" y="223"/>
                  </a:lnTo>
                  <a:lnTo>
                    <a:pt x="1578" y="223"/>
                  </a:lnTo>
                  <a:lnTo>
                    <a:pt x="1573" y="218"/>
                  </a:lnTo>
                  <a:lnTo>
                    <a:pt x="1568" y="218"/>
                  </a:lnTo>
                  <a:lnTo>
                    <a:pt x="1563" y="218"/>
                  </a:lnTo>
                  <a:lnTo>
                    <a:pt x="1558" y="223"/>
                  </a:lnTo>
                  <a:lnTo>
                    <a:pt x="1558" y="233"/>
                  </a:lnTo>
                  <a:lnTo>
                    <a:pt x="1553" y="238"/>
                  </a:lnTo>
                  <a:lnTo>
                    <a:pt x="1548" y="243"/>
                  </a:lnTo>
                  <a:lnTo>
                    <a:pt x="1543" y="243"/>
                  </a:lnTo>
                  <a:lnTo>
                    <a:pt x="1538" y="247"/>
                  </a:lnTo>
                  <a:lnTo>
                    <a:pt x="1528" y="247"/>
                  </a:lnTo>
                  <a:lnTo>
                    <a:pt x="1523" y="252"/>
                  </a:lnTo>
                  <a:lnTo>
                    <a:pt x="1513" y="252"/>
                  </a:lnTo>
                  <a:lnTo>
                    <a:pt x="1508" y="247"/>
                  </a:lnTo>
                  <a:lnTo>
                    <a:pt x="1499" y="243"/>
                  </a:lnTo>
                  <a:lnTo>
                    <a:pt x="1499" y="238"/>
                  </a:lnTo>
                  <a:lnTo>
                    <a:pt x="1504" y="233"/>
                  </a:lnTo>
                  <a:lnTo>
                    <a:pt x="1508" y="228"/>
                  </a:lnTo>
                  <a:lnTo>
                    <a:pt x="1513" y="228"/>
                  </a:lnTo>
                  <a:lnTo>
                    <a:pt x="1523" y="228"/>
                  </a:lnTo>
                  <a:lnTo>
                    <a:pt x="1528" y="228"/>
                  </a:lnTo>
                  <a:lnTo>
                    <a:pt x="1538" y="233"/>
                  </a:lnTo>
                  <a:lnTo>
                    <a:pt x="1543" y="233"/>
                  </a:lnTo>
                  <a:lnTo>
                    <a:pt x="1548" y="228"/>
                  </a:lnTo>
                  <a:lnTo>
                    <a:pt x="1553" y="228"/>
                  </a:lnTo>
                  <a:lnTo>
                    <a:pt x="1558" y="223"/>
                  </a:lnTo>
                  <a:lnTo>
                    <a:pt x="1563" y="213"/>
                  </a:lnTo>
                  <a:lnTo>
                    <a:pt x="1568" y="208"/>
                  </a:lnTo>
                  <a:lnTo>
                    <a:pt x="1568" y="208"/>
                  </a:lnTo>
                  <a:lnTo>
                    <a:pt x="1573" y="203"/>
                  </a:lnTo>
                  <a:lnTo>
                    <a:pt x="1583" y="198"/>
                  </a:lnTo>
                  <a:lnTo>
                    <a:pt x="1588" y="198"/>
                  </a:lnTo>
                  <a:lnTo>
                    <a:pt x="1598" y="198"/>
                  </a:lnTo>
                  <a:lnTo>
                    <a:pt x="1607" y="198"/>
                  </a:lnTo>
                  <a:lnTo>
                    <a:pt x="1617" y="198"/>
                  </a:lnTo>
                  <a:lnTo>
                    <a:pt x="1622" y="198"/>
                  </a:lnTo>
                  <a:lnTo>
                    <a:pt x="1627" y="203"/>
                  </a:lnTo>
                  <a:lnTo>
                    <a:pt x="1632" y="208"/>
                  </a:lnTo>
                  <a:lnTo>
                    <a:pt x="1632" y="213"/>
                  </a:lnTo>
                  <a:lnTo>
                    <a:pt x="1637" y="218"/>
                  </a:lnTo>
                  <a:lnTo>
                    <a:pt x="1642" y="223"/>
                  </a:lnTo>
                  <a:lnTo>
                    <a:pt x="1647" y="223"/>
                  </a:lnTo>
                  <a:lnTo>
                    <a:pt x="1652" y="228"/>
                  </a:lnTo>
                  <a:lnTo>
                    <a:pt x="1657" y="233"/>
                  </a:lnTo>
                  <a:lnTo>
                    <a:pt x="1662" y="238"/>
                  </a:lnTo>
                  <a:lnTo>
                    <a:pt x="1662" y="243"/>
                  </a:lnTo>
                  <a:lnTo>
                    <a:pt x="1667" y="247"/>
                  </a:lnTo>
                  <a:lnTo>
                    <a:pt x="1667" y="252"/>
                  </a:lnTo>
                  <a:lnTo>
                    <a:pt x="1672" y="257"/>
                  </a:lnTo>
                  <a:lnTo>
                    <a:pt x="1677" y="262"/>
                  </a:lnTo>
                  <a:lnTo>
                    <a:pt x="1682" y="262"/>
                  </a:lnTo>
                  <a:lnTo>
                    <a:pt x="1677" y="267"/>
                  </a:lnTo>
                  <a:lnTo>
                    <a:pt x="1672" y="267"/>
                  </a:lnTo>
                  <a:close/>
                  <a:moveTo>
                    <a:pt x="1968" y="238"/>
                  </a:moveTo>
                  <a:lnTo>
                    <a:pt x="1959" y="238"/>
                  </a:lnTo>
                  <a:lnTo>
                    <a:pt x="1954" y="233"/>
                  </a:lnTo>
                  <a:lnTo>
                    <a:pt x="1949" y="228"/>
                  </a:lnTo>
                  <a:lnTo>
                    <a:pt x="1944" y="228"/>
                  </a:lnTo>
                  <a:lnTo>
                    <a:pt x="1939" y="223"/>
                  </a:lnTo>
                  <a:lnTo>
                    <a:pt x="1934" y="218"/>
                  </a:lnTo>
                  <a:lnTo>
                    <a:pt x="1929" y="213"/>
                  </a:lnTo>
                  <a:lnTo>
                    <a:pt x="1924" y="213"/>
                  </a:lnTo>
                  <a:lnTo>
                    <a:pt x="1919" y="208"/>
                  </a:lnTo>
                  <a:lnTo>
                    <a:pt x="1909" y="203"/>
                  </a:lnTo>
                  <a:lnTo>
                    <a:pt x="1904" y="203"/>
                  </a:lnTo>
                  <a:lnTo>
                    <a:pt x="1894" y="198"/>
                  </a:lnTo>
                  <a:lnTo>
                    <a:pt x="1889" y="203"/>
                  </a:lnTo>
                  <a:lnTo>
                    <a:pt x="1879" y="203"/>
                  </a:lnTo>
                  <a:lnTo>
                    <a:pt x="1874" y="208"/>
                  </a:lnTo>
                  <a:lnTo>
                    <a:pt x="1870" y="213"/>
                  </a:lnTo>
                  <a:lnTo>
                    <a:pt x="1865" y="218"/>
                  </a:lnTo>
                  <a:lnTo>
                    <a:pt x="1865" y="223"/>
                  </a:lnTo>
                  <a:lnTo>
                    <a:pt x="1855" y="218"/>
                  </a:lnTo>
                  <a:lnTo>
                    <a:pt x="1850" y="213"/>
                  </a:lnTo>
                  <a:lnTo>
                    <a:pt x="1850" y="208"/>
                  </a:lnTo>
                  <a:lnTo>
                    <a:pt x="1855" y="208"/>
                  </a:lnTo>
                  <a:lnTo>
                    <a:pt x="1865" y="203"/>
                  </a:lnTo>
                  <a:lnTo>
                    <a:pt x="1870" y="198"/>
                  </a:lnTo>
                  <a:lnTo>
                    <a:pt x="1870" y="193"/>
                  </a:lnTo>
                  <a:lnTo>
                    <a:pt x="1870" y="188"/>
                  </a:lnTo>
                  <a:lnTo>
                    <a:pt x="1870" y="183"/>
                  </a:lnTo>
                  <a:lnTo>
                    <a:pt x="1865" y="178"/>
                  </a:lnTo>
                  <a:lnTo>
                    <a:pt x="1855" y="178"/>
                  </a:lnTo>
                  <a:lnTo>
                    <a:pt x="1850" y="178"/>
                  </a:lnTo>
                  <a:lnTo>
                    <a:pt x="1840" y="178"/>
                  </a:lnTo>
                  <a:lnTo>
                    <a:pt x="1835" y="178"/>
                  </a:lnTo>
                  <a:lnTo>
                    <a:pt x="1825" y="173"/>
                  </a:lnTo>
                  <a:lnTo>
                    <a:pt x="1825" y="168"/>
                  </a:lnTo>
                  <a:lnTo>
                    <a:pt x="1820" y="163"/>
                  </a:lnTo>
                  <a:lnTo>
                    <a:pt x="1815" y="159"/>
                  </a:lnTo>
                  <a:lnTo>
                    <a:pt x="1810" y="154"/>
                  </a:lnTo>
                  <a:lnTo>
                    <a:pt x="1805" y="154"/>
                  </a:lnTo>
                  <a:lnTo>
                    <a:pt x="1795" y="154"/>
                  </a:lnTo>
                  <a:lnTo>
                    <a:pt x="1790" y="154"/>
                  </a:lnTo>
                  <a:lnTo>
                    <a:pt x="1780" y="154"/>
                  </a:lnTo>
                  <a:lnTo>
                    <a:pt x="1776" y="149"/>
                  </a:lnTo>
                  <a:lnTo>
                    <a:pt x="1771" y="144"/>
                  </a:lnTo>
                  <a:lnTo>
                    <a:pt x="1766" y="139"/>
                  </a:lnTo>
                  <a:lnTo>
                    <a:pt x="1761" y="134"/>
                  </a:lnTo>
                  <a:lnTo>
                    <a:pt x="1756" y="129"/>
                  </a:lnTo>
                  <a:lnTo>
                    <a:pt x="1751" y="129"/>
                  </a:lnTo>
                  <a:lnTo>
                    <a:pt x="1746" y="124"/>
                  </a:lnTo>
                  <a:lnTo>
                    <a:pt x="1736" y="124"/>
                  </a:lnTo>
                  <a:lnTo>
                    <a:pt x="1731" y="124"/>
                  </a:lnTo>
                  <a:lnTo>
                    <a:pt x="1721" y="124"/>
                  </a:lnTo>
                  <a:lnTo>
                    <a:pt x="1716" y="119"/>
                  </a:lnTo>
                  <a:lnTo>
                    <a:pt x="1716" y="114"/>
                  </a:lnTo>
                  <a:lnTo>
                    <a:pt x="1711" y="109"/>
                  </a:lnTo>
                  <a:lnTo>
                    <a:pt x="1706" y="104"/>
                  </a:lnTo>
                  <a:lnTo>
                    <a:pt x="1701" y="99"/>
                  </a:lnTo>
                  <a:lnTo>
                    <a:pt x="1691" y="99"/>
                  </a:lnTo>
                  <a:lnTo>
                    <a:pt x="1687" y="99"/>
                  </a:lnTo>
                  <a:lnTo>
                    <a:pt x="1677" y="99"/>
                  </a:lnTo>
                  <a:lnTo>
                    <a:pt x="1672" y="94"/>
                  </a:lnTo>
                  <a:lnTo>
                    <a:pt x="1667" y="89"/>
                  </a:lnTo>
                  <a:lnTo>
                    <a:pt x="1662" y="84"/>
                  </a:lnTo>
                  <a:lnTo>
                    <a:pt x="1657" y="79"/>
                  </a:lnTo>
                  <a:lnTo>
                    <a:pt x="1652" y="79"/>
                  </a:lnTo>
                  <a:lnTo>
                    <a:pt x="1647" y="74"/>
                  </a:lnTo>
                  <a:lnTo>
                    <a:pt x="1637" y="74"/>
                  </a:lnTo>
                  <a:lnTo>
                    <a:pt x="1632" y="74"/>
                  </a:lnTo>
                  <a:lnTo>
                    <a:pt x="1622" y="74"/>
                  </a:lnTo>
                  <a:lnTo>
                    <a:pt x="1617" y="70"/>
                  </a:lnTo>
                  <a:lnTo>
                    <a:pt x="1607" y="70"/>
                  </a:lnTo>
                  <a:lnTo>
                    <a:pt x="1602" y="65"/>
                  </a:lnTo>
                  <a:lnTo>
                    <a:pt x="1602" y="60"/>
                  </a:lnTo>
                  <a:lnTo>
                    <a:pt x="1602" y="55"/>
                  </a:lnTo>
                  <a:lnTo>
                    <a:pt x="1602" y="50"/>
                  </a:lnTo>
                  <a:lnTo>
                    <a:pt x="1607" y="45"/>
                  </a:lnTo>
                  <a:lnTo>
                    <a:pt x="1612" y="40"/>
                  </a:lnTo>
                  <a:lnTo>
                    <a:pt x="1622" y="35"/>
                  </a:lnTo>
                  <a:lnTo>
                    <a:pt x="1627" y="35"/>
                  </a:lnTo>
                  <a:lnTo>
                    <a:pt x="1637" y="35"/>
                  </a:lnTo>
                  <a:lnTo>
                    <a:pt x="1642" y="35"/>
                  </a:lnTo>
                  <a:lnTo>
                    <a:pt x="1652" y="35"/>
                  </a:lnTo>
                  <a:lnTo>
                    <a:pt x="1657" y="35"/>
                  </a:lnTo>
                  <a:lnTo>
                    <a:pt x="1667" y="35"/>
                  </a:lnTo>
                  <a:lnTo>
                    <a:pt x="1672" y="40"/>
                  </a:lnTo>
                  <a:lnTo>
                    <a:pt x="1677" y="40"/>
                  </a:lnTo>
                  <a:lnTo>
                    <a:pt x="1682" y="45"/>
                  </a:lnTo>
                  <a:lnTo>
                    <a:pt x="1691" y="50"/>
                  </a:lnTo>
                  <a:lnTo>
                    <a:pt x="1696" y="55"/>
                  </a:lnTo>
                  <a:lnTo>
                    <a:pt x="1701" y="55"/>
                  </a:lnTo>
                  <a:lnTo>
                    <a:pt x="1706" y="60"/>
                  </a:lnTo>
                  <a:lnTo>
                    <a:pt x="1716" y="60"/>
                  </a:lnTo>
                  <a:lnTo>
                    <a:pt x="1726" y="60"/>
                  </a:lnTo>
                  <a:lnTo>
                    <a:pt x="1731" y="60"/>
                  </a:lnTo>
                  <a:lnTo>
                    <a:pt x="1741" y="60"/>
                  </a:lnTo>
                  <a:lnTo>
                    <a:pt x="1746" y="60"/>
                  </a:lnTo>
                  <a:lnTo>
                    <a:pt x="1756" y="60"/>
                  </a:lnTo>
                  <a:lnTo>
                    <a:pt x="1766" y="60"/>
                  </a:lnTo>
                  <a:lnTo>
                    <a:pt x="1771" y="65"/>
                  </a:lnTo>
                  <a:lnTo>
                    <a:pt x="1776" y="65"/>
                  </a:lnTo>
                  <a:lnTo>
                    <a:pt x="1785" y="70"/>
                  </a:lnTo>
                  <a:lnTo>
                    <a:pt x="1790" y="74"/>
                  </a:lnTo>
                  <a:lnTo>
                    <a:pt x="1795" y="74"/>
                  </a:lnTo>
                  <a:lnTo>
                    <a:pt x="1800" y="79"/>
                  </a:lnTo>
                  <a:lnTo>
                    <a:pt x="1805" y="84"/>
                  </a:lnTo>
                  <a:lnTo>
                    <a:pt x="1810" y="84"/>
                  </a:lnTo>
                  <a:lnTo>
                    <a:pt x="1820" y="89"/>
                  </a:lnTo>
                  <a:lnTo>
                    <a:pt x="1825" y="89"/>
                  </a:lnTo>
                  <a:lnTo>
                    <a:pt x="1835" y="89"/>
                  </a:lnTo>
                  <a:lnTo>
                    <a:pt x="1845" y="89"/>
                  </a:lnTo>
                  <a:lnTo>
                    <a:pt x="1850" y="89"/>
                  </a:lnTo>
                  <a:lnTo>
                    <a:pt x="1860" y="89"/>
                  </a:lnTo>
                  <a:lnTo>
                    <a:pt x="1865" y="89"/>
                  </a:lnTo>
                  <a:lnTo>
                    <a:pt x="1874" y="89"/>
                  </a:lnTo>
                  <a:lnTo>
                    <a:pt x="1879" y="94"/>
                  </a:lnTo>
                  <a:lnTo>
                    <a:pt x="1889" y="94"/>
                  </a:lnTo>
                  <a:lnTo>
                    <a:pt x="1894" y="99"/>
                  </a:lnTo>
                  <a:lnTo>
                    <a:pt x="1899" y="104"/>
                  </a:lnTo>
                  <a:lnTo>
                    <a:pt x="1904" y="109"/>
                  </a:lnTo>
                  <a:lnTo>
                    <a:pt x="1909" y="114"/>
                  </a:lnTo>
                  <a:lnTo>
                    <a:pt x="1914" y="114"/>
                  </a:lnTo>
                  <a:lnTo>
                    <a:pt x="1919" y="119"/>
                  </a:lnTo>
                  <a:lnTo>
                    <a:pt x="1924" y="119"/>
                  </a:lnTo>
                  <a:lnTo>
                    <a:pt x="1934" y="119"/>
                  </a:lnTo>
                  <a:lnTo>
                    <a:pt x="1944" y="119"/>
                  </a:lnTo>
                  <a:lnTo>
                    <a:pt x="1949" y="119"/>
                  </a:lnTo>
                  <a:lnTo>
                    <a:pt x="1959" y="119"/>
                  </a:lnTo>
                  <a:lnTo>
                    <a:pt x="1963" y="124"/>
                  </a:lnTo>
                  <a:lnTo>
                    <a:pt x="1973" y="124"/>
                  </a:lnTo>
                  <a:lnTo>
                    <a:pt x="1983" y="124"/>
                  </a:lnTo>
                  <a:lnTo>
                    <a:pt x="1988" y="124"/>
                  </a:lnTo>
                  <a:lnTo>
                    <a:pt x="1998" y="124"/>
                  </a:lnTo>
                  <a:lnTo>
                    <a:pt x="2003" y="129"/>
                  </a:lnTo>
                  <a:lnTo>
                    <a:pt x="2003" y="134"/>
                  </a:lnTo>
                  <a:lnTo>
                    <a:pt x="2008" y="139"/>
                  </a:lnTo>
                  <a:lnTo>
                    <a:pt x="2013" y="144"/>
                  </a:lnTo>
                  <a:lnTo>
                    <a:pt x="2013" y="149"/>
                  </a:lnTo>
                  <a:lnTo>
                    <a:pt x="2018" y="154"/>
                  </a:lnTo>
                  <a:lnTo>
                    <a:pt x="2023" y="154"/>
                  </a:lnTo>
                  <a:lnTo>
                    <a:pt x="2028" y="159"/>
                  </a:lnTo>
                  <a:lnTo>
                    <a:pt x="2038" y="159"/>
                  </a:lnTo>
                  <a:lnTo>
                    <a:pt x="2048" y="159"/>
                  </a:lnTo>
                  <a:lnTo>
                    <a:pt x="2052" y="159"/>
                  </a:lnTo>
                  <a:lnTo>
                    <a:pt x="2052" y="163"/>
                  </a:lnTo>
                  <a:lnTo>
                    <a:pt x="2048" y="168"/>
                  </a:lnTo>
                  <a:lnTo>
                    <a:pt x="2043" y="173"/>
                  </a:lnTo>
                  <a:lnTo>
                    <a:pt x="2043" y="178"/>
                  </a:lnTo>
                  <a:lnTo>
                    <a:pt x="2038" y="183"/>
                  </a:lnTo>
                  <a:lnTo>
                    <a:pt x="2038" y="188"/>
                  </a:lnTo>
                  <a:lnTo>
                    <a:pt x="2033" y="193"/>
                  </a:lnTo>
                  <a:lnTo>
                    <a:pt x="2033" y="198"/>
                  </a:lnTo>
                  <a:lnTo>
                    <a:pt x="2028" y="203"/>
                  </a:lnTo>
                  <a:lnTo>
                    <a:pt x="2023" y="208"/>
                  </a:lnTo>
                  <a:lnTo>
                    <a:pt x="2023" y="213"/>
                  </a:lnTo>
                  <a:lnTo>
                    <a:pt x="2018" y="218"/>
                  </a:lnTo>
                  <a:lnTo>
                    <a:pt x="2018" y="223"/>
                  </a:lnTo>
                  <a:lnTo>
                    <a:pt x="2013" y="228"/>
                  </a:lnTo>
                  <a:lnTo>
                    <a:pt x="2013" y="233"/>
                  </a:lnTo>
                  <a:lnTo>
                    <a:pt x="2008" y="238"/>
                  </a:lnTo>
                  <a:lnTo>
                    <a:pt x="2003" y="238"/>
                  </a:lnTo>
                  <a:lnTo>
                    <a:pt x="1998" y="243"/>
                  </a:lnTo>
                  <a:lnTo>
                    <a:pt x="1988" y="243"/>
                  </a:lnTo>
                  <a:lnTo>
                    <a:pt x="1978" y="243"/>
                  </a:lnTo>
                  <a:lnTo>
                    <a:pt x="1973" y="243"/>
                  </a:lnTo>
                  <a:lnTo>
                    <a:pt x="1968" y="238"/>
                  </a:lnTo>
                  <a:close/>
                  <a:moveTo>
                    <a:pt x="1365" y="213"/>
                  </a:moveTo>
                  <a:lnTo>
                    <a:pt x="1370" y="208"/>
                  </a:lnTo>
                  <a:lnTo>
                    <a:pt x="1375" y="203"/>
                  </a:lnTo>
                  <a:lnTo>
                    <a:pt x="1380" y="203"/>
                  </a:lnTo>
                  <a:lnTo>
                    <a:pt x="1385" y="203"/>
                  </a:lnTo>
                  <a:lnTo>
                    <a:pt x="1390" y="203"/>
                  </a:lnTo>
                  <a:lnTo>
                    <a:pt x="1400" y="208"/>
                  </a:lnTo>
                  <a:lnTo>
                    <a:pt x="1400" y="213"/>
                  </a:lnTo>
                  <a:lnTo>
                    <a:pt x="1400" y="218"/>
                  </a:lnTo>
                  <a:lnTo>
                    <a:pt x="1395" y="223"/>
                  </a:lnTo>
                  <a:lnTo>
                    <a:pt x="1385" y="223"/>
                  </a:lnTo>
                  <a:lnTo>
                    <a:pt x="1380" y="223"/>
                  </a:lnTo>
                  <a:lnTo>
                    <a:pt x="1375" y="223"/>
                  </a:lnTo>
                  <a:lnTo>
                    <a:pt x="1370" y="218"/>
                  </a:lnTo>
                  <a:lnTo>
                    <a:pt x="1365" y="213"/>
                  </a:lnTo>
                  <a:close/>
                  <a:moveTo>
                    <a:pt x="1217" y="188"/>
                  </a:moveTo>
                  <a:lnTo>
                    <a:pt x="1222" y="183"/>
                  </a:lnTo>
                  <a:lnTo>
                    <a:pt x="1222" y="183"/>
                  </a:lnTo>
                  <a:lnTo>
                    <a:pt x="1222" y="183"/>
                  </a:lnTo>
                  <a:lnTo>
                    <a:pt x="1222" y="183"/>
                  </a:lnTo>
                  <a:lnTo>
                    <a:pt x="1227" y="183"/>
                  </a:lnTo>
                  <a:lnTo>
                    <a:pt x="1227" y="188"/>
                  </a:lnTo>
                  <a:lnTo>
                    <a:pt x="1227" y="188"/>
                  </a:lnTo>
                  <a:lnTo>
                    <a:pt x="1227" y="188"/>
                  </a:lnTo>
                  <a:lnTo>
                    <a:pt x="1222" y="188"/>
                  </a:lnTo>
                  <a:lnTo>
                    <a:pt x="1222" y="188"/>
                  </a:lnTo>
                  <a:lnTo>
                    <a:pt x="1222" y="188"/>
                  </a:lnTo>
                  <a:lnTo>
                    <a:pt x="1222" y="188"/>
                  </a:lnTo>
                  <a:lnTo>
                    <a:pt x="1217" y="188"/>
                  </a:lnTo>
                  <a:lnTo>
                    <a:pt x="1217" y="188"/>
                  </a:lnTo>
                  <a:close/>
                  <a:moveTo>
                    <a:pt x="1444" y="188"/>
                  </a:moveTo>
                  <a:lnTo>
                    <a:pt x="1449" y="178"/>
                  </a:lnTo>
                  <a:lnTo>
                    <a:pt x="1454" y="178"/>
                  </a:lnTo>
                  <a:lnTo>
                    <a:pt x="1459" y="173"/>
                  </a:lnTo>
                  <a:lnTo>
                    <a:pt x="1469" y="173"/>
                  </a:lnTo>
                  <a:lnTo>
                    <a:pt x="1474" y="178"/>
                  </a:lnTo>
                  <a:lnTo>
                    <a:pt x="1479" y="183"/>
                  </a:lnTo>
                  <a:lnTo>
                    <a:pt x="1484" y="188"/>
                  </a:lnTo>
                  <a:lnTo>
                    <a:pt x="1479" y="193"/>
                  </a:lnTo>
                  <a:lnTo>
                    <a:pt x="1474" y="198"/>
                  </a:lnTo>
                  <a:lnTo>
                    <a:pt x="1464" y="198"/>
                  </a:lnTo>
                  <a:lnTo>
                    <a:pt x="1459" y="198"/>
                  </a:lnTo>
                  <a:lnTo>
                    <a:pt x="1454" y="198"/>
                  </a:lnTo>
                  <a:lnTo>
                    <a:pt x="1449" y="193"/>
                  </a:lnTo>
                  <a:lnTo>
                    <a:pt x="1444" y="188"/>
                  </a:lnTo>
                  <a:close/>
                  <a:moveTo>
                    <a:pt x="1766" y="188"/>
                  </a:moveTo>
                  <a:lnTo>
                    <a:pt x="1771" y="178"/>
                  </a:lnTo>
                  <a:lnTo>
                    <a:pt x="1776" y="178"/>
                  </a:lnTo>
                  <a:lnTo>
                    <a:pt x="1780" y="173"/>
                  </a:lnTo>
                  <a:lnTo>
                    <a:pt x="1790" y="173"/>
                  </a:lnTo>
                  <a:lnTo>
                    <a:pt x="1795" y="178"/>
                  </a:lnTo>
                  <a:lnTo>
                    <a:pt x="1805" y="183"/>
                  </a:lnTo>
                  <a:lnTo>
                    <a:pt x="1805" y="188"/>
                  </a:lnTo>
                  <a:lnTo>
                    <a:pt x="1800" y="193"/>
                  </a:lnTo>
                  <a:lnTo>
                    <a:pt x="1795" y="193"/>
                  </a:lnTo>
                  <a:lnTo>
                    <a:pt x="1785" y="198"/>
                  </a:lnTo>
                  <a:lnTo>
                    <a:pt x="1780" y="198"/>
                  </a:lnTo>
                  <a:lnTo>
                    <a:pt x="1776" y="198"/>
                  </a:lnTo>
                  <a:lnTo>
                    <a:pt x="1771" y="193"/>
                  </a:lnTo>
                  <a:lnTo>
                    <a:pt x="1766" y="188"/>
                  </a:lnTo>
                  <a:close/>
                  <a:moveTo>
                    <a:pt x="1286" y="159"/>
                  </a:moveTo>
                  <a:lnTo>
                    <a:pt x="1291" y="154"/>
                  </a:lnTo>
                  <a:lnTo>
                    <a:pt x="1296" y="149"/>
                  </a:lnTo>
                  <a:lnTo>
                    <a:pt x="1301" y="149"/>
                  </a:lnTo>
                  <a:lnTo>
                    <a:pt x="1306" y="149"/>
                  </a:lnTo>
                  <a:lnTo>
                    <a:pt x="1311" y="154"/>
                  </a:lnTo>
                  <a:lnTo>
                    <a:pt x="1316" y="159"/>
                  </a:lnTo>
                  <a:lnTo>
                    <a:pt x="1316" y="163"/>
                  </a:lnTo>
                  <a:lnTo>
                    <a:pt x="1316" y="168"/>
                  </a:lnTo>
                  <a:lnTo>
                    <a:pt x="1311" y="173"/>
                  </a:lnTo>
                  <a:lnTo>
                    <a:pt x="1306" y="173"/>
                  </a:lnTo>
                  <a:lnTo>
                    <a:pt x="1301" y="173"/>
                  </a:lnTo>
                  <a:lnTo>
                    <a:pt x="1296" y="173"/>
                  </a:lnTo>
                  <a:lnTo>
                    <a:pt x="1291" y="168"/>
                  </a:lnTo>
                  <a:lnTo>
                    <a:pt x="1286" y="159"/>
                  </a:lnTo>
                  <a:close/>
                  <a:moveTo>
                    <a:pt x="1499" y="159"/>
                  </a:moveTo>
                  <a:lnTo>
                    <a:pt x="1504" y="154"/>
                  </a:lnTo>
                  <a:lnTo>
                    <a:pt x="1508" y="149"/>
                  </a:lnTo>
                  <a:lnTo>
                    <a:pt x="1513" y="149"/>
                  </a:lnTo>
                  <a:lnTo>
                    <a:pt x="1523" y="144"/>
                  </a:lnTo>
                  <a:lnTo>
                    <a:pt x="1528" y="144"/>
                  </a:lnTo>
                  <a:lnTo>
                    <a:pt x="1538" y="149"/>
                  </a:lnTo>
                  <a:lnTo>
                    <a:pt x="1548" y="149"/>
                  </a:lnTo>
                  <a:lnTo>
                    <a:pt x="1558" y="154"/>
                  </a:lnTo>
                  <a:lnTo>
                    <a:pt x="1563" y="159"/>
                  </a:lnTo>
                  <a:lnTo>
                    <a:pt x="1563" y="163"/>
                  </a:lnTo>
                  <a:lnTo>
                    <a:pt x="1563" y="168"/>
                  </a:lnTo>
                  <a:lnTo>
                    <a:pt x="1553" y="173"/>
                  </a:lnTo>
                  <a:lnTo>
                    <a:pt x="1548" y="173"/>
                  </a:lnTo>
                  <a:lnTo>
                    <a:pt x="1538" y="178"/>
                  </a:lnTo>
                  <a:lnTo>
                    <a:pt x="1528" y="178"/>
                  </a:lnTo>
                  <a:lnTo>
                    <a:pt x="1518" y="178"/>
                  </a:lnTo>
                  <a:lnTo>
                    <a:pt x="1513" y="173"/>
                  </a:lnTo>
                  <a:lnTo>
                    <a:pt x="1504" y="168"/>
                  </a:lnTo>
                  <a:lnTo>
                    <a:pt x="1499" y="163"/>
                  </a:lnTo>
                  <a:lnTo>
                    <a:pt x="1499" y="159"/>
                  </a:lnTo>
                  <a:close/>
                  <a:moveTo>
                    <a:pt x="1691" y="159"/>
                  </a:moveTo>
                  <a:lnTo>
                    <a:pt x="1682" y="154"/>
                  </a:lnTo>
                  <a:lnTo>
                    <a:pt x="1677" y="154"/>
                  </a:lnTo>
                  <a:lnTo>
                    <a:pt x="1667" y="149"/>
                  </a:lnTo>
                  <a:lnTo>
                    <a:pt x="1657" y="149"/>
                  </a:lnTo>
                  <a:lnTo>
                    <a:pt x="1647" y="154"/>
                  </a:lnTo>
                  <a:lnTo>
                    <a:pt x="1642" y="154"/>
                  </a:lnTo>
                  <a:lnTo>
                    <a:pt x="1632" y="154"/>
                  </a:lnTo>
                  <a:lnTo>
                    <a:pt x="1622" y="154"/>
                  </a:lnTo>
                  <a:lnTo>
                    <a:pt x="1612" y="154"/>
                  </a:lnTo>
                  <a:lnTo>
                    <a:pt x="1602" y="154"/>
                  </a:lnTo>
                  <a:lnTo>
                    <a:pt x="1593" y="154"/>
                  </a:lnTo>
                  <a:lnTo>
                    <a:pt x="1588" y="149"/>
                  </a:lnTo>
                  <a:lnTo>
                    <a:pt x="1578" y="144"/>
                  </a:lnTo>
                  <a:lnTo>
                    <a:pt x="1573" y="139"/>
                  </a:lnTo>
                  <a:lnTo>
                    <a:pt x="1568" y="134"/>
                  </a:lnTo>
                  <a:lnTo>
                    <a:pt x="1573" y="129"/>
                  </a:lnTo>
                  <a:lnTo>
                    <a:pt x="1578" y="124"/>
                  </a:lnTo>
                  <a:lnTo>
                    <a:pt x="1583" y="119"/>
                  </a:lnTo>
                  <a:lnTo>
                    <a:pt x="1593" y="114"/>
                  </a:lnTo>
                  <a:lnTo>
                    <a:pt x="1602" y="114"/>
                  </a:lnTo>
                  <a:lnTo>
                    <a:pt x="1607" y="114"/>
                  </a:lnTo>
                  <a:lnTo>
                    <a:pt x="1617" y="114"/>
                  </a:lnTo>
                  <a:lnTo>
                    <a:pt x="1627" y="114"/>
                  </a:lnTo>
                  <a:lnTo>
                    <a:pt x="1637" y="114"/>
                  </a:lnTo>
                  <a:lnTo>
                    <a:pt x="1647" y="114"/>
                  </a:lnTo>
                  <a:lnTo>
                    <a:pt x="1657" y="114"/>
                  </a:lnTo>
                  <a:lnTo>
                    <a:pt x="1662" y="114"/>
                  </a:lnTo>
                  <a:lnTo>
                    <a:pt x="1672" y="119"/>
                  </a:lnTo>
                  <a:lnTo>
                    <a:pt x="1682" y="119"/>
                  </a:lnTo>
                  <a:lnTo>
                    <a:pt x="1687" y="124"/>
                  </a:lnTo>
                  <a:lnTo>
                    <a:pt x="1691" y="129"/>
                  </a:lnTo>
                  <a:lnTo>
                    <a:pt x="1696" y="134"/>
                  </a:lnTo>
                  <a:lnTo>
                    <a:pt x="1696" y="144"/>
                  </a:lnTo>
                  <a:lnTo>
                    <a:pt x="1701" y="149"/>
                  </a:lnTo>
                  <a:lnTo>
                    <a:pt x="1706" y="149"/>
                  </a:lnTo>
                  <a:lnTo>
                    <a:pt x="1716" y="144"/>
                  </a:lnTo>
                  <a:lnTo>
                    <a:pt x="1726" y="144"/>
                  </a:lnTo>
                  <a:lnTo>
                    <a:pt x="1736" y="144"/>
                  </a:lnTo>
                  <a:lnTo>
                    <a:pt x="1741" y="149"/>
                  </a:lnTo>
                  <a:lnTo>
                    <a:pt x="1746" y="154"/>
                  </a:lnTo>
                  <a:lnTo>
                    <a:pt x="1751" y="159"/>
                  </a:lnTo>
                  <a:lnTo>
                    <a:pt x="1746" y="168"/>
                  </a:lnTo>
                  <a:lnTo>
                    <a:pt x="1741" y="173"/>
                  </a:lnTo>
                  <a:lnTo>
                    <a:pt x="1736" y="178"/>
                  </a:lnTo>
                  <a:lnTo>
                    <a:pt x="1726" y="178"/>
                  </a:lnTo>
                  <a:lnTo>
                    <a:pt x="1716" y="173"/>
                  </a:lnTo>
                  <a:lnTo>
                    <a:pt x="1711" y="173"/>
                  </a:lnTo>
                  <a:lnTo>
                    <a:pt x="1701" y="168"/>
                  </a:lnTo>
                  <a:lnTo>
                    <a:pt x="1696" y="163"/>
                  </a:lnTo>
                  <a:lnTo>
                    <a:pt x="1691" y="159"/>
                  </a:lnTo>
                  <a:close/>
                  <a:moveTo>
                    <a:pt x="1365" y="134"/>
                  </a:moveTo>
                  <a:lnTo>
                    <a:pt x="1365" y="124"/>
                  </a:lnTo>
                  <a:lnTo>
                    <a:pt x="1370" y="119"/>
                  </a:lnTo>
                  <a:lnTo>
                    <a:pt x="1380" y="119"/>
                  </a:lnTo>
                  <a:lnTo>
                    <a:pt x="1385" y="119"/>
                  </a:lnTo>
                  <a:lnTo>
                    <a:pt x="1390" y="119"/>
                  </a:lnTo>
                  <a:lnTo>
                    <a:pt x="1400" y="119"/>
                  </a:lnTo>
                  <a:lnTo>
                    <a:pt x="1405" y="124"/>
                  </a:lnTo>
                  <a:lnTo>
                    <a:pt x="1415" y="129"/>
                  </a:lnTo>
                  <a:lnTo>
                    <a:pt x="1419" y="129"/>
                  </a:lnTo>
                  <a:lnTo>
                    <a:pt x="1419" y="134"/>
                  </a:lnTo>
                  <a:lnTo>
                    <a:pt x="1415" y="139"/>
                  </a:lnTo>
                  <a:lnTo>
                    <a:pt x="1405" y="144"/>
                  </a:lnTo>
                  <a:lnTo>
                    <a:pt x="1400" y="149"/>
                  </a:lnTo>
                  <a:lnTo>
                    <a:pt x="1390" y="154"/>
                  </a:lnTo>
                  <a:lnTo>
                    <a:pt x="1385" y="154"/>
                  </a:lnTo>
                  <a:lnTo>
                    <a:pt x="1380" y="154"/>
                  </a:lnTo>
                  <a:lnTo>
                    <a:pt x="1375" y="149"/>
                  </a:lnTo>
                  <a:lnTo>
                    <a:pt x="1370" y="149"/>
                  </a:lnTo>
                  <a:lnTo>
                    <a:pt x="1365" y="139"/>
                  </a:lnTo>
                  <a:lnTo>
                    <a:pt x="1365" y="134"/>
                  </a:lnTo>
                  <a:close/>
                  <a:moveTo>
                    <a:pt x="1444" y="104"/>
                  </a:moveTo>
                  <a:lnTo>
                    <a:pt x="1444" y="99"/>
                  </a:lnTo>
                  <a:lnTo>
                    <a:pt x="1454" y="94"/>
                  </a:lnTo>
                  <a:lnTo>
                    <a:pt x="1459" y="89"/>
                  </a:lnTo>
                  <a:lnTo>
                    <a:pt x="1469" y="89"/>
                  </a:lnTo>
                  <a:lnTo>
                    <a:pt x="1479" y="89"/>
                  </a:lnTo>
                  <a:lnTo>
                    <a:pt x="1489" y="89"/>
                  </a:lnTo>
                  <a:lnTo>
                    <a:pt x="1499" y="89"/>
                  </a:lnTo>
                  <a:lnTo>
                    <a:pt x="1504" y="99"/>
                  </a:lnTo>
                  <a:lnTo>
                    <a:pt x="1508" y="104"/>
                  </a:lnTo>
                  <a:lnTo>
                    <a:pt x="1508" y="109"/>
                  </a:lnTo>
                  <a:lnTo>
                    <a:pt x="1508" y="114"/>
                  </a:lnTo>
                  <a:lnTo>
                    <a:pt x="1499" y="119"/>
                  </a:lnTo>
                  <a:lnTo>
                    <a:pt x="1494" y="124"/>
                  </a:lnTo>
                  <a:lnTo>
                    <a:pt x="1484" y="129"/>
                  </a:lnTo>
                  <a:lnTo>
                    <a:pt x="1474" y="129"/>
                  </a:lnTo>
                  <a:lnTo>
                    <a:pt x="1464" y="129"/>
                  </a:lnTo>
                  <a:lnTo>
                    <a:pt x="1454" y="124"/>
                  </a:lnTo>
                  <a:lnTo>
                    <a:pt x="1449" y="119"/>
                  </a:lnTo>
                  <a:lnTo>
                    <a:pt x="1444" y="114"/>
                  </a:lnTo>
                  <a:lnTo>
                    <a:pt x="1444" y="104"/>
                  </a:lnTo>
                  <a:close/>
                  <a:moveTo>
                    <a:pt x="1523" y="79"/>
                  </a:moveTo>
                  <a:lnTo>
                    <a:pt x="1528" y="74"/>
                  </a:lnTo>
                  <a:lnTo>
                    <a:pt x="1533" y="70"/>
                  </a:lnTo>
                  <a:lnTo>
                    <a:pt x="1538" y="65"/>
                  </a:lnTo>
                  <a:lnTo>
                    <a:pt x="1548" y="60"/>
                  </a:lnTo>
                  <a:lnTo>
                    <a:pt x="1558" y="60"/>
                  </a:lnTo>
                  <a:lnTo>
                    <a:pt x="1568" y="60"/>
                  </a:lnTo>
                  <a:lnTo>
                    <a:pt x="1578" y="65"/>
                  </a:lnTo>
                  <a:lnTo>
                    <a:pt x="1588" y="70"/>
                  </a:lnTo>
                  <a:lnTo>
                    <a:pt x="1593" y="74"/>
                  </a:lnTo>
                  <a:lnTo>
                    <a:pt x="1593" y="79"/>
                  </a:lnTo>
                  <a:lnTo>
                    <a:pt x="1588" y="89"/>
                  </a:lnTo>
                  <a:lnTo>
                    <a:pt x="1583" y="94"/>
                  </a:lnTo>
                  <a:lnTo>
                    <a:pt x="1573" y="99"/>
                  </a:lnTo>
                  <a:lnTo>
                    <a:pt x="1563" y="99"/>
                  </a:lnTo>
                  <a:lnTo>
                    <a:pt x="1553" y="104"/>
                  </a:lnTo>
                  <a:lnTo>
                    <a:pt x="1543" y="104"/>
                  </a:lnTo>
                  <a:lnTo>
                    <a:pt x="1533" y="99"/>
                  </a:lnTo>
                  <a:lnTo>
                    <a:pt x="1528" y="94"/>
                  </a:lnTo>
                  <a:lnTo>
                    <a:pt x="1523" y="89"/>
                  </a:lnTo>
                  <a:lnTo>
                    <a:pt x="1523" y="79"/>
                  </a:lnTo>
                  <a:close/>
                  <a:moveTo>
                    <a:pt x="2235" y="1656"/>
                  </a:moveTo>
                  <a:lnTo>
                    <a:pt x="2260" y="1631"/>
                  </a:lnTo>
                  <a:lnTo>
                    <a:pt x="2285" y="1631"/>
                  </a:lnTo>
                  <a:lnTo>
                    <a:pt x="2315" y="1631"/>
                  </a:lnTo>
                  <a:lnTo>
                    <a:pt x="2339" y="1631"/>
                  </a:lnTo>
                  <a:lnTo>
                    <a:pt x="2369" y="1631"/>
                  </a:lnTo>
                  <a:lnTo>
                    <a:pt x="2394" y="1631"/>
                  </a:lnTo>
                  <a:lnTo>
                    <a:pt x="2418" y="1631"/>
                  </a:lnTo>
                  <a:lnTo>
                    <a:pt x="2448" y="1602"/>
                  </a:lnTo>
                  <a:lnTo>
                    <a:pt x="2448" y="1577"/>
                  </a:lnTo>
                  <a:lnTo>
                    <a:pt x="2448" y="1547"/>
                  </a:lnTo>
                  <a:lnTo>
                    <a:pt x="2448" y="1523"/>
                  </a:lnTo>
                  <a:lnTo>
                    <a:pt x="2473" y="1498"/>
                  </a:lnTo>
                  <a:lnTo>
                    <a:pt x="2473" y="1468"/>
                  </a:lnTo>
                  <a:lnTo>
                    <a:pt x="2473" y="1444"/>
                  </a:lnTo>
                  <a:lnTo>
                    <a:pt x="2473" y="1414"/>
                  </a:lnTo>
                  <a:lnTo>
                    <a:pt x="2503" y="1389"/>
                  </a:lnTo>
                  <a:lnTo>
                    <a:pt x="2503" y="1364"/>
                  </a:lnTo>
                  <a:lnTo>
                    <a:pt x="2503" y="1335"/>
                  </a:lnTo>
                  <a:lnTo>
                    <a:pt x="2503" y="1310"/>
                  </a:lnTo>
                  <a:lnTo>
                    <a:pt x="2527" y="1280"/>
                  </a:lnTo>
                  <a:lnTo>
                    <a:pt x="2527" y="1256"/>
                  </a:lnTo>
                  <a:lnTo>
                    <a:pt x="2527" y="1226"/>
                  </a:lnTo>
                  <a:lnTo>
                    <a:pt x="2527" y="1201"/>
                  </a:lnTo>
                  <a:lnTo>
                    <a:pt x="2552" y="1177"/>
                  </a:lnTo>
                  <a:lnTo>
                    <a:pt x="2552" y="1147"/>
                  </a:lnTo>
                  <a:lnTo>
                    <a:pt x="2552" y="1122"/>
                  </a:lnTo>
                  <a:lnTo>
                    <a:pt x="2552" y="1093"/>
                  </a:lnTo>
                  <a:lnTo>
                    <a:pt x="2582" y="1068"/>
                  </a:lnTo>
                  <a:lnTo>
                    <a:pt x="2582" y="1043"/>
                  </a:lnTo>
                  <a:lnTo>
                    <a:pt x="2582" y="1014"/>
                  </a:lnTo>
                  <a:lnTo>
                    <a:pt x="2582" y="989"/>
                  </a:lnTo>
                  <a:lnTo>
                    <a:pt x="2582" y="959"/>
                  </a:lnTo>
                  <a:lnTo>
                    <a:pt x="2582" y="934"/>
                  </a:lnTo>
                  <a:lnTo>
                    <a:pt x="2582" y="910"/>
                  </a:lnTo>
                  <a:lnTo>
                    <a:pt x="2582" y="880"/>
                  </a:lnTo>
                  <a:lnTo>
                    <a:pt x="2582" y="855"/>
                  </a:lnTo>
                  <a:lnTo>
                    <a:pt x="2582" y="826"/>
                  </a:lnTo>
                  <a:lnTo>
                    <a:pt x="2582" y="801"/>
                  </a:lnTo>
                  <a:lnTo>
                    <a:pt x="2582" y="776"/>
                  </a:lnTo>
                  <a:lnTo>
                    <a:pt x="2582" y="747"/>
                  </a:lnTo>
                  <a:lnTo>
                    <a:pt x="2582" y="722"/>
                  </a:lnTo>
                  <a:lnTo>
                    <a:pt x="2582" y="692"/>
                  </a:lnTo>
                  <a:lnTo>
                    <a:pt x="2582" y="668"/>
                  </a:lnTo>
                  <a:lnTo>
                    <a:pt x="2582" y="643"/>
                  </a:lnTo>
                  <a:lnTo>
                    <a:pt x="2582" y="613"/>
                  </a:lnTo>
                  <a:lnTo>
                    <a:pt x="2582" y="589"/>
                  </a:lnTo>
                  <a:lnTo>
                    <a:pt x="2582" y="559"/>
                  </a:lnTo>
                  <a:lnTo>
                    <a:pt x="2582" y="534"/>
                  </a:lnTo>
                  <a:lnTo>
                    <a:pt x="2582" y="504"/>
                  </a:lnTo>
                  <a:lnTo>
                    <a:pt x="2582" y="480"/>
                  </a:lnTo>
                  <a:lnTo>
                    <a:pt x="2582" y="455"/>
                  </a:lnTo>
                  <a:lnTo>
                    <a:pt x="2582" y="425"/>
                  </a:lnTo>
                  <a:lnTo>
                    <a:pt x="2582" y="401"/>
                  </a:lnTo>
                  <a:lnTo>
                    <a:pt x="2582" y="371"/>
                  </a:lnTo>
                  <a:lnTo>
                    <a:pt x="2582" y="346"/>
                  </a:lnTo>
                  <a:lnTo>
                    <a:pt x="2582" y="322"/>
                  </a:lnTo>
                  <a:lnTo>
                    <a:pt x="2582" y="292"/>
                  </a:lnTo>
                  <a:lnTo>
                    <a:pt x="2582" y="267"/>
                  </a:lnTo>
                  <a:lnTo>
                    <a:pt x="2582" y="238"/>
                  </a:lnTo>
                  <a:lnTo>
                    <a:pt x="2552" y="213"/>
                  </a:lnTo>
                  <a:lnTo>
                    <a:pt x="2552" y="188"/>
                  </a:lnTo>
                  <a:lnTo>
                    <a:pt x="2552" y="159"/>
                  </a:lnTo>
                  <a:lnTo>
                    <a:pt x="2552" y="134"/>
                  </a:lnTo>
                  <a:lnTo>
                    <a:pt x="2552" y="104"/>
                  </a:lnTo>
                  <a:lnTo>
                    <a:pt x="2527" y="79"/>
                  </a:lnTo>
                  <a:lnTo>
                    <a:pt x="2503" y="79"/>
                  </a:lnTo>
                  <a:lnTo>
                    <a:pt x="2473" y="79"/>
                  </a:lnTo>
                  <a:lnTo>
                    <a:pt x="2448" y="55"/>
                  </a:lnTo>
                  <a:lnTo>
                    <a:pt x="2418" y="55"/>
                  </a:lnTo>
                  <a:lnTo>
                    <a:pt x="2394" y="55"/>
                  </a:lnTo>
                  <a:lnTo>
                    <a:pt x="2369" y="25"/>
                  </a:lnTo>
                  <a:lnTo>
                    <a:pt x="2339" y="25"/>
                  </a:lnTo>
                  <a:lnTo>
                    <a:pt x="2315" y="25"/>
                  </a:lnTo>
                  <a:lnTo>
                    <a:pt x="2285" y="0"/>
                  </a:lnTo>
                  <a:lnTo>
                    <a:pt x="2260" y="0"/>
                  </a:lnTo>
                  <a:lnTo>
                    <a:pt x="2235" y="0"/>
                  </a:lnTo>
                  <a:lnTo>
                    <a:pt x="2206" y="0"/>
                  </a:lnTo>
                  <a:lnTo>
                    <a:pt x="2181" y="0"/>
                  </a:lnTo>
                  <a:lnTo>
                    <a:pt x="2156" y="0"/>
                  </a:lnTo>
                  <a:lnTo>
                    <a:pt x="2127" y="0"/>
                  </a:lnTo>
                  <a:lnTo>
                    <a:pt x="2102" y="0"/>
                  </a:lnTo>
                  <a:lnTo>
                    <a:pt x="2072" y="0"/>
                  </a:lnTo>
                  <a:lnTo>
                    <a:pt x="2048" y="0"/>
                  </a:lnTo>
                  <a:lnTo>
                    <a:pt x="2023" y="0"/>
                  </a:lnTo>
                  <a:lnTo>
                    <a:pt x="1993" y="0"/>
                  </a:lnTo>
                  <a:lnTo>
                    <a:pt x="1968" y="0"/>
                  </a:lnTo>
                  <a:lnTo>
                    <a:pt x="1944" y="0"/>
                  </a:lnTo>
                  <a:lnTo>
                    <a:pt x="1914" y="0"/>
                  </a:lnTo>
                  <a:lnTo>
                    <a:pt x="1889" y="0"/>
                  </a:lnTo>
                  <a:lnTo>
                    <a:pt x="1860" y="0"/>
                  </a:lnTo>
                  <a:lnTo>
                    <a:pt x="1835" y="0"/>
                  </a:lnTo>
                  <a:lnTo>
                    <a:pt x="1810" y="0"/>
                  </a:lnTo>
                  <a:lnTo>
                    <a:pt x="1780" y="0"/>
                  </a:lnTo>
                  <a:lnTo>
                    <a:pt x="1756" y="0"/>
                  </a:lnTo>
                  <a:lnTo>
                    <a:pt x="1726" y="0"/>
                  </a:lnTo>
                  <a:lnTo>
                    <a:pt x="1701" y="0"/>
                  </a:lnTo>
                  <a:lnTo>
                    <a:pt x="1677" y="0"/>
                  </a:lnTo>
                  <a:lnTo>
                    <a:pt x="1647" y="0"/>
                  </a:lnTo>
                  <a:lnTo>
                    <a:pt x="1622" y="0"/>
                  </a:lnTo>
                  <a:lnTo>
                    <a:pt x="1598" y="0"/>
                  </a:lnTo>
                  <a:lnTo>
                    <a:pt x="1568" y="0"/>
                  </a:lnTo>
                  <a:lnTo>
                    <a:pt x="1543" y="0"/>
                  </a:lnTo>
                  <a:lnTo>
                    <a:pt x="1513" y="0"/>
                  </a:lnTo>
                  <a:lnTo>
                    <a:pt x="1489" y="0"/>
                  </a:lnTo>
                  <a:lnTo>
                    <a:pt x="1464" y="0"/>
                  </a:lnTo>
                  <a:lnTo>
                    <a:pt x="1434" y="0"/>
                  </a:lnTo>
                  <a:lnTo>
                    <a:pt x="1410" y="0"/>
                  </a:lnTo>
                  <a:lnTo>
                    <a:pt x="1385" y="0"/>
                  </a:lnTo>
                  <a:lnTo>
                    <a:pt x="1355" y="0"/>
                  </a:lnTo>
                  <a:lnTo>
                    <a:pt x="1330" y="0"/>
                  </a:lnTo>
                  <a:lnTo>
                    <a:pt x="1301" y="0"/>
                  </a:lnTo>
                  <a:lnTo>
                    <a:pt x="1276" y="0"/>
                  </a:lnTo>
                  <a:lnTo>
                    <a:pt x="1251" y="0"/>
                  </a:lnTo>
                  <a:lnTo>
                    <a:pt x="1222" y="0"/>
                  </a:lnTo>
                  <a:lnTo>
                    <a:pt x="1197" y="0"/>
                  </a:lnTo>
                  <a:lnTo>
                    <a:pt x="1172" y="0"/>
                  </a:lnTo>
                  <a:lnTo>
                    <a:pt x="1143" y="0"/>
                  </a:lnTo>
                  <a:lnTo>
                    <a:pt x="1118" y="0"/>
                  </a:lnTo>
                  <a:lnTo>
                    <a:pt x="1088" y="0"/>
                  </a:lnTo>
                  <a:lnTo>
                    <a:pt x="1063" y="0"/>
                  </a:lnTo>
                  <a:lnTo>
                    <a:pt x="1039" y="0"/>
                  </a:lnTo>
                  <a:lnTo>
                    <a:pt x="1009" y="0"/>
                  </a:lnTo>
                  <a:lnTo>
                    <a:pt x="984" y="0"/>
                  </a:lnTo>
                  <a:lnTo>
                    <a:pt x="955" y="0"/>
                  </a:lnTo>
                  <a:lnTo>
                    <a:pt x="930" y="0"/>
                  </a:lnTo>
                  <a:lnTo>
                    <a:pt x="905" y="0"/>
                  </a:lnTo>
                  <a:lnTo>
                    <a:pt x="875" y="0"/>
                  </a:lnTo>
                  <a:lnTo>
                    <a:pt x="851" y="0"/>
                  </a:lnTo>
                  <a:lnTo>
                    <a:pt x="826" y="0"/>
                  </a:lnTo>
                  <a:lnTo>
                    <a:pt x="796" y="0"/>
                  </a:lnTo>
                  <a:lnTo>
                    <a:pt x="772" y="0"/>
                  </a:lnTo>
                  <a:lnTo>
                    <a:pt x="742" y="0"/>
                  </a:lnTo>
                  <a:lnTo>
                    <a:pt x="717" y="0"/>
                  </a:lnTo>
                  <a:lnTo>
                    <a:pt x="692" y="0"/>
                  </a:lnTo>
                  <a:lnTo>
                    <a:pt x="663" y="0"/>
                  </a:lnTo>
                  <a:lnTo>
                    <a:pt x="638" y="0"/>
                  </a:lnTo>
                  <a:lnTo>
                    <a:pt x="613" y="0"/>
                  </a:lnTo>
                  <a:lnTo>
                    <a:pt x="584" y="25"/>
                  </a:lnTo>
                  <a:lnTo>
                    <a:pt x="559" y="55"/>
                  </a:lnTo>
                  <a:lnTo>
                    <a:pt x="529" y="79"/>
                  </a:lnTo>
                  <a:lnTo>
                    <a:pt x="505" y="104"/>
                  </a:lnTo>
                  <a:lnTo>
                    <a:pt x="480" y="134"/>
                  </a:lnTo>
                  <a:lnTo>
                    <a:pt x="450" y="134"/>
                  </a:lnTo>
                  <a:lnTo>
                    <a:pt x="425" y="159"/>
                  </a:lnTo>
                  <a:lnTo>
                    <a:pt x="396" y="188"/>
                  </a:lnTo>
                  <a:lnTo>
                    <a:pt x="371" y="213"/>
                  </a:lnTo>
                  <a:lnTo>
                    <a:pt x="346" y="238"/>
                  </a:lnTo>
                  <a:lnTo>
                    <a:pt x="317" y="267"/>
                  </a:lnTo>
                  <a:lnTo>
                    <a:pt x="292" y="292"/>
                  </a:lnTo>
                  <a:lnTo>
                    <a:pt x="267" y="322"/>
                  </a:lnTo>
                  <a:lnTo>
                    <a:pt x="237" y="322"/>
                  </a:lnTo>
                  <a:lnTo>
                    <a:pt x="213" y="346"/>
                  </a:lnTo>
                  <a:lnTo>
                    <a:pt x="183" y="371"/>
                  </a:lnTo>
                  <a:lnTo>
                    <a:pt x="158" y="401"/>
                  </a:lnTo>
                  <a:lnTo>
                    <a:pt x="134" y="425"/>
                  </a:lnTo>
                  <a:lnTo>
                    <a:pt x="104" y="455"/>
                  </a:lnTo>
                  <a:lnTo>
                    <a:pt x="79" y="480"/>
                  </a:lnTo>
                  <a:lnTo>
                    <a:pt x="55" y="504"/>
                  </a:lnTo>
                  <a:lnTo>
                    <a:pt x="25" y="504"/>
                  </a:lnTo>
                  <a:lnTo>
                    <a:pt x="0" y="534"/>
                  </a:lnTo>
                  <a:lnTo>
                    <a:pt x="0" y="559"/>
                  </a:lnTo>
                  <a:lnTo>
                    <a:pt x="0" y="589"/>
                  </a:lnTo>
                  <a:lnTo>
                    <a:pt x="0" y="613"/>
                  </a:lnTo>
                  <a:lnTo>
                    <a:pt x="25" y="643"/>
                  </a:lnTo>
                  <a:lnTo>
                    <a:pt x="25" y="668"/>
                  </a:lnTo>
                  <a:lnTo>
                    <a:pt x="55" y="692"/>
                  </a:lnTo>
                  <a:lnTo>
                    <a:pt x="79" y="722"/>
                  </a:lnTo>
                  <a:lnTo>
                    <a:pt x="104" y="747"/>
                  </a:lnTo>
                  <a:lnTo>
                    <a:pt x="134" y="776"/>
                  </a:lnTo>
                  <a:lnTo>
                    <a:pt x="134" y="801"/>
                  </a:lnTo>
                  <a:lnTo>
                    <a:pt x="158" y="826"/>
                  </a:lnTo>
                  <a:lnTo>
                    <a:pt x="183" y="855"/>
                  </a:lnTo>
                  <a:lnTo>
                    <a:pt x="213" y="880"/>
                  </a:lnTo>
                  <a:lnTo>
                    <a:pt x="237" y="910"/>
                  </a:lnTo>
                  <a:lnTo>
                    <a:pt x="267" y="934"/>
                  </a:lnTo>
                  <a:lnTo>
                    <a:pt x="292" y="959"/>
                  </a:lnTo>
                  <a:lnTo>
                    <a:pt x="292" y="989"/>
                  </a:lnTo>
                  <a:lnTo>
                    <a:pt x="317" y="1014"/>
                  </a:lnTo>
                  <a:lnTo>
                    <a:pt x="346" y="1043"/>
                  </a:lnTo>
                  <a:lnTo>
                    <a:pt x="371" y="1068"/>
                  </a:lnTo>
                  <a:lnTo>
                    <a:pt x="396" y="1093"/>
                  </a:lnTo>
                  <a:lnTo>
                    <a:pt x="425" y="1122"/>
                  </a:lnTo>
                  <a:lnTo>
                    <a:pt x="450" y="1147"/>
                  </a:lnTo>
                  <a:lnTo>
                    <a:pt x="480" y="1177"/>
                  </a:lnTo>
                  <a:lnTo>
                    <a:pt x="505" y="1201"/>
                  </a:lnTo>
                  <a:lnTo>
                    <a:pt x="529" y="1226"/>
                  </a:lnTo>
                  <a:lnTo>
                    <a:pt x="559" y="1256"/>
                  </a:lnTo>
                  <a:lnTo>
                    <a:pt x="584" y="1280"/>
                  </a:lnTo>
                  <a:lnTo>
                    <a:pt x="613" y="1310"/>
                  </a:lnTo>
                  <a:lnTo>
                    <a:pt x="638" y="1335"/>
                  </a:lnTo>
                  <a:lnTo>
                    <a:pt x="663" y="1364"/>
                  </a:lnTo>
                  <a:lnTo>
                    <a:pt x="692" y="1389"/>
                  </a:lnTo>
                  <a:lnTo>
                    <a:pt x="717" y="1414"/>
                  </a:lnTo>
                  <a:lnTo>
                    <a:pt x="742" y="1444"/>
                  </a:lnTo>
                  <a:lnTo>
                    <a:pt x="772" y="1468"/>
                  </a:lnTo>
                  <a:lnTo>
                    <a:pt x="796" y="1468"/>
                  </a:lnTo>
                  <a:lnTo>
                    <a:pt x="826" y="1498"/>
                  </a:lnTo>
                  <a:lnTo>
                    <a:pt x="851" y="1523"/>
                  </a:lnTo>
                  <a:lnTo>
                    <a:pt x="875" y="1547"/>
                  </a:lnTo>
                  <a:lnTo>
                    <a:pt x="905" y="1577"/>
                  </a:lnTo>
                  <a:lnTo>
                    <a:pt x="930" y="1602"/>
                  </a:lnTo>
                  <a:lnTo>
                    <a:pt x="955" y="1631"/>
                  </a:lnTo>
                  <a:lnTo>
                    <a:pt x="984" y="1656"/>
                  </a:lnTo>
                  <a:lnTo>
                    <a:pt x="1009" y="1656"/>
                  </a:lnTo>
                  <a:lnTo>
                    <a:pt x="1039" y="1656"/>
                  </a:lnTo>
                  <a:lnTo>
                    <a:pt x="1063" y="1656"/>
                  </a:lnTo>
                  <a:lnTo>
                    <a:pt x="1088" y="1656"/>
                  </a:lnTo>
                  <a:lnTo>
                    <a:pt x="1118" y="1656"/>
                  </a:lnTo>
                  <a:lnTo>
                    <a:pt x="1143" y="1656"/>
                  </a:lnTo>
                  <a:lnTo>
                    <a:pt x="1172" y="1656"/>
                  </a:lnTo>
                  <a:lnTo>
                    <a:pt x="1197" y="1656"/>
                  </a:lnTo>
                  <a:lnTo>
                    <a:pt x="1222" y="1656"/>
                  </a:lnTo>
                  <a:lnTo>
                    <a:pt x="1251" y="1656"/>
                  </a:lnTo>
                  <a:lnTo>
                    <a:pt x="1276" y="1656"/>
                  </a:lnTo>
                  <a:lnTo>
                    <a:pt x="1301" y="1656"/>
                  </a:lnTo>
                  <a:lnTo>
                    <a:pt x="1330" y="1656"/>
                  </a:lnTo>
                  <a:lnTo>
                    <a:pt x="1355" y="1656"/>
                  </a:lnTo>
                  <a:lnTo>
                    <a:pt x="1385" y="1656"/>
                  </a:lnTo>
                  <a:lnTo>
                    <a:pt x="1410" y="1656"/>
                  </a:lnTo>
                  <a:lnTo>
                    <a:pt x="1434" y="1656"/>
                  </a:lnTo>
                  <a:lnTo>
                    <a:pt x="1464" y="1656"/>
                  </a:lnTo>
                  <a:lnTo>
                    <a:pt x="1489" y="1656"/>
                  </a:lnTo>
                  <a:lnTo>
                    <a:pt x="1513" y="1656"/>
                  </a:lnTo>
                  <a:lnTo>
                    <a:pt x="1543" y="1656"/>
                  </a:lnTo>
                  <a:lnTo>
                    <a:pt x="1568" y="1656"/>
                  </a:lnTo>
                  <a:lnTo>
                    <a:pt x="1598" y="1656"/>
                  </a:lnTo>
                  <a:lnTo>
                    <a:pt x="1622" y="1656"/>
                  </a:lnTo>
                  <a:lnTo>
                    <a:pt x="1647" y="1656"/>
                  </a:lnTo>
                  <a:lnTo>
                    <a:pt x="1677" y="1656"/>
                  </a:lnTo>
                  <a:lnTo>
                    <a:pt x="1701" y="1656"/>
                  </a:lnTo>
                  <a:lnTo>
                    <a:pt x="1726" y="1656"/>
                  </a:lnTo>
                  <a:lnTo>
                    <a:pt x="1756" y="1656"/>
                  </a:lnTo>
                  <a:lnTo>
                    <a:pt x="1780" y="1656"/>
                  </a:lnTo>
                  <a:lnTo>
                    <a:pt x="1810" y="1656"/>
                  </a:lnTo>
                  <a:lnTo>
                    <a:pt x="1835" y="1656"/>
                  </a:lnTo>
                  <a:lnTo>
                    <a:pt x="1860" y="1656"/>
                  </a:lnTo>
                  <a:lnTo>
                    <a:pt x="1889" y="1656"/>
                  </a:lnTo>
                  <a:lnTo>
                    <a:pt x="1914" y="1656"/>
                  </a:lnTo>
                  <a:lnTo>
                    <a:pt x="1944" y="1656"/>
                  </a:lnTo>
                  <a:lnTo>
                    <a:pt x="1968" y="1656"/>
                  </a:lnTo>
                  <a:lnTo>
                    <a:pt x="1993" y="1656"/>
                  </a:lnTo>
                  <a:lnTo>
                    <a:pt x="2023" y="1656"/>
                  </a:lnTo>
                  <a:lnTo>
                    <a:pt x="2048" y="1656"/>
                  </a:lnTo>
                  <a:lnTo>
                    <a:pt x="2072" y="1656"/>
                  </a:lnTo>
                  <a:lnTo>
                    <a:pt x="2102" y="1656"/>
                  </a:lnTo>
                  <a:lnTo>
                    <a:pt x="2127" y="1656"/>
                  </a:lnTo>
                  <a:lnTo>
                    <a:pt x="2156" y="1656"/>
                  </a:lnTo>
                  <a:lnTo>
                    <a:pt x="2181" y="1656"/>
                  </a:lnTo>
                  <a:lnTo>
                    <a:pt x="2206" y="1656"/>
                  </a:lnTo>
                  <a:lnTo>
                    <a:pt x="2235" y="1656"/>
                  </a:lnTo>
                  <a:close/>
                  <a:moveTo>
                    <a:pt x="1434" y="267"/>
                  </a:moveTo>
                  <a:lnTo>
                    <a:pt x="1434" y="262"/>
                  </a:lnTo>
                  <a:lnTo>
                    <a:pt x="1434" y="262"/>
                  </a:lnTo>
                  <a:lnTo>
                    <a:pt x="1439" y="257"/>
                  </a:lnTo>
                  <a:lnTo>
                    <a:pt x="1444" y="257"/>
                  </a:lnTo>
                  <a:lnTo>
                    <a:pt x="1449" y="257"/>
                  </a:lnTo>
                  <a:lnTo>
                    <a:pt x="1454" y="257"/>
                  </a:lnTo>
                  <a:lnTo>
                    <a:pt x="1459" y="257"/>
                  </a:lnTo>
                  <a:lnTo>
                    <a:pt x="1464" y="262"/>
                  </a:lnTo>
                  <a:lnTo>
                    <a:pt x="1469" y="262"/>
                  </a:lnTo>
                  <a:lnTo>
                    <a:pt x="1469" y="267"/>
                  </a:lnTo>
                  <a:lnTo>
                    <a:pt x="1469" y="267"/>
                  </a:lnTo>
                  <a:lnTo>
                    <a:pt x="1464" y="272"/>
                  </a:lnTo>
                  <a:lnTo>
                    <a:pt x="1459" y="272"/>
                  </a:lnTo>
                  <a:lnTo>
                    <a:pt x="1454" y="272"/>
                  </a:lnTo>
                  <a:lnTo>
                    <a:pt x="1449" y="272"/>
                  </a:lnTo>
                  <a:lnTo>
                    <a:pt x="1444" y="272"/>
                  </a:lnTo>
                  <a:lnTo>
                    <a:pt x="1439" y="272"/>
                  </a:lnTo>
                  <a:lnTo>
                    <a:pt x="1439" y="272"/>
                  </a:lnTo>
                  <a:lnTo>
                    <a:pt x="1434" y="267"/>
                  </a:lnTo>
                  <a:lnTo>
                    <a:pt x="1434" y="267"/>
                  </a:lnTo>
                  <a:close/>
                  <a:moveTo>
                    <a:pt x="1672" y="267"/>
                  </a:moveTo>
                  <a:lnTo>
                    <a:pt x="1667" y="262"/>
                  </a:lnTo>
                  <a:lnTo>
                    <a:pt x="1662" y="257"/>
                  </a:lnTo>
                  <a:lnTo>
                    <a:pt x="1657" y="257"/>
                  </a:lnTo>
                  <a:lnTo>
                    <a:pt x="1652" y="252"/>
                  </a:lnTo>
                  <a:lnTo>
                    <a:pt x="1647" y="247"/>
                  </a:lnTo>
                  <a:lnTo>
                    <a:pt x="1642" y="243"/>
                  </a:lnTo>
                  <a:lnTo>
                    <a:pt x="1637" y="238"/>
                  </a:lnTo>
                  <a:lnTo>
                    <a:pt x="1637" y="233"/>
                  </a:lnTo>
                  <a:lnTo>
                    <a:pt x="1632" y="228"/>
                  </a:lnTo>
                  <a:lnTo>
                    <a:pt x="1627" y="223"/>
                  </a:lnTo>
                  <a:lnTo>
                    <a:pt x="1622" y="223"/>
                  </a:lnTo>
                  <a:lnTo>
                    <a:pt x="1617" y="223"/>
                  </a:lnTo>
                  <a:lnTo>
                    <a:pt x="1607" y="223"/>
                  </a:lnTo>
                  <a:lnTo>
                    <a:pt x="1598" y="223"/>
                  </a:lnTo>
                  <a:lnTo>
                    <a:pt x="1593" y="223"/>
                  </a:lnTo>
                  <a:lnTo>
                    <a:pt x="1583" y="223"/>
                  </a:lnTo>
                  <a:lnTo>
                    <a:pt x="1578" y="218"/>
                  </a:lnTo>
                  <a:lnTo>
                    <a:pt x="1573" y="213"/>
                  </a:lnTo>
                  <a:lnTo>
                    <a:pt x="1568" y="213"/>
                  </a:lnTo>
                  <a:lnTo>
                    <a:pt x="1563" y="218"/>
                  </a:lnTo>
                  <a:lnTo>
                    <a:pt x="1558" y="223"/>
                  </a:lnTo>
                  <a:lnTo>
                    <a:pt x="1558" y="228"/>
                  </a:lnTo>
                  <a:lnTo>
                    <a:pt x="1553" y="233"/>
                  </a:lnTo>
                  <a:lnTo>
                    <a:pt x="1548" y="238"/>
                  </a:lnTo>
                  <a:lnTo>
                    <a:pt x="1543" y="243"/>
                  </a:lnTo>
                  <a:lnTo>
                    <a:pt x="1538" y="247"/>
                  </a:lnTo>
                  <a:lnTo>
                    <a:pt x="1528" y="247"/>
                  </a:lnTo>
                  <a:lnTo>
                    <a:pt x="1523" y="247"/>
                  </a:lnTo>
                  <a:lnTo>
                    <a:pt x="1513" y="247"/>
                  </a:lnTo>
                  <a:lnTo>
                    <a:pt x="1508" y="247"/>
                  </a:lnTo>
                  <a:lnTo>
                    <a:pt x="1504" y="243"/>
                  </a:lnTo>
                  <a:lnTo>
                    <a:pt x="1504" y="238"/>
                  </a:lnTo>
                  <a:lnTo>
                    <a:pt x="1504" y="233"/>
                  </a:lnTo>
                  <a:lnTo>
                    <a:pt x="1508" y="228"/>
                  </a:lnTo>
                  <a:lnTo>
                    <a:pt x="1518" y="228"/>
                  </a:lnTo>
                  <a:lnTo>
                    <a:pt x="1523" y="228"/>
                  </a:lnTo>
                  <a:lnTo>
                    <a:pt x="1533" y="233"/>
                  </a:lnTo>
                  <a:lnTo>
                    <a:pt x="1538" y="233"/>
                  </a:lnTo>
                  <a:lnTo>
                    <a:pt x="1548" y="233"/>
                  </a:lnTo>
                  <a:lnTo>
                    <a:pt x="1553" y="233"/>
                  </a:lnTo>
                  <a:lnTo>
                    <a:pt x="1558" y="228"/>
                  </a:lnTo>
                  <a:lnTo>
                    <a:pt x="1563" y="223"/>
                  </a:lnTo>
                  <a:lnTo>
                    <a:pt x="1563" y="218"/>
                  </a:lnTo>
                  <a:lnTo>
                    <a:pt x="1568" y="213"/>
                  </a:lnTo>
                  <a:lnTo>
                    <a:pt x="1573" y="208"/>
                  </a:lnTo>
                  <a:lnTo>
                    <a:pt x="1578" y="203"/>
                  </a:lnTo>
                  <a:lnTo>
                    <a:pt x="1583" y="203"/>
                  </a:lnTo>
                  <a:lnTo>
                    <a:pt x="1593" y="198"/>
                  </a:lnTo>
                  <a:lnTo>
                    <a:pt x="1598" y="198"/>
                  </a:lnTo>
                  <a:lnTo>
                    <a:pt x="1607" y="198"/>
                  </a:lnTo>
                  <a:lnTo>
                    <a:pt x="1617" y="198"/>
                  </a:lnTo>
                  <a:lnTo>
                    <a:pt x="1622" y="198"/>
                  </a:lnTo>
                  <a:lnTo>
                    <a:pt x="1627" y="203"/>
                  </a:lnTo>
                  <a:lnTo>
                    <a:pt x="1632" y="208"/>
                  </a:lnTo>
                  <a:lnTo>
                    <a:pt x="1632" y="213"/>
                  </a:lnTo>
                  <a:lnTo>
                    <a:pt x="1637" y="218"/>
                  </a:lnTo>
                  <a:lnTo>
                    <a:pt x="1642" y="223"/>
                  </a:lnTo>
                  <a:lnTo>
                    <a:pt x="1647" y="228"/>
                  </a:lnTo>
                  <a:lnTo>
                    <a:pt x="1652" y="228"/>
                  </a:lnTo>
                  <a:lnTo>
                    <a:pt x="1657" y="233"/>
                  </a:lnTo>
                  <a:lnTo>
                    <a:pt x="1662" y="238"/>
                  </a:lnTo>
                  <a:lnTo>
                    <a:pt x="1662" y="243"/>
                  </a:lnTo>
                  <a:lnTo>
                    <a:pt x="1667" y="247"/>
                  </a:lnTo>
                  <a:lnTo>
                    <a:pt x="1667" y="252"/>
                  </a:lnTo>
                  <a:lnTo>
                    <a:pt x="1667" y="257"/>
                  </a:lnTo>
                  <a:lnTo>
                    <a:pt x="1672" y="262"/>
                  </a:lnTo>
                  <a:lnTo>
                    <a:pt x="1677" y="267"/>
                  </a:lnTo>
                  <a:lnTo>
                    <a:pt x="1672" y="267"/>
                  </a:lnTo>
                  <a:close/>
                  <a:moveTo>
                    <a:pt x="1993" y="238"/>
                  </a:moveTo>
                  <a:lnTo>
                    <a:pt x="1983" y="238"/>
                  </a:lnTo>
                  <a:lnTo>
                    <a:pt x="1973" y="243"/>
                  </a:lnTo>
                  <a:lnTo>
                    <a:pt x="1968" y="238"/>
                  </a:lnTo>
                  <a:lnTo>
                    <a:pt x="1963" y="238"/>
                  </a:lnTo>
                  <a:lnTo>
                    <a:pt x="1959" y="233"/>
                  </a:lnTo>
                  <a:lnTo>
                    <a:pt x="1949" y="228"/>
                  </a:lnTo>
                  <a:lnTo>
                    <a:pt x="1944" y="228"/>
                  </a:lnTo>
                  <a:lnTo>
                    <a:pt x="1939" y="223"/>
                  </a:lnTo>
                  <a:lnTo>
                    <a:pt x="1934" y="218"/>
                  </a:lnTo>
                  <a:lnTo>
                    <a:pt x="1929" y="213"/>
                  </a:lnTo>
                  <a:lnTo>
                    <a:pt x="1924" y="213"/>
                  </a:lnTo>
                  <a:lnTo>
                    <a:pt x="1919" y="208"/>
                  </a:lnTo>
                  <a:lnTo>
                    <a:pt x="1914" y="203"/>
                  </a:lnTo>
                  <a:lnTo>
                    <a:pt x="1904" y="203"/>
                  </a:lnTo>
                  <a:lnTo>
                    <a:pt x="1894" y="198"/>
                  </a:lnTo>
                  <a:lnTo>
                    <a:pt x="1889" y="198"/>
                  </a:lnTo>
                  <a:lnTo>
                    <a:pt x="1879" y="203"/>
                  </a:lnTo>
                  <a:lnTo>
                    <a:pt x="1874" y="203"/>
                  </a:lnTo>
                  <a:lnTo>
                    <a:pt x="1870" y="208"/>
                  </a:lnTo>
                  <a:lnTo>
                    <a:pt x="1865" y="213"/>
                  </a:lnTo>
                  <a:lnTo>
                    <a:pt x="1865" y="218"/>
                  </a:lnTo>
                  <a:lnTo>
                    <a:pt x="1855" y="218"/>
                  </a:lnTo>
                  <a:lnTo>
                    <a:pt x="1850" y="213"/>
                  </a:lnTo>
                  <a:lnTo>
                    <a:pt x="1855" y="208"/>
                  </a:lnTo>
                  <a:lnTo>
                    <a:pt x="1865" y="203"/>
                  </a:lnTo>
                  <a:lnTo>
                    <a:pt x="1870" y="198"/>
                  </a:lnTo>
                  <a:lnTo>
                    <a:pt x="1874" y="193"/>
                  </a:lnTo>
                  <a:lnTo>
                    <a:pt x="1874" y="188"/>
                  </a:lnTo>
                  <a:lnTo>
                    <a:pt x="1870" y="183"/>
                  </a:lnTo>
                  <a:lnTo>
                    <a:pt x="1865" y="178"/>
                  </a:lnTo>
                  <a:lnTo>
                    <a:pt x="1860" y="178"/>
                  </a:lnTo>
                  <a:lnTo>
                    <a:pt x="1850" y="178"/>
                  </a:lnTo>
                  <a:lnTo>
                    <a:pt x="1845" y="178"/>
                  </a:lnTo>
                  <a:lnTo>
                    <a:pt x="1835" y="178"/>
                  </a:lnTo>
                  <a:lnTo>
                    <a:pt x="1830" y="173"/>
                  </a:lnTo>
                  <a:lnTo>
                    <a:pt x="1825" y="168"/>
                  </a:lnTo>
                  <a:lnTo>
                    <a:pt x="1820" y="163"/>
                  </a:lnTo>
                  <a:lnTo>
                    <a:pt x="1815" y="159"/>
                  </a:lnTo>
                  <a:lnTo>
                    <a:pt x="1810" y="154"/>
                  </a:lnTo>
                  <a:lnTo>
                    <a:pt x="1805" y="154"/>
                  </a:lnTo>
                  <a:lnTo>
                    <a:pt x="1800" y="154"/>
                  </a:lnTo>
                  <a:lnTo>
                    <a:pt x="1790" y="154"/>
                  </a:lnTo>
                  <a:lnTo>
                    <a:pt x="1780" y="149"/>
                  </a:lnTo>
                  <a:lnTo>
                    <a:pt x="1776" y="149"/>
                  </a:lnTo>
                  <a:lnTo>
                    <a:pt x="1771" y="144"/>
                  </a:lnTo>
                  <a:lnTo>
                    <a:pt x="1766" y="139"/>
                  </a:lnTo>
                  <a:lnTo>
                    <a:pt x="1761" y="134"/>
                  </a:lnTo>
                  <a:lnTo>
                    <a:pt x="1761" y="129"/>
                  </a:lnTo>
                  <a:lnTo>
                    <a:pt x="1751" y="129"/>
                  </a:lnTo>
                  <a:lnTo>
                    <a:pt x="1746" y="124"/>
                  </a:lnTo>
                  <a:lnTo>
                    <a:pt x="1736" y="124"/>
                  </a:lnTo>
                  <a:lnTo>
                    <a:pt x="1731" y="124"/>
                  </a:lnTo>
                  <a:lnTo>
                    <a:pt x="1721" y="119"/>
                  </a:lnTo>
                  <a:lnTo>
                    <a:pt x="1716" y="119"/>
                  </a:lnTo>
                  <a:lnTo>
                    <a:pt x="1716" y="114"/>
                  </a:lnTo>
                  <a:lnTo>
                    <a:pt x="1711" y="109"/>
                  </a:lnTo>
                  <a:lnTo>
                    <a:pt x="1706" y="104"/>
                  </a:lnTo>
                  <a:lnTo>
                    <a:pt x="1701" y="99"/>
                  </a:lnTo>
                  <a:lnTo>
                    <a:pt x="1691" y="99"/>
                  </a:lnTo>
                  <a:lnTo>
                    <a:pt x="1682" y="99"/>
                  </a:lnTo>
                  <a:lnTo>
                    <a:pt x="1677" y="94"/>
                  </a:lnTo>
                  <a:lnTo>
                    <a:pt x="1672" y="94"/>
                  </a:lnTo>
                  <a:lnTo>
                    <a:pt x="1667" y="89"/>
                  </a:lnTo>
                  <a:lnTo>
                    <a:pt x="1662" y="84"/>
                  </a:lnTo>
                  <a:lnTo>
                    <a:pt x="1657" y="79"/>
                  </a:lnTo>
                  <a:lnTo>
                    <a:pt x="1652" y="74"/>
                  </a:lnTo>
                  <a:lnTo>
                    <a:pt x="1642" y="74"/>
                  </a:lnTo>
                  <a:lnTo>
                    <a:pt x="1637" y="74"/>
                  </a:lnTo>
                  <a:lnTo>
                    <a:pt x="1627" y="74"/>
                  </a:lnTo>
                  <a:lnTo>
                    <a:pt x="1622" y="70"/>
                  </a:lnTo>
                  <a:lnTo>
                    <a:pt x="1612" y="70"/>
                  </a:lnTo>
                  <a:lnTo>
                    <a:pt x="1607" y="65"/>
                  </a:lnTo>
                  <a:lnTo>
                    <a:pt x="1602" y="60"/>
                  </a:lnTo>
                  <a:lnTo>
                    <a:pt x="1602" y="55"/>
                  </a:lnTo>
                  <a:lnTo>
                    <a:pt x="1602" y="50"/>
                  </a:lnTo>
                  <a:lnTo>
                    <a:pt x="1607" y="45"/>
                  </a:lnTo>
                  <a:lnTo>
                    <a:pt x="1612" y="40"/>
                  </a:lnTo>
                  <a:lnTo>
                    <a:pt x="1617" y="40"/>
                  </a:lnTo>
                  <a:lnTo>
                    <a:pt x="1627" y="35"/>
                  </a:lnTo>
                  <a:lnTo>
                    <a:pt x="1632" y="35"/>
                  </a:lnTo>
                  <a:lnTo>
                    <a:pt x="1642" y="35"/>
                  </a:lnTo>
                  <a:lnTo>
                    <a:pt x="1652" y="35"/>
                  </a:lnTo>
                  <a:lnTo>
                    <a:pt x="1657" y="35"/>
                  </a:lnTo>
                  <a:lnTo>
                    <a:pt x="1667" y="35"/>
                  </a:lnTo>
                  <a:lnTo>
                    <a:pt x="1672" y="40"/>
                  </a:lnTo>
                  <a:lnTo>
                    <a:pt x="1677" y="45"/>
                  </a:lnTo>
                  <a:lnTo>
                    <a:pt x="1682" y="45"/>
                  </a:lnTo>
                  <a:lnTo>
                    <a:pt x="1687" y="50"/>
                  </a:lnTo>
                  <a:lnTo>
                    <a:pt x="1696" y="55"/>
                  </a:lnTo>
                  <a:lnTo>
                    <a:pt x="1701" y="55"/>
                  </a:lnTo>
                  <a:lnTo>
                    <a:pt x="1711" y="60"/>
                  </a:lnTo>
                  <a:lnTo>
                    <a:pt x="1716" y="60"/>
                  </a:lnTo>
                  <a:lnTo>
                    <a:pt x="1726" y="60"/>
                  </a:lnTo>
                  <a:lnTo>
                    <a:pt x="1731" y="60"/>
                  </a:lnTo>
                  <a:lnTo>
                    <a:pt x="1741" y="60"/>
                  </a:lnTo>
                  <a:lnTo>
                    <a:pt x="1751" y="60"/>
                  </a:lnTo>
                  <a:lnTo>
                    <a:pt x="1756" y="60"/>
                  </a:lnTo>
                  <a:lnTo>
                    <a:pt x="1766" y="65"/>
                  </a:lnTo>
                  <a:lnTo>
                    <a:pt x="1771" y="65"/>
                  </a:lnTo>
                  <a:lnTo>
                    <a:pt x="1780" y="65"/>
                  </a:lnTo>
                  <a:lnTo>
                    <a:pt x="1785" y="70"/>
                  </a:lnTo>
                  <a:lnTo>
                    <a:pt x="1790" y="74"/>
                  </a:lnTo>
                  <a:lnTo>
                    <a:pt x="1795" y="79"/>
                  </a:lnTo>
                  <a:lnTo>
                    <a:pt x="1800" y="84"/>
                  </a:lnTo>
                  <a:lnTo>
                    <a:pt x="1805" y="84"/>
                  </a:lnTo>
                  <a:lnTo>
                    <a:pt x="1815" y="89"/>
                  </a:lnTo>
                  <a:lnTo>
                    <a:pt x="1820" y="89"/>
                  </a:lnTo>
                  <a:lnTo>
                    <a:pt x="1830" y="89"/>
                  </a:lnTo>
                  <a:lnTo>
                    <a:pt x="1840" y="89"/>
                  </a:lnTo>
                  <a:lnTo>
                    <a:pt x="1845" y="89"/>
                  </a:lnTo>
                  <a:lnTo>
                    <a:pt x="1855" y="89"/>
                  </a:lnTo>
                  <a:lnTo>
                    <a:pt x="1865" y="89"/>
                  </a:lnTo>
                  <a:lnTo>
                    <a:pt x="1870" y="89"/>
                  </a:lnTo>
                  <a:lnTo>
                    <a:pt x="1879" y="94"/>
                  </a:lnTo>
                  <a:lnTo>
                    <a:pt x="1884" y="94"/>
                  </a:lnTo>
                  <a:lnTo>
                    <a:pt x="1889" y="99"/>
                  </a:lnTo>
                  <a:lnTo>
                    <a:pt x="1894" y="104"/>
                  </a:lnTo>
                  <a:lnTo>
                    <a:pt x="1899" y="104"/>
                  </a:lnTo>
                  <a:lnTo>
                    <a:pt x="1904" y="109"/>
                  </a:lnTo>
                  <a:lnTo>
                    <a:pt x="1909" y="114"/>
                  </a:lnTo>
                  <a:lnTo>
                    <a:pt x="1914" y="119"/>
                  </a:lnTo>
                  <a:lnTo>
                    <a:pt x="1924" y="119"/>
                  </a:lnTo>
                  <a:lnTo>
                    <a:pt x="1934" y="119"/>
                  </a:lnTo>
                  <a:lnTo>
                    <a:pt x="1939" y="119"/>
                  </a:lnTo>
                  <a:lnTo>
                    <a:pt x="1949" y="119"/>
                  </a:lnTo>
                  <a:lnTo>
                    <a:pt x="1954" y="124"/>
                  </a:lnTo>
                  <a:lnTo>
                    <a:pt x="1963" y="124"/>
                  </a:lnTo>
                  <a:lnTo>
                    <a:pt x="1973" y="124"/>
                  </a:lnTo>
                  <a:lnTo>
                    <a:pt x="1978" y="124"/>
                  </a:lnTo>
                  <a:lnTo>
                    <a:pt x="1988" y="124"/>
                  </a:lnTo>
                  <a:lnTo>
                    <a:pt x="1993" y="124"/>
                  </a:lnTo>
                  <a:lnTo>
                    <a:pt x="2003" y="129"/>
                  </a:lnTo>
                  <a:lnTo>
                    <a:pt x="2003" y="134"/>
                  </a:lnTo>
                  <a:lnTo>
                    <a:pt x="2008" y="139"/>
                  </a:lnTo>
                  <a:lnTo>
                    <a:pt x="2008" y="144"/>
                  </a:lnTo>
                  <a:lnTo>
                    <a:pt x="2013" y="149"/>
                  </a:lnTo>
                  <a:lnTo>
                    <a:pt x="2018" y="154"/>
                  </a:lnTo>
                  <a:lnTo>
                    <a:pt x="2023" y="154"/>
                  </a:lnTo>
                  <a:lnTo>
                    <a:pt x="2033" y="159"/>
                  </a:lnTo>
                  <a:lnTo>
                    <a:pt x="2043" y="159"/>
                  </a:lnTo>
                  <a:lnTo>
                    <a:pt x="2048" y="159"/>
                  </a:lnTo>
                  <a:lnTo>
                    <a:pt x="2048" y="163"/>
                  </a:lnTo>
                  <a:lnTo>
                    <a:pt x="2048" y="168"/>
                  </a:lnTo>
                  <a:lnTo>
                    <a:pt x="2043" y="173"/>
                  </a:lnTo>
                  <a:lnTo>
                    <a:pt x="2038" y="178"/>
                  </a:lnTo>
                  <a:lnTo>
                    <a:pt x="2033" y="183"/>
                  </a:lnTo>
                  <a:lnTo>
                    <a:pt x="2028" y="188"/>
                  </a:lnTo>
                  <a:lnTo>
                    <a:pt x="2023" y="193"/>
                  </a:lnTo>
                  <a:lnTo>
                    <a:pt x="2023" y="198"/>
                  </a:lnTo>
                  <a:lnTo>
                    <a:pt x="2018" y="203"/>
                  </a:lnTo>
                  <a:lnTo>
                    <a:pt x="2013" y="208"/>
                  </a:lnTo>
                  <a:lnTo>
                    <a:pt x="2013" y="213"/>
                  </a:lnTo>
                  <a:lnTo>
                    <a:pt x="2008" y="218"/>
                  </a:lnTo>
                  <a:lnTo>
                    <a:pt x="2008" y="223"/>
                  </a:lnTo>
                  <a:lnTo>
                    <a:pt x="2008" y="228"/>
                  </a:lnTo>
                  <a:lnTo>
                    <a:pt x="2003" y="233"/>
                  </a:lnTo>
                  <a:lnTo>
                    <a:pt x="1998" y="238"/>
                  </a:lnTo>
                  <a:lnTo>
                    <a:pt x="1993" y="238"/>
                  </a:lnTo>
                  <a:close/>
                  <a:moveTo>
                    <a:pt x="1370" y="213"/>
                  </a:moveTo>
                  <a:lnTo>
                    <a:pt x="1370" y="208"/>
                  </a:lnTo>
                  <a:lnTo>
                    <a:pt x="1375" y="203"/>
                  </a:lnTo>
                  <a:lnTo>
                    <a:pt x="1380" y="203"/>
                  </a:lnTo>
                  <a:lnTo>
                    <a:pt x="1385" y="203"/>
                  </a:lnTo>
                  <a:lnTo>
                    <a:pt x="1390" y="203"/>
                  </a:lnTo>
                  <a:lnTo>
                    <a:pt x="1395" y="208"/>
                  </a:lnTo>
                  <a:lnTo>
                    <a:pt x="1400" y="213"/>
                  </a:lnTo>
                  <a:lnTo>
                    <a:pt x="1395" y="218"/>
                  </a:lnTo>
                  <a:lnTo>
                    <a:pt x="1390" y="223"/>
                  </a:lnTo>
                  <a:lnTo>
                    <a:pt x="1385" y="223"/>
                  </a:lnTo>
                  <a:lnTo>
                    <a:pt x="1380" y="223"/>
                  </a:lnTo>
                  <a:lnTo>
                    <a:pt x="1375" y="223"/>
                  </a:lnTo>
                  <a:lnTo>
                    <a:pt x="1370" y="218"/>
                  </a:lnTo>
                  <a:lnTo>
                    <a:pt x="1370" y="213"/>
                  </a:lnTo>
                  <a:close/>
                  <a:moveTo>
                    <a:pt x="1222" y="188"/>
                  </a:moveTo>
                  <a:lnTo>
                    <a:pt x="1222" y="188"/>
                  </a:lnTo>
                  <a:lnTo>
                    <a:pt x="1222" y="188"/>
                  </a:lnTo>
                  <a:lnTo>
                    <a:pt x="1222" y="188"/>
                  </a:lnTo>
                  <a:lnTo>
                    <a:pt x="1222" y="188"/>
                  </a:lnTo>
                  <a:lnTo>
                    <a:pt x="1222" y="188"/>
                  </a:lnTo>
                  <a:lnTo>
                    <a:pt x="1222" y="188"/>
                  </a:lnTo>
                  <a:lnTo>
                    <a:pt x="1222" y="188"/>
                  </a:lnTo>
                  <a:lnTo>
                    <a:pt x="1222" y="188"/>
                  </a:lnTo>
                  <a:lnTo>
                    <a:pt x="1222" y="188"/>
                  </a:lnTo>
                  <a:lnTo>
                    <a:pt x="1222" y="188"/>
                  </a:lnTo>
                  <a:lnTo>
                    <a:pt x="1222" y="188"/>
                  </a:lnTo>
                  <a:lnTo>
                    <a:pt x="1222" y="188"/>
                  </a:lnTo>
                  <a:lnTo>
                    <a:pt x="1222" y="188"/>
                  </a:lnTo>
                  <a:lnTo>
                    <a:pt x="1222" y="188"/>
                  </a:lnTo>
                  <a:close/>
                  <a:moveTo>
                    <a:pt x="1444" y="188"/>
                  </a:moveTo>
                  <a:lnTo>
                    <a:pt x="1449" y="183"/>
                  </a:lnTo>
                  <a:lnTo>
                    <a:pt x="1454" y="178"/>
                  </a:lnTo>
                  <a:lnTo>
                    <a:pt x="1459" y="178"/>
                  </a:lnTo>
                  <a:lnTo>
                    <a:pt x="1469" y="178"/>
                  </a:lnTo>
                  <a:lnTo>
                    <a:pt x="1474" y="178"/>
                  </a:lnTo>
                  <a:lnTo>
                    <a:pt x="1479" y="183"/>
                  </a:lnTo>
                  <a:lnTo>
                    <a:pt x="1479" y="188"/>
                  </a:lnTo>
                  <a:lnTo>
                    <a:pt x="1479" y="193"/>
                  </a:lnTo>
                  <a:lnTo>
                    <a:pt x="1474" y="198"/>
                  </a:lnTo>
                  <a:lnTo>
                    <a:pt x="1464" y="198"/>
                  </a:lnTo>
                  <a:lnTo>
                    <a:pt x="1459" y="198"/>
                  </a:lnTo>
                  <a:lnTo>
                    <a:pt x="1454" y="198"/>
                  </a:lnTo>
                  <a:lnTo>
                    <a:pt x="1449" y="193"/>
                  </a:lnTo>
                  <a:lnTo>
                    <a:pt x="1444" y="188"/>
                  </a:lnTo>
                  <a:close/>
                  <a:moveTo>
                    <a:pt x="1766" y="188"/>
                  </a:moveTo>
                  <a:lnTo>
                    <a:pt x="1771" y="183"/>
                  </a:lnTo>
                  <a:lnTo>
                    <a:pt x="1776" y="178"/>
                  </a:lnTo>
                  <a:lnTo>
                    <a:pt x="1780" y="178"/>
                  </a:lnTo>
                  <a:lnTo>
                    <a:pt x="1790" y="178"/>
                  </a:lnTo>
                  <a:lnTo>
                    <a:pt x="1795" y="178"/>
                  </a:lnTo>
                  <a:lnTo>
                    <a:pt x="1800" y="183"/>
                  </a:lnTo>
                  <a:lnTo>
                    <a:pt x="1805" y="188"/>
                  </a:lnTo>
                  <a:lnTo>
                    <a:pt x="1800" y="193"/>
                  </a:lnTo>
                  <a:lnTo>
                    <a:pt x="1795" y="193"/>
                  </a:lnTo>
                  <a:lnTo>
                    <a:pt x="1785" y="198"/>
                  </a:lnTo>
                  <a:lnTo>
                    <a:pt x="1780" y="198"/>
                  </a:lnTo>
                  <a:lnTo>
                    <a:pt x="1776" y="198"/>
                  </a:lnTo>
                  <a:lnTo>
                    <a:pt x="1771" y="193"/>
                  </a:lnTo>
                  <a:lnTo>
                    <a:pt x="1766" y="188"/>
                  </a:lnTo>
                  <a:close/>
                  <a:moveTo>
                    <a:pt x="1286" y="159"/>
                  </a:moveTo>
                  <a:lnTo>
                    <a:pt x="1291" y="154"/>
                  </a:lnTo>
                  <a:lnTo>
                    <a:pt x="1296" y="149"/>
                  </a:lnTo>
                  <a:lnTo>
                    <a:pt x="1301" y="149"/>
                  </a:lnTo>
                  <a:lnTo>
                    <a:pt x="1306" y="149"/>
                  </a:lnTo>
                  <a:lnTo>
                    <a:pt x="1311" y="154"/>
                  </a:lnTo>
                  <a:lnTo>
                    <a:pt x="1316" y="159"/>
                  </a:lnTo>
                  <a:lnTo>
                    <a:pt x="1316" y="163"/>
                  </a:lnTo>
                  <a:lnTo>
                    <a:pt x="1311" y="168"/>
                  </a:lnTo>
                  <a:lnTo>
                    <a:pt x="1311" y="173"/>
                  </a:lnTo>
                  <a:lnTo>
                    <a:pt x="1306" y="173"/>
                  </a:lnTo>
                  <a:lnTo>
                    <a:pt x="1301" y="173"/>
                  </a:lnTo>
                  <a:lnTo>
                    <a:pt x="1296" y="173"/>
                  </a:lnTo>
                  <a:lnTo>
                    <a:pt x="1291" y="168"/>
                  </a:lnTo>
                  <a:lnTo>
                    <a:pt x="1286" y="159"/>
                  </a:lnTo>
                  <a:close/>
                  <a:moveTo>
                    <a:pt x="1499" y="159"/>
                  </a:moveTo>
                  <a:lnTo>
                    <a:pt x="1504" y="154"/>
                  </a:lnTo>
                  <a:lnTo>
                    <a:pt x="1508" y="149"/>
                  </a:lnTo>
                  <a:lnTo>
                    <a:pt x="1513" y="149"/>
                  </a:lnTo>
                  <a:lnTo>
                    <a:pt x="1523" y="144"/>
                  </a:lnTo>
                  <a:lnTo>
                    <a:pt x="1528" y="144"/>
                  </a:lnTo>
                  <a:lnTo>
                    <a:pt x="1538" y="149"/>
                  </a:lnTo>
                  <a:lnTo>
                    <a:pt x="1548" y="149"/>
                  </a:lnTo>
                  <a:lnTo>
                    <a:pt x="1553" y="154"/>
                  </a:lnTo>
                  <a:lnTo>
                    <a:pt x="1563" y="159"/>
                  </a:lnTo>
                  <a:lnTo>
                    <a:pt x="1563" y="163"/>
                  </a:lnTo>
                  <a:lnTo>
                    <a:pt x="1558" y="163"/>
                  </a:lnTo>
                  <a:lnTo>
                    <a:pt x="1553" y="168"/>
                  </a:lnTo>
                  <a:lnTo>
                    <a:pt x="1543" y="173"/>
                  </a:lnTo>
                  <a:lnTo>
                    <a:pt x="1538" y="173"/>
                  </a:lnTo>
                  <a:lnTo>
                    <a:pt x="1528" y="178"/>
                  </a:lnTo>
                  <a:lnTo>
                    <a:pt x="1518" y="173"/>
                  </a:lnTo>
                  <a:lnTo>
                    <a:pt x="1513" y="173"/>
                  </a:lnTo>
                  <a:lnTo>
                    <a:pt x="1508" y="168"/>
                  </a:lnTo>
                  <a:lnTo>
                    <a:pt x="1504" y="163"/>
                  </a:lnTo>
                  <a:lnTo>
                    <a:pt x="1499" y="159"/>
                  </a:lnTo>
                  <a:close/>
                  <a:moveTo>
                    <a:pt x="1691" y="159"/>
                  </a:moveTo>
                  <a:lnTo>
                    <a:pt x="1687" y="154"/>
                  </a:lnTo>
                  <a:lnTo>
                    <a:pt x="1677" y="154"/>
                  </a:lnTo>
                  <a:lnTo>
                    <a:pt x="1672" y="149"/>
                  </a:lnTo>
                  <a:lnTo>
                    <a:pt x="1662" y="149"/>
                  </a:lnTo>
                  <a:lnTo>
                    <a:pt x="1652" y="149"/>
                  </a:lnTo>
                  <a:lnTo>
                    <a:pt x="1642" y="149"/>
                  </a:lnTo>
                  <a:lnTo>
                    <a:pt x="1632" y="149"/>
                  </a:lnTo>
                  <a:lnTo>
                    <a:pt x="1627" y="149"/>
                  </a:lnTo>
                  <a:lnTo>
                    <a:pt x="1617" y="149"/>
                  </a:lnTo>
                  <a:lnTo>
                    <a:pt x="1607" y="154"/>
                  </a:lnTo>
                  <a:lnTo>
                    <a:pt x="1598" y="154"/>
                  </a:lnTo>
                  <a:lnTo>
                    <a:pt x="1588" y="149"/>
                  </a:lnTo>
                  <a:lnTo>
                    <a:pt x="1583" y="149"/>
                  </a:lnTo>
                  <a:lnTo>
                    <a:pt x="1573" y="144"/>
                  </a:lnTo>
                  <a:lnTo>
                    <a:pt x="1573" y="134"/>
                  </a:lnTo>
                  <a:lnTo>
                    <a:pt x="1573" y="129"/>
                  </a:lnTo>
                  <a:lnTo>
                    <a:pt x="1573" y="124"/>
                  </a:lnTo>
                  <a:lnTo>
                    <a:pt x="1583" y="119"/>
                  </a:lnTo>
                  <a:lnTo>
                    <a:pt x="1588" y="114"/>
                  </a:lnTo>
                  <a:lnTo>
                    <a:pt x="1598" y="114"/>
                  </a:lnTo>
                  <a:lnTo>
                    <a:pt x="1607" y="114"/>
                  </a:lnTo>
                  <a:lnTo>
                    <a:pt x="1617" y="114"/>
                  </a:lnTo>
                  <a:lnTo>
                    <a:pt x="1627" y="119"/>
                  </a:lnTo>
                  <a:lnTo>
                    <a:pt x="1637" y="114"/>
                  </a:lnTo>
                  <a:lnTo>
                    <a:pt x="1642" y="114"/>
                  </a:lnTo>
                  <a:lnTo>
                    <a:pt x="1652" y="114"/>
                  </a:lnTo>
                  <a:lnTo>
                    <a:pt x="1662" y="114"/>
                  </a:lnTo>
                  <a:lnTo>
                    <a:pt x="1672" y="119"/>
                  </a:lnTo>
                  <a:lnTo>
                    <a:pt x="1677" y="119"/>
                  </a:lnTo>
                  <a:lnTo>
                    <a:pt x="1687" y="124"/>
                  </a:lnTo>
                  <a:lnTo>
                    <a:pt x="1691" y="129"/>
                  </a:lnTo>
                  <a:lnTo>
                    <a:pt x="1691" y="134"/>
                  </a:lnTo>
                  <a:lnTo>
                    <a:pt x="1696" y="144"/>
                  </a:lnTo>
                  <a:lnTo>
                    <a:pt x="1696" y="149"/>
                  </a:lnTo>
                  <a:lnTo>
                    <a:pt x="1701" y="149"/>
                  </a:lnTo>
                  <a:lnTo>
                    <a:pt x="1711" y="149"/>
                  </a:lnTo>
                  <a:lnTo>
                    <a:pt x="1721" y="144"/>
                  </a:lnTo>
                  <a:lnTo>
                    <a:pt x="1731" y="144"/>
                  </a:lnTo>
                  <a:lnTo>
                    <a:pt x="1741" y="144"/>
                  </a:lnTo>
                  <a:lnTo>
                    <a:pt x="1746" y="149"/>
                  </a:lnTo>
                  <a:lnTo>
                    <a:pt x="1751" y="159"/>
                  </a:lnTo>
                  <a:lnTo>
                    <a:pt x="1746" y="163"/>
                  </a:lnTo>
                  <a:lnTo>
                    <a:pt x="1746" y="168"/>
                  </a:lnTo>
                  <a:lnTo>
                    <a:pt x="1736" y="173"/>
                  </a:lnTo>
                  <a:lnTo>
                    <a:pt x="1731" y="178"/>
                  </a:lnTo>
                  <a:lnTo>
                    <a:pt x="1721" y="173"/>
                  </a:lnTo>
                  <a:lnTo>
                    <a:pt x="1711" y="173"/>
                  </a:lnTo>
                  <a:lnTo>
                    <a:pt x="1706" y="168"/>
                  </a:lnTo>
                  <a:lnTo>
                    <a:pt x="1696" y="163"/>
                  </a:lnTo>
                  <a:lnTo>
                    <a:pt x="1691" y="159"/>
                  </a:lnTo>
                  <a:close/>
                  <a:moveTo>
                    <a:pt x="1365" y="134"/>
                  </a:moveTo>
                  <a:lnTo>
                    <a:pt x="1370" y="129"/>
                  </a:lnTo>
                  <a:lnTo>
                    <a:pt x="1375" y="124"/>
                  </a:lnTo>
                  <a:lnTo>
                    <a:pt x="1380" y="119"/>
                  </a:lnTo>
                  <a:lnTo>
                    <a:pt x="1385" y="119"/>
                  </a:lnTo>
                  <a:lnTo>
                    <a:pt x="1390" y="119"/>
                  </a:lnTo>
                  <a:lnTo>
                    <a:pt x="1395" y="119"/>
                  </a:lnTo>
                  <a:lnTo>
                    <a:pt x="1405" y="124"/>
                  </a:lnTo>
                  <a:lnTo>
                    <a:pt x="1410" y="129"/>
                  </a:lnTo>
                  <a:lnTo>
                    <a:pt x="1415" y="129"/>
                  </a:lnTo>
                  <a:lnTo>
                    <a:pt x="1415" y="134"/>
                  </a:lnTo>
                  <a:lnTo>
                    <a:pt x="1410" y="139"/>
                  </a:lnTo>
                  <a:lnTo>
                    <a:pt x="1405" y="144"/>
                  </a:lnTo>
                  <a:lnTo>
                    <a:pt x="1400" y="149"/>
                  </a:lnTo>
                  <a:lnTo>
                    <a:pt x="1390" y="149"/>
                  </a:lnTo>
                  <a:lnTo>
                    <a:pt x="1385" y="154"/>
                  </a:lnTo>
                  <a:lnTo>
                    <a:pt x="1380" y="154"/>
                  </a:lnTo>
                  <a:lnTo>
                    <a:pt x="1375" y="149"/>
                  </a:lnTo>
                  <a:lnTo>
                    <a:pt x="1370" y="144"/>
                  </a:lnTo>
                  <a:lnTo>
                    <a:pt x="1365" y="139"/>
                  </a:lnTo>
                  <a:lnTo>
                    <a:pt x="1365" y="134"/>
                  </a:lnTo>
                  <a:close/>
                  <a:moveTo>
                    <a:pt x="1444" y="104"/>
                  </a:moveTo>
                  <a:lnTo>
                    <a:pt x="1449" y="99"/>
                  </a:lnTo>
                  <a:lnTo>
                    <a:pt x="1454" y="94"/>
                  </a:lnTo>
                  <a:lnTo>
                    <a:pt x="1459" y="89"/>
                  </a:lnTo>
                  <a:lnTo>
                    <a:pt x="1469" y="89"/>
                  </a:lnTo>
                  <a:lnTo>
                    <a:pt x="1479" y="89"/>
                  </a:lnTo>
                  <a:lnTo>
                    <a:pt x="1489" y="89"/>
                  </a:lnTo>
                  <a:lnTo>
                    <a:pt x="1499" y="94"/>
                  </a:lnTo>
                  <a:lnTo>
                    <a:pt x="1504" y="99"/>
                  </a:lnTo>
                  <a:lnTo>
                    <a:pt x="1508" y="104"/>
                  </a:lnTo>
                  <a:lnTo>
                    <a:pt x="1508" y="109"/>
                  </a:lnTo>
                  <a:lnTo>
                    <a:pt x="1504" y="114"/>
                  </a:lnTo>
                  <a:lnTo>
                    <a:pt x="1499" y="119"/>
                  </a:lnTo>
                  <a:lnTo>
                    <a:pt x="1489" y="124"/>
                  </a:lnTo>
                  <a:lnTo>
                    <a:pt x="1479" y="129"/>
                  </a:lnTo>
                  <a:lnTo>
                    <a:pt x="1469" y="129"/>
                  </a:lnTo>
                  <a:lnTo>
                    <a:pt x="1464" y="129"/>
                  </a:lnTo>
                  <a:lnTo>
                    <a:pt x="1454" y="124"/>
                  </a:lnTo>
                  <a:lnTo>
                    <a:pt x="1449" y="119"/>
                  </a:lnTo>
                  <a:lnTo>
                    <a:pt x="1444" y="114"/>
                  </a:lnTo>
                  <a:lnTo>
                    <a:pt x="1444" y="104"/>
                  </a:lnTo>
                  <a:close/>
                  <a:moveTo>
                    <a:pt x="1523" y="79"/>
                  </a:moveTo>
                  <a:lnTo>
                    <a:pt x="1528" y="74"/>
                  </a:lnTo>
                  <a:lnTo>
                    <a:pt x="1533" y="70"/>
                  </a:lnTo>
                  <a:lnTo>
                    <a:pt x="1538" y="65"/>
                  </a:lnTo>
                  <a:lnTo>
                    <a:pt x="1548" y="60"/>
                  </a:lnTo>
                  <a:lnTo>
                    <a:pt x="1558" y="60"/>
                  </a:lnTo>
                  <a:lnTo>
                    <a:pt x="1568" y="60"/>
                  </a:lnTo>
                  <a:lnTo>
                    <a:pt x="1578" y="65"/>
                  </a:lnTo>
                  <a:lnTo>
                    <a:pt x="1588" y="70"/>
                  </a:lnTo>
                  <a:lnTo>
                    <a:pt x="1593" y="74"/>
                  </a:lnTo>
                  <a:lnTo>
                    <a:pt x="1593" y="79"/>
                  </a:lnTo>
                  <a:lnTo>
                    <a:pt x="1588" y="89"/>
                  </a:lnTo>
                  <a:lnTo>
                    <a:pt x="1583" y="94"/>
                  </a:lnTo>
                  <a:lnTo>
                    <a:pt x="1573" y="99"/>
                  </a:lnTo>
                  <a:lnTo>
                    <a:pt x="1563" y="99"/>
                  </a:lnTo>
                  <a:lnTo>
                    <a:pt x="1553" y="104"/>
                  </a:lnTo>
                  <a:lnTo>
                    <a:pt x="1543" y="99"/>
                  </a:lnTo>
                  <a:lnTo>
                    <a:pt x="1533" y="99"/>
                  </a:lnTo>
                  <a:lnTo>
                    <a:pt x="1528" y="94"/>
                  </a:lnTo>
                  <a:lnTo>
                    <a:pt x="1523" y="89"/>
                  </a:lnTo>
                  <a:lnTo>
                    <a:pt x="1523" y="79"/>
                  </a:lnTo>
                  <a:close/>
                </a:path>
              </a:pathLst>
            </a:custGeom>
            <a:solidFill>
              <a:srgbClr val="ffb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4" name=""/>
            <p:cNvSpPr/>
            <p:nvPr/>
          </p:nvSpPr>
          <p:spPr>
            <a:xfrm>
              <a:off x="2265120" y="2368440"/>
              <a:ext cx="4098960" cy="2628360"/>
            </a:xfrm>
            <a:custGeom>
              <a:avLst/>
              <a:gdLst/>
              <a:ahLst/>
              <a:rect l="l" t="t" r="r" b="b"/>
              <a:pathLst>
                <a:path w="2582" h="1656">
                  <a:moveTo>
                    <a:pt x="2235" y="1656"/>
                  </a:moveTo>
                  <a:lnTo>
                    <a:pt x="2260" y="1631"/>
                  </a:lnTo>
                  <a:lnTo>
                    <a:pt x="2285" y="1631"/>
                  </a:lnTo>
                  <a:lnTo>
                    <a:pt x="2315" y="1631"/>
                  </a:lnTo>
                  <a:lnTo>
                    <a:pt x="2339" y="1631"/>
                  </a:lnTo>
                  <a:lnTo>
                    <a:pt x="2369" y="1631"/>
                  </a:lnTo>
                  <a:lnTo>
                    <a:pt x="2394" y="1631"/>
                  </a:lnTo>
                  <a:lnTo>
                    <a:pt x="2418" y="1631"/>
                  </a:lnTo>
                  <a:lnTo>
                    <a:pt x="2448" y="1602"/>
                  </a:lnTo>
                  <a:lnTo>
                    <a:pt x="2448" y="1577"/>
                  </a:lnTo>
                  <a:lnTo>
                    <a:pt x="2448" y="1547"/>
                  </a:lnTo>
                  <a:lnTo>
                    <a:pt x="2448" y="1523"/>
                  </a:lnTo>
                  <a:lnTo>
                    <a:pt x="2473" y="1498"/>
                  </a:lnTo>
                  <a:lnTo>
                    <a:pt x="2473" y="1468"/>
                  </a:lnTo>
                  <a:lnTo>
                    <a:pt x="2473" y="1444"/>
                  </a:lnTo>
                  <a:lnTo>
                    <a:pt x="2473" y="1414"/>
                  </a:lnTo>
                  <a:lnTo>
                    <a:pt x="2503" y="1389"/>
                  </a:lnTo>
                  <a:lnTo>
                    <a:pt x="2503" y="1364"/>
                  </a:lnTo>
                  <a:lnTo>
                    <a:pt x="2503" y="1335"/>
                  </a:lnTo>
                  <a:lnTo>
                    <a:pt x="2503" y="1310"/>
                  </a:lnTo>
                  <a:lnTo>
                    <a:pt x="2527" y="1280"/>
                  </a:lnTo>
                  <a:lnTo>
                    <a:pt x="2527" y="1256"/>
                  </a:lnTo>
                  <a:lnTo>
                    <a:pt x="2527" y="1226"/>
                  </a:lnTo>
                  <a:lnTo>
                    <a:pt x="2527" y="1201"/>
                  </a:lnTo>
                  <a:lnTo>
                    <a:pt x="2552" y="1177"/>
                  </a:lnTo>
                  <a:lnTo>
                    <a:pt x="2552" y="1147"/>
                  </a:lnTo>
                  <a:lnTo>
                    <a:pt x="2552" y="1122"/>
                  </a:lnTo>
                  <a:lnTo>
                    <a:pt x="2552" y="1093"/>
                  </a:lnTo>
                  <a:lnTo>
                    <a:pt x="2582" y="1068"/>
                  </a:lnTo>
                  <a:lnTo>
                    <a:pt x="2582" y="1043"/>
                  </a:lnTo>
                  <a:lnTo>
                    <a:pt x="2582" y="1014"/>
                  </a:lnTo>
                  <a:lnTo>
                    <a:pt x="2582" y="989"/>
                  </a:lnTo>
                  <a:lnTo>
                    <a:pt x="2582" y="959"/>
                  </a:lnTo>
                  <a:lnTo>
                    <a:pt x="2582" y="934"/>
                  </a:lnTo>
                  <a:lnTo>
                    <a:pt x="2582" y="910"/>
                  </a:lnTo>
                  <a:lnTo>
                    <a:pt x="2582" y="880"/>
                  </a:lnTo>
                  <a:lnTo>
                    <a:pt x="2582" y="855"/>
                  </a:lnTo>
                  <a:lnTo>
                    <a:pt x="2582" y="826"/>
                  </a:lnTo>
                  <a:lnTo>
                    <a:pt x="2582" y="801"/>
                  </a:lnTo>
                  <a:lnTo>
                    <a:pt x="2582" y="776"/>
                  </a:lnTo>
                  <a:lnTo>
                    <a:pt x="2582" y="747"/>
                  </a:lnTo>
                  <a:lnTo>
                    <a:pt x="2582" y="722"/>
                  </a:lnTo>
                  <a:lnTo>
                    <a:pt x="2582" y="692"/>
                  </a:lnTo>
                  <a:lnTo>
                    <a:pt x="2582" y="668"/>
                  </a:lnTo>
                  <a:lnTo>
                    <a:pt x="2582" y="643"/>
                  </a:lnTo>
                  <a:lnTo>
                    <a:pt x="2582" y="613"/>
                  </a:lnTo>
                  <a:lnTo>
                    <a:pt x="2582" y="589"/>
                  </a:lnTo>
                  <a:lnTo>
                    <a:pt x="2582" y="559"/>
                  </a:lnTo>
                  <a:lnTo>
                    <a:pt x="2582" y="534"/>
                  </a:lnTo>
                  <a:lnTo>
                    <a:pt x="2582" y="504"/>
                  </a:lnTo>
                  <a:lnTo>
                    <a:pt x="2582" y="480"/>
                  </a:lnTo>
                  <a:lnTo>
                    <a:pt x="2582" y="455"/>
                  </a:lnTo>
                  <a:lnTo>
                    <a:pt x="2582" y="425"/>
                  </a:lnTo>
                  <a:lnTo>
                    <a:pt x="2582" y="401"/>
                  </a:lnTo>
                  <a:lnTo>
                    <a:pt x="2582" y="371"/>
                  </a:lnTo>
                  <a:lnTo>
                    <a:pt x="2582" y="346"/>
                  </a:lnTo>
                  <a:lnTo>
                    <a:pt x="2582" y="322"/>
                  </a:lnTo>
                  <a:lnTo>
                    <a:pt x="2582" y="292"/>
                  </a:lnTo>
                  <a:lnTo>
                    <a:pt x="2582" y="267"/>
                  </a:lnTo>
                  <a:lnTo>
                    <a:pt x="2582" y="238"/>
                  </a:lnTo>
                  <a:lnTo>
                    <a:pt x="2552" y="213"/>
                  </a:lnTo>
                  <a:lnTo>
                    <a:pt x="2552" y="188"/>
                  </a:lnTo>
                  <a:lnTo>
                    <a:pt x="2552" y="159"/>
                  </a:lnTo>
                  <a:lnTo>
                    <a:pt x="2552" y="134"/>
                  </a:lnTo>
                  <a:lnTo>
                    <a:pt x="2552" y="104"/>
                  </a:lnTo>
                  <a:lnTo>
                    <a:pt x="2527" y="79"/>
                  </a:lnTo>
                  <a:lnTo>
                    <a:pt x="2503" y="79"/>
                  </a:lnTo>
                  <a:lnTo>
                    <a:pt x="2473" y="79"/>
                  </a:lnTo>
                  <a:lnTo>
                    <a:pt x="2448" y="55"/>
                  </a:lnTo>
                  <a:lnTo>
                    <a:pt x="2418" y="55"/>
                  </a:lnTo>
                  <a:lnTo>
                    <a:pt x="2394" y="55"/>
                  </a:lnTo>
                  <a:lnTo>
                    <a:pt x="2369" y="25"/>
                  </a:lnTo>
                  <a:lnTo>
                    <a:pt x="2339" y="25"/>
                  </a:lnTo>
                  <a:lnTo>
                    <a:pt x="2315" y="25"/>
                  </a:lnTo>
                  <a:lnTo>
                    <a:pt x="2285" y="0"/>
                  </a:lnTo>
                  <a:lnTo>
                    <a:pt x="2260" y="0"/>
                  </a:lnTo>
                  <a:lnTo>
                    <a:pt x="2235" y="0"/>
                  </a:lnTo>
                  <a:lnTo>
                    <a:pt x="2206" y="0"/>
                  </a:lnTo>
                  <a:lnTo>
                    <a:pt x="2181" y="0"/>
                  </a:lnTo>
                  <a:lnTo>
                    <a:pt x="2156" y="0"/>
                  </a:lnTo>
                  <a:lnTo>
                    <a:pt x="2127" y="0"/>
                  </a:lnTo>
                  <a:lnTo>
                    <a:pt x="2102" y="0"/>
                  </a:lnTo>
                  <a:lnTo>
                    <a:pt x="2072" y="0"/>
                  </a:lnTo>
                  <a:lnTo>
                    <a:pt x="2048" y="0"/>
                  </a:lnTo>
                  <a:lnTo>
                    <a:pt x="2023" y="0"/>
                  </a:lnTo>
                  <a:lnTo>
                    <a:pt x="1993" y="0"/>
                  </a:lnTo>
                  <a:lnTo>
                    <a:pt x="1968" y="0"/>
                  </a:lnTo>
                  <a:lnTo>
                    <a:pt x="1944" y="0"/>
                  </a:lnTo>
                  <a:lnTo>
                    <a:pt x="1914" y="0"/>
                  </a:lnTo>
                  <a:lnTo>
                    <a:pt x="1889" y="0"/>
                  </a:lnTo>
                  <a:lnTo>
                    <a:pt x="1860" y="0"/>
                  </a:lnTo>
                  <a:lnTo>
                    <a:pt x="1835" y="0"/>
                  </a:lnTo>
                  <a:lnTo>
                    <a:pt x="1810" y="0"/>
                  </a:lnTo>
                  <a:lnTo>
                    <a:pt x="1780" y="0"/>
                  </a:lnTo>
                  <a:lnTo>
                    <a:pt x="1756" y="0"/>
                  </a:lnTo>
                  <a:lnTo>
                    <a:pt x="1726" y="0"/>
                  </a:lnTo>
                  <a:lnTo>
                    <a:pt x="1701" y="0"/>
                  </a:lnTo>
                  <a:lnTo>
                    <a:pt x="1677" y="0"/>
                  </a:lnTo>
                  <a:lnTo>
                    <a:pt x="1647" y="0"/>
                  </a:lnTo>
                  <a:lnTo>
                    <a:pt x="1622" y="0"/>
                  </a:lnTo>
                  <a:lnTo>
                    <a:pt x="1598" y="0"/>
                  </a:lnTo>
                  <a:lnTo>
                    <a:pt x="1568" y="0"/>
                  </a:lnTo>
                  <a:lnTo>
                    <a:pt x="1543" y="0"/>
                  </a:lnTo>
                  <a:lnTo>
                    <a:pt x="1513" y="0"/>
                  </a:lnTo>
                  <a:lnTo>
                    <a:pt x="1489" y="0"/>
                  </a:lnTo>
                  <a:lnTo>
                    <a:pt x="1464" y="0"/>
                  </a:lnTo>
                  <a:lnTo>
                    <a:pt x="1434" y="0"/>
                  </a:lnTo>
                  <a:lnTo>
                    <a:pt x="1410" y="0"/>
                  </a:lnTo>
                  <a:lnTo>
                    <a:pt x="1385" y="0"/>
                  </a:lnTo>
                  <a:lnTo>
                    <a:pt x="1355" y="0"/>
                  </a:lnTo>
                  <a:lnTo>
                    <a:pt x="1330" y="0"/>
                  </a:lnTo>
                  <a:lnTo>
                    <a:pt x="1301" y="0"/>
                  </a:lnTo>
                  <a:lnTo>
                    <a:pt x="1276" y="0"/>
                  </a:lnTo>
                  <a:lnTo>
                    <a:pt x="1251" y="0"/>
                  </a:lnTo>
                  <a:lnTo>
                    <a:pt x="1222" y="0"/>
                  </a:lnTo>
                  <a:lnTo>
                    <a:pt x="1197" y="0"/>
                  </a:lnTo>
                  <a:lnTo>
                    <a:pt x="1172" y="0"/>
                  </a:lnTo>
                  <a:lnTo>
                    <a:pt x="1143" y="0"/>
                  </a:lnTo>
                  <a:lnTo>
                    <a:pt x="1118" y="0"/>
                  </a:lnTo>
                  <a:lnTo>
                    <a:pt x="1088" y="0"/>
                  </a:lnTo>
                  <a:lnTo>
                    <a:pt x="1063" y="0"/>
                  </a:lnTo>
                  <a:lnTo>
                    <a:pt x="1039" y="0"/>
                  </a:lnTo>
                  <a:lnTo>
                    <a:pt x="1009" y="0"/>
                  </a:lnTo>
                  <a:lnTo>
                    <a:pt x="984" y="0"/>
                  </a:lnTo>
                  <a:lnTo>
                    <a:pt x="955" y="0"/>
                  </a:lnTo>
                  <a:lnTo>
                    <a:pt x="930" y="0"/>
                  </a:lnTo>
                  <a:lnTo>
                    <a:pt x="905" y="0"/>
                  </a:lnTo>
                  <a:lnTo>
                    <a:pt x="875" y="0"/>
                  </a:lnTo>
                  <a:lnTo>
                    <a:pt x="851" y="0"/>
                  </a:lnTo>
                  <a:lnTo>
                    <a:pt x="826" y="0"/>
                  </a:lnTo>
                  <a:lnTo>
                    <a:pt x="796" y="0"/>
                  </a:lnTo>
                  <a:lnTo>
                    <a:pt x="772" y="0"/>
                  </a:lnTo>
                  <a:lnTo>
                    <a:pt x="742" y="0"/>
                  </a:lnTo>
                  <a:lnTo>
                    <a:pt x="717" y="0"/>
                  </a:lnTo>
                  <a:lnTo>
                    <a:pt x="692" y="0"/>
                  </a:lnTo>
                  <a:lnTo>
                    <a:pt x="663" y="0"/>
                  </a:lnTo>
                  <a:lnTo>
                    <a:pt x="638" y="0"/>
                  </a:lnTo>
                  <a:lnTo>
                    <a:pt x="613" y="0"/>
                  </a:lnTo>
                  <a:lnTo>
                    <a:pt x="584" y="25"/>
                  </a:lnTo>
                  <a:lnTo>
                    <a:pt x="559" y="55"/>
                  </a:lnTo>
                  <a:lnTo>
                    <a:pt x="529" y="79"/>
                  </a:lnTo>
                  <a:lnTo>
                    <a:pt x="505" y="104"/>
                  </a:lnTo>
                  <a:lnTo>
                    <a:pt x="480" y="134"/>
                  </a:lnTo>
                  <a:lnTo>
                    <a:pt x="450" y="134"/>
                  </a:lnTo>
                  <a:lnTo>
                    <a:pt x="425" y="159"/>
                  </a:lnTo>
                  <a:lnTo>
                    <a:pt x="396" y="188"/>
                  </a:lnTo>
                  <a:lnTo>
                    <a:pt x="371" y="213"/>
                  </a:lnTo>
                  <a:lnTo>
                    <a:pt x="346" y="238"/>
                  </a:lnTo>
                  <a:lnTo>
                    <a:pt x="317" y="267"/>
                  </a:lnTo>
                  <a:lnTo>
                    <a:pt x="292" y="292"/>
                  </a:lnTo>
                  <a:lnTo>
                    <a:pt x="267" y="322"/>
                  </a:lnTo>
                  <a:lnTo>
                    <a:pt x="237" y="322"/>
                  </a:lnTo>
                  <a:lnTo>
                    <a:pt x="213" y="346"/>
                  </a:lnTo>
                  <a:lnTo>
                    <a:pt x="183" y="371"/>
                  </a:lnTo>
                  <a:lnTo>
                    <a:pt x="158" y="401"/>
                  </a:lnTo>
                  <a:lnTo>
                    <a:pt x="134" y="425"/>
                  </a:lnTo>
                  <a:lnTo>
                    <a:pt x="104" y="455"/>
                  </a:lnTo>
                  <a:lnTo>
                    <a:pt x="79" y="480"/>
                  </a:lnTo>
                  <a:lnTo>
                    <a:pt x="55" y="504"/>
                  </a:lnTo>
                  <a:lnTo>
                    <a:pt x="25" y="504"/>
                  </a:lnTo>
                  <a:lnTo>
                    <a:pt x="0" y="534"/>
                  </a:lnTo>
                  <a:lnTo>
                    <a:pt x="0" y="559"/>
                  </a:lnTo>
                  <a:lnTo>
                    <a:pt x="0" y="589"/>
                  </a:lnTo>
                  <a:lnTo>
                    <a:pt x="0" y="613"/>
                  </a:lnTo>
                  <a:lnTo>
                    <a:pt x="25" y="643"/>
                  </a:lnTo>
                  <a:lnTo>
                    <a:pt x="25" y="668"/>
                  </a:lnTo>
                  <a:lnTo>
                    <a:pt x="55" y="692"/>
                  </a:lnTo>
                  <a:lnTo>
                    <a:pt x="79" y="722"/>
                  </a:lnTo>
                  <a:lnTo>
                    <a:pt x="104" y="747"/>
                  </a:lnTo>
                  <a:lnTo>
                    <a:pt x="134" y="776"/>
                  </a:lnTo>
                  <a:lnTo>
                    <a:pt x="134" y="801"/>
                  </a:lnTo>
                  <a:lnTo>
                    <a:pt x="158" y="826"/>
                  </a:lnTo>
                  <a:lnTo>
                    <a:pt x="183" y="855"/>
                  </a:lnTo>
                  <a:lnTo>
                    <a:pt x="213" y="880"/>
                  </a:lnTo>
                  <a:lnTo>
                    <a:pt x="237" y="910"/>
                  </a:lnTo>
                  <a:lnTo>
                    <a:pt x="267" y="934"/>
                  </a:lnTo>
                  <a:lnTo>
                    <a:pt x="292" y="959"/>
                  </a:lnTo>
                  <a:lnTo>
                    <a:pt x="292" y="989"/>
                  </a:lnTo>
                  <a:lnTo>
                    <a:pt x="317" y="1014"/>
                  </a:lnTo>
                  <a:lnTo>
                    <a:pt x="346" y="1043"/>
                  </a:lnTo>
                  <a:lnTo>
                    <a:pt x="371" y="1068"/>
                  </a:lnTo>
                  <a:lnTo>
                    <a:pt x="396" y="1093"/>
                  </a:lnTo>
                  <a:lnTo>
                    <a:pt x="425" y="1122"/>
                  </a:lnTo>
                  <a:lnTo>
                    <a:pt x="450" y="1147"/>
                  </a:lnTo>
                  <a:lnTo>
                    <a:pt x="480" y="1177"/>
                  </a:lnTo>
                  <a:lnTo>
                    <a:pt x="505" y="1201"/>
                  </a:lnTo>
                  <a:lnTo>
                    <a:pt x="529" y="1226"/>
                  </a:lnTo>
                  <a:lnTo>
                    <a:pt x="559" y="1256"/>
                  </a:lnTo>
                  <a:lnTo>
                    <a:pt x="584" y="1280"/>
                  </a:lnTo>
                  <a:lnTo>
                    <a:pt x="613" y="1310"/>
                  </a:lnTo>
                  <a:lnTo>
                    <a:pt x="638" y="1335"/>
                  </a:lnTo>
                  <a:lnTo>
                    <a:pt x="663" y="1364"/>
                  </a:lnTo>
                  <a:lnTo>
                    <a:pt x="692" y="1389"/>
                  </a:lnTo>
                  <a:lnTo>
                    <a:pt x="717" y="1414"/>
                  </a:lnTo>
                  <a:lnTo>
                    <a:pt x="742" y="1444"/>
                  </a:lnTo>
                  <a:lnTo>
                    <a:pt x="772" y="1468"/>
                  </a:lnTo>
                  <a:lnTo>
                    <a:pt x="796" y="1468"/>
                  </a:lnTo>
                  <a:lnTo>
                    <a:pt x="826" y="1498"/>
                  </a:lnTo>
                  <a:lnTo>
                    <a:pt x="851" y="1523"/>
                  </a:lnTo>
                  <a:lnTo>
                    <a:pt x="875" y="1547"/>
                  </a:lnTo>
                  <a:lnTo>
                    <a:pt x="905" y="1577"/>
                  </a:lnTo>
                  <a:lnTo>
                    <a:pt x="930" y="1602"/>
                  </a:lnTo>
                  <a:lnTo>
                    <a:pt x="955" y="1631"/>
                  </a:lnTo>
                  <a:lnTo>
                    <a:pt x="984" y="1656"/>
                  </a:lnTo>
                  <a:lnTo>
                    <a:pt x="1009" y="1656"/>
                  </a:lnTo>
                  <a:lnTo>
                    <a:pt x="1039" y="1656"/>
                  </a:lnTo>
                  <a:lnTo>
                    <a:pt x="1063" y="1656"/>
                  </a:lnTo>
                  <a:lnTo>
                    <a:pt x="1088" y="1656"/>
                  </a:lnTo>
                  <a:lnTo>
                    <a:pt x="1118" y="1656"/>
                  </a:lnTo>
                  <a:lnTo>
                    <a:pt x="1143" y="1656"/>
                  </a:lnTo>
                  <a:lnTo>
                    <a:pt x="1172" y="1656"/>
                  </a:lnTo>
                  <a:lnTo>
                    <a:pt x="1197" y="1656"/>
                  </a:lnTo>
                  <a:lnTo>
                    <a:pt x="1222" y="1656"/>
                  </a:lnTo>
                  <a:lnTo>
                    <a:pt x="1251" y="1656"/>
                  </a:lnTo>
                  <a:lnTo>
                    <a:pt x="1276" y="1656"/>
                  </a:lnTo>
                  <a:lnTo>
                    <a:pt x="1301" y="1656"/>
                  </a:lnTo>
                  <a:lnTo>
                    <a:pt x="1330" y="1656"/>
                  </a:lnTo>
                  <a:lnTo>
                    <a:pt x="1355" y="1656"/>
                  </a:lnTo>
                  <a:lnTo>
                    <a:pt x="1385" y="1656"/>
                  </a:lnTo>
                  <a:lnTo>
                    <a:pt x="1410" y="1656"/>
                  </a:lnTo>
                  <a:lnTo>
                    <a:pt x="1434" y="1656"/>
                  </a:lnTo>
                  <a:lnTo>
                    <a:pt x="1464" y="1656"/>
                  </a:lnTo>
                  <a:lnTo>
                    <a:pt x="1489" y="1656"/>
                  </a:lnTo>
                  <a:lnTo>
                    <a:pt x="1513" y="1656"/>
                  </a:lnTo>
                  <a:lnTo>
                    <a:pt x="1543" y="1656"/>
                  </a:lnTo>
                  <a:lnTo>
                    <a:pt x="1568" y="1656"/>
                  </a:lnTo>
                  <a:lnTo>
                    <a:pt x="1598" y="1656"/>
                  </a:lnTo>
                  <a:lnTo>
                    <a:pt x="1622" y="1656"/>
                  </a:lnTo>
                  <a:lnTo>
                    <a:pt x="1647" y="1656"/>
                  </a:lnTo>
                  <a:lnTo>
                    <a:pt x="1677" y="1656"/>
                  </a:lnTo>
                  <a:lnTo>
                    <a:pt x="1701" y="1656"/>
                  </a:lnTo>
                  <a:lnTo>
                    <a:pt x="1726" y="1656"/>
                  </a:lnTo>
                  <a:lnTo>
                    <a:pt x="1756" y="1656"/>
                  </a:lnTo>
                  <a:lnTo>
                    <a:pt x="1780" y="1656"/>
                  </a:lnTo>
                  <a:lnTo>
                    <a:pt x="1810" y="1656"/>
                  </a:lnTo>
                  <a:lnTo>
                    <a:pt x="1835" y="1656"/>
                  </a:lnTo>
                  <a:lnTo>
                    <a:pt x="1860" y="1656"/>
                  </a:lnTo>
                  <a:lnTo>
                    <a:pt x="1889" y="1656"/>
                  </a:lnTo>
                  <a:lnTo>
                    <a:pt x="1914" y="1656"/>
                  </a:lnTo>
                  <a:lnTo>
                    <a:pt x="1944" y="1656"/>
                  </a:lnTo>
                  <a:lnTo>
                    <a:pt x="1968" y="1656"/>
                  </a:lnTo>
                  <a:lnTo>
                    <a:pt x="1993" y="1656"/>
                  </a:lnTo>
                  <a:lnTo>
                    <a:pt x="2023" y="1656"/>
                  </a:lnTo>
                  <a:lnTo>
                    <a:pt x="2048" y="1656"/>
                  </a:lnTo>
                  <a:lnTo>
                    <a:pt x="2072" y="1656"/>
                  </a:lnTo>
                  <a:lnTo>
                    <a:pt x="2102" y="1656"/>
                  </a:lnTo>
                  <a:lnTo>
                    <a:pt x="2127" y="1656"/>
                  </a:lnTo>
                  <a:lnTo>
                    <a:pt x="2156" y="1656"/>
                  </a:lnTo>
                  <a:lnTo>
                    <a:pt x="2181" y="1656"/>
                  </a:lnTo>
                  <a:lnTo>
                    <a:pt x="2206" y="1656"/>
                  </a:lnTo>
                  <a:lnTo>
                    <a:pt x="2235" y="1656"/>
                  </a:lnTo>
                  <a:close/>
                  <a:moveTo>
                    <a:pt x="1434" y="267"/>
                  </a:moveTo>
                  <a:lnTo>
                    <a:pt x="1434" y="262"/>
                  </a:lnTo>
                  <a:lnTo>
                    <a:pt x="1434" y="262"/>
                  </a:lnTo>
                  <a:lnTo>
                    <a:pt x="1439" y="257"/>
                  </a:lnTo>
                  <a:lnTo>
                    <a:pt x="1444" y="257"/>
                  </a:lnTo>
                  <a:lnTo>
                    <a:pt x="1449" y="257"/>
                  </a:lnTo>
                  <a:lnTo>
                    <a:pt x="1454" y="257"/>
                  </a:lnTo>
                  <a:lnTo>
                    <a:pt x="1459" y="257"/>
                  </a:lnTo>
                  <a:lnTo>
                    <a:pt x="1464" y="262"/>
                  </a:lnTo>
                  <a:lnTo>
                    <a:pt x="1469" y="262"/>
                  </a:lnTo>
                  <a:lnTo>
                    <a:pt x="1469" y="267"/>
                  </a:lnTo>
                  <a:lnTo>
                    <a:pt x="1469" y="267"/>
                  </a:lnTo>
                  <a:lnTo>
                    <a:pt x="1464" y="272"/>
                  </a:lnTo>
                  <a:lnTo>
                    <a:pt x="1459" y="272"/>
                  </a:lnTo>
                  <a:lnTo>
                    <a:pt x="1454" y="272"/>
                  </a:lnTo>
                  <a:lnTo>
                    <a:pt x="1449" y="272"/>
                  </a:lnTo>
                  <a:lnTo>
                    <a:pt x="1444" y="272"/>
                  </a:lnTo>
                  <a:lnTo>
                    <a:pt x="1439" y="272"/>
                  </a:lnTo>
                  <a:lnTo>
                    <a:pt x="1439" y="272"/>
                  </a:lnTo>
                  <a:lnTo>
                    <a:pt x="1434" y="267"/>
                  </a:lnTo>
                  <a:lnTo>
                    <a:pt x="1434" y="267"/>
                  </a:lnTo>
                  <a:close/>
                  <a:moveTo>
                    <a:pt x="1672" y="267"/>
                  </a:moveTo>
                  <a:lnTo>
                    <a:pt x="1667" y="262"/>
                  </a:lnTo>
                  <a:lnTo>
                    <a:pt x="1662" y="257"/>
                  </a:lnTo>
                  <a:lnTo>
                    <a:pt x="1657" y="257"/>
                  </a:lnTo>
                  <a:lnTo>
                    <a:pt x="1652" y="252"/>
                  </a:lnTo>
                  <a:lnTo>
                    <a:pt x="1647" y="247"/>
                  </a:lnTo>
                  <a:lnTo>
                    <a:pt x="1642" y="243"/>
                  </a:lnTo>
                  <a:lnTo>
                    <a:pt x="1637" y="238"/>
                  </a:lnTo>
                  <a:lnTo>
                    <a:pt x="1637" y="233"/>
                  </a:lnTo>
                  <a:lnTo>
                    <a:pt x="1632" y="228"/>
                  </a:lnTo>
                  <a:lnTo>
                    <a:pt x="1627" y="223"/>
                  </a:lnTo>
                  <a:lnTo>
                    <a:pt x="1622" y="223"/>
                  </a:lnTo>
                  <a:lnTo>
                    <a:pt x="1617" y="223"/>
                  </a:lnTo>
                  <a:lnTo>
                    <a:pt x="1607" y="223"/>
                  </a:lnTo>
                  <a:lnTo>
                    <a:pt x="1598" y="223"/>
                  </a:lnTo>
                  <a:lnTo>
                    <a:pt x="1593" y="223"/>
                  </a:lnTo>
                  <a:lnTo>
                    <a:pt x="1583" y="223"/>
                  </a:lnTo>
                  <a:lnTo>
                    <a:pt x="1578" y="218"/>
                  </a:lnTo>
                  <a:lnTo>
                    <a:pt x="1573" y="213"/>
                  </a:lnTo>
                  <a:lnTo>
                    <a:pt x="1568" y="213"/>
                  </a:lnTo>
                  <a:lnTo>
                    <a:pt x="1563" y="218"/>
                  </a:lnTo>
                  <a:lnTo>
                    <a:pt x="1558" y="223"/>
                  </a:lnTo>
                  <a:lnTo>
                    <a:pt x="1558" y="228"/>
                  </a:lnTo>
                  <a:lnTo>
                    <a:pt x="1553" y="233"/>
                  </a:lnTo>
                  <a:lnTo>
                    <a:pt x="1548" y="238"/>
                  </a:lnTo>
                  <a:lnTo>
                    <a:pt x="1543" y="243"/>
                  </a:lnTo>
                  <a:lnTo>
                    <a:pt x="1538" y="247"/>
                  </a:lnTo>
                  <a:lnTo>
                    <a:pt x="1528" y="247"/>
                  </a:lnTo>
                  <a:lnTo>
                    <a:pt x="1523" y="247"/>
                  </a:lnTo>
                  <a:lnTo>
                    <a:pt x="1513" y="247"/>
                  </a:lnTo>
                  <a:lnTo>
                    <a:pt x="1508" y="247"/>
                  </a:lnTo>
                  <a:lnTo>
                    <a:pt x="1504" y="243"/>
                  </a:lnTo>
                  <a:lnTo>
                    <a:pt x="1504" y="238"/>
                  </a:lnTo>
                  <a:lnTo>
                    <a:pt x="1504" y="233"/>
                  </a:lnTo>
                  <a:lnTo>
                    <a:pt x="1508" y="228"/>
                  </a:lnTo>
                  <a:lnTo>
                    <a:pt x="1518" y="228"/>
                  </a:lnTo>
                  <a:lnTo>
                    <a:pt x="1523" y="228"/>
                  </a:lnTo>
                  <a:lnTo>
                    <a:pt x="1533" y="233"/>
                  </a:lnTo>
                  <a:lnTo>
                    <a:pt x="1538" y="233"/>
                  </a:lnTo>
                  <a:lnTo>
                    <a:pt x="1548" y="233"/>
                  </a:lnTo>
                  <a:lnTo>
                    <a:pt x="1553" y="233"/>
                  </a:lnTo>
                  <a:lnTo>
                    <a:pt x="1558" y="228"/>
                  </a:lnTo>
                  <a:lnTo>
                    <a:pt x="1563" y="223"/>
                  </a:lnTo>
                  <a:lnTo>
                    <a:pt x="1563" y="218"/>
                  </a:lnTo>
                  <a:lnTo>
                    <a:pt x="1568" y="213"/>
                  </a:lnTo>
                  <a:lnTo>
                    <a:pt x="1573" y="208"/>
                  </a:lnTo>
                  <a:lnTo>
                    <a:pt x="1578" y="203"/>
                  </a:lnTo>
                  <a:lnTo>
                    <a:pt x="1583" y="203"/>
                  </a:lnTo>
                  <a:lnTo>
                    <a:pt x="1593" y="198"/>
                  </a:lnTo>
                  <a:lnTo>
                    <a:pt x="1598" y="198"/>
                  </a:lnTo>
                  <a:lnTo>
                    <a:pt x="1607" y="198"/>
                  </a:lnTo>
                  <a:lnTo>
                    <a:pt x="1617" y="198"/>
                  </a:lnTo>
                  <a:lnTo>
                    <a:pt x="1622" y="198"/>
                  </a:lnTo>
                  <a:lnTo>
                    <a:pt x="1627" y="203"/>
                  </a:lnTo>
                  <a:lnTo>
                    <a:pt x="1632" y="208"/>
                  </a:lnTo>
                  <a:lnTo>
                    <a:pt x="1632" y="213"/>
                  </a:lnTo>
                  <a:lnTo>
                    <a:pt x="1637" y="218"/>
                  </a:lnTo>
                  <a:lnTo>
                    <a:pt x="1642" y="223"/>
                  </a:lnTo>
                  <a:lnTo>
                    <a:pt x="1647" y="228"/>
                  </a:lnTo>
                  <a:lnTo>
                    <a:pt x="1652" y="228"/>
                  </a:lnTo>
                  <a:lnTo>
                    <a:pt x="1657" y="233"/>
                  </a:lnTo>
                  <a:lnTo>
                    <a:pt x="1662" y="238"/>
                  </a:lnTo>
                  <a:lnTo>
                    <a:pt x="1662" y="243"/>
                  </a:lnTo>
                  <a:lnTo>
                    <a:pt x="1667" y="247"/>
                  </a:lnTo>
                  <a:lnTo>
                    <a:pt x="1667" y="252"/>
                  </a:lnTo>
                  <a:lnTo>
                    <a:pt x="1667" y="257"/>
                  </a:lnTo>
                  <a:lnTo>
                    <a:pt x="1672" y="262"/>
                  </a:lnTo>
                  <a:lnTo>
                    <a:pt x="1677" y="267"/>
                  </a:lnTo>
                  <a:lnTo>
                    <a:pt x="1672" y="267"/>
                  </a:lnTo>
                  <a:close/>
                  <a:moveTo>
                    <a:pt x="1993" y="238"/>
                  </a:moveTo>
                  <a:lnTo>
                    <a:pt x="1983" y="238"/>
                  </a:lnTo>
                  <a:lnTo>
                    <a:pt x="1973" y="243"/>
                  </a:lnTo>
                  <a:lnTo>
                    <a:pt x="1968" y="238"/>
                  </a:lnTo>
                  <a:lnTo>
                    <a:pt x="1963" y="238"/>
                  </a:lnTo>
                  <a:lnTo>
                    <a:pt x="1959" y="233"/>
                  </a:lnTo>
                  <a:lnTo>
                    <a:pt x="1949" y="228"/>
                  </a:lnTo>
                  <a:lnTo>
                    <a:pt x="1944" y="228"/>
                  </a:lnTo>
                  <a:lnTo>
                    <a:pt x="1939" y="223"/>
                  </a:lnTo>
                  <a:lnTo>
                    <a:pt x="1934" y="218"/>
                  </a:lnTo>
                  <a:lnTo>
                    <a:pt x="1929" y="213"/>
                  </a:lnTo>
                  <a:lnTo>
                    <a:pt x="1924" y="213"/>
                  </a:lnTo>
                  <a:lnTo>
                    <a:pt x="1919" y="208"/>
                  </a:lnTo>
                  <a:lnTo>
                    <a:pt x="1914" y="203"/>
                  </a:lnTo>
                  <a:lnTo>
                    <a:pt x="1904" y="203"/>
                  </a:lnTo>
                  <a:lnTo>
                    <a:pt x="1894" y="198"/>
                  </a:lnTo>
                  <a:lnTo>
                    <a:pt x="1889" y="198"/>
                  </a:lnTo>
                  <a:lnTo>
                    <a:pt x="1879" y="203"/>
                  </a:lnTo>
                  <a:lnTo>
                    <a:pt x="1874" y="203"/>
                  </a:lnTo>
                  <a:lnTo>
                    <a:pt x="1870" y="208"/>
                  </a:lnTo>
                  <a:lnTo>
                    <a:pt x="1865" y="213"/>
                  </a:lnTo>
                  <a:lnTo>
                    <a:pt x="1865" y="218"/>
                  </a:lnTo>
                  <a:lnTo>
                    <a:pt x="1855" y="218"/>
                  </a:lnTo>
                  <a:lnTo>
                    <a:pt x="1850" y="213"/>
                  </a:lnTo>
                  <a:lnTo>
                    <a:pt x="1855" y="208"/>
                  </a:lnTo>
                  <a:lnTo>
                    <a:pt x="1865" y="203"/>
                  </a:lnTo>
                  <a:lnTo>
                    <a:pt x="1870" y="198"/>
                  </a:lnTo>
                  <a:lnTo>
                    <a:pt x="1874" y="193"/>
                  </a:lnTo>
                  <a:lnTo>
                    <a:pt x="1874" y="188"/>
                  </a:lnTo>
                  <a:lnTo>
                    <a:pt x="1870" y="183"/>
                  </a:lnTo>
                  <a:lnTo>
                    <a:pt x="1865" y="178"/>
                  </a:lnTo>
                  <a:lnTo>
                    <a:pt x="1860" y="178"/>
                  </a:lnTo>
                  <a:lnTo>
                    <a:pt x="1850" y="178"/>
                  </a:lnTo>
                  <a:lnTo>
                    <a:pt x="1845" y="178"/>
                  </a:lnTo>
                  <a:lnTo>
                    <a:pt x="1835" y="178"/>
                  </a:lnTo>
                  <a:lnTo>
                    <a:pt x="1830" y="173"/>
                  </a:lnTo>
                  <a:lnTo>
                    <a:pt x="1825" y="168"/>
                  </a:lnTo>
                  <a:lnTo>
                    <a:pt x="1820" y="163"/>
                  </a:lnTo>
                  <a:lnTo>
                    <a:pt x="1815" y="159"/>
                  </a:lnTo>
                  <a:lnTo>
                    <a:pt x="1810" y="154"/>
                  </a:lnTo>
                  <a:lnTo>
                    <a:pt x="1805" y="154"/>
                  </a:lnTo>
                  <a:lnTo>
                    <a:pt x="1800" y="154"/>
                  </a:lnTo>
                  <a:lnTo>
                    <a:pt x="1790" y="154"/>
                  </a:lnTo>
                  <a:lnTo>
                    <a:pt x="1780" y="149"/>
                  </a:lnTo>
                  <a:lnTo>
                    <a:pt x="1776" y="149"/>
                  </a:lnTo>
                  <a:lnTo>
                    <a:pt x="1771" y="144"/>
                  </a:lnTo>
                  <a:lnTo>
                    <a:pt x="1766" y="139"/>
                  </a:lnTo>
                  <a:lnTo>
                    <a:pt x="1761" y="134"/>
                  </a:lnTo>
                  <a:lnTo>
                    <a:pt x="1761" y="129"/>
                  </a:lnTo>
                  <a:lnTo>
                    <a:pt x="1751" y="129"/>
                  </a:lnTo>
                  <a:lnTo>
                    <a:pt x="1746" y="124"/>
                  </a:lnTo>
                  <a:lnTo>
                    <a:pt x="1736" y="124"/>
                  </a:lnTo>
                  <a:lnTo>
                    <a:pt x="1731" y="124"/>
                  </a:lnTo>
                  <a:lnTo>
                    <a:pt x="1721" y="119"/>
                  </a:lnTo>
                  <a:lnTo>
                    <a:pt x="1716" y="119"/>
                  </a:lnTo>
                  <a:lnTo>
                    <a:pt x="1716" y="114"/>
                  </a:lnTo>
                  <a:lnTo>
                    <a:pt x="1711" y="109"/>
                  </a:lnTo>
                  <a:lnTo>
                    <a:pt x="1706" y="104"/>
                  </a:lnTo>
                  <a:lnTo>
                    <a:pt x="1701" y="99"/>
                  </a:lnTo>
                  <a:lnTo>
                    <a:pt x="1691" y="99"/>
                  </a:lnTo>
                  <a:lnTo>
                    <a:pt x="1682" y="99"/>
                  </a:lnTo>
                  <a:lnTo>
                    <a:pt x="1677" y="94"/>
                  </a:lnTo>
                  <a:lnTo>
                    <a:pt x="1672" y="94"/>
                  </a:lnTo>
                  <a:lnTo>
                    <a:pt x="1667" y="89"/>
                  </a:lnTo>
                  <a:lnTo>
                    <a:pt x="1662" y="84"/>
                  </a:lnTo>
                  <a:lnTo>
                    <a:pt x="1657" y="79"/>
                  </a:lnTo>
                  <a:lnTo>
                    <a:pt x="1652" y="74"/>
                  </a:lnTo>
                  <a:lnTo>
                    <a:pt x="1642" y="74"/>
                  </a:lnTo>
                  <a:lnTo>
                    <a:pt x="1637" y="74"/>
                  </a:lnTo>
                  <a:lnTo>
                    <a:pt x="1627" y="74"/>
                  </a:lnTo>
                  <a:lnTo>
                    <a:pt x="1622" y="70"/>
                  </a:lnTo>
                  <a:lnTo>
                    <a:pt x="1612" y="70"/>
                  </a:lnTo>
                  <a:lnTo>
                    <a:pt x="1607" y="65"/>
                  </a:lnTo>
                  <a:lnTo>
                    <a:pt x="1602" y="60"/>
                  </a:lnTo>
                  <a:lnTo>
                    <a:pt x="1602" y="55"/>
                  </a:lnTo>
                  <a:lnTo>
                    <a:pt x="1602" y="50"/>
                  </a:lnTo>
                  <a:lnTo>
                    <a:pt x="1607" y="45"/>
                  </a:lnTo>
                  <a:lnTo>
                    <a:pt x="1612" y="40"/>
                  </a:lnTo>
                  <a:lnTo>
                    <a:pt x="1617" y="40"/>
                  </a:lnTo>
                  <a:lnTo>
                    <a:pt x="1627" y="35"/>
                  </a:lnTo>
                  <a:lnTo>
                    <a:pt x="1632" y="35"/>
                  </a:lnTo>
                  <a:lnTo>
                    <a:pt x="1642" y="35"/>
                  </a:lnTo>
                  <a:lnTo>
                    <a:pt x="1652" y="35"/>
                  </a:lnTo>
                  <a:lnTo>
                    <a:pt x="1657" y="35"/>
                  </a:lnTo>
                  <a:lnTo>
                    <a:pt x="1667" y="35"/>
                  </a:lnTo>
                  <a:lnTo>
                    <a:pt x="1672" y="40"/>
                  </a:lnTo>
                  <a:lnTo>
                    <a:pt x="1677" y="45"/>
                  </a:lnTo>
                  <a:lnTo>
                    <a:pt x="1682" y="45"/>
                  </a:lnTo>
                  <a:lnTo>
                    <a:pt x="1687" y="50"/>
                  </a:lnTo>
                  <a:lnTo>
                    <a:pt x="1696" y="55"/>
                  </a:lnTo>
                  <a:lnTo>
                    <a:pt x="1701" y="55"/>
                  </a:lnTo>
                  <a:lnTo>
                    <a:pt x="1711" y="60"/>
                  </a:lnTo>
                  <a:lnTo>
                    <a:pt x="1716" y="60"/>
                  </a:lnTo>
                  <a:lnTo>
                    <a:pt x="1726" y="60"/>
                  </a:lnTo>
                  <a:lnTo>
                    <a:pt x="1731" y="60"/>
                  </a:lnTo>
                  <a:lnTo>
                    <a:pt x="1741" y="60"/>
                  </a:lnTo>
                  <a:lnTo>
                    <a:pt x="1751" y="60"/>
                  </a:lnTo>
                  <a:lnTo>
                    <a:pt x="1756" y="60"/>
                  </a:lnTo>
                  <a:lnTo>
                    <a:pt x="1766" y="65"/>
                  </a:lnTo>
                  <a:lnTo>
                    <a:pt x="1771" y="65"/>
                  </a:lnTo>
                  <a:lnTo>
                    <a:pt x="1780" y="65"/>
                  </a:lnTo>
                  <a:lnTo>
                    <a:pt x="1785" y="70"/>
                  </a:lnTo>
                  <a:lnTo>
                    <a:pt x="1790" y="74"/>
                  </a:lnTo>
                  <a:lnTo>
                    <a:pt x="1795" y="79"/>
                  </a:lnTo>
                  <a:lnTo>
                    <a:pt x="1800" y="84"/>
                  </a:lnTo>
                  <a:lnTo>
                    <a:pt x="1805" y="84"/>
                  </a:lnTo>
                  <a:lnTo>
                    <a:pt x="1815" y="89"/>
                  </a:lnTo>
                  <a:lnTo>
                    <a:pt x="1820" y="89"/>
                  </a:lnTo>
                  <a:lnTo>
                    <a:pt x="1830" y="89"/>
                  </a:lnTo>
                  <a:lnTo>
                    <a:pt x="1840" y="89"/>
                  </a:lnTo>
                  <a:lnTo>
                    <a:pt x="1845" y="89"/>
                  </a:lnTo>
                  <a:lnTo>
                    <a:pt x="1855" y="89"/>
                  </a:lnTo>
                  <a:lnTo>
                    <a:pt x="1865" y="89"/>
                  </a:lnTo>
                  <a:lnTo>
                    <a:pt x="1870" y="89"/>
                  </a:lnTo>
                  <a:lnTo>
                    <a:pt x="1879" y="94"/>
                  </a:lnTo>
                  <a:lnTo>
                    <a:pt x="1884" y="94"/>
                  </a:lnTo>
                  <a:lnTo>
                    <a:pt x="1889" y="99"/>
                  </a:lnTo>
                  <a:lnTo>
                    <a:pt x="1894" y="104"/>
                  </a:lnTo>
                  <a:lnTo>
                    <a:pt x="1899" y="104"/>
                  </a:lnTo>
                  <a:lnTo>
                    <a:pt x="1904" y="109"/>
                  </a:lnTo>
                  <a:lnTo>
                    <a:pt x="1909" y="114"/>
                  </a:lnTo>
                  <a:lnTo>
                    <a:pt x="1914" y="119"/>
                  </a:lnTo>
                  <a:lnTo>
                    <a:pt x="1924" y="119"/>
                  </a:lnTo>
                  <a:lnTo>
                    <a:pt x="1934" y="119"/>
                  </a:lnTo>
                  <a:lnTo>
                    <a:pt x="1939" y="119"/>
                  </a:lnTo>
                  <a:lnTo>
                    <a:pt x="1949" y="119"/>
                  </a:lnTo>
                  <a:lnTo>
                    <a:pt x="1954" y="124"/>
                  </a:lnTo>
                  <a:lnTo>
                    <a:pt x="1963" y="124"/>
                  </a:lnTo>
                  <a:lnTo>
                    <a:pt x="1973" y="124"/>
                  </a:lnTo>
                  <a:lnTo>
                    <a:pt x="1978" y="124"/>
                  </a:lnTo>
                  <a:lnTo>
                    <a:pt x="1988" y="124"/>
                  </a:lnTo>
                  <a:lnTo>
                    <a:pt x="1993" y="124"/>
                  </a:lnTo>
                  <a:lnTo>
                    <a:pt x="2003" y="129"/>
                  </a:lnTo>
                  <a:lnTo>
                    <a:pt x="2003" y="134"/>
                  </a:lnTo>
                  <a:lnTo>
                    <a:pt x="2008" y="139"/>
                  </a:lnTo>
                  <a:lnTo>
                    <a:pt x="2008" y="144"/>
                  </a:lnTo>
                  <a:lnTo>
                    <a:pt x="2013" y="149"/>
                  </a:lnTo>
                  <a:lnTo>
                    <a:pt x="2018" y="154"/>
                  </a:lnTo>
                  <a:lnTo>
                    <a:pt x="2023" y="154"/>
                  </a:lnTo>
                  <a:lnTo>
                    <a:pt x="2033" y="159"/>
                  </a:lnTo>
                  <a:lnTo>
                    <a:pt x="2043" y="159"/>
                  </a:lnTo>
                  <a:lnTo>
                    <a:pt x="2048" y="159"/>
                  </a:lnTo>
                  <a:lnTo>
                    <a:pt x="2048" y="163"/>
                  </a:lnTo>
                  <a:lnTo>
                    <a:pt x="2048" y="168"/>
                  </a:lnTo>
                  <a:lnTo>
                    <a:pt x="2043" y="173"/>
                  </a:lnTo>
                  <a:lnTo>
                    <a:pt x="2038" y="178"/>
                  </a:lnTo>
                  <a:lnTo>
                    <a:pt x="2033" y="183"/>
                  </a:lnTo>
                  <a:lnTo>
                    <a:pt x="2028" y="188"/>
                  </a:lnTo>
                  <a:lnTo>
                    <a:pt x="2023" y="193"/>
                  </a:lnTo>
                  <a:lnTo>
                    <a:pt x="2023" y="198"/>
                  </a:lnTo>
                  <a:lnTo>
                    <a:pt x="2018" y="203"/>
                  </a:lnTo>
                  <a:lnTo>
                    <a:pt x="2013" y="208"/>
                  </a:lnTo>
                  <a:lnTo>
                    <a:pt x="2013" y="213"/>
                  </a:lnTo>
                  <a:lnTo>
                    <a:pt x="2008" y="218"/>
                  </a:lnTo>
                  <a:lnTo>
                    <a:pt x="2008" y="223"/>
                  </a:lnTo>
                  <a:lnTo>
                    <a:pt x="2008" y="228"/>
                  </a:lnTo>
                  <a:lnTo>
                    <a:pt x="2003" y="233"/>
                  </a:lnTo>
                  <a:lnTo>
                    <a:pt x="1998" y="238"/>
                  </a:lnTo>
                  <a:lnTo>
                    <a:pt x="1993" y="238"/>
                  </a:lnTo>
                  <a:close/>
                  <a:moveTo>
                    <a:pt x="1370" y="213"/>
                  </a:moveTo>
                  <a:lnTo>
                    <a:pt x="1370" y="208"/>
                  </a:lnTo>
                  <a:lnTo>
                    <a:pt x="1375" y="203"/>
                  </a:lnTo>
                  <a:lnTo>
                    <a:pt x="1380" y="203"/>
                  </a:lnTo>
                  <a:lnTo>
                    <a:pt x="1385" y="203"/>
                  </a:lnTo>
                  <a:lnTo>
                    <a:pt x="1390" y="203"/>
                  </a:lnTo>
                  <a:lnTo>
                    <a:pt x="1395" y="208"/>
                  </a:lnTo>
                  <a:lnTo>
                    <a:pt x="1400" y="213"/>
                  </a:lnTo>
                  <a:lnTo>
                    <a:pt x="1395" y="218"/>
                  </a:lnTo>
                  <a:lnTo>
                    <a:pt x="1390" y="223"/>
                  </a:lnTo>
                  <a:lnTo>
                    <a:pt x="1385" y="223"/>
                  </a:lnTo>
                  <a:lnTo>
                    <a:pt x="1380" y="223"/>
                  </a:lnTo>
                  <a:lnTo>
                    <a:pt x="1375" y="223"/>
                  </a:lnTo>
                  <a:lnTo>
                    <a:pt x="1370" y="218"/>
                  </a:lnTo>
                  <a:lnTo>
                    <a:pt x="1370" y="213"/>
                  </a:lnTo>
                  <a:close/>
                  <a:moveTo>
                    <a:pt x="1222" y="188"/>
                  </a:moveTo>
                  <a:lnTo>
                    <a:pt x="1222" y="188"/>
                  </a:lnTo>
                  <a:lnTo>
                    <a:pt x="1222" y="188"/>
                  </a:lnTo>
                  <a:lnTo>
                    <a:pt x="1222" y="188"/>
                  </a:lnTo>
                  <a:lnTo>
                    <a:pt x="1222" y="188"/>
                  </a:lnTo>
                  <a:lnTo>
                    <a:pt x="1222" y="188"/>
                  </a:lnTo>
                  <a:lnTo>
                    <a:pt x="1222" y="188"/>
                  </a:lnTo>
                  <a:lnTo>
                    <a:pt x="1222" y="188"/>
                  </a:lnTo>
                  <a:lnTo>
                    <a:pt x="1222" y="188"/>
                  </a:lnTo>
                  <a:lnTo>
                    <a:pt x="1222" y="188"/>
                  </a:lnTo>
                  <a:lnTo>
                    <a:pt x="1222" y="188"/>
                  </a:lnTo>
                  <a:lnTo>
                    <a:pt x="1222" y="188"/>
                  </a:lnTo>
                  <a:lnTo>
                    <a:pt x="1222" y="188"/>
                  </a:lnTo>
                  <a:lnTo>
                    <a:pt x="1222" y="188"/>
                  </a:lnTo>
                  <a:lnTo>
                    <a:pt x="1222" y="188"/>
                  </a:lnTo>
                  <a:close/>
                  <a:moveTo>
                    <a:pt x="1444" y="188"/>
                  </a:moveTo>
                  <a:lnTo>
                    <a:pt x="1449" y="183"/>
                  </a:lnTo>
                  <a:lnTo>
                    <a:pt x="1454" y="178"/>
                  </a:lnTo>
                  <a:lnTo>
                    <a:pt x="1459" y="178"/>
                  </a:lnTo>
                  <a:lnTo>
                    <a:pt x="1469" y="178"/>
                  </a:lnTo>
                  <a:lnTo>
                    <a:pt x="1474" y="178"/>
                  </a:lnTo>
                  <a:lnTo>
                    <a:pt x="1479" y="183"/>
                  </a:lnTo>
                  <a:lnTo>
                    <a:pt x="1479" y="188"/>
                  </a:lnTo>
                  <a:lnTo>
                    <a:pt x="1479" y="193"/>
                  </a:lnTo>
                  <a:lnTo>
                    <a:pt x="1474" y="198"/>
                  </a:lnTo>
                  <a:lnTo>
                    <a:pt x="1464" y="198"/>
                  </a:lnTo>
                  <a:lnTo>
                    <a:pt x="1459" y="198"/>
                  </a:lnTo>
                  <a:lnTo>
                    <a:pt x="1454" y="198"/>
                  </a:lnTo>
                  <a:lnTo>
                    <a:pt x="1449" y="193"/>
                  </a:lnTo>
                  <a:lnTo>
                    <a:pt x="1444" y="188"/>
                  </a:lnTo>
                  <a:close/>
                  <a:moveTo>
                    <a:pt x="1766" y="188"/>
                  </a:moveTo>
                  <a:lnTo>
                    <a:pt x="1771" y="183"/>
                  </a:lnTo>
                  <a:lnTo>
                    <a:pt x="1776" y="178"/>
                  </a:lnTo>
                  <a:lnTo>
                    <a:pt x="1780" y="178"/>
                  </a:lnTo>
                  <a:lnTo>
                    <a:pt x="1790" y="178"/>
                  </a:lnTo>
                  <a:lnTo>
                    <a:pt x="1795" y="178"/>
                  </a:lnTo>
                  <a:lnTo>
                    <a:pt x="1800" y="183"/>
                  </a:lnTo>
                  <a:lnTo>
                    <a:pt x="1805" y="188"/>
                  </a:lnTo>
                  <a:lnTo>
                    <a:pt x="1800" y="193"/>
                  </a:lnTo>
                  <a:lnTo>
                    <a:pt x="1795" y="193"/>
                  </a:lnTo>
                  <a:lnTo>
                    <a:pt x="1785" y="198"/>
                  </a:lnTo>
                  <a:lnTo>
                    <a:pt x="1780" y="198"/>
                  </a:lnTo>
                  <a:lnTo>
                    <a:pt x="1776" y="198"/>
                  </a:lnTo>
                  <a:lnTo>
                    <a:pt x="1771" y="193"/>
                  </a:lnTo>
                  <a:lnTo>
                    <a:pt x="1766" y="188"/>
                  </a:lnTo>
                  <a:close/>
                  <a:moveTo>
                    <a:pt x="1286" y="159"/>
                  </a:moveTo>
                  <a:lnTo>
                    <a:pt x="1291" y="154"/>
                  </a:lnTo>
                  <a:lnTo>
                    <a:pt x="1296" y="149"/>
                  </a:lnTo>
                  <a:lnTo>
                    <a:pt x="1301" y="149"/>
                  </a:lnTo>
                  <a:lnTo>
                    <a:pt x="1306" y="149"/>
                  </a:lnTo>
                  <a:lnTo>
                    <a:pt x="1311" y="154"/>
                  </a:lnTo>
                  <a:lnTo>
                    <a:pt x="1316" y="159"/>
                  </a:lnTo>
                  <a:lnTo>
                    <a:pt x="1316" y="163"/>
                  </a:lnTo>
                  <a:lnTo>
                    <a:pt x="1311" y="168"/>
                  </a:lnTo>
                  <a:lnTo>
                    <a:pt x="1311" y="173"/>
                  </a:lnTo>
                  <a:lnTo>
                    <a:pt x="1306" y="173"/>
                  </a:lnTo>
                  <a:lnTo>
                    <a:pt x="1301" y="173"/>
                  </a:lnTo>
                  <a:lnTo>
                    <a:pt x="1296" y="173"/>
                  </a:lnTo>
                  <a:lnTo>
                    <a:pt x="1291" y="168"/>
                  </a:lnTo>
                  <a:lnTo>
                    <a:pt x="1286" y="159"/>
                  </a:lnTo>
                  <a:close/>
                  <a:moveTo>
                    <a:pt x="1499" y="159"/>
                  </a:moveTo>
                  <a:lnTo>
                    <a:pt x="1504" y="154"/>
                  </a:lnTo>
                  <a:lnTo>
                    <a:pt x="1508" y="149"/>
                  </a:lnTo>
                  <a:lnTo>
                    <a:pt x="1513" y="149"/>
                  </a:lnTo>
                  <a:lnTo>
                    <a:pt x="1523" y="144"/>
                  </a:lnTo>
                  <a:lnTo>
                    <a:pt x="1528" y="144"/>
                  </a:lnTo>
                  <a:lnTo>
                    <a:pt x="1538" y="149"/>
                  </a:lnTo>
                  <a:lnTo>
                    <a:pt x="1548" y="149"/>
                  </a:lnTo>
                  <a:lnTo>
                    <a:pt x="1553" y="154"/>
                  </a:lnTo>
                  <a:lnTo>
                    <a:pt x="1563" y="159"/>
                  </a:lnTo>
                  <a:lnTo>
                    <a:pt x="1563" y="163"/>
                  </a:lnTo>
                  <a:lnTo>
                    <a:pt x="1558" y="163"/>
                  </a:lnTo>
                  <a:lnTo>
                    <a:pt x="1553" y="168"/>
                  </a:lnTo>
                  <a:lnTo>
                    <a:pt x="1543" y="173"/>
                  </a:lnTo>
                  <a:lnTo>
                    <a:pt x="1538" y="173"/>
                  </a:lnTo>
                  <a:lnTo>
                    <a:pt x="1528" y="178"/>
                  </a:lnTo>
                  <a:lnTo>
                    <a:pt x="1518" y="173"/>
                  </a:lnTo>
                  <a:lnTo>
                    <a:pt x="1513" y="173"/>
                  </a:lnTo>
                  <a:lnTo>
                    <a:pt x="1508" y="168"/>
                  </a:lnTo>
                  <a:lnTo>
                    <a:pt x="1504" y="163"/>
                  </a:lnTo>
                  <a:lnTo>
                    <a:pt x="1499" y="159"/>
                  </a:lnTo>
                  <a:close/>
                  <a:moveTo>
                    <a:pt x="1691" y="159"/>
                  </a:moveTo>
                  <a:lnTo>
                    <a:pt x="1687" y="154"/>
                  </a:lnTo>
                  <a:lnTo>
                    <a:pt x="1677" y="154"/>
                  </a:lnTo>
                  <a:lnTo>
                    <a:pt x="1672" y="149"/>
                  </a:lnTo>
                  <a:lnTo>
                    <a:pt x="1662" y="149"/>
                  </a:lnTo>
                  <a:lnTo>
                    <a:pt x="1652" y="149"/>
                  </a:lnTo>
                  <a:lnTo>
                    <a:pt x="1642" y="149"/>
                  </a:lnTo>
                  <a:lnTo>
                    <a:pt x="1632" y="149"/>
                  </a:lnTo>
                  <a:lnTo>
                    <a:pt x="1627" y="149"/>
                  </a:lnTo>
                  <a:lnTo>
                    <a:pt x="1617" y="149"/>
                  </a:lnTo>
                  <a:lnTo>
                    <a:pt x="1607" y="154"/>
                  </a:lnTo>
                  <a:lnTo>
                    <a:pt x="1598" y="154"/>
                  </a:lnTo>
                  <a:lnTo>
                    <a:pt x="1588" y="149"/>
                  </a:lnTo>
                  <a:lnTo>
                    <a:pt x="1583" y="149"/>
                  </a:lnTo>
                  <a:lnTo>
                    <a:pt x="1573" y="144"/>
                  </a:lnTo>
                  <a:lnTo>
                    <a:pt x="1573" y="134"/>
                  </a:lnTo>
                  <a:lnTo>
                    <a:pt x="1573" y="129"/>
                  </a:lnTo>
                  <a:lnTo>
                    <a:pt x="1573" y="124"/>
                  </a:lnTo>
                  <a:lnTo>
                    <a:pt x="1583" y="119"/>
                  </a:lnTo>
                  <a:lnTo>
                    <a:pt x="1588" y="114"/>
                  </a:lnTo>
                  <a:lnTo>
                    <a:pt x="1598" y="114"/>
                  </a:lnTo>
                  <a:lnTo>
                    <a:pt x="1607" y="114"/>
                  </a:lnTo>
                  <a:lnTo>
                    <a:pt x="1617" y="114"/>
                  </a:lnTo>
                  <a:lnTo>
                    <a:pt x="1627" y="119"/>
                  </a:lnTo>
                  <a:lnTo>
                    <a:pt x="1637" y="114"/>
                  </a:lnTo>
                  <a:lnTo>
                    <a:pt x="1642" y="114"/>
                  </a:lnTo>
                  <a:lnTo>
                    <a:pt x="1652" y="114"/>
                  </a:lnTo>
                  <a:lnTo>
                    <a:pt x="1662" y="114"/>
                  </a:lnTo>
                  <a:lnTo>
                    <a:pt x="1672" y="119"/>
                  </a:lnTo>
                  <a:lnTo>
                    <a:pt x="1677" y="119"/>
                  </a:lnTo>
                  <a:lnTo>
                    <a:pt x="1687" y="124"/>
                  </a:lnTo>
                  <a:lnTo>
                    <a:pt x="1691" y="129"/>
                  </a:lnTo>
                  <a:lnTo>
                    <a:pt x="1691" y="134"/>
                  </a:lnTo>
                  <a:lnTo>
                    <a:pt x="1696" y="144"/>
                  </a:lnTo>
                  <a:lnTo>
                    <a:pt x="1696" y="149"/>
                  </a:lnTo>
                  <a:lnTo>
                    <a:pt x="1701" y="149"/>
                  </a:lnTo>
                  <a:lnTo>
                    <a:pt x="1711" y="149"/>
                  </a:lnTo>
                  <a:lnTo>
                    <a:pt x="1721" y="144"/>
                  </a:lnTo>
                  <a:lnTo>
                    <a:pt x="1731" y="144"/>
                  </a:lnTo>
                  <a:lnTo>
                    <a:pt x="1741" y="144"/>
                  </a:lnTo>
                  <a:lnTo>
                    <a:pt x="1746" y="149"/>
                  </a:lnTo>
                  <a:lnTo>
                    <a:pt x="1751" y="159"/>
                  </a:lnTo>
                  <a:lnTo>
                    <a:pt x="1746" y="163"/>
                  </a:lnTo>
                  <a:lnTo>
                    <a:pt x="1746" y="168"/>
                  </a:lnTo>
                  <a:lnTo>
                    <a:pt x="1736" y="173"/>
                  </a:lnTo>
                  <a:lnTo>
                    <a:pt x="1731" y="178"/>
                  </a:lnTo>
                  <a:lnTo>
                    <a:pt x="1721" y="173"/>
                  </a:lnTo>
                  <a:lnTo>
                    <a:pt x="1711" y="173"/>
                  </a:lnTo>
                  <a:lnTo>
                    <a:pt x="1706" y="168"/>
                  </a:lnTo>
                  <a:lnTo>
                    <a:pt x="1696" y="163"/>
                  </a:lnTo>
                  <a:lnTo>
                    <a:pt x="1691" y="159"/>
                  </a:lnTo>
                  <a:close/>
                  <a:moveTo>
                    <a:pt x="1365" y="134"/>
                  </a:moveTo>
                  <a:lnTo>
                    <a:pt x="1370" y="129"/>
                  </a:lnTo>
                  <a:lnTo>
                    <a:pt x="1375" y="124"/>
                  </a:lnTo>
                  <a:lnTo>
                    <a:pt x="1380" y="119"/>
                  </a:lnTo>
                  <a:lnTo>
                    <a:pt x="1385" y="119"/>
                  </a:lnTo>
                  <a:lnTo>
                    <a:pt x="1390" y="119"/>
                  </a:lnTo>
                  <a:lnTo>
                    <a:pt x="1395" y="119"/>
                  </a:lnTo>
                  <a:lnTo>
                    <a:pt x="1405" y="124"/>
                  </a:lnTo>
                  <a:lnTo>
                    <a:pt x="1410" y="129"/>
                  </a:lnTo>
                  <a:lnTo>
                    <a:pt x="1415" y="129"/>
                  </a:lnTo>
                  <a:lnTo>
                    <a:pt x="1415" y="134"/>
                  </a:lnTo>
                  <a:lnTo>
                    <a:pt x="1410" y="139"/>
                  </a:lnTo>
                  <a:lnTo>
                    <a:pt x="1405" y="144"/>
                  </a:lnTo>
                  <a:lnTo>
                    <a:pt x="1400" y="149"/>
                  </a:lnTo>
                  <a:lnTo>
                    <a:pt x="1390" y="149"/>
                  </a:lnTo>
                  <a:lnTo>
                    <a:pt x="1385" y="154"/>
                  </a:lnTo>
                  <a:lnTo>
                    <a:pt x="1380" y="154"/>
                  </a:lnTo>
                  <a:lnTo>
                    <a:pt x="1375" y="149"/>
                  </a:lnTo>
                  <a:lnTo>
                    <a:pt x="1370" y="144"/>
                  </a:lnTo>
                  <a:lnTo>
                    <a:pt x="1365" y="139"/>
                  </a:lnTo>
                  <a:lnTo>
                    <a:pt x="1365" y="134"/>
                  </a:lnTo>
                  <a:close/>
                  <a:moveTo>
                    <a:pt x="1444" y="104"/>
                  </a:moveTo>
                  <a:lnTo>
                    <a:pt x="1449" y="99"/>
                  </a:lnTo>
                  <a:lnTo>
                    <a:pt x="1454" y="94"/>
                  </a:lnTo>
                  <a:lnTo>
                    <a:pt x="1459" y="89"/>
                  </a:lnTo>
                  <a:lnTo>
                    <a:pt x="1469" y="89"/>
                  </a:lnTo>
                  <a:lnTo>
                    <a:pt x="1479" y="89"/>
                  </a:lnTo>
                  <a:lnTo>
                    <a:pt x="1489" y="89"/>
                  </a:lnTo>
                  <a:lnTo>
                    <a:pt x="1499" y="94"/>
                  </a:lnTo>
                  <a:lnTo>
                    <a:pt x="1504" y="99"/>
                  </a:lnTo>
                  <a:lnTo>
                    <a:pt x="1508" y="104"/>
                  </a:lnTo>
                  <a:lnTo>
                    <a:pt x="1508" y="109"/>
                  </a:lnTo>
                  <a:lnTo>
                    <a:pt x="1504" y="114"/>
                  </a:lnTo>
                  <a:lnTo>
                    <a:pt x="1499" y="119"/>
                  </a:lnTo>
                  <a:lnTo>
                    <a:pt x="1489" y="124"/>
                  </a:lnTo>
                  <a:lnTo>
                    <a:pt x="1479" y="129"/>
                  </a:lnTo>
                  <a:lnTo>
                    <a:pt x="1469" y="129"/>
                  </a:lnTo>
                  <a:lnTo>
                    <a:pt x="1464" y="129"/>
                  </a:lnTo>
                  <a:lnTo>
                    <a:pt x="1454" y="124"/>
                  </a:lnTo>
                  <a:lnTo>
                    <a:pt x="1449" y="119"/>
                  </a:lnTo>
                  <a:lnTo>
                    <a:pt x="1444" y="114"/>
                  </a:lnTo>
                  <a:lnTo>
                    <a:pt x="1444" y="104"/>
                  </a:lnTo>
                  <a:close/>
                  <a:moveTo>
                    <a:pt x="1523" y="79"/>
                  </a:moveTo>
                  <a:lnTo>
                    <a:pt x="1528" y="74"/>
                  </a:lnTo>
                  <a:lnTo>
                    <a:pt x="1533" y="70"/>
                  </a:lnTo>
                  <a:lnTo>
                    <a:pt x="1538" y="65"/>
                  </a:lnTo>
                  <a:lnTo>
                    <a:pt x="1548" y="60"/>
                  </a:lnTo>
                  <a:lnTo>
                    <a:pt x="1558" y="60"/>
                  </a:lnTo>
                  <a:lnTo>
                    <a:pt x="1568" y="60"/>
                  </a:lnTo>
                  <a:lnTo>
                    <a:pt x="1578" y="65"/>
                  </a:lnTo>
                  <a:lnTo>
                    <a:pt x="1588" y="70"/>
                  </a:lnTo>
                  <a:lnTo>
                    <a:pt x="1593" y="74"/>
                  </a:lnTo>
                  <a:lnTo>
                    <a:pt x="1593" y="79"/>
                  </a:lnTo>
                  <a:lnTo>
                    <a:pt x="1588" y="89"/>
                  </a:lnTo>
                  <a:lnTo>
                    <a:pt x="1583" y="94"/>
                  </a:lnTo>
                  <a:lnTo>
                    <a:pt x="1573" y="99"/>
                  </a:lnTo>
                  <a:lnTo>
                    <a:pt x="1563" y="99"/>
                  </a:lnTo>
                  <a:lnTo>
                    <a:pt x="1553" y="104"/>
                  </a:lnTo>
                  <a:lnTo>
                    <a:pt x="1543" y="99"/>
                  </a:lnTo>
                  <a:lnTo>
                    <a:pt x="1533" y="99"/>
                  </a:lnTo>
                  <a:lnTo>
                    <a:pt x="1528" y="94"/>
                  </a:lnTo>
                  <a:lnTo>
                    <a:pt x="1523" y="89"/>
                  </a:lnTo>
                  <a:lnTo>
                    <a:pt x="1523" y="79"/>
                  </a:lnTo>
                  <a:close/>
                  <a:moveTo>
                    <a:pt x="2235" y="1656"/>
                  </a:moveTo>
                  <a:lnTo>
                    <a:pt x="2260" y="1631"/>
                  </a:lnTo>
                  <a:lnTo>
                    <a:pt x="2285" y="1631"/>
                  </a:lnTo>
                  <a:lnTo>
                    <a:pt x="2315" y="1631"/>
                  </a:lnTo>
                  <a:lnTo>
                    <a:pt x="2339" y="1631"/>
                  </a:lnTo>
                  <a:lnTo>
                    <a:pt x="2369" y="1631"/>
                  </a:lnTo>
                  <a:lnTo>
                    <a:pt x="2394" y="1631"/>
                  </a:lnTo>
                  <a:lnTo>
                    <a:pt x="2418" y="1631"/>
                  </a:lnTo>
                  <a:lnTo>
                    <a:pt x="2448" y="1602"/>
                  </a:lnTo>
                  <a:lnTo>
                    <a:pt x="2448" y="1577"/>
                  </a:lnTo>
                  <a:lnTo>
                    <a:pt x="2448" y="1547"/>
                  </a:lnTo>
                  <a:lnTo>
                    <a:pt x="2448" y="1523"/>
                  </a:lnTo>
                  <a:lnTo>
                    <a:pt x="2473" y="1498"/>
                  </a:lnTo>
                  <a:lnTo>
                    <a:pt x="2473" y="1468"/>
                  </a:lnTo>
                  <a:lnTo>
                    <a:pt x="2473" y="1444"/>
                  </a:lnTo>
                  <a:lnTo>
                    <a:pt x="2473" y="1414"/>
                  </a:lnTo>
                  <a:lnTo>
                    <a:pt x="2503" y="1389"/>
                  </a:lnTo>
                  <a:lnTo>
                    <a:pt x="2503" y="1364"/>
                  </a:lnTo>
                  <a:lnTo>
                    <a:pt x="2503" y="1335"/>
                  </a:lnTo>
                  <a:lnTo>
                    <a:pt x="2503" y="1310"/>
                  </a:lnTo>
                  <a:lnTo>
                    <a:pt x="2527" y="1280"/>
                  </a:lnTo>
                  <a:lnTo>
                    <a:pt x="2527" y="1256"/>
                  </a:lnTo>
                  <a:lnTo>
                    <a:pt x="2527" y="1226"/>
                  </a:lnTo>
                  <a:lnTo>
                    <a:pt x="2527" y="1201"/>
                  </a:lnTo>
                  <a:lnTo>
                    <a:pt x="2552" y="1177"/>
                  </a:lnTo>
                  <a:lnTo>
                    <a:pt x="2552" y="1147"/>
                  </a:lnTo>
                  <a:lnTo>
                    <a:pt x="2552" y="1122"/>
                  </a:lnTo>
                  <a:lnTo>
                    <a:pt x="2552" y="1093"/>
                  </a:lnTo>
                  <a:lnTo>
                    <a:pt x="2582" y="1068"/>
                  </a:lnTo>
                  <a:lnTo>
                    <a:pt x="2582" y="1043"/>
                  </a:lnTo>
                  <a:lnTo>
                    <a:pt x="2582" y="1014"/>
                  </a:lnTo>
                  <a:lnTo>
                    <a:pt x="2582" y="989"/>
                  </a:lnTo>
                  <a:lnTo>
                    <a:pt x="2582" y="959"/>
                  </a:lnTo>
                  <a:lnTo>
                    <a:pt x="2582" y="934"/>
                  </a:lnTo>
                  <a:lnTo>
                    <a:pt x="2582" y="910"/>
                  </a:lnTo>
                  <a:lnTo>
                    <a:pt x="2582" y="880"/>
                  </a:lnTo>
                  <a:lnTo>
                    <a:pt x="2582" y="855"/>
                  </a:lnTo>
                  <a:lnTo>
                    <a:pt x="2582" y="826"/>
                  </a:lnTo>
                  <a:lnTo>
                    <a:pt x="2582" y="801"/>
                  </a:lnTo>
                  <a:lnTo>
                    <a:pt x="2582" y="776"/>
                  </a:lnTo>
                  <a:lnTo>
                    <a:pt x="2582" y="747"/>
                  </a:lnTo>
                  <a:lnTo>
                    <a:pt x="2582" y="722"/>
                  </a:lnTo>
                  <a:lnTo>
                    <a:pt x="2582" y="692"/>
                  </a:lnTo>
                  <a:lnTo>
                    <a:pt x="2582" y="668"/>
                  </a:lnTo>
                  <a:lnTo>
                    <a:pt x="2582" y="643"/>
                  </a:lnTo>
                  <a:lnTo>
                    <a:pt x="2582" y="613"/>
                  </a:lnTo>
                  <a:lnTo>
                    <a:pt x="2582" y="589"/>
                  </a:lnTo>
                  <a:lnTo>
                    <a:pt x="2582" y="559"/>
                  </a:lnTo>
                  <a:lnTo>
                    <a:pt x="2582" y="534"/>
                  </a:lnTo>
                  <a:lnTo>
                    <a:pt x="2582" y="504"/>
                  </a:lnTo>
                  <a:lnTo>
                    <a:pt x="2582" y="480"/>
                  </a:lnTo>
                  <a:lnTo>
                    <a:pt x="2582" y="455"/>
                  </a:lnTo>
                  <a:lnTo>
                    <a:pt x="2582" y="425"/>
                  </a:lnTo>
                  <a:lnTo>
                    <a:pt x="2582" y="401"/>
                  </a:lnTo>
                  <a:lnTo>
                    <a:pt x="2582" y="371"/>
                  </a:lnTo>
                  <a:lnTo>
                    <a:pt x="2582" y="346"/>
                  </a:lnTo>
                  <a:lnTo>
                    <a:pt x="2582" y="322"/>
                  </a:lnTo>
                  <a:lnTo>
                    <a:pt x="2582" y="292"/>
                  </a:lnTo>
                  <a:lnTo>
                    <a:pt x="2582" y="267"/>
                  </a:lnTo>
                  <a:lnTo>
                    <a:pt x="2582" y="238"/>
                  </a:lnTo>
                  <a:lnTo>
                    <a:pt x="2552" y="213"/>
                  </a:lnTo>
                  <a:lnTo>
                    <a:pt x="2552" y="188"/>
                  </a:lnTo>
                  <a:lnTo>
                    <a:pt x="2552" y="159"/>
                  </a:lnTo>
                  <a:lnTo>
                    <a:pt x="2552" y="134"/>
                  </a:lnTo>
                  <a:lnTo>
                    <a:pt x="2552" y="104"/>
                  </a:lnTo>
                  <a:lnTo>
                    <a:pt x="2527" y="79"/>
                  </a:lnTo>
                  <a:lnTo>
                    <a:pt x="2503" y="79"/>
                  </a:lnTo>
                  <a:lnTo>
                    <a:pt x="2473" y="79"/>
                  </a:lnTo>
                  <a:lnTo>
                    <a:pt x="2448" y="55"/>
                  </a:lnTo>
                  <a:lnTo>
                    <a:pt x="2418" y="55"/>
                  </a:lnTo>
                  <a:lnTo>
                    <a:pt x="2394" y="55"/>
                  </a:lnTo>
                  <a:lnTo>
                    <a:pt x="2369" y="25"/>
                  </a:lnTo>
                  <a:lnTo>
                    <a:pt x="2339" y="25"/>
                  </a:lnTo>
                  <a:lnTo>
                    <a:pt x="2315" y="25"/>
                  </a:lnTo>
                  <a:lnTo>
                    <a:pt x="2285" y="0"/>
                  </a:lnTo>
                  <a:lnTo>
                    <a:pt x="2260" y="0"/>
                  </a:lnTo>
                  <a:lnTo>
                    <a:pt x="2235" y="0"/>
                  </a:lnTo>
                  <a:lnTo>
                    <a:pt x="2206" y="0"/>
                  </a:lnTo>
                  <a:lnTo>
                    <a:pt x="2181" y="0"/>
                  </a:lnTo>
                  <a:lnTo>
                    <a:pt x="2156" y="0"/>
                  </a:lnTo>
                  <a:lnTo>
                    <a:pt x="2127" y="0"/>
                  </a:lnTo>
                  <a:lnTo>
                    <a:pt x="2102" y="0"/>
                  </a:lnTo>
                  <a:lnTo>
                    <a:pt x="2072" y="0"/>
                  </a:lnTo>
                  <a:lnTo>
                    <a:pt x="2048" y="0"/>
                  </a:lnTo>
                  <a:lnTo>
                    <a:pt x="2023" y="0"/>
                  </a:lnTo>
                  <a:lnTo>
                    <a:pt x="1993" y="0"/>
                  </a:lnTo>
                  <a:lnTo>
                    <a:pt x="1968" y="0"/>
                  </a:lnTo>
                  <a:lnTo>
                    <a:pt x="1944" y="0"/>
                  </a:lnTo>
                  <a:lnTo>
                    <a:pt x="1914" y="0"/>
                  </a:lnTo>
                  <a:lnTo>
                    <a:pt x="1889" y="0"/>
                  </a:lnTo>
                  <a:lnTo>
                    <a:pt x="1860" y="0"/>
                  </a:lnTo>
                  <a:lnTo>
                    <a:pt x="1835" y="0"/>
                  </a:lnTo>
                  <a:lnTo>
                    <a:pt x="1810" y="0"/>
                  </a:lnTo>
                  <a:lnTo>
                    <a:pt x="1780" y="0"/>
                  </a:lnTo>
                  <a:lnTo>
                    <a:pt x="1756" y="0"/>
                  </a:lnTo>
                  <a:lnTo>
                    <a:pt x="1726" y="0"/>
                  </a:lnTo>
                  <a:lnTo>
                    <a:pt x="1701" y="0"/>
                  </a:lnTo>
                  <a:lnTo>
                    <a:pt x="1677" y="0"/>
                  </a:lnTo>
                  <a:lnTo>
                    <a:pt x="1647" y="0"/>
                  </a:lnTo>
                  <a:lnTo>
                    <a:pt x="1622" y="0"/>
                  </a:lnTo>
                  <a:lnTo>
                    <a:pt x="1598" y="0"/>
                  </a:lnTo>
                  <a:lnTo>
                    <a:pt x="1568" y="0"/>
                  </a:lnTo>
                  <a:lnTo>
                    <a:pt x="1543" y="0"/>
                  </a:lnTo>
                  <a:lnTo>
                    <a:pt x="1513" y="0"/>
                  </a:lnTo>
                  <a:lnTo>
                    <a:pt x="1489" y="0"/>
                  </a:lnTo>
                  <a:lnTo>
                    <a:pt x="1464" y="0"/>
                  </a:lnTo>
                  <a:lnTo>
                    <a:pt x="1434" y="0"/>
                  </a:lnTo>
                  <a:lnTo>
                    <a:pt x="1410" y="0"/>
                  </a:lnTo>
                  <a:lnTo>
                    <a:pt x="1385" y="0"/>
                  </a:lnTo>
                  <a:lnTo>
                    <a:pt x="1355" y="0"/>
                  </a:lnTo>
                  <a:lnTo>
                    <a:pt x="1330" y="0"/>
                  </a:lnTo>
                  <a:lnTo>
                    <a:pt x="1301" y="0"/>
                  </a:lnTo>
                  <a:lnTo>
                    <a:pt x="1276" y="0"/>
                  </a:lnTo>
                  <a:lnTo>
                    <a:pt x="1251" y="0"/>
                  </a:lnTo>
                  <a:lnTo>
                    <a:pt x="1222" y="0"/>
                  </a:lnTo>
                  <a:lnTo>
                    <a:pt x="1197" y="0"/>
                  </a:lnTo>
                  <a:lnTo>
                    <a:pt x="1172" y="0"/>
                  </a:lnTo>
                  <a:lnTo>
                    <a:pt x="1143" y="0"/>
                  </a:lnTo>
                  <a:lnTo>
                    <a:pt x="1118" y="0"/>
                  </a:lnTo>
                  <a:lnTo>
                    <a:pt x="1088" y="0"/>
                  </a:lnTo>
                  <a:lnTo>
                    <a:pt x="1063" y="0"/>
                  </a:lnTo>
                  <a:lnTo>
                    <a:pt x="1039" y="0"/>
                  </a:lnTo>
                  <a:lnTo>
                    <a:pt x="1009" y="0"/>
                  </a:lnTo>
                  <a:lnTo>
                    <a:pt x="984" y="0"/>
                  </a:lnTo>
                  <a:lnTo>
                    <a:pt x="955" y="0"/>
                  </a:lnTo>
                  <a:lnTo>
                    <a:pt x="930" y="0"/>
                  </a:lnTo>
                  <a:lnTo>
                    <a:pt x="905" y="0"/>
                  </a:lnTo>
                  <a:lnTo>
                    <a:pt x="875" y="0"/>
                  </a:lnTo>
                  <a:lnTo>
                    <a:pt x="851" y="0"/>
                  </a:lnTo>
                  <a:lnTo>
                    <a:pt x="826" y="0"/>
                  </a:lnTo>
                  <a:lnTo>
                    <a:pt x="796" y="0"/>
                  </a:lnTo>
                  <a:lnTo>
                    <a:pt x="772" y="0"/>
                  </a:lnTo>
                  <a:lnTo>
                    <a:pt x="742" y="0"/>
                  </a:lnTo>
                  <a:lnTo>
                    <a:pt x="717" y="0"/>
                  </a:lnTo>
                  <a:lnTo>
                    <a:pt x="692" y="0"/>
                  </a:lnTo>
                  <a:lnTo>
                    <a:pt x="663" y="0"/>
                  </a:lnTo>
                  <a:lnTo>
                    <a:pt x="638" y="0"/>
                  </a:lnTo>
                  <a:lnTo>
                    <a:pt x="613" y="0"/>
                  </a:lnTo>
                  <a:lnTo>
                    <a:pt x="584" y="25"/>
                  </a:lnTo>
                  <a:lnTo>
                    <a:pt x="559" y="55"/>
                  </a:lnTo>
                  <a:lnTo>
                    <a:pt x="529" y="79"/>
                  </a:lnTo>
                  <a:lnTo>
                    <a:pt x="505" y="104"/>
                  </a:lnTo>
                  <a:lnTo>
                    <a:pt x="480" y="134"/>
                  </a:lnTo>
                  <a:lnTo>
                    <a:pt x="450" y="134"/>
                  </a:lnTo>
                  <a:lnTo>
                    <a:pt x="425" y="159"/>
                  </a:lnTo>
                  <a:lnTo>
                    <a:pt x="396" y="188"/>
                  </a:lnTo>
                  <a:lnTo>
                    <a:pt x="371" y="213"/>
                  </a:lnTo>
                  <a:lnTo>
                    <a:pt x="346" y="238"/>
                  </a:lnTo>
                  <a:lnTo>
                    <a:pt x="317" y="267"/>
                  </a:lnTo>
                  <a:lnTo>
                    <a:pt x="292" y="292"/>
                  </a:lnTo>
                  <a:lnTo>
                    <a:pt x="267" y="322"/>
                  </a:lnTo>
                  <a:lnTo>
                    <a:pt x="237" y="322"/>
                  </a:lnTo>
                  <a:lnTo>
                    <a:pt x="213" y="346"/>
                  </a:lnTo>
                  <a:lnTo>
                    <a:pt x="183" y="371"/>
                  </a:lnTo>
                  <a:lnTo>
                    <a:pt x="158" y="401"/>
                  </a:lnTo>
                  <a:lnTo>
                    <a:pt x="134" y="425"/>
                  </a:lnTo>
                  <a:lnTo>
                    <a:pt x="104" y="455"/>
                  </a:lnTo>
                  <a:lnTo>
                    <a:pt x="79" y="480"/>
                  </a:lnTo>
                  <a:lnTo>
                    <a:pt x="55" y="504"/>
                  </a:lnTo>
                  <a:lnTo>
                    <a:pt x="25" y="504"/>
                  </a:lnTo>
                  <a:lnTo>
                    <a:pt x="0" y="534"/>
                  </a:lnTo>
                  <a:lnTo>
                    <a:pt x="0" y="559"/>
                  </a:lnTo>
                  <a:lnTo>
                    <a:pt x="0" y="589"/>
                  </a:lnTo>
                  <a:lnTo>
                    <a:pt x="0" y="613"/>
                  </a:lnTo>
                  <a:lnTo>
                    <a:pt x="25" y="643"/>
                  </a:lnTo>
                  <a:lnTo>
                    <a:pt x="25" y="668"/>
                  </a:lnTo>
                  <a:lnTo>
                    <a:pt x="55" y="692"/>
                  </a:lnTo>
                  <a:lnTo>
                    <a:pt x="79" y="722"/>
                  </a:lnTo>
                  <a:lnTo>
                    <a:pt x="104" y="747"/>
                  </a:lnTo>
                  <a:lnTo>
                    <a:pt x="134" y="776"/>
                  </a:lnTo>
                  <a:lnTo>
                    <a:pt x="134" y="801"/>
                  </a:lnTo>
                  <a:lnTo>
                    <a:pt x="158" y="826"/>
                  </a:lnTo>
                  <a:lnTo>
                    <a:pt x="183" y="855"/>
                  </a:lnTo>
                  <a:lnTo>
                    <a:pt x="213" y="880"/>
                  </a:lnTo>
                  <a:lnTo>
                    <a:pt x="237" y="910"/>
                  </a:lnTo>
                  <a:lnTo>
                    <a:pt x="267" y="934"/>
                  </a:lnTo>
                  <a:lnTo>
                    <a:pt x="292" y="959"/>
                  </a:lnTo>
                  <a:lnTo>
                    <a:pt x="292" y="989"/>
                  </a:lnTo>
                  <a:lnTo>
                    <a:pt x="317" y="1014"/>
                  </a:lnTo>
                  <a:lnTo>
                    <a:pt x="346" y="1043"/>
                  </a:lnTo>
                  <a:lnTo>
                    <a:pt x="371" y="1068"/>
                  </a:lnTo>
                  <a:lnTo>
                    <a:pt x="396" y="1093"/>
                  </a:lnTo>
                  <a:lnTo>
                    <a:pt x="425" y="1122"/>
                  </a:lnTo>
                  <a:lnTo>
                    <a:pt x="450" y="1147"/>
                  </a:lnTo>
                  <a:lnTo>
                    <a:pt x="480" y="1177"/>
                  </a:lnTo>
                  <a:lnTo>
                    <a:pt x="505" y="1201"/>
                  </a:lnTo>
                  <a:lnTo>
                    <a:pt x="529" y="1226"/>
                  </a:lnTo>
                  <a:lnTo>
                    <a:pt x="559" y="1256"/>
                  </a:lnTo>
                  <a:lnTo>
                    <a:pt x="584" y="1280"/>
                  </a:lnTo>
                  <a:lnTo>
                    <a:pt x="613" y="1310"/>
                  </a:lnTo>
                  <a:lnTo>
                    <a:pt x="638" y="1335"/>
                  </a:lnTo>
                  <a:lnTo>
                    <a:pt x="663" y="1364"/>
                  </a:lnTo>
                  <a:lnTo>
                    <a:pt x="692" y="1389"/>
                  </a:lnTo>
                  <a:lnTo>
                    <a:pt x="717" y="1414"/>
                  </a:lnTo>
                  <a:lnTo>
                    <a:pt x="742" y="1444"/>
                  </a:lnTo>
                  <a:lnTo>
                    <a:pt x="772" y="1468"/>
                  </a:lnTo>
                  <a:lnTo>
                    <a:pt x="796" y="1468"/>
                  </a:lnTo>
                  <a:lnTo>
                    <a:pt x="826" y="1498"/>
                  </a:lnTo>
                  <a:lnTo>
                    <a:pt x="851" y="1523"/>
                  </a:lnTo>
                  <a:lnTo>
                    <a:pt x="875" y="1547"/>
                  </a:lnTo>
                  <a:lnTo>
                    <a:pt x="905" y="1577"/>
                  </a:lnTo>
                  <a:lnTo>
                    <a:pt x="930" y="1602"/>
                  </a:lnTo>
                  <a:lnTo>
                    <a:pt x="955" y="1631"/>
                  </a:lnTo>
                  <a:lnTo>
                    <a:pt x="984" y="1656"/>
                  </a:lnTo>
                  <a:lnTo>
                    <a:pt x="1009" y="1656"/>
                  </a:lnTo>
                  <a:lnTo>
                    <a:pt x="1039" y="1656"/>
                  </a:lnTo>
                  <a:lnTo>
                    <a:pt x="1063" y="1656"/>
                  </a:lnTo>
                  <a:lnTo>
                    <a:pt x="1088" y="1656"/>
                  </a:lnTo>
                  <a:lnTo>
                    <a:pt x="1118" y="1656"/>
                  </a:lnTo>
                  <a:lnTo>
                    <a:pt x="1143" y="1656"/>
                  </a:lnTo>
                  <a:lnTo>
                    <a:pt x="1172" y="1656"/>
                  </a:lnTo>
                  <a:lnTo>
                    <a:pt x="1197" y="1656"/>
                  </a:lnTo>
                  <a:lnTo>
                    <a:pt x="1222" y="1656"/>
                  </a:lnTo>
                  <a:lnTo>
                    <a:pt x="1251" y="1656"/>
                  </a:lnTo>
                  <a:lnTo>
                    <a:pt x="1276" y="1656"/>
                  </a:lnTo>
                  <a:lnTo>
                    <a:pt x="1301" y="1656"/>
                  </a:lnTo>
                  <a:lnTo>
                    <a:pt x="1330" y="1656"/>
                  </a:lnTo>
                  <a:lnTo>
                    <a:pt x="1355" y="1656"/>
                  </a:lnTo>
                  <a:lnTo>
                    <a:pt x="1385" y="1656"/>
                  </a:lnTo>
                  <a:lnTo>
                    <a:pt x="1410" y="1656"/>
                  </a:lnTo>
                  <a:lnTo>
                    <a:pt x="1434" y="1656"/>
                  </a:lnTo>
                  <a:lnTo>
                    <a:pt x="1464" y="1656"/>
                  </a:lnTo>
                  <a:lnTo>
                    <a:pt x="1489" y="1656"/>
                  </a:lnTo>
                  <a:lnTo>
                    <a:pt x="1513" y="1656"/>
                  </a:lnTo>
                  <a:lnTo>
                    <a:pt x="1543" y="1656"/>
                  </a:lnTo>
                  <a:lnTo>
                    <a:pt x="1568" y="1656"/>
                  </a:lnTo>
                  <a:lnTo>
                    <a:pt x="1598" y="1656"/>
                  </a:lnTo>
                  <a:lnTo>
                    <a:pt x="1622" y="1656"/>
                  </a:lnTo>
                  <a:lnTo>
                    <a:pt x="1647" y="1656"/>
                  </a:lnTo>
                  <a:lnTo>
                    <a:pt x="1677" y="1656"/>
                  </a:lnTo>
                  <a:lnTo>
                    <a:pt x="1701" y="1656"/>
                  </a:lnTo>
                  <a:lnTo>
                    <a:pt x="1726" y="1656"/>
                  </a:lnTo>
                  <a:lnTo>
                    <a:pt x="1756" y="1656"/>
                  </a:lnTo>
                  <a:lnTo>
                    <a:pt x="1780" y="1656"/>
                  </a:lnTo>
                  <a:lnTo>
                    <a:pt x="1810" y="1656"/>
                  </a:lnTo>
                  <a:lnTo>
                    <a:pt x="1835" y="1656"/>
                  </a:lnTo>
                  <a:lnTo>
                    <a:pt x="1860" y="1656"/>
                  </a:lnTo>
                  <a:lnTo>
                    <a:pt x="1889" y="1656"/>
                  </a:lnTo>
                  <a:lnTo>
                    <a:pt x="1914" y="1656"/>
                  </a:lnTo>
                  <a:lnTo>
                    <a:pt x="1944" y="1656"/>
                  </a:lnTo>
                  <a:lnTo>
                    <a:pt x="1968" y="1656"/>
                  </a:lnTo>
                  <a:lnTo>
                    <a:pt x="1993" y="1656"/>
                  </a:lnTo>
                  <a:lnTo>
                    <a:pt x="2023" y="1656"/>
                  </a:lnTo>
                  <a:lnTo>
                    <a:pt x="2048" y="1656"/>
                  </a:lnTo>
                  <a:lnTo>
                    <a:pt x="2072" y="1656"/>
                  </a:lnTo>
                  <a:lnTo>
                    <a:pt x="2102" y="1656"/>
                  </a:lnTo>
                  <a:lnTo>
                    <a:pt x="2127" y="1656"/>
                  </a:lnTo>
                  <a:lnTo>
                    <a:pt x="2156" y="1656"/>
                  </a:lnTo>
                  <a:lnTo>
                    <a:pt x="2181" y="1656"/>
                  </a:lnTo>
                  <a:lnTo>
                    <a:pt x="2206" y="1656"/>
                  </a:lnTo>
                  <a:lnTo>
                    <a:pt x="2235" y="1656"/>
                  </a:lnTo>
                  <a:close/>
                  <a:moveTo>
                    <a:pt x="1434" y="267"/>
                  </a:moveTo>
                  <a:lnTo>
                    <a:pt x="1434" y="262"/>
                  </a:lnTo>
                  <a:lnTo>
                    <a:pt x="1439" y="262"/>
                  </a:lnTo>
                  <a:lnTo>
                    <a:pt x="1439" y="262"/>
                  </a:lnTo>
                  <a:lnTo>
                    <a:pt x="1444" y="262"/>
                  </a:lnTo>
                  <a:lnTo>
                    <a:pt x="1449" y="257"/>
                  </a:lnTo>
                  <a:lnTo>
                    <a:pt x="1454" y="257"/>
                  </a:lnTo>
                  <a:lnTo>
                    <a:pt x="1459" y="262"/>
                  </a:lnTo>
                  <a:lnTo>
                    <a:pt x="1464" y="262"/>
                  </a:lnTo>
                  <a:lnTo>
                    <a:pt x="1469" y="262"/>
                  </a:lnTo>
                  <a:lnTo>
                    <a:pt x="1469" y="267"/>
                  </a:lnTo>
                  <a:lnTo>
                    <a:pt x="1469" y="267"/>
                  </a:lnTo>
                  <a:lnTo>
                    <a:pt x="1464" y="267"/>
                  </a:lnTo>
                  <a:lnTo>
                    <a:pt x="1459" y="272"/>
                  </a:lnTo>
                  <a:lnTo>
                    <a:pt x="1454" y="272"/>
                  </a:lnTo>
                  <a:lnTo>
                    <a:pt x="1449" y="272"/>
                  </a:lnTo>
                  <a:lnTo>
                    <a:pt x="1444" y="272"/>
                  </a:lnTo>
                  <a:lnTo>
                    <a:pt x="1444" y="272"/>
                  </a:lnTo>
                  <a:lnTo>
                    <a:pt x="1439" y="272"/>
                  </a:lnTo>
                  <a:lnTo>
                    <a:pt x="1434" y="267"/>
                  </a:lnTo>
                  <a:lnTo>
                    <a:pt x="1434" y="267"/>
                  </a:lnTo>
                  <a:close/>
                  <a:moveTo>
                    <a:pt x="1677" y="267"/>
                  </a:moveTo>
                  <a:lnTo>
                    <a:pt x="1672" y="262"/>
                  </a:lnTo>
                  <a:lnTo>
                    <a:pt x="1667" y="262"/>
                  </a:lnTo>
                  <a:lnTo>
                    <a:pt x="1657" y="257"/>
                  </a:lnTo>
                  <a:lnTo>
                    <a:pt x="1657" y="252"/>
                  </a:lnTo>
                  <a:lnTo>
                    <a:pt x="1652" y="247"/>
                  </a:lnTo>
                  <a:lnTo>
                    <a:pt x="1647" y="247"/>
                  </a:lnTo>
                  <a:lnTo>
                    <a:pt x="1642" y="243"/>
                  </a:lnTo>
                  <a:lnTo>
                    <a:pt x="1637" y="238"/>
                  </a:lnTo>
                  <a:lnTo>
                    <a:pt x="1637" y="233"/>
                  </a:lnTo>
                  <a:lnTo>
                    <a:pt x="1632" y="228"/>
                  </a:lnTo>
                  <a:lnTo>
                    <a:pt x="1627" y="223"/>
                  </a:lnTo>
                  <a:lnTo>
                    <a:pt x="1622" y="223"/>
                  </a:lnTo>
                  <a:lnTo>
                    <a:pt x="1617" y="223"/>
                  </a:lnTo>
                  <a:lnTo>
                    <a:pt x="1607" y="223"/>
                  </a:lnTo>
                  <a:lnTo>
                    <a:pt x="1602" y="223"/>
                  </a:lnTo>
                  <a:lnTo>
                    <a:pt x="1593" y="223"/>
                  </a:lnTo>
                  <a:lnTo>
                    <a:pt x="1583" y="223"/>
                  </a:lnTo>
                  <a:lnTo>
                    <a:pt x="1578" y="218"/>
                  </a:lnTo>
                  <a:lnTo>
                    <a:pt x="1573" y="218"/>
                  </a:lnTo>
                  <a:lnTo>
                    <a:pt x="1568" y="213"/>
                  </a:lnTo>
                  <a:lnTo>
                    <a:pt x="1573" y="208"/>
                  </a:lnTo>
                  <a:lnTo>
                    <a:pt x="1578" y="208"/>
                  </a:lnTo>
                  <a:lnTo>
                    <a:pt x="1583" y="203"/>
                  </a:lnTo>
                  <a:lnTo>
                    <a:pt x="1593" y="198"/>
                  </a:lnTo>
                  <a:lnTo>
                    <a:pt x="1598" y="198"/>
                  </a:lnTo>
                  <a:lnTo>
                    <a:pt x="1607" y="198"/>
                  </a:lnTo>
                  <a:lnTo>
                    <a:pt x="1617" y="198"/>
                  </a:lnTo>
                  <a:lnTo>
                    <a:pt x="1622" y="203"/>
                  </a:lnTo>
                  <a:lnTo>
                    <a:pt x="1627" y="203"/>
                  </a:lnTo>
                  <a:lnTo>
                    <a:pt x="1627" y="208"/>
                  </a:lnTo>
                  <a:lnTo>
                    <a:pt x="1632" y="213"/>
                  </a:lnTo>
                  <a:lnTo>
                    <a:pt x="1637" y="218"/>
                  </a:lnTo>
                  <a:lnTo>
                    <a:pt x="1642" y="223"/>
                  </a:lnTo>
                  <a:lnTo>
                    <a:pt x="1642" y="223"/>
                  </a:lnTo>
                  <a:lnTo>
                    <a:pt x="1647" y="228"/>
                  </a:lnTo>
                  <a:lnTo>
                    <a:pt x="1652" y="233"/>
                  </a:lnTo>
                  <a:lnTo>
                    <a:pt x="1657" y="238"/>
                  </a:lnTo>
                  <a:lnTo>
                    <a:pt x="1662" y="243"/>
                  </a:lnTo>
                  <a:lnTo>
                    <a:pt x="1662" y="243"/>
                  </a:lnTo>
                  <a:lnTo>
                    <a:pt x="1662" y="247"/>
                  </a:lnTo>
                  <a:lnTo>
                    <a:pt x="1667" y="252"/>
                  </a:lnTo>
                  <a:lnTo>
                    <a:pt x="1667" y="257"/>
                  </a:lnTo>
                  <a:lnTo>
                    <a:pt x="1672" y="262"/>
                  </a:lnTo>
                  <a:lnTo>
                    <a:pt x="1677" y="267"/>
                  </a:lnTo>
                  <a:close/>
                  <a:moveTo>
                    <a:pt x="1504" y="238"/>
                  </a:moveTo>
                  <a:lnTo>
                    <a:pt x="1504" y="238"/>
                  </a:lnTo>
                  <a:lnTo>
                    <a:pt x="1508" y="233"/>
                  </a:lnTo>
                  <a:lnTo>
                    <a:pt x="1513" y="228"/>
                  </a:lnTo>
                  <a:lnTo>
                    <a:pt x="1518" y="228"/>
                  </a:lnTo>
                  <a:lnTo>
                    <a:pt x="1518" y="228"/>
                  </a:lnTo>
                  <a:lnTo>
                    <a:pt x="1523" y="228"/>
                  </a:lnTo>
                  <a:lnTo>
                    <a:pt x="1528" y="233"/>
                  </a:lnTo>
                  <a:lnTo>
                    <a:pt x="1538" y="233"/>
                  </a:lnTo>
                  <a:lnTo>
                    <a:pt x="1543" y="238"/>
                  </a:lnTo>
                  <a:lnTo>
                    <a:pt x="1543" y="238"/>
                  </a:lnTo>
                  <a:lnTo>
                    <a:pt x="1543" y="243"/>
                  </a:lnTo>
                  <a:lnTo>
                    <a:pt x="1538" y="243"/>
                  </a:lnTo>
                  <a:lnTo>
                    <a:pt x="1533" y="247"/>
                  </a:lnTo>
                  <a:lnTo>
                    <a:pt x="1528" y="247"/>
                  </a:lnTo>
                  <a:lnTo>
                    <a:pt x="1523" y="247"/>
                  </a:lnTo>
                  <a:lnTo>
                    <a:pt x="1518" y="247"/>
                  </a:lnTo>
                  <a:lnTo>
                    <a:pt x="1513" y="247"/>
                  </a:lnTo>
                  <a:lnTo>
                    <a:pt x="1508" y="247"/>
                  </a:lnTo>
                  <a:lnTo>
                    <a:pt x="1508" y="243"/>
                  </a:lnTo>
                  <a:lnTo>
                    <a:pt x="1504" y="238"/>
                  </a:lnTo>
                  <a:close/>
                  <a:moveTo>
                    <a:pt x="1370" y="213"/>
                  </a:moveTo>
                  <a:lnTo>
                    <a:pt x="1375" y="208"/>
                  </a:lnTo>
                  <a:lnTo>
                    <a:pt x="1375" y="203"/>
                  </a:lnTo>
                  <a:lnTo>
                    <a:pt x="1380" y="203"/>
                  </a:lnTo>
                  <a:lnTo>
                    <a:pt x="1385" y="203"/>
                  </a:lnTo>
                  <a:lnTo>
                    <a:pt x="1390" y="203"/>
                  </a:lnTo>
                  <a:lnTo>
                    <a:pt x="1395" y="208"/>
                  </a:lnTo>
                  <a:lnTo>
                    <a:pt x="1395" y="213"/>
                  </a:lnTo>
                  <a:lnTo>
                    <a:pt x="1395" y="218"/>
                  </a:lnTo>
                  <a:lnTo>
                    <a:pt x="1390" y="218"/>
                  </a:lnTo>
                  <a:lnTo>
                    <a:pt x="1385" y="223"/>
                  </a:lnTo>
                  <a:lnTo>
                    <a:pt x="1380" y="223"/>
                  </a:lnTo>
                  <a:lnTo>
                    <a:pt x="1375" y="223"/>
                  </a:lnTo>
                  <a:lnTo>
                    <a:pt x="1375" y="218"/>
                  </a:lnTo>
                  <a:lnTo>
                    <a:pt x="1370" y="213"/>
                  </a:lnTo>
                  <a:close/>
                  <a:moveTo>
                    <a:pt x="1855" y="213"/>
                  </a:moveTo>
                  <a:lnTo>
                    <a:pt x="1860" y="208"/>
                  </a:lnTo>
                  <a:lnTo>
                    <a:pt x="1865" y="203"/>
                  </a:lnTo>
                  <a:lnTo>
                    <a:pt x="1870" y="198"/>
                  </a:lnTo>
                  <a:lnTo>
                    <a:pt x="1870" y="193"/>
                  </a:lnTo>
                  <a:lnTo>
                    <a:pt x="1874" y="188"/>
                  </a:lnTo>
                  <a:lnTo>
                    <a:pt x="1874" y="183"/>
                  </a:lnTo>
                  <a:lnTo>
                    <a:pt x="1870" y="178"/>
                  </a:lnTo>
                  <a:lnTo>
                    <a:pt x="1860" y="178"/>
                  </a:lnTo>
                  <a:lnTo>
                    <a:pt x="1855" y="173"/>
                  </a:lnTo>
                  <a:lnTo>
                    <a:pt x="1845" y="178"/>
                  </a:lnTo>
                  <a:lnTo>
                    <a:pt x="1835" y="173"/>
                  </a:lnTo>
                  <a:lnTo>
                    <a:pt x="1830" y="173"/>
                  </a:lnTo>
                  <a:lnTo>
                    <a:pt x="1825" y="168"/>
                  </a:lnTo>
                  <a:lnTo>
                    <a:pt x="1820" y="163"/>
                  </a:lnTo>
                  <a:lnTo>
                    <a:pt x="1815" y="159"/>
                  </a:lnTo>
                  <a:lnTo>
                    <a:pt x="1815" y="154"/>
                  </a:lnTo>
                  <a:lnTo>
                    <a:pt x="1805" y="154"/>
                  </a:lnTo>
                  <a:lnTo>
                    <a:pt x="1800" y="149"/>
                  </a:lnTo>
                  <a:lnTo>
                    <a:pt x="1790" y="149"/>
                  </a:lnTo>
                  <a:lnTo>
                    <a:pt x="1785" y="149"/>
                  </a:lnTo>
                  <a:lnTo>
                    <a:pt x="1776" y="149"/>
                  </a:lnTo>
                  <a:lnTo>
                    <a:pt x="1771" y="144"/>
                  </a:lnTo>
                  <a:lnTo>
                    <a:pt x="1766" y="139"/>
                  </a:lnTo>
                  <a:lnTo>
                    <a:pt x="1766" y="134"/>
                  </a:lnTo>
                  <a:lnTo>
                    <a:pt x="1761" y="129"/>
                  </a:lnTo>
                  <a:lnTo>
                    <a:pt x="1756" y="124"/>
                  </a:lnTo>
                  <a:lnTo>
                    <a:pt x="1746" y="124"/>
                  </a:lnTo>
                  <a:lnTo>
                    <a:pt x="1736" y="124"/>
                  </a:lnTo>
                  <a:lnTo>
                    <a:pt x="1731" y="124"/>
                  </a:lnTo>
                  <a:lnTo>
                    <a:pt x="1721" y="119"/>
                  </a:lnTo>
                  <a:lnTo>
                    <a:pt x="1716" y="119"/>
                  </a:lnTo>
                  <a:lnTo>
                    <a:pt x="1716" y="114"/>
                  </a:lnTo>
                  <a:lnTo>
                    <a:pt x="1711" y="109"/>
                  </a:lnTo>
                  <a:lnTo>
                    <a:pt x="1706" y="104"/>
                  </a:lnTo>
                  <a:lnTo>
                    <a:pt x="1701" y="99"/>
                  </a:lnTo>
                  <a:lnTo>
                    <a:pt x="1691" y="99"/>
                  </a:lnTo>
                  <a:lnTo>
                    <a:pt x="1682" y="99"/>
                  </a:lnTo>
                  <a:lnTo>
                    <a:pt x="1677" y="94"/>
                  </a:lnTo>
                  <a:lnTo>
                    <a:pt x="1672" y="94"/>
                  </a:lnTo>
                  <a:lnTo>
                    <a:pt x="1667" y="89"/>
                  </a:lnTo>
                  <a:lnTo>
                    <a:pt x="1662" y="84"/>
                  </a:lnTo>
                  <a:lnTo>
                    <a:pt x="1657" y="79"/>
                  </a:lnTo>
                  <a:lnTo>
                    <a:pt x="1652" y="74"/>
                  </a:lnTo>
                  <a:lnTo>
                    <a:pt x="1642" y="74"/>
                  </a:lnTo>
                  <a:lnTo>
                    <a:pt x="1637" y="74"/>
                  </a:lnTo>
                  <a:lnTo>
                    <a:pt x="1627" y="74"/>
                  </a:lnTo>
                  <a:lnTo>
                    <a:pt x="1617" y="70"/>
                  </a:lnTo>
                  <a:lnTo>
                    <a:pt x="1612" y="70"/>
                  </a:lnTo>
                  <a:lnTo>
                    <a:pt x="1607" y="65"/>
                  </a:lnTo>
                  <a:lnTo>
                    <a:pt x="1602" y="60"/>
                  </a:lnTo>
                  <a:lnTo>
                    <a:pt x="1602" y="55"/>
                  </a:lnTo>
                  <a:lnTo>
                    <a:pt x="1602" y="50"/>
                  </a:lnTo>
                  <a:lnTo>
                    <a:pt x="1607" y="45"/>
                  </a:lnTo>
                  <a:lnTo>
                    <a:pt x="1617" y="40"/>
                  </a:lnTo>
                  <a:lnTo>
                    <a:pt x="1622" y="35"/>
                  </a:lnTo>
                  <a:lnTo>
                    <a:pt x="1632" y="35"/>
                  </a:lnTo>
                  <a:lnTo>
                    <a:pt x="1637" y="35"/>
                  </a:lnTo>
                  <a:lnTo>
                    <a:pt x="1647" y="35"/>
                  </a:lnTo>
                  <a:lnTo>
                    <a:pt x="1657" y="35"/>
                  </a:lnTo>
                  <a:lnTo>
                    <a:pt x="1662" y="35"/>
                  </a:lnTo>
                  <a:lnTo>
                    <a:pt x="1672" y="40"/>
                  </a:lnTo>
                  <a:lnTo>
                    <a:pt x="1677" y="40"/>
                  </a:lnTo>
                  <a:lnTo>
                    <a:pt x="1682" y="45"/>
                  </a:lnTo>
                  <a:lnTo>
                    <a:pt x="1687" y="50"/>
                  </a:lnTo>
                  <a:lnTo>
                    <a:pt x="1691" y="55"/>
                  </a:lnTo>
                  <a:lnTo>
                    <a:pt x="1701" y="55"/>
                  </a:lnTo>
                  <a:lnTo>
                    <a:pt x="1706" y="60"/>
                  </a:lnTo>
                  <a:lnTo>
                    <a:pt x="1716" y="60"/>
                  </a:lnTo>
                  <a:lnTo>
                    <a:pt x="1721" y="60"/>
                  </a:lnTo>
                  <a:lnTo>
                    <a:pt x="1731" y="60"/>
                  </a:lnTo>
                  <a:lnTo>
                    <a:pt x="1741" y="60"/>
                  </a:lnTo>
                  <a:lnTo>
                    <a:pt x="1746" y="60"/>
                  </a:lnTo>
                  <a:lnTo>
                    <a:pt x="1756" y="60"/>
                  </a:lnTo>
                  <a:lnTo>
                    <a:pt x="1761" y="65"/>
                  </a:lnTo>
                  <a:lnTo>
                    <a:pt x="1771" y="65"/>
                  </a:lnTo>
                  <a:lnTo>
                    <a:pt x="1776" y="65"/>
                  </a:lnTo>
                  <a:lnTo>
                    <a:pt x="1785" y="70"/>
                  </a:lnTo>
                  <a:lnTo>
                    <a:pt x="1790" y="74"/>
                  </a:lnTo>
                  <a:lnTo>
                    <a:pt x="1795" y="79"/>
                  </a:lnTo>
                  <a:lnTo>
                    <a:pt x="1800" y="84"/>
                  </a:lnTo>
                  <a:lnTo>
                    <a:pt x="1805" y="84"/>
                  </a:lnTo>
                  <a:lnTo>
                    <a:pt x="1815" y="89"/>
                  </a:lnTo>
                  <a:lnTo>
                    <a:pt x="1820" y="89"/>
                  </a:lnTo>
                  <a:lnTo>
                    <a:pt x="1830" y="89"/>
                  </a:lnTo>
                  <a:lnTo>
                    <a:pt x="1835" y="89"/>
                  </a:lnTo>
                  <a:lnTo>
                    <a:pt x="1845" y="89"/>
                  </a:lnTo>
                  <a:lnTo>
                    <a:pt x="1855" y="89"/>
                  </a:lnTo>
                  <a:lnTo>
                    <a:pt x="1860" y="89"/>
                  </a:lnTo>
                  <a:lnTo>
                    <a:pt x="1870" y="89"/>
                  </a:lnTo>
                  <a:lnTo>
                    <a:pt x="1879" y="94"/>
                  </a:lnTo>
                  <a:lnTo>
                    <a:pt x="1884" y="94"/>
                  </a:lnTo>
                  <a:lnTo>
                    <a:pt x="1889" y="99"/>
                  </a:lnTo>
                  <a:lnTo>
                    <a:pt x="1894" y="104"/>
                  </a:lnTo>
                  <a:lnTo>
                    <a:pt x="1899" y="109"/>
                  </a:lnTo>
                  <a:lnTo>
                    <a:pt x="1904" y="114"/>
                  </a:lnTo>
                  <a:lnTo>
                    <a:pt x="1909" y="114"/>
                  </a:lnTo>
                  <a:lnTo>
                    <a:pt x="1914" y="119"/>
                  </a:lnTo>
                  <a:lnTo>
                    <a:pt x="1924" y="119"/>
                  </a:lnTo>
                  <a:lnTo>
                    <a:pt x="1934" y="119"/>
                  </a:lnTo>
                  <a:lnTo>
                    <a:pt x="1939" y="119"/>
                  </a:lnTo>
                  <a:lnTo>
                    <a:pt x="1949" y="124"/>
                  </a:lnTo>
                  <a:lnTo>
                    <a:pt x="1954" y="124"/>
                  </a:lnTo>
                  <a:lnTo>
                    <a:pt x="1963" y="124"/>
                  </a:lnTo>
                  <a:lnTo>
                    <a:pt x="1973" y="124"/>
                  </a:lnTo>
                  <a:lnTo>
                    <a:pt x="1983" y="124"/>
                  </a:lnTo>
                  <a:lnTo>
                    <a:pt x="1988" y="124"/>
                  </a:lnTo>
                  <a:lnTo>
                    <a:pt x="1998" y="124"/>
                  </a:lnTo>
                  <a:lnTo>
                    <a:pt x="2003" y="129"/>
                  </a:lnTo>
                  <a:lnTo>
                    <a:pt x="2003" y="134"/>
                  </a:lnTo>
                  <a:lnTo>
                    <a:pt x="2008" y="139"/>
                  </a:lnTo>
                  <a:lnTo>
                    <a:pt x="2008" y="149"/>
                  </a:lnTo>
                  <a:lnTo>
                    <a:pt x="2013" y="149"/>
                  </a:lnTo>
                  <a:lnTo>
                    <a:pt x="2018" y="154"/>
                  </a:lnTo>
                  <a:lnTo>
                    <a:pt x="2023" y="159"/>
                  </a:lnTo>
                  <a:lnTo>
                    <a:pt x="2033" y="159"/>
                  </a:lnTo>
                  <a:lnTo>
                    <a:pt x="2038" y="159"/>
                  </a:lnTo>
                  <a:lnTo>
                    <a:pt x="2038" y="163"/>
                  </a:lnTo>
                  <a:lnTo>
                    <a:pt x="2038" y="168"/>
                  </a:lnTo>
                  <a:lnTo>
                    <a:pt x="2033" y="173"/>
                  </a:lnTo>
                  <a:lnTo>
                    <a:pt x="2028" y="178"/>
                  </a:lnTo>
                  <a:lnTo>
                    <a:pt x="2023" y="183"/>
                  </a:lnTo>
                  <a:lnTo>
                    <a:pt x="2018" y="188"/>
                  </a:lnTo>
                  <a:lnTo>
                    <a:pt x="2018" y="193"/>
                  </a:lnTo>
                  <a:lnTo>
                    <a:pt x="2013" y="198"/>
                  </a:lnTo>
                  <a:lnTo>
                    <a:pt x="2008" y="203"/>
                  </a:lnTo>
                  <a:lnTo>
                    <a:pt x="2008" y="208"/>
                  </a:lnTo>
                  <a:lnTo>
                    <a:pt x="2003" y="213"/>
                  </a:lnTo>
                  <a:lnTo>
                    <a:pt x="2003" y="218"/>
                  </a:lnTo>
                  <a:lnTo>
                    <a:pt x="1998" y="223"/>
                  </a:lnTo>
                  <a:lnTo>
                    <a:pt x="1993" y="228"/>
                  </a:lnTo>
                  <a:lnTo>
                    <a:pt x="1988" y="233"/>
                  </a:lnTo>
                  <a:lnTo>
                    <a:pt x="1978" y="233"/>
                  </a:lnTo>
                  <a:lnTo>
                    <a:pt x="1973" y="233"/>
                  </a:lnTo>
                  <a:lnTo>
                    <a:pt x="1963" y="233"/>
                  </a:lnTo>
                  <a:lnTo>
                    <a:pt x="1959" y="233"/>
                  </a:lnTo>
                  <a:lnTo>
                    <a:pt x="1949" y="228"/>
                  </a:lnTo>
                  <a:lnTo>
                    <a:pt x="1944" y="223"/>
                  </a:lnTo>
                  <a:lnTo>
                    <a:pt x="1939" y="218"/>
                  </a:lnTo>
                  <a:lnTo>
                    <a:pt x="1934" y="218"/>
                  </a:lnTo>
                  <a:lnTo>
                    <a:pt x="1929" y="213"/>
                  </a:lnTo>
                  <a:lnTo>
                    <a:pt x="1924" y="208"/>
                  </a:lnTo>
                  <a:lnTo>
                    <a:pt x="1919" y="203"/>
                  </a:lnTo>
                  <a:lnTo>
                    <a:pt x="1909" y="203"/>
                  </a:lnTo>
                  <a:lnTo>
                    <a:pt x="1904" y="198"/>
                  </a:lnTo>
                  <a:lnTo>
                    <a:pt x="1894" y="198"/>
                  </a:lnTo>
                  <a:lnTo>
                    <a:pt x="1884" y="198"/>
                  </a:lnTo>
                  <a:lnTo>
                    <a:pt x="1879" y="203"/>
                  </a:lnTo>
                  <a:lnTo>
                    <a:pt x="1874" y="203"/>
                  </a:lnTo>
                  <a:lnTo>
                    <a:pt x="1870" y="208"/>
                  </a:lnTo>
                  <a:lnTo>
                    <a:pt x="1865" y="213"/>
                  </a:lnTo>
                  <a:lnTo>
                    <a:pt x="1860" y="218"/>
                  </a:lnTo>
                  <a:lnTo>
                    <a:pt x="1855" y="213"/>
                  </a:lnTo>
                  <a:close/>
                  <a:moveTo>
                    <a:pt x="1444" y="188"/>
                  </a:moveTo>
                  <a:lnTo>
                    <a:pt x="1449" y="183"/>
                  </a:lnTo>
                  <a:lnTo>
                    <a:pt x="1454" y="178"/>
                  </a:lnTo>
                  <a:lnTo>
                    <a:pt x="1459" y="178"/>
                  </a:lnTo>
                  <a:lnTo>
                    <a:pt x="1469" y="178"/>
                  </a:lnTo>
                  <a:lnTo>
                    <a:pt x="1474" y="178"/>
                  </a:lnTo>
                  <a:lnTo>
                    <a:pt x="1479" y="183"/>
                  </a:lnTo>
                  <a:lnTo>
                    <a:pt x="1479" y="188"/>
                  </a:lnTo>
                  <a:lnTo>
                    <a:pt x="1474" y="193"/>
                  </a:lnTo>
                  <a:lnTo>
                    <a:pt x="1469" y="193"/>
                  </a:lnTo>
                  <a:lnTo>
                    <a:pt x="1464" y="198"/>
                  </a:lnTo>
                  <a:lnTo>
                    <a:pt x="1459" y="198"/>
                  </a:lnTo>
                  <a:lnTo>
                    <a:pt x="1454" y="193"/>
                  </a:lnTo>
                  <a:lnTo>
                    <a:pt x="1449" y="193"/>
                  </a:lnTo>
                  <a:lnTo>
                    <a:pt x="1444" y="188"/>
                  </a:lnTo>
                  <a:close/>
                  <a:moveTo>
                    <a:pt x="1766" y="188"/>
                  </a:moveTo>
                  <a:lnTo>
                    <a:pt x="1771" y="183"/>
                  </a:lnTo>
                  <a:lnTo>
                    <a:pt x="1776" y="178"/>
                  </a:lnTo>
                  <a:lnTo>
                    <a:pt x="1780" y="178"/>
                  </a:lnTo>
                  <a:lnTo>
                    <a:pt x="1785" y="178"/>
                  </a:lnTo>
                  <a:lnTo>
                    <a:pt x="1795" y="178"/>
                  </a:lnTo>
                  <a:lnTo>
                    <a:pt x="1800" y="183"/>
                  </a:lnTo>
                  <a:lnTo>
                    <a:pt x="1800" y="188"/>
                  </a:lnTo>
                  <a:lnTo>
                    <a:pt x="1800" y="193"/>
                  </a:lnTo>
                  <a:lnTo>
                    <a:pt x="1795" y="193"/>
                  </a:lnTo>
                  <a:lnTo>
                    <a:pt x="1785" y="198"/>
                  </a:lnTo>
                  <a:lnTo>
                    <a:pt x="1780" y="198"/>
                  </a:lnTo>
                  <a:lnTo>
                    <a:pt x="1776" y="193"/>
                  </a:lnTo>
                  <a:lnTo>
                    <a:pt x="1771" y="193"/>
                  </a:lnTo>
                  <a:lnTo>
                    <a:pt x="1766" y="188"/>
                  </a:lnTo>
                  <a:close/>
                  <a:moveTo>
                    <a:pt x="1291" y="159"/>
                  </a:moveTo>
                  <a:lnTo>
                    <a:pt x="1291" y="154"/>
                  </a:lnTo>
                  <a:lnTo>
                    <a:pt x="1296" y="149"/>
                  </a:lnTo>
                  <a:lnTo>
                    <a:pt x="1301" y="149"/>
                  </a:lnTo>
                  <a:lnTo>
                    <a:pt x="1306" y="149"/>
                  </a:lnTo>
                  <a:lnTo>
                    <a:pt x="1311" y="154"/>
                  </a:lnTo>
                  <a:lnTo>
                    <a:pt x="1316" y="159"/>
                  </a:lnTo>
                  <a:lnTo>
                    <a:pt x="1316" y="163"/>
                  </a:lnTo>
                  <a:lnTo>
                    <a:pt x="1311" y="168"/>
                  </a:lnTo>
                  <a:lnTo>
                    <a:pt x="1306" y="173"/>
                  </a:lnTo>
                  <a:lnTo>
                    <a:pt x="1306" y="173"/>
                  </a:lnTo>
                  <a:lnTo>
                    <a:pt x="1301" y="173"/>
                  </a:lnTo>
                  <a:lnTo>
                    <a:pt x="1296" y="168"/>
                  </a:lnTo>
                  <a:lnTo>
                    <a:pt x="1291" y="168"/>
                  </a:lnTo>
                  <a:lnTo>
                    <a:pt x="1291" y="159"/>
                  </a:lnTo>
                  <a:close/>
                  <a:moveTo>
                    <a:pt x="1499" y="159"/>
                  </a:moveTo>
                  <a:lnTo>
                    <a:pt x="1504" y="154"/>
                  </a:lnTo>
                  <a:lnTo>
                    <a:pt x="1508" y="149"/>
                  </a:lnTo>
                  <a:lnTo>
                    <a:pt x="1513" y="149"/>
                  </a:lnTo>
                  <a:lnTo>
                    <a:pt x="1523" y="149"/>
                  </a:lnTo>
                  <a:lnTo>
                    <a:pt x="1528" y="149"/>
                  </a:lnTo>
                  <a:lnTo>
                    <a:pt x="1538" y="149"/>
                  </a:lnTo>
                  <a:lnTo>
                    <a:pt x="1548" y="149"/>
                  </a:lnTo>
                  <a:lnTo>
                    <a:pt x="1553" y="154"/>
                  </a:lnTo>
                  <a:lnTo>
                    <a:pt x="1558" y="159"/>
                  </a:lnTo>
                  <a:lnTo>
                    <a:pt x="1558" y="163"/>
                  </a:lnTo>
                  <a:lnTo>
                    <a:pt x="1558" y="163"/>
                  </a:lnTo>
                  <a:lnTo>
                    <a:pt x="1553" y="168"/>
                  </a:lnTo>
                  <a:lnTo>
                    <a:pt x="1543" y="173"/>
                  </a:lnTo>
                  <a:lnTo>
                    <a:pt x="1533" y="173"/>
                  </a:lnTo>
                  <a:lnTo>
                    <a:pt x="1528" y="173"/>
                  </a:lnTo>
                  <a:lnTo>
                    <a:pt x="1518" y="173"/>
                  </a:lnTo>
                  <a:lnTo>
                    <a:pt x="1513" y="173"/>
                  </a:lnTo>
                  <a:lnTo>
                    <a:pt x="1508" y="168"/>
                  </a:lnTo>
                  <a:lnTo>
                    <a:pt x="1504" y="163"/>
                  </a:lnTo>
                  <a:lnTo>
                    <a:pt x="1499" y="159"/>
                  </a:lnTo>
                  <a:close/>
                  <a:moveTo>
                    <a:pt x="1696" y="159"/>
                  </a:moveTo>
                  <a:lnTo>
                    <a:pt x="1687" y="154"/>
                  </a:lnTo>
                  <a:lnTo>
                    <a:pt x="1682" y="149"/>
                  </a:lnTo>
                  <a:lnTo>
                    <a:pt x="1672" y="149"/>
                  </a:lnTo>
                  <a:lnTo>
                    <a:pt x="1667" y="149"/>
                  </a:lnTo>
                  <a:lnTo>
                    <a:pt x="1657" y="149"/>
                  </a:lnTo>
                  <a:lnTo>
                    <a:pt x="1647" y="149"/>
                  </a:lnTo>
                  <a:lnTo>
                    <a:pt x="1637" y="149"/>
                  </a:lnTo>
                  <a:lnTo>
                    <a:pt x="1627" y="149"/>
                  </a:lnTo>
                  <a:lnTo>
                    <a:pt x="1617" y="149"/>
                  </a:lnTo>
                  <a:lnTo>
                    <a:pt x="1612" y="149"/>
                  </a:lnTo>
                  <a:lnTo>
                    <a:pt x="1602" y="154"/>
                  </a:lnTo>
                  <a:lnTo>
                    <a:pt x="1593" y="149"/>
                  </a:lnTo>
                  <a:lnTo>
                    <a:pt x="1583" y="149"/>
                  </a:lnTo>
                  <a:lnTo>
                    <a:pt x="1578" y="144"/>
                  </a:lnTo>
                  <a:lnTo>
                    <a:pt x="1573" y="139"/>
                  </a:lnTo>
                  <a:lnTo>
                    <a:pt x="1573" y="134"/>
                  </a:lnTo>
                  <a:lnTo>
                    <a:pt x="1573" y="124"/>
                  </a:lnTo>
                  <a:lnTo>
                    <a:pt x="1583" y="119"/>
                  </a:lnTo>
                  <a:lnTo>
                    <a:pt x="1588" y="119"/>
                  </a:lnTo>
                  <a:lnTo>
                    <a:pt x="1598" y="114"/>
                  </a:lnTo>
                  <a:lnTo>
                    <a:pt x="1607" y="114"/>
                  </a:lnTo>
                  <a:lnTo>
                    <a:pt x="1617" y="119"/>
                  </a:lnTo>
                  <a:lnTo>
                    <a:pt x="1622" y="119"/>
                  </a:lnTo>
                  <a:lnTo>
                    <a:pt x="1632" y="119"/>
                  </a:lnTo>
                  <a:lnTo>
                    <a:pt x="1642" y="114"/>
                  </a:lnTo>
                  <a:lnTo>
                    <a:pt x="1652" y="114"/>
                  </a:lnTo>
                  <a:lnTo>
                    <a:pt x="1662" y="114"/>
                  </a:lnTo>
                  <a:lnTo>
                    <a:pt x="1667" y="119"/>
                  </a:lnTo>
                  <a:lnTo>
                    <a:pt x="1677" y="119"/>
                  </a:lnTo>
                  <a:lnTo>
                    <a:pt x="1682" y="124"/>
                  </a:lnTo>
                  <a:lnTo>
                    <a:pt x="1687" y="129"/>
                  </a:lnTo>
                  <a:lnTo>
                    <a:pt x="1691" y="134"/>
                  </a:lnTo>
                  <a:lnTo>
                    <a:pt x="1696" y="144"/>
                  </a:lnTo>
                  <a:lnTo>
                    <a:pt x="1696" y="149"/>
                  </a:lnTo>
                  <a:lnTo>
                    <a:pt x="1701" y="154"/>
                  </a:lnTo>
                  <a:lnTo>
                    <a:pt x="1706" y="154"/>
                  </a:lnTo>
                  <a:lnTo>
                    <a:pt x="1716" y="149"/>
                  </a:lnTo>
                  <a:lnTo>
                    <a:pt x="1726" y="144"/>
                  </a:lnTo>
                  <a:lnTo>
                    <a:pt x="1736" y="144"/>
                  </a:lnTo>
                  <a:lnTo>
                    <a:pt x="1741" y="149"/>
                  </a:lnTo>
                  <a:lnTo>
                    <a:pt x="1746" y="154"/>
                  </a:lnTo>
                  <a:lnTo>
                    <a:pt x="1746" y="163"/>
                  </a:lnTo>
                  <a:lnTo>
                    <a:pt x="1746" y="168"/>
                  </a:lnTo>
                  <a:lnTo>
                    <a:pt x="1741" y="173"/>
                  </a:lnTo>
                  <a:lnTo>
                    <a:pt x="1731" y="173"/>
                  </a:lnTo>
                  <a:lnTo>
                    <a:pt x="1721" y="173"/>
                  </a:lnTo>
                  <a:lnTo>
                    <a:pt x="1716" y="173"/>
                  </a:lnTo>
                  <a:lnTo>
                    <a:pt x="1706" y="168"/>
                  </a:lnTo>
                  <a:lnTo>
                    <a:pt x="1701" y="163"/>
                  </a:lnTo>
                  <a:lnTo>
                    <a:pt x="1696" y="159"/>
                  </a:lnTo>
                  <a:close/>
                  <a:moveTo>
                    <a:pt x="1365" y="134"/>
                  </a:moveTo>
                  <a:lnTo>
                    <a:pt x="1370" y="129"/>
                  </a:lnTo>
                  <a:lnTo>
                    <a:pt x="1375" y="124"/>
                  </a:lnTo>
                  <a:lnTo>
                    <a:pt x="1380" y="119"/>
                  </a:lnTo>
                  <a:lnTo>
                    <a:pt x="1385" y="119"/>
                  </a:lnTo>
                  <a:lnTo>
                    <a:pt x="1390" y="119"/>
                  </a:lnTo>
                  <a:lnTo>
                    <a:pt x="1395" y="119"/>
                  </a:lnTo>
                  <a:lnTo>
                    <a:pt x="1400" y="124"/>
                  </a:lnTo>
                  <a:lnTo>
                    <a:pt x="1410" y="129"/>
                  </a:lnTo>
                  <a:lnTo>
                    <a:pt x="1415" y="134"/>
                  </a:lnTo>
                  <a:lnTo>
                    <a:pt x="1415" y="134"/>
                  </a:lnTo>
                  <a:lnTo>
                    <a:pt x="1410" y="139"/>
                  </a:lnTo>
                  <a:lnTo>
                    <a:pt x="1400" y="144"/>
                  </a:lnTo>
                  <a:lnTo>
                    <a:pt x="1395" y="149"/>
                  </a:lnTo>
                  <a:lnTo>
                    <a:pt x="1390" y="149"/>
                  </a:lnTo>
                  <a:lnTo>
                    <a:pt x="1385" y="154"/>
                  </a:lnTo>
                  <a:lnTo>
                    <a:pt x="1380" y="154"/>
                  </a:lnTo>
                  <a:lnTo>
                    <a:pt x="1375" y="149"/>
                  </a:lnTo>
                  <a:lnTo>
                    <a:pt x="1370" y="144"/>
                  </a:lnTo>
                  <a:lnTo>
                    <a:pt x="1370" y="139"/>
                  </a:lnTo>
                  <a:lnTo>
                    <a:pt x="1365" y="134"/>
                  </a:lnTo>
                  <a:close/>
                  <a:moveTo>
                    <a:pt x="1444" y="104"/>
                  </a:moveTo>
                  <a:lnTo>
                    <a:pt x="1449" y="99"/>
                  </a:lnTo>
                  <a:lnTo>
                    <a:pt x="1454" y="94"/>
                  </a:lnTo>
                  <a:lnTo>
                    <a:pt x="1459" y="89"/>
                  </a:lnTo>
                  <a:lnTo>
                    <a:pt x="1469" y="89"/>
                  </a:lnTo>
                  <a:lnTo>
                    <a:pt x="1479" y="89"/>
                  </a:lnTo>
                  <a:lnTo>
                    <a:pt x="1489" y="89"/>
                  </a:lnTo>
                  <a:lnTo>
                    <a:pt x="1494" y="94"/>
                  </a:lnTo>
                  <a:lnTo>
                    <a:pt x="1504" y="99"/>
                  </a:lnTo>
                  <a:lnTo>
                    <a:pt x="1508" y="104"/>
                  </a:lnTo>
                  <a:lnTo>
                    <a:pt x="1508" y="109"/>
                  </a:lnTo>
                  <a:lnTo>
                    <a:pt x="1504" y="114"/>
                  </a:lnTo>
                  <a:lnTo>
                    <a:pt x="1499" y="119"/>
                  </a:lnTo>
                  <a:lnTo>
                    <a:pt x="1489" y="124"/>
                  </a:lnTo>
                  <a:lnTo>
                    <a:pt x="1479" y="124"/>
                  </a:lnTo>
                  <a:lnTo>
                    <a:pt x="1469" y="129"/>
                  </a:lnTo>
                  <a:lnTo>
                    <a:pt x="1464" y="129"/>
                  </a:lnTo>
                  <a:lnTo>
                    <a:pt x="1454" y="124"/>
                  </a:lnTo>
                  <a:lnTo>
                    <a:pt x="1449" y="119"/>
                  </a:lnTo>
                  <a:lnTo>
                    <a:pt x="1444" y="114"/>
                  </a:lnTo>
                  <a:lnTo>
                    <a:pt x="1444" y="104"/>
                  </a:lnTo>
                  <a:close/>
                  <a:moveTo>
                    <a:pt x="1523" y="79"/>
                  </a:moveTo>
                  <a:lnTo>
                    <a:pt x="1528" y="74"/>
                  </a:lnTo>
                  <a:lnTo>
                    <a:pt x="1533" y="70"/>
                  </a:lnTo>
                  <a:lnTo>
                    <a:pt x="1543" y="65"/>
                  </a:lnTo>
                  <a:lnTo>
                    <a:pt x="1548" y="60"/>
                  </a:lnTo>
                  <a:lnTo>
                    <a:pt x="1558" y="60"/>
                  </a:lnTo>
                  <a:lnTo>
                    <a:pt x="1568" y="60"/>
                  </a:lnTo>
                  <a:lnTo>
                    <a:pt x="1578" y="65"/>
                  </a:lnTo>
                  <a:lnTo>
                    <a:pt x="1588" y="70"/>
                  </a:lnTo>
                  <a:lnTo>
                    <a:pt x="1593" y="74"/>
                  </a:lnTo>
                  <a:lnTo>
                    <a:pt x="1593" y="79"/>
                  </a:lnTo>
                  <a:lnTo>
                    <a:pt x="1588" y="89"/>
                  </a:lnTo>
                  <a:lnTo>
                    <a:pt x="1583" y="94"/>
                  </a:lnTo>
                  <a:lnTo>
                    <a:pt x="1573" y="99"/>
                  </a:lnTo>
                  <a:lnTo>
                    <a:pt x="1563" y="99"/>
                  </a:lnTo>
                  <a:lnTo>
                    <a:pt x="1553" y="99"/>
                  </a:lnTo>
                  <a:lnTo>
                    <a:pt x="1543" y="99"/>
                  </a:lnTo>
                  <a:lnTo>
                    <a:pt x="1538" y="99"/>
                  </a:lnTo>
                  <a:lnTo>
                    <a:pt x="1528" y="94"/>
                  </a:lnTo>
                  <a:lnTo>
                    <a:pt x="1523" y="89"/>
                  </a:lnTo>
                  <a:lnTo>
                    <a:pt x="1523" y="79"/>
                  </a:lnTo>
                  <a:close/>
                </a:path>
              </a:pathLst>
            </a:custGeom>
            <a:solidFill>
              <a:srgbClr val="ffb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5" name=""/>
            <p:cNvSpPr/>
            <p:nvPr/>
          </p:nvSpPr>
          <p:spPr>
            <a:xfrm>
              <a:off x="2265120" y="2368440"/>
              <a:ext cx="4098960" cy="2628360"/>
            </a:xfrm>
            <a:custGeom>
              <a:avLst/>
              <a:gdLst/>
              <a:ahLst/>
              <a:rect l="l" t="t" r="r" b="b"/>
              <a:pathLst>
                <a:path w="2582" h="1656">
                  <a:moveTo>
                    <a:pt x="2235" y="1656"/>
                  </a:moveTo>
                  <a:lnTo>
                    <a:pt x="2260" y="1631"/>
                  </a:lnTo>
                  <a:lnTo>
                    <a:pt x="2285" y="1631"/>
                  </a:lnTo>
                  <a:lnTo>
                    <a:pt x="2315" y="1631"/>
                  </a:lnTo>
                  <a:lnTo>
                    <a:pt x="2339" y="1631"/>
                  </a:lnTo>
                  <a:lnTo>
                    <a:pt x="2369" y="1631"/>
                  </a:lnTo>
                  <a:lnTo>
                    <a:pt x="2394" y="1631"/>
                  </a:lnTo>
                  <a:lnTo>
                    <a:pt x="2418" y="1631"/>
                  </a:lnTo>
                  <a:lnTo>
                    <a:pt x="2448" y="1602"/>
                  </a:lnTo>
                  <a:lnTo>
                    <a:pt x="2448" y="1577"/>
                  </a:lnTo>
                  <a:lnTo>
                    <a:pt x="2448" y="1547"/>
                  </a:lnTo>
                  <a:lnTo>
                    <a:pt x="2448" y="1523"/>
                  </a:lnTo>
                  <a:lnTo>
                    <a:pt x="2473" y="1498"/>
                  </a:lnTo>
                  <a:lnTo>
                    <a:pt x="2473" y="1468"/>
                  </a:lnTo>
                  <a:lnTo>
                    <a:pt x="2473" y="1444"/>
                  </a:lnTo>
                  <a:lnTo>
                    <a:pt x="2473" y="1414"/>
                  </a:lnTo>
                  <a:lnTo>
                    <a:pt x="2503" y="1389"/>
                  </a:lnTo>
                  <a:lnTo>
                    <a:pt x="2503" y="1364"/>
                  </a:lnTo>
                  <a:lnTo>
                    <a:pt x="2503" y="1335"/>
                  </a:lnTo>
                  <a:lnTo>
                    <a:pt x="2503" y="1310"/>
                  </a:lnTo>
                  <a:lnTo>
                    <a:pt x="2527" y="1280"/>
                  </a:lnTo>
                  <a:lnTo>
                    <a:pt x="2527" y="1256"/>
                  </a:lnTo>
                  <a:lnTo>
                    <a:pt x="2527" y="1226"/>
                  </a:lnTo>
                  <a:lnTo>
                    <a:pt x="2527" y="1201"/>
                  </a:lnTo>
                  <a:lnTo>
                    <a:pt x="2552" y="1177"/>
                  </a:lnTo>
                  <a:lnTo>
                    <a:pt x="2552" y="1147"/>
                  </a:lnTo>
                  <a:lnTo>
                    <a:pt x="2552" y="1122"/>
                  </a:lnTo>
                  <a:lnTo>
                    <a:pt x="2552" y="1093"/>
                  </a:lnTo>
                  <a:lnTo>
                    <a:pt x="2582" y="1068"/>
                  </a:lnTo>
                  <a:lnTo>
                    <a:pt x="2582" y="1043"/>
                  </a:lnTo>
                  <a:lnTo>
                    <a:pt x="2582" y="1014"/>
                  </a:lnTo>
                  <a:lnTo>
                    <a:pt x="2582" y="989"/>
                  </a:lnTo>
                  <a:lnTo>
                    <a:pt x="2582" y="959"/>
                  </a:lnTo>
                  <a:lnTo>
                    <a:pt x="2582" y="934"/>
                  </a:lnTo>
                  <a:lnTo>
                    <a:pt x="2582" y="910"/>
                  </a:lnTo>
                  <a:lnTo>
                    <a:pt x="2582" y="880"/>
                  </a:lnTo>
                  <a:lnTo>
                    <a:pt x="2582" y="855"/>
                  </a:lnTo>
                  <a:lnTo>
                    <a:pt x="2582" y="826"/>
                  </a:lnTo>
                  <a:lnTo>
                    <a:pt x="2582" y="801"/>
                  </a:lnTo>
                  <a:lnTo>
                    <a:pt x="2582" y="776"/>
                  </a:lnTo>
                  <a:lnTo>
                    <a:pt x="2582" y="747"/>
                  </a:lnTo>
                  <a:lnTo>
                    <a:pt x="2582" y="722"/>
                  </a:lnTo>
                  <a:lnTo>
                    <a:pt x="2582" y="692"/>
                  </a:lnTo>
                  <a:lnTo>
                    <a:pt x="2582" y="668"/>
                  </a:lnTo>
                  <a:lnTo>
                    <a:pt x="2582" y="643"/>
                  </a:lnTo>
                  <a:lnTo>
                    <a:pt x="2582" y="613"/>
                  </a:lnTo>
                  <a:lnTo>
                    <a:pt x="2582" y="589"/>
                  </a:lnTo>
                  <a:lnTo>
                    <a:pt x="2582" y="559"/>
                  </a:lnTo>
                  <a:lnTo>
                    <a:pt x="2582" y="534"/>
                  </a:lnTo>
                  <a:lnTo>
                    <a:pt x="2582" y="504"/>
                  </a:lnTo>
                  <a:lnTo>
                    <a:pt x="2582" y="480"/>
                  </a:lnTo>
                  <a:lnTo>
                    <a:pt x="2582" y="455"/>
                  </a:lnTo>
                  <a:lnTo>
                    <a:pt x="2582" y="425"/>
                  </a:lnTo>
                  <a:lnTo>
                    <a:pt x="2582" y="401"/>
                  </a:lnTo>
                  <a:lnTo>
                    <a:pt x="2582" y="371"/>
                  </a:lnTo>
                  <a:lnTo>
                    <a:pt x="2582" y="346"/>
                  </a:lnTo>
                  <a:lnTo>
                    <a:pt x="2582" y="322"/>
                  </a:lnTo>
                  <a:lnTo>
                    <a:pt x="2582" y="292"/>
                  </a:lnTo>
                  <a:lnTo>
                    <a:pt x="2582" y="267"/>
                  </a:lnTo>
                  <a:lnTo>
                    <a:pt x="2582" y="238"/>
                  </a:lnTo>
                  <a:lnTo>
                    <a:pt x="2552" y="213"/>
                  </a:lnTo>
                  <a:lnTo>
                    <a:pt x="2552" y="188"/>
                  </a:lnTo>
                  <a:lnTo>
                    <a:pt x="2552" y="159"/>
                  </a:lnTo>
                  <a:lnTo>
                    <a:pt x="2552" y="134"/>
                  </a:lnTo>
                  <a:lnTo>
                    <a:pt x="2552" y="104"/>
                  </a:lnTo>
                  <a:lnTo>
                    <a:pt x="2527" y="79"/>
                  </a:lnTo>
                  <a:lnTo>
                    <a:pt x="2503" y="79"/>
                  </a:lnTo>
                  <a:lnTo>
                    <a:pt x="2473" y="79"/>
                  </a:lnTo>
                  <a:lnTo>
                    <a:pt x="2448" y="55"/>
                  </a:lnTo>
                  <a:lnTo>
                    <a:pt x="2418" y="55"/>
                  </a:lnTo>
                  <a:lnTo>
                    <a:pt x="2394" y="55"/>
                  </a:lnTo>
                  <a:lnTo>
                    <a:pt x="2369" y="25"/>
                  </a:lnTo>
                  <a:lnTo>
                    <a:pt x="2339" y="25"/>
                  </a:lnTo>
                  <a:lnTo>
                    <a:pt x="2315" y="25"/>
                  </a:lnTo>
                  <a:lnTo>
                    <a:pt x="2285" y="0"/>
                  </a:lnTo>
                  <a:lnTo>
                    <a:pt x="2260" y="0"/>
                  </a:lnTo>
                  <a:lnTo>
                    <a:pt x="2235" y="0"/>
                  </a:lnTo>
                  <a:lnTo>
                    <a:pt x="2206" y="0"/>
                  </a:lnTo>
                  <a:lnTo>
                    <a:pt x="2181" y="0"/>
                  </a:lnTo>
                  <a:lnTo>
                    <a:pt x="2156" y="0"/>
                  </a:lnTo>
                  <a:lnTo>
                    <a:pt x="2127" y="0"/>
                  </a:lnTo>
                  <a:lnTo>
                    <a:pt x="2102" y="0"/>
                  </a:lnTo>
                  <a:lnTo>
                    <a:pt x="2072" y="0"/>
                  </a:lnTo>
                  <a:lnTo>
                    <a:pt x="2048" y="0"/>
                  </a:lnTo>
                  <a:lnTo>
                    <a:pt x="2023" y="0"/>
                  </a:lnTo>
                  <a:lnTo>
                    <a:pt x="1993" y="0"/>
                  </a:lnTo>
                  <a:lnTo>
                    <a:pt x="1968" y="0"/>
                  </a:lnTo>
                  <a:lnTo>
                    <a:pt x="1944" y="0"/>
                  </a:lnTo>
                  <a:lnTo>
                    <a:pt x="1914" y="0"/>
                  </a:lnTo>
                  <a:lnTo>
                    <a:pt x="1889" y="0"/>
                  </a:lnTo>
                  <a:lnTo>
                    <a:pt x="1860" y="0"/>
                  </a:lnTo>
                  <a:lnTo>
                    <a:pt x="1835" y="0"/>
                  </a:lnTo>
                  <a:lnTo>
                    <a:pt x="1810" y="0"/>
                  </a:lnTo>
                  <a:lnTo>
                    <a:pt x="1780" y="0"/>
                  </a:lnTo>
                  <a:lnTo>
                    <a:pt x="1756" y="0"/>
                  </a:lnTo>
                  <a:lnTo>
                    <a:pt x="1726" y="0"/>
                  </a:lnTo>
                  <a:lnTo>
                    <a:pt x="1701" y="0"/>
                  </a:lnTo>
                  <a:lnTo>
                    <a:pt x="1677" y="0"/>
                  </a:lnTo>
                  <a:lnTo>
                    <a:pt x="1647" y="0"/>
                  </a:lnTo>
                  <a:lnTo>
                    <a:pt x="1622" y="0"/>
                  </a:lnTo>
                  <a:lnTo>
                    <a:pt x="1598" y="0"/>
                  </a:lnTo>
                  <a:lnTo>
                    <a:pt x="1568" y="0"/>
                  </a:lnTo>
                  <a:lnTo>
                    <a:pt x="1543" y="0"/>
                  </a:lnTo>
                  <a:lnTo>
                    <a:pt x="1513" y="0"/>
                  </a:lnTo>
                  <a:lnTo>
                    <a:pt x="1489" y="0"/>
                  </a:lnTo>
                  <a:lnTo>
                    <a:pt x="1464" y="0"/>
                  </a:lnTo>
                  <a:lnTo>
                    <a:pt x="1434" y="0"/>
                  </a:lnTo>
                  <a:lnTo>
                    <a:pt x="1410" y="0"/>
                  </a:lnTo>
                  <a:lnTo>
                    <a:pt x="1385" y="0"/>
                  </a:lnTo>
                  <a:lnTo>
                    <a:pt x="1355" y="0"/>
                  </a:lnTo>
                  <a:lnTo>
                    <a:pt x="1330" y="0"/>
                  </a:lnTo>
                  <a:lnTo>
                    <a:pt x="1301" y="0"/>
                  </a:lnTo>
                  <a:lnTo>
                    <a:pt x="1276" y="0"/>
                  </a:lnTo>
                  <a:lnTo>
                    <a:pt x="1251" y="0"/>
                  </a:lnTo>
                  <a:lnTo>
                    <a:pt x="1222" y="0"/>
                  </a:lnTo>
                  <a:lnTo>
                    <a:pt x="1197" y="0"/>
                  </a:lnTo>
                  <a:lnTo>
                    <a:pt x="1172" y="0"/>
                  </a:lnTo>
                  <a:lnTo>
                    <a:pt x="1143" y="0"/>
                  </a:lnTo>
                  <a:lnTo>
                    <a:pt x="1118" y="0"/>
                  </a:lnTo>
                  <a:lnTo>
                    <a:pt x="1088" y="0"/>
                  </a:lnTo>
                  <a:lnTo>
                    <a:pt x="1063" y="0"/>
                  </a:lnTo>
                  <a:lnTo>
                    <a:pt x="1039" y="0"/>
                  </a:lnTo>
                  <a:lnTo>
                    <a:pt x="1009" y="0"/>
                  </a:lnTo>
                  <a:lnTo>
                    <a:pt x="984" y="0"/>
                  </a:lnTo>
                  <a:lnTo>
                    <a:pt x="955" y="0"/>
                  </a:lnTo>
                  <a:lnTo>
                    <a:pt x="930" y="0"/>
                  </a:lnTo>
                  <a:lnTo>
                    <a:pt x="905" y="0"/>
                  </a:lnTo>
                  <a:lnTo>
                    <a:pt x="875" y="0"/>
                  </a:lnTo>
                  <a:lnTo>
                    <a:pt x="851" y="0"/>
                  </a:lnTo>
                  <a:lnTo>
                    <a:pt x="826" y="0"/>
                  </a:lnTo>
                  <a:lnTo>
                    <a:pt x="796" y="0"/>
                  </a:lnTo>
                  <a:lnTo>
                    <a:pt x="772" y="0"/>
                  </a:lnTo>
                  <a:lnTo>
                    <a:pt x="742" y="0"/>
                  </a:lnTo>
                  <a:lnTo>
                    <a:pt x="717" y="0"/>
                  </a:lnTo>
                  <a:lnTo>
                    <a:pt x="692" y="0"/>
                  </a:lnTo>
                  <a:lnTo>
                    <a:pt x="663" y="0"/>
                  </a:lnTo>
                  <a:lnTo>
                    <a:pt x="638" y="0"/>
                  </a:lnTo>
                  <a:lnTo>
                    <a:pt x="613" y="0"/>
                  </a:lnTo>
                  <a:lnTo>
                    <a:pt x="584" y="25"/>
                  </a:lnTo>
                  <a:lnTo>
                    <a:pt x="559" y="55"/>
                  </a:lnTo>
                  <a:lnTo>
                    <a:pt x="529" y="79"/>
                  </a:lnTo>
                  <a:lnTo>
                    <a:pt x="505" y="104"/>
                  </a:lnTo>
                  <a:lnTo>
                    <a:pt x="480" y="134"/>
                  </a:lnTo>
                  <a:lnTo>
                    <a:pt x="450" y="134"/>
                  </a:lnTo>
                  <a:lnTo>
                    <a:pt x="425" y="159"/>
                  </a:lnTo>
                  <a:lnTo>
                    <a:pt x="396" y="188"/>
                  </a:lnTo>
                  <a:lnTo>
                    <a:pt x="371" y="213"/>
                  </a:lnTo>
                  <a:lnTo>
                    <a:pt x="346" y="238"/>
                  </a:lnTo>
                  <a:lnTo>
                    <a:pt x="317" y="267"/>
                  </a:lnTo>
                  <a:lnTo>
                    <a:pt x="292" y="292"/>
                  </a:lnTo>
                  <a:lnTo>
                    <a:pt x="267" y="322"/>
                  </a:lnTo>
                  <a:lnTo>
                    <a:pt x="237" y="322"/>
                  </a:lnTo>
                  <a:lnTo>
                    <a:pt x="213" y="346"/>
                  </a:lnTo>
                  <a:lnTo>
                    <a:pt x="183" y="371"/>
                  </a:lnTo>
                  <a:lnTo>
                    <a:pt x="158" y="401"/>
                  </a:lnTo>
                  <a:lnTo>
                    <a:pt x="134" y="425"/>
                  </a:lnTo>
                  <a:lnTo>
                    <a:pt x="104" y="455"/>
                  </a:lnTo>
                  <a:lnTo>
                    <a:pt x="79" y="480"/>
                  </a:lnTo>
                  <a:lnTo>
                    <a:pt x="55" y="504"/>
                  </a:lnTo>
                  <a:lnTo>
                    <a:pt x="25" y="504"/>
                  </a:lnTo>
                  <a:lnTo>
                    <a:pt x="0" y="534"/>
                  </a:lnTo>
                  <a:lnTo>
                    <a:pt x="0" y="559"/>
                  </a:lnTo>
                  <a:lnTo>
                    <a:pt x="0" y="589"/>
                  </a:lnTo>
                  <a:lnTo>
                    <a:pt x="0" y="613"/>
                  </a:lnTo>
                  <a:lnTo>
                    <a:pt x="25" y="643"/>
                  </a:lnTo>
                  <a:lnTo>
                    <a:pt x="25" y="668"/>
                  </a:lnTo>
                  <a:lnTo>
                    <a:pt x="55" y="692"/>
                  </a:lnTo>
                  <a:lnTo>
                    <a:pt x="79" y="722"/>
                  </a:lnTo>
                  <a:lnTo>
                    <a:pt x="104" y="747"/>
                  </a:lnTo>
                  <a:lnTo>
                    <a:pt x="134" y="776"/>
                  </a:lnTo>
                  <a:lnTo>
                    <a:pt x="134" y="801"/>
                  </a:lnTo>
                  <a:lnTo>
                    <a:pt x="158" y="826"/>
                  </a:lnTo>
                  <a:lnTo>
                    <a:pt x="183" y="855"/>
                  </a:lnTo>
                  <a:lnTo>
                    <a:pt x="213" y="880"/>
                  </a:lnTo>
                  <a:lnTo>
                    <a:pt x="237" y="910"/>
                  </a:lnTo>
                  <a:lnTo>
                    <a:pt x="267" y="934"/>
                  </a:lnTo>
                  <a:lnTo>
                    <a:pt x="292" y="959"/>
                  </a:lnTo>
                  <a:lnTo>
                    <a:pt x="292" y="989"/>
                  </a:lnTo>
                  <a:lnTo>
                    <a:pt x="317" y="1014"/>
                  </a:lnTo>
                  <a:lnTo>
                    <a:pt x="346" y="1043"/>
                  </a:lnTo>
                  <a:lnTo>
                    <a:pt x="371" y="1068"/>
                  </a:lnTo>
                  <a:lnTo>
                    <a:pt x="396" y="1093"/>
                  </a:lnTo>
                  <a:lnTo>
                    <a:pt x="425" y="1122"/>
                  </a:lnTo>
                  <a:lnTo>
                    <a:pt x="450" y="1147"/>
                  </a:lnTo>
                  <a:lnTo>
                    <a:pt x="480" y="1177"/>
                  </a:lnTo>
                  <a:lnTo>
                    <a:pt x="505" y="1201"/>
                  </a:lnTo>
                  <a:lnTo>
                    <a:pt x="529" y="1226"/>
                  </a:lnTo>
                  <a:lnTo>
                    <a:pt x="559" y="1256"/>
                  </a:lnTo>
                  <a:lnTo>
                    <a:pt x="584" y="1280"/>
                  </a:lnTo>
                  <a:lnTo>
                    <a:pt x="613" y="1310"/>
                  </a:lnTo>
                  <a:lnTo>
                    <a:pt x="638" y="1335"/>
                  </a:lnTo>
                  <a:lnTo>
                    <a:pt x="663" y="1364"/>
                  </a:lnTo>
                  <a:lnTo>
                    <a:pt x="692" y="1389"/>
                  </a:lnTo>
                  <a:lnTo>
                    <a:pt x="717" y="1414"/>
                  </a:lnTo>
                  <a:lnTo>
                    <a:pt x="742" y="1444"/>
                  </a:lnTo>
                  <a:lnTo>
                    <a:pt x="772" y="1468"/>
                  </a:lnTo>
                  <a:lnTo>
                    <a:pt x="796" y="1468"/>
                  </a:lnTo>
                  <a:lnTo>
                    <a:pt x="826" y="1498"/>
                  </a:lnTo>
                  <a:lnTo>
                    <a:pt x="851" y="1523"/>
                  </a:lnTo>
                  <a:lnTo>
                    <a:pt x="875" y="1547"/>
                  </a:lnTo>
                  <a:lnTo>
                    <a:pt x="905" y="1577"/>
                  </a:lnTo>
                  <a:lnTo>
                    <a:pt x="930" y="1602"/>
                  </a:lnTo>
                  <a:lnTo>
                    <a:pt x="955" y="1631"/>
                  </a:lnTo>
                  <a:lnTo>
                    <a:pt x="984" y="1656"/>
                  </a:lnTo>
                  <a:lnTo>
                    <a:pt x="1009" y="1656"/>
                  </a:lnTo>
                  <a:lnTo>
                    <a:pt x="1039" y="1656"/>
                  </a:lnTo>
                  <a:lnTo>
                    <a:pt x="1063" y="1656"/>
                  </a:lnTo>
                  <a:lnTo>
                    <a:pt x="1088" y="1656"/>
                  </a:lnTo>
                  <a:lnTo>
                    <a:pt x="1118" y="1656"/>
                  </a:lnTo>
                  <a:lnTo>
                    <a:pt x="1143" y="1656"/>
                  </a:lnTo>
                  <a:lnTo>
                    <a:pt x="1172" y="1656"/>
                  </a:lnTo>
                  <a:lnTo>
                    <a:pt x="1197" y="1656"/>
                  </a:lnTo>
                  <a:lnTo>
                    <a:pt x="1222" y="1656"/>
                  </a:lnTo>
                  <a:lnTo>
                    <a:pt x="1251" y="1656"/>
                  </a:lnTo>
                  <a:lnTo>
                    <a:pt x="1276" y="1656"/>
                  </a:lnTo>
                  <a:lnTo>
                    <a:pt x="1301" y="1656"/>
                  </a:lnTo>
                  <a:lnTo>
                    <a:pt x="1330" y="1656"/>
                  </a:lnTo>
                  <a:lnTo>
                    <a:pt x="1355" y="1656"/>
                  </a:lnTo>
                  <a:lnTo>
                    <a:pt x="1385" y="1656"/>
                  </a:lnTo>
                  <a:lnTo>
                    <a:pt x="1410" y="1656"/>
                  </a:lnTo>
                  <a:lnTo>
                    <a:pt x="1434" y="1656"/>
                  </a:lnTo>
                  <a:lnTo>
                    <a:pt x="1464" y="1656"/>
                  </a:lnTo>
                  <a:lnTo>
                    <a:pt x="1489" y="1656"/>
                  </a:lnTo>
                  <a:lnTo>
                    <a:pt x="1513" y="1656"/>
                  </a:lnTo>
                  <a:lnTo>
                    <a:pt x="1543" y="1656"/>
                  </a:lnTo>
                  <a:lnTo>
                    <a:pt x="1568" y="1656"/>
                  </a:lnTo>
                  <a:lnTo>
                    <a:pt x="1598" y="1656"/>
                  </a:lnTo>
                  <a:lnTo>
                    <a:pt x="1622" y="1656"/>
                  </a:lnTo>
                  <a:lnTo>
                    <a:pt x="1647" y="1656"/>
                  </a:lnTo>
                  <a:lnTo>
                    <a:pt x="1677" y="1656"/>
                  </a:lnTo>
                  <a:lnTo>
                    <a:pt x="1701" y="1656"/>
                  </a:lnTo>
                  <a:lnTo>
                    <a:pt x="1726" y="1656"/>
                  </a:lnTo>
                  <a:lnTo>
                    <a:pt x="1756" y="1656"/>
                  </a:lnTo>
                  <a:lnTo>
                    <a:pt x="1780" y="1656"/>
                  </a:lnTo>
                  <a:lnTo>
                    <a:pt x="1810" y="1656"/>
                  </a:lnTo>
                  <a:lnTo>
                    <a:pt x="1835" y="1656"/>
                  </a:lnTo>
                  <a:lnTo>
                    <a:pt x="1860" y="1656"/>
                  </a:lnTo>
                  <a:lnTo>
                    <a:pt x="1889" y="1656"/>
                  </a:lnTo>
                  <a:lnTo>
                    <a:pt x="1914" y="1656"/>
                  </a:lnTo>
                  <a:lnTo>
                    <a:pt x="1944" y="1656"/>
                  </a:lnTo>
                  <a:lnTo>
                    <a:pt x="1968" y="1656"/>
                  </a:lnTo>
                  <a:lnTo>
                    <a:pt x="1993" y="1656"/>
                  </a:lnTo>
                  <a:lnTo>
                    <a:pt x="2023" y="1656"/>
                  </a:lnTo>
                  <a:lnTo>
                    <a:pt x="2048" y="1656"/>
                  </a:lnTo>
                  <a:lnTo>
                    <a:pt x="2072" y="1656"/>
                  </a:lnTo>
                  <a:lnTo>
                    <a:pt x="2102" y="1656"/>
                  </a:lnTo>
                  <a:lnTo>
                    <a:pt x="2127" y="1656"/>
                  </a:lnTo>
                  <a:lnTo>
                    <a:pt x="2156" y="1656"/>
                  </a:lnTo>
                  <a:lnTo>
                    <a:pt x="2181" y="1656"/>
                  </a:lnTo>
                  <a:lnTo>
                    <a:pt x="2206" y="1656"/>
                  </a:lnTo>
                  <a:lnTo>
                    <a:pt x="2235" y="1656"/>
                  </a:lnTo>
                  <a:close/>
                  <a:moveTo>
                    <a:pt x="1434" y="267"/>
                  </a:moveTo>
                  <a:lnTo>
                    <a:pt x="1434" y="262"/>
                  </a:lnTo>
                  <a:lnTo>
                    <a:pt x="1439" y="262"/>
                  </a:lnTo>
                  <a:lnTo>
                    <a:pt x="1439" y="262"/>
                  </a:lnTo>
                  <a:lnTo>
                    <a:pt x="1444" y="262"/>
                  </a:lnTo>
                  <a:lnTo>
                    <a:pt x="1449" y="257"/>
                  </a:lnTo>
                  <a:lnTo>
                    <a:pt x="1454" y="257"/>
                  </a:lnTo>
                  <a:lnTo>
                    <a:pt x="1459" y="262"/>
                  </a:lnTo>
                  <a:lnTo>
                    <a:pt x="1464" y="262"/>
                  </a:lnTo>
                  <a:lnTo>
                    <a:pt x="1469" y="262"/>
                  </a:lnTo>
                  <a:lnTo>
                    <a:pt x="1469" y="267"/>
                  </a:lnTo>
                  <a:lnTo>
                    <a:pt x="1469" y="267"/>
                  </a:lnTo>
                  <a:lnTo>
                    <a:pt x="1464" y="267"/>
                  </a:lnTo>
                  <a:lnTo>
                    <a:pt x="1459" y="272"/>
                  </a:lnTo>
                  <a:lnTo>
                    <a:pt x="1454" y="272"/>
                  </a:lnTo>
                  <a:lnTo>
                    <a:pt x="1449" y="272"/>
                  </a:lnTo>
                  <a:lnTo>
                    <a:pt x="1444" y="272"/>
                  </a:lnTo>
                  <a:lnTo>
                    <a:pt x="1444" y="272"/>
                  </a:lnTo>
                  <a:lnTo>
                    <a:pt x="1439" y="272"/>
                  </a:lnTo>
                  <a:lnTo>
                    <a:pt x="1434" y="267"/>
                  </a:lnTo>
                  <a:lnTo>
                    <a:pt x="1434" y="267"/>
                  </a:lnTo>
                  <a:close/>
                  <a:moveTo>
                    <a:pt x="1677" y="267"/>
                  </a:moveTo>
                  <a:lnTo>
                    <a:pt x="1672" y="262"/>
                  </a:lnTo>
                  <a:lnTo>
                    <a:pt x="1667" y="262"/>
                  </a:lnTo>
                  <a:lnTo>
                    <a:pt x="1657" y="257"/>
                  </a:lnTo>
                  <a:lnTo>
                    <a:pt x="1657" y="252"/>
                  </a:lnTo>
                  <a:lnTo>
                    <a:pt x="1652" y="247"/>
                  </a:lnTo>
                  <a:lnTo>
                    <a:pt x="1647" y="247"/>
                  </a:lnTo>
                  <a:lnTo>
                    <a:pt x="1642" y="243"/>
                  </a:lnTo>
                  <a:lnTo>
                    <a:pt x="1637" y="238"/>
                  </a:lnTo>
                  <a:lnTo>
                    <a:pt x="1637" y="233"/>
                  </a:lnTo>
                  <a:lnTo>
                    <a:pt x="1632" y="228"/>
                  </a:lnTo>
                  <a:lnTo>
                    <a:pt x="1627" y="223"/>
                  </a:lnTo>
                  <a:lnTo>
                    <a:pt x="1622" y="223"/>
                  </a:lnTo>
                  <a:lnTo>
                    <a:pt x="1617" y="223"/>
                  </a:lnTo>
                  <a:lnTo>
                    <a:pt x="1607" y="223"/>
                  </a:lnTo>
                  <a:lnTo>
                    <a:pt x="1602" y="223"/>
                  </a:lnTo>
                  <a:lnTo>
                    <a:pt x="1593" y="223"/>
                  </a:lnTo>
                  <a:lnTo>
                    <a:pt x="1583" y="223"/>
                  </a:lnTo>
                  <a:lnTo>
                    <a:pt x="1578" y="218"/>
                  </a:lnTo>
                  <a:lnTo>
                    <a:pt x="1573" y="218"/>
                  </a:lnTo>
                  <a:lnTo>
                    <a:pt x="1568" y="213"/>
                  </a:lnTo>
                  <a:lnTo>
                    <a:pt x="1573" y="208"/>
                  </a:lnTo>
                  <a:lnTo>
                    <a:pt x="1578" y="208"/>
                  </a:lnTo>
                  <a:lnTo>
                    <a:pt x="1583" y="203"/>
                  </a:lnTo>
                  <a:lnTo>
                    <a:pt x="1593" y="198"/>
                  </a:lnTo>
                  <a:lnTo>
                    <a:pt x="1598" y="198"/>
                  </a:lnTo>
                  <a:lnTo>
                    <a:pt x="1607" y="198"/>
                  </a:lnTo>
                  <a:lnTo>
                    <a:pt x="1617" y="198"/>
                  </a:lnTo>
                  <a:lnTo>
                    <a:pt x="1622" y="203"/>
                  </a:lnTo>
                  <a:lnTo>
                    <a:pt x="1627" y="203"/>
                  </a:lnTo>
                  <a:lnTo>
                    <a:pt x="1627" y="208"/>
                  </a:lnTo>
                  <a:lnTo>
                    <a:pt x="1632" y="213"/>
                  </a:lnTo>
                  <a:lnTo>
                    <a:pt x="1637" y="218"/>
                  </a:lnTo>
                  <a:lnTo>
                    <a:pt x="1642" y="223"/>
                  </a:lnTo>
                  <a:lnTo>
                    <a:pt x="1642" y="223"/>
                  </a:lnTo>
                  <a:lnTo>
                    <a:pt x="1647" y="228"/>
                  </a:lnTo>
                  <a:lnTo>
                    <a:pt x="1652" y="233"/>
                  </a:lnTo>
                  <a:lnTo>
                    <a:pt x="1657" y="238"/>
                  </a:lnTo>
                  <a:lnTo>
                    <a:pt x="1662" y="243"/>
                  </a:lnTo>
                  <a:lnTo>
                    <a:pt x="1662" y="243"/>
                  </a:lnTo>
                  <a:lnTo>
                    <a:pt x="1662" y="247"/>
                  </a:lnTo>
                  <a:lnTo>
                    <a:pt x="1667" y="252"/>
                  </a:lnTo>
                  <a:lnTo>
                    <a:pt x="1667" y="257"/>
                  </a:lnTo>
                  <a:lnTo>
                    <a:pt x="1672" y="262"/>
                  </a:lnTo>
                  <a:lnTo>
                    <a:pt x="1677" y="267"/>
                  </a:lnTo>
                  <a:close/>
                  <a:moveTo>
                    <a:pt x="1504" y="238"/>
                  </a:moveTo>
                  <a:lnTo>
                    <a:pt x="1504" y="238"/>
                  </a:lnTo>
                  <a:lnTo>
                    <a:pt x="1508" y="233"/>
                  </a:lnTo>
                  <a:lnTo>
                    <a:pt x="1513" y="228"/>
                  </a:lnTo>
                  <a:lnTo>
                    <a:pt x="1518" y="228"/>
                  </a:lnTo>
                  <a:lnTo>
                    <a:pt x="1518" y="228"/>
                  </a:lnTo>
                  <a:lnTo>
                    <a:pt x="1523" y="228"/>
                  </a:lnTo>
                  <a:lnTo>
                    <a:pt x="1528" y="233"/>
                  </a:lnTo>
                  <a:lnTo>
                    <a:pt x="1538" y="233"/>
                  </a:lnTo>
                  <a:lnTo>
                    <a:pt x="1543" y="238"/>
                  </a:lnTo>
                  <a:lnTo>
                    <a:pt x="1543" y="238"/>
                  </a:lnTo>
                  <a:lnTo>
                    <a:pt x="1543" y="243"/>
                  </a:lnTo>
                  <a:lnTo>
                    <a:pt x="1538" y="243"/>
                  </a:lnTo>
                  <a:lnTo>
                    <a:pt x="1533" y="247"/>
                  </a:lnTo>
                  <a:lnTo>
                    <a:pt x="1528" y="247"/>
                  </a:lnTo>
                  <a:lnTo>
                    <a:pt x="1523" y="247"/>
                  </a:lnTo>
                  <a:lnTo>
                    <a:pt x="1518" y="247"/>
                  </a:lnTo>
                  <a:lnTo>
                    <a:pt x="1513" y="247"/>
                  </a:lnTo>
                  <a:lnTo>
                    <a:pt x="1508" y="247"/>
                  </a:lnTo>
                  <a:lnTo>
                    <a:pt x="1508" y="243"/>
                  </a:lnTo>
                  <a:lnTo>
                    <a:pt x="1504" y="238"/>
                  </a:lnTo>
                  <a:close/>
                  <a:moveTo>
                    <a:pt x="1370" y="213"/>
                  </a:moveTo>
                  <a:lnTo>
                    <a:pt x="1375" y="208"/>
                  </a:lnTo>
                  <a:lnTo>
                    <a:pt x="1375" y="203"/>
                  </a:lnTo>
                  <a:lnTo>
                    <a:pt x="1380" y="203"/>
                  </a:lnTo>
                  <a:lnTo>
                    <a:pt x="1385" y="203"/>
                  </a:lnTo>
                  <a:lnTo>
                    <a:pt x="1390" y="203"/>
                  </a:lnTo>
                  <a:lnTo>
                    <a:pt x="1395" y="208"/>
                  </a:lnTo>
                  <a:lnTo>
                    <a:pt x="1395" y="213"/>
                  </a:lnTo>
                  <a:lnTo>
                    <a:pt x="1395" y="218"/>
                  </a:lnTo>
                  <a:lnTo>
                    <a:pt x="1390" y="218"/>
                  </a:lnTo>
                  <a:lnTo>
                    <a:pt x="1385" y="223"/>
                  </a:lnTo>
                  <a:lnTo>
                    <a:pt x="1380" y="223"/>
                  </a:lnTo>
                  <a:lnTo>
                    <a:pt x="1375" y="223"/>
                  </a:lnTo>
                  <a:lnTo>
                    <a:pt x="1375" y="218"/>
                  </a:lnTo>
                  <a:lnTo>
                    <a:pt x="1370" y="213"/>
                  </a:lnTo>
                  <a:close/>
                  <a:moveTo>
                    <a:pt x="1855" y="213"/>
                  </a:moveTo>
                  <a:lnTo>
                    <a:pt x="1860" y="208"/>
                  </a:lnTo>
                  <a:lnTo>
                    <a:pt x="1865" y="203"/>
                  </a:lnTo>
                  <a:lnTo>
                    <a:pt x="1870" y="198"/>
                  </a:lnTo>
                  <a:lnTo>
                    <a:pt x="1870" y="193"/>
                  </a:lnTo>
                  <a:lnTo>
                    <a:pt x="1874" y="188"/>
                  </a:lnTo>
                  <a:lnTo>
                    <a:pt x="1874" y="183"/>
                  </a:lnTo>
                  <a:lnTo>
                    <a:pt x="1870" y="178"/>
                  </a:lnTo>
                  <a:lnTo>
                    <a:pt x="1860" y="178"/>
                  </a:lnTo>
                  <a:lnTo>
                    <a:pt x="1855" y="173"/>
                  </a:lnTo>
                  <a:lnTo>
                    <a:pt x="1845" y="178"/>
                  </a:lnTo>
                  <a:lnTo>
                    <a:pt x="1835" y="173"/>
                  </a:lnTo>
                  <a:lnTo>
                    <a:pt x="1830" y="173"/>
                  </a:lnTo>
                  <a:lnTo>
                    <a:pt x="1825" y="168"/>
                  </a:lnTo>
                  <a:lnTo>
                    <a:pt x="1820" y="163"/>
                  </a:lnTo>
                  <a:lnTo>
                    <a:pt x="1815" y="159"/>
                  </a:lnTo>
                  <a:lnTo>
                    <a:pt x="1815" y="154"/>
                  </a:lnTo>
                  <a:lnTo>
                    <a:pt x="1805" y="154"/>
                  </a:lnTo>
                  <a:lnTo>
                    <a:pt x="1800" y="149"/>
                  </a:lnTo>
                  <a:lnTo>
                    <a:pt x="1790" y="149"/>
                  </a:lnTo>
                  <a:lnTo>
                    <a:pt x="1785" y="149"/>
                  </a:lnTo>
                  <a:lnTo>
                    <a:pt x="1776" y="149"/>
                  </a:lnTo>
                  <a:lnTo>
                    <a:pt x="1771" y="144"/>
                  </a:lnTo>
                  <a:lnTo>
                    <a:pt x="1766" y="139"/>
                  </a:lnTo>
                  <a:lnTo>
                    <a:pt x="1766" y="134"/>
                  </a:lnTo>
                  <a:lnTo>
                    <a:pt x="1761" y="129"/>
                  </a:lnTo>
                  <a:lnTo>
                    <a:pt x="1756" y="124"/>
                  </a:lnTo>
                  <a:lnTo>
                    <a:pt x="1746" y="124"/>
                  </a:lnTo>
                  <a:lnTo>
                    <a:pt x="1736" y="124"/>
                  </a:lnTo>
                  <a:lnTo>
                    <a:pt x="1731" y="124"/>
                  </a:lnTo>
                  <a:lnTo>
                    <a:pt x="1721" y="119"/>
                  </a:lnTo>
                  <a:lnTo>
                    <a:pt x="1716" y="119"/>
                  </a:lnTo>
                  <a:lnTo>
                    <a:pt x="1716" y="114"/>
                  </a:lnTo>
                  <a:lnTo>
                    <a:pt x="1711" y="109"/>
                  </a:lnTo>
                  <a:lnTo>
                    <a:pt x="1706" y="104"/>
                  </a:lnTo>
                  <a:lnTo>
                    <a:pt x="1701" y="99"/>
                  </a:lnTo>
                  <a:lnTo>
                    <a:pt x="1691" y="99"/>
                  </a:lnTo>
                  <a:lnTo>
                    <a:pt x="1682" y="99"/>
                  </a:lnTo>
                  <a:lnTo>
                    <a:pt x="1677" y="94"/>
                  </a:lnTo>
                  <a:lnTo>
                    <a:pt x="1672" y="94"/>
                  </a:lnTo>
                  <a:lnTo>
                    <a:pt x="1667" y="89"/>
                  </a:lnTo>
                  <a:lnTo>
                    <a:pt x="1662" y="84"/>
                  </a:lnTo>
                  <a:lnTo>
                    <a:pt x="1657" y="79"/>
                  </a:lnTo>
                  <a:lnTo>
                    <a:pt x="1652" y="74"/>
                  </a:lnTo>
                  <a:lnTo>
                    <a:pt x="1642" y="74"/>
                  </a:lnTo>
                  <a:lnTo>
                    <a:pt x="1637" y="74"/>
                  </a:lnTo>
                  <a:lnTo>
                    <a:pt x="1627" y="74"/>
                  </a:lnTo>
                  <a:lnTo>
                    <a:pt x="1617" y="70"/>
                  </a:lnTo>
                  <a:lnTo>
                    <a:pt x="1612" y="70"/>
                  </a:lnTo>
                  <a:lnTo>
                    <a:pt x="1607" y="65"/>
                  </a:lnTo>
                  <a:lnTo>
                    <a:pt x="1602" y="60"/>
                  </a:lnTo>
                  <a:lnTo>
                    <a:pt x="1602" y="55"/>
                  </a:lnTo>
                  <a:lnTo>
                    <a:pt x="1602" y="50"/>
                  </a:lnTo>
                  <a:lnTo>
                    <a:pt x="1607" y="45"/>
                  </a:lnTo>
                  <a:lnTo>
                    <a:pt x="1617" y="40"/>
                  </a:lnTo>
                  <a:lnTo>
                    <a:pt x="1622" y="35"/>
                  </a:lnTo>
                  <a:lnTo>
                    <a:pt x="1632" y="35"/>
                  </a:lnTo>
                  <a:lnTo>
                    <a:pt x="1637" y="35"/>
                  </a:lnTo>
                  <a:lnTo>
                    <a:pt x="1647" y="35"/>
                  </a:lnTo>
                  <a:lnTo>
                    <a:pt x="1657" y="35"/>
                  </a:lnTo>
                  <a:lnTo>
                    <a:pt x="1662" y="35"/>
                  </a:lnTo>
                  <a:lnTo>
                    <a:pt x="1672" y="40"/>
                  </a:lnTo>
                  <a:lnTo>
                    <a:pt x="1677" y="40"/>
                  </a:lnTo>
                  <a:lnTo>
                    <a:pt x="1682" y="45"/>
                  </a:lnTo>
                  <a:lnTo>
                    <a:pt x="1687" y="50"/>
                  </a:lnTo>
                  <a:lnTo>
                    <a:pt x="1691" y="55"/>
                  </a:lnTo>
                  <a:lnTo>
                    <a:pt x="1701" y="55"/>
                  </a:lnTo>
                  <a:lnTo>
                    <a:pt x="1706" y="60"/>
                  </a:lnTo>
                  <a:lnTo>
                    <a:pt x="1716" y="60"/>
                  </a:lnTo>
                  <a:lnTo>
                    <a:pt x="1721" y="60"/>
                  </a:lnTo>
                  <a:lnTo>
                    <a:pt x="1731" y="60"/>
                  </a:lnTo>
                  <a:lnTo>
                    <a:pt x="1741" y="60"/>
                  </a:lnTo>
                  <a:lnTo>
                    <a:pt x="1746" y="60"/>
                  </a:lnTo>
                  <a:lnTo>
                    <a:pt x="1756" y="60"/>
                  </a:lnTo>
                  <a:lnTo>
                    <a:pt x="1761" y="65"/>
                  </a:lnTo>
                  <a:lnTo>
                    <a:pt x="1771" y="65"/>
                  </a:lnTo>
                  <a:lnTo>
                    <a:pt x="1776" y="65"/>
                  </a:lnTo>
                  <a:lnTo>
                    <a:pt x="1785" y="70"/>
                  </a:lnTo>
                  <a:lnTo>
                    <a:pt x="1790" y="74"/>
                  </a:lnTo>
                  <a:lnTo>
                    <a:pt x="1795" y="79"/>
                  </a:lnTo>
                  <a:lnTo>
                    <a:pt x="1800" y="84"/>
                  </a:lnTo>
                  <a:lnTo>
                    <a:pt x="1805" y="84"/>
                  </a:lnTo>
                  <a:lnTo>
                    <a:pt x="1815" y="89"/>
                  </a:lnTo>
                  <a:lnTo>
                    <a:pt x="1820" y="89"/>
                  </a:lnTo>
                  <a:lnTo>
                    <a:pt x="1830" y="89"/>
                  </a:lnTo>
                  <a:lnTo>
                    <a:pt x="1835" y="89"/>
                  </a:lnTo>
                  <a:lnTo>
                    <a:pt x="1845" y="89"/>
                  </a:lnTo>
                  <a:lnTo>
                    <a:pt x="1855" y="89"/>
                  </a:lnTo>
                  <a:lnTo>
                    <a:pt x="1860" y="89"/>
                  </a:lnTo>
                  <a:lnTo>
                    <a:pt x="1870" y="89"/>
                  </a:lnTo>
                  <a:lnTo>
                    <a:pt x="1879" y="94"/>
                  </a:lnTo>
                  <a:lnTo>
                    <a:pt x="1884" y="94"/>
                  </a:lnTo>
                  <a:lnTo>
                    <a:pt x="1889" y="99"/>
                  </a:lnTo>
                  <a:lnTo>
                    <a:pt x="1894" y="104"/>
                  </a:lnTo>
                  <a:lnTo>
                    <a:pt x="1899" y="109"/>
                  </a:lnTo>
                  <a:lnTo>
                    <a:pt x="1904" y="114"/>
                  </a:lnTo>
                  <a:lnTo>
                    <a:pt x="1909" y="114"/>
                  </a:lnTo>
                  <a:lnTo>
                    <a:pt x="1914" y="119"/>
                  </a:lnTo>
                  <a:lnTo>
                    <a:pt x="1924" y="119"/>
                  </a:lnTo>
                  <a:lnTo>
                    <a:pt x="1934" y="119"/>
                  </a:lnTo>
                  <a:lnTo>
                    <a:pt x="1939" y="119"/>
                  </a:lnTo>
                  <a:lnTo>
                    <a:pt x="1949" y="124"/>
                  </a:lnTo>
                  <a:lnTo>
                    <a:pt x="1954" y="124"/>
                  </a:lnTo>
                  <a:lnTo>
                    <a:pt x="1963" y="124"/>
                  </a:lnTo>
                  <a:lnTo>
                    <a:pt x="1973" y="124"/>
                  </a:lnTo>
                  <a:lnTo>
                    <a:pt x="1983" y="124"/>
                  </a:lnTo>
                  <a:lnTo>
                    <a:pt x="1988" y="124"/>
                  </a:lnTo>
                  <a:lnTo>
                    <a:pt x="1998" y="124"/>
                  </a:lnTo>
                  <a:lnTo>
                    <a:pt x="2003" y="129"/>
                  </a:lnTo>
                  <a:lnTo>
                    <a:pt x="2003" y="134"/>
                  </a:lnTo>
                  <a:lnTo>
                    <a:pt x="2008" y="139"/>
                  </a:lnTo>
                  <a:lnTo>
                    <a:pt x="2008" y="149"/>
                  </a:lnTo>
                  <a:lnTo>
                    <a:pt x="2013" y="149"/>
                  </a:lnTo>
                  <a:lnTo>
                    <a:pt x="2018" y="154"/>
                  </a:lnTo>
                  <a:lnTo>
                    <a:pt x="2023" y="159"/>
                  </a:lnTo>
                  <a:lnTo>
                    <a:pt x="2033" y="159"/>
                  </a:lnTo>
                  <a:lnTo>
                    <a:pt x="2038" y="159"/>
                  </a:lnTo>
                  <a:lnTo>
                    <a:pt x="2038" y="163"/>
                  </a:lnTo>
                  <a:lnTo>
                    <a:pt x="2038" y="168"/>
                  </a:lnTo>
                  <a:lnTo>
                    <a:pt x="2033" y="173"/>
                  </a:lnTo>
                  <a:lnTo>
                    <a:pt x="2028" y="178"/>
                  </a:lnTo>
                  <a:lnTo>
                    <a:pt x="2023" y="183"/>
                  </a:lnTo>
                  <a:lnTo>
                    <a:pt x="2018" y="188"/>
                  </a:lnTo>
                  <a:lnTo>
                    <a:pt x="2018" y="193"/>
                  </a:lnTo>
                  <a:lnTo>
                    <a:pt x="2013" y="198"/>
                  </a:lnTo>
                  <a:lnTo>
                    <a:pt x="2008" y="203"/>
                  </a:lnTo>
                  <a:lnTo>
                    <a:pt x="2008" y="208"/>
                  </a:lnTo>
                  <a:lnTo>
                    <a:pt x="2003" y="213"/>
                  </a:lnTo>
                  <a:lnTo>
                    <a:pt x="2003" y="218"/>
                  </a:lnTo>
                  <a:lnTo>
                    <a:pt x="1998" y="223"/>
                  </a:lnTo>
                  <a:lnTo>
                    <a:pt x="1993" y="228"/>
                  </a:lnTo>
                  <a:lnTo>
                    <a:pt x="1988" y="233"/>
                  </a:lnTo>
                  <a:lnTo>
                    <a:pt x="1978" y="233"/>
                  </a:lnTo>
                  <a:lnTo>
                    <a:pt x="1973" y="233"/>
                  </a:lnTo>
                  <a:lnTo>
                    <a:pt x="1963" y="233"/>
                  </a:lnTo>
                  <a:lnTo>
                    <a:pt x="1959" y="233"/>
                  </a:lnTo>
                  <a:lnTo>
                    <a:pt x="1949" y="228"/>
                  </a:lnTo>
                  <a:lnTo>
                    <a:pt x="1944" y="223"/>
                  </a:lnTo>
                  <a:lnTo>
                    <a:pt x="1939" y="218"/>
                  </a:lnTo>
                  <a:lnTo>
                    <a:pt x="1934" y="218"/>
                  </a:lnTo>
                  <a:lnTo>
                    <a:pt x="1929" y="213"/>
                  </a:lnTo>
                  <a:lnTo>
                    <a:pt x="1924" y="208"/>
                  </a:lnTo>
                  <a:lnTo>
                    <a:pt x="1919" y="203"/>
                  </a:lnTo>
                  <a:lnTo>
                    <a:pt x="1909" y="203"/>
                  </a:lnTo>
                  <a:lnTo>
                    <a:pt x="1904" y="198"/>
                  </a:lnTo>
                  <a:lnTo>
                    <a:pt x="1894" y="198"/>
                  </a:lnTo>
                  <a:lnTo>
                    <a:pt x="1884" y="198"/>
                  </a:lnTo>
                  <a:lnTo>
                    <a:pt x="1879" y="203"/>
                  </a:lnTo>
                  <a:lnTo>
                    <a:pt x="1874" y="203"/>
                  </a:lnTo>
                  <a:lnTo>
                    <a:pt x="1870" y="208"/>
                  </a:lnTo>
                  <a:lnTo>
                    <a:pt x="1865" y="213"/>
                  </a:lnTo>
                  <a:lnTo>
                    <a:pt x="1860" y="218"/>
                  </a:lnTo>
                  <a:lnTo>
                    <a:pt x="1855" y="213"/>
                  </a:lnTo>
                  <a:close/>
                  <a:moveTo>
                    <a:pt x="1444" y="188"/>
                  </a:moveTo>
                  <a:lnTo>
                    <a:pt x="1449" y="183"/>
                  </a:lnTo>
                  <a:lnTo>
                    <a:pt x="1454" y="178"/>
                  </a:lnTo>
                  <a:lnTo>
                    <a:pt x="1459" y="178"/>
                  </a:lnTo>
                  <a:lnTo>
                    <a:pt x="1469" y="178"/>
                  </a:lnTo>
                  <a:lnTo>
                    <a:pt x="1474" y="178"/>
                  </a:lnTo>
                  <a:lnTo>
                    <a:pt x="1479" y="183"/>
                  </a:lnTo>
                  <a:lnTo>
                    <a:pt x="1479" y="188"/>
                  </a:lnTo>
                  <a:lnTo>
                    <a:pt x="1474" y="193"/>
                  </a:lnTo>
                  <a:lnTo>
                    <a:pt x="1469" y="193"/>
                  </a:lnTo>
                  <a:lnTo>
                    <a:pt x="1464" y="198"/>
                  </a:lnTo>
                  <a:lnTo>
                    <a:pt x="1459" y="198"/>
                  </a:lnTo>
                  <a:lnTo>
                    <a:pt x="1454" y="193"/>
                  </a:lnTo>
                  <a:lnTo>
                    <a:pt x="1449" y="193"/>
                  </a:lnTo>
                  <a:lnTo>
                    <a:pt x="1444" y="188"/>
                  </a:lnTo>
                  <a:close/>
                  <a:moveTo>
                    <a:pt x="1766" y="188"/>
                  </a:moveTo>
                  <a:lnTo>
                    <a:pt x="1771" y="183"/>
                  </a:lnTo>
                  <a:lnTo>
                    <a:pt x="1776" y="178"/>
                  </a:lnTo>
                  <a:lnTo>
                    <a:pt x="1780" y="178"/>
                  </a:lnTo>
                  <a:lnTo>
                    <a:pt x="1785" y="178"/>
                  </a:lnTo>
                  <a:lnTo>
                    <a:pt x="1795" y="178"/>
                  </a:lnTo>
                  <a:lnTo>
                    <a:pt x="1800" y="183"/>
                  </a:lnTo>
                  <a:lnTo>
                    <a:pt x="1800" y="188"/>
                  </a:lnTo>
                  <a:lnTo>
                    <a:pt x="1800" y="193"/>
                  </a:lnTo>
                  <a:lnTo>
                    <a:pt x="1795" y="193"/>
                  </a:lnTo>
                  <a:lnTo>
                    <a:pt x="1785" y="198"/>
                  </a:lnTo>
                  <a:lnTo>
                    <a:pt x="1780" y="198"/>
                  </a:lnTo>
                  <a:lnTo>
                    <a:pt x="1776" y="193"/>
                  </a:lnTo>
                  <a:lnTo>
                    <a:pt x="1771" y="193"/>
                  </a:lnTo>
                  <a:lnTo>
                    <a:pt x="1766" y="188"/>
                  </a:lnTo>
                  <a:close/>
                  <a:moveTo>
                    <a:pt x="1291" y="159"/>
                  </a:moveTo>
                  <a:lnTo>
                    <a:pt x="1291" y="154"/>
                  </a:lnTo>
                  <a:lnTo>
                    <a:pt x="1296" y="149"/>
                  </a:lnTo>
                  <a:lnTo>
                    <a:pt x="1301" y="149"/>
                  </a:lnTo>
                  <a:lnTo>
                    <a:pt x="1306" y="149"/>
                  </a:lnTo>
                  <a:lnTo>
                    <a:pt x="1311" y="154"/>
                  </a:lnTo>
                  <a:lnTo>
                    <a:pt x="1316" y="159"/>
                  </a:lnTo>
                  <a:lnTo>
                    <a:pt x="1316" y="163"/>
                  </a:lnTo>
                  <a:lnTo>
                    <a:pt x="1311" y="168"/>
                  </a:lnTo>
                  <a:lnTo>
                    <a:pt x="1306" y="173"/>
                  </a:lnTo>
                  <a:lnTo>
                    <a:pt x="1306" y="173"/>
                  </a:lnTo>
                  <a:lnTo>
                    <a:pt x="1301" y="173"/>
                  </a:lnTo>
                  <a:lnTo>
                    <a:pt x="1296" y="168"/>
                  </a:lnTo>
                  <a:lnTo>
                    <a:pt x="1291" y="168"/>
                  </a:lnTo>
                  <a:lnTo>
                    <a:pt x="1291" y="159"/>
                  </a:lnTo>
                  <a:close/>
                  <a:moveTo>
                    <a:pt x="1499" y="159"/>
                  </a:moveTo>
                  <a:lnTo>
                    <a:pt x="1504" y="154"/>
                  </a:lnTo>
                  <a:lnTo>
                    <a:pt x="1508" y="149"/>
                  </a:lnTo>
                  <a:lnTo>
                    <a:pt x="1513" y="149"/>
                  </a:lnTo>
                  <a:lnTo>
                    <a:pt x="1523" y="149"/>
                  </a:lnTo>
                  <a:lnTo>
                    <a:pt x="1528" y="149"/>
                  </a:lnTo>
                  <a:lnTo>
                    <a:pt x="1538" y="149"/>
                  </a:lnTo>
                  <a:lnTo>
                    <a:pt x="1548" y="149"/>
                  </a:lnTo>
                  <a:lnTo>
                    <a:pt x="1553" y="154"/>
                  </a:lnTo>
                  <a:lnTo>
                    <a:pt x="1558" y="159"/>
                  </a:lnTo>
                  <a:lnTo>
                    <a:pt x="1558" y="163"/>
                  </a:lnTo>
                  <a:lnTo>
                    <a:pt x="1558" y="163"/>
                  </a:lnTo>
                  <a:lnTo>
                    <a:pt x="1553" y="168"/>
                  </a:lnTo>
                  <a:lnTo>
                    <a:pt x="1543" y="173"/>
                  </a:lnTo>
                  <a:lnTo>
                    <a:pt x="1533" y="173"/>
                  </a:lnTo>
                  <a:lnTo>
                    <a:pt x="1528" y="173"/>
                  </a:lnTo>
                  <a:lnTo>
                    <a:pt x="1518" y="173"/>
                  </a:lnTo>
                  <a:lnTo>
                    <a:pt x="1513" y="173"/>
                  </a:lnTo>
                  <a:lnTo>
                    <a:pt x="1508" y="168"/>
                  </a:lnTo>
                  <a:lnTo>
                    <a:pt x="1504" y="163"/>
                  </a:lnTo>
                  <a:lnTo>
                    <a:pt x="1499" y="159"/>
                  </a:lnTo>
                  <a:close/>
                  <a:moveTo>
                    <a:pt x="1696" y="159"/>
                  </a:moveTo>
                  <a:lnTo>
                    <a:pt x="1687" y="154"/>
                  </a:lnTo>
                  <a:lnTo>
                    <a:pt x="1682" y="149"/>
                  </a:lnTo>
                  <a:lnTo>
                    <a:pt x="1672" y="149"/>
                  </a:lnTo>
                  <a:lnTo>
                    <a:pt x="1667" y="149"/>
                  </a:lnTo>
                  <a:lnTo>
                    <a:pt x="1657" y="149"/>
                  </a:lnTo>
                  <a:lnTo>
                    <a:pt x="1647" y="149"/>
                  </a:lnTo>
                  <a:lnTo>
                    <a:pt x="1637" y="149"/>
                  </a:lnTo>
                  <a:lnTo>
                    <a:pt x="1627" y="149"/>
                  </a:lnTo>
                  <a:lnTo>
                    <a:pt x="1617" y="149"/>
                  </a:lnTo>
                  <a:lnTo>
                    <a:pt x="1612" y="149"/>
                  </a:lnTo>
                  <a:lnTo>
                    <a:pt x="1602" y="154"/>
                  </a:lnTo>
                  <a:lnTo>
                    <a:pt x="1593" y="149"/>
                  </a:lnTo>
                  <a:lnTo>
                    <a:pt x="1583" y="149"/>
                  </a:lnTo>
                  <a:lnTo>
                    <a:pt x="1578" y="144"/>
                  </a:lnTo>
                  <a:lnTo>
                    <a:pt x="1573" y="139"/>
                  </a:lnTo>
                  <a:lnTo>
                    <a:pt x="1573" y="134"/>
                  </a:lnTo>
                  <a:lnTo>
                    <a:pt x="1573" y="124"/>
                  </a:lnTo>
                  <a:lnTo>
                    <a:pt x="1583" y="119"/>
                  </a:lnTo>
                  <a:lnTo>
                    <a:pt x="1588" y="119"/>
                  </a:lnTo>
                  <a:lnTo>
                    <a:pt x="1598" y="114"/>
                  </a:lnTo>
                  <a:lnTo>
                    <a:pt x="1607" y="114"/>
                  </a:lnTo>
                  <a:lnTo>
                    <a:pt x="1617" y="119"/>
                  </a:lnTo>
                  <a:lnTo>
                    <a:pt x="1622" y="119"/>
                  </a:lnTo>
                  <a:lnTo>
                    <a:pt x="1632" y="119"/>
                  </a:lnTo>
                  <a:lnTo>
                    <a:pt x="1642" y="114"/>
                  </a:lnTo>
                  <a:lnTo>
                    <a:pt x="1652" y="114"/>
                  </a:lnTo>
                  <a:lnTo>
                    <a:pt x="1662" y="114"/>
                  </a:lnTo>
                  <a:lnTo>
                    <a:pt x="1667" y="119"/>
                  </a:lnTo>
                  <a:lnTo>
                    <a:pt x="1677" y="119"/>
                  </a:lnTo>
                  <a:lnTo>
                    <a:pt x="1682" y="124"/>
                  </a:lnTo>
                  <a:lnTo>
                    <a:pt x="1687" y="129"/>
                  </a:lnTo>
                  <a:lnTo>
                    <a:pt x="1691" y="134"/>
                  </a:lnTo>
                  <a:lnTo>
                    <a:pt x="1696" y="144"/>
                  </a:lnTo>
                  <a:lnTo>
                    <a:pt x="1696" y="149"/>
                  </a:lnTo>
                  <a:lnTo>
                    <a:pt x="1701" y="154"/>
                  </a:lnTo>
                  <a:lnTo>
                    <a:pt x="1706" y="154"/>
                  </a:lnTo>
                  <a:lnTo>
                    <a:pt x="1716" y="149"/>
                  </a:lnTo>
                  <a:lnTo>
                    <a:pt x="1726" y="144"/>
                  </a:lnTo>
                  <a:lnTo>
                    <a:pt x="1736" y="144"/>
                  </a:lnTo>
                  <a:lnTo>
                    <a:pt x="1741" y="149"/>
                  </a:lnTo>
                  <a:lnTo>
                    <a:pt x="1746" y="154"/>
                  </a:lnTo>
                  <a:lnTo>
                    <a:pt x="1746" y="163"/>
                  </a:lnTo>
                  <a:lnTo>
                    <a:pt x="1746" y="168"/>
                  </a:lnTo>
                  <a:lnTo>
                    <a:pt x="1741" y="173"/>
                  </a:lnTo>
                  <a:lnTo>
                    <a:pt x="1731" y="173"/>
                  </a:lnTo>
                  <a:lnTo>
                    <a:pt x="1721" y="173"/>
                  </a:lnTo>
                  <a:lnTo>
                    <a:pt x="1716" y="173"/>
                  </a:lnTo>
                  <a:lnTo>
                    <a:pt x="1706" y="168"/>
                  </a:lnTo>
                  <a:lnTo>
                    <a:pt x="1701" y="163"/>
                  </a:lnTo>
                  <a:lnTo>
                    <a:pt x="1696" y="159"/>
                  </a:lnTo>
                  <a:close/>
                  <a:moveTo>
                    <a:pt x="1365" y="134"/>
                  </a:moveTo>
                  <a:lnTo>
                    <a:pt x="1370" y="129"/>
                  </a:lnTo>
                  <a:lnTo>
                    <a:pt x="1375" y="124"/>
                  </a:lnTo>
                  <a:lnTo>
                    <a:pt x="1380" y="119"/>
                  </a:lnTo>
                  <a:lnTo>
                    <a:pt x="1385" y="119"/>
                  </a:lnTo>
                  <a:lnTo>
                    <a:pt x="1390" y="119"/>
                  </a:lnTo>
                  <a:lnTo>
                    <a:pt x="1395" y="119"/>
                  </a:lnTo>
                  <a:lnTo>
                    <a:pt x="1400" y="124"/>
                  </a:lnTo>
                  <a:lnTo>
                    <a:pt x="1410" y="129"/>
                  </a:lnTo>
                  <a:lnTo>
                    <a:pt x="1415" y="134"/>
                  </a:lnTo>
                  <a:lnTo>
                    <a:pt x="1415" y="134"/>
                  </a:lnTo>
                  <a:lnTo>
                    <a:pt x="1410" y="139"/>
                  </a:lnTo>
                  <a:lnTo>
                    <a:pt x="1400" y="144"/>
                  </a:lnTo>
                  <a:lnTo>
                    <a:pt x="1395" y="149"/>
                  </a:lnTo>
                  <a:lnTo>
                    <a:pt x="1390" y="149"/>
                  </a:lnTo>
                  <a:lnTo>
                    <a:pt x="1385" y="154"/>
                  </a:lnTo>
                  <a:lnTo>
                    <a:pt x="1380" y="154"/>
                  </a:lnTo>
                  <a:lnTo>
                    <a:pt x="1375" y="149"/>
                  </a:lnTo>
                  <a:lnTo>
                    <a:pt x="1370" y="144"/>
                  </a:lnTo>
                  <a:lnTo>
                    <a:pt x="1370" y="139"/>
                  </a:lnTo>
                  <a:lnTo>
                    <a:pt x="1365" y="134"/>
                  </a:lnTo>
                  <a:close/>
                  <a:moveTo>
                    <a:pt x="1444" y="104"/>
                  </a:moveTo>
                  <a:lnTo>
                    <a:pt x="1449" y="99"/>
                  </a:lnTo>
                  <a:lnTo>
                    <a:pt x="1454" y="94"/>
                  </a:lnTo>
                  <a:lnTo>
                    <a:pt x="1459" y="89"/>
                  </a:lnTo>
                  <a:lnTo>
                    <a:pt x="1469" y="89"/>
                  </a:lnTo>
                  <a:lnTo>
                    <a:pt x="1479" y="89"/>
                  </a:lnTo>
                  <a:lnTo>
                    <a:pt x="1489" y="89"/>
                  </a:lnTo>
                  <a:lnTo>
                    <a:pt x="1494" y="94"/>
                  </a:lnTo>
                  <a:lnTo>
                    <a:pt x="1504" y="99"/>
                  </a:lnTo>
                  <a:lnTo>
                    <a:pt x="1508" y="104"/>
                  </a:lnTo>
                  <a:lnTo>
                    <a:pt x="1508" y="109"/>
                  </a:lnTo>
                  <a:lnTo>
                    <a:pt x="1504" y="114"/>
                  </a:lnTo>
                  <a:lnTo>
                    <a:pt x="1499" y="119"/>
                  </a:lnTo>
                  <a:lnTo>
                    <a:pt x="1489" y="124"/>
                  </a:lnTo>
                  <a:lnTo>
                    <a:pt x="1479" y="124"/>
                  </a:lnTo>
                  <a:lnTo>
                    <a:pt x="1469" y="129"/>
                  </a:lnTo>
                  <a:lnTo>
                    <a:pt x="1464" y="129"/>
                  </a:lnTo>
                  <a:lnTo>
                    <a:pt x="1454" y="124"/>
                  </a:lnTo>
                  <a:lnTo>
                    <a:pt x="1449" y="119"/>
                  </a:lnTo>
                  <a:lnTo>
                    <a:pt x="1444" y="114"/>
                  </a:lnTo>
                  <a:lnTo>
                    <a:pt x="1444" y="104"/>
                  </a:lnTo>
                  <a:close/>
                  <a:moveTo>
                    <a:pt x="1523" y="79"/>
                  </a:moveTo>
                  <a:lnTo>
                    <a:pt x="1528" y="74"/>
                  </a:lnTo>
                  <a:lnTo>
                    <a:pt x="1533" y="70"/>
                  </a:lnTo>
                  <a:lnTo>
                    <a:pt x="1543" y="65"/>
                  </a:lnTo>
                  <a:lnTo>
                    <a:pt x="1548" y="60"/>
                  </a:lnTo>
                  <a:lnTo>
                    <a:pt x="1558" y="60"/>
                  </a:lnTo>
                  <a:lnTo>
                    <a:pt x="1568" y="60"/>
                  </a:lnTo>
                  <a:lnTo>
                    <a:pt x="1578" y="65"/>
                  </a:lnTo>
                  <a:lnTo>
                    <a:pt x="1588" y="70"/>
                  </a:lnTo>
                  <a:lnTo>
                    <a:pt x="1593" y="74"/>
                  </a:lnTo>
                  <a:lnTo>
                    <a:pt x="1593" y="79"/>
                  </a:lnTo>
                  <a:lnTo>
                    <a:pt x="1588" y="89"/>
                  </a:lnTo>
                  <a:lnTo>
                    <a:pt x="1583" y="94"/>
                  </a:lnTo>
                  <a:lnTo>
                    <a:pt x="1573" y="99"/>
                  </a:lnTo>
                  <a:lnTo>
                    <a:pt x="1563" y="99"/>
                  </a:lnTo>
                  <a:lnTo>
                    <a:pt x="1553" y="99"/>
                  </a:lnTo>
                  <a:lnTo>
                    <a:pt x="1543" y="99"/>
                  </a:lnTo>
                  <a:lnTo>
                    <a:pt x="1538" y="99"/>
                  </a:lnTo>
                  <a:lnTo>
                    <a:pt x="1528" y="94"/>
                  </a:lnTo>
                  <a:lnTo>
                    <a:pt x="1523" y="89"/>
                  </a:lnTo>
                  <a:lnTo>
                    <a:pt x="1523" y="79"/>
                  </a:lnTo>
                  <a:close/>
                  <a:moveTo>
                    <a:pt x="2235" y="1656"/>
                  </a:moveTo>
                  <a:lnTo>
                    <a:pt x="2260" y="1631"/>
                  </a:lnTo>
                  <a:lnTo>
                    <a:pt x="2285" y="1631"/>
                  </a:lnTo>
                  <a:lnTo>
                    <a:pt x="2315" y="1631"/>
                  </a:lnTo>
                  <a:lnTo>
                    <a:pt x="2339" y="1631"/>
                  </a:lnTo>
                  <a:lnTo>
                    <a:pt x="2369" y="1631"/>
                  </a:lnTo>
                  <a:lnTo>
                    <a:pt x="2394" y="1631"/>
                  </a:lnTo>
                  <a:lnTo>
                    <a:pt x="2418" y="1631"/>
                  </a:lnTo>
                  <a:lnTo>
                    <a:pt x="2448" y="1602"/>
                  </a:lnTo>
                  <a:lnTo>
                    <a:pt x="2448" y="1577"/>
                  </a:lnTo>
                  <a:lnTo>
                    <a:pt x="2448" y="1547"/>
                  </a:lnTo>
                  <a:lnTo>
                    <a:pt x="2448" y="1523"/>
                  </a:lnTo>
                  <a:lnTo>
                    <a:pt x="2473" y="1498"/>
                  </a:lnTo>
                  <a:lnTo>
                    <a:pt x="2473" y="1468"/>
                  </a:lnTo>
                  <a:lnTo>
                    <a:pt x="2473" y="1444"/>
                  </a:lnTo>
                  <a:lnTo>
                    <a:pt x="2473" y="1414"/>
                  </a:lnTo>
                  <a:lnTo>
                    <a:pt x="2503" y="1389"/>
                  </a:lnTo>
                  <a:lnTo>
                    <a:pt x="2503" y="1364"/>
                  </a:lnTo>
                  <a:lnTo>
                    <a:pt x="2503" y="1335"/>
                  </a:lnTo>
                  <a:lnTo>
                    <a:pt x="2503" y="1310"/>
                  </a:lnTo>
                  <a:lnTo>
                    <a:pt x="2527" y="1280"/>
                  </a:lnTo>
                  <a:lnTo>
                    <a:pt x="2527" y="1256"/>
                  </a:lnTo>
                  <a:lnTo>
                    <a:pt x="2527" y="1226"/>
                  </a:lnTo>
                  <a:lnTo>
                    <a:pt x="2527" y="1201"/>
                  </a:lnTo>
                  <a:lnTo>
                    <a:pt x="2552" y="1177"/>
                  </a:lnTo>
                  <a:lnTo>
                    <a:pt x="2552" y="1147"/>
                  </a:lnTo>
                  <a:lnTo>
                    <a:pt x="2552" y="1122"/>
                  </a:lnTo>
                  <a:lnTo>
                    <a:pt x="2552" y="1093"/>
                  </a:lnTo>
                  <a:lnTo>
                    <a:pt x="2582" y="1068"/>
                  </a:lnTo>
                  <a:lnTo>
                    <a:pt x="2582" y="1043"/>
                  </a:lnTo>
                  <a:lnTo>
                    <a:pt x="2582" y="1014"/>
                  </a:lnTo>
                  <a:lnTo>
                    <a:pt x="2582" y="989"/>
                  </a:lnTo>
                  <a:lnTo>
                    <a:pt x="2582" y="959"/>
                  </a:lnTo>
                  <a:lnTo>
                    <a:pt x="2582" y="934"/>
                  </a:lnTo>
                  <a:lnTo>
                    <a:pt x="2582" y="910"/>
                  </a:lnTo>
                  <a:lnTo>
                    <a:pt x="2582" y="880"/>
                  </a:lnTo>
                  <a:lnTo>
                    <a:pt x="2582" y="855"/>
                  </a:lnTo>
                  <a:lnTo>
                    <a:pt x="2582" y="826"/>
                  </a:lnTo>
                  <a:lnTo>
                    <a:pt x="2582" y="801"/>
                  </a:lnTo>
                  <a:lnTo>
                    <a:pt x="2582" y="776"/>
                  </a:lnTo>
                  <a:lnTo>
                    <a:pt x="2582" y="747"/>
                  </a:lnTo>
                  <a:lnTo>
                    <a:pt x="2582" y="722"/>
                  </a:lnTo>
                  <a:lnTo>
                    <a:pt x="2582" y="692"/>
                  </a:lnTo>
                  <a:lnTo>
                    <a:pt x="2582" y="668"/>
                  </a:lnTo>
                  <a:lnTo>
                    <a:pt x="2582" y="643"/>
                  </a:lnTo>
                  <a:lnTo>
                    <a:pt x="2582" y="613"/>
                  </a:lnTo>
                  <a:lnTo>
                    <a:pt x="2582" y="589"/>
                  </a:lnTo>
                  <a:lnTo>
                    <a:pt x="2582" y="559"/>
                  </a:lnTo>
                  <a:lnTo>
                    <a:pt x="2582" y="534"/>
                  </a:lnTo>
                  <a:lnTo>
                    <a:pt x="2582" y="504"/>
                  </a:lnTo>
                  <a:lnTo>
                    <a:pt x="2582" y="480"/>
                  </a:lnTo>
                  <a:lnTo>
                    <a:pt x="2582" y="455"/>
                  </a:lnTo>
                  <a:lnTo>
                    <a:pt x="2582" y="425"/>
                  </a:lnTo>
                  <a:lnTo>
                    <a:pt x="2582" y="401"/>
                  </a:lnTo>
                  <a:lnTo>
                    <a:pt x="2582" y="371"/>
                  </a:lnTo>
                  <a:lnTo>
                    <a:pt x="2582" y="346"/>
                  </a:lnTo>
                  <a:lnTo>
                    <a:pt x="2582" y="322"/>
                  </a:lnTo>
                  <a:lnTo>
                    <a:pt x="2582" y="292"/>
                  </a:lnTo>
                  <a:lnTo>
                    <a:pt x="2582" y="267"/>
                  </a:lnTo>
                  <a:lnTo>
                    <a:pt x="2582" y="238"/>
                  </a:lnTo>
                  <a:lnTo>
                    <a:pt x="2552" y="213"/>
                  </a:lnTo>
                  <a:lnTo>
                    <a:pt x="2552" y="188"/>
                  </a:lnTo>
                  <a:lnTo>
                    <a:pt x="2552" y="159"/>
                  </a:lnTo>
                  <a:lnTo>
                    <a:pt x="2552" y="134"/>
                  </a:lnTo>
                  <a:lnTo>
                    <a:pt x="2552" y="104"/>
                  </a:lnTo>
                  <a:lnTo>
                    <a:pt x="2527" y="79"/>
                  </a:lnTo>
                  <a:lnTo>
                    <a:pt x="2503" y="79"/>
                  </a:lnTo>
                  <a:lnTo>
                    <a:pt x="2473" y="79"/>
                  </a:lnTo>
                  <a:lnTo>
                    <a:pt x="2448" y="55"/>
                  </a:lnTo>
                  <a:lnTo>
                    <a:pt x="2418" y="55"/>
                  </a:lnTo>
                  <a:lnTo>
                    <a:pt x="2394" y="55"/>
                  </a:lnTo>
                  <a:lnTo>
                    <a:pt x="2369" y="25"/>
                  </a:lnTo>
                  <a:lnTo>
                    <a:pt x="2339" y="25"/>
                  </a:lnTo>
                  <a:lnTo>
                    <a:pt x="2315" y="25"/>
                  </a:lnTo>
                  <a:lnTo>
                    <a:pt x="2285" y="0"/>
                  </a:lnTo>
                  <a:lnTo>
                    <a:pt x="2260" y="0"/>
                  </a:lnTo>
                  <a:lnTo>
                    <a:pt x="2235" y="0"/>
                  </a:lnTo>
                  <a:lnTo>
                    <a:pt x="2206" y="0"/>
                  </a:lnTo>
                  <a:lnTo>
                    <a:pt x="2181" y="0"/>
                  </a:lnTo>
                  <a:lnTo>
                    <a:pt x="2156" y="0"/>
                  </a:lnTo>
                  <a:lnTo>
                    <a:pt x="2127" y="0"/>
                  </a:lnTo>
                  <a:lnTo>
                    <a:pt x="2102" y="0"/>
                  </a:lnTo>
                  <a:lnTo>
                    <a:pt x="2072" y="0"/>
                  </a:lnTo>
                  <a:lnTo>
                    <a:pt x="2048" y="0"/>
                  </a:lnTo>
                  <a:lnTo>
                    <a:pt x="2023" y="0"/>
                  </a:lnTo>
                  <a:lnTo>
                    <a:pt x="1993" y="0"/>
                  </a:lnTo>
                  <a:lnTo>
                    <a:pt x="1968" y="0"/>
                  </a:lnTo>
                  <a:lnTo>
                    <a:pt x="1944" y="0"/>
                  </a:lnTo>
                  <a:lnTo>
                    <a:pt x="1914" y="0"/>
                  </a:lnTo>
                  <a:lnTo>
                    <a:pt x="1889" y="0"/>
                  </a:lnTo>
                  <a:lnTo>
                    <a:pt x="1860" y="0"/>
                  </a:lnTo>
                  <a:lnTo>
                    <a:pt x="1835" y="0"/>
                  </a:lnTo>
                  <a:lnTo>
                    <a:pt x="1810" y="0"/>
                  </a:lnTo>
                  <a:lnTo>
                    <a:pt x="1780" y="0"/>
                  </a:lnTo>
                  <a:lnTo>
                    <a:pt x="1756" y="0"/>
                  </a:lnTo>
                  <a:lnTo>
                    <a:pt x="1726" y="0"/>
                  </a:lnTo>
                  <a:lnTo>
                    <a:pt x="1701" y="0"/>
                  </a:lnTo>
                  <a:lnTo>
                    <a:pt x="1677" y="0"/>
                  </a:lnTo>
                  <a:lnTo>
                    <a:pt x="1647" y="0"/>
                  </a:lnTo>
                  <a:lnTo>
                    <a:pt x="1622" y="0"/>
                  </a:lnTo>
                  <a:lnTo>
                    <a:pt x="1598" y="0"/>
                  </a:lnTo>
                  <a:lnTo>
                    <a:pt x="1568" y="0"/>
                  </a:lnTo>
                  <a:lnTo>
                    <a:pt x="1543" y="0"/>
                  </a:lnTo>
                  <a:lnTo>
                    <a:pt x="1513" y="0"/>
                  </a:lnTo>
                  <a:lnTo>
                    <a:pt x="1489" y="0"/>
                  </a:lnTo>
                  <a:lnTo>
                    <a:pt x="1464" y="0"/>
                  </a:lnTo>
                  <a:lnTo>
                    <a:pt x="1434" y="0"/>
                  </a:lnTo>
                  <a:lnTo>
                    <a:pt x="1410" y="0"/>
                  </a:lnTo>
                  <a:lnTo>
                    <a:pt x="1385" y="0"/>
                  </a:lnTo>
                  <a:lnTo>
                    <a:pt x="1355" y="0"/>
                  </a:lnTo>
                  <a:lnTo>
                    <a:pt x="1330" y="0"/>
                  </a:lnTo>
                  <a:lnTo>
                    <a:pt x="1301" y="0"/>
                  </a:lnTo>
                  <a:lnTo>
                    <a:pt x="1276" y="0"/>
                  </a:lnTo>
                  <a:lnTo>
                    <a:pt x="1251" y="0"/>
                  </a:lnTo>
                  <a:lnTo>
                    <a:pt x="1222" y="0"/>
                  </a:lnTo>
                  <a:lnTo>
                    <a:pt x="1197" y="0"/>
                  </a:lnTo>
                  <a:lnTo>
                    <a:pt x="1172" y="0"/>
                  </a:lnTo>
                  <a:lnTo>
                    <a:pt x="1143" y="0"/>
                  </a:lnTo>
                  <a:lnTo>
                    <a:pt x="1118" y="0"/>
                  </a:lnTo>
                  <a:lnTo>
                    <a:pt x="1088" y="0"/>
                  </a:lnTo>
                  <a:lnTo>
                    <a:pt x="1063" y="0"/>
                  </a:lnTo>
                  <a:lnTo>
                    <a:pt x="1039" y="0"/>
                  </a:lnTo>
                  <a:lnTo>
                    <a:pt x="1009" y="0"/>
                  </a:lnTo>
                  <a:lnTo>
                    <a:pt x="984" y="0"/>
                  </a:lnTo>
                  <a:lnTo>
                    <a:pt x="955" y="0"/>
                  </a:lnTo>
                  <a:lnTo>
                    <a:pt x="930" y="0"/>
                  </a:lnTo>
                  <a:lnTo>
                    <a:pt x="905" y="0"/>
                  </a:lnTo>
                  <a:lnTo>
                    <a:pt x="875" y="0"/>
                  </a:lnTo>
                  <a:lnTo>
                    <a:pt x="851" y="0"/>
                  </a:lnTo>
                  <a:lnTo>
                    <a:pt x="826" y="0"/>
                  </a:lnTo>
                  <a:lnTo>
                    <a:pt x="796" y="0"/>
                  </a:lnTo>
                  <a:lnTo>
                    <a:pt x="772" y="0"/>
                  </a:lnTo>
                  <a:lnTo>
                    <a:pt x="742" y="0"/>
                  </a:lnTo>
                  <a:lnTo>
                    <a:pt x="717" y="0"/>
                  </a:lnTo>
                  <a:lnTo>
                    <a:pt x="692" y="0"/>
                  </a:lnTo>
                  <a:lnTo>
                    <a:pt x="663" y="0"/>
                  </a:lnTo>
                  <a:lnTo>
                    <a:pt x="638" y="0"/>
                  </a:lnTo>
                  <a:lnTo>
                    <a:pt x="613" y="0"/>
                  </a:lnTo>
                  <a:lnTo>
                    <a:pt x="584" y="25"/>
                  </a:lnTo>
                  <a:lnTo>
                    <a:pt x="559" y="55"/>
                  </a:lnTo>
                  <a:lnTo>
                    <a:pt x="529" y="79"/>
                  </a:lnTo>
                  <a:lnTo>
                    <a:pt x="505" y="104"/>
                  </a:lnTo>
                  <a:lnTo>
                    <a:pt x="480" y="134"/>
                  </a:lnTo>
                  <a:lnTo>
                    <a:pt x="450" y="134"/>
                  </a:lnTo>
                  <a:lnTo>
                    <a:pt x="425" y="159"/>
                  </a:lnTo>
                  <a:lnTo>
                    <a:pt x="396" y="188"/>
                  </a:lnTo>
                  <a:lnTo>
                    <a:pt x="371" y="213"/>
                  </a:lnTo>
                  <a:lnTo>
                    <a:pt x="346" y="238"/>
                  </a:lnTo>
                  <a:lnTo>
                    <a:pt x="317" y="267"/>
                  </a:lnTo>
                  <a:lnTo>
                    <a:pt x="292" y="292"/>
                  </a:lnTo>
                  <a:lnTo>
                    <a:pt x="267" y="322"/>
                  </a:lnTo>
                  <a:lnTo>
                    <a:pt x="237" y="322"/>
                  </a:lnTo>
                  <a:lnTo>
                    <a:pt x="213" y="346"/>
                  </a:lnTo>
                  <a:lnTo>
                    <a:pt x="183" y="371"/>
                  </a:lnTo>
                  <a:lnTo>
                    <a:pt x="158" y="401"/>
                  </a:lnTo>
                  <a:lnTo>
                    <a:pt x="134" y="425"/>
                  </a:lnTo>
                  <a:lnTo>
                    <a:pt x="104" y="455"/>
                  </a:lnTo>
                  <a:lnTo>
                    <a:pt x="79" y="480"/>
                  </a:lnTo>
                  <a:lnTo>
                    <a:pt x="55" y="504"/>
                  </a:lnTo>
                  <a:lnTo>
                    <a:pt x="25" y="504"/>
                  </a:lnTo>
                  <a:lnTo>
                    <a:pt x="0" y="534"/>
                  </a:lnTo>
                  <a:lnTo>
                    <a:pt x="0" y="559"/>
                  </a:lnTo>
                  <a:lnTo>
                    <a:pt x="0" y="589"/>
                  </a:lnTo>
                  <a:lnTo>
                    <a:pt x="0" y="613"/>
                  </a:lnTo>
                  <a:lnTo>
                    <a:pt x="25" y="643"/>
                  </a:lnTo>
                  <a:lnTo>
                    <a:pt x="25" y="668"/>
                  </a:lnTo>
                  <a:lnTo>
                    <a:pt x="55" y="692"/>
                  </a:lnTo>
                  <a:lnTo>
                    <a:pt x="79" y="722"/>
                  </a:lnTo>
                  <a:lnTo>
                    <a:pt x="104" y="747"/>
                  </a:lnTo>
                  <a:lnTo>
                    <a:pt x="134" y="776"/>
                  </a:lnTo>
                  <a:lnTo>
                    <a:pt x="134" y="801"/>
                  </a:lnTo>
                  <a:lnTo>
                    <a:pt x="158" y="826"/>
                  </a:lnTo>
                  <a:lnTo>
                    <a:pt x="183" y="855"/>
                  </a:lnTo>
                  <a:lnTo>
                    <a:pt x="213" y="880"/>
                  </a:lnTo>
                  <a:lnTo>
                    <a:pt x="237" y="910"/>
                  </a:lnTo>
                  <a:lnTo>
                    <a:pt x="267" y="934"/>
                  </a:lnTo>
                  <a:lnTo>
                    <a:pt x="292" y="959"/>
                  </a:lnTo>
                  <a:lnTo>
                    <a:pt x="292" y="989"/>
                  </a:lnTo>
                  <a:lnTo>
                    <a:pt x="317" y="1014"/>
                  </a:lnTo>
                  <a:lnTo>
                    <a:pt x="346" y="1043"/>
                  </a:lnTo>
                  <a:lnTo>
                    <a:pt x="371" y="1068"/>
                  </a:lnTo>
                  <a:lnTo>
                    <a:pt x="396" y="1093"/>
                  </a:lnTo>
                  <a:lnTo>
                    <a:pt x="425" y="1122"/>
                  </a:lnTo>
                  <a:lnTo>
                    <a:pt x="450" y="1147"/>
                  </a:lnTo>
                  <a:lnTo>
                    <a:pt x="480" y="1177"/>
                  </a:lnTo>
                  <a:lnTo>
                    <a:pt x="505" y="1201"/>
                  </a:lnTo>
                  <a:lnTo>
                    <a:pt x="529" y="1226"/>
                  </a:lnTo>
                  <a:lnTo>
                    <a:pt x="559" y="1256"/>
                  </a:lnTo>
                  <a:lnTo>
                    <a:pt x="584" y="1280"/>
                  </a:lnTo>
                  <a:lnTo>
                    <a:pt x="613" y="1310"/>
                  </a:lnTo>
                  <a:lnTo>
                    <a:pt x="638" y="1335"/>
                  </a:lnTo>
                  <a:lnTo>
                    <a:pt x="663" y="1364"/>
                  </a:lnTo>
                  <a:lnTo>
                    <a:pt x="692" y="1389"/>
                  </a:lnTo>
                  <a:lnTo>
                    <a:pt x="717" y="1414"/>
                  </a:lnTo>
                  <a:lnTo>
                    <a:pt x="742" y="1444"/>
                  </a:lnTo>
                  <a:lnTo>
                    <a:pt x="772" y="1468"/>
                  </a:lnTo>
                  <a:lnTo>
                    <a:pt x="796" y="1468"/>
                  </a:lnTo>
                  <a:lnTo>
                    <a:pt x="826" y="1498"/>
                  </a:lnTo>
                  <a:lnTo>
                    <a:pt x="851" y="1523"/>
                  </a:lnTo>
                  <a:lnTo>
                    <a:pt x="875" y="1547"/>
                  </a:lnTo>
                  <a:lnTo>
                    <a:pt x="905" y="1577"/>
                  </a:lnTo>
                  <a:lnTo>
                    <a:pt x="930" y="1602"/>
                  </a:lnTo>
                  <a:lnTo>
                    <a:pt x="955" y="1631"/>
                  </a:lnTo>
                  <a:lnTo>
                    <a:pt x="984" y="1656"/>
                  </a:lnTo>
                  <a:lnTo>
                    <a:pt x="1009" y="1656"/>
                  </a:lnTo>
                  <a:lnTo>
                    <a:pt x="1039" y="1656"/>
                  </a:lnTo>
                  <a:lnTo>
                    <a:pt x="1063" y="1656"/>
                  </a:lnTo>
                  <a:lnTo>
                    <a:pt x="1088" y="1656"/>
                  </a:lnTo>
                  <a:lnTo>
                    <a:pt x="1118" y="1656"/>
                  </a:lnTo>
                  <a:lnTo>
                    <a:pt x="1143" y="1656"/>
                  </a:lnTo>
                  <a:lnTo>
                    <a:pt x="1172" y="1656"/>
                  </a:lnTo>
                  <a:lnTo>
                    <a:pt x="1197" y="1656"/>
                  </a:lnTo>
                  <a:lnTo>
                    <a:pt x="1222" y="1656"/>
                  </a:lnTo>
                  <a:lnTo>
                    <a:pt x="1251" y="1656"/>
                  </a:lnTo>
                  <a:lnTo>
                    <a:pt x="1276" y="1656"/>
                  </a:lnTo>
                  <a:lnTo>
                    <a:pt x="1301" y="1656"/>
                  </a:lnTo>
                  <a:lnTo>
                    <a:pt x="1330" y="1656"/>
                  </a:lnTo>
                  <a:lnTo>
                    <a:pt x="1355" y="1656"/>
                  </a:lnTo>
                  <a:lnTo>
                    <a:pt x="1385" y="1656"/>
                  </a:lnTo>
                  <a:lnTo>
                    <a:pt x="1410" y="1656"/>
                  </a:lnTo>
                  <a:lnTo>
                    <a:pt x="1434" y="1656"/>
                  </a:lnTo>
                  <a:lnTo>
                    <a:pt x="1464" y="1656"/>
                  </a:lnTo>
                  <a:lnTo>
                    <a:pt x="1489" y="1656"/>
                  </a:lnTo>
                  <a:lnTo>
                    <a:pt x="1513" y="1656"/>
                  </a:lnTo>
                  <a:lnTo>
                    <a:pt x="1543" y="1656"/>
                  </a:lnTo>
                  <a:lnTo>
                    <a:pt x="1568" y="1656"/>
                  </a:lnTo>
                  <a:lnTo>
                    <a:pt x="1598" y="1656"/>
                  </a:lnTo>
                  <a:lnTo>
                    <a:pt x="1622" y="1656"/>
                  </a:lnTo>
                  <a:lnTo>
                    <a:pt x="1647" y="1656"/>
                  </a:lnTo>
                  <a:lnTo>
                    <a:pt x="1677" y="1656"/>
                  </a:lnTo>
                  <a:lnTo>
                    <a:pt x="1701" y="1656"/>
                  </a:lnTo>
                  <a:lnTo>
                    <a:pt x="1726" y="1656"/>
                  </a:lnTo>
                  <a:lnTo>
                    <a:pt x="1756" y="1656"/>
                  </a:lnTo>
                  <a:lnTo>
                    <a:pt x="1780" y="1656"/>
                  </a:lnTo>
                  <a:lnTo>
                    <a:pt x="1810" y="1656"/>
                  </a:lnTo>
                  <a:lnTo>
                    <a:pt x="1835" y="1656"/>
                  </a:lnTo>
                  <a:lnTo>
                    <a:pt x="1860" y="1656"/>
                  </a:lnTo>
                  <a:lnTo>
                    <a:pt x="1889" y="1656"/>
                  </a:lnTo>
                  <a:lnTo>
                    <a:pt x="1914" y="1656"/>
                  </a:lnTo>
                  <a:lnTo>
                    <a:pt x="1944" y="1656"/>
                  </a:lnTo>
                  <a:lnTo>
                    <a:pt x="1968" y="1656"/>
                  </a:lnTo>
                  <a:lnTo>
                    <a:pt x="1993" y="1656"/>
                  </a:lnTo>
                  <a:lnTo>
                    <a:pt x="2023" y="1656"/>
                  </a:lnTo>
                  <a:lnTo>
                    <a:pt x="2048" y="1656"/>
                  </a:lnTo>
                  <a:lnTo>
                    <a:pt x="2072" y="1656"/>
                  </a:lnTo>
                  <a:lnTo>
                    <a:pt x="2102" y="1656"/>
                  </a:lnTo>
                  <a:lnTo>
                    <a:pt x="2127" y="1656"/>
                  </a:lnTo>
                  <a:lnTo>
                    <a:pt x="2156" y="1656"/>
                  </a:lnTo>
                  <a:lnTo>
                    <a:pt x="2181" y="1656"/>
                  </a:lnTo>
                  <a:lnTo>
                    <a:pt x="2206" y="1656"/>
                  </a:lnTo>
                  <a:lnTo>
                    <a:pt x="2235" y="1656"/>
                  </a:lnTo>
                  <a:close/>
                </a:path>
              </a:pathLst>
            </a:custGeom>
            <a:solidFill>
              <a:srgbClr val="ffb4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6" name=""/>
            <p:cNvSpPr/>
            <p:nvPr/>
          </p:nvSpPr>
          <p:spPr>
            <a:xfrm>
              <a:off x="3773160" y="3703320"/>
              <a:ext cx="30240" cy="140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7" name=""/>
            <p:cNvSpPr/>
            <p:nvPr/>
          </p:nvSpPr>
          <p:spPr>
            <a:xfrm>
              <a:off x="3827160" y="3733560"/>
              <a:ext cx="23760" cy="23400"/>
            </a:xfrm>
            <a:custGeom>
              <a:avLst/>
              <a:gdLst/>
              <a:ahLst/>
              <a:rect l="l" t="t" r="r" b="b"/>
              <a:pathLst>
                <a:path w="15" h="15">
                  <a:moveTo>
                    <a:pt x="0" y="0"/>
                  </a:moveTo>
                  <a:lnTo>
                    <a:pt x="15" y="10"/>
                  </a:lnTo>
                  <a:lnTo>
                    <a:pt x="10" y="15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8" name=""/>
            <p:cNvSpPr/>
            <p:nvPr/>
          </p:nvSpPr>
          <p:spPr>
            <a:xfrm>
              <a:off x="3811320" y="3781080"/>
              <a:ext cx="15840" cy="31680"/>
            </a:xfrm>
            <a:custGeom>
              <a:avLst/>
              <a:gdLst/>
              <a:ahLst/>
              <a:rect l="l" t="t" r="r" b="b"/>
              <a:pathLst>
                <a:path w="10" h="20">
                  <a:moveTo>
                    <a:pt x="10" y="0"/>
                  </a:moveTo>
                  <a:lnTo>
                    <a:pt x="5" y="15"/>
                  </a:lnTo>
                  <a:lnTo>
                    <a:pt x="0" y="2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9" name=""/>
            <p:cNvSpPr/>
            <p:nvPr/>
          </p:nvSpPr>
          <p:spPr>
            <a:xfrm>
              <a:off x="3803400" y="3844800"/>
              <a:ext cx="7920" cy="21600"/>
            </a:xfrm>
            <a:custGeom>
              <a:avLst/>
              <a:gdLst/>
              <a:ahLst/>
              <a:rect l="l" t="t" r="r" b="b"/>
              <a:pathLst>
                <a:path w="5" h="14">
                  <a:moveTo>
                    <a:pt x="0" y="0"/>
                  </a:moveTo>
                  <a:lnTo>
                    <a:pt x="0" y="9"/>
                  </a:lnTo>
                  <a:lnTo>
                    <a:pt x="5" y="14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0" name=""/>
            <p:cNvSpPr/>
            <p:nvPr/>
          </p:nvSpPr>
          <p:spPr>
            <a:xfrm>
              <a:off x="3835080" y="3890880"/>
              <a:ext cx="23760" cy="154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1" name=""/>
            <p:cNvSpPr/>
            <p:nvPr/>
          </p:nvSpPr>
          <p:spPr>
            <a:xfrm>
              <a:off x="3890880" y="3922560"/>
              <a:ext cx="23760" cy="234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2" name=""/>
            <p:cNvSpPr/>
            <p:nvPr/>
          </p:nvSpPr>
          <p:spPr>
            <a:xfrm>
              <a:off x="3936600" y="3962160"/>
              <a:ext cx="32040" cy="2340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0" y="0"/>
                  </a:moveTo>
                  <a:lnTo>
                    <a:pt x="5" y="5"/>
                  </a:lnTo>
                  <a:lnTo>
                    <a:pt x="20" y="15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3" name=""/>
            <p:cNvSpPr/>
            <p:nvPr/>
          </p:nvSpPr>
          <p:spPr>
            <a:xfrm>
              <a:off x="3992400" y="4000320"/>
              <a:ext cx="23760" cy="154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4" name=""/>
            <p:cNvSpPr/>
            <p:nvPr/>
          </p:nvSpPr>
          <p:spPr>
            <a:xfrm>
              <a:off x="4039920" y="4039920"/>
              <a:ext cx="31680" cy="15480"/>
            </a:xfrm>
            <a:custGeom>
              <a:avLst/>
              <a:gdLst/>
              <a:ahLst/>
              <a:rect l="l" t="t" r="r" b="b"/>
              <a:pathLst>
                <a:path w="20" h="10">
                  <a:moveTo>
                    <a:pt x="0" y="0"/>
                  </a:moveTo>
                  <a:lnTo>
                    <a:pt x="10" y="5"/>
                  </a:lnTo>
                  <a:lnTo>
                    <a:pt x="20" y="1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5" name=""/>
            <p:cNvSpPr/>
            <p:nvPr/>
          </p:nvSpPr>
          <p:spPr>
            <a:xfrm>
              <a:off x="4093920" y="4079520"/>
              <a:ext cx="23760" cy="154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6" name=""/>
            <p:cNvSpPr/>
            <p:nvPr/>
          </p:nvSpPr>
          <p:spPr>
            <a:xfrm>
              <a:off x="4149360" y="4119480"/>
              <a:ext cx="23760" cy="136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7" name=""/>
            <p:cNvSpPr/>
            <p:nvPr/>
          </p:nvSpPr>
          <p:spPr>
            <a:xfrm>
              <a:off x="4197240" y="4149360"/>
              <a:ext cx="15840" cy="158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8" name=""/>
            <p:cNvSpPr/>
            <p:nvPr/>
          </p:nvSpPr>
          <p:spPr>
            <a:xfrm>
              <a:off x="5319360" y="3970080"/>
              <a:ext cx="3168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9" name=""/>
            <p:cNvSpPr/>
            <p:nvPr/>
          </p:nvSpPr>
          <p:spPr>
            <a:xfrm>
              <a:off x="5359320" y="3992400"/>
              <a:ext cx="15840" cy="23400"/>
            </a:xfrm>
            <a:custGeom>
              <a:avLst/>
              <a:gdLst/>
              <a:ahLst/>
              <a:rect l="l" t="t" r="r" b="b"/>
              <a:pathLst>
                <a:path w="10" h="15">
                  <a:moveTo>
                    <a:pt x="0" y="0"/>
                  </a:moveTo>
                  <a:lnTo>
                    <a:pt x="0" y="10"/>
                  </a:lnTo>
                  <a:lnTo>
                    <a:pt x="10" y="15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0" name=""/>
            <p:cNvSpPr/>
            <p:nvPr/>
          </p:nvSpPr>
          <p:spPr>
            <a:xfrm>
              <a:off x="5397120" y="4032000"/>
              <a:ext cx="32040" cy="15480"/>
            </a:xfrm>
            <a:custGeom>
              <a:avLst/>
              <a:gdLst/>
              <a:ahLst/>
              <a:rect l="l" t="t" r="r" b="b"/>
              <a:pathLst>
                <a:path w="20" h="10">
                  <a:moveTo>
                    <a:pt x="0" y="0"/>
                  </a:moveTo>
                  <a:lnTo>
                    <a:pt x="5" y="0"/>
                  </a:lnTo>
                  <a:lnTo>
                    <a:pt x="15" y="10"/>
                  </a:lnTo>
                  <a:lnTo>
                    <a:pt x="20" y="1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1" name=""/>
            <p:cNvSpPr/>
            <p:nvPr/>
          </p:nvSpPr>
          <p:spPr>
            <a:xfrm>
              <a:off x="5452920" y="4055760"/>
              <a:ext cx="31680" cy="15480"/>
            </a:xfrm>
            <a:custGeom>
              <a:avLst/>
              <a:gdLst/>
              <a:ahLst/>
              <a:rect l="l" t="t" r="r" b="b"/>
              <a:pathLst>
                <a:path w="20" h="10">
                  <a:moveTo>
                    <a:pt x="0" y="0"/>
                  </a:moveTo>
                  <a:lnTo>
                    <a:pt x="5" y="0"/>
                  </a:lnTo>
                  <a:lnTo>
                    <a:pt x="20" y="1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2" name=""/>
            <p:cNvSpPr/>
            <p:nvPr/>
          </p:nvSpPr>
          <p:spPr>
            <a:xfrm>
              <a:off x="5516280" y="4079520"/>
              <a:ext cx="30240" cy="75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3" name=""/>
            <p:cNvSpPr/>
            <p:nvPr/>
          </p:nvSpPr>
          <p:spPr>
            <a:xfrm flipH="1">
              <a:off x="5287680" y="3482640"/>
              <a:ext cx="15840" cy="316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4" name=""/>
            <p:cNvSpPr/>
            <p:nvPr/>
          </p:nvSpPr>
          <p:spPr>
            <a:xfrm>
              <a:off x="5287680" y="3546360"/>
              <a:ext cx="1800" cy="313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5" name=""/>
            <p:cNvSpPr/>
            <p:nvPr/>
          </p:nvSpPr>
          <p:spPr>
            <a:xfrm>
              <a:off x="5287680" y="3608280"/>
              <a:ext cx="1800" cy="313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6" name=""/>
            <p:cNvSpPr/>
            <p:nvPr/>
          </p:nvSpPr>
          <p:spPr>
            <a:xfrm>
              <a:off x="5287680" y="3679560"/>
              <a:ext cx="1800" cy="31320"/>
            </a:xfrm>
            <a:custGeom>
              <a:avLst/>
              <a:gdLst/>
              <a:ahLst/>
              <a:rect l="l" t="t" r="r" b="b"/>
              <a:pathLst>
                <a:path w="0" h="20">
                  <a:moveTo>
                    <a:pt x="0" y="0"/>
                  </a:moveTo>
                  <a:lnTo>
                    <a:pt x="0" y="15"/>
                  </a:lnTo>
                  <a:lnTo>
                    <a:pt x="0" y="2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7" name=""/>
            <p:cNvSpPr/>
            <p:nvPr/>
          </p:nvSpPr>
          <p:spPr>
            <a:xfrm>
              <a:off x="5287680" y="3741480"/>
              <a:ext cx="1800" cy="313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8" name=""/>
            <p:cNvSpPr/>
            <p:nvPr/>
          </p:nvSpPr>
          <p:spPr>
            <a:xfrm>
              <a:off x="5287680" y="3805200"/>
              <a:ext cx="7920" cy="23400"/>
            </a:xfrm>
            <a:custGeom>
              <a:avLst/>
              <a:gdLst/>
              <a:ahLst/>
              <a:rect l="l" t="t" r="r" b="b"/>
              <a:pathLst>
                <a:path w="5" h="15">
                  <a:moveTo>
                    <a:pt x="0" y="0"/>
                  </a:moveTo>
                  <a:lnTo>
                    <a:pt x="0" y="15"/>
                  </a:lnTo>
                  <a:lnTo>
                    <a:pt x="5" y="15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9" name=""/>
            <p:cNvSpPr/>
            <p:nvPr/>
          </p:nvSpPr>
          <p:spPr>
            <a:xfrm>
              <a:off x="5319360" y="3836880"/>
              <a:ext cx="1800" cy="295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0" name=""/>
            <p:cNvSpPr/>
            <p:nvPr/>
          </p:nvSpPr>
          <p:spPr>
            <a:xfrm flipH="1">
              <a:off x="5311440" y="3898800"/>
              <a:ext cx="7920" cy="313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1" name=""/>
            <p:cNvSpPr/>
            <p:nvPr/>
          </p:nvSpPr>
          <p:spPr>
            <a:xfrm>
              <a:off x="5287680" y="3962160"/>
              <a:ext cx="23760" cy="15480"/>
            </a:xfrm>
            <a:custGeom>
              <a:avLst/>
              <a:gdLst/>
              <a:ahLst/>
              <a:rect l="l" t="t" r="r" b="b"/>
              <a:pathLst>
                <a:path w="15" h="10">
                  <a:moveTo>
                    <a:pt x="15" y="0"/>
                  </a:moveTo>
                  <a:lnTo>
                    <a:pt x="15" y="10"/>
                  </a:lnTo>
                  <a:lnTo>
                    <a:pt x="0" y="5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2" name=""/>
            <p:cNvSpPr/>
            <p:nvPr/>
          </p:nvSpPr>
          <p:spPr>
            <a:xfrm>
              <a:off x="4400280" y="4495680"/>
              <a:ext cx="1440" cy="313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3" name=""/>
            <p:cNvSpPr/>
            <p:nvPr/>
          </p:nvSpPr>
          <p:spPr>
            <a:xfrm>
              <a:off x="4408200" y="4557600"/>
              <a:ext cx="7920" cy="313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4" name=""/>
            <p:cNvSpPr/>
            <p:nvPr/>
          </p:nvSpPr>
          <p:spPr>
            <a:xfrm>
              <a:off x="4424040" y="4620960"/>
              <a:ext cx="7920" cy="313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5" name=""/>
            <p:cNvSpPr/>
            <p:nvPr/>
          </p:nvSpPr>
          <p:spPr>
            <a:xfrm>
              <a:off x="4439880" y="4682880"/>
              <a:ext cx="1800" cy="313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6" name=""/>
            <p:cNvSpPr/>
            <p:nvPr/>
          </p:nvSpPr>
          <p:spPr>
            <a:xfrm>
              <a:off x="4447800" y="4746240"/>
              <a:ext cx="7920" cy="316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7" name=""/>
            <p:cNvSpPr/>
            <p:nvPr/>
          </p:nvSpPr>
          <p:spPr>
            <a:xfrm>
              <a:off x="4463640" y="4808160"/>
              <a:ext cx="8280" cy="316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8" name=""/>
            <p:cNvSpPr/>
            <p:nvPr/>
          </p:nvSpPr>
          <p:spPr>
            <a:xfrm>
              <a:off x="4471920" y="4871880"/>
              <a:ext cx="7920" cy="313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9" name=""/>
            <p:cNvSpPr/>
            <p:nvPr/>
          </p:nvSpPr>
          <p:spPr>
            <a:xfrm>
              <a:off x="4487760" y="4935240"/>
              <a:ext cx="7920" cy="298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0" name=""/>
            <p:cNvSpPr/>
            <p:nvPr/>
          </p:nvSpPr>
          <p:spPr>
            <a:xfrm>
              <a:off x="4503600" y="4997160"/>
              <a:ext cx="7920" cy="313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1" name=""/>
            <p:cNvSpPr/>
            <p:nvPr/>
          </p:nvSpPr>
          <p:spPr>
            <a:xfrm>
              <a:off x="4424040" y="4487760"/>
              <a:ext cx="7920" cy="234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2" name=""/>
            <p:cNvSpPr/>
            <p:nvPr/>
          </p:nvSpPr>
          <p:spPr>
            <a:xfrm>
              <a:off x="4447800" y="4541760"/>
              <a:ext cx="15840" cy="313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3" name=""/>
            <p:cNvSpPr/>
            <p:nvPr/>
          </p:nvSpPr>
          <p:spPr>
            <a:xfrm>
              <a:off x="4479840" y="4597200"/>
              <a:ext cx="15840" cy="313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4" name=""/>
            <p:cNvSpPr/>
            <p:nvPr/>
          </p:nvSpPr>
          <p:spPr>
            <a:xfrm>
              <a:off x="4503600" y="4660560"/>
              <a:ext cx="14040" cy="219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5" name=""/>
            <p:cNvSpPr/>
            <p:nvPr/>
          </p:nvSpPr>
          <p:spPr>
            <a:xfrm>
              <a:off x="4533480" y="4714560"/>
              <a:ext cx="16200" cy="313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6" name=""/>
            <p:cNvSpPr/>
            <p:nvPr/>
          </p:nvSpPr>
          <p:spPr>
            <a:xfrm>
              <a:off x="4565520" y="4770360"/>
              <a:ext cx="7920" cy="313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7" name=""/>
            <p:cNvSpPr/>
            <p:nvPr/>
          </p:nvSpPr>
          <p:spPr>
            <a:xfrm flipV="1">
              <a:off x="4471920" y="4847760"/>
              <a:ext cx="31680" cy="75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8" name=""/>
            <p:cNvSpPr/>
            <p:nvPr/>
          </p:nvSpPr>
          <p:spPr>
            <a:xfrm flipV="1">
              <a:off x="4533480" y="4831920"/>
              <a:ext cx="32040" cy="75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9" name=""/>
            <p:cNvSpPr/>
            <p:nvPr/>
          </p:nvSpPr>
          <p:spPr>
            <a:xfrm>
              <a:off x="4589280" y="4802040"/>
              <a:ext cx="31680" cy="13680"/>
            </a:xfrm>
            <a:custGeom>
              <a:avLst/>
              <a:gdLst/>
              <a:ahLst/>
              <a:rect l="l" t="t" r="r" b="b"/>
              <a:pathLst>
                <a:path w="20" h="9">
                  <a:moveTo>
                    <a:pt x="0" y="9"/>
                  </a:moveTo>
                  <a:lnTo>
                    <a:pt x="20" y="0"/>
                  </a:lnTo>
                  <a:lnTo>
                    <a:pt x="2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0" name=""/>
            <p:cNvSpPr/>
            <p:nvPr/>
          </p:nvSpPr>
          <p:spPr>
            <a:xfrm>
              <a:off x="4644720" y="4770360"/>
              <a:ext cx="30240" cy="7560"/>
            </a:xfrm>
            <a:custGeom>
              <a:avLst/>
              <a:gdLst/>
              <a:ahLst/>
              <a:rect l="l" t="t" r="r" b="b"/>
              <a:pathLst>
                <a:path w="19" h="5">
                  <a:moveTo>
                    <a:pt x="0" y="5"/>
                  </a:moveTo>
                  <a:lnTo>
                    <a:pt x="0" y="5"/>
                  </a:lnTo>
                  <a:lnTo>
                    <a:pt x="19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1" name=""/>
            <p:cNvSpPr/>
            <p:nvPr/>
          </p:nvSpPr>
          <p:spPr>
            <a:xfrm>
              <a:off x="4706640" y="4762440"/>
              <a:ext cx="31680" cy="1080"/>
            </a:xfrm>
            <a:custGeom>
              <a:avLst/>
              <a:gdLst/>
              <a:ahLst/>
              <a:rect l="l" t="t" r="r" b="b"/>
              <a:pathLst>
                <a:path w="20" h="0">
                  <a:moveTo>
                    <a:pt x="0" y="0"/>
                  </a:moveTo>
                  <a:lnTo>
                    <a:pt x="10" y="0"/>
                  </a:lnTo>
                  <a:lnTo>
                    <a:pt x="2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2" name=""/>
            <p:cNvSpPr/>
            <p:nvPr/>
          </p:nvSpPr>
          <p:spPr>
            <a:xfrm>
              <a:off x="4770360" y="4754520"/>
              <a:ext cx="31680" cy="7560"/>
            </a:xfrm>
            <a:custGeom>
              <a:avLst/>
              <a:gdLst/>
              <a:ahLst/>
              <a:rect l="l" t="t" r="r" b="b"/>
              <a:pathLst>
                <a:path w="20" h="5">
                  <a:moveTo>
                    <a:pt x="0" y="5"/>
                  </a:moveTo>
                  <a:lnTo>
                    <a:pt x="10" y="0"/>
                  </a:lnTo>
                  <a:lnTo>
                    <a:pt x="2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3" name=""/>
            <p:cNvSpPr/>
            <p:nvPr/>
          </p:nvSpPr>
          <p:spPr>
            <a:xfrm>
              <a:off x="4832280" y="4746240"/>
              <a:ext cx="31680" cy="7920"/>
            </a:xfrm>
            <a:custGeom>
              <a:avLst/>
              <a:gdLst/>
              <a:ahLst/>
              <a:rect l="l" t="t" r="r" b="b"/>
              <a:pathLst>
                <a:path w="20" h="5">
                  <a:moveTo>
                    <a:pt x="0" y="5"/>
                  </a:moveTo>
                  <a:lnTo>
                    <a:pt x="5" y="5"/>
                  </a:lnTo>
                  <a:lnTo>
                    <a:pt x="2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4" name=""/>
            <p:cNvSpPr/>
            <p:nvPr/>
          </p:nvSpPr>
          <p:spPr>
            <a:xfrm>
              <a:off x="4895640" y="4746240"/>
              <a:ext cx="23760" cy="1440"/>
            </a:xfrm>
            <a:custGeom>
              <a:avLst/>
              <a:gdLst/>
              <a:ahLst/>
              <a:rect l="l" t="t" r="r" b="b"/>
              <a:pathLst>
                <a:path w="15" h="0">
                  <a:moveTo>
                    <a:pt x="0" y="0"/>
                  </a:moveTo>
                  <a:lnTo>
                    <a:pt x="15" y="0"/>
                  </a:lnTo>
                  <a:lnTo>
                    <a:pt x="15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5" name=""/>
            <p:cNvSpPr/>
            <p:nvPr/>
          </p:nvSpPr>
          <p:spPr>
            <a:xfrm>
              <a:off x="4919400" y="4786200"/>
              <a:ext cx="1440" cy="295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6" name=""/>
            <p:cNvSpPr/>
            <p:nvPr/>
          </p:nvSpPr>
          <p:spPr>
            <a:xfrm>
              <a:off x="4919400" y="4848120"/>
              <a:ext cx="1440" cy="313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7" name=""/>
            <p:cNvSpPr/>
            <p:nvPr/>
          </p:nvSpPr>
          <p:spPr>
            <a:xfrm>
              <a:off x="4919400" y="4911480"/>
              <a:ext cx="7920" cy="313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8" name=""/>
            <p:cNvSpPr/>
            <p:nvPr/>
          </p:nvSpPr>
          <p:spPr>
            <a:xfrm>
              <a:off x="4927320" y="4973400"/>
              <a:ext cx="1800" cy="313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9" name=""/>
            <p:cNvSpPr/>
            <p:nvPr/>
          </p:nvSpPr>
          <p:spPr>
            <a:xfrm>
              <a:off x="5084640" y="4119480"/>
              <a:ext cx="2988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0" name=""/>
            <p:cNvSpPr/>
            <p:nvPr/>
          </p:nvSpPr>
          <p:spPr>
            <a:xfrm>
              <a:off x="5146560" y="4119480"/>
              <a:ext cx="15840" cy="21600"/>
            </a:xfrm>
            <a:custGeom>
              <a:avLst/>
              <a:gdLst/>
              <a:ahLst/>
              <a:rect l="l" t="t" r="r" b="b"/>
              <a:pathLst>
                <a:path w="10" h="14">
                  <a:moveTo>
                    <a:pt x="0" y="0"/>
                  </a:moveTo>
                  <a:lnTo>
                    <a:pt x="10" y="4"/>
                  </a:lnTo>
                  <a:lnTo>
                    <a:pt x="10" y="14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1" name=""/>
            <p:cNvSpPr/>
            <p:nvPr/>
          </p:nvSpPr>
          <p:spPr>
            <a:xfrm>
              <a:off x="5154480" y="4173480"/>
              <a:ext cx="7920" cy="31320"/>
            </a:xfrm>
            <a:custGeom>
              <a:avLst/>
              <a:gdLst/>
              <a:ahLst/>
              <a:rect l="l" t="t" r="r" b="b"/>
              <a:pathLst>
                <a:path w="5" h="20">
                  <a:moveTo>
                    <a:pt x="5" y="0"/>
                  </a:moveTo>
                  <a:lnTo>
                    <a:pt x="0" y="10"/>
                  </a:lnTo>
                  <a:lnTo>
                    <a:pt x="0" y="2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2" name=""/>
            <p:cNvSpPr/>
            <p:nvPr/>
          </p:nvSpPr>
          <p:spPr>
            <a:xfrm>
              <a:off x="5154480" y="4236840"/>
              <a:ext cx="1440" cy="298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3" name=""/>
            <p:cNvSpPr/>
            <p:nvPr/>
          </p:nvSpPr>
          <p:spPr>
            <a:xfrm>
              <a:off x="5146560" y="4298760"/>
              <a:ext cx="7920" cy="313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4" name=""/>
            <p:cNvSpPr/>
            <p:nvPr/>
          </p:nvSpPr>
          <p:spPr>
            <a:xfrm>
              <a:off x="5162400" y="4362120"/>
              <a:ext cx="7920" cy="31680"/>
            </a:xfrm>
            <a:custGeom>
              <a:avLst/>
              <a:gdLst/>
              <a:ahLst/>
              <a:rect l="l" t="t" r="r" b="b"/>
              <a:pathLst>
                <a:path w="5" h="20">
                  <a:moveTo>
                    <a:pt x="0" y="0"/>
                  </a:moveTo>
                  <a:lnTo>
                    <a:pt x="0" y="5"/>
                  </a:lnTo>
                  <a:lnTo>
                    <a:pt x="5" y="2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5" name=""/>
            <p:cNvSpPr/>
            <p:nvPr/>
          </p:nvSpPr>
          <p:spPr>
            <a:xfrm>
              <a:off x="5178240" y="4424040"/>
              <a:ext cx="7920" cy="313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6" name=""/>
            <p:cNvSpPr/>
            <p:nvPr/>
          </p:nvSpPr>
          <p:spPr>
            <a:xfrm>
              <a:off x="5194080" y="4487760"/>
              <a:ext cx="7920" cy="313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7" name=""/>
            <p:cNvSpPr/>
            <p:nvPr/>
          </p:nvSpPr>
          <p:spPr>
            <a:xfrm>
              <a:off x="5209920" y="4549680"/>
              <a:ext cx="1440" cy="31320"/>
            </a:xfrm>
            <a:custGeom>
              <a:avLst/>
              <a:gdLst/>
              <a:ahLst/>
              <a:rect l="l" t="t" r="r" b="b"/>
              <a:pathLst>
                <a:path w="0" h="20">
                  <a:moveTo>
                    <a:pt x="0" y="0"/>
                  </a:moveTo>
                  <a:lnTo>
                    <a:pt x="0" y="20"/>
                  </a:lnTo>
                  <a:lnTo>
                    <a:pt x="0" y="2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8" name=""/>
            <p:cNvSpPr/>
            <p:nvPr/>
          </p:nvSpPr>
          <p:spPr>
            <a:xfrm>
              <a:off x="5194080" y="4613040"/>
              <a:ext cx="7920" cy="31320"/>
            </a:xfrm>
            <a:custGeom>
              <a:avLst/>
              <a:gdLst/>
              <a:ahLst/>
              <a:rect l="l" t="t" r="r" b="b"/>
              <a:pathLst>
                <a:path w="5" h="20">
                  <a:moveTo>
                    <a:pt x="5" y="0"/>
                  </a:moveTo>
                  <a:lnTo>
                    <a:pt x="5" y="10"/>
                  </a:lnTo>
                  <a:lnTo>
                    <a:pt x="0" y="2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9" name=""/>
            <p:cNvSpPr/>
            <p:nvPr/>
          </p:nvSpPr>
          <p:spPr>
            <a:xfrm flipH="1">
              <a:off x="5178240" y="4674960"/>
              <a:ext cx="7920" cy="313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0" name=""/>
            <p:cNvSpPr/>
            <p:nvPr/>
          </p:nvSpPr>
          <p:spPr>
            <a:xfrm>
              <a:off x="5170320" y="4738320"/>
              <a:ext cx="1440" cy="75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1" name=""/>
            <p:cNvSpPr/>
            <p:nvPr/>
          </p:nvSpPr>
          <p:spPr>
            <a:xfrm>
              <a:off x="3976560" y="4690800"/>
              <a:ext cx="3168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2" name=""/>
            <p:cNvSpPr/>
            <p:nvPr/>
          </p:nvSpPr>
          <p:spPr>
            <a:xfrm>
              <a:off x="4039920" y="4698720"/>
              <a:ext cx="31680" cy="1440"/>
            </a:xfrm>
            <a:custGeom>
              <a:avLst/>
              <a:gdLst/>
              <a:ahLst/>
              <a:rect l="l" t="t" r="r" b="b"/>
              <a:pathLst>
                <a:path w="20" h="0">
                  <a:moveTo>
                    <a:pt x="0" y="0"/>
                  </a:moveTo>
                  <a:lnTo>
                    <a:pt x="0" y="0"/>
                  </a:lnTo>
                  <a:lnTo>
                    <a:pt x="2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3" name=""/>
            <p:cNvSpPr/>
            <p:nvPr/>
          </p:nvSpPr>
          <p:spPr>
            <a:xfrm>
              <a:off x="4101840" y="4698720"/>
              <a:ext cx="31680" cy="1440"/>
            </a:xfrm>
            <a:custGeom>
              <a:avLst/>
              <a:gdLst/>
              <a:ahLst/>
              <a:rect l="l" t="t" r="r" b="b"/>
              <a:pathLst>
                <a:path w="20" h="0">
                  <a:moveTo>
                    <a:pt x="0" y="0"/>
                  </a:moveTo>
                  <a:lnTo>
                    <a:pt x="5" y="0"/>
                  </a:lnTo>
                  <a:lnTo>
                    <a:pt x="2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4" name=""/>
            <p:cNvSpPr/>
            <p:nvPr/>
          </p:nvSpPr>
          <p:spPr>
            <a:xfrm>
              <a:off x="4141440" y="4636800"/>
              <a:ext cx="1800" cy="37800"/>
            </a:xfrm>
            <a:custGeom>
              <a:avLst/>
              <a:gdLst/>
              <a:ahLst/>
              <a:rect l="l" t="t" r="r" b="b"/>
              <a:pathLst>
                <a:path w="0" h="24">
                  <a:moveTo>
                    <a:pt x="0" y="24"/>
                  </a:moveTo>
                  <a:lnTo>
                    <a:pt x="0" y="2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5" name=""/>
            <p:cNvSpPr/>
            <p:nvPr/>
          </p:nvSpPr>
          <p:spPr>
            <a:xfrm flipV="1">
              <a:off x="4141440" y="4573080"/>
              <a:ext cx="1800" cy="313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6" name=""/>
            <p:cNvSpPr/>
            <p:nvPr/>
          </p:nvSpPr>
          <p:spPr>
            <a:xfrm flipV="1">
              <a:off x="4157280" y="4541400"/>
              <a:ext cx="32040" cy="75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7" name=""/>
            <p:cNvSpPr/>
            <p:nvPr/>
          </p:nvSpPr>
          <p:spPr>
            <a:xfrm flipV="1">
              <a:off x="4221000" y="4527000"/>
              <a:ext cx="30240" cy="61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8" name=""/>
            <p:cNvSpPr/>
            <p:nvPr/>
          </p:nvSpPr>
          <p:spPr>
            <a:xfrm flipV="1">
              <a:off x="4282920" y="4511160"/>
              <a:ext cx="23760" cy="75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9" name=""/>
            <p:cNvSpPr/>
            <p:nvPr/>
          </p:nvSpPr>
          <p:spPr>
            <a:xfrm>
              <a:off x="4338360" y="4495680"/>
              <a:ext cx="31680" cy="7560"/>
            </a:xfrm>
            <a:custGeom>
              <a:avLst/>
              <a:gdLst/>
              <a:ahLst/>
              <a:rect l="l" t="t" r="r" b="b"/>
              <a:pathLst>
                <a:path w="20" h="5">
                  <a:moveTo>
                    <a:pt x="0" y="5"/>
                  </a:moveTo>
                  <a:lnTo>
                    <a:pt x="20" y="0"/>
                  </a:lnTo>
                  <a:lnTo>
                    <a:pt x="2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0" name=""/>
            <p:cNvSpPr/>
            <p:nvPr/>
          </p:nvSpPr>
          <p:spPr>
            <a:xfrm>
              <a:off x="4400280" y="4471920"/>
              <a:ext cx="23760" cy="15480"/>
            </a:xfrm>
            <a:custGeom>
              <a:avLst/>
              <a:gdLst/>
              <a:ahLst/>
              <a:rect l="l" t="t" r="r" b="b"/>
              <a:pathLst>
                <a:path w="15" h="10">
                  <a:moveTo>
                    <a:pt x="0" y="10"/>
                  </a:moveTo>
                  <a:lnTo>
                    <a:pt x="15" y="10"/>
                  </a:lnTo>
                  <a:lnTo>
                    <a:pt x="1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1" name=""/>
            <p:cNvSpPr/>
            <p:nvPr/>
          </p:nvSpPr>
          <p:spPr>
            <a:xfrm flipH="1" flipV="1">
              <a:off x="4384440" y="4415760"/>
              <a:ext cx="15840" cy="234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2" name=""/>
            <p:cNvSpPr/>
            <p:nvPr/>
          </p:nvSpPr>
          <p:spPr>
            <a:xfrm>
              <a:off x="4362120" y="4362120"/>
              <a:ext cx="14400" cy="23400"/>
            </a:xfrm>
            <a:custGeom>
              <a:avLst/>
              <a:gdLst/>
              <a:ahLst/>
              <a:rect l="l" t="t" r="r" b="b"/>
              <a:pathLst>
                <a:path w="9" h="15">
                  <a:moveTo>
                    <a:pt x="9" y="15"/>
                  </a:moveTo>
                  <a:lnTo>
                    <a:pt x="0" y="5"/>
                  </a:lnTo>
                  <a:lnTo>
                    <a:pt x="9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3" name=""/>
            <p:cNvSpPr/>
            <p:nvPr/>
          </p:nvSpPr>
          <p:spPr>
            <a:xfrm flipV="1">
              <a:off x="4400280" y="4338000"/>
              <a:ext cx="31680" cy="75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4" name=""/>
            <p:cNvSpPr/>
            <p:nvPr/>
          </p:nvSpPr>
          <p:spPr>
            <a:xfrm flipV="1">
              <a:off x="4463640" y="4306320"/>
              <a:ext cx="24120" cy="154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5" name=""/>
            <p:cNvSpPr/>
            <p:nvPr/>
          </p:nvSpPr>
          <p:spPr>
            <a:xfrm>
              <a:off x="4517640" y="4282920"/>
              <a:ext cx="32040" cy="15480"/>
            </a:xfrm>
            <a:custGeom>
              <a:avLst/>
              <a:gdLst/>
              <a:ahLst/>
              <a:rect l="l" t="t" r="r" b="b"/>
              <a:pathLst>
                <a:path w="20" h="10">
                  <a:moveTo>
                    <a:pt x="0" y="10"/>
                  </a:moveTo>
                  <a:lnTo>
                    <a:pt x="5" y="5"/>
                  </a:lnTo>
                  <a:lnTo>
                    <a:pt x="2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6" name=""/>
            <p:cNvSpPr/>
            <p:nvPr/>
          </p:nvSpPr>
          <p:spPr>
            <a:xfrm flipV="1">
              <a:off x="4581360" y="4260240"/>
              <a:ext cx="23760" cy="61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7" name=""/>
            <p:cNvSpPr/>
            <p:nvPr/>
          </p:nvSpPr>
          <p:spPr>
            <a:xfrm>
              <a:off x="4636800" y="4228920"/>
              <a:ext cx="30240" cy="15480"/>
            </a:xfrm>
            <a:custGeom>
              <a:avLst/>
              <a:gdLst/>
              <a:ahLst/>
              <a:rect l="l" t="t" r="r" b="b"/>
              <a:pathLst>
                <a:path w="19" h="10">
                  <a:moveTo>
                    <a:pt x="0" y="10"/>
                  </a:moveTo>
                  <a:lnTo>
                    <a:pt x="5" y="10"/>
                  </a:lnTo>
                  <a:lnTo>
                    <a:pt x="19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8" name=""/>
            <p:cNvSpPr/>
            <p:nvPr/>
          </p:nvSpPr>
          <p:spPr>
            <a:xfrm flipV="1">
              <a:off x="4690800" y="4204800"/>
              <a:ext cx="31680" cy="154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9" name=""/>
            <p:cNvSpPr/>
            <p:nvPr/>
          </p:nvSpPr>
          <p:spPr>
            <a:xfrm flipV="1">
              <a:off x="4754160" y="4181040"/>
              <a:ext cx="32040" cy="75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0" name=""/>
            <p:cNvSpPr/>
            <p:nvPr/>
          </p:nvSpPr>
          <p:spPr>
            <a:xfrm flipV="1">
              <a:off x="4808160" y="4149360"/>
              <a:ext cx="32040" cy="158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1" name=""/>
            <p:cNvSpPr/>
            <p:nvPr/>
          </p:nvSpPr>
          <p:spPr>
            <a:xfrm flipV="1">
              <a:off x="4871880" y="4125240"/>
              <a:ext cx="23760" cy="154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2" name=""/>
            <p:cNvSpPr/>
            <p:nvPr/>
          </p:nvSpPr>
          <p:spPr>
            <a:xfrm>
              <a:off x="4927320" y="4119480"/>
              <a:ext cx="3024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3" name=""/>
            <p:cNvSpPr/>
            <p:nvPr/>
          </p:nvSpPr>
          <p:spPr>
            <a:xfrm>
              <a:off x="4997160" y="4119480"/>
              <a:ext cx="3168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4" name=""/>
            <p:cNvSpPr/>
            <p:nvPr/>
          </p:nvSpPr>
          <p:spPr>
            <a:xfrm>
              <a:off x="5060880" y="4119480"/>
              <a:ext cx="15840" cy="576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0" y="0"/>
                  </a:moveTo>
                  <a:lnTo>
                    <a:pt x="10" y="0"/>
                  </a:lnTo>
                  <a:lnTo>
                    <a:pt x="10" y="4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5" name=""/>
            <p:cNvSpPr/>
            <p:nvPr/>
          </p:nvSpPr>
          <p:spPr>
            <a:xfrm>
              <a:off x="5068800" y="4157280"/>
              <a:ext cx="7920" cy="31680"/>
            </a:xfrm>
            <a:custGeom>
              <a:avLst/>
              <a:gdLst/>
              <a:ahLst/>
              <a:rect l="l" t="t" r="r" b="b"/>
              <a:pathLst>
                <a:path w="5" h="20">
                  <a:moveTo>
                    <a:pt x="5" y="0"/>
                  </a:moveTo>
                  <a:lnTo>
                    <a:pt x="5" y="5"/>
                  </a:lnTo>
                  <a:lnTo>
                    <a:pt x="0" y="2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6" name=""/>
            <p:cNvSpPr/>
            <p:nvPr/>
          </p:nvSpPr>
          <p:spPr>
            <a:xfrm flipH="1">
              <a:off x="5044680" y="4221000"/>
              <a:ext cx="7920" cy="313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7" name=""/>
            <p:cNvSpPr/>
            <p:nvPr/>
          </p:nvSpPr>
          <p:spPr>
            <a:xfrm flipH="1">
              <a:off x="5028840" y="4282920"/>
              <a:ext cx="7920" cy="313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8" name=""/>
            <p:cNvSpPr/>
            <p:nvPr/>
          </p:nvSpPr>
          <p:spPr>
            <a:xfrm>
              <a:off x="4997160" y="4346280"/>
              <a:ext cx="23760" cy="15480"/>
            </a:xfrm>
            <a:custGeom>
              <a:avLst/>
              <a:gdLst/>
              <a:ahLst/>
              <a:rect l="l" t="t" r="r" b="b"/>
              <a:pathLst>
                <a:path w="15" h="10">
                  <a:moveTo>
                    <a:pt x="15" y="0"/>
                  </a:moveTo>
                  <a:lnTo>
                    <a:pt x="10" y="5"/>
                  </a:lnTo>
                  <a:lnTo>
                    <a:pt x="0" y="1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9" name=""/>
            <p:cNvSpPr/>
            <p:nvPr/>
          </p:nvSpPr>
          <p:spPr>
            <a:xfrm>
              <a:off x="4965480" y="4377960"/>
              <a:ext cx="7920" cy="21960"/>
            </a:xfrm>
            <a:custGeom>
              <a:avLst/>
              <a:gdLst/>
              <a:ahLst/>
              <a:rect l="l" t="t" r="r" b="b"/>
              <a:pathLst>
                <a:path w="5" h="14">
                  <a:moveTo>
                    <a:pt x="0" y="0"/>
                  </a:moveTo>
                  <a:lnTo>
                    <a:pt x="0" y="0"/>
                  </a:lnTo>
                  <a:lnTo>
                    <a:pt x="5" y="14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0" name=""/>
            <p:cNvSpPr/>
            <p:nvPr/>
          </p:nvSpPr>
          <p:spPr>
            <a:xfrm>
              <a:off x="4989240" y="4431960"/>
              <a:ext cx="15840" cy="316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1" name=""/>
            <p:cNvSpPr/>
            <p:nvPr/>
          </p:nvSpPr>
          <p:spPr>
            <a:xfrm>
              <a:off x="5013000" y="4487760"/>
              <a:ext cx="15840" cy="313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2" name=""/>
            <p:cNvSpPr/>
            <p:nvPr/>
          </p:nvSpPr>
          <p:spPr>
            <a:xfrm>
              <a:off x="5044680" y="4549680"/>
              <a:ext cx="7920" cy="313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3" name=""/>
            <p:cNvSpPr/>
            <p:nvPr/>
          </p:nvSpPr>
          <p:spPr>
            <a:xfrm>
              <a:off x="5068800" y="4605120"/>
              <a:ext cx="15840" cy="313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04" name=""/>
          <p:cNvGrpSpPr/>
          <p:nvPr/>
        </p:nvGrpSpPr>
        <p:grpSpPr>
          <a:xfrm>
            <a:off x="2824200" y="2860560"/>
            <a:ext cx="3619440" cy="2160720"/>
            <a:chOff x="2824200" y="2860560"/>
            <a:chExt cx="3619440" cy="2160720"/>
          </a:xfrm>
        </p:grpSpPr>
        <p:sp>
          <p:nvSpPr>
            <p:cNvPr id="2805" name=""/>
            <p:cNvSpPr/>
            <p:nvPr/>
          </p:nvSpPr>
          <p:spPr>
            <a:xfrm>
              <a:off x="5076720" y="4635360"/>
              <a:ext cx="15840" cy="223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6" name=""/>
            <p:cNvSpPr/>
            <p:nvPr/>
          </p:nvSpPr>
          <p:spPr>
            <a:xfrm>
              <a:off x="5108400" y="4689360"/>
              <a:ext cx="24120" cy="15840"/>
            </a:xfrm>
            <a:custGeom>
              <a:avLst/>
              <a:gdLst/>
              <a:ahLst/>
              <a:rect l="l" t="t" r="r" b="b"/>
              <a:pathLst>
                <a:path w="15" h="10">
                  <a:moveTo>
                    <a:pt x="0" y="0"/>
                  </a:moveTo>
                  <a:lnTo>
                    <a:pt x="0" y="10"/>
                  </a:lnTo>
                  <a:lnTo>
                    <a:pt x="15" y="1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7" name=""/>
            <p:cNvSpPr/>
            <p:nvPr/>
          </p:nvSpPr>
          <p:spPr>
            <a:xfrm>
              <a:off x="5164200" y="4713120"/>
              <a:ext cx="31680" cy="18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8" name=""/>
            <p:cNvSpPr/>
            <p:nvPr/>
          </p:nvSpPr>
          <p:spPr>
            <a:xfrm>
              <a:off x="5226120" y="4713120"/>
              <a:ext cx="31680" cy="82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9" name=""/>
            <p:cNvSpPr/>
            <p:nvPr/>
          </p:nvSpPr>
          <p:spPr>
            <a:xfrm>
              <a:off x="5289480" y="4721400"/>
              <a:ext cx="31680" cy="7920"/>
            </a:xfrm>
            <a:custGeom>
              <a:avLst/>
              <a:gdLst/>
              <a:ahLst/>
              <a:rect l="l" t="t" r="r" b="b"/>
              <a:pathLst>
                <a:path w="20" h="5">
                  <a:moveTo>
                    <a:pt x="0" y="0"/>
                  </a:moveTo>
                  <a:lnTo>
                    <a:pt x="10" y="0"/>
                  </a:lnTo>
                  <a:lnTo>
                    <a:pt x="15" y="0"/>
                  </a:lnTo>
                  <a:lnTo>
                    <a:pt x="20" y="5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0" name=""/>
            <p:cNvSpPr/>
            <p:nvPr/>
          </p:nvSpPr>
          <p:spPr>
            <a:xfrm>
              <a:off x="5345280" y="4745160"/>
              <a:ext cx="29880" cy="158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1" name=""/>
            <p:cNvSpPr/>
            <p:nvPr/>
          </p:nvSpPr>
          <p:spPr>
            <a:xfrm>
              <a:off x="5398920" y="4775040"/>
              <a:ext cx="32040" cy="162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2" name=""/>
            <p:cNvSpPr/>
            <p:nvPr/>
          </p:nvSpPr>
          <p:spPr>
            <a:xfrm>
              <a:off x="5454720" y="4807080"/>
              <a:ext cx="31680" cy="158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3" name=""/>
            <p:cNvSpPr/>
            <p:nvPr/>
          </p:nvSpPr>
          <p:spPr>
            <a:xfrm>
              <a:off x="5508720" y="4838760"/>
              <a:ext cx="31680" cy="237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4" name=""/>
            <p:cNvSpPr/>
            <p:nvPr/>
          </p:nvSpPr>
          <p:spPr>
            <a:xfrm>
              <a:off x="5564160" y="487836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0" y="0"/>
                  </a:moveTo>
                  <a:lnTo>
                    <a:pt x="10" y="5"/>
                  </a:lnTo>
                  <a:lnTo>
                    <a:pt x="10" y="1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5" name=""/>
            <p:cNvSpPr/>
            <p:nvPr/>
          </p:nvSpPr>
          <p:spPr>
            <a:xfrm>
              <a:off x="5548320" y="4924440"/>
              <a:ext cx="7920" cy="31680"/>
            </a:xfrm>
            <a:custGeom>
              <a:avLst/>
              <a:gdLst/>
              <a:ahLst/>
              <a:rect l="l" t="t" r="r" b="b"/>
              <a:pathLst>
                <a:path w="5" h="20">
                  <a:moveTo>
                    <a:pt x="5" y="0"/>
                  </a:moveTo>
                  <a:lnTo>
                    <a:pt x="5" y="5"/>
                  </a:lnTo>
                  <a:lnTo>
                    <a:pt x="0" y="2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6" name=""/>
            <p:cNvSpPr/>
            <p:nvPr/>
          </p:nvSpPr>
          <p:spPr>
            <a:xfrm>
              <a:off x="2824200" y="2860560"/>
              <a:ext cx="745920" cy="362160"/>
            </a:xfrm>
            <a:custGeom>
              <a:avLst/>
              <a:gdLst/>
              <a:ahLst/>
              <a:rect l="l" t="t" r="r" b="b"/>
              <a:pathLst>
                <a:path w="470" h="228">
                  <a:moveTo>
                    <a:pt x="470" y="45"/>
                  </a:moveTo>
                  <a:lnTo>
                    <a:pt x="420" y="40"/>
                  </a:lnTo>
                  <a:lnTo>
                    <a:pt x="292" y="20"/>
                  </a:lnTo>
                  <a:lnTo>
                    <a:pt x="203" y="5"/>
                  </a:lnTo>
                  <a:lnTo>
                    <a:pt x="144" y="0"/>
                  </a:lnTo>
                  <a:lnTo>
                    <a:pt x="144" y="60"/>
                  </a:lnTo>
                  <a:lnTo>
                    <a:pt x="144" y="114"/>
                  </a:lnTo>
                  <a:lnTo>
                    <a:pt x="144" y="124"/>
                  </a:lnTo>
                  <a:lnTo>
                    <a:pt x="139" y="139"/>
                  </a:lnTo>
                  <a:lnTo>
                    <a:pt x="99" y="169"/>
                  </a:lnTo>
                  <a:lnTo>
                    <a:pt x="40" y="208"/>
                  </a:lnTo>
                  <a:lnTo>
                    <a:pt x="0" y="228"/>
                  </a:lnTo>
                </a:path>
              </a:pathLst>
            </a:custGeom>
            <a:noFill/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7" name=""/>
            <p:cNvSpPr/>
            <p:nvPr/>
          </p:nvSpPr>
          <p:spPr>
            <a:xfrm>
              <a:off x="3986280" y="4500720"/>
              <a:ext cx="1440" cy="316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8" name=""/>
            <p:cNvSpPr/>
            <p:nvPr/>
          </p:nvSpPr>
          <p:spPr>
            <a:xfrm flipH="1">
              <a:off x="3970440" y="4564080"/>
              <a:ext cx="7920" cy="316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9" name=""/>
            <p:cNvSpPr/>
            <p:nvPr/>
          </p:nvSpPr>
          <p:spPr>
            <a:xfrm flipH="1">
              <a:off x="3962520" y="4627440"/>
              <a:ext cx="7920" cy="302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0" name=""/>
            <p:cNvSpPr/>
            <p:nvPr/>
          </p:nvSpPr>
          <p:spPr>
            <a:xfrm>
              <a:off x="3954600" y="4689360"/>
              <a:ext cx="1440" cy="320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1" name=""/>
            <p:cNvSpPr/>
            <p:nvPr/>
          </p:nvSpPr>
          <p:spPr>
            <a:xfrm flipH="1">
              <a:off x="3938760" y="4753080"/>
              <a:ext cx="7920" cy="298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2" name=""/>
            <p:cNvSpPr/>
            <p:nvPr/>
          </p:nvSpPr>
          <p:spPr>
            <a:xfrm flipH="1">
              <a:off x="3930120" y="4815000"/>
              <a:ext cx="8280" cy="316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3" name=""/>
            <p:cNvSpPr/>
            <p:nvPr/>
          </p:nvSpPr>
          <p:spPr>
            <a:xfrm>
              <a:off x="3922560" y="4878360"/>
              <a:ext cx="1800" cy="316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4" name=""/>
            <p:cNvSpPr/>
            <p:nvPr/>
          </p:nvSpPr>
          <p:spPr>
            <a:xfrm flipH="1">
              <a:off x="3908520" y="4940280"/>
              <a:ext cx="7920" cy="316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5" name=""/>
            <p:cNvSpPr/>
            <p:nvPr/>
          </p:nvSpPr>
          <p:spPr>
            <a:xfrm>
              <a:off x="3908520" y="5003640"/>
              <a:ext cx="1440" cy="18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6" name=""/>
            <p:cNvSpPr/>
            <p:nvPr/>
          </p:nvSpPr>
          <p:spPr>
            <a:xfrm flipV="1">
              <a:off x="3986280" y="4438800"/>
              <a:ext cx="7920" cy="619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7" name=""/>
            <p:cNvSpPr/>
            <p:nvPr/>
          </p:nvSpPr>
          <p:spPr>
            <a:xfrm>
              <a:off x="4002120" y="4321080"/>
              <a:ext cx="31680" cy="54000"/>
            </a:xfrm>
            <a:custGeom>
              <a:avLst/>
              <a:gdLst/>
              <a:ahLst/>
              <a:rect l="l" t="t" r="r" b="b"/>
              <a:pathLst>
                <a:path w="20" h="34">
                  <a:moveTo>
                    <a:pt x="0" y="34"/>
                  </a:moveTo>
                  <a:lnTo>
                    <a:pt x="5" y="20"/>
                  </a:lnTo>
                  <a:lnTo>
                    <a:pt x="2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8" name=""/>
            <p:cNvSpPr/>
            <p:nvPr/>
          </p:nvSpPr>
          <p:spPr>
            <a:xfrm flipV="1">
              <a:off x="4079880" y="4219560"/>
              <a:ext cx="39600" cy="540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9" name=""/>
            <p:cNvSpPr/>
            <p:nvPr/>
          </p:nvSpPr>
          <p:spPr>
            <a:xfrm flipV="1">
              <a:off x="4159080" y="4123800"/>
              <a:ext cx="47880" cy="478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0" name=""/>
            <p:cNvSpPr/>
            <p:nvPr/>
          </p:nvSpPr>
          <p:spPr>
            <a:xfrm flipV="1">
              <a:off x="4245120" y="4030200"/>
              <a:ext cx="47520" cy="478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1" name=""/>
            <p:cNvSpPr/>
            <p:nvPr/>
          </p:nvSpPr>
          <p:spPr>
            <a:xfrm>
              <a:off x="4332240" y="3936960"/>
              <a:ext cx="38160" cy="46080"/>
            </a:xfrm>
            <a:custGeom>
              <a:avLst/>
              <a:gdLst/>
              <a:ahLst/>
              <a:rect l="l" t="t" r="r" b="b"/>
              <a:pathLst>
                <a:path w="24" h="29">
                  <a:moveTo>
                    <a:pt x="0" y="29"/>
                  </a:moveTo>
                  <a:lnTo>
                    <a:pt x="15" y="14"/>
                  </a:lnTo>
                  <a:lnTo>
                    <a:pt x="24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2" name=""/>
            <p:cNvSpPr/>
            <p:nvPr/>
          </p:nvSpPr>
          <p:spPr>
            <a:xfrm flipV="1">
              <a:off x="4417920" y="3841920"/>
              <a:ext cx="39960" cy="475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3" name=""/>
            <p:cNvSpPr/>
            <p:nvPr/>
          </p:nvSpPr>
          <p:spPr>
            <a:xfrm>
              <a:off x="4511520" y="3803760"/>
              <a:ext cx="63720" cy="14040"/>
            </a:xfrm>
            <a:custGeom>
              <a:avLst/>
              <a:gdLst/>
              <a:ahLst/>
              <a:rect l="l" t="t" r="r" b="b"/>
              <a:pathLst>
                <a:path w="40" h="9">
                  <a:moveTo>
                    <a:pt x="0" y="9"/>
                  </a:moveTo>
                  <a:lnTo>
                    <a:pt x="15" y="9"/>
                  </a:lnTo>
                  <a:lnTo>
                    <a:pt x="4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4" name=""/>
            <p:cNvSpPr/>
            <p:nvPr/>
          </p:nvSpPr>
          <p:spPr>
            <a:xfrm>
              <a:off x="2824200" y="3230640"/>
              <a:ext cx="31680" cy="79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5" name=""/>
            <p:cNvSpPr/>
            <p:nvPr/>
          </p:nvSpPr>
          <p:spPr>
            <a:xfrm>
              <a:off x="2887560" y="3246480"/>
              <a:ext cx="23760" cy="79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6" name=""/>
            <p:cNvSpPr/>
            <p:nvPr/>
          </p:nvSpPr>
          <p:spPr>
            <a:xfrm>
              <a:off x="2941560" y="3270240"/>
              <a:ext cx="15840" cy="1440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0" y="0"/>
                  </a:moveTo>
                  <a:lnTo>
                    <a:pt x="10" y="0"/>
                  </a:lnTo>
                  <a:lnTo>
                    <a:pt x="0" y="9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7" name=""/>
            <p:cNvSpPr/>
            <p:nvPr/>
          </p:nvSpPr>
          <p:spPr>
            <a:xfrm>
              <a:off x="2903400" y="3308400"/>
              <a:ext cx="22320" cy="31680"/>
            </a:xfrm>
            <a:custGeom>
              <a:avLst/>
              <a:gdLst/>
              <a:ahLst/>
              <a:rect l="l" t="t" r="r" b="b"/>
              <a:pathLst>
                <a:path w="14" h="20">
                  <a:moveTo>
                    <a:pt x="14" y="0"/>
                  </a:moveTo>
                  <a:lnTo>
                    <a:pt x="9" y="5"/>
                  </a:lnTo>
                  <a:lnTo>
                    <a:pt x="5" y="10"/>
                  </a:lnTo>
                  <a:lnTo>
                    <a:pt x="0" y="2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8" name=""/>
            <p:cNvSpPr/>
            <p:nvPr/>
          </p:nvSpPr>
          <p:spPr>
            <a:xfrm>
              <a:off x="2879640" y="3363840"/>
              <a:ext cx="7920" cy="31680"/>
            </a:xfrm>
            <a:custGeom>
              <a:avLst/>
              <a:gdLst/>
              <a:ahLst/>
              <a:rect l="l" t="t" r="r" b="b"/>
              <a:pathLst>
                <a:path w="5" h="20">
                  <a:moveTo>
                    <a:pt x="5" y="0"/>
                  </a:moveTo>
                  <a:lnTo>
                    <a:pt x="5" y="5"/>
                  </a:lnTo>
                  <a:lnTo>
                    <a:pt x="0" y="10"/>
                  </a:lnTo>
                  <a:lnTo>
                    <a:pt x="0" y="2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9" name=""/>
            <p:cNvSpPr/>
            <p:nvPr/>
          </p:nvSpPr>
          <p:spPr>
            <a:xfrm>
              <a:off x="2871720" y="3425760"/>
              <a:ext cx="1800" cy="31680"/>
            </a:xfrm>
            <a:custGeom>
              <a:avLst/>
              <a:gdLst/>
              <a:ahLst/>
              <a:rect l="l" t="t" r="r" b="b"/>
              <a:pathLst>
                <a:path w="0" h="20">
                  <a:moveTo>
                    <a:pt x="0" y="0"/>
                  </a:moveTo>
                  <a:lnTo>
                    <a:pt x="0" y="0"/>
                  </a:lnTo>
                  <a:lnTo>
                    <a:pt x="0" y="2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0" name=""/>
            <p:cNvSpPr/>
            <p:nvPr/>
          </p:nvSpPr>
          <p:spPr>
            <a:xfrm>
              <a:off x="2863800" y="3489480"/>
              <a:ext cx="1800" cy="31680"/>
            </a:xfrm>
            <a:custGeom>
              <a:avLst/>
              <a:gdLst/>
              <a:ahLst/>
              <a:rect l="l" t="t" r="r" b="b"/>
              <a:pathLst>
                <a:path w="0" h="20">
                  <a:moveTo>
                    <a:pt x="0" y="0"/>
                  </a:moveTo>
                  <a:lnTo>
                    <a:pt x="0" y="10"/>
                  </a:lnTo>
                  <a:lnTo>
                    <a:pt x="0" y="2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1" name=""/>
            <p:cNvSpPr/>
            <p:nvPr/>
          </p:nvSpPr>
          <p:spPr>
            <a:xfrm>
              <a:off x="2863800" y="3551400"/>
              <a:ext cx="1800" cy="31680"/>
            </a:xfrm>
            <a:custGeom>
              <a:avLst/>
              <a:gdLst/>
              <a:ahLst/>
              <a:rect l="l" t="t" r="r" b="b"/>
              <a:pathLst>
                <a:path w="0" h="20">
                  <a:moveTo>
                    <a:pt x="0" y="0"/>
                  </a:moveTo>
                  <a:lnTo>
                    <a:pt x="0" y="10"/>
                  </a:lnTo>
                  <a:lnTo>
                    <a:pt x="0" y="2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2" name=""/>
            <p:cNvSpPr/>
            <p:nvPr/>
          </p:nvSpPr>
          <p:spPr>
            <a:xfrm>
              <a:off x="2855880" y="3614760"/>
              <a:ext cx="7920" cy="31680"/>
            </a:xfrm>
            <a:custGeom>
              <a:avLst/>
              <a:gdLst/>
              <a:ahLst/>
              <a:rect l="l" t="t" r="r" b="b"/>
              <a:pathLst>
                <a:path w="5" h="20">
                  <a:moveTo>
                    <a:pt x="5" y="0"/>
                  </a:moveTo>
                  <a:lnTo>
                    <a:pt x="0" y="10"/>
                  </a:lnTo>
                  <a:lnTo>
                    <a:pt x="0" y="20"/>
                  </a:lnTo>
                  <a:lnTo>
                    <a:pt x="0" y="2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3" name=""/>
            <p:cNvSpPr/>
            <p:nvPr/>
          </p:nvSpPr>
          <p:spPr>
            <a:xfrm>
              <a:off x="2855880" y="3678120"/>
              <a:ext cx="7920" cy="30240"/>
            </a:xfrm>
            <a:custGeom>
              <a:avLst/>
              <a:gdLst/>
              <a:ahLst/>
              <a:rect l="l" t="t" r="r" b="b"/>
              <a:pathLst>
                <a:path w="5" h="19">
                  <a:moveTo>
                    <a:pt x="0" y="0"/>
                  </a:moveTo>
                  <a:lnTo>
                    <a:pt x="5" y="4"/>
                  </a:lnTo>
                  <a:lnTo>
                    <a:pt x="5" y="14"/>
                  </a:lnTo>
                  <a:lnTo>
                    <a:pt x="5" y="19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4" name=""/>
            <p:cNvSpPr/>
            <p:nvPr/>
          </p:nvSpPr>
          <p:spPr>
            <a:xfrm>
              <a:off x="2879640" y="3740040"/>
              <a:ext cx="7920" cy="32040"/>
            </a:xfrm>
            <a:custGeom>
              <a:avLst/>
              <a:gdLst/>
              <a:ahLst/>
              <a:rect l="l" t="t" r="r" b="b"/>
              <a:pathLst>
                <a:path w="5" h="20">
                  <a:moveTo>
                    <a:pt x="0" y="0"/>
                  </a:moveTo>
                  <a:lnTo>
                    <a:pt x="0" y="0"/>
                  </a:lnTo>
                  <a:lnTo>
                    <a:pt x="5" y="15"/>
                  </a:lnTo>
                  <a:lnTo>
                    <a:pt x="5" y="2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5" name=""/>
            <p:cNvSpPr/>
            <p:nvPr/>
          </p:nvSpPr>
          <p:spPr>
            <a:xfrm>
              <a:off x="2903400" y="3795840"/>
              <a:ext cx="1800" cy="29880"/>
            </a:xfrm>
            <a:custGeom>
              <a:avLst/>
              <a:gdLst/>
              <a:ahLst/>
              <a:rect l="l" t="t" r="r" b="b"/>
              <a:pathLst>
                <a:path w="0" h="19">
                  <a:moveTo>
                    <a:pt x="0" y="0"/>
                  </a:moveTo>
                  <a:lnTo>
                    <a:pt x="0" y="10"/>
                  </a:lnTo>
                  <a:lnTo>
                    <a:pt x="0" y="19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6" name=""/>
            <p:cNvSpPr/>
            <p:nvPr/>
          </p:nvSpPr>
          <p:spPr>
            <a:xfrm>
              <a:off x="2911320" y="3857760"/>
              <a:ext cx="14400" cy="31680"/>
            </a:xfrm>
            <a:custGeom>
              <a:avLst/>
              <a:gdLst/>
              <a:ahLst/>
              <a:rect l="l" t="t" r="r" b="b"/>
              <a:pathLst>
                <a:path w="9" h="20">
                  <a:moveTo>
                    <a:pt x="0" y="0"/>
                  </a:moveTo>
                  <a:lnTo>
                    <a:pt x="9" y="10"/>
                  </a:lnTo>
                  <a:lnTo>
                    <a:pt x="9" y="2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7" name=""/>
            <p:cNvSpPr/>
            <p:nvPr/>
          </p:nvSpPr>
          <p:spPr>
            <a:xfrm>
              <a:off x="2925720" y="3921120"/>
              <a:ext cx="1800" cy="316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8" name=""/>
            <p:cNvSpPr/>
            <p:nvPr/>
          </p:nvSpPr>
          <p:spPr>
            <a:xfrm>
              <a:off x="2925720" y="3983040"/>
              <a:ext cx="1800" cy="31680"/>
            </a:xfrm>
            <a:custGeom>
              <a:avLst/>
              <a:gdLst/>
              <a:ahLst/>
              <a:rect l="l" t="t" r="r" b="b"/>
              <a:pathLst>
                <a:path w="0" h="20">
                  <a:moveTo>
                    <a:pt x="0" y="0"/>
                  </a:moveTo>
                  <a:lnTo>
                    <a:pt x="0" y="15"/>
                  </a:lnTo>
                  <a:lnTo>
                    <a:pt x="0" y="2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9" name=""/>
            <p:cNvSpPr/>
            <p:nvPr/>
          </p:nvSpPr>
          <p:spPr>
            <a:xfrm>
              <a:off x="2925720" y="4046400"/>
              <a:ext cx="7920" cy="32040"/>
            </a:xfrm>
            <a:custGeom>
              <a:avLst/>
              <a:gdLst/>
              <a:ahLst/>
              <a:rect l="l" t="t" r="r" b="b"/>
              <a:pathLst>
                <a:path w="5" h="20">
                  <a:moveTo>
                    <a:pt x="0" y="0"/>
                  </a:moveTo>
                  <a:lnTo>
                    <a:pt x="0" y="5"/>
                  </a:lnTo>
                  <a:lnTo>
                    <a:pt x="0" y="20"/>
                  </a:lnTo>
                  <a:lnTo>
                    <a:pt x="5" y="2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0" name=""/>
            <p:cNvSpPr/>
            <p:nvPr/>
          </p:nvSpPr>
          <p:spPr>
            <a:xfrm>
              <a:off x="2933640" y="4108320"/>
              <a:ext cx="1800" cy="32040"/>
            </a:xfrm>
            <a:custGeom>
              <a:avLst/>
              <a:gdLst/>
              <a:ahLst/>
              <a:rect l="l" t="t" r="r" b="b"/>
              <a:pathLst>
                <a:path w="0" h="20">
                  <a:moveTo>
                    <a:pt x="0" y="0"/>
                  </a:moveTo>
                  <a:lnTo>
                    <a:pt x="0" y="15"/>
                  </a:lnTo>
                  <a:lnTo>
                    <a:pt x="0" y="2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1" name=""/>
            <p:cNvSpPr/>
            <p:nvPr/>
          </p:nvSpPr>
          <p:spPr>
            <a:xfrm>
              <a:off x="2941560" y="4172040"/>
              <a:ext cx="23760" cy="23760"/>
            </a:xfrm>
            <a:custGeom>
              <a:avLst/>
              <a:gdLst/>
              <a:ahLst/>
              <a:rect l="l" t="t" r="r" b="b"/>
              <a:pathLst>
                <a:path w="15" h="15">
                  <a:moveTo>
                    <a:pt x="0" y="0"/>
                  </a:moveTo>
                  <a:lnTo>
                    <a:pt x="0" y="5"/>
                  </a:lnTo>
                  <a:lnTo>
                    <a:pt x="10" y="10"/>
                  </a:lnTo>
                  <a:lnTo>
                    <a:pt x="15" y="15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2" name=""/>
            <p:cNvSpPr/>
            <p:nvPr/>
          </p:nvSpPr>
          <p:spPr>
            <a:xfrm>
              <a:off x="2997360" y="4203720"/>
              <a:ext cx="23760" cy="7920"/>
            </a:xfrm>
            <a:custGeom>
              <a:avLst/>
              <a:gdLst/>
              <a:ahLst/>
              <a:rect l="l" t="t" r="r" b="b"/>
              <a:pathLst>
                <a:path w="15" h="5">
                  <a:moveTo>
                    <a:pt x="0" y="0"/>
                  </a:moveTo>
                  <a:lnTo>
                    <a:pt x="0" y="0"/>
                  </a:lnTo>
                  <a:lnTo>
                    <a:pt x="5" y="5"/>
                  </a:lnTo>
                  <a:lnTo>
                    <a:pt x="15" y="5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3" name=""/>
            <p:cNvSpPr/>
            <p:nvPr/>
          </p:nvSpPr>
          <p:spPr>
            <a:xfrm>
              <a:off x="3036960" y="4227480"/>
              <a:ext cx="7920" cy="302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4" name=""/>
            <p:cNvSpPr/>
            <p:nvPr/>
          </p:nvSpPr>
          <p:spPr>
            <a:xfrm>
              <a:off x="3044880" y="4289400"/>
              <a:ext cx="14400" cy="23760"/>
            </a:xfrm>
            <a:custGeom>
              <a:avLst/>
              <a:gdLst/>
              <a:ahLst/>
              <a:rect l="l" t="t" r="r" b="b"/>
              <a:pathLst>
                <a:path w="9" h="15">
                  <a:moveTo>
                    <a:pt x="0" y="0"/>
                  </a:moveTo>
                  <a:lnTo>
                    <a:pt x="0" y="10"/>
                  </a:lnTo>
                  <a:lnTo>
                    <a:pt x="5" y="15"/>
                  </a:lnTo>
                  <a:lnTo>
                    <a:pt x="9" y="15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5" name=""/>
            <p:cNvSpPr/>
            <p:nvPr/>
          </p:nvSpPr>
          <p:spPr>
            <a:xfrm>
              <a:off x="3090960" y="4321080"/>
              <a:ext cx="31680" cy="1800"/>
            </a:xfrm>
            <a:custGeom>
              <a:avLst/>
              <a:gdLst/>
              <a:ahLst/>
              <a:rect l="l" t="t" r="r" b="b"/>
              <a:pathLst>
                <a:path w="20" h="0">
                  <a:moveTo>
                    <a:pt x="0" y="0"/>
                  </a:moveTo>
                  <a:lnTo>
                    <a:pt x="15" y="0"/>
                  </a:lnTo>
                  <a:lnTo>
                    <a:pt x="2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6" name=""/>
            <p:cNvSpPr/>
            <p:nvPr/>
          </p:nvSpPr>
          <p:spPr>
            <a:xfrm>
              <a:off x="3154320" y="4329000"/>
              <a:ext cx="31680" cy="79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7" name=""/>
            <p:cNvSpPr/>
            <p:nvPr/>
          </p:nvSpPr>
          <p:spPr>
            <a:xfrm>
              <a:off x="3216240" y="4344840"/>
              <a:ext cx="31680" cy="79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8" name=""/>
            <p:cNvSpPr/>
            <p:nvPr/>
          </p:nvSpPr>
          <p:spPr>
            <a:xfrm>
              <a:off x="3279600" y="4352760"/>
              <a:ext cx="32040" cy="8280"/>
            </a:xfrm>
            <a:custGeom>
              <a:avLst/>
              <a:gdLst/>
              <a:ahLst/>
              <a:rect l="l" t="t" r="r" b="b"/>
              <a:pathLst>
                <a:path w="20" h="5">
                  <a:moveTo>
                    <a:pt x="0" y="0"/>
                  </a:moveTo>
                  <a:lnTo>
                    <a:pt x="15" y="5"/>
                  </a:lnTo>
                  <a:lnTo>
                    <a:pt x="20" y="5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9" name=""/>
            <p:cNvSpPr/>
            <p:nvPr/>
          </p:nvSpPr>
          <p:spPr>
            <a:xfrm>
              <a:off x="3343320" y="4367160"/>
              <a:ext cx="30240" cy="79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0" name=""/>
            <p:cNvSpPr/>
            <p:nvPr/>
          </p:nvSpPr>
          <p:spPr>
            <a:xfrm>
              <a:off x="3405240" y="4375080"/>
              <a:ext cx="31680" cy="7920"/>
            </a:xfrm>
            <a:custGeom>
              <a:avLst/>
              <a:gdLst/>
              <a:ahLst/>
              <a:rect l="l" t="t" r="r" b="b"/>
              <a:pathLst>
                <a:path w="20" h="5">
                  <a:moveTo>
                    <a:pt x="0" y="0"/>
                  </a:moveTo>
                  <a:lnTo>
                    <a:pt x="10" y="5"/>
                  </a:lnTo>
                  <a:lnTo>
                    <a:pt x="15" y="0"/>
                  </a:lnTo>
                  <a:lnTo>
                    <a:pt x="2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1" name=""/>
            <p:cNvSpPr/>
            <p:nvPr/>
          </p:nvSpPr>
          <p:spPr>
            <a:xfrm>
              <a:off x="3460680" y="4375080"/>
              <a:ext cx="30240" cy="7920"/>
            </a:xfrm>
            <a:custGeom>
              <a:avLst/>
              <a:gdLst/>
              <a:ahLst/>
              <a:rect l="l" t="t" r="r" b="b"/>
              <a:pathLst>
                <a:path w="19" h="5">
                  <a:moveTo>
                    <a:pt x="0" y="0"/>
                  </a:moveTo>
                  <a:lnTo>
                    <a:pt x="10" y="0"/>
                  </a:lnTo>
                  <a:lnTo>
                    <a:pt x="19" y="5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2" name=""/>
            <p:cNvSpPr/>
            <p:nvPr/>
          </p:nvSpPr>
          <p:spPr>
            <a:xfrm>
              <a:off x="3522600" y="4398840"/>
              <a:ext cx="23760" cy="15840"/>
            </a:xfrm>
            <a:custGeom>
              <a:avLst/>
              <a:gdLst/>
              <a:ahLst/>
              <a:rect l="l" t="t" r="r" b="b"/>
              <a:pathLst>
                <a:path w="15" h="10">
                  <a:moveTo>
                    <a:pt x="0" y="0"/>
                  </a:moveTo>
                  <a:lnTo>
                    <a:pt x="10" y="10"/>
                  </a:lnTo>
                  <a:lnTo>
                    <a:pt x="15" y="1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3" name=""/>
            <p:cNvSpPr/>
            <p:nvPr/>
          </p:nvSpPr>
          <p:spPr>
            <a:xfrm>
              <a:off x="3578400" y="4430880"/>
              <a:ext cx="15840" cy="23760"/>
            </a:xfrm>
            <a:custGeom>
              <a:avLst/>
              <a:gdLst/>
              <a:ahLst/>
              <a:rect l="l" t="t" r="r" b="b"/>
              <a:pathLst>
                <a:path w="10" h="15">
                  <a:moveTo>
                    <a:pt x="0" y="0"/>
                  </a:moveTo>
                  <a:lnTo>
                    <a:pt x="10" y="5"/>
                  </a:lnTo>
                  <a:lnTo>
                    <a:pt x="10" y="10"/>
                  </a:lnTo>
                  <a:lnTo>
                    <a:pt x="10" y="15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4" name=""/>
            <p:cNvSpPr/>
            <p:nvPr/>
          </p:nvSpPr>
          <p:spPr>
            <a:xfrm>
              <a:off x="3586320" y="4486320"/>
              <a:ext cx="1440" cy="302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5" name=""/>
            <p:cNvSpPr/>
            <p:nvPr/>
          </p:nvSpPr>
          <p:spPr>
            <a:xfrm>
              <a:off x="3578400" y="4548240"/>
              <a:ext cx="1440" cy="316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6" name=""/>
            <p:cNvSpPr/>
            <p:nvPr/>
          </p:nvSpPr>
          <p:spPr>
            <a:xfrm flipH="1">
              <a:off x="3562200" y="4611600"/>
              <a:ext cx="7920" cy="302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7" name=""/>
            <p:cNvSpPr/>
            <p:nvPr/>
          </p:nvSpPr>
          <p:spPr>
            <a:xfrm>
              <a:off x="3546360" y="4673520"/>
              <a:ext cx="7920" cy="31680"/>
            </a:xfrm>
            <a:custGeom>
              <a:avLst/>
              <a:gdLst/>
              <a:ahLst/>
              <a:rect l="l" t="t" r="r" b="b"/>
              <a:pathLst>
                <a:path w="5" h="20">
                  <a:moveTo>
                    <a:pt x="5" y="0"/>
                  </a:moveTo>
                  <a:lnTo>
                    <a:pt x="0" y="10"/>
                  </a:lnTo>
                  <a:lnTo>
                    <a:pt x="0" y="2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8" name=""/>
            <p:cNvSpPr/>
            <p:nvPr/>
          </p:nvSpPr>
          <p:spPr>
            <a:xfrm>
              <a:off x="3530520" y="4737240"/>
              <a:ext cx="7920" cy="31680"/>
            </a:xfrm>
            <a:custGeom>
              <a:avLst/>
              <a:gdLst/>
              <a:ahLst/>
              <a:rect l="l" t="t" r="r" b="b"/>
              <a:pathLst>
                <a:path w="5" h="20">
                  <a:moveTo>
                    <a:pt x="5" y="0"/>
                  </a:moveTo>
                  <a:lnTo>
                    <a:pt x="0" y="15"/>
                  </a:lnTo>
                  <a:lnTo>
                    <a:pt x="0" y="2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9" name=""/>
            <p:cNvSpPr/>
            <p:nvPr/>
          </p:nvSpPr>
          <p:spPr>
            <a:xfrm>
              <a:off x="3530520" y="4799160"/>
              <a:ext cx="1800" cy="316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0" name=""/>
            <p:cNvSpPr/>
            <p:nvPr/>
          </p:nvSpPr>
          <p:spPr>
            <a:xfrm>
              <a:off x="3522600" y="4862520"/>
              <a:ext cx="1800" cy="316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1" name=""/>
            <p:cNvSpPr/>
            <p:nvPr/>
          </p:nvSpPr>
          <p:spPr>
            <a:xfrm>
              <a:off x="3514680" y="4924440"/>
              <a:ext cx="1800" cy="316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2" name=""/>
            <p:cNvSpPr/>
            <p:nvPr/>
          </p:nvSpPr>
          <p:spPr>
            <a:xfrm>
              <a:off x="3506760" y="4987800"/>
              <a:ext cx="1440" cy="237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3" name=""/>
            <p:cNvSpPr/>
            <p:nvPr/>
          </p:nvSpPr>
          <p:spPr>
            <a:xfrm flipH="1">
              <a:off x="6097680" y="4940280"/>
              <a:ext cx="3168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4" name=""/>
            <p:cNvSpPr/>
            <p:nvPr/>
          </p:nvSpPr>
          <p:spPr>
            <a:xfrm flipH="1">
              <a:off x="6035760" y="4940280"/>
              <a:ext cx="3168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5" name=""/>
            <p:cNvSpPr/>
            <p:nvPr/>
          </p:nvSpPr>
          <p:spPr>
            <a:xfrm flipH="1">
              <a:off x="5971680" y="4948200"/>
              <a:ext cx="32040" cy="18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6" name=""/>
            <p:cNvSpPr/>
            <p:nvPr/>
          </p:nvSpPr>
          <p:spPr>
            <a:xfrm flipH="1">
              <a:off x="5910120" y="4948200"/>
              <a:ext cx="30240" cy="18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7" name=""/>
            <p:cNvSpPr/>
            <p:nvPr/>
          </p:nvSpPr>
          <p:spPr>
            <a:xfrm flipH="1">
              <a:off x="5846760" y="4948200"/>
              <a:ext cx="31680" cy="79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8" name=""/>
            <p:cNvSpPr/>
            <p:nvPr/>
          </p:nvSpPr>
          <p:spPr>
            <a:xfrm flipH="1">
              <a:off x="5784840" y="4956120"/>
              <a:ext cx="30240" cy="18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9" name=""/>
            <p:cNvSpPr/>
            <p:nvPr/>
          </p:nvSpPr>
          <p:spPr>
            <a:xfrm flipH="1">
              <a:off x="5721480" y="4956120"/>
              <a:ext cx="31680" cy="18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0" name=""/>
            <p:cNvSpPr/>
            <p:nvPr/>
          </p:nvSpPr>
          <p:spPr>
            <a:xfrm flipH="1">
              <a:off x="5651280" y="4964040"/>
              <a:ext cx="29880" cy="18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1" name=""/>
            <p:cNvSpPr/>
            <p:nvPr/>
          </p:nvSpPr>
          <p:spPr>
            <a:xfrm flipH="1">
              <a:off x="5587920" y="4964040"/>
              <a:ext cx="31680" cy="18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2" name=""/>
            <p:cNvSpPr/>
            <p:nvPr/>
          </p:nvSpPr>
          <p:spPr>
            <a:xfrm flipH="1">
              <a:off x="5524560" y="4971960"/>
              <a:ext cx="31680" cy="18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3" name=""/>
            <p:cNvSpPr/>
            <p:nvPr/>
          </p:nvSpPr>
          <p:spPr>
            <a:xfrm flipH="1">
              <a:off x="5462640" y="4971960"/>
              <a:ext cx="31680" cy="18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4" name=""/>
            <p:cNvSpPr/>
            <p:nvPr/>
          </p:nvSpPr>
          <p:spPr>
            <a:xfrm flipH="1">
              <a:off x="5398560" y="4971960"/>
              <a:ext cx="32040" cy="18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5" name=""/>
            <p:cNvSpPr/>
            <p:nvPr/>
          </p:nvSpPr>
          <p:spPr>
            <a:xfrm flipH="1">
              <a:off x="5337000" y="4971960"/>
              <a:ext cx="30240" cy="79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6" name=""/>
            <p:cNvSpPr/>
            <p:nvPr/>
          </p:nvSpPr>
          <p:spPr>
            <a:xfrm flipH="1">
              <a:off x="5273640" y="4979880"/>
              <a:ext cx="31680" cy="18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7" name=""/>
            <p:cNvSpPr/>
            <p:nvPr/>
          </p:nvSpPr>
          <p:spPr>
            <a:xfrm flipH="1">
              <a:off x="5203800" y="4979880"/>
              <a:ext cx="30240" cy="18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8" name=""/>
            <p:cNvSpPr/>
            <p:nvPr/>
          </p:nvSpPr>
          <p:spPr>
            <a:xfrm flipH="1">
              <a:off x="5140440" y="4979880"/>
              <a:ext cx="31680" cy="18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9" name=""/>
            <p:cNvSpPr/>
            <p:nvPr/>
          </p:nvSpPr>
          <p:spPr>
            <a:xfrm flipH="1">
              <a:off x="5076720" y="4979880"/>
              <a:ext cx="31680" cy="79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0" name=""/>
            <p:cNvSpPr/>
            <p:nvPr/>
          </p:nvSpPr>
          <p:spPr>
            <a:xfrm flipH="1">
              <a:off x="5014440" y="4987800"/>
              <a:ext cx="32040" cy="18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1" name=""/>
            <p:cNvSpPr/>
            <p:nvPr/>
          </p:nvSpPr>
          <p:spPr>
            <a:xfrm flipH="1">
              <a:off x="4951440" y="4987800"/>
              <a:ext cx="31680" cy="18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2" name=""/>
            <p:cNvSpPr/>
            <p:nvPr/>
          </p:nvSpPr>
          <p:spPr>
            <a:xfrm flipH="1">
              <a:off x="4889520" y="4987800"/>
              <a:ext cx="31680" cy="18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3" name=""/>
            <p:cNvSpPr/>
            <p:nvPr/>
          </p:nvSpPr>
          <p:spPr>
            <a:xfrm flipH="1">
              <a:off x="4826160" y="4995720"/>
              <a:ext cx="31680" cy="18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4" name=""/>
            <p:cNvSpPr/>
            <p:nvPr/>
          </p:nvSpPr>
          <p:spPr>
            <a:xfrm flipH="1">
              <a:off x="4756320" y="4995720"/>
              <a:ext cx="31680" cy="18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5" name=""/>
            <p:cNvSpPr/>
            <p:nvPr/>
          </p:nvSpPr>
          <p:spPr>
            <a:xfrm flipH="1">
              <a:off x="4692600" y="4995720"/>
              <a:ext cx="31680" cy="18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6" name=""/>
            <p:cNvSpPr/>
            <p:nvPr/>
          </p:nvSpPr>
          <p:spPr>
            <a:xfrm flipH="1">
              <a:off x="4630680" y="4995720"/>
              <a:ext cx="30240" cy="18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7" name=""/>
            <p:cNvSpPr/>
            <p:nvPr/>
          </p:nvSpPr>
          <p:spPr>
            <a:xfrm flipH="1">
              <a:off x="4567320" y="5003640"/>
              <a:ext cx="31680" cy="18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8" name=""/>
            <p:cNvSpPr/>
            <p:nvPr/>
          </p:nvSpPr>
          <p:spPr>
            <a:xfrm flipH="1">
              <a:off x="4503240" y="5003640"/>
              <a:ext cx="32040" cy="18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9" name=""/>
            <p:cNvSpPr/>
            <p:nvPr/>
          </p:nvSpPr>
          <p:spPr>
            <a:xfrm>
              <a:off x="4441680" y="5003640"/>
              <a:ext cx="32040" cy="1800"/>
            </a:xfrm>
            <a:custGeom>
              <a:avLst/>
              <a:gdLst/>
              <a:ahLst/>
              <a:rect l="l" t="t" r="r" b="b"/>
              <a:pathLst>
                <a:path w="20" h="0">
                  <a:moveTo>
                    <a:pt x="2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0" name=""/>
            <p:cNvSpPr/>
            <p:nvPr/>
          </p:nvSpPr>
          <p:spPr>
            <a:xfrm flipH="1">
              <a:off x="4378320" y="5003640"/>
              <a:ext cx="31680" cy="18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1" name=""/>
            <p:cNvSpPr/>
            <p:nvPr/>
          </p:nvSpPr>
          <p:spPr>
            <a:xfrm flipH="1">
              <a:off x="4308480" y="5003640"/>
              <a:ext cx="31680" cy="18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2" name=""/>
            <p:cNvSpPr/>
            <p:nvPr/>
          </p:nvSpPr>
          <p:spPr>
            <a:xfrm flipH="1">
              <a:off x="4245120" y="5003640"/>
              <a:ext cx="31680" cy="18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3" name=""/>
            <p:cNvSpPr/>
            <p:nvPr/>
          </p:nvSpPr>
          <p:spPr>
            <a:xfrm flipH="1">
              <a:off x="4182840" y="5003640"/>
              <a:ext cx="29880" cy="18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4" name=""/>
            <p:cNvSpPr/>
            <p:nvPr/>
          </p:nvSpPr>
          <p:spPr>
            <a:xfrm flipH="1">
              <a:off x="4119480" y="5003640"/>
              <a:ext cx="31680" cy="18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5" name=""/>
            <p:cNvSpPr/>
            <p:nvPr/>
          </p:nvSpPr>
          <p:spPr>
            <a:xfrm flipH="1">
              <a:off x="4057560" y="5003640"/>
              <a:ext cx="30240" cy="18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6" name=""/>
            <p:cNvSpPr/>
            <p:nvPr/>
          </p:nvSpPr>
          <p:spPr>
            <a:xfrm flipH="1">
              <a:off x="3994200" y="5003640"/>
              <a:ext cx="31680" cy="18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7" name=""/>
            <p:cNvSpPr/>
            <p:nvPr/>
          </p:nvSpPr>
          <p:spPr>
            <a:xfrm flipH="1">
              <a:off x="3922200" y="5003640"/>
              <a:ext cx="39960" cy="18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8" name=""/>
            <p:cNvSpPr/>
            <p:nvPr/>
          </p:nvSpPr>
          <p:spPr>
            <a:xfrm flipH="1">
              <a:off x="3860280" y="5003640"/>
              <a:ext cx="32040" cy="18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9" name=""/>
            <p:cNvSpPr/>
            <p:nvPr/>
          </p:nvSpPr>
          <p:spPr>
            <a:xfrm flipH="1">
              <a:off x="3797280" y="5003640"/>
              <a:ext cx="31680" cy="18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0" name=""/>
            <p:cNvSpPr/>
            <p:nvPr/>
          </p:nvSpPr>
          <p:spPr>
            <a:xfrm flipH="1">
              <a:off x="3735360" y="5003640"/>
              <a:ext cx="31680" cy="18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1" name=""/>
            <p:cNvSpPr/>
            <p:nvPr/>
          </p:nvSpPr>
          <p:spPr>
            <a:xfrm flipH="1">
              <a:off x="3672000" y="5003640"/>
              <a:ext cx="31680" cy="18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2" name=""/>
            <p:cNvSpPr/>
            <p:nvPr/>
          </p:nvSpPr>
          <p:spPr>
            <a:xfrm flipH="1">
              <a:off x="3609720" y="5011560"/>
              <a:ext cx="29880" cy="18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3" name=""/>
            <p:cNvSpPr/>
            <p:nvPr/>
          </p:nvSpPr>
          <p:spPr>
            <a:xfrm flipH="1">
              <a:off x="3546000" y="5011560"/>
              <a:ext cx="32040" cy="18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4" name=""/>
            <p:cNvSpPr/>
            <p:nvPr/>
          </p:nvSpPr>
          <p:spPr>
            <a:xfrm flipH="1">
              <a:off x="3476520" y="5011560"/>
              <a:ext cx="38160" cy="18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5" name=""/>
            <p:cNvSpPr/>
            <p:nvPr/>
          </p:nvSpPr>
          <p:spPr>
            <a:xfrm flipH="1">
              <a:off x="3413160" y="5011560"/>
              <a:ext cx="31680" cy="18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6" name=""/>
            <p:cNvSpPr/>
            <p:nvPr/>
          </p:nvSpPr>
          <p:spPr>
            <a:xfrm flipH="1">
              <a:off x="3349800" y="5011560"/>
              <a:ext cx="31680" cy="18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7" name=""/>
            <p:cNvSpPr/>
            <p:nvPr/>
          </p:nvSpPr>
          <p:spPr>
            <a:xfrm>
              <a:off x="3287880" y="5019840"/>
              <a:ext cx="31680" cy="1440"/>
            </a:xfrm>
            <a:custGeom>
              <a:avLst/>
              <a:gdLst/>
              <a:ahLst/>
              <a:rect l="l" t="t" r="r" b="b"/>
              <a:pathLst>
                <a:path w="20" h="0">
                  <a:moveTo>
                    <a:pt x="20" y="0"/>
                  </a:moveTo>
                  <a:lnTo>
                    <a:pt x="5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8" name=""/>
            <p:cNvSpPr/>
            <p:nvPr/>
          </p:nvSpPr>
          <p:spPr>
            <a:xfrm flipH="1">
              <a:off x="3224160" y="5019840"/>
              <a:ext cx="3168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9" name=""/>
            <p:cNvSpPr/>
            <p:nvPr/>
          </p:nvSpPr>
          <p:spPr>
            <a:xfrm flipH="1">
              <a:off x="3162240" y="5019840"/>
              <a:ext cx="3168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0" name=""/>
            <p:cNvSpPr/>
            <p:nvPr/>
          </p:nvSpPr>
          <p:spPr>
            <a:xfrm flipH="1">
              <a:off x="3098880" y="5019840"/>
              <a:ext cx="3168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1" name=""/>
            <p:cNvSpPr/>
            <p:nvPr/>
          </p:nvSpPr>
          <p:spPr>
            <a:xfrm flipH="1">
              <a:off x="3036960" y="5019840"/>
              <a:ext cx="2232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2" name=""/>
            <p:cNvSpPr/>
            <p:nvPr/>
          </p:nvSpPr>
          <p:spPr>
            <a:xfrm flipV="1">
              <a:off x="6129360" y="4910040"/>
              <a:ext cx="7920" cy="302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3" name=""/>
            <p:cNvSpPr/>
            <p:nvPr/>
          </p:nvSpPr>
          <p:spPr>
            <a:xfrm flipV="1">
              <a:off x="6145200" y="4846680"/>
              <a:ext cx="7920" cy="316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4" name=""/>
            <p:cNvSpPr/>
            <p:nvPr/>
          </p:nvSpPr>
          <p:spPr>
            <a:xfrm flipV="1">
              <a:off x="6161040" y="4782600"/>
              <a:ext cx="7920" cy="320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5" name=""/>
            <p:cNvSpPr/>
            <p:nvPr/>
          </p:nvSpPr>
          <p:spPr>
            <a:xfrm>
              <a:off x="6153120" y="4729320"/>
              <a:ext cx="15840" cy="23760"/>
            </a:xfrm>
            <a:custGeom>
              <a:avLst/>
              <a:gdLst/>
              <a:ahLst/>
              <a:rect l="l" t="t" r="r" b="b"/>
              <a:pathLst>
                <a:path w="10" h="15">
                  <a:moveTo>
                    <a:pt x="10" y="15"/>
                  </a:moveTo>
                  <a:lnTo>
                    <a:pt x="10" y="1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6" name=""/>
            <p:cNvSpPr/>
            <p:nvPr/>
          </p:nvSpPr>
          <p:spPr>
            <a:xfrm>
              <a:off x="6113520" y="4681440"/>
              <a:ext cx="15840" cy="23760"/>
            </a:xfrm>
            <a:custGeom>
              <a:avLst/>
              <a:gdLst/>
              <a:ahLst/>
              <a:rect l="l" t="t" r="r" b="b"/>
              <a:pathLst>
                <a:path w="10" h="15">
                  <a:moveTo>
                    <a:pt x="10" y="15"/>
                  </a:moveTo>
                  <a:lnTo>
                    <a:pt x="5" y="1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7" name=""/>
            <p:cNvSpPr/>
            <p:nvPr/>
          </p:nvSpPr>
          <p:spPr>
            <a:xfrm>
              <a:off x="6075360" y="4627440"/>
              <a:ext cx="22320" cy="2232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14" y="14"/>
                  </a:moveTo>
                  <a:lnTo>
                    <a:pt x="9" y="9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8" name=""/>
            <p:cNvSpPr/>
            <p:nvPr/>
          </p:nvSpPr>
          <p:spPr>
            <a:xfrm flipH="1" flipV="1">
              <a:off x="6043680" y="4579920"/>
              <a:ext cx="15840" cy="237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9" name=""/>
            <p:cNvSpPr/>
            <p:nvPr/>
          </p:nvSpPr>
          <p:spPr>
            <a:xfrm flipV="1">
              <a:off x="6075360" y="4587840"/>
              <a:ext cx="1440" cy="316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0" name=""/>
            <p:cNvSpPr/>
            <p:nvPr/>
          </p:nvSpPr>
          <p:spPr>
            <a:xfrm>
              <a:off x="6083280" y="4524480"/>
              <a:ext cx="1440" cy="31680"/>
            </a:xfrm>
            <a:custGeom>
              <a:avLst/>
              <a:gdLst/>
              <a:ahLst/>
              <a:rect l="l" t="t" r="r" b="b"/>
              <a:pathLst>
                <a:path w="0" h="20">
                  <a:moveTo>
                    <a:pt x="0" y="20"/>
                  </a:moveTo>
                  <a:lnTo>
                    <a:pt x="0" y="1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1" name=""/>
            <p:cNvSpPr/>
            <p:nvPr/>
          </p:nvSpPr>
          <p:spPr>
            <a:xfrm>
              <a:off x="6059520" y="4462560"/>
              <a:ext cx="15840" cy="31680"/>
            </a:xfrm>
            <a:custGeom>
              <a:avLst/>
              <a:gdLst/>
              <a:ahLst/>
              <a:rect l="l" t="t" r="r" b="b"/>
              <a:pathLst>
                <a:path w="10" h="20">
                  <a:moveTo>
                    <a:pt x="10" y="20"/>
                  </a:moveTo>
                  <a:lnTo>
                    <a:pt x="5" y="1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2" name=""/>
            <p:cNvSpPr/>
            <p:nvPr/>
          </p:nvSpPr>
          <p:spPr>
            <a:xfrm>
              <a:off x="6019920" y="4406760"/>
              <a:ext cx="15840" cy="32040"/>
            </a:xfrm>
            <a:custGeom>
              <a:avLst/>
              <a:gdLst/>
              <a:ahLst/>
              <a:rect l="l" t="t" r="r" b="b"/>
              <a:pathLst>
                <a:path w="10" h="20">
                  <a:moveTo>
                    <a:pt x="10" y="20"/>
                  </a:moveTo>
                  <a:lnTo>
                    <a:pt x="5" y="1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3" name=""/>
            <p:cNvSpPr/>
            <p:nvPr/>
          </p:nvSpPr>
          <p:spPr>
            <a:xfrm flipV="1">
              <a:off x="6019920" y="4344840"/>
              <a:ext cx="1440" cy="302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4" name=""/>
            <p:cNvSpPr/>
            <p:nvPr/>
          </p:nvSpPr>
          <p:spPr>
            <a:xfrm>
              <a:off x="6019920" y="4281480"/>
              <a:ext cx="1440" cy="31680"/>
            </a:xfrm>
            <a:custGeom>
              <a:avLst/>
              <a:gdLst/>
              <a:ahLst/>
              <a:rect l="l" t="t" r="r" b="b"/>
              <a:pathLst>
                <a:path w="0" h="20">
                  <a:moveTo>
                    <a:pt x="0" y="20"/>
                  </a:moveTo>
                  <a:lnTo>
                    <a:pt x="0" y="1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5" name=""/>
            <p:cNvSpPr/>
            <p:nvPr/>
          </p:nvSpPr>
          <p:spPr>
            <a:xfrm>
              <a:off x="6012000" y="4219560"/>
              <a:ext cx="1440" cy="30240"/>
            </a:xfrm>
            <a:custGeom>
              <a:avLst/>
              <a:gdLst/>
              <a:ahLst/>
              <a:rect l="l" t="t" r="r" b="b"/>
              <a:pathLst>
                <a:path w="0" h="19">
                  <a:moveTo>
                    <a:pt x="0" y="19"/>
                  </a:moveTo>
                  <a:lnTo>
                    <a:pt x="0" y="19"/>
                  </a:lnTo>
                  <a:lnTo>
                    <a:pt x="0" y="5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6" name=""/>
            <p:cNvSpPr/>
            <p:nvPr/>
          </p:nvSpPr>
          <p:spPr>
            <a:xfrm>
              <a:off x="6019920" y="4164120"/>
              <a:ext cx="23760" cy="23760"/>
            </a:xfrm>
            <a:custGeom>
              <a:avLst/>
              <a:gdLst/>
              <a:ahLst/>
              <a:rect l="l" t="t" r="r" b="b"/>
              <a:pathLst>
                <a:path w="15" h="15">
                  <a:moveTo>
                    <a:pt x="0" y="15"/>
                  </a:moveTo>
                  <a:lnTo>
                    <a:pt x="5" y="15"/>
                  </a:lnTo>
                  <a:lnTo>
                    <a:pt x="10" y="5"/>
                  </a:lnTo>
                  <a:lnTo>
                    <a:pt x="15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7" name=""/>
            <p:cNvSpPr/>
            <p:nvPr/>
          </p:nvSpPr>
          <p:spPr>
            <a:xfrm>
              <a:off x="6051600" y="4100400"/>
              <a:ext cx="7920" cy="32040"/>
            </a:xfrm>
            <a:custGeom>
              <a:avLst/>
              <a:gdLst/>
              <a:ahLst/>
              <a:rect l="l" t="t" r="r" b="b"/>
              <a:pathLst>
                <a:path w="5" h="20">
                  <a:moveTo>
                    <a:pt x="0" y="20"/>
                  </a:moveTo>
                  <a:lnTo>
                    <a:pt x="0" y="15"/>
                  </a:lnTo>
                  <a:lnTo>
                    <a:pt x="5" y="5"/>
                  </a:lnTo>
                  <a:lnTo>
                    <a:pt x="5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8" name=""/>
            <p:cNvSpPr/>
            <p:nvPr/>
          </p:nvSpPr>
          <p:spPr>
            <a:xfrm>
              <a:off x="6075360" y="4046400"/>
              <a:ext cx="7920" cy="32040"/>
            </a:xfrm>
            <a:custGeom>
              <a:avLst/>
              <a:gdLst/>
              <a:ahLst/>
              <a:rect l="l" t="t" r="r" b="b"/>
              <a:pathLst>
                <a:path w="5" h="20">
                  <a:moveTo>
                    <a:pt x="0" y="20"/>
                  </a:moveTo>
                  <a:lnTo>
                    <a:pt x="5" y="15"/>
                  </a:lnTo>
                  <a:lnTo>
                    <a:pt x="0" y="5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9" name=""/>
            <p:cNvSpPr/>
            <p:nvPr/>
          </p:nvSpPr>
          <p:spPr>
            <a:xfrm>
              <a:off x="6083280" y="4006800"/>
              <a:ext cx="30240" cy="7920"/>
            </a:xfrm>
            <a:custGeom>
              <a:avLst/>
              <a:gdLst/>
              <a:ahLst/>
              <a:rect l="l" t="t" r="r" b="b"/>
              <a:pathLst>
                <a:path w="19" h="5">
                  <a:moveTo>
                    <a:pt x="0" y="5"/>
                  </a:moveTo>
                  <a:lnTo>
                    <a:pt x="0" y="5"/>
                  </a:lnTo>
                  <a:lnTo>
                    <a:pt x="9" y="0"/>
                  </a:lnTo>
                  <a:lnTo>
                    <a:pt x="19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0" name=""/>
            <p:cNvSpPr/>
            <p:nvPr/>
          </p:nvSpPr>
          <p:spPr>
            <a:xfrm>
              <a:off x="6145200" y="3990960"/>
              <a:ext cx="31680" cy="7920"/>
            </a:xfrm>
            <a:custGeom>
              <a:avLst/>
              <a:gdLst/>
              <a:ahLst/>
              <a:rect l="l" t="t" r="r" b="b"/>
              <a:pathLst>
                <a:path w="20" h="5">
                  <a:moveTo>
                    <a:pt x="0" y="5"/>
                  </a:moveTo>
                  <a:lnTo>
                    <a:pt x="10" y="5"/>
                  </a:lnTo>
                  <a:lnTo>
                    <a:pt x="2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1" name=""/>
            <p:cNvSpPr/>
            <p:nvPr/>
          </p:nvSpPr>
          <p:spPr>
            <a:xfrm flipV="1">
              <a:off x="6208560" y="3975120"/>
              <a:ext cx="22320" cy="79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2" name=""/>
            <p:cNvSpPr/>
            <p:nvPr/>
          </p:nvSpPr>
          <p:spPr>
            <a:xfrm>
              <a:off x="6262560" y="3936960"/>
              <a:ext cx="24120" cy="15840"/>
            </a:xfrm>
            <a:custGeom>
              <a:avLst/>
              <a:gdLst/>
              <a:ahLst/>
              <a:rect l="l" t="t" r="r" b="b"/>
              <a:pathLst>
                <a:path w="15" h="10">
                  <a:moveTo>
                    <a:pt x="0" y="10"/>
                  </a:moveTo>
                  <a:lnTo>
                    <a:pt x="0" y="10"/>
                  </a:lnTo>
                  <a:lnTo>
                    <a:pt x="15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3" name=""/>
            <p:cNvSpPr/>
            <p:nvPr/>
          </p:nvSpPr>
          <p:spPr>
            <a:xfrm>
              <a:off x="6310440" y="3897360"/>
              <a:ext cx="31680" cy="2376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0" y="15"/>
                  </a:moveTo>
                  <a:lnTo>
                    <a:pt x="20" y="0"/>
                  </a:lnTo>
                  <a:lnTo>
                    <a:pt x="2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4" name=""/>
            <p:cNvSpPr/>
            <p:nvPr/>
          </p:nvSpPr>
          <p:spPr>
            <a:xfrm>
              <a:off x="6365880" y="3857760"/>
              <a:ext cx="22320" cy="23760"/>
            </a:xfrm>
            <a:custGeom>
              <a:avLst/>
              <a:gdLst/>
              <a:ahLst/>
              <a:rect l="l" t="t" r="r" b="b"/>
              <a:pathLst>
                <a:path w="14" h="15">
                  <a:moveTo>
                    <a:pt x="0" y="15"/>
                  </a:moveTo>
                  <a:lnTo>
                    <a:pt x="4" y="10"/>
                  </a:lnTo>
                  <a:lnTo>
                    <a:pt x="14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5" name=""/>
            <p:cNvSpPr/>
            <p:nvPr/>
          </p:nvSpPr>
          <p:spPr>
            <a:xfrm>
              <a:off x="4897440" y="3191040"/>
              <a:ext cx="195120" cy="204480"/>
            </a:xfrm>
            <a:custGeom>
              <a:avLst/>
              <a:gdLst/>
              <a:ahLst/>
              <a:rect l="l" t="t" r="r" b="b"/>
              <a:pathLst>
                <a:path w="123" h="129">
                  <a:moveTo>
                    <a:pt x="0" y="40"/>
                  </a:moveTo>
                  <a:lnTo>
                    <a:pt x="10" y="99"/>
                  </a:lnTo>
                  <a:lnTo>
                    <a:pt x="34" y="124"/>
                  </a:lnTo>
                  <a:lnTo>
                    <a:pt x="84" y="129"/>
                  </a:lnTo>
                  <a:lnTo>
                    <a:pt x="118" y="94"/>
                  </a:lnTo>
                  <a:lnTo>
                    <a:pt x="123" y="45"/>
                  </a:lnTo>
                  <a:lnTo>
                    <a:pt x="89" y="25"/>
                  </a:lnTo>
                  <a:lnTo>
                    <a:pt x="54" y="0"/>
                  </a:lnTo>
                  <a:lnTo>
                    <a:pt x="34" y="1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6" name=""/>
            <p:cNvSpPr/>
            <p:nvPr/>
          </p:nvSpPr>
          <p:spPr>
            <a:xfrm>
              <a:off x="4732200" y="3747960"/>
              <a:ext cx="32040" cy="79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7" name=""/>
            <p:cNvSpPr/>
            <p:nvPr/>
          </p:nvSpPr>
          <p:spPr>
            <a:xfrm>
              <a:off x="4794120" y="3763800"/>
              <a:ext cx="32040" cy="18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8" name=""/>
            <p:cNvSpPr/>
            <p:nvPr/>
          </p:nvSpPr>
          <p:spPr>
            <a:xfrm>
              <a:off x="4857840" y="3763800"/>
              <a:ext cx="23760" cy="16200"/>
            </a:xfrm>
            <a:custGeom>
              <a:avLst/>
              <a:gdLst/>
              <a:ahLst/>
              <a:rect l="l" t="t" r="r" b="b"/>
              <a:pathLst>
                <a:path w="15" h="10">
                  <a:moveTo>
                    <a:pt x="0" y="5"/>
                  </a:moveTo>
                  <a:lnTo>
                    <a:pt x="10" y="10"/>
                  </a:lnTo>
                  <a:lnTo>
                    <a:pt x="15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9" name=""/>
            <p:cNvSpPr/>
            <p:nvPr/>
          </p:nvSpPr>
          <p:spPr>
            <a:xfrm flipV="1">
              <a:off x="4881600" y="3700440"/>
              <a:ext cx="7920" cy="316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0" name=""/>
            <p:cNvSpPr/>
            <p:nvPr/>
          </p:nvSpPr>
          <p:spPr>
            <a:xfrm flipV="1">
              <a:off x="4897440" y="3638520"/>
              <a:ext cx="1440" cy="316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1" name=""/>
            <p:cNvSpPr/>
            <p:nvPr/>
          </p:nvSpPr>
          <p:spPr>
            <a:xfrm flipV="1">
              <a:off x="4905360" y="3575160"/>
              <a:ext cx="1440" cy="316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2" name=""/>
            <p:cNvSpPr/>
            <p:nvPr/>
          </p:nvSpPr>
          <p:spPr>
            <a:xfrm flipV="1">
              <a:off x="4913280" y="3505320"/>
              <a:ext cx="1800" cy="396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3" name=""/>
            <p:cNvSpPr/>
            <p:nvPr/>
          </p:nvSpPr>
          <p:spPr>
            <a:xfrm>
              <a:off x="4905360" y="3449520"/>
              <a:ext cx="15840" cy="23760"/>
            </a:xfrm>
            <a:custGeom>
              <a:avLst/>
              <a:gdLst/>
              <a:ahLst/>
              <a:rect l="l" t="t" r="r" b="b"/>
              <a:pathLst>
                <a:path w="10" h="15">
                  <a:moveTo>
                    <a:pt x="5" y="15"/>
                  </a:moveTo>
                  <a:lnTo>
                    <a:pt x="10" y="5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4" name=""/>
            <p:cNvSpPr/>
            <p:nvPr/>
          </p:nvSpPr>
          <p:spPr>
            <a:xfrm>
              <a:off x="4913280" y="3403440"/>
              <a:ext cx="15840" cy="1440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0" y="9"/>
                  </a:moveTo>
                  <a:lnTo>
                    <a:pt x="0" y="0"/>
                  </a:lnTo>
                  <a:lnTo>
                    <a:pt x="10" y="4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5" name=""/>
            <p:cNvSpPr/>
            <p:nvPr/>
          </p:nvSpPr>
          <p:spPr>
            <a:xfrm>
              <a:off x="4959360" y="3409920"/>
              <a:ext cx="31680" cy="7920"/>
            </a:xfrm>
            <a:custGeom>
              <a:avLst/>
              <a:gdLst/>
              <a:ahLst/>
              <a:rect l="l" t="t" r="r" b="b"/>
              <a:pathLst>
                <a:path w="20" h="5">
                  <a:moveTo>
                    <a:pt x="0" y="0"/>
                  </a:moveTo>
                  <a:lnTo>
                    <a:pt x="5" y="5"/>
                  </a:lnTo>
                  <a:lnTo>
                    <a:pt x="20" y="5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6" name=""/>
            <p:cNvSpPr/>
            <p:nvPr/>
          </p:nvSpPr>
          <p:spPr>
            <a:xfrm>
              <a:off x="5022720" y="3425760"/>
              <a:ext cx="32040" cy="79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7" name=""/>
            <p:cNvSpPr/>
            <p:nvPr/>
          </p:nvSpPr>
          <p:spPr>
            <a:xfrm>
              <a:off x="5062680" y="3316320"/>
              <a:ext cx="1380960" cy="541440"/>
            </a:xfrm>
            <a:custGeom>
              <a:avLst/>
              <a:gdLst/>
              <a:ahLst/>
              <a:rect l="l" t="t" r="r" b="b"/>
              <a:pathLst>
                <a:path w="870" h="341">
                  <a:moveTo>
                    <a:pt x="870" y="341"/>
                  </a:moveTo>
                  <a:lnTo>
                    <a:pt x="756" y="312"/>
                  </a:lnTo>
                  <a:lnTo>
                    <a:pt x="751" y="307"/>
                  </a:lnTo>
                  <a:lnTo>
                    <a:pt x="741" y="307"/>
                  </a:lnTo>
                  <a:lnTo>
                    <a:pt x="736" y="302"/>
                  </a:lnTo>
                  <a:lnTo>
                    <a:pt x="652" y="277"/>
                  </a:lnTo>
                  <a:lnTo>
                    <a:pt x="479" y="148"/>
                  </a:lnTo>
                  <a:lnTo>
                    <a:pt x="455" y="139"/>
                  </a:lnTo>
                  <a:lnTo>
                    <a:pt x="296" y="104"/>
                  </a:lnTo>
                  <a:lnTo>
                    <a:pt x="242" y="94"/>
                  </a:lnTo>
                  <a:lnTo>
                    <a:pt x="148" y="89"/>
                  </a:lnTo>
                  <a:lnTo>
                    <a:pt x="138" y="84"/>
                  </a:lnTo>
                  <a:lnTo>
                    <a:pt x="0" y="0"/>
                  </a:lnTo>
                </a:path>
              </a:pathLst>
            </a:custGeom>
            <a:noFill/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8" name=""/>
            <p:cNvSpPr/>
            <p:nvPr/>
          </p:nvSpPr>
          <p:spPr>
            <a:xfrm flipH="1">
              <a:off x="5070240" y="3324240"/>
              <a:ext cx="6120" cy="316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9" name=""/>
            <p:cNvSpPr/>
            <p:nvPr/>
          </p:nvSpPr>
          <p:spPr>
            <a:xfrm>
              <a:off x="5070600" y="3387600"/>
              <a:ext cx="1440" cy="30240"/>
            </a:xfrm>
            <a:custGeom>
              <a:avLst/>
              <a:gdLst/>
              <a:ahLst/>
              <a:rect l="l" t="t" r="r" b="b"/>
              <a:pathLst>
                <a:path w="0" h="19">
                  <a:moveTo>
                    <a:pt x="0" y="0"/>
                  </a:moveTo>
                  <a:lnTo>
                    <a:pt x="0" y="5"/>
                  </a:lnTo>
                  <a:lnTo>
                    <a:pt x="0" y="19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0" name=""/>
            <p:cNvSpPr/>
            <p:nvPr/>
          </p:nvSpPr>
          <p:spPr>
            <a:xfrm>
              <a:off x="5070600" y="3449520"/>
              <a:ext cx="1440" cy="320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1" name=""/>
            <p:cNvSpPr/>
            <p:nvPr/>
          </p:nvSpPr>
          <p:spPr>
            <a:xfrm>
              <a:off x="5070600" y="3513240"/>
              <a:ext cx="1440" cy="316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2" name=""/>
            <p:cNvSpPr/>
            <p:nvPr/>
          </p:nvSpPr>
          <p:spPr>
            <a:xfrm>
              <a:off x="5070600" y="3583080"/>
              <a:ext cx="1440" cy="31680"/>
            </a:xfrm>
            <a:custGeom>
              <a:avLst/>
              <a:gdLst/>
              <a:ahLst/>
              <a:rect l="l" t="t" r="r" b="b"/>
              <a:pathLst>
                <a:path w="0" h="20">
                  <a:moveTo>
                    <a:pt x="0" y="0"/>
                  </a:moveTo>
                  <a:lnTo>
                    <a:pt x="0" y="0"/>
                  </a:lnTo>
                  <a:lnTo>
                    <a:pt x="0" y="2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3" name=""/>
            <p:cNvSpPr/>
            <p:nvPr/>
          </p:nvSpPr>
          <p:spPr>
            <a:xfrm>
              <a:off x="5070600" y="3646440"/>
              <a:ext cx="1440" cy="316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4" name=""/>
            <p:cNvSpPr/>
            <p:nvPr/>
          </p:nvSpPr>
          <p:spPr>
            <a:xfrm>
              <a:off x="5070600" y="3708360"/>
              <a:ext cx="1440" cy="316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5" name=""/>
            <p:cNvSpPr/>
            <p:nvPr/>
          </p:nvSpPr>
          <p:spPr>
            <a:xfrm>
              <a:off x="5076720" y="3772080"/>
              <a:ext cx="1800" cy="31680"/>
            </a:xfrm>
            <a:custGeom>
              <a:avLst/>
              <a:gdLst/>
              <a:ahLst/>
              <a:rect l="l" t="t" r="r" b="b"/>
              <a:pathLst>
                <a:path w="0" h="20">
                  <a:moveTo>
                    <a:pt x="0" y="0"/>
                  </a:moveTo>
                  <a:lnTo>
                    <a:pt x="0" y="10"/>
                  </a:lnTo>
                  <a:lnTo>
                    <a:pt x="0" y="2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6" name=""/>
            <p:cNvSpPr/>
            <p:nvPr/>
          </p:nvSpPr>
          <p:spPr>
            <a:xfrm>
              <a:off x="5076720" y="3833640"/>
              <a:ext cx="1800" cy="320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7" name=""/>
            <p:cNvSpPr/>
            <p:nvPr/>
          </p:nvSpPr>
          <p:spPr>
            <a:xfrm flipH="1">
              <a:off x="5070240" y="3897360"/>
              <a:ext cx="6120" cy="316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8" name=""/>
            <p:cNvSpPr/>
            <p:nvPr/>
          </p:nvSpPr>
          <p:spPr>
            <a:xfrm>
              <a:off x="5070600" y="3959280"/>
              <a:ext cx="1440" cy="396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9" name=""/>
            <p:cNvSpPr/>
            <p:nvPr/>
          </p:nvSpPr>
          <p:spPr>
            <a:xfrm>
              <a:off x="5070600" y="4030560"/>
              <a:ext cx="1440" cy="31680"/>
            </a:xfrm>
            <a:custGeom>
              <a:avLst/>
              <a:gdLst/>
              <a:ahLst/>
              <a:rect l="l" t="t" r="r" b="b"/>
              <a:pathLst>
                <a:path w="0" h="20">
                  <a:moveTo>
                    <a:pt x="0" y="0"/>
                  </a:moveTo>
                  <a:lnTo>
                    <a:pt x="0" y="10"/>
                  </a:lnTo>
                  <a:lnTo>
                    <a:pt x="0" y="2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0" name=""/>
            <p:cNvSpPr/>
            <p:nvPr/>
          </p:nvSpPr>
          <p:spPr>
            <a:xfrm flipH="1" flipV="1">
              <a:off x="3311640" y="4979880"/>
              <a:ext cx="7920" cy="316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1" name=""/>
            <p:cNvSpPr/>
            <p:nvPr/>
          </p:nvSpPr>
          <p:spPr>
            <a:xfrm flipH="1" flipV="1">
              <a:off x="3303720" y="4916520"/>
              <a:ext cx="7920" cy="316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2" name=""/>
            <p:cNvSpPr/>
            <p:nvPr/>
          </p:nvSpPr>
          <p:spPr>
            <a:xfrm>
              <a:off x="3311640" y="4862520"/>
              <a:ext cx="15840" cy="31680"/>
            </a:xfrm>
            <a:custGeom>
              <a:avLst/>
              <a:gdLst/>
              <a:ahLst/>
              <a:rect l="l" t="t" r="r" b="b"/>
              <a:pathLst>
                <a:path w="10" h="20">
                  <a:moveTo>
                    <a:pt x="0" y="20"/>
                  </a:moveTo>
                  <a:lnTo>
                    <a:pt x="0" y="20"/>
                  </a:lnTo>
                  <a:lnTo>
                    <a:pt x="1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3" name=""/>
            <p:cNvSpPr/>
            <p:nvPr/>
          </p:nvSpPr>
          <p:spPr>
            <a:xfrm>
              <a:off x="3335400" y="4807080"/>
              <a:ext cx="7920" cy="31680"/>
            </a:xfrm>
            <a:custGeom>
              <a:avLst/>
              <a:gdLst/>
              <a:ahLst/>
              <a:rect l="l" t="t" r="r" b="b"/>
              <a:pathLst>
                <a:path w="5" h="20">
                  <a:moveTo>
                    <a:pt x="5" y="20"/>
                  </a:moveTo>
                  <a:lnTo>
                    <a:pt x="5" y="15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4" name=""/>
            <p:cNvSpPr/>
            <p:nvPr/>
          </p:nvSpPr>
          <p:spPr>
            <a:xfrm>
              <a:off x="3295800" y="4753080"/>
              <a:ext cx="15840" cy="29880"/>
            </a:xfrm>
            <a:custGeom>
              <a:avLst/>
              <a:gdLst/>
              <a:ahLst/>
              <a:rect l="l" t="t" r="r" b="b"/>
              <a:pathLst>
                <a:path w="10" h="19">
                  <a:moveTo>
                    <a:pt x="10" y="19"/>
                  </a:moveTo>
                  <a:lnTo>
                    <a:pt x="10" y="14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5" name=""/>
            <p:cNvSpPr/>
            <p:nvPr/>
          </p:nvSpPr>
          <p:spPr>
            <a:xfrm>
              <a:off x="3255840" y="4705200"/>
              <a:ext cx="23760" cy="24120"/>
            </a:xfrm>
            <a:custGeom>
              <a:avLst/>
              <a:gdLst/>
              <a:ahLst/>
              <a:rect l="l" t="t" r="r" b="b"/>
              <a:pathLst>
                <a:path w="15" h="15">
                  <a:moveTo>
                    <a:pt x="15" y="15"/>
                  </a:moveTo>
                  <a:lnTo>
                    <a:pt x="5" y="5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6" name=""/>
            <p:cNvSpPr/>
            <p:nvPr/>
          </p:nvSpPr>
          <p:spPr>
            <a:xfrm flipH="1" flipV="1">
              <a:off x="3216240" y="4649760"/>
              <a:ext cx="23760" cy="316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7" name=""/>
            <p:cNvSpPr/>
            <p:nvPr/>
          </p:nvSpPr>
          <p:spPr>
            <a:xfrm flipH="1" flipV="1">
              <a:off x="3178080" y="4603680"/>
              <a:ext cx="23760" cy="237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8" name=""/>
            <p:cNvSpPr/>
            <p:nvPr/>
          </p:nvSpPr>
          <p:spPr>
            <a:xfrm>
              <a:off x="3138480" y="4548240"/>
              <a:ext cx="23760" cy="31680"/>
            </a:xfrm>
            <a:custGeom>
              <a:avLst/>
              <a:gdLst/>
              <a:ahLst/>
              <a:rect l="l" t="t" r="r" b="b"/>
              <a:pathLst>
                <a:path w="15" h="20">
                  <a:moveTo>
                    <a:pt x="15" y="20"/>
                  </a:moveTo>
                  <a:lnTo>
                    <a:pt x="0" y="5"/>
                  </a:lnTo>
                  <a:lnTo>
                    <a:pt x="5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9" name=""/>
            <p:cNvSpPr/>
            <p:nvPr/>
          </p:nvSpPr>
          <p:spPr>
            <a:xfrm flipV="1">
              <a:off x="3146400" y="4486320"/>
              <a:ext cx="7920" cy="302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0" name=""/>
            <p:cNvSpPr/>
            <p:nvPr/>
          </p:nvSpPr>
          <p:spPr>
            <a:xfrm>
              <a:off x="3162240" y="4422600"/>
              <a:ext cx="7920" cy="32040"/>
            </a:xfrm>
            <a:custGeom>
              <a:avLst/>
              <a:gdLst/>
              <a:ahLst/>
              <a:rect l="l" t="t" r="r" b="b"/>
              <a:pathLst>
                <a:path w="5" h="20">
                  <a:moveTo>
                    <a:pt x="0" y="20"/>
                  </a:moveTo>
                  <a:lnTo>
                    <a:pt x="0" y="20"/>
                  </a:lnTo>
                  <a:lnTo>
                    <a:pt x="5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1" name=""/>
            <p:cNvSpPr/>
            <p:nvPr/>
          </p:nvSpPr>
          <p:spPr>
            <a:xfrm flipV="1">
              <a:off x="3178080" y="4360680"/>
              <a:ext cx="7920" cy="298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2" name=""/>
            <p:cNvSpPr/>
            <p:nvPr/>
          </p:nvSpPr>
          <p:spPr>
            <a:xfrm flipV="1">
              <a:off x="3186000" y="4297320"/>
              <a:ext cx="7920" cy="316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3" name=""/>
            <p:cNvSpPr/>
            <p:nvPr/>
          </p:nvSpPr>
          <p:spPr>
            <a:xfrm flipV="1">
              <a:off x="3201840" y="4233960"/>
              <a:ext cx="6480" cy="316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4" name=""/>
            <p:cNvSpPr/>
            <p:nvPr/>
          </p:nvSpPr>
          <p:spPr>
            <a:xfrm flipV="1">
              <a:off x="3208320" y="4172040"/>
              <a:ext cx="7920" cy="316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5" name=""/>
            <p:cNvSpPr/>
            <p:nvPr/>
          </p:nvSpPr>
          <p:spPr>
            <a:xfrm>
              <a:off x="3224160" y="4108320"/>
              <a:ext cx="7920" cy="32040"/>
            </a:xfrm>
            <a:custGeom>
              <a:avLst/>
              <a:gdLst/>
              <a:ahLst/>
              <a:rect l="l" t="t" r="r" b="b"/>
              <a:pathLst>
                <a:path w="5" h="20">
                  <a:moveTo>
                    <a:pt x="0" y="20"/>
                  </a:moveTo>
                  <a:lnTo>
                    <a:pt x="0" y="15"/>
                  </a:lnTo>
                  <a:lnTo>
                    <a:pt x="5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6" name=""/>
            <p:cNvSpPr/>
            <p:nvPr/>
          </p:nvSpPr>
          <p:spPr>
            <a:xfrm>
              <a:off x="3240000" y="4054320"/>
              <a:ext cx="7920" cy="32040"/>
            </a:xfrm>
            <a:custGeom>
              <a:avLst/>
              <a:gdLst/>
              <a:ahLst/>
              <a:rect l="l" t="t" r="r" b="b"/>
              <a:pathLst>
                <a:path w="5" h="20">
                  <a:moveTo>
                    <a:pt x="0" y="20"/>
                  </a:moveTo>
                  <a:lnTo>
                    <a:pt x="5" y="5"/>
                  </a:lnTo>
                  <a:lnTo>
                    <a:pt x="5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7" name=""/>
            <p:cNvSpPr/>
            <p:nvPr/>
          </p:nvSpPr>
          <p:spPr>
            <a:xfrm>
              <a:off x="3255840" y="3990960"/>
              <a:ext cx="15840" cy="31680"/>
            </a:xfrm>
            <a:custGeom>
              <a:avLst/>
              <a:gdLst/>
              <a:ahLst/>
              <a:rect l="l" t="t" r="r" b="b"/>
              <a:pathLst>
                <a:path w="10" h="20">
                  <a:moveTo>
                    <a:pt x="0" y="20"/>
                  </a:moveTo>
                  <a:lnTo>
                    <a:pt x="5" y="15"/>
                  </a:lnTo>
                  <a:lnTo>
                    <a:pt x="1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8" name=""/>
            <p:cNvSpPr/>
            <p:nvPr/>
          </p:nvSpPr>
          <p:spPr>
            <a:xfrm>
              <a:off x="3279600" y="3936960"/>
              <a:ext cx="8280" cy="22320"/>
            </a:xfrm>
            <a:custGeom>
              <a:avLst/>
              <a:gdLst/>
              <a:ahLst/>
              <a:rect l="l" t="t" r="r" b="b"/>
              <a:pathLst>
                <a:path w="5" h="14">
                  <a:moveTo>
                    <a:pt x="0" y="14"/>
                  </a:moveTo>
                  <a:lnTo>
                    <a:pt x="0" y="1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9" name=""/>
            <p:cNvSpPr/>
            <p:nvPr/>
          </p:nvSpPr>
          <p:spPr>
            <a:xfrm>
              <a:off x="3295800" y="3881520"/>
              <a:ext cx="15840" cy="23760"/>
            </a:xfrm>
            <a:custGeom>
              <a:avLst/>
              <a:gdLst/>
              <a:ahLst/>
              <a:rect l="l" t="t" r="r" b="b"/>
              <a:pathLst>
                <a:path w="10" h="15">
                  <a:moveTo>
                    <a:pt x="0" y="15"/>
                  </a:moveTo>
                  <a:lnTo>
                    <a:pt x="0" y="10"/>
                  </a:lnTo>
                  <a:lnTo>
                    <a:pt x="0" y="5"/>
                  </a:lnTo>
                  <a:lnTo>
                    <a:pt x="5" y="0"/>
                  </a:lnTo>
                  <a:lnTo>
                    <a:pt x="10" y="5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0" name=""/>
            <p:cNvSpPr/>
            <p:nvPr/>
          </p:nvSpPr>
          <p:spPr>
            <a:xfrm>
              <a:off x="3335400" y="3889440"/>
              <a:ext cx="30240" cy="7920"/>
            </a:xfrm>
            <a:custGeom>
              <a:avLst/>
              <a:gdLst/>
              <a:ahLst/>
              <a:rect l="l" t="t" r="r" b="b"/>
              <a:pathLst>
                <a:path w="19" h="5">
                  <a:moveTo>
                    <a:pt x="0" y="5"/>
                  </a:moveTo>
                  <a:lnTo>
                    <a:pt x="5" y="5"/>
                  </a:lnTo>
                  <a:lnTo>
                    <a:pt x="14" y="0"/>
                  </a:lnTo>
                  <a:lnTo>
                    <a:pt x="19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1" name=""/>
            <p:cNvSpPr/>
            <p:nvPr/>
          </p:nvSpPr>
          <p:spPr>
            <a:xfrm>
              <a:off x="3397320" y="3889440"/>
              <a:ext cx="31680" cy="7920"/>
            </a:xfrm>
            <a:custGeom>
              <a:avLst/>
              <a:gdLst/>
              <a:ahLst/>
              <a:rect l="l" t="t" r="r" b="b"/>
              <a:pathLst>
                <a:path w="20" h="5">
                  <a:moveTo>
                    <a:pt x="0" y="0"/>
                  </a:moveTo>
                  <a:lnTo>
                    <a:pt x="5" y="0"/>
                  </a:lnTo>
                  <a:lnTo>
                    <a:pt x="15" y="5"/>
                  </a:lnTo>
                  <a:lnTo>
                    <a:pt x="20" y="5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2" name=""/>
            <p:cNvSpPr/>
            <p:nvPr/>
          </p:nvSpPr>
          <p:spPr>
            <a:xfrm>
              <a:off x="3460680" y="3897360"/>
              <a:ext cx="30240" cy="15840"/>
            </a:xfrm>
            <a:custGeom>
              <a:avLst/>
              <a:gdLst/>
              <a:ahLst/>
              <a:rect l="l" t="t" r="r" b="b"/>
              <a:pathLst>
                <a:path w="19" h="10">
                  <a:moveTo>
                    <a:pt x="0" y="0"/>
                  </a:moveTo>
                  <a:lnTo>
                    <a:pt x="5" y="0"/>
                  </a:lnTo>
                  <a:lnTo>
                    <a:pt x="15" y="5"/>
                  </a:lnTo>
                  <a:lnTo>
                    <a:pt x="19" y="1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3" name=""/>
            <p:cNvSpPr/>
            <p:nvPr/>
          </p:nvSpPr>
          <p:spPr>
            <a:xfrm>
              <a:off x="3522600" y="3921120"/>
              <a:ext cx="31680" cy="7920"/>
            </a:xfrm>
            <a:custGeom>
              <a:avLst/>
              <a:gdLst/>
              <a:ahLst/>
              <a:rect l="l" t="t" r="r" b="b"/>
              <a:pathLst>
                <a:path w="20" h="5">
                  <a:moveTo>
                    <a:pt x="0" y="0"/>
                  </a:moveTo>
                  <a:lnTo>
                    <a:pt x="0" y="0"/>
                  </a:lnTo>
                  <a:lnTo>
                    <a:pt x="10" y="0"/>
                  </a:lnTo>
                  <a:lnTo>
                    <a:pt x="20" y="5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4" name=""/>
            <p:cNvSpPr/>
            <p:nvPr/>
          </p:nvSpPr>
          <p:spPr>
            <a:xfrm>
              <a:off x="3578400" y="3929040"/>
              <a:ext cx="23760" cy="15840"/>
            </a:xfrm>
            <a:custGeom>
              <a:avLst/>
              <a:gdLst/>
              <a:ahLst/>
              <a:rect l="l" t="t" r="r" b="b"/>
              <a:pathLst>
                <a:path w="15" h="10">
                  <a:moveTo>
                    <a:pt x="0" y="10"/>
                  </a:moveTo>
                  <a:lnTo>
                    <a:pt x="5" y="10"/>
                  </a:lnTo>
                  <a:lnTo>
                    <a:pt x="10" y="10"/>
                  </a:lnTo>
                  <a:lnTo>
                    <a:pt x="15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5" name=""/>
            <p:cNvSpPr/>
            <p:nvPr/>
          </p:nvSpPr>
          <p:spPr>
            <a:xfrm flipV="1">
              <a:off x="3618000" y="3873600"/>
              <a:ext cx="15840" cy="316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6" name=""/>
            <p:cNvSpPr/>
            <p:nvPr/>
          </p:nvSpPr>
          <p:spPr>
            <a:xfrm>
              <a:off x="3648240" y="3817800"/>
              <a:ext cx="15840" cy="32040"/>
            </a:xfrm>
            <a:custGeom>
              <a:avLst/>
              <a:gdLst/>
              <a:ahLst/>
              <a:rect l="l" t="t" r="r" b="b"/>
              <a:pathLst>
                <a:path w="10" h="20">
                  <a:moveTo>
                    <a:pt x="0" y="20"/>
                  </a:moveTo>
                  <a:lnTo>
                    <a:pt x="5" y="5"/>
                  </a:lnTo>
                  <a:lnTo>
                    <a:pt x="1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7" name=""/>
            <p:cNvSpPr/>
            <p:nvPr/>
          </p:nvSpPr>
          <p:spPr>
            <a:xfrm flipV="1">
              <a:off x="3679920" y="3763440"/>
              <a:ext cx="15840" cy="320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8" name=""/>
            <p:cNvSpPr/>
            <p:nvPr/>
          </p:nvSpPr>
          <p:spPr>
            <a:xfrm>
              <a:off x="3711600" y="3708360"/>
              <a:ext cx="23760" cy="31680"/>
            </a:xfrm>
            <a:custGeom>
              <a:avLst/>
              <a:gdLst/>
              <a:ahLst/>
              <a:rect l="l" t="t" r="r" b="b"/>
              <a:pathLst>
                <a:path w="15" h="20">
                  <a:moveTo>
                    <a:pt x="0" y="20"/>
                  </a:moveTo>
                  <a:lnTo>
                    <a:pt x="10" y="5"/>
                  </a:lnTo>
                  <a:lnTo>
                    <a:pt x="15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9" name=""/>
            <p:cNvSpPr/>
            <p:nvPr/>
          </p:nvSpPr>
          <p:spPr>
            <a:xfrm>
              <a:off x="3751200" y="3662280"/>
              <a:ext cx="15840" cy="22320"/>
            </a:xfrm>
            <a:custGeom>
              <a:avLst/>
              <a:gdLst/>
              <a:ahLst/>
              <a:rect l="l" t="t" r="r" b="b"/>
              <a:pathLst>
                <a:path w="10" h="14">
                  <a:moveTo>
                    <a:pt x="0" y="14"/>
                  </a:moveTo>
                  <a:lnTo>
                    <a:pt x="5" y="0"/>
                  </a:lnTo>
                  <a:lnTo>
                    <a:pt x="1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0" name=""/>
            <p:cNvSpPr/>
            <p:nvPr/>
          </p:nvSpPr>
          <p:spPr>
            <a:xfrm>
              <a:off x="3797280" y="3614760"/>
              <a:ext cx="15840" cy="23760"/>
            </a:xfrm>
            <a:custGeom>
              <a:avLst/>
              <a:gdLst/>
              <a:ahLst/>
              <a:rect l="l" t="t" r="r" b="b"/>
              <a:pathLst>
                <a:path w="10" h="15">
                  <a:moveTo>
                    <a:pt x="0" y="15"/>
                  </a:moveTo>
                  <a:lnTo>
                    <a:pt x="0" y="15"/>
                  </a:lnTo>
                  <a:lnTo>
                    <a:pt x="5" y="5"/>
                  </a:lnTo>
                  <a:lnTo>
                    <a:pt x="1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1" name=""/>
            <p:cNvSpPr/>
            <p:nvPr/>
          </p:nvSpPr>
          <p:spPr>
            <a:xfrm>
              <a:off x="3836880" y="3575160"/>
              <a:ext cx="23760" cy="15840"/>
            </a:xfrm>
            <a:custGeom>
              <a:avLst/>
              <a:gdLst/>
              <a:ahLst/>
              <a:rect l="l" t="t" r="r" b="b"/>
              <a:pathLst>
                <a:path w="15" h="10">
                  <a:moveTo>
                    <a:pt x="0" y="10"/>
                  </a:moveTo>
                  <a:lnTo>
                    <a:pt x="0" y="10"/>
                  </a:lnTo>
                  <a:lnTo>
                    <a:pt x="10" y="0"/>
                  </a:lnTo>
                  <a:lnTo>
                    <a:pt x="15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2" name=""/>
            <p:cNvSpPr/>
            <p:nvPr/>
          </p:nvSpPr>
          <p:spPr>
            <a:xfrm>
              <a:off x="3892680" y="3583080"/>
              <a:ext cx="23760" cy="7920"/>
            </a:xfrm>
            <a:custGeom>
              <a:avLst/>
              <a:gdLst/>
              <a:ahLst/>
              <a:rect l="l" t="t" r="r" b="b"/>
              <a:pathLst>
                <a:path w="15" h="5">
                  <a:moveTo>
                    <a:pt x="0" y="0"/>
                  </a:moveTo>
                  <a:lnTo>
                    <a:pt x="0" y="5"/>
                  </a:lnTo>
                  <a:lnTo>
                    <a:pt x="10" y="5"/>
                  </a:lnTo>
                  <a:lnTo>
                    <a:pt x="10" y="0"/>
                  </a:lnTo>
                  <a:lnTo>
                    <a:pt x="15" y="5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3" name=""/>
            <p:cNvSpPr/>
            <p:nvPr/>
          </p:nvSpPr>
          <p:spPr>
            <a:xfrm>
              <a:off x="3938760" y="3598920"/>
              <a:ext cx="31680" cy="15840"/>
            </a:xfrm>
            <a:custGeom>
              <a:avLst/>
              <a:gdLst/>
              <a:ahLst/>
              <a:rect l="l" t="t" r="r" b="b"/>
              <a:pathLst>
                <a:path w="20" h="10">
                  <a:moveTo>
                    <a:pt x="0" y="0"/>
                  </a:moveTo>
                  <a:lnTo>
                    <a:pt x="15" y="5"/>
                  </a:lnTo>
                  <a:lnTo>
                    <a:pt x="20" y="1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4" name=""/>
            <p:cNvSpPr/>
            <p:nvPr/>
          </p:nvSpPr>
          <p:spPr>
            <a:xfrm>
              <a:off x="4002120" y="3606840"/>
              <a:ext cx="31680" cy="7920"/>
            </a:xfrm>
            <a:custGeom>
              <a:avLst/>
              <a:gdLst/>
              <a:ahLst/>
              <a:rect l="l" t="t" r="r" b="b"/>
              <a:pathLst>
                <a:path w="20" h="5">
                  <a:moveTo>
                    <a:pt x="0" y="5"/>
                  </a:moveTo>
                  <a:lnTo>
                    <a:pt x="10" y="5"/>
                  </a:lnTo>
                  <a:lnTo>
                    <a:pt x="15" y="0"/>
                  </a:lnTo>
                  <a:lnTo>
                    <a:pt x="20" y="5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05" name=""/>
          <p:cNvGrpSpPr/>
          <p:nvPr/>
        </p:nvGrpSpPr>
        <p:grpSpPr>
          <a:xfrm>
            <a:off x="3059280" y="1857240"/>
            <a:ext cx="3290760" cy="2573640"/>
            <a:chOff x="3059280" y="1857240"/>
            <a:chExt cx="3290760" cy="2573640"/>
          </a:xfrm>
        </p:grpSpPr>
        <p:sp>
          <p:nvSpPr>
            <p:cNvPr id="3006" name=""/>
            <p:cNvSpPr/>
            <p:nvPr/>
          </p:nvSpPr>
          <p:spPr>
            <a:xfrm>
              <a:off x="4065480" y="3630600"/>
              <a:ext cx="30240" cy="1440"/>
            </a:xfrm>
            <a:custGeom>
              <a:avLst/>
              <a:gdLst/>
              <a:ahLst/>
              <a:rect l="l" t="t" r="r" b="b"/>
              <a:pathLst>
                <a:path w="19" h="0">
                  <a:moveTo>
                    <a:pt x="0" y="0"/>
                  </a:moveTo>
                  <a:lnTo>
                    <a:pt x="0" y="0"/>
                  </a:lnTo>
                  <a:lnTo>
                    <a:pt x="14" y="0"/>
                  </a:lnTo>
                  <a:lnTo>
                    <a:pt x="19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7" name=""/>
            <p:cNvSpPr/>
            <p:nvPr/>
          </p:nvSpPr>
          <p:spPr>
            <a:xfrm>
              <a:off x="4127400" y="3598920"/>
              <a:ext cx="23760" cy="23760"/>
            </a:xfrm>
            <a:custGeom>
              <a:avLst/>
              <a:gdLst/>
              <a:ahLst/>
              <a:rect l="l" t="t" r="r" b="b"/>
              <a:pathLst>
                <a:path w="15" h="15">
                  <a:moveTo>
                    <a:pt x="0" y="15"/>
                  </a:moveTo>
                  <a:lnTo>
                    <a:pt x="0" y="15"/>
                  </a:lnTo>
                  <a:lnTo>
                    <a:pt x="10" y="5"/>
                  </a:lnTo>
                  <a:lnTo>
                    <a:pt x="15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8" name=""/>
            <p:cNvSpPr/>
            <p:nvPr/>
          </p:nvSpPr>
          <p:spPr>
            <a:xfrm>
              <a:off x="4175280" y="3591000"/>
              <a:ext cx="31680" cy="1440"/>
            </a:xfrm>
            <a:custGeom>
              <a:avLst/>
              <a:gdLst/>
              <a:ahLst/>
              <a:rect l="l" t="t" r="r" b="b"/>
              <a:pathLst>
                <a:path w="20" h="0">
                  <a:moveTo>
                    <a:pt x="0" y="0"/>
                  </a:moveTo>
                  <a:lnTo>
                    <a:pt x="5" y="0"/>
                  </a:lnTo>
                  <a:lnTo>
                    <a:pt x="2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9" name=""/>
            <p:cNvSpPr/>
            <p:nvPr/>
          </p:nvSpPr>
          <p:spPr>
            <a:xfrm>
              <a:off x="4237200" y="3591000"/>
              <a:ext cx="31680" cy="7920"/>
            </a:xfrm>
            <a:custGeom>
              <a:avLst/>
              <a:gdLst/>
              <a:ahLst/>
              <a:rect l="l" t="t" r="r" b="b"/>
              <a:pathLst>
                <a:path w="20" h="5">
                  <a:moveTo>
                    <a:pt x="0" y="0"/>
                  </a:moveTo>
                  <a:lnTo>
                    <a:pt x="15" y="5"/>
                  </a:lnTo>
                  <a:lnTo>
                    <a:pt x="20" y="5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0" name=""/>
            <p:cNvSpPr/>
            <p:nvPr/>
          </p:nvSpPr>
          <p:spPr>
            <a:xfrm>
              <a:off x="4300560" y="3598920"/>
              <a:ext cx="31680" cy="7920"/>
            </a:xfrm>
            <a:custGeom>
              <a:avLst/>
              <a:gdLst/>
              <a:ahLst/>
              <a:rect l="l" t="t" r="r" b="b"/>
              <a:pathLst>
                <a:path w="20" h="5">
                  <a:moveTo>
                    <a:pt x="0" y="0"/>
                  </a:moveTo>
                  <a:lnTo>
                    <a:pt x="15" y="5"/>
                  </a:lnTo>
                  <a:lnTo>
                    <a:pt x="20" y="5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1" name=""/>
            <p:cNvSpPr/>
            <p:nvPr/>
          </p:nvSpPr>
          <p:spPr>
            <a:xfrm>
              <a:off x="4362480" y="3614760"/>
              <a:ext cx="31680" cy="7920"/>
            </a:xfrm>
            <a:custGeom>
              <a:avLst/>
              <a:gdLst/>
              <a:ahLst/>
              <a:rect l="l" t="t" r="r" b="b"/>
              <a:pathLst>
                <a:path w="20" h="5">
                  <a:moveTo>
                    <a:pt x="0" y="0"/>
                  </a:moveTo>
                  <a:lnTo>
                    <a:pt x="5" y="0"/>
                  </a:lnTo>
                  <a:lnTo>
                    <a:pt x="20" y="0"/>
                  </a:lnTo>
                  <a:lnTo>
                    <a:pt x="20" y="5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2" name=""/>
            <p:cNvSpPr/>
            <p:nvPr/>
          </p:nvSpPr>
          <p:spPr>
            <a:xfrm>
              <a:off x="4425840" y="3630600"/>
              <a:ext cx="32040" cy="7920"/>
            </a:xfrm>
            <a:custGeom>
              <a:avLst/>
              <a:gdLst/>
              <a:ahLst/>
              <a:rect l="l" t="t" r="r" b="b"/>
              <a:pathLst>
                <a:path w="20" h="5">
                  <a:moveTo>
                    <a:pt x="0" y="0"/>
                  </a:moveTo>
                  <a:lnTo>
                    <a:pt x="5" y="0"/>
                  </a:lnTo>
                  <a:lnTo>
                    <a:pt x="20" y="5"/>
                  </a:lnTo>
                  <a:lnTo>
                    <a:pt x="20" y="5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3" name=""/>
            <p:cNvSpPr/>
            <p:nvPr/>
          </p:nvSpPr>
          <p:spPr>
            <a:xfrm>
              <a:off x="4489560" y="3646440"/>
              <a:ext cx="29880" cy="15840"/>
            </a:xfrm>
            <a:custGeom>
              <a:avLst/>
              <a:gdLst/>
              <a:ahLst/>
              <a:rect l="l" t="t" r="r" b="b"/>
              <a:pathLst>
                <a:path w="19" h="10">
                  <a:moveTo>
                    <a:pt x="0" y="0"/>
                  </a:moveTo>
                  <a:lnTo>
                    <a:pt x="9" y="5"/>
                  </a:lnTo>
                  <a:lnTo>
                    <a:pt x="19" y="1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4" name=""/>
            <p:cNvSpPr/>
            <p:nvPr/>
          </p:nvSpPr>
          <p:spPr>
            <a:xfrm>
              <a:off x="4551480" y="3662280"/>
              <a:ext cx="31680" cy="7920"/>
            </a:xfrm>
            <a:custGeom>
              <a:avLst/>
              <a:gdLst/>
              <a:ahLst/>
              <a:rect l="l" t="t" r="r" b="b"/>
              <a:pathLst>
                <a:path w="20" h="5">
                  <a:moveTo>
                    <a:pt x="0" y="0"/>
                  </a:moveTo>
                  <a:lnTo>
                    <a:pt x="5" y="5"/>
                  </a:lnTo>
                  <a:lnTo>
                    <a:pt x="2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5" name=""/>
            <p:cNvSpPr/>
            <p:nvPr/>
          </p:nvSpPr>
          <p:spPr>
            <a:xfrm>
              <a:off x="4614840" y="3662280"/>
              <a:ext cx="30240" cy="7920"/>
            </a:xfrm>
            <a:custGeom>
              <a:avLst/>
              <a:gdLst/>
              <a:ahLst/>
              <a:rect l="l" t="t" r="r" b="b"/>
              <a:pathLst>
                <a:path w="19" h="5">
                  <a:moveTo>
                    <a:pt x="0" y="0"/>
                  </a:moveTo>
                  <a:lnTo>
                    <a:pt x="5" y="0"/>
                  </a:lnTo>
                  <a:lnTo>
                    <a:pt x="15" y="0"/>
                  </a:lnTo>
                  <a:lnTo>
                    <a:pt x="19" y="5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6" name=""/>
            <p:cNvSpPr/>
            <p:nvPr/>
          </p:nvSpPr>
          <p:spPr>
            <a:xfrm>
              <a:off x="4676760" y="3646440"/>
              <a:ext cx="15840" cy="23760"/>
            </a:xfrm>
            <a:custGeom>
              <a:avLst/>
              <a:gdLst/>
              <a:ahLst/>
              <a:rect l="l" t="t" r="r" b="b"/>
              <a:pathLst>
                <a:path w="10" h="15">
                  <a:moveTo>
                    <a:pt x="0" y="15"/>
                  </a:moveTo>
                  <a:lnTo>
                    <a:pt x="5" y="15"/>
                  </a:lnTo>
                  <a:lnTo>
                    <a:pt x="1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7" name=""/>
            <p:cNvSpPr/>
            <p:nvPr/>
          </p:nvSpPr>
          <p:spPr>
            <a:xfrm flipV="1">
              <a:off x="4700520" y="3583080"/>
              <a:ext cx="7920" cy="316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8" name=""/>
            <p:cNvSpPr/>
            <p:nvPr/>
          </p:nvSpPr>
          <p:spPr>
            <a:xfrm>
              <a:off x="4732200" y="3583080"/>
              <a:ext cx="32040" cy="79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9" name=""/>
            <p:cNvSpPr/>
            <p:nvPr/>
          </p:nvSpPr>
          <p:spPr>
            <a:xfrm flipV="1">
              <a:off x="4788000" y="3551400"/>
              <a:ext cx="6120" cy="316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0" name=""/>
            <p:cNvSpPr/>
            <p:nvPr/>
          </p:nvSpPr>
          <p:spPr>
            <a:xfrm flipV="1">
              <a:off x="4802040" y="3497400"/>
              <a:ext cx="7920" cy="316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1" name=""/>
            <p:cNvSpPr/>
            <p:nvPr/>
          </p:nvSpPr>
          <p:spPr>
            <a:xfrm flipV="1">
              <a:off x="4818240" y="3433680"/>
              <a:ext cx="15840" cy="316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2" name=""/>
            <p:cNvSpPr/>
            <p:nvPr/>
          </p:nvSpPr>
          <p:spPr>
            <a:xfrm flipV="1">
              <a:off x="4842000" y="3371760"/>
              <a:ext cx="7920" cy="316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3" name=""/>
            <p:cNvSpPr/>
            <p:nvPr/>
          </p:nvSpPr>
          <p:spPr>
            <a:xfrm flipV="1">
              <a:off x="4857840" y="3308400"/>
              <a:ext cx="7920" cy="316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4" name=""/>
            <p:cNvSpPr/>
            <p:nvPr/>
          </p:nvSpPr>
          <p:spPr>
            <a:xfrm flipV="1">
              <a:off x="4881600" y="3254400"/>
              <a:ext cx="7920" cy="223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5" name=""/>
            <p:cNvSpPr/>
            <p:nvPr/>
          </p:nvSpPr>
          <p:spPr>
            <a:xfrm flipH="1">
              <a:off x="4747680" y="3206880"/>
              <a:ext cx="8280" cy="316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6" name=""/>
            <p:cNvSpPr/>
            <p:nvPr/>
          </p:nvSpPr>
          <p:spPr>
            <a:xfrm>
              <a:off x="4740120" y="3270240"/>
              <a:ext cx="1800" cy="302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7" name=""/>
            <p:cNvSpPr/>
            <p:nvPr/>
          </p:nvSpPr>
          <p:spPr>
            <a:xfrm flipH="1">
              <a:off x="4684680" y="3308400"/>
              <a:ext cx="3168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8" name=""/>
            <p:cNvSpPr/>
            <p:nvPr/>
          </p:nvSpPr>
          <p:spPr>
            <a:xfrm flipH="1" flipV="1">
              <a:off x="4622760" y="3292560"/>
              <a:ext cx="30240" cy="79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9" name=""/>
            <p:cNvSpPr/>
            <p:nvPr/>
          </p:nvSpPr>
          <p:spPr>
            <a:xfrm flipH="1" flipV="1">
              <a:off x="4559400" y="3284640"/>
              <a:ext cx="31680" cy="79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0" name=""/>
            <p:cNvSpPr/>
            <p:nvPr/>
          </p:nvSpPr>
          <p:spPr>
            <a:xfrm flipH="1" flipV="1">
              <a:off x="4497480" y="3276720"/>
              <a:ext cx="30240" cy="79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1" name=""/>
            <p:cNvSpPr/>
            <p:nvPr/>
          </p:nvSpPr>
          <p:spPr>
            <a:xfrm flipH="1">
              <a:off x="4433400" y="3270240"/>
              <a:ext cx="3204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2" name=""/>
            <p:cNvSpPr/>
            <p:nvPr/>
          </p:nvSpPr>
          <p:spPr>
            <a:xfrm flipH="1">
              <a:off x="4370400" y="3262320"/>
              <a:ext cx="3168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3" name=""/>
            <p:cNvSpPr/>
            <p:nvPr/>
          </p:nvSpPr>
          <p:spPr>
            <a:xfrm flipH="1" flipV="1">
              <a:off x="4308480" y="3246480"/>
              <a:ext cx="31680" cy="79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4" name=""/>
            <p:cNvSpPr/>
            <p:nvPr/>
          </p:nvSpPr>
          <p:spPr>
            <a:xfrm flipH="1" flipV="1">
              <a:off x="4245120" y="3238560"/>
              <a:ext cx="31680" cy="79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5" name=""/>
            <p:cNvSpPr/>
            <p:nvPr/>
          </p:nvSpPr>
          <p:spPr>
            <a:xfrm flipH="1" flipV="1">
              <a:off x="4182840" y="3230640"/>
              <a:ext cx="29880" cy="79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6" name=""/>
            <p:cNvSpPr/>
            <p:nvPr/>
          </p:nvSpPr>
          <p:spPr>
            <a:xfrm flipH="1">
              <a:off x="4119480" y="3222720"/>
              <a:ext cx="3168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7" name=""/>
            <p:cNvSpPr/>
            <p:nvPr/>
          </p:nvSpPr>
          <p:spPr>
            <a:xfrm flipH="1">
              <a:off x="4049640" y="3214800"/>
              <a:ext cx="3024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8" name=""/>
            <p:cNvSpPr/>
            <p:nvPr/>
          </p:nvSpPr>
          <p:spPr>
            <a:xfrm flipH="1" flipV="1">
              <a:off x="3986280" y="3198960"/>
              <a:ext cx="31680" cy="79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9" name=""/>
            <p:cNvSpPr/>
            <p:nvPr/>
          </p:nvSpPr>
          <p:spPr>
            <a:xfrm flipH="1" flipV="1">
              <a:off x="3922200" y="3191040"/>
              <a:ext cx="32040" cy="79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0" name=""/>
            <p:cNvSpPr/>
            <p:nvPr/>
          </p:nvSpPr>
          <p:spPr>
            <a:xfrm flipH="1" flipV="1">
              <a:off x="3860280" y="3182400"/>
              <a:ext cx="32040" cy="82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1" name=""/>
            <p:cNvSpPr/>
            <p:nvPr/>
          </p:nvSpPr>
          <p:spPr>
            <a:xfrm flipH="1">
              <a:off x="3797280" y="3174840"/>
              <a:ext cx="31680" cy="18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2" name=""/>
            <p:cNvSpPr/>
            <p:nvPr/>
          </p:nvSpPr>
          <p:spPr>
            <a:xfrm flipH="1">
              <a:off x="3735360" y="3166920"/>
              <a:ext cx="31680" cy="18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3" name=""/>
            <p:cNvSpPr/>
            <p:nvPr/>
          </p:nvSpPr>
          <p:spPr>
            <a:xfrm flipH="1" flipV="1">
              <a:off x="3672000" y="3151080"/>
              <a:ext cx="31680" cy="79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4" name=""/>
            <p:cNvSpPr/>
            <p:nvPr/>
          </p:nvSpPr>
          <p:spPr>
            <a:xfrm flipH="1" flipV="1">
              <a:off x="3609720" y="3143160"/>
              <a:ext cx="29880" cy="79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5" name=""/>
            <p:cNvSpPr/>
            <p:nvPr/>
          </p:nvSpPr>
          <p:spPr>
            <a:xfrm flipH="1" flipV="1">
              <a:off x="3546000" y="3135240"/>
              <a:ext cx="32040" cy="79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6" name=""/>
            <p:cNvSpPr/>
            <p:nvPr/>
          </p:nvSpPr>
          <p:spPr>
            <a:xfrm flipH="1">
              <a:off x="3484440" y="3129120"/>
              <a:ext cx="3024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7" name=""/>
            <p:cNvSpPr/>
            <p:nvPr/>
          </p:nvSpPr>
          <p:spPr>
            <a:xfrm flipH="1">
              <a:off x="3421080" y="3121200"/>
              <a:ext cx="3168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8" name=""/>
            <p:cNvSpPr/>
            <p:nvPr/>
          </p:nvSpPr>
          <p:spPr>
            <a:xfrm flipH="1" flipV="1">
              <a:off x="3357720" y="3105000"/>
              <a:ext cx="31680" cy="79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9" name=""/>
            <p:cNvSpPr/>
            <p:nvPr/>
          </p:nvSpPr>
          <p:spPr>
            <a:xfrm flipH="1" flipV="1">
              <a:off x="3295800" y="3097080"/>
              <a:ext cx="31680" cy="79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0" name=""/>
            <p:cNvSpPr/>
            <p:nvPr/>
          </p:nvSpPr>
          <p:spPr>
            <a:xfrm flipH="1" flipV="1">
              <a:off x="3232080" y="3089160"/>
              <a:ext cx="31680" cy="79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1" name=""/>
            <p:cNvSpPr/>
            <p:nvPr/>
          </p:nvSpPr>
          <p:spPr>
            <a:xfrm flipH="1">
              <a:off x="3170160" y="3081240"/>
              <a:ext cx="31680" cy="18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2" name=""/>
            <p:cNvSpPr/>
            <p:nvPr/>
          </p:nvSpPr>
          <p:spPr>
            <a:xfrm flipH="1">
              <a:off x="3106800" y="3073320"/>
              <a:ext cx="31680" cy="18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3" name=""/>
            <p:cNvSpPr/>
            <p:nvPr/>
          </p:nvSpPr>
          <p:spPr>
            <a:xfrm flipH="1">
              <a:off x="3059280" y="3065400"/>
              <a:ext cx="7920" cy="18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4" name=""/>
            <p:cNvSpPr/>
            <p:nvPr/>
          </p:nvSpPr>
          <p:spPr>
            <a:xfrm>
              <a:off x="5092560" y="2689200"/>
              <a:ext cx="3204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5" name=""/>
            <p:cNvSpPr/>
            <p:nvPr/>
          </p:nvSpPr>
          <p:spPr>
            <a:xfrm>
              <a:off x="5164200" y="2697120"/>
              <a:ext cx="1440" cy="18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6" name=""/>
            <p:cNvSpPr/>
            <p:nvPr/>
          </p:nvSpPr>
          <p:spPr>
            <a:xfrm flipH="1" flipV="1">
              <a:off x="5124600" y="2883960"/>
              <a:ext cx="23760" cy="162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7" name=""/>
            <p:cNvSpPr/>
            <p:nvPr/>
          </p:nvSpPr>
          <p:spPr>
            <a:xfrm flipV="1">
              <a:off x="5108400" y="2830320"/>
              <a:ext cx="1800" cy="298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8" name=""/>
            <p:cNvSpPr/>
            <p:nvPr/>
          </p:nvSpPr>
          <p:spPr>
            <a:xfrm flipH="1" flipV="1">
              <a:off x="5100480" y="2766960"/>
              <a:ext cx="7920" cy="316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9" name=""/>
            <p:cNvSpPr/>
            <p:nvPr/>
          </p:nvSpPr>
          <p:spPr>
            <a:xfrm flipV="1">
              <a:off x="5100480" y="2705040"/>
              <a:ext cx="1800" cy="302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0" name=""/>
            <p:cNvSpPr/>
            <p:nvPr/>
          </p:nvSpPr>
          <p:spPr>
            <a:xfrm>
              <a:off x="5092560" y="2641680"/>
              <a:ext cx="1800" cy="31680"/>
            </a:xfrm>
            <a:custGeom>
              <a:avLst/>
              <a:gdLst/>
              <a:ahLst/>
              <a:rect l="l" t="t" r="r" b="b"/>
              <a:pathLst>
                <a:path w="0" h="20">
                  <a:moveTo>
                    <a:pt x="0" y="20"/>
                  </a:moveTo>
                  <a:lnTo>
                    <a:pt x="0" y="1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1" name=""/>
            <p:cNvSpPr/>
            <p:nvPr/>
          </p:nvSpPr>
          <p:spPr>
            <a:xfrm>
              <a:off x="5132520" y="2987640"/>
              <a:ext cx="7920" cy="22320"/>
            </a:xfrm>
            <a:custGeom>
              <a:avLst/>
              <a:gdLst/>
              <a:ahLst/>
              <a:rect l="l" t="t" r="r" b="b"/>
              <a:pathLst>
                <a:path w="5" h="14">
                  <a:moveTo>
                    <a:pt x="0" y="14"/>
                  </a:moveTo>
                  <a:lnTo>
                    <a:pt x="0" y="5"/>
                  </a:lnTo>
                  <a:lnTo>
                    <a:pt x="5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2" name=""/>
            <p:cNvSpPr/>
            <p:nvPr/>
          </p:nvSpPr>
          <p:spPr>
            <a:xfrm flipV="1">
              <a:off x="5148360" y="2924280"/>
              <a:ext cx="1440" cy="316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3" name=""/>
            <p:cNvSpPr/>
            <p:nvPr/>
          </p:nvSpPr>
          <p:spPr>
            <a:xfrm flipV="1">
              <a:off x="5156280" y="2860200"/>
              <a:ext cx="1440" cy="320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4" name=""/>
            <p:cNvSpPr/>
            <p:nvPr/>
          </p:nvSpPr>
          <p:spPr>
            <a:xfrm flipV="1">
              <a:off x="5156280" y="2798280"/>
              <a:ext cx="1440" cy="320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5" name=""/>
            <p:cNvSpPr/>
            <p:nvPr/>
          </p:nvSpPr>
          <p:spPr>
            <a:xfrm flipV="1">
              <a:off x="5164200" y="2735280"/>
              <a:ext cx="1440" cy="316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6" name=""/>
            <p:cNvSpPr/>
            <p:nvPr/>
          </p:nvSpPr>
          <p:spPr>
            <a:xfrm>
              <a:off x="5164200" y="2665440"/>
              <a:ext cx="1440" cy="39600"/>
            </a:xfrm>
            <a:custGeom>
              <a:avLst/>
              <a:gdLst/>
              <a:ahLst/>
              <a:rect l="l" t="t" r="r" b="b"/>
              <a:pathLst>
                <a:path w="0" h="25">
                  <a:moveTo>
                    <a:pt x="0" y="25"/>
                  </a:moveTo>
                  <a:lnTo>
                    <a:pt x="0" y="2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7" name=""/>
            <p:cNvSpPr/>
            <p:nvPr/>
          </p:nvSpPr>
          <p:spPr>
            <a:xfrm>
              <a:off x="5172120" y="2633760"/>
              <a:ext cx="23760" cy="7920"/>
            </a:xfrm>
            <a:custGeom>
              <a:avLst/>
              <a:gdLst/>
              <a:ahLst/>
              <a:rect l="l" t="t" r="r" b="b"/>
              <a:pathLst>
                <a:path w="15" h="5">
                  <a:moveTo>
                    <a:pt x="0" y="5"/>
                  </a:moveTo>
                  <a:lnTo>
                    <a:pt x="0" y="0"/>
                  </a:lnTo>
                  <a:lnTo>
                    <a:pt x="15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8" name=""/>
            <p:cNvSpPr/>
            <p:nvPr/>
          </p:nvSpPr>
          <p:spPr>
            <a:xfrm>
              <a:off x="5226120" y="2625840"/>
              <a:ext cx="23760" cy="15840"/>
            </a:xfrm>
            <a:custGeom>
              <a:avLst/>
              <a:gdLst/>
              <a:ahLst/>
              <a:rect l="l" t="t" r="r" b="b"/>
              <a:pathLst>
                <a:path w="15" h="10">
                  <a:moveTo>
                    <a:pt x="0" y="10"/>
                  </a:moveTo>
                  <a:lnTo>
                    <a:pt x="10" y="10"/>
                  </a:lnTo>
                  <a:lnTo>
                    <a:pt x="15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9" name=""/>
            <p:cNvSpPr/>
            <p:nvPr/>
          </p:nvSpPr>
          <p:spPr>
            <a:xfrm flipV="1">
              <a:off x="5265720" y="2571480"/>
              <a:ext cx="15840" cy="219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0" name=""/>
            <p:cNvSpPr/>
            <p:nvPr/>
          </p:nvSpPr>
          <p:spPr>
            <a:xfrm flipV="1">
              <a:off x="5297400" y="2515680"/>
              <a:ext cx="7920" cy="241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1" name=""/>
            <p:cNvSpPr/>
            <p:nvPr/>
          </p:nvSpPr>
          <p:spPr>
            <a:xfrm flipH="1">
              <a:off x="6342120" y="2430360"/>
              <a:ext cx="7920" cy="302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2" name=""/>
            <p:cNvSpPr/>
            <p:nvPr/>
          </p:nvSpPr>
          <p:spPr>
            <a:xfrm>
              <a:off x="6318360" y="2492280"/>
              <a:ext cx="15840" cy="31680"/>
            </a:xfrm>
            <a:custGeom>
              <a:avLst/>
              <a:gdLst/>
              <a:ahLst/>
              <a:rect l="l" t="t" r="r" b="b"/>
              <a:pathLst>
                <a:path w="10" h="20">
                  <a:moveTo>
                    <a:pt x="10" y="0"/>
                  </a:moveTo>
                  <a:lnTo>
                    <a:pt x="5" y="10"/>
                  </a:lnTo>
                  <a:lnTo>
                    <a:pt x="0" y="2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3" name=""/>
            <p:cNvSpPr/>
            <p:nvPr/>
          </p:nvSpPr>
          <p:spPr>
            <a:xfrm>
              <a:off x="6302520" y="2556000"/>
              <a:ext cx="7920" cy="31680"/>
            </a:xfrm>
            <a:custGeom>
              <a:avLst/>
              <a:gdLst/>
              <a:ahLst/>
              <a:rect l="l" t="t" r="r" b="b"/>
              <a:pathLst>
                <a:path w="5" h="20">
                  <a:moveTo>
                    <a:pt x="5" y="0"/>
                  </a:moveTo>
                  <a:lnTo>
                    <a:pt x="0" y="15"/>
                  </a:lnTo>
                  <a:lnTo>
                    <a:pt x="0" y="2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4" name=""/>
            <p:cNvSpPr/>
            <p:nvPr/>
          </p:nvSpPr>
          <p:spPr>
            <a:xfrm>
              <a:off x="6286680" y="2617920"/>
              <a:ext cx="7920" cy="31680"/>
            </a:xfrm>
            <a:custGeom>
              <a:avLst/>
              <a:gdLst/>
              <a:ahLst/>
              <a:rect l="l" t="t" r="r" b="b"/>
              <a:pathLst>
                <a:path w="5" h="20">
                  <a:moveTo>
                    <a:pt x="5" y="0"/>
                  </a:moveTo>
                  <a:lnTo>
                    <a:pt x="5" y="5"/>
                  </a:lnTo>
                  <a:lnTo>
                    <a:pt x="0" y="2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5" name=""/>
            <p:cNvSpPr/>
            <p:nvPr/>
          </p:nvSpPr>
          <p:spPr>
            <a:xfrm>
              <a:off x="6262560" y="2681280"/>
              <a:ext cx="15840" cy="23760"/>
            </a:xfrm>
            <a:custGeom>
              <a:avLst/>
              <a:gdLst/>
              <a:ahLst/>
              <a:rect l="l" t="t" r="r" b="b"/>
              <a:pathLst>
                <a:path w="10" h="15">
                  <a:moveTo>
                    <a:pt x="10" y="0"/>
                  </a:moveTo>
                  <a:lnTo>
                    <a:pt x="10" y="0"/>
                  </a:lnTo>
                  <a:lnTo>
                    <a:pt x="5" y="10"/>
                  </a:lnTo>
                  <a:lnTo>
                    <a:pt x="0" y="15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6" name=""/>
            <p:cNvSpPr/>
            <p:nvPr/>
          </p:nvSpPr>
          <p:spPr>
            <a:xfrm>
              <a:off x="6208560" y="2720880"/>
              <a:ext cx="30240" cy="14400"/>
            </a:xfrm>
            <a:custGeom>
              <a:avLst/>
              <a:gdLst/>
              <a:ahLst/>
              <a:rect l="l" t="t" r="r" b="b"/>
              <a:pathLst>
                <a:path w="19" h="9">
                  <a:moveTo>
                    <a:pt x="19" y="0"/>
                  </a:moveTo>
                  <a:lnTo>
                    <a:pt x="19" y="0"/>
                  </a:lnTo>
                  <a:lnTo>
                    <a:pt x="0" y="9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7" name=""/>
            <p:cNvSpPr/>
            <p:nvPr/>
          </p:nvSpPr>
          <p:spPr>
            <a:xfrm flipH="1">
              <a:off x="6168960" y="2751120"/>
              <a:ext cx="15840" cy="316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8" name=""/>
            <p:cNvSpPr/>
            <p:nvPr/>
          </p:nvSpPr>
          <p:spPr>
            <a:xfrm>
              <a:off x="6137280" y="2806560"/>
              <a:ext cx="15840" cy="32040"/>
            </a:xfrm>
            <a:custGeom>
              <a:avLst/>
              <a:gdLst/>
              <a:ahLst/>
              <a:rect l="l" t="t" r="r" b="b"/>
              <a:pathLst>
                <a:path w="10" h="20">
                  <a:moveTo>
                    <a:pt x="10" y="0"/>
                  </a:moveTo>
                  <a:lnTo>
                    <a:pt x="5" y="5"/>
                  </a:lnTo>
                  <a:lnTo>
                    <a:pt x="0" y="2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9" name=""/>
            <p:cNvSpPr/>
            <p:nvPr/>
          </p:nvSpPr>
          <p:spPr>
            <a:xfrm flipH="1">
              <a:off x="6097680" y="2860560"/>
              <a:ext cx="23760" cy="320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0" name=""/>
            <p:cNvSpPr/>
            <p:nvPr/>
          </p:nvSpPr>
          <p:spPr>
            <a:xfrm>
              <a:off x="6067440" y="2916360"/>
              <a:ext cx="15840" cy="23760"/>
            </a:xfrm>
            <a:custGeom>
              <a:avLst/>
              <a:gdLst/>
              <a:ahLst/>
              <a:rect l="l" t="t" r="r" b="b"/>
              <a:pathLst>
                <a:path w="10" h="15">
                  <a:moveTo>
                    <a:pt x="10" y="0"/>
                  </a:moveTo>
                  <a:lnTo>
                    <a:pt x="5" y="0"/>
                  </a:lnTo>
                  <a:lnTo>
                    <a:pt x="0" y="15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1" name=""/>
            <p:cNvSpPr/>
            <p:nvPr/>
          </p:nvSpPr>
          <p:spPr>
            <a:xfrm>
              <a:off x="6043680" y="2971800"/>
              <a:ext cx="7920" cy="30240"/>
            </a:xfrm>
            <a:custGeom>
              <a:avLst/>
              <a:gdLst/>
              <a:ahLst/>
              <a:rect l="l" t="t" r="r" b="b"/>
              <a:pathLst>
                <a:path w="5" h="19">
                  <a:moveTo>
                    <a:pt x="5" y="0"/>
                  </a:moveTo>
                  <a:lnTo>
                    <a:pt x="5" y="5"/>
                  </a:lnTo>
                  <a:lnTo>
                    <a:pt x="0" y="19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2" name=""/>
            <p:cNvSpPr/>
            <p:nvPr/>
          </p:nvSpPr>
          <p:spPr>
            <a:xfrm>
              <a:off x="6019920" y="3033720"/>
              <a:ext cx="7920" cy="23760"/>
            </a:xfrm>
            <a:custGeom>
              <a:avLst/>
              <a:gdLst/>
              <a:ahLst/>
              <a:rect l="l" t="t" r="r" b="b"/>
              <a:pathLst>
                <a:path w="5" h="15">
                  <a:moveTo>
                    <a:pt x="5" y="0"/>
                  </a:moveTo>
                  <a:lnTo>
                    <a:pt x="0" y="5"/>
                  </a:lnTo>
                  <a:lnTo>
                    <a:pt x="0" y="15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3" name=""/>
            <p:cNvSpPr/>
            <p:nvPr/>
          </p:nvSpPr>
          <p:spPr>
            <a:xfrm>
              <a:off x="6027840" y="3089160"/>
              <a:ext cx="1440" cy="32040"/>
            </a:xfrm>
            <a:custGeom>
              <a:avLst/>
              <a:gdLst/>
              <a:ahLst/>
              <a:rect l="l" t="t" r="r" b="b"/>
              <a:pathLst>
                <a:path w="0" h="20">
                  <a:moveTo>
                    <a:pt x="0" y="0"/>
                  </a:moveTo>
                  <a:lnTo>
                    <a:pt x="0" y="5"/>
                  </a:lnTo>
                  <a:lnTo>
                    <a:pt x="0" y="15"/>
                  </a:lnTo>
                  <a:lnTo>
                    <a:pt x="0" y="2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4" name=""/>
            <p:cNvSpPr/>
            <p:nvPr/>
          </p:nvSpPr>
          <p:spPr>
            <a:xfrm>
              <a:off x="6012000" y="3151080"/>
              <a:ext cx="7920" cy="31680"/>
            </a:xfrm>
            <a:custGeom>
              <a:avLst/>
              <a:gdLst/>
              <a:ahLst/>
              <a:rect l="l" t="t" r="r" b="b"/>
              <a:pathLst>
                <a:path w="5" h="20">
                  <a:moveTo>
                    <a:pt x="5" y="0"/>
                  </a:moveTo>
                  <a:lnTo>
                    <a:pt x="0" y="20"/>
                  </a:lnTo>
                  <a:lnTo>
                    <a:pt x="0" y="2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5" name=""/>
            <p:cNvSpPr/>
            <p:nvPr/>
          </p:nvSpPr>
          <p:spPr>
            <a:xfrm>
              <a:off x="5987880" y="3214800"/>
              <a:ext cx="16200" cy="23760"/>
            </a:xfrm>
            <a:custGeom>
              <a:avLst/>
              <a:gdLst/>
              <a:ahLst/>
              <a:rect l="l" t="t" r="r" b="b"/>
              <a:pathLst>
                <a:path w="10" h="15">
                  <a:moveTo>
                    <a:pt x="10" y="0"/>
                  </a:moveTo>
                  <a:lnTo>
                    <a:pt x="10" y="5"/>
                  </a:lnTo>
                  <a:lnTo>
                    <a:pt x="0" y="15"/>
                  </a:lnTo>
                  <a:lnTo>
                    <a:pt x="0" y="15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6" name=""/>
            <p:cNvSpPr/>
            <p:nvPr/>
          </p:nvSpPr>
          <p:spPr>
            <a:xfrm>
              <a:off x="5940360" y="3222720"/>
              <a:ext cx="15840" cy="23760"/>
            </a:xfrm>
            <a:custGeom>
              <a:avLst/>
              <a:gdLst/>
              <a:ahLst/>
              <a:rect l="l" t="t" r="r" b="b"/>
              <a:pathLst>
                <a:path w="10" h="15">
                  <a:moveTo>
                    <a:pt x="10" y="0"/>
                  </a:moveTo>
                  <a:lnTo>
                    <a:pt x="5" y="0"/>
                  </a:lnTo>
                  <a:lnTo>
                    <a:pt x="0" y="15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7" name=""/>
            <p:cNvSpPr/>
            <p:nvPr/>
          </p:nvSpPr>
          <p:spPr>
            <a:xfrm>
              <a:off x="5925960" y="3276720"/>
              <a:ext cx="1800" cy="31680"/>
            </a:xfrm>
            <a:custGeom>
              <a:avLst/>
              <a:gdLst/>
              <a:ahLst/>
              <a:rect l="l" t="t" r="r" b="b"/>
              <a:pathLst>
                <a:path w="0" h="20">
                  <a:moveTo>
                    <a:pt x="0" y="0"/>
                  </a:moveTo>
                  <a:lnTo>
                    <a:pt x="0" y="5"/>
                  </a:lnTo>
                  <a:lnTo>
                    <a:pt x="0" y="2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8" name=""/>
            <p:cNvSpPr/>
            <p:nvPr/>
          </p:nvSpPr>
          <p:spPr>
            <a:xfrm>
              <a:off x="5925960" y="3340080"/>
              <a:ext cx="8280" cy="23760"/>
            </a:xfrm>
            <a:custGeom>
              <a:avLst/>
              <a:gdLst/>
              <a:ahLst/>
              <a:rect l="l" t="t" r="r" b="b"/>
              <a:pathLst>
                <a:path w="5" h="15">
                  <a:moveTo>
                    <a:pt x="5" y="0"/>
                  </a:moveTo>
                  <a:lnTo>
                    <a:pt x="5" y="0"/>
                  </a:lnTo>
                  <a:lnTo>
                    <a:pt x="0" y="15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9" name=""/>
            <p:cNvSpPr/>
            <p:nvPr/>
          </p:nvSpPr>
          <p:spPr>
            <a:xfrm>
              <a:off x="5910120" y="3395520"/>
              <a:ext cx="7920" cy="38160"/>
            </a:xfrm>
            <a:custGeom>
              <a:avLst/>
              <a:gdLst/>
              <a:ahLst/>
              <a:rect l="l" t="t" r="r" b="b"/>
              <a:pathLst>
                <a:path w="5" h="24">
                  <a:moveTo>
                    <a:pt x="5" y="0"/>
                  </a:moveTo>
                  <a:lnTo>
                    <a:pt x="5" y="14"/>
                  </a:lnTo>
                  <a:lnTo>
                    <a:pt x="0" y="24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0" name=""/>
            <p:cNvSpPr/>
            <p:nvPr/>
          </p:nvSpPr>
          <p:spPr>
            <a:xfrm>
              <a:off x="5910120" y="3465360"/>
              <a:ext cx="1800" cy="320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1" name=""/>
            <p:cNvSpPr/>
            <p:nvPr/>
          </p:nvSpPr>
          <p:spPr>
            <a:xfrm>
              <a:off x="5902200" y="3529080"/>
              <a:ext cx="1800" cy="30240"/>
            </a:xfrm>
            <a:custGeom>
              <a:avLst/>
              <a:gdLst/>
              <a:ahLst/>
              <a:rect l="l" t="t" r="r" b="b"/>
              <a:pathLst>
                <a:path w="0" h="19">
                  <a:moveTo>
                    <a:pt x="0" y="0"/>
                  </a:moveTo>
                  <a:lnTo>
                    <a:pt x="0" y="0"/>
                  </a:lnTo>
                  <a:lnTo>
                    <a:pt x="0" y="19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2" name=""/>
            <p:cNvSpPr/>
            <p:nvPr/>
          </p:nvSpPr>
          <p:spPr>
            <a:xfrm flipH="1">
              <a:off x="5854680" y="3551400"/>
              <a:ext cx="15840" cy="237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3" name=""/>
            <p:cNvSpPr/>
            <p:nvPr/>
          </p:nvSpPr>
          <p:spPr>
            <a:xfrm flipH="1">
              <a:off x="5815080" y="3598920"/>
              <a:ext cx="15840" cy="237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4" name=""/>
            <p:cNvSpPr/>
            <p:nvPr/>
          </p:nvSpPr>
          <p:spPr>
            <a:xfrm flipH="1">
              <a:off x="5776920" y="3646440"/>
              <a:ext cx="15840" cy="316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5" name=""/>
            <p:cNvSpPr/>
            <p:nvPr/>
          </p:nvSpPr>
          <p:spPr>
            <a:xfrm flipH="1">
              <a:off x="5737320" y="3700440"/>
              <a:ext cx="23760" cy="237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6" name=""/>
            <p:cNvSpPr/>
            <p:nvPr/>
          </p:nvSpPr>
          <p:spPr>
            <a:xfrm flipH="1">
              <a:off x="5697000" y="3755880"/>
              <a:ext cx="24120" cy="241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7" name=""/>
            <p:cNvSpPr/>
            <p:nvPr/>
          </p:nvSpPr>
          <p:spPr>
            <a:xfrm flipH="1" flipV="1">
              <a:off x="5651280" y="3787920"/>
              <a:ext cx="29880" cy="158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8" name=""/>
            <p:cNvSpPr/>
            <p:nvPr/>
          </p:nvSpPr>
          <p:spPr>
            <a:xfrm flipH="1">
              <a:off x="5627160" y="3803760"/>
              <a:ext cx="8280" cy="298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9" name=""/>
            <p:cNvSpPr/>
            <p:nvPr/>
          </p:nvSpPr>
          <p:spPr>
            <a:xfrm flipH="1">
              <a:off x="5603760" y="3865680"/>
              <a:ext cx="7920" cy="237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0" name=""/>
            <p:cNvSpPr/>
            <p:nvPr/>
          </p:nvSpPr>
          <p:spPr>
            <a:xfrm flipH="1">
              <a:off x="5587920" y="3921120"/>
              <a:ext cx="7920" cy="316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1" name=""/>
            <p:cNvSpPr/>
            <p:nvPr/>
          </p:nvSpPr>
          <p:spPr>
            <a:xfrm flipH="1">
              <a:off x="5564160" y="3983040"/>
              <a:ext cx="7920" cy="316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2" name=""/>
            <p:cNvSpPr/>
            <p:nvPr/>
          </p:nvSpPr>
          <p:spPr>
            <a:xfrm flipH="1">
              <a:off x="5540400" y="4046400"/>
              <a:ext cx="15840" cy="320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3" name=""/>
            <p:cNvSpPr/>
            <p:nvPr/>
          </p:nvSpPr>
          <p:spPr>
            <a:xfrm flipH="1">
              <a:off x="5524560" y="4100400"/>
              <a:ext cx="7920" cy="320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4" name=""/>
            <p:cNvSpPr/>
            <p:nvPr/>
          </p:nvSpPr>
          <p:spPr>
            <a:xfrm flipH="1">
              <a:off x="5502240" y="4164120"/>
              <a:ext cx="6480" cy="316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5" name=""/>
            <p:cNvSpPr/>
            <p:nvPr/>
          </p:nvSpPr>
          <p:spPr>
            <a:xfrm flipH="1">
              <a:off x="5478480" y="4227480"/>
              <a:ext cx="15840" cy="302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6" name=""/>
            <p:cNvSpPr/>
            <p:nvPr/>
          </p:nvSpPr>
          <p:spPr>
            <a:xfrm flipH="1">
              <a:off x="5462640" y="4289400"/>
              <a:ext cx="7920" cy="316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7" name=""/>
            <p:cNvSpPr/>
            <p:nvPr/>
          </p:nvSpPr>
          <p:spPr>
            <a:xfrm flipH="1">
              <a:off x="5438880" y="4344840"/>
              <a:ext cx="15840" cy="302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8" name=""/>
            <p:cNvSpPr/>
            <p:nvPr/>
          </p:nvSpPr>
          <p:spPr>
            <a:xfrm flipH="1">
              <a:off x="5423040" y="4406760"/>
              <a:ext cx="7920" cy="241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9" name=""/>
            <p:cNvSpPr/>
            <p:nvPr/>
          </p:nvSpPr>
          <p:spPr>
            <a:xfrm>
              <a:off x="5556240" y="2281320"/>
              <a:ext cx="3168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0" name=""/>
            <p:cNvSpPr/>
            <p:nvPr/>
          </p:nvSpPr>
          <p:spPr>
            <a:xfrm>
              <a:off x="5619600" y="2281320"/>
              <a:ext cx="3204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1" name=""/>
            <p:cNvSpPr/>
            <p:nvPr/>
          </p:nvSpPr>
          <p:spPr>
            <a:xfrm>
              <a:off x="5681520" y="2289240"/>
              <a:ext cx="3204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2" name=""/>
            <p:cNvSpPr/>
            <p:nvPr/>
          </p:nvSpPr>
          <p:spPr>
            <a:xfrm>
              <a:off x="5745240" y="2289240"/>
              <a:ext cx="3168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3" name=""/>
            <p:cNvSpPr/>
            <p:nvPr/>
          </p:nvSpPr>
          <p:spPr>
            <a:xfrm>
              <a:off x="5807160" y="2297160"/>
              <a:ext cx="31680" cy="158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4" name=""/>
            <p:cNvSpPr/>
            <p:nvPr/>
          </p:nvSpPr>
          <p:spPr>
            <a:xfrm>
              <a:off x="5870520" y="2319480"/>
              <a:ext cx="23760" cy="158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5" name=""/>
            <p:cNvSpPr/>
            <p:nvPr/>
          </p:nvSpPr>
          <p:spPr>
            <a:xfrm>
              <a:off x="5925960" y="2351160"/>
              <a:ext cx="30240" cy="79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6" name=""/>
            <p:cNvSpPr/>
            <p:nvPr/>
          </p:nvSpPr>
          <p:spPr>
            <a:xfrm>
              <a:off x="5987880" y="2374920"/>
              <a:ext cx="24120" cy="158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7" name=""/>
            <p:cNvSpPr/>
            <p:nvPr/>
          </p:nvSpPr>
          <p:spPr>
            <a:xfrm>
              <a:off x="6043680" y="2398680"/>
              <a:ext cx="31680" cy="158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8" name=""/>
            <p:cNvSpPr/>
            <p:nvPr/>
          </p:nvSpPr>
          <p:spPr>
            <a:xfrm>
              <a:off x="6097680" y="2430360"/>
              <a:ext cx="31680" cy="79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9" name=""/>
            <p:cNvSpPr/>
            <p:nvPr/>
          </p:nvSpPr>
          <p:spPr>
            <a:xfrm>
              <a:off x="6161040" y="2452680"/>
              <a:ext cx="31680" cy="158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0" name=""/>
            <p:cNvSpPr/>
            <p:nvPr/>
          </p:nvSpPr>
          <p:spPr>
            <a:xfrm flipV="1">
              <a:off x="6216480" y="2452680"/>
              <a:ext cx="22320" cy="158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1" name=""/>
            <p:cNvSpPr/>
            <p:nvPr/>
          </p:nvSpPr>
          <p:spPr>
            <a:xfrm>
              <a:off x="6270480" y="2438280"/>
              <a:ext cx="32040" cy="18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2" name=""/>
            <p:cNvSpPr/>
            <p:nvPr/>
          </p:nvSpPr>
          <p:spPr>
            <a:xfrm>
              <a:off x="6334200" y="2430360"/>
              <a:ext cx="15840" cy="18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3" name=""/>
            <p:cNvSpPr/>
            <p:nvPr/>
          </p:nvSpPr>
          <p:spPr>
            <a:xfrm flipH="1">
              <a:off x="5792760" y="2297160"/>
              <a:ext cx="6480" cy="302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4" name=""/>
            <p:cNvSpPr/>
            <p:nvPr/>
          </p:nvSpPr>
          <p:spPr>
            <a:xfrm>
              <a:off x="5784840" y="2359080"/>
              <a:ext cx="1440" cy="31680"/>
            </a:xfrm>
            <a:custGeom>
              <a:avLst/>
              <a:gdLst/>
              <a:ahLst/>
              <a:rect l="l" t="t" r="r" b="b"/>
              <a:pathLst>
                <a:path w="0" h="20">
                  <a:moveTo>
                    <a:pt x="0" y="0"/>
                  </a:moveTo>
                  <a:lnTo>
                    <a:pt x="0" y="5"/>
                  </a:lnTo>
                  <a:lnTo>
                    <a:pt x="0" y="2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5" name=""/>
            <p:cNvSpPr/>
            <p:nvPr/>
          </p:nvSpPr>
          <p:spPr>
            <a:xfrm>
              <a:off x="5776920" y="2422440"/>
              <a:ext cx="1440" cy="30240"/>
            </a:xfrm>
            <a:custGeom>
              <a:avLst/>
              <a:gdLst/>
              <a:ahLst/>
              <a:rect l="l" t="t" r="r" b="b"/>
              <a:pathLst>
                <a:path w="0" h="19">
                  <a:moveTo>
                    <a:pt x="0" y="0"/>
                  </a:moveTo>
                  <a:lnTo>
                    <a:pt x="0" y="19"/>
                  </a:lnTo>
                  <a:lnTo>
                    <a:pt x="0" y="19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6" name=""/>
            <p:cNvSpPr/>
            <p:nvPr/>
          </p:nvSpPr>
          <p:spPr>
            <a:xfrm>
              <a:off x="5753160" y="2484360"/>
              <a:ext cx="15840" cy="31680"/>
            </a:xfrm>
            <a:custGeom>
              <a:avLst/>
              <a:gdLst/>
              <a:ahLst/>
              <a:rect l="l" t="t" r="r" b="b"/>
              <a:pathLst>
                <a:path w="10" h="20">
                  <a:moveTo>
                    <a:pt x="10" y="0"/>
                  </a:moveTo>
                  <a:lnTo>
                    <a:pt x="5" y="5"/>
                  </a:lnTo>
                  <a:lnTo>
                    <a:pt x="5" y="20"/>
                  </a:lnTo>
                  <a:lnTo>
                    <a:pt x="0" y="2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7" name=""/>
            <p:cNvSpPr/>
            <p:nvPr/>
          </p:nvSpPr>
          <p:spPr>
            <a:xfrm>
              <a:off x="5729400" y="2548080"/>
              <a:ext cx="7920" cy="23760"/>
            </a:xfrm>
            <a:custGeom>
              <a:avLst/>
              <a:gdLst/>
              <a:ahLst/>
              <a:rect l="l" t="t" r="r" b="b"/>
              <a:pathLst>
                <a:path w="5" h="15">
                  <a:moveTo>
                    <a:pt x="5" y="0"/>
                  </a:moveTo>
                  <a:lnTo>
                    <a:pt x="5" y="10"/>
                  </a:lnTo>
                  <a:lnTo>
                    <a:pt x="0" y="15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8" name=""/>
            <p:cNvSpPr/>
            <p:nvPr/>
          </p:nvSpPr>
          <p:spPr>
            <a:xfrm>
              <a:off x="5713560" y="2602080"/>
              <a:ext cx="7920" cy="31680"/>
            </a:xfrm>
            <a:custGeom>
              <a:avLst/>
              <a:gdLst/>
              <a:ahLst/>
              <a:rect l="l" t="t" r="r" b="b"/>
              <a:pathLst>
                <a:path w="5" h="20">
                  <a:moveTo>
                    <a:pt x="5" y="0"/>
                  </a:moveTo>
                  <a:lnTo>
                    <a:pt x="0" y="5"/>
                  </a:lnTo>
                  <a:lnTo>
                    <a:pt x="0" y="2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9" name=""/>
            <p:cNvSpPr/>
            <p:nvPr/>
          </p:nvSpPr>
          <p:spPr>
            <a:xfrm>
              <a:off x="5713560" y="2665440"/>
              <a:ext cx="7920" cy="31680"/>
            </a:xfrm>
            <a:custGeom>
              <a:avLst/>
              <a:gdLst/>
              <a:ahLst/>
              <a:rect l="l" t="t" r="r" b="b"/>
              <a:pathLst>
                <a:path w="5" h="20">
                  <a:moveTo>
                    <a:pt x="0" y="0"/>
                  </a:moveTo>
                  <a:lnTo>
                    <a:pt x="0" y="10"/>
                  </a:lnTo>
                  <a:lnTo>
                    <a:pt x="5" y="2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0" name=""/>
            <p:cNvSpPr/>
            <p:nvPr/>
          </p:nvSpPr>
          <p:spPr>
            <a:xfrm>
              <a:off x="5721480" y="2727360"/>
              <a:ext cx="7920" cy="31680"/>
            </a:xfrm>
            <a:custGeom>
              <a:avLst/>
              <a:gdLst/>
              <a:ahLst/>
              <a:rect l="l" t="t" r="r" b="b"/>
              <a:pathLst>
                <a:path w="5" h="20">
                  <a:moveTo>
                    <a:pt x="5" y="0"/>
                  </a:moveTo>
                  <a:lnTo>
                    <a:pt x="0" y="10"/>
                  </a:lnTo>
                  <a:lnTo>
                    <a:pt x="0" y="2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1" name=""/>
            <p:cNvSpPr/>
            <p:nvPr/>
          </p:nvSpPr>
          <p:spPr>
            <a:xfrm>
              <a:off x="5689440" y="2774880"/>
              <a:ext cx="16200" cy="23760"/>
            </a:xfrm>
            <a:custGeom>
              <a:avLst/>
              <a:gdLst/>
              <a:ahLst/>
              <a:rect l="l" t="t" r="r" b="b"/>
              <a:pathLst>
                <a:path w="10" h="15">
                  <a:moveTo>
                    <a:pt x="10" y="0"/>
                  </a:moveTo>
                  <a:lnTo>
                    <a:pt x="0" y="5"/>
                  </a:lnTo>
                  <a:lnTo>
                    <a:pt x="0" y="15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2" name=""/>
            <p:cNvSpPr/>
            <p:nvPr/>
          </p:nvSpPr>
          <p:spPr>
            <a:xfrm>
              <a:off x="5635800" y="2822400"/>
              <a:ext cx="29880" cy="8280"/>
            </a:xfrm>
            <a:custGeom>
              <a:avLst/>
              <a:gdLst/>
              <a:ahLst/>
              <a:rect l="l" t="t" r="r" b="b"/>
              <a:pathLst>
                <a:path w="19" h="5">
                  <a:moveTo>
                    <a:pt x="19" y="0"/>
                  </a:moveTo>
                  <a:lnTo>
                    <a:pt x="14" y="5"/>
                  </a:lnTo>
                  <a:lnTo>
                    <a:pt x="0" y="5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3" name=""/>
            <p:cNvSpPr/>
            <p:nvPr/>
          </p:nvSpPr>
          <p:spPr>
            <a:xfrm>
              <a:off x="5572080" y="2822400"/>
              <a:ext cx="31680" cy="8280"/>
            </a:xfrm>
            <a:custGeom>
              <a:avLst/>
              <a:gdLst/>
              <a:ahLst/>
              <a:rect l="l" t="t" r="r" b="b"/>
              <a:pathLst>
                <a:path w="20" h="5">
                  <a:moveTo>
                    <a:pt x="20" y="5"/>
                  </a:moveTo>
                  <a:lnTo>
                    <a:pt x="15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4" name=""/>
            <p:cNvSpPr/>
            <p:nvPr/>
          </p:nvSpPr>
          <p:spPr>
            <a:xfrm>
              <a:off x="5548320" y="2854440"/>
              <a:ext cx="15840" cy="1404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10" y="0"/>
                  </a:move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4"/>
                  </a:lnTo>
                  <a:lnTo>
                    <a:pt x="5" y="9"/>
                  </a:lnTo>
                  <a:lnTo>
                    <a:pt x="0" y="9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5" name=""/>
            <p:cNvSpPr/>
            <p:nvPr/>
          </p:nvSpPr>
          <p:spPr>
            <a:xfrm>
              <a:off x="5532480" y="2900520"/>
              <a:ext cx="7920" cy="31680"/>
            </a:xfrm>
            <a:custGeom>
              <a:avLst/>
              <a:gdLst/>
              <a:ahLst/>
              <a:rect l="l" t="t" r="r" b="b"/>
              <a:pathLst>
                <a:path w="5" h="20">
                  <a:moveTo>
                    <a:pt x="0" y="0"/>
                  </a:moveTo>
                  <a:lnTo>
                    <a:pt x="5" y="5"/>
                  </a:lnTo>
                  <a:lnTo>
                    <a:pt x="5" y="2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6" name=""/>
            <p:cNvSpPr/>
            <p:nvPr/>
          </p:nvSpPr>
          <p:spPr>
            <a:xfrm>
              <a:off x="5508720" y="2955960"/>
              <a:ext cx="31680" cy="7920"/>
            </a:xfrm>
            <a:custGeom>
              <a:avLst/>
              <a:gdLst/>
              <a:ahLst/>
              <a:rect l="l" t="t" r="r" b="b"/>
              <a:pathLst>
                <a:path w="20" h="5">
                  <a:moveTo>
                    <a:pt x="20" y="0"/>
                  </a:moveTo>
                  <a:lnTo>
                    <a:pt x="5" y="0"/>
                  </a:lnTo>
                  <a:lnTo>
                    <a:pt x="0" y="5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7" name=""/>
            <p:cNvSpPr/>
            <p:nvPr/>
          </p:nvSpPr>
          <p:spPr>
            <a:xfrm>
              <a:off x="5470560" y="2987640"/>
              <a:ext cx="15840" cy="30240"/>
            </a:xfrm>
            <a:custGeom>
              <a:avLst/>
              <a:gdLst/>
              <a:ahLst/>
              <a:rect l="l" t="t" r="r" b="b"/>
              <a:pathLst>
                <a:path w="10" h="19">
                  <a:moveTo>
                    <a:pt x="10" y="0"/>
                  </a:moveTo>
                  <a:lnTo>
                    <a:pt x="10" y="5"/>
                  </a:lnTo>
                  <a:lnTo>
                    <a:pt x="0" y="19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8" name=""/>
            <p:cNvSpPr/>
            <p:nvPr/>
          </p:nvSpPr>
          <p:spPr>
            <a:xfrm>
              <a:off x="5438880" y="3041640"/>
              <a:ext cx="15840" cy="31680"/>
            </a:xfrm>
            <a:custGeom>
              <a:avLst/>
              <a:gdLst/>
              <a:ahLst/>
              <a:rect l="l" t="t" r="r" b="b"/>
              <a:pathLst>
                <a:path w="10" h="20">
                  <a:moveTo>
                    <a:pt x="10" y="0"/>
                  </a:moveTo>
                  <a:lnTo>
                    <a:pt x="5" y="15"/>
                  </a:lnTo>
                  <a:lnTo>
                    <a:pt x="0" y="2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9" name=""/>
            <p:cNvSpPr/>
            <p:nvPr/>
          </p:nvSpPr>
          <p:spPr>
            <a:xfrm>
              <a:off x="5398920" y="3089160"/>
              <a:ext cx="24120" cy="7920"/>
            </a:xfrm>
            <a:custGeom>
              <a:avLst/>
              <a:gdLst/>
              <a:ahLst/>
              <a:rect l="l" t="t" r="r" b="b"/>
              <a:pathLst>
                <a:path w="15" h="5">
                  <a:moveTo>
                    <a:pt x="15" y="5"/>
                  </a:moveTo>
                  <a:lnTo>
                    <a:pt x="15" y="5"/>
                  </a:lnTo>
                  <a:lnTo>
                    <a:pt x="5" y="5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0" name=""/>
            <p:cNvSpPr/>
            <p:nvPr/>
          </p:nvSpPr>
          <p:spPr>
            <a:xfrm>
              <a:off x="5361120" y="3041640"/>
              <a:ext cx="14040" cy="23760"/>
            </a:xfrm>
            <a:custGeom>
              <a:avLst/>
              <a:gdLst/>
              <a:ahLst/>
              <a:rect l="l" t="t" r="r" b="b"/>
              <a:pathLst>
                <a:path w="9" h="15">
                  <a:moveTo>
                    <a:pt x="9" y="15"/>
                  </a:moveTo>
                  <a:lnTo>
                    <a:pt x="4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1" name=""/>
            <p:cNvSpPr/>
            <p:nvPr/>
          </p:nvSpPr>
          <p:spPr>
            <a:xfrm flipH="1" flipV="1">
              <a:off x="5297400" y="3033720"/>
              <a:ext cx="31680" cy="79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2" name=""/>
            <p:cNvSpPr/>
            <p:nvPr/>
          </p:nvSpPr>
          <p:spPr>
            <a:xfrm flipH="1" flipV="1">
              <a:off x="5234040" y="3025800"/>
              <a:ext cx="31680" cy="79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3" name=""/>
            <p:cNvSpPr/>
            <p:nvPr/>
          </p:nvSpPr>
          <p:spPr>
            <a:xfrm flipH="1" flipV="1">
              <a:off x="5164200" y="3017880"/>
              <a:ext cx="39600" cy="79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4" name=""/>
            <p:cNvSpPr/>
            <p:nvPr/>
          </p:nvSpPr>
          <p:spPr>
            <a:xfrm>
              <a:off x="5132520" y="3017880"/>
              <a:ext cx="1440" cy="31680"/>
            </a:xfrm>
            <a:custGeom>
              <a:avLst/>
              <a:gdLst/>
              <a:ahLst/>
              <a:rect l="l" t="t" r="r" b="b"/>
              <a:pathLst>
                <a:path w="0" h="20">
                  <a:moveTo>
                    <a:pt x="0" y="0"/>
                  </a:moveTo>
                  <a:lnTo>
                    <a:pt x="0" y="0"/>
                  </a:lnTo>
                  <a:lnTo>
                    <a:pt x="0" y="2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5" name=""/>
            <p:cNvSpPr/>
            <p:nvPr/>
          </p:nvSpPr>
          <p:spPr>
            <a:xfrm>
              <a:off x="5124600" y="3081240"/>
              <a:ext cx="1440" cy="316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6" name=""/>
            <p:cNvSpPr/>
            <p:nvPr/>
          </p:nvSpPr>
          <p:spPr>
            <a:xfrm>
              <a:off x="5084640" y="3112920"/>
              <a:ext cx="15840" cy="1620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10" y="0"/>
                  </a:moveTo>
                  <a:lnTo>
                    <a:pt x="0" y="0"/>
                  </a:lnTo>
                  <a:lnTo>
                    <a:pt x="0" y="1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7" name=""/>
            <p:cNvSpPr/>
            <p:nvPr/>
          </p:nvSpPr>
          <p:spPr>
            <a:xfrm flipH="1">
              <a:off x="5076720" y="3159000"/>
              <a:ext cx="7920" cy="320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8" name=""/>
            <p:cNvSpPr/>
            <p:nvPr/>
          </p:nvSpPr>
          <p:spPr>
            <a:xfrm flipH="1" flipV="1">
              <a:off x="5030280" y="3191040"/>
              <a:ext cx="32040" cy="79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9" name=""/>
            <p:cNvSpPr/>
            <p:nvPr/>
          </p:nvSpPr>
          <p:spPr>
            <a:xfrm>
              <a:off x="5022720" y="3222720"/>
              <a:ext cx="1800" cy="79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0" name=""/>
            <p:cNvSpPr/>
            <p:nvPr/>
          </p:nvSpPr>
          <p:spPr>
            <a:xfrm flipH="1" flipV="1">
              <a:off x="4764240" y="2876040"/>
              <a:ext cx="15840" cy="241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1" name=""/>
            <p:cNvSpPr/>
            <p:nvPr/>
          </p:nvSpPr>
          <p:spPr>
            <a:xfrm>
              <a:off x="4748040" y="2814480"/>
              <a:ext cx="8280" cy="32040"/>
            </a:xfrm>
            <a:custGeom>
              <a:avLst/>
              <a:gdLst/>
              <a:ahLst/>
              <a:rect l="l" t="t" r="r" b="b"/>
              <a:pathLst>
                <a:path w="5" h="20">
                  <a:moveTo>
                    <a:pt x="5" y="20"/>
                  </a:moveTo>
                  <a:lnTo>
                    <a:pt x="0" y="15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2" name=""/>
            <p:cNvSpPr/>
            <p:nvPr/>
          </p:nvSpPr>
          <p:spPr>
            <a:xfrm>
              <a:off x="4756320" y="2751120"/>
              <a:ext cx="1440" cy="31680"/>
            </a:xfrm>
            <a:custGeom>
              <a:avLst/>
              <a:gdLst/>
              <a:ahLst/>
              <a:rect l="l" t="t" r="r" b="b"/>
              <a:pathLst>
                <a:path w="0" h="20">
                  <a:moveTo>
                    <a:pt x="0" y="20"/>
                  </a:moveTo>
                  <a:lnTo>
                    <a:pt x="0" y="15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3" name=""/>
            <p:cNvSpPr/>
            <p:nvPr/>
          </p:nvSpPr>
          <p:spPr>
            <a:xfrm flipV="1">
              <a:off x="4756320" y="2689200"/>
              <a:ext cx="7920" cy="316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4" name=""/>
            <p:cNvSpPr/>
            <p:nvPr/>
          </p:nvSpPr>
          <p:spPr>
            <a:xfrm>
              <a:off x="4764240" y="2625840"/>
              <a:ext cx="7920" cy="31680"/>
            </a:xfrm>
            <a:custGeom>
              <a:avLst/>
              <a:gdLst/>
              <a:ahLst/>
              <a:rect l="l" t="t" r="r" b="b"/>
              <a:pathLst>
                <a:path w="5" h="20">
                  <a:moveTo>
                    <a:pt x="5" y="20"/>
                  </a:moveTo>
                  <a:lnTo>
                    <a:pt x="5" y="1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5" name=""/>
            <p:cNvSpPr/>
            <p:nvPr/>
          </p:nvSpPr>
          <p:spPr>
            <a:xfrm flipH="1" flipV="1">
              <a:off x="4716360" y="2579400"/>
              <a:ext cx="31680" cy="140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6" name=""/>
            <p:cNvSpPr/>
            <p:nvPr/>
          </p:nvSpPr>
          <p:spPr>
            <a:xfrm flipH="1" flipV="1">
              <a:off x="4684680" y="2523600"/>
              <a:ext cx="15840" cy="320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7" name=""/>
            <p:cNvSpPr/>
            <p:nvPr/>
          </p:nvSpPr>
          <p:spPr>
            <a:xfrm flipH="1" flipV="1">
              <a:off x="4645080" y="2476440"/>
              <a:ext cx="23760" cy="237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8" name=""/>
            <p:cNvSpPr/>
            <p:nvPr/>
          </p:nvSpPr>
          <p:spPr>
            <a:xfrm flipH="1" flipV="1">
              <a:off x="4606920" y="2430360"/>
              <a:ext cx="15840" cy="223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9" name=""/>
            <p:cNvSpPr/>
            <p:nvPr/>
          </p:nvSpPr>
          <p:spPr>
            <a:xfrm flipH="1" flipV="1">
              <a:off x="4559400" y="2382840"/>
              <a:ext cx="23760" cy="237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0" name=""/>
            <p:cNvSpPr/>
            <p:nvPr/>
          </p:nvSpPr>
          <p:spPr>
            <a:xfrm>
              <a:off x="4519440" y="2335320"/>
              <a:ext cx="16200" cy="23760"/>
            </a:xfrm>
            <a:custGeom>
              <a:avLst/>
              <a:gdLst/>
              <a:ahLst/>
              <a:rect l="l" t="t" r="r" b="b"/>
              <a:pathLst>
                <a:path w="10" h="15">
                  <a:moveTo>
                    <a:pt x="10" y="15"/>
                  </a:moveTo>
                  <a:lnTo>
                    <a:pt x="5" y="1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1" name=""/>
            <p:cNvSpPr/>
            <p:nvPr/>
          </p:nvSpPr>
          <p:spPr>
            <a:xfrm flipH="1" flipV="1">
              <a:off x="4489200" y="2281320"/>
              <a:ext cx="14040" cy="237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2" name=""/>
            <p:cNvSpPr/>
            <p:nvPr/>
          </p:nvSpPr>
          <p:spPr>
            <a:xfrm>
              <a:off x="4425840" y="2273400"/>
              <a:ext cx="32040" cy="1440"/>
            </a:xfrm>
            <a:custGeom>
              <a:avLst/>
              <a:gdLst/>
              <a:ahLst/>
              <a:rect l="l" t="t" r="r" b="b"/>
              <a:pathLst>
                <a:path w="20" h="0">
                  <a:moveTo>
                    <a:pt x="2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3" name=""/>
            <p:cNvSpPr/>
            <p:nvPr/>
          </p:nvSpPr>
          <p:spPr>
            <a:xfrm flipH="1" flipV="1">
              <a:off x="4935600" y="3166560"/>
              <a:ext cx="15840" cy="320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4" name=""/>
            <p:cNvSpPr/>
            <p:nvPr/>
          </p:nvSpPr>
          <p:spPr>
            <a:xfrm flipH="1" flipV="1">
              <a:off x="4913280" y="3112920"/>
              <a:ext cx="7920" cy="302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5" name=""/>
            <p:cNvSpPr/>
            <p:nvPr/>
          </p:nvSpPr>
          <p:spPr>
            <a:xfrm>
              <a:off x="4881600" y="3057480"/>
              <a:ext cx="15840" cy="23760"/>
            </a:xfrm>
            <a:custGeom>
              <a:avLst/>
              <a:gdLst/>
              <a:ahLst/>
              <a:rect l="l" t="t" r="r" b="b"/>
              <a:pathLst>
                <a:path w="10" h="15">
                  <a:moveTo>
                    <a:pt x="10" y="15"/>
                  </a:moveTo>
                  <a:lnTo>
                    <a:pt x="10" y="15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6" name=""/>
            <p:cNvSpPr/>
            <p:nvPr/>
          </p:nvSpPr>
          <p:spPr>
            <a:xfrm flipH="1" flipV="1">
              <a:off x="4857840" y="2995560"/>
              <a:ext cx="15840" cy="302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7" name=""/>
            <p:cNvSpPr/>
            <p:nvPr/>
          </p:nvSpPr>
          <p:spPr>
            <a:xfrm>
              <a:off x="4818240" y="2948040"/>
              <a:ext cx="23760" cy="23760"/>
            </a:xfrm>
            <a:custGeom>
              <a:avLst/>
              <a:gdLst/>
              <a:ahLst/>
              <a:rect l="l" t="t" r="r" b="b"/>
              <a:pathLst>
                <a:path w="15" h="15">
                  <a:moveTo>
                    <a:pt x="15" y="15"/>
                  </a:moveTo>
                  <a:lnTo>
                    <a:pt x="10" y="5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8" name=""/>
            <p:cNvSpPr/>
            <p:nvPr/>
          </p:nvSpPr>
          <p:spPr>
            <a:xfrm>
              <a:off x="4788000" y="2892600"/>
              <a:ext cx="14040" cy="31680"/>
            </a:xfrm>
            <a:custGeom>
              <a:avLst/>
              <a:gdLst/>
              <a:ahLst/>
              <a:rect l="l" t="t" r="r" b="b"/>
              <a:pathLst>
                <a:path w="9" h="20">
                  <a:moveTo>
                    <a:pt x="9" y="20"/>
                  </a:moveTo>
                  <a:lnTo>
                    <a:pt x="4" y="15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9" name=""/>
            <p:cNvSpPr/>
            <p:nvPr/>
          </p:nvSpPr>
          <p:spPr>
            <a:xfrm flipV="1">
              <a:off x="4794120" y="2830320"/>
              <a:ext cx="1800" cy="298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0" name=""/>
            <p:cNvSpPr/>
            <p:nvPr/>
          </p:nvSpPr>
          <p:spPr>
            <a:xfrm flipV="1">
              <a:off x="4802040" y="2766960"/>
              <a:ext cx="1800" cy="316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1" name=""/>
            <p:cNvSpPr/>
            <p:nvPr/>
          </p:nvSpPr>
          <p:spPr>
            <a:xfrm>
              <a:off x="4809960" y="2705040"/>
              <a:ext cx="8280" cy="30240"/>
            </a:xfrm>
            <a:custGeom>
              <a:avLst/>
              <a:gdLst/>
              <a:ahLst/>
              <a:rect l="l" t="t" r="r" b="b"/>
              <a:pathLst>
                <a:path w="5" h="19">
                  <a:moveTo>
                    <a:pt x="0" y="19"/>
                  </a:moveTo>
                  <a:lnTo>
                    <a:pt x="5" y="0"/>
                  </a:lnTo>
                  <a:lnTo>
                    <a:pt x="5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2" name=""/>
            <p:cNvSpPr/>
            <p:nvPr/>
          </p:nvSpPr>
          <p:spPr>
            <a:xfrm flipV="1">
              <a:off x="4818240" y="2641680"/>
              <a:ext cx="7920" cy="316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3" name=""/>
            <p:cNvSpPr/>
            <p:nvPr/>
          </p:nvSpPr>
          <p:spPr>
            <a:xfrm flipV="1">
              <a:off x="4834080" y="2579760"/>
              <a:ext cx="1440" cy="302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4" name=""/>
            <p:cNvSpPr/>
            <p:nvPr/>
          </p:nvSpPr>
          <p:spPr>
            <a:xfrm flipV="1">
              <a:off x="4842000" y="2515680"/>
              <a:ext cx="1440" cy="320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5" name=""/>
            <p:cNvSpPr/>
            <p:nvPr/>
          </p:nvSpPr>
          <p:spPr>
            <a:xfrm flipV="1">
              <a:off x="4849920" y="2452680"/>
              <a:ext cx="7920" cy="316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6" name=""/>
            <p:cNvSpPr/>
            <p:nvPr/>
          </p:nvSpPr>
          <p:spPr>
            <a:xfrm flipV="1">
              <a:off x="4857840" y="2390760"/>
              <a:ext cx="7920" cy="316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7" name=""/>
            <p:cNvSpPr/>
            <p:nvPr/>
          </p:nvSpPr>
          <p:spPr>
            <a:xfrm flipV="1">
              <a:off x="4873680" y="2319480"/>
              <a:ext cx="1440" cy="396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8" name=""/>
            <p:cNvSpPr/>
            <p:nvPr/>
          </p:nvSpPr>
          <p:spPr>
            <a:xfrm flipV="1">
              <a:off x="4881600" y="2257560"/>
              <a:ext cx="1440" cy="316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9" name=""/>
            <p:cNvSpPr/>
            <p:nvPr/>
          </p:nvSpPr>
          <p:spPr>
            <a:xfrm flipV="1">
              <a:off x="4889520" y="2193840"/>
              <a:ext cx="1440" cy="316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0" name=""/>
            <p:cNvSpPr/>
            <p:nvPr/>
          </p:nvSpPr>
          <p:spPr>
            <a:xfrm flipV="1">
              <a:off x="4897440" y="2131920"/>
              <a:ext cx="1440" cy="316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1" name=""/>
            <p:cNvSpPr/>
            <p:nvPr/>
          </p:nvSpPr>
          <p:spPr>
            <a:xfrm flipV="1">
              <a:off x="4905360" y="2068560"/>
              <a:ext cx="1440" cy="316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2" name=""/>
            <p:cNvSpPr/>
            <p:nvPr/>
          </p:nvSpPr>
          <p:spPr>
            <a:xfrm flipV="1">
              <a:off x="4913280" y="2006640"/>
              <a:ext cx="1800" cy="316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3" name=""/>
            <p:cNvSpPr/>
            <p:nvPr/>
          </p:nvSpPr>
          <p:spPr>
            <a:xfrm>
              <a:off x="4921200" y="1943280"/>
              <a:ext cx="7920" cy="31680"/>
            </a:xfrm>
            <a:custGeom>
              <a:avLst/>
              <a:gdLst/>
              <a:ahLst/>
              <a:rect l="l" t="t" r="r" b="b"/>
              <a:pathLst>
                <a:path w="5" h="20">
                  <a:moveTo>
                    <a:pt x="0" y="20"/>
                  </a:moveTo>
                  <a:lnTo>
                    <a:pt x="5" y="0"/>
                  </a:lnTo>
                  <a:lnTo>
                    <a:pt x="5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4" name=""/>
            <p:cNvSpPr/>
            <p:nvPr/>
          </p:nvSpPr>
          <p:spPr>
            <a:xfrm>
              <a:off x="4959360" y="1951200"/>
              <a:ext cx="31680" cy="79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5" name=""/>
            <p:cNvSpPr/>
            <p:nvPr/>
          </p:nvSpPr>
          <p:spPr>
            <a:xfrm>
              <a:off x="5022720" y="1959120"/>
              <a:ext cx="32040" cy="79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6" name=""/>
            <p:cNvSpPr/>
            <p:nvPr/>
          </p:nvSpPr>
          <p:spPr>
            <a:xfrm flipV="1">
              <a:off x="5076720" y="1934640"/>
              <a:ext cx="23760" cy="320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7" name=""/>
            <p:cNvSpPr/>
            <p:nvPr/>
          </p:nvSpPr>
          <p:spPr>
            <a:xfrm flipV="1">
              <a:off x="5116680" y="1888920"/>
              <a:ext cx="23760" cy="219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8" name=""/>
            <p:cNvSpPr/>
            <p:nvPr/>
          </p:nvSpPr>
          <p:spPr>
            <a:xfrm>
              <a:off x="5156280" y="1857240"/>
              <a:ext cx="31680" cy="15840"/>
            </a:xfrm>
            <a:custGeom>
              <a:avLst/>
              <a:gdLst/>
              <a:ahLst/>
              <a:rect l="l" t="t" r="r" b="b"/>
              <a:pathLst>
                <a:path w="20" h="10">
                  <a:moveTo>
                    <a:pt x="0" y="5"/>
                  </a:moveTo>
                  <a:lnTo>
                    <a:pt x="5" y="0"/>
                  </a:lnTo>
                  <a:lnTo>
                    <a:pt x="20" y="1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9" name=""/>
            <p:cNvSpPr/>
            <p:nvPr/>
          </p:nvSpPr>
          <p:spPr>
            <a:xfrm>
              <a:off x="5219640" y="1881360"/>
              <a:ext cx="22320" cy="15840"/>
            </a:xfrm>
            <a:custGeom>
              <a:avLst/>
              <a:gdLst/>
              <a:ahLst/>
              <a:rect l="l" t="t" r="r" b="b"/>
              <a:pathLst>
                <a:path w="14" h="10">
                  <a:moveTo>
                    <a:pt x="0" y="0"/>
                  </a:moveTo>
                  <a:lnTo>
                    <a:pt x="9" y="5"/>
                  </a:lnTo>
                  <a:lnTo>
                    <a:pt x="14" y="1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0" name=""/>
            <p:cNvSpPr/>
            <p:nvPr/>
          </p:nvSpPr>
          <p:spPr>
            <a:xfrm>
              <a:off x="5273640" y="1911240"/>
              <a:ext cx="31680" cy="158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1" name=""/>
            <p:cNvSpPr/>
            <p:nvPr/>
          </p:nvSpPr>
          <p:spPr>
            <a:xfrm>
              <a:off x="5329080" y="1935000"/>
              <a:ext cx="32040" cy="162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2" name=""/>
            <p:cNvSpPr/>
            <p:nvPr/>
          </p:nvSpPr>
          <p:spPr>
            <a:xfrm>
              <a:off x="5391000" y="1967040"/>
              <a:ext cx="32040" cy="7920"/>
            </a:xfrm>
            <a:custGeom>
              <a:avLst/>
              <a:gdLst/>
              <a:ahLst/>
              <a:rect l="l" t="t" r="r" b="b"/>
              <a:pathLst>
                <a:path w="20" h="5">
                  <a:moveTo>
                    <a:pt x="0" y="0"/>
                  </a:moveTo>
                  <a:lnTo>
                    <a:pt x="15" y="5"/>
                  </a:lnTo>
                  <a:lnTo>
                    <a:pt x="20" y="5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3" name=""/>
            <p:cNvSpPr/>
            <p:nvPr/>
          </p:nvSpPr>
          <p:spPr>
            <a:xfrm>
              <a:off x="5446800" y="1990800"/>
              <a:ext cx="31680" cy="79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4" name=""/>
            <p:cNvSpPr/>
            <p:nvPr/>
          </p:nvSpPr>
          <p:spPr>
            <a:xfrm>
              <a:off x="5508720" y="2014560"/>
              <a:ext cx="31680" cy="158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5" name=""/>
            <p:cNvSpPr/>
            <p:nvPr/>
          </p:nvSpPr>
          <p:spPr>
            <a:xfrm>
              <a:off x="5556240" y="2044800"/>
              <a:ext cx="15840" cy="316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6" name=""/>
            <p:cNvSpPr/>
            <p:nvPr/>
          </p:nvSpPr>
          <p:spPr>
            <a:xfrm>
              <a:off x="5572080" y="2108160"/>
              <a:ext cx="1800" cy="316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7" name=""/>
            <p:cNvSpPr/>
            <p:nvPr/>
          </p:nvSpPr>
          <p:spPr>
            <a:xfrm flipH="1">
              <a:off x="5556240" y="2171880"/>
              <a:ext cx="7920" cy="298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8" name=""/>
            <p:cNvSpPr/>
            <p:nvPr/>
          </p:nvSpPr>
          <p:spPr>
            <a:xfrm>
              <a:off x="5556240" y="2233440"/>
              <a:ext cx="1440" cy="320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9" name=""/>
            <p:cNvSpPr/>
            <p:nvPr/>
          </p:nvSpPr>
          <p:spPr>
            <a:xfrm flipH="1">
              <a:off x="4394160" y="2273400"/>
              <a:ext cx="3168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0" name=""/>
            <p:cNvSpPr/>
            <p:nvPr/>
          </p:nvSpPr>
          <p:spPr>
            <a:xfrm flipH="1">
              <a:off x="4356000" y="2289240"/>
              <a:ext cx="30240" cy="79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1" name=""/>
            <p:cNvSpPr/>
            <p:nvPr/>
          </p:nvSpPr>
          <p:spPr>
            <a:xfrm>
              <a:off x="4308480" y="2319480"/>
              <a:ext cx="23760" cy="15840"/>
            </a:xfrm>
            <a:custGeom>
              <a:avLst/>
              <a:gdLst/>
              <a:ahLst/>
              <a:rect l="l" t="t" r="r" b="b"/>
              <a:pathLst>
                <a:path w="15" h="10">
                  <a:moveTo>
                    <a:pt x="15" y="0"/>
                  </a:moveTo>
                  <a:lnTo>
                    <a:pt x="10" y="5"/>
                  </a:lnTo>
                  <a:lnTo>
                    <a:pt x="0" y="10"/>
                  </a:lnTo>
                  <a:lnTo>
                    <a:pt x="0" y="1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2" name=""/>
            <p:cNvSpPr/>
            <p:nvPr/>
          </p:nvSpPr>
          <p:spPr>
            <a:xfrm>
              <a:off x="4260960" y="2351160"/>
              <a:ext cx="15840" cy="23760"/>
            </a:xfrm>
            <a:custGeom>
              <a:avLst/>
              <a:gdLst/>
              <a:ahLst/>
              <a:rect l="l" t="t" r="r" b="b"/>
              <a:pathLst>
                <a:path w="10" h="15">
                  <a:moveTo>
                    <a:pt x="10" y="0"/>
                  </a:moveTo>
                  <a:lnTo>
                    <a:pt x="5" y="5"/>
                  </a:lnTo>
                  <a:lnTo>
                    <a:pt x="0" y="10"/>
                  </a:lnTo>
                  <a:lnTo>
                    <a:pt x="0" y="15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3" name=""/>
            <p:cNvSpPr/>
            <p:nvPr/>
          </p:nvSpPr>
          <p:spPr>
            <a:xfrm>
              <a:off x="4229280" y="2406600"/>
              <a:ext cx="23760" cy="23760"/>
            </a:xfrm>
            <a:custGeom>
              <a:avLst/>
              <a:gdLst/>
              <a:ahLst/>
              <a:rect l="l" t="t" r="r" b="b"/>
              <a:pathLst>
                <a:path w="15" h="15">
                  <a:moveTo>
                    <a:pt x="15" y="0"/>
                  </a:moveTo>
                  <a:lnTo>
                    <a:pt x="10" y="5"/>
                  </a:lnTo>
                  <a:lnTo>
                    <a:pt x="0" y="15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4" name=""/>
            <p:cNvSpPr/>
            <p:nvPr/>
          </p:nvSpPr>
          <p:spPr>
            <a:xfrm>
              <a:off x="4175280" y="2446200"/>
              <a:ext cx="31680" cy="14400"/>
            </a:xfrm>
            <a:custGeom>
              <a:avLst/>
              <a:gdLst/>
              <a:ahLst/>
              <a:rect l="l" t="t" r="r" b="b"/>
              <a:pathLst>
                <a:path w="20" h="9">
                  <a:moveTo>
                    <a:pt x="20" y="0"/>
                  </a:moveTo>
                  <a:lnTo>
                    <a:pt x="10" y="4"/>
                  </a:lnTo>
                  <a:lnTo>
                    <a:pt x="0" y="9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5" name=""/>
            <p:cNvSpPr/>
            <p:nvPr/>
          </p:nvSpPr>
          <p:spPr>
            <a:xfrm>
              <a:off x="4127400" y="2484360"/>
              <a:ext cx="23760" cy="23760"/>
            </a:xfrm>
            <a:custGeom>
              <a:avLst/>
              <a:gdLst/>
              <a:ahLst/>
              <a:rect l="l" t="t" r="r" b="b"/>
              <a:pathLst>
                <a:path w="15" h="15">
                  <a:moveTo>
                    <a:pt x="15" y="0"/>
                  </a:moveTo>
                  <a:lnTo>
                    <a:pt x="5" y="10"/>
                  </a:lnTo>
                  <a:lnTo>
                    <a:pt x="0" y="15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06" name=""/>
          <p:cNvGrpSpPr/>
          <p:nvPr/>
        </p:nvGrpSpPr>
        <p:grpSpPr>
          <a:xfrm>
            <a:off x="2149560" y="1927080"/>
            <a:ext cx="4678200" cy="3218040"/>
            <a:chOff x="2149560" y="1927080"/>
            <a:chExt cx="4678200" cy="3218040"/>
          </a:xfrm>
        </p:grpSpPr>
        <p:sp>
          <p:nvSpPr>
            <p:cNvPr id="3207" name=""/>
            <p:cNvSpPr/>
            <p:nvPr/>
          </p:nvSpPr>
          <p:spPr>
            <a:xfrm>
              <a:off x="4079880" y="2523960"/>
              <a:ext cx="23760" cy="24120"/>
            </a:xfrm>
            <a:custGeom>
              <a:avLst/>
              <a:gdLst/>
              <a:ahLst/>
              <a:rect l="l" t="t" r="r" b="b"/>
              <a:pathLst>
                <a:path w="15" h="15">
                  <a:moveTo>
                    <a:pt x="15" y="0"/>
                  </a:moveTo>
                  <a:lnTo>
                    <a:pt x="0" y="10"/>
                  </a:lnTo>
                  <a:lnTo>
                    <a:pt x="0" y="15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8" name=""/>
            <p:cNvSpPr/>
            <p:nvPr/>
          </p:nvSpPr>
          <p:spPr>
            <a:xfrm>
              <a:off x="4033800" y="2523960"/>
              <a:ext cx="15840" cy="24120"/>
            </a:xfrm>
            <a:custGeom>
              <a:avLst/>
              <a:gdLst/>
              <a:ahLst/>
              <a:rect l="l" t="t" r="r" b="b"/>
              <a:pathLst>
                <a:path w="10" h="15">
                  <a:moveTo>
                    <a:pt x="10" y="15"/>
                  </a:moveTo>
                  <a:lnTo>
                    <a:pt x="0" y="5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9" name=""/>
            <p:cNvSpPr/>
            <p:nvPr/>
          </p:nvSpPr>
          <p:spPr>
            <a:xfrm flipH="1" flipV="1">
              <a:off x="4010040" y="2460600"/>
              <a:ext cx="7920" cy="316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0" name=""/>
            <p:cNvSpPr/>
            <p:nvPr/>
          </p:nvSpPr>
          <p:spPr>
            <a:xfrm flipH="1" flipV="1">
              <a:off x="3986280" y="2468520"/>
              <a:ext cx="31680" cy="158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1" name=""/>
            <p:cNvSpPr/>
            <p:nvPr/>
          </p:nvSpPr>
          <p:spPr>
            <a:xfrm>
              <a:off x="3938760" y="2430360"/>
              <a:ext cx="23760" cy="15840"/>
            </a:xfrm>
            <a:custGeom>
              <a:avLst/>
              <a:gdLst/>
              <a:ahLst/>
              <a:rect l="l" t="t" r="r" b="b"/>
              <a:pathLst>
                <a:path w="15" h="10">
                  <a:moveTo>
                    <a:pt x="15" y="10"/>
                  </a:moveTo>
                  <a:lnTo>
                    <a:pt x="10" y="1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2" name=""/>
            <p:cNvSpPr/>
            <p:nvPr/>
          </p:nvSpPr>
          <p:spPr>
            <a:xfrm>
              <a:off x="3884760" y="2398680"/>
              <a:ext cx="31680" cy="15840"/>
            </a:xfrm>
            <a:custGeom>
              <a:avLst/>
              <a:gdLst/>
              <a:ahLst/>
              <a:rect l="l" t="t" r="r" b="b"/>
              <a:pathLst>
                <a:path w="20" h="10">
                  <a:moveTo>
                    <a:pt x="20" y="5"/>
                  </a:moveTo>
                  <a:lnTo>
                    <a:pt x="10" y="0"/>
                  </a:lnTo>
                  <a:lnTo>
                    <a:pt x="0" y="1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3" name=""/>
            <p:cNvSpPr/>
            <p:nvPr/>
          </p:nvSpPr>
          <p:spPr>
            <a:xfrm flipH="1">
              <a:off x="3836880" y="2430360"/>
              <a:ext cx="23760" cy="223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4" name=""/>
            <p:cNvSpPr/>
            <p:nvPr/>
          </p:nvSpPr>
          <p:spPr>
            <a:xfrm>
              <a:off x="3789360" y="2468520"/>
              <a:ext cx="23760" cy="23760"/>
            </a:xfrm>
            <a:custGeom>
              <a:avLst/>
              <a:gdLst/>
              <a:ahLst/>
              <a:rect l="l" t="t" r="r" b="b"/>
              <a:pathLst>
                <a:path w="15" h="15">
                  <a:moveTo>
                    <a:pt x="15" y="0"/>
                  </a:moveTo>
                  <a:lnTo>
                    <a:pt x="10" y="5"/>
                  </a:lnTo>
                  <a:lnTo>
                    <a:pt x="0" y="15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5" name=""/>
            <p:cNvSpPr/>
            <p:nvPr/>
          </p:nvSpPr>
          <p:spPr>
            <a:xfrm>
              <a:off x="3735360" y="2508120"/>
              <a:ext cx="23760" cy="24120"/>
            </a:xfrm>
            <a:custGeom>
              <a:avLst/>
              <a:gdLst/>
              <a:ahLst/>
              <a:rect l="l" t="t" r="r" b="b"/>
              <a:pathLst>
                <a:path w="15" h="15">
                  <a:moveTo>
                    <a:pt x="15" y="0"/>
                  </a:moveTo>
                  <a:lnTo>
                    <a:pt x="5" y="15"/>
                  </a:lnTo>
                  <a:lnTo>
                    <a:pt x="0" y="15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6" name=""/>
            <p:cNvSpPr/>
            <p:nvPr/>
          </p:nvSpPr>
          <p:spPr>
            <a:xfrm flipH="1">
              <a:off x="3687840" y="2548080"/>
              <a:ext cx="23760" cy="237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7" name=""/>
            <p:cNvSpPr/>
            <p:nvPr/>
          </p:nvSpPr>
          <p:spPr>
            <a:xfrm>
              <a:off x="3554280" y="2548080"/>
              <a:ext cx="24120" cy="384120"/>
            </a:xfrm>
            <a:custGeom>
              <a:avLst/>
              <a:gdLst/>
              <a:ahLst/>
              <a:rect l="l" t="t" r="r" b="b"/>
              <a:pathLst>
                <a:path w="15" h="242">
                  <a:moveTo>
                    <a:pt x="15" y="0"/>
                  </a:moveTo>
                  <a:lnTo>
                    <a:pt x="10" y="20"/>
                  </a:lnTo>
                  <a:lnTo>
                    <a:pt x="5" y="34"/>
                  </a:lnTo>
                  <a:lnTo>
                    <a:pt x="0" y="54"/>
                  </a:lnTo>
                  <a:lnTo>
                    <a:pt x="0" y="74"/>
                  </a:lnTo>
                  <a:lnTo>
                    <a:pt x="0" y="94"/>
                  </a:lnTo>
                  <a:lnTo>
                    <a:pt x="5" y="118"/>
                  </a:lnTo>
                  <a:lnTo>
                    <a:pt x="5" y="138"/>
                  </a:lnTo>
                  <a:lnTo>
                    <a:pt x="10" y="158"/>
                  </a:lnTo>
                  <a:lnTo>
                    <a:pt x="10" y="178"/>
                  </a:lnTo>
                  <a:lnTo>
                    <a:pt x="10" y="207"/>
                  </a:lnTo>
                  <a:lnTo>
                    <a:pt x="10" y="217"/>
                  </a:lnTo>
                  <a:lnTo>
                    <a:pt x="10" y="242"/>
                  </a:lnTo>
                </a:path>
              </a:pathLst>
            </a:custGeom>
            <a:noFill/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8" name=""/>
            <p:cNvSpPr/>
            <p:nvPr/>
          </p:nvSpPr>
          <p:spPr>
            <a:xfrm>
              <a:off x="3578400" y="2548080"/>
              <a:ext cx="1357200" cy="714240"/>
            </a:xfrm>
            <a:custGeom>
              <a:avLst/>
              <a:gdLst/>
              <a:ahLst/>
              <a:rect l="l" t="t" r="r" b="b"/>
              <a:pathLst>
                <a:path w="855" h="450">
                  <a:moveTo>
                    <a:pt x="855" y="450"/>
                  </a:moveTo>
                  <a:lnTo>
                    <a:pt x="791" y="425"/>
                  </a:lnTo>
                  <a:lnTo>
                    <a:pt x="687" y="395"/>
                  </a:lnTo>
                  <a:lnTo>
                    <a:pt x="579" y="351"/>
                  </a:lnTo>
                  <a:lnTo>
                    <a:pt x="539" y="306"/>
                  </a:lnTo>
                  <a:lnTo>
                    <a:pt x="485" y="282"/>
                  </a:lnTo>
                  <a:lnTo>
                    <a:pt x="410" y="232"/>
                  </a:lnTo>
                  <a:lnTo>
                    <a:pt x="341" y="178"/>
                  </a:lnTo>
                  <a:lnTo>
                    <a:pt x="307" y="148"/>
                  </a:lnTo>
                  <a:lnTo>
                    <a:pt x="282" y="128"/>
                  </a:lnTo>
                  <a:lnTo>
                    <a:pt x="232" y="69"/>
                  </a:lnTo>
                  <a:lnTo>
                    <a:pt x="213" y="59"/>
                  </a:lnTo>
                  <a:lnTo>
                    <a:pt x="94" y="29"/>
                  </a:lnTo>
                  <a:lnTo>
                    <a:pt x="54" y="10"/>
                  </a:lnTo>
                  <a:lnTo>
                    <a:pt x="0" y="0"/>
                  </a:lnTo>
                </a:path>
              </a:pathLst>
            </a:custGeom>
            <a:noFill/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9" name=""/>
            <p:cNvSpPr/>
            <p:nvPr/>
          </p:nvSpPr>
          <p:spPr>
            <a:xfrm>
              <a:off x="5156280" y="2884320"/>
              <a:ext cx="31680" cy="18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0" name=""/>
            <p:cNvSpPr/>
            <p:nvPr/>
          </p:nvSpPr>
          <p:spPr>
            <a:xfrm>
              <a:off x="5219640" y="2884320"/>
              <a:ext cx="30240" cy="18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1" name=""/>
            <p:cNvSpPr/>
            <p:nvPr/>
          </p:nvSpPr>
          <p:spPr>
            <a:xfrm>
              <a:off x="5273640" y="2846520"/>
              <a:ext cx="7920" cy="29880"/>
            </a:xfrm>
            <a:custGeom>
              <a:avLst/>
              <a:gdLst/>
              <a:ahLst/>
              <a:rect l="l" t="t" r="r" b="b"/>
              <a:pathLst>
                <a:path w="5" h="19">
                  <a:moveTo>
                    <a:pt x="0" y="19"/>
                  </a:moveTo>
                  <a:lnTo>
                    <a:pt x="5" y="0"/>
                  </a:lnTo>
                  <a:lnTo>
                    <a:pt x="5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2" name=""/>
            <p:cNvSpPr/>
            <p:nvPr/>
          </p:nvSpPr>
          <p:spPr>
            <a:xfrm>
              <a:off x="5313240" y="2830680"/>
              <a:ext cx="32040" cy="79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3" name=""/>
            <p:cNvSpPr/>
            <p:nvPr/>
          </p:nvSpPr>
          <p:spPr>
            <a:xfrm>
              <a:off x="5092560" y="2633760"/>
              <a:ext cx="3204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4" name=""/>
            <p:cNvSpPr/>
            <p:nvPr/>
          </p:nvSpPr>
          <p:spPr>
            <a:xfrm>
              <a:off x="5156280" y="2633760"/>
              <a:ext cx="792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5" name=""/>
            <p:cNvSpPr/>
            <p:nvPr/>
          </p:nvSpPr>
          <p:spPr>
            <a:xfrm>
              <a:off x="2581200" y="3198960"/>
              <a:ext cx="243000" cy="55440"/>
            </a:xfrm>
            <a:custGeom>
              <a:avLst/>
              <a:gdLst/>
              <a:ahLst/>
              <a:rect l="l" t="t" r="r" b="b"/>
              <a:pathLst>
                <a:path w="153" h="35">
                  <a:moveTo>
                    <a:pt x="153" y="15"/>
                  </a:moveTo>
                  <a:lnTo>
                    <a:pt x="143" y="15"/>
                  </a:lnTo>
                  <a:lnTo>
                    <a:pt x="133" y="15"/>
                  </a:lnTo>
                  <a:lnTo>
                    <a:pt x="119" y="10"/>
                  </a:lnTo>
                  <a:lnTo>
                    <a:pt x="104" y="5"/>
                  </a:lnTo>
                  <a:lnTo>
                    <a:pt x="99" y="0"/>
                  </a:lnTo>
                  <a:lnTo>
                    <a:pt x="89" y="5"/>
                  </a:lnTo>
                  <a:lnTo>
                    <a:pt x="84" y="10"/>
                  </a:lnTo>
                  <a:lnTo>
                    <a:pt x="79" y="20"/>
                  </a:lnTo>
                  <a:lnTo>
                    <a:pt x="74" y="25"/>
                  </a:lnTo>
                  <a:lnTo>
                    <a:pt x="64" y="30"/>
                  </a:lnTo>
                  <a:lnTo>
                    <a:pt x="44" y="35"/>
                  </a:lnTo>
                  <a:lnTo>
                    <a:pt x="0" y="35"/>
                  </a:lnTo>
                </a:path>
              </a:pathLst>
            </a:custGeom>
            <a:noFill/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6" name=""/>
            <p:cNvSpPr/>
            <p:nvPr/>
          </p:nvSpPr>
          <p:spPr>
            <a:xfrm>
              <a:off x="4622760" y="3780000"/>
              <a:ext cx="22320" cy="15840"/>
            </a:xfrm>
            <a:custGeom>
              <a:avLst/>
              <a:gdLst/>
              <a:ahLst/>
              <a:rect l="l" t="t" r="r" b="b"/>
              <a:pathLst>
                <a:path w="14" h="10">
                  <a:moveTo>
                    <a:pt x="0" y="10"/>
                  </a:moveTo>
                  <a:lnTo>
                    <a:pt x="14" y="5"/>
                  </a:lnTo>
                  <a:lnTo>
                    <a:pt x="14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7" name=""/>
            <p:cNvSpPr/>
            <p:nvPr/>
          </p:nvSpPr>
          <p:spPr>
            <a:xfrm flipV="1">
              <a:off x="4653000" y="3724200"/>
              <a:ext cx="15840" cy="316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8" name=""/>
            <p:cNvSpPr/>
            <p:nvPr/>
          </p:nvSpPr>
          <p:spPr>
            <a:xfrm flipV="1">
              <a:off x="4676760" y="3670200"/>
              <a:ext cx="7920" cy="223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9" name=""/>
            <p:cNvSpPr/>
            <p:nvPr/>
          </p:nvSpPr>
          <p:spPr>
            <a:xfrm>
              <a:off x="4645080" y="3787920"/>
              <a:ext cx="31680" cy="79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0" name=""/>
            <p:cNvSpPr/>
            <p:nvPr/>
          </p:nvSpPr>
          <p:spPr>
            <a:xfrm>
              <a:off x="4708440" y="3787920"/>
              <a:ext cx="15840" cy="23760"/>
            </a:xfrm>
            <a:custGeom>
              <a:avLst/>
              <a:gdLst/>
              <a:ahLst/>
              <a:rect l="l" t="t" r="r" b="b"/>
              <a:pathLst>
                <a:path w="10" h="15">
                  <a:moveTo>
                    <a:pt x="0" y="10"/>
                  </a:moveTo>
                  <a:lnTo>
                    <a:pt x="5" y="15"/>
                  </a:lnTo>
                  <a:lnTo>
                    <a:pt x="1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1" name=""/>
            <p:cNvSpPr/>
            <p:nvPr/>
          </p:nvSpPr>
          <p:spPr>
            <a:xfrm flipV="1">
              <a:off x="4732200" y="3724200"/>
              <a:ext cx="7920" cy="316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2" name=""/>
            <p:cNvSpPr/>
            <p:nvPr/>
          </p:nvSpPr>
          <p:spPr>
            <a:xfrm flipV="1">
              <a:off x="4756320" y="3662280"/>
              <a:ext cx="7920" cy="302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3" name=""/>
            <p:cNvSpPr/>
            <p:nvPr/>
          </p:nvSpPr>
          <p:spPr>
            <a:xfrm flipV="1">
              <a:off x="4772160" y="3606840"/>
              <a:ext cx="7920" cy="316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4" name=""/>
            <p:cNvSpPr/>
            <p:nvPr/>
          </p:nvSpPr>
          <p:spPr>
            <a:xfrm flipV="1">
              <a:off x="4292640" y="3567240"/>
              <a:ext cx="7920" cy="316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5" name=""/>
            <p:cNvSpPr/>
            <p:nvPr/>
          </p:nvSpPr>
          <p:spPr>
            <a:xfrm flipV="1">
              <a:off x="4308480" y="3505320"/>
              <a:ext cx="7920" cy="316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6" name=""/>
            <p:cNvSpPr/>
            <p:nvPr/>
          </p:nvSpPr>
          <p:spPr>
            <a:xfrm flipV="1">
              <a:off x="4324320" y="3441600"/>
              <a:ext cx="15840" cy="316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7" name=""/>
            <p:cNvSpPr/>
            <p:nvPr/>
          </p:nvSpPr>
          <p:spPr>
            <a:xfrm flipV="1">
              <a:off x="4348080" y="3379680"/>
              <a:ext cx="7920" cy="302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8" name=""/>
            <p:cNvSpPr/>
            <p:nvPr/>
          </p:nvSpPr>
          <p:spPr>
            <a:xfrm flipV="1">
              <a:off x="4362480" y="3316320"/>
              <a:ext cx="7920" cy="316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9" name=""/>
            <p:cNvSpPr/>
            <p:nvPr/>
          </p:nvSpPr>
          <p:spPr>
            <a:xfrm flipV="1">
              <a:off x="4386240" y="3262320"/>
              <a:ext cx="1440" cy="302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0" name=""/>
            <p:cNvSpPr/>
            <p:nvPr/>
          </p:nvSpPr>
          <p:spPr>
            <a:xfrm>
              <a:off x="4237200" y="4086360"/>
              <a:ext cx="31680" cy="140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1" name=""/>
            <p:cNvSpPr/>
            <p:nvPr/>
          </p:nvSpPr>
          <p:spPr>
            <a:xfrm>
              <a:off x="4300560" y="4108320"/>
              <a:ext cx="7920" cy="24120"/>
            </a:xfrm>
            <a:custGeom>
              <a:avLst/>
              <a:gdLst/>
              <a:ahLst/>
              <a:rect l="l" t="t" r="r" b="b"/>
              <a:pathLst>
                <a:path w="5" h="15">
                  <a:moveTo>
                    <a:pt x="0" y="0"/>
                  </a:moveTo>
                  <a:lnTo>
                    <a:pt x="5" y="0"/>
                  </a:lnTo>
                  <a:lnTo>
                    <a:pt x="0" y="15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2" name=""/>
            <p:cNvSpPr/>
            <p:nvPr/>
          </p:nvSpPr>
          <p:spPr>
            <a:xfrm>
              <a:off x="4284720" y="4164120"/>
              <a:ext cx="7920" cy="31680"/>
            </a:xfrm>
            <a:custGeom>
              <a:avLst/>
              <a:gdLst/>
              <a:ahLst/>
              <a:rect l="l" t="t" r="r" b="b"/>
              <a:pathLst>
                <a:path w="5" h="20">
                  <a:moveTo>
                    <a:pt x="5" y="0"/>
                  </a:moveTo>
                  <a:lnTo>
                    <a:pt x="5" y="5"/>
                  </a:lnTo>
                  <a:lnTo>
                    <a:pt x="0" y="2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3" name=""/>
            <p:cNvSpPr/>
            <p:nvPr/>
          </p:nvSpPr>
          <p:spPr>
            <a:xfrm>
              <a:off x="4260960" y="4227480"/>
              <a:ext cx="15840" cy="22320"/>
            </a:xfrm>
            <a:custGeom>
              <a:avLst/>
              <a:gdLst/>
              <a:ahLst/>
              <a:rect l="l" t="t" r="r" b="b"/>
              <a:pathLst>
                <a:path w="10" h="14">
                  <a:moveTo>
                    <a:pt x="5" y="0"/>
                  </a:moveTo>
                  <a:lnTo>
                    <a:pt x="0" y="9"/>
                  </a:lnTo>
                  <a:lnTo>
                    <a:pt x="10" y="14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4" name=""/>
            <p:cNvSpPr/>
            <p:nvPr/>
          </p:nvSpPr>
          <p:spPr>
            <a:xfrm>
              <a:off x="4300560" y="4265640"/>
              <a:ext cx="31680" cy="15840"/>
            </a:xfrm>
            <a:custGeom>
              <a:avLst/>
              <a:gdLst/>
              <a:ahLst/>
              <a:rect l="l" t="t" r="r" b="b"/>
              <a:pathLst>
                <a:path w="20" h="10">
                  <a:moveTo>
                    <a:pt x="0" y="0"/>
                  </a:moveTo>
                  <a:lnTo>
                    <a:pt x="0" y="0"/>
                  </a:lnTo>
                  <a:lnTo>
                    <a:pt x="20" y="1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5" name=""/>
            <p:cNvSpPr/>
            <p:nvPr/>
          </p:nvSpPr>
          <p:spPr>
            <a:xfrm>
              <a:off x="4356000" y="4297320"/>
              <a:ext cx="22320" cy="15840"/>
            </a:xfrm>
            <a:custGeom>
              <a:avLst/>
              <a:gdLst/>
              <a:ahLst/>
              <a:rect l="l" t="t" r="r" b="b"/>
              <a:pathLst>
                <a:path w="14" h="10">
                  <a:moveTo>
                    <a:pt x="0" y="0"/>
                  </a:moveTo>
                  <a:lnTo>
                    <a:pt x="14" y="5"/>
                  </a:lnTo>
                  <a:lnTo>
                    <a:pt x="9" y="1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6" name=""/>
            <p:cNvSpPr/>
            <p:nvPr/>
          </p:nvSpPr>
          <p:spPr>
            <a:xfrm flipV="1">
              <a:off x="4410000" y="4438800"/>
              <a:ext cx="31680" cy="158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7" name=""/>
            <p:cNvSpPr/>
            <p:nvPr/>
          </p:nvSpPr>
          <p:spPr>
            <a:xfrm flipH="1">
              <a:off x="4708440" y="3811680"/>
              <a:ext cx="7920" cy="302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8" name=""/>
            <p:cNvSpPr/>
            <p:nvPr/>
          </p:nvSpPr>
          <p:spPr>
            <a:xfrm flipH="1">
              <a:off x="4684680" y="3865680"/>
              <a:ext cx="15840" cy="316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9" name=""/>
            <p:cNvSpPr/>
            <p:nvPr/>
          </p:nvSpPr>
          <p:spPr>
            <a:xfrm>
              <a:off x="4668840" y="3929040"/>
              <a:ext cx="7920" cy="30240"/>
            </a:xfrm>
            <a:custGeom>
              <a:avLst/>
              <a:gdLst/>
              <a:ahLst/>
              <a:rect l="l" t="t" r="r" b="b"/>
              <a:pathLst>
                <a:path w="5" h="19">
                  <a:moveTo>
                    <a:pt x="5" y="0"/>
                  </a:moveTo>
                  <a:lnTo>
                    <a:pt x="0" y="19"/>
                  </a:lnTo>
                  <a:lnTo>
                    <a:pt x="0" y="19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0" name=""/>
            <p:cNvSpPr/>
            <p:nvPr/>
          </p:nvSpPr>
          <p:spPr>
            <a:xfrm flipH="1">
              <a:off x="4653000" y="3990960"/>
              <a:ext cx="7920" cy="316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1" name=""/>
            <p:cNvSpPr/>
            <p:nvPr/>
          </p:nvSpPr>
          <p:spPr>
            <a:xfrm>
              <a:off x="4645080" y="4054320"/>
              <a:ext cx="1440" cy="32040"/>
            </a:xfrm>
            <a:custGeom>
              <a:avLst/>
              <a:gdLst/>
              <a:ahLst/>
              <a:rect l="l" t="t" r="r" b="b"/>
              <a:pathLst>
                <a:path w="0" h="20">
                  <a:moveTo>
                    <a:pt x="0" y="0"/>
                  </a:moveTo>
                  <a:lnTo>
                    <a:pt x="0" y="10"/>
                  </a:lnTo>
                  <a:lnTo>
                    <a:pt x="0" y="2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2" name=""/>
            <p:cNvSpPr/>
            <p:nvPr/>
          </p:nvSpPr>
          <p:spPr>
            <a:xfrm>
              <a:off x="4660920" y="4116240"/>
              <a:ext cx="15840" cy="241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3" name=""/>
            <p:cNvSpPr/>
            <p:nvPr/>
          </p:nvSpPr>
          <p:spPr>
            <a:xfrm>
              <a:off x="4684680" y="4172040"/>
              <a:ext cx="1800" cy="79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4" name=""/>
            <p:cNvSpPr/>
            <p:nvPr/>
          </p:nvSpPr>
          <p:spPr>
            <a:xfrm>
              <a:off x="4441680" y="3865680"/>
              <a:ext cx="7920" cy="237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5" name=""/>
            <p:cNvSpPr/>
            <p:nvPr/>
          </p:nvSpPr>
          <p:spPr>
            <a:xfrm>
              <a:off x="4481640" y="3905280"/>
              <a:ext cx="1440" cy="31680"/>
            </a:xfrm>
            <a:custGeom>
              <a:avLst/>
              <a:gdLst/>
              <a:ahLst/>
              <a:rect l="l" t="t" r="r" b="b"/>
              <a:pathLst>
                <a:path w="0" h="20">
                  <a:moveTo>
                    <a:pt x="0" y="0"/>
                  </a:moveTo>
                  <a:lnTo>
                    <a:pt x="0" y="5"/>
                  </a:lnTo>
                  <a:lnTo>
                    <a:pt x="0" y="2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6" name=""/>
            <p:cNvSpPr/>
            <p:nvPr/>
          </p:nvSpPr>
          <p:spPr>
            <a:xfrm>
              <a:off x="4473720" y="3967200"/>
              <a:ext cx="23760" cy="15840"/>
            </a:xfrm>
            <a:custGeom>
              <a:avLst/>
              <a:gdLst/>
              <a:ahLst/>
              <a:rect l="l" t="t" r="r" b="b"/>
              <a:pathLst>
                <a:path w="15" h="10">
                  <a:moveTo>
                    <a:pt x="0" y="0"/>
                  </a:moveTo>
                  <a:lnTo>
                    <a:pt x="0" y="5"/>
                  </a:lnTo>
                  <a:lnTo>
                    <a:pt x="15" y="1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7" name=""/>
            <p:cNvSpPr/>
            <p:nvPr/>
          </p:nvSpPr>
          <p:spPr>
            <a:xfrm>
              <a:off x="4519440" y="3998880"/>
              <a:ext cx="32040" cy="158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8" name=""/>
            <p:cNvSpPr/>
            <p:nvPr/>
          </p:nvSpPr>
          <p:spPr>
            <a:xfrm flipV="1">
              <a:off x="4575240" y="3983040"/>
              <a:ext cx="7920" cy="316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9" name=""/>
            <p:cNvSpPr/>
            <p:nvPr/>
          </p:nvSpPr>
          <p:spPr>
            <a:xfrm flipV="1">
              <a:off x="4591080" y="3921120"/>
              <a:ext cx="15840" cy="316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0" name=""/>
            <p:cNvSpPr/>
            <p:nvPr/>
          </p:nvSpPr>
          <p:spPr>
            <a:xfrm flipV="1">
              <a:off x="4614840" y="3865680"/>
              <a:ext cx="7920" cy="237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1" name=""/>
            <p:cNvSpPr/>
            <p:nvPr/>
          </p:nvSpPr>
          <p:spPr>
            <a:xfrm flipV="1">
              <a:off x="4630680" y="3803400"/>
              <a:ext cx="7920" cy="298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2" name=""/>
            <p:cNvSpPr/>
            <p:nvPr/>
          </p:nvSpPr>
          <p:spPr>
            <a:xfrm flipH="1">
              <a:off x="4378320" y="2892600"/>
              <a:ext cx="7920" cy="316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3" name=""/>
            <p:cNvSpPr/>
            <p:nvPr/>
          </p:nvSpPr>
          <p:spPr>
            <a:xfrm flipH="1">
              <a:off x="4370400" y="2955960"/>
              <a:ext cx="7920" cy="316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4" name=""/>
            <p:cNvSpPr/>
            <p:nvPr/>
          </p:nvSpPr>
          <p:spPr>
            <a:xfrm flipV="1">
              <a:off x="4543560" y="3088800"/>
              <a:ext cx="15840" cy="320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5" name=""/>
            <p:cNvSpPr/>
            <p:nvPr/>
          </p:nvSpPr>
          <p:spPr>
            <a:xfrm flipV="1">
              <a:off x="4567320" y="3025800"/>
              <a:ext cx="1440" cy="316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6" name=""/>
            <p:cNvSpPr/>
            <p:nvPr/>
          </p:nvSpPr>
          <p:spPr>
            <a:xfrm>
              <a:off x="4575240" y="2963880"/>
              <a:ext cx="1440" cy="31680"/>
            </a:xfrm>
            <a:custGeom>
              <a:avLst/>
              <a:gdLst/>
              <a:ahLst/>
              <a:rect l="l" t="t" r="r" b="b"/>
              <a:pathLst>
                <a:path w="0" h="20">
                  <a:moveTo>
                    <a:pt x="0" y="20"/>
                  </a:moveTo>
                  <a:lnTo>
                    <a:pt x="0" y="2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7" name=""/>
            <p:cNvSpPr/>
            <p:nvPr/>
          </p:nvSpPr>
          <p:spPr>
            <a:xfrm flipV="1">
              <a:off x="4575240" y="2900520"/>
              <a:ext cx="1440" cy="316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8" name=""/>
            <p:cNvSpPr/>
            <p:nvPr/>
          </p:nvSpPr>
          <p:spPr>
            <a:xfrm flipV="1">
              <a:off x="4433760" y="3009960"/>
              <a:ext cx="1800" cy="316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9" name=""/>
            <p:cNvSpPr/>
            <p:nvPr/>
          </p:nvSpPr>
          <p:spPr>
            <a:xfrm>
              <a:off x="4433760" y="2971800"/>
              <a:ext cx="32040" cy="7920"/>
            </a:xfrm>
            <a:custGeom>
              <a:avLst/>
              <a:gdLst/>
              <a:ahLst/>
              <a:rect l="l" t="t" r="r" b="b"/>
              <a:pathLst>
                <a:path w="20" h="5">
                  <a:moveTo>
                    <a:pt x="0" y="5"/>
                  </a:moveTo>
                  <a:lnTo>
                    <a:pt x="0" y="0"/>
                  </a:lnTo>
                  <a:lnTo>
                    <a:pt x="2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0" name=""/>
            <p:cNvSpPr/>
            <p:nvPr/>
          </p:nvSpPr>
          <p:spPr>
            <a:xfrm>
              <a:off x="4497480" y="2979720"/>
              <a:ext cx="30240" cy="79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1" name=""/>
            <p:cNvSpPr/>
            <p:nvPr/>
          </p:nvSpPr>
          <p:spPr>
            <a:xfrm flipV="1">
              <a:off x="4543560" y="2940120"/>
              <a:ext cx="1440" cy="316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2" name=""/>
            <p:cNvSpPr/>
            <p:nvPr/>
          </p:nvSpPr>
          <p:spPr>
            <a:xfrm>
              <a:off x="4041720" y="2540160"/>
              <a:ext cx="30240" cy="23760"/>
            </a:xfrm>
            <a:custGeom>
              <a:avLst/>
              <a:gdLst/>
              <a:ahLst/>
              <a:rect l="l" t="t" r="r" b="b"/>
              <a:pathLst>
                <a:path w="19" h="15">
                  <a:moveTo>
                    <a:pt x="0" y="5"/>
                  </a:moveTo>
                  <a:lnTo>
                    <a:pt x="5" y="15"/>
                  </a:lnTo>
                  <a:lnTo>
                    <a:pt x="10" y="15"/>
                  </a:lnTo>
                  <a:lnTo>
                    <a:pt x="19" y="15"/>
                  </a:lnTo>
                  <a:lnTo>
                    <a:pt x="19" y="10"/>
                  </a:lnTo>
                  <a:lnTo>
                    <a:pt x="19" y="5"/>
                  </a:lnTo>
                  <a:lnTo>
                    <a:pt x="15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3" name=""/>
            <p:cNvSpPr/>
            <p:nvPr/>
          </p:nvSpPr>
          <p:spPr>
            <a:xfrm>
              <a:off x="5470560" y="1990800"/>
              <a:ext cx="31680" cy="2376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0" y="5"/>
                  </a:moveTo>
                  <a:lnTo>
                    <a:pt x="0" y="15"/>
                  </a:lnTo>
                  <a:lnTo>
                    <a:pt x="10" y="15"/>
                  </a:lnTo>
                  <a:lnTo>
                    <a:pt x="15" y="15"/>
                  </a:lnTo>
                  <a:lnTo>
                    <a:pt x="20" y="10"/>
                  </a:lnTo>
                  <a:lnTo>
                    <a:pt x="15" y="5"/>
                  </a:lnTo>
                  <a:lnTo>
                    <a:pt x="10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4" name=""/>
            <p:cNvSpPr/>
            <p:nvPr/>
          </p:nvSpPr>
          <p:spPr>
            <a:xfrm>
              <a:off x="6326280" y="2452680"/>
              <a:ext cx="46080" cy="39600"/>
            </a:xfrm>
            <a:custGeom>
              <a:avLst/>
              <a:gdLst/>
              <a:ahLst/>
              <a:rect l="l" t="t" r="r" b="b"/>
              <a:pathLst>
                <a:path w="29" h="25">
                  <a:moveTo>
                    <a:pt x="0" y="5"/>
                  </a:moveTo>
                  <a:lnTo>
                    <a:pt x="5" y="20"/>
                  </a:lnTo>
                  <a:lnTo>
                    <a:pt x="15" y="25"/>
                  </a:lnTo>
                  <a:lnTo>
                    <a:pt x="25" y="20"/>
                  </a:lnTo>
                  <a:lnTo>
                    <a:pt x="29" y="10"/>
                  </a:lnTo>
                  <a:lnTo>
                    <a:pt x="25" y="0"/>
                  </a:lnTo>
                  <a:lnTo>
                    <a:pt x="20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5" name=""/>
            <p:cNvSpPr/>
            <p:nvPr/>
          </p:nvSpPr>
          <p:spPr>
            <a:xfrm>
              <a:off x="6366240" y="2374920"/>
              <a:ext cx="15624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MAISA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6" name=""/>
            <p:cNvSpPr/>
            <p:nvPr/>
          </p:nvSpPr>
          <p:spPr>
            <a:xfrm>
              <a:off x="5781240" y="2774880"/>
              <a:ext cx="24012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Furna Feia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7" name=""/>
            <p:cNvSpPr/>
            <p:nvPr/>
          </p:nvSpPr>
          <p:spPr>
            <a:xfrm>
              <a:off x="5713560" y="2727360"/>
              <a:ext cx="85680" cy="633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10" y="25"/>
                  </a:moveTo>
                  <a:lnTo>
                    <a:pt x="0" y="20"/>
                  </a:lnTo>
                  <a:lnTo>
                    <a:pt x="15" y="15"/>
                  </a:lnTo>
                  <a:lnTo>
                    <a:pt x="15" y="5"/>
                  </a:lnTo>
                  <a:lnTo>
                    <a:pt x="20" y="15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30" y="15"/>
                  </a:lnTo>
                  <a:lnTo>
                    <a:pt x="54" y="20"/>
                  </a:lnTo>
                  <a:lnTo>
                    <a:pt x="30" y="30"/>
                  </a:lnTo>
                  <a:lnTo>
                    <a:pt x="35" y="35"/>
                  </a:lnTo>
                  <a:lnTo>
                    <a:pt x="35" y="35"/>
                  </a:lnTo>
                  <a:lnTo>
                    <a:pt x="25" y="30"/>
                  </a:lnTo>
                  <a:lnTo>
                    <a:pt x="15" y="40"/>
                  </a:lnTo>
                  <a:lnTo>
                    <a:pt x="15" y="30"/>
                  </a:lnTo>
                  <a:lnTo>
                    <a:pt x="10" y="30"/>
                  </a:lnTo>
                  <a:lnTo>
                    <a:pt x="10" y="25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8" name=""/>
            <p:cNvSpPr/>
            <p:nvPr/>
          </p:nvSpPr>
          <p:spPr>
            <a:xfrm>
              <a:off x="5289480" y="2484360"/>
              <a:ext cx="47520" cy="31680"/>
            </a:xfrm>
            <a:custGeom>
              <a:avLst/>
              <a:gdLst/>
              <a:ahLst/>
              <a:rect l="l" t="t" r="r" b="b"/>
              <a:pathLst>
                <a:path w="30" h="20">
                  <a:moveTo>
                    <a:pt x="0" y="5"/>
                  </a:moveTo>
                  <a:lnTo>
                    <a:pt x="0" y="15"/>
                  </a:lnTo>
                  <a:lnTo>
                    <a:pt x="15" y="20"/>
                  </a:lnTo>
                  <a:lnTo>
                    <a:pt x="25" y="15"/>
                  </a:lnTo>
                  <a:lnTo>
                    <a:pt x="30" y="5"/>
                  </a:lnTo>
                  <a:lnTo>
                    <a:pt x="25" y="0"/>
                  </a:lnTo>
                  <a:lnTo>
                    <a:pt x="15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9" name=""/>
            <p:cNvSpPr/>
            <p:nvPr/>
          </p:nvSpPr>
          <p:spPr>
            <a:xfrm>
              <a:off x="5110200" y="2398680"/>
              <a:ext cx="21420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Vila Nova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0" name=""/>
            <p:cNvSpPr/>
            <p:nvPr/>
          </p:nvSpPr>
          <p:spPr>
            <a:xfrm>
              <a:off x="5132520" y="2822400"/>
              <a:ext cx="47520" cy="32040"/>
            </a:xfrm>
            <a:custGeom>
              <a:avLst/>
              <a:gdLst/>
              <a:ahLst/>
              <a:rect l="l" t="t" r="r" b="b"/>
              <a:pathLst>
                <a:path w="30" h="20">
                  <a:moveTo>
                    <a:pt x="0" y="5"/>
                  </a:moveTo>
                  <a:lnTo>
                    <a:pt x="5" y="15"/>
                  </a:lnTo>
                  <a:lnTo>
                    <a:pt x="15" y="20"/>
                  </a:lnTo>
                  <a:lnTo>
                    <a:pt x="30" y="15"/>
                  </a:lnTo>
                  <a:lnTo>
                    <a:pt x="30" y="10"/>
                  </a:lnTo>
                  <a:lnTo>
                    <a:pt x="30" y="0"/>
                  </a:lnTo>
                  <a:lnTo>
                    <a:pt x="20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1" name=""/>
            <p:cNvSpPr/>
            <p:nvPr/>
          </p:nvSpPr>
          <p:spPr>
            <a:xfrm>
              <a:off x="5019480" y="2759040"/>
              <a:ext cx="36648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Toca da Raposa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2" name=""/>
            <p:cNvSpPr/>
            <p:nvPr/>
          </p:nvSpPr>
          <p:spPr>
            <a:xfrm>
              <a:off x="5854680" y="3521160"/>
              <a:ext cx="47520" cy="30240"/>
            </a:xfrm>
            <a:custGeom>
              <a:avLst/>
              <a:gdLst/>
              <a:ahLst/>
              <a:rect l="l" t="t" r="r" b="b"/>
              <a:pathLst>
                <a:path w="30" h="19">
                  <a:moveTo>
                    <a:pt x="0" y="5"/>
                  </a:moveTo>
                  <a:lnTo>
                    <a:pt x="5" y="15"/>
                  </a:lnTo>
                  <a:lnTo>
                    <a:pt x="15" y="19"/>
                  </a:lnTo>
                  <a:lnTo>
                    <a:pt x="30" y="19"/>
                  </a:lnTo>
                  <a:lnTo>
                    <a:pt x="30" y="10"/>
                  </a:lnTo>
                  <a:lnTo>
                    <a:pt x="25" y="5"/>
                  </a:lnTo>
                  <a:lnTo>
                    <a:pt x="20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3" name=""/>
            <p:cNvSpPr/>
            <p:nvPr/>
          </p:nvSpPr>
          <p:spPr>
            <a:xfrm>
              <a:off x="5928480" y="3511440"/>
              <a:ext cx="17748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400" spc="-1" strike="noStrike">
                  <a:solidFill>
                    <a:srgbClr val="000000"/>
                  </a:solidFill>
                  <a:latin typeface="Arial"/>
                </a:rPr>
                <a:t>Juremal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4" name=""/>
            <p:cNvSpPr/>
            <p:nvPr/>
          </p:nvSpPr>
          <p:spPr>
            <a:xfrm>
              <a:off x="6163560" y="3652920"/>
              <a:ext cx="21420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Vertentes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5" name=""/>
            <p:cNvSpPr/>
            <p:nvPr/>
          </p:nvSpPr>
          <p:spPr>
            <a:xfrm>
              <a:off x="6089760" y="3700440"/>
              <a:ext cx="63360" cy="31680"/>
            </a:xfrm>
            <a:custGeom>
              <a:avLst/>
              <a:gdLst/>
              <a:ahLst/>
              <a:rect l="l" t="t" r="r" b="b"/>
              <a:pathLst>
                <a:path w="40" h="20">
                  <a:moveTo>
                    <a:pt x="0" y="5"/>
                  </a:moveTo>
                  <a:lnTo>
                    <a:pt x="5" y="15"/>
                  </a:lnTo>
                  <a:lnTo>
                    <a:pt x="20" y="20"/>
                  </a:lnTo>
                  <a:lnTo>
                    <a:pt x="35" y="20"/>
                  </a:lnTo>
                  <a:lnTo>
                    <a:pt x="40" y="10"/>
                  </a:lnTo>
                  <a:lnTo>
                    <a:pt x="35" y="0"/>
                  </a:lnTo>
                  <a:lnTo>
                    <a:pt x="25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6" name=""/>
            <p:cNvSpPr/>
            <p:nvPr/>
          </p:nvSpPr>
          <p:spPr>
            <a:xfrm>
              <a:off x="6113520" y="4713120"/>
              <a:ext cx="79200" cy="47880"/>
            </a:xfrm>
            <a:custGeom>
              <a:avLst/>
              <a:gdLst/>
              <a:ahLst/>
              <a:rect l="l" t="t" r="r" b="b"/>
              <a:pathLst>
                <a:path w="50" h="30">
                  <a:moveTo>
                    <a:pt x="0" y="5"/>
                  </a:moveTo>
                  <a:lnTo>
                    <a:pt x="10" y="20"/>
                  </a:lnTo>
                  <a:lnTo>
                    <a:pt x="25" y="30"/>
                  </a:lnTo>
                  <a:lnTo>
                    <a:pt x="45" y="25"/>
                  </a:lnTo>
                  <a:lnTo>
                    <a:pt x="50" y="10"/>
                  </a:lnTo>
                  <a:lnTo>
                    <a:pt x="45" y="0"/>
                  </a:lnTo>
                  <a:lnTo>
                    <a:pt x="30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7" name=""/>
            <p:cNvSpPr/>
            <p:nvPr/>
          </p:nvSpPr>
          <p:spPr>
            <a:xfrm>
              <a:off x="6167160" y="4649760"/>
              <a:ext cx="40320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Barreira Vermelha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8" name=""/>
            <p:cNvSpPr/>
            <p:nvPr/>
          </p:nvSpPr>
          <p:spPr>
            <a:xfrm>
              <a:off x="3023640" y="5049720"/>
              <a:ext cx="29808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Baixa Branca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9" name=""/>
            <p:cNvSpPr/>
            <p:nvPr/>
          </p:nvSpPr>
          <p:spPr>
            <a:xfrm>
              <a:off x="3098880" y="5003640"/>
              <a:ext cx="55440" cy="32040"/>
            </a:xfrm>
            <a:custGeom>
              <a:avLst/>
              <a:gdLst/>
              <a:ahLst/>
              <a:rect l="l" t="t" r="r" b="b"/>
              <a:pathLst>
                <a:path w="35" h="20">
                  <a:moveTo>
                    <a:pt x="0" y="5"/>
                  </a:moveTo>
                  <a:lnTo>
                    <a:pt x="5" y="15"/>
                  </a:lnTo>
                  <a:lnTo>
                    <a:pt x="20" y="20"/>
                  </a:lnTo>
                  <a:lnTo>
                    <a:pt x="30" y="15"/>
                  </a:lnTo>
                  <a:lnTo>
                    <a:pt x="35" y="5"/>
                  </a:lnTo>
                  <a:lnTo>
                    <a:pt x="30" y="0"/>
                  </a:lnTo>
                  <a:lnTo>
                    <a:pt x="20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0" name=""/>
            <p:cNvSpPr/>
            <p:nvPr/>
          </p:nvSpPr>
          <p:spPr>
            <a:xfrm>
              <a:off x="2911320" y="4148280"/>
              <a:ext cx="46080" cy="31680"/>
            </a:xfrm>
            <a:custGeom>
              <a:avLst/>
              <a:gdLst/>
              <a:ahLst/>
              <a:rect l="l" t="t" r="r" b="b"/>
              <a:pathLst>
                <a:path w="29" h="20">
                  <a:moveTo>
                    <a:pt x="0" y="5"/>
                  </a:moveTo>
                  <a:lnTo>
                    <a:pt x="4" y="15"/>
                  </a:lnTo>
                  <a:lnTo>
                    <a:pt x="14" y="20"/>
                  </a:lnTo>
                  <a:lnTo>
                    <a:pt x="29" y="15"/>
                  </a:lnTo>
                  <a:lnTo>
                    <a:pt x="29" y="10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1" name=""/>
            <p:cNvSpPr/>
            <p:nvPr/>
          </p:nvSpPr>
          <p:spPr>
            <a:xfrm>
              <a:off x="2879640" y="3780000"/>
              <a:ext cx="46080" cy="23760"/>
            </a:xfrm>
            <a:custGeom>
              <a:avLst/>
              <a:gdLst/>
              <a:ahLst/>
              <a:rect l="l" t="t" r="r" b="b"/>
              <a:pathLst>
                <a:path w="29" h="15">
                  <a:moveTo>
                    <a:pt x="0" y="0"/>
                  </a:moveTo>
                  <a:lnTo>
                    <a:pt x="5" y="15"/>
                  </a:lnTo>
                  <a:lnTo>
                    <a:pt x="15" y="15"/>
                  </a:lnTo>
                  <a:lnTo>
                    <a:pt x="29" y="15"/>
                  </a:lnTo>
                  <a:lnTo>
                    <a:pt x="29" y="5"/>
                  </a:lnTo>
                  <a:lnTo>
                    <a:pt x="29" y="0"/>
                  </a:lnTo>
                  <a:lnTo>
                    <a:pt x="2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2" name=""/>
            <p:cNvSpPr/>
            <p:nvPr/>
          </p:nvSpPr>
          <p:spPr>
            <a:xfrm>
              <a:off x="2943000" y="3732120"/>
              <a:ext cx="13032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400" spc="-1" strike="noStrike">
                  <a:solidFill>
                    <a:srgbClr val="000000"/>
                  </a:solidFill>
                  <a:latin typeface="Arial"/>
                </a:rPr>
                <a:t>Ubaia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3" name=""/>
            <p:cNvSpPr/>
            <p:nvPr/>
          </p:nvSpPr>
          <p:spPr>
            <a:xfrm>
              <a:off x="2958840" y="4100400"/>
              <a:ext cx="15912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Maxixe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4" name=""/>
            <p:cNvSpPr/>
            <p:nvPr/>
          </p:nvSpPr>
          <p:spPr>
            <a:xfrm>
              <a:off x="2927880" y="2790720"/>
              <a:ext cx="30996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Bom Sucesso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5" name=""/>
            <p:cNvSpPr/>
            <p:nvPr/>
          </p:nvSpPr>
          <p:spPr>
            <a:xfrm>
              <a:off x="2989440" y="2854440"/>
              <a:ext cx="47520" cy="29880"/>
            </a:xfrm>
            <a:custGeom>
              <a:avLst/>
              <a:gdLst/>
              <a:ahLst/>
              <a:rect l="l" t="t" r="r" b="b"/>
              <a:pathLst>
                <a:path w="30" h="19">
                  <a:moveTo>
                    <a:pt x="0" y="4"/>
                  </a:moveTo>
                  <a:lnTo>
                    <a:pt x="0" y="19"/>
                  </a:lnTo>
                  <a:lnTo>
                    <a:pt x="15" y="19"/>
                  </a:lnTo>
                  <a:lnTo>
                    <a:pt x="25" y="19"/>
                  </a:lnTo>
                  <a:lnTo>
                    <a:pt x="30" y="9"/>
                  </a:lnTo>
                  <a:lnTo>
                    <a:pt x="25" y="4"/>
                  </a:lnTo>
                  <a:lnTo>
                    <a:pt x="15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6" name=""/>
            <p:cNvSpPr/>
            <p:nvPr/>
          </p:nvSpPr>
          <p:spPr>
            <a:xfrm>
              <a:off x="4449600" y="3787920"/>
              <a:ext cx="47880" cy="29880"/>
            </a:xfrm>
            <a:custGeom>
              <a:avLst/>
              <a:gdLst/>
              <a:ahLst/>
              <a:rect l="l" t="t" r="r" b="b"/>
              <a:pathLst>
                <a:path w="30" h="19">
                  <a:moveTo>
                    <a:pt x="0" y="5"/>
                  </a:moveTo>
                  <a:lnTo>
                    <a:pt x="5" y="15"/>
                  </a:lnTo>
                  <a:lnTo>
                    <a:pt x="15" y="19"/>
                  </a:lnTo>
                  <a:lnTo>
                    <a:pt x="30" y="19"/>
                  </a:lnTo>
                  <a:lnTo>
                    <a:pt x="30" y="10"/>
                  </a:lnTo>
                  <a:lnTo>
                    <a:pt x="25" y="5"/>
                  </a:lnTo>
                  <a:lnTo>
                    <a:pt x="20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7" name=""/>
            <p:cNvSpPr/>
            <p:nvPr/>
          </p:nvSpPr>
          <p:spPr>
            <a:xfrm>
              <a:off x="4366440" y="3732120"/>
              <a:ext cx="25380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Catingueira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8" name=""/>
            <p:cNvSpPr/>
            <p:nvPr/>
          </p:nvSpPr>
          <p:spPr>
            <a:xfrm>
              <a:off x="5038560" y="4070520"/>
              <a:ext cx="46080" cy="29880"/>
            </a:xfrm>
            <a:custGeom>
              <a:avLst/>
              <a:gdLst/>
              <a:ahLst/>
              <a:rect l="l" t="t" r="r" b="b"/>
              <a:pathLst>
                <a:path w="29" h="19">
                  <a:moveTo>
                    <a:pt x="0" y="5"/>
                  </a:moveTo>
                  <a:lnTo>
                    <a:pt x="0" y="14"/>
                  </a:lnTo>
                  <a:lnTo>
                    <a:pt x="15" y="19"/>
                  </a:lnTo>
                  <a:lnTo>
                    <a:pt x="24" y="19"/>
                  </a:lnTo>
                  <a:lnTo>
                    <a:pt x="29" y="10"/>
                  </a:lnTo>
                  <a:lnTo>
                    <a:pt x="24" y="5"/>
                  </a:lnTo>
                  <a:lnTo>
                    <a:pt x="20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9" name=""/>
            <p:cNvSpPr/>
            <p:nvPr/>
          </p:nvSpPr>
          <p:spPr>
            <a:xfrm>
              <a:off x="5103000" y="4006800"/>
              <a:ext cx="21852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Boa Água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0" name=""/>
            <p:cNvSpPr/>
            <p:nvPr/>
          </p:nvSpPr>
          <p:spPr>
            <a:xfrm>
              <a:off x="4402080" y="4721400"/>
              <a:ext cx="47520" cy="31680"/>
            </a:xfrm>
            <a:custGeom>
              <a:avLst/>
              <a:gdLst/>
              <a:ahLst/>
              <a:rect l="l" t="t" r="r" b="b"/>
              <a:pathLst>
                <a:path w="30" h="20">
                  <a:moveTo>
                    <a:pt x="0" y="0"/>
                  </a:moveTo>
                  <a:lnTo>
                    <a:pt x="5" y="15"/>
                  </a:lnTo>
                  <a:lnTo>
                    <a:pt x="15" y="20"/>
                  </a:lnTo>
                  <a:lnTo>
                    <a:pt x="30" y="15"/>
                  </a:lnTo>
                  <a:lnTo>
                    <a:pt x="30" y="5"/>
                  </a:lnTo>
                  <a:lnTo>
                    <a:pt x="30" y="0"/>
                  </a:lnTo>
                  <a:lnTo>
                    <a:pt x="2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1" name=""/>
            <p:cNvSpPr/>
            <p:nvPr/>
          </p:nvSpPr>
          <p:spPr>
            <a:xfrm>
              <a:off x="4270680" y="4673520"/>
              <a:ext cx="14688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Canaã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2" name=""/>
            <p:cNvSpPr/>
            <p:nvPr/>
          </p:nvSpPr>
          <p:spPr>
            <a:xfrm>
              <a:off x="4113720" y="3276720"/>
              <a:ext cx="16848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400" spc="-1" strike="noStrike">
                  <a:solidFill>
                    <a:srgbClr val="000000"/>
                  </a:solidFill>
                  <a:latin typeface="Arial"/>
                </a:rPr>
                <a:t>Velame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3" name=""/>
            <p:cNvSpPr/>
            <p:nvPr/>
          </p:nvSpPr>
          <p:spPr>
            <a:xfrm>
              <a:off x="4037400" y="3505320"/>
              <a:ext cx="24012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Sumidouro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4" name=""/>
            <p:cNvSpPr/>
            <p:nvPr/>
          </p:nvSpPr>
          <p:spPr>
            <a:xfrm>
              <a:off x="5441040" y="1927080"/>
              <a:ext cx="28116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Pico Estreito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5" name=""/>
            <p:cNvSpPr/>
            <p:nvPr/>
          </p:nvSpPr>
          <p:spPr>
            <a:xfrm>
              <a:off x="4370400" y="2249640"/>
              <a:ext cx="47520" cy="23760"/>
            </a:xfrm>
            <a:custGeom>
              <a:avLst/>
              <a:gdLst/>
              <a:ahLst/>
              <a:rect l="l" t="t" r="r" b="b"/>
              <a:pathLst>
                <a:path w="30" h="15">
                  <a:moveTo>
                    <a:pt x="0" y="0"/>
                  </a:moveTo>
                  <a:lnTo>
                    <a:pt x="0" y="15"/>
                  </a:lnTo>
                  <a:lnTo>
                    <a:pt x="15" y="15"/>
                  </a:lnTo>
                  <a:lnTo>
                    <a:pt x="25" y="15"/>
                  </a:lnTo>
                  <a:lnTo>
                    <a:pt x="30" y="5"/>
                  </a:lnTo>
                  <a:lnTo>
                    <a:pt x="25" y="0"/>
                  </a:lnTo>
                  <a:lnTo>
                    <a:pt x="1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6" name=""/>
            <p:cNvSpPr/>
            <p:nvPr/>
          </p:nvSpPr>
          <p:spPr>
            <a:xfrm>
              <a:off x="4255560" y="2170080"/>
              <a:ext cx="14868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400" spc="-1" strike="noStrike">
                  <a:solidFill>
                    <a:srgbClr val="000000"/>
                  </a:solidFill>
                  <a:latin typeface="Arial"/>
                </a:rPr>
                <a:t>Lajeiro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7" name=""/>
            <p:cNvSpPr/>
            <p:nvPr/>
          </p:nvSpPr>
          <p:spPr>
            <a:xfrm>
              <a:off x="4740120" y="2602080"/>
              <a:ext cx="47880" cy="31680"/>
            </a:xfrm>
            <a:custGeom>
              <a:avLst/>
              <a:gdLst/>
              <a:ahLst/>
              <a:rect l="l" t="t" r="r" b="b"/>
              <a:pathLst>
                <a:path w="30" h="20">
                  <a:moveTo>
                    <a:pt x="0" y="5"/>
                  </a:moveTo>
                  <a:lnTo>
                    <a:pt x="0" y="15"/>
                  </a:lnTo>
                  <a:lnTo>
                    <a:pt x="15" y="20"/>
                  </a:lnTo>
                  <a:lnTo>
                    <a:pt x="25" y="15"/>
                  </a:lnTo>
                  <a:lnTo>
                    <a:pt x="30" y="10"/>
                  </a:lnTo>
                  <a:lnTo>
                    <a:pt x="25" y="5"/>
                  </a:lnTo>
                  <a:lnTo>
                    <a:pt x="15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8" name=""/>
            <p:cNvSpPr/>
            <p:nvPr/>
          </p:nvSpPr>
          <p:spPr>
            <a:xfrm>
              <a:off x="4415760" y="2617920"/>
              <a:ext cx="34524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Furna de Pedra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9" name=""/>
            <p:cNvSpPr/>
            <p:nvPr/>
          </p:nvSpPr>
          <p:spPr>
            <a:xfrm>
              <a:off x="4007160" y="2577960"/>
              <a:ext cx="26424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Formigueiro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0" name=""/>
            <p:cNvSpPr/>
            <p:nvPr/>
          </p:nvSpPr>
          <p:spPr>
            <a:xfrm>
              <a:off x="4284720" y="2948040"/>
              <a:ext cx="47520" cy="31680"/>
            </a:xfrm>
            <a:custGeom>
              <a:avLst/>
              <a:gdLst/>
              <a:ahLst/>
              <a:rect l="l" t="t" r="r" b="b"/>
              <a:pathLst>
                <a:path w="30" h="20">
                  <a:moveTo>
                    <a:pt x="0" y="5"/>
                  </a:moveTo>
                  <a:lnTo>
                    <a:pt x="0" y="20"/>
                  </a:lnTo>
                  <a:lnTo>
                    <a:pt x="15" y="20"/>
                  </a:lnTo>
                  <a:lnTo>
                    <a:pt x="25" y="20"/>
                  </a:lnTo>
                  <a:lnTo>
                    <a:pt x="30" y="10"/>
                  </a:lnTo>
                  <a:lnTo>
                    <a:pt x="25" y="5"/>
                  </a:lnTo>
                  <a:lnTo>
                    <a:pt x="20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1" name=""/>
            <p:cNvSpPr/>
            <p:nvPr/>
          </p:nvSpPr>
          <p:spPr>
            <a:xfrm>
              <a:off x="4168440" y="3002040"/>
              <a:ext cx="16236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Currais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2" name=""/>
            <p:cNvSpPr/>
            <p:nvPr/>
          </p:nvSpPr>
          <p:spPr>
            <a:xfrm>
              <a:off x="3735360" y="3638520"/>
              <a:ext cx="46080" cy="31680"/>
            </a:xfrm>
            <a:custGeom>
              <a:avLst/>
              <a:gdLst/>
              <a:ahLst/>
              <a:rect l="l" t="t" r="r" b="b"/>
              <a:pathLst>
                <a:path w="29" h="20">
                  <a:moveTo>
                    <a:pt x="0" y="5"/>
                  </a:moveTo>
                  <a:lnTo>
                    <a:pt x="5" y="15"/>
                  </a:lnTo>
                  <a:lnTo>
                    <a:pt x="15" y="20"/>
                  </a:lnTo>
                  <a:lnTo>
                    <a:pt x="29" y="15"/>
                  </a:lnTo>
                  <a:lnTo>
                    <a:pt x="29" y="10"/>
                  </a:lnTo>
                  <a:lnTo>
                    <a:pt x="29" y="0"/>
                  </a:lnTo>
                  <a:lnTo>
                    <a:pt x="20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3" name=""/>
            <p:cNvSpPr/>
            <p:nvPr/>
          </p:nvSpPr>
          <p:spPr>
            <a:xfrm>
              <a:off x="3581280" y="3567240"/>
              <a:ext cx="20952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Mato Alto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4" name=""/>
            <p:cNvSpPr/>
            <p:nvPr/>
          </p:nvSpPr>
          <p:spPr>
            <a:xfrm>
              <a:off x="4826160" y="3747960"/>
              <a:ext cx="47520" cy="32040"/>
            </a:xfrm>
            <a:custGeom>
              <a:avLst/>
              <a:gdLst/>
              <a:ahLst/>
              <a:rect l="l" t="t" r="r" b="b"/>
              <a:pathLst>
                <a:path w="30" h="20">
                  <a:moveTo>
                    <a:pt x="0" y="5"/>
                  </a:moveTo>
                  <a:lnTo>
                    <a:pt x="5" y="15"/>
                  </a:lnTo>
                  <a:lnTo>
                    <a:pt x="15" y="20"/>
                  </a:lnTo>
                  <a:lnTo>
                    <a:pt x="30" y="15"/>
                  </a:lnTo>
                  <a:lnTo>
                    <a:pt x="30" y="10"/>
                  </a:lnTo>
                  <a:lnTo>
                    <a:pt x="25" y="0"/>
                  </a:lnTo>
                  <a:lnTo>
                    <a:pt x="20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5" name=""/>
            <p:cNvSpPr/>
            <p:nvPr/>
          </p:nvSpPr>
          <p:spPr>
            <a:xfrm>
              <a:off x="4745160" y="3794040"/>
              <a:ext cx="34200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Vereda do Anel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6" name=""/>
            <p:cNvSpPr/>
            <p:nvPr/>
          </p:nvSpPr>
          <p:spPr>
            <a:xfrm>
              <a:off x="5180040" y="3371760"/>
              <a:ext cx="46080" cy="31680"/>
            </a:xfrm>
            <a:custGeom>
              <a:avLst/>
              <a:gdLst/>
              <a:ahLst/>
              <a:rect l="l" t="t" r="r" b="b"/>
              <a:pathLst>
                <a:path w="29" h="20">
                  <a:moveTo>
                    <a:pt x="0" y="5"/>
                  </a:moveTo>
                  <a:lnTo>
                    <a:pt x="0" y="15"/>
                  </a:lnTo>
                  <a:lnTo>
                    <a:pt x="15" y="20"/>
                  </a:lnTo>
                  <a:lnTo>
                    <a:pt x="25" y="15"/>
                  </a:lnTo>
                  <a:lnTo>
                    <a:pt x="29" y="10"/>
                  </a:lnTo>
                  <a:lnTo>
                    <a:pt x="25" y="0"/>
                  </a:lnTo>
                  <a:lnTo>
                    <a:pt x="15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7" name=""/>
            <p:cNvSpPr/>
            <p:nvPr/>
          </p:nvSpPr>
          <p:spPr>
            <a:xfrm>
              <a:off x="5223600" y="3316320"/>
              <a:ext cx="29340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Moinho Novo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8" name=""/>
            <p:cNvSpPr/>
            <p:nvPr/>
          </p:nvSpPr>
          <p:spPr>
            <a:xfrm>
              <a:off x="4873680" y="4995720"/>
              <a:ext cx="55440" cy="32040"/>
            </a:xfrm>
            <a:custGeom>
              <a:avLst/>
              <a:gdLst/>
              <a:ahLst/>
              <a:rect l="l" t="t" r="r" b="b"/>
              <a:pathLst>
                <a:path w="35" h="20">
                  <a:moveTo>
                    <a:pt x="0" y="5"/>
                  </a:moveTo>
                  <a:lnTo>
                    <a:pt x="5" y="20"/>
                  </a:lnTo>
                  <a:lnTo>
                    <a:pt x="15" y="20"/>
                  </a:lnTo>
                  <a:lnTo>
                    <a:pt x="30" y="20"/>
                  </a:lnTo>
                  <a:lnTo>
                    <a:pt x="35" y="10"/>
                  </a:lnTo>
                  <a:lnTo>
                    <a:pt x="30" y="5"/>
                  </a:lnTo>
                  <a:lnTo>
                    <a:pt x="20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9" name=""/>
            <p:cNvSpPr/>
            <p:nvPr/>
          </p:nvSpPr>
          <p:spPr>
            <a:xfrm>
              <a:off x="4845960" y="5065560"/>
              <a:ext cx="25992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Trinta e Um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0" name=""/>
            <p:cNvSpPr/>
            <p:nvPr/>
          </p:nvSpPr>
          <p:spPr>
            <a:xfrm>
              <a:off x="2949480" y="3284640"/>
              <a:ext cx="55800" cy="31680"/>
            </a:xfrm>
            <a:custGeom>
              <a:avLst/>
              <a:gdLst/>
              <a:ahLst/>
              <a:rect l="l" t="t" r="r" b="b"/>
              <a:pathLst>
                <a:path w="35" h="20">
                  <a:moveTo>
                    <a:pt x="0" y="5"/>
                  </a:moveTo>
                  <a:lnTo>
                    <a:pt x="5" y="15"/>
                  </a:lnTo>
                  <a:lnTo>
                    <a:pt x="20" y="20"/>
                  </a:lnTo>
                  <a:lnTo>
                    <a:pt x="30" y="15"/>
                  </a:lnTo>
                  <a:lnTo>
                    <a:pt x="35" y="10"/>
                  </a:lnTo>
                  <a:lnTo>
                    <a:pt x="30" y="0"/>
                  </a:lnTo>
                  <a:lnTo>
                    <a:pt x="20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1" name=""/>
            <p:cNvSpPr/>
            <p:nvPr/>
          </p:nvSpPr>
          <p:spPr>
            <a:xfrm>
              <a:off x="2961000" y="3206880"/>
              <a:ext cx="31320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Baixa do Félix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2" name=""/>
            <p:cNvSpPr/>
            <p:nvPr/>
          </p:nvSpPr>
          <p:spPr>
            <a:xfrm>
              <a:off x="3546360" y="2532240"/>
              <a:ext cx="23760" cy="15840"/>
            </a:xfrm>
            <a:custGeom>
              <a:avLst/>
              <a:gdLst/>
              <a:ahLst/>
              <a:rect l="l" t="t" r="r" b="b"/>
              <a:pathLst>
                <a:path w="15" h="10">
                  <a:moveTo>
                    <a:pt x="15" y="1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3" name=""/>
            <p:cNvSpPr/>
            <p:nvPr/>
          </p:nvSpPr>
          <p:spPr>
            <a:xfrm flipH="1" flipV="1">
              <a:off x="3498840" y="2492280"/>
              <a:ext cx="23760" cy="158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4" name=""/>
            <p:cNvSpPr/>
            <p:nvPr/>
          </p:nvSpPr>
          <p:spPr>
            <a:xfrm flipH="1" flipV="1">
              <a:off x="3436920" y="2460600"/>
              <a:ext cx="31680" cy="158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5" name=""/>
            <p:cNvSpPr/>
            <p:nvPr/>
          </p:nvSpPr>
          <p:spPr>
            <a:xfrm>
              <a:off x="3373560" y="2446200"/>
              <a:ext cx="31680" cy="6480"/>
            </a:xfrm>
            <a:custGeom>
              <a:avLst/>
              <a:gdLst/>
              <a:ahLst/>
              <a:rect l="l" t="t" r="r" b="b"/>
              <a:pathLst>
                <a:path w="20" h="4">
                  <a:moveTo>
                    <a:pt x="20" y="4"/>
                  </a:moveTo>
                  <a:lnTo>
                    <a:pt x="15" y="4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6" name=""/>
            <p:cNvSpPr/>
            <p:nvPr/>
          </p:nvSpPr>
          <p:spPr>
            <a:xfrm flipH="1" flipV="1">
              <a:off x="3327480" y="2406600"/>
              <a:ext cx="22320" cy="237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7" name=""/>
            <p:cNvSpPr/>
            <p:nvPr/>
          </p:nvSpPr>
          <p:spPr>
            <a:xfrm flipH="1" flipV="1">
              <a:off x="3295800" y="2351160"/>
              <a:ext cx="15840" cy="316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8" name=""/>
            <p:cNvSpPr/>
            <p:nvPr/>
          </p:nvSpPr>
          <p:spPr>
            <a:xfrm flipH="1" flipV="1">
              <a:off x="3247920" y="2313000"/>
              <a:ext cx="31680" cy="144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9" name=""/>
            <p:cNvSpPr/>
            <p:nvPr/>
          </p:nvSpPr>
          <p:spPr>
            <a:xfrm>
              <a:off x="3570120" y="2932200"/>
              <a:ext cx="1800" cy="31680"/>
            </a:xfrm>
            <a:custGeom>
              <a:avLst/>
              <a:gdLst/>
              <a:ahLst/>
              <a:rect l="l" t="t" r="r" b="b"/>
              <a:pathLst>
                <a:path w="0" h="20">
                  <a:moveTo>
                    <a:pt x="0" y="0"/>
                  </a:moveTo>
                  <a:lnTo>
                    <a:pt x="0" y="15"/>
                  </a:lnTo>
                  <a:lnTo>
                    <a:pt x="0" y="20"/>
                  </a:lnTo>
                  <a:lnTo>
                    <a:pt x="0" y="2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0" name=""/>
            <p:cNvSpPr/>
            <p:nvPr/>
          </p:nvSpPr>
          <p:spPr>
            <a:xfrm>
              <a:off x="3602160" y="2963880"/>
              <a:ext cx="31680" cy="7920"/>
            </a:xfrm>
            <a:custGeom>
              <a:avLst/>
              <a:gdLst/>
              <a:ahLst/>
              <a:rect l="l" t="t" r="r" b="b"/>
              <a:pathLst>
                <a:path w="20" h="5">
                  <a:moveTo>
                    <a:pt x="0" y="5"/>
                  </a:moveTo>
                  <a:lnTo>
                    <a:pt x="5" y="5"/>
                  </a:lnTo>
                  <a:lnTo>
                    <a:pt x="15" y="0"/>
                  </a:lnTo>
                  <a:lnTo>
                    <a:pt x="2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1" name=""/>
            <p:cNvSpPr/>
            <p:nvPr/>
          </p:nvSpPr>
          <p:spPr>
            <a:xfrm>
              <a:off x="3664080" y="2948040"/>
              <a:ext cx="31680" cy="7920"/>
            </a:xfrm>
            <a:custGeom>
              <a:avLst/>
              <a:gdLst/>
              <a:ahLst/>
              <a:rect l="l" t="t" r="r" b="b"/>
              <a:pathLst>
                <a:path w="20" h="5">
                  <a:moveTo>
                    <a:pt x="0" y="5"/>
                  </a:moveTo>
                  <a:lnTo>
                    <a:pt x="15" y="0"/>
                  </a:lnTo>
                  <a:lnTo>
                    <a:pt x="2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2" name=""/>
            <p:cNvSpPr/>
            <p:nvPr/>
          </p:nvSpPr>
          <p:spPr>
            <a:xfrm>
              <a:off x="3727440" y="2948040"/>
              <a:ext cx="23760" cy="15840"/>
            </a:xfrm>
            <a:custGeom>
              <a:avLst/>
              <a:gdLst/>
              <a:ahLst/>
              <a:rect l="l" t="t" r="r" b="b"/>
              <a:pathLst>
                <a:path w="15" h="10">
                  <a:moveTo>
                    <a:pt x="0" y="0"/>
                  </a:moveTo>
                  <a:lnTo>
                    <a:pt x="5" y="5"/>
                  </a:lnTo>
                  <a:lnTo>
                    <a:pt x="15" y="10"/>
                  </a:lnTo>
                  <a:lnTo>
                    <a:pt x="15" y="1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3" name=""/>
            <p:cNvSpPr/>
            <p:nvPr/>
          </p:nvSpPr>
          <p:spPr>
            <a:xfrm>
              <a:off x="3781440" y="2963880"/>
              <a:ext cx="31680" cy="7920"/>
            </a:xfrm>
            <a:custGeom>
              <a:avLst/>
              <a:gdLst/>
              <a:ahLst/>
              <a:rect l="l" t="t" r="r" b="b"/>
              <a:pathLst>
                <a:path w="20" h="5">
                  <a:moveTo>
                    <a:pt x="0" y="0"/>
                  </a:moveTo>
                  <a:lnTo>
                    <a:pt x="10" y="0"/>
                  </a:lnTo>
                  <a:lnTo>
                    <a:pt x="20" y="5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4" name=""/>
            <p:cNvSpPr/>
            <p:nvPr/>
          </p:nvSpPr>
          <p:spPr>
            <a:xfrm>
              <a:off x="3844800" y="2963880"/>
              <a:ext cx="32040" cy="7920"/>
            </a:xfrm>
            <a:custGeom>
              <a:avLst/>
              <a:gdLst/>
              <a:ahLst/>
              <a:rect l="l" t="t" r="r" b="b"/>
              <a:pathLst>
                <a:path w="20" h="5">
                  <a:moveTo>
                    <a:pt x="0" y="5"/>
                  </a:moveTo>
                  <a:lnTo>
                    <a:pt x="20" y="0"/>
                  </a:lnTo>
                  <a:lnTo>
                    <a:pt x="2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5" name=""/>
            <p:cNvSpPr/>
            <p:nvPr/>
          </p:nvSpPr>
          <p:spPr>
            <a:xfrm>
              <a:off x="3908520" y="2932200"/>
              <a:ext cx="21960" cy="15840"/>
            </a:xfrm>
            <a:custGeom>
              <a:avLst/>
              <a:gdLst/>
              <a:ahLst/>
              <a:rect l="l" t="t" r="r" b="b"/>
              <a:pathLst>
                <a:path w="14" h="10">
                  <a:moveTo>
                    <a:pt x="0" y="10"/>
                  </a:moveTo>
                  <a:lnTo>
                    <a:pt x="14" y="5"/>
                  </a:lnTo>
                  <a:lnTo>
                    <a:pt x="14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6" name=""/>
            <p:cNvSpPr/>
            <p:nvPr/>
          </p:nvSpPr>
          <p:spPr>
            <a:xfrm>
              <a:off x="3954600" y="2900520"/>
              <a:ext cx="31680" cy="7920"/>
            </a:xfrm>
            <a:custGeom>
              <a:avLst/>
              <a:gdLst/>
              <a:ahLst/>
              <a:rect l="l" t="t" r="r" b="b"/>
              <a:pathLst>
                <a:path w="20" h="5">
                  <a:moveTo>
                    <a:pt x="0" y="5"/>
                  </a:moveTo>
                  <a:lnTo>
                    <a:pt x="0" y="0"/>
                  </a:lnTo>
                  <a:lnTo>
                    <a:pt x="15" y="0"/>
                  </a:lnTo>
                  <a:lnTo>
                    <a:pt x="2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7" name=""/>
            <p:cNvSpPr/>
            <p:nvPr/>
          </p:nvSpPr>
          <p:spPr>
            <a:xfrm>
              <a:off x="4017960" y="2908440"/>
              <a:ext cx="31680" cy="79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8" name=""/>
            <p:cNvSpPr/>
            <p:nvPr/>
          </p:nvSpPr>
          <p:spPr>
            <a:xfrm>
              <a:off x="4079880" y="2916360"/>
              <a:ext cx="31680" cy="79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9" name=""/>
            <p:cNvSpPr/>
            <p:nvPr/>
          </p:nvSpPr>
          <p:spPr>
            <a:xfrm>
              <a:off x="4143240" y="2924280"/>
              <a:ext cx="32040" cy="79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0" name=""/>
            <p:cNvSpPr/>
            <p:nvPr/>
          </p:nvSpPr>
          <p:spPr>
            <a:xfrm>
              <a:off x="4206960" y="2940120"/>
              <a:ext cx="3024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1" name=""/>
            <p:cNvSpPr/>
            <p:nvPr/>
          </p:nvSpPr>
          <p:spPr>
            <a:xfrm rot="900000">
              <a:off x="6406560" y="3697200"/>
              <a:ext cx="3420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2" name=""/>
            <p:cNvSpPr/>
            <p:nvPr/>
          </p:nvSpPr>
          <p:spPr>
            <a:xfrm rot="900000">
              <a:off x="6438600" y="3701880"/>
              <a:ext cx="1440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3" name=""/>
            <p:cNvSpPr/>
            <p:nvPr/>
          </p:nvSpPr>
          <p:spPr>
            <a:xfrm rot="900000">
              <a:off x="6446520" y="3701880"/>
              <a:ext cx="1440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4" name=""/>
            <p:cNvSpPr/>
            <p:nvPr/>
          </p:nvSpPr>
          <p:spPr>
            <a:xfrm rot="900000">
              <a:off x="6463080" y="3713040"/>
              <a:ext cx="4176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5" name=""/>
            <p:cNvSpPr/>
            <p:nvPr/>
          </p:nvSpPr>
          <p:spPr>
            <a:xfrm rot="900000">
              <a:off x="6502320" y="3719520"/>
              <a:ext cx="2808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6" name=""/>
            <p:cNvSpPr/>
            <p:nvPr/>
          </p:nvSpPr>
          <p:spPr>
            <a:xfrm rot="900000">
              <a:off x="6523920" y="3727440"/>
              <a:ext cx="2664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7" name=""/>
            <p:cNvSpPr/>
            <p:nvPr/>
          </p:nvSpPr>
          <p:spPr>
            <a:xfrm rot="900000">
              <a:off x="6539760" y="3735360"/>
              <a:ext cx="2664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8" name=""/>
            <p:cNvSpPr/>
            <p:nvPr/>
          </p:nvSpPr>
          <p:spPr>
            <a:xfrm rot="900000">
              <a:off x="6564240" y="3735360"/>
              <a:ext cx="2808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9" name=""/>
            <p:cNvSpPr/>
            <p:nvPr/>
          </p:nvSpPr>
          <p:spPr>
            <a:xfrm rot="900000">
              <a:off x="6587640" y="3741840"/>
              <a:ext cx="1764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0" name=""/>
            <p:cNvSpPr/>
            <p:nvPr/>
          </p:nvSpPr>
          <p:spPr>
            <a:xfrm rot="900000">
              <a:off x="6603840" y="3751200"/>
              <a:ext cx="2808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ó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1" name=""/>
            <p:cNvSpPr/>
            <p:nvPr/>
          </p:nvSpPr>
          <p:spPr>
            <a:xfrm rot="900000">
              <a:off x="6627600" y="3757680"/>
              <a:ext cx="1440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2" name=""/>
            <p:cNvSpPr/>
            <p:nvPr/>
          </p:nvSpPr>
          <p:spPr>
            <a:xfrm rot="900000">
              <a:off x="6643440" y="3757680"/>
              <a:ext cx="1764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3" name=""/>
            <p:cNvSpPr/>
            <p:nvPr/>
          </p:nvSpPr>
          <p:spPr>
            <a:xfrm rot="900000">
              <a:off x="6659280" y="3759120"/>
              <a:ext cx="2808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4" name=""/>
            <p:cNvSpPr/>
            <p:nvPr/>
          </p:nvSpPr>
          <p:spPr>
            <a:xfrm rot="900000">
              <a:off x="6681600" y="3765600"/>
              <a:ext cx="2808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5" name=""/>
            <p:cNvSpPr/>
            <p:nvPr/>
          </p:nvSpPr>
          <p:spPr>
            <a:xfrm rot="900000">
              <a:off x="6705360" y="3772080"/>
              <a:ext cx="1440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6" name=""/>
            <p:cNvSpPr/>
            <p:nvPr/>
          </p:nvSpPr>
          <p:spPr>
            <a:xfrm rot="900000">
              <a:off x="6712560" y="3781080"/>
              <a:ext cx="2664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7" name=""/>
            <p:cNvSpPr/>
            <p:nvPr/>
          </p:nvSpPr>
          <p:spPr>
            <a:xfrm rot="900000">
              <a:off x="6737760" y="3782880"/>
              <a:ext cx="4176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8" name=""/>
            <p:cNvSpPr/>
            <p:nvPr/>
          </p:nvSpPr>
          <p:spPr>
            <a:xfrm rot="900000">
              <a:off x="6776640" y="3795840"/>
              <a:ext cx="1764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9" name=""/>
            <p:cNvSpPr/>
            <p:nvPr/>
          </p:nvSpPr>
          <p:spPr>
            <a:xfrm>
              <a:off x="6459480" y="3825720"/>
              <a:ext cx="165240" cy="47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0" name=""/>
            <p:cNvSpPr/>
            <p:nvPr/>
          </p:nvSpPr>
          <p:spPr>
            <a:xfrm>
              <a:off x="6576840" y="3825720"/>
              <a:ext cx="47880" cy="47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1" name=""/>
            <p:cNvSpPr/>
            <p:nvPr/>
          </p:nvSpPr>
          <p:spPr>
            <a:xfrm flipV="1">
              <a:off x="6553080" y="3873600"/>
              <a:ext cx="71640" cy="15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2" name=""/>
            <p:cNvSpPr/>
            <p:nvPr/>
          </p:nvSpPr>
          <p:spPr>
            <a:xfrm rot="21540000">
              <a:off x="2233080" y="3149640"/>
              <a:ext cx="3420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3" name=""/>
            <p:cNvSpPr/>
            <p:nvPr/>
          </p:nvSpPr>
          <p:spPr>
            <a:xfrm rot="21540000">
              <a:off x="2265480" y="3149280"/>
              <a:ext cx="1440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4" name=""/>
            <p:cNvSpPr/>
            <p:nvPr/>
          </p:nvSpPr>
          <p:spPr>
            <a:xfrm rot="21540000">
              <a:off x="2281320" y="3149280"/>
              <a:ext cx="1440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5" name=""/>
            <p:cNvSpPr/>
            <p:nvPr/>
          </p:nvSpPr>
          <p:spPr>
            <a:xfrm rot="21540000">
              <a:off x="2288880" y="3149640"/>
              <a:ext cx="4032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6" name=""/>
            <p:cNvSpPr/>
            <p:nvPr/>
          </p:nvSpPr>
          <p:spPr>
            <a:xfrm rot="21540000">
              <a:off x="2328840" y="3149640"/>
              <a:ext cx="2808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7" name=""/>
            <p:cNvSpPr/>
            <p:nvPr/>
          </p:nvSpPr>
          <p:spPr>
            <a:xfrm rot="21540000">
              <a:off x="2351160" y="3149280"/>
              <a:ext cx="1152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8" name=""/>
            <p:cNvSpPr/>
            <p:nvPr/>
          </p:nvSpPr>
          <p:spPr>
            <a:xfrm rot="21540000">
              <a:off x="2358360" y="3149640"/>
              <a:ext cx="2664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9" name=""/>
            <p:cNvSpPr/>
            <p:nvPr/>
          </p:nvSpPr>
          <p:spPr>
            <a:xfrm rot="21540000">
              <a:off x="2382840" y="3149640"/>
              <a:ext cx="2808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0" name=""/>
            <p:cNvSpPr/>
            <p:nvPr/>
          </p:nvSpPr>
          <p:spPr>
            <a:xfrm rot="21540000">
              <a:off x="2406600" y="3149280"/>
              <a:ext cx="1764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1" name=""/>
            <p:cNvSpPr/>
            <p:nvPr/>
          </p:nvSpPr>
          <p:spPr>
            <a:xfrm rot="21540000">
              <a:off x="2422800" y="3149640"/>
              <a:ext cx="2808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é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2" name=""/>
            <p:cNvSpPr/>
            <p:nvPr/>
          </p:nvSpPr>
          <p:spPr>
            <a:xfrm rot="21540000">
              <a:off x="2454120" y="3149280"/>
              <a:ext cx="1440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3" name=""/>
            <p:cNvSpPr/>
            <p:nvPr/>
          </p:nvSpPr>
          <p:spPr>
            <a:xfrm rot="21540000">
              <a:off x="2462040" y="3149280"/>
              <a:ext cx="1764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4" name=""/>
            <p:cNvSpPr/>
            <p:nvPr/>
          </p:nvSpPr>
          <p:spPr>
            <a:xfrm rot="21540000">
              <a:off x="2478240" y="3149640"/>
              <a:ext cx="2808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5" name=""/>
            <p:cNvSpPr/>
            <p:nvPr/>
          </p:nvSpPr>
          <p:spPr>
            <a:xfrm rot="21540000">
              <a:off x="2500560" y="3149640"/>
              <a:ext cx="2808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6" name=""/>
            <p:cNvSpPr/>
            <p:nvPr/>
          </p:nvSpPr>
          <p:spPr>
            <a:xfrm rot="21540000">
              <a:off x="2523960" y="3149280"/>
              <a:ext cx="1440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7" name=""/>
            <p:cNvSpPr/>
            <p:nvPr/>
          </p:nvSpPr>
          <p:spPr>
            <a:xfrm rot="21540000">
              <a:off x="2539440" y="3149640"/>
              <a:ext cx="2664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8" name=""/>
            <p:cNvSpPr/>
            <p:nvPr/>
          </p:nvSpPr>
          <p:spPr>
            <a:xfrm rot="21540000">
              <a:off x="2564280" y="3149280"/>
              <a:ext cx="4176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9" name=""/>
            <p:cNvSpPr/>
            <p:nvPr/>
          </p:nvSpPr>
          <p:spPr>
            <a:xfrm rot="21540000">
              <a:off x="2603520" y="3149280"/>
              <a:ext cx="1764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0" name=""/>
            <p:cNvSpPr/>
            <p:nvPr/>
          </p:nvSpPr>
          <p:spPr>
            <a:xfrm>
              <a:off x="2360520" y="3292560"/>
              <a:ext cx="173160" cy="15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1" name=""/>
            <p:cNvSpPr/>
            <p:nvPr/>
          </p:nvSpPr>
          <p:spPr>
            <a:xfrm flipH="1" flipV="1">
              <a:off x="2360160" y="3292560"/>
              <a:ext cx="6372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2" name=""/>
            <p:cNvSpPr/>
            <p:nvPr/>
          </p:nvSpPr>
          <p:spPr>
            <a:xfrm flipH="1">
              <a:off x="2360160" y="3270240"/>
              <a:ext cx="63720" cy="22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3" name=""/>
            <p:cNvSpPr/>
            <p:nvPr/>
          </p:nvSpPr>
          <p:spPr>
            <a:xfrm>
              <a:off x="2957400" y="3270240"/>
              <a:ext cx="32040" cy="64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4" name=""/>
            <p:cNvSpPr/>
            <p:nvPr/>
          </p:nvSpPr>
          <p:spPr>
            <a:xfrm>
              <a:off x="3021120" y="3284640"/>
              <a:ext cx="31680" cy="158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5" name=""/>
            <p:cNvSpPr/>
            <p:nvPr/>
          </p:nvSpPr>
          <p:spPr>
            <a:xfrm>
              <a:off x="3083040" y="3308400"/>
              <a:ext cx="31680" cy="79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6" name=""/>
            <p:cNvSpPr/>
            <p:nvPr/>
          </p:nvSpPr>
          <p:spPr>
            <a:xfrm>
              <a:off x="4010040" y="27273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7" name=""/>
            <p:cNvSpPr/>
            <p:nvPr/>
          </p:nvSpPr>
          <p:spPr>
            <a:xfrm>
              <a:off x="3476520" y="312912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5" y="0"/>
                  </a:move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8" name=""/>
            <p:cNvSpPr/>
            <p:nvPr/>
          </p:nvSpPr>
          <p:spPr>
            <a:xfrm>
              <a:off x="4378320" y="50036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9" name=""/>
            <p:cNvSpPr/>
            <p:nvPr/>
          </p:nvSpPr>
          <p:spPr>
            <a:xfrm>
              <a:off x="4842000" y="41004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5" y="0"/>
                  </a:move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0" name=""/>
            <p:cNvSpPr/>
            <p:nvPr/>
          </p:nvSpPr>
          <p:spPr>
            <a:xfrm>
              <a:off x="4362480" y="39369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1" name=""/>
            <p:cNvSpPr/>
            <p:nvPr/>
          </p:nvSpPr>
          <p:spPr>
            <a:xfrm>
              <a:off x="5697360" y="3772080"/>
              <a:ext cx="828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5" y="0"/>
                  </a:move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2" name=""/>
            <p:cNvSpPr/>
            <p:nvPr/>
          </p:nvSpPr>
          <p:spPr>
            <a:xfrm>
              <a:off x="3648240" y="3833640"/>
              <a:ext cx="7920" cy="82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5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3" name=""/>
            <p:cNvSpPr/>
            <p:nvPr/>
          </p:nvSpPr>
          <p:spPr>
            <a:xfrm>
              <a:off x="5532480" y="28684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5" y="0"/>
                  </a:moveTo>
                  <a:lnTo>
                    <a:pt x="5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4" name=""/>
            <p:cNvSpPr/>
            <p:nvPr/>
          </p:nvSpPr>
          <p:spPr>
            <a:xfrm>
              <a:off x="4441680" y="47750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5" name=""/>
            <p:cNvSpPr/>
            <p:nvPr/>
          </p:nvSpPr>
          <p:spPr>
            <a:xfrm>
              <a:off x="2266920" y="33559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6" name=""/>
            <p:cNvSpPr/>
            <p:nvPr/>
          </p:nvSpPr>
          <p:spPr>
            <a:xfrm>
              <a:off x="2792520" y="33717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5" y="0"/>
                  </a:moveTo>
                  <a:lnTo>
                    <a:pt x="5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7" name=""/>
            <p:cNvSpPr/>
            <p:nvPr/>
          </p:nvSpPr>
          <p:spPr>
            <a:xfrm>
              <a:off x="2808360" y="33004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8" name=""/>
            <p:cNvSpPr/>
            <p:nvPr/>
          </p:nvSpPr>
          <p:spPr>
            <a:xfrm>
              <a:off x="3343320" y="3425760"/>
              <a:ext cx="6480" cy="792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4" y="0"/>
                  </a:move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4" y="5"/>
                  </a:lnTo>
                  <a:lnTo>
                    <a:pt x="4" y="5"/>
                  </a:lnTo>
                  <a:lnTo>
                    <a:pt x="4" y="5"/>
                  </a:lnTo>
                  <a:lnTo>
                    <a:pt x="4" y="5"/>
                  </a:lnTo>
                  <a:lnTo>
                    <a:pt x="4" y="5"/>
                  </a:lnTo>
                  <a:lnTo>
                    <a:pt x="4" y="5"/>
                  </a:lnTo>
                  <a:lnTo>
                    <a:pt x="4" y="5"/>
                  </a:lnTo>
                  <a:lnTo>
                    <a:pt x="4" y="5"/>
                  </a:lnTo>
                  <a:lnTo>
                    <a:pt x="4" y="5"/>
                  </a:lnTo>
                  <a:lnTo>
                    <a:pt x="4" y="5"/>
                  </a:lnTo>
                  <a:lnTo>
                    <a:pt x="4" y="5"/>
                  </a:lnTo>
                  <a:lnTo>
                    <a:pt x="4" y="5"/>
                  </a:lnTo>
                  <a:lnTo>
                    <a:pt x="4" y="5"/>
                  </a:lnTo>
                  <a:lnTo>
                    <a:pt x="4" y="5"/>
                  </a:lnTo>
                  <a:lnTo>
                    <a:pt x="4" y="5"/>
                  </a:lnTo>
                  <a:lnTo>
                    <a:pt x="4" y="5"/>
                  </a:lnTo>
                  <a:lnTo>
                    <a:pt x="4" y="5"/>
                  </a:lnTo>
                  <a:lnTo>
                    <a:pt x="4" y="5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9" name=""/>
            <p:cNvSpPr/>
            <p:nvPr/>
          </p:nvSpPr>
          <p:spPr>
            <a:xfrm>
              <a:off x="2784600" y="30654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0" name=""/>
            <p:cNvSpPr/>
            <p:nvPr/>
          </p:nvSpPr>
          <p:spPr>
            <a:xfrm>
              <a:off x="2149560" y="5089680"/>
              <a:ext cx="46782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1" name=""/>
            <p:cNvSpPr/>
            <p:nvPr/>
          </p:nvSpPr>
          <p:spPr>
            <a:xfrm flipV="1">
              <a:off x="2463840" y="5089680"/>
              <a:ext cx="1440" cy="55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2" name=""/>
            <p:cNvSpPr/>
            <p:nvPr/>
          </p:nvSpPr>
          <p:spPr>
            <a:xfrm flipV="1">
              <a:off x="3005280" y="5089680"/>
              <a:ext cx="1440" cy="55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3" name=""/>
            <p:cNvSpPr/>
            <p:nvPr/>
          </p:nvSpPr>
          <p:spPr>
            <a:xfrm flipV="1">
              <a:off x="3554280" y="5089680"/>
              <a:ext cx="1800" cy="55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4" name=""/>
            <p:cNvSpPr/>
            <p:nvPr/>
          </p:nvSpPr>
          <p:spPr>
            <a:xfrm flipV="1">
              <a:off x="4103640" y="5089680"/>
              <a:ext cx="1800" cy="55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5" name=""/>
            <p:cNvSpPr/>
            <p:nvPr/>
          </p:nvSpPr>
          <p:spPr>
            <a:xfrm flipV="1">
              <a:off x="4645080" y="5089680"/>
              <a:ext cx="1440" cy="55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6" name=""/>
            <p:cNvSpPr/>
            <p:nvPr/>
          </p:nvSpPr>
          <p:spPr>
            <a:xfrm flipV="1">
              <a:off x="5195880" y="5089680"/>
              <a:ext cx="1440" cy="55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07" name=""/>
          <p:cNvSpPr/>
          <p:nvPr/>
        </p:nvSpPr>
        <p:spPr>
          <a:xfrm flipV="1">
            <a:off x="5737320" y="5089680"/>
            <a:ext cx="1440" cy="55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8" name=""/>
          <p:cNvSpPr/>
          <p:nvPr/>
        </p:nvSpPr>
        <p:spPr>
          <a:xfrm flipV="1">
            <a:off x="6286680" y="5089680"/>
            <a:ext cx="1440" cy="55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9" name=""/>
          <p:cNvSpPr/>
          <p:nvPr/>
        </p:nvSpPr>
        <p:spPr>
          <a:xfrm>
            <a:off x="2315520" y="5145120"/>
            <a:ext cx="293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63000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0" name=""/>
          <p:cNvSpPr/>
          <p:nvPr/>
        </p:nvSpPr>
        <p:spPr>
          <a:xfrm>
            <a:off x="2864520" y="5145120"/>
            <a:ext cx="293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63500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1" name=""/>
          <p:cNvSpPr/>
          <p:nvPr/>
        </p:nvSpPr>
        <p:spPr>
          <a:xfrm>
            <a:off x="3413880" y="5145120"/>
            <a:ext cx="293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64000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2" name=""/>
          <p:cNvSpPr/>
          <p:nvPr/>
        </p:nvSpPr>
        <p:spPr>
          <a:xfrm>
            <a:off x="3955320" y="5145120"/>
            <a:ext cx="293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64500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3" name=""/>
          <p:cNvSpPr/>
          <p:nvPr/>
        </p:nvSpPr>
        <p:spPr>
          <a:xfrm>
            <a:off x="4504680" y="5145120"/>
            <a:ext cx="293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65000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4" name=""/>
          <p:cNvSpPr/>
          <p:nvPr/>
        </p:nvSpPr>
        <p:spPr>
          <a:xfrm>
            <a:off x="5047560" y="5145120"/>
            <a:ext cx="293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65500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5" name=""/>
          <p:cNvSpPr/>
          <p:nvPr/>
        </p:nvSpPr>
        <p:spPr>
          <a:xfrm>
            <a:off x="5596560" y="5145120"/>
            <a:ext cx="293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66000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6" name=""/>
          <p:cNvSpPr/>
          <p:nvPr/>
        </p:nvSpPr>
        <p:spPr>
          <a:xfrm>
            <a:off x="6138000" y="5145120"/>
            <a:ext cx="293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66500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7" name=""/>
          <p:cNvSpPr/>
          <p:nvPr/>
        </p:nvSpPr>
        <p:spPr>
          <a:xfrm>
            <a:off x="4203360" y="5286240"/>
            <a:ext cx="58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UTM Leste (m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8" name=""/>
          <p:cNvSpPr/>
          <p:nvPr/>
        </p:nvSpPr>
        <p:spPr>
          <a:xfrm flipV="1">
            <a:off x="2463840" y="1777680"/>
            <a:ext cx="1440" cy="3311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9" name=""/>
          <p:cNvSpPr/>
          <p:nvPr/>
        </p:nvSpPr>
        <p:spPr>
          <a:xfrm flipV="1">
            <a:off x="3005280" y="1777680"/>
            <a:ext cx="1440" cy="3311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0" name=""/>
          <p:cNvSpPr/>
          <p:nvPr/>
        </p:nvSpPr>
        <p:spPr>
          <a:xfrm flipV="1">
            <a:off x="3554280" y="1777680"/>
            <a:ext cx="1800" cy="3311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1" name=""/>
          <p:cNvSpPr/>
          <p:nvPr/>
        </p:nvSpPr>
        <p:spPr>
          <a:xfrm flipV="1">
            <a:off x="4103640" y="1777680"/>
            <a:ext cx="1800" cy="3311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2" name=""/>
          <p:cNvSpPr/>
          <p:nvPr/>
        </p:nvSpPr>
        <p:spPr>
          <a:xfrm flipV="1">
            <a:off x="4645080" y="1777680"/>
            <a:ext cx="1440" cy="3311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3" name=""/>
          <p:cNvSpPr/>
          <p:nvPr/>
        </p:nvSpPr>
        <p:spPr>
          <a:xfrm flipV="1">
            <a:off x="5195880" y="1777680"/>
            <a:ext cx="1440" cy="3311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4" name=""/>
          <p:cNvSpPr/>
          <p:nvPr/>
        </p:nvSpPr>
        <p:spPr>
          <a:xfrm flipV="1">
            <a:off x="5737320" y="1777680"/>
            <a:ext cx="1440" cy="3311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5" name=""/>
          <p:cNvSpPr/>
          <p:nvPr/>
        </p:nvSpPr>
        <p:spPr>
          <a:xfrm flipV="1">
            <a:off x="6286680" y="1777680"/>
            <a:ext cx="1440" cy="3311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6" name=""/>
          <p:cNvSpPr/>
          <p:nvPr/>
        </p:nvSpPr>
        <p:spPr>
          <a:xfrm>
            <a:off x="2149560" y="1778040"/>
            <a:ext cx="46782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7" name=""/>
          <p:cNvSpPr/>
          <p:nvPr/>
        </p:nvSpPr>
        <p:spPr>
          <a:xfrm flipV="1">
            <a:off x="2463840" y="171612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8" name=""/>
          <p:cNvSpPr/>
          <p:nvPr/>
        </p:nvSpPr>
        <p:spPr>
          <a:xfrm flipV="1">
            <a:off x="3005280" y="171612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9" name=""/>
          <p:cNvSpPr/>
          <p:nvPr/>
        </p:nvSpPr>
        <p:spPr>
          <a:xfrm flipV="1">
            <a:off x="3554280" y="1716120"/>
            <a:ext cx="180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0" name=""/>
          <p:cNvSpPr/>
          <p:nvPr/>
        </p:nvSpPr>
        <p:spPr>
          <a:xfrm flipV="1">
            <a:off x="4103640" y="1716120"/>
            <a:ext cx="180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1" name=""/>
          <p:cNvSpPr/>
          <p:nvPr/>
        </p:nvSpPr>
        <p:spPr>
          <a:xfrm flipV="1">
            <a:off x="4645080" y="171612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2" name=""/>
          <p:cNvSpPr/>
          <p:nvPr/>
        </p:nvSpPr>
        <p:spPr>
          <a:xfrm flipV="1">
            <a:off x="5195880" y="171612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3" name=""/>
          <p:cNvSpPr/>
          <p:nvPr/>
        </p:nvSpPr>
        <p:spPr>
          <a:xfrm flipV="1">
            <a:off x="5737320" y="171612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4" name=""/>
          <p:cNvSpPr/>
          <p:nvPr/>
        </p:nvSpPr>
        <p:spPr>
          <a:xfrm flipV="1">
            <a:off x="6286680" y="171612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5" name=""/>
          <p:cNvSpPr/>
          <p:nvPr/>
        </p:nvSpPr>
        <p:spPr>
          <a:xfrm flipV="1">
            <a:off x="2149560" y="1777680"/>
            <a:ext cx="1440" cy="3311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6" name=""/>
          <p:cNvSpPr/>
          <p:nvPr/>
        </p:nvSpPr>
        <p:spPr>
          <a:xfrm flipH="1">
            <a:off x="2085480" y="4737240"/>
            <a:ext cx="63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7" name=""/>
          <p:cNvSpPr/>
          <p:nvPr/>
        </p:nvSpPr>
        <p:spPr>
          <a:xfrm flipH="1">
            <a:off x="2085480" y="4195800"/>
            <a:ext cx="63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8" name=""/>
          <p:cNvSpPr/>
          <p:nvPr/>
        </p:nvSpPr>
        <p:spPr>
          <a:xfrm flipH="1">
            <a:off x="2085480" y="3646440"/>
            <a:ext cx="63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9" name=""/>
          <p:cNvSpPr/>
          <p:nvPr/>
        </p:nvSpPr>
        <p:spPr>
          <a:xfrm flipH="1">
            <a:off x="2085480" y="3105000"/>
            <a:ext cx="63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0" name=""/>
          <p:cNvSpPr/>
          <p:nvPr/>
        </p:nvSpPr>
        <p:spPr>
          <a:xfrm flipH="1">
            <a:off x="2085480" y="2556000"/>
            <a:ext cx="63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1" name=""/>
          <p:cNvSpPr/>
          <p:nvPr/>
        </p:nvSpPr>
        <p:spPr>
          <a:xfrm flipH="1">
            <a:off x="2085480" y="2006640"/>
            <a:ext cx="63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2" name=""/>
          <p:cNvSpPr/>
          <p:nvPr/>
        </p:nvSpPr>
        <p:spPr>
          <a:xfrm>
            <a:off x="1742400" y="4683240"/>
            <a:ext cx="342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942500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3" name=""/>
          <p:cNvSpPr/>
          <p:nvPr/>
        </p:nvSpPr>
        <p:spPr>
          <a:xfrm>
            <a:off x="1742400" y="4141800"/>
            <a:ext cx="342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943000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4" name=""/>
          <p:cNvSpPr/>
          <p:nvPr/>
        </p:nvSpPr>
        <p:spPr>
          <a:xfrm>
            <a:off x="1742400" y="3592440"/>
            <a:ext cx="342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943500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5" name=""/>
          <p:cNvSpPr/>
          <p:nvPr/>
        </p:nvSpPr>
        <p:spPr>
          <a:xfrm>
            <a:off x="1742400" y="3043080"/>
            <a:ext cx="342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944000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6" name=""/>
          <p:cNvSpPr/>
          <p:nvPr/>
        </p:nvSpPr>
        <p:spPr>
          <a:xfrm>
            <a:off x="1742400" y="2502000"/>
            <a:ext cx="342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944500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7" name=""/>
          <p:cNvSpPr/>
          <p:nvPr/>
        </p:nvSpPr>
        <p:spPr>
          <a:xfrm>
            <a:off x="1742400" y="1952640"/>
            <a:ext cx="342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945000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8" name=""/>
          <p:cNvSpPr/>
          <p:nvPr/>
        </p:nvSpPr>
        <p:spPr>
          <a:xfrm rot="16200000">
            <a:off x="1609920" y="3636720"/>
            <a:ext cx="64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9" name=""/>
          <p:cNvSpPr/>
          <p:nvPr/>
        </p:nvSpPr>
        <p:spPr>
          <a:xfrm rot="16200000">
            <a:off x="1615320" y="3581640"/>
            <a:ext cx="54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0" name=""/>
          <p:cNvSpPr/>
          <p:nvPr/>
        </p:nvSpPr>
        <p:spPr>
          <a:xfrm rot="16200000">
            <a:off x="1605600" y="3515760"/>
            <a:ext cx="7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1" name=""/>
          <p:cNvSpPr/>
          <p:nvPr/>
        </p:nvSpPr>
        <p:spPr>
          <a:xfrm rot="16200000">
            <a:off x="1629720" y="3470400"/>
            <a:ext cx="25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2" name=""/>
          <p:cNvSpPr/>
          <p:nvPr/>
        </p:nvSpPr>
        <p:spPr>
          <a:xfrm rot="16200000">
            <a:off x="1609920" y="3426120"/>
            <a:ext cx="64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3" name=""/>
          <p:cNvSpPr/>
          <p:nvPr/>
        </p:nvSpPr>
        <p:spPr>
          <a:xfrm rot="16200000">
            <a:off x="1617840" y="3371400"/>
            <a:ext cx="4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4" name=""/>
          <p:cNvSpPr/>
          <p:nvPr/>
        </p:nvSpPr>
        <p:spPr>
          <a:xfrm rot="16200000">
            <a:off x="1627560" y="3325320"/>
            <a:ext cx="2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5" name=""/>
          <p:cNvSpPr/>
          <p:nvPr/>
        </p:nvSpPr>
        <p:spPr>
          <a:xfrm rot="16200000">
            <a:off x="1629720" y="3305520"/>
            <a:ext cx="25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6" name=""/>
          <p:cNvSpPr/>
          <p:nvPr/>
        </p:nvSpPr>
        <p:spPr>
          <a:xfrm rot="16200000">
            <a:off x="1617840" y="3269520"/>
            <a:ext cx="4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7" name=""/>
          <p:cNvSpPr/>
          <p:nvPr/>
        </p:nvSpPr>
        <p:spPr>
          <a:xfrm rot="16200000">
            <a:off x="1629720" y="3233880"/>
            <a:ext cx="25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8" name=""/>
          <p:cNvSpPr/>
          <p:nvPr/>
        </p:nvSpPr>
        <p:spPr>
          <a:xfrm rot="16200000">
            <a:off x="1629360" y="3200040"/>
            <a:ext cx="2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9" name=""/>
          <p:cNvSpPr/>
          <p:nvPr/>
        </p:nvSpPr>
        <p:spPr>
          <a:xfrm rot="16200000">
            <a:off x="1608840" y="3155400"/>
            <a:ext cx="7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0" name=""/>
          <p:cNvSpPr/>
          <p:nvPr/>
        </p:nvSpPr>
        <p:spPr>
          <a:xfrm rot="16200000">
            <a:off x="1630800" y="3104640"/>
            <a:ext cx="2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1" name=""/>
          <p:cNvSpPr/>
          <p:nvPr/>
        </p:nvSpPr>
        <p:spPr>
          <a:xfrm>
            <a:off x="2149560" y="4737240"/>
            <a:ext cx="46782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2" name=""/>
          <p:cNvSpPr/>
          <p:nvPr/>
        </p:nvSpPr>
        <p:spPr>
          <a:xfrm>
            <a:off x="2149560" y="4195800"/>
            <a:ext cx="46782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3" name=""/>
          <p:cNvSpPr/>
          <p:nvPr/>
        </p:nvSpPr>
        <p:spPr>
          <a:xfrm>
            <a:off x="2149560" y="3646440"/>
            <a:ext cx="46782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4" name=""/>
          <p:cNvSpPr/>
          <p:nvPr/>
        </p:nvSpPr>
        <p:spPr>
          <a:xfrm>
            <a:off x="2149560" y="3105000"/>
            <a:ext cx="46782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5" name=""/>
          <p:cNvSpPr/>
          <p:nvPr/>
        </p:nvSpPr>
        <p:spPr>
          <a:xfrm>
            <a:off x="2149560" y="2556000"/>
            <a:ext cx="46782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6" name=""/>
          <p:cNvSpPr/>
          <p:nvPr/>
        </p:nvSpPr>
        <p:spPr>
          <a:xfrm>
            <a:off x="2149560" y="2006640"/>
            <a:ext cx="46782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7" name=""/>
          <p:cNvSpPr/>
          <p:nvPr/>
        </p:nvSpPr>
        <p:spPr>
          <a:xfrm flipV="1">
            <a:off x="6827760" y="1777680"/>
            <a:ext cx="1800" cy="3311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8" name=""/>
          <p:cNvSpPr/>
          <p:nvPr/>
        </p:nvSpPr>
        <p:spPr>
          <a:xfrm flipH="1">
            <a:off x="6827400" y="4737240"/>
            <a:ext cx="55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9" name=""/>
          <p:cNvSpPr/>
          <p:nvPr/>
        </p:nvSpPr>
        <p:spPr>
          <a:xfrm flipH="1">
            <a:off x="6827400" y="4195800"/>
            <a:ext cx="55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0" name=""/>
          <p:cNvSpPr/>
          <p:nvPr/>
        </p:nvSpPr>
        <p:spPr>
          <a:xfrm flipH="1">
            <a:off x="6827400" y="3646440"/>
            <a:ext cx="55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1" name=""/>
          <p:cNvSpPr/>
          <p:nvPr/>
        </p:nvSpPr>
        <p:spPr>
          <a:xfrm flipH="1">
            <a:off x="6827400" y="3105000"/>
            <a:ext cx="55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2" name=""/>
          <p:cNvSpPr/>
          <p:nvPr/>
        </p:nvSpPr>
        <p:spPr>
          <a:xfrm flipH="1">
            <a:off x="6827400" y="2556000"/>
            <a:ext cx="55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3" name=""/>
          <p:cNvSpPr/>
          <p:nvPr/>
        </p:nvSpPr>
        <p:spPr>
          <a:xfrm flipH="1">
            <a:off x="6827400" y="2006640"/>
            <a:ext cx="55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4" name=""/>
          <p:cNvSpPr/>
          <p:nvPr/>
        </p:nvSpPr>
        <p:spPr>
          <a:xfrm>
            <a:off x="2125800" y="1755720"/>
            <a:ext cx="47520" cy="46080"/>
          </a:xfrm>
          <a:custGeom>
            <a:avLst/>
            <a:gdLst/>
            <a:ahLst/>
            <a:rect l="l" t="t" r="r" b="b"/>
            <a:pathLst>
              <a:path w="30" h="29">
                <a:moveTo>
                  <a:pt x="10" y="29"/>
                </a:moveTo>
                <a:lnTo>
                  <a:pt x="15" y="29"/>
                </a:lnTo>
                <a:lnTo>
                  <a:pt x="15" y="14"/>
                </a:lnTo>
                <a:lnTo>
                  <a:pt x="30" y="14"/>
                </a:lnTo>
                <a:lnTo>
                  <a:pt x="30" y="9"/>
                </a:lnTo>
                <a:lnTo>
                  <a:pt x="15" y="9"/>
                </a:lnTo>
                <a:lnTo>
                  <a:pt x="15" y="0"/>
                </a:lnTo>
                <a:lnTo>
                  <a:pt x="10" y="0"/>
                </a:lnTo>
                <a:lnTo>
                  <a:pt x="10" y="9"/>
                </a:lnTo>
                <a:lnTo>
                  <a:pt x="0" y="9"/>
                </a:lnTo>
                <a:lnTo>
                  <a:pt x="0" y="14"/>
                </a:lnTo>
                <a:lnTo>
                  <a:pt x="10" y="14"/>
                </a:lnTo>
                <a:lnTo>
                  <a:pt x="10" y="29"/>
                </a:lnTo>
                <a:close/>
              </a:path>
            </a:pathLst>
          </a:custGeom>
          <a:solidFill>
            <a:srgbClr val="ff00ff"/>
          </a:solidFill>
          <a:ln w="0">
            <a:solidFill>
              <a:srgbClr val="ff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5" name=""/>
          <p:cNvSpPr/>
          <p:nvPr/>
        </p:nvSpPr>
        <p:spPr>
          <a:xfrm>
            <a:off x="6797520" y="1755720"/>
            <a:ext cx="46080" cy="46080"/>
          </a:xfrm>
          <a:custGeom>
            <a:avLst/>
            <a:gdLst/>
            <a:ahLst/>
            <a:rect l="l" t="t" r="r" b="b"/>
            <a:pathLst>
              <a:path w="29" h="29">
                <a:moveTo>
                  <a:pt x="14" y="29"/>
                </a:moveTo>
                <a:lnTo>
                  <a:pt x="14" y="29"/>
                </a:lnTo>
                <a:lnTo>
                  <a:pt x="14" y="14"/>
                </a:lnTo>
                <a:lnTo>
                  <a:pt x="29" y="14"/>
                </a:lnTo>
                <a:lnTo>
                  <a:pt x="29" y="9"/>
                </a:lnTo>
                <a:lnTo>
                  <a:pt x="14" y="9"/>
                </a:lnTo>
                <a:lnTo>
                  <a:pt x="14" y="0"/>
                </a:lnTo>
                <a:lnTo>
                  <a:pt x="14" y="0"/>
                </a:lnTo>
                <a:lnTo>
                  <a:pt x="14" y="9"/>
                </a:lnTo>
                <a:lnTo>
                  <a:pt x="0" y="9"/>
                </a:lnTo>
                <a:lnTo>
                  <a:pt x="0" y="14"/>
                </a:lnTo>
                <a:lnTo>
                  <a:pt x="14" y="14"/>
                </a:lnTo>
                <a:lnTo>
                  <a:pt x="14" y="29"/>
                </a:lnTo>
                <a:close/>
              </a:path>
            </a:pathLst>
          </a:custGeom>
          <a:solidFill>
            <a:srgbClr val="ff00ff"/>
          </a:solidFill>
          <a:ln w="0">
            <a:solidFill>
              <a:srgbClr val="ff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6" name=""/>
          <p:cNvSpPr/>
          <p:nvPr/>
        </p:nvSpPr>
        <p:spPr>
          <a:xfrm>
            <a:off x="6804000" y="5065560"/>
            <a:ext cx="47520" cy="47880"/>
          </a:xfrm>
          <a:custGeom>
            <a:avLst/>
            <a:gdLst/>
            <a:ahLst/>
            <a:rect l="l" t="t" r="r" b="b"/>
            <a:pathLst>
              <a:path w="30" h="30">
                <a:moveTo>
                  <a:pt x="15" y="30"/>
                </a:moveTo>
                <a:lnTo>
                  <a:pt x="15" y="30"/>
                </a:lnTo>
                <a:lnTo>
                  <a:pt x="15" y="15"/>
                </a:lnTo>
                <a:lnTo>
                  <a:pt x="30" y="15"/>
                </a:lnTo>
                <a:lnTo>
                  <a:pt x="30" y="15"/>
                </a:lnTo>
                <a:lnTo>
                  <a:pt x="15" y="15"/>
                </a:lnTo>
                <a:lnTo>
                  <a:pt x="15" y="0"/>
                </a:lnTo>
                <a:lnTo>
                  <a:pt x="15" y="0"/>
                </a:lnTo>
                <a:lnTo>
                  <a:pt x="15" y="15"/>
                </a:lnTo>
                <a:lnTo>
                  <a:pt x="0" y="15"/>
                </a:lnTo>
                <a:lnTo>
                  <a:pt x="0" y="15"/>
                </a:lnTo>
                <a:lnTo>
                  <a:pt x="15" y="15"/>
                </a:lnTo>
                <a:lnTo>
                  <a:pt x="15" y="30"/>
                </a:lnTo>
                <a:close/>
              </a:path>
            </a:pathLst>
          </a:custGeom>
          <a:solidFill>
            <a:srgbClr val="ff00ff"/>
          </a:solidFill>
          <a:ln w="0">
            <a:solidFill>
              <a:srgbClr val="ff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7" name=""/>
          <p:cNvSpPr/>
          <p:nvPr/>
        </p:nvSpPr>
        <p:spPr>
          <a:xfrm>
            <a:off x="2125800" y="5065560"/>
            <a:ext cx="47520" cy="47880"/>
          </a:xfrm>
          <a:custGeom>
            <a:avLst/>
            <a:gdLst/>
            <a:ahLst/>
            <a:rect l="l" t="t" r="r" b="b"/>
            <a:pathLst>
              <a:path w="30" h="30">
                <a:moveTo>
                  <a:pt x="10" y="30"/>
                </a:moveTo>
                <a:lnTo>
                  <a:pt x="15" y="30"/>
                </a:lnTo>
                <a:lnTo>
                  <a:pt x="15" y="15"/>
                </a:lnTo>
                <a:lnTo>
                  <a:pt x="30" y="15"/>
                </a:lnTo>
                <a:lnTo>
                  <a:pt x="30" y="15"/>
                </a:lnTo>
                <a:lnTo>
                  <a:pt x="15" y="15"/>
                </a:lnTo>
                <a:lnTo>
                  <a:pt x="15" y="0"/>
                </a:lnTo>
                <a:lnTo>
                  <a:pt x="10" y="0"/>
                </a:lnTo>
                <a:lnTo>
                  <a:pt x="10" y="15"/>
                </a:lnTo>
                <a:lnTo>
                  <a:pt x="0" y="15"/>
                </a:lnTo>
                <a:lnTo>
                  <a:pt x="0" y="15"/>
                </a:lnTo>
                <a:lnTo>
                  <a:pt x="10" y="15"/>
                </a:lnTo>
                <a:lnTo>
                  <a:pt x="10" y="30"/>
                </a:lnTo>
                <a:close/>
              </a:path>
            </a:pathLst>
          </a:custGeom>
          <a:solidFill>
            <a:srgbClr val="ff00ff"/>
          </a:solidFill>
          <a:ln w="0">
            <a:solidFill>
              <a:srgbClr val="ff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8" name=""/>
          <p:cNvSpPr/>
          <p:nvPr/>
        </p:nvSpPr>
        <p:spPr>
          <a:xfrm>
            <a:off x="5115600" y="3182760"/>
            <a:ext cx="2721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500" spc="-1" strike="noStrike">
                <a:solidFill>
                  <a:srgbClr val="000000"/>
                </a:solidFill>
                <a:latin typeface="Arial"/>
              </a:rPr>
              <a:t>Baraunas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9" name=""/>
          <p:cNvSpPr/>
          <p:nvPr/>
        </p:nvSpPr>
        <p:spPr>
          <a:xfrm flipV="1">
            <a:off x="2754360" y="4956120"/>
            <a:ext cx="54000" cy="1173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0" name=""/>
          <p:cNvSpPr/>
          <p:nvPr/>
        </p:nvSpPr>
        <p:spPr>
          <a:xfrm flipV="1">
            <a:off x="2863800" y="4729320"/>
            <a:ext cx="54000" cy="1173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1" name=""/>
          <p:cNvSpPr/>
          <p:nvPr/>
        </p:nvSpPr>
        <p:spPr>
          <a:xfrm flipV="1">
            <a:off x="2973240" y="4500720"/>
            <a:ext cx="55800" cy="1108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2" name=""/>
          <p:cNvSpPr/>
          <p:nvPr/>
        </p:nvSpPr>
        <p:spPr>
          <a:xfrm flipV="1">
            <a:off x="3083040" y="4265640"/>
            <a:ext cx="55440" cy="1173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3" name=""/>
          <p:cNvSpPr/>
          <p:nvPr/>
        </p:nvSpPr>
        <p:spPr>
          <a:xfrm flipV="1">
            <a:off x="3201840" y="4038120"/>
            <a:ext cx="54000" cy="11772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4" name=""/>
          <p:cNvSpPr/>
          <p:nvPr/>
        </p:nvSpPr>
        <p:spPr>
          <a:xfrm flipV="1">
            <a:off x="3311640" y="3811680"/>
            <a:ext cx="54000" cy="109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5" name=""/>
          <p:cNvSpPr/>
          <p:nvPr/>
        </p:nvSpPr>
        <p:spPr>
          <a:xfrm flipV="1">
            <a:off x="3421080" y="3575160"/>
            <a:ext cx="55440" cy="1173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6" name=""/>
          <p:cNvSpPr/>
          <p:nvPr/>
        </p:nvSpPr>
        <p:spPr>
          <a:xfrm flipV="1">
            <a:off x="3530520" y="3348000"/>
            <a:ext cx="55800" cy="1173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7" name=""/>
          <p:cNvSpPr/>
          <p:nvPr/>
        </p:nvSpPr>
        <p:spPr>
          <a:xfrm>
            <a:off x="3648240" y="3112920"/>
            <a:ext cx="47520" cy="117720"/>
          </a:xfrm>
          <a:custGeom>
            <a:avLst/>
            <a:gdLst/>
            <a:ahLst/>
            <a:rect l="l" t="t" r="r" b="b"/>
            <a:pathLst>
              <a:path w="30" h="74">
                <a:moveTo>
                  <a:pt x="0" y="74"/>
                </a:moveTo>
                <a:lnTo>
                  <a:pt x="10" y="54"/>
                </a:lnTo>
                <a:lnTo>
                  <a:pt x="30" y="0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8" name=""/>
          <p:cNvSpPr/>
          <p:nvPr/>
        </p:nvSpPr>
        <p:spPr>
          <a:xfrm flipV="1">
            <a:off x="3735360" y="2876040"/>
            <a:ext cx="46080" cy="1191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9" name=""/>
          <p:cNvSpPr/>
          <p:nvPr/>
        </p:nvSpPr>
        <p:spPr>
          <a:xfrm flipV="1">
            <a:off x="3821040" y="2633760"/>
            <a:ext cx="47520" cy="1173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0" name=""/>
          <p:cNvSpPr/>
          <p:nvPr/>
        </p:nvSpPr>
        <p:spPr>
          <a:xfrm flipV="1">
            <a:off x="3908520" y="2390760"/>
            <a:ext cx="38160" cy="1252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1" name=""/>
          <p:cNvSpPr/>
          <p:nvPr/>
        </p:nvSpPr>
        <p:spPr>
          <a:xfrm flipV="1">
            <a:off x="3994200" y="2147400"/>
            <a:ext cx="39600" cy="1256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2" name=""/>
          <p:cNvSpPr/>
          <p:nvPr/>
        </p:nvSpPr>
        <p:spPr>
          <a:xfrm flipV="1">
            <a:off x="4079880" y="1910880"/>
            <a:ext cx="39600" cy="1191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3" name=""/>
          <p:cNvSpPr/>
          <p:nvPr/>
        </p:nvSpPr>
        <p:spPr>
          <a:xfrm flipV="1">
            <a:off x="4167360" y="1700280"/>
            <a:ext cx="31680" cy="856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4" name=""/>
          <p:cNvSpPr/>
          <p:nvPr/>
        </p:nvSpPr>
        <p:spPr>
          <a:xfrm rot="17760000">
            <a:off x="3943440" y="1893240"/>
            <a:ext cx="831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5" name=""/>
          <p:cNvSpPr/>
          <p:nvPr/>
        </p:nvSpPr>
        <p:spPr>
          <a:xfrm rot="17760000">
            <a:off x="3978360" y="1826640"/>
            <a:ext cx="77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6" name=""/>
          <p:cNvSpPr/>
          <p:nvPr/>
        </p:nvSpPr>
        <p:spPr>
          <a:xfrm rot="17280000">
            <a:off x="4170240" y="1855080"/>
            <a:ext cx="831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7" name=""/>
          <p:cNvSpPr/>
          <p:nvPr/>
        </p:nvSpPr>
        <p:spPr>
          <a:xfrm rot="17280000">
            <a:off x="4194360" y="1783800"/>
            <a:ext cx="831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8" name=""/>
          <p:cNvSpPr/>
          <p:nvPr/>
        </p:nvSpPr>
        <p:spPr>
          <a:xfrm>
            <a:off x="2165400" y="4478400"/>
            <a:ext cx="988920" cy="48564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9" name=""/>
          <p:cNvSpPr/>
          <p:nvPr/>
        </p:nvSpPr>
        <p:spPr>
          <a:xfrm flipV="1">
            <a:off x="2227320" y="4807080"/>
            <a:ext cx="31680" cy="792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0" name=""/>
          <p:cNvSpPr/>
          <p:nvPr/>
        </p:nvSpPr>
        <p:spPr>
          <a:xfrm flipV="1">
            <a:off x="2282760" y="4782600"/>
            <a:ext cx="31680" cy="828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1" name=""/>
          <p:cNvSpPr/>
          <p:nvPr/>
        </p:nvSpPr>
        <p:spPr>
          <a:xfrm flipV="1">
            <a:off x="2344680" y="4768560"/>
            <a:ext cx="31680" cy="612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2" name=""/>
          <p:cNvSpPr/>
          <p:nvPr/>
        </p:nvSpPr>
        <p:spPr>
          <a:xfrm flipV="1">
            <a:off x="2219400" y="4846680"/>
            <a:ext cx="181080" cy="55440"/>
          </a:xfrm>
          <a:prstGeom prst="line">
            <a:avLst/>
          </a:prstGeom>
          <a:ln w="7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3" name=""/>
          <p:cNvSpPr/>
          <p:nvPr/>
        </p:nvSpPr>
        <p:spPr>
          <a:xfrm>
            <a:off x="2509560" y="4602240"/>
            <a:ext cx="64692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" spc="-1" strike="noStrike">
                <a:solidFill>
                  <a:srgbClr val="000000"/>
                </a:solidFill>
                <a:latin typeface="Arial"/>
              </a:rPr>
              <a:t>Iso-Resistividade e seu Valo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4" name=""/>
          <p:cNvSpPr/>
          <p:nvPr/>
        </p:nvSpPr>
        <p:spPr>
          <a:xfrm>
            <a:off x="2511000" y="4657680"/>
            <a:ext cx="57672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" spc="-1" strike="noStrike">
                <a:solidFill>
                  <a:srgbClr val="000000"/>
                </a:solidFill>
                <a:latin typeface="Arial"/>
              </a:rPr>
              <a:t>em ohm.m (AB200/MN20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5" name=""/>
          <p:cNvSpPr/>
          <p:nvPr/>
        </p:nvSpPr>
        <p:spPr>
          <a:xfrm>
            <a:off x="2515680" y="4751280"/>
            <a:ext cx="37404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Estrada de Terra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6" name=""/>
          <p:cNvSpPr/>
          <p:nvPr/>
        </p:nvSpPr>
        <p:spPr>
          <a:xfrm>
            <a:off x="2506680" y="4854600"/>
            <a:ext cx="39384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Estrada Asfaltada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7" name=""/>
          <p:cNvSpPr/>
          <p:nvPr/>
        </p:nvSpPr>
        <p:spPr>
          <a:xfrm>
            <a:off x="2211480" y="4641840"/>
            <a:ext cx="156960" cy="71280"/>
          </a:xfrm>
          <a:custGeom>
            <a:avLst/>
            <a:gdLst/>
            <a:ahLst/>
            <a:rect l="l" t="t" r="r" b="b"/>
            <a:pathLst>
              <a:path w="99" h="45">
                <a:moveTo>
                  <a:pt x="0" y="45"/>
                </a:moveTo>
                <a:lnTo>
                  <a:pt x="5" y="35"/>
                </a:lnTo>
                <a:lnTo>
                  <a:pt x="10" y="25"/>
                </a:lnTo>
                <a:lnTo>
                  <a:pt x="20" y="10"/>
                </a:lnTo>
                <a:lnTo>
                  <a:pt x="30" y="5"/>
                </a:lnTo>
                <a:lnTo>
                  <a:pt x="40" y="0"/>
                </a:lnTo>
                <a:lnTo>
                  <a:pt x="50" y="0"/>
                </a:lnTo>
                <a:lnTo>
                  <a:pt x="60" y="5"/>
                </a:lnTo>
                <a:lnTo>
                  <a:pt x="65" y="5"/>
                </a:lnTo>
                <a:lnTo>
                  <a:pt x="75" y="5"/>
                </a:lnTo>
                <a:lnTo>
                  <a:pt x="84" y="5"/>
                </a:lnTo>
                <a:lnTo>
                  <a:pt x="94" y="5"/>
                </a:lnTo>
                <a:lnTo>
                  <a:pt x="99" y="0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8" name=""/>
          <p:cNvSpPr/>
          <p:nvPr/>
        </p:nvSpPr>
        <p:spPr>
          <a:xfrm>
            <a:off x="2377080" y="4610160"/>
            <a:ext cx="5544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9" name=""/>
          <p:cNvSpPr/>
          <p:nvPr/>
        </p:nvSpPr>
        <p:spPr>
          <a:xfrm>
            <a:off x="2416320" y="1974960"/>
            <a:ext cx="314280" cy="314280"/>
          </a:xfrm>
          <a:prstGeom prst="ellipse">
            <a:avLst/>
          </a:pr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0" name=""/>
          <p:cNvSpPr/>
          <p:nvPr/>
        </p:nvSpPr>
        <p:spPr>
          <a:xfrm>
            <a:off x="2525040" y="203688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11" name=""/>
          <p:cNvGrpSpPr/>
          <p:nvPr/>
        </p:nvGrpSpPr>
        <p:grpSpPr>
          <a:xfrm>
            <a:off x="960480" y="2139840"/>
            <a:ext cx="591480" cy="2610360"/>
            <a:chOff x="960480" y="2139840"/>
            <a:chExt cx="591480" cy="2610360"/>
          </a:xfrm>
        </p:grpSpPr>
        <p:sp>
          <p:nvSpPr>
            <p:cNvPr id="3512" name=""/>
            <p:cNvSpPr/>
            <p:nvPr/>
          </p:nvSpPr>
          <p:spPr>
            <a:xfrm>
              <a:off x="1176480" y="4572000"/>
              <a:ext cx="155520" cy="1252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3" name=""/>
            <p:cNvSpPr/>
            <p:nvPr/>
          </p:nvSpPr>
          <p:spPr>
            <a:xfrm>
              <a:off x="1176480" y="4454640"/>
              <a:ext cx="155520" cy="11736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4" name=""/>
            <p:cNvSpPr/>
            <p:nvPr/>
          </p:nvSpPr>
          <p:spPr>
            <a:xfrm>
              <a:off x="1176480" y="4329000"/>
              <a:ext cx="155520" cy="125640"/>
            </a:xfrm>
            <a:prstGeom prst="rect">
              <a:avLst/>
            </a:prstGeom>
            <a:solidFill>
              <a:srgbClr val="fff8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5" name=""/>
            <p:cNvSpPr/>
            <p:nvPr/>
          </p:nvSpPr>
          <p:spPr>
            <a:xfrm>
              <a:off x="1176480" y="4211640"/>
              <a:ext cx="155520" cy="117360"/>
            </a:xfrm>
            <a:prstGeom prst="rect">
              <a:avLst/>
            </a:prstGeom>
            <a:solidFill>
              <a:srgbClr val="fff4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6" name=""/>
            <p:cNvSpPr/>
            <p:nvPr/>
          </p:nvSpPr>
          <p:spPr>
            <a:xfrm>
              <a:off x="1176480" y="4086360"/>
              <a:ext cx="155520" cy="125280"/>
            </a:xfrm>
            <a:prstGeom prst="rect">
              <a:avLst/>
            </a:prstGeom>
            <a:solidFill>
              <a:srgbClr val="fff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7" name=""/>
            <p:cNvSpPr/>
            <p:nvPr/>
          </p:nvSpPr>
          <p:spPr>
            <a:xfrm>
              <a:off x="1176480" y="3967200"/>
              <a:ext cx="155520" cy="119160"/>
            </a:xfrm>
            <a:prstGeom prst="rect">
              <a:avLst/>
            </a:prstGeom>
            <a:solidFill>
              <a:srgbClr val="ffed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8" name=""/>
            <p:cNvSpPr/>
            <p:nvPr/>
          </p:nvSpPr>
          <p:spPr>
            <a:xfrm>
              <a:off x="1176480" y="3841920"/>
              <a:ext cx="155520" cy="125280"/>
            </a:xfrm>
            <a:prstGeom prst="rect">
              <a:avLst/>
            </a:prstGeom>
            <a:solidFill>
              <a:srgbClr val="ffe9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9" name=""/>
            <p:cNvSpPr/>
            <p:nvPr/>
          </p:nvSpPr>
          <p:spPr>
            <a:xfrm>
              <a:off x="1176480" y="3724200"/>
              <a:ext cx="155520" cy="117720"/>
            </a:xfrm>
            <a:prstGeom prst="rect">
              <a:avLst/>
            </a:prstGeom>
            <a:solidFill>
              <a:srgbClr val="ffe5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0" name=""/>
            <p:cNvSpPr/>
            <p:nvPr/>
          </p:nvSpPr>
          <p:spPr>
            <a:xfrm>
              <a:off x="1176480" y="3598920"/>
              <a:ext cx="155520" cy="125280"/>
            </a:xfrm>
            <a:prstGeom prst="rect">
              <a:avLst/>
            </a:prstGeom>
            <a:solidFill>
              <a:srgbClr val="ffe1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1" name=""/>
            <p:cNvSpPr/>
            <p:nvPr/>
          </p:nvSpPr>
          <p:spPr>
            <a:xfrm>
              <a:off x="1176480" y="3481560"/>
              <a:ext cx="155520" cy="117360"/>
            </a:xfrm>
            <a:prstGeom prst="rect">
              <a:avLst/>
            </a:prstGeom>
            <a:solidFill>
              <a:srgbClr val="ffde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2" name=""/>
            <p:cNvSpPr/>
            <p:nvPr/>
          </p:nvSpPr>
          <p:spPr>
            <a:xfrm>
              <a:off x="1176480" y="3355920"/>
              <a:ext cx="155520" cy="125640"/>
            </a:xfrm>
            <a:prstGeom prst="rect">
              <a:avLst/>
            </a:prstGeom>
            <a:solidFill>
              <a:srgbClr val="ffda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3" name=""/>
            <p:cNvSpPr/>
            <p:nvPr/>
          </p:nvSpPr>
          <p:spPr>
            <a:xfrm>
              <a:off x="1176480" y="3238560"/>
              <a:ext cx="155520" cy="117360"/>
            </a:xfrm>
            <a:prstGeom prst="rect">
              <a:avLst/>
            </a:prstGeom>
            <a:solidFill>
              <a:srgbClr val="ffd6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4" name=""/>
            <p:cNvSpPr/>
            <p:nvPr/>
          </p:nvSpPr>
          <p:spPr>
            <a:xfrm>
              <a:off x="1176480" y="3112920"/>
              <a:ext cx="155520" cy="125640"/>
            </a:xfrm>
            <a:prstGeom prst="rect">
              <a:avLst/>
            </a:prstGeom>
            <a:solidFill>
              <a:srgbClr val="ffd2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5" name=""/>
            <p:cNvSpPr/>
            <p:nvPr/>
          </p:nvSpPr>
          <p:spPr>
            <a:xfrm>
              <a:off x="1176480" y="2995560"/>
              <a:ext cx="155520" cy="117360"/>
            </a:xfrm>
            <a:prstGeom prst="rect">
              <a:avLst/>
            </a:prstGeom>
            <a:solidFill>
              <a:srgbClr val="ffc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6" name=""/>
            <p:cNvSpPr/>
            <p:nvPr/>
          </p:nvSpPr>
          <p:spPr>
            <a:xfrm>
              <a:off x="1176480" y="2868480"/>
              <a:ext cx="155520" cy="127080"/>
            </a:xfrm>
            <a:prstGeom prst="rect">
              <a:avLst/>
            </a:prstGeom>
            <a:solidFill>
              <a:srgbClr val="ffcb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7" name=""/>
            <p:cNvSpPr/>
            <p:nvPr/>
          </p:nvSpPr>
          <p:spPr>
            <a:xfrm>
              <a:off x="1176480" y="2751120"/>
              <a:ext cx="155520" cy="117360"/>
            </a:xfrm>
            <a:prstGeom prst="rect">
              <a:avLst/>
            </a:prstGeom>
            <a:solidFill>
              <a:srgbClr val="ffc7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8" name=""/>
            <p:cNvSpPr/>
            <p:nvPr/>
          </p:nvSpPr>
          <p:spPr>
            <a:xfrm>
              <a:off x="1176480" y="2625840"/>
              <a:ext cx="155520" cy="125280"/>
            </a:xfrm>
            <a:prstGeom prst="rect">
              <a:avLst/>
            </a:prstGeom>
            <a:solidFill>
              <a:srgbClr val="ffc3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9" name=""/>
            <p:cNvSpPr/>
            <p:nvPr/>
          </p:nvSpPr>
          <p:spPr>
            <a:xfrm>
              <a:off x="1176480" y="2500200"/>
              <a:ext cx="155520" cy="125640"/>
            </a:xfrm>
            <a:prstGeom prst="rect">
              <a:avLst/>
            </a:prstGeom>
            <a:solidFill>
              <a:srgbClr val="ffc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0" name=""/>
            <p:cNvSpPr/>
            <p:nvPr/>
          </p:nvSpPr>
          <p:spPr>
            <a:xfrm>
              <a:off x="1176480" y="2382840"/>
              <a:ext cx="155520" cy="117360"/>
            </a:xfrm>
            <a:prstGeom prst="rect">
              <a:avLst/>
            </a:prstGeom>
            <a:solidFill>
              <a:srgbClr val="ffbc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1" name=""/>
            <p:cNvSpPr/>
            <p:nvPr/>
          </p:nvSpPr>
          <p:spPr>
            <a:xfrm>
              <a:off x="1176480" y="2257560"/>
              <a:ext cx="155520" cy="125280"/>
            </a:xfrm>
            <a:prstGeom prst="rect">
              <a:avLst/>
            </a:prstGeom>
            <a:solidFill>
              <a:srgbClr val="ffb8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2" name=""/>
            <p:cNvSpPr/>
            <p:nvPr/>
          </p:nvSpPr>
          <p:spPr>
            <a:xfrm>
              <a:off x="1176480" y="2139840"/>
              <a:ext cx="155520" cy="117720"/>
            </a:xfrm>
            <a:prstGeom prst="rect">
              <a:avLst/>
            </a:prstGeom>
            <a:solidFill>
              <a:srgbClr val="ffb4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3" name=""/>
            <p:cNvSpPr/>
            <p:nvPr/>
          </p:nvSpPr>
          <p:spPr>
            <a:xfrm>
              <a:off x="1355760" y="464328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4" name=""/>
            <p:cNvSpPr/>
            <p:nvPr/>
          </p:nvSpPr>
          <p:spPr>
            <a:xfrm>
              <a:off x="1355760" y="4518000"/>
              <a:ext cx="98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5" name=""/>
            <p:cNvSpPr/>
            <p:nvPr/>
          </p:nvSpPr>
          <p:spPr>
            <a:xfrm>
              <a:off x="1356120" y="4400640"/>
              <a:ext cx="1468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6" name=""/>
            <p:cNvSpPr/>
            <p:nvPr/>
          </p:nvSpPr>
          <p:spPr>
            <a:xfrm>
              <a:off x="1356120" y="4275000"/>
              <a:ext cx="1468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15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7" name=""/>
            <p:cNvSpPr/>
            <p:nvPr/>
          </p:nvSpPr>
          <p:spPr>
            <a:xfrm>
              <a:off x="1356120" y="4156200"/>
              <a:ext cx="1468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20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8" name=""/>
            <p:cNvSpPr/>
            <p:nvPr/>
          </p:nvSpPr>
          <p:spPr>
            <a:xfrm>
              <a:off x="1356120" y="4030560"/>
              <a:ext cx="1468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25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9" name=""/>
            <p:cNvSpPr/>
            <p:nvPr/>
          </p:nvSpPr>
          <p:spPr>
            <a:xfrm>
              <a:off x="1356120" y="3913200"/>
              <a:ext cx="1468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30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0" name=""/>
            <p:cNvSpPr/>
            <p:nvPr/>
          </p:nvSpPr>
          <p:spPr>
            <a:xfrm>
              <a:off x="1356120" y="3787920"/>
              <a:ext cx="1468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35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1" name=""/>
            <p:cNvSpPr/>
            <p:nvPr/>
          </p:nvSpPr>
          <p:spPr>
            <a:xfrm>
              <a:off x="1356120" y="3670200"/>
              <a:ext cx="1468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40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2" name=""/>
            <p:cNvSpPr/>
            <p:nvPr/>
          </p:nvSpPr>
          <p:spPr>
            <a:xfrm>
              <a:off x="1356120" y="3544920"/>
              <a:ext cx="1468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45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3" name=""/>
            <p:cNvSpPr/>
            <p:nvPr/>
          </p:nvSpPr>
          <p:spPr>
            <a:xfrm>
              <a:off x="1356120" y="3427560"/>
              <a:ext cx="1468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50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4" name=""/>
            <p:cNvSpPr/>
            <p:nvPr/>
          </p:nvSpPr>
          <p:spPr>
            <a:xfrm>
              <a:off x="1356120" y="3301920"/>
              <a:ext cx="1468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55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5" name=""/>
            <p:cNvSpPr/>
            <p:nvPr/>
          </p:nvSpPr>
          <p:spPr>
            <a:xfrm>
              <a:off x="1356120" y="3184560"/>
              <a:ext cx="1468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60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6" name=""/>
            <p:cNvSpPr/>
            <p:nvPr/>
          </p:nvSpPr>
          <p:spPr>
            <a:xfrm>
              <a:off x="1356120" y="3057480"/>
              <a:ext cx="1468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65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7" name=""/>
            <p:cNvSpPr/>
            <p:nvPr/>
          </p:nvSpPr>
          <p:spPr>
            <a:xfrm>
              <a:off x="1356120" y="2932200"/>
              <a:ext cx="1468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70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8" name=""/>
            <p:cNvSpPr/>
            <p:nvPr/>
          </p:nvSpPr>
          <p:spPr>
            <a:xfrm>
              <a:off x="1356120" y="2814480"/>
              <a:ext cx="1468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75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9" name=""/>
            <p:cNvSpPr/>
            <p:nvPr/>
          </p:nvSpPr>
          <p:spPr>
            <a:xfrm>
              <a:off x="1356120" y="2689200"/>
              <a:ext cx="1468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80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0" name=""/>
            <p:cNvSpPr/>
            <p:nvPr/>
          </p:nvSpPr>
          <p:spPr>
            <a:xfrm>
              <a:off x="1356120" y="2571840"/>
              <a:ext cx="1468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85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1" name=""/>
            <p:cNvSpPr/>
            <p:nvPr/>
          </p:nvSpPr>
          <p:spPr>
            <a:xfrm>
              <a:off x="1356120" y="2446200"/>
              <a:ext cx="1468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90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2" name=""/>
            <p:cNvSpPr/>
            <p:nvPr/>
          </p:nvSpPr>
          <p:spPr>
            <a:xfrm>
              <a:off x="1356120" y="2328840"/>
              <a:ext cx="1468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95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3" name=""/>
            <p:cNvSpPr/>
            <p:nvPr/>
          </p:nvSpPr>
          <p:spPr>
            <a:xfrm>
              <a:off x="1356120" y="2203560"/>
              <a:ext cx="1958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100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4" name=""/>
            <p:cNvSpPr/>
            <p:nvPr/>
          </p:nvSpPr>
          <p:spPr>
            <a:xfrm rot="16200000">
              <a:off x="1001160" y="3930840"/>
              <a:ext cx="25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5" name=""/>
            <p:cNvSpPr/>
            <p:nvPr/>
          </p:nvSpPr>
          <p:spPr>
            <a:xfrm rot="16200000">
              <a:off x="989280" y="389664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6" name=""/>
            <p:cNvSpPr/>
            <p:nvPr/>
          </p:nvSpPr>
          <p:spPr>
            <a:xfrm rot="16200000">
              <a:off x="989280" y="384264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7" name=""/>
            <p:cNvSpPr/>
            <p:nvPr/>
          </p:nvSpPr>
          <p:spPr>
            <a:xfrm rot="16200000">
              <a:off x="1003680" y="3808440"/>
              <a:ext cx="205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8" name=""/>
            <p:cNvSpPr/>
            <p:nvPr/>
          </p:nvSpPr>
          <p:spPr>
            <a:xfrm rot="16200000">
              <a:off x="991440" y="3781800"/>
              <a:ext cx="45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9" name=""/>
            <p:cNvSpPr/>
            <p:nvPr/>
          </p:nvSpPr>
          <p:spPr>
            <a:xfrm rot="16200000">
              <a:off x="989280" y="373320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0" name=""/>
            <p:cNvSpPr/>
            <p:nvPr/>
          </p:nvSpPr>
          <p:spPr>
            <a:xfrm rot="16200000">
              <a:off x="1001160" y="3697560"/>
              <a:ext cx="25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1" name=""/>
            <p:cNvSpPr/>
            <p:nvPr/>
          </p:nvSpPr>
          <p:spPr>
            <a:xfrm rot="16200000">
              <a:off x="989280" y="365400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2" name=""/>
            <p:cNvSpPr/>
            <p:nvPr/>
          </p:nvSpPr>
          <p:spPr>
            <a:xfrm rot="16200000">
              <a:off x="989280" y="360612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3" name=""/>
            <p:cNvSpPr/>
            <p:nvPr/>
          </p:nvSpPr>
          <p:spPr>
            <a:xfrm rot="16200000">
              <a:off x="1001160" y="3572280"/>
              <a:ext cx="25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4" name=""/>
            <p:cNvSpPr/>
            <p:nvPr/>
          </p:nvSpPr>
          <p:spPr>
            <a:xfrm rot="16200000">
              <a:off x="981360" y="3527280"/>
              <a:ext cx="648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5" name=""/>
            <p:cNvSpPr/>
            <p:nvPr/>
          </p:nvSpPr>
          <p:spPr>
            <a:xfrm rot="16200000">
              <a:off x="989280" y="347292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6" name=""/>
            <p:cNvSpPr/>
            <p:nvPr/>
          </p:nvSpPr>
          <p:spPr>
            <a:xfrm rot="16200000">
              <a:off x="999000" y="3426840"/>
              <a:ext cx="295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7" name=""/>
            <p:cNvSpPr/>
            <p:nvPr/>
          </p:nvSpPr>
          <p:spPr>
            <a:xfrm rot="16200000">
              <a:off x="991440" y="3389400"/>
              <a:ext cx="45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8" name=""/>
            <p:cNvSpPr/>
            <p:nvPr/>
          </p:nvSpPr>
          <p:spPr>
            <a:xfrm rot="16200000">
              <a:off x="1001160" y="3359520"/>
              <a:ext cx="25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9" name=""/>
            <p:cNvSpPr/>
            <p:nvPr/>
          </p:nvSpPr>
          <p:spPr>
            <a:xfrm rot="16200000">
              <a:off x="1003680" y="3338640"/>
              <a:ext cx="205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0" name=""/>
            <p:cNvSpPr/>
            <p:nvPr/>
          </p:nvSpPr>
          <p:spPr>
            <a:xfrm rot="16200000">
              <a:off x="1001160" y="3311640"/>
              <a:ext cx="25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1" name=""/>
            <p:cNvSpPr/>
            <p:nvPr/>
          </p:nvSpPr>
          <p:spPr>
            <a:xfrm rot="16200000">
              <a:off x="1003680" y="3291120"/>
              <a:ext cx="205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2" name=""/>
            <p:cNvSpPr/>
            <p:nvPr/>
          </p:nvSpPr>
          <p:spPr>
            <a:xfrm rot="16200000">
              <a:off x="991440" y="3256200"/>
              <a:ext cx="45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3" name=""/>
            <p:cNvSpPr/>
            <p:nvPr/>
          </p:nvSpPr>
          <p:spPr>
            <a:xfrm rot="16200000">
              <a:off x="990720" y="321408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4" name=""/>
            <p:cNvSpPr/>
            <p:nvPr/>
          </p:nvSpPr>
          <p:spPr>
            <a:xfrm rot="16200000">
              <a:off x="994680" y="3162600"/>
              <a:ext cx="45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ç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5" name=""/>
            <p:cNvSpPr/>
            <p:nvPr/>
          </p:nvSpPr>
          <p:spPr>
            <a:xfrm rot="16200000">
              <a:off x="992520" y="312048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ã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6" name=""/>
            <p:cNvSpPr/>
            <p:nvPr/>
          </p:nvSpPr>
          <p:spPr>
            <a:xfrm rot="16200000">
              <a:off x="992520" y="307296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7" name=""/>
            <p:cNvSpPr/>
            <p:nvPr/>
          </p:nvSpPr>
          <p:spPr>
            <a:xfrm rot="16200000">
              <a:off x="1004400" y="3030840"/>
              <a:ext cx="25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8" name=""/>
            <p:cNvSpPr/>
            <p:nvPr/>
          </p:nvSpPr>
          <p:spPr>
            <a:xfrm rot="16200000">
              <a:off x="1002240" y="3003120"/>
              <a:ext cx="295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9" name=""/>
            <p:cNvSpPr/>
            <p:nvPr/>
          </p:nvSpPr>
          <p:spPr>
            <a:xfrm rot="16200000">
              <a:off x="1004400" y="2973600"/>
              <a:ext cx="25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0" name=""/>
            <p:cNvSpPr/>
            <p:nvPr/>
          </p:nvSpPr>
          <p:spPr>
            <a:xfrm rot="16200000">
              <a:off x="984600" y="2930760"/>
              <a:ext cx="648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1" name=""/>
            <p:cNvSpPr/>
            <p:nvPr/>
          </p:nvSpPr>
          <p:spPr>
            <a:xfrm rot="16200000">
              <a:off x="1002240" y="2885400"/>
              <a:ext cx="295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2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2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2T14:12:19Z</dcterms:created>
  <dc:creator>Edilton Carneiro Feitosa</dc:creator>
  <dc:description/>
  <dc:language>en-US</dc:language>
  <cp:lastModifiedBy> Edilton Feitosa</cp:lastModifiedBy>
  <dcterms:modified xsi:type="dcterms:W3CDTF">2004-04-18T21:17:16Z</dcterms:modified>
  <cp:revision>12</cp:revision>
  <dc:subject/>
  <dc:title>BARAUNAS – RN O Aquífero Jandaíra</dc:title>
</cp:coreProperties>
</file>